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64845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704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1560" y="734760"/>
            <a:ext cx="49068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1968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7040" y="931968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849E21-EE9B-4BA3-BAB8-B27BFD7C13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0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81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2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83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75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ient des clips arts Microsoft (4) et Softkey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4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85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6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87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8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89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0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91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s Dessins Microsoft modifiés pour cer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2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93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4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95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ient des clips arts Microsoft (3) en ligne et Sofkey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6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77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6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97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8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99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 et Microsoft en li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0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01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2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03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 et Microsoft en li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4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05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8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7979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6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07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s Dessins Microsoft modifiés pour cer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8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09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0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11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2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13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4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15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8017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ient des clips arts Microsoft (4) et Softkey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115-D1CD-4A2F-8685-F6F9577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4E5-9629-47AC-91EE-1672093B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5AF-8333-4E53-BFBC-E8F403E2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B38-AF7F-4073-87D6-823C8A4C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0EA-3E9A-42D7-819E-65DA4640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2FE-76A0-400E-B886-05692351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5F7-C288-4906-B150-345705E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A3D-84B2-4E97-8136-A49165B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B49-EA27-4EF6-B666-0F768441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9EA-E11E-4E64-A45D-F4626E6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01D-06ED-4395-BC4F-D30F7E0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D48-1354-4CDC-BA94-39A31AB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396E-930C-45C8-86FD-57480219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11520" y="266688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429000" y="2665440"/>
            <a:ext cx="2286000" cy="2287440"/>
          </a:xfrm>
          <a:custGeom>
            <a:avLst/>
            <a:gdLst/>
            <a:ahLst/>
            <a:rect l="l" t="t" r="r" b="b"/>
            <a:pathLst>
              <a:path w="4696" h="4706">
                <a:moveTo>
                  <a:pt x="2350" y="4706"/>
                </a:moveTo>
                <a:lnTo>
                  <a:pt x="1124" y="2353"/>
                </a:lnTo>
                <a:lnTo>
                  <a:pt x="4690" y="2353"/>
                </a:lnTo>
                <a:lnTo>
                  <a:pt x="2350" y="0"/>
                </a:lnTo>
                <a:lnTo>
                  <a:pt x="2029" y="4683"/>
                </a:lnTo>
                <a:lnTo>
                  <a:pt x="1133" y="2188"/>
                </a:lnTo>
                <a:lnTo>
                  <a:pt x="4671" y="2670"/>
                </a:lnTo>
                <a:lnTo>
                  <a:pt x="2669" y="21"/>
                </a:lnTo>
                <a:lnTo>
                  <a:pt x="1715" y="4617"/>
                </a:lnTo>
                <a:lnTo>
                  <a:pt x="1169" y="2022"/>
                </a:lnTo>
                <a:lnTo>
                  <a:pt x="4605" y="2982"/>
                </a:lnTo>
                <a:lnTo>
                  <a:pt x="2983" y="85"/>
                </a:lnTo>
                <a:lnTo>
                  <a:pt x="1411" y="4510"/>
                </a:lnTo>
                <a:lnTo>
                  <a:pt x="1225" y="1864"/>
                </a:lnTo>
                <a:lnTo>
                  <a:pt x="4498" y="3284"/>
                </a:lnTo>
                <a:lnTo>
                  <a:pt x="3287" y="194"/>
                </a:lnTo>
                <a:lnTo>
                  <a:pt x="1128" y="4362"/>
                </a:lnTo>
                <a:lnTo>
                  <a:pt x="1301" y="1716"/>
                </a:lnTo>
                <a:lnTo>
                  <a:pt x="4350" y="3568"/>
                </a:lnTo>
                <a:lnTo>
                  <a:pt x="3571" y="342"/>
                </a:lnTo>
                <a:lnTo>
                  <a:pt x="863" y="4178"/>
                </a:lnTo>
                <a:lnTo>
                  <a:pt x="1398" y="1579"/>
                </a:lnTo>
                <a:lnTo>
                  <a:pt x="4166" y="3830"/>
                </a:lnTo>
                <a:lnTo>
                  <a:pt x="3833" y="526"/>
                </a:lnTo>
                <a:lnTo>
                  <a:pt x="628" y="3957"/>
                </a:lnTo>
                <a:lnTo>
                  <a:pt x="1514" y="1458"/>
                </a:lnTo>
                <a:lnTo>
                  <a:pt x="3949" y="4066"/>
                </a:lnTo>
                <a:lnTo>
                  <a:pt x="4069" y="745"/>
                </a:lnTo>
                <a:lnTo>
                  <a:pt x="426" y="3708"/>
                </a:lnTo>
                <a:lnTo>
                  <a:pt x="1641" y="1353"/>
                </a:lnTo>
                <a:lnTo>
                  <a:pt x="3700" y="4265"/>
                </a:lnTo>
                <a:lnTo>
                  <a:pt x="4272" y="996"/>
                </a:lnTo>
                <a:lnTo>
                  <a:pt x="259" y="3435"/>
                </a:lnTo>
                <a:lnTo>
                  <a:pt x="1785" y="1266"/>
                </a:lnTo>
                <a:lnTo>
                  <a:pt x="3428" y="4434"/>
                </a:lnTo>
                <a:lnTo>
                  <a:pt x="4437" y="1269"/>
                </a:lnTo>
                <a:lnTo>
                  <a:pt x="131" y="3140"/>
                </a:lnTo>
                <a:lnTo>
                  <a:pt x="1938" y="1199"/>
                </a:lnTo>
                <a:lnTo>
                  <a:pt x="3133" y="4560"/>
                </a:lnTo>
                <a:lnTo>
                  <a:pt x="4565" y="1564"/>
                </a:lnTo>
                <a:lnTo>
                  <a:pt x="44" y="2830"/>
                </a:lnTo>
                <a:lnTo>
                  <a:pt x="2099" y="1153"/>
                </a:lnTo>
                <a:lnTo>
                  <a:pt x="2823" y="4647"/>
                </a:lnTo>
                <a:lnTo>
                  <a:pt x="4652" y="1874"/>
                </a:lnTo>
                <a:lnTo>
                  <a:pt x="0" y="2511"/>
                </a:lnTo>
                <a:lnTo>
                  <a:pt x="2266" y="1131"/>
                </a:lnTo>
                <a:lnTo>
                  <a:pt x="2508" y="4691"/>
                </a:lnTo>
                <a:lnTo>
                  <a:pt x="4696" y="2191"/>
                </a:lnTo>
                <a:lnTo>
                  <a:pt x="0" y="2191"/>
                </a:lnTo>
                <a:lnTo>
                  <a:pt x="2432" y="1131"/>
                </a:lnTo>
                <a:lnTo>
                  <a:pt x="2188" y="4691"/>
                </a:lnTo>
                <a:lnTo>
                  <a:pt x="4696" y="2513"/>
                </a:lnTo>
                <a:lnTo>
                  <a:pt x="44" y="1874"/>
                </a:lnTo>
                <a:lnTo>
                  <a:pt x="2597" y="1153"/>
                </a:lnTo>
                <a:lnTo>
                  <a:pt x="1871" y="4647"/>
                </a:lnTo>
                <a:lnTo>
                  <a:pt x="4652" y="2830"/>
                </a:lnTo>
                <a:lnTo>
                  <a:pt x="131" y="1564"/>
                </a:lnTo>
                <a:lnTo>
                  <a:pt x="2759" y="1199"/>
                </a:lnTo>
                <a:lnTo>
                  <a:pt x="1565" y="4560"/>
                </a:lnTo>
                <a:lnTo>
                  <a:pt x="4565" y="3140"/>
                </a:lnTo>
                <a:lnTo>
                  <a:pt x="259" y="1269"/>
                </a:lnTo>
                <a:lnTo>
                  <a:pt x="2911" y="1266"/>
                </a:lnTo>
                <a:lnTo>
                  <a:pt x="1270" y="4434"/>
                </a:lnTo>
                <a:lnTo>
                  <a:pt x="4437" y="3435"/>
                </a:lnTo>
                <a:lnTo>
                  <a:pt x="426" y="994"/>
                </a:lnTo>
                <a:lnTo>
                  <a:pt x="3055" y="1353"/>
                </a:lnTo>
                <a:lnTo>
                  <a:pt x="996" y="4265"/>
                </a:lnTo>
                <a:lnTo>
                  <a:pt x="4272" y="3708"/>
                </a:lnTo>
                <a:lnTo>
                  <a:pt x="628" y="745"/>
                </a:lnTo>
                <a:lnTo>
                  <a:pt x="3185" y="1458"/>
                </a:lnTo>
                <a:lnTo>
                  <a:pt x="749" y="4062"/>
                </a:lnTo>
                <a:lnTo>
                  <a:pt x="4069" y="3957"/>
                </a:lnTo>
                <a:lnTo>
                  <a:pt x="863" y="526"/>
                </a:lnTo>
                <a:lnTo>
                  <a:pt x="3299" y="1579"/>
                </a:lnTo>
                <a:lnTo>
                  <a:pt x="531" y="3830"/>
                </a:lnTo>
                <a:lnTo>
                  <a:pt x="3833" y="4178"/>
                </a:lnTo>
                <a:lnTo>
                  <a:pt x="1128" y="342"/>
                </a:lnTo>
                <a:lnTo>
                  <a:pt x="3396" y="1716"/>
                </a:lnTo>
                <a:lnTo>
                  <a:pt x="346" y="3568"/>
                </a:lnTo>
                <a:lnTo>
                  <a:pt x="3571" y="4362"/>
                </a:lnTo>
                <a:lnTo>
                  <a:pt x="1411" y="194"/>
                </a:lnTo>
                <a:lnTo>
                  <a:pt x="3474" y="1864"/>
                </a:lnTo>
                <a:lnTo>
                  <a:pt x="198" y="3284"/>
                </a:lnTo>
                <a:lnTo>
                  <a:pt x="3285" y="4510"/>
                </a:lnTo>
                <a:lnTo>
                  <a:pt x="1715" y="85"/>
                </a:lnTo>
                <a:lnTo>
                  <a:pt x="3529" y="2022"/>
                </a:lnTo>
                <a:lnTo>
                  <a:pt x="92" y="2982"/>
                </a:lnTo>
                <a:lnTo>
                  <a:pt x="2983" y="4619"/>
                </a:lnTo>
                <a:lnTo>
                  <a:pt x="2029" y="21"/>
                </a:lnTo>
                <a:lnTo>
                  <a:pt x="3563" y="2188"/>
                </a:lnTo>
                <a:lnTo>
                  <a:pt x="27" y="2670"/>
                </a:lnTo>
                <a:lnTo>
                  <a:pt x="2669" y="4683"/>
                </a:lnTo>
                <a:lnTo>
                  <a:pt x="2350" y="0"/>
                </a:lnTo>
                <a:lnTo>
                  <a:pt x="3574" y="2353"/>
                </a:lnTo>
                <a:lnTo>
                  <a:pt x="4" y="2353"/>
                </a:lnTo>
                <a:lnTo>
                  <a:pt x="2350" y="4706"/>
                </a:lnTo>
                <a:lnTo>
                  <a:pt x="2669" y="21"/>
                </a:lnTo>
                <a:lnTo>
                  <a:pt x="3563" y="2518"/>
                </a:lnTo>
                <a:lnTo>
                  <a:pt x="27" y="2034"/>
                </a:lnTo>
                <a:lnTo>
                  <a:pt x="2029" y="4683"/>
                </a:lnTo>
                <a:lnTo>
                  <a:pt x="2983" y="85"/>
                </a:lnTo>
                <a:lnTo>
                  <a:pt x="3529" y="2682"/>
                </a:lnTo>
                <a:lnTo>
                  <a:pt x="92" y="1720"/>
                </a:lnTo>
                <a:lnTo>
                  <a:pt x="1715" y="4617"/>
                </a:lnTo>
                <a:lnTo>
                  <a:pt x="3287" y="194"/>
                </a:lnTo>
                <a:lnTo>
                  <a:pt x="3474" y="2840"/>
                </a:lnTo>
                <a:lnTo>
                  <a:pt x="198" y="1420"/>
                </a:lnTo>
                <a:lnTo>
                  <a:pt x="1411" y="4510"/>
                </a:lnTo>
                <a:lnTo>
                  <a:pt x="3571" y="342"/>
                </a:lnTo>
                <a:lnTo>
                  <a:pt x="3396" y="2988"/>
                </a:lnTo>
                <a:lnTo>
                  <a:pt x="346" y="1134"/>
                </a:lnTo>
                <a:lnTo>
                  <a:pt x="1126" y="4362"/>
                </a:lnTo>
                <a:lnTo>
                  <a:pt x="3835" y="528"/>
                </a:lnTo>
                <a:lnTo>
                  <a:pt x="3299" y="3125"/>
                </a:lnTo>
                <a:lnTo>
                  <a:pt x="533" y="872"/>
                </a:lnTo>
                <a:lnTo>
                  <a:pt x="863" y="4178"/>
                </a:lnTo>
                <a:lnTo>
                  <a:pt x="4069" y="745"/>
                </a:lnTo>
                <a:lnTo>
                  <a:pt x="3185" y="3246"/>
                </a:lnTo>
                <a:lnTo>
                  <a:pt x="749" y="640"/>
                </a:lnTo>
                <a:lnTo>
                  <a:pt x="628" y="3957"/>
                </a:lnTo>
                <a:lnTo>
                  <a:pt x="4272" y="996"/>
                </a:lnTo>
                <a:lnTo>
                  <a:pt x="3053" y="3353"/>
                </a:lnTo>
                <a:lnTo>
                  <a:pt x="996" y="437"/>
                </a:lnTo>
                <a:lnTo>
                  <a:pt x="426" y="3708"/>
                </a:lnTo>
                <a:lnTo>
                  <a:pt x="4437" y="1271"/>
                </a:lnTo>
                <a:lnTo>
                  <a:pt x="2911" y="3440"/>
                </a:lnTo>
                <a:lnTo>
                  <a:pt x="1270" y="271"/>
                </a:lnTo>
                <a:lnTo>
                  <a:pt x="259" y="3435"/>
                </a:lnTo>
                <a:lnTo>
                  <a:pt x="4565" y="1564"/>
                </a:lnTo>
                <a:lnTo>
                  <a:pt x="2759" y="3507"/>
                </a:lnTo>
                <a:lnTo>
                  <a:pt x="1565" y="142"/>
                </a:lnTo>
                <a:lnTo>
                  <a:pt x="131" y="3138"/>
                </a:lnTo>
                <a:lnTo>
                  <a:pt x="4652" y="1874"/>
                </a:lnTo>
                <a:lnTo>
                  <a:pt x="2597" y="3551"/>
                </a:lnTo>
                <a:lnTo>
                  <a:pt x="1871" y="57"/>
                </a:lnTo>
                <a:lnTo>
                  <a:pt x="44" y="2830"/>
                </a:lnTo>
                <a:lnTo>
                  <a:pt x="4696" y="2191"/>
                </a:lnTo>
                <a:lnTo>
                  <a:pt x="2432" y="3573"/>
                </a:lnTo>
                <a:lnTo>
                  <a:pt x="2190" y="13"/>
                </a:lnTo>
                <a:lnTo>
                  <a:pt x="0" y="2511"/>
                </a:lnTo>
                <a:lnTo>
                  <a:pt x="4696" y="2513"/>
                </a:lnTo>
                <a:lnTo>
                  <a:pt x="2266" y="3573"/>
                </a:lnTo>
                <a:lnTo>
                  <a:pt x="2508" y="13"/>
                </a:lnTo>
                <a:lnTo>
                  <a:pt x="0" y="2191"/>
                </a:lnTo>
                <a:lnTo>
                  <a:pt x="4652" y="2832"/>
                </a:lnTo>
                <a:lnTo>
                  <a:pt x="2099" y="3551"/>
                </a:lnTo>
                <a:lnTo>
                  <a:pt x="2825" y="57"/>
                </a:lnTo>
                <a:lnTo>
                  <a:pt x="44" y="1874"/>
                </a:lnTo>
                <a:lnTo>
                  <a:pt x="4565" y="3140"/>
                </a:lnTo>
                <a:lnTo>
                  <a:pt x="1938" y="3507"/>
                </a:lnTo>
                <a:lnTo>
                  <a:pt x="3133" y="142"/>
                </a:lnTo>
                <a:lnTo>
                  <a:pt x="131" y="1564"/>
                </a:lnTo>
                <a:lnTo>
                  <a:pt x="4437" y="3435"/>
                </a:lnTo>
                <a:lnTo>
                  <a:pt x="1785" y="3440"/>
                </a:lnTo>
                <a:lnTo>
                  <a:pt x="3428" y="271"/>
                </a:lnTo>
                <a:lnTo>
                  <a:pt x="259" y="1269"/>
                </a:lnTo>
                <a:lnTo>
                  <a:pt x="4272" y="3708"/>
                </a:lnTo>
                <a:lnTo>
                  <a:pt x="1641" y="3353"/>
                </a:lnTo>
                <a:lnTo>
                  <a:pt x="3700" y="437"/>
                </a:lnTo>
                <a:lnTo>
                  <a:pt x="426" y="994"/>
                </a:lnTo>
                <a:lnTo>
                  <a:pt x="4069" y="3959"/>
                </a:lnTo>
                <a:lnTo>
                  <a:pt x="1512" y="3246"/>
                </a:lnTo>
                <a:lnTo>
                  <a:pt x="3949" y="640"/>
                </a:lnTo>
                <a:lnTo>
                  <a:pt x="628" y="745"/>
                </a:lnTo>
                <a:lnTo>
                  <a:pt x="3833" y="4178"/>
                </a:lnTo>
                <a:lnTo>
                  <a:pt x="1398" y="3125"/>
                </a:lnTo>
                <a:lnTo>
                  <a:pt x="4166" y="872"/>
                </a:lnTo>
                <a:lnTo>
                  <a:pt x="863" y="526"/>
                </a:lnTo>
                <a:lnTo>
                  <a:pt x="3571" y="4362"/>
                </a:lnTo>
                <a:lnTo>
                  <a:pt x="1301" y="2986"/>
                </a:lnTo>
                <a:lnTo>
                  <a:pt x="4352" y="1134"/>
                </a:lnTo>
                <a:lnTo>
                  <a:pt x="1128" y="342"/>
                </a:lnTo>
                <a:lnTo>
                  <a:pt x="3285" y="4510"/>
                </a:lnTo>
                <a:lnTo>
                  <a:pt x="1225" y="2840"/>
                </a:lnTo>
                <a:lnTo>
                  <a:pt x="4498" y="1420"/>
                </a:lnTo>
                <a:lnTo>
                  <a:pt x="1411" y="194"/>
                </a:lnTo>
                <a:lnTo>
                  <a:pt x="2983" y="4619"/>
                </a:lnTo>
                <a:lnTo>
                  <a:pt x="1169" y="2682"/>
                </a:lnTo>
                <a:lnTo>
                  <a:pt x="4605" y="1720"/>
                </a:lnTo>
                <a:lnTo>
                  <a:pt x="1715" y="85"/>
                </a:lnTo>
                <a:lnTo>
                  <a:pt x="2669" y="4683"/>
                </a:lnTo>
                <a:lnTo>
                  <a:pt x="1133" y="2518"/>
                </a:lnTo>
                <a:lnTo>
                  <a:pt x="4671" y="2035"/>
                </a:lnTo>
                <a:lnTo>
                  <a:pt x="2029" y="21"/>
                </a:lnTo>
                <a:lnTo>
                  <a:pt x="2350" y="4706"/>
                </a:lnTo>
                <a:close/>
              </a:path>
            </a:pathLst>
          </a:custGeom>
          <a:solidFill>
            <a:srgbClr val="a1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3486240" y="3003480"/>
            <a:ext cx="2170080" cy="1611360"/>
            <a:chOff x="3486240" y="3003480"/>
            <a:chExt cx="2170080" cy="1611360"/>
          </a:xfrm>
        </p:grpSpPr>
        <p:sp>
          <p:nvSpPr>
            <p:cNvPr id="631" name=""/>
            <p:cNvSpPr/>
            <p:nvPr/>
          </p:nvSpPr>
          <p:spPr>
            <a:xfrm flipH="1">
              <a:off x="3486240" y="3003480"/>
              <a:ext cx="2170080" cy="1611360"/>
            </a:xfrm>
            <a:custGeom>
              <a:avLst/>
              <a:gdLst/>
              <a:ahLst/>
              <a:rect l="l" t="t" r="r" b="b"/>
              <a:pathLst>
                <a:path w="1720" h="1336">
                  <a:moveTo>
                    <a:pt x="1173" y="230"/>
                  </a:moveTo>
                  <a:lnTo>
                    <a:pt x="1163" y="221"/>
                  </a:lnTo>
                  <a:lnTo>
                    <a:pt x="1154" y="209"/>
                  </a:lnTo>
                  <a:lnTo>
                    <a:pt x="1144" y="200"/>
                  </a:lnTo>
                  <a:lnTo>
                    <a:pt x="1133" y="188"/>
                  </a:lnTo>
                  <a:lnTo>
                    <a:pt x="1123" y="179"/>
                  </a:lnTo>
                  <a:lnTo>
                    <a:pt x="1113" y="169"/>
                  </a:lnTo>
                  <a:lnTo>
                    <a:pt x="1102" y="159"/>
                  </a:lnTo>
                  <a:lnTo>
                    <a:pt x="1090" y="150"/>
                  </a:lnTo>
                  <a:lnTo>
                    <a:pt x="1079" y="142"/>
                  </a:lnTo>
                  <a:lnTo>
                    <a:pt x="1067" y="132"/>
                  </a:lnTo>
                  <a:lnTo>
                    <a:pt x="1056" y="125"/>
                  </a:lnTo>
                  <a:lnTo>
                    <a:pt x="1044" y="115"/>
                  </a:lnTo>
                  <a:lnTo>
                    <a:pt x="1033" y="107"/>
                  </a:lnTo>
                  <a:lnTo>
                    <a:pt x="1021" y="100"/>
                  </a:lnTo>
                  <a:lnTo>
                    <a:pt x="1008" y="92"/>
                  </a:lnTo>
                  <a:lnTo>
                    <a:pt x="996" y="86"/>
                  </a:lnTo>
                  <a:lnTo>
                    <a:pt x="983" y="79"/>
                  </a:lnTo>
                  <a:lnTo>
                    <a:pt x="969" y="71"/>
                  </a:lnTo>
                  <a:lnTo>
                    <a:pt x="958" y="65"/>
                  </a:lnTo>
                  <a:lnTo>
                    <a:pt x="944" y="60"/>
                  </a:lnTo>
                  <a:lnTo>
                    <a:pt x="931" y="54"/>
                  </a:lnTo>
                  <a:lnTo>
                    <a:pt x="918" y="48"/>
                  </a:lnTo>
                  <a:lnTo>
                    <a:pt x="904" y="42"/>
                  </a:lnTo>
                  <a:lnTo>
                    <a:pt x="889" y="36"/>
                  </a:lnTo>
                  <a:lnTo>
                    <a:pt x="875" y="33"/>
                  </a:lnTo>
                  <a:lnTo>
                    <a:pt x="862" y="29"/>
                  </a:lnTo>
                  <a:lnTo>
                    <a:pt x="847" y="25"/>
                  </a:lnTo>
                  <a:lnTo>
                    <a:pt x="833" y="21"/>
                  </a:lnTo>
                  <a:lnTo>
                    <a:pt x="820" y="17"/>
                  </a:lnTo>
                  <a:lnTo>
                    <a:pt x="804" y="13"/>
                  </a:lnTo>
                  <a:lnTo>
                    <a:pt x="789" y="12"/>
                  </a:lnTo>
                  <a:lnTo>
                    <a:pt x="776" y="8"/>
                  </a:lnTo>
                  <a:lnTo>
                    <a:pt x="760" y="6"/>
                  </a:lnTo>
                  <a:lnTo>
                    <a:pt x="745" y="4"/>
                  </a:lnTo>
                  <a:lnTo>
                    <a:pt x="729" y="2"/>
                  </a:lnTo>
                  <a:lnTo>
                    <a:pt x="714" y="2"/>
                  </a:lnTo>
                  <a:lnTo>
                    <a:pt x="699" y="0"/>
                  </a:lnTo>
                  <a:lnTo>
                    <a:pt x="683" y="0"/>
                  </a:lnTo>
                  <a:lnTo>
                    <a:pt x="668" y="0"/>
                  </a:lnTo>
                  <a:lnTo>
                    <a:pt x="668" y="0"/>
                  </a:lnTo>
                  <a:lnTo>
                    <a:pt x="639" y="0"/>
                  </a:lnTo>
                  <a:lnTo>
                    <a:pt x="612" y="2"/>
                  </a:lnTo>
                  <a:lnTo>
                    <a:pt x="584" y="6"/>
                  </a:lnTo>
                  <a:lnTo>
                    <a:pt x="557" y="10"/>
                  </a:lnTo>
                  <a:lnTo>
                    <a:pt x="530" y="13"/>
                  </a:lnTo>
                  <a:lnTo>
                    <a:pt x="503" y="19"/>
                  </a:lnTo>
                  <a:lnTo>
                    <a:pt x="478" y="27"/>
                  </a:lnTo>
                  <a:lnTo>
                    <a:pt x="451" y="36"/>
                  </a:lnTo>
                  <a:lnTo>
                    <a:pt x="426" y="44"/>
                  </a:lnTo>
                  <a:lnTo>
                    <a:pt x="401" y="56"/>
                  </a:lnTo>
                  <a:lnTo>
                    <a:pt x="378" y="65"/>
                  </a:lnTo>
                  <a:lnTo>
                    <a:pt x="353" y="79"/>
                  </a:lnTo>
                  <a:lnTo>
                    <a:pt x="330" y="90"/>
                  </a:lnTo>
                  <a:lnTo>
                    <a:pt x="307" y="106"/>
                  </a:lnTo>
                  <a:lnTo>
                    <a:pt x="286" y="119"/>
                  </a:lnTo>
                  <a:lnTo>
                    <a:pt x="265" y="134"/>
                  </a:lnTo>
                  <a:lnTo>
                    <a:pt x="244" y="152"/>
                  </a:lnTo>
                  <a:lnTo>
                    <a:pt x="225" y="169"/>
                  </a:lnTo>
                  <a:lnTo>
                    <a:pt x="205" y="186"/>
                  </a:lnTo>
                  <a:lnTo>
                    <a:pt x="186" y="205"/>
                  </a:lnTo>
                  <a:lnTo>
                    <a:pt x="169" y="225"/>
                  </a:lnTo>
                  <a:lnTo>
                    <a:pt x="152" y="244"/>
                  </a:lnTo>
                  <a:lnTo>
                    <a:pt x="134" y="265"/>
                  </a:lnTo>
                  <a:lnTo>
                    <a:pt x="119" y="286"/>
                  </a:lnTo>
                  <a:lnTo>
                    <a:pt x="104" y="309"/>
                  </a:lnTo>
                  <a:lnTo>
                    <a:pt x="90" y="330"/>
                  </a:lnTo>
                  <a:lnTo>
                    <a:pt x="79" y="353"/>
                  </a:lnTo>
                  <a:lnTo>
                    <a:pt x="65" y="378"/>
                  </a:lnTo>
                  <a:lnTo>
                    <a:pt x="54" y="401"/>
                  </a:lnTo>
                  <a:lnTo>
                    <a:pt x="44" y="426"/>
                  </a:lnTo>
                  <a:lnTo>
                    <a:pt x="35" y="451"/>
                  </a:lnTo>
                  <a:lnTo>
                    <a:pt x="27" y="478"/>
                  </a:lnTo>
                  <a:lnTo>
                    <a:pt x="19" y="503"/>
                  </a:lnTo>
                  <a:lnTo>
                    <a:pt x="13" y="530"/>
                  </a:lnTo>
                  <a:lnTo>
                    <a:pt x="8" y="557"/>
                  </a:lnTo>
                  <a:lnTo>
                    <a:pt x="4" y="585"/>
                  </a:lnTo>
                  <a:lnTo>
                    <a:pt x="2" y="612"/>
                  </a:lnTo>
                  <a:lnTo>
                    <a:pt x="0" y="641"/>
                  </a:lnTo>
                  <a:lnTo>
                    <a:pt x="0" y="668"/>
                  </a:lnTo>
                  <a:lnTo>
                    <a:pt x="0" y="668"/>
                  </a:lnTo>
                  <a:lnTo>
                    <a:pt x="0" y="697"/>
                  </a:lnTo>
                  <a:lnTo>
                    <a:pt x="2" y="726"/>
                  </a:lnTo>
                  <a:lnTo>
                    <a:pt x="4" y="752"/>
                  </a:lnTo>
                  <a:lnTo>
                    <a:pt x="8" y="779"/>
                  </a:lnTo>
                  <a:lnTo>
                    <a:pt x="13" y="806"/>
                  </a:lnTo>
                  <a:lnTo>
                    <a:pt x="19" y="833"/>
                  </a:lnTo>
                  <a:lnTo>
                    <a:pt x="27" y="860"/>
                  </a:lnTo>
                  <a:lnTo>
                    <a:pt x="35" y="885"/>
                  </a:lnTo>
                  <a:lnTo>
                    <a:pt x="44" y="910"/>
                  </a:lnTo>
                  <a:lnTo>
                    <a:pt x="54" y="935"/>
                  </a:lnTo>
                  <a:lnTo>
                    <a:pt x="65" y="960"/>
                  </a:lnTo>
                  <a:lnTo>
                    <a:pt x="79" y="983"/>
                  </a:lnTo>
                  <a:lnTo>
                    <a:pt x="90" y="1006"/>
                  </a:lnTo>
                  <a:lnTo>
                    <a:pt x="104" y="1029"/>
                  </a:lnTo>
                  <a:lnTo>
                    <a:pt x="119" y="1050"/>
                  </a:lnTo>
                  <a:lnTo>
                    <a:pt x="134" y="1071"/>
                  </a:lnTo>
                  <a:lnTo>
                    <a:pt x="152" y="1092"/>
                  </a:lnTo>
                  <a:lnTo>
                    <a:pt x="169" y="1113"/>
                  </a:lnTo>
                  <a:lnTo>
                    <a:pt x="186" y="1133"/>
                  </a:lnTo>
                  <a:lnTo>
                    <a:pt x="205" y="1150"/>
                  </a:lnTo>
                  <a:lnTo>
                    <a:pt x="225" y="1169"/>
                  </a:lnTo>
                  <a:lnTo>
                    <a:pt x="244" y="1186"/>
                  </a:lnTo>
                  <a:lnTo>
                    <a:pt x="265" y="1202"/>
                  </a:lnTo>
                  <a:lnTo>
                    <a:pt x="286" y="1217"/>
                  </a:lnTo>
                  <a:lnTo>
                    <a:pt x="307" y="1232"/>
                  </a:lnTo>
                  <a:lnTo>
                    <a:pt x="330" y="1246"/>
                  </a:lnTo>
                  <a:lnTo>
                    <a:pt x="353" y="1259"/>
                  </a:lnTo>
                  <a:lnTo>
                    <a:pt x="378" y="1271"/>
                  </a:lnTo>
                  <a:lnTo>
                    <a:pt x="401" y="1282"/>
                  </a:lnTo>
                  <a:lnTo>
                    <a:pt x="426" y="1292"/>
                  </a:lnTo>
                  <a:lnTo>
                    <a:pt x="451" y="1301"/>
                  </a:lnTo>
                  <a:lnTo>
                    <a:pt x="478" y="1309"/>
                  </a:lnTo>
                  <a:lnTo>
                    <a:pt x="503" y="1317"/>
                  </a:lnTo>
                  <a:lnTo>
                    <a:pt x="530" y="1323"/>
                  </a:lnTo>
                  <a:lnTo>
                    <a:pt x="557" y="1328"/>
                  </a:lnTo>
                  <a:lnTo>
                    <a:pt x="584" y="1332"/>
                  </a:lnTo>
                  <a:lnTo>
                    <a:pt x="612" y="1334"/>
                  </a:lnTo>
                  <a:lnTo>
                    <a:pt x="639" y="1336"/>
                  </a:lnTo>
                  <a:lnTo>
                    <a:pt x="668" y="1336"/>
                  </a:lnTo>
                  <a:lnTo>
                    <a:pt x="668" y="1336"/>
                  </a:lnTo>
                  <a:lnTo>
                    <a:pt x="729" y="1336"/>
                  </a:lnTo>
                  <a:lnTo>
                    <a:pt x="864" y="1336"/>
                  </a:lnTo>
                  <a:lnTo>
                    <a:pt x="991" y="1336"/>
                  </a:lnTo>
                  <a:lnTo>
                    <a:pt x="991" y="1336"/>
                  </a:lnTo>
                  <a:lnTo>
                    <a:pt x="1065" y="1332"/>
                  </a:lnTo>
                  <a:lnTo>
                    <a:pt x="1167" y="1317"/>
                  </a:lnTo>
                  <a:lnTo>
                    <a:pt x="1282" y="1280"/>
                  </a:lnTo>
                  <a:lnTo>
                    <a:pt x="1399" y="1221"/>
                  </a:lnTo>
                  <a:lnTo>
                    <a:pt x="1507" y="1129"/>
                  </a:lnTo>
                  <a:lnTo>
                    <a:pt x="1507" y="1129"/>
                  </a:lnTo>
                  <a:lnTo>
                    <a:pt x="1520" y="1115"/>
                  </a:lnTo>
                  <a:lnTo>
                    <a:pt x="1532" y="1100"/>
                  </a:lnTo>
                  <a:lnTo>
                    <a:pt x="1543" y="1086"/>
                  </a:lnTo>
                  <a:lnTo>
                    <a:pt x="1555" y="1071"/>
                  </a:lnTo>
                  <a:lnTo>
                    <a:pt x="1565" y="1056"/>
                  </a:lnTo>
                  <a:lnTo>
                    <a:pt x="1576" y="1042"/>
                  </a:lnTo>
                  <a:lnTo>
                    <a:pt x="1586" y="1027"/>
                  </a:lnTo>
                  <a:lnTo>
                    <a:pt x="1595" y="1012"/>
                  </a:lnTo>
                  <a:lnTo>
                    <a:pt x="1603" y="996"/>
                  </a:lnTo>
                  <a:lnTo>
                    <a:pt x="1613" y="981"/>
                  </a:lnTo>
                  <a:lnTo>
                    <a:pt x="1620" y="966"/>
                  </a:lnTo>
                  <a:lnTo>
                    <a:pt x="1630" y="950"/>
                  </a:lnTo>
                  <a:lnTo>
                    <a:pt x="1637" y="935"/>
                  </a:lnTo>
                  <a:lnTo>
                    <a:pt x="1643" y="919"/>
                  </a:lnTo>
                  <a:lnTo>
                    <a:pt x="1651" y="906"/>
                  </a:lnTo>
                  <a:lnTo>
                    <a:pt x="1657" y="891"/>
                  </a:lnTo>
                  <a:lnTo>
                    <a:pt x="1664" y="875"/>
                  </a:lnTo>
                  <a:lnTo>
                    <a:pt x="1670" y="860"/>
                  </a:lnTo>
                  <a:lnTo>
                    <a:pt x="1676" y="845"/>
                  </a:lnTo>
                  <a:lnTo>
                    <a:pt x="1680" y="829"/>
                  </a:lnTo>
                  <a:lnTo>
                    <a:pt x="1685" y="814"/>
                  </a:lnTo>
                  <a:lnTo>
                    <a:pt x="1689" y="800"/>
                  </a:lnTo>
                  <a:lnTo>
                    <a:pt x="1693" y="785"/>
                  </a:lnTo>
                  <a:lnTo>
                    <a:pt x="1697" y="770"/>
                  </a:lnTo>
                  <a:lnTo>
                    <a:pt x="1701" y="756"/>
                  </a:lnTo>
                  <a:lnTo>
                    <a:pt x="1705" y="741"/>
                  </a:lnTo>
                  <a:lnTo>
                    <a:pt x="1707" y="728"/>
                  </a:lnTo>
                  <a:lnTo>
                    <a:pt x="1708" y="714"/>
                  </a:lnTo>
                  <a:lnTo>
                    <a:pt x="1712" y="701"/>
                  </a:lnTo>
                  <a:lnTo>
                    <a:pt x="1714" y="687"/>
                  </a:lnTo>
                  <a:lnTo>
                    <a:pt x="1716" y="674"/>
                  </a:lnTo>
                  <a:lnTo>
                    <a:pt x="1716" y="660"/>
                  </a:lnTo>
                  <a:lnTo>
                    <a:pt x="1718" y="647"/>
                  </a:lnTo>
                  <a:lnTo>
                    <a:pt x="1718" y="635"/>
                  </a:lnTo>
                  <a:lnTo>
                    <a:pt x="1718" y="622"/>
                  </a:lnTo>
                  <a:lnTo>
                    <a:pt x="1720" y="610"/>
                  </a:lnTo>
                  <a:lnTo>
                    <a:pt x="1718" y="599"/>
                  </a:lnTo>
                  <a:lnTo>
                    <a:pt x="1718" y="587"/>
                  </a:lnTo>
                  <a:lnTo>
                    <a:pt x="1718" y="578"/>
                  </a:lnTo>
                  <a:lnTo>
                    <a:pt x="1718" y="578"/>
                  </a:lnTo>
                  <a:lnTo>
                    <a:pt x="1716" y="566"/>
                  </a:lnTo>
                  <a:lnTo>
                    <a:pt x="1716" y="555"/>
                  </a:lnTo>
                  <a:lnTo>
                    <a:pt x="1712" y="545"/>
                  </a:lnTo>
                  <a:lnTo>
                    <a:pt x="1710" y="537"/>
                  </a:lnTo>
                  <a:lnTo>
                    <a:pt x="1707" y="530"/>
                  </a:lnTo>
                  <a:lnTo>
                    <a:pt x="1703" y="524"/>
                  </a:lnTo>
                  <a:lnTo>
                    <a:pt x="1699" y="520"/>
                  </a:lnTo>
                  <a:lnTo>
                    <a:pt x="1693" y="516"/>
                  </a:lnTo>
                  <a:lnTo>
                    <a:pt x="1689" y="514"/>
                  </a:lnTo>
                  <a:lnTo>
                    <a:pt x="1684" y="513"/>
                  </a:lnTo>
                  <a:lnTo>
                    <a:pt x="1678" y="511"/>
                  </a:lnTo>
                  <a:lnTo>
                    <a:pt x="1672" y="511"/>
                  </a:lnTo>
                  <a:lnTo>
                    <a:pt x="1666" y="511"/>
                  </a:lnTo>
                  <a:lnTo>
                    <a:pt x="1659" y="513"/>
                  </a:lnTo>
                  <a:lnTo>
                    <a:pt x="1653" y="514"/>
                  </a:lnTo>
                  <a:lnTo>
                    <a:pt x="1645" y="518"/>
                  </a:lnTo>
                  <a:lnTo>
                    <a:pt x="1639" y="520"/>
                  </a:lnTo>
                  <a:lnTo>
                    <a:pt x="1632" y="524"/>
                  </a:lnTo>
                  <a:lnTo>
                    <a:pt x="1626" y="528"/>
                  </a:lnTo>
                  <a:lnTo>
                    <a:pt x="1618" y="534"/>
                  </a:lnTo>
                  <a:lnTo>
                    <a:pt x="1611" y="537"/>
                  </a:lnTo>
                  <a:lnTo>
                    <a:pt x="1605" y="543"/>
                  </a:lnTo>
                  <a:lnTo>
                    <a:pt x="1597" y="547"/>
                  </a:lnTo>
                  <a:lnTo>
                    <a:pt x="1591" y="553"/>
                  </a:lnTo>
                  <a:lnTo>
                    <a:pt x="1584" y="559"/>
                  </a:lnTo>
                  <a:lnTo>
                    <a:pt x="1578" y="564"/>
                  </a:lnTo>
                  <a:lnTo>
                    <a:pt x="1572" y="570"/>
                  </a:lnTo>
                  <a:lnTo>
                    <a:pt x="1566" y="576"/>
                  </a:lnTo>
                  <a:lnTo>
                    <a:pt x="1561" y="582"/>
                  </a:lnTo>
                  <a:lnTo>
                    <a:pt x="1555" y="587"/>
                  </a:lnTo>
                  <a:lnTo>
                    <a:pt x="1549" y="591"/>
                  </a:lnTo>
                  <a:lnTo>
                    <a:pt x="1545" y="597"/>
                  </a:lnTo>
                  <a:lnTo>
                    <a:pt x="1541" y="601"/>
                  </a:lnTo>
                  <a:lnTo>
                    <a:pt x="1541" y="601"/>
                  </a:lnTo>
                  <a:lnTo>
                    <a:pt x="1538" y="605"/>
                  </a:lnTo>
                  <a:lnTo>
                    <a:pt x="1534" y="608"/>
                  </a:lnTo>
                  <a:lnTo>
                    <a:pt x="1530" y="612"/>
                  </a:lnTo>
                  <a:lnTo>
                    <a:pt x="1526" y="618"/>
                  </a:lnTo>
                  <a:lnTo>
                    <a:pt x="1520" y="622"/>
                  </a:lnTo>
                  <a:lnTo>
                    <a:pt x="1517" y="628"/>
                  </a:lnTo>
                  <a:lnTo>
                    <a:pt x="1511" y="632"/>
                  </a:lnTo>
                  <a:lnTo>
                    <a:pt x="1507" y="637"/>
                  </a:lnTo>
                  <a:lnTo>
                    <a:pt x="1501" y="643"/>
                  </a:lnTo>
                  <a:lnTo>
                    <a:pt x="1495" y="647"/>
                  </a:lnTo>
                  <a:lnTo>
                    <a:pt x="1490" y="653"/>
                  </a:lnTo>
                  <a:lnTo>
                    <a:pt x="1484" y="658"/>
                  </a:lnTo>
                  <a:lnTo>
                    <a:pt x="1478" y="664"/>
                  </a:lnTo>
                  <a:lnTo>
                    <a:pt x="1472" y="670"/>
                  </a:lnTo>
                  <a:lnTo>
                    <a:pt x="1467" y="676"/>
                  </a:lnTo>
                  <a:lnTo>
                    <a:pt x="1461" y="681"/>
                  </a:lnTo>
                  <a:lnTo>
                    <a:pt x="1453" y="687"/>
                  </a:lnTo>
                  <a:lnTo>
                    <a:pt x="1447" y="693"/>
                  </a:lnTo>
                  <a:lnTo>
                    <a:pt x="1442" y="699"/>
                  </a:lnTo>
                  <a:lnTo>
                    <a:pt x="1436" y="704"/>
                  </a:lnTo>
                  <a:lnTo>
                    <a:pt x="1428" y="710"/>
                  </a:lnTo>
                  <a:lnTo>
                    <a:pt x="1422" y="716"/>
                  </a:lnTo>
                  <a:lnTo>
                    <a:pt x="1417" y="722"/>
                  </a:lnTo>
                  <a:lnTo>
                    <a:pt x="1409" y="728"/>
                  </a:lnTo>
                  <a:lnTo>
                    <a:pt x="1403" y="733"/>
                  </a:lnTo>
                  <a:lnTo>
                    <a:pt x="1398" y="739"/>
                  </a:lnTo>
                  <a:lnTo>
                    <a:pt x="1390" y="745"/>
                  </a:lnTo>
                  <a:lnTo>
                    <a:pt x="1384" y="749"/>
                  </a:lnTo>
                  <a:lnTo>
                    <a:pt x="1378" y="754"/>
                  </a:lnTo>
                  <a:lnTo>
                    <a:pt x="1373" y="760"/>
                  </a:lnTo>
                  <a:lnTo>
                    <a:pt x="1367" y="764"/>
                  </a:lnTo>
                  <a:lnTo>
                    <a:pt x="1361" y="770"/>
                  </a:lnTo>
                  <a:lnTo>
                    <a:pt x="1355" y="774"/>
                  </a:lnTo>
                  <a:lnTo>
                    <a:pt x="1350" y="779"/>
                  </a:lnTo>
                  <a:lnTo>
                    <a:pt x="1344" y="783"/>
                  </a:lnTo>
                  <a:lnTo>
                    <a:pt x="1340" y="787"/>
                  </a:lnTo>
                  <a:lnTo>
                    <a:pt x="1334" y="791"/>
                  </a:lnTo>
                  <a:lnTo>
                    <a:pt x="1330" y="795"/>
                  </a:lnTo>
                  <a:lnTo>
                    <a:pt x="1325" y="799"/>
                  </a:lnTo>
                  <a:lnTo>
                    <a:pt x="1325" y="799"/>
                  </a:lnTo>
                  <a:lnTo>
                    <a:pt x="1317" y="804"/>
                  </a:lnTo>
                  <a:lnTo>
                    <a:pt x="1305" y="810"/>
                  </a:lnTo>
                  <a:lnTo>
                    <a:pt x="1296" y="816"/>
                  </a:lnTo>
                  <a:lnTo>
                    <a:pt x="1282" y="822"/>
                  </a:lnTo>
                  <a:lnTo>
                    <a:pt x="1269" y="827"/>
                  </a:lnTo>
                  <a:lnTo>
                    <a:pt x="1255" y="831"/>
                  </a:lnTo>
                  <a:lnTo>
                    <a:pt x="1242" y="837"/>
                  </a:lnTo>
                  <a:lnTo>
                    <a:pt x="1227" y="841"/>
                  </a:lnTo>
                  <a:lnTo>
                    <a:pt x="1209" y="843"/>
                  </a:lnTo>
                  <a:lnTo>
                    <a:pt x="1194" y="847"/>
                  </a:lnTo>
                  <a:lnTo>
                    <a:pt x="1177" y="847"/>
                  </a:lnTo>
                  <a:lnTo>
                    <a:pt x="1161" y="848"/>
                  </a:lnTo>
                  <a:lnTo>
                    <a:pt x="1144" y="847"/>
                  </a:lnTo>
                  <a:lnTo>
                    <a:pt x="1127" y="847"/>
                  </a:lnTo>
                  <a:lnTo>
                    <a:pt x="1111" y="843"/>
                  </a:lnTo>
                  <a:lnTo>
                    <a:pt x="1094" y="839"/>
                  </a:lnTo>
                  <a:lnTo>
                    <a:pt x="1079" y="835"/>
                  </a:lnTo>
                  <a:lnTo>
                    <a:pt x="1062" y="827"/>
                  </a:lnTo>
                  <a:lnTo>
                    <a:pt x="1048" y="820"/>
                  </a:lnTo>
                  <a:lnTo>
                    <a:pt x="1033" y="810"/>
                  </a:lnTo>
                  <a:lnTo>
                    <a:pt x="1019" y="799"/>
                  </a:lnTo>
                  <a:lnTo>
                    <a:pt x="1019" y="799"/>
                  </a:lnTo>
                  <a:lnTo>
                    <a:pt x="1010" y="789"/>
                  </a:lnTo>
                  <a:lnTo>
                    <a:pt x="1000" y="779"/>
                  </a:lnTo>
                  <a:lnTo>
                    <a:pt x="992" y="770"/>
                  </a:lnTo>
                  <a:lnTo>
                    <a:pt x="985" y="758"/>
                  </a:lnTo>
                  <a:lnTo>
                    <a:pt x="977" y="749"/>
                  </a:lnTo>
                  <a:lnTo>
                    <a:pt x="969" y="737"/>
                  </a:lnTo>
                  <a:lnTo>
                    <a:pt x="964" y="726"/>
                  </a:lnTo>
                  <a:lnTo>
                    <a:pt x="958" y="712"/>
                  </a:lnTo>
                  <a:lnTo>
                    <a:pt x="952" y="701"/>
                  </a:lnTo>
                  <a:lnTo>
                    <a:pt x="948" y="687"/>
                  </a:lnTo>
                  <a:lnTo>
                    <a:pt x="943" y="676"/>
                  </a:lnTo>
                  <a:lnTo>
                    <a:pt x="941" y="662"/>
                  </a:lnTo>
                  <a:lnTo>
                    <a:pt x="937" y="649"/>
                  </a:lnTo>
                  <a:lnTo>
                    <a:pt x="935" y="635"/>
                  </a:lnTo>
                  <a:lnTo>
                    <a:pt x="933" y="622"/>
                  </a:lnTo>
                  <a:lnTo>
                    <a:pt x="931" y="608"/>
                  </a:lnTo>
                  <a:lnTo>
                    <a:pt x="929" y="595"/>
                  </a:lnTo>
                  <a:lnTo>
                    <a:pt x="929" y="582"/>
                  </a:lnTo>
                  <a:lnTo>
                    <a:pt x="931" y="568"/>
                  </a:lnTo>
                  <a:lnTo>
                    <a:pt x="931" y="557"/>
                  </a:lnTo>
                  <a:lnTo>
                    <a:pt x="933" y="543"/>
                  </a:lnTo>
                  <a:lnTo>
                    <a:pt x="935" y="530"/>
                  </a:lnTo>
                  <a:lnTo>
                    <a:pt x="937" y="518"/>
                  </a:lnTo>
                  <a:lnTo>
                    <a:pt x="941" y="507"/>
                  </a:lnTo>
                  <a:lnTo>
                    <a:pt x="944" y="495"/>
                  </a:lnTo>
                  <a:lnTo>
                    <a:pt x="950" y="484"/>
                  </a:lnTo>
                  <a:lnTo>
                    <a:pt x="956" y="472"/>
                  </a:lnTo>
                  <a:lnTo>
                    <a:pt x="962" y="463"/>
                  </a:lnTo>
                  <a:lnTo>
                    <a:pt x="968" y="453"/>
                  </a:lnTo>
                  <a:lnTo>
                    <a:pt x="975" y="443"/>
                  </a:lnTo>
                  <a:lnTo>
                    <a:pt x="975" y="443"/>
                  </a:lnTo>
                  <a:lnTo>
                    <a:pt x="981" y="436"/>
                  </a:lnTo>
                  <a:lnTo>
                    <a:pt x="987" y="428"/>
                  </a:lnTo>
                  <a:lnTo>
                    <a:pt x="994" y="420"/>
                  </a:lnTo>
                  <a:lnTo>
                    <a:pt x="1000" y="415"/>
                  </a:lnTo>
                  <a:lnTo>
                    <a:pt x="1006" y="407"/>
                  </a:lnTo>
                  <a:lnTo>
                    <a:pt x="1014" y="399"/>
                  </a:lnTo>
                  <a:lnTo>
                    <a:pt x="1019" y="392"/>
                  </a:lnTo>
                  <a:lnTo>
                    <a:pt x="1027" y="384"/>
                  </a:lnTo>
                  <a:lnTo>
                    <a:pt x="1033" y="376"/>
                  </a:lnTo>
                  <a:lnTo>
                    <a:pt x="1040" y="369"/>
                  </a:lnTo>
                  <a:lnTo>
                    <a:pt x="1046" y="361"/>
                  </a:lnTo>
                  <a:lnTo>
                    <a:pt x="1054" y="355"/>
                  </a:lnTo>
                  <a:lnTo>
                    <a:pt x="1060" y="347"/>
                  </a:lnTo>
                  <a:lnTo>
                    <a:pt x="1067" y="340"/>
                  </a:lnTo>
                  <a:lnTo>
                    <a:pt x="1073" y="332"/>
                  </a:lnTo>
                  <a:lnTo>
                    <a:pt x="1081" y="326"/>
                  </a:lnTo>
                  <a:lnTo>
                    <a:pt x="1087" y="319"/>
                  </a:lnTo>
                  <a:lnTo>
                    <a:pt x="1094" y="313"/>
                  </a:lnTo>
                  <a:lnTo>
                    <a:pt x="1100" y="305"/>
                  </a:lnTo>
                  <a:lnTo>
                    <a:pt x="1106" y="299"/>
                  </a:lnTo>
                  <a:lnTo>
                    <a:pt x="1111" y="294"/>
                  </a:lnTo>
                  <a:lnTo>
                    <a:pt x="1117" y="288"/>
                  </a:lnTo>
                  <a:lnTo>
                    <a:pt x="1123" y="280"/>
                  </a:lnTo>
                  <a:lnTo>
                    <a:pt x="1129" y="276"/>
                  </a:lnTo>
                  <a:lnTo>
                    <a:pt x="1135" y="271"/>
                  </a:lnTo>
                  <a:lnTo>
                    <a:pt x="1138" y="265"/>
                  </a:lnTo>
                  <a:lnTo>
                    <a:pt x="1144" y="261"/>
                  </a:lnTo>
                  <a:lnTo>
                    <a:pt x="1148" y="255"/>
                  </a:lnTo>
                  <a:lnTo>
                    <a:pt x="1152" y="251"/>
                  </a:lnTo>
                  <a:lnTo>
                    <a:pt x="1156" y="248"/>
                  </a:lnTo>
                  <a:lnTo>
                    <a:pt x="1159" y="244"/>
                  </a:lnTo>
                  <a:lnTo>
                    <a:pt x="1161" y="242"/>
                  </a:lnTo>
                  <a:lnTo>
                    <a:pt x="1165" y="238"/>
                  </a:lnTo>
                  <a:lnTo>
                    <a:pt x="1167" y="236"/>
                  </a:lnTo>
                  <a:lnTo>
                    <a:pt x="1169" y="234"/>
                  </a:lnTo>
                  <a:lnTo>
                    <a:pt x="1171" y="232"/>
                  </a:lnTo>
                  <a:lnTo>
                    <a:pt x="1173" y="232"/>
                  </a:lnTo>
                  <a:lnTo>
                    <a:pt x="1173" y="230"/>
                  </a:lnTo>
                  <a:lnTo>
                    <a:pt x="1173" y="23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23040" y="3537720"/>
              <a:ext cx="580320" cy="555840"/>
            </a:xfrm>
            <a:custGeom>
              <a:avLst/>
              <a:gdLst/>
              <a:ahLst/>
              <a:rect l="l" t="t" r="r" b="b"/>
              <a:pathLst>
                <a:path w="460" h="461">
                  <a:moveTo>
                    <a:pt x="230" y="461"/>
                  </a:moveTo>
                  <a:lnTo>
                    <a:pt x="245" y="459"/>
                  </a:lnTo>
                  <a:lnTo>
                    <a:pt x="261" y="459"/>
                  </a:lnTo>
                  <a:lnTo>
                    <a:pt x="274" y="457"/>
                  </a:lnTo>
                  <a:lnTo>
                    <a:pt x="290" y="453"/>
                  </a:lnTo>
                  <a:lnTo>
                    <a:pt x="303" y="450"/>
                  </a:lnTo>
                  <a:lnTo>
                    <a:pt x="316" y="444"/>
                  </a:lnTo>
                  <a:lnTo>
                    <a:pt x="330" y="438"/>
                  </a:lnTo>
                  <a:lnTo>
                    <a:pt x="343" y="432"/>
                  </a:lnTo>
                  <a:lnTo>
                    <a:pt x="355" y="425"/>
                  </a:lnTo>
                  <a:lnTo>
                    <a:pt x="366" y="417"/>
                  </a:lnTo>
                  <a:lnTo>
                    <a:pt x="378" y="407"/>
                  </a:lnTo>
                  <a:lnTo>
                    <a:pt x="387" y="398"/>
                  </a:lnTo>
                  <a:lnTo>
                    <a:pt x="399" y="388"/>
                  </a:lnTo>
                  <a:lnTo>
                    <a:pt x="409" y="377"/>
                  </a:lnTo>
                  <a:lnTo>
                    <a:pt x="416" y="367"/>
                  </a:lnTo>
                  <a:lnTo>
                    <a:pt x="424" y="354"/>
                  </a:lnTo>
                  <a:lnTo>
                    <a:pt x="432" y="342"/>
                  </a:lnTo>
                  <a:lnTo>
                    <a:pt x="439" y="331"/>
                  </a:lnTo>
                  <a:lnTo>
                    <a:pt x="445" y="317"/>
                  </a:lnTo>
                  <a:lnTo>
                    <a:pt x="449" y="304"/>
                  </a:lnTo>
                  <a:lnTo>
                    <a:pt x="453" y="288"/>
                  </a:lnTo>
                  <a:lnTo>
                    <a:pt x="457" y="275"/>
                  </a:lnTo>
                  <a:lnTo>
                    <a:pt x="458" y="260"/>
                  </a:lnTo>
                  <a:lnTo>
                    <a:pt x="460" y="244"/>
                  </a:lnTo>
                  <a:lnTo>
                    <a:pt x="460" y="229"/>
                  </a:lnTo>
                  <a:lnTo>
                    <a:pt x="460" y="229"/>
                  </a:lnTo>
                  <a:lnTo>
                    <a:pt x="460" y="215"/>
                  </a:lnTo>
                  <a:lnTo>
                    <a:pt x="458" y="200"/>
                  </a:lnTo>
                  <a:lnTo>
                    <a:pt x="457" y="185"/>
                  </a:lnTo>
                  <a:lnTo>
                    <a:pt x="453" y="171"/>
                  </a:lnTo>
                  <a:lnTo>
                    <a:pt x="449" y="158"/>
                  </a:lnTo>
                  <a:lnTo>
                    <a:pt x="445" y="144"/>
                  </a:lnTo>
                  <a:lnTo>
                    <a:pt x="439" y="131"/>
                  </a:lnTo>
                  <a:lnTo>
                    <a:pt x="432" y="118"/>
                  </a:lnTo>
                  <a:lnTo>
                    <a:pt x="424" y="106"/>
                  </a:lnTo>
                  <a:lnTo>
                    <a:pt x="416" y="94"/>
                  </a:lnTo>
                  <a:lnTo>
                    <a:pt x="409" y="83"/>
                  </a:lnTo>
                  <a:lnTo>
                    <a:pt x="399" y="71"/>
                  </a:lnTo>
                  <a:lnTo>
                    <a:pt x="387" y="62"/>
                  </a:lnTo>
                  <a:lnTo>
                    <a:pt x="378" y="52"/>
                  </a:lnTo>
                  <a:lnTo>
                    <a:pt x="366" y="45"/>
                  </a:lnTo>
                  <a:lnTo>
                    <a:pt x="355" y="37"/>
                  </a:lnTo>
                  <a:lnTo>
                    <a:pt x="343" y="29"/>
                  </a:lnTo>
                  <a:lnTo>
                    <a:pt x="330" y="22"/>
                  </a:lnTo>
                  <a:lnTo>
                    <a:pt x="316" y="16"/>
                  </a:lnTo>
                  <a:lnTo>
                    <a:pt x="303" y="12"/>
                  </a:lnTo>
                  <a:lnTo>
                    <a:pt x="290" y="8"/>
                  </a:lnTo>
                  <a:lnTo>
                    <a:pt x="274" y="4"/>
                  </a:lnTo>
                  <a:lnTo>
                    <a:pt x="261" y="2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199" y="2"/>
                  </a:lnTo>
                  <a:lnTo>
                    <a:pt x="186" y="4"/>
                  </a:lnTo>
                  <a:lnTo>
                    <a:pt x="171" y="8"/>
                  </a:lnTo>
                  <a:lnTo>
                    <a:pt x="157" y="12"/>
                  </a:lnTo>
                  <a:lnTo>
                    <a:pt x="144" y="16"/>
                  </a:lnTo>
                  <a:lnTo>
                    <a:pt x="130" y="22"/>
                  </a:lnTo>
                  <a:lnTo>
                    <a:pt x="119" y="29"/>
                  </a:lnTo>
                  <a:lnTo>
                    <a:pt x="105" y="37"/>
                  </a:lnTo>
                  <a:lnTo>
                    <a:pt x="94" y="45"/>
                  </a:lnTo>
                  <a:lnTo>
                    <a:pt x="82" y="52"/>
                  </a:lnTo>
                  <a:lnTo>
                    <a:pt x="73" y="62"/>
                  </a:lnTo>
                  <a:lnTo>
                    <a:pt x="63" y="71"/>
                  </a:lnTo>
                  <a:lnTo>
                    <a:pt x="53" y="83"/>
                  </a:lnTo>
                  <a:lnTo>
                    <a:pt x="44" y="94"/>
                  </a:lnTo>
                  <a:lnTo>
                    <a:pt x="36" y="106"/>
                  </a:lnTo>
                  <a:lnTo>
                    <a:pt x="28" y="118"/>
                  </a:lnTo>
                  <a:lnTo>
                    <a:pt x="23" y="131"/>
                  </a:lnTo>
                  <a:lnTo>
                    <a:pt x="17" y="144"/>
                  </a:lnTo>
                  <a:lnTo>
                    <a:pt x="11" y="158"/>
                  </a:lnTo>
                  <a:lnTo>
                    <a:pt x="7" y="171"/>
                  </a:lnTo>
                  <a:lnTo>
                    <a:pt x="4" y="185"/>
                  </a:lnTo>
                  <a:lnTo>
                    <a:pt x="2" y="200"/>
                  </a:lnTo>
                  <a:lnTo>
                    <a:pt x="0" y="215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2" y="260"/>
                  </a:lnTo>
                  <a:lnTo>
                    <a:pt x="4" y="275"/>
                  </a:lnTo>
                  <a:lnTo>
                    <a:pt x="7" y="288"/>
                  </a:lnTo>
                  <a:lnTo>
                    <a:pt x="11" y="304"/>
                  </a:lnTo>
                  <a:lnTo>
                    <a:pt x="17" y="317"/>
                  </a:lnTo>
                  <a:lnTo>
                    <a:pt x="23" y="331"/>
                  </a:lnTo>
                  <a:lnTo>
                    <a:pt x="28" y="342"/>
                  </a:lnTo>
                  <a:lnTo>
                    <a:pt x="36" y="354"/>
                  </a:lnTo>
                  <a:lnTo>
                    <a:pt x="44" y="367"/>
                  </a:lnTo>
                  <a:lnTo>
                    <a:pt x="53" y="377"/>
                  </a:lnTo>
                  <a:lnTo>
                    <a:pt x="63" y="388"/>
                  </a:lnTo>
                  <a:lnTo>
                    <a:pt x="73" y="398"/>
                  </a:lnTo>
                  <a:lnTo>
                    <a:pt x="82" y="407"/>
                  </a:lnTo>
                  <a:lnTo>
                    <a:pt x="94" y="417"/>
                  </a:lnTo>
                  <a:lnTo>
                    <a:pt x="105" y="425"/>
                  </a:lnTo>
                  <a:lnTo>
                    <a:pt x="119" y="432"/>
                  </a:lnTo>
                  <a:lnTo>
                    <a:pt x="130" y="438"/>
                  </a:lnTo>
                  <a:lnTo>
                    <a:pt x="144" y="444"/>
                  </a:lnTo>
                  <a:lnTo>
                    <a:pt x="157" y="450"/>
                  </a:lnTo>
                  <a:lnTo>
                    <a:pt x="171" y="453"/>
                  </a:lnTo>
                  <a:lnTo>
                    <a:pt x="186" y="457"/>
                  </a:lnTo>
                  <a:lnTo>
                    <a:pt x="199" y="459"/>
                  </a:lnTo>
                  <a:lnTo>
                    <a:pt x="215" y="459"/>
                  </a:lnTo>
                  <a:lnTo>
                    <a:pt x="230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590000" y="3610080"/>
              <a:ext cx="479520" cy="458280"/>
            </a:xfrm>
            <a:custGeom>
              <a:avLst/>
              <a:gdLst/>
              <a:ahLst/>
              <a:rect l="l" t="t" r="r" b="b"/>
              <a:pathLst>
                <a:path w="380" h="380">
                  <a:moveTo>
                    <a:pt x="190" y="380"/>
                  </a:moveTo>
                  <a:lnTo>
                    <a:pt x="203" y="378"/>
                  </a:lnTo>
                  <a:lnTo>
                    <a:pt x="218" y="376"/>
                  </a:lnTo>
                  <a:lnTo>
                    <a:pt x="232" y="374"/>
                  </a:lnTo>
                  <a:lnTo>
                    <a:pt x="247" y="370"/>
                  </a:lnTo>
                  <a:lnTo>
                    <a:pt x="259" y="367"/>
                  </a:lnTo>
                  <a:lnTo>
                    <a:pt x="272" y="361"/>
                  </a:lnTo>
                  <a:lnTo>
                    <a:pt x="286" y="353"/>
                  </a:lnTo>
                  <a:lnTo>
                    <a:pt x="297" y="345"/>
                  </a:lnTo>
                  <a:lnTo>
                    <a:pt x="309" y="338"/>
                  </a:lnTo>
                  <a:lnTo>
                    <a:pt x="318" y="328"/>
                  </a:lnTo>
                  <a:lnTo>
                    <a:pt x="328" y="319"/>
                  </a:lnTo>
                  <a:lnTo>
                    <a:pt x="337" y="309"/>
                  </a:lnTo>
                  <a:lnTo>
                    <a:pt x="345" y="297"/>
                  </a:lnTo>
                  <a:lnTo>
                    <a:pt x="353" y="286"/>
                  </a:lnTo>
                  <a:lnTo>
                    <a:pt x="360" y="272"/>
                  </a:lnTo>
                  <a:lnTo>
                    <a:pt x="366" y="259"/>
                  </a:lnTo>
                  <a:lnTo>
                    <a:pt x="370" y="246"/>
                  </a:lnTo>
                  <a:lnTo>
                    <a:pt x="374" y="232"/>
                  </a:lnTo>
                  <a:lnTo>
                    <a:pt x="376" y="219"/>
                  </a:lnTo>
                  <a:lnTo>
                    <a:pt x="378" y="203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78" y="175"/>
                  </a:lnTo>
                  <a:lnTo>
                    <a:pt x="376" y="159"/>
                  </a:lnTo>
                  <a:lnTo>
                    <a:pt x="374" y="146"/>
                  </a:lnTo>
                  <a:lnTo>
                    <a:pt x="370" y="132"/>
                  </a:lnTo>
                  <a:lnTo>
                    <a:pt x="366" y="119"/>
                  </a:lnTo>
                  <a:lnTo>
                    <a:pt x="360" y="105"/>
                  </a:lnTo>
                  <a:lnTo>
                    <a:pt x="353" y="94"/>
                  </a:lnTo>
                  <a:lnTo>
                    <a:pt x="345" y="81"/>
                  </a:lnTo>
                  <a:lnTo>
                    <a:pt x="337" y="71"/>
                  </a:lnTo>
                  <a:lnTo>
                    <a:pt x="328" y="59"/>
                  </a:lnTo>
                  <a:lnTo>
                    <a:pt x="318" y="50"/>
                  </a:lnTo>
                  <a:lnTo>
                    <a:pt x="309" y="40"/>
                  </a:lnTo>
                  <a:lnTo>
                    <a:pt x="297" y="33"/>
                  </a:lnTo>
                  <a:lnTo>
                    <a:pt x="286" y="25"/>
                  </a:lnTo>
                  <a:lnTo>
                    <a:pt x="272" y="19"/>
                  </a:lnTo>
                  <a:lnTo>
                    <a:pt x="259" y="13"/>
                  </a:lnTo>
                  <a:lnTo>
                    <a:pt x="247" y="8"/>
                  </a:lnTo>
                  <a:lnTo>
                    <a:pt x="232" y="4"/>
                  </a:lnTo>
                  <a:lnTo>
                    <a:pt x="218" y="2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4" y="0"/>
                  </a:lnTo>
                  <a:lnTo>
                    <a:pt x="159" y="2"/>
                  </a:lnTo>
                  <a:lnTo>
                    <a:pt x="145" y="4"/>
                  </a:lnTo>
                  <a:lnTo>
                    <a:pt x="132" y="8"/>
                  </a:lnTo>
                  <a:lnTo>
                    <a:pt x="119" y="13"/>
                  </a:lnTo>
                  <a:lnTo>
                    <a:pt x="105" y="19"/>
                  </a:lnTo>
                  <a:lnTo>
                    <a:pt x="94" y="25"/>
                  </a:lnTo>
                  <a:lnTo>
                    <a:pt x="80" y="33"/>
                  </a:lnTo>
                  <a:lnTo>
                    <a:pt x="71" y="40"/>
                  </a:lnTo>
                  <a:lnTo>
                    <a:pt x="59" y="50"/>
                  </a:lnTo>
                  <a:lnTo>
                    <a:pt x="49" y="59"/>
                  </a:lnTo>
                  <a:lnTo>
                    <a:pt x="40" y="71"/>
                  </a:lnTo>
                  <a:lnTo>
                    <a:pt x="32" y="81"/>
                  </a:lnTo>
                  <a:lnTo>
                    <a:pt x="25" y="94"/>
                  </a:lnTo>
                  <a:lnTo>
                    <a:pt x="19" y="105"/>
                  </a:lnTo>
                  <a:lnTo>
                    <a:pt x="13" y="119"/>
                  </a:lnTo>
                  <a:lnTo>
                    <a:pt x="7" y="132"/>
                  </a:lnTo>
                  <a:lnTo>
                    <a:pt x="3" y="146"/>
                  </a:lnTo>
                  <a:lnTo>
                    <a:pt x="1" y="159"/>
                  </a:lnTo>
                  <a:lnTo>
                    <a:pt x="0" y="175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203"/>
                  </a:lnTo>
                  <a:lnTo>
                    <a:pt x="1" y="219"/>
                  </a:lnTo>
                  <a:lnTo>
                    <a:pt x="3" y="232"/>
                  </a:lnTo>
                  <a:lnTo>
                    <a:pt x="7" y="246"/>
                  </a:lnTo>
                  <a:lnTo>
                    <a:pt x="13" y="259"/>
                  </a:lnTo>
                  <a:lnTo>
                    <a:pt x="19" y="272"/>
                  </a:lnTo>
                  <a:lnTo>
                    <a:pt x="25" y="286"/>
                  </a:lnTo>
                  <a:lnTo>
                    <a:pt x="32" y="297"/>
                  </a:lnTo>
                  <a:lnTo>
                    <a:pt x="40" y="309"/>
                  </a:lnTo>
                  <a:lnTo>
                    <a:pt x="49" y="319"/>
                  </a:lnTo>
                  <a:lnTo>
                    <a:pt x="59" y="328"/>
                  </a:lnTo>
                  <a:lnTo>
                    <a:pt x="71" y="338"/>
                  </a:lnTo>
                  <a:lnTo>
                    <a:pt x="80" y="345"/>
                  </a:lnTo>
                  <a:lnTo>
                    <a:pt x="94" y="353"/>
                  </a:lnTo>
                  <a:lnTo>
                    <a:pt x="105" y="361"/>
                  </a:lnTo>
                  <a:lnTo>
                    <a:pt x="119" y="367"/>
                  </a:lnTo>
                  <a:lnTo>
                    <a:pt x="132" y="370"/>
                  </a:lnTo>
                  <a:lnTo>
                    <a:pt x="145" y="374"/>
                  </a:lnTo>
                  <a:lnTo>
                    <a:pt x="159" y="376"/>
                  </a:lnTo>
                  <a:lnTo>
                    <a:pt x="174" y="378"/>
                  </a:lnTo>
                  <a:lnTo>
                    <a:pt x="190" y="38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175640" y="3433680"/>
              <a:ext cx="150120" cy="583920"/>
            </a:xfrm>
            <a:custGeom>
              <a:avLst/>
              <a:gdLst/>
              <a:ahLst/>
              <a:rect l="l" t="t" r="r" b="b"/>
              <a:pathLst>
                <a:path w="119" h="484">
                  <a:moveTo>
                    <a:pt x="96" y="484"/>
                  </a:moveTo>
                  <a:lnTo>
                    <a:pt x="105" y="445"/>
                  </a:lnTo>
                  <a:lnTo>
                    <a:pt x="113" y="409"/>
                  </a:lnTo>
                  <a:lnTo>
                    <a:pt x="117" y="371"/>
                  </a:lnTo>
                  <a:lnTo>
                    <a:pt x="119" y="330"/>
                  </a:lnTo>
                  <a:lnTo>
                    <a:pt x="119" y="330"/>
                  </a:lnTo>
                  <a:lnTo>
                    <a:pt x="117" y="294"/>
                  </a:lnTo>
                  <a:lnTo>
                    <a:pt x="113" y="257"/>
                  </a:lnTo>
                  <a:lnTo>
                    <a:pt x="107" y="221"/>
                  </a:lnTo>
                  <a:lnTo>
                    <a:pt x="98" y="186"/>
                  </a:lnTo>
                  <a:lnTo>
                    <a:pt x="86" y="152"/>
                  </a:lnTo>
                  <a:lnTo>
                    <a:pt x="73" y="119"/>
                  </a:lnTo>
                  <a:lnTo>
                    <a:pt x="57" y="86"/>
                  </a:lnTo>
                  <a:lnTo>
                    <a:pt x="40" y="58"/>
                  </a:lnTo>
                  <a:lnTo>
                    <a:pt x="21" y="2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646440" y="3670560"/>
              <a:ext cx="5450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553560" y="3030840"/>
              <a:ext cx="2102040" cy="1583640"/>
            </a:xfrm>
            <a:custGeom>
              <a:avLst/>
              <a:gdLst/>
              <a:ahLst/>
              <a:rect l="l" t="t" r="r" b="b"/>
              <a:pathLst>
                <a:path w="1666" h="1313">
                  <a:moveTo>
                    <a:pt x="1417" y="1188"/>
                  </a:moveTo>
                  <a:lnTo>
                    <a:pt x="1401" y="1198"/>
                  </a:lnTo>
                  <a:lnTo>
                    <a:pt x="1386" y="1207"/>
                  </a:lnTo>
                  <a:lnTo>
                    <a:pt x="1371" y="1217"/>
                  </a:lnTo>
                  <a:lnTo>
                    <a:pt x="1353" y="1225"/>
                  </a:lnTo>
                  <a:lnTo>
                    <a:pt x="1338" y="1234"/>
                  </a:lnTo>
                  <a:lnTo>
                    <a:pt x="1323" y="1242"/>
                  </a:lnTo>
                  <a:lnTo>
                    <a:pt x="1307" y="1248"/>
                  </a:lnTo>
                  <a:lnTo>
                    <a:pt x="1290" y="1255"/>
                  </a:lnTo>
                  <a:lnTo>
                    <a:pt x="1275" y="1261"/>
                  </a:lnTo>
                  <a:lnTo>
                    <a:pt x="1259" y="1267"/>
                  </a:lnTo>
                  <a:lnTo>
                    <a:pt x="1244" y="1273"/>
                  </a:lnTo>
                  <a:lnTo>
                    <a:pt x="1229" y="1277"/>
                  </a:lnTo>
                  <a:lnTo>
                    <a:pt x="1211" y="1282"/>
                  </a:lnTo>
                  <a:lnTo>
                    <a:pt x="1196" y="1286"/>
                  </a:lnTo>
                  <a:lnTo>
                    <a:pt x="1183" y="1290"/>
                  </a:lnTo>
                  <a:lnTo>
                    <a:pt x="1167" y="1294"/>
                  </a:lnTo>
                  <a:lnTo>
                    <a:pt x="1152" y="1296"/>
                  </a:lnTo>
                  <a:lnTo>
                    <a:pt x="1138" y="1300"/>
                  </a:lnTo>
                  <a:lnTo>
                    <a:pt x="1123" y="1301"/>
                  </a:lnTo>
                  <a:lnTo>
                    <a:pt x="1110" y="1303"/>
                  </a:lnTo>
                  <a:lnTo>
                    <a:pt x="1096" y="1305"/>
                  </a:lnTo>
                  <a:lnTo>
                    <a:pt x="1083" y="1307"/>
                  </a:lnTo>
                  <a:lnTo>
                    <a:pt x="1071" y="1309"/>
                  </a:lnTo>
                  <a:lnTo>
                    <a:pt x="1060" y="1311"/>
                  </a:lnTo>
                  <a:lnTo>
                    <a:pt x="1048" y="1311"/>
                  </a:lnTo>
                  <a:lnTo>
                    <a:pt x="1037" y="1313"/>
                  </a:lnTo>
                  <a:lnTo>
                    <a:pt x="1025" y="1313"/>
                  </a:lnTo>
                  <a:lnTo>
                    <a:pt x="1015" y="1313"/>
                  </a:lnTo>
                  <a:lnTo>
                    <a:pt x="1006" y="1313"/>
                  </a:lnTo>
                  <a:lnTo>
                    <a:pt x="998" y="1313"/>
                  </a:lnTo>
                  <a:lnTo>
                    <a:pt x="991" y="1313"/>
                  </a:lnTo>
                  <a:lnTo>
                    <a:pt x="991" y="1313"/>
                  </a:lnTo>
                  <a:lnTo>
                    <a:pt x="864" y="1313"/>
                  </a:lnTo>
                  <a:lnTo>
                    <a:pt x="729" y="1313"/>
                  </a:lnTo>
                  <a:lnTo>
                    <a:pt x="668" y="1313"/>
                  </a:lnTo>
                  <a:lnTo>
                    <a:pt x="668" y="1313"/>
                  </a:lnTo>
                  <a:lnTo>
                    <a:pt x="639" y="1313"/>
                  </a:lnTo>
                  <a:lnTo>
                    <a:pt x="612" y="1311"/>
                  </a:lnTo>
                  <a:lnTo>
                    <a:pt x="584" y="1309"/>
                  </a:lnTo>
                  <a:lnTo>
                    <a:pt x="557" y="1305"/>
                  </a:lnTo>
                  <a:lnTo>
                    <a:pt x="530" y="1300"/>
                  </a:lnTo>
                  <a:lnTo>
                    <a:pt x="503" y="1294"/>
                  </a:lnTo>
                  <a:lnTo>
                    <a:pt x="478" y="1286"/>
                  </a:lnTo>
                  <a:lnTo>
                    <a:pt x="451" y="1278"/>
                  </a:lnTo>
                  <a:lnTo>
                    <a:pt x="426" y="1269"/>
                  </a:lnTo>
                  <a:lnTo>
                    <a:pt x="401" y="1259"/>
                  </a:lnTo>
                  <a:lnTo>
                    <a:pt x="378" y="1248"/>
                  </a:lnTo>
                  <a:lnTo>
                    <a:pt x="353" y="1236"/>
                  </a:lnTo>
                  <a:lnTo>
                    <a:pt x="330" y="1223"/>
                  </a:lnTo>
                  <a:lnTo>
                    <a:pt x="307" y="1209"/>
                  </a:lnTo>
                  <a:lnTo>
                    <a:pt x="286" y="1194"/>
                  </a:lnTo>
                  <a:lnTo>
                    <a:pt x="265" y="1179"/>
                  </a:lnTo>
                  <a:lnTo>
                    <a:pt x="244" y="1163"/>
                  </a:lnTo>
                  <a:lnTo>
                    <a:pt x="225" y="1146"/>
                  </a:lnTo>
                  <a:lnTo>
                    <a:pt x="205" y="1127"/>
                  </a:lnTo>
                  <a:lnTo>
                    <a:pt x="186" y="1110"/>
                  </a:lnTo>
                  <a:lnTo>
                    <a:pt x="169" y="1090"/>
                  </a:lnTo>
                  <a:lnTo>
                    <a:pt x="152" y="1069"/>
                  </a:lnTo>
                  <a:lnTo>
                    <a:pt x="134" y="1048"/>
                  </a:lnTo>
                  <a:lnTo>
                    <a:pt x="119" y="1027"/>
                  </a:lnTo>
                  <a:lnTo>
                    <a:pt x="104" y="1006"/>
                  </a:lnTo>
                  <a:lnTo>
                    <a:pt x="90" y="983"/>
                  </a:lnTo>
                  <a:lnTo>
                    <a:pt x="79" y="960"/>
                  </a:lnTo>
                  <a:lnTo>
                    <a:pt x="65" y="937"/>
                  </a:lnTo>
                  <a:lnTo>
                    <a:pt x="54" y="912"/>
                  </a:lnTo>
                  <a:lnTo>
                    <a:pt x="44" y="887"/>
                  </a:lnTo>
                  <a:lnTo>
                    <a:pt x="35" y="862"/>
                  </a:lnTo>
                  <a:lnTo>
                    <a:pt x="27" y="837"/>
                  </a:lnTo>
                  <a:lnTo>
                    <a:pt x="19" y="810"/>
                  </a:lnTo>
                  <a:lnTo>
                    <a:pt x="13" y="783"/>
                  </a:lnTo>
                  <a:lnTo>
                    <a:pt x="8" y="756"/>
                  </a:lnTo>
                  <a:lnTo>
                    <a:pt x="4" y="729"/>
                  </a:lnTo>
                  <a:lnTo>
                    <a:pt x="2" y="703"/>
                  </a:lnTo>
                  <a:lnTo>
                    <a:pt x="0" y="674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0" y="622"/>
                  </a:lnTo>
                  <a:lnTo>
                    <a:pt x="2" y="599"/>
                  </a:lnTo>
                  <a:lnTo>
                    <a:pt x="4" y="574"/>
                  </a:lnTo>
                  <a:lnTo>
                    <a:pt x="6" y="551"/>
                  </a:lnTo>
                  <a:lnTo>
                    <a:pt x="10" y="528"/>
                  </a:lnTo>
                  <a:lnTo>
                    <a:pt x="13" y="507"/>
                  </a:lnTo>
                  <a:lnTo>
                    <a:pt x="19" y="484"/>
                  </a:lnTo>
                  <a:lnTo>
                    <a:pt x="25" y="461"/>
                  </a:lnTo>
                  <a:lnTo>
                    <a:pt x="33" y="440"/>
                  </a:lnTo>
                  <a:lnTo>
                    <a:pt x="40" y="418"/>
                  </a:lnTo>
                  <a:lnTo>
                    <a:pt x="48" y="397"/>
                  </a:lnTo>
                  <a:lnTo>
                    <a:pt x="56" y="376"/>
                  </a:lnTo>
                  <a:lnTo>
                    <a:pt x="65" y="357"/>
                  </a:lnTo>
                  <a:lnTo>
                    <a:pt x="77" y="336"/>
                  </a:lnTo>
                  <a:lnTo>
                    <a:pt x="86" y="317"/>
                  </a:lnTo>
                  <a:lnTo>
                    <a:pt x="98" y="298"/>
                  </a:lnTo>
                  <a:lnTo>
                    <a:pt x="109" y="278"/>
                  </a:lnTo>
                  <a:lnTo>
                    <a:pt x="123" y="261"/>
                  </a:lnTo>
                  <a:lnTo>
                    <a:pt x="136" y="242"/>
                  </a:lnTo>
                  <a:lnTo>
                    <a:pt x="150" y="225"/>
                  </a:lnTo>
                  <a:lnTo>
                    <a:pt x="165" y="209"/>
                  </a:lnTo>
                  <a:lnTo>
                    <a:pt x="179" y="192"/>
                  </a:lnTo>
                  <a:lnTo>
                    <a:pt x="194" y="177"/>
                  </a:lnTo>
                  <a:lnTo>
                    <a:pt x="211" y="161"/>
                  </a:lnTo>
                  <a:lnTo>
                    <a:pt x="227" y="146"/>
                  </a:lnTo>
                  <a:lnTo>
                    <a:pt x="244" y="131"/>
                  </a:lnTo>
                  <a:lnTo>
                    <a:pt x="261" y="117"/>
                  </a:lnTo>
                  <a:lnTo>
                    <a:pt x="280" y="104"/>
                  </a:lnTo>
                  <a:lnTo>
                    <a:pt x="298" y="92"/>
                  </a:lnTo>
                  <a:lnTo>
                    <a:pt x="317" y="81"/>
                  </a:lnTo>
                  <a:lnTo>
                    <a:pt x="336" y="69"/>
                  </a:lnTo>
                  <a:lnTo>
                    <a:pt x="355" y="58"/>
                  </a:lnTo>
                  <a:lnTo>
                    <a:pt x="374" y="48"/>
                  </a:lnTo>
                  <a:lnTo>
                    <a:pt x="395" y="38"/>
                  </a:lnTo>
                  <a:lnTo>
                    <a:pt x="417" y="29"/>
                  </a:lnTo>
                  <a:lnTo>
                    <a:pt x="438" y="21"/>
                  </a:lnTo>
                  <a:lnTo>
                    <a:pt x="459" y="13"/>
                  </a:lnTo>
                  <a:lnTo>
                    <a:pt x="480" y="6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07" y="10"/>
                  </a:lnTo>
                  <a:lnTo>
                    <a:pt x="511" y="17"/>
                  </a:lnTo>
                  <a:lnTo>
                    <a:pt x="511" y="27"/>
                  </a:lnTo>
                  <a:lnTo>
                    <a:pt x="511" y="37"/>
                  </a:lnTo>
                  <a:lnTo>
                    <a:pt x="507" y="44"/>
                  </a:lnTo>
                  <a:lnTo>
                    <a:pt x="505" y="52"/>
                  </a:lnTo>
                  <a:lnTo>
                    <a:pt x="499" y="61"/>
                  </a:lnTo>
                  <a:lnTo>
                    <a:pt x="493" y="69"/>
                  </a:lnTo>
                  <a:lnTo>
                    <a:pt x="486" y="75"/>
                  </a:lnTo>
                  <a:lnTo>
                    <a:pt x="478" y="83"/>
                  </a:lnTo>
                  <a:lnTo>
                    <a:pt x="468" y="88"/>
                  </a:lnTo>
                  <a:lnTo>
                    <a:pt x="461" y="94"/>
                  </a:lnTo>
                  <a:lnTo>
                    <a:pt x="449" y="98"/>
                  </a:lnTo>
                  <a:lnTo>
                    <a:pt x="449" y="98"/>
                  </a:lnTo>
                  <a:lnTo>
                    <a:pt x="434" y="106"/>
                  </a:lnTo>
                  <a:lnTo>
                    <a:pt x="418" y="113"/>
                  </a:lnTo>
                  <a:lnTo>
                    <a:pt x="403" y="123"/>
                  </a:lnTo>
                  <a:lnTo>
                    <a:pt x="388" y="131"/>
                  </a:lnTo>
                  <a:lnTo>
                    <a:pt x="372" y="140"/>
                  </a:lnTo>
                  <a:lnTo>
                    <a:pt x="357" y="150"/>
                  </a:lnTo>
                  <a:lnTo>
                    <a:pt x="344" y="159"/>
                  </a:lnTo>
                  <a:lnTo>
                    <a:pt x="330" y="171"/>
                  </a:lnTo>
                  <a:lnTo>
                    <a:pt x="315" y="180"/>
                  </a:lnTo>
                  <a:lnTo>
                    <a:pt x="301" y="192"/>
                  </a:lnTo>
                  <a:lnTo>
                    <a:pt x="288" y="204"/>
                  </a:lnTo>
                  <a:lnTo>
                    <a:pt x="276" y="215"/>
                  </a:lnTo>
                  <a:lnTo>
                    <a:pt x="263" y="228"/>
                  </a:lnTo>
                  <a:lnTo>
                    <a:pt x="251" y="240"/>
                  </a:lnTo>
                  <a:lnTo>
                    <a:pt x="240" y="253"/>
                  </a:lnTo>
                  <a:lnTo>
                    <a:pt x="228" y="267"/>
                  </a:lnTo>
                  <a:lnTo>
                    <a:pt x="217" y="280"/>
                  </a:lnTo>
                  <a:lnTo>
                    <a:pt x="207" y="294"/>
                  </a:lnTo>
                  <a:lnTo>
                    <a:pt x="198" y="309"/>
                  </a:lnTo>
                  <a:lnTo>
                    <a:pt x="186" y="323"/>
                  </a:lnTo>
                  <a:lnTo>
                    <a:pt x="179" y="338"/>
                  </a:lnTo>
                  <a:lnTo>
                    <a:pt x="169" y="353"/>
                  </a:lnTo>
                  <a:lnTo>
                    <a:pt x="161" y="369"/>
                  </a:lnTo>
                  <a:lnTo>
                    <a:pt x="152" y="384"/>
                  </a:lnTo>
                  <a:lnTo>
                    <a:pt x="144" y="399"/>
                  </a:lnTo>
                  <a:lnTo>
                    <a:pt x="138" y="417"/>
                  </a:lnTo>
                  <a:lnTo>
                    <a:pt x="131" y="432"/>
                  </a:lnTo>
                  <a:lnTo>
                    <a:pt x="125" y="449"/>
                  </a:lnTo>
                  <a:lnTo>
                    <a:pt x="119" y="466"/>
                  </a:lnTo>
                  <a:lnTo>
                    <a:pt x="113" y="484"/>
                  </a:lnTo>
                  <a:lnTo>
                    <a:pt x="109" y="501"/>
                  </a:lnTo>
                  <a:lnTo>
                    <a:pt x="106" y="518"/>
                  </a:lnTo>
                  <a:lnTo>
                    <a:pt x="102" y="536"/>
                  </a:lnTo>
                  <a:lnTo>
                    <a:pt x="98" y="555"/>
                  </a:lnTo>
                  <a:lnTo>
                    <a:pt x="96" y="572"/>
                  </a:lnTo>
                  <a:lnTo>
                    <a:pt x="94" y="591"/>
                  </a:lnTo>
                  <a:lnTo>
                    <a:pt x="92" y="609"/>
                  </a:lnTo>
                  <a:lnTo>
                    <a:pt x="92" y="628"/>
                  </a:lnTo>
                  <a:lnTo>
                    <a:pt x="92" y="647"/>
                  </a:lnTo>
                  <a:lnTo>
                    <a:pt x="92" y="647"/>
                  </a:lnTo>
                  <a:lnTo>
                    <a:pt x="92" y="672"/>
                  </a:lnTo>
                  <a:lnTo>
                    <a:pt x="94" y="697"/>
                  </a:lnTo>
                  <a:lnTo>
                    <a:pt x="96" y="722"/>
                  </a:lnTo>
                  <a:lnTo>
                    <a:pt x="100" y="745"/>
                  </a:lnTo>
                  <a:lnTo>
                    <a:pt x="104" y="770"/>
                  </a:lnTo>
                  <a:lnTo>
                    <a:pt x="109" y="793"/>
                  </a:lnTo>
                  <a:lnTo>
                    <a:pt x="115" y="816"/>
                  </a:lnTo>
                  <a:lnTo>
                    <a:pt x="123" y="839"/>
                  </a:lnTo>
                  <a:lnTo>
                    <a:pt x="131" y="862"/>
                  </a:lnTo>
                  <a:lnTo>
                    <a:pt x="140" y="885"/>
                  </a:lnTo>
                  <a:lnTo>
                    <a:pt x="150" y="906"/>
                  </a:lnTo>
                  <a:lnTo>
                    <a:pt x="161" y="927"/>
                  </a:lnTo>
                  <a:lnTo>
                    <a:pt x="173" y="948"/>
                  </a:lnTo>
                  <a:lnTo>
                    <a:pt x="184" y="967"/>
                  </a:lnTo>
                  <a:lnTo>
                    <a:pt x="198" y="987"/>
                  </a:lnTo>
                  <a:lnTo>
                    <a:pt x="211" y="1006"/>
                  </a:lnTo>
                  <a:lnTo>
                    <a:pt x="227" y="1025"/>
                  </a:lnTo>
                  <a:lnTo>
                    <a:pt x="242" y="1042"/>
                  </a:lnTo>
                  <a:lnTo>
                    <a:pt x="257" y="1060"/>
                  </a:lnTo>
                  <a:lnTo>
                    <a:pt x="275" y="1077"/>
                  </a:lnTo>
                  <a:lnTo>
                    <a:pt x="292" y="1092"/>
                  </a:lnTo>
                  <a:lnTo>
                    <a:pt x="309" y="1108"/>
                  </a:lnTo>
                  <a:lnTo>
                    <a:pt x="328" y="1123"/>
                  </a:lnTo>
                  <a:lnTo>
                    <a:pt x="347" y="1136"/>
                  </a:lnTo>
                  <a:lnTo>
                    <a:pt x="367" y="1150"/>
                  </a:lnTo>
                  <a:lnTo>
                    <a:pt x="386" y="1161"/>
                  </a:lnTo>
                  <a:lnTo>
                    <a:pt x="407" y="1173"/>
                  </a:lnTo>
                  <a:lnTo>
                    <a:pt x="428" y="1184"/>
                  </a:lnTo>
                  <a:lnTo>
                    <a:pt x="449" y="1194"/>
                  </a:lnTo>
                  <a:lnTo>
                    <a:pt x="472" y="1202"/>
                  </a:lnTo>
                  <a:lnTo>
                    <a:pt x="495" y="1211"/>
                  </a:lnTo>
                  <a:lnTo>
                    <a:pt x="518" y="1219"/>
                  </a:lnTo>
                  <a:lnTo>
                    <a:pt x="541" y="1225"/>
                  </a:lnTo>
                  <a:lnTo>
                    <a:pt x="564" y="1230"/>
                  </a:lnTo>
                  <a:lnTo>
                    <a:pt x="589" y="1234"/>
                  </a:lnTo>
                  <a:lnTo>
                    <a:pt x="612" y="1238"/>
                  </a:lnTo>
                  <a:lnTo>
                    <a:pt x="637" y="1240"/>
                  </a:lnTo>
                  <a:lnTo>
                    <a:pt x="662" y="1242"/>
                  </a:lnTo>
                  <a:lnTo>
                    <a:pt x="687" y="1242"/>
                  </a:lnTo>
                  <a:lnTo>
                    <a:pt x="687" y="1242"/>
                  </a:lnTo>
                  <a:lnTo>
                    <a:pt x="743" y="1242"/>
                  </a:lnTo>
                  <a:lnTo>
                    <a:pt x="862" y="1242"/>
                  </a:lnTo>
                  <a:lnTo>
                    <a:pt x="975" y="1242"/>
                  </a:lnTo>
                  <a:lnTo>
                    <a:pt x="975" y="1242"/>
                  </a:lnTo>
                  <a:lnTo>
                    <a:pt x="1042" y="1238"/>
                  </a:lnTo>
                  <a:lnTo>
                    <a:pt x="1138" y="1223"/>
                  </a:lnTo>
                  <a:lnTo>
                    <a:pt x="1248" y="1192"/>
                  </a:lnTo>
                  <a:lnTo>
                    <a:pt x="1357" y="1138"/>
                  </a:lnTo>
                  <a:lnTo>
                    <a:pt x="1455" y="1058"/>
                  </a:lnTo>
                  <a:lnTo>
                    <a:pt x="1455" y="1058"/>
                  </a:lnTo>
                  <a:lnTo>
                    <a:pt x="1465" y="1046"/>
                  </a:lnTo>
                  <a:lnTo>
                    <a:pt x="1476" y="1035"/>
                  </a:lnTo>
                  <a:lnTo>
                    <a:pt x="1486" y="1025"/>
                  </a:lnTo>
                  <a:lnTo>
                    <a:pt x="1493" y="1014"/>
                  </a:lnTo>
                  <a:lnTo>
                    <a:pt x="1503" y="1004"/>
                  </a:lnTo>
                  <a:lnTo>
                    <a:pt x="1511" y="992"/>
                  </a:lnTo>
                  <a:lnTo>
                    <a:pt x="1520" y="983"/>
                  </a:lnTo>
                  <a:lnTo>
                    <a:pt x="1528" y="973"/>
                  </a:lnTo>
                  <a:lnTo>
                    <a:pt x="1536" y="962"/>
                  </a:lnTo>
                  <a:lnTo>
                    <a:pt x="1543" y="952"/>
                  </a:lnTo>
                  <a:lnTo>
                    <a:pt x="1549" y="943"/>
                  </a:lnTo>
                  <a:lnTo>
                    <a:pt x="1557" y="933"/>
                  </a:lnTo>
                  <a:lnTo>
                    <a:pt x="1563" y="923"/>
                  </a:lnTo>
                  <a:lnTo>
                    <a:pt x="1570" y="914"/>
                  </a:lnTo>
                  <a:lnTo>
                    <a:pt x="1576" y="904"/>
                  </a:lnTo>
                  <a:lnTo>
                    <a:pt x="1582" y="896"/>
                  </a:lnTo>
                  <a:lnTo>
                    <a:pt x="1588" y="887"/>
                  </a:lnTo>
                  <a:lnTo>
                    <a:pt x="1593" y="877"/>
                  </a:lnTo>
                  <a:lnTo>
                    <a:pt x="1597" y="870"/>
                  </a:lnTo>
                  <a:lnTo>
                    <a:pt x="1603" y="862"/>
                  </a:lnTo>
                  <a:lnTo>
                    <a:pt x="1607" y="852"/>
                  </a:lnTo>
                  <a:lnTo>
                    <a:pt x="1613" y="845"/>
                  </a:lnTo>
                  <a:lnTo>
                    <a:pt x="1616" y="837"/>
                  </a:lnTo>
                  <a:lnTo>
                    <a:pt x="1620" y="829"/>
                  </a:lnTo>
                  <a:lnTo>
                    <a:pt x="1624" y="822"/>
                  </a:lnTo>
                  <a:lnTo>
                    <a:pt x="1628" y="814"/>
                  </a:lnTo>
                  <a:lnTo>
                    <a:pt x="1632" y="806"/>
                  </a:lnTo>
                  <a:lnTo>
                    <a:pt x="1636" y="799"/>
                  </a:lnTo>
                  <a:lnTo>
                    <a:pt x="1639" y="791"/>
                  </a:lnTo>
                  <a:lnTo>
                    <a:pt x="1643" y="785"/>
                  </a:lnTo>
                  <a:lnTo>
                    <a:pt x="1645" y="777"/>
                  </a:lnTo>
                  <a:lnTo>
                    <a:pt x="1649" y="772"/>
                  </a:lnTo>
                  <a:lnTo>
                    <a:pt x="1651" y="764"/>
                  </a:lnTo>
                  <a:lnTo>
                    <a:pt x="1655" y="758"/>
                  </a:lnTo>
                  <a:lnTo>
                    <a:pt x="1657" y="752"/>
                  </a:lnTo>
                  <a:lnTo>
                    <a:pt x="1660" y="747"/>
                  </a:lnTo>
                  <a:lnTo>
                    <a:pt x="1662" y="741"/>
                  </a:lnTo>
                  <a:lnTo>
                    <a:pt x="1664" y="735"/>
                  </a:lnTo>
                  <a:lnTo>
                    <a:pt x="1666" y="729"/>
                  </a:lnTo>
                  <a:lnTo>
                    <a:pt x="1666" y="729"/>
                  </a:lnTo>
                  <a:lnTo>
                    <a:pt x="1662" y="747"/>
                  </a:lnTo>
                  <a:lnTo>
                    <a:pt x="1657" y="766"/>
                  </a:lnTo>
                  <a:lnTo>
                    <a:pt x="1653" y="781"/>
                  </a:lnTo>
                  <a:lnTo>
                    <a:pt x="1647" y="799"/>
                  </a:lnTo>
                  <a:lnTo>
                    <a:pt x="1641" y="816"/>
                  </a:lnTo>
                  <a:lnTo>
                    <a:pt x="1634" y="833"/>
                  </a:lnTo>
                  <a:lnTo>
                    <a:pt x="1628" y="848"/>
                  </a:lnTo>
                  <a:lnTo>
                    <a:pt x="1622" y="864"/>
                  </a:lnTo>
                  <a:lnTo>
                    <a:pt x="1614" y="879"/>
                  </a:lnTo>
                  <a:lnTo>
                    <a:pt x="1607" y="895"/>
                  </a:lnTo>
                  <a:lnTo>
                    <a:pt x="1601" y="910"/>
                  </a:lnTo>
                  <a:lnTo>
                    <a:pt x="1593" y="925"/>
                  </a:lnTo>
                  <a:lnTo>
                    <a:pt x="1586" y="939"/>
                  </a:lnTo>
                  <a:lnTo>
                    <a:pt x="1578" y="954"/>
                  </a:lnTo>
                  <a:lnTo>
                    <a:pt x="1570" y="967"/>
                  </a:lnTo>
                  <a:lnTo>
                    <a:pt x="1563" y="981"/>
                  </a:lnTo>
                  <a:lnTo>
                    <a:pt x="1555" y="994"/>
                  </a:lnTo>
                  <a:lnTo>
                    <a:pt x="1547" y="1006"/>
                  </a:lnTo>
                  <a:lnTo>
                    <a:pt x="1540" y="1019"/>
                  </a:lnTo>
                  <a:lnTo>
                    <a:pt x="1532" y="1031"/>
                  </a:lnTo>
                  <a:lnTo>
                    <a:pt x="1524" y="1042"/>
                  </a:lnTo>
                  <a:lnTo>
                    <a:pt x="1517" y="1054"/>
                  </a:lnTo>
                  <a:lnTo>
                    <a:pt x="1509" y="1065"/>
                  </a:lnTo>
                  <a:lnTo>
                    <a:pt x="1501" y="1077"/>
                  </a:lnTo>
                  <a:lnTo>
                    <a:pt x="1495" y="1086"/>
                  </a:lnTo>
                  <a:lnTo>
                    <a:pt x="1488" y="1096"/>
                  </a:lnTo>
                  <a:lnTo>
                    <a:pt x="1480" y="1106"/>
                  </a:lnTo>
                  <a:lnTo>
                    <a:pt x="1474" y="1115"/>
                  </a:lnTo>
                  <a:lnTo>
                    <a:pt x="1467" y="1123"/>
                  </a:lnTo>
                  <a:lnTo>
                    <a:pt x="1461" y="1133"/>
                  </a:lnTo>
                  <a:lnTo>
                    <a:pt x="1455" y="1140"/>
                  </a:lnTo>
                  <a:lnTo>
                    <a:pt x="1449" y="1148"/>
                  </a:lnTo>
                  <a:lnTo>
                    <a:pt x="1444" y="1154"/>
                  </a:lnTo>
                  <a:lnTo>
                    <a:pt x="1438" y="1161"/>
                  </a:lnTo>
                  <a:lnTo>
                    <a:pt x="1432" y="1167"/>
                  </a:lnTo>
                  <a:lnTo>
                    <a:pt x="1428" y="1173"/>
                  </a:lnTo>
                  <a:lnTo>
                    <a:pt x="1424" y="1179"/>
                  </a:lnTo>
                  <a:lnTo>
                    <a:pt x="1421" y="1182"/>
                  </a:lnTo>
                  <a:lnTo>
                    <a:pt x="1417" y="1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CAT6" descr=""/>
          <p:cNvPicPr/>
          <p:nvPr/>
        </p:nvPicPr>
        <p:blipFill>
          <a:blip r:embed="rId1"/>
          <a:stretch/>
        </p:blipFill>
        <p:spPr>
          <a:xfrm>
            <a:off x="3260880" y="3071880"/>
            <a:ext cx="262080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ACCENT12" descr=""/>
          <p:cNvPicPr/>
          <p:nvPr/>
        </p:nvPicPr>
        <p:blipFill>
          <a:blip r:embed="rId1"/>
          <a:stretch/>
        </p:blipFill>
        <p:spPr>
          <a:xfrm>
            <a:off x="3681360" y="2917800"/>
            <a:ext cx="17812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3100320" y="3314880"/>
            <a:ext cx="2941560" cy="990360"/>
            <a:chOff x="3100320" y="3314880"/>
            <a:chExt cx="2941560" cy="990360"/>
          </a:xfrm>
        </p:grpSpPr>
        <p:sp>
          <p:nvSpPr>
            <p:cNvPr id="640" name=""/>
            <p:cNvSpPr/>
            <p:nvPr/>
          </p:nvSpPr>
          <p:spPr>
            <a:xfrm>
              <a:off x="3100320" y="3314880"/>
              <a:ext cx="2941560" cy="990360"/>
            </a:xfrm>
            <a:custGeom>
              <a:avLst/>
              <a:gdLst/>
              <a:ahLst/>
              <a:rect l="l" t="t" r="r" b="b"/>
              <a:pathLst>
                <a:path w="9266" h="3119">
                  <a:moveTo>
                    <a:pt x="2984" y="2630"/>
                  </a:moveTo>
                  <a:lnTo>
                    <a:pt x="2971" y="2629"/>
                  </a:lnTo>
                  <a:lnTo>
                    <a:pt x="2959" y="2623"/>
                  </a:lnTo>
                  <a:lnTo>
                    <a:pt x="2944" y="2604"/>
                  </a:lnTo>
                  <a:lnTo>
                    <a:pt x="2937" y="2573"/>
                  </a:lnTo>
                  <a:lnTo>
                    <a:pt x="2936" y="2533"/>
                  </a:lnTo>
                  <a:lnTo>
                    <a:pt x="2795" y="2533"/>
                  </a:lnTo>
                  <a:lnTo>
                    <a:pt x="2785" y="2594"/>
                  </a:lnTo>
                  <a:lnTo>
                    <a:pt x="2771" y="2654"/>
                  </a:lnTo>
                  <a:lnTo>
                    <a:pt x="2751" y="2711"/>
                  </a:lnTo>
                  <a:lnTo>
                    <a:pt x="2727" y="2764"/>
                  </a:lnTo>
                  <a:lnTo>
                    <a:pt x="2697" y="2816"/>
                  </a:lnTo>
                  <a:lnTo>
                    <a:pt x="2663" y="2864"/>
                  </a:lnTo>
                  <a:lnTo>
                    <a:pt x="2625" y="2909"/>
                  </a:lnTo>
                  <a:lnTo>
                    <a:pt x="2583" y="2951"/>
                  </a:lnTo>
                  <a:lnTo>
                    <a:pt x="2538" y="2989"/>
                  </a:lnTo>
                  <a:lnTo>
                    <a:pt x="2489" y="3022"/>
                  </a:lnTo>
                  <a:lnTo>
                    <a:pt x="2438" y="3050"/>
                  </a:lnTo>
                  <a:lnTo>
                    <a:pt x="2383" y="3074"/>
                  </a:lnTo>
                  <a:lnTo>
                    <a:pt x="2328" y="3093"/>
                  </a:lnTo>
                  <a:lnTo>
                    <a:pt x="2268" y="3107"/>
                  </a:lnTo>
                  <a:lnTo>
                    <a:pt x="2207" y="3117"/>
                  </a:lnTo>
                  <a:lnTo>
                    <a:pt x="2146" y="3119"/>
                  </a:lnTo>
                  <a:lnTo>
                    <a:pt x="2084" y="3117"/>
                  </a:lnTo>
                  <a:lnTo>
                    <a:pt x="2023" y="3107"/>
                  </a:lnTo>
                  <a:lnTo>
                    <a:pt x="1965" y="3093"/>
                  </a:lnTo>
                  <a:lnTo>
                    <a:pt x="1908" y="3074"/>
                  </a:lnTo>
                  <a:lnTo>
                    <a:pt x="1854" y="3050"/>
                  </a:lnTo>
                  <a:lnTo>
                    <a:pt x="1802" y="3022"/>
                  </a:lnTo>
                  <a:lnTo>
                    <a:pt x="1755" y="2989"/>
                  </a:lnTo>
                  <a:lnTo>
                    <a:pt x="1709" y="2951"/>
                  </a:lnTo>
                  <a:lnTo>
                    <a:pt x="1668" y="2909"/>
                  </a:lnTo>
                  <a:lnTo>
                    <a:pt x="1630" y="2864"/>
                  </a:lnTo>
                  <a:lnTo>
                    <a:pt x="1595" y="2816"/>
                  </a:lnTo>
                  <a:lnTo>
                    <a:pt x="1566" y="2764"/>
                  </a:lnTo>
                  <a:lnTo>
                    <a:pt x="1542" y="2711"/>
                  </a:lnTo>
                  <a:lnTo>
                    <a:pt x="1522" y="2654"/>
                  </a:lnTo>
                  <a:lnTo>
                    <a:pt x="1507" y="2594"/>
                  </a:lnTo>
                  <a:lnTo>
                    <a:pt x="1498" y="2533"/>
                  </a:lnTo>
                  <a:lnTo>
                    <a:pt x="1354" y="2533"/>
                  </a:lnTo>
                  <a:lnTo>
                    <a:pt x="1350" y="2567"/>
                  </a:lnTo>
                  <a:lnTo>
                    <a:pt x="1343" y="2592"/>
                  </a:lnTo>
                  <a:lnTo>
                    <a:pt x="1329" y="2606"/>
                  </a:lnTo>
                  <a:lnTo>
                    <a:pt x="1304" y="2610"/>
                  </a:lnTo>
                  <a:lnTo>
                    <a:pt x="447" y="2537"/>
                  </a:lnTo>
                  <a:lnTo>
                    <a:pt x="430" y="2488"/>
                  </a:lnTo>
                  <a:lnTo>
                    <a:pt x="108" y="2450"/>
                  </a:lnTo>
                  <a:lnTo>
                    <a:pt x="87" y="2444"/>
                  </a:lnTo>
                  <a:lnTo>
                    <a:pt x="68" y="2431"/>
                  </a:lnTo>
                  <a:lnTo>
                    <a:pt x="54" y="2413"/>
                  </a:lnTo>
                  <a:lnTo>
                    <a:pt x="44" y="2391"/>
                  </a:lnTo>
                  <a:lnTo>
                    <a:pt x="3" y="2211"/>
                  </a:lnTo>
                  <a:lnTo>
                    <a:pt x="0" y="2193"/>
                  </a:lnTo>
                  <a:lnTo>
                    <a:pt x="3" y="2178"/>
                  </a:lnTo>
                  <a:lnTo>
                    <a:pt x="17" y="2148"/>
                  </a:lnTo>
                  <a:lnTo>
                    <a:pt x="29" y="2136"/>
                  </a:lnTo>
                  <a:lnTo>
                    <a:pt x="42" y="2128"/>
                  </a:lnTo>
                  <a:lnTo>
                    <a:pt x="58" y="2122"/>
                  </a:lnTo>
                  <a:lnTo>
                    <a:pt x="75" y="2120"/>
                  </a:lnTo>
                  <a:lnTo>
                    <a:pt x="226" y="2120"/>
                  </a:lnTo>
                  <a:lnTo>
                    <a:pt x="183" y="1950"/>
                  </a:lnTo>
                  <a:lnTo>
                    <a:pt x="133" y="1950"/>
                  </a:lnTo>
                  <a:lnTo>
                    <a:pt x="169" y="1312"/>
                  </a:lnTo>
                  <a:lnTo>
                    <a:pt x="219" y="1312"/>
                  </a:lnTo>
                  <a:lnTo>
                    <a:pt x="222" y="1274"/>
                  </a:lnTo>
                  <a:lnTo>
                    <a:pt x="232" y="1239"/>
                  </a:lnTo>
                  <a:lnTo>
                    <a:pt x="249" y="1206"/>
                  </a:lnTo>
                  <a:lnTo>
                    <a:pt x="270" y="1178"/>
                  </a:lnTo>
                  <a:lnTo>
                    <a:pt x="296" y="1153"/>
                  </a:lnTo>
                  <a:lnTo>
                    <a:pt x="327" y="1134"/>
                  </a:lnTo>
                  <a:lnTo>
                    <a:pt x="360" y="1120"/>
                  </a:lnTo>
                  <a:lnTo>
                    <a:pt x="397" y="1113"/>
                  </a:lnTo>
                  <a:lnTo>
                    <a:pt x="875" y="1059"/>
                  </a:lnTo>
                  <a:lnTo>
                    <a:pt x="945" y="1049"/>
                  </a:lnTo>
                  <a:lnTo>
                    <a:pt x="1015" y="1031"/>
                  </a:lnTo>
                  <a:lnTo>
                    <a:pt x="1082" y="1007"/>
                  </a:lnTo>
                  <a:lnTo>
                    <a:pt x="1146" y="978"/>
                  </a:lnTo>
                  <a:lnTo>
                    <a:pt x="1209" y="944"/>
                  </a:lnTo>
                  <a:lnTo>
                    <a:pt x="1267" y="905"/>
                  </a:lnTo>
                  <a:lnTo>
                    <a:pt x="1323" y="860"/>
                  </a:lnTo>
                  <a:lnTo>
                    <a:pt x="1374" y="810"/>
                  </a:lnTo>
                  <a:lnTo>
                    <a:pt x="1940" y="206"/>
                  </a:lnTo>
                  <a:lnTo>
                    <a:pt x="1960" y="189"/>
                  </a:lnTo>
                  <a:lnTo>
                    <a:pt x="1991" y="173"/>
                  </a:lnTo>
                  <a:lnTo>
                    <a:pt x="2079" y="144"/>
                  </a:lnTo>
                  <a:lnTo>
                    <a:pt x="2202" y="116"/>
                  </a:lnTo>
                  <a:lnTo>
                    <a:pt x="2357" y="93"/>
                  </a:lnTo>
                  <a:lnTo>
                    <a:pt x="2540" y="70"/>
                  </a:lnTo>
                  <a:lnTo>
                    <a:pt x="2748" y="50"/>
                  </a:lnTo>
                  <a:lnTo>
                    <a:pt x="2979" y="35"/>
                  </a:lnTo>
                  <a:lnTo>
                    <a:pt x="3229" y="20"/>
                  </a:lnTo>
                  <a:lnTo>
                    <a:pt x="3494" y="11"/>
                  </a:lnTo>
                  <a:lnTo>
                    <a:pt x="3771" y="4"/>
                  </a:lnTo>
                  <a:lnTo>
                    <a:pt x="4058" y="0"/>
                  </a:lnTo>
                  <a:lnTo>
                    <a:pt x="4352" y="1"/>
                  </a:lnTo>
                  <a:lnTo>
                    <a:pt x="4649" y="6"/>
                  </a:lnTo>
                  <a:lnTo>
                    <a:pt x="4945" y="14"/>
                  </a:lnTo>
                  <a:lnTo>
                    <a:pt x="5239" y="27"/>
                  </a:lnTo>
                  <a:lnTo>
                    <a:pt x="5526" y="44"/>
                  </a:lnTo>
                  <a:lnTo>
                    <a:pt x="5581" y="84"/>
                  </a:lnTo>
                  <a:lnTo>
                    <a:pt x="5526" y="158"/>
                  </a:lnTo>
                  <a:lnTo>
                    <a:pt x="6043" y="994"/>
                  </a:lnTo>
                  <a:lnTo>
                    <a:pt x="6462" y="894"/>
                  </a:lnTo>
                  <a:lnTo>
                    <a:pt x="8514" y="1062"/>
                  </a:lnTo>
                  <a:lnTo>
                    <a:pt x="8637" y="1077"/>
                  </a:lnTo>
                  <a:lnTo>
                    <a:pt x="8737" y="1098"/>
                  </a:lnTo>
                  <a:lnTo>
                    <a:pt x="8814" y="1125"/>
                  </a:lnTo>
                  <a:lnTo>
                    <a:pt x="8870" y="1153"/>
                  </a:lnTo>
                  <a:lnTo>
                    <a:pt x="8905" y="1180"/>
                  </a:lnTo>
                  <a:lnTo>
                    <a:pt x="8923" y="1206"/>
                  </a:lnTo>
                  <a:lnTo>
                    <a:pt x="8926" y="1218"/>
                  </a:lnTo>
                  <a:lnTo>
                    <a:pt x="8923" y="1228"/>
                  </a:lnTo>
                  <a:lnTo>
                    <a:pt x="8907" y="1243"/>
                  </a:lnTo>
                  <a:lnTo>
                    <a:pt x="9037" y="1780"/>
                  </a:lnTo>
                  <a:lnTo>
                    <a:pt x="9047" y="1833"/>
                  </a:lnTo>
                  <a:lnTo>
                    <a:pt x="9048" y="1875"/>
                  </a:lnTo>
                  <a:lnTo>
                    <a:pt x="9045" y="1911"/>
                  </a:lnTo>
                  <a:lnTo>
                    <a:pt x="9036" y="1944"/>
                  </a:lnTo>
                  <a:lnTo>
                    <a:pt x="9017" y="2019"/>
                  </a:lnTo>
                  <a:lnTo>
                    <a:pt x="9009" y="2067"/>
                  </a:lnTo>
                  <a:lnTo>
                    <a:pt x="9007" y="2130"/>
                  </a:lnTo>
                  <a:lnTo>
                    <a:pt x="9192" y="2130"/>
                  </a:lnTo>
                  <a:lnTo>
                    <a:pt x="9220" y="2136"/>
                  </a:lnTo>
                  <a:lnTo>
                    <a:pt x="9244" y="2152"/>
                  </a:lnTo>
                  <a:lnTo>
                    <a:pt x="9260" y="2175"/>
                  </a:lnTo>
                  <a:lnTo>
                    <a:pt x="9266" y="2204"/>
                  </a:lnTo>
                  <a:lnTo>
                    <a:pt x="9266" y="2394"/>
                  </a:lnTo>
                  <a:lnTo>
                    <a:pt x="9261" y="2421"/>
                  </a:lnTo>
                  <a:lnTo>
                    <a:pt x="9247" y="2444"/>
                  </a:lnTo>
                  <a:lnTo>
                    <a:pt x="9226" y="2459"/>
                  </a:lnTo>
                  <a:lnTo>
                    <a:pt x="9200" y="2467"/>
                  </a:lnTo>
                  <a:lnTo>
                    <a:pt x="8522" y="2542"/>
                  </a:lnTo>
                  <a:lnTo>
                    <a:pt x="8493" y="2543"/>
                  </a:lnTo>
                  <a:lnTo>
                    <a:pt x="8470" y="2540"/>
                  </a:lnTo>
                  <a:lnTo>
                    <a:pt x="8454" y="2533"/>
                  </a:lnTo>
                  <a:lnTo>
                    <a:pt x="8442" y="2521"/>
                  </a:lnTo>
                  <a:lnTo>
                    <a:pt x="8434" y="2505"/>
                  </a:lnTo>
                  <a:lnTo>
                    <a:pt x="8429" y="2486"/>
                  </a:lnTo>
                  <a:lnTo>
                    <a:pt x="8425" y="2438"/>
                  </a:lnTo>
                  <a:lnTo>
                    <a:pt x="8296" y="2438"/>
                  </a:lnTo>
                  <a:lnTo>
                    <a:pt x="8296" y="2507"/>
                  </a:lnTo>
                  <a:lnTo>
                    <a:pt x="8287" y="2574"/>
                  </a:lnTo>
                  <a:lnTo>
                    <a:pt x="8273" y="2638"/>
                  </a:lnTo>
                  <a:lnTo>
                    <a:pt x="8253" y="2701"/>
                  </a:lnTo>
                  <a:lnTo>
                    <a:pt x="8227" y="2761"/>
                  </a:lnTo>
                  <a:lnTo>
                    <a:pt x="8195" y="2816"/>
                  </a:lnTo>
                  <a:lnTo>
                    <a:pt x="8158" y="2869"/>
                  </a:lnTo>
                  <a:lnTo>
                    <a:pt x="8116" y="2917"/>
                  </a:lnTo>
                  <a:lnTo>
                    <a:pt x="8069" y="2963"/>
                  </a:lnTo>
                  <a:lnTo>
                    <a:pt x="8019" y="3002"/>
                  </a:lnTo>
                  <a:lnTo>
                    <a:pt x="7964" y="3036"/>
                  </a:lnTo>
                  <a:lnTo>
                    <a:pt x="7906" y="3065"/>
                  </a:lnTo>
                  <a:lnTo>
                    <a:pt x="7844" y="3088"/>
                  </a:lnTo>
                  <a:lnTo>
                    <a:pt x="7780" y="3105"/>
                  </a:lnTo>
                  <a:lnTo>
                    <a:pt x="7713" y="3116"/>
                  </a:lnTo>
                  <a:lnTo>
                    <a:pt x="7644" y="3119"/>
                  </a:lnTo>
                  <a:lnTo>
                    <a:pt x="7575" y="3116"/>
                  </a:lnTo>
                  <a:lnTo>
                    <a:pt x="7509" y="3105"/>
                  </a:lnTo>
                  <a:lnTo>
                    <a:pt x="7445" y="3088"/>
                  </a:lnTo>
                  <a:lnTo>
                    <a:pt x="7384" y="3065"/>
                  </a:lnTo>
                  <a:lnTo>
                    <a:pt x="7326" y="3036"/>
                  </a:lnTo>
                  <a:lnTo>
                    <a:pt x="7271" y="3002"/>
                  </a:lnTo>
                  <a:lnTo>
                    <a:pt x="7220" y="2961"/>
                  </a:lnTo>
                  <a:lnTo>
                    <a:pt x="7174" y="2917"/>
                  </a:lnTo>
                  <a:lnTo>
                    <a:pt x="7132" y="2869"/>
                  </a:lnTo>
                  <a:lnTo>
                    <a:pt x="7094" y="2816"/>
                  </a:lnTo>
                  <a:lnTo>
                    <a:pt x="7062" y="2759"/>
                  </a:lnTo>
                  <a:lnTo>
                    <a:pt x="7036" y="2700"/>
                  </a:lnTo>
                  <a:lnTo>
                    <a:pt x="7016" y="2638"/>
                  </a:lnTo>
                  <a:lnTo>
                    <a:pt x="7001" y="2573"/>
                  </a:lnTo>
                  <a:lnTo>
                    <a:pt x="6994" y="2507"/>
                  </a:lnTo>
                  <a:lnTo>
                    <a:pt x="6993" y="2438"/>
                  </a:lnTo>
                  <a:lnTo>
                    <a:pt x="6861" y="2438"/>
                  </a:lnTo>
                  <a:lnTo>
                    <a:pt x="6863" y="2511"/>
                  </a:lnTo>
                  <a:lnTo>
                    <a:pt x="6860" y="2573"/>
                  </a:lnTo>
                  <a:lnTo>
                    <a:pt x="6854" y="2597"/>
                  </a:lnTo>
                  <a:lnTo>
                    <a:pt x="6842" y="2615"/>
                  </a:lnTo>
                  <a:lnTo>
                    <a:pt x="6825" y="2627"/>
                  </a:lnTo>
                  <a:lnTo>
                    <a:pt x="6803" y="2630"/>
                  </a:lnTo>
                  <a:lnTo>
                    <a:pt x="2984" y="2630"/>
                  </a:lnTo>
                  <a:lnTo>
                    <a:pt x="3510" y="1062"/>
                  </a:lnTo>
                  <a:lnTo>
                    <a:pt x="1871" y="1043"/>
                  </a:lnTo>
                  <a:lnTo>
                    <a:pt x="1853" y="1040"/>
                  </a:lnTo>
                  <a:lnTo>
                    <a:pt x="1838" y="1033"/>
                  </a:lnTo>
                  <a:lnTo>
                    <a:pt x="1825" y="1021"/>
                  </a:lnTo>
                  <a:lnTo>
                    <a:pt x="1815" y="1007"/>
                  </a:lnTo>
                  <a:lnTo>
                    <a:pt x="1809" y="989"/>
                  </a:lnTo>
                  <a:lnTo>
                    <a:pt x="1809" y="973"/>
                  </a:lnTo>
                  <a:lnTo>
                    <a:pt x="1813" y="956"/>
                  </a:lnTo>
                  <a:lnTo>
                    <a:pt x="1822" y="940"/>
                  </a:lnTo>
                  <a:lnTo>
                    <a:pt x="2241" y="414"/>
                  </a:lnTo>
                  <a:lnTo>
                    <a:pt x="2280" y="371"/>
                  </a:lnTo>
                  <a:lnTo>
                    <a:pt x="2303" y="350"/>
                  </a:lnTo>
                  <a:lnTo>
                    <a:pt x="2331" y="331"/>
                  </a:lnTo>
                  <a:lnTo>
                    <a:pt x="2364" y="314"/>
                  </a:lnTo>
                  <a:lnTo>
                    <a:pt x="2405" y="297"/>
                  </a:lnTo>
                  <a:lnTo>
                    <a:pt x="2514" y="265"/>
                  </a:lnTo>
                  <a:lnTo>
                    <a:pt x="2584" y="251"/>
                  </a:lnTo>
                  <a:lnTo>
                    <a:pt x="2667" y="236"/>
                  </a:lnTo>
                  <a:lnTo>
                    <a:pt x="2878" y="211"/>
                  </a:lnTo>
                  <a:lnTo>
                    <a:pt x="3155" y="188"/>
                  </a:lnTo>
                  <a:lnTo>
                    <a:pt x="3510" y="166"/>
                  </a:lnTo>
                  <a:lnTo>
                    <a:pt x="3510" y="1062"/>
                  </a:lnTo>
                  <a:lnTo>
                    <a:pt x="2984" y="2630"/>
                  </a:lnTo>
                  <a:lnTo>
                    <a:pt x="3769" y="1064"/>
                  </a:lnTo>
                  <a:lnTo>
                    <a:pt x="3769" y="153"/>
                  </a:lnTo>
                  <a:lnTo>
                    <a:pt x="4234" y="132"/>
                  </a:lnTo>
                  <a:lnTo>
                    <a:pt x="4606" y="122"/>
                  </a:lnTo>
                  <a:lnTo>
                    <a:pt x="4895" y="124"/>
                  </a:lnTo>
                  <a:lnTo>
                    <a:pt x="5011" y="128"/>
                  </a:lnTo>
                  <a:lnTo>
                    <a:pt x="5113" y="137"/>
                  </a:lnTo>
                  <a:lnTo>
                    <a:pt x="5198" y="146"/>
                  </a:lnTo>
                  <a:lnTo>
                    <a:pt x="5271" y="158"/>
                  </a:lnTo>
                  <a:lnTo>
                    <a:pt x="5330" y="173"/>
                  </a:lnTo>
                  <a:lnTo>
                    <a:pt x="5379" y="191"/>
                  </a:lnTo>
                  <a:lnTo>
                    <a:pt x="5419" y="210"/>
                  </a:lnTo>
                  <a:lnTo>
                    <a:pt x="5450" y="233"/>
                  </a:lnTo>
                  <a:lnTo>
                    <a:pt x="5475" y="258"/>
                  </a:lnTo>
                  <a:lnTo>
                    <a:pt x="5494" y="284"/>
                  </a:lnTo>
                  <a:lnTo>
                    <a:pt x="5943" y="1007"/>
                  </a:lnTo>
                  <a:lnTo>
                    <a:pt x="5949" y="1021"/>
                  </a:lnTo>
                  <a:lnTo>
                    <a:pt x="5949" y="1035"/>
                  </a:lnTo>
                  <a:lnTo>
                    <a:pt x="5942" y="1049"/>
                  </a:lnTo>
                  <a:lnTo>
                    <a:pt x="5926" y="1062"/>
                  </a:lnTo>
                  <a:lnTo>
                    <a:pt x="5901" y="1071"/>
                  </a:lnTo>
                  <a:lnTo>
                    <a:pt x="5865" y="1079"/>
                  </a:lnTo>
                  <a:lnTo>
                    <a:pt x="5760" y="1085"/>
                  </a:lnTo>
                  <a:lnTo>
                    <a:pt x="5697" y="1019"/>
                  </a:lnTo>
                  <a:lnTo>
                    <a:pt x="5701" y="1021"/>
                  </a:lnTo>
                  <a:lnTo>
                    <a:pt x="5700" y="1020"/>
                  </a:lnTo>
                  <a:lnTo>
                    <a:pt x="5697" y="1019"/>
                  </a:lnTo>
                  <a:lnTo>
                    <a:pt x="5719" y="1012"/>
                  </a:lnTo>
                  <a:lnTo>
                    <a:pt x="5734" y="1003"/>
                  </a:lnTo>
                  <a:lnTo>
                    <a:pt x="5742" y="993"/>
                  </a:lnTo>
                  <a:lnTo>
                    <a:pt x="5746" y="981"/>
                  </a:lnTo>
                  <a:lnTo>
                    <a:pt x="5745" y="969"/>
                  </a:lnTo>
                  <a:lnTo>
                    <a:pt x="5738" y="956"/>
                  </a:lnTo>
                  <a:lnTo>
                    <a:pt x="5712" y="930"/>
                  </a:lnTo>
                  <a:lnTo>
                    <a:pt x="5669" y="906"/>
                  </a:lnTo>
                  <a:lnTo>
                    <a:pt x="5614" y="885"/>
                  </a:lnTo>
                  <a:lnTo>
                    <a:pt x="5549" y="870"/>
                  </a:lnTo>
                  <a:lnTo>
                    <a:pt x="5476" y="866"/>
                  </a:lnTo>
                  <a:lnTo>
                    <a:pt x="5540" y="1022"/>
                  </a:lnTo>
                  <a:lnTo>
                    <a:pt x="5573" y="1025"/>
                  </a:lnTo>
                  <a:lnTo>
                    <a:pt x="5596" y="1083"/>
                  </a:lnTo>
                  <a:lnTo>
                    <a:pt x="3769" y="1064"/>
                  </a:lnTo>
                  <a:lnTo>
                    <a:pt x="2984" y="2630"/>
                  </a:lnTo>
                  <a:close/>
                </a:path>
              </a:pathLst>
            </a:cu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00320" y="3314880"/>
              <a:ext cx="2941560" cy="990360"/>
            </a:xfrm>
            <a:custGeom>
              <a:avLst/>
              <a:gdLst/>
              <a:ahLst/>
              <a:rect l="l" t="t" r="r" b="b"/>
              <a:pathLst>
                <a:path w="9266" h="3119">
                  <a:moveTo>
                    <a:pt x="2984" y="2630"/>
                  </a:moveTo>
                  <a:lnTo>
                    <a:pt x="2971" y="2629"/>
                  </a:lnTo>
                  <a:lnTo>
                    <a:pt x="2959" y="2623"/>
                  </a:lnTo>
                  <a:lnTo>
                    <a:pt x="2944" y="2604"/>
                  </a:lnTo>
                  <a:lnTo>
                    <a:pt x="2937" y="2573"/>
                  </a:lnTo>
                  <a:lnTo>
                    <a:pt x="2936" y="2533"/>
                  </a:lnTo>
                  <a:lnTo>
                    <a:pt x="2795" y="2533"/>
                  </a:lnTo>
                  <a:lnTo>
                    <a:pt x="2785" y="2594"/>
                  </a:lnTo>
                  <a:lnTo>
                    <a:pt x="2771" y="2654"/>
                  </a:lnTo>
                  <a:lnTo>
                    <a:pt x="2751" y="2711"/>
                  </a:lnTo>
                  <a:lnTo>
                    <a:pt x="2727" y="2764"/>
                  </a:lnTo>
                  <a:lnTo>
                    <a:pt x="2697" y="2816"/>
                  </a:lnTo>
                  <a:lnTo>
                    <a:pt x="2663" y="2864"/>
                  </a:lnTo>
                  <a:lnTo>
                    <a:pt x="2625" y="2909"/>
                  </a:lnTo>
                  <a:lnTo>
                    <a:pt x="2583" y="2951"/>
                  </a:lnTo>
                  <a:lnTo>
                    <a:pt x="2538" y="2989"/>
                  </a:lnTo>
                  <a:lnTo>
                    <a:pt x="2489" y="3022"/>
                  </a:lnTo>
                  <a:lnTo>
                    <a:pt x="2438" y="3050"/>
                  </a:lnTo>
                  <a:lnTo>
                    <a:pt x="2383" y="3074"/>
                  </a:lnTo>
                  <a:lnTo>
                    <a:pt x="2328" y="3093"/>
                  </a:lnTo>
                  <a:lnTo>
                    <a:pt x="2268" y="3107"/>
                  </a:lnTo>
                  <a:lnTo>
                    <a:pt x="2207" y="3117"/>
                  </a:lnTo>
                  <a:lnTo>
                    <a:pt x="2146" y="3119"/>
                  </a:lnTo>
                  <a:lnTo>
                    <a:pt x="2084" y="3117"/>
                  </a:lnTo>
                  <a:lnTo>
                    <a:pt x="2023" y="3107"/>
                  </a:lnTo>
                  <a:lnTo>
                    <a:pt x="1965" y="3093"/>
                  </a:lnTo>
                  <a:lnTo>
                    <a:pt x="1908" y="3074"/>
                  </a:lnTo>
                  <a:lnTo>
                    <a:pt x="1854" y="3050"/>
                  </a:lnTo>
                  <a:lnTo>
                    <a:pt x="1802" y="3022"/>
                  </a:lnTo>
                  <a:lnTo>
                    <a:pt x="1755" y="2989"/>
                  </a:lnTo>
                  <a:lnTo>
                    <a:pt x="1709" y="2951"/>
                  </a:lnTo>
                  <a:lnTo>
                    <a:pt x="1668" y="2909"/>
                  </a:lnTo>
                  <a:lnTo>
                    <a:pt x="1630" y="2864"/>
                  </a:lnTo>
                  <a:lnTo>
                    <a:pt x="1595" y="2816"/>
                  </a:lnTo>
                  <a:lnTo>
                    <a:pt x="1566" y="2764"/>
                  </a:lnTo>
                  <a:lnTo>
                    <a:pt x="1542" y="2711"/>
                  </a:lnTo>
                  <a:lnTo>
                    <a:pt x="1522" y="2654"/>
                  </a:lnTo>
                  <a:lnTo>
                    <a:pt x="1507" y="2594"/>
                  </a:lnTo>
                  <a:lnTo>
                    <a:pt x="1498" y="2533"/>
                  </a:lnTo>
                  <a:lnTo>
                    <a:pt x="1354" y="2533"/>
                  </a:lnTo>
                  <a:lnTo>
                    <a:pt x="1350" y="2567"/>
                  </a:lnTo>
                  <a:lnTo>
                    <a:pt x="1343" y="2592"/>
                  </a:lnTo>
                  <a:lnTo>
                    <a:pt x="1329" y="2606"/>
                  </a:lnTo>
                  <a:lnTo>
                    <a:pt x="1304" y="2610"/>
                  </a:lnTo>
                  <a:lnTo>
                    <a:pt x="447" y="2537"/>
                  </a:lnTo>
                  <a:lnTo>
                    <a:pt x="430" y="2488"/>
                  </a:lnTo>
                  <a:lnTo>
                    <a:pt x="108" y="2450"/>
                  </a:lnTo>
                  <a:lnTo>
                    <a:pt x="87" y="2444"/>
                  </a:lnTo>
                  <a:lnTo>
                    <a:pt x="68" y="2431"/>
                  </a:lnTo>
                  <a:lnTo>
                    <a:pt x="54" y="2413"/>
                  </a:lnTo>
                  <a:lnTo>
                    <a:pt x="44" y="2391"/>
                  </a:lnTo>
                  <a:lnTo>
                    <a:pt x="3" y="2211"/>
                  </a:lnTo>
                  <a:lnTo>
                    <a:pt x="0" y="2193"/>
                  </a:lnTo>
                  <a:lnTo>
                    <a:pt x="3" y="2178"/>
                  </a:lnTo>
                  <a:lnTo>
                    <a:pt x="17" y="2148"/>
                  </a:lnTo>
                  <a:lnTo>
                    <a:pt x="29" y="2136"/>
                  </a:lnTo>
                  <a:lnTo>
                    <a:pt x="42" y="2128"/>
                  </a:lnTo>
                  <a:lnTo>
                    <a:pt x="58" y="2122"/>
                  </a:lnTo>
                  <a:lnTo>
                    <a:pt x="75" y="2120"/>
                  </a:lnTo>
                  <a:lnTo>
                    <a:pt x="226" y="2120"/>
                  </a:lnTo>
                  <a:lnTo>
                    <a:pt x="183" y="1950"/>
                  </a:lnTo>
                  <a:lnTo>
                    <a:pt x="133" y="1950"/>
                  </a:lnTo>
                  <a:lnTo>
                    <a:pt x="169" y="1312"/>
                  </a:lnTo>
                  <a:lnTo>
                    <a:pt x="219" y="1312"/>
                  </a:lnTo>
                  <a:lnTo>
                    <a:pt x="222" y="1274"/>
                  </a:lnTo>
                  <a:lnTo>
                    <a:pt x="232" y="1239"/>
                  </a:lnTo>
                  <a:lnTo>
                    <a:pt x="249" y="1206"/>
                  </a:lnTo>
                  <a:lnTo>
                    <a:pt x="270" y="1178"/>
                  </a:lnTo>
                  <a:lnTo>
                    <a:pt x="296" y="1153"/>
                  </a:lnTo>
                  <a:lnTo>
                    <a:pt x="327" y="1134"/>
                  </a:lnTo>
                  <a:lnTo>
                    <a:pt x="360" y="1120"/>
                  </a:lnTo>
                  <a:lnTo>
                    <a:pt x="397" y="1113"/>
                  </a:lnTo>
                  <a:lnTo>
                    <a:pt x="875" y="1059"/>
                  </a:lnTo>
                  <a:lnTo>
                    <a:pt x="945" y="1049"/>
                  </a:lnTo>
                  <a:lnTo>
                    <a:pt x="1015" y="1031"/>
                  </a:lnTo>
                  <a:lnTo>
                    <a:pt x="1082" y="1007"/>
                  </a:lnTo>
                  <a:lnTo>
                    <a:pt x="1146" y="978"/>
                  </a:lnTo>
                  <a:lnTo>
                    <a:pt x="1209" y="944"/>
                  </a:lnTo>
                  <a:lnTo>
                    <a:pt x="1267" y="905"/>
                  </a:lnTo>
                  <a:lnTo>
                    <a:pt x="1323" y="860"/>
                  </a:lnTo>
                  <a:lnTo>
                    <a:pt x="1374" y="810"/>
                  </a:lnTo>
                  <a:lnTo>
                    <a:pt x="1940" y="206"/>
                  </a:lnTo>
                  <a:lnTo>
                    <a:pt x="1960" y="189"/>
                  </a:lnTo>
                  <a:lnTo>
                    <a:pt x="1991" y="173"/>
                  </a:lnTo>
                  <a:lnTo>
                    <a:pt x="2079" y="144"/>
                  </a:lnTo>
                  <a:lnTo>
                    <a:pt x="2202" y="116"/>
                  </a:lnTo>
                  <a:lnTo>
                    <a:pt x="2357" y="93"/>
                  </a:lnTo>
                  <a:lnTo>
                    <a:pt x="2540" y="70"/>
                  </a:lnTo>
                  <a:lnTo>
                    <a:pt x="2748" y="50"/>
                  </a:lnTo>
                  <a:lnTo>
                    <a:pt x="2979" y="35"/>
                  </a:lnTo>
                  <a:lnTo>
                    <a:pt x="3229" y="20"/>
                  </a:lnTo>
                  <a:lnTo>
                    <a:pt x="3494" y="11"/>
                  </a:lnTo>
                  <a:lnTo>
                    <a:pt x="3771" y="4"/>
                  </a:lnTo>
                  <a:lnTo>
                    <a:pt x="4058" y="0"/>
                  </a:lnTo>
                  <a:lnTo>
                    <a:pt x="4352" y="1"/>
                  </a:lnTo>
                  <a:lnTo>
                    <a:pt x="4649" y="6"/>
                  </a:lnTo>
                  <a:lnTo>
                    <a:pt x="4945" y="14"/>
                  </a:lnTo>
                  <a:lnTo>
                    <a:pt x="5239" y="27"/>
                  </a:lnTo>
                  <a:lnTo>
                    <a:pt x="5526" y="44"/>
                  </a:lnTo>
                  <a:lnTo>
                    <a:pt x="5581" y="84"/>
                  </a:lnTo>
                  <a:lnTo>
                    <a:pt x="5526" y="158"/>
                  </a:lnTo>
                  <a:lnTo>
                    <a:pt x="6043" y="994"/>
                  </a:lnTo>
                  <a:lnTo>
                    <a:pt x="6462" y="894"/>
                  </a:lnTo>
                  <a:lnTo>
                    <a:pt x="8514" y="1062"/>
                  </a:lnTo>
                  <a:lnTo>
                    <a:pt x="8637" y="1077"/>
                  </a:lnTo>
                  <a:lnTo>
                    <a:pt x="8737" y="1098"/>
                  </a:lnTo>
                  <a:lnTo>
                    <a:pt x="8814" y="1125"/>
                  </a:lnTo>
                  <a:lnTo>
                    <a:pt x="8870" y="1153"/>
                  </a:lnTo>
                  <a:lnTo>
                    <a:pt x="8905" y="1180"/>
                  </a:lnTo>
                  <a:lnTo>
                    <a:pt x="8923" y="1206"/>
                  </a:lnTo>
                  <a:lnTo>
                    <a:pt x="8926" y="1218"/>
                  </a:lnTo>
                  <a:lnTo>
                    <a:pt x="8923" y="1228"/>
                  </a:lnTo>
                  <a:lnTo>
                    <a:pt x="8907" y="1243"/>
                  </a:lnTo>
                  <a:lnTo>
                    <a:pt x="9037" y="1780"/>
                  </a:lnTo>
                  <a:lnTo>
                    <a:pt x="9047" y="1833"/>
                  </a:lnTo>
                  <a:lnTo>
                    <a:pt x="9048" y="1875"/>
                  </a:lnTo>
                  <a:lnTo>
                    <a:pt x="9045" y="1911"/>
                  </a:lnTo>
                  <a:lnTo>
                    <a:pt x="9036" y="1944"/>
                  </a:lnTo>
                  <a:lnTo>
                    <a:pt x="9017" y="2019"/>
                  </a:lnTo>
                  <a:lnTo>
                    <a:pt x="9009" y="2067"/>
                  </a:lnTo>
                  <a:lnTo>
                    <a:pt x="9007" y="2130"/>
                  </a:lnTo>
                  <a:lnTo>
                    <a:pt x="9192" y="2130"/>
                  </a:lnTo>
                  <a:lnTo>
                    <a:pt x="9220" y="2136"/>
                  </a:lnTo>
                  <a:lnTo>
                    <a:pt x="9244" y="2152"/>
                  </a:lnTo>
                  <a:lnTo>
                    <a:pt x="9260" y="2175"/>
                  </a:lnTo>
                  <a:lnTo>
                    <a:pt x="9266" y="2204"/>
                  </a:lnTo>
                  <a:lnTo>
                    <a:pt x="9266" y="2394"/>
                  </a:lnTo>
                  <a:lnTo>
                    <a:pt x="9261" y="2421"/>
                  </a:lnTo>
                  <a:lnTo>
                    <a:pt x="9247" y="2444"/>
                  </a:lnTo>
                  <a:lnTo>
                    <a:pt x="9226" y="2459"/>
                  </a:lnTo>
                  <a:lnTo>
                    <a:pt x="9200" y="2467"/>
                  </a:lnTo>
                  <a:lnTo>
                    <a:pt x="8522" y="2542"/>
                  </a:lnTo>
                  <a:lnTo>
                    <a:pt x="8493" y="2543"/>
                  </a:lnTo>
                  <a:lnTo>
                    <a:pt x="8470" y="2540"/>
                  </a:lnTo>
                  <a:lnTo>
                    <a:pt x="8454" y="2533"/>
                  </a:lnTo>
                  <a:lnTo>
                    <a:pt x="8442" y="2521"/>
                  </a:lnTo>
                  <a:lnTo>
                    <a:pt x="8434" y="2505"/>
                  </a:lnTo>
                  <a:lnTo>
                    <a:pt x="8429" y="2486"/>
                  </a:lnTo>
                  <a:lnTo>
                    <a:pt x="8425" y="2438"/>
                  </a:lnTo>
                  <a:lnTo>
                    <a:pt x="8296" y="2438"/>
                  </a:lnTo>
                  <a:lnTo>
                    <a:pt x="8296" y="2507"/>
                  </a:lnTo>
                  <a:lnTo>
                    <a:pt x="8287" y="2574"/>
                  </a:lnTo>
                  <a:lnTo>
                    <a:pt x="8273" y="2638"/>
                  </a:lnTo>
                  <a:lnTo>
                    <a:pt x="8253" y="2701"/>
                  </a:lnTo>
                  <a:lnTo>
                    <a:pt x="8227" y="2761"/>
                  </a:lnTo>
                  <a:lnTo>
                    <a:pt x="8195" y="2816"/>
                  </a:lnTo>
                  <a:lnTo>
                    <a:pt x="8158" y="2869"/>
                  </a:lnTo>
                  <a:lnTo>
                    <a:pt x="8116" y="2917"/>
                  </a:lnTo>
                  <a:lnTo>
                    <a:pt x="8069" y="2963"/>
                  </a:lnTo>
                  <a:lnTo>
                    <a:pt x="8019" y="3002"/>
                  </a:lnTo>
                  <a:lnTo>
                    <a:pt x="7964" y="3036"/>
                  </a:lnTo>
                  <a:lnTo>
                    <a:pt x="7906" y="3065"/>
                  </a:lnTo>
                  <a:lnTo>
                    <a:pt x="7844" y="3088"/>
                  </a:lnTo>
                  <a:lnTo>
                    <a:pt x="7780" y="3105"/>
                  </a:lnTo>
                  <a:lnTo>
                    <a:pt x="7713" y="3116"/>
                  </a:lnTo>
                  <a:lnTo>
                    <a:pt x="7644" y="3119"/>
                  </a:lnTo>
                  <a:lnTo>
                    <a:pt x="7575" y="3116"/>
                  </a:lnTo>
                  <a:lnTo>
                    <a:pt x="7509" y="3105"/>
                  </a:lnTo>
                  <a:lnTo>
                    <a:pt x="7445" y="3088"/>
                  </a:lnTo>
                  <a:lnTo>
                    <a:pt x="7384" y="3065"/>
                  </a:lnTo>
                  <a:lnTo>
                    <a:pt x="7326" y="3036"/>
                  </a:lnTo>
                  <a:lnTo>
                    <a:pt x="7271" y="3002"/>
                  </a:lnTo>
                  <a:lnTo>
                    <a:pt x="7220" y="2961"/>
                  </a:lnTo>
                  <a:lnTo>
                    <a:pt x="7174" y="2917"/>
                  </a:lnTo>
                  <a:lnTo>
                    <a:pt x="7132" y="2869"/>
                  </a:lnTo>
                  <a:lnTo>
                    <a:pt x="7094" y="2816"/>
                  </a:lnTo>
                  <a:lnTo>
                    <a:pt x="7062" y="2759"/>
                  </a:lnTo>
                  <a:lnTo>
                    <a:pt x="7036" y="2700"/>
                  </a:lnTo>
                  <a:lnTo>
                    <a:pt x="7016" y="2638"/>
                  </a:lnTo>
                  <a:lnTo>
                    <a:pt x="7001" y="2573"/>
                  </a:lnTo>
                  <a:lnTo>
                    <a:pt x="6994" y="2507"/>
                  </a:lnTo>
                  <a:lnTo>
                    <a:pt x="6993" y="2438"/>
                  </a:lnTo>
                  <a:lnTo>
                    <a:pt x="6861" y="2438"/>
                  </a:lnTo>
                  <a:lnTo>
                    <a:pt x="6863" y="2511"/>
                  </a:lnTo>
                  <a:lnTo>
                    <a:pt x="6860" y="2573"/>
                  </a:lnTo>
                  <a:lnTo>
                    <a:pt x="6854" y="2597"/>
                  </a:lnTo>
                  <a:lnTo>
                    <a:pt x="6842" y="2615"/>
                  </a:lnTo>
                  <a:lnTo>
                    <a:pt x="6825" y="2627"/>
                  </a:lnTo>
                  <a:lnTo>
                    <a:pt x="6803" y="2630"/>
                  </a:lnTo>
                  <a:lnTo>
                    <a:pt x="2984" y="263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74880" y="3367080"/>
              <a:ext cx="540000" cy="283680"/>
            </a:xfrm>
            <a:custGeom>
              <a:avLst/>
              <a:gdLst/>
              <a:ahLst/>
              <a:rect l="l" t="t" r="r" b="b"/>
              <a:pathLst>
                <a:path w="1701" h="896">
                  <a:moveTo>
                    <a:pt x="1701" y="896"/>
                  </a:moveTo>
                  <a:lnTo>
                    <a:pt x="62" y="877"/>
                  </a:lnTo>
                  <a:lnTo>
                    <a:pt x="44" y="874"/>
                  </a:lnTo>
                  <a:lnTo>
                    <a:pt x="29" y="867"/>
                  </a:lnTo>
                  <a:lnTo>
                    <a:pt x="16" y="855"/>
                  </a:lnTo>
                  <a:lnTo>
                    <a:pt x="6" y="841"/>
                  </a:lnTo>
                  <a:lnTo>
                    <a:pt x="0" y="823"/>
                  </a:lnTo>
                  <a:lnTo>
                    <a:pt x="0" y="807"/>
                  </a:lnTo>
                  <a:lnTo>
                    <a:pt x="4" y="790"/>
                  </a:lnTo>
                  <a:lnTo>
                    <a:pt x="13" y="774"/>
                  </a:lnTo>
                  <a:lnTo>
                    <a:pt x="432" y="248"/>
                  </a:lnTo>
                  <a:lnTo>
                    <a:pt x="471" y="205"/>
                  </a:lnTo>
                  <a:lnTo>
                    <a:pt x="494" y="184"/>
                  </a:lnTo>
                  <a:lnTo>
                    <a:pt x="522" y="165"/>
                  </a:lnTo>
                  <a:lnTo>
                    <a:pt x="555" y="148"/>
                  </a:lnTo>
                  <a:lnTo>
                    <a:pt x="596" y="131"/>
                  </a:lnTo>
                  <a:lnTo>
                    <a:pt x="705" y="99"/>
                  </a:lnTo>
                  <a:lnTo>
                    <a:pt x="775" y="85"/>
                  </a:lnTo>
                  <a:lnTo>
                    <a:pt x="858" y="70"/>
                  </a:lnTo>
                  <a:lnTo>
                    <a:pt x="1069" y="45"/>
                  </a:lnTo>
                  <a:lnTo>
                    <a:pt x="1346" y="22"/>
                  </a:lnTo>
                  <a:lnTo>
                    <a:pt x="1701" y="0"/>
                  </a:lnTo>
                  <a:lnTo>
                    <a:pt x="1701" y="89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97320" y="3352680"/>
              <a:ext cx="692280" cy="306000"/>
            </a:xfrm>
            <a:custGeom>
              <a:avLst/>
              <a:gdLst/>
              <a:ahLst/>
              <a:rect l="l" t="t" r="r" b="b"/>
              <a:pathLst>
                <a:path w="2180" h="963">
                  <a:moveTo>
                    <a:pt x="0" y="942"/>
                  </a:moveTo>
                  <a:lnTo>
                    <a:pt x="0" y="31"/>
                  </a:lnTo>
                  <a:lnTo>
                    <a:pt x="465" y="10"/>
                  </a:lnTo>
                  <a:lnTo>
                    <a:pt x="837" y="0"/>
                  </a:lnTo>
                  <a:lnTo>
                    <a:pt x="1126" y="2"/>
                  </a:lnTo>
                  <a:lnTo>
                    <a:pt x="1242" y="6"/>
                  </a:lnTo>
                  <a:lnTo>
                    <a:pt x="1344" y="15"/>
                  </a:lnTo>
                  <a:lnTo>
                    <a:pt x="1429" y="24"/>
                  </a:lnTo>
                  <a:lnTo>
                    <a:pt x="1502" y="36"/>
                  </a:lnTo>
                  <a:lnTo>
                    <a:pt x="1561" y="51"/>
                  </a:lnTo>
                  <a:lnTo>
                    <a:pt x="1610" y="69"/>
                  </a:lnTo>
                  <a:lnTo>
                    <a:pt x="1650" y="88"/>
                  </a:lnTo>
                  <a:lnTo>
                    <a:pt x="1681" y="111"/>
                  </a:lnTo>
                  <a:lnTo>
                    <a:pt x="1706" y="136"/>
                  </a:lnTo>
                  <a:lnTo>
                    <a:pt x="1725" y="162"/>
                  </a:lnTo>
                  <a:lnTo>
                    <a:pt x="2174" y="885"/>
                  </a:lnTo>
                  <a:lnTo>
                    <a:pt x="2180" y="899"/>
                  </a:lnTo>
                  <a:lnTo>
                    <a:pt x="2180" y="913"/>
                  </a:lnTo>
                  <a:lnTo>
                    <a:pt x="2173" y="927"/>
                  </a:lnTo>
                  <a:lnTo>
                    <a:pt x="2157" y="940"/>
                  </a:lnTo>
                  <a:lnTo>
                    <a:pt x="2132" y="949"/>
                  </a:lnTo>
                  <a:lnTo>
                    <a:pt x="2096" y="957"/>
                  </a:lnTo>
                  <a:lnTo>
                    <a:pt x="1991" y="963"/>
                  </a:lnTo>
                  <a:lnTo>
                    <a:pt x="1928" y="897"/>
                  </a:lnTo>
                  <a:lnTo>
                    <a:pt x="1932" y="899"/>
                  </a:lnTo>
                  <a:lnTo>
                    <a:pt x="1931" y="898"/>
                  </a:lnTo>
                  <a:lnTo>
                    <a:pt x="1928" y="897"/>
                  </a:lnTo>
                  <a:lnTo>
                    <a:pt x="1950" y="890"/>
                  </a:lnTo>
                  <a:lnTo>
                    <a:pt x="1965" y="881"/>
                  </a:lnTo>
                  <a:lnTo>
                    <a:pt x="1973" y="871"/>
                  </a:lnTo>
                  <a:lnTo>
                    <a:pt x="1977" y="859"/>
                  </a:lnTo>
                  <a:lnTo>
                    <a:pt x="1976" y="847"/>
                  </a:lnTo>
                  <a:lnTo>
                    <a:pt x="1969" y="834"/>
                  </a:lnTo>
                  <a:lnTo>
                    <a:pt x="1943" y="808"/>
                  </a:lnTo>
                  <a:lnTo>
                    <a:pt x="1900" y="784"/>
                  </a:lnTo>
                  <a:lnTo>
                    <a:pt x="1845" y="763"/>
                  </a:lnTo>
                  <a:lnTo>
                    <a:pt x="1780" y="748"/>
                  </a:lnTo>
                  <a:lnTo>
                    <a:pt x="1707" y="744"/>
                  </a:lnTo>
                  <a:lnTo>
                    <a:pt x="1771" y="900"/>
                  </a:lnTo>
                  <a:lnTo>
                    <a:pt x="1804" y="903"/>
                  </a:lnTo>
                  <a:lnTo>
                    <a:pt x="1827" y="961"/>
                  </a:lnTo>
                  <a:lnTo>
                    <a:pt x="0" y="94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71600" y="3987720"/>
              <a:ext cx="65160" cy="115560"/>
            </a:xfrm>
            <a:custGeom>
              <a:avLst/>
              <a:gdLst/>
              <a:ahLst/>
              <a:rect l="l" t="t" r="r" b="b"/>
              <a:pathLst>
                <a:path w="204" h="368">
                  <a:moveTo>
                    <a:pt x="204" y="368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57560" y="3730320"/>
              <a:ext cx="33120" cy="203040"/>
            </a:xfrm>
            <a:custGeom>
              <a:avLst/>
              <a:gdLst/>
              <a:ahLst/>
              <a:rect l="l" t="t" r="r" b="b"/>
              <a:pathLst>
                <a:path w="105" h="638">
                  <a:moveTo>
                    <a:pt x="0" y="638"/>
                  </a:moveTo>
                  <a:lnTo>
                    <a:pt x="69" y="638"/>
                  </a:lnTo>
                  <a:lnTo>
                    <a:pt x="10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30520" y="3844800"/>
              <a:ext cx="501840" cy="272520"/>
            </a:xfrm>
            <a:custGeom>
              <a:avLst/>
              <a:gdLst/>
              <a:ahLst/>
              <a:rect l="l" t="t" r="r" b="b"/>
              <a:pathLst>
                <a:path w="1582" h="860">
                  <a:moveTo>
                    <a:pt x="0" y="860"/>
                  </a:moveTo>
                  <a:lnTo>
                    <a:pt x="1" y="754"/>
                  </a:lnTo>
                  <a:lnTo>
                    <a:pt x="6" y="690"/>
                  </a:lnTo>
                  <a:lnTo>
                    <a:pt x="8" y="665"/>
                  </a:lnTo>
                  <a:lnTo>
                    <a:pt x="18" y="620"/>
                  </a:lnTo>
                  <a:lnTo>
                    <a:pt x="36" y="553"/>
                  </a:lnTo>
                  <a:lnTo>
                    <a:pt x="59" y="489"/>
                  </a:lnTo>
                  <a:lnTo>
                    <a:pt x="88" y="429"/>
                  </a:lnTo>
                  <a:lnTo>
                    <a:pt x="121" y="371"/>
                  </a:lnTo>
                  <a:lnTo>
                    <a:pt x="158" y="316"/>
                  </a:lnTo>
                  <a:lnTo>
                    <a:pt x="201" y="265"/>
                  </a:lnTo>
                  <a:lnTo>
                    <a:pt x="246" y="217"/>
                  </a:lnTo>
                  <a:lnTo>
                    <a:pt x="296" y="175"/>
                  </a:lnTo>
                  <a:lnTo>
                    <a:pt x="350" y="135"/>
                  </a:lnTo>
                  <a:lnTo>
                    <a:pt x="405" y="101"/>
                  </a:lnTo>
                  <a:lnTo>
                    <a:pt x="464" y="71"/>
                  </a:lnTo>
                  <a:lnTo>
                    <a:pt x="525" y="46"/>
                  </a:lnTo>
                  <a:lnTo>
                    <a:pt x="590" y="26"/>
                  </a:lnTo>
                  <a:lnTo>
                    <a:pt x="655" y="12"/>
                  </a:lnTo>
                  <a:lnTo>
                    <a:pt x="723" y="4"/>
                  </a:lnTo>
                  <a:lnTo>
                    <a:pt x="792" y="0"/>
                  </a:lnTo>
                  <a:lnTo>
                    <a:pt x="861" y="4"/>
                  </a:lnTo>
                  <a:lnTo>
                    <a:pt x="928" y="12"/>
                  </a:lnTo>
                  <a:lnTo>
                    <a:pt x="994" y="26"/>
                  </a:lnTo>
                  <a:lnTo>
                    <a:pt x="1058" y="46"/>
                  </a:lnTo>
                  <a:lnTo>
                    <a:pt x="1120" y="71"/>
                  </a:lnTo>
                  <a:lnTo>
                    <a:pt x="1179" y="101"/>
                  </a:lnTo>
                  <a:lnTo>
                    <a:pt x="1235" y="135"/>
                  </a:lnTo>
                  <a:lnTo>
                    <a:pt x="1289" y="175"/>
                  </a:lnTo>
                  <a:lnTo>
                    <a:pt x="1337" y="217"/>
                  </a:lnTo>
                  <a:lnTo>
                    <a:pt x="1384" y="265"/>
                  </a:lnTo>
                  <a:lnTo>
                    <a:pt x="1425" y="316"/>
                  </a:lnTo>
                  <a:lnTo>
                    <a:pt x="1463" y="371"/>
                  </a:lnTo>
                  <a:lnTo>
                    <a:pt x="1497" y="429"/>
                  </a:lnTo>
                  <a:lnTo>
                    <a:pt x="1525" y="489"/>
                  </a:lnTo>
                  <a:lnTo>
                    <a:pt x="1549" y="553"/>
                  </a:lnTo>
                  <a:lnTo>
                    <a:pt x="1567" y="620"/>
                  </a:lnTo>
                  <a:lnTo>
                    <a:pt x="1579" y="688"/>
                  </a:lnTo>
                  <a:lnTo>
                    <a:pt x="1582" y="752"/>
                  </a:lnTo>
                  <a:lnTo>
                    <a:pt x="1582" y="8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75160" y="3890880"/>
              <a:ext cx="412560" cy="226440"/>
            </a:xfrm>
            <a:custGeom>
              <a:avLst/>
              <a:gdLst/>
              <a:ahLst/>
              <a:rect l="l" t="t" r="r" b="b"/>
              <a:pathLst>
                <a:path w="1304" h="717">
                  <a:moveTo>
                    <a:pt x="4" y="717"/>
                  </a:moveTo>
                  <a:lnTo>
                    <a:pt x="0" y="645"/>
                  </a:lnTo>
                  <a:lnTo>
                    <a:pt x="5" y="575"/>
                  </a:lnTo>
                  <a:lnTo>
                    <a:pt x="16" y="508"/>
                  </a:lnTo>
                  <a:lnTo>
                    <a:pt x="35" y="442"/>
                  </a:lnTo>
                  <a:lnTo>
                    <a:pt x="59" y="381"/>
                  </a:lnTo>
                  <a:lnTo>
                    <a:pt x="89" y="321"/>
                  </a:lnTo>
                  <a:lnTo>
                    <a:pt x="126" y="266"/>
                  </a:lnTo>
                  <a:lnTo>
                    <a:pt x="168" y="214"/>
                  </a:lnTo>
                  <a:lnTo>
                    <a:pt x="215" y="167"/>
                  </a:lnTo>
                  <a:lnTo>
                    <a:pt x="267" y="125"/>
                  </a:lnTo>
                  <a:lnTo>
                    <a:pt x="322" y="89"/>
                  </a:lnTo>
                  <a:lnTo>
                    <a:pt x="382" y="58"/>
                  </a:lnTo>
                  <a:lnTo>
                    <a:pt x="445" y="33"/>
                  </a:lnTo>
                  <a:lnTo>
                    <a:pt x="511" y="15"/>
                  </a:lnTo>
                  <a:lnTo>
                    <a:pt x="580" y="3"/>
                  </a:lnTo>
                  <a:lnTo>
                    <a:pt x="652" y="0"/>
                  </a:lnTo>
                  <a:lnTo>
                    <a:pt x="723" y="3"/>
                  </a:lnTo>
                  <a:lnTo>
                    <a:pt x="792" y="15"/>
                  </a:lnTo>
                  <a:lnTo>
                    <a:pt x="859" y="33"/>
                  </a:lnTo>
                  <a:lnTo>
                    <a:pt x="922" y="58"/>
                  </a:lnTo>
                  <a:lnTo>
                    <a:pt x="981" y="89"/>
                  </a:lnTo>
                  <a:lnTo>
                    <a:pt x="1037" y="125"/>
                  </a:lnTo>
                  <a:lnTo>
                    <a:pt x="1089" y="167"/>
                  </a:lnTo>
                  <a:lnTo>
                    <a:pt x="1135" y="214"/>
                  </a:lnTo>
                  <a:lnTo>
                    <a:pt x="1178" y="266"/>
                  </a:lnTo>
                  <a:lnTo>
                    <a:pt x="1214" y="321"/>
                  </a:lnTo>
                  <a:lnTo>
                    <a:pt x="1245" y="381"/>
                  </a:lnTo>
                  <a:lnTo>
                    <a:pt x="1270" y="442"/>
                  </a:lnTo>
                  <a:lnTo>
                    <a:pt x="1289" y="508"/>
                  </a:lnTo>
                  <a:lnTo>
                    <a:pt x="1299" y="575"/>
                  </a:lnTo>
                  <a:lnTo>
                    <a:pt x="1304" y="645"/>
                  </a:lnTo>
                  <a:lnTo>
                    <a:pt x="1301" y="7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74880" y="3992400"/>
              <a:ext cx="212760" cy="210600"/>
            </a:xfrm>
            <a:custGeom>
              <a:avLst/>
              <a:gdLst/>
              <a:ahLst/>
              <a:rect l="l" t="t" r="r" b="b"/>
              <a:pathLst>
                <a:path w="667" h="665">
                  <a:moveTo>
                    <a:pt x="333" y="665"/>
                  </a:moveTo>
                  <a:lnTo>
                    <a:pt x="286" y="661"/>
                  </a:lnTo>
                  <a:lnTo>
                    <a:pt x="241" y="653"/>
                  </a:lnTo>
                  <a:lnTo>
                    <a:pt x="201" y="638"/>
                  </a:lnTo>
                  <a:lnTo>
                    <a:pt x="162" y="619"/>
                  </a:lnTo>
                  <a:lnTo>
                    <a:pt x="127" y="594"/>
                  </a:lnTo>
                  <a:lnTo>
                    <a:pt x="95" y="565"/>
                  </a:lnTo>
                  <a:lnTo>
                    <a:pt x="68" y="533"/>
                  </a:lnTo>
                  <a:lnTo>
                    <a:pt x="45" y="499"/>
                  </a:lnTo>
                  <a:lnTo>
                    <a:pt x="26" y="461"/>
                  </a:lnTo>
                  <a:lnTo>
                    <a:pt x="12" y="420"/>
                  </a:lnTo>
                  <a:lnTo>
                    <a:pt x="3" y="380"/>
                  </a:lnTo>
                  <a:lnTo>
                    <a:pt x="0" y="337"/>
                  </a:lnTo>
                  <a:lnTo>
                    <a:pt x="2" y="293"/>
                  </a:lnTo>
                  <a:lnTo>
                    <a:pt x="11" y="250"/>
                  </a:lnTo>
                  <a:lnTo>
                    <a:pt x="25" y="208"/>
                  </a:lnTo>
                  <a:lnTo>
                    <a:pt x="45" y="165"/>
                  </a:lnTo>
                  <a:lnTo>
                    <a:pt x="71" y="126"/>
                  </a:lnTo>
                  <a:lnTo>
                    <a:pt x="101" y="93"/>
                  </a:lnTo>
                  <a:lnTo>
                    <a:pt x="134" y="64"/>
                  </a:lnTo>
                  <a:lnTo>
                    <a:pt x="171" y="40"/>
                  </a:lnTo>
                  <a:lnTo>
                    <a:pt x="209" y="23"/>
                  </a:lnTo>
                  <a:lnTo>
                    <a:pt x="249" y="9"/>
                  </a:lnTo>
                  <a:lnTo>
                    <a:pt x="291" y="2"/>
                  </a:lnTo>
                  <a:lnTo>
                    <a:pt x="333" y="0"/>
                  </a:lnTo>
                  <a:lnTo>
                    <a:pt x="374" y="2"/>
                  </a:lnTo>
                  <a:lnTo>
                    <a:pt x="416" y="9"/>
                  </a:lnTo>
                  <a:lnTo>
                    <a:pt x="456" y="23"/>
                  </a:lnTo>
                  <a:lnTo>
                    <a:pt x="496" y="40"/>
                  </a:lnTo>
                  <a:lnTo>
                    <a:pt x="531" y="64"/>
                  </a:lnTo>
                  <a:lnTo>
                    <a:pt x="566" y="93"/>
                  </a:lnTo>
                  <a:lnTo>
                    <a:pt x="595" y="126"/>
                  </a:lnTo>
                  <a:lnTo>
                    <a:pt x="622" y="165"/>
                  </a:lnTo>
                  <a:lnTo>
                    <a:pt x="642" y="208"/>
                  </a:lnTo>
                  <a:lnTo>
                    <a:pt x="656" y="250"/>
                  </a:lnTo>
                  <a:lnTo>
                    <a:pt x="664" y="293"/>
                  </a:lnTo>
                  <a:lnTo>
                    <a:pt x="667" y="337"/>
                  </a:lnTo>
                  <a:lnTo>
                    <a:pt x="663" y="380"/>
                  </a:lnTo>
                  <a:lnTo>
                    <a:pt x="654" y="420"/>
                  </a:lnTo>
                  <a:lnTo>
                    <a:pt x="639" y="461"/>
                  </a:lnTo>
                  <a:lnTo>
                    <a:pt x="622" y="499"/>
                  </a:lnTo>
                  <a:lnTo>
                    <a:pt x="598" y="533"/>
                  </a:lnTo>
                  <a:lnTo>
                    <a:pt x="570" y="565"/>
                  </a:lnTo>
                  <a:lnTo>
                    <a:pt x="538" y="594"/>
                  </a:lnTo>
                  <a:lnTo>
                    <a:pt x="504" y="619"/>
                  </a:lnTo>
                  <a:lnTo>
                    <a:pt x="466" y="638"/>
                  </a:lnTo>
                  <a:lnTo>
                    <a:pt x="424" y="653"/>
                  </a:lnTo>
                  <a:lnTo>
                    <a:pt x="379" y="661"/>
                  </a:lnTo>
                  <a:lnTo>
                    <a:pt x="333" y="6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214880" y="3361680"/>
              <a:ext cx="82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14880" y="3633480"/>
              <a:ext cx="860400" cy="464760"/>
            </a:xfrm>
            <a:custGeom>
              <a:avLst/>
              <a:gdLst/>
              <a:ahLst/>
              <a:rect l="l" t="t" r="r" b="b"/>
              <a:pathLst>
                <a:path w="2710" h="1466">
                  <a:moveTo>
                    <a:pt x="0" y="55"/>
                  </a:moveTo>
                  <a:lnTo>
                    <a:pt x="259" y="57"/>
                  </a:lnTo>
                  <a:lnTo>
                    <a:pt x="201" y="214"/>
                  </a:lnTo>
                  <a:lnTo>
                    <a:pt x="394" y="1466"/>
                  </a:lnTo>
                  <a:lnTo>
                    <a:pt x="2710" y="1466"/>
                  </a:lnTo>
                  <a:lnTo>
                    <a:pt x="2608" y="283"/>
                  </a:lnTo>
                  <a:lnTo>
                    <a:pt x="2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1880" y="3341520"/>
              <a:ext cx="279360" cy="256680"/>
            </a:xfrm>
            <a:custGeom>
              <a:avLst/>
              <a:gdLst/>
              <a:ahLst/>
              <a:rect l="l" t="t" r="r" b="b"/>
              <a:pathLst>
                <a:path w="881" h="810">
                  <a:moveTo>
                    <a:pt x="0" y="0"/>
                  </a:moveTo>
                  <a:lnTo>
                    <a:pt x="120" y="89"/>
                  </a:lnTo>
                  <a:lnTo>
                    <a:pt x="238" y="183"/>
                  </a:lnTo>
                  <a:lnTo>
                    <a:pt x="353" y="281"/>
                  </a:lnTo>
                  <a:lnTo>
                    <a:pt x="466" y="380"/>
                  </a:lnTo>
                  <a:lnTo>
                    <a:pt x="575" y="485"/>
                  </a:lnTo>
                  <a:lnTo>
                    <a:pt x="681" y="591"/>
                  </a:lnTo>
                  <a:lnTo>
                    <a:pt x="783" y="700"/>
                  </a:lnTo>
                  <a:lnTo>
                    <a:pt x="881" y="8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68640" y="3638520"/>
              <a:ext cx="39960" cy="1080"/>
            </a:xfrm>
            <a:custGeom>
              <a:avLst/>
              <a:gdLst/>
              <a:ahLst/>
              <a:rect l="l" t="t" r="r" b="b"/>
              <a:pathLst>
                <a:path w="124" h="7">
                  <a:moveTo>
                    <a:pt x="124" y="0"/>
                  </a:moveTo>
                  <a:lnTo>
                    <a:pt x="72" y="7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76560" y="3657240"/>
              <a:ext cx="79560" cy="29880"/>
            </a:xfrm>
            <a:custGeom>
              <a:avLst/>
              <a:gdLst/>
              <a:ahLst/>
              <a:rect l="l" t="t" r="r" b="b"/>
              <a:pathLst>
                <a:path w="250" h="95">
                  <a:moveTo>
                    <a:pt x="0" y="0"/>
                  </a:moveTo>
                  <a:lnTo>
                    <a:pt x="36" y="95"/>
                  </a:lnTo>
                  <a:lnTo>
                    <a:pt x="250" y="95"/>
                  </a:lnTo>
                  <a:lnTo>
                    <a:pt x="16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8600" y="3782880"/>
              <a:ext cx="144720" cy="16920"/>
            </a:xfrm>
            <a:custGeom>
              <a:avLst/>
              <a:gdLst/>
              <a:ahLst/>
              <a:rect l="l" t="t" r="r" b="b"/>
              <a:pathLst>
                <a:path w="454" h="56">
                  <a:moveTo>
                    <a:pt x="454" y="56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90680" y="3749400"/>
              <a:ext cx="270036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78320" y="3844800"/>
              <a:ext cx="496800" cy="242640"/>
            </a:xfrm>
            <a:custGeom>
              <a:avLst/>
              <a:gdLst/>
              <a:ahLst/>
              <a:rect l="l" t="t" r="r" b="b"/>
              <a:pathLst>
                <a:path w="1567" h="765">
                  <a:moveTo>
                    <a:pt x="0" y="765"/>
                  </a:moveTo>
                  <a:lnTo>
                    <a:pt x="0" y="692"/>
                  </a:lnTo>
                  <a:lnTo>
                    <a:pt x="10" y="620"/>
                  </a:lnTo>
                  <a:lnTo>
                    <a:pt x="27" y="553"/>
                  </a:lnTo>
                  <a:lnTo>
                    <a:pt x="51" y="489"/>
                  </a:lnTo>
                  <a:lnTo>
                    <a:pt x="80" y="429"/>
                  </a:lnTo>
                  <a:lnTo>
                    <a:pt x="113" y="371"/>
                  </a:lnTo>
                  <a:lnTo>
                    <a:pt x="150" y="316"/>
                  </a:lnTo>
                  <a:lnTo>
                    <a:pt x="193" y="265"/>
                  </a:lnTo>
                  <a:lnTo>
                    <a:pt x="238" y="217"/>
                  </a:lnTo>
                  <a:lnTo>
                    <a:pt x="288" y="175"/>
                  </a:lnTo>
                  <a:lnTo>
                    <a:pt x="341" y="135"/>
                  </a:lnTo>
                  <a:lnTo>
                    <a:pt x="397" y="101"/>
                  </a:lnTo>
                  <a:lnTo>
                    <a:pt x="455" y="71"/>
                  </a:lnTo>
                  <a:lnTo>
                    <a:pt x="517" y="46"/>
                  </a:lnTo>
                  <a:lnTo>
                    <a:pt x="581" y="26"/>
                  </a:lnTo>
                  <a:lnTo>
                    <a:pt x="647" y="12"/>
                  </a:lnTo>
                  <a:lnTo>
                    <a:pt x="714" y="4"/>
                  </a:lnTo>
                  <a:lnTo>
                    <a:pt x="783" y="0"/>
                  </a:lnTo>
                  <a:lnTo>
                    <a:pt x="852" y="4"/>
                  </a:lnTo>
                  <a:lnTo>
                    <a:pt x="920" y="12"/>
                  </a:lnTo>
                  <a:lnTo>
                    <a:pt x="985" y="26"/>
                  </a:lnTo>
                  <a:lnTo>
                    <a:pt x="1050" y="46"/>
                  </a:lnTo>
                  <a:lnTo>
                    <a:pt x="1111" y="71"/>
                  </a:lnTo>
                  <a:lnTo>
                    <a:pt x="1171" y="101"/>
                  </a:lnTo>
                  <a:lnTo>
                    <a:pt x="1227" y="135"/>
                  </a:lnTo>
                  <a:lnTo>
                    <a:pt x="1280" y="175"/>
                  </a:lnTo>
                  <a:lnTo>
                    <a:pt x="1329" y="217"/>
                  </a:lnTo>
                  <a:lnTo>
                    <a:pt x="1375" y="265"/>
                  </a:lnTo>
                  <a:lnTo>
                    <a:pt x="1417" y="316"/>
                  </a:lnTo>
                  <a:lnTo>
                    <a:pt x="1455" y="371"/>
                  </a:lnTo>
                  <a:lnTo>
                    <a:pt x="1488" y="429"/>
                  </a:lnTo>
                  <a:lnTo>
                    <a:pt x="1517" y="489"/>
                  </a:lnTo>
                  <a:lnTo>
                    <a:pt x="1540" y="553"/>
                  </a:lnTo>
                  <a:lnTo>
                    <a:pt x="1558" y="620"/>
                  </a:lnTo>
                  <a:lnTo>
                    <a:pt x="1564" y="659"/>
                  </a:lnTo>
                  <a:lnTo>
                    <a:pt x="1567" y="696"/>
                  </a:lnTo>
                  <a:lnTo>
                    <a:pt x="1564" y="7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19720" y="3890880"/>
              <a:ext cx="414360" cy="196560"/>
            </a:xfrm>
            <a:custGeom>
              <a:avLst/>
              <a:gdLst/>
              <a:ahLst/>
              <a:rect l="l" t="t" r="r" b="b"/>
              <a:pathLst>
                <a:path w="1303" h="622">
                  <a:moveTo>
                    <a:pt x="0" y="622"/>
                  </a:moveTo>
                  <a:lnTo>
                    <a:pt x="6" y="558"/>
                  </a:lnTo>
                  <a:lnTo>
                    <a:pt x="18" y="495"/>
                  </a:lnTo>
                  <a:lnTo>
                    <a:pt x="36" y="435"/>
                  </a:lnTo>
                  <a:lnTo>
                    <a:pt x="59" y="378"/>
                  </a:lnTo>
                  <a:lnTo>
                    <a:pt x="88" y="324"/>
                  </a:lnTo>
                  <a:lnTo>
                    <a:pt x="121" y="271"/>
                  </a:lnTo>
                  <a:lnTo>
                    <a:pt x="158" y="224"/>
                  </a:lnTo>
                  <a:lnTo>
                    <a:pt x="201" y="180"/>
                  </a:lnTo>
                  <a:lnTo>
                    <a:pt x="246" y="140"/>
                  </a:lnTo>
                  <a:lnTo>
                    <a:pt x="296" y="105"/>
                  </a:lnTo>
                  <a:lnTo>
                    <a:pt x="348" y="74"/>
                  </a:lnTo>
                  <a:lnTo>
                    <a:pt x="404" y="48"/>
                  </a:lnTo>
                  <a:lnTo>
                    <a:pt x="462" y="27"/>
                  </a:lnTo>
                  <a:lnTo>
                    <a:pt x="524" y="11"/>
                  </a:lnTo>
                  <a:lnTo>
                    <a:pt x="587" y="3"/>
                  </a:lnTo>
                  <a:lnTo>
                    <a:pt x="651" y="0"/>
                  </a:lnTo>
                  <a:lnTo>
                    <a:pt x="716" y="3"/>
                  </a:lnTo>
                  <a:lnTo>
                    <a:pt x="779" y="11"/>
                  </a:lnTo>
                  <a:lnTo>
                    <a:pt x="840" y="27"/>
                  </a:lnTo>
                  <a:lnTo>
                    <a:pt x="899" y="48"/>
                  </a:lnTo>
                  <a:lnTo>
                    <a:pt x="954" y="74"/>
                  </a:lnTo>
                  <a:lnTo>
                    <a:pt x="1007" y="105"/>
                  </a:lnTo>
                  <a:lnTo>
                    <a:pt x="1057" y="140"/>
                  </a:lnTo>
                  <a:lnTo>
                    <a:pt x="1103" y="180"/>
                  </a:lnTo>
                  <a:lnTo>
                    <a:pt x="1145" y="224"/>
                  </a:lnTo>
                  <a:lnTo>
                    <a:pt x="1183" y="271"/>
                  </a:lnTo>
                  <a:lnTo>
                    <a:pt x="1216" y="324"/>
                  </a:lnTo>
                  <a:lnTo>
                    <a:pt x="1244" y="378"/>
                  </a:lnTo>
                  <a:lnTo>
                    <a:pt x="1267" y="435"/>
                  </a:lnTo>
                  <a:lnTo>
                    <a:pt x="1285" y="495"/>
                  </a:lnTo>
                  <a:lnTo>
                    <a:pt x="1297" y="558"/>
                  </a:lnTo>
                  <a:lnTo>
                    <a:pt x="1303" y="6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2124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6" h="665">
                  <a:moveTo>
                    <a:pt x="332" y="665"/>
                  </a:moveTo>
                  <a:lnTo>
                    <a:pt x="286" y="661"/>
                  </a:lnTo>
                  <a:lnTo>
                    <a:pt x="241" y="653"/>
                  </a:lnTo>
                  <a:lnTo>
                    <a:pt x="200" y="638"/>
                  </a:lnTo>
                  <a:lnTo>
                    <a:pt x="161" y="619"/>
                  </a:lnTo>
                  <a:lnTo>
                    <a:pt x="127" y="594"/>
                  </a:lnTo>
                  <a:lnTo>
                    <a:pt x="95" y="565"/>
                  </a:lnTo>
                  <a:lnTo>
                    <a:pt x="67" y="533"/>
                  </a:lnTo>
                  <a:lnTo>
                    <a:pt x="45" y="499"/>
                  </a:lnTo>
                  <a:lnTo>
                    <a:pt x="26" y="461"/>
                  </a:lnTo>
                  <a:lnTo>
                    <a:pt x="11" y="420"/>
                  </a:lnTo>
                  <a:lnTo>
                    <a:pt x="3" y="380"/>
                  </a:lnTo>
                  <a:lnTo>
                    <a:pt x="0" y="337"/>
                  </a:lnTo>
                  <a:lnTo>
                    <a:pt x="2" y="293"/>
                  </a:lnTo>
                  <a:lnTo>
                    <a:pt x="10" y="250"/>
                  </a:lnTo>
                  <a:lnTo>
                    <a:pt x="24" y="208"/>
                  </a:lnTo>
                  <a:lnTo>
                    <a:pt x="45" y="165"/>
                  </a:lnTo>
                  <a:lnTo>
                    <a:pt x="71" y="126"/>
                  </a:lnTo>
                  <a:lnTo>
                    <a:pt x="101" y="93"/>
                  </a:lnTo>
                  <a:lnTo>
                    <a:pt x="134" y="64"/>
                  </a:lnTo>
                  <a:lnTo>
                    <a:pt x="171" y="40"/>
                  </a:lnTo>
                  <a:lnTo>
                    <a:pt x="209" y="23"/>
                  </a:lnTo>
                  <a:lnTo>
                    <a:pt x="249" y="9"/>
                  </a:lnTo>
                  <a:lnTo>
                    <a:pt x="291" y="2"/>
                  </a:lnTo>
                  <a:lnTo>
                    <a:pt x="332" y="0"/>
                  </a:lnTo>
                  <a:lnTo>
                    <a:pt x="374" y="2"/>
                  </a:lnTo>
                  <a:lnTo>
                    <a:pt x="416" y="9"/>
                  </a:lnTo>
                  <a:lnTo>
                    <a:pt x="456" y="23"/>
                  </a:lnTo>
                  <a:lnTo>
                    <a:pt x="495" y="40"/>
                  </a:lnTo>
                  <a:lnTo>
                    <a:pt x="531" y="64"/>
                  </a:lnTo>
                  <a:lnTo>
                    <a:pt x="565" y="93"/>
                  </a:lnTo>
                  <a:lnTo>
                    <a:pt x="595" y="126"/>
                  </a:lnTo>
                  <a:lnTo>
                    <a:pt x="621" y="165"/>
                  </a:lnTo>
                  <a:lnTo>
                    <a:pt x="641" y="208"/>
                  </a:lnTo>
                  <a:lnTo>
                    <a:pt x="656" y="250"/>
                  </a:lnTo>
                  <a:lnTo>
                    <a:pt x="664" y="293"/>
                  </a:lnTo>
                  <a:lnTo>
                    <a:pt x="666" y="337"/>
                  </a:lnTo>
                  <a:lnTo>
                    <a:pt x="663" y="380"/>
                  </a:lnTo>
                  <a:lnTo>
                    <a:pt x="653" y="420"/>
                  </a:lnTo>
                  <a:lnTo>
                    <a:pt x="639" y="461"/>
                  </a:lnTo>
                  <a:lnTo>
                    <a:pt x="621" y="499"/>
                  </a:lnTo>
                  <a:lnTo>
                    <a:pt x="597" y="533"/>
                  </a:lnTo>
                  <a:lnTo>
                    <a:pt x="570" y="565"/>
                  </a:lnTo>
                  <a:lnTo>
                    <a:pt x="538" y="594"/>
                  </a:lnTo>
                  <a:lnTo>
                    <a:pt x="503" y="619"/>
                  </a:lnTo>
                  <a:lnTo>
                    <a:pt x="465" y="638"/>
                  </a:lnTo>
                  <a:lnTo>
                    <a:pt x="424" y="653"/>
                  </a:lnTo>
                  <a:lnTo>
                    <a:pt x="379" y="661"/>
                  </a:lnTo>
                  <a:lnTo>
                    <a:pt x="332" y="6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84920" y="3708360"/>
              <a:ext cx="83880" cy="171000"/>
            </a:xfrm>
            <a:custGeom>
              <a:avLst/>
              <a:gdLst/>
              <a:ahLst/>
              <a:rect l="l" t="t" r="r" b="b"/>
              <a:pathLst>
                <a:path w="266" h="537">
                  <a:moveTo>
                    <a:pt x="136" y="0"/>
                  </a:moveTo>
                  <a:lnTo>
                    <a:pt x="0" y="62"/>
                  </a:lnTo>
                  <a:lnTo>
                    <a:pt x="92" y="537"/>
                  </a:lnTo>
                  <a:lnTo>
                    <a:pt x="266" y="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70520" y="3990960"/>
              <a:ext cx="88920" cy="120240"/>
            </a:xfrm>
            <a:custGeom>
              <a:avLst/>
              <a:gdLst/>
              <a:ahLst/>
              <a:rect l="l" t="t" r="r" b="b"/>
              <a:pathLst>
                <a:path w="280" h="383">
                  <a:moveTo>
                    <a:pt x="280" y="0"/>
                  </a:moveTo>
                  <a:lnTo>
                    <a:pt x="0" y="0"/>
                  </a:lnTo>
                  <a:lnTo>
                    <a:pt x="61" y="3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73360" y="3890880"/>
              <a:ext cx="2160720" cy="412200"/>
            </a:xfrm>
            <a:custGeom>
              <a:avLst/>
              <a:gdLst/>
              <a:ahLst/>
              <a:rect l="l" t="t" r="r" b="b"/>
              <a:pathLst>
                <a:path w="6804" h="1302">
                  <a:moveTo>
                    <a:pt x="653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6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8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7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4" y="46"/>
                  </a:lnTo>
                  <a:lnTo>
                    <a:pt x="816" y="20"/>
                  </a:lnTo>
                  <a:lnTo>
                    <a:pt x="735" y="5"/>
                  </a:lnTo>
                  <a:lnTo>
                    <a:pt x="653" y="0"/>
                  </a:lnTo>
                  <a:lnTo>
                    <a:pt x="571" y="5"/>
                  </a:lnTo>
                  <a:lnTo>
                    <a:pt x="490" y="20"/>
                  </a:lnTo>
                  <a:lnTo>
                    <a:pt x="411" y="46"/>
                  </a:lnTo>
                  <a:lnTo>
                    <a:pt x="335" y="81"/>
                  </a:lnTo>
                  <a:lnTo>
                    <a:pt x="264" y="127"/>
                  </a:lnTo>
                  <a:lnTo>
                    <a:pt x="199" y="182"/>
                  </a:lnTo>
                  <a:lnTo>
                    <a:pt x="139" y="249"/>
                  </a:lnTo>
                  <a:lnTo>
                    <a:pt x="113" y="286"/>
                  </a:lnTo>
                  <a:lnTo>
                    <a:pt x="88" y="325"/>
                  </a:lnTo>
                  <a:lnTo>
                    <a:pt x="67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4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50" y="1163"/>
                  </a:lnTo>
                  <a:lnTo>
                    <a:pt x="319" y="1211"/>
                  </a:lnTo>
                  <a:lnTo>
                    <a:pt x="394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3" y="1302"/>
                  </a:lnTo>
                  <a:lnTo>
                    <a:pt x="653" y="983"/>
                  </a:lnTo>
                  <a:lnTo>
                    <a:pt x="699" y="979"/>
                  </a:lnTo>
                  <a:lnTo>
                    <a:pt x="744" y="971"/>
                  </a:lnTo>
                  <a:lnTo>
                    <a:pt x="785" y="955"/>
                  </a:lnTo>
                  <a:lnTo>
                    <a:pt x="824" y="936"/>
                  </a:lnTo>
                  <a:lnTo>
                    <a:pt x="858" y="911"/>
                  </a:lnTo>
                  <a:lnTo>
                    <a:pt x="890" y="883"/>
                  </a:lnTo>
                  <a:lnTo>
                    <a:pt x="918" y="852"/>
                  </a:lnTo>
                  <a:lnTo>
                    <a:pt x="940" y="816"/>
                  </a:lnTo>
                  <a:lnTo>
                    <a:pt x="959" y="778"/>
                  </a:lnTo>
                  <a:lnTo>
                    <a:pt x="974" y="739"/>
                  </a:lnTo>
                  <a:lnTo>
                    <a:pt x="982" y="698"/>
                  </a:lnTo>
                  <a:lnTo>
                    <a:pt x="985" y="656"/>
                  </a:lnTo>
                  <a:lnTo>
                    <a:pt x="983" y="612"/>
                  </a:lnTo>
                  <a:lnTo>
                    <a:pt x="975" y="569"/>
                  </a:lnTo>
                  <a:lnTo>
                    <a:pt x="961" y="527"/>
                  </a:lnTo>
                  <a:lnTo>
                    <a:pt x="940" y="484"/>
                  </a:lnTo>
                  <a:lnTo>
                    <a:pt x="914" y="445"/>
                  </a:lnTo>
                  <a:lnTo>
                    <a:pt x="884" y="412"/>
                  </a:lnTo>
                  <a:lnTo>
                    <a:pt x="851" y="383"/>
                  </a:lnTo>
                  <a:lnTo>
                    <a:pt x="814" y="359"/>
                  </a:lnTo>
                  <a:lnTo>
                    <a:pt x="776" y="342"/>
                  </a:lnTo>
                  <a:lnTo>
                    <a:pt x="736" y="328"/>
                  </a:lnTo>
                  <a:lnTo>
                    <a:pt x="694" y="321"/>
                  </a:lnTo>
                  <a:lnTo>
                    <a:pt x="653" y="319"/>
                  </a:lnTo>
                  <a:lnTo>
                    <a:pt x="611" y="321"/>
                  </a:lnTo>
                  <a:lnTo>
                    <a:pt x="569" y="328"/>
                  </a:lnTo>
                  <a:lnTo>
                    <a:pt x="529" y="342"/>
                  </a:lnTo>
                  <a:lnTo>
                    <a:pt x="491" y="359"/>
                  </a:lnTo>
                  <a:lnTo>
                    <a:pt x="454" y="383"/>
                  </a:lnTo>
                  <a:lnTo>
                    <a:pt x="421" y="412"/>
                  </a:lnTo>
                  <a:lnTo>
                    <a:pt x="391" y="445"/>
                  </a:lnTo>
                  <a:lnTo>
                    <a:pt x="365" y="484"/>
                  </a:lnTo>
                  <a:lnTo>
                    <a:pt x="344" y="527"/>
                  </a:lnTo>
                  <a:lnTo>
                    <a:pt x="329" y="569"/>
                  </a:lnTo>
                  <a:lnTo>
                    <a:pt x="321" y="612"/>
                  </a:lnTo>
                  <a:lnTo>
                    <a:pt x="320" y="656"/>
                  </a:lnTo>
                  <a:lnTo>
                    <a:pt x="323" y="698"/>
                  </a:lnTo>
                  <a:lnTo>
                    <a:pt x="332" y="739"/>
                  </a:lnTo>
                  <a:lnTo>
                    <a:pt x="346" y="778"/>
                  </a:lnTo>
                  <a:lnTo>
                    <a:pt x="365" y="816"/>
                  </a:lnTo>
                  <a:lnTo>
                    <a:pt x="388" y="852"/>
                  </a:lnTo>
                  <a:lnTo>
                    <a:pt x="415" y="883"/>
                  </a:lnTo>
                  <a:lnTo>
                    <a:pt x="447" y="911"/>
                  </a:lnTo>
                  <a:lnTo>
                    <a:pt x="482" y="936"/>
                  </a:lnTo>
                  <a:lnTo>
                    <a:pt x="520" y="955"/>
                  </a:lnTo>
                  <a:lnTo>
                    <a:pt x="561" y="971"/>
                  </a:lnTo>
                  <a:lnTo>
                    <a:pt x="606" y="979"/>
                  </a:lnTo>
                  <a:lnTo>
                    <a:pt x="653" y="983"/>
                  </a:lnTo>
                  <a:lnTo>
                    <a:pt x="653" y="1302"/>
                  </a:lnTo>
                  <a:close/>
                  <a:moveTo>
                    <a:pt x="6151" y="1302"/>
                  </a:moveTo>
                  <a:lnTo>
                    <a:pt x="6243" y="1296"/>
                  </a:lnTo>
                  <a:lnTo>
                    <a:pt x="6330" y="1278"/>
                  </a:lnTo>
                  <a:lnTo>
                    <a:pt x="6412" y="1249"/>
                  </a:lnTo>
                  <a:lnTo>
                    <a:pt x="6487" y="1211"/>
                  </a:lnTo>
                  <a:lnTo>
                    <a:pt x="6554" y="1163"/>
                  </a:lnTo>
                  <a:lnTo>
                    <a:pt x="6616" y="1107"/>
                  </a:lnTo>
                  <a:lnTo>
                    <a:pt x="6670" y="1044"/>
                  </a:lnTo>
                  <a:lnTo>
                    <a:pt x="6716" y="977"/>
                  </a:lnTo>
                  <a:lnTo>
                    <a:pt x="6752" y="903"/>
                  </a:lnTo>
                  <a:lnTo>
                    <a:pt x="6779" y="825"/>
                  </a:lnTo>
                  <a:lnTo>
                    <a:pt x="6797" y="744"/>
                  </a:lnTo>
                  <a:lnTo>
                    <a:pt x="6804" y="661"/>
                  </a:lnTo>
                  <a:lnTo>
                    <a:pt x="6799" y="577"/>
                  </a:lnTo>
                  <a:lnTo>
                    <a:pt x="6784" y="491"/>
                  </a:lnTo>
                  <a:lnTo>
                    <a:pt x="6756" y="408"/>
                  </a:lnTo>
                  <a:lnTo>
                    <a:pt x="6716" y="325"/>
                  </a:lnTo>
                  <a:lnTo>
                    <a:pt x="6665" y="249"/>
                  </a:lnTo>
                  <a:lnTo>
                    <a:pt x="6605" y="182"/>
                  </a:lnTo>
                  <a:lnTo>
                    <a:pt x="6540" y="127"/>
                  </a:lnTo>
                  <a:lnTo>
                    <a:pt x="6469" y="81"/>
                  </a:lnTo>
                  <a:lnTo>
                    <a:pt x="6394" y="46"/>
                  </a:lnTo>
                  <a:lnTo>
                    <a:pt x="6315" y="20"/>
                  </a:lnTo>
                  <a:lnTo>
                    <a:pt x="6235" y="5"/>
                  </a:lnTo>
                  <a:lnTo>
                    <a:pt x="6153" y="0"/>
                  </a:lnTo>
                  <a:lnTo>
                    <a:pt x="6069" y="5"/>
                  </a:lnTo>
                  <a:lnTo>
                    <a:pt x="5988" y="20"/>
                  </a:lnTo>
                  <a:lnTo>
                    <a:pt x="5910" y="46"/>
                  </a:lnTo>
                  <a:lnTo>
                    <a:pt x="5835" y="81"/>
                  </a:lnTo>
                  <a:lnTo>
                    <a:pt x="5764" y="127"/>
                  </a:lnTo>
                  <a:lnTo>
                    <a:pt x="5698" y="182"/>
                  </a:lnTo>
                  <a:lnTo>
                    <a:pt x="5639" y="249"/>
                  </a:lnTo>
                  <a:lnTo>
                    <a:pt x="5613" y="286"/>
                  </a:lnTo>
                  <a:lnTo>
                    <a:pt x="5588" y="325"/>
                  </a:lnTo>
                  <a:lnTo>
                    <a:pt x="5567" y="366"/>
                  </a:lnTo>
                  <a:lnTo>
                    <a:pt x="5547" y="408"/>
                  </a:lnTo>
                  <a:lnTo>
                    <a:pt x="5519" y="491"/>
                  </a:lnTo>
                  <a:lnTo>
                    <a:pt x="5504" y="577"/>
                  </a:lnTo>
                  <a:lnTo>
                    <a:pt x="5499" y="661"/>
                  </a:lnTo>
                  <a:lnTo>
                    <a:pt x="5506" y="744"/>
                  </a:lnTo>
                  <a:lnTo>
                    <a:pt x="5524" y="825"/>
                  </a:lnTo>
                  <a:lnTo>
                    <a:pt x="5551" y="903"/>
                  </a:lnTo>
                  <a:lnTo>
                    <a:pt x="5588" y="977"/>
                  </a:lnTo>
                  <a:lnTo>
                    <a:pt x="5633" y="1044"/>
                  </a:lnTo>
                  <a:lnTo>
                    <a:pt x="5687" y="1107"/>
                  </a:lnTo>
                  <a:lnTo>
                    <a:pt x="5748" y="1163"/>
                  </a:lnTo>
                  <a:lnTo>
                    <a:pt x="5817" y="1211"/>
                  </a:lnTo>
                  <a:lnTo>
                    <a:pt x="5892" y="1249"/>
                  </a:lnTo>
                  <a:lnTo>
                    <a:pt x="5973" y="1278"/>
                  </a:lnTo>
                  <a:lnTo>
                    <a:pt x="6060" y="1296"/>
                  </a:lnTo>
                  <a:lnTo>
                    <a:pt x="6151" y="1302"/>
                  </a:lnTo>
                  <a:lnTo>
                    <a:pt x="6151" y="983"/>
                  </a:lnTo>
                  <a:lnTo>
                    <a:pt x="6198" y="979"/>
                  </a:lnTo>
                  <a:lnTo>
                    <a:pt x="6243" y="971"/>
                  </a:lnTo>
                  <a:lnTo>
                    <a:pt x="6283" y="955"/>
                  </a:lnTo>
                  <a:lnTo>
                    <a:pt x="6322" y="936"/>
                  </a:lnTo>
                  <a:lnTo>
                    <a:pt x="6357" y="911"/>
                  </a:lnTo>
                  <a:lnTo>
                    <a:pt x="6389" y="883"/>
                  </a:lnTo>
                  <a:lnTo>
                    <a:pt x="6416" y="852"/>
                  </a:lnTo>
                  <a:lnTo>
                    <a:pt x="6439" y="816"/>
                  </a:lnTo>
                  <a:lnTo>
                    <a:pt x="6458" y="778"/>
                  </a:lnTo>
                  <a:lnTo>
                    <a:pt x="6472" y="739"/>
                  </a:lnTo>
                  <a:lnTo>
                    <a:pt x="6481" y="698"/>
                  </a:lnTo>
                  <a:lnTo>
                    <a:pt x="6484" y="656"/>
                  </a:lnTo>
                  <a:lnTo>
                    <a:pt x="6483" y="612"/>
                  </a:lnTo>
                  <a:lnTo>
                    <a:pt x="6475" y="569"/>
                  </a:lnTo>
                  <a:lnTo>
                    <a:pt x="6460" y="527"/>
                  </a:lnTo>
                  <a:lnTo>
                    <a:pt x="6440" y="484"/>
                  </a:lnTo>
                  <a:lnTo>
                    <a:pt x="6414" y="445"/>
                  </a:lnTo>
                  <a:lnTo>
                    <a:pt x="6384" y="412"/>
                  </a:lnTo>
                  <a:lnTo>
                    <a:pt x="6350" y="383"/>
                  </a:lnTo>
                  <a:lnTo>
                    <a:pt x="6314" y="359"/>
                  </a:lnTo>
                  <a:lnTo>
                    <a:pt x="6275" y="342"/>
                  </a:lnTo>
                  <a:lnTo>
                    <a:pt x="6235" y="328"/>
                  </a:lnTo>
                  <a:lnTo>
                    <a:pt x="6193" y="321"/>
                  </a:lnTo>
                  <a:lnTo>
                    <a:pt x="6151" y="319"/>
                  </a:lnTo>
                  <a:lnTo>
                    <a:pt x="6110" y="321"/>
                  </a:lnTo>
                  <a:lnTo>
                    <a:pt x="6068" y="328"/>
                  </a:lnTo>
                  <a:lnTo>
                    <a:pt x="6028" y="342"/>
                  </a:lnTo>
                  <a:lnTo>
                    <a:pt x="5990" y="359"/>
                  </a:lnTo>
                  <a:lnTo>
                    <a:pt x="5953" y="383"/>
                  </a:lnTo>
                  <a:lnTo>
                    <a:pt x="5920" y="412"/>
                  </a:lnTo>
                  <a:lnTo>
                    <a:pt x="5890" y="445"/>
                  </a:lnTo>
                  <a:lnTo>
                    <a:pt x="5864" y="484"/>
                  </a:lnTo>
                  <a:lnTo>
                    <a:pt x="5842" y="527"/>
                  </a:lnTo>
                  <a:lnTo>
                    <a:pt x="5828" y="569"/>
                  </a:lnTo>
                  <a:lnTo>
                    <a:pt x="5821" y="612"/>
                  </a:lnTo>
                  <a:lnTo>
                    <a:pt x="5819" y="656"/>
                  </a:lnTo>
                  <a:lnTo>
                    <a:pt x="5822" y="698"/>
                  </a:lnTo>
                  <a:lnTo>
                    <a:pt x="5830" y="739"/>
                  </a:lnTo>
                  <a:lnTo>
                    <a:pt x="5845" y="778"/>
                  </a:lnTo>
                  <a:lnTo>
                    <a:pt x="5864" y="816"/>
                  </a:lnTo>
                  <a:lnTo>
                    <a:pt x="5886" y="852"/>
                  </a:lnTo>
                  <a:lnTo>
                    <a:pt x="5915" y="883"/>
                  </a:lnTo>
                  <a:lnTo>
                    <a:pt x="5946" y="911"/>
                  </a:lnTo>
                  <a:lnTo>
                    <a:pt x="5981" y="936"/>
                  </a:lnTo>
                  <a:lnTo>
                    <a:pt x="6019" y="955"/>
                  </a:lnTo>
                  <a:lnTo>
                    <a:pt x="6061" y="971"/>
                  </a:lnTo>
                  <a:lnTo>
                    <a:pt x="6105" y="979"/>
                  </a:lnTo>
                  <a:lnTo>
                    <a:pt x="6151" y="983"/>
                  </a:lnTo>
                  <a:lnTo>
                    <a:pt x="6151" y="1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73360" y="3890880"/>
              <a:ext cx="414360" cy="412200"/>
            </a:xfrm>
            <a:custGeom>
              <a:avLst/>
              <a:gdLst/>
              <a:ahLst/>
              <a:rect l="l" t="t" r="r" b="b"/>
              <a:pathLst>
                <a:path w="1305" h="1302">
                  <a:moveTo>
                    <a:pt x="653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6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8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7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4" y="46"/>
                  </a:lnTo>
                  <a:lnTo>
                    <a:pt x="816" y="20"/>
                  </a:lnTo>
                  <a:lnTo>
                    <a:pt x="735" y="5"/>
                  </a:lnTo>
                  <a:lnTo>
                    <a:pt x="653" y="0"/>
                  </a:lnTo>
                  <a:lnTo>
                    <a:pt x="571" y="5"/>
                  </a:lnTo>
                  <a:lnTo>
                    <a:pt x="490" y="20"/>
                  </a:lnTo>
                  <a:lnTo>
                    <a:pt x="411" y="46"/>
                  </a:lnTo>
                  <a:lnTo>
                    <a:pt x="335" y="81"/>
                  </a:lnTo>
                  <a:lnTo>
                    <a:pt x="264" y="127"/>
                  </a:lnTo>
                  <a:lnTo>
                    <a:pt x="199" y="182"/>
                  </a:lnTo>
                  <a:lnTo>
                    <a:pt x="139" y="249"/>
                  </a:lnTo>
                  <a:lnTo>
                    <a:pt x="113" y="286"/>
                  </a:lnTo>
                  <a:lnTo>
                    <a:pt x="88" y="325"/>
                  </a:lnTo>
                  <a:lnTo>
                    <a:pt x="67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4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50" y="1163"/>
                  </a:lnTo>
                  <a:lnTo>
                    <a:pt x="319" y="1211"/>
                  </a:lnTo>
                  <a:lnTo>
                    <a:pt x="394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3" y="130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7488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5" h="664">
                  <a:moveTo>
                    <a:pt x="333" y="664"/>
                  </a:moveTo>
                  <a:lnTo>
                    <a:pt x="379" y="660"/>
                  </a:lnTo>
                  <a:lnTo>
                    <a:pt x="424" y="652"/>
                  </a:lnTo>
                  <a:lnTo>
                    <a:pt x="465" y="636"/>
                  </a:lnTo>
                  <a:lnTo>
                    <a:pt x="504" y="617"/>
                  </a:lnTo>
                  <a:lnTo>
                    <a:pt x="538" y="592"/>
                  </a:lnTo>
                  <a:lnTo>
                    <a:pt x="570" y="564"/>
                  </a:lnTo>
                  <a:lnTo>
                    <a:pt x="598" y="533"/>
                  </a:lnTo>
                  <a:lnTo>
                    <a:pt x="620" y="497"/>
                  </a:lnTo>
                  <a:lnTo>
                    <a:pt x="639" y="459"/>
                  </a:lnTo>
                  <a:lnTo>
                    <a:pt x="654" y="420"/>
                  </a:lnTo>
                  <a:lnTo>
                    <a:pt x="662" y="379"/>
                  </a:lnTo>
                  <a:lnTo>
                    <a:pt x="665" y="337"/>
                  </a:lnTo>
                  <a:lnTo>
                    <a:pt x="663" y="293"/>
                  </a:lnTo>
                  <a:lnTo>
                    <a:pt x="655" y="250"/>
                  </a:lnTo>
                  <a:lnTo>
                    <a:pt x="641" y="208"/>
                  </a:lnTo>
                  <a:lnTo>
                    <a:pt x="620" y="165"/>
                  </a:lnTo>
                  <a:lnTo>
                    <a:pt x="594" y="126"/>
                  </a:lnTo>
                  <a:lnTo>
                    <a:pt x="564" y="93"/>
                  </a:lnTo>
                  <a:lnTo>
                    <a:pt x="531" y="64"/>
                  </a:lnTo>
                  <a:lnTo>
                    <a:pt x="494" y="40"/>
                  </a:lnTo>
                  <a:lnTo>
                    <a:pt x="456" y="23"/>
                  </a:lnTo>
                  <a:lnTo>
                    <a:pt x="416" y="9"/>
                  </a:lnTo>
                  <a:lnTo>
                    <a:pt x="374" y="2"/>
                  </a:lnTo>
                  <a:lnTo>
                    <a:pt x="333" y="0"/>
                  </a:lnTo>
                  <a:lnTo>
                    <a:pt x="291" y="2"/>
                  </a:lnTo>
                  <a:lnTo>
                    <a:pt x="249" y="9"/>
                  </a:lnTo>
                  <a:lnTo>
                    <a:pt x="209" y="23"/>
                  </a:lnTo>
                  <a:lnTo>
                    <a:pt x="171" y="40"/>
                  </a:lnTo>
                  <a:lnTo>
                    <a:pt x="134" y="64"/>
                  </a:lnTo>
                  <a:lnTo>
                    <a:pt x="101" y="93"/>
                  </a:lnTo>
                  <a:lnTo>
                    <a:pt x="71" y="126"/>
                  </a:lnTo>
                  <a:lnTo>
                    <a:pt x="45" y="165"/>
                  </a:lnTo>
                  <a:lnTo>
                    <a:pt x="24" y="208"/>
                  </a:lnTo>
                  <a:lnTo>
                    <a:pt x="9" y="250"/>
                  </a:lnTo>
                  <a:lnTo>
                    <a:pt x="1" y="293"/>
                  </a:lnTo>
                  <a:lnTo>
                    <a:pt x="0" y="337"/>
                  </a:lnTo>
                  <a:lnTo>
                    <a:pt x="3" y="379"/>
                  </a:lnTo>
                  <a:lnTo>
                    <a:pt x="12" y="420"/>
                  </a:lnTo>
                  <a:lnTo>
                    <a:pt x="26" y="459"/>
                  </a:lnTo>
                  <a:lnTo>
                    <a:pt x="45" y="497"/>
                  </a:lnTo>
                  <a:lnTo>
                    <a:pt x="68" y="533"/>
                  </a:lnTo>
                  <a:lnTo>
                    <a:pt x="95" y="564"/>
                  </a:lnTo>
                  <a:lnTo>
                    <a:pt x="127" y="592"/>
                  </a:lnTo>
                  <a:lnTo>
                    <a:pt x="162" y="617"/>
                  </a:lnTo>
                  <a:lnTo>
                    <a:pt x="200" y="636"/>
                  </a:lnTo>
                  <a:lnTo>
                    <a:pt x="241" y="652"/>
                  </a:lnTo>
                  <a:lnTo>
                    <a:pt x="286" y="660"/>
                  </a:lnTo>
                  <a:lnTo>
                    <a:pt x="333" y="6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19720" y="3890880"/>
              <a:ext cx="414360" cy="412200"/>
            </a:xfrm>
            <a:custGeom>
              <a:avLst/>
              <a:gdLst/>
              <a:ahLst/>
              <a:rect l="l" t="t" r="r" b="b"/>
              <a:pathLst>
                <a:path w="1305" h="1302">
                  <a:moveTo>
                    <a:pt x="652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5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7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6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5" y="46"/>
                  </a:lnTo>
                  <a:lnTo>
                    <a:pt x="816" y="20"/>
                  </a:lnTo>
                  <a:lnTo>
                    <a:pt x="736" y="5"/>
                  </a:lnTo>
                  <a:lnTo>
                    <a:pt x="654" y="0"/>
                  </a:lnTo>
                  <a:lnTo>
                    <a:pt x="570" y="5"/>
                  </a:lnTo>
                  <a:lnTo>
                    <a:pt x="489" y="20"/>
                  </a:lnTo>
                  <a:lnTo>
                    <a:pt x="411" y="46"/>
                  </a:lnTo>
                  <a:lnTo>
                    <a:pt x="336" y="81"/>
                  </a:lnTo>
                  <a:lnTo>
                    <a:pt x="265" y="127"/>
                  </a:lnTo>
                  <a:lnTo>
                    <a:pt x="199" y="182"/>
                  </a:lnTo>
                  <a:lnTo>
                    <a:pt x="140" y="249"/>
                  </a:lnTo>
                  <a:lnTo>
                    <a:pt x="114" y="286"/>
                  </a:lnTo>
                  <a:lnTo>
                    <a:pt x="89" y="325"/>
                  </a:lnTo>
                  <a:lnTo>
                    <a:pt x="68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5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49" y="1163"/>
                  </a:lnTo>
                  <a:lnTo>
                    <a:pt x="318" y="1211"/>
                  </a:lnTo>
                  <a:lnTo>
                    <a:pt x="393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2" y="130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2124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5" h="664">
                  <a:moveTo>
                    <a:pt x="332" y="664"/>
                  </a:moveTo>
                  <a:lnTo>
                    <a:pt x="379" y="660"/>
                  </a:lnTo>
                  <a:lnTo>
                    <a:pt x="424" y="652"/>
                  </a:lnTo>
                  <a:lnTo>
                    <a:pt x="464" y="636"/>
                  </a:lnTo>
                  <a:lnTo>
                    <a:pt x="503" y="617"/>
                  </a:lnTo>
                  <a:lnTo>
                    <a:pt x="538" y="592"/>
                  </a:lnTo>
                  <a:lnTo>
                    <a:pt x="570" y="564"/>
                  </a:lnTo>
                  <a:lnTo>
                    <a:pt x="597" y="533"/>
                  </a:lnTo>
                  <a:lnTo>
                    <a:pt x="620" y="497"/>
                  </a:lnTo>
                  <a:lnTo>
                    <a:pt x="639" y="459"/>
                  </a:lnTo>
                  <a:lnTo>
                    <a:pt x="653" y="420"/>
                  </a:lnTo>
                  <a:lnTo>
                    <a:pt x="662" y="379"/>
                  </a:lnTo>
                  <a:lnTo>
                    <a:pt x="665" y="337"/>
                  </a:lnTo>
                  <a:lnTo>
                    <a:pt x="664" y="293"/>
                  </a:lnTo>
                  <a:lnTo>
                    <a:pt x="656" y="250"/>
                  </a:lnTo>
                  <a:lnTo>
                    <a:pt x="641" y="208"/>
                  </a:lnTo>
                  <a:lnTo>
                    <a:pt x="621" y="165"/>
                  </a:lnTo>
                  <a:lnTo>
                    <a:pt x="595" y="126"/>
                  </a:lnTo>
                  <a:lnTo>
                    <a:pt x="565" y="93"/>
                  </a:lnTo>
                  <a:lnTo>
                    <a:pt x="531" y="64"/>
                  </a:lnTo>
                  <a:lnTo>
                    <a:pt x="495" y="40"/>
                  </a:lnTo>
                  <a:lnTo>
                    <a:pt x="456" y="23"/>
                  </a:lnTo>
                  <a:lnTo>
                    <a:pt x="416" y="9"/>
                  </a:lnTo>
                  <a:lnTo>
                    <a:pt x="374" y="2"/>
                  </a:lnTo>
                  <a:lnTo>
                    <a:pt x="332" y="0"/>
                  </a:lnTo>
                  <a:lnTo>
                    <a:pt x="291" y="2"/>
                  </a:lnTo>
                  <a:lnTo>
                    <a:pt x="249" y="9"/>
                  </a:lnTo>
                  <a:lnTo>
                    <a:pt x="209" y="23"/>
                  </a:lnTo>
                  <a:lnTo>
                    <a:pt x="171" y="40"/>
                  </a:lnTo>
                  <a:lnTo>
                    <a:pt x="134" y="64"/>
                  </a:lnTo>
                  <a:lnTo>
                    <a:pt x="101" y="93"/>
                  </a:lnTo>
                  <a:lnTo>
                    <a:pt x="71" y="126"/>
                  </a:lnTo>
                  <a:lnTo>
                    <a:pt x="45" y="165"/>
                  </a:lnTo>
                  <a:lnTo>
                    <a:pt x="23" y="208"/>
                  </a:lnTo>
                  <a:lnTo>
                    <a:pt x="9" y="250"/>
                  </a:lnTo>
                  <a:lnTo>
                    <a:pt x="2" y="293"/>
                  </a:lnTo>
                  <a:lnTo>
                    <a:pt x="0" y="337"/>
                  </a:lnTo>
                  <a:lnTo>
                    <a:pt x="3" y="379"/>
                  </a:lnTo>
                  <a:lnTo>
                    <a:pt x="11" y="420"/>
                  </a:lnTo>
                  <a:lnTo>
                    <a:pt x="26" y="459"/>
                  </a:lnTo>
                  <a:lnTo>
                    <a:pt x="45" y="497"/>
                  </a:lnTo>
                  <a:lnTo>
                    <a:pt x="67" y="533"/>
                  </a:lnTo>
                  <a:lnTo>
                    <a:pt x="96" y="564"/>
                  </a:lnTo>
                  <a:lnTo>
                    <a:pt x="127" y="592"/>
                  </a:lnTo>
                  <a:lnTo>
                    <a:pt x="162" y="617"/>
                  </a:lnTo>
                  <a:lnTo>
                    <a:pt x="200" y="636"/>
                  </a:lnTo>
                  <a:lnTo>
                    <a:pt x="242" y="652"/>
                  </a:lnTo>
                  <a:lnTo>
                    <a:pt x="286" y="660"/>
                  </a:lnTo>
                  <a:lnTo>
                    <a:pt x="332" y="6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SYMETRY9" descr=""/>
          <p:cNvPicPr/>
          <p:nvPr/>
        </p:nvPicPr>
        <p:blipFill>
          <a:blip r:embed="rId1"/>
          <a:stretch/>
        </p:blipFill>
        <p:spPr>
          <a:xfrm>
            <a:off x="3300480" y="253836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SEWING_M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438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HORN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286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3789360" y="3027240"/>
            <a:ext cx="1563840" cy="1565280"/>
            <a:chOff x="3789360" y="3027240"/>
            <a:chExt cx="1563840" cy="1565280"/>
          </a:xfrm>
        </p:grpSpPr>
        <p:sp>
          <p:nvSpPr>
            <p:cNvPr id="670" name=""/>
            <p:cNvSpPr/>
            <p:nvPr/>
          </p:nvSpPr>
          <p:spPr>
            <a:xfrm>
              <a:off x="3789360" y="3027240"/>
              <a:ext cx="1563840" cy="782640"/>
            </a:xfrm>
            <a:custGeom>
              <a:avLst/>
              <a:gdLst/>
              <a:ahLst/>
              <a:rect l="l" t="t" r="r" b="b"/>
              <a:pathLst>
                <a:path w="1969" h="985">
                  <a:moveTo>
                    <a:pt x="0" y="985"/>
                  </a:moveTo>
                  <a:lnTo>
                    <a:pt x="985" y="0"/>
                  </a:lnTo>
                  <a:lnTo>
                    <a:pt x="1969" y="985"/>
                  </a:lnTo>
                  <a:lnTo>
                    <a:pt x="1969" y="985"/>
                  </a:lnTo>
                  <a:lnTo>
                    <a:pt x="1903" y="985"/>
                  </a:lnTo>
                  <a:lnTo>
                    <a:pt x="1903" y="985"/>
                  </a:lnTo>
                  <a:lnTo>
                    <a:pt x="985" y="66"/>
                  </a:lnTo>
                  <a:lnTo>
                    <a:pt x="66" y="985"/>
                  </a:lnTo>
                  <a:lnTo>
                    <a:pt x="0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89360" y="3809880"/>
              <a:ext cx="1563840" cy="782640"/>
            </a:xfrm>
            <a:custGeom>
              <a:avLst/>
              <a:gdLst/>
              <a:ahLst/>
              <a:rect l="l" t="t" r="r" b="b"/>
              <a:pathLst>
                <a:path w="1969" h="986">
                  <a:moveTo>
                    <a:pt x="0" y="0"/>
                  </a:moveTo>
                  <a:lnTo>
                    <a:pt x="0" y="0"/>
                  </a:lnTo>
                  <a:lnTo>
                    <a:pt x="985" y="986"/>
                  </a:lnTo>
                  <a:lnTo>
                    <a:pt x="1969" y="0"/>
                  </a:lnTo>
                  <a:lnTo>
                    <a:pt x="1903" y="0"/>
                  </a:lnTo>
                  <a:lnTo>
                    <a:pt x="985" y="92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72000" y="3128760"/>
              <a:ext cx="679320" cy="1361880"/>
            </a:xfrm>
            <a:custGeom>
              <a:avLst/>
              <a:gdLst/>
              <a:ahLst/>
              <a:rect l="l" t="t" r="r" b="b"/>
              <a:pathLst>
                <a:path w="857" h="1717">
                  <a:moveTo>
                    <a:pt x="0" y="1717"/>
                  </a:moveTo>
                  <a:lnTo>
                    <a:pt x="857" y="858"/>
                  </a:lnTo>
                  <a:lnTo>
                    <a:pt x="0" y="0"/>
                  </a:lnTo>
                  <a:lnTo>
                    <a:pt x="0" y="17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2000" y="3471480"/>
              <a:ext cx="338040" cy="676440"/>
            </a:xfrm>
            <a:custGeom>
              <a:avLst/>
              <a:gdLst/>
              <a:ahLst/>
              <a:rect l="l" t="t" r="r" b="b"/>
              <a:pathLst>
                <a:path w="427" h="853">
                  <a:moveTo>
                    <a:pt x="0" y="853"/>
                  </a:moveTo>
                  <a:lnTo>
                    <a:pt x="427" y="426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33960" y="3471480"/>
              <a:ext cx="338040" cy="676440"/>
            </a:xfrm>
            <a:custGeom>
              <a:avLst/>
              <a:gdLst/>
              <a:ahLst/>
              <a:rect l="l" t="t" r="r" b="b"/>
              <a:pathLst>
                <a:path w="426" h="853">
                  <a:moveTo>
                    <a:pt x="426" y="0"/>
                  </a:moveTo>
                  <a:lnTo>
                    <a:pt x="0" y="426"/>
                  </a:lnTo>
                  <a:lnTo>
                    <a:pt x="426" y="853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1371600"/>
            <a:ext cx="5386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279520" y="1060560"/>
            <a:ext cx="1636920" cy="877680"/>
          </a:xfrm>
          <a:custGeom>
            <a:avLst/>
            <a:gdLst/>
            <a:ahLst/>
            <a:rect l="l" t="t" r="r" b="b"/>
            <a:pathLst>
              <a:path w="2063" h="1107">
                <a:moveTo>
                  <a:pt x="0" y="4"/>
                </a:moveTo>
                <a:lnTo>
                  <a:pt x="1032" y="1107"/>
                </a:lnTo>
                <a:lnTo>
                  <a:pt x="2063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755880" y="3124080"/>
            <a:ext cx="1631880" cy="1866600"/>
            <a:chOff x="3755880" y="3124080"/>
            <a:chExt cx="1631880" cy="1866600"/>
          </a:xfrm>
        </p:grpSpPr>
        <p:sp>
          <p:nvSpPr>
            <p:cNvPr id="678" name=""/>
            <p:cNvSpPr/>
            <p:nvPr/>
          </p:nvSpPr>
          <p:spPr>
            <a:xfrm>
              <a:off x="4084560" y="3124080"/>
              <a:ext cx="947160" cy="460800"/>
            </a:xfrm>
            <a:custGeom>
              <a:avLst/>
              <a:gdLst/>
              <a:ahLst/>
              <a:rect l="l" t="t" r="r" b="b"/>
              <a:pathLst>
                <a:path w="1362" h="641">
                  <a:moveTo>
                    <a:pt x="71" y="160"/>
                  </a:moveTo>
                  <a:lnTo>
                    <a:pt x="301" y="0"/>
                  </a:lnTo>
                  <a:lnTo>
                    <a:pt x="1097" y="0"/>
                  </a:lnTo>
                  <a:lnTo>
                    <a:pt x="1307" y="124"/>
                  </a:lnTo>
                  <a:lnTo>
                    <a:pt x="1362" y="388"/>
                  </a:lnTo>
                  <a:lnTo>
                    <a:pt x="1196" y="641"/>
                  </a:lnTo>
                  <a:lnTo>
                    <a:pt x="689" y="641"/>
                  </a:lnTo>
                  <a:lnTo>
                    <a:pt x="191" y="641"/>
                  </a:lnTo>
                  <a:lnTo>
                    <a:pt x="0" y="432"/>
                  </a:lnTo>
                  <a:lnTo>
                    <a:pt x="71" y="16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6800" y="4016520"/>
              <a:ext cx="34560" cy="25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4"/>
                  </a:moveTo>
                  <a:lnTo>
                    <a:pt x="19" y="4"/>
                  </a:lnTo>
                  <a:lnTo>
                    <a:pt x="38" y="4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57320" y="3639240"/>
              <a:ext cx="1626480" cy="1351440"/>
            </a:xfrm>
            <a:custGeom>
              <a:avLst/>
              <a:gdLst/>
              <a:ahLst/>
              <a:rect l="l" t="t" r="r" b="b"/>
              <a:pathLst>
                <a:path w="2336" h="1879">
                  <a:moveTo>
                    <a:pt x="0" y="0"/>
                  </a:moveTo>
                  <a:lnTo>
                    <a:pt x="642" y="1012"/>
                  </a:lnTo>
                  <a:lnTo>
                    <a:pt x="1186" y="1879"/>
                  </a:lnTo>
                  <a:lnTo>
                    <a:pt x="1646" y="1139"/>
                  </a:lnTo>
                  <a:lnTo>
                    <a:pt x="2336" y="17"/>
                  </a:lnTo>
                  <a:lnTo>
                    <a:pt x="2146" y="194"/>
                  </a:lnTo>
                  <a:lnTo>
                    <a:pt x="1897" y="398"/>
                  </a:lnTo>
                  <a:lnTo>
                    <a:pt x="1559" y="491"/>
                  </a:lnTo>
                  <a:lnTo>
                    <a:pt x="1186" y="517"/>
                  </a:lnTo>
                  <a:lnTo>
                    <a:pt x="836" y="510"/>
                  </a:lnTo>
                  <a:lnTo>
                    <a:pt x="509" y="436"/>
                  </a:lnTo>
                  <a:lnTo>
                    <a:pt x="243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917240" y="3402000"/>
              <a:ext cx="468000" cy="531000"/>
            </a:xfrm>
            <a:custGeom>
              <a:avLst/>
              <a:gdLst/>
              <a:ahLst/>
              <a:rect l="l" t="t" r="r" b="b"/>
              <a:pathLst>
                <a:path w="673" h="738">
                  <a:moveTo>
                    <a:pt x="234" y="738"/>
                  </a:moveTo>
                  <a:lnTo>
                    <a:pt x="276" y="717"/>
                  </a:lnTo>
                  <a:lnTo>
                    <a:pt x="316" y="692"/>
                  </a:lnTo>
                  <a:lnTo>
                    <a:pt x="373" y="649"/>
                  </a:lnTo>
                  <a:lnTo>
                    <a:pt x="396" y="630"/>
                  </a:lnTo>
                  <a:lnTo>
                    <a:pt x="424" y="605"/>
                  </a:lnTo>
                  <a:lnTo>
                    <a:pt x="468" y="565"/>
                  </a:lnTo>
                  <a:lnTo>
                    <a:pt x="476" y="559"/>
                  </a:lnTo>
                  <a:lnTo>
                    <a:pt x="542" y="487"/>
                  </a:lnTo>
                  <a:lnTo>
                    <a:pt x="673" y="352"/>
                  </a:lnTo>
                  <a:lnTo>
                    <a:pt x="382" y="153"/>
                  </a:lnTo>
                  <a:lnTo>
                    <a:pt x="669" y="352"/>
                  </a:lnTo>
                  <a:lnTo>
                    <a:pt x="164" y="0"/>
                  </a:lnTo>
                  <a:lnTo>
                    <a:pt x="0" y="253"/>
                  </a:lnTo>
                  <a:lnTo>
                    <a:pt x="234" y="73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85680" y="3933000"/>
              <a:ext cx="494280" cy="1055880"/>
            </a:xfrm>
            <a:custGeom>
              <a:avLst/>
              <a:gdLst/>
              <a:ahLst/>
              <a:rect l="l" t="t" r="r" b="b"/>
              <a:pathLst>
                <a:path w="709" h="1470">
                  <a:moveTo>
                    <a:pt x="0" y="124"/>
                  </a:moveTo>
                  <a:lnTo>
                    <a:pt x="0" y="1470"/>
                  </a:lnTo>
                  <a:lnTo>
                    <a:pt x="709" y="0"/>
                  </a:lnTo>
                  <a:lnTo>
                    <a:pt x="414" y="9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57320" y="3433680"/>
              <a:ext cx="460800" cy="517680"/>
            </a:xfrm>
            <a:custGeom>
              <a:avLst/>
              <a:gdLst/>
              <a:ahLst/>
              <a:rect l="l" t="t" r="r" b="b"/>
              <a:pathLst>
                <a:path w="661" h="721">
                  <a:moveTo>
                    <a:pt x="469" y="0"/>
                  </a:moveTo>
                  <a:lnTo>
                    <a:pt x="0" y="285"/>
                  </a:lnTo>
                  <a:lnTo>
                    <a:pt x="15" y="304"/>
                  </a:lnTo>
                  <a:lnTo>
                    <a:pt x="30" y="318"/>
                  </a:lnTo>
                  <a:lnTo>
                    <a:pt x="59" y="350"/>
                  </a:lnTo>
                  <a:lnTo>
                    <a:pt x="87" y="380"/>
                  </a:lnTo>
                  <a:lnTo>
                    <a:pt x="118" y="411"/>
                  </a:lnTo>
                  <a:lnTo>
                    <a:pt x="146" y="439"/>
                  </a:lnTo>
                  <a:lnTo>
                    <a:pt x="177" y="468"/>
                  </a:lnTo>
                  <a:lnTo>
                    <a:pt x="207" y="496"/>
                  </a:lnTo>
                  <a:lnTo>
                    <a:pt x="238" y="523"/>
                  </a:lnTo>
                  <a:lnTo>
                    <a:pt x="266" y="550"/>
                  </a:lnTo>
                  <a:lnTo>
                    <a:pt x="296" y="574"/>
                  </a:lnTo>
                  <a:lnTo>
                    <a:pt x="327" y="601"/>
                  </a:lnTo>
                  <a:lnTo>
                    <a:pt x="357" y="626"/>
                  </a:lnTo>
                  <a:lnTo>
                    <a:pt x="388" y="648"/>
                  </a:lnTo>
                  <a:lnTo>
                    <a:pt x="418" y="671"/>
                  </a:lnTo>
                  <a:lnTo>
                    <a:pt x="450" y="694"/>
                  </a:lnTo>
                  <a:lnTo>
                    <a:pt x="494" y="721"/>
                  </a:lnTo>
                  <a:lnTo>
                    <a:pt x="661" y="209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57320" y="3237840"/>
              <a:ext cx="375840" cy="399960"/>
            </a:xfrm>
            <a:custGeom>
              <a:avLst/>
              <a:gdLst/>
              <a:ahLst/>
              <a:rect l="l" t="t" r="r" b="b"/>
              <a:pathLst>
                <a:path w="540" h="557">
                  <a:moveTo>
                    <a:pt x="469" y="268"/>
                  </a:moveTo>
                  <a:lnTo>
                    <a:pt x="0" y="557"/>
                  </a:lnTo>
                  <a:lnTo>
                    <a:pt x="45" y="356"/>
                  </a:lnTo>
                  <a:lnTo>
                    <a:pt x="44" y="358"/>
                  </a:lnTo>
                  <a:lnTo>
                    <a:pt x="171" y="264"/>
                  </a:lnTo>
                  <a:lnTo>
                    <a:pt x="201" y="244"/>
                  </a:lnTo>
                  <a:lnTo>
                    <a:pt x="363" y="126"/>
                  </a:lnTo>
                  <a:lnTo>
                    <a:pt x="540" y="0"/>
                  </a:lnTo>
                  <a:lnTo>
                    <a:pt x="521" y="72"/>
                  </a:lnTo>
                  <a:lnTo>
                    <a:pt x="469" y="266"/>
                  </a:lnTo>
                  <a:lnTo>
                    <a:pt x="469" y="26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04000" y="3948840"/>
              <a:ext cx="478800" cy="1040400"/>
            </a:xfrm>
            <a:custGeom>
              <a:avLst/>
              <a:gdLst/>
              <a:ahLst/>
              <a:rect l="l" t="t" r="r" b="b"/>
              <a:pathLst>
                <a:path w="688" h="1447">
                  <a:moveTo>
                    <a:pt x="0" y="0"/>
                  </a:moveTo>
                  <a:lnTo>
                    <a:pt x="688" y="1447"/>
                  </a:lnTo>
                  <a:lnTo>
                    <a:pt x="688" y="14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92480" y="3210480"/>
              <a:ext cx="395280" cy="444600"/>
            </a:xfrm>
            <a:custGeom>
              <a:avLst/>
              <a:gdLst/>
              <a:ahLst/>
              <a:rect l="l" t="t" r="r" b="b"/>
              <a:pathLst>
                <a:path w="568" h="618">
                  <a:moveTo>
                    <a:pt x="55" y="268"/>
                  </a:moveTo>
                  <a:lnTo>
                    <a:pt x="0" y="0"/>
                  </a:lnTo>
                  <a:lnTo>
                    <a:pt x="553" y="455"/>
                  </a:lnTo>
                  <a:lnTo>
                    <a:pt x="560" y="472"/>
                  </a:lnTo>
                  <a:lnTo>
                    <a:pt x="560" y="476"/>
                  </a:lnTo>
                  <a:lnTo>
                    <a:pt x="564" y="487"/>
                  </a:lnTo>
                  <a:lnTo>
                    <a:pt x="566" y="496"/>
                  </a:lnTo>
                  <a:lnTo>
                    <a:pt x="568" y="508"/>
                  </a:lnTo>
                  <a:lnTo>
                    <a:pt x="568" y="519"/>
                  </a:lnTo>
                  <a:lnTo>
                    <a:pt x="568" y="529"/>
                  </a:lnTo>
                  <a:lnTo>
                    <a:pt x="568" y="540"/>
                  </a:lnTo>
                  <a:lnTo>
                    <a:pt x="568" y="561"/>
                  </a:lnTo>
                  <a:lnTo>
                    <a:pt x="568" y="573"/>
                  </a:lnTo>
                  <a:lnTo>
                    <a:pt x="560" y="618"/>
                  </a:lnTo>
                  <a:lnTo>
                    <a:pt x="55" y="26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83160" y="3584880"/>
              <a:ext cx="496800" cy="438840"/>
            </a:xfrm>
            <a:custGeom>
              <a:avLst/>
              <a:gdLst/>
              <a:ahLst/>
              <a:rect l="l" t="t" r="r" b="b"/>
              <a:pathLst>
                <a:path w="713" h="610">
                  <a:moveTo>
                    <a:pt x="0" y="609"/>
                  </a:moveTo>
                  <a:lnTo>
                    <a:pt x="12" y="610"/>
                  </a:lnTo>
                  <a:lnTo>
                    <a:pt x="76" y="609"/>
                  </a:lnTo>
                  <a:lnTo>
                    <a:pt x="109" y="607"/>
                  </a:lnTo>
                  <a:lnTo>
                    <a:pt x="143" y="605"/>
                  </a:lnTo>
                  <a:lnTo>
                    <a:pt x="177" y="601"/>
                  </a:lnTo>
                  <a:lnTo>
                    <a:pt x="217" y="599"/>
                  </a:lnTo>
                  <a:lnTo>
                    <a:pt x="255" y="597"/>
                  </a:lnTo>
                  <a:lnTo>
                    <a:pt x="293" y="590"/>
                  </a:lnTo>
                  <a:lnTo>
                    <a:pt x="331" y="588"/>
                  </a:lnTo>
                  <a:lnTo>
                    <a:pt x="369" y="582"/>
                  </a:lnTo>
                  <a:lnTo>
                    <a:pt x="413" y="574"/>
                  </a:lnTo>
                  <a:lnTo>
                    <a:pt x="451" y="567"/>
                  </a:lnTo>
                  <a:lnTo>
                    <a:pt x="500" y="555"/>
                  </a:lnTo>
                  <a:lnTo>
                    <a:pt x="614" y="523"/>
                  </a:lnTo>
                  <a:lnTo>
                    <a:pt x="713" y="485"/>
                  </a:lnTo>
                  <a:lnTo>
                    <a:pt x="479" y="0"/>
                  </a:lnTo>
                  <a:lnTo>
                    <a:pt x="0" y="0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01120" y="3584880"/>
              <a:ext cx="484200" cy="437040"/>
            </a:xfrm>
            <a:custGeom>
              <a:avLst/>
              <a:gdLst/>
              <a:ahLst/>
              <a:rect l="l" t="t" r="r" b="b"/>
              <a:pathLst>
                <a:path w="696" h="609">
                  <a:moveTo>
                    <a:pt x="166" y="0"/>
                  </a:moveTo>
                  <a:lnTo>
                    <a:pt x="0" y="508"/>
                  </a:lnTo>
                  <a:lnTo>
                    <a:pt x="72" y="536"/>
                  </a:lnTo>
                  <a:lnTo>
                    <a:pt x="164" y="561"/>
                  </a:lnTo>
                  <a:lnTo>
                    <a:pt x="259" y="580"/>
                  </a:lnTo>
                  <a:lnTo>
                    <a:pt x="365" y="591"/>
                  </a:lnTo>
                  <a:lnTo>
                    <a:pt x="432" y="597"/>
                  </a:lnTo>
                  <a:lnTo>
                    <a:pt x="510" y="603"/>
                  </a:lnTo>
                  <a:lnTo>
                    <a:pt x="563" y="605"/>
                  </a:lnTo>
                  <a:lnTo>
                    <a:pt x="603" y="607"/>
                  </a:lnTo>
                  <a:lnTo>
                    <a:pt x="696" y="609"/>
                  </a:lnTo>
                  <a:lnTo>
                    <a:pt x="694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45720" y="4013640"/>
              <a:ext cx="34560" cy="288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4"/>
                  </a:moveTo>
                  <a:lnTo>
                    <a:pt x="19" y="4"/>
                  </a:lnTo>
                  <a:lnTo>
                    <a:pt x="38" y="4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16240" y="3699720"/>
              <a:ext cx="320400" cy="237600"/>
            </a:xfrm>
            <a:custGeom>
              <a:avLst/>
              <a:gdLst/>
              <a:ahLst/>
              <a:rect l="l" t="t" r="r" b="b"/>
              <a:pathLst>
                <a:path w="460" h="331">
                  <a:moveTo>
                    <a:pt x="108" y="53"/>
                  </a:moveTo>
                  <a:lnTo>
                    <a:pt x="10" y="329"/>
                  </a:lnTo>
                  <a:lnTo>
                    <a:pt x="145" y="137"/>
                  </a:lnTo>
                  <a:lnTo>
                    <a:pt x="460" y="0"/>
                  </a:lnTo>
                  <a:lnTo>
                    <a:pt x="10" y="329"/>
                  </a:lnTo>
                  <a:lnTo>
                    <a:pt x="108" y="53"/>
                  </a:lnTo>
                  <a:lnTo>
                    <a:pt x="135" y="154"/>
                  </a:lnTo>
                  <a:lnTo>
                    <a:pt x="0" y="331"/>
                  </a:lnTo>
                  <a:lnTo>
                    <a:pt x="103" y="19"/>
                  </a:lnTo>
                  <a:lnTo>
                    <a:pt x="108" y="53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22000" y="3725640"/>
              <a:ext cx="320040" cy="248760"/>
            </a:xfrm>
            <a:custGeom>
              <a:avLst/>
              <a:gdLst/>
              <a:ahLst/>
              <a:rect l="l" t="t" r="r" b="b"/>
              <a:pathLst>
                <a:path w="460" h="346">
                  <a:moveTo>
                    <a:pt x="0" y="293"/>
                  </a:moveTo>
                  <a:lnTo>
                    <a:pt x="460" y="0"/>
                  </a:lnTo>
                  <a:lnTo>
                    <a:pt x="226" y="346"/>
                  </a:lnTo>
                  <a:lnTo>
                    <a:pt x="380" y="346"/>
                  </a:lnTo>
                  <a:lnTo>
                    <a:pt x="226" y="346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79320" y="3974760"/>
              <a:ext cx="151920" cy="2700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2320" y="3786120"/>
              <a:ext cx="120960" cy="175320"/>
            </a:xfrm>
            <a:custGeom>
              <a:avLst/>
              <a:gdLst/>
              <a:ahLst/>
              <a:rect l="l" t="t" r="r" b="b"/>
              <a:pathLst>
                <a:path w="173" h="245">
                  <a:moveTo>
                    <a:pt x="154" y="0"/>
                  </a:moveTo>
                  <a:lnTo>
                    <a:pt x="0" y="235"/>
                  </a:lnTo>
                  <a:lnTo>
                    <a:pt x="173" y="24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28400" y="3901320"/>
              <a:ext cx="217080" cy="369720"/>
            </a:xfrm>
            <a:custGeom>
              <a:avLst/>
              <a:gdLst/>
              <a:ahLst/>
              <a:rect l="l" t="t" r="r" b="b"/>
              <a:pathLst>
                <a:path w="312" h="516">
                  <a:moveTo>
                    <a:pt x="221" y="54"/>
                  </a:moveTo>
                  <a:lnTo>
                    <a:pt x="0" y="516"/>
                  </a:lnTo>
                  <a:lnTo>
                    <a:pt x="0" y="516"/>
                  </a:lnTo>
                  <a:lnTo>
                    <a:pt x="221" y="52"/>
                  </a:lnTo>
                  <a:lnTo>
                    <a:pt x="312" y="0"/>
                  </a:lnTo>
                  <a:lnTo>
                    <a:pt x="168" y="162"/>
                  </a:lnTo>
                  <a:lnTo>
                    <a:pt x="221" y="54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87480" y="3969000"/>
              <a:ext cx="446760" cy="997200"/>
            </a:xfrm>
            <a:custGeom>
              <a:avLst/>
              <a:gdLst/>
              <a:ahLst/>
              <a:rect l="l" t="t" r="r" b="b"/>
              <a:pathLst>
                <a:path w="642" h="1386">
                  <a:moveTo>
                    <a:pt x="570" y="37"/>
                  </a:moveTo>
                  <a:lnTo>
                    <a:pt x="0" y="1386"/>
                  </a:lnTo>
                  <a:lnTo>
                    <a:pt x="28" y="1276"/>
                  </a:lnTo>
                  <a:lnTo>
                    <a:pt x="642" y="0"/>
                  </a:lnTo>
                  <a:lnTo>
                    <a:pt x="570" y="3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98280" y="3594600"/>
              <a:ext cx="90360" cy="178200"/>
            </a:xfrm>
            <a:custGeom>
              <a:avLst/>
              <a:gdLst/>
              <a:ahLst/>
              <a:rect l="l" t="t" r="r" b="b"/>
              <a:pathLst>
                <a:path w="129" h="249">
                  <a:moveTo>
                    <a:pt x="68" y="0"/>
                  </a:moveTo>
                  <a:lnTo>
                    <a:pt x="86" y="0"/>
                  </a:lnTo>
                  <a:lnTo>
                    <a:pt x="57" y="108"/>
                  </a:lnTo>
                  <a:lnTo>
                    <a:pt x="0" y="220"/>
                  </a:lnTo>
                  <a:lnTo>
                    <a:pt x="0" y="249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05880" y="3138480"/>
              <a:ext cx="370440" cy="67320"/>
            </a:xfrm>
            <a:custGeom>
              <a:avLst/>
              <a:gdLst/>
              <a:ahLst/>
              <a:rect l="l" t="t" r="r" b="b"/>
              <a:pathLst>
                <a:path w="533" h="94">
                  <a:moveTo>
                    <a:pt x="114" y="29"/>
                  </a:moveTo>
                  <a:lnTo>
                    <a:pt x="424" y="29"/>
                  </a:lnTo>
                  <a:lnTo>
                    <a:pt x="533" y="0"/>
                  </a:lnTo>
                  <a:lnTo>
                    <a:pt x="474" y="4"/>
                  </a:lnTo>
                  <a:lnTo>
                    <a:pt x="126" y="0"/>
                  </a:lnTo>
                  <a:lnTo>
                    <a:pt x="0" y="94"/>
                  </a:lnTo>
                  <a:lnTo>
                    <a:pt x="114" y="29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41800" y="3974760"/>
              <a:ext cx="445320" cy="997200"/>
            </a:xfrm>
            <a:custGeom>
              <a:avLst/>
              <a:gdLst/>
              <a:ahLst/>
              <a:rect l="l" t="t" r="r" b="b"/>
              <a:pathLst>
                <a:path w="641" h="1386">
                  <a:moveTo>
                    <a:pt x="91" y="46"/>
                  </a:moveTo>
                  <a:lnTo>
                    <a:pt x="641" y="1386"/>
                  </a:lnTo>
                  <a:lnTo>
                    <a:pt x="605" y="1268"/>
                  </a:lnTo>
                  <a:lnTo>
                    <a:pt x="0" y="0"/>
                  </a:lnTo>
                  <a:lnTo>
                    <a:pt x="207" y="74"/>
                  </a:lnTo>
                  <a:lnTo>
                    <a:pt x="91" y="4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90000" y="3901320"/>
              <a:ext cx="45720" cy="109080"/>
            </a:xfrm>
            <a:custGeom>
              <a:avLst/>
              <a:gdLst/>
              <a:ahLst/>
              <a:rect l="l" t="t" r="r" b="b"/>
              <a:pathLst>
                <a:path w="66" h="152">
                  <a:moveTo>
                    <a:pt x="0" y="0"/>
                  </a:moveTo>
                  <a:lnTo>
                    <a:pt x="15" y="135"/>
                  </a:lnTo>
                  <a:lnTo>
                    <a:pt x="66" y="147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191480" y="3207600"/>
              <a:ext cx="674280" cy="164160"/>
            </a:xfrm>
            <a:prstGeom prst="line">
              <a:avLst/>
            </a:prstGeom>
            <a:ln w="1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374000" y="3286440"/>
              <a:ext cx="345240" cy="9180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58400" y="3441960"/>
              <a:ext cx="307800" cy="192600"/>
            </a:xfrm>
            <a:custGeom>
              <a:avLst/>
              <a:gdLst/>
              <a:ahLst/>
              <a:rect l="l" t="t" r="r" b="b"/>
              <a:pathLst>
                <a:path w="443" h="268">
                  <a:moveTo>
                    <a:pt x="17" y="232"/>
                  </a:moveTo>
                  <a:lnTo>
                    <a:pt x="443" y="0"/>
                  </a:lnTo>
                  <a:lnTo>
                    <a:pt x="443" y="0"/>
                  </a:lnTo>
                  <a:lnTo>
                    <a:pt x="0" y="268"/>
                  </a:lnTo>
                  <a:lnTo>
                    <a:pt x="23" y="163"/>
                  </a:lnTo>
                  <a:lnTo>
                    <a:pt x="17" y="232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3640" y="3226320"/>
              <a:ext cx="272880" cy="228600"/>
            </a:xfrm>
            <a:custGeom>
              <a:avLst/>
              <a:gdLst/>
              <a:ahLst/>
              <a:rect l="l" t="t" r="r" b="b"/>
              <a:pathLst>
                <a:path w="391" h="318">
                  <a:moveTo>
                    <a:pt x="23" y="44"/>
                  </a:moveTo>
                  <a:lnTo>
                    <a:pt x="391" y="318"/>
                  </a:lnTo>
                  <a:lnTo>
                    <a:pt x="391" y="318"/>
                  </a:lnTo>
                  <a:lnTo>
                    <a:pt x="0" y="0"/>
                  </a:lnTo>
                  <a:lnTo>
                    <a:pt x="45" y="226"/>
                  </a:lnTo>
                  <a:lnTo>
                    <a:pt x="23" y="44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57400" y="3777480"/>
              <a:ext cx="641880" cy="1050840"/>
            </a:xfrm>
            <a:custGeom>
              <a:avLst/>
              <a:gdLst/>
              <a:ahLst/>
              <a:rect l="l" t="t" r="r" b="b"/>
              <a:pathLst>
                <a:path w="922" h="1460">
                  <a:moveTo>
                    <a:pt x="92" y="130"/>
                  </a:moveTo>
                  <a:lnTo>
                    <a:pt x="922" y="1460"/>
                  </a:lnTo>
                  <a:lnTo>
                    <a:pt x="922" y="1460"/>
                  </a:lnTo>
                  <a:lnTo>
                    <a:pt x="0" y="0"/>
                  </a:lnTo>
                  <a:lnTo>
                    <a:pt x="299" y="403"/>
                  </a:lnTo>
                  <a:lnTo>
                    <a:pt x="92" y="13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82680" y="3744360"/>
              <a:ext cx="158760" cy="175320"/>
            </a:xfrm>
            <a:custGeom>
              <a:avLst/>
              <a:gdLst/>
              <a:ahLst/>
              <a:rect l="l" t="t" r="r" b="b"/>
              <a:pathLst>
                <a:path w="226" h="243">
                  <a:moveTo>
                    <a:pt x="226" y="0"/>
                  </a:moveTo>
                  <a:lnTo>
                    <a:pt x="127" y="184"/>
                  </a:lnTo>
                  <a:lnTo>
                    <a:pt x="0" y="110"/>
                  </a:lnTo>
                  <a:lnTo>
                    <a:pt x="160" y="243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5880" y="3624840"/>
              <a:ext cx="119520" cy="129240"/>
            </a:xfrm>
            <a:custGeom>
              <a:avLst/>
              <a:gdLst/>
              <a:ahLst/>
              <a:rect l="l" t="t" r="r" b="b"/>
              <a:pathLst>
                <a:path w="171" h="180">
                  <a:moveTo>
                    <a:pt x="154" y="180"/>
                  </a:moveTo>
                  <a:lnTo>
                    <a:pt x="0" y="44"/>
                  </a:lnTo>
                  <a:lnTo>
                    <a:pt x="32" y="53"/>
                  </a:lnTo>
                  <a:lnTo>
                    <a:pt x="72" y="30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52" y="9"/>
                  </a:lnTo>
                  <a:lnTo>
                    <a:pt x="171" y="36"/>
                  </a:lnTo>
                  <a:lnTo>
                    <a:pt x="139" y="63"/>
                  </a:lnTo>
                  <a:lnTo>
                    <a:pt x="118" y="89"/>
                  </a:lnTo>
                  <a:lnTo>
                    <a:pt x="110" y="116"/>
                  </a:lnTo>
                  <a:lnTo>
                    <a:pt x="124" y="133"/>
                  </a:lnTo>
                  <a:lnTo>
                    <a:pt x="154" y="178"/>
                  </a:lnTo>
                  <a:lnTo>
                    <a:pt x="154" y="18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93320" y="3243240"/>
              <a:ext cx="334440" cy="248760"/>
            </a:xfrm>
            <a:custGeom>
              <a:avLst/>
              <a:gdLst/>
              <a:ahLst/>
              <a:rect l="l" t="t" r="r" b="b"/>
              <a:pathLst>
                <a:path w="481" h="346">
                  <a:moveTo>
                    <a:pt x="0" y="346"/>
                  </a:moveTo>
                  <a:lnTo>
                    <a:pt x="457" y="34"/>
                  </a:lnTo>
                  <a:lnTo>
                    <a:pt x="424" y="218"/>
                  </a:lnTo>
                  <a:lnTo>
                    <a:pt x="481" y="0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b8b8b8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16720" y="3593160"/>
              <a:ext cx="349560" cy="327960"/>
            </a:xfrm>
            <a:custGeom>
              <a:avLst/>
              <a:gdLst/>
              <a:ahLst/>
              <a:rect l="l" t="t" r="r" b="b"/>
              <a:pathLst>
                <a:path w="502" h="456">
                  <a:moveTo>
                    <a:pt x="0" y="0"/>
                  </a:moveTo>
                  <a:lnTo>
                    <a:pt x="259" y="15"/>
                  </a:lnTo>
                  <a:lnTo>
                    <a:pt x="502" y="456"/>
                  </a:lnTo>
                  <a:lnTo>
                    <a:pt x="2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05040" y="4023720"/>
              <a:ext cx="74880" cy="771120"/>
            </a:xfrm>
            <a:custGeom>
              <a:avLst/>
              <a:gdLst/>
              <a:ahLst/>
              <a:rect l="l" t="t" r="r" b="b"/>
              <a:pathLst>
                <a:path w="108" h="1073">
                  <a:moveTo>
                    <a:pt x="0" y="0"/>
                  </a:moveTo>
                  <a:lnTo>
                    <a:pt x="99" y="20"/>
                  </a:lnTo>
                  <a:lnTo>
                    <a:pt x="108" y="1073"/>
                  </a:lnTo>
                  <a:lnTo>
                    <a:pt x="10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n00136_" descr=""/>
          <p:cNvPicPr/>
          <p:nvPr/>
        </p:nvPicPr>
        <p:blipFill>
          <a:blip r:embed="rId1"/>
          <a:stretch/>
        </p:blipFill>
        <p:spPr>
          <a:xfrm>
            <a:off x="3716280" y="3021120"/>
            <a:ext cx="17096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KALEID" descr=""/>
          <p:cNvPicPr/>
          <p:nvPr/>
        </p:nvPicPr>
        <p:blipFill>
          <a:blip r:embed="rId1"/>
          <a:stretch/>
        </p:blipFill>
        <p:spPr>
          <a:xfrm>
            <a:off x="3546360" y="2782800"/>
            <a:ext cx="2049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3962520" y="2705040"/>
            <a:ext cx="1218600" cy="2209680"/>
            <a:chOff x="3962520" y="2705040"/>
            <a:chExt cx="1218600" cy="2209680"/>
          </a:xfrm>
        </p:grpSpPr>
        <p:sp>
          <p:nvSpPr>
            <p:cNvPr id="712" name=""/>
            <p:cNvSpPr/>
            <p:nvPr/>
          </p:nvSpPr>
          <p:spPr>
            <a:xfrm>
              <a:off x="4413240" y="3054240"/>
              <a:ext cx="441000" cy="457200"/>
            </a:xfrm>
            <a:custGeom>
              <a:avLst/>
              <a:gdLst/>
              <a:ahLst/>
              <a:rect l="l" t="t" r="r" b="b"/>
              <a:pathLst>
                <a:path w="753" h="691">
                  <a:moveTo>
                    <a:pt x="703" y="540"/>
                  </a:moveTo>
                  <a:lnTo>
                    <a:pt x="675" y="556"/>
                  </a:lnTo>
                  <a:lnTo>
                    <a:pt x="654" y="568"/>
                  </a:lnTo>
                  <a:lnTo>
                    <a:pt x="606" y="590"/>
                  </a:lnTo>
                  <a:lnTo>
                    <a:pt x="590" y="597"/>
                  </a:lnTo>
                  <a:lnTo>
                    <a:pt x="530" y="622"/>
                  </a:lnTo>
                  <a:lnTo>
                    <a:pt x="523" y="625"/>
                  </a:lnTo>
                  <a:lnTo>
                    <a:pt x="424" y="674"/>
                  </a:lnTo>
                  <a:lnTo>
                    <a:pt x="421" y="675"/>
                  </a:lnTo>
                  <a:lnTo>
                    <a:pt x="388" y="687"/>
                  </a:lnTo>
                  <a:lnTo>
                    <a:pt x="327" y="691"/>
                  </a:lnTo>
                  <a:lnTo>
                    <a:pt x="234" y="682"/>
                  </a:lnTo>
                  <a:lnTo>
                    <a:pt x="197" y="674"/>
                  </a:lnTo>
                  <a:lnTo>
                    <a:pt x="116" y="587"/>
                  </a:lnTo>
                  <a:lnTo>
                    <a:pt x="54" y="513"/>
                  </a:lnTo>
                  <a:lnTo>
                    <a:pt x="45" y="499"/>
                  </a:lnTo>
                  <a:lnTo>
                    <a:pt x="62" y="490"/>
                  </a:lnTo>
                  <a:lnTo>
                    <a:pt x="78" y="481"/>
                  </a:lnTo>
                  <a:lnTo>
                    <a:pt x="85" y="485"/>
                  </a:lnTo>
                  <a:lnTo>
                    <a:pt x="97" y="487"/>
                  </a:lnTo>
                  <a:lnTo>
                    <a:pt x="111" y="485"/>
                  </a:lnTo>
                  <a:lnTo>
                    <a:pt x="125" y="478"/>
                  </a:lnTo>
                  <a:lnTo>
                    <a:pt x="132" y="480"/>
                  </a:lnTo>
                  <a:lnTo>
                    <a:pt x="140" y="480"/>
                  </a:lnTo>
                  <a:lnTo>
                    <a:pt x="158" y="473"/>
                  </a:lnTo>
                  <a:lnTo>
                    <a:pt x="166" y="468"/>
                  </a:lnTo>
                  <a:lnTo>
                    <a:pt x="173" y="454"/>
                  </a:lnTo>
                  <a:lnTo>
                    <a:pt x="170" y="466"/>
                  </a:lnTo>
                  <a:lnTo>
                    <a:pt x="177" y="469"/>
                  </a:lnTo>
                  <a:lnTo>
                    <a:pt x="189" y="471"/>
                  </a:lnTo>
                  <a:lnTo>
                    <a:pt x="203" y="466"/>
                  </a:lnTo>
                  <a:lnTo>
                    <a:pt x="213" y="457"/>
                  </a:lnTo>
                  <a:lnTo>
                    <a:pt x="218" y="461"/>
                  </a:lnTo>
                  <a:lnTo>
                    <a:pt x="236" y="459"/>
                  </a:lnTo>
                  <a:lnTo>
                    <a:pt x="249" y="454"/>
                  </a:lnTo>
                  <a:lnTo>
                    <a:pt x="270" y="454"/>
                  </a:lnTo>
                  <a:lnTo>
                    <a:pt x="289" y="442"/>
                  </a:lnTo>
                  <a:lnTo>
                    <a:pt x="313" y="443"/>
                  </a:lnTo>
                  <a:lnTo>
                    <a:pt x="326" y="438"/>
                  </a:lnTo>
                  <a:lnTo>
                    <a:pt x="339" y="438"/>
                  </a:lnTo>
                  <a:lnTo>
                    <a:pt x="362" y="433"/>
                  </a:lnTo>
                  <a:lnTo>
                    <a:pt x="374" y="419"/>
                  </a:lnTo>
                  <a:lnTo>
                    <a:pt x="383" y="379"/>
                  </a:lnTo>
                  <a:lnTo>
                    <a:pt x="374" y="341"/>
                  </a:lnTo>
                  <a:lnTo>
                    <a:pt x="353" y="317"/>
                  </a:lnTo>
                  <a:lnTo>
                    <a:pt x="338" y="312"/>
                  </a:lnTo>
                  <a:lnTo>
                    <a:pt x="326" y="322"/>
                  </a:lnTo>
                  <a:lnTo>
                    <a:pt x="327" y="339"/>
                  </a:lnTo>
                  <a:lnTo>
                    <a:pt x="324" y="322"/>
                  </a:lnTo>
                  <a:lnTo>
                    <a:pt x="303" y="308"/>
                  </a:lnTo>
                  <a:lnTo>
                    <a:pt x="279" y="310"/>
                  </a:lnTo>
                  <a:lnTo>
                    <a:pt x="267" y="320"/>
                  </a:lnTo>
                  <a:lnTo>
                    <a:pt x="261" y="332"/>
                  </a:lnTo>
                  <a:lnTo>
                    <a:pt x="249" y="331"/>
                  </a:lnTo>
                  <a:lnTo>
                    <a:pt x="237" y="334"/>
                  </a:lnTo>
                  <a:lnTo>
                    <a:pt x="230" y="345"/>
                  </a:lnTo>
                  <a:lnTo>
                    <a:pt x="215" y="345"/>
                  </a:lnTo>
                  <a:lnTo>
                    <a:pt x="197" y="346"/>
                  </a:lnTo>
                  <a:lnTo>
                    <a:pt x="185" y="360"/>
                  </a:lnTo>
                  <a:lnTo>
                    <a:pt x="168" y="369"/>
                  </a:lnTo>
                  <a:lnTo>
                    <a:pt x="156" y="376"/>
                  </a:lnTo>
                  <a:lnTo>
                    <a:pt x="145" y="384"/>
                  </a:lnTo>
                  <a:lnTo>
                    <a:pt x="137" y="395"/>
                  </a:lnTo>
                  <a:lnTo>
                    <a:pt x="128" y="410"/>
                  </a:lnTo>
                  <a:lnTo>
                    <a:pt x="130" y="421"/>
                  </a:lnTo>
                  <a:lnTo>
                    <a:pt x="123" y="410"/>
                  </a:lnTo>
                  <a:lnTo>
                    <a:pt x="116" y="410"/>
                  </a:lnTo>
                  <a:lnTo>
                    <a:pt x="107" y="416"/>
                  </a:lnTo>
                  <a:lnTo>
                    <a:pt x="88" y="436"/>
                  </a:lnTo>
                  <a:lnTo>
                    <a:pt x="73" y="436"/>
                  </a:lnTo>
                  <a:lnTo>
                    <a:pt x="55" y="438"/>
                  </a:lnTo>
                  <a:lnTo>
                    <a:pt x="24" y="454"/>
                  </a:lnTo>
                  <a:lnTo>
                    <a:pt x="12" y="428"/>
                  </a:lnTo>
                  <a:lnTo>
                    <a:pt x="0" y="358"/>
                  </a:lnTo>
                  <a:lnTo>
                    <a:pt x="2" y="263"/>
                  </a:lnTo>
                  <a:lnTo>
                    <a:pt x="36" y="152"/>
                  </a:lnTo>
                  <a:lnTo>
                    <a:pt x="109" y="152"/>
                  </a:lnTo>
                  <a:lnTo>
                    <a:pt x="249" y="140"/>
                  </a:lnTo>
                  <a:lnTo>
                    <a:pt x="308" y="130"/>
                  </a:lnTo>
                  <a:lnTo>
                    <a:pt x="407" y="106"/>
                  </a:lnTo>
                  <a:lnTo>
                    <a:pt x="493" y="71"/>
                  </a:lnTo>
                  <a:lnTo>
                    <a:pt x="615" y="0"/>
                  </a:lnTo>
                  <a:lnTo>
                    <a:pt x="628" y="9"/>
                  </a:lnTo>
                  <a:lnTo>
                    <a:pt x="658" y="42"/>
                  </a:lnTo>
                  <a:lnTo>
                    <a:pt x="687" y="90"/>
                  </a:lnTo>
                  <a:lnTo>
                    <a:pt x="715" y="149"/>
                  </a:lnTo>
                  <a:lnTo>
                    <a:pt x="736" y="225"/>
                  </a:lnTo>
                  <a:lnTo>
                    <a:pt x="753" y="332"/>
                  </a:lnTo>
                  <a:lnTo>
                    <a:pt x="753" y="424"/>
                  </a:lnTo>
                  <a:lnTo>
                    <a:pt x="720" y="509"/>
                  </a:lnTo>
                  <a:lnTo>
                    <a:pt x="703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70120" y="2933640"/>
              <a:ext cx="272880" cy="171360"/>
            </a:xfrm>
            <a:custGeom>
              <a:avLst/>
              <a:gdLst/>
              <a:ahLst/>
              <a:rect l="l" t="t" r="r" b="b"/>
              <a:pathLst>
                <a:path w="467" h="258">
                  <a:moveTo>
                    <a:pt x="439" y="14"/>
                  </a:moveTo>
                  <a:lnTo>
                    <a:pt x="438" y="0"/>
                  </a:lnTo>
                  <a:lnTo>
                    <a:pt x="433" y="16"/>
                  </a:lnTo>
                  <a:lnTo>
                    <a:pt x="420" y="28"/>
                  </a:lnTo>
                  <a:lnTo>
                    <a:pt x="391" y="47"/>
                  </a:lnTo>
                  <a:lnTo>
                    <a:pt x="358" y="57"/>
                  </a:lnTo>
                  <a:lnTo>
                    <a:pt x="272" y="97"/>
                  </a:lnTo>
                  <a:lnTo>
                    <a:pt x="183" y="126"/>
                  </a:lnTo>
                  <a:lnTo>
                    <a:pt x="112" y="145"/>
                  </a:lnTo>
                  <a:lnTo>
                    <a:pt x="52" y="152"/>
                  </a:lnTo>
                  <a:lnTo>
                    <a:pt x="24" y="149"/>
                  </a:lnTo>
                  <a:lnTo>
                    <a:pt x="12" y="139"/>
                  </a:lnTo>
                  <a:lnTo>
                    <a:pt x="0" y="128"/>
                  </a:lnTo>
                  <a:lnTo>
                    <a:pt x="12" y="164"/>
                  </a:lnTo>
                  <a:lnTo>
                    <a:pt x="24" y="203"/>
                  </a:lnTo>
                  <a:lnTo>
                    <a:pt x="34" y="248"/>
                  </a:lnTo>
                  <a:lnTo>
                    <a:pt x="46" y="256"/>
                  </a:lnTo>
                  <a:lnTo>
                    <a:pt x="72" y="258"/>
                  </a:lnTo>
                  <a:lnTo>
                    <a:pt x="138" y="251"/>
                  </a:lnTo>
                  <a:lnTo>
                    <a:pt x="240" y="225"/>
                  </a:lnTo>
                  <a:lnTo>
                    <a:pt x="349" y="182"/>
                  </a:lnTo>
                  <a:lnTo>
                    <a:pt x="436" y="139"/>
                  </a:lnTo>
                  <a:lnTo>
                    <a:pt x="462" y="116"/>
                  </a:lnTo>
                  <a:lnTo>
                    <a:pt x="467" y="104"/>
                  </a:lnTo>
                  <a:lnTo>
                    <a:pt x="439" y="14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4560" y="2906640"/>
              <a:ext cx="509040" cy="247680"/>
            </a:xfrm>
            <a:custGeom>
              <a:avLst/>
              <a:gdLst/>
              <a:ahLst/>
              <a:rect l="l" t="t" r="r" b="b"/>
              <a:pathLst>
                <a:path w="872" h="374">
                  <a:moveTo>
                    <a:pt x="211" y="206"/>
                  </a:moveTo>
                  <a:lnTo>
                    <a:pt x="133" y="206"/>
                  </a:lnTo>
                  <a:lnTo>
                    <a:pt x="48" y="215"/>
                  </a:lnTo>
                  <a:lnTo>
                    <a:pt x="17" y="227"/>
                  </a:lnTo>
                  <a:lnTo>
                    <a:pt x="0" y="250"/>
                  </a:lnTo>
                  <a:lnTo>
                    <a:pt x="0" y="291"/>
                  </a:lnTo>
                  <a:lnTo>
                    <a:pt x="12" y="326"/>
                  </a:lnTo>
                  <a:lnTo>
                    <a:pt x="39" y="345"/>
                  </a:lnTo>
                  <a:lnTo>
                    <a:pt x="90" y="366"/>
                  </a:lnTo>
                  <a:lnTo>
                    <a:pt x="136" y="374"/>
                  </a:lnTo>
                  <a:lnTo>
                    <a:pt x="209" y="374"/>
                  </a:lnTo>
                  <a:lnTo>
                    <a:pt x="349" y="362"/>
                  </a:lnTo>
                  <a:lnTo>
                    <a:pt x="408" y="352"/>
                  </a:lnTo>
                  <a:lnTo>
                    <a:pt x="507" y="328"/>
                  </a:lnTo>
                  <a:lnTo>
                    <a:pt x="593" y="293"/>
                  </a:lnTo>
                  <a:lnTo>
                    <a:pt x="715" y="222"/>
                  </a:lnTo>
                  <a:lnTo>
                    <a:pt x="810" y="153"/>
                  </a:lnTo>
                  <a:lnTo>
                    <a:pt x="853" y="116"/>
                  </a:lnTo>
                  <a:lnTo>
                    <a:pt x="872" y="78"/>
                  </a:lnTo>
                  <a:lnTo>
                    <a:pt x="872" y="42"/>
                  </a:lnTo>
                  <a:lnTo>
                    <a:pt x="853" y="18"/>
                  </a:lnTo>
                  <a:lnTo>
                    <a:pt x="812" y="0"/>
                  </a:lnTo>
                  <a:lnTo>
                    <a:pt x="780" y="0"/>
                  </a:lnTo>
                  <a:lnTo>
                    <a:pt x="728" y="14"/>
                  </a:lnTo>
                  <a:lnTo>
                    <a:pt x="682" y="37"/>
                  </a:lnTo>
                  <a:lnTo>
                    <a:pt x="638" y="56"/>
                  </a:lnTo>
                  <a:lnTo>
                    <a:pt x="666" y="146"/>
                  </a:lnTo>
                  <a:lnTo>
                    <a:pt x="661" y="158"/>
                  </a:lnTo>
                  <a:lnTo>
                    <a:pt x="635" y="181"/>
                  </a:lnTo>
                  <a:lnTo>
                    <a:pt x="548" y="224"/>
                  </a:lnTo>
                  <a:lnTo>
                    <a:pt x="439" y="267"/>
                  </a:lnTo>
                  <a:lnTo>
                    <a:pt x="337" y="293"/>
                  </a:lnTo>
                  <a:lnTo>
                    <a:pt x="271" y="300"/>
                  </a:lnTo>
                  <a:lnTo>
                    <a:pt x="245" y="298"/>
                  </a:lnTo>
                  <a:lnTo>
                    <a:pt x="233" y="290"/>
                  </a:lnTo>
                  <a:lnTo>
                    <a:pt x="223" y="245"/>
                  </a:lnTo>
                  <a:lnTo>
                    <a:pt x="211" y="206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00280" y="2724120"/>
              <a:ext cx="325080" cy="311040"/>
            </a:xfrm>
            <a:custGeom>
              <a:avLst/>
              <a:gdLst/>
              <a:ahLst/>
              <a:rect l="l" t="t" r="r" b="b"/>
              <a:pathLst>
                <a:path w="559" h="471">
                  <a:moveTo>
                    <a:pt x="559" y="319"/>
                  </a:moveTo>
                  <a:lnTo>
                    <a:pt x="543" y="257"/>
                  </a:lnTo>
                  <a:lnTo>
                    <a:pt x="524" y="170"/>
                  </a:lnTo>
                  <a:lnTo>
                    <a:pt x="519" y="129"/>
                  </a:lnTo>
                  <a:lnTo>
                    <a:pt x="515" y="92"/>
                  </a:lnTo>
                  <a:lnTo>
                    <a:pt x="521" y="9"/>
                  </a:lnTo>
                  <a:lnTo>
                    <a:pt x="517" y="0"/>
                  </a:lnTo>
                  <a:lnTo>
                    <a:pt x="450" y="40"/>
                  </a:lnTo>
                  <a:lnTo>
                    <a:pt x="349" y="73"/>
                  </a:lnTo>
                  <a:lnTo>
                    <a:pt x="238" y="99"/>
                  </a:lnTo>
                  <a:lnTo>
                    <a:pt x="114" y="111"/>
                  </a:lnTo>
                  <a:lnTo>
                    <a:pt x="0" y="110"/>
                  </a:lnTo>
                  <a:lnTo>
                    <a:pt x="8" y="129"/>
                  </a:lnTo>
                  <a:lnTo>
                    <a:pt x="121" y="447"/>
                  </a:lnTo>
                  <a:lnTo>
                    <a:pt x="133" y="458"/>
                  </a:lnTo>
                  <a:lnTo>
                    <a:pt x="145" y="468"/>
                  </a:lnTo>
                  <a:lnTo>
                    <a:pt x="173" y="471"/>
                  </a:lnTo>
                  <a:lnTo>
                    <a:pt x="233" y="464"/>
                  </a:lnTo>
                  <a:lnTo>
                    <a:pt x="304" y="445"/>
                  </a:lnTo>
                  <a:lnTo>
                    <a:pt x="393" y="416"/>
                  </a:lnTo>
                  <a:lnTo>
                    <a:pt x="479" y="376"/>
                  </a:lnTo>
                  <a:lnTo>
                    <a:pt x="512" y="366"/>
                  </a:lnTo>
                  <a:lnTo>
                    <a:pt x="541" y="347"/>
                  </a:lnTo>
                  <a:lnTo>
                    <a:pt x="554" y="335"/>
                  </a:lnTo>
                  <a:lnTo>
                    <a:pt x="559" y="319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95600" y="2705040"/>
              <a:ext cx="307800" cy="91800"/>
            </a:xfrm>
            <a:custGeom>
              <a:avLst/>
              <a:gdLst/>
              <a:ahLst/>
              <a:rect l="l" t="t" r="r" b="b"/>
              <a:pathLst>
                <a:path w="523" h="138">
                  <a:moveTo>
                    <a:pt x="523" y="27"/>
                  </a:moveTo>
                  <a:lnTo>
                    <a:pt x="456" y="67"/>
                  </a:lnTo>
                  <a:lnTo>
                    <a:pt x="355" y="100"/>
                  </a:lnTo>
                  <a:lnTo>
                    <a:pt x="244" y="126"/>
                  </a:lnTo>
                  <a:lnTo>
                    <a:pt x="120" y="138"/>
                  </a:lnTo>
                  <a:lnTo>
                    <a:pt x="6" y="137"/>
                  </a:lnTo>
                  <a:lnTo>
                    <a:pt x="0" y="128"/>
                  </a:lnTo>
                  <a:lnTo>
                    <a:pt x="2" y="119"/>
                  </a:lnTo>
                  <a:lnTo>
                    <a:pt x="6" y="112"/>
                  </a:lnTo>
                  <a:lnTo>
                    <a:pt x="30" y="93"/>
                  </a:lnTo>
                  <a:lnTo>
                    <a:pt x="90" y="66"/>
                  </a:lnTo>
                  <a:lnTo>
                    <a:pt x="257" y="19"/>
                  </a:lnTo>
                  <a:lnTo>
                    <a:pt x="359" y="5"/>
                  </a:lnTo>
                  <a:lnTo>
                    <a:pt x="428" y="0"/>
                  </a:lnTo>
                  <a:lnTo>
                    <a:pt x="485" y="5"/>
                  </a:lnTo>
                  <a:lnTo>
                    <a:pt x="515" y="15"/>
                  </a:lnTo>
                  <a:lnTo>
                    <a:pt x="523" y="27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81280" y="3192120"/>
              <a:ext cx="53640" cy="66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90" y="32"/>
                  </a:moveTo>
                  <a:lnTo>
                    <a:pt x="87" y="20"/>
                  </a:lnTo>
                  <a:lnTo>
                    <a:pt x="78" y="8"/>
                  </a:lnTo>
                  <a:lnTo>
                    <a:pt x="68" y="3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8" y="3"/>
                  </a:lnTo>
                  <a:lnTo>
                    <a:pt x="17" y="8"/>
                  </a:lnTo>
                  <a:lnTo>
                    <a:pt x="10" y="19"/>
                  </a:lnTo>
                  <a:lnTo>
                    <a:pt x="4" y="29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7" y="91"/>
                  </a:lnTo>
                  <a:lnTo>
                    <a:pt x="31" y="98"/>
                  </a:lnTo>
                  <a:lnTo>
                    <a:pt x="47" y="100"/>
                  </a:lnTo>
                  <a:lnTo>
                    <a:pt x="61" y="98"/>
                  </a:lnTo>
                  <a:lnTo>
                    <a:pt x="71" y="95"/>
                  </a:lnTo>
                  <a:lnTo>
                    <a:pt x="80" y="90"/>
                  </a:lnTo>
                  <a:lnTo>
                    <a:pt x="85" y="81"/>
                  </a:lnTo>
                  <a:lnTo>
                    <a:pt x="94" y="65"/>
                  </a:lnTo>
                  <a:lnTo>
                    <a:pt x="94" y="46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71720" y="3189240"/>
              <a:ext cx="64800" cy="79200"/>
            </a:xfrm>
            <a:custGeom>
              <a:avLst/>
              <a:gdLst/>
              <a:ahLst/>
              <a:rect l="l" t="t" r="r" b="b"/>
              <a:pathLst>
                <a:path w="111" h="120">
                  <a:moveTo>
                    <a:pt x="108" y="40"/>
                  </a:moveTo>
                  <a:lnTo>
                    <a:pt x="104" y="25"/>
                  </a:lnTo>
                  <a:lnTo>
                    <a:pt x="92" y="12"/>
                  </a:lnTo>
                  <a:lnTo>
                    <a:pt x="82" y="4"/>
                  </a:lnTo>
                  <a:lnTo>
                    <a:pt x="64" y="0"/>
                  </a:lnTo>
                  <a:lnTo>
                    <a:pt x="47" y="0"/>
                  </a:lnTo>
                  <a:lnTo>
                    <a:pt x="33" y="4"/>
                  </a:lnTo>
                  <a:lnTo>
                    <a:pt x="21" y="12"/>
                  </a:lnTo>
                  <a:lnTo>
                    <a:pt x="11" y="21"/>
                  </a:lnTo>
                  <a:lnTo>
                    <a:pt x="4" y="35"/>
                  </a:lnTo>
                  <a:lnTo>
                    <a:pt x="0" y="54"/>
                  </a:lnTo>
                  <a:lnTo>
                    <a:pt x="0" y="73"/>
                  </a:lnTo>
                  <a:lnTo>
                    <a:pt x="4" y="87"/>
                  </a:lnTo>
                  <a:lnTo>
                    <a:pt x="9" y="99"/>
                  </a:lnTo>
                  <a:lnTo>
                    <a:pt x="21" y="111"/>
                  </a:lnTo>
                  <a:lnTo>
                    <a:pt x="37" y="116"/>
                  </a:lnTo>
                  <a:lnTo>
                    <a:pt x="54" y="120"/>
                  </a:lnTo>
                  <a:lnTo>
                    <a:pt x="71" y="118"/>
                  </a:lnTo>
                  <a:lnTo>
                    <a:pt x="85" y="113"/>
                  </a:lnTo>
                  <a:lnTo>
                    <a:pt x="95" y="108"/>
                  </a:lnTo>
                  <a:lnTo>
                    <a:pt x="102" y="99"/>
                  </a:lnTo>
                  <a:lnTo>
                    <a:pt x="111" y="80"/>
                  </a:lnTo>
                  <a:lnTo>
                    <a:pt x="111" y="56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395600" y="3257280"/>
              <a:ext cx="240840" cy="127080"/>
            </a:xfrm>
            <a:custGeom>
              <a:avLst/>
              <a:gdLst/>
              <a:ahLst/>
              <a:rect l="l" t="t" r="r" b="b"/>
              <a:pathLst>
                <a:path w="412" h="191">
                  <a:moveTo>
                    <a:pt x="197" y="61"/>
                  </a:moveTo>
                  <a:lnTo>
                    <a:pt x="185" y="68"/>
                  </a:lnTo>
                  <a:lnTo>
                    <a:pt x="174" y="76"/>
                  </a:lnTo>
                  <a:lnTo>
                    <a:pt x="166" y="87"/>
                  </a:lnTo>
                  <a:lnTo>
                    <a:pt x="157" y="102"/>
                  </a:lnTo>
                  <a:lnTo>
                    <a:pt x="159" y="113"/>
                  </a:lnTo>
                  <a:lnTo>
                    <a:pt x="152" y="102"/>
                  </a:lnTo>
                  <a:lnTo>
                    <a:pt x="145" y="102"/>
                  </a:lnTo>
                  <a:lnTo>
                    <a:pt x="136" y="108"/>
                  </a:lnTo>
                  <a:lnTo>
                    <a:pt x="117" y="128"/>
                  </a:lnTo>
                  <a:lnTo>
                    <a:pt x="102" y="128"/>
                  </a:lnTo>
                  <a:lnTo>
                    <a:pt x="84" y="130"/>
                  </a:lnTo>
                  <a:lnTo>
                    <a:pt x="53" y="146"/>
                  </a:lnTo>
                  <a:lnTo>
                    <a:pt x="12" y="151"/>
                  </a:lnTo>
                  <a:lnTo>
                    <a:pt x="0" y="154"/>
                  </a:lnTo>
                  <a:lnTo>
                    <a:pt x="7" y="165"/>
                  </a:lnTo>
                  <a:lnTo>
                    <a:pt x="46" y="182"/>
                  </a:lnTo>
                  <a:lnTo>
                    <a:pt x="74" y="191"/>
                  </a:lnTo>
                  <a:lnTo>
                    <a:pt x="91" y="182"/>
                  </a:lnTo>
                  <a:lnTo>
                    <a:pt x="107" y="173"/>
                  </a:lnTo>
                  <a:lnTo>
                    <a:pt x="114" y="177"/>
                  </a:lnTo>
                  <a:lnTo>
                    <a:pt x="126" y="179"/>
                  </a:lnTo>
                  <a:lnTo>
                    <a:pt x="140" y="177"/>
                  </a:lnTo>
                  <a:lnTo>
                    <a:pt x="154" y="170"/>
                  </a:lnTo>
                  <a:lnTo>
                    <a:pt x="161" y="172"/>
                  </a:lnTo>
                  <a:lnTo>
                    <a:pt x="169" y="172"/>
                  </a:lnTo>
                  <a:lnTo>
                    <a:pt x="187" y="165"/>
                  </a:lnTo>
                  <a:lnTo>
                    <a:pt x="195" y="160"/>
                  </a:lnTo>
                  <a:lnTo>
                    <a:pt x="202" y="146"/>
                  </a:lnTo>
                  <a:lnTo>
                    <a:pt x="199" y="158"/>
                  </a:lnTo>
                  <a:lnTo>
                    <a:pt x="206" y="161"/>
                  </a:lnTo>
                  <a:lnTo>
                    <a:pt x="218" y="163"/>
                  </a:lnTo>
                  <a:lnTo>
                    <a:pt x="232" y="158"/>
                  </a:lnTo>
                  <a:lnTo>
                    <a:pt x="242" y="149"/>
                  </a:lnTo>
                  <a:lnTo>
                    <a:pt x="247" y="153"/>
                  </a:lnTo>
                  <a:lnTo>
                    <a:pt x="265" y="151"/>
                  </a:lnTo>
                  <a:lnTo>
                    <a:pt x="278" y="146"/>
                  </a:lnTo>
                  <a:lnTo>
                    <a:pt x="299" y="146"/>
                  </a:lnTo>
                  <a:lnTo>
                    <a:pt x="318" y="134"/>
                  </a:lnTo>
                  <a:lnTo>
                    <a:pt x="342" y="135"/>
                  </a:lnTo>
                  <a:lnTo>
                    <a:pt x="355" y="130"/>
                  </a:lnTo>
                  <a:lnTo>
                    <a:pt x="368" y="130"/>
                  </a:lnTo>
                  <a:lnTo>
                    <a:pt x="391" y="125"/>
                  </a:lnTo>
                  <a:lnTo>
                    <a:pt x="403" y="111"/>
                  </a:lnTo>
                  <a:lnTo>
                    <a:pt x="412" y="71"/>
                  </a:lnTo>
                  <a:lnTo>
                    <a:pt x="403" y="33"/>
                  </a:lnTo>
                  <a:lnTo>
                    <a:pt x="382" y="9"/>
                  </a:lnTo>
                  <a:lnTo>
                    <a:pt x="367" y="4"/>
                  </a:lnTo>
                  <a:lnTo>
                    <a:pt x="355" y="14"/>
                  </a:lnTo>
                  <a:lnTo>
                    <a:pt x="356" y="31"/>
                  </a:lnTo>
                  <a:lnTo>
                    <a:pt x="353" y="14"/>
                  </a:lnTo>
                  <a:lnTo>
                    <a:pt x="332" y="0"/>
                  </a:lnTo>
                  <a:lnTo>
                    <a:pt x="308" y="2"/>
                  </a:lnTo>
                  <a:lnTo>
                    <a:pt x="296" y="12"/>
                  </a:lnTo>
                  <a:lnTo>
                    <a:pt x="290" y="24"/>
                  </a:lnTo>
                  <a:lnTo>
                    <a:pt x="278" y="23"/>
                  </a:lnTo>
                  <a:lnTo>
                    <a:pt x="266" y="26"/>
                  </a:lnTo>
                  <a:lnTo>
                    <a:pt x="259" y="37"/>
                  </a:lnTo>
                  <a:lnTo>
                    <a:pt x="244" y="37"/>
                  </a:lnTo>
                  <a:lnTo>
                    <a:pt x="226" y="38"/>
                  </a:lnTo>
                  <a:lnTo>
                    <a:pt x="214" y="52"/>
                  </a:lnTo>
                  <a:lnTo>
                    <a:pt x="197" y="61"/>
                  </a:lnTo>
                  <a:close/>
                </a:path>
              </a:pathLst>
            </a:custGeom>
            <a:solidFill>
              <a:srgbClr val="ff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16200" y="3377880"/>
              <a:ext cx="12600" cy="158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7" y="0"/>
                  </a:moveTo>
                  <a:lnTo>
                    <a:pt x="17" y="4"/>
                  </a:lnTo>
                  <a:lnTo>
                    <a:pt x="22" y="16"/>
                  </a:lnTo>
                  <a:lnTo>
                    <a:pt x="12" y="24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48240" y="3392280"/>
              <a:ext cx="13680" cy="15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7" y="1"/>
                  </a:moveTo>
                  <a:lnTo>
                    <a:pt x="24" y="6"/>
                  </a:lnTo>
                  <a:lnTo>
                    <a:pt x="24" y="22"/>
                  </a:lnTo>
                  <a:lnTo>
                    <a:pt x="14" y="24"/>
                  </a:lnTo>
                  <a:lnTo>
                    <a:pt x="4" y="24"/>
                  </a:lnTo>
                  <a:lnTo>
                    <a:pt x="0" y="13"/>
                  </a:lnTo>
                  <a:lnTo>
                    <a:pt x="2" y="5"/>
                  </a:lnTo>
                  <a:lnTo>
                    <a:pt x="10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120" y="3400200"/>
              <a:ext cx="17280" cy="17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9" y="0"/>
                  </a:moveTo>
                  <a:lnTo>
                    <a:pt x="16" y="2"/>
                  </a:lnTo>
                  <a:lnTo>
                    <a:pt x="24" y="5"/>
                  </a:lnTo>
                  <a:lnTo>
                    <a:pt x="28" y="16"/>
                  </a:lnTo>
                  <a:lnTo>
                    <a:pt x="24" y="30"/>
                  </a:lnTo>
                  <a:lnTo>
                    <a:pt x="14" y="30"/>
                  </a:lnTo>
                  <a:lnTo>
                    <a:pt x="3" y="26"/>
                  </a:lnTo>
                  <a:lnTo>
                    <a:pt x="0" y="16"/>
                  </a:lnTo>
                  <a:lnTo>
                    <a:pt x="3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16280" y="3398760"/>
              <a:ext cx="18720" cy="172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4" y="0"/>
                  </a:moveTo>
                  <a:lnTo>
                    <a:pt x="3" y="7"/>
                  </a:lnTo>
                  <a:lnTo>
                    <a:pt x="0" y="21"/>
                  </a:lnTo>
                  <a:lnTo>
                    <a:pt x="7" y="30"/>
                  </a:lnTo>
                  <a:lnTo>
                    <a:pt x="23" y="30"/>
                  </a:lnTo>
                  <a:lnTo>
                    <a:pt x="31" y="20"/>
                  </a:lnTo>
                  <a:lnTo>
                    <a:pt x="2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9760" y="3384360"/>
              <a:ext cx="1872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24" y="1"/>
                  </a:lnTo>
                  <a:lnTo>
                    <a:pt x="30" y="7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19" y="33"/>
                  </a:lnTo>
                  <a:lnTo>
                    <a:pt x="9" y="31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84680" y="3367080"/>
              <a:ext cx="15480" cy="1728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10" y="0"/>
                  </a:moveTo>
                  <a:lnTo>
                    <a:pt x="17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26" y="17"/>
                  </a:lnTo>
                  <a:lnTo>
                    <a:pt x="21" y="26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6640" y="3332160"/>
              <a:ext cx="10800" cy="108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0"/>
                  </a:moveTo>
                  <a:lnTo>
                    <a:pt x="19" y="3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95560" y="3411360"/>
              <a:ext cx="45720" cy="181080"/>
            </a:xfrm>
            <a:custGeom>
              <a:avLst/>
              <a:gdLst/>
              <a:ahLst/>
              <a:rect l="l" t="t" r="r" b="b"/>
              <a:pathLst>
                <a:path w="80" h="272">
                  <a:moveTo>
                    <a:pt x="9" y="272"/>
                  </a:moveTo>
                  <a:lnTo>
                    <a:pt x="19" y="210"/>
                  </a:lnTo>
                  <a:lnTo>
                    <a:pt x="30" y="95"/>
                  </a:lnTo>
                  <a:lnTo>
                    <a:pt x="23" y="64"/>
                  </a:lnTo>
                  <a:lnTo>
                    <a:pt x="6" y="38"/>
                  </a:lnTo>
                  <a:lnTo>
                    <a:pt x="0" y="28"/>
                  </a:lnTo>
                  <a:lnTo>
                    <a:pt x="21" y="16"/>
                  </a:lnTo>
                  <a:lnTo>
                    <a:pt x="49" y="0"/>
                  </a:lnTo>
                  <a:lnTo>
                    <a:pt x="61" y="7"/>
                  </a:lnTo>
                  <a:lnTo>
                    <a:pt x="73" y="31"/>
                  </a:lnTo>
                  <a:lnTo>
                    <a:pt x="80" y="73"/>
                  </a:lnTo>
                  <a:lnTo>
                    <a:pt x="73" y="125"/>
                  </a:lnTo>
                  <a:lnTo>
                    <a:pt x="68" y="186"/>
                  </a:lnTo>
                  <a:lnTo>
                    <a:pt x="59" y="213"/>
                  </a:lnTo>
                  <a:lnTo>
                    <a:pt x="26" y="251"/>
                  </a:lnTo>
                  <a:lnTo>
                    <a:pt x="18" y="258"/>
                  </a:lnTo>
                  <a:lnTo>
                    <a:pt x="9" y="27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43360" y="3430440"/>
              <a:ext cx="69480" cy="228600"/>
            </a:xfrm>
            <a:custGeom>
              <a:avLst/>
              <a:gdLst/>
              <a:ahLst/>
              <a:rect l="l" t="t" r="r" b="b"/>
              <a:pathLst>
                <a:path w="118" h="346">
                  <a:moveTo>
                    <a:pt x="0" y="345"/>
                  </a:moveTo>
                  <a:lnTo>
                    <a:pt x="16" y="249"/>
                  </a:lnTo>
                  <a:lnTo>
                    <a:pt x="40" y="185"/>
                  </a:lnTo>
                  <a:lnTo>
                    <a:pt x="56" y="102"/>
                  </a:lnTo>
                  <a:lnTo>
                    <a:pt x="50" y="57"/>
                  </a:lnTo>
                  <a:lnTo>
                    <a:pt x="40" y="22"/>
                  </a:lnTo>
                  <a:lnTo>
                    <a:pt x="88" y="0"/>
                  </a:lnTo>
                  <a:lnTo>
                    <a:pt x="94" y="10"/>
                  </a:lnTo>
                  <a:lnTo>
                    <a:pt x="111" y="36"/>
                  </a:lnTo>
                  <a:lnTo>
                    <a:pt x="118" y="67"/>
                  </a:lnTo>
                  <a:lnTo>
                    <a:pt x="107" y="182"/>
                  </a:lnTo>
                  <a:lnTo>
                    <a:pt x="97" y="244"/>
                  </a:lnTo>
                  <a:lnTo>
                    <a:pt x="59" y="291"/>
                  </a:lnTo>
                  <a:lnTo>
                    <a:pt x="50" y="305"/>
                  </a:lnTo>
                  <a:lnTo>
                    <a:pt x="12" y="343"/>
                  </a:lnTo>
                  <a:lnTo>
                    <a:pt x="2" y="34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76760" y="3444840"/>
              <a:ext cx="99720" cy="257040"/>
            </a:xfrm>
            <a:custGeom>
              <a:avLst/>
              <a:gdLst/>
              <a:ahLst/>
              <a:rect l="l" t="t" r="r" b="b"/>
              <a:pathLst>
                <a:path w="170" h="388">
                  <a:moveTo>
                    <a:pt x="78" y="368"/>
                  </a:moveTo>
                  <a:lnTo>
                    <a:pt x="111" y="333"/>
                  </a:lnTo>
                  <a:lnTo>
                    <a:pt x="114" y="323"/>
                  </a:lnTo>
                  <a:lnTo>
                    <a:pt x="130" y="227"/>
                  </a:lnTo>
                  <a:lnTo>
                    <a:pt x="154" y="163"/>
                  </a:lnTo>
                  <a:lnTo>
                    <a:pt x="170" y="80"/>
                  </a:lnTo>
                  <a:lnTo>
                    <a:pt x="164" y="35"/>
                  </a:lnTo>
                  <a:lnTo>
                    <a:pt x="154" y="0"/>
                  </a:lnTo>
                  <a:lnTo>
                    <a:pt x="138" y="7"/>
                  </a:lnTo>
                  <a:lnTo>
                    <a:pt x="78" y="32"/>
                  </a:lnTo>
                  <a:lnTo>
                    <a:pt x="71" y="35"/>
                  </a:lnTo>
                  <a:lnTo>
                    <a:pt x="81" y="37"/>
                  </a:lnTo>
                  <a:lnTo>
                    <a:pt x="90" y="59"/>
                  </a:lnTo>
                  <a:lnTo>
                    <a:pt x="86" y="110"/>
                  </a:lnTo>
                  <a:lnTo>
                    <a:pt x="59" y="196"/>
                  </a:lnTo>
                  <a:lnTo>
                    <a:pt x="15" y="305"/>
                  </a:lnTo>
                  <a:lnTo>
                    <a:pt x="0" y="381"/>
                  </a:lnTo>
                  <a:lnTo>
                    <a:pt x="0" y="388"/>
                  </a:lnTo>
                  <a:lnTo>
                    <a:pt x="78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89280" y="3468600"/>
              <a:ext cx="141120" cy="247680"/>
            </a:xfrm>
            <a:custGeom>
              <a:avLst/>
              <a:gdLst/>
              <a:ahLst/>
              <a:rect l="l" t="t" r="r" b="b"/>
              <a:pathLst>
                <a:path w="241" h="376">
                  <a:moveTo>
                    <a:pt x="222" y="0"/>
                  </a:moveTo>
                  <a:lnTo>
                    <a:pt x="232" y="2"/>
                  </a:lnTo>
                  <a:lnTo>
                    <a:pt x="241" y="24"/>
                  </a:lnTo>
                  <a:lnTo>
                    <a:pt x="237" y="75"/>
                  </a:lnTo>
                  <a:lnTo>
                    <a:pt x="210" y="161"/>
                  </a:lnTo>
                  <a:lnTo>
                    <a:pt x="166" y="270"/>
                  </a:lnTo>
                  <a:lnTo>
                    <a:pt x="151" y="346"/>
                  </a:lnTo>
                  <a:lnTo>
                    <a:pt x="151" y="353"/>
                  </a:lnTo>
                  <a:lnTo>
                    <a:pt x="82" y="371"/>
                  </a:lnTo>
                  <a:lnTo>
                    <a:pt x="0" y="376"/>
                  </a:lnTo>
                  <a:lnTo>
                    <a:pt x="7" y="315"/>
                  </a:lnTo>
                  <a:lnTo>
                    <a:pt x="45" y="232"/>
                  </a:lnTo>
                  <a:lnTo>
                    <a:pt x="104" y="125"/>
                  </a:lnTo>
                  <a:lnTo>
                    <a:pt x="120" y="66"/>
                  </a:lnTo>
                  <a:lnTo>
                    <a:pt x="120" y="50"/>
                  </a:lnTo>
                  <a:lnTo>
                    <a:pt x="123" y="49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10080" y="3501720"/>
              <a:ext cx="148680" cy="217440"/>
            </a:xfrm>
            <a:custGeom>
              <a:avLst/>
              <a:gdLst/>
              <a:ahLst/>
              <a:rect l="l" t="t" r="r" b="b"/>
              <a:pathLst>
                <a:path w="255" h="329">
                  <a:moveTo>
                    <a:pt x="222" y="12"/>
                  </a:moveTo>
                  <a:lnTo>
                    <a:pt x="213" y="26"/>
                  </a:lnTo>
                  <a:lnTo>
                    <a:pt x="151" y="51"/>
                  </a:lnTo>
                  <a:lnTo>
                    <a:pt x="113" y="54"/>
                  </a:lnTo>
                  <a:lnTo>
                    <a:pt x="106" y="85"/>
                  </a:lnTo>
                  <a:lnTo>
                    <a:pt x="75" y="154"/>
                  </a:lnTo>
                  <a:lnTo>
                    <a:pt x="23" y="241"/>
                  </a:lnTo>
                  <a:lnTo>
                    <a:pt x="9" y="276"/>
                  </a:lnTo>
                  <a:lnTo>
                    <a:pt x="0" y="319"/>
                  </a:lnTo>
                  <a:lnTo>
                    <a:pt x="83" y="329"/>
                  </a:lnTo>
                  <a:lnTo>
                    <a:pt x="135" y="326"/>
                  </a:lnTo>
                  <a:lnTo>
                    <a:pt x="142" y="265"/>
                  </a:lnTo>
                  <a:lnTo>
                    <a:pt x="180" y="182"/>
                  </a:lnTo>
                  <a:lnTo>
                    <a:pt x="239" y="75"/>
                  </a:lnTo>
                  <a:lnTo>
                    <a:pt x="255" y="16"/>
                  </a:lnTo>
                  <a:lnTo>
                    <a:pt x="255" y="0"/>
                  </a:lnTo>
                  <a:lnTo>
                    <a:pt x="222" y="1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98920" y="3500280"/>
              <a:ext cx="140760" cy="36360"/>
            </a:xfrm>
            <a:custGeom>
              <a:avLst/>
              <a:gdLst/>
              <a:ahLst/>
              <a:rect l="l" t="t" r="r" b="b"/>
              <a:pathLst>
                <a:path w="239" h="55">
                  <a:moveTo>
                    <a:pt x="43" y="41"/>
                  </a:moveTo>
                  <a:lnTo>
                    <a:pt x="116" y="55"/>
                  </a:lnTo>
                  <a:lnTo>
                    <a:pt x="130" y="55"/>
                  </a:lnTo>
                  <a:lnTo>
                    <a:pt x="168" y="52"/>
                  </a:lnTo>
                  <a:lnTo>
                    <a:pt x="230" y="27"/>
                  </a:lnTo>
                  <a:lnTo>
                    <a:pt x="239" y="13"/>
                  </a:lnTo>
                  <a:lnTo>
                    <a:pt x="178" y="17"/>
                  </a:lnTo>
                  <a:lnTo>
                    <a:pt x="85" y="8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10"/>
                  </a:lnTo>
                  <a:lnTo>
                    <a:pt x="43" y="41"/>
                  </a:lnTo>
                  <a:lnTo>
                    <a:pt x="0" y="41"/>
                  </a:lnTo>
                  <a:lnTo>
                    <a:pt x="43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35200" y="3528720"/>
              <a:ext cx="139320" cy="184320"/>
            </a:xfrm>
            <a:custGeom>
              <a:avLst/>
              <a:gdLst/>
              <a:ahLst/>
              <a:rect l="l" t="t" r="r" b="b"/>
              <a:pathLst>
                <a:path w="241" h="279">
                  <a:moveTo>
                    <a:pt x="111" y="0"/>
                  </a:moveTo>
                  <a:lnTo>
                    <a:pt x="102" y="38"/>
                  </a:lnTo>
                  <a:lnTo>
                    <a:pt x="37" y="135"/>
                  </a:lnTo>
                  <a:lnTo>
                    <a:pt x="14" y="189"/>
                  </a:lnTo>
                  <a:lnTo>
                    <a:pt x="0" y="253"/>
                  </a:lnTo>
                  <a:lnTo>
                    <a:pt x="128" y="279"/>
                  </a:lnTo>
                  <a:lnTo>
                    <a:pt x="137" y="236"/>
                  </a:lnTo>
                  <a:lnTo>
                    <a:pt x="151" y="201"/>
                  </a:lnTo>
                  <a:lnTo>
                    <a:pt x="203" y="114"/>
                  </a:lnTo>
                  <a:lnTo>
                    <a:pt x="234" y="45"/>
                  </a:lnTo>
                  <a:lnTo>
                    <a:pt x="241" y="14"/>
                  </a:lnTo>
                  <a:lnTo>
                    <a:pt x="227" y="14"/>
                  </a:lnTo>
                  <a:lnTo>
                    <a:pt x="154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51320" y="3511440"/>
              <a:ext cx="147240" cy="183960"/>
            </a:xfrm>
            <a:custGeom>
              <a:avLst/>
              <a:gdLst/>
              <a:ahLst/>
              <a:rect l="l" t="t" r="r" b="b"/>
              <a:pathLst>
                <a:path w="255" h="277">
                  <a:moveTo>
                    <a:pt x="255" y="24"/>
                  </a:moveTo>
                  <a:lnTo>
                    <a:pt x="222" y="14"/>
                  </a:lnTo>
                  <a:lnTo>
                    <a:pt x="179" y="10"/>
                  </a:lnTo>
                  <a:lnTo>
                    <a:pt x="137" y="2"/>
                  </a:lnTo>
                  <a:lnTo>
                    <a:pt x="94" y="0"/>
                  </a:lnTo>
                  <a:lnTo>
                    <a:pt x="70" y="80"/>
                  </a:lnTo>
                  <a:lnTo>
                    <a:pt x="11" y="204"/>
                  </a:lnTo>
                  <a:lnTo>
                    <a:pt x="0" y="268"/>
                  </a:lnTo>
                  <a:lnTo>
                    <a:pt x="58" y="268"/>
                  </a:lnTo>
                  <a:lnTo>
                    <a:pt x="144" y="277"/>
                  </a:lnTo>
                  <a:lnTo>
                    <a:pt x="158" y="213"/>
                  </a:lnTo>
                  <a:lnTo>
                    <a:pt x="181" y="159"/>
                  </a:lnTo>
                  <a:lnTo>
                    <a:pt x="246" y="62"/>
                  </a:lnTo>
                  <a:lnTo>
                    <a:pt x="25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32320" y="3473280"/>
              <a:ext cx="97920" cy="5544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66" y="40"/>
                  </a:moveTo>
                  <a:lnTo>
                    <a:pt x="35" y="0"/>
                  </a:lnTo>
                  <a:lnTo>
                    <a:pt x="0" y="59"/>
                  </a:lnTo>
                  <a:lnTo>
                    <a:pt x="42" y="67"/>
                  </a:lnTo>
                  <a:lnTo>
                    <a:pt x="85" y="71"/>
                  </a:lnTo>
                  <a:lnTo>
                    <a:pt x="118" y="81"/>
                  </a:lnTo>
                  <a:lnTo>
                    <a:pt x="161" y="81"/>
                  </a:lnTo>
                  <a:lnTo>
                    <a:pt x="172" y="50"/>
                  </a:lnTo>
                  <a:lnTo>
                    <a:pt x="170" y="41"/>
                  </a:lnTo>
                  <a:lnTo>
                    <a:pt x="16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46280" y="3455640"/>
              <a:ext cx="104760" cy="63720"/>
            </a:xfrm>
            <a:custGeom>
              <a:avLst/>
              <a:gdLst/>
              <a:ahLst/>
              <a:rect l="l" t="t" r="r" b="b"/>
              <a:pathLst>
                <a:path w="178" h="95">
                  <a:moveTo>
                    <a:pt x="178" y="28"/>
                  </a:moveTo>
                  <a:lnTo>
                    <a:pt x="148" y="21"/>
                  </a:lnTo>
                  <a:lnTo>
                    <a:pt x="77" y="4"/>
                  </a:lnTo>
                  <a:lnTo>
                    <a:pt x="36" y="0"/>
                  </a:lnTo>
                  <a:lnTo>
                    <a:pt x="31" y="16"/>
                  </a:lnTo>
                  <a:lnTo>
                    <a:pt x="17" y="40"/>
                  </a:lnTo>
                  <a:lnTo>
                    <a:pt x="0" y="95"/>
                  </a:lnTo>
                  <a:lnTo>
                    <a:pt x="76" y="85"/>
                  </a:lnTo>
                  <a:lnTo>
                    <a:pt x="100" y="85"/>
                  </a:lnTo>
                  <a:lnTo>
                    <a:pt x="143" y="87"/>
                  </a:lnTo>
                  <a:lnTo>
                    <a:pt x="17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57720" y="3449520"/>
              <a:ext cx="110520" cy="9504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56" y="6"/>
                  </a:moveTo>
                  <a:lnTo>
                    <a:pt x="26" y="78"/>
                  </a:lnTo>
                  <a:lnTo>
                    <a:pt x="0" y="146"/>
                  </a:lnTo>
                  <a:lnTo>
                    <a:pt x="99" y="122"/>
                  </a:lnTo>
                  <a:lnTo>
                    <a:pt x="121" y="115"/>
                  </a:lnTo>
                  <a:lnTo>
                    <a:pt x="153" y="104"/>
                  </a:lnTo>
                  <a:lnTo>
                    <a:pt x="170" y="49"/>
                  </a:lnTo>
                  <a:lnTo>
                    <a:pt x="184" y="25"/>
                  </a:lnTo>
                  <a:lnTo>
                    <a:pt x="189" y="9"/>
                  </a:lnTo>
                  <a:lnTo>
                    <a:pt x="170" y="7"/>
                  </a:lnTo>
                  <a:lnTo>
                    <a:pt x="147" y="2"/>
                  </a:lnTo>
                  <a:lnTo>
                    <a:pt x="113" y="0"/>
                  </a:lnTo>
                  <a:lnTo>
                    <a:pt x="89" y="6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51240" y="3336840"/>
              <a:ext cx="82080" cy="115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38"/>
                  </a:moveTo>
                  <a:lnTo>
                    <a:pt x="4" y="128"/>
                  </a:lnTo>
                  <a:lnTo>
                    <a:pt x="16" y="116"/>
                  </a:lnTo>
                  <a:lnTo>
                    <a:pt x="69" y="69"/>
                  </a:lnTo>
                  <a:lnTo>
                    <a:pt x="97" y="29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5" y="14"/>
                  </a:lnTo>
                  <a:lnTo>
                    <a:pt x="83" y="81"/>
                  </a:lnTo>
                  <a:lnTo>
                    <a:pt x="92" y="97"/>
                  </a:lnTo>
                  <a:lnTo>
                    <a:pt x="104" y="86"/>
                  </a:lnTo>
                  <a:lnTo>
                    <a:pt x="130" y="41"/>
                  </a:lnTo>
                  <a:lnTo>
                    <a:pt x="142" y="52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07" y="107"/>
                  </a:lnTo>
                  <a:lnTo>
                    <a:pt x="101" y="121"/>
                  </a:lnTo>
                  <a:lnTo>
                    <a:pt x="101" y="119"/>
                  </a:lnTo>
                  <a:lnTo>
                    <a:pt x="113" y="119"/>
                  </a:lnTo>
                  <a:lnTo>
                    <a:pt x="126" y="109"/>
                  </a:lnTo>
                  <a:lnTo>
                    <a:pt x="139" y="98"/>
                  </a:lnTo>
                  <a:lnTo>
                    <a:pt x="144" y="112"/>
                  </a:lnTo>
                  <a:lnTo>
                    <a:pt x="116" y="140"/>
                  </a:lnTo>
                  <a:lnTo>
                    <a:pt x="130" y="138"/>
                  </a:lnTo>
                  <a:lnTo>
                    <a:pt x="132" y="147"/>
                  </a:lnTo>
                  <a:lnTo>
                    <a:pt x="125" y="156"/>
                  </a:lnTo>
                  <a:lnTo>
                    <a:pt x="125" y="169"/>
                  </a:lnTo>
                  <a:lnTo>
                    <a:pt x="101" y="175"/>
                  </a:lnTo>
                  <a:lnTo>
                    <a:pt x="68" y="175"/>
                  </a:lnTo>
                  <a:lnTo>
                    <a:pt x="52" y="171"/>
                  </a:lnTo>
                  <a:lnTo>
                    <a:pt x="12" y="152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59160" y="3511440"/>
              <a:ext cx="145800" cy="196920"/>
            </a:xfrm>
            <a:custGeom>
              <a:avLst/>
              <a:gdLst/>
              <a:ahLst/>
              <a:rect l="l" t="t" r="r" b="b"/>
              <a:pathLst>
                <a:path w="249" h="298">
                  <a:moveTo>
                    <a:pt x="149" y="10"/>
                  </a:moveTo>
                  <a:lnTo>
                    <a:pt x="117" y="21"/>
                  </a:lnTo>
                  <a:lnTo>
                    <a:pt x="95" y="28"/>
                  </a:lnTo>
                  <a:lnTo>
                    <a:pt x="91" y="40"/>
                  </a:lnTo>
                  <a:lnTo>
                    <a:pt x="67" y="90"/>
                  </a:lnTo>
                  <a:lnTo>
                    <a:pt x="53" y="130"/>
                  </a:lnTo>
                  <a:lnTo>
                    <a:pt x="7" y="246"/>
                  </a:lnTo>
                  <a:lnTo>
                    <a:pt x="0" y="275"/>
                  </a:lnTo>
                  <a:lnTo>
                    <a:pt x="0" y="292"/>
                  </a:lnTo>
                  <a:lnTo>
                    <a:pt x="1" y="298"/>
                  </a:lnTo>
                  <a:lnTo>
                    <a:pt x="114" y="277"/>
                  </a:lnTo>
                  <a:lnTo>
                    <a:pt x="155" y="268"/>
                  </a:lnTo>
                  <a:lnTo>
                    <a:pt x="166" y="204"/>
                  </a:lnTo>
                  <a:lnTo>
                    <a:pt x="225" y="80"/>
                  </a:lnTo>
                  <a:lnTo>
                    <a:pt x="249" y="0"/>
                  </a:lnTo>
                  <a:lnTo>
                    <a:pt x="225" y="0"/>
                  </a:lnTo>
                  <a:lnTo>
                    <a:pt x="149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70240" y="3528720"/>
              <a:ext cx="145800" cy="227160"/>
            </a:xfrm>
            <a:custGeom>
              <a:avLst/>
              <a:gdLst/>
              <a:ahLst/>
              <a:rect l="l" t="t" r="r" b="b"/>
              <a:pathLst>
                <a:path w="248" h="341">
                  <a:moveTo>
                    <a:pt x="75" y="41"/>
                  </a:moveTo>
                  <a:lnTo>
                    <a:pt x="99" y="38"/>
                  </a:lnTo>
                  <a:lnTo>
                    <a:pt x="149" y="24"/>
                  </a:lnTo>
                  <a:lnTo>
                    <a:pt x="248" y="0"/>
                  </a:lnTo>
                  <a:lnTo>
                    <a:pt x="244" y="12"/>
                  </a:lnTo>
                  <a:lnTo>
                    <a:pt x="220" y="62"/>
                  </a:lnTo>
                  <a:lnTo>
                    <a:pt x="206" y="102"/>
                  </a:lnTo>
                  <a:lnTo>
                    <a:pt x="160" y="218"/>
                  </a:lnTo>
                  <a:lnTo>
                    <a:pt x="153" y="247"/>
                  </a:lnTo>
                  <a:lnTo>
                    <a:pt x="153" y="264"/>
                  </a:lnTo>
                  <a:lnTo>
                    <a:pt x="154" y="270"/>
                  </a:lnTo>
                  <a:lnTo>
                    <a:pt x="0" y="341"/>
                  </a:lnTo>
                  <a:lnTo>
                    <a:pt x="12" y="285"/>
                  </a:lnTo>
                  <a:lnTo>
                    <a:pt x="33" y="202"/>
                  </a:lnTo>
                  <a:lnTo>
                    <a:pt x="54" y="123"/>
                  </a:lnTo>
                  <a:lnTo>
                    <a:pt x="75" y="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59000" y="3557520"/>
              <a:ext cx="153720" cy="234720"/>
            </a:xfrm>
            <a:custGeom>
              <a:avLst/>
              <a:gdLst/>
              <a:ahLst/>
              <a:rect l="l" t="t" r="r" b="b"/>
              <a:pathLst>
                <a:path w="265" h="353">
                  <a:moveTo>
                    <a:pt x="0" y="353"/>
                  </a:moveTo>
                  <a:lnTo>
                    <a:pt x="90" y="341"/>
                  </a:lnTo>
                  <a:lnTo>
                    <a:pt x="190" y="300"/>
                  </a:lnTo>
                  <a:lnTo>
                    <a:pt x="202" y="244"/>
                  </a:lnTo>
                  <a:lnTo>
                    <a:pt x="223" y="161"/>
                  </a:lnTo>
                  <a:lnTo>
                    <a:pt x="244" y="82"/>
                  </a:lnTo>
                  <a:lnTo>
                    <a:pt x="265" y="0"/>
                  </a:lnTo>
                  <a:lnTo>
                    <a:pt x="215" y="7"/>
                  </a:lnTo>
                  <a:lnTo>
                    <a:pt x="128" y="12"/>
                  </a:lnTo>
                  <a:lnTo>
                    <a:pt x="116" y="31"/>
                  </a:lnTo>
                  <a:lnTo>
                    <a:pt x="78" y="120"/>
                  </a:lnTo>
                  <a:lnTo>
                    <a:pt x="67" y="177"/>
                  </a:lnTo>
                  <a:lnTo>
                    <a:pt x="43" y="284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62520" y="3541680"/>
              <a:ext cx="171360" cy="250560"/>
            </a:xfrm>
            <a:custGeom>
              <a:avLst/>
              <a:gdLst/>
              <a:ahLst/>
              <a:rect l="l" t="t" r="r" b="b"/>
              <a:pathLst>
                <a:path w="294" h="377">
                  <a:moveTo>
                    <a:pt x="166" y="12"/>
                  </a:moveTo>
                  <a:lnTo>
                    <a:pt x="252" y="28"/>
                  </a:lnTo>
                  <a:lnTo>
                    <a:pt x="294" y="36"/>
                  </a:lnTo>
                  <a:lnTo>
                    <a:pt x="282" y="55"/>
                  </a:lnTo>
                  <a:lnTo>
                    <a:pt x="244" y="144"/>
                  </a:lnTo>
                  <a:lnTo>
                    <a:pt x="233" y="201"/>
                  </a:lnTo>
                  <a:lnTo>
                    <a:pt x="209" y="308"/>
                  </a:lnTo>
                  <a:lnTo>
                    <a:pt x="166" y="377"/>
                  </a:lnTo>
                  <a:lnTo>
                    <a:pt x="143" y="372"/>
                  </a:lnTo>
                  <a:lnTo>
                    <a:pt x="52" y="351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86" y="336"/>
                  </a:lnTo>
                  <a:lnTo>
                    <a:pt x="114" y="341"/>
                  </a:lnTo>
                  <a:lnTo>
                    <a:pt x="119" y="336"/>
                  </a:lnTo>
                  <a:lnTo>
                    <a:pt x="91" y="327"/>
                  </a:lnTo>
                  <a:lnTo>
                    <a:pt x="0" y="293"/>
                  </a:lnTo>
                  <a:lnTo>
                    <a:pt x="3" y="280"/>
                  </a:lnTo>
                  <a:lnTo>
                    <a:pt x="83" y="299"/>
                  </a:lnTo>
                  <a:lnTo>
                    <a:pt x="126" y="306"/>
                  </a:lnTo>
                  <a:lnTo>
                    <a:pt x="131" y="296"/>
                  </a:lnTo>
                  <a:lnTo>
                    <a:pt x="17" y="258"/>
                  </a:lnTo>
                  <a:lnTo>
                    <a:pt x="19" y="241"/>
                  </a:lnTo>
                  <a:lnTo>
                    <a:pt x="102" y="261"/>
                  </a:lnTo>
                  <a:lnTo>
                    <a:pt x="135" y="265"/>
                  </a:lnTo>
                  <a:lnTo>
                    <a:pt x="135" y="258"/>
                  </a:lnTo>
                  <a:lnTo>
                    <a:pt x="74" y="232"/>
                  </a:lnTo>
                  <a:lnTo>
                    <a:pt x="26" y="209"/>
                  </a:lnTo>
                  <a:lnTo>
                    <a:pt x="31" y="196"/>
                  </a:lnTo>
                  <a:lnTo>
                    <a:pt x="60" y="204"/>
                  </a:lnTo>
                  <a:lnTo>
                    <a:pt x="135" y="222"/>
                  </a:lnTo>
                  <a:lnTo>
                    <a:pt x="138" y="215"/>
                  </a:lnTo>
                  <a:lnTo>
                    <a:pt x="123" y="206"/>
                  </a:lnTo>
                  <a:lnTo>
                    <a:pt x="50" y="168"/>
                  </a:lnTo>
                  <a:lnTo>
                    <a:pt x="45" y="151"/>
                  </a:lnTo>
                  <a:lnTo>
                    <a:pt x="67" y="157"/>
                  </a:lnTo>
                  <a:lnTo>
                    <a:pt x="123" y="173"/>
                  </a:lnTo>
                  <a:lnTo>
                    <a:pt x="157" y="175"/>
                  </a:lnTo>
                  <a:lnTo>
                    <a:pt x="159" y="163"/>
                  </a:lnTo>
                  <a:lnTo>
                    <a:pt x="85" y="128"/>
                  </a:lnTo>
                  <a:lnTo>
                    <a:pt x="60" y="114"/>
                  </a:lnTo>
                  <a:lnTo>
                    <a:pt x="71" y="93"/>
                  </a:lnTo>
                  <a:lnTo>
                    <a:pt x="126" y="114"/>
                  </a:lnTo>
                  <a:lnTo>
                    <a:pt x="185" y="128"/>
                  </a:lnTo>
                  <a:lnTo>
                    <a:pt x="188" y="114"/>
                  </a:lnTo>
                  <a:lnTo>
                    <a:pt x="119" y="80"/>
                  </a:lnTo>
                  <a:lnTo>
                    <a:pt x="88" y="55"/>
                  </a:lnTo>
                  <a:lnTo>
                    <a:pt x="93" y="43"/>
                  </a:lnTo>
                  <a:lnTo>
                    <a:pt x="178" y="69"/>
                  </a:lnTo>
                  <a:lnTo>
                    <a:pt x="211" y="71"/>
                  </a:lnTo>
                  <a:lnTo>
                    <a:pt x="213" y="59"/>
                  </a:lnTo>
                  <a:lnTo>
                    <a:pt x="192" y="52"/>
                  </a:lnTo>
                  <a:lnTo>
                    <a:pt x="140" y="29"/>
                  </a:lnTo>
                  <a:lnTo>
                    <a:pt x="117" y="14"/>
                  </a:lnTo>
                  <a:lnTo>
                    <a:pt x="123" y="0"/>
                  </a:lnTo>
                  <a:lnTo>
                    <a:pt x="16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22840" y="3533760"/>
              <a:ext cx="128160" cy="155520"/>
            </a:xfrm>
            <a:custGeom>
              <a:avLst/>
              <a:gdLst/>
              <a:ahLst/>
              <a:rect l="l" t="t" r="r" b="b"/>
              <a:pathLst>
                <a:path w="220" h="234">
                  <a:moveTo>
                    <a:pt x="36" y="189"/>
                  </a:moveTo>
                  <a:lnTo>
                    <a:pt x="33" y="199"/>
                  </a:lnTo>
                  <a:lnTo>
                    <a:pt x="0" y="234"/>
                  </a:lnTo>
                  <a:lnTo>
                    <a:pt x="31" y="225"/>
                  </a:lnTo>
                  <a:lnTo>
                    <a:pt x="86" y="197"/>
                  </a:lnTo>
                  <a:lnTo>
                    <a:pt x="150" y="152"/>
                  </a:lnTo>
                  <a:lnTo>
                    <a:pt x="192" y="98"/>
                  </a:lnTo>
                  <a:lnTo>
                    <a:pt x="213" y="53"/>
                  </a:lnTo>
                  <a:lnTo>
                    <a:pt x="220" y="27"/>
                  </a:lnTo>
                  <a:lnTo>
                    <a:pt x="216" y="2"/>
                  </a:lnTo>
                  <a:lnTo>
                    <a:pt x="208" y="0"/>
                  </a:lnTo>
                  <a:lnTo>
                    <a:pt x="199" y="0"/>
                  </a:lnTo>
                  <a:lnTo>
                    <a:pt x="192" y="2"/>
                  </a:lnTo>
                  <a:lnTo>
                    <a:pt x="183" y="29"/>
                  </a:lnTo>
                  <a:lnTo>
                    <a:pt x="150" y="67"/>
                  </a:lnTo>
                  <a:lnTo>
                    <a:pt x="142" y="74"/>
                  </a:lnTo>
                  <a:lnTo>
                    <a:pt x="133" y="88"/>
                  </a:lnTo>
                  <a:lnTo>
                    <a:pt x="95" y="135"/>
                  </a:lnTo>
                  <a:lnTo>
                    <a:pt x="86" y="149"/>
                  </a:lnTo>
                  <a:lnTo>
                    <a:pt x="48" y="187"/>
                  </a:lnTo>
                  <a:lnTo>
                    <a:pt x="38" y="190"/>
                  </a:lnTo>
                  <a:lnTo>
                    <a:pt x="36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46480" y="3535200"/>
              <a:ext cx="1034640" cy="1379520"/>
            </a:xfrm>
            <a:custGeom>
              <a:avLst/>
              <a:gdLst/>
              <a:ahLst/>
              <a:rect l="l" t="t" r="r" b="b"/>
              <a:pathLst>
                <a:path w="1767" h="2082">
                  <a:moveTo>
                    <a:pt x="358" y="2082"/>
                  </a:moveTo>
                  <a:lnTo>
                    <a:pt x="249" y="2082"/>
                  </a:lnTo>
                  <a:lnTo>
                    <a:pt x="214" y="2036"/>
                  </a:lnTo>
                  <a:lnTo>
                    <a:pt x="138" y="1913"/>
                  </a:lnTo>
                  <a:lnTo>
                    <a:pt x="64" y="1776"/>
                  </a:lnTo>
                  <a:lnTo>
                    <a:pt x="32" y="1705"/>
                  </a:lnTo>
                  <a:lnTo>
                    <a:pt x="13" y="1630"/>
                  </a:lnTo>
                  <a:lnTo>
                    <a:pt x="0" y="1528"/>
                  </a:lnTo>
                  <a:lnTo>
                    <a:pt x="0" y="1405"/>
                  </a:lnTo>
                  <a:lnTo>
                    <a:pt x="20" y="1289"/>
                  </a:lnTo>
                  <a:lnTo>
                    <a:pt x="71" y="1144"/>
                  </a:lnTo>
                  <a:lnTo>
                    <a:pt x="112" y="1054"/>
                  </a:lnTo>
                  <a:lnTo>
                    <a:pt x="167" y="969"/>
                  </a:lnTo>
                  <a:lnTo>
                    <a:pt x="231" y="889"/>
                  </a:lnTo>
                  <a:lnTo>
                    <a:pt x="320" y="812"/>
                  </a:lnTo>
                  <a:lnTo>
                    <a:pt x="365" y="786"/>
                  </a:lnTo>
                  <a:lnTo>
                    <a:pt x="344" y="763"/>
                  </a:lnTo>
                  <a:lnTo>
                    <a:pt x="320" y="732"/>
                  </a:lnTo>
                  <a:lnTo>
                    <a:pt x="302" y="697"/>
                  </a:lnTo>
                  <a:lnTo>
                    <a:pt x="280" y="623"/>
                  </a:lnTo>
                  <a:lnTo>
                    <a:pt x="280" y="573"/>
                  </a:lnTo>
                  <a:lnTo>
                    <a:pt x="261" y="569"/>
                  </a:lnTo>
                  <a:lnTo>
                    <a:pt x="206" y="560"/>
                  </a:lnTo>
                  <a:lnTo>
                    <a:pt x="145" y="535"/>
                  </a:lnTo>
                  <a:lnTo>
                    <a:pt x="91" y="491"/>
                  </a:lnTo>
                  <a:lnTo>
                    <a:pt x="65" y="451"/>
                  </a:lnTo>
                  <a:lnTo>
                    <a:pt x="48" y="382"/>
                  </a:lnTo>
                  <a:lnTo>
                    <a:pt x="39" y="334"/>
                  </a:lnTo>
                  <a:lnTo>
                    <a:pt x="193" y="263"/>
                  </a:lnTo>
                  <a:lnTo>
                    <a:pt x="306" y="242"/>
                  </a:lnTo>
                  <a:lnTo>
                    <a:pt x="347" y="233"/>
                  </a:lnTo>
                  <a:lnTo>
                    <a:pt x="405" y="233"/>
                  </a:lnTo>
                  <a:lnTo>
                    <a:pt x="491" y="242"/>
                  </a:lnTo>
                  <a:lnTo>
                    <a:pt x="619" y="268"/>
                  </a:lnTo>
                  <a:lnTo>
                    <a:pt x="702" y="278"/>
                  </a:lnTo>
                  <a:lnTo>
                    <a:pt x="754" y="275"/>
                  </a:lnTo>
                  <a:lnTo>
                    <a:pt x="836" y="270"/>
                  </a:lnTo>
                  <a:lnTo>
                    <a:pt x="905" y="252"/>
                  </a:lnTo>
                  <a:lnTo>
                    <a:pt x="945" y="242"/>
                  </a:lnTo>
                  <a:lnTo>
                    <a:pt x="983" y="232"/>
                  </a:lnTo>
                  <a:lnTo>
                    <a:pt x="1014" y="223"/>
                  </a:lnTo>
                  <a:lnTo>
                    <a:pt x="1069" y="195"/>
                  </a:lnTo>
                  <a:lnTo>
                    <a:pt x="1133" y="150"/>
                  </a:lnTo>
                  <a:lnTo>
                    <a:pt x="1175" y="96"/>
                  </a:lnTo>
                  <a:lnTo>
                    <a:pt x="1196" y="51"/>
                  </a:lnTo>
                  <a:lnTo>
                    <a:pt x="1203" y="25"/>
                  </a:lnTo>
                  <a:lnTo>
                    <a:pt x="1199" y="0"/>
                  </a:lnTo>
                  <a:lnTo>
                    <a:pt x="1249" y="62"/>
                  </a:lnTo>
                  <a:lnTo>
                    <a:pt x="1284" y="103"/>
                  </a:lnTo>
                  <a:lnTo>
                    <a:pt x="1305" y="143"/>
                  </a:lnTo>
                  <a:lnTo>
                    <a:pt x="1319" y="133"/>
                  </a:lnTo>
                  <a:lnTo>
                    <a:pt x="1365" y="107"/>
                  </a:lnTo>
                  <a:lnTo>
                    <a:pt x="1421" y="96"/>
                  </a:lnTo>
                  <a:lnTo>
                    <a:pt x="1483" y="112"/>
                  </a:lnTo>
                  <a:lnTo>
                    <a:pt x="1499" y="121"/>
                  </a:lnTo>
                  <a:lnTo>
                    <a:pt x="1551" y="162"/>
                  </a:lnTo>
                  <a:lnTo>
                    <a:pt x="1594" y="211"/>
                  </a:lnTo>
                  <a:lnTo>
                    <a:pt x="1622" y="256"/>
                  </a:lnTo>
                  <a:lnTo>
                    <a:pt x="1634" y="289"/>
                  </a:lnTo>
                  <a:lnTo>
                    <a:pt x="1642" y="346"/>
                  </a:lnTo>
                  <a:lnTo>
                    <a:pt x="1641" y="389"/>
                  </a:lnTo>
                  <a:lnTo>
                    <a:pt x="1629" y="436"/>
                  </a:lnTo>
                  <a:lnTo>
                    <a:pt x="1604" y="493"/>
                  </a:lnTo>
                  <a:lnTo>
                    <a:pt x="1587" y="515"/>
                  </a:lnTo>
                  <a:lnTo>
                    <a:pt x="1577" y="528"/>
                  </a:lnTo>
                  <a:lnTo>
                    <a:pt x="1530" y="557"/>
                  </a:lnTo>
                  <a:lnTo>
                    <a:pt x="1473" y="571"/>
                  </a:lnTo>
                  <a:lnTo>
                    <a:pt x="1431" y="574"/>
                  </a:lnTo>
                  <a:lnTo>
                    <a:pt x="1421" y="663"/>
                  </a:lnTo>
                  <a:lnTo>
                    <a:pt x="1391" y="758"/>
                  </a:lnTo>
                  <a:lnTo>
                    <a:pt x="1371" y="794"/>
                  </a:lnTo>
                  <a:lnTo>
                    <a:pt x="1447" y="836"/>
                  </a:lnTo>
                  <a:lnTo>
                    <a:pt x="1544" y="914"/>
                  </a:lnTo>
                  <a:lnTo>
                    <a:pt x="1589" y="966"/>
                  </a:lnTo>
                  <a:lnTo>
                    <a:pt x="1634" y="1028"/>
                  </a:lnTo>
                  <a:lnTo>
                    <a:pt x="1665" y="1083"/>
                  </a:lnTo>
                  <a:lnTo>
                    <a:pt x="1689" y="1144"/>
                  </a:lnTo>
                  <a:lnTo>
                    <a:pt x="1736" y="1274"/>
                  </a:lnTo>
                  <a:lnTo>
                    <a:pt x="1758" y="1395"/>
                  </a:lnTo>
                  <a:lnTo>
                    <a:pt x="1767" y="1499"/>
                  </a:lnTo>
                  <a:lnTo>
                    <a:pt x="1767" y="1630"/>
                  </a:lnTo>
                  <a:lnTo>
                    <a:pt x="1755" y="1705"/>
                  </a:lnTo>
                  <a:lnTo>
                    <a:pt x="1722" y="1814"/>
                  </a:lnTo>
                  <a:lnTo>
                    <a:pt x="1712" y="1838"/>
                  </a:lnTo>
                  <a:lnTo>
                    <a:pt x="1680" y="1904"/>
                  </a:lnTo>
                  <a:lnTo>
                    <a:pt x="1634" y="1982"/>
                  </a:lnTo>
                  <a:lnTo>
                    <a:pt x="1623" y="1994"/>
                  </a:lnTo>
                  <a:lnTo>
                    <a:pt x="1585" y="2053"/>
                  </a:lnTo>
                  <a:lnTo>
                    <a:pt x="1582" y="2063"/>
                  </a:lnTo>
                  <a:lnTo>
                    <a:pt x="1206" y="2069"/>
                  </a:lnTo>
                  <a:lnTo>
                    <a:pt x="768" y="2079"/>
                  </a:lnTo>
                  <a:lnTo>
                    <a:pt x="657" y="2075"/>
                  </a:lnTo>
                  <a:lnTo>
                    <a:pt x="534" y="2077"/>
                  </a:lnTo>
                  <a:lnTo>
                    <a:pt x="463" y="2082"/>
                  </a:lnTo>
                  <a:lnTo>
                    <a:pt x="358" y="20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3080" y="3429000"/>
              <a:ext cx="75960" cy="128520"/>
            </a:xfrm>
            <a:custGeom>
              <a:avLst/>
              <a:gdLst/>
              <a:ahLst/>
              <a:rect l="l" t="t" r="r" b="b"/>
              <a:pathLst>
                <a:path w="130" h="194">
                  <a:moveTo>
                    <a:pt x="0" y="194"/>
                  </a:moveTo>
                  <a:lnTo>
                    <a:pt x="8" y="163"/>
                  </a:lnTo>
                  <a:lnTo>
                    <a:pt x="47" y="37"/>
                  </a:lnTo>
                  <a:lnTo>
                    <a:pt x="62" y="0"/>
                  </a:lnTo>
                  <a:lnTo>
                    <a:pt x="74" y="14"/>
                  </a:lnTo>
                  <a:lnTo>
                    <a:pt x="114" y="33"/>
                  </a:lnTo>
                  <a:lnTo>
                    <a:pt x="130" y="37"/>
                  </a:lnTo>
                  <a:lnTo>
                    <a:pt x="100" y="109"/>
                  </a:lnTo>
                  <a:lnTo>
                    <a:pt x="74" y="177"/>
                  </a:lnTo>
                  <a:lnTo>
                    <a:pt x="24" y="1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87680" y="3689280"/>
              <a:ext cx="7560" cy="68040"/>
            </a:xfrm>
            <a:custGeom>
              <a:avLst/>
              <a:gdLst/>
              <a:ahLst/>
              <a:rect l="l" t="t" r="r" b="b"/>
              <a:pathLst>
                <a:path w="16" h="102">
                  <a:moveTo>
                    <a:pt x="0" y="0"/>
                  </a:moveTo>
                  <a:lnTo>
                    <a:pt x="14" y="76"/>
                  </a:lnTo>
                  <a:lnTo>
                    <a:pt x="16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46280" y="3455640"/>
              <a:ext cx="21960" cy="637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0"/>
                  </a:moveTo>
                  <a:lnTo>
                    <a:pt x="31" y="16"/>
                  </a:lnTo>
                  <a:lnTo>
                    <a:pt x="17" y="40"/>
                  </a:lnTo>
                  <a:lnTo>
                    <a:pt x="0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60680" y="4055760"/>
              <a:ext cx="63360" cy="4788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0" y="0"/>
                  </a:moveTo>
                  <a:lnTo>
                    <a:pt x="74" y="53"/>
                  </a:lnTo>
                  <a:lnTo>
                    <a:pt x="109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35520" y="4074840"/>
              <a:ext cx="101160" cy="47880"/>
            </a:xfrm>
            <a:custGeom>
              <a:avLst/>
              <a:gdLst/>
              <a:ahLst/>
              <a:rect l="l" t="t" r="r" b="b"/>
              <a:pathLst>
                <a:path w="175" h="73">
                  <a:moveTo>
                    <a:pt x="175" y="0"/>
                  </a:moveTo>
                  <a:lnTo>
                    <a:pt x="135" y="33"/>
                  </a:lnTo>
                  <a:lnTo>
                    <a:pt x="73" y="62"/>
                  </a:lnTo>
                  <a:lnTo>
                    <a:pt x="5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94200" y="3803400"/>
              <a:ext cx="432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84480" y="3759120"/>
              <a:ext cx="61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76560" y="3630600"/>
              <a:ext cx="34560" cy="109440"/>
            </a:xfrm>
            <a:custGeom>
              <a:avLst/>
              <a:gdLst/>
              <a:ahLst/>
              <a:rect l="l" t="t" r="r" b="b"/>
              <a:pathLst>
                <a:path w="59" h="166">
                  <a:moveTo>
                    <a:pt x="59" y="0"/>
                  </a:moveTo>
                  <a:lnTo>
                    <a:pt x="50" y="12"/>
                  </a:lnTo>
                  <a:lnTo>
                    <a:pt x="22" y="54"/>
                  </a:lnTo>
                  <a:lnTo>
                    <a:pt x="3" y="102"/>
                  </a:lnTo>
                  <a:lnTo>
                    <a:pt x="0" y="134"/>
                  </a:lnTo>
                  <a:lnTo>
                    <a:pt x="3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538520" y="3342960"/>
              <a:ext cx="288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11520" y="3296880"/>
              <a:ext cx="43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583160" y="3331800"/>
              <a:ext cx="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4611600" y="3332160"/>
              <a:ext cx="108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560840" y="3342960"/>
              <a:ext cx="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46440" y="3281040"/>
              <a:ext cx="28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65520" y="3273120"/>
              <a:ext cx="1080" cy="1584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2" y="25"/>
                  </a:move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13080" y="3429000"/>
              <a:ext cx="37800" cy="128520"/>
            </a:xfrm>
            <a:custGeom>
              <a:avLst/>
              <a:gdLst/>
              <a:ahLst/>
              <a:rect l="l" t="t" r="r" b="b"/>
              <a:pathLst>
                <a:path w="62" h="194">
                  <a:moveTo>
                    <a:pt x="62" y="0"/>
                  </a:moveTo>
                  <a:lnTo>
                    <a:pt x="47" y="37"/>
                  </a:lnTo>
                  <a:lnTo>
                    <a:pt x="8" y="163"/>
                  </a:lnTo>
                  <a:lnTo>
                    <a:pt x="0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484520" y="3358440"/>
              <a:ext cx="28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459320" y="336384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24320" y="3860640"/>
              <a:ext cx="40680" cy="442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0"/>
                  </a:moveTo>
                  <a:lnTo>
                    <a:pt x="13" y="59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89480" y="3774960"/>
              <a:ext cx="4320" cy="3312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9" y="0"/>
                  </a:moveTo>
                  <a:lnTo>
                    <a:pt x="4" y="44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22560" y="3392280"/>
              <a:ext cx="37800" cy="142920"/>
            </a:xfrm>
            <a:custGeom>
              <a:avLst/>
              <a:gdLst/>
              <a:ahLst/>
              <a:rect l="l" t="t" r="r" b="b"/>
              <a:pathLst>
                <a:path w="64" h="217">
                  <a:moveTo>
                    <a:pt x="17" y="0"/>
                  </a:moveTo>
                  <a:lnTo>
                    <a:pt x="0" y="31"/>
                  </a:lnTo>
                  <a:lnTo>
                    <a:pt x="17" y="0"/>
                  </a:lnTo>
                  <a:lnTo>
                    <a:pt x="24" y="4"/>
                  </a:lnTo>
                  <a:lnTo>
                    <a:pt x="38" y="10"/>
                  </a:lnTo>
                  <a:lnTo>
                    <a:pt x="50" y="28"/>
                  </a:lnTo>
                  <a:lnTo>
                    <a:pt x="57" y="43"/>
                  </a:lnTo>
                  <a:lnTo>
                    <a:pt x="64" y="61"/>
                  </a:lnTo>
                  <a:lnTo>
                    <a:pt x="64" y="99"/>
                  </a:lnTo>
                  <a:lnTo>
                    <a:pt x="59" y="139"/>
                  </a:lnTo>
                  <a:lnTo>
                    <a:pt x="43" y="217"/>
                  </a:lnTo>
                  <a:lnTo>
                    <a:pt x="35" y="215"/>
                  </a:lnTo>
                  <a:lnTo>
                    <a:pt x="26" y="215"/>
                  </a:lnTo>
                  <a:lnTo>
                    <a:pt x="19" y="217"/>
                  </a:lnTo>
                  <a:lnTo>
                    <a:pt x="24" y="156"/>
                  </a:lnTo>
                  <a:lnTo>
                    <a:pt x="31" y="104"/>
                  </a:lnTo>
                  <a:lnTo>
                    <a:pt x="24" y="62"/>
                  </a:lnTo>
                  <a:lnTo>
                    <a:pt x="12" y="38"/>
                  </a:lnTo>
                  <a:lnTo>
                    <a:pt x="0" y="3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95560" y="3411360"/>
              <a:ext cx="26640" cy="190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9" y="0"/>
                  </a:moveTo>
                  <a:lnTo>
                    <a:pt x="21" y="16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VEGTBL7" descr=""/>
          <p:cNvPicPr/>
          <p:nvPr/>
        </p:nvPicPr>
        <p:blipFill>
          <a:blip r:embed="rId1"/>
          <a:stretch/>
        </p:blipFill>
        <p:spPr>
          <a:xfrm>
            <a:off x="3714840" y="2911320"/>
            <a:ext cx="1712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4038480" y="2376360"/>
            <a:ext cx="1292400" cy="2865600"/>
            <a:chOff x="4038480" y="2376360"/>
            <a:chExt cx="1292400" cy="2865600"/>
          </a:xfrm>
        </p:grpSpPr>
        <p:sp>
          <p:nvSpPr>
            <p:cNvPr id="769" name=""/>
            <p:cNvSpPr/>
            <p:nvPr/>
          </p:nvSpPr>
          <p:spPr>
            <a:xfrm>
              <a:off x="4038480" y="2376360"/>
              <a:ext cx="1292400" cy="2865600"/>
            </a:xfrm>
            <a:custGeom>
              <a:avLst/>
              <a:gdLst/>
              <a:ahLst/>
              <a:rect l="l" t="t" r="r" b="b"/>
              <a:pathLst>
                <a:path w="2815" h="5931">
                  <a:moveTo>
                    <a:pt x="879" y="5931"/>
                  </a:moveTo>
                  <a:lnTo>
                    <a:pt x="1680" y="5931"/>
                  </a:lnTo>
                  <a:lnTo>
                    <a:pt x="1631" y="3896"/>
                  </a:lnTo>
                  <a:lnTo>
                    <a:pt x="2531" y="3825"/>
                  </a:lnTo>
                  <a:lnTo>
                    <a:pt x="2590" y="3814"/>
                  </a:lnTo>
                  <a:lnTo>
                    <a:pt x="2645" y="3792"/>
                  </a:lnTo>
                  <a:lnTo>
                    <a:pt x="2670" y="3779"/>
                  </a:lnTo>
                  <a:lnTo>
                    <a:pt x="2693" y="3762"/>
                  </a:lnTo>
                  <a:lnTo>
                    <a:pt x="2735" y="3725"/>
                  </a:lnTo>
                  <a:lnTo>
                    <a:pt x="2769" y="3683"/>
                  </a:lnTo>
                  <a:lnTo>
                    <a:pt x="2794" y="3639"/>
                  </a:lnTo>
                  <a:lnTo>
                    <a:pt x="2809" y="3591"/>
                  </a:lnTo>
                  <a:lnTo>
                    <a:pt x="2815" y="3547"/>
                  </a:lnTo>
                  <a:lnTo>
                    <a:pt x="2815" y="2483"/>
                  </a:lnTo>
                  <a:lnTo>
                    <a:pt x="2809" y="2430"/>
                  </a:lnTo>
                  <a:lnTo>
                    <a:pt x="2792" y="2384"/>
                  </a:lnTo>
                  <a:lnTo>
                    <a:pt x="2766" y="2344"/>
                  </a:lnTo>
                  <a:lnTo>
                    <a:pt x="2732" y="2311"/>
                  </a:lnTo>
                  <a:lnTo>
                    <a:pt x="2691" y="2285"/>
                  </a:lnTo>
                  <a:lnTo>
                    <a:pt x="2645" y="2266"/>
                  </a:lnTo>
                  <a:lnTo>
                    <a:pt x="2597" y="2254"/>
                  </a:lnTo>
                  <a:lnTo>
                    <a:pt x="2548" y="2251"/>
                  </a:lnTo>
                  <a:lnTo>
                    <a:pt x="2497" y="2255"/>
                  </a:lnTo>
                  <a:lnTo>
                    <a:pt x="2449" y="2267"/>
                  </a:lnTo>
                  <a:lnTo>
                    <a:pt x="2403" y="2288"/>
                  </a:lnTo>
                  <a:lnTo>
                    <a:pt x="2363" y="2319"/>
                  </a:lnTo>
                  <a:lnTo>
                    <a:pt x="2329" y="2358"/>
                  </a:lnTo>
                  <a:lnTo>
                    <a:pt x="2315" y="2381"/>
                  </a:lnTo>
                  <a:lnTo>
                    <a:pt x="2303" y="2406"/>
                  </a:lnTo>
                  <a:lnTo>
                    <a:pt x="2285" y="2464"/>
                  </a:lnTo>
                  <a:lnTo>
                    <a:pt x="2281" y="2497"/>
                  </a:lnTo>
                  <a:lnTo>
                    <a:pt x="2280" y="2532"/>
                  </a:lnTo>
                  <a:lnTo>
                    <a:pt x="2271" y="3319"/>
                  </a:lnTo>
                  <a:lnTo>
                    <a:pt x="1612" y="3332"/>
                  </a:lnTo>
                  <a:lnTo>
                    <a:pt x="1595" y="2054"/>
                  </a:lnTo>
                  <a:lnTo>
                    <a:pt x="2320" y="1977"/>
                  </a:lnTo>
                  <a:lnTo>
                    <a:pt x="2351" y="1970"/>
                  </a:lnTo>
                  <a:lnTo>
                    <a:pt x="2379" y="1953"/>
                  </a:lnTo>
                  <a:lnTo>
                    <a:pt x="2404" y="1930"/>
                  </a:lnTo>
                  <a:lnTo>
                    <a:pt x="2427" y="1903"/>
                  </a:lnTo>
                  <a:lnTo>
                    <a:pt x="2446" y="1872"/>
                  </a:lnTo>
                  <a:lnTo>
                    <a:pt x="2461" y="1841"/>
                  </a:lnTo>
                  <a:lnTo>
                    <a:pt x="2470" y="1810"/>
                  </a:lnTo>
                  <a:lnTo>
                    <a:pt x="2473" y="1780"/>
                  </a:lnTo>
                  <a:lnTo>
                    <a:pt x="2464" y="668"/>
                  </a:lnTo>
                  <a:lnTo>
                    <a:pt x="2459" y="628"/>
                  </a:lnTo>
                  <a:lnTo>
                    <a:pt x="2448" y="594"/>
                  </a:lnTo>
                  <a:lnTo>
                    <a:pt x="2431" y="566"/>
                  </a:lnTo>
                  <a:lnTo>
                    <a:pt x="2409" y="542"/>
                  </a:lnTo>
                  <a:lnTo>
                    <a:pt x="2383" y="523"/>
                  </a:lnTo>
                  <a:lnTo>
                    <a:pt x="2352" y="510"/>
                  </a:lnTo>
                  <a:lnTo>
                    <a:pt x="2320" y="502"/>
                  </a:lnTo>
                  <a:lnTo>
                    <a:pt x="2288" y="500"/>
                  </a:lnTo>
                  <a:lnTo>
                    <a:pt x="2256" y="503"/>
                  </a:lnTo>
                  <a:lnTo>
                    <a:pt x="2224" y="513"/>
                  </a:lnTo>
                  <a:lnTo>
                    <a:pt x="2193" y="528"/>
                  </a:lnTo>
                  <a:lnTo>
                    <a:pt x="2167" y="548"/>
                  </a:lnTo>
                  <a:lnTo>
                    <a:pt x="2145" y="576"/>
                  </a:lnTo>
                  <a:lnTo>
                    <a:pt x="2128" y="609"/>
                  </a:lnTo>
                  <a:lnTo>
                    <a:pt x="2117" y="648"/>
                  </a:lnTo>
                  <a:lnTo>
                    <a:pt x="2112" y="694"/>
                  </a:lnTo>
                  <a:lnTo>
                    <a:pt x="2103" y="1628"/>
                  </a:lnTo>
                  <a:lnTo>
                    <a:pt x="1581" y="1637"/>
                  </a:lnTo>
                  <a:lnTo>
                    <a:pt x="1584" y="1637"/>
                  </a:lnTo>
                  <a:lnTo>
                    <a:pt x="1583" y="1637"/>
                  </a:lnTo>
                  <a:lnTo>
                    <a:pt x="1581" y="1637"/>
                  </a:lnTo>
                  <a:lnTo>
                    <a:pt x="1563" y="305"/>
                  </a:lnTo>
                  <a:lnTo>
                    <a:pt x="1556" y="240"/>
                  </a:lnTo>
                  <a:lnTo>
                    <a:pt x="1538" y="181"/>
                  </a:lnTo>
                  <a:lnTo>
                    <a:pt x="1509" y="129"/>
                  </a:lnTo>
                  <a:lnTo>
                    <a:pt x="1473" y="87"/>
                  </a:lnTo>
                  <a:lnTo>
                    <a:pt x="1430" y="52"/>
                  </a:lnTo>
                  <a:lnTo>
                    <a:pt x="1383" y="25"/>
                  </a:lnTo>
                  <a:lnTo>
                    <a:pt x="1332" y="8"/>
                  </a:lnTo>
                  <a:lnTo>
                    <a:pt x="1279" y="0"/>
                  </a:lnTo>
                  <a:lnTo>
                    <a:pt x="1253" y="0"/>
                  </a:lnTo>
                  <a:lnTo>
                    <a:pt x="1227" y="2"/>
                  </a:lnTo>
                  <a:lnTo>
                    <a:pt x="1177" y="15"/>
                  </a:lnTo>
                  <a:lnTo>
                    <a:pt x="1128" y="38"/>
                  </a:lnTo>
                  <a:lnTo>
                    <a:pt x="1085" y="73"/>
                  </a:lnTo>
                  <a:lnTo>
                    <a:pt x="1049" y="119"/>
                  </a:lnTo>
                  <a:lnTo>
                    <a:pt x="1032" y="147"/>
                  </a:lnTo>
                  <a:lnTo>
                    <a:pt x="1019" y="177"/>
                  </a:lnTo>
                  <a:lnTo>
                    <a:pt x="1008" y="211"/>
                  </a:lnTo>
                  <a:lnTo>
                    <a:pt x="999" y="248"/>
                  </a:lnTo>
                  <a:lnTo>
                    <a:pt x="994" y="288"/>
                  </a:lnTo>
                  <a:lnTo>
                    <a:pt x="992" y="332"/>
                  </a:lnTo>
                  <a:lnTo>
                    <a:pt x="941" y="2487"/>
                  </a:lnTo>
                  <a:lnTo>
                    <a:pt x="424" y="2496"/>
                  </a:lnTo>
                  <a:lnTo>
                    <a:pt x="419" y="1330"/>
                  </a:lnTo>
                  <a:lnTo>
                    <a:pt x="415" y="1275"/>
                  </a:lnTo>
                  <a:lnTo>
                    <a:pt x="402" y="1228"/>
                  </a:lnTo>
                  <a:lnTo>
                    <a:pt x="381" y="1188"/>
                  </a:lnTo>
                  <a:lnTo>
                    <a:pt x="354" y="1157"/>
                  </a:lnTo>
                  <a:lnTo>
                    <a:pt x="322" y="1133"/>
                  </a:lnTo>
                  <a:lnTo>
                    <a:pt x="287" y="1116"/>
                  </a:lnTo>
                  <a:lnTo>
                    <a:pt x="249" y="1107"/>
                  </a:lnTo>
                  <a:lnTo>
                    <a:pt x="210" y="1106"/>
                  </a:lnTo>
                  <a:lnTo>
                    <a:pt x="171" y="1112"/>
                  </a:lnTo>
                  <a:lnTo>
                    <a:pt x="133" y="1125"/>
                  </a:lnTo>
                  <a:lnTo>
                    <a:pt x="97" y="1145"/>
                  </a:lnTo>
                  <a:lnTo>
                    <a:pt x="66" y="1172"/>
                  </a:lnTo>
                  <a:lnTo>
                    <a:pt x="38" y="1207"/>
                  </a:lnTo>
                  <a:lnTo>
                    <a:pt x="18" y="1249"/>
                  </a:lnTo>
                  <a:lnTo>
                    <a:pt x="4" y="1297"/>
                  </a:lnTo>
                  <a:lnTo>
                    <a:pt x="0" y="1352"/>
                  </a:lnTo>
                  <a:lnTo>
                    <a:pt x="4" y="2657"/>
                  </a:lnTo>
                  <a:lnTo>
                    <a:pt x="7" y="2705"/>
                  </a:lnTo>
                  <a:lnTo>
                    <a:pt x="15" y="2751"/>
                  </a:lnTo>
                  <a:lnTo>
                    <a:pt x="30" y="2793"/>
                  </a:lnTo>
                  <a:lnTo>
                    <a:pt x="50" y="2830"/>
                  </a:lnTo>
                  <a:lnTo>
                    <a:pt x="79" y="2863"/>
                  </a:lnTo>
                  <a:lnTo>
                    <a:pt x="114" y="2888"/>
                  </a:lnTo>
                  <a:lnTo>
                    <a:pt x="157" y="2906"/>
                  </a:lnTo>
                  <a:lnTo>
                    <a:pt x="207" y="2916"/>
                  </a:lnTo>
                  <a:lnTo>
                    <a:pt x="928" y="2993"/>
                  </a:lnTo>
                  <a:lnTo>
                    <a:pt x="879" y="5931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38480" y="2376360"/>
              <a:ext cx="1292400" cy="2865600"/>
            </a:xfrm>
            <a:custGeom>
              <a:avLst/>
              <a:gdLst/>
              <a:ahLst/>
              <a:rect l="l" t="t" r="r" b="b"/>
              <a:pathLst>
                <a:path w="2815" h="5931">
                  <a:moveTo>
                    <a:pt x="879" y="5931"/>
                  </a:moveTo>
                  <a:lnTo>
                    <a:pt x="1680" y="5931"/>
                  </a:lnTo>
                  <a:lnTo>
                    <a:pt x="1631" y="3896"/>
                  </a:lnTo>
                  <a:lnTo>
                    <a:pt x="2531" y="3825"/>
                  </a:lnTo>
                  <a:lnTo>
                    <a:pt x="2590" y="3814"/>
                  </a:lnTo>
                  <a:lnTo>
                    <a:pt x="2645" y="3792"/>
                  </a:lnTo>
                  <a:lnTo>
                    <a:pt x="2670" y="3779"/>
                  </a:lnTo>
                  <a:lnTo>
                    <a:pt x="2693" y="3762"/>
                  </a:lnTo>
                  <a:lnTo>
                    <a:pt x="2735" y="3725"/>
                  </a:lnTo>
                  <a:lnTo>
                    <a:pt x="2769" y="3683"/>
                  </a:lnTo>
                  <a:lnTo>
                    <a:pt x="2794" y="3639"/>
                  </a:lnTo>
                  <a:lnTo>
                    <a:pt x="2809" y="3591"/>
                  </a:lnTo>
                  <a:lnTo>
                    <a:pt x="2815" y="3547"/>
                  </a:lnTo>
                  <a:lnTo>
                    <a:pt x="2815" y="2483"/>
                  </a:lnTo>
                  <a:lnTo>
                    <a:pt x="2809" y="2430"/>
                  </a:lnTo>
                  <a:lnTo>
                    <a:pt x="2792" y="2384"/>
                  </a:lnTo>
                  <a:lnTo>
                    <a:pt x="2766" y="2344"/>
                  </a:lnTo>
                  <a:lnTo>
                    <a:pt x="2732" y="2311"/>
                  </a:lnTo>
                  <a:lnTo>
                    <a:pt x="2691" y="2285"/>
                  </a:lnTo>
                  <a:lnTo>
                    <a:pt x="2645" y="2266"/>
                  </a:lnTo>
                  <a:lnTo>
                    <a:pt x="2597" y="2254"/>
                  </a:lnTo>
                  <a:lnTo>
                    <a:pt x="2548" y="2251"/>
                  </a:lnTo>
                  <a:lnTo>
                    <a:pt x="2497" y="2255"/>
                  </a:lnTo>
                  <a:lnTo>
                    <a:pt x="2449" y="2267"/>
                  </a:lnTo>
                  <a:lnTo>
                    <a:pt x="2403" y="2288"/>
                  </a:lnTo>
                  <a:lnTo>
                    <a:pt x="2363" y="2319"/>
                  </a:lnTo>
                  <a:lnTo>
                    <a:pt x="2329" y="2358"/>
                  </a:lnTo>
                  <a:lnTo>
                    <a:pt x="2315" y="2381"/>
                  </a:lnTo>
                  <a:lnTo>
                    <a:pt x="2303" y="2406"/>
                  </a:lnTo>
                  <a:lnTo>
                    <a:pt x="2285" y="2464"/>
                  </a:lnTo>
                  <a:lnTo>
                    <a:pt x="2281" y="2497"/>
                  </a:lnTo>
                  <a:lnTo>
                    <a:pt x="2280" y="2532"/>
                  </a:lnTo>
                  <a:lnTo>
                    <a:pt x="2271" y="3319"/>
                  </a:lnTo>
                  <a:lnTo>
                    <a:pt x="1612" y="3332"/>
                  </a:lnTo>
                  <a:lnTo>
                    <a:pt x="1595" y="2054"/>
                  </a:lnTo>
                  <a:lnTo>
                    <a:pt x="2320" y="1977"/>
                  </a:lnTo>
                  <a:lnTo>
                    <a:pt x="2351" y="1970"/>
                  </a:lnTo>
                  <a:lnTo>
                    <a:pt x="2379" y="1953"/>
                  </a:lnTo>
                  <a:lnTo>
                    <a:pt x="2404" y="1930"/>
                  </a:lnTo>
                  <a:lnTo>
                    <a:pt x="2427" y="1903"/>
                  </a:lnTo>
                  <a:lnTo>
                    <a:pt x="2446" y="1872"/>
                  </a:lnTo>
                  <a:lnTo>
                    <a:pt x="2461" y="1841"/>
                  </a:lnTo>
                  <a:lnTo>
                    <a:pt x="2470" y="1810"/>
                  </a:lnTo>
                  <a:lnTo>
                    <a:pt x="2473" y="1780"/>
                  </a:lnTo>
                  <a:lnTo>
                    <a:pt x="2464" y="668"/>
                  </a:lnTo>
                  <a:lnTo>
                    <a:pt x="2459" y="628"/>
                  </a:lnTo>
                  <a:lnTo>
                    <a:pt x="2448" y="594"/>
                  </a:lnTo>
                  <a:lnTo>
                    <a:pt x="2431" y="566"/>
                  </a:lnTo>
                  <a:lnTo>
                    <a:pt x="2409" y="542"/>
                  </a:lnTo>
                  <a:lnTo>
                    <a:pt x="2383" y="523"/>
                  </a:lnTo>
                  <a:lnTo>
                    <a:pt x="2352" y="510"/>
                  </a:lnTo>
                  <a:lnTo>
                    <a:pt x="2320" y="502"/>
                  </a:lnTo>
                  <a:lnTo>
                    <a:pt x="2288" y="500"/>
                  </a:lnTo>
                  <a:lnTo>
                    <a:pt x="2256" y="503"/>
                  </a:lnTo>
                  <a:lnTo>
                    <a:pt x="2224" y="513"/>
                  </a:lnTo>
                  <a:lnTo>
                    <a:pt x="2193" y="528"/>
                  </a:lnTo>
                  <a:lnTo>
                    <a:pt x="2167" y="548"/>
                  </a:lnTo>
                  <a:lnTo>
                    <a:pt x="2145" y="576"/>
                  </a:lnTo>
                  <a:lnTo>
                    <a:pt x="2128" y="609"/>
                  </a:lnTo>
                  <a:lnTo>
                    <a:pt x="2117" y="648"/>
                  </a:lnTo>
                  <a:lnTo>
                    <a:pt x="2112" y="694"/>
                  </a:lnTo>
                  <a:lnTo>
                    <a:pt x="2103" y="1628"/>
                  </a:lnTo>
                  <a:lnTo>
                    <a:pt x="1581" y="1637"/>
                  </a:lnTo>
                  <a:lnTo>
                    <a:pt x="1584" y="1637"/>
                  </a:lnTo>
                  <a:lnTo>
                    <a:pt x="1583" y="1637"/>
                  </a:lnTo>
                  <a:lnTo>
                    <a:pt x="1581" y="1637"/>
                  </a:lnTo>
                  <a:lnTo>
                    <a:pt x="1563" y="305"/>
                  </a:lnTo>
                  <a:lnTo>
                    <a:pt x="1556" y="240"/>
                  </a:lnTo>
                  <a:lnTo>
                    <a:pt x="1538" y="181"/>
                  </a:lnTo>
                  <a:lnTo>
                    <a:pt x="1509" y="129"/>
                  </a:lnTo>
                  <a:lnTo>
                    <a:pt x="1473" y="87"/>
                  </a:lnTo>
                  <a:lnTo>
                    <a:pt x="1430" y="52"/>
                  </a:lnTo>
                  <a:lnTo>
                    <a:pt x="1383" y="25"/>
                  </a:lnTo>
                  <a:lnTo>
                    <a:pt x="1332" y="8"/>
                  </a:lnTo>
                  <a:lnTo>
                    <a:pt x="1279" y="0"/>
                  </a:lnTo>
                  <a:lnTo>
                    <a:pt x="1253" y="0"/>
                  </a:lnTo>
                  <a:lnTo>
                    <a:pt x="1227" y="2"/>
                  </a:lnTo>
                  <a:lnTo>
                    <a:pt x="1177" y="15"/>
                  </a:lnTo>
                  <a:lnTo>
                    <a:pt x="1128" y="38"/>
                  </a:lnTo>
                  <a:lnTo>
                    <a:pt x="1085" y="73"/>
                  </a:lnTo>
                  <a:lnTo>
                    <a:pt x="1049" y="119"/>
                  </a:lnTo>
                  <a:lnTo>
                    <a:pt x="1032" y="147"/>
                  </a:lnTo>
                  <a:lnTo>
                    <a:pt x="1019" y="177"/>
                  </a:lnTo>
                  <a:lnTo>
                    <a:pt x="1008" y="211"/>
                  </a:lnTo>
                  <a:lnTo>
                    <a:pt x="999" y="248"/>
                  </a:lnTo>
                  <a:lnTo>
                    <a:pt x="994" y="288"/>
                  </a:lnTo>
                  <a:lnTo>
                    <a:pt x="992" y="332"/>
                  </a:lnTo>
                  <a:lnTo>
                    <a:pt x="941" y="2487"/>
                  </a:lnTo>
                  <a:lnTo>
                    <a:pt x="424" y="2496"/>
                  </a:lnTo>
                  <a:lnTo>
                    <a:pt x="419" y="1330"/>
                  </a:lnTo>
                  <a:lnTo>
                    <a:pt x="415" y="1275"/>
                  </a:lnTo>
                  <a:lnTo>
                    <a:pt x="402" y="1228"/>
                  </a:lnTo>
                  <a:lnTo>
                    <a:pt x="381" y="1188"/>
                  </a:lnTo>
                  <a:lnTo>
                    <a:pt x="354" y="1157"/>
                  </a:lnTo>
                  <a:lnTo>
                    <a:pt x="322" y="1133"/>
                  </a:lnTo>
                  <a:lnTo>
                    <a:pt x="287" y="1116"/>
                  </a:lnTo>
                  <a:lnTo>
                    <a:pt x="249" y="1107"/>
                  </a:lnTo>
                  <a:lnTo>
                    <a:pt x="210" y="1106"/>
                  </a:lnTo>
                  <a:lnTo>
                    <a:pt x="171" y="1112"/>
                  </a:lnTo>
                  <a:lnTo>
                    <a:pt x="133" y="1125"/>
                  </a:lnTo>
                  <a:lnTo>
                    <a:pt x="97" y="1145"/>
                  </a:lnTo>
                  <a:lnTo>
                    <a:pt x="66" y="1172"/>
                  </a:lnTo>
                  <a:lnTo>
                    <a:pt x="38" y="1207"/>
                  </a:lnTo>
                  <a:lnTo>
                    <a:pt x="18" y="1249"/>
                  </a:lnTo>
                  <a:lnTo>
                    <a:pt x="4" y="1297"/>
                  </a:lnTo>
                  <a:lnTo>
                    <a:pt x="0" y="1352"/>
                  </a:lnTo>
                  <a:lnTo>
                    <a:pt x="4" y="2657"/>
                  </a:lnTo>
                  <a:lnTo>
                    <a:pt x="7" y="2705"/>
                  </a:lnTo>
                  <a:lnTo>
                    <a:pt x="15" y="2751"/>
                  </a:lnTo>
                  <a:lnTo>
                    <a:pt x="30" y="2793"/>
                  </a:lnTo>
                  <a:lnTo>
                    <a:pt x="50" y="2830"/>
                  </a:lnTo>
                  <a:lnTo>
                    <a:pt x="79" y="2863"/>
                  </a:lnTo>
                  <a:lnTo>
                    <a:pt x="114" y="2888"/>
                  </a:lnTo>
                  <a:lnTo>
                    <a:pt x="157" y="2906"/>
                  </a:lnTo>
                  <a:lnTo>
                    <a:pt x="207" y="2916"/>
                  </a:lnTo>
                  <a:lnTo>
                    <a:pt x="928" y="2993"/>
                  </a:lnTo>
                  <a:lnTo>
                    <a:pt x="879" y="593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BUTN011" descr=""/>
          <p:cNvPicPr/>
          <p:nvPr/>
        </p:nvPicPr>
        <p:blipFill>
          <a:blip r:embed="rId1"/>
          <a:stretch/>
        </p:blipFill>
        <p:spPr>
          <a:xfrm>
            <a:off x="3697200" y="2871720"/>
            <a:ext cx="17478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533520" y="1905120"/>
            <a:ext cx="58449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24480" y="930240"/>
            <a:ext cx="77760" cy="138240"/>
          </a:xfrm>
          <a:custGeom>
            <a:avLst/>
            <a:gdLst/>
            <a:ahLst/>
            <a:rect l="l" t="t" r="r" b="b"/>
            <a:pathLst>
              <a:path w="83" h="150">
                <a:moveTo>
                  <a:pt x="79" y="68"/>
                </a:moveTo>
                <a:lnTo>
                  <a:pt x="70" y="86"/>
                </a:lnTo>
                <a:lnTo>
                  <a:pt x="72" y="107"/>
                </a:lnTo>
                <a:lnTo>
                  <a:pt x="72" y="117"/>
                </a:lnTo>
                <a:lnTo>
                  <a:pt x="76" y="128"/>
                </a:lnTo>
                <a:lnTo>
                  <a:pt x="77" y="138"/>
                </a:lnTo>
                <a:lnTo>
                  <a:pt x="79" y="150"/>
                </a:lnTo>
                <a:lnTo>
                  <a:pt x="66" y="142"/>
                </a:lnTo>
                <a:lnTo>
                  <a:pt x="54" y="134"/>
                </a:lnTo>
                <a:lnTo>
                  <a:pt x="41" y="132"/>
                </a:lnTo>
                <a:lnTo>
                  <a:pt x="29" y="142"/>
                </a:lnTo>
                <a:lnTo>
                  <a:pt x="19" y="123"/>
                </a:lnTo>
                <a:lnTo>
                  <a:pt x="13" y="105"/>
                </a:lnTo>
                <a:lnTo>
                  <a:pt x="8" y="86"/>
                </a:lnTo>
                <a:lnTo>
                  <a:pt x="4" y="68"/>
                </a:lnTo>
                <a:lnTo>
                  <a:pt x="0" y="49"/>
                </a:lnTo>
                <a:lnTo>
                  <a:pt x="2" y="31"/>
                </a:lnTo>
                <a:lnTo>
                  <a:pt x="8" y="14"/>
                </a:lnTo>
                <a:lnTo>
                  <a:pt x="19" y="0"/>
                </a:lnTo>
                <a:lnTo>
                  <a:pt x="27" y="6"/>
                </a:lnTo>
                <a:lnTo>
                  <a:pt x="39" y="12"/>
                </a:lnTo>
                <a:lnTo>
                  <a:pt x="52" y="18"/>
                </a:lnTo>
                <a:lnTo>
                  <a:pt x="66" y="26"/>
                </a:lnTo>
                <a:lnTo>
                  <a:pt x="76" y="31"/>
                </a:lnTo>
                <a:lnTo>
                  <a:pt x="83" y="43"/>
                </a:lnTo>
                <a:lnTo>
                  <a:pt x="83" y="53"/>
                </a:lnTo>
                <a:lnTo>
                  <a:pt x="79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956040" y="3200400"/>
            <a:ext cx="1231920" cy="1515600"/>
            <a:chOff x="3956040" y="3200400"/>
            <a:chExt cx="1231920" cy="1515600"/>
          </a:xfrm>
        </p:grpSpPr>
        <p:grpSp>
          <p:nvGrpSpPr>
            <p:cNvPr id="775" name=""/>
            <p:cNvGrpSpPr/>
            <p:nvPr/>
          </p:nvGrpSpPr>
          <p:grpSpPr>
            <a:xfrm>
              <a:off x="3956040" y="3200400"/>
              <a:ext cx="1231920" cy="1515600"/>
              <a:chOff x="3956040" y="3200400"/>
              <a:chExt cx="1231920" cy="1515600"/>
            </a:xfrm>
          </p:grpSpPr>
          <p:sp>
            <p:nvSpPr>
              <p:cNvPr id="776" name=""/>
              <p:cNvSpPr/>
              <p:nvPr/>
            </p:nvSpPr>
            <p:spPr>
              <a:xfrm>
                <a:off x="4172760" y="3200400"/>
                <a:ext cx="420840" cy="330480"/>
              </a:xfrm>
              <a:custGeom>
                <a:avLst/>
                <a:gdLst/>
                <a:ahLst/>
                <a:rect l="l" t="t" r="r" b="b"/>
                <a:pathLst>
                  <a:path w="1021" h="780">
                    <a:moveTo>
                      <a:pt x="591" y="71"/>
                    </a:moveTo>
                    <a:lnTo>
                      <a:pt x="675" y="112"/>
                    </a:lnTo>
                    <a:lnTo>
                      <a:pt x="749" y="158"/>
                    </a:lnTo>
                    <a:lnTo>
                      <a:pt x="813" y="208"/>
                    </a:lnTo>
                    <a:lnTo>
                      <a:pt x="869" y="260"/>
                    </a:lnTo>
                    <a:lnTo>
                      <a:pt x="915" y="314"/>
                    </a:lnTo>
                    <a:lnTo>
                      <a:pt x="956" y="371"/>
                    </a:lnTo>
                    <a:lnTo>
                      <a:pt x="990" y="429"/>
                    </a:lnTo>
                    <a:lnTo>
                      <a:pt x="1021" y="489"/>
                    </a:lnTo>
                    <a:lnTo>
                      <a:pt x="1004" y="524"/>
                    </a:lnTo>
                    <a:lnTo>
                      <a:pt x="992" y="560"/>
                    </a:lnTo>
                    <a:lnTo>
                      <a:pt x="978" y="595"/>
                    </a:lnTo>
                    <a:lnTo>
                      <a:pt x="969" y="631"/>
                    </a:lnTo>
                    <a:lnTo>
                      <a:pt x="958" y="667"/>
                    </a:lnTo>
                    <a:lnTo>
                      <a:pt x="949" y="704"/>
                    </a:lnTo>
                    <a:lnTo>
                      <a:pt x="939" y="741"/>
                    </a:lnTo>
                    <a:lnTo>
                      <a:pt x="931" y="780"/>
                    </a:lnTo>
                    <a:lnTo>
                      <a:pt x="892" y="780"/>
                    </a:lnTo>
                    <a:lnTo>
                      <a:pt x="853" y="780"/>
                    </a:lnTo>
                    <a:lnTo>
                      <a:pt x="813" y="778"/>
                    </a:lnTo>
                    <a:lnTo>
                      <a:pt x="775" y="775"/>
                    </a:lnTo>
                    <a:lnTo>
                      <a:pt x="735" y="768"/>
                    </a:lnTo>
                    <a:lnTo>
                      <a:pt x="698" y="760"/>
                    </a:lnTo>
                    <a:lnTo>
                      <a:pt x="660" y="749"/>
                    </a:lnTo>
                    <a:lnTo>
                      <a:pt x="624" y="735"/>
                    </a:lnTo>
                    <a:lnTo>
                      <a:pt x="538" y="685"/>
                    </a:lnTo>
                    <a:lnTo>
                      <a:pt x="467" y="630"/>
                    </a:lnTo>
                    <a:lnTo>
                      <a:pt x="406" y="567"/>
                    </a:lnTo>
                    <a:lnTo>
                      <a:pt x="352" y="502"/>
                    </a:lnTo>
                    <a:lnTo>
                      <a:pt x="300" y="433"/>
                    </a:lnTo>
                    <a:lnTo>
                      <a:pt x="248" y="366"/>
                    </a:lnTo>
                    <a:lnTo>
                      <a:pt x="192" y="299"/>
                    </a:lnTo>
                    <a:lnTo>
                      <a:pt x="128" y="235"/>
                    </a:lnTo>
                    <a:lnTo>
                      <a:pt x="112" y="223"/>
                    </a:lnTo>
                    <a:lnTo>
                      <a:pt x="95" y="214"/>
                    </a:lnTo>
                    <a:lnTo>
                      <a:pt x="78" y="205"/>
                    </a:lnTo>
                    <a:lnTo>
                      <a:pt x="62" y="198"/>
                    </a:lnTo>
                    <a:lnTo>
                      <a:pt x="46" y="189"/>
                    </a:lnTo>
                    <a:lnTo>
                      <a:pt x="32" y="180"/>
                    </a:lnTo>
                    <a:lnTo>
                      <a:pt x="18" y="167"/>
                    </a:lnTo>
                    <a:lnTo>
                      <a:pt x="9" y="153"/>
                    </a:lnTo>
                    <a:lnTo>
                      <a:pt x="3" y="142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3" y="110"/>
                    </a:lnTo>
                    <a:lnTo>
                      <a:pt x="6" y="99"/>
                    </a:lnTo>
                    <a:lnTo>
                      <a:pt x="12" y="88"/>
                    </a:lnTo>
                    <a:lnTo>
                      <a:pt x="19" y="78"/>
                    </a:lnTo>
                    <a:lnTo>
                      <a:pt x="31" y="69"/>
                    </a:lnTo>
                    <a:lnTo>
                      <a:pt x="97" y="31"/>
                    </a:lnTo>
                    <a:lnTo>
                      <a:pt x="166" y="9"/>
                    </a:lnTo>
                    <a:lnTo>
                      <a:pt x="236" y="0"/>
                    </a:lnTo>
                    <a:lnTo>
                      <a:pt x="307" y="2"/>
                    </a:lnTo>
                    <a:lnTo>
                      <a:pt x="378" y="11"/>
                    </a:lnTo>
                    <a:lnTo>
                      <a:pt x="449" y="28"/>
                    </a:lnTo>
                    <a:lnTo>
                      <a:pt x="519" y="47"/>
                    </a:lnTo>
                    <a:lnTo>
                      <a:pt x="591" y="7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276440" y="3262680"/>
                <a:ext cx="288000" cy="216000"/>
              </a:xfrm>
              <a:custGeom>
                <a:avLst/>
                <a:gdLst/>
                <a:ahLst/>
                <a:rect l="l" t="t" r="r" b="b"/>
                <a:pathLst>
                  <a:path w="698" h="511">
                    <a:moveTo>
                      <a:pt x="304" y="125"/>
                    </a:moveTo>
                    <a:lnTo>
                      <a:pt x="358" y="160"/>
                    </a:lnTo>
                    <a:lnTo>
                      <a:pt x="412" y="197"/>
                    </a:lnTo>
                    <a:lnTo>
                      <a:pt x="466" y="234"/>
                    </a:lnTo>
                    <a:lnTo>
                      <a:pt x="518" y="275"/>
                    </a:lnTo>
                    <a:lnTo>
                      <a:pt x="567" y="316"/>
                    </a:lnTo>
                    <a:lnTo>
                      <a:pt x="616" y="362"/>
                    </a:lnTo>
                    <a:lnTo>
                      <a:pt x="658" y="412"/>
                    </a:lnTo>
                    <a:lnTo>
                      <a:pt x="698" y="467"/>
                    </a:lnTo>
                    <a:lnTo>
                      <a:pt x="698" y="471"/>
                    </a:lnTo>
                    <a:lnTo>
                      <a:pt x="698" y="478"/>
                    </a:lnTo>
                    <a:lnTo>
                      <a:pt x="697" y="483"/>
                    </a:lnTo>
                    <a:lnTo>
                      <a:pt x="696" y="489"/>
                    </a:lnTo>
                    <a:lnTo>
                      <a:pt x="693" y="494"/>
                    </a:lnTo>
                    <a:lnTo>
                      <a:pt x="691" y="500"/>
                    </a:lnTo>
                    <a:lnTo>
                      <a:pt x="687" y="505"/>
                    </a:lnTo>
                    <a:lnTo>
                      <a:pt x="685" y="511"/>
                    </a:lnTo>
                    <a:lnTo>
                      <a:pt x="673" y="506"/>
                    </a:lnTo>
                    <a:lnTo>
                      <a:pt x="665" y="499"/>
                    </a:lnTo>
                    <a:lnTo>
                      <a:pt x="657" y="488"/>
                    </a:lnTo>
                    <a:lnTo>
                      <a:pt x="650" y="478"/>
                    </a:lnTo>
                    <a:lnTo>
                      <a:pt x="642" y="465"/>
                    </a:lnTo>
                    <a:lnTo>
                      <a:pt x="633" y="455"/>
                    </a:lnTo>
                    <a:lnTo>
                      <a:pt x="622" y="446"/>
                    </a:lnTo>
                    <a:lnTo>
                      <a:pt x="608" y="442"/>
                    </a:lnTo>
                    <a:lnTo>
                      <a:pt x="587" y="432"/>
                    </a:lnTo>
                    <a:lnTo>
                      <a:pt x="561" y="427"/>
                    </a:lnTo>
                    <a:lnTo>
                      <a:pt x="531" y="424"/>
                    </a:lnTo>
                    <a:lnTo>
                      <a:pt x="500" y="425"/>
                    </a:lnTo>
                    <a:lnTo>
                      <a:pt x="466" y="425"/>
                    </a:lnTo>
                    <a:lnTo>
                      <a:pt x="433" y="428"/>
                    </a:lnTo>
                    <a:lnTo>
                      <a:pt x="403" y="430"/>
                    </a:lnTo>
                    <a:lnTo>
                      <a:pt x="376" y="434"/>
                    </a:lnTo>
                    <a:lnTo>
                      <a:pt x="393" y="425"/>
                    </a:lnTo>
                    <a:lnTo>
                      <a:pt x="413" y="418"/>
                    </a:lnTo>
                    <a:lnTo>
                      <a:pt x="437" y="412"/>
                    </a:lnTo>
                    <a:lnTo>
                      <a:pt x="464" y="408"/>
                    </a:lnTo>
                    <a:lnTo>
                      <a:pt x="490" y="403"/>
                    </a:lnTo>
                    <a:lnTo>
                      <a:pt x="519" y="400"/>
                    </a:lnTo>
                    <a:lnTo>
                      <a:pt x="547" y="397"/>
                    </a:lnTo>
                    <a:lnTo>
                      <a:pt x="576" y="396"/>
                    </a:lnTo>
                    <a:lnTo>
                      <a:pt x="571" y="387"/>
                    </a:lnTo>
                    <a:lnTo>
                      <a:pt x="568" y="378"/>
                    </a:lnTo>
                    <a:lnTo>
                      <a:pt x="562" y="369"/>
                    </a:lnTo>
                    <a:lnTo>
                      <a:pt x="557" y="361"/>
                    </a:lnTo>
                    <a:lnTo>
                      <a:pt x="550" y="353"/>
                    </a:lnTo>
                    <a:lnTo>
                      <a:pt x="543" y="347"/>
                    </a:lnTo>
                    <a:lnTo>
                      <a:pt x="534" y="341"/>
                    </a:lnTo>
                    <a:lnTo>
                      <a:pt x="527" y="338"/>
                    </a:lnTo>
                    <a:lnTo>
                      <a:pt x="483" y="325"/>
                    </a:lnTo>
                    <a:lnTo>
                      <a:pt x="442" y="318"/>
                    </a:lnTo>
                    <a:lnTo>
                      <a:pt x="404" y="314"/>
                    </a:lnTo>
                    <a:lnTo>
                      <a:pt x="368" y="313"/>
                    </a:lnTo>
                    <a:lnTo>
                      <a:pt x="331" y="313"/>
                    </a:lnTo>
                    <a:lnTo>
                      <a:pt x="295" y="316"/>
                    </a:lnTo>
                    <a:lnTo>
                      <a:pt x="258" y="320"/>
                    </a:lnTo>
                    <a:lnTo>
                      <a:pt x="220" y="327"/>
                    </a:lnTo>
                    <a:lnTo>
                      <a:pt x="244" y="311"/>
                    </a:lnTo>
                    <a:lnTo>
                      <a:pt x="272" y="300"/>
                    </a:lnTo>
                    <a:lnTo>
                      <a:pt x="301" y="291"/>
                    </a:lnTo>
                    <a:lnTo>
                      <a:pt x="335" y="284"/>
                    </a:lnTo>
                    <a:lnTo>
                      <a:pt x="367" y="279"/>
                    </a:lnTo>
                    <a:lnTo>
                      <a:pt x="400" y="278"/>
                    </a:lnTo>
                    <a:lnTo>
                      <a:pt x="431" y="279"/>
                    </a:lnTo>
                    <a:lnTo>
                      <a:pt x="460" y="285"/>
                    </a:lnTo>
                    <a:lnTo>
                      <a:pt x="464" y="278"/>
                    </a:lnTo>
                    <a:lnTo>
                      <a:pt x="456" y="274"/>
                    </a:lnTo>
                    <a:lnTo>
                      <a:pt x="450" y="271"/>
                    </a:lnTo>
                    <a:lnTo>
                      <a:pt x="445" y="269"/>
                    </a:lnTo>
                    <a:lnTo>
                      <a:pt x="439" y="267"/>
                    </a:lnTo>
                    <a:lnTo>
                      <a:pt x="437" y="265"/>
                    </a:lnTo>
                    <a:lnTo>
                      <a:pt x="415" y="247"/>
                    </a:lnTo>
                    <a:lnTo>
                      <a:pt x="394" y="231"/>
                    </a:lnTo>
                    <a:lnTo>
                      <a:pt x="373" y="216"/>
                    </a:lnTo>
                    <a:lnTo>
                      <a:pt x="355" y="201"/>
                    </a:lnTo>
                    <a:lnTo>
                      <a:pt x="334" y="187"/>
                    </a:lnTo>
                    <a:lnTo>
                      <a:pt x="316" y="173"/>
                    </a:lnTo>
                    <a:lnTo>
                      <a:pt x="297" y="160"/>
                    </a:lnTo>
                    <a:lnTo>
                      <a:pt x="279" y="148"/>
                    </a:lnTo>
                    <a:lnTo>
                      <a:pt x="241" y="124"/>
                    </a:lnTo>
                    <a:lnTo>
                      <a:pt x="205" y="104"/>
                    </a:lnTo>
                    <a:lnTo>
                      <a:pt x="171" y="83"/>
                    </a:lnTo>
                    <a:lnTo>
                      <a:pt x="138" y="65"/>
                    </a:lnTo>
                    <a:lnTo>
                      <a:pt x="104" y="46"/>
                    </a:lnTo>
                    <a:lnTo>
                      <a:pt x="70" y="30"/>
                    </a:lnTo>
                    <a:lnTo>
                      <a:pt x="35" y="13"/>
                    </a:lnTo>
                    <a:lnTo>
                      <a:pt x="0" y="0"/>
                    </a:lnTo>
                    <a:lnTo>
                      <a:pt x="42" y="5"/>
                    </a:lnTo>
                    <a:lnTo>
                      <a:pt x="84" y="14"/>
                    </a:lnTo>
                    <a:lnTo>
                      <a:pt x="124" y="28"/>
                    </a:lnTo>
                    <a:lnTo>
                      <a:pt x="164" y="45"/>
                    </a:lnTo>
                    <a:lnTo>
                      <a:pt x="201" y="63"/>
                    </a:lnTo>
                    <a:lnTo>
                      <a:pt x="237" y="83"/>
                    </a:lnTo>
                    <a:lnTo>
                      <a:pt x="270" y="104"/>
                    </a:lnTo>
                    <a:lnTo>
                      <a:pt x="30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360" y="3277800"/>
                <a:ext cx="149760" cy="265680"/>
              </a:xfrm>
              <a:custGeom>
                <a:avLst/>
                <a:gdLst/>
                <a:ahLst/>
                <a:rect l="l" t="t" r="r" b="b"/>
                <a:pathLst>
                  <a:path w="364" h="628">
                    <a:moveTo>
                      <a:pt x="364" y="124"/>
                    </a:moveTo>
                    <a:lnTo>
                      <a:pt x="345" y="143"/>
                    </a:lnTo>
                    <a:lnTo>
                      <a:pt x="294" y="190"/>
                    </a:lnTo>
                    <a:lnTo>
                      <a:pt x="249" y="241"/>
                    </a:lnTo>
                    <a:lnTo>
                      <a:pt x="208" y="295"/>
                    </a:lnTo>
                    <a:lnTo>
                      <a:pt x="174" y="352"/>
                    </a:lnTo>
                    <a:lnTo>
                      <a:pt x="143" y="411"/>
                    </a:lnTo>
                    <a:lnTo>
                      <a:pt x="119" y="473"/>
                    </a:lnTo>
                    <a:lnTo>
                      <a:pt x="101" y="538"/>
                    </a:lnTo>
                    <a:lnTo>
                      <a:pt x="90" y="606"/>
                    </a:lnTo>
                    <a:lnTo>
                      <a:pt x="85" y="612"/>
                    </a:lnTo>
                    <a:lnTo>
                      <a:pt x="80" y="619"/>
                    </a:lnTo>
                    <a:lnTo>
                      <a:pt x="73" y="624"/>
                    </a:lnTo>
                    <a:lnTo>
                      <a:pt x="67" y="628"/>
                    </a:lnTo>
                    <a:lnTo>
                      <a:pt x="57" y="627"/>
                    </a:lnTo>
                    <a:lnTo>
                      <a:pt x="46" y="627"/>
                    </a:lnTo>
                    <a:lnTo>
                      <a:pt x="37" y="625"/>
                    </a:lnTo>
                    <a:lnTo>
                      <a:pt x="29" y="624"/>
                    </a:lnTo>
                    <a:lnTo>
                      <a:pt x="20" y="620"/>
                    </a:lnTo>
                    <a:lnTo>
                      <a:pt x="13" y="617"/>
                    </a:lnTo>
                    <a:lnTo>
                      <a:pt x="5" y="613"/>
                    </a:lnTo>
                    <a:lnTo>
                      <a:pt x="0" y="610"/>
                    </a:lnTo>
                    <a:lnTo>
                      <a:pt x="14" y="539"/>
                    </a:lnTo>
                    <a:lnTo>
                      <a:pt x="31" y="470"/>
                    </a:lnTo>
                    <a:lnTo>
                      <a:pt x="53" y="402"/>
                    </a:lnTo>
                    <a:lnTo>
                      <a:pt x="78" y="338"/>
                    </a:lnTo>
                    <a:lnTo>
                      <a:pt x="105" y="273"/>
                    </a:lnTo>
                    <a:lnTo>
                      <a:pt x="136" y="210"/>
                    </a:lnTo>
                    <a:lnTo>
                      <a:pt x="168" y="148"/>
                    </a:lnTo>
                    <a:lnTo>
                      <a:pt x="201" y="87"/>
                    </a:lnTo>
                    <a:lnTo>
                      <a:pt x="210" y="73"/>
                    </a:lnTo>
                    <a:lnTo>
                      <a:pt x="219" y="59"/>
                    </a:lnTo>
                    <a:lnTo>
                      <a:pt x="229" y="46"/>
                    </a:lnTo>
                    <a:lnTo>
                      <a:pt x="241" y="35"/>
                    </a:lnTo>
                    <a:lnTo>
                      <a:pt x="250" y="22"/>
                    </a:lnTo>
                    <a:lnTo>
                      <a:pt x="260" y="14"/>
                    </a:lnTo>
                    <a:lnTo>
                      <a:pt x="268" y="5"/>
                    </a:lnTo>
                    <a:lnTo>
                      <a:pt x="275" y="0"/>
                    </a:lnTo>
                    <a:lnTo>
                      <a:pt x="297" y="6"/>
                    </a:lnTo>
                    <a:lnTo>
                      <a:pt x="317" y="17"/>
                    </a:lnTo>
                    <a:lnTo>
                      <a:pt x="332" y="32"/>
                    </a:lnTo>
                    <a:lnTo>
                      <a:pt x="345" y="50"/>
                    </a:lnTo>
                    <a:lnTo>
                      <a:pt x="353" y="68"/>
                    </a:lnTo>
                    <a:lnTo>
                      <a:pt x="360" y="87"/>
                    </a:lnTo>
                    <a:lnTo>
                      <a:pt x="363" y="106"/>
                    </a:lnTo>
                    <a:lnTo>
                      <a:pt x="364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956040" y="3469680"/>
                <a:ext cx="1231920" cy="1246320"/>
              </a:xfrm>
              <a:custGeom>
                <a:avLst/>
                <a:gdLst/>
                <a:ahLst/>
                <a:rect l="l" t="t" r="r" b="b"/>
                <a:pathLst>
                  <a:path w="2985" h="2940">
                    <a:moveTo>
                      <a:pt x="2698" y="352"/>
                    </a:moveTo>
                    <a:lnTo>
                      <a:pt x="2731" y="390"/>
                    </a:lnTo>
                    <a:lnTo>
                      <a:pt x="2763" y="431"/>
                    </a:lnTo>
                    <a:lnTo>
                      <a:pt x="2790" y="473"/>
                    </a:lnTo>
                    <a:lnTo>
                      <a:pt x="2818" y="519"/>
                    </a:lnTo>
                    <a:lnTo>
                      <a:pt x="2843" y="564"/>
                    </a:lnTo>
                    <a:lnTo>
                      <a:pt x="2865" y="611"/>
                    </a:lnTo>
                    <a:lnTo>
                      <a:pt x="2886" y="657"/>
                    </a:lnTo>
                    <a:lnTo>
                      <a:pt x="2905" y="704"/>
                    </a:lnTo>
                    <a:lnTo>
                      <a:pt x="2911" y="716"/>
                    </a:lnTo>
                    <a:lnTo>
                      <a:pt x="2918" y="730"/>
                    </a:lnTo>
                    <a:lnTo>
                      <a:pt x="2925" y="747"/>
                    </a:lnTo>
                    <a:lnTo>
                      <a:pt x="2933" y="765"/>
                    </a:lnTo>
                    <a:lnTo>
                      <a:pt x="2939" y="783"/>
                    </a:lnTo>
                    <a:lnTo>
                      <a:pt x="2945" y="800"/>
                    </a:lnTo>
                    <a:lnTo>
                      <a:pt x="2950" y="816"/>
                    </a:lnTo>
                    <a:lnTo>
                      <a:pt x="2954" y="832"/>
                    </a:lnTo>
                    <a:lnTo>
                      <a:pt x="2971" y="917"/>
                    </a:lnTo>
                    <a:lnTo>
                      <a:pt x="2982" y="1011"/>
                    </a:lnTo>
                    <a:lnTo>
                      <a:pt x="2985" y="1107"/>
                    </a:lnTo>
                    <a:lnTo>
                      <a:pt x="2983" y="1206"/>
                    </a:lnTo>
                    <a:lnTo>
                      <a:pt x="2974" y="1300"/>
                    </a:lnTo>
                    <a:lnTo>
                      <a:pt x="2962" y="1391"/>
                    </a:lnTo>
                    <a:lnTo>
                      <a:pt x="2944" y="1471"/>
                    </a:lnTo>
                    <a:lnTo>
                      <a:pt x="2924" y="1540"/>
                    </a:lnTo>
                    <a:lnTo>
                      <a:pt x="2894" y="1612"/>
                    </a:lnTo>
                    <a:lnTo>
                      <a:pt x="2862" y="1686"/>
                    </a:lnTo>
                    <a:lnTo>
                      <a:pt x="2825" y="1759"/>
                    </a:lnTo>
                    <a:lnTo>
                      <a:pt x="2788" y="1831"/>
                    </a:lnTo>
                    <a:lnTo>
                      <a:pt x="2746" y="1901"/>
                    </a:lnTo>
                    <a:lnTo>
                      <a:pt x="2704" y="1971"/>
                    </a:lnTo>
                    <a:lnTo>
                      <a:pt x="2660" y="2039"/>
                    </a:lnTo>
                    <a:lnTo>
                      <a:pt x="2617" y="2104"/>
                    </a:lnTo>
                    <a:lnTo>
                      <a:pt x="2548" y="2203"/>
                    </a:lnTo>
                    <a:lnTo>
                      <a:pt x="2479" y="2305"/>
                    </a:lnTo>
                    <a:lnTo>
                      <a:pt x="2409" y="2406"/>
                    </a:lnTo>
                    <a:lnTo>
                      <a:pt x="2337" y="2508"/>
                    </a:lnTo>
                    <a:lnTo>
                      <a:pt x="2261" y="2605"/>
                    </a:lnTo>
                    <a:lnTo>
                      <a:pt x="2181" y="2698"/>
                    </a:lnTo>
                    <a:lnTo>
                      <a:pt x="2094" y="2783"/>
                    </a:lnTo>
                    <a:lnTo>
                      <a:pt x="2001" y="2861"/>
                    </a:lnTo>
                    <a:lnTo>
                      <a:pt x="1974" y="2877"/>
                    </a:lnTo>
                    <a:lnTo>
                      <a:pt x="1944" y="2892"/>
                    </a:lnTo>
                    <a:lnTo>
                      <a:pt x="1911" y="2907"/>
                    </a:lnTo>
                    <a:lnTo>
                      <a:pt x="1876" y="2920"/>
                    </a:lnTo>
                    <a:lnTo>
                      <a:pt x="1838" y="2929"/>
                    </a:lnTo>
                    <a:lnTo>
                      <a:pt x="1797" y="2936"/>
                    </a:lnTo>
                    <a:lnTo>
                      <a:pt x="1754" y="2940"/>
                    </a:lnTo>
                    <a:lnTo>
                      <a:pt x="1710" y="2939"/>
                    </a:lnTo>
                    <a:lnTo>
                      <a:pt x="1653" y="2926"/>
                    </a:lnTo>
                    <a:lnTo>
                      <a:pt x="1599" y="2908"/>
                    </a:lnTo>
                    <a:lnTo>
                      <a:pt x="1544" y="2884"/>
                    </a:lnTo>
                    <a:lnTo>
                      <a:pt x="1490" y="2861"/>
                    </a:lnTo>
                    <a:lnTo>
                      <a:pt x="1435" y="2841"/>
                    </a:lnTo>
                    <a:lnTo>
                      <a:pt x="1380" y="2831"/>
                    </a:lnTo>
                    <a:lnTo>
                      <a:pt x="1325" y="2833"/>
                    </a:lnTo>
                    <a:lnTo>
                      <a:pt x="1269" y="2853"/>
                    </a:lnTo>
                    <a:lnTo>
                      <a:pt x="1231" y="2865"/>
                    </a:lnTo>
                    <a:lnTo>
                      <a:pt x="1193" y="2872"/>
                    </a:lnTo>
                    <a:lnTo>
                      <a:pt x="1154" y="2874"/>
                    </a:lnTo>
                    <a:lnTo>
                      <a:pt x="1116" y="2874"/>
                    </a:lnTo>
                    <a:lnTo>
                      <a:pt x="1076" y="2869"/>
                    </a:lnTo>
                    <a:lnTo>
                      <a:pt x="1037" y="2860"/>
                    </a:lnTo>
                    <a:lnTo>
                      <a:pt x="998" y="2849"/>
                    </a:lnTo>
                    <a:lnTo>
                      <a:pt x="961" y="2836"/>
                    </a:lnTo>
                    <a:lnTo>
                      <a:pt x="923" y="2818"/>
                    </a:lnTo>
                    <a:lnTo>
                      <a:pt x="889" y="2800"/>
                    </a:lnTo>
                    <a:lnTo>
                      <a:pt x="858" y="2778"/>
                    </a:lnTo>
                    <a:lnTo>
                      <a:pt x="828" y="2757"/>
                    </a:lnTo>
                    <a:lnTo>
                      <a:pt x="798" y="2733"/>
                    </a:lnTo>
                    <a:lnTo>
                      <a:pt x="770" y="2709"/>
                    </a:lnTo>
                    <a:lnTo>
                      <a:pt x="741" y="2686"/>
                    </a:lnTo>
                    <a:lnTo>
                      <a:pt x="713" y="2664"/>
                    </a:lnTo>
                    <a:lnTo>
                      <a:pt x="653" y="2612"/>
                    </a:lnTo>
                    <a:lnTo>
                      <a:pt x="601" y="2557"/>
                    </a:lnTo>
                    <a:lnTo>
                      <a:pt x="552" y="2500"/>
                    </a:lnTo>
                    <a:lnTo>
                      <a:pt x="508" y="2441"/>
                    </a:lnTo>
                    <a:lnTo>
                      <a:pt x="466" y="2380"/>
                    </a:lnTo>
                    <a:lnTo>
                      <a:pt x="428" y="2318"/>
                    </a:lnTo>
                    <a:lnTo>
                      <a:pt x="390" y="2253"/>
                    </a:lnTo>
                    <a:lnTo>
                      <a:pt x="354" y="2189"/>
                    </a:lnTo>
                    <a:lnTo>
                      <a:pt x="324" y="2137"/>
                    </a:lnTo>
                    <a:lnTo>
                      <a:pt x="299" y="2088"/>
                    </a:lnTo>
                    <a:lnTo>
                      <a:pt x="274" y="2039"/>
                    </a:lnTo>
                    <a:lnTo>
                      <a:pt x="253" y="1990"/>
                    </a:lnTo>
                    <a:lnTo>
                      <a:pt x="232" y="1940"/>
                    </a:lnTo>
                    <a:lnTo>
                      <a:pt x="214" y="1891"/>
                    </a:lnTo>
                    <a:lnTo>
                      <a:pt x="196" y="1839"/>
                    </a:lnTo>
                    <a:lnTo>
                      <a:pt x="182" y="1788"/>
                    </a:lnTo>
                    <a:lnTo>
                      <a:pt x="161" y="1718"/>
                    </a:lnTo>
                    <a:lnTo>
                      <a:pt x="139" y="1645"/>
                    </a:lnTo>
                    <a:lnTo>
                      <a:pt x="114" y="1570"/>
                    </a:lnTo>
                    <a:lnTo>
                      <a:pt x="90" y="1495"/>
                    </a:lnTo>
                    <a:lnTo>
                      <a:pt x="67" y="1422"/>
                    </a:lnTo>
                    <a:lnTo>
                      <a:pt x="46" y="1355"/>
                    </a:lnTo>
                    <a:lnTo>
                      <a:pt x="30" y="1293"/>
                    </a:lnTo>
                    <a:lnTo>
                      <a:pt x="20" y="1242"/>
                    </a:lnTo>
                    <a:lnTo>
                      <a:pt x="11" y="1194"/>
                    </a:lnTo>
                    <a:lnTo>
                      <a:pt x="5" y="1150"/>
                    </a:lnTo>
                    <a:lnTo>
                      <a:pt x="1" y="1108"/>
                    </a:lnTo>
                    <a:lnTo>
                      <a:pt x="0" y="1065"/>
                    </a:lnTo>
                    <a:lnTo>
                      <a:pt x="0" y="1018"/>
                    </a:lnTo>
                    <a:lnTo>
                      <a:pt x="5" y="966"/>
                    </a:lnTo>
                    <a:lnTo>
                      <a:pt x="14" y="908"/>
                    </a:lnTo>
                    <a:lnTo>
                      <a:pt x="30" y="842"/>
                    </a:lnTo>
                    <a:lnTo>
                      <a:pt x="38" y="804"/>
                    </a:lnTo>
                    <a:lnTo>
                      <a:pt x="47" y="768"/>
                    </a:lnTo>
                    <a:lnTo>
                      <a:pt x="58" y="733"/>
                    </a:lnTo>
                    <a:lnTo>
                      <a:pt x="71" y="700"/>
                    </a:lnTo>
                    <a:lnTo>
                      <a:pt x="83" y="666"/>
                    </a:lnTo>
                    <a:lnTo>
                      <a:pt x="99" y="635"/>
                    </a:lnTo>
                    <a:lnTo>
                      <a:pt x="114" y="603"/>
                    </a:lnTo>
                    <a:lnTo>
                      <a:pt x="130" y="572"/>
                    </a:lnTo>
                    <a:lnTo>
                      <a:pt x="163" y="502"/>
                    </a:lnTo>
                    <a:lnTo>
                      <a:pt x="206" y="435"/>
                    </a:lnTo>
                    <a:lnTo>
                      <a:pt x="257" y="372"/>
                    </a:lnTo>
                    <a:lnTo>
                      <a:pt x="315" y="312"/>
                    </a:lnTo>
                    <a:lnTo>
                      <a:pt x="378" y="258"/>
                    </a:lnTo>
                    <a:lnTo>
                      <a:pt x="448" y="210"/>
                    </a:lnTo>
                    <a:lnTo>
                      <a:pt x="521" y="171"/>
                    </a:lnTo>
                    <a:lnTo>
                      <a:pt x="598" y="142"/>
                    </a:lnTo>
                    <a:lnTo>
                      <a:pt x="635" y="128"/>
                    </a:lnTo>
                    <a:lnTo>
                      <a:pt x="672" y="117"/>
                    </a:lnTo>
                    <a:lnTo>
                      <a:pt x="707" y="107"/>
                    </a:lnTo>
                    <a:lnTo>
                      <a:pt x="742" y="98"/>
                    </a:lnTo>
                    <a:lnTo>
                      <a:pt x="777" y="89"/>
                    </a:lnTo>
                    <a:lnTo>
                      <a:pt x="812" y="83"/>
                    </a:lnTo>
                    <a:lnTo>
                      <a:pt x="847" y="77"/>
                    </a:lnTo>
                    <a:lnTo>
                      <a:pt x="884" y="74"/>
                    </a:lnTo>
                    <a:lnTo>
                      <a:pt x="907" y="70"/>
                    </a:lnTo>
                    <a:lnTo>
                      <a:pt x="929" y="67"/>
                    </a:lnTo>
                    <a:lnTo>
                      <a:pt x="951" y="65"/>
                    </a:lnTo>
                    <a:lnTo>
                      <a:pt x="974" y="67"/>
                    </a:lnTo>
                    <a:lnTo>
                      <a:pt x="995" y="70"/>
                    </a:lnTo>
                    <a:lnTo>
                      <a:pt x="1020" y="78"/>
                    </a:lnTo>
                    <a:lnTo>
                      <a:pt x="1044" y="90"/>
                    </a:lnTo>
                    <a:lnTo>
                      <a:pt x="1073" y="109"/>
                    </a:lnTo>
                    <a:lnTo>
                      <a:pt x="1116" y="133"/>
                    </a:lnTo>
                    <a:lnTo>
                      <a:pt x="1164" y="153"/>
                    </a:lnTo>
                    <a:lnTo>
                      <a:pt x="1213" y="167"/>
                    </a:lnTo>
                    <a:lnTo>
                      <a:pt x="1265" y="180"/>
                    </a:lnTo>
                    <a:lnTo>
                      <a:pt x="1318" y="187"/>
                    </a:lnTo>
                    <a:lnTo>
                      <a:pt x="1372" y="193"/>
                    </a:lnTo>
                    <a:lnTo>
                      <a:pt x="1425" y="197"/>
                    </a:lnTo>
                    <a:lnTo>
                      <a:pt x="1480" y="201"/>
                    </a:lnTo>
                    <a:lnTo>
                      <a:pt x="1489" y="208"/>
                    </a:lnTo>
                    <a:lnTo>
                      <a:pt x="1500" y="214"/>
                    </a:lnTo>
                    <a:lnTo>
                      <a:pt x="1513" y="218"/>
                    </a:lnTo>
                    <a:lnTo>
                      <a:pt x="1526" y="220"/>
                    </a:lnTo>
                    <a:lnTo>
                      <a:pt x="1538" y="219"/>
                    </a:lnTo>
                    <a:lnTo>
                      <a:pt x="1552" y="219"/>
                    </a:lnTo>
                    <a:lnTo>
                      <a:pt x="1565" y="217"/>
                    </a:lnTo>
                    <a:lnTo>
                      <a:pt x="1578" y="216"/>
                    </a:lnTo>
                    <a:lnTo>
                      <a:pt x="1597" y="199"/>
                    </a:lnTo>
                    <a:lnTo>
                      <a:pt x="1611" y="181"/>
                    </a:lnTo>
                    <a:lnTo>
                      <a:pt x="1622" y="159"/>
                    </a:lnTo>
                    <a:lnTo>
                      <a:pt x="1631" y="137"/>
                    </a:lnTo>
                    <a:lnTo>
                      <a:pt x="1636" y="112"/>
                    </a:lnTo>
                    <a:lnTo>
                      <a:pt x="1642" y="85"/>
                    </a:lnTo>
                    <a:lnTo>
                      <a:pt x="1648" y="56"/>
                    </a:lnTo>
                    <a:lnTo>
                      <a:pt x="1655" y="27"/>
                    </a:lnTo>
                    <a:lnTo>
                      <a:pt x="1668" y="17"/>
                    </a:lnTo>
                    <a:lnTo>
                      <a:pt x="1681" y="12"/>
                    </a:lnTo>
                    <a:lnTo>
                      <a:pt x="1693" y="7"/>
                    </a:lnTo>
                    <a:lnTo>
                      <a:pt x="1707" y="4"/>
                    </a:lnTo>
                    <a:lnTo>
                      <a:pt x="1719" y="1"/>
                    </a:lnTo>
                    <a:lnTo>
                      <a:pt x="1735" y="1"/>
                    </a:lnTo>
                    <a:lnTo>
                      <a:pt x="1751" y="1"/>
                    </a:lnTo>
                    <a:lnTo>
                      <a:pt x="1771" y="1"/>
                    </a:lnTo>
                    <a:lnTo>
                      <a:pt x="1903" y="0"/>
                    </a:lnTo>
                    <a:lnTo>
                      <a:pt x="2033" y="11"/>
                    </a:lnTo>
                    <a:lnTo>
                      <a:pt x="2159" y="34"/>
                    </a:lnTo>
                    <a:lnTo>
                      <a:pt x="2280" y="71"/>
                    </a:lnTo>
                    <a:lnTo>
                      <a:pt x="2394" y="119"/>
                    </a:lnTo>
                    <a:lnTo>
                      <a:pt x="2502" y="182"/>
                    </a:lnTo>
                    <a:lnTo>
                      <a:pt x="2602" y="259"/>
                    </a:lnTo>
                    <a:lnTo>
                      <a:pt x="2698" y="352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4712400" y="3771360"/>
              <a:ext cx="231480" cy="14472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5" y="0"/>
                  </a:moveTo>
                  <a:cubicBezTo>
                    <a:pt x="16" y="108"/>
                    <a:pt x="0" y="83"/>
                    <a:pt x="101" y="96"/>
                  </a:cubicBezTo>
                  <a:cubicBezTo>
                    <a:pt x="109" y="101"/>
                    <a:pt x="116" y="114"/>
                    <a:pt x="125" y="112"/>
                  </a:cubicBezTo>
                  <a:cubicBezTo>
                    <a:pt x="144" y="108"/>
                    <a:pt x="173" y="80"/>
                    <a:pt x="173" y="80"/>
                  </a:cubicBezTo>
                  <a:cubicBezTo>
                    <a:pt x="187" y="38"/>
                    <a:pt x="169" y="44"/>
                    <a:pt x="133" y="32"/>
                  </a:cubicBezTo>
                  <a:cubicBezTo>
                    <a:pt x="35" y="46"/>
                    <a:pt x="108" y="42"/>
                    <a:pt x="45" y="0"/>
                  </a:cubicBezTo>
                  <a:cubicBezTo>
                    <a:pt x="15" y="10"/>
                    <a:pt x="29" y="1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3873600" y="3279600"/>
            <a:ext cx="1396440" cy="1060200"/>
            <a:chOff x="3873600" y="3279600"/>
            <a:chExt cx="1396440" cy="1060200"/>
          </a:xfrm>
        </p:grpSpPr>
        <p:sp>
          <p:nvSpPr>
            <p:cNvPr id="782" name=""/>
            <p:cNvSpPr/>
            <p:nvPr/>
          </p:nvSpPr>
          <p:spPr>
            <a:xfrm>
              <a:off x="3873600" y="3293640"/>
              <a:ext cx="1168200" cy="1046160"/>
            </a:xfrm>
            <a:custGeom>
              <a:avLst/>
              <a:gdLst/>
              <a:ahLst/>
              <a:rect l="l" t="t" r="r" b="b"/>
              <a:pathLst>
                <a:path w="298" h="363">
                  <a:moveTo>
                    <a:pt x="0" y="363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298" y="215"/>
                  </a:lnTo>
                  <a:lnTo>
                    <a:pt x="298" y="306"/>
                  </a:lnTo>
                  <a:lnTo>
                    <a:pt x="49" y="85"/>
                  </a:lnTo>
                  <a:lnTo>
                    <a:pt x="49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052600" y="3279600"/>
              <a:ext cx="217440" cy="10508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52520" y="3539880"/>
              <a:ext cx="801360" cy="495360"/>
            </a:xfrm>
            <a:custGeom>
              <a:avLst/>
              <a:gdLst/>
              <a:ahLst/>
              <a:rect l="l" t="t" r="r" b="b"/>
              <a:pathLst>
                <a:path w="206" h="173">
                  <a:moveTo>
                    <a:pt x="0" y="173"/>
                  </a:moveTo>
                  <a:lnTo>
                    <a:pt x="0" y="0"/>
                  </a:lnTo>
                  <a:lnTo>
                    <a:pt x="206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 flipH="1">
            <a:off x="7719120" y="1851120"/>
            <a:ext cx="32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0" y="5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ed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716960" y="1847880"/>
            <a:ext cx="144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0" y="3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f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7718400" y="185436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ef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7713720" y="185112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efd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7705800" y="1836720"/>
            <a:ext cx="1440" cy="1440"/>
          </a:xfrm>
          <a:prstGeom prst="rect">
            <a:avLst/>
          </a:prstGeom>
          <a:solidFill>
            <a:srgbClr val="f2d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7706520" y="184788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2d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698600" y="1832040"/>
            <a:ext cx="1800" cy="1440"/>
          </a:xfrm>
          <a:prstGeom prst="rect">
            <a:avLst/>
          </a:pr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698600" y="1843200"/>
            <a:ext cx="1800" cy="1440"/>
          </a:xfrm>
          <a:prstGeom prst="rect">
            <a:avLst/>
          </a:pr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725600" y="182880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716960" y="1819440"/>
            <a:ext cx="1440" cy="28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4d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717680" y="1825560"/>
            <a:ext cx="324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4"/>
                </a:moveTo>
                <a:lnTo>
                  <a:pt x="5" y="0"/>
                </a:lnTo>
                <a:lnTo>
                  <a:pt x="0" y="2"/>
                </a:lnTo>
                <a:lnTo>
                  <a:pt x="5" y="4"/>
                </a:lnTo>
                <a:close/>
              </a:path>
            </a:pathLst>
          </a:custGeom>
          <a:solidFill>
            <a:srgbClr val="f4d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713720" y="1812960"/>
            <a:ext cx="1440" cy="46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5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4d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7695360" y="1800360"/>
            <a:ext cx="1800" cy="14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0" y="3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7d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687440" y="1805040"/>
            <a:ext cx="1800" cy="1440"/>
          </a:xfrm>
          <a:prstGeom prst="rect">
            <a:avLst/>
          </a:prstGeom>
          <a:solidFill>
            <a:srgbClr val="f7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970440" y="2854440"/>
            <a:ext cx="1201680" cy="1911240"/>
            <a:chOff x="3970440" y="2854440"/>
            <a:chExt cx="1201680" cy="1911240"/>
          </a:xfrm>
        </p:grpSpPr>
        <p:sp>
          <p:nvSpPr>
            <p:cNvPr id="800" name=""/>
            <p:cNvSpPr/>
            <p:nvPr/>
          </p:nvSpPr>
          <p:spPr>
            <a:xfrm flipH="1">
              <a:off x="3970440" y="2854440"/>
              <a:ext cx="1201680" cy="1911240"/>
            </a:xfrm>
            <a:custGeom>
              <a:avLst/>
              <a:gdLst/>
              <a:ahLst/>
              <a:rect l="l" t="t" r="r" b="b"/>
              <a:pathLst>
                <a:path w="1513" h="2407">
                  <a:moveTo>
                    <a:pt x="301" y="2382"/>
                  </a:moveTo>
                  <a:lnTo>
                    <a:pt x="271" y="2347"/>
                  </a:lnTo>
                  <a:lnTo>
                    <a:pt x="259" y="2322"/>
                  </a:lnTo>
                  <a:lnTo>
                    <a:pt x="262" y="2304"/>
                  </a:lnTo>
                  <a:lnTo>
                    <a:pt x="273" y="2289"/>
                  </a:lnTo>
                  <a:lnTo>
                    <a:pt x="288" y="2274"/>
                  </a:lnTo>
                  <a:lnTo>
                    <a:pt x="304" y="2256"/>
                  </a:lnTo>
                  <a:lnTo>
                    <a:pt x="316" y="2234"/>
                  </a:lnTo>
                  <a:lnTo>
                    <a:pt x="318" y="2203"/>
                  </a:lnTo>
                  <a:lnTo>
                    <a:pt x="322" y="2194"/>
                  </a:lnTo>
                  <a:lnTo>
                    <a:pt x="324" y="2185"/>
                  </a:lnTo>
                  <a:lnTo>
                    <a:pt x="325" y="2176"/>
                  </a:lnTo>
                  <a:lnTo>
                    <a:pt x="327" y="2165"/>
                  </a:lnTo>
                  <a:lnTo>
                    <a:pt x="334" y="2165"/>
                  </a:lnTo>
                  <a:lnTo>
                    <a:pt x="342" y="2165"/>
                  </a:lnTo>
                  <a:lnTo>
                    <a:pt x="349" y="2164"/>
                  </a:lnTo>
                  <a:lnTo>
                    <a:pt x="356" y="2163"/>
                  </a:lnTo>
                  <a:lnTo>
                    <a:pt x="350" y="2104"/>
                  </a:lnTo>
                  <a:lnTo>
                    <a:pt x="342" y="2027"/>
                  </a:lnTo>
                  <a:lnTo>
                    <a:pt x="338" y="1950"/>
                  </a:lnTo>
                  <a:lnTo>
                    <a:pt x="345" y="1896"/>
                  </a:lnTo>
                  <a:lnTo>
                    <a:pt x="350" y="1896"/>
                  </a:lnTo>
                  <a:lnTo>
                    <a:pt x="356" y="1896"/>
                  </a:lnTo>
                  <a:lnTo>
                    <a:pt x="361" y="1896"/>
                  </a:lnTo>
                  <a:lnTo>
                    <a:pt x="365" y="1897"/>
                  </a:lnTo>
                  <a:lnTo>
                    <a:pt x="370" y="1898"/>
                  </a:lnTo>
                  <a:lnTo>
                    <a:pt x="373" y="1899"/>
                  </a:lnTo>
                  <a:lnTo>
                    <a:pt x="379" y="1901"/>
                  </a:lnTo>
                  <a:lnTo>
                    <a:pt x="385" y="1904"/>
                  </a:lnTo>
                  <a:lnTo>
                    <a:pt x="377" y="1877"/>
                  </a:lnTo>
                  <a:lnTo>
                    <a:pt x="373" y="1844"/>
                  </a:lnTo>
                  <a:lnTo>
                    <a:pt x="373" y="1805"/>
                  </a:lnTo>
                  <a:lnTo>
                    <a:pt x="376" y="1763"/>
                  </a:lnTo>
                  <a:lnTo>
                    <a:pt x="380" y="1722"/>
                  </a:lnTo>
                  <a:lnTo>
                    <a:pt x="385" y="1681"/>
                  </a:lnTo>
                  <a:lnTo>
                    <a:pt x="390" y="1647"/>
                  </a:lnTo>
                  <a:lnTo>
                    <a:pt x="394" y="1619"/>
                  </a:lnTo>
                  <a:lnTo>
                    <a:pt x="401" y="1619"/>
                  </a:lnTo>
                  <a:lnTo>
                    <a:pt x="407" y="1618"/>
                  </a:lnTo>
                  <a:lnTo>
                    <a:pt x="413" y="1617"/>
                  </a:lnTo>
                  <a:lnTo>
                    <a:pt x="418" y="1617"/>
                  </a:lnTo>
                  <a:lnTo>
                    <a:pt x="425" y="1546"/>
                  </a:lnTo>
                  <a:lnTo>
                    <a:pt x="431" y="1475"/>
                  </a:lnTo>
                  <a:lnTo>
                    <a:pt x="439" y="1401"/>
                  </a:lnTo>
                  <a:lnTo>
                    <a:pt x="448" y="1329"/>
                  </a:lnTo>
                  <a:lnTo>
                    <a:pt x="461" y="1256"/>
                  </a:lnTo>
                  <a:lnTo>
                    <a:pt x="477" y="1185"/>
                  </a:lnTo>
                  <a:lnTo>
                    <a:pt x="498" y="1114"/>
                  </a:lnTo>
                  <a:lnTo>
                    <a:pt x="526" y="1049"/>
                  </a:lnTo>
                  <a:lnTo>
                    <a:pt x="505" y="1038"/>
                  </a:lnTo>
                  <a:lnTo>
                    <a:pt x="481" y="1027"/>
                  </a:lnTo>
                  <a:lnTo>
                    <a:pt x="453" y="1016"/>
                  </a:lnTo>
                  <a:lnTo>
                    <a:pt x="424" y="1006"/>
                  </a:lnTo>
                  <a:lnTo>
                    <a:pt x="393" y="994"/>
                  </a:lnTo>
                  <a:lnTo>
                    <a:pt x="362" y="984"/>
                  </a:lnTo>
                  <a:lnTo>
                    <a:pt x="330" y="971"/>
                  </a:lnTo>
                  <a:lnTo>
                    <a:pt x="299" y="960"/>
                  </a:lnTo>
                  <a:lnTo>
                    <a:pt x="267" y="946"/>
                  </a:lnTo>
                  <a:lnTo>
                    <a:pt x="237" y="932"/>
                  </a:lnTo>
                  <a:lnTo>
                    <a:pt x="210" y="917"/>
                  </a:lnTo>
                  <a:lnTo>
                    <a:pt x="184" y="901"/>
                  </a:lnTo>
                  <a:lnTo>
                    <a:pt x="163" y="883"/>
                  </a:lnTo>
                  <a:lnTo>
                    <a:pt x="145" y="864"/>
                  </a:lnTo>
                  <a:lnTo>
                    <a:pt x="131" y="844"/>
                  </a:lnTo>
                  <a:lnTo>
                    <a:pt x="122" y="820"/>
                  </a:lnTo>
                  <a:lnTo>
                    <a:pt x="88" y="777"/>
                  </a:lnTo>
                  <a:lnTo>
                    <a:pt x="59" y="729"/>
                  </a:lnTo>
                  <a:lnTo>
                    <a:pt x="36" y="681"/>
                  </a:lnTo>
                  <a:lnTo>
                    <a:pt x="19" y="631"/>
                  </a:lnTo>
                  <a:lnTo>
                    <a:pt x="7" y="581"/>
                  </a:lnTo>
                  <a:lnTo>
                    <a:pt x="1" y="528"/>
                  </a:lnTo>
                  <a:lnTo>
                    <a:pt x="0" y="475"/>
                  </a:lnTo>
                  <a:lnTo>
                    <a:pt x="6" y="422"/>
                  </a:lnTo>
                  <a:lnTo>
                    <a:pt x="24" y="407"/>
                  </a:lnTo>
                  <a:lnTo>
                    <a:pt x="38" y="389"/>
                  </a:lnTo>
                  <a:lnTo>
                    <a:pt x="49" y="371"/>
                  </a:lnTo>
                  <a:lnTo>
                    <a:pt x="59" y="351"/>
                  </a:lnTo>
                  <a:lnTo>
                    <a:pt x="69" y="333"/>
                  </a:lnTo>
                  <a:lnTo>
                    <a:pt x="83" y="316"/>
                  </a:lnTo>
                  <a:lnTo>
                    <a:pt x="99" y="301"/>
                  </a:lnTo>
                  <a:lnTo>
                    <a:pt x="122" y="289"/>
                  </a:lnTo>
                  <a:lnTo>
                    <a:pt x="140" y="281"/>
                  </a:lnTo>
                  <a:lnTo>
                    <a:pt x="153" y="271"/>
                  </a:lnTo>
                  <a:lnTo>
                    <a:pt x="166" y="258"/>
                  </a:lnTo>
                  <a:lnTo>
                    <a:pt x="178" y="244"/>
                  </a:lnTo>
                  <a:lnTo>
                    <a:pt x="187" y="229"/>
                  </a:lnTo>
                  <a:lnTo>
                    <a:pt x="196" y="213"/>
                  </a:lnTo>
                  <a:lnTo>
                    <a:pt x="204" y="197"/>
                  </a:lnTo>
                  <a:lnTo>
                    <a:pt x="211" y="182"/>
                  </a:lnTo>
                  <a:lnTo>
                    <a:pt x="217" y="181"/>
                  </a:lnTo>
                  <a:lnTo>
                    <a:pt x="224" y="180"/>
                  </a:lnTo>
                  <a:lnTo>
                    <a:pt x="229" y="179"/>
                  </a:lnTo>
                  <a:lnTo>
                    <a:pt x="236" y="177"/>
                  </a:lnTo>
                  <a:lnTo>
                    <a:pt x="242" y="176"/>
                  </a:lnTo>
                  <a:lnTo>
                    <a:pt x="248" y="176"/>
                  </a:lnTo>
                  <a:lnTo>
                    <a:pt x="255" y="175"/>
                  </a:lnTo>
                  <a:lnTo>
                    <a:pt x="261" y="174"/>
                  </a:lnTo>
                  <a:lnTo>
                    <a:pt x="264" y="176"/>
                  </a:lnTo>
                  <a:lnTo>
                    <a:pt x="266" y="179"/>
                  </a:lnTo>
                  <a:lnTo>
                    <a:pt x="270" y="182"/>
                  </a:lnTo>
                  <a:lnTo>
                    <a:pt x="273" y="184"/>
                  </a:lnTo>
                  <a:lnTo>
                    <a:pt x="279" y="179"/>
                  </a:lnTo>
                  <a:lnTo>
                    <a:pt x="284" y="172"/>
                  </a:lnTo>
                  <a:lnTo>
                    <a:pt x="286" y="164"/>
                  </a:lnTo>
                  <a:lnTo>
                    <a:pt x="289" y="156"/>
                  </a:lnTo>
                  <a:lnTo>
                    <a:pt x="299" y="146"/>
                  </a:lnTo>
                  <a:lnTo>
                    <a:pt x="310" y="138"/>
                  </a:lnTo>
                  <a:lnTo>
                    <a:pt x="323" y="130"/>
                  </a:lnTo>
                  <a:lnTo>
                    <a:pt x="338" y="122"/>
                  </a:lnTo>
                  <a:lnTo>
                    <a:pt x="354" y="115"/>
                  </a:lnTo>
                  <a:lnTo>
                    <a:pt x="371" y="108"/>
                  </a:lnTo>
                  <a:lnTo>
                    <a:pt x="388" y="103"/>
                  </a:lnTo>
                  <a:lnTo>
                    <a:pt x="406" y="96"/>
                  </a:lnTo>
                  <a:lnTo>
                    <a:pt x="423" y="90"/>
                  </a:lnTo>
                  <a:lnTo>
                    <a:pt x="439" y="83"/>
                  </a:lnTo>
                  <a:lnTo>
                    <a:pt x="454" y="76"/>
                  </a:lnTo>
                  <a:lnTo>
                    <a:pt x="467" y="69"/>
                  </a:lnTo>
                  <a:lnTo>
                    <a:pt x="478" y="62"/>
                  </a:lnTo>
                  <a:lnTo>
                    <a:pt x="488" y="55"/>
                  </a:lnTo>
                  <a:lnTo>
                    <a:pt x="493" y="47"/>
                  </a:lnTo>
                  <a:lnTo>
                    <a:pt x="497" y="38"/>
                  </a:lnTo>
                  <a:lnTo>
                    <a:pt x="520" y="30"/>
                  </a:lnTo>
                  <a:lnTo>
                    <a:pt x="541" y="28"/>
                  </a:lnTo>
                  <a:lnTo>
                    <a:pt x="559" y="28"/>
                  </a:lnTo>
                  <a:lnTo>
                    <a:pt x="577" y="29"/>
                  </a:lnTo>
                  <a:lnTo>
                    <a:pt x="596" y="32"/>
                  </a:lnTo>
                  <a:lnTo>
                    <a:pt x="615" y="35"/>
                  </a:lnTo>
                  <a:lnTo>
                    <a:pt x="635" y="36"/>
                  </a:lnTo>
                  <a:lnTo>
                    <a:pt x="658" y="33"/>
                  </a:lnTo>
                  <a:lnTo>
                    <a:pt x="668" y="23"/>
                  </a:lnTo>
                  <a:lnTo>
                    <a:pt x="678" y="16"/>
                  </a:lnTo>
                  <a:lnTo>
                    <a:pt x="685" y="10"/>
                  </a:lnTo>
                  <a:lnTo>
                    <a:pt x="691" y="7"/>
                  </a:lnTo>
                  <a:lnTo>
                    <a:pt x="700" y="5"/>
                  </a:lnTo>
                  <a:lnTo>
                    <a:pt x="709" y="3"/>
                  </a:lnTo>
                  <a:lnTo>
                    <a:pt x="720" y="2"/>
                  </a:lnTo>
                  <a:lnTo>
                    <a:pt x="735" y="0"/>
                  </a:lnTo>
                  <a:lnTo>
                    <a:pt x="754" y="18"/>
                  </a:lnTo>
                  <a:lnTo>
                    <a:pt x="772" y="30"/>
                  </a:lnTo>
                  <a:lnTo>
                    <a:pt x="793" y="37"/>
                  </a:lnTo>
                  <a:lnTo>
                    <a:pt x="814" y="40"/>
                  </a:lnTo>
                  <a:lnTo>
                    <a:pt x="837" y="43"/>
                  </a:lnTo>
                  <a:lnTo>
                    <a:pt x="860" y="45"/>
                  </a:lnTo>
                  <a:lnTo>
                    <a:pt x="884" y="47"/>
                  </a:lnTo>
                  <a:lnTo>
                    <a:pt x="909" y="53"/>
                  </a:lnTo>
                  <a:lnTo>
                    <a:pt x="909" y="56"/>
                  </a:lnTo>
                  <a:lnTo>
                    <a:pt x="909" y="60"/>
                  </a:lnTo>
                  <a:lnTo>
                    <a:pt x="909" y="63"/>
                  </a:lnTo>
                  <a:lnTo>
                    <a:pt x="909" y="67"/>
                  </a:lnTo>
                  <a:lnTo>
                    <a:pt x="922" y="73"/>
                  </a:lnTo>
                  <a:lnTo>
                    <a:pt x="933" y="77"/>
                  </a:lnTo>
                  <a:lnTo>
                    <a:pt x="945" y="83"/>
                  </a:lnTo>
                  <a:lnTo>
                    <a:pt x="955" y="86"/>
                  </a:lnTo>
                  <a:lnTo>
                    <a:pt x="966" y="88"/>
                  </a:lnTo>
                  <a:lnTo>
                    <a:pt x="977" y="89"/>
                  </a:lnTo>
                  <a:lnTo>
                    <a:pt x="989" y="86"/>
                  </a:lnTo>
                  <a:lnTo>
                    <a:pt x="1001" y="82"/>
                  </a:lnTo>
                  <a:lnTo>
                    <a:pt x="1024" y="96"/>
                  </a:lnTo>
                  <a:lnTo>
                    <a:pt x="1048" y="111"/>
                  </a:lnTo>
                  <a:lnTo>
                    <a:pt x="1069" y="126"/>
                  </a:lnTo>
                  <a:lnTo>
                    <a:pt x="1092" y="139"/>
                  </a:lnTo>
                  <a:lnTo>
                    <a:pt x="1114" y="154"/>
                  </a:lnTo>
                  <a:lnTo>
                    <a:pt x="1137" y="168"/>
                  </a:lnTo>
                  <a:lnTo>
                    <a:pt x="1159" y="182"/>
                  </a:lnTo>
                  <a:lnTo>
                    <a:pt x="1182" y="196"/>
                  </a:lnTo>
                  <a:lnTo>
                    <a:pt x="1182" y="197"/>
                  </a:lnTo>
                  <a:lnTo>
                    <a:pt x="1182" y="199"/>
                  </a:lnTo>
                  <a:lnTo>
                    <a:pt x="1181" y="201"/>
                  </a:lnTo>
                  <a:lnTo>
                    <a:pt x="1180" y="203"/>
                  </a:lnTo>
                  <a:lnTo>
                    <a:pt x="1188" y="209"/>
                  </a:lnTo>
                  <a:lnTo>
                    <a:pt x="1197" y="214"/>
                  </a:lnTo>
                  <a:lnTo>
                    <a:pt x="1207" y="220"/>
                  </a:lnTo>
                  <a:lnTo>
                    <a:pt x="1216" y="225"/>
                  </a:lnTo>
                  <a:lnTo>
                    <a:pt x="1225" y="229"/>
                  </a:lnTo>
                  <a:lnTo>
                    <a:pt x="1234" y="234"/>
                  </a:lnTo>
                  <a:lnTo>
                    <a:pt x="1242" y="237"/>
                  </a:lnTo>
                  <a:lnTo>
                    <a:pt x="1251" y="241"/>
                  </a:lnTo>
                  <a:lnTo>
                    <a:pt x="1250" y="244"/>
                  </a:lnTo>
                  <a:lnTo>
                    <a:pt x="1248" y="249"/>
                  </a:lnTo>
                  <a:lnTo>
                    <a:pt x="1247" y="255"/>
                  </a:lnTo>
                  <a:lnTo>
                    <a:pt x="1245" y="258"/>
                  </a:lnTo>
                  <a:lnTo>
                    <a:pt x="1257" y="264"/>
                  </a:lnTo>
                  <a:lnTo>
                    <a:pt x="1271" y="270"/>
                  </a:lnTo>
                  <a:lnTo>
                    <a:pt x="1284" y="277"/>
                  </a:lnTo>
                  <a:lnTo>
                    <a:pt x="1296" y="285"/>
                  </a:lnTo>
                  <a:lnTo>
                    <a:pt x="1308" y="293"/>
                  </a:lnTo>
                  <a:lnTo>
                    <a:pt x="1321" y="302"/>
                  </a:lnTo>
                  <a:lnTo>
                    <a:pt x="1332" y="311"/>
                  </a:lnTo>
                  <a:lnTo>
                    <a:pt x="1345" y="322"/>
                  </a:lnTo>
                  <a:lnTo>
                    <a:pt x="1357" y="332"/>
                  </a:lnTo>
                  <a:lnTo>
                    <a:pt x="1369" y="341"/>
                  </a:lnTo>
                  <a:lnTo>
                    <a:pt x="1382" y="351"/>
                  </a:lnTo>
                  <a:lnTo>
                    <a:pt x="1393" y="362"/>
                  </a:lnTo>
                  <a:lnTo>
                    <a:pt x="1406" y="372"/>
                  </a:lnTo>
                  <a:lnTo>
                    <a:pt x="1419" y="381"/>
                  </a:lnTo>
                  <a:lnTo>
                    <a:pt x="1432" y="391"/>
                  </a:lnTo>
                  <a:lnTo>
                    <a:pt x="1445" y="399"/>
                  </a:lnTo>
                  <a:lnTo>
                    <a:pt x="1446" y="411"/>
                  </a:lnTo>
                  <a:lnTo>
                    <a:pt x="1447" y="423"/>
                  </a:lnTo>
                  <a:lnTo>
                    <a:pt x="1450" y="434"/>
                  </a:lnTo>
                  <a:lnTo>
                    <a:pt x="1452" y="446"/>
                  </a:lnTo>
                  <a:lnTo>
                    <a:pt x="1476" y="477"/>
                  </a:lnTo>
                  <a:lnTo>
                    <a:pt x="1495" y="502"/>
                  </a:lnTo>
                  <a:lnTo>
                    <a:pt x="1506" y="527"/>
                  </a:lnTo>
                  <a:lnTo>
                    <a:pt x="1512" y="549"/>
                  </a:lnTo>
                  <a:lnTo>
                    <a:pt x="1513" y="573"/>
                  </a:lnTo>
                  <a:lnTo>
                    <a:pt x="1511" y="599"/>
                  </a:lnTo>
                  <a:lnTo>
                    <a:pt x="1505" y="633"/>
                  </a:lnTo>
                  <a:lnTo>
                    <a:pt x="1497" y="673"/>
                  </a:lnTo>
                  <a:lnTo>
                    <a:pt x="1499" y="674"/>
                  </a:lnTo>
                  <a:lnTo>
                    <a:pt x="1503" y="676"/>
                  </a:lnTo>
                  <a:lnTo>
                    <a:pt x="1506" y="678"/>
                  </a:lnTo>
                  <a:lnTo>
                    <a:pt x="1510" y="678"/>
                  </a:lnTo>
                  <a:lnTo>
                    <a:pt x="1505" y="689"/>
                  </a:lnTo>
                  <a:lnTo>
                    <a:pt x="1499" y="701"/>
                  </a:lnTo>
                  <a:lnTo>
                    <a:pt x="1493" y="712"/>
                  </a:lnTo>
                  <a:lnTo>
                    <a:pt x="1488" y="724"/>
                  </a:lnTo>
                  <a:lnTo>
                    <a:pt x="1485" y="735"/>
                  </a:lnTo>
                  <a:lnTo>
                    <a:pt x="1485" y="747"/>
                  </a:lnTo>
                  <a:lnTo>
                    <a:pt x="1490" y="757"/>
                  </a:lnTo>
                  <a:lnTo>
                    <a:pt x="1499" y="767"/>
                  </a:lnTo>
                  <a:lnTo>
                    <a:pt x="1491" y="785"/>
                  </a:lnTo>
                  <a:lnTo>
                    <a:pt x="1488" y="801"/>
                  </a:lnTo>
                  <a:lnTo>
                    <a:pt x="1485" y="815"/>
                  </a:lnTo>
                  <a:lnTo>
                    <a:pt x="1483" y="826"/>
                  </a:lnTo>
                  <a:lnTo>
                    <a:pt x="1478" y="838"/>
                  </a:lnTo>
                  <a:lnTo>
                    <a:pt x="1470" y="847"/>
                  </a:lnTo>
                  <a:lnTo>
                    <a:pt x="1455" y="855"/>
                  </a:lnTo>
                  <a:lnTo>
                    <a:pt x="1434" y="861"/>
                  </a:lnTo>
                  <a:lnTo>
                    <a:pt x="1416" y="873"/>
                  </a:lnTo>
                  <a:lnTo>
                    <a:pt x="1398" y="884"/>
                  </a:lnTo>
                  <a:lnTo>
                    <a:pt x="1378" y="894"/>
                  </a:lnTo>
                  <a:lnTo>
                    <a:pt x="1359" y="903"/>
                  </a:lnTo>
                  <a:lnTo>
                    <a:pt x="1338" y="911"/>
                  </a:lnTo>
                  <a:lnTo>
                    <a:pt x="1318" y="918"/>
                  </a:lnTo>
                  <a:lnTo>
                    <a:pt x="1298" y="926"/>
                  </a:lnTo>
                  <a:lnTo>
                    <a:pt x="1277" y="932"/>
                  </a:lnTo>
                  <a:lnTo>
                    <a:pt x="1257" y="939"/>
                  </a:lnTo>
                  <a:lnTo>
                    <a:pt x="1238" y="946"/>
                  </a:lnTo>
                  <a:lnTo>
                    <a:pt x="1219" y="953"/>
                  </a:lnTo>
                  <a:lnTo>
                    <a:pt x="1202" y="960"/>
                  </a:lnTo>
                  <a:lnTo>
                    <a:pt x="1186" y="968"/>
                  </a:lnTo>
                  <a:lnTo>
                    <a:pt x="1170" y="976"/>
                  </a:lnTo>
                  <a:lnTo>
                    <a:pt x="1157" y="984"/>
                  </a:lnTo>
                  <a:lnTo>
                    <a:pt x="1144" y="994"/>
                  </a:lnTo>
                  <a:lnTo>
                    <a:pt x="1137" y="994"/>
                  </a:lnTo>
                  <a:lnTo>
                    <a:pt x="1130" y="994"/>
                  </a:lnTo>
                  <a:lnTo>
                    <a:pt x="1124" y="993"/>
                  </a:lnTo>
                  <a:lnTo>
                    <a:pt x="1118" y="993"/>
                  </a:lnTo>
                  <a:lnTo>
                    <a:pt x="1111" y="992"/>
                  </a:lnTo>
                  <a:lnTo>
                    <a:pt x="1104" y="991"/>
                  </a:lnTo>
                  <a:lnTo>
                    <a:pt x="1097" y="991"/>
                  </a:lnTo>
                  <a:lnTo>
                    <a:pt x="1090" y="990"/>
                  </a:lnTo>
                  <a:lnTo>
                    <a:pt x="1087" y="994"/>
                  </a:lnTo>
                  <a:lnTo>
                    <a:pt x="1083" y="999"/>
                  </a:lnTo>
                  <a:lnTo>
                    <a:pt x="1079" y="1004"/>
                  </a:lnTo>
                  <a:lnTo>
                    <a:pt x="1075" y="1008"/>
                  </a:lnTo>
                  <a:lnTo>
                    <a:pt x="1053" y="1008"/>
                  </a:lnTo>
                  <a:lnTo>
                    <a:pt x="1033" y="1006"/>
                  </a:lnTo>
                  <a:lnTo>
                    <a:pt x="1012" y="1005"/>
                  </a:lnTo>
                  <a:lnTo>
                    <a:pt x="992" y="1004"/>
                  </a:lnTo>
                  <a:lnTo>
                    <a:pt x="973" y="1005"/>
                  </a:lnTo>
                  <a:lnTo>
                    <a:pt x="954" y="1009"/>
                  </a:lnTo>
                  <a:lnTo>
                    <a:pt x="936" y="1019"/>
                  </a:lnTo>
                  <a:lnTo>
                    <a:pt x="918" y="1035"/>
                  </a:lnTo>
                  <a:lnTo>
                    <a:pt x="912" y="1036"/>
                  </a:lnTo>
                  <a:lnTo>
                    <a:pt x="906" y="1035"/>
                  </a:lnTo>
                  <a:lnTo>
                    <a:pt x="901" y="1032"/>
                  </a:lnTo>
                  <a:lnTo>
                    <a:pt x="898" y="1029"/>
                  </a:lnTo>
                  <a:lnTo>
                    <a:pt x="894" y="1026"/>
                  </a:lnTo>
                  <a:lnTo>
                    <a:pt x="891" y="1022"/>
                  </a:lnTo>
                  <a:lnTo>
                    <a:pt x="887" y="1019"/>
                  </a:lnTo>
                  <a:lnTo>
                    <a:pt x="883" y="1018"/>
                  </a:lnTo>
                  <a:lnTo>
                    <a:pt x="882" y="1019"/>
                  </a:lnTo>
                  <a:lnTo>
                    <a:pt x="879" y="1021"/>
                  </a:lnTo>
                  <a:lnTo>
                    <a:pt x="878" y="1022"/>
                  </a:lnTo>
                  <a:lnTo>
                    <a:pt x="876" y="1022"/>
                  </a:lnTo>
                  <a:lnTo>
                    <a:pt x="872" y="1022"/>
                  </a:lnTo>
                  <a:lnTo>
                    <a:pt x="870" y="1022"/>
                  </a:lnTo>
                  <a:lnTo>
                    <a:pt x="868" y="1022"/>
                  </a:lnTo>
                  <a:lnTo>
                    <a:pt x="865" y="1022"/>
                  </a:lnTo>
                  <a:lnTo>
                    <a:pt x="839" y="1117"/>
                  </a:lnTo>
                  <a:lnTo>
                    <a:pt x="818" y="1202"/>
                  </a:lnTo>
                  <a:lnTo>
                    <a:pt x="802" y="1280"/>
                  </a:lnTo>
                  <a:lnTo>
                    <a:pt x="791" y="1356"/>
                  </a:lnTo>
                  <a:lnTo>
                    <a:pt x="781" y="1432"/>
                  </a:lnTo>
                  <a:lnTo>
                    <a:pt x="774" y="1513"/>
                  </a:lnTo>
                  <a:lnTo>
                    <a:pt x="769" y="1602"/>
                  </a:lnTo>
                  <a:lnTo>
                    <a:pt x="763" y="1701"/>
                  </a:lnTo>
                  <a:lnTo>
                    <a:pt x="768" y="1702"/>
                  </a:lnTo>
                  <a:lnTo>
                    <a:pt x="772" y="1703"/>
                  </a:lnTo>
                  <a:lnTo>
                    <a:pt x="777" y="1704"/>
                  </a:lnTo>
                  <a:lnTo>
                    <a:pt x="780" y="1705"/>
                  </a:lnTo>
                  <a:lnTo>
                    <a:pt x="780" y="1729"/>
                  </a:lnTo>
                  <a:lnTo>
                    <a:pt x="777" y="1755"/>
                  </a:lnTo>
                  <a:lnTo>
                    <a:pt x="770" y="1783"/>
                  </a:lnTo>
                  <a:lnTo>
                    <a:pt x="762" y="1811"/>
                  </a:lnTo>
                  <a:lnTo>
                    <a:pt x="753" y="1840"/>
                  </a:lnTo>
                  <a:lnTo>
                    <a:pt x="743" y="1869"/>
                  </a:lnTo>
                  <a:lnTo>
                    <a:pt x="734" y="1896"/>
                  </a:lnTo>
                  <a:lnTo>
                    <a:pt x="727" y="1920"/>
                  </a:lnTo>
                  <a:lnTo>
                    <a:pt x="732" y="1921"/>
                  </a:lnTo>
                  <a:lnTo>
                    <a:pt x="736" y="1923"/>
                  </a:lnTo>
                  <a:lnTo>
                    <a:pt x="742" y="1924"/>
                  </a:lnTo>
                  <a:lnTo>
                    <a:pt x="747" y="1927"/>
                  </a:lnTo>
                  <a:lnTo>
                    <a:pt x="747" y="1934"/>
                  </a:lnTo>
                  <a:lnTo>
                    <a:pt x="746" y="1939"/>
                  </a:lnTo>
                  <a:lnTo>
                    <a:pt x="744" y="1944"/>
                  </a:lnTo>
                  <a:lnTo>
                    <a:pt x="744" y="1949"/>
                  </a:lnTo>
                  <a:lnTo>
                    <a:pt x="743" y="1950"/>
                  </a:lnTo>
                  <a:lnTo>
                    <a:pt x="741" y="1951"/>
                  </a:lnTo>
                  <a:lnTo>
                    <a:pt x="740" y="1951"/>
                  </a:lnTo>
                  <a:lnTo>
                    <a:pt x="738" y="1951"/>
                  </a:lnTo>
                  <a:lnTo>
                    <a:pt x="726" y="1988"/>
                  </a:lnTo>
                  <a:lnTo>
                    <a:pt x="719" y="2021"/>
                  </a:lnTo>
                  <a:lnTo>
                    <a:pt x="716" y="2051"/>
                  </a:lnTo>
                  <a:lnTo>
                    <a:pt x="716" y="2079"/>
                  </a:lnTo>
                  <a:lnTo>
                    <a:pt x="718" y="2104"/>
                  </a:lnTo>
                  <a:lnTo>
                    <a:pt x="725" y="2127"/>
                  </a:lnTo>
                  <a:lnTo>
                    <a:pt x="733" y="2149"/>
                  </a:lnTo>
                  <a:lnTo>
                    <a:pt x="743" y="2170"/>
                  </a:lnTo>
                  <a:lnTo>
                    <a:pt x="757" y="2189"/>
                  </a:lnTo>
                  <a:lnTo>
                    <a:pt x="771" y="2209"/>
                  </a:lnTo>
                  <a:lnTo>
                    <a:pt x="787" y="2227"/>
                  </a:lnTo>
                  <a:lnTo>
                    <a:pt x="804" y="2247"/>
                  </a:lnTo>
                  <a:lnTo>
                    <a:pt x="823" y="2268"/>
                  </a:lnTo>
                  <a:lnTo>
                    <a:pt x="842" y="2290"/>
                  </a:lnTo>
                  <a:lnTo>
                    <a:pt x="861" y="2312"/>
                  </a:lnTo>
                  <a:lnTo>
                    <a:pt x="880" y="2337"/>
                  </a:lnTo>
                  <a:lnTo>
                    <a:pt x="880" y="2346"/>
                  </a:lnTo>
                  <a:lnTo>
                    <a:pt x="880" y="2354"/>
                  </a:lnTo>
                  <a:lnTo>
                    <a:pt x="880" y="2363"/>
                  </a:lnTo>
                  <a:lnTo>
                    <a:pt x="880" y="2373"/>
                  </a:lnTo>
                  <a:lnTo>
                    <a:pt x="864" y="2381"/>
                  </a:lnTo>
                  <a:lnTo>
                    <a:pt x="842" y="2388"/>
                  </a:lnTo>
                  <a:lnTo>
                    <a:pt x="818" y="2392"/>
                  </a:lnTo>
                  <a:lnTo>
                    <a:pt x="789" y="2397"/>
                  </a:lnTo>
                  <a:lnTo>
                    <a:pt x="757" y="2400"/>
                  </a:lnTo>
                  <a:lnTo>
                    <a:pt x="724" y="2404"/>
                  </a:lnTo>
                  <a:lnTo>
                    <a:pt x="689" y="2405"/>
                  </a:lnTo>
                  <a:lnTo>
                    <a:pt x="653" y="2406"/>
                  </a:lnTo>
                  <a:lnTo>
                    <a:pt x="617" y="2407"/>
                  </a:lnTo>
                  <a:lnTo>
                    <a:pt x="582" y="2407"/>
                  </a:lnTo>
                  <a:lnTo>
                    <a:pt x="547" y="2407"/>
                  </a:lnTo>
                  <a:lnTo>
                    <a:pt x="514" y="2406"/>
                  </a:lnTo>
                  <a:lnTo>
                    <a:pt x="484" y="2405"/>
                  </a:lnTo>
                  <a:lnTo>
                    <a:pt x="456" y="2404"/>
                  </a:lnTo>
                  <a:lnTo>
                    <a:pt x="433" y="2403"/>
                  </a:lnTo>
                  <a:lnTo>
                    <a:pt x="414" y="2401"/>
                  </a:lnTo>
                  <a:lnTo>
                    <a:pt x="402" y="2395"/>
                  </a:lnTo>
                  <a:lnTo>
                    <a:pt x="391" y="2389"/>
                  </a:lnTo>
                  <a:lnTo>
                    <a:pt x="379" y="2383"/>
                  </a:lnTo>
                  <a:lnTo>
                    <a:pt x="368" y="2377"/>
                  </a:lnTo>
                  <a:lnTo>
                    <a:pt x="356" y="2373"/>
                  </a:lnTo>
                  <a:lnTo>
                    <a:pt x="343" y="2368"/>
                  </a:lnTo>
                  <a:lnTo>
                    <a:pt x="331" y="2365"/>
                  </a:lnTo>
                  <a:lnTo>
                    <a:pt x="318" y="2361"/>
                  </a:lnTo>
                  <a:lnTo>
                    <a:pt x="322" y="2365"/>
                  </a:lnTo>
                  <a:lnTo>
                    <a:pt x="324" y="2367"/>
                  </a:lnTo>
                  <a:lnTo>
                    <a:pt x="326" y="2369"/>
                  </a:lnTo>
                  <a:lnTo>
                    <a:pt x="330" y="2373"/>
                  </a:lnTo>
                  <a:lnTo>
                    <a:pt x="326" y="2376"/>
                  </a:lnTo>
                  <a:lnTo>
                    <a:pt x="324" y="2381"/>
                  </a:lnTo>
                  <a:lnTo>
                    <a:pt x="322" y="2385"/>
                  </a:lnTo>
                  <a:lnTo>
                    <a:pt x="318" y="2389"/>
                  </a:lnTo>
                  <a:lnTo>
                    <a:pt x="315" y="2386"/>
                  </a:lnTo>
                  <a:lnTo>
                    <a:pt x="310" y="2385"/>
                  </a:lnTo>
                  <a:lnTo>
                    <a:pt x="304" y="2383"/>
                  </a:lnTo>
                  <a:lnTo>
                    <a:pt x="301" y="2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707000" y="4732560"/>
              <a:ext cx="176400" cy="27000"/>
            </a:xfrm>
            <a:custGeom>
              <a:avLst/>
              <a:gdLst/>
              <a:ahLst/>
              <a:rect l="l" t="t" r="r" b="b"/>
              <a:pathLst>
                <a:path w="224" h="34">
                  <a:moveTo>
                    <a:pt x="0" y="0"/>
                  </a:moveTo>
                  <a:lnTo>
                    <a:pt x="9" y="2"/>
                  </a:lnTo>
                  <a:lnTo>
                    <a:pt x="17" y="4"/>
                  </a:lnTo>
                  <a:lnTo>
                    <a:pt x="27" y="8"/>
                  </a:lnTo>
                  <a:lnTo>
                    <a:pt x="34" y="11"/>
                  </a:lnTo>
                  <a:lnTo>
                    <a:pt x="40" y="15"/>
                  </a:lnTo>
                  <a:lnTo>
                    <a:pt x="47" y="18"/>
                  </a:lnTo>
                  <a:lnTo>
                    <a:pt x="55" y="22"/>
                  </a:lnTo>
                  <a:lnTo>
                    <a:pt x="65" y="24"/>
                  </a:lnTo>
                  <a:lnTo>
                    <a:pt x="75" y="26"/>
                  </a:lnTo>
                  <a:lnTo>
                    <a:pt x="85" y="29"/>
                  </a:lnTo>
                  <a:lnTo>
                    <a:pt x="97" y="30"/>
                  </a:lnTo>
                  <a:lnTo>
                    <a:pt x="110" y="31"/>
                  </a:lnTo>
                  <a:lnTo>
                    <a:pt x="122" y="32"/>
                  </a:lnTo>
                  <a:lnTo>
                    <a:pt x="135" y="33"/>
                  </a:lnTo>
                  <a:lnTo>
                    <a:pt x="149" y="33"/>
                  </a:lnTo>
                  <a:lnTo>
                    <a:pt x="164" y="34"/>
                  </a:lnTo>
                  <a:lnTo>
                    <a:pt x="178" y="34"/>
                  </a:lnTo>
                  <a:lnTo>
                    <a:pt x="193" y="34"/>
                  </a:lnTo>
                  <a:lnTo>
                    <a:pt x="209" y="33"/>
                  </a:lnTo>
                  <a:lnTo>
                    <a:pt x="224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924440" y="4724640"/>
              <a:ext cx="6480" cy="6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611240" y="4702320"/>
              <a:ext cx="330120" cy="57240"/>
            </a:xfrm>
            <a:custGeom>
              <a:avLst/>
              <a:gdLst/>
              <a:ahLst/>
              <a:rect l="l" t="t" r="r" b="b"/>
              <a:pathLst>
                <a:path w="417" h="72">
                  <a:moveTo>
                    <a:pt x="108" y="49"/>
                  </a:moveTo>
                  <a:lnTo>
                    <a:pt x="98" y="45"/>
                  </a:lnTo>
                  <a:lnTo>
                    <a:pt x="87" y="41"/>
                  </a:lnTo>
                  <a:lnTo>
                    <a:pt x="76" y="38"/>
                  </a:lnTo>
                  <a:lnTo>
                    <a:pt x="65" y="33"/>
                  </a:lnTo>
                  <a:lnTo>
                    <a:pt x="54" y="29"/>
                  </a:lnTo>
                  <a:lnTo>
                    <a:pt x="45" y="23"/>
                  </a:lnTo>
                  <a:lnTo>
                    <a:pt x="36" y="17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4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0" y="30"/>
                  </a:lnTo>
                  <a:lnTo>
                    <a:pt x="22" y="35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1" y="9"/>
                  </a:lnTo>
                  <a:lnTo>
                    <a:pt x="0" y="0"/>
                  </a:lnTo>
                  <a:lnTo>
                    <a:pt x="417" y="63"/>
                  </a:lnTo>
                  <a:lnTo>
                    <a:pt x="396" y="65"/>
                  </a:lnTo>
                  <a:lnTo>
                    <a:pt x="373" y="67"/>
                  </a:lnTo>
                  <a:lnTo>
                    <a:pt x="349" y="69"/>
                  </a:lnTo>
                  <a:lnTo>
                    <a:pt x="326" y="70"/>
                  </a:lnTo>
                  <a:lnTo>
                    <a:pt x="303" y="71"/>
                  </a:lnTo>
                  <a:lnTo>
                    <a:pt x="280" y="71"/>
                  </a:lnTo>
                  <a:lnTo>
                    <a:pt x="257" y="72"/>
                  </a:lnTo>
                  <a:lnTo>
                    <a:pt x="235" y="71"/>
                  </a:lnTo>
                  <a:lnTo>
                    <a:pt x="215" y="71"/>
                  </a:lnTo>
                  <a:lnTo>
                    <a:pt x="195" y="70"/>
                  </a:lnTo>
                  <a:lnTo>
                    <a:pt x="175" y="69"/>
                  </a:lnTo>
                  <a:lnTo>
                    <a:pt x="158" y="67"/>
                  </a:lnTo>
                  <a:lnTo>
                    <a:pt x="143" y="63"/>
                  </a:lnTo>
                  <a:lnTo>
                    <a:pt x="129" y="60"/>
                  </a:lnTo>
                  <a:lnTo>
                    <a:pt x="117" y="55"/>
                  </a:lnTo>
                  <a:lnTo>
                    <a:pt x="108" y="49"/>
                  </a:lnTo>
                  <a:close/>
                </a:path>
              </a:pathLst>
            </a:custGeom>
            <a:solidFill>
              <a:srgbClr val="ff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528440" y="4681800"/>
              <a:ext cx="414360" cy="77760"/>
            </a:xfrm>
            <a:custGeom>
              <a:avLst/>
              <a:gdLst/>
              <a:ahLst/>
              <a:rect l="l" t="t" r="r" b="b"/>
              <a:pathLst>
                <a:path w="521" h="98">
                  <a:moveTo>
                    <a:pt x="75" y="65"/>
                  </a:moveTo>
                  <a:lnTo>
                    <a:pt x="69" y="62"/>
                  </a:lnTo>
                  <a:lnTo>
                    <a:pt x="62" y="59"/>
                  </a:lnTo>
                  <a:lnTo>
                    <a:pt x="57" y="57"/>
                  </a:lnTo>
                  <a:lnTo>
                    <a:pt x="50" y="53"/>
                  </a:lnTo>
                  <a:lnTo>
                    <a:pt x="44" y="50"/>
                  </a:lnTo>
                  <a:lnTo>
                    <a:pt x="39" y="45"/>
                  </a:lnTo>
                  <a:lnTo>
                    <a:pt x="34" y="41"/>
                  </a:lnTo>
                  <a:lnTo>
                    <a:pt x="30" y="36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20" y="37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1"/>
                  </a:lnTo>
                  <a:lnTo>
                    <a:pt x="21" y="54"/>
                  </a:lnTo>
                  <a:lnTo>
                    <a:pt x="15" y="54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4"/>
                  </a:lnTo>
                  <a:lnTo>
                    <a:pt x="4" y="0"/>
                  </a:lnTo>
                  <a:lnTo>
                    <a:pt x="521" y="79"/>
                  </a:lnTo>
                  <a:lnTo>
                    <a:pt x="511" y="80"/>
                  </a:lnTo>
                  <a:lnTo>
                    <a:pt x="499" y="81"/>
                  </a:lnTo>
                  <a:lnTo>
                    <a:pt x="486" y="83"/>
                  </a:lnTo>
                  <a:lnTo>
                    <a:pt x="475" y="84"/>
                  </a:lnTo>
                  <a:lnTo>
                    <a:pt x="461" y="85"/>
                  </a:lnTo>
                  <a:lnTo>
                    <a:pt x="448" y="87"/>
                  </a:lnTo>
                  <a:lnTo>
                    <a:pt x="433" y="89"/>
                  </a:lnTo>
                  <a:lnTo>
                    <a:pt x="420" y="90"/>
                  </a:lnTo>
                  <a:lnTo>
                    <a:pt x="405" y="91"/>
                  </a:lnTo>
                  <a:lnTo>
                    <a:pt x="391" y="92"/>
                  </a:lnTo>
                  <a:lnTo>
                    <a:pt x="376" y="94"/>
                  </a:lnTo>
                  <a:lnTo>
                    <a:pt x="360" y="95"/>
                  </a:lnTo>
                  <a:lnTo>
                    <a:pt x="345" y="96"/>
                  </a:lnTo>
                  <a:lnTo>
                    <a:pt x="330" y="97"/>
                  </a:lnTo>
                  <a:lnTo>
                    <a:pt x="314" y="98"/>
                  </a:lnTo>
                  <a:lnTo>
                    <a:pt x="299" y="98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ffd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488840" y="4662720"/>
              <a:ext cx="453960" cy="90360"/>
            </a:xfrm>
            <a:custGeom>
              <a:avLst/>
              <a:gdLst/>
              <a:ahLst/>
              <a:rect l="l" t="t" r="r" b="b"/>
              <a:pathLst>
                <a:path w="573" h="114">
                  <a:moveTo>
                    <a:pt x="15" y="0"/>
                  </a:moveTo>
                  <a:lnTo>
                    <a:pt x="8" y="13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1" y="51"/>
                  </a:lnTo>
                  <a:lnTo>
                    <a:pt x="418" y="114"/>
                  </a:lnTo>
                  <a:lnTo>
                    <a:pt x="443" y="112"/>
                  </a:lnTo>
                  <a:lnTo>
                    <a:pt x="465" y="109"/>
                  </a:lnTo>
                  <a:lnTo>
                    <a:pt x="485" y="106"/>
                  </a:lnTo>
                  <a:lnTo>
                    <a:pt x="505" y="104"/>
                  </a:lnTo>
                  <a:lnTo>
                    <a:pt x="523" y="103"/>
                  </a:lnTo>
                  <a:lnTo>
                    <a:pt x="538" y="100"/>
                  </a:lnTo>
                  <a:lnTo>
                    <a:pt x="552" y="99"/>
                  </a:lnTo>
                  <a:lnTo>
                    <a:pt x="564" y="98"/>
                  </a:lnTo>
                  <a:lnTo>
                    <a:pt x="567" y="95"/>
                  </a:lnTo>
                  <a:lnTo>
                    <a:pt x="569" y="91"/>
                  </a:lnTo>
                  <a:lnTo>
                    <a:pt x="571" y="88"/>
                  </a:lnTo>
                  <a:lnTo>
                    <a:pt x="573" y="8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485600" y="4643640"/>
              <a:ext cx="453960" cy="100080"/>
            </a:xfrm>
            <a:custGeom>
              <a:avLst/>
              <a:gdLst/>
              <a:ahLst/>
              <a:rect l="l" t="t" r="r" b="b"/>
              <a:pathLst>
                <a:path w="571" h="126">
                  <a:moveTo>
                    <a:pt x="26" y="0"/>
                  </a:moveTo>
                  <a:lnTo>
                    <a:pt x="17" y="11"/>
                  </a:lnTo>
                  <a:lnTo>
                    <a:pt x="10" y="24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517" y="126"/>
                  </a:lnTo>
                  <a:lnTo>
                    <a:pt x="524" y="124"/>
                  </a:lnTo>
                  <a:lnTo>
                    <a:pt x="530" y="124"/>
                  </a:lnTo>
                  <a:lnTo>
                    <a:pt x="537" y="123"/>
                  </a:lnTo>
                  <a:lnTo>
                    <a:pt x="542" y="123"/>
                  </a:lnTo>
                  <a:lnTo>
                    <a:pt x="547" y="123"/>
                  </a:lnTo>
                  <a:lnTo>
                    <a:pt x="552" y="122"/>
                  </a:lnTo>
                  <a:lnTo>
                    <a:pt x="556" y="122"/>
                  </a:lnTo>
                  <a:lnTo>
                    <a:pt x="560" y="121"/>
                  </a:lnTo>
                  <a:lnTo>
                    <a:pt x="563" y="118"/>
                  </a:lnTo>
                  <a:lnTo>
                    <a:pt x="567" y="114"/>
                  </a:lnTo>
                  <a:lnTo>
                    <a:pt x="569" y="109"/>
                  </a:lnTo>
                  <a:lnTo>
                    <a:pt x="571" y="105"/>
                  </a:lnTo>
                  <a:lnTo>
                    <a:pt x="567" y="98"/>
                  </a:lnTo>
                  <a:lnTo>
                    <a:pt x="562" y="91"/>
                  </a:lnTo>
                  <a:lnTo>
                    <a:pt x="558" y="85"/>
                  </a:lnTo>
                  <a:lnTo>
                    <a:pt x="555" y="7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485600" y="4624560"/>
              <a:ext cx="444600" cy="104760"/>
            </a:xfrm>
            <a:custGeom>
              <a:avLst/>
              <a:gdLst/>
              <a:ahLst/>
              <a:rect l="l" t="t" r="r" b="b"/>
              <a:pathLst>
                <a:path w="560" h="131">
                  <a:moveTo>
                    <a:pt x="27" y="0"/>
                  </a:moveTo>
                  <a:lnTo>
                    <a:pt x="21" y="12"/>
                  </a:lnTo>
                  <a:lnTo>
                    <a:pt x="14" y="24"/>
                  </a:lnTo>
                  <a:lnTo>
                    <a:pt x="7" y="35"/>
                  </a:lnTo>
                  <a:lnTo>
                    <a:pt x="0" y="47"/>
                  </a:lnTo>
                  <a:lnTo>
                    <a:pt x="558" y="131"/>
                  </a:lnTo>
                  <a:lnTo>
                    <a:pt x="559" y="131"/>
                  </a:lnTo>
                  <a:lnTo>
                    <a:pt x="560" y="130"/>
                  </a:lnTo>
                  <a:lnTo>
                    <a:pt x="560" y="129"/>
                  </a:lnTo>
                  <a:lnTo>
                    <a:pt x="560" y="129"/>
                  </a:lnTo>
                  <a:lnTo>
                    <a:pt x="550" y="112"/>
                  </a:lnTo>
                  <a:lnTo>
                    <a:pt x="542" y="98"/>
                  </a:lnTo>
                  <a:lnTo>
                    <a:pt x="534" y="85"/>
                  </a:lnTo>
                  <a:lnTo>
                    <a:pt x="527" y="7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498200" y="4604040"/>
              <a:ext cx="420840" cy="101520"/>
            </a:xfrm>
            <a:custGeom>
              <a:avLst/>
              <a:gdLst/>
              <a:ahLst/>
              <a:rect l="l" t="t" r="r" b="b"/>
              <a:pathLst>
                <a:path w="529" h="129">
                  <a:moveTo>
                    <a:pt x="23" y="0"/>
                  </a:moveTo>
                  <a:lnTo>
                    <a:pt x="17" y="14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529" y="129"/>
                  </a:lnTo>
                  <a:lnTo>
                    <a:pt x="524" y="121"/>
                  </a:lnTo>
                  <a:lnTo>
                    <a:pt x="520" y="113"/>
                  </a:lnTo>
                  <a:lnTo>
                    <a:pt x="515" y="105"/>
                  </a:lnTo>
                  <a:lnTo>
                    <a:pt x="511" y="98"/>
                  </a:lnTo>
                  <a:lnTo>
                    <a:pt x="507" y="92"/>
                  </a:lnTo>
                  <a:lnTo>
                    <a:pt x="501" y="86"/>
                  </a:lnTo>
                  <a:lnTo>
                    <a:pt x="496" y="79"/>
                  </a:lnTo>
                  <a:lnTo>
                    <a:pt x="489" y="7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512600" y="4586400"/>
              <a:ext cx="397080" cy="96840"/>
            </a:xfrm>
            <a:custGeom>
              <a:avLst/>
              <a:gdLst/>
              <a:ahLst/>
              <a:rect l="l" t="t" r="r" b="b"/>
              <a:pathLst>
                <a:path w="500" h="123">
                  <a:moveTo>
                    <a:pt x="0" y="49"/>
                  </a:moveTo>
                  <a:lnTo>
                    <a:pt x="5" y="37"/>
                  </a:lnTo>
                  <a:lnTo>
                    <a:pt x="10" y="26"/>
                  </a:lnTo>
                  <a:lnTo>
                    <a:pt x="15" y="14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26" y="11"/>
                  </a:lnTo>
                  <a:lnTo>
                    <a:pt x="28" y="15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8" y="21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3" y="17"/>
                  </a:lnTo>
                  <a:lnTo>
                    <a:pt x="45" y="12"/>
                  </a:lnTo>
                  <a:lnTo>
                    <a:pt x="45" y="6"/>
                  </a:lnTo>
                  <a:lnTo>
                    <a:pt x="45" y="0"/>
                  </a:lnTo>
                  <a:lnTo>
                    <a:pt x="428" y="60"/>
                  </a:lnTo>
                  <a:lnTo>
                    <a:pt x="429" y="61"/>
                  </a:lnTo>
                  <a:lnTo>
                    <a:pt x="431" y="63"/>
                  </a:lnTo>
                  <a:lnTo>
                    <a:pt x="432" y="64"/>
                  </a:lnTo>
                  <a:lnTo>
                    <a:pt x="433" y="65"/>
                  </a:lnTo>
                  <a:lnTo>
                    <a:pt x="448" y="74"/>
                  </a:lnTo>
                  <a:lnTo>
                    <a:pt x="461" y="82"/>
                  </a:lnTo>
                  <a:lnTo>
                    <a:pt x="470" y="89"/>
                  </a:lnTo>
                  <a:lnTo>
                    <a:pt x="479" y="96"/>
                  </a:lnTo>
                  <a:lnTo>
                    <a:pt x="485" y="103"/>
                  </a:lnTo>
                  <a:lnTo>
                    <a:pt x="491" y="110"/>
                  </a:lnTo>
                  <a:lnTo>
                    <a:pt x="495" y="116"/>
                  </a:lnTo>
                  <a:lnTo>
                    <a:pt x="500" y="12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533120" y="4565880"/>
              <a:ext cx="366840" cy="93600"/>
            </a:xfrm>
            <a:custGeom>
              <a:avLst/>
              <a:gdLst/>
              <a:ahLst/>
              <a:rect l="l" t="t" r="r" b="b"/>
              <a:pathLst>
                <a:path w="463" h="119">
                  <a:moveTo>
                    <a:pt x="0" y="47"/>
                  </a:move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5"/>
                  </a:lnTo>
                  <a:lnTo>
                    <a:pt x="11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7"/>
                  </a:lnTo>
                  <a:lnTo>
                    <a:pt x="32" y="36"/>
                  </a:lnTo>
                  <a:lnTo>
                    <a:pt x="34" y="23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401" y="56"/>
                  </a:lnTo>
                  <a:lnTo>
                    <a:pt x="405" y="66"/>
                  </a:lnTo>
                  <a:lnTo>
                    <a:pt x="410" y="75"/>
                  </a:lnTo>
                  <a:lnTo>
                    <a:pt x="415" y="83"/>
                  </a:lnTo>
                  <a:lnTo>
                    <a:pt x="422" y="90"/>
                  </a:lnTo>
                  <a:lnTo>
                    <a:pt x="429" y="95"/>
                  </a:lnTo>
                  <a:lnTo>
                    <a:pt x="436" y="98"/>
                  </a:lnTo>
                  <a:lnTo>
                    <a:pt x="440" y="103"/>
                  </a:lnTo>
                  <a:lnTo>
                    <a:pt x="446" y="106"/>
                  </a:lnTo>
                  <a:lnTo>
                    <a:pt x="451" y="108"/>
                  </a:lnTo>
                  <a:lnTo>
                    <a:pt x="455" y="112"/>
                  </a:lnTo>
                  <a:lnTo>
                    <a:pt x="460" y="115"/>
                  </a:lnTo>
                  <a:lnTo>
                    <a:pt x="463" y="11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569840" y="4545000"/>
              <a:ext cx="306360" cy="88920"/>
            </a:xfrm>
            <a:custGeom>
              <a:avLst/>
              <a:gdLst/>
              <a:ahLst/>
              <a:rect l="l" t="t" r="r" b="b"/>
              <a:pathLst>
                <a:path w="386" h="111">
                  <a:moveTo>
                    <a:pt x="0" y="0"/>
                  </a:moveTo>
                  <a:lnTo>
                    <a:pt x="1" y="13"/>
                  </a:lnTo>
                  <a:lnTo>
                    <a:pt x="3" y="27"/>
                  </a:lnTo>
                  <a:lnTo>
                    <a:pt x="3" y="39"/>
                  </a:lnTo>
                  <a:lnTo>
                    <a:pt x="3" y="51"/>
                  </a:lnTo>
                  <a:lnTo>
                    <a:pt x="386" y="111"/>
                  </a:lnTo>
                  <a:lnTo>
                    <a:pt x="377" y="99"/>
                  </a:lnTo>
                  <a:lnTo>
                    <a:pt x="370" y="84"/>
                  </a:lnTo>
                  <a:lnTo>
                    <a:pt x="364" y="69"/>
                  </a:lnTo>
                  <a:lnTo>
                    <a:pt x="3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583160" y="4524480"/>
              <a:ext cx="295200" cy="85680"/>
            </a:xfrm>
            <a:custGeom>
              <a:avLst/>
              <a:gdLst/>
              <a:ahLst/>
              <a:rect l="l" t="t" r="r" b="b"/>
              <a:pathLst>
                <a:path w="372" h="109">
                  <a:moveTo>
                    <a:pt x="0" y="0"/>
                  </a:moveTo>
                  <a:lnTo>
                    <a:pt x="1" y="14"/>
                  </a:lnTo>
                  <a:lnTo>
                    <a:pt x="3" y="28"/>
                  </a:lnTo>
                  <a:lnTo>
                    <a:pt x="5" y="40"/>
                  </a:lnTo>
                  <a:lnTo>
                    <a:pt x="5" y="53"/>
                  </a:lnTo>
                  <a:lnTo>
                    <a:pt x="372" y="109"/>
                  </a:lnTo>
                  <a:lnTo>
                    <a:pt x="366" y="96"/>
                  </a:lnTo>
                  <a:lnTo>
                    <a:pt x="361" y="82"/>
                  </a:lnTo>
                  <a:lnTo>
                    <a:pt x="355" y="68"/>
                  </a:lnTo>
                  <a:lnTo>
                    <a:pt x="35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592880" y="4503960"/>
              <a:ext cx="287280" cy="83880"/>
            </a:xfrm>
            <a:custGeom>
              <a:avLst/>
              <a:gdLst/>
              <a:ahLst/>
              <a:rect l="l" t="t" r="r" b="b"/>
              <a:pathLst>
                <a:path w="363" h="107">
                  <a:moveTo>
                    <a:pt x="0" y="0"/>
                  </a:moveTo>
                  <a:lnTo>
                    <a:pt x="1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4" y="52"/>
                  </a:lnTo>
                  <a:lnTo>
                    <a:pt x="363" y="107"/>
                  </a:lnTo>
                  <a:lnTo>
                    <a:pt x="357" y="91"/>
                  </a:lnTo>
                  <a:lnTo>
                    <a:pt x="351" y="75"/>
                  </a:lnTo>
                  <a:lnTo>
                    <a:pt x="344" y="61"/>
                  </a:lnTo>
                  <a:lnTo>
                    <a:pt x="33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600800" y="4483080"/>
              <a:ext cx="280800" cy="84240"/>
            </a:xfrm>
            <a:custGeom>
              <a:avLst/>
              <a:gdLst/>
              <a:ahLst/>
              <a:rect l="l" t="t" r="r" b="b"/>
              <a:pathLst>
                <a:path w="355" h="107">
                  <a:moveTo>
                    <a:pt x="0" y="0"/>
                  </a:moveTo>
                  <a:lnTo>
                    <a:pt x="2" y="13"/>
                  </a:lnTo>
                  <a:lnTo>
                    <a:pt x="4" y="26"/>
                  </a:lnTo>
                  <a:lnTo>
                    <a:pt x="5" y="39"/>
                  </a:lnTo>
                  <a:lnTo>
                    <a:pt x="5" y="52"/>
                  </a:lnTo>
                  <a:lnTo>
                    <a:pt x="355" y="107"/>
                  </a:lnTo>
                  <a:lnTo>
                    <a:pt x="352" y="96"/>
                  </a:lnTo>
                  <a:lnTo>
                    <a:pt x="346" y="85"/>
                  </a:lnTo>
                  <a:lnTo>
                    <a:pt x="340" y="77"/>
                  </a:lnTo>
                  <a:lnTo>
                    <a:pt x="332" y="72"/>
                  </a:lnTo>
                  <a:lnTo>
                    <a:pt x="332" y="66"/>
                  </a:lnTo>
                  <a:lnTo>
                    <a:pt x="332" y="60"/>
                  </a:lnTo>
                  <a:lnTo>
                    <a:pt x="331" y="55"/>
                  </a:lnTo>
                  <a:lnTo>
                    <a:pt x="33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613400" y="4461120"/>
              <a:ext cx="270000" cy="82440"/>
            </a:xfrm>
            <a:custGeom>
              <a:avLst/>
              <a:gdLst/>
              <a:ahLst/>
              <a:rect l="l" t="t" r="r" b="b"/>
              <a:pathLst>
                <a:path w="341" h="102">
                  <a:moveTo>
                    <a:pt x="0" y="0"/>
                  </a:moveTo>
                  <a:lnTo>
                    <a:pt x="0" y="12"/>
                  </a:lnTo>
                  <a:lnTo>
                    <a:pt x="1" y="26"/>
                  </a:lnTo>
                  <a:lnTo>
                    <a:pt x="4" y="39"/>
                  </a:lnTo>
                  <a:lnTo>
                    <a:pt x="5" y="53"/>
                  </a:lnTo>
                  <a:lnTo>
                    <a:pt x="341" y="102"/>
                  </a:lnTo>
                  <a:lnTo>
                    <a:pt x="340" y="101"/>
                  </a:lnTo>
                  <a:lnTo>
                    <a:pt x="338" y="99"/>
                  </a:lnTo>
                  <a:lnTo>
                    <a:pt x="337" y="98"/>
                  </a:lnTo>
                  <a:lnTo>
                    <a:pt x="334" y="98"/>
                  </a:lnTo>
                  <a:lnTo>
                    <a:pt x="334" y="88"/>
                  </a:lnTo>
                  <a:lnTo>
                    <a:pt x="333" y="79"/>
                  </a:lnTo>
                  <a:lnTo>
                    <a:pt x="332" y="71"/>
                  </a:lnTo>
                  <a:lnTo>
                    <a:pt x="332" y="62"/>
                  </a:lnTo>
                  <a:lnTo>
                    <a:pt x="326" y="60"/>
                  </a:lnTo>
                  <a:lnTo>
                    <a:pt x="320" y="58"/>
                  </a:lnTo>
                  <a:lnTo>
                    <a:pt x="316" y="56"/>
                  </a:lnTo>
                  <a:lnTo>
                    <a:pt x="310" y="53"/>
                  </a:lnTo>
                  <a:lnTo>
                    <a:pt x="310" y="50"/>
                  </a:lnTo>
                  <a:lnTo>
                    <a:pt x="309" y="48"/>
                  </a:lnTo>
                  <a:lnTo>
                    <a:pt x="308" y="47"/>
                  </a:lnTo>
                  <a:lnTo>
                    <a:pt x="308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620600" y="4440240"/>
              <a:ext cx="266760" cy="81000"/>
            </a:xfrm>
            <a:custGeom>
              <a:avLst/>
              <a:gdLst/>
              <a:ahLst/>
              <a:rect l="l" t="t" r="r" b="b"/>
              <a:pathLst>
                <a:path w="337" h="103">
                  <a:moveTo>
                    <a:pt x="0" y="0"/>
                  </a:moveTo>
                  <a:lnTo>
                    <a:pt x="3" y="13"/>
                  </a:lnTo>
                  <a:lnTo>
                    <a:pt x="4" y="26"/>
                  </a:lnTo>
                  <a:lnTo>
                    <a:pt x="6" y="39"/>
                  </a:lnTo>
                  <a:lnTo>
                    <a:pt x="7" y="53"/>
                  </a:lnTo>
                  <a:lnTo>
                    <a:pt x="337" y="103"/>
                  </a:lnTo>
                  <a:lnTo>
                    <a:pt x="337" y="99"/>
                  </a:lnTo>
                  <a:lnTo>
                    <a:pt x="337" y="96"/>
                  </a:lnTo>
                  <a:lnTo>
                    <a:pt x="337" y="92"/>
                  </a:lnTo>
                  <a:lnTo>
                    <a:pt x="337" y="89"/>
                  </a:lnTo>
                  <a:lnTo>
                    <a:pt x="331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5" y="80"/>
                  </a:lnTo>
                  <a:lnTo>
                    <a:pt x="314" y="72"/>
                  </a:lnTo>
                  <a:lnTo>
                    <a:pt x="312" y="65"/>
                  </a:lnTo>
                  <a:lnTo>
                    <a:pt x="310" y="55"/>
                  </a:lnTo>
                  <a:lnTo>
                    <a:pt x="31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640400" y="4419720"/>
              <a:ext cx="247680" cy="77760"/>
            </a:xfrm>
            <a:custGeom>
              <a:avLst/>
              <a:gdLst/>
              <a:ahLst/>
              <a:rect l="l" t="t" r="r" b="b"/>
              <a:pathLst>
                <a:path w="313" h="97">
                  <a:moveTo>
                    <a:pt x="0" y="0"/>
                  </a:moveTo>
                  <a:lnTo>
                    <a:pt x="0" y="12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5" y="52"/>
                  </a:lnTo>
                  <a:lnTo>
                    <a:pt x="313" y="97"/>
                  </a:lnTo>
                  <a:lnTo>
                    <a:pt x="312" y="86"/>
                  </a:lnTo>
                  <a:lnTo>
                    <a:pt x="310" y="74"/>
                  </a:lnTo>
                  <a:lnTo>
                    <a:pt x="309" y="60"/>
                  </a:lnTo>
                  <a:lnTo>
                    <a:pt x="3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641840" y="4397400"/>
              <a:ext cx="247680" cy="79560"/>
            </a:xfrm>
            <a:custGeom>
              <a:avLst/>
              <a:gdLst/>
              <a:ahLst/>
              <a:rect l="l" t="t" r="r" b="b"/>
              <a:pathLst>
                <a:path w="312" h="100">
                  <a:moveTo>
                    <a:pt x="0" y="0"/>
                  </a:moveTo>
                  <a:lnTo>
                    <a:pt x="0" y="14"/>
                  </a:lnTo>
                  <a:lnTo>
                    <a:pt x="1" y="26"/>
                  </a:lnTo>
                  <a:lnTo>
                    <a:pt x="2" y="40"/>
                  </a:lnTo>
                  <a:lnTo>
                    <a:pt x="2" y="54"/>
                  </a:lnTo>
                  <a:lnTo>
                    <a:pt x="312" y="100"/>
                  </a:lnTo>
                  <a:lnTo>
                    <a:pt x="311" y="89"/>
                  </a:lnTo>
                  <a:lnTo>
                    <a:pt x="311" y="75"/>
                  </a:lnTo>
                  <a:lnTo>
                    <a:pt x="312" y="62"/>
                  </a:lnTo>
                  <a:lnTo>
                    <a:pt x="312" y="47"/>
                  </a:lnTo>
                  <a:lnTo>
                    <a:pt x="228" y="36"/>
                  </a:lnTo>
                  <a:lnTo>
                    <a:pt x="228" y="38"/>
                  </a:lnTo>
                  <a:lnTo>
                    <a:pt x="225" y="38"/>
                  </a:lnTo>
                  <a:lnTo>
                    <a:pt x="221" y="38"/>
                  </a:lnTo>
                  <a:lnTo>
                    <a:pt x="218" y="38"/>
                  </a:lnTo>
                  <a:lnTo>
                    <a:pt x="214" y="38"/>
                  </a:lnTo>
                  <a:lnTo>
                    <a:pt x="214" y="38"/>
                  </a:lnTo>
                  <a:lnTo>
                    <a:pt x="214" y="37"/>
                  </a:lnTo>
                  <a:lnTo>
                    <a:pt x="214" y="35"/>
                  </a:lnTo>
                  <a:lnTo>
                    <a:pt x="214" y="33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49" y="22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1" y="24"/>
                  </a:lnTo>
                  <a:lnTo>
                    <a:pt x="38" y="22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4636440" y="4378320"/>
              <a:ext cx="252360" cy="77760"/>
            </a:xfrm>
            <a:custGeom>
              <a:avLst/>
              <a:gdLst/>
              <a:ahLst/>
              <a:rect l="l" t="t" r="r" b="b"/>
              <a:pathLst>
                <a:path w="317" h="98">
                  <a:moveTo>
                    <a:pt x="0" y="0"/>
                  </a:moveTo>
                  <a:lnTo>
                    <a:pt x="0" y="12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3"/>
                  </a:lnTo>
                  <a:lnTo>
                    <a:pt x="312" y="98"/>
                  </a:lnTo>
                  <a:lnTo>
                    <a:pt x="312" y="86"/>
                  </a:lnTo>
                  <a:lnTo>
                    <a:pt x="314" y="74"/>
                  </a:lnTo>
                  <a:lnTo>
                    <a:pt x="316" y="60"/>
                  </a:lnTo>
                  <a:lnTo>
                    <a:pt x="317" y="47"/>
                  </a:lnTo>
                  <a:lnTo>
                    <a:pt x="231" y="33"/>
                  </a:lnTo>
                  <a:lnTo>
                    <a:pt x="229" y="40"/>
                  </a:lnTo>
                  <a:lnTo>
                    <a:pt x="228" y="47"/>
                  </a:lnTo>
                  <a:lnTo>
                    <a:pt x="228" y="55"/>
                  </a:lnTo>
                  <a:lnTo>
                    <a:pt x="228" y="62"/>
                  </a:lnTo>
                  <a:lnTo>
                    <a:pt x="225" y="62"/>
                  </a:lnTo>
                  <a:lnTo>
                    <a:pt x="221" y="62"/>
                  </a:lnTo>
                  <a:lnTo>
                    <a:pt x="218" y="62"/>
                  </a:lnTo>
                  <a:lnTo>
                    <a:pt x="214" y="62"/>
                  </a:lnTo>
                  <a:lnTo>
                    <a:pt x="214" y="60"/>
                  </a:lnTo>
                  <a:lnTo>
                    <a:pt x="214" y="53"/>
                  </a:lnTo>
                  <a:lnTo>
                    <a:pt x="214" y="42"/>
                  </a:lnTo>
                  <a:lnTo>
                    <a:pt x="214" y="31"/>
                  </a:lnTo>
                  <a:lnTo>
                    <a:pt x="152" y="22"/>
                  </a:lnTo>
                  <a:lnTo>
                    <a:pt x="151" y="26"/>
                  </a:lnTo>
                  <a:lnTo>
                    <a:pt x="150" y="32"/>
                  </a:lnTo>
                  <a:lnTo>
                    <a:pt x="149" y="37"/>
                  </a:lnTo>
                  <a:lnTo>
                    <a:pt x="148" y="40"/>
                  </a:lnTo>
                  <a:lnTo>
                    <a:pt x="147" y="39"/>
                  </a:lnTo>
                  <a:lnTo>
                    <a:pt x="145" y="36"/>
                  </a:lnTo>
                  <a:lnTo>
                    <a:pt x="145" y="30"/>
                  </a:lnTo>
                  <a:lnTo>
                    <a:pt x="145" y="22"/>
                  </a:lnTo>
                  <a:lnTo>
                    <a:pt x="58" y="7"/>
                  </a:lnTo>
                  <a:lnTo>
                    <a:pt x="59" y="19"/>
                  </a:lnTo>
                  <a:lnTo>
                    <a:pt x="57" y="30"/>
                  </a:lnTo>
                  <a:lnTo>
                    <a:pt x="53" y="40"/>
                  </a:lnTo>
                  <a:lnTo>
                    <a:pt x="45" y="49"/>
                  </a:lnTo>
                  <a:lnTo>
                    <a:pt x="43" y="49"/>
                  </a:lnTo>
                  <a:lnTo>
                    <a:pt x="41" y="48"/>
                  </a:lnTo>
                  <a:lnTo>
                    <a:pt x="38" y="46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6" y="26"/>
                  </a:lnTo>
                  <a:lnTo>
                    <a:pt x="36" y="16"/>
                  </a:lnTo>
                  <a:lnTo>
                    <a:pt x="36" y="7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860360" y="4375440"/>
              <a:ext cx="28440" cy="266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29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1" y="7"/>
                  </a:lnTo>
                  <a:lnTo>
                    <a:pt x="2" y="0"/>
                  </a:lnTo>
                  <a:lnTo>
                    <a:pt x="11" y="4"/>
                  </a:lnTo>
                  <a:lnTo>
                    <a:pt x="19" y="6"/>
                  </a:lnTo>
                  <a:lnTo>
                    <a:pt x="27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6" y="23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719600" y="4362480"/>
              <a:ext cx="131760" cy="61920"/>
            </a:xfrm>
            <a:custGeom>
              <a:avLst/>
              <a:gdLst/>
              <a:ahLst/>
              <a:rect l="l" t="t" r="r" b="b"/>
              <a:pathLst>
                <a:path w="167" h="77">
                  <a:moveTo>
                    <a:pt x="0" y="0"/>
                  </a:moveTo>
                  <a:lnTo>
                    <a:pt x="5" y="14"/>
                  </a:lnTo>
                  <a:lnTo>
                    <a:pt x="10" y="27"/>
                  </a:lnTo>
                  <a:lnTo>
                    <a:pt x="11" y="41"/>
                  </a:lnTo>
                  <a:lnTo>
                    <a:pt x="7" y="53"/>
                  </a:lnTo>
                  <a:lnTo>
                    <a:pt x="167" y="77"/>
                  </a:lnTo>
                  <a:lnTo>
                    <a:pt x="167" y="68"/>
                  </a:lnTo>
                  <a:lnTo>
                    <a:pt x="167" y="56"/>
                  </a:lnTo>
                  <a:lnTo>
                    <a:pt x="167" y="41"/>
                  </a:lnTo>
                  <a:lnTo>
                    <a:pt x="167" y="24"/>
                  </a:lnTo>
                  <a:lnTo>
                    <a:pt x="110" y="15"/>
                  </a:lnTo>
                  <a:lnTo>
                    <a:pt x="108" y="27"/>
                  </a:lnTo>
                  <a:lnTo>
                    <a:pt x="105" y="38"/>
                  </a:lnTo>
                  <a:lnTo>
                    <a:pt x="103" y="50"/>
                  </a:lnTo>
                  <a:lnTo>
                    <a:pt x="101" y="60"/>
                  </a:lnTo>
                  <a:lnTo>
                    <a:pt x="100" y="57"/>
                  </a:lnTo>
                  <a:lnTo>
                    <a:pt x="98" y="46"/>
                  </a:lnTo>
                  <a:lnTo>
                    <a:pt x="98" y="31"/>
                  </a:lnTo>
                  <a:lnTo>
                    <a:pt x="98" y="15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2"/>
                  </a:lnTo>
                  <a:lnTo>
                    <a:pt x="79" y="11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4635000" y="4383360"/>
              <a:ext cx="73080" cy="5220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6" y="0"/>
                  </a:moveTo>
                  <a:lnTo>
                    <a:pt x="4" y="12"/>
                  </a:lnTo>
                  <a:lnTo>
                    <a:pt x="1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84" y="64"/>
                  </a:lnTo>
                  <a:lnTo>
                    <a:pt x="87" y="52"/>
                  </a:lnTo>
                  <a:lnTo>
                    <a:pt x="88" y="39"/>
                  </a:lnTo>
                  <a:lnTo>
                    <a:pt x="90" y="27"/>
                  </a:lnTo>
                  <a:lnTo>
                    <a:pt x="91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873680" y="4375440"/>
              <a:ext cx="15840" cy="468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5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1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773600" y="4340520"/>
              <a:ext cx="84240" cy="554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0" y="0"/>
                  </a:moveTo>
                  <a:lnTo>
                    <a:pt x="2" y="13"/>
                  </a:lnTo>
                  <a:lnTo>
                    <a:pt x="6" y="27"/>
                  </a:lnTo>
                  <a:lnTo>
                    <a:pt x="12" y="41"/>
                  </a:lnTo>
                  <a:lnTo>
                    <a:pt x="17" y="54"/>
                  </a:lnTo>
                  <a:lnTo>
                    <a:pt x="104" y="69"/>
                  </a:lnTo>
                  <a:lnTo>
                    <a:pt x="104" y="56"/>
                  </a:lnTo>
                  <a:lnTo>
                    <a:pt x="104" y="42"/>
                  </a:lnTo>
                  <a:lnTo>
                    <a:pt x="104" y="28"/>
                  </a:lnTo>
                  <a:lnTo>
                    <a:pt x="104" y="16"/>
                  </a:lnTo>
                  <a:lnTo>
                    <a:pt x="95" y="13"/>
                  </a:lnTo>
                  <a:lnTo>
                    <a:pt x="94" y="19"/>
                  </a:lnTo>
                  <a:lnTo>
                    <a:pt x="92" y="24"/>
                  </a:lnTo>
                  <a:lnTo>
                    <a:pt x="91" y="31"/>
                  </a:lnTo>
                  <a:lnTo>
                    <a:pt x="91" y="38"/>
                  </a:lnTo>
                  <a:lnTo>
                    <a:pt x="88" y="38"/>
                  </a:lnTo>
                  <a:lnTo>
                    <a:pt x="87" y="39"/>
                  </a:lnTo>
                  <a:lnTo>
                    <a:pt x="86" y="40"/>
                  </a:lnTo>
                  <a:lnTo>
                    <a:pt x="85" y="40"/>
                  </a:lnTo>
                  <a:lnTo>
                    <a:pt x="85" y="33"/>
                  </a:lnTo>
                  <a:lnTo>
                    <a:pt x="85" y="26"/>
                  </a:lnTo>
                  <a:lnTo>
                    <a:pt x="85" y="19"/>
                  </a:lnTo>
                  <a:lnTo>
                    <a:pt x="85" y="13"/>
                  </a:lnTo>
                  <a:lnTo>
                    <a:pt x="64" y="9"/>
                  </a:lnTo>
                  <a:lnTo>
                    <a:pt x="61" y="18"/>
                  </a:lnTo>
                  <a:lnTo>
                    <a:pt x="58" y="26"/>
                  </a:lnTo>
                  <a:lnTo>
                    <a:pt x="57" y="34"/>
                  </a:lnTo>
                  <a:lnTo>
                    <a:pt x="55" y="40"/>
                  </a:lnTo>
                  <a:lnTo>
                    <a:pt x="54" y="32"/>
                  </a:lnTo>
                  <a:lnTo>
                    <a:pt x="53" y="24"/>
                  </a:lnTo>
                  <a:lnTo>
                    <a:pt x="53" y="16"/>
                  </a:lnTo>
                  <a:lnTo>
                    <a:pt x="5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4717440" y="4354560"/>
              <a:ext cx="50760" cy="4752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13" y="0"/>
                  </a:moveTo>
                  <a:lnTo>
                    <a:pt x="9" y="13"/>
                  </a:lnTo>
                  <a:lnTo>
                    <a:pt x="6" y="25"/>
                  </a:lnTo>
                  <a:lnTo>
                    <a:pt x="4" y="38"/>
                  </a:lnTo>
                  <a:lnTo>
                    <a:pt x="0" y="51"/>
                  </a:lnTo>
                  <a:lnTo>
                    <a:pt x="62" y="60"/>
                  </a:lnTo>
                  <a:lnTo>
                    <a:pt x="62" y="47"/>
                  </a:lnTo>
                  <a:lnTo>
                    <a:pt x="62" y="33"/>
                  </a:lnTo>
                  <a:lnTo>
                    <a:pt x="64" y="20"/>
                  </a:lnTo>
                  <a:lnTo>
                    <a:pt x="65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631760" y="4362480"/>
              <a:ext cx="74520" cy="54000"/>
            </a:xfrm>
            <a:custGeom>
              <a:avLst/>
              <a:gdLst/>
              <a:ahLst/>
              <a:rect l="l" t="t" r="r" b="b"/>
              <a:pathLst>
                <a:path w="93" h="67">
                  <a:moveTo>
                    <a:pt x="5" y="0"/>
                  </a:moveTo>
                  <a:lnTo>
                    <a:pt x="3" y="14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86" y="67"/>
                  </a:lnTo>
                  <a:lnTo>
                    <a:pt x="88" y="54"/>
                  </a:lnTo>
                  <a:lnTo>
                    <a:pt x="89" y="41"/>
                  </a:lnTo>
                  <a:lnTo>
                    <a:pt x="92" y="28"/>
                  </a:lnTo>
                  <a:lnTo>
                    <a:pt x="93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813560" y="431964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1" y="13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1" y="54"/>
                  </a:lnTo>
                  <a:lnTo>
                    <a:pt x="60" y="60"/>
                  </a:lnTo>
                  <a:lnTo>
                    <a:pt x="59" y="47"/>
                  </a:lnTo>
                  <a:lnTo>
                    <a:pt x="59" y="35"/>
                  </a:lnTo>
                  <a:lnTo>
                    <a:pt x="59" y="21"/>
                  </a:lnTo>
                  <a:lnTo>
                    <a:pt x="6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789440" y="4329360"/>
              <a:ext cx="22320" cy="41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2" y="0"/>
                  </a:moveTo>
                  <a:lnTo>
                    <a:pt x="9" y="12"/>
                  </a:lnTo>
                  <a:lnTo>
                    <a:pt x="6" y="26"/>
                  </a:lnTo>
                  <a:lnTo>
                    <a:pt x="2" y="39"/>
                  </a:lnTo>
                  <a:lnTo>
                    <a:pt x="0" y="50"/>
                  </a:lnTo>
                  <a:lnTo>
                    <a:pt x="28" y="53"/>
                  </a:lnTo>
                  <a:lnTo>
                    <a:pt x="28" y="40"/>
                  </a:lnTo>
                  <a:lnTo>
                    <a:pt x="29" y="27"/>
                  </a:lnTo>
                  <a:lnTo>
                    <a:pt x="29" y="15"/>
                  </a:lnTo>
                  <a:lnTo>
                    <a:pt x="2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773600" y="4332240"/>
              <a:ext cx="12960" cy="432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0" y="51"/>
                  </a:moveTo>
                  <a:lnTo>
                    <a:pt x="0" y="50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4" y="35"/>
                  </a:lnTo>
                  <a:lnTo>
                    <a:pt x="7" y="23"/>
                  </a:lnTo>
                  <a:lnTo>
                    <a:pt x="12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22"/>
                  </a:lnTo>
                  <a:lnTo>
                    <a:pt x="16" y="37"/>
                  </a:lnTo>
                  <a:lnTo>
                    <a:pt x="16" y="53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718160" y="4337280"/>
              <a:ext cx="47520" cy="4428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0" y="47"/>
                  </a:moveTo>
                  <a:lnTo>
                    <a:pt x="3" y="36"/>
                  </a:lnTo>
                  <a:lnTo>
                    <a:pt x="7" y="24"/>
                  </a:lnTo>
                  <a:lnTo>
                    <a:pt x="9" y="1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60" y="5"/>
                  </a:lnTo>
                  <a:lnTo>
                    <a:pt x="60" y="15"/>
                  </a:lnTo>
                  <a:lnTo>
                    <a:pt x="60" y="28"/>
                  </a:lnTo>
                  <a:lnTo>
                    <a:pt x="59" y="43"/>
                  </a:lnTo>
                  <a:lnTo>
                    <a:pt x="57" y="5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628520" y="4345200"/>
              <a:ext cx="74520" cy="50760"/>
            </a:xfrm>
            <a:custGeom>
              <a:avLst/>
              <a:gdLst/>
              <a:ahLst/>
              <a:rect l="l" t="t" r="r" b="b"/>
              <a:pathLst>
                <a:path w="95" h="65">
                  <a:moveTo>
                    <a:pt x="5" y="0"/>
                  </a:moveTo>
                  <a:lnTo>
                    <a:pt x="4" y="13"/>
                  </a:lnTo>
                  <a:lnTo>
                    <a:pt x="1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85" y="65"/>
                  </a:lnTo>
                  <a:lnTo>
                    <a:pt x="88" y="52"/>
                  </a:lnTo>
                  <a:lnTo>
                    <a:pt x="90" y="39"/>
                  </a:lnTo>
                  <a:lnTo>
                    <a:pt x="92" y="26"/>
                  </a:lnTo>
                  <a:lnTo>
                    <a:pt x="95" y="12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5" y="16"/>
                  </a:lnTo>
                  <a:lnTo>
                    <a:pt x="74" y="19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9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811760" y="4300560"/>
              <a:ext cx="47520" cy="460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" y="51"/>
                  </a:moveTo>
                  <a:lnTo>
                    <a:pt x="1" y="4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1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61" y="7"/>
                  </a:lnTo>
                  <a:lnTo>
                    <a:pt x="60" y="19"/>
                  </a:lnTo>
                  <a:lnTo>
                    <a:pt x="58" y="32"/>
                  </a:lnTo>
                  <a:lnTo>
                    <a:pt x="57" y="45"/>
                  </a:lnTo>
                  <a:lnTo>
                    <a:pt x="57" y="57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87280" y="4308480"/>
              <a:ext cx="17640" cy="428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0"/>
                  </a:moveTo>
                  <a:lnTo>
                    <a:pt x="3" y="36"/>
                  </a:lnTo>
                  <a:lnTo>
                    <a:pt x="7" y="23"/>
                  </a:lnTo>
                  <a:lnTo>
                    <a:pt x="9" y="11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2" y="24"/>
                  </a:lnTo>
                  <a:lnTo>
                    <a:pt x="23" y="38"/>
                  </a:lnTo>
                  <a:lnTo>
                    <a:pt x="21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773600" y="4329360"/>
              <a:ext cx="792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28"/>
                  </a:moveTo>
                  <a:lnTo>
                    <a:pt x="2" y="21"/>
                  </a:lnTo>
                  <a:lnTo>
                    <a:pt x="4" y="15"/>
                  </a:lnTo>
                  <a:lnTo>
                    <a:pt x="6" y="8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10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717440" y="433404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0" y="27"/>
                  </a:move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2" y="5"/>
                  </a:lnTo>
                  <a:lnTo>
                    <a:pt x="52" y="12"/>
                  </a:lnTo>
                  <a:lnTo>
                    <a:pt x="52" y="22"/>
                  </a:lnTo>
                  <a:lnTo>
                    <a:pt x="52" y="3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624560" y="4329360"/>
              <a:ext cx="77760" cy="4608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0" y="41"/>
                  </a:moveTo>
                  <a:lnTo>
                    <a:pt x="0" y="32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3" y="5"/>
                  </a:lnTo>
                  <a:lnTo>
                    <a:pt x="11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0" y="10"/>
                  </a:lnTo>
                  <a:lnTo>
                    <a:pt x="59" y="19"/>
                  </a:lnTo>
                  <a:lnTo>
                    <a:pt x="58" y="27"/>
                  </a:lnTo>
                  <a:lnTo>
                    <a:pt x="57" y="34"/>
                  </a:lnTo>
                  <a:lnTo>
                    <a:pt x="60" y="35"/>
                  </a:lnTo>
                  <a:lnTo>
                    <a:pt x="64" y="37"/>
                  </a:lnTo>
                  <a:lnTo>
                    <a:pt x="67" y="37"/>
                  </a:lnTo>
                  <a:lnTo>
                    <a:pt x="72" y="37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6" y="10"/>
                  </a:lnTo>
                  <a:lnTo>
                    <a:pt x="76" y="1"/>
                  </a:lnTo>
                  <a:lnTo>
                    <a:pt x="97" y="5"/>
                  </a:lnTo>
                  <a:lnTo>
                    <a:pt x="95" y="18"/>
                  </a:lnTo>
                  <a:lnTo>
                    <a:pt x="93" y="31"/>
                  </a:lnTo>
                  <a:lnTo>
                    <a:pt x="90" y="44"/>
                  </a:lnTo>
                  <a:lnTo>
                    <a:pt x="88" y="5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811040" y="429264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0" y="33"/>
                  </a:moveTo>
                  <a:lnTo>
                    <a:pt x="1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60" y="31"/>
                  </a:lnTo>
                  <a:lnTo>
                    <a:pt x="60" y="4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789440" y="430848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6"/>
                  </a:moveTo>
                  <a:lnTo>
                    <a:pt x="2" y="19"/>
                  </a:lnTo>
                  <a:lnTo>
                    <a:pt x="3" y="12"/>
                  </a:lnTo>
                  <a:lnTo>
                    <a:pt x="5" y="6"/>
                  </a:lnTo>
                  <a:lnTo>
                    <a:pt x="7" y="0"/>
                  </a:lnTo>
                  <a:lnTo>
                    <a:pt x="10" y="6"/>
                  </a:lnTo>
                  <a:lnTo>
                    <a:pt x="13" y="12"/>
                  </a:lnTo>
                  <a:lnTo>
                    <a:pt x="15" y="20"/>
                  </a:lnTo>
                  <a:lnTo>
                    <a:pt x="16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4772160" y="4329360"/>
              <a:ext cx="1440" cy="28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718160" y="4334040"/>
              <a:ext cx="30240" cy="648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4"/>
                  </a:moveTo>
                  <a:lnTo>
                    <a:pt x="4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8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4653000" y="4329360"/>
              <a:ext cx="47520" cy="205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18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8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57" y="7"/>
                  </a:lnTo>
                  <a:lnTo>
                    <a:pt x="56" y="14"/>
                  </a:lnTo>
                  <a:lnTo>
                    <a:pt x="55" y="19"/>
                  </a:lnTo>
                  <a:lnTo>
                    <a:pt x="54" y="2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621320" y="431172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5" y="0"/>
                  </a:moveTo>
                  <a:lnTo>
                    <a:pt x="5" y="13"/>
                  </a:lnTo>
                  <a:lnTo>
                    <a:pt x="4" y="24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19" y="52"/>
                  </a:lnTo>
                  <a:lnTo>
                    <a:pt x="21" y="39"/>
                  </a:lnTo>
                  <a:lnTo>
                    <a:pt x="23" y="26"/>
                  </a:lnTo>
                  <a:lnTo>
                    <a:pt x="27" y="15"/>
                  </a:lnTo>
                  <a:lnTo>
                    <a:pt x="29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811760" y="4292640"/>
              <a:ext cx="2880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1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36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616640" y="4291200"/>
              <a:ext cx="25200" cy="4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5" y="0"/>
                  </a:moveTo>
                  <a:lnTo>
                    <a:pt x="5" y="13"/>
                  </a:lnTo>
                  <a:lnTo>
                    <a:pt x="4" y="25"/>
                  </a:lnTo>
                  <a:lnTo>
                    <a:pt x="2" y="37"/>
                  </a:lnTo>
                  <a:lnTo>
                    <a:pt x="0" y="50"/>
                  </a:lnTo>
                  <a:lnTo>
                    <a:pt x="21" y="54"/>
                  </a:lnTo>
                  <a:lnTo>
                    <a:pt x="25" y="41"/>
                  </a:lnTo>
                  <a:lnTo>
                    <a:pt x="28" y="28"/>
                  </a:lnTo>
                  <a:lnTo>
                    <a:pt x="29" y="15"/>
                  </a:lnTo>
                  <a:lnTo>
                    <a:pt x="32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612680" y="4270320"/>
              <a:ext cx="27000" cy="446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4" y="0"/>
                  </a:moveTo>
                  <a:lnTo>
                    <a:pt x="4" y="12"/>
                  </a:lnTo>
                  <a:lnTo>
                    <a:pt x="3" y="25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24" y="55"/>
                  </a:lnTo>
                  <a:lnTo>
                    <a:pt x="27" y="42"/>
                  </a:lnTo>
                  <a:lnTo>
                    <a:pt x="30" y="29"/>
                  </a:lnTo>
                  <a:lnTo>
                    <a:pt x="31" y="16"/>
                  </a:lnTo>
                  <a:lnTo>
                    <a:pt x="33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609440" y="4251600"/>
              <a:ext cx="27000" cy="4104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0" y="50"/>
                  </a:moveTo>
                  <a:lnTo>
                    <a:pt x="1" y="40"/>
                  </a:lnTo>
                  <a:lnTo>
                    <a:pt x="2" y="28"/>
                  </a:lnTo>
                  <a:lnTo>
                    <a:pt x="3" y="18"/>
                  </a:lnTo>
                  <a:lnTo>
                    <a:pt x="5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22" y="8"/>
                  </a:lnTo>
                  <a:lnTo>
                    <a:pt x="23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33" y="15"/>
                  </a:lnTo>
                  <a:lnTo>
                    <a:pt x="32" y="27"/>
                  </a:lnTo>
                  <a:lnTo>
                    <a:pt x="30" y="40"/>
                  </a:lnTo>
                  <a:lnTo>
                    <a:pt x="27" y="5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605480" y="4232520"/>
              <a:ext cx="30240" cy="410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0" y="47"/>
                  </a:moveTo>
                  <a:lnTo>
                    <a:pt x="0" y="43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1"/>
                  </a:lnTo>
                  <a:lnTo>
                    <a:pt x="6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6" y="11"/>
                  </a:lnTo>
                  <a:lnTo>
                    <a:pt x="35" y="24"/>
                  </a:lnTo>
                  <a:lnTo>
                    <a:pt x="33" y="38"/>
                  </a:lnTo>
                  <a:lnTo>
                    <a:pt x="29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4604760" y="4230720"/>
              <a:ext cx="11160" cy="2376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26"/>
                  </a:moveTo>
                  <a:lnTo>
                    <a:pt x="3" y="20"/>
                  </a:lnTo>
                  <a:lnTo>
                    <a:pt x="6" y="14"/>
                  </a:lnTo>
                  <a:lnTo>
                    <a:pt x="10" y="7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2" y="13"/>
                  </a:lnTo>
                  <a:lnTo>
                    <a:pt x="10" y="21"/>
                  </a:lnTo>
                  <a:lnTo>
                    <a:pt x="9" y="2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597560" y="4386240"/>
              <a:ext cx="33120" cy="10008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5" y="127"/>
                  </a:moveTo>
                  <a:lnTo>
                    <a:pt x="3" y="115"/>
                  </a:lnTo>
                  <a:lnTo>
                    <a:pt x="0" y="84"/>
                  </a:lnTo>
                  <a:lnTo>
                    <a:pt x="18" y="0"/>
                  </a:lnTo>
                  <a:lnTo>
                    <a:pt x="43" y="5"/>
                  </a:lnTo>
                  <a:lnTo>
                    <a:pt x="33" y="36"/>
                  </a:lnTo>
                  <a:lnTo>
                    <a:pt x="24" y="66"/>
                  </a:lnTo>
                  <a:lnTo>
                    <a:pt x="19" y="95"/>
                  </a:lnTo>
                  <a:lnTo>
                    <a:pt x="15" y="124"/>
                  </a:lnTo>
                  <a:lnTo>
                    <a:pt x="5" y="1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571280" y="4237200"/>
              <a:ext cx="42840" cy="131760"/>
            </a:xfrm>
            <a:custGeom>
              <a:avLst/>
              <a:gdLst/>
              <a:ahLst/>
              <a:rect l="l" t="t" r="r" b="b"/>
              <a:pathLst>
                <a:path w="54" h="167">
                  <a:moveTo>
                    <a:pt x="0" y="167"/>
                  </a:moveTo>
                  <a:lnTo>
                    <a:pt x="29" y="34"/>
                  </a:lnTo>
                  <a:lnTo>
                    <a:pt x="33" y="2"/>
                  </a:lnTo>
                  <a:lnTo>
                    <a:pt x="54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708800" y="4199040"/>
              <a:ext cx="47520" cy="12240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5" y="150"/>
                  </a:moveTo>
                  <a:lnTo>
                    <a:pt x="5" y="130"/>
                  </a:lnTo>
                  <a:lnTo>
                    <a:pt x="3" y="109"/>
                  </a:lnTo>
                  <a:lnTo>
                    <a:pt x="0" y="102"/>
                  </a:lnTo>
                  <a:lnTo>
                    <a:pt x="7" y="66"/>
                  </a:lnTo>
                  <a:lnTo>
                    <a:pt x="19" y="69"/>
                  </a:lnTo>
                  <a:lnTo>
                    <a:pt x="21" y="9"/>
                  </a:lnTo>
                  <a:lnTo>
                    <a:pt x="61" y="0"/>
                  </a:lnTo>
                  <a:lnTo>
                    <a:pt x="45" y="11"/>
                  </a:lnTo>
                  <a:lnTo>
                    <a:pt x="43" y="36"/>
                  </a:lnTo>
                  <a:lnTo>
                    <a:pt x="41" y="56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50" y="85"/>
                  </a:lnTo>
                  <a:lnTo>
                    <a:pt x="52" y="49"/>
                  </a:lnTo>
                  <a:lnTo>
                    <a:pt x="61" y="43"/>
                  </a:lnTo>
                  <a:lnTo>
                    <a:pt x="54" y="154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642920" y="4222800"/>
              <a:ext cx="58680" cy="9216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17" y="113"/>
                  </a:moveTo>
                  <a:lnTo>
                    <a:pt x="17" y="108"/>
                  </a:lnTo>
                  <a:lnTo>
                    <a:pt x="0" y="100"/>
                  </a:lnTo>
                  <a:lnTo>
                    <a:pt x="5" y="24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6" y="44"/>
                  </a:lnTo>
                  <a:lnTo>
                    <a:pt x="23" y="64"/>
                  </a:lnTo>
                  <a:lnTo>
                    <a:pt x="30" y="64"/>
                  </a:lnTo>
                  <a:lnTo>
                    <a:pt x="45" y="8"/>
                  </a:lnTo>
                  <a:lnTo>
                    <a:pt x="57" y="3"/>
                  </a:lnTo>
                  <a:lnTo>
                    <a:pt x="64" y="0"/>
                  </a:lnTo>
                  <a:lnTo>
                    <a:pt x="74" y="3"/>
                  </a:lnTo>
                  <a:lnTo>
                    <a:pt x="57" y="115"/>
                  </a:lnTo>
                  <a:lnTo>
                    <a:pt x="17" y="1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785840" y="4159440"/>
              <a:ext cx="52200" cy="135000"/>
            </a:xfrm>
            <a:custGeom>
              <a:avLst/>
              <a:gdLst/>
              <a:ahLst/>
              <a:rect l="l" t="t" r="r" b="b"/>
              <a:pathLst>
                <a:path w="64" h="172">
                  <a:moveTo>
                    <a:pt x="64" y="172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64" y="17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783320" y="4159440"/>
              <a:ext cx="55440" cy="137880"/>
            </a:xfrm>
            <a:custGeom>
              <a:avLst/>
              <a:gdLst/>
              <a:ahLst/>
              <a:rect l="l" t="t" r="r" b="b"/>
              <a:pathLst>
                <a:path w="69" h="174">
                  <a:moveTo>
                    <a:pt x="69" y="174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69" y="1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780800" y="4159440"/>
              <a:ext cx="57240" cy="139680"/>
            </a:xfrm>
            <a:custGeom>
              <a:avLst/>
              <a:gdLst/>
              <a:ahLst/>
              <a:rect l="l" t="t" r="r" b="b"/>
              <a:pathLst>
                <a:path w="71" h="177">
                  <a:moveTo>
                    <a:pt x="71" y="177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71" y="17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760280" y="4189680"/>
              <a:ext cx="19080" cy="99720"/>
            </a:xfrm>
            <a:custGeom>
              <a:avLst/>
              <a:gdLst/>
              <a:ahLst/>
              <a:rect l="l" t="t" r="r" b="b"/>
              <a:pathLst>
                <a:path w="23" h="127">
                  <a:moveTo>
                    <a:pt x="0" y="127"/>
                  </a:moveTo>
                  <a:lnTo>
                    <a:pt x="5" y="56"/>
                  </a:lnTo>
                  <a:lnTo>
                    <a:pt x="5" y="41"/>
                  </a:lnTo>
                  <a:lnTo>
                    <a:pt x="10" y="13"/>
                  </a:lnTo>
                  <a:lnTo>
                    <a:pt x="7" y="0"/>
                  </a:lnTo>
                  <a:lnTo>
                    <a:pt x="21" y="5"/>
                  </a:lnTo>
                  <a:lnTo>
                    <a:pt x="23" y="15"/>
                  </a:lnTo>
                  <a:lnTo>
                    <a:pt x="21" y="87"/>
                  </a:lnTo>
                  <a:lnTo>
                    <a:pt x="10" y="9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531680" y="3654720"/>
              <a:ext cx="298440" cy="574560"/>
            </a:xfrm>
            <a:custGeom>
              <a:avLst/>
              <a:gdLst/>
              <a:ahLst/>
              <a:rect l="l" t="t" r="r" b="b"/>
              <a:pathLst>
                <a:path w="377" h="724">
                  <a:moveTo>
                    <a:pt x="172" y="711"/>
                  </a:moveTo>
                  <a:lnTo>
                    <a:pt x="174" y="697"/>
                  </a:lnTo>
                  <a:lnTo>
                    <a:pt x="173" y="689"/>
                  </a:lnTo>
                  <a:lnTo>
                    <a:pt x="168" y="682"/>
                  </a:lnTo>
                  <a:lnTo>
                    <a:pt x="162" y="671"/>
                  </a:lnTo>
                  <a:lnTo>
                    <a:pt x="140" y="673"/>
                  </a:lnTo>
                  <a:lnTo>
                    <a:pt x="126" y="673"/>
                  </a:lnTo>
                  <a:lnTo>
                    <a:pt x="116" y="672"/>
                  </a:lnTo>
                  <a:lnTo>
                    <a:pt x="111" y="670"/>
                  </a:lnTo>
                  <a:lnTo>
                    <a:pt x="106" y="666"/>
                  </a:lnTo>
                  <a:lnTo>
                    <a:pt x="101" y="662"/>
                  </a:lnTo>
                  <a:lnTo>
                    <a:pt x="92" y="657"/>
                  </a:lnTo>
                  <a:lnTo>
                    <a:pt x="78" y="650"/>
                  </a:lnTo>
                  <a:lnTo>
                    <a:pt x="77" y="644"/>
                  </a:lnTo>
                  <a:lnTo>
                    <a:pt x="76" y="638"/>
                  </a:lnTo>
                  <a:lnTo>
                    <a:pt x="75" y="632"/>
                  </a:lnTo>
                  <a:lnTo>
                    <a:pt x="74" y="626"/>
                  </a:lnTo>
                  <a:lnTo>
                    <a:pt x="64" y="623"/>
                  </a:lnTo>
                  <a:lnTo>
                    <a:pt x="55" y="619"/>
                  </a:lnTo>
                  <a:lnTo>
                    <a:pt x="47" y="616"/>
                  </a:lnTo>
                  <a:lnTo>
                    <a:pt x="39" y="613"/>
                  </a:lnTo>
                  <a:lnTo>
                    <a:pt x="30" y="611"/>
                  </a:lnTo>
                  <a:lnTo>
                    <a:pt x="21" y="610"/>
                  </a:lnTo>
                  <a:lnTo>
                    <a:pt x="11" y="610"/>
                  </a:lnTo>
                  <a:lnTo>
                    <a:pt x="0" y="611"/>
                  </a:lnTo>
                  <a:lnTo>
                    <a:pt x="7" y="556"/>
                  </a:lnTo>
                  <a:lnTo>
                    <a:pt x="14" y="502"/>
                  </a:lnTo>
                  <a:lnTo>
                    <a:pt x="22" y="446"/>
                  </a:lnTo>
                  <a:lnTo>
                    <a:pt x="29" y="392"/>
                  </a:lnTo>
                  <a:lnTo>
                    <a:pt x="37" y="338"/>
                  </a:lnTo>
                  <a:lnTo>
                    <a:pt x="46" y="284"/>
                  </a:lnTo>
                  <a:lnTo>
                    <a:pt x="55" y="231"/>
                  </a:lnTo>
                  <a:lnTo>
                    <a:pt x="67" y="177"/>
                  </a:lnTo>
                  <a:lnTo>
                    <a:pt x="67" y="187"/>
                  </a:lnTo>
                  <a:lnTo>
                    <a:pt x="67" y="196"/>
                  </a:lnTo>
                  <a:lnTo>
                    <a:pt x="66" y="205"/>
                  </a:lnTo>
                  <a:lnTo>
                    <a:pt x="64" y="215"/>
                  </a:lnTo>
                  <a:lnTo>
                    <a:pt x="75" y="192"/>
                  </a:lnTo>
                  <a:lnTo>
                    <a:pt x="85" y="170"/>
                  </a:lnTo>
                  <a:lnTo>
                    <a:pt x="93" y="147"/>
                  </a:lnTo>
                  <a:lnTo>
                    <a:pt x="102" y="124"/>
                  </a:lnTo>
                  <a:lnTo>
                    <a:pt x="111" y="102"/>
                  </a:lnTo>
                  <a:lnTo>
                    <a:pt x="120" y="79"/>
                  </a:lnTo>
                  <a:lnTo>
                    <a:pt x="130" y="57"/>
                  </a:lnTo>
                  <a:lnTo>
                    <a:pt x="143" y="34"/>
                  </a:lnTo>
                  <a:lnTo>
                    <a:pt x="152" y="37"/>
                  </a:lnTo>
                  <a:lnTo>
                    <a:pt x="160" y="39"/>
                  </a:lnTo>
                  <a:lnTo>
                    <a:pt x="169" y="41"/>
                  </a:lnTo>
                  <a:lnTo>
                    <a:pt x="176" y="43"/>
                  </a:lnTo>
                  <a:lnTo>
                    <a:pt x="183" y="33"/>
                  </a:lnTo>
                  <a:lnTo>
                    <a:pt x="192" y="21"/>
                  </a:lnTo>
                  <a:lnTo>
                    <a:pt x="200" y="11"/>
                  </a:lnTo>
                  <a:lnTo>
                    <a:pt x="207" y="0"/>
                  </a:lnTo>
                  <a:lnTo>
                    <a:pt x="213" y="22"/>
                  </a:lnTo>
                  <a:lnTo>
                    <a:pt x="223" y="37"/>
                  </a:lnTo>
                  <a:lnTo>
                    <a:pt x="238" y="48"/>
                  </a:lnTo>
                  <a:lnTo>
                    <a:pt x="256" y="52"/>
                  </a:lnTo>
                  <a:lnTo>
                    <a:pt x="275" y="53"/>
                  </a:lnTo>
                  <a:lnTo>
                    <a:pt x="296" y="52"/>
                  </a:lnTo>
                  <a:lnTo>
                    <a:pt x="318" y="50"/>
                  </a:lnTo>
                  <a:lnTo>
                    <a:pt x="339" y="48"/>
                  </a:lnTo>
                  <a:lnTo>
                    <a:pt x="339" y="42"/>
                  </a:lnTo>
                  <a:lnTo>
                    <a:pt x="340" y="37"/>
                  </a:lnTo>
                  <a:lnTo>
                    <a:pt x="341" y="31"/>
                  </a:lnTo>
                  <a:lnTo>
                    <a:pt x="341" y="27"/>
                  </a:lnTo>
                  <a:lnTo>
                    <a:pt x="346" y="28"/>
                  </a:lnTo>
                  <a:lnTo>
                    <a:pt x="350" y="30"/>
                  </a:lnTo>
                  <a:lnTo>
                    <a:pt x="354" y="31"/>
                  </a:lnTo>
                  <a:lnTo>
                    <a:pt x="357" y="34"/>
                  </a:lnTo>
                  <a:lnTo>
                    <a:pt x="354" y="59"/>
                  </a:lnTo>
                  <a:lnTo>
                    <a:pt x="350" y="83"/>
                  </a:lnTo>
                  <a:lnTo>
                    <a:pt x="348" y="109"/>
                  </a:lnTo>
                  <a:lnTo>
                    <a:pt x="346" y="134"/>
                  </a:lnTo>
                  <a:lnTo>
                    <a:pt x="353" y="111"/>
                  </a:lnTo>
                  <a:lnTo>
                    <a:pt x="361" y="87"/>
                  </a:lnTo>
                  <a:lnTo>
                    <a:pt x="369" y="63"/>
                  </a:lnTo>
                  <a:lnTo>
                    <a:pt x="377" y="38"/>
                  </a:lnTo>
                  <a:lnTo>
                    <a:pt x="371" y="79"/>
                  </a:lnTo>
                  <a:lnTo>
                    <a:pt x="364" y="119"/>
                  </a:lnTo>
                  <a:lnTo>
                    <a:pt x="357" y="159"/>
                  </a:lnTo>
                  <a:lnTo>
                    <a:pt x="350" y="198"/>
                  </a:lnTo>
                  <a:lnTo>
                    <a:pt x="351" y="193"/>
                  </a:lnTo>
                  <a:lnTo>
                    <a:pt x="353" y="188"/>
                  </a:lnTo>
                  <a:lnTo>
                    <a:pt x="355" y="184"/>
                  </a:lnTo>
                  <a:lnTo>
                    <a:pt x="357" y="179"/>
                  </a:lnTo>
                  <a:lnTo>
                    <a:pt x="350" y="252"/>
                  </a:lnTo>
                  <a:lnTo>
                    <a:pt x="343" y="321"/>
                  </a:lnTo>
                  <a:lnTo>
                    <a:pt x="335" y="389"/>
                  </a:lnTo>
                  <a:lnTo>
                    <a:pt x="327" y="454"/>
                  </a:lnTo>
                  <a:lnTo>
                    <a:pt x="317" y="521"/>
                  </a:lnTo>
                  <a:lnTo>
                    <a:pt x="303" y="587"/>
                  </a:lnTo>
                  <a:lnTo>
                    <a:pt x="286" y="655"/>
                  </a:lnTo>
                  <a:lnTo>
                    <a:pt x="265" y="724"/>
                  </a:lnTo>
                  <a:lnTo>
                    <a:pt x="260" y="716"/>
                  </a:lnTo>
                  <a:lnTo>
                    <a:pt x="257" y="708"/>
                  </a:lnTo>
                  <a:lnTo>
                    <a:pt x="253" y="700"/>
                  </a:lnTo>
                  <a:lnTo>
                    <a:pt x="250" y="693"/>
                  </a:lnTo>
                  <a:lnTo>
                    <a:pt x="240" y="695"/>
                  </a:lnTo>
                  <a:lnTo>
                    <a:pt x="230" y="697"/>
                  </a:lnTo>
                  <a:lnTo>
                    <a:pt x="220" y="701"/>
                  </a:lnTo>
                  <a:lnTo>
                    <a:pt x="211" y="703"/>
                  </a:lnTo>
                  <a:lnTo>
                    <a:pt x="202" y="706"/>
                  </a:lnTo>
                  <a:lnTo>
                    <a:pt x="191" y="708"/>
                  </a:lnTo>
                  <a:lnTo>
                    <a:pt x="182" y="709"/>
                  </a:lnTo>
                  <a:lnTo>
                    <a:pt x="172" y="71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31560" y="4159440"/>
              <a:ext cx="3240" cy="3024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20"/>
                  </a:lnTo>
                  <a:lnTo>
                    <a:pt x="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829400" y="4154760"/>
              <a:ext cx="1440" cy="187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0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505400" y="3387960"/>
              <a:ext cx="100080" cy="410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0"/>
                  </a:moveTo>
                  <a:lnTo>
                    <a:pt x="16" y="2"/>
                  </a:lnTo>
                  <a:lnTo>
                    <a:pt x="34" y="6"/>
                  </a:lnTo>
                  <a:lnTo>
                    <a:pt x="51" y="9"/>
                  </a:lnTo>
                  <a:lnTo>
                    <a:pt x="70" y="14"/>
                  </a:lnTo>
                  <a:lnTo>
                    <a:pt x="86" y="20"/>
                  </a:lnTo>
                  <a:lnTo>
                    <a:pt x="101" y="26"/>
                  </a:lnTo>
                  <a:lnTo>
                    <a:pt x="116" y="35"/>
                  </a:lnTo>
                  <a:lnTo>
                    <a:pt x="127" y="45"/>
                  </a:lnTo>
                  <a:lnTo>
                    <a:pt x="127" y="46"/>
                  </a:lnTo>
                  <a:lnTo>
                    <a:pt x="127" y="48"/>
                  </a:lnTo>
                  <a:lnTo>
                    <a:pt x="127" y="50"/>
                  </a:lnTo>
                  <a:lnTo>
                    <a:pt x="12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504680" y="3386160"/>
              <a:ext cx="128520" cy="58680"/>
            </a:xfrm>
            <a:custGeom>
              <a:avLst/>
              <a:gdLst/>
              <a:ahLst/>
              <a:rect l="l" t="t" r="r" b="b"/>
              <a:pathLst>
                <a:path w="162" h="74">
                  <a:moveTo>
                    <a:pt x="0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9" y="3"/>
                  </a:lnTo>
                  <a:lnTo>
                    <a:pt x="58" y="6"/>
                  </a:lnTo>
                  <a:lnTo>
                    <a:pt x="78" y="11"/>
                  </a:lnTo>
                  <a:lnTo>
                    <a:pt x="98" y="14"/>
                  </a:lnTo>
                  <a:lnTo>
                    <a:pt x="116" y="20"/>
                  </a:lnTo>
                  <a:lnTo>
                    <a:pt x="133" y="27"/>
                  </a:lnTo>
                  <a:lnTo>
                    <a:pt x="149" y="36"/>
                  </a:lnTo>
                  <a:lnTo>
                    <a:pt x="162" y="48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502160" y="3386160"/>
              <a:ext cx="144720" cy="76320"/>
            </a:xfrm>
            <a:custGeom>
              <a:avLst/>
              <a:gdLst/>
              <a:ahLst/>
              <a:rect l="l" t="t" r="r" b="b"/>
              <a:pathLst>
                <a:path w="183" h="95">
                  <a:moveTo>
                    <a:pt x="0" y="17"/>
                  </a:moveTo>
                  <a:lnTo>
                    <a:pt x="1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178" y="55"/>
                  </a:lnTo>
                  <a:lnTo>
                    <a:pt x="178" y="65"/>
                  </a:lnTo>
                  <a:lnTo>
                    <a:pt x="179" y="76"/>
                  </a:lnTo>
                  <a:lnTo>
                    <a:pt x="180" y="86"/>
                  </a:lnTo>
                  <a:lnTo>
                    <a:pt x="183" y="9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e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492800" y="3390840"/>
              <a:ext cx="179280" cy="90720"/>
            </a:xfrm>
            <a:custGeom>
              <a:avLst/>
              <a:gdLst/>
              <a:ahLst/>
              <a:rect l="l" t="t" r="r" b="b"/>
              <a:pathLst>
                <a:path w="226" h="114">
                  <a:moveTo>
                    <a:pt x="0" y="19"/>
                  </a:moveTo>
                  <a:lnTo>
                    <a:pt x="0" y="16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11" y="20"/>
                  </a:lnTo>
                  <a:lnTo>
                    <a:pt x="15" y="21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28" y="18"/>
                  </a:lnTo>
                  <a:lnTo>
                    <a:pt x="32" y="12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210" y="69"/>
                  </a:lnTo>
                  <a:lnTo>
                    <a:pt x="212" y="81"/>
                  </a:lnTo>
                  <a:lnTo>
                    <a:pt x="215" y="92"/>
                  </a:lnTo>
                  <a:lnTo>
                    <a:pt x="219" y="103"/>
                  </a:lnTo>
                  <a:lnTo>
                    <a:pt x="226" y="112"/>
                  </a:lnTo>
                  <a:lnTo>
                    <a:pt x="226" y="11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38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492800" y="3399120"/>
              <a:ext cx="187200" cy="95040"/>
            </a:xfrm>
            <a:custGeom>
              <a:avLst/>
              <a:gdLst/>
              <a:ahLst/>
              <a:rect l="l" t="t" r="r" b="b"/>
              <a:pathLst>
                <a:path w="236" h="118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8" y="8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39" y="3"/>
                  </a:lnTo>
                  <a:lnTo>
                    <a:pt x="42" y="0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9" y="89"/>
                  </a:lnTo>
                  <a:lnTo>
                    <a:pt x="232" y="94"/>
                  </a:lnTo>
                  <a:lnTo>
                    <a:pt x="236" y="100"/>
                  </a:lnTo>
                  <a:lnTo>
                    <a:pt x="236" y="104"/>
                  </a:lnTo>
                  <a:lnTo>
                    <a:pt x="235" y="108"/>
                  </a:lnTo>
                  <a:lnTo>
                    <a:pt x="234" y="114"/>
                  </a:lnTo>
                  <a:lnTo>
                    <a:pt x="234" y="1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8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492080" y="3405240"/>
              <a:ext cx="189000" cy="104760"/>
            </a:xfrm>
            <a:custGeom>
              <a:avLst/>
              <a:gdLst/>
              <a:ahLst/>
              <a:rect l="l" t="t" r="r" b="b"/>
              <a:pathLst>
                <a:path w="238" h="131">
                  <a:moveTo>
                    <a:pt x="0" y="33"/>
                  </a:moveTo>
                  <a:lnTo>
                    <a:pt x="1" y="27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7" y="8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38" y="95"/>
                  </a:lnTo>
                  <a:lnTo>
                    <a:pt x="237" y="102"/>
                  </a:lnTo>
                  <a:lnTo>
                    <a:pt x="236" y="111"/>
                  </a:lnTo>
                  <a:lnTo>
                    <a:pt x="235" y="121"/>
                  </a:lnTo>
                  <a:lnTo>
                    <a:pt x="234" y="1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e9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493520" y="3416400"/>
              <a:ext cx="189000" cy="106200"/>
            </a:xfrm>
            <a:custGeom>
              <a:avLst/>
              <a:gdLst/>
              <a:ahLst/>
              <a:rect l="l" t="t" r="r" b="b"/>
              <a:pathLst>
                <a:path w="239" h="132">
                  <a:moveTo>
                    <a:pt x="5" y="0"/>
                  </a:moveTo>
                  <a:lnTo>
                    <a:pt x="5" y="9"/>
                  </a:lnTo>
                  <a:lnTo>
                    <a:pt x="4" y="17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234" y="132"/>
                  </a:lnTo>
                  <a:lnTo>
                    <a:pt x="234" y="123"/>
                  </a:lnTo>
                  <a:lnTo>
                    <a:pt x="235" y="115"/>
                  </a:lnTo>
                  <a:lnTo>
                    <a:pt x="238" y="106"/>
                  </a:lnTo>
                  <a:lnTo>
                    <a:pt x="239" y="9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9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495320" y="3432240"/>
              <a:ext cx="191880" cy="104760"/>
            </a:xfrm>
            <a:custGeom>
              <a:avLst/>
              <a:gdLst/>
              <a:ahLst/>
              <a:rect l="l" t="t" r="r" b="b"/>
              <a:pathLst>
                <a:path w="241" h="134">
                  <a:moveTo>
                    <a:pt x="7" y="0"/>
                  </a:moveTo>
                  <a:lnTo>
                    <a:pt x="7" y="9"/>
                  </a:lnTo>
                  <a:lnTo>
                    <a:pt x="6" y="17"/>
                  </a:lnTo>
                  <a:lnTo>
                    <a:pt x="3" y="25"/>
                  </a:lnTo>
                  <a:lnTo>
                    <a:pt x="0" y="34"/>
                  </a:lnTo>
                  <a:lnTo>
                    <a:pt x="236" y="134"/>
                  </a:lnTo>
                  <a:lnTo>
                    <a:pt x="236" y="125"/>
                  </a:lnTo>
                  <a:lnTo>
                    <a:pt x="237" y="115"/>
                  </a:lnTo>
                  <a:lnTo>
                    <a:pt x="239" y="107"/>
                  </a:lnTo>
                  <a:lnTo>
                    <a:pt x="241" y="9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9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497480" y="3444840"/>
              <a:ext cx="193680" cy="108000"/>
            </a:xfrm>
            <a:custGeom>
              <a:avLst/>
              <a:gdLst/>
              <a:ahLst/>
              <a:rect l="l" t="t" r="r" b="b"/>
              <a:pathLst>
                <a:path w="243" h="135">
                  <a:moveTo>
                    <a:pt x="9" y="0"/>
                  </a:moveTo>
                  <a:lnTo>
                    <a:pt x="7" y="8"/>
                  </a:lnTo>
                  <a:lnTo>
                    <a:pt x="5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241" y="135"/>
                  </a:lnTo>
                  <a:lnTo>
                    <a:pt x="241" y="126"/>
                  </a:lnTo>
                  <a:lnTo>
                    <a:pt x="241" y="118"/>
                  </a:lnTo>
                  <a:lnTo>
                    <a:pt x="242" y="108"/>
                  </a:lnTo>
                  <a:lnTo>
                    <a:pt x="243" y="9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a9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498200" y="3457800"/>
              <a:ext cx="196920" cy="109440"/>
            </a:xfrm>
            <a:custGeom>
              <a:avLst/>
              <a:gdLst/>
              <a:ahLst/>
              <a:rect l="l" t="t" r="r" b="b"/>
              <a:pathLst>
                <a:path w="248" h="138">
                  <a:moveTo>
                    <a:pt x="12" y="0"/>
                  </a:moveTo>
                  <a:lnTo>
                    <a:pt x="10" y="8"/>
                  </a:lnTo>
                  <a:lnTo>
                    <a:pt x="7" y="16"/>
                  </a:lnTo>
                  <a:lnTo>
                    <a:pt x="4" y="24"/>
                  </a:lnTo>
                  <a:lnTo>
                    <a:pt x="0" y="31"/>
                  </a:lnTo>
                  <a:lnTo>
                    <a:pt x="248" y="138"/>
                  </a:lnTo>
                  <a:lnTo>
                    <a:pt x="248" y="129"/>
                  </a:lnTo>
                  <a:lnTo>
                    <a:pt x="248" y="119"/>
                  </a:lnTo>
                  <a:lnTo>
                    <a:pt x="248" y="110"/>
                  </a:lnTo>
                  <a:lnTo>
                    <a:pt x="248" y="10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f9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494240" y="3470400"/>
              <a:ext cx="209520" cy="114120"/>
            </a:xfrm>
            <a:custGeom>
              <a:avLst/>
              <a:gdLst/>
              <a:ahLst/>
              <a:rect l="l" t="t" r="r" b="b"/>
              <a:pathLst>
                <a:path w="264" h="144">
                  <a:moveTo>
                    <a:pt x="16" y="0"/>
                  </a:moveTo>
                  <a:lnTo>
                    <a:pt x="13" y="9"/>
                  </a:lnTo>
                  <a:lnTo>
                    <a:pt x="8" y="17"/>
                  </a:lnTo>
                  <a:lnTo>
                    <a:pt x="4" y="24"/>
                  </a:lnTo>
                  <a:lnTo>
                    <a:pt x="0" y="31"/>
                  </a:lnTo>
                  <a:lnTo>
                    <a:pt x="264" y="144"/>
                  </a:lnTo>
                  <a:lnTo>
                    <a:pt x="260" y="134"/>
                  </a:lnTo>
                  <a:lnTo>
                    <a:pt x="259" y="124"/>
                  </a:lnTo>
                  <a:lnTo>
                    <a:pt x="257" y="114"/>
                  </a:lnTo>
                  <a:lnTo>
                    <a:pt x="257" y="10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29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477680" y="3483000"/>
              <a:ext cx="235080" cy="122400"/>
            </a:xfrm>
            <a:custGeom>
              <a:avLst/>
              <a:gdLst/>
              <a:ahLst/>
              <a:rect l="l" t="t" r="r" b="b"/>
              <a:pathLst>
                <a:path w="297" h="154">
                  <a:moveTo>
                    <a:pt x="22" y="0"/>
                  </a:moveTo>
                  <a:lnTo>
                    <a:pt x="17" y="8"/>
                  </a:lnTo>
                  <a:lnTo>
                    <a:pt x="12" y="16"/>
                  </a:lnTo>
                  <a:lnTo>
                    <a:pt x="6" y="24"/>
                  </a:lnTo>
                  <a:lnTo>
                    <a:pt x="0" y="31"/>
                  </a:lnTo>
                  <a:lnTo>
                    <a:pt x="294" y="154"/>
                  </a:lnTo>
                  <a:lnTo>
                    <a:pt x="294" y="153"/>
                  </a:lnTo>
                  <a:lnTo>
                    <a:pt x="294" y="151"/>
                  </a:lnTo>
                  <a:lnTo>
                    <a:pt x="295" y="149"/>
                  </a:lnTo>
                  <a:lnTo>
                    <a:pt x="297" y="149"/>
                  </a:lnTo>
                  <a:lnTo>
                    <a:pt x="286" y="141"/>
                  </a:lnTo>
                  <a:lnTo>
                    <a:pt x="279" y="131"/>
                  </a:lnTo>
                  <a:lnTo>
                    <a:pt x="273" y="119"/>
                  </a:lnTo>
                  <a:lnTo>
                    <a:pt x="270" y="10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7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477680" y="3495960"/>
              <a:ext cx="244440" cy="125280"/>
            </a:xfrm>
            <a:custGeom>
              <a:avLst/>
              <a:gdLst/>
              <a:ahLst/>
              <a:rect l="l" t="t" r="r" b="b"/>
              <a:pathLst>
                <a:path w="308" h="158">
                  <a:moveTo>
                    <a:pt x="24" y="0"/>
                  </a:moveTo>
                  <a:lnTo>
                    <a:pt x="18" y="8"/>
                  </a:lnTo>
                  <a:lnTo>
                    <a:pt x="13" y="15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308" y="158"/>
                  </a:lnTo>
                  <a:lnTo>
                    <a:pt x="305" y="158"/>
                  </a:lnTo>
                  <a:lnTo>
                    <a:pt x="304" y="157"/>
                  </a:lnTo>
                  <a:lnTo>
                    <a:pt x="302" y="154"/>
                  </a:lnTo>
                  <a:lnTo>
                    <a:pt x="299" y="153"/>
                  </a:lnTo>
                  <a:lnTo>
                    <a:pt x="302" y="148"/>
                  </a:lnTo>
                  <a:lnTo>
                    <a:pt x="304" y="143"/>
                  </a:lnTo>
                  <a:lnTo>
                    <a:pt x="305" y="138"/>
                  </a:lnTo>
                  <a:lnTo>
                    <a:pt x="308" y="133"/>
                  </a:lnTo>
                  <a:lnTo>
                    <a:pt x="301" y="130"/>
                  </a:lnTo>
                  <a:lnTo>
                    <a:pt x="296" y="124"/>
                  </a:lnTo>
                  <a:lnTo>
                    <a:pt x="291" y="120"/>
                  </a:lnTo>
                  <a:lnTo>
                    <a:pt x="288" y="1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471920" y="3506760"/>
              <a:ext cx="260640" cy="130320"/>
            </a:xfrm>
            <a:custGeom>
              <a:avLst/>
              <a:gdLst/>
              <a:ahLst/>
              <a:rect l="l" t="t" r="r" b="b"/>
              <a:pathLst>
                <a:path w="329" h="163">
                  <a:moveTo>
                    <a:pt x="23" y="0"/>
                  </a:moveTo>
                  <a:lnTo>
                    <a:pt x="18" y="7"/>
                  </a:lnTo>
                  <a:lnTo>
                    <a:pt x="13" y="14"/>
                  </a:lnTo>
                  <a:lnTo>
                    <a:pt x="7" y="21"/>
                  </a:lnTo>
                  <a:lnTo>
                    <a:pt x="0" y="26"/>
                  </a:lnTo>
                  <a:lnTo>
                    <a:pt x="324" y="163"/>
                  </a:lnTo>
                  <a:lnTo>
                    <a:pt x="324" y="163"/>
                  </a:lnTo>
                  <a:lnTo>
                    <a:pt x="325" y="162"/>
                  </a:lnTo>
                  <a:lnTo>
                    <a:pt x="328" y="161"/>
                  </a:lnTo>
                  <a:lnTo>
                    <a:pt x="329" y="161"/>
                  </a:lnTo>
                  <a:lnTo>
                    <a:pt x="329" y="158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0"/>
                  </a:lnTo>
                  <a:lnTo>
                    <a:pt x="325" y="146"/>
                  </a:lnTo>
                  <a:lnTo>
                    <a:pt x="321" y="144"/>
                  </a:lnTo>
                  <a:lnTo>
                    <a:pt x="316" y="142"/>
                  </a:lnTo>
                  <a:lnTo>
                    <a:pt x="311" y="138"/>
                  </a:lnTo>
                  <a:lnTo>
                    <a:pt x="313" y="135"/>
                  </a:lnTo>
                  <a:lnTo>
                    <a:pt x="314" y="130"/>
                  </a:lnTo>
                  <a:lnTo>
                    <a:pt x="315" y="127"/>
                  </a:lnTo>
                  <a:lnTo>
                    <a:pt x="317" y="1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1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471200" y="3517920"/>
              <a:ext cx="271800" cy="127080"/>
            </a:xfrm>
            <a:custGeom>
              <a:avLst/>
              <a:gdLst/>
              <a:ahLst/>
              <a:rect l="l" t="t" r="r" b="b"/>
              <a:pathLst>
                <a:path w="344" h="160">
                  <a:moveTo>
                    <a:pt x="123" y="76"/>
                  </a:moveTo>
                  <a:lnTo>
                    <a:pt x="123" y="73"/>
                  </a:lnTo>
                  <a:lnTo>
                    <a:pt x="124" y="72"/>
                  </a:lnTo>
                  <a:lnTo>
                    <a:pt x="125" y="70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8" y="69"/>
                  </a:lnTo>
                  <a:lnTo>
                    <a:pt x="131" y="68"/>
                  </a:lnTo>
                  <a:lnTo>
                    <a:pt x="132" y="66"/>
                  </a:lnTo>
                  <a:lnTo>
                    <a:pt x="128" y="68"/>
                  </a:lnTo>
                  <a:lnTo>
                    <a:pt x="126" y="70"/>
                  </a:lnTo>
                  <a:lnTo>
                    <a:pt x="123" y="71"/>
                  </a:lnTo>
                  <a:lnTo>
                    <a:pt x="119" y="71"/>
                  </a:lnTo>
                  <a:lnTo>
                    <a:pt x="117" y="73"/>
                  </a:lnTo>
                  <a:lnTo>
                    <a:pt x="0" y="24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5"/>
                  </a:lnTo>
                  <a:lnTo>
                    <a:pt x="27" y="0"/>
                  </a:lnTo>
                  <a:lnTo>
                    <a:pt x="335" y="129"/>
                  </a:lnTo>
                  <a:lnTo>
                    <a:pt x="337" y="130"/>
                  </a:lnTo>
                  <a:lnTo>
                    <a:pt x="339" y="132"/>
                  </a:lnTo>
                  <a:lnTo>
                    <a:pt x="341" y="133"/>
                  </a:lnTo>
                  <a:lnTo>
                    <a:pt x="344" y="136"/>
                  </a:lnTo>
                  <a:lnTo>
                    <a:pt x="344" y="139"/>
                  </a:lnTo>
                  <a:lnTo>
                    <a:pt x="344" y="141"/>
                  </a:lnTo>
                  <a:lnTo>
                    <a:pt x="344" y="144"/>
                  </a:lnTo>
                  <a:lnTo>
                    <a:pt x="344" y="147"/>
                  </a:lnTo>
                  <a:lnTo>
                    <a:pt x="335" y="151"/>
                  </a:lnTo>
                  <a:lnTo>
                    <a:pt x="328" y="153"/>
                  </a:lnTo>
                  <a:lnTo>
                    <a:pt x="322" y="155"/>
                  </a:lnTo>
                  <a:lnTo>
                    <a:pt x="317" y="160"/>
                  </a:lnTo>
                  <a:lnTo>
                    <a:pt x="123" y="76"/>
                  </a:lnTo>
                  <a:close/>
                </a:path>
              </a:pathLst>
            </a:custGeom>
            <a:solidFill>
              <a:srgbClr val="c4a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474440" y="3529080"/>
              <a:ext cx="281160" cy="125640"/>
            </a:xfrm>
            <a:custGeom>
              <a:avLst/>
              <a:gdLst/>
              <a:ahLst/>
              <a:rect l="l" t="t" r="r" b="b"/>
              <a:pathLst>
                <a:path w="355" h="159">
                  <a:moveTo>
                    <a:pt x="133" y="81"/>
                  </a:moveTo>
                  <a:lnTo>
                    <a:pt x="135" y="76"/>
                  </a:lnTo>
                  <a:lnTo>
                    <a:pt x="137" y="71"/>
                  </a:lnTo>
                  <a:lnTo>
                    <a:pt x="139" y="64"/>
                  </a:lnTo>
                  <a:lnTo>
                    <a:pt x="141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7" y="56"/>
                  </a:lnTo>
                  <a:lnTo>
                    <a:pt x="148" y="54"/>
                  </a:lnTo>
                  <a:lnTo>
                    <a:pt x="144" y="56"/>
                  </a:lnTo>
                  <a:lnTo>
                    <a:pt x="142" y="58"/>
                  </a:lnTo>
                  <a:lnTo>
                    <a:pt x="139" y="59"/>
                  </a:lnTo>
                  <a:lnTo>
                    <a:pt x="135" y="59"/>
                  </a:lnTo>
                  <a:lnTo>
                    <a:pt x="132" y="64"/>
                  </a:lnTo>
                  <a:lnTo>
                    <a:pt x="129" y="68"/>
                  </a:lnTo>
                  <a:lnTo>
                    <a:pt x="128" y="74"/>
                  </a:lnTo>
                  <a:lnTo>
                    <a:pt x="126" y="79"/>
                  </a:lnTo>
                  <a:lnTo>
                    <a:pt x="0" y="26"/>
                  </a:lnTo>
                  <a:lnTo>
                    <a:pt x="8" y="19"/>
                  </a:lnTo>
                  <a:lnTo>
                    <a:pt x="16" y="13"/>
                  </a:lnTo>
                  <a:lnTo>
                    <a:pt x="23" y="7"/>
                  </a:lnTo>
                  <a:lnTo>
                    <a:pt x="31" y="0"/>
                  </a:lnTo>
                  <a:lnTo>
                    <a:pt x="355" y="137"/>
                  </a:lnTo>
                  <a:lnTo>
                    <a:pt x="346" y="141"/>
                  </a:lnTo>
                  <a:lnTo>
                    <a:pt x="339" y="144"/>
                  </a:lnTo>
                  <a:lnTo>
                    <a:pt x="333" y="150"/>
                  </a:lnTo>
                  <a:lnTo>
                    <a:pt x="329" y="159"/>
                  </a:lnTo>
                  <a:lnTo>
                    <a:pt x="324" y="159"/>
                  </a:lnTo>
                  <a:lnTo>
                    <a:pt x="321" y="159"/>
                  </a:lnTo>
                  <a:lnTo>
                    <a:pt x="318" y="158"/>
                  </a:lnTo>
                  <a:lnTo>
                    <a:pt x="315" y="157"/>
                  </a:lnTo>
                  <a:lnTo>
                    <a:pt x="133" y="81"/>
                  </a:lnTo>
                  <a:close/>
                </a:path>
              </a:pathLst>
            </a:custGeom>
            <a:solidFill>
              <a:srgbClr val="c9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492080" y="3578400"/>
              <a:ext cx="160200" cy="76320"/>
            </a:xfrm>
            <a:custGeom>
              <a:avLst/>
              <a:gdLst/>
              <a:ahLst/>
              <a:rect l="l" t="t" r="r" b="b"/>
              <a:pathLst>
                <a:path w="203" h="95">
                  <a:moveTo>
                    <a:pt x="0" y="24"/>
                  </a:moveTo>
                  <a:lnTo>
                    <a:pt x="0" y="35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32" y="80"/>
                  </a:lnTo>
                  <a:lnTo>
                    <a:pt x="140" y="81"/>
                  </a:lnTo>
                  <a:lnTo>
                    <a:pt x="148" y="85"/>
                  </a:lnTo>
                  <a:lnTo>
                    <a:pt x="156" y="88"/>
                  </a:lnTo>
                  <a:lnTo>
                    <a:pt x="168" y="92"/>
                  </a:lnTo>
                  <a:lnTo>
                    <a:pt x="181" y="94"/>
                  </a:lnTo>
                  <a:lnTo>
                    <a:pt x="199" y="95"/>
                  </a:lnTo>
                  <a:lnTo>
                    <a:pt x="200" y="92"/>
                  </a:lnTo>
                  <a:lnTo>
                    <a:pt x="201" y="88"/>
                  </a:lnTo>
                  <a:lnTo>
                    <a:pt x="202" y="86"/>
                  </a:lnTo>
                  <a:lnTo>
                    <a:pt x="203" y="84"/>
                  </a:lnTo>
                  <a:lnTo>
                    <a:pt x="9" y="0"/>
                  </a:lnTo>
                  <a:lnTo>
                    <a:pt x="6" y="7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651560" y="3576600"/>
              <a:ext cx="144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653000" y="3537000"/>
              <a:ext cx="115920" cy="6372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145" y="56"/>
                  </a:moveTo>
                  <a:lnTo>
                    <a:pt x="145" y="49"/>
                  </a:lnTo>
                  <a:lnTo>
                    <a:pt x="31" y="0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79" y="60"/>
                  </a:lnTo>
                  <a:lnTo>
                    <a:pt x="82" y="57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4"/>
                  </a:lnTo>
                  <a:lnTo>
                    <a:pt x="90" y="56"/>
                  </a:lnTo>
                  <a:lnTo>
                    <a:pt x="88" y="57"/>
                  </a:lnTo>
                  <a:lnTo>
                    <a:pt x="87" y="60"/>
                  </a:lnTo>
                  <a:lnTo>
                    <a:pt x="84" y="62"/>
                  </a:lnTo>
                  <a:lnTo>
                    <a:pt x="125" y="78"/>
                  </a:lnTo>
                  <a:lnTo>
                    <a:pt x="127" y="75"/>
                  </a:lnTo>
                  <a:lnTo>
                    <a:pt x="128" y="71"/>
                  </a:lnTo>
                  <a:lnTo>
                    <a:pt x="130" y="69"/>
                  </a:lnTo>
                  <a:lnTo>
                    <a:pt x="132" y="67"/>
                  </a:lnTo>
                  <a:lnTo>
                    <a:pt x="133" y="69"/>
                  </a:lnTo>
                  <a:lnTo>
                    <a:pt x="135" y="71"/>
                  </a:lnTo>
                  <a:lnTo>
                    <a:pt x="136" y="74"/>
                  </a:lnTo>
                  <a:lnTo>
                    <a:pt x="136" y="76"/>
                  </a:lnTo>
                  <a:lnTo>
                    <a:pt x="139" y="71"/>
                  </a:lnTo>
                  <a:lnTo>
                    <a:pt x="141" y="67"/>
                  </a:lnTo>
                  <a:lnTo>
                    <a:pt x="143" y="62"/>
                  </a:lnTo>
                  <a:lnTo>
                    <a:pt x="145" y="56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652280" y="3597480"/>
              <a:ext cx="46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506120" y="3592800"/>
              <a:ext cx="149400" cy="60120"/>
            </a:xfrm>
            <a:custGeom>
              <a:avLst/>
              <a:gdLst/>
              <a:ahLst/>
              <a:rect l="l" t="t" r="r" b="b"/>
              <a:pathLst>
                <a:path w="188" h="76">
                  <a:moveTo>
                    <a:pt x="6" y="0"/>
                  </a:moveTo>
                  <a:lnTo>
                    <a:pt x="1" y="1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97" y="76"/>
                  </a:lnTo>
                  <a:lnTo>
                    <a:pt x="112" y="68"/>
                  </a:lnTo>
                  <a:lnTo>
                    <a:pt x="123" y="63"/>
                  </a:lnTo>
                  <a:lnTo>
                    <a:pt x="134" y="62"/>
                  </a:lnTo>
                  <a:lnTo>
                    <a:pt x="142" y="64"/>
                  </a:lnTo>
                  <a:lnTo>
                    <a:pt x="151" y="68"/>
                  </a:lnTo>
                  <a:lnTo>
                    <a:pt x="160" y="71"/>
                  </a:lnTo>
                  <a:lnTo>
                    <a:pt x="173" y="74"/>
                  </a:lnTo>
                  <a:lnTo>
                    <a:pt x="188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657680" y="3548160"/>
              <a:ext cx="123840" cy="6336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57" y="53"/>
                  </a:moveTo>
                  <a:lnTo>
                    <a:pt x="156" y="55"/>
                  </a:lnTo>
                  <a:lnTo>
                    <a:pt x="155" y="57"/>
                  </a:lnTo>
                  <a:lnTo>
                    <a:pt x="153" y="60"/>
                  </a:lnTo>
                  <a:lnTo>
                    <a:pt x="152" y="62"/>
                  </a:lnTo>
                  <a:lnTo>
                    <a:pt x="152" y="60"/>
                  </a:lnTo>
                  <a:lnTo>
                    <a:pt x="151" y="57"/>
                  </a:lnTo>
                  <a:lnTo>
                    <a:pt x="149" y="55"/>
                  </a:lnTo>
                  <a:lnTo>
                    <a:pt x="148" y="53"/>
                  </a:lnTo>
                  <a:lnTo>
                    <a:pt x="144" y="58"/>
                  </a:lnTo>
                  <a:lnTo>
                    <a:pt x="140" y="64"/>
                  </a:lnTo>
                  <a:lnTo>
                    <a:pt x="134" y="71"/>
                  </a:lnTo>
                  <a:lnTo>
                    <a:pt x="128" y="79"/>
                  </a:lnTo>
                  <a:lnTo>
                    <a:pt x="88" y="60"/>
                  </a:lnTo>
                  <a:lnTo>
                    <a:pt x="92" y="56"/>
                  </a:lnTo>
                  <a:lnTo>
                    <a:pt x="97" y="51"/>
                  </a:lnTo>
                  <a:lnTo>
                    <a:pt x="102" y="46"/>
                  </a:lnTo>
                  <a:lnTo>
                    <a:pt x="107" y="40"/>
                  </a:lnTo>
                  <a:lnTo>
                    <a:pt x="98" y="45"/>
                  </a:lnTo>
                  <a:lnTo>
                    <a:pt x="91" y="48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0" y="24"/>
                  </a:lnTo>
                  <a:lnTo>
                    <a:pt x="8" y="17"/>
                  </a:lnTo>
                  <a:lnTo>
                    <a:pt x="16" y="11"/>
                  </a:lnTo>
                  <a:lnTo>
                    <a:pt x="23" y="5"/>
                  </a:lnTo>
                  <a:lnTo>
                    <a:pt x="31" y="0"/>
                  </a:lnTo>
                  <a:lnTo>
                    <a:pt x="157" y="53"/>
                  </a:lnTo>
                  <a:close/>
                </a:path>
              </a:pathLst>
            </a:custGeom>
            <a:solidFill>
              <a:srgbClr val="d1a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564080" y="3605400"/>
              <a:ext cx="93600" cy="6012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7" y="46"/>
                  </a:moveTo>
                  <a:lnTo>
                    <a:pt x="19" y="44"/>
                  </a:lnTo>
                  <a:lnTo>
                    <a:pt x="9" y="30"/>
                  </a:lnTo>
                  <a:lnTo>
                    <a:pt x="3" y="19"/>
                  </a:lnTo>
                  <a:lnTo>
                    <a:pt x="1" y="9"/>
                  </a:lnTo>
                  <a:lnTo>
                    <a:pt x="0" y="0"/>
                  </a:lnTo>
                  <a:lnTo>
                    <a:pt x="117" y="51"/>
                  </a:lnTo>
                  <a:lnTo>
                    <a:pt x="112" y="53"/>
                  </a:lnTo>
                  <a:lnTo>
                    <a:pt x="106" y="57"/>
                  </a:lnTo>
                  <a:lnTo>
                    <a:pt x="99" y="61"/>
                  </a:lnTo>
                  <a:lnTo>
                    <a:pt x="91" y="67"/>
                  </a:lnTo>
                  <a:lnTo>
                    <a:pt x="91" y="69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3" y="7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669920" y="3587760"/>
              <a:ext cx="42840" cy="349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0" y="14"/>
                  </a:moveTo>
                  <a:lnTo>
                    <a:pt x="0" y="31"/>
                  </a:lnTo>
                  <a:lnTo>
                    <a:pt x="34" y="45"/>
                  </a:lnTo>
                  <a:lnTo>
                    <a:pt x="40" y="38"/>
                  </a:lnTo>
                  <a:lnTo>
                    <a:pt x="45" y="30"/>
                  </a:lnTo>
                  <a:lnTo>
                    <a:pt x="50" y="23"/>
                  </a:lnTo>
                  <a:lnTo>
                    <a:pt x="56" y="16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707000" y="3579840"/>
              <a:ext cx="6480" cy="97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713480" y="3559320"/>
              <a:ext cx="79200" cy="4428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100" y="38"/>
                  </a:moveTo>
                  <a:lnTo>
                    <a:pt x="100" y="28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5" y="11"/>
                  </a:lnTo>
                  <a:lnTo>
                    <a:pt x="8" y="16"/>
                  </a:lnTo>
                  <a:lnTo>
                    <a:pt x="0" y="23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5" y="29"/>
                  </a:lnTo>
                  <a:lnTo>
                    <a:pt x="40" y="28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40" y="37"/>
                  </a:lnTo>
                  <a:lnTo>
                    <a:pt x="38" y="41"/>
                  </a:lnTo>
                  <a:lnTo>
                    <a:pt x="80" y="57"/>
                  </a:lnTo>
                  <a:lnTo>
                    <a:pt x="85" y="52"/>
                  </a:lnTo>
                  <a:lnTo>
                    <a:pt x="90" y="46"/>
                  </a:lnTo>
                  <a:lnTo>
                    <a:pt x="96" y="42"/>
                  </a:lnTo>
                  <a:lnTo>
                    <a:pt x="100" y="38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713480" y="3597480"/>
              <a:ext cx="7920" cy="140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lnTo>
                    <a:pt x="9" y="0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579200" y="3622680"/>
              <a:ext cx="73080" cy="5580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27" y="47"/>
                  </a:moveTo>
                  <a:lnTo>
                    <a:pt x="23" y="45"/>
                  </a:lnTo>
                  <a:lnTo>
                    <a:pt x="20" y="43"/>
                  </a:lnTo>
                  <a:lnTo>
                    <a:pt x="17" y="39"/>
                  </a:lnTo>
                  <a:lnTo>
                    <a:pt x="13" y="36"/>
                  </a:lnTo>
                  <a:lnTo>
                    <a:pt x="13" y="32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1" y="15"/>
                  </a:lnTo>
                  <a:lnTo>
                    <a:pt x="6" y="9"/>
                  </a:lnTo>
                  <a:lnTo>
                    <a:pt x="3" y="3"/>
                  </a:lnTo>
                  <a:lnTo>
                    <a:pt x="0" y="0"/>
                  </a:lnTo>
                  <a:lnTo>
                    <a:pt x="94" y="38"/>
                  </a:lnTo>
                  <a:lnTo>
                    <a:pt x="93" y="39"/>
                  </a:lnTo>
                  <a:lnTo>
                    <a:pt x="90" y="41"/>
                  </a:lnTo>
                  <a:lnTo>
                    <a:pt x="89" y="43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90" y="55"/>
                  </a:lnTo>
                  <a:lnTo>
                    <a:pt x="93" y="61"/>
                  </a:lnTo>
                  <a:lnTo>
                    <a:pt x="94" y="67"/>
                  </a:lnTo>
                  <a:lnTo>
                    <a:pt x="90" y="67"/>
                  </a:lnTo>
                  <a:lnTo>
                    <a:pt x="88" y="68"/>
                  </a:lnTo>
                  <a:lnTo>
                    <a:pt x="86" y="69"/>
                  </a:lnTo>
                  <a:lnTo>
                    <a:pt x="82" y="69"/>
                  </a:lnTo>
                  <a:lnTo>
                    <a:pt x="83" y="66"/>
                  </a:lnTo>
                  <a:lnTo>
                    <a:pt x="85" y="63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0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6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4"/>
                  </a:lnTo>
                  <a:lnTo>
                    <a:pt x="47" y="43"/>
                  </a:lnTo>
                  <a:lnTo>
                    <a:pt x="44" y="46"/>
                  </a:lnTo>
                  <a:lnTo>
                    <a:pt x="43" y="48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679280" y="3595680"/>
              <a:ext cx="42840" cy="381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19"/>
                  </a:moveTo>
                  <a:lnTo>
                    <a:pt x="0" y="33"/>
                  </a:lnTo>
                  <a:lnTo>
                    <a:pt x="33" y="47"/>
                  </a:lnTo>
                  <a:lnTo>
                    <a:pt x="39" y="40"/>
                  </a:lnTo>
                  <a:lnTo>
                    <a:pt x="44" y="33"/>
                  </a:lnTo>
                  <a:lnTo>
                    <a:pt x="49" y="26"/>
                  </a:lnTo>
                  <a:lnTo>
                    <a:pt x="54" y="19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7" y="9"/>
                  </a:lnTo>
                  <a:lnTo>
                    <a:pt x="3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718880" y="3592800"/>
              <a:ext cx="3240" cy="2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722840" y="3567240"/>
              <a:ext cx="82800" cy="442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5" y="36"/>
                  </a:moveTo>
                  <a:lnTo>
                    <a:pt x="105" y="31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6" y="11"/>
                  </a:lnTo>
                  <a:lnTo>
                    <a:pt x="8" y="18"/>
                  </a:lnTo>
                  <a:lnTo>
                    <a:pt x="0" y="24"/>
                  </a:lnTo>
                  <a:lnTo>
                    <a:pt x="29" y="36"/>
                  </a:lnTo>
                  <a:lnTo>
                    <a:pt x="36" y="30"/>
                  </a:lnTo>
                  <a:lnTo>
                    <a:pt x="44" y="24"/>
                  </a:lnTo>
                  <a:lnTo>
                    <a:pt x="52" y="18"/>
                  </a:lnTo>
                  <a:lnTo>
                    <a:pt x="62" y="14"/>
                  </a:lnTo>
                  <a:lnTo>
                    <a:pt x="60" y="22"/>
                  </a:lnTo>
                  <a:lnTo>
                    <a:pt x="55" y="29"/>
                  </a:lnTo>
                  <a:lnTo>
                    <a:pt x="51" y="34"/>
                  </a:lnTo>
                  <a:lnTo>
                    <a:pt x="45" y="40"/>
                  </a:lnTo>
                  <a:lnTo>
                    <a:pt x="51" y="42"/>
                  </a:lnTo>
                  <a:lnTo>
                    <a:pt x="56" y="44"/>
                  </a:lnTo>
                  <a:lnTo>
                    <a:pt x="61" y="46"/>
                  </a:lnTo>
                  <a:lnTo>
                    <a:pt x="67" y="47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1" y="53"/>
                  </a:lnTo>
                  <a:lnTo>
                    <a:pt x="85" y="55"/>
                  </a:lnTo>
                  <a:lnTo>
                    <a:pt x="91" y="49"/>
                  </a:lnTo>
                  <a:lnTo>
                    <a:pt x="97" y="44"/>
                  </a:lnTo>
                  <a:lnTo>
                    <a:pt x="101" y="39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722120" y="3611520"/>
              <a:ext cx="1800" cy="111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579200" y="3641760"/>
              <a:ext cx="63720" cy="3672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16" y="36"/>
                  </a:moveTo>
                  <a:lnTo>
                    <a:pt x="16" y="34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9" y="26"/>
                  </a:lnTo>
                  <a:lnTo>
                    <a:pt x="14" y="22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76" y="30"/>
                  </a:lnTo>
                  <a:lnTo>
                    <a:pt x="77" y="35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81" y="43"/>
                  </a:lnTo>
                  <a:lnTo>
                    <a:pt x="77" y="43"/>
                  </a:lnTo>
                  <a:lnTo>
                    <a:pt x="75" y="44"/>
                  </a:lnTo>
                  <a:lnTo>
                    <a:pt x="73" y="45"/>
                  </a:lnTo>
                  <a:lnTo>
                    <a:pt x="69" y="45"/>
                  </a:lnTo>
                  <a:lnTo>
                    <a:pt x="70" y="42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2" y="36"/>
                  </a:lnTo>
                  <a:lnTo>
                    <a:pt x="67" y="32"/>
                  </a:lnTo>
                  <a:lnTo>
                    <a:pt x="62" y="30"/>
                  </a:lnTo>
                  <a:lnTo>
                    <a:pt x="58" y="28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4" y="21"/>
                  </a:lnTo>
                  <a:lnTo>
                    <a:pt x="38" y="20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687920" y="3606840"/>
              <a:ext cx="36720" cy="349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20"/>
                  </a:moveTo>
                  <a:lnTo>
                    <a:pt x="42" y="26"/>
                  </a:lnTo>
                  <a:lnTo>
                    <a:pt x="38" y="30"/>
                  </a:lnTo>
                  <a:lnTo>
                    <a:pt x="34" y="37"/>
                  </a:lnTo>
                  <a:lnTo>
                    <a:pt x="31" y="44"/>
                  </a:lnTo>
                  <a:lnTo>
                    <a:pt x="19" y="40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6"/>
                  </a:lnTo>
                  <a:lnTo>
                    <a:pt x="4" y="0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730040" y="3591000"/>
              <a:ext cx="39960" cy="2052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51" y="16"/>
                  </a:moveTo>
                  <a:lnTo>
                    <a:pt x="48" y="18"/>
                  </a:lnTo>
                  <a:lnTo>
                    <a:pt x="46" y="20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6" y="24"/>
                  </a:lnTo>
                  <a:lnTo>
                    <a:pt x="31" y="22"/>
                  </a:lnTo>
                  <a:lnTo>
                    <a:pt x="26" y="20"/>
                  </a:lnTo>
                  <a:lnTo>
                    <a:pt x="22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6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3"/>
                  </a:lnTo>
                  <a:lnTo>
                    <a:pt x="9" y="0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771440" y="3576600"/>
              <a:ext cx="42840" cy="30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27" y="38"/>
                  </a:moveTo>
                  <a:lnTo>
                    <a:pt x="33" y="31"/>
                  </a:lnTo>
                  <a:lnTo>
                    <a:pt x="39" y="26"/>
                  </a:lnTo>
                  <a:lnTo>
                    <a:pt x="46" y="20"/>
                  </a:lnTo>
                  <a:lnTo>
                    <a:pt x="54" y="13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27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24560" y="3660840"/>
              <a:ext cx="792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3"/>
                  </a:moveTo>
                  <a:lnTo>
                    <a:pt x="2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95840" y="362124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5" y="16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17" y="20"/>
                  </a:lnTo>
                  <a:lnTo>
                    <a:pt x="6" y="13"/>
                  </a:lnTo>
                  <a:lnTo>
                    <a:pt x="2" y="7"/>
                  </a:lnTo>
                  <a:lnTo>
                    <a:pt x="0" y="0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782600" y="3587760"/>
              <a:ext cx="44280" cy="30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6" y="38"/>
                  </a:moveTo>
                  <a:lnTo>
                    <a:pt x="34" y="32"/>
                  </a:lnTo>
                  <a:lnTo>
                    <a:pt x="41" y="25"/>
                  </a:lnTo>
                  <a:lnTo>
                    <a:pt x="48" y="18"/>
                  </a:lnTo>
                  <a:lnTo>
                    <a:pt x="55" y="12"/>
                  </a:lnTo>
                  <a:lnTo>
                    <a:pt x="26" y="0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6" y="18"/>
                  </a:lnTo>
                  <a:lnTo>
                    <a:pt x="0" y="25"/>
                  </a:lnTo>
                  <a:lnTo>
                    <a:pt x="26" y="38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791960" y="3597480"/>
              <a:ext cx="4284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9" y="31"/>
                  </a:moveTo>
                  <a:lnTo>
                    <a:pt x="17" y="30"/>
                  </a:lnTo>
                  <a:lnTo>
                    <a:pt x="25" y="29"/>
                  </a:lnTo>
                  <a:lnTo>
                    <a:pt x="31" y="26"/>
                  </a:lnTo>
                  <a:lnTo>
                    <a:pt x="37" y="24"/>
                  </a:lnTo>
                  <a:lnTo>
                    <a:pt x="43" y="22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4" y="11"/>
                  </a:lnTo>
                  <a:lnTo>
                    <a:pt x="27" y="0"/>
                  </a:lnTo>
                  <a:lnTo>
                    <a:pt x="18" y="6"/>
                  </a:lnTo>
                  <a:lnTo>
                    <a:pt x="12" y="13"/>
                  </a:lnTo>
                  <a:lnTo>
                    <a:pt x="6" y="19"/>
                  </a:lnTo>
                  <a:lnTo>
                    <a:pt x="0" y="26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e8b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804920" y="3606840"/>
              <a:ext cx="34920" cy="176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13"/>
                  </a:moveTo>
                  <a:lnTo>
                    <a:pt x="40" y="14"/>
                  </a:lnTo>
                  <a:lnTo>
                    <a:pt x="35" y="17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7" y="21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8" y="12"/>
                  </a:lnTo>
                  <a:lnTo>
                    <a:pt x="13" y="6"/>
                  </a:lnTo>
                  <a:lnTo>
                    <a:pt x="17" y="0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ed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828680" y="3619440"/>
              <a:ext cx="11160" cy="5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5"/>
                  </a:moveTo>
                  <a:lnTo>
                    <a:pt x="11" y="5"/>
                  </a:lnTo>
                  <a:lnTo>
                    <a:pt x="7" y="5"/>
                  </a:lnTo>
                  <a:lnTo>
                    <a:pt x="4" y="6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f2c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857840" y="3606840"/>
              <a:ext cx="47520" cy="1584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0" y="0"/>
                  </a:moveTo>
                  <a:lnTo>
                    <a:pt x="35" y="15"/>
                  </a:lnTo>
                  <a:lnTo>
                    <a:pt x="50" y="20"/>
                  </a:lnTo>
                  <a:lnTo>
                    <a:pt x="6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851360" y="3600720"/>
              <a:ext cx="61920" cy="18720"/>
            </a:xfrm>
            <a:custGeom>
              <a:avLst/>
              <a:gdLst/>
              <a:ahLst/>
              <a:rect l="l" t="t" r="r" b="b"/>
              <a:pathLst>
                <a:path w="78" h="24">
                  <a:moveTo>
                    <a:pt x="43" y="22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78" y="12"/>
                  </a:lnTo>
                  <a:lnTo>
                    <a:pt x="67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e5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848480" y="3595680"/>
              <a:ext cx="64800" cy="19080"/>
            </a:xfrm>
            <a:custGeom>
              <a:avLst/>
              <a:gdLst/>
              <a:ahLst/>
              <a:rect l="l" t="t" r="r" b="b"/>
              <a:pathLst>
                <a:path w="83" h="24">
                  <a:moveTo>
                    <a:pt x="12" y="13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83" y="11"/>
                  </a:lnTo>
                  <a:lnTo>
                    <a:pt x="72" y="24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e8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843440" y="3591000"/>
              <a:ext cx="68400" cy="1764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7" y="0"/>
                  </a:moveTo>
                  <a:lnTo>
                    <a:pt x="0" y="11"/>
                  </a:lnTo>
                  <a:lnTo>
                    <a:pt x="76" y="23"/>
                  </a:lnTo>
                  <a:lnTo>
                    <a:pt x="87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8e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838040" y="3584520"/>
              <a:ext cx="71640" cy="2088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" y="0"/>
                  </a:moveTo>
                  <a:lnTo>
                    <a:pt x="0" y="14"/>
                  </a:lnTo>
                  <a:lnTo>
                    <a:pt x="78" y="25"/>
                  </a:lnTo>
                  <a:lnTo>
                    <a:pt x="91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8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833360" y="3579840"/>
              <a:ext cx="73080" cy="2088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11" y="0"/>
                  </a:moveTo>
                  <a:lnTo>
                    <a:pt x="0" y="13"/>
                  </a:lnTo>
                  <a:lnTo>
                    <a:pt x="80" y="24"/>
                  </a:lnTo>
                  <a:lnTo>
                    <a:pt x="91" y="13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a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828680" y="3575160"/>
              <a:ext cx="74520" cy="1908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8" y="0"/>
                  </a:moveTo>
                  <a:lnTo>
                    <a:pt x="0" y="13"/>
                  </a:lnTo>
                  <a:lnTo>
                    <a:pt x="82" y="24"/>
                  </a:lnTo>
                  <a:lnTo>
                    <a:pt x="93" y="13"/>
                  </a:lnTo>
                  <a:lnTo>
                    <a:pt x="67" y="9"/>
                  </a:lnTo>
                  <a:lnTo>
                    <a:pt x="64" y="15"/>
                  </a:lnTo>
                  <a:lnTo>
                    <a:pt x="58" y="15"/>
                  </a:lnTo>
                  <a:lnTo>
                    <a:pt x="67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a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825440" y="3570480"/>
              <a:ext cx="73080" cy="20520"/>
            </a:xfrm>
            <a:custGeom>
              <a:avLst/>
              <a:gdLst/>
              <a:ahLst/>
              <a:rect l="l" t="t" r="r" b="b"/>
              <a:pathLst>
                <a:path w="92" h="27">
                  <a:moveTo>
                    <a:pt x="7" y="0"/>
                  </a:moveTo>
                  <a:lnTo>
                    <a:pt x="0" y="14"/>
                  </a:lnTo>
                  <a:lnTo>
                    <a:pt x="54" y="22"/>
                  </a:lnTo>
                  <a:lnTo>
                    <a:pt x="69" y="9"/>
                  </a:lnTo>
                  <a:lnTo>
                    <a:pt x="92" y="14"/>
                  </a:lnTo>
                  <a:lnTo>
                    <a:pt x="80" y="27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9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0760" y="3565800"/>
              <a:ext cx="75960" cy="18720"/>
            </a:xfrm>
            <a:custGeom>
              <a:avLst/>
              <a:gdLst/>
              <a:ahLst/>
              <a:rect l="l" t="t" r="r" b="b"/>
              <a:pathLst>
                <a:path w="94" h="24">
                  <a:moveTo>
                    <a:pt x="9" y="0"/>
                  </a:moveTo>
                  <a:lnTo>
                    <a:pt x="0" y="11"/>
                  </a:lnTo>
                  <a:lnTo>
                    <a:pt x="59" y="20"/>
                  </a:lnTo>
                  <a:lnTo>
                    <a:pt x="74" y="9"/>
                  </a:lnTo>
                  <a:lnTo>
                    <a:pt x="94" y="11"/>
                  </a:lnTo>
                  <a:lnTo>
                    <a:pt x="85" y="24"/>
                  </a:lnTo>
                  <a:lnTo>
                    <a:pt x="59" y="20"/>
                  </a:lnTo>
                  <a:lnTo>
                    <a:pt x="7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814280" y="3567240"/>
              <a:ext cx="25560" cy="126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7"/>
                  </a:moveTo>
                  <a:lnTo>
                    <a:pt x="0" y="14"/>
                  </a:lnTo>
                  <a:lnTo>
                    <a:pt x="19" y="16"/>
                  </a:lnTo>
                  <a:lnTo>
                    <a:pt x="32" y="4"/>
                  </a:lnTo>
                  <a:lnTo>
                    <a:pt x="1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835520" y="3567240"/>
              <a:ext cx="504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839840" y="356076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6"/>
                  </a:moveTo>
                  <a:lnTo>
                    <a:pt x="66" y="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62" y="2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40560" y="357372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4810320" y="356400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lnTo>
                    <a:pt x="0" y="12"/>
                  </a:lnTo>
                  <a:lnTo>
                    <a:pt x="18" y="14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835520" y="3554640"/>
              <a:ext cx="54000" cy="1908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7" y="15"/>
                  </a:moveTo>
                  <a:lnTo>
                    <a:pt x="67" y="10"/>
                  </a:lnTo>
                  <a:lnTo>
                    <a:pt x="9" y="0"/>
                  </a:lnTo>
                  <a:lnTo>
                    <a:pt x="7" y="3"/>
                  </a:lnTo>
                  <a:lnTo>
                    <a:pt x="0" y="15"/>
                  </a:lnTo>
                  <a:lnTo>
                    <a:pt x="62" y="24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834800" y="357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799160" y="355932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2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1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830840" y="3549600"/>
              <a:ext cx="55440" cy="176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69" y="13"/>
                  </a:moveTo>
                  <a:lnTo>
                    <a:pt x="69" y="10"/>
                  </a:lnTo>
                  <a:lnTo>
                    <a:pt x="45" y="5"/>
                  </a:lnTo>
                  <a:lnTo>
                    <a:pt x="38" y="10"/>
                  </a:lnTo>
                  <a:lnTo>
                    <a:pt x="40" y="5"/>
                  </a:lnTo>
                  <a:lnTo>
                    <a:pt x="11" y="0"/>
                  </a:lnTo>
                  <a:lnTo>
                    <a:pt x="2" y="8"/>
                  </a:lnTo>
                  <a:lnTo>
                    <a:pt x="0" y="13"/>
                  </a:lnTo>
                  <a:lnTo>
                    <a:pt x="62" y="22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e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4795920" y="3554640"/>
              <a:ext cx="30240" cy="111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0"/>
                  </a:moveTo>
                  <a:lnTo>
                    <a:pt x="0" y="12"/>
                  </a:lnTo>
                  <a:lnTo>
                    <a:pt x="19" y="15"/>
                  </a:lnTo>
                  <a:lnTo>
                    <a:pt x="31" y="10"/>
                  </a:lnTo>
                  <a:lnTo>
                    <a:pt x="38" y="5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4823640" y="3552840"/>
              <a:ext cx="1800" cy="18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4826160" y="3544920"/>
              <a:ext cx="55440" cy="1764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12"/>
                  </a:moveTo>
                  <a:lnTo>
                    <a:pt x="72" y="9"/>
                  </a:lnTo>
                  <a:lnTo>
                    <a:pt x="49" y="7"/>
                  </a:lnTo>
                  <a:lnTo>
                    <a:pt x="34" y="17"/>
                  </a:lnTo>
                  <a:lnTo>
                    <a:pt x="38" y="5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0" y="12"/>
                  </a:lnTo>
                  <a:lnTo>
                    <a:pt x="63" y="2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789440" y="3549600"/>
              <a:ext cx="30240" cy="129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0"/>
                  </a:moveTo>
                  <a:lnTo>
                    <a:pt x="0" y="10"/>
                  </a:lnTo>
                  <a:lnTo>
                    <a:pt x="26" y="15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819680" y="3544920"/>
              <a:ext cx="28800" cy="14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5"/>
                  </a:moveTo>
                  <a:lnTo>
                    <a:pt x="36" y="5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4" y="17"/>
                  </a:lnTo>
                  <a:lnTo>
                    <a:pt x="31" y="7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4845960" y="35434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847760" y="3541680"/>
              <a:ext cx="28440" cy="1296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5"/>
                  </a:moveTo>
                  <a:lnTo>
                    <a:pt x="36" y="3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29" y="17"/>
                  </a:lnTo>
                  <a:lnTo>
                    <a:pt x="34" y="5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4783320" y="354492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2"/>
                  </a:moveTo>
                  <a:lnTo>
                    <a:pt x="0" y="12"/>
                  </a:lnTo>
                  <a:lnTo>
                    <a:pt x="23" y="1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812840" y="354024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5"/>
                  </a:moveTo>
                  <a:lnTo>
                    <a:pt x="34" y="5"/>
                  </a:lnTo>
                  <a:lnTo>
                    <a:pt x="7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4840560" y="3535560"/>
              <a:ext cx="33120" cy="126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7"/>
                  </a:moveTo>
                  <a:lnTo>
                    <a:pt x="41" y="5"/>
                  </a:lnTo>
                  <a:lnTo>
                    <a:pt x="10" y="0"/>
                  </a:lnTo>
                  <a:lnTo>
                    <a:pt x="6" y="5"/>
                  </a:lnTo>
                  <a:lnTo>
                    <a:pt x="0" y="12"/>
                  </a:lnTo>
                  <a:lnTo>
                    <a:pt x="26" y="17"/>
                  </a:lnTo>
                  <a:lnTo>
                    <a:pt x="29" y="12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840560" y="3546720"/>
              <a:ext cx="2880" cy="2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807800" y="3535560"/>
              <a:ext cx="27000" cy="126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7"/>
                  </a:moveTo>
                  <a:lnTo>
                    <a:pt x="0" y="12"/>
                  </a:lnTo>
                  <a:lnTo>
                    <a:pt x="21" y="17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831560" y="3533760"/>
              <a:ext cx="324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777920" y="3541680"/>
              <a:ext cx="29880" cy="111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2"/>
                  </a:moveTo>
                  <a:lnTo>
                    <a:pt x="9" y="5"/>
                  </a:lnTo>
                  <a:lnTo>
                    <a:pt x="16" y="0"/>
                  </a:lnTo>
                  <a:lnTo>
                    <a:pt x="38" y="3"/>
                  </a:lnTo>
                  <a:lnTo>
                    <a:pt x="29" y="12"/>
                  </a:lnTo>
                  <a:lnTo>
                    <a:pt x="2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4834800" y="3532320"/>
              <a:ext cx="33480" cy="1116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0" y="9"/>
                  </a:moveTo>
                  <a:lnTo>
                    <a:pt x="40" y="2"/>
                  </a:lnTo>
                  <a:lnTo>
                    <a:pt x="11" y="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5" y="1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801680" y="3530880"/>
              <a:ext cx="2844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9"/>
                  </a:moveTo>
                  <a:lnTo>
                    <a:pt x="0" y="13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6" y="4"/>
                  </a:lnTo>
                  <a:lnTo>
                    <a:pt x="7" y="0"/>
                  </a:lnTo>
                  <a:lnTo>
                    <a:pt x="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771440" y="3535560"/>
              <a:ext cx="28440" cy="126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2"/>
                  </a:moveTo>
                  <a:lnTo>
                    <a:pt x="0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22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830120" y="3525840"/>
              <a:ext cx="33480" cy="144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10"/>
                  </a:moveTo>
                  <a:lnTo>
                    <a:pt x="43" y="6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797360" y="352584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8"/>
                  </a:moveTo>
                  <a:lnTo>
                    <a:pt x="0" y="12"/>
                  </a:lnTo>
                  <a:lnTo>
                    <a:pt x="24" y="17"/>
                  </a:lnTo>
                  <a:lnTo>
                    <a:pt x="31" y="10"/>
                  </a:lnTo>
                  <a:lnTo>
                    <a:pt x="38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4766760" y="3532320"/>
              <a:ext cx="2844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11"/>
                  </a:moveTo>
                  <a:lnTo>
                    <a:pt x="0" y="9"/>
                  </a:lnTo>
                  <a:lnTo>
                    <a:pt x="13" y="0"/>
                  </a:lnTo>
                  <a:lnTo>
                    <a:pt x="36" y="2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27600" y="3522600"/>
              <a:ext cx="31680" cy="129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8"/>
                  </a:moveTo>
                  <a:lnTo>
                    <a:pt x="41" y="3"/>
                  </a:lnTo>
                  <a:lnTo>
                    <a:pt x="34" y="3"/>
                  </a:lnTo>
                  <a:lnTo>
                    <a:pt x="29" y="8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34" y="17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4826880" y="353232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4791240" y="3522600"/>
              <a:ext cx="3168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11"/>
                  </a:moveTo>
                  <a:lnTo>
                    <a:pt x="0" y="1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40" y="3"/>
                  </a:lnTo>
                  <a:lnTo>
                    <a:pt x="1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818960" y="3519720"/>
              <a:ext cx="32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4762440" y="3525840"/>
              <a:ext cx="28800" cy="14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5" y="0"/>
                  </a:moveTo>
                  <a:lnTo>
                    <a:pt x="0" y="12"/>
                  </a:lnTo>
                  <a:lnTo>
                    <a:pt x="25" y="17"/>
                  </a:lnTo>
                  <a:lnTo>
                    <a:pt x="36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822920" y="3517920"/>
              <a:ext cx="30240" cy="129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4"/>
                  </a:moveTo>
                  <a:lnTo>
                    <a:pt x="38" y="2"/>
                  </a:lnTo>
                  <a:lnTo>
                    <a:pt x="31" y="0"/>
                  </a:lnTo>
                  <a:lnTo>
                    <a:pt x="22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31" y="15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784760" y="351648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10"/>
                  </a:moveTo>
                  <a:lnTo>
                    <a:pt x="0" y="12"/>
                  </a:lnTo>
                  <a:lnTo>
                    <a:pt x="23" y="18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761000" y="3522600"/>
              <a:ext cx="23760" cy="111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16" y="0"/>
                  </a:moveTo>
                  <a:lnTo>
                    <a:pt x="0" y="13"/>
                  </a:lnTo>
                  <a:lnTo>
                    <a:pt x="23" y="1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815000" y="3514680"/>
              <a:ext cx="1728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22" y="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8" y="5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4814280" y="352440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780080" y="3513240"/>
              <a:ext cx="30240" cy="111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9"/>
                  </a:moveTo>
                  <a:lnTo>
                    <a:pt x="0" y="11"/>
                  </a:lnTo>
                  <a:lnTo>
                    <a:pt x="23" y="14"/>
                  </a:lnTo>
                  <a:lnTo>
                    <a:pt x="38" y="2"/>
                  </a:lnTo>
                  <a:lnTo>
                    <a:pt x="17" y="0"/>
                  </a:lnTo>
                  <a:lnTo>
                    <a:pt x="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4760280" y="3517920"/>
              <a:ext cx="19080" cy="111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9"/>
                  </a:moveTo>
                  <a:lnTo>
                    <a:pt x="14" y="0"/>
                  </a:lnTo>
                  <a:lnTo>
                    <a:pt x="23" y="9"/>
                  </a:lnTo>
                  <a:lnTo>
                    <a:pt x="21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809600" y="3510000"/>
              <a:ext cx="19080" cy="97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5"/>
                  </a:moveTo>
                  <a:lnTo>
                    <a:pt x="24" y="2"/>
                  </a:lnTo>
                  <a:lnTo>
                    <a:pt x="9" y="0"/>
                  </a:lnTo>
                  <a:lnTo>
                    <a:pt x="0" y="12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807800" y="3519720"/>
              <a:ext cx="180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773600" y="3510000"/>
              <a:ext cx="28800" cy="97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9"/>
                  </a:moveTo>
                  <a:lnTo>
                    <a:pt x="0" y="9"/>
                  </a:lnTo>
                  <a:lnTo>
                    <a:pt x="22" y="14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1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4799880" y="3505320"/>
              <a:ext cx="1800" cy="14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761720" y="3517920"/>
              <a:ext cx="972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0"/>
                  </a:lnTo>
                  <a:lnTo>
                    <a:pt x="1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4802400" y="3503880"/>
              <a:ext cx="23760" cy="1080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5"/>
                  </a:moveTo>
                  <a:lnTo>
                    <a:pt x="2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4796640" y="3500640"/>
              <a:ext cx="24120" cy="111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0" y="11"/>
                  </a:moveTo>
                  <a:lnTo>
                    <a:pt x="5" y="4"/>
                  </a:lnTo>
                  <a:lnTo>
                    <a:pt x="13" y="0"/>
                  </a:lnTo>
                  <a:lnTo>
                    <a:pt x="32" y="2"/>
                  </a:lnTo>
                  <a:lnTo>
                    <a:pt x="1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4772160" y="3503880"/>
              <a:ext cx="25200" cy="1080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7" y="0"/>
                  </a:moveTo>
                  <a:lnTo>
                    <a:pt x="0" y="12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790520" y="3494160"/>
              <a:ext cx="270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3"/>
                  </a:moveTo>
                  <a:lnTo>
                    <a:pt x="8" y="5"/>
                  </a:lnTo>
                  <a:lnTo>
                    <a:pt x="17" y="0"/>
                  </a:lnTo>
                  <a:lnTo>
                    <a:pt x="33" y="3"/>
                  </a:lnTo>
                  <a:lnTo>
                    <a:pt x="2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4770720" y="3500640"/>
              <a:ext cx="18720" cy="111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1"/>
                  </a:moveTo>
                  <a:lnTo>
                    <a:pt x="10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1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4786560" y="3489480"/>
              <a:ext cx="25200" cy="126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3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19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768920" y="3497400"/>
              <a:ext cx="1440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8"/>
                  </a:moveTo>
                  <a:lnTo>
                    <a:pt x="2" y="8"/>
                  </a:lnTo>
                  <a:lnTo>
                    <a:pt x="18" y="0"/>
                  </a:lnTo>
                  <a:lnTo>
                    <a:pt x="14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781520" y="3486240"/>
              <a:ext cx="22320" cy="972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9"/>
                  </a:moveTo>
                  <a:lnTo>
                    <a:pt x="12" y="5"/>
                  </a:lnTo>
                  <a:lnTo>
                    <a:pt x="22" y="5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6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c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774680" y="3481560"/>
              <a:ext cx="21960" cy="111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2"/>
                  </a:moveTo>
                  <a:lnTo>
                    <a:pt x="2" y="12"/>
                  </a:lnTo>
                  <a:lnTo>
                    <a:pt x="12" y="12"/>
                  </a:lnTo>
                  <a:lnTo>
                    <a:pt x="15" y="0"/>
                  </a:lnTo>
                  <a:lnTo>
                    <a:pt x="26" y="3"/>
                  </a:lnTo>
                  <a:lnTo>
                    <a:pt x="1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c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4771440" y="3479760"/>
              <a:ext cx="12600" cy="64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4771440" y="3479760"/>
              <a:ext cx="12600" cy="324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4921200" y="3584520"/>
              <a:ext cx="30240" cy="162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6" y="18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916520" y="3576600"/>
              <a:ext cx="36720" cy="1908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" y="2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7" y="7"/>
                  </a:lnTo>
                  <a:lnTo>
                    <a:pt x="35" y="22"/>
                  </a:lnTo>
                  <a:lnTo>
                    <a:pt x="27" y="25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e5e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909680" y="357192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2" y="18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54" y="7"/>
                  </a:lnTo>
                  <a:lnTo>
                    <a:pt x="40" y="25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e5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904640" y="3565800"/>
              <a:ext cx="47880" cy="172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16" y="0"/>
                  </a:moveTo>
                  <a:lnTo>
                    <a:pt x="0" y="13"/>
                  </a:lnTo>
                  <a:lnTo>
                    <a:pt x="47" y="20"/>
                  </a:lnTo>
                  <a:lnTo>
                    <a:pt x="61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899240" y="3560760"/>
              <a:ext cx="48960" cy="1584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7" y="0"/>
                  </a:moveTo>
                  <a:lnTo>
                    <a:pt x="0" y="13"/>
                  </a:lnTo>
                  <a:lnTo>
                    <a:pt x="48" y="20"/>
                  </a:lnTo>
                  <a:lnTo>
                    <a:pt x="63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8e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4892760" y="3552840"/>
              <a:ext cx="47520" cy="1908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17" y="0"/>
                  </a:moveTo>
                  <a:lnTo>
                    <a:pt x="0" y="18"/>
                  </a:lnTo>
                  <a:lnTo>
                    <a:pt x="45" y="24"/>
                  </a:lnTo>
                  <a:lnTo>
                    <a:pt x="6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8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4888080" y="3546720"/>
              <a:ext cx="47520" cy="1728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19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5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4881600" y="3541680"/>
              <a:ext cx="46080" cy="1764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16" y="0"/>
                  </a:moveTo>
                  <a:lnTo>
                    <a:pt x="0" y="14"/>
                  </a:lnTo>
                  <a:lnTo>
                    <a:pt x="43" y="22"/>
                  </a:lnTo>
                  <a:lnTo>
                    <a:pt x="56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876200" y="353376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16" y="0"/>
                  </a:moveTo>
                  <a:lnTo>
                    <a:pt x="0" y="16"/>
                  </a:lnTo>
                  <a:lnTo>
                    <a:pt x="40" y="23"/>
                  </a:lnTo>
                  <a:lnTo>
                    <a:pt x="54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4868280" y="3529080"/>
              <a:ext cx="44280" cy="1584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0" y="16"/>
                  </a:moveTo>
                  <a:lnTo>
                    <a:pt x="14" y="3"/>
                  </a:lnTo>
                  <a:lnTo>
                    <a:pt x="20" y="0"/>
                  </a:lnTo>
                  <a:lnTo>
                    <a:pt x="58" y="5"/>
                  </a:lnTo>
                  <a:lnTo>
                    <a:pt x="47" y="14"/>
                  </a:lnTo>
                  <a:lnTo>
                    <a:pt x="4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4861080" y="3522600"/>
              <a:ext cx="46080" cy="1764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15"/>
                  </a:moveTo>
                  <a:lnTo>
                    <a:pt x="5" y="11"/>
                  </a:lnTo>
                  <a:lnTo>
                    <a:pt x="20" y="0"/>
                  </a:lnTo>
                  <a:lnTo>
                    <a:pt x="58" y="5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4853160" y="3516480"/>
              <a:ext cx="46080" cy="1584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18" y="0"/>
                  </a:moveTo>
                  <a:lnTo>
                    <a:pt x="0" y="15"/>
                  </a:lnTo>
                  <a:lnTo>
                    <a:pt x="38" y="20"/>
                  </a:lnTo>
                  <a:lnTo>
                    <a:pt x="5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217760" y="3335400"/>
              <a:ext cx="879480" cy="301680"/>
              <a:chOff x="4217760" y="3335400"/>
              <a:chExt cx="879480" cy="301680"/>
            </a:xfrm>
          </p:grpSpPr>
          <p:sp>
            <p:nvSpPr>
              <p:cNvPr id="981" name=""/>
              <p:cNvSpPr/>
              <p:nvPr/>
            </p:nvSpPr>
            <p:spPr>
              <a:xfrm flipH="1">
                <a:off x="4847760" y="351000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18" y="0"/>
                    </a:moveTo>
                    <a:lnTo>
                      <a:pt x="0" y="16"/>
                    </a:lnTo>
                    <a:lnTo>
                      <a:pt x="38" y="21"/>
                    </a:lnTo>
                    <a:lnTo>
                      <a:pt x="54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4839840" y="350352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20" y="0"/>
                    </a:moveTo>
                    <a:lnTo>
                      <a:pt x="0" y="16"/>
                    </a:lnTo>
                    <a:lnTo>
                      <a:pt x="38" y="21"/>
                    </a:lnTo>
                    <a:lnTo>
                      <a:pt x="55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4831920" y="3497400"/>
                <a:ext cx="44280" cy="172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20" y="0"/>
                    </a:moveTo>
                    <a:lnTo>
                      <a:pt x="0" y="15"/>
                    </a:lnTo>
                    <a:lnTo>
                      <a:pt x="36" y="22"/>
                    </a:lnTo>
                    <a:lnTo>
                      <a:pt x="56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4825440" y="349236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18" y="0"/>
                    </a:moveTo>
                    <a:lnTo>
                      <a:pt x="0" y="15"/>
                    </a:lnTo>
                    <a:lnTo>
                      <a:pt x="35" y="20"/>
                    </a:lnTo>
                    <a:lnTo>
                      <a:pt x="54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4817520" y="348444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22" y="0"/>
                    </a:moveTo>
                    <a:lnTo>
                      <a:pt x="0" y="16"/>
                    </a:lnTo>
                    <a:lnTo>
                      <a:pt x="36" y="22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4808160" y="347976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22" y="0"/>
                    </a:moveTo>
                    <a:lnTo>
                      <a:pt x="0" y="16"/>
                    </a:lnTo>
                    <a:lnTo>
                      <a:pt x="36" y="21"/>
                    </a:lnTo>
                    <a:lnTo>
                      <a:pt x="45" y="14"/>
                    </a:lnTo>
                    <a:lnTo>
                      <a:pt x="58" y="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4798800" y="3473280"/>
                <a:ext cx="44640" cy="1620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18" y="0"/>
                    </a:moveTo>
                    <a:lnTo>
                      <a:pt x="0" y="14"/>
                    </a:lnTo>
                    <a:lnTo>
                      <a:pt x="32" y="21"/>
                    </a:lnTo>
                    <a:lnTo>
                      <a:pt x="52" y="9"/>
                    </a:lnTo>
                    <a:lnTo>
                      <a:pt x="56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4790880" y="3467160"/>
                <a:ext cx="44640" cy="172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0" y="15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4771440" y="3462480"/>
                <a:ext cx="57240" cy="1404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0" y="15"/>
                    </a:moveTo>
                    <a:lnTo>
                      <a:pt x="9" y="7"/>
                    </a:lnTo>
                    <a:lnTo>
                      <a:pt x="22" y="5"/>
                    </a:lnTo>
                    <a:lnTo>
                      <a:pt x="31" y="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47" y="12"/>
                    </a:lnTo>
                    <a:lnTo>
                      <a:pt x="38" y="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4764960" y="3456000"/>
                <a:ext cx="55800" cy="144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0" y="14"/>
                    </a:moveTo>
                    <a:lnTo>
                      <a:pt x="13" y="12"/>
                    </a:lnTo>
                    <a:lnTo>
                      <a:pt x="34" y="0"/>
                    </a:lnTo>
                    <a:lnTo>
                      <a:pt x="72" y="7"/>
                    </a:lnTo>
                    <a:lnTo>
                      <a:pt x="60" y="14"/>
                    </a:lnTo>
                    <a:lnTo>
                      <a:pt x="38" y="1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4754520" y="3451320"/>
                <a:ext cx="48960" cy="15840"/>
              </a:xfrm>
              <a:custGeom>
                <a:avLst/>
                <a:gdLst/>
                <a:ahLst/>
                <a:rect l="l" t="t" r="r" b="b"/>
                <a:pathLst>
                  <a:path w="63" h="21">
                    <a:moveTo>
                      <a:pt x="25" y="0"/>
                    </a:moveTo>
                    <a:lnTo>
                      <a:pt x="0" y="14"/>
                    </a:lnTo>
                    <a:lnTo>
                      <a:pt x="41" y="21"/>
                    </a:lnTo>
                    <a:lnTo>
                      <a:pt x="6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4744440" y="344484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2" h="21">
                    <a:moveTo>
                      <a:pt x="0" y="14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62" y="5"/>
                    </a:lnTo>
                    <a:lnTo>
                      <a:pt x="38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4738320" y="3438360"/>
                <a:ext cx="45720" cy="162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15"/>
                    </a:moveTo>
                    <a:lnTo>
                      <a:pt x="9" y="8"/>
                    </a:lnTo>
                    <a:lnTo>
                      <a:pt x="23" y="0"/>
                    </a:lnTo>
                    <a:lnTo>
                      <a:pt x="58" y="5"/>
                    </a:lnTo>
                    <a:lnTo>
                      <a:pt x="38" y="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4728960" y="343368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24" y="0"/>
                    </a:moveTo>
                    <a:lnTo>
                      <a:pt x="0" y="15"/>
                    </a:lnTo>
                    <a:lnTo>
                      <a:pt x="38" y="20"/>
                    </a:lnTo>
                    <a:lnTo>
                      <a:pt x="60" y="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4719600" y="3427560"/>
                <a:ext cx="47520" cy="14040"/>
              </a:xfrm>
              <a:custGeom>
                <a:avLst/>
                <a:gdLst/>
                <a:ahLst/>
                <a:rect l="l" t="t" r="r" b="b"/>
                <a:pathLst>
                  <a:path w="59" h="18">
                    <a:moveTo>
                      <a:pt x="0" y="13"/>
                    </a:moveTo>
                    <a:lnTo>
                      <a:pt x="17" y="2"/>
                    </a:lnTo>
                    <a:lnTo>
                      <a:pt x="26" y="0"/>
                    </a:lnTo>
                    <a:lnTo>
                      <a:pt x="59" y="4"/>
                    </a:lnTo>
                    <a:lnTo>
                      <a:pt x="35" y="1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4711320" y="342252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0" y="13"/>
                    </a:moveTo>
                    <a:lnTo>
                      <a:pt x="5" y="9"/>
                    </a:lnTo>
                    <a:lnTo>
                      <a:pt x="34" y="0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36" y="1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4711680" y="341784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0" y="12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33" y="1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4711680" y="34178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5"/>
                    </a:moveTo>
                    <a:lnTo>
                      <a:pt x="18" y="0"/>
                    </a:lnTo>
                    <a:lnTo>
                      <a:pt x="23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4959000" y="356400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27" y="19"/>
                    </a:moveTo>
                    <a:lnTo>
                      <a:pt x="20" y="16"/>
                    </a:lnTo>
                    <a:lnTo>
                      <a:pt x="13" y="1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47" y="5"/>
                    </a:lnTo>
                    <a:lnTo>
                      <a:pt x="43" y="8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4948200" y="355284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9" y="27"/>
                    </a:moveTo>
                    <a:lnTo>
                      <a:pt x="7" y="27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0" y="24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7"/>
                    </a:lnTo>
                    <a:lnTo>
                      <a:pt x="9" y="0"/>
                    </a:lnTo>
                    <a:lnTo>
                      <a:pt x="62" y="11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8" y="26"/>
                    </a:lnTo>
                    <a:lnTo>
                      <a:pt x="31" y="3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5025960" y="3546360"/>
                <a:ext cx="1440" cy="1800"/>
              </a:xfrm>
              <a:prstGeom prst="rect">
                <a:avLst/>
              </a:pr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935240" y="3543120"/>
                <a:ext cx="60480" cy="2412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13" y="0"/>
                    </a:moveTo>
                    <a:lnTo>
                      <a:pt x="10" y="7"/>
                    </a:lnTo>
                    <a:lnTo>
                      <a:pt x="6" y="12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44" y="31"/>
                    </a:lnTo>
                    <a:lnTo>
                      <a:pt x="53" y="25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6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5018040" y="35352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3"/>
                    </a:moveTo>
                    <a:lnTo>
                      <a:pt x="18" y="6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9" y="14"/>
                    </a:lnTo>
                    <a:lnTo>
                      <a:pt x="7" y="12"/>
                    </a:lnTo>
                    <a:lnTo>
                      <a:pt x="5" y="9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4922280" y="353376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85" h="34">
                    <a:moveTo>
                      <a:pt x="18" y="0"/>
                    </a:moveTo>
                    <a:lnTo>
                      <a:pt x="14" y="7"/>
                    </a:lnTo>
                    <a:lnTo>
                      <a:pt x="10" y="13"/>
                    </a:lnTo>
                    <a:lnTo>
                      <a:pt x="4" y="17"/>
                    </a:lnTo>
                    <a:lnTo>
                      <a:pt x="0" y="23"/>
                    </a:lnTo>
                    <a:lnTo>
                      <a:pt x="53" y="34"/>
                    </a:lnTo>
                    <a:lnTo>
                      <a:pt x="61" y="28"/>
                    </a:lnTo>
                    <a:lnTo>
                      <a:pt x="70" y="22"/>
                    </a:lnTo>
                    <a:lnTo>
                      <a:pt x="76" y="16"/>
                    </a:lnTo>
                    <a:lnTo>
                      <a:pt x="85" y="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5008320" y="352440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22" y="28"/>
                    </a:moveTo>
                    <a:lnTo>
                      <a:pt x="29" y="23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8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13" y="16"/>
                    </a:lnTo>
                    <a:lnTo>
                      <a:pt x="18" y="23"/>
                    </a:lnTo>
                    <a:lnTo>
                      <a:pt x="22" y="28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911120" y="3524400"/>
                <a:ext cx="73080" cy="25200"/>
              </a:xfrm>
              <a:custGeom>
                <a:avLst/>
                <a:gdLst/>
                <a:ahLst/>
                <a:rect l="l" t="t" r="r" b="b"/>
                <a:pathLst>
                  <a:path w="91" h="33">
                    <a:moveTo>
                      <a:pt x="22" y="0"/>
                    </a:moveTo>
                    <a:lnTo>
                      <a:pt x="16" y="6"/>
                    </a:lnTo>
                    <a:lnTo>
                      <a:pt x="12" y="13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3" y="33"/>
                    </a:lnTo>
                    <a:lnTo>
                      <a:pt x="71" y="27"/>
                    </a:lnTo>
                    <a:lnTo>
                      <a:pt x="78" y="23"/>
                    </a:lnTo>
                    <a:lnTo>
                      <a:pt x="84" y="17"/>
                    </a:lnTo>
                    <a:lnTo>
                      <a:pt x="91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998960" y="35132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36" y="31"/>
                    </a:moveTo>
                    <a:lnTo>
                      <a:pt x="41" y="25"/>
                    </a:lnTo>
                    <a:lnTo>
                      <a:pt x="48" y="19"/>
                    </a:lnTo>
                    <a:lnTo>
                      <a:pt x="54" y="15"/>
                    </a:lnTo>
                    <a:lnTo>
                      <a:pt x="60" y="9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10"/>
                    </a:lnTo>
                    <a:lnTo>
                      <a:pt x="6" y="16"/>
                    </a:lnTo>
                    <a:lnTo>
                      <a:pt x="9" y="23"/>
                    </a:lnTo>
                    <a:lnTo>
                      <a:pt x="15" y="28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4900320" y="3514680"/>
                <a:ext cx="76320" cy="2700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20" y="0"/>
                    </a:moveTo>
                    <a:lnTo>
                      <a:pt x="16" y="7"/>
                    </a:lnTo>
                    <a:lnTo>
                      <a:pt x="10" y="13"/>
                    </a:lnTo>
                    <a:lnTo>
                      <a:pt x="5" y="18"/>
                    </a:lnTo>
                    <a:lnTo>
                      <a:pt x="0" y="24"/>
                    </a:lnTo>
                    <a:lnTo>
                      <a:pt x="67" y="33"/>
                    </a:lnTo>
                    <a:lnTo>
                      <a:pt x="73" y="28"/>
                    </a:lnTo>
                    <a:lnTo>
                      <a:pt x="80" y="23"/>
                    </a:lnTo>
                    <a:lnTo>
                      <a:pt x="87" y="17"/>
                    </a:lnTo>
                    <a:lnTo>
                      <a:pt x="94" y="1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4988880" y="350352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48" y="34"/>
                    </a:moveTo>
                    <a:lnTo>
                      <a:pt x="54" y="27"/>
                    </a:lnTo>
                    <a:lnTo>
                      <a:pt x="60" y="20"/>
                    </a:lnTo>
                    <a:lnTo>
                      <a:pt x="66" y="15"/>
                    </a:lnTo>
                    <a:lnTo>
                      <a:pt x="71" y="9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48" y="3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5058720" y="3500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890960" y="3506760"/>
                <a:ext cx="76320" cy="27000"/>
              </a:xfrm>
              <a:custGeom>
                <a:avLst/>
                <a:gdLst/>
                <a:ahLst/>
                <a:rect l="l" t="t" r="r" b="b"/>
                <a:pathLst>
                  <a:path w="96" h="33">
                    <a:moveTo>
                      <a:pt x="22" y="0"/>
                    </a:moveTo>
                    <a:lnTo>
                      <a:pt x="16" y="4"/>
                    </a:lnTo>
                    <a:lnTo>
                      <a:pt x="12" y="10"/>
                    </a:lnTo>
                    <a:lnTo>
                      <a:pt x="6" y="15"/>
                    </a:lnTo>
                    <a:lnTo>
                      <a:pt x="0" y="21"/>
                    </a:lnTo>
                    <a:lnTo>
                      <a:pt x="69" y="33"/>
                    </a:lnTo>
                    <a:lnTo>
                      <a:pt x="76" y="27"/>
                    </a:lnTo>
                    <a:lnTo>
                      <a:pt x="83" y="21"/>
                    </a:lnTo>
                    <a:lnTo>
                      <a:pt x="89" y="15"/>
                    </a:lnTo>
                    <a:lnTo>
                      <a:pt x="96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4979520" y="3494160"/>
                <a:ext cx="66600" cy="2520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0" y="25"/>
                    </a:moveTo>
                    <a:lnTo>
                      <a:pt x="0" y="25"/>
                    </a:lnTo>
                    <a:lnTo>
                      <a:pt x="60" y="34"/>
                    </a:lnTo>
                    <a:lnTo>
                      <a:pt x="66" y="28"/>
                    </a:lnTo>
                    <a:lnTo>
                      <a:pt x="71" y="22"/>
                    </a:lnTo>
                    <a:lnTo>
                      <a:pt x="78" y="17"/>
                    </a:lnTo>
                    <a:lnTo>
                      <a:pt x="84" y="11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5045040" y="3492360"/>
                <a:ext cx="1440" cy="180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046120" y="3487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4"/>
                    </a:moveTo>
                    <a:lnTo>
                      <a:pt x="25" y="4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7"/>
                    </a:lnTo>
                    <a:lnTo>
                      <a:pt x="11" y="13"/>
                    </a:lnTo>
                    <a:lnTo>
                      <a:pt x="17" y="10"/>
                    </a:lnTo>
                    <a:lnTo>
                      <a:pt x="22" y="8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5045040" y="3513240"/>
                <a:ext cx="1440" cy="144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4879800" y="349740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25" y="0"/>
                    </a:moveTo>
                    <a:lnTo>
                      <a:pt x="19" y="6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22"/>
                    </a:lnTo>
                    <a:lnTo>
                      <a:pt x="74" y="34"/>
                    </a:lnTo>
                    <a:lnTo>
                      <a:pt x="80" y="28"/>
                    </a:lnTo>
                    <a:lnTo>
                      <a:pt x="87" y="23"/>
                    </a:lnTo>
                    <a:lnTo>
                      <a:pt x="94" y="17"/>
                    </a:lnTo>
                    <a:lnTo>
                      <a:pt x="101" y="1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4970160" y="3484440"/>
                <a:ext cx="66960" cy="27000"/>
              </a:xfrm>
              <a:custGeom>
                <a:avLst/>
                <a:gdLst/>
                <a:ahLst/>
                <a:rect l="l" t="t" r="r" b="b"/>
                <a:pathLst>
                  <a:path w="83" h="33">
                    <a:moveTo>
                      <a:pt x="0" y="16"/>
                    </a:moveTo>
                    <a:lnTo>
                      <a:pt x="0" y="24"/>
                    </a:lnTo>
                    <a:lnTo>
                      <a:pt x="58" y="33"/>
                    </a:lnTo>
                    <a:lnTo>
                      <a:pt x="64" y="28"/>
                    </a:lnTo>
                    <a:lnTo>
                      <a:pt x="71" y="21"/>
                    </a:lnTo>
                    <a:lnTo>
                      <a:pt x="77" y="15"/>
                    </a:lnTo>
                    <a:lnTo>
                      <a:pt x="83" y="9"/>
                    </a:lnTo>
                    <a:lnTo>
                      <a:pt x="18" y="0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5032080" y="34830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5036760" y="34765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11"/>
                    </a:moveTo>
                    <a:lnTo>
                      <a:pt x="46" y="7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8" y="14"/>
                    </a:lnTo>
                    <a:lnTo>
                      <a:pt x="11" y="20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25" y="24"/>
                    </a:lnTo>
                    <a:lnTo>
                      <a:pt x="32" y="19"/>
                    </a:lnTo>
                    <a:lnTo>
                      <a:pt x="39" y="15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5036760" y="3497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4868280" y="348768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23" y="0"/>
                    </a:moveTo>
                    <a:lnTo>
                      <a:pt x="17" y="5"/>
                    </a:lnTo>
                    <a:lnTo>
                      <a:pt x="13" y="11"/>
                    </a:lnTo>
                    <a:lnTo>
                      <a:pt x="7" y="17"/>
                    </a:lnTo>
                    <a:lnTo>
                      <a:pt x="0" y="24"/>
                    </a:lnTo>
                    <a:lnTo>
                      <a:pt x="74" y="33"/>
                    </a:lnTo>
                    <a:lnTo>
                      <a:pt x="81" y="27"/>
                    </a:lnTo>
                    <a:lnTo>
                      <a:pt x="88" y="23"/>
                    </a:lnTo>
                    <a:lnTo>
                      <a:pt x="95" y="17"/>
                    </a:lnTo>
                    <a:lnTo>
                      <a:pt x="103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4959000" y="3475080"/>
                <a:ext cx="66960" cy="2700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0" y="17"/>
                    </a:moveTo>
                    <a:lnTo>
                      <a:pt x="0" y="23"/>
                    </a:lnTo>
                    <a:lnTo>
                      <a:pt x="58" y="34"/>
                    </a:lnTo>
                    <a:lnTo>
                      <a:pt x="65" y="28"/>
                    </a:lnTo>
                    <a:lnTo>
                      <a:pt x="71" y="22"/>
                    </a:lnTo>
                    <a:lnTo>
                      <a:pt x="77" y="18"/>
                    </a:lnTo>
                    <a:lnTo>
                      <a:pt x="83" y="12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4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019480" y="3473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5025960" y="3467160"/>
                <a:ext cx="48960" cy="2520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62" y="13"/>
                    </a:moveTo>
                    <a:lnTo>
                      <a:pt x="62" y="8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9"/>
                    </a:lnTo>
                    <a:lnTo>
                      <a:pt x="8" y="23"/>
                    </a:lnTo>
                    <a:lnTo>
                      <a:pt x="11" y="27"/>
                    </a:lnTo>
                    <a:lnTo>
                      <a:pt x="36" y="31"/>
                    </a:lnTo>
                    <a:lnTo>
                      <a:pt x="44" y="28"/>
                    </a:lnTo>
                    <a:lnTo>
                      <a:pt x="51" y="23"/>
                    </a:lnTo>
                    <a:lnTo>
                      <a:pt x="57" y="17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025600" y="3487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4858920" y="347976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24" y="0"/>
                    </a:moveTo>
                    <a:lnTo>
                      <a:pt x="18" y="6"/>
                    </a:lnTo>
                    <a:lnTo>
                      <a:pt x="12" y="10"/>
                    </a:lnTo>
                    <a:lnTo>
                      <a:pt x="7" y="16"/>
                    </a:lnTo>
                    <a:lnTo>
                      <a:pt x="0" y="23"/>
                    </a:lnTo>
                    <a:lnTo>
                      <a:pt x="76" y="36"/>
                    </a:lnTo>
                    <a:lnTo>
                      <a:pt x="83" y="29"/>
                    </a:lnTo>
                    <a:lnTo>
                      <a:pt x="90" y="23"/>
                    </a:lnTo>
                    <a:lnTo>
                      <a:pt x="96" y="17"/>
                    </a:lnTo>
                    <a:lnTo>
                      <a:pt x="102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4946400" y="346716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87" h="31">
                    <a:moveTo>
                      <a:pt x="0" y="15"/>
                    </a:moveTo>
                    <a:lnTo>
                      <a:pt x="0" y="24"/>
                    </a:lnTo>
                    <a:lnTo>
                      <a:pt x="56" y="31"/>
                    </a:lnTo>
                    <a:lnTo>
                      <a:pt x="63" y="25"/>
                    </a:lnTo>
                    <a:lnTo>
                      <a:pt x="71" y="21"/>
                    </a:lnTo>
                    <a:lnTo>
                      <a:pt x="79" y="15"/>
                    </a:lnTo>
                    <a:lnTo>
                      <a:pt x="87" y="10"/>
                    </a:lnTo>
                    <a:lnTo>
                      <a:pt x="20" y="0"/>
                    </a:lnTo>
                    <a:lnTo>
                      <a:pt x="15" y="4"/>
                    </a:lnTo>
                    <a:lnTo>
                      <a:pt x="10" y="7"/>
                    </a:lnTo>
                    <a:lnTo>
                      <a:pt x="5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5008320" y="34653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014440" y="3457440"/>
                <a:ext cx="60120" cy="2556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76" y="16"/>
                    </a:moveTo>
                    <a:lnTo>
                      <a:pt x="76" y="9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5" y="4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7"/>
                    </a:lnTo>
                    <a:lnTo>
                      <a:pt x="0" y="21"/>
                    </a:lnTo>
                    <a:lnTo>
                      <a:pt x="3" y="24"/>
                    </a:lnTo>
                    <a:lnTo>
                      <a:pt x="53" y="31"/>
                    </a:lnTo>
                    <a:lnTo>
                      <a:pt x="59" y="27"/>
                    </a:lnTo>
                    <a:lnTo>
                      <a:pt x="64" y="24"/>
                    </a:lnTo>
                    <a:lnTo>
                      <a:pt x="69" y="20"/>
                    </a:lnTo>
                    <a:lnTo>
                      <a:pt x="76" y="16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5014440" y="3479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5076360" y="3454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4847760" y="3468600"/>
                <a:ext cx="82440" cy="2880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24" y="0"/>
                    </a:moveTo>
                    <a:lnTo>
                      <a:pt x="19" y="6"/>
                    </a:lnTo>
                    <a:lnTo>
                      <a:pt x="13" y="12"/>
                    </a:lnTo>
                    <a:lnTo>
                      <a:pt x="6" y="18"/>
                    </a:lnTo>
                    <a:lnTo>
                      <a:pt x="0" y="25"/>
                    </a:lnTo>
                    <a:lnTo>
                      <a:pt x="80" y="36"/>
                    </a:lnTo>
                    <a:lnTo>
                      <a:pt x="87" y="30"/>
                    </a:lnTo>
                    <a:lnTo>
                      <a:pt x="92" y="25"/>
                    </a:lnTo>
                    <a:lnTo>
                      <a:pt x="98" y="19"/>
                    </a:lnTo>
                    <a:lnTo>
                      <a:pt x="105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4933800" y="345744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3">
                    <a:moveTo>
                      <a:pt x="0" y="13"/>
                    </a:moveTo>
                    <a:lnTo>
                      <a:pt x="0" y="24"/>
                    </a:lnTo>
                    <a:lnTo>
                      <a:pt x="56" y="33"/>
                    </a:lnTo>
                    <a:lnTo>
                      <a:pt x="66" y="26"/>
                    </a:lnTo>
                    <a:lnTo>
                      <a:pt x="74" y="20"/>
                    </a:lnTo>
                    <a:lnTo>
                      <a:pt x="82" y="15"/>
                    </a:lnTo>
                    <a:lnTo>
                      <a:pt x="90" y="9"/>
                    </a:lnTo>
                    <a:lnTo>
                      <a:pt x="21" y="0"/>
                    </a:lnTo>
                    <a:lnTo>
                      <a:pt x="16" y="3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4997160" y="3456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5"/>
                    </a:lnTo>
                    <a:lnTo>
                      <a:pt x="6" y="4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5005080" y="3451320"/>
                <a:ext cx="61920" cy="23760"/>
              </a:xfrm>
              <a:custGeom>
                <a:avLst/>
                <a:gdLst/>
                <a:ahLst/>
                <a:rect l="l" t="t" r="r" b="b"/>
                <a:pathLst>
                  <a:path w="78" h="31">
                    <a:moveTo>
                      <a:pt x="78" y="14"/>
                    </a:moveTo>
                    <a:lnTo>
                      <a:pt x="78" y="7"/>
                    </a:lnTo>
                    <a:lnTo>
                      <a:pt x="35" y="0"/>
                    </a:lnTo>
                    <a:lnTo>
                      <a:pt x="30" y="3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58" y="31"/>
                    </a:lnTo>
                    <a:lnTo>
                      <a:pt x="64" y="27"/>
                    </a:lnTo>
                    <a:lnTo>
                      <a:pt x="69" y="22"/>
                    </a:lnTo>
                    <a:lnTo>
                      <a:pt x="75" y="18"/>
                    </a:lnTo>
                    <a:lnTo>
                      <a:pt x="78" y="14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5005080" y="34686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11"/>
                    </a:moveTo>
                    <a:lnTo>
                      <a:pt x="7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5061960" y="344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5067000" y="344160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8"/>
                    </a:moveTo>
                    <a:lnTo>
                      <a:pt x="2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7"/>
                    </a:lnTo>
                    <a:lnTo>
                      <a:pt x="4" y="11"/>
                    </a:lnTo>
                    <a:lnTo>
                      <a:pt x="7" y="15"/>
                    </a:lnTo>
                    <a:lnTo>
                      <a:pt x="12" y="20"/>
                    </a:lnTo>
                    <a:lnTo>
                      <a:pt x="15" y="16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5067000" y="34639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4835160" y="3459240"/>
                <a:ext cx="83880" cy="2844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0" y="22"/>
                    </a:moveTo>
                    <a:lnTo>
                      <a:pt x="0" y="24"/>
                    </a:lnTo>
                    <a:lnTo>
                      <a:pt x="76" y="36"/>
                    </a:lnTo>
                    <a:lnTo>
                      <a:pt x="83" y="30"/>
                    </a:lnTo>
                    <a:lnTo>
                      <a:pt x="91" y="25"/>
                    </a:lnTo>
                    <a:lnTo>
                      <a:pt x="98" y="19"/>
                    </a:lnTo>
                    <a:lnTo>
                      <a:pt x="105" y="14"/>
                    </a:lnTo>
                    <a:lnTo>
                      <a:pt x="19" y="0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5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4915800" y="3457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4919040" y="345132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91" h="31">
                    <a:moveTo>
                      <a:pt x="91" y="12"/>
                    </a:moveTo>
                    <a:lnTo>
                      <a:pt x="91" y="10"/>
                    </a:lnTo>
                    <a:lnTo>
                      <a:pt x="22" y="0"/>
                    </a:lnTo>
                    <a:lnTo>
                      <a:pt x="16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8" y="31"/>
                    </a:lnTo>
                    <a:lnTo>
                      <a:pt x="65" y="26"/>
                    </a:lnTo>
                    <a:lnTo>
                      <a:pt x="73" y="20"/>
                    </a:lnTo>
                    <a:lnTo>
                      <a:pt x="82" y="15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4919040" y="3476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4984560" y="344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4990680" y="3441600"/>
                <a:ext cx="60120" cy="2376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76" y="15"/>
                    </a:moveTo>
                    <a:lnTo>
                      <a:pt x="76" y="6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6" y="11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4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5" y="29"/>
                    </a:lnTo>
                    <a:lnTo>
                      <a:pt x="61" y="25"/>
                    </a:lnTo>
                    <a:lnTo>
                      <a:pt x="66" y="22"/>
                    </a:lnTo>
                    <a:lnTo>
                      <a:pt x="72" y="18"/>
                    </a:lnTo>
                    <a:lnTo>
                      <a:pt x="76" y="15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4991040" y="3462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504756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5051160" y="34336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5" y="7"/>
                    </a:moveTo>
                    <a:lnTo>
                      <a:pt x="45" y="5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7" y="27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9" y="19"/>
                    </a:lnTo>
                    <a:lnTo>
                      <a:pt x="37" y="13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5050800" y="3457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4825440" y="3440160"/>
                <a:ext cx="152280" cy="39600"/>
              </a:xfrm>
              <a:custGeom>
                <a:avLst/>
                <a:gdLst/>
                <a:ahLst/>
                <a:rect l="l" t="t" r="r" b="b"/>
                <a:pathLst>
                  <a:path w="193" h="48">
                    <a:moveTo>
                      <a:pt x="0" y="15"/>
                    </a:moveTo>
                    <a:lnTo>
                      <a:pt x="0" y="24"/>
                    </a:lnTo>
                    <a:lnTo>
                      <a:pt x="57" y="31"/>
                    </a:lnTo>
                    <a:lnTo>
                      <a:pt x="63" y="28"/>
                    </a:lnTo>
                    <a:lnTo>
                      <a:pt x="68" y="26"/>
                    </a:lnTo>
                    <a:lnTo>
                      <a:pt x="73" y="24"/>
                    </a:lnTo>
                    <a:lnTo>
                      <a:pt x="79" y="22"/>
                    </a:lnTo>
                    <a:lnTo>
                      <a:pt x="85" y="20"/>
                    </a:lnTo>
                    <a:lnTo>
                      <a:pt x="89" y="18"/>
                    </a:lnTo>
                    <a:lnTo>
                      <a:pt x="95" y="17"/>
                    </a:lnTo>
                    <a:lnTo>
                      <a:pt x="101" y="15"/>
                    </a:lnTo>
                    <a:lnTo>
                      <a:pt x="96" y="19"/>
                    </a:lnTo>
                    <a:lnTo>
                      <a:pt x="91" y="25"/>
                    </a:lnTo>
                    <a:lnTo>
                      <a:pt x="87" y="30"/>
                    </a:lnTo>
                    <a:lnTo>
                      <a:pt x="83" y="35"/>
                    </a:lnTo>
                    <a:lnTo>
                      <a:pt x="164" y="48"/>
                    </a:lnTo>
                    <a:lnTo>
                      <a:pt x="172" y="42"/>
                    </a:lnTo>
                    <a:lnTo>
                      <a:pt x="179" y="37"/>
                    </a:lnTo>
                    <a:lnTo>
                      <a:pt x="186" y="32"/>
                    </a:lnTo>
                    <a:lnTo>
                      <a:pt x="193" y="26"/>
                    </a:lnTo>
                    <a:lnTo>
                      <a:pt x="23" y="0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4968720" y="34383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0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4978080" y="3433680"/>
                <a:ext cx="59040" cy="2232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73" y="15"/>
                    </a:moveTo>
                    <a:lnTo>
                      <a:pt x="73" y="7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7" y="11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4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9" y="29"/>
                    </a:lnTo>
                    <a:lnTo>
                      <a:pt x="56" y="26"/>
                    </a:lnTo>
                    <a:lnTo>
                      <a:pt x="62" y="22"/>
                    </a:lnTo>
                    <a:lnTo>
                      <a:pt x="68" y="19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4977720" y="34527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5034960" y="3429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5036760" y="3425760"/>
                <a:ext cx="50760" cy="2052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7"/>
                    </a:moveTo>
                    <a:lnTo>
                      <a:pt x="65" y="5"/>
                    </a:lnTo>
                    <a:lnTo>
                      <a:pt x="31" y="0"/>
                    </a:lnTo>
                    <a:lnTo>
                      <a:pt x="22" y="5"/>
                    </a:lnTo>
                    <a:lnTo>
                      <a:pt x="14" y="9"/>
                    </a:lnTo>
                    <a:lnTo>
                      <a:pt x="7" y="15"/>
                    </a:lnTo>
                    <a:lnTo>
                      <a:pt x="0" y="21"/>
                    </a:lnTo>
                    <a:lnTo>
                      <a:pt x="31" y="27"/>
                    </a:lnTo>
                    <a:lnTo>
                      <a:pt x="39" y="21"/>
                    </a:lnTo>
                    <a:lnTo>
                      <a:pt x="47" y="15"/>
                    </a:lnTo>
                    <a:lnTo>
                      <a:pt x="55" y="11"/>
                    </a:lnTo>
                    <a:lnTo>
                      <a:pt x="65" y="7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5037120" y="34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5085720" y="3422520"/>
                <a:ext cx="1800" cy="1800"/>
              </a:xfrm>
              <a:prstGeom prst="rect">
                <a:avLst/>
              </a:pr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4811400" y="3433680"/>
                <a:ext cx="152640" cy="36720"/>
              </a:xfrm>
              <a:custGeom>
                <a:avLst/>
                <a:gdLst/>
                <a:ahLst/>
                <a:rect l="l" t="t" r="r" b="b"/>
                <a:pathLst>
                  <a:path w="191" h="48">
                    <a:moveTo>
                      <a:pt x="0" y="12"/>
                    </a:moveTo>
                    <a:lnTo>
                      <a:pt x="0" y="22"/>
                    </a:lnTo>
                    <a:lnTo>
                      <a:pt x="60" y="32"/>
                    </a:lnTo>
                    <a:lnTo>
                      <a:pt x="66" y="29"/>
                    </a:lnTo>
                    <a:lnTo>
                      <a:pt x="70" y="28"/>
                    </a:lnTo>
                    <a:lnTo>
                      <a:pt x="76" y="26"/>
                    </a:lnTo>
                    <a:lnTo>
                      <a:pt x="82" y="25"/>
                    </a:lnTo>
                    <a:lnTo>
                      <a:pt x="79" y="28"/>
                    </a:lnTo>
                    <a:lnTo>
                      <a:pt x="77" y="30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160" y="48"/>
                    </a:lnTo>
                    <a:lnTo>
                      <a:pt x="167" y="41"/>
                    </a:lnTo>
                    <a:lnTo>
                      <a:pt x="175" y="35"/>
                    </a:lnTo>
                    <a:lnTo>
                      <a:pt x="183" y="30"/>
                    </a:lnTo>
                    <a:lnTo>
                      <a:pt x="191" y="25"/>
                    </a:lnTo>
                    <a:lnTo>
                      <a:pt x="24" y="0"/>
                    </a:lnTo>
                    <a:lnTo>
                      <a:pt x="18" y="3"/>
                    </a:lnTo>
                    <a:lnTo>
                      <a:pt x="13" y="5"/>
                    </a:lnTo>
                    <a:lnTo>
                      <a:pt x="6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4951080" y="34290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7"/>
                    </a:lnTo>
                    <a:lnTo>
                      <a:pt x="8" y="6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964040" y="342576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72" h="29">
                    <a:moveTo>
                      <a:pt x="72" y="14"/>
                    </a:moveTo>
                    <a:lnTo>
                      <a:pt x="72" y="5"/>
                    </a:lnTo>
                    <a:lnTo>
                      <a:pt x="38" y="0"/>
                    </a:lnTo>
                    <a:lnTo>
                      <a:pt x="34" y="3"/>
                    </a:lnTo>
                    <a:lnTo>
                      <a:pt x="28" y="5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4" y="13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45" y="29"/>
                    </a:lnTo>
                    <a:lnTo>
                      <a:pt x="52" y="26"/>
                    </a:lnTo>
                    <a:lnTo>
                      <a:pt x="59" y="21"/>
                    </a:lnTo>
                    <a:lnTo>
                      <a:pt x="65" y="16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4964040" y="34416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5018040" y="3422520"/>
                <a:ext cx="1440" cy="1800"/>
              </a:xfrm>
              <a:prstGeom prst="rect">
                <a:avLst/>
              </a:pr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5019480" y="341640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69" h="25">
                    <a:moveTo>
                      <a:pt x="69" y="7"/>
                    </a:moveTo>
                    <a:lnTo>
                      <a:pt x="69" y="7"/>
                    </a:lnTo>
                    <a:lnTo>
                      <a:pt x="34" y="0"/>
                    </a:lnTo>
                    <a:lnTo>
                      <a:pt x="26" y="4"/>
                    </a:lnTo>
                    <a:lnTo>
                      <a:pt x="18" y="9"/>
                    </a:lnTo>
                    <a:lnTo>
                      <a:pt x="9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42" y="22"/>
                    </a:lnTo>
                    <a:lnTo>
                      <a:pt x="45" y="19"/>
                    </a:lnTo>
                    <a:lnTo>
                      <a:pt x="50" y="17"/>
                    </a:lnTo>
                    <a:lnTo>
                      <a:pt x="54" y="15"/>
                    </a:lnTo>
                    <a:lnTo>
                      <a:pt x="59" y="11"/>
                    </a:lnTo>
                    <a:lnTo>
                      <a:pt x="65" y="9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5019480" y="3440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5073480" y="3411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5074920" y="3409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4"/>
                    </a:moveTo>
                    <a:lnTo>
                      <a:pt x="29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7" y="10"/>
                    </a:lnTo>
                    <a:lnTo>
                      <a:pt x="10" y="12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0" y="10"/>
                    </a:lnTo>
                    <a:lnTo>
                      <a:pt x="25" y="7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5074560" y="3432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4798440" y="3425760"/>
                <a:ext cx="144360" cy="36720"/>
              </a:xfrm>
              <a:custGeom>
                <a:avLst/>
                <a:gdLst/>
                <a:ahLst/>
                <a:rect l="l" t="t" r="r" b="b"/>
                <a:pathLst>
                  <a:path w="183" h="45">
                    <a:moveTo>
                      <a:pt x="0" y="7"/>
                    </a:moveTo>
                    <a:lnTo>
                      <a:pt x="0" y="21"/>
                    </a:lnTo>
                    <a:lnTo>
                      <a:pt x="150" y="45"/>
                    </a:lnTo>
                    <a:lnTo>
                      <a:pt x="159" y="39"/>
                    </a:lnTo>
                    <a:lnTo>
                      <a:pt x="167" y="35"/>
                    </a:lnTo>
                    <a:lnTo>
                      <a:pt x="175" y="29"/>
                    </a:lnTo>
                    <a:lnTo>
                      <a:pt x="183" y="24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7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4927320" y="34225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4943160" y="3417840"/>
                <a:ext cx="59040" cy="2052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4" y="12"/>
                    </a:moveTo>
                    <a:lnTo>
                      <a:pt x="74" y="5"/>
                    </a:lnTo>
                    <a:lnTo>
                      <a:pt x="36" y="0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43" y="25"/>
                    </a:lnTo>
                    <a:lnTo>
                      <a:pt x="50" y="22"/>
                    </a:lnTo>
                    <a:lnTo>
                      <a:pt x="59" y="18"/>
                    </a:lnTo>
                    <a:lnTo>
                      <a:pt x="67" y="15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943160" y="34322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4"/>
                    </a:moveTo>
                    <a:lnTo>
                      <a:pt x="20" y="0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5000040" y="3411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5002200" y="340848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7"/>
                    </a:moveTo>
                    <a:lnTo>
                      <a:pt x="69" y="5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7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9" y="27"/>
                    </a:lnTo>
                    <a:lnTo>
                      <a:pt x="34" y="25"/>
                    </a:lnTo>
                    <a:lnTo>
                      <a:pt x="38" y="22"/>
                    </a:lnTo>
                    <a:lnTo>
                      <a:pt x="43" y="20"/>
                    </a:lnTo>
                    <a:lnTo>
                      <a:pt x="47" y="18"/>
                    </a:lnTo>
                    <a:lnTo>
                      <a:pt x="53" y="15"/>
                    </a:lnTo>
                    <a:lnTo>
                      <a:pt x="58" y="13"/>
                    </a:lnTo>
                    <a:lnTo>
                      <a:pt x="64" y="10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5001840" y="3433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5051160" y="340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5057640" y="339876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51" y="11"/>
                    </a:moveTo>
                    <a:lnTo>
                      <a:pt x="51" y="7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8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7" y="24"/>
                    </a:lnTo>
                    <a:lnTo>
                      <a:pt x="10" y="26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7" y="26"/>
                    </a:lnTo>
                    <a:lnTo>
                      <a:pt x="21" y="24"/>
                    </a:lnTo>
                    <a:lnTo>
                      <a:pt x="26" y="22"/>
                    </a:lnTo>
                    <a:lnTo>
                      <a:pt x="30" y="19"/>
                    </a:lnTo>
                    <a:lnTo>
                      <a:pt x="35" y="17"/>
                    </a:lnTo>
                    <a:lnTo>
                      <a:pt x="40" y="15"/>
                    </a:lnTo>
                    <a:lnTo>
                      <a:pt x="45" y="14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5057280" y="3422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4784400" y="34084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252" h="56">
                    <a:moveTo>
                      <a:pt x="0" y="20"/>
                    </a:moveTo>
                    <a:lnTo>
                      <a:pt x="0" y="25"/>
                    </a:lnTo>
                    <a:lnTo>
                      <a:pt x="42" y="29"/>
                    </a:lnTo>
                    <a:lnTo>
                      <a:pt x="49" y="26"/>
                    </a:lnTo>
                    <a:lnTo>
                      <a:pt x="57" y="23"/>
                    </a:lnTo>
                    <a:lnTo>
                      <a:pt x="66" y="22"/>
                    </a:lnTo>
                    <a:lnTo>
                      <a:pt x="75" y="20"/>
                    </a:lnTo>
                    <a:lnTo>
                      <a:pt x="69" y="22"/>
                    </a:lnTo>
                    <a:lnTo>
                      <a:pt x="64" y="25"/>
                    </a:lnTo>
                    <a:lnTo>
                      <a:pt x="58" y="28"/>
                    </a:lnTo>
                    <a:lnTo>
                      <a:pt x="51" y="31"/>
                    </a:lnTo>
                    <a:lnTo>
                      <a:pt x="218" y="56"/>
                    </a:lnTo>
                    <a:lnTo>
                      <a:pt x="225" y="50"/>
                    </a:lnTo>
                    <a:lnTo>
                      <a:pt x="233" y="44"/>
                    </a:lnTo>
                    <a:lnTo>
                      <a:pt x="242" y="39"/>
                    </a:lnTo>
                    <a:lnTo>
                      <a:pt x="252" y="34"/>
                    </a:lnTo>
                    <a:lnTo>
                      <a:pt x="34" y="0"/>
                    </a:lnTo>
                    <a:lnTo>
                      <a:pt x="26" y="5"/>
                    </a:lnTo>
                    <a:lnTo>
                      <a:pt x="18" y="10"/>
                    </a:lnTo>
                    <a:lnTo>
                      <a:pt x="10" y="1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4978080" y="340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4984200" y="3402000"/>
                <a:ext cx="58680" cy="2052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73" y="9"/>
                    </a:moveTo>
                    <a:lnTo>
                      <a:pt x="73" y="5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28" y="27"/>
                    </a:lnTo>
                    <a:lnTo>
                      <a:pt x="34" y="24"/>
                    </a:lnTo>
                    <a:lnTo>
                      <a:pt x="40" y="22"/>
                    </a:lnTo>
                    <a:lnTo>
                      <a:pt x="46" y="20"/>
                    </a:lnTo>
                    <a:lnTo>
                      <a:pt x="51" y="17"/>
                    </a:lnTo>
                    <a:lnTo>
                      <a:pt x="57" y="15"/>
                    </a:lnTo>
                    <a:lnTo>
                      <a:pt x="63" y="13"/>
                    </a:lnTo>
                    <a:lnTo>
                      <a:pt x="68" y="12"/>
                    </a:lnTo>
                    <a:lnTo>
                      <a:pt x="73" y="9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4984200" y="342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5031720" y="33973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5043240" y="339084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70" y="14"/>
                    </a:moveTo>
                    <a:lnTo>
                      <a:pt x="70" y="9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2" y="28"/>
                    </a:lnTo>
                    <a:lnTo>
                      <a:pt x="36" y="26"/>
                    </a:lnTo>
                    <a:lnTo>
                      <a:pt x="41" y="24"/>
                    </a:lnTo>
                    <a:lnTo>
                      <a:pt x="47" y="22"/>
                    </a:lnTo>
                    <a:lnTo>
                      <a:pt x="51" y="21"/>
                    </a:lnTo>
                    <a:lnTo>
                      <a:pt x="56" y="19"/>
                    </a:lnTo>
                    <a:lnTo>
                      <a:pt x="60" y="18"/>
                    </a:lnTo>
                    <a:lnTo>
                      <a:pt x="65" y="15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5042880" y="34113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4771440" y="3402000"/>
                <a:ext cx="189000" cy="42840"/>
              </a:xfrm>
              <a:custGeom>
                <a:avLst/>
                <a:gdLst/>
                <a:ahLst/>
                <a:rect l="l" t="t" r="r" b="b"/>
                <a:pathLst>
                  <a:path w="239" h="55">
                    <a:moveTo>
                      <a:pt x="0" y="12"/>
                    </a:moveTo>
                    <a:lnTo>
                      <a:pt x="0" y="24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5" y="29"/>
                    </a:lnTo>
                    <a:lnTo>
                      <a:pt x="46" y="29"/>
                    </a:lnTo>
                    <a:lnTo>
                      <a:pt x="44" y="31"/>
                    </a:lnTo>
                    <a:lnTo>
                      <a:pt x="205" y="55"/>
                    </a:lnTo>
                    <a:lnTo>
                      <a:pt x="213" y="50"/>
                    </a:lnTo>
                    <a:lnTo>
                      <a:pt x="221" y="44"/>
                    </a:lnTo>
                    <a:lnTo>
                      <a:pt x="229" y="39"/>
                    </a:lnTo>
                    <a:lnTo>
                      <a:pt x="239" y="34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8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4949280" y="33987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0" y="4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4960800" y="3394080"/>
                <a:ext cx="63360" cy="2052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78" y="11"/>
                    </a:moveTo>
                    <a:lnTo>
                      <a:pt x="78" y="7"/>
                    </a:lnTo>
                    <a:lnTo>
                      <a:pt x="31" y="0"/>
                    </a:lnTo>
                    <a:lnTo>
                      <a:pt x="24" y="3"/>
                    </a:lnTo>
                    <a:lnTo>
                      <a:pt x="16" y="6"/>
                    </a:lnTo>
                    <a:lnTo>
                      <a:pt x="7" y="8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29" y="25"/>
                    </a:lnTo>
                    <a:lnTo>
                      <a:pt x="34" y="23"/>
                    </a:lnTo>
                    <a:lnTo>
                      <a:pt x="41" y="21"/>
                    </a:lnTo>
                    <a:lnTo>
                      <a:pt x="47" y="18"/>
                    </a:lnTo>
                    <a:lnTo>
                      <a:pt x="54" y="16"/>
                    </a:lnTo>
                    <a:lnTo>
                      <a:pt x="60" y="15"/>
                    </a:lnTo>
                    <a:lnTo>
                      <a:pt x="65" y="14"/>
                    </a:lnTo>
                    <a:lnTo>
                      <a:pt x="72" y="13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4960440" y="34099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2"/>
                    </a:moveTo>
                    <a:lnTo>
                      <a:pt x="16" y="0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5012640" y="339084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5023800" y="3379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4" h="31">
                    <a:moveTo>
                      <a:pt x="94" y="19"/>
                    </a:moveTo>
                    <a:lnTo>
                      <a:pt x="94" y="12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8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8" y="31"/>
                    </a:lnTo>
                    <a:lnTo>
                      <a:pt x="62" y="30"/>
                    </a:lnTo>
                    <a:lnTo>
                      <a:pt x="66" y="27"/>
                    </a:lnTo>
                    <a:lnTo>
                      <a:pt x="70" y="26"/>
                    </a:lnTo>
                    <a:lnTo>
                      <a:pt x="74" y="25"/>
                    </a:lnTo>
                    <a:lnTo>
                      <a:pt x="79" y="24"/>
                    </a:lnTo>
                    <a:lnTo>
                      <a:pt x="83" y="23"/>
                    </a:lnTo>
                    <a:lnTo>
                      <a:pt x="89" y="20"/>
                    </a:lnTo>
                    <a:lnTo>
                      <a:pt x="94" y="19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023800" y="3403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4755960" y="3386160"/>
                <a:ext cx="249120" cy="49320"/>
              </a:xfrm>
              <a:custGeom>
                <a:avLst/>
                <a:gdLst/>
                <a:ahLst/>
                <a:rect l="l" t="t" r="r" b="b"/>
                <a:pathLst>
                  <a:path w="312" h="62">
                    <a:moveTo>
                      <a:pt x="0" y="12"/>
                    </a:moveTo>
                    <a:lnTo>
                      <a:pt x="0" y="21"/>
                    </a:lnTo>
                    <a:lnTo>
                      <a:pt x="33" y="26"/>
                    </a:lnTo>
                    <a:lnTo>
                      <a:pt x="40" y="25"/>
                    </a:lnTo>
                    <a:lnTo>
                      <a:pt x="47" y="23"/>
                    </a:lnTo>
                    <a:lnTo>
                      <a:pt x="54" y="21"/>
                    </a:lnTo>
                    <a:lnTo>
                      <a:pt x="60" y="19"/>
                    </a:lnTo>
                    <a:lnTo>
                      <a:pt x="67" y="18"/>
                    </a:lnTo>
                    <a:lnTo>
                      <a:pt x="73" y="18"/>
                    </a:lnTo>
                    <a:lnTo>
                      <a:pt x="79" y="17"/>
                    </a:lnTo>
                    <a:lnTo>
                      <a:pt x="85" y="17"/>
                    </a:lnTo>
                    <a:lnTo>
                      <a:pt x="79" y="19"/>
                    </a:lnTo>
                    <a:lnTo>
                      <a:pt x="74" y="21"/>
                    </a:lnTo>
                    <a:lnTo>
                      <a:pt x="67" y="25"/>
                    </a:lnTo>
                    <a:lnTo>
                      <a:pt x="59" y="28"/>
                    </a:lnTo>
                    <a:lnTo>
                      <a:pt x="277" y="62"/>
                    </a:lnTo>
                    <a:lnTo>
                      <a:pt x="281" y="59"/>
                    </a:lnTo>
                    <a:lnTo>
                      <a:pt x="286" y="56"/>
                    </a:lnTo>
                    <a:lnTo>
                      <a:pt x="289" y="54"/>
                    </a:lnTo>
                    <a:lnTo>
                      <a:pt x="294" y="51"/>
                    </a:lnTo>
                    <a:lnTo>
                      <a:pt x="298" y="49"/>
                    </a:lnTo>
                    <a:lnTo>
                      <a:pt x="303" y="46"/>
                    </a:lnTo>
                    <a:lnTo>
                      <a:pt x="308" y="43"/>
                    </a:lnTo>
                    <a:lnTo>
                      <a:pt x="312" y="41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7" y="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993560" y="33814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5005080" y="33750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7"/>
                    </a:moveTo>
                    <a:lnTo>
                      <a:pt x="109" y="9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8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73" y="28"/>
                    </a:lnTo>
                    <a:lnTo>
                      <a:pt x="78" y="27"/>
                    </a:lnTo>
                    <a:lnTo>
                      <a:pt x="82" y="26"/>
                    </a:lnTo>
                    <a:lnTo>
                      <a:pt x="86" y="25"/>
                    </a:lnTo>
                    <a:lnTo>
                      <a:pt x="91" y="24"/>
                    </a:lnTo>
                    <a:lnTo>
                      <a:pt x="95" y="22"/>
                    </a:lnTo>
                    <a:lnTo>
                      <a:pt x="100" y="20"/>
                    </a:lnTo>
                    <a:lnTo>
                      <a:pt x="104" y="18"/>
                    </a:lnTo>
                    <a:lnTo>
                      <a:pt x="109" y="17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5005080" y="3395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9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4740120" y="3376440"/>
                <a:ext cx="247680" cy="51120"/>
              </a:xfrm>
              <a:custGeom>
                <a:avLst/>
                <a:gdLst/>
                <a:ahLst/>
                <a:rect l="l" t="t" r="r" b="b"/>
                <a:pathLst>
                  <a:path w="312" h="65">
                    <a:moveTo>
                      <a:pt x="0" y="15"/>
                    </a:moveTo>
                    <a:lnTo>
                      <a:pt x="0" y="24"/>
                    </a:lnTo>
                    <a:lnTo>
                      <a:pt x="48" y="31"/>
                    </a:lnTo>
                    <a:lnTo>
                      <a:pt x="52" y="30"/>
                    </a:lnTo>
                    <a:lnTo>
                      <a:pt x="56" y="29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3" y="29"/>
                    </a:lnTo>
                    <a:lnTo>
                      <a:pt x="61" y="30"/>
                    </a:lnTo>
                    <a:lnTo>
                      <a:pt x="60" y="31"/>
                    </a:lnTo>
                    <a:lnTo>
                      <a:pt x="57" y="31"/>
                    </a:lnTo>
                    <a:lnTo>
                      <a:pt x="272" y="65"/>
                    </a:lnTo>
                    <a:lnTo>
                      <a:pt x="276" y="62"/>
                    </a:lnTo>
                    <a:lnTo>
                      <a:pt x="282" y="59"/>
                    </a:lnTo>
                    <a:lnTo>
                      <a:pt x="287" y="56"/>
                    </a:lnTo>
                    <a:lnTo>
                      <a:pt x="292" y="54"/>
                    </a:lnTo>
                    <a:lnTo>
                      <a:pt x="297" y="52"/>
                    </a:lnTo>
                    <a:lnTo>
                      <a:pt x="302" y="48"/>
                    </a:lnTo>
                    <a:lnTo>
                      <a:pt x="307" y="46"/>
                    </a:lnTo>
                    <a:lnTo>
                      <a:pt x="312" y="43"/>
                    </a:lnTo>
                    <a:lnTo>
                      <a:pt x="33" y="0"/>
                    </a:lnTo>
                    <a:lnTo>
                      <a:pt x="25" y="5"/>
                    </a:lnTo>
                    <a:lnTo>
                      <a:pt x="17" y="8"/>
                    </a:lnTo>
                    <a:lnTo>
                      <a:pt x="9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4976280" y="337356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0" y="10"/>
                    </a:lnTo>
                    <a:lnTo>
                      <a:pt x="3" y="7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4987440" y="3367080"/>
                <a:ext cx="88920" cy="25560"/>
              </a:xfrm>
              <a:custGeom>
                <a:avLst/>
                <a:gdLst/>
                <a:ahLst/>
                <a:rect l="l" t="t" r="r" b="b"/>
                <a:pathLst>
                  <a:path w="112" h="32">
                    <a:moveTo>
                      <a:pt x="112" y="17"/>
                    </a:moveTo>
                    <a:lnTo>
                      <a:pt x="112" y="7"/>
                    </a:lnTo>
                    <a:lnTo>
                      <a:pt x="55" y="0"/>
                    </a:lnTo>
                    <a:lnTo>
                      <a:pt x="48" y="3"/>
                    </a:lnTo>
                    <a:lnTo>
                      <a:pt x="41" y="5"/>
                    </a:lnTo>
                    <a:lnTo>
                      <a:pt x="35" y="9"/>
                    </a:lnTo>
                    <a:lnTo>
                      <a:pt x="28" y="10"/>
                    </a:lnTo>
                    <a:lnTo>
                      <a:pt x="21" y="12"/>
                    </a:lnTo>
                    <a:lnTo>
                      <a:pt x="14" y="14"/>
                    </a:lnTo>
                    <a:lnTo>
                      <a:pt x="7" y="15"/>
                    </a:lnTo>
                    <a:lnTo>
                      <a:pt x="0" y="17"/>
                    </a:lnTo>
                    <a:lnTo>
                      <a:pt x="81" y="32"/>
                    </a:lnTo>
                    <a:lnTo>
                      <a:pt x="90" y="28"/>
                    </a:lnTo>
                    <a:lnTo>
                      <a:pt x="98" y="24"/>
                    </a:lnTo>
                    <a:lnTo>
                      <a:pt x="105" y="20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4987440" y="3387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4728600" y="3359160"/>
                <a:ext cx="322200" cy="58680"/>
              </a:xfrm>
              <a:custGeom>
                <a:avLst/>
                <a:gdLst/>
                <a:ahLst/>
                <a:rect l="l" t="t" r="r" b="b"/>
                <a:pathLst>
                  <a:path w="408" h="75">
                    <a:moveTo>
                      <a:pt x="91" y="34"/>
                    </a:moveTo>
                    <a:lnTo>
                      <a:pt x="99" y="30"/>
                    </a:lnTo>
                    <a:lnTo>
                      <a:pt x="107" y="27"/>
                    </a:lnTo>
                    <a:lnTo>
                      <a:pt x="114" y="23"/>
                    </a:lnTo>
                    <a:lnTo>
                      <a:pt x="122" y="20"/>
                    </a:lnTo>
                    <a:lnTo>
                      <a:pt x="119" y="17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07" y="10"/>
                    </a:lnTo>
                    <a:lnTo>
                      <a:pt x="103" y="15"/>
                    </a:lnTo>
                    <a:lnTo>
                      <a:pt x="96" y="21"/>
                    </a:lnTo>
                    <a:lnTo>
                      <a:pt x="85" y="25"/>
                    </a:lnTo>
                    <a:lnTo>
                      <a:pt x="74" y="31"/>
                    </a:lnTo>
                    <a:lnTo>
                      <a:pt x="0" y="20"/>
                    </a:lnTo>
                    <a:lnTo>
                      <a:pt x="6" y="17"/>
                    </a:lnTo>
                    <a:lnTo>
                      <a:pt x="12" y="15"/>
                    </a:lnTo>
                    <a:lnTo>
                      <a:pt x="17" y="12"/>
                    </a:lnTo>
                    <a:lnTo>
                      <a:pt x="24" y="9"/>
                    </a:lnTo>
                    <a:lnTo>
                      <a:pt x="30" y="7"/>
                    </a:lnTo>
                    <a:lnTo>
                      <a:pt x="37" y="5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408" y="53"/>
                    </a:lnTo>
                    <a:lnTo>
                      <a:pt x="408" y="54"/>
                    </a:lnTo>
                    <a:lnTo>
                      <a:pt x="408" y="57"/>
                    </a:lnTo>
                    <a:lnTo>
                      <a:pt x="408" y="58"/>
                    </a:lnTo>
                    <a:lnTo>
                      <a:pt x="408" y="60"/>
                    </a:lnTo>
                    <a:lnTo>
                      <a:pt x="403" y="62"/>
                    </a:lnTo>
                    <a:lnTo>
                      <a:pt x="399" y="63"/>
                    </a:lnTo>
                    <a:lnTo>
                      <a:pt x="394" y="66"/>
                    </a:lnTo>
                    <a:lnTo>
                      <a:pt x="390" y="67"/>
                    </a:lnTo>
                    <a:lnTo>
                      <a:pt x="385" y="69"/>
                    </a:lnTo>
                    <a:lnTo>
                      <a:pt x="381" y="70"/>
                    </a:lnTo>
                    <a:lnTo>
                      <a:pt x="377" y="73"/>
                    </a:lnTo>
                    <a:lnTo>
                      <a:pt x="372" y="75"/>
                    </a:lnTo>
                    <a:lnTo>
                      <a:pt x="91" y="34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4728960" y="3351240"/>
                <a:ext cx="287280" cy="58680"/>
              </a:xfrm>
              <a:custGeom>
                <a:avLst/>
                <a:gdLst/>
                <a:ahLst/>
                <a:rect l="l" t="t" r="r" b="b"/>
                <a:pathLst>
                  <a:path w="363" h="74">
                    <a:moveTo>
                      <a:pt x="0" y="13"/>
                    </a:moveTo>
                    <a:lnTo>
                      <a:pt x="0" y="22"/>
                    </a:lnTo>
                    <a:lnTo>
                      <a:pt x="51" y="29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3"/>
                    </a:lnTo>
                    <a:lnTo>
                      <a:pt x="62" y="19"/>
                    </a:lnTo>
                    <a:lnTo>
                      <a:pt x="67" y="23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7" y="29"/>
                    </a:lnTo>
                    <a:lnTo>
                      <a:pt x="75" y="30"/>
                    </a:lnTo>
                    <a:lnTo>
                      <a:pt x="73" y="31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348" y="74"/>
                    </a:lnTo>
                    <a:lnTo>
                      <a:pt x="351" y="72"/>
                    </a:lnTo>
                    <a:lnTo>
                      <a:pt x="356" y="71"/>
                    </a:lnTo>
                    <a:lnTo>
                      <a:pt x="360" y="70"/>
                    </a:lnTo>
                    <a:lnTo>
                      <a:pt x="363" y="69"/>
                    </a:lnTo>
                    <a:lnTo>
                      <a:pt x="362" y="66"/>
                    </a:lnTo>
                    <a:lnTo>
                      <a:pt x="361" y="61"/>
                    </a:lnTo>
                    <a:lnTo>
                      <a:pt x="361" y="55"/>
                    </a:lnTo>
                    <a:lnTo>
                      <a:pt x="361" y="51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5" y="4"/>
                    </a:lnTo>
                    <a:lnTo>
                      <a:pt x="8" y="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5004720" y="3348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016240" y="33465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6" y="2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5016240" y="336240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9"/>
                    </a:moveTo>
                    <a:lnTo>
                      <a:pt x="21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4728960" y="3341520"/>
                <a:ext cx="300240" cy="60480"/>
              </a:xfrm>
              <a:custGeom>
                <a:avLst/>
                <a:gdLst/>
                <a:ahLst/>
                <a:rect l="l" t="t" r="r" b="b"/>
                <a:pathLst>
                  <a:path w="379" h="76">
                    <a:moveTo>
                      <a:pt x="21" y="23"/>
                    </a:moveTo>
                    <a:lnTo>
                      <a:pt x="25" y="21"/>
                    </a:lnTo>
                    <a:lnTo>
                      <a:pt x="30" y="20"/>
                    </a:lnTo>
                    <a:lnTo>
                      <a:pt x="36" y="17"/>
                    </a:lnTo>
                    <a:lnTo>
                      <a:pt x="40" y="16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1" y="10"/>
                    </a:lnTo>
                    <a:lnTo>
                      <a:pt x="34" y="10"/>
                    </a:lnTo>
                    <a:lnTo>
                      <a:pt x="28" y="12"/>
                    </a:lnTo>
                    <a:lnTo>
                      <a:pt x="21" y="13"/>
                    </a:lnTo>
                    <a:lnTo>
                      <a:pt x="14" y="14"/>
                    </a:lnTo>
                    <a:lnTo>
                      <a:pt x="7" y="15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377" y="50"/>
                    </a:lnTo>
                    <a:lnTo>
                      <a:pt x="377" y="58"/>
                    </a:lnTo>
                    <a:lnTo>
                      <a:pt x="377" y="65"/>
                    </a:lnTo>
                    <a:lnTo>
                      <a:pt x="378" y="70"/>
                    </a:lnTo>
                    <a:lnTo>
                      <a:pt x="379" y="76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730400" y="3341520"/>
                <a:ext cx="293760" cy="51120"/>
              </a:xfrm>
              <a:custGeom>
                <a:avLst/>
                <a:gdLst/>
                <a:ahLst/>
                <a:rect l="l" t="t" r="r" b="b"/>
                <a:pathLst>
                  <a:path w="370" h="65">
                    <a:moveTo>
                      <a:pt x="38" y="14"/>
                    </a:moveTo>
                    <a:lnTo>
                      <a:pt x="41" y="13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9" y="9"/>
                    </a:lnTo>
                    <a:lnTo>
                      <a:pt x="42" y="9"/>
                    </a:lnTo>
                    <a:lnTo>
                      <a:pt x="36" y="9"/>
                    </a:lnTo>
                    <a:lnTo>
                      <a:pt x="30" y="10"/>
                    </a:lnTo>
                    <a:lnTo>
                      <a:pt x="24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9" y="1"/>
                    </a:lnTo>
                    <a:lnTo>
                      <a:pt x="34" y="1"/>
                    </a:lnTo>
                    <a:lnTo>
                      <a:pt x="49" y="1"/>
                    </a:lnTo>
                    <a:lnTo>
                      <a:pt x="63" y="1"/>
                    </a:lnTo>
                    <a:lnTo>
                      <a:pt x="78" y="1"/>
                    </a:lnTo>
                    <a:lnTo>
                      <a:pt x="93" y="1"/>
                    </a:lnTo>
                    <a:lnTo>
                      <a:pt x="107" y="1"/>
                    </a:lnTo>
                    <a:lnTo>
                      <a:pt x="122" y="0"/>
                    </a:lnTo>
                    <a:lnTo>
                      <a:pt x="355" y="36"/>
                    </a:lnTo>
                    <a:lnTo>
                      <a:pt x="358" y="36"/>
                    </a:lnTo>
                    <a:lnTo>
                      <a:pt x="360" y="37"/>
                    </a:lnTo>
                    <a:lnTo>
                      <a:pt x="364" y="39"/>
                    </a:lnTo>
                    <a:lnTo>
                      <a:pt x="367" y="40"/>
                    </a:lnTo>
                    <a:lnTo>
                      <a:pt x="369" y="46"/>
                    </a:lnTo>
                    <a:lnTo>
                      <a:pt x="370" y="51"/>
                    </a:lnTo>
                    <a:lnTo>
                      <a:pt x="370" y="58"/>
                    </a:lnTo>
                    <a:lnTo>
                      <a:pt x="370" y="65"/>
                    </a:lnTo>
                    <a:lnTo>
                      <a:pt x="38" y="1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4730400" y="3336840"/>
                <a:ext cx="255600" cy="42840"/>
              </a:xfrm>
              <a:custGeom>
                <a:avLst/>
                <a:gdLst/>
                <a:ahLst/>
                <a:rect l="l" t="t" r="r" b="b"/>
                <a:pathLst>
                  <a:path w="323" h="55">
                    <a:moveTo>
                      <a:pt x="134" y="0"/>
                    </a:moveTo>
                    <a:lnTo>
                      <a:pt x="118" y="2"/>
                    </a:lnTo>
                    <a:lnTo>
                      <a:pt x="101" y="3"/>
                    </a:lnTo>
                    <a:lnTo>
                      <a:pt x="85" y="4"/>
                    </a:lnTo>
                    <a:lnTo>
                      <a:pt x="68" y="5"/>
                    </a:lnTo>
                    <a:lnTo>
                      <a:pt x="52" y="6"/>
                    </a:lnTo>
                    <a:lnTo>
                      <a:pt x="35" y="6"/>
                    </a:lnTo>
                    <a:lnTo>
                      <a:pt x="17" y="7"/>
                    </a:lnTo>
                    <a:lnTo>
                      <a:pt x="0" y="7"/>
                    </a:lnTo>
                    <a:lnTo>
                      <a:pt x="323" y="55"/>
                    </a:lnTo>
                    <a:lnTo>
                      <a:pt x="322" y="52"/>
                    </a:lnTo>
                    <a:lnTo>
                      <a:pt x="320" y="50"/>
                    </a:lnTo>
                    <a:lnTo>
                      <a:pt x="320" y="48"/>
                    </a:lnTo>
                    <a:lnTo>
                      <a:pt x="320" y="45"/>
                    </a:lnTo>
                    <a:lnTo>
                      <a:pt x="315" y="43"/>
                    </a:lnTo>
                    <a:lnTo>
                      <a:pt x="309" y="41"/>
                    </a:lnTo>
                    <a:lnTo>
                      <a:pt x="304" y="38"/>
                    </a:lnTo>
                    <a:lnTo>
                      <a:pt x="301" y="36"/>
                    </a:lnTo>
                    <a:lnTo>
                      <a:pt x="301" y="34"/>
                    </a:lnTo>
                    <a:lnTo>
                      <a:pt x="302" y="33"/>
                    </a:lnTo>
                    <a:lnTo>
                      <a:pt x="303" y="29"/>
                    </a:lnTo>
                    <a:lnTo>
                      <a:pt x="303" y="26"/>
                    </a:lnTo>
                    <a:lnTo>
                      <a:pt x="304" y="26"/>
                    </a:lnTo>
                    <a:lnTo>
                      <a:pt x="305" y="26"/>
                    </a:lnTo>
                    <a:lnTo>
                      <a:pt x="305" y="26"/>
                    </a:lnTo>
                    <a:lnTo>
                      <a:pt x="305" y="26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4722120" y="3335400"/>
                <a:ext cx="204840" cy="33120"/>
              </a:xfrm>
              <a:custGeom>
                <a:avLst/>
                <a:gdLst/>
                <a:ahLst/>
                <a:rect l="l" t="t" r="r" b="b"/>
                <a:pathLst>
                  <a:path w="257" h="43">
                    <a:moveTo>
                      <a:pt x="130" y="0"/>
                    </a:moveTo>
                    <a:lnTo>
                      <a:pt x="114" y="0"/>
                    </a:lnTo>
                    <a:lnTo>
                      <a:pt x="98" y="1"/>
                    </a:lnTo>
                    <a:lnTo>
                      <a:pt x="82" y="1"/>
                    </a:lnTo>
                    <a:lnTo>
                      <a:pt x="66" y="2"/>
                    </a:lnTo>
                    <a:lnTo>
                      <a:pt x="48" y="4"/>
                    </a:lnTo>
                    <a:lnTo>
                      <a:pt x="32" y="5"/>
                    </a:lnTo>
                    <a:lnTo>
                      <a:pt x="16" y="6"/>
                    </a:lnTo>
                    <a:lnTo>
                      <a:pt x="0" y="7"/>
                    </a:lnTo>
                    <a:lnTo>
                      <a:pt x="233" y="43"/>
                    </a:lnTo>
                    <a:lnTo>
                      <a:pt x="232" y="42"/>
                    </a:lnTo>
                    <a:lnTo>
                      <a:pt x="229" y="40"/>
                    </a:lnTo>
                    <a:lnTo>
                      <a:pt x="228" y="39"/>
                    </a:lnTo>
                    <a:lnTo>
                      <a:pt x="226" y="38"/>
                    </a:lnTo>
                    <a:lnTo>
                      <a:pt x="226" y="36"/>
                    </a:lnTo>
                    <a:lnTo>
                      <a:pt x="227" y="35"/>
                    </a:lnTo>
                    <a:lnTo>
                      <a:pt x="228" y="31"/>
                    </a:lnTo>
                    <a:lnTo>
                      <a:pt x="228" y="28"/>
                    </a:lnTo>
                    <a:lnTo>
                      <a:pt x="235" y="25"/>
                    </a:lnTo>
                    <a:lnTo>
                      <a:pt x="243" y="24"/>
                    </a:lnTo>
                    <a:lnTo>
                      <a:pt x="250" y="22"/>
                    </a:lnTo>
                    <a:lnTo>
                      <a:pt x="257" y="19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4717800" y="3335400"/>
                <a:ext cx="162000" cy="22320"/>
              </a:xfrm>
              <a:custGeom>
                <a:avLst/>
                <a:gdLst/>
                <a:ahLst/>
                <a:rect l="l" t="t" r="r" b="b"/>
                <a:pathLst>
                  <a:path w="205" h="28">
                    <a:moveTo>
                      <a:pt x="0" y="2"/>
                    </a:moveTo>
                    <a:lnTo>
                      <a:pt x="12" y="1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7" y="0"/>
                    </a:lnTo>
                    <a:lnTo>
                      <a:pt x="101" y="0"/>
                    </a:lnTo>
                    <a:lnTo>
                      <a:pt x="114" y="1"/>
                    </a:lnTo>
                    <a:lnTo>
                      <a:pt x="126" y="2"/>
                    </a:lnTo>
                    <a:lnTo>
                      <a:pt x="139" y="4"/>
                    </a:lnTo>
                    <a:lnTo>
                      <a:pt x="152" y="6"/>
                    </a:lnTo>
                    <a:lnTo>
                      <a:pt x="166" y="8"/>
                    </a:lnTo>
                    <a:lnTo>
                      <a:pt x="178" y="11"/>
                    </a:lnTo>
                    <a:lnTo>
                      <a:pt x="191" y="13"/>
                    </a:lnTo>
                    <a:lnTo>
                      <a:pt x="205" y="16"/>
                    </a:lnTo>
                    <a:lnTo>
                      <a:pt x="197" y="20"/>
                    </a:lnTo>
                    <a:lnTo>
                      <a:pt x="189" y="23"/>
                    </a:lnTo>
                    <a:lnTo>
                      <a:pt x="179" y="25"/>
                    </a:lnTo>
                    <a:lnTo>
                      <a:pt x="171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4717440" y="3335400"/>
                <a:ext cx="104760" cy="14400"/>
              </a:xfrm>
              <a:custGeom>
                <a:avLst/>
                <a:gdLst/>
                <a:ahLst/>
                <a:rect l="l" t="t" r="r" b="b"/>
                <a:pathLst>
                  <a:path w="134" h="19">
                    <a:moveTo>
                      <a:pt x="0" y="0"/>
                    </a:moveTo>
                    <a:lnTo>
                      <a:pt x="16" y="0"/>
                    </a:lnTo>
                    <a:lnTo>
                      <a:pt x="32" y="1"/>
                    </a:lnTo>
                    <a:lnTo>
                      <a:pt x="50" y="2"/>
                    </a:lnTo>
                    <a:lnTo>
                      <a:pt x="66" y="4"/>
                    </a:lnTo>
                    <a:lnTo>
                      <a:pt x="83" y="6"/>
                    </a:lnTo>
                    <a:lnTo>
                      <a:pt x="100" y="9"/>
                    </a:lnTo>
                    <a:lnTo>
                      <a:pt x="117" y="13"/>
                    </a:lnTo>
                    <a:lnTo>
                      <a:pt x="134" y="16"/>
                    </a:lnTo>
                    <a:lnTo>
                      <a:pt x="133" y="16"/>
                    </a:lnTo>
                    <a:lnTo>
                      <a:pt x="130" y="17"/>
                    </a:lnTo>
                    <a:lnTo>
                      <a:pt x="129" y="19"/>
                    </a:lnTo>
                    <a:lnTo>
                      <a:pt x="12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5006520" y="35542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0" y="0"/>
                    </a:moveTo>
                    <a:lnTo>
                      <a:pt x="0" y="8"/>
                    </a:lnTo>
                    <a:lnTo>
                      <a:pt x="1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5001840" y="35496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8" y="0"/>
                    </a:moveTo>
                    <a:lnTo>
                      <a:pt x="0" y="8"/>
                    </a:lnTo>
                    <a:lnTo>
                      <a:pt x="5" y="10"/>
                    </a:lnTo>
                    <a:lnTo>
                      <a:pt x="15" y="5"/>
                    </a:lnTo>
                    <a:lnTo>
                      <a:pt x="17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4998600" y="3546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8" y="0"/>
                    </a:moveTo>
                    <a:lnTo>
                      <a:pt x="0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4995720" y="35431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1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4991040" y="354168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0"/>
                    </a:moveTo>
                    <a:lnTo>
                      <a:pt x="0" y="7"/>
                    </a:lnTo>
                    <a:lnTo>
                      <a:pt x="9" y="10"/>
                    </a:lnTo>
                    <a:lnTo>
                      <a:pt x="1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4989240" y="3537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0"/>
                    </a:moveTo>
                    <a:lnTo>
                      <a:pt x="0" y="7"/>
                    </a:lnTo>
                    <a:lnTo>
                      <a:pt x="12" y="9"/>
                    </a:lnTo>
                    <a:lnTo>
                      <a:pt x="1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4986000" y="35337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7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4981320" y="3530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7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4977720" y="352908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9" y="0"/>
                    </a:moveTo>
                    <a:lnTo>
                      <a:pt x="0" y="7"/>
                    </a:lnTo>
                    <a:lnTo>
                      <a:pt x="11" y="9"/>
                    </a:lnTo>
                    <a:lnTo>
                      <a:pt x="2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976640" y="3524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7" y="0"/>
                    </a:moveTo>
                    <a:lnTo>
                      <a:pt x="0" y="8"/>
                    </a:lnTo>
                    <a:lnTo>
                      <a:pt x="13" y="10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4971960" y="35193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8" y="0"/>
                    </a:moveTo>
                    <a:lnTo>
                      <a:pt x="0" y="10"/>
                    </a:lnTo>
                    <a:lnTo>
                      <a:pt x="12" y="10"/>
                    </a:lnTo>
                    <a:lnTo>
                      <a:pt x="1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968720" y="35164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8" y="0"/>
                    </a:moveTo>
                    <a:lnTo>
                      <a:pt x="0" y="10"/>
                    </a:lnTo>
                    <a:lnTo>
                      <a:pt x="13" y="12"/>
                    </a:lnTo>
                    <a:lnTo>
                      <a:pt x="22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4965480" y="35146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7" y="0"/>
                    </a:moveTo>
                    <a:lnTo>
                      <a:pt x="0" y="7"/>
                    </a:lnTo>
                    <a:lnTo>
                      <a:pt x="11" y="9"/>
                    </a:lnTo>
                    <a:lnTo>
                      <a:pt x="2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4964040" y="35114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9" y="0"/>
                    </a:moveTo>
                    <a:lnTo>
                      <a:pt x="0" y="7"/>
                    </a:lnTo>
                    <a:lnTo>
                      <a:pt x="14" y="10"/>
                    </a:lnTo>
                    <a:lnTo>
                      <a:pt x="21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4958640" y="35067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7" y="0"/>
                    </a:moveTo>
                    <a:lnTo>
                      <a:pt x="0" y="9"/>
                    </a:lnTo>
                    <a:lnTo>
                      <a:pt x="14" y="11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4952520" y="35035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7" y="0"/>
                    </a:moveTo>
                    <a:lnTo>
                      <a:pt x="0" y="9"/>
                    </a:lnTo>
                    <a:lnTo>
                      <a:pt x="12" y="12"/>
                    </a:lnTo>
                    <a:lnTo>
                      <a:pt x="14" y="9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4949280" y="3502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9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26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4946400" y="34974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0"/>
                    </a:moveTo>
                    <a:lnTo>
                      <a:pt x="0" y="8"/>
                    </a:lnTo>
                    <a:lnTo>
                      <a:pt x="18" y="13"/>
                    </a:lnTo>
                    <a:lnTo>
                      <a:pt x="24" y="6"/>
                    </a:lnTo>
                    <a:lnTo>
                      <a:pt x="2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4941720" y="3494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1"/>
                    </a:moveTo>
                    <a:lnTo>
                      <a:pt x="4" y="3"/>
                    </a:lnTo>
                    <a:lnTo>
                      <a:pt x="7" y="0"/>
                    </a:lnTo>
                    <a:lnTo>
                      <a:pt x="26" y="3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4939920" y="348948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9"/>
                    </a:moveTo>
                    <a:lnTo>
                      <a:pt x="2" y="7"/>
                    </a:lnTo>
                    <a:lnTo>
                      <a:pt x="8" y="0"/>
                    </a:lnTo>
                    <a:lnTo>
                      <a:pt x="27" y="4"/>
                    </a:lnTo>
                    <a:lnTo>
                      <a:pt x="20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4936680" y="34876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8" y="0"/>
                    </a:moveTo>
                    <a:lnTo>
                      <a:pt x="0" y="6"/>
                    </a:lnTo>
                    <a:lnTo>
                      <a:pt x="19" y="9"/>
                    </a:lnTo>
                    <a:lnTo>
                      <a:pt x="26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933440" y="34844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9" y="0"/>
                    </a:moveTo>
                    <a:lnTo>
                      <a:pt x="0" y="7"/>
                    </a:lnTo>
                    <a:lnTo>
                      <a:pt x="19" y="11"/>
                    </a:lnTo>
                    <a:lnTo>
                      <a:pt x="2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4930200" y="34815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9" y="0"/>
                    </a:moveTo>
                    <a:lnTo>
                      <a:pt x="0" y="10"/>
                    </a:lnTo>
                    <a:lnTo>
                      <a:pt x="18" y="12"/>
                    </a:lnTo>
                    <a:lnTo>
                      <a:pt x="25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4927320" y="3479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0" y="7"/>
                    </a:moveTo>
                    <a:lnTo>
                      <a:pt x="5" y="2"/>
                    </a:lnTo>
                    <a:lnTo>
                      <a:pt x="10" y="0"/>
                    </a:lnTo>
                    <a:lnTo>
                      <a:pt x="27" y="2"/>
                    </a:lnTo>
                    <a:lnTo>
                      <a:pt x="19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4922280" y="3475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7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27" y="3"/>
                    </a:lnTo>
                    <a:lnTo>
                      <a:pt x="16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4919400" y="34704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11" y="0"/>
                    </a:moveTo>
                    <a:lnTo>
                      <a:pt x="0" y="10"/>
                    </a:lnTo>
                    <a:lnTo>
                      <a:pt x="17" y="12"/>
                    </a:lnTo>
                    <a:lnTo>
                      <a:pt x="26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917960" y="34686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2" y="0"/>
                    </a:moveTo>
                    <a:lnTo>
                      <a:pt x="0" y="8"/>
                    </a:lnTo>
                    <a:lnTo>
                      <a:pt x="15" y="11"/>
                    </a:lnTo>
                    <a:lnTo>
                      <a:pt x="21" y="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4913280" y="3465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7"/>
                    </a:moveTo>
                    <a:lnTo>
                      <a:pt x="13" y="2"/>
                    </a:lnTo>
                    <a:lnTo>
                      <a:pt x="15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4909680" y="34639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7"/>
                    </a:moveTo>
                    <a:lnTo>
                      <a:pt x="5" y="5"/>
                    </a:lnTo>
                    <a:lnTo>
                      <a:pt x="19" y="0"/>
                    </a:lnTo>
                    <a:lnTo>
                      <a:pt x="9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910040" y="3463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3"/>
                    </a:moveTo>
                    <a:lnTo>
                      <a:pt x="12" y="0"/>
                    </a:lnTo>
                    <a:lnTo>
                      <a:pt x="7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4397040" y="3621240"/>
                <a:ext cx="59040" cy="1584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0" y="0"/>
                    </a:moveTo>
                    <a:lnTo>
                      <a:pt x="5" y="4"/>
                    </a:lnTo>
                    <a:lnTo>
                      <a:pt x="11" y="10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19"/>
                    </a:lnTo>
                    <a:lnTo>
                      <a:pt x="37" y="17"/>
                    </a:lnTo>
                    <a:lnTo>
                      <a:pt x="44" y="16"/>
                    </a:lnTo>
                    <a:lnTo>
                      <a:pt x="50" y="15"/>
                    </a:lnTo>
                    <a:lnTo>
                      <a:pt x="55" y="13"/>
                    </a:lnTo>
                    <a:lnTo>
                      <a:pt x="62" y="13"/>
                    </a:lnTo>
                    <a:lnTo>
                      <a:pt x="68" y="12"/>
                    </a:lnTo>
                    <a:lnTo>
                      <a:pt x="75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4355640" y="3608280"/>
                <a:ext cx="106200" cy="27000"/>
              </a:xfrm>
              <a:custGeom>
                <a:avLst/>
                <a:gdLst/>
                <a:ahLst/>
                <a:rect l="l" t="t" r="r" b="b"/>
                <a:pathLst>
                  <a:path w="134" h="33">
                    <a:moveTo>
                      <a:pt x="0" y="0"/>
                    </a:moveTo>
                    <a:lnTo>
                      <a:pt x="4" y="8"/>
                    </a:lnTo>
                    <a:lnTo>
                      <a:pt x="9" y="15"/>
                    </a:lnTo>
                    <a:lnTo>
                      <a:pt x="15" y="22"/>
                    </a:lnTo>
                    <a:lnTo>
                      <a:pt x="24" y="28"/>
                    </a:lnTo>
                    <a:lnTo>
                      <a:pt x="43" y="33"/>
                    </a:lnTo>
                    <a:lnTo>
                      <a:pt x="54" y="31"/>
                    </a:lnTo>
                    <a:lnTo>
                      <a:pt x="66" y="28"/>
                    </a:lnTo>
                    <a:lnTo>
                      <a:pt x="77" y="26"/>
                    </a:lnTo>
                    <a:lnTo>
                      <a:pt x="89" y="25"/>
                    </a:lnTo>
                    <a:lnTo>
                      <a:pt x="99" y="24"/>
                    </a:lnTo>
                    <a:lnTo>
                      <a:pt x="111" y="23"/>
                    </a:lnTo>
                    <a:lnTo>
                      <a:pt x="122" y="22"/>
                    </a:lnTo>
                    <a:lnTo>
                      <a:pt x="134" y="22"/>
                    </a:lnTo>
                    <a:lnTo>
                      <a:pt x="34" y="5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8" y="17"/>
                    </a:lnTo>
                    <a:lnTo>
                      <a:pt x="35" y="14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4335120" y="3597120"/>
                <a:ext cx="130320" cy="33480"/>
              </a:xfrm>
              <a:custGeom>
                <a:avLst/>
                <a:gdLst/>
                <a:ahLst/>
                <a:rect l="l" t="t" r="r" b="b"/>
                <a:pathLst>
                  <a:path w="164" h="40">
                    <a:moveTo>
                      <a:pt x="0" y="0"/>
                    </a:moveTo>
                    <a:lnTo>
                      <a:pt x="3" y="8"/>
                    </a:lnTo>
                    <a:lnTo>
                      <a:pt x="5" y="15"/>
                    </a:lnTo>
                    <a:lnTo>
                      <a:pt x="8" y="22"/>
                    </a:lnTo>
                    <a:lnTo>
                      <a:pt x="11" y="29"/>
                    </a:lnTo>
                    <a:lnTo>
                      <a:pt x="86" y="40"/>
                    </a:lnTo>
                    <a:lnTo>
                      <a:pt x="95" y="39"/>
                    </a:lnTo>
                    <a:lnTo>
                      <a:pt x="105" y="37"/>
                    </a:lnTo>
                    <a:lnTo>
                      <a:pt x="115" y="36"/>
                    </a:lnTo>
                    <a:lnTo>
                      <a:pt x="124" y="34"/>
                    </a:lnTo>
                    <a:lnTo>
                      <a:pt x="133" y="34"/>
                    </a:lnTo>
                    <a:lnTo>
                      <a:pt x="144" y="33"/>
                    </a:lnTo>
                    <a:lnTo>
                      <a:pt x="154" y="33"/>
                    </a:lnTo>
                    <a:lnTo>
                      <a:pt x="164" y="33"/>
                    </a:lnTo>
                    <a:lnTo>
                      <a:pt x="163" y="31"/>
                    </a:lnTo>
                    <a:lnTo>
                      <a:pt x="161" y="30"/>
                    </a:lnTo>
                    <a:lnTo>
                      <a:pt x="160" y="28"/>
                    </a:lnTo>
                    <a:lnTo>
                      <a:pt x="158" y="24"/>
                    </a:lnTo>
                    <a:lnTo>
                      <a:pt x="33" y="7"/>
                    </a:lnTo>
                    <a:lnTo>
                      <a:pt x="35" y="13"/>
                    </a:lnTo>
                    <a:lnTo>
                      <a:pt x="37" y="18"/>
                    </a:lnTo>
                    <a:lnTo>
                      <a:pt x="39" y="24"/>
                    </a:lnTo>
                    <a:lnTo>
                      <a:pt x="42" y="31"/>
                    </a:lnTo>
                    <a:lnTo>
                      <a:pt x="35" y="24"/>
                    </a:lnTo>
                    <a:lnTo>
                      <a:pt x="31" y="17"/>
                    </a:lnTo>
                    <a:lnTo>
                      <a:pt x="25" y="11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4441680" y="3611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4335120" y="3592440"/>
                <a:ext cx="108000" cy="334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0"/>
                    </a:move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7" y="21"/>
                    </a:lnTo>
                    <a:lnTo>
                      <a:pt x="10" y="26"/>
                    </a:lnTo>
                    <a:lnTo>
                      <a:pt x="110" y="43"/>
                    </a:lnTo>
                    <a:lnTo>
                      <a:pt x="116" y="41"/>
                    </a:lnTo>
                    <a:lnTo>
                      <a:pt x="121" y="40"/>
                    </a:lnTo>
                    <a:lnTo>
                      <a:pt x="128" y="40"/>
                    </a:lnTo>
                    <a:lnTo>
                      <a:pt x="136" y="40"/>
                    </a:lnTo>
                    <a:lnTo>
                      <a:pt x="132" y="35"/>
                    </a:lnTo>
                    <a:lnTo>
                      <a:pt x="127" y="30"/>
                    </a:lnTo>
                    <a:lnTo>
                      <a:pt x="121" y="23"/>
                    </a:lnTo>
                    <a:lnTo>
                      <a:pt x="117" y="16"/>
                    </a:lnTo>
                    <a:lnTo>
                      <a:pt x="43" y="7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3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4316400" y="3608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3"/>
                    </a:moveTo>
                    <a:lnTo>
                      <a:pt x="6" y="4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4442760" y="3592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4443120" y="3589200"/>
                <a:ext cx="28800" cy="241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35" y="31"/>
                    </a:moveTo>
                    <a:lnTo>
                      <a:pt x="35" y="29"/>
                    </a:lnTo>
                    <a:lnTo>
                      <a:pt x="32" y="22"/>
                    </a:lnTo>
                    <a:lnTo>
                      <a:pt x="29" y="15"/>
                    </a:lnTo>
                    <a:lnTo>
                      <a:pt x="25" y="10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9" y="20"/>
                    </a:lnTo>
                    <a:lnTo>
                      <a:pt x="11" y="26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4448160" y="35971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4340160" y="3579840"/>
                <a:ext cx="109440" cy="38160"/>
              </a:xfrm>
              <a:custGeom>
                <a:avLst/>
                <a:gdLst/>
                <a:ahLst/>
                <a:rect l="l" t="t" r="r" b="b"/>
                <a:pathLst>
                  <a:path w="139" h="46">
                    <a:moveTo>
                      <a:pt x="0" y="0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8" y="15"/>
                    </a:lnTo>
                    <a:lnTo>
                      <a:pt x="11" y="22"/>
                    </a:lnTo>
                    <a:lnTo>
                      <a:pt x="14" y="29"/>
                    </a:lnTo>
                    <a:lnTo>
                      <a:pt x="139" y="46"/>
                    </a:lnTo>
                    <a:lnTo>
                      <a:pt x="133" y="39"/>
                    </a:lnTo>
                    <a:lnTo>
                      <a:pt x="127" y="32"/>
                    </a:lnTo>
                    <a:lnTo>
                      <a:pt x="122" y="25"/>
                    </a:lnTo>
                    <a:lnTo>
                      <a:pt x="117" y="17"/>
                    </a:lnTo>
                    <a:lnTo>
                      <a:pt x="45" y="8"/>
                    </a:lnTo>
                    <a:lnTo>
                      <a:pt x="49" y="13"/>
                    </a:lnTo>
                    <a:lnTo>
                      <a:pt x="51" y="17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46" y="21"/>
                    </a:lnTo>
                    <a:lnTo>
                      <a:pt x="42" y="16"/>
                    </a:lnTo>
                    <a:lnTo>
                      <a:pt x="36" y="10"/>
                    </a:lnTo>
                    <a:lnTo>
                      <a:pt x="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4279320" y="3603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9" y="2"/>
                    </a:moveTo>
                    <a:lnTo>
                      <a:pt x="29" y="4"/>
                    </a:lnTo>
                    <a:lnTo>
                      <a:pt x="29" y="6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28" y="11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3" y="7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4316400" y="3597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8" y="2"/>
                    </a:moveTo>
                    <a:lnTo>
                      <a:pt x="21" y="8"/>
                    </a:lnTo>
                    <a:lnTo>
                      <a:pt x="24" y="13"/>
                    </a:lnTo>
                    <a:lnTo>
                      <a:pt x="26" y="18"/>
                    </a:lnTo>
                    <a:lnTo>
                      <a:pt x="29" y="24"/>
                    </a:lnTo>
                    <a:lnTo>
                      <a:pt x="23" y="18"/>
                    </a:lnTo>
                    <a:lnTo>
                      <a:pt x="16" y="11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449240" y="3579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4449240" y="35766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33" y="27"/>
                    </a:lnTo>
                    <a:lnTo>
                      <a:pt x="31" y="21"/>
                    </a:lnTo>
                    <a:lnTo>
                      <a:pt x="27" y="16"/>
                    </a:lnTo>
                    <a:lnTo>
                      <a:pt x="24" y="10"/>
                    </a:lnTo>
                    <a:lnTo>
                      <a:pt x="21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13"/>
                    </a:lnTo>
                    <a:lnTo>
                      <a:pt x="9" y="19"/>
                    </a:lnTo>
                    <a:lnTo>
                      <a:pt x="11" y="23"/>
                    </a:lnTo>
                    <a:lnTo>
                      <a:pt x="14" y="27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4318920" y="3608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4279320" y="359100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1" y="8"/>
                    </a:lnTo>
                    <a:lnTo>
                      <a:pt x="17" y="12"/>
                    </a:lnTo>
                    <a:lnTo>
                      <a:pt x="22" y="17"/>
                    </a:lnTo>
                    <a:lnTo>
                      <a:pt x="28" y="20"/>
                    </a:lnTo>
                    <a:lnTo>
                      <a:pt x="32" y="24"/>
                    </a:lnTo>
                    <a:lnTo>
                      <a:pt x="37" y="27"/>
                    </a:lnTo>
                    <a:lnTo>
                      <a:pt x="40" y="31"/>
                    </a:lnTo>
                    <a:lnTo>
                      <a:pt x="42" y="31"/>
                    </a:lnTo>
                    <a:lnTo>
                      <a:pt x="45" y="30"/>
                    </a:lnTo>
                    <a:lnTo>
                      <a:pt x="47" y="27"/>
                    </a:lnTo>
                    <a:lnTo>
                      <a:pt x="51" y="26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4251240" y="35971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4"/>
                    </a:moveTo>
                    <a:lnTo>
                      <a:pt x="18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4318920" y="3591000"/>
                <a:ext cx="1800" cy="1440"/>
              </a:xfrm>
              <a:prstGeom prst="rect">
                <a:avLst/>
              </a:pr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4321080" y="3575160"/>
                <a:ext cx="95040" cy="36360"/>
              </a:xfrm>
              <a:custGeom>
                <a:avLst/>
                <a:gdLst/>
                <a:ahLst/>
                <a:rect l="l" t="t" r="r" b="b"/>
                <a:pathLst>
                  <a:path w="121" h="46">
                    <a:moveTo>
                      <a:pt x="121" y="46"/>
                    </a:moveTo>
                    <a:lnTo>
                      <a:pt x="121" y="43"/>
                    </a:lnTo>
                    <a:lnTo>
                      <a:pt x="117" y="37"/>
                    </a:lnTo>
                    <a:lnTo>
                      <a:pt x="113" y="31"/>
                    </a:lnTo>
                    <a:lnTo>
                      <a:pt x="108" y="24"/>
                    </a:lnTo>
                    <a:lnTo>
                      <a:pt x="105" y="17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9" y="29"/>
                    </a:lnTo>
                    <a:lnTo>
                      <a:pt x="83" y="38"/>
                    </a:lnTo>
                    <a:lnTo>
                      <a:pt x="79" y="32"/>
                    </a:lnTo>
                    <a:lnTo>
                      <a:pt x="76" y="28"/>
                    </a:lnTo>
                    <a:lnTo>
                      <a:pt x="72" y="22"/>
                    </a:lnTo>
                    <a:lnTo>
                      <a:pt x="69" y="17"/>
                    </a:lnTo>
                    <a:lnTo>
                      <a:pt x="75" y="18"/>
                    </a:lnTo>
                    <a:lnTo>
                      <a:pt x="82" y="21"/>
                    </a:lnTo>
                    <a:lnTo>
                      <a:pt x="87" y="24"/>
                    </a:lnTo>
                    <a:lnTo>
                      <a:pt x="93" y="28"/>
                    </a:lnTo>
                    <a:lnTo>
                      <a:pt x="99" y="31"/>
                    </a:lnTo>
                    <a:lnTo>
                      <a:pt x="106" y="35"/>
                    </a:lnTo>
                    <a:lnTo>
                      <a:pt x="110" y="39"/>
                    </a:lnTo>
                    <a:lnTo>
                      <a:pt x="116" y="43"/>
                    </a:lnTo>
                    <a:lnTo>
                      <a:pt x="121" y="46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4413240" y="3594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4415760" y="3575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6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4415760" y="357012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51" y="34"/>
                    </a:moveTo>
                    <a:lnTo>
                      <a:pt x="51" y="31"/>
                    </a:lnTo>
                    <a:lnTo>
                      <a:pt x="44" y="25"/>
                    </a:lnTo>
                    <a:lnTo>
                      <a:pt x="38" y="19"/>
                    </a:lnTo>
                    <a:lnTo>
                      <a:pt x="32" y="12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3"/>
                    </a:lnTo>
                    <a:lnTo>
                      <a:pt x="9" y="17"/>
                    </a:lnTo>
                    <a:lnTo>
                      <a:pt x="13" y="23"/>
                    </a:lnTo>
                    <a:lnTo>
                      <a:pt x="15" y="29"/>
                    </a:lnTo>
                    <a:lnTo>
                      <a:pt x="51" y="34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4453920" y="3587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4456080" y="357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4455720" y="35672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5" y="29"/>
                    </a:moveTo>
                    <a:lnTo>
                      <a:pt x="25" y="24"/>
                    </a:lnTo>
                    <a:lnTo>
                      <a:pt x="22" y="18"/>
                    </a:lnTo>
                    <a:lnTo>
                      <a:pt x="18" y="11"/>
                    </a:lnTo>
                    <a:lnTo>
                      <a:pt x="15" y="6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7" y="26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4325400" y="35924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4281480" y="3578400"/>
                <a:ext cx="48960" cy="266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0" y="0"/>
                    </a:moveTo>
                    <a:lnTo>
                      <a:pt x="0" y="4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7" y="24"/>
                    </a:lnTo>
                    <a:lnTo>
                      <a:pt x="33" y="31"/>
                    </a:lnTo>
                    <a:lnTo>
                      <a:pt x="62" y="33"/>
                    </a:lnTo>
                    <a:lnTo>
                      <a:pt x="59" y="26"/>
                    </a:lnTo>
                    <a:lnTo>
                      <a:pt x="54" y="19"/>
                    </a:lnTo>
                    <a:lnTo>
                      <a:pt x="50" y="13"/>
                    </a:lnTo>
                    <a:lnTo>
                      <a:pt x="4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4242960" y="3587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5" y="7"/>
                    </a:moveTo>
                    <a:lnTo>
                      <a:pt x="46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2" y="13"/>
                    </a:lnTo>
                    <a:lnTo>
                      <a:pt x="38" y="16"/>
                    </a:lnTo>
                    <a:lnTo>
                      <a:pt x="33" y="20"/>
                    </a:lnTo>
                    <a:lnTo>
                      <a:pt x="28" y="23"/>
                    </a:lnTo>
                    <a:lnTo>
                      <a:pt x="20" y="17"/>
                    </a:lnTo>
                    <a:lnTo>
                      <a:pt x="13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4330080" y="35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4330080" y="3564000"/>
                <a:ext cx="95400" cy="36360"/>
              </a:xfrm>
              <a:custGeom>
                <a:avLst/>
                <a:gdLst/>
                <a:ahLst/>
                <a:rect l="l" t="t" r="r" b="b"/>
                <a:pathLst>
                  <a:path w="120" h="45">
                    <a:moveTo>
                      <a:pt x="120" y="45"/>
                    </a:moveTo>
                    <a:lnTo>
                      <a:pt x="120" y="36"/>
                    </a:lnTo>
                    <a:lnTo>
                      <a:pt x="118" y="31"/>
                    </a:lnTo>
                    <a:lnTo>
                      <a:pt x="115" y="27"/>
                    </a:lnTo>
                    <a:lnTo>
                      <a:pt x="112" y="22"/>
                    </a:lnTo>
                    <a:lnTo>
                      <a:pt x="109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9" y="16"/>
                    </a:lnTo>
                    <a:lnTo>
                      <a:pt x="13" y="23"/>
                    </a:lnTo>
                    <a:lnTo>
                      <a:pt x="15" y="29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5" y="35"/>
                    </a:lnTo>
                    <a:lnTo>
                      <a:pt x="83" y="32"/>
                    </a:lnTo>
                    <a:lnTo>
                      <a:pt x="82" y="31"/>
                    </a:lnTo>
                    <a:lnTo>
                      <a:pt x="89" y="32"/>
                    </a:lnTo>
                    <a:lnTo>
                      <a:pt x="96" y="35"/>
                    </a:lnTo>
                    <a:lnTo>
                      <a:pt x="103" y="38"/>
                    </a:lnTo>
                    <a:lnTo>
                      <a:pt x="109" y="43"/>
                    </a:lnTo>
                    <a:lnTo>
                      <a:pt x="120" y="45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4423680" y="3584520"/>
                <a:ext cx="1800" cy="180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4423680" y="356400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4425480" y="3560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31"/>
                    </a:moveTo>
                    <a:lnTo>
                      <a:pt x="42" y="31"/>
                    </a:lnTo>
                    <a:lnTo>
                      <a:pt x="36" y="23"/>
                    </a:lnTo>
                    <a:lnTo>
                      <a:pt x="31" y="16"/>
                    </a:lnTo>
                    <a:lnTo>
                      <a:pt x="25" y="9"/>
                    </a:lnTo>
                    <a:lnTo>
                      <a:pt x="19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4458600" y="357840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4458600" y="356076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4460760" y="35654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6"/>
                    </a:moveTo>
                    <a:lnTo>
                      <a:pt x="19" y="16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4241160" y="3592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4217400" y="358308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6" y="7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4243320" y="3583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4243320" y="357516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60" y="24"/>
                    </a:moveTo>
                    <a:lnTo>
                      <a:pt x="60" y="22"/>
                    </a:lnTo>
                    <a:lnTo>
                      <a:pt x="56" y="20"/>
                    </a:lnTo>
                    <a:lnTo>
                      <a:pt x="52" y="15"/>
                    </a:lnTo>
                    <a:lnTo>
                      <a:pt x="46" y="10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10"/>
                    </a:lnTo>
                    <a:lnTo>
                      <a:pt x="15" y="17"/>
                    </a:lnTo>
                    <a:lnTo>
                      <a:pt x="22" y="23"/>
                    </a:lnTo>
                    <a:lnTo>
                      <a:pt x="29" y="29"/>
                    </a:lnTo>
                    <a:lnTo>
                      <a:pt x="48" y="33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7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4017960" y="3318120"/>
              <a:ext cx="1085760" cy="306360"/>
              <a:chOff x="4017960" y="3318120"/>
              <a:chExt cx="1085760" cy="30636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4287240" y="3592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290840" y="3575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4290840" y="356760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61" y="33"/>
                    </a:moveTo>
                    <a:lnTo>
                      <a:pt x="61" y="31"/>
                    </a:lnTo>
                    <a:lnTo>
                      <a:pt x="56" y="24"/>
                    </a:lnTo>
                    <a:lnTo>
                      <a:pt x="51" y="17"/>
                    </a:lnTo>
                    <a:lnTo>
                      <a:pt x="46" y="11"/>
                    </a:lnTo>
                    <a:lnTo>
                      <a:pt x="40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61" y="33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4333320" y="3576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0" y="15"/>
                    </a:lnTo>
                    <a:lnTo>
                      <a:pt x="7" y="15"/>
                    </a:lnTo>
                    <a:lnTo>
                      <a:pt x="6" y="12"/>
                    </a:lnTo>
                    <a:lnTo>
                      <a:pt x="3" y="7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4466520" y="3565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4338360" y="356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9"/>
                    </a:moveTo>
                    <a:lnTo>
                      <a:pt x="11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4338360" y="3553200"/>
                <a:ext cx="93600" cy="36360"/>
              </a:xfrm>
              <a:custGeom>
                <a:avLst/>
                <a:gdLst/>
                <a:ahLst/>
                <a:rect l="l" t="t" r="r" b="b"/>
                <a:pathLst>
                  <a:path w="118" h="46">
                    <a:moveTo>
                      <a:pt x="118" y="46"/>
                    </a:moveTo>
                    <a:lnTo>
                      <a:pt x="118" y="31"/>
                    </a:lnTo>
                    <a:lnTo>
                      <a:pt x="114" y="28"/>
                    </a:lnTo>
                    <a:lnTo>
                      <a:pt x="111" y="24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8" y="16"/>
                    </a:lnTo>
                    <a:lnTo>
                      <a:pt x="12" y="23"/>
                    </a:lnTo>
                    <a:lnTo>
                      <a:pt x="15" y="29"/>
                    </a:lnTo>
                    <a:lnTo>
                      <a:pt x="118" y="4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4435200" y="354852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38" h="31">
                    <a:moveTo>
                      <a:pt x="0" y="0"/>
                    </a:moveTo>
                    <a:lnTo>
                      <a:pt x="3" y="5"/>
                    </a:lnTo>
                    <a:lnTo>
                      <a:pt x="7" y="12"/>
                    </a:lnTo>
                    <a:lnTo>
                      <a:pt x="8" y="19"/>
                    </a:lnTo>
                    <a:lnTo>
                      <a:pt x="9" y="26"/>
                    </a:lnTo>
                    <a:lnTo>
                      <a:pt x="38" y="31"/>
                    </a:lnTo>
                    <a:lnTo>
                      <a:pt x="33" y="24"/>
                    </a:lnTo>
                    <a:lnTo>
                      <a:pt x="27" y="17"/>
                    </a:lnTo>
                    <a:lnTo>
                      <a:pt x="23" y="10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4244400" y="3584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0" y="7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4217760" y="3570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0" y="7"/>
                    </a:lnTo>
                    <a:lnTo>
                      <a:pt x="6" y="12"/>
                    </a:lnTo>
                    <a:lnTo>
                      <a:pt x="12" y="15"/>
                    </a:lnTo>
                    <a:lnTo>
                      <a:pt x="17" y="19"/>
                    </a:lnTo>
                    <a:lnTo>
                      <a:pt x="23" y="21"/>
                    </a:lnTo>
                    <a:lnTo>
                      <a:pt x="29" y="23"/>
                    </a:lnTo>
                    <a:lnTo>
                      <a:pt x="35" y="24"/>
                    </a:lnTo>
                    <a:lnTo>
                      <a:pt x="39" y="24"/>
                    </a:lnTo>
                    <a:lnTo>
                      <a:pt x="45" y="24"/>
                    </a:lnTo>
                    <a:lnTo>
                      <a:pt x="41" y="19"/>
                    </a:lnTo>
                    <a:lnTo>
                      <a:pt x="38" y="14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4186080" y="357876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2"/>
                    </a:moveTo>
                    <a:lnTo>
                      <a:pt x="17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4" y="8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4254480" y="35704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4254120" y="356436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60" y="27"/>
                    </a:lnTo>
                    <a:lnTo>
                      <a:pt x="55" y="21"/>
                    </a:lnTo>
                    <a:lnTo>
                      <a:pt x="50" y="15"/>
                    </a:lnTo>
                    <a:lnTo>
                      <a:pt x="44" y="11"/>
                    </a:lnTo>
                    <a:lnTo>
                      <a:pt x="38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9"/>
                    </a:lnTo>
                    <a:lnTo>
                      <a:pt x="14" y="16"/>
                    </a:lnTo>
                    <a:lnTo>
                      <a:pt x="21" y="23"/>
                    </a:lnTo>
                    <a:lnTo>
                      <a:pt x="27" y="29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4295160" y="3578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4"/>
                    </a:lnTo>
                    <a:lnTo>
                      <a:pt x="7" y="8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4444560" y="3537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5" y="7"/>
                    </a:lnTo>
                    <a:lnTo>
                      <a:pt x="10" y="14"/>
                    </a:lnTo>
                    <a:lnTo>
                      <a:pt x="13" y="21"/>
                    </a:lnTo>
                    <a:lnTo>
                      <a:pt x="17" y="29"/>
                    </a:lnTo>
                    <a:lnTo>
                      <a:pt x="36" y="31"/>
                    </a:lnTo>
                    <a:lnTo>
                      <a:pt x="30" y="23"/>
                    </a:lnTo>
                    <a:lnTo>
                      <a:pt x="26" y="16"/>
                    </a:lnTo>
                    <a:lnTo>
                      <a:pt x="20" y="9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4300200" y="3562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4300200" y="3543480"/>
                <a:ext cx="136800" cy="39960"/>
              </a:xfrm>
              <a:custGeom>
                <a:avLst/>
                <a:gdLst/>
                <a:ahLst/>
                <a:rect l="l" t="t" r="r" b="b"/>
                <a:pathLst>
                  <a:path w="172" h="49">
                    <a:moveTo>
                      <a:pt x="172" y="49"/>
                    </a:moveTo>
                    <a:lnTo>
                      <a:pt x="172" y="45"/>
                    </a:lnTo>
                    <a:lnTo>
                      <a:pt x="166" y="39"/>
                    </a:lnTo>
                    <a:lnTo>
                      <a:pt x="162" y="34"/>
                    </a:lnTo>
                    <a:lnTo>
                      <a:pt x="156" y="29"/>
                    </a:lnTo>
                    <a:lnTo>
                      <a:pt x="150" y="22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7" y="14"/>
                    </a:lnTo>
                    <a:lnTo>
                      <a:pt x="11" y="20"/>
                    </a:lnTo>
                    <a:lnTo>
                      <a:pt x="14" y="26"/>
                    </a:lnTo>
                    <a:lnTo>
                      <a:pt x="123" y="42"/>
                    </a:lnTo>
                    <a:lnTo>
                      <a:pt x="118" y="37"/>
                    </a:lnTo>
                    <a:lnTo>
                      <a:pt x="114" y="31"/>
                    </a:lnTo>
                    <a:lnTo>
                      <a:pt x="111" y="25"/>
                    </a:lnTo>
                    <a:lnTo>
                      <a:pt x="108" y="19"/>
                    </a:lnTo>
                    <a:lnTo>
                      <a:pt x="111" y="25"/>
                    </a:lnTo>
                    <a:lnTo>
                      <a:pt x="116" y="31"/>
                    </a:lnTo>
                    <a:lnTo>
                      <a:pt x="123" y="38"/>
                    </a:lnTo>
                    <a:lnTo>
                      <a:pt x="129" y="45"/>
                    </a:lnTo>
                    <a:lnTo>
                      <a:pt x="172" y="49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4217400" y="3584880"/>
                <a:ext cx="1800" cy="1800"/>
              </a:xfrm>
              <a:prstGeom prst="rect">
                <a:avLst/>
              </a:pr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4184280" y="35658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9" y="6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4" y="14"/>
                    </a:lnTo>
                    <a:lnTo>
                      <a:pt x="28" y="18"/>
                    </a:lnTo>
                    <a:lnTo>
                      <a:pt x="33" y="20"/>
                    </a:lnTo>
                    <a:lnTo>
                      <a:pt x="38" y="24"/>
                    </a:lnTo>
                    <a:lnTo>
                      <a:pt x="40" y="21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3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8" y="6"/>
                    </a:lnTo>
                    <a:lnTo>
                      <a:pt x="3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4154040" y="357228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2" y="5"/>
                    </a:moveTo>
                    <a:lnTo>
                      <a:pt x="24" y="6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9" y="12"/>
                    </a:lnTo>
                    <a:lnTo>
                      <a:pt x="23" y="11"/>
                    </a:lnTo>
                    <a:lnTo>
                      <a:pt x="16" y="8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4217400" y="3565800"/>
                <a:ext cx="1800" cy="1800"/>
              </a:xfrm>
              <a:prstGeom prst="rect">
                <a:avLst/>
              </a:pr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219560" y="355968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60" y="34"/>
                    </a:lnTo>
                    <a:lnTo>
                      <a:pt x="53" y="28"/>
                    </a:lnTo>
                    <a:lnTo>
                      <a:pt x="46" y="21"/>
                    </a:lnTo>
                    <a:lnTo>
                      <a:pt x="40" y="13"/>
                    </a:lnTo>
                    <a:lnTo>
                      <a:pt x="35" y="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15" y="20"/>
                    </a:lnTo>
                    <a:lnTo>
                      <a:pt x="22" y="24"/>
                    </a:lnTo>
                    <a:lnTo>
                      <a:pt x="29" y="30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4257000" y="357228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0" y="10"/>
                    </a:lnTo>
                    <a:lnTo>
                      <a:pt x="12" y="10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4267080" y="3556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4266720" y="3549960"/>
                <a:ext cx="44280" cy="2880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57" y="36"/>
                    </a:moveTo>
                    <a:lnTo>
                      <a:pt x="57" y="26"/>
                    </a:lnTo>
                    <a:lnTo>
                      <a:pt x="53" y="22"/>
                    </a:lnTo>
                    <a:lnTo>
                      <a:pt x="49" y="16"/>
                    </a:lnTo>
                    <a:lnTo>
                      <a:pt x="44" y="11"/>
                    </a:lnTo>
                    <a:lnTo>
                      <a:pt x="41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9" y="24"/>
                    </a:lnTo>
                    <a:lnTo>
                      <a:pt x="26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4306320" y="356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4452840" y="3526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8"/>
                    </a:lnTo>
                    <a:lnTo>
                      <a:pt x="6" y="15"/>
                    </a:lnTo>
                    <a:lnTo>
                      <a:pt x="10" y="22"/>
                    </a:lnTo>
                    <a:lnTo>
                      <a:pt x="14" y="29"/>
                    </a:lnTo>
                    <a:lnTo>
                      <a:pt x="31" y="31"/>
                    </a:lnTo>
                    <a:lnTo>
                      <a:pt x="25" y="24"/>
                    </a:lnTo>
                    <a:lnTo>
                      <a:pt x="19" y="17"/>
                    </a:lnTo>
                    <a:lnTo>
                      <a:pt x="15" y="10"/>
                    </a:lnTo>
                    <a:lnTo>
                      <a:pt x="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4311360" y="3549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6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311000" y="3532680"/>
                <a:ext cx="133560" cy="39600"/>
              </a:xfrm>
              <a:custGeom>
                <a:avLst/>
                <a:gdLst/>
                <a:ahLst/>
                <a:rect l="l" t="t" r="r" b="b"/>
                <a:pathLst>
                  <a:path w="167" h="49">
                    <a:moveTo>
                      <a:pt x="167" y="49"/>
                    </a:moveTo>
                    <a:lnTo>
                      <a:pt x="167" y="43"/>
                    </a:lnTo>
                    <a:lnTo>
                      <a:pt x="161" y="39"/>
                    </a:lnTo>
                    <a:lnTo>
                      <a:pt x="157" y="33"/>
                    </a:lnTo>
                    <a:lnTo>
                      <a:pt x="152" y="28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38" y="4"/>
                    </a:lnTo>
                    <a:lnTo>
                      <a:pt x="39" y="6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2" y="14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2" y="15"/>
                    </a:lnTo>
                    <a:lnTo>
                      <a:pt x="29" y="11"/>
                    </a:lnTo>
                    <a:lnTo>
                      <a:pt x="26" y="7"/>
                    </a:lnTo>
                    <a:lnTo>
                      <a:pt x="21" y="2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9" y="14"/>
                    </a:lnTo>
                    <a:lnTo>
                      <a:pt x="13" y="19"/>
                    </a:lnTo>
                    <a:lnTo>
                      <a:pt x="16" y="25"/>
                    </a:lnTo>
                    <a:lnTo>
                      <a:pt x="123" y="43"/>
                    </a:lnTo>
                    <a:lnTo>
                      <a:pt x="122" y="40"/>
                    </a:lnTo>
                    <a:lnTo>
                      <a:pt x="120" y="38"/>
                    </a:lnTo>
                    <a:lnTo>
                      <a:pt x="119" y="36"/>
                    </a:lnTo>
                    <a:lnTo>
                      <a:pt x="117" y="33"/>
                    </a:lnTo>
                    <a:lnTo>
                      <a:pt x="119" y="36"/>
                    </a:lnTo>
                    <a:lnTo>
                      <a:pt x="120" y="38"/>
                    </a:lnTo>
                    <a:lnTo>
                      <a:pt x="122" y="40"/>
                    </a:lnTo>
                    <a:lnTo>
                      <a:pt x="123" y="43"/>
                    </a:lnTo>
                    <a:lnTo>
                      <a:pt x="167" y="4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4184280" y="3573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4154040" y="35611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2" y="12"/>
                    </a:lnTo>
                    <a:lnTo>
                      <a:pt x="18" y="16"/>
                    </a:lnTo>
                    <a:lnTo>
                      <a:pt x="25" y="19"/>
                    </a:lnTo>
                    <a:lnTo>
                      <a:pt x="31" y="21"/>
                    </a:lnTo>
                    <a:lnTo>
                      <a:pt x="37" y="24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31" y="9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4188960" y="3559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4188960" y="355320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56" y="36"/>
                    </a:moveTo>
                    <a:lnTo>
                      <a:pt x="56" y="27"/>
                    </a:lnTo>
                    <a:lnTo>
                      <a:pt x="52" y="22"/>
                    </a:lnTo>
                    <a:lnTo>
                      <a:pt x="48" y="16"/>
                    </a:lnTo>
                    <a:lnTo>
                      <a:pt x="43" y="12"/>
                    </a:lnTo>
                    <a:lnTo>
                      <a:pt x="38" y="8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10" y="12"/>
                    </a:lnTo>
                    <a:lnTo>
                      <a:pt x="15" y="15"/>
                    </a:lnTo>
                    <a:lnTo>
                      <a:pt x="20" y="20"/>
                    </a:lnTo>
                    <a:lnTo>
                      <a:pt x="26" y="23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42" y="34"/>
                    </a:lnTo>
                    <a:lnTo>
                      <a:pt x="56" y="36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4232160" y="3570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4233240" y="35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4233600" y="35467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58" y="34"/>
                    </a:moveTo>
                    <a:lnTo>
                      <a:pt x="58" y="29"/>
                    </a:lnTo>
                    <a:lnTo>
                      <a:pt x="54" y="23"/>
                    </a:lnTo>
                    <a:lnTo>
                      <a:pt x="51" y="19"/>
                    </a:lnTo>
                    <a:lnTo>
                      <a:pt x="49" y="13"/>
                    </a:lnTo>
                    <a:lnTo>
                      <a:pt x="47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" y="13"/>
                    </a:lnTo>
                    <a:lnTo>
                      <a:pt x="10" y="19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4270320" y="35596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10"/>
                    </a:lnTo>
                    <a:lnTo>
                      <a:pt x="11" y="12"/>
                    </a:lnTo>
                    <a:lnTo>
                      <a:pt x="9" y="8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4279320" y="354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4279680" y="35247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174" h="53">
                    <a:moveTo>
                      <a:pt x="174" y="53"/>
                    </a:moveTo>
                    <a:lnTo>
                      <a:pt x="174" y="43"/>
                    </a:lnTo>
                    <a:lnTo>
                      <a:pt x="170" y="38"/>
                    </a:lnTo>
                    <a:lnTo>
                      <a:pt x="167" y="33"/>
                    </a:lnTo>
                    <a:lnTo>
                      <a:pt x="163" y="29"/>
                    </a:lnTo>
                    <a:lnTo>
                      <a:pt x="161" y="26"/>
                    </a:lnTo>
                    <a:lnTo>
                      <a:pt x="42" y="8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1" y="14"/>
                    </a:lnTo>
                    <a:lnTo>
                      <a:pt x="38" y="12"/>
                    </a:lnTo>
                    <a:lnTo>
                      <a:pt x="35" y="10"/>
                    </a:lnTo>
                    <a:lnTo>
                      <a:pt x="33" y="8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4" y="13"/>
                    </a:lnTo>
                    <a:lnTo>
                      <a:pt x="6" y="18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28"/>
                    </a:lnTo>
                    <a:lnTo>
                      <a:pt x="125" y="46"/>
                    </a:lnTo>
                    <a:lnTo>
                      <a:pt x="122" y="42"/>
                    </a:lnTo>
                    <a:lnTo>
                      <a:pt x="119" y="38"/>
                    </a:lnTo>
                    <a:lnTo>
                      <a:pt x="117" y="34"/>
                    </a:lnTo>
                    <a:lnTo>
                      <a:pt x="114" y="31"/>
                    </a:lnTo>
                    <a:lnTo>
                      <a:pt x="115" y="31"/>
                    </a:lnTo>
                    <a:lnTo>
                      <a:pt x="116" y="29"/>
                    </a:lnTo>
                    <a:lnTo>
                      <a:pt x="117" y="27"/>
                    </a:lnTo>
                    <a:lnTo>
                      <a:pt x="118" y="26"/>
                    </a:lnTo>
                    <a:lnTo>
                      <a:pt x="124" y="32"/>
                    </a:lnTo>
                    <a:lnTo>
                      <a:pt x="131" y="36"/>
                    </a:lnTo>
                    <a:lnTo>
                      <a:pt x="137" y="42"/>
                    </a:lnTo>
                    <a:lnTo>
                      <a:pt x="142" y="48"/>
                    </a:lnTo>
                    <a:lnTo>
                      <a:pt x="174" y="5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4415760" y="3543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4461840" y="351684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3" y="7"/>
                    </a:lnTo>
                    <a:lnTo>
                      <a:pt x="4" y="14"/>
                    </a:lnTo>
                    <a:lnTo>
                      <a:pt x="6" y="21"/>
                    </a:lnTo>
                    <a:lnTo>
                      <a:pt x="9" y="27"/>
                    </a:lnTo>
                    <a:lnTo>
                      <a:pt x="23" y="29"/>
                    </a:lnTo>
                    <a:lnTo>
                      <a:pt x="20" y="22"/>
                    </a:lnTo>
                    <a:lnTo>
                      <a:pt x="15" y="14"/>
                    </a:lnTo>
                    <a:lnTo>
                      <a:pt x="9" y="6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4417920" y="3524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4417920" y="351972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41" y="31"/>
                    </a:moveTo>
                    <a:lnTo>
                      <a:pt x="41" y="29"/>
                    </a:lnTo>
                    <a:lnTo>
                      <a:pt x="34" y="23"/>
                    </a:lnTo>
                    <a:lnTo>
                      <a:pt x="27" y="17"/>
                    </a:lnTo>
                    <a:lnTo>
                      <a:pt x="22" y="10"/>
                    </a:lnTo>
                    <a:lnTo>
                      <a:pt x="16" y="2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7" y="15"/>
                    </a:lnTo>
                    <a:lnTo>
                      <a:pt x="12" y="22"/>
                    </a:lnTo>
                    <a:lnTo>
                      <a:pt x="16" y="29"/>
                    </a:lnTo>
                    <a:lnTo>
                      <a:pt x="41" y="31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4190400" y="3561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9"/>
                    </a:lnTo>
                    <a:lnTo>
                      <a:pt x="11" y="11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4158720" y="3546720"/>
                <a:ext cx="41400" cy="2880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0" y="0"/>
                    </a:moveTo>
                    <a:lnTo>
                      <a:pt x="0" y="10"/>
                    </a:lnTo>
                    <a:lnTo>
                      <a:pt x="7" y="15"/>
                    </a:lnTo>
                    <a:lnTo>
                      <a:pt x="15" y="22"/>
                    </a:lnTo>
                    <a:lnTo>
                      <a:pt x="23" y="27"/>
                    </a:lnTo>
                    <a:lnTo>
                      <a:pt x="30" y="31"/>
                    </a:lnTo>
                    <a:lnTo>
                      <a:pt x="52" y="36"/>
                    </a:lnTo>
                    <a:lnTo>
                      <a:pt x="46" y="28"/>
                    </a:lnTo>
                    <a:lnTo>
                      <a:pt x="40" y="20"/>
                    </a:lnTo>
                    <a:lnTo>
                      <a:pt x="33" y="13"/>
                    </a:lnTo>
                    <a:lnTo>
                      <a:pt x="2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4112640" y="355644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44" y="7"/>
                    </a:moveTo>
                    <a:lnTo>
                      <a:pt x="41" y="8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1" y="10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4200480" y="3546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4"/>
                    </a:lnTo>
                    <a:lnTo>
                      <a:pt x="8" y="6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4200120" y="351360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69"/>
                    </a:moveTo>
                    <a:lnTo>
                      <a:pt x="287" y="60"/>
                    </a:lnTo>
                    <a:lnTo>
                      <a:pt x="281" y="54"/>
                    </a:lnTo>
                    <a:lnTo>
                      <a:pt x="276" y="49"/>
                    </a:lnTo>
                    <a:lnTo>
                      <a:pt x="273" y="45"/>
                    </a:lnTo>
                    <a:lnTo>
                      <a:pt x="270" y="40"/>
                    </a:lnTo>
                    <a:lnTo>
                      <a:pt x="48" y="7"/>
                    </a:lnTo>
                    <a:lnTo>
                      <a:pt x="51" y="8"/>
                    </a:lnTo>
                    <a:lnTo>
                      <a:pt x="52" y="10"/>
                    </a:lnTo>
                    <a:lnTo>
                      <a:pt x="54" y="11"/>
                    </a:lnTo>
                    <a:lnTo>
                      <a:pt x="55" y="14"/>
                    </a:lnTo>
                    <a:lnTo>
                      <a:pt x="55" y="19"/>
                    </a:lnTo>
                    <a:lnTo>
                      <a:pt x="55" y="24"/>
                    </a:lnTo>
                    <a:lnTo>
                      <a:pt x="56" y="27"/>
                    </a:lnTo>
                    <a:lnTo>
                      <a:pt x="58" y="31"/>
                    </a:lnTo>
                    <a:lnTo>
                      <a:pt x="51" y="25"/>
                    </a:lnTo>
                    <a:lnTo>
                      <a:pt x="45" y="18"/>
                    </a:lnTo>
                    <a:lnTo>
                      <a:pt x="39" y="12"/>
                    </a:lnTo>
                    <a:lnTo>
                      <a:pt x="33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8"/>
                    </a:lnTo>
                    <a:lnTo>
                      <a:pt x="10" y="15"/>
                    </a:lnTo>
                    <a:lnTo>
                      <a:pt x="14" y="22"/>
                    </a:lnTo>
                    <a:lnTo>
                      <a:pt x="17" y="28"/>
                    </a:lnTo>
                    <a:lnTo>
                      <a:pt x="127" y="45"/>
                    </a:lnTo>
                    <a:lnTo>
                      <a:pt x="128" y="43"/>
                    </a:lnTo>
                    <a:lnTo>
                      <a:pt x="129" y="42"/>
                    </a:lnTo>
                    <a:lnTo>
                      <a:pt x="130" y="41"/>
                    </a:lnTo>
                    <a:lnTo>
                      <a:pt x="131" y="40"/>
                    </a:lnTo>
                    <a:lnTo>
                      <a:pt x="134" y="41"/>
                    </a:lnTo>
                    <a:lnTo>
                      <a:pt x="135" y="43"/>
                    </a:lnTo>
                    <a:lnTo>
                      <a:pt x="137" y="45"/>
                    </a:lnTo>
                    <a:lnTo>
                      <a:pt x="138" y="47"/>
                    </a:lnTo>
                    <a:lnTo>
                      <a:pt x="187" y="55"/>
                    </a:lnTo>
                    <a:lnTo>
                      <a:pt x="182" y="49"/>
                    </a:lnTo>
                    <a:lnTo>
                      <a:pt x="177" y="45"/>
                    </a:lnTo>
                    <a:lnTo>
                      <a:pt x="174" y="40"/>
                    </a:lnTo>
                    <a:lnTo>
                      <a:pt x="172" y="38"/>
                    </a:lnTo>
                    <a:lnTo>
                      <a:pt x="176" y="41"/>
                    </a:lnTo>
                    <a:lnTo>
                      <a:pt x="181" y="45"/>
                    </a:lnTo>
                    <a:lnTo>
                      <a:pt x="185" y="49"/>
                    </a:lnTo>
                    <a:lnTo>
                      <a:pt x="191" y="55"/>
                    </a:lnTo>
                    <a:lnTo>
                      <a:pt x="238" y="62"/>
                    </a:lnTo>
                    <a:lnTo>
                      <a:pt x="237" y="58"/>
                    </a:lnTo>
                    <a:lnTo>
                      <a:pt x="235" y="53"/>
                    </a:lnTo>
                    <a:lnTo>
                      <a:pt x="234" y="48"/>
                    </a:lnTo>
                    <a:lnTo>
                      <a:pt x="234" y="45"/>
                    </a:lnTo>
                    <a:lnTo>
                      <a:pt x="241" y="50"/>
                    </a:lnTo>
                    <a:lnTo>
                      <a:pt x="248" y="55"/>
                    </a:lnTo>
                    <a:lnTo>
                      <a:pt x="255" y="61"/>
                    </a:lnTo>
                    <a:lnTo>
                      <a:pt x="263" y="67"/>
                    </a:lnTo>
                    <a:lnTo>
                      <a:pt x="287" y="69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4426920" y="3534120"/>
                <a:ext cx="1800" cy="1440"/>
              </a:xfrm>
              <a:prstGeom prst="rect">
                <a:avLst/>
              </a:pr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4468320" y="351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16"/>
                    </a:moveTo>
                    <a:lnTo>
                      <a:pt x="4" y="12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7" y="8"/>
                    </a:lnTo>
                    <a:lnTo>
                      <a:pt x="11" y="14"/>
                    </a:lnTo>
                    <a:lnTo>
                      <a:pt x="14" y="19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4426920" y="3513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4428720" y="35103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1"/>
                    </a:moveTo>
                    <a:lnTo>
                      <a:pt x="36" y="31"/>
                    </a:lnTo>
                    <a:lnTo>
                      <a:pt x="30" y="23"/>
                    </a:lnTo>
                    <a:lnTo>
                      <a:pt x="24" y="16"/>
                    </a:lnTo>
                    <a:lnTo>
                      <a:pt x="19" y="9"/>
                    </a:lnTo>
                    <a:lnTo>
                      <a:pt x="13" y="2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8" y="14"/>
                    </a:lnTo>
                    <a:lnTo>
                      <a:pt x="12" y="21"/>
                    </a:lnTo>
                    <a:lnTo>
                      <a:pt x="15" y="29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4168440" y="3556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4098600" y="3542040"/>
                <a:ext cx="74880" cy="25560"/>
              </a:xfrm>
              <a:custGeom>
                <a:avLst/>
                <a:gdLst/>
                <a:ahLst/>
                <a:rect l="l" t="t" r="r" b="b"/>
                <a:pathLst>
                  <a:path w="95" h="34">
                    <a:moveTo>
                      <a:pt x="0" y="0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14" y="10"/>
                    </a:lnTo>
                    <a:lnTo>
                      <a:pt x="22" y="13"/>
                    </a:lnTo>
                    <a:lnTo>
                      <a:pt x="29" y="18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3" y="29"/>
                    </a:lnTo>
                    <a:lnTo>
                      <a:pt x="61" y="34"/>
                    </a:lnTo>
                    <a:lnTo>
                      <a:pt x="71" y="29"/>
                    </a:lnTo>
                    <a:lnTo>
                      <a:pt x="80" y="25"/>
                    </a:lnTo>
                    <a:lnTo>
                      <a:pt x="88" y="20"/>
                    </a:lnTo>
                    <a:lnTo>
                      <a:pt x="9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4173120" y="35420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3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4173120" y="3510360"/>
                <a:ext cx="222120" cy="52200"/>
              </a:xfrm>
              <a:custGeom>
                <a:avLst/>
                <a:gdLst/>
                <a:ahLst/>
                <a:rect l="l" t="t" r="r" b="b"/>
                <a:pathLst>
                  <a:path w="279" h="67">
                    <a:moveTo>
                      <a:pt x="279" y="67"/>
                    </a:moveTo>
                    <a:lnTo>
                      <a:pt x="279" y="60"/>
                    </a:lnTo>
                    <a:lnTo>
                      <a:pt x="273" y="54"/>
                    </a:lnTo>
                    <a:lnTo>
                      <a:pt x="268" y="48"/>
                    </a:lnTo>
                    <a:lnTo>
                      <a:pt x="263" y="44"/>
                    </a:lnTo>
                    <a:lnTo>
                      <a:pt x="260" y="38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4" y="19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33" y="45"/>
                    </a:lnTo>
                    <a:lnTo>
                      <a:pt x="132" y="44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2" y="43"/>
                    </a:lnTo>
                    <a:lnTo>
                      <a:pt x="133" y="44"/>
                    </a:lnTo>
                    <a:lnTo>
                      <a:pt x="133" y="45"/>
                    </a:lnTo>
                    <a:lnTo>
                      <a:pt x="193" y="54"/>
                    </a:lnTo>
                    <a:lnTo>
                      <a:pt x="193" y="53"/>
                    </a:lnTo>
                    <a:lnTo>
                      <a:pt x="193" y="51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5" y="50"/>
                    </a:lnTo>
                    <a:lnTo>
                      <a:pt x="196" y="51"/>
                    </a:lnTo>
                    <a:lnTo>
                      <a:pt x="199" y="53"/>
                    </a:lnTo>
                    <a:lnTo>
                      <a:pt x="200" y="54"/>
                    </a:lnTo>
                    <a:lnTo>
                      <a:pt x="242" y="62"/>
                    </a:lnTo>
                    <a:lnTo>
                      <a:pt x="235" y="55"/>
                    </a:lnTo>
                    <a:lnTo>
                      <a:pt x="230" y="48"/>
                    </a:lnTo>
                    <a:lnTo>
                      <a:pt x="225" y="44"/>
                    </a:lnTo>
                    <a:lnTo>
                      <a:pt x="219" y="38"/>
                    </a:lnTo>
                    <a:lnTo>
                      <a:pt x="226" y="43"/>
                    </a:lnTo>
                    <a:lnTo>
                      <a:pt x="234" y="48"/>
                    </a:lnTo>
                    <a:lnTo>
                      <a:pt x="244" y="54"/>
                    </a:lnTo>
                    <a:lnTo>
                      <a:pt x="253" y="62"/>
                    </a:lnTo>
                    <a:lnTo>
                      <a:pt x="279" y="6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4392000" y="3524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0" y="5"/>
                    </a:lnTo>
                    <a:lnTo>
                      <a:pt x="5" y="8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4476240" y="351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4395600" y="350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4395600" y="35024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50" h="33">
                    <a:moveTo>
                      <a:pt x="50" y="33"/>
                    </a:moveTo>
                    <a:lnTo>
                      <a:pt x="50" y="28"/>
                    </a:lnTo>
                    <a:lnTo>
                      <a:pt x="45" y="22"/>
                    </a:lnTo>
                    <a:lnTo>
                      <a:pt x="40" y="17"/>
                    </a:lnTo>
                    <a:lnTo>
                      <a:pt x="37" y="11"/>
                    </a:lnTo>
                    <a:lnTo>
                      <a:pt x="33" y="7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9" y="14"/>
                    </a:lnTo>
                    <a:lnTo>
                      <a:pt x="14" y="21"/>
                    </a:lnTo>
                    <a:lnTo>
                      <a:pt x="19" y="28"/>
                    </a:lnTo>
                    <a:lnTo>
                      <a:pt x="50" y="33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4436640" y="34977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2"/>
                    </a:lnTo>
                    <a:lnTo>
                      <a:pt x="17" y="29"/>
                    </a:lnTo>
                    <a:lnTo>
                      <a:pt x="33" y="31"/>
                    </a:lnTo>
                    <a:lnTo>
                      <a:pt x="28" y="24"/>
                    </a:lnTo>
                    <a:lnTo>
                      <a:pt x="22" y="17"/>
                    </a:lnTo>
                    <a:lnTo>
                      <a:pt x="15" y="10"/>
                    </a:lnTo>
                    <a:lnTo>
                      <a:pt x="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4402080" y="351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7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4086000" y="3495960"/>
                <a:ext cx="318960" cy="66600"/>
              </a:xfrm>
              <a:custGeom>
                <a:avLst/>
                <a:gdLst/>
                <a:ahLst/>
                <a:rect l="l" t="t" r="r" b="b"/>
                <a:pathLst>
                  <a:path w="403" h="84">
                    <a:moveTo>
                      <a:pt x="0" y="0"/>
                    </a:moveTo>
                    <a:lnTo>
                      <a:pt x="0" y="8"/>
                    </a:lnTo>
                    <a:lnTo>
                      <a:pt x="4" y="15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19" y="29"/>
                    </a:lnTo>
                    <a:lnTo>
                      <a:pt x="241" y="62"/>
                    </a:lnTo>
                    <a:lnTo>
                      <a:pt x="238" y="60"/>
                    </a:lnTo>
                    <a:lnTo>
                      <a:pt x="236" y="59"/>
                    </a:lnTo>
                    <a:lnTo>
                      <a:pt x="234" y="56"/>
                    </a:lnTo>
                    <a:lnTo>
                      <a:pt x="231" y="55"/>
                    </a:lnTo>
                    <a:lnTo>
                      <a:pt x="235" y="57"/>
                    </a:lnTo>
                    <a:lnTo>
                      <a:pt x="237" y="59"/>
                    </a:lnTo>
                    <a:lnTo>
                      <a:pt x="241" y="61"/>
                    </a:lnTo>
                    <a:lnTo>
                      <a:pt x="245" y="64"/>
                    </a:lnTo>
                    <a:lnTo>
                      <a:pt x="283" y="69"/>
                    </a:lnTo>
                    <a:lnTo>
                      <a:pt x="279" y="63"/>
                    </a:lnTo>
                    <a:lnTo>
                      <a:pt x="273" y="57"/>
                    </a:lnTo>
                    <a:lnTo>
                      <a:pt x="268" y="50"/>
                    </a:lnTo>
                    <a:lnTo>
                      <a:pt x="262" y="44"/>
                    </a:lnTo>
                    <a:lnTo>
                      <a:pt x="270" y="48"/>
                    </a:lnTo>
                    <a:lnTo>
                      <a:pt x="277" y="53"/>
                    </a:lnTo>
                    <a:lnTo>
                      <a:pt x="285" y="57"/>
                    </a:lnTo>
                    <a:lnTo>
                      <a:pt x="294" y="62"/>
                    </a:lnTo>
                    <a:lnTo>
                      <a:pt x="300" y="65"/>
                    </a:lnTo>
                    <a:lnTo>
                      <a:pt x="309" y="69"/>
                    </a:lnTo>
                    <a:lnTo>
                      <a:pt x="315" y="74"/>
                    </a:lnTo>
                    <a:lnTo>
                      <a:pt x="323" y="77"/>
                    </a:lnTo>
                    <a:lnTo>
                      <a:pt x="367" y="84"/>
                    </a:lnTo>
                    <a:lnTo>
                      <a:pt x="372" y="82"/>
                    </a:lnTo>
                    <a:lnTo>
                      <a:pt x="376" y="78"/>
                    </a:lnTo>
                    <a:lnTo>
                      <a:pt x="381" y="76"/>
                    </a:lnTo>
                    <a:lnTo>
                      <a:pt x="386" y="72"/>
                    </a:lnTo>
                    <a:lnTo>
                      <a:pt x="390" y="70"/>
                    </a:lnTo>
                    <a:lnTo>
                      <a:pt x="394" y="68"/>
                    </a:lnTo>
                    <a:lnTo>
                      <a:pt x="398" y="64"/>
                    </a:lnTo>
                    <a:lnTo>
                      <a:pt x="403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4446360" y="348660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4" y="7"/>
                    </a:lnTo>
                    <a:lnTo>
                      <a:pt x="7" y="14"/>
                    </a:lnTo>
                    <a:lnTo>
                      <a:pt x="12" y="22"/>
                    </a:lnTo>
                    <a:lnTo>
                      <a:pt x="16" y="29"/>
                    </a:lnTo>
                    <a:lnTo>
                      <a:pt x="29" y="31"/>
                    </a:lnTo>
                    <a:lnTo>
                      <a:pt x="23" y="24"/>
                    </a:lnTo>
                    <a:lnTo>
                      <a:pt x="17" y="16"/>
                    </a:lnTo>
                    <a:lnTo>
                      <a:pt x="10" y="9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4404960" y="349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4404960" y="34898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48" y="33"/>
                    </a:moveTo>
                    <a:lnTo>
                      <a:pt x="48" y="26"/>
                    </a:lnTo>
                    <a:lnTo>
                      <a:pt x="44" y="23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7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10" y="14"/>
                    </a:lnTo>
                    <a:lnTo>
                      <a:pt x="14" y="22"/>
                    </a:lnTo>
                    <a:lnTo>
                      <a:pt x="19" y="29"/>
                    </a:lnTo>
                    <a:lnTo>
                      <a:pt x="48" y="33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4408200" y="3500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6"/>
                    </a:lnTo>
                    <a:lnTo>
                      <a:pt x="5" y="9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4076280" y="3486600"/>
                <a:ext cx="336600" cy="66600"/>
              </a:xfrm>
              <a:custGeom>
                <a:avLst/>
                <a:gdLst/>
                <a:ahLst/>
                <a:rect l="l" t="t" r="r" b="b"/>
                <a:pathLst>
                  <a:path w="425" h="83">
                    <a:moveTo>
                      <a:pt x="0" y="0"/>
                    </a:moveTo>
                    <a:lnTo>
                      <a:pt x="0" y="5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11" y="22"/>
                    </a:lnTo>
                    <a:lnTo>
                      <a:pt x="14" y="27"/>
                    </a:lnTo>
                    <a:lnTo>
                      <a:pt x="282" y="67"/>
                    </a:lnTo>
                    <a:lnTo>
                      <a:pt x="278" y="65"/>
                    </a:lnTo>
                    <a:lnTo>
                      <a:pt x="276" y="62"/>
                    </a:lnTo>
                    <a:lnTo>
                      <a:pt x="275" y="59"/>
                    </a:lnTo>
                    <a:lnTo>
                      <a:pt x="272" y="56"/>
                    </a:lnTo>
                    <a:lnTo>
                      <a:pt x="278" y="60"/>
                    </a:lnTo>
                    <a:lnTo>
                      <a:pt x="283" y="64"/>
                    </a:lnTo>
                    <a:lnTo>
                      <a:pt x="289" y="66"/>
                    </a:lnTo>
                    <a:lnTo>
                      <a:pt x="293" y="69"/>
                    </a:lnTo>
                    <a:lnTo>
                      <a:pt x="396" y="83"/>
                    </a:lnTo>
                    <a:lnTo>
                      <a:pt x="403" y="80"/>
                    </a:lnTo>
                    <a:lnTo>
                      <a:pt x="411" y="75"/>
                    </a:lnTo>
                    <a:lnTo>
                      <a:pt x="418" y="71"/>
                    </a:lnTo>
                    <a:lnTo>
                      <a:pt x="425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4455720" y="3476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6"/>
                    </a:lnTo>
                    <a:lnTo>
                      <a:pt x="6" y="11"/>
                    </a:lnTo>
                    <a:lnTo>
                      <a:pt x="11" y="18"/>
                    </a:lnTo>
                    <a:lnTo>
                      <a:pt x="14" y="25"/>
                    </a:lnTo>
                    <a:lnTo>
                      <a:pt x="23" y="29"/>
                    </a:lnTo>
                    <a:lnTo>
                      <a:pt x="17" y="20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4412880" y="3484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4413240" y="348012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9" y="33"/>
                    </a:moveTo>
                    <a:lnTo>
                      <a:pt x="49" y="27"/>
                    </a:lnTo>
                    <a:lnTo>
                      <a:pt x="46" y="21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8" y="7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0" y="14"/>
                    </a:lnTo>
                    <a:lnTo>
                      <a:pt x="16" y="21"/>
                    </a:lnTo>
                    <a:lnTo>
                      <a:pt x="21" y="29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4415760" y="3486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0" y="9"/>
                    </a:lnTo>
                    <a:lnTo>
                      <a:pt x="5" y="12"/>
                    </a:lnTo>
                    <a:lnTo>
                      <a:pt x="4" y="8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4068720" y="347544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443" h="88">
                    <a:moveTo>
                      <a:pt x="0" y="0"/>
                    </a:moveTo>
                    <a:lnTo>
                      <a:pt x="0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2"/>
                    </a:lnTo>
                    <a:lnTo>
                      <a:pt x="12" y="26"/>
                    </a:lnTo>
                    <a:lnTo>
                      <a:pt x="422" y="88"/>
                    </a:lnTo>
                    <a:lnTo>
                      <a:pt x="428" y="85"/>
                    </a:lnTo>
                    <a:lnTo>
                      <a:pt x="432" y="79"/>
                    </a:lnTo>
                    <a:lnTo>
                      <a:pt x="438" y="74"/>
                    </a:lnTo>
                    <a:lnTo>
                      <a:pt x="443" y="67"/>
                    </a:lnTo>
                    <a:lnTo>
                      <a:pt x="443" y="67"/>
                    </a:lnTo>
                    <a:lnTo>
                      <a:pt x="162" y="23"/>
                    </a:lnTo>
                    <a:lnTo>
                      <a:pt x="162" y="25"/>
                    </a:lnTo>
                    <a:lnTo>
                      <a:pt x="163" y="26"/>
                    </a:lnTo>
                    <a:lnTo>
                      <a:pt x="164" y="27"/>
                    </a:lnTo>
                    <a:lnTo>
                      <a:pt x="164" y="28"/>
                    </a:lnTo>
                    <a:lnTo>
                      <a:pt x="163" y="27"/>
                    </a:lnTo>
                    <a:lnTo>
                      <a:pt x="160" y="25"/>
                    </a:lnTo>
                    <a:lnTo>
                      <a:pt x="159" y="23"/>
                    </a:lnTo>
                    <a:lnTo>
                      <a:pt x="15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4465080" y="3476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1"/>
                    </a:move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4419360" y="34736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9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4419360" y="346752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55" y="33"/>
                    </a:moveTo>
                    <a:lnTo>
                      <a:pt x="55" y="24"/>
                    </a:lnTo>
                    <a:lnTo>
                      <a:pt x="54" y="22"/>
                    </a:lnTo>
                    <a:lnTo>
                      <a:pt x="53" y="21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47" y="16"/>
                    </a:lnTo>
                    <a:lnTo>
                      <a:pt x="40" y="14"/>
                    </a:lnTo>
                    <a:lnTo>
                      <a:pt x="33" y="10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7" y="9"/>
                    </a:lnTo>
                    <a:lnTo>
                      <a:pt x="14" y="16"/>
                    </a:lnTo>
                    <a:lnTo>
                      <a:pt x="20" y="23"/>
                    </a:lnTo>
                    <a:lnTo>
                      <a:pt x="26" y="29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4422600" y="348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3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068360" y="3464280"/>
                <a:ext cx="360360" cy="73080"/>
              </a:xfrm>
              <a:custGeom>
                <a:avLst/>
                <a:gdLst/>
                <a:ahLst/>
                <a:rect l="l" t="t" r="r" b="b"/>
                <a:pathLst>
                  <a:path w="453" h="94">
                    <a:moveTo>
                      <a:pt x="0" y="0"/>
                    </a:moveTo>
                    <a:lnTo>
                      <a:pt x="0" y="10"/>
                    </a:lnTo>
                    <a:lnTo>
                      <a:pt x="3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3" y="27"/>
                    </a:lnTo>
                    <a:lnTo>
                      <a:pt x="444" y="94"/>
                    </a:lnTo>
                    <a:lnTo>
                      <a:pt x="447" y="90"/>
                    </a:lnTo>
                    <a:lnTo>
                      <a:pt x="449" y="88"/>
                    </a:lnTo>
                    <a:lnTo>
                      <a:pt x="450" y="86"/>
                    </a:lnTo>
                    <a:lnTo>
                      <a:pt x="453" y="82"/>
                    </a:lnTo>
                    <a:lnTo>
                      <a:pt x="449" y="78"/>
                    </a:lnTo>
                    <a:lnTo>
                      <a:pt x="445" y="74"/>
                    </a:lnTo>
                    <a:lnTo>
                      <a:pt x="440" y="70"/>
                    </a:lnTo>
                    <a:lnTo>
                      <a:pt x="437" y="65"/>
                    </a:lnTo>
                    <a:lnTo>
                      <a:pt x="160" y="25"/>
                    </a:lnTo>
                    <a:lnTo>
                      <a:pt x="164" y="28"/>
                    </a:lnTo>
                    <a:lnTo>
                      <a:pt x="167" y="33"/>
                    </a:lnTo>
                    <a:lnTo>
                      <a:pt x="170" y="38"/>
                    </a:lnTo>
                    <a:lnTo>
                      <a:pt x="174" y="43"/>
                    </a:lnTo>
                    <a:lnTo>
                      <a:pt x="167" y="37"/>
                    </a:lnTo>
                    <a:lnTo>
                      <a:pt x="160" y="33"/>
                    </a:lnTo>
                    <a:lnTo>
                      <a:pt x="153" y="27"/>
                    </a:lnTo>
                    <a:lnTo>
                      <a:pt x="146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4473000" y="3476880"/>
                <a:ext cx="1800" cy="1800"/>
              </a:xfrm>
              <a:prstGeom prst="rect">
                <a:avLst/>
              </a:pr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428720" y="3462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12"/>
                    </a:moveTo>
                    <a:lnTo>
                      <a:pt x="7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4428720" y="345636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4"/>
                    </a:moveTo>
                    <a:lnTo>
                      <a:pt x="54" y="31"/>
                    </a:lnTo>
                    <a:lnTo>
                      <a:pt x="49" y="29"/>
                    </a:lnTo>
                    <a:lnTo>
                      <a:pt x="45" y="27"/>
                    </a:lnTo>
                    <a:lnTo>
                      <a:pt x="40" y="22"/>
                    </a:lnTo>
                    <a:lnTo>
                      <a:pt x="35" y="19"/>
                    </a:lnTo>
                    <a:lnTo>
                      <a:pt x="31" y="14"/>
                    </a:lnTo>
                    <a:lnTo>
                      <a:pt x="25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7" y="12"/>
                    </a:lnTo>
                    <a:lnTo>
                      <a:pt x="12" y="18"/>
                    </a:lnTo>
                    <a:lnTo>
                      <a:pt x="18" y="23"/>
                    </a:lnTo>
                    <a:lnTo>
                      <a:pt x="24" y="29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4295520" y="3486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4068720" y="3470760"/>
                <a:ext cx="234720" cy="58680"/>
              </a:xfrm>
              <a:custGeom>
                <a:avLst/>
                <a:gdLst/>
                <a:ahLst/>
                <a:rect l="l" t="t" r="r" b="b"/>
                <a:pathLst>
                  <a:path w="295" h="72">
                    <a:moveTo>
                      <a:pt x="0" y="0"/>
                    </a:moveTo>
                    <a:lnTo>
                      <a:pt x="0" y="10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295" y="72"/>
                    </a:lnTo>
                    <a:lnTo>
                      <a:pt x="290" y="68"/>
                    </a:lnTo>
                    <a:lnTo>
                      <a:pt x="286" y="63"/>
                    </a:lnTo>
                    <a:lnTo>
                      <a:pt x="282" y="60"/>
                    </a:lnTo>
                    <a:lnTo>
                      <a:pt x="277" y="55"/>
                    </a:lnTo>
                    <a:lnTo>
                      <a:pt x="273" y="52"/>
                    </a:lnTo>
                    <a:lnTo>
                      <a:pt x="267" y="48"/>
                    </a:lnTo>
                    <a:lnTo>
                      <a:pt x="262" y="45"/>
                    </a:lnTo>
                    <a:lnTo>
                      <a:pt x="25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4303440" y="3470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4303440" y="3451680"/>
                <a:ext cx="139680" cy="41040"/>
              </a:xfrm>
              <a:custGeom>
                <a:avLst/>
                <a:gdLst/>
                <a:ahLst/>
                <a:rect l="l" t="t" r="r" b="b"/>
                <a:pathLst>
                  <a:path w="177" h="52">
                    <a:moveTo>
                      <a:pt x="177" y="52"/>
                    </a:moveTo>
                    <a:lnTo>
                      <a:pt x="177" y="45"/>
                    </a:lnTo>
                    <a:lnTo>
                      <a:pt x="169" y="40"/>
                    </a:lnTo>
                    <a:lnTo>
                      <a:pt x="161" y="35"/>
                    </a:lnTo>
                    <a:lnTo>
                      <a:pt x="151" y="28"/>
                    </a:lnTo>
                    <a:lnTo>
                      <a:pt x="143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1" y="14"/>
                    </a:lnTo>
                    <a:lnTo>
                      <a:pt x="17" y="21"/>
                    </a:lnTo>
                    <a:lnTo>
                      <a:pt x="21" y="29"/>
                    </a:lnTo>
                    <a:lnTo>
                      <a:pt x="177" y="5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4441680" y="3470760"/>
                <a:ext cx="1440" cy="1440"/>
              </a:xfrm>
              <a:prstGeom prst="rect">
                <a:avLst/>
              </a:pr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4441680" y="3451680"/>
                <a:ext cx="1440" cy="1440"/>
              </a:xfrm>
              <a:prstGeom prst="rect">
                <a:avLst/>
              </a:pr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4443120" y="3453120"/>
                <a:ext cx="28800" cy="1764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23"/>
                    </a:moveTo>
                    <a:lnTo>
                      <a:pt x="35" y="23"/>
                    </a:lnTo>
                    <a:lnTo>
                      <a:pt x="27" y="16"/>
                    </a:lnTo>
                    <a:lnTo>
                      <a:pt x="19" y="9"/>
                    </a:lnTo>
                    <a:lnTo>
                      <a:pt x="12" y="4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4311000" y="347544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0" y="5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4081320" y="3459600"/>
                <a:ext cx="239760" cy="55440"/>
              </a:xfrm>
              <a:custGeom>
                <a:avLst/>
                <a:gdLst/>
                <a:ahLst/>
                <a:rect l="l" t="t" r="r" b="b"/>
                <a:pathLst>
                  <a:path w="301" h="69">
                    <a:moveTo>
                      <a:pt x="0" y="0"/>
                    </a:moveTo>
                    <a:lnTo>
                      <a:pt x="0" y="4"/>
                    </a:lnTo>
                    <a:lnTo>
                      <a:pt x="6" y="10"/>
                    </a:lnTo>
                    <a:lnTo>
                      <a:pt x="13" y="16"/>
                    </a:lnTo>
                    <a:lnTo>
                      <a:pt x="18" y="22"/>
                    </a:lnTo>
                    <a:lnTo>
                      <a:pt x="24" y="29"/>
                    </a:lnTo>
                    <a:lnTo>
                      <a:pt x="301" y="69"/>
                    </a:lnTo>
                    <a:lnTo>
                      <a:pt x="295" y="66"/>
                    </a:lnTo>
                    <a:lnTo>
                      <a:pt x="289" y="62"/>
                    </a:lnTo>
                    <a:lnTo>
                      <a:pt x="284" y="57"/>
                    </a:lnTo>
                    <a:lnTo>
                      <a:pt x="279" y="53"/>
                    </a:lnTo>
                    <a:lnTo>
                      <a:pt x="273" y="49"/>
                    </a:lnTo>
                    <a:lnTo>
                      <a:pt x="267" y="45"/>
                    </a:lnTo>
                    <a:lnTo>
                      <a:pt x="261" y="41"/>
                    </a:lnTo>
                    <a:lnTo>
                      <a:pt x="256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4458600" y="34531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4321080" y="3457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4321080" y="3438720"/>
                <a:ext cx="131760" cy="41400"/>
              </a:xfrm>
              <a:custGeom>
                <a:avLst/>
                <a:gdLst/>
                <a:ahLst/>
                <a:rect l="l" t="t" r="r" b="b"/>
                <a:pathLst>
                  <a:path w="166" h="51">
                    <a:moveTo>
                      <a:pt x="166" y="51"/>
                    </a:moveTo>
                    <a:lnTo>
                      <a:pt x="166" y="46"/>
                    </a:lnTo>
                    <a:lnTo>
                      <a:pt x="158" y="40"/>
                    </a:lnTo>
                    <a:lnTo>
                      <a:pt x="150" y="33"/>
                    </a:lnTo>
                    <a:lnTo>
                      <a:pt x="143" y="28"/>
                    </a:lnTo>
                    <a:lnTo>
                      <a:pt x="135" y="2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0" y="14"/>
                    </a:lnTo>
                    <a:lnTo>
                      <a:pt x="16" y="22"/>
                    </a:lnTo>
                    <a:lnTo>
                      <a:pt x="23" y="29"/>
                    </a:lnTo>
                    <a:lnTo>
                      <a:pt x="166" y="51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4329000" y="34578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0"/>
                    </a:moveTo>
                    <a:lnTo>
                      <a:pt x="0" y="9"/>
                    </a:lnTo>
                    <a:lnTo>
                      <a:pt x="17" y="11"/>
                    </a:lnTo>
                    <a:lnTo>
                      <a:pt x="14" y="8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4098600" y="3445200"/>
                <a:ext cx="244800" cy="58680"/>
              </a:xfrm>
              <a:custGeom>
                <a:avLst/>
                <a:gdLst/>
                <a:ahLst/>
                <a:rect l="l" t="t" r="r" b="b"/>
                <a:pathLst>
                  <a:path w="308" h="74">
                    <a:moveTo>
                      <a:pt x="0" y="0"/>
                    </a:moveTo>
                    <a:lnTo>
                      <a:pt x="0" y="7"/>
                    </a:lnTo>
                    <a:lnTo>
                      <a:pt x="6" y="10"/>
                    </a:lnTo>
                    <a:lnTo>
                      <a:pt x="10" y="13"/>
                    </a:lnTo>
                    <a:lnTo>
                      <a:pt x="16" y="15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30" y="25"/>
                    </a:lnTo>
                    <a:lnTo>
                      <a:pt x="35" y="28"/>
                    </a:lnTo>
                    <a:lnTo>
                      <a:pt x="39" y="33"/>
                    </a:lnTo>
                    <a:lnTo>
                      <a:pt x="308" y="74"/>
                    </a:lnTo>
                    <a:lnTo>
                      <a:pt x="302" y="70"/>
                    </a:lnTo>
                    <a:lnTo>
                      <a:pt x="296" y="65"/>
                    </a:lnTo>
                    <a:lnTo>
                      <a:pt x="290" y="60"/>
                    </a:lnTo>
                    <a:lnTo>
                      <a:pt x="284" y="56"/>
                    </a:lnTo>
                    <a:lnTo>
                      <a:pt x="278" y="52"/>
                    </a:lnTo>
                    <a:lnTo>
                      <a:pt x="271" y="48"/>
                    </a:lnTo>
                    <a:lnTo>
                      <a:pt x="264" y="44"/>
                    </a:lnTo>
                    <a:lnTo>
                      <a:pt x="258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4343040" y="344196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10"/>
                    </a:moveTo>
                    <a:lnTo>
                      <a:pt x="16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" y="6"/>
                    </a:lnTo>
                    <a:lnTo>
                      <a:pt x="13" y="8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4343040" y="3429360"/>
                <a:ext cx="112680" cy="36360"/>
              </a:xfrm>
              <a:custGeom>
                <a:avLst/>
                <a:gdLst/>
                <a:ahLst/>
                <a:rect l="l" t="t" r="r" b="b"/>
                <a:pathLst>
                  <a:path w="143" h="45">
                    <a:moveTo>
                      <a:pt x="143" y="45"/>
                    </a:moveTo>
                    <a:lnTo>
                      <a:pt x="143" y="36"/>
                    </a:lnTo>
                    <a:lnTo>
                      <a:pt x="138" y="32"/>
                    </a:lnTo>
                    <a:lnTo>
                      <a:pt x="134" y="29"/>
                    </a:lnTo>
                    <a:lnTo>
                      <a:pt x="129" y="25"/>
                    </a:lnTo>
                    <a:lnTo>
                      <a:pt x="125" y="22"/>
                    </a:lnTo>
                    <a:lnTo>
                      <a:pt x="121" y="22"/>
                    </a:lnTo>
                    <a:lnTo>
                      <a:pt x="118" y="22"/>
                    </a:lnTo>
                    <a:lnTo>
                      <a:pt x="113" y="22"/>
                    </a:lnTo>
                    <a:lnTo>
                      <a:pt x="107" y="21"/>
                    </a:lnTo>
                    <a:lnTo>
                      <a:pt x="102" y="18"/>
                    </a:lnTo>
                    <a:lnTo>
                      <a:pt x="96" y="16"/>
                    </a:lnTo>
                    <a:lnTo>
                      <a:pt x="89" y="12"/>
                    </a:lnTo>
                    <a:lnTo>
                      <a:pt x="82" y="9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9" y="16"/>
                    </a:lnTo>
                    <a:lnTo>
                      <a:pt x="14" y="21"/>
                    </a:lnTo>
                    <a:lnTo>
                      <a:pt x="17" y="26"/>
                    </a:lnTo>
                    <a:lnTo>
                      <a:pt x="143" y="4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4344480" y="34452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0"/>
                    </a:moveTo>
                    <a:lnTo>
                      <a:pt x="0" y="10"/>
                    </a:lnTo>
                    <a:lnTo>
                      <a:pt x="34" y="14"/>
                    </a:lnTo>
                    <a:lnTo>
                      <a:pt x="29" y="11"/>
                    </a:lnTo>
                    <a:lnTo>
                      <a:pt x="25" y="7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4117680" y="3432600"/>
                <a:ext cx="254160" cy="57240"/>
              </a:xfrm>
              <a:custGeom>
                <a:avLst/>
                <a:gdLst/>
                <a:ahLst/>
                <a:rect l="l" t="t" r="r" b="b"/>
                <a:pathLst>
                  <a:path w="321" h="74">
                    <a:moveTo>
                      <a:pt x="0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14" y="13"/>
                    </a:lnTo>
                    <a:lnTo>
                      <a:pt x="21" y="15"/>
                    </a:lnTo>
                    <a:lnTo>
                      <a:pt x="28" y="19"/>
                    </a:lnTo>
                    <a:lnTo>
                      <a:pt x="34" y="22"/>
                    </a:lnTo>
                    <a:lnTo>
                      <a:pt x="41" y="25"/>
                    </a:lnTo>
                    <a:lnTo>
                      <a:pt x="46" y="29"/>
                    </a:lnTo>
                    <a:lnTo>
                      <a:pt x="53" y="34"/>
                    </a:lnTo>
                    <a:lnTo>
                      <a:pt x="321" y="74"/>
                    </a:lnTo>
                    <a:lnTo>
                      <a:pt x="314" y="69"/>
                    </a:lnTo>
                    <a:lnTo>
                      <a:pt x="307" y="65"/>
                    </a:lnTo>
                    <a:lnTo>
                      <a:pt x="300" y="60"/>
                    </a:lnTo>
                    <a:lnTo>
                      <a:pt x="292" y="55"/>
                    </a:lnTo>
                    <a:lnTo>
                      <a:pt x="284" y="52"/>
                    </a:lnTo>
                    <a:lnTo>
                      <a:pt x="277" y="47"/>
                    </a:lnTo>
                    <a:lnTo>
                      <a:pt x="269" y="43"/>
                    </a:lnTo>
                    <a:lnTo>
                      <a:pt x="261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4371840" y="342792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30" y="4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5"/>
                    </a:lnTo>
                    <a:lnTo>
                      <a:pt x="23" y="8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4371840" y="342144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107" h="41">
                    <a:moveTo>
                      <a:pt x="107" y="41"/>
                    </a:moveTo>
                    <a:lnTo>
                      <a:pt x="107" y="31"/>
                    </a:lnTo>
                    <a:lnTo>
                      <a:pt x="99" y="29"/>
                    </a:lnTo>
                    <a:lnTo>
                      <a:pt x="91" y="26"/>
                    </a:lnTo>
                    <a:lnTo>
                      <a:pt x="82" y="22"/>
                    </a:lnTo>
                    <a:lnTo>
                      <a:pt x="72" y="19"/>
                    </a:lnTo>
                    <a:lnTo>
                      <a:pt x="61" y="14"/>
                    </a:lnTo>
                    <a:lnTo>
                      <a:pt x="52" y="11"/>
                    </a:lnTo>
                    <a:lnTo>
                      <a:pt x="43" y="6"/>
                    </a:lnTo>
                    <a:lnTo>
                      <a:pt x="34" y="3"/>
                    </a:lnTo>
                    <a:lnTo>
                      <a:pt x="13" y="0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4" y="14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107" y="41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4392360" y="34326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5"/>
                    </a:lnTo>
                    <a:lnTo>
                      <a:pt x="22" y="7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4138200" y="3416760"/>
                <a:ext cx="269640" cy="60120"/>
              </a:xfrm>
              <a:custGeom>
                <a:avLst/>
                <a:gdLst/>
                <a:ahLst/>
                <a:rect l="l" t="t" r="r" b="b"/>
                <a:pathLst>
                  <a:path w="341" h="76">
                    <a:moveTo>
                      <a:pt x="0" y="0"/>
                    </a:moveTo>
                    <a:lnTo>
                      <a:pt x="0" y="7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5" y="16"/>
                    </a:lnTo>
                    <a:lnTo>
                      <a:pt x="34" y="19"/>
                    </a:lnTo>
                    <a:lnTo>
                      <a:pt x="42" y="23"/>
                    </a:lnTo>
                    <a:lnTo>
                      <a:pt x="51" y="25"/>
                    </a:lnTo>
                    <a:lnTo>
                      <a:pt x="59" y="28"/>
                    </a:lnTo>
                    <a:lnTo>
                      <a:pt x="67" y="32"/>
                    </a:lnTo>
                    <a:lnTo>
                      <a:pt x="341" y="76"/>
                    </a:lnTo>
                    <a:lnTo>
                      <a:pt x="332" y="70"/>
                    </a:lnTo>
                    <a:lnTo>
                      <a:pt x="323" y="65"/>
                    </a:lnTo>
                    <a:lnTo>
                      <a:pt x="314" y="61"/>
                    </a:lnTo>
                    <a:lnTo>
                      <a:pt x="305" y="56"/>
                    </a:lnTo>
                    <a:lnTo>
                      <a:pt x="296" y="52"/>
                    </a:lnTo>
                    <a:lnTo>
                      <a:pt x="287" y="47"/>
                    </a:lnTo>
                    <a:lnTo>
                      <a:pt x="279" y="43"/>
                    </a:lnTo>
                    <a:lnTo>
                      <a:pt x="27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4407840" y="3411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13"/>
                    </a:moveTo>
                    <a:lnTo>
                      <a:pt x="22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2" y="1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4408200" y="341676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54" y="18"/>
                    </a:lnTo>
                    <a:lnTo>
                      <a:pt x="47" y="16"/>
                    </a:lnTo>
                    <a:lnTo>
                      <a:pt x="40" y="12"/>
                    </a:lnTo>
                    <a:lnTo>
                      <a:pt x="35" y="10"/>
                    </a:lnTo>
                    <a:lnTo>
                      <a:pt x="29" y="7"/>
                    </a:lnTo>
                    <a:lnTo>
                      <a:pt x="23" y="4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4430520" y="3422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4165560" y="3402360"/>
                <a:ext cx="266400" cy="60480"/>
              </a:xfrm>
              <a:custGeom>
                <a:avLst/>
                <a:gdLst/>
                <a:ahLst/>
                <a:rect l="l" t="t" r="r" b="b"/>
                <a:pathLst>
                  <a:path w="337" h="76">
                    <a:moveTo>
                      <a:pt x="0" y="0"/>
                    </a:moveTo>
                    <a:lnTo>
                      <a:pt x="0" y="9"/>
                    </a:lnTo>
                    <a:lnTo>
                      <a:pt x="6" y="13"/>
                    </a:lnTo>
                    <a:lnTo>
                      <a:pt x="12" y="16"/>
                    </a:lnTo>
                    <a:lnTo>
                      <a:pt x="18" y="20"/>
                    </a:lnTo>
                    <a:lnTo>
                      <a:pt x="23" y="23"/>
                    </a:lnTo>
                    <a:lnTo>
                      <a:pt x="29" y="25"/>
                    </a:lnTo>
                    <a:lnTo>
                      <a:pt x="35" y="28"/>
                    </a:lnTo>
                    <a:lnTo>
                      <a:pt x="41" y="31"/>
                    </a:lnTo>
                    <a:lnTo>
                      <a:pt x="46" y="34"/>
                    </a:lnTo>
                    <a:lnTo>
                      <a:pt x="337" y="76"/>
                    </a:lnTo>
                    <a:lnTo>
                      <a:pt x="326" y="72"/>
                    </a:lnTo>
                    <a:lnTo>
                      <a:pt x="315" y="66"/>
                    </a:lnTo>
                    <a:lnTo>
                      <a:pt x="303" y="61"/>
                    </a:lnTo>
                    <a:lnTo>
                      <a:pt x="292" y="57"/>
                    </a:lnTo>
                    <a:lnTo>
                      <a:pt x="280" y="52"/>
                    </a:lnTo>
                    <a:lnTo>
                      <a:pt x="269" y="47"/>
                    </a:lnTo>
                    <a:lnTo>
                      <a:pt x="257" y="43"/>
                    </a:lnTo>
                    <a:lnTo>
                      <a:pt x="246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4431600" y="3402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4431960" y="341676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8" y="7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4195440" y="339588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301" h="67">
                    <a:moveTo>
                      <a:pt x="9" y="21"/>
                    </a:moveTo>
                    <a:lnTo>
                      <a:pt x="7" y="19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5" y="6"/>
                    </a:lnTo>
                    <a:lnTo>
                      <a:pt x="53" y="6"/>
                    </a:lnTo>
                    <a:lnTo>
                      <a:pt x="60" y="7"/>
                    </a:lnTo>
                    <a:lnTo>
                      <a:pt x="68" y="8"/>
                    </a:lnTo>
                    <a:lnTo>
                      <a:pt x="76" y="8"/>
                    </a:lnTo>
                    <a:lnTo>
                      <a:pt x="84" y="9"/>
                    </a:lnTo>
                    <a:lnTo>
                      <a:pt x="84" y="9"/>
                    </a:lnTo>
                    <a:lnTo>
                      <a:pt x="84" y="9"/>
                    </a:lnTo>
                    <a:lnTo>
                      <a:pt x="85" y="8"/>
                    </a:lnTo>
                    <a:lnTo>
                      <a:pt x="86" y="7"/>
                    </a:lnTo>
                    <a:lnTo>
                      <a:pt x="174" y="21"/>
                    </a:lnTo>
                    <a:lnTo>
                      <a:pt x="189" y="26"/>
                    </a:lnTo>
                    <a:lnTo>
                      <a:pt x="205" y="30"/>
                    </a:lnTo>
                    <a:lnTo>
                      <a:pt x="220" y="36"/>
                    </a:lnTo>
                    <a:lnTo>
                      <a:pt x="236" y="42"/>
                    </a:lnTo>
                    <a:lnTo>
                      <a:pt x="252" y="47"/>
                    </a:lnTo>
                    <a:lnTo>
                      <a:pt x="268" y="53"/>
                    </a:lnTo>
                    <a:lnTo>
                      <a:pt x="285" y="60"/>
                    </a:lnTo>
                    <a:lnTo>
                      <a:pt x="301" y="67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4236480" y="3395880"/>
                <a:ext cx="196920" cy="36720"/>
              </a:xfrm>
              <a:custGeom>
                <a:avLst/>
                <a:gdLst/>
                <a:ahLst/>
                <a:rect l="l" t="t" r="r" b="b"/>
                <a:pathLst>
                  <a:path w="248" h="45">
                    <a:moveTo>
                      <a:pt x="0" y="7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5" y="6"/>
                    </a:lnTo>
                    <a:lnTo>
                      <a:pt x="53" y="6"/>
                    </a:lnTo>
                    <a:lnTo>
                      <a:pt x="60" y="7"/>
                    </a:lnTo>
                    <a:lnTo>
                      <a:pt x="68" y="8"/>
                    </a:lnTo>
                    <a:lnTo>
                      <a:pt x="76" y="8"/>
                    </a:lnTo>
                    <a:lnTo>
                      <a:pt x="84" y="9"/>
                    </a:lnTo>
                    <a:lnTo>
                      <a:pt x="86" y="7"/>
                    </a:lnTo>
                    <a:lnTo>
                      <a:pt x="88" y="6"/>
                    </a:lnTo>
                    <a:lnTo>
                      <a:pt x="90" y="4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1"/>
                    </a:lnTo>
                    <a:lnTo>
                      <a:pt x="149" y="15"/>
                    </a:lnTo>
                    <a:lnTo>
                      <a:pt x="168" y="20"/>
                    </a:lnTo>
                    <a:lnTo>
                      <a:pt x="189" y="26"/>
                    </a:lnTo>
                    <a:lnTo>
                      <a:pt x="209" y="32"/>
                    </a:lnTo>
                    <a:lnTo>
                      <a:pt x="228" y="38"/>
                    </a:lnTo>
                    <a:lnTo>
                      <a:pt x="248" y="4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4295520" y="3397680"/>
                <a:ext cx="69840" cy="1404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5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5" y="3"/>
                    </a:lnTo>
                    <a:lnTo>
                      <a:pt x="25" y="4"/>
                    </a:lnTo>
                    <a:lnTo>
                      <a:pt x="35" y="6"/>
                    </a:lnTo>
                    <a:lnTo>
                      <a:pt x="45" y="7"/>
                    </a:lnTo>
                    <a:lnTo>
                      <a:pt x="56" y="10"/>
                    </a:lnTo>
                    <a:lnTo>
                      <a:pt x="66" y="13"/>
                    </a:lnTo>
                    <a:lnTo>
                      <a:pt x="78" y="15"/>
                    </a:lnTo>
                    <a:lnTo>
                      <a:pt x="88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4360680" y="3619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3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4358880" y="361836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0" y="0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4359240" y="361512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0"/>
                    </a:moveTo>
                    <a:lnTo>
                      <a:pt x="2" y="2"/>
                    </a:lnTo>
                    <a:lnTo>
                      <a:pt x="8" y="4"/>
                    </a:lnTo>
                    <a:lnTo>
                      <a:pt x="17" y="7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4359240" y="361368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0"/>
                    </a:moveTo>
                    <a:lnTo>
                      <a:pt x="2" y="5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4359240" y="36136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3" y="3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4357080" y="361188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3" y="2"/>
                    </a:lnTo>
                    <a:lnTo>
                      <a:pt x="22" y="7"/>
                    </a:lnTo>
                    <a:lnTo>
                      <a:pt x="2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4357440" y="36086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" y="5"/>
                    </a:lnTo>
                    <a:lnTo>
                      <a:pt x="24" y="8"/>
                    </a:lnTo>
                    <a:lnTo>
                      <a:pt x="2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4357440" y="360720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" y="6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4356000" y="3607200"/>
                <a:ext cx="22320" cy="64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3"/>
                    </a:lnTo>
                    <a:lnTo>
                      <a:pt x="27" y="8"/>
                    </a:lnTo>
                    <a:lnTo>
                      <a:pt x="2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4356000" y="36054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2" y="2"/>
                    </a:lnTo>
                    <a:lnTo>
                      <a:pt x="29" y="8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4356000" y="36039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0" y="0"/>
                    </a:moveTo>
                    <a:lnTo>
                      <a:pt x="2" y="4"/>
                    </a:lnTo>
                    <a:lnTo>
                      <a:pt x="31" y="10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4355640" y="360252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2" y="5"/>
                    </a:lnTo>
                    <a:lnTo>
                      <a:pt x="33" y="10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4355640" y="360252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0" y="0"/>
                    </a:moveTo>
                    <a:lnTo>
                      <a:pt x="2" y="3"/>
                    </a:lnTo>
                    <a:lnTo>
                      <a:pt x="33" y="7"/>
                    </a:lnTo>
                    <a:lnTo>
                      <a:pt x="2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4357080" y="360072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29" y="5"/>
                    </a:lnTo>
                    <a:lnTo>
                      <a:pt x="34" y="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4359240" y="35974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" y="4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29" y="4"/>
                    </a:lnTo>
                    <a:lnTo>
                      <a:pt x="31" y="9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360680" y="35974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0" y="0"/>
                    </a:moveTo>
                    <a:lnTo>
                      <a:pt x="0" y="2"/>
                    </a:lnTo>
                    <a:lnTo>
                      <a:pt x="29" y="7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4360320" y="3596040"/>
                <a:ext cx="25560" cy="648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2" y="2"/>
                    </a:lnTo>
                    <a:lnTo>
                      <a:pt x="31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4363920" y="35946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4" y="5"/>
                    </a:lnTo>
                    <a:lnTo>
                      <a:pt x="29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4365360" y="35946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2" y="3"/>
                    </a:lnTo>
                    <a:lnTo>
                      <a:pt x="26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67160" y="359280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0" y="2"/>
                    </a:lnTo>
                    <a:lnTo>
                      <a:pt x="22" y="7"/>
                    </a:lnTo>
                    <a:lnTo>
                      <a:pt x="1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4368600" y="3591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3" y="0"/>
                    </a:moveTo>
                    <a:lnTo>
                      <a:pt x="0" y="4"/>
                    </a:lnTo>
                    <a:lnTo>
                      <a:pt x="20" y="7"/>
                    </a:lnTo>
                    <a:lnTo>
                      <a:pt x="1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4371480" y="35913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2" y="0"/>
                    </a:moveTo>
                    <a:lnTo>
                      <a:pt x="0" y="2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4372920" y="358956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2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4374720" y="35895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0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4376160" y="3589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4376160" y="3589560"/>
                <a:ext cx="1800" cy="1800"/>
              </a:xfrm>
              <a:prstGeom prst="rect">
                <a:avLst/>
              </a:pr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4264920" y="3623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4264920" y="3623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4033440" y="351504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4026960" y="351036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0" y="0"/>
                    </a:moveTo>
                    <a:lnTo>
                      <a:pt x="6" y="4"/>
                    </a:lnTo>
                    <a:lnTo>
                      <a:pt x="12" y="7"/>
                    </a:lnTo>
                    <a:lnTo>
                      <a:pt x="16" y="10"/>
                    </a:lnTo>
                    <a:lnTo>
                      <a:pt x="22" y="14"/>
                    </a:lnTo>
                    <a:lnTo>
                      <a:pt x="31" y="16"/>
                    </a:lnTo>
                    <a:lnTo>
                      <a:pt x="39" y="14"/>
                    </a:lnTo>
                    <a:lnTo>
                      <a:pt x="46" y="13"/>
                    </a:lnTo>
                    <a:lnTo>
                      <a:pt x="52" y="10"/>
                    </a:lnTo>
                    <a:lnTo>
                      <a:pt x="5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4022640" y="3502440"/>
                <a:ext cx="56880" cy="1584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0" y="0"/>
                    </a:moveTo>
                    <a:lnTo>
                      <a:pt x="6" y="3"/>
                    </a:lnTo>
                    <a:lnTo>
                      <a:pt x="10" y="8"/>
                    </a:lnTo>
                    <a:lnTo>
                      <a:pt x="16" y="13"/>
                    </a:lnTo>
                    <a:lnTo>
                      <a:pt x="22" y="16"/>
                    </a:lnTo>
                    <a:lnTo>
                      <a:pt x="58" y="21"/>
                    </a:lnTo>
                    <a:lnTo>
                      <a:pt x="61" y="18"/>
                    </a:lnTo>
                    <a:lnTo>
                      <a:pt x="64" y="17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4019400" y="349596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0" y="0"/>
                    </a:moveTo>
                    <a:lnTo>
                      <a:pt x="6" y="4"/>
                    </a:lnTo>
                    <a:lnTo>
                      <a:pt x="11" y="8"/>
                    </a:lnTo>
                    <a:lnTo>
                      <a:pt x="17" y="12"/>
                    </a:lnTo>
                    <a:lnTo>
                      <a:pt x="21" y="17"/>
                    </a:lnTo>
                    <a:lnTo>
                      <a:pt x="79" y="24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4" y="17"/>
                    </a:lnTo>
                    <a:lnTo>
                      <a:pt x="88" y="12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4017600" y="3488040"/>
                <a:ext cx="82440" cy="2376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0" y="0"/>
                    </a:moveTo>
                    <a:lnTo>
                      <a:pt x="7" y="3"/>
                    </a:lnTo>
                    <a:lnTo>
                      <a:pt x="14" y="8"/>
                    </a:lnTo>
                    <a:lnTo>
                      <a:pt x="20" y="12"/>
                    </a:lnTo>
                    <a:lnTo>
                      <a:pt x="27" y="17"/>
                    </a:lnTo>
                    <a:lnTo>
                      <a:pt x="98" y="28"/>
                    </a:lnTo>
                    <a:lnTo>
                      <a:pt x="101" y="26"/>
                    </a:lnTo>
                    <a:lnTo>
                      <a:pt x="102" y="25"/>
                    </a:lnTo>
                    <a:lnTo>
                      <a:pt x="104" y="23"/>
                    </a:lnTo>
                    <a:lnTo>
                      <a:pt x="105" y="19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88" y="19"/>
                    </a:lnTo>
                    <a:lnTo>
                      <a:pt x="85" y="19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4024080" y="3483360"/>
                <a:ext cx="85680" cy="20520"/>
              </a:xfrm>
              <a:custGeom>
                <a:avLst/>
                <a:gdLst/>
                <a:ahLst/>
                <a:rect l="l" t="t" r="r" b="b"/>
                <a:pathLst>
                  <a:path w="107" h="26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18" y="11"/>
                    </a:lnTo>
                    <a:lnTo>
                      <a:pt x="26" y="16"/>
                    </a:lnTo>
                    <a:lnTo>
                      <a:pt x="96" y="26"/>
                    </a:lnTo>
                    <a:lnTo>
                      <a:pt x="96" y="24"/>
                    </a:lnTo>
                    <a:lnTo>
                      <a:pt x="96" y="23"/>
                    </a:lnTo>
                    <a:lnTo>
                      <a:pt x="96" y="20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101" y="16"/>
                    </a:lnTo>
                    <a:lnTo>
                      <a:pt x="104" y="16"/>
                    </a:lnTo>
                    <a:lnTo>
                      <a:pt x="10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4017600" y="35038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4020480" y="3475440"/>
                <a:ext cx="101880" cy="2520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0" y="0"/>
                    </a:moveTo>
                    <a:lnTo>
                      <a:pt x="8" y="4"/>
                    </a:lnTo>
                    <a:lnTo>
                      <a:pt x="15" y="9"/>
                    </a:lnTo>
                    <a:lnTo>
                      <a:pt x="21" y="13"/>
                    </a:lnTo>
                    <a:lnTo>
                      <a:pt x="26" y="17"/>
                    </a:lnTo>
                    <a:lnTo>
                      <a:pt x="111" y="32"/>
                    </a:lnTo>
                    <a:lnTo>
                      <a:pt x="111" y="29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4" y="27"/>
                    </a:lnTo>
                    <a:lnTo>
                      <a:pt x="117" y="26"/>
                    </a:lnTo>
                    <a:lnTo>
                      <a:pt x="122" y="25"/>
                    </a:lnTo>
                    <a:lnTo>
                      <a:pt x="127" y="23"/>
                    </a:lnTo>
                    <a:lnTo>
                      <a:pt x="127" y="22"/>
                    </a:lnTo>
                    <a:lnTo>
                      <a:pt x="127" y="21"/>
                    </a:lnTo>
                    <a:lnTo>
                      <a:pt x="127" y="20"/>
                    </a:lnTo>
                    <a:lnTo>
                      <a:pt x="12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4020480" y="346896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141" h="34">
                    <a:moveTo>
                      <a:pt x="0" y="0"/>
                    </a:moveTo>
                    <a:lnTo>
                      <a:pt x="7" y="5"/>
                    </a:lnTo>
                    <a:lnTo>
                      <a:pt x="15" y="8"/>
                    </a:lnTo>
                    <a:lnTo>
                      <a:pt x="22" y="13"/>
                    </a:lnTo>
                    <a:lnTo>
                      <a:pt x="29" y="18"/>
                    </a:lnTo>
                    <a:lnTo>
                      <a:pt x="136" y="34"/>
                    </a:lnTo>
                    <a:lnTo>
                      <a:pt x="136" y="33"/>
                    </a:lnTo>
                    <a:lnTo>
                      <a:pt x="137" y="31"/>
                    </a:lnTo>
                    <a:lnTo>
                      <a:pt x="139" y="31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7"/>
                    </a:lnTo>
                    <a:lnTo>
                      <a:pt x="141" y="25"/>
                    </a:lnTo>
                    <a:lnTo>
                      <a:pt x="1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4019040" y="3462840"/>
                <a:ext cx="127080" cy="27000"/>
              </a:xfrm>
              <a:custGeom>
                <a:avLst/>
                <a:gdLst/>
                <a:ahLst/>
                <a:rect l="l" t="t" r="r" b="b"/>
                <a:pathLst>
                  <a:path w="159" h="36">
                    <a:moveTo>
                      <a:pt x="0" y="0"/>
                    </a:moveTo>
                    <a:lnTo>
                      <a:pt x="8" y="4"/>
                    </a:lnTo>
                    <a:lnTo>
                      <a:pt x="16" y="8"/>
                    </a:lnTo>
                    <a:lnTo>
                      <a:pt x="23" y="13"/>
                    </a:lnTo>
                    <a:lnTo>
                      <a:pt x="30" y="17"/>
                    </a:lnTo>
                    <a:lnTo>
                      <a:pt x="157" y="36"/>
                    </a:lnTo>
                    <a:lnTo>
                      <a:pt x="157" y="32"/>
                    </a:lnTo>
                    <a:lnTo>
                      <a:pt x="158" y="30"/>
                    </a:lnTo>
                    <a:lnTo>
                      <a:pt x="159" y="28"/>
                    </a:lnTo>
                    <a:lnTo>
                      <a:pt x="159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4019400" y="3454920"/>
                <a:ext cx="139680" cy="31680"/>
              </a:xfrm>
              <a:custGeom>
                <a:avLst/>
                <a:gdLst/>
                <a:ahLst/>
                <a:rect l="l" t="t" r="r" b="b"/>
                <a:pathLst>
                  <a:path w="176" h="40">
                    <a:moveTo>
                      <a:pt x="0" y="0"/>
                    </a:moveTo>
                    <a:lnTo>
                      <a:pt x="8" y="3"/>
                    </a:lnTo>
                    <a:lnTo>
                      <a:pt x="17" y="8"/>
                    </a:lnTo>
                    <a:lnTo>
                      <a:pt x="25" y="14"/>
                    </a:lnTo>
                    <a:lnTo>
                      <a:pt x="33" y="18"/>
                    </a:lnTo>
                    <a:lnTo>
                      <a:pt x="174" y="40"/>
                    </a:lnTo>
                    <a:lnTo>
                      <a:pt x="175" y="37"/>
                    </a:lnTo>
                    <a:lnTo>
                      <a:pt x="176" y="33"/>
                    </a:lnTo>
                    <a:lnTo>
                      <a:pt x="176" y="30"/>
                    </a:lnTo>
                    <a:lnTo>
                      <a:pt x="176" y="26"/>
                    </a:lnTo>
                    <a:lnTo>
                      <a:pt x="17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4019400" y="3446640"/>
                <a:ext cx="156960" cy="35280"/>
              </a:xfrm>
              <a:custGeom>
                <a:avLst/>
                <a:gdLst/>
                <a:ahLst/>
                <a:rect l="l" t="t" r="r" b="b"/>
                <a:pathLst>
                  <a:path w="198" h="42">
                    <a:moveTo>
                      <a:pt x="0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16" y="7"/>
                    </a:lnTo>
                    <a:lnTo>
                      <a:pt x="21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9"/>
                    </a:lnTo>
                    <a:lnTo>
                      <a:pt x="198" y="37"/>
                    </a:lnTo>
                    <a:lnTo>
                      <a:pt x="198" y="35"/>
                    </a:lnTo>
                    <a:lnTo>
                      <a:pt x="197" y="33"/>
                    </a:lnTo>
                    <a:lnTo>
                      <a:pt x="194" y="31"/>
                    </a:lnTo>
                    <a:lnTo>
                      <a:pt x="193" y="30"/>
                    </a:lnTo>
                    <a:lnTo>
                      <a:pt x="19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4019040" y="343872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6">
                    <a:moveTo>
                      <a:pt x="0" y="0"/>
                    </a:moveTo>
                    <a:lnTo>
                      <a:pt x="6" y="3"/>
                    </a:lnTo>
                    <a:lnTo>
                      <a:pt x="10" y="4"/>
                    </a:lnTo>
                    <a:lnTo>
                      <a:pt x="16" y="7"/>
                    </a:lnTo>
                    <a:lnTo>
                      <a:pt x="22" y="10"/>
                    </a:lnTo>
                    <a:lnTo>
                      <a:pt x="27" y="12"/>
                    </a:lnTo>
                    <a:lnTo>
                      <a:pt x="32" y="14"/>
                    </a:lnTo>
                    <a:lnTo>
                      <a:pt x="37" y="18"/>
                    </a:lnTo>
                    <a:lnTo>
                      <a:pt x="43" y="20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1" y="38"/>
                    </a:lnTo>
                    <a:lnTo>
                      <a:pt x="205" y="35"/>
                    </a:lnTo>
                    <a:lnTo>
                      <a:pt x="201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4023720" y="343260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38" h="47">
                    <a:moveTo>
                      <a:pt x="0" y="0"/>
                    </a:moveTo>
                    <a:lnTo>
                      <a:pt x="6" y="2"/>
                    </a:lnTo>
                    <a:lnTo>
                      <a:pt x="12" y="4"/>
                    </a:lnTo>
                    <a:lnTo>
                      <a:pt x="18" y="6"/>
                    </a:lnTo>
                    <a:lnTo>
                      <a:pt x="25" y="8"/>
                    </a:lnTo>
                    <a:lnTo>
                      <a:pt x="31" y="12"/>
                    </a:lnTo>
                    <a:lnTo>
                      <a:pt x="36" y="14"/>
                    </a:lnTo>
                    <a:lnTo>
                      <a:pt x="41" y="16"/>
                    </a:lnTo>
                    <a:lnTo>
                      <a:pt x="47" y="20"/>
                    </a:lnTo>
                    <a:lnTo>
                      <a:pt x="238" y="47"/>
                    </a:lnTo>
                    <a:lnTo>
                      <a:pt x="232" y="44"/>
                    </a:lnTo>
                    <a:lnTo>
                      <a:pt x="227" y="39"/>
                    </a:lnTo>
                    <a:lnTo>
                      <a:pt x="221" y="35"/>
                    </a:lnTo>
                    <a:lnTo>
                      <a:pt x="2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4033800" y="3422880"/>
                <a:ext cx="204480" cy="41400"/>
              </a:xfrm>
              <a:custGeom>
                <a:avLst/>
                <a:gdLst/>
                <a:ahLst/>
                <a:rect l="l" t="t" r="r" b="b"/>
                <a:pathLst>
                  <a:path w="259" h="51">
                    <a:moveTo>
                      <a:pt x="0" y="0"/>
                    </a:moveTo>
                    <a:lnTo>
                      <a:pt x="8" y="2"/>
                    </a:lnTo>
                    <a:lnTo>
                      <a:pt x="15" y="4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7" y="12"/>
                    </a:lnTo>
                    <a:lnTo>
                      <a:pt x="44" y="15"/>
                    </a:lnTo>
                    <a:lnTo>
                      <a:pt x="51" y="18"/>
                    </a:lnTo>
                    <a:lnTo>
                      <a:pt x="58" y="20"/>
                    </a:lnTo>
                    <a:lnTo>
                      <a:pt x="259" y="51"/>
                    </a:lnTo>
                    <a:lnTo>
                      <a:pt x="253" y="47"/>
                    </a:lnTo>
                    <a:lnTo>
                      <a:pt x="246" y="42"/>
                    </a:lnTo>
                    <a:lnTo>
                      <a:pt x="239" y="39"/>
                    </a:lnTo>
                    <a:lnTo>
                      <a:pt x="232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4044600" y="3411720"/>
                <a:ext cx="222480" cy="44640"/>
              </a:xfrm>
              <a:custGeom>
                <a:avLst/>
                <a:gdLst/>
                <a:ahLst/>
                <a:rect l="l" t="t" r="r" b="b"/>
                <a:pathLst>
                  <a:path w="281" h="55">
                    <a:moveTo>
                      <a:pt x="0" y="0"/>
                    </a:moveTo>
                    <a:lnTo>
                      <a:pt x="9" y="3"/>
                    </a:lnTo>
                    <a:lnTo>
                      <a:pt x="17" y="6"/>
                    </a:lnTo>
                    <a:lnTo>
                      <a:pt x="26" y="9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7"/>
                    </a:lnTo>
                    <a:lnTo>
                      <a:pt x="58" y="21"/>
                    </a:lnTo>
                    <a:lnTo>
                      <a:pt x="67" y="24"/>
                    </a:lnTo>
                    <a:lnTo>
                      <a:pt x="281" y="55"/>
                    </a:lnTo>
                    <a:lnTo>
                      <a:pt x="274" y="51"/>
                    </a:lnTo>
                    <a:lnTo>
                      <a:pt x="266" y="46"/>
                    </a:lnTo>
                    <a:lnTo>
                      <a:pt x="258" y="43"/>
                    </a:lnTo>
                    <a:lnTo>
                      <a:pt x="2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4053960" y="3408840"/>
                <a:ext cx="222120" cy="42840"/>
              </a:xfrm>
              <a:custGeom>
                <a:avLst/>
                <a:gdLst/>
                <a:ahLst/>
                <a:rect l="l" t="t" r="r" b="b"/>
                <a:pathLst>
                  <a:path w="279" h="53">
                    <a:moveTo>
                      <a:pt x="47" y="18"/>
                    </a:moveTo>
                    <a:lnTo>
                      <a:pt x="42" y="15"/>
                    </a:lnTo>
                    <a:lnTo>
                      <a:pt x="37" y="14"/>
                    </a:lnTo>
                    <a:lnTo>
                      <a:pt x="30" y="12"/>
                    </a:lnTo>
                    <a:lnTo>
                      <a:pt x="24" y="10"/>
                    </a:lnTo>
                    <a:lnTo>
                      <a:pt x="19" y="7"/>
                    </a:lnTo>
                    <a:lnTo>
                      <a:pt x="13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236" y="31"/>
                    </a:lnTo>
                    <a:lnTo>
                      <a:pt x="242" y="34"/>
                    </a:lnTo>
                    <a:lnTo>
                      <a:pt x="247" y="36"/>
                    </a:lnTo>
                    <a:lnTo>
                      <a:pt x="253" y="38"/>
                    </a:lnTo>
                    <a:lnTo>
                      <a:pt x="257" y="41"/>
                    </a:lnTo>
                    <a:lnTo>
                      <a:pt x="263" y="44"/>
                    </a:lnTo>
                    <a:lnTo>
                      <a:pt x="267" y="46"/>
                    </a:lnTo>
                    <a:lnTo>
                      <a:pt x="273" y="50"/>
                    </a:lnTo>
                    <a:lnTo>
                      <a:pt x="279" y="53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4068360" y="3408840"/>
                <a:ext cx="207720" cy="33120"/>
              </a:xfrm>
              <a:custGeom>
                <a:avLst/>
                <a:gdLst/>
                <a:ahLst/>
                <a:rect l="l" t="t" r="r" b="b"/>
                <a:pathLst>
                  <a:path w="262" h="43">
                    <a:moveTo>
                      <a:pt x="12" y="5"/>
                    </a:moveTo>
                    <a:lnTo>
                      <a:pt x="9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29" y="3"/>
                    </a:lnTo>
                    <a:lnTo>
                      <a:pt x="44" y="3"/>
                    </a:lnTo>
                    <a:lnTo>
                      <a:pt x="60" y="4"/>
                    </a:lnTo>
                    <a:lnTo>
                      <a:pt x="75" y="5"/>
                    </a:lnTo>
                    <a:lnTo>
                      <a:pt x="90" y="7"/>
                    </a:lnTo>
                    <a:lnTo>
                      <a:pt x="106" y="8"/>
                    </a:lnTo>
                    <a:lnTo>
                      <a:pt x="121" y="11"/>
                    </a:lnTo>
                    <a:lnTo>
                      <a:pt x="181" y="18"/>
                    </a:lnTo>
                    <a:lnTo>
                      <a:pt x="191" y="20"/>
                    </a:lnTo>
                    <a:lnTo>
                      <a:pt x="202" y="23"/>
                    </a:lnTo>
                    <a:lnTo>
                      <a:pt x="212" y="26"/>
                    </a:lnTo>
                    <a:lnTo>
                      <a:pt x="223" y="28"/>
                    </a:lnTo>
                    <a:lnTo>
                      <a:pt x="233" y="31"/>
                    </a:lnTo>
                    <a:lnTo>
                      <a:pt x="242" y="35"/>
                    </a:lnTo>
                    <a:lnTo>
                      <a:pt x="253" y="38"/>
                    </a:lnTo>
                    <a:lnTo>
                      <a:pt x="262" y="43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4089240" y="3410280"/>
                <a:ext cx="155520" cy="23760"/>
              </a:xfrm>
              <a:custGeom>
                <a:avLst/>
                <a:gdLst/>
                <a:ahLst/>
                <a:rect l="l" t="t" r="r" b="b"/>
                <a:pathLst>
                  <a:path w="195" h="28">
                    <a:moveTo>
                      <a:pt x="195" y="28"/>
                    </a:moveTo>
                    <a:lnTo>
                      <a:pt x="184" y="25"/>
                    </a:lnTo>
                    <a:lnTo>
                      <a:pt x="171" y="22"/>
                    </a:lnTo>
                    <a:lnTo>
                      <a:pt x="160" y="19"/>
                    </a:lnTo>
                    <a:lnTo>
                      <a:pt x="148" y="17"/>
                    </a:lnTo>
                    <a:lnTo>
                      <a:pt x="135" y="15"/>
                    </a:lnTo>
                    <a:lnTo>
                      <a:pt x="123" y="12"/>
                    </a:lnTo>
                    <a:lnTo>
                      <a:pt x="111" y="10"/>
                    </a:lnTo>
                    <a:lnTo>
                      <a:pt x="99" y="8"/>
                    </a:lnTo>
                    <a:lnTo>
                      <a:pt x="86" y="7"/>
                    </a:lnTo>
                    <a:lnTo>
                      <a:pt x="73" y="5"/>
                    </a:lnTo>
                    <a:lnTo>
                      <a:pt x="61" y="3"/>
                    </a:lnTo>
                    <a:lnTo>
                      <a:pt x="49" y="2"/>
                    </a:lnTo>
                    <a:lnTo>
                      <a:pt x="36" y="2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95" y="28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4132080" y="3416760"/>
                <a:ext cx="47520" cy="612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60" y="7"/>
                    </a:moveTo>
                    <a:lnTo>
                      <a:pt x="53" y="5"/>
                    </a:lnTo>
                    <a:lnTo>
                      <a:pt x="45" y="4"/>
                    </a:lnTo>
                    <a:lnTo>
                      <a:pt x="38" y="3"/>
                    </a:lnTo>
                    <a:lnTo>
                      <a:pt x="30" y="2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6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5068800" y="33627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2" y="0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5062320" y="336276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5058720" y="336276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" y="0"/>
                    </a:moveTo>
                    <a:lnTo>
                      <a:pt x="0" y="0"/>
                    </a:lnTo>
                    <a:lnTo>
                      <a:pt x="9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5057280" y="33627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5" y="0"/>
                    </a:moveTo>
                    <a:lnTo>
                      <a:pt x="0" y="0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5057640" y="335952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5" y="0"/>
                    </a:moveTo>
                    <a:lnTo>
                      <a:pt x="0" y="4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5055480" y="335952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" y="0"/>
                    </a:moveTo>
                    <a:lnTo>
                      <a:pt x="0" y="4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5055480" y="3359520"/>
                <a:ext cx="1620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2" y="0"/>
                    </a:moveTo>
                    <a:lnTo>
                      <a:pt x="0" y="0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5054040" y="335952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6" y="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5050800" y="335808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6" y="0"/>
                    </a:moveTo>
                    <a:lnTo>
                      <a:pt x="0" y="2"/>
                    </a:lnTo>
                    <a:lnTo>
                      <a:pt x="17" y="6"/>
                    </a:lnTo>
                    <a:lnTo>
                      <a:pt x="22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051160" y="335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2" y="0"/>
                    </a:moveTo>
                    <a:lnTo>
                      <a:pt x="0" y="2"/>
                    </a:lnTo>
                    <a:lnTo>
                      <a:pt x="16" y="6"/>
                    </a:lnTo>
                    <a:lnTo>
                      <a:pt x="1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5049720" y="33580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2" y="0"/>
                    </a:moveTo>
                    <a:lnTo>
                      <a:pt x="0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5049720" y="33580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0"/>
                    </a:moveTo>
                    <a:lnTo>
                      <a:pt x="0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5047920" y="335628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5" y="0"/>
                    </a:moveTo>
                    <a:lnTo>
                      <a:pt x="0" y="3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5047920" y="33562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0" y="3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5046120" y="3356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2" y="0"/>
                    </a:moveTo>
                    <a:lnTo>
                      <a:pt x="0" y="0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5046120" y="3356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4" y="0"/>
                    </a:moveTo>
                    <a:lnTo>
                      <a:pt x="0" y="0"/>
                    </a:lnTo>
                    <a:lnTo>
                      <a:pt x="14" y="3"/>
                    </a:lnTo>
                    <a:lnTo>
                      <a:pt x="1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5046120" y="33548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5045040" y="3354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5045040" y="3354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5042880" y="33548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7" y="0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5041800" y="3351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5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5041440" y="33516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0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5038560" y="3351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2" y="0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5038560" y="3351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5" y="0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5037120" y="335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5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036760" y="33516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5035320" y="33501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5032080" y="33501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5031720" y="3350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077800" y="33483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5" y="8"/>
                    </a:lnTo>
                    <a:lnTo>
                      <a:pt x="23" y="6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5067000" y="33451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5" y="13"/>
                    </a:lnTo>
                    <a:lnTo>
                      <a:pt x="21" y="11"/>
                    </a:lnTo>
                    <a:lnTo>
                      <a:pt x="30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5054040" y="33418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9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7" y="10"/>
                    </a:lnTo>
                    <a:lnTo>
                      <a:pt x="38" y="13"/>
                    </a:lnTo>
                    <a:lnTo>
                      <a:pt x="31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5043240" y="333720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6" h="17">
                    <a:moveTo>
                      <a:pt x="0" y="10"/>
                    </a:moveTo>
                    <a:lnTo>
                      <a:pt x="0" y="7"/>
                    </a:lnTo>
                    <a:lnTo>
                      <a:pt x="3" y="5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3" y="13"/>
                    </a:lnTo>
                    <a:lnTo>
                      <a:pt x="54" y="14"/>
                    </a:lnTo>
                    <a:lnTo>
                      <a:pt x="46" y="1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5027040" y="333576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22" y="0"/>
                    </a:moveTo>
                    <a:lnTo>
                      <a:pt x="16" y="1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58" y="16"/>
                    </a:lnTo>
                    <a:lnTo>
                      <a:pt x="66" y="14"/>
                    </a:lnTo>
                    <a:lnTo>
                      <a:pt x="74" y="13"/>
                    </a:lnTo>
                    <a:lnTo>
                      <a:pt x="82" y="11"/>
                    </a:lnTo>
                    <a:lnTo>
                      <a:pt x="91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5013000" y="3331080"/>
                <a:ext cx="76320" cy="14040"/>
              </a:xfrm>
              <a:custGeom>
                <a:avLst/>
                <a:gdLst/>
                <a:ahLst/>
                <a:rect l="l" t="t" r="r" b="b"/>
                <a:pathLst>
                  <a:path w="97" h="18">
                    <a:moveTo>
                      <a:pt x="21" y="0"/>
                    </a:moveTo>
                    <a:lnTo>
                      <a:pt x="16" y="3"/>
                    </a:lnTo>
                    <a:lnTo>
                      <a:pt x="10" y="5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79" y="17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92" y="14"/>
                    </a:lnTo>
                    <a:lnTo>
                      <a:pt x="97" y="1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4997160" y="332928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107" h="17">
                    <a:moveTo>
                      <a:pt x="24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7" y="6"/>
                    </a:lnTo>
                    <a:lnTo>
                      <a:pt x="0" y="8"/>
                    </a:lnTo>
                    <a:lnTo>
                      <a:pt x="69" y="17"/>
                    </a:lnTo>
                    <a:lnTo>
                      <a:pt x="74" y="17"/>
                    </a:lnTo>
                    <a:lnTo>
                      <a:pt x="78" y="17"/>
                    </a:lnTo>
                    <a:lnTo>
                      <a:pt x="83" y="16"/>
                    </a:lnTo>
                    <a:lnTo>
                      <a:pt x="89" y="16"/>
                    </a:lnTo>
                    <a:lnTo>
                      <a:pt x="93" y="15"/>
                    </a:lnTo>
                    <a:lnTo>
                      <a:pt x="98" y="14"/>
                    </a:lnTo>
                    <a:lnTo>
                      <a:pt x="103" y="14"/>
                    </a:lnTo>
                    <a:lnTo>
                      <a:pt x="107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4979880" y="3326040"/>
                <a:ext cx="93600" cy="15840"/>
              </a:xfrm>
              <a:custGeom>
                <a:avLst/>
                <a:gdLst/>
                <a:ahLst/>
                <a:rect l="l" t="t" r="r" b="b"/>
                <a:pathLst>
                  <a:path w="117" h="20">
                    <a:moveTo>
                      <a:pt x="24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76" y="20"/>
                    </a:lnTo>
                    <a:lnTo>
                      <a:pt x="81" y="19"/>
                    </a:lnTo>
                    <a:lnTo>
                      <a:pt x="86" y="19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101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7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963680" y="3324600"/>
                <a:ext cx="98280" cy="14400"/>
              </a:xfrm>
              <a:custGeom>
                <a:avLst/>
                <a:gdLst/>
                <a:ahLst/>
                <a:rect l="l" t="t" r="r" b="b"/>
                <a:pathLst>
                  <a:path w="126" h="20">
                    <a:moveTo>
                      <a:pt x="23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4" y="19"/>
                    </a:lnTo>
                    <a:lnTo>
                      <a:pt x="99" y="17"/>
                    </a:lnTo>
                    <a:lnTo>
                      <a:pt x="105" y="17"/>
                    </a:lnTo>
                    <a:lnTo>
                      <a:pt x="110" y="17"/>
                    </a:lnTo>
                    <a:lnTo>
                      <a:pt x="115" y="16"/>
                    </a:lnTo>
                    <a:lnTo>
                      <a:pt x="120" y="16"/>
                    </a:lnTo>
                    <a:lnTo>
                      <a:pt x="126" y="1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4942800" y="3319920"/>
                <a:ext cx="111240" cy="17280"/>
              </a:xfrm>
              <a:custGeom>
                <a:avLst/>
                <a:gdLst/>
                <a:ahLst/>
                <a:rect l="l" t="t" r="r" b="b"/>
                <a:pathLst>
                  <a:path w="138" h="21">
                    <a:moveTo>
                      <a:pt x="24" y="0"/>
                    </a:moveTo>
                    <a:lnTo>
                      <a:pt x="18" y="1"/>
                    </a:lnTo>
                    <a:lnTo>
                      <a:pt x="12" y="3"/>
                    </a:lnTo>
                    <a:lnTo>
                      <a:pt x="7" y="4"/>
                    </a:lnTo>
                    <a:lnTo>
                      <a:pt x="0" y="6"/>
                    </a:lnTo>
                    <a:lnTo>
                      <a:pt x="93" y="21"/>
                    </a:lnTo>
                    <a:lnTo>
                      <a:pt x="99" y="21"/>
                    </a:lnTo>
                    <a:lnTo>
                      <a:pt x="103" y="21"/>
                    </a:lnTo>
                    <a:lnTo>
                      <a:pt x="109" y="20"/>
                    </a:lnTo>
                    <a:lnTo>
                      <a:pt x="116" y="20"/>
                    </a:lnTo>
                    <a:lnTo>
                      <a:pt x="122" y="19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8" y="1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4924080" y="3318120"/>
                <a:ext cx="120960" cy="17640"/>
              </a:xfrm>
              <a:custGeom>
                <a:avLst/>
                <a:gdLst/>
                <a:ahLst/>
                <a:rect l="l" t="t" r="r" b="b"/>
                <a:pathLst>
                  <a:path w="151" h="22">
                    <a:moveTo>
                      <a:pt x="27" y="0"/>
                    </a:moveTo>
                    <a:lnTo>
                      <a:pt x="20" y="1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103" y="22"/>
                    </a:lnTo>
                    <a:lnTo>
                      <a:pt x="109" y="22"/>
                    </a:lnTo>
                    <a:lnTo>
                      <a:pt x="116" y="22"/>
                    </a:lnTo>
                    <a:lnTo>
                      <a:pt x="121" y="21"/>
                    </a:lnTo>
                    <a:lnTo>
                      <a:pt x="127" y="21"/>
                    </a:lnTo>
                    <a:lnTo>
                      <a:pt x="133" y="21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1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3990960" y="2897280"/>
              <a:ext cx="1157040" cy="520560"/>
              <a:chOff x="3990960" y="2897280"/>
              <a:chExt cx="1157040" cy="520560"/>
            </a:xfrm>
          </p:grpSpPr>
          <p:sp>
            <p:nvSpPr>
              <p:cNvPr id="1383" name=""/>
              <p:cNvSpPr/>
              <p:nvPr/>
            </p:nvSpPr>
            <p:spPr>
              <a:xfrm flipH="1">
                <a:off x="4905000" y="3314520"/>
                <a:ext cx="129960" cy="19080"/>
              </a:xfrm>
              <a:custGeom>
                <a:avLst/>
                <a:gdLst/>
                <a:ahLst/>
                <a:rect l="l" t="t" r="r" b="b"/>
                <a:pathLst>
                  <a:path w="164" h="24">
                    <a:moveTo>
                      <a:pt x="28" y="0"/>
                    </a:moveTo>
                    <a:lnTo>
                      <a:pt x="21" y="1"/>
                    </a:lnTo>
                    <a:lnTo>
                      <a:pt x="14" y="3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7" y="24"/>
                    </a:lnTo>
                    <a:lnTo>
                      <a:pt x="132" y="23"/>
                    </a:lnTo>
                    <a:lnTo>
                      <a:pt x="139" y="22"/>
                    </a:lnTo>
                    <a:lnTo>
                      <a:pt x="145" y="22"/>
                    </a:lnTo>
                    <a:lnTo>
                      <a:pt x="151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4883040" y="3313080"/>
                <a:ext cx="141120" cy="205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29" y="0"/>
                    </a:moveTo>
                    <a:lnTo>
                      <a:pt x="22" y="1"/>
                    </a:lnTo>
                    <a:lnTo>
                      <a:pt x="15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124" y="27"/>
                    </a:lnTo>
                    <a:lnTo>
                      <a:pt x="130" y="26"/>
                    </a:lnTo>
                    <a:lnTo>
                      <a:pt x="137" y="25"/>
                    </a:lnTo>
                    <a:lnTo>
                      <a:pt x="144" y="25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63" y="22"/>
                    </a:lnTo>
                    <a:lnTo>
                      <a:pt x="170" y="22"/>
                    </a:lnTo>
                    <a:lnTo>
                      <a:pt x="17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4860360" y="3311640"/>
                <a:ext cx="152280" cy="19080"/>
              </a:xfrm>
              <a:custGeom>
                <a:avLst/>
                <a:gdLst/>
                <a:ahLst/>
                <a:rect l="l" t="t" r="r" b="b"/>
                <a:pathLst>
                  <a:path w="191" h="25">
                    <a:moveTo>
                      <a:pt x="31" y="0"/>
                    </a:moveTo>
                    <a:lnTo>
                      <a:pt x="24" y="1"/>
                    </a:lnTo>
                    <a:lnTo>
                      <a:pt x="16" y="3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136" y="25"/>
                    </a:lnTo>
                    <a:lnTo>
                      <a:pt x="142" y="25"/>
                    </a:lnTo>
                    <a:lnTo>
                      <a:pt x="149" y="25"/>
                    </a:lnTo>
                    <a:lnTo>
                      <a:pt x="156" y="24"/>
                    </a:lnTo>
                    <a:lnTo>
                      <a:pt x="163" y="24"/>
                    </a:lnTo>
                    <a:lnTo>
                      <a:pt x="170" y="24"/>
                    </a:lnTo>
                    <a:lnTo>
                      <a:pt x="177" y="23"/>
                    </a:lnTo>
                    <a:lnTo>
                      <a:pt x="184" y="23"/>
                    </a:lnTo>
                    <a:lnTo>
                      <a:pt x="191" y="2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>
                <a:off x="4838400" y="3308400"/>
                <a:ext cx="162000" cy="20520"/>
              </a:xfrm>
              <a:custGeom>
                <a:avLst/>
                <a:gdLst/>
                <a:ahLst/>
                <a:rect l="l" t="t" r="r" b="b"/>
                <a:pathLst>
                  <a:path w="205" h="25">
                    <a:moveTo>
                      <a:pt x="33" y="0"/>
                    </a:moveTo>
                    <a:lnTo>
                      <a:pt x="26" y="0"/>
                    </a:lnTo>
                    <a:lnTo>
                      <a:pt x="17" y="1"/>
                    </a:lnTo>
                    <a:lnTo>
                      <a:pt x="9" y="3"/>
                    </a:lnTo>
                    <a:lnTo>
                      <a:pt x="0" y="4"/>
                    </a:lnTo>
                    <a:lnTo>
                      <a:pt x="147" y="25"/>
                    </a:lnTo>
                    <a:lnTo>
                      <a:pt x="154" y="25"/>
                    </a:lnTo>
                    <a:lnTo>
                      <a:pt x="162" y="25"/>
                    </a:lnTo>
                    <a:lnTo>
                      <a:pt x="169" y="25"/>
                    </a:lnTo>
                    <a:lnTo>
                      <a:pt x="176" y="25"/>
                    </a:lnTo>
                    <a:lnTo>
                      <a:pt x="183" y="25"/>
                    </a:lnTo>
                    <a:lnTo>
                      <a:pt x="190" y="25"/>
                    </a:lnTo>
                    <a:lnTo>
                      <a:pt x="198" y="25"/>
                    </a:lnTo>
                    <a:lnTo>
                      <a:pt x="205" y="2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4812840" y="3306600"/>
                <a:ext cx="174600" cy="22320"/>
              </a:xfrm>
              <a:custGeom>
                <a:avLst/>
                <a:gdLst/>
                <a:ahLst/>
                <a:rect l="l" t="t" r="r" b="b"/>
                <a:pathLst>
                  <a:path w="220" h="28">
                    <a:moveTo>
                      <a:pt x="35" y="0"/>
                    </a:moveTo>
                    <a:lnTo>
                      <a:pt x="31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160" y="28"/>
                    </a:lnTo>
                    <a:lnTo>
                      <a:pt x="167" y="28"/>
                    </a:lnTo>
                    <a:lnTo>
                      <a:pt x="174" y="28"/>
                    </a:lnTo>
                    <a:lnTo>
                      <a:pt x="182" y="27"/>
                    </a:lnTo>
                    <a:lnTo>
                      <a:pt x="190" y="27"/>
                    </a:lnTo>
                    <a:lnTo>
                      <a:pt x="197" y="27"/>
                    </a:lnTo>
                    <a:lnTo>
                      <a:pt x="205" y="26"/>
                    </a:lnTo>
                    <a:lnTo>
                      <a:pt x="213" y="26"/>
                    </a:lnTo>
                    <a:lnTo>
                      <a:pt x="220" y="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>
                <a:off x="4789080" y="3305160"/>
                <a:ext cx="183960" cy="23760"/>
              </a:xfrm>
              <a:custGeom>
                <a:avLst/>
                <a:gdLst/>
                <a:ahLst/>
                <a:rect l="l" t="t" r="r" b="b"/>
                <a:pathLst>
                  <a:path w="233" h="30">
                    <a:moveTo>
                      <a:pt x="40" y="0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72" y="30"/>
                    </a:lnTo>
                    <a:lnTo>
                      <a:pt x="180" y="29"/>
                    </a:lnTo>
                    <a:lnTo>
                      <a:pt x="187" y="29"/>
                    </a:lnTo>
                    <a:lnTo>
                      <a:pt x="195" y="28"/>
                    </a:lnTo>
                    <a:lnTo>
                      <a:pt x="203" y="28"/>
                    </a:lnTo>
                    <a:lnTo>
                      <a:pt x="210" y="28"/>
                    </a:lnTo>
                    <a:lnTo>
                      <a:pt x="218" y="28"/>
                    </a:lnTo>
                    <a:lnTo>
                      <a:pt x="225" y="28"/>
                    </a:lnTo>
                    <a:lnTo>
                      <a:pt x="233" y="2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4765320" y="3301920"/>
                <a:ext cx="193680" cy="25560"/>
              </a:xfrm>
              <a:custGeom>
                <a:avLst/>
                <a:gdLst/>
                <a:ahLst/>
                <a:rect l="l" t="t" r="r" b="b"/>
                <a:pathLst>
                  <a:path w="246" h="31">
                    <a:moveTo>
                      <a:pt x="44" y="0"/>
                    </a:moveTo>
                    <a:lnTo>
                      <a:pt x="38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185" y="31"/>
                    </a:lnTo>
                    <a:lnTo>
                      <a:pt x="192" y="31"/>
                    </a:lnTo>
                    <a:lnTo>
                      <a:pt x="200" y="31"/>
                    </a:lnTo>
                    <a:lnTo>
                      <a:pt x="207" y="31"/>
                    </a:lnTo>
                    <a:lnTo>
                      <a:pt x="215" y="31"/>
                    </a:lnTo>
                    <a:lnTo>
                      <a:pt x="223" y="31"/>
                    </a:lnTo>
                    <a:lnTo>
                      <a:pt x="230" y="30"/>
                    </a:lnTo>
                    <a:lnTo>
                      <a:pt x="238" y="30"/>
                    </a:lnTo>
                    <a:lnTo>
                      <a:pt x="246" y="2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>
                <a:off x="4750920" y="3300480"/>
                <a:ext cx="190440" cy="27000"/>
              </a:xfrm>
              <a:custGeom>
                <a:avLst/>
                <a:gdLst/>
                <a:ahLst/>
                <a:rect l="l" t="t" r="r" b="b"/>
                <a:pathLst>
                  <a:path w="241" h="34">
                    <a:moveTo>
                      <a:pt x="48" y="0"/>
                    </a:moveTo>
                    <a:lnTo>
                      <a:pt x="42" y="0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193" y="34"/>
                    </a:lnTo>
                    <a:lnTo>
                      <a:pt x="199" y="34"/>
                    </a:lnTo>
                    <a:lnTo>
                      <a:pt x="204" y="34"/>
                    </a:lnTo>
                    <a:lnTo>
                      <a:pt x="210" y="33"/>
                    </a:lnTo>
                    <a:lnTo>
                      <a:pt x="216" y="33"/>
                    </a:lnTo>
                    <a:lnTo>
                      <a:pt x="223" y="33"/>
                    </a:lnTo>
                    <a:lnTo>
                      <a:pt x="228" y="31"/>
                    </a:lnTo>
                    <a:lnTo>
                      <a:pt x="234" y="31"/>
                    </a:lnTo>
                    <a:lnTo>
                      <a:pt x="241" y="31"/>
                    </a:lnTo>
                    <a:lnTo>
                      <a:pt x="238" y="31"/>
                    </a:lnTo>
                    <a:lnTo>
                      <a:pt x="235" y="30"/>
                    </a:lnTo>
                    <a:lnTo>
                      <a:pt x="234" y="29"/>
                    </a:lnTo>
                    <a:lnTo>
                      <a:pt x="232" y="2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4751280" y="3300480"/>
                <a:ext cx="172800" cy="25200"/>
              </a:xfrm>
              <a:custGeom>
                <a:avLst/>
                <a:gdLst/>
                <a:ahLst/>
                <a:rect l="l" t="t" r="r" b="b"/>
                <a:pathLst>
                  <a:path w="219" h="31">
                    <a:moveTo>
                      <a:pt x="61" y="0"/>
                    </a:move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0" y="3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10" y="31"/>
                    </a:lnTo>
                    <a:lnTo>
                      <a:pt x="215" y="31"/>
                    </a:lnTo>
                    <a:lnTo>
                      <a:pt x="219" y="31"/>
                    </a:lnTo>
                    <a:lnTo>
                      <a:pt x="215" y="30"/>
                    </a:lnTo>
                    <a:lnTo>
                      <a:pt x="210" y="28"/>
                    </a:lnTo>
                    <a:lnTo>
                      <a:pt x="204" y="27"/>
                    </a:lnTo>
                    <a:lnTo>
                      <a:pt x="200" y="25"/>
                    </a:lnTo>
                    <a:lnTo>
                      <a:pt x="195" y="23"/>
                    </a:lnTo>
                    <a:lnTo>
                      <a:pt x="190" y="22"/>
                    </a:lnTo>
                    <a:lnTo>
                      <a:pt x="186" y="21"/>
                    </a:lnTo>
                    <a:lnTo>
                      <a:pt x="181" y="2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4759200" y="3300480"/>
                <a:ext cx="146160" cy="23760"/>
              </a:xfrm>
              <a:custGeom>
                <a:avLst/>
                <a:gdLst/>
                <a:ahLst/>
                <a:rect l="l" t="t" r="r" b="b"/>
                <a:pathLst>
                  <a:path w="184" h="29">
                    <a:moveTo>
                      <a:pt x="184" y="29"/>
                    </a:moveTo>
                    <a:lnTo>
                      <a:pt x="174" y="25"/>
                    </a:lnTo>
                    <a:lnTo>
                      <a:pt x="163" y="21"/>
                    </a:lnTo>
                    <a:lnTo>
                      <a:pt x="152" y="18"/>
                    </a:lnTo>
                    <a:lnTo>
                      <a:pt x="141" y="14"/>
                    </a:lnTo>
                    <a:lnTo>
                      <a:pt x="130" y="12"/>
                    </a:lnTo>
                    <a:lnTo>
                      <a:pt x="118" y="10"/>
                    </a:lnTo>
                    <a:lnTo>
                      <a:pt x="107" y="7"/>
                    </a:lnTo>
                    <a:lnTo>
                      <a:pt x="95" y="5"/>
                    </a:lnTo>
                    <a:lnTo>
                      <a:pt x="84" y="4"/>
                    </a:lnTo>
                    <a:lnTo>
                      <a:pt x="72" y="3"/>
                    </a:lnTo>
                    <a:lnTo>
                      <a:pt x="60" y="1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84" y="29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4781520" y="3300480"/>
                <a:ext cx="95040" cy="15840"/>
              </a:xfrm>
              <a:custGeom>
                <a:avLst/>
                <a:gdLst/>
                <a:ahLst/>
                <a:rect l="l" t="t" r="r" b="b"/>
                <a:pathLst>
                  <a:path w="120" h="20">
                    <a:moveTo>
                      <a:pt x="120" y="20"/>
                    </a:moveTo>
                    <a:lnTo>
                      <a:pt x="106" y="15"/>
                    </a:lnTo>
                    <a:lnTo>
                      <a:pt x="91" y="12"/>
                    </a:lnTo>
                    <a:lnTo>
                      <a:pt x="78" y="10"/>
                    </a:lnTo>
                    <a:lnTo>
                      <a:pt x="63" y="6"/>
                    </a:lnTo>
                    <a:lnTo>
                      <a:pt x="48" y="5"/>
                    </a:lnTo>
                    <a:lnTo>
                      <a:pt x="33" y="3"/>
                    </a:lnTo>
                    <a:lnTo>
                      <a:pt x="16" y="1"/>
                    </a:lnTo>
                    <a:lnTo>
                      <a:pt x="0" y="0"/>
                    </a:lnTo>
                    <a:lnTo>
                      <a:pt x="120" y="2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5086080" y="329400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0" y="29"/>
                    </a:moveTo>
                    <a:lnTo>
                      <a:pt x="0" y="34"/>
                    </a:lnTo>
                    <a:lnTo>
                      <a:pt x="1" y="34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12" y="27"/>
                    </a:lnTo>
                    <a:lnTo>
                      <a:pt x="19" y="21"/>
                    </a:lnTo>
                    <a:lnTo>
                      <a:pt x="26" y="16"/>
                    </a:lnTo>
                    <a:lnTo>
                      <a:pt x="35" y="12"/>
                    </a:lnTo>
                    <a:lnTo>
                      <a:pt x="38" y="14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5" y="22"/>
                    </a:lnTo>
                    <a:lnTo>
                      <a:pt x="50" y="19"/>
                    </a:lnTo>
                    <a:lnTo>
                      <a:pt x="56" y="14"/>
                    </a:lnTo>
                    <a:lnTo>
                      <a:pt x="61" y="10"/>
                    </a:lnTo>
                    <a:lnTo>
                      <a:pt x="66" y="7"/>
                    </a:lnTo>
                    <a:lnTo>
                      <a:pt x="16" y="0"/>
                    </a:lnTo>
                    <a:lnTo>
                      <a:pt x="12" y="7"/>
                    </a:lnTo>
                    <a:lnTo>
                      <a:pt x="8" y="14"/>
                    </a:lnTo>
                    <a:lnTo>
                      <a:pt x="3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5136480" y="3290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5138280" y="32907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2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5138640" y="3316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5060520" y="327168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85" h="50">
                    <a:moveTo>
                      <a:pt x="0" y="31"/>
                    </a:moveTo>
                    <a:lnTo>
                      <a:pt x="0" y="50"/>
                    </a:lnTo>
                    <a:lnTo>
                      <a:pt x="6" y="47"/>
                    </a:lnTo>
                    <a:lnTo>
                      <a:pt x="11" y="43"/>
                    </a:lnTo>
                    <a:lnTo>
                      <a:pt x="17" y="40"/>
                    </a:lnTo>
                    <a:lnTo>
                      <a:pt x="22" y="38"/>
                    </a:lnTo>
                    <a:lnTo>
                      <a:pt x="25" y="40"/>
                    </a:lnTo>
                    <a:lnTo>
                      <a:pt x="26" y="43"/>
                    </a:lnTo>
                    <a:lnTo>
                      <a:pt x="28" y="46"/>
                    </a:lnTo>
                    <a:lnTo>
                      <a:pt x="32" y="48"/>
                    </a:lnTo>
                    <a:lnTo>
                      <a:pt x="38" y="43"/>
                    </a:lnTo>
                    <a:lnTo>
                      <a:pt x="45" y="39"/>
                    </a:lnTo>
                    <a:lnTo>
                      <a:pt x="52" y="34"/>
                    </a:lnTo>
                    <a:lnTo>
                      <a:pt x="59" y="30"/>
                    </a:lnTo>
                    <a:lnTo>
                      <a:pt x="65" y="25"/>
                    </a:lnTo>
                    <a:lnTo>
                      <a:pt x="72" y="20"/>
                    </a:lnTo>
                    <a:lnTo>
                      <a:pt x="78" y="15"/>
                    </a:lnTo>
                    <a:lnTo>
                      <a:pt x="85" y="10"/>
                    </a:lnTo>
                    <a:lnTo>
                      <a:pt x="20" y="0"/>
                    </a:lnTo>
                    <a:lnTo>
                      <a:pt x="15" y="8"/>
                    </a:lnTo>
                    <a:lnTo>
                      <a:pt x="11" y="15"/>
                    </a:lnTo>
                    <a:lnTo>
                      <a:pt x="6" y="2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5117400" y="3270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13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5127480" y="32702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13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3" y="10"/>
                    </a:lnTo>
                    <a:lnTo>
                      <a:pt x="9" y="19"/>
                    </a:lnTo>
                    <a:lnTo>
                      <a:pt x="5" y="27"/>
                    </a:lnTo>
                    <a:lnTo>
                      <a:pt x="0" y="36"/>
                    </a:lnTo>
                    <a:lnTo>
                      <a:pt x="5" y="29"/>
                    </a:lnTo>
                    <a:lnTo>
                      <a:pt x="9" y="22"/>
                    </a:lnTo>
                    <a:lnTo>
                      <a:pt x="14" y="18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5127480" y="32972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19"/>
                    </a:moveTo>
                    <a:lnTo>
                      <a:pt x="11" y="0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5036760" y="3249720"/>
                <a:ext cx="98280" cy="48960"/>
              </a:xfrm>
              <a:custGeom>
                <a:avLst/>
                <a:gdLst/>
                <a:ahLst/>
                <a:rect l="l" t="t" r="r" b="b"/>
                <a:pathLst>
                  <a:path w="125" h="61">
                    <a:moveTo>
                      <a:pt x="0" y="43"/>
                    </a:moveTo>
                    <a:lnTo>
                      <a:pt x="0" y="47"/>
                    </a:lnTo>
                    <a:lnTo>
                      <a:pt x="4" y="43"/>
                    </a:lnTo>
                    <a:lnTo>
                      <a:pt x="8" y="39"/>
                    </a:lnTo>
                    <a:lnTo>
                      <a:pt x="12" y="36"/>
                    </a:lnTo>
                    <a:lnTo>
                      <a:pt x="16" y="31"/>
                    </a:lnTo>
                    <a:lnTo>
                      <a:pt x="22" y="28"/>
                    </a:lnTo>
                    <a:lnTo>
                      <a:pt x="27" y="23"/>
                    </a:lnTo>
                    <a:lnTo>
                      <a:pt x="32" y="18"/>
                    </a:lnTo>
                    <a:lnTo>
                      <a:pt x="38" y="14"/>
                    </a:lnTo>
                    <a:lnTo>
                      <a:pt x="31" y="24"/>
                    </a:lnTo>
                    <a:lnTo>
                      <a:pt x="26" y="33"/>
                    </a:lnTo>
                    <a:lnTo>
                      <a:pt x="19" y="44"/>
                    </a:lnTo>
                    <a:lnTo>
                      <a:pt x="12" y="54"/>
                    </a:lnTo>
                    <a:lnTo>
                      <a:pt x="62" y="61"/>
                    </a:lnTo>
                    <a:lnTo>
                      <a:pt x="71" y="55"/>
                    </a:lnTo>
                    <a:lnTo>
                      <a:pt x="79" y="50"/>
                    </a:lnTo>
                    <a:lnTo>
                      <a:pt x="87" y="44"/>
                    </a:lnTo>
                    <a:lnTo>
                      <a:pt x="94" y="37"/>
                    </a:lnTo>
                    <a:lnTo>
                      <a:pt x="102" y="31"/>
                    </a:lnTo>
                    <a:lnTo>
                      <a:pt x="110" y="25"/>
                    </a:lnTo>
                    <a:lnTo>
                      <a:pt x="118" y="20"/>
                    </a:lnTo>
                    <a:lnTo>
                      <a:pt x="125" y="14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5133960" y="3246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5135040" y="32464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6"/>
                    </a:moveTo>
                    <a:lnTo>
                      <a:pt x="16" y="0"/>
                    </a:lnTo>
                    <a:lnTo>
                      <a:pt x="2" y="0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5135040" y="3284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4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5013000" y="3228840"/>
                <a:ext cx="106560" cy="50760"/>
              </a:xfrm>
              <a:custGeom>
                <a:avLst/>
                <a:gdLst/>
                <a:ahLst/>
                <a:rect l="l" t="t" r="r" b="b"/>
                <a:pathLst>
                  <a:path w="135" h="65">
                    <a:moveTo>
                      <a:pt x="0" y="27"/>
                    </a:moveTo>
                    <a:lnTo>
                      <a:pt x="0" y="52"/>
                    </a:lnTo>
                    <a:lnTo>
                      <a:pt x="2" y="55"/>
                    </a:lnTo>
                    <a:lnTo>
                      <a:pt x="6" y="51"/>
                    </a:lnTo>
                    <a:lnTo>
                      <a:pt x="9" y="48"/>
                    </a:lnTo>
                    <a:lnTo>
                      <a:pt x="14" y="44"/>
                    </a:lnTo>
                    <a:lnTo>
                      <a:pt x="18" y="41"/>
                    </a:lnTo>
                    <a:lnTo>
                      <a:pt x="16" y="44"/>
                    </a:lnTo>
                    <a:lnTo>
                      <a:pt x="14" y="48"/>
                    </a:lnTo>
                    <a:lnTo>
                      <a:pt x="11" y="51"/>
                    </a:lnTo>
                    <a:lnTo>
                      <a:pt x="9" y="55"/>
                    </a:lnTo>
                    <a:lnTo>
                      <a:pt x="74" y="65"/>
                    </a:lnTo>
                    <a:lnTo>
                      <a:pt x="80" y="59"/>
                    </a:lnTo>
                    <a:lnTo>
                      <a:pt x="89" y="53"/>
                    </a:lnTo>
                    <a:lnTo>
                      <a:pt x="95" y="48"/>
                    </a:lnTo>
                    <a:lnTo>
                      <a:pt x="104" y="42"/>
                    </a:lnTo>
                    <a:lnTo>
                      <a:pt x="112" y="36"/>
                    </a:lnTo>
                    <a:lnTo>
                      <a:pt x="118" y="30"/>
                    </a:lnTo>
                    <a:lnTo>
                      <a:pt x="127" y="25"/>
                    </a:lnTo>
                    <a:lnTo>
                      <a:pt x="135" y="19"/>
                    </a:lnTo>
                    <a:lnTo>
                      <a:pt x="14" y="0"/>
                    </a:lnTo>
                    <a:lnTo>
                      <a:pt x="10" y="6"/>
                    </a:lnTo>
                    <a:lnTo>
                      <a:pt x="7" y="12"/>
                    </a:lnTo>
                    <a:lnTo>
                      <a:pt x="3" y="1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5109480" y="322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119200" y="322416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36" y="16"/>
                    </a:moveTo>
                    <a:lnTo>
                      <a:pt x="36" y="4"/>
                    </a:lnTo>
                    <a:lnTo>
                      <a:pt x="7" y="0"/>
                    </a:lnTo>
                    <a:lnTo>
                      <a:pt x="6" y="10"/>
                    </a:lnTo>
                    <a:lnTo>
                      <a:pt x="4" y="21"/>
                    </a:lnTo>
                    <a:lnTo>
                      <a:pt x="2" y="34"/>
                    </a:lnTo>
                    <a:lnTo>
                      <a:pt x="0" y="47"/>
                    </a:lnTo>
                    <a:lnTo>
                      <a:pt x="5" y="43"/>
                    </a:lnTo>
                    <a:lnTo>
                      <a:pt x="9" y="40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2" y="27"/>
                    </a:lnTo>
                    <a:lnTo>
                      <a:pt x="27" y="23"/>
                    </a:lnTo>
                    <a:lnTo>
                      <a:pt x="31" y="19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119560" y="324972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3" y="25"/>
                    </a:moveTo>
                    <a:lnTo>
                      <a:pt x="13" y="0"/>
                    </a:lnTo>
                    <a:lnTo>
                      <a:pt x="9" y="6"/>
                    </a:lnTo>
                    <a:lnTo>
                      <a:pt x="7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986000" y="3203640"/>
                <a:ext cx="160560" cy="57240"/>
              </a:xfrm>
              <a:custGeom>
                <a:avLst/>
                <a:gdLst/>
                <a:ahLst/>
                <a:rect l="l" t="t" r="r" b="b"/>
                <a:pathLst>
                  <a:path w="202" h="74">
                    <a:moveTo>
                      <a:pt x="34" y="60"/>
                    </a:moveTo>
                    <a:lnTo>
                      <a:pt x="37" y="51"/>
                    </a:lnTo>
                    <a:lnTo>
                      <a:pt x="41" y="43"/>
                    </a:lnTo>
                    <a:lnTo>
                      <a:pt x="45" y="36"/>
                    </a:lnTo>
                    <a:lnTo>
                      <a:pt x="50" y="29"/>
                    </a:lnTo>
                    <a:lnTo>
                      <a:pt x="42" y="36"/>
                    </a:lnTo>
                    <a:lnTo>
                      <a:pt x="34" y="43"/>
                    </a:lnTo>
                    <a:lnTo>
                      <a:pt x="26" y="50"/>
                    </a:lnTo>
                    <a:lnTo>
                      <a:pt x="17" y="57"/>
                    </a:lnTo>
                    <a:lnTo>
                      <a:pt x="0" y="54"/>
                    </a:lnTo>
                    <a:lnTo>
                      <a:pt x="3" y="40"/>
                    </a:lnTo>
                    <a:lnTo>
                      <a:pt x="5" y="27"/>
                    </a:lnTo>
                    <a:lnTo>
                      <a:pt x="8" y="13"/>
                    </a:lnTo>
                    <a:lnTo>
                      <a:pt x="12" y="0"/>
                    </a:lnTo>
                    <a:lnTo>
                      <a:pt x="202" y="29"/>
                    </a:lnTo>
                    <a:lnTo>
                      <a:pt x="194" y="35"/>
                    </a:lnTo>
                    <a:lnTo>
                      <a:pt x="186" y="39"/>
                    </a:lnTo>
                    <a:lnTo>
                      <a:pt x="178" y="45"/>
                    </a:lnTo>
                    <a:lnTo>
                      <a:pt x="171" y="51"/>
                    </a:lnTo>
                    <a:lnTo>
                      <a:pt x="163" y="58"/>
                    </a:lnTo>
                    <a:lnTo>
                      <a:pt x="155" y="63"/>
                    </a:lnTo>
                    <a:lnTo>
                      <a:pt x="147" y="68"/>
                    </a:lnTo>
                    <a:lnTo>
                      <a:pt x="139" y="74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c15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4003200" y="337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c15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959000" y="3181320"/>
                <a:ext cx="182880" cy="61920"/>
              </a:xfrm>
              <a:custGeom>
                <a:avLst/>
                <a:gdLst/>
                <a:ahLst/>
                <a:rect l="l" t="t" r="r" b="b"/>
                <a:pathLst>
                  <a:path w="230" h="78">
                    <a:moveTo>
                      <a:pt x="43" y="59"/>
                    </a:moveTo>
                    <a:lnTo>
                      <a:pt x="43" y="58"/>
                    </a:lnTo>
                    <a:lnTo>
                      <a:pt x="44" y="57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4" y="56"/>
                    </a:lnTo>
                    <a:lnTo>
                      <a:pt x="43" y="57"/>
                    </a:lnTo>
                    <a:lnTo>
                      <a:pt x="41" y="58"/>
                    </a:lnTo>
                    <a:lnTo>
                      <a:pt x="40" y="59"/>
                    </a:lnTo>
                    <a:lnTo>
                      <a:pt x="0" y="53"/>
                    </a:lnTo>
                    <a:lnTo>
                      <a:pt x="3" y="39"/>
                    </a:lnTo>
                    <a:lnTo>
                      <a:pt x="8" y="25"/>
                    </a:lnTo>
                    <a:lnTo>
                      <a:pt x="14" y="12"/>
                    </a:lnTo>
                    <a:lnTo>
                      <a:pt x="18" y="0"/>
                    </a:lnTo>
                    <a:lnTo>
                      <a:pt x="230" y="31"/>
                    </a:lnTo>
                    <a:lnTo>
                      <a:pt x="222" y="36"/>
                    </a:lnTo>
                    <a:lnTo>
                      <a:pt x="213" y="42"/>
                    </a:lnTo>
                    <a:lnTo>
                      <a:pt x="205" y="48"/>
                    </a:lnTo>
                    <a:lnTo>
                      <a:pt x="197" y="54"/>
                    </a:lnTo>
                    <a:lnTo>
                      <a:pt x="188" y="61"/>
                    </a:lnTo>
                    <a:lnTo>
                      <a:pt x="180" y="66"/>
                    </a:lnTo>
                    <a:lnTo>
                      <a:pt x="172" y="72"/>
                    </a:lnTo>
                    <a:lnTo>
                      <a:pt x="164" y="78"/>
                    </a:lnTo>
                    <a:lnTo>
                      <a:pt x="43" y="59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997080" y="334980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7" y="2"/>
                    </a:moveTo>
                    <a:lnTo>
                      <a:pt x="24" y="11"/>
                    </a:lnTo>
                    <a:lnTo>
                      <a:pt x="22" y="19"/>
                    </a:lnTo>
                    <a:lnTo>
                      <a:pt x="19" y="27"/>
                    </a:lnTo>
                    <a:lnTo>
                      <a:pt x="15" y="35"/>
                    </a:lnTo>
                    <a:lnTo>
                      <a:pt x="12" y="25"/>
                    </a:lnTo>
                    <a:lnTo>
                      <a:pt x="8" y="16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4933800" y="3160800"/>
                <a:ext cx="203040" cy="65160"/>
              </a:xfrm>
              <a:custGeom>
                <a:avLst/>
                <a:gdLst/>
                <a:ahLst/>
                <a:rect l="l" t="t" r="r" b="b"/>
                <a:pathLst>
                  <a:path w="257" h="82">
                    <a:moveTo>
                      <a:pt x="26" y="0"/>
                    </a:moveTo>
                    <a:lnTo>
                      <a:pt x="20" y="13"/>
                    </a:lnTo>
                    <a:lnTo>
                      <a:pt x="13" y="25"/>
                    </a:lnTo>
                    <a:lnTo>
                      <a:pt x="6" y="39"/>
                    </a:lnTo>
                    <a:lnTo>
                      <a:pt x="0" y="53"/>
                    </a:lnTo>
                    <a:lnTo>
                      <a:pt x="190" y="82"/>
                    </a:lnTo>
                    <a:lnTo>
                      <a:pt x="198" y="76"/>
                    </a:lnTo>
                    <a:lnTo>
                      <a:pt x="206" y="69"/>
                    </a:lnTo>
                    <a:lnTo>
                      <a:pt x="214" y="63"/>
                    </a:lnTo>
                    <a:lnTo>
                      <a:pt x="223" y="58"/>
                    </a:lnTo>
                    <a:lnTo>
                      <a:pt x="232" y="52"/>
                    </a:lnTo>
                    <a:lnTo>
                      <a:pt x="240" y="47"/>
                    </a:lnTo>
                    <a:lnTo>
                      <a:pt x="249" y="42"/>
                    </a:lnTo>
                    <a:lnTo>
                      <a:pt x="257" y="3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990600" y="332568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29" y="63"/>
                    </a:moveTo>
                    <a:lnTo>
                      <a:pt x="33" y="47"/>
                    </a:lnTo>
                    <a:lnTo>
                      <a:pt x="39" y="33"/>
                    </a:lnTo>
                    <a:lnTo>
                      <a:pt x="42" y="19"/>
                    </a:lnTo>
                    <a:lnTo>
                      <a:pt x="45" y="7"/>
                    </a:lnTo>
                    <a:lnTo>
                      <a:pt x="0" y="0"/>
                    </a:lnTo>
                    <a:lnTo>
                      <a:pt x="3" y="15"/>
                    </a:lnTo>
                    <a:lnTo>
                      <a:pt x="10" y="29"/>
                    </a:lnTo>
                    <a:lnTo>
                      <a:pt x="17" y="44"/>
                    </a:lnTo>
                    <a:lnTo>
                      <a:pt x="23" y="60"/>
                    </a:lnTo>
                    <a:lnTo>
                      <a:pt x="29" y="63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4906440" y="3139920"/>
                <a:ext cx="220680" cy="66960"/>
              </a:xfrm>
              <a:custGeom>
                <a:avLst/>
                <a:gdLst/>
                <a:ahLst/>
                <a:rect l="l" t="t" r="r" b="b"/>
                <a:pathLst>
                  <a:path w="279" h="83">
                    <a:moveTo>
                      <a:pt x="32" y="0"/>
                    </a:moveTo>
                    <a:lnTo>
                      <a:pt x="23" y="12"/>
                    </a:lnTo>
                    <a:lnTo>
                      <a:pt x="15" y="25"/>
                    </a:lnTo>
                    <a:lnTo>
                      <a:pt x="9" y="38"/>
                    </a:lnTo>
                    <a:lnTo>
                      <a:pt x="0" y="52"/>
                    </a:lnTo>
                    <a:lnTo>
                      <a:pt x="212" y="83"/>
                    </a:lnTo>
                    <a:lnTo>
                      <a:pt x="221" y="77"/>
                    </a:lnTo>
                    <a:lnTo>
                      <a:pt x="230" y="72"/>
                    </a:lnTo>
                    <a:lnTo>
                      <a:pt x="238" y="67"/>
                    </a:lnTo>
                    <a:lnTo>
                      <a:pt x="246" y="60"/>
                    </a:lnTo>
                    <a:lnTo>
                      <a:pt x="255" y="54"/>
                    </a:lnTo>
                    <a:lnTo>
                      <a:pt x="263" y="48"/>
                    </a:lnTo>
                    <a:lnTo>
                      <a:pt x="271" y="43"/>
                    </a:lnTo>
                    <a:lnTo>
                      <a:pt x="279" y="3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c4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990960" y="3298680"/>
                <a:ext cx="69840" cy="52560"/>
              </a:xfrm>
              <a:custGeom>
                <a:avLst/>
                <a:gdLst/>
                <a:ahLst/>
                <a:rect l="l" t="t" r="r" b="b"/>
                <a:pathLst>
                  <a:path w="89" h="67">
                    <a:moveTo>
                      <a:pt x="81" y="67"/>
                    </a:moveTo>
                    <a:lnTo>
                      <a:pt x="85" y="52"/>
                    </a:lnTo>
                    <a:lnTo>
                      <a:pt x="88" y="38"/>
                    </a:lnTo>
                    <a:lnTo>
                      <a:pt x="89" y="25"/>
                    </a:lnTo>
                    <a:lnTo>
                      <a:pt x="88" y="1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9" y="7"/>
                    </a:lnTo>
                    <a:lnTo>
                      <a:pt x="14" y="10"/>
                    </a:lnTo>
                    <a:lnTo>
                      <a:pt x="20" y="14"/>
                    </a:lnTo>
                    <a:lnTo>
                      <a:pt x="24" y="16"/>
                    </a:lnTo>
                    <a:lnTo>
                      <a:pt x="30" y="18"/>
                    </a:lnTo>
                    <a:lnTo>
                      <a:pt x="37" y="22"/>
                    </a:lnTo>
                    <a:lnTo>
                      <a:pt x="43" y="24"/>
                    </a:lnTo>
                    <a:lnTo>
                      <a:pt x="43" y="35"/>
                    </a:lnTo>
                    <a:lnTo>
                      <a:pt x="45" y="44"/>
                    </a:lnTo>
                    <a:lnTo>
                      <a:pt x="50" y="54"/>
                    </a:lnTo>
                    <a:lnTo>
                      <a:pt x="54" y="65"/>
                    </a:lnTo>
                    <a:lnTo>
                      <a:pt x="81" y="67"/>
                    </a:lnTo>
                    <a:close/>
                  </a:path>
                </a:pathLst>
              </a:custGeom>
              <a:solidFill>
                <a:srgbClr val="bc4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876560" y="3121200"/>
                <a:ext cx="239760" cy="68040"/>
              </a:xfrm>
              <a:custGeom>
                <a:avLst/>
                <a:gdLst/>
                <a:ahLst/>
                <a:rect l="l" t="t" r="r" b="b"/>
                <a:pathLst>
                  <a:path w="302" h="86">
                    <a:moveTo>
                      <a:pt x="36" y="0"/>
                    </a:moveTo>
                    <a:lnTo>
                      <a:pt x="32" y="6"/>
                    </a:lnTo>
                    <a:lnTo>
                      <a:pt x="27" y="12"/>
                    </a:lnTo>
                    <a:lnTo>
                      <a:pt x="21" y="18"/>
                    </a:lnTo>
                    <a:lnTo>
                      <a:pt x="17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4" y="43"/>
                    </a:lnTo>
                    <a:lnTo>
                      <a:pt x="0" y="50"/>
                    </a:lnTo>
                    <a:lnTo>
                      <a:pt x="231" y="86"/>
                    </a:lnTo>
                    <a:lnTo>
                      <a:pt x="240" y="80"/>
                    </a:lnTo>
                    <a:lnTo>
                      <a:pt x="249" y="74"/>
                    </a:lnTo>
                    <a:lnTo>
                      <a:pt x="259" y="68"/>
                    </a:lnTo>
                    <a:lnTo>
                      <a:pt x="267" y="63"/>
                    </a:lnTo>
                    <a:lnTo>
                      <a:pt x="276" y="57"/>
                    </a:lnTo>
                    <a:lnTo>
                      <a:pt x="285" y="52"/>
                    </a:lnTo>
                    <a:lnTo>
                      <a:pt x="293" y="47"/>
                    </a:lnTo>
                    <a:lnTo>
                      <a:pt x="302" y="4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990600" y="3270240"/>
                <a:ext cx="104760" cy="60480"/>
              </a:xfrm>
              <a:custGeom>
                <a:avLst/>
                <a:gdLst/>
                <a:ahLst/>
                <a:rect l="l" t="t" r="r" b="b"/>
                <a:pathLst>
                  <a:path w="133" h="76">
                    <a:moveTo>
                      <a:pt x="132" y="76"/>
                    </a:moveTo>
                    <a:lnTo>
                      <a:pt x="133" y="61"/>
                    </a:lnTo>
                    <a:lnTo>
                      <a:pt x="132" y="46"/>
                    </a:lnTo>
                    <a:lnTo>
                      <a:pt x="131" y="33"/>
                    </a:lnTo>
                    <a:lnTo>
                      <a:pt x="127" y="20"/>
                    </a:lnTo>
                    <a:lnTo>
                      <a:pt x="0" y="0"/>
                    </a:lnTo>
                    <a:lnTo>
                      <a:pt x="11" y="10"/>
                    </a:lnTo>
                    <a:lnTo>
                      <a:pt x="21" y="18"/>
                    </a:lnTo>
                    <a:lnTo>
                      <a:pt x="31" y="27"/>
                    </a:lnTo>
                    <a:lnTo>
                      <a:pt x="41" y="34"/>
                    </a:lnTo>
                    <a:lnTo>
                      <a:pt x="51" y="42"/>
                    </a:lnTo>
                    <a:lnTo>
                      <a:pt x="63" y="49"/>
                    </a:lnTo>
                    <a:lnTo>
                      <a:pt x="74" y="54"/>
                    </a:lnTo>
                    <a:lnTo>
                      <a:pt x="87" y="60"/>
                    </a:lnTo>
                    <a:lnTo>
                      <a:pt x="87" y="63"/>
                    </a:lnTo>
                    <a:lnTo>
                      <a:pt x="87" y="65"/>
                    </a:lnTo>
                    <a:lnTo>
                      <a:pt x="87" y="67"/>
                    </a:lnTo>
                    <a:lnTo>
                      <a:pt x="87" y="69"/>
                    </a:lnTo>
                    <a:lnTo>
                      <a:pt x="132" y="76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4845960" y="3102120"/>
                <a:ext cx="257400" cy="68040"/>
              </a:xfrm>
              <a:custGeom>
                <a:avLst/>
                <a:gdLst/>
                <a:ahLst/>
                <a:rect l="l" t="t" r="r" b="b"/>
                <a:pathLst>
                  <a:path w="323" h="87">
                    <a:moveTo>
                      <a:pt x="42" y="0"/>
                    </a:moveTo>
                    <a:lnTo>
                      <a:pt x="36" y="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0" y="23"/>
                    </a:lnTo>
                    <a:lnTo>
                      <a:pt x="15" y="30"/>
                    </a:lnTo>
                    <a:lnTo>
                      <a:pt x="10" y="36"/>
                    </a:lnTo>
                    <a:lnTo>
                      <a:pt x="4" y="42"/>
                    </a:lnTo>
                    <a:lnTo>
                      <a:pt x="0" y="49"/>
                    </a:lnTo>
                    <a:lnTo>
                      <a:pt x="247" y="87"/>
                    </a:lnTo>
                    <a:lnTo>
                      <a:pt x="254" y="82"/>
                    </a:lnTo>
                    <a:lnTo>
                      <a:pt x="261" y="77"/>
                    </a:lnTo>
                    <a:lnTo>
                      <a:pt x="268" y="74"/>
                    </a:lnTo>
                    <a:lnTo>
                      <a:pt x="275" y="69"/>
                    </a:lnTo>
                    <a:lnTo>
                      <a:pt x="282" y="66"/>
                    </a:lnTo>
                    <a:lnTo>
                      <a:pt x="289" y="61"/>
                    </a:lnTo>
                    <a:lnTo>
                      <a:pt x="296" y="58"/>
                    </a:lnTo>
                    <a:lnTo>
                      <a:pt x="303" y="53"/>
                    </a:lnTo>
                    <a:lnTo>
                      <a:pt x="308" y="51"/>
                    </a:lnTo>
                    <a:lnTo>
                      <a:pt x="313" y="49"/>
                    </a:lnTo>
                    <a:lnTo>
                      <a:pt x="319" y="45"/>
                    </a:lnTo>
                    <a:lnTo>
                      <a:pt x="323" y="4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3990960" y="3243240"/>
                <a:ext cx="139680" cy="65160"/>
              </a:xfrm>
              <a:custGeom>
                <a:avLst/>
                <a:gdLst/>
                <a:ahLst/>
                <a:rect l="l" t="t" r="r" b="b"/>
                <a:pathLst>
                  <a:path w="177" h="82">
                    <a:moveTo>
                      <a:pt x="177" y="82"/>
                    </a:moveTo>
                    <a:lnTo>
                      <a:pt x="176" y="67"/>
                    </a:lnTo>
                    <a:lnTo>
                      <a:pt x="171" y="52"/>
                    </a:lnTo>
                    <a:lnTo>
                      <a:pt x="164" y="37"/>
                    </a:lnTo>
                    <a:lnTo>
                      <a:pt x="155" y="2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7" y="5"/>
                    </a:lnTo>
                    <a:lnTo>
                      <a:pt x="13" y="7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6" y="17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5" y="17"/>
                    </a:lnTo>
                    <a:lnTo>
                      <a:pt x="45" y="22"/>
                    </a:lnTo>
                    <a:lnTo>
                      <a:pt x="45" y="26"/>
                    </a:lnTo>
                    <a:lnTo>
                      <a:pt x="45" y="30"/>
                    </a:lnTo>
                    <a:lnTo>
                      <a:pt x="45" y="33"/>
                    </a:lnTo>
                    <a:lnTo>
                      <a:pt x="51" y="38"/>
                    </a:lnTo>
                    <a:lnTo>
                      <a:pt x="57" y="43"/>
                    </a:lnTo>
                    <a:lnTo>
                      <a:pt x="61" y="47"/>
                    </a:lnTo>
                    <a:lnTo>
                      <a:pt x="67" y="52"/>
                    </a:lnTo>
                    <a:lnTo>
                      <a:pt x="73" y="56"/>
                    </a:lnTo>
                    <a:lnTo>
                      <a:pt x="78" y="60"/>
                    </a:lnTo>
                    <a:lnTo>
                      <a:pt x="83" y="64"/>
                    </a:lnTo>
                    <a:lnTo>
                      <a:pt x="89" y="69"/>
                    </a:lnTo>
                    <a:lnTo>
                      <a:pt x="177" y="82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4802040" y="3084480"/>
                <a:ext cx="285840" cy="68400"/>
              </a:xfrm>
              <a:custGeom>
                <a:avLst/>
                <a:gdLst/>
                <a:ahLst/>
                <a:rect l="l" t="t" r="r" b="b"/>
                <a:pathLst>
                  <a:path w="360" h="88">
                    <a:moveTo>
                      <a:pt x="52" y="0"/>
                    </a:moveTo>
                    <a:lnTo>
                      <a:pt x="45" y="6"/>
                    </a:lnTo>
                    <a:lnTo>
                      <a:pt x="38" y="11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8"/>
                    </a:lnTo>
                    <a:lnTo>
                      <a:pt x="13" y="34"/>
                    </a:lnTo>
                    <a:lnTo>
                      <a:pt x="6" y="41"/>
                    </a:lnTo>
                    <a:lnTo>
                      <a:pt x="0" y="47"/>
                    </a:lnTo>
                    <a:lnTo>
                      <a:pt x="266" y="88"/>
                    </a:lnTo>
                    <a:lnTo>
                      <a:pt x="270" y="84"/>
                    </a:lnTo>
                    <a:lnTo>
                      <a:pt x="276" y="82"/>
                    </a:lnTo>
                    <a:lnTo>
                      <a:pt x="280" y="80"/>
                    </a:lnTo>
                    <a:lnTo>
                      <a:pt x="284" y="76"/>
                    </a:lnTo>
                    <a:lnTo>
                      <a:pt x="291" y="72"/>
                    </a:lnTo>
                    <a:lnTo>
                      <a:pt x="299" y="67"/>
                    </a:lnTo>
                    <a:lnTo>
                      <a:pt x="308" y="64"/>
                    </a:lnTo>
                    <a:lnTo>
                      <a:pt x="317" y="59"/>
                    </a:lnTo>
                    <a:lnTo>
                      <a:pt x="326" y="56"/>
                    </a:lnTo>
                    <a:lnTo>
                      <a:pt x="338" y="52"/>
                    </a:lnTo>
                    <a:lnTo>
                      <a:pt x="348" y="49"/>
                    </a:lnTo>
                    <a:lnTo>
                      <a:pt x="360" y="4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b7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3993840" y="3216240"/>
                <a:ext cx="176400" cy="69840"/>
              </a:xfrm>
              <a:custGeom>
                <a:avLst/>
                <a:gdLst/>
                <a:ahLst/>
                <a:rect l="l" t="t" r="r" b="b"/>
                <a:pathLst>
                  <a:path w="221" h="89">
                    <a:moveTo>
                      <a:pt x="221" y="89"/>
                    </a:moveTo>
                    <a:lnTo>
                      <a:pt x="218" y="82"/>
                    </a:lnTo>
                    <a:lnTo>
                      <a:pt x="213" y="74"/>
                    </a:lnTo>
                    <a:lnTo>
                      <a:pt x="210" y="67"/>
                    </a:lnTo>
                    <a:lnTo>
                      <a:pt x="205" y="59"/>
                    </a:lnTo>
                    <a:lnTo>
                      <a:pt x="199" y="52"/>
                    </a:lnTo>
                    <a:lnTo>
                      <a:pt x="193" y="44"/>
                    </a:lnTo>
                    <a:lnTo>
                      <a:pt x="188" y="36"/>
                    </a:lnTo>
                    <a:lnTo>
                      <a:pt x="181" y="2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30" y="11"/>
                    </a:lnTo>
                    <a:lnTo>
                      <a:pt x="38" y="13"/>
                    </a:lnTo>
                    <a:lnTo>
                      <a:pt x="45" y="15"/>
                    </a:lnTo>
                    <a:lnTo>
                      <a:pt x="53" y="16"/>
                    </a:lnTo>
                    <a:lnTo>
                      <a:pt x="61" y="17"/>
                    </a:lnTo>
                    <a:lnTo>
                      <a:pt x="59" y="24"/>
                    </a:lnTo>
                    <a:lnTo>
                      <a:pt x="56" y="29"/>
                    </a:lnTo>
                    <a:lnTo>
                      <a:pt x="53" y="34"/>
                    </a:lnTo>
                    <a:lnTo>
                      <a:pt x="49" y="38"/>
                    </a:lnTo>
                    <a:lnTo>
                      <a:pt x="56" y="41"/>
                    </a:lnTo>
                    <a:lnTo>
                      <a:pt x="62" y="43"/>
                    </a:lnTo>
                    <a:lnTo>
                      <a:pt x="69" y="44"/>
                    </a:lnTo>
                    <a:lnTo>
                      <a:pt x="76" y="46"/>
                    </a:lnTo>
                    <a:lnTo>
                      <a:pt x="83" y="49"/>
                    </a:lnTo>
                    <a:lnTo>
                      <a:pt x="90" y="51"/>
                    </a:lnTo>
                    <a:lnTo>
                      <a:pt x="95" y="53"/>
                    </a:lnTo>
                    <a:lnTo>
                      <a:pt x="102" y="55"/>
                    </a:lnTo>
                    <a:lnTo>
                      <a:pt x="100" y="55"/>
                    </a:lnTo>
                    <a:lnTo>
                      <a:pt x="98" y="55"/>
                    </a:lnTo>
                    <a:lnTo>
                      <a:pt x="97" y="54"/>
                    </a:lnTo>
                    <a:lnTo>
                      <a:pt x="94" y="53"/>
                    </a:lnTo>
                    <a:lnTo>
                      <a:pt x="94" y="58"/>
                    </a:lnTo>
                    <a:lnTo>
                      <a:pt x="94" y="62"/>
                    </a:lnTo>
                    <a:lnTo>
                      <a:pt x="94" y="66"/>
                    </a:lnTo>
                    <a:lnTo>
                      <a:pt x="94" y="69"/>
                    </a:lnTo>
                    <a:lnTo>
                      <a:pt x="94" y="69"/>
                    </a:lnTo>
                    <a:lnTo>
                      <a:pt x="221" y="89"/>
                    </a:lnTo>
                    <a:close/>
                  </a:path>
                </a:pathLst>
              </a:custGeom>
              <a:solidFill>
                <a:srgbClr val="b7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4738320" y="3065400"/>
                <a:ext cx="330120" cy="68400"/>
              </a:xfrm>
              <a:custGeom>
                <a:avLst/>
                <a:gdLst/>
                <a:ahLst/>
                <a:rect l="l" t="t" r="r" b="b"/>
                <a:pathLst>
                  <a:path w="417" h="88">
                    <a:moveTo>
                      <a:pt x="58" y="0"/>
                    </a:moveTo>
                    <a:lnTo>
                      <a:pt x="50" y="6"/>
                    </a:lnTo>
                    <a:lnTo>
                      <a:pt x="43" y="10"/>
                    </a:lnTo>
                    <a:lnTo>
                      <a:pt x="35" y="16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4" y="35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281" y="88"/>
                    </a:lnTo>
                    <a:lnTo>
                      <a:pt x="295" y="83"/>
                    </a:lnTo>
                    <a:lnTo>
                      <a:pt x="310" y="77"/>
                    </a:lnTo>
                    <a:lnTo>
                      <a:pt x="326" y="73"/>
                    </a:lnTo>
                    <a:lnTo>
                      <a:pt x="344" y="69"/>
                    </a:lnTo>
                    <a:lnTo>
                      <a:pt x="361" y="65"/>
                    </a:lnTo>
                    <a:lnTo>
                      <a:pt x="379" y="61"/>
                    </a:lnTo>
                    <a:lnTo>
                      <a:pt x="398" y="58"/>
                    </a:lnTo>
                    <a:lnTo>
                      <a:pt x="417" y="5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538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4008240" y="3182760"/>
                <a:ext cx="223920" cy="78120"/>
              </a:xfrm>
              <a:custGeom>
                <a:avLst/>
                <a:gdLst/>
                <a:ahLst/>
                <a:rect l="l" t="t" r="r" b="b"/>
                <a:pathLst>
                  <a:path w="281" h="98">
                    <a:moveTo>
                      <a:pt x="240" y="36"/>
                    </a:moveTo>
                    <a:lnTo>
                      <a:pt x="240" y="37"/>
                    </a:lnTo>
                    <a:lnTo>
                      <a:pt x="242" y="39"/>
                    </a:lnTo>
                    <a:lnTo>
                      <a:pt x="243" y="40"/>
                    </a:lnTo>
                    <a:lnTo>
                      <a:pt x="243" y="40"/>
                    </a:lnTo>
                    <a:lnTo>
                      <a:pt x="243" y="42"/>
                    </a:lnTo>
                    <a:lnTo>
                      <a:pt x="243" y="45"/>
                    </a:lnTo>
                    <a:lnTo>
                      <a:pt x="243" y="48"/>
                    </a:lnTo>
                    <a:lnTo>
                      <a:pt x="243" y="51"/>
                    </a:lnTo>
                    <a:lnTo>
                      <a:pt x="249" y="57"/>
                    </a:lnTo>
                    <a:lnTo>
                      <a:pt x="253" y="63"/>
                    </a:lnTo>
                    <a:lnTo>
                      <a:pt x="259" y="70"/>
                    </a:lnTo>
                    <a:lnTo>
                      <a:pt x="263" y="76"/>
                    </a:lnTo>
                    <a:lnTo>
                      <a:pt x="268" y="82"/>
                    </a:lnTo>
                    <a:lnTo>
                      <a:pt x="272" y="87"/>
                    </a:lnTo>
                    <a:lnTo>
                      <a:pt x="276" y="92"/>
                    </a:lnTo>
                    <a:lnTo>
                      <a:pt x="281" y="98"/>
                    </a:lnTo>
                    <a:lnTo>
                      <a:pt x="129" y="76"/>
                    </a:lnTo>
                    <a:lnTo>
                      <a:pt x="132" y="71"/>
                    </a:lnTo>
                    <a:lnTo>
                      <a:pt x="134" y="68"/>
                    </a:lnTo>
                    <a:lnTo>
                      <a:pt x="136" y="63"/>
                    </a:lnTo>
                    <a:lnTo>
                      <a:pt x="138" y="57"/>
                    </a:lnTo>
                    <a:lnTo>
                      <a:pt x="119" y="54"/>
                    </a:lnTo>
                    <a:lnTo>
                      <a:pt x="102" y="49"/>
                    </a:lnTo>
                    <a:lnTo>
                      <a:pt x="85" y="44"/>
                    </a:lnTo>
                    <a:lnTo>
                      <a:pt x="68" y="36"/>
                    </a:lnTo>
                    <a:lnTo>
                      <a:pt x="50" y="27"/>
                    </a:lnTo>
                    <a:lnTo>
                      <a:pt x="34" y="19"/>
                    </a:lnTo>
                    <a:lnTo>
                      <a:pt x="17" y="10"/>
                    </a:lnTo>
                    <a:lnTo>
                      <a:pt x="0" y="0"/>
                    </a:lnTo>
                    <a:lnTo>
                      <a:pt x="240" y="36"/>
                    </a:lnTo>
                    <a:close/>
                  </a:path>
                </a:pathLst>
              </a:custGeom>
              <a:solidFill>
                <a:srgbClr val="b538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639680" y="3044880"/>
                <a:ext cx="406440" cy="74520"/>
              </a:xfrm>
              <a:custGeom>
                <a:avLst/>
                <a:gdLst/>
                <a:ahLst/>
                <a:rect l="l" t="t" r="r" b="b"/>
                <a:pathLst>
                  <a:path w="513" h="93">
                    <a:moveTo>
                      <a:pt x="65" y="0"/>
                    </a:moveTo>
                    <a:lnTo>
                      <a:pt x="55" y="6"/>
                    </a:lnTo>
                    <a:lnTo>
                      <a:pt x="47" y="11"/>
                    </a:lnTo>
                    <a:lnTo>
                      <a:pt x="39" y="17"/>
                    </a:lnTo>
                    <a:lnTo>
                      <a:pt x="31" y="22"/>
                    </a:lnTo>
                    <a:lnTo>
                      <a:pt x="23" y="29"/>
                    </a:lnTo>
                    <a:lnTo>
                      <a:pt x="15" y="34"/>
                    </a:lnTo>
                    <a:lnTo>
                      <a:pt x="7" y="41"/>
                    </a:lnTo>
                    <a:lnTo>
                      <a:pt x="0" y="48"/>
                    </a:lnTo>
                    <a:lnTo>
                      <a:pt x="308" y="93"/>
                    </a:lnTo>
                    <a:lnTo>
                      <a:pt x="319" y="91"/>
                    </a:lnTo>
                    <a:lnTo>
                      <a:pt x="330" y="87"/>
                    </a:lnTo>
                    <a:lnTo>
                      <a:pt x="341" y="85"/>
                    </a:lnTo>
                    <a:lnTo>
                      <a:pt x="354" y="83"/>
                    </a:lnTo>
                    <a:lnTo>
                      <a:pt x="365" y="81"/>
                    </a:lnTo>
                    <a:lnTo>
                      <a:pt x="378" y="79"/>
                    </a:lnTo>
                    <a:lnTo>
                      <a:pt x="391" y="77"/>
                    </a:lnTo>
                    <a:lnTo>
                      <a:pt x="403" y="76"/>
                    </a:lnTo>
                    <a:lnTo>
                      <a:pt x="416" y="74"/>
                    </a:lnTo>
                    <a:lnTo>
                      <a:pt x="430" y="72"/>
                    </a:lnTo>
                    <a:lnTo>
                      <a:pt x="444" y="71"/>
                    </a:lnTo>
                    <a:lnTo>
                      <a:pt x="456" y="70"/>
                    </a:lnTo>
                    <a:lnTo>
                      <a:pt x="470" y="70"/>
                    </a:lnTo>
                    <a:lnTo>
                      <a:pt x="484" y="69"/>
                    </a:lnTo>
                    <a:lnTo>
                      <a:pt x="499" y="69"/>
                    </a:lnTo>
                    <a:lnTo>
                      <a:pt x="513" y="69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53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4027320" y="3152880"/>
                <a:ext cx="263520" cy="83880"/>
              </a:xfrm>
              <a:custGeom>
                <a:avLst/>
                <a:gdLst/>
                <a:ahLst/>
                <a:rect l="l" t="t" r="r" b="b"/>
                <a:pathLst>
                  <a:path w="332" h="105">
                    <a:moveTo>
                      <a:pt x="279" y="40"/>
                    </a:moveTo>
                    <a:lnTo>
                      <a:pt x="284" y="46"/>
                    </a:lnTo>
                    <a:lnTo>
                      <a:pt x="291" y="52"/>
                    </a:lnTo>
                    <a:lnTo>
                      <a:pt x="296" y="56"/>
                    </a:lnTo>
                    <a:lnTo>
                      <a:pt x="302" y="61"/>
                    </a:lnTo>
                    <a:lnTo>
                      <a:pt x="306" y="65"/>
                    </a:lnTo>
                    <a:lnTo>
                      <a:pt x="310" y="70"/>
                    </a:lnTo>
                    <a:lnTo>
                      <a:pt x="313" y="75"/>
                    </a:lnTo>
                    <a:lnTo>
                      <a:pt x="317" y="78"/>
                    </a:lnTo>
                    <a:lnTo>
                      <a:pt x="317" y="80"/>
                    </a:lnTo>
                    <a:lnTo>
                      <a:pt x="317" y="83"/>
                    </a:lnTo>
                    <a:lnTo>
                      <a:pt x="317" y="86"/>
                    </a:lnTo>
                    <a:lnTo>
                      <a:pt x="317" y="89"/>
                    </a:lnTo>
                    <a:lnTo>
                      <a:pt x="321" y="92"/>
                    </a:lnTo>
                    <a:lnTo>
                      <a:pt x="325" y="97"/>
                    </a:lnTo>
                    <a:lnTo>
                      <a:pt x="328" y="101"/>
                    </a:lnTo>
                    <a:lnTo>
                      <a:pt x="332" y="105"/>
                    </a:lnTo>
                    <a:lnTo>
                      <a:pt x="151" y="78"/>
                    </a:lnTo>
                    <a:lnTo>
                      <a:pt x="136" y="71"/>
                    </a:lnTo>
                    <a:lnTo>
                      <a:pt x="120" y="63"/>
                    </a:lnTo>
                    <a:lnTo>
                      <a:pt x="105" y="55"/>
                    </a:lnTo>
                    <a:lnTo>
                      <a:pt x="90" y="46"/>
                    </a:lnTo>
                    <a:lnTo>
                      <a:pt x="75" y="38"/>
                    </a:lnTo>
                    <a:lnTo>
                      <a:pt x="60" y="30"/>
                    </a:lnTo>
                    <a:lnTo>
                      <a:pt x="45" y="22"/>
                    </a:lnTo>
                    <a:lnTo>
                      <a:pt x="29" y="15"/>
                    </a:lnTo>
                    <a:lnTo>
                      <a:pt x="23" y="10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279" y="40"/>
                    </a:lnTo>
                    <a:close/>
                  </a:path>
                </a:pathLst>
              </a:custGeom>
              <a:solidFill>
                <a:srgbClr val="b53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4039920" y="3029040"/>
                <a:ext cx="984240" cy="182520"/>
              </a:xfrm>
              <a:custGeom>
                <a:avLst/>
                <a:gdLst/>
                <a:ahLst/>
                <a:rect l="l" t="t" r="r" b="b"/>
                <a:pathLst>
                  <a:path w="1238" h="231">
                    <a:moveTo>
                      <a:pt x="76" y="0"/>
                    </a:moveTo>
                    <a:lnTo>
                      <a:pt x="65" y="6"/>
                    </a:lnTo>
                    <a:lnTo>
                      <a:pt x="56" y="10"/>
                    </a:lnTo>
                    <a:lnTo>
                      <a:pt x="47" y="16"/>
                    </a:lnTo>
                    <a:lnTo>
                      <a:pt x="37" y="21"/>
                    </a:lnTo>
                    <a:lnTo>
                      <a:pt x="27" y="27"/>
                    </a:lnTo>
                    <a:lnTo>
                      <a:pt x="18" y="32"/>
                    </a:lnTo>
                    <a:lnTo>
                      <a:pt x="9" y="39"/>
                    </a:lnTo>
                    <a:lnTo>
                      <a:pt x="0" y="45"/>
                    </a:lnTo>
                    <a:lnTo>
                      <a:pt x="359" y="99"/>
                    </a:lnTo>
                    <a:lnTo>
                      <a:pt x="397" y="95"/>
                    </a:lnTo>
                    <a:lnTo>
                      <a:pt x="436" y="91"/>
                    </a:lnTo>
                    <a:lnTo>
                      <a:pt x="477" y="90"/>
                    </a:lnTo>
                    <a:lnTo>
                      <a:pt x="518" y="89"/>
                    </a:lnTo>
                    <a:lnTo>
                      <a:pt x="561" y="90"/>
                    </a:lnTo>
                    <a:lnTo>
                      <a:pt x="604" y="92"/>
                    </a:lnTo>
                    <a:lnTo>
                      <a:pt x="645" y="95"/>
                    </a:lnTo>
                    <a:lnTo>
                      <a:pt x="687" y="99"/>
                    </a:lnTo>
                    <a:lnTo>
                      <a:pt x="727" y="105"/>
                    </a:lnTo>
                    <a:lnTo>
                      <a:pt x="766" y="111"/>
                    </a:lnTo>
                    <a:lnTo>
                      <a:pt x="804" y="119"/>
                    </a:lnTo>
                    <a:lnTo>
                      <a:pt x="840" y="127"/>
                    </a:lnTo>
                    <a:lnTo>
                      <a:pt x="872" y="137"/>
                    </a:lnTo>
                    <a:lnTo>
                      <a:pt x="902" y="148"/>
                    </a:lnTo>
                    <a:lnTo>
                      <a:pt x="930" y="159"/>
                    </a:lnTo>
                    <a:lnTo>
                      <a:pt x="953" y="172"/>
                    </a:lnTo>
                    <a:lnTo>
                      <a:pt x="958" y="174"/>
                    </a:lnTo>
                    <a:lnTo>
                      <a:pt x="965" y="178"/>
                    </a:lnTo>
                    <a:lnTo>
                      <a:pt x="971" y="180"/>
                    </a:lnTo>
                    <a:lnTo>
                      <a:pt x="977" y="183"/>
                    </a:lnTo>
                    <a:lnTo>
                      <a:pt x="982" y="187"/>
                    </a:lnTo>
                    <a:lnTo>
                      <a:pt x="987" y="189"/>
                    </a:lnTo>
                    <a:lnTo>
                      <a:pt x="992" y="193"/>
                    </a:lnTo>
                    <a:lnTo>
                      <a:pt x="998" y="195"/>
                    </a:lnTo>
                    <a:lnTo>
                      <a:pt x="1238" y="231"/>
                    </a:lnTo>
                    <a:lnTo>
                      <a:pt x="1232" y="224"/>
                    </a:lnTo>
                    <a:lnTo>
                      <a:pt x="1225" y="217"/>
                    </a:lnTo>
                    <a:lnTo>
                      <a:pt x="1215" y="210"/>
                    </a:lnTo>
                    <a:lnTo>
                      <a:pt x="1206" y="201"/>
                    </a:lnTo>
                    <a:lnTo>
                      <a:pt x="1197" y="193"/>
                    </a:lnTo>
                    <a:lnTo>
                      <a:pt x="1187" y="183"/>
                    </a:lnTo>
                    <a:lnTo>
                      <a:pt x="1175" y="174"/>
                    </a:lnTo>
                    <a:lnTo>
                      <a:pt x="1165" y="16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2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4068360" y="3011400"/>
                <a:ext cx="927000" cy="174600"/>
              </a:xfrm>
              <a:custGeom>
                <a:avLst/>
                <a:gdLst/>
                <a:ahLst/>
                <a:rect l="l" t="t" r="r" b="b"/>
                <a:pathLst>
                  <a:path w="1167" h="219">
                    <a:moveTo>
                      <a:pt x="0" y="43"/>
                    </a:moveTo>
                    <a:lnTo>
                      <a:pt x="9" y="38"/>
                    </a:lnTo>
                    <a:lnTo>
                      <a:pt x="18" y="32"/>
                    </a:lnTo>
                    <a:lnTo>
                      <a:pt x="27" y="28"/>
                    </a:lnTo>
                    <a:lnTo>
                      <a:pt x="36" y="23"/>
                    </a:lnTo>
                    <a:lnTo>
                      <a:pt x="46" y="19"/>
                    </a:lnTo>
                    <a:lnTo>
                      <a:pt x="56" y="14"/>
                    </a:lnTo>
                    <a:lnTo>
                      <a:pt x="64" y="9"/>
                    </a:lnTo>
                    <a:lnTo>
                      <a:pt x="73" y="5"/>
                    </a:lnTo>
                    <a:lnTo>
                      <a:pt x="74" y="4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1091" y="152"/>
                    </a:lnTo>
                    <a:lnTo>
                      <a:pt x="1100" y="160"/>
                    </a:lnTo>
                    <a:lnTo>
                      <a:pt x="1109" y="170"/>
                    </a:lnTo>
                    <a:lnTo>
                      <a:pt x="1119" y="178"/>
                    </a:lnTo>
                    <a:lnTo>
                      <a:pt x="1129" y="186"/>
                    </a:lnTo>
                    <a:lnTo>
                      <a:pt x="1139" y="195"/>
                    </a:lnTo>
                    <a:lnTo>
                      <a:pt x="1148" y="203"/>
                    </a:lnTo>
                    <a:lnTo>
                      <a:pt x="1158" y="211"/>
                    </a:lnTo>
                    <a:lnTo>
                      <a:pt x="1167" y="219"/>
                    </a:lnTo>
                    <a:lnTo>
                      <a:pt x="888" y="179"/>
                    </a:lnTo>
                    <a:lnTo>
                      <a:pt x="868" y="171"/>
                    </a:lnTo>
                    <a:lnTo>
                      <a:pt x="848" y="163"/>
                    </a:lnTo>
                    <a:lnTo>
                      <a:pt x="825" y="155"/>
                    </a:lnTo>
                    <a:lnTo>
                      <a:pt x="799" y="148"/>
                    </a:lnTo>
                    <a:lnTo>
                      <a:pt x="774" y="142"/>
                    </a:lnTo>
                    <a:lnTo>
                      <a:pt x="747" y="136"/>
                    </a:lnTo>
                    <a:lnTo>
                      <a:pt x="719" y="130"/>
                    </a:lnTo>
                    <a:lnTo>
                      <a:pt x="691" y="126"/>
                    </a:lnTo>
                    <a:lnTo>
                      <a:pt x="661" y="122"/>
                    </a:lnTo>
                    <a:lnTo>
                      <a:pt x="631" y="119"/>
                    </a:lnTo>
                    <a:lnTo>
                      <a:pt x="600" y="115"/>
                    </a:lnTo>
                    <a:lnTo>
                      <a:pt x="570" y="114"/>
                    </a:lnTo>
                    <a:lnTo>
                      <a:pt x="539" y="112"/>
                    </a:lnTo>
                    <a:lnTo>
                      <a:pt x="509" y="112"/>
                    </a:lnTo>
                    <a:lnTo>
                      <a:pt x="478" y="112"/>
                    </a:lnTo>
                    <a:lnTo>
                      <a:pt x="448" y="11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f2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098600" y="2992320"/>
                <a:ext cx="865440" cy="166680"/>
              </a:xfrm>
              <a:custGeom>
                <a:avLst/>
                <a:gdLst/>
                <a:ahLst/>
                <a:rect l="l" t="t" r="r" b="b"/>
                <a:pathLst>
                  <a:path w="1089" h="210">
                    <a:moveTo>
                      <a:pt x="0" y="46"/>
                    </a:moveTo>
                    <a:lnTo>
                      <a:pt x="9" y="41"/>
                    </a:lnTo>
                    <a:lnTo>
                      <a:pt x="17" y="37"/>
                    </a:lnTo>
                    <a:lnTo>
                      <a:pt x="25" y="32"/>
                    </a:lnTo>
                    <a:lnTo>
                      <a:pt x="33" y="29"/>
                    </a:lnTo>
                    <a:lnTo>
                      <a:pt x="40" y="21"/>
                    </a:lnTo>
                    <a:lnTo>
                      <a:pt x="48" y="13"/>
                    </a:lnTo>
                    <a:lnTo>
                      <a:pt x="56" y="6"/>
                    </a:lnTo>
                    <a:lnTo>
                      <a:pt x="64" y="0"/>
                    </a:lnTo>
                    <a:lnTo>
                      <a:pt x="1017" y="143"/>
                    </a:lnTo>
                    <a:lnTo>
                      <a:pt x="1023" y="150"/>
                    </a:lnTo>
                    <a:lnTo>
                      <a:pt x="1031" y="158"/>
                    </a:lnTo>
                    <a:lnTo>
                      <a:pt x="1039" y="166"/>
                    </a:lnTo>
                    <a:lnTo>
                      <a:pt x="1048" y="174"/>
                    </a:lnTo>
                    <a:lnTo>
                      <a:pt x="1058" y="183"/>
                    </a:lnTo>
                    <a:lnTo>
                      <a:pt x="1068" y="192"/>
                    </a:lnTo>
                    <a:lnTo>
                      <a:pt x="1078" y="201"/>
                    </a:lnTo>
                    <a:lnTo>
                      <a:pt x="1089" y="21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af2b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4128840" y="2973240"/>
                <a:ext cx="804960" cy="158760"/>
              </a:xfrm>
              <a:custGeom>
                <a:avLst/>
                <a:gdLst/>
                <a:ahLst/>
                <a:rect l="l" t="t" r="r" b="b"/>
                <a:pathLst>
                  <a:path w="1013" h="199">
                    <a:moveTo>
                      <a:pt x="62" y="0"/>
                    </a:moveTo>
                    <a:lnTo>
                      <a:pt x="54" y="5"/>
                    </a:lnTo>
                    <a:lnTo>
                      <a:pt x="46" y="9"/>
                    </a:lnTo>
                    <a:lnTo>
                      <a:pt x="38" y="14"/>
                    </a:lnTo>
                    <a:lnTo>
                      <a:pt x="30" y="20"/>
                    </a:lnTo>
                    <a:lnTo>
                      <a:pt x="23" y="25"/>
                    </a:lnTo>
                    <a:lnTo>
                      <a:pt x="15" y="32"/>
                    </a:lnTo>
                    <a:lnTo>
                      <a:pt x="7" y="39"/>
                    </a:lnTo>
                    <a:lnTo>
                      <a:pt x="0" y="47"/>
                    </a:lnTo>
                    <a:lnTo>
                      <a:pt x="1013" y="199"/>
                    </a:lnTo>
                    <a:lnTo>
                      <a:pt x="1003" y="191"/>
                    </a:lnTo>
                    <a:lnTo>
                      <a:pt x="994" y="183"/>
                    </a:lnTo>
                    <a:lnTo>
                      <a:pt x="987" y="175"/>
                    </a:lnTo>
                    <a:lnTo>
                      <a:pt x="980" y="168"/>
                    </a:lnTo>
                    <a:lnTo>
                      <a:pt x="976" y="161"/>
                    </a:lnTo>
                    <a:lnTo>
                      <a:pt x="972" y="157"/>
                    </a:lnTo>
                    <a:lnTo>
                      <a:pt x="970" y="151"/>
                    </a:lnTo>
                    <a:lnTo>
                      <a:pt x="970" y="147"/>
                    </a:lnTo>
                    <a:lnTo>
                      <a:pt x="964" y="144"/>
                    </a:lnTo>
                    <a:lnTo>
                      <a:pt x="956" y="141"/>
                    </a:lnTo>
                    <a:lnTo>
                      <a:pt x="948" y="137"/>
                    </a:lnTo>
                    <a:lnTo>
                      <a:pt x="941" y="13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d2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4155480" y="2957400"/>
                <a:ext cx="755640" cy="147600"/>
              </a:xfrm>
              <a:custGeom>
                <a:avLst/>
                <a:gdLst/>
                <a:ahLst/>
                <a:rect l="l" t="t" r="r" b="b"/>
                <a:pathLst>
                  <a:path w="953" h="188">
                    <a:moveTo>
                      <a:pt x="72" y="0"/>
                    </a:moveTo>
                    <a:lnTo>
                      <a:pt x="65" y="5"/>
                    </a:lnTo>
                    <a:lnTo>
                      <a:pt x="57" y="10"/>
                    </a:lnTo>
                    <a:lnTo>
                      <a:pt x="48" y="15"/>
                    </a:lnTo>
                    <a:lnTo>
                      <a:pt x="38" y="21"/>
                    </a:lnTo>
                    <a:lnTo>
                      <a:pt x="29" y="27"/>
                    </a:lnTo>
                    <a:lnTo>
                      <a:pt x="19" y="32"/>
                    </a:lnTo>
                    <a:lnTo>
                      <a:pt x="10" y="38"/>
                    </a:lnTo>
                    <a:lnTo>
                      <a:pt x="0" y="45"/>
                    </a:lnTo>
                    <a:lnTo>
                      <a:pt x="953" y="188"/>
                    </a:lnTo>
                    <a:lnTo>
                      <a:pt x="949" y="183"/>
                    </a:lnTo>
                    <a:lnTo>
                      <a:pt x="945" y="178"/>
                    </a:lnTo>
                    <a:lnTo>
                      <a:pt x="944" y="173"/>
                    </a:lnTo>
                    <a:lnTo>
                      <a:pt x="944" y="169"/>
                    </a:lnTo>
                    <a:lnTo>
                      <a:pt x="937" y="165"/>
                    </a:lnTo>
                    <a:lnTo>
                      <a:pt x="929" y="161"/>
                    </a:lnTo>
                    <a:lnTo>
                      <a:pt x="920" y="157"/>
                    </a:lnTo>
                    <a:lnTo>
                      <a:pt x="912" y="152"/>
                    </a:lnTo>
                    <a:lnTo>
                      <a:pt x="904" y="148"/>
                    </a:lnTo>
                    <a:lnTo>
                      <a:pt x="898" y="143"/>
                    </a:lnTo>
                    <a:lnTo>
                      <a:pt x="895" y="136"/>
                    </a:lnTo>
                    <a:lnTo>
                      <a:pt x="893" y="129"/>
                    </a:lnTo>
                    <a:lnTo>
                      <a:pt x="890" y="127"/>
                    </a:lnTo>
                    <a:lnTo>
                      <a:pt x="886" y="126"/>
                    </a:lnTo>
                    <a:lnTo>
                      <a:pt x="882" y="123"/>
                    </a:lnTo>
                    <a:lnTo>
                      <a:pt x="877" y="12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a23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4186080" y="2936880"/>
                <a:ext cx="696960" cy="142920"/>
              </a:xfrm>
              <a:custGeom>
                <a:avLst/>
                <a:gdLst/>
                <a:ahLst/>
                <a:rect l="l" t="t" r="r" b="b"/>
                <a:pathLst>
                  <a:path w="879" h="178">
                    <a:moveTo>
                      <a:pt x="0" y="46"/>
                    </a:moveTo>
                    <a:lnTo>
                      <a:pt x="9" y="40"/>
                    </a:lnTo>
                    <a:lnTo>
                      <a:pt x="17" y="36"/>
                    </a:lnTo>
                    <a:lnTo>
                      <a:pt x="25" y="30"/>
                    </a:lnTo>
                    <a:lnTo>
                      <a:pt x="34" y="25"/>
                    </a:lnTo>
                    <a:lnTo>
                      <a:pt x="40" y="19"/>
                    </a:lnTo>
                    <a:lnTo>
                      <a:pt x="47" y="14"/>
                    </a:lnTo>
                    <a:lnTo>
                      <a:pt x="53" y="8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5" y="2"/>
                    </a:lnTo>
                    <a:lnTo>
                      <a:pt x="69" y="1"/>
                    </a:lnTo>
                    <a:lnTo>
                      <a:pt x="74" y="0"/>
                    </a:lnTo>
                    <a:lnTo>
                      <a:pt x="792" y="109"/>
                    </a:lnTo>
                    <a:lnTo>
                      <a:pt x="799" y="115"/>
                    </a:lnTo>
                    <a:lnTo>
                      <a:pt x="806" y="122"/>
                    </a:lnTo>
                    <a:lnTo>
                      <a:pt x="814" y="128"/>
                    </a:lnTo>
                    <a:lnTo>
                      <a:pt x="822" y="132"/>
                    </a:lnTo>
                    <a:lnTo>
                      <a:pt x="830" y="138"/>
                    </a:lnTo>
                    <a:lnTo>
                      <a:pt x="838" y="144"/>
                    </a:lnTo>
                    <a:lnTo>
                      <a:pt x="847" y="149"/>
                    </a:lnTo>
                    <a:lnTo>
                      <a:pt x="857" y="153"/>
                    </a:lnTo>
                    <a:lnTo>
                      <a:pt x="860" y="161"/>
                    </a:lnTo>
                    <a:lnTo>
                      <a:pt x="864" y="167"/>
                    </a:lnTo>
                    <a:lnTo>
                      <a:pt x="871" y="173"/>
                    </a:lnTo>
                    <a:lnTo>
                      <a:pt x="879" y="17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a81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4215960" y="2922480"/>
                <a:ext cx="639720" cy="130320"/>
              </a:xfrm>
              <a:custGeom>
                <a:avLst/>
                <a:gdLst/>
                <a:ahLst/>
                <a:rect l="l" t="t" r="r" b="b"/>
                <a:pathLst>
                  <a:path w="805" h="164">
                    <a:moveTo>
                      <a:pt x="0" y="43"/>
                    </a:moveTo>
                    <a:lnTo>
                      <a:pt x="7" y="37"/>
                    </a:lnTo>
                    <a:lnTo>
                      <a:pt x="12" y="33"/>
                    </a:lnTo>
                    <a:lnTo>
                      <a:pt x="17" y="27"/>
                    </a:lnTo>
                    <a:lnTo>
                      <a:pt x="22" y="21"/>
                    </a:lnTo>
                    <a:lnTo>
                      <a:pt x="29" y="21"/>
                    </a:lnTo>
                    <a:lnTo>
                      <a:pt x="36" y="20"/>
                    </a:lnTo>
                    <a:lnTo>
                      <a:pt x="45" y="18"/>
                    </a:lnTo>
                    <a:lnTo>
                      <a:pt x="54" y="15"/>
                    </a:lnTo>
                    <a:lnTo>
                      <a:pt x="63" y="12"/>
                    </a:lnTo>
                    <a:lnTo>
                      <a:pt x="74" y="8"/>
                    </a:lnTo>
                    <a:lnTo>
                      <a:pt x="85" y="5"/>
                    </a:lnTo>
                    <a:lnTo>
                      <a:pt x="95" y="0"/>
                    </a:lnTo>
                    <a:lnTo>
                      <a:pt x="660" y="86"/>
                    </a:lnTo>
                    <a:lnTo>
                      <a:pt x="662" y="88"/>
                    </a:lnTo>
                    <a:lnTo>
                      <a:pt x="663" y="90"/>
                    </a:lnTo>
                    <a:lnTo>
                      <a:pt x="666" y="94"/>
                    </a:lnTo>
                    <a:lnTo>
                      <a:pt x="667" y="96"/>
                    </a:lnTo>
                    <a:lnTo>
                      <a:pt x="673" y="97"/>
                    </a:lnTo>
                    <a:lnTo>
                      <a:pt x="680" y="97"/>
                    </a:lnTo>
                    <a:lnTo>
                      <a:pt x="685" y="97"/>
                    </a:lnTo>
                    <a:lnTo>
                      <a:pt x="691" y="97"/>
                    </a:lnTo>
                    <a:lnTo>
                      <a:pt x="697" y="97"/>
                    </a:lnTo>
                    <a:lnTo>
                      <a:pt x="703" y="96"/>
                    </a:lnTo>
                    <a:lnTo>
                      <a:pt x="708" y="95"/>
                    </a:lnTo>
                    <a:lnTo>
                      <a:pt x="714" y="93"/>
                    </a:lnTo>
                    <a:lnTo>
                      <a:pt x="725" y="96"/>
                    </a:lnTo>
                    <a:lnTo>
                      <a:pt x="735" y="106"/>
                    </a:lnTo>
                    <a:lnTo>
                      <a:pt x="744" y="117"/>
                    </a:lnTo>
                    <a:lnTo>
                      <a:pt x="753" y="126"/>
                    </a:lnTo>
                    <a:lnTo>
                      <a:pt x="764" y="135"/>
                    </a:lnTo>
                    <a:lnTo>
                      <a:pt x="773" y="143"/>
                    </a:lnTo>
                    <a:lnTo>
                      <a:pt x="782" y="151"/>
                    </a:lnTo>
                    <a:lnTo>
                      <a:pt x="794" y="158"/>
                    </a:lnTo>
                    <a:lnTo>
                      <a:pt x="805" y="164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81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4255560" y="2906640"/>
                <a:ext cx="569880" cy="117720"/>
              </a:xfrm>
              <a:custGeom>
                <a:avLst/>
                <a:gdLst/>
                <a:ahLst/>
                <a:rect l="l" t="t" r="r" b="b"/>
                <a:pathLst>
                  <a:path w="718" h="147">
                    <a:moveTo>
                      <a:pt x="109" y="0"/>
                    </a:moveTo>
                    <a:lnTo>
                      <a:pt x="95" y="4"/>
                    </a:lnTo>
                    <a:lnTo>
                      <a:pt x="82" y="10"/>
                    </a:lnTo>
                    <a:lnTo>
                      <a:pt x="67" y="16"/>
                    </a:lnTo>
                    <a:lnTo>
                      <a:pt x="53" y="21"/>
                    </a:lnTo>
                    <a:lnTo>
                      <a:pt x="39" y="26"/>
                    </a:lnTo>
                    <a:lnTo>
                      <a:pt x="25" y="31"/>
                    </a:lnTo>
                    <a:lnTo>
                      <a:pt x="13" y="34"/>
                    </a:lnTo>
                    <a:lnTo>
                      <a:pt x="0" y="38"/>
                    </a:lnTo>
                    <a:lnTo>
                      <a:pt x="718" y="147"/>
                    </a:lnTo>
                    <a:lnTo>
                      <a:pt x="710" y="139"/>
                    </a:lnTo>
                    <a:lnTo>
                      <a:pt x="702" y="131"/>
                    </a:lnTo>
                    <a:lnTo>
                      <a:pt x="692" y="122"/>
                    </a:lnTo>
                    <a:lnTo>
                      <a:pt x="684" y="112"/>
                    </a:lnTo>
                    <a:lnTo>
                      <a:pt x="677" y="114"/>
                    </a:lnTo>
                    <a:lnTo>
                      <a:pt x="670" y="115"/>
                    </a:lnTo>
                    <a:lnTo>
                      <a:pt x="664" y="116"/>
                    </a:lnTo>
                    <a:lnTo>
                      <a:pt x="657" y="116"/>
                    </a:lnTo>
                    <a:lnTo>
                      <a:pt x="650" y="116"/>
                    </a:lnTo>
                    <a:lnTo>
                      <a:pt x="643" y="116"/>
                    </a:lnTo>
                    <a:lnTo>
                      <a:pt x="636" y="116"/>
                    </a:lnTo>
                    <a:lnTo>
                      <a:pt x="629" y="115"/>
                    </a:lnTo>
                    <a:lnTo>
                      <a:pt x="622" y="106"/>
                    </a:lnTo>
                    <a:lnTo>
                      <a:pt x="616" y="97"/>
                    </a:lnTo>
                    <a:lnTo>
                      <a:pt x="612" y="89"/>
                    </a:lnTo>
                    <a:lnTo>
                      <a:pt x="605" y="79"/>
                    </a:lnTo>
                    <a:lnTo>
                      <a:pt x="594" y="86"/>
                    </a:lnTo>
                    <a:lnTo>
                      <a:pt x="584" y="91"/>
                    </a:lnTo>
                    <a:lnTo>
                      <a:pt x="574" y="93"/>
                    </a:lnTo>
                    <a:lnTo>
                      <a:pt x="562" y="93"/>
                    </a:lnTo>
                    <a:lnTo>
                      <a:pt x="553" y="90"/>
                    </a:lnTo>
                    <a:lnTo>
                      <a:pt x="545" y="85"/>
                    </a:lnTo>
                    <a:lnTo>
                      <a:pt x="538" y="76"/>
                    </a:lnTo>
                    <a:lnTo>
                      <a:pt x="533" y="6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1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330440" y="2897280"/>
                <a:ext cx="449280" cy="93600"/>
              </a:xfrm>
              <a:custGeom>
                <a:avLst/>
                <a:gdLst/>
                <a:ahLst/>
                <a:rect l="l" t="t" r="r" b="b"/>
                <a:pathLst>
                  <a:path w="565" h="119">
                    <a:moveTo>
                      <a:pt x="0" y="33"/>
                    </a:moveTo>
                    <a:lnTo>
                      <a:pt x="14" y="28"/>
                    </a:lnTo>
                    <a:lnTo>
                      <a:pt x="27" y="23"/>
                    </a:lnTo>
                    <a:lnTo>
                      <a:pt x="40" y="17"/>
                    </a:lnTo>
                    <a:lnTo>
                      <a:pt x="52" y="13"/>
                    </a:lnTo>
                    <a:lnTo>
                      <a:pt x="65" y="9"/>
                    </a:lnTo>
                    <a:lnTo>
                      <a:pt x="76" y="5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0" y="3"/>
                    </a:lnTo>
                    <a:lnTo>
                      <a:pt x="103" y="7"/>
                    </a:lnTo>
                    <a:lnTo>
                      <a:pt x="106" y="10"/>
                    </a:lnTo>
                    <a:lnTo>
                      <a:pt x="110" y="14"/>
                    </a:lnTo>
                    <a:lnTo>
                      <a:pt x="118" y="12"/>
                    </a:lnTo>
                    <a:lnTo>
                      <a:pt x="126" y="9"/>
                    </a:lnTo>
                    <a:lnTo>
                      <a:pt x="134" y="8"/>
                    </a:lnTo>
                    <a:lnTo>
                      <a:pt x="142" y="7"/>
                    </a:lnTo>
                    <a:lnTo>
                      <a:pt x="150" y="6"/>
                    </a:lnTo>
                    <a:lnTo>
                      <a:pt x="158" y="5"/>
                    </a:lnTo>
                    <a:lnTo>
                      <a:pt x="166" y="5"/>
                    </a:lnTo>
                    <a:lnTo>
                      <a:pt x="174" y="5"/>
                    </a:lnTo>
                    <a:lnTo>
                      <a:pt x="346" y="31"/>
                    </a:lnTo>
                    <a:lnTo>
                      <a:pt x="352" y="36"/>
                    </a:lnTo>
                    <a:lnTo>
                      <a:pt x="356" y="39"/>
                    </a:lnTo>
                    <a:lnTo>
                      <a:pt x="361" y="41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3" y="40"/>
                    </a:lnTo>
                    <a:lnTo>
                      <a:pt x="377" y="38"/>
                    </a:lnTo>
                    <a:lnTo>
                      <a:pt x="382" y="36"/>
                    </a:lnTo>
                    <a:lnTo>
                      <a:pt x="405" y="38"/>
                    </a:lnTo>
                    <a:lnTo>
                      <a:pt x="413" y="46"/>
                    </a:lnTo>
                    <a:lnTo>
                      <a:pt x="420" y="52"/>
                    </a:lnTo>
                    <a:lnTo>
                      <a:pt x="428" y="56"/>
                    </a:lnTo>
                    <a:lnTo>
                      <a:pt x="436" y="61"/>
                    </a:lnTo>
                    <a:lnTo>
                      <a:pt x="444" y="65"/>
                    </a:lnTo>
                    <a:lnTo>
                      <a:pt x="453" y="67"/>
                    </a:lnTo>
                    <a:lnTo>
                      <a:pt x="464" y="69"/>
                    </a:lnTo>
                    <a:lnTo>
                      <a:pt x="476" y="71"/>
                    </a:lnTo>
                    <a:lnTo>
                      <a:pt x="480" y="85"/>
                    </a:lnTo>
                    <a:lnTo>
                      <a:pt x="486" y="96"/>
                    </a:lnTo>
                    <a:lnTo>
                      <a:pt x="494" y="104"/>
                    </a:lnTo>
                    <a:lnTo>
                      <a:pt x="504" y="107"/>
                    </a:lnTo>
                    <a:lnTo>
                      <a:pt x="514" y="108"/>
                    </a:lnTo>
                    <a:lnTo>
                      <a:pt x="526" y="106"/>
                    </a:lnTo>
                    <a:lnTo>
                      <a:pt x="537" y="100"/>
                    </a:lnTo>
                    <a:lnTo>
                      <a:pt x="548" y="93"/>
                    </a:lnTo>
                    <a:lnTo>
                      <a:pt x="554" y="100"/>
                    </a:lnTo>
                    <a:lnTo>
                      <a:pt x="558" y="106"/>
                    </a:lnTo>
                    <a:lnTo>
                      <a:pt x="562" y="112"/>
                    </a:lnTo>
                    <a:lnTo>
                      <a:pt x="565" y="11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4279680" y="2995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401720" y="2897280"/>
                <a:ext cx="336600" cy="61920"/>
              </a:xfrm>
              <a:custGeom>
                <a:avLst/>
                <a:gdLst/>
                <a:ahLst/>
                <a:rect l="l" t="t" r="r" b="b"/>
                <a:pathLst>
                  <a:path w="424" h="78">
                    <a:moveTo>
                      <a:pt x="0" y="14"/>
                    </a:moveTo>
                    <a:lnTo>
                      <a:pt x="6" y="12"/>
                    </a:lnTo>
                    <a:lnTo>
                      <a:pt x="13" y="9"/>
                    </a:lnTo>
                    <a:lnTo>
                      <a:pt x="19" y="7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48" y="3"/>
                    </a:lnTo>
                    <a:lnTo>
                      <a:pt x="51" y="7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74" y="10"/>
                    </a:lnTo>
                    <a:lnTo>
                      <a:pt x="90" y="7"/>
                    </a:lnTo>
                    <a:lnTo>
                      <a:pt x="105" y="5"/>
                    </a:lnTo>
                    <a:lnTo>
                      <a:pt x="120" y="3"/>
                    </a:lnTo>
                    <a:lnTo>
                      <a:pt x="135" y="3"/>
                    </a:lnTo>
                    <a:lnTo>
                      <a:pt x="150" y="2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4" y="5"/>
                    </a:lnTo>
                    <a:lnTo>
                      <a:pt x="208" y="6"/>
                    </a:lnTo>
                    <a:lnTo>
                      <a:pt x="223" y="7"/>
                    </a:lnTo>
                    <a:lnTo>
                      <a:pt x="237" y="8"/>
                    </a:lnTo>
                    <a:lnTo>
                      <a:pt x="251" y="8"/>
                    </a:lnTo>
                    <a:lnTo>
                      <a:pt x="266" y="9"/>
                    </a:lnTo>
                    <a:lnTo>
                      <a:pt x="281" y="9"/>
                    </a:lnTo>
                    <a:lnTo>
                      <a:pt x="296" y="9"/>
                    </a:lnTo>
                    <a:lnTo>
                      <a:pt x="295" y="15"/>
                    </a:lnTo>
                    <a:lnTo>
                      <a:pt x="294" y="20"/>
                    </a:lnTo>
                    <a:lnTo>
                      <a:pt x="293" y="24"/>
                    </a:lnTo>
                    <a:lnTo>
                      <a:pt x="292" y="29"/>
                    </a:lnTo>
                    <a:lnTo>
                      <a:pt x="299" y="36"/>
                    </a:lnTo>
                    <a:lnTo>
                      <a:pt x="304" y="40"/>
                    </a:lnTo>
                    <a:lnTo>
                      <a:pt x="309" y="43"/>
                    </a:lnTo>
                    <a:lnTo>
                      <a:pt x="315" y="43"/>
                    </a:lnTo>
                    <a:lnTo>
                      <a:pt x="319" y="41"/>
                    </a:lnTo>
                    <a:lnTo>
                      <a:pt x="325" y="38"/>
                    </a:lnTo>
                    <a:lnTo>
                      <a:pt x="332" y="33"/>
                    </a:lnTo>
                    <a:lnTo>
                      <a:pt x="341" y="29"/>
                    </a:lnTo>
                    <a:lnTo>
                      <a:pt x="352" y="39"/>
                    </a:lnTo>
                    <a:lnTo>
                      <a:pt x="361" y="47"/>
                    </a:lnTo>
                    <a:lnTo>
                      <a:pt x="370" y="54"/>
                    </a:lnTo>
                    <a:lnTo>
                      <a:pt x="378" y="59"/>
                    </a:lnTo>
                    <a:lnTo>
                      <a:pt x="387" y="63"/>
                    </a:lnTo>
                    <a:lnTo>
                      <a:pt x="398" y="67"/>
                    </a:lnTo>
                    <a:lnTo>
                      <a:pt x="409" y="69"/>
                    </a:lnTo>
                    <a:lnTo>
                      <a:pt x="424" y="71"/>
                    </a:lnTo>
                    <a:lnTo>
                      <a:pt x="424" y="73"/>
                    </a:lnTo>
                    <a:lnTo>
                      <a:pt x="424" y="75"/>
                    </a:lnTo>
                    <a:lnTo>
                      <a:pt x="424" y="76"/>
                    </a:lnTo>
                    <a:lnTo>
                      <a:pt x="424" y="7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503600" y="2898720"/>
                <a:ext cx="138240" cy="22320"/>
              </a:xfrm>
              <a:custGeom>
                <a:avLst/>
                <a:gdLst/>
                <a:ahLst/>
                <a:rect l="l" t="t" r="r" b="b"/>
                <a:pathLst>
                  <a:path w="174" h="28">
                    <a:moveTo>
                      <a:pt x="0" y="2"/>
                    </a:moveTo>
                    <a:lnTo>
                      <a:pt x="22" y="0"/>
                    </a:lnTo>
                    <a:lnTo>
                      <a:pt x="44" y="0"/>
                    </a:lnTo>
                    <a:lnTo>
                      <a:pt x="65" y="2"/>
                    </a:lnTo>
                    <a:lnTo>
                      <a:pt x="86" y="3"/>
                    </a:lnTo>
                    <a:lnTo>
                      <a:pt x="108" y="5"/>
                    </a:lnTo>
                    <a:lnTo>
                      <a:pt x="129" y="6"/>
                    </a:lnTo>
                    <a:lnTo>
                      <a:pt x="151" y="6"/>
                    </a:lnTo>
                    <a:lnTo>
                      <a:pt x="174" y="6"/>
                    </a:lnTo>
                    <a:lnTo>
                      <a:pt x="173" y="12"/>
                    </a:lnTo>
                    <a:lnTo>
                      <a:pt x="172" y="17"/>
                    </a:lnTo>
                    <a:lnTo>
                      <a:pt x="171" y="21"/>
                    </a:lnTo>
                    <a:lnTo>
                      <a:pt x="170" y="26"/>
                    </a:lnTo>
                    <a:lnTo>
                      <a:pt x="171" y="26"/>
                    </a:lnTo>
                    <a:lnTo>
                      <a:pt x="172" y="26"/>
                    </a:lnTo>
                    <a:lnTo>
                      <a:pt x="172" y="27"/>
                    </a:lnTo>
                    <a:lnTo>
                      <a:pt x="172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00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4458600" y="291924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2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3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0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4480920" y="3416400"/>
                <a:ext cx="1800" cy="1440"/>
              </a:xfrm>
              <a:prstGeom prst="rect">
                <a:avLst/>
              </a:pr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4483080" y="3416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4483080" y="3414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4483080" y="3414600"/>
                <a:ext cx="1440" cy="180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4479480" y="3414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4479480" y="3414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>
                <a:off x="447948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47948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447948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447948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4479480" y="3409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447984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47984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2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447984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>
                <a:off x="4479840" y="34084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>
                <a:off x="4477680" y="340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478040" y="34084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4478040" y="34084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4478040" y="34066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4478040" y="340668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4478040" y="340668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4478040" y="34066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3" y="0"/>
                    </a:moveTo>
                    <a:lnTo>
                      <a:pt x="0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4478040" y="34066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3" y="0"/>
                    </a:moveTo>
                    <a:lnTo>
                      <a:pt x="0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5044680" y="3311640"/>
                <a:ext cx="34920" cy="612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5" y="0"/>
                    </a:move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5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5020920" y="33051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31" y="0"/>
                    </a:moveTo>
                    <a:lnTo>
                      <a:pt x="24" y="4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11" y="16"/>
                    </a:lnTo>
                    <a:lnTo>
                      <a:pt x="18" y="15"/>
                    </a:lnTo>
                    <a:lnTo>
                      <a:pt x="24" y="14"/>
                    </a:lnTo>
                    <a:lnTo>
                      <a:pt x="31" y="13"/>
                    </a:lnTo>
                    <a:lnTo>
                      <a:pt x="39" y="12"/>
                    </a:lnTo>
                    <a:lnTo>
                      <a:pt x="46" y="10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7" y="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5000400" y="3298680"/>
                <a:ext cx="60480" cy="1584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23" y="0"/>
                    </a:moveTo>
                    <a:lnTo>
                      <a:pt x="18" y="3"/>
                    </a:lnTo>
                    <a:lnTo>
                      <a:pt x="13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20" y="20"/>
                    </a:lnTo>
                    <a:lnTo>
                      <a:pt x="26" y="18"/>
                    </a:lnTo>
                    <a:lnTo>
                      <a:pt x="32" y="17"/>
                    </a:lnTo>
                    <a:lnTo>
                      <a:pt x="38" y="16"/>
                    </a:lnTo>
                    <a:lnTo>
                      <a:pt x="42" y="15"/>
                    </a:lnTo>
                    <a:lnTo>
                      <a:pt x="48" y="14"/>
                    </a:lnTo>
                    <a:lnTo>
                      <a:pt x="53" y="14"/>
                    </a:lnTo>
                    <a:lnTo>
                      <a:pt x="57" y="13"/>
                    </a:lnTo>
                    <a:lnTo>
                      <a:pt x="61" y="13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72" y="10"/>
                    </a:lnTo>
                    <a:lnTo>
                      <a:pt x="76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4979880" y="329400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22" y="0"/>
                    </a:moveTo>
                    <a:lnTo>
                      <a:pt x="17" y="4"/>
                    </a:lnTo>
                    <a:lnTo>
                      <a:pt x="11" y="7"/>
                    </a:lnTo>
                    <a:lnTo>
                      <a:pt x="5" y="10"/>
                    </a:lnTo>
                    <a:lnTo>
                      <a:pt x="0" y="15"/>
                    </a:lnTo>
                    <a:lnTo>
                      <a:pt x="36" y="22"/>
                    </a:lnTo>
                    <a:lnTo>
                      <a:pt x="40" y="21"/>
                    </a:lnTo>
                    <a:lnTo>
                      <a:pt x="42" y="20"/>
                    </a:lnTo>
                    <a:lnTo>
                      <a:pt x="44" y="20"/>
                    </a:lnTo>
                    <a:lnTo>
                      <a:pt x="48" y="20"/>
                    </a:lnTo>
                    <a:lnTo>
                      <a:pt x="53" y="19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80" y="13"/>
                    </a:lnTo>
                    <a:lnTo>
                      <a:pt x="84" y="12"/>
                    </a:lnTo>
                    <a:lnTo>
                      <a:pt x="89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4949640" y="3287880"/>
                <a:ext cx="93600" cy="18720"/>
              </a:xfrm>
              <a:custGeom>
                <a:avLst/>
                <a:gdLst/>
                <a:ahLst/>
                <a:rect l="l" t="t" r="r" b="b"/>
                <a:pathLst>
                  <a:path w="117" h="24">
                    <a:moveTo>
                      <a:pt x="24" y="0"/>
                    </a:moveTo>
                    <a:lnTo>
                      <a:pt x="18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53" y="24"/>
                    </a:lnTo>
                    <a:lnTo>
                      <a:pt x="61" y="22"/>
                    </a:lnTo>
                    <a:lnTo>
                      <a:pt x="69" y="21"/>
                    </a:lnTo>
                    <a:lnTo>
                      <a:pt x="77" y="19"/>
                    </a:lnTo>
                    <a:lnTo>
                      <a:pt x="85" y="17"/>
                    </a:lnTo>
                    <a:lnTo>
                      <a:pt x="93" y="16"/>
                    </a:lnTo>
                    <a:lnTo>
                      <a:pt x="101" y="16"/>
                    </a:lnTo>
                    <a:lnTo>
                      <a:pt x="109" y="15"/>
                    </a:lnTo>
                    <a:lnTo>
                      <a:pt x="117" y="1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4709520" y="3282840"/>
                <a:ext cx="322200" cy="46080"/>
              </a:xfrm>
              <a:custGeom>
                <a:avLst/>
                <a:gdLst/>
                <a:ahLst/>
                <a:rect l="l" t="t" r="r" b="b"/>
                <a:pathLst>
                  <a:path w="407" h="59">
                    <a:moveTo>
                      <a:pt x="23" y="0"/>
                    </a:moveTo>
                    <a:lnTo>
                      <a:pt x="18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67" y="26"/>
                    </a:lnTo>
                    <a:lnTo>
                      <a:pt x="91" y="23"/>
                    </a:lnTo>
                    <a:lnTo>
                      <a:pt x="113" y="22"/>
                    </a:lnTo>
                    <a:lnTo>
                      <a:pt x="136" y="22"/>
                    </a:lnTo>
                    <a:lnTo>
                      <a:pt x="158" y="22"/>
                    </a:lnTo>
                    <a:lnTo>
                      <a:pt x="180" y="24"/>
                    </a:lnTo>
                    <a:lnTo>
                      <a:pt x="201" y="28"/>
                    </a:lnTo>
                    <a:lnTo>
                      <a:pt x="222" y="31"/>
                    </a:lnTo>
                    <a:lnTo>
                      <a:pt x="242" y="35"/>
                    </a:lnTo>
                    <a:lnTo>
                      <a:pt x="263" y="38"/>
                    </a:lnTo>
                    <a:lnTo>
                      <a:pt x="283" y="43"/>
                    </a:lnTo>
                    <a:lnTo>
                      <a:pt x="303" y="46"/>
                    </a:lnTo>
                    <a:lnTo>
                      <a:pt x="324" y="50"/>
                    </a:lnTo>
                    <a:lnTo>
                      <a:pt x="345" y="53"/>
                    </a:lnTo>
                    <a:lnTo>
                      <a:pt x="364" y="57"/>
                    </a:lnTo>
                    <a:lnTo>
                      <a:pt x="386" y="58"/>
                    </a:lnTo>
                    <a:lnTo>
                      <a:pt x="407" y="59"/>
                    </a:lnTo>
                    <a:lnTo>
                      <a:pt x="407" y="5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4709520" y="3276720"/>
                <a:ext cx="314280" cy="52200"/>
              </a:xfrm>
              <a:custGeom>
                <a:avLst/>
                <a:gdLst/>
                <a:ahLst/>
                <a:rect l="l" t="t" r="r" b="b"/>
                <a:pathLst>
                  <a:path w="395" h="66">
                    <a:moveTo>
                      <a:pt x="24" y="0"/>
                    </a:moveTo>
                    <a:lnTo>
                      <a:pt x="17" y="4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93" y="28"/>
                    </a:lnTo>
                    <a:lnTo>
                      <a:pt x="114" y="28"/>
                    </a:lnTo>
                    <a:lnTo>
                      <a:pt x="133" y="28"/>
                    </a:lnTo>
                    <a:lnTo>
                      <a:pt x="153" y="29"/>
                    </a:lnTo>
                    <a:lnTo>
                      <a:pt x="171" y="31"/>
                    </a:lnTo>
                    <a:lnTo>
                      <a:pt x="191" y="34"/>
                    </a:lnTo>
                    <a:lnTo>
                      <a:pt x="210" y="37"/>
                    </a:lnTo>
                    <a:lnTo>
                      <a:pt x="228" y="41"/>
                    </a:lnTo>
                    <a:lnTo>
                      <a:pt x="246" y="44"/>
                    </a:lnTo>
                    <a:lnTo>
                      <a:pt x="264" y="48"/>
                    </a:lnTo>
                    <a:lnTo>
                      <a:pt x="282" y="52"/>
                    </a:lnTo>
                    <a:lnTo>
                      <a:pt x="301" y="56"/>
                    </a:lnTo>
                    <a:lnTo>
                      <a:pt x="319" y="58"/>
                    </a:lnTo>
                    <a:lnTo>
                      <a:pt x="337" y="61"/>
                    </a:lnTo>
                    <a:lnTo>
                      <a:pt x="357" y="64"/>
                    </a:lnTo>
                    <a:lnTo>
                      <a:pt x="375" y="65"/>
                    </a:lnTo>
                    <a:lnTo>
                      <a:pt x="395" y="66"/>
                    </a:lnTo>
                    <a:lnTo>
                      <a:pt x="395" y="63"/>
                    </a:lnTo>
                    <a:lnTo>
                      <a:pt x="395" y="60"/>
                    </a:lnTo>
                    <a:lnTo>
                      <a:pt x="395" y="59"/>
                    </a:lnTo>
                    <a:lnTo>
                      <a:pt x="395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4709520" y="3270240"/>
                <a:ext cx="304920" cy="58680"/>
              </a:xfrm>
              <a:custGeom>
                <a:avLst/>
                <a:gdLst/>
                <a:ahLst/>
                <a:rect l="l" t="t" r="r" b="b"/>
                <a:pathLst>
                  <a:path w="384" h="74">
                    <a:moveTo>
                      <a:pt x="22" y="0"/>
                    </a:moveTo>
                    <a:lnTo>
                      <a:pt x="16" y="4"/>
                    </a:lnTo>
                    <a:lnTo>
                      <a:pt x="12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384" y="74"/>
                    </a:lnTo>
                    <a:lnTo>
                      <a:pt x="384" y="69"/>
                    </a:lnTo>
                    <a:lnTo>
                      <a:pt x="383" y="64"/>
                    </a:lnTo>
                    <a:lnTo>
                      <a:pt x="383" y="59"/>
                    </a:lnTo>
                    <a:lnTo>
                      <a:pt x="384" y="5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4709880" y="3265560"/>
                <a:ext cx="295200" cy="55440"/>
              </a:xfrm>
              <a:custGeom>
                <a:avLst/>
                <a:gdLst/>
                <a:ahLst/>
                <a:rect l="l" t="t" r="r" b="b"/>
                <a:pathLst>
                  <a:path w="371" h="72">
                    <a:moveTo>
                      <a:pt x="21" y="0"/>
                    </a:moveTo>
                    <a:lnTo>
                      <a:pt x="16" y="4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371" y="72"/>
                    </a:lnTo>
                    <a:lnTo>
                      <a:pt x="370" y="67"/>
                    </a:lnTo>
                    <a:lnTo>
                      <a:pt x="370" y="63"/>
                    </a:lnTo>
                    <a:lnTo>
                      <a:pt x="370" y="58"/>
                    </a:lnTo>
                    <a:lnTo>
                      <a:pt x="371" y="5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4706280" y="3259080"/>
                <a:ext cx="290520" cy="55440"/>
              </a:xfrm>
              <a:custGeom>
                <a:avLst/>
                <a:gdLst/>
                <a:ahLst/>
                <a:rect l="l" t="t" r="r" b="b"/>
                <a:pathLst>
                  <a:path w="367" h="70">
                    <a:moveTo>
                      <a:pt x="22" y="0"/>
                    </a:moveTo>
                    <a:lnTo>
                      <a:pt x="16" y="4"/>
                    </a:lnTo>
                    <a:lnTo>
                      <a:pt x="11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362" y="70"/>
                    </a:lnTo>
                    <a:lnTo>
                      <a:pt x="362" y="66"/>
                    </a:lnTo>
                    <a:lnTo>
                      <a:pt x="363" y="63"/>
                    </a:lnTo>
                    <a:lnTo>
                      <a:pt x="365" y="58"/>
                    </a:lnTo>
                    <a:lnTo>
                      <a:pt x="367" y="52"/>
                    </a:lnTo>
                    <a:lnTo>
                      <a:pt x="367" y="52"/>
                    </a:lnTo>
                    <a:lnTo>
                      <a:pt x="367" y="52"/>
                    </a:lnTo>
                    <a:lnTo>
                      <a:pt x="365" y="52"/>
                    </a:lnTo>
                    <a:lnTo>
                      <a:pt x="364" y="5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4706280" y="3254400"/>
                <a:ext cx="281160" cy="52200"/>
              </a:xfrm>
              <a:custGeom>
                <a:avLst/>
                <a:gdLst/>
                <a:ahLst/>
                <a:rect l="l" t="t" r="r" b="b"/>
                <a:pathLst>
                  <a:path w="355" h="66">
                    <a:moveTo>
                      <a:pt x="22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350" y="66"/>
                    </a:lnTo>
                    <a:lnTo>
                      <a:pt x="351" y="64"/>
                    </a:lnTo>
                    <a:lnTo>
                      <a:pt x="352" y="62"/>
                    </a:lnTo>
                    <a:lnTo>
                      <a:pt x="353" y="61"/>
                    </a:lnTo>
                    <a:lnTo>
                      <a:pt x="355" y="58"/>
                    </a:lnTo>
                    <a:lnTo>
                      <a:pt x="350" y="56"/>
                    </a:lnTo>
                    <a:lnTo>
                      <a:pt x="344" y="54"/>
                    </a:lnTo>
                    <a:lnTo>
                      <a:pt x="340" y="50"/>
                    </a:lnTo>
                    <a:lnTo>
                      <a:pt x="334" y="47"/>
                    </a:lnTo>
                    <a:lnTo>
                      <a:pt x="334" y="4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4690440" y="329400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3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4708080" y="329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4690800" y="32860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15" y="10"/>
                    </a:lnTo>
                    <a:lnTo>
                      <a:pt x="20" y="15"/>
                    </a:lnTo>
                    <a:lnTo>
                      <a:pt x="26" y="18"/>
                    </a:lnTo>
                    <a:lnTo>
                      <a:pt x="22" y="15"/>
                    </a:lnTo>
                    <a:lnTo>
                      <a:pt x="17" y="10"/>
                    </a:lnTo>
                    <a:lnTo>
                      <a:pt x="12" y="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711680" y="3284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4711320" y="3247920"/>
                <a:ext cx="268200" cy="50760"/>
              </a:xfrm>
              <a:custGeom>
                <a:avLst/>
                <a:gdLst/>
                <a:ahLst/>
                <a:rect l="l" t="t" r="r" b="b"/>
                <a:pathLst>
                  <a:path w="338" h="64">
                    <a:moveTo>
                      <a:pt x="338" y="64"/>
                    </a:moveTo>
                    <a:lnTo>
                      <a:pt x="338" y="64"/>
                    </a:lnTo>
                    <a:lnTo>
                      <a:pt x="334" y="62"/>
                    </a:lnTo>
                    <a:lnTo>
                      <a:pt x="331" y="59"/>
                    </a:lnTo>
                    <a:lnTo>
                      <a:pt x="327" y="57"/>
                    </a:lnTo>
                    <a:lnTo>
                      <a:pt x="324" y="55"/>
                    </a:lnTo>
                    <a:lnTo>
                      <a:pt x="324" y="53"/>
                    </a:lnTo>
                    <a:lnTo>
                      <a:pt x="325" y="50"/>
                    </a:lnTo>
                    <a:lnTo>
                      <a:pt x="326" y="48"/>
                    </a:lnTo>
                    <a:lnTo>
                      <a:pt x="326" y="46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338" y="6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4698720" y="3241800"/>
                <a:ext cx="271440" cy="54000"/>
              </a:xfrm>
              <a:custGeom>
                <a:avLst/>
                <a:gdLst/>
                <a:ahLst/>
                <a:rect l="l" t="t" r="r" b="b"/>
                <a:pathLst>
                  <a:path w="343" h="66">
                    <a:moveTo>
                      <a:pt x="26" y="0"/>
                    </a:moveTo>
                    <a:lnTo>
                      <a:pt x="19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0" y="15"/>
                    </a:lnTo>
                    <a:lnTo>
                      <a:pt x="312" y="62"/>
                    </a:lnTo>
                    <a:lnTo>
                      <a:pt x="313" y="58"/>
                    </a:lnTo>
                    <a:lnTo>
                      <a:pt x="314" y="55"/>
                    </a:lnTo>
                    <a:lnTo>
                      <a:pt x="315" y="51"/>
                    </a:lnTo>
                    <a:lnTo>
                      <a:pt x="316" y="48"/>
                    </a:lnTo>
                    <a:lnTo>
                      <a:pt x="325" y="50"/>
                    </a:lnTo>
                    <a:lnTo>
                      <a:pt x="331" y="55"/>
                    </a:lnTo>
                    <a:lnTo>
                      <a:pt x="337" y="60"/>
                    </a:lnTo>
                    <a:lnTo>
                      <a:pt x="343" y="66"/>
                    </a:lnTo>
                    <a:lnTo>
                      <a:pt x="341" y="64"/>
                    </a:lnTo>
                    <a:lnTo>
                      <a:pt x="336" y="62"/>
                    </a:lnTo>
                    <a:lnTo>
                      <a:pt x="331" y="58"/>
                    </a:lnTo>
                    <a:lnTo>
                      <a:pt x="327" y="56"/>
                    </a:lnTo>
                    <a:lnTo>
                      <a:pt x="322" y="54"/>
                    </a:lnTo>
                    <a:lnTo>
                      <a:pt x="318" y="51"/>
                    </a:lnTo>
                    <a:lnTo>
                      <a:pt x="314" y="48"/>
                    </a:lnTo>
                    <a:lnTo>
                      <a:pt x="310" y="46"/>
                    </a:lnTo>
                    <a:lnTo>
                      <a:pt x="305" y="4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4706640" y="3236760"/>
                <a:ext cx="254160" cy="49320"/>
              </a:xfrm>
              <a:custGeom>
                <a:avLst/>
                <a:gdLst/>
                <a:ahLst/>
                <a:rect l="l" t="t" r="r" b="b"/>
                <a:pathLst>
                  <a:path w="322" h="62">
                    <a:moveTo>
                      <a:pt x="29" y="0"/>
                    </a:moveTo>
                    <a:lnTo>
                      <a:pt x="22" y="3"/>
                    </a:lnTo>
                    <a:lnTo>
                      <a:pt x="15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303" y="60"/>
                    </a:lnTo>
                    <a:lnTo>
                      <a:pt x="304" y="58"/>
                    </a:lnTo>
                    <a:lnTo>
                      <a:pt x="305" y="57"/>
                    </a:lnTo>
                    <a:lnTo>
                      <a:pt x="305" y="56"/>
                    </a:lnTo>
                    <a:lnTo>
                      <a:pt x="305" y="55"/>
                    </a:lnTo>
                    <a:lnTo>
                      <a:pt x="310" y="56"/>
                    </a:lnTo>
                    <a:lnTo>
                      <a:pt x="315" y="57"/>
                    </a:lnTo>
                    <a:lnTo>
                      <a:pt x="318" y="60"/>
                    </a:lnTo>
                    <a:lnTo>
                      <a:pt x="322" y="62"/>
                    </a:lnTo>
                    <a:lnTo>
                      <a:pt x="312" y="60"/>
                    </a:lnTo>
                    <a:lnTo>
                      <a:pt x="308" y="57"/>
                    </a:lnTo>
                    <a:lnTo>
                      <a:pt x="302" y="54"/>
                    </a:lnTo>
                    <a:lnTo>
                      <a:pt x="297" y="52"/>
                    </a:lnTo>
                    <a:lnTo>
                      <a:pt x="293" y="48"/>
                    </a:lnTo>
                    <a:lnTo>
                      <a:pt x="287" y="46"/>
                    </a:lnTo>
                    <a:lnTo>
                      <a:pt x="282" y="42"/>
                    </a:lnTo>
                    <a:lnTo>
                      <a:pt x="277" y="39"/>
                    </a:lnTo>
                    <a:lnTo>
                      <a:pt x="272" y="35"/>
                    </a:lnTo>
                    <a:lnTo>
                      <a:pt x="210" y="26"/>
                    </a:lnTo>
                    <a:lnTo>
                      <a:pt x="209" y="27"/>
                    </a:lnTo>
                    <a:lnTo>
                      <a:pt x="208" y="28"/>
                    </a:lnTo>
                    <a:lnTo>
                      <a:pt x="206" y="30"/>
                    </a:lnTo>
                    <a:lnTo>
                      <a:pt x="205" y="31"/>
                    </a:lnTo>
                    <a:lnTo>
                      <a:pt x="203" y="30"/>
                    </a:lnTo>
                    <a:lnTo>
                      <a:pt x="202" y="27"/>
                    </a:lnTo>
                    <a:lnTo>
                      <a:pt x="199" y="26"/>
                    </a:lnTo>
                    <a:lnTo>
                      <a:pt x="196" y="2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728600" y="3230640"/>
                <a:ext cx="220680" cy="46080"/>
              </a:xfrm>
              <a:custGeom>
                <a:avLst/>
                <a:gdLst/>
                <a:ahLst/>
                <a:rect l="l" t="t" r="r" b="b"/>
                <a:pathLst>
                  <a:path w="279" h="57">
                    <a:moveTo>
                      <a:pt x="34" y="0"/>
                    </a:moveTo>
                    <a:lnTo>
                      <a:pt x="24" y="3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279" y="57"/>
                    </a:lnTo>
                    <a:lnTo>
                      <a:pt x="273" y="54"/>
                    </a:lnTo>
                    <a:lnTo>
                      <a:pt x="267" y="49"/>
                    </a:lnTo>
                    <a:lnTo>
                      <a:pt x="263" y="46"/>
                    </a:lnTo>
                    <a:lnTo>
                      <a:pt x="257" y="42"/>
                    </a:lnTo>
                    <a:lnTo>
                      <a:pt x="251" y="40"/>
                    </a:lnTo>
                    <a:lnTo>
                      <a:pt x="246" y="37"/>
                    </a:lnTo>
                    <a:lnTo>
                      <a:pt x="239" y="33"/>
                    </a:lnTo>
                    <a:lnTo>
                      <a:pt x="233" y="31"/>
                    </a:lnTo>
                    <a:lnTo>
                      <a:pt x="197" y="26"/>
                    </a:lnTo>
                    <a:lnTo>
                      <a:pt x="197" y="26"/>
                    </a:lnTo>
                    <a:lnTo>
                      <a:pt x="197" y="27"/>
                    </a:lnTo>
                    <a:lnTo>
                      <a:pt x="198" y="29"/>
                    </a:lnTo>
                    <a:lnTo>
                      <a:pt x="199" y="29"/>
                    </a:lnTo>
                    <a:lnTo>
                      <a:pt x="196" y="32"/>
                    </a:lnTo>
                    <a:lnTo>
                      <a:pt x="194" y="34"/>
                    </a:lnTo>
                    <a:lnTo>
                      <a:pt x="193" y="35"/>
                    </a:lnTo>
                    <a:lnTo>
                      <a:pt x="190" y="38"/>
                    </a:lnTo>
                    <a:lnTo>
                      <a:pt x="182" y="33"/>
                    </a:lnTo>
                    <a:lnTo>
                      <a:pt x="174" y="27"/>
                    </a:lnTo>
                    <a:lnTo>
                      <a:pt x="166" y="23"/>
                    </a:lnTo>
                    <a:lnTo>
                      <a:pt x="157" y="18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4801680" y="3228840"/>
                <a:ext cx="136440" cy="28800"/>
              </a:xfrm>
              <a:custGeom>
                <a:avLst/>
                <a:gdLst/>
                <a:ahLst/>
                <a:rect l="l" t="t" r="r" b="b"/>
                <a:pathLst>
                  <a:path w="172" h="36">
                    <a:moveTo>
                      <a:pt x="53" y="0"/>
                    </a:moveTo>
                    <a:lnTo>
                      <a:pt x="46" y="0"/>
                    </a:lnTo>
                    <a:lnTo>
                      <a:pt x="39" y="2"/>
                    </a:lnTo>
                    <a:lnTo>
                      <a:pt x="32" y="2"/>
                    </a:lnTo>
                    <a:lnTo>
                      <a:pt x="25" y="3"/>
                    </a:lnTo>
                    <a:lnTo>
                      <a:pt x="20" y="5"/>
                    </a:lnTo>
                    <a:lnTo>
                      <a:pt x="13" y="6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67" y="36"/>
                    </a:lnTo>
                    <a:lnTo>
                      <a:pt x="159" y="30"/>
                    </a:lnTo>
                    <a:lnTo>
                      <a:pt x="151" y="26"/>
                    </a:lnTo>
                    <a:lnTo>
                      <a:pt x="144" y="22"/>
                    </a:lnTo>
                    <a:lnTo>
                      <a:pt x="137" y="19"/>
                    </a:lnTo>
                    <a:lnTo>
                      <a:pt x="129" y="15"/>
                    </a:lnTo>
                    <a:lnTo>
                      <a:pt x="122" y="13"/>
                    </a:lnTo>
                    <a:lnTo>
                      <a:pt x="116" y="10"/>
                    </a:lnTo>
                    <a:lnTo>
                      <a:pt x="109" y="7"/>
                    </a:lnTo>
                    <a:lnTo>
                      <a:pt x="172" y="17"/>
                    </a:lnTo>
                    <a:lnTo>
                      <a:pt x="164" y="17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36" y="15"/>
                    </a:lnTo>
                    <a:lnTo>
                      <a:pt x="126" y="13"/>
                    </a:lnTo>
                    <a:lnTo>
                      <a:pt x="114" y="11"/>
                    </a:lnTo>
                    <a:lnTo>
                      <a:pt x="103" y="9"/>
                    </a:lnTo>
                    <a:lnTo>
                      <a:pt x="91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4744800" y="324324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2" y="17"/>
                    </a:move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5" y="10"/>
                    </a:lnTo>
                    <a:lnTo>
                      <a:pt x="3" y="7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23" y="6"/>
                    </a:lnTo>
                    <a:lnTo>
                      <a:pt x="28" y="8"/>
                    </a:lnTo>
                    <a:lnTo>
                      <a:pt x="34" y="11"/>
                    </a:lnTo>
                    <a:lnTo>
                      <a:pt x="41" y="15"/>
                    </a:lnTo>
                    <a:lnTo>
                      <a:pt x="47" y="18"/>
                    </a:lnTo>
                    <a:lnTo>
                      <a:pt x="53" y="21"/>
                    </a:lnTo>
                    <a:lnTo>
                      <a:pt x="58" y="24"/>
                    </a:lnTo>
                    <a:lnTo>
                      <a:pt x="64" y="2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4764960" y="3225960"/>
                <a:ext cx="109800" cy="2988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7"/>
                    </a:moveTo>
                    <a:lnTo>
                      <a:pt x="0" y="16"/>
                    </a:lnTo>
                    <a:lnTo>
                      <a:pt x="62" y="25"/>
                    </a:lnTo>
                    <a:lnTo>
                      <a:pt x="54" y="22"/>
                    </a:lnTo>
                    <a:lnTo>
                      <a:pt x="46" y="18"/>
                    </a:lnTo>
                    <a:lnTo>
                      <a:pt x="38" y="16"/>
                    </a:lnTo>
                    <a:lnTo>
                      <a:pt x="31" y="14"/>
                    </a:lnTo>
                    <a:lnTo>
                      <a:pt x="23" y="11"/>
                    </a:lnTo>
                    <a:lnTo>
                      <a:pt x="15" y="9"/>
                    </a:lnTo>
                    <a:lnTo>
                      <a:pt x="7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8" y="11"/>
                    </a:lnTo>
                    <a:lnTo>
                      <a:pt x="94" y="15"/>
                    </a:lnTo>
                    <a:lnTo>
                      <a:pt x="101" y="18"/>
                    </a:lnTo>
                    <a:lnTo>
                      <a:pt x="107" y="21"/>
                    </a:lnTo>
                    <a:lnTo>
                      <a:pt x="114" y="24"/>
                    </a:lnTo>
                    <a:lnTo>
                      <a:pt x="119" y="28"/>
                    </a:lnTo>
                    <a:lnTo>
                      <a:pt x="125" y="31"/>
                    </a:lnTo>
                    <a:lnTo>
                      <a:pt x="132" y="34"/>
                    </a:lnTo>
                    <a:lnTo>
                      <a:pt x="138" y="38"/>
                    </a:lnTo>
                    <a:lnTo>
                      <a:pt x="102" y="33"/>
                    </a:lnTo>
                    <a:lnTo>
                      <a:pt x="101" y="30"/>
                    </a:lnTo>
                    <a:lnTo>
                      <a:pt x="99" y="26"/>
                    </a:lnTo>
                    <a:lnTo>
                      <a:pt x="98" y="24"/>
                    </a:lnTo>
                    <a:lnTo>
                      <a:pt x="98" y="21"/>
                    </a:lnTo>
                    <a:lnTo>
                      <a:pt x="89" y="22"/>
                    </a:lnTo>
                    <a:lnTo>
                      <a:pt x="79" y="22"/>
                    </a:lnTo>
                    <a:lnTo>
                      <a:pt x="68" y="21"/>
                    </a:lnTo>
                    <a:lnTo>
                      <a:pt x="56" y="18"/>
                    </a:lnTo>
                    <a:lnTo>
                      <a:pt x="42" y="16"/>
                    </a:lnTo>
                    <a:lnTo>
                      <a:pt x="28" y="14"/>
                    </a:lnTo>
                    <a:lnTo>
                      <a:pt x="15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75120" y="321768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61" y="18"/>
                    </a:moveTo>
                    <a:lnTo>
                      <a:pt x="61" y="1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2" y="3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5" y="10"/>
                    </a:lnTo>
                    <a:lnTo>
                      <a:pt x="43" y="12"/>
                    </a:lnTo>
                    <a:lnTo>
                      <a:pt x="51" y="15"/>
                    </a:lnTo>
                    <a:lnTo>
                      <a:pt x="61" y="18"/>
                    </a:lnTo>
                    <a:lnTo>
                      <a:pt x="61" y="27"/>
                    </a:lnTo>
                    <a:lnTo>
                      <a:pt x="0" y="18"/>
                    </a:lnTo>
                    <a:lnTo>
                      <a:pt x="6" y="17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9" y="15"/>
                    </a:lnTo>
                    <a:lnTo>
                      <a:pt x="38" y="15"/>
                    </a:lnTo>
                    <a:lnTo>
                      <a:pt x="44" y="15"/>
                    </a:lnTo>
                    <a:lnTo>
                      <a:pt x="53" y="17"/>
                    </a:lnTo>
                    <a:lnTo>
                      <a:pt x="61" y="18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4782960" y="3211560"/>
                <a:ext cx="139680" cy="34920"/>
              </a:xfrm>
              <a:custGeom>
                <a:avLst/>
                <a:gdLst/>
                <a:ahLst/>
                <a:rect l="l" t="t" r="r" b="b"/>
                <a:pathLst>
                  <a:path w="176" h="42">
                    <a:moveTo>
                      <a:pt x="89" y="28"/>
                    </a:moveTo>
                    <a:lnTo>
                      <a:pt x="81" y="27"/>
                    </a:lnTo>
                    <a:lnTo>
                      <a:pt x="74" y="25"/>
                    </a:lnTo>
                    <a:lnTo>
                      <a:pt x="66" y="24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46" y="21"/>
                    </a:lnTo>
                    <a:lnTo>
                      <a:pt x="39" y="21"/>
                    </a:lnTo>
                    <a:lnTo>
                      <a:pt x="33" y="21"/>
                    </a:lnTo>
                    <a:lnTo>
                      <a:pt x="71" y="26"/>
                    </a:lnTo>
                    <a:lnTo>
                      <a:pt x="61" y="24"/>
                    </a:lnTo>
                    <a:lnTo>
                      <a:pt x="50" y="20"/>
                    </a:lnTo>
                    <a:lnTo>
                      <a:pt x="40" y="18"/>
                    </a:lnTo>
                    <a:lnTo>
                      <a:pt x="31" y="15"/>
                    </a:lnTo>
                    <a:lnTo>
                      <a:pt x="21" y="12"/>
                    </a:lnTo>
                    <a:lnTo>
                      <a:pt x="13" y="10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121" y="17"/>
                    </a:lnTo>
                    <a:lnTo>
                      <a:pt x="127" y="19"/>
                    </a:lnTo>
                    <a:lnTo>
                      <a:pt x="134" y="23"/>
                    </a:lnTo>
                    <a:lnTo>
                      <a:pt x="141" y="25"/>
                    </a:lnTo>
                    <a:lnTo>
                      <a:pt x="148" y="28"/>
                    </a:lnTo>
                    <a:lnTo>
                      <a:pt x="155" y="32"/>
                    </a:lnTo>
                    <a:lnTo>
                      <a:pt x="162" y="35"/>
                    </a:lnTo>
                    <a:lnTo>
                      <a:pt x="169" y="39"/>
                    </a:lnTo>
                    <a:lnTo>
                      <a:pt x="176" y="42"/>
                    </a:lnTo>
                    <a:lnTo>
                      <a:pt x="159" y="40"/>
                    </a:lnTo>
                    <a:lnTo>
                      <a:pt x="159" y="39"/>
                    </a:lnTo>
                    <a:lnTo>
                      <a:pt x="159" y="38"/>
                    </a:lnTo>
                    <a:lnTo>
                      <a:pt x="159" y="38"/>
                    </a:lnTo>
                    <a:lnTo>
                      <a:pt x="159" y="38"/>
                    </a:lnTo>
                    <a:lnTo>
                      <a:pt x="157" y="38"/>
                    </a:lnTo>
                    <a:lnTo>
                      <a:pt x="155" y="38"/>
                    </a:lnTo>
                    <a:lnTo>
                      <a:pt x="154" y="38"/>
                    </a:lnTo>
                    <a:lnTo>
                      <a:pt x="152" y="38"/>
                    </a:lnTo>
                    <a:lnTo>
                      <a:pt x="89" y="28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4803120" y="3205080"/>
                <a:ext cx="119160" cy="30240"/>
              </a:xfrm>
              <a:custGeom>
                <a:avLst/>
                <a:gdLst/>
                <a:ahLst/>
                <a:rect l="l" t="t" r="r" b="b"/>
                <a:pathLst>
                  <a:path w="149" h="38">
                    <a:moveTo>
                      <a:pt x="0" y="16"/>
                    </a:moveTo>
                    <a:lnTo>
                      <a:pt x="0" y="16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11" y="4"/>
                    </a:lnTo>
                    <a:lnTo>
                      <a:pt x="16" y="0"/>
                    </a:lnTo>
                    <a:lnTo>
                      <a:pt x="94" y="12"/>
                    </a:lnTo>
                    <a:lnTo>
                      <a:pt x="101" y="15"/>
                    </a:lnTo>
                    <a:lnTo>
                      <a:pt x="107" y="20"/>
                    </a:lnTo>
                    <a:lnTo>
                      <a:pt x="114" y="23"/>
                    </a:lnTo>
                    <a:lnTo>
                      <a:pt x="121" y="27"/>
                    </a:lnTo>
                    <a:lnTo>
                      <a:pt x="127" y="29"/>
                    </a:lnTo>
                    <a:lnTo>
                      <a:pt x="134" y="33"/>
                    </a:lnTo>
                    <a:lnTo>
                      <a:pt x="142" y="36"/>
                    </a:lnTo>
                    <a:lnTo>
                      <a:pt x="149" y="3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4827240" y="319896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5" h="34">
                    <a:moveTo>
                      <a:pt x="17" y="0"/>
                    </a:moveTo>
                    <a:lnTo>
                      <a:pt x="13" y="4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7"/>
                    </a:lnTo>
                    <a:lnTo>
                      <a:pt x="115" y="34"/>
                    </a:lnTo>
                    <a:lnTo>
                      <a:pt x="109" y="30"/>
                    </a:lnTo>
                    <a:lnTo>
                      <a:pt x="102" y="27"/>
                    </a:lnTo>
                    <a:lnTo>
                      <a:pt x="95" y="23"/>
                    </a:lnTo>
                    <a:lnTo>
                      <a:pt x="89" y="20"/>
                    </a:lnTo>
                    <a:lnTo>
                      <a:pt x="82" y="17"/>
                    </a:lnTo>
                    <a:lnTo>
                      <a:pt x="75" y="14"/>
                    </a:lnTo>
                    <a:lnTo>
                      <a:pt x="68" y="11"/>
                    </a:lnTo>
                    <a:lnTo>
                      <a:pt x="63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4848120" y="319392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15" y="0"/>
                    </a:moveTo>
                    <a:lnTo>
                      <a:pt x="10" y="3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78" y="25"/>
                    </a:lnTo>
                    <a:lnTo>
                      <a:pt x="72" y="23"/>
                    </a:lnTo>
                    <a:lnTo>
                      <a:pt x="65" y="19"/>
                    </a:lnTo>
                    <a:lnTo>
                      <a:pt x="60" y="17"/>
                    </a:lnTo>
                    <a:lnTo>
                      <a:pt x="53" y="13"/>
                    </a:lnTo>
                    <a:lnTo>
                      <a:pt x="47" y="10"/>
                    </a:lnTo>
                    <a:lnTo>
                      <a:pt x="40" y="6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4868640" y="318924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12"/>
                    </a:moveTo>
                    <a:lnTo>
                      <a:pt x="2" y="9"/>
                    </a:lnTo>
                    <a:lnTo>
                      <a:pt x="5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9" y="6"/>
                    </a:lnTo>
                    <a:lnTo>
                      <a:pt x="27" y="10"/>
                    </a:lnTo>
                    <a:lnTo>
                      <a:pt x="36" y="15"/>
                    </a:lnTo>
                    <a:lnTo>
                      <a:pt x="46" y="1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>
                <a:off x="4888800" y="318924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4631760" y="33624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4"/>
                    </a:moveTo>
                    <a:lnTo>
                      <a:pt x="24" y="4"/>
                    </a:lnTo>
                    <a:lnTo>
                      <a:pt x="24" y="5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16" y="5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4631760" y="33591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22" y="10"/>
                    </a:moveTo>
                    <a:lnTo>
                      <a:pt x="23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7"/>
                    </a:lnTo>
                    <a:lnTo>
                      <a:pt x="16" y="9"/>
                    </a:lnTo>
                    <a:lnTo>
                      <a:pt x="22" y="1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4630320" y="33559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13"/>
                    </a:moveTo>
                    <a:lnTo>
                      <a:pt x="24" y="11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4630320" y="3351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13"/>
                    </a:moveTo>
                    <a:lnTo>
                      <a:pt x="25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4662360" y="33480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4628880" y="3349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29" y="11"/>
                    </a:moveTo>
                    <a:lnTo>
                      <a:pt x="29" y="9"/>
                    </a:lnTo>
                    <a:lnTo>
                      <a:pt x="30" y="8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4660560" y="3344760"/>
                <a:ext cx="30240" cy="97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8" y="4"/>
                    </a:moveTo>
                    <a:lnTo>
                      <a:pt x="37" y="5"/>
                    </a:lnTo>
                    <a:lnTo>
                      <a:pt x="36" y="8"/>
                    </a:lnTo>
                    <a:lnTo>
                      <a:pt x="35" y="9"/>
                    </a:lnTo>
                    <a:lnTo>
                      <a:pt x="34" y="11"/>
                    </a:lnTo>
                    <a:lnTo>
                      <a:pt x="26" y="8"/>
                    </a:lnTo>
                    <a:lnTo>
                      <a:pt x="17" y="5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4628880" y="334656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29" y="11"/>
                    </a:moveTo>
                    <a:lnTo>
                      <a:pt x="30" y="9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4659120" y="33415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36" y="14"/>
                    </a:moveTo>
                    <a:lnTo>
                      <a:pt x="36" y="12"/>
                    </a:lnTo>
                    <a:lnTo>
                      <a:pt x="37" y="10"/>
                    </a:lnTo>
                    <a:lnTo>
                      <a:pt x="39" y="8"/>
                    </a:lnTo>
                    <a:lnTo>
                      <a:pt x="41" y="7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6"/>
                    </a:lnTo>
                    <a:lnTo>
                      <a:pt x="9" y="8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4627080" y="33447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4" y="11"/>
                    </a:moveTo>
                    <a:lnTo>
                      <a:pt x="34" y="9"/>
                    </a:lnTo>
                    <a:lnTo>
                      <a:pt x="35" y="8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4657680" y="333864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38" y="11"/>
                    </a:moveTo>
                    <a:lnTo>
                      <a:pt x="38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3" y="4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>
                <a:off x="4627440" y="3335400"/>
                <a:ext cx="61920" cy="1440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76" y="19"/>
                    </a:moveTo>
                    <a:lnTo>
                      <a:pt x="77" y="16"/>
                    </a:lnTo>
                    <a:lnTo>
                      <a:pt x="78" y="15"/>
                    </a:lnTo>
                    <a:lnTo>
                      <a:pt x="78" y="13"/>
                    </a:lnTo>
                    <a:lnTo>
                      <a:pt x="78" y="1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9" y="11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3" y="11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76" y="1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4623840" y="333360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78" y="18"/>
                    </a:moveTo>
                    <a:lnTo>
                      <a:pt x="78" y="16"/>
                    </a:lnTo>
                    <a:lnTo>
                      <a:pt x="79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4623840" y="3328920"/>
                <a:ext cx="65160" cy="15840"/>
              </a:xfrm>
              <a:custGeom>
                <a:avLst/>
                <a:gdLst/>
                <a:ahLst/>
                <a:rect l="l" t="t" r="r" b="b"/>
                <a:pathLst>
                  <a:path w="80" h="20">
                    <a:moveTo>
                      <a:pt x="78" y="20"/>
                    </a:moveTo>
                    <a:lnTo>
                      <a:pt x="79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80" y="13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78" y="2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4622760" y="33274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9"/>
                    </a:moveTo>
                    <a:lnTo>
                      <a:pt x="78" y="17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4620600" y="332424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76" y="20"/>
                    </a:moveTo>
                    <a:lnTo>
                      <a:pt x="77" y="17"/>
                    </a:lnTo>
                    <a:lnTo>
                      <a:pt x="78" y="16"/>
                    </a:lnTo>
                    <a:lnTo>
                      <a:pt x="80" y="14"/>
                    </a:lnTo>
                    <a:lnTo>
                      <a:pt x="82" y="13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4620960" y="33210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6" y="19"/>
                    </a:moveTo>
                    <a:lnTo>
                      <a:pt x="76" y="17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1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76" y="19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4617360" y="3319560"/>
                <a:ext cx="63720" cy="14040"/>
              </a:xfrm>
              <a:custGeom>
                <a:avLst/>
                <a:gdLst/>
                <a:ahLst/>
                <a:rect l="l" t="t" r="r" b="b"/>
                <a:pathLst>
                  <a:path w="79" h="17">
                    <a:moveTo>
                      <a:pt x="77" y="17"/>
                    </a:moveTo>
                    <a:lnTo>
                      <a:pt x="77" y="15"/>
                    </a:lnTo>
                    <a:lnTo>
                      <a:pt x="77" y="12"/>
                    </a:lnTo>
                    <a:lnTo>
                      <a:pt x="78" y="11"/>
                    </a:lnTo>
                    <a:lnTo>
                      <a:pt x="79" y="9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77" y="1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4617720" y="3316320"/>
                <a:ext cx="61920" cy="1440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75" y="18"/>
                    </a:moveTo>
                    <a:lnTo>
                      <a:pt x="75" y="16"/>
                    </a:lnTo>
                    <a:lnTo>
                      <a:pt x="76" y="15"/>
                    </a:lnTo>
                    <a:lnTo>
                      <a:pt x="77" y="13"/>
                    </a:lnTo>
                    <a:lnTo>
                      <a:pt x="77" y="1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4616280" y="3314520"/>
                <a:ext cx="61920" cy="12960"/>
              </a:xfrm>
              <a:custGeom>
                <a:avLst/>
                <a:gdLst/>
                <a:ahLst/>
                <a:rect l="l" t="t" r="r" b="b"/>
                <a:pathLst>
                  <a:path w="78" h="16">
                    <a:moveTo>
                      <a:pt x="75" y="16"/>
                    </a:moveTo>
                    <a:lnTo>
                      <a:pt x="75" y="13"/>
                    </a:lnTo>
                    <a:lnTo>
                      <a:pt x="75" y="12"/>
                    </a:lnTo>
                    <a:lnTo>
                      <a:pt x="76" y="10"/>
                    </a:lnTo>
                    <a:lnTo>
                      <a:pt x="78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75" y="16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4615920" y="331308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9" y="16"/>
                    </a:moveTo>
                    <a:lnTo>
                      <a:pt x="69" y="14"/>
                    </a:lnTo>
                    <a:lnTo>
                      <a:pt x="70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9" y="16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4614840" y="330840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67" y="16"/>
                    </a:moveTo>
                    <a:lnTo>
                      <a:pt x="67" y="14"/>
                    </a:lnTo>
                    <a:lnTo>
                      <a:pt x="67" y="12"/>
                    </a:lnTo>
                    <a:lnTo>
                      <a:pt x="68" y="10"/>
                    </a:lnTo>
                    <a:lnTo>
                      <a:pt x="69" y="9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4614480" y="330660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3" y="17"/>
                    </a:moveTo>
                    <a:lnTo>
                      <a:pt x="63" y="14"/>
                    </a:lnTo>
                    <a:lnTo>
                      <a:pt x="64" y="13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63" y="1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4612680" y="33051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0" y="14"/>
                    </a:moveTo>
                    <a:lnTo>
                      <a:pt x="60" y="12"/>
                    </a:lnTo>
                    <a:lnTo>
                      <a:pt x="60" y="10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4613040" y="330192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57" h="15">
                    <a:moveTo>
                      <a:pt x="55" y="15"/>
                    </a:moveTo>
                    <a:lnTo>
                      <a:pt x="55" y="12"/>
                    </a:lnTo>
                    <a:lnTo>
                      <a:pt x="56" y="11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4611600" y="330048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53" h="13">
                    <a:moveTo>
                      <a:pt x="51" y="13"/>
                    </a:moveTo>
                    <a:lnTo>
                      <a:pt x="51" y="11"/>
                    </a:lnTo>
                    <a:lnTo>
                      <a:pt x="51" y="10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4611240" y="3298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2" y="13"/>
                    </a:moveTo>
                    <a:lnTo>
                      <a:pt x="42" y="10"/>
                    </a:lnTo>
                    <a:lnTo>
                      <a:pt x="43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4609800" y="32972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5" y="10"/>
                    </a:moveTo>
                    <a:lnTo>
                      <a:pt x="35" y="8"/>
                    </a:lnTo>
                    <a:lnTo>
                      <a:pt x="35" y="5"/>
                    </a:lnTo>
                    <a:lnTo>
                      <a:pt x="37" y="4"/>
                    </a:lnTo>
                    <a:lnTo>
                      <a:pt x="3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4609800" y="329580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28" y="7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1" y="3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4606560" y="329400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2" y="7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4606920" y="32907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2" y="7"/>
                    </a:moveTo>
                    <a:lnTo>
                      <a:pt x="12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4606560" y="3290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4560480" y="3371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2"/>
                    </a:lnTo>
                    <a:lnTo>
                      <a:pt x="3" y="7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4560480" y="336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>
                <a:off x="4557600" y="3367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3" y="0"/>
                    </a:moveTo>
                    <a:lnTo>
                      <a:pt x="0" y="5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4541760" y="3371760"/>
                <a:ext cx="1440" cy="1800"/>
              </a:xfrm>
              <a:prstGeom prst="rect">
                <a:avLst/>
              </a:pr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4555440" y="33656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3" y="0"/>
                    </a:moveTo>
                    <a:lnTo>
                      <a:pt x="0" y="5"/>
                    </a:lnTo>
                    <a:lnTo>
                      <a:pt x="8" y="7"/>
                    </a:lnTo>
                    <a:lnTo>
                      <a:pt x="1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4539600" y="3368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4554360" y="33638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4"/>
                    </a:lnTo>
                    <a:lnTo>
                      <a:pt x="7" y="7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>
                <a:off x="4538160" y="3367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7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4552920" y="33624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3" y="0"/>
                    </a:moveTo>
                    <a:lnTo>
                      <a:pt x="0" y="4"/>
                    </a:lnTo>
                    <a:lnTo>
                      <a:pt x="10" y="6"/>
                    </a:lnTo>
                    <a:lnTo>
                      <a:pt x="1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4533840" y="33638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12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4552920" y="33591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3" y="0"/>
                    </a:moveTo>
                    <a:lnTo>
                      <a:pt x="0" y="6"/>
                    </a:lnTo>
                    <a:lnTo>
                      <a:pt x="12" y="8"/>
                    </a:lnTo>
                    <a:lnTo>
                      <a:pt x="1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4531680" y="33624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4550760" y="3355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9"/>
                    </a:lnTo>
                    <a:lnTo>
                      <a:pt x="11" y="11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4527360" y="33591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0" y="8"/>
                    </a:moveTo>
                    <a:lnTo>
                      <a:pt x="17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4525560" y="33544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2" y="0"/>
                    </a:moveTo>
                    <a:lnTo>
                      <a:pt x="0" y="7"/>
                    </a:lnTo>
                    <a:lnTo>
                      <a:pt x="11" y="7"/>
                    </a:lnTo>
                    <a:lnTo>
                      <a:pt x="16" y="2"/>
                    </a:lnTo>
                    <a:lnTo>
                      <a:pt x="27" y="7"/>
                    </a:lnTo>
                    <a:lnTo>
                      <a:pt x="25" y="11"/>
                    </a:lnTo>
                    <a:lnTo>
                      <a:pt x="38" y="13"/>
                    </a:lnTo>
                    <a:lnTo>
                      <a:pt x="4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4522680" y="3351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2" y="0"/>
                    </a:moveTo>
                    <a:lnTo>
                      <a:pt x="0" y="4"/>
                    </a:lnTo>
                    <a:lnTo>
                      <a:pt x="14" y="7"/>
                    </a:lnTo>
                    <a:lnTo>
                      <a:pt x="16" y="4"/>
                    </a:lnTo>
                    <a:lnTo>
                      <a:pt x="25" y="9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4520520" y="334980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0" y="6"/>
                    </a:lnTo>
                    <a:lnTo>
                      <a:pt x="43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>
                <a:off x="4519080" y="334800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2" y="7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4516200" y="33465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0" y="0"/>
                    </a:moveTo>
                    <a:lnTo>
                      <a:pt x="0" y="5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4516200" y="3344760"/>
                <a:ext cx="44640" cy="972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2" y="0"/>
                    </a:moveTo>
                    <a:lnTo>
                      <a:pt x="0" y="4"/>
                    </a:lnTo>
                    <a:lnTo>
                      <a:pt x="52" y="11"/>
                    </a:lnTo>
                    <a:lnTo>
                      <a:pt x="5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4514760" y="334152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2" y="0"/>
                    </a:moveTo>
                    <a:lnTo>
                      <a:pt x="0" y="7"/>
                    </a:lnTo>
                    <a:lnTo>
                      <a:pt x="54" y="14"/>
                    </a:lnTo>
                    <a:lnTo>
                      <a:pt x="56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4512960" y="333864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0"/>
                    </a:moveTo>
                    <a:lnTo>
                      <a:pt x="0" y="7"/>
                    </a:lnTo>
                    <a:lnTo>
                      <a:pt x="52" y="14"/>
                    </a:lnTo>
                    <a:lnTo>
                      <a:pt x="5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512960" y="333684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7" y="10"/>
                    </a:lnTo>
                    <a:lnTo>
                      <a:pt x="54" y="1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4511520" y="333540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9" y="9"/>
                    </a:lnTo>
                    <a:lnTo>
                      <a:pt x="57" y="1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4508280" y="33336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4" y="0"/>
                    </a:moveTo>
                    <a:lnTo>
                      <a:pt x="0" y="4"/>
                    </a:lnTo>
                    <a:lnTo>
                      <a:pt x="54" y="14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4506840" y="333072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5" y="0"/>
                    </a:moveTo>
                    <a:lnTo>
                      <a:pt x="0" y="6"/>
                    </a:lnTo>
                    <a:lnTo>
                      <a:pt x="54" y="15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4504680" y="3328920"/>
                <a:ext cx="4788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0" y="8"/>
                    </a:lnTo>
                    <a:lnTo>
                      <a:pt x="56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4503600" y="332748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59" h="15">
                    <a:moveTo>
                      <a:pt x="0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9" y="8"/>
                    </a:lnTo>
                    <a:lnTo>
                      <a:pt x="55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4501440" y="33256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2" y="0"/>
                    </a:moveTo>
                    <a:lnTo>
                      <a:pt x="0" y="5"/>
                    </a:lnTo>
                    <a:lnTo>
                      <a:pt x="55" y="13"/>
                    </a:lnTo>
                    <a:lnTo>
                      <a:pt x="60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4501440" y="3324240"/>
                <a:ext cx="47880" cy="936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2" y="0"/>
                    </a:moveTo>
                    <a:lnTo>
                      <a:pt x="0" y="5"/>
                    </a:lnTo>
                    <a:lnTo>
                      <a:pt x="57" y="13"/>
                    </a:lnTo>
                    <a:lnTo>
                      <a:pt x="60" y="9"/>
                    </a:lnTo>
                    <a:lnTo>
                      <a:pt x="57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4501800" y="331956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0"/>
                    </a:moveTo>
                    <a:lnTo>
                      <a:pt x="0" y="6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4503240" y="331776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0" y="0"/>
                    </a:lnTo>
                    <a:lnTo>
                      <a:pt x="51" y="7"/>
                    </a:lnTo>
                    <a:lnTo>
                      <a:pt x="5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4504680" y="331776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0" y="3"/>
                    </a:moveTo>
                    <a:lnTo>
                      <a:pt x="0" y="0"/>
                    </a:lnTo>
                    <a:lnTo>
                      <a:pt x="51" y="7"/>
                    </a:lnTo>
                    <a:lnTo>
                      <a:pt x="53" y="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4592160" y="33670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0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4590720" y="336564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0" y="2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4590720" y="33624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6"/>
                    </a:lnTo>
                    <a:lnTo>
                      <a:pt x="15" y="9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4587840" y="33591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2" y="0"/>
                    </a:moveTo>
                    <a:lnTo>
                      <a:pt x="0" y="8"/>
                    </a:lnTo>
                    <a:lnTo>
                      <a:pt x="17" y="10"/>
                    </a:lnTo>
                    <a:lnTo>
                      <a:pt x="19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4585680" y="33577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  <a:lnTo>
                      <a:pt x="17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4584600" y="335592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2" y="3"/>
                    </a:lnTo>
                    <a:lnTo>
                      <a:pt x="17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584600" y="33544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7" y="0"/>
                    </a:moveTo>
                    <a:lnTo>
                      <a:pt x="0" y="5"/>
                    </a:lnTo>
                    <a:lnTo>
                      <a:pt x="20" y="7"/>
                    </a:lnTo>
                    <a:lnTo>
                      <a:pt x="2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4582800" y="33512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19" y="2"/>
                    </a:lnTo>
                    <a:lnTo>
                      <a:pt x="1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4581360" y="33480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" y="7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7" y="9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4579560" y="33465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0"/>
                    </a:moveTo>
                    <a:lnTo>
                      <a:pt x="9" y="7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4579920" y="334332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1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4576320" y="3341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5" y="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6" y="5"/>
                    </a:lnTo>
                    <a:lnTo>
                      <a:pt x="34" y="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4574880" y="33386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" y="0"/>
                    </a:moveTo>
                    <a:lnTo>
                      <a:pt x="0" y="4"/>
                    </a:lnTo>
                    <a:lnTo>
                      <a:pt x="34" y="9"/>
                    </a:lnTo>
                    <a:lnTo>
                      <a:pt x="38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4573440" y="33354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0" y="7"/>
                    </a:lnTo>
                    <a:lnTo>
                      <a:pt x="33" y="12"/>
                    </a:lnTo>
                    <a:lnTo>
                      <a:pt x="3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4572000" y="33336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0"/>
                    </a:moveTo>
                    <a:lnTo>
                      <a:pt x="0" y="7"/>
                    </a:lnTo>
                    <a:lnTo>
                      <a:pt x="35" y="11"/>
                    </a:lnTo>
                    <a:lnTo>
                      <a:pt x="4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4569840" y="3330720"/>
                <a:ext cx="33480" cy="108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0" y="0"/>
                    </a:moveTo>
                    <a:lnTo>
                      <a:pt x="0" y="6"/>
                    </a:lnTo>
                    <a:lnTo>
                      <a:pt x="38" y="13"/>
                    </a:lnTo>
                    <a:lnTo>
                      <a:pt x="4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4568400" y="332748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2" y="0"/>
                    </a:moveTo>
                    <a:lnTo>
                      <a:pt x="0" y="8"/>
                    </a:lnTo>
                    <a:lnTo>
                      <a:pt x="40" y="15"/>
                    </a:lnTo>
                    <a:lnTo>
                      <a:pt x="45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568400" y="3325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2" y="0"/>
                    </a:moveTo>
                    <a:lnTo>
                      <a:pt x="0" y="7"/>
                    </a:lnTo>
                    <a:lnTo>
                      <a:pt x="42" y="13"/>
                    </a:lnTo>
                    <a:lnTo>
                      <a:pt x="4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4566600" y="332424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0" y="5"/>
                    </a:lnTo>
                    <a:lnTo>
                      <a:pt x="43" y="13"/>
                    </a:lnTo>
                    <a:lnTo>
                      <a:pt x="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4563720" y="332100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0"/>
                    </a:moveTo>
                    <a:lnTo>
                      <a:pt x="0" y="4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4562280" y="331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1" y="9"/>
                    </a:lnTo>
                    <a:lnTo>
                      <a:pt x="4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4560840" y="331632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0" y="7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3" y="7"/>
                    </a:lnTo>
                    <a:lnTo>
                      <a:pt x="48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4557240" y="331452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7" y="0"/>
                    </a:moveTo>
                    <a:lnTo>
                      <a:pt x="0" y="4"/>
                    </a:lnTo>
                    <a:lnTo>
                      <a:pt x="51" y="13"/>
                    </a:lnTo>
                    <a:lnTo>
                      <a:pt x="55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4555440" y="331308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4" y="0"/>
                    </a:moveTo>
                    <a:lnTo>
                      <a:pt x="0" y="5"/>
                    </a:lnTo>
                    <a:lnTo>
                      <a:pt x="48" y="12"/>
                    </a:lnTo>
                    <a:lnTo>
                      <a:pt x="53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4555440" y="3311640"/>
                <a:ext cx="41400" cy="792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6" y="0"/>
                    </a:moveTo>
                    <a:lnTo>
                      <a:pt x="0" y="5"/>
                    </a:lnTo>
                    <a:lnTo>
                      <a:pt x="48" y="12"/>
                    </a:lnTo>
                    <a:lnTo>
                      <a:pt x="5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4027680" y="3198960"/>
              <a:ext cx="566640" cy="234720"/>
              <a:chOff x="4027680" y="3198960"/>
              <a:chExt cx="566640" cy="234720"/>
            </a:xfrm>
          </p:grpSpPr>
          <p:sp>
            <p:nvSpPr>
              <p:cNvPr id="1584" name=""/>
              <p:cNvSpPr/>
              <p:nvPr/>
            </p:nvSpPr>
            <p:spPr>
              <a:xfrm flipH="1">
                <a:off x="4554720" y="33084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6" y="0"/>
                    </a:moveTo>
                    <a:lnTo>
                      <a:pt x="0" y="4"/>
                    </a:lnTo>
                    <a:lnTo>
                      <a:pt x="49" y="11"/>
                    </a:lnTo>
                    <a:lnTo>
                      <a:pt x="51" y="7"/>
                    </a:lnTo>
                    <a:lnTo>
                      <a:pt x="34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4554720" y="330660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5"/>
                    </a:moveTo>
                    <a:lnTo>
                      <a:pt x="2" y="0"/>
                    </a:lnTo>
                    <a:lnTo>
                      <a:pt x="47" y="10"/>
                    </a:lnTo>
                    <a:lnTo>
                      <a:pt x="45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4568760" y="330660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3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4459320" y="33908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3"/>
                    </a:moveTo>
                    <a:lnTo>
                      <a:pt x="19" y="4"/>
                    </a:lnTo>
                    <a:lnTo>
                      <a:pt x="19" y="6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4456080" y="33861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25" y="10"/>
                    </a:moveTo>
                    <a:lnTo>
                      <a:pt x="25" y="10"/>
                    </a:lnTo>
                    <a:lnTo>
                      <a:pt x="25" y="9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4456080" y="338148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4" y="13"/>
                    </a:moveTo>
                    <a:lnTo>
                      <a:pt x="35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4456080" y="337968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12"/>
                    </a:moveTo>
                    <a:lnTo>
                      <a:pt x="42" y="10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10" y="4"/>
                    </a:lnTo>
                    <a:lnTo>
                      <a:pt x="15" y="7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4454280" y="337644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53" h="15">
                    <a:moveTo>
                      <a:pt x="49" y="15"/>
                    </a:moveTo>
                    <a:lnTo>
                      <a:pt x="49" y="13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3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49" y="15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4454280" y="33735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9" y="14"/>
                    </a:moveTo>
                    <a:lnTo>
                      <a:pt x="59" y="14"/>
                    </a:lnTo>
                    <a:lnTo>
                      <a:pt x="61" y="13"/>
                    </a:lnTo>
                    <a:lnTo>
                      <a:pt x="63" y="11"/>
                    </a:lnTo>
                    <a:lnTo>
                      <a:pt x="63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4454640" y="33685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8" h="16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3"/>
                    </a:lnTo>
                    <a:lnTo>
                      <a:pt x="18" y="6"/>
                    </a:lnTo>
                    <a:lnTo>
                      <a:pt x="25" y="9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4454640" y="336708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78" y="17"/>
                    </a:lnTo>
                    <a:lnTo>
                      <a:pt x="78" y="14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>
                <a:off x="4454640" y="336384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78" y="18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4454280" y="3362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2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5" y="12"/>
                    </a:lnTo>
                    <a:lnTo>
                      <a:pt x="75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4452840" y="335916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77" h="17">
                    <a:moveTo>
                      <a:pt x="6" y="0"/>
                    </a:move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75" y="17"/>
                    </a:lnTo>
                    <a:lnTo>
                      <a:pt x="75" y="15"/>
                    </a:lnTo>
                    <a:lnTo>
                      <a:pt x="75" y="14"/>
                    </a:lnTo>
                    <a:lnTo>
                      <a:pt x="76" y="12"/>
                    </a:lnTo>
                    <a:lnTo>
                      <a:pt x="77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4452840" y="3357720"/>
                <a:ext cx="58680" cy="1404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6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73" y="17"/>
                    </a:lnTo>
                    <a:lnTo>
                      <a:pt x="74" y="15"/>
                    </a:lnTo>
                    <a:lnTo>
                      <a:pt x="75" y="14"/>
                    </a:lnTo>
                    <a:lnTo>
                      <a:pt x="75" y="11"/>
                    </a:lnTo>
                    <a:lnTo>
                      <a:pt x="75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4453200" y="3355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1" h="1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71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4453200" y="335448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5">
                    <a:moveTo>
                      <a:pt x="7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9" y="15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9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4452840" y="3349800"/>
                <a:ext cx="52200" cy="140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7" y="0"/>
                    </a:moveTo>
                    <a:lnTo>
                      <a:pt x="6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7" y="12"/>
                    </a:lnTo>
                    <a:lnTo>
                      <a:pt x="67" y="11"/>
                    </a:lnTo>
                    <a:lnTo>
                      <a:pt x="6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4449600" y="3348000"/>
                <a:ext cx="52200" cy="1440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4" y="0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4449600" y="33465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5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4449960" y="334476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5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4449960" y="334332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4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4448160" y="3341520"/>
                <a:ext cx="45720" cy="82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8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H="1">
                <a:off x="4446720" y="333684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3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3" y="14"/>
                    </a:lnTo>
                    <a:lnTo>
                      <a:pt x="54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9"/>
                    </a:lnTo>
                    <a:lnTo>
                      <a:pt x="49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4446720" y="333540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2" y="0"/>
                    </a:move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4" y="12"/>
                    </a:lnTo>
                    <a:lnTo>
                      <a:pt x="55" y="12"/>
                    </a:lnTo>
                    <a:lnTo>
                      <a:pt x="49" y="11"/>
                    </a:lnTo>
                    <a:lnTo>
                      <a:pt x="42" y="9"/>
                    </a:lnTo>
                    <a:lnTo>
                      <a:pt x="35" y="7"/>
                    </a:lnTo>
                    <a:lnTo>
                      <a:pt x="28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4454640" y="33336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46" y="11"/>
                    </a:lnTo>
                    <a:lnTo>
                      <a:pt x="38" y="9"/>
                    </a:lnTo>
                    <a:lnTo>
                      <a:pt x="28" y="7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>
                <a:off x="4467240" y="3330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3" y="5"/>
                    </a:lnTo>
                    <a:lnTo>
                      <a:pt x="19" y="7"/>
                    </a:lnTo>
                    <a:lnTo>
                      <a:pt x="26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4480200" y="333072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>
                <a:off x="4395960" y="3373560"/>
                <a:ext cx="38160" cy="61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0"/>
                    </a:moveTo>
                    <a:lnTo>
                      <a:pt x="0" y="7"/>
                    </a:lnTo>
                    <a:lnTo>
                      <a:pt x="29" y="10"/>
                    </a:lnTo>
                    <a:lnTo>
                      <a:pt x="38" y="10"/>
                    </a:lnTo>
                    <a:lnTo>
                      <a:pt x="4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4384440" y="3371760"/>
                <a:ext cx="49320" cy="7920"/>
              </a:xfrm>
              <a:custGeom>
                <a:avLst/>
                <a:gdLst/>
                <a:ahLst/>
                <a:rect l="l" t="t" r="r" b="b"/>
                <a:pathLst>
                  <a:path w="62" h="12">
                    <a:moveTo>
                      <a:pt x="0" y="7"/>
                    </a:moveTo>
                    <a:lnTo>
                      <a:pt x="2" y="0"/>
                    </a:lnTo>
                    <a:lnTo>
                      <a:pt x="22" y="5"/>
                    </a:lnTo>
                    <a:lnTo>
                      <a:pt x="26" y="2"/>
                    </a:lnTo>
                    <a:lnTo>
                      <a:pt x="62" y="7"/>
                    </a:lnTo>
                    <a:lnTo>
                      <a:pt x="38" y="12"/>
                    </a:lnTo>
                    <a:lnTo>
                      <a:pt x="29" y="12"/>
                    </a:lnTo>
                    <a:lnTo>
                      <a:pt x="17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4367160" y="3368520"/>
                <a:ext cx="66600" cy="9720"/>
              </a:xfrm>
              <a:custGeom>
                <a:avLst/>
                <a:gdLst/>
                <a:ahLst/>
                <a:rect l="l" t="t" r="r" b="b"/>
                <a:pathLst>
                  <a:path w="84" h="11">
                    <a:moveTo>
                      <a:pt x="0" y="4"/>
                    </a:moveTo>
                    <a:lnTo>
                      <a:pt x="2" y="2"/>
                    </a:lnTo>
                    <a:lnTo>
                      <a:pt x="22" y="7"/>
                    </a:lnTo>
                    <a:lnTo>
                      <a:pt x="33" y="0"/>
                    </a:lnTo>
                    <a:lnTo>
                      <a:pt x="84" y="9"/>
                    </a:lnTo>
                    <a:lnTo>
                      <a:pt x="65" y="9"/>
                    </a:lnTo>
                    <a:lnTo>
                      <a:pt x="4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>
                <a:off x="4348080" y="3367080"/>
                <a:ext cx="65160" cy="9360"/>
              </a:xfrm>
              <a:custGeom>
                <a:avLst/>
                <a:gdLst/>
                <a:ahLst/>
                <a:rect l="l" t="t" r="r" b="b"/>
                <a:pathLst>
                  <a:path w="81" h="12">
                    <a:moveTo>
                      <a:pt x="0" y="7"/>
                    </a:moveTo>
                    <a:lnTo>
                      <a:pt x="12" y="3"/>
                    </a:lnTo>
                    <a:lnTo>
                      <a:pt x="17" y="0"/>
                    </a:lnTo>
                    <a:lnTo>
                      <a:pt x="81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4330800" y="3363840"/>
                <a:ext cx="76320" cy="126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7"/>
                    </a:moveTo>
                    <a:lnTo>
                      <a:pt x="5" y="7"/>
                    </a:lnTo>
                    <a:lnTo>
                      <a:pt x="20" y="0"/>
                    </a:lnTo>
                    <a:lnTo>
                      <a:pt x="96" y="11"/>
                    </a:lnTo>
                    <a:lnTo>
                      <a:pt x="76" y="14"/>
                    </a:lnTo>
                    <a:lnTo>
                      <a:pt x="51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4314960" y="336240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19" y="0"/>
                    </a:moveTo>
                    <a:lnTo>
                      <a:pt x="0" y="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104" y="13"/>
                    </a:lnTo>
                    <a:lnTo>
                      <a:pt x="107" y="1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4297680" y="3359160"/>
                <a:ext cx="95040" cy="14400"/>
              </a:xfrm>
              <a:custGeom>
                <a:avLst/>
                <a:gdLst/>
                <a:ahLst/>
                <a:rect l="l" t="t" r="r" b="b"/>
                <a:pathLst>
                  <a:path w="119" h="17">
                    <a:moveTo>
                      <a:pt x="18" y="0"/>
                    </a:moveTo>
                    <a:lnTo>
                      <a:pt x="0" y="6"/>
                    </a:lnTo>
                    <a:lnTo>
                      <a:pt x="76" y="17"/>
                    </a:lnTo>
                    <a:lnTo>
                      <a:pt x="94" y="17"/>
                    </a:lnTo>
                    <a:lnTo>
                      <a:pt x="119" y="1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4281840" y="3357720"/>
                <a:ext cx="102960" cy="15840"/>
              </a:xfrm>
              <a:custGeom>
                <a:avLst/>
                <a:gdLst/>
                <a:ahLst/>
                <a:rect l="l" t="t" r="r" b="b"/>
                <a:pathLst>
                  <a:path w="129" h="19">
                    <a:moveTo>
                      <a:pt x="0" y="6"/>
                    </a:moveTo>
                    <a:lnTo>
                      <a:pt x="12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129" y="15"/>
                    </a:lnTo>
                    <a:lnTo>
                      <a:pt x="125" y="15"/>
                    </a:lnTo>
                    <a:lnTo>
                      <a:pt x="88" y="1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4263840" y="3354480"/>
                <a:ext cx="112680" cy="17280"/>
              </a:xfrm>
              <a:custGeom>
                <a:avLst/>
                <a:gdLst/>
                <a:ahLst/>
                <a:rect l="l" t="t" r="r" b="b"/>
                <a:pathLst>
                  <a:path w="143" h="22">
                    <a:moveTo>
                      <a:pt x="0" y="7"/>
                    </a:moveTo>
                    <a:lnTo>
                      <a:pt x="3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143" y="20"/>
                    </a:lnTo>
                    <a:lnTo>
                      <a:pt x="116" y="20"/>
                    </a:lnTo>
                    <a:lnTo>
                      <a:pt x="101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4245120" y="3351240"/>
                <a:ext cx="114480" cy="17280"/>
              </a:xfrm>
              <a:custGeom>
                <a:avLst/>
                <a:gdLst/>
                <a:ahLst/>
                <a:rect l="l" t="t" r="r" b="b"/>
                <a:pathLst>
                  <a:path w="146" h="22">
                    <a:moveTo>
                      <a:pt x="16" y="0"/>
                    </a:moveTo>
                    <a:lnTo>
                      <a:pt x="0" y="7"/>
                    </a:lnTo>
                    <a:lnTo>
                      <a:pt x="98" y="22"/>
                    </a:lnTo>
                    <a:lnTo>
                      <a:pt x="146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4225680" y="3349800"/>
                <a:ext cx="128520" cy="18720"/>
              </a:xfrm>
              <a:custGeom>
                <a:avLst/>
                <a:gdLst/>
                <a:ahLst/>
                <a:rect l="l" t="t" r="r" b="b"/>
                <a:pathLst>
                  <a:path w="163" h="24">
                    <a:moveTo>
                      <a:pt x="0" y="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163" y="19"/>
                    </a:lnTo>
                    <a:lnTo>
                      <a:pt x="155" y="19"/>
                    </a:lnTo>
                    <a:lnTo>
                      <a:pt x="114" y="2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>
                <a:off x="4200480" y="3348000"/>
                <a:ext cx="145800" cy="190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0" y="5"/>
                    </a:moveTo>
                    <a:lnTo>
                      <a:pt x="3" y="3"/>
                    </a:lnTo>
                    <a:lnTo>
                      <a:pt x="32" y="0"/>
                    </a:lnTo>
                    <a:lnTo>
                      <a:pt x="185" y="22"/>
                    </a:lnTo>
                    <a:lnTo>
                      <a:pt x="146" y="22"/>
                    </a:lnTo>
                    <a:lnTo>
                      <a:pt x="130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>
                <a:off x="4173480" y="3346560"/>
                <a:ext cx="161640" cy="19080"/>
              </a:xfrm>
              <a:custGeom>
                <a:avLst/>
                <a:gdLst/>
                <a:ahLst/>
                <a:rect l="l" t="t" r="r" b="b"/>
                <a:pathLst>
                  <a:path w="203" h="24">
                    <a:moveTo>
                      <a:pt x="34" y="0"/>
                    </a:moveTo>
                    <a:lnTo>
                      <a:pt x="0" y="5"/>
                    </a:lnTo>
                    <a:lnTo>
                      <a:pt x="139" y="24"/>
                    </a:lnTo>
                    <a:lnTo>
                      <a:pt x="203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>
                <a:off x="4150080" y="3344760"/>
                <a:ext cx="172800" cy="20880"/>
              </a:xfrm>
              <a:custGeom>
                <a:avLst/>
                <a:gdLst/>
                <a:ahLst/>
                <a:rect l="l" t="t" r="r" b="b"/>
                <a:pathLst>
                  <a:path w="216" h="26">
                    <a:moveTo>
                      <a:pt x="33" y="0"/>
                    </a:moveTo>
                    <a:lnTo>
                      <a:pt x="0" y="4"/>
                    </a:lnTo>
                    <a:lnTo>
                      <a:pt x="153" y="26"/>
                    </a:lnTo>
                    <a:lnTo>
                      <a:pt x="216" y="2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125600" y="3343320"/>
                <a:ext cx="182520" cy="22320"/>
              </a:xfrm>
              <a:custGeom>
                <a:avLst/>
                <a:gdLst/>
                <a:ahLst/>
                <a:rect l="l" t="t" r="r" b="b"/>
                <a:pathLst>
                  <a:path w="230" h="29">
                    <a:moveTo>
                      <a:pt x="33" y="0"/>
                    </a:moveTo>
                    <a:lnTo>
                      <a:pt x="0" y="5"/>
                    </a:lnTo>
                    <a:lnTo>
                      <a:pt x="169" y="29"/>
                    </a:lnTo>
                    <a:lnTo>
                      <a:pt x="23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>
                <a:off x="4086360" y="33415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265" h="38">
                    <a:moveTo>
                      <a:pt x="33" y="0"/>
                    </a:moveTo>
                    <a:lnTo>
                      <a:pt x="0" y="5"/>
                    </a:lnTo>
                    <a:lnTo>
                      <a:pt x="183" y="31"/>
                    </a:lnTo>
                    <a:lnTo>
                      <a:pt x="238" y="31"/>
                    </a:lnTo>
                    <a:lnTo>
                      <a:pt x="260" y="38"/>
                    </a:lnTo>
                    <a:lnTo>
                      <a:pt x="265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4078080" y="3338640"/>
                <a:ext cx="203400" cy="33120"/>
              </a:xfrm>
              <a:custGeom>
                <a:avLst/>
                <a:gdLst/>
                <a:ahLst/>
                <a:rect l="l" t="t" r="r" b="b"/>
                <a:pathLst>
                  <a:path w="257" h="40">
                    <a:moveTo>
                      <a:pt x="34" y="0"/>
                    </a:moveTo>
                    <a:lnTo>
                      <a:pt x="0" y="4"/>
                    </a:lnTo>
                    <a:lnTo>
                      <a:pt x="197" y="33"/>
                    </a:lnTo>
                    <a:lnTo>
                      <a:pt x="221" y="33"/>
                    </a:lnTo>
                    <a:lnTo>
                      <a:pt x="243" y="40"/>
                    </a:lnTo>
                    <a:lnTo>
                      <a:pt x="257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>
                <a:off x="4027680" y="3336840"/>
                <a:ext cx="241200" cy="34920"/>
              </a:xfrm>
              <a:custGeom>
                <a:avLst/>
                <a:gdLst/>
                <a:ahLst/>
                <a:rect l="l" t="t" r="r" b="b"/>
                <a:pathLst>
                  <a:path w="306" h="43">
                    <a:moveTo>
                      <a:pt x="34" y="0"/>
                    </a:moveTo>
                    <a:lnTo>
                      <a:pt x="0" y="5"/>
                    </a:lnTo>
                    <a:lnTo>
                      <a:pt x="232" y="38"/>
                    </a:lnTo>
                    <a:lnTo>
                      <a:pt x="246" y="34"/>
                    </a:lnTo>
                    <a:lnTo>
                      <a:pt x="301" y="43"/>
                    </a:lnTo>
                    <a:lnTo>
                      <a:pt x="306" y="41"/>
                    </a:lnTo>
                    <a:lnTo>
                      <a:pt x="306" y="4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4027320" y="3333600"/>
                <a:ext cx="228600" cy="38160"/>
              </a:xfrm>
              <a:custGeom>
                <a:avLst/>
                <a:gdLst/>
                <a:ahLst/>
                <a:rect l="l" t="t" r="r" b="b"/>
                <a:pathLst>
                  <a:path w="288" h="47">
                    <a:moveTo>
                      <a:pt x="0" y="7"/>
                    </a:moveTo>
                    <a:lnTo>
                      <a:pt x="23" y="2"/>
                    </a:lnTo>
                    <a:lnTo>
                      <a:pt x="27" y="0"/>
                    </a:lnTo>
                    <a:lnTo>
                      <a:pt x="285" y="40"/>
                    </a:lnTo>
                    <a:lnTo>
                      <a:pt x="288" y="45"/>
                    </a:lnTo>
                    <a:lnTo>
                      <a:pt x="283" y="47"/>
                    </a:lnTo>
                    <a:lnTo>
                      <a:pt x="228" y="38"/>
                    </a:lnTo>
                    <a:lnTo>
                      <a:pt x="223" y="4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>
                <a:off x="4027680" y="3330720"/>
                <a:ext cx="216000" cy="37800"/>
              </a:xfrm>
              <a:custGeom>
                <a:avLst/>
                <a:gdLst/>
                <a:ahLst/>
                <a:rect l="l" t="t" r="r" b="b"/>
                <a:pathLst>
                  <a:path w="272" h="49">
                    <a:moveTo>
                      <a:pt x="0" y="8"/>
                    </a:moveTo>
                    <a:lnTo>
                      <a:pt x="7" y="6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269" y="40"/>
                    </a:lnTo>
                    <a:lnTo>
                      <a:pt x="272" y="4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4028760" y="3328920"/>
                <a:ext cx="204840" cy="3672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0" y="6"/>
                    </a:moveTo>
                    <a:lnTo>
                      <a:pt x="6" y="6"/>
                    </a:lnTo>
                    <a:lnTo>
                      <a:pt x="18" y="2"/>
                    </a:lnTo>
                    <a:lnTo>
                      <a:pt x="34" y="0"/>
                    </a:lnTo>
                    <a:lnTo>
                      <a:pt x="256" y="33"/>
                    </a:lnTo>
                    <a:lnTo>
                      <a:pt x="256" y="38"/>
                    </a:lnTo>
                    <a:lnTo>
                      <a:pt x="258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4029120" y="3328920"/>
                <a:ext cx="193680" cy="33480"/>
              </a:xfrm>
              <a:custGeom>
                <a:avLst/>
                <a:gdLst/>
                <a:ahLst/>
                <a:rect l="l" t="t" r="r" b="b"/>
                <a:pathLst>
                  <a:path w="245" h="42">
                    <a:moveTo>
                      <a:pt x="0" y="2"/>
                    </a:moveTo>
                    <a:lnTo>
                      <a:pt x="5" y="2"/>
                    </a:lnTo>
                    <a:lnTo>
                      <a:pt x="40" y="0"/>
                    </a:lnTo>
                    <a:lnTo>
                      <a:pt x="239" y="29"/>
                    </a:lnTo>
                    <a:lnTo>
                      <a:pt x="243" y="38"/>
                    </a:lnTo>
                    <a:lnTo>
                      <a:pt x="245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4030560" y="3327480"/>
                <a:ext cx="176040" cy="28440"/>
              </a:xfrm>
              <a:custGeom>
                <a:avLst/>
                <a:gdLst/>
                <a:ahLst/>
                <a:rect l="l" t="t" r="r" b="b"/>
                <a:pathLst>
                  <a:path w="222" h="35">
                    <a:moveTo>
                      <a:pt x="0" y="2"/>
                    </a:moveTo>
                    <a:lnTo>
                      <a:pt x="33" y="0"/>
                    </a:lnTo>
                    <a:lnTo>
                      <a:pt x="41" y="0"/>
                    </a:lnTo>
                    <a:lnTo>
                      <a:pt x="212" y="26"/>
                    </a:lnTo>
                    <a:lnTo>
                      <a:pt x="218" y="31"/>
                    </a:lnTo>
                    <a:lnTo>
                      <a:pt x="222" y="3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>
                <a:off x="4034160" y="3325680"/>
                <a:ext cx="156960" cy="25560"/>
              </a:xfrm>
              <a:custGeom>
                <a:avLst/>
                <a:gdLst/>
                <a:ahLst/>
                <a:rect l="l" t="t" r="r" b="b"/>
                <a:pathLst>
                  <a:path w="199" h="34">
                    <a:moveTo>
                      <a:pt x="0" y="5"/>
                    </a:moveTo>
                    <a:lnTo>
                      <a:pt x="14" y="3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86" y="22"/>
                    </a:lnTo>
                    <a:lnTo>
                      <a:pt x="199" y="34"/>
                    </a:lnTo>
                    <a:lnTo>
                      <a:pt x="199" y="3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4038480" y="3325680"/>
                <a:ext cx="135000" cy="22320"/>
              </a:xfrm>
              <a:custGeom>
                <a:avLst/>
                <a:gdLst/>
                <a:ahLst/>
                <a:rect l="l" t="t" r="r" b="b"/>
                <a:pathLst>
                  <a:path w="171" h="29">
                    <a:moveTo>
                      <a:pt x="0" y="3"/>
                    </a:moveTo>
                    <a:lnTo>
                      <a:pt x="23" y="0"/>
                    </a:lnTo>
                    <a:lnTo>
                      <a:pt x="61" y="3"/>
                    </a:lnTo>
                    <a:lnTo>
                      <a:pt x="157" y="18"/>
                    </a:lnTo>
                    <a:lnTo>
                      <a:pt x="171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>
                <a:off x="4044600" y="3325680"/>
                <a:ext cx="111240" cy="17640"/>
              </a:xfrm>
              <a:custGeom>
                <a:avLst/>
                <a:gdLst/>
                <a:ahLst/>
                <a:rect l="l" t="t" r="r" b="b"/>
                <a:pathLst>
                  <a:path w="141" h="22">
                    <a:moveTo>
                      <a:pt x="74" y="3"/>
                    </a:moveTo>
                    <a:lnTo>
                      <a:pt x="0" y="0"/>
                    </a:lnTo>
                    <a:lnTo>
                      <a:pt x="141" y="22"/>
                    </a:lnTo>
                    <a:lnTo>
                      <a:pt x="127" y="11"/>
                    </a:lnTo>
                    <a:lnTo>
                      <a:pt x="127" y="11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4049640" y="3327480"/>
                <a:ext cx="75960" cy="111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0"/>
                    </a:moveTo>
                    <a:lnTo>
                      <a:pt x="72" y="0"/>
                    </a:lnTo>
                    <a:lnTo>
                      <a:pt x="89" y="8"/>
                    </a:lnTo>
                    <a:lnTo>
                      <a:pt x="9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4054320" y="3327480"/>
                <a:ext cx="42840" cy="6120"/>
              </a:xfrm>
              <a:custGeom>
                <a:avLst/>
                <a:gdLst/>
                <a:ahLst/>
                <a:rect l="l" t="t" r="r" b="b"/>
                <a:pathLst>
                  <a:path w="53" h="8">
                    <a:moveTo>
                      <a:pt x="0" y="0"/>
                    </a:moveTo>
                    <a:lnTo>
                      <a:pt x="36" y="0"/>
                    </a:lnTo>
                    <a:lnTo>
                      <a:pt x="5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>
                <a:off x="4286160" y="338472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12" y="0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3"/>
                    </a:lnTo>
                    <a:lnTo>
                      <a:pt x="24" y="5"/>
                    </a:lnTo>
                    <a:lnTo>
                      <a:pt x="36" y="6"/>
                    </a:lnTo>
                    <a:lnTo>
                      <a:pt x="48" y="8"/>
                    </a:lnTo>
                    <a:lnTo>
                      <a:pt x="60" y="9"/>
                    </a:lnTo>
                    <a:lnTo>
                      <a:pt x="71" y="11"/>
                    </a:lnTo>
                    <a:lnTo>
                      <a:pt x="84" y="12"/>
                    </a:lnTo>
                    <a:lnTo>
                      <a:pt x="96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>
                <a:off x="4051440" y="342576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5"/>
                    </a:move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8"/>
                    </a:lnTo>
                    <a:lnTo>
                      <a:pt x="29" y="7"/>
                    </a:lnTo>
                    <a:lnTo>
                      <a:pt x="24" y="6"/>
                    </a:lnTo>
                    <a:lnTo>
                      <a:pt x="20" y="5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H="1">
                <a:off x="4195440" y="3381480"/>
                <a:ext cx="165240" cy="2376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33" y="0"/>
                    </a:moveTo>
                    <a:lnTo>
                      <a:pt x="24" y="1"/>
                    </a:lnTo>
                    <a:lnTo>
                      <a:pt x="15" y="2"/>
                    </a:lnTo>
                    <a:lnTo>
                      <a:pt x="7" y="2"/>
                    </a:lnTo>
                    <a:lnTo>
                      <a:pt x="0" y="2"/>
                    </a:lnTo>
                    <a:lnTo>
                      <a:pt x="13" y="5"/>
                    </a:lnTo>
                    <a:lnTo>
                      <a:pt x="27" y="7"/>
                    </a:lnTo>
                    <a:lnTo>
                      <a:pt x="39" y="9"/>
                    </a:lnTo>
                    <a:lnTo>
                      <a:pt x="52" y="10"/>
                    </a:lnTo>
                    <a:lnTo>
                      <a:pt x="66" y="13"/>
                    </a:lnTo>
                    <a:lnTo>
                      <a:pt x="78" y="14"/>
                    </a:lnTo>
                    <a:lnTo>
                      <a:pt x="92" y="15"/>
                    </a:lnTo>
                    <a:lnTo>
                      <a:pt x="105" y="17"/>
                    </a:lnTo>
                    <a:lnTo>
                      <a:pt x="118" y="18"/>
                    </a:lnTo>
                    <a:lnTo>
                      <a:pt x="131" y="19"/>
                    </a:lnTo>
                    <a:lnTo>
                      <a:pt x="144" y="21"/>
                    </a:lnTo>
                    <a:lnTo>
                      <a:pt x="158" y="23"/>
                    </a:lnTo>
                    <a:lnTo>
                      <a:pt x="171" y="24"/>
                    </a:lnTo>
                    <a:lnTo>
                      <a:pt x="183" y="25"/>
                    </a:lnTo>
                    <a:lnTo>
                      <a:pt x="197" y="28"/>
                    </a:lnTo>
                    <a:lnTo>
                      <a:pt x="21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H="1">
                <a:off x="4051440" y="341136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108" h="26">
                    <a:moveTo>
                      <a:pt x="105" y="26"/>
                    </a:moveTo>
                    <a:lnTo>
                      <a:pt x="105" y="24"/>
                    </a:lnTo>
                    <a:lnTo>
                      <a:pt x="106" y="22"/>
                    </a:lnTo>
                    <a:lnTo>
                      <a:pt x="108" y="20"/>
                    </a:lnTo>
                    <a:lnTo>
                      <a:pt x="108" y="17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6" y="6"/>
                    </a:lnTo>
                    <a:lnTo>
                      <a:pt x="38" y="9"/>
                    </a:lnTo>
                    <a:lnTo>
                      <a:pt x="51" y="11"/>
                    </a:lnTo>
                    <a:lnTo>
                      <a:pt x="63" y="15"/>
                    </a:lnTo>
                    <a:lnTo>
                      <a:pt x="75" y="18"/>
                    </a:lnTo>
                    <a:lnTo>
                      <a:pt x="88" y="22"/>
                    </a:lnTo>
                    <a:lnTo>
                      <a:pt x="101" y="26"/>
                    </a:lnTo>
                    <a:lnTo>
                      <a:pt x="105" y="26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>
                <a:off x="4050000" y="3381480"/>
                <a:ext cx="303120" cy="47520"/>
              </a:xfrm>
              <a:custGeom>
                <a:avLst/>
                <a:gdLst/>
                <a:ahLst/>
                <a:rect l="l" t="t" r="r" b="b"/>
                <a:pathLst>
                  <a:path w="381" h="60">
                    <a:moveTo>
                      <a:pt x="42" y="0"/>
                    </a:moveTo>
                    <a:lnTo>
                      <a:pt x="36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6" y="1"/>
                    </a:lnTo>
                    <a:lnTo>
                      <a:pt x="11" y="2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84" y="15"/>
                    </a:lnTo>
                    <a:lnTo>
                      <a:pt x="100" y="16"/>
                    </a:lnTo>
                    <a:lnTo>
                      <a:pt x="116" y="18"/>
                    </a:lnTo>
                    <a:lnTo>
                      <a:pt x="132" y="19"/>
                    </a:lnTo>
                    <a:lnTo>
                      <a:pt x="147" y="22"/>
                    </a:lnTo>
                    <a:lnTo>
                      <a:pt x="163" y="23"/>
                    </a:lnTo>
                    <a:lnTo>
                      <a:pt x="179" y="25"/>
                    </a:lnTo>
                    <a:lnTo>
                      <a:pt x="195" y="28"/>
                    </a:lnTo>
                    <a:lnTo>
                      <a:pt x="212" y="30"/>
                    </a:lnTo>
                    <a:lnTo>
                      <a:pt x="228" y="32"/>
                    </a:lnTo>
                    <a:lnTo>
                      <a:pt x="244" y="34"/>
                    </a:lnTo>
                    <a:lnTo>
                      <a:pt x="259" y="37"/>
                    </a:lnTo>
                    <a:lnTo>
                      <a:pt x="275" y="40"/>
                    </a:lnTo>
                    <a:lnTo>
                      <a:pt x="291" y="44"/>
                    </a:lnTo>
                    <a:lnTo>
                      <a:pt x="307" y="47"/>
                    </a:lnTo>
                    <a:lnTo>
                      <a:pt x="322" y="51"/>
                    </a:lnTo>
                    <a:lnTo>
                      <a:pt x="338" y="55"/>
                    </a:lnTo>
                    <a:lnTo>
                      <a:pt x="379" y="60"/>
                    </a:lnTo>
                    <a:lnTo>
                      <a:pt x="379" y="58"/>
                    </a:lnTo>
                    <a:lnTo>
                      <a:pt x="379" y="55"/>
                    </a:lnTo>
                    <a:lnTo>
                      <a:pt x="380" y="53"/>
                    </a:lnTo>
                    <a:lnTo>
                      <a:pt x="381" y="5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>
                <a:off x="4032360" y="3379680"/>
                <a:ext cx="303120" cy="46080"/>
              </a:xfrm>
              <a:custGeom>
                <a:avLst/>
                <a:gdLst/>
                <a:ahLst/>
                <a:rect l="l" t="t" r="r" b="b"/>
                <a:pathLst>
                  <a:path w="382" h="57">
                    <a:moveTo>
                      <a:pt x="45" y="0"/>
                    </a:moveTo>
                    <a:lnTo>
                      <a:pt x="40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177" y="31"/>
                    </a:lnTo>
                    <a:lnTo>
                      <a:pt x="186" y="32"/>
                    </a:lnTo>
                    <a:lnTo>
                      <a:pt x="196" y="33"/>
                    </a:lnTo>
                    <a:lnTo>
                      <a:pt x="206" y="33"/>
                    </a:lnTo>
                    <a:lnTo>
                      <a:pt x="215" y="34"/>
                    </a:lnTo>
                    <a:lnTo>
                      <a:pt x="224" y="35"/>
                    </a:lnTo>
                    <a:lnTo>
                      <a:pt x="232" y="36"/>
                    </a:lnTo>
                    <a:lnTo>
                      <a:pt x="241" y="39"/>
                    </a:lnTo>
                    <a:lnTo>
                      <a:pt x="250" y="40"/>
                    </a:lnTo>
                    <a:lnTo>
                      <a:pt x="358" y="57"/>
                    </a:lnTo>
                    <a:lnTo>
                      <a:pt x="358" y="55"/>
                    </a:lnTo>
                    <a:lnTo>
                      <a:pt x="359" y="54"/>
                    </a:lnTo>
                    <a:lnTo>
                      <a:pt x="360" y="51"/>
                    </a:lnTo>
                    <a:lnTo>
                      <a:pt x="360" y="50"/>
                    </a:lnTo>
                    <a:lnTo>
                      <a:pt x="366" y="50"/>
                    </a:lnTo>
                    <a:lnTo>
                      <a:pt x="370" y="51"/>
                    </a:lnTo>
                    <a:lnTo>
                      <a:pt x="376" y="53"/>
                    </a:lnTo>
                    <a:lnTo>
                      <a:pt x="382" y="53"/>
                    </a:lnTo>
                    <a:lnTo>
                      <a:pt x="381" y="53"/>
                    </a:lnTo>
                    <a:lnTo>
                      <a:pt x="380" y="51"/>
                    </a:lnTo>
                    <a:lnTo>
                      <a:pt x="378" y="50"/>
                    </a:lnTo>
                    <a:lnTo>
                      <a:pt x="376" y="5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4032360" y="3378240"/>
                <a:ext cx="285840" cy="44280"/>
              </a:xfrm>
              <a:custGeom>
                <a:avLst/>
                <a:gdLst/>
                <a:ahLst/>
                <a:rect l="l" t="t" r="r" b="b"/>
                <a:pathLst>
                  <a:path w="361" h="56">
                    <a:moveTo>
                      <a:pt x="46" y="0"/>
                    </a:moveTo>
                    <a:lnTo>
                      <a:pt x="40" y="1"/>
                    </a:lnTo>
                    <a:lnTo>
                      <a:pt x="35" y="1"/>
                    </a:lnTo>
                    <a:lnTo>
                      <a:pt x="30" y="3"/>
                    </a:lnTo>
                    <a:lnTo>
                      <a:pt x="24" y="3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339" y="56"/>
                    </a:lnTo>
                    <a:lnTo>
                      <a:pt x="339" y="53"/>
                    </a:lnTo>
                    <a:lnTo>
                      <a:pt x="345" y="53"/>
                    </a:lnTo>
                    <a:lnTo>
                      <a:pt x="349" y="54"/>
                    </a:lnTo>
                    <a:lnTo>
                      <a:pt x="355" y="56"/>
                    </a:lnTo>
                    <a:lnTo>
                      <a:pt x="361" y="56"/>
                    </a:lnTo>
                    <a:lnTo>
                      <a:pt x="356" y="53"/>
                    </a:lnTo>
                    <a:lnTo>
                      <a:pt x="352" y="52"/>
                    </a:lnTo>
                    <a:lnTo>
                      <a:pt x="348" y="49"/>
                    </a:lnTo>
                    <a:lnTo>
                      <a:pt x="346" y="4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4037040" y="3378240"/>
                <a:ext cx="262080" cy="42840"/>
              </a:xfrm>
              <a:custGeom>
                <a:avLst/>
                <a:gdLst/>
                <a:ahLst/>
                <a:rect l="l" t="t" r="r" b="b"/>
                <a:pathLst>
                  <a:path w="331" h="53">
                    <a:moveTo>
                      <a:pt x="45" y="0"/>
                    </a:moveTo>
                    <a:lnTo>
                      <a:pt x="40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31" y="53"/>
                    </a:lnTo>
                    <a:lnTo>
                      <a:pt x="326" y="50"/>
                    </a:lnTo>
                    <a:lnTo>
                      <a:pt x="322" y="46"/>
                    </a:lnTo>
                    <a:lnTo>
                      <a:pt x="318" y="44"/>
                    </a:lnTo>
                    <a:lnTo>
                      <a:pt x="315" y="4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>
                <a:off x="4044960" y="3376440"/>
                <a:ext cx="236880" cy="38160"/>
              </a:xfrm>
              <a:custGeom>
                <a:avLst/>
                <a:gdLst/>
                <a:ahLst/>
                <a:rect l="l" t="t" r="r" b="b"/>
                <a:pathLst>
                  <a:path w="300" h="47">
                    <a:moveTo>
                      <a:pt x="45" y="0"/>
                    </a:moveTo>
                    <a:lnTo>
                      <a:pt x="39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300" y="47"/>
                    </a:lnTo>
                    <a:lnTo>
                      <a:pt x="296" y="45"/>
                    </a:lnTo>
                    <a:lnTo>
                      <a:pt x="294" y="43"/>
                    </a:lnTo>
                    <a:lnTo>
                      <a:pt x="292" y="40"/>
                    </a:lnTo>
                    <a:lnTo>
                      <a:pt x="291" y="3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4049640" y="3376440"/>
                <a:ext cx="214200" cy="33480"/>
              </a:xfrm>
              <a:custGeom>
                <a:avLst/>
                <a:gdLst/>
                <a:ahLst/>
                <a:rect l="l" t="t" r="r" b="b"/>
                <a:pathLst>
                  <a:path w="270" h="43">
                    <a:moveTo>
                      <a:pt x="49" y="0"/>
                    </a:moveTo>
                    <a:lnTo>
                      <a:pt x="42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270" y="43"/>
                    </a:lnTo>
                    <a:lnTo>
                      <a:pt x="269" y="39"/>
                    </a:lnTo>
                    <a:lnTo>
                      <a:pt x="266" y="37"/>
                    </a:lnTo>
                    <a:lnTo>
                      <a:pt x="265" y="35"/>
                    </a:lnTo>
                    <a:lnTo>
                      <a:pt x="265" y="3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>
                <a:off x="4051080" y="3375000"/>
                <a:ext cx="195480" cy="31680"/>
              </a:xfrm>
              <a:custGeom>
                <a:avLst/>
                <a:gdLst/>
                <a:ahLst/>
                <a:rect l="l" t="t" r="r" b="b"/>
                <a:pathLst>
                  <a:path w="246" h="40">
                    <a:moveTo>
                      <a:pt x="52" y="0"/>
                    </a:moveTo>
                    <a:lnTo>
                      <a:pt x="46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7" y="2"/>
                    </a:lnTo>
                    <a:lnTo>
                      <a:pt x="0" y="2"/>
                    </a:lnTo>
                    <a:lnTo>
                      <a:pt x="246" y="40"/>
                    </a:lnTo>
                    <a:lnTo>
                      <a:pt x="244" y="37"/>
                    </a:lnTo>
                    <a:lnTo>
                      <a:pt x="243" y="34"/>
                    </a:lnTo>
                    <a:lnTo>
                      <a:pt x="243" y="32"/>
                    </a:lnTo>
                    <a:lnTo>
                      <a:pt x="243" y="2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4053240" y="3375000"/>
                <a:ext cx="172800" cy="27000"/>
              </a:xfrm>
              <a:custGeom>
                <a:avLst/>
                <a:gdLst/>
                <a:ahLst/>
                <a:rect l="l" t="t" r="r" b="b"/>
                <a:pathLst>
                  <a:path w="216" h="33">
                    <a:moveTo>
                      <a:pt x="54" y="0"/>
                    </a:moveTo>
                    <a:lnTo>
                      <a:pt x="48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216" y="33"/>
                    </a:lnTo>
                    <a:lnTo>
                      <a:pt x="216" y="31"/>
                    </a:lnTo>
                    <a:lnTo>
                      <a:pt x="216" y="30"/>
                    </a:lnTo>
                    <a:lnTo>
                      <a:pt x="216" y="27"/>
                    </a:lnTo>
                    <a:lnTo>
                      <a:pt x="216" y="2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>
                <a:off x="4052880" y="3375000"/>
                <a:ext cx="152280" cy="22320"/>
              </a:xfrm>
              <a:custGeom>
                <a:avLst/>
                <a:gdLst/>
                <a:ahLst/>
                <a:rect l="l" t="t" r="r" b="b"/>
                <a:pathLst>
                  <a:path w="191" h="28">
                    <a:moveTo>
                      <a:pt x="67" y="0"/>
                    </a:moveTo>
                    <a:lnTo>
                      <a:pt x="59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91" y="28"/>
                    </a:lnTo>
                    <a:lnTo>
                      <a:pt x="191" y="26"/>
                    </a:lnTo>
                    <a:lnTo>
                      <a:pt x="191" y="25"/>
                    </a:lnTo>
                    <a:lnTo>
                      <a:pt x="191" y="23"/>
                    </a:lnTo>
                    <a:lnTo>
                      <a:pt x="191" y="1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4053240" y="3375000"/>
                <a:ext cx="126720" cy="19080"/>
              </a:xfrm>
              <a:custGeom>
                <a:avLst/>
                <a:gdLst/>
                <a:ahLst/>
                <a:rect l="l" t="t" r="r" b="b"/>
                <a:pathLst>
                  <a:path w="160" h="24">
                    <a:moveTo>
                      <a:pt x="91" y="4"/>
                    </a:moveTo>
                    <a:lnTo>
                      <a:pt x="80" y="3"/>
                    </a:lnTo>
                    <a:lnTo>
                      <a:pt x="68" y="2"/>
                    </a:lnTo>
                    <a:lnTo>
                      <a:pt x="57" y="1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60" y="24"/>
                    </a:lnTo>
                    <a:lnTo>
                      <a:pt x="160" y="22"/>
                    </a:lnTo>
                    <a:lnTo>
                      <a:pt x="160" y="20"/>
                    </a:lnTo>
                    <a:lnTo>
                      <a:pt x="160" y="17"/>
                    </a:lnTo>
                    <a:lnTo>
                      <a:pt x="160" y="14"/>
                    </a:lnTo>
                    <a:lnTo>
                      <a:pt x="91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>
                <a:off x="4052880" y="3375000"/>
                <a:ext cx="99720" cy="15840"/>
              </a:xfrm>
              <a:custGeom>
                <a:avLst/>
                <a:gdLst/>
                <a:ahLst/>
                <a:rect l="l" t="t" r="r" b="b"/>
                <a:pathLst>
                  <a:path w="124" h="19">
                    <a:moveTo>
                      <a:pt x="0" y="0"/>
                    </a:moveTo>
                    <a:lnTo>
                      <a:pt x="15" y="1"/>
                    </a:lnTo>
                    <a:lnTo>
                      <a:pt x="30" y="2"/>
                    </a:lnTo>
                    <a:lnTo>
                      <a:pt x="46" y="3"/>
                    </a:lnTo>
                    <a:lnTo>
                      <a:pt x="61" y="4"/>
                    </a:lnTo>
                    <a:lnTo>
                      <a:pt x="77" y="5"/>
                    </a:lnTo>
                    <a:lnTo>
                      <a:pt x="92" y="8"/>
                    </a:lnTo>
                    <a:lnTo>
                      <a:pt x="108" y="10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6"/>
                    </a:lnTo>
                    <a:lnTo>
                      <a:pt x="124" y="17"/>
                    </a:lnTo>
                    <a:lnTo>
                      <a:pt x="12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>
                <a:off x="4053240" y="337824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8" y="0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4" y="3"/>
                    </a:lnTo>
                    <a:lnTo>
                      <a:pt x="43" y="5"/>
                    </a:lnTo>
                    <a:lnTo>
                      <a:pt x="51" y="6"/>
                    </a:lnTo>
                    <a:lnTo>
                      <a:pt x="60" y="8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402080" y="335448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11" y="0"/>
                    </a:moveTo>
                    <a:lnTo>
                      <a:pt x="8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4" y="6"/>
                    </a:lnTo>
                    <a:lnTo>
                      <a:pt x="3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>
                <a:off x="4387680" y="33498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13" y="0"/>
                    </a:moveTo>
                    <a:lnTo>
                      <a:pt x="9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15" y="11"/>
                    </a:lnTo>
                    <a:lnTo>
                      <a:pt x="19" y="10"/>
                    </a:lnTo>
                    <a:lnTo>
                      <a:pt x="24" y="10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6" y="8"/>
                    </a:lnTo>
                    <a:lnTo>
                      <a:pt x="51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>
                <a:off x="4375440" y="33465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11" y="0"/>
                    </a:move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27" y="14"/>
                    </a:lnTo>
                    <a:lnTo>
                      <a:pt x="35" y="11"/>
                    </a:lnTo>
                    <a:lnTo>
                      <a:pt x="43" y="10"/>
                    </a:lnTo>
                    <a:lnTo>
                      <a:pt x="53" y="8"/>
                    </a:lnTo>
                    <a:lnTo>
                      <a:pt x="61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4360680" y="3343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71" h="16">
                    <a:moveTo>
                      <a:pt x="13" y="0"/>
                    </a:moveTo>
                    <a:lnTo>
                      <a:pt x="9" y="4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38" y="16"/>
                    </a:lnTo>
                    <a:lnTo>
                      <a:pt x="45" y="14"/>
                    </a:lnTo>
                    <a:lnTo>
                      <a:pt x="53" y="13"/>
                    </a:lnTo>
                    <a:lnTo>
                      <a:pt x="62" y="11"/>
                    </a:lnTo>
                    <a:lnTo>
                      <a:pt x="71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351680" y="333864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81" h="16">
                    <a:moveTo>
                      <a:pt x="16" y="0"/>
                    </a:moveTo>
                    <a:lnTo>
                      <a:pt x="13" y="3"/>
                    </a:lnTo>
                    <a:lnTo>
                      <a:pt x="9" y="6"/>
                    </a:lnTo>
                    <a:lnTo>
                      <a:pt x="5" y="7"/>
                    </a:lnTo>
                    <a:lnTo>
                      <a:pt x="0" y="9"/>
                    </a:lnTo>
                    <a:lnTo>
                      <a:pt x="50" y="16"/>
                    </a:lnTo>
                    <a:lnTo>
                      <a:pt x="58" y="15"/>
                    </a:lnTo>
                    <a:lnTo>
                      <a:pt x="66" y="12"/>
                    </a:lnTo>
                    <a:lnTo>
                      <a:pt x="74" y="11"/>
                    </a:lnTo>
                    <a:lnTo>
                      <a:pt x="81" y="1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337280" y="3336840"/>
                <a:ext cx="69840" cy="1296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18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58" y="17"/>
                    </a:lnTo>
                    <a:lnTo>
                      <a:pt x="65" y="14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9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>
                <a:off x="4324680" y="333360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8" h="18">
                    <a:moveTo>
                      <a:pt x="22" y="0"/>
                    </a:moveTo>
                    <a:lnTo>
                      <a:pt x="16" y="1"/>
                    </a:lnTo>
                    <a:lnTo>
                      <a:pt x="12" y="3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65" y="18"/>
                    </a:lnTo>
                    <a:lnTo>
                      <a:pt x="74" y="16"/>
                    </a:lnTo>
                    <a:lnTo>
                      <a:pt x="82" y="15"/>
                    </a:lnTo>
                    <a:lnTo>
                      <a:pt x="90" y="13"/>
                    </a:lnTo>
                    <a:lnTo>
                      <a:pt x="98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4311720" y="3328920"/>
                <a:ext cx="82800" cy="1584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20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71" y="20"/>
                    </a:lnTo>
                    <a:lnTo>
                      <a:pt x="78" y="17"/>
                    </a:lnTo>
                    <a:lnTo>
                      <a:pt x="86" y="16"/>
                    </a:lnTo>
                    <a:lnTo>
                      <a:pt x="94" y="14"/>
                    </a:lnTo>
                    <a:lnTo>
                      <a:pt x="102" y="1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4299120" y="3327480"/>
                <a:ext cx="85680" cy="15840"/>
              </a:xfrm>
              <a:custGeom>
                <a:avLst/>
                <a:gdLst/>
                <a:ahLst/>
                <a:rect l="l" t="t" r="r" b="b"/>
                <a:pathLst>
                  <a:path w="107" h="19">
                    <a:moveTo>
                      <a:pt x="22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76" y="19"/>
                    </a:lnTo>
                    <a:lnTo>
                      <a:pt x="83" y="17"/>
                    </a:lnTo>
                    <a:lnTo>
                      <a:pt x="91" y="16"/>
                    </a:lnTo>
                    <a:lnTo>
                      <a:pt x="99" y="14"/>
                    </a:lnTo>
                    <a:lnTo>
                      <a:pt x="107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4287600" y="3324240"/>
                <a:ext cx="88920" cy="14400"/>
              </a:xfrm>
              <a:custGeom>
                <a:avLst/>
                <a:gdLst/>
                <a:ahLst/>
                <a:rect l="l" t="t" r="r" b="b"/>
                <a:pathLst>
                  <a:path w="112" h="20">
                    <a:moveTo>
                      <a:pt x="27" y="0"/>
                    </a:moveTo>
                    <a:lnTo>
                      <a:pt x="20" y="1"/>
                    </a:lnTo>
                    <a:lnTo>
                      <a:pt x="14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82" y="20"/>
                    </a:lnTo>
                    <a:lnTo>
                      <a:pt x="89" y="20"/>
                    </a:lnTo>
                    <a:lnTo>
                      <a:pt x="97" y="19"/>
                    </a:lnTo>
                    <a:lnTo>
                      <a:pt x="105" y="16"/>
                    </a:lnTo>
                    <a:lnTo>
                      <a:pt x="112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4275360" y="3321000"/>
                <a:ext cx="92160" cy="15840"/>
              </a:xfrm>
              <a:custGeom>
                <a:avLst/>
                <a:gdLst/>
                <a:ahLst/>
                <a:rect l="l" t="t" r="r" b="b"/>
                <a:pathLst>
                  <a:path w="116" h="19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85" y="19"/>
                    </a:lnTo>
                    <a:lnTo>
                      <a:pt x="92" y="17"/>
                    </a:lnTo>
                    <a:lnTo>
                      <a:pt x="101" y="16"/>
                    </a:lnTo>
                    <a:lnTo>
                      <a:pt x="110" y="14"/>
                    </a:lnTo>
                    <a:lnTo>
                      <a:pt x="116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>
                <a:off x="4262760" y="3317760"/>
                <a:ext cx="93600" cy="17640"/>
              </a:xfrm>
              <a:custGeom>
                <a:avLst/>
                <a:gdLst/>
                <a:ahLst/>
                <a:rect l="l" t="t" r="r" b="b"/>
                <a:pathLst>
                  <a:path w="119" h="22">
                    <a:moveTo>
                      <a:pt x="26" y="0"/>
                    </a:moveTo>
                    <a:lnTo>
                      <a:pt x="18" y="1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85" y="22"/>
                    </a:lnTo>
                    <a:lnTo>
                      <a:pt x="94" y="20"/>
                    </a:lnTo>
                    <a:lnTo>
                      <a:pt x="102" y="18"/>
                    </a:lnTo>
                    <a:lnTo>
                      <a:pt x="111" y="16"/>
                    </a:lnTo>
                    <a:lnTo>
                      <a:pt x="119" y="1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>
                <a:off x="4248000" y="3316320"/>
                <a:ext cx="98280" cy="14400"/>
              </a:xfrm>
              <a:custGeom>
                <a:avLst/>
                <a:gdLst/>
                <a:ahLst/>
                <a:rect l="l" t="t" r="r" b="b"/>
                <a:pathLst>
                  <a:path w="125" h="18">
                    <a:moveTo>
                      <a:pt x="29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9" y="5"/>
                    </a:lnTo>
                    <a:lnTo>
                      <a:pt x="0" y="7"/>
                    </a:lnTo>
                    <a:lnTo>
                      <a:pt x="91" y="18"/>
                    </a:lnTo>
                    <a:lnTo>
                      <a:pt x="100" y="17"/>
                    </a:lnTo>
                    <a:lnTo>
                      <a:pt x="109" y="16"/>
                    </a:lnTo>
                    <a:lnTo>
                      <a:pt x="117" y="15"/>
                    </a:lnTo>
                    <a:lnTo>
                      <a:pt x="125" y="1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4235400" y="3313080"/>
                <a:ext cx="99720" cy="15840"/>
              </a:xfrm>
              <a:custGeom>
                <a:avLst/>
                <a:gdLst/>
                <a:ahLst/>
                <a:rect l="l" t="t" r="r" b="b"/>
                <a:pathLst>
                  <a:path w="126" h="21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3" y="21"/>
                    </a:lnTo>
                    <a:lnTo>
                      <a:pt x="102" y="19"/>
                    </a:lnTo>
                    <a:lnTo>
                      <a:pt x="110" y="18"/>
                    </a:lnTo>
                    <a:lnTo>
                      <a:pt x="118" y="15"/>
                    </a:lnTo>
                    <a:lnTo>
                      <a:pt x="126" y="1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4221000" y="3311640"/>
                <a:ext cx="103320" cy="15840"/>
              </a:xfrm>
              <a:custGeom>
                <a:avLst/>
                <a:gdLst/>
                <a:ahLst/>
                <a:rect l="l" t="t" r="r" b="b"/>
                <a:pathLst>
                  <a:path w="129" h="21">
                    <a:moveTo>
                      <a:pt x="31" y="0"/>
                    </a:moveTo>
                    <a:lnTo>
                      <a:pt x="23" y="1"/>
                    </a:lnTo>
                    <a:lnTo>
                      <a:pt x="15" y="3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6" y="21"/>
                    </a:lnTo>
                    <a:lnTo>
                      <a:pt x="105" y="18"/>
                    </a:lnTo>
                    <a:lnTo>
                      <a:pt x="113" y="17"/>
                    </a:lnTo>
                    <a:lnTo>
                      <a:pt x="122" y="15"/>
                    </a:lnTo>
                    <a:lnTo>
                      <a:pt x="129" y="1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>
                <a:off x="4206600" y="3306600"/>
                <a:ext cx="104760" cy="17640"/>
              </a:xfrm>
              <a:custGeom>
                <a:avLst/>
                <a:gdLst/>
                <a:ahLst/>
                <a:rect l="l" t="t" r="r" b="b"/>
                <a:pathLst>
                  <a:path w="133" h="21">
                    <a:moveTo>
                      <a:pt x="30" y="0"/>
                    </a:moveTo>
                    <a:lnTo>
                      <a:pt x="23" y="2"/>
                    </a:lnTo>
                    <a:lnTo>
                      <a:pt x="16" y="4"/>
                    </a:lnTo>
                    <a:lnTo>
                      <a:pt x="8" y="5"/>
                    </a:lnTo>
                    <a:lnTo>
                      <a:pt x="0" y="7"/>
                    </a:lnTo>
                    <a:lnTo>
                      <a:pt x="97" y="21"/>
                    </a:lnTo>
                    <a:lnTo>
                      <a:pt x="102" y="20"/>
                    </a:lnTo>
                    <a:lnTo>
                      <a:pt x="106" y="20"/>
                    </a:lnTo>
                    <a:lnTo>
                      <a:pt x="111" y="19"/>
                    </a:lnTo>
                    <a:lnTo>
                      <a:pt x="115" y="19"/>
                    </a:lnTo>
                    <a:lnTo>
                      <a:pt x="120" y="19"/>
                    </a:lnTo>
                    <a:lnTo>
                      <a:pt x="124" y="18"/>
                    </a:lnTo>
                    <a:lnTo>
                      <a:pt x="128" y="18"/>
                    </a:lnTo>
                    <a:lnTo>
                      <a:pt x="133" y="1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4191120" y="3305160"/>
                <a:ext cx="108000" cy="1584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31" y="0"/>
                    </a:moveTo>
                    <a:lnTo>
                      <a:pt x="25" y="1"/>
                    </a:lnTo>
                    <a:lnTo>
                      <a:pt x="16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8" y="21"/>
                    </a:lnTo>
                    <a:lnTo>
                      <a:pt x="103" y="20"/>
                    </a:lnTo>
                    <a:lnTo>
                      <a:pt x="109" y="20"/>
                    </a:lnTo>
                    <a:lnTo>
                      <a:pt x="113" y="19"/>
                    </a:lnTo>
                    <a:lnTo>
                      <a:pt x="118" y="17"/>
                    </a:lnTo>
                    <a:lnTo>
                      <a:pt x="123" y="17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6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4173480" y="3301920"/>
                <a:ext cx="114120" cy="17640"/>
              </a:xfrm>
              <a:custGeom>
                <a:avLst/>
                <a:gdLst/>
                <a:ahLst/>
                <a:rect l="l" t="t" r="r" b="b"/>
                <a:pathLst>
                  <a:path w="144" h="22">
                    <a:moveTo>
                      <a:pt x="34" y="0"/>
                    </a:moveTo>
                    <a:lnTo>
                      <a:pt x="27" y="2"/>
                    </a:lnTo>
                    <a:lnTo>
                      <a:pt x="19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03" y="22"/>
                    </a:lnTo>
                    <a:lnTo>
                      <a:pt x="109" y="20"/>
                    </a:lnTo>
                    <a:lnTo>
                      <a:pt x="114" y="20"/>
                    </a:lnTo>
                    <a:lnTo>
                      <a:pt x="119" y="19"/>
                    </a:lnTo>
                    <a:lnTo>
                      <a:pt x="125" y="18"/>
                    </a:lnTo>
                    <a:lnTo>
                      <a:pt x="129" y="18"/>
                    </a:lnTo>
                    <a:lnTo>
                      <a:pt x="135" y="17"/>
                    </a:lnTo>
                    <a:lnTo>
                      <a:pt x="140" y="17"/>
                    </a:lnTo>
                    <a:lnTo>
                      <a:pt x="144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4154400" y="3300480"/>
                <a:ext cx="120600" cy="17280"/>
              </a:xfrm>
              <a:custGeom>
                <a:avLst/>
                <a:gdLst/>
                <a:ahLst/>
                <a:rect l="l" t="t" r="r" b="b"/>
                <a:pathLst>
                  <a:path w="153" h="22">
                    <a:moveTo>
                      <a:pt x="34" y="0"/>
                    </a:moveTo>
                    <a:lnTo>
                      <a:pt x="27" y="0"/>
                    </a:lnTo>
                    <a:lnTo>
                      <a:pt x="18" y="1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105" y="22"/>
                    </a:lnTo>
                    <a:lnTo>
                      <a:pt x="111" y="21"/>
                    </a:lnTo>
                    <a:lnTo>
                      <a:pt x="117" y="21"/>
                    </a:lnTo>
                    <a:lnTo>
                      <a:pt x="123" y="20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1" y="18"/>
                    </a:lnTo>
                    <a:lnTo>
                      <a:pt x="147" y="18"/>
                    </a:lnTo>
                    <a:lnTo>
                      <a:pt x="153" y="18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4128840" y="3297240"/>
                <a:ext cx="133560" cy="19080"/>
              </a:xfrm>
              <a:custGeom>
                <a:avLst/>
                <a:gdLst/>
                <a:ahLst/>
                <a:rect l="l" t="t" r="r" b="b"/>
                <a:pathLst>
                  <a:path w="167" h="24">
                    <a:moveTo>
                      <a:pt x="35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10" y="24"/>
                    </a:lnTo>
                    <a:lnTo>
                      <a:pt x="117" y="23"/>
                    </a:lnTo>
                    <a:lnTo>
                      <a:pt x="124" y="23"/>
                    </a:lnTo>
                    <a:lnTo>
                      <a:pt x="131" y="22"/>
                    </a:lnTo>
                    <a:lnTo>
                      <a:pt x="139" y="22"/>
                    </a:lnTo>
                    <a:lnTo>
                      <a:pt x="146" y="22"/>
                    </a:lnTo>
                    <a:lnTo>
                      <a:pt x="153" y="22"/>
                    </a:lnTo>
                    <a:lnTo>
                      <a:pt x="160" y="22"/>
                    </a:lnTo>
                    <a:lnTo>
                      <a:pt x="167" y="2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4092840" y="3295800"/>
                <a:ext cx="155520" cy="20520"/>
              </a:xfrm>
              <a:custGeom>
                <a:avLst/>
                <a:gdLst/>
                <a:ahLst/>
                <a:rect l="l" t="t" r="r" b="b"/>
                <a:pathLst>
                  <a:path w="197" h="27">
                    <a:moveTo>
                      <a:pt x="36" y="0"/>
                    </a:moveTo>
                    <a:lnTo>
                      <a:pt x="31" y="2"/>
                    </a:lnTo>
                    <a:lnTo>
                      <a:pt x="28" y="2"/>
                    </a:lnTo>
                    <a:lnTo>
                      <a:pt x="23" y="3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19" y="25"/>
                    </a:lnTo>
                    <a:lnTo>
                      <a:pt x="129" y="23"/>
                    </a:lnTo>
                    <a:lnTo>
                      <a:pt x="139" y="23"/>
                    </a:lnTo>
                    <a:lnTo>
                      <a:pt x="150" y="23"/>
                    </a:lnTo>
                    <a:lnTo>
                      <a:pt x="160" y="23"/>
                    </a:lnTo>
                    <a:lnTo>
                      <a:pt x="169" y="23"/>
                    </a:lnTo>
                    <a:lnTo>
                      <a:pt x="178" y="25"/>
                    </a:lnTo>
                    <a:lnTo>
                      <a:pt x="188" y="26"/>
                    </a:lnTo>
                    <a:lnTo>
                      <a:pt x="197" y="27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92" y="25"/>
                    </a:lnTo>
                    <a:lnTo>
                      <a:pt x="192" y="2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4092840" y="3294000"/>
                <a:ext cx="141120" cy="22320"/>
              </a:xfrm>
              <a:custGeom>
                <a:avLst/>
                <a:gdLst/>
                <a:ahLst/>
                <a:rect l="l" t="t" r="r" b="b"/>
                <a:pathLst>
                  <a:path w="179" h="29">
                    <a:moveTo>
                      <a:pt x="36" y="0"/>
                    </a:moveTo>
                    <a:lnTo>
                      <a:pt x="31" y="1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32" y="27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7" y="27"/>
                    </a:lnTo>
                    <a:lnTo>
                      <a:pt x="163" y="27"/>
                    </a:lnTo>
                    <a:lnTo>
                      <a:pt x="169" y="28"/>
                    </a:lnTo>
                    <a:lnTo>
                      <a:pt x="173" y="28"/>
                    </a:lnTo>
                    <a:lnTo>
                      <a:pt x="179" y="29"/>
                    </a:lnTo>
                    <a:lnTo>
                      <a:pt x="175" y="27"/>
                    </a:lnTo>
                    <a:lnTo>
                      <a:pt x="171" y="24"/>
                    </a:lnTo>
                    <a:lnTo>
                      <a:pt x="166" y="22"/>
                    </a:lnTo>
                    <a:lnTo>
                      <a:pt x="163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4096080" y="3290760"/>
                <a:ext cx="123840" cy="2376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35" y="0"/>
                    </a:moveTo>
                    <a:lnTo>
                      <a:pt x="32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156" y="29"/>
                    </a:lnTo>
                    <a:lnTo>
                      <a:pt x="152" y="25"/>
                    </a:lnTo>
                    <a:lnTo>
                      <a:pt x="146" y="22"/>
                    </a:lnTo>
                    <a:lnTo>
                      <a:pt x="141" y="18"/>
                    </a:lnTo>
                    <a:lnTo>
                      <a:pt x="136" y="1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4105440" y="328788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36" y="0"/>
                    </a:moveTo>
                    <a:lnTo>
                      <a:pt x="31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27" y="27"/>
                    </a:lnTo>
                    <a:lnTo>
                      <a:pt x="123" y="23"/>
                    </a:lnTo>
                    <a:lnTo>
                      <a:pt x="119" y="19"/>
                    </a:lnTo>
                    <a:lnTo>
                      <a:pt x="114" y="15"/>
                    </a:lnTo>
                    <a:lnTo>
                      <a:pt x="111" y="1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4111920" y="328608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101" h="21">
                    <a:moveTo>
                      <a:pt x="38" y="0"/>
                    </a:moveTo>
                    <a:lnTo>
                      <a:pt x="34" y="1"/>
                    </a:lnTo>
                    <a:lnTo>
                      <a:pt x="29" y="1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01" y="21"/>
                    </a:lnTo>
                    <a:lnTo>
                      <a:pt x="97" y="17"/>
                    </a:lnTo>
                    <a:lnTo>
                      <a:pt x="94" y="14"/>
                    </a:lnTo>
                    <a:lnTo>
                      <a:pt x="89" y="10"/>
                    </a:lnTo>
                    <a:lnTo>
                      <a:pt x="86" y="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4117680" y="328464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35" y="0"/>
                    </a:moveTo>
                    <a:lnTo>
                      <a:pt x="32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19" y="2"/>
                    </a:lnTo>
                    <a:lnTo>
                      <a:pt x="15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75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4124160" y="32828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36" y="0"/>
                    </a:move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7"/>
                    </a:lnTo>
                    <a:lnTo>
                      <a:pt x="46" y="6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4123080" y="327816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34" h="11">
                    <a:moveTo>
                      <a:pt x="0" y="7"/>
                    </a:moveTo>
                    <a:lnTo>
                      <a:pt x="11" y="4"/>
                    </a:lnTo>
                    <a:lnTo>
                      <a:pt x="20" y="3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3" y="3"/>
                    </a:lnTo>
                    <a:lnTo>
                      <a:pt x="32" y="5"/>
                    </a:lnTo>
                    <a:lnTo>
                      <a:pt x="30" y="8"/>
                    </a:lnTo>
                    <a:lnTo>
                      <a:pt x="29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4123080" y="32781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4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4414680" y="33354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1" y="0"/>
                    </a:moveTo>
                    <a:lnTo>
                      <a:pt x="0" y="9"/>
                    </a:lnTo>
                    <a:lnTo>
                      <a:pt x="26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4403520" y="33307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2" y="0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3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4394520" y="332748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0" y="10"/>
                    </a:moveTo>
                    <a:lnTo>
                      <a:pt x="8" y="2"/>
                    </a:lnTo>
                    <a:lnTo>
                      <a:pt x="13" y="0"/>
                    </a:lnTo>
                    <a:lnTo>
                      <a:pt x="42" y="2"/>
                    </a:lnTo>
                    <a:lnTo>
                      <a:pt x="39" y="4"/>
                    </a:lnTo>
                    <a:lnTo>
                      <a:pt x="15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4375080" y="33242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0" y="9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43" y="5"/>
                    </a:lnTo>
                    <a:lnTo>
                      <a:pt x="31" y="9"/>
                    </a:lnTo>
                    <a:lnTo>
                      <a:pt x="21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4368960" y="3319560"/>
                <a:ext cx="47520" cy="936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9"/>
                    </a:moveTo>
                    <a:lnTo>
                      <a:pt x="7" y="2"/>
                    </a:lnTo>
                    <a:lnTo>
                      <a:pt x="11" y="0"/>
                    </a:lnTo>
                    <a:lnTo>
                      <a:pt x="60" y="6"/>
                    </a:lnTo>
                    <a:lnTo>
                      <a:pt x="52" y="11"/>
                    </a:lnTo>
                    <a:lnTo>
                      <a:pt x="38" y="9"/>
                    </a:lnTo>
                    <a:lnTo>
                      <a:pt x="29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4363920" y="3316320"/>
                <a:ext cx="49320" cy="12600"/>
              </a:xfrm>
              <a:custGeom>
                <a:avLst/>
                <a:gdLst/>
                <a:ahLst/>
                <a:rect l="l" t="t" r="r" b="b"/>
                <a:pathLst>
                  <a:path w="63" h="16">
                    <a:moveTo>
                      <a:pt x="0" y="9"/>
                    </a:moveTo>
                    <a:lnTo>
                      <a:pt x="3" y="7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63" y="7"/>
                    </a:lnTo>
                    <a:lnTo>
                      <a:pt x="48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4353120" y="331308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0" y="10"/>
                    </a:moveTo>
                    <a:lnTo>
                      <a:pt x="10" y="5"/>
                    </a:lnTo>
                    <a:lnTo>
                      <a:pt x="20" y="0"/>
                    </a:lnTo>
                    <a:lnTo>
                      <a:pt x="70" y="7"/>
                    </a:lnTo>
                    <a:lnTo>
                      <a:pt x="58" y="10"/>
                    </a:lnTo>
                    <a:lnTo>
                      <a:pt x="49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4337280" y="330840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79" h="16">
                    <a:moveTo>
                      <a:pt x="19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79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4321440" y="33066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90" h="14">
                    <a:moveTo>
                      <a:pt x="0" y="7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90" y="10"/>
                    </a:lnTo>
                    <a:lnTo>
                      <a:pt x="90" y="10"/>
                    </a:lnTo>
                    <a:lnTo>
                      <a:pt x="5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4317840" y="3301920"/>
                <a:ext cx="66600" cy="14400"/>
              </a:xfrm>
              <a:custGeom>
                <a:avLst/>
                <a:gdLst/>
                <a:ahLst/>
                <a:rect l="l" t="t" r="r" b="b"/>
                <a:pathLst>
                  <a:path w="83" h="17">
                    <a:moveTo>
                      <a:pt x="0" y="8"/>
                    </a:moveTo>
                    <a:lnTo>
                      <a:pt x="5" y="5"/>
                    </a:lnTo>
                    <a:lnTo>
                      <a:pt x="14" y="5"/>
                    </a:lnTo>
                    <a:lnTo>
                      <a:pt x="27" y="0"/>
                    </a:lnTo>
                    <a:lnTo>
                      <a:pt x="83" y="10"/>
                    </a:lnTo>
                    <a:lnTo>
                      <a:pt x="81" y="15"/>
                    </a:lnTo>
                    <a:lnTo>
                      <a:pt x="60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4316760" y="329868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20" y="0"/>
                    </a:moveTo>
                    <a:lnTo>
                      <a:pt x="0" y="10"/>
                    </a:lnTo>
                    <a:lnTo>
                      <a:pt x="65" y="20"/>
                    </a:lnTo>
                    <a:lnTo>
                      <a:pt x="69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4308120" y="3295800"/>
                <a:ext cx="55800" cy="158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18" y="0"/>
                    </a:moveTo>
                    <a:lnTo>
                      <a:pt x="0" y="10"/>
                    </a:lnTo>
                    <a:lnTo>
                      <a:pt x="56" y="20"/>
                    </a:lnTo>
                    <a:lnTo>
                      <a:pt x="58" y="13"/>
                    </a:lnTo>
                    <a:lnTo>
                      <a:pt x="69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4298760" y="3290760"/>
                <a:ext cx="57240" cy="14400"/>
              </a:xfrm>
              <a:custGeom>
                <a:avLst/>
                <a:gdLst/>
                <a:ahLst/>
                <a:rect l="l" t="t" r="r" b="b"/>
                <a:pathLst>
                  <a:path w="71" h="17">
                    <a:moveTo>
                      <a:pt x="20" y="0"/>
                    </a:moveTo>
                    <a:lnTo>
                      <a:pt x="0" y="9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62" y="11"/>
                    </a:lnTo>
                    <a:lnTo>
                      <a:pt x="71" y="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4287960" y="328932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6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53" y="13"/>
                    </a:lnTo>
                    <a:lnTo>
                      <a:pt x="51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4280040" y="328608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7"/>
                    </a:moveTo>
                    <a:lnTo>
                      <a:pt x="6" y="5"/>
                    </a:lnTo>
                    <a:lnTo>
                      <a:pt x="13" y="0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61" y="14"/>
                    </a:lnTo>
                    <a:lnTo>
                      <a:pt x="51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4268520" y="3282840"/>
                <a:ext cx="66600" cy="1296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0" y="10"/>
                    </a:moveTo>
                    <a:lnTo>
                      <a:pt x="10" y="3"/>
                    </a:lnTo>
                    <a:lnTo>
                      <a:pt x="14" y="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70" y="14"/>
                    </a:lnTo>
                    <a:lnTo>
                      <a:pt x="59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4255920" y="327816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4" h="18">
                    <a:moveTo>
                      <a:pt x="0" y="9"/>
                    </a:moveTo>
                    <a:lnTo>
                      <a:pt x="3" y="7"/>
                    </a:lnTo>
                    <a:lnTo>
                      <a:pt x="19" y="0"/>
                    </a:lnTo>
                    <a:lnTo>
                      <a:pt x="94" y="11"/>
                    </a:lnTo>
                    <a:lnTo>
                      <a:pt x="76" y="14"/>
                    </a:lnTo>
                    <a:lnTo>
                      <a:pt x="63" y="1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4244760" y="3276720"/>
                <a:ext cx="79560" cy="1260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7"/>
                    </a:moveTo>
                    <a:lnTo>
                      <a:pt x="12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101" y="10"/>
                    </a:lnTo>
                    <a:lnTo>
                      <a:pt x="87" y="14"/>
                    </a:lnTo>
                    <a:lnTo>
                      <a:pt x="6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4233600" y="3271680"/>
                <a:ext cx="81000" cy="16200"/>
              </a:xfrm>
              <a:custGeom>
                <a:avLst/>
                <a:gdLst/>
                <a:ahLst/>
                <a:rect l="l" t="t" r="r" b="b"/>
                <a:pathLst>
                  <a:path w="102" h="19">
                    <a:moveTo>
                      <a:pt x="0" y="8"/>
                    </a:moveTo>
                    <a:lnTo>
                      <a:pt x="0" y="8"/>
                    </a:lnTo>
                    <a:lnTo>
                      <a:pt x="22" y="5"/>
                    </a:lnTo>
                    <a:lnTo>
                      <a:pt x="31" y="0"/>
                    </a:lnTo>
                    <a:lnTo>
                      <a:pt x="102" y="12"/>
                    </a:lnTo>
                    <a:lnTo>
                      <a:pt x="75" y="19"/>
                    </a:lnTo>
                    <a:lnTo>
                      <a:pt x="75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4221360" y="3268800"/>
                <a:ext cx="76320" cy="1584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22" y="0"/>
                    </a:moveTo>
                    <a:lnTo>
                      <a:pt x="0" y="10"/>
                    </a:lnTo>
                    <a:lnTo>
                      <a:pt x="67" y="20"/>
                    </a:lnTo>
                    <a:lnTo>
                      <a:pt x="9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4209840" y="32670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100" h="19">
                    <a:moveTo>
                      <a:pt x="0" y="7"/>
                    </a:moveTo>
                    <a:lnTo>
                      <a:pt x="15" y="2"/>
                    </a:lnTo>
                    <a:lnTo>
                      <a:pt x="22" y="0"/>
                    </a:lnTo>
                    <a:lnTo>
                      <a:pt x="100" y="12"/>
                    </a:lnTo>
                    <a:lnTo>
                      <a:pt x="71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4198680" y="3263760"/>
                <a:ext cx="81000" cy="1440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0" y="7"/>
                    </a:moveTo>
                    <a:lnTo>
                      <a:pt x="2" y="7"/>
                    </a:lnTo>
                    <a:lnTo>
                      <a:pt x="13" y="2"/>
                    </a:lnTo>
                    <a:lnTo>
                      <a:pt x="23" y="0"/>
                    </a:lnTo>
                    <a:lnTo>
                      <a:pt x="102" y="12"/>
                    </a:lnTo>
                    <a:lnTo>
                      <a:pt x="73" y="2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4186440" y="3260880"/>
                <a:ext cx="87120" cy="158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7"/>
                    </a:moveTo>
                    <a:lnTo>
                      <a:pt x="4" y="4"/>
                    </a:lnTo>
                    <a:lnTo>
                      <a:pt x="29" y="0"/>
                    </a:lnTo>
                    <a:lnTo>
                      <a:pt x="109" y="11"/>
                    </a:lnTo>
                    <a:lnTo>
                      <a:pt x="78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4185000" y="32576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98" h="19">
                    <a:moveTo>
                      <a:pt x="0" y="7"/>
                    </a:moveTo>
                    <a:lnTo>
                      <a:pt x="19" y="2"/>
                    </a:lnTo>
                    <a:lnTo>
                      <a:pt x="28" y="0"/>
                    </a:lnTo>
                    <a:lnTo>
                      <a:pt x="73" y="7"/>
                    </a:lnTo>
                    <a:lnTo>
                      <a:pt x="71" y="12"/>
                    </a:lnTo>
                    <a:lnTo>
                      <a:pt x="98" y="14"/>
                    </a:lnTo>
                    <a:lnTo>
                      <a:pt x="79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4185000" y="325584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83" h="18">
                    <a:moveTo>
                      <a:pt x="0" y="7"/>
                    </a:moveTo>
                    <a:lnTo>
                      <a:pt x="4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58" y="4"/>
                    </a:lnTo>
                    <a:lnTo>
                      <a:pt x="56" y="14"/>
                    </a:lnTo>
                    <a:lnTo>
                      <a:pt x="83" y="16"/>
                    </a:lnTo>
                    <a:lnTo>
                      <a:pt x="80" y="1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4200480" y="325296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13" y="5"/>
                    </a:lnTo>
                    <a:lnTo>
                      <a:pt x="25" y="0"/>
                    </a:lnTo>
                    <a:lnTo>
                      <a:pt x="49" y="3"/>
                    </a:lnTo>
                    <a:lnTo>
                      <a:pt x="4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4189680" y="3247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25" y="0"/>
                    </a:moveTo>
                    <a:lnTo>
                      <a:pt x="0" y="10"/>
                    </a:lnTo>
                    <a:lnTo>
                      <a:pt x="32" y="14"/>
                    </a:lnTo>
                    <a:lnTo>
                      <a:pt x="36" y="8"/>
                    </a:lnTo>
                    <a:lnTo>
                      <a:pt x="50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4179600" y="324648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26" y="0"/>
                    </a:moveTo>
                    <a:lnTo>
                      <a:pt x="0" y="8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49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4172040" y="324648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3"/>
                    </a:moveTo>
                    <a:lnTo>
                      <a:pt x="15" y="0"/>
                    </a:lnTo>
                    <a:lnTo>
                      <a:pt x="47" y="0"/>
                    </a:lnTo>
                    <a:lnTo>
                      <a:pt x="25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4171680" y="324648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34" h="3">
                    <a:moveTo>
                      <a:pt x="0" y="0"/>
                    </a:moveTo>
                    <a:lnTo>
                      <a:pt x="2" y="0"/>
                    </a:lnTo>
                    <a:lnTo>
                      <a:pt x="34" y="0"/>
                    </a:lnTo>
                    <a:lnTo>
                      <a:pt x="2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4434120" y="33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7" h="15">
                    <a:moveTo>
                      <a:pt x="22" y="15"/>
                    </a:moveTo>
                    <a:lnTo>
                      <a:pt x="16" y="10"/>
                    </a:lnTo>
                    <a:lnTo>
                      <a:pt x="10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7" y="7"/>
                    </a:lnTo>
                    <a:lnTo>
                      <a:pt x="40" y="9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4422600" y="331632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14" y="14"/>
                    </a:moveTo>
                    <a:lnTo>
                      <a:pt x="10" y="11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62" y="7"/>
                    </a:lnTo>
                    <a:lnTo>
                      <a:pt x="53" y="10"/>
                    </a:lnTo>
                    <a:lnTo>
                      <a:pt x="45" y="13"/>
                    </a:lnTo>
                    <a:lnTo>
                      <a:pt x="38" y="15"/>
                    </a:lnTo>
                    <a:lnTo>
                      <a:pt x="31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4413600" y="331164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12" y="0"/>
                    </a:moveTo>
                    <a:lnTo>
                      <a:pt x="8" y="3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45" y="21"/>
                    </a:lnTo>
                    <a:lnTo>
                      <a:pt x="51" y="17"/>
                    </a:lnTo>
                    <a:lnTo>
                      <a:pt x="58" y="15"/>
                    </a:lnTo>
                    <a:lnTo>
                      <a:pt x="65" y="13"/>
                    </a:lnTo>
                    <a:lnTo>
                      <a:pt x="71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4402440" y="330660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15" y="0"/>
                    </a:move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55" y="19"/>
                    </a:lnTo>
                    <a:lnTo>
                      <a:pt x="61" y="17"/>
                    </a:lnTo>
                    <a:lnTo>
                      <a:pt x="66" y="14"/>
                    </a:lnTo>
                    <a:lnTo>
                      <a:pt x="73" y="12"/>
                    </a:lnTo>
                    <a:lnTo>
                      <a:pt x="8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4392720" y="3300480"/>
                <a:ext cx="68400" cy="1728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15" y="0"/>
                    </a:moveTo>
                    <a:lnTo>
                      <a:pt x="11" y="5"/>
                    </a:lnTo>
                    <a:lnTo>
                      <a:pt x="8" y="8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59" y="22"/>
                    </a:lnTo>
                    <a:lnTo>
                      <a:pt x="66" y="20"/>
                    </a:lnTo>
                    <a:lnTo>
                      <a:pt x="72" y="18"/>
                    </a:lnTo>
                    <a:lnTo>
                      <a:pt x="79" y="15"/>
                    </a:lnTo>
                    <a:lnTo>
                      <a:pt x="86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4383360" y="3295800"/>
                <a:ext cx="71280" cy="18720"/>
              </a:xfrm>
              <a:custGeom>
                <a:avLst/>
                <a:gdLst/>
                <a:ahLst/>
                <a:rect l="l" t="t" r="r" b="b"/>
                <a:pathLst>
                  <a:path w="90" h="25">
                    <a:moveTo>
                      <a:pt x="13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65" y="25"/>
                    </a:lnTo>
                    <a:lnTo>
                      <a:pt x="71" y="21"/>
                    </a:lnTo>
                    <a:lnTo>
                      <a:pt x="77" y="19"/>
                    </a:lnTo>
                    <a:lnTo>
                      <a:pt x="83" y="17"/>
                    </a:lnTo>
                    <a:lnTo>
                      <a:pt x="9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4373640" y="3290760"/>
                <a:ext cx="74880" cy="20880"/>
              </a:xfrm>
              <a:custGeom>
                <a:avLst/>
                <a:gdLst/>
                <a:ahLst/>
                <a:rect l="l" t="t" r="r" b="b"/>
                <a:pathLst>
                  <a:path w="94" h="24">
                    <a:moveTo>
                      <a:pt x="11" y="0"/>
                    </a:moveTo>
                    <a:lnTo>
                      <a:pt x="9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71" y="24"/>
                    </a:lnTo>
                    <a:lnTo>
                      <a:pt x="77" y="21"/>
                    </a:lnTo>
                    <a:lnTo>
                      <a:pt x="81" y="17"/>
                    </a:lnTo>
                    <a:lnTo>
                      <a:pt x="87" y="14"/>
                    </a:lnTo>
                    <a:lnTo>
                      <a:pt x="9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4364280" y="3286080"/>
                <a:ext cx="79200" cy="19080"/>
              </a:xfrm>
              <a:custGeom>
                <a:avLst/>
                <a:gdLst/>
                <a:ahLst/>
                <a:rect l="l" t="t" r="r" b="b"/>
                <a:pathLst>
                  <a:path w="101" h="24">
                    <a:moveTo>
                      <a:pt x="12" y="0"/>
                    </a:moveTo>
                    <a:lnTo>
                      <a:pt x="9" y="3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77" y="24"/>
                    </a:lnTo>
                    <a:lnTo>
                      <a:pt x="82" y="22"/>
                    </a:lnTo>
                    <a:lnTo>
                      <a:pt x="87" y="18"/>
                    </a:lnTo>
                    <a:lnTo>
                      <a:pt x="94" y="15"/>
                    </a:lnTo>
                    <a:lnTo>
                      <a:pt x="101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4356000" y="3279600"/>
                <a:ext cx="82440" cy="2088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14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83" y="25"/>
                    </a:lnTo>
                    <a:lnTo>
                      <a:pt x="89" y="22"/>
                    </a:lnTo>
                    <a:lnTo>
                      <a:pt x="95" y="20"/>
                    </a:lnTo>
                    <a:lnTo>
                      <a:pt x="99" y="17"/>
                    </a:lnTo>
                    <a:lnTo>
                      <a:pt x="105" y="14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4346280" y="3276720"/>
                <a:ext cx="87480" cy="19080"/>
              </a:xfrm>
              <a:custGeom>
                <a:avLst/>
                <a:gdLst/>
                <a:ahLst/>
                <a:rect l="l" t="t" r="r" b="b"/>
                <a:pathLst>
                  <a:path w="109" h="23">
                    <a:moveTo>
                      <a:pt x="0" y="12"/>
                    </a:move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0" y="0"/>
                    </a:lnTo>
                    <a:lnTo>
                      <a:pt x="109" y="14"/>
                    </a:lnTo>
                    <a:lnTo>
                      <a:pt x="105" y="17"/>
                    </a:lnTo>
                    <a:lnTo>
                      <a:pt x="99" y="19"/>
                    </a:lnTo>
                    <a:lnTo>
                      <a:pt x="94" y="21"/>
                    </a:lnTo>
                    <a:lnTo>
                      <a:pt x="89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4337280" y="327024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13"/>
                    </a:moveTo>
                    <a:lnTo>
                      <a:pt x="0" y="15"/>
                    </a:lnTo>
                    <a:lnTo>
                      <a:pt x="85" y="27"/>
                    </a:lnTo>
                    <a:lnTo>
                      <a:pt x="92" y="25"/>
                    </a:lnTo>
                    <a:lnTo>
                      <a:pt x="98" y="22"/>
                    </a:lnTo>
                    <a:lnTo>
                      <a:pt x="103" y="19"/>
                    </a:lnTo>
                    <a:lnTo>
                      <a:pt x="109" y="15"/>
                    </a:lnTo>
                    <a:lnTo>
                      <a:pt x="13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4422960" y="327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4424400" y="327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4422960" y="327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4327560" y="3267000"/>
                <a:ext cx="90720" cy="20880"/>
              </a:xfrm>
              <a:custGeom>
                <a:avLst/>
                <a:gdLst/>
                <a:ahLst/>
                <a:rect l="l" t="t" r="r" b="b"/>
                <a:pathLst>
                  <a:path w="114" h="26">
                    <a:moveTo>
                      <a:pt x="16" y="0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89" y="26"/>
                    </a:lnTo>
                    <a:lnTo>
                      <a:pt x="95" y="23"/>
                    </a:lnTo>
                    <a:lnTo>
                      <a:pt x="101" y="20"/>
                    </a:lnTo>
                    <a:lnTo>
                      <a:pt x="107" y="18"/>
                    </a:lnTo>
                    <a:lnTo>
                      <a:pt x="114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4321440" y="3260880"/>
                <a:ext cx="92160" cy="21960"/>
              </a:xfrm>
              <a:custGeom>
                <a:avLst/>
                <a:gdLst/>
                <a:ahLst/>
                <a:rect l="l" t="t" r="r" b="b"/>
                <a:pathLst>
                  <a:path w="117" h="26">
                    <a:moveTo>
                      <a:pt x="17" y="0"/>
                    </a:moveTo>
                    <a:lnTo>
                      <a:pt x="13" y="3"/>
                    </a:lnTo>
                    <a:lnTo>
                      <a:pt x="10" y="7"/>
                    </a:lnTo>
                    <a:lnTo>
                      <a:pt x="5" y="9"/>
                    </a:lnTo>
                    <a:lnTo>
                      <a:pt x="0" y="11"/>
                    </a:lnTo>
                    <a:lnTo>
                      <a:pt x="96" y="26"/>
                    </a:lnTo>
                    <a:lnTo>
                      <a:pt x="102" y="24"/>
                    </a:lnTo>
                    <a:lnTo>
                      <a:pt x="106" y="22"/>
                    </a:lnTo>
                    <a:lnTo>
                      <a:pt x="112" y="18"/>
                    </a:lnTo>
                    <a:lnTo>
                      <a:pt x="117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4310280" y="3257640"/>
                <a:ext cx="95040" cy="20520"/>
              </a:xfrm>
              <a:custGeom>
                <a:avLst/>
                <a:gdLst/>
                <a:ahLst/>
                <a:rect l="l" t="t" r="r" b="b"/>
                <a:pathLst>
                  <a:path w="120" h="27">
                    <a:moveTo>
                      <a:pt x="15" y="0"/>
                    </a:moveTo>
                    <a:lnTo>
                      <a:pt x="11" y="2"/>
                    </a:lnTo>
                    <a:lnTo>
                      <a:pt x="8" y="5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98" y="27"/>
                    </a:lnTo>
                    <a:lnTo>
                      <a:pt x="103" y="23"/>
                    </a:lnTo>
                    <a:lnTo>
                      <a:pt x="108" y="20"/>
                    </a:lnTo>
                    <a:lnTo>
                      <a:pt x="114" y="17"/>
                    </a:lnTo>
                    <a:lnTo>
                      <a:pt x="120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4300560" y="325296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7" y="0"/>
                    </a:moveTo>
                    <a:lnTo>
                      <a:pt x="12" y="4"/>
                    </a:lnTo>
                    <a:lnTo>
                      <a:pt x="8" y="7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00" y="28"/>
                    </a:lnTo>
                    <a:lnTo>
                      <a:pt x="107" y="24"/>
                    </a:lnTo>
                    <a:lnTo>
                      <a:pt x="114" y="21"/>
                    </a:lnTo>
                    <a:lnTo>
                      <a:pt x="118" y="19"/>
                    </a:lnTo>
                    <a:lnTo>
                      <a:pt x="124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4292280" y="3246480"/>
                <a:ext cx="101880" cy="22320"/>
              </a:xfrm>
              <a:custGeom>
                <a:avLst/>
                <a:gdLst/>
                <a:ahLst/>
                <a:rect l="l" t="t" r="r" b="b"/>
                <a:pathLst>
                  <a:path w="128" h="29">
                    <a:moveTo>
                      <a:pt x="16" y="0"/>
                    </a:moveTo>
                    <a:lnTo>
                      <a:pt x="12" y="5"/>
                    </a:lnTo>
                    <a:lnTo>
                      <a:pt x="8" y="8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105" y="29"/>
                    </a:lnTo>
                    <a:lnTo>
                      <a:pt x="110" y="27"/>
                    </a:lnTo>
                    <a:lnTo>
                      <a:pt x="116" y="24"/>
                    </a:lnTo>
                    <a:lnTo>
                      <a:pt x="122" y="22"/>
                    </a:lnTo>
                    <a:lnTo>
                      <a:pt x="128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4281480" y="3241800"/>
                <a:ext cx="104760" cy="2376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14" y="0"/>
                    </a:moveTo>
                    <a:lnTo>
                      <a:pt x="10" y="3"/>
                    </a:lnTo>
                    <a:lnTo>
                      <a:pt x="7" y="5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107" y="28"/>
                    </a:lnTo>
                    <a:lnTo>
                      <a:pt x="113" y="25"/>
                    </a:lnTo>
                    <a:lnTo>
                      <a:pt x="119" y="23"/>
                    </a:lnTo>
                    <a:lnTo>
                      <a:pt x="125" y="20"/>
                    </a:lnTo>
                    <a:lnTo>
                      <a:pt x="131" y="17"/>
                    </a:lnTo>
                    <a:lnTo>
                      <a:pt x="36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7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4273560" y="3236760"/>
                <a:ext cx="108000" cy="24120"/>
              </a:xfrm>
              <a:custGeom>
                <a:avLst/>
                <a:gdLst/>
                <a:ahLst/>
                <a:rect l="l" t="t" r="r" b="b"/>
                <a:pathLst>
                  <a:path w="136" h="31">
                    <a:moveTo>
                      <a:pt x="17" y="0"/>
                    </a:moveTo>
                    <a:lnTo>
                      <a:pt x="11" y="3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112" y="31"/>
                    </a:lnTo>
                    <a:lnTo>
                      <a:pt x="117" y="27"/>
                    </a:lnTo>
                    <a:lnTo>
                      <a:pt x="124" y="24"/>
                    </a:lnTo>
                    <a:lnTo>
                      <a:pt x="130" y="22"/>
                    </a:lnTo>
                    <a:lnTo>
                      <a:pt x="136" y="19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29" y="9"/>
                    </a:lnTo>
                    <a:lnTo>
                      <a:pt x="32" y="7"/>
                    </a:lnTo>
                    <a:lnTo>
                      <a:pt x="36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4263840" y="3235320"/>
                <a:ext cx="88920" cy="20520"/>
              </a:xfrm>
              <a:custGeom>
                <a:avLst/>
                <a:gdLst/>
                <a:ahLst/>
                <a:rect l="l" t="t" r="r" b="b"/>
                <a:pathLst>
                  <a:path w="111" h="27">
                    <a:moveTo>
                      <a:pt x="0" y="10"/>
                    </a:moveTo>
                    <a:lnTo>
                      <a:pt x="0" y="14"/>
                    </a:lnTo>
                    <a:lnTo>
                      <a:pt x="88" y="27"/>
                    </a:lnTo>
                    <a:lnTo>
                      <a:pt x="94" y="25"/>
                    </a:lnTo>
                    <a:lnTo>
                      <a:pt x="100" y="22"/>
                    </a:lnTo>
                    <a:lnTo>
                      <a:pt x="106" y="19"/>
                    </a:lnTo>
                    <a:lnTo>
                      <a:pt x="111" y="17"/>
                    </a:lnTo>
                    <a:lnTo>
                      <a:pt x="97" y="14"/>
                    </a:lnTo>
                    <a:lnTo>
                      <a:pt x="94" y="14"/>
                    </a:lnTo>
                    <a:lnTo>
                      <a:pt x="91" y="15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6" y="17"/>
                    </a:lnTo>
                    <a:lnTo>
                      <a:pt x="88" y="15"/>
                    </a:lnTo>
                    <a:lnTo>
                      <a:pt x="91" y="13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38" y="5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4348080" y="3233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4353120" y="32338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9"/>
                    </a:moveTo>
                    <a:lnTo>
                      <a:pt x="29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2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7" y="10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4352760" y="32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4251600" y="3230640"/>
                <a:ext cx="93600" cy="22320"/>
              </a:xfrm>
              <a:custGeom>
                <a:avLst/>
                <a:gdLst/>
                <a:ahLst/>
                <a:rect l="l" t="t" r="r" b="b"/>
                <a:pathLst>
                  <a:path w="117" h="26">
                    <a:moveTo>
                      <a:pt x="0" y="9"/>
                    </a:moveTo>
                    <a:lnTo>
                      <a:pt x="0" y="11"/>
                    </a:lnTo>
                    <a:lnTo>
                      <a:pt x="91" y="26"/>
                    </a:lnTo>
                    <a:lnTo>
                      <a:pt x="98" y="23"/>
                    </a:lnTo>
                    <a:lnTo>
                      <a:pt x="103" y="19"/>
                    </a:lnTo>
                    <a:lnTo>
                      <a:pt x="110" y="17"/>
                    </a:lnTo>
                    <a:lnTo>
                      <a:pt x="117" y="14"/>
                    </a:lnTo>
                    <a:lnTo>
                      <a:pt x="110" y="14"/>
                    </a:lnTo>
                    <a:lnTo>
                      <a:pt x="106" y="14"/>
                    </a:lnTo>
                    <a:lnTo>
                      <a:pt x="101" y="15"/>
                    </a:lnTo>
                    <a:lnTo>
                      <a:pt x="95" y="15"/>
                    </a:lnTo>
                    <a:lnTo>
                      <a:pt x="91" y="16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8" y="19"/>
                    </a:lnTo>
                    <a:lnTo>
                      <a:pt x="75" y="21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82" y="17"/>
                    </a:lnTo>
                    <a:lnTo>
                      <a:pt x="84" y="16"/>
                    </a:lnTo>
                    <a:lnTo>
                      <a:pt x="84" y="15"/>
                    </a:lnTo>
                    <a:lnTo>
                      <a:pt x="84" y="14"/>
                    </a:lnTo>
                    <a:lnTo>
                      <a:pt x="84" y="11"/>
                    </a:lnTo>
                    <a:lnTo>
                      <a:pt x="84" y="9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1" y="4"/>
                    </a:lnTo>
                    <a:lnTo>
                      <a:pt x="33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4340160" y="32288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4345200" y="32274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5"/>
                    </a:moveTo>
                    <a:lnTo>
                      <a:pt x="28" y="2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4" y="8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4345200" y="32385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4251240" y="324180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2"/>
                    </a:moveTo>
                    <a:lnTo>
                      <a:pt x="0" y="4"/>
                    </a:lnTo>
                    <a:lnTo>
                      <a:pt x="11" y="7"/>
                    </a:lnTo>
                    <a:lnTo>
                      <a:pt x="15" y="4"/>
                    </a:lnTo>
                    <a:lnTo>
                      <a:pt x="19" y="3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4270680" y="3235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4273560" y="3228840"/>
                <a:ext cx="43200" cy="144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7"/>
                    </a:moveTo>
                    <a:lnTo>
                      <a:pt x="56" y="7"/>
                    </a:lnTo>
                    <a:lnTo>
                      <a:pt x="20" y="0"/>
                    </a:lnTo>
                    <a:lnTo>
                      <a:pt x="15" y="4"/>
                    </a:lnTo>
                    <a:lnTo>
                      <a:pt x="10" y="6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2" y="10"/>
                    </a:lnTo>
                    <a:lnTo>
                      <a:pt x="55" y="9"/>
                    </a:lnTo>
                    <a:lnTo>
                      <a:pt x="56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4273200" y="3243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431028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4316400" y="32259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9"/>
                    </a:moveTo>
                    <a:lnTo>
                      <a:pt x="25" y="2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6" y="16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23" y="10"/>
                    </a:lnTo>
                    <a:lnTo>
                      <a:pt x="25" y="9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4316400" y="32367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4330800" y="32259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4337280" y="32241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4"/>
                    </a:moveTo>
                    <a:lnTo>
                      <a:pt x="31" y="2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0" y="11"/>
                    </a:lnTo>
                    <a:lnTo>
                      <a:pt x="16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4336920" y="3233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4263840" y="322596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0" y="9"/>
                    </a:moveTo>
                    <a:lnTo>
                      <a:pt x="0" y="11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40" y="13"/>
                    </a:lnTo>
                    <a:lnTo>
                      <a:pt x="45" y="10"/>
                    </a:lnTo>
                    <a:lnTo>
                      <a:pt x="50" y="8"/>
                    </a:lnTo>
                    <a:lnTo>
                      <a:pt x="5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430560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4251240" y="32418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4307040" y="32227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5"/>
                    </a:moveTo>
                    <a:lnTo>
                      <a:pt x="29" y="3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2" y="11"/>
                    </a:lnTo>
                    <a:lnTo>
                      <a:pt x="26" y="8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4306680" y="3233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4325760" y="3219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4329360" y="32176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9"/>
                    </a:moveTo>
                    <a:lnTo>
                      <a:pt x="31" y="3"/>
                    </a:lnTo>
                    <a:lnTo>
                      <a:pt x="18" y="0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0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8" y="12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4329000" y="32288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4255920" y="322272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9"/>
                    </a:moveTo>
                    <a:lnTo>
                      <a:pt x="0" y="12"/>
                    </a:lnTo>
                    <a:lnTo>
                      <a:pt x="36" y="16"/>
                    </a:lnTo>
                    <a:lnTo>
                      <a:pt x="40" y="13"/>
                    </a:lnTo>
                    <a:lnTo>
                      <a:pt x="44" y="9"/>
                    </a:lnTo>
                    <a:lnTo>
                      <a:pt x="50" y="7"/>
                    </a:lnTo>
                    <a:lnTo>
                      <a:pt x="56" y="5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4297680" y="3217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4299120" y="32176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3"/>
                    </a:moveTo>
                    <a:lnTo>
                      <a:pt x="28" y="0"/>
                    </a:lnTo>
                    <a:lnTo>
                      <a:pt x="15" y="0"/>
                    </a:lnTo>
                    <a:lnTo>
                      <a:pt x="10" y="3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5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4299120" y="3228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4317840" y="321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4322520" y="321300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34" y="4"/>
                    </a:moveTo>
                    <a:lnTo>
                      <a:pt x="34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30" y="8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4322520" y="32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4248000" y="321624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1"/>
                    </a:moveTo>
                    <a:lnTo>
                      <a:pt x="0" y="13"/>
                    </a:lnTo>
                    <a:lnTo>
                      <a:pt x="35" y="17"/>
                    </a:lnTo>
                    <a:lnTo>
                      <a:pt x="40" y="15"/>
                    </a:lnTo>
                    <a:lnTo>
                      <a:pt x="45" y="13"/>
                    </a:lnTo>
                    <a:lnTo>
                      <a:pt x="49" y="9"/>
                    </a:lnTo>
                    <a:lnTo>
                      <a:pt x="55" y="5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4291200" y="321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4292280" y="3211560"/>
                <a:ext cx="24120" cy="1260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32" y="2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6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5" y="15"/>
                    </a:lnTo>
                    <a:lnTo>
                      <a:pt x="20" y="12"/>
                    </a:lnTo>
                    <a:lnTo>
                      <a:pt x="25" y="9"/>
                    </a:lnTo>
                    <a:lnTo>
                      <a:pt x="28" y="6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4292280" y="3224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4314600" y="3209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4316760" y="32083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5"/>
                    </a:moveTo>
                    <a:lnTo>
                      <a:pt x="29" y="2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18" y="14"/>
                    </a:lnTo>
                    <a:lnTo>
                      <a:pt x="21" y="11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4316760" y="3219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4243680" y="3211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0" y="9"/>
                    </a:moveTo>
                    <a:lnTo>
                      <a:pt x="0" y="12"/>
                    </a:lnTo>
                    <a:lnTo>
                      <a:pt x="34" y="17"/>
                    </a:lnTo>
                    <a:lnTo>
                      <a:pt x="37" y="13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50" y="4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4"/>
                    </a:lnTo>
                    <a:lnTo>
                      <a:pt x="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4279680" y="3209760"/>
                <a:ext cx="1800" cy="1800"/>
              </a:xfrm>
              <a:prstGeom prst="rect">
                <a:avLst/>
              </a:pr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4281840" y="3208320"/>
                <a:ext cx="26640" cy="1116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3" y="2"/>
                    </a:moveTo>
                    <a:lnTo>
                      <a:pt x="33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4281840" y="3219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4307040" y="3205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4308120" y="320508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31" y="3"/>
                    </a:moveTo>
                    <a:lnTo>
                      <a:pt x="31" y="0"/>
                    </a:lnTo>
                    <a:lnTo>
                      <a:pt x="20" y="0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2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7"/>
                    </a:lnTo>
                    <a:lnTo>
                      <a:pt x="27" y="5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4308120" y="3216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4303800" y="319896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2" y="0"/>
                    </a:moveTo>
                    <a:lnTo>
                      <a:pt x="16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20" y="1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4237200" y="3132360"/>
              <a:ext cx="640800" cy="178920"/>
              <a:chOff x="4237200" y="3132360"/>
              <a:chExt cx="640800" cy="178920"/>
            </a:xfrm>
          </p:grpSpPr>
          <p:sp>
            <p:nvSpPr>
              <p:cNvPr id="1785" name=""/>
              <p:cNvSpPr/>
              <p:nvPr/>
            </p:nvSpPr>
            <p:spPr>
              <a:xfrm flipH="1">
                <a:off x="4275000" y="3203640"/>
                <a:ext cx="24840" cy="900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22" y="0"/>
                    </a:moveTo>
                    <a:lnTo>
                      <a:pt x="16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20" y="10"/>
                    </a:lnTo>
                    <a:lnTo>
                      <a:pt x="25" y="8"/>
                    </a:lnTo>
                    <a:lnTo>
                      <a:pt x="30" y="6"/>
                    </a:lnTo>
                    <a:lnTo>
                      <a:pt x="3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4237200" y="3211560"/>
                <a:ext cx="36000" cy="756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6"/>
                    </a:moveTo>
                    <a:lnTo>
                      <a:pt x="6" y="5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5" y="2"/>
                    </a:lnTo>
                    <a:lnTo>
                      <a:pt x="41" y="5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4297680" y="319572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11"/>
                    </a:moveTo>
                    <a:lnTo>
                      <a:pt x="6" y="8"/>
                    </a:lnTo>
                    <a:lnTo>
                      <a:pt x="13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4267440" y="319896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24" y="0"/>
                    </a:moveTo>
                    <a:lnTo>
                      <a:pt x="19" y="3"/>
                    </a:lnTo>
                    <a:lnTo>
                      <a:pt x="13" y="5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5" y="14"/>
                    </a:lnTo>
                    <a:lnTo>
                      <a:pt x="20" y="11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4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4237200" y="3209760"/>
                <a:ext cx="25200" cy="612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3"/>
                    </a:moveTo>
                    <a:lnTo>
                      <a:pt x="8" y="1"/>
                    </a:lnTo>
                    <a:lnTo>
                      <a:pt x="16" y="0"/>
                    </a:lnTo>
                    <a:lnTo>
                      <a:pt x="24" y="1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4297320" y="3195720"/>
                <a:ext cx="1044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4260600" y="31957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5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7" y="7"/>
                    </a:lnTo>
                    <a:lnTo>
                      <a:pt x="0" y="9"/>
                    </a:lnTo>
                    <a:lnTo>
                      <a:pt x="11" y="11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3"/>
                    </a:lnTo>
                    <a:lnTo>
                      <a:pt x="3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4256280" y="319392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6"/>
                    </a:moveTo>
                    <a:lnTo>
                      <a:pt x="6" y="4"/>
                    </a:lnTo>
                    <a:lnTo>
                      <a:pt x="11" y="3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4255920" y="319392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4646880" y="3270240"/>
                <a:ext cx="59760" cy="1872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60" y="25"/>
                    </a:moveTo>
                    <a:lnTo>
                      <a:pt x="54" y="20"/>
                    </a:lnTo>
                    <a:lnTo>
                      <a:pt x="49" y="15"/>
                    </a:lnTo>
                    <a:lnTo>
                      <a:pt x="45" y="13"/>
                    </a:lnTo>
                    <a:lnTo>
                      <a:pt x="40" y="11"/>
                    </a:lnTo>
                    <a:lnTo>
                      <a:pt x="35" y="8"/>
                    </a:lnTo>
                    <a:lnTo>
                      <a:pt x="31" y="8"/>
                    </a:lnTo>
                    <a:lnTo>
                      <a:pt x="24" y="10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71" y="13"/>
                    </a:lnTo>
                    <a:lnTo>
                      <a:pt x="71" y="15"/>
                    </a:lnTo>
                    <a:lnTo>
                      <a:pt x="73" y="18"/>
                    </a:lnTo>
                    <a:lnTo>
                      <a:pt x="75" y="20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5" y="25"/>
                    </a:lnTo>
                    <a:lnTo>
                      <a:pt x="62" y="25"/>
                    </a:lnTo>
                    <a:lnTo>
                      <a:pt x="60" y="2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4570560" y="32893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4646880" y="3260880"/>
                <a:ext cx="75600" cy="26640"/>
              </a:xfrm>
              <a:custGeom>
                <a:avLst/>
                <a:gdLst/>
                <a:ahLst/>
                <a:rect l="l" t="t" r="r" b="b"/>
                <a:pathLst>
                  <a:path w="96" h="33">
                    <a:moveTo>
                      <a:pt x="74" y="29"/>
                    </a:moveTo>
                    <a:lnTo>
                      <a:pt x="69" y="26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9" y="21"/>
                    </a:lnTo>
                    <a:lnTo>
                      <a:pt x="54" y="19"/>
                    </a:lnTo>
                    <a:lnTo>
                      <a:pt x="49" y="19"/>
                    </a:lnTo>
                    <a:lnTo>
                      <a:pt x="45" y="21"/>
                    </a:lnTo>
                    <a:lnTo>
                      <a:pt x="38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2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90" y="14"/>
                    </a:lnTo>
                    <a:lnTo>
                      <a:pt x="90" y="19"/>
                    </a:lnTo>
                    <a:lnTo>
                      <a:pt x="91" y="24"/>
                    </a:lnTo>
                    <a:lnTo>
                      <a:pt x="93" y="29"/>
                    </a:lnTo>
                    <a:lnTo>
                      <a:pt x="96" y="33"/>
                    </a:lnTo>
                    <a:lnTo>
                      <a:pt x="74" y="29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4568760" y="32828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1" y="3"/>
                    </a:moveTo>
                    <a:lnTo>
                      <a:pt x="21" y="6"/>
                    </a:lnTo>
                    <a:lnTo>
                      <a:pt x="19" y="10"/>
                    </a:lnTo>
                    <a:lnTo>
                      <a:pt x="17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9" y="15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4629240" y="3273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4629240" y="3252960"/>
                <a:ext cx="110880" cy="26280"/>
              </a:xfrm>
              <a:custGeom>
                <a:avLst/>
                <a:gdLst/>
                <a:ahLst/>
                <a:rect l="l" t="t" r="r" b="b"/>
                <a:pathLst>
                  <a:path w="141" h="36">
                    <a:moveTo>
                      <a:pt x="0" y="0"/>
                    </a:moveTo>
                    <a:lnTo>
                      <a:pt x="6" y="3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2" y="12"/>
                    </a:lnTo>
                    <a:lnTo>
                      <a:pt x="26" y="15"/>
                    </a:lnTo>
                    <a:lnTo>
                      <a:pt x="32" y="18"/>
                    </a:lnTo>
                    <a:lnTo>
                      <a:pt x="37" y="21"/>
                    </a:lnTo>
                    <a:lnTo>
                      <a:pt x="43" y="23"/>
                    </a:lnTo>
                    <a:lnTo>
                      <a:pt x="114" y="36"/>
                    </a:lnTo>
                    <a:lnTo>
                      <a:pt x="113" y="33"/>
                    </a:lnTo>
                    <a:lnTo>
                      <a:pt x="112" y="29"/>
                    </a:lnTo>
                    <a:lnTo>
                      <a:pt x="112" y="27"/>
                    </a:lnTo>
                    <a:lnTo>
                      <a:pt x="112" y="23"/>
                    </a:lnTo>
                    <a:lnTo>
                      <a:pt x="120" y="23"/>
                    </a:lnTo>
                    <a:lnTo>
                      <a:pt x="127" y="26"/>
                    </a:lnTo>
                    <a:lnTo>
                      <a:pt x="134" y="28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6"/>
                    </a:lnTo>
                    <a:lnTo>
                      <a:pt x="141" y="23"/>
                    </a:lnTo>
                    <a:lnTo>
                      <a:pt x="141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4567320" y="3273480"/>
                <a:ext cx="17280" cy="16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8" y="22"/>
                    </a:moveTo>
                    <a:lnTo>
                      <a:pt x="19" y="18"/>
                    </a:lnTo>
                    <a:lnTo>
                      <a:pt x="22" y="14"/>
                    </a:lnTo>
                    <a:lnTo>
                      <a:pt x="23" y="9"/>
                    </a:lnTo>
                    <a:lnTo>
                      <a:pt x="23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4629240" y="3241800"/>
                <a:ext cx="126720" cy="3456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7" y="15"/>
                    </a:lnTo>
                    <a:lnTo>
                      <a:pt x="31" y="18"/>
                    </a:lnTo>
                    <a:lnTo>
                      <a:pt x="37" y="21"/>
                    </a:lnTo>
                    <a:lnTo>
                      <a:pt x="43" y="24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5"/>
                    </a:lnTo>
                    <a:lnTo>
                      <a:pt x="133" y="35"/>
                    </a:lnTo>
                    <a:lnTo>
                      <a:pt x="133" y="35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50" y="38"/>
                    </a:lnTo>
                    <a:lnTo>
                      <a:pt x="157" y="40"/>
                    </a:lnTo>
                    <a:lnTo>
                      <a:pt x="162" y="43"/>
                    </a:lnTo>
                    <a:lnTo>
                      <a:pt x="162" y="38"/>
                    </a:lnTo>
                    <a:lnTo>
                      <a:pt x="162" y="33"/>
                    </a:lnTo>
                    <a:lnTo>
                      <a:pt x="162" y="28"/>
                    </a:lnTo>
                    <a:lnTo>
                      <a:pt x="16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4562280" y="3267000"/>
                <a:ext cx="23400" cy="1728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3" y="22"/>
                    </a:moveTo>
                    <a:lnTo>
                      <a:pt x="25" y="18"/>
                    </a:lnTo>
                    <a:lnTo>
                      <a:pt x="27" y="15"/>
                    </a:lnTo>
                    <a:lnTo>
                      <a:pt x="28" y="10"/>
                    </a:lnTo>
                    <a:lnTo>
                      <a:pt x="31" y="4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4600440" y="3265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4614840" y="32608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10" y="3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4561200" y="3230640"/>
                <a:ext cx="213840" cy="47160"/>
              </a:xfrm>
              <a:custGeom>
                <a:avLst/>
                <a:gdLst/>
                <a:ahLst/>
                <a:rect l="l" t="t" r="r" b="b"/>
                <a:pathLst>
                  <a:path w="272" h="60">
                    <a:moveTo>
                      <a:pt x="0" y="0"/>
                    </a:moveTo>
                    <a:lnTo>
                      <a:pt x="6" y="3"/>
                    </a:lnTo>
                    <a:lnTo>
                      <a:pt x="10" y="7"/>
                    </a:lnTo>
                    <a:lnTo>
                      <a:pt x="16" y="9"/>
                    </a:lnTo>
                    <a:lnTo>
                      <a:pt x="23" y="12"/>
                    </a:lnTo>
                    <a:lnTo>
                      <a:pt x="29" y="16"/>
                    </a:lnTo>
                    <a:lnTo>
                      <a:pt x="35" y="19"/>
                    </a:lnTo>
                    <a:lnTo>
                      <a:pt x="39" y="23"/>
                    </a:lnTo>
                    <a:lnTo>
                      <a:pt x="45" y="26"/>
                    </a:lnTo>
                    <a:lnTo>
                      <a:pt x="186" y="47"/>
                    </a:lnTo>
                    <a:lnTo>
                      <a:pt x="186" y="44"/>
                    </a:lnTo>
                    <a:lnTo>
                      <a:pt x="186" y="41"/>
                    </a:lnTo>
                    <a:lnTo>
                      <a:pt x="186" y="39"/>
                    </a:lnTo>
                    <a:lnTo>
                      <a:pt x="186" y="35"/>
                    </a:lnTo>
                    <a:lnTo>
                      <a:pt x="188" y="37"/>
                    </a:lnTo>
                    <a:lnTo>
                      <a:pt x="190" y="39"/>
                    </a:lnTo>
                    <a:lnTo>
                      <a:pt x="194" y="40"/>
                    </a:lnTo>
                    <a:lnTo>
                      <a:pt x="198" y="40"/>
                    </a:lnTo>
                    <a:lnTo>
                      <a:pt x="198" y="41"/>
                    </a:lnTo>
                    <a:lnTo>
                      <a:pt x="198" y="44"/>
                    </a:lnTo>
                    <a:lnTo>
                      <a:pt x="198" y="45"/>
                    </a:lnTo>
                    <a:lnTo>
                      <a:pt x="198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4" y="39"/>
                    </a:lnTo>
                    <a:lnTo>
                      <a:pt x="205" y="35"/>
                    </a:lnTo>
                    <a:lnTo>
                      <a:pt x="207" y="35"/>
                    </a:lnTo>
                    <a:lnTo>
                      <a:pt x="210" y="35"/>
                    </a:lnTo>
                    <a:lnTo>
                      <a:pt x="213" y="37"/>
                    </a:lnTo>
                    <a:lnTo>
                      <a:pt x="217" y="38"/>
                    </a:lnTo>
                    <a:lnTo>
                      <a:pt x="217" y="40"/>
                    </a:lnTo>
                    <a:lnTo>
                      <a:pt x="218" y="42"/>
                    </a:lnTo>
                    <a:lnTo>
                      <a:pt x="220" y="45"/>
                    </a:lnTo>
                    <a:lnTo>
                      <a:pt x="221" y="47"/>
                    </a:lnTo>
                    <a:lnTo>
                      <a:pt x="221" y="45"/>
                    </a:lnTo>
                    <a:lnTo>
                      <a:pt x="222" y="42"/>
                    </a:lnTo>
                    <a:lnTo>
                      <a:pt x="224" y="39"/>
                    </a:lnTo>
                    <a:lnTo>
                      <a:pt x="224" y="35"/>
                    </a:lnTo>
                    <a:lnTo>
                      <a:pt x="227" y="37"/>
                    </a:lnTo>
                    <a:lnTo>
                      <a:pt x="232" y="39"/>
                    </a:lnTo>
                    <a:lnTo>
                      <a:pt x="236" y="40"/>
                    </a:lnTo>
                    <a:lnTo>
                      <a:pt x="241" y="40"/>
                    </a:lnTo>
                    <a:lnTo>
                      <a:pt x="240" y="44"/>
                    </a:lnTo>
                    <a:lnTo>
                      <a:pt x="240" y="47"/>
                    </a:lnTo>
                    <a:lnTo>
                      <a:pt x="240" y="50"/>
                    </a:lnTo>
                    <a:lnTo>
                      <a:pt x="241" y="54"/>
                    </a:lnTo>
                    <a:lnTo>
                      <a:pt x="264" y="60"/>
                    </a:lnTo>
                    <a:lnTo>
                      <a:pt x="266" y="54"/>
                    </a:lnTo>
                    <a:lnTo>
                      <a:pt x="269" y="49"/>
                    </a:lnTo>
                    <a:lnTo>
                      <a:pt x="270" y="46"/>
                    </a:lnTo>
                    <a:lnTo>
                      <a:pt x="27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4557600" y="3222720"/>
                <a:ext cx="239400" cy="47160"/>
              </a:xfrm>
              <a:custGeom>
                <a:avLst/>
                <a:gdLst/>
                <a:ahLst/>
                <a:rect l="l" t="t" r="r" b="b"/>
                <a:pathLst>
                  <a:path w="300" h="61">
                    <a:moveTo>
                      <a:pt x="0" y="0"/>
                    </a:moveTo>
                    <a:lnTo>
                      <a:pt x="6" y="3"/>
                    </a:lnTo>
                    <a:lnTo>
                      <a:pt x="12" y="6"/>
                    </a:lnTo>
                    <a:lnTo>
                      <a:pt x="19" y="8"/>
                    </a:lnTo>
                    <a:lnTo>
                      <a:pt x="25" y="12"/>
                    </a:lnTo>
                    <a:lnTo>
                      <a:pt x="31" y="15"/>
                    </a:lnTo>
                    <a:lnTo>
                      <a:pt x="38" y="19"/>
                    </a:lnTo>
                    <a:lnTo>
                      <a:pt x="43" y="22"/>
                    </a:lnTo>
                    <a:lnTo>
                      <a:pt x="50" y="26"/>
                    </a:lnTo>
                    <a:lnTo>
                      <a:pt x="212" y="50"/>
                    </a:lnTo>
                    <a:lnTo>
                      <a:pt x="212" y="47"/>
                    </a:lnTo>
                    <a:lnTo>
                      <a:pt x="214" y="49"/>
                    </a:lnTo>
                    <a:lnTo>
                      <a:pt x="215" y="50"/>
                    </a:lnTo>
                    <a:lnTo>
                      <a:pt x="217" y="50"/>
                    </a:lnTo>
                    <a:lnTo>
                      <a:pt x="218" y="50"/>
                    </a:lnTo>
                    <a:lnTo>
                      <a:pt x="229" y="52"/>
                    </a:lnTo>
                    <a:lnTo>
                      <a:pt x="229" y="51"/>
                    </a:lnTo>
                    <a:lnTo>
                      <a:pt x="229" y="50"/>
                    </a:lnTo>
                    <a:lnTo>
                      <a:pt x="230" y="49"/>
                    </a:lnTo>
                    <a:lnTo>
                      <a:pt x="231" y="47"/>
                    </a:lnTo>
                    <a:lnTo>
                      <a:pt x="233" y="47"/>
                    </a:lnTo>
                    <a:lnTo>
                      <a:pt x="236" y="47"/>
                    </a:lnTo>
                    <a:lnTo>
                      <a:pt x="239" y="49"/>
                    </a:lnTo>
                    <a:lnTo>
                      <a:pt x="243" y="50"/>
                    </a:lnTo>
                    <a:lnTo>
                      <a:pt x="243" y="51"/>
                    </a:lnTo>
                    <a:lnTo>
                      <a:pt x="243" y="52"/>
                    </a:lnTo>
                    <a:lnTo>
                      <a:pt x="244" y="53"/>
                    </a:lnTo>
                    <a:lnTo>
                      <a:pt x="245" y="54"/>
                    </a:lnTo>
                    <a:lnTo>
                      <a:pt x="247" y="54"/>
                    </a:lnTo>
                    <a:lnTo>
                      <a:pt x="247" y="52"/>
                    </a:lnTo>
                    <a:lnTo>
                      <a:pt x="248" y="51"/>
                    </a:lnTo>
                    <a:lnTo>
                      <a:pt x="250" y="49"/>
                    </a:lnTo>
                    <a:lnTo>
                      <a:pt x="250" y="47"/>
                    </a:lnTo>
                    <a:lnTo>
                      <a:pt x="253" y="49"/>
                    </a:lnTo>
                    <a:lnTo>
                      <a:pt x="258" y="51"/>
                    </a:lnTo>
                    <a:lnTo>
                      <a:pt x="262" y="52"/>
                    </a:lnTo>
                    <a:lnTo>
                      <a:pt x="267" y="52"/>
                    </a:lnTo>
                    <a:lnTo>
                      <a:pt x="266" y="53"/>
                    </a:lnTo>
                    <a:lnTo>
                      <a:pt x="265" y="56"/>
                    </a:lnTo>
                    <a:lnTo>
                      <a:pt x="265" y="57"/>
                    </a:lnTo>
                    <a:lnTo>
                      <a:pt x="265" y="57"/>
                    </a:lnTo>
                    <a:lnTo>
                      <a:pt x="296" y="61"/>
                    </a:lnTo>
                    <a:lnTo>
                      <a:pt x="296" y="58"/>
                    </a:lnTo>
                    <a:lnTo>
                      <a:pt x="297" y="53"/>
                    </a:lnTo>
                    <a:lnTo>
                      <a:pt x="299" y="49"/>
                    </a:lnTo>
                    <a:lnTo>
                      <a:pt x="30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4555800" y="3209760"/>
                <a:ext cx="261720" cy="55440"/>
              </a:xfrm>
              <a:custGeom>
                <a:avLst/>
                <a:gdLst/>
                <a:ahLst/>
                <a:rect l="l" t="t" r="r" b="b"/>
                <a:pathLst>
                  <a:path w="330" h="69">
                    <a:moveTo>
                      <a:pt x="0" y="0"/>
                    </a:moveTo>
                    <a:lnTo>
                      <a:pt x="7" y="4"/>
                    </a:lnTo>
                    <a:lnTo>
                      <a:pt x="13" y="7"/>
                    </a:lnTo>
                    <a:lnTo>
                      <a:pt x="20" y="11"/>
                    </a:lnTo>
                    <a:lnTo>
                      <a:pt x="27" y="13"/>
                    </a:lnTo>
                    <a:lnTo>
                      <a:pt x="33" y="16"/>
                    </a:lnTo>
                    <a:lnTo>
                      <a:pt x="40" y="20"/>
                    </a:lnTo>
                    <a:lnTo>
                      <a:pt x="46" y="23"/>
                    </a:lnTo>
                    <a:lnTo>
                      <a:pt x="53" y="27"/>
                    </a:lnTo>
                    <a:lnTo>
                      <a:pt x="325" y="69"/>
                    </a:lnTo>
                    <a:lnTo>
                      <a:pt x="325" y="65"/>
                    </a:lnTo>
                    <a:lnTo>
                      <a:pt x="326" y="60"/>
                    </a:lnTo>
                    <a:lnTo>
                      <a:pt x="328" y="56"/>
                    </a:lnTo>
                    <a:lnTo>
                      <a:pt x="33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4554360" y="3200400"/>
                <a:ext cx="286920" cy="56880"/>
              </a:xfrm>
              <a:custGeom>
                <a:avLst/>
                <a:gdLst/>
                <a:ahLst/>
                <a:rect l="l" t="t" r="r" b="b"/>
                <a:pathLst>
                  <a:path w="362" h="71">
                    <a:moveTo>
                      <a:pt x="0" y="0"/>
                    </a:moveTo>
                    <a:lnTo>
                      <a:pt x="7" y="2"/>
                    </a:lnTo>
                    <a:lnTo>
                      <a:pt x="14" y="5"/>
                    </a:lnTo>
                    <a:lnTo>
                      <a:pt x="21" y="9"/>
                    </a:lnTo>
                    <a:lnTo>
                      <a:pt x="29" y="11"/>
                    </a:lnTo>
                    <a:lnTo>
                      <a:pt x="36" y="15"/>
                    </a:lnTo>
                    <a:lnTo>
                      <a:pt x="43" y="18"/>
                    </a:lnTo>
                    <a:lnTo>
                      <a:pt x="50" y="23"/>
                    </a:lnTo>
                    <a:lnTo>
                      <a:pt x="57" y="26"/>
                    </a:lnTo>
                    <a:lnTo>
                      <a:pt x="357" y="71"/>
                    </a:lnTo>
                    <a:lnTo>
                      <a:pt x="358" y="67"/>
                    </a:lnTo>
                    <a:lnTo>
                      <a:pt x="360" y="62"/>
                    </a:lnTo>
                    <a:lnTo>
                      <a:pt x="361" y="57"/>
                    </a:lnTo>
                    <a:lnTo>
                      <a:pt x="362" y="5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0" y="14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4552920" y="3187800"/>
                <a:ext cx="320040" cy="61560"/>
              </a:xfrm>
              <a:custGeom>
                <a:avLst/>
                <a:gdLst/>
                <a:ahLst/>
                <a:rect l="l" t="t" r="r" b="b"/>
                <a:pathLst>
                  <a:path w="403" h="80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6" y="12"/>
                    </a:lnTo>
                    <a:lnTo>
                      <a:pt x="34" y="15"/>
                    </a:lnTo>
                    <a:lnTo>
                      <a:pt x="44" y="19"/>
                    </a:lnTo>
                    <a:lnTo>
                      <a:pt x="52" y="22"/>
                    </a:lnTo>
                    <a:lnTo>
                      <a:pt x="61" y="26"/>
                    </a:lnTo>
                    <a:lnTo>
                      <a:pt x="69" y="29"/>
                    </a:lnTo>
                    <a:lnTo>
                      <a:pt x="399" y="80"/>
                    </a:lnTo>
                    <a:lnTo>
                      <a:pt x="400" y="75"/>
                    </a:lnTo>
                    <a:lnTo>
                      <a:pt x="401" y="71"/>
                    </a:lnTo>
                    <a:lnTo>
                      <a:pt x="402" y="66"/>
                    </a:lnTo>
                    <a:lnTo>
                      <a:pt x="403" y="63"/>
                    </a:lnTo>
                    <a:lnTo>
                      <a:pt x="140" y="22"/>
                    </a:lnTo>
                    <a:lnTo>
                      <a:pt x="143" y="23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44" y="27"/>
                    </a:lnTo>
                    <a:lnTo>
                      <a:pt x="143" y="29"/>
                    </a:lnTo>
                    <a:lnTo>
                      <a:pt x="140" y="30"/>
                    </a:lnTo>
                    <a:lnTo>
                      <a:pt x="140" y="32"/>
                    </a:lnTo>
                    <a:lnTo>
                      <a:pt x="136" y="29"/>
                    </a:lnTo>
                    <a:lnTo>
                      <a:pt x="131" y="27"/>
                    </a:lnTo>
                    <a:lnTo>
                      <a:pt x="127" y="23"/>
                    </a:lnTo>
                    <a:lnTo>
                      <a:pt x="12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4762800" y="32083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4551120" y="3197160"/>
                <a:ext cx="215640" cy="45720"/>
              </a:xfrm>
              <a:custGeom>
                <a:avLst/>
                <a:gdLst/>
                <a:ahLst/>
                <a:rect l="l" t="t" r="r" b="b"/>
                <a:pathLst>
                  <a:path w="272" h="59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6" y="19"/>
                    </a:lnTo>
                    <a:lnTo>
                      <a:pt x="267" y="59"/>
                    </a:lnTo>
                    <a:lnTo>
                      <a:pt x="268" y="54"/>
                    </a:lnTo>
                    <a:lnTo>
                      <a:pt x="270" y="50"/>
                    </a:lnTo>
                    <a:lnTo>
                      <a:pt x="272" y="45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3" y="40"/>
                    </a:lnTo>
                    <a:lnTo>
                      <a:pt x="262" y="40"/>
                    </a:lnTo>
                    <a:lnTo>
                      <a:pt x="261" y="40"/>
                    </a:lnTo>
                    <a:lnTo>
                      <a:pt x="26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4767480" y="3197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4767120" y="3179880"/>
                <a:ext cx="110880" cy="31320"/>
              </a:xfrm>
              <a:custGeom>
                <a:avLst/>
                <a:gdLst/>
                <a:ahLst/>
                <a:rect l="l" t="t" r="r" b="b"/>
                <a:pathLst>
                  <a:path w="141" h="41">
                    <a:moveTo>
                      <a:pt x="141" y="41"/>
                    </a:moveTo>
                    <a:lnTo>
                      <a:pt x="141" y="36"/>
                    </a:lnTo>
                    <a:lnTo>
                      <a:pt x="134" y="32"/>
                    </a:lnTo>
                    <a:lnTo>
                      <a:pt x="128" y="28"/>
                    </a:lnTo>
                    <a:lnTo>
                      <a:pt x="122" y="22"/>
                    </a:lnTo>
                    <a:lnTo>
                      <a:pt x="115" y="18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9"/>
                    </a:lnTo>
                    <a:lnTo>
                      <a:pt x="12" y="11"/>
                    </a:lnTo>
                    <a:lnTo>
                      <a:pt x="17" y="14"/>
                    </a:lnTo>
                    <a:lnTo>
                      <a:pt x="23" y="16"/>
                    </a:lnTo>
                    <a:lnTo>
                      <a:pt x="29" y="19"/>
                    </a:lnTo>
                    <a:lnTo>
                      <a:pt x="35" y="21"/>
                    </a:lnTo>
                    <a:lnTo>
                      <a:pt x="40" y="24"/>
                    </a:lnTo>
                    <a:lnTo>
                      <a:pt x="46" y="27"/>
                    </a:lnTo>
                    <a:lnTo>
                      <a:pt x="141" y="41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4775400" y="320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4550040" y="3187800"/>
                <a:ext cx="228240" cy="48600"/>
              </a:xfrm>
              <a:custGeom>
                <a:avLst/>
                <a:gdLst/>
                <a:ahLst/>
                <a:rect l="l" t="t" r="r" b="b"/>
                <a:pathLst>
                  <a:path w="288" h="63">
                    <a:moveTo>
                      <a:pt x="0" y="0"/>
                    </a:moveTo>
                    <a:lnTo>
                      <a:pt x="0" y="3"/>
                    </a:lnTo>
                    <a:lnTo>
                      <a:pt x="6" y="9"/>
                    </a:lnTo>
                    <a:lnTo>
                      <a:pt x="10" y="14"/>
                    </a:lnTo>
                    <a:lnTo>
                      <a:pt x="16" y="19"/>
                    </a:lnTo>
                    <a:lnTo>
                      <a:pt x="20" y="22"/>
                    </a:lnTo>
                    <a:lnTo>
                      <a:pt x="283" y="63"/>
                    </a:lnTo>
                    <a:lnTo>
                      <a:pt x="284" y="59"/>
                    </a:lnTo>
                    <a:lnTo>
                      <a:pt x="287" y="55"/>
                    </a:lnTo>
                    <a:lnTo>
                      <a:pt x="288" y="50"/>
                    </a:lnTo>
                    <a:lnTo>
                      <a:pt x="288" y="47"/>
                    </a:lnTo>
                    <a:lnTo>
                      <a:pt x="286" y="47"/>
                    </a:lnTo>
                    <a:lnTo>
                      <a:pt x="284" y="48"/>
                    </a:lnTo>
                    <a:lnTo>
                      <a:pt x="282" y="50"/>
                    </a:lnTo>
                    <a:lnTo>
                      <a:pt x="281" y="51"/>
                    </a:lnTo>
                    <a:lnTo>
                      <a:pt x="279" y="53"/>
                    </a:lnTo>
                    <a:lnTo>
                      <a:pt x="275" y="53"/>
                    </a:lnTo>
                    <a:lnTo>
                      <a:pt x="273" y="52"/>
                    </a:lnTo>
                    <a:lnTo>
                      <a:pt x="269" y="50"/>
                    </a:lnTo>
                    <a:lnTo>
                      <a:pt x="266" y="49"/>
                    </a:lnTo>
                    <a:lnTo>
                      <a:pt x="268" y="47"/>
                    </a:lnTo>
                    <a:lnTo>
                      <a:pt x="269" y="45"/>
                    </a:lnTo>
                    <a:lnTo>
                      <a:pt x="269" y="43"/>
                    </a:lnTo>
                    <a:lnTo>
                      <a:pt x="269" y="41"/>
                    </a:lnTo>
                    <a:lnTo>
                      <a:pt x="261" y="41"/>
                    </a:lnTo>
                    <a:lnTo>
                      <a:pt x="261" y="43"/>
                    </a:lnTo>
                    <a:lnTo>
                      <a:pt x="261" y="45"/>
                    </a:lnTo>
                    <a:lnTo>
                      <a:pt x="260" y="47"/>
                    </a:lnTo>
                    <a:lnTo>
                      <a:pt x="259" y="49"/>
                    </a:lnTo>
                    <a:lnTo>
                      <a:pt x="258" y="49"/>
                    </a:lnTo>
                    <a:lnTo>
                      <a:pt x="256" y="48"/>
                    </a:lnTo>
                    <a:lnTo>
                      <a:pt x="254" y="47"/>
                    </a:lnTo>
                    <a:lnTo>
                      <a:pt x="252" y="47"/>
                    </a:lnTo>
                    <a:lnTo>
                      <a:pt x="252" y="44"/>
                    </a:lnTo>
                    <a:lnTo>
                      <a:pt x="251" y="42"/>
                    </a:lnTo>
                    <a:lnTo>
                      <a:pt x="250" y="41"/>
                    </a:lnTo>
                    <a:lnTo>
                      <a:pt x="2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4778640" y="3187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4777920" y="3174840"/>
                <a:ext cx="99720" cy="284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7" y="36"/>
                    </a:moveTo>
                    <a:lnTo>
                      <a:pt x="127" y="34"/>
                    </a:lnTo>
                    <a:lnTo>
                      <a:pt x="120" y="28"/>
                    </a:lnTo>
                    <a:lnTo>
                      <a:pt x="113" y="23"/>
                    </a:lnTo>
                    <a:lnTo>
                      <a:pt x="106" y="18"/>
                    </a:lnTo>
                    <a:lnTo>
                      <a:pt x="100" y="14"/>
                    </a:lnTo>
                    <a:lnTo>
                      <a:pt x="10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127" y="36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4786560" y="3193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4561200" y="3179880"/>
                <a:ext cx="228240" cy="48600"/>
              </a:xfrm>
              <a:custGeom>
                <a:avLst/>
                <a:gdLst/>
                <a:ahLst/>
                <a:rect l="l" t="t" r="r" b="b"/>
                <a:pathLst>
                  <a:path w="289" h="6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7" y="16"/>
                    </a:lnTo>
                    <a:lnTo>
                      <a:pt x="24" y="22"/>
                    </a:lnTo>
                    <a:lnTo>
                      <a:pt x="289" y="62"/>
                    </a:lnTo>
                    <a:lnTo>
                      <a:pt x="287" y="61"/>
                    </a:lnTo>
                    <a:lnTo>
                      <a:pt x="286" y="60"/>
                    </a:lnTo>
                    <a:lnTo>
                      <a:pt x="283" y="59"/>
                    </a:lnTo>
                    <a:lnTo>
                      <a:pt x="281" y="58"/>
                    </a:lnTo>
                    <a:lnTo>
                      <a:pt x="283" y="54"/>
                    </a:lnTo>
                    <a:lnTo>
                      <a:pt x="286" y="50"/>
                    </a:lnTo>
                    <a:lnTo>
                      <a:pt x="287" y="46"/>
                    </a:lnTo>
                    <a:lnTo>
                      <a:pt x="287" y="43"/>
                    </a:lnTo>
                    <a:lnTo>
                      <a:pt x="276" y="41"/>
                    </a:lnTo>
                    <a:lnTo>
                      <a:pt x="276" y="44"/>
                    </a:lnTo>
                    <a:lnTo>
                      <a:pt x="276" y="49"/>
                    </a:lnTo>
                    <a:lnTo>
                      <a:pt x="275" y="54"/>
                    </a:lnTo>
                    <a:lnTo>
                      <a:pt x="274" y="58"/>
                    </a:lnTo>
                    <a:lnTo>
                      <a:pt x="273" y="58"/>
                    </a:lnTo>
                    <a:lnTo>
                      <a:pt x="271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1"/>
                    </a:lnTo>
                    <a:lnTo>
                      <a:pt x="265" y="47"/>
                    </a:lnTo>
                    <a:lnTo>
                      <a:pt x="264" y="43"/>
                    </a:lnTo>
                    <a:lnTo>
                      <a:pt x="26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546440" y="321948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lnTo>
                      <a:pt x="3" y="9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4789440" y="3178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789440" y="3168720"/>
                <a:ext cx="86760" cy="24840"/>
              </a:xfrm>
              <a:custGeom>
                <a:avLst/>
                <a:gdLst/>
                <a:ahLst/>
                <a:rect l="l" t="t" r="r" b="b"/>
                <a:pathLst>
                  <a:path w="110" h="32">
                    <a:moveTo>
                      <a:pt x="110" y="32"/>
                    </a:moveTo>
                    <a:lnTo>
                      <a:pt x="110" y="32"/>
                    </a:lnTo>
                    <a:lnTo>
                      <a:pt x="103" y="26"/>
                    </a:lnTo>
                    <a:lnTo>
                      <a:pt x="96" y="20"/>
                    </a:lnTo>
                    <a:lnTo>
                      <a:pt x="89" y="15"/>
                    </a:lnTo>
                    <a:lnTo>
                      <a:pt x="82" y="1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110" y="3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4799160" y="318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580280" y="3170160"/>
                <a:ext cx="220320" cy="47160"/>
              </a:xfrm>
              <a:custGeom>
                <a:avLst/>
                <a:gdLst/>
                <a:ahLst/>
                <a:rect l="l" t="t" r="r" b="b"/>
                <a:pathLst>
                  <a:path w="279" h="58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3" y="10"/>
                    </a:lnTo>
                    <a:lnTo>
                      <a:pt x="18" y="15"/>
                    </a:lnTo>
                    <a:lnTo>
                      <a:pt x="24" y="20"/>
                    </a:lnTo>
                    <a:lnTo>
                      <a:pt x="279" y="58"/>
                    </a:lnTo>
                    <a:lnTo>
                      <a:pt x="278" y="55"/>
                    </a:lnTo>
                    <a:lnTo>
                      <a:pt x="276" y="50"/>
                    </a:lnTo>
                    <a:lnTo>
                      <a:pt x="276" y="45"/>
                    </a:lnTo>
                    <a:lnTo>
                      <a:pt x="27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560840" y="32050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2" y="12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4546800" y="3219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4800600" y="317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4800600" y="3162240"/>
                <a:ext cx="69480" cy="2016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88" y="27"/>
                    </a:moveTo>
                    <a:lnTo>
                      <a:pt x="88" y="27"/>
                    </a:lnTo>
                    <a:lnTo>
                      <a:pt x="81" y="21"/>
                    </a:lnTo>
                    <a:lnTo>
                      <a:pt x="74" y="16"/>
                    </a:lnTo>
                    <a:lnTo>
                      <a:pt x="67" y="11"/>
                    </a:lnTo>
                    <a:lnTo>
                      <a:pt x="59" y="6"/>
                    </a:lnTo>
                    <a:lnTo>
                      <a:pt x="26" y="0"/>
                    </a:lnTo>
                    <a:lnTo>
                      <a:pt x="19" y="5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88" y="2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4809960" y="3176640"/>
                <a:ext cx="1080" cy="108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4580280" y="3160800"/>
                <a:ext cx="231120" cy="48600"/>
              </a:xfrm>
              <a:custGeom>
                <a:avLst/>
                <a:gdLst/>
                <a:ahLst/>
                <a:rect l="l" t="t" r="r" b="b"/>
                <a:pathLst>
                  <a:path w="293" h="6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5" y="22"/>
                    </a:lnTo>
                    <a:lnTo>
                      <a:pt x="290" y="62"/>
                    </a:lnTo>
                    <a:lnTo>
                      <a:pt x="290" y="59"/>
                    </a:lnTo>
                    <a:lnTo>
                      <a:pt x="290" y="54"/>
                    </a:lnTo>
                    <a:lnTo>
                      <a:pt x="292" y="50"/>
                    </a:lnTo>
                    <a:lnTo>
                      <a:pt x="29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4557960" y="3198960"/>
                <a:ext cx="12240" cy="136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1" y="19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15" y="5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4809960" y="3160800"/>
                <a:ext cx="1080" cy="108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4811760" y="3157560"/>
                <a:ext cx="48960" cy="18720"/>
              </a:xfrm>
              <a:custGeom>
                <a:avLst/>
                <a:gdLst/>
                <a:ahLst/>
                <a:rect l="l" t="t" r="r" b="b"/>
                <a:pathLst>
                  <a:path w="62" h="25">
                    <a:moveTo>
                      <a:pt x="62" y="25"/>
                    </a:moveTo>
                    <a:lnTo>
                      <a:pt x="62" y="25"/>
                    </a:lnTo>
                    <a:lnTo>
                      <a:pt x="54" y="18"/>
                    </a:lnTo>
                    <a:lnTo>
                      <a:pt x="47" y="12"/>
                    </a:lnTo>
                    <a:lnTo>
                      <a:pt x="39" y="6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8" y="5"/>
                    </a:lnTo>
                    <a:lnTo>
                      <a:pt x="13" y="8"/>
                    </a:lnTo>
                    <a:lnTo>
                      <a:pt x="7" y="12"/>
                    </a:lnTo>
                    <a:lnTo>
                      <a:pt x="0" y="15"/>
                    </a:lnTo>
                    <a:lnTo>
                      <a:pt x="62" y="25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4822920" y="315612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9"/>
                    </a:moveTo>
                    <a:lnTo>
                      <a:pt x="3" y="7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8" y="4"/>
                    </a:lnTo>
                    <a:lnTo>
                      <a:pt x="23" y="7"/>
                    </a:lnTo>
                    <a:lnTo>
                      <a:pt x="29" y="10"/>
                    </a:lnTo>
                    <a:lnTo>
                      <a:pt x="33" y="1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4580280" y="3152880"/>
                <a:ext cx="237600" cy="50400"/>
              </a:xfrm>
              <a:custGeom>
                <a:avLst/>
                <a:gdLst/>
                <a:ahLst/>
                <a:rect l="l" t="t" r="r" b="b"/>
                <a:pathLst>
                  <a:path w="301" h="62">
                    <a:moveTo>
                      <a:pt x="20" y="22"/>
                    </a:moveTo>
                    <a:lnTo>
                      <a:pt x="15" y="17"/>
                    </a:lnTo>
                    <a:lnTo>
                      <a:pt x="9" y="12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1" y="7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292" y="42"/>
                    </a:lnTo>
                    <a:lnTo>
                      <a:pt x="294" y="44"/>
                    </a:lnTo>
                    <a:lnTo>
                      <a:pt x="296" y="45"/>
                    </a:lnTo>
                    <a:lnTo>
                      <a:pt x="298" y="46"/>
                    </a:lnTo>
                    <a:lnTo>
                      <a:pt x="301" y="47"/>
                    </a:lnTo>
                    <a:lnTo>
                      <a:pt x="301" y="52"/>
                    </a:lnTo>
                    <a:lnTo>
                      <a:pt x="300" y="55"/>
                    </a:lnTo>
                    <a:lnTo>
                      <a:pt x="298" y="59"/>
                    </a:lnTo>
                    <a:lnTo>
                      <a:pt x="298" y="62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4555800" y="31910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3" y="20"/>
                    </a:lnTo>
                    <a:lnTo>
                      <a:pt x="14" y="16"/>
                    </a:lnTo>
                    <a:lnTo>
                      <a:pt x="16" y="12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4835880" y="31561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4580280" y="3147840"/>
                <a:ext cx="237600" cy="48960"/>
              </a:xfrm>
              <a:custGeom>
                <a:avLst/>
                <a:gdLst/>
                <a:ahLst/>
                <a:rect l="l" t="t" r="r" b="b"/>
                <a:pathLst>
                  <a:path w="301" h="62">
                    <a:moveTo>
                      <a:pt x="8" y="16"/>
                    </a:moveTo>
                    <a:lnTo>
                      <a:pt x="6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36" y="2"/>
                    </a:lnTo>
                    <a:lnTo>
                      <a:pt x="42" y="7"/>
                    </a:lnTo>
                    <a:lnTo>
                      <a:pt x="47" y="13"/>
                    </a:lnTo>
                    <a:lnTo>
                      <a:pt x="53" y="17"/>
                    </a:lnTo>
                    <a:lnTo>
                      <a:pt x="60" y="22"/>
                    </a:lnTo>
                    <a:lnTo>
                      <a:pt x="60" y="16"/>
                    </a:lnTo>
                    <a:lnTo>
                      <a:pt x="60" y="13"/>
                    </a:lnTo>
                    <a:lnTo>
                      <a:pt x="59" y="9"/>
                    </a:lnTo>
                    <a:lnTo>
                      <a:pt x="58" y="7"/>
                    </a:lnTo>
                    <a:lnTo>
                      <a:pt x="277" y="40"/>
                    </a:lnTo>
                    <a:lnTo>
                      <a:pt x="281" y="44"/>
                    </a:lnTo>
                    <a:lnTo>
                      <a:pt x="286" y="47"/>
                    </a:lnTo>
                    <a:lnTo>
                      <a:pt x="293" y="51"/>
                    </a:lnTo>
                    <a:lnTo>
                      <a:pt x="301" y="54"/>
                    </a:lnTo>
                    <a:lnTo>
                      <a:pt x="301" y="56"/>
                    </a:lnTo>
                    <a:lnTo>
                      <a:pt x="301" y="59"/>
                    </a:lnTo>
                    <a:lnTo>
                      <a:pt x="301" y="60"/>
                    </a:lnTo>
                    <a:lnTo>
                      <a:pt x="301" y="6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4554360" y="31827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3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5" y="19"/>
                    </a:lnTo>
                    <a:lnTo>
                      <a:pt x="16" y="16"/>
                    </a:lnTo>
                    <a:lnTo>
                      <a:pt x="18" y="11"/>
                    </a:lnTo>
                    <a:lnTo>
                      <a:pt x="19" y="7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778640" y="314172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1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5" y="5"/>
                    </a:lnTo>
                    <a:lnTo>
                      <a:pt x="33" y="10"/>
                    </a:lnTo>
                    <a:lnTo>
                      <a:pt x="40" y="15"/>
                    </a:lnTo>
                    <a:lnTo>
                      <a:pt x="47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4586400" y="3146400"/>
                <a:ext cx="188640" cy="41040"/>
              </a:xfrm>
              <a:custGeom>
                <a:avLst/>
                <a:gdLst/>
                <a:ahLst/>
                <a:rect l="l" t="t" r="r" b="b"/>
                <a:pathLst>
                  <a:path w="239" h="51">
                    <a:moveTo>
                      <a:pt x="0" y="0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7" y="12"/>
                    </a:lnTo>
                    <a:lnTo>
                      <a:pt x="7" y="18"/>
                    </a:lnTo>
                    <a:lnTo>
                      <a:pt x="239" y="51"/>
                    </a:lnTo>
                    <a:lnTo>
                      <a:pt x="230" y="48"/>
                    </a:lnTo>
                    <a:lnTo>
                      <a:pt x="226" y="43"/>
                    </a:lnTo>
                    <a:lnTo>
                      <a:pt x="224" y="39"/>
                    </a:lnTo>
                    <a:lnTo>
                      <a:pt x="221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554360" y="3176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3" y="0"/>
                    </a:move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8" y="22"/>
                    </a:lnTo>
                    <a:lnTo>
                      <a:pt x="19" y="16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789800" y="314172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598640" y="3135240"/>
                <a:ext cx="182520" cy="44280"/>
              </a:xfrm>
              <a:custGeom>
                <a:avLst/>
                <a:gdLst/>
                <a:ahLst/>
                <a:rect l="l" t="t" r="r" b="b"/>
                <a:pathLst>
                  <a:path w="231" h="55">
                    <a:moveTo>
                      <a:pt x="0" y="0"/>
                    </a:moveTo>
                    <a:lnTo>
                      <a:pt x="5" y="7"/>
                    </a:lnTo>
                    <a:lnTo>
                      <a:pt x="8" y="13"/>
                    </a:lnTo>
                    <a:lnTo>
                      <a:pt x="11" y="17"/>
                    </a:lnTo>
                    <a:lnTo>
                      <a:pt x="12" y="22"/>
                    </a:lnTo>
                    <a:lnTo>
                      <a:pt x="231" y="55"/>
                    </a:lnTo>
                    <a:lnTo>
                      <a:pt x="229" y="52"/>
                    </a:lnTo>
                    <a:lnTo>
                      <a:pt x="228" y="47"/>
                    </a:lnTo>
                    <a:lnTo>
                      <a:pt x="228" y="41"/>
                    </a:lnTo>
                    <a:lnTo>
                      <a:pt x="228" y="37"/>
                    </a:lnTo>
                    <a:lnTo>
                      <a:pt x="212" y="33"/>
                    </a:lnTo>
                    <a:lnTo>
                      <a:pt x="212" y="33"/>
                    </a:lnTo>
                    <a:lnTo>
                      <a:pt x="21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554360" y="31687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598640" y="3132360"/>
                <a:ext cx="183960" cy="41040"/>
              </a:xfrm>
              <a:custGeom>
                <a:avLst/>
                <a:gdLst/>
                <a:ahLst/>
                <a:rect l="l" t="t" r="r" b="b"/>
                <a:pathLst>
                  <a:path w="233" h="51">
                    <a:moveTo>
                      <a:pt x="9" y="18"/>
                    </a:moveTo>
                    <a:lnTo>
                      <a:pt x="7" y="14"/>
                    </a:lnTo>
                    <a:lnTo>
                      <a:pt x="6" y="11"/>
                    </a:lnTo>
                    <a:lnTo>
                      <a:pt x="3" y="7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207" y="27"/>
                    </a:lnTo>
                    <a:lnTo>
                      <a:pt x="207" y="30"/>
                    </a:lnTo>
                    <a:lnTo>
                      <a:pt x="210" y="34"/>
                    </a:lnTo>
                    <a:lnTo>
                      <a:pt x="211" y="36"/>
                    </a:lnTo>
                    <a:lnTo>
                      <a:pt x="214" y="38"/>
                    </a:lnTo>
                    <a:lnTo>
                      <a:pt x="214" y="38"/>
                    </a:lnTo>
                    <a:lnTo>
                      <a:pt x="215" y="38"/>
                    </a:lnTo>
                    <a:lnTo>
                      <a:pt x="218" y="37"/>
                    </a:lnTo>
                    <a:lnTo>
                      <a:pt x="219" y="36"/>
                    </a:lnTo>
                    <a:lnTo>
                      <a:pt x="219" y="34"/>
                    </a:lnTo>
                    <a:lnTo>
                      <a:pt x="219" y="33"/>
                    </a:lnTo>
                    <a:lnTo>
                      <a:pt x="219" y="30"/>
                    </a:lnTo>
                    <a:lnTo>
                      <a:pt x="219" y="29"/>
                    </a:lnTo>
                    <a:lnTo>
                      <a:pt x="233" y="31"/>
                    </a:lnTo>
                    <a:lnTo>
                      <a:pt x="231" y="37"/>
                    </a:lnTo>
                    <a:lnTo>
                      <a:pt x="230" y="42"/>
                    </a:lnTo>
                    <a:lnTo>
                      <a:pt x="230" y="46"/>
                    </a:lnTo>
                    <a:lnTo>
                      <a:pt x="230" y="51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554360" y="31622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615200" y="3132360"/>
                <a:ext cx="167760" cy="29880"/>
              </a:xfrm>
              <a:custGeom>
                <a:avLst/>
                <a:gdLst/>
                <a:ahLst/>
                <a:rect l="l" t="t" r="r" b="b"/>
                <a:pathLst>
                  <a:path w="212" h="38">
                    <a:moveTo>
                      <a:pt x="2" y="5"/>
                    </a:move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1" y="1"/>
                    </a:lnTo>
                    <a:lnTo>
                      <a:pt x="23" y="1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7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205" y="20"/>
                    </a:lnTo>
                    <a:lnTo>
                      <a:pt x="205" y="25"/>
                    </a:lnTo>
                    <a:lnTo>
                      <a:pt x="207" y="29"/>
                    </a:lnTo>
                    <a:lnTo>
                      <a:pt x="208" y="34"/>
                    </a:lnTo>
                    <a:lnTo>
                      <a:pt x="212" y="38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598640" y="31478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18"/>
                    </a:moveTo>
                    <a:lnTo>
                      <a:pt x="1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9" y="2"/>
                    </a:lnTo>
                    <a:lnTo>
                      <a:pt x="19" y="7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6" y="2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4554360" y="31561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2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4618080" y="3132360"/>
                <a:ext cx="141120" cy="205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37" y="3"/>
                    </a:moveTo>
                    <a:lnTo>
                      <a:pt x="120" y="3"/>
                    </a:lnTo>
                    <a:lnTo>
                      <a:pt x="102" y="3"/>
                    </a:lnTo>
                    <a:lnTo>
                      <a:pt x="85" y="1"/>
                    </a:lnTo>
                    <a:lnTo>
                      <a:pt x="68" y="1"/>
                    </a:lnTo>
                    <a:lnTo>
                      <a:pt x="51" y="1"/>
                    </a:lnTo>
                    <a:lnTo>
                      <a:pt x="33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76" y="27"/>
                    </a:lnTo>
                    <a:lnTo>
                      <a:pt x="175" y="23"/>
                    </a:lnTo>
                    <a:lnTo>
                      <a:pt x="174" y="19"/>
                    </a:lnTo>
                    <a:lnTo>
                      <a:pt x="174" y="14"/>
                    </a:lnTo>
                    <a:lnTo>
                      <a:pt x="174" y="11"/>
                    </a:lnTo>
                    <a:lnTo>
                      <a:pt x="137" y="3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597200" y="31417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8" y="1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4554360" y="31478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4620960" y="3132360"/>
                <a:ext cx="90360" cy="1548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4" y="1"/>
                    </a:lnTo>
                    <a:lnTo>
                      <a:pt x="29" y="1"/>
                    </a:lnTo>
                    <a:lnTo>
                      <a:pt x="42" y="3"/>
                    </a:lnTo>
                    <a:lnTo>
                      <a:pt x="57" y="3"/>
                    </a:lnTo>
                    <a:lnTo>
                      <a:pt x="71" y="4"/>
                    </a:lnTo>
                    <a:lnTo>
                      <a:pt x="86" y="4"/>
                    </a:lnTo>
                    <a:lnTo>
                      <a:pt x="100" y="4"/>
                    </a:lnTo>
                    <a:lnTo>
                      <a:pt x="115" y="3"/>
                    </a:lnTo>
                    <a:lnTo>
                      <a:pt x="115" y="7"/>
                    </a:lnTo>
                    <a:lnTo>
                      <a:pt x="115" y="12"/>
                    </a:lnTo>
                    <a:lnTo>
                      <a:pt x="115" y="16"/>
                    </a:lnTo>
                    <a:lnTo>
                      <a:pt x="115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4597200" y="31352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0" y="11"/>
                    </a:lnTo>
                    <a:lnTo>
                      <a:pt x="0" y="8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10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556160" y="31399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3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0"/>
                    </a:lnTo>
                    <a:lnTo>
                      <a:pt x="13" y="16"/>
                    </a:lnTo>
                    <a:lnTo>
                      <a:pt x="11" y="10"/>
                    </a:lnTo>
                    <a:lnTo>
                      <a:pt x="9" y="5"/>
                    </a:lnTo>
                    <a:lnTo>
                      <a:pt x="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620960" y="3133800"/>
                <a:ext cx="28440" cy="57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0"/>
                    </a:moveTo>
                    <a:lnTo>
                      <a:pt x="5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594320" y="31338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4557600" y="31352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5"/>
                    </a:moveTo>
                    <a:lnTo>
                      <a:pt x="0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6" y="5"/>
                    </a:lnTo>
                    <a:lnTo>
                      <a:pt x="7" y="9"/>
                    </a:lnTo>
                    <a:lnTo>
                      <a:pt x="9" y="14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4593960" y="313380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2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4560840" y="313524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4492440" y="3301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1" y="10"/>
                    </a:moveTo>
                    <a:lnTo>
                      <a:pt x="8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4520880" y="32986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2"/>
                    </a:moveTo>
                    <a:lnTo>
                      <a:pt x="19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7" y="9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4485960" y="32972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7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11" y="17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2" y="5"/>
                    </a:lnTo>
                    <a:lnTo>
                      <a:pt x="25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4515120" y="329400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4" y="17"/>
                    </a:moveTo>
                    <a:lnTo>
                      <a:pt x="17" y="13"/>
                    </a:lnTo>
                    <a:lnTo>
                      <a:pt x="20" y="9"/>
                    </a:lnTo>
                    <a:lnTo>
                      <a:pt x="22" y="6"/>
                    </a:lnTo>
                    <a:lnTo>
                      <a:pt x="25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4478400" y="329076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5" y="0"/>
                    </a:moveTo>
                    <a:lnTo>
                      <a:pt x="5" y="3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14" y="17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26" y="6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4511880" y="328788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4" y="16"/>
                    </a:moveTo>
                    <a:lnTo>
                      <a:pt x="17" y="13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473720" y="3284640"/>
                <a:ext cx="28080" cy="1368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7" y="0"/>
                    </a:moveTo>
                    <a:lnTo>
                      <a:pt x="5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18" y="18"/>
                    </a:lnTo>
                    <a:lnTo>
                      <a:pt x="24" y="15"/>
                    </a:lnTo>
                    <a:lnTo>
                      <a:pt x="29" y="11"/>
                    </a:lnTo>
                    <a:lnTo>
                      <a:pt x="32" y="8"/>
                    </a:lnTo>
                    <a:lnTo>
                      <a:pt x="3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4507200" y="328284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16" y="16"/>
                    </a:moveTo>
                    <a:lnTo>
                      <a:pt x="19" y="13"/>
                    </a:lnTo>
                    <a:lnTo>
                      <a:pt x="20" y="10"/>
                    </a:lnTo>
                    <a:lnTo>
                      <a:pt x="23" y="6"/>
                    </a:lnTo>
                    <a:lnTo>
                      <a:pt x="27" y="3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4459320" y="3289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467240" y="327816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7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27" y="18"/>
                    </a:lnTo>
                    <a:lnTo>
                      <a:pt x="30" y="15"/>
                    </a:lnTo>
                    <a:lnTo>
                      <a:pt x="33" y="11"/>
                    </a:lnTo>
                    <a:lnTo>
                      <a:pt x="37" y="8"/>
                    </a:lnTo>
                    <a:lnTo>
                      <a:pt x="4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4503960" y="3273480"/>
                <a:ext cx="2016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6" y="20"/>
                    </a:moveTo>
                    <a:lnTo>
                      <a:pt x="18" y="16"/>
                    </a:lnTo>
                    <a:lnTo>
                      <a:pt x="21" y="13"/>
                    </a:lnTo>
                    <a:lnTo>
                      <a:pt x="23" y="8"/>
                    </a:lnTo>
                    <a:lnTo>
                      <a:pt x="26" y="3"/>
                    </a:lnTo>
                    <a:lnTo>
                      <a:pt x="9" y="0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4446360" y="328464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2"/>
                    </a:moveTo>
                    <a:lnTo>
                      <a:pt x="13" y="4"/>
                    </a:lnTo>
                    <a:lnTo>
                      <a:pt x="9" y="5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437360" y="3271680"/>
                <a:ext cx="58320" cy="17280"/>
              </a:xfrm>
              <a:custGeom>
                <a:avLst/>
                <a:gdLst/>
                <a:ahLst/>
                <a:rect l="l" t="t" r="r" b="b"/>
                <a:pathLst>
                  <a:path w="73" h="22">
                    <a:moveTo>
                      <a:pt x="7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8" y="19"/>
                    </a:lnTo>
                    <a:lnTo>
                      <a:pt x="32" y="16"/>
                    </a:lnTo>
                    <a:lnTo>
                      <a:pt x="35" y="13"/>
                    </a:lnTo>
                    <a:lnTo>
                      <a:pt x="39" y="11"/>
                    </a:lnTo>
                    <a:lnTo>
                      <a:pt x="42" y="8"/>
                    </a:lnTo>
                    <a:lnTo>
                      <a:pt x="46" y="9"/>
                    </a:lnTo>
                    <a:lnTo>
                      <a:pt x="48" y="10"/>
                    </a:lnTo>
                    <a:lnTo>
                      <a:pt x="51" y="11"/>
                    </a:lnTo>
                    <a:lnTo>
                      <a:pt x="55" y="12"/>
                    </a:lnTo>
                    <a:lnTo>
                      <a:pt x="51" y="15"/>
                    </a:lnTo>
                    <a:lnTo>
                      <a:pt x="48" y="17"/>
                    </a:lnTo>
                    <a:lnTo>
                      <a:pt x="47" y="19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53" y="20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73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4499280" y="3268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7" y="20"/>
                    </a:moveTo>
                    <a:lnTo>
                      <a:pt x="19" y="15"/>
                    </a:lnTo>
                    <a:lnTo>
                      <a:pt x="21" y="10"/>
                    </a:lnTo>
                    <a:lnTo>
                      <a:pt x="24" y="6"/>
                    </a:lnTo>
                    <a:lnTo>
                      <a:pt x="26" y="2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4" y="8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4430520" y="3267000"/>
                <a:ext cx="63000" cy="1872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9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37" y="17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9" y="18"/>
                    </a:lnTo>
                    <a:lnTo>
                      <a:pt x="53" y="19"/>
                    </a:lnTo>
                    <a:lnTo>
                      <a:pt x="52" y="19"/>
                    </a:lnTo>
                    <a:lnTo>
                      <a:pt x="51" y="20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60" y="24"/>
                    </a:lnTo>
                    <a:lnTo>
                      <a:pt x="66" y="22"/>
                    </a:lnTo>
                    <a:lnTo>
                      <a:pt x="70" y="19"/>
                    </a:lnTo>
                    <a:lnTo>
                      <a:pt x="76" y="16"/>
                    </a:lnTo>
                    <a:lnTo>
                      <a:pt x="8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4496040" y="326376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7" y="17"/>
                    </a:moveTo>
                    <a:lnTo>
                      <a:pt x="20" y="13"/>
                    </a:lnTo>
                    <a:lnTo>
                      <a:pt x="22" y="9"/>
                    </a:lnTo>
                    <a:lnTo>
                      <a:pt x="24" y="6"/>
                    </a:lnTo>
                    <a:lnTo>
                      <a:pt x="27" y="2"/>
                    </a:lnTo>
                    <a:lnTo>
                      <a:pt x="13" y="0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4422600" y="3260880"/>
                <a:ext cx="68040" cy="18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9" y="0"/>
                    </a:moveTo>
                    <a:lnTo>
                      <a:pt x="5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66" y="24"/>
                    </a:lnTo>
                    <a:lnTo>
                      <a:pt x="70" y="22"/>
                    </a:lnTo>
                    <a:lnTo>
                      <a:pt x="74" y="18"/>
                    </a:lnTo>
                    <a:lnTo>
                      <a:pt x="80" y="15"/>
                    </a:lnTo>
                    <a:lnTo>
                      <a:pt x="86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4492800" y="325764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17" y="16"/>
                    </a:moveTo>
                    <a:lnTo>
                      <a:pt x="19" y="13"/>
                    </a:lnTo>
                    <a:lnTo>
                      <a:pt x="22" y="9"/>
                    </a:lnTo>
                    <a:lnTo>
                      <a:pt x="24" y="6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4414680" y="3255840"/>
                <a:ext cx="70920" cy="2052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11" y="0"/>
                    </a:moveTo>
                    <a:lnTo>
                      <a:pt x="7" y="3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72" y="26"/>
                    </a:lnTo>
                    <a:lnTo>
                      <a:pt x="77" y="22"/>
                    </a:lnTo>
                    <a:lnTo>
                      <a:pt x="82" y="18"/>
                    </a:lnTo>
                    <a:lnTo>
                      <a:pt x="87" y="15"/>
                    </a:lnTo>
                    <a:lnTo>
                      <a:pt x="91" y="11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1" y="8"/>
                    </a:lnTo>
                    <a:lnTo>
                      <a:pt x="50" y="10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0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43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4489560" y="32529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14" y="16"/>
                    </a:moveTo>
                    <a:lnTo>
                      <a:pt x="16" y="13"/>
                    </a:lnTo>
                    <a:lnTo>
                      <a:pt x="18" y="9"/>
                    </a:lnTo>
                    <a:lnTo>
                      <a:pt x="21" y="6"/>
                    </a:lnTo>
                    <a:lnTo>
                      <a:pt x="23" y="3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4408560" y="324648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119" h="31">
                    <a:moveTo>
                      <a:pt x="26" y="20"/>
                    </a:moveTo>
                    <a:lnTo>
                      <a:pt x="28" y="17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7" y="9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74" y="11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20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67" y="24"/>
                    </a:lnTo>
                    <a:lnTo>
                      <a:pt x="70" y="24"/>
                    </a:lnTo>
                    <a:lnTo>
                      <a:pt x="73" y="21"/>
                    </a:lnTo>
                    <a:lnTo>
                      <a:pt x="75" y="17"/>
                    </a:lnTo>
                    <a:lnTo>
                      <a:pt x="76" y="15"/>
                    </a:lnTo>
                    <a:lnTo>
                      <a:pt x="79" y="13"/>
                    </a:lnTo>
                    <a:lnTo>
                      <a:pt x="119" y="17"/>
                    </a:lnTo>
                    <a:lnTo>
                      <a:pt x="116" y="21"/>
                    </a:lnTo>
                    <a:lnTo>
                      <a:pt x="111" y="24"/>
                    </a:lnTo>
                    <a:lnTo>
                      <a:pt x="106" y="28"/>
                    </a:lnTo>
                    <a:lnTo>
                      <a:pt x="103" y="31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4402080" y="3249720"/>
                <a:ext cx="40680" cy="1548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9"/>
                    </a:moveTo>
                    <a:lnTo>
                      <a:pt x="0" y="14"/>
                    </a:lnTo>
                    <a:lnTo>
                      <a:pt x="36" y="18"/>
                    </a:lnTo>
                    <a:lnTo>
                      <a:pt x="40" y="15"/>
                    </a:lnTo>
                    <a:lnTo>
                      <a:pt x="43" y="11"/>
                    </a:lnTo>
                    <a:lnTo>
                      <a:pt x="48" y="8"/>
                    </a:lnTo>
                    <a:lnTo>
                      <a:pt x="52" y="5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4438800" y="3247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4443120" y="3240000"/>
                <a:ext cx="53640" cy="1872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9" y="15"/>
                    </a:moveTo>
                    <a:lnTo>
                      <a:pt x="69" y="1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20" y="16"/>
                    </a:lnTo>
                    <a:lnTo>
                      <a:pt x="23" y="18"/>
                    </a:lnTo>
                    <a:lnTo>
                      <a:pt x="27" y="18"/>
                    </a:lnTo>
                    <a:lnTo>
                      <a:pt x="25" y="20"/>
                    </a:lnTo>
                    <a:lnTo>
                      <a:pt x="60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7" y="18"/>
                    </a:lnTo>
                    <a:lnTo>
                      <a:pt x="69" y="1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4443480" y="3257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4395960" y="3243240"/>
                <a:ext cx="41040" cy="1548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0"/>
                    </a:moveTo>
                    <a:lnTo>
                      <a:pt x="0" y="15"/>
                    </a:lnTo>
                    <a:lnTo>
                      <a:pt x="36" y="19"/>
                    </a:lnTo>
                    <a:lnTo>
                      <a:pt x="40" y="16"/>
                    </a:lnTo>
                    <a:lnTo>
                      <a:pt x="44" y="13"/>
                    </a:lnTo>
                    <a:lnTo>
                      <a:pt x="49" y="9"/>
                    </a:lnTo>
                    <a:lnTo>
                      <a:pt x="53" y="5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4434120" y="3241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4437000" y="323532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1" y="14"/>
                    </a:moveTo>
                    <a:lnTo>
                      <a:pt x="71" y="1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62" y="25"/>
                    </a:lnTo>
                    <a:lnTo>
                      <a:pt x="64" y="22"/>
                    </a:lnTo>
                    <a:lnTo>
                      <a:pt x="66" y="19"/>
                    </a:lnTo>
                    <a:lnTo>
                      <a:pt x="68" y="17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4437360" y="3252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4389480" y="3238560"/>
                <a:ext cx="42480" cy="1548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0" y="9"/>
                    </a:moveTo>
                    <a:lnTo>
                      <a:pt x="0" y="15"/>
                    </a:lnTo>
                    <a:lnTo>
                      <a:pt x="38" y="20"/>
                    </a:lnTo>
                    <a:lnTo>
                      <a:pt x="43" y="16"/>
                    </a:lnTo>
                    <a:lnTo>
                      <a:pt x="46" y="13"/>
                    </a:lnTo>
                    <a:lnTo>
                      <a:pt x="50" y="9"/>
                    </a:lnTo>
                    <a:lnTo>
                      <a:pt x="53" y="7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4429080" y="3236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>
                <a:off x="4432320" y="3230640"/>
                <a:ext cx="56880" cy="1692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71" y="11"/>
                    </a:moveTo>
                    <a:lnTo>
                      <a:pt x="71" y="7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62" y="21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8" y="15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4432320" y="3246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4383360" y="3233880"/>
                <a:ext cx="42480" cy="13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12"/>
                    </a:moveTo>
                    <a:lnTo>
                      <a:pt x="0" y="14"/>
                    </a:lnTo>
                    <a:lnTo>
                      <a:pt x="39" y="19"/>
                    </a:lnTo>
                    <a:lnTo>
                      <a:pt x="43" y="16"/>
                    </a:lnTo>
                    <a:lnTo>
                      <a:pt x="46" y="14"/>
                    </a:lnTo>
                    <a:lnTo>
                      <a:pt x="51" y="10"/>
                    </a:lnTo>
                    <a:lnTo>
                      <a:pt x="56" y="7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4422960" y="32306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4426200" y="3225960"/>
                <a:ext cx="56880" cy="1548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71" y="11"/>
                    </a:moveTo>
                    <a:lnTo>
                      <a:pt x="71" y="7"/>
                    </a:lnTo>
                    <a:lnTo>
                      <a:pt x="17" y="0"/>
                    </a:lnTo>
                    <a:lnTo>
                      <a:pt x="14" y="3"/>
                    </a:lnTo>
                    <a:lnTo>
                      <a:pt x="9" y="6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62" y="21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9" y="14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4426200" y="324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4376880" y="3227400"/>
                <a:ext cx="42480" cy="1548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0" y="9"/>
                    </a:moveTo>
                    <a:lnTo>
                      <a:pt x="0" y="14"/>
                    </a:lnTo>
                    <a:lnTo>
                      <a:pt x="38" y="21"/>
                    </a:lnTo>
                    <a:lnTo>
                      <a:pt x="42" y="17"/>
                    </a:lnTo>
                    <a:lnTo>
                      <a:pt x="46" y="14"/>
                    </a:lnTo>
                    <a:lnTo>
                      <a:pt x="51" y="11"/>
                    </a:lnTo>
                    <a:lnTo>
                      <a:pt x="54" y="7"/>
                    </a:lnTo>
                    <a:lnTo>
                      <a:pt x="19" y="0"/>
                    </a:lnTo>
                    <a:lnTo>
                      <a:pt x="14" y="4"/>
                    </a:lnTo>
                    <a:lnTo>
                      <a:pt x="9" y="6"/>
                    </a:lnTo>
                    <a:lnTo>
                      <a:pt x="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4416480" y="3225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4419720" y="3219480"/>
                <a:ext cx="55440" cy="16920"/>
              </a:xfrm>
              <a:custGeom>
                <a:avLst/>
                <a:gdLst/>
                <a:ahLst/>
                <a:rect l="l" t="t" r="r" b="b"/>
                <a:pathLst>
                  <a:path w="69" h="22">
                    <a:moveTo>
                      <a:pt x="69" y="12"/>
                    </a:moveTo>
                    <a:lnTo>
                      <a:pt x="69" y="8"/>
                    </a:lnTo>
                    <a:lnTo>
                      <a:pt x="16" y="0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59" y="22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6" y="16"/>
                    </a:lnTo>
                    <a:lnTo>
                      <a:pt x="69" y="1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4419720" y="32353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4372200" y="3224160"/>
                <a:ext cx="41040" cy="1404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11"/>
                    </a:moveTo>
                    <a:lnTo>
                      <a:pt x="0" y="11"/>
                    </a:lnTo>
                    <a:lnTo>
                      <a:pt x="39" y="18"/>
                    </a:lnTo>
                    <a:lnTo>
                      <a:pt x="42" y="15"/>
                    </a:lnTo>
                    <a:lnTo>
                      <a:pt x="45" y="11"/>
                    </a:lnTo>
                    <a:lnTo>
                      <a:pt x="49" y="8"/>
                    </a:lnTo>
                    <a:lnTo>
                      <a:pt x="52" y="4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4411800" y="3219480"/>
                <a:ext cx="1440" cy="2880"/>
              </a:xfrm>
              <a:prstGeom prst="rect">
                <a:avLst/>
              </a:pr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4413240" y="3213000"/>
                <a:ext cx="55080" cy="172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71" y="10"/>
                    </a:moveTo>
                    <a:lnTo>
                      <a:pt x="71" y="7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5" y="17"/>
                    </a:lnTo>
                    <a:lnTo>
                      <a:pt x="68" y="14"/>
                    </a:lnTo>
                    <a:lnTo>
                      <a:pt x="71" y="1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4413240" y="3233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4406760" y="3208320"/>
                <a:ext cx="55080" cy="1872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0" y="14"/>
                    </a:moveTo>
                    <a:lnTo>
                      <a:pt x="1" y="14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9" y="9"/>
                    </a:lnTo>
                    <a:lnTo>
                      <a:pt x="66" y="13"/>
                    </a:lnTo>
                    <a:lnTo>
                      <a:pt x="64" y="16"/>
                    </a:lnTo>
                    <a:lnTo>
                      <a:pt x="61" y="21"/>
                    </a:lnTo>
                    <a:lnTo>
                      <a:pt x="58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4365360" y="321768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17" y="0"/>
                    </a:moveTo>
                    <a:lnTo>
                      <a:pt x="14" y="5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0" y="13"/>
                    </a:lnTo>
                    <a:lnTo>
                      <a:pt x="35" y="20"/>
                    </a:lnTo>
                    <a:lnTo>
                      <a:pt x="39" y="17"/>
                    </a:lnTo>
                    <a:lnTo>
                      <a:pt x="43" y="13"/>
                    </a:lnTo>
                    <a:lnTo>
                      <a:pt x="47" y="10"/>
                    </a:lnTo>
                    <a:lnTo>
                      <a:pt x="50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4402080" y="320364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14"/>
                    </a:moveTo>
                    <a:lnTo>
                      <a:pt x="1" y="12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71" y="9"/>
                    </a:lnTo>
                    <a:lnTo>
                      <a:pt x="68" y="13"/>
                    </a:lnTo>
                    <a:lnTo>
                      <a:pt x="64" y="16"/>
                    </a:lnTo>
                    <a:lnTo>
                      <a:pt x="61" y="20"/>
                    </a:lnTo>
                    <a:lnTo>
                      <a:pt x="57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4359600" y="3211560"/>
                <a:ext cx="37440" cy="154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14" y="0"/>
                    </a:move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32" y="19"/>
                    </a:lnTo>
                    <a:lnTo>
                      <a:pt x="37" y="16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4395600" y="319896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77" h="21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7"/>
                    </a:lnTo>
                    <a:lnTo>
                      <a:pt x="17" y="6"/>
                    </a:lnTo>
                    <a:lnTo>
                      <a:pt x="24" y="4"/>
                    </a:lnTo>
                    <a:lnTo>
                      <a:pt x="31" y="0"/>
                    </a:lnTo>
                    <a:lnTo>
                      <a:pt x="77" y="7"/>
                    </a:lnTo>
                    <a:lnTo>
                      <a:pt x="73" y="11"/>
                    </a:lnTo>
                    <a:lnTo>
                      <a:pt x="69" y="14"/>
                    </a:lnTo>
                    <a:lnTo>
                      <a:pt x="66" y="18"/>
                    </a:lnTo>
                    <a:lnTo>
                      <a:pt x="62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354200" y="320688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14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33" y="19"/>
                    </a:lnTo>
                    <a:lnTo>
                      <a:pt x="37" y="15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4392360" y="3193920"/>
                <a:ext cx="52200" cy="1548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27" y="0"/>
                    </a:moveTo>
                    <a:lnTo>
                      <a:pt x="21" y="3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0" y="11"/>
                    </a:lnTo>
                    <a:lnTo>
                      <a:pt x="54" y="20"/>
                    </a:lnTo>
                    <a:lnTo>
                      <a:pt x="58" y="17"/>
                    </a:lnTo>
                    <a:lnTo>
                      <a:pt x="61" y="14"/>
                    </a:lnTo>
                    <a:lnTo>
                      <a:pt x="64" y="13"/>
                    </a:lnTo>
                    <a:lnTo>
                      <a:pt x="67" y="11"/>
                    </a:lnTo>
                    <a:lnTo>
                      <a:pt x="66" y="9"/>
                    </a:lnTo>
                    <a:lnTo>
                      <a:pt x="65" y="8"/>
                    </a:lnTo>
                    <a:lnTo>
                      <a:pt x="64" y="5"/>
                    </a:lnTo>
                    <a:lnTo>
                      <a:pt x="62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4348080" y="320040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16" y="0"/>
                    </a:moveTo>
                    <a:lnTo>
                      <a:pt x="13" y="3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33" y="18"/>
                    </a:lnTo>
                    <a:lnTo>
                      <a:pt x="37" y="15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4392360" y="318780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20" y="0"/>
                    </a:moveTo>
                    <a:lnTo>
                      <a:pt x="16" y="4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46" y="22"/>
                    </a:lnTo>
                    <a:lnTo>
                      <a:pt x="48" y="21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0" y="17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4340160" y="319572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17" y="0"/>
                    </a:moveTo>
                    <a:lnTo>
                      <a:pt x="12" y="3"/>
                    </a:lnTo>
                    <a:lnTo>
                      <a:pt x="9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33" y="18"/>
                    </a:lnTo>
                    <a:lnTo>
                      <a:pt x="38" y="15"/>
                    </a:lnTo>
                    <a:lnTo>
                      <a:pt x="42" y="11"/>
                    </a:lnTo>
                    <a:lnTo>
                      <a:pt x="46" y="8"/>
                    </a:lnTo>
                    <a:lnTo>
                      <a:pt x="51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4389480" y="3181320"/>
                <a:ext cx="34560" cy="154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8" y="0"/>
                    </a:moveTo>
                    <a:lnTo>
                      <a:pt x="13" y="3"/>
                    </a:lnTo>
                    <a:lnTo>
                      <a:pt x="9" y="6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8" y="12"/>
                    </a:lnTo>
                    <a:lnTo>
                      <a:pt x="39" y="9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4335120" y="318924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17" y="0"/>
                    </a:moveTo>
                    <a:lnTo>
                      <a:pt x="13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0" y="15"/>
                    </a:lnTo>
                    <a:lnTo>
                      <a:pt x="31" y="19"/>
                    </a:lnTo>
                    <a:lnTo>
                      <a:pt x="36" y="16"/>
                    </a:lnTo>
                    <a:lnTo>
                      <a:pt x="40" y="12"/>
                    </a:lnTo>
                    <a:lnTo>
                      <a:pt x="45" y="9"/>
                    </a:lnTo>
                    <a:lnTo>
                      <a:pt x="48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4386600" y="3178080"/>
                <a:ext cx="29520" cy="126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16" y="0"/>
                    </a:moveTo>
                    <a:lnTo>
                      <a:pt x="13" y="2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29" y="16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6"/>
                    </a:lnTo>
                    <a:lnTo>
                      <a:pt x="3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4329000" y="318600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23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34" y="17"/>
                    </a:lnTo>
                    <a:lnTo>
                      <a:pt x="37" y="14"/>
                    </a:lnTo>
                    <a:lnTo>
                      <a:pt x="40" y="9"/>
                    </a:lnTo>
                    <a:lnTo>
                      <a:pt x="44" y="6"/>
                    </a:lnTo>
                    <a:lnTo>
                      <a:pt x="47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4381560" y="3173400"/>
                <a:ext cx="26640" cy="1224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5" y="0"/>
                    </a:moveTo>
                    <a:lnTo>
                      <a:pt x="10" y="2"/>
                    </a:lnTo>
                    <a:lnTo>
                      <a:pt x="7" y="5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24" y="16"/>
                    </a:lnTo>
                    <a:lnTo>
                      <a:pt x="27" y="13"/>
                    </a:lnTo>
                    <a:lnTo>
                      <a:pt x="29" y="9"/>
                    </a:lnTo>
                    <a:lnTo>
                      <a:pt x="32" y="6"/>
                    </a:lnTo>
                    <a:lnTo>
                      <a:pt x="36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4324680" y="31798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2"/>
                    </a:moveTo>
                    <a:lnTo>
                      <a:pt x="5" y="11"/>
                    </a:lnTo>
                    <a:lnTo>
                      <a:pt x="10" y="8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13"/>
                    </a:lnTo>
                    <a:lnTo>
                      <a:pt x="31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4376880" y="3166920"/>
                <a:ext cx="26640" cy="126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15" y="0"/>
                    </a:moveTo>
                    <a:lnTo>
                      <a:pt x="12" y="4"/>
                    </a:lnTo>
                    <a:lnTo>
                      <a:pt x="8" y="7"/>
                    </a:lnTo>
                    <a:lnTo>
                      <a:pt x="3" y="10"/>
                    </a:lnTo>
                    <a:lnTo>
                      <a:pt x="0" y="14"/>
                    </a:lnTo>
                    <a:lnTo>
                      <a:pt x="22" y="16"/>
                    </a:lnTo>
                    <a:lnTo>
                      <a:pt x="25" y="13"/>
                    </a:lnTo>
                    <a:lnTo>
                      <a:pt x="29" y="9"/>
                    </a:lnTo>
                    <a:lnTo>
                      <a:pt x="31" y="6"/>
                    </a:lnTo>
                    <a:lnTo>
                      <a:pt x="3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4317840" y="31748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4"/>
                    </a:moveTo>
                    <a:lnTo>
                      <a:pt x="1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38" y="5"/>
                    </a:lnTo>
                    <a:lnTo>
                      <a:pt x="36" y="7"/>
                    </a:lnTo>
                    <a:lnTo>
                      <a:pt x="32" y="10"/>
                    </a:lnTo>
                    <a:lnTo>
                      <a:pt x="28" y="13"/>
                    </a:lnTo>
                    <a:lnTo>
                      <a:pt x="24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4371840" y="316080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16" y="0"/>
                    </a:moveTo>
                    <a:lnTo>
                      <a:pt x="12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5" y="10"/>
                    </a:lnTo>
                    <a:lnTo>
                      <a:pt x="29" y="7"/>
                    </a:lnTo>
                    <a:lnTo>
                      <a:pt x="3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4314600" y="3168720"/>
                <a:ext cx="28440" cy="136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0" y="14"/>
                    </a:moveTo>
                    <a:lnTo>
                      <a:pt x="0" y="12"/>
                    </a:lnTo>
                    <a:lnTo>
                      <a:pt x="5" y="8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4367160" y="315612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1" y="0"/>
                    </a:moveTo>
                    <a:lnTo>
                      <a:pt x="16" y="4"/>
                    </a:lnTo>
                    <a:lnTo>
                      <a:pt x="10" y="7"/>
                    </a:lnTo>
                    <a:lnTo>
                      <a:pt x="6" y="10"/>
                    </a:lnTo>
                    <a:lnTo>
                      <a:pt x="0" y="15"/>
                    </a:lnTo>
                    <a:lnTo>
                      <a:pt x="18" y="17"/>
                    </a:lnTo>
                    <a:lnTo>
                      <a:pt x="22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1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>
                <a:off x="4314600" y="3165480"/>
                <a:ext cx="21960" cy="122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1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20" y="3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4"/>
                    </a:lnTo>
                    <a:lnTo>
                      <a:pt x="24" y="15"/>
                    </a:lnTo>
                    <a:lnTo>
                      <a:pt x="23" y="1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4364280" y="315108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1"/>
                    </a:moveTo>
                    <a:lnTo>
                      <a:pt x="6" y="8"/>
                    </a:lnTo>
                    <a:lnTo>
                      <a:pt x="12" y="4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2" y="6"/>
                    </a:lnTo>
                    <a:lnTo>
                      <a:pt x="19" y="10"/>
                    </a:lnTo>
                    <a:lnTo>
                      <a:pt x="16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4318200" y="31654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3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4364280" y="31510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4"/>
                    </a:moveTo>
                    <a:lnTo>
                      <a:pt x="3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>
                <a:off x="4549680" y="32734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>
                <a:off x="4549680" y="3273480"/>
                <a:ext cx="1080" cy="2880"/>
              </a:xfrm>
              <a:prstGeom prst="rect">
                <a:avLst/>
              </a:pr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4549680" y="3271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4549680" y="3271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4549680" y="327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4546800" y="3270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4546800" y="3268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4546800" y="3268800"/>
                <a:ext cx="4320" cy="108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4546800" y="32688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4545360" y="3267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4545360" y="3267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4545360" y="32655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4545360" y="3265560"/>
                <a:ext cx="4320" cy="1080"/>
              </a:xfrm>
              <a:prstGeom prst="rect">
                <a:avLst/>
              </a:pr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4543200" y="32637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4543200" y="32637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4543200" y="3260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4541760" y="3260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4541760" y="3259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3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4541760" y="3259080"/>
                <a:ext cx="7560" cy="144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4541760" y="3257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4540320" y="3257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4540320" y="3257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4539960" y="3255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2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4539960" y="32558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5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4538520" y="3254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5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4538880" y="32544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4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4538880" y="3254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4538520" y="3252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4535640" y="3252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4535640" y="3252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4516200" y="32558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>
                <a:off x="4514760" y="32529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7" y="12"/>
                    </a:lnTo>
                    <a:lnTo>
                      <a:pt x="1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>
                <a:off x="4513320" y="324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3" y="0"/>
                    </a:moveTo>
                    <a:lnTo>
                      <a:pt x="0" y="10"/>
                    </a:lnTo>
                    <a:lnTo>
                      <a:pt x="7" y="12"/>
                    </a:lnTo>
                    <a:lnTo>
                      <a:pt x="12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4511880" y="32432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5" y="0"/>
                    </a:moveTo>
                    <a:lnTo>
                      <a:pt x="0" y="10"/>
                    </a:lnTo>
                    <a:lnTo>
                      <a:pt x="9" y="13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>
                <a:off x="4508640" y="32400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0" y="10"/>
                    </a:lnTo>
                    <a:lnTo>
                      <a:pt x="9" y="13"/>
                    </a:lnTo>
                    <a:lnTo>
                      <a:pt x="1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H="1">
                <a:off x="4507200" y="323676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2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15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4505040" y="32338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4" y="0"/>
                    </a:moveTo>
                    <a:lnTo>
                      <a:pt x="0" y="9"/>
                    </a:lnTo>
                    <a:lnTo>
                      <a:pt x="13" y="12"/>
                    </a:lnTo>
                    <a:lnTo>
                      <a:pt x="1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4503960" y="32288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5" y="0"/>
                    </a:moveTo>
                    <a:lnTo>
                      <a:pt x="0" y="10"/>
                    </a:lnTo>
                    <a:lnTo>
                      <a:pt x="13" y="12"/>
                    </a:lnTo>
                    <a:lnTo>
                      <a:pt x="1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4501800" y="32259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3" y="0"/>
                    </a:moveTo>
                    <a:lnTo>
                      <a:pt x="0" y="9"/>
                    </a:lnTo>
                    <a:lnTo>
                      <a:pt x="13" y="11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4499280" y="3222720"/>
                <a:ext cx="13680" cy="7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9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7" y="3"/>
                    </a:lnTo>
                    <a:lnTo>
                      <a:pt x="12" y="1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4499280" y="32176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7" y="3"/>
                    </a:lnTo>
                    <a:lnTo>
                      <a:pt x="15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4497120" y="32130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8" y="0"/>
                    </a:moveTo>
                    <a:lnTo>
                      <a:pt x="6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7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4496040" y="32097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4" y="0"/>
                    </a:move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9" y="12"/>
                    </a:lnTo>
                    <a:lnTo>
                      <a:pt x="1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4494240" y="320688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9" y="11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4492800" y="32036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0"/>
                    </a:moveTo>
                    <a:lnTo>
                      <a:pt x="4" y="3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4491000" y="32004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4489560" y="31971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4486320" y="31939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4484880" y="31892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4483080" y="31860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5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4480200" y="31813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5" y="0"/>
                    </a:moveTo>
                    <a:lnTo>
                      <a:pt x="5" y="2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4478040" y="317808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4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4476960" y="31748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7" y="0"/>
                    </a:move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4868280" y="3071880"/>
              <a:ext cx="1260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4868280" y="3071880"/>
              <a:ext cx="1260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868280" y="3070440"/>
              <a:ext cx="11160" cy="32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2" y="0"/>
                  </a:moveTo>
                  <a:lnTo>
                    <a:pt x="0" y="2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873680" y="3070440"/>
              <a:ext cx="648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356360" y="31622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4353120" y="3160800"/>
              <a:ext cx="144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350600" y="3157560"/>
              <a:ext cx="180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4345920" y="315612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>
            <a:off x="1422360" y="5294160"/>
            <a:ext cx="648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8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afcc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434960" y="5292720"/>
            <a:ext cx="3240" cy="1440"/>
          </a:xfrm>
          <a:prstGeom prst="rect">
            <a:avLst/>
          </a:prstGeom>
          <a:solidFill>
            <a:srgbClr val="d3c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438200" y="5292720"/>
            <a:ext cx="324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dc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446120" y="5289480"/>
            <a:ext cx="1800" cy="1800"/>
          </a:xfrm>
          <a:prstGeom prst="rect">
            <a:avLst/>
          </a:prstGeom>
          <a:solidFill>
            <a:srgbClr val="f4c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447920" y="5289480"/>
            <a:ext cx="1440" cy="1800"/>
          </a:xfrm>
          <a:prstGeom prst="rect">
            <a:avLst/>
          </a:prstGeom>
          <a:solidFill>
            <a:srgbClr val="f7c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47640" y="4713120"/>
            <a:ext cx="12960" cy="180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4"/>
                </a:moveTo>
                <a:lnTo>
                  <a:pt x="17" y="0"/>
                </a:lnTo>
                <a:lnTo>
                  <a:pt x="17" y="4"/>
                </a:lnTo>
                <a:lnTo>
                  <a:pt x="0" y="4"/>
                </a:lnTo>
                <a:close/>
              </a:path>
            </a:pathLst>
          </a:custGeom>
          <a:solidFill>
            <a:srgbClr val="f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554120" y="4713120"/>
            <a:ext cx="6480" cy="180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4"/>
                </a:moveTo>
                <a:lnTo>
                  <a:pt x="9" y="0"/>
                </a:lnTo>
                <a:lnTo>
                  <a:pt x="9" y="4"/>
                </a:lnTo>
                <a:lnTo>
                  <a:pt x="0" y="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673600" y="5073480"/>
            <a:ext cx="7920" cy="9720"/>
          </a:xfrm>
          <a:prstGeom prst="rect">
            <a:avLst/>
          </a:prstGeom>
          <a:solidFill>
            <a:srgbClr val="d19e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673600" y="5068800"/>
            <a:ext cx="7920" cy="9720"/>
          </a:xfrm>
          <a:prstGeom prst="rect">
            <a:avLst/>
          </a:prstGeom>
          <a:solidFill>
            <a:srgbClr val="cc9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673600" y="5062680"/>
            <a:ext cx="7920" cy="10800"/>
          </a:xfrm>
          <a:prstGeom prst="rect">
            <a:avLst/>
          </a:prstGeom>
          <a:solidFill>
            <a:srgbClr val="c49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676840" y="5046840"/>
            <a:ext cx="4680" cy="10800"/>
          </a:xfrm>
          <a:prstGeom prst="rect">
            <a:avLst/>
          </a:prstGeom>
          <a:solidFill>
            <a:srgbClr val="b58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76840" y="5041800"/>
            <a:ext cx="4680" cy="11160"/>
          </a:xfrm>
          <a:prstGeom prst="rect">
            <a:avLst/>
          </a:prstGeom>
          <a:solidFill>
            <a:srgbClr val="af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676840" y="5037120"/>
            <a:ext cx="4680" cy="9720"/>
          </a:xfrm>
          <a:prstGeom prst="rect">
            <a:avLst/>
          </a:prstGeom>
          <a:solidFill>
            <a:srgbClr val="aa77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676840" y="5030640"/>
            <a:ext cx="4680" cy="11160"/>
          </a:xfrm>
          <a:prstGeom prst="rect">
            <a:avLst/>
          </a:prstGeom>
          <a:solidFill>
            <a:srgbClr val="a572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535720" y="5005440"/>
            <a:ext cx="1440" cy="11160"/>
          </a:xfrm>
          <a:prstGeom prst="rect">
            <a:avLst/>
          </a:prstGeom>
          <a:solidFill>
            <a:srgbClr val="8c5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535720" y="5000760"/>
            <a:ext cx="1440" cy="9360"/>
          </a:xfrm>
          <a:prstGeom prst="rect">
            <a:avLst/>
          </a:prstGeom>
          <a:solidFill>
            <a:srgbClr val="875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535720" y="4994280"/>
            <a:ext cx="1440" cy="11160"/>
          </a:xfrm>
          <a:custGeom>
            <a:avLst/>
            <a:gdLst/>
            <a:ahLst/>
            <a:rect l="l" t="t" r="r" b="b"/>
            <a:pathLst>
              <a:path w="3" h="13">
                <a:moveTo>
                  <a:pt x="3" y="0"/>
                </a:moveTo>
                <a:lnTo>
                  <a:pt x="0" y="13"/>
                </a:lnTo>
                <a:lnTo>
                  <a:pt x="3" y="13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824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535720" y="4989600"/>
            <a:ext cx="1440" cy="11160"/>
          </a:xfrm>
          <a:custGeom>
            <a:avLst/>
            <a:gdLst/>
            <a:ahLst/>
            <a:rect l="l" t="t" r="r" b="b"/>
            <a:pathLst>
              <a:path w="3" h="14">
                <a:moveTo>
                  <a:pt x="3" y="0"/>
                </a:moveTo>
                <a:lnTo>
                  <a:pt x="0" y="14"/>
                </a:lnTo>
                <a:lnTo>
                  <a:pt x="3" y="14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7c49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680080" y="4983120"/>
            <a:ext cx="1440" cy="11160"/>
          </a:xfrm>
          <a:custGeom>
            <a:avLst/>
            <a:gdLst/>
            <a:ahLst/>
            <a:rect l="l" t="t" r="r" b="b"/>
            <a:pathLst>
              <a:path w="4" h="14">
                <a:moveTo>
                  <a:pt x="0" y="0"/>
                </a:moveTo>
                <a:lnTo>
                  <a:pt x="4" y="14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542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508720" y="4973760"/>
            <a:ext cx="11160" cy="6120"/>
          </a:xfrm>
          <a:prstGeom prst="rect">
            <a:avLst/>
          </a:pr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57760" y="4973760"/>
            <a:ext cx="6480" cy="612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381560" y="2190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430880" y="22543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240080" y="2274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"/>
          <p:cNvGrpSpPr/>
          <p:nvPr/>
        </p:nvGrpSpPr>
        <p:grpSpPr>
          <a:xfrm>
            <a:off x="3962520" y="3182760"/>
            <a:ext cx="1217520" cy="1252800"/>
            <a:chOff x="3962520" y="3182760"/>
            <a:chExt cx="1217520" cy="1252800"/>
          </a:xfrm>
        </p:grpSpPr>
        <p:sp>
          <p:nvSpPr>
            <p:cNvPr id="2018" name=""/>
            <p:cNvSpPr/>
            <p:nvPr/>
          </p:nvSpPr>
          <p:spPr>
            <a:xfrm>
              <a:off x="3962520" y="3194640"/>
              <a:ext cx="483840" cy="56808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0" y="86"/>
                  </a:moveTo>
                  <a:lnTo>
                    <a:pt x="2" y="73"/>
                  </a:lnTo>
                  <a:lnTo>
                    <a:pt x="4" y="67"/>
                  </a:lnTo>
                  <a:lnTo>
                    <a:pt x="8" y="54"/>
                  </a:lnTo>
                  <a:lnTo>
                    <a:pt x="15" y="40"/>
                  </a:lnTo>
                  <a:lnTo>
                    <a:pt x="25" y="29"/>
                  </a:lnTo>
                  <a:lnTo>
                    <a:pt x="36" y="17"/>
                  </a:lnTo>
                  <a:lnTo>
                    <a:pt x="48" y="9"/>
                  </a:lnTo>
                  <a:lnTo>
                    <a:pt x="63" y="2"/>
                  </a:lnTo>
                  <a:lnTo>
                    <a:pt x="75" y="0"/>
                  </a:lnTo>
                  <a:lnTo>
                    <a:pt x="67" y="9"/>
                  </a:lnTo>
                  <a:lnTo>
                    <a:pt x="55" y="23"/>
                  </a:lnTo>
                  <a:lnTo>
                    <a:pt x="46" y="40"/>
                  </a:lnTo>
                  <a:lnTo>
                    <a:pt x="40" y="56"/>
                  </a:lnTo>
                  <a:lnTo>
                    <a:pt x="36" y="73"/>
                  </a:lnTo>
                  <a:lnTo>
                    <a:pt x="36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62520" y="3841920"/>
              <a:ext cx="502920" cy="5799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0"/>
                  </a:moveTo>
                  <a:lnTo>
                    <a:pt x="2" y="17"/>
                  </a:lnTo>
                  <a:lnTo>
                    <a:pt x="8" y="30"/>
                  </a:lnTo>
                  <a:lnTo>
                    <a:pt x="15" y="46"/>
                  </a:lnTo>
                  <a:lnTo>
                    <a:pt x="23" y="57"/>
                  </a:lnTo>
                  <a:lnTo>
                    <a:pt x="34" y="69"/>
                  </a:lnTo>
                  <a:lnTo>
                    <a:pt x="46" y="78"/>
                  </a:lnTo>
                  <a:lnTo>
                    <a:pt x="59" y="84"/>
                  </a:lnTo>
                  <a:lnTo>
                    <a:pt x="67" y="86"/>
                  </a:lnTo>
                  <a:lnTo>
                    <a:pt x="75" y="88"/>
                  </a:lnTo>
                  <a:lnTo>
                    <a:pt x="78" y="88"/>
                  </a:lnTo>
                  <a:lnTo>
                    <a:pt x="67" y="75"/>
                  </a:lnTo>
                  <a:lnTo>
                    <a:pt x="55" y="61"/>
                  </a:lnTo>
                  <a:lnTo>
                    <a:pt x="46" y="46"/>
                  </a:lnTo>
                  <a:lnTo>
                    <a:pt x="40" y="29"/>
                  </a:lnTo>
                  <a:lnTo>
                    <a:pt x="36" y="11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84000" y="3182760"/>
              <a:ext cx="258480" cy="579960"/>
            </a:xfrm>
            <a:custGeom>
              <a:avLst/>
              <a:gdLst/>
              <a:ahLst/>
              <a:rect l="l" t="t" r="r" b="b"/>
              <a:pathLst>
                <a:path w="40" h="88">
                  <a:moveTo>
                    <a:pt x="40" y="0"/>
                  </a:moveTo>
                  <a:lnTo>
                    <a:pt x="28" y="11"/>
                  </a:lnTo>
                  <a:lnTo>
                    <a:pt x="19" y="25"/>
                  </a:lnTo>
                  <a:lnTo>
                    <a:pt x="9" y="42"/>
                  </a:lnTo>
                  <a:lnTo>
                    <a:pt x="3" y="58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40" y="8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72120" y="3841920"/>
              <a:ext cx="257040" cy="579960"/>
            </a:xfrm>
            <a:custGeom>
              <a:avLst/>
              <a:gdLst/>
              <a:ahLst/>
              <a:rect l="l" t="t" r="r" b="b"/>
              <a:pathLst>
                <a:path w="40" h="88">
                  <a:moveTo>
                    <a:pt x="4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5" y="29"/>
                  </a:lnTo>
                  <a:lnTo>
                    <a:pt x="11" y="46"/>
                  </a:lnTo>
                  <a:lnTo>
                    <a:pt x="21" y="61"/>
                  </a:lnTo>
                  <a:lnTo>
                    <a:pt x="30" y="78"/>
                  </a:lnTo>
                  <a:lnTo>
                    <a:pt x="40" y="8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3040" y="3841920"/>
              <a:ext cx="264600" cy="59364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0" y="90"/>
                  </a:moveTo>
                  <a:lnTo>
                    <a:pt x="10" y="78"/>
                  </a:lnTo>
                  <a:lnTo>
                    <a:pt x="21" y="65"/>
                  </a:lnTo>
                  <a:lnTo>
                    <a:pt x="29" y="48"/>
                  </a:lnTo>
                  <a:lnTo>
                    <a:pt x="35" y="30"/>
                  </a:lnTo>
                  <a:lnTo>
                    <a:pt x="39" y="1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13040" y="3182760"/>
              <a:ext cx="264600" cy="57996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88"/>
                  </a:moveTo>
                  <a:lnTo>
                    <a:pt x="41" y="88"/>
                  </a:lnTo>
                  <a:lnTo>
                    <a:pt x="39" y="79"/>
                  </a:lnTo>
                  <a:lnTo>
                    <a:pt x="35" y="59"/>
                  </a:lnTo>
                  <a:lnTo>
                    <a:pt x="29" y="44"/>
                  </a:lnTo>
                  <a:lnTo>
                    <a:pt x="21" y="27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690440" y="3841920"/>
              <a:ext cx="489600" cy="57996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76" y="0"/>
                  </a:moveTo>
                  <a:lnTo>
                    <a:pt x="76" y="13"/>
                  </a:lnTo>
                  <a:lnTo>
                    <a:pt x="73" y="21"/>
                  </a:lnTo>
                  <a:lnTo>
                    <a:pt x="69" y="32"/>
                  </a:lnTo>
                  <a:lnTo>
                    <a:pt x="63" y="46"/>
                  </a:lnTo>
                  <a:lnTo>
                    <a:pt x="51" y="59"/>
                  </a:lnTo>
                  <a:lnTo>
                    <a:pt x="40" y="71"/>
                  </a:lnTo>
                  <a:lnTo>
                    <a:pt x="29" y="78"/>
                  </a:lnTo>
                  <a:lnTo>
                    <a:pt x="13" y="84"/>
                  </a:lnTo>
                  <a:lnTo>
                    <a:pt x="0" y="88"/>
                  </a:lnTo>
                  <a:lnTo>
                    <a:pt x="9" y="78"/>
                  </a:lnTo>
                  <a:lnTo>
                    <a:pt x="21" y="65"/>
                  </a:lnTo>
                  <a:lnTo>
                    <a:pt x="30" y="48"/>
                  </a:lnTo>
                  <a:lnTo>
                    <a:pt x="36" y="30"/>
                  </a:lnTo>
                  <a:lnTo>
                    <a:pt x="38" y="13"/>
                  </a:lnTo>
                  <a:lnTo>
                    <a:pt x="4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677120" y="3182760"/>
              <a:ext cx="502920" cy="5799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8" y="88"/>
                  </a:moveTo>
                  <a:lnTo>
                    <a:pt x="76" y="73"/>
                  </a:lnTo>
                  <a:lnTo>
                    <a:pt x="73" y="58"/>
                  </a:lnTo>
                  <a:lnTo>
                    <a:pt x="65" y="44"/>
                  </a:lnTo>
                  <a:lnTo>
                    <a:pt x="55" y="33"/>
                  </a:lnTo>
                  <a:lnTo>
                    <a:pt x="46" y="21"/>
                  </a:lnTo>
                  <a:lnTo>
                    <a:pt x="32" y="11"/>
                  </a:lnTo>
                  <a:lnTo>
                    <a:pt x="19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11" y="13"/>
                  </a:lnTo>
                  <a:lnTo>
                    <a:pt x="23" y="27"/>
                  </a:lnTo>
                  <a:lnTo>
                    <a:pt x="32" y="44"/>
                  </a:lnTo>
                  <a:lnTo>
                    <a:pt x="38" y="59"/>
                  </a:lnTo>
                  <a:lnTo>
                    <a:pt x="40" y="79"/>
                  </a:lnTo>
                  <a:lnTo>
                    <a:pt x="42" y="88"/>
                  </a:lnTo>
                  <a:lnTo>
                    <a:pt x="78" y="88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"/>
          <p:cNvGrpSpPr/>
          <p:nvPr/>
        </p:nvGrpSpPr>
        <p:grpSpPr>
          <a:xfrm>
            <a:off x="3371760" y="2808360"/>
            <a:ext cx="2400120" cy="2001600"/>
            <a:chOff x="3371760" y="2808360"/>
            <a:chExt cx="2400120" cy="2001600"/>
          </a:xfrm>
        </p:grpSpPr>
        <p:sp>
          <p:nvSpPr>
            <p:cNvPr id="2027" name=""/>
            <p:cNvSpPr/>
            <p:nvPr/>
          </p:nvSpPr>
          <p:spPr>
            <a:xfrm>
              <a:off x="3371760" y="2808360"/>
              <a:ext cx="240012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381120" y="2815920"/>
              <a:ext cx="2381400" cy="1985760"/>
            </a:xfrm>
            <a:custGeom>
              <a:avLst/>
              <a:gdLst/>
              <a:ahLst/>
              <a:rect l="l" t="t" r="r" b="b"/>
              <a:pathLst>
                <a:path w="5999" h="5003">
                  <a:moveTo>
                    <a:pt x="761" y="1629"/>
                  </a:moveTo>
                  <a:lnTo>
                    <a:pt x="723" y="821"/>
                  </a:lnTo>
                  <a:lnTo>
                    <a:pt x="693" y="756"/>
                  </a:lnTo>
                  <a:lnTo>
                    <a:pt x="526" y="624"/>
                  </a:lnTo>
                  <a:lnTo>
                    <a:pt x="459" y="595"/>
                  </a:lnTo>
                  <a:lnTo>
                    <a:pt x="435" y="563"/>
                  </a:lnTo>
                  <a:lnTo>
                    <a:pt x="416" y="550"/>
                  </a:lnTo>
                  <a:lnTo>
                    <a:pt x="398" y="539"/>
                  </a:lnTo>
                  <a:lnTo>
                    <a:pt x="383" y="530"/>
                  </a:lnTo>
                  <a:lnTo>
                    <a:pt x="368" y="521"/>
                  </a:lnTo>
                  <a:lnTo>
                    <a:pt x="354" y="513"/>
                  </a:lnTo>
                  <a:lnTo>
                    <a:pt x="341" y="505"/>
                  </a:lnTo>
                  <a:lnTo>
                    <a:pt x="328" y="497"/>
                  </a:lnTo>
                  <a:lnTo>
                    <a:pt x="317" y="489"/>
                  </a:lnTo>
                  <a:lnTo>
                    <a:pt x="305" y="480"/>
                  </a:lnTo>
                  <a:lnTo>
                    <a:pt x="294" y="470"/>
                  </a:lnTo>
                  <a:lnTo>
                    <a:pt x="282" y="460"/>
                  </a:lnTo>
                  <a:lnTo>
                    <a:pt x="271" y="448"/>
                  </a:lnTo>
                  <a:lnTo>
                    <a:pt x="260" y="434"/>
                  </a:lnTo>
                  <a:lnTo>
                    <a:pt x="249" y="417"/>
                  </a:lnTo>
                  <a:lnTo>
                    <a:pt x="238" y="399"/>
                  </a:lnTo>
                  <a:lnTo>
                    <a:pt x="226" y="379"/>
                  </a:lnTo>
                  <a:lnTo>
                    <a:pt x="33" y="233"/>
                  </a:lnTo>
                  <a:lnTo>
                    <a:pt x="0" y="29"/>
                  </a:lnTo>
                  <a:lnTo>
                    <a:pt x="48" y="0"/>
                  </a:lnTo>
                  <a:lnTo>
                    <a:pt x="138" y="25"/>
                  </a:lnTo>
                  <a:lnTo>
                    <a:pt x="152" y="37"/>
                  </a:lnTo>
                  <a:lnTo>
                    <a:pt x="167" y="49"/>
                  </a:lnTo>
                  <a:lnTo>
                    <a:pt x="181" y="60"/>
                  </a:lnTo>
                  <a:lnTo>
                    <a:pt x="195" y="71"/>
                  </a:lnTo>
                  <a:lnTo>
                    <a:pt x="209" y="81"/>
                  </a:lnTo>
                  <a:lnTo>
                    <a:pt x="223" y="91"/>
                  </a:lnTo>
                  <a:lnTo>
                    <a:pt x="238" y="100"/>
                  </a:lnTo>
                  <a:lnTo>
                    <a:pt x="252" y="109"/>
                  </a:lnTo>
                  <a:lnTo>
                    <a:pt x="267" y="118"/>
                  </a:lnTo>
                  <a:lnTo>
                    <a:pt x="282" y="127"/>
                  </a:lnTo>
                  <a:lnTo>
                    <a:pt x="298" y="136"/>
                  </a:lnTo>
                  <a:lnTo>
                    <a:pt x="313" y="144"/>
                  </a:lnTo>
                  <a:lnTo>
                    <a:pt x="329" y="152"/>
                  </a:lnTo>
                  <a:lnTo>
                    <a:pt x="344" y="161"/>
                  </a:lnTo>
                  <a:lnTo>
                    <a:pt x="360" y="169"/>
                  </a:lnTo>
                  <a:lnTo>
                    <a:pt x="376" y="178"/>
                  </a:lnTo>
                  <a:lnTo>
                    <a:pt x="453" y="229"/>
                  </a:lnTo>
                  <a:lnTo>
                    <a:pt x="466" y="235"/>
                  </a:lnTo>
                  <a:lnTo>
                    <a:pt x="483" y="244"/>
                  </a:lnTo>
                  <a:lnTo>
                    <a:pt x="503" y="256"/>
                  </a:lnTo>
                  <a:lnTo>
                    <a:pt x="525" y="271"/>
                  </a:lnTo>
                  <a:lnTo>
                    <a:pt x="551" y="288"/>
                  </a:lnTo>
                  <a:lnTo>
                    <a:pt x="577" y="308"/>
                  </a:lnTo>
                  <a:lnTo>
                    <a:pt x="605" y="328"/>
                  </a:lnTo>
                  <a:lnTo>
                    <a:pt x="633" y="348"/>
                  </a:lnTo>
                  <a:lnTo>
                    <a:pt x="661" y="369"/>
                  </a:lnTo>
                  <a:lnTo>
                    <a:pt x="689" y="390"/>
                  </a:lnTo>
                  <a:lnTo>
                    <a:pt x="716" y="410"/>
                  </a:lnTo>
                  <a:lnTo>
                    <a:pt x="741" y="429"/>
                  </a:lnTo>
                  <a:lnTo>
                    <a:pt x="765" y="448"/>
                  </a:lnTo>
                  <a:lnTo>
                    <a:pt x="786" y="463"/>
                  </a:lnTo>
                  <a:lnTo>
                    <a:pt x="805" y="476"/>
                  </a:lnTo>
                  <a:lnTo>
                    <a:pt x="820" y="486"/>
                  </a:lnTo>
                  <a:lnTo>
                    <a:pt x="914" y="456"/>
                  </a:lnTo>
                  <a:lnTo>
                    <a:pt x="1016" y="430"/>
                  </a:lnTo>
                  <a:lnTo>
                    <a:pt x="1126" y="411"/>
                  </a:lnTo>
                  <a:lnTo>
                    <a:pt x="1241" y="398"/>
                  </a:lnTo>
                  <a:lnTo>
                    <a:pt x="1362" y="389"/>
                  </a:lnTo>
                  <a:lnTo>
                    <a:pt x="1489" y="386"/>
                  </a:lnTo>
                  <a:lnTo>
                    <a:pt x="1619" y="388"/>
                  </a:lnTo>
                  <a:lnTo>
                    <a:pt x="1754" y="394"/>
                  </a:lnTo>
                  <a:lnTo>
                    <a:pt x="1893" y="405"/>
                  </a:lnTo>
                  <a:lnTo>
                    <a:pt x="2034" y="421"/>
                  </a:lnTo>
                  <a:lnTo>
                    <a:pt x="2177" y="441"/>
                  </a:lnTo>
                  <a:lnTo>
                    <a:pt x="2324" y="465"/>
                  </a:lnTo>
                  <a:lnTo>
                    <a:pt x="2470" y="493"/>
                  </a:lnTo>
                  <a:lnTo>
                    <a:pt x="2617" y="525"/>
                  </a:lnTo>
                  <a:lnTo>
                    <a:pt x="2765" y="560"/>
                  </a:lnTo>
                  <a:lnTo>
                    <a:pt x="2912" y="600"/>
                  </a:lnTo>
                  <a:lnTo>
                    <a:pt x="3058" y="642"/>
                  </a:lnTo>
                  <a:lnTo>
                    <a:pt x="3203" y="688"/>
                  </a:lnTo>
                  <a:lnTo>
                    <a:pt x="3345" y="737"/>
                  </a:lnTo>
                  <a:lnTo>
                    <a:pt x="3485" y="789"/>
                  </a:lnTo>
                  <a:lnTo>
                    <a:pt x="3621" y="844"/>
                  </a:lnTo>
                  <a:lnTo>
                    <a:pt x="3754" y="900"/>
                  </a:lnTo>
                  <a:lnTo>
                    <a:pt x="3882" y="960"/>
                  </a:lnTo>
                  <a:lnTo>
                    <a:pt x="4005" y="1022"/>
                  </a:lnTo>
                  <a:lnTo>
                    <a:pt x="4123" y="1086"/>
                  </a:lnTo>
                  <a:lnTo>
                    <a:pt x="4235" y="1151"/>
                  </a:lnTo>
                  <a:lnTo>
                    <a:pt x="4340" y="1219"/>
                  </a:lnTo>
                  <a:lnTo>
                    <a:pt x="4437" y="1288"/>
                  </a:lnTo>
                  <a:lnTo>
                    <a:pt x="4527" y="1359"/>
                  </a:lnTo>
                  <a:lnTo>
                    <a:pt x="4610" y="1430"/>
                  </a:lnTo>
                  <a:lnTo>
                    <a:pt x="4682" y="1504"/>
                  </a:lnTo>
                  <a:lnTo>
                    <a:pt x="4746" y="1577"/>
                  </a:lnTo>
                  <a:lnTo>
                    <a:pt x="4815" y="1650"/>
                  </a:lnTo>
                  <a:lnTo>
                    <a:pt x="4882" y="1724"/>
                  </a:lnTo>
                  <a:lnTo>
                    <a:pt x="4945" y="1801"/>
                  </a:lnTo>
                  <a:lnTo>
                    <a:pt x="5008" y="1880"/>
                  </a:lnTo>
                  <a:lnTo>
                    <a:pt x="5067" y="1960"/>
                  </a:lnTo>
                  <a:lnTo>
                    <a:pt x="5124" y="2042"/>
                  </a:lnTo>
                  <a:lnTo>
                    <a:pt x="5179" y="2126"/>
                  </a:lnTo>
                  <a:lnTo>
                    <a:pt x="5232" y="2211"/>
                  </a:lnTo>
                  <a:lnTo>
                    <a:pt x="5282" y="2298"/>
                  </a:lnTo>
                  <a:lnTo>
                    <a:pt x="5330" y="2386"/>
                  </a:lnTo>
                  <a:lnTo>
                    <a:pt x="5376" y="2475"/>
                  </a:lnTo>
                  <a:lnTo>
                    <a:pt x="5420" y="2566"/>
                  </a:lnTo>
                  <a:lnTo>
                    <a:pt x="5463" y="2659"/>
                  </a:lnTo>
                  <a:lnTo>
                    <a:pt x="5503" y="2751"/>
                  </a:lnTo>
                  <a:lnTo>
                    <a:pt x="5540" y="2845"/>
                  </a:lnTo>
                  <a:lnTo>
                    <a:pt x="5576" y="2941"/>
                  </a:lnTo>
                  <a:lnTo>
                    <a:pt x="5612" y="3037"/>
                  </a:lnTo>
                  <a:lnTo>
                    <a:pt x="5644" y="3133"/>
                  </a:lnTo>
                  <a:lnTo>
                    <a:pt x="5675" y="3230"/>
                  </a:lnTo>
                  <a:lnTo>
                    <a:pt x="5704" y="3329"/>
                  </a:lnTo>
                  <a:lnTo>
                    <a:pt x="5732" y="3427"/>
                  </a:lnTo>
                  <a:lnTo>
                    <a:pt x="5758" y="3526"/>
                  </a:lnTo>
                  <a:lnTo>
                    <a:pt x="5782" y="3625"/>
                  </a:lnTo>
                  <a:lnTo>
                    <a:pt x="5805" y="3725"/>
                  </a:lnTo>
                  <a:lnTo>
                    <a:pt x="5826" y="3825"/>
                  </a:lnTo>
                  <a:lnTo>
                    <a:pt x="5847" y="3925"/>
                  </a:lnTo>
                  <a:lnTo>
                    <a:pt x="5865" y="4025"/>
                  </a:lnTo>
                  <a:lnTo>
                    <a:pt x="5882" y="4125"/>
                  </a:lnTo>
                  <a:lnTo>
                    <a:pt x="5898" y="4225"/>
                  </a:lnTo>
                  <a:lnTo>
                    <a:pt x="5912" y="4325"/>
                  </a:lnTo>
                  <a:lnTo>
                    <a:pt x="5926" y="4424"/>
                  </a:lnTo>
                  <a:lnTo>
                    <a:pt x="5938" y="4523"/>
                  </a:lnTo>
                  <a:lnTo>
                    <a:pt x="5957" y="4786"/>
                  </a:lnTo>
                  <a:lnTo>
                    <a:pt x="5985" y="4808"/>
                  </a:lnTo>
                  <a:lnTo>
                    <a:pt x="5999" y="4820"/>
                  </a:lnTo>
                  <a:lnTo>
                    <a:pt x="5998" y="4873"/>
                  </a:lnTo>
                  <a:lnTo>
                    <a:pt x="5973" y="4894"/>
                  </a:lnTo>
                  <a:lnTo>
                    <a:pt x="5832" y="4905"/>
                  </a:lnTo>
                  <a:lnTo>
                    <a:pt x="5697" y="4916"/>
                  </a:lnTo>
                  <a:lnTo>
                    <a:pt x="5566" y="4928"/>
                  </a:lnTo>
                  <a:lnTo>
                    <a:pt x="5439" y="4940"/>
                  </a:lnTo>
                  <a:lnTo>
                    <a:pt x="5315" y="4952"/>
                  </a:lnTo>
                  <a:lnTo>
                    <a:pt x="5195" y="4964"/>
                  </a:lnTo>
                  <a:lnTo>
                    <a:pt x="5077" y="4974"/>
                  </a:lnTo>
                  <a:lnTo>
                    <a:pt x="4963" y="4983"/>
                  </a:lnTo>
                  <a:lnTo>
                    <a:pt x="4849" y="4991"/>
                  </a:lnTo>
                  <a:lnTo>
                    <a:pt x="4738" y="4997"/>
                  </a:lnTo>
                  <a:lnTo>
                    <a:pt x="4627" y="5001"/>
                  </a:lnTo>
                  <a:lnTo>
                    <a:pt x="4518" y="5003"/>
                  </a:lnTo>
                  <a:lnTo>
                    <a:pt x="4409" y="5002"/>
                  </a:lnTo>
                  <a:lnTo>
                    <a:pt x="4300" y="4998"/>
                  </a:lnTo>
                  <a:lnTo>
                    <a:pt x="4191" y="4991"/>
                  </a:lnTo>
                  <a:lnTo>
                    <a:pt x="4083" y="4980"/>
                  </a:lnTo>
                  <a:lnTo>
                    <a:pt x="3972" y="4966"/>
                  </a:lnTo>
                  <a:lnTo>
                    <a:pt x="3860" y="4946"/>
                  </a:lnTo>
                  <a:lnTo>
                    <a:pt x="3747" y="4923"/>
                  </a:lnTo>
                  <a:lnTo>
                    <a:pt x="3632" y="4896"/>
                  </a:lnTo>
                  <a:lnTo>
                    <a:pt x="3514" y="4863"/>
                  </a:lnTo>
                  <a:lnTo>
                    <a:pt x="3393" y="4824"/>
                  </a:lnTo>
                  <a:lnTo>
                    <a:pt x="3269" y="4780"/>
                  </a:lnTo>
                  <a:lnTo>
                    <a:pt x="3141" y="4730"/>
                  </a:lnTo>
                  <a:lnTo>
                    <a:pt x="3010" y="4673"/>
                  </a:lnTo>
                  <a:lnTo>
                    <a:pt x="2874" y="4611"/>
                  </a:lnTo>
                  <a:lnTo>
                    <a:pt x="2734" y="4540"/>
                  </a:lnTo>
                  <a:lnTo>
                    <a:pt x="2589" y="4464"/>
                  </a:lnTo>
                  <a:lnTo>
                    <a:pt x="2438" y="4379"/>
                  </a:lnTo>
                  <a:lnTo>
                    <a:pt x="2281" y="4286"/>
                  </a:lnTo>
                  <a:lnTo>
                    <a:pt x="2118" y="4186"/>
                  </a:lnTo>
                  <a:lnTo>
                    <a:pt x="1949" y="4077"/>
                  </a:lnTo>
                  <a:lnTo>
                    <a:pt x="1884" y="3996"/>
                  </a:lnTo>
                  <a:lnTo>
                    <a:pt x="1822" y="3917"/>
                  </a:lnTo>
                  <a:lnTo>
                    <a:pt x="1763" y="3841"/>
                  </a:lnTo>
                  <a:lnTo>
                    <a:pt x="1707" y="3766"/>
                  </a:lnTo>
                  <a:lnTo>
                    <a:pt x="1653" y="3693"/>
                  </a:lnTo>
                  <a:lnTo>
                    <a:pt x="1602" y="3621"/>
                  </a:lnTo>
                  <a:lnTo>
                    <a:pt x="1554" y="3552"/>
                  </a:lnTo>
                  <a:lnTo>
                    <a:pt x="1507" y="3483"/>
                  </a:lnTo>
                  <a:lnTo>
                    <a:pt x="1463" y="3415"/>
                  </a:lnTo>
                  <a:lnTo>
                    <a:pt x="1420" y="3347"/>
                  </a:lnTo>
                  <a:lnTo>
                    <a:pt x="1380" y="3281"/>
                  </a:lnTo>
                  <a:lnTo>
                    <a:pt x="1342" y="3214"/>
                  </a:lnTo>
                  <a:lnTo>
                    <a:pt x="1305" y="3147"/>
                  </a:lnTo>
                  <a:lnTo>
                    <a:pt x="1269" y="3081"/>
                  </a:lnTo>
                  <a:lnTo>
                    <a:pt x="1236" y="3014"/>
                  </a:lnTo>
                  <a:lnTo>
                    <a:pt x="1203" y="2947"/>
                  </a:lnTo>
                  <a:lnTo>
                    <a:pt x="1171" y="2879"/>
                  </a:lnTo>
                  <a:lnTo>
                    <a:pt x="1141" y="2810"/>
                  </a:lnTo>
                  <a:lnTo>
                    <a:pt x="1112" y="2740"/>
                  </a:lnTo>
                  <a:lnTo>
                    <a:pt x="1083" y="2669"/>
                  </a:lnTo>
                  <a:lnTo>
                    <a:pt x="1056" y="2595"/>
                  </a:lnTo>
                  <a:lnTo>
                    <a:pt x="1028" y="2521"/>
                  </a:lnTo>
                  <a:lnTo>
                    <a:pt x="1001" y="2443"/>
                  </a:lnTo>
                  <a:lnTo>
                    <a:pt x="975" y="2364"/>
                  </a:lnTo>
                  <a:lnTo>
                    <a:pt x="949" y="2283"/>
                  </a:lnTo>
                  <a:lnTo>
                    <a:pt x="923" y="2199"/>
                  </a:lnTo>
                  <a:lnTo>
                    <a:pt x="896" y="2112"/>
                  </a:lnTo>
                  <a:lnTo>
                    <a:pt x="870" y="2022"/>
                  </a:lnTo>
                  <a:lnTo>
                    <a:pt x="844" y="1929"/>
                  </a:lnTo>
                  <a:lnTo>
                    <a:pt x="817" y="1832"/>
                  </a:lnTo>
                  <a:lnTo>
                    <a:pt x="789" y="1733"/>
                  </a:lnTo>
                  <a:lnTo>
                    <a:pt x="761" y="1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778200" y="3261960"/>
              <a:ext cx="284040" cy="850680"/>
            </a:xfrm>
            <a:custGeom>
              <a:avLst/>
              <a:gdLst/>
              <a:ahLst/>
              <a:rect l="l" t="t" r="r" b="b"/>
              <a:pathLst>
                <a:path w="717" h="2143">
                  <a:moveTo>
                    <a:pt x="425" y="1805"/>
                  </a:moveTo>
                  <a:lnTo>
                    <a:pt x="390" y="1716"/>
                  </a:lnTo>
                  <a:lnTo>
                    <a:pt x="356" y="1639"/>
                  </a:lnTo>
                  <a:lnTo>
                    <a:pt x="324" y="1561"/>
                  </a:lnTo>
                  <a:lnTo>
                    <a:pt x="291" y="1482"/>
                  </a:lnTo>
                  <a:lnTo>
                    <a:pt x="261" y="1403"/>
                  </a:lnTo>
                  <a:lnTo>
                    <a:pt x="232" y="1324"/>
                  </a:lnTo>
                  <a:lnTo>
                    <a:pt x="205" y="1243"/>
                  </a:lnTo>
                  <a:lnTo>
                    <a:pt x="180" y="1163"/>
                  </a:lnTo>
                  <a:lnTo>
                    <a:pt x="155" y="1081"/>
                  </a:lnTo>
                  <a:lnTo>
                    <a:pt x="132" y="999"/>
                  </a:lnTo>
                  <a:lnTo>
                    <a:pt x="112" y="916"/>
                  </a:lnTo>
                  <a:lnTo>
                    <a:pt x="93" y="831"/>
                  </a:lnTo>
                  <a:lnTo>
                    <a:pt x="77" y="746"/>
                  </a:lnTo>
                  <a:lnTo>
                    <a:pt x="62" y="660"/>
                  </a:lnTo>
                  <a:lnTo>
                    <a:pt x="50" y="572"/>
                  </a:lnTo>
                  <a:lnTo>
                    <a:pt x="39" y="484"/>
                  </a:lnTo>
                  <a:lnTo>
                    <a:pt x="31" y="394"/>
                  </a:lnTo>
                  <a:lnTo>
                    <a:pt x="0" y="103"/>
                  </a:lnTo>
                  <a:lnTo>
                    <a:pt x="37" y="14"/>
                  </a:lnTo>
                  <a:lnTo>
                    <a:pt x="49" y="0"/>
                  </a:lnTo>
                  <a:lnTo>
                    <a:pt x="215" y="18"/>
                  </a:lnTo>
                  <a:lnTo>
                    <a:pt x="234" y="30"/>
                  </a:lnTo>
                  <a:lnTo>
                    <a:pt x="253" y="42"/>
                  </a:lnTo>
                  <a:lnTo>
                    <a:pt x="272" y="55"/>
                  </a:lnTo>
                  <a:lnTo>
                    <a:pt x="291" y="68"/>
                  </a:lnTo>
                  <a:lnTo>
                    <a:pt x="311" y="81"/>
                  </a:lnTo>
                  <a:lnTo>
                    <a:pt x="330" y="95"/>
                  </a:lnTo>
                  <a:lnTo>
                    <a:pt x="349" y="108"/>
                  </a:lnTo>
                  <a:lnTo>
                    <a:pt x="368" y="121"/>
                  </a:lnTo>
                  <a:lnTo>
                    <a:pt x="487" y="224"/>
                  </a:lnTo>
                  <a:lnTo>
                    <a:pt x="493" y="234"/>
                  </a:lnTo>
                  <a:lnTo>
                    <a:pt x="499" y="244"/>
                  </a:lnTo>
                  <a:lnTo>
                    <a:pt x="506" y="253"/>
                  </a:lnTo>
                  <a:lnTo>
                    <a:pt x="514" y="262"/>
                  </a:lnTo>
                  <a:lnTo>
                    <a:pt x="523" y="270"/>
                  </a:lnTo>
                  <a:lnTo>
                    <a:pt x="532" y="277"/>
                  </a:lnTo>
                  <a:lnTo>
                    <a:pt x="542" y="284"/>
                  </a:lnTo>
                  <a:lnTo>
                    <a:pt x="554" y="290"/>
                  </a:lnTo>
                  <a:lnTo>
                    <a:pt x="565" y="295"/>
                  </a:lnTo>
                  <a:lnTo>
                    <a:pt x="577" y="300"/>
                  </a:lnTo>
                  <a:lnTo>
                    <a:pt x="589" y="305"/>
                  </a:lnTo>
                  <a:lnTo>
                    <a:pt x="601" y="309"/>
                  </a:lnTo>
                  <a:lnTo>
                    <a:pt x="614" y="312"/>
                  </a:lnTo>
                  <a:lnTo>
                    <a:pt x="628" y="315"/>
                  </a:lnTo>
                  <a:lnTo>
                    <a:pt x="641" y="317"/>
                  </a:lnTo>
                  <a:lnTo>
                    <a:pt x="655" y="319"/>
                  </a:lnTo>
                  <a:lnTo>
                    <a:pt x="686" y="349"/>
                  </a:lnTo>
                  <a:lnTo>
                    <a:pt x="709" y="439"/>
                  </a:lnTo>
                  <a:lnTo>
                    <a:pt x="717" y="537"/>
                  </a:lnTo>
                  <a:lnTo>
                    <a:pt x="714" y="639"/>
                  </a:lnTo>
                  <a:lnTo>
                    <a:pt x="704" y="744"/>
                  </a:lnTo>
                  <a:lnTo>
                    <a:pt x="691" y="850"/>
                  </a:lnTo>
                  <a:lnTo>
                    <a:pt x="678" y="957"/>
                  </a:lnTo>
                  <a:lnTo>
                    <a:pt x="668" y="1063"/>
                  </a:lnTo>
                  <a:lnTo>
                    <a:pt x="667" y="1165"/>
                  </a:lnTo>
                  <a:lnTo>
                    <a:pt x="669" y="1971"/>
                  </a:lnTo>
                  <a:lnTo>
                    <a:pt x="643" y="2141"/>
                  </a:lnTo>
                  <a:lnTo>
                    <a:pt x="618" y="2143"/>
                  </a:lnTo>
                  <a:lnTo>
                    <a:pt x="462" y="1885"/>
                  </a:lnTo>
                  <a:lnTo>
                    <a:pt x="442" y="1840"/>
                  </a:lnTo>
                  <a:lnTo>
                    <a:pt x="425" y="180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074840" y="3433680"/>
              <a:ext cx="354240" cy="1005840"/>
            </a:xfrm>
            <a:custGeom>
              <a:avLst/>
              <a:gdLst/>
              <a:ahLst/>
              <a:rect l="l" t="t" r="r" b="b"/>
              <a:pathLst>
                <a:path w="892" h="2538">
                  <a:moveTo>
                    <a:pt x="0" y="1896"/>
                  </a:moveTo>
                  <a:lnTo>
                    <a:pt x="35" y="1879"/>
                  </a:lnTo>
                  <a:lnTo>
                    <a:pt x="63" y="1490"/>
                  </a:lnTo>
                  <a:lnTo>
                    <a:pt x="52" y="1327"/>
                  </a:lnTo>
                  <a:lnTo>
                    <a:pt x="51" y="1161"/>
                  </a:lnTo>
                  <a:lnTo>
                    <a:pt x="59" y="992"/>
                  </a:lnTo>
                  <a:lnTo>
                    <a:pt x="73" y="819"/>
                  </a:lnTo>
                  <a:lnTo>
                    <a:pt x="90" y="645"/>
                  </a:lnTo>
                  <a:lnTo>
                    <a:pt x="109" y="469"/>
                  </a:lnTo>
                  <a:lnTo>
                    <a:pt x="128" y="293"/>
                  </a:lnTo>
                  <a:lnTo>
                    <a:pt x="145" y="118"/>
                  </a:lnTo>
                  <a:lnTo>
                    <a:pt x="147" y="29"/>
                  </a:lnTo>
                  <a:lnTo>
                    <a:pt x="169" y="0"/>
                  </a:lnTo>
                  <a:lnTo>
                    <a:pt x="226" y="9"/>
                  </a:lnTo>
                  <a:lnTo>
                    <a:pt x="253" y="31"/>
                  </a:lnTo>
                  <a:lnTo>
                    <a:pt x="278" y="64"/>
                  </a:lnTo>
                  <a:lnTo>
                    <a:pt x="416" y="175"/>
                  </a:lnTo>
                  <a:lnTo>
                    <a:pt x="462" y="196"/>
                  </a:lnTo>
                  <a:lnTo>
                    <a:pt x="501" y="258"/>
                  </a:lnTo>
                  <a:lnTo>
                    <a:pt x="581" y="316"/>
                  </a:lnTo>
                  <a:lnTo>
                    <a:pt x="644" y="392"/>
                  </a:lnTo>
                  <a:lnTo>
                    <a:pt x="674" y="421"/>
                  </a:lnTo>
                  <a:lnTo>
                    <a:pt x="698" y="437"/>
                  </a:lnTo>
                  <a:lnTo>
                    <a:pt x="751" y="509"/>
                  </a:lnTo>
                  <a:lnTo>
                    <a:pt x="785" y="526"/>
                  </a:lnTo>
                  <a:lnTo>
                    <a:pt x="825" y="553"/>
                  </a:lnTo>
                  <a:lnTo>
                    <a:pt x="841" y="572"/>
                  </a:lnTo>
                  <a:lnTo>
                    <a:pt x="878" y="667"/>
                  </a:lnTo>
                  <a:lnTo>
                    <a:pt x="872" y="732"/>
                  </a:lnTo>
                  <a:lnTo>
                    <a:pt x="886" y="821"/>
                  </a:lnTo>
                  <a:lnTo>
                    <a:pt x="892" y="911"/>
                  </a:lnTo>
                  <a:lnTo>
                    <a:pt x="892" y="1003"/>
                  </a:lnTo>
                  <a:lnTo>
                    <a:pt x="888" y="1098"/>
                  </a:lnTo>
                  <a:lnTo>
                    <a:pt x="882" y="1192"/>
                  </a:lnTo>
                  <a:lnTo>
                    <a:pt x="875" y="1288"/>
                  </a:lnTo>
                  <a:lnTo>
                    <a:pt x="869" y="1384"/>
                  </a:lnTo>
                  <a:lnTo>
                    <a:pt x="866" y="1480"/>
                  </a:lnTo>
                  <a:lnTo>
                    <a:pt x="801" y="2088"/>
                  </a:lnTo>
                  <a:lnTo>
                    <a:pt x="808" y="2235"/>
                  </a:lnTo>
                  <a:lnTo>
                    <a:pt x="799" y="2292"/>
                  </a:lnTo>
                  <a:lnTo>
                    <a:pt x="762" y="2528"/>
                  </a:lnTo>
                  <a:lnTo>
                    <a:pt x="705" y="2538"/>
                  </a:lnTo>
                  <a:lnTo>
                    <a:pt x="583" y="2464"/>
                  </a:lnTo>
                  <a:lnTo>
                    <a:pt x="244" y="2175"/>
                  </a:lnTo>
                  <a:lnTo>
                    <a:pt x="222" y="2143"/>
                  </a:lnTo>
                  <a:lnTo>
                    <a:pt x="187" y="2124"/>
                  </a:lnTo>
                  <a:lnTo>
                    <a:pt x="107" y="2030"/>
                  </a:lnTo>
                  <a:lnTo>
                    <a:pt x="83" y="2015"/>
                  </a:lnTo>
                  <a:lnTo>
                    <a:pt x="0" y="189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14680" y="3754080"/>
              <a:ext cx="366840" cy="865080"/>
            </a:xfrm>
            <a:custGeom>
              <a:avLst/>
              <a:gdLst/>
              <a:ahLst/>
              <a:rect l="l" t="t" r="r" b="b"/>
              <a:pathLst>
                <a:path w="921" h="2178">
                  <a:moveTo>
                    <a:pt x="0" y="1806"/>
                  </a:moveTo>
                  <a:lnTo>
                    <a:pt x="54" y="1491"/>
                  </a:lnTo>
                  <a:lnTo>
                    <a:pt x="217" y="14"/>
                  </a:lnTo>
                  <a:lnTo>
                    <a:pt x="229" y="0"/>
                  </a:lnTo>
                  <a:lnTo>
                    <a:pt x="322" y="17"/>
                  </a:lnTo>
                  <a:lnTo>
                    <a:pt x="837" y="475"/>
                  </a:lnTo>
                  <a:lnTo>
                    <a:pt x="915" y="974"/>
                  </a:lnTo>
                  <a:lnTo>
                    <a:pt x="913" y="1027"/>
                  </a:lnTo>
                  <a:lnTo>
                    <a:pt x="913" y="1062"/>
                  </a:lnTo>
                  <a:lnTo>
                    <a:pt x="905" y="1215"/>
                  </a:lnTo>
                  <a:lnTo>
                    <a:pt x="904" y="1331"/>
                  </a:lnTo>
                  <a:lnTo>
                    <a:pt x="907" y="1444"/>
                  </a:lnTo>
                  <a:lnTo>
                    <a:pt x="913" y="1556"/>
                  </a:lnTo>
                  <a:lnTo>
                    <a:pt x="918" y="1668"/>
                  </a:lnTo>
                  <a:lnTo>
                    <a:pt x="921" y="1782"/>
                  </a:lnTo>
                  <a:lnTo>
                    <a:pt x="920" y="1898"/>
                  </a:lnTo>
                  <a:lnTo>
                    <a:pt x="912" y="2018"/>
                  </a:lnTo>
                  <a:lnTo>
                    <a:pt x="894" y="2141"/>
                  </a:lnTo>
                  <a:lnTo>
                    <a:pt x="878" y="2165"/>
                  </a:lnTo>
                  <a:lnTo>
                    <a:pt x="851" y="2178"/>
                  </a:lnTo>
                  <a:lnTo>
                    <a:pt x="687" y="2150"/>
                  </a:lnTo>
                  <a:lnTo>
                    <a:pt x="663" y="2141"/>
                  </a:lnTo>
                  <a:lnTo>
                    <a:pt x="640" y="2132"/>
                  </a:lnTo>
                  <a:lnTo>
                    <a:pt x="616" y="2123"/>
                  </a:lnTo>
                  <a:lnTo>
                    <a:pt x="593" y="2113"/>
                  </a:lnTo>
                  <a:lnTo>
                    <a:pt x="569" y="2104"/>
                  </a:lnTo>
                  <a:lnTo>
                    <a:pt x="546" y="2095"/>
                  </a:lnTo>
                  <a:lnTo>
                    <a:pt x="524" y="2085"/>
                  </a:lnTo>
                  <a:lnTo>
                    <a:pt x="501" y="2075"/>
                  </a:lnTo>
                  <a:lnTo>
                    <a:pt x="479" y="2065"/>
                  </a:lnTo>
                  <a:lnTo>
                    <a:pt x="456" y="2056"/>
                  </a:lnTo>
                  <a:lnTo>
                    <a:pt x="434" y="2046"/>
                  </a:lnTo>
                  <a:lnTo>
                    <a:pt x="412" y="2036"/>
                  </a:lnTo>
                  <a:lnTo>
                    <a:pt x="390" y="2026"/>
                  </a:lnTo>
                  <a:lnTo>
                    <a:pt x="369" y="2016"/>
                  </a:lnTo>
                  <a:lnTo>
                    <a:pt x="348" y="2007"/>
                  </a:lnTo>
                  <a:lnTo>
                    <a:pt x="326" y="1996"/>
                  </a:lnTo>
                  <a:lnTo>
                    <a:pt x="305" y="1986"/>
                  </a:lnTo>
                  <a:lnTo>
                    <a:pt x="284" y="1976"/>
                  </a:lnTo>
                  <a:lnTo>
                    <a:pt x="263" y="1966"/>
                  </a:lnTo>
                  <a:lnTo>
                    <a:pt x="243" y="1956"/>
                  </a:lnTo>
                  <a:lnTo>
                    <a:pt x="222" y="1944"/>
                  </a:lnTo>
                  <a:lnTo>
                    <a:pt x="201" y="1933"/>
                  </a:lnTo>
                  <a:lnTo>
                    <a:pt x="181" y="1923"/>
                  </a:lnTo>
                  <a:lnTo>
                    <a:pt x="161" y="1912"/>
                  </a:lnTo>
                  <a:lnTo>
                    <a:pt x="142" y="1901"/>
                  </a:lnTo>
                  <a:lnTo>
                    <a:pt x="122" y="1890"/>
                  </a:lnTo>
                  <a:lnTo>
                    <a:pt x="103" y="1879"/>
                  </a:lnTo>
                  <a:lnTo>
                    <a:pt x="83" y="1868"/>
                  </a:lnTo>
                  <a:lnTo>
                    <a:pt x="63" y="1857"/>
                  </a:lnTo>
                  <a:lnTo>
                    <a:pt x="44" y="1845"/>
                  </a:lnTo>
                  <a:lnTo>
                    <a:pt x="26" y="1834"/>
                  </a:lnTo>
                  <a:lnTo>
                    <a:pt x="7" y="1822"/>
                  </a:lnTo>
                  <a:lnTo>
                    <a:pt x="0" y="180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11400" y="3103200"/>
              <a:ext cx="819000" cy="185400"/>
            </a:xfrm>
            <a:custGeom>
              <a:avLst/>
              <a:gdLst/>
              <a:ahLst/>
              <a:rect l="l" t="t" r="r" b="b"/>
              <a:pathLst>
                <a:path w="2063" h="466">
                  <a:moveTo>
                    <a:pt x="6" y="112"/>
                  </a:moveTo>
                  <a:lnTo>
                    <a:pt x="0" y="98"/>
                  </a:lnTo>
                  <a:lnTo>
                    <a:pt x="29" y="74"/>
                  </a:lnTo>
                  <a:lnTo>
                    <a:pt x="60" y="55"/>
                  </a:lnTo>
                  <a:lnTo>
                    <a:pt x="93" y="39"/>
                  </a:lnTo>
                  <a:lnTo>
                    <a:pt x="126" y="27"/>
                  </a:lnTo>
                  <a:lnTo>
                    <a:pt x="160" y="17"/>
                  </a:lnTo>
                  <a:lnTo>
                    <a:pt x="195" y="10"/>
                  </a:lnTo>
                  <a:lnTo>
                    <a:pt x="232" y="6"/>
                  </a:lnTo>
                  <a:lnTo>
                    <a:pt x="269" y="2"/>
                  </a:lnTo>
                  <a:lnTo>
                    <a:pt x="306" y="1"/>
                  </a:lnTo>
                  <a:lnTo>
                    <a:pt x="345" y="0"/>
                  </a:lnTo>
                  <a:lnTo>
                    <a:pt x="383" y="1"/>
                  </a:lnTo>
                  <a:lnTo>
                    <a:pt x="421" y="1"/>
                  </a:lnTo>
                  <a:lnTo>
                    <a:pt x="460" y="2"/>
                  </a:lnTo>
                  <a:lnTo>
                    <a:pt x="499" y="2"/>
                  </a:lnTo>
                  <a:lnTo>
                    <a:pt x="538" y="2"/>
                  </a:lnTo>
                  <a:lnTo>
                    <a:pt x="576" y="1"/>
                  </a:lnTo>
                  <a:lnTo>
                    <a:pt x="927" y="4"/>
                  </a:lnTo>
                  <a:lnTo>
                    <a:pt x="1019" y="29"/>
                  </a:lnTo>
                  <a:lnTo>
                    <a:pt x="1211" y="106"/>
                  </a:lnTo>
                  <a:lnTo>
                    <a:pt x="1784" y="241"/>
                  </a:lnTo>
                  <a:lnTo>
                    <a:pt x="2056" y="280"/>
                  </a:lnTo>
                  <a:lnTo>
                    <a:pt x="2063" y="310"/>
                  </a:lnTo>
                  <a:lnTo>
                    <a:pt x="951" y="465"/>
                  </a:lnTo>
                  <a:lnTo>
                    <a:pt x="542" y="466"/>
                  </a:lnTo>
                  <a:lnTo>
                    <a:pt x="318" y="405"/>
                  </a:lnTo>
                  <a:lnTo>
                    <a:pt x="239" y="327"/>
                  </a:lnTo>
                  <a:lnTo>
                    <a:pt x="193" y="305"/>
                  </a:lnTo>
                  <a:lnTo>
                    <a:pt x="85" y="225"/>
                  </a:lnTo>
                  <a:lnTo>
                    <a:pt x="6" y="1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811400" y="4024080"/>
              <a:ext cx="217440" cy="657000"/>
            </a:xfrm>
            <a:custGeom>
              <a:avLst/>
              <a:gdLst/>
              <a:ahLst/>
              <a:rect l="l" t="t" r="r" b="b"/>
              <a:pathLst>
                <a:path w="549" h="1652">
                  <a:moveTo>
                    <a:pt x="2" y="1532"/>
                  </a:moveTo>
                  <a:lnTo>
                    <a:pt x="0" y="1349"/>
                  </a:lnTo>
                  <a:lnTo>
                    <a:pt x="3" y="1163"/>
                  </a:lnTo>
                  <a:lnTo>
                    <a:pt x="10" y="975"/>
                  </a:lnTo>
                  <a:lnTo>
                    <a:pt x="20" y="786"/>
                  </a:lnTo>
                  <a:lnTo>
                    <a:pt x="29" y="596"/>
                  </a:lnTo>
                  <a:lnTo>
                    <a:pt x="37" y="407"/>
                  </a:lnTo>
                  <a:lnTo>
                    <a:pt x="41" y="218"/>
                  </a:lnTo>
                  <a:lnTo>
                    <a:pt x="40" y="32"/>
                  </a:lnTo>
                  <a:lnTo>
                    <a:pt x="52" y="0"/>
                  </a:lnTo>
                  <a:lnTo>
                    <a:pt x="157" y="39"/>
                  </a:lnTo>
                  <a:lnTo>
                    <a:pt x="208" y="93"/>
                  </a:lnTo>
                  <a:lnTo>
                    <a:pt x="234" y="125"/>
                  </a:lnTo>
                  <a:lnTo>
                    <a:pt x="331" y="202"/>
                  </a:lnTo>
                  <a:lnTo>
                    <a:pt x="367" y="240"/>
                  </a:lnTo>
                  <a:lnTo>
                    <a:pt x="390" y="255"/>
                  </a:lnTo>
                  <a:lnTo>
                    <a:pt x="430" y="322"/>
                  </a:lnTo>
                  <a:lnTo>
                    <a:pt x="466" y="404"/>
                  </a:lnTo>
                  <a:lnTo>
                    <a:pt x="492" y="492"/>
                  </a:lnTo>
                  <a:lnTo>
                    <a:pt x="508" y="583"/>
                  </a:lnTo>
                  <a:lnTo>
                    <a:pt x="517" y="677"/>
                  </a:lnTo>
                  <a:lnTo>
                    <a:pt x="523" y="774"/>
                  </a:lnTo>
                  <a:lnTo>
                    <a:pt x="529" y="869"/>
                  </a:lnTo>
                  <a:lnTo>
                    <a:pt x="536" y="964"/>
                  </a:lnTo>
                  <a:lnTo>
                    <a:pt x="549" y="1057"/>
                  </a:lnTo>
                  <a:lnTo>
                    <a:pt x="532" y="1318"/>
                  </a:lnTo>
                  <a:lnTo>
                    <a:pt x="491" y="1531"/>
                  </a:lnTo>
                  <a:lnTo>
                    <a:pt x="494" y="1608"/>
                  </a:lnTo>
                  <a:lnTo>
                    <a:pt x="467" y="1629"/>
                  </a:lnTo>
                  <a:lnTo>
                    <a:pt x="435" y="1652"/>
                  </a:lnTo>
                  <a:lnTo>
                    <a:pt x="294" y="1632"/>
                  </a:lnTo>
                  <a:lnTo>
                    <a:pt x="2" y="1532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248000" y="3295440"/>
              <a:ext cx="1019160" cy="597960"/>
            </a:xfrm>
            <a:custGeom>
              <a:avLst/>
              <a:gdLst/>
              <a:ahLst/>
              <a:rect l="l" t="t" r="r" b="b"/>
              <a:pathLst>
                <a:path w="2567" h="1507">
                  <a:moveTo>
                    <a:pt x="0" y="277"/>
                  </a:moveTo>
                  <a:lnTo>
                    <a:pt x="4" y="247"/>
                  </a:lnTo>
                  <a:lnTo>
                    <a:pt x="1030" y="28"/>
                  </a:lnTo>
                  <a:lnTo>
                    <a:pt x="1631" y="0"/>
                  </a:lnTo>
                  <a:lnTo>
                    <a:pt x="1712" y="59"/>
                  </a:lnTo>
                  <a:lnTo>
                    <a:pt x="1750" y="83"/>
                  </a:lnTo>
                  <a:lnTo>
                    <a:pt x="1789" y="111"/>
                  </a:lnTo>
                  <a:lnTo>
                    <a:pt x="1816" y="130"/>
                  </a:lnTo>
                  <a:lnTo>
                    <a:pt x="1842" y="148"/>
                  </a:lnTo>
                  <a:lnTo>
                    <a:pt x="1868" y="166"/>
                  </a:lnTo>
                  <a:lnTo>
                    <a:pt x="1894" y="184"/>
                  </a:lnTo>
                  <a:lnTo>
                    <a:pt x="1920" y="202"/>
                  </a:lnTo>
                  <a:lnTo>
                    <a:pt x="1945" y="221"/>
                  </a:lnTo>
                  <a:lnTo>
                    <a:pt x="1970" y="239"/>
                  </a:lnTo>
                  <a:lnTo>
                    <a:pt x="1994" y="259"/>
                  </a:lnTo>
                  <a:lnTo>
                    <a:pt x="2020" y="277"/>
                  </a:lnTo>
                  <a:lnTo>
                    <a:pt x="2043" y="296"/>
                  </a:lnTo>
                  <a:lnTo>
                    <a:pt x="2067" y="316"/>
                  </a:lnTo>
                  <a:lnTo>
                    <a:pt x="2090" y="335"/>
                  </a:lnTo>
                  <a:lnTo>
                    <a:pt x="2112" y="355"/>
                  </a:lnTo>
                  <a:lnTo>
                    <a:pt x="2135" y="375"/>
                  </a:lnTo>
                  <a:lnTo>
                    <a:pt x="2158" y="397"/>
                  </a:lnTo>
                  <a:lnTo>
                    <a:pt x="2179" y="418"/>
                  </a:lnTo>
                  <a:lnTo>
                    <a:pt x="2235" y="479"/>
                  </a:lnTo>
                  <a:lnTo>
                    <a:pt x="2305" y="552"/>
                  </a:lnTo>
                  <a:lnTo>
                    <a:pt x="2342" y="596"/>
                  </a:lnTo>
                  <a:lnTo>
                    <a:pt x="2562" y="876"/>
                  </a:lnTo>
                  <a:lnTo>
                    <a:pt x="2567" y="927"/>
                  </a:lnTo>
                  <a:lnTo>
                    <a:pt x="2258" y="1088"/>
                  </a:lnTo>
                  <a:lnTo>
                    <a:pt x="1683" y="1359"/>
                  </a:lnTo>
                  <a:lnTo>
                    <a:pt x="1645" y="1369"/>
                  </a:lnTo>
                  <a:lnTo>
                    <a:pt x="1586" y="1397"/>
                  </a:lnTo>
                  <a:lnTo>
                    <a:pt x="1507" y="1434"/>
                  </a:lnTo>
                  <a:lnTo>
                    <a:pt x="1332" y="1507"/>
                  </a:lnTo>
                  <a:lnTo>
                    <a:pt x="1268" y="1502"/>
                  </a:lnTo>
                  <a:lnTo>
                    <a:pt x="1172" y="1426"/>
                  </a:lnTo>
                  <a:lnTo>
                    <a:pt x="1148" y="1395"/>
                  </a:lnTo>
                  <a:lnTo>
                    <a:pt x="841" y="1099"/>
                  </a:lnTo>
                  <a:lnTo>
                    <a:pt x="811" y="1070"/>
                  </a:lnTo>
                  <a:lnTo>
                    <a:pt x="777" y="1034"/>
                  </a:lnTo>
                  <a:lnTo>
                    <a:pt x="671" y="960"/>
                  </a:lnTo>
                  <a:lnTo>
                    <a:pt x="658" y="949"/>
                  </a:lnTo>
                  <a:lnTo>
                    <a:pt x="665" y="911"/>
                  </a:lnTo>
                  <a:lnTo>
                    <a:pt x="693" y="894"/>
                  </a:lnTo>
                  <a:lnTo>
                    <a:pt x="721" y="879"/>
                  </a:lnTo>
                  <a:lnTo>
                    <a:pt x="750" y="866"/>
                  </a:lnTo>
                  <a:lnTo>
                    <a:pt x="780" y="853"/>
                  </a:lnTo>
                  <a:lnTo>
                    <a:pt x="810" y="842"/>
                  </a:lnTo>
                  <a:lnTo>
                    <a:pt x="841" y="832"/>
                  </a:lnTo>
                  <a:lnTo>
                    <a:pt x="872" y="823"/>
                  </a:lnTo>
                  <a:lnTo>
                    <a:pt x="904" y="814"/>
                  </a:lnTo>
                  <a:lnTo>
                    <a:pt x="936" y="806"/>
                  </a:lnTo>
                  <a:lnTo>
                    <a:pt x="968" y="799"/>
                  </a:lnTo>
                  <a:lnTo>
                    <a:pt x="1000" y="792"/>
                  </a:lnTo>
                  <a:lnTo>
                    <a:pt x="1034" y="786"/>
                  </a:lnTo>
                  <a:lnTo>
                    <a:pt x="1067" y="780"/>
                  </a:lnTo>
                  <a:lnTo>
                    <a:pt x="1100" y="773"/>
                  </a:lnTo>
                  <a:lnTo>
                    <a:pt x="1133" y="768"/>
                  </a:lnTo>
                  <a:lnTo>
                    <a:pt x="1166" y="762"/>
                  </a:lnTo>
                  <a:lnTo>
                    <a:pt x="1199" y="756"/>
                  </a:lnTo>
                  <a:lnTo>
                    <a:pt x="1232" y="750"/>
                  </a:lnTo>
                  <a:lnTo>
                    <a:pt x="1265" y="744"/>
                  </a:lnTo>
                  <a:lnTo>
                    <a:pt x="1298" y="738"/>
                  </a:lnTo>
                  <a:lnTo>
                    <a:pt x="1330" y="731"/>
                  </a:lnTo>
                  <a:lnTo>
                    <a:pt x="1362" y="723"/>
                  </a:lnTo>
                  <a:lnTo>
                    <a:pt x="1394" y="715"/>
                  </a:lnTo>
                  <a:lnTo>
                    <a:pt x="1426" y="706"/>
                  </a:lnTo>
                  <a:lnTo>
                    <a:pt x="1456" y="696"/>
                  </a:lnTo>
                  <a:lnTo>
                    <a:pt x="1487" y="685"/>
                  </a:lnTo>
                  <a:lnTo>
                    <a:pt x="1517" y="673"/>
                  </a:lnTo>
                  <a:lnTo>
                    <a:pt x="1546" y="660"/>
                  </a:lnTo>
                  <a:lnTo>
                    <a:pt x="1575" y="646"/>
                  </a:lnTo>
                  <a:lnTo>
                    <a:pt x="1603" y="629"/>
                  </a:lnTo>
                  <a:lnTo>
                    <a:pt x="1630" y="612"/>
                  </a:lnTo>
                  <a:lnTo>
                    <a:pt x="1657" y="593"/>
                  </a:lnTo>
                  <a:lnTo>
                    <a:pt x="1675" y="575"/>
                  </a:lnTo>
                  <a:lnTo>
                    <a:pt x="1683" y="555"/>
                  </a:lnTo>
                  <a:lnTo>
                    <a:pt x="1675" y="540"/>
                  </a:lnTo>
                  <a:lnTo>
                    <a:pt x="1636" y="546"/>
                  </a:lnTo>
                  <a:lnTo>
                    <a:pt x="1596" y="552"/>
                  </a:lnTo>
                  <a:lnTo>
                    <a:pt x="1558" y="558"/>
                  </a:lnTo>
                  <a:lnTo>
                    <a:pt x="1520" y="564"/>
                  </a:lnTo>
                  <a:lnTo>
                    <a:pt x="1480" y="571"/>
                  </a:lnTo>
                  <a:lnTo>
                    <a:pt x="1442" y="578"/>
                  </a:lnTo>
                  <a:lnTo>
                    <a:pt x="1404" y="585"/>
                  </a:lnTo>
                  <a:lnTo>
                    <a:pt x="1365" y="592"/>
                  </a:lnTo>
                  <a:lnTo>
                    <a:pt x="1327" y="599"/>
                  </a:lnTo>
                  <a:lnTo>
                    <a:pt x="1289" y="607"/>
                  </a:lnTo>
                  <a:lnTo>
                    <a:pt x="1251" y="614"/>
                  </a:lnTo>
                  <a:lnTo>
                    <a:pt x="1213" y="621"/>
                  </a:lnTo>
                  <a:lnTo>
                    <a:pt x="1175" y="628"/>
                  </a:lnTo>
                  <a:lnTo>
                    <a:pt x="1137" y="634"/>
                  </a:lnTo>
                  <a:lnTo>
                    <a:pt x="1097" y="641"/>
                  </a:lnTo>
                  <a:lnTo>
                    <a:pt x="1059" y="648"/>
                  </a:lnTo>
                  <a:lnTo>
                    <a:pt x="1021" y="654"/>
                  </a:lnTo>
                  <a:lnTo>
                    <a:pt x="981" y="659"/>
                  </a:lnTo>
                  <a:lnTo>
                    <a:pt x="942" y="665"/>
                  </a:lnTo>
                  <a:lnTo>
                    <a:pt x="903" y="669"/>
                  </a:lnTo>
                  <a:lnTo>
                    <a:pt x="863" y="673"/>
                  </a:lnTo>
                  <a:lnTo>
                    <a:pt x="823" y="677"/>
                  </a:lnTo>
                  <a:lnTo>
                    <a:pt x="784" y="680"/>
                  </a:lnTo>
                  <a:lnTo>
                    <a:pt x="742" y="682"/>
                  </a:lnTo>
                  <a:lnTo>
                    <a:pt x="702" y="684"/>
                  </a:lnTo>
                  <a:lnTo>
                    <a:pt x="661" y="685"/>
                  </a:lnTo>
                  <a:lnTo>
                    <a:pt x="619" y="686"/>
                  </a:lnTo>
                  <a:lnTo>
                    <a:pt x="577" y="685"/>
                  </a:lnTo>
                  <a:lnTo>
                    <a:pt x="535" y="684"/>
                  </a:lnTo>
                  <a:lnTo>
                    <a:pt x="492" y="681"/>
                  </a:lnTo>
                  <a:lnTo>
                    <a:pt x="449" y="678"/>
                  </a:lnTo>
                  <a:lnTo>
                    <a:pt x="405" y="674"/>
                  </a:lnTo>
                  <a:lnTo>
                    <a:pt x="353" y="601"/>
                  </a:lnTo>
                  <a:lnTo>
                    <a:pt x="141" y="446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043240" y="4216320"/>
              <a:ext cx="241200" cy="491760"/>
            </a:xfrm>
            <a:custGeom>
              <a:avLst/>
              <a:gdLst/>
              <a:ahLst/>
              <a:rect l="l" t="t" r="r" b="b"/>
              <a:pathLst>
                <a:path w="611" h="1241">
                  <a:moveTo>
                    <a:pt x="0" y="1174"/>
                  </a:moveTo>
                  <a:lnTo>
                    <a:pt x="10" y="1048"/>
                  </a:lnTo>
                  <a:lnTo>
                    <a:pt x="17" y="921"/>
                  </a:lnTo>
                  <a:lnTo>
                    <a:pt x="20" y="795"/>
                  </a:lnTo>
                  <a:lnTo>
                    <a:pt x="21" y="668"/>
                  </a:lnTo>
                  <a:lnTo>
                    <a:pt x="21" y="542"/>
                  </a:lnTo>
                  <a:lnTo>
                    <a:pt x="23" y="415"/>
                  </a:lnTo>
                  <a:lnTo>
                    <a:pt x="26" y="288"/>
                  </a:lnTo>
                  <a:lnTo>
                    <a:pt x="32" y="159"/>
                  </a:lnTo>
                  <a:lnTo>
                    <a:pt x="21" y="25"/>
                  </a:lnTo>
                  <a:lnTo>
                    <a:pt x="72" y="0"/>
                  </a:lnTo>
                  <a:lnTo>
                    <a:pt x="156" y="67"/>
                  </a:lnTo>
                  <a:lnTo>
                    <a:pt x="179" y="99"/>
                  </a:lnTo>
                  <a:lnTo>
                    <a:pt x="202" y="119"/>
                  </a:lnTo>
                  <a:lnTo>
                    <a:pt x="226" y="139"/>
                  </a:lnTo>
                  <a:lnTo>
                    <a:pt x="250" y="160"/>
                  </a:lnTo>
                  <a:lnTo>
                    <a:pt x="274" y="180"/>
                  </a:lnTo>
                  <a:lnTo>
                    <a:pt x="298" y="199"/>
                  </a:lnTo>
                  <a:lnTo>
                    <a:pt x="322" y="219"/>
                  </a:lnTo>
                  <a:lnTo>
                    <a:pt x="347" y="239"/>
                  </a:lnTo>
                  <a:lnTo>
                    <a:pt x="371" y="258"/>
                  </a:lnTo>
                  <a:lnTo>
                    <a:pt x="396" y="279"/>
                  </a:lnTo>
                  <a:lnTo>
                    <a:pt x="420" y="298"/>
                  </a:lnTo>
                  <a:lnTo>
                    <a:pt x="444" y="318"/>
                  </a:lnTo>
                  <a:lnTo>
                    <a:pt x="468" y="338"/>
                  </a:lnTo>
                  <a:lnTo>
                    <a:pt x="492" y="357"/>
                  </a:lnTo>
                  <a:lnTo>
                    <a:pt x="517" y="377"/>
                  </a:lnTo>
                  <a:lnTo>
                    <a:pt x="541" y="396"/>
                  </a:lnTo>
                  <a:lnTo>
                    <a:pt x="565" y="417"/>
                  </a:lnTo>
                  <a:lnTo>
                    <a:pt x="593" y="492"/>
                  </a:lnTo>
                  <a:lnTo>
                    <a:pt x="576" y="589"/>
                  </a:lnTo>
                  <a:lnTo>
                    <a:pt x="590" y="637"/>
                  </a:lnTo>
                  <a:lnTo>
                    <a:pt x="600" y="687"/>
                  </a:lnTo>
                  <a:lnTo>
                    <a:pt x="606" y="738"/>
                  </a:lnTo>
                  <a:lnTo>
                    <a:pt x="610" y="791"/>
                  </a:lnTo>
                  <a:lnTo>
                    <a:pt x="611" y="845"/>
                  </a:lnTo>
                  <a:lnTo>
                    <a:pt x="609" y="900"/>
                  </a:lnTo>
                  <a:lnTo>
                    <a:pt x="606" y="957"/>
                  </a:lnTo>
                  <a:lnTo>
                    <a:pt x="601" y="1014"/>
                  </a:lnTo>
                  <a:lnTo>
                    <a:pt x="570" y="1117"/>
                  </a:lnTo>
                  <a:lnTo>
                    <a:pt x="549" y="1223"/>
                  </a:lnTo>
                  <a:lnTo>
                    <a:pt x="539" y="1236"/>
                  </a:lnTo>
                  <a:lnTo>
                    <a:pt x="453" y="1241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798800" y="3730320"/>
              <a:ext cx="649440" cy="377640"/>
            </a:xfrm>
            <a:custGeom>
              <a:avLst/>
              <a:gdLst/>
              <a:ahLst/>
              <a:rect l="l" t="t" r="r" b="b"/>
              <a:pathLst>
                <a:path w="1635" h="953">
                  <a:moveTo>
                    <a:pt x="0" y="494"/>
                  </a:moveTo>
                  <a:lnTo>
                    <a:pt x="405" y="311"/>
                  </a:lnTo>
                  <a:lnTo>
                    <a:pt x="494" y="277"/>
                  </a:lnTo>
                  <a:lnTo>
                    <a:pt x="1226" y="5"/>
                  </a:lnTo>
                  <a:lnTo>
                    <a:pt x="1311" y="0"/>
                  </a:lnTo>
                  <a:lnTo>
                    <a:pt x="1322" y="39"/>
                  </a:lnTo>
                  <a:lnTo>
                    <a:pt x="1427" y="209"/>
                  </a:lnTo>
                  <a:lnTo>
                    <a:pt x="1596" y="531"/>
                  </a:lnTo>
                  <a:lnTo>
                    <a:pt x="1613" y="567"/>
                  </a:lnTo>
                  <a:lnTo>
                    <a:pt x="1635" y="593"/>
                  </a:lnTo>
                  <a:lnTo>
                    <a:pt x="1111" y="768"/>
                  </a:lnTo>
                  <a:lnTo>
                    <a:pt x="515" y="953"/>
                  </a:lnTo>
                  <a:lnTo>
                    <a:pt x="438" y="884"/>
                  </a:lnTo>
                  <a:lnTo>
                    <a:pt x="322" y="789"/>
                  </a:lnTo>
                  <a:lnTo>
                    <a:pt x="31" y="54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094000" y="4033440"/>
              <a:ext cx="581040" cy="601560"/>
            </a:xfrm>
            <a:custGeom>
              <a:avLst/>
              <a:gdLst/>
              <a:ahLst/>
              <a:rect l="l" t="t" r="r" b="b"/>
              <a:pathLst>
                <a:path w="1462" h="1519">
                  <a:moveTo>
                    <a:pt x="0" y="380"/>
                  </a:moveTo>
                  <a:lnTo>
                    <a:pt x="8" y="359"/>
                  </a:lnTo>
                  <a:lnTo>
                    <a:pt x="35" y="343"/>
                  </a:lnTo>
                  <a:lnTo>
                    <a:pt x="62" y="327"/>
                  </a:lnTo>
                  <a:lnTo>
                    <a:pt x="89" y="311"/>
                  </a:lnTo>
                  <a:lnTo>
                    <a:pt x="116" y="296"/>
                  </a:lnTo>
                  <a:lnTo>
                    <a:pt x="144" y="282"/>
                  </a:lnTo>
                  <a:lnTo>
                    <a:pt x="171" y="267"/>
                  </a:lnTo>
                  <a:lnTo>
                    <a:pt x="199" y="253"/>
                  </a:lnTo>
                  <a:lnTo>
                    <a:pt x="226" y="240"/>
                  </a:lnTo>
                  <a:lnTo>
                    <a:pt x="254" y="226"/>
                  </a:lnTo>
                  <a:lnTo>
                    <a:pt x="283" y="213"/>
                  </a:lnTo>
                  <a:lnTo>
                    <a:pt x="311" y="199"/>
                  </a:lnTo>
                  <a:lnTo>
                    <a:pt x="339" y="186"/>
                  </a:lnTo>
                  <a:lnTo>
                    <a:pt x="367" y="174"/>
                  </a:lnTo>
                  <a:lnTo>
                    <a:pt x="396" y="162"/>
                  </a:lnTo>
                  <a:lnTo>
                    <a:pt x="424" y="150"/>
                  </a:lnTo>
                  <a:lnTo>
                    <a:pt x="453" y="139"/>
                  </a:lnTo>
                  <a:lnTo>
                    <a:pt x="481" y="128"/>
                  </a:lnTo>
                  <a:lnTo>
                    <a:pt x="510" y="117"/>
                  </a:lnTo>
                  <a:lnTo>
                    <a:pt x="540" y="107"/>
                  </a:lnTo>
                  <a:lnTo>
                    <a:pt x="569" y="97"/>
                  </a:lnTo>
                  <a:lnTo>
                    <a:pt x="599" y="87"/>
                  </a:lnTo>
                  <a:lnTo>
                    <a:pt x="628" y="76"/>
                  </a:lnTo>
                  <a:lnTo>
                    <a:pt x="659" y="67"/>
                  </a:lnTo>
                  <a:lnTo>
                    <a:pt x="689" y="58"/>
                  </a:lnTo>
                  <a:lnTo>
                    <a:pt x="719" y="50"/>
                  </a:lnTo>
                  <a:lnTo>
                    <a:pt x="749" y="42"/>
                  </a:lnTo>
                  <a:lnTo>
                    <a:pt x="780" y="34"/>
                  </a:lnTo>
                  <a:lnTo>
                    <a:pt x="811" y="26"/>
                  </a:lnTo>
                  <a:lnTo>
                    <a:pt x="841" y="19"/>
                  </a:lnTo>
                  <a:lnTo>
                    <a:pt x="872" y="13"/>
                  </a:lnTo>
                  <a:lnTo>
                    <a:pt x="905" y="6"/>
                  </a:lnTo>
                  <a:lnTo>
                    <a:pt x="936" y="0"/>
                  </a:lnTo>
                  <a:lnTo>
                    <a:pt x="1021" y="145"/>
                  </a:lnTo>
                  <a:lnTo>
                    <a:pt x="1134" y="458"/>
                  </a:lnTo>
                  <a:lnTo>
                    <a:pt x="1140" y="492"/>
                  </a:lnTo>
                  <a:lnTo>
                    <a:pt x="1266" y="836"/>
                  </a:lnTo>
                  <a:lnTo>
                    <a:pt x="1373" y="1190"/>
                  </a:lnTo>
                  <a:lnTo>
                    <a:pt x="1462" y="1473"/>
                  </a:lnTo>
                  <a:lnTo>
                    <a:pt x="1457" y="1519"/>
                  </a:lnTo>
                  <a:lnTo>
                    <a:pt x="1423" y="1518"/>
                  </a:lnTo>
                  <a:lnTo>
                    <a:pt x="1396" y="1478"/>
                  </a:lnTo>
                  <a:lnTo>
                    <a:pt x="1307" y="1439"/>
                  </a:lnTo>
                  <a:lnTo>
                    <a:pt x="1289" y="1421"/>
                  </a:lnTo>
                  <a:lnTo>
                    <a:pt x="1156" y="1362"/>
                  </a:lnTo>
                  <a:lnTo>
                    <a:pt x="1024" y="1250"/>
                  </a:lnTo>
                  <a:lnTo>
                    <a:pt x="985" y="1222"/>
                  </a:lnTo>
                  <a:lnTo>
                    <a:pt x="717" y="1008"/>
                  </a:lnTo>
                  <a:lnTo>
                    <a:pt x="721" y="962"/>
                  </a:lnTo>
                  <a:lnTo>
                    <a:pt x="854" y="890"/>
                  </a:lnTo>
                  <a:lnTo>
                    <a:pt x="1170" y="777"/>
                  </a:lnTo>
                  <a:lnTo>
                    <a:pt x="1119" y="704"/>
                  </a:lnTo>
                  <a:lnTo>
                    <a:pt x="810" y="814"/>
                  </a:lnTo>
                  <a:lnTo>
                    <a:pt x="574" y="890"/>
                  </a:lnTo>
                  <a:lnTo>
                    <a:pt x="501" y="828"/>
                  </a:lnTo>
                  <a:lnTo>
                    <a:pt x="475" y="795"/>
                  </a:lnTo>
                  <a:lnTo>
                    <a:pt x="247" y="606"/>
                  </a:lnTo>
                  <a:lnTo>
                    <a:pt x="222" y="572"/>
                  </a:lnTo>
                  <a:lnTo>
                    <a:pt x="122" y="507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332320" y="4505040"/>
              <a:ext cx="204840" cy="201240"/>
            </a:xfrm>
            <a:custGeom>
              <a:avLst/>
              <a:gdLst/>
              <a:ahLst/>
              <a:rect l="l" t="t" r="r" b="b"/>
              <a:pathLst>
                <a:path w="515" h="506">
                  <a:moveTo>
                    <a:pt x="0" y="468"/>
                  </a:moveTo>
                  <a:lnTo>
                    <a:pt x="21" y="176"/>
                  </a:lnTo>
                  <a:lnTo>
                    <a:pt x="32" y="13"/>
                  </a:lnTo>
                  <a:lnTo>
                    <a:pt x="43" y="0"/>
                  </a:lnTo>
                  <a:lnTo>
                    <a:pt x="96" y="1"/>
                  </a:lnTo>
                  <a:lnTo>
                    <a:pt x="123" y="22"/>
                  </a:lnTo>
                  <a:lnTo>
                    <a:pt x="171" y="45"/>
                  </a:lnTo>
                  <a:lnTo>
                    <a:pt x="184" y="73"/>
                  </a:lnTo>
                  <a:lnTo>
                    <a:pt x="233" y="102"/>
                  </a:lnTo>
                  <a:lnTo>
                    <a:pt x="298" y="169"/>
                  </a:lnTo>
                  <a:lnTo>
                    <a:pt x="367" y="242"/>
                  </a:lnTo>
                  <a:lnTo>
                    <a:pt x="415" y="306"/>
                  </a:lnTo>
                  <a:lnTo>
                    <a:pt x="496" y="383"/>
                  </a:lnTo>
                  <a:lnTo>
                    <a:pt x="509" y="395"/>
                  </a:lnTo>
                  <a:lnTo>
                    <a:pt x="515" y="445"/>
                  </a:lnTo>
                  <a:lnTo>
                    <a:pt x="400" y="499"/>
                  </a:lnTo>
                  <a:lnTo>
                    <a:pt x="9" y="506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57640" y="533520"/>
            <a:ext cx="1238040" cy="14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687240"/>
            <a:ext cx="54000" cy="177840"/>
          </a:xfrm>
          <a:custGeom>
            <a:avLst/>
            <a:gdLst/>
            <a:ahLst/>
            <a:rect l="l" t="t" r="r" b="b"/>
            <a:pathLst>
              <a:path w="69" h="225">
                <a:moveTo>
                  <a:pt x="69" y="220"/>
                </a:moveTo>
                <a:lnTo>
                  <a:pt x="67" y="42"/>
                </a:lnTo>
                <a:lnTo>
                  <a:pt x="8" y="0"/>
                </a:lnTo>
                <a:lnTo>
                  <a:pt x="0" y="2"/>
                </a:lnTo>
                <a:lnTo>
                  <a:pt x="1" y="7"/>
                </a:lnTo>
                <a:lnTo>
                  <a:pt x="8" y="14"/>
                </a:lnTo>
                <a:lnTo>
                  <a:pt x="14" y="15"/>
                </a:lnTo>
                <a:lnTo>
                  <a:pt x="39" y="197"/>
                </a:lnTo>
                <a:lnTo>
                  <a:pt x="47" y="200"/>
                </a:lnTo>
                <a:lnTo>
                  <a:pt x="54" y="206"/>
                </a:lnTo>
                <a:lnTo>
                  <a:pt x="59" y="215"/>
                </a:lnTo>
                <a:lnTo>
                  <a:pt x="64" y="225"/>
                </a:lnTo>
                <a:lnTo>
                  <a:pt x="64" y="225"/>
                </a:lnTo>
                <a:lnTo>
                  <a:pt x="67" y="221"/>
                </a:lnTo>
                <a:lnTo>
                  <a:pt x="69" y="220"/>
                </a:lnTo>
                <a:lnTo>
                  <a:pt x="69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104508" descr=""/>
          <p:cNvPicPr/>
          <p:nvPr/>
        </p:nvPicPr>
        <p:blipFill>
          <a:blip r:embed="rId1"/>
          <a:stretch/>
        </p:blipFill>
        <p:spPr>
          <a:xfrm>
            <a:off x="3841920" y="3079800"/>
            <a:ext cx="14601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9" name=""/>
          <p:cNvGrpSpPr/>
          <p:nvPr/>
        </p:nvGrpSpPr>
        <p:grpSpPr>
          <a:xfrm>
            <a:off x="3751200" y="2494080"/>
            <a:ext cx="1639800" cy="2631960"/>
            <a:chOff x="3751200" y="2494080"/>
            <a:chExt cx="1639800" cy="2631960"/>
          </a:xfrm>
        </p:grpSpPr>
        <p:sp>
          <p:nvSpPr>
            <p:cNvPr id="2040" name=""/>
            <p:cNvSpPr/>
            <p:nvPr/>
          </p:nvSpPr>
          <p:spPr>
            <a:xfrm>
              <a:off x="3751200" y="2494080"/>
              <a:ext cx="1639800" cy="26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116240" y="2944800"/>
              <a:ext cx="765000" cy="422280"/>
            </a:xfrm>
            <a:custGeom>
              <a:avLst/>
              <a:gdLst/>
              <a:ahLst/>
              <a:rect l="l" t="t" r="r" b="b"/>
              <a:pathLst>
                <a:path w="4343" h="2394">
                  <a:moveTo>
                    <a:pt x="0" y="2365"/>
                  </a:moveTo>
                  <a:lnTo>
                    <a:pt x="0" y="2170"/>
                  </a:lnTo>
                  <a:lnTo>
                    <a:pt x="523" y="406"/>
                  </a:lnTo>
                  <a:lnTo>
                    <a:pt x="621" y="243"/>
                  </a:lnTo>
                  <a:lnTo>
                    <a:pt x="771" y="98"/>
                  </a:lnTo>
                  <a:lnTo>
                    <a:pt x="970" y="24"/>
                  </a:lnTo>
                  <a:lnTo>
                    <a:pt x="1290" y="0"/>
                  </a:lnTo>
                  <a:lnTo>
                    <a:pt x="3872" y="394"/>
                  </a:lnTo>
                  <a:lnTo>
                    <a:pt x="4343" y="617"/>
                  </a:lnTo>
                  <a:lnTo>
                    <a:pt x="4196" y="994"/>
                  </a:lnTo>
                  <a:lnTo>
                    <a:pt x="3799" y="840"/>
                  </a:lnTo>
                  <a:lnTo>
                    <a:pt x="1368" y="443"/>
                  </a:lnTo>
                  <a:lnTo>
                    <a:pt x="1168" y="467"/>
                  </a:lnTo>
                  <a:lnTo>
                    <a:pt x="1019" y="568"/>
                  </a:lnTo>
                  <a:lnTo>
                    <a:pt x="921" y="762"/>
                  </a:lnTo>
                  <a:lnTo>
                    <a:pt x="398" y="2247"/>
                  </a:lnTo>
                  <a:lnTo>
                    <a:pt x="398" y="2394"/>
                  </a:lnTo>
                  <a:lnTo>
                    <a:pt x="0" y="2365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09840" y="4175280"/>
              <a:ext cx="98280" cy="102960"/>
            </a:xfrm>
            <a:custGeom>
              <a:avLst/>
              <a:gdLst/>
              <a:ahLst/>
              <a:rect l="l" t="t" r="r" b="b"/>
              <a:pathLst>
                <a:path w="560" h="580">
                  <a:moveTo>
                    <a:pt x="527" y="85"/>
                  </a:moveTo>
                  <a:lnTo>
                    <a:pt x="560" y="85"/>
                  </a:lnTo>
                  <a:lnTo>
                    <a:pt x="560" y="381"/>
                  </a:lnTo>
                  <a:lnTo>
                    <a:pt x="446" y="491"/>
                  </a:lnTo>
                  <a:lnTo>
                    <a:pt x="162" y="580"/>
                  </a:lnTo>
                  <a:lnTo>
                    <a:pt x="61" y="417"/>
                  </a:lnTo>
                  <a:lnTo>
                    <a:pt x="32" y="381"/>
                  </a:lnTo>
                  <a:lnTo>
                    <a:pt x="16" y="345"/>
                  </a:lnTo>
                  <a:lnTo>
                    <a:pt x="8" y="300"/>
                  </a:lnTo>
                  <a:lnTo>
                    <a:pt x="0" y="260"/>
                  </a:lnTo>
                  <a:lnTo>
                    <a:pt x="8" y="211"/>
                  </a:lnTo>
                  <a:lnTo>
                    <a:pt x="16" y="174"/>
                  </a:lnTo>
                  <a:lnTo>
                    <a:pt x="36" y="130"/>
                  </a:lnTo>
                  <a:lnTo>
                    <a:pt x="61" y="98"/>
                  </a:lnTo>
                  <a:lnTo>
                    <a:pt x="89" y="65"/>
                  </a:lnTo>
                  <a:lnTo>
                    <a:pt x="125" y="36"/>
                  </a:lnTo>
                  <a:lnTo>
                    <a:pt x="162" y="21"/>
                  </a:lnTo>
                  <a:lnTo>
                    <a:pt x="206" y="4"/>
                  </a:lnTo>
                  <a:lnTo>
                    <a:pt x="251" y="0"/>
                  </a:lnTo>
                  <a:lnTo>
                    <a:pt x="287" y="0"/>
                  </a:lnTo>
                  <a:lnTo>
                    <a:pt x="336" y="8"/>
                  </a:lnTo>
                  <a:lnTo>
                    <a:pt x="527" y="8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22440" y="4191120"/>
              <a:ext cx="85680" cy="95040"/>
            </a:xfrm>
            <a:custGeom>
              <a:avLst/>
              <a:gdLst/>
              <a:ahLst/>
              <a:rect l="l" t="t" r="r" b="b"/>
              <a:pathLst>
                <a:path w="488" h="536">
                  <a:moveTo>
                    <a:pt x="488" y="272"/>
                  </a:moveTo>
                  <a:lnTo>
                    <a:pt x="483" y="228"/>
                  </a:lnTo>
                  <a:lnTo>
                    <a:pt x="475" y="183"/>
                  </a:lnTo>
                  <a:lnTo>
                    <a:pt x="460" y="143"/>
                  </a:lnTo>
                  <a:lnTo>
                    <a:pt x="439" y="102"/>
                  </a:lnTo>
                  <a:lnTo>
                    <a:pt x="407" y="65"/>
                  </a:lnTo>
                  <a:lnTo>
                    <a:pt x="382" y="45"/>
                  </a:lnTo>
                  <a:lnTo>
                    <a:pt x="341" y="20"/>
                  </a:lnTo>
                  <a:lnTo>
                    <a:pt x="305" y="9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83" y="9"/>
                  </a:lnTo>
                  <a:lnTo>
                    <a:pt x="147" y="20"/>
                  </a:lnTo>
                  <a:lnTo>
                    <a:pt x="115" y="45"/>
                  </a:lnTo>
                  <a:lnTo>
                    <a:pt x="81" y="65"/>
                  </a:lnTo>
                  <a:lnTo>
                    <a:pt x="57" y="102"/>
                  </a:lnTo>
                  <a:lnTo>
                    <a:pt x="34" y="143"/>
                  </a:lnTo>
                  <a:lnTo>
                    <a:pt x="17" y="183"/>
                  </a:lnTo>
                  <a:lnTo>
                    <a:pt x="4" y="228"/>
                  </a:lnTo>
                  <a:lnTo>
                    <a:pt x="0" y="272"/>
                  </a:lnTo>
                  <a:lnTo>
                    <a:pt x="4" y="313"/>
                  </a:lnTo>
                  <a:lnTo>
                    <a:pt x="17" y="358"/>
                  </a:lnTo>
                  <a:lnTo>
                    <a:pt x="34" y="394"/>
                  </a:lnTo>
                  <a:lnTo>
                    <a:pt x="57" y="439"/>
                  </a:lnTo>
                  <a:lnTo>
                    <a:pt x="81" y="471"/>
                  </a:lnTo>
                  <a:lnTo>
                    <a:pt x="115" y="499"/>
                  </a:lnTo>
                  <a:lnTo>
                    <a:pt x="147" y="515"/>
                  </a:lnTo>
                  <a:lnTo>
                    <a:pt x="187" y="532"/>
                  </a:lnTo>
                  <a:lnTo>
                    <a:pt x="228" y="536"/>
                  </a:lnTo>
                  <a:lnTo>
                    <a:pt x="264" y="536"/>
                  </a:lnTo>
                  <a:lnTo>
                    <a:pt x="305" y="532"/>
                  </a:lnTo>
                  <a:lnTo>
                    <a:pt x="341" y="515"/>
                  </a:lnTo>
                  <a:lnTo>
                    <a:pt x="382" y="495"/>
                  </a:lnTo>
                  <a:lnTo>
                    <a:pt x="407" y="471"/>
                  </a:lnTo>
                  <a:lnTo>
                    <a:pt x="439" y="434"/>
                  </a:lnTo>
                  <a:lnTo>
                    <a:pt x="460" y="394"/>
                  </a:lnTo>
                  <a:lnTo>
                    <a:pt x="475" y="358"/>
                  </a:lnTo>
                  <a:lnTo>
                    <a:pt x="483" y="313"/>
                  </a:lnTo>
                  <a:lnTo>
                    <a:pt x="488" y="27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93920" y="4344840"/>
              <a:ext cx="122400" cy="127080"/>
            </a:xfrm>
            <a:custGeom>
              <a:avLst/>
              <a:gdLst/>
              <a:ahLst/>
              <a:rect l="l" t="t" r="r" b="b"/>
              <a:pathLst>
                <a:path w="690" h="717">
                  <a:moveTo>
                    <a:pt x="649" y="105"/>
                  </a:moveTo>
                  <a:lnTo>
                    <a:pt x="690" y="105"/>
                  </a:lnTo>
                  <a:lnTo>
                    <a:pt x="690" y="470"/>
                  </a:lnTo>
                  <a:lnTo>
                    <a:pt x="552" y="608"/>
                  </a:lnTo>
                  <a:lnTo>
                    <a:pt x="199" y="717"/>
                  </a:lnTo>
                  <a:lnTo>
                    <a:pt x="73" y="519"/>
                  </a:lnTo>
                  <a:lnTo>
                    <a:pt x="40" y="474"/>
                  </a:lnTo>
                  <a:lnTo>
                    <a:pt x="20" y="425"/>
                  </a:lnTo>
                  <a:lnTo>
                    <a:pt x="8" y="372"/>
                  </a:lnTo>
                  <a:lnTo>
                    <a:pt x="0" y="319"/>
                  </a:lnTo>
                  <a:lnTo>
                    <a:pt x="8" y="263"/>
                  </a:lnTo>
                  <a:lnTo>
                    <a:pt x="20" y="215"/>
                  </a:lnTo>
                  <a:lnTo>
                    <a:pt x="44" y="162"/>
                  </a:lnTo>
                  <a:lnTo>
                    <a:pt x="73" y="121"/>
                  </a:lnTo>
                  <a:lnTo>
                    <a:pt x="110" y="81"/>
                  </a:lnTo>
                  <a:lnTo>
                    <a:pt x="154" y="48"/>
                  </a:lnTo>
                  <a:lnTo>
                    <a:pt x="199" y="24"/>
                  </a:lnTo>
                  <a:lnTo>
                    <a:pt x="255" y="8"/>
                  </a:lnTo>
                  <a:lnTo>
                    <a:pt x="308" y="0"/>
                  </a:lnTo>
                  <a:lnTo>
                    <a:pt x="357" y="0"/>
                  </a:lnTo>
                  <a:lnTo>
                    <a:pt x="414" y="12"/>
                  </a:lnTo>
                  <a:lnTo>
                    <a:pt x="649" y="10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010120" y="4365720"/>
              <a:ext cx="106200" cy="117360"/>
            </a:xfrm>
            <a:custGeom>
              <a:avLst/>
              <a:gdLst/>
              <a:ahLst/>
              <a:rect l="l" t="t" r="r" b="b"/>
              <a:pathLst>
                <a:path w="601" h="661">
                  <a:moveTo>
                    <a:pt x="601" y="332"/>
                  </a:moveTo>
                  <a:lnTo>
                    <a:pt x="597" y="280"/>
                  </a:lnTo>
                  <a:lnTo>
                    <a:pt x="589" y="223"/>
                  </a:lnTo>
                  <a:lnTo>
                    <a:pt x="564" y="174"/>
                  </a:lnTo>
                  <a:lnTo>
                    <a:pt x="540" y="126"/>
                  </a:lnTo>
                  <a:lnTo>
                    <a:pt x="504" y="81"/>
                  </a:lnTo>
                  <a:lnTo>
                    <a:pt x="471" y="53"/>
                  </a:lnTo>
                  <a:lnTo>
                    <a:pt x="423" y="25"/>
                  </a:lnTo>
                  <a:lnTo>
                    <a:pt x="378" y="8"/>
                  </a:lnTo>
                  <a:lnTo>
                    <a:pt x="329" y="0"/>
                  </a:lnTo>
                  <a:lnTo>
                    <a:pt x="281" y="0"/>
                  </a:lnTo>
                  <a:lnTo>
                    <a:pt x="228" y="8"/>
                  </a:lnTo>
                  <a:lnTo>
                    <a:pt x="183" y="25"/>
                  </a:lnTo>
                  <a:lnTo>
                    <a:pt x="142" y="53"/>
                  </a:lnTo>
                  <a:lnTo>
                    <a:pt x="102" y="81"/>
                  </a:lnTo>
                  <a:lnTo>
                    <a:pt x="70" y="126"/>
                  </a:lnTo>
                  <a:lnTo>
                    <a:pt x="41" y="174"/>
                  </a:lnTo>
                  <a:lnTo>
                    <a:pt x="21" y="223"/>
                  </a:lnTo>
                  <a:lnTo>
                    <a:pt x="8" y="280"/>
                  </a:lnTo>
                  <a:lnTo>
                    <a:pt x="0" y="332"/>
                  </a:lnTo>
                  <a:lnTo>
                    <a:pt x="8" y="385"/>
                  </a:lnTo>
                  <a:lnTo>
                    <a:pt x="21" y="442"/>
                  </a:lnTo>
                  <a:lnTo>
                    <a:pt x="41" y="487"/>
                  </a:lnTo>
                  <a:lnTo>
                    <a:pt x="70" y="540"/>
                  </a:lnTo>
                  <a:lnTo>
                    <a:pt x="102" y="580"/>
                  </a:lnTo>
                  <a:lnTo>
                    <a:pt x="142" y="617"/>
                  </a:lnTo>
                  <a:lnTo>
                    <a:pt x="183" y="636"/>
                  </a:lnTo>
                  <a:lnTo>
                    <a:pt x="232" y="657"/>
                  </a:lnTo>
                  <a:lnTo>
                    <a:pt x="281" y="661"/>
                  </a:lnTo>
                  <a:lnTo>
                    <a:pt x="329" y="661"/>
                  </a:lnTo>
                  <a:lnTo>
                    <a:pt x="378" y="657"/>
                  </a:lnTo>
                  <a:lnTo>
                    <a:pt x="423" y="636"/>
                  </a:lnTo>
                  <a:lnTo>
                    <a:pt x="471" y="613"/>
                  </a:lnTo>
                  <a:lnTo>
                    <a:pt x="504" y="580"/>
                  </a:lnTo>
                  <a:lnTo>
                    <a:pt x="540" y="536"/>
                  </a:lnTo>
                  <a:lnTo>
                    <a:pt x="564" y="487"/>
                  </a:lnTo>
                  <a:lnTo>
                    <a:pt x="589" y="438"/>
                  </a:lnTo>
                  <a:lnTo>
                    <a:pt x="597" y="385"/>
                  </a:lnTo>
                  <a:lnTo>
                    <a:pt x="601" y="33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778200" y="4513320"/>
              <a:ext cx="137880" cy="141120"/>
            </a:xfrm>
            <a:custGeom>
              <a:avLst/>
              <a:gdLst/>
              <a:ahLst/>
              <a:rect l="l" t="t" r="r" b="b"/>
              <a:pathLst>
                <a:path w="783" h="802">
                  <a:moveTo>
                    <a:pt x="734" y="117"/>
                  </a:moveTo>
                  <a:lnTo>
                    <a:pt x="783" y="117"/>
                  </a:lnTo>
                  <a:lnTo>
                    <a:pt x="783" y="527"/>
                  </a:lnTo>
                  <a:lnTo>
                    <a:pt x="625" y="681"/>
                  </a:lnTo>
                  <a:lnTo>
                    <a:pt x="223" y="802"/>
                  </a:lnTo>
                  <a:lnTo>
                    <a:pt x="81" y="579"/>
                  </a:lnTo>
                  <a:lnTo>
                    <a:pt x="44" y="531"/>
                  </a:lnTo>
                  <a:lnTo>
                    <a:pt x="21" y="474"/>
                  </a:lnTo>
                  <a:lnTo>
                    <a:pt x="8" y="417"/>
                  </a:lnTo>
                  <a:lnTo>
                    <a:pt x="0" y="357"/>
                  </a:lnTo>
                  <a:lnTo>
                    <a:pt x="8" y="296"/>
                  </a:lnTo>
                  <a:lnTo>
                    <a:pt x="21" y="239"/>
                  </a:lnTo>
                  <a:lnTo>
                    <a:pt x="49" y="183"/>
                  </a:lnTo>
                  <a:lnTo>
                    <a:pt x="81" y="134"/>
                  </a:lnTo>
                  <a:lnTo>
                    <a:pt x="122" y="89"/>
                  </a:lnTo>
                  <a:lnTo>
                    <a:pt x="174" y="53"/>
                  </a:lnTo>
                  <a:lnTo>
                    <a:pt x="223" y="24"/>
                  </a:lnTo>
                  <a:lnTo>
                    <a:pt x="289" y="8"/>
                  </a:lnTo>
                  <a:lnTo>
                    <a:pt x="349" y="0"/>
                  </a:lnTo>
                  <a:lnTo>
                    <a:pt x="406" y="0"/>
                  </a:lnTo>
                  <a:lnTo>
                    <a:pt x="470" y="12"/>
                  </a:lnTo>
                  <a:lnTo>
                    <a:pt x="734" y="117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797280" y="4537080"/>
              <a:ext cx="118800" cy="130320"/>
            </a:xfrm>
            <a:custGeom>
              <a:avLst/>
              <a:gdLst/>
              <a:ahLst/>
              <a:rect l="l" t="t" r="r" b="b"/>
              <a:pathLst>
                <a:path w="681" h="742">
                  <a:moveTo>
                    <a:pt x="681" y="372"/>
                  </a:moveTo>
                  <a:lnTo>
                    <a:pt x="677" y="312"/>
                  </a:lnTo>
                  <a:lnTo>
                    <a:pt x="666" y="251"/>
                  </a:lnTo>
                  <a:lnTo>
                    <a:pt x="641" y="194"/>
                  </a:lnTo>
                  <a:lnTo>
                    <a:pt x="613" y="142"/>
                  </a:lnTo>
                  <a:lnTo>
                    <a:pt x="572" y="93"/>
                  </a:lnTo>
                  <a:lnTo>
                    <a:pt x="532" y="60"/>
                  </a:lnTo>
                  <a:lnTo>
                    <a:pt x="479" y="28"/>
                  </a:lnTo>
                  <a:lnTo>
                    <a:pt x="426" y="8"/>
                  </a:lnTo>
                  <a:lnTo>
                    <a:pt x="373" y="0"/>
                  </a:lnTo>
                  <a:lnTo>
                    <a:pt x="317" y="0"/>
                  </a:lnTo>
                  <a:lnTo>
                    <a:pt x="255" y="8"/>
                  </a:lnTo>
                  <a:lnTo>
                    <a:pt x="206" y="28"/>
                  </a:lnTo>
                  <a:lnTo>
                    <a:pt x="158" y="60"/>
                  </a:lnTo>
                  <a:lnTo>
                    <a:pt x="113" y="93"/>
                  </a:lnTo>
                  <a:lnTo>
                    <a:pt x="77" y="142"/>
                  </a:lnTo>
                  <a:lnTo>
                    <a:pt x="44" y="194"/>
                  </a:lnTo>
                  <a:lnTo>
                    <a:pt x="20" y="251"/>
                  </a:lnTo>
                  <a:lnTo>
                    <a:pt x="8" y="312"/>
                  </a:lnTo>
                  <a:lnTo>
                    <a:pt x="0" y="372"/>
                  </a:lnTo>
                  <a:lnTo>
                    <a:pt x="8" y="434"/>
                  </a:lnTo>
                  <a:lnTo>
                    <a:pt x="20" y="494"/>
                  </a:lnTo>
                  <a:lnTo>
                    <a:pt x="44" y="547"/>
                  </a:lnTo>
                  <a:lnTo>
                    <a:pt x="77" y="604"/>
                  </a:lnTo>
                  <a:lnTo>
                    <a:pt x="113" y="649"/>
                  </a:lnTo>
                  <a:lnTo>
                    <a:pt x="158" y="689"/>
                  </a:lnTo>
                  <a:lnTo>
                    <a:pt x="206" y="713"/>
                  </a:lnTo>
                  <a:lnTo>
                    <a:pt x="259" y="734"/>
                  </a:lnTo>
                  <a:lnTo>
                    <a:pt x="317" y="742"/>
                  </a:lnTo>
                  <a:lnTo>
                    <a:pt x="373" y="742"/>
                  </a:lnTo>
                  <a:lnTo>
                    <a:pt x="426" y="734"/>
                  </a:lnTo>
                  <a:lnTo>
                    <a:pt x="479" y="713"/>
                  </a:lnTo>
                  <a:lnTo>
                    <a:pt x="532" y="685"/>
                  </a:lnTo>
                  <a:lnTo>
                    <a:pt x="572" y="649"/>
                  </a:lnTo>
                  <a:lnTo>
                    <a:pt x="613" y="600"/>
                  </a:lnTo>
                  <a:lnTo>
                    <a:pt x="641" y="547"/>
                  </a:lnTo>
                  <a:lnTo>
                    <a:pt x="666" y="490"/>
                  </a:lnTo>
                  <a:lnTo>
                    <a:pt x="677" y="434"/>
                  </a:lnTo>
                  <a:lnTo>
                    <a:pt x="681" y="37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24240" y="4794120"/>
              <a:ext cx="150840" cy="157320"/>
            </a:xfrm>
            <a:custGeom>
              <a:avLst/>
              <a:gdLst/>
              <a:ahLst/>
              <a:rect l="l" t="t" r="r" b="b"/>
              <a:pathLst>
                <a:path w="861" h="888">
                  <a:moveTo>
                    <a:pt x="804" y="129"/>
                  </a:moveTo>
                  <a:lnTo>
                    <a:pt x="861" y="129"/>
                  </a:lnTo>
                  <a:lnTo>
                    <a:pt x="861" y="584"/>
                  </a:lnTo>
                  <a:lnTo>
                    <a:pt x="687" y="754"/>
                  </a:lnTo>
                  <a:lnTo>
                    <a:pt x="248" y="888"/>
                  </a:lnTo>
                  <a:lnTo>
                    <a:pt x="89" y="640"/>
                  </a:lnTo>
                  <a:lnTo>
                    <a:pt x="49" y="588"/>
                  </a:lnTo>
                  <a:lnTo>
                    <a:pt x="25" y="523"/>
                  </a:lnTo>
                  <a:lnTo>
                    <a:pt x="8" y="462"/>
                  </a:lnTo>
                  <a:lnTo>
                    <a:pt x="0" y="393"/>
                  </a:lnTo>
                  <a:lnTo>
                    <a:pt x="8" y="329"/>
                  </a:lnTo>
                  <a:lnTo>
                    <a:pt x="25" y="263"/>
                  </a:lnTo>
                  <a:lnTo>
                    <a:pt x="53" y="202"/>
                  </a:lnTo>
                  <a:lnTo>
                    <a:pt x="89" y="146"/>
                  </a:lnTo>
                  <a:lnTo>
                    <a:pt x="134" y="97"/>
                  </a:lnTo>
                  <a:lnTo>
                    <a:pt x="191" y="57"/>
                  </a:lnTo>
                  <a:lnTo>
                    <a:pt x="248" y="28"/>
                  </a:lnTo>
                  <a:lnTo>
                    <a:pt x="317" y="8"/>
                  </a:lnTo>
                  <a:lnTo>
                    <a:pt x="382" y="0"/>
                  </a:lnTo>
                  <a:lnTo>
                    <a:pt x="447" y="0"/>
                  </a:lnTo>
                  <a:lnTo>
                    <a:pt x="516" y="12"/>
                  </a:lnTo>
                  <a:lnTo>
                    <a:pt x="804" y="129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43320" y="4819680"/>
              <a:ext cx="131760" cy="144360"/>
            </a:xfrm>
            <a:custGeom>
              <a:avLst/>
              <a:gdLst/>
              <a:ahLst/>
              <a:rect l="l" t="t" r="r" b="b"/>
              <a:pathLst>
                <a:path w="747" h="823">
                  <a:moveTo>
                    <a:pt x="747" y="413"/>
                  </a:moveTo>
                  <a:lnTo>
                    <a:pt x="743" y="345"/>
                  </a:lnTo>
                  <a:lnTo>
                    <a:pt x="727" y="279"/>
                  </a:lnTo>
                  <a:lnTo>
                    <a:pt x="703" y="215"/>
                  </a:lnTo>
                  <a:lnTo>
                    <a:pt x="670" y="158"/>
                  </a:lnTo>
                  <a:lnTo>
                    <a:pt x="625" y="105"/>
                  </a:lnTo>
                  <a:lnTo>
                    <a:pt x="580" y="68"/>
                  </a:lnTo>
                  <a:lnTo>
                    <a:pt x="524" y="32"/>
                  </a:lnTo>
                  <a:lnTo>
                    <a:pt x="467" y="12"/>
                  </a:lnTo>
                  <a:lnTo>
                    <a:pt x="406" y="0"/>
                  </a:lnTo>
                  <a:lnTo>
                    <a:pt x="345" y="0"/>
                  </a:lnTo>
                  <a:lnTo>
                    <a:pt x="280" y="12"/>
                  </a:lnTo>
                  <a:lnTo>
                    <a:pt x="224" y="32"/>
                  </a:lnTo>
                  <a:lnTo>
                    <a:pt x="171" y="68"/>
                  </a:lnTo>
                  <a:lnTo>
                    <a:pt x="122" y="105"/>
                  </a:lnTo>
                  <a:lnTo>
                    <a:pt x="81" y="158"/>
                  </a:lnTo>
                  <a:lnTo>
                    <a:pt x="49" y="215"/>
                  </a:lnTo>
                  <a:lnTo>
                    <a:pt x="20" y="279"/>
                  </a:lnTo>
                  <a:lnTo>
                    <a:pt x="9" y="345"/>
                  </a:lnTo>
                  <a:lnTo>
                    <a:pt x="0" y="413"/>
                  </a:lnTo>
                  <a:lnTo>
                    <a:pt x="9" y="483"/>
                  </a:lnTo>
                  <a:lnTo>
                    <a:pt x="20" y="547"/>
                  </a:lnTo>
                  <a:lnTo>
                    <a:pt x="49" y="608"/>
                  </a:lnTo>
                  <a:lnTo>
                    <a:pt x="81" y="668"/>
                  </a:lnTo>
                  <a:lnTo>
                    <a:pt x="122" y="717"/>
                  </a:lnTo>
                  <a:lnTo>
                    <a:pt x="171" y="762"/>
                  </a:lnTo>
                  <a:lnTo>
                    <a:pt x="224" y="791"/>
                  </a:lnTo>
                  <a:lnTo>
                    <a:pt x="284" y="815"/>
                  </a:lnTo>
                  <a:lnTo>
                    <a:pt x="345" y="823"/>
                  </a:lnTo>
                  <a:lnTo>
                    <a:pt x="406" y="823"/>
                  </a:lnTo>
                  <a:lnTo>
                    <a:pt x="467" y="815"/>
                  </a:lnTo>
                  <a:lnTo>
                    <a:pt x="524" y="791"/>
                  </a:lnTo>
                  <a:lnTo>
                    <a:pt x="580" y="758"/>
                  </a:lnTo>
                  <a:lnTo>
                    <a:pt x="625" y="717"/>
                  </a:lnTo>
                  <a:lnTo>
                    <a:pt x="670" y="664"/>
                  </a:lnTo>
                  <a:lnTo>
                    <a:pt x="703" y="608"/>
                  </a:lnTo>
                  <a:lnTo>
                    <a:pt x="727" y="543"/>
                  </a:lnTo>
                  <a:lnTo>
                    <a:pt x="743" y="483"/>
                  </a:lnTo>
                  <a:lnTo>
                    <a:pt x="747" y="413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300200" y="4919760"/>
              <a:ext cx="174960" cy="179280"/>
            </a:xfrm>
            <a:custGeom>
              <a:avLst/>
              <a:gdLst/>
              <a:ahLst/>
              <a:rect l="l" t="t" r="r" b="b"/>
              <a:pathLst>
                <a:path w="982" h="1021">
                  <a:moveTo>
                    <a:pt x="917" y="149"/>
                  </a:moveTo>
                  <a:lnTo>
                    <a:pt x="982" y="149"/>
                  </a:lnTo>
                  <a:lnTo>
                    <a:pt x="982" y="673"/>
                  </a:lnTo>
                  <a:lnTo>
                    <a:pt x="783" y="868"/>
                  </a:lnTo>
                  <a:lnTo>
                    <a:pt x="281" y="1021"/>
                  </a:lnTo>
                  <a:lnTo>
                    <a:pt x="102" y="738"/>
                  </a:lnTo>
                  <a:lnTo>
                    <a:pt x="57" y="677"/>
                  </a:lnTo>
                  <a:lnTo>
                    <a:pt x="28" y="604"/>
                  </a:lnTo>
                  <a:lnTo>
                    <a:pt x="8" y="530"/>
                  </a:lnTo>
                  <a:lnTo>
                    <a:pt x="0" y="454"/>
                  </a:lnTo>
                  <a:lnTo>
                    <a:pt x="8" y="377"/>
                  </a:lnTo>
                  <a:lnTo>
                    <a:pt x="28" y="304"/>
                  </a:lnTo>
                  <a:lnTo>
                    <a:pt x="61" y="234"/>
                  </a:lnTo>
                  <a:lnTo>
                    <a:pt x="102" y="170"/>
                  </a:lnTo>
                  <a:lnTo>
                    <a:pt x="154" y="113"/>
                  </a:lnTo>
                  <a:lnTo>
                    <a:pt x="219" y="68"/>
                  </a:lnTo>
                  <a:lnTo>
                    <a:pt x="284" y="32"/>
                  </a:lnTo>
                  <a:lnTo>
                    <a:pt x="362" y="11"/>
                  </a:lnTo>
                  <a:lnTo>
                    <a:pt x="434" y="0"/>
                  </a:lnTo>
                  <a:lnTo>
                    <a:pt x="511" y="4"/>
                  </a:lnTo>
                  <a:lnTo>
                    <a:pt x="588" y="15"/>
                  </a:lnTo>
                  <a:lnTo>
                    <a:pt x="917" y="149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324320" y="4948200"/>
              <a:ext cx="150840" cy="166680"/>
            </a:xfrm>
            <a:custGeom>
              <a:avLst/>
              <a:gdLst/>
              <a:ahLst/>
              <a:rect l="l" t="t" r="r" b="b"/>
              <a:pathLst>
                <a:path w="852" h="945">
                  <a:moveTo>
                    <a:pt x="852" y="474"/>
                  </a:moveTo>
                  <a:lnTo>
                    <a:pt x="848" y="393"/>
                  </a:lnTo>
                  <a:lnTo>
                    <a:pt x="828" y="321"/>
                  </a:lnTo>
                  <a:lnTo>
                    <a:pt x="800" y="247"/>
                  </a:lnTo>
                  <a:lnTo>
                    <a:pt x="763" y="183"/>
                  </a:lnTo>
                  <a:lnTo>
                    <a:pt x="715" y="121"/>
                  </a:lnTo>
                  <a:lnTo>
                    <a:pt x="662" y="77"/>
                  </a:lnTo>
                  <a:lnTo>
                    <a:pt x="596" y="36"/>
                  </a:lnTo>
                  <a:lnTo>
                    <a:pt x="532" y="12"/>
                  </a:lnTo>
                  <a:lnTo>
                    <a:pt x="462" y="0"/>
                  </a:lnTo>
                  <a:lnTo>
                    <a:pt x="394" y="0"/>
                  </a:lnTo>
                  <a:lnTo>
                    <a:pt x="321" y="12"/>
                  </a:lnTo>
                  <a:lnTo>
                    <a:pt x="256" y="36"/>
                  </a:lnTo>
                  <a:lnTo>
                    <a:pt x="195" y="77"/>
                  </a:lnTo>
                  <a:lnTo>
                    <a:pt x="138" y="121"/>
                  </a:lnTo>
                  <a:lnTo>
                    <a:pt x="93" y="183"/>
                  </a:lnTo>
                  <a:lnTo>
                    <a:pt x="53" y="247"/>
                  </a:lnTo>
                  <a:lnTo>
                    <a:pt x="24" y="321"/>
                  </a:lnTo>
                  <a:lnTo>
                    <a:pt x="8" y="393"/>
                  </a:lnTo>
                  <a:lnTo>
                    <a:pt x="0" y="474"/>
                  </a:lnTo>
                  <a:lnTo>
                    <a:pt x="8" y="551"/>
                  </a:lnTo>
                  <a:lnTo>
                    <a:pt x="24" y="628"/>
                  </a:lnTo>
                  <a:lnTo>
                    <a:pt x="53" y="698"/>
                  </a:lnTo>
                  <a:lnTo>
                    <a:pt x="93" y="766"/>
                  </a:lnTo>
                  <a:lnTo>
                    <a:pt x="138" y="823"/>
                  </a:lnTo>
                  <a:lnTo>
                    <a:pt x="195" y="872"/>
                  </a:lnTo>
                  <a:lnTo>
                    <a:pt x="256" y="908"/>
                  </a:lnTo>
                  <a:lnTo>
                    <a:pt x="325" y="932"/>
                  </a:lnTo>
                  <a:lnTo>
                    <a:pt x="394" y="945"/>
                  </a:lnTo>
                  <a:lnTo>
                    <a:pt x="462" y="945"/>
                  </a:lnTo>
                  <a:lnTo>
                    <a:pt x="532" y="932"/>
                  </a:lnTo>
                  <a:lnTo>
                    <a:pt x="596" y="908"/>
                  </a:lnTo>
                  <a:lnTo>
                    <a:pt x="662" y="868"/>
                  </a:lnTo>
                  <a:lnTo>
                    <a:pt x="715" y="823"/>
                  </a:lnTo>
                  <a:lnTo>
                    <a:pt x="763" y="762"/>
                  </a:lnTo>
                  <a:lnTo>
                    <a:pt x="800" y="698"/>
                  </a:lnTo>
                  <a:lnTo>
                    <a:pt x="828" y="624"/>
                  </a:lnTo>
                  <a:lnTo>
                    <a:pt x="848" y="551"/>
                  </a:lnTo>
                  <a:lnTo>
                    <a:pt x="852" y="474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838320" y="4133880"/>
              <a:ext cx="1433520" cy="819000"/>
            </a:xfrm>
            <a:custGeom>
              <a:avLst/>
              <a:gdLst/>
              <a:ahLst/>
              <a:rect l="l" t="t" r="r" b="b"/>
              <a:pathLst>
                <a:path w="8134" h="4641">
                  <a:moveTo>
                    <a:pt x="3872" y="66"/>
                  </a:moveTo>
                  <a:lnTo>
                    <a:pt x="3872" y="1440"/>
                  </a:lnTo>
                  <a:lnTo>
                    <a:pt x="2557" y="0"/>
                  </a:lnTo>
                  <a:lnTo>
                    <a:pt x="2419" y="4"/>
                  </a:lnTo>
                  <a:lnTo>
                    <a:pt x="2366" y="82"/>
                  </a:lnTo>
                  <a:lnTo>
                    <a:pt x="2366" y="172"/>
                  </a:lnTo>
                  <a:lnTo>
                    <a:pt x="2362" y="329"/>
                  </a:lnTo>
                  <a:lnTo>
                    <a:pt x="3478" y="1765"/>
                  </a:lnTo>
                  <a:lnTo>
                    <a:pt x="3373" y="1810"/>
                  </a:lnTo>
                  <a:lnTo>
                    <a:pt x="3280" y="1830"/>
                  </a:lnTo>
                  <a:lnTo>
                    <a:pt x="1766" y="1793"/>
                  </a:lnTo>
                  <a:lnTo>
                    <a:pt x="263" y="1765"/>
                  </a:lnTo>
                  <a:lnTo>
                    <a:pt x="158" y="1810"/>
                  </a:lnTo>
                  <a:lnTo>
                    <a:pt x="65" y="1895"/>
                  </a:lnTo>
                  <a:lnTo>
                    <a:pt x="0" y="2223"/>
                  </a:lnTo>
                  <a:lnTo>
                    <a:pt x="288" y="2297"/>
                  </a:lnTo>
                  <a:lnTo>
                    <a:pt x="422" y="2276"/>
                  </a:lnTo>
                  <a:lnTo>
                    <a:pt x="459" y="2223"/>
                  </a:lnTo>
                  <a:lnTo>
                    <a:pt x="3356" y="2370"/>
                  </a:lnTo>
                  <a:lnTo>
                    <a:pt x="3559" y="2442"/>
                  </a:lnTo>
                  <a:lnTo>
                    <a:pt x="3637" y="2536"/>
                  </a:lnTo>
                  <a:lnTo>
                    <a:pt x="3653" y="2629"/>
                  </a:lnTo>
                  <a:lnTo>
                    <a:pt x="3150" y="4248"/>
                  </a:lnTo>
                  <a:lnTo>
                    <a:pt x="3150" y="4576"/>
                  </a:lnTo>
                  <a:lnTo>
                    <a:pt x="3263" y="4621"/>
                  </a:lnTo>
                  <a:lnTo>
                    <a:pt x="3409" y="4641"/>
                  </a:lnTo>
                  <a:lnTo>
                    <a:pt x="3507" y="4621"/>
                  </a:lnTo>
                  <a:lnTo>
                    <a:pt x="3608" y="4576"/>
                  </a:lnTo>
                  <a:lnTo>
                    <a:pt x="3608" y="4378"/>
                  </a:lnTo>
                  <a:lnTo>
                    <a:pt x="4197" y="2747"/>
                  </a:lnTo>
                  <a:lnTo>
                    <a:pt x="4367" y="2686"/>
                  </a:lnTo>
                  <a:lnTo>
                    <a:pt x="4534" y="2649"/>
                  </a:lnTo>
                  <a:lnTo>
                    <a:pt x="4855" y="2617"/>
                  </a:lnTo>
                  <a:lnTo>
                    <a:pt x="7610" y="3725"/>
                  </a:lnTo>
                  <a:lnTo>
                    <a:pt x="7676" y="3789"/>
                  </a:lnTo>
                  <a:lnTo>
                    <a:pt x="7842" y="3878"/>
                  </a:lnTo>
                  <a:lnTo>
                    <a:pt x="8004" y="3923"/>
                  </a:lnTo>
                  <a:lnTo>
                    <a:pt x="8069" y="3915"/>
                  </a:lnTo>
                  <a:lnTo>
                    <a:pt x="8134" y="3858"/>
                  </a:lnTo>
                  <a:lnTo>
                    <a:pt x="8134" y="3595"/>
                  </a:lnTo>
                  <a:lnTo>
                    <a:pt x="8121" y="3525"/>
                  </a:lnTo>
                  <a:lnTo>
                    <a:pt x="8069" y="3465"/>
                  </a:lnTo>
                  <a:lnTo>
                    <a:pt x="5119" y="2223"/>
                  </a:lnTo>
                  <a:lnTo>
                    <a:pt x="5119" y="2159"/>
                  </a:lnTo>
                  <a:lnTo>
                    <a:pt x="7018" y="1307"/>
                  </a:lnTo>
                  <a:lnTo>
                    <a:pt x="7225" y="1307"/>
                  </a:lnTo>
                  <a:lnTo>
                    <a:pt x="7225" y="1140"/>
                  </a:lnTo>
                  <a:lnTo>
                    <a:pt x="7225" y="991"/>
                  </a:lnTo>
                  <a:lnTo>
                    <a:pt x="7152" y="917"/>
                  </a:lnTo>
                  <a:lnTo>
                    <a:pt x="7074" y="881"/>
                  </a:lnTo>
                  <a:lnTo>
                    <a:pt x="6952" y="853"/>
                  </a:lnTo>
                  <a:lnTo>
                    <a:pt x="4655" y="1636"/>
                  </a:lnTo>
                  <a:lnTo>
                    <a:pt x="4525" y="1570"/>
                  </a:lnTo>
                  <a:lnTo>
                    <a:pt x="4461" y="66"/>
                  </a:lnTo>
                  <a:lnTo>
                    <a:pt x="3872" y="66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871800" y="4433760"/>
              <a:ext cx="846000" cy="449280"/>
            </a:xfrm>
            <a:custGeom>
              <a:avLst/>
              <a:gdLst/>
              <a:ahLst/>
              <a:rect l="l" t="t" r="r" b="b"/>
              <a:pathLst>
                <a:path w="4790" h="2548">
                  <a:moveTo>
                    <a:pt x="0" y="333"/>
                  </a:moveTo>
                  <a:lnTo>
                    <a:pt x="2788" y="426"/>
                  </a:lnTo>
                  <a:lnTo>
                    <a:pt x="3019" y="459"/>
                  </a:lnTo>
                  <a:lnTo>
                    <a:pt x="3291" y="540"/>
                  </a:lnTo>
                  <a:lnTo>
                    <a:pt x="3421" y="576"/>
                  </a:lnTo>
                  <a:lnTo>
                    <a:pt x="3536" y="653"/>
                  </a:lnTo>
                  <a:lnTo>
                    <a:pt x="3592" y="742"/>
                  </a:lnTo>
                  <a:lnTo>
                    <a:pt x="3592" y="857"/>
                  </a:lnTo>
                  <a:lnTo>
                    <a:pt x="3019" y="2548"/>
                  </a:lnTo>
                  <a:lnTo>
                    <a:pt x="3085" y="2532"/>
                  </a:lnTo>
                  <a:lnTo>
                    <a:pt x="3149" y="2548"/>
                  </a:lnTo>
                  <a:lnTo>
                    <a:pt x="3872" y="719"/>
                  </a:lnTo>
                  <a:lnTo>
                    <a:pt x="4002" y="523"/>
                  </a:lnTo>
                  <a:lnTo>
                    <a:pt x="4172" y="467"/>
                  </a:lnTo>
                  <a:lnTo>
                    <a:pt x="4330" y="459"/>
                  </a:lnTo>
                  <a:lnTo>
                    <a:pt x="4790" y="459"/>
                  </a:lnTo>
                  <a:lnTo>
                    <a:pt x="4692" y="353"/>
                  </a:lnTo>
                  <a:lnTo>
                    <a:pt x="4594" y="260"/>
                  </a:lnTo>
                  <a:lnTo>
                    <a:pt x="4582" y="130"/>
                  </a:lnTo>
                  <a:lnTo>
                    <a:pt x="4660" y="0"/>
                  </a:lnTo>
                  <a:lnTo>
                    <a:pt x="4396" y="65"/>
                  </a:lnTo>
                  <a:lnTo>
                    <a:pt x="4469" y="204"/>
                  </a:lnTo>
                  <a:lnTo>
                    <a:pt x="4452" y="333"/>
                  </a:lnTo>
                  <a:lnTo>
                    <a:pt x="4266" y="410"/>
                  </a:lnTo>
                  <a:lnTo>
                    <a:pt x="3872" y="426"/>
                  </a:lnTo>
                  <a:lnTo>
                    <a:pt x="3779" y="410"/>
                  </a:lnTo>
                  <a:lnTo>
                    <a:pt x="3677" y="329"/>
                  </a:lnTo>
                  <a:lnTo>
                    <a:pt x="3628" y="223"/>
                  </a:lnTo>
                  <a:lnTo>
                    <a:pt x="3608" y="130"/>
                  </a:lnTo>
                  <a:lnTo>
                    <a:pt x="3608" y="0"/>
                  </a:lnTo>
                  <a:lnTo>
                    <a:pt x="3458" y="110"/>
                  </a:lnTo>
                  <a:lnTo>
                    <a:pt x="3328" y="187"/>
                  </a:lnTo>
                  <a:lnTo>
                    <a:pt x="3085" y="244"/>
                  </a:lnTo>
                  <a:lnTo>
                    <a:pt x="2756" y="260"/>
                  </a:lnTo>
                  <a:lnTo>
                    <a:pt x="198" y="130"/>
                  </a:lnTo>
                  <a:lnTo>
                    <a:pt x="40" y="22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694040" y="4292640"/>
              <a:ext cx="395280" cy="163440"/>
            </a:xfrm>
            <a:custGeom>
              <a:avLst/>
              <a:gdLst/>
              <a:ahLst/>
              <a:rect l="l" t="t" r="r" b="b"/>
              <a:pathLst>
                <a:path w="2240" h="928">
                  <a:moveTo>
                    <a:pt x="182" y="928"/>
                  </a:moveTo>
                  <a:lnTo>
                    <a:pt x="2240" y="51"/>
                  </a:lnTo>
                  <a:lnTo>
                    <a:pt x="2183" y="0"/>
                  </a:lnTo>
                  <a:lnTo>
                    <a:pt x="0" y="798"/>
                  </a:lnTo>
                  <a:lnTo>
                    <a:pt x="182" y="92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578120" y="4529160"/>
              <a:ext cx="649440" cy="268200"/>
            </a:xfrm>
            <a:custGeom>
              <a:avLst/>
              <a:gdLst/>
              <a:ahLst/>
              <a:rect l="l" t="t" r="r" b="b"/>
              <a:pathLst>
                <a:path w="3681" h="1525">
                  <a:moveTo>
                    <a:pt x="0" y="187"/>
                  </a:moveTo>
                  <a:lnTo>
                    <a:pt x="130" y="73"/>
                  </a:lnTo>
                  <a:lnTo>
                    <a:pt x="280" y="20"/>
                  </a:lnTo>
                  <a:lnTo>
                    <a:pt x="467" y="0"/>
                  </a:lnTo>
                  <a:lnTo>
                    <a:pt x="654" y="36"/>
                  </a:lnTo>
                  <a:lnTo>
                    <a:pt x="917" y="130"/>
                  </a:lnTo>
                  <a:lnTo>
                    <a:pt x="3681" y="1266"/>
                  </a:lnTo>
                  <a:lnTo>
                    <a:pt x="3665" y="1396"/>
                  </a:lnTo>
                  <a:lnTo>
                    <a:pt x="3665" y="1525"/>
                  </a:lnTo>
                  <a:lnTo>
                    <a:pt x="654" y="296"/>
                  </a:lnTo>
                  <a:lnTo>
                    <a:pt x="524" y="166"/>
                  </a:lnTo>
                  <a:lnTo>
                    <a:pt x="280" y="113"/>
                  </a:lnTo>
                  <a:lnTo>
                    <a:pt x="73" y="13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437000" y="4572000"/>
              <a:ext cx="125280" cy="311040"/>
            </a:xfrm>
            <a:custGeom>
              <a:avLst/>
              <a:gdLst/>
              <a:ahLst/>
              <a:rect l="l" t="t" r="r" b="b"/>
              <a:pathLst>
                <a:path w="711" h="1768">
                  <a:moveTo>
                    <a:pt x="711" y="0"/>
                  </a:moveTo>
                  <a:lnTo>
                    <a:pt x="0" y="1768"/>
                  </a:lnTo>
                  <a:lnTo>
                    <a:pt x="85" y="1700"/>
                  </a:lnTo>
                  <a:lnTo>
                    <a:pt x="674" y="134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287600" y="4133880"/>
              <a:ext cx="231840" cy="245880"/>
            </a:xfrm>
            <a:custGeom>
              <a:avLst/>
              <a:gdLst/>
              <a:ahLst/>
              <a:rect l="l" t="t" r="r" b="b"/>
              <a:pathLst>
                <a:path w="1307" h="1396">
                  <a:moveTo>
                    <a:pt x="1307" y="1396"/>
                  </a:moveTo>
                  <a:lnTo>
                    <a:pt x="203" y="151"/>
                  </a:lnTo>
                  <a:lnTo>
                    <a:pt x="150" y="94"/>
                  </a:lnTo>
                  <a:lnTo>
                    <a:pt x="94" y="38"/>
                  </a:lnTo>
                  <a:lnTo>
                    <a:pt x="0" y="0"/>
                  </a:lnTo>
                  <a:lnTo>
                    <a:pt x="1185" y="1372"/>
                  </a:lnTo>
                  <a:lnTo>
                    <a:pt x="1307" y="13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262400" y="4133880"/>
              <a:ext cx="234720" cy="297000"/>
            </a:xfrm>
            <a:custGeom>
              <a:avLst/>
              <a:gdLst/>
              <a:ahLst/>
              <a:rect l="l" t="t" r="r" b="b"/>
              <a:pathLst>
                <a:path w="1335" h="1680">
                  <a:moveTo>
                    <a:pt x="0" y="134"/>
                  </a:moveTo>
                  <a:lnTo>
                    <a:pt x="0" y="42"/>
                  </a:lnTo>
                  <a:lnTo>
                    <a:pt x="89" y="0"/>
                  </a:lnTo>
                  <a:lnTo>
                    <a:pt x="1335" y="1440"/>
                  </a:lnTo>
                  <a:lnTo>
                    <a:pt x="1328" y="1551"/>
                  </a:lnTo>
                  <a:lnTo>
                    <a:pt x="1213" y="168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730400" y="4305240"/>
              <a:ext cx="371520" cy="187560"/>
            </a:xfrm>
            <a:custGeom>
              <a:avLst/>
              <a:gdLst/>
              <a:ahLst/>
              <a:rect l="l" t="t" r="r" b="b"/>
              <a:pathLst>
                <a:path w="2111" h="1059">
                  <a:moveTo>
                    <a:pt x="0" y="819"/>
                  </a:moveTo>
                  <a:lnTo>
                    <a:pt x="2058" y="0"/>
                  </a:lnTo>
                  <a:lnTo>
                    <a:pt x="2111" y="57"/>
                  </a:lnTo>
                  <a:lnTo>
                    <a:pt x="0" y="1059"/>
                  </a:lnTo>
                  <a:lnTo>
                    <a:pt x="0" y="8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687560" y="4479840"/>
              <a:ext cx="560520" cy="268200"/>
            </a:xfrm>
            <a:custGeom>
              <a:avLst/>
              <a:gdLst/>
              <a:ahLst/>
              <a:rect l="l" t="t" r="r" b="b"/>
              <a:pathLst>
                <a:path w="3177" h="1525">
                  <a:moveTo>
                    <a:pt x="130" y="129"/>
                  </a:moveTo>
                  <a:lnTo>
                    <a:pt x="300" y="259"/>
                  </a:lnTo>
                  <a:lnTo>
                    <a:pt x="3177" y="1489"/>
                  </a:lnTo>
                  <a:lnTo>
                    <a:pt x="3048" y="1525"/>
                  </a:lnTo>
                  <a:lnTo>
                    <a:pt x="150" y="280"/>
                  </a:lnTo>
                  <a:lnTo>
                    <a:pt x="0" y="73"/>
                  </a:lnTo>
                  <a:lnTo>
                    <a:pt x="41" y="0"/>
                  </a:lnTo>
                  <a:lnTo>
                    <a:pt x="13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532040" y="4157640"/>
              <a:ext cx="34920" cy="322200"/>
            </a:xfrm>
            <a:custGeom>
              <a:avLst/>
              <a:gdLst/>
              <a:ahLst/>
              <a:rect l="l" t="t" r="r" b="b"/>
              <a:pathLst>
                <a:path w="195" h="1826">
                  <a:moveTo>
                    <a:pt x="0" y="0"/>
                  </a:moveTo>
                  <a:lnTo>
                    <a:pt x="0" y="1696"/>
                  </a:lnTo>
                  <a:lnTo>
                    <a:pt x="0" y="1761"/>
                  </a:lnTo>
                  <a:lnTo>
                    <a:pt x="195" y="1826"/>
                  </a:lnTo>
                  <a:lnTo>
                    <a:pt x="195" y="1761"/>
                  </a:lnTo>
                  <a:lnTo>
                    <a:pt x="195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532040" y="4191120"/>
              <a:ext cx="42840" cy="301680"/>
            </a:xfrm>
            <a:custGeom>
              <a:avLst/>
              <a:gdLst/>
              <a:ahLst/>
              <a:rect l="l" t="t" r="r" b="b"/>
              <a:pathLst>
                <a:path w="239" h="1704">
                  <a:moveTo>
                    <a:pt x="195" y="0"/>
                  </a:moveTo>
                  <a:lnTo>
                    <a:pt x="130" y="1501"/>
                  </a:lnTo>
                  <a:lnTo>
                    <a:pt x="73" y="1522"/>
                  </a:lnTo>
                  <a:lnTo>
                    <a:pt x="0" y="1522"/>
                  </a:lnTo>
                  <a:lnTo>
                    <a:pt x="0" y="1566"/>
                  </a:lnTo>
                  <a:lnTo>
                    <a:pt x="37" y="1631"/>
                  </a:lnTo>
                  <a:lnTo>
                    <a:pt x="94" y="1688"/>
                  </a:lnTo>
                  <a:lnTo>
                    <a:pt x="186" y="1704"/>
                  </a:lnTo>
                  <a:lnTo>
                    <a:pt x="239" y="155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78120" y="4168800"/>
              <a:ext cx="69840" cy="330120"/>
            </a:xfrm>
            <a:custGeom>
              <a:avLst/>
              <a:gdLst/>
              <a:ahLst/>
              <a:rect l="l" t="t" r="r" b="b"/>
              <a:pathLst>
                <a:path w="394" h="1874">
                  <a:moveTo>
                    <a:pt x="198" y="0"/>
                  </a:moveTo>
                  <a:lnTo>
                    <a:pt x="264" y="1630"/>
                  </a:lnTo>
                  <a:lnTo>
                    <a:pt x="280" y="1651"/>
                  </a:lnTo>
                  <a:lnTo>
                    <a:pt x="394" y="1695"/>
                  </a:lnTo>
                  <a:lnTo>
                    <a:pt x="394" y="1760"/>
                  </a:lnTo>
                  <a:lnTo>
                    <a:pt x="337" y="1833"/>
                  </a:lnTo>
                  <a:lnTo>
                    <a:pt x="223" y="1874"/>
                  </a:lnTo>
                  <a:lnTo>
                    <a:pt x="56" y="1853"/>
                  </a:lnTo>
                  <a:lnTo>
                    <a:pt x="0" y="1796"/>
                  </a:lnTo>
                  <a:lnTo>
                    <a:pt x="73" y="1760"/>
                  </a:lnTo>
                  <a:lnTo>
                    <a:pt x="94" y="1687"/>
                  </a:lnTo>
                  <a:lnTo>
                    <a:pt x="134" y="6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520880" y="4111560"/>
              <a:ext cx="103320" cy="68400"/>
            </a:xfrm>
            <a:custGeom>
              <a:avLst/>
              <a:gdLst/>
              <a:ahLst/>
              <a:rect l="l" t="t" r="r" b="b"/>
              <a:pathLst>
                <a:path w="589" h="389">
                  <a:moveTo>
                    <a:pt x="232" y="0"/>
                  </a:moveTo>
                  <a:lnTo>
                    <a:pt x="138" y="37"/>
                  </a:lnTo>
                  <a:lnTo>
                    <a:pt x="8" y="129"/>
                  </a:lnTo>
                  <a:lnTo>
                    <a:pt x="8" y="207"/>
                  </a:lnTo>
                  <a:lnTo>
                    <a:pt x="0" y="259"/>
                  </a:lnTo>
                  <a:lnTo>
                    <a:pt x="65" y="316"/>
                  </a:lnTo>
                  <a:lnTo>
                    <a:pt x="195" y="389"/>
                  </a:lnTo>
                  <a:lnTo>
                    <a:pt x="289" y="389"/>
                  </a:lnTo>
                  <a:lnTo>
                    <a:pt x="398" y="389"/>
                  </a:lnTo>
                  <a:lnTo>
                    <a:pt x="455" y="373"/>
                  </a:lnTo>
                  <a:lnTo>
                    <a:pt x="532" y="316"/>
                  </a:lnTo>
                  <a:lnTo>
                    <a:pt x="589" y="259"/>
                  </a:lnTo>
                  <a:lnTo>
                    <a:pt x="589" y="167"/>
                  </a:lnTo>
                  <a:lnTo>
                    <a:pt x="532" y="93"/>
                  </a:lnTo>
                  <a:lnTo>
                    <a:pt x="455" y="57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543200" y="4052880"/>
              <a:ext cx="34920" cy="114480"/>
            </a:xfrm>
            <a:custGeom>
              <a:avLst/>
              <a:gdLst/>
              <a:ahLst/>
              <a:rect l="l" t="t" r="r" b="b"/>
              <a:pathLst>
                <a:path w="195" h="653">
                  <a:moveTo>
                    <a:pt x="8" y="0"/>
                  </a:moveTo>
                  <a:lnTo>
                    <a:pt x="0" y="462"/>
                  </a:lnTo>
                  <a:lnTo>
                    <a:pt x="29" y="581"/>
                  </a:lnTo>
                  <a:lnTo>
                    <a:pt x="65" y="617"/>
                  </a:lnTo>
                  <a:lnTo>
                    <a:pt x="159" y="653"/>
                  </a:lnTo>
                  <a:lnTo>
                    <a:pt x="195" y="596"/>
                  </a:lnTo>
                  <a:lnTo>
                    <a:pt x="195" y="1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6960" y="4065480"/>
              <a:ext cx="34920" cy="101880"/>
            </a:xfrm>
            <a:custGeom>
              <a:avLst/>
              <a:gdLst/>
              <a:ahLst/>
              <a:rect l="l" t="t" r="r" b="b"/>
              <a:pathLst>
                <a:path w="199" h="580">
                  <a:moveTo>
                    <a:pt x="199" y="0"/>
                  </a:moveTo>
                  <a:lnTo>
                    <a:pt x="199" y="455"/>
                  </a:lnTo>
                  <a:lnTo>
                    <a:pt x="195" y="487"/>
                  </a:lnTo>
                  <a:lnTo>
                    <a:pt x="195" y="544"/>
                  </a:lnTo>
                  <a:lnTo>
                    <a:pt x="8" y="580"/>
                  </a:lnTo>
                  <a:lnTo>
                    <a:pt x="0" y="455"/>
                  </a:lnTo>
                  <a:lnTo>
                    <a:pt x="0" y="19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522680" y="4145040"/>
              <a:ext cx="1440" cy="315720"/>
            </a:xfrm>
            <a:custGeom>
              <a:avLst/>
              <a:gdLst/>
              <a:ahLst/>
              <a:rect l="l" t="t" r="r" b="b"/>
              <a:pathLst>
                <a:path w="0" h="1789">
                  <a:moveTo>
                    <a:pt x="0" y="0"/>
                  </a:moveTo>
                  <a:lnTo>
                    <a:pt x="0" y="1378"/>
                  </a:lnTo>
                  <a:lnTo>
                    <a:pt x="0" y="1789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255920" y="4148280"/>
              <a:ext cx="196920" cy="296640"/>
            </a:xfrm>
            <a:custGeom>
              <a:avLst/>
              <a:gdLst/>
              <a:ahLst/>
              <a:rect l="l" t="t" r="r" b="b"/>
              <a:pathLst>
                <a:path w="1116" h="1683">
                  <a:moveTo>
                    <a:pt x="5" y="0"/>
                  </a:moveTo>
                  <a:lnTo>
                    <a:pt x="5" y="90"/>
                  </a:lnTo>
                  <a:lnTo>
                    <a:pt x="0" y="247"/>
                  </a:lnTo>
                  <a:lnTo>
                    <a:pt x="1116" y="1683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840120" y="4525920"/>
              <a:ext cx="642960" cy="71640"/>
            </a:xfrm>
            <a:custGeom>
              <a:avLst/>
              <a:gdLst/>
              <a:ahLst/>
              <a:rect l="l" t="t" r="r" b="b"/>
              <a:pathLst>
                <a:path w="3653" h="406">
                  <a:moveTo>
                    <a:pt x="0" y="0"/>
                  </a:moveTo>
                  <a:lnTo>
                    <a:pt x="289" y="74"/>
                  </a:lnTo>
                  <a:lnTo>
                    <a:pt x="423" y="53"/>
                  </a:lnTo>
                  <a:lnTo>
                    <a:pt x="459" y="0"/>
                  </a:lnTo>
                  <a:lnTo>
                    <a:pt x="3357" y="147"/>
                  </a:lnTo>
                  <a:lnTo>
                    <a:pt x="3559" y="219"/>
                  </a:lnTo>
                  <a:lnTo>
                    <a:pt x="3637" y="313"/>
                  </a:lnTo>
                  <a:lnTo>
                    <a:pt x="3653" y="406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439880" y="4595760"/>
              <a:ext cx="811440" cy="357120"/>
            </a:xfrm>
            <a:custGeom>
              <a:avLst/>
              <a:gdLst/>
              <a:ahLst/>
              <a:rect l="l" t="t" r="r" b="b"/>
              <a:pathLst>
                <a:path w="4594" h="2024">
                  <a:moveTo>
                    <a:pt x="0" y="2024"/>
                  </a:moveTo>
                  <a:lnTo>
                    <a:pt x="97" y="2004"/>
                  </a:lnTo>
                  <a:lnTo>
                    <a:pt x="198" y="1959"/>
                  </a:lnTo>
                  <a:lnTo>
                    <a:pt x="198" y="1761"/>
                  </a:lnTo>
                  <a:lnTo>
                    <a:pt x="787" y="130"/>
                  </a:lnTo>
                  <a:lnTo>
                    <a:pt x="958" y="69"/>
                  </a:lnTo>
                  <a:lnTo>
                    <a:pt x="1124" y="32"/>
                  </a:lnTo>
                  <a:lnTo>
                    <a:pt x="1444" y="0"/>
                  </a:lnTo>
                  <a:lnTo>
                    <a:pt x="4200" y="1108"/>
                  </a:lnTo>
                  <a:lnTo>
                    <a:pt x="4265" y="1172"/>
                  </a:lnTo>
                  <a:lnTo>
                    <a:pt x="4432" y="1261"/>
                  </a:lnTo>
                  <a:lnTo>
                    <a:pt x="4594" y="1306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741560" y="4363920"/>
              <a:ext cx="371520" cy="150840"/>
            </a:xfrm>
            <a:custGeom>
              <a:avLst/>
              <a:gdLst/>
              <a:ahLst/>
              <a:rect l="l" t="t" r="r" b="b"/>
              <a:pathLst>
                <a:path w="2107" h="852">
                  <a:moveTo>
                    <a:pt x="0" y="852"/>
                  </a:moveTo>
                  <a:lnTo>
                    <a:pt x="1900" y="0"/>
                  </a:lnTo>
                  <a:lnTo>
                    <a:pt x="2107" y="0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545000" y="4052880"/>
              <a:ext cx="10800" cy="108000"/>
            </a:xfrm>
            <a:custGeom>
              <a:avLst/>
              <a:gdLst/>
              <a:ahLst/>
              <a:rect l="l" t="t" r="r" b="b"/>
              <a:pathLst>
                <a:path w="65" h="617">
                  <a:moveTo>
                    <a:pt x="8" y="0"/>
                  </a:moveTo>
                  <a:lnTo>
                    <a:pt x="0" y="462"/>
                  </a:lnTo>
                  <a:lnTo>
                    <a:pt x="28" y="581"/>
                  </a:lnTo>
                  <a:lnTo>
                    <a:pt x="65" y="617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768480" y="2505240"/>
              <a:ext cx="1584360" cy="1582560"/>
            </a:xfrm>
            <a:custGeom>
              <a:avLst/>
              <a:gdLst/>
              <a:ahLst/>
              <a:rect l="l" t="t" r="r" b="b"/>
              <a:pathLst>
                <a:path w="8985" h="8976">
                  <a:moveTo>
                    <a:pt x="5512" y="8976"/>
                  </a:moveTo>
                  <a:lnTo>
                    <a:pt x="2293" y="8741"/>
                  </a:lnTo>
                  <a:lnTo>
                    <a:pt x="1054" y="8620"/>
                  </a:lnTo>
                  <a:lnTo>
                    <a:pt x="584" y="8469"/>
                  </a:lnTo>
                  <a:lnTo>
                    <a:pt x="308" y="8271"/>
                  </a:lnTo>
                  <a:lnTo>
                    <a:pt x="194" y="8060"/>
                  </a:lnTo>
                  <a:lnTo>
                    <a:pt x="60" y="7703"/>
                  </a:lnTo>
                  <a:lnTo>
                    <a:pt x="0" y="7341"/>
                  </a:lnTo>
                  <a:lnTo>
                    <a:pt x="0" y="6494"/>
                  </a:lnTo>
                  <a:lnTo>
                    <a:pt x="194" y="5646"/>
                  </a:lnTo>
                  <a:lnTo>
                    <a:pt x="482" y="5285"/>
                  </a:lnTo>
                  <a:lnTo>
                    <a:pt x="730" y="5086"/>
                  </a:lnTo>
                  <a:lnTo>
                    <a:pt x="929" y="4960"/>
                  </a:lnTo>
                  <a:lnTo>
                    <a:pt x="1128" y="4863"/>
                  </a:lnTo>
                  <a:lnTo>
                    <a:pt x="1424" y="4790"/>
                  </a:lnTo>
                  <a:lnTo>
                    <a:pt x="1700" y="4766"/>
                  </a:lnTo>
                  <a:lnTo>
                    <a:pt x="2195" y="4766"/>
                  </a:lnTo>
                  <a:lnTo>
                    <a:pt x="2666" y="4815"/>
                  </a:lnTo>
                  <a:lnTo>
                    <a:pt x="3936" y="4993"/>
                  </a:lnTo>
                  <a:lnTo>
                    <a:pt x="5706" y="5252"/>
                  </a:lnTo>
                  <a:lnTo>
                    <a:pt x="5576" y="4729"/>
                  </a:lnTo>
                  <a:lnTo>
                    <a:pt x="5836" y="3947"/>
                  </a:lnTo>
                  <a:lnTo>
                    <a:pt x="6493" y="1922"/>
                  </a:lnTo>
                  <a:lnTo>
                    <a:pt x="6757" y="1399"/>
                  </a:lnTo>
                  <a:lnTo>
                    <a:pt x="7151" y="352"/>
                  </a:lnTo>
                  <a:lnTo>
                    <a:pt x="7228" y="219"/>
                  </a:lnTo>
                  <a:lnTo>
                    <a:pt x="7301" y="122"/>
                  </a:lnTo>
                  <a:lnTo>
                    <a:pt x="7475" y="28"/>
                  </a:lnTo>
                  <a:lnTo>
                    <a:pt x="7724" y="0"/>
                  </a:lnTo>
                  <a:lnTo>
                    <a:pt x="8072" y="0"/>
                  </a:lnTo>
                  <a:lnTo>
                    <a:pt x="8271" y="48"/>
                  </a:lnTo>
                  <a:lnTo>
                    <a:pt x="8462" y="93"/>
                  </a:lnTo>
                  <a:lnTo>
                    <a:pt x="8985" y="552"/>
                  </a:lnTo>
                  <a:lnTo>
                    <a:pt x="8985" y="1269"/>
                  </a:lnTo>
                  <a:lnTo>
                    <a:pt x="7082" y="8583"/>
                  </a:lnTo>
                  <a:lnTo>
                    <a:pt x="6757" y="8976"/>
                  </a:lnTo>
                  <a:lnTo>
                    <a:pt x="5512" y="8976"/>
                  </a:lnTo>
                  <a:close/>
                </a:path>
              </a:pathLst>
            </a:custGeom>
            <a:solidFill>
              <a:srgbClr val="5ffb6a"/>
            </a:solidFill>
            <a:ln w="0">
              <a:solidFill>
                <a:srgbClr val="5ffb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49560" y="2577960"/>
              <a:ext cx="1125360" cy="1476360"/>
            </a:xfrm>
            <a:custGeom>
              <a:avLst/>
              <a:gdLst/>
              <a:ahLst/>
              <a:rect l="l" t="t" r="r" b="b"/>
              <a:pathLst>
                <a:path w="6373" h="8372">
                  <a:moveTo>
                    <a:pt x="4932" y="8372"/>
                  </a:moveTo>
                  <a:lnTo>
                    <a:pt x="4984" y="8172"/>
                  </a:lnTo>
                  <a:lnTo>
                    <a:pt x="5004" y="7970"/>
                  </a:lnTo>
                  <a:lnTo>
                    <a:pt x="5008" y="7779"/>
                  </a:lnTo>
                  <a:lnTo>
                    <a:pt x="4932" y="7581"/>
                  </a:lnTo>
                  <a:lnTo>
                    <a:pt x="4635" y="7260"/>
                  </a:lnTo>
                  <a:lnTo>
                    <a:pt x="4152" y="6923"/>
                  </a:lnTo>
                  <a:lnTo>
                    <a:pt x="3235" y="6404"/>
                  </a:lnTo>
                  <a:lnTo>
                    <a:pt x="2577" y="5946"/>
                  </a:lnTo>
                  <a:lnTo>
                    <a:pt x="1855" y="5358"/>
                  </a:lnTo>
                  <a:lnTo>
                    <a:pt x="1559" y="5138"/>
                  </a:lnTo>
                  <a:lnTo>
                    <a:pt x="1267" y="5029"/>
                  </a:lnTo>
                  <a:lnTo>
                    <a:pt x="865" y="4989"/>
                  </a:lnTo>
                  <a:lnTo>
                    <a:pt x="618" y="4989"/>
                  </a:lnTo>
                  <a:lnTo>
                    <a:pt x="394" y="5062"/>
                  </a:lnTo>
                  <a:lnTo>
                    <a:pt x="320" y="5163"/>
                  </a:lnTo>
                  <a:lnTo>
                    <a:pt x="150" y="5617"/>
                  </a:lnTo>
                  <a:lnTo>
                    <a:pt x="98" y="5804"/>
                  </a:lnTo>
                  <a:lnTo>
                    <a:pt x="73" y="6198"/>
                  </a:lnTo>
                  <a:lnTo>
                    <a:pt x="0" y="5828"/>
                  </a:lnTo>
                  <a:lnTo>
                    <a:pt x="24" y="5483"/>
                  </a:lnTo>
                  <a:lnTo>
                    <a:pt x="86" y="5163"/>
                  </a:lnTo>
                  <a:lnTo>
                    <a:pt x="195" y="4940"/>
                  </a:lnTo>
                  <a:lnTo>
                    <a:pt x="369" y="4766"/>
                  </a:lnTo>
                  <a:lnTo>
                    <a:pt x="520" y="4693"/>
                  </a:lnTo>
                  <a:lnTo>
                    <a:pt x="743" y="4570"/>
                  </a:lnTo>
                  <a:lnTo>
                    <a:pt x="942" y="4519"/>
                  </a:lnTo>
                  <a:lnTo>
                    <a:pt x="1238" y="4445"/>
                  </a:lnTo>
                  <a:lnTo>
                    <a:pt x="1661" y="4441"/>
                  </a:lnTo>
                  <a:lnTo>
                    <a:pt x="2180" y="4470"/>
                  </a:lnTo>
                  <a:lnTo>
                    <a:pt x="4282" y="4770"/>
                  </a:lnTo>
                  <a:lnTo>
                    <a:pt x="4708" y="4838"/>
                  </a:lnTo>
                  <a:lnTo>
                    <a:pt x="4563" y="4542"/>
                  </a:lnTo>
                  <a:lnTo>
                    <a:pt x="4538" y="4323"/>
                  </a:lnTo>
                  <a:lnTo>
                    <a:pt x="4538" y="4076"/>
                  </a:lnTo>
                  <a:lnTo>
                    <a:pt x="4587" y="3829"/>
                  </a:lnTo>
                  <a:lnTo>
                    <a:pt x="4708" y="3334"/>
                  </a:lnTo>
                  <a:lnTo>
                    <a:pt x="4859" y="2838"/>
                  </a:lnTo>
                  <a:lnTo>
                    <a:pt x="5008" y="2348"/>
                  </a:lnTo>
                  <a:lnTo>
                    <a:pt x="5334" y="1504"/>
                  </a:lnTo>
                  <a:lnTo>
                    <a:pt x="5630" y="840"/>
                  </a:lnTo>
                  <a:lnTo>
                    <a:pt x="6100" y="0"/>
                  </a:lnTo>
                  <a:lnTo>
                    <a:pt x="6125" y="791"/>
                  </a:lnTo>
                  <a:lnTo>
                    <a:pt x="6348" y="1480"/>
                  </a:lnTo>
                  <a:lnTo>
                    <a:pt x="6373" y="2372"/>
                  </a:lnTo>
                  <a:lnTo>
                    <a:pt x="6271" y="2791"/>
                  </a:lnTo>
                  <a:lnTo>
                    <a:pt x="6023" y="3459"/>
                  </a:lnTo>
                  <a:lnTo>
                    <a:pt x="5751" y="4246"/>
                  </a:lnTo>
                  <a:lnTo>
                    <a:pt x="5398" y="5553"/>
                  </a:lnTo>
                  <a:lnTo>
                    <a:pt x="5268" y="6664"/>
                  </a:lnTo>
                  <a:lnTo>
                    <a:pt x="5306" y="7309"/>
                  </a:lnTo>
                  <a:lnTo>
                    <a:pt x="5334" y="7776"/>
                  </a:lnTo>
                  <a:lnTo>
                    <a:pt x="5268" y="8100"/>
                  </a:lnTo>
                  <a:lnTo>
                    <a:pt x="5134" y="8298"/>
                  </a:lnTo>
                  <a:lnTo>
                    <a:pt x="4932" y="8372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757320" y="3384720"/>
              <a:ext cx="214560" cy="644400"/>
            </a:xfrm>
            <a:custGeom>
              <a:avLst/>
              <a:gdLst/>
              <a:ahLst/>
              <a:rect l="l" t="t" r="r" b="b"/>
              <a:pathLst>
                <a:path w="1214" h="3655">
                  <a:moveTo>
                    <a:pt x="918" y="0"/>
                  </a:moveTo>
                  <a:lnTo>
                    <a:pt x="694" y="394"/>
                  </a:lnTo>
                  <a:lnTo>
                    <a:pt x="569" y="913"/>
                  </a:lnTo>
                  <a:lnTo>
                    <a:pt x="520" y="1376"/>
                  </a:lnTo>
                  <a:lnTo>
                    <a:pt x="520" y="1766"/>
                  </a:lnTo>
                  <a:lnTo>
                    <a:pt x="585" y="2094"/>
                  </a:lnTo>
                  <a:lnTo>
                    <a:pt x="718" y="2289"/>
                  </a:lnTo>
                  <a:lnTo>
                    <a:pt x="914" y="2487"/>
                  </a:lnTo>
                  <a:lnTo>
                    <a:pt x="1112" y="2553"/>
                  </a:lnTo>
                  <a:lnTo>
                    <a:pt x="1214" y="2617"/>
                  </a:lnTo>
                  <a:lnTo>
                    <a:pt x="1092" y="2666"/>
                  </a:lnTo>
                  <a:lnTo>
                    <a:pt x="967" y="2763"/>
                  </a:lnTo>
                  <a:lnTo>
                    <a:pt x="893" y="2840"/>
                  </a:lnTo>
                  <a:lnTo>
                    <a:pt x="841" y="2987"/>
                  </a:lnTo>
                  <a:lnTo>
                    <a:pt x="848" y="3206"/>
                  </a:lnTo>
                  <a:lnTo>
                    <a:pt x="893" y="3307"/>
                  </a:lnTo>
                  <a:lnTo>
                    <a:pt x="942" y="3408"/>
                  </a:lnTo>
                  <a:lnTo>
                    <a:pt x="1064" y="3530"/>
                  </a:lnTo>
                  <a:lnTo>
                    <a:pt x="1190" y="3655"/>
                  </a:lnTo>
                  <a:lnTo>
                    <a:pt x="967" y="3579"/>
                  </a:lnTo>
                  <a:lnTo>
                    <a:pt x="743" y="3530"/>
                  </a:lnTo>
                  <a:lnTo>
                    <a:pt x="544" y="3432"/>
                  </a:lnTo>
                  <a:lnTo>
                    <a:pt x="321" y="3234"/>
                  </a:lnTo>
                  <a:lnTo>
                    <a:pt x="199" y="3064"/>
                  </a:lnTo>
                  <a:lnTo>
                    <a:pt x="122" y="2889"/>
                  </a:lnTo>
                  <a:lnTo>
                    <a:pt x="24" y="2491"/>
                  </a:lnTo>
                  <a:lnTo>
                    <a:pt x="0" y="2098"/>
                  </a:lnTo>
                  <a:lnTo>
                    <a:pt x="0" y="1628"/>
                  </a:lnTo>
                  <a:lnTo>
                    <a:pt x="49" y="1258"/>
                  </a:lnTo>
                  <a:lnTo>
                    <a:pt x="122" y="913"/>
                  </a:lnTo>
                  <a:lnTo>
                    <a:pt x="199" y="715"/>
                  </a:lnTo>
                  <a:lnTo>
                    <a:pt x="321" y="517"/>
                  </a:lnTo>
                  <a:lnTo>
                    <a:pt x="496" y="297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925880" y="2508120"/>
              <a:ext cx="426960" cy="1648080"/>
            </a:xfrm>
            <a:custGeom>
              <a:avLst/>
              <a:gdLst/>
              <a:ahLst/>
              <a:rect l="l" t="t" r="r" b="b"/>
              <a:pathLst>
                <a:path w="2427" h="9334">
                  <a:moveTo>
                    <a:pt x="2111" y="195"/>
                  </a:moveTo>
                  <a:lnTo>
                    <a:pt x="2427" y="528"/>
                  </a:lnTo>
                  <a:lnTo>
                    <a:pt x="2363" y="1440"/>
                  </a:lnTo>
                  <a:lnTo>
                    <a:pt x="723" y="8624"/>
                  </a:lnTo>
                  <a:lnTo>
                    <a:pt x="199" y="9334"/>
                  </a:lnTo>
                  <a:lnTo>
                    <a:pt x="0" y="9309"/>
                  </a:lnTo>
                  <a:lnTo>
                    <a:pt x="89" y="8887"/>
                  </a:lnTo>
                  <a:lnTo>
                    <a:pt x="1445" y="3075"/>
                  </a:lnTo>
                  <a:lnTo>
                    <a:pt x="1445" y="3075"/>
                  </a:lnTo>
                  <a:lnTo>
                    <a:pt x="1543" y="2613"/>
                  </a:lnTo>
                  <a:lnTo>
                    <a:pt x="1697" y="2113"/>
                  </a:lnTo>
                  <a:lnTo>
                    <a:pt x="1904" y="1634"/>
                  </a:lnTo>
                  <a:lnTo>
                    <a:pt x="2115" y="1383"/>
                  </a:lnTo>
                  <a:lnTo>
                    <a:pt x="2164" y="1286"/>
                  </a:lnTo>
                  <a:lnTo>
                    <a:pt x="2241" y="962"/>
                  </a:lnTo>
                  <a:lnTo>
                    <a:pt x="2237" y="852"/>
                  </a:lnTo>
                  <a:lnTo>
                    <a:pt x="2196" y="637"/>
                  </a:lnTo>
                  <a:lnTo>
                    <a:pt x="2160" y="532"/>
                  </a:lnTo>
                  <a:lnTo>
                    <a:pt x="2034" y="321"/>
                  </a:lnTo>
                  <a:lnTo>
                    <a:pt x="1888" y="170"/>
                  </a:lnTo>
                  <a:lnTo>
                    <a:pt x="1688" y="0"/>
                  </a:lnTo>
                  <a:lnTo>
                    <a:pt x="2111" y="19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960800" y="2517840"/>
              <a:ext cx="423720" cy="1639800"/>
            </a:xfrm>
            <a:custGeom>
              <a:avLst/>
              <a:gdLst/>
              <a:ahLst/>
              <a:rect l="l" t="t" r="r" b="b"/>
              <a:pathLst>
                <a:path w="2403" h="9296">
                  <a:moveTo>
                    <a:pt x="1936" y="98"/>
                  </a:moveTo>
                  <a:lnTo>
                    <a:pt x="2034" y="170"/>
                  </a:lnTo>
                  <a:lnTo>
                    <a:pt x="2192" y="357"/>
                  </a:lnTo>
                  <a:lnTo>
                    <a:pt x="2310" y="576"/>
                  </a:lnTo>
                  <a:lnTo>
                    <a:pt x="2379" y="815"/>
                  </a:lnTo>
                  <a:lnTo>
                    <a:pt x="2403" y="1062"/>
                  </a:lnTo>
                  <a:lnTo>
                    <a:pt x="2370" y="1306"/>
                  </a:lnTo>
                  <a:lnTo>
                    <a:pt x="2289" y="1541"/>
                  </a:lnTo>
                  <a:lnTo>
                    <a:pt x="2228" y="1651"/>
                  </a:lnTo>
                  <a:lnTo>
                    <a:pt x="918" y="7727"/>
                  </a:lnTo>
                  <a:lnTo>
                    <a:pt x="848" y="7983"/>
                  </a:lnTo>
                  <a:lnTo>
                    <a:pt x="703" y="8351"/>
                  </a:lnTo>
                  <a:lnTo>
                    <a:pt x="613" y="8526"/>
                  </a:lnTo>
                  <a:lnTo>
                    <a:pt x="398" y="8859"/>
                  </a:lnTo>
                  <a:lnTo>
                    <a:pt x="273" y="9013"/>
                  </a:lnTo>
                  <a:lnTo>
                    <a:pt x="0" y="9296"/>
                  </a:lnTo>
                  <a:lnTo>
                    <a:pt x="0" y="9296"/>
                  </a:lnTo>
                  <a:lnTo>
                    <a:pt x="309" y="8047"/>
                  </a:lnTo>
                  <a:lnTo>
                    <a:pt x="601" y="6802"/>
                  </a:lnTo>
                  <a:lnTo>
                    <a:pt x="1157" y="4296"/>
                  </a:lnTo>
                  <a:lnTo>
                    <a:pt x="1412" y="3038"/>
                  </a:lnTo>
                  <a:lnTo>
                    <a:pt x="1441" y="2892"/>
                  </a:lnTo>
                  <a:lnTo>
                    <a:pt x="1465" y="2815"/>
                  </a:lnTo>
                  <a:lnTo>
                    <a:pt x="1567" y="2507"/>
                  </a:lnTo>
                  <a:lnTo>
                    <a:pt x="1810" y="1906"/>
                  </a:lnTo>
                  <a:lnTo>
                    <a:pt x="2098" y="1326"/>
                  </a:lnTo>
                  <a:lnTo>
                    <a:pt x="2131" y="1217"/>
                  </a:lnTo>
                  <a:lnTo>
                    <a:pt x="2164" y="989"/>
                  </a:lnTo>
                  <a:lnTo>
                    <a:pt x="2159" y="876"/>
                  </a:lnTo>
                  <a:lnTo>
                    <a:pt x="2115" y="653"/>
                  </a:lnTo>
                  <a:lnTo>
                    <a:pt x="1961" y="321"/>
                  </a:lnTo>
                  <a:lnTo>
                    <a:pt x="1883" y="223"/>
                  </a:lnTo>
                  <a:lnTo>
                    <a:pt x="1786" y="121"/>
                  </a:lnTo>
                  <a:lnTo>
                    <a:pt x="1661" y="0"/>
                  </a:lnTo>
                  <a:lnTo>
                    <a:pt x="1936" y="98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06720" y="3819600"/>
              <a:ext cx="952560" cy="144360"/>
            </a:xfrm>
            <a:custGeom>
              <a:avLst/>
              <a:gdLst/>
              <a:ahLst/>
              <a:rect l="l" t="t" r="r" b="b"/>
              <a:pathLst>
                <a:path w="5406" h="815">
                  <a:moveTo>
                    <a:pt x="28" y="815"/>
                  </a:moveTo>
                  <a:lnTo>
                    <a:pt x="0" y="693"/>
                  </a:lnTo>
                  <a:lnTo>
                    <a:pt x="28" y="494"/>
                  </a:lnTo>
                  <a:lnTo>
                    <a:pt x="150" y="295"/>
                  </a:lnTo>
                  <a:lnTo>
                    <a:pt x="251" y="149"/>
                  </a:lnTo>
                  <a:lnTo>
                    <a:pt x="446" y="76"/>
                  </a:lnTo>
                  <a:lnTo>
                    <a:pt x="669" y="0"/>
                  </a:lnTo>
                  <a:lnTo>
                    <a:pt x="1091" y="0"/>
                  </a:lnTo>
                  <a:lnTo>
                    <a:pt x="1489" y="51"/>
                  </a:lnTo>
                  <a:lnTo>
                    <a:pt x="1712" y="76"/>
                  </a:lnTo>
                  <a:lnTo>
                    <a:pt x="2008" y="125"/>
                  </a:lnTo>
                  <a:lnTo>
                    <a:pt x="2334" y="174"/>
                  </a:lnTo>
                  <a:lnTo>
                    <a:pt x="2581" y="198"/>
                  </a:lnTo>
                  <a:lnTo>
                    <a:pt x="2804" y="222"/>
                  </a:lnTo>
                  <a:lnTo>
                    <a:pt x="3100" y="271"/>
                  </a:lnTo>
                  <a:lnTo>
                    <a:pt x="3474" y="372"/>
                  </a:lnTo>
                  <a:lnTo>
                    <a:pt x="3722" y="421"/>
                  </a:lnTo>
                  <a:lnTo>
                    <a:pt x="4541" y="566"/>
                  </a:lnTo>
                  <a:lnTo>
                    <a:pt x="4959" y="644"/>
                  </a:lnTo>
                  <a:lnTo>
                    <a:pt x="5211" y="717"/>
                  </a:lnTo>
                  <a:lnTo>
                    <a:pt x="5406" y="8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966840" y="3427560"/>
              <a:ext cx="871560" cy="431640"/>
            </a:xfrm>
            <a:custGeom>
              <a:avLst/>
              <a:gdLst/>
              <a:ahLst/>
              <a:rect l="l" t="t" r="r" b="b"/>
              <a:pathLst>
                <a:path w="4935" h="2446">
                  <a:moveTo>
                    <a:pt x="1810" y="175"/>
                  </a:moveTo>
                  <a:lnTo>
                    <a:pt x="1489" y="102"/>
                  </a:lnTo>
                  <a:lnTo>
                    <a:pt x="1339" y="53"/>
                  </a:lnTo>
                  <a:lnTo>
                    <a:pt x="1189" y="24"/>
                  </a:lnTo>
                  <a:lnTo>
                    <a:pt x="1043" y="0"/>
                  </a:lnTo>
                  <a:lnTo>
                    <a:pt x="869" y="0"/>
                  </a:lnTo>
                  <a:lnTo>
                    <a:pt x="791" y="0"/>
                  </a:lnTo>
                  <a:lnTo>
                    <a:pt x="620" y="0"/>
                  </a:lnTo>
                  <a:lnTo>
                    <a:pt x="495" y="53"/>
                  </a:lnTo>
                  <a:lnTo>
                    <a:pt x="397" y="102"/>
                  </a:lnTo>
                  <a:lnTo>
                    <a:pt x="271" y="175"/>
                  </a:lnTo>
                  <a:lnTo>
                    <a:pt x="150" y="273"/>
                  </a:lnTo>
                  <a:lnTo>
                    <a:pt x="48" y="471"/>
                  </a:lnTo>
                  <a:lnTo>
                    <a:pt x="0" y="839"/>
                  </a:lnTo>
                  <a:lnTo>
                    <a:pt x="0" y="1335"/>
                  </a:lnTo>
                  <a:lnTo>
                    <a:pt x="48" y="1679"/>
                  </a:lnTo>
                  <a:lnTo>
                    <a:pt x="126" y="1781"/>
                  </a:lnTo>
                  <a:lnTo>
                    <a:pt x="271" y="1854"/>
                  </a:lnTo>
                  <a:lnTo>
                    <a:pt x="543" y="1879"/>
                  </a:lnTo>
                  <a:lnTo>
                    <a:pt x="941" y="1879"/>
                  </a:lnTo>
                  <a:lnTo>
                    <a:pt x="1563" y="1879"/>
                  </a:lnTo>
                  <a:lnTo>
                    <a:pt x="1960" y="1879"/>
                  </a:lnTo>
                  <a:lnTo>
                    <a:pt x="2382" y="1879"/>
                  </a:lnTo>
                  <a:lnTo>
                    <a:pt x="2853" y="1927"/>
                  </a:lnTo>
                  <a:lnTo>
                    <a:pt x="3198" y="1975"/>
                  </a:lnTo>
                  <a:lnTo>
                    <a:pt x="3470" y="2077"/>
                  </a:lnTo>
                  <a:lnTo>
                    <a:pt x="3819" y="2175"/>
                  </a:lnTo>
                  <a:lnTo>
                    <a:pt x="4314" y="2224"/>
                  </a:lnTo>
                  <a:lnTo>
                    <a:pt x="4610" y="2300"/>
                  </a:lnTo>
                  <a:lnTo>
                    <a:pt x="4834" y="2398"/>
                  </a:lnTo>
                  <a:lnTo>
                    <a:pt x="4935" y="24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881240" y="2513160"/>
              <a:ext cx="376200" cy="1428480"/>
            </a:xfrm>
            <a:custGeom>
              <a:avLst/>
              <a:gdLst/>
              <a:ahLst/>
              <a:rect l="l" t="t" r="r" b="b"/>
              <a:pathLst>
                <a:path w="2135" h="8101">
                  <a:moveTo>
                    <a:pt x="1189" y="0"/>
                  </a:moveTo>
                  <a:lnTo>
                    <a:pt x="1413" y="0"/>
                  </a:lnTo>
                  <a:lnTo>
                    <a:pt x="1635" y="74"/>
                  </a:lnTo>
                  <a:lnTo>
                    <a:pt x="1810" y="146"/>
                  </a:lnTo>
                  <a:lnTo>
                    <a:pt x="1911" y="248"/>
                  </a:lnTo>
                  <a:lnTo>
                    <a:pt x="2082" y="544"/>
                  </a:lnTo>
                  <a:lnTo>
                    <a:pt x="2135" y="691"/>
                  </a:lnTo>
                  <a:lnTo>
                    <a:pt x="2107" y="913"/>
                  </a:lnTo>
                  <a:lnTo>
                    <a:pt x="2033" y="1087"/>
                  </a:lnTo>
                  <a:lnTo>
                    <a:pt x="1883" y="1234"/>
                  </a:lnTo>
                  <a:lnTo>
                    <a:pt x="1587" y="1704"/>
                  </a:lnTo>
                  <a:lnTo>
                    <a:pt x="1364" y="2074"/>
                  </a:lnTo>
                  <a:lnTo>
                    <a:pt x="1115" y="2642"/>
                  </a:lnTo>
                  <a:lnTo>
                    <a:pt x="966" y="3233"/>
                  </a:lnTo>
                  <a:lnTo>
                    <a:pt x="795" y="3753"/>
                  </a:lnTo>
                  <a:lnTo>
                    <a:pt x="645" y="4321"/>
                  </a:lnTo>
                  <a:lnTo>
                    <a:pt x="446" y="4815"/>
                  </a:lnTo>
                  <a:lnTo>
                    <a:pt x="321" y="5261"/>
                  </a:lnTo>
                  <a:lnTo>
                    <a:pt x="174" y="5752"/>
                  </a:lnTo>
                  <a:lnTo>
                    <a:pt x="48" y="6320"/>
                  </a:lnTo>
                  <a:lnTo>
                    <a:pt x="25" y="6669"/>
                  </a:lnTo>
                  <a:lnTo>
                    <a:pt x="0" y="7261"/>
                  </a:lnTo>
                  <a:lnTo>
                    <a:pt x="25" y="7878"/>
                  </a:lnTo>
                  <a:lnTo>
                    <a:pt x="25" y="8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841640" y="2625840"/>
              <a:ext cx="228600" cy="1176120"/>
            </a:xfrm>
            <a:custGeom>
              <a:avLst/>
              <a:gdLst/>
              <a:ahLst/>
              <a:rect l="l" t="t" r="r" b="b"/>
              <a:pathLst>
                <a:path w="1291" h="6668">
                  <a:moveTo>
                    <a:pt x="1043" y="0"/>
                  </a:moveTo>
                  <a:lnTo>
                    <a:pt x="1092" y="592"/>
                  </a:lnTo>
                  <a:lnTo>
                    <a:pt x="1165" y="912"/>
                  </a:lnTo>
                  <a:lnTo>
                    <a:pt x="1243" y="1135"/>
                  </a:lnTo>
                  <a:lnTo>
                    <a:pt x="1291" y="1432"/>
                  </a:lnTo>
                  <a:lnTo>
                    <a:pt x="1291" y="1703"/>
                  </a:lnTo>
                  <a:lnTo>
                    <a:pt x="1243" y="2076"/>
                  </a:lnTo>
                  <a:lnTo>
                    <a:pt x="1043" y="2519"/>
                  </a:lnTo>
                  <a:lnTo>
                    <a:pt x="869" y="2815"/>
                  </a:lnTo>
                  <a:lnTo>
                    <a:pt x="545" y="3260"/>
                  </a:lnTo>
                  <a:lnTo>
                    <a:pt x="374" y="3605"/>
                  </a:lnTo>
                  <a:lnTo>
                    <a:pt x="200" y="4173"/>
                  </a:lnTo>
                  <a:lnTo>
                    <a:pt x="98" y="4790"/>
                  </a:lnTo>
                  <a:lnTo>
                    <a:pt x="49" y="5309"/>
                  </a:lnTo>
                  <a:lnTo>
                    <a:pt x="0" y="5902"/>
                  </a:lnTo>
                  <a:lnTo>
                    <a:pt x="74" y="6396"/>
                  </a:lnTo>
                  <a:lnTo>
                    <a:pt x="126" y="66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806720" y="2735280"/>
              <a:ext cx="223920" cy="849240"/>
            </a:xfrm>
            <a:custGeom>
              <a:avLst/>
              <a:gdLst/>
              <a:ahLst/>
              <a:rect l="l" t="t" r="r" b="b"/>
              <a:pathLst>
                <a:path w="1266" h="4819">
                  <a:moveTo>
                    <a:pt x="1241" y="0"/>
                  </a:moveTo>
                  <a:lnTo>
                    <a:pt x="1266" y="200"/>
                  </a:lnTo>
                  <a:lnTo>
                    <a:pt x="1266" y="374"/>
                  </a:lnTo>
                  <a:lnTo>
                    <a:pt x="1217" y="568"/>
                  </a:lnTo>
                  <a:lnTo>
                    <a:pt x="1092" y="817"/>
                  </a:lnTo>
                  <a:lnTo>
                    <a:pt x="892" y="1064"/>
                  </a:lnTo>
                  <a:lnTo>
                    <a:pt x="694" y="1336"/>
                  </a:lnTo>
                  <a:lnTo>
                    <a:pt x="572" y="1607"/>
                  </a:lnTo>
                  <a:lnTo>
                    <a:pt x="470" y="1830"/>
                  </a:lnTo>
                  <a:lnTo>
                    <a:pt x="349" y="2151"/>
                  </a:lnTo>
                  <a:lnTo>
                    <a:pt x="223" y="2496"/>
                  </a:lnTo>
                  <a:lnTo>
                    <a:pt x="149" y="2840"/>
                  </a:lnTo>
                  <a:lnTo>
                    <a:pt x="73" y="3238"/>
                  </a:lnTo>
                  <a:lnTo>
                    <a:pt x="49" y="3583"/>
                  </a:lnTo>
                  <a:lnTo>
                    <a:pt x="24" y="3830"/>
                  </a:lnTo>
                  <a:lnTo>
                    <a:pt x="0" y="4126"/>
                  </a:lnTo>
                  <a:lnTo>
                    <a:pt x="24" y="4572"/>
                  </a:lnTo>
                  <a:lnTo>
                    <a:pt x="125" y="48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089240" y="3454560"/>
              <a:ext cx="941400" cy="701640"/>
            </a:xfrm>
            <a:custGeom>
              <a:avLst/>
              <a:gdLst/>
              <a:ahLst/>
              <a:rect l="l" t="t" r="r" b="b"/>
              <a:pathLst>
                <a:path w="5333" h="3976">
                  <a:moveTo>
                    <a:pt x="4663" y="3976"/>
                  </a:moveTo>
                  <a:lnTo>
                    <a:pt x="669" y="3400"/>
                  </a:lnTo>
                  <a:lnTo>
                    <a:pt x="446" y="3359"/>
                  </a:lnTo>
                  <a:lnTo>
                    <a:pt x="175" y="3208"/>
                  </a:lnTo>
                  <a:lnTo>
                    <a:pt x="48" y="3038"/>
                  </a:lnTo>
                  <a:lnTo>
                    <a:pt x="0" y="2864"/>
                  </a:lnTo>
                  <a:lnTo>
                    <a:pt x="0" y="2617"/>
                  </a:lnTo>
                  <a:lnTo>
                    <a:pt x="48" y="2495"/>
                  </a:lnTo>
                  <a:lnTo>
                    <a:pt x="97" y="2321"/>
                  </a:lnTo>
                  <a:lnTo>
                    <a:pt x="669" y="523"/>
                  </a:lnTo>
                  <a:lnTo>
                    <a:pt x="893" y="146"/>
                  </a:lnTo>
                  <a:lnTo>
                    <a:pt x="1067" y="49"/>
                  </a:lnTo>
                  <a:lnTo>
                    <a:pt x="1263" y="0"/>
                  </a:lnTo>
                  <a:lnTo>
                    <a:pt x="1392" y="0"/>
                  </a:lnTo>
                  <a:lnTo>
                    <a:pt x="4537" y="495"/>
                  </a:lnTo>
                  <a:lnTo>
                    <a:pt x="4838" y="593"/>
                  </a:lnTo>
                  <a:lnTo>
                    <a:pt x="5008" y="666"/>
                  </a:lnTo>
                  <a:lnTo>
                    <a:pt x="5159" y="767"/>
                  </a:lnTo>
                  <a:lnTo>
                    <a:pt x="5231" y="864"/>
                  </a:lnTo>
                  <a:lnTo>
                    <a:pt x="5308" y="986"/>
                  </a:lnTo>
                  <a:lnTo>
                    <a:pt x="5333" y="1257"/>
                  </a:lnTo>
                  <a:lnTo>
                    <a:pt x="5308" y="1582"/>
                  </a:lnTo>
                  <a:lnTo>
                    <a:pt x="4870" y="3529"/>
                  </a:lnTo>
                  <a:lnTo>
                    <a:pt x="4342" y="3334"/>
                  </a:lnTo>
                  <a:lnTo>
                    <a:pt x="4785" y="1631"/>
                  </a:lnTo>
                  <a:lnTo>
                    <a:pt x="4810" y="1457"/>
                  </a:lnTo>
                  <a:lnTo>
                    <a:pt x="4785" y="1286"/>
                  </a:lnTo>
                  <a:lnTo>
                    <a:pt x="4663" y="1161"/>
                  </a:lnTo>
                  <a:lnTo>
                    <a:pt x="4542" y="1112"/>
                  </a:lnTo>
                  <a:lnTo>
                    <a:pt x="1436" y="568"/>
                  </a:lnTo>
                  <a:lnTo>
                    <a:pt x="1242" y="617"/>
                  </a:lnTo>
                  <a:lnTo>
                    <a:pt x="1063" y="852"/>
                  </a:lnTo>
                  <a:lnTo>
                    <a:pt x="471" y="2718"/>
                  </a:lnTo>
                  <a:lnTo>
                    <a:pt x="495" y="2864"/>
                  </a:lnTo>
                  <a:lnTo>
                    <a:pt x="669" y="2937"/>
                  </a:lnTo>
                  <a:lnTo>
                    <a:pt x="3892" y="3432"/>
                  </a:lnTo>
                  <a:lnTo>
                    <a:pt x="4663" y="3976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781520" y="4038480"/>
              <a:ext cx="169560" cy="108000"/>
            </a:xfrm>
            <a:custGeom>
              <a:avLst/>
              <a:gdLst/>
              <a:ahLst/>
              <a:rect l="l" t="t" r="r" b="b"/>
              <a:pathLst>
                <a:path w="971" h="617">
                  <a:moveTo>
                    <a:pt x="0" y="122"/>
                  </a:moveTo>
                  <a:lnTo>
                    <a:pt x="224" y="147"/>
                  </a:lnTo>
                  <a:lnTo>
                    <a:pt x="374" y="98"/>
                  </a:lnTo>
                  <a:lnTo>
                    <a:pt x="423" y="0"/>
                  </a:lnTo>
                  <a:lnTo>
                    <a:pt x="971" y="98"/>
                  </a:lnTo>
                  <a:lnTo>
                    <a:pt x="869" y="466"/>
                  </a:lnTo>
                  <a:lnTo>
                    <a:pt x="772" y="568"/>
                  </a:lnTo>
                  <a:lnTo>
                    <a:pt x="698" y="617"/>
                  </a:lnTo>
                  <a:lnTo>
                    <a:pt x="29" y="56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04960" y="3532320"/>
              <a:ext cx="608040" cy="231480"/>
            </a:xfrm>
            <a:custGeom>
              <a:avLst/>
              <a:gdLst/>
              <a:ahLst/>
              <a:rect l="l" t="t" r="r" b="b"/>
              <a:pathLst>
                <a:path w="3446" h="1307">
                  <a:moveTo>
                    <a:pt x="0" y="0"/>
                  </a:moveTo>
                  <a:lnTo>
                    <a:pt x="2878" y="492"/>
                  </a:lnTo>
                  <a:lnTo>
                    <a:pt x="3077" y="641"/>
                  </a:lnTo>
                  <a:lnTo>
                    <a:pt x="3174" y="788"/>
                  </a:lnTo>
                  <a:lnTo>
                    <a:pt x="3223" y="986"/>
                  </a:lnTo>
                  <a:lnTo>
                    <a:pt x="3174" y="1307"/>
                  </a:lnTo>
                  <a:lnTo>
                    <a:pt x="3349" y="1185"/>
                  </a:lnTo>
                  <a:lnTo>
                    <a:pt x="3446" y="937"/>
                  </a:lnTo>
                  <a:lnTo>
                    <a:pt x="3410" y="666"/>
                  </a:lnTo>
                  <a:lnTo>
                    <a:pt x="3248" y="443"/>
                  </a:lnTo>
                  <a:lnTo>
                    <a:pt x="3077" y="321"/>
                  </a:lnTo>
                  <a:lnTo>
                    <a:pt x="2903" y="273"/>
                  </a:lnTo>
                  <a:lnTo>
                    <a:pt x="2209" y="171"/>
                  </a:lnTo>
                  <a:lnTo>
                    <a:pt x="134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160520" y="3933720"/>
              <a:ext cx="95400" cy="85680"/>
            </a:xfrm>
            <a:custGeom>
              <a:avLst/>
              <a:gdLst/>
              <a:ahLst/>
              <a:rect l="l" t="t" r="r" b="b"/>
              <a:pathLst>
                <a:path w="544" h="490">
                  <a:moveTo>
                    <a:pt x="25" y="195"/>
                  </a:moveTo>
                  <a:lnTo>
                    <a:pt x="74" y="0"/>
                  </a:lnTo>
                  <a:lnTo>
                    <a:pt x="78" y="94"/>
                  </a:lnTo>
                  <a:lnTo>
                    <a:pt x="147" y="247"/>
                  </a:lnTo>
                  <a:lnTo>
                    <a:pt x="272" y="369"/>
                  </a:lnTo>
                  <a:lnTo>
                    <a:pt x="544" y="490"/>
                  </a:lnTo>
                  <a:lnTo>
                    <a:pt x="338" y="483"/>
                  </a:lnTo>
                  <a:lnTo>
                    <a:pt x="98" y="442"/>
                  </a:lnTo>
                  <a:lnTo>
                    <a:pt x="25" y="418"/>
                  </a:lnTo>
                  <a:lnTo>
                    <a:pt x="0" y="345"/>
                  </a:lnTo>
                  <a:lnTo>
                    <a:pt x="25" y="195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6991200" y="2624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330960" y="2606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050240" y="286560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5581800" y="286848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7786800" y="3151080"/>
            <a:ext cx="32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578560" y="2984400"/>
            <a:ext cx="3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7786800" y="3179880"/>
            <a:ext cx="144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5578560" y="3005280"/>
            <a:ext cx="3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578560" y="3044880"/>
            <a:ext cx="3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786800" y="3252960"/>
            <a:ext cx="1440" cy="5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786800" y="3328920"/>
            <a:ext cx="14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786800" y="3346560"/>
            <a:ext cx="1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786800" y="3408480"/>
            <a:ext cx="14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120080" y="3382920"/>
            <a:ext cx="9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900760" y="334332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162920" y="35640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7" y="2"/>
                </a:moveTo>
                <a:lnTo>
                  <a:pt x="0" y="2"/>
                </a:lnTo>
                <a:lnTo>
                  <a:pt x="2" y="0"/>
                </a:lnTo>
                <a:lnTo>
                  <a:pt x="7" y="2"/>
                </a:lnTo>
                <a:lnTo>
                  <a:pt x="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773840" y="3792600"/>
            <a:ext cx="1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769160" y="4148280"/>
            <a:ext cx="1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765840" y="4356000"/>
            <a:ext cx="1584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4"/>
                </a:moveTo>
                <a:lnTo>
                  <a:pt x="0" y="4"/>
                </a:lnTo>
                <a:lnTo>
                  <a:pt x="0" y="0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236000" y="4448160"/>
            <a:ext cx="144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3532320" y="2873520"/>
            <a:ext cx="2077920" cy="1873080"/>
            <a:chOff x="3532320" y="2873520"/>
            <a:chExt cx="2077920" cy="1873080"/>
          </a:xfrm>
        </p:grpSpPr>
        <p:sp>
          <p:nvSpPr>
            <p:cNvPr id="2108" name=""/>
            <p:cNvSpPr/>
            <p:nvPr/>
          </p:nvSpPr>
          <p:spPr>
            <a:xfrm>
              <a:off x="3532320" y="2873520"/>
              <a:ext cx="2077920" cy="1873080"/>
            </a:xfrm>
            <a:custGeom>
              <a:avLst/>
              <a:gdLst/>
              <a:ahLst/>
              <a:rect l="l" t="t" r="r" b="b"/>
              <a:pathLst>
                <a:path w="1453" h="1304">
                  <a:moveTo>
                    <a:pt x="981" y="169"/>
                  </a:moveTo>
                  <a:lnTo>
                    <a:pt x="981" y="167"/>
                  </a:lnTo>
                  <a:lnTo>
                    <a:pt x="973" y="169"/>
                  </a:lnTo>
                  <a:lnTo>
                    <a:pt x="967" y="171"/>
                  </a:lnTo>
                  <a:lnTo>
                    <a:pt x="962" y="173"/>
                  </a:lnTo>
                  <a:lnTo>
                    <a:pt x="962" y="173"/>
                  </a:lnTo>
                  <a:lnTo>
                    <a:pt x="962" y="175"/>
                  </a:lnTo>
                  <a:lnTo>
                    <a:pt x="937" y="171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16" y="165"/>
                  </a:lnTo>
                  <a:lnTo>
                    <a:pt x="896" y="159"/>
                  </a:lnTo>
                  <a:lnTo>
                    <a:pt x="879" y="154"/>
                  </a:lnTo>
                  <a:lnTo>
                    <a:pt x="879" y="154"/>
                  </a:lnTo>
                  <a:lnTo>
                    <a:pt x="868" y="148"/>
                  </a:lnTo>
                  <a:lnTo>
                    <a:pt x="862" y="136"/>
                  </a:lnTo>
                  <a:lnTo>
                    <a:pt x="852" y="131"/>
                  </a:lnTo>
                  <a:lnTo>
                    <a:pt x="852" y="131"/>
                  </a:lnTo>
                  <a:lnTo>
                    <a:pt x="829" y="121"/>
                  </a:lnTo>
                  <a:lnTo>
                    <a:pt x="806" y="113"/>
                  </a:lnTo>
                  <a:lnTo>
                    <a:pt x="783" y="106"/>
                  </a:lnTo>
                  <a:lnTo>
                    <a:pt x="758" y="100"/>
                  </a:lnTo>
                  <a:lnTo>
                    <a:pt x="733" y="96"/>
                  </a:lnTo>
                  <a:lnTo>
                    <a:pt x="708" y="92"/>
                  </a:lnTo>
                  <a:lnTo>
                    <a:pt x="683" y="88"/>
                  </a:lnTo>
                  <a:lnTo>
                    <a:pt x="658" y="88"/>
                  </a:lnTo>
                  <a:lnTo>
                    <a:pt x="633" y="88"/>
                  </a:lnTo>
                  <a:lnTo>
                    <a:pt x="608" y="88"/>
                  </a:lnTo>
                  <a:lnTo>
                    <a:pt x="584" y="90"/>
                  </a:lnTo>
                  <a:lnTo>
                    <a:pt x="584" y="90"/>
                  </a:lnTo>
                  <a:lnTo>
                    <a:pt x="562" y="100"/>
                  </a:lnTo>
                  <a:lnTo>
                    <a:pt x="541" y="104"/>
                  </a:lnTo>
                  <a:lnTo>
                    <a:pt x="518" y="104"/>
                  </a:lnTo>
                  <a:lnTo>
                    <a:pt x="518" y="104"/>
                  </a:lnTo>
                  <a:lnTo>
                    <a:pt x="518" y="104"/>
                  </a:lnTo>
                  <a:lnTo>
                    <a:pt x="499" y="108"/>
                  </a:lnTo>
                  <a:lnTo>
                    <a:pt x="499" y="108"/>
                  </a:lnTo>
                  <a:lnTo>
                    <a:pt x="491" y="109"/>
                  </a:lnTo>
                  <a:lnTo>
                    <a:pt x="482" y="109"/>
                  </a:lnTo>
                  <a:lnTo>
                    <a:pt x="474" y="109"/>
                  </a:lnTo>
                  <a:lnTo>
                    <a:pt x="474" y="109"/>
                  </a:lnTo>
                  <a:lnTo>
                    <a:pt x="472" y="111"/>
                  </a:lnTo>
                  <a:lnTo>
                    <a:pt x="499" y="115"/>
                  </a:lnTo>
                  <a:lnTo>
                    <a:pt x="499" y="108"/>
                  </a:lnTo>
                  <a:lnTo>
                    <a:pt x="518" y="104"/>
                  </a:lnTo>
                  <a:lnTo>
                    <a:pt x="516" y="119"/>
                  </a:lnTo>
                  <a:lnTo>
                    <a:pt x="520" y="119"/>
                  </a:lnTo>
                  <a:lnTo>
                    <a:pt x="522" y="121"/>
                  </a:lnTo>
                  <a:lnTo>
                    <a:pt x="524" y="121"/>
                  </a:lnTo>
                  <a:lnTo>
                    <a:pt x="524" y="121"/>
                  </a:lnTo>
                  <a:lnTo>
                    <a:pt x="576" y="129"/>
                  </a:lnTo>
                  <a:lnTo>
                    <a:pt x="628" y="136"/>
                  </a:lnTo>
                  <a:lnTo>
                    <a:pt x="678" y="142"/>
                  </a:lnTo>
                  <a:lnTo>
                    <a:pt x="729" y="150"/>
                  </a:lnTo>
                  <a:lnTo>
                    <a:pt x="781" y="156"/>
                  </a:lnTo>
                  <a:lnTo>
                    <a:pt x="833" y="163"/>
                  </a:lnTo>
                  <a:lnTo>
                    <a:pt x="885" y="169"/>
                  </a:lnTo>
                  <a:lnTo>
                    <a:pt x="937" y="175"/>
                  </a:lnTo>
                  <a:lnTo>
                    <a:pt x="937" y="175"/>
                  </a:lnTo>
                  <a:lnTo>
                    <a:pt x="937" y="173"/>
                  </a:lnTo>
                  <a:lnTo>
                    <a:pt x="937" y="171"/>
                  </a:lnTo>
                  <a:lnTo>
                    <a:pt x="937" y="171"/>
                  </a:lnTo>
                  <a:lnTo>
                    <a:pt x="937" y="171"/>
                  </a:lnTo>
                  <a:lnTo>
                    <a:pt x="962" y="175"/>
                  </a:lnTo>
                  <a:lnTo>
                    <a:pt x="962" y="175"/>
                  </a:lnTo>
                  <a:lnTo>
                    <a:pt x="967" y="177"/>
                  </a:lnTo>
                  <a:lnTo>
                    <a:pt x="973" y="179"/>
                  </a:lnTo>
                  <a:lnTo>
                    <a:pt x="981" y="179"/>
                  </a:lnTo>
                  <a:lnTo>
                    <a:pt x="981" y="179"/>
                  </a:lnTo>
                  <a:lnTo>
                    <a:pt x="981" y="169"/>
                  </a:lnTo>
                  <a:lnTo>
                    <a:pt x="1002" y="156"/>
                  </a:lnTo>
                  <a:lnTo>
                    <a:pt x="1000" y="181"/>
                  </a:lnTo>
                  <a:lnTo>
                    <a:pt x="1083" y="192"/>
                  </a:lnTo>
                  <a:lnTo>
                    <a:pt x="1165" y="202"/>
                  </a:lnTo>
                  <a:lnTo>
                    <a:pt x="1246" y="215"/>
                  </a:lnTo>
                  <a:lnTo>
                    <a:pt x="1246" y="215"/>
                  </a:lnTo>
                  <a:lnTo>
                    <a:pt x="1409" y="242"/>
                  </a:lnTo>
                  <a:lnTo>
                    <a:pt x="1417" y="246"/>
                  </a:lnTo>
                  <a:lnTo>
                    <a:pt x="1426" y="250"/>
                  </a:lnTo>
                  <a:lnTo>
                    <a:pt x="1432" y="255"/>
                  </a:lnTo>
                  <a:lnTo>
                    <a:pt x="1432" y="255"/>
                  </a:lnTo>
                  <a:lnTo>
                    <a:pt x="1440" y="278"/>
                  </a:lnTo>
                  <a:lnTo>
                    <a:pt x="1441" y="378"/>
                  </a:lnTo>
                  <a:lnTo>
                    <a:pt x="1443" y="480"/>
                  </a:lnTo>
                  <a:lnTo>
                    <a:pt x="1445" y="582"/>
                  </a:lnTo>
                  <a:lnTo>
                    <a:pt x="1445" y="582"/>
                  </a:lnTo>
                  <a:lnTo>
                    <a:pt x="1449" y="770"/>
                  </a:lnTo>
                  <a:lnTo>
                    <a:pt x="1449" y="860"/>
                  </a:lnTo>
                  <a:lnTo>
                    <a:pt x="1451" y="1081"/>
                  </a:lnTo>
                  <a:lnTo>
                    <a:pt x="1453" y="1129"/>
                  </a:lnTo>
                  <a:lnTo>
                    <a:pt x="1453" y="1177"/>
                  </a:lnTo>
                  <a:lnTo>
                    <a:pt x="1453" y="1225"/>
                  </a:lnTo>
                  <a:lnTo>
                    <a:pt x="1453" y="1225"/>
                  </a:lnTo>
                  <a:lnTo>
                    <a:pt x="1441" y="1227"/>
                  </a:lnTo>
                  <a:lnTo>
                    <a:pt x="1430" y="1225"/>
                  </a:lnTo>
                  <a:lnTo>
                    <a:pt x="1418" y="1223"/>
                  </a:lnTo>
                  <a:lnTo>
                    <a:pt x="1418" y="1223"/>
                  </a:lnTo>
                  <a:lnTo>
                    <a:pt x="1409" y="1229"/>
                  </a:lnTo>
                  <a:lnTo>
                    <a:pt x="1401" y="1235"/>
                  </a:lnTo>
                  <a:lnTo>
                    <a:pt x="1393" y="1243"/>
                  </a:lnTo>
                  <a:lnTo>
                    <a:pt x="1386" y="1250"/>
                  </a:lnTo>
                  <a:lnTo>
                    <a:pt x="1380" y="1258"/>
                  </a:lnTo>
                  <a:lnTo>
                    <a:pt x="1374" y="1266"/>
                  </a:lnTo>
                  <a:lnTo>
                    <a:pt x="1374" y="1266"/>
                  </a:lnTo>
                  <a:lnTo>
                    <a:pt x="1372" y="1279"/>
                  </a:lnTo>
                  <a:lnTo>
                    <a:pt x="1372" y="1291"/>
                  </a:lnTo>
                  <a:lnTo>
                    <a:pt x="1372" y="1304"/>
                  </a:lnTo>
                  <a:lnTo>
                    <a:pt x="1372" y="1304"/>
                  </a:lnTo>
                  <a:lnTo>
                    <a:pt x="1357" y="1300"/>
                  </a:lnTo>
                  <a:lnTo>
                    <a:pt x="1342" y="1296"/>
                  </a:lnTo>
                  <a:lnTo>
                    <a:pt x="1326" y="1294"/>
                  </a:lnTo>
                  <a:lnTo>
                    <a:pt x="1326" y="1294"/>
                  </a:lnTo>
                  <a:lnTo>
                    <a:pt x="845" y="1200"/>
                  </a:lnTo>
                  <a:lnTo>
                    <a:pt x="739" y="1181"/>
                  </a:lnTo>
                  <a:lnTo>
                    <a:pt x="250" y="1085"/>
                  </a:lnTo>
                  <a:lnTo>
                    <a:pt x="2" y="1037"/>
                  </a:lnTo>
                  <a:lnTo>
                    <a:pt x="2" y="1006"/>
                  </a:lnTo>
                  <a:lnTo>
                    <a:pt x="2" y="484"/>
                  </a:lnTo>
                  <a:lnTo>
                    <a:pt x="2" y="378"/>
                  </a:lnTo>
                  <a:lnTo>
                    <a:pt x="0" y="273"/>
                  </a:lnTo>
                  <a:lnTo>
                    <a:pt x="2" y="165"/>
                  </a:lnTo>
                  <a:lnTo>
                    <a:pt x="2" y="165"/>
                  </a:lnTo>
                  <a:lnTo>
                    <a:pt x="4" y="146"/>
                  </a:lnTo>
                  <a:lnTo>
                    <a:pt x="8" y="127"/>
                  </a:lnTo>
                  <a:lnTo>
                    <a:pt x="19" y="109"/>
                  </a:lnTo>
                  <a:lnTo>
                    <a:pt x="19" y="109"/>
                  </a:lnTo>
                  <a:lnTo>
                    <a:pt x="36" y="98"/>
                  </a:lnTo>
                  <a:lnTo>
                    <a:pt x="56" y="90"/>
                  </a:lnTo>
                  <a:lnTo>
                    <a:pt x="75" y="83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9" y="73"/>
                  </a:lnTo>
                  <a:lnTo>
                    <a:pt x="144" y="75"/>
                  </a:lnTo>
                  <a:lnTo>
                    <a:pt x="169" y="79"/>
                  </a:lnTo>
                  <a:lnTo>
                    <a:pt x="194" y="81"/>
                  </a:lnTo>
                  <a:lnTo>
                    <a:pt x="194" y="81"/>
                  </a:lnTo>
                  <a:lnTo>
                    <a:pt x="280" y="90"/>
                  </a:lnTo>
                  <a:lnTo>
                    <a:pt x="365" y="100"/>
                  </a:lnTo>
                  <a:lnTo>
                    <a:pt x="451" y="109"/>
                  </a:lnTo>
                  <a:lnTo>
                    <a:pt x="451" y="109"/>
                  </a:lnTo>
                  <a:lnTo>
                    <a:pt x="451" y="102"/>
                  </a:lnTo>
                  <a:lnTo>
                    <a:pt x="447" y="94"/>
                  </a:lnTo>
                  <a:lnTo>
                    <a:pt x="443" y="86"/>
                  </a:lnTo>
                  <a:lnTo>
                    <a:pt x="443" y="86"/>
                  </a:lnTo>
                  <a:lnTo>
                    <a:pt x="441" y="79"/>
                  </a:lnTo>
                  <a:lnTo>
                    <a:pt x="441" y="69"/>
                  </a:lnTo>
                  <a:lnTo>
                    <a:pt x="441" y="60"/>
                  </a:lnTo>
                  <a:lnTo>
                    <a:pt x="441" y="60"/>
                  </a:lnTo>
                  <a:lnTo>
                    <a:pt x="449" y="52"/>
                  </a:lnTo>
                  <a:lnTo>
                    <a:pt x="455" y="42"/>
                  </a:lnTo>
                  <a:lnTo>
                    <a:pt x="463" y="35"/>
                  </a:lnTo>
                  <a:lnTo>
                    <a:pt x="470" y="27"/>
                  </a:lnTo>
                  <a:lnTo>
                    <a:pt x="478" y="21"/>
                  </a:lnTo>
                  <a:lnTo>
                    <a:pt x="488" y="17"/>
                  </a:lnTo>
                  <a:lnTo>
                    <a:pt x="497" y="13"/>
                  </a:lnTo>
                  <a:lnTo>
                    <a:pt x="497" y="13"/>
                  </a:lnTo>
                  <a:lnTo>
                    <a:pt x="511" y="13"/>
                  </a:lnTo>
                  <a:lnTo>
                    <a:pt x="524" y="12"/>
                  </a:lnTo>
                  <a:lnTo>
                    <a:pt x="537" y="6"/>
                  </a:lnTo>
                  <a:lnTo>
                    <a:pt x="537" y="6"/>
                  </a:lnTo>
                  <a:lnTo>
                    <a:pt x="557" y="4"/>
                  </a:lnTo>
                  <a:lnTo>
                    <a:pt x="576" y="2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597" y="2"/>
                  </a:lnTo>
                  <a:lnTo>
                    <a:pt x="601" y="4"/>
                  </a:lnTo>
                  <a:lnTo>
                    <a:pt x="603" y="6"/>
                  </a:lnTo>
                  <a:lnTo>
                    <a:pt x="603" y="6"/>
                  </a:lnTo>
                  <a:lnTo>
                    <a:pt x="681" y="6"/>
                  </a:lnTo>
                  <a:lnTo>
                    <a:pt x="760" y="13"/>
                  </a:lnTo>
                  <a:lnTo>
                    <a:pt x="835" y="33"/>
                  </a:lnTo>
                  <a:lnTo>
                    <a:pt x="835" y="33"/>
                  </a:lnTo>
                  <a:lnTo>
                    <a:pt x="841" y="33"/>
                  </a:lnTo>
                  <a:lnTo>
                    <a:pt x="866" y="42"/>
                  </a:lnTo>
                  <a:lnTo>
                    <a:pt x="893" y="50"/>
                  </a:lnTo>
                  <a:lnTo>
                    <a:pt x="917" y="58"/>
                  </a:lnTo>
                  <a:lnTo>
                    <a:pt x="917" y="58"/>
                  </a:lnTo>
                  <a:lnTo>
                    <a:pt x="933" y="58"/>
                  </a:lnTo>
                  <a:lnTo>
                    <a:pt x="946" y="61"/>
                  </a:lnTo>
                  <a:lnTo>
                    <a:pt x="962" y="67"/>
                  </a:lnTo>
                  <a:lnTo>
                    <a:pt x="975" y="75"/>
                  </a:lnTo>
                  <a:lnTo>
                    <a:pt x="975" y="75"/>
                  </a:lnTo>
                  <a:lnTo>
                    <a:pt x="979" y="77"/>
                  </a:lnTo>
                  <a:lnTo>
                    <a:pt x="981" y="81"/>
                  </a:lnTo>
                  <a:lnTo>
                    <a:pt x="983" y="86"/>
                  </a:lnTo>
                  <a:lnTo>
                    <a:pt x="983" y="86"/>
                  </a:lnTo>
                  <a:lnTo>
                    <a:pt x="992" y="92"/>
                  </a:lnTo>
                  <a:lnTo>
                    <a:pt x="1002" y="102"/>
                  </a:lnTo>
                  <a:lnTo>
                    <a:pt x="1008" y="111"/>
                  </a:lnTo>
                  <a:lnTo>
                    <a:pt x="1010" y="123"/>
                  </a:lnTo>
                  <a:lnTo>
                    <a:pt x="1010" y="123"/>
                  </a:lnTo>
                  <a:lnTo>
                    <a:pt x="1008" y="134"/>
                  </a:lnTo>
                  <a:lnTo>
                    <a:pt x="1006" y="144"/>
                  </a:lnTo>
                  <a:lnTo>
                    <a:pt x="1002" y="154"/>
                  </a:lnTo>
                  <a:lnTo>
                    <a:pt x="1002" y="154"/>
                  </a:lnTo>
                  <a:lnTo>
                    <a:pt x="1002" y="156"/>
                  </a:lnTo>
                  <a:lnTo>
                    <a:pt x="981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332960" y="2887560"/>
              <a:ext cx="450360" cy="99000"/>
            </a:xfrm>
            <a:custGeom>
              <a:avLst/>
              <a:gdLst/>
              <a:ahLst/>
              <a:rect l="l" t="t" r="r" b="b"/>
              <a:pathLst>
                <a:path w="315" h="69">
                  <a:moveTo>
                    <a:pt x="112" y="3"/>
                  </a:moveTo>
                  <a:lnTo>
                    <a:pt x="108" y="3"/>
                  </a:lnTo>
                  <a:lnTo>
                    <a:pt x="104" y="3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54" y="15"/>
                  </a:lnTo>
                  <a:lnTo>
                    <a:pt x="204" y="26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67" y="48"/>
                  </a:lnTo>
                  <a:lnTo>
                    <a:pt x="283" y="55"/>
                  </a:lnTo>
                  <a:lnTo>
                    <a:pt x="298" y="61"/>
                  </a:lnTo>
                  <a:lnTo>
                    <a:pt x="315" y="67"/>
                  </a:lnTo>
                  <a:lnTo>
                    <a:pt x="315" y="67"/>
                  </a:lnTo>
                  <a:lnTo>
                    <a:pt x="313" y="69"/>
                  </a:lnTo>
                  <a:lnTo>
                    <a:pt x="292" y="63"/>
                  </a:lnTo>
                  <a:lnTo>
                    <a:pt x="271" y="55"/>
                  </a:lnTo>
                  <a:lnTo>
                    <a:pt x="250" y="50"/>
                  </a:lnTo>
                  <a:lnTo>
                    <a:pt x="227" y="42"/>
                  </a:lnTo>
                  <a:lnTo>
                    <a:pt x="206" y="36"/>
                  </a:lnTo>
                  <a:lnTo>
                    <a:pt x="183" y="32"/>
                  </a:lnTo>
                  <a:lnTo>
                    <a:pt x="160" y="28"/>
                  </a:lnTo>
                  <a:lnTo>
                    <a:pt x="135" y="26"/>
                  </a:lnTo>
                  <a:lnTo>
                    <a:pt x="135" y="26"/>
                  </a:lnTo>
                  <a:lnTo>
                    <a:pt x="91" y="25"/>
                  </a:lnTo>
                  <a:lnTo>
                    <a:pt x="45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29" y="5"/>
                  </a:lnTo>
                  <a:lnTo>
                    <a:pt x="52" y="3"/>
                  </a:lnTo>
                  <a:lnTo>
                    <a:pt x="75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325760" y="2881800"/>
              <a:ext cx="48600" cy="1584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5" y="2"/>
                  </a:lnTo>
                  <a:lnTo>
                    <a:pt x="15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300200" y="2887560"/>
              <a:ext cx="2268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284360" y="28947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71320" y="2894760"/>
              <a:ext cx="101160" cy="11340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71" y="0"/>
                  </a:moveTo>
                  <a:lnTo>
                    <a:pt x="60" y="8"/>
                  </a:lnTo>
                  <a:lnTo>
                    <a:pt x="46" y="1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1" y="23"/>
                  </a:lnTo>
                  <a:lnTo>
                    <a:pt x="27" y="25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39" y="33"/>
                  </a:lnTo>
                  <a:lnTo>
                    <a:pt x="21" y="43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79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25" y="18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58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264200" y="2909160"/>
              <a:ext cx="1152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410000" y="2930760"/>
              <a:ext cx="348840" cy="61560"/>
            </a:xfrm>
            <a:custGeom>
              <a:avLst/>
              <a:gdLst/>
              <a:ahLst/>
              <a:rect l="l" t="t" r="r" b="b"/>
              <a:pathLst>
                <a:path w="244" h="43">
                  <a:moveTo>
                    <a:pt x="244" y="41"/>
                  </a:moveTo>
                  <a:lnTo>
                    <a:pt x="242" y="43"/>
                  </a:lnTo>
                  <a:lnTo>
                    <a:pt x="236" y="43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21" y="37"/>
                  </a:lnTo>
                  <a:lnTo>
                    <a:pt x="208" y="33"/>
                  </a:lnTo>
                  <a:lnTo>
                    <a:pt x="196" y="31"/>
                  </a:lnTo>
                  <a:lnTo>
                    <a:pt x="196" y="31"/>
                  </a:lnTo>
                  <a:lnTo>
                    <a:pt x="163" y="20"/>
                  </a:lnTo>
                  <a:lnTo>
                    <a:pt x="127" y="14"/>
                  </a:lnTo>
                  <a:lnTo>
                    <a:pt x="9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37" y="0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0"/>
                  </a:lnTo>
                  <a:lnTo>
                    <a:pt x="100" y="2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81" y="20"/>
                  </a:lnTo>
                  <a:lnTo>
                    <a:pt x="211" y="29"/>
                  </a:lnTo>
                  <a:lnTo>
                    <a:pt x="244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854960" y="2963880"/>
              <a:ext cx="32400" cy="828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4"/>
                  </a:move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54480" y="2921040"/>
              <a:ext cx="68400" cy="900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44" y="0"/>
                  </a:move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8" y="2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6" y="17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8" y="13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34" y="32"/>
                  </a:lnTo>
                  <a:lnTo>
                    <a:pt x="29" y="28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9" y="44"/>
                  </a:lnTo>
                  <a:lnTo>
                    <a:pt x="15" y="5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5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5"/>
                  </a:lnTo>
                  <a:lnTo>
                    <a:pt x="11" y="52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839120" y="2966760"/>
              <a:ext cx="396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902120" y="2975400"/>
              <a:ext cx="288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331520" y="2933640"/>
              <a:ext cx="21240" cy="576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2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331520" y="2950920"/>
              <a:ext cx="412920" cy="54720"/>
            </a:xfrm>
            <a:custGeom>
              <a:avLst/>
              <a:gdLst/>
              <a:ahLst/>
              <a:rect l="l" t="t" r="r" b="b"/>
              <a:pathLst>
                <a:path w="289" h="38">
                  <a:moveTo>
                    <a:pt x="207" y="13"/>
                  </a:moveTo>
                  <a:lnTo>
                    <a:pt x="234" y="21"/>
                  </a:lnTo>
                  <a:lnTo>
                    <a:pt x="263" y="29"/>
                  </a:lnTo>
                  <a:lnTo>
                    <a:pt x="289" y="38"/>
                  </a:lnTo>
                  <a:lnTo>
                    <a:pt x="289" y="38"/>
                  </a:lnTo>
                  <a:lnTo>
                    <a:pt x="255" y="29"/>
                  </a:lnTo>
                  <a:lnTo>
                    <a:pt x="222" y="21"/>
                  </a:lnTo>
                  <a:lnTo>
                    <a:pt x="190" y="13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03" y="6"/>
                  </a:lnTo>
                  <a:lnTo>
                    <a:pt x="49" y="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51" y="4"/>
                  </a:lnTo>
                  <a:lnTo>
                    <a:pt x="180" y="7"/>
                  </a:lnTo>
                  <a:lnTo>
                    <a:pt x="20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777920" y="2978280"/>
              <a:ext cx="94320" cy="1202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52" y="8"/>
                  </a:moveTo>
                  <a:lnTo>
                    <a:pt x="52" y="12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8" y="12"/>
                  </a:lnTo>
                  <a:lnTo>
                    <a:pt x="52" y="19"/>
                  </a:lnTo>
                  <a:lnTo>
                    <a:pt x="50" y="27"/>
                  </a:lnTo>
                  <a:lnTo>
                    <a:pt x="48" y="35"/>
                  </a:lnTo>
                  <a:lnTo>
                    <a:pt x="48" y="44"/>
                  </a:lnTo>
                  <a:lnTo>
                    <a:pt x="48" y="5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8" y="84"/>
                  </a:lnTo>
                  <a:lnTo>
                    <a:pt x="48" y="81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37" y="65"/>
                  </a:lnTo>
                  <a:lnTo>
                    <a:pt x="33" y="5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0" y="38"/>
                  </a:lnTo>
                  <a:lnTo>
                    <a:pt x="14" y="33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45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860720" y="2992680"/>
              <a:ext cx="107280" cy="1047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3" y="28"/>
                  </a:moveTo>
                  <a:lnTo>
                    <a:pt x="73" y="32"/>
                  </a:lnTo>
                  <a:lnTo>
                    <a:pt x="73" y="36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65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6" y="38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8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2" y="65"/>
                  </a:lnTo>
                  <a:lnTo>
                    <a:pt x="38" y="69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40" y="5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1" y="36"/>
                  </a:lnTo>
                  <a:lnTo>
                    <a:pt x="21" y="2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3" y="19"/>
                  </a:lnTo>
                  <a:lnTo>
                    <a:pt x="27" y="2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60" y="32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3" y="26"/>
                  </a:lnTo>
                  <a:lnTo>
                    <a:pt x="38" y="28"/>
                  </a:lnTo>
                  <a:lnTo>
                    <a:pt x="10" y="7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4" y="9"/>
                  </a:lnTo>
                  <a:lnTo>
                    <a:pt x="65" y="17"/>
                  </a:lnTo>
                  <a:lnTo>
                    <a:pt x="7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14240" y="295380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843440" y="299988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335840" y="2975400"/>
              <a:ext cx="432000" cy="7740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142" y="6"/>
                  </a:moveTo>
                  <a:lnTo>
                    <a:pt x="173" y="10"/>
                  </a:lnTo>
                  <a:lnTo>
                    <a:pt x="204" y="15"/>
                  </a:lnTo>
                  <a:lnTo>
                    <a:pt x="233" y="25"/>
                  </a:lnTo>
                  <a:lnTo>
                    <a:pt x="233" y="25"/>
                  </a:lnTo>
                  <a:lnTo>
                    <a:pt x="256" y="31"/>
                  </a:lnTo>
                  <a:lnTo>
                    <a:pt x="279" y="38"/>
                  </a:lnTo>
                  <a:lnTo>
                    <a:pt x="300" y="46"/>
                  </a:lnTo>
                  <a:lnTo>
                    <a:pt x="300" y="46"/>
                  </a:lnTo>
                  <a:lnTo>
                    <a:pt x="300" y="48"/>
                  </a:lnTo>
                  <a:lnTo>
                    <a:pt x="300" y="52"/>
                  </a:lnTo>
                  <a:lnTo>
                    <a:pt x="302" y="54"/>
                  </a:lnTo>
                  <a:lnTo>
                    <a:pt x="302" y="54"/>
                  </a:lnTo>
                  <a:lnTo>
                    <a:pt x="281" y="46"/>
                  </a:lnTo>
                  <a:lnTo>
                    <a:pt x="258" y="38"/>
                  </a:lnTo>
                  <a:lnTo>
                    <a:pt x="235" y="31"/>
                  </a:lnTo>
                  <a:lnTo>
                    <a:pt x="212" y="25"/>
                  </a:lnTo>
                  <a:lnTo>
                    <a:pt x="188" y="19"/>
                  </a:lnTo>
                  <a:lnTo>
                    <a:pt x="164" y="15"/>
                  </a:lnTo>
                  <a:lnTo>
                    <a:pt x="141" y="14"/>
                  </a:lnTo>
                  <a:lnTo>
                    <a:pt x="116" y="12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89" y="6"/>
                  </a:lnTo>
                  <a:lnTo>
                    <a:pt x="60" y="6"/>
                  </a:lnTo>
                  <a:lnTo>
                    <a:pt x="33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33" y="4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6" y="2"/>
                  </a:lnTo>
                  <a:lnTo>
                    <a:pt x="129" y="4"/>
                  </a:lnTo>
                  <a:lnTo>
                    <a:pt x="14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231440" y="2959560"/>
              <a:ext cx="14040" cy="126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750560" y="30085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839120" y="3020040"/>
              <a:ext cx="3960" cy="12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182840" y="2969280"/>
              <a:ext cx="32760" cy="1162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9" y="29"/>
                  </a:moveTo>
                  <a:lnTo>
                    <a:pt x="4" y="75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1" y="18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60720" y="3028320"/>
              <a:ext cx="32760" cy="24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1" y="17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5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39120" y="3041280"/>
              <a:ext cx="396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212720" y="3002760"/>
              <a:ext cx="43920" cy="201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31" y="6"/>
                  </a:moveTo>
                  <a:lnTo>
                    <a:pt x="29" y="10"/>
                  </a:lnTo>
                  <a:lnTo>
                    <a:pt x="23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881960" y="3058560"/>
              <a:ext cx="25920" cy="13752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18" y="4"/>
                  </a:moveTo>
                  <a:lnTo>
                    <a:pt x="12" y="21"/>
                  </a:lnTo>
                  <a:lnTo>
                    <a:pt x="10" y="38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69"/>
                  </a:lnTo>
                  <a:lnTo>
                    <a:pt x="8" y="80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2" y="94"/>
                  </a:lnTo>
                  <a:lnTo>
                    <a:pt x="10" y="94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4" y="92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39120" y="3065760"/>
              <a:ext cx="3960" cy="201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857480" y="3065760"/>
              <a:ext cx="16920" cy="356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14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251600" y="3030120"/>
              <a:ext cx="11160" cy="25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672360" y="298404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8" y="0"/>
                  </a:lnTo>
                  <a:lnTo>
                    <a:pt x="9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53720" y="2992680"/>
              <a:ext cx="104400" cy="100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7"/>
                  </a:moveTo>
                  <a:lnTo>
                    <a:pt x="48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"/>
                  </a:lnTo>
                  <a:lnTo>
                    <a:pt x="48" y="3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122720" y="3032640"/>
              <a:ext cx="54000" cy="864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6"/>
                  </a:moveTo>
                  <a:lnTo>
                    <a:pt x="27" y="6"/>
                  </a:lnTo>
                  <a:lnTo>
                    <a:pt x="1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206960" y="3044520"/>
              <a:ext cx="35640" cy="540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25" y="4"/>
                  </a:moveTo>
                  <a:lnTo>
                    <a:pt x="2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943520" y="3107520"/>
              <a:ext cx="9720" cy="4140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7" y="29"/>
                  </a:moveTo>
                  <a:lnTo>
                    <a:pt x="2" y="29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269960" y="3055680"/>
              <a:ext cx="164160" cy="2412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115" y="17"/>
                  </a:moveTo>
                  <a:lnTo>
                    <a:pt x="79" y="13"/>
                  </a:lnTo>
                  <a:lnTo>
                    <a:pt x="41" y="9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833720" y="3643560"/>
              <a:ext cx="244440" cy="3852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71" y="0"/>
                  </a:moveTo>
                  <a:lnTo>
                    <a:pt x="167" y="9"/>
                  </a:lnTo>
                  <a:lnTo>
                    <a:pt x="163" y="17"/>
                  </a:lnTo>
                  <a:lnTo>
                    <a:pt x="159" y="27"/>
                  </a:lnTo>
                  <a:lnTo>
                    <a:pt x="159" y="27"/>
                  </a:lnTo>
                  <a:lnTo>
                    <a:pt x="159" y="27"/>
                  </a:lnTo>
                  <a:lnTo>
                    <a:pt x="150" y="27"/>
                  </a:lnTo>
                  <a:lnTo>
                    <a:pt x="150" y="25"/>
                  </a:lnTo>
                  <a:lnTo>
                    <a:pt x="151" y="25"/>
                  </a:lnTo>
                  <a:lnTo>
                    <a:pt x="151" y="25"/>
                  </a:lnTo>
                  <a:lnTo>
                    <a:pt x="153" y="23"/>
                  </a:lnTo>
                  <a:lnTo>
                    <a:pt x="153" y="23"/>
                  </a:lnTo>
                  <a:lnTo>
                    <a:pt x="151" y="21"/>
                  </a:lnTo>
                  <a:lnTo>
                    <a:pt x="148" y="21"/>
                  </a:lnTo>
                  <a:lnTo>
                    <a:pt x="146" y="19"/>
                  </a:lnTo>
                  <a:lnTo>
                    <a:pt x="146" y="19"/>
                  </a:lnTo>
                  <a:lnTo>
                    <a:pt x="144" y="23"/>
                  </a:lnTo>
                  <a:lnTo>
                    <a:pt x="142" y="25"/>
                  </a:lnTo>
                  <a:lnTo>
                    <a:pt x="138" y="23"/>
                  </a:lnTo>
                  <a:lnTo>
                    <a:pt x="138" y="23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2" y="19"/>
                  </a:lnTo>
                  <a:lnTo>
                    <a:pt x="128" y="19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88" y="15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0" y="11"/>
                  </a:lnTo>
                  <a:lnTo>
                    <a:pt x="88" y="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79" y="13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0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069520" y="3643560"/>
              <a:ext cx="38520" cy="4104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7" y="0"/>
                  </a:moveTo>
                  <a:lnTo>
                    <a:pt x="19" y="7"/>
                  </a:lnTo>
                  <a:lnTo>
                    <a:pt x="13" y="1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8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39800" y="3643560"/>
              <a:ext cx="238680" cy="239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67" y="0"/>
                  </a:moveTo>
                  <a:lnTo>
                    <a:pt x="163" y="32"/>
                  </a:lnTo>
                  <a:lnTo>
                    <a:pt x="155" y="65"/>
                  </a:lnTo>
                  <a:lnTo>
                    <a:pt x="148" y="98"/>
                  </a:lnTo>
                  <a:lnTo>
                    <a:pt x="148" y="98"/>
                  </a:lnTo>
                  <a:lnTo>
                    <a:pt x="142" y="105"/>
                  </a:lnTo>
                  <a:lnTo>
                    <a:pt x="138" y="113"/>
                  </a:lnTo>
                  <a:lnTo>
                    <a:pt x="132" y="119"/>
                  </a:lnTo>
                  <a:lnTo>
                    <a:pt x="127" y="125"/>
                  </a:lnTo>
                  <a:lnTo>
                    <a:pt x="121" y="130"/>
                  </a:lnTo>
                  <a:lnTo>
                    <a:pt x="113" y="136"/>
                  </a:lnTo>
                  <a:lnTo>
                    <a:pt x="107" y="142"/>
                  </a:lnTo>
                  <a:lnTo>
                    <a:pt x="100" y="148"/>
                  </a:lnTo>
                  <a:lnTo>
                    <a:pt x="92" y="152"/>
                  </a:lnTo>
                  <a:lnTo>
                    <a:pt x="84" y="155"/>
                  </a:lnTo>
                  <a:lnTo>
                    <a:pt x="77" y="159"/>
                  </a:lnTo>
                  <a:lnTo>
                    <a:pt x="67" y="161"/>
                  </a:lnTo>
                  <a:lnTo>
                    <a:pt x="59" y="163"/>
                  </a:lnTo>
                  <a:lnTo>
                    <a:pt x="52" y="165"/>
                  </a:lnTo>
                  <a:lnTo>
                    <a:pt x="42" y="167"/>
                  </a:lnTo>
                  <a:lnTo>
                    <a:pt x="34" y="167"/>
                  </a:lnTo>
                  <a:lnTo>
                    <a:pt x="27" y="167"/>
                  </a:lnTo>
                  <a:lnTo>
                    <a:pt x="27" y="167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2" y="163"/>
                  </a:lnTo>
                  <a:lnTo>
                    <a:pt x="4" y="163"/>
                  </a:lnTo>
                  <a:lnTo>
                    <a:pt x="4" y="163"/>
                  </a:lnTo>
                  <a:lnTo>
                    <a:pt x="0" y="159"/>
                  </a:lnTo>
                  <a:lnTo>
                    <a:pt x="2" y="159"/>
                  </a:lnTo>
                  <a:lnTo>
                    <a:pt x="4" y="157"/>
                  </a:lnTo>
                  <a:lnTo>
                    <a:pt x="6" y="159"/>
                  </a:lnTo>
                  <a:lnTo>
                    <a:pt x="6" y="159"/>
                  </a:lnTo>
                  <a:lnTo>
                    <a:pt x="8" y="161"/>
                  </a:lnTo>
                  <a:lnTo>
                    <a:pt x="9" y="163"/>
                  </a:lnTo>
                  <a:lnTo>
                    <a:pt x="11" y="163"/>
                  </a:lnTo>
                  <a:lnTo>
                    <a:pt x="11" y="163"/>
                  </a:lnTo>
                  <a:lnTo>
                    <a:pt x="19" y="159"/>
                  </a:lnTo>
                  <a:lnTo>
                    <a:pt x="27" y="159"/>
                  </a:lnTo>
                  <a:lnTo>
                    <a:pt x="36" y="161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44" y="157"/>
                  </a:lnTo>
                  <a:lnTo>
                    <a:pt x="44" y="157"/>
                  </a:lnTo>
                  <a:lnTo>
                    <a:pt x="46" y="157"/>
                  </a:lnTo>
                  <a:lnTo>
                    <a:pt x="46" y="157"/>
                  </a:lnTo>
                  <a:lnTo>
                    <a:pt x="46" y="159"/>
                  </a:lnTo>
                  <a:lnTo>
                    <a:pt x="50" y="159"/>
                  </a:lnTo>
                  <a:lnTo>
                    <a:pt x="52" y="159"/>
                  </a:lnTo>
                  <a:lnTo>
                    <a:pt x="52" y="159"/>
                  </a:lnTo>
                  <a:lnTo>
                    <a:pt x="54" y="157"/>
                  </a:lnTo>
                  <a:lnTo>
                    <a:pt x="54" y="155"/>
                  </a:lnTo>
                  <a:lnTo>
                    <a:pt x="54" y="153"/>
                  </a:lnTo>
                  <a:lnTo>
                    <a:pt x="54" y="153"/>
                  </a:lnTo>
                  <a:lnTo>
                    <a:pt x="77" y="144"/>
                  </a:lnTo>
                  <a:lnTo>
                    <a:pt x="100" y="132"/>
                  </a:lnTo>
                  <a:lnTo>
                    <a:pt x="121" y="115"/>
                  </a:lnTo>
                  <a:lnTo>
                    <a:pt x="121" y="115"/>
                  </a:lnTo>
                  <a:lnTo>
                    <a:pt x="123" y="117"/>
                  </a:lnTo>
                  <a:lnTo>
                    <a:pt x="127" y="115"/>
                  </a:lnTo>
                  <a:lnTo>
                    <a:pt x="128" y="113"/>
                  </a:lnTo>
                  <a:lnTo>
                    <a:pt x="128" y="113"/>
                  </a:lnTo>
                  <a:lnTo>
                    <a:pt x="128" y="107"/>
                  </a:lnTo>
                  <a:lnTo>
                    <a:pt x="134" y="104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38" y="92"/>
                  </a:lnTo>
                  <a:lnTo>
                    <a:pt x="142" y="86"/>
                  </a:lnTo>
                  <a:lnTo>
                    <a:pt x="144" y="79"/>
                  </a:lnTo>
                  <a:lnTo>
                    <a:pt x="144" y="79"/>
                  </a:lnTo>
                  <a:lnTo>
                    <a:pt x="150" y="67"/>
                  </a:lnTo>
                  <a:lnTo>
                    <a:pt x="152" y="54"/>
                  </a:lnTo>
                  <a:lnTo>
                    <a:pt x="155" y="40"/>
                  </a:lnTo>
                  <a:lnTo>
                    <a:pt x="155" y="40"/>
                  </a:lnTo>
                  <a:lnTo>
                    <a:pt x="157" y="38"/>
                  </a:lnTo>
                  <a:lnTo>
                    <a:pt x="157" y="32"/>
                  </a:lnTo>
                  <a:lnTo>
                    <a:pt x="159" y="29"/>
                  </a:lnTo>
                  <a:lnTo>
                    <a:pt x="159" y="29"/>
                  </a:lnTo>
                  <a:lnTo>
                    <a:pt x="159" y="19"/>
                  </a:lnTo>
                  <a:lnTo>
                    <a:pt x="161" y="9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0000" y="3643560"/>
              <a:ext cx="18720" cy="636120"/>
            </a:xfrm>
            <a:custGeom>
              <a:avLst/>
              <a:gdLst/>
              <a:ahLst/>
              <a:rect l="l" t="t" r="r" b="b"/>
              <a:pathLst>
                <a:path w="13" h="443">
                  <a:moveTo>
                    <a:pt x="8" y="0"/>
                  </a:moveTo>
                  <a:lnTo>
                    <a:pt x="9" y="54"/>
                  </a:lnTo>
                  <a:lnTo>
                    <a:pt x="9" y="109"/>
                  </a:lnTo>
                  <a:lnTo>
                    <a:pt x="9" y="163"/>
                  </a:lnTo>
                  <a:lnTo>
                    <a:pt x="9" y="163"/>
                  </a:lnTo>
                  <a:lnTo>
                    <a:pt x="11" y="309"/>
                  </a:lnTo>
                  <a:lnTo>
                    <a:pt x="13" y="353"/>
                  </a:lnTo>
                  <a:lnTo>
                    <a:pt x="13" y="399"/>
                  </a:lnTo>
                  <a:lnTo>
                    <a:pt x="13" y="443"/>
                  </a:lnTo>
                  <a:lnTo>
                    <a:pt x="13" y="443"/>
                  </a:lnTo>
                  <a:lnTo>
                    <a:pt x="9" y="443"/>
                  </a:lnTo>
                  <a:lnTo>
                    <a:pt x="9" y="413"/>
                  </a:lnTo>
                  <a:lnTo>
                    <a:pt x="8" y="382"/>
                  </a:lnTo>
                  <a:lnTo>
                    <a:pt x="4" y="353"/>
                  </a:lnTo>
                  <a:lnTo>
                    <a:pt x="4" y="353"/>
                  </a:lnTo>
                  <a:lnTo>
                    <a:pt x="0" y="188"/>
                  </a:lnTo>
                  <a:lnTo>
                    <a:pt x="2" y="125"/>
                  </a:lnTo>
                  <a:lnTo>
                    <a:pt x="2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543480" y="3005640"/>
              <a:ext cx="2048040" cy="637560"/>
            </a:xfrm>
            <a:custGeom>
              <a:avLst/>
              <a:gdLst/>
              <a:ahLst/>
              <a:rect l="l" t="t" r="r" b="b"/>
              <a:pathLst>
                <a:path w="1432" h="444">
                  <a:moveTo>
                    <a:pt x="902" y="444"/>
                  </a:moveTo>
                  <a:lnTo>
                    <a:pt x="742" y="417"/>
                  </a:lnTo>
                  <a:lnTo>
                    <a:pt x="691" y="407"/>
                  </a:lnTo>
                  <a:lnTo>
                    <a:pt x="528" y="380"/>
                  </a:lnTo>
                  <a:lnTo>
                    <a:pt x="251" y="334"/>
                  </a:lnTo>
                  <a:lnTo>
                    <a:pt x="247" y="334"/>
                  </a:lnTo>
                  <a:lnTo>
                    <a:pt x="243" y="323"/>
                  </a:lnTo>
                  <a:lnTo>
                    <a:pt x="242" y="309"/>
                  </a:lnTo>
                  <a:lnTo>
                    <a:pt x="238" y="298"/>
                  </a:lnTo>
                  <a:lnTo>
                    <a:pt x="234" y="286"/>
                  </a:lnTo>
                  <a:lnTo>
                    <a:pt x="230" y="275"/>
                  </a:lnTo>
                  <a:lnTo>
                    <a:pt x="224" y="265"/>
                  </a:lnTo>
                  <a:lnTo>
                    <a:pt x="218" y="254"/>
                  </a:lnTo>
                  <a:lnTo>
                    <a:pt x="213" y="242"/>
                  </a:lnTo>
                  <a:lnTo>
                    <a:pt x="205" y="231"/>
                  </a:lnTo>
                  <a:lnTo>
                    <a:pt x="199" y="221"/>
                  </a:lnTo>
                  <a:lnTo>
                    <a:pt x="192" y="210"/>
                  </a:lnTo>
                  <a:lnTo>
                    <a:pt x="182" y="200"/>
                  </a:lnTo>
                  <a:lnTo>
                    <a:pt x="174" y="190"/>
                  </a:lnTo>
                  <a:lnTo>
                    <a:pt x="167" y="181"/>
                  </a:lnTo>
                  <a:lnTo>
                    <a:pt x="157" y="171"/>
                  </a:lnTo>
                  <a:lnTo>
                    <a:pt x="147" y="163"/>
                  </a:lnTo>
                  <a:lnTo>
                    <a:pt x="138" y="154"/>
                  </a:lnTo>
                  <a:lnTo>
                    <a:pt x="128" y="146"/>
                  </a:lnTo>
                  <a:lnTo>
                    <a:pt x="119" y="138"/>
                  </a:lnTo>
                  <a:lnTo>
                    <a:pt x="107" y="133"/>
                  </a:lnTo>
                  <a:lnTo>
                    <a:pt x="98" y="125"/>
                  </a:lnTo>
                  <a:lnTo>
                    <a:pt x="86" y="119"/>
                  </a:lnTo>
                  <a:lnTo>
                    <a:pt x="76" y="113"/>
                  </a:lnTo>
                  <a:lnTo>
                    <a:pt x="65" y="108"/>
                  </a:lnTo>
                  <a:lnTo>
                    <a:pt x="53" y="104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28" y="96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5" y="81"/>
                  </a:lnTo>
                  <a:lnTo>
                    <a:pt x="5" y="75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9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2" y="56"/>
                  </a:lnTo>
                  <a:lnTo>
                    <a:pt x="7" y="3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38" y="10"/>
                  </a:lnTo>
                  <a:lnTo>
                    <a:pt x="52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7" y="6"/>
                  </a:lnTo>
                  <a:lnTo>
                    <a:pt x="50" y="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69" y="23"/>
                  </a:lnTo>
                  <a:lnTo>
                    <a:pt x="92" y="25"/>
                  </a:lnTo>
                  <a:lnTo>
                    <a:pt x="117" y="27"/>
                  </a:lnTo>
                  <a:lnTo>
                    <a:pt x="140" y="27"/>
                  </a:lnTo>
                  <a:lnTo>
                    <a:pt x="140" y="27"/>
                  </a:lnTo>
                  <a:lnTo>
                    <a:pt x="345" y="44"/>
                  </a:lnTo>
                  <a:lnTo>
                    <a:pt x="347" y="41"/>
                  </a:lnTo>
                  <a:lnTo>
                    <a:pt x="351" y="39"/>
                  </a:lnTo>
                  <a:lnTo>
                    <a:pt x="355" y="37"/>
                  </a:lnTo>
                  <a:lnTo>
                    <a:pt x="355" y="37"/>
                  </a:lnTo>
                  <a:lnTo>
                    <a:pt x="362" y="39"/>
                  </a:lnTo>
                  <a:lnTo>
                    <a:pt x="359" y="42"/>
                  </a:lnTo>
                  <a:lnTo>
                    <a:pt x="355" y="46"/>
                  </a:lnTo>
                  <a:lnTo>
                    <a:pt x="353" y="52"/>
                  </a:lnTo>
                  <a:lnTo>
                    <a:pt x="353" y="52"/>
                  </a:lnTo>
                  <a:lnTo>
                    <a:pt x="355" y="56"/>
                  </a:lnTo>
                  <a:lnTo>
                    <a:pt x="393" y="60"/>
                  </a:lnTo>
                  <a:lnTo>
                    <a:pt x="430" y="65"/>
                  </a:lnTo>
                  <a:lnTo>
                    <a:pt x="470" y="71"/>
                  </a:lnTo>
                  <a:lnTo>
                    <a:pt x="470" y="71"/>
                  </a:lnTo>
                  <a:lnTo>
                    <a:pt x="470" y="69"/>
                  </a:lnTo>
                  <a:lnTo>
                    <a:pt x="472" y="69"/>
                  </a:lnTo>
                  <a:lnTo>
                    <a:pt x="474" y="69"/>
                  </a:lnTo>
                  <a:lnTo>
                    <a:pt x="474" y="69"/>
                  </a:lnTo>
                  <a:lnTo>
                    <a:pt x="472" y="71"/>
                  </a:lnTo>
                  <a:lnTo>
                    <a:pt x="474" y="75"/>
                  </a:lnTo>
                  <a:lnTo>
                    <a:pt x="474" y="77"/>
                  </a:lnTo>
                  <a:lnTo>
                    <a:pt x="474" y="77"/>
                  </a:lnTo>
                  <a:lnTo>
                    <a:pt x="476" y="79"/>
                  </a:lnTo>
                  <a:lnTo>
                    <a:pt x="512" y="87"/>
                  </a:lnTo>
                  <a:lnTo>
                    <a:pt x="551" y="92"/>
                  </a:lnTo>
                  <a:lnTo>
                    <a:pt x="589" y="96"/>
                  </a:lnTo>
                  <a:lnTo>
                    <a:pt x="589" y="96"/>
                  </a:lnTo>
                  <a:lnTo>
                    <a:pt x="671" y="104"/>
                  </a:lnTo>
                  <a:lnTo>
                    <a:pt x="754" y="112"/>
                  </a:lnTo>
                  <a:lnTo>
                    <a:pt x="838" y="123"/>
                  </a:lnTo>
                  <a:lnTo>
                    <a:pt x="921" y="133"/>
                  </a:lnTo>
                  <a:lnTo>
                    <a:pt x="921" y="133"/>
                  </a:lnTo>
                  <a:lnTo>
                    <a:pt x="921" y="135"/>
                  </a:lnTo>
                  <a:lnTo>
                    <a:pt x="923" y="137"/>
                  </a:lnTo>
                  <a:lnTo>
                    <a:pt x="925" y="138"/>
                  </a:lnTo>
                  <a:lnTo>
                    <a:pt x="925" y="138"/>
                  </a:lnTo>
                  <a:lnTo>
                    <a:pt x="963" y="142"/>
                  </a:lnTo>
                  <a:lnTo>
                    <a:pt x="1002" y="148"/>
                  </a:lnTo>
                  <a:lnTo>
                    <a:pt x="1040" y="154"/>
                  </a:lnTo>
                  <a:lnTo>
                    <a:pt x="1040" y="154"/>
                  </a:lnTo>
                  <a:lnTo>
                    <a:pt x="1044" y="158"/>
                  </a:lnTo>
                  <a:lnTo>
                    <a:pt x="1088" y="162"/>
                  </a:lnTo>
                  <a:lnTo>
                    <a:pt x="1130" y="169"/>
                  </a:lnTo>
                  <a:lnTo>
                    <a:pt x="1174" y="179"/>
                  </a:lnTo>
                  <a:lnTo>
                    <a:pt x="1174" y="179"/>
                  </a:lnTo>
                  <a:lnTo>
                    <a:pt x="1178" y="181"/>
                  </a:lnTo>
                  <a:lnTo>
                    <a:pt x="1226" y="190"/>
                  </a:lnTo>
                  <a:lnTo>
                    <a:pt x="1274" y="196"/>
                  </a:lnTo>
                  <a:lnTo>
                    <a:pt x="1322" y="206"/>
                  </a:lnTo>
                  <a:lnTo>
                    <a:pt x="1322" y="206"/>
                  </a:lnTo>
                  <a:lnTo>
                    <a:pt x="1328" y="206"/>
                  </a:lnTo>
                  <a:lnTo>
                    <a:pt x="1336" y="208"/>
                  </a:lnTo>
                  <a:lnTo>
                    <a:pt x="1339" y="204"/>
                  </a:lnTo>
                  <a:lnTo>
                    <a:pt x="1339" y="204"/>
                  </a:lnTo>
                  <a:lnTo>
                    <a:pt x="1336" y="194"/>
                  </a:lnTo>
                  <a:lnTo>
                    <a:pt x="1322" y="192"/>
                  </a:lnTo>
                  <a:lnTo>
                    <a:pt x="1309" y="190"/>
                  </a:lnTo>
                  <a:lnTo>
                    <a:pt x="1295" y="185"/>
                  </a:lnTo>
                  <a:lnTo>
                    <a:pt x="1295" y="185"/>
                  </a:lnTo>
                  <a:lnTo>
                    <a:pt x="1276" y="183"/>
                  </a:lnTo>
                  <a:lnTo>
                    <a:pt x="1303" y="183"/>
                  </a:lnTo>
                  <a:lnTo>
                    <a:pt x="1332" y="185"/>
                  </a:lnTo>
                  <a:lnTo>
                    <a:pt x="1361" y="188"/>
                  </a:lnTo>
                  <a:lnTo>
                    <a:pt x="1361" y="188"/>
                  </a:lnTo>
                  <a:lnTo>
                    <a:pt x="1366" y="188"/>
                  </a:lnTo>
                  <a:lnTo>
                    <a:pt x="1372" y="186"/>
                  </a:lnTo>
                  <a:lnTo>
                    <a:pt x="1378" y="186"/>
                  </a:lnTo>
                  <a:lnTo>
                    <a:pt x="1378" y="186"/>
                  </a:lnTo>
                  <a:lnTo>
                    <a:pt x="1385" y="181"/>
                  </a:lnTo>
                  <a:lnTo>
                    <a:pt x="1393" y="173"/>
                  </a:lnTo>
                  <a:lnTo>
                    <a:pt x="1405" y="169"/>
                  </a:lnTo>
                  <a:lnTo>
                    <a:pt x="1405" y="169"/>
                  </a:lnTo>
                  <a:lnTo>
                    <a:pt x="1407" y="167"/>
                  </a:lnTo>
                  <a:lnTo>
                    <a:pt x="1407" y="163"/>
                  </a:lnTo>
                  <a:lnTo>
                    <a:pt x="1407" y="160"/>
                  </a:lnTo>
                  <a:lnTo>
                    <a:pt x="1407" y="160"/>
                  </a:lnTo>
                  <a:lnTo>
                    <a:pt x="1414" y="163"/>
                  </a:lnTo>
                  <a:lnTo>
                    <a:pt x="1420" y="169"/>
                  </a:lnTo>
                  <a:lnTo>
                    <a:pt x="1424" y="179"/>
                  </a:lnTo>
                  <a:lnTo>
                    <a:pt x="1424" y="179"/>
                  </a:lnTo>
                  <a:lnTo>
                    <a:pt x="1426" y="190"/>
                  </a:lnTo>
                  <a:lnTo>
                    <a:pt x="1426" y="204"/>
                  </a:lnTo>
                  <a:lnTo>
                    <a:pt x="1426" y="215"/>
                  </a:lnTo>
                  <a:lnTo>
                    <a:pt x="1426" y="215"/>
                  </a:lnTo>
                  <a:lnTo>
                    <a:pt x="1428" y="290"/>
                  </a:lnTo>
                  <a:lnTo>
                    <a:pt x="1430" y="367"/>
                  </a:lnTo>
                  <a:lnTo>
                    <a:pt x="1432" y="444"/>
                  </a:lnTo>
                  <a:lnTo>
                    <a:pt x="1432" y="444"/>
                  </a:lnTo>
                  <a:lnTo>
                    <a:pt x="1424" y="444"/>
                  </a:lnTo>
                  <a:lnTo>
                    <a:pt x="1424" y="438"/>
                  </a:lnTo>
                  <a:lnTo>
                    <a:pt x="1424" y="430"/>
                  </a:lnTo>
                  <a:lnTo>
                    <a:pt x="1424" y="425"/>
                  </a:lnTo>
                  <a:lnTo>
                    <a:pt x="1424" y="425"/>
                  </a:lnTo>
                  <a:lnTo>
                    <a:pt x="1426" y="382"/>
                  </a:lnTo>
                  <a:lnTo>
                    <a:pt x="1424" y="340"/>
                  </a:lnTo>
                  <a:lnTo>
                    <a:pt x="1424" y="296"/>
                  </a:lnTo>
                  <a:lnTo>
                    <a:pt x="1424" y="296"/>
                  </a:lnTo>
                  <a:lnTo>
                    <a:pt x="1422" y="261"/>
                  </a:lnTo>
                  <a:lnTo>
                    <a:pt x="1420" y="227"/>
                  </a:lnTo>
                  <a:lnTo>
                    <a:pt x="1416" y="194"/>
                  </a:lnTo>
                  <a:lnTo>
                    <a:pt x="1416" y="194"/>
                  </a:lnTo>
                  <a:lnTo>
                    <a:pt x="1416" y="194"/>
                  </a:lnTo>
                  <a:lnTo>
                    <a:pt x="1418" y="194"/>
                  </a:lnTo>
                  <a:lnTo>
                    <a:pt x="1418" y="194"/>
                  </a:lnTo>
                  <a:lnTo>
                    <a:pt x="1418" y="194"/>
                  </a:lnTo>
                  <a:lnTo>
                    <a:pt x="1418" y="186"/>
                  </a:lnTo>
                  <a:lnTo>
                    <a:pt x="1416" y="183"/>
                  </a:lnTo>
                  <a:lnTo>
                    <a:pt x="1410" y="179"/>
                  </a:lnTo>
                  <a:lnTo>
                    <a:pt x="1410" y="179"/>
                  </a:lnTo>
                  <a:lnTo>
                    <a:pt x="1414" y="175"/>
                  </a:lnTo>
                  <a:lnTo>
                    <a:pt x="1416" y="173"/>
                  </a:lnTo>
                  <a:lnTo>
                    <a:pt x="1416" y="169"/>
                  </a:lnTo>
                  <a:lnTo>
                    <a:pt x="1416" y="169"/>
                  </a:lnTo>
                  <a:lnTo>
                    <a:pt x="1412" y="167"/>
                  </a:lnTo>
                  <a:lnTo>
                    <a:pt x="1407" y="169"/>
                  </a:lnTo>
                  <a:lnTo>
                    <a:pt x="1403" y="171"/>
                  </a:lnTo>
                  <a:lnTo>
                    <a:pt x="1403" y="171"/>
                  </a:lnTo>
                  <a:lnTo>
                    <a:pt x="1395" y="177"/>
                  </a:lnTo>
                  <a:lnTo>
                    <a:pt x="1387" y="185"/>
                  </a:lnTo>
                  <a:lnTo>
                    <a:pt x="1382" y="192"/>
                  </a:lnTo>
                  <a:lnTo>
                    <a:pt x="1374" y="200"/>
                  </a:lnTo>
                  <a:lnTo>
                    <a:pt x="1368" y="208"/>
                  </a:lnTo>
                  <a:lnTo>
                    <a:pt x="1364" y="215"/>
                  </a:lnTo>
                  <a:lnTo>
                    <a:pt x="1364" y="215"/>
                  </a:lnTo>
                  <a:lnTo>
                    <a:pt x="1362" y="238"/>
                  </a:lnTo>
                  <a:lnTo>
                    <a:pt x="1364" y="261"/>
                  </a:lnTo>
                  <a:lnTo>
                    <a:pt x="1362" y="282"/>
                  </a:lnTo>
                  <a:lnTo>
                    <a:pt x="1362" y="282"/>
                  </a:lnTo>
                  <a:lnTo>
                    <a:pt x="1359" y="286"/>
                  </a:lnTo>
                  <a:lnTo>
                    <a:pt x="1362" y="290"/>
                  </a:lnTo>
                  <a:lnTo>
                    <a:pt x="1361" y="342"/>
                  </a:lnTo>
                  <a:lnTo>
                    <a:pt x="1359" y="392"/>
                  </a:lnTo>
                  <a:lnTo>
                    <a:pt x="1353" y="444"/>
                  </a:lnTo>
                  <a:lnTo>
                    <a:pt x="1353" y="444"/>
                  </a:lnTo>
                  <a:lnTo>
                    <a:pt x="1347" y="444"/>
                  </a:lnTo>
                  <a:lnTo>
                    <a:pt x="1351" y="407"/>
                  </a:lnTo>
                  <a:lnTo>
                    <a:pt x="1355" y="373"/>
                  </a:lnTo>
                  <a:lnTo>
                    <a:pt x="1357" y="336"/>
                  </a:lnTo>
                  <a:lnTo>
                    <a:pt x="1357" y="336"/>
                  </a:lnTo>
                  <a:lnTo>
                    <a:pt x="1355" y="336"/>
                  </a:lnTo>
                  <a:lnTo>
                    <a:pt x="1353" y="334"/>
                  </a:lnTo>
                  <a:lnTo>
                    <a:pt x="1353" y="332"/>
                  </a:lnTo>
                  <a:lnTo>
                    <a:pt x="1353" y="332"/>
                  </a:lnTo>
                  <a:lnTo>
                    <a:pt x="1355" y="331"/>
                  </a:lnTo>
                  <a:lnTo>
                    <a:pt x="1357" y="331"/>
                  </a:lnTo>
                  <a:lnTo>
                    <a:pt x="1359" y="329"/>
                  </a:lnTo>
                  <a:lnTo>
                    <a:pt x="1359" y="329"/>
                  </a:lnTo>
                  <a:lnTo>
                    <a:pt x="1357" y="325"/>
                  </a:lnTo>
                  <a:lnTo>
                    <a:pt x="1355" y="321"/>
                  </a:lnTo>
                  <a:lnTo>
                    <a:pt x="1351" y="321"/>
                  </a:lnTo>
                  <a:lnTo>
                    <a:pt x="1351" y="321"/>
                  </a:lnTo>
                  <a:lnTo>
                    <a:pt x="1349" y="321"/>
                  </a:lnTo>
                  <a:lnTo>
                    <a:pt x="1349" y="319"/>
                  </a:lnTo>
                  <a:lnTo>
                    <a:pt x="1349" y="317"/>
                  </a:lnTo>
                  <a:lnTo>
                    <a:pt x="1347" y="315"/>
                  </a:lnTo>
                  <a:lnTo>
                    <a:pt x="1347" y="315"/>
                  </a:lnTo>
                  <a:lnTo>
                    <a:pt x="1345" y="315"/>
                  </a:lnTo>
                  <a:lnTo>
                    <a:pt x="1343" y="317"/>
                  </a:lnTo>
                  <a:lnTo>
                    <a:pt x="1341" y="319"/>
                  </a:lnTo>
                  <a:lnTo>
                    <a:pt x="1341" y="319"/>
                  </a:lnTo>
                  <a:lnTo>
                    <a:pt x="1338" y="317"/>
                  </a:lnTo>
                  <a:lnTo>
                    <a:pt x="1332" y="317"/>
                  </a:lnTo>
                  <a:lnTo>
                    <a:pt x="1328" y="319"/>
                  </a:lnTo>
                  <a:lnTo>
                    <a:pt x="1328" y="319"/>
                  </a:lnTo>
                  <a:lnTo>
                    <a:pt x="1309" y="325"/>
                  </a:lnTo>
                  <a:lnTo>
                    <a:pt x="1291" y="332"/>
                  </a:lnTo>
                  <a:lnTo>
                    <a:pt x="1274" y="342"/>
                  </a:lnTo>
                  <a:lnTo>
                    <a:pt x="1274" y="342"/>
                  </a:lnTo>
                  <a:lnTo>
                    <a:pt x="1272" y="332"/>
                  </a:lnTo>
                  <a:lnTo>
                    <a:pt x="1272" y="325"/>
                  </a:lnTo>
                  <a:lnTo>
                    <a:pt x="1272" y="315"/>
                  </a:lnTo>
                  <a:lnTo>
                    <a:pt x="1272" y="315"/>
                  </a:lnTo>
                  <a:lnTo>
                    <a:pt x="1268" y="315"/>
                  </a:lnTo>
                  <a:lnTo>
                    <a:pt x="1266" y="315"/>
                  </a:lnTo>
                  <a:lnTo>
                    <a:pt x="1265" y="313"/>
                  </a:lnTo>
                  <a:lnTo>
                    <a:pt x="1265" y="313"/>
                  </a:lnTo>
                  <a:lnTo>
                    <a:pt x="1251" y="317"/>
                  </a:lnTo>
                  <a:lnTo>
                    <a:pt x="1238" y="323"/>
                  </a:lnTo>
                  <a:lnTo>
                    <a:pt x="1226" y="327"/>
                  </a:lnTo>
                  <a:lnTo>
                    <a:pt x="1213" y="332"/>
                  </a:lnTo>
                  <a:lnTo>
                    <a:pt x="1201" y="340"/>
                  </a:lnTo>
                  <a:lnTo>
                    <a:pt x="1190" y="348"/>
                  </a:lnTo>
                  <a:lnTo>
                    <a:pt x="1176" y="355"/>
                  </a:lnTo>
                  <a:lnTo>
                    <a:pt x="1165" y="363"/>
                  </a:lnTo>
                  <a:lnTo>
                    <a:pt x="1155" y="373"/>
                  </a:lnTo>
                  <a:lnTo>
                    <a:pt x="1144" y="382"/>
                  </a:lnTo>
                  <a:lnTo>
                    <a:pt x="1134" y="392"/>
                  </a:lnTo>
                  <a:lnTo>
                    <a:pt x="1124" y="402"/>
                  </a:lnTo>
                  <a:lnTo>
                    <a:pt x="1115" y="413"/>
                  </a:lnTo>
                  <a:lnTo>
                    <a:pt x="1107" y="423"/>
                  </a:lnTo>
                  <a:lnTo>
                    <a:pt x="1100" y="434"/>
                  </a:lnTo>
                  <a:lnTo>
                    <a:pt x="1100" y="434"/>
                  </a:lnTo>
                  <a:lnTo>
                    <a:pt x="1098" y="438"/>
                  </a:lnTo>
                  <a:lnTo>
                    <a:pt x="1096" y="440"/>
                  </a:lnTo>
                  <a:lnTo>
                    <a:pt x="1094" y="444"/>
                  </a:lnTo>
                  <a:lnTo>
                    <a:pt x="1094" y="444"/>
                  </a:lnTo>
                  <a:lnTo>
                    <a:pt x="1078" y="444"/>
                  </a:lnTo>
                  <a:lnTo>
                    <a:pt x="1082" y="436"/>
                  </a:lnTo>
                  <a:lnTo>
                    <a:pt x="1088" y="428"/>
                  </a:lnTo>
                  <a:lnTo>
                    <a:pt x="1092" y="423"/>
                  </a:lnTo>
                  <a:lnTo>
                    <a:pt x="1096" y="415"/>
                  </a:lnTo>
                  <a:lnTo>
                    <a:pt x="1101" y="407"/>
                  </a:lnTo>
                  <a:lnTo>
                    <a:pt x="1107" y="402"/>
                  </a:lnTo>
                  <a:lnTo>
                    <a:pt x="1111" y="396"/>
                  </a:lnTo>
                  <a:lnTo>
                    <a:pt x="1117" y="388"/>
                  </a:lnTo>
                  <a:lnTo>
                    <a:pt x="1123" y="382"/>
                  </a:lnTo>
                  <a:lnTo>
                    <a:pt x="1130" y="377"/>
                  </a:lnTo>
                  <a:lnTo>
                    <a:pt x="1136" y="371"/>
                  </a:lnTo>
                  <a:lnTo>
                    <a:pt x="1142" y="365"/>
                  </a:lnTo>
                  <a:lnTo>
                    <a:pt x="1149" y="359"/>
                  </a:lnTo>
                  <a:lnTo>
                    <a:pt x="1155" y="354"/>
                  </a:lnTo>
                  <a:lnTo>
                    <a:pt x="1163" y="348"/>
                  </a:lnTo>
                  <a:lnTo>
                    <a:pt x="1169" y="344"/>
                  </a:lnTo>
                  <a:lnTo>
                    <a:pt x="1176" y="338"/>
                  </a:lnTo>
                  <a:lnTo>
                    <a:pt x="1184" y="334"/>
                  </a:lnTo>
                  <a:lnTo>
                    <a:pt x="1192" y="329"/>
                  </a:lnTo>
                  <a:lnTo>
                    <a:pt x="1199" y="325"/>
                  </a:lnTo>
                  <a:lnTo>
                    <a:pt x="1207" y="321"/>
                  </a:lnTo>
                  <a:lnTo>
                    <a:pt x="1215" y="317"/>
                  </a:lnTo>
                  <a:lnTo>
                    <a:pt x="1222" y="315"/>
                  </a:lnTo>
                  <a:lnTo>
                    <a:pt x="1230" y="311"/>
                  </a:lnTo>
                  <a:lnTo>
                    <a:pt x="1238" y="307"/>
                  </a:lnTo>
                  <a:lnTo>
                    <a:pt x="1245" y="306"/>
                  </a:lnTo>
                  <a:lnTo>
                    <a:pt x="1255" y="304"/>
                  </a:lnTo>
                  <a:lnTo>
                    <a:pt x="1263" y="302"/>
                  </a:lnTo>
                  <a:lnTo>
                    <a:pt x="1270" y="300"/>
                  </a:lnTo>
                  <a:lnTo>
                    <a:pt x="1278" y="298"/>
                  </a:lnTo>
                  <a:lnTo>
                    <a:pt x="1286" y="296"/>
                  </a:lnTo>
                  <a:lnTo>
                    <a:pt x="1295" y="296"/>
                  </a:lnTo>
                  <a:lnTo>
                    <a:pt x="1295" y="296"/>
                  </a:lnTo>
                  <a:lnTo>
                    <a:pt x="1303" y="296"/>
                  </a:lnTo>
                  <a:lnTo>
                    <a:pt x="1313" y="296"/>
                  </a:lnTo>
                  <a:lnTo>
                    <a:pt x="1320" y="294"/>
                  </a:lnTo>
                  <a:lnTo>
                    <a:pt x="1320" y="294"/>
                  </a:lnTo>
                  <a:lnTo>
                    <a:pt x="1332" y="294"/>
                  </a:lnTo>
                  <a:lnTo>
                    <a:pt x="1343" y="294"/>
                  </a:lnTo>
                  <a:lnTo>
                    <a:pt x="1353" y="294"/>
                  </a:lnTo>
                  <a:lnTo>
                    <a:pt x="1353" y="294"/>
                  </a:lnTo>
                  <a:lnTo>
                    <a:pt x="1353" y="298"/>
                  </a:lnTo>
                  <a:lnTo>
                    <a:pt x="1353" y="300"/>
                  </a:lnTo>
                  <a:lnTo>
                    <a:pt x="1355" y="302"/>
                  </a:lnTo>
                  <a:lnTo>
                    <a:pt x="1355" y="302"/>
                  </a:lnTo>
                  <a:lnTo>
                    <a:pt x="1359" y="300"/>
                  </a:lnTo>
                  <a:lnTo>
                    <a:pt x="1359" y="296"/>
                  </a:lnTo>
                  <a:lnTo>
                    <a:pt x="1362" y="294"/>
                  </a:lnTo>
                  <a:lnTo>
                    <a:pt x="1362" y="294"/>
                  </a:lnTo>
                  <a:lnTo>
                    <a:pt x="1362" y="292"/>
                  </a:lnTo>
                  <a:lnTo>
                    <a:pt x="1362" y="290"/>
                  </a:lnTo>
                  <a:lnTo>
                    <a:pt x="1361" y="290"/>
                  </a:lnTo>
                  <a:lnTo>
                    <a:pt x="1361" y="290"/>
                  </a:lnTo>
                  <a:lnTo>
                    <a:pt x="1355" y="288"/>
                  </a:lnTo>
                  <a:lnTo>
                    <a:pt x="1359" y="286"/>
                  </a:lnTo>
                  <a:lnTo>
                    <a:pt x="1359" y="284"/>
                  </a:lnTo>
                  <a:lnTo>
                    <a:pt x="1359" y="281"/>
                  </a:lnTo>
                  <a:lnTo>
                    <a:pt x="1359" y="281"/>
                  </a:lnTo>
                  <a:lnTo>
                    <a:pt x="1355" y="281"/>
                  </a:lnTo>
                  <a:lnTo>
                    <a:pt x="1351" y="282"/>
                  </a:lnTo>
                  <a:lnTo>
                    <a:pt x="1347" y="284"/>
                  </a:lnTo>
                  <a:lnTo>
                    <a:pt x="1347" y="284"/>
                  </a:lnTo>
                  <a:lnTo>
                    <a:pt x="1349" y="286"/>
                  </a:lnTo>
                  <a:lnTo>
                    <a:pt x="1351" y="288"/>
                  </a:lnTo>
                  <a:lnTo>
                    <a:pt x="1355" y="288"/>
                  </a:lnTo>
                  <a:lnTo>
                    <a:pt x="1355" y="288"/>
                  </a:lnTo>
                  <a:lnTo>
                    <a:pt x="1338" y="288"/>
                  </a:lnTo>
                  <a:lnTo>
                    <a:pt x="1339" y="286"/>
                  </a:lnTo>
                  <a:lnTo>
                    <a:pt x="1343" y="286"/>
                  </a:lnTo>
                  <a:lnTo>
                    <a:pt x="1345" y="286"/>
                  </a:lnTo>
                  <a:lnTo>
                    <a:pt x="1345" y="286"/>
                  </a:lnTo>
                  <a:lnTo>
                    <a:pt x="1345" y="284"/>
                  </a:lnTo>
                  <a:lnTo>
                    <a:pt x="1343" y="282"/>
                  </a:lnTo>
                  <a:lnTo>
                    <a:pt x="1343" y="282"/>
                  </a:lnTo>
                  <a:lnTo>
                    <a:pt x="1343" y="282"/>
                  </a:lnTo>
                  <a:lnTo>
                    <a:pt x="1341" y="275"/>
                  </a:lnTo>
                  <a:lnTo>
                    <a:pt x="1341" y="269"/>
                  </a:lnTo>
                  <a:lnTo>
                    <a:pt x="1338" y="263"/>
                  </a:lnTo>
                  <a:lnTo>
                    <a:pt x="1338" y="263"/>
                  </a:lnTo>
                  <a:lnTo>
                    <a:pt x="1297" y="252"/>
                  </a:lnTo>
                  <a:lnTo>
                    <a:pt x="1253" y="244"/>
                  </a:lnTo>
                  <a:lnTo>
                    <a:pt x="1211" y="238"/>
                  </a:lnTo>
                  <a:lnTo>
                    <a:pt x="1167" y="233"/>
                  </a:lnTo>
                  <a:lnTo>
                    <a:pt x="1167" y="233"/>
                  </a:lnTo>
                  <a:lnTo>
                    <a:pt x="1082" y="227"/>
                  </a:lnTo>
                  <a:lnTo>
                    <a:pt x="996" y="225"/>
                  </a:lnTo>
                  <a:lnTo>
                    <a:pt x="911" y="227"/>
                  </a:lnTo>
                  <a:lnTo>
                    <a:pt x="911" y="227"/>
                  </a:lnTo>
                  <a:lnTo>
                    <a:pt x="906" y="231"/>
                  </a:lnTo>
                  <a:lnTo>
                    <a:pt x="906" y="234"/>
                  </a:lnTo>
                  <a:lnTo>
                    <a:pt x="904" y="240"/>
                  </a:lnTo>
                  <a:lnTo>
                    <a:pt x="904" y="240"/>
                  </a:lnTo>
                  <a:lnTo>
                    <a:pt x="902" y="256"/>
                  </a:lnTo>
                  <a:lnTo>
                    <a:pt x="904" y="269"/>
                  </a:lnTo>
                  <a:lnTo>
                    <a:pt x="911" y="281"/>
                  </a:lnTo>
                  <a:lnTo>
                    <a:pt x="911" y="281"/>
                  </a:lnTo>
                  <a:lnTo>
                    <a:pt x="921" y="286"/>
                  </a:lnTo>
                  <a:lnTo>
                    <a:pt x="956" y="290"/>
                  </a:lnTo>
                  <a:lnTo>
                    <a:pt x="992" y="292"/>
                  </a:lnTo>
                  <a:lnTo>
                    <a:pt x="1028" y="294"/>
                  </a:lnTo>
                  <a:lnTo>
                    <a:pt x="1028" y="294"/>
                  </a:lnTo>
                  <a:lnTo>
                    <a:pt x="1013" y="300"/>
                  </a:lnTo>
                  <a:lnTo>
                    <a:pt x="998" y="304"/>
                  </a:lnTo>
                  <a:lnTo>
                    <a:pt x="982" y="306"/>
                  </a:lnTo>
                  <a:lnTo>
                    <a:pt x="982" y="306"/>
                  </a:lnTo>
                  <a:lnTo>
                    <a:pt x="981" y="315"/>
                  </a:lnTo>
                  <a:lnTo>
                    <a:pt x="982" y="323"/>
                  </a:lnTo>
                  <a:lnTo>
                    <a:pt x="981" y="331"/>
                  </a:lnTo>
                  <a:lnTo>
                    <a:pt x="981" y="331"/>
                  </a:lnTo>
                  <a:lnTo>
                    <a:pt x="954" y="340"/>
                  </a:lnTo>
                  <a:lnTo>
                    <a:pt x="929" y="348"/>
                  </a:lnTo>
                  <a:lnTo>
                    <a:pt x="904" y="357"/>
                  </a:lnTo>
                  <a:lnTo>
                    <a:pt x="904" y="357"/>
                  </a:lnTo>
                  <a:lnTo>
                    <a:pt x="902" y="369"/>
                  </a:lnTo>
                  <a:lnTo>
                    <a:pt x="896" y="371"/>
                  </a:lnTo>
                  <a:lnTo>
                    <a:pt x="890" y="371"/>
                  </a:lnTo>
                  <a:lnTo>
                    <a:pt x="886" y="373"/>
                  </a:lnTo>
                  <a:lnTo>
                    <a:pt x="886" y="373"/>
                  </a:lnTo>
                  <a:lnTo>
                    <a:pt x="879" y="388"/>
                  </a:lnTo>
                  <a:lnTo>
                    <a:pt x="875" y="403"/>
                  </a:lnTo>
                  <a:lnTo>
                    <a:pt x="875" y="421"/>
                  </a:lnTo>
                  <a:lnTo>
                    <a:pt x="875" y="421"/>
                  </a:lnTo>
                  <a:lnTo>
                    <a:pt x="885" y="430"/>
                  </a:lnTo>
                  <a:lnTo>
                    <a:pt x="894" y="434"/>
                  </a:lnTo>
                  <a:lnTo>
                    <a:pt x="906" y="434"/>
                  </a:lnTo>
                  <a:lnTo>
                    <a:pt x="906" y="434"/>
                  </a:lnTo>
                  <a:lnTo>
                    <a:pt x="917" y="434"/>
                  </a:lnTo>
                  <a:lnTo>
                    <a:pt x="929" y="432"/>
                  </a:lnTo>
                  <a:lnTo>
                    <a:pt x="938" y="430"/>
                  </a:lnTo>
                  <a:lnTo>
                    <a:pt x="938" y="430"/>
                  </a:lnTo>
                  <a:lnTo>
                    <a:pt x="963" y="428"/>
                  </a:lnTo>
                  <a:lnTo>
                    <a:pt x="986" y="423"/>
                  </a:lnTo>
                  <a:lnTo>
                    <a:pt x="1009" y="415"/>
                  </a:lnTo>
                  <a:lnTo>
                    <a:pt x="1032" y="405"/>
                  </a:lnTo>
                  <a:lnTo>
                    <a:pt x="1053" y="394"/>
                  </a:lnTo>
                  <a:lnTo>
                    <a:pt x="1075" y="380"/>
                  </a:lnTo>
                  <a:lnTo>
                    <a:pt x="1096" y="367"/>
                  </a:lnTo>
                  <a:lnTo>
                    <a:pt x="1115" y="350"/>
                  </a:lnTo>
                  <a:lnTo>
                    <a:pt x="1115" y="350"/>
                  </a:lnTo>
                  <a:lnTo>
                    <a:pt x="1134" y="340"/>
                  </a:lnTo>
                  <a:lnTo>
                    <a:pt x="1153" y="332"/>
                  </a:lnTo>
                  <a:lnTo>
                    <a:pt x="1172" y="325"/>
                  </a:lnTo>
                  <a:lnTo>
                    <a:pt x="1190" y="317"/>
                  </a:lnTo>
                  <a:lnTo>
                    <a:pt x="1190" y="317"/>
                  </a:lnTo>
                  <a:lnTo>
                    <a:pt x="1190" y="317"/>
                  </a:lnTo>
                  <a:lnTo>
                    <a:pt x="1188" y="319"/>
                  </a:lnTo>
                  <a:lnTo>
                    <a:pt x="1188" y="321"/>
                  </a:lnTo>
                  <a:lnTo>
                    <a:pt x="1188" y="321"/>
                  </a:lnTo>
                  <a:lnTo>
                    <a:pt x="1190" y="323"/>
                  </a:lnTo>
                  <a:lnTo>
                    <a:pt x="1192" y="321"/>
                  </a:lnTo>
                  <a:lnTo>
                    <a:pt x="1195" y="321"/>
                  </a:lnTo>
                  <a:lnTo>
                    <a:pt x="1195" y="321"/>
                  </a:lnTo>
                  <a:lnTo>
                    <a:pt x="1197" y="319"/>
                  </a:lnTo>
                  <a:lnTo>
                    <a:pt x="1197" y="317"/>
                  </a:lnTo>
                  <a:lnTo>
                    <a:pt x="1197" y="317"/>
                  </a:lnTo>
                  <a:lnTo>
                    <a:pt x="1197" y="317"/>
                  </a:lnTo>
                  <a:lnTo>
                    <a:pt x="1197" y="315"/>
                  </a:lnTo>
                  <a:lnTo>
                    <a:pt x="1201" y="315"/>
                  </a:lnTo>
                  <a:lnTo>
                    <a:pt x="1205" y="315"/>
                  </a:lnTo>
                  <a:lnTo>
                    <a:pt x="1209" y="313"/>
                  </a:lnTo>
                  <a:lnTo>
                    <a:pt x="1209" y="313"/>
                  </a:lnTo>
                  <a:lnTo>
                    <a:pt x="1215" y="309"/>
                  </a:lnTo>
                  <a:lnTo>
                    <a:pt x="1222" y="307"/>
                  </a:lnTo>
                  <a:lnTo>
                    <a:pt x="1228" y="306"/>
                  </a:lnTo>
                  <a:lnTo>
                    <a:pt x="1228" y="306"/>
                  </a:lnTo>
                  <a:lnTo>
                    <a:pt x="1213" y="313"/>
                  </a:lnTo>
                  <a:lnTo>
                    <a:pt x="1199" y="319"/>
                  </a:lnTo>
                  <a:lnTo>
                    <a:pt x="1184" y="329"/>
                  </a:lnTo>
                  <a:lnTo>
                    <a:pt x="1184" y="329"/>
                  </a:lnTo>
                  <a:lnTo>
                    <a:pt x="1184" y="327"/>
                  </a:lnTo>
                  <a:lnTo>
                    <a:pt x="1186" y="325"/>
                  </a:lnTo>
                  <a:lnTo>
                    <a:pt x="1184" y="323"/>
                  </a:lnTo>
                  <a:lnTo>
                    <a:pt x="1184" y="323"/>
                  </a:lnTo>
                  <a:lnTo>
                    <a:pt x="1182" y="323"/>
                  </a:lnTo>
                  <a:lnTo>
                    <a:pt x="1178" y="325"/>
                  </a:lnTo>
                  <a:lnTo>
                    <a:pt x="1176" y="327"/>
                  </a:lnTo>
                  <a:lnTo>
                    <a:pt x="1176" y="327"/>
                  </a:lnTo>
                  <a:lnTo>
                    <a:pt x="1176" y="329"/>
                  </a:lnTo>
                  <a:lnTo>
                    <a:pt x="1176" y="329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8" y="331"/>
                  </a:lnTo>
                  <a:lnTo>
                    <a:pt x="1174" y="332"/>
                  </a:lnTo>
                  <a:lnTo>
                    <a:pt x="1176" y="332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4" y="329"/>
                  </a:lnTo>
                  <a:lnTo>
                    <a:pt x="1172" y="329"/>
                  </a:lnTo>
                  <a:lnTo>
                    <a:pt x="1171" y="331"/>
                  </a:lnTo>
                  <a:lnTo>
                    <a:pt x="1171" y="331"/>
                  </a:lnTo>
                  <a:lnTo>
                    <a:pt x="1169" y="332"/>
                  </a:lnTo>
                  <a:lnTo>
                    <a:pt x="1167" y="332"/>
                  </a:lnTo>
                  <a:lnTo>
                    <a:pt x="1167" y="336"/>
                  </a:lnTo>
                  <a:lnTo>
                    <a:pt x="1167" y="336"/>
                  </a:lnTo>
                  <a:lnTo>
                    <a:pt x="1167" y="336"/>
                  </a:lnTo>
                  <a:lnTo>
                    <a:pt x="1169" y="336"/>
                  </a:lnTo>
                  <a:lnTo>
                    <a:pt x="1169" y="336"/>
                  </a:lnTo>
                  <a:lnTo>
                    <a:pt x="1169" y="336"/>
                  </a:lnTo>
                  <a:lnTo>
                    <a:pt x="1171" y="336"/>
                  </a:lnTo>
                  <a:lnTo>
                    <a:pt x="1161" y="342"/>
                  </a:lnTo>
                  <a:lnTo>
                    <a:pt x="1153" y="348"/>
                  </a:lnTo>
                  <a:lnTo>
                    <a:pt x="1146" y="354"/>
                  </a:lnTo>
                  <a:lnTo>
                    <a:pt x="1138" y="361"/>
                  </a:lnTo>
                  <a:lnTo>
                    <a:pt x="1130" y="367"/>
                  </a:lnTo>
                  <a:lnTo>
                    <a:pt x="1124" y="375"/>
                  </a:lnTo>
                  <a:lnTo>
                    <a:pt x="1117" y="380"/>
                  </a:lnTo>
                  <a:lnTo>
                    <a:pt x="1111" y="388"/>
                  </a:lnTo>
                  <a:lnTo>
                    <a:pt x="1105" y="396"/>
                  </a:lnTo>
                  <a:lnTo>
                    <a:pt x="1100" y="403"/>
                  </a:lnTo>
                  <a:lnTo>
                    <a:pt x="1094" y="411"/>
                  </a:lnTo>
                  <a:lnTo>
                    <a:pt x="1088" y="419"/>
                  </a:lnTo>
                  <a:lnTo>
                    <a:pt x="1082" y="427"/>
                  </a:lnTo>
                  <a:lnTo>
                    <a:pt x="1078" y="436"/>
                  </a:lnTo>
                  <a:lnTo>
                    <a:pt x="1073" y="444"/>
                  </a:lnTo>
                  <a:lnTo>
                    <a:pt x="1073" y="444"/>
                  </a:lnTo>
                  <a:lnTo>
                    <a:pt x="902" y="4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36720" y="3011040"/>
              <a:ext cx="828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201200" y="3058560"/>
              <a:ext cx="41400" cy="18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9" y="2"/>
                  </a:moveTo>
                  <a:lnTo>
                    <a:pt x="20" y="7"/>
                  </a:lnTo>
                  <a:lnTo>
                    <a:pt x="12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5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084200" y="3058560"/>
              <a:ext cx="51480" cy="1008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7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21" y="4"/>
                  </a:lnTo>
                  <a:lnTo>
                    <a:pt x="29" y="5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215960" y="3077280"/>
              <a:ext cx="29520" cy="169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0"/>
                  </a:moveTo>
                  <a:lnTo>
                    <a:pt x="15" y="6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061160" y="3068640"/>
              <a:ext cx="101160" cy="2268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71" y="10"/>
                  </a:moveTo>
                  <a:lnTo>
                    <a:pt x="66" y="1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9" y="2"/>
                  </a:lnTo>
                  <a:lnTo>
                    <a:pt x="50" y="6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905000" y="3137400"/>
              <a:ext cx="27000" cy="169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6"/>
                  </a:moveTo>
                  <a:lnTo>
                    <a:pt x="13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965120" y="3143520"/>
              <a:ext cx="54360" cy="1692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7" y="10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576240" y="3032640"/>
              <a:ext cx="972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195800" y="308592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6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31000" y="316080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586320" y="3044520"/>
              <a:ext cx="1891800" cy="333000"/>
            </a:xfrm>
            <a:custGeom>
              <a:avLst/>
              <a:gdLst/>
              <a:ahLst/>
              <a:rect l="l" t="t" r="r" b="b"/>
              <a:pathLst>
                <a:path w="1323" h="232">
                  <a:moveTo>
                    <a:pt x="146" y="25"/>
                  </a:moveTo>
                  <a:lnTo>
                    <a:pt x="296" y="48"/>
                  </a:lnTo>
                  <a:lnTo>
                    <a:pt x="346" y="54"/>
                  </a:lnTo>
                  <a:lnTo>
                    <a:pt x="396" y="62"/>
                  </a:lnTo>
                  <a:lnTo>
                    <a:pt x="446" y="69"/>
                  </a:lnTo>
                  <a:lnTo>
                    <a:pt x="496" y="75"/>
                  </a:lnTo>
                  <a:lnTo>
                    <a:pt x="546" y="81"/>
                  </a:lnTo>
                  <a:lnTo>
                    <a:pt x="546" y="81"/>
                  </a:lnTo>
                  <a:lnTo>
                    <a:pt x="597" y="86"/>
                  </a:lnTo>
                  <a:lnTo>
                    <a:pt x="647" y="94"/>
                  </a:lnTo>
                  <a:lnTo>
                    <a:pt x="699" y="102"/>
                  </a:lnTo>
                  <a:lnTo>
                    <a:pt x="749" y="110"/>
                  </a:lnTo>
                  <a:lnTo>
                    <a:pt x="801" y="117"/>
                  </a:lnTo>
                  <a:lnTo>
                    <a:pt x="853" y="123"/>
                  </a:lnTo>
                  <a:lnTo>
                    <a:pt x="853" y="123"/>
                  </a:lnTo>
                  <a:lnTo>
                    <a:pt x="943" y="136"/>
                  </a:lnTo>
                  <a:lnTo>
                    <a:pt x="1083" y="158"/>
                  </a:lnTo>
                  <a:lnTo>
                    <a:pt x="1125" y="165"/>
                  </a:lnTo>
                  <a:lnTo>
                    <a:pt x="1165" y="171"/>
                  </a:lnTo>
                  <a:lnTo>
                    <a:pt x="1208" y="179"/>
                  </a:lnTo>
                  <a:lnTo>
                    <a:pt x="1250" y="184"/>
                  </a:lnTo>
                  <a:lnTo>
                    <a:pt x="1292" y="190"/>
                  </a:lnTo>
                  <a:lnTo>
                    <a:pt x="1292" y="190"/>
                  </a:lnTo>
                  <a:lnTo>
                    <a:pt x="1302" y="192"/>
                  </a:lnTo>
                  <a:lnTo>
                    <a:pt x="1309" y="196"/>
                  </a:lnTo>
                  <a:lnTo>
                    <a:pt x="1317" y="204"/>
                  </a:lnTo>
                  <a:lnTo>
                    <a:pt x="1317" y="204"/>
                  </a:lnTo>
                  <a:lnTo>
                    <a:pt x="1317" y="213"/>
                  </a:lnTo>
                  <a:lnTo>
                    <a:pt x="1321" y="223"/>
                  </a:lnTo>
                  <a:lnTo>
                    <a:pt x="1323" y="231"/>
                  </a:lnTo>
                  <a:lnTo>
                    <a:pt x="1323" y="231"/>
                  </a:lnTo>
                  <a:lnTo>
                    <a:pt x="1319" y="232"/>
                  </a:lnTo>
                  <a:lnTo>
                    <a:pt x="1313" y="231"/>
                  </a:lnTo>
                  <a:lnTo>
                    <a:pt x="1308" y="229"/>
                  </a:lnTo>
                  <a:lnTo>
                    <a:pt x="1308" y="229"/>
                  </a:lnTo>
                  <a:lnTo>
                    <a:pt x="1269" y="219"/>
                  </a:lnTo>
                  <a:lnTo>
                    <a:pt x="1229" y="211"/>
                  </a:lnTo>
                  <a:lnTo>
                    <a:pt x="1189" y="206"/>
                  </a:lnTo>
                  <a:lnTo>
                    <a:pt x="1148" y="198"/>
                  </a:lnTo>
                  <a:lnTo>
                    <a:pt x="1108" y="192"/>
                  </a:lnTo>
                  <a:lnTo>
                    <a:pt x="1108" y="192"/>
                  </a:lnTo>
                  <a:lnTo>
                    <a:pt x="1106" y="194"/>
                  </a:lnTo>
                  <a:lnTo>
                    <a:pt x="1045" y="186"/>
                  </a:lnTo>
                  <a:lnTo>
                    <a:pt x="981" y="183"/>
                  </a:lnTo>
                  <a:lnTo>
                    <a:pt x="920" y="175"/>
                  </a:lnTo>
                  <a:lnTo>
                    <a:pt x="920" y="175"/>
                  </a:lnTo>
                  <a:lnTo>
                    <a:pt x="874" y="167"/>
                  </a:lnTo>
                  <a:lnTo>
                    <a:pt x="828" y="159"/>
                  </a:lnTo>
                  <a:lnTo>
                    <a:pt x="780" y="154"/>
                  </a:lnTo>
                  <a:lnTo>
                    <a:pt x="734" y="146"/>
                  </a:lnTo>
                  <a:lnTo>
                    <a:pt x="686" y="142"/>
                  </a:lnTo>
                  <a:lnTo>
                    <a:pt x="686" y="142"/>
                  </a:lnTo>
                  <a:lnTo>
                    <a:pt x="647" y="131"/>
                  </a:lnTo>
                  <a:lnTo>
                    <a:pt x="607" y="121"/>
                  </a:lnTo>
                  <a:lnTo>
                    <a:pt x="567" y="111"/>
                  </a:lnTo>
                  <a:lnTo>
                    <a:pt x="567" y="111"/>
                  </a:lnTo>
                  <a:lnTo>
                    <a:pt x="499" y="104"/>
                  </a:lnTo>
                  <a:lnTo>
                    <a:pt x="432" y="94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36" y="77"/>
                  </a:lnTo>
                  <a:lnTo>
                    <a:pt x="307" y="71"/>
                  </a:lnTo>
                  <a:lnTo>
                    <a:pt x="281" y="63"/>
                  </a:lnTo>
                  <a:lnTo>
                    <a:pt x="252" y="58"/>
                  </a:lnTo>
                  <a:lnTo>
                    <a:pt x="223" y="54"/>
                  </a:lnTo>
                  <a:lnTo>
                    <a:pt x="223" y="54"/>
                  </a:lnTo>
                  <a:lnTo>
                    <a:pt x="206" y="50"/>
                  </a:lnTo>
                  <a:lnTo>
                    <a:pt x="188" y="48"/>
                  </a:lnTo>
                  <a:lnTo>
                    <a:pt x="173" y="46"/>
                  </a:lnTo>
                  <a:lnTo>
                    <a:pt x="173" y="46"/>
                  </a:lnTo>
                  <a:lnTo>
                    <a:pt x="125" y="35"/>
                  </a:lnTo>
                  <a:lnTo>
                    <a:pt x="77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18" y="14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6"/>
                  </a:lnTo>
                  <a:lnTo>
                    <a:pt x="96" y="1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923360" y="3154680"/>
              <a:ext cx="1152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946400" y="3160800"/>
              <a:ext cx="12960" cy="10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962240" y="3160800"/>
              <a:ext cx="5760" cy="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970880" y="3163680"/>
              <a:ext cx="56880" cy="684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40" y="3"/>
                  </a:moveTo>
                  <a:lnTo>
                    <a:pt x="4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3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905000" y="3160800"/>
              <a:ext cx="147240" cy="51480"/>
            </a:xfrm>
            <a:custGeom>
              <a:avLst/>
              <a:gdLst/>
              <a:ahLst/>
              <a:rect l="l" t="t" r="r" b="b"/>
              <a:pathLst>
                <a:path w="103" h="36">
                  <a:moveTo>
                    <a:pt x="11" y="4"/>
                  </a:moveTo>
                  <a:lnTo>
                    <a:pt x="88" y="13"/>
                  </a:lnTo>
                  <a:lnTo>
                    <a:pt x="90" y="13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6" y="7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8" y="11"/>
                  </a:lnTo>
                  <a:lnTo>
                    <a:pt x="90" y="17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88" y="25"/>
                  </a:lnTo>
                  <a:lnTo>
                    <a:pt x="92" y="29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8" y="29"/>
                  </a:lnTo>
                  <a:lnTo>
                    <a:pt x="80" y="25"/>
                  </a:lnTo>
                  <a:lnTo>
                    <a:pt x="82" y="17"/>
                  </a:lnTo>
                  <a:lnTo>
                    <a:pt x="82" y="17"/>
                  </a:lnTo>
                  <a:lnTo>
                    <a:pt x="80" y="1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556440" y="3049920"/>
              <a:ext cx="8280" cy="158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576240" y="3068640"/>
              <a:ext cx="454680" cy="307080"/>
            </a:xfrm>
            <a:custGeom>
              <a:avLst/>
              <a:gdLst/>
              <a:ahLst/>
              <a:rect l="l" t="t" r="r" b="b"/>
              <a:pathLst>
                <a:path w="318" h="214">
                  <a:moveTo>
                    <a:pt x="128" y="27"/>
                  </a:moveTo>
                  <a:lnTo>
                    <a:pt x="159" y="37"/>
                  </a:lnTo>
                  <a:lnTo>
                    <a:pt x="190" y="46"/>
                  </a:lnTo>
                  <a:lnTo>
                    <a:pt x="220" y="54"/>
                  </a:lnTo>
                  <a:lnTo>
                    <a:pt x="251" y="64"/>
                  </a:lnTo>
                  <a:lnTo>
                    <a:pt x="282" y="73"/>
                  </a:lnTo>
                  <a:lnTo>
                    <a:pt x="311" y="85"/>
                  </a:lnTo>
                  <a:lnTo>
                    <a:pt x="311" y="85"/>
                  </a:lnTo>
                  <a:lnTo>
                    <a:pt x="314" y="96"/>
                  </a:lnTo>
                  <a:lnTo>
                    <a:pt x="316" y="108"/>
                  </a:lnTo>
                  <a:lnTo>
                    <a:pt x="318" y="119"/>
                  </a:lnTo>
                  <a:lnTo>
                    <a:pt x="318" y="119"/>
                  </a:lnTo>
                  <a:lnTo>
                    <a:pt x="314" y="129"/>
                  </a:lnTo>
                  <a:lnTo>
                    <a:pt x="313" y="137"/>
                  </a:lnTo>
                  <a:lnTo>
                    <a:pt x="305" y="142"/>
                  </a:lnTo>
                  <a:lnTo>
                    <a:pt x="305" y="142"/>
                  </a:lnTo>
                  <a:lnTo>
                    <a:pt x="295" y="139"/>
                  </a:lnTo>
                  <a:lnTo>
                    <a:pt x="286" y="135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76" y="150"/>
                  </a:lnTo>
                  <a:lnTo>
                    <a:pt x="282" y="167"/>
                  </a:lnTo>
                  <a:lnTo>
                    <a:pt x="284" y="185"/>
                  </a:lnTo>
                  <a:lnTo>
                    <a:pt x="284" y="185"/>
                  </a:lnTo>
                  <a:lnTo>
                    <a:pt x="288" y="194"/>
                  </a:lnTo>
                  <a:lnTo>
                    <a:pt x="286" y="204"/>
                  </a:lnTo>
                  <a:lnTo>
                    <a:pt x="282" y="214"/>
                  </a:lnTo>
                  <a:lnTo>
                    <a:pt x="282" y="214"/>
                  </a:lnTo>
                  <a:lnTo>
                    <a:pt x="276" y="210"/>
                  </a:lnTo>
                  <a:lnTo>
                    <a:pt x="268" y="206"/>
                  </a:lnTo>
                  <a:lnTo>
                    <a:pt x="263" y="202"/>
                  </a:lnTo>
                  <a:lnTo>
                    <a:pt x="263" y="202"/>
                  </a:lnTo>
                  <a:lnTo>
                    <a:pt x="255" y="194"/>
                  </a:lnTo>
                  <a:lnTo>
                    <a:pt x="245" y="187"/>
                  </a:lnTo>
                  <a:lnTo>
                    <a:pt x="238" y="179"/>
                  </a:lnTo>
                  <a:lnTo>
                    <a:pt x="228" y="173"/>
                  </a:lnTo>
                  <a:lnTo>
                    <a:pt x="220" y="166"/>
                  </a:lnTo>
                  <a:lnTo>
                    <a:pt x="211" y="160"/>
                  </a:lnTo>
                  <a:lnTo>
                    <a:pt x="203" y="154"/>
                  </a:lnTo>
                  <a:lnTo>
                    <a:pt x="194" y="146"/>
                  </a:lnTo>
                  <a:lnTo>
                    <a:pt x="184" y="141"/>
                  </a:lnTo>
                  <a:lnTo>
                    <a:pt x="176" y="133"/>
                  </a:lnTo>
                  <a:lnTo>
                    <a:pt x="167" y="127"/>
                  </a:lnTo>
                  <a:lnTo>
                    <a:pt x="159" y="119"/>
                  </a:lnTo>
                  <a:lnTo>
                    <a:pt x="159" y="119"/>
                  </a:lnTo>
                  <a:lnTo>
                    <a:pt x="148" y="114"/>
                  </a:lnTo>
                  <a:lnTo>
                    <a:pt x="138" y="106"/>
                  </a:lnTo>
                  <a:lnTo>
                    <a:pt x="126" y="98"/>
                  </a:lnTo>
                  <a:lnTo>
                    <a:pt x="117" y="93"/>
                  </a:lnTo>
                  <a:lnTo>
                    <a:pt x="105" y="85"/>
                  </a:lnTo>
                  <a:lnTo>
                    <a:pt x="94" y="81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82" y="79"/>
                  </a:lnTo>
                  <a:lnTo>
                    <a:pt x="78" y="79"/>
                  </a:lnTo>
                  <a:lnTo>
                    <a:pt x="76" y="77"/>
                  </a:lnTo>
                  <a:lnTo>
                    <a:pt x="76" y="77"/>
                  </a:lnTo>
                  <a:lnTo>
                    <a:pt x="75" y="77"/>
                  </a:lnTo>
                  <a:lnTo>
                    <a:pt x="73" y="75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1"/>
                  </a:lnTo>
                  <a:lnTo>
                    <a:pt x="71" y="69"/>
                  </a:lnTo>
                  <a:lnTo>
                    <a:pt x="69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57" y="66"/>
                  </a:lnTo>
                  <a:lnTo>
                    <a:pt x="48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0" y="52"/>
                  </a:lnTo>
                  <a:lnTo>
                    <a:pt x="21" y="4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7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5" y="41"/>
                  </a:lnTo>
                  <a:lnTo>
                    <a:pt x="9" y="39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48" y="8"/>
                  </a:lnTo>
                  <a:lnTo>
                    <a:pt x="75" y="16"/>
                  </a:lnTo>
                  <a:lnTo>
                    <a:pt x="101" y="21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047920" y="3191040"/>
              <a:ext cx="6840" cy="111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550680" y="3074400"/>
              <a:ext cx="5760" cy="11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915080" y="3188160"/>
              <a:ext cx="112680" cy="273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68" y="10"/>
                  </a:moveTo>
                  <a:lnTo>
                    <a:pt x="71" y="11"/>
                  </a:lnTo>
                  <a:lnTo>
                    <a:pt x="75" y="15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8" y="10"/>
                  </a:ln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549240" y="3094560"/>
              <a:ext cx="396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35720" y="3278520"/>
              <a:ext cx="29520" cy="169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4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0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99720" y="3272760"/>
              <a:ext cx="1152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558960" y="3121920"/>
              <a:ext cx="1440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4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90000" y="3292920"/>
              <a:ext cx="3960" cy="11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540600" y="3140640"/>
              <a:ext cx="1511640" cy="817200"/>
            </a:xfrm>
            <a:custGeom>
              <a:avLst/>
              <a:gdLst/>
              <a:ahLst/>
              <a:rect l="l" t="t" r="r" b="b"/>
              <a:pathLst>
                <a:path w="1057" h="569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42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75" y="23"/>
                  </a:lnTo>
                  <a:lnTo>
                    <a:pt x="86" y="29"/>
                  </a:lnTo>
                  <a:lnTo>
                    <a:pt x="96" y="35"/>
                  </a:lnTo>
                  <a:lnTo>
                    <a:pt x="105" y="41"/>
                  </a:lnTo>
                  <a:lnTo>
                    <a:pt x="117" y="48"/>
                  </a:lnTo>
                  <a:lnTo>
                    <a:pt x="126" y="54"/>
                  </a:lnTo>
                  <a:lnTo>
                    <a:pt x="136" y="62"/>
                  </a:lnTo>
                  <a:lnTo>
                    <a:pt x="146" y="69"/>
                  </a:lnTo>
                  <a:lnTo>
                    <a:pt x="153" y="79"/>
                  </a:lnTo>
                  <a:lnTo>
                    <a:pt x="163" y="87"/>
                  </a:lnTo>
                  <a:lnTo>
                    <a:pt x="171" y="96"/>
                  </a:lnTo>
                  <a:lnTo>
                    <a:pt x="178" y="106"/>
                  </a:lnTo>
                  <a:lnTo>
                    <a:pt x="186" y="114"/>
                  </a:lnTo>
                  <a:lnTo>
                    <a:pt x="194" y="123"/>
                  </a:lnTo>
                  <a:lnTo>
                    <a:pt x="199" y="135"/>
                  </a:lnTo>
                  <a:lnTo>
                    <a:pt x="207" y="144"/>
                  </a:lnTo>
                  <a:lnTo>
                    <a:pt x="213" y="154"/>
                  </a:lnTo>
                  <a:lnTo>
                    <a:pt x="219" y="165"/>
                  </a:lnTo>
                  <a:lnTo>
                    <a:pt x="224" y="175"/>
                  </a:lnTo>
                  <a:lnTo>
                    <a:pt x="228" y="187"/>
                  </a:lnTo>
                  <a:lnTo>
                    <a:pt x="232" y="196"/>
                  </a:lnTo>
                  <a:lnTo>
                    <a:pt x="236" y="208"/>
                  </a:lnTo>
                  <a:lnTo>
                    <a:pt x="240" y="219"/>
                  </a:lnTo>
                  <a:lnTo>
                    <a:pt x="240" y="219"/>
                  </a:lnTo>
                  <a:lnTo>
                    <a:pt x="242" y="227"/>
                  </a:lnTo>
                  <a:lnTo>
                    <a:pt x="242" y="237"/>
                  </a:lnTo>
                  <a:lnTo>
                    <a:pt x="244" y="244"/>
                  </a:lnTo>
                  <a:lnTo>
                    <a:pt x="244" y="244"/>
                  </a:lnTo>
                  <a:lnTo>
                    <a:pt x="278" y="250"/>
                  </a:lnTo>
                  <a:lnTo>
                    <a:pt x="311" y="256"/>
                  </a:lnTo>
                  <a:lnTo>
                    <a:pt x="345" y="261"/>
                  </a:lnTo>
                  <a:lnTo>
                    <a:pt x="345" y="261"/>
                  </a:lnTo>
                  <a:lnTo>
                    <a:pt x="530" y="292"/>
                  </a:lnTo>
                  <a:lnTo>
                    <a:pt x="758" y="331"/>
                  </a:lnTo>
                  <a:lnTo>
                    <a:pt x="1057" y="382"/>
                  </a:lnTo>
                  <a:lnTo>
                    <a:pt x="1054" y="384"/>
                  </a:lnTo>
                  <a:lnTo>
                    <a:pt x="944" y="382"/>
                  </a:lnTo>
                  <a:lnTo>
                    <a:pt x="835" y="373"/>
                  </a:lnTo>
                  <a:lnTo>
                    <a:pt x="729" y="354"/>
                  </a:lnTo>
                  <a:lnTo>
                    <a:pt x="729" y="354"/>
                  </a:lnTo>
                  <a:lnTo>
                    <a:pt x="685" y="348"/>
                  </a:lnTo>
                  <a:lnTo>
                    <a:pt x="639" y="342"/>
                  </a:lnTo>
                  <a:lnTo>
                    <a:pt x="595" y="344"/>
                  </a:lnTo>
                  <a:lnTo>
                    <a:pt x="595" y="344"/>
                  </a:lnTo>
                  <a:lnTo>
                    <a:pt x="589" y="350"/>
                  </a:lnTo>
                  <a:lnTo>
                    <a:pt x="587" y="357"/>
                  </a:lnTo>
                  <a:lnTo>
                    <a:pt x="589" y="363"/>
                  </a:lnTo>
                  <a:lnTo>
                    <a:pt x="591" y="371"/>
                  </a:lnTo>
                  <a:lnTo>
                    <a:pt x="593" y="379"/>
                  </a:lnTo>
                  <a:lnTo>
                    <a:pt x="597" y="384"/>
                  </a:lnTo>
                  <a:lnTo>
                    <a:pt x="601" y="392"/>
                  </a:lnTo>
                  <a:lnTo>
                    <a:pt x="601" y="392"/>
                  </a:lnTo>
                  <a:lnTo>
                    <a:pt x="601" y="394"/>
                  </a:lnTo>
                  <a:lnTo>
                    <a:pt x="602" y="394"/>
                  </a:lnTo>
                  <a:lnTo>
                    <a:pt x="604" y="394"/>
                  </a:lnTo>
                  <a:lnTo>
                    <a:pt x="604" y="394"/>
                  </a:lnTo>
                  <a:lnTo>
                    <a:pt x="606" y="392"/>
                  </a:lnTo>
                  <a:lnTo>
                    <a:pt x="604" y="388"/>
                  </a:lnTo>
                  <a:lnTo>
                    <a:pt x="604" y="384"/>
                  </a:lnTo>
                  <a:lnTo>
                    <a:pt x="604" y="384"/>
                  </a:lnTo>
                  <a:lnTo>
                    <a:pt x="599" y="373"/>
                  </a:lnTo>
                  <a:lnTo>
                    <a:pt x="593" y="363"/>
                  </a:lnTo>
                  <a:lnTo>
                    <a:pt x="597" y="350"/>
                  </a:lnTo>
                  <a:lnTo>
                    <a:pt x="597" y="350"/>
                  </a:lnTo>
                  <a:lnTo>
                    <a:pt x="631" y="348"/>
                  </a:lnTo>
                  <a:lnTo>
                    <a:pt x="666" y="350"/>
                  </a:lnTo>
                  <a:lnTo>
                    <a:pt x="698" y="359"/>
                  </a:lnTo>
                  <a:lnTo>
                    <a:pt x="729" y="371"/>
                  </a:lnTo>
                  <a:lnTo>
                    <a:pt x="729" y="371"/>
                  </a:lnTo>
                  <a:lnTo>
                    <a:pt x="731" y="379"/>
                  </a:lnTo>
                  <a:lnTo>
                    <a:pt x="727" y="386"/>
                  </a:lnTo>
                  <a:lnTo>
                    <a:pt x="721" y="392"/>
                  </a:lnTo>
                  <a:lnTo>
                    <a:pt x="721" y="392"/>
                  </a:lnTo>
                  <a:lnTo>
                    <a:pt x="700" y="427"/>
                  </a:lnTo>
                  <a:lnTo>
                    <a:pt x="693" y="425"/>
                  </a:lnTo>
                  <a:lnTo>
                    <a:pt x="685" y="425"/>
                  </a:lnTo>
                  <a:lnTo>
                    <a:pt x="679" y="427"/>
                  </a:lnTo>
                  <a:lnTo>
                    <a:pt x="679" y="427"/>
                  </a:lnTo>
                  <a:lnTo>
                    <a:pt x="618" y="415"/>
                  </a:lnTo>
                  <a:lnTo>
                    <a:pt x="616" y="415"/>
                  </a:lnTo>
                  <a:lnTo>
                    <a:pt x="616" y="417"/>
                  </a:lnTo>
                  <a:lnTo>
                    <a:pt x="616" y="419"/>
                  </a:lnTo>
                  <a:lnTo>
                    <a:pt x="616" y="419"/>
                  </a:lnTo>
                  <a:lnTo>
                    <a:pt x="618" y="421"/>
                  </a:lnTo>
                  <a:lnTo>
                    <a:pt x="652" y="427"/>
                  </a:lnTo>
                  <a:lnTo>
                    <a:pt x="685" y="432"/>
                  </a:lnTo>
                  <a:lnTo>
                    <a:pt x="716" y="440"/>
                  </a:lnTo>
                  <a:lnTo>
                    <a:pt x="716" y="440"/>
                  </a:lnTo>
                  <a:lnTo>
                    <a:pt x="716" y="482"/>
                  </a:lnTo>
                  <a:lnTo>
                    <a:pt x="714" y="526"/>
                  </a:lnTo>
                  <a:lnTo>
                    <a:pt x="712" y="569"/>
                  </a:lnTo>
                  <a:lnTo>
                    <a:pt x="712" y="569"/>
                  </a:lnTo>
                  <a:lnTo>
                    <a:pt x="675" y="565"/>
                  </a:lnTo>
                  <a:lnTo>
                    <a:pt x="641" y="559"/>
                  </a:lnTo>
                  <a:lnTo>
                    <a:pt x="606" y="551"/>
                  </a:lnTo>
                  <a:lnTo>
                    <a:pt x="606" y="551"/>
                  </a:lnTo>
                  <a:lnTo>
                    <a:pt x="604" y="550"/>
                  </a:lnTo>
                  <a:lnTo>
                    <a:pt x="604" y="502"/>
                  </a:lnTo>
                  <a:lnTo>
                    <a:pt x="604" y="454"/>
                  </a:lnTo>
                  <a:lnTo>
                    <a:pt x="606" y="407"/>
                  </a:lnTo>
                  <a:lnTo>
                    <a:pt x="606" y="407"/>
                  </a:lnTo>
                  <a:lnTo>
                    <a:pt x="612" y="396"/>
                  </a:lnTo>
                  <a:lnTo>
                    <a:pt x="643" y="400"/>
                  </a:lnTo>
                  <a:lnTo>
                    <a:pt x="673" y="406"/>
                  </a:lnTo>
                  <a:lnTo>
                    <a:pt x="704" y="411"/>
                  </a:lnTo>
                  <a:lnTo>
                    <a:pt x="704" y="411"/>
                  </a:lnTo>
                  <a:lnTo>
                    <a:pt x="708" y="398"/>
                  </a:lnTo>
                  <a:lnTo>
                    <a:pt x="716" y="386"/>
                  </a:lnTo>
                  <a:lnTo>
                    <a:pt x="723" y="373"/>
                  </a:lnTo>
                  <a:lnTo>
                    <a:pt x="723" y="373"/>
                  </a:lnTo>
                  <a:lnTo>
                    <a:pt x="702" y="361"/>
                  </a:lnTo>
                  <a:lnTo>
                    <a:pt x="677" y="356"/>
                  </a:lnTo>
                  <a:lnTo>
                    <a:pt x="652" y="352"/>
                  </a:lnTo>
                  <a:lnTo>
                    <a:pt x="625" y="350"/>
                  </a:lnTo>
                  <a:lnTo>
                    <a:pt x="625" y="350"/>
                  </a:lnTo>
                  <a:lnTo>
                    <a:pt x="618" y="352"/>
                  </a:lnTo>
                  <a:lnTo>
                    <a:pt x="610" y="354"/>
                  </a:lnTo>
                  <a:lnTo>
                    <a:pt x="606" y="359"/>
                  </a:lnTo>
                  <a:lnTo>
                    <a:pt x="606" y="359"/>
                  </a:lnTo>
                  <a:lnTo>
                    <a:pt x="604" y="369"/>
                  </a:lnTo>
                  <a:lnTo>
                    <a:pt x="604" y="377"/>
                  </a:lnTo>
                  <a:lnTo>
                    <a:pt x="604" y="386"/>
                  </a:lnTo>
                  <a:lnTo>
                    <a:pt x="604" y="386"/>
                  </a:lnTo>
                  <a:lnTo>
                    <a:pt x="606" y="392"/>
                  </a:lnTo>
                  <a:lnTo>
                    <a:pt x="604" y="398"/>
                  </a:lnTo>
                  <a:lnTo>
                    <a:pt x="601" y="404"/>
                  </a:lnTo>
                  <a:lnTo>
                    <a:pt x="601" y="404"/>
                  </a:lnTo>
                  <a:lnTo>
                    <a:pt x="599" y="404"/>
                  </a:lnTo>
                  <a:lnTo>
                    <a:pt x="595" y="404"/>
                  </a:lnTo>
                  <a:lnTo>
                    <a:pt x="593" y="406"/>
                  </a:lnTo>
                  <a:lnTo>
                    <a:pt x="593" y="406"/>
                  </a:lnTo>
                  <a:lnTo>
                    <a:pt x="595" y="407"/>
                  </a:lnTo>
                  <a:lnTo>
                    <a:pt x="597" y="407"/>
                  </a:lnTo>
                  <a:lnTo>
                    <a:pt x="601" y="407"/>
                  </a:lnTo>
                  <a:lnTo>
                    <a:pt x="601" y="407"/>
                  </a:lnTo>
                  <a:lnTo>
                    <a:pt x="601" y="409"/>
                  </a:lnTo>
                  <a:lnTo>
                    <a:pt x="601" y="413"/>
                  </a:lnTo>
                  <a:lnTo>
                    <a:pt x="601" y="415"/>
                  </a:lnTo>
                  <a:lnTo>
                    <a:pt x="601" y="415"/>
                  </a:lnTo>
                  <a:lnTo>
                    <a:pt x="445" y="384"/>
                  </a:lnTo>
                  <a:lnTo>
                    <a:pt x="278" y="356"/>
                  </a:lnTo>
                  <a:lnTo>
                    <a:pt x="109" y="329"/>
                  </a:lnTo>
                  <a:lnTo>
                    <a:pt x="98" y="329"/>
                  </a:lnTo>
                  <a:lnTo>
                    <a:pt x="88" y="325"/>
                  </a:lnTo>
                  <a:lnTo>
                    <a:pt x="78" y="321"/>
                  </a:lnTo>
                  <a:lnTo>
                    <a:pt x="69" y="315"/>
                  </a:lnTo>
                  <a:lnTo>
                    <a:pt x="61" y="309"/>
                  </a:lnTo>
                  <a:lnTo>
                    <a:pt x="54" y="302"/>
                  </a:lnTo>
                  <a:lnTo>
                    <a:pt x="46" y="294"/>
                  </a:lnTo>
                  <a:lnTo>
                    <a:pt x="40" y="286"/>
                  </a:lnTo>
                  <a:lnTo>
                    <a:pt x="34" y="277"/>
                  </a:lnTo>
                  <a:lnTo>
                    <a:pt x="29" y="267"/>
                  </a:lnTo>
                  <a:lnTo>
                    <a:pt x="23" y="258"/>
                  </a:lnTo>
                  <a:lnTo>
                    <a:pt x="17" y="248"/>
                  </a:lnTo>
                  <a:lnTo>
                    <a:pt x="13" y="240"/>
                  </a:lnTo>
                  <a:lnTo>
                    <a:pt x="9" y="231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0" y="171"/>
                  </a:lnTo>
                  <a:lnTo>
                    <a:pt x="0" y="11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494320" y="3307320"/>
              <a:ext cx="32400" cy="495360"/>
            </a:xfrm>
            <a:custGeom>
              <a:avLst/>
              <a:gdLst/>
              <a:ahLst/>
              <a:rect l="l" t="t" r="r" b="b"/>
              <a:pathLst>
                <a:path w="23" h="345">
                  <a:moveTo>
                    <a:pt x="23" y="5"/>
                  </a:moveTo>
                  <a:lnTo>
                    <a:pt x="23" y="7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4" y="11"/>
                  </a:lnTo>
                  <a:lnTo>
                    <a:pt x="18" y="19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2" y="288"/>
                  </a:lnTo>
                  <a:lnTo>
                    <a:pt x="12" y="345"/>
                  </a:lnTo>
                  <a:lnTo>
                    <a:pt x="10" y="324"/>
                  </a:lnTo>
                  <a:lnTo>
                    <a:pt x="8" y="303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28"/>
                  </a:lnTo>
                  <a:lnTo>
                    <a:pt x="4" y="174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4" y="86"/>
                  </a:lnTo>
                  <a:lnTo>
                    <a:pt x="6" y="5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10" y="9"/>
                  </a:lnTo>
                  <a:lnTo>
                    <a:pt x="14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481360" y="330840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549240" y="3151800"/>
              <a:ext cx="1080" cy="86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481360" y="33289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549240" y="3173760"/>
              <a:ext cx="1080" cy="82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696480" y="318492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719160" y="3199320"/>
              <a:ext cx="1296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5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78480" y="335016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4"/>
                  </a:move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541480" y="3356280"/>
              <a:ext cx="21240" cy="356040"/>
            </a:xfrm>
            <a:custGeom>
              <a:avLst/>
              <a:gdLst/>
              <a:ahLst/>
              <a:rect l="l" t="t" r="r" b="b"/>
              <a:pathLst>
                <a:path w="15" h="248">
                  <a:moveTo>
                    <a:pt x="12" y="42"/>
                  </a:moveTo>
                  <a:lnTo>
                    <a:pt x="13" y="83"/>
                  </a:lnTo>
                  <a:lnTo>
                    <a:pt x="13" y="125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2" y="171"/>
                  </a:lnTo>
                  <a:lnTo>
                    <a:pt x="8" y="198"/>
                  </a:lnTo>
                  <a:lnTo>
                    <a:pt x="6" y="223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46"/>
                  </a:lnTo>
                  <a:lnTo>
                    <a:pt x="2" y="0"/>
                  </a:lnTo>
                  <a:lnTo>
                    <a:pt x="4" y="15"/>
                  </a:lnTo>
                  <a:lnTo>
                    <a:pt x="6" y="29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40760" y="3218040"/>
              <a:ext cx="1152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46360" y="32065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753720" y="3229560"/>
              <a:ext cx="11160" cy="9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7"/>
                  </a:moveTo>
                  <a:lnTo>
                    <a:pt x="6" y="7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484240" y="3373560"/>
              <a:ext cx="288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546360" y="3226680"/>
              <a:ext cx="2880" cy="8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771000" y="324252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81360" y="338904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785040" y="3262680"/>
              <a:ext cx="12960" cy="100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6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49240" y="3242520"/>
              <a:ext cx="1080" cy="11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800880" y="327564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6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546360" y="326268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6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815280" y="3292920"/>
              <a:ext cx="9720" cy="11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6"/>
                  </a:moveTo>
                  <a:lnTo>
                    <a:pt x="7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546360" y="32785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827880" y="3311640"/>
              <a:ext cx="1152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478480" y="3446280"/>
              <a:ext cx="5760" cy="144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535720" y="3461040"/>
              <a:ext cx="1080" cy="82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42640" y="3331800"/>
              <a:ext cx="828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7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855240" y="3353040"/>
              <a:ext cx="864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546360" y="333720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863880" y="3370320"/>
              <a:ext cx="828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198040" y="3488040"/>
              <a:ext cx="1116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184000" y="349668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872520" y="3391920"/>
              <a:ext cx="864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71040" y="3505320"/>
              <a:ext cx="1116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546360" y="337608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594960" y="3391920"/>
              <a:ext cx="455760" cy="218160"/>
            </a:xfrm>
            <a:custGeom>
              <a:avLst/>
              <a:gdLst/>
              <a:ahLst/>
              <a:rect l="l" t="t" r="r" b="b"/>
              <a:pathLst>
                <a:path w="319" h="152">
                  <a:moveTo>
                    <a:pt x="161" y="92"/>
                  </a:moveTo>
                  <a:lnTo>
                    <a:pt x="207" y="104"/>
                  </a:lnTo>
                  <a:lnTo>
                    <a:pt x="254" y="113"/>
                  </a:lnTo>
                  <a:lnTo>
                    <a:pt x="300" y="123"/>
                  </a:lnTo>
                  <a:lnTo>
                    <a:pt x="300" y="123"/>
                  </a:lnTo>
                  <a:lnTo>
                    <a:pt x="307" y="123"/>
                  </a:lnTo>
                  <a:lnTo>
                    <a:pt x="313" y="123"/>
                  </a:lnTo>
                  <a:lnTo>
                    <a:pt x="319" y="127"/>
                  </a:lnTo>
                  <a:lnTo>
                    <a:pt x="319" y="127"/>
                  </a:lnTo>
                  <a:lnTo>
                    <a:pt x="319" y="134"/>
                  </a:lnTo>
                  <a:lnTo>
                    <a:pt x="317" y="14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01" y="152"/>
                  </a:lnTo>
                  <a:lnTo>
                    <a:pt x="290" y="148"/>
                  </a:lnTo>
                  <a:lnTo>
                    <a:pt x="278" y="146"/>
                  </a:lnTo>
                  <a:lnTo>
                    <a:pt x="278" y="146"/>
                  </a:lnTo>
                  <a:lnTo>
                    <a:pt x="219" y="140"/>
                  </a:lnTo>
                  <a:lnTo>
                    <a:pt x="159" y="136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83" y="125"/>
                  </a:lnTo>
                  <a:lnTo>
                    <a:pt x="65" y="117"/>
                  </a:lnTo>
                  <a:lnTo>
                    <a:pt x="50" y="108"/>
                  </a:lnTo>
                  <a:lnTo>
                    <a:pt x="33" y="100"/>
                  </a:lnTo>
                  <a:lnTo>
                    <a:pt x="33" y="100"/>
                  </a:lnTo>
                  <a:lnTo>
                    <a:pt x="23" y="92"/>
                  </a:lnTo>
                  <a:lnTo>
                    <a:pt x="16" y="85"/>
                  </a:lnTo>
                  <a:lnTo>
                    <a:pt x="8" y="75"/>
                  </a:lnTo>
                  <a:lnTo>
                    <a:pt x="2" y="65"/>
                  </a:lnTo>
                  <a:lnTo>
                    <a:pt x="2" y="65"/>
                  </a:lnTo>
                  <a:lnTo>
                    <a:pt x="0" y="44"/>
                  </a:lnTo>
                  <a:lnTo>
                    <a:pt x="0" y="21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9" y="23"/>
                  </a:lnTo>
                  <a:lnTo>
                    <a:pt x="48" y="31"/>
                  </a:lnTo>
                  <a:lnTo>
                    <a:pt x="56" y="38"/>
                  </a:lnTo>
                  <a:lnTo>
                    <a:pt x="65" y="44"/>
                  </a:lnTo>
                  <a:lnTo>
                    <a:pt x="75" y="50"/>
                  </a:lnTo>
                  <a:lnTo>
                    <a:pt x="83" y="56"/>
                  </a:lnTo>
                  <a:lnTo>
                    <a:pt x="92" y="60"/>
                  </a:lnTo>
                  <a:lnTo>
                    <a:pt x="102" y="65"/>
                  </a:lnTo>
                  <a:lnTo>
                    <a:pt x="113" y="69"/>
                  </a:lnTo>
                  <a:lnTo>
                    <a:pt x="123" y="73"/>
                  </a:lnTo>
                  <a:lnTo>
                    <a:pt x="133" y="79"/>
                  </a:lnTo>
                  <a:lnTo>
                    <a:pt x="142" y="83"/>
                  </a:lnTo>
                  <a:lnTo>
                    <a:pt x="152" y="86"/>
                  </a:lnTo>
                  <a:lnTo>
                    <a:pt x="16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156640" y="3521160"/>
              <a:ext cx="11160" cy="82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883680" y="341640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146560" y="3532680"/>
              <a:ext cx="6840" cy="86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546360" y="3400560"/>
              <a:ext cx="3960" cy="129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91240" y="3439080"/>
              <a:ext cx="5400" cy="158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9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132520" y="3544200"/>
              <a:ext cx="1116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6" y="4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549240" y="3427920"/>
              <a:ext cx="3960" cy="86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121000" y="3557160"/>
              <a:ext cx="828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2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535720" y="3596040"/>
              <a:ext cx="2880" cy="86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893760" y="3461040"/>
              <a:ext cx="36000" cy="24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6" y="1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15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553560" y="3445200"/>
              <a:ext cx="2880" cy="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3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108040" y="3574440"/>
              <a:ext cx="8640" cy="100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938040" y="348264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62520" y="34855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88080" y="3488040"/>
              <a:ext cx="12960" cy="8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9" y="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12560" y="349380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033800" y="349992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064040" y="350244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92480" y="35053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11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558960" y="346104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4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096520" y="3589920"/>
              <a:ext cx="828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19840" y="3511080"/>
              <a:ext cx="15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3"/>
                  </a:moveTo>
                  <a:lnTo>
                    <a:pt x="7" y="5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44320" y="3515400"/>
              <a:ext cx="21240" cy="86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6"/>
                  </a:moveTo>
                  <a:lnTo>
                    <a:pt x="10" y="6"/>
                  </a:lnTo>
                  <a:lnTo>
                    <a:pt x="6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71320" y="352116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94000" y="35269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7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218480" y="352980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64720" y="3477960"/>
              <a:ext cx="5760" cy="100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239720" y="353556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085360" y="3604680"/>
              <a:ext cx="828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69960" y="354132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293000" y="3547080"/>
              <a:ext cx="1260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2"/>
                  </a:moveTo>
                  <a:lnTo>
                    <a:pt x="7" y="3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314240" y="3549960"/>
              <a:ext cx="18360" cy="39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1"/>
                  </a:moveTo>
                  <a:lnTo>
                    <a:pt x="13" y="3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344120" y="355140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68600" y="3557160"/>
              <a:ext cx="19800" cy="576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2"/>
                  </a:moveTo>
                  <a:lnTo>
                    <a:pt x="14" y="4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399920" y="3560040"/>
              <a:ext cx="1584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532840" y="3653280"/>
              <a:ext cx="2880" cy="259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2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427280" y="356544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576240" y="3496680"/>
              <a:ext cx="2880" cy="54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48520" y="356868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78160" y="3620160"/>
              <a:ext cx="396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3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546360" y="3496680"/>
              <a:ext cx="1803240" cy="1210680"/>
            </a:xfrm>
            <a:custGeom>
              <a:avLst/>
              <a:gdLst/>
              <a:ahLst/>
              <a:rect l="l" t="t" r="r" b="b"/>
              <a:pathLst>
                <a:path w="1261" h="843">
                  <a:moveTo>
                    <a:pt x="7" y="25"/>
                  </a:moveTo>
                  <a:lnTo>
                    <a:pt x="7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7" y="44"/>
                  </a:lnTo>
                  <a:lnTo>
                    <a:pt x="23" y="58"/>
                  </a:lnTo>
                  <a:lnTo>
                    <a:pt x="32" y="71"/>
                  </a:lnTo>
                  <a:lnTo>
                    <a:pt x="42" y="83"/>
                  </a:lnTo>
                  <a:lnTo>
                    <a:pt x="53" y="94"/>
                  </a:lnTo>
                  <a:lnTo>
                    <a:pt x="65" y="104"/>
                  </a:lnTo>
                  <a:lnTo>
                    <a:pt x="65" y="104"/>
                  </a:lnTo>
                  <a:lnTo>
                    <a:pt x="101" y="113"/>
                  </a:lnTo>
                  <a:lnTo>
                    <a:pt x="138" y="121"/>
                  </a:lnTo>
                  <a:lnTo>
                    <a:pt x="176" y="127"/>
                  </a:lnTo>
                  <a:lnTo>
                    <a:pt x="176" y="127"/>
                  </a:lnTo>
                  <a:lnTo>
                    <a:pt x="178" y="127"/>
                  </a:lnTo>
                  <a:lnTo>
                    <a:pt x="145" y="127"/>
                  </a:lnTo>
                  <a:lnTo>
                    <a:pt x="113" y="127"/>
                  </a:lnTo>
                  <a:lnTo>
                    <a:pt x="80" y="129"/>
                  </a:lnTo>
                  <a:lnTo>
                    <a:pt x="80" y="129"/>
                  </a:lnTo>
                  <a:lnTo>
                    <a:pt x="78" y="133"/>
                  </a:lnTo>
                  <a:lnTo>
                    <a:pt x="78" y="13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3" y="140"/>
                  </a:lnTo>
                  <a:lnTo>
                    <a:pt x="67" y="140"/>
                  </a:lnTo>
                  <a:lnTo>
                    <a:pt x="63" y="144"/>
                  </a:lnTo>
                  <a:lnTo>
                    <a:pt x="63" y="144"/>
                  </a:lnTo>
                  <a:lnTo>
                    <a:pt x="65" y="154"/>
                  </a:lnTo>
                  <a:lnTo>
                    <a:pt x="65" y="163"/>
                  </a:lnTo>
                  <a:lnTo>
                    <a:pt x="73" y="169"/>
                  </a:lnTo>
                  <a:lnTo>
                    <a:pt x="73" y="169"/>
                  </a:lnTo>
                  <a:lnTo>
                    <a:pt x="115" y="175"/>
                  </a:lnTo>
                  <a:lnTo>
                    <a:pt x="157" y="182"/>
                  </a:lnTo>
                  <a:lnTo>
                    <a:pt x="199" y="188"/>
                  </a:lnTo>
                  <a:lnTo>
                    <a:pt x="241" y="196"/>
                  </a:lnTo>
                  <a:lnTo>
                    <a:pt x="284" y="204"/>
                  </a:lnTo>
                  <a:lnTo>
                    <a:pt x="326" y="209"/>
                  </a:lnTo>
                  <a:lnTo>
                    <a:pt x="368" y="217"/>
                  </a:lnTo>
                  <a:lnTo>
                    <a:pt x="410" y="223"/>
                  </a:lnTo>
                  <a:lnTo>
                    <a:pt x="453" y="230"/>
                  </a:lnTo>
                  <a:lnTo>
                    <a:pt x="495" y="238"/>
                  </a:lnTo>
                  <a:lnTo>
                    <a:pt x="495" y="238"/>
                  </a:lnTo>
                  <a:lnTo>
                    <a:pt x="522" y="242"/>
                  </a:lnTo>
                  <a:lnTo>
                    <a:pt x="549" y="246"/>
                  </a:lnTo>
                  <a:lnTo>
                    <a:pt x="575" y="250"/>
                  </a:lnTo>
                  <a:lnTo>
                    <a:pt x="575" y="250"/>
                  </a:lnTo>
                  <a:lnTo>
                    <a:pt x="579" y="255"/>
                  </a:lnTo>
                  <a:lnTo>
                    <a:pt x="579" y="277"/>
                  </a:lnTo>
                  <a:lnTo>
                    <a:pt x="579" y="298"/>
                  </a:lnTo>
                  <a:lnTo>
                    <a:pt x="579" y="319"/>
                  </a:lnTo>
                  <a:lnTo>
                    <a:pt x="579" y="319"/>
                  </a:lnTo>
                  <a:lnTo>
                    <a:pt x="597" y="323"/>
                  </a:lnTo>
                  <a:lnTo>
                    <a:pt x="614" y="327"/>
                  </a:lnTo>
                  <a:lnTo>
                    <a:pt x="633" y="328"/>
                  </a:lnTo>
                  <a:lnTo>
                    <a:pt x="633" y="328"/>
                  </a:lnTo>
                  <a:lnTo>
                    <a:pt x="733" y="348"/>
                  </a:lnTo>
                  <a:lnTo>
                    <a:pt x="735" y="346"/>
                  </a:lnTo>
                  <a:lnTo>
                    <a:pt x="735" y="344"/>
                  </a:lnTo>
                  <a:lnTo>
                    <a:pt x="735" y="342"/>
                  </a:lnTo>
                  <a:lnTo>
                    <a:pt x="735" y="342"/>
                  </a:lnTo>
                  <a:lnTo>
                    <a:pt x="737" y="284"/>
                  </a:lnTo>
                  <a:lnTo>
                    <a:pt x="739" y="284"/>
                  </a:lnTo>
                  <a:lnTo>
                    <a:pt x="769" y="288"/>
                  </a:lnTo>
                  <a:lnTo>
                    <a:pt x="798" y="298"/>
                  </a:lnTo>
                  <a:lnTo>
                    <a:pt x="829" y="307"/>
                  </a:lnTo>
                  <a:lnTo>
                    <a:pt x="858" y="317"/>
                  </a:lnTo>
                  <a:lnTo>
                    <a:pt x="858" y="317"/>
                  </a:lnTo>
                  <a:lnTo>
                    <a:pt x="875" y="325"/>
                  </a:lnTo>
                  <a:lnTo>
                    <a:pt x="892" y="330"/>
                  </a:lnTo>
                  <a:lnTo>
                    <a:pt x="911" y="336"/>
                  </a:lnTo>
                  <a:lnTo>
                    <a:pt x="911" y="336"/>
                  </a:lnTo>
                  <a:lnTo>
                    <a:pt x="913" y="340"/>
                  </a:lnTo>
                  <a:lnTo>
                    <a:pt x="919" y="336"/>
                  </a:lnTo>
                  <a:lnTo>
                    <a:pt x="925" y="330"/>
                  </a:lnTo>
                  <a:lnTo>
                    <a:pt x="929" y="323"/>
                  </a:lnTo>
                  <a:lnTo>
                    <a:pt x="929" y="323"/>
                  </a:lnTo>
                  <a:lnTo>
                    <a:pt x="927" y="319"/>
                  </a:lnTo>
                  <a:lnTo>
                    <a:pt x="927" y="315"/>
                  </a:lnTo>
                  <a:lnTo>
                    <a:pt x="927" y="313"/>
                  </a:lnTo>
                  <a:lnTo>
                    <a:pt x="927" y="313"/>
                  </a:lnTo>
                  <a:lnTo>
                    <a:pt x="925" y="313"/>
                  </a:lnTo>
                  <a:lnTo>
                    <a:pt x="913" y="303"/>
                  </a:lnTo>
                  <a:lnTo>
                    <a:pt x="896" y="296"/>
                  </a:lnTo>
                  <a:lnTo>
                    <a:pt x="879" y="288"/>
                  </a:lnTo>
                  <a:lnTo>
                    <a:pt x="861" y="280"/>
                  </a:lnTo>
                  <a:lnTo>
                    <a:pt x="844" y="275"/>
                  </a:lnTo>
                  <a:lnTo>
                    <a:pt x="827" y="267"/>
                  </a:lnTo>
                  <a:lnTo>
                    <a:pt x="810" y="261"/>
                  </a:lnTo>
                  <a:lnTo>
                    <a:pt x="792" y="255"/>
                  </a:lnTo>
                  <a:lnTo>
                    <a:pt x="775" y="250"/>
                  </a:lnTo>
                  <a:lnTo>
                    <a:pt x="756" y="244"/>
                  </a:lnTo>
                  <a:lnTo>
                    <a:pt x="739" y="238"/>
                  </a:lnTo>
                  <a:lnTo>
                    <a:pt x="739" y="238"/>
                  </a:lnTo>
                  <a:lnTo>
                    <a:pt x="764" y="244"/>
                  </a:lnTo>
                  <a:lnTo>
                    <a:pt x="788" y="250"/>
                  </a:lnTo>
                  <a:lnTo>
                    <a:pt x="812" y="257"/>
                  </a:lnTo>
                  <a:lnTo>
                    <a:pt x="835" y="265"/>
                  </a:lnTo>
                  <a:lnTo>
                    <a:pt x="859" y="273"/>
                  </a:lnTo>
                  <a:lnTo>
                    <a:pt x="883" y="282"/>
                  </a:lnTo>
                  <a:lnTo>
                    <a:pt x="904" y="292"/>
                  </a:lnTo>
                  <a:lnTo>
                    <a:pt x="927" y="303"/>
                  </a:lnTo>
                  <a:lnTo>
                    <a:pt x="948" y="317"/>
                  </a:lnTo>
                  <a:lnTo>
                    <a:pt x="969" y="330"/>
                  </a:lnTo>
                  <a:lnTo>
                    <a:pt x="988" y="346"/>
                  </a:lnTo>
                  <a:lnTo>
                    <a:pt x="988" y="346"/>
                  </a:lnTo>
                  <a:lnTo>
                    <a:pt x="996" y="353"/>
                  </a:lnTo>
                  <a:lnTo>
                    <a:pt x="1003" y="361"/>
                  </a:lnTo>
                  <a:lnTo>
                    <a:pt x="1011" y="369"/>
                  </a:lnTo>
                  <a:lnTo>
                    <a:pt x="1021" y="375"/>
                  </a:lnTo>
                  <a:lnTo>
                    <a:pt x="1028" y="382"/>
                  </a:lnTo>
                  <a:lnTo>
                    <a:pt x="1036" y="388"/>
                  </a:lnTo>
                  <a:lnTo>
                    <a:pt x="1044" y="396"/>
                  </a:lnTo>
                  <a:lnTo>
                    <a:pt x="1053" y="401"/>
                  </a:lnTo>
                  <a:lnTo>
                    <a:pt x="1061" y="409"/>
                  </a:lnTo>
                  <a:lnTo>
                    <a:pt x="1069" y="415"/>
                  </a:lnTo>
                  <a:lnTo>
                    <a:pt x="1078" y="423"/>
                  </a:lnTo>
                  <a:lnTo>
                    <a:pt x="1086" y="430"/>
                  </a:lnTo>
                  <a:lnTo>
                    <a:pt x="1094" y="438"/>
                  </a:lnTo>
                  <a:lnTo>
                    <a:pt x="1099" y="446"/>
                  </a:lnTo>
                  <a:lnTo>
                    <a:pt x="1099" y="446"/>
                  </a:lnTo>
                  <a:lnTo>
                    <a:pt x="1107" y="453"/>
                  </a:lnTo>
                  <a:lnTo>
                    <a:pt x="1113" y="461"/>
                  </a:lnTo>
                  <a:lnTo>
                    <a:pt x="1119" y="469"/>
                  </a:lnTo>
                  <a:lnTo>
                    <a:pt x="1124" y="474"/>
                  </a:lnTo>
                  <a:lnTo>
                    <a:pt x="1130" y="482"/>
                  </a:lnTo>
                  <a:lnTo>
                    <a:pt x="1136" y="490"/>
                  </a:lnTo>
                  <a:lnTo>
                    <a:pt x="1144" y="497"/>
                  </a:lnTo>
                  <a:lnTo>
                    <a:pt x="1149" y="505"/>
                  </a:lnTo>
                  <a:lnTo>
                    <a:pt x="1155" y="513"/>
                  </a:lnTo>
                  <a:lnTo>
                    <a:pt x="1161" y="520"/>
                  </a:lnTo>
                  <a:lnTo>
                    <a:pt x="1167" y="528"/>
                  </a:lnTo>
                  <a:lnTo>
                    <a:pt x="1172" y="536"/>
                  </a:lnTo>
                  <a:lnTo>
                    <a:pt x="1178" y="544"/>
                  </a:lnTo>
                  <a:lnTo>
                    <a:pt x="1184" y="551"/>
                  </a:lnTo>
                  <a:lnTo>
                    <a:pt x="1190" y="559"/>
                  </a:lnTo>
                  <a:lnTo>
                    <a:pt x="1193" y="567"/>
                  </a:lnTo>
                  <a:lnTo>
                    <a:pt x="1199" y="574"/>
                  </a:lnTo>
                  <a:lnTo>
                    <a:pt x="1205" y="582"/>
                  </a:lnTo>
                  <a:lnTo>
                    <a:pt x="1209" y="590"/>
                  </a:lnTo>
                  <a:lnTo>
                    <a:pt x="1215" y="597"/>
                  </a:lnTo>
                  <a:lnTo>
                    <a:pt x="1218" y="607"/>
                  </a:lnTo>
                  <a:lnTo>
                    <a:pt x="1224" y="615"/>
                  </a:lnTo>
                  <a:lnTo>
                    <a:pt x="1228" y="622"/>
                  </a:lnTo>
                  <a:lnTo>
                    <a:pt x="1228" y="622"/>
                  </a:lnTo>
                  <a:lnTo>
                    <a:pt x="1232" y="628"/>
                  </a:lnTo>
                  <a:lnTo>
                    <a:pt x="1236" y="634"/>
                  </a:lnTo>
                  <a:lnTo>
                    <a:pt x="1240" y="641"/>
                  </a:lnTo>
                  <a:lnTo>
                    <a:pt x="1240" y="641"/>
                  </a:lnTo>
                  <a:lnTo>
                    <a:pt x="1232" y="634"/>
                  </a:lnTo>
                  <a:lnTo>
                    <a:pt x="1224" y="624"/>
                  </a:lnTo>
                  <a:lnTo>
                    <a:pt x="1217" y="616"/>
                  </a:lnTo>
                  <a:lnTo>
                    <a:pt x="1211" y="607"/>
                  </a:lnTo>
                  <a:lnTo>
                    <a:pt x="1203" y="597"/>
                  </a:lnTo>
                  <a:lnTo>
                    <a:pt x="1197" y="588"/>
                  </a:lnTo>
                  <a:lnTo>
                    <a:pt x="1190" y="580"/>
                  </a:lnTo>
                  <a:lnTo>
                    <a:pt x="1182" y="570"/>
                  </a:lnTo>
                  <a:lnTo>
                    <a:pt x="1176" y="563"/>
                  </a:lnTo>
                  <a:lnTo>
                    <a:pt x="1169" y="555"/>
                  </a:lnTo>
                  <a:lnTo>
                    <a:pt x="1161" y="547"/>
                  </a:lnTo>
                  <a:lnTo>
                    <a:pt x="1151" y="540"/>
                  </a:lnTo>
                  <a:lnTo>
                    <a:pt x="1144" y="534"/>
                  </a:lnTo>
                  <a:lnTo>
                    <a:pt x="1134" y="528"/>
                  </a:lnTo>
                  <a:lnTo>
                    <a:pt x="1124" y="524"/>
                  </a:lnTo>
                  <a:lnTo>
                    <a:pt x="1115" y="520"/>
                  </a:lnTo>
                  <a:lnTo>
                    <a:pt x="1103" y="519"/>
                  </a:lnTo>
                  <a:lnTo>
                    <a:pt x="1103" y="519"/>
                  </a:lnTo>
                  <a:lnTo>
                    <a:pt x="1096" y="520"/>
                  </a:lnTo>
                  <a:lnTo>
                    <a:pt x="1090" y="524"/>
                  </a:lnTo>
                  <a:lnTo>
                    <a:pt x="1086" y="530"/>
                  </a:lnTo>
                  <a:lnTo>
                    <a:pt x="1086" y="530"/>
                  </a:lnTo>
                  <a:lnTo>
                    <a:pt x="1086" y="534"/>
                  </a:lnTo>
                  <a:lnTo>
                    <a:pt x="1094" y="544"/>
                  </a:lnTo>
                  <a:lnTo>
                    <a:pt x="1101" y="551"/>
                  </a:lnTo>
                  <a:lnTo>
                    <a:pt x="1109" y="561"/>
                  </a:lnTo>
                  <a:lnTo>
                    <a:pt x="1117" y="570"/>
                  </a:lnTo>
                  <a:lnTo>
                    <a:pt x="1124" y="580"/>
                  </a:lnTo>
                  <a:lnTo>
                    <a:pt x="1130" y="590"/>
                  </a:lnTo>
                  <a:lnTo>
                    <a:pt x="1138" y="599"/>
                  </a:lnTo>
                  <a:lnTo>
                    <a:pt x="1144" y="609"/>
                  </a:lnTo>
                  <a:lnTo>
                    <a:pt x="1149" y="618"/>
                  </a:lnTo>
                  <a:lnTo>
                    <a:pt x="1155" y="628"/>
                  </a:lnTo>
                  <a:lnTo>
                    <a:pt x="1161" y="640"/>
                  </a:lnTo>
                  <a:lnTo>
                    <a:pt x="1165" y="649"/>
                  </a:lnTo>
                  <a:lnTo>
                    <a:pt x="1170" y="659"/>
                  </a:lnTo>
                  <a:lnTo>
                    <a:pt x="1176" y="670"/>
                  </a:lnTo>
                  <a:lnTo>
                    <a:pt x="1180" y="680"/>
                  </a:lnTo>
                  <a:lnTo>
                    <a:pt x="1184" y="689"/>
                  </a:lnTo>
                  <a:lnTo>
                    <a:pt x="1190" y="701"/>
                  </a:lnTo>
                  <a:lnTo>
                    <a:pt x="1193" y="711"/>
                  </a:lnTo>
                  <a:lnTo>
                    <a:pt x="1197" y="722"/>
                  </a:lnTo>
                  <a:lnTo>
                    <a:pt x="1203" y="732"/>
                  </a:lnTo>
                  <a:lnTo>
                    <a:pt x="1207" y="741"/>
                  </a:lnTo>
                  <a:lnTo>
                    <a:pt x="1211" y="753"/>
                  </a:lnTo>
                  <a:lnTo>
                    <a:pt x="1211" y="753"/>
                  </a:lnTo>
                  <a:lnTo>
                    <a:pt x="1217" y="774"/>
                  </a:lnTo>
                  <a:lnTo>
                    <a:pt x="1222" y="795"/>
                  </a:lnTo>
                  <a:lnTo>
                    <a:pt x="1226" y="816"/>
                  </a:lnTo>
                  <a:lnTo>
                    <a:pt x="1226" y="816"/>
                  </a:lnTo>
                  <a:lnTo>
                    <a:pt x="1222" y="816"/>
                  </a:lnTo>
                  <a:lnTo>
                    <a:pt x="1217" y="816"/>
                  </a:lnTo>
                  <a:lnTo>
                    <a:pt x="1215" y="818"/>
                  </a:lnTo>
                  <a:lnTo>
                    <a:pt x="1215" y="818"/>
                  </a:lnTo>
                  <a:lnTo>
                    <a:pt x="1218" y="820"/>
                  </a:lnTo>
                  <a:lnTo>
                    <a:pt x="1224" y="820"/>
                  </a:lnTo>
                  <a:lnTo>
                    <a:pt x="1228" y="822"/>
                  </a:lnTo>
                  <a:lnTo>
                    <a:pt x="1228" y="822"/>
                  </a:lnTo>
                  <a:lnTo>
                    <a:pt x="1234" y="830"/>
                  </a:lnTo>
                  <a:lnTo>
                    <a:pt x="1241" y="837"/>
                  </a:lnTo>
                  <a:lnTo>
                    <a:pt x="1251" y="839"/>
                  </a:lnTo>
                  <a:lnTo>
                    <a:pt x="1251" y="839"/>
                  </a:lnTo>
                  <a:lnTo>
                    <a:pt x="1261" y="839"/>
                  </a:lnTo>
                  <a:lnTo>
                    <a:pt x="1261" y="843"/>
                  </a:lnTo>
                  <a:lnTo>
                    <a:pt x="1132" y="818"/>
                  </a:lnTo>
                  <a:lnTo>
                    <a:pt x="984" y="789"/>
                  </a:lnTo>
                  <a:lnTo>
                    <a:pt x="393" y="674"/>
                  </a:lnTo>
                  <a:lnTo>
                    <a:pt x="84" y="615"/>
                  </a:lnTo>
                  <a:lnTo>
                    <a:pt x="82" y="605"/>
                  </a:lnTo>
                  <a:lnTo>
                    <a:pt x="80" y="595"/>
                  </a:lnTo>
                  <a:lnTo>
                    <a:pt x="76" y="588"/>
                  </a:lnTo>
                  <a:lnTo>
                    <a:pt x="76" y="588"/>
                  </a:lnTo>
                  <a:lnTo>
                    <a:pt x="59" y="582"/>
                  </a:lnTo>
                  <a:lnTo>
                    <a:pt x="42" y="578"/>
                  </a:lnTo>
                  <a:lnTo>
                    <a:pt x="25" y="574"/>
                  </a:lnTo>
                  <a:lnTo>
                    <a:pt x="25" y="574"/>
                  </a:lnTo>
                  <a:lnTo>
                    <a:pt x="25" y="551"/>
                  </a:lnTo>
                  <a:lnTo>
                    <a:pt x="25" y="526"/>
                  </a:lnTo>
                  <a:lnTo>
                    <a:pt x="13" y="507"/>
                  </a:lnTo>
                  <a:lnTo>
                    <a:pt x="13" y="507"/>
                  </a:lnTo>
                  <a:lnTo>
                    <a:pt x="13" y="505"/>
                  </a:lnTo>
                  <a:lnTo>
                    <a:pt x="13" y="503"/>
                  </a:lnTo>
                  <a:lnTo>
                    <a:pt x="11" y="501"/>
                  </a:lnTo>
                  <a:lnTo>
                    <a:pt x="11" y="501"/>
                  </a:lnTo>
                  <a:lnTo>
                    <a:pt x="9" y="505"/>
                  </a:lnTo>
                  <a:lnTo>
                    <a:pt x="3" y="505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3" y="8"/>
                  </a:lnTo>
                  <a:lnTo>
                    <a:pt x="7" y="1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473000" y="3574440"/>
              <a:ext cx="19800" cy="82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4"/>
                  </a:moveTo>
                  <a:lnTo>
                    <a:pt x="10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01440" y="3580200"/>
              <a:ext cx="18720" cy="39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28800" y="3582720"/>
              <a:ext cx="15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3"/>
                  </a:moveTo>
                  <a:lnTo>
                    <a:pt x="7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53280" y="35874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72000" y="3589920"/>
              <a:ext cx="1656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583440" y="3511080"/>
              <a:ext cx="8640" cy="12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3"/>
                  </a:lnTo>
                  <a:lnTo>
                    <a:pt x="4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597560" y="359604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618800" y="3598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640400" y="36018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60560" y="360468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066640" y="3640680"/>
              <a:ext cx="5760" cy="12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684680" y="3610080"/>
              <a:ext cx="16920" cy="8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4"/>
                  </a:moveTo>
                  <a:lnTo>
                    <a:pt x="12" y="6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712040" y="3616200"/>
              <a:ext cx="14040" cy="39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2"/>
                  </a:moveTo>
                  <a:lnTo>
                    <a:pt x="1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37600" y="362016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762080" y="36234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780440" y="362916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2"/>
                  </a:move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97840" y="353268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803480" y="3631680"/>
              <a:ext cx="1548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9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827960" y="363744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1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846320" y="36406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55120" y="3659040"/>
              <a:ext cx="8280" cy="169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10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69360" y="364356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915080" y="365184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556440" y="3544200"/>
              <a:ext cx="5400" cy="158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7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524200" y="3706560"/>
              <a:ext cx="14400" cy="730800"/>
            </a:xfrm>
            <a:custGeom>
              <a:avLst/>
              <a:gdLst/>
              <a:ahLst/>
              <a:rect l="l" t="t" r="r" b="b"/>
              <a:pathLst>
                <a:path w="10" h="509">
                  <a:moveTo>
                    <a:pt x="6" y="58"/>
                  </a:moveTo>
                  <a:lnTo>
                    <a:pt x="6" y="192"/>
                  </a:lnTo>
                  <a:lnTo>
                    <a:pt x="4" y="376"/>
                  </a:lnTo>
                  <a:lnTo>
                    <a:pt x="6" y="378"/>
                  </a:lnTo>
                  <a:lnTo>
                    <a:pt x="10" y="344"/>
                  </a:lnTo>
                  <a:lnTo>
                    <a:pt x="10" y="399"/>
                  </a:lnTo>
                  <a:lnTo>
                    <a:pt x="6" y="453"/>
                  </a:lnTo>
                  <a:lnTo>
                    <a:pt x="6" y="507"/>
                  </a:lnTo>
                  <a:lnTo>
                    <a:pt x="6" y="507"/>
                  </a:lnTo>
                  <a:lnTo>
                    <a:pt x="4" y="507"/>
                  </a:lnTo>
                  <a:lnTo>
                    <a:pt x="4" y="509"/>
                  </a:lnTo>
                  <a:lnTo>
                    <a:pt x="2" y="509"/>
                  </a:lnTo>
                  <a:lnTo>
                    <a:pt x="2" y="509"/>
                  </a:lnTo>
                  <a:lnTo>
                    <a:pt x="0" y="505"/>
                  </a:lnTo>
                  <a:lnTo>
                    <a:pt x="0" y="442"/>
                  </a:lnTo>
                  <a:lnTo>
                    <a:pt x="4" y="380"/>
                  </a:lnTo>
                  <a:lnTo>
                    <a:pt x="4" y="317"/>
                  </a:lnTo>
                  <a:lnTo>
                    <a:pt x="4" y="317"/>
                  </a:lnTo>
                  <a:lnTo>
                    <a:pt x="4" y="267"/>
                  </a:lnTo>
                  <a:lnTo>
                    <a:pt x="6" y="215"/>
                  </a:lnTo>
                  <a:lnTo>
                    <a:pt x="6" y="165"/>
                  </a:lnTo>
                  <a:lnTo>
                    <a:pt x="6" y="165"/>
                  </a:lnTo>
                  <a:lnTo>
                    <a:pt x="4" y="163"/>
                  </a:lnTo>
                  <a:lnTo>
                    <a:pt x="6" y="146"/>
                  </a:lnTo>
                  <a:lnTo>
                    <a:pt x="6" y="129"/>
                  </a:lnTo>
                  <a:lnTo>
                    <a:pt x="4" y="113"/>
                  </a:lnTo>
                  <a:lnTo>
                    <a:pt x="4" y="113"/>
                  </a:lnTo>
                  <a:lnTo>
                    <a:pt x="4" y="75"/>
                  </a:lnTo>
                  <a:lnTo>
                    <a:pt x="6" y="3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9"/>
                  </a:lnTo>
                  <a:lnTo>
                    <a:pt x="8" y="36"/>
                  </a:lnTo>
                  <a:lnTo>
                    <a:pt x="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614760" y="3549960"/>
              <a:ext cx="432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979160" y="366192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995000" y="36648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4840" y="3565440"/>
              <a:ext cx="864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4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558960" y="35629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642120" y="3580200"/>
              <a:ext cx="12960" cy="97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5"/>
                  </a:moveTo>
                  <a:lnTo>
                    <a:pt x="6" y="7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21880" y="3651840"/>
              <a:ext cx="104040" cy="2412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73" y="17"/>
                  </a:moveTo>
                  <a:lnTo>
                    <a:pt x="15" y="7"/>
                  </a:lnTo>
                  <a:lnTo>
                    <a:pt x="11" y="3"/>
                  </a:lnTo>
                  <a:lnTo>
                    <a:pt x="6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9" y="0"/>
                  </a:lnTo>
                  <a:lnTo>
                    <a:pt x="34" y="5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666240" y="35928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558960" y="358740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690720" y="35989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12880" y="3659040"/>
              <a:ext cx="5760" cy="86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4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13760" y="3601800"/>
              <a:ext cx="9720" cy="82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2"/>
                  </a:moveTo>
                  <a:lnTo>
                    <a:pt x="5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32120" y="360720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756600" y="3610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776760" y="361620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528800" y="3676320"/>
              <a:ext cx="21240" cy="82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2" y="0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798000" y="3619080"/>
              <a:ext cx="11160" cy="108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818160" y="36201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54640" y="3673440"/>
              <a:ext cx="27000" cy="5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0" y="0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850920" y="362628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866760" y="3629160"/>
              <a:ext cx="828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881160" y="36291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893760" y="36316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913920" y="36345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2880" y="3676320"/>
              <a:ext cx="112680" cy="3276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9" y="11"/>
                  </a:moveTo>
                  <a:lnTo>
                    <a:pt x="73" y="17"/>
                  </a:lnTo>
                  <a:lnTo>
                    <a:pt x="67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2" y="21"/>
                  </a:lnTo>
                  <a:lnTo>
                    <a:pt x="44" y="1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935160" y="36406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955320" y="364356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968280" y="364356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15760" y="3682080"/>
              <a:ext cx="65520" cy="126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46" y="7"/>
                  </a:moveTo>
                  <a:lnTo>
                    <a:pt x="46" y="9"/>
                  </a:lnTo>
                  <a:lnTo>
                    <a:pt x="31" y="9"/>
                  </a:lnTo>
                  <a:lnTo>
                    <a:pt x="15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7" y="2"/>
                  </a:lnTo>
                  <a:lnTo>
                    <a:pt x="33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990960" y="36460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558960" y="361296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10040" y="365184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383000" y="3697920"/>
              <a:ext cx="570600" cy="28728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179" y="16"/>
                  </a:moveTo>
                  <a:lnTo>
                    <a:pt x="180" y="23"/>
                  </a:lnTo>
                  <a:lnTo>
                    <a:pt x="182" y="31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205" y="42"/>
                  </a:lnTo>
                  <a:lnTo>
                    <a:pt x="228" y="44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76" y="52"/>
                  </a:lnTo>
                  <a:lnTo>
                    <a:pt x="301" y="58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71"/>
                  </a:lnTo>
                  <a:lnTo>
                    <a:pt x="332" y="75"/>
                  </a:lnTo>
                  <a:lnTo>
                    <a:pt x="336" y="75"/>
                  </a:lnTo>
                  <a:lnTo>
                    <a:pt x="336" y="75"/>
                  </a:lnTo>
                  <a:lnTo>
                    <a:pt x="338" y="75"/>
                  </a:lnTo>
                  <a:lnTo>
                    <a:pt x="338" y="77"/>
                  </a:lnTo>
                  <a:lnTo>
                    <a:pt x="340" y="77"/>
                  </a:lnTo>
                  <a:lnTo>
                    <a:pt x="340" y="77"/>
                  </a:lnTo>
                  <a:lnTo>
                    <a:pt x="332" y="77"/>
                  </a:lnTo>
                  <a:lnTo>
                    <a:pt x="332" y="79"/>
                  </a:lnTo>
                  <a:lnTo>
                    <a:pt x="334" y="79"/>
                  </a:lnTo>
                  <a:lnTo>
                    <a:pt x="334" y="81"/>
                  </a:lnTo>
                  <a:lnTo>
                    <a:pt x="334" y="81"/>
                  </a:lnTo>
                  <a:lnTo>
                    <a:pt x="342" y="81"/>
                  </a:lnTo>
                  <a:lnTo>
                    <a:pt x="346" y="77"/>
                  </a:lnTo>
                  <a:lnTo>
                    <a:pt x="351" y="79"/>
                  </a:lnTo>
                  <a:lnTo>
                    <a:pt x="351" y="79"/>
                  </a:lnTo>
                  <a:lnTo>
                    <a:pt x="344" y="79"/>
                  </a:lnTo>
                  <a:lnTo>
                    <a:pt x="349" y="83"/>
                  </a:lnTo>
                  <a:lnTo>
                    <a:pt x="357" y="85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74" y="87"/>
                  </a:lnTo>
                  <a:lnTo>
                    <a:pt x="388" y="87"/>
                  </a:lnTo>
                  <a:lnTo>
                    <a:pt x="399" y="92"/>
                  </a:lnTo>
                  <a:lnTo>
                    <a:pt x="399" y="92"/>
                  </a:lnTo>
                  <a:lnTo>
                    <a:pt x="370" y="89"/>
                  </a:lnTo>
                  <a:lnTo>
                    <a:pt x="173" y="54"/>
                  </a:lnTo>
                  <a:lnTo>
                    <a:pt x="165" y="52"/>
                  </a:lnTo>
                  <a:lnTo>
                    <a:pt x="155" y="50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8" y="100"/>
                  </a:lnTo>
                  <a:lnTo>
                    <a:pt x="146" y="150"/>
                  </a:lnTo>
                  <a:lnTo>
                    <a:pt x="144" y="200"/>
                  </a:lnTo>
                  <a:lnTo>
                    <a:pt x="144" y="200"/>
                  </a:lnTo>
                  <a:lnTo>
                    <a:pt x="96" y="192"/>
                  </a:lnTo>
                  <a:lnTo>
                    <a:pt x="48" y="185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27"/>
                  </a:lnTo>
                  <a:lnTo>
                    <a:pt x="2" y="8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2" y="35"/>
                  </a:lnTo>
                  <a:lnTo>
                    <a:pt x="10" y="79"/>
                  </a:lnTo>
                  <a:lnTo>
                    <a:pt x="10" y="123"/>
                  </a:lnTo>
                  <a:lnTo>
                    <a:pt x="10" y="167"/>
                  </a:lnTo>
                  <a:lnTo>
                    <a:pt x="10" y="167"/>
                  </a:lnTo>
                  <a:lnTo>
                    <a:pt x="50" y="175"/>
                  </a:lnTo>
                  <a:lnTo>
                    <a:pt x="90" y="183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31" y="188"/>
                  </a:lnTo>
                  <a:lnTo>
                    <a:pt x="132" y="188"/>
                  </a:lnTo>
                  <a:lnTo>
                    <a:pt x="132" y="187"/>
                  </a:lnTo>
                  <a:lnTo>
                    <a:pt x="132" y="187"/>
                  </a:lnTo>
                  <a:lnTo>
                    <a:pt x="134" y="140"/>
                  </a:lnTo>
                  <a:lnTo>
                    <a:pt x="136" y="94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34" y="46"/>
                  </a:lnTo>
                  <a:lnTo>
                    <a:pt x="127" y="44"/>
                  </a:lnTo>
                  <a:lnTo>
                    <a:pt x="119" y="41"/>
                  </a:lnTo>
                  <a:lnTo>
                    <a:pt x="119" y="41"/>
                  </a:lnTo>
                  <a:lnTo>
                    <a:pt x="121" y="37"/>
                  </a:lnTo>
                  <a:lnTo>
                    <a:pt x="123" y="39"/>
                  </a:lnTo>
                  <a:lnTo>
                    <a:pt x="127" y="39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32" y="39"/>
                  </a:lnTo>
                  <a:lnTo>
                    <a:pt x="131" y="35"/>
                  </a:lnTo>
                  <a:lnTo>
                    <a:pt x="127" y="35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31" y="23"/>
                  </a:lnTo>
                  <a:lnTo>
                    <a:pt x="136" y="1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4" y="8"/>
                  </a:lnTo>
                  <a:lnTo>
                    <a:pt x="165" y="14"/>
                  </a:lnTo>
                  <a:lnTo>
                    <a:pt x="179" y="1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28400" y="365328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45680" y="36561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61160" y="366192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81320" y="3661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02560" y="36680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128480" y="367056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144320" y="36734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65560" y="36763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85720" y="367920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98680" y="3684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218480" y="3687840"/>
              <a:ext cx="1152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231440" y="36892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248720" y="36921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558960" y="363744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62760" y="36979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278600" y="37008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298400" y="3706560"/>
              <a:ext cx="684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311360" y="3709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325760" y="37123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341600" y="37152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358520" y="371808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371480" y="372096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8200" y="3814200"/>
              <a:ext cx="11520" cy="11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558960" y="366480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577400" y="3753720"/>
              <a:ext cx="16920" cy="39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2"/>
                  </a:moveTo>
                  <a:lnTo>
                    <a:pt x="8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603320" y="375804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18800" y="3760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36080" y="37638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385600" y="3827160"/>
              <a:ext cx="972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5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651560" y="37670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666320" y="376992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684680" y="377244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04840" y="377820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20320" y="37810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40480" y="378108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lnTo>
                    <a:pt x="3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56320" y="378720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73240" y="3789720"/>
              <a:ext cx="9720" cy="43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2"/>
                  </a:move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792320" y="379260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71560" y="38415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809240" y="3794400"/>
              <a:ext cx="1260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558960" y="36921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825080" y="3796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842000" y="37998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5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12880" y="3772440"/>
              <a:ext cx="142920" cy="143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2" y="25"/>
                  </a:moveTo>
                  <a:lnTo>
                    <a:pt x="100" y="40"/>
                  </a:lnTo>
                  <a:lnTo>
                    <a:pt x="100" y="58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87" y="85"/>
                  </a:lnTo>
                  <a:lnTo>
                    <a:pt x="77" y="92"/>
                  </a:lnTo>
                  <a:lnTo>
                    <a:pt x="65" y="98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39" y="98"/>
                  </a:lnTo>
                  <a:lnTo>
                    <a:pt x="23" y="92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4" y="67"/>
                  </a:lnTo>
                  <a:lnTo>
                    <a:pt x="0" y="52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8" y="23"/>
                  </a:lnTo>
                  <a:lnTo>
                    <a:pt x="15" y="14"/>
                  </a:lnTo>
                  <a:lnTo>
                    <a:pt x="27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62" y="0"/>
                  </a:lnTo>
                  <a:lnTo>
                    <a:pt x="79" y="10"/>
                  </a:lnTo>
                  <a:lnTo>
                    <a:pt x="9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896720" y="380844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34200" y="3861720"/>
              <a:ext cx="74160" cy="725400"/>
            </a:xfrm>
            <a:custGeom>
              <a:avLst/>
              <a:gdLst/>
              <a:ahLst/>
              <a:rect l="l" t="t" r="r" b="b"/>
              <a:pathLst>
                <a:path w="52" h="505">
                  <a:moveTo>
                    <a:pt x="42" y="372"/>
                  </a:moveTo>
                  <a:lnTo>
                    <a:pt x="39" y="505"/>
                  </a:lnTo>
                  <a:lnTo>
                    <a:pt x="37" y="505"/>
                  </a:lnTo>
                  <a:lnTo>
                    <a:pt x="35" y="505"/>
                  </a:lnTo>
                  <a:lnTo>
                    <a:pt x="31" y="505"/>
                  </a:lnTo>
                  <a:lnTo>
                    <a:pt x="31" y="505"/>
                  </a:lnTo>
                  <a:lnTo>
                    <a:pt x="37" y="487"/>
                  </a:lnTo>
                  <a:lnTo>
                    <a:pt x="33" y="466"/>
                  </a:lnTo>
                  <a:lnTo>
                    <a:pt x="31" y="447"/>
                  </a:lnTo>
                  <a:lnTo>
                    <a:pt x="31" y="447"/>
                  </a:lnTo>
                  <a:lnTo>
                    <a:pt x="27" y="432"/>
                  </a:lnTo>
                  <a:lnTo>
                    <a:pt x="25" y="418"/>
                  </a:lnTo>
                  <a:lnTo>
                    <a:pt x="23" y="403"/>
                  </a:lnTo>
                  <a:lnTo>
                    <a:pt x="23" y="403"/>
                  </a:lnTo>
                  <a:lnTo>
                    <a:pt x="23" y="403"/>
                  </a:lnTo>
                  <a:lnTo>
                    <a:pt x="25" y="401"/>
                  </a:lnTo>
                  <a:lnTo>
                    <a:pt x="25" y="401"/>
                  </a:lnTo>
                  <a:lnTo>
                    <a:pt x="25" y="401"/>
                  </a:lnTo>
                  <a:lnTo>
                    <a:pt x="25" y="395"/>
                  </a:lnTo>
                  <a:lnTo>
                    <a:pt x="27" y="391"/>
                  </a:lnTo>
                  <a:lnTo>
                    <a:pt x="25" y="387"/>
                  </a:lnTo>
                  <a:lnTo>
                    <a:pt x="25" y="387"/>
                  </a:lnTo>
                  <a:lnTo>
                    <a:pt x="23" y="387"/>
                  </a:lnTo>
                  <a:lnTo>
                    <a:pt x="23" y="387"/>
                  </a:lnTo>
                  <a:lnTo>
                    <a:pt x="21" y="389"/>
                  </a:lnTo>
                  <a:lnTo>
                    <a:pt x="21" y="389"/>
                  </a:lnTo>
                  <a:lnTo>
                    <a:pt x="21" y="391"/>
                  </a:lnTo>
                  <a:lnTo>
                    <a:pt x="16" y="347"/>
                  </a:lnTo>
                  <a:lnTo>
                    <a:pt x="8" y="301"/>
                  </a:lnTo>
                  <a:lnTo>
                    <a:pt x="0" y="257"/>
                  </a:lnTo>
                  <a:lnTo>
                    <a:pt x="0" y="257"/>
                  </a:lnTo>
                  <a:lnTo>
                    <a:pt x="6" y="257"/>
                  </a:lnTo>
                  <a:lnTo>
                    <a:pt x="14" y="261"/>
                  </a:lnTo>
                  <a:lnTo>
                    <a:pt x="19" y="257"/>
                  </a:lnTo>
                  <a:lnTo>
                    <a:pt x="19" y="257"/>
                  </a:lnTo>
                  <a:lnTo>
                    <a:pt x="23" y="257"/>
                  </a:lnTo>
                  <a:lnTo>
                    <a:pt x="25" y="257"/>
                  </a:lnTo>
                  <a:lnTo>
                    <a:pt x="27" y="259"/>
                  </a:lnTo>
                  <a:lnTo>
                    <a:pt x="27" y="259"/>
                  </a:lnTo>
                  <a:lnTo>
                    <a:pt x="27" y="261"/>
                  </a:lnTo>
                  <a:lnTo>
                    <a:pt x="29" y="261"/>
                  </a:lnTo>
                  <a:lnTo>
                    <a:pt x="31" y="261"/>
                  </a:lnTo>
                  <a:lnTo>
                    <a:pt x="31" y="261"/>
                  </a:lnTo>
                  <a:lnTo>
                    <a:pt x="31" y="251"/>
                  </a:lnTo>
                  <a:lnTo>
                    <a:pt x="33" y="243"/>
                  </a:lnTo>
                  <a:lnTo>
                    <a:pt x="33" y="236"/>
                  </a:lnTo>
                  <a:lnTo>
                    <a:pt x="33" y="236"/>
                  </a:lnTo>
                  <a:lnTo>
                    <a:pt x="35" y="178"/>
                  </a:lnTo>
                  <a:lnTo>
                    <a:pt x="39" y="11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40"/>
                  </a:lnTo>
                  <a:lnTo>
                    <a:pt x="50" y="1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205"/>
                  </a:lnTo>
                  <a:lnTo>
                    <a:pt x="42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912200" y="38116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56800" y="3850200"/>
              <a:ext cx="864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935240" y="38170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53600" y="3819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92120" y="382572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6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341320" y="385596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013720" y="3830040"/>
              <a:ext cx="864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421880" y="3784320"/>
              <a:ext cx="104040" cy="12312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9" y="32"/>
                  </a:moveTo>
                  <a:lnTo>
                    <a:pt x="9" y="42"/>
                  </a:lnTo>
                  <a:lnTo>
                    <a:pt x="13" y="52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15" y="61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23" y="75"/>
                  </a:lnTo>
                  <a:lnTo>
                    <a:pt x="34" y="77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57" y="71"/>
                  </a:lnTo>
                  <a:lnTo>
                    <a:pt x="67" y="61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69" y="63"/>
                  </a:lnTo>
                  <a:lnTo>
                    <a:pt x="61" y="75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86"/>
                  </a:lnTo>
                  <a:lnTo>
                    <a:pt x="36" y="86"/>
                  </a:lnTo>
                  <a:lnTo>
                    <a:pt x="23" y="82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4" y="61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3" y="1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9" y="0"/>
                  </a:lnTo>
                  <a:lnTo>
                    <a:pt x="19" y="9"/>
                  </a:lnTo>
                  <a:lnTo>
                    <a:pt x="11" y="19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443120" y="3789720"/>
              <a:ext cx="77040" cy="7596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2" y="17"/>
                  </a:moveTo>
                  <a:lnTo>
                    <a:pt x="54" y="25"/>
                  </a:lnTo>
                  <a:lnTo>
                    <a:pt x="54" y="34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4" y="48"/>
                  </a:lnTo>
                  <a:lnTo>
                    <a:pt x="39" y="51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3" y="53"/>
                  </a:lnTo>
                  <a:lnTo>
                    <a:pt x="16" y="51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4" y="5"/>
                  </a:lnTo>
                  <a:lnTo>
                    <a:pt x="5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033880" y="383292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058000" y="3835800"/>
              <a:ext cx="111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324040" y="3861720"/>
              <a:ext cx="864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1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087880" y="384156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108040" y="384444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448520" y="3794400"/>
              <a:ext cx="47160" cy="442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4"/>
                  </a:moveTo>
                  <a:lnTo>
                    <a:pt x="25" y="6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8" y="23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26760" y="384732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150880" y="385272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171040" y="3858840"/>
              <a:ext cx="1296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558960" y="37252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460400" y="3802680"/>
              <a:ext cx="54000" cy="558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12"/>
                  </a:moveTo>
                  <a:lnTo>
                    <a:pt x="38" y="19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27" y="37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9" y="37"/>
                  </a:lnTo>
                  <a:lnTo>
                    <a:pt x="4" y="35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6" y="33"/>
                  </a:lnTo>
                  <a:lnTo>
                    <a:pt x="13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7" y="31"/>
                  </a:lnTo>
                  <a:lnTo>
                    <a:pt x="32" y="25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95160" y="386316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473000" y="3805560"/>
              <a:ext cx="22680" cy="4428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14"/>
                  </a:moveTo>
                  <a:lnTo>
                    <a:pt x="16" y="17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218200" y="3866040"/>
              <a:ext cx="1260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558960" y="375372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558960" y="378108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528800" y="3863160"/>
              <a:ext cx="15840" cy="284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lnTo>
                    <a:pt x="4" y="14"/>
                  </a:lnTo>
                  <a:lnTo>
                    <a:pt x="7" y="8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9" y="8"/>
                  </a:lnTo>
                  <a:lnTo>
                    <a:pt x="6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567320" y="3868920"/>
              <a:ext cx="2880" cy="50040"/>
            </a:xfrm>
            <a:custGeom>
              <a:avLst/>
              <a:gdLst/>
              <a:ahLst/>
              <a:rect l="l" t="t" r="r" b="b"/>
              <a:pathLst>
                <a:path w="2" h="35">
                  <a:moveTo>
                    <a:pt x="2" y="0"/>
                  </a:moveTo>
                  <a:lnTo>
                    <a:pt x="2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558960" y="380844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558960" y="38329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0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538600" y="3999600"/>
              <a:ext cx="2520" cy="156600"/>
            </a:xfrm>
            <a:custGeom>
              <a:avLst/>
              <a:gdLst/>
              <a:ahLst/>
              <a:rect l="l" t="t" r="r" b="b"/>
              <a:pathLst>
                <a:path w="2" h="109">
                  <a:moveTo>
                    <a:pt x="0" y="107"/>
                  </a:moveTo>
                  <a:lnTo>
                    <a:pt x="0" y="109"/>
                  </a:lnTo>
                  <a:lnTo>
                    <a:pt x="2" y="0"/>
                  </a:lnTo>
                  <a:lnTo>
                    <a:pt x="2" y="36"/>
                  </a:lnTo>
                  <a:lnTo>
                    <a:pt x="2" y="71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558960" y="385884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579120" y="3874680"/>
              <a:ext cx="1099440" cy="653400"/>
            </a:xfrm>
            <a:custGeom>
              <a:avLst/>
              <a:gdLst/>
              <a:ahLst/>
              <a:rect l="l" t="t" r="r" b="b"/>
              <a:pathLst>
                <a:path w="769" h="455">
                  <a:moveTo>
                    <a:pt x="9" y="0"/>
                  </a:moveTo>
                  <a:lnTo>
                    <a:pt x="15" y="21"/>
                  </a:lnTo>
                  <a:lnTo>
                    <a:pt x="23" y="40"/>
                  </a:lnTo>
                  <a:lnTo>
                    <a:pt x="27" y="60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40" y="106"/>
                  </a:lnTo>
                  <a:lnTo>
                    <a:pt x="50" y="131"/>
                  </a:lnTo>
                  <a:lnTo>
                    <a:pt x="61" y="154"/>
                  </a:lnTo>
                  <a:lnTo>
                    <a:pt x="80" y="175"/>
                  </a:lnTo>
                  <a:lnTo>
                    <a:pt x="80" y="175"/>
                  </a:lnTo>
                  <a:lnTo>
                    <a:pt x="92" y="184"/>
                  </a:lnTo>
                  <a:lnTo>
                    <a:pt x="103" y="192"/>
                  </a:lnTo>
                  <a:lnTo>
                    <a:pt x="115" y="202"/>
                  </a:lnTo>
                  <a:lnTo>
                    <a:pt x="128" y="209"/>
                  </a:lnTo>
                  <a:lnTo>
                    <a:pt x="140" y="217"/>
                  </a:lnTo>
                  <a:lnTo>
                    <a:pt x="153" y="225"/>
                  </a:lnTo>
                  <a:lnTo>
                    <a:pt x="165" y="233"/>
                  </a:lnTo>
                  <a:lnTo>
                    <a:pt x="178" y="238"/>
                  </a:lnTo>
                  <a:lnTo>
                    <a:pt x="192" y="244"/>
                  </a:lnTo>
                  <a:lnTo>
                    <a:pt x="205" y="252"/>
                  </a:lnTo>
                  <a:lnTo>
                    <a:pt x="218" y="257"/>
                  </a:lnTo>
                  <a:lnTo>
                    <a:pt x="232" y="263"/>
                  </a:lnTo>
                  <a:lnTo>
                    <a:pt x="245" y="267"/>
                  </a:lnTo>
                  <a:lnTo>
                    <a:pt x="259" y="273"/>
                  </a:lnTo>
                  <a:lnTo>
                    <a:pt x="272" y="279"/>
                  </a:lnTo>
                  <a:lnTo>
                    <a:pt x="286" y="282"/>
                  </a:lnTo>
                  <a:lnTo>
                    <a:pt x="301" y="286"/>
                  </a:lnTo>
                  <a:lnTo>
                    <a:pt x="314" y="292"/>
                  </a:lnTo>
                  <a:lnTo>
                    <a:pt x="328" y="296"/>
                  </a:lnTo>
                  <a:lnTo>
                    <a:pt x="343" y="300"/>
                  </a:lnTo>
                  <a:lnTo>
                    <a:pt x="357" y="304"/>
                  </a:lnTo>
                  <a:lnTo>
                    <a:pt x="372" y="307"/>
                  </a:lnTo>
                  <a:lnTo>
                    <a:pt x="385" y="311"/>
                  </a:lnTo>
                  <a:lnTo>
                    <a:pt x="401" y="315"/>
                  </a:lnTo>
                  <a:lnTo>
                    <a:pt x="414" y="319"/>
                  </a:lnTo>
                  <a:lnTo>
                    <a:pt x="430" y="323"/>
                  </a:lnTo>
                  <a:lnTo>
                    <a:pt x="443" y="327"/>
                  </a:lnTo>
                  <a:lnTo>
                    <a:pt x="458" y="330"/>
                  </a:lnTo>
                  <a:lnTo>
                    <a:pt x="472" y="334"/>
                  </a:lnTo>
                  <a:lnTo>
                    <a:pt x="487" y="338"/>
                  </a:lnTo>
                  <a:lnTo>
                    <a:pt x="501" y="342"/>
                  </a:lnTo>
                  <a:lnTo>
                    <a:pt x="516" y="346"/>
                  </a:lnTo>
                  <a:lnTo>
                    <a:pt x="516" y="346"/>
                  </a:lnTo>
                  <a:lnTo>
                    <a:pt x="547" y="352"/>
                  </a:lnTo>
                  <a:lnTo>
                    <a:pt x="575" y="357"/>
                  </a:lnTo>
                  <a:lnTo>
                    <a:pt x="604" y="367"/>
                  </a:lnTo>
                  <a:lnTo>
                    <a:pt x="604" y="367"/>
                  </a:lnTo>
                  <a:lnTo>
                    <a:pt x="614" y="377"/>
                  </a:lnTo>
                  <a:lnTo>
                    <a:pt x="620" y="390"/>
                  </a:lnTo>
                  <a:lnTo>
                    <a:pt x="633" y="394"/>
                  </a:lnTo>
                  <a:lnTo>
                    <a:pt x="633" y="394"/>
                  </a:lnTo>
                  <a:lnTo>
                    <a:pt x="752" y="417"/>
                  </a:lnTo>
                  <a:lnTo>
                    <a:pt x="760" y="428"/>
                  </a:lnTo>
                  <a:lnTo>
                    <a:pt x="765" y="440"/>
                  </a:lnTo>
                  <a:lnTo>
                    <a:pt x="769" y="453"/>
                  </a:lnTo>
                  <a:lnTo>
                    <a:pt x="769" y="453"/>
                  </a:lnTo>
                  <a:lnTo>
                    <a:pt x="765" y="453"/>
                  </a:lnTo>
                  <a:lnTo>
                    <a:pt x="760" y="453"/>
                  </a:lnTo>
                  <a:lnTo>
                    <a:pt x="756" y="455"/>
                  </a:lnTo>
                  <a:lnTo>
                    <a:pt x="756" y="455"/>
                  </a:lnTo>
                  <a:lnTo>
                    <a:pt x="714" y="444"/>
                  </a:lnTo>
                  <a:lnTo>
                    <a:pt x="671" y="438"/>
                  </a:lnTo>
                  <a:lnTo>
                    <a:pt x="627" y="432"/>
                  </a:lnTo>
                  <a:lnTo>
                    <a:pt x="585" y="428"/>
                  </a:lnTo>
                  <a:lnTo>
                    <a:pt x="541" y="421"/>
                  </a:lnTo>
                  <a:lnTo>
                    <a:pt x="541" y="421"/>
                  </a:lnTo>
                  <a:lnTo>
                    <a:pt x="526" y="419"/>
                  </a:lnTo>
                  <a:lnTo>
                    <a:pt x="508" y="417"/>
                  </a:lnTo>
                  <a:lnTo>
                    <a:pt x="491" y="417"/>
                  </a:lnTo>
                  <a:lnTo>
                    <a:pt x="491" y="417"/>
                  </a:lnTo>
                  <a:lnTo>
                    <a:pt x="493" y="419"/>
                  </a:lnTo>
                  <a:lnTo>
                    <a:pt x="497" y="419"/>
                  </a:lnTo>
                  <a:lnTo>
                    <a:pt x="499" y="419"/>
                  </a:lnTo>
                  <a:lnTo>
                    <a:pt x="499" y="419"/>
                  </a:lnTo>
                  <a:lnTo>
                    <a:pt x="499" y="423"/>
                  </a:lnTo>
                  <a:lnTo>
                    <a:pt x="487" y="421"/>
                  </a:lnTo>
                  <a:lnTo>
                    <a:pt x="487" y="419"/>
                  </a:lnTo>
                  <a:lnTo>
                    <a:pt x="487" y="417"/>
                  </a:lnTo>
                  <a:lnTo>
                    <a:pt x="489" y="417"/>
                  </a:lnTo>
                  <a:lnTo>
                    <a:pt x="489" y="417"/>
                  </a:lnTo>
                  <a:lnTo>
                    <a:pt x="485" y="415"/>
                  </a:lnTo>
                  <a:lnTo>
                    <a:pt x="483" y="415"/>
                  </a:lnTo>
                  <a:lnTo>
                    <a:pt x="481" y="415"/>
                  </a:lnTo>
                  <a:lnTo>
                    <a:pt x="481" y="415"/>
                  </a:lnTo>
                  <a:lnTo>
                    <a:pt x="479" y="419"/>
                  </a:lnTo>
                  <a:lnTo>
                    <a:pt x="476" y="419"/>
                  </a:lnTo>
                  <a:lnTo>
                    <a:pt x="472" y="417"/>
                  </a:lnTo>
                  <a:lnTo>
                    <a:pt x="472" y="417"/>
                  </a:lnTo>
                  <a:lnTo>
                    <a:pt x="472" y="415"/>
                  </a:lnTo>
                  <a:lnTo>
                    <a:pt x="470" y="413"/>
                  </a:lnTo>
                  <a:lnTo>
                    <a:pt x="470" y="413"/>
                  </a:lnTo>
                  <a:lnTo>
                    <a:pt x="470" y="413"/>
                  </a:lnTo>
                  <a:lnTo>
                    <a:pt x="466" y="413"/>
                  </a:lnTo>
                  <a:lnTo>
                    <a:pt x="464" y="413"/>
                  </a:lnTo>
                  <a:lnTo>
                    <a:pt x="462" y="415"/>
                  </a:lnTo>
                  <a:lnTo>
                    <a:pt x="462" y="415"/>
                  </a:lnTo>
                  <a:lnTo>
                    <a:pt x="458" y="415"/>
                  </a:lnTo>
                  <a:lnTo>
                    <a:pt x="455" y="415"/>
                  </a:lnTo>
                  <a:lnTo>
                    <a:pt x="453" y="411"/>
                  </a:lnTo>
                  <a:lnTo>
                    <a:pt x="453" y="411"/>
                  </a:lnTo>
                  <a:lnTo>
                    <a:pt x="451" y="409"/>
                  </a:lnTo>
                  <a:lnTo>
                    <a:pt x="449" y="409"/>
                  </a:lnTo>
                  <a:lnTo>
                    <a:pt x="447" y="409"/>
                  </a:lnTo>
                  <a:lnTo>
                    <a:pt x="447" y="409"/>
                  </a:lnTo>
                  <a:lnTo>
                    <a:pt x="443" y="411"/>
                  </a:lnTo>
                  <a:lnTo>
                    <a:pt x="439" y="411"/>
                  </a:lnTo>
                  <a:lnTo>
                    <a:pt x="435" y="409"/>
                  </a:lnTo>
                  <a:lnTo>
                    <a:pt x="435" y="409"/>
                  </a:lnTo>
                  <a:lnTo>
                    <a:pt x="431" y="407"/>
                  </a:lnTo>
                  <a:lnTo>
                    <a:pt x="428" y="407"/>
                  </a:lnTo>
                  <a:lnTo>
                    <a:pt x="422" y="407"/>
                  </a:lnTo>
                  <a:lnTo>
                    <a:pt x="422" y="407"/>
                  </a:lnTo>
                  <a:lnTo>
                    <a:pt x="418" y="405"/>
                  </a:lnTo>
                  <a:lnTo>
                    <a:pt x="414" y="403"/>
                  </a:lnTo>
                  <a:lnTo>
                    <a:pt x="408" y="403"/>
                  </a:lnTo>
                  <a:lnTo>
                    <a:pt x="408" y="403"/>
                  </a:lnTo>
                  <a:lnTo>
                    <a:pt x="401" y="403"/>
                  </a:lnTo>
                  <a:lnTo>
                    <a:pt x="395" y="402"/>
                  </a:lnTo>
                  <a:lnTo>
                    <a:pt x="391" y="398"/>
                  </a:lnTo>
                  <a:lnTo>
                    <a:pt x="391" y="398"/>
                  </a:lnTo>
                  <a:lnTo>
                    <a:pt x="387" y="400"/>
                  </a:lnTo>
                  <a:lnTo>
                    <a:pt x="384" y="400"/>
                  </a:lnTo>
                  <a:lnTo>
                    <a:pt x="380" y="400"/>
                  </a:lnTo>
                  <a:lnTo>
                    <a:pt x="380" y="400"/>
                  </a:lnTo>
                  <a:lnTo>
                    <a:pt x="380" y="396"/>
                  </a:lnTo>
                  <a:lnTo>
                    <a:pt x="378" y="396"/>
                  </a:lnTo>
                  <a:lnTo>
                    <a:pt x="376" y="394"/>
                  </a:lnTo>
                  <a:lnTo>
                    <a:pt x="376" y="394"/>
                  </a:lnTo>
                  <a:lnTo>
                    <a:pt x="374" y="398"/>
                  </a:lnTo>
                  <a:lnTo>
                    <a:pt x="370" y="398"/>
                  </a:lnTo>
                  <a:lnTo>
                    <a:pt x="366" y="396"/>
                  </a:lnTo>
                  <a:lnTo>
                    <a:pt x="366" y="396"/>
                  </a:lnTo>
                  <a:lnTo>
                    <a:pt x="364" y="396"/>
                  </a:lnTo>
                  <a:lnTo>
                    <a:pt x="364" y="394"/>
                  </a:lnTo>
                  <a:lnTo>
                    <a:pt x="364" y="394"/>
                  </a:lnTo>
                  <a:lnTo>
                    <a:pt x="364" y="394"/>
                  </a:lnTo>
                  <a:lnTo>
                    <a:pt x="366" y="394"/>
                  </a:lnTo>
                  <a:lnTo>
                    <a:pt x="366" y="394"/>
                  </a:lnTo>
                  <a:lnTo>
                    <a:pt x="368" y="392"/>
                  </a:lnTo>
                  <a:lnTo>
                    <a:pt x="368" y="392"/>
                  </a:lnTo>
                  <a:lnTo>
                    <a:pt x="347" y="388"/>
                  </a:lnTo>
                  <a:lnTo>
                    <a:pt x="326" y="382"/>
                  </a:lnTo>
                  <a:lnTo>
                    <a:pt x="305" y="378"/>
                  </a:lnTo>
                  <a:lnTo>
                    <a:pt x="305" y="378"/>
                  </a:lnTo>
                  <a:lnTo>
                    <a:pt x="272" y="371"/>
                  </a:lnTo>
                  <a:lnTo>
                    <a:pt x="241" y="361"/>
                  </a:lnTo>
                  <a:lnTo>
                    <a:pt x="209" y="353"/>
                  </a:lnTo>
                  <a:lnTo>
                    <a:pt x="209" y="353"/>
                  </a:lnTo>
                  <a:lnTo>
                    <a:pt x="180" y="346"/>
                  </a:lnTo>
                  <a:lnTo>
                    <a:pt x="153" y="338"/>
                  </a:lnTo>
                  <a:lnTo>
                    <a:pt x="126" y="330"/>
                  </a:lnTo>
                  <a:lnTo>
                    <a:pt x="99" y="321"/>
                  </a:lnTo>
                  <a:lnTo>
                    <a:pt x="73" y="309"/>
                  </a:lnTo>
                  <a:lnTo>
                    <a:pt x="48" y="298"/>
                  </a:lnTo>
                  <a:lnTo>
                    <a:pt x="23" y="284"/>
                  </a:lnTo>
                  <a:lnTo>
                    <a:pt x="23" y="284"/>
                  </a:lnTo>
                  <a:lnTo>
                    <a:pt x="17" y="271"/>
                  </a:lnTo>
                  <a:lnTo>
                    <a:pt x="11" y="259"/>
                  </a:lnTo>
                  <a:lnTo>
                    <a:pt x="5" y="248"/>
                  </a:lnTo>
                  <a:lnTo>
                    <a:pt x="3" y="234"/>
                  </a:lnTo>
                  <a:lnTo>
                    <a:pt x="3" y="234"/>
                  </a:lnTo>
                  <a:lnTo>
                    <a:pt x="2" y="160"/>
                  </a:lnTo>
                  <a:lnTo>
                    <a:pt x="2" y="8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522760" y="4042800"/>
              <a:ext cx="1080" cy="140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558960" y="388332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8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522760" y="4059720"/>
              <a:ext cx="1080" cy="216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1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558960" y="39016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562720" y="4072680"/>
              <a:ext cx="14400" cy="532800"/>
            </a:xfrm>
            <a:custGeom>
              <a:avLst/>
              <a:gdLst/>
              <a:ahLst/>
              <a:rect l="l" t="t" r="r" b="b"/>
              <a:pathLst>
                <a:path w="10" h="371">
                  <a:moveTo>
                    <a:pt x="6" y="204"/>
                  </a:moveTo>
                  <a:lnTo>
                    <a:pt x="8" y="260"/>
                  </a:lnTo>
                  <a:lnTo>
                    <a:pt x="10" y="315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2" y="365"/>
                  </a:lnTo>
                  <a:lnTo>
                    <a:pt x="2" y="360"/>
                  </a:lnTo>
                  <a:lnTo>
                    <a:pt x="4" y="354"/>
                  </a:lnTo>
                  <a:lnTo>
                    <a:pt x="4" y="354"/>
                  </a:lnTo>
                  <a:lnTo>
                    <a:pt x="4" y="315"/>
                  </a:lnTo>
                  <a:lnTo>
                    <a:pt x="2" y="277"/>
                  </a:lnTo>
                  <a:lnTo>
                    <a:pt x="6" y="235"/>
                  </a:lnTo>
                  <a:lnTo>
                    <a:pt x="6" y="235"/>
                  </a:lnTo>
                  <a:lnTo>
                    <a:pt x="4" y="204"/>
                  </a:lnTo>
                  <a:lnTo>
                    <a:pt x="6" y="171"/>
                  </a:lnTo>
                  <a:lnTo>
                    <a:pt x="6" y="139"/>
                  </a:lnTo>
                  <a:lnTo>
                    <a:pt x="6" y="139"/>
                  </a:lnTo>
                  <a:lnTo>
                    <a:pt x="6" y="93"/>
                  </a:lnTo>
                  <a:lnTo>
                    <a:pt x="6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70"/>
                  </a:lnTo>
                  <a:lnTo>
                    <a:pt x="10" y="137"/>
                  </a:lnTo>
                  <a:lnTo>
                    <a:pt x="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522760" y="4084200"/>
              <a:ext cx="1080" cy="86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558960" y="3927960"/>
              <a:ext cx="2880" cy="126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22760" y="4096080"/>
              <a:ext cx="1080" cy="100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519880" y="4108680"/>
              <a:ext cx="2880" cy="209520"/>
            </a:xfrm>
            <a:custGeom>
              <a:avLst/>
              <a:gdLst/>
              <a:ahLst/>
              <a:rect l="l" t="t" r="r" b="b"/>
              <a:pathLst>
                <a:path w="2" h="146">
                  <a:moveTo>
                    <a:pt x="0" y="146"/>
                  </a:moveTo>
                  <a:lnTo>
                    <a:pt x="2" y="9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558960" y="39520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558960" y="397656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558960" y="399960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558960" y="402696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558960" y="405144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558960" y="407268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2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473080" y="4243680"/>
              <a:ext cx="252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558960" y="410148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7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469840" y="4278240"/>
              <a:ext cx="5400" cy="18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7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556440" y="4120200"/>
              <a:ext cx="540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558960" y="41475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469840" y="4308480"/>
              <a:ext cx="540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13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9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558960" y="417492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466960" y="433872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558960" y="4197960"/>
              <a:ext cx="2880" cy="126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497200" y="4359960"/>
              <a:ext cx="49680" cy="295560"/>
            </a:xfrm>
            <a:custGeom>
              <a:avLst/>
              <a:gdLst/>
              <a:ahLst/>
              <a:rect l="l" t="t" r="r" b="b"/>
              <a:pathLst>
                <a:path w="35" h="206">
                  <a:moveTo>
                    <a:pt x="14" y="106"/>
                  </a:moveTo>
                  <a:lnTo>
                    <a:pt x="19" y="119"/>
                  </a:lnTo>
                  <a:lnTo>
                    <a:pt x="25" y="131"/>
                  </a:lnTo>
                  <a:lnTo>
                    <a:pt x="31" y="142"/>
                  </a:lnTo>
                  <a:lnTo>
                    <a:pt x="35" y="154"/>
                  </a:lnTo>
                  <a:lnTo>
                    <a:pt x="35" y="167"/>
                  </a:lnTo>
                  <a:lnTo>
                    <a:pt x="35" y="167"/>
                  </a:lnTo>
                  <a:lnTo>
                    <a:pt x="31" y="171"/>
                  </a:lnTo>
                  <a:lnTo>
                    <a:pt x="31" y="175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35" y="184"/>
                  </a:lnTo>
                  <a:lnTo>
                    <a:pt x="10" y="206"/>
                  </a:lnTo>
                  <a:lnTo>
                    <a:pt x="10" y="194"/>
                  </a:lnTo>
                  <a:lnTo>
                    <a:pt x="14" y="184"/>
                  </a:lnTo>
                  <a:lnTo>
                    <a:pt x="18" y="175"/>
                  </a:lnTo>
                  <a:lnTo>
                    <a:pt x="18" y="175"/>
                  </a:lnTo>
                  <a:lnTo>
                    <a:pt x="18" y="179"/>
                  </a:lnTo>
                  <a:lnTo>
                    <a:pt x="16" y="184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21" y="173"/>
                  </a:lnTo>
                  <a:lnTo>
                    <a:pt x="23" y="158"/>
                  </a:lnTo>
                  <a:lnTo>
                    <a:pt x="23" y="142"/>
                  </a:lnTo>
                  <a:lnTo>
                    <a:pt x="23" y="142"/>
                  </a:lnTo>
                  <a:lnTo>
                    <a:pt x="21" y="133"/>
                  </a:lnTo>
                  <a:lnTo>
                    <a:pt x="19" y="123"/>
                  </a:lnTo>
                  <a:lnTo>
                    <a:pt x="14" y="117"/>
                  </a:lnTo>
                  <a:lnTo>
                    <a:pt x="14" y="117"/>
                  </a:lnTo>
                  <a:lnTo>
                    <a:pt x="10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8" y="127"/>
                  </a:lnTo>
                  <a:lnTo>
                    <a:pt x="12" y="135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4" y="163"/>
                  </a:lnTo>
                  <a:lnTo>
                    <a:pt x="8" y="18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08"/>
                  </a:lnTo>
                  <a:lnTo>
                    <a:pt x="4" y="110"/>
                  </a:lnTo>
                  <a:lnTo>
                    <a:pt x="6" y="112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2" y="110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6" y="0"/>
                  </a:lnTo>
                  <a:lnTo>
                    <a:pt x="1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66960" y="4359960"/>
              <a:ext cx="5760" cy="21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543480" y="4230720"/>
              <a:ext cx="114480" cy="143640"/>
            </a:xfrm>
            <a:custGeom>
              <a:avLst/>
              <a:gdLst/>
              <a:ahLst/>
              <a:rect l="l" t="t" r="r" b="b"/>
              <a:pathLst>
                <a:path w="80" h="100">
                  <a:moveTo>
                    <a:pt x="19" y="13"/>
                  </a:moveTo>
                  <a:lnTo>
                    <a:pt x="21" y="31"/>
                  </a:lnTo>
                  <a:lnTo>
                    <a:pt x="21" y="48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5" y="69"/>
                  </a:lnTo>
                  <a:lnTo>
                    <a:pt x="71" y="79"/>
                  </a:lnTo>
                  <a:lnTo>
                    <a:pt x="76" y="84"/>
                  </a:lnTo>
                  <a:lnTo>
                    <a:pt x="78" y="92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53" y="96"/>
                  </a:lnTo>
                  <a:lnTo>
                    <a:pt x="28" y="9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73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0"/>
                  </a:lnTo>
                  <a:lnTo>
                    <a:pt x="9" y="2"/>
                  </a:lnTo>
                  <a:lnTo>
                    <a:pt x="15" y="8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66960" y="4393080"/>
              <a:ext cx="576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8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568480" y="4479480"/>
              <a:ext cx="32760" cy="1476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23" y="7"/>
                  </a:moveTo>
                  <a:lnTo>
                    <a:pt x="23" y="38"/>
                  </a:lnTo>
                  <a:lnTo>
                    <a:pt x="23" y="71"/>
                  </a:lnTo>
                  <a:lnTo>
                    <a:pt x="21" y="101"/>
                  </a:lnTo>
                  <a:lnTo>
                    <a:pt x="21" y="101"/>
                  </a:lnTo>
                  <a:lnTo>
                    <a:pt x="16" y="103"/>
                  </a:lnTo>
                  <a:lnTo>
                    <a:pt x="8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82"/>
                  </a:lnTo>
                  <a:lnTo>
                    <a:pt x="10" y="65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32"/>
                  </a:lnTo>
                  <a:lnTo>
                    <a:pt x="12" y="17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663360" y="435168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683520" y="435708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702240" y="4359960"/>
              <a:ext cx="1152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723840" y="43660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743640" y="436896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764880" y="4374360"/>
              <a:ext cx="1440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787920" y="4377240"/>
              <a:ext cx="21240" cy="68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3"/>
                  </a:moveTo>
                  <a:lnTo>
                    <a:pt x="11" y="5"/>
                  </a:lnTo>
                  <a:lnTo>
                    <a:pt x="5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815280" y="43815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830760" y="438444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858120" y="439056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83680" y="4395960"/>
              <a:ext cx="18720" cy="86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908160" y="4401720"/>
              <a:ext cx="1440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929760" y="44078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955320" y="4413240"/>
              <a:ext cx="15480" cy="3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2"/>
                  </a:moveTo>
                  <a:lnTo>
                    <a:pt x="7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982680" y="4416120"/>
              <a:ext cx="1260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9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006800" y="442044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031280" y="442620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053960" y="442908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075560" y="44348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300200" y="44794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22880" y="4485240"/>
              <a:ext cx="972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1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344120" y="44863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368600" y="44924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388760" y="449532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415760" y="45007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437360" y="45068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359680" y="4594320"/>
              <a:ext cx="130320" cy="1375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91" y="0"/>
                  </a:moveTo>
                  <a:lnTo>
                    <a:pt x="91" y="33"/>
                  </a:lnTo>
                  <a:lnTo>
                    <a:pt x="89" y="64"/>
                  </a:lnTo>
                  <a:lnTo>
                    <a:pt x="89" y="96"/>
                  </a:lnTo>
                  <a:lnTo>
                    <a:pt x="89" y="96"/>
                  </a:lnTo>
                  <a:lnTo>
                    <a:pt x="60" y="93"/>
                  </a:lnTo>
                  <a:lnTo>
                    <a:pt x="31" y="87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6" y="70"/>
                  </a:lnTo>
                  <a:lnTo>
                    <a:pt x="10" y="66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4" y="71"/>
                  </a:lnTo>
                  <a:lnTo>
                    <a:pt x="66" y="68"/>
                  </a:lnTo>
                  <a:lnTo>
                    <a:pt x="68" y="48"/>
                  </a:lnTo>
                  <a:lnTo>
                    <a:pt x="68" y="27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5" y="2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460400" y="4509720"/>
              <a:ext cx="15480" cy="54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484520" y="45151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09000" y="4520880"/>
              <a:ext cx="14040" cy="39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1"/>
                  </a:moveTo>
                  <a:lnTo>
                    <a:pt x="10" y="3"/>
                  </a:ln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528800" y="4522320"/>
              <a:ext cx="18720" cy="576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556160" y="452808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574520" y="4530960"/>
              <a:ext cx="57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591800" y="45367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636080" y="4545360"/>
              <a:ext cx="1548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7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657680" y="45482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676040" y="4551480"/>
              <a:ext cx="16920" cy="39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699080" y="45554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04840" y="455544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731840" y="45612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7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744800" y="4564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762080" y="456696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783320" y="457272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13560" y="45784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42000" y="458424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863600" y="4590000"/>
              <a:ext cx="1404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890600" y="45914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910760" y="4597200"/>
              <a:ext cx="68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932360" y="45997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959360" y="460584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973760" y="460872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992120" y="4614480"/>
              <a:ext cx="111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013720" y="461700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045040" y="4623120"/>
              <a:ext cx="1296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063760" y="46242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075280" y="4627080"/>
              <a:ext cx="1260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090760" y="4630320"/>
              <a:ext cx="1152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113800" y="463608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138280" y="46414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162400" y="46443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176800" y="464760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204160" y="465336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225400" y="4658760"/>
              <a:ext cx="22680" cy="43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0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52760" y="466344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61040" y="4665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2" name="COFFEE" descr=""/>
          <p:cNvPicPr/>
          <p:nvPr/>
        </p:nvPicPr>
        <p:blipFill>
          <a:blip r:embed="rId1"/>
          <a:stretch/>
        </p:blipFill>
        <p:spPr>
          <a:xfrm>
            <a:off x="3598920" y="2724120"/>
            <a:ext cx="1944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3" name=""/>
          <p:cNvGrpSpPr/>
          <p:nvPr/>
        </p:nvGrpSpPr>
        <p:grpSpPr>
          <a:xfrm>
            <a:off x="3149640" y="3176640"/>
            <a:ext cx="2844720" cy="1264680"/>
            <a:chOff x="3149640" y="3176640"/>
            <a:chExt cx="2844720" cy="1264680"/>
          </a:xfrm>
        </p:grpSpPr>
        <p:sp>
          <p:nvSpPr>
            <p:cNvPr id="2484" name=""/>
            <p:cNvSpPr/>
            <p:nvPr/>
          </p:nvSpPr>
          <p:spPr>
            <a:xfrm>
              <a:off x="3149640" y="3597120"/>
              <a:ext cx="2844720" cy="844200"/>
            </a:xfrm>
            <a:custGeom>
              <a:avLst/>
              <a:gdLst/>
              <a:ahLst/>
              <a:rect l="l" t="t" r="r" b="b"/>
              <a:pathLst>
                <a:path w="5378" h="1596">
                  <a:moveTo>
                    <a:pt x="2690" y="1596"/>
                  </a:moveTo>
                  <a:lnTo>
                    <a:pt x="4677" y="1596"/>
                  </a:lnTo>
                  <a:lnTo>
                    <a:pt x="4688" y="1595"/>
                  </a:lnTo>
                  <a:lnTo>
                    <a:pt x="4717" y="1589"/>
                  </a:lnTo>
                  <a:lnTo>
                    <a:pt x="4762" y="1582"/>
                  </a:lnTo>
                  <a:lnTo>
                    <a:pt x="4819" y="1568"/>
                  </a:lnTo>
                  <a:lnTo>
                    <a:pt x="4886" y="1552"/>
                  </a:lnTo>
                  <a:lnTo>
                    <a:pt x="4958" y="1530"/>
                  </a:lnTo>
                  <a:lnTo>
                    <a:pt x="5032" y="1502"/>
                  </a:lnTo>
                  <a:lnTo>
                    <a:pt x="5107" y="1470"/>
                  </a:lnTo>
                  <a:lnTo>
                    <a:pt x="5175" y="1432"/>
                  </a:lnTo>
                  <a:lnTo>
                    <a:pt x="5238" y="1386"/>
                  </a:lnTo>
                  <a:lnTo>
                    <a:pt x="5291" y="1336"/>
                  </a:lnTo>
                  <a:lnTo>
                    <a:pt x="5329" y="1277"/>
                  </a:lnTo>
                  <a:lnTo>
                    <a:pt x="5349" y="1212"/>
                  </a:lnTo>
                  <a:lnTo>
                    <a:pt x="5352" y="1139"/>
                  </a:lnTo>
                  <a:lnTo>
                    <a:pt x="5329" y="1057"/>
                  </a:lnTo>
                  <a:lnTo>
                    <a:pt x="5280" y="967"/>
                  </a:lnTo>
                  <a:lnTo>
                    <a:pt x="5140" y="739"/>
                  </a:lnTo>
                  <a:lnTo>
                    <a:pt x="5062" y="557"/>
                  </a:lnTo>
                  <a:lnTo>
                    <a:pt x="5034" y="414"/>
                  </a:lnTo>
                  <a:lnTo>
                    <a:pt x="5044" y="311"/>
                  </a:lnTo>
                  <a:lnTo>
                    <a:pt x="5083" y="236"/>
                  </a:lnTo>
                  <a:lnTo>
                    <a:pt x="5137" y="190"/>
                  </a:lnTo>
                  <a:lnTo>
                    <a:pt x="5198" y="166"/>
                  </a:lnTo>
                  <a:lnTo>
                    <a:pt x="5253" y="158"/>
                  </a:lnTo>
                  <a:lnTo>
                    <a:pt x="5299" y="152"/>
                  </a:lnTo>
                  <a:lnTo>
                    <a:pt x="5336" y="133"/>
                  </a:lnTo>
                  <a:lnTo>
                    <a:pt x="5365" y="107"/>
                  </a:lnTo>
                  <a:lnTo>
                    <a:pt x="5378" y="79"/>
                  </a:lnTo>
                  <a:lnTo>
                    <a:pt x="5373" y="49"/>
                  </a:lnTo>
                  <a:lnTo>
                    <a:pt x="5348" y="24"/>
                  </a:lnTo>
                  <a:lnTo>
                    <a:pt x="5301" y="6"/>
                  </a:lnTo>
                  <a:lnTo>
                    <a:pt x="5227" y="0"/>
                  </a:lnTo>
                  <a:lnTo>
                    <a:pt x="2690" y="0"/>
                  </a:lnTo>
                  <a:lnTo>
                    <a:pt x="150" y="0"/>
                  </a:lnTo>
                  <a:lnTo>
                    <a:pt x="77" y="6"/>
                  </a:lnTo>
                  <a:lnTo>
                    <a:pt x="27" y="24"/>
                  </a:lnTo>
                  <a:lnTo>
                    <a:pt x="5" y="49"/>
                  </a:lnTo>
                  <a:lnTo>
                    <a:pt x="0" y="79"/>
                  </a:lnTo>
                  <a:lnTo>
                    <a:pt x="13" y="107"/>
                  </a:lnTo>
                  <a:lnTo>
                    <a:pt x="41" y="133"/>
                  </a:lnTo>
                  <a:lnTo>
                    <a:pt x="79" y="152"/>
                  </a:lnTo>
                  <a:lnTo>
                    <a:pt x="123" y="158"/>
                  </a:lnTo>
                  <a:lnTo>
                    <a:pt x="180" y="166"/>
                  </a:lnTo>
                  <a:lnTo>
                    <a:pt x="240" y="190"/>
                  </a:lnTo>
                  <a:lnTo>
                    <a:pt x="296" y="236"/>
                  </a:lnTo>
                  <a:lnTo>
                    <a:pt x="334" y="311"/>
                  </a:lnTo>
                  <a:lnTo>
                    <a:pt x="343" y="414"/>
                  </a:lnTo>
                  <a:lnTo>
                    <a:pt x="314" y="557"/>
                  </a:lnTo>
                  <a:lnTo>
                    <a:pt x="236" y="739"/>
                  </a:lnTo>
                  <a:lnTo>
                    <a:pt x="97" y="967"/>
                  </a:lnTo>
                  <a:lnTo>
                    <a:pt x="49" y="1057"/>
                  </a:lnTo>
                  <a:lnTo>
                    <a:pt x="25" y="1139"/>
                  </a:lnTo>
                  <a:lnTo>
                    <a:pt x="27" y="1212"/>
                  </a:lnTo>
                  <a:lnTo>
                    <a:pt x="49" y="1277"/>
                  </a:lnTo>
                  <a:lnTo>
                    <a:pt x="86" y="1336"/>
                  </a:lnTo>
                  <a:lnTo>
                    <a:pt x="139" y="1386"/>
                  </a:lnTo>
                  <a:lnTo>
                    <a:pt x="203" y="1432"/>
                  </a:lnTo>
                  <a:lnTo>
                    <a:pt x="272" y="1470"/>
                  </a:lnTo>
                  <a:lnTo>
                    <a:pt x="346" y="1502"/>
                  </a:lnTo>
                  <a:lnTo>
                    <a:pt x="420" y="1530"/>
                  </a:lnTo>
                  <a:lnTo>
                    <a:pt x="492" y="1552"/>
                  </a:lnTo>
                  <a:lnTo>
                    <a:pt x="559" y="1568"/>
                  </a:lnTo>
                  <a:lnTo>
                    <a:pt x="617" y="1582"/>
                  </a:lnTo>
                  <a:lnTo>
                    <a:pt x="661" y="1589"/>
                  </a:lnTo>
                  <a:lnTo>
                    <a:pt x="690" y="1595"/>
                  </a:lnTo>
                  <a:lnTo>
                    <a:pt x="701" y="1596"/>
                  </a:lnTo>
                  <a:lnTo>
                    <a:pt x="2690" y="1596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5" name=""/>
            <p:cNvGrpSpPr/>
            <p:nvPr/>
          </p:nvGrpSpPr>
          <p:grpSpPr>
            <a:xfrm>
              <a:off x="3178080" y="3176640"/>
              <a:ext cx="2773440" cy="421560"/>
              <a:chOff x="3178080" y="3176640"/>
              <a:chExt cx="2773440" cy="421560"/>
            </a:xfrm>
          </p:grpSpPr>
          <p:sp>
            <p:nvSpPr>
              <p:cNvPr id="2486" name=""/>
              <p:cNvSpPr/>
              <p:nvPr/>
            </p:nvSpPr>
            <p:spPr>
              <a:xfrm>
                <a:off x="3178080" y="3336480"/>
                <a:ext cx="2773440" cy="261720"/>
              </a:xfrm>
              <a:custGeom>
                <a:avLst/>
                <a:gdLst/>
                <a:ahLst/>
                <a:rect l="l" t="t" r="r" b="b"/>
                <a:pathLst>
                  <a:path w="5241" h="497">
                    <a:moveTo>
                      <a:pt x="2620" y="497"/>
                    </a:moveTo>
                    <a:lnTo>
                      <a:pt x="5053" y="497"/>
                    </a:lnTo>
                    <a:lnTo>
                      <a:pt x="5131" y="490"/>
                    </a:lnTo>
                    <a:lnTo>
                      <a:pt x="5189" y="472"/>
                    </a:lnTo>
                    <a:lnTo>
                      <a:pt x="5225" y="446"/>
                    </a:lnTo>
                    <a:lnTo>
                      <a:pt x="5241" y="418"/>
                    </a:lnTo>
                    <a:lnTo>
                      <a:pt x="5231" y="389"/>
                    </a:lnTo>
                    <a:lnTo>
                      <a:pt x="5197" y="364"/>
                    </a:lnTo>
                    <a:lnTo>
                      <a:pt x="5137" y="347"/>
                    </a:lnTo>
                    <a:lnTo>
                      <a:pt x="5053" y="340"/>
                    </a:lnTo>
                    <a:lnTo>
                      <a:pt x="5010" y="336"/>
                    </a:lnTo>
                    <a:lnTo>
                      <a:pt x="4976" y="326"/>
                    </a:lnTo>
                    <a:lnTo>
                      <a:pt x="4944" y="308"/>
                    </a:lnTo>
                    <a:lnTo>
                      <a:pt x="4913" y="287"/>
                    </a:lnTo>
                    <a:lnTo>
                      <a:pt x="4876" y="262"/>
                    </a:lnTo>
                    <a:lnTo>
                      <a:pt x="4828" y="232"/>
                    </a:lnTo>
                    <a:lnTo>
                      <a:pt x="4766" y="202"/>
                    </a:lnTo>
                    <a:lnTo>
                      <a:pt x="4686" y="170"/>
                    </a:lnTo>
                    <a:lnTo>
                      <a:pt x="4584" y="139"/>
                    </a:lnTo>
                    <a:lnTo>
                      <a:pt x="4456" y="108"/>
                    </a:lnTo>
                    <a:lnTo>
                      <a:pt x="4295" y="79"/>
                    </a:lnTo>
                    <a:lnTo>
                      <a:pt x="4099" y="54"/>
                    </a:lnTo>
                    <a:lnTo>
                      <a:pt x="3864" y="31"/>
                    </a:lnTo>
                    <a:lnTo>
                      <a:pt x="3584" y="14"/>
                    </a:lnTo>
                    <a:lnTo>
                      <a:pt x="3258" y="5"/>
                    </a:lnTo>
                    <a:lnTo>
                      <a:pt x="2877" y="0"/>
                    </a:lnTo>
                    <a:lnTo>
                      <a:pt x="2620" y="0"/>
                    </a:lnTo>
                    <a:lnTo>
                      <a:pt x="2334" y="0"/>
                    </a:lnTo>
                    <a:lnTo>
                      <a:pt x="1953" y="5"/>
                    </a:lnTo>
                    <a:lnTo>
                      <a:pt x="1624" y="14"/>
                    </a:lnTo>
                    <a:lnTo>
                      <a:pt x="1347" y="31"/>
                    </a:lnTo>
                    <a:lnTo>
                      <a:pt x="1113" y="54"/>
                    </a:lnTo>
                    <a:lnTo>
                      <a:pt x="920" y="79"/>
                    </a:lnTo>
                    <a:lnTo>
                      <a:pt x="762" y="108"/>
                    </a:lnTo>
                    <a:lnTo>
                      <a:pt x="636" y="139"/>
                    </a:lnTo>
                    <a:lnTo>
                      <a:pt x="537" y="170"/>
                    </a:lnTo>
                    <a:lnTo>
                      <a:pt x="460" y="202"/>
                    </a:lnTo>
                    <a:lnTo>
                      <a:pt x="401" y="232"/>
                    </a:lnTo>
                    <a:lnTo>
                      <a:pt x="357" y="262"/>
                    </a:lnTo>
                    <a:lnTo>
                      <a:pt x="322" y="287"/>
                    </a:lnTo>
                    <a:lnTo>
                      <a:pt x="292" y="308"/>
                    </a:lnTo>
                    <a:lnTo>
                      <a:pt x="262" y="326"/>
                    </a:lnTo>
                    <a:lnTo>
                      <a:pt x="230" y="336"/>
                    </a:lnTo>
                    <a:lnTo>
                      <a:pt x="188" y="340"/>
                    </a:lnTo>
                    <a:lnTo>
                      <a:pt x="103" y="347"/>
                    </a:lnTo>
                    <a:lnTo>
                      <a:pt x="45" y="364"/>
                    </a:lnTo>
                    <a:lnTo>
                      <a:pt x="11" y="389"/>
                    </a:lnTo>
                    <a:lnTo>
                      <a:pt x="0" y="418"/>
                    </a:lnTo>
                    <a:lnTo>
                      <a:pt x="16" y="446"/>
                    </a:lnTo>
                    <a:lnTo>
                      <a:pt x="51" y="472"/>
                    </a:lnTo>
                    <a:lnTo>
                      <a:pt x="109" y="490"/>
                    </a:lnTo>
                    <a:lnTo>
                      <a:pt x="188" y="497"/>
                    </a:lnTo>
                    <a:lnTo>
                      <a:pt x="2620" y="49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370400" y="3176640"/>
                <a:ext cx="376200" cy="159840"/>
              </a:xfrm>
              <a:custGeom>
                <a:avLst/>
                <a:gdLst/>
                <a:ahLst/>
                <a:rect l="l" t="t" r="r" b="b"/>
                <a:pathLst>
                  <a:path w="709" h="301">
                    <a:moveTo>
                      <a:pt x="625" y="301"/>
                    </a:moveTo>
                    <a:lnTo>
                      <a:pt x="589" y="286"/>
                    </a:lnTo>
                    <a:lnTo>
                      <a:pt x="557" y="265"/>
                    </a:lnTo>
                    <a:lnTo>
                      <a:pt x="537" y="236"/>
                    </a:lnTo>
                    <a:lnTo>
                      <a:pt x="527" y="202"/>
                    </a:lnTo>
                    <a:lnTo>
                      <a:pt x="532" y="164"/>
                    </a:lnTo>
                    <a:lnTo>
                      <a:pt x="549" y="128"/>
                    </a:lnTo>
                    <a:lnTo>
                      <a:pt x="583" y="102"/>
                    </a:lnTo>
                    <a:lnTo>
                      <a:pt x="639" y="91"/>
                    </a:lnTo>
                    <a:lnTo>
                      <a:pt x="690" y="78"/>
                    </a:lnTo>
                    <a:lnTo>
                      <a:pt x="709" y="45"/>
                    </a:lnTo>
                    <a:lnTo>
                      <a:pt x="690" y="14"/>
                    </a:lnTo>
                    <a:lnTo>
                      <a:pt x="639" y="0"/>
                    </a:lnTo>
                    <a:lnTo>
                      <a:pt x="353" y="0"/>
                    </a:lnTo>
                    <a:lnTo>
                      <a:pt x="70" y="0"/>
                    </a:lnTo>
                    <a:lnTo>
                      <a:pt x="18" y="14"/>
                    </a:lnTo>
                    <a:lnTo>
                      <a:pt x="0" y="45"/>
                    </a:lnTo>
                    <a:lnTo>
                      <a:pt x="18" y="78"/>
                    </a:lnTo>
                    <a:lnTo>
                      <a:pt x="70" y="91"/>
                    </a:lnTo>
                    <a:lnTo>
                      <a:pt x="125" y="102"/>
                    </a:lnTo>
                    <a:lnTo>
                      <a:pt x="159" y="128"/>
                    </a:lnTo>
                    <a:lnTo>
                      <a:pt x="175" y="164"/>
                    </a:lnTo>
                    <a:lnTo>
                      <a:pt x="180" y="202"/>
                    </a:lnTo>
                    <a:lnTo>
                      <a:pt x="172" y="236"/>
                    </a:lnTo>
                    <a:lnTo>
                      <a:pt x="148" y="262"/>
                    </a:lnTo>
                    <a:lnTo>
                      <a:pt x="115" y="283"/>
                    </a:lnTo>
                    <a:lnTo>
                      <a:pt x="81" y="301"/>
                    </a:lnTo>
                    <a:lnTo>
                      <a:pt x="625" y="30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244680" y="3376080"/>
                <a:ext cx="1379520" cy="174240"/>
              </a:xfrm>
              <a:custGeom>
                <a:avLst/>
                <a:gdLst/>
                <a:ahLst/>
                <a:rect l="l" t="t" r="r" b="b"/>
                <a:pathLst>
                  <a:path w="2607" h="329">
                    <a:moveTo>
                      <a:pt x="2221" y="0"/>
                    </a:moveTo>
                    <a:lnTo>
                      <a:pt x="2023" y="0"/>
                    </a:lnTo>
                    <a:lnTo>
                      <a:pt x="1837" y="3"/>
                    </a:lnTo>
                    <a:lnTo>
                      <a:pt x="1664" y="8"/>
                    </a:lnTo>
                    <a:lnTo>
                      <a:pt x="1502" y="17"/>
                    </a:lnTo>
                    <a:lnTo>
                      <a:pt x="1349" y="26"/>
                    </a:lnTo>
                    <a:lnTo>
                      <a:pt x="1209" y="39"/>
                    </a:lnTo>
                    <a:lnTo>
                      <a:pt x="1077" y="55"/>
                    </a:lnTo>
                    <a:lnTo>
                      <a:pt x="956" y="72"/>
                    </a:lnTo>
                    <a:lnTo>
                      <a:pt x="842" y="91"/>
                    </a:lnTo>
                    <a:lnTo>
                      <a:pt x="736" y="114"/>
                    </a:lnTo>
                    <a:lnTo>
                      <a:pt x="638" y="138"/>
                    </a:lnTo>
                    <a:lnTo>
                      <a:pt x="545" y="164"/>
                    </a:lnTo>
                    <a:lnTo>
                      <a:pt x="459" y="192"/>
                    </a:lnTo>
                    <a:lnTo>
                      <a:pt x="378" y="221"/>
                    </a:lnTo>
                    <a:lnTo>
                      <a:pt x="303" y="253"/>
                    </a:lnTo>
                    <a:lnTo>
                      <a:pt x="232" y="287"/>
                    </a:lnTo>
                    <a:lnTo>
                      <a:pt x="212" y="294"/>
                    </a:lnTo>
                    <a:lnTo>
                      <a:pt x="184" y="297"/>
                    </a:lnTo>
                    <a:lnTo>
                      <a:pt x="152" y="300"/>
                    </a:lnTo>
                    <a:lnTo>
                      <a:pt x="114" y="300"/>
                    </a:lnTo>
                    <a:lnTo>
                      <a:pt x="80" y="301"/>
                    </a:lnTo>
                    <a:lnTo>
                      <a:pt x="46" y="301"/>
                    </a:lnTo>
                    <a:lnTo>
                      <a:pt x="19" y="303"/>
                    </a:lnTo>
                    <a:lnTo>
                      <a:pt x="1" y="308"/>
                    </a:lnTo>
                    <a:lnTo>
                      <a:pt x="0" y="312"/>
                    </a:lnTo>
                    <a:lnTo>
                      <a:pt x="11" y="312"/>
                    </a:lnTo>
                    <a:lnTo>
                      <a:pt x="32" y="315"/>
                    </a:lnTo>
                    <a:lnTo>
                      <a:pt x="58" y="317"/>
                    </a:lnTo>
                    <a:lnTo>
                      <a:pt x="94" y="319"/>
                    </a:lnTo>
                    <a:lnTo>
                      <a:pt x="136" y="323"/>
                    </a:lnTo>
                    <a:lnTo>
                      <a:pt x="185" y="324"/>
                    </a:lnTo>
                    <a:lnTo>
                      <a:pt x="239" y="324"/>
                    </a:lnTo>
                    <a:lnTo>
                      <a:pt x="296" y="326"/>
                    </a:lnTo>
                    <a:lnTo>
                      <a:pt x="356" y="327"/>
                    </a:lnTo>
                    <a:lnTo>
                      <a:pt x="418" y="329"/>
                    </a:lnTo>
                    <a:lnTo>
                      <a:pt x="482" y="329"/>
                    </a:lnTo>
                    <a:lnTo>
                      <a:pt x="546" y="329"/>
                    </a:lnTo>
                    <a:lnTo>
                      <a:pt x="609" y="329"/>
                    </a:lnTo>
                    <a:lnTo>
                      <a:pt x="671" y="327"/>
                    </a:lnTo>
                    <a:lnTo>
                      <a:pt x="730" y="326"/>
                    </a:lnTo>
                    <a:lnTo>
                      <a:pt x="783" y="323"/>
                    </a:lnTo>
                    <a:lnTo>
                      <a:pt x="827" y="313"/>
                    </a:lnTo>
                    <a:lnTo>
                      <a:pt x="867" y="300"/>
                    </a:lnTo>
                    <a:lnTo>
                      <a:pt x="904" y="282"/>
                    </a:lnTo>
                    <a:lnTo>
                      <a:pt x="941" y="260"/>
                    </a:lnTo>
                    <a:lnTo>
                      <a:pt x="980" y="236"/>
                    </a:lnTo>
                    <a:lnTo>
                      <a:pt x="1023" y="212"/>
                    </a:lnTo>
                    <a:lnTo>
                      <a:pt x="1073" y="186"/>
                    </a:lnTo>
                    <a:lnTo>
                      <a:pt x="1135" y="162"/>
                    </a:lnTo>
                    <a:lnTo>
                      <a:pt x="1209" y="137"/>
                    </a:lnTo>
                    <a:lnTo>
                      <a:pt x="1297" y="114"/>
                    </a:lnTo>
                    <a:lnTo>
                      <a:pt x="1402" y="93"/>
                    </a:lnTo>
                    <a:lnTo>
                      <a:pt x="1528" y="75"/>
                    </a:lnTo>
                    <a:lnTo>
                      <a:pt x="1677" y="62"/>
                    </a:lnTo>
                    <a:lnTo>
                      <a:pt x="1851" y="54"/>
                    </a:lnTo>
                    <a:lnTo>
                      <a:pt x="2053" y="51"/>
                    </a:lnTo>
                    <a:lnTo>
                      <a:pt x="2244" y="50"/>
                    </a:lnTo>
                    <a:lnTo>
                      <a:pt x="2390" y="49"/>
                    </a:lnTo>
                    <a:lnTo>
                      <a:pt x="2493" y="47"/>
                    </a:lnTo>
                    <a:lnTo>
                      <a:pt x="2560" y="43"/>
                    </a:lnTo>
                    <a:lnTo>
                      <a:pt x="2598" y="39"/>
                    </a:lnTo>
                    <a:lnTo>
                      <a:pt x="2607" y="36"/>
                    </a:lnTo>
                    <a:lnTo>
                      <a:pt x="2594" y="31"/>
                    </a:lnTo>
                    <a:lnTo>
                      <a:pt x="2565" y="26"/>
                    </a:lnTo>
                    <a:lnTo>
                      <a:pt x="2521" y="20"/>
                    </a:lnTo>
                    <a:lnTo>
                      <a:pt x="2470" y="17"/>
                    </a:lnTo>
                    <a:lnTo>
                      <a:pt x="2414" y="13"/>
                    </a:lnTo>
                    <a:lnTo>
                      <a:pt x="2356" y="7"/>
                    </a:lnTo>
                    <a:lnTo>
                      <a:pt x="2304" y="5"/>
                    </a:lnTo>
                    <a:lnTo>
                      <a:pt x="2260" y="2"/>
                    </a:lnTo>
                    <a:lnTo>
                      <a:pt x="2232" y="1"/>
                    </a:lnTo>
                    <a:lnTo>
                      <a:pt x="222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9" name=""/>
            <p:cNvSpPr/>
            <p:nvPr/>
          </p:nvSpPr>
          <p:spPr>
            <a:xfrm>
              <a:off x="3243240" y="3671640"/>
              <a:ext cx="2602080" cy="734760"/>
            </a:xfrm>
            <a:custGeom>
              <a:avLst/>
              <a:gdLst/>
              <a:ahLst/>
              <a:rect l="l" t="t" r="r" b="b"/>
              <a:pathLst>
                <a:path w="4917" h="1387">
                  <a:moveTo>
                    <a:pt x="155" y="0"/>
                  </a:moveTo>
                  <a:lnTo>
                    <a:pt x="4917" y="0"/>
                  </a:lnTo>
                  <a:lnTo>
                    <a:pt x="4863" y="13"/>
                  </a:lnTo>
                  <a:lnTo>
                    <a:pt x="4732" y="24"/>
                  </a:lnTo>
                  <a:lnTo>
                    <a:pt x="4538" y="33"/>
                  </a:lnTo>
                  <a:lnTo>
                    <a:pt x="4291" y="43"/>
                  </a:lnTo>
                  <a:lnTo>
                    <a:pt x="3999" y="51"/>
                  </a:lnTo>
                  <a:lnTo>
                    <a:pt x="3672" y="60"/>
                  </a:lnTo>
                  <a:lnTo>
                    <a:pt x="3324" y="68"/>
                  </a:lnTo>
                  <a:lnTo>
                    <a:pt x="2962" y="77"/>
                  </a:lnTo>
                  <a:lnTo>
                    <a:pt x="2597" y="89"/>
                  </a:lnTo>
                  <a:lnTo>
                    <a:pt x="2239" y="103"/>
                  </a:lnTo>
                  <a:lnTo>
                    <a:pt x="1900" y="120"/>
                  </a:lnTo>
                  <a:lnTo>
                    <a:pt x="1586" y="139"/>
                  </a:lnTo>
                  <a:lnTo>
                    <a:pt x="1310" y="163"/>
                  </a:lnTo>
                  <a:lnTo>
                    <a:pt x="1081" y="189"/>
                  </a:lnTo>
                  <a:lnTo>
                    <a:pt x="911" y="221"/>
                  </a:lnTo>
                  <a:lnTo>
                    <a:pt x="809" y="259"/>
                  </a:lnTo>
                  <a:lnTo>
                    <a:pt x="693" y="338"/>
                  </a:lnTo>
                  <a:lnTo>
                    <a:pt x="585" y="425"/>
                  </a:lnTo>
                  <a:lnTo>
                    <a:pt x="489" y="517"/>
                  </a:lnTo>
                  <a:lnTo>
                    <a:pt x="410" y="611"/>
                  </a:lnTo>
                  <a:lnTo>
                    <a:pt x="351" y="706"/>
                  </a:lnTo>
                  <a:lnTo>
                    <a:pt x="317" y="796"/>
                  </a:lnTo>
                  <a:lnTo>
                    <a:pt x="311" y="880"/>
                  </a:lnTo>
                  <a:lnTo>
                    <a:pt x="337" y="953"/>
                  </a:lnTo>
                  <a:lnTo>
                    <a:pt x="359" y="988"/>
                  </a:lnTo>
                  <a:lnTo>
                    <a:pt x="381" y="1024"/>
                  </a:lnTo>
                  <a:lnTo>
                    <a:pt x="405" y="1058"/>
                  </a:lnTo>
                  <a:lnTo>
                    <a:pt x="428" y="1093"/>
                  </a:lnTo>
                  <a:lnTo>
                    <a:pt x="457" y="1128"/>
                  </a:lnTo>
                  <a:lnTo>
                    <a:pt x="487" y="1159"/>
                  </a:lnTo>
                  <a:lnTo>
                    <a:pt x="521" y="1191"/>
                  </a:lnTo>
                  <a:lnTo>
                    <a:pt x="560" y="1221"/>
                  </a:lnTo>
                  <a:lnTo>
                    <a:pt x="602" y="1247"/>
                  </a:lnTo>
                  <a:lnTo>
                    <a:pt x="651" y="1272"/>
                  </a:lnTo>
                  <a:lnTo>
                    <a:pt x="707" y="1295"/>
                  </a:lnTo>
                  <a:lnTo>
                    <a:pt x="769" y="1312"/>
                  </a:lnTo>
                  <a:lnTo>
                    <a:pt x="837" y="1329"/>
                  </a:lnTo>
                  <a:lnTo>
                    <a:pt x="914" y="1339"/>
                  </a:lnTo>
                  <a:lnTo>
                    <a:pt x="1002" y="1345"/>
                  </a:lnTo>
                  <a:lnTo>
                    <a:pt x="1098" y="1349"/>
                  </a:lnTo>
                  <a:lnTo>
                    <a:pt x="1250" y="1350"/>
                  </a:lnTo>
                  <a:lnTo>
                    <a:pt x="1321" y="1355"/>
                  </a:lnTo>
                  <a:lnTo>
                    <a:pt x="1328" y="1361"/>
                  </a:lnTo>
                  <a:lnTo>
                    <a:pt x="1292" y="1368"/>
                  </a:lnTo>
                  <a:lnTo>
                    <a:pt x="1230" y="1375"/>
                  </a:lnTo>
                  <a:lnTo>
                    <a:pt x="1162" y="1381"/>
                  </a:lnTo>
                  <a:lnTo>
                    <a:pt x="1108" y="1386"/>
                  </a:lnTo>
                  <a:lnTo>
                    <a:pt x="1085" y="1387"/>
                  </a:lnTo>
                  <a:lnTo>
                    <a:pt x="942" y="1384"/>
                  </a:lnTo>
                  <a:lnTo>
                    <a:pt x="807" y="1378"/>
                  </a:lnTo>
                  <a:lnTo>
                    <a:pt x="684" y="1368"/>
                  </a:lnTo>
                  <a:lnTo>
                    <a:pt x="569" y="1355"/>
                  </a:lnTo>
                  <a:lnTo>
                    <a:pt x="463" y="1341"/>
                  </a:lnTo>
                  <a:lnTo>
                    <a:pt x="369" y="1323"/>
                  </a:lnTo>
                  <a:lnTo>
                    <a:pt x="284" y="1300"/>
                  </a:lnTo>
                  <a:lnTo>
                    <a:pt x="210" y="1277"/>
                  </a:lnTo>
                  <a:lnTo>
                    <a:pt x="147" y="1248"/>
                  </a:lnTo>
                  <a:lnTo>
                    <a:pt x="96" y="1218"/>
                  </a:lnTo>
                  <a:lnTo>
                    <a:pt x="55" y="1185"/>
                  </a:lnTo>
                  <a:lnTo>
                    <a:pt x="24" y="1147"/>
                  </a:lnTo>
                  <a:lnTo>
                    <a:pt x="6" y="1106"/>
                  </a:lnTo>
                  <a:lnTo>
                    <a:pt x="0" y="1062"/>
                  </a:lnTo>
                  <a:lnTo>
                    <a:pt x="6" y="1016"/>
                  </a:lnTo>
                  <a:lnTo>
                    <a:pt x="24" y="966"/>
                  </a:lnTo>
                  <a:lnTo>
                    <a:pt x="81" y="853"/>
                  </a:lnTo>
                  <a:lnTo>
                    <a:pt x="147" y="722"/>
                  </a:lnTo>
                  <a:lnTo>
                    <a:pt x="212" y="584"/>
                  </a:lnTo>
                  <a:lnTo>
                    <a:pt x="266" y="443"/>
                  </a:lnTo>
                  <a:lnTo>
                    <a:pt x="295" y="307"/>
                  </a:lnTo>
                  <a:lnTo>
                    <a:pt x="295" y="183"/>
                  </a:lnTo>
                  <a:lnTo>
                    <a:pt x="251" y="7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"/>
          <p:cNvSpPr/>
          <p:nvPr/>
        </p:nvSpPr>
        <p:spPr>
          <a:xfrm>
            <a:off x="4676760" y="4654440"/>
            <a:ext cx="33480" cy="50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0"/>
                </a:moveTo>
                <a:lnTo>
                  <a:pt x="63" y="3"/>
                </a:lnTo>
                <a:lnTo>
                  <a:pt x="55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3639960" y="3002040"/>
            <a:ext cx="1863720" cy="1616040"/>
            <a:chOff x="3639960" y="3002040"/>
            <a:chExt cx="1863720" cy="1616040"/>
          </a:xfrm>
        </p:grpSpPr>
        <p:sp>
          <p:nvSpPr>
            <p:cNvPr id="2492" name=""/>
            <p:cNvSpPr/>
            <p:nvPr/>
          </p:nvSpPr>
          <p:spPr>
            <a:xfrm>
              <a:off x="3639960" y="3002040"/>
              <a:ext cx="1792440" cy="1616040"/>
            </a:xfrm>
            <a:custGeom>
              <a:avLst/>
              <a:gdLst/>
              <a:ahLst/>
              <a:rect l="l" t="t" r="r" b="b"/>
              <a:pathLst>
                <a:path w="6775" h="6109">
                  <a:moveTo>
                    <a:pt x="3521" y="3762"/>
                  </a:moveTo>
                  <a:lnTo>
                    <a:pt x="3521" y="0"/>
                  </a:lnTo>
                  <a:lnTo>
                    <a:pt x="4058" y="0"/>
                  </a:lnTo>
                  <a:lnTo>
                    <a:pt x="4917" y="2957"/>
                  </a:lnTo>
                  <a:lnTo>
                    <a:pt x="3521" y="3762"/>
                  </a:lnTo>
                  <a:lnTo>
                    <a:pt x="6775" y="5643"/>
                  </a:lnTo>
                  <a:lnTo>
                    <a:pt x="6506" y="6109"/>
                  </a:lnTo>
                  <a:lnTo>
                    <a:pt x="3521" y="5374"/>
                  </a:lnTo>
                  <a:lnTo>
                    <a:pt x="3521" y="3762"/>
                  </a:lnTo>
                  <a:lnTo>
                    <a:pt x="269" y="5643"/>
                  </a:lnTo>
                  <a:lnTo>
                    <a:pt x="0" y="5178"/>
                  </a:lnTo>
                  <a:lnTo>
                    <a:pt x="2127" y="2957"/>
                  </a:lnTo>
                  <a:lnTo>
                    <a:pt x="3521" y="376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39960" y="3002040"/>
              <a:ext cx="1792440" cy="1616040"/>
            </a:xfrm>
            <a:custGeom>
              <a:avLst/>
              <a:gdLst/>
              <a:ahLst/>
              <a:rect l="l" t="t" r="r" b="b"/>
              <a:pathLst>
                <a:path w="6775" h="6109">
                  <a:moveTo>
                    <a:pt x="3521" y="3762"/>
                  </a:moveTo>
                  <a:lnTo>
                    <a:pt x="3521" y="0"/>
                  </a:lnTo>
                  <a:lnTo>
                    <a:pt x="4058" y="0"/>
                  </a:lnTo>
                  <a:lnTo>
                    <a:pt x="4917" y="2957"/>
                  </a:lnTo>
                  <a:lnTo>
                    <a:pt x="3521" y="3762"/>
                  </a:lnTo>
                  <a:lnTo>
                    <a:pt x="6775" y="5643"/>
                  </a:lnTo>
                  <a:lnTo>
                    <a:pt x="6506" y="6109"/>
                  </a:lnTo>
                  <a:lnTo>
                    <a:pt x="3521" y="5374"/>
                  </a:lnTo>
                  <a:lnTo>
                    <a:pt x="3521" y="3762"/>
                  </a:lnTo>
                  <a:lnTo>
                    <a:pt x="269" y="5643"/>
                  </a:lnTo>
                  <a:lnTo>
                    <a:pt x="0" y="5178"/>
                  </a:lnTo>
                  <a:lnTo>
                    <a:pt x="2127" y="2957"/>
                  </a:lnTo>
                  <a:lnTo>
                    <a:pt x="3521" y="376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940280" y="3784320"/>
              <a:ext cx="563400" cy="709560"/>
            </a:xfrm>
            <a:custGeom>
              <a:avLst/>
              <a:gdLst/>
              <a:ahLst/>
              <a:rect l="l" t="t" r="r" b="b"/>
              <a:pathLst>
                <a:path w="2126" h="2686">
                  <a:moveTo>
                    <a:pt x="0" y="0"/>
                  </a:moveTo>
                  <a:lnTo>
                    <a:pt x="2126" y="2221"/>
                  </a:lnTo>
                  <a:lnTo>
                    <a:pt x="1858" y="2686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711600" y="4424400"/>
              <a:ext cx="860400" cy="193320"/>
            </a:xfrm>
            <a:custGeom>
              <a:avLst/>
              <a:gdLst/>
              <a:ahLst/>
              <a:rect l="l" t="t" r="r" b="b"/>
              <a:pathLst>
                <a:path w="3252" h="735">
                  <a:moveTo>
                    <a:pt x="3252" y="0"/>
                  </a:moveTo>
                  <a:lnTo>
                    <a:pt x="268" y="735"/>
                  </a:lnTo>
                  <a:lnTo>
                    <a:pt x="0" y="269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203720" y="3002040"/>
              <a:ext cx="368280" cy="782280"/>
            </a:xfrm>
            <a:custGeom>
              <a:avLst/>
              <a:gdLst/>
              <a:ahLst/>
              <a:rect l="l" t="t" r="r" b="b"/>
              <a:pathLst>
                <a:path w="1394" h="2957">
                  <a:moveTo>
                    <a:pt x="0" y="2957"/>
                  </a:moveTo>
                  <a:lnTo>
                    <a:pt x="858" y="0"/>
                  </a:lnTo>
                  <a:lnTo>
                    <a:pt x="1394" y="0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"/>
          <p:cNvSpPr/>
          <p:nvPr/>
        </p:nvSpPr>
        <p:spPr>
          <a:xfrm>
            <a:off x="2502000" y="2116080"/>
            <a:ext cx="36241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3635280" y="2984760"/>
            <a:ext cx="2266920" cy="1649520"/>
            <a:chOff x="3635280" y="2984760"/>
            <a:chExt cx="2266920" cy="1649520"/>
          </a:xfrm>
        </p:grpSpPr>
        <p:sp>
          <p:nvSpPr>
            <p:cNvPr id="2499" name=""/>
            <p:cNvSpPr/>
            <p:nvPr/>
          </p:nvSpPr>
          <p:spPr>
            <a:xfrm flipH="1" flipV="1" rot="20995800">
              <a:off x="3733200" y="3155400"/>
              <a:ext cx="2070000" cy="1307880"/>
            </a:xfrm>
            <a:custGeom>
              <a:avLst/>
              <a:gdLst/>
              <a:ahLst/>
              <a:rect l="l" t="t" r="r" b="b"/>
              <a:pathLst>
                <a:path w="3487" h="2452">
                  <a:moveTo>
                    <a:pt x="1325" y="93"/>
                  </a:moveTo>
                  <a:lnTo>
                    <a:pt x="1337" y="87"/>
                  </a:lnTo>
                  <a:lnTo>
                    <a:pt x="1350" y="84"/>
                  </a:lnTo>
                  <a:lnTo>
                    <a:pt x="1363" y="80"/>
                  </a:lnTo>
                  <a:lnTo>
                    <a:pt x="1377" y="76"/>
                  </a:lnTo>
                  <a:lnTo>
                    <a:pt x="1390" y="72"/>
                  </a:lnTo>
                  <a:lnTo>
                    <a:pt x="1403" y="68"/>
                  </a:lnTo>
                  <a:lnTo>
                    <a:pt x="1417" y="65"/>
                  </a:lnTo>
                  <a:lnTo>
                    <a:pt x="1430" y="63"/>
                  </a:lnTo>
                  <a:lnTo>
                    <a:pt x="1441" y="59"/>
                  </a:lnTo>
                  <a:lnTo>
                    <a:pt x="1455" y="55"/>
                  </a:lnTo>
                  <a:lnTo>
                    <a:pt x="1468" y="53"/>
                  </a:lnTo>
                  <a:lnTo>
                    <a:pt x="1481" y="51"/>
                  </a:lnTo>
                  <a:lnTo>
                    <a:pt x="1493" y="48"/>
                  </a:lnTo>
                  <a:lnTo>
                    <a:pt x="1506" y="46"/>
                  </a:lnTo>
                  <a:lnTo>
                    <a:pt x="1519" y="42"/>
                  </a:lnTo>
                  <a:lnTo>
                    <a:pt x="1533" y="42"/>
                  </a:lnTo>
                  <a:lnTo>
                    <a:pt x="1544" y="38"/>
                  </a:lnTo>
                  <a:lnTo>
                    <a:pt x="1557" y="36"/>
                  </a:lnTo>
                  <a:lnTo>
                    <a:pt x="1569" y="34"/>
                  </a:lnTo>
                  <a:lnTo>
                    <a:pt x="1582" y="32"/>
                  </a:lnTo>
                  <a:lnTo>
                    <a:pt x="1595" y="30"/>
                  </a:lnTo>
                  <a:lnTo>
                    <a:pt x="1609" y="29"/>
                  </a:lnTo>
                  <a:lnTo>
                    <a:pt x="1620" y="27"/>
                  </a:lnTo>
                  <a:lnTo>
                    <a:pt x="1635" y="27"/>
                  </a:lnTo>
                  <a:lnTo>
                    <a:pt x="1649" y="25"/>
                  </a:lnTo>
                  <a:lnTo>
                    <a:pt x="1662" y="23"/>
                  </a:lnTo>
                  <a:lnTo>
                    <a:pt x="1675" y="23"/>
                  </a:lnTo>
                  <a:lnTo>
                    <a:pt x="1688" y="23"/>
                  </a:lnTo>
                  <a:lnTo>
                    <a:pt x="1702" y="21"/>
                  </a:lnTo>
                  <a:lnTo>
                    <a:pt x="1717" y="19"/>
                  </a:lnTo>
                  <a:lnTo>
                    <a:pt x="1730" y="19"/>
                  </a:lnTo>
                  <a:lnTo>
                    <a:pt x="1745" y="19"/>
                  </a:lnTo>
                  <a:lnTo>
                    <a:pt x="1759" y="19"/>
                  </a:lnTo>
                  <a:lnTo>
                    <a:pt x="1772" y="17"/>
                  </a:lnTo>
                  <a:lnTo>
                    <a:pt x="1787" y="17"/>
                  </a:lnTo>
                  <a:lnTo>
                    <a:pt x="1801" y="17"/>
                  </a:lnTo>
                  <a:lnTo>
                    <a:pt x="1816" y="15"/>
                  </a:lnTo>
                  <a:lnTo>
                    <a:pt x="1829" y="13"/>
                  </a:lnTo>
                  <a:lnTo>
                    <a:pt x="1846" y="13"/>
                  </a:lnTo>
                  <a:lnTo>
                    <a:pt x="1861" y="13"/>
                  </a:lnTo>
                  <a:lnTo>
                    <a:pt x="1877" y="13"/>
                  </a:lnTo>
                  <a:lnTo>
                    <a:pt x="1892" y="13"/>
                  </a:lnTo>
                  <a:lnTo>
                    <a:pt x="1907" y="11"/>
                  </a:lnTo>
                  <a:lnTo>
                    <a:pt x="1926" y="11"/>
                  </a:lnTo>
                  <a:lnTo>
                    <a:pt x="1941" y="10"/>
                  </a:lnTo>
                  <a:lnTo>
                    <a:pt x="1958" y="10"/>
                  </a:lnTo>
                  <a:lnTo>
                    <a:pt x="1977" y="10"/>
                  </a:lnTo>
                  <a:lnTo>
                    <a:pt x="1995" y="10"/>
                  </a:lnTo>
                  <a:lnTo>
                    <a:pt x="2012" y="10"/>
                  </a:lnTo>
                  <a:lnTo>
                    <a:pt x="2029" y="10"/>
                  </a:lnTo>
                  <a:lnTo>
                    <a:pt x="2048" y="8"/>
                  </a:lnTo>
                  <a:lnTo>
                    <a:pt x="2067" y="8"/>
                  </a:lnTo>
                  <a:lnTo>
                    <a:pt x="2086" y="8"/>
                  </a:lnTo>
                  <a:lnTo>
                    <a:pt x="2107" y="8"/>
                  </a:lnTo>
                  <a:lnTo>
                    <a:pt x="2126" y="6"/>
                  </a:lnTo>
                  <a:lnTo>
                    <a:pt x="2147" y="6"/>
                  </a:lnTo>
                  <a:lnTo>
                    <a:pt x="2168" y="4"/>
                  </a:lnTo>
                  <a:lnTo>
                    <a:pt x="2187" y="4"/>
                  </a:lnTo>
                  <a:lnTo>
                    <a:pt x="2209" y="4"/>
                  </a:lnTo>
                  <a:lnTo>
                    <a:pt x="2232" y="4"/>
                  </a:lnTo>
                  <a:lnTo>
                    <a:pt x="2253" y="2"/>
                  </a:lnTo>
                  <a:lnTo>
                    <a:pt x="2276" y="2"/>
                  </a:lnTo>
                  <a:lnTo>
                    <a:pt x="2299" y="2"/>
                  </a:lnTo>
                  <a:lnTo>
                    <a:pt x="2323" y="2"/>
                  </a:lnTo>
                  <a:lnTo>
                    <a:pt x="2346" y="0"/>
                  </a:lnTo>
                  <a:lnTo>
                    <a:pt x="2369" y="0"/>
                  </a:lnTo>
                  <a:lnTo>
                    <a:pt x="2392" y="0"/>
                  </a:lnTo>
                  <a:lnTo>
                    <a:pt x="2417" y="0"/>
                  </a:lnTo>
                  <a:lnTo>
                    <a:pt x="2438" y="0"/>
                  </a:lnTo>
                  <a:lnTo>
                    <a:pt x="2460" y="0"/>
                  </a:lnTo>
                  <a:lnTo>
                    <a:pt x="2483" y="2"/>
                  </a:lnTo>
                  <a:lnTo>
                    <a:pt x="2506" y="4"/>
                  </a:lnTo>
                  <a:lnTo>
                    <a:pt x="2527" y="4"/>
                  </a:lnTo>
                  <a:lnTo>
                    <a:pt x="2550" y="8"/>
                  </a:lnTo>
                  <a:lnTo>
                    <a:pt x="2571" y="10"/>
                  </a:lnTo>
                  <a:lnTo>
                    <a:pt x="2593" y="13"/>
                  </a:lnTo>
                  <a:lnTo>
                    <a:pt x="2614" y="15"/>
                  </a:lnTo>
                  <a:lnTo>
                    <a:pt x="2635" y="19"/>
                  </a:lnTo>
                  <a:lnTo>
                    <a:pt x="2656" y="23"/>
                  </a:lnTo>
                  <a:lnTo>
                    <a:pt x="2679" y="27"/>
                  </a:lnTo>
                  <a:lnTo>
                    <a:pt x="2698" y="30"/>
                  </a:lnTo>
                  <a:lnTo>
                    <a:pt x="2717" y="34"/>
                  </a:lnTo>
                  <a:lnTo>
                    <a:pt x="2738" y="40"/>
                  </a:lnTo>
                  <a:lnTo>
                    <a:pt x="2759" y="46"/>
                  </a:lnTo>
                  <a:lnTo>
                    <a:pt x="2778" y="49"/>
                  </a:lnTo>
                  <a:lnTo>
                    <a:pt x="2797" y="55"/>
                  </a:lnTo>
                  <a:lnTo>
                    <a:pt x="2816" y="61"/>
                  </a:lnTo>
                  <a:lnTo>
                    <a:pt x="2837" y="68"/>
                  </a:lnTo>
                  <a:lnTo>
                    <a:pt x="2854" y="74"/>
                  </a:lnTo>
                  <a:lnTo>
                    <a:pt x="2873" y="80"/>
                  </a:lnTo>
                  <a:lnTo>
                    <a:pt x="2892" y="87"/>
                  </a:lnTo>
                  <a:lnTo>
                    <a:pt x="2911" y="95"/>
                  </a:lnTo>
                  <a:lnTo>
                    <a:pt x="2926" y="103"/>
                  </a:lnTo>
                  <a:lnTo>
                    <a:pt x="2945" y="110"/>
                  </a:lnTo>
                  <a:lnTo>
                    <a:pt x="2962" y="118"/>
                  </a:lnTo>
                  <a:lnTo>
                    <a:pt x="2981" y="127"/>
                  </a:lnTo>
                  <a:lnTo>
                    <a:pt x="2996" y="135"/>
                  </a:lnTo>
                  <a:lnTo>
                    <a:pt x="3014" y="144"/>
                  </a:lnTo>
                  <a:lnTo>
                    <a:pt x="3029" y="152"/>
                  </a:lnTo>
                  <a:lnTo>
                    <a:pt x="3046" y="163"/>
                  </a:lnTo>
                  <a:lnTo>
                    <a:pt x="3061" y="171"/>
                  </a:lnTo>
                  <a:lnTo>
                    <a:pt x="3078" y="181"/>
                  </a:lnTo>
                  <a:lnTo>
                    <a:pt x="3092" y="192"/>
                  </a:lnTo>
                  <a:lnTo>
                    <a:pt x="3109" y="203"/>
                  </a:lnTo>
                  <a:lnTo>
                    <a:pt x="3122" y="213"/>
                  </a:lnTo>
                  <a:lnTo>
                    <a:pt x="3135" y="224"/>
                  </a:lnTo>
                  <a:lnTo>
                    <a:pt x="3150" y="236"/>
                  </a:lnTo>
                  <a:lnTo>
                    <a:pt x="3164" y="247"/>
                  </a:lnTo>
                  <a:lnTo>
                    <a:pt x="3177" y="259"/>
                  </a:lnTo>
                  <a:lnTo>
                    <a:pt x="3192" y="270"/>
                  </a:lnTo>
                  <a:lnTo>
                    <a:pt x="3206" y="281"/>
                  </a:lnTo>
                  <a:lnTo>
                    <a:pt x="3219" y="295"/>
                  </a:lnTo>
                  <a:lnTo>
                    <a:pt x="3230" y="306"/>
                  </a:lnTo>
                  <a:lnTo>
                    <a:pt x="3242" y="319"/>
                  </a:lnTo>
                  <a:lnTo>
                    <a:pt x="3255" y="333"/>
                  </a:lnTo>
                  <a:lnTo>
                    <a:pt x="3266" y="346"/>
                  </a:lnTo>
                  <a:lnTo>
                    <a:pt x="3276" y="359"/>
                  </a:lnTo>
                  <a:lnTo>
                    <a:pt x="3287" y="373"/>
                  </a:lnTo>
                  <a:lnTo>
                    <a:pt x="3299" y="388"/>
                  </a:lnTo>
                  <a:lnTo>
                    <a:pt x="3310" y="401"/>
                  </a:lnTo>
                  <a:lnTo>
                    <a:pt x="3320" y="416"/>
                  </a:lnTo>
                  <a:lnTo>
                    <a:pt x="3331" y="430"/>
                  </a:lnTo>
                  <a:lnTo>
                    <a:pt x="3341" y="445"/>
                  </a:lnTo>
                  <a:lnTo>
                    <a:pt x="3350" y="460"/>
                  </a:lnTo>
                  <a:lnTo>
                    <a:pt x="3358" y="475"/>
                  </a:lnTo>
                  <a:lnTo>
                    <a:pt x="3367" y="490"/>
                  </a:lnTo>
                  <a:lnTo>
                    <a:pt x="3375" y="508"/>
                  </a:lnTo>
                  <a:lnTo>
                    <a:pt x="3384" y="523"/>
                  </a:lnTo>
                  <a:lnTo>
                    <a:pt x="3390" y="538"/>
                  </a:lnTo>
                  <a:lnTo>
                    <a:pt x="3398" y="555"/>
                  </a:lnTo>
                  <a:lnTo>
                    <a:pt x="3405" y="570"/>
                  </a:lnTo>
                  <a:lnTo>
                    <a:pt x="3413" y="587"/>
                  </a:lnTo>
                  <a:lnTo>
                    <a:pt x="3419" y="604"/>
                  </a:lnTo>
                  <a:lnTo>
                    <a:pt x="3424" y="620"/>
                  </a:lnTo>
                  <a:lnTo>
                    <a:pt x="3430" y="637"/>
                  </a:lnTo>
                  <a:lnTo>
                    <a:pt x="3436" y="656"/>
                  </a:lnTo>
                  <a:lnTo>
                    <a:pt x="3441" y="671"/>
                  </a:lnTo>
                  <a:lnTo>
                    <a:pt x="3445" y="688"/>
                  </a:lnTo>
                  <a:lnTo>
                    <a:pt x="3449" y="707"/>
                  </a:lnTo>
                  <a:lnTo>
                    <a:pt x="3455" y="724"/>
                  </a:lnTo>
                  <a:lnTo>
                    <a:pt x="3457" y="743"/>
                  </a:lnTo>
                  <a:lnTo>
                    <a:pt x="3460" y="760"/>
                  </a:lnTo>
                  <a:lnTo>
                    <a:pt x="3464" y="777"/>
                  </a:lnTo>
                  <a:lnTo>
                    <a:pt x="3470" y="796"/>
                  </a:lnTo>
                  <a:lnTo>
                    <a:pt x="3472" y="815"/>
                  </a:lnTo>
                  <a:lnTo>
                    <a:pt x="3474" y="833"/>
                  </a:lnTo>
                  <a:lnTo>
                    <a:pt x="3477" y="852"/>
                  </a:lnTo>
                  <a:lnTo>
                    <a:pt x="3479" y="871"/>
                  </a:lnTo>
                  <a:lnTo>
                    <a:pt x="3479" y="888"/>
                  </a:lnTo>
                  <a:lnTo>
                    <a:pt x="3481" y="907"/>
                  </a:lnTo>
                  <a:lnTo>
                    <a:pt x="3483" y="926"/>
                  </a:lnTo>
                  <a:lnTo>
                    <a:pt x="3485" y="947"/>
                  </a:lnTo>
                  <a:lnTo>
                    <a:pt x="3485" y="966"/>
                  </a:lnTo>
                  <a:lnTo>
                    <a:pt x="3485" y="985"/>
                  </a:lnTo>
                  <a:lnTo>
                    <a:pt x="3485" y="1004"/>
                  </a:lnTo>
                  <a:lnTo>
                    <a:pt x="3487" y="1023"/>
                  </a:lnTo>
                  <a:lnTo>
                    <a:pt x="3485" y="1042"/>
                  </a:lnTo>
                  <a:lnTo>
                    <a:pt x="3485" y="1061"/>
                  </a:lnTo>
                  <a:lnTo>
                    <a:pt x="3483" y="1080"/>
                  </a:lnTo>
                  <a:lnTo>
                    <a:pt x="3483" y="1101"/>
                  </a:lnTo>
                  <a:lnTo>
                    <a:pt x="3481" y="1118"/>
                  </a:lnTo>
                  <a:lnTo>
                    <a:pt x="3479" y="1137"/>
                  </a:lnTo>
                  <a:lnTo>
                    <a:pt x="3477" y="1156"/>
                  </a:lnTo>
                  <a:lnTo>
                    <a:pt x="3477" y="1175"/>
                  </a:lnTo>
                  <a:lnTo>
                    <a:pt x="3474" y="1194"/>
                  </a:lnTo>
                  <a:lnTo>
                    <a:pt x="3472" y="1213"/>
                  </a:lnTo>
                  <a:lnTo>
                    <a:pt x="3468" y="1232"/>
                  </a:lnTo>
                  <a:lnTo>
                    <a:pt x="3466" y="1253"/>
                  </a:lnTo>
                  <a:lnTo>
                    <a:pt x="3464" y="1270"/>
                  </a:lnTo>
                  <a:lnTo>
                    <a:pt x="3460" y="1289"/>
                  </a:lnTo>
                  <a:lnTo>
                    <a:pt x="3457" y="1308"/>
                  </a:lnTo>
                  <a:lnTo>
                    <a:pt x="3453" y="1327"/>
                  </a:lnTo>
                  <a:lnTo>
                    <a:pt x="3447" y="1346"/>
                  </a:lnTo>
                  <a:lnTo>
                    <a:pt x="3443" y="1365"/>
                  </a:lnTo>
                  <a:lnTo>
                    <a:pt x="3439" y="1384"/>
                  </a:lnTo>
                  <a:lnTo>
                    <a:pt x="3436" y="1403"/>
                  </a:lnTo>
                  <a:lnTo>
                    <a:pt x="3430" y="1422"/>
                  </a:lnTo>
                  <a:lnTo>
                    <a:pt x="3424" y="1439"/>
                  </a:lnTo>
                  <a:lnTo>
                    <a:pt x="3419" y="1458"/>
                  </a:lnTo>
                  <a:lnTo>
                    <a:pt x="3415" y="1477"/>
                  </a:lnTo>
                  <a:lnTo>
                    <a:pt x="3409" y="1494"/>
                  </a:lnTo>
                  <a:lnTo>
                    <a:pt x="3403" y="1513"/>
                  </a:lnTo>
                  <a:lnTo>
                    <a:pt x="3396" y="1530"/>
                  </a:lnTo>
                  <a:lnTo>
                    <a:pt x="3390" y="1549"/>
                  </a:lnTo>
                  <a:lnTo>
                    <a:pt x="3382" y="1566"/>
                  </a:lnTo>
                  <a:lnTo>
                    <a:pt x="3377" y="1585"/>
                  </a:lnTo>
                  <a:lnTo>
                    <a:pt x="3371" y="1602"/>
                  </a:lnTo>
                  <a:lnTo>
                    <a:pt x="3363" y="1619"/>
                  </a:lnTo>
                  <a:lnTo>
                    <a:pt x="3358" y="1637"/>
                  </a:lnTo>
                  <a:lnTo>
                    <a:pt x="3350" y="1654"/>
                  </a:lnTo>
                  <a:lnTo>
                    <a:pt x="3342" y="1671"/>
                  </a:lnTo>
                  <a:lnTo>
                    <a:pt x="3335" y="1688"/>
                  </a:lnTo>
                  <a:lnTo>
                    <a:pt x="3327" y="1703"/>
                  </a:lnTo>
                  <a:lnTo>
                    <a:pt x="3320" y="1720"/>
                  </a:lnTo>
                  <a:lnTo>
                    <a:pt x="3310" y="1735"/>
                  </a:lnTo>
                  <a:lnTo>
                    <a:pt x="3303" y="1751"/>
                  </a:lnTo>
                  <a:lnTo>
                    <a:pt x="3295" y="1764"/>
                  </a:lnTo>
                  <a:lnTo>
                    <a:pt x="3287" y="1779"/>
                  </a:lnTo>
                  <a:lnTo>
                    <a:pt x="3278" y="1794"/>
                  </a:lnTo>
                  <a:lnTo>
                    <a:pt x="3270" y="1808"/>
                  </a:lnTo>
                  <a:lnTo>
                    <a:pt x="3261" y="1821"/>
                  </a:lnTo>
                  <a:lnTo>
                    <a:pt x="3253" y="1834"/>
                  </a:lnTo>
                  <a:lnTo>
                    <a:pt x="3246" y="1848"/>
                  </a:lnTo>
                  <a:lnTo>
                    <a:pt x="3236" y="1861"/>
                  </a:lnTo>
                  <a:lnTo>
                    <a:pt x="3227" y="1872"/>
                  </a:lnTo>
                  <a:lnTo>
                    <a:pt x="3219" y="1886"/>
                  </a:lnTo>
                  <a:lnTo>
                    <a:pt x="3209" y="1897"/>
                  </a:lnTo>
                  <a:lnTo>
                    <a:pt x="3200" y="1910"/>
                  </a:lnTo>
                  <a:lnTo>
                    <a:pt x="3190" y="1922"/>
                  </a:lnTo>
                  <a:lnTo>
                    <a:pt x="3181" y="1933"/>
                  </a:lnTo>
                  <a:lnTo>
                    <a:pt x="3171" y="1943"/>
                  </a:lnTo>
                  <a:lnTo>
                    <a:pt x="3162" y="1956"/>
                  </a:lnTo>
                  <a:lnTo>
                    <a:pt x="3152" y="1965"/>
                  </a:lnTo>
                  <a:lnTo>
                    <a:pt x="3143" y="1977"/>
                  </a:lnTo>
                  <a:lnTo>
                    <a:pt x="3131" y="1988"/>
                  </a:lnTo>
                  <a:lnTo>
                    <a:pt x="3122" y="1998"/>
                  </a:lnTo>
                  <a:lnTo>
                    <a:pt x="3112" y="2007"/>
                  </a:lnTo>
                  <a:lnTo>
                    <a:pt x="3101" y="2017"/>
                  </a:lnTo>
                  <a:lnTo>
                    <a:pt x="3090" y="2026"/>
                  </a:lnTo>
                  <a:lnTo>
                    <a:pt x="3080" y="2036"/>
                  </a:lnTo>
                  <a:lnTo>
                    <a:pt x="3069" y="2045"/>
                  </a:lnTo>
                  <a:lnTo>
                    <a:pt x="3059" y="2055"/>
                  </a:lnTo>
                  <a:lnTo>
                    <a:pt x="3048" y="2062"/>
                  </a:lnTo>
                  <a:lnTo>
                    <a:pt x="3036" y="2072"/>
                  </a:lnTo>
                  <a:lnTo>
                    <a:pt x="3023" y="2079"/>
                  </a:lnTo>
                  <a:lnTo>
                    <a:pt x="3014" y="2087"/>
                  </a:lnTo>
                  <a:lnTo>
                    <a:pt x="3000" y="2097"/>
                  </a:lnTo>
                  <a:lnTo>
                    <a:pt x="2989" y="2104"/>
                  </a:lnTo>
                  <a:lnTo>
                    <a:pt x="2976" y="2112"/>
                  </a:lnTo>
                  <a:lnTo>
                    <a:pt x="2964" y="2119"/>
                  </a:lnTo>
                  <a:lnTo>
                    <a:pt x="2953" y="2127"/>
                  </a:lnTo>
                  <a:lnTo>
                    <a:pt x="2939" y="2136"/>
                  </a:lnTo>
                  <a:lnTo>
                    <a:pt x="2926" y="2142"/>
                  </a:lnTo>
                  <a:lnTo>
                    <a:pt x="2913" y="2148"/>
                  </a:lnTo>
                  <a:lnTo>
                    <a:pt x="2901" y="2155"/>
                  </a:lnTo>
                  <a:lnTo>
                    <a:pt x="2888" y="2163"/>
                  </a:lnTo>
                  <a:lnTo>
                    <a:pt x="2875" y="2171"/>
                  </a:lnTo>
                  <a:lnTo>
                    <a:pt x="2861" y="2178"/>
                  </a:lnTo>
                  <a:lnTo>
                    <a:pt x="2848" y="2184"/>
                  </a:lnTo>
                  <a:lnTo>
                    <a:pt x="2835" y="2192"/>
                  </a:lnTo>
                  <a:lnTo>
                    <a:pt x="2820" y="2197"/>
                  </a:lnTo>
                  <a:lnTo>
                    <a:pt x="2804" y="2203"/>
                  </a:lnTo>
                  <a:lnTo>
                    <a:pt x="2791" y="2211"/>
                  </a:lnTo>
                  <a:lnTo>
                    <a:pt x="2776" y="2216"/>
                  </a:lnTo>
                  <a:lnTo>
                    <a:pt x="2761" y="2224"/>
                  </a:lnTo>
                  <a:lnTo>
                    <a:pt x="2746" y="2230"/>
                  </a:lnTo>
                  <a:lnTo>
                    <a:pt x="2730" y="2235"/>
                  </a:lnTo>
                  <a:lnTo>
                    <a:pt x="2715" y="2243"/>
                  </a:lnTo>
                  <a:lnTo>
                    <a:pt x="2698" y="2249"/>
                  </a:lnTo>
                  <a:lnTo>
                    <a:pt x="2683" y="2254"/>
                  </a:lnTo>
                  <a:lnTo>
                    <a:pt x="2668" y="2262"/>
                  </a:lnTo>
                  <a:lnTo>
                    <a:pt x="2652" y="2270"/>
                  </a:lnTo>
                  <a:lnTo>
                    <a:pt x="2635" y="2275"/>
                  </a:lnTo>
                  <a:lnTo>
                    <a:pt x="2618" y="2281"/>
                  </a:lnTo>
                  <a:lnTo>
                    <a:pt x="2601" y="2289"/>
                  </a:lnTo>
                  <a:lnTo>
                    <a:pt x="2586" y="2296"/>
                  </a:lnTo>
                  <a:lnTo>
                    <a:pt x="2569" y="2300"/>
                  </a:lnTo>
                  <a:lnTo>
                    <a:pt x="2550" y="2308"/>
                  </a:lnTo>
                  <a:lnTo>
                    <a:pt x="2533" y="2313"/>
                  </a:lnTo>
                  <a:lnTo>
                    <a:pt x="2515" y="2319"/>
                  </a:lnTo>
                  <a:lnTo>
                    <a:pt x="2498" y="2325"/>
                  </a:lnTo>
                  <a:lnTo>
                    <a:pt x="2479" y="2330"/>
                  </a:lnTo>
                  <a:lnTo>
                    <a:pt x="2462" y="2336"/>
                  </a:lnTo>
                  <a:lnTo>
                    <a:pt x="2445" y="2342"/>
                  </a:lnTo>
                  <a:lnTo>
                    <a:pt x="2428" y="2347"/>
                  </a:lnTo>
                  <a:lnTo>
                    <a:pt x="2409" y="2351"/>
                  </a:lnTo>
                  <a:lnTo>
                    <a:pt x="2392" y="2357"/>
                  </a:lnTo>
                  <a:lnTo>
                    <a:pt x="2373" y="2363"/>
                  </a:lnTo>
                  <a:lnTo>
                    <a:pt x="2356" y="2366"/>
                  </a:lnTo>
                  <a:lnTo>
                    <a:pt x="2339" y="2372"/>
                  </a:lnTo>
                  <a:lnTo>
                    <a:pt x="2320" y="2376"/>
                  </a:lnTo>
                  <a:lnTo>
                    <a:pt x="2303" y="2382"/>
                  </a:lnTo>
                  <a:lnTo>
                    <a:pt x="2284" y="2385"/>
                  </a:lnTo>
                  <a:lnTo>
                    <a:pt x="2266" y="2391"/>
                  </a:lnTo>
                  <a:lnTo>
                    <a:pt x="2247" y="2393"/>
                  </a:lnTo>
                  <a:lnTo>
                    <a:pt x="2230" y="2399"/>
                  </a:lnTo>
                  <a:lnTo>
                    <a:pt x="2213" y="2403"/>
                  </a:lnTo>
                  <a:lnTo>
                    <a:pt x="2194" y="2406"/>
                  </a:lnTo>
                  <a:lnTo>
                    <a:pt x="2177" y="2410"/>
                  </a:lnTo>
                  <a:lnTo>
                    <a:pt x="2160" y="2414"/>
                  </a:lnTo>
                  <a:lnTo>
                    <a:pt x="2141" y="2416"/>
                  </a:lnTo>
                  <a:lnTo>
                    <a:pt x="2124" y="2420"/>
                  </a:lnTo>
                  <a:lnTo>
                    <a:pt x="2107" y="2423"/>
                  </a:lnTo>
                  <a:lnTo>
                    <a:pt x="2090" y="2425"/>
                  </a:lnTo>
                  <a:lnTo>
                    <a:pt x="2071" y="2429"/>
                  </a:lnTo>
                  <a:lnTo>
                    <a:pt x="2055" y="2433"/>
                  </a:lnTo>
                  <a:lnTo>
                    <a:pt x="2038" y="2435"/>
                  </a:lnTo>
                  <a:lnTo>
                    <a:pt x="2021" y="2439"/>
                  </a:lnTo>
                  <a:lnTo>
                    <a:pt x="2004" y="2439"/>
                  </a:lnTo>
                  <a:lnTo>
                    <a:pt x="1987" y="2442"/>
                  </a:lnTo>
                  <a:lnTo>
                    <a:pt x="1970" y="2442"/>
                  </a:lnTo>
                  <a:lnTo>
                    <a:pt x="1953" y="2446"/>
                  </a:lnTo>
                  <a:lnTo>
                    <a:pt x="1936" y="2446"/>
                  </a:lnTo>
                  <a:lnTo>
                    <a:pt x="1920" y="2448"/>
                  </a:lnTo>
                  <a:lnTo>
                    <a:pt x="1903" y="2448"/>
                  </a:lnTo>
                  <a:lnTo>
                    <a:pt x="1888" y="2450"/>
                  </a:lnTo>
                  <a:lnTo>
                    <a:pt x="1871" y="2450"/>
                  </a:lnTo>
                  <a:lnTo>
                    <a:pt x="1856" y="2452"/>
                  </a:lnTo>
                  <a:lnTo>
                    <a:pt x="1839" y="2452"/>
                  </a:lnTo>
                  <a:lnTo>
                    <a:pt x="1823" y="2452"/>
                  </a:lnTo>
                  <a:lnTo>
                    <a:pt x="1808" y="2452"/>
                  </a:lnTo>
                  <a:lnTo>
                    <a:pt x="1795" y="2452"/>
                  </a:lnTo>
                  <a:lnTo>
                    <a:pt x="1780" y="2452"/>
                  </a:lnTo>
                  <a:lnTo>
                    <a:pt x="1765" y="2452"/>
                  </a:lnTo>
                  <a:lnTo>
                    <a:pt x="1751" y="2452"/>
                  </a:lnTo>
                  <a:lnTo>
                    <a:pt x="1736" y="2450"/>
                  </a:lnTo>
                  <a:lnTo>
                    <a:pt x="1723" y="2448"/>
                  </a:lnTo>
                  <a:lnTo>
                    <a:pt x="1709" y="2448"/>
                  </a:lnTo>
                  <a:lnTo>
                    <a:pt x="1694" y="2446"/>
                  </a:lnTo>
                  <a:lnTo>
                    <a:pt x="1681" y="2446"/>
                  </a:lnTo>
                  <a:lnTo>
                    <a:pt x="1669" y="2442"/>
                  </a:lnTo>
                  <a:lnTo>
                    <a:pt x="1656" y="2442"/>
                  </a:lnTo>
                  <a:lnTo>
                    <a:pt x="1643" y="2439"/>
                  </a:lnTo>
                  <a:lnTo>
                    <a:pt x="1631" y="2437"/>
                  </a:lnTo>
                  <a:lnTo>
                    <a:pt x="1618" y="2435"/>
                  </a:lnTo>
                  <a:lnTo>
                    <a:pt x="1609" y="2433"/>
                  </a:lnTo>
                  <a:lnTo>
                    <a:pt x="1595" y="2429"/>
                  </a:lnTo>
                  <a:lnTo>
                    <a:pt x="1586" y="2425"/>
                  </a:lnTo>
                  <a:lnTo>
                    <a:pt x="1574" y="2423"/>
                  </a:lnTo>
                  <a:lnTo>
                    <a:pt x="1565" y="2420"/>
                  </a:lnTo>
                  <a:lnTo>
                    <a:pt x="1553" y="2416"/>
                  </a:lnTo>
                  <a:lnTo>
                    <a:pt x="1544" y="2410"/>
                  </a:lnTo>
                  <a:lnTo>
                    <a:pt x="1533" y="2406"/>
                  </a:lnTo>
                  <a:lnTo>
                    <a:pt x="1525" y="2403"/>
                  </a:lnTo>
                  <a:lnTo>
                    <a:pt x="1514" y="2397"/>
                  </a:lnTo>
                  <a:lnTo>
                    <a:pt x="1504" y="2393"/>
                  </a:lnTo>
                  <a:lnTo>
                    <a:pt x="1495" y="2389"/>
                  </a:lnTo>
                  <a:lnTo>
                    <a:pt x="1487" y="2385"/>
                  </a:lnTo>
                  <a:lnTo>
                    <a:pt x="1477" y="2382"/>
                  </a:lnTo>
                  <a:lnTo>
                    <a:pt x="1470" y="2376"/>
                  </a:lnTo>
                  <a:lnTo>
                    <a:pt x="1460" y="2372"/>
                  </a:lnTo>
                  <a:lnTo>
                    <a:pt x="1453" y="2368"/>
                  </a:lnTo>
                  <a:lnTo>
                    <a:pt x="1445" y="2363"/>
                  </a:lnTo>
                  <a:lnTo>
                    <a:pt x="1438" y="2359"/>
                  </a:lnTo>
                  <a:lnTo>
                    <a:pt x="1430" y="2353"/>
                  </a:lnTo>
                  <a:lnTo>
                    <a:pt x="1424" y="2349"/>
                  </a:lnTo>
                  <a:lnTo>
                    <a:pt x="1415" y="2344"/>
                  </a:lnTo>
                  <a:lnTo>
                    <a:pt x="1409" y="2340"/>
                  </a:lnTo>
                  <a:lnTo>
                    <a:pt x="1401" y="2332"/>
                  </a:lnTo>
                  <a:lnTo>
                    <a:pt x="1396" y="2328"/>
                  </a:lnTo>
                  <a:lnTo>
                    <a:pt x="1388" y="2323"/>
                  </a:lnTo>
                  <a:lnTo>
                    <a:pt x="1380" y="2317"/>
                  </a:lnTo>
                  <a:lnTo>
                    <a:pt x="1375" y="2313"/>
                  </a:lnTo>
                  <a:lnTo>
                    <a:pt x="1369" y="2308"/>
                  </a:lnTo>
                  <a:lnTo>
                    <a:pt x="1358" y="2296"/>
                  </a:lnTo>
                  <a:lnTo>
                    <a:pt x="1346" y="2287"/>
                  </a:lnTo>
                  <a:lnTo>
                    <a:pt x="1337" y="2275"/>
                  </a:lnTo>
                  <a:lnTo>
                    <a:pt x="1327" y="2264"/>
                  </a:lnTo>
                  <a:lnTo>
                    <a:pt x="1316" y="2252"/>
                  </a:lnTo>
                  <a:lnTo>
                    <a:pt x="1308" y="2241"/>
                  </a:lnTo>
                  <a:lnTo>
                    <a:pt x="1299" y="2230"/>
                  </a:lnTo>
                  <a:lnTo>
                    <a:pt x="1291" y="2218"/>
                  </a:lnTo>
                  <a:lnTo>
                    <a:pt x="1284" y="2205"/>
                  </a:lnTo>
                  <a:lnTo>
                    <a:pt x="1276" y="2193"/>
                  </a:lnTo>
                  <a:lnTo>
                    <a:pt x="1268" y="2180"/>
                  </a:lnTo>
                  <a:lnTo>
                    <a:pt x="1263" y="2169"/>
                  </a:lnTo>
                  <a:lnTo>
                    <a:pt x="1259" y="2161"/>
                  </a:lnTo>
                  <a:lnTo>
                    <a:pt x="1255" y="2155"/>
                  </a:lnTo>
                  <a:lnTo>
                    <a:pt x="1251" y="2148"/>
                  </a:lnTo>
                  <a:lnTo>
                    <a:pt x="1249" y="2142"/>
                  </a:lnTo>
                  <a:lnTo>
                    <a:pt x="1245" y="2136"/>
                  </a:lnTo>
                  <a:lnTo>
                    <a:pt x="1244" y="2129"/>
                  </a:lnTo>
                  <a:lnTo>
                    <a:pt x="1242" y="2123"/>
                  </a:lnTo>
                  <a:lnTo>
                    <a:pt x="1240" y="2116"/>
                  </a:lnTo>
                  <a:lnTo>
                    <a:pt x="1236" y="2110"/>
                  </a:lnTo>
                  <a:lnTo>
                    <a:pt x="1234" y="2104"/>
                  </a:lnTo>
                  <a:lnTo>
                    <a:pt x="1232" y="2097"/>
                  </a:lnTo>
                  <a:lnTo>
                    <a:pt x="1228" y="2091"/>
                  </a:lnTo>
                  <a:lnTo>
                    <a:pt x="1226" y="2083"/>
                  </a:lnTo>
                  <a:lnTo>
                    <a:pt x="1225" y="2078"/>
                  </a:lnTo>
                  <a:lnTo>
                    <a:pt x="1223" y="2070"/>
                  </a:lnTo>
                  <a:lnTo>
                    <a:pt x="1221" y="2064"/>
                  </a:lnTo>
                  <a:lnTo>
                    <a:pt x="1217" y="2057"/>
                  </a:lnTo>
                  <a:lnTo>
                    <a:pt x="1215" y="2049"/>
                  </a:lnTo>
                  <a:lnTo>
                    <a:pt x="1213" y="2041"/>
                  </a:lnTo>
                  <a:lnTo>
                    <a:pt x="1209" y="2036"/>
                  </a:lnTo>
                  <a:lnTo>
                    <a:pt x="1206" y="2022"/>
                  </a:lnTo>
                  <a:lnTo>
                    <a:pt x="1200" y="2011"/>
                  </a:lnTo>
                  <a:lnTo>
                    <a:pt x="1194" y="2000"/>
                  </a:lnTo>
                  <a:lnTo>
                    <a:pt x="1188" y="1988"/>
                  </a:lnTo>
                  <a:lnTo>
                    <a:pt x="1181" y="1977"/>
                  </a:lnTo>
                  <a:lnTo>
                    <a:pt x="1175" y="1967"/>
                  </a:lnTo>
                  <a:lnTo>
                    <a:pt x="1168" y="1956"/>
                  </a:lnTo>
                  <a:lnTo>
                    <a:pt x="1160" y="1946"/>
                  </a:lnTo>
                  <a:lnTo>
                    <a:pt x="1152" y="1935"/>
                  </a:lnTo>
                  <a:lnTo>
                    <a:pt x="1145" y="1927"/>
                  </a:lnTo>
                  <a:lnTo>
                    <a:pt x="1135" y="1920"/>
                  </a:lnTo>
                  <a:lnTo>
                    <a:pt x="1126" y="1912"/>
                  </a:lnTo>
                  <a:lnTo>
                    <a:pt x="1116" y="1905"/>
                  </a:lnTo>
                  <a:lnTo>
                    <a:pt x="1109" y="1899"/>
                  </a:lnTo>
                  <a:lnTo>
                    <a:pt x="1097" y="1891"/>
                  </a:lnTo>
                  <a:lnTo>
                    <a:pt x="1088" y="1887"/>
                  </a:lnTo>
                  <a:lnTo>
                    <a:pt x="1076" y="1882"/>
                  </a:lnTo>
                  <a:lnTo>
                    <a:pt x="1065" y="1878"/>
                  </a:lnTo>
                  <a:lnTo>
                    <a:pt x="1053" y="1874"/>
                  </a:lnTo>
                  <a:lnTo>
                    <a:pt x="1042" y="1872"/>
                  </a:lnTo>
                  <a:lnTo>
                    <a:pt x="1029" y="1868"/>
                  </a:lnTo>
                  <a:lnTo>
                    <a:pt x="1017" y="1868"/>
                  </a:lnTo>
                  <a:lnTo>
                    <a:pt x="1010" y="1868"/>
                  </a:lnTo>
                  <a:lnTo>
                    <a:pt x="1004" y="1868"/>
                  </a:lnTo>
                  <a:lnTo>
                    <a:pt x="996" y="1868"/>
                  </a:lnTo>
                  <a:lnTo>
                    <a:pt x="991" y="1868"/>
                  </a:lnTo>
                  <a:lnTo>
                    <a:pt x="985" y="1868"/>
                  </a:lnTo>
                  <a:lnTo>
                    <a:pt x="977" y="1868"/>
                  </a:lnTo>
                  <a:lnTo>
                    <a:pt x="970" y="1868"/>
                  </a:lnTo>
                  <a:lnTo>
                    <a:pt x="964" y="1872"/>
                  </a:lnTo>
                  <a:lnTo>
                    <a:pt x="955" y="1872"/>
                  </a:lnTo>
                  <a:lnTo>
                    <a:pt x="949" y="1874"/>
                  </a:lnTo>
                  <a:lnTo>
                    <a:pt x="941" y="1874"/>
                  </a:lnTo>
                  <a:lnTo>
                    <a:pt x="934" y="1878"/>
                  </a:lnTo>
                  <a:lnTo>
                    <a:pt x="926" y="1880"/>
                  </a:lnTo>
                  <a:lnTo>
                    <a:pt x="918" y="1882"/>
                  </a:lnTo>
                  <a:lnTo>
                    <a:pt x="911" y="1886"/>
                  </a:lnTo>
                  <a:lnTo>
                    <a:pt x="903" y="1889"/>
                  </a:lnTo>
                  <a:lnTo>
                    <a:pt x="894" y="1891"/>
                  </a:lnTo>
                  <a:lnTo>
                    <a:pt x="886" y="1895"/>
                  </a:lnTo>
                  <a:lnTo>
                    <a:pt x="879" y="1897"/>
                  </a:lnTo>
                  <a:lnTo>
                    <a:pt x="869" y="1901"/>
                  </a:lnTo>
                  <a:lnTo>
                    <a:pt x="858" y="1905"/>
                  </a:lnTo>
                  <a:lnTo>
                    <a:pt x="850" y="1908"/>
                  </a:lnTo>
                  <a:lnTo>
                    <a:pt x="839" y="1912"/>
                  </a:lnTo>
                  <a:lnTo>
                    <a:pt x="831" y="1916"/>
                  </a:lnTo>
                  <a:lnTo>
                    <a:pt x="820" y="1918"/>
                  </a:lnTo>
                  <a:lnTo>
                    <a:pt x="810" y="1922"/>
                  </a:lnTo>
                  <a:lnTo>
                    <a:pt x="801" y="1925"/>
                  </a:lnTo>
                  <a:lnTo>
                    <a:pt x="791" y="1929"/>
                  </a:lnTo>
                  <a:lnTo>
                    <a:pt x="780" y="1931"/>
                  </a:lnTo>
                  <a:lnTo>
                    <a:pt x="768" y="1935"/>
                  </a:lnTo>
                  <a:lnTo>
                    <a:pt x="759" y="1939"/>
                  </a:lnTo>
                  <a:lnTo>
                    <a:pt x="747" y="1943"/>
                  </a:lnTo>
                  <a:lnTo>
                    <a:pt x="736" y="1944"/>
                  </a:lnTo>
                  <a:lnTo>
                    <a:pt x="725" y="1946"/>
                  </a:lnTo>
                  <a:lnTo>
                    <a:pt x="711" y="1948"/>
                  </a:lnTo>
                  <a:lnTo>
                    <a:pt x="702" y="1952"/>
                  </a:lnTo>
                  <a:lnTo>
                    <a:pt x="688" y="1956"/>
                  </a:lnTo>
                  <a:lnTo>
                    <a:pt x="677" y="1958"/>
                  </a:lnTo>
                  <a:lnTo>
                    <a:pt x="664" y="1960"/>
                  </a:lnTo>
                  <a:lnTo>
                    <a:pt x="652" y="1963"/>
                  </a:lnTo>
                  <a:lnTo>
                    <a:pt x="641" y="1965"/>
                  </a:lnTo>
                  <a:lnTo>
                    <a:pt x="628" y="1967"/>
                  </a:lnTo>
                  <a:lnTo>
                    <a:pt x="616" y="1969"/>
                  </a:lnTo>
                  <a:lnTo>
                    <a:pt x="605" y="1971"/>
                  </a:lnTo>
                  <a:lnTo>
                    <a:pt x="591" y="1973"/>
                  </a:lnTo>
                  <a:lnTo>
                    <a:pt x="578" y="1975"/>
                  </a:lnTo>
                  <a:lnTo>
                    <a:pt x="567" y="1977"/>
                  </a:lnTo>
                  <a:lnTo>
                    <a:pt x="555" y="1979"/>
                  </a:lnTo>
                  <a:lnTo>
                    <a:pt x="542" y="1979"/>
                  </a:lnTo>
                  <a:lnTo>
                    <a:pt x="529" y="1981"/>
                  </a:lnTo>
                  <a:lnTo>
                    <a:pt x="515" y="1981"/>
                  </a:lnTo>
                  <a:lnTo>
                    <a:pt x="504" y="1981"/>
                  </a:lnTo>
                  <a:lnTo>
                    <a:pt x="491" y="1981"/>
                  </a:lnTo>
                  <a:lnTo>
                    <a:pt x="479" y="1981"/>
                  </a:lnTo>
                  <a:lnTo>
                    <a:pt x="466" y="1981"/>
                  </a:lnTo>
                  <a:lnTo>
                    <a:pt x="453" y="1981"/>
                  </a:lnTo>
                  <a:lnTo>
                    <a:pt x="439" y="1981"/>
                  </a:lnTo>
                  <a:lnTo>
                    <a:pt x="428" y="1979"/>
                  </a:lnTo>
                  <a:lnTo>
                    <a:pt x="415" y="1979"/>
                  </a:lnTo>
                  <a:lnTo>
                    <a:pt x="403" y="1977"/>
                  </a:lnTo>
                  <a:lnTo>
                    <a:pt x="390" y="1975"/>
                  </a:lnTo>
                  <a:lnTo>
                    <a:pt x="379" y="1973"/>
                  </a:lnTo>
                  <a:lnTo>
                    <a:pt x="367" y="1971"/>
                  </a:lnTo>
                  <a:lnTo>
                    <a:pt x="356" y="1969"/>
                  </a:lnTo>
                  <a:lnTo>
                    <a:pt x="342" y="1965"/>
                  </a:lnTo>
                  <a:lnTo>
                    <a:pt x="331" y="1962"/>
                  </a:lnTo>
                  <a:lnTo>
                    <a:pt x="318" y="1958"/>
                  </a:lnTo>
                  <a:lnTo>
                    <a:pt x="306" y="1956"/>
                  </a:lnTo>
                  <a:lnTo>
                    <a:pt x="295" y="1950"/>
                  </a:lnTo>
                  <a:lnTo>
                    <a:pt x="283" y="1946"/>
                  </a:lnTo>
                  <a:lnTo>
                    <a:pt x="272" y="1943"/>
                  </a:lnTo>
                  <a:lnTo>
                    <a:pt x="261" y="1937"/>
                  </a:lnTo>
                  <a:lnTo>
                    <a:pt x="249" y="1931"/>
                  </a:lnTo>
                  <a:lnTo>
                    <a:pt x="238" y="1925"/>
                  </a:lnTo>
                  <a:lnTo>
                    <a:pt x="228" y="1918"/>
                  </a:lnTo>
                  <a:lnTo>
                    <a:pt x="217" y="1912"/>
                  </a:lnTo>
                  <a:lnTo>
                    <a:pt x="206" y="1905"/>
                  </a:lnTo>
                  <a:lnTo>
                    <a:pt x="196" y="1897"/>
                  </a:lnTo>
                  <a:lnTo>
                    <a:pt x="187" y="1891"/>
                  </a:lnTo>
                  <a:lnTo>
                    <a:pt x="177" y="1884"/>
                  </a:lnTo>
                  <a:lnTo>
                    <a:pt x="168" y="1874"/>
                  </a:lnTo>
                  <a:lnTo>
                    <a:pt x="158" y="1865"/>
                  </a:lnTo>
                  <a:lnTo>
                    <a:pt x="149" y="1855"/>
                  </a:lnTo>
                  <a:lnTo>
                    <a:pt x="141" y="1848"/>
                  </a:lnTo>
                  <a:lnTo>
                    <a:pt x="131" y="1838"/>
                  </a:lnTo>
                  <a:lnTo>
                    <a:pt x="122" y="1829"/>
                  </a:lnTo>
                  <a:lnTo>
                    <a:pt x="116" y="1819"/>
                  </a:lnTo>
                  <a:lnTo>
                    <a:pt x="109" y="1810"/>
                  </a:lnTo>
                  <a:lnTo>
                    <a:pt x="101" y="1800"/>
                  </a:lnTo>
                  <a:lnTo>
                    <a:pt x="93" y="1791"/>
                  </a:lnTo>
                  <a:lnTo>
                    <a:pt x="86" y="1781"/>
                  </a:lnTo>
                  <a:lnTo>
                    <a:pt x="80" y="1772"/>
                  </a:lnTo>
                  <a:lnTo>
                    <a:pt x="74" y="1760"/>
                  </a:lnTo>
                  <a:lnTo>
                    <a:pt x="69" y="1751"/>
                  </a:lnTo>
                  <a:lnTo>
                    <a:pt x="63" y="1741"/>
                  </a:lnTo>
                  <a:lnTo>
                    <a:pt x="59" y="1732"/>
                  </a:lnTo>
                  <a:lnTo>
                    <a:pt x="53" y="1720"/>
                  </a:lnTo>
                  <a:lnTo>
                    <a:pt x="48" y="1709"/>
                  </a:lnTo>
                  <a:lnTo>
                    <a:pt x="44" y="1697"/>
                  </a:lnTo>
                  <a:lnTo>
                    <a:pt x="40" y="1688"/>
                  </a:lnTo>
                  <a:lnTo>
                    <a:pt x="34" y="1675"/>
                  </a:lnTo>
                  <a:lnTo>
                    <a:pt x="33" y="1665"/>
                  </a:lnTo>
                  <a:lnTo>
                    <a:pt x="29" y="1654"/>
                  </a:lnTo>
                  <a:lnTo>
                    <a:pt x="25" y="1642"/>
                  </a:lnTo>
                  <a:lnTo>
                    <a:pt x="23" y="1631"/>
                  </a:lnTo>
                  <a:lnTo>
                    <a:pt x="19" y="1619"/>
                  </a:lnTo>
                  <a:lnTo>
                    <a:pt x="15" y="1606"/>
                  </a:lnTo>
                  <a:lnTo>
                    <a:pt x="15" y="1597"/>
                  </a:lnTo>
                  <a:lnTo>
                    <a:pt x="12" y="1583"/>
                  </a:lnTo>
                  <a:lnTo>
                    <a:pt x="10" y="1572"/>
                  </a:lnTo>
                  <a:lnTo>
                    <a:pt x="8" y="1559"/>
                  </a:lnTo>
                  <a:lnTo>
                    <a:pt x="8" y="1549"/>
                  </a:lnTo>
                  <a:lnTo>
                    <a:pt x="6" y="1536"/>
                  </a:lnTo>
                  <a:lnTo>
                    <a:pt x="4" y="1523"/>
                  </a:lnTo>
                  <a:lnTo>
                    <a:pt x="2" y="1509"/>
                  </a:lnTo>
                  <a:lnTo>
                    <a:pt x="2" y="1498"/>
                  </a:lnTo>
                  <a:lnTo>
                    <a:pt x="0" y="1485"/>
                  </a:lnTo>
                  <a:lnTo>
                    <a:pt x="0" y="1471"/>
                  </a:lnTo>
                  <a:lnTo>
                    <a:pt x="0" y="1458"/>
                  </a:lnTo>
                  <a:lnTo>
                    <a:pt x="0" y="1445"/>
                  </a:lnTo>
                  <a:lnTo>
                    <a:pt x="0" y="1431"/>
                  </a:lnTo>
                  <a:lnTo>
                    <a:pt x="0" y="1418"/>
                  </a:lnTo>
                  <a:lnTo>
                    <a:pt x="0" y="1403"/>
                  </a:lnTo>
                  <a:lnTo>
                    <a:pt x="0" y="1391"/>
                  </a:lnTo>
                  <a:lnTo>
                    <a:pt x="0" y="1376"/>
                  </a:lnTo>
                  <a:lnTo>
                    <a:pt x="2" y="1363"/>
                  </a:lnTo>
                  <a:lnTo>
                    <a:pt x="4" y="1350"/>
                  </a:lnTo>
                  <a:lnTo>
                    <a:pt x="6" y="1336"/>
                  </a:lnTo>
                  <a:lnTo>
                    <a:pt x="6" y="1319"/>
                  </a:lnTo>
                  <a:lnTo>
                    <a:pt x="6" y="1306"/>
                  </a:lnTo>
                  <a:lnTo>
                    <a:pt x="8" y="1291"/>
                  </a:lnTo>
                  <a:lnTo>
                    <a:pt x="10" y="1277"/>
                  </a:lnTo>
                  <a:lnTo>
                    <a:pt x="10" y="1262"/>
                  </a:lnTo>
                  <a:lnTo>
                    <a:pt x="12" y="1247"/>
                  </a:lnTo>
                  <a:lnTo>
                    <a:pt x="14" y="1234"/>
                  </a:lnTo>
                  <a:lnTo>
                    <a:pt x="15" y="1218"/>
                  </a:lnTo>
                  <a:lnTo>
                    <a:pt x="15" y="1203"/>
                  </a:lnTo>
                  <a:lnTo>
                    <a:pt x="19" y="1188"/>
                  </a:lnTo>
                  <a:lnTo>
                    <a:pt x="19" y="1171"/>
                  </a:lnTo>
                  <a:lnTo>
                    <a:pt x="23" y="1158"/>
                  </a:lnTo>
                  <a:lnTo>
                    <a:pt x="23" y="1142"/>
                  </a:lnTo>
                  <a:lnTo>
                    <a:pt x="27" y="1127"/>
                  </a:lnTo>
                  <a:lnTo>
                    <a:pt x="29" y="1110"/>
                  </a:lnTo>
                  <a:lnTo>
                    <a:pt x="33" y="1097"/>
                  </a:lnTo>
                  <a:lnTo>
                    <a:pt x="33" y="1080"/>
                  </a:lnTo>
                  <a:lnTo>
                    <a:pt x="34" y="1064"/>
                  </a:lnTo>
                  <a:lnTo>
                    <a:pt x="38" y="1049"/>
                  </a:lnTo>
                  <a:lnTo>
                    <a:pt x="42" y="1036"/>
                  </a:lnTo>
                  <a:lnTo>
                    <a:pt x="44" y="1019"/>
                  </a:lnTo>
                  <a:lnTo>
                    <a:pt x="48" y="1006"/>
                  </a:lnTo>
                  <a:lnTo>
                    <a:pt x="52" y="992"/>
                  </a:lnTo>
                  <a:lnTo>
                    <a:pt x="55" y="979"/>
                  </a:lnTo>
                  <a:lnTo>
                    <a:pt x="57" y="966"/>
                  </a:lnTo>
                  <a:lnTo>
                    <a:pt x="61" y="950"/>
                  </a:lnTo>
                  <a:lnTo>
                    <a:pt x="65" y="937"/>
                  </a:lnTo>
                  <a:lnTo>
                    <a:pt x="71" y="926"/>
                  </a:lnTo>
                  <a:lnTo>
                    <a:pt x="74" y="912"/>
                  </a:lnTo>
                  <a:lnTo>
                    <a:pt x="80" y="901"/>
                  </a:lnTo>
                  <a:lnTo>
                    <a:pt x="86" y="888"/>
                  </a:lnTo>
                  <a:lnTo>
                    <a:pt x="91" y="876"/>
                  </a:lnTo>
                  <a:lnTo>
                    <a:pt x="97" y="863"/>
                  </a:lnTo>
                  <a:lnTo>
                    <a:pt x="103" y="852"/>
                  </a:lnTo>
                  <a:lnTo>
                    <a:pt x="107" y="838"/>
                  </a:lnTo>
                  <a:lnTo>
                    <a:pt x="114" y="829"/>
                  </a:lnTo>
                  <a:lnTo>
                    <a:pt x="120" y="815"/>
                  </a:lnTo>
                  <a:lnTo>
                    <a:pt x="126" y="806"/>
                  </a:lnTo>
                  <a:lnTo>
                    <a:pt x="133" y="795"/>
                  </a:lnTo>
                  <a:lnTo>
                    <a:pt x="141" y="785"/>
                  </a:lnTo>
                  <a:lnTo>
                    <a:pt x="149" y="774"/>
                  </a:lnTo>
                  <a:lnTo>
                    <a:pt x="154" y="762"/>
                  </a:lnTo>
                  <a:lnTo>
                    <a:pt x="162" y="753"/>
                  </a:lnTo>
                  <a:lnTo>
                    <a:pt x="169" y="743"/>
                  </a:lnTo>
                  <a:lnTo>
                    <a:pt x="177" y="732"/>
                  </a:lnTo>
                  <a:lnTo>
                    <a:pt x="187" y="722"/>
                  </a:lnTo>
                  <a:lnTo>
                    <a:pt x="194" y="713"/>
                  </a:lnTo>
                  <a:lnTo>
                    <a:pt x="204" y="703"/>
                  </a:lnTo>
                  <a:lnTo>
                    <a:pt x="211" y="692"/>
                  </a:lnTo>
                  <a:lnTo>
                    <a:pt x="221" y="680"/>
                  </a:lnTo>
                  <a:lnTo>
                    <a:pt x="228" y="671"/>
                  </a:lnTo>
                  <a:lnTo>
                    <a:pt x="238" y="661"/>
                  </a:lnTo>
                  <a:lnTo>
                    <a:pt x="247" y="652"/>
                  </a:lnTo>
                  <a:lnTo>
                    <a:pt x="257" y="642"/>
                  </a:lnTo>
                  <a:lnTo>
                    <a:pt x="266" y="633"/>
                  </a:lnTo>
                  <a:lnTo>
                    <a:pt x="276" y="623"/>
                  </a:lnTo>
                  <a:lnTo>
                    <a:pt x="285" y="614"/>
                  </a:lnTo>
                  <a:lnTo>
                    <a:pt x="295" y="604"/>
                  </a:lnTo>
                  <a:lnTo>
                    <a:pt x="306" y="593"/>
                  </a:lnTo>
                  <a:lnTo>
                    <a:pt x="318" y="585"/>
                  </a:lnTo>
                  <a:lnTo>
                    <a:pt x="327" y="576"/>
                  </a:lnTo>
                  <a:lnTo>
                    <a:pt x="339" y="566"/>
                  </a:lnTo>
                  <a:lnTo>
                    <a:pt x="350" y="557"/>
                  </a:lnTo>
                  <a:lnTo>
                    <a:pt x="361" y="549"/>
                  </a:lnTo>
                  <a:lnTo>
                    <a:pt x="373" y="538"/>
                  </a:lnTo>
                  <a:lnTo>
                    <a:pt x="382" y="528"/>
                  </a:lnTo>
                  <a:lnTo>
                    <a:pt x="396" y="519"/>
                  </a:lnTo>
                  <a:lnTo>
                    <a:pt x="407" y="509"/>
                  </a:lnTo>
                  <a:lnTo>
                    <a:pt x="418" y="500"/>
                  </a:lnTo>
                  <a:lnTo>
                    <a:pt x="430" y="490"/>
                  </a:lnTo>
                  <a:lnTo>
                    <a:pt x="443" y="481"/>
                  </a:lnTo>
                  <a:lnTo>
                    <a:pt x="456" y="471"/>
                  </a:lnTo>
                  <a:lnTo>
                    <a:pt x="468" y="462"/>
                  </a:lnTo>
                  <a:lnTo>
                    <a:pt x="481" y="452"/>
                  </a:lnTo>
                  <a:lnTo>
                    <a:pt x="493" y="441"/>
                  </a:lnTo>
                  <a:lnTo>
                    <a:pt x="508" y="431"/>
                  </a:lnTo>
                  <a:lnTo>
                    <a:pt x="521" y="420"/>
                  </a:lnTo>
                  <a:lnTo>
                    <a:pt x="534" y="411"/>
                  </a:lnTo>
                  <a:lnTo>
                    <a:pt x="548" y="401"/>
                  </a:lnTo>
                  <a:lnTo>
                    <a:pt x="563" y="392"/>
                  </a:lnTo>
                  <a:lnTo>
                    <a:pt x="574" y="382"/>
                  </a:lnTo>
                  <a:lnTo>
                    <a:pt x="588" y="371"/>
                  </a:lnTo>
                  <a:lnTo>
                    <a:pt x="601" y="359"/>
                  </a:lnTo>
                  <a:lnTo>
                    <a:pt x="614" y="352"/>
                  </a:lnTo>
                  <a:lnTo>
                    <a:pt x="626" y="340"/>
                  </a:lnTo>
                  <a:lnTo>
                    <a:pt x="639" y="333"/>
                  </a:lnTo>
                  <a:lnTo>
                    <a:pt x="652" y="323"/>
                  </a:lnTo>
                  <a:lnTo>
                    <a:pt x="666" y="316"/>
                  </a:lnTo>
                  <a:lnTo>
                    <a:pt x="677" y="308"/>
                  </a:lnTo>
                  <a:lnTo>
                    <a:pt x="688" y="300"/>
                  </a:lnTo>
                  <a:lnTo>
                    <a:pt x="702" y="293"/>
                  </a:lnTo>
                  <a:lnTo>
                    <a:pt x="713" y="287"/>
                  </a:lnTo>
                  <a:lnTo>
                    <a:pt x="725" y="279"/>
                  </a:lnTo>
                  <a:lnTo>
                    <a:pt x="736" y="272"/>
                  </a:lnTo>
                  <a:lnTo>
                    <a:pt x="749" y="266"/>
                  </a:lnTo>
                  <a:lnTo>
                    <a:pt x="761" y="262"/>
                  </a:lnTo>
                  <a:lnTo>
                    <a:pt x="772" y="255"/>
                  </a:lnTo>
                  <a:lnTo>
                    <a:pt x="783" y="249"/>
                  </a:lnTo>
                  <a:lnTo>
                    <a:pt x="795" y="243"/>
                  </a:lnTo>
                  <a:lnTo>
                    <a:pt x="806" y="240"/>
                  </a:lnTo>
                  <a:lnTo>
                    <a:pt x="818" y="234"/>
                  </a:lnTo>
                  <a:lnTo>
                    <a:pt x="829" y="230"/>
                  </a:lnTo>
                  <a:lnTo>
                    <a:pt x="839" y="224"/>
                  </a:lnTo>
                  <a:lnTo>
                    <a:pt x="852" y="221"/>
                  </a:lnTo>
                  <a:lnTo>
                    <a:pt x="861" y="217"/>
                  </a:lnTo>
                  <a:lnTo>
                    <a:pt x="873" y="213"/>
                  </a:lnTo>
                  <a:lnTo>
                    <a:pt x="884" y="209"/>
                  </a:lnTo>
                  <a:lnTo>
                    <a:pt x="896" y="205"/>
                  </a:lnTo>
                  <a:lnTo>
                    <a:pt x="907" y="201"/>
                  </a:lnTo>
                  <a:lnTo>
                    <a:pt x="917" y="198"/>
                  </a:lnTo>
                  <a:lnTo>
                    <a:pt x="928" y="194"/>
                  </a:lnTo>
                  <a:lnTo>
                    <a:pt x="939" y="192"/>
                  </a:lnTo>
                  <a:lnTo>
                    <a:pt x="951" y="188"/>
                  </a:lnTo>
                  <a:lnTo>
                    <a:pt x="962" y="184"/>
                  </a:lnTo>
                  <a:lnTo>
                    <a:pt x="972" y="181"/>
                  </a:lnTo>
                  <a:lnTo>
                    <a:pt x="983" y="179"/>
                  </a:lnTo>
                  <a:lnTo>
                    <a:pt x="995" y="175"/>
                  </a:lnTo>
                  <a:lnTo>
                    <a:pt x="1006" y="171"/>
                  </a:lnTo>
                  <a:lnTo>
                    <a:pt x="1015" y="169"/>
                  </a:lnTo>
                  <a:lnTo>
                    <a:pt x="1029" y="167"/>
                  </a:lnTo>
                  <a:lnTo>
                    <a:pt x="1038" y="163"/>
                  </a:lnTo>
                  <a:lnTo>
                    <a:pt x="1050" y="162"/>
                  </a:lnTo>
                  <a:lnTo>
                    <a:pt x="1061" y="158"/>
                  </a:lnTo>
                  <a:lnTo>
                    <a:pt x="1074" y="156"/>
                  </a:lnTo>
                  <a:lnTo>
                    <a:pt x="1084" y="152"/>
                  </a:lnTo>
                  <a:lnTo>
                    <a:pt x="1097" y="152"/>
                  </a:lnTo>
                  <a:lnTo>
                    <a:pt x="1109" y="148"/>
                  </a:lnTo>
                  <a:lnTo>
                    <a:pt x="1120" y="146"/>
                  </a:lnTo>
                  <a:lnTo>
                    <a:pt x="1131" y="143"/>
                  </a:lnTo>
                  <a:lnTo>
                    <a:pt x="1143" y="141"/>
                  </a:lnTo>
                  <a:lnTo>
                    <a:pt x="1154" y="137"/>
                  </a:lnTo>
                  <a:lnTo>
                    <a:pt x="1168" y="135"/>
                  </a:lnTo>
                  <a:lnTo>
                    <a:pt x="1179" y="131"/>
                  </a:lnTo>
                  <a:lnTo>
                    <a:pt x="1192" y="129"/>
                  </a:lnTo>
                  <a:lnTo>
                    <a:pt x="1204" y="125"/>
                  </a:lnTo>
                  <a:lnTo>
                    <a:pt x="1219" y="124"/>
                  </a:lnTo>
                  <a:lnTo>
                    <a:pt x="1230" y="118"/>
                  </a:lnTo>
                  <a:lnTo>
                    <a:pt x="1244" y="114"/>
                  </a:lnTo>
                  <a:lnTo>
                    <a:pt x="1255" y="110"/>
                  </a:lnTo>
                  <a:lnTo>
                    <a:pt x="1270" y="106"/>
                  </a:lnTo>
                  <a:lnTo>
                    <a:pt x="1284" y="103"/>
                  </a:lnTo>
                  <a:lnTo>
                    <a:pt x="1297" y="101"/>
                  </a:lnTo>
                  <a:lnTo>
                    <a:pt x="1310" y="97"/>
                  </a:lnTo>
                  <a:lnTo>
                    <a:pt x="1325" y="93"/>
                  </a:lnTo>
                  <a:lnTo>
                    <a:pt x="132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 flipV="1" rot="20995800">
              <a:off x="3772440" y="3230280"/>
              <a:ext cx="1966320" cy="1153080"/>
            </a:xfrm>
            <a:custGeom>
              <a:avLst/>
              <a:gdLst/>
              <a:ahLst/>
              <a:rect l="l" t="t" r="r" b="b"/>
              <a:pathLst>
                <a:path w="2992" h="1997">
                  <a:moveTo>
                    <a:pt x="1137" y="76"/>
                  </a:moveTo>
                  <a:lnTo>
                    <a:pt x="1148" y="72"/>
                  </a:lnTo>
                  <a:lnTo>
                    <a:pt x="1160" y="68"/>
                  </a:lnTo>
                  <a:lnTo>
                    <a:pt x="1171" y="64"/>
                  </a:lnTo>
                  <a:lnTo>
                    <a:pt x="1182" y="62"/>
                  </a:lnTo>
                  <a:lnTo>
                    <a:pt x="1194" y="59"/>
                  </a:lnTo>
                  <a:lnTo>
                    <a:pt x="1205" y="55"/>
                  </a:lnTo>
                  <a:lnTo>
                    <a:pt x="1217" y="53"/>
                  </a:lnTo>
                  <a:lnTo>
                    <a:pt x="1228" y="51"/>
                  </a:lnTo>
                  <a:lnTo>
                    <a:pt x="1239" y="47"/>
                  </a:lnTo>
                  <a:lnTo>
                    <a:pt x="1251" y="45"/>
                  </a:lnTo>
                  <a:lnTo>
                    <a:pt x="1260" y="43"/>
                  </a:lnTo>
                  <a:lnTo>
                    <a:pt x="1274" y="41"/>
                  </a:lnTo>
                  <a:lnTo>
                    <a:pt x="1283" y="40"/>
                  </a:lnTo>
                  <a:lnTo>
                    <a:pt x="1295" y="38"/>
                  </a:lnTo>
                  <a:lnTo>
                    <a:pt x="1306" y="36"/>
                  </a:lnTo>
                  <a:lnTo>
                    <a:pt x="1317" y="36"/>
                  </a:lnTo>
                  <a:lnTo>
                    <a:pt x="1329" y="32"/>
                  </a:lnTo>
                  <a:lnTo>
                    <a:pt x="1338" y="32"/>
                  </a:lnTo>
                  <a:lnTo>
                    <a:pt x="1350" y="30"/>
                  </a:lnTo>
                  <a:lnTo>
                    <a:pt x="1361" y="28"/>
                  </a:lnTo>
                  <a:lnTo>
                    <a:pt x="1371" y="26"/>
                  </a:lnTo>
                  <a:lnTo>
                    <a:pt x="1382" y="26"/>
                  </a:lnTo>
                  <a:lnTo>
                    <a:pt x="1393" y="22"/>
                  </a:lnTo>
                  <a:lnTo>
                    <a:pt x="1405" y="22"/>
                  </a:lnTo>
                  <a:lnTo>
                    <a:pt x="1414" y="22"/>
                  </a:lnTo>
                  <a:lnTo>
                    <a:pt x="1426" y="21"/>
                  </a:lnTo>
                  <a:lnTo>
                    <a:pt x="1437" y="21"/>
                  </a:lnTo>
                  <a:lnTo>
                    <a:pt x="1450" y="21"/>
                  </a:lnTo>
                  <a:lnTo>
                    <a:pt x="1460" y="19"/>
                  </a:lnTo>
                  <a:lnTo>
                    <a:pt x="1473" y="17"/>
                  </a:lnTo>
                  <a:lnTo>
                    <a:pt x="1485" y="17"/>
                  </a:lnTo>
                  <a:lnTo>
                    <a:pt x="1498" y="17"/>
                  </a:lnTo>
                  <a:lnTo>
                    <a:pt x="1509" y="17"/>
                  </a:lnTo>
                  <a:lnTo>
                    <a:pt x="1521" y="15"/>
                  </a:lnTo>
                  <a:lnTo>
                    <a:pt x="1534" y="13"/>
                  </a:lnTo>
                  <a:lnTo>
                    <a:pt x="1547" y="13"/>
                  </a:lnTo>
                  <a:lnTo>
                    <a:pt x="1559" y="13"/>
                  </a:lnTo>
                  <a:lnTo>
                    <a:pt x="1572" y="13"/>
                  </a:lnTo>
                  <a:lnTo>
                    <a:pt x="1584" y="13"/>
                  </a:lnTo>
                  <a:lnTo>
                    <a:pt x="1599" y="13"/>
                  </a:lnTo>
                  <a:lnTo>
                    <a:pt x="1612" y="11"/>
                  </a:lnTo>
                  <a:lnTo>
                    <a:pt x="1625" y="11"/>
                  </a:lnTo>
                  <a:lnTo>
                    <a:pt x="1639" y="9"/>
                  </a:lnTo>
                  <a:lnTo>
                    <a:pt x="1654" y="9"/>
                  </a:lnTo>
                  <a:lnTo>
                    <a:pt x="1667" y="9"/>
                  </a:lnTo>
                  <a:lnTo>
                    <a:pt x="1682" y="9"/>
                  </a:lnTo>
                  <a:lnTo>
                    <a:pt x="1698" y="9"/>
                  </a:lnTo>
                  <a:lnTo>
                    <a:pt x="1713" y="9"/>
                  </a:lnTo>
                  <a:lnTo>
                    <a:pt x="1728" y="9"/>
                  </a:lnTo>
                  <a:lnTo>
                    <a:pt x="1743" y="9"/>
                  </a:lnTo>
                  <a:lnTo>
                    <a:pt x="1758" y="7"/>
                  </a:lnTo>
                  <a:lnTo>
                    <a:pt x="1776" y="7"/>
                  </a:lnTo>
                  <a:lnTo>
                    <a:pt x="1791" y="7"/>
                  </a:lnTo>
                  <a:lnTo>
                    <a:pt x="1808" y="7"/>
                  </a:lnTo>
                  <a:lnTo>
                    <a:pt x="1825" y="7"/>
                  </a:lnTo>
                  <a:lnTo>
                    <a:pt x="1844" y="7"/>
                  </a:lnTo>
                  <a:lnTo>
                    <a:pt x="1859" y="5"/>
                  </a:lnTo>
                  <a:lnTo>
                    <a:pt x="1878" y="5"/>
                  </a:lnTo>
                  <a:lnTo>
                    <a:pt x="1897" y="3"/>
                  </a:lnTo>
                  <a:lnTo>
                    <a:pt x="1916" y="3"/>
                  </a:lnTo>
                  <a:lnTo>
                    <a:pt x="1933" y="3"/>
                  </a:lnTo>
                  <a:lnTo>
                    <a:pt x="1954" y="3"/>
                  </a:lnTo>
                  <a:lnTo>
                    <a:pt x="1975" y="3"/>
                  </a:lnTo>
                  <a:lnTo>
                    <a:pt x="1996" y="3"/>
                  </a:lnTo>
                  <a:lnTo>
                    <a:pt x="2015" y="1"/>
                  </a:lnTo>
                  <a:lnTo>
                    <a:pt x="2036" y="0"/>
                  </a:lnTo>
                  <a:lnTo>
                    <a:pt x="2055" y="0"/>
                  </a:lnTo>
                  <a:lnTo>
                    <a:pt x="2074" y="0"/>
                  </a:lnTo>
                  <a:lnTo>
                    <a:pt x="2093" y="0"/>
                  </a:lnTo>
                  <a:lnTo>
                    <a:pt x="2114" y="0"/>
                  </a:lnTo>
                  <a:lnTo>
                    <a:pt x="2133" y="1"/>
                  </a:lnTo>
                  <a:lnTo>
                    <a:pt x="2154" y="3"/>
                  </a:lnTo>
                  <a:lnTo>
                    <a:pt x="2171" y="3"/>
                  </a:lnTo>
                  <a:lnTo>
                    <a:pt x="2190" y="7"/>
                  </a:lnTo>
                  <a:lnTo>
                    <a:pt x="2209" y="7"/>
                  </a:lnTo>
                  <a:lnTo>
                    <a:pt x="2228" y="11"/>
                  </a:lnTo>
                  <a:lnTo>
                    <a:pt x="2245" y="13"/>
                  </a:lnTo>
                  <a:lnTo>
                    <a:pt x="2264" y="15"/>
                  </a:lnTo>
                  <a:lnTo>
                    <a:pt x="2281" y="19"/>
                  </a:lnTo>
                  <a:lnTo>
                    <a:pt x="2300" y="22"/>
                  </a:lnTo>
                  <a:lnTo>
                    <a:pt x="2317" y="24"/>
                  </a:lnTo>
                  <a:lnTo>
                    <a:pt x="2335" y="28"/>
                  </a:lnTo>
                  <a:lnTo>
                    <a:pt x="2352" y="32"/>
                  </a:lnTo>
                  <a:lnTo>
                    <a:pt x="2369" y="36"/>
                  </a:lnTo>
                  <a:lnTo>
                    <a:pt x="2386" y="40"/>
                  </a:lnTo>
                  <a:lnTo>
                    <a:pt x="2403" y="43"/>
                  </a:lnTo>
                  <a:lnTo>
                    <a:pt x="2418" y="49"/>
                  </a:lnTo>
                  <a:lnTo>
                    <a:pt x="2435" y="55"/>
                  </a:lnTo>
                  <a:lnTo>
                    <a:pt x="2451" y="59"/>
                  </a:lnTo>
                  <a:lnTo>
                    <a:pt x="2468" y="64"/>
                  </a:lnTo>
                  <a:lnTo>
                    <a:pt x="2483" y="68"/>
                  </a:lnTo>
                  <a:lnTo>
                    <a:pt x="2498" y="76"/>
                  </a:lnTo>
                  <a:lnTo>
                    <a:pt x="2511" y="81"/>
                  </a:lnTo>
                  <a:lnTo>
                    <a:pt x="2528" y="87"/>
                  </a:lnTo>
                  <a:lnTo>
                    <a:pt x="2544" y="95"/>
                  </a:lnTo>
                  <a:lnTo>
                    <a:pt x="2559" y="102"/>
                  </a:lnTo>
                  <a:lnTo>
                    <a:pt x="2572" y="108"/>
                  </a:lnTo>
                  <a:lnTo>
                    <a:pt x="2585" y="114"/>
                  </a:lnTo>
                  <a:lnTo>
                    <a:pt x="2601" y="121"/>
                  </a:lnTo>
                  <a:lnTo>
                    <a:pt x="2616" y="129"/>
                  </a:lnTo>
                  <a:lnTo>
                    <a:pt x="2627" y="136"/>
                  </a:lnTo>
                  <a:lnTo>
                    <a:pt x="2641" y="144"/>
                  </a:lnTo>
                  <a:lnTo>
                    <a:pt x="2654" y="152"/>
                  </a:lnTo>
                  <a:lnTo>
                    <a:pt x="2667" y="161"/>
                  </a:lnTo>
                  <a:lnTo>
                    <a:pt x="2679" y="169"/>
                  </a:lnTo>
                  <a:lnTo>
                    <a:pt x="2692" y="176"/>
                  </a:lnTo>
                  <a:lnTo>
                    <a:pt x="2703" y="184"/>
                  </a:lnTo>
                  <a:lnTo>
                    <a:pt x="2717" y="195"/>
                  </a:lnTo>
                  <a:lnTo>
                    <a:pt x="2728" y="203"/>
                  </a:lnTo>
                  <a:lnTo>
                    <a:pt x="2739" y="212"/>
                  </a:lnTo>
                  <a:lnTo>
                    <a:pt x="2751" y="222"/>
                  </a:lnTo>
                  <a:lnTo>
                    <a:pt x="2762" y="233"/>
                  </a:lnTo>
                  <a:lnTo>
                    <a:pt x="2772" y="243"/>
                  </a:lnTo>
                  <a:lnTo>
                    <a:pt x="2783" y="252"/>
                  </a:lnTo>
                  <a:lnTo>
                    <a:pt x="2793" y="264"/>
                  </a:lnTo>
                  <a:lnTo>
                    <a:pt x="2802" y="275"/>
                  </a:lnTo>
                  <a:lnTo>
                    <a:pt x="2812" y="285"/>
                  </a:lnTo>
                  <a:lnTo>
                    <a:pt x="2821" y="294"/>
                  </a:lnTo>
                  <a:lnTo>
                    <a:pt x="2831" y="308"/>
                  </a:lnTo>
                  <a:lnTo>
                    <a:pt x="2840" y="319"/>
                  </a:lnTo>
                  <a:lnTo>
                    <a:pt x="2850" y="328"/>
                  </a:lnTo>
                  <a:lnTo>
                    <a:pt x="2857" y="340"/>
                  </a:lnTo>
                  <a:lnTo>
                    <a:pt x="2867" y="351"/>
                  </a:lnTo>
                  <a:lnTo>
                    <a:pt x="2874" y="365"/>
                  </a:lnTo>
                  <a:lnTo>
                    <a:pt x="2882" y="376"/>
                  </a:lnTo>
                  <a:lnTo>
                    <a:pt x="2888" y="389"/>
                  </a:lnTo>
                  <a:lnTo>
                    <a:pt x="2895" y="401"/>
                  </a:lnTo>
                  <a:lnTo>
                    <a:pt x="2905" y="414"/>
                  </a:lnTo>
                  <a:lnTo>
                    <a:pt x="2911" y="427"/>
                  </a:lnTo>
                  <a:lnTo>
                    <a:pt x="2916" y="439"/>
                  </a:lnTo>
                  <a:lnTo>
                    <a:pt x="2922" y="452"/>
                  </a:lnTo>
                  <a:lnTo>
                    <a:pt x="2928" y="465"/>
                  </a:lnTo>
                  <a:lnTo>
                    <a:pt x="2933" y="477"/>
                  </a:lnTo>
                  <a:lnTo>
                    <a:pt x="2939" y="490"/>
                  </a:lnTo>
                  <a:lnTo>
                    <a:pt x="2943" y="503"/>
                  </a:lnTo>
                  <a:lnTo>
                    <a:pt x="2951" y="518"/>
                  </a:lnTo>
                  <a:lnTo>
                    <a:pt x="2952" y="532"/>
                  </a:lnTo>
                  <a:lnTo>
                    <a:pt x="2956" y="545"/>
                  </a:lnTo>
                  <a:lnTo>
                    <a:pt x="2960" y="558"/>
                  </a:lnTo>
                  <a:lnTo>
                    <a:pt x="2966" y="574"/>
                  </a:lnTo>
                  <a:lnTo>
                    <a:pt x="2968" y="587"/>
                  </a:lnTo>
                  <a:lnTo>
                    <a:pt x="2971" y="602"/>
                  </a:lnTo>
                  <a:lnTo>
                    <a:pt x="2975" y="615"/>
                  </a:lnTo>
                  <a:lnTo>
                    <a:pt x="2979" y="631"/>
                  </a:lnTo>
                  <a:lnTo>
                    <a:pt x="2979" y="646"/>
                  </a:lnTo>
                  <a:lnTo>
                    <a:pt x="2981" y="659"/>
                  </a:lnTo>
                  <a:lnTo>
                    <a:pt x="2985" y="674"/>
                  </a:lnTo>
                  <a:lnTo>
                    <a:pt x="2987" y="688"/>
                  </a:lnTo>
                  <a:lnTo>
                    <a:pt x="2987" y="703"/>
                  </a:lnTo>
                  <a:lnTo>
                    <a:pt x="2989" y="718"/>
                  </a:lnTo>
                  <a:lnTo>
                    <a:pt x="2989" y="733"/>
                  </a:lnTo>
                  <a:lnTo>
                    <a:pt x="2990" y="748"/>
                  </a:lnTo>
                  <a:lnTo>
                    <a:pt x="2990" y="762"/>
                  </a:lnTo>
                  <a:lnTo>
                    <a:pt x="2990" y="777"/>
                  </a:lnTo>
                  <a:lnTo>
                    <a:pt x="2990" y="794"/>
                  </a:lnTo>
                  <a:lnTo>
                    <a:pt x="2992" y="809"/>
                  </a:lnTo>
                  <a:lnTo>
                    <a:pt x="2990" y="823"/>
                  </a:lnTo>
                  <a:lnTo>
                    <a:pt x="2990" y="840"/>
                  </a:lnTo>
                  <a:lnTo>
                    <a:pt x="2990" y="855"/>
                  </a:lnTo>
                  <a:lnTo>
                    <a:pt x="2990" y="870"/>
                  </a:lnTo>
                  <a:lnTo>
                    <a:pt x="2989" y="883"/>
                  </a:lnTo>
                  <a:lnTo>
                    <a:pt x="2989" y="901"/>
                  </a:lnTo>
                  <a:lnTo>
                    <a:pt x="2985" y="914"/>
                  </a:lnTo>
                  <a:lnTo>
                    <a:pt x="2985" y="929"/>
                  </a:lnTo>
                  <a:lnTo>
                    <a:pt x="2981" y="944"/>
                  </a:lnTo>
                  <a:lnTo>
                    <a:pt x="2979" y="959"/>
                  </a:lnTo>
                  <a:lnTo>
                    <a:pt x="2977" y="975"/>
                  </a:lnTo>
                  <a:lnTo>
                    <a:pt x="2975" y="990"/>
                  </a:lnTo>
                  <a:lnTo>
                    <a:pt x="2971" y="1005"/>
                  </a:lnTo>
                  <a:lnTo>
                    <a:pt x="2970" y="1020"/>
                  </a:lnTo>
                  <a:lnTo>
                    <a:pt x="2966" y="1036"/>
                  </a:lnTo>
                  <a:lnTo>
                    <a:pt x="2964" y="1051"/>
                  </a:lnTo>
                  <a:lnTo>
                    <a:pt x="2960" y="1064"/>
                  </a:lnTo>
                  <a:lnTo>
                    <a:pt x="2956" y="1081"/>
                  </a:lnTo>
                  <a:lnTo>
                    <a:pt x="2952" y="1094"/>
                  </a:lnTo>
                  <a:lnTo>
                    <a:pt x="2951" y="1110"/>
                  </a:lnTo>
                  <a:lnTo>
                    <a:pt x="2945" y="1125"/>
                  </a:lnTo>
                  <a:lnTo>
                    <a:pt x="2939" y="1140"/>
                  </a:lnTo>
                  <a:lnTo>
                    <a:pt x="2935" y="1153"/>
                  </a:lnTo>
                  <a:lnTo>
                    <a:pt x="2932" y="1169"/>
                  </a:lnTo>
                  <a:lnTo>
                    <a:pt x="2926" y="1182"/>
                  </a:lnTo>
                  <a:lnTo>
                    <a:pt x="2920" y="1197"/>
                  </a:lnTo>
                  <a:lnTo>
                    <a:pt x="2916" y="1210"/>
                  </a:lnTo>
                  <a:lnTo>
                    <a:pt x="2911" y="1226"/>
                  </a:lnTo>
                  <a:lnTo>
                    <a:pt x="2905" y="1239"/>
                  </a:lnTo>
                  <a:lnTo>
                    <a:pt x="2899" y="1254"/>
                  </a:lnTo>
                  <a:lnTo>
                    <a:pt x="2893" y="1267"/>
                  </a:lnTo>
                  <a:lnTo>
                    <a:pt x="2888" y="1281"/>
                  </a:lnTo>
                  <a:lnTo>
                    <a:pt x="2882" y="1294"/>
                  </a:lnTo>
                  <a:lnTo>
                    <a:pt x="2876" y="1309"/>
                  </a:lnTo>
                  <a:lnTo>
                    <a:pt x="2869" y="1323"/>
                  </a:lnTo>
                  <a:lnTo>
                    <a:pt x="2865" y="1336"/>
                  </a:lnTo>
                  <a:lnTo>
                    <a:pt x="2857" y="1349"/>
                  </a:lnTo>
                  <a:lnTo>
                    <a:pt x="2850" y="1362"/>
                  </a:lnTo>
                  <a:lnTo>
                    <a:pt x="2844" y="1374"/>
                  </a:lnTo>
                  <a:lnTo>
                    <a:pt x="2836" y="1387"/>
                  </a:lnTo>
                  <a:lnTo>
                    <a:pt x="2827" y="1399"/>
                  </a:lnTo>
                  <a:lnTo>
                    <a:pt x="2821" y="1410"/>
                  </a:lnTo>
                  <a:lnTo>
                    <a:pt x="2814" y="1423"/>
                  </a:lnTo>
                  <a:lnTo>
                    <a:pt x="2806" y="1437"/>
                  </a:lnTo>
                  <a:lnTo>
                    <a:pt x="2798" y="1446"/>
                  </a:lnTo>
                  <a:lnTo>
                    <a:pt x="2789" y="1457"/>
                  </a:lnTo>
                  <a:lnTo>
                    <a:pt x="2781" y="1469"/>
                  </a:lnTo>
                  <a:lnTo>
                    <a:pt x="2774" y="1480"/>
                  </a:lnTo>
                  <a:lnTo>
                    <a:pt x="2764" y="1492"/>
                  </a:lnTo>
                  <a:lnTo>
                    <a:pt x="2757" y="1503"/>
                  </a:lnTo>
                  <a:lnTo>
                    <a:pt x="2747" y="1514"/>
                  </a:lnTo>
                  <a:lnTo>
                    <a:pt x="2739" y="1526"/>
                  </a:lnTo>
                  <a:lnTo>
                    <a:pt x="2730" y="1535"/>
                  </a:lnTo>
                  <a:lnTo>
                    <a:pt x="2720" y="1547"/>
                  </a:lnTo>
                  <a:lnTo>
                    <a:pt x="2711" y="1558"/>
                  </a:lnTo>
                  <a:lnTo>
                    <a:pt x="2703" y="1568"/>
                  </a:lnTo>
                  <a:lnTo>
                    <a:pt x="2692" y="1577"/>
                  </a:lnTo>
                  <a:lnTo>
                    <a:pt x="2682" y="1587"/>
                  </a:lnTo>
                  <a:lnTo>
                    <a:pt x="2673" y="1596"/>
                  </a:lnTo>
                  <a:lnTo>
                    <a:pt x="2663" y="1608"/>
                  </a:lnTo>
                  <a:lnTo>
                    <a:pt x="2654" y="1617"/>
                  </a:lnTo>
                  <a:lnTo>
                    <a:pt x="2644" y="1627"/>
                  </a:lnTo>
                  <a:lnTo>
                    <a:pt x="2633" y="1636"/>
                  </a:lnTo>
                  <a:lnTo>
                    <a:pt x="2624" y="1646"/>
                  </a:lnTo>
                  <a:lnTo>
                    <a:pt x="2612" y="1655"/>
                  </a:lnTo>
                  <a:lnTo>
                    <a:pt x="2603" y="1665"/>
                  </a:lnTo>
                  <a:lnTo>
                    <a:pt x="2591" y="1674"/>
                  </a:lnTo>
                  <a:lnTo>
                    <a:pt x="2582" y="1684"/>
                  </a:lnTo>
                  <a:lnTo>
                    <a:pt x="2570" y="1691"/>
                  </a:lnTo>
                  <a:lnTo>
                    <a:pt x="2557" y="1701"/>
                  </a:lnTo>
                  <a:lnTo>
                    <a:pt x="2546" y="1706"/>
                  </a:lnTo>
                  <a:lnTo>
                    <a:pt x="2534" y="1716"/>
                  </a:lnTo>
                  <a:lnTo>
                    <a:pt x="2523" y="1724"/>
                  </a:lnTo>
                  <a:lnTo>
                    <a:pt x="2511" y="1733"/>
                  </a:lnTo>
                  <a:lnTo>
                    <a:pt x="2500" y="1741"/>
                  </a:lnTo>
                  <a:lnTo>
                    <a:pt x="2489" y="1748"/>
                  </a:lnTo>
                  <a:lnTo>
                    <a:pt x="2475" y="1756"/>
                  </a:lnTo>
                  <a:lnTo>
                    <a:pt x="2464" y="1763"/>
                  </a:lnTo>
                  <a:lnTo>
                    <a:pt x="2451" y="1771"/>
                  </a:lnTo>
                  <a:lnTo>
                    <a:pt x="2439" y="1779"/>
                  </a:lnTo>
                  <a:lnTo>
                    <a:pt x="2426" y="1786"/>
                  </a:lnTo>
                  <a:lnTo>
                    <a:pt x="2414" y="1794"/>
                  </a:lnTo>
                  <a:lnTo>
                    <a:pt x="2401" y="1800"/>
                  </a:lnTo>
                  <a:lnTo>
                    <a:pt x="2390" y="1807"/>
                  </a:lnTo>
                  <a:lnTo>
                    <a:pt x="2374" y="1813"/>
                  </a:lnTo>
                  <a:lnTo>
                    <a:pt x="2361" y="1819"/>
                  </a:lnTo>
                  <a:lnTo>
                    <a:pt x="2348" y="1826"/>
                  </a:lnTo>
                  <a:lnTo>
                    <a:pt x="2335" y="1832"/>
                  </a:lnTo>
                  <a:lnTo>
                    <a:pt x="2321" y="1840"/>
                  </a:lnTo>
                  <a:lnTo>
                    <a:pt x="2310" y="1845"/>
                  </a:lnTo>
                  <a:lnTo>
                    <a:pt x="2297" y="1853"/>
                  </a:lnTo>
                  <a:lnTo>
                    <a:pt x="2283" y="1859"/>
                  </a:lnTo>
                  <a:lnTo>
                    <a:pt x="2268" y="1864"/>
                  </a:lnTo>
                  <a:lnTo>
                    <a:pt x="2255" y="1870"/>
                  </a:lnTo>
                  <a:lnTo>
                    <a:pt x="2239" y="1874"/>
                  </a:lnTo>
                  <a:lnTo>
                    <a:pt x="2226" y="1881"/>
                  </a:lnTo>
                  <a:lnTo>
                    <a:pt x="2211" y="1885"/>
                  </a:lnTo>
                  <a:lnTo>
                    <a:pt x="2198" y="1891"/>
                  </a:lnTo>
                  <a:lnTo>
                    <a:pt x="2182" y="1897"/>
                  </a:lnTo>
                  <a:lnTo>
                    <a:pt x="2169" y="1904"/>
                  </a:lnTo>
                  <a:lnTo>
                    <a:pt x="2154" y="1906"/>
                  </a:lnTo>
                  <a:lnTo>
                    <a:pt x="2139" y="1912"/>
                  </a:lnTo>
                  <a:lnTo>
                    <a:pt x="2124" y="1916"/>
                  </a:lnTo>
                  <a:lnTo>
                    <a:pt x="2110" y="1919"/>
                  </a:lnTo>
                  <a:lnTo>
                    <a:pt x="2093" y="1923"/>
                  </a:lnTo>
                  <a:lnTo>
                    <a:pt x="2080" y="1929"/>
                  </a:lnTo>
                  <a:lnTo>
                    <a:pt x="2065" y="1933"/>
                  </a:lnTo>
                  <a:lnTo>
                    <a:pt x="2051" y="1936"/>
                  </a:lnTo>
                  <a:lnTo>
                    <a:pt x="2036" y="1940"/>
                  </a:lnTo>
                  <a:lnTo>
                    <a:pt x="2021" y="1944"/>
                  </a:lnTo>
                  <a:lnTo>
                    <a:pt x="2006" y="1948"/>
                  </a:lnTo>
                  <a:lnTo>
                    <a:pt x="1990" y="1952"/>
                  </a:lnTo>
                  <a:lnTo>
                    <a:pt x="1977" y="1954"/>
                  </a:lnTo>
                  <a:lnTo>
                    <a:pt x="1962" y="1957"/>
                  </a:lnTo>
                  <a:lnTo>
                    <a:pt x="1949" y="1961"/>
                  </a:lnTo>
                  <a:lnTo>
                    <a:pt x="1933" y="1965"/>
                  </a:lnTo>
                  <a:lnTo>
                    <a:pt x="1920" y="1965"/>
                  </a:lnTo>
                  <a:lnTo>
                    <a:pt x="1905" y="1969"/>
                  </a:lnTo>
                  <a:lnTo>
                    <a:pt x="1892" y="1971"/>
                  </a:lnTo>
                  <a:lnTo>
                    <a:pt x="1876" y="1974"/>
                  </a:lnTo>
                  <a:lnTo>
                    <a:pt x="1863" y="1974"/>
                  </a:lnTo>
                  <a:lnTo>
                    <a:pt x="1848" y="1978"/>
                  </a:lnTo>
                  <a:lnTo>
                    <a:pt x="1833" y="1980"/>
                  </a:lnTo>
                  <a:lnTo>
                    <a:pt x="1821" y="1982"/>
                  </a:lnTo>
                  <a:lnTo>
                    <a:pt x="1806" y="1984"/>
                  </a:lnTo>
                  <a:lnTo>
                    <a:pt x="1793" y="1986"/>
                  </a:lnTo>
                  <a:lnTo>
                    <a:pt x="1777" y="1988"/>
                  </a:lnTo>
                  <a:lnTo>
                    <a:pt x="1764" y="1990"/>
                  </a:lnTo>
                  <a:lnTo>
                    <a:pt x="1749" y="1990"/>
                  </a:lnTo>
                  <a:lnTo>
                    <a:pt x="1738" y="1992"/>
                  </a:lnTo>
                  <a:lnTo>
                    <a:pt x="1724" y="1992"/>
                  </a:lnTo>
                  <a:lnTo>
                    <a:pt x="1711" y="1993"/>
                  </a:lnTo>
                  <a:lnTo>
                    <a:pt x="1696" y="1993"/>
                  </a:lnTo>
                  <a:lnTo>
                    <a:pt x="1682" y="1993"/>
                  </a:lnTo>
                  <a:lnTo>
                    <a:pt x="1669" y="1993"/>
                  </a:lnTo>
                  <a:lnTo>
                    <a:pt x="1656" y="1995"/>
                  </a:lnTo>
                  <a:lnTo>
                    <a:pt x="1643" y="1995"/>
                  </a:lnTo>
                  <a:lnTo>
                    <a:pt x="1631" y="1995"/>
                  </a:lnTo>
                  <a:lnTo>
                    <a:pt x="1618" y="1995"/>
                  </a:lnTo>
                  <a:lnTo>
                    <a:pt x="1604" y="1997"/>
                  </a:lnTo>
                  <a:lnTo>
                    <a:pt x="1593" y="1995"/>
                  </a:lnTo>
                  <a:lnTo>
                    <a:pt x="1580" y="1995"/>
                  </a:lnTo>
                  <a:lnTo>
                    <a:pt x="1566" y="1995"/>
                  </a:lnTo>
                  <a:lnTo>
                    <a:pt x="1555" y="1995"/>
                  </a:lnTo>
                  <a:lnTo>
                    <a:pt x="1544" y="1993"/>
                  </a:lnTo>
                  <a:lnTo>
                    <a:pt x="1532" y="1993"/>
                  </a:lnTo>
                  <a:lnTo>
                    <a:pt x="1519" y="1993"/>
                  </a:lnTo>
                  <a:lnTo>
                    <a:pt x="1509" y="1993"/>
                  </a:lnTo>
                  <a:lnTo>
                    <a:pt x="1496" y="1992"/>
                  </a:lnTo>
                  <a:lnTo>
                    <a:pt x="1485" y="1990"/>
                  </a:lnTo>
                  <a:lnTo>
                    <a:pt x="1473" y="1988"/>
                  </a:lnTo>
                  <a:lnTo>
                    <a:pt x="1462" y="1988"/>
                  </a:lnTo>
                  <a:lnTo>
                    <a:pt x="1450" y="1984"/>
                  </a:lnTo>
                  <a:lnTo>
                    <a:pt x="1441" y="1984"/>
                  </a:lnTo>
                  <a:lnTo>
                    <a:pt x="1430" y="1980"/>
                  </a:lnTo>
                  <a:lnTo>
                    <a:pt x="1420" y="1980"/>
                  </a:lnTo>
                  <a:lnTo>
                    <a:pt x="1409" y="1978"/>
                  </a:lnTo>
                  <a:lnTo>
                    <a:pt x="1399" y="1974"/>
                  </a:lnTo>
                  <a:lnTo>
                    <a:pt x="1390" y="1973"/>
                  </a:lnTo>
                  <a:lnTo>
                    <a:pt x="1380" y="1971"/>
                  </a:lnTo>
                  <a:lnTo>
                    <a:pt x="1371" y="1969"/>
                  </a:lnTo>
                  <a:lnTo>
                    <a:pt x="1361" y="1965"/>
                  </a:lnTo>
                  <a:lnTo>
                    <a:pt x="1352" y="1963"/>
                  </a:lnTo>
                  <a:lnTo>
                    <a:pt x="1344" y="1961"/>
                  </a:lnTo>
                  <a:lnTo>
                    <a:pt x="1333" y="1957"/>
                  </a:lnTo>
                  <a:lnTo>
                    <a:pt x="1325" y="1954"/>
                  </a:lnTo>
                  <a:lnTo>
                    <a:pt x="1315" y="1950"/>
                  </a:lnTo>
                  <a:lnTo>
                    <a:pt x="1308" y="1946"/>
                  </a:lnTo>
                  <a:lnTo>
                    <a:pt x="1300" y="1942"/>
                  </a:lnTo>
                  <a:lnTo>
                    <a:pt x="1291" y="1938"/>
                  </a:lnTo>
                  <a:lnTo>
                    <a:pt x="1283" y="1936"/>
                  </a:lnTo>
                  <a:lnTo>
                    <a:pt x="1277" y="1933"/>
                  </a:lnTo>
                  <a:lnTo>
                    <a:pt x="1268" y="1927"/>
                  </a:lnTo>
                  <a:lnTo>
                    <a:pt x="1260" y="1923"/>
                  </a:lnTo>
                  <a:lnTo>
                    <a:pt x="1255" y="1919"/>
                  </a:lnTo>
                  <a:lnTo>
                    <a:pt x="1247" y="1916"/>
                  </a:lnTo>
                  <a:lnTo>
                    <a:pt x="1239" y="1910"/>
                  </a:lnTo>
                  <a:lnTo>
                    <a:pt x="1232" y="1906"/>
                  </a:lnTo>
                  <a:lnTo>
                    <a:pt x="1226" y="1902"/>
                  </a:lnTo>
                  <a:lnTo>
                    <a:pt x="1220" y="1898"/>
                  </a:lnTo>
                  <a:lnTo>
                    <a:pt x="1207" y="1887"/>
                  </a:lnTo>
                  <a:lnTo>
                    <a:pt x="1196" y="1878"/>
                  </a:lnTo>
                  <a:lnTo>
                    <a:pt x="1184" y="1868"/>
                  </a:lnTo>
                  <a:lnTo>
                    <a:pt x="1175" y="1859"/>
                  </a:lnTo>
                  <a:lnTo>
                    <a:pt x="1165" y="1849"/>
                  </a:lnTo>
                  <a:lnTo>
                    <a:pt x="1154" y="1838"/>
                  </a:lnTo>
                  <a:lnTo>
                    <a:pt x="1144" y="1826"/>
                  </a:lnTo>
                  <a:lnTo>
                    <a:pt x="1139" y="1817"/>
                  </a:lnTo>
                  <a:lnTo>
                    <a:pt x="1129" y="1803"/>
                  </a:lnTo>
                  <a:lnTo>
                    <a:pt x="1122" y="1792"/>
                  </a:lnTo>
                  <a:lnTo>
                    <a:pt x="1114" y="1781"/>
                  </a:lnTo>
                  <a:lnTo>
                    <a:pt x="1106" y="1769"/>
                  </a:lnTo>
                  <a:lnTo>
                    <a:pt x="1101" y="1758"/>
                  </a:lnTo>
                  <a:lnTo>
                    <a:pt x="1093" y="1746"/>
                  </a:lnTo>
                  <a:lnTo>
                    <a:pt x="1087" y="1733"/>
                  </a:lnTo>
                  <a:lnTo>
                    <a:pt x="1084" y="1724"/>
                  </a:lnTo>
                  <a:lnTo>
                    <a:pt x="1078" y="1710"/>
                  </a:lnTo>
                  <a:lnTo>
                    <a:pt x="1072" y="1699"/>
                  </a:lnTo>
                  <a:lnTo>
                    <a:pt x="1068" y="1687"/>
                  </a:lnTo>
                  <a:lnTo>
                    <a:pt x="1065" y="1676"/>
                  </a:lnTo>
                  <a:lnTo>
                    <a:pt x="1059" y="1665"/>
                  </a:lnTo>
                  <a:lnTo>
                    <a:pt x="1055" y="1653"/>
                  </a:lnTo>
                  <a:lnTo>
                    <a:pt x="1051" y="1642"/>
                  </a:lnTo>
                  <a:lnTo>
                    <a:pt x="1049" y="1632"/>
                  </a:lnTo>
                  <a:lnTo>
                    <a:pt x="1044" y="1619"/>
                  </a:lnTo>
                  <a:lnTo>
                    <a:pt x="1040" y="1610"/>
                  </a:lnTo>
                  <a:lnTo>
                    <a:pt x="1034" y="1598"/>
                  </a:lnTo>
                  <a:lnTo>
                    <a:pt x="1030" y="1589"/>
                  </a:lnTo>
                  <a:lnTo>
                    <a:pt x="1025" y="1577"/>
                  </a:lnTo>
                  <a:lnTo>
                    <a:pt x="1021" y="1570"/>
                  </a:lnTo>
                  <a:lnTo>
                    <a:pt x="1013" y="1560"/>
                  </a:lnTo>
                  <a:lnTo>
                    <a:pt x="1009" y="1553"/>
                  </a:lnTo>
                  <a:lnTo>
                    <a:pt x="1002" y="1545"/>
                  </a:lnTo>
                  <a:lnTo>
                    <a:pt x="994" y="1535"/>
                  </a:lnTo>
                  <a:lnTo>
                    <a:pt x="988" y="1530"/>
                  </a:lnTo>
                  <a:lnTo>
                    <a:pt x="981" y="1524"/>
                  </a:lnTo>
                  <a:lnTo>
                    <a:pt x="973" y="1516"/>
                  </a:lnTo>
                  <a:lnTo>
                    <a:pt x="966" y="1511"/>
                  </a:lnTo>
                  <a:lnTo>
                    <a:pt x="958" y="1503"/>
                  </a:lnTo>
                  <a:lnTo>
                    <a:pt x="952" y="1501"/>
                  </a:lnTo>
                  <a:lnTo>
                    <a:pt x="943" y="1494"/>
                  </a:lnTo>
                  <a:lnTo>
                    <a:pt x="933" y="1490"/>
                  </a:lnTo>
                  <a:lnTo>
                    <a:pt x="924" y="1488"/>
                  </a:lnTo>
                  <a:lnTo>
                    <a:pt x="914" y="1484"/>
                  </a:lnTo>
                  <a:lnTo>
                    <a:pt x="905" y="1480"/>
                  </a:lnTo>
                  <a:lnTo>
                    <a:pt x="895" y="1478"/>
                  </a:lnTo>
                  <a:lnTo>
                    <a:pt x="886" y="1478"/>
                  </a:lnTo>
                  <a:lnTo>
                    <a:pt x="876" y="1478"/>
                  </a:lnTo>
                  <a:lnTo>
                    <a:pt x="863" y="1476"/>
                  </a:lnTo>
                  <a:lnTo>
                    <a:pt x="852" y="1476"/>
                  </a:lnTo>
                  <a:lnTo>
                    <a:pt x="840" y="1476"/>
                  </a:lnTo>
                  <a:lnTo>
                    <a:pt x="827" y="1480"/>
                  </a:lnTo>
                  <a:lnTo>
                    <a:pt x="814" y="1480"/>
                  </a:lnTo>
                  <a:lnTo>
                    <a:pt x="802" y="1484"/>
                  </a:lnTo>
                  <a:lnTo>
                    <a:pt x="789" y="1488"/>
                  </a:lnTo>
                  <a:lnTo>
                    <a:pt x="777" y="1494"/>
                  </a:lnTo>
                  <a:lnTo>
                    <a:pt x="770" y="1495"/>
                  </a:lnTo>
                  <a:lnTo>
                    <a:pt x="762" y="1497"/>
                  </a:lnTo>
                  <a:lnTo>
                    <a:pt x="755" y="1501"/>
                  </a:lnTo>
                  <a:lnTo>
                    <a:pt x="747" y="1503"/>
                  </a:lnTo>
                  <a:lnTo>
                    <a:pt x="739" y="1507"/>
                  </a:lnTo>
                  <a:lnTo>
                    <a:pt x="730" y="1509"/>
                  </a:lnTo>
                  <a:lnTo>
                    <a:pt x="722" y="1513"/>
                  </a:lnTo>
                  <a:lnTo>
                    <a:pt x="715" y="1516"/>
                  </a:lnTo>
                  <a:lnTo>
                    <a:pt x="705" y="1518"/>
                  </a:lnTo>
                  <a:lnTo>
                    <a:pt x="698" y="1522"/>
                  </a:lnTo>
                  <a:lnTo>
                    <a:pt x="688" y="1524"/>
                  </a:lnTo>
                  <a:lnTo>
                    <a:pt x="681" y="1528"/>
                  </a:lnTo>
                  <a:lnTo>
                    <a:pt x="671" y="1532"/>
                  </a:lnTo>
                  <a:lnTo>
                    <a:pt x="663" y="1535"/>
                  </a:lnTo>
                  <a:lnTo>
                    <a:pt x="654" y="1539"/>
                  </a:lnTo>
                  <a:lnTo>
                    <a:pt x="646" y="1543"/>
                  </a:lnTo>
                  <a:lnTo>
                    <a:pt x="635" y="1545"/>
                  </a:lnTo>
                  <a:lnTo>
                    <a:pt x="627" y="1549"/>
                  </a:lnTo>
                  <a:lnTo>
                    <a:pt x="616" y="1551"/>
                  </a:lnTo>
                  <a:lnTo>
                    <a:pt x="608" y="1554"/>
                  </a:lnTo>
                  <a:lnTo>
                    <a:pt x="597" y="1556"/>
                  </a:lnTo>
                  <a:lnTo>
                    <a:pt x="587" y="1560"/>
                  </a:lnTo>
                  <a:lnTo>
                    <a:pt x="578" y="1562"/>
                  </a:lnTo>
                  <a:lnTo>
                    <a:pt x="568" y="1566"/>
                  </a:lnTo>
                  <a:lnTo>
                    <a:pt x="557" y="1568"/>
                  </a:lnTo>
                  <a:lnTo>
                    <a:pt x="547" y="1572"/>
                  </a:lnTo>
                  <a:lnTo>
                    <a:pt x="538" y="1573"/>
                  </a:lnTo>
                  <a:lnTo>
                    <a:pt x="528" y="1575"/>
                  </a:lnTo>
                  <a:lnTo>
                    <a:pt x="517" y="1577"/>
                  </a:lnTo>
                  <a:lnTo>
                    <a:pt x="507" y="1581"/>
                  </a:lnTo>
                  <a:lnTo>
                    <a:pt x="498" y="1583"/>
                  </a:lnTo>
                  <a:lnTo>
                    <a:pt x="488" y="1587"/>
                  </a:lnTo>
                  <a:lnTo>
                    <a:pt x="477" y="1587"/>
                  </a:lnTo>
                  <a:lnTo>
                    <a:pt x="468" y="1589"/>
                  </a:lnTo>
                  <a:lnTo>
                    <a:pt x="456" y="1591"/>
                  </a:lnTo>
                  <a:lnTo>
                    <a:pt x="447" y="1592"/>
                  </a:lnTo>
                  <a:lnTo>
                    <a:pt x="435" y="1592"/>
                  </a:lnTo>
                  <a:lnTo>
                    <a:pt x="426" y="1594"/>
                  </a:lnTo>
                  <a:lnTo>
                    <a:pt x="414" y="1594"/>
                  </a:lnTo>
                  <a:lnTo>
                    <a:pt x="405" y="1596"/>
                  </a:lnTo>
                  <a:lnTo>
                    <a:pt x="393" y="1596"/>
                  </a:lnTo>
                  <a:lnTo>
                    <a:pt x="384" y="1596"/>
                  </a:lnTo>
                  <a:lnTo>
                    <a:pt x="373" y="1596"/>
                  </a:lnTo>
                  <a:lnTo>
                    <a:pt x="363" y="1596"/>
                  </a:lnTo>
                  <a:lnTo>
                    <a:pt x="352" y="1594"/>
                  </a:lnTo>
                  <a:lnTo>
                    <a:pt x="342" y="1594"/>
                  </a:lnTo>
                  <a:lnTo>
                    <a:pt x="333" y="1592"/>
                  </a:lnTo>
                  <a:lnTo>
                    <a:pt x="323" y="1592"/>
                  </a:lnTo>
                  <a:lnTo>
                    <a:pt x="312" y="1591"/>
                  </a:lnTo>
                  <a:lnTo>
                    <a:pt x="302" y="1587"/>
                  </a:lnTo>
                  <a:lnTo>
                    <a:pt x="293" y="1585"/>
                  </a:lnTo>
                  <a:lnTo>
                    <a:pt x="283" y="1585"/>
                  </a:lnTo>
                  <a:lnTo>
                    <a:pt x="272" y="1581"/>
                  </a:lnTo>
                  <a:lnTo>
                    <a:pt x="262" y="1577"/>
                  </a:lnTo>
                  <a:lnTo>
                    <a:pt x="253" y="1573"/>
                  </a:lnTo>
                  <a:lnTo>
                    <a:pt x="245" y="1572"/>
                  </a:lnTo>
                  <a:lnTo>
                    <a:pt x="234" y="1568"/>
                  </a:lnTo>
                  <a:lnTo>
                    <a:pt x="226" y="1564"/>
                  </a:lnTo>
                  <a:lnTo>
                    <a:pt x="217" y="1558"/>
                  </a:lnTo>
                  <a:lnTo>
                    <a:pt x="207" y="1554"/>
                  </a:lnTo>
                  <a:lnTo>
                    <a:pt x="198" y="1549"/>
                  </a:lnTo>
                  <a:lnTo>
                    <a:pt x="190" y="1543"/>
                  </a:lnTo>
                  <a:lnTo>
                    <a:pt x="180" y="1537"/>
                  </a:lnTo>
                  <a:lnTo>
                    <a:pt x="173" y="1532"/>
                  </a:lnTo>
                  <a:lnTo>
                    <a:pt x="163" y="1524"/>
                  </a:lnTo>
                  <a:lnTo>
                    <a:pt x="154" y="1516"/>
                  </a:lnTo>
                  <a:lnTo>
                    <a:pt x="148" y="1511"/>
                  </a:lnTo>
                  <a:lnTo>
                    <a:pt x="141" y="1503"/>
                  </a:lnTo>
                  <a:lnTo>
                    <a:pt x="133" y="1497"/>
                  </a:lnTo>
                  <a:lnTo>
                    <a:pt x="125" y="1490"/>
                  </a:lnTo>
                  <a:lnTo>
                    <a:pt x="118" y="1482"/>
                  </a:lnTo>
                  <a:lnTo>
                    <a:pt x="112" y="1476"/>
                  </a:lnTo>
                  <a:lnTo>
                    <a:pt x="104" y="1469"/>
                  </a:lnTo>
                  <a:lnTo>
                    <a:pt x="99" y="1461"/>
                  </a:lnTo>
                  <a:lnTo>
                    <a:pt x="93" y="1456"/>
                  </a:lnTo>
                  <a:lnTo>
                    <a:pt x="87" y="1448"/>
                  </a:lnTo>
                  <a:lnTo>
                    <a:pt x="80" y="1442"/>
                  </a:lnTo>
                  <a:lnTo>
                    <a:pt x="76" y="1437"/>
                  </a:lnTo>
                  <a:lnTo>
                    <a:pt x="70" y="1429"/>
                  </a:lnTo>
                  <a:lnTo>
                    <a:pt x="68" y="1423"/>
                  </a:lnTo>
                  <a:lnTo>
                    <a:pt x="61" y="1414"/>
                  </a:lnTo>
                  <a:lnTo>
                    <a:pt x="57" y="1406"/>
                  </a:lnTo>
                  <a:lnTo>
                    <a:pt x="51" y="1400"/>
                  </a:lnTo>
                  <a:lnTo>
                    <a:pt x="49" y="1393"/>
                  </a:lnTo>
                  <a:lnTo>
                    <a:pt x="46" y="1385"/>
                  </a:lnTo>
                  <a:lnTo>
                    <a:pt x="42" y="1378"/>
                  </a:lnTo>
                  <a:lnTo>
                    <a:pt x="38" y="1372"/>
                  </a:lnTo>
                  <a:lnTo>
                    <a:pt x="34" y="1364"/>
                  </a:lnTo>
                  <a:lnTo>
                    <a:pt x="30" y="1355"/>
                  </a:lnTo>
                  <a:lnTo>
                    <a:pt x="26" y="1349"/>
                  </a:lnTo>
                  <a:lnTo>
                    <a:pt x="25" y="1342"/>
                  </a:lnTo>
                  <a:lnTo>
                    <a:pt x="23" y="1334"/>
                  </a:lnTo>
                  <a:lnTo>
                    <a:pt x="19" y="1326"/>
                  </a:lnTo>
                  <a:lnTo>
                    <a:pt x="17" y="1319"/>
                  </a:lnTo>
                  <a:lnTo>
                    <a:pt x="15" y="1309"/>
                  </a:lnTo>
                  <a:lnTo>
                    <a:pt x="13" y="1304"/>
                  </a:lnTo>
                  <a:lnTo>
                    <a:pt x="9" y="1294"/>
                  </a:lnTo>
                  <a:lnTo>
                    <a:pt x="9" y="1286"/>
                  </a:lnTo>
                  <a:lnTo>
                    <a:pt x="7" y="1277"/>
                  </a:lnTo>
                  <a:lnTo>
                    <a:pt x="6" y="1269"/>
                  </a:lnTo>
                  <a:lnTo>
                    <a:pt x="4" y="1260"/>
                  </a:lnTo>
                  <a:lnTo>
                    <a:pt x="4" y="1252"/>
                  </a:lnTo>
                  <a:lnTo>
                    <a:pt x="2" y="1243"/>
                  </a:lnTo>
                  <a:lnTo>
                    <a:pt x="2" y="1235"/>
                  </a:lnTo>
                  <a:lnTo>
                    <a:pt x="0" y="1226"/>
                  </a:lnTo>
                  <a:lnTo>
                    <a:pt x="0" y="1216"/>
                  </a:lnTo>
                  <a:lnTo>
                    <a:pt x="0" y="1207"/>
                  </a:lnTo>
                  <a:lnTo>
                    <a:pt x="0" y="1197"/>
                  </a:lnTo>
                  <a:lnTo>
                    <a:pt x="0" y="1188"/>
                  </a:lnTo>
                  <a:lnTo>
                    <a:pt x="0" y="1178"/>
                  </a:lnTo>
                  <a:lnTo>
                    <a:pt x="0" y="1169"/>
                  </a:lnTo>
                  <a:lnTo>
                    <a:pt x="2" y="1159"/>
                  </a:lnTo>
                  <a:lnTo>
                    <a:pt x="2" y="1150"/>
                  </a:lnTo>
                  <a:lnTo>
                    <a:pt x="2" y="1138"/>
                  </a:lnTo>
                  <a:lnTo>
                    <a:pt x="2" y="1127"/>
                  </a:lnTo>
                  <a:lnTo>
                    <a:pt x="4" y="1117"/>
                  </a:lnTo>
                  <a:lnTo>
                    <a:pt x="4" y="1106"/>
                  </a:lnTo>
                  <a:lnTo>
                    <a:pt x="4" y="1096"/>
                  </a:lnTo>
                  <a:lnTo>
                    <a:pt x="6" y="1085"/>
                  </a:lnTo>
                  <a:lnTo>
                    <a:pt x="7" y="1075"/>
                  </a:lnTo>
                  <a:lnTo>
                    <a:pt x="7" y="1064"/>
                  </a:lnTo>
                  <a:lnTo>
                    <a:pt x="9" y="1053"/>
                  </a:lnTo>
                  <a:lnTo>
                    <a:pt x="9" y="1039"/>
                  </a:lnTo>
                  <a:lnTo>
                    <a:pt x="13" y="1030"/>
                  </a:lnTo>
                  <a:lnTo>
                    <a:pt x="13" y="1016"/>
                  </a:lnTo>
                  <a:lnTo>
                    <a:pt x="17" y="1005"/>
                  </a:lnTo>
                  <a:lnTo>
                    <a:pt x="17" y="994"/>
                  </a:lnTo>
                  <a:lnTo>
                    <a:pt x="21" y="982"/>
                  </a:lnTo>
                  <a:lnTo>
                    <a:pt x="23" y="969"/>
                  </a:lnTo>
                  <a:lnTo>
                    <a:pt x="25" y="958"/>
                  </a:lnTo>
                  <a:lnTo>
                    <a:pt x="26" y="944"/>
                  </a:lnTo>
                  <a:lnTo>
                    <a:pt x="28" y="933"/>
                  </a:lnTo>
                  <a:lnTo>
                    <a:pt x="30" y="920"/>
                  </a:lnTo>
                  <a:lnTo>
                    <a:pt x="32" y="908"/>
                  </a:lnTo>
                  <a:lnTo>
                    <a:pt x="36" y="897"/>
                  </a:lnTo>
                  <a:lnTo>
                    <a:pt x="40" y="885"/>
                  </a:lnTo>
                  <a:lnTo>
                    <a:pt x="42" y="874"/>
                  </a:lnTo>
                  <a:lnTo>
                    <a:pt x="46" y="861"/>
                  </a:lnTo>
                  <a:lnTo>
                    <a:pt x="49" y="851"/>
                  </a:lnTo>
                  <a:lnTo>
                    <a:pt x="53" y="840"/>
                  </a:lnTo>
                  <a:lnTo>
                    <a:pt x="57" y="828"/>
                  </a:lnTo>
                  <a:lnTo>
                    <a:pt x="61" y="819"/>
                  </a:lnTo>
                  <a:lnTo>
                    <a:pt x="65" y="807"/>
                  </a:lnTo>
                  <a:lnTo>
                    <a:pt x="70" y="798"/>
                  </a:lnTo>
                  <a:lnTo>
                    <a:pt x="74" y="787"/>
                  </a:lnTo>
                  <a:lnTo>
                    <a:pt x="78" y="775"/>
                  </a:lnTo>
                  <a:lnTo>
                    <a:pt x="84" y="766"/>
                  </a:lnTo>
                  <a:lnTo>
                    <a:pt x="87" y="754"/>
                  </a:lnTo>
                  <a:lnTo>
                    <a:pt x="93" y="743"/>
                  </a:lnTo>
                  <a:lnTo>
                    <a:pt x="99" y="733"/>
                  </a:lnTo>
                  <a:lnTo>
                    <a:pt x="103" y="722"/>
                  </a:lnTo>
                  <a:lnTo>
                    <a:pt x="110" y="712"/>
                  </a:lnTo>
                  <a:lnTo>
                    <a:pt x="114" y="703"/>
                  </a:lnTo>
                  <a:lnTo>
                    <a:pt x="120" y="693"/>
                  </a:lnTo>
                  <a:lnTo>
                    <a:pt x="125" y="684"/>
                  </a:lnTo>
                  <a:lnTo>
                    <a:pt x="133" y="674"/>
                  </a:lnTo>
                  <a:lnTo>
                    <a:pt x="139" y="665"/>
                  </a:lnTo>
                  <a:lnTo>
                    <a:pt x="146" y="655"/>
                  </a:lnTo>
                  <a:lnTo>
                    <a:pt x="154" y="646"/>
                  </a:lnTo>
                  <a:lnTo>
                    <a:pt x="161" y="636"/>
                  </a:lnTo>
                  <a:lnTo>
                    <a:pt x="167" y="627"/>
                  </a:lnTo>
                  <a:lnTo>
                    <a:pt x="175" y="617"/>
                  </a:lnTo>
                  <a:lnTo>
                    <a:pt x="180" y="606"/>
                  </a:lnTo>
                  <a:lnTo>
                    <a:pt x="188" y="598"/>
                  </a:lnTo>
                  <a:lnTo>
                    <a:pt x="196" y="589"/>
                  </a:lnTo>
                  <a:lnTo>
                    <a:pt x="203" y="581"/>
                  </a:lnTo>
                  <a:lnTo>
                    <a:pt x="213" y="572"/>
                  </a:lnTo>
                  <a:lnTo>
                    <a:pt x="220" y="562"/>
                  </a:lnTo>
                  <a:lnTo>
                    <a:pt x="228" y="553"/>
                  </a:lnTo>
                  <a:lnTo>
                    <a:pt x="236" y="545"/>
                  </a:lnTo>
                  <a:lnTo>
                    <a:pt x="245" y="536"/>
                  </a:lnTo>
                  <a:lnTo>
                    <a:pt x="253" y="526"/>
                  </a:lnTo>
                  <a:lnTo>
                    <a:pt x="260" y="517"/>
                  </a:lnTo>
                  <a:lnTo>
                    <a:pt x="270" y="511"/>
                  </a:lnTo>
                  <a:lnTo>
                    <a:pt x="279" y="499"/>
                  </a:lnTo>
                  <a:lnTo>
                    <a:pt x="291" y="494"/>
                  </a:lnTo>
                  <a:lnTo>
                    <a:pt x="298" y="484"/>
                  </a:lnTo>
                  <a:lnTo>
                    <a:pt x="308" y="475"/>
                  </a:lnTo>
                  <a:lnTo>
                    <a:pt x="317" y="467"/>
                  </a:lnTo>
                  <a:lnTo>
                    <a:pt x="329" y="458"/>
                  </a:lnTo>
                  <a:lnTo>
                    <a:pt x="338" y="448"/>
                  </a:lnTo>
                  <a:lnTo>
                    <a:pt x="348" y="442"/>
                  </a:lnTo>
                  <a:lnTo>
                    <a:pt x="357" y="433"/>
                  </a:lnTo>
                  <a:lnTo>
                    <a:pt x="369" y="425"/>
                  </a:lnTo>
                  <a:lnTo>
                    <a:pt x="380" y="416"/>
                  </a:lnTo>
                  <a:lnTo>
                    <a:pt x="390" y="408"/>
                  </a:lnTo>
                  <a:lnTo>
                    <a:pt x="401" y="399"/>
                  </a:lnTo>
                  <a:lnTo>
                    <a:pt x="412" y="391"/>
                  </a:lnTo>
                  <a:lnTo>
                    <a:pt x="422" y="384"/>
                  </a:lnTo>
                  <a:lnTo>
                    <a:pt x="435" y="374"/>
                  </a:lnTo>
                  <a:lnTo>
                    <a:pt x="447" y="366"/>
                  </a:lnTo>
                  <a:lnTo>
                    <a:pt x="460" y="359"/>
                  </a:lnTo>
                  <a:lnTo>
                    <a:pt x="469" y="349"/>
                  </a:lnTo>
                  <a:lnTo>
                    <a:pt x="483" y="342"/>
                  </a:lnTo>
                  <a:lnTo>
                    <a:pt x="492" y="332"/>
                  </a:lnTo>
                  <a:lnTo>
                    <a:pt x="506" y="327"/>
                  </a:lnTo>
                  <a:lnTo>
                    <a:pt x="515" y="319"/>
                  </a:lnTo>
                  <a:lnTo>
                    <a:pt x="527" y="311"/>
                  </a:lnTo>
                  <a:lnTo>
                    <a:pt x="538" y="304"/>
                  </a:lnTo>
                  <a:lnTo>
                    <a:pt x="549" y="298"/>
                  </a:lnTo>
                  <a:lnTo>
                    <a:pt x="559" y="290"/>
                  </a:lnTo>
                  <a:lnTo>
                    <a:pt x="570" y="283"/>
                  </a:lnTo>
                  <a:lnTo>
                    <a:pt x="580" y="277"/>
                  </a:lnTo>
                  <a:lnTo>
                    <a:pt x="591" y="271"/>
                  </a:lnTo>
                  <a:lnTo>
                    <a:pt x="603" y="266"/>
                  </a:lnTo>
                  <a:lnTo>
                    <a:pt x="612" y="260"/>
                  </a:lnTo>
                  <a:lnTo>
                    <a:pt x="623" y="254"/>
                  </a:lnTo>
                  <a:lnTo>
                    <a:pt x="635" y="249"/>
                  </a:lnTo>
                  <a:lnTo>
                    <a:pt x="644" y="243"/>
                  </a:lnTo>
                  <a:lnTo>
                    <a:pt x="654" y="237"/>
                  </a:lnTo>
                  <a:lnTo>
                    <a:pt x="663" y="231"/>
                  </a:lnTo>
                  <a:lnTo>
                    <a:pt x="675" y="226"/>
                  </a:lnTo>
                  <a:lnTo>
                    <a:pt x="684" y="222"/>
                  </a:lnTo>
                  <a:lnTo>
                    <a:pt x="696" y="216"/>
                  </a:lnTo>
                  <a:lnTo>
                    <a:pt x="705" y="212"/>
                  </a:lnTo>
                  <a:lnTo>
                    <a:pt x="715" y="209"/>
                  </a:lnTo>
                  <a:lnTo>
                    <a:pt x="724" y="203"/>
                  </a:lnTo>
                  <a:lnTo>
                    <a:pt x="734" y="199"/>
                  </a:lnTo>
                  <a:lnTo>
                    <a:pt x="745" y="195"/>
                  </a:lnTo>
                  <a:lnTo>
                    <a:pt x="757" y="192"/>
                  </a:lnTo>
                  <a:lnTo>
                    <a:pt x="766" y="188"/>
                  </a:lnTo>
                  <a:lnTo>
                    <a:pt x="776" y="184"/>
                  </a:lnTo>
                  <a:lnTo>
                    <a:pt x="785" y="182"/>
                  </a:lnTo>
                  <a:lnTo>
                    <a:pt x="796" y="178"/>
                  </a:lnTo>
                  <a:lnTo>
                    <a:pt x="806" y="173"/>
                  </a:lnTo>
                  <a:lnTo>
                    <a:pt x="815" y="169"/>
                  </a:lnTo>
                  <a:lnTo>
                    <a:pt x="825" y="165"/>
                  </a:lnTo>
                  <a:lnTo>
                    <a:pt x="836" y="161"/>
                  </a:lnTo>
                  <a:lnTo>
                    <a:pt x="846" y="159"/>
                  </a:lnTo>
                  <a:lnTo>
                    <a:pt x="855" y="155"/>
                  </a:lnTo>
                  <a:lnTo>
                    <a:pt x="865" y="152"/>
                  </a:lnTo>
                  <a:lnTo>
                    <a:pt x="876" y="148"/>
                  </a:lnTo>
                  <a:lnTo>
                    <a:pt x="886" y="146"/>
                  </a:lnTo>
                  <a:lnTo>
                    <a:pt x="895" y="142"/>
                  </a:lnTo>
                  <a:lnTo>
                    <a:pt x="905" y="138"/>
                  </a:lnTo>
                  <a:lnTo>
                    <a:pt x="916" y="136"/>
                  </a:lnTo>
                  <a:lnTo>
                    <a:pt x="926" y="133"/>
                  </a:lnTo>
                  <a:lnTo>
                    <a:pt x="937" y="129"/>
                  </a:lnTo>
                  <a:lnTo>
                    <a:pt x="949" y="127"/>
                  </a:lnTo>
                  <a:lnTo>
                    <a:pt x="958" y="125"/>
                  </a:lnTo>
                  <a:lnTo>
                    <a:pt x="969" y="121"/>
                  </a:lnTo>
                  <a:lnTo>
                    <a:pt x="979" y="117"/>
                  </a:lnTo>
                  <a:lnTo>
                    <a:pt x="990" y="116"/>
                  </a:lnTo>
                  <a:lnTo>
                    <a:pt x="1000" y="114"/>
                  </a:lnTo>
                  <a:lnTo>
                    <a:pt x="1011" y="110"/>
                  </a:lnTo>
                  <a:lnTo>
                    <a:pt x="1023" y="106"/>
                  </a:lnTo>
                  <a:lnTo>
                    <a:pt x="1032" y="104"/>
                  </a:lnTo>
                  <a:lnTo>
                    <a:pt x="1046" y="100"/>
                  </a:lnTo>
                  <a:lnTo>
                    <a:pt x="1055" y="97"/>
                  </a:lnTo>
                  <a:lnTo>
                    <a:pt x="1066" y="95"/>
                  </a:lnTo>
                  <a:lnTo>
                    <a:pt x="1078" y="91"/>
                  </a:lnTo>
                  <a:lnTo>
                    <a:pt x="1089" y="87"/>
                  </a:lnTo>
                  <a:lnTo>
                    <a:pt x="1101" y="85"/>
                  </a:lnTo>
                  <a:lnTo>
                    <a:pt x="1112" y="81"/>
                  </a:lnTo>
                  <a:lnTo>
                    <a:pt x="1123" y="78"/>
                  </a:lnTo>
                  <a:lnTo>
                    <a:pt x="1137" y="76"/>
                  </a:lnTo>
                  <a:lnTo>
                    <a:pt x="1137" y="76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 flipV="1" rot="20995800">
              <a:off x="4519080" y="3333960"/>
              <a:ext cx="409680" cy="284760"/>
            </a:xfrm>
            <a:custGeom>
              <a:avLst/>
              <a:gdLst/>
              <a:ahLst/>
              <a:rect l="l" t="t" r="r" b="b"/>
              <a:pathLst>
                <a:path w="626" h="495">
                  <a:moveTo>
                    <a:pt x="219" y="424"/>
                  </a:moveTo>
                  <a:lnTo>
                    <a:pt x="227" y="428"/>
                  </a:lnTo>
                  <a:lnTo>
                    <a:pt x="234" y="432"/>
                  </a:lnTo>
                  <a:lnTo>
                    <a:pt x="242" y="436"/>
                  </a:lnTo>
                  <a:lnTo>
                    <a:pt x="250" y="439"/>
                  </a:lnTo>
                  <a:lnTo>
                    <a:pt x="257" y="443"/>
                  </a:lnTo>
                  <a:lnTo>
                    <a:pt x="265" y="447"/>
                  </a:lnTo>
                  <a:lnTo>
                    <a:pt x="272" y="451"/>
                  </a:lnTo>
                  <a:lnTo>
                    <a:pt x="280" y="455"/>
                  </a:lnTo>
                  <a:lnTo>
                    <a:pt x="288" y="458"/>
                  </a:lnTo>
                  <a:lnTo>
                    <a:pt x="295" y="460"/>
                  </a:lnTo>
                  <a:lnTo>
                    <a:pt x="303" y="462"/>
                  </a:lnTo>
                  <a:lnTo>
                    <a:pt x="312" y="466"/>
                  </a:lnTo>
                  <a:lnTo>
                    <a:pt x="318" y="468"/>
                  </a:lnTo>
                  <a:lnTo>
                    <a:pt x="326" y="472"/>
                  </a:lnTo>
                  <a:lnTo>
                    <a:pt x="335" y="474"/>
                  </a:lnTo>
                  <a:lnTo>
                    <a:pt x="343" y="477"/>
                  </a:lnTo>
                  <a:lnTo>
                    <a:pt x="350" y="477"/>
                  </a:lnTo>
                  <a:lnTo>
                    <a:pt x="356" y="481"/>
                  </a:lnTo>
                  <a:lnTo>
                    <a:pt x="364" y="481"/>
                  </a:lnTo>
                  <a:lnTo>
                    <a:pt x="373" y="483"/>
                  </a:lnTo>
                  <a:lnTo>
                    <a:pt x="379" y="485"/>
                  </a:lnTo>
                  <a:lnTo>
                    <a:pt x="386" y="487"/>
                  </a:lnTo>
                  <a:lnTo>
                    <a:pt x="394" y="487"/>
                  </a:lnTo>
                  <a:lnTo>
                    <a:pt x="402" y="491"/>
                  </a:lnTo>
                  <a:lnTo>
                    <a:pt x="409" y="491"/>
                  </a:lnTo>
                  <a:lnTo>
                    <a:pt x="415" y="491"/>
                  </a:lnTo>
                  <a:lnTo>
                    <a:pt x="423" y="491"/>
                  </a:lnTo>
                  <a:lnTo>
                    <a:pt x="430" y="493"/>
                  </a:lnTo>
                  <a:lnTo>
                    <a:pt x="438" y="493"/>
                  </a:lnTo>
                  <a:lnTo>
                    <a:pt x="443" y="493"/>
                  </a:lnTo>
                  <a:lnTo>
                    <a:pt x="451" y="493"/>
                  </a:lnTo>
                  <a:lnTo>
                    <a:pt x="459" y="495"/>
                  </a:lnTo>
                  <a:lnTo>
                    <a:pt x="470" y="493"/>
                  </a:lnTo>
                  <a:lnTo>
                    <a:pt x="483" y="493"/>
                  </a:lnTo>
                  <a:lnTo>
                    <a:pt x="495" y="491"/>
                  </a:lnTo>
                  <a:lnTo>
                    <a:pt x="508" y="491"/>
                  </a:lnTo>
                  <a:lnTo>
                    <a:pt x="518" y="487"/>
                  </a:lnTo>
                  <a:lnTo>
                    <a:pt x="531" y="483"/>
                  </a:lnTo>
                  <a:lnTo>
                    <a:pt x="540" y="479"/>
                  </a:lnTo>
                  <a:lnTo>
                    <a:pt x="552" y="476"/>
                  </a:lnTo>
                  <a:lnTo>
                    <a:pt x="559" y="470"/>
                  </a:lnTo>
                  <a:lnTo>
                    <a:pt x="569" y="464"/>
                  </a:lnTo>
                  <a:lnTo>
                    <a:pt x="578" y="458"/>
                  </a:lnTo>
                  <a:lnTo>
                    <a:pt x="586" y="453"/>
                  </a:lnTo>
                  <a:lnTo>
                    <a:pt x="594" y="445"/>
                  </a:lnTo>
                  <a:lnTo>
                    <a:pt x="601" y="437"/>
                  </a:lnTo>
                  <a:lnTo>
                    <a:pt x="607" y="430"/>
                  </a:lnTo>
                  <a:lnTo>
                    <a:pt x="613" y="422"/>
                  </a:lnTo>
                  <a:lnTo>
                    <a:pt x="616" y="413"/>
                  </a:lnTo>
                  <a:lnTo>
                    <a:pt x="620" y="403"/>
                  </a:lnTo>
                  <a:lnTo>
                    <a:pt x="622" y="392"/>
                  </a:lnTo>
                  <a:lnTo>
                    <a:pt x="624" y="382"/>
                  </a:lnTo>
                  <a:lnTo>
                    <a:pt x="624" y="371"/>
                  </a:lnTo>
                  <a:lnTo>
                    <a:pt x="626" y="361"/>
                  </a:lnTo>
                  <a:lnTo>
                    <a:pt x="624" y="350"/>
                  </a:lnTo>
                  <a:lnTo>
                    <a:pt x="624" y="339"/>
                  </a:lnTo>
                  <a:lnTo>
                    <a:pt x="622" y="327"/>
                  </a:lnTo>
                  <a:lnTo>
                    <a:pt x="620" y="316"/>
                  </a:lnTo>
                  <a:lnTo>
                    <a:pt x="616" y="304"/>
                  </a:lnTo>
                  <a:lnTo>
                    <a:pt x="613" y="293"/>
                  </a:lnTo>
                  <a:lnTo>
                    <a:pt x="607" y="282"/>
                  </a:lnTo>
                  <a:lnTo>
                    <a:pt x="601" y="270"/>
                  </a:lnTo>
                  <a:lnTo>
                    <a:pt x="596" y="259"/>
                  </a:lnTo>
                  <a:lnTo>
                    <a:pt x="592" y="247"/>
                  </a:lnTo>
                  <a:lnTo>
                    <a:pt x="582" y="234"/>
                  </a:lnTo>
                  <a:lnTo>
                    <a:pt x="575" y="223"/>
                  </a:lnTo>
                  <a:lnTo>
                    <a:pt x="567" y="209"/>
                  </a:lnTo>
                  <a:lnTo>
                    <a:pt x="558" y="198"/>
                  </a:lnTo>
                  <a:lnTo>
                    <a:pt x="546" y="187"/>
                  </a:lnTo>
                  <a:lnTo>
                    <a:pt x="537" y="175"/>
                  </a:lnTo>
                  <a:lnTo>
                    <a:pt x="527" y="164"/>
                  </a:lnTo>
                  <a:lnTo>
                    <a:pt x="516" y="152"/>
                  </a:lnTo>
                  <a:lnTo>
                    <a:pt x="502" y="141"/>
                  </a:lnTo>
                  <a:lnTo>
                    <a:pt x="491" y="130"/>
                  </a:lnTo>
                  <a:lnTo>
                    <a:pt x="478" y="120"/>
                  </a:lnTo>
                  <a:lnTo>
                    <a:pt x="466" y="111"/>
                  </a:lnTo>
                  <a:lnTo>
                    <a:pt x="459" y="103"/>
                  </a:lnTo>
                  <a:lnTo>
                    <a:pt x="451" y="99"/>
                  </a:lnTo>
                  <a:lnTo>
                    <a:pt x="443" y="93"/>
                  </a:lnTo>
                  <a:lnTo>
                    <a:pt x="438" y="90"/>
                  </a:lnTo>
                  <a:lnTo>
                    <a:pt x="430" y="84"/>
                  </a:lnTo>
                  <a:lnTo>
                    <a:pt x="423" y="80"/>
                  </a:lnTo>
                  <a:lnTo>
                    <a:pt x="415" y="74"/>
                  </a:lnTo>
                  <a:lnTo>
                    <a:pt x="409" y="71"/>
                  </a:lnTo>
                  <a:lnTo>
                    <a:pt x="400" y="67"/>
                  </a:lnTo>
                  <a:lnTo>
                    <a:pt x="392" y="61"/>
                  </a:lnTo>
                  <a:lnTo>
                    <a:pt x="383" y="57"/>
                  </a:lnTo>
                  <a:lnTo>
                    <a:pt x="377" y="54"/>
                  </a:lnTo>
                  <a:lnTo>
                    <a:pt x="367" y="50"/>
                  </a:lnTo>
                  <a:lnTo>
                    <a:pt x="360" y="46"/>
                  </a:lnTo>
                  <a:lnTo>
                    <a:pt x="352" y="42"/>
                  </a:lnTo>
                  <a:lnTo>
                    <a:pt x="345" y="38"/>
                  </a:lnTo>
                  <a:lnTo>
                    <a:pt x="337" y="36"/>
                  </a:lnTo>
                  <a:lnTo>
                    <a:pt x="329" y="33"/>
                  </a:lnTo>
                  <a:lnTo>
                    <a:pt x="322" y="29"/>
                  </a:lnTo>
                  <a:lnTo>
                    <a:pt x="314" y="27"/>
                  </a:lnTo>
                  <a:lnTo>
                    <a:pt x="307" y="23"/>
                  </a:lnTo>
                  <a:lnTo>
                    <a:pt x="299" y="21"/>
                  </a:lnTo>
                  <a:lnTo>
                    <a:pt x="291" y="19"/>
                  </a:lnTo>
                  <a:lnTo>
                    <a:pt x="284" y="17"/>
                  </a:lnTo>
                  <a:lnTo>
                    <a:pt x="276" y="14"/>
                  </a:lnTo>
                  <a:lnTo>
                    <a:pt x="269" y="14"/>
                  </a:lnTo>
                  <a:lnTo>
                    <a:pt x="261" y="10"/>
                  </a:lnTo>
                  <a:lnTo>
                    <a:pt x="253" y="10"/>
                  </a:lnTo>
                  <a:lnTo>
                    <a:pt x="246" y="6"/>
                  </a:lnTo>
                  <a:lnTo>
                    <a:pt x="238" y="6"/>
                  </a:lnTo>
                  <a:lnTo>
                    <a:pt x="232" y="2"/>
                  </a:lnTo>
                  <a:lnTo>
                    <a:pt x="225" y="2"/>
                  </a:lnTo>
                  <a:lnTo>
                    <a:pt x="217" y="2"/>
                  </a:lnTo>
                  <a:lnTo>
                    <a:pt x="210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28" y="0"/>
                  </a:lnTo>
                  <a:lnTo>
                    <a:pt x="118" y="2"/>
                  </a:lnTo>
                  <a:lnTo>
                    <a:pt x="107" y="6"/>
                  </a:lnTo>
                  <a:lnTo>
                    <a:pt x="96" y="10"/>
                  </a:lnTo>
                  <a:lnTo>
                    <a:pt x="84" y="14"/>
                  </a:lnTo>
                  <a:lnTo>
                    <a:pt x="75" y="17"/>
                  </a:lnTo>
                  <a:lnTo>
                    <a:pt x="65" y="21"/>
                  </a:lnTo>
                  <a:lnTo>
                    <a:pt x="56" y="27"/>
                  </a:lnTo>
                  <a:lnTo>
                    <a:pt x="46" y="33"/>
                  </a:lnTo>
                  <a:lnTo>
                    <a:pt x="39" y="40"/>
                  </a:lnTo>
                  <a:lnTo>
                    <a:pt x="33" y="48"/>
                  </a:lnTo>
                  <a:lnTo>
                    <a:pt x="25" y="55"/>
                  </a:lnTo>
                  <a:lnTo>
                    <a:pt x="20" y="63"/>
                  </a:lnTo>
                  <a:lnTo>
                    <a:pt x="16" y="74"/>
                  </a:lnTo>
                  <a:lnTo>
                    <a:pt x="10" y="80"/>
                  </a:lnTo>
                  <a:lnTo>
                    <a:pt x="6" y="90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2" y="154"/>
                  </a:lnTo>
                  <a:lnTo>
                    <a:pt x="2" y="164"/>
                  </a:lnTo>
                  <a:lnTo>
                    <a:pt x="6" y="175"/>
                  </a:lnTo>
                  <a:lnTo>
                    <a:pt x="8" y="187"/>
                  </a:lnTo>
                  <a:lnTo>
                    <a:pt x="12" y="200"/>
                  </a:lnTo>
                  <a:lnTo>
                    <a:pt x="16" y="209"/>
                  </a:lnTo>
                  <a:lnTo>
                    <a:pt x="23" y="223"/>
                  </a:lnTo>
                  <a:lnTo>
                    <a:pt x="29" y="234"/>
                  </a:lnTo>
                  <a:lnTo>
                    <a:pt x="37" y="247"/>
                  </a:lnTo>
                  <a:lnTo>
                    <a:pt x="42" y="259"/>
                  </a:lnTo>
                  <a:lnTo>
                    <a:pt x="50" y="270"/>
                  </a:lnTo>
                  <a:lnTo>
                    <a:pt x="58" y="282"/>
                  </a:lnTo>
                  <a:lnTo>
                    <a:pt x="67" y="293"/>
                  </a:lnTo>
                  <a:lnTo>
                    <a:pt x="77" y="304"/>
                  </a:lnTo>
                  <a:lnTo>
                    <a:pt x="88" y="316"/>
                  </a:lnTo>
                  <a:lnTo>
                    <a:pt x="99" y="329"/>
                  </a:lnTo>
                  <a:lnTo>
                    <a:pt x="111" y="341"/>
                  </a:lnTo>
                  <a:lnTo>
                    <a:pt x="122" y="352"/>
                  </a:lnTo>
                  <a:lnTo>
                    <a:pt x="135" y="361"/>
                  </a:lnTo>
                  <a:lnTo>
                    <a:pt x="141" y="367"/>
                  </a:lnTo>
                  <a:lnTo>
                    <a:pt x="147" y="373"/>
                  </a:lnTo>
                  <a:lnTo>
                    <a:pt x="154" y="377"/>
                  </a:lnTo>
                  <a:lnTo>
                    <a:pt x="160" y="384"/>
                  </a:lnTo>
                  <a:lnTo>
                    <a:pt x="168" y="388"/>
                  </a:lnTo>
                  <a:lnTo>
                    <a:pt x="173" y="394"/>
                  </a:lnTo>
                  <a:lnTo>
                    <a:pt x="181" y="398"/>
                  </a:lnTo>
                  <a:lnTo>
                    <a:pt x="189" y="403"/>
                  </a:lnTo>
                  <a:lnTo>
                    <a:pt x="196" y="409"/>
                  </a:lnTo>
                  <a:lnTo>
                    <a:pt x="202" y="413"/>
                  </a:lnTo>
                  <a:lnTo>
                    <a:pt x="212" y="418"/>
                  </a:lnTo>
                  <a:lnTo>
                    <a:pt x="219" y="424"/>
                  </a:lnTo>
                  <a:lnTo>
                    <a:pt x="219" y="424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 flipV="1" rot="20995800">
              <a:off x="5101920" y="3753360"/>
              <a:ext cx="424080" cy="334800"/>
            </a:xfrm>
            <a:custGeom>
              <a:avLst/>
              <a:gdLst/>
              <a:ahLst/>
              <a:rect l="l" t="t" r="r" b="b"/>
              <a:pathLst>
                <a:path w="646" h="579">
                  <a:moveTo>
                    <a:pt x="450" y="7"/>
                  </a:moveTo>
                  <a:lnTo>
                    <a:pt x="447" y="5"/>
                  </a:lnTo>
                  <a:lnTo>
                    <a:pt x="445" y="5"/>
                  </a:lnTo>
                  <a:lnTo>
                    <a:pt x="441" y="5"/>
                  </a:lnTo>
                  <a:lnTo>
                    <a:pt x="435" y="3"/>
                  </a:lnTo>
                  <a:lnTo>
                    <a:pt x="426" y="3"/>
                  </a:lnTo>
                  <a:lnTo>
                    <a:pt x="418" y="1"/>
                  </a:lnTo>
                  <a:lnTo>
                    <a:pt x="407" y="1"/>
                  </a:lnTo>
                  <a:lnTo>
                    <a:pt x="397" y="1"/>
                  </a:lnTo>
                  <a:lnTo>
                    <a:pt x="386" y="0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52" y="1"/>
                  </a:lnTo>
                  <a:lnTo>
                    <a:pt x="342" y="1"/>
                  </a:lnTo>
                  <a:lnTo>
                    <a:pt x="331" y="3"/>
                  </a:lnTo>
                  <a:lnTo>
                    <a:pt x="321" y="7"/>
                  </a:lnTo>
                  <a:lnTo>
                    <a:pt x="315" y="11"/>
                  </a:lnTo>
                  <a:lnTo>
                    <a:pt x="306" y="15"/>
                  </a:lnTo>
                  <a:lnTo>
                    <a:pt x="298" y="19"/>
                  </a:lnTo>
                  <a:lnTo>
                    <a:pt x="291" y="22"/>
                  </a:lnTo>
                  <a:lnTo>
                    <a:pt x="285" y="28"/>
                  </a:lnTo>
                  <a:lnTo>
                    <a:pt x="277" y="32"/>
                  </a:lnTo>
                  <a:lnTo>
                    <a:pt x="270" y="38"/>
                  </a:lnTo>
                  <a:lnTo>
                    <a:pt x="264" y="41"/>
                  </a:lnTo>
                  <a:lnTo>
                    <a:pt x="258" y="47"/>
                  </a:lnTo>
                  <a:lnTo>
                    <a:pt x="247" y="57"/>
                  </a:lnTo>
                  <a:lnTo>
                    <a:pt x="236" y="66"/>
                  </a:lnTo>
                  <a:lnTo>
                    <a:pt x="226" y="74"/>
                  </a:lnTo>
                  <a:lnTo>
                    <a:pt x="218" y="81"/>
                  </a:lnTo>
                  <a:lnTo>
                    <a:pt x="207" y="83"/>
                  </a:lnTo>
                  <a:lnTo>
                    <a:pt x="196" y="87"/>
                  </a:lnTo>
                  <a:lnTo>
                    <a:pt x="190" y="87"/>
                  </a:lnTo>
                  <a:lnTo>
                    <a:pt x="184" y="89"/>
                  </a:lnTo>
                  <a:lnTo>
                    <a:pt x="177" y="91"/>
                  </a:lnTo>
                  <a:lnTo>
                    <a:pt x="169" y="93"/>
                  </a:lnTo>
                  <a:lnTo>
                    <a:pt x="161" y="93"/>
                  </a:lnTo>
                  <a:lnTo>
                    <a:pt x="152" y="95"/>
                  </a:lnTo>
                  <a:lnTo>
                    <a:pt x="142" y="96"/>
                  </a:lnTo>
                  <a:lnTo>
                    <a:pt x="135" y="98"/>
                  </a:lnTo>
                  <a:lnTo>
                    <a:pt x="125" y="100"/>
                  </a:lnTo>
                  <a:lnTo>
                    <a:pt x="116" y="102"/>
                  </a:lnTo>
                  <a:lnTo>
                    <a:pt x="106" y="106"/>
                  </a:lnTo>
                  <a:lnTo>
                    <a:pt x="97" y="112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64" y="127"/>
                  </a:lnTo>
                  <a:lnTo>
                    <a:pt x="59" y="134"/>
                  </a:lnTo>
                  <a:lnTo>
                    <a:pt x="49" y="142"/>
                  </a:lnTo>
                  <a:lnTo>
                    <a:pt x="42" y="153"/>
                  </a:lnTo>
                  <a:lnTo>
                    <a:pt x="36" y="163"/>
                  </a:lnTo>
                  <a:lnTo>
                    <a:pt x="30" y="174"/>
                  </a:lnTo>
                  <a:lnTo>
                    <a:pt x="26" y="180"/>
                  </a:lnTo>
                  <a:lnTo>
                    <a:pt x="25" y="186"/>
                  </a:lnTo>
                  <a:lnTo>
                    <a:pt x="23" y="192"/>
                  </a:lnTo>
                  <a:lnTo>
                    <a:pt x="19" y="199"/>
                  </a:lnTo>
                  <a:lnTo>
                    <a:pt x="17" y="205"/>
                  </a:lnTo>
                  <a:lnTo>
                    <a:pt x="17" y="212"/>
                  </a:lnTo>
                  <a:lnTo>
                    <a:pt x="13" y="218"/>
                  </a:lnTo>
                  <a:lnTo>
                    <a:pt x="13" y="226"/>
                  </a:lnTo>
                  <a:lnTo>
                    <a:pt x="9" y="233"/>
                  </a:lnTo>
                  <a:lnTo>
                    <a:pt x="9" y="241"/>
                  </a:lnTo>
                  <a:lnTo>
                    <a:pt x="7" y="249"/>
                  </a:lnTo>
                  <a:lnTo>
                    <a:pt x="6" y="254"/>
                  </a:lnTo>
                  <a:lnTo>
                    <a:pt x="4" y="262"/>
                  </a:lnTo>
                  <a:lnTo>
                    <a:pt x="4" y="269"/>
                  </a:lnTo>
                  <a:lnTo>
                    <a:pt x="2" y="279"/>
                  </a:lnTo>
                  <a:lnTo>
                    <a:pt x="2" y="288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0" y="313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338"/>
                  </a:lnTo>
                  <a:lnTo>
                    <a:pt x="0" y="345"/>
                  </a:lnTo>
                  <a:lnTo>
                    <a:pt x="2" y="355"/>
                  </a:lnTo>
                  <a:lnTo>
                    <a:pt x="2" y="363"/>
                  </a:lnTo>
                  <a:lnTo>
                    <a:pt x="4" y="372"/>
                  </a:lnTo>
                  <a:lnTo>
                    <a:pt x="4" y="380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9" y="406"/>
                  </a:lnTo>
                  <a:lnTo>
                    <a:pt x="13" y="412"/>
                  </a:lnTo>
                  <a:lnTo>
                    <a:pt x="17" y="421"/>
                  </a:lnTo>
                  <a:lnTo>
                    <a:pt x="19" y="429"/>
                  </a:lnTo>
                  <a:lnTo>
                    <a:pt x="21" y="439"/>
                  </a:lnTo>
                  <a:lnTo>
                    <a:pt x="23" y="444"/>
                  </a:lnTo>
                  <a:lnTo>
                    <a:pt x="26" y="454"/>
                  </a:lnTo>
                  <a:lnTo>
                    <a:pt x="30" y="461"/>
                  </a:lnTo>
                  <a:lnTo>
                    <a:pt x="34" y="467"/>
                  </a:lnTo>
                  <a:lnTo>
                    <a:pt x="38" y="475"/>
                  </a:lnTo>
                  <a:lnTo>
                    <a:pt x="42" y="482"/>
                  </a:lnTo>
                  <a:lnTo>
                    <a:pt x="45" y="488"/>
                  </a:lnTo>
                  <a:lnTo>
                    <a:pt x="51" y="496"/>
                  </a:lnTo>
                  <a:lnTo>
                    <a:pt x="55" y="501"/>
                  </a:lnTo>
                  <a:lnTo>
                    <a:pt x="61" y="509"/>
                  </a:lnTo>
                  <a:lnTo>
                    <a:pt x="70" y="520"/>
                  </a:lnTo>
                  <a:lnTo>
                    <a:pt x="82" y="532"/>
                  </a:lnTo>
                  <a:lnTo>
                    <a:pt x="91" y="541"/>
                  </a:lnTo>
                  <a:lnTo>
                    <a:pt x="102" y="551"/>
                  </a:lnTo>
                  <a:lnTo>
                    <a:pt x="114" y="558"/>
                  </a:lnTo>
                  <a:lnTo>
                    <a:pt x="127" y="564"/>
                  </a:lnTo>
                  <a:lnTo>
                    <a:pt x="139" y="568"/>
                  </a:lnTo>
                  <a:lnTo>
                    <a:pt x="152" y="574"/>
                  </a:lnTo>
                  <a:lnTo>
                    <a:pt x="158" y="574"/>
                  </a:lnTo>
                  <a:lnTo>
                    <a:pt x="163" y="575"/>
                  </a:lnTo>
                  <a:lnTo>
                    <a:pt x="171" y="577"/>
                  </a:lnTo>
                  <a:lnTo>
                    <a:pt x="177" y="579"/>
                  </a:lnTo>
                  <a:lnTo>
                    <a:pt x="190" y="577"/>
                  </a:lnTo>
                  <a:lnTo>
                    <a:pt x="201" y="577"/>
                  </a:lnTo>
                  <a:lnTo>
                    <a:pt x="213" y="577"/>
                  </a:lnTo>
                  <a:lnTo>
                    <a:pt x="226" y="574"/>
                  </a:lnTo>
                  <a:lnTo>
                    <a:pt x="237" y="570"/>
                  </a:lnTo>
                  <a:lnTo>
                    <a:pt x="247" y="564"/>
                  </a:lnTo>
                  <a:lnTo>
                    <a:pt x="258" y="556"/>
                  </a:lnTo>
                  <a:lnTo>
                    <a:pt x="270" y="551"/>
                  </a:lnTo>
                  <a:lnTo>
                    <a:pt x="277" y="539"/>
                  </a:lnTo>
                  <a:lnTo>
                    <a:pt x="285" y="532"/>
                  </a:lnTo>
                  <a:lnTo>
                    <a:pt x="293" y="520"/>
                  </a:lnTo>
                  <a:lnTo>
                    <a:pt x="298" y="513"/>
                  </a:lnTo>
                  <a:lnTo>
                    <a:pt x="306" y="503"/>
                  </a:lnTo>
                  <a:lnTo>
                    <a:pt x="312" y="494"/>
                  </a:lnTo>
                  <a:lnTo>
                    <a:pt x="317" y="482"/>
                  </a:lnTo>
                  <a:lnTo>
                    <a:pt x="323" y="475"/>
                  </a:lnTo>
                  <a:lnTo>
                    <a:pt x="327" y="465"/>
                  </a:lnTo>
                  <a:lnTo>
                    <a:pt x="331" y="458"/>
                  </a:lnTo>
                  <a:lnTo>
                    <a:pt x="336" y="448"/>
                  </a:lnTo>
                  <a:lnTo>
                    <a:pt x="342" y="441"/>
                  </a:lnTo>
                  <a:lnTo>
                    <a:pt x="344" y="431"/>
                  </a:lnTo>
                  <a:lnTo>
                    <a:pt x="350" y="423"/>
                  </a:lnTo>
                  <a:lnTo>
                    <a:pt x="353" y="416"/>
                  </a:lnTo>
                  <a:lnTo>
                    <a:pt x="357" y="410"/>
                  </a:lnTo>
                  <a:lnTo>
                    <a:pt x="361" y="402"/>
                  </a:lnTo>
                  <a:lnTo>
                    <a:pt x="367" y="397"/>
                  </a:lnTo>
                  <a:lnTo>
                    <a:pt x="371" y="393"/>
                  </a:lnTo>
                  <a:lnTo>
                    <a:pt x="376" y="389"/>
                  </a:lnTo>
                  <a:lnTo>
                    <a:pt x="382" y="385"/>
                  </a:lnTo>
                  <a:lnTo>
                    <a:pt x="388" y="383"/>
                  </a:lnTo>
                  <a:lnTo>
                    <a:pt x="395" y="380"/>
                  </a:lnTo>
                  <a:lnTo>
                    <a:pt x="403" y="380"/>
                  </a:lnTo>
                  <a:lnTo>
                    <a:pt x="409" y="376"/>
                  </a:lnTo>
                  <a:lnTo>
                    <a:pt x="414" y="376"/>
                  </a:lnTo>
                  <a:lnTo>
                    <a:pt x="424" y="376"/>
                  </a:lnTo>
                  <a:lnTo>
                    <a:pt x="431" y="376"/>
                  </a:lnTo>
                  <a:lnTo>
                    <a:pt x="441" y="374"/>
                  </a:lnTo>
                  <a:lnTo>
                    <a:pt x="450" y="374"/>
                  </a:lnTo>
                  <a:lnTo>
                    <a:pt x="462" y="374"/>
                  </a:lnTo>
                  <a:lnTo>
                    <a:pt x="473" y="374"/>
                  </a:lnTo>
                  <a:lnTo>
                    <a:pt x="485" y="370"/>
                  </a:lnTo>
                  <a:lnTo>
                    <a:pt x="498" y="366"/>
                  </a:lnTo>
                  <a:lnTo>
                    <a:pt x="509" y="363"/>
                  </a:lnTo>
                  <a:lnTo>
                    <a:pt x="521" y="359"/>
                  </a:lnTo>
                  <a:lnTo>
                    <a:pt x="534" y="351"/>
                  </a:lnTo>
                  <a:lnTo>
                    <a:pt x="545" y="345"/>
                  </a:lnTo>
                  <a:lnTo>
                    <a:pt x="557" y="338"/>
                  </a:lnTo>
                  <a:lnTo>
                    <a:pt x="568" y="332"/>
                  </a:lnTo>
                  <a:lnTo>
                    <a:pt x="578" y="323"/>
                  </a:lnTo>
                  <a:lnTo>
                    <a:pt x="589" y="313"/>
                  </a:lnTo>
                  <a:lnTo>
                    <a:pt x="597" y="302"/>
                  </a:lnTo>
                  <a:lnTo>
                    <a:pt x="606" y="292"/>
                  </a:lnTo>
                  <a:lnTo>
                    <a:pt x="614" y="281"/>
                  </a:lnTo>
                  <a:lnTo>
                    <a:pt x="621" y="269"/>
                  </a:lnTo>
                  <a:lnTo>
                    <a:pt x="627" y="258"/>
                  </a:lnTo>
                  <a:lnTo>
                    <a:pt x="635" y="245"/>
                  </a:lnTo>
                  <a:lnTo>
                    <a:pt x="637" y="239"/>
                  </a:lnTo>
                  <a:lnTo>
                    <a:pt x="639" y="231"/>
                  </a:lnTo>
                  <a:lnTo>
                    <a:pt x="641" y="226"/>
                  </a:lnTo>
                  <a:lnTo>
                    <a:pt x="642" y="218"/>
                  </a:lnTo>
                  <a:lnTo>
                    <a:pt x="642" y="212"/>
                  </a:lnTo>
                  <a:lnTo>
                    <a:pt x="642" y="205"/>
                  </a:lnTo>
                  <a:lnTo>
                    <a:pt x="644" y="197"/>
                  </a:lnTo>
                  <a:lnTo>
                    <a:pt x="646" y="192"/>
                  </a:lnTo>
                  <a:lnTo>
                    <a:pt x="646" y="184"/>
                  </a:lnTo>
                  <a:lnTo>
                    <a:pt x="646" y="176"/>
                  </a:lnTo>
                  <a:lnTo>
                    <a:pt x="646" y="171"/>
                  </a:lnTo>
                  <a:lnTo>
                    <a:pt x="646" y="163"/>
                  </a:lnTo>
                  <a:lnTo>
                    <a:pt x="644" y="155"/>
                  </a:lnTo>
                  <a:lnTo>
                    <a:pt x="642" y="148"/>
                  </a:lnTo>
                  <a:lnTo>
                    <a:pt x="642" y="142"/>
                  </a:lnTo>
                  <a:lnTo>
                    <a:pt x="642" y="134"/>
                  </a:lnTo>
                  <a:lnTo>
                    <a:pt x="641" y="129"/>
                  </a:lnTo>
                  <a:lnTo>
                    <a:pt x="637" y="121"/>
                  </a:lnTo>
                  <a:lnTo>
                    <a:pt x="635" y="114"/>
                  </a:lnTo>
                  <a:lnTo>
                    <a:pt x="633" y="106"/>
                  </a:lnTo>
                  <a:lnTo>
                    <a:pt x="627" y="93"/>
                  </a:lnTo>
                  <a:lnTo>
                    <a:pt x="621" y="83"/>
                  </a:lnTo>
                  <a:lnTo>
                    <a:pt x="612" y="70"/>
                  </a:lnTo>
                  <a:lnTo>
                    <a:pt x="604" y="60"/>
                  </a:lnTo>
                  <a:lnTo>
                    <a:pt x="595" y="51"/>
                  </a:lnTo>
                  <a:lnTo>
                    <a:pt x="585" y="45"/>
                  </a:lnTo>
                  <a:lnTo>
                    <a:pt x="574" y="36"/>
                  </a:lnTo>
                  <a:lnTo>
                    <a:pt x="563" y="30"/>
                  </a:lnTo>
                  <a:lnTo>
                    <a:pt x="549" y="24"/>
                  </a:lnTo>
                  <a:lnTo>
                    <a:pt x="540" y="20"/>
                  </a:lnTo>
                  <a:lnTo>
                    <a:pt x="528" y="17"/>
                  </a:lnTo>
                  <a:lnTo>
                    <a:pt x="517" y="13"/>
                  </a:lnTo>
                  <a:lnTo>
                    <a:pt x="506" y="11"/>
                  </a:lnTo>
                  <a:lnTo>
                    <a:pt x="496" y="11"/>
                  </a:lnTo>
                  <a:lnTo>
                    <a:pt x="487" y="9"/>
                  </a:lnTo>
                  <a:lnTo>
                    <a:pt x="475" y="7"/>
                  </a:lnTo>
                  <a:lnTo>
                    <a:pt x="467" y="7"/>
                  </a:lnTo>
                  <a:lnTo>
                    <a:pt x="462" y="7"/>
                  </a:lnTo>
                  <a:lnTo>
                    <a:pt x="452" y="5"/>
                  </a:lnTo>
                  <a:lnTo>
                    <a:pt x="450" y="7"/>
                  </a:lnTo>
                  <a:lnTo>
                    <a:pt x="450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 flipV="1" rot="20995800">
              <a:off x="4629600" y="4057920"/>
              <a:ext cx="479520" cy="258480"/>
            </a:xfrm>
            <a:custGeom>
              <a:avLst/>
              <a:gdLst/>
              <a:ahLst/>
              <a:rect l="l" t="t" r="r" b="b"/>
              <a:pathLst>
                <a:path w="730" h="446">
                  <a:moveTo>
                    <a:pt x="36" y="382"/>
                  </a:moveTo>
                  <a:lnTo>
                    <a:pt x="34" y="380"/>
                  </a:lnTo>
                  <a:lnTo>
                    <a:pt x="32" y="376"/>
                  </a:lnTo>
                  <a:lnTo>
                    <a:pt x="30" y="368"/>
                  </a:lnTo>
                  <a:lnTo>
                    <a:pt x="28" y="363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19" y="334"/>
                  </a:lnTo>
                  <a:lnTo>
                    <a:pt x="17" y="327"/>
                  </a:lnTo>
                  <a:lnTo>
                    <a:pt x="15" y="321"/>
                  </a:lnTo>
                  <a:lnTo>
                    <a:pt x="13" y="313"/>
                  </a:lnTo>
                  <a:lnTo>
                    <a:pt x="11" y="306"/>
                  </a:lnTo>
                  <a:lnTo>
                    <a:pt x="9" y="298"/>
                  </a:lnTo>
                  <a:lnTo>
                    <a:pt x="7" y="289"/>
                  </a:lnTo>
                  <a:lnTo>
                    <a:pt x="7" y="281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0" y="237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2" y="196"/>
                  </a:lnTo>
                  <a:lnTo>
                    <a:pt x="4" y="184"/>
                  </a:lnTo>
                  <a:lnTo>
                    <a:pt x="5" y="178"/>
                  </a:lnTo>
                  <a:lnTo>
                    <a:pt x="5" y="169"/>
                  </a:lnTo>
                  <a:lnTo>
                    <a:pt x="7" y="159"/>
                  </a:lnTo>
                  <a:lnTo>
                    <a:pt x="11" y="152"/>
                  </a:lnTo>
                  <a:lnTo>
                    <a:pt x="15" y="146"/>
                  </a:lnTo>
                  <a:lnTo>
                    <a:pt x="17" y="138"/>
                  </a:lnTo>
                  <a:lnTo>
                    <a:pt x="21" y="131"/>
                  </a:lnTo>
                  <a:lnTo>
                    <a:pt x="26" y="125"/>
                  </a:lnTo>
                  <a:lnTo>
                    <a:pt x="32" y="119"/>
                  </a:lnTo>
                  <a:lnTo>
                    <a:pt x="42" y="108"/>
                  </a:lnTo>
                  <a:lnTo>
                    <a:pt x="55" y="99"/>
                  </a:lnTo>
                  <a:lnTo>
                    <a:pt x="61" y="93"/>
                  </a:lnTo>
                  <a:lnTo>
                    <a:pt x="68" y="89"/>
                  </a:lnTo>
                  <a:lnTo>
                    <a:pt x="74" y="85"/>
                  </a:lnTo>
                  <a:lnTo>
                    <a:pt x="83" y="81"/>
                  </a:lnTo>
                  <a:lnTo>
                    <a:pt x="91" y="78"/>
                  </a:lnTo>
                  <a:lnTo>
                    <a:pt x="97" y="74"/>
                  </a:lnTo>
                  <a:lnTo>
                    <a:pt x="104" y="70"/>
                  </a:lnTo>
                  <a:lnTo>
                    <a:pt x="114" y="66"/>
                  </a:lnTo>
                  <a:lnTo>
                    <a:pt x="121" y="62"/>
                  </a:lnTo>
                  <a:lnTo>
                    <a:pt x="129" y="59"/>
                  </a:lnTo>
                  <a:lnTo>
                    <a:pt x="139" y="57"/>
                  </a:lnTo>
                  <a:lnTo>
                    <a:pt x="148" y="55"/>
                  </a:lnTo>
                  <a:lnTo>
                    <a:pt x="156" y="51"/>
                  </a:lnTo>
                  <a:lnTo>
                    <a:pt x="165" y="49"/>
                  </a:lnTo>
                  <a:lnTo>
                    <a:pt x="171" y="45"/>
                  </a:lnTo>
                  <a:lnTo>
                    <a:pt x="180" y="43"/>
                  </a:lnTo>
                  <a:lnTo>
                    <a:pt x="190" y="40"/>
                  </a:lnTo>
                  <a:lnTo>
                    <a:pt x="197" y="38"/>
                  </a:lnTo>
                  <a:lnTo>
                    <a:pt x="207" y="36"/>
                  </a:lnTo>
                  <a:lnTo>
                    <a:pt x="216" y="34"/>
                  </a:lnTo>
                  <a:lnTo>
                    <a:pt x="222" y="30"/>
                  </a:lnTo>
                  <a:lnTo>
                    <a:pt x="232" y="30"/>
                  </a:lnTo>
                  <a:lnTo>
                    <a:pt x="239" y="26"/>
                  </a:lnTo>
                  <a:lnTo>
                    <a:pt x="249" y="24"/>
                  </a:lnTo>
                  <a:lnTo>
                    <a:pt x="254" y="23"/>
                  </a:lnTo>
                  <a:lnTo>
                    <a:pt x="264" y="21"/>
                  </a:lnTo>
                  <a:lnTo>
                    <a:pt x="272" y="19"/>
                  </a:lnTo>
                  <a:lnTo>
                    <a:pt x="281" y="19"/>
                  </a:lnTo>
                  <a:lnTo>
                    <a:pt x="289" y="17"/>
                  </a:lnTo>
                  <a:lnTo>
                    <a:pt x="296" y="15"/>
                  </a:lnTo>
                  <a:lnTo>
                    <a:pt x="306" y="13"/>
                  </a:lnTo>
                  <a:lnTo>
                    <a:pt x="313" y="13"/>
                  </a:lnTo>
                  <a:lnTo>
                    <a:pt x="321" y="11"/>
                  </a:lnTo>
                  <a:lnTo>
                    <a:pt x="331" y="11"/>
                  </a:lnTo>
                  <a:lnTo>
                    <a:pt x="338" y="9"/>
                  </a:lnTo>
                  <a:lnTo>
                    <a:pt x="348" y="9"/>
                  </a:lnTo>
                  <a:lnTo>
                    <a:pt x="353" y="7"/>
                  </a:lnTo>
                  <a:lnTo>
                    <a:pt x="363" y="7"/>
                  </a:lnTo>
                  <a:lnTo>
                    <a:pt x="370" y="5"/>
                  </a:lnTo>
                  <a:lnTo>
                    <a:pt x="378" y="5"/>
                  </a:lnTo>
                  <a:lnTo>
                    <a:pt x="386" y="4"/>
                  </a:lnTo>
                  <a:lnTo>
                    <a:pt x="393" y="4"/>
                  </a:lnTo>
                  <a:lnTo>
                    <a:pt x="403" y="4"/>
                  </a:lnTo>
                  <a:lnTo>
                    <a:pt x="410" y="4"/>
                  </a:lnTo>
                  <a:lnTo>
                    <a:pt x="418" y="2"/>
                  </a:lnTo>
                  <a:lnTo>
                    <a:pt x="426" y="2"/>
                  </a:lnTo>
                  <a:lnTo>
                    <a:pt x="435" y="2"/>
                  </a:lnTo>
                  <a:lnTo>
                    <a:pt x="443" y="2"/>
                  </a:lnTo>
                  <a:lnTo>
                    <a:pt x="450" y="2"/>
                  </a:lnTo>
                  <a:lnTo>
                    <a:pt x="458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11" y="0"/>
                  </a:lnTo>
                  <a:lnTo>
                    <a:pt x="519" y="0"/>
                  </a:lnTo>
                  <a:lnTo>
                    <a:pt x="524" y="0"/>
                  </a:lnTo>
                  <a:lnTo>
                    <a:pt x="534" y="2"/>
                  </a:lnTo>
                  <a:lnTo>
                    <a:pt x="542" y="2"/>
                  </a:lnTo>
                  <a:lnTo>
                    <a:pt x="547" y="2"/>
                  </a:lnTo>
                  <a:lnTo>
                    <a:pt x="555" y="2"/>
                  </a:lnTo>
                  <a:lnTo>
                    <a:pt x="562" y="4"/>
                  </a:lnTo>
                  <a:lnTo>
                    <a:pt x="568" y="4"/>
                  </a:lnTo>
                  <a:lnTo>
                    <a:pt x="576" y="5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2" y="13"/>
                  </a:lnTo>
                  <a:lnTo>
                    <a:pt x="616" y="17"/>
                  </a:lnTo>
                  <a:lnTo>
                    <a:pt x="627" y="23"/>
                  </a:lnTo>
                  <a:lnTo>
                    <a:pt x="640" y="30"/>
                  </a:lnTo>
                  <a:lnTo>
                    <a:pt x="650" y="36"/>
                  </a:lnTo>
                  <a:lnTo>
                    <a:pt x="663" y="45"/>
                  </a:lnTo>
                  <a:lnTo>
                    <a:pt x="673" y="57"/>
                  </a:lnTo>
                  <a:lnTo>
                    <a:pt x="686" y="68"/>
                  </a:lnTo>
                  <a:lnTo>
                    <a:pt x="694" y="80"/>
                  </a:lnTo>
                  <a:lnTo>
                    <a:pt x="701" y="93"/>
                  </a:lnTo>
                  <a:lnTo>
                    <a:pt x="705" y="99"/>
                  </a:lnTo>
                  <a:lnTo>
                    <a:pt x="709" y="106"/>
                  </a:lnTo>
                  <a:lnTo>
                    <a:pt x="713" y="114"/>
                  </a:lnTo>
                  <a:lnTo>
                    <a:pt x="716" y="119"/>
                  </a:lnTo>
                  <a:lnTo>
                    <a:pt x="718" y="127"/>
                  </a:lnTo>
                  <a:lnTo>
                    <a:pt x="720" y="135"/>
                  </a:lnTo>
                  <a:lnTo>
                    <a:pt x="722" y="142"/>
                  </a:lnTo>
                  <a:lnTo>
                    <a:pt x="724" y="150"/>
                  </a:lnTo>
                  <a:lnTo>
                    <a:pt x="724" y="156"/>
                  </a:lnTo>
                  <a:lnTo>
                    <a:pt x="728" y="165"/>
                  </a:lnTo>
                  <a:lnTo>
                    <a:pt x="728" y="173"/>
                  </a:lnTo>
                  <a:lnTo>
                    <a:pt x="730" y="180"/>
                  </a:lnTo>
                  <a:lnTo>
                    <a:pt x="730" y="188"/>
                  </a:lnTo>
                  <a:lnTo>
                    <a:pt x="730" y="196"/>
                  </a:lnTo>
                  <a:lnTo>
                    <a:pt x="730" y="203"/>
                  </a:lnTo>
                  <a:lnTo>
                    <a:pt x="730" y="211"/>
                  </a:lnTo>
                  <a:lnTo>
                    <a:pt x="728" y="218"/>
                  </a:lnTo>
                  <a:lnTo>
                    <a:pt x="728" y="226"/>
                  </a:lnTo>
                  <a:lnTo>
                    <a:pt x="726" y="234"/>
                  </a:lnTo>
                  <a:lnTo>
                    <a:pt x="726" y="243"/>
                  </a:lnTo>
                  <a:lnTo>
                    <a:pt x="724" y="249"/>
                  </a:lnTo>
                  <a:lnTo>
                    <a:pt x="722" y="258"/>
                  </a:lnTo>
                  <a:lnTo>
                    <a:pt x="720" y="266"/>
                  </a:lnTo>
                  <a:lnTo>
                    <a:pt x="718" y="273"/>
                  </a:lnTo>
                  <a:lnTo>
                    <a:pt x="715" y="281"/>
                  </a:lnTo>
                  <a:lnTo>
                    <a:pt x="715" y="289"/>
                  </a:lnTo>
                  <a:lnTo>
                    <a:pt x="711" y="294"/>
                  </a:lnTo>
                  <a:lnTo>
                    <a:pt x="709" y="304"/>
                  </a:lnTo>
                  <a:lnTo>
                    <a:pt x="705" y="310"/>
                  </a:lnTo>
                  <a:lnTo>
                    <a:pt x="701" y="317"/>
                  </a:lnTo>
                  <a:lnTo>
                    <a:pt x="696" y="323"/>
                  </a:lnTo>
                  <a:lnTo>
                    <a:pt x="692" y="330"/>
                  </a:lnTo>
                  <a:lnTo>
                    <a:pt x="686" y="336"/>
                  </a:lnTo>
                  <a:lnTo>
                    <a:pt x="680" y="344"/>
                  </a:lnTo>
                  <a:lnTo>
                    <a:pt x="673" y="351"/>
                  </a:lnTo>
                  <a:lnTo>
                    <a:pt x="667" y="359"/>
                  </a:lnTo>
                  <a:lnTo>
                    <a:pt x="659" y="365"/>
                  </a:lnTo>
                  <a:lnTo>
                    <a:pt x="652" y="372"/>
                  </a:lnTo>
                  <a:lnTo>
                    <a:pt x="644" y="378"/>
                  </a:lnTo>
                  <a:lnTo>
                    <a:pt x="635" y="384"/>
                  </a:lnTo>
                  <a:lnTo>
                    <a:pt x="625" y="391"/>
                  </a:lnTo>
                  <a:lnTo>
                    <a:pt x="618" y="397"/>
                  </a:lnTo>
                  <a:lnTo>
                    <a:pt x="608" y="403"/>
                  </a:lnTo>
                  <a:lnTo>
                    <a:pt x="601" y="408"/>
                  </a:lnTo>
                  <a:lnTo>
                    <a:pt x="589" y="414"/>
                  </a:lnTo>
                  <a:lnTo>
                    <a:pt x="582" y="418"/>
                  </a:lnTo>
                  <a:lnTo>
                    <a:pt x="570" y="422"/>
                  </a:lnTo>
                  <a:lnTo>
                    <a:pt x="562" y="427"/>
                  </a:lnTo>
                  <a:lnTo>
                    <a:pt x="553" y="429"/>
                  </a:lnTo>
                  <a:lnTo>
                    <a:pt x="543" y="433"/>
                  </a:lnTo>
                  <a:lnTo>
                    <a:pt x="534" y="437"/>
                  </a:lnTo>
                  <a:lnTo>
                    <a:pt x="526" y="441"/>
                  </a:lnTo>
                  <a:lnTo>
                    <a:pt x="517" y="443"/>
                  </a:lnTo>
                  <a:lnTo>
                    <a:pt x="509" y="445"/>
                  </a:lnTo>
                  <a:lnTo>
                    <a:pt x="500" y="446"/>
                  </a:lnTo>
                  <a:lnTo>
                    <a:pt x="492" y="446"/>
                  </a:lnTo>
                  <a:lnTo>
                    <a:pt x="486" y="446"/>
                  </a:lnTo>
                  <a:lnTo>
                    <a:pt x="479" y="446"/>
                  </a:lnTo>
                  <a:lnTo>
                    <a:pt x="471" y="446"/>
                  </a:lnTo>
                  <a:lnTo>
                    <a:pt x="466" y="446"/>
                  </a:lnTo>
                  <a:lnTo>
                    <a:pt x="452" y="443"/>
                  </a:lnTo>
                  <a:lnTo>
                    <a:pt x="441" y="437"/>
                  </a:lnTo>
                  <a:lnTo>
                    <a:pt x="429" y="431"/>
                  </a:lnTo>
                  <a:lnTo>
                    <a:pt x="420" y="427"/>
                  </a:lnTo>
                  <a:lnTo>
                    <a:pt x="408" y="420"/>
                  </a:lnTo>
                  <a:lnTo>
                    <a:pt x="399" y="414"/>
                  </a:lnTo>
                  <a:lnTo>
                    <a:pt x="389" y="406"/>
                  </a:lnTo>
                  <a:lnTo>
                    <a:pt x="384" y="403"/>
                  </a:lnTo>
                  <a:lnTo>
                    <a:pt x="374" y="395"/>
                  </a:lnTo>
                  <a:lnTo>
                    <a:pt x="365" y="391"/>
                  </a:lnTo>
                  <a:lnTo>
                    <a:pt x="357" y="386"/>
                  </a:lnTo>
                  <a:lnTo>
                    <a:pt x="350" y="382"/>
                  </a:lnTo>
                  <a:lnTo>
                    <a:pt x="342" y="378"/>
                  </a:lnTo>
                  <a:lnTo>
                    <a:pt x="334" y="376"/>
                  </a:lnTo>
                  <a:lnTo>
                    <a:pt x="327" y="374"/>
                  </a:lnTo>
                  <a:lnTo>
                    <a:pt x="319" y="376"/>
                  </a:lnTo>
                  <a:lnTo>
                    <a:pt x="310" y="376"/>
                  </a:lnTo>
                  <a:lnTo>
                    <a:pt x="304" y="378"/>
                  </a:lnTo>
                  <a:lnTo>
                    <a:pt x="296" y="382"/>
                  </a:lnTo>
                  <a:lnTo>
                    <a:pt x="291" y="386"/>
                  </a:lnTo>
                  <a:lnTo>
                    <a:pt x="277" y="393"/>
                  </a:lnTo>
                  <a:lnTo>
                    <a:pt x="264" y="405"/>
                  </a:lnTo>
                  <a:lnTo>
                    <a:pt x="258" y="406"/>
                  </a:lnTo>
                  <a:lnTo>
                    <a:pt x="251" y="414"/>
                  </a:lnTo>
                  <a:lnTo>
                    <a:pt x="241" y="418"/>
                  </a:lnTo>
                  <a:lnTo>
                    <a:pt x="235" y="424"/>
                  </a:lnTo>
                  <a:lnTo>
                    <a:pt x="224" y="429"/>
                  </a:lnTo>
                  <a:lnTo>
                    <a:pt x="215" y="433"/>
                  </a:lnTo>
                  <a:lnTo>
                    <a:pt x="203" y="439"/>
                  </a:lnTo>
                  <a:lnTo>
                    <a:pt x="190" y="443"/>
                  </a:lnTo>
                  <a:lnTo>
                    <a:pt x="184" y="445"/>
                  </a:lnTo>
                  <a:lnTo>
                    <a:pt x="177" y="446"/>
                  </a:lnTo>
                  <a:lnTo>
                    <a:pt x="169" y="446"/>
                  </a:lnTo>
                  <a:lnTo>
                    <a:pt x="163" y="446"/>
                  </a:lnTo>
                  <a:lnTo>
                    <a:pt x="156" y="446"/>
                  </a:lnTo>
                  <a:lnTo>
                    <a:pt x="150" y="446"/>
                  </a:lnTo>
                  <a:lnTo>
                    <a:pt x="142" y="445"/>
                  </a:lnTo>
                  <a:lnTo>
                    <a:pt x="137" y="443"/>
                  </a:lnTo>
                  <a:lnTo>
                    <a:pt x="129" y="441"/>
                  </a:lnTo>
                  <a:lnTo>
                    <a:pt x="123" y="439"/>
                  </a:lnTo>
                  <a:lnTo>
                    <a:pt x="116" y="437"/>
                  </a:lnTo>
                  <a:lnTo>
                    <a:pt x="110" y="433"/>
                  </a:lnTo>
                  <a:lnTo>
                    <a:pt x="97" y="427"/>
                  </a:lnTo>
                  <a:lnTo>
                    <a:pt x="87" y="422"/>
                  </a:lnTo>
                  <a:lnTo>
                    <a:pt x="74" y="414"/>
                  </a:lnTo>
                  <a:lnTo>
                    <a:pt x="64" y="406"/>
                  </a:lnTo>
                  <a:lnTo>
                    <a:pt x="55" y="401"/>
                  </a:lnTo>
                  <a:lnTo>
                    <a:pt x="49" y="395"/>
                  </a:lnTo>
                  <a:lnTo>
                    <a:pt x="43" y="387"/>
                  </a:lnTo>
                  <a:lnTo>
                    <a:pt x="40" y="384"/>
                  </a:lnTo>
                  <a:lnTo>
                    <a:pt x="36" y="382"/>
                  </a:lnTo>
                  <a:lnTo>
                    <a:pt x="36" y="382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 flipV="1" rot="20995800">
              <a:off x="4098240" y="4121280"/>
              <a:ext cx="472680" cy="286200"/>
            </a:xfrm>
            <a:custGeom>
              <a:avLst/>
              <a:gdLst/>
              <a:ahLst/>
              <a:rect l="l" t="t" r="r" b="b"/>
              <a:pathLst>
                <a:path w="718" h="497">
                  <a:moveTo>
                    <a:pt x="304" y="54"/>
                  </a:moveTo>
                  <a:lnTo>
                    <a:pt x="302" y="54"/>
                  </a:lnTo>
                  <a:lnTo>
                    <a:pt x="300" y="52"/>
                  </a:lnTo>
                  <a:lnTo>
                    <a:pt x="294" y="48"/>
                  </a:lnTo>
                  <a:lnTo>
                    <a:pt x="287" y="46"/>
                  </a:lnTo>
                  <a:lnTo>
                    <a:pt x="277" y="40"/>
                  </a:lnTo>
                  <a:lnTo>
                    <a:pt x="270" y="37"/>
                  </a:lnTo>
                  <a:lnTo>
                    <a:pt x="258" y="31"/>
                  </a:lnTo>
                  <a:lnTo>
                    <a:pt x="249" y="29"/>
                  </a:lnTo>
                  <a:lnTo>
                    <a:pt x="235" y="21"/>
                  </a:lnTo>
                  <a:lnTo>
                    <a:pt x="224" y="18"/>
                  </a:lnTo>
                  <a:lnTo>
                    <a:pt x="211" y="12"/>
                  </a:lnTo>
                  <a:lnTo>
                    <a:pt x="197" y="8"/>
                  </a:lnTo>
                  <a:lnTo>
                    <a:pt x="184" y="6"/>
                  </a:lnTo>
                  <a:lnTo>
                    <a:pt x="173" y="2"/>
                  </a:lnTo>
                  <a:lnTo>
                    <a:pt x="161" y="2"/>
                  </a:lnTo>
                  <a:lnTo>
                    <a:pt x="152" y="2"/>
                  </a:lnTo>
                  <a:lnTo>
                    <a:pt x="140" y="0"/>
                  </a:lnTo>
                  <a:lnTo>
                    <a:pt x="133" y="2"/>
                  </a:lnTo>
                  <a:lnTo>
                    <a:pt x="123" y="4"/>
                  </a:lnTo>
                  <a:lnTo>
                    <a:pt x="118" y="8"/>
                  </a:lnTo>
                  <a:lnTo>
                    <a:pt x="110" y="12"/>
                  </a:lnTo>
                  <a:lnTo>
                    <a:pt x="104" y="18"/>
                  </a:lnTo>
                  <a:lnTo>
                    <a:pt x="99" y="23"/>
                  </a:lnTo>
                  <a:lnTo>
                    <a:pt x="95" y="31"/>
                  </a:lnTo>
                  <a:lnTo>
                    <a:pt x="89" y="38"/>
                  </a:lnTo>
                  <a:lnTo>
                    <a:pt x="85" y="44"/>
                  </a:lnTo>
                  <a:lnTo>
                    <a:pt x="80" y="54"/>
                  </a:lnTo>
                  <a:lnTo>
                    <a:pt x="76" y="63"/>
                  </a:lnTo>
                  <a:lnTo>
                    <a:pt x="72" y="73"/>
                  </a:lnTo>
                  <a:lnTo>
                    <a:pt x="68" y="84"/>
                  </a:lnTo>
                  <a:lnTo>
                    <a:pt x="64" y="95"/>
                  </a:lnTo>
                  <a:lnTo>
                    <a:pt x="60" y="105"/>
                  </a:lnTo>
                  <a:lnTo>
                    <a:pt x="55" y="116"/>
                  </a:lnTo>
                  <a:lnTo>
                    <a:pt x="49" y="128"/>
                  </a:lnTo>
                  <a:lnTo>
                    <a:pt x="43" y="137"/>
                  </a:lnTo>
                  <a:lnTo>
                    <a:pt x="38" y="151"/>
                  </a:lnTo>
                  <a:lnTo>
                    <a:pt x="30" y="160"/>
                  </a:lnTo>
                  <a:lnTo>
                    <a:pt x="26" y="173"/>
                  </a:lnTo>
                  <a:lnTo>
                    <a:pt x="21" y="185"/>
                  </a:lnTo>
                  <a:lnTo>
                    <a:pt x="17" y="198"/>
                  </a:lnTo>
                  <a:lnTo>
                    <a:pt x="11" y="210"/>
                  </a:lnTo>
                  <a:lnTo>
                    <a:pt x="7" y="223"/>
                  </a:lnTo>
                  <a:lnTo>
                    <a:pt x="5" y="234"/>
                  </a:lnTo>
                  <a:lnTo>
                    <a:pt x="2" y="248"/>
                  </a:lnTo>
                  <a:lnTo>
                    <a:pt x="0" y="261"/>
                  </a:lnTo>
                  <a:lnTo>
                    <a:pt x="0" y="272"/>
                  </a:lnTo>
                  <a:lnTo>
                    <a:pt x="0" y="286"/>
                  </a:lnTo>
                  <a:lnTo>
                    <a:pt x="2" y="299"/>
                  </a:lnTo>
                  <a:lnTo>
                    <a:pt x="3" y="310"/>
                  </a:lnTo>
                  <a:lnTo>
                    <a:pt x="7" y="322"/>
                  </a:lnTo>
                  <a:lnTo>
                    <a:pt x="11" y="335"/>
                  </a:lnTo>
                  <a:lnTo>
                    <a:pt x="17" y="348"/>
                  </a:lnTo>
                  <a:lnTo>
                    <a:pt x="22" y="360"/>
                  </a:lnTo>
                  <a:lnTo>
                    <a:pt x="30" y="371"/>
                  </a:lnTo>
                  <a:lnTo>
                    <a:pt x="38" y="382"/>
                  </a:lnTo>
                  <a:lnTo>
                    <a:pt x="47" y="394"/>
                  </a:lnTo>
                  <a:lnTo>
                    <a:pt x="57" y="403"/>
                  </a:lnTo>
                  <a:lnTo>
                    <a:pt x="66" y="415"/>
                  </a:lnTo>
                  <a:lnTo>
                    <a:pt x="76" y="424"/>
                  </a:lnTo>
                  <a:lnTo>
                    <a:pt x="89" y="434"/>
                  </a:lnTo>
                  <a:lnTo>
                    <a:pt x="99" y="443"/>
                  </a:lnTo>
                  <a:lnTo>
                    <a:pt x="110" y="453"/>
                  </a:lnTo>
                  <a:lnTo>
                    <a:pt x="123" y="460"/>
                  </a:lnTo>
                  <a:lnTo>
                    <a:pt x="137" y="470"/>
                  </a:lnTo>
                  <a:lnTo>
                    <a:pt x="148" y="474"/>
                  </a:lnTo>
                  <a:lnTo>
                    <a:pt x="161" y="479"/>
                  </a:lnTo>
                  <a:lnTo>
                    <a:pt x="167" y="481"/>
                  </a:lnTo>
                  <a:lnTo>
                    <a:pt x="175" y="483"/>
                  </a:lnTo>
                  <a:lnTo>
                    <a:pt x="182" y="487"/>
                  </a:lnTo>
                  <a:lnTo>
                    <a:pt x="188" y="489"/>
                  </a:lnTo>
                  <a:lnTo>
                    <a:pt x="194" y="489"/>
                  </a:lnTo>
                  <a:lnTo>
                    <a:pt x="201" y="491"/>
                  </a:lnTo>
                  <a:lnTo>
                    <a:pt x="207" y="493"/>
                  </a:lnTo>
                  <a:lnTo>
                    <a:pt x="214" y="493"/>
                  </a:lnTo>
                  <a:lnTo>
                    <a:pt x="220" y="493"/>
                  </a:lnTo>
                  <a:lnTo>
                    <a:pt x="228" y="495"/>
                  </a:lnTo>
                  <a:lnTo>
                    <a:pt x="234" y="497"/>
                  </a:lnTo>
                  <a:lnTo>
                    <a:pt x="241" y="497"/>
                  </a:lnTo>
                  <a:lnTo>
                    <a:pt x="253" y="497"/>
                  </a:lnTo>
                  <a:lnTo>
                    <a:pt x="266" y="497"/>
                  </a:lnTo>
                  <a:lnTo>
                    <a:pt x="275" y="493"/>
                  </a:lnTo>
                  <a:lnTo>
                    <a:pt x="287" y="493"/>
                  </a:lnTo>
                  <a:lnTo>
                    <a:pt x="298" y="489"/>
                  </a:lnTo>
                  <a:lnTo>
                    <a:pt x="308" y="485"/>
                  </a:lnTo>
                  <a:lnTo>
                    <a:pt x="315" y="481"/>
                  </a:lnTo>
                  <a:lnTo>
                    <a:pt x="325" y="478"/>
                  </a:lnTo>
                  <a:lnTo>
                    <a:pt x="330" y="470"/>
                  </a:lnTo>
                  <a:lnTo>
                    <a:pt x="336" y="464"/>
                  </a:lnTo>
                  <a:lnTo>
                    <a:pt x="342" y="457"/>
                  </a:lnTo>
                  <a:lnTo>
                    <a:pt x="348" y="451"/>
                  </a:lnTo>
                  <a:lnTo>
                    <a:pt x="351" y="445"/>
                  </a:lnTo>
                  <a:lnTo>
                    <a:pt x="355" y="438"/>
                  </a:lnTo>
                  <a:lnTo>
                    <a:pt x="359" y="430"/>
                  </a:lnTo>
                  <a:lnTo>
                    <a:pt x="365" y="424"/>
                  </a:lnTo>
                  <a:lnTo>
                    <a:pt x="368" y="417"/>
                  </a:lnTo>
                  <a:lnTo>
                    <a:pt x="370" y="409"/>
                  </a:lnTo>
                  <a:lnTo>
                    <a:pt x="374" y="403"/>
                  </a:lnTo>
                  <a:lnTo>
                    <a:pt x="382" y="400"/>
                  </a:lnTo>
                  <a:lnTo>
                    <a:pt x="384" y="396"/>
                  </a:lnTo>
                  <a:lnTo>
                    <a:pt x="391" y="392"/>
                  </a:lnTo>
                  <a:lnTo>
                    <a:pt x="397" y="390"/>
                  </a:lnTo>
                  <a:lnTo>
                    <a:pt x="405" y="390"/>
                  </a:lnTo>
                  <a:lnTo>
                    <a:pt x="412" y="388"/>
                  </a:lnTo>
                  <a:lnTo>
                    <a:pt x="422" y="390"/>
                  </a:lnTo>
                  <a:lnTo>
                    <a:pt x="431" y="392"/>
                  </a:lnTo>
                  <a:lnTo>
                    <a:pt x="443" y="396"/>
                  </a:lnTo>
                  <a:lnTo>
                    <a:pt x="454" y="400"/>
                  </a:lnTo>
                  <a:lnTo>
                    <a:pt x="465" y="405"/>
                  </a:lnTo>
                  <a:lnTo>
                    <a:pt x="477" y="409"/>
                  </a:lnTo>
                  <a:lnTo>
                    <a:pt x="488" y="415"/>
                  </a:lnTo>
                  <a:lnTo>
                    <a:pt x="500" y="420"/>
                  </a:lnTo>
                  <a:lnTo>
                    <a:pt x="511" y="424"/>
                  </a:lnTo>
                  <a:lnTo>
                    <a:pt x="522" y="430"/>
                  </a:lnTo>
                  <a:lnTo>
                    <a:pt x="536" y="436"/>
                  </a:lnTo>
                  <a:lnTo>
                    <a:pt x="545" y="440"/>
                  </a:lnTo>
                  <a:lnTo>
                    <a:pt x="557" y="445"/>
                  </a:lnTo>
                  <a:lnTo>
                    <a:pt x="568" y="447"/>
                  </a:lnTo>
                  <a:lnTo>
                    <a:pt x="578" y="451"/>
                  </a:lnTo>
                  <a:lnTo>
                    <a:pt x="585" y="451"/>
                  </a:lnTo>
                  <a:lnTo>
                    <a:pt x="593" y="451"/>
                  </a:lnTo>
                  <a:lnTo>
                    <a:pt x="599" y="447"/>
                  </a:lnTo>
                  <a:lnTo>
                    <a:pt x="606" y="447"/>
                  </a:lnTo>
                  <a:lnTo>
                    <a:pt x="616" y="440"/>
                  </a:lnTo>
                  <a:lnTo>
                    <a:pt x="625" y="432"/>
                  </a:lnTo>
                  <a:lnTo>
                    <a:pt x="629" y="424"/>
                  </a:lnTo>
                  <a:lnTo>
                    <a:pt x="633" y="417"/>
                  </a:lnTo>
                  <a:lnTo>
                    <a:pt x="635" y="409"/>
                  </a:lnTo>
                  <a:lnTo>
                    <a:pt x="640" y="401"/>
                  </a:lnTo>
                  <a:lnTo>
                    <a:pt x="644" y="392"/>
                  </a:lnTo>
                  <a:lnTo>
                    <a:pt x="648" y="384"/>
                  </a:lnTo>
                  <a:lnTo>
                    <a:pt x="652" y="375"/>
                  </a:lnTo>
                  <a:lnTo>
                    <a:pt x="657" y="365"/>
                  </a:lnTo>
                  <a:lnTo>
                    <a:pt x="661" y="354"/>
                  </a:lnTo>
                  <a:lnTo>
                    <a:pt x="667" y="344"/>
                  </a:lnTo>
                  <a:lnTo>
                    <a:pt x="671" y="333"/>
                  </a:lnTo>
                  <a:lnTo>
                    <a:pt x="676" y="324"/>
                  </a:lnTo>
                  <a:lnTo>
                    <a:pt x="682" y="312"/>
                  </a:lnTo>
                  <a:lnTo>
                    <a:pt x="686" y="301"/>
                  </a:lnTo>
                  <a:lnTo>
                    <a:pt x="692" y="289"/>
                  </a:lnTo>
                  <a:lnTo>
                    <a:pt x="697" y="280"/>
                  </a:lnTo>
                  <a:lnTo>
                    <a:pt x="701" y="267"/>
                  </a:lnTo>
                  <a:lnTo>
                    <a:pt x="705" y="257"/>
                  </a:lnTo>
                  <a:lnTo>
                    <a:pt x="709" y="244"/>
                  </a:lnTo>
                  <a:lnTo>
                    <a:pt x="713" y="234"/>
                  </a:lnTo>
                  <a:lnTo>
                    <a:pt x="714" y="223"/>
                  </a:lnTo>
                  <a:lnTo>
                    <a:pt x="716" y="211"/>
                  </a:lnTo>
                  <a:lnTo>
                    <a:pt x="718" y="202"/>
                  </a:lnTo>
                  <a:lnTo>
                    <a:pt x="718" y="192"/>
                  </a:lnTo>
                  <a:lnTo>
                    <a:pt x="716" y="181"/>
                  </a:lnTo>
                  <a:lnTo>
                    <a:pt x="716" y="170"/>
                  </a:lnTo>
                  <a:lnTo>
                    <a:pt x="713" y="160"/>
                  </a:lnTo>
                  <a:lnTo>
                    <a:pt x="709" y="152"/>
                  </a:lnTo>
                  <a:lnTo>
                    <a:pt x="705" y="141"/>
                  </a:lnTo>
                  <a:lnTo>
                    <a:pt x="699" y="133"/>
                  </a:lnTo>
                  <a:lnTo>
                    <a:pt x="694" y="124"/>
                  </a:lnTo>
                  <a:lnTo>
                    <a:pt x="690" y="118"/>
                  </a:lnTo>
                  <a:lnTo>
                    <a:pt x="682" y="109"/>
                  </a:lnTo>
                  <a:lnTo>
                    <a:pt x="675" y="101"/>
                  </a:lnTo>
                  <a:lnTo>
                    <a:pt x="667" y="94"/>
                  </a:lnTo>
                  <a:lnTo>
                    <a:pt x="661" y="88"/>
                  </a:lnTo>
                  <a:lnTo>
                    <a:pt x="652" y="80"/>
                  </a:lnTo>
                  <a:lnTo>
                    <a:pt x="644" y="75"/>
                  </a:lnTo>
                  <a:lnTo>
                    <a:pt x="635" y="69"/>
                  </a:lnTo>
                  <a:lnTo>
                    <a:pt x="627" y="63"/>
                  </a:lnTo>
                  <a:lnTo>
                    <a:pt x="616" y="57"/>
                  </a:lnTo>
                  <a:lnTo>
                    <a:pt x="606" y="54"/>
                  </a:lnTo>
                  <a:lnTo>
                    <a:pt x="597" y="48"/>
                  </a:lnTo>
                  <a:lnTo>
                    <a:pt x="589" y="44"/>
                  </a:lnTo>
                  <a:lnTo>
                    <a:pt x="578" y="40"/>
                  </a:lnTo>
                  <a:lnTo>
                    <a:pt x="570" y="37"/>
                  </a:lnTo>
                  <a:lnTo>
                    <a:pt x="561" y="33"/>
                  </a:lnTo>
                  <a:lnTo>
                    <a:pt x="553" y="31"/>
                  </a:lnTo>
                  <a:lnTo>
                    <a:pt x="543" y="27"/>
                  </a:lnTo>
                  <a:lnTo>
                    <a:pt x="536" y="23"/>
                  </a:lnTo>
                  <a:lnTo>
                    <a:pt x="526" y="21"/>
                  </a:lnTo>
                  <a:lnTo>
                    <a:pt x="519" y="18"/>
                  </a:lnTo>
                  <a:lnTo>
                    <a:pt x="511" y="16"/>
                  </a:lnTo>
                  <a:lnTo>
                    <a:pt x="503" y="16"/>
                  </a:lnTo>
                  <a:lnTo>
                    <a:pt x="498" y="12"/>
                  </a:lnTo>
                  <a:lnTo>
                    <a:pt x="494" y="12"/>
                  </a:lnTo>
                  <a:lnTo>
                    <a:pt x="481" y="8"/>
                  </a:lnTo>
                  <a:lnTo>
                    <a:pt x="471" y="8"/>
                  </a:lnTo>
                  <a:lnTo>
                    <a:pt x="462" y="8"/>
                  </a:lnTo>
                  <a:lnTo>
                    <a:pt x="452" y="10"/>
                  </a:lnTo>
                  <a:lnTo>
                    <a:pt x="443" y="12"/>
                  </a:lnTo>
                  <a:lnTo>
                    <a:pt x="433" y="16"/>
                  </a:lnTo>
                  <a:lnTo>
                    <a:pt x="422" y="18"/>
                  </a:lnTo>
                  <a:lnTo>
                    <a:pt x="410" y="23"/>
                  </a:lnTo>
                  <a:lnTo>
                    <a:pt x="401" y="25"/>
                  </a:lnTo>
                  <a:lnTo>
                    <a:pt x="393" y="27"/>
                  </a:lnTo>
                  <a:lnTo>
                    <a:pt x="384" y="29"/>
                  </a:lnTo>
                  <a:lnTo>
                    <a:pt x="376" y="31"/>
                  </a:lnTo>
                  <a:lnTo>
                    <a:pt x="367" y="35"/>
                  </a:lnTo>
                  <a:lnTo>
                    <a:pt x="359" y="37"/>
                  </a:lnTo>
                  <a:lnTo>
                    <a:pt x="349" y="38"/>
                  </a:lnTo>
                  <a:lnTo>
                    <a:pt x="342" y="42"/>
                  </a:lnTo>
                  <a:lnTo>
                    <a:pt x="334" y="44"/>
                  </a:lnTo>
                  <a:lnTo>
                    <a:pt x="327" y="46"/>
                  </a:lnTo>
                  <a:lnTo>
                    <a:pt x="319" y="48"/>
                  </a:lnTo>
                  <a:lnTo>
                    <a:pt x="315" y="50"/>
                  </a:lnTo>
                  <a:lnTo>
                    <a:pt x="308" y="52"/>
                  </a:lnTo>
                  <a:lnTo>
                    <a:pt x="304" y="54"/>
                  </a:lnTo>
                  <a:lnTo>
                    <a:pt x="304" y="54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H="1" flipV="1" rot="20995800">
              <a:off x="4246920" y="3707280"/>
              <a:ext cx="439920" cy="368640"/>
            </a:xfrm>
            <a:custGeom>
              <a:avLst/>
              <a:gdLst/>
              <a:ahLst/>
              <a:rect l="l" t="t" r="r" b="b"/>
              <a:pathLst>
                <a:path w="669" h="639">
                  <a:moveTo>
                    <a:pt x="36" y="333"/>
                  </a:moveTo>
                  <a:lnTo>
                    <a:pt x="26" y="327"/>
                  </a:lnTo>
                  <a:lnTo>
                    <a:pt x="19" y="323"/>
                  </a:lnTo>
                  <a:lnTo>
                    <a:pt x="13" y="317"/>
                  </a:lnTo>
                  <a:lnTo>
                    <a:pt x="9" y="314"/>
                  </a:lnTo>
                  <a:lnTo>
                    <a:pt x="5" y="306"/>
                  </a:lnTo>
                  <a:lnTo>
                    <a:pt x="4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2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4" y="165"/>
                  </a:lnTo>
                  <a:lnTo>
                    <a:pt x="7" y="154"/>
                  </a:lnTo>
                  <a:lnTo>
                    <a:pt x="7" y="146"/>
                  </a:lnTo>
                  <a:lnTo>
                    <a:pt x="9" y="139"/>
                  </a:lnTo>
                  <a:lnTo>
                    <a:pt x="11" y="133"/>
                  </a:lnTo>
                  <a:lnTo>
                    <a:pt x="15" y="127"/>
                  </a:lnTo>
                  <a:lnTo>
                    <a:pt x="21" y="116"/>
                  </a:lnTo>
                  <a:lnTo>
                    <a:pt x="28" y="105"/>
                  </a:lnTo>
                  <a:lnTo>
                    <a:pt x="36" y="93"/>
                  </a:lnTo>
                  <a:lnTo>
                    <a:pt x="42" y="82"/>
                  </a:lnTo>
                  <a:lnTo>
                    <a:pt x="51" y="70"/>
                  </a:lnTo>
                  <a:lnTo>
                    <a:pt x="61" y="61"/>
                  </a:lnTo>
                  <a:lnTo>
                    <a:pt x="70" y="51"/>
                  </a:lnTo>
                  <a:lnTo>
                    <a:pt x="82" y="44"/>
                  </a:lnTo>
                  <a:lnTo>
                    <a:pt x="93" y="36"/>
                  </a:lnTo>
                  <a:lnTo>
                    <a:pt x="102" y="29"/>
                  </a:lnTo>
                  <a:lnTo>
                    <a:pt x="114" y="23"/>
                  </a:lnTo>
                  <a:lnTo>
                    <a:pt x="125" y="17"/>
                  </a:lnTo>
                  <a:lnTo>
                    <a:pt x="135" y="13"/>
                  </a:lnTo>
                  <a:lnTo>
                    <a:pt x="148" y="10"/>
                  </a:lnTo>
                  <a:lnTo>
                    <a:pt x="158" y="6"/>
                  </a:lnTo>
                  <a:lnTo>
                    <a:pt x="171" y="4"/>
                  </a:lnTo>
                  <a:lnTo>
                    <a:pt x="182" y="2"/>
                  </a:lnTo>
                  <a:lnTo>
                    <a:pt x="194" y="2"/>
                  </a:lnTo>
                  <a:lnTo>
                    <a:pt x="205" y="0"/>
                  </a:lnTo>
                  <a:lnTo>
                    <a:pt x="215" y="2"/>
                  </a:lnTo>
                  <a:lnTo>
                    <a:pt x="226" y="2"/>
                  </a:lnTo>
                  <a:lnTo>
                    <a:pt x="237" y="6"/>
                  </a:lnTo>
                  <a:lnTo>
                    <a:pt x="247" y="8"/>
                  </a:lnTo>
                  <a:lnTo>
                    <a:pt x="258" y="13"/>
                  </a:lnTo>
                  <a:lnTo>
                    <a:pt x="270" y="15"/>
                  </a:lnTo>
                  <a:lnTo>
                    <a:pt x="279" y="23"/>
                  </a:lnTo>
                  <a:lnTo>
                    <a:pt x="289" y="29"/>
                  </a:lnTo>
                  <a:lnTo>
                    <a:pt x="296" y="36"/>
                  </a:lnTo>
                  <a:lnTo>
                    <a:pt x="306" y="42"/>
                  </a:lnTo>
                  <a:lnTo>
                    <a:pt x="313" y="51"/>
                  </a:lnTo>
                  <a:lnTo>
                    <a:pt x="321" y="59"/>
                  </a:lnTo>
                  <a:lnTo>
                    <a:pt x="329" y="68"/>
                  </a:lnTo>
                  <a:lnTo>
                    <a:pt x="336" y="74"/>
                  </a:lnTo>
                  <a:lnTo>
                    <a:pt x="344" y="84"/>
                  </a:lnTo>
                  <a:lnTo>
                    <a:pt x="352" y="91"/>
                  </a:lnTo>
                  <a:lnTo>
                    <a:pt x="357" y="99"/>
                  </a:lnTo>
                  <a:lnTo>
                    <a:pt x="365" y="106"/>
                  </a:lnTo>
                  <a:lnTo>
                    <a:pt x="372" y="112"/>
                  </a:lnTo>
                  <a:lnTo>
                    <a:pt x="380" y="118"/>
                  </a:lnTo>
                  <a:lnTo>
                    <a:pt x="386" y="122"/>
                  </a:lnTo>
                  <a:lnTo>
                    <a:pt x="393" y="125"/>
                  </a:lnTo>
                  <a:lnTo>
                    <a:pt x="403" y="129"/>
                  </a:lnTo>
                  <a:lnTo>
                    <a:pt x="409" y="129"/>
                  </a:lnTo>
                  <a:lnTo>
                    <a:pt x="416" y="131"/>
                  </a:lnTo>
                  <a:lnTo>
                    <a:pt x="424" y="129"/>
                  </a:lnTo>
                  <a:lnTo>
                    <a:pt x="431" y="129"/>
                  </a:lnTo>
                  <a:lnTo>
                    <a:pt x="439" y="125"/>
                  </a:lnTo>
                  <a:lnTo>
                    <a:pt x="447" y="122"/>
                  </a:lnTo>
                  <a:lnTo>
                    <a:pt x="454" y="120"/>
                  </a:lnTo>
                  <a:lnTo>
                    <a:pt x="464" y="116"/>
                  </a:lnTo>
                  <a:lnTo>
                    <a:pt x="469" y="112"/>
                  </a:lnTo>
                  <a:lnTo>
                    <a:pt x="479" y="106"/>
                  </a:lnTo>
                  <a:lnTo>
                    <a:pt x="486" y="103"/>
                  </a:lnTo>
                  <a:lnTo>
                    <a:pt x="494" y="99"/>
                  </a:lnTo>
                  <a:lnTo>
                    <a:pt x="500" y="95"/>
                  </a:lnTo>
                  <a:lnTo>
                    <a:pt x="507" y="91"/>
                  </a:lnTo>
                  <a:lnTo>
                    <a:pt x="515" y="87"/>
                  </a:lnTo>
                  <a:lnTo>
                    <a:pt x="521" y="87"/>
                  </a:lnTo>
                  <a:lnTo>
                    <a:pt x="534" y="86"/>
                  </a:lnTo>
                  <a:lnTo>
                    <a:pt x="545" y="87"/>
                  </a:lnTo>
                  <a:lnTo>
                    <a:pt x="557" y="91"/>
                  </a:lnTo>
                  <a:lnTo>
                    <a:pt x="566" y="99"/>
                  </a:lnTo>
                  <a:lnTo>
                    <a:pt x="572" y="103"/>
                  </a:lnTo>
                  <a:lnTo>
                    <a:pt x="576" y="110"/>
                  </a:lnTo>
                  <a:lnTo>
                    <a:pt x="582" y="118"/>
                  </a:lnTo>
                  <a:lnTo>
                    <a:pt x="587" y="125"/>
                  </a:lnTo>
                  <a:lnTo>
                    <a:pt x="591" y="135"/>
                  </a:lnTo>
                  <a:lnTo>
                    <a:pt x="599" y="144"/>
                  </a:lnTo>
                  <a:lnTo>
                    <a:pt x="601" y="150"/>
                  </a:lnTo>
                  <a:lnTo>
                    <a:pt x="602" y="156"/>
                  </a:lnTo>
                  <a:lnTo>
                    <a:pt x="606" y="164"/>
                  </a:lnTo>
                  <a:lnTo>
                    <a:pt x="610" y="171"/>
                  </a:lnTo>
                  <a:lnTo>
                    <a:pt x="616" y="181"/>
                  </a:lnTo>
                  <a:lnTo>
                    <a:pt x="621" y="194"/>
                  </a:lnTo>
                  <a:lnTo>
                    <a:pt x="623" y="202"/>
                  </a:lnTo>
                  <a:lnTo>
                    <a:pt x="627" y="209"/>
                  </a:lnTo>
                  <a:lnTo>
                    <a:pt x="631" y="217"/>
                  </a:lnTo>
                  <a:lnTo>
                    <a:pt x="635" y="222"/>
                  </a:lnTo>
                  <a:lnTo>
                    <a:pt x="637" y="230"/>
                  </a:lnTo>
                  <a:lnTo>
                    <a:pt x="640" y="238"/>
                  </a:lnTo>
                  <a:lnTo>
                    <a:pt x="642" y="245"/>
                  </a:lnTo>
                  <a:lnTo>
                    <a:pt x="646" y="251"/>
                  </a:lnTo>
                  <a:lnTo>
                    <a:pt x="648" y="259"/>
                  </a:lnTo>
                  <a:lnTo>
                    <a:pt x="650" y="268"/>
                  </a:lnTo>
                  <a:lnTo>
                    <a:pt x="654" y="276"/>
                  </a:lnTo>
                  <a:lnTo>
                    <a:pt x="656" y="283"/>
                  </a:lnTo>
                  <a:lnTo>
                    <a:pt x="658" y="291"/>
                  </a:lnTo>
                  <a:lnTo>
                    <a:pt x="659" y="298"/>
                  </a:lnTo>
                  <a:lnTo>
                    <a:pt x="661" y="306"/>
                  </a:lnTo>
                  <a:lnTo>
                    <a:pt x="663" y="314"/>
                  </a:lnTo>
                  <a:lnTo>
                    <a:pt x="663" y="321"/>
                  </a:lnTo>
                  <a:lnTo>
                    <a:pt x="665" y="329"/>
                  </a:lnTo>
                  <a:lnTo>
                    <a:pt x="665" y="335"/>
                  </a:lnTo>
                  <a:lnTo>
                    <a:pt x="669" y="344"/>
                  </a:lnTo>
                  <a:lnTo>
                    <a:pt x="669" y="352"/>
                  </a:lnTo>
                  <a:lnTo>
                    <a:pt x="669" y="357"/>
                  </a:lnTo>
                  <a:lnTo>
                    <a:pt x="669" y="365"/>
                  </a:lnTo>
                  <a:lnTo>
                    <a:pt x="669" y="373"/>
                  </a:lnTo>
                  <a:lnTo>
                    <a:pt x="669" y="378"/>
                  </a:lnTo>
                  <a:lnTo>
                    <a:pt x="669" y="386"/>
                  </a:lnTo>
                  <a:lnTo>
                    <a:pt x="667" y="392"/>
                  </a:lnTo>
                  <a:lnTo>
                    <a:pt x="667" y="399"/>
                  </a:lnTo>
                  <a:lnTo>
                    <a:pt x="665" y="403"/>
                  </a:lnTo>
                  <a:lnTo>
                    <a:pt x="663" y="411"/>
                  </a:lnTo>
                  <a:lnTo>
                    <a:pt x="661" y="416"/>
                  </a:lnTo>
                  <a:lnTo>
                    <a:pt x="661" y="424"/>
                  </a:lnTo>
                  <a:lnTo>
                    <a:pt x="659" y="430"/>
                  </a:lnTo>
                  <a:lnTo>
                    <a:pt x="659" y="437"/>
                  </a:lnTo>
                  <a:lnTo>
                    <a:pt x="658" y="445"/>
                  </a:lnTo>
                  <a:lnTo>
                    <a:pt x="658" y="452"/>
                  </a:lnTo>
                  <a:lnTo>
                    <a:pt x="656" y="460"/>
                  </a:lnTo>
                  <a:lnTo>
                    <a:pt x="656" y="468"/>
                  </a:lnTo>
                  <a:lnTo>
                    <a:pt x="654" y="473"/>
                  </a:lnTo>
                  <a:lnTo>
                    <a:pt x="654" y="483"/>
                  </a:lnTo>
                  <a:lnTo>
                    <a:pt x="652" y="490"/>
                  </a:lnTo>
                  <a:lnTo>
                    <a:pt x="650" y="496"/>
                  </a:lnTo>
                  <a:lnTo>
                    <a:pt x="650" y="506"/>
                  </a:lnTo>
                  <a:lnTo>
                    <a:pt x="648" y="513"/>
                  </a:lnTo>
                  <a:lnTo>
                    <a:pt x="646" y="521"/>
                  </a:lnTo>
                  <a:lnTo>
                    <a:pt x="642" y="528"/>
                  </a:lnTo>
                  <a:lnTo>
                    <a:pt x="640" y="536"/>
                  </a:lnTo>
                  <a:lnTo>
                    <a:pt x="639" y="542"/>
                  </a:lnTo>
                  <a:lnTo>
                    <a:pt x="635" y="549"/>
                  </a:lnTo>
                  <a:lnTo>
                    <a:pt x="631" y="555"/>
                  </a:lnTo>
                  <a:lnTo>
                    <a:pt x="627" y="563"/>
                  </a:lnTo>
                  <a:lnTo>
                    <a:pt x="623" y="570"/>
                  </a:lnTo>
                  <a:lnTo>
                    <a:pt x="614" y="580"/>
                  </a:lnTo>
                  <a:lnTo>
                    <a:pt x="604" y="593"/>
                  </a:lnTo>
                  <a:lnTo>
                    <a:pt x="597" y="597"/>
                  </a:lnTo>
                  <a:lnTo>
                    <a:pt x="591" y="603"/>
                  </a:lnTo>
                  <a:lnTo>
                    <a:pt x="583" y="606"/>
                  </a:lnTo>
                  <a:lnTo>
                    <a:pt x="576" y="612"/>
                  </a:lnTo>
                  <a:lnTo>
                    <a:pt x="566" y="614"/>
                  </a:lnTo>
                  <a:lnTo>
                    <a:pt x="557" y="616"/>
                  </a:lnTo>
                  <a:lnTo>
                    <a:pt x="547" y="620"/>
                  </a:lnTo>
                  <a:lnTo>
                    <a:pt x="540" y="622"/>
                  </a:lnTo>
                  <a:lnTo>
                    <a:pt x="528" y="625"/>
                  </a:lnTo>
                  <a:lnTo>
                    <a:pt x="519" y="627"/>
                  </a:lnTo>
                  <a:lnTo>
                    <a:pt x="509" y="629"/>
                  </a:lnTo>
                  <a:lnTo>
                    <a:pt x="500" y="633"/>
                  </a:lnTo>
                  <a:lnTo>
                    <a:pt x="488" y="633"/>
                  </a:lnTo>
                  <a:lnTo>
                    <a:pt x="479" y="635"/>
                  </a:lnTo>
                  <a:lnTo>
                    <a:pt x="467" y="635"/>
                  </a:lnTo>
                  <a:lnTo>
                    <a:pt x="458" y="637"/>
                  </a:lnTo>
                  <a:lnTo>
                    <a:pt x="447" y="637"/>
                  </a:lnTo>
                  <a:lnTo>
                    <a:pt x="437" y="639"/>
                  </a:lnTo>
                  <a:lnTo>
                    <a:pt x="428" y="639"/>
                  </a:lnTo>
                  <a:lnTo>
                    <a:pt x="418" y="639"/>
                  </a:lnTo>
                  <a:lnTo>
                    <a:pt x="407" y="639"/>
                  </a:lnTo>
                  <a:lnTo>
                    <a:pt x="397" y="639"/>
                  </a:lnTo>
                  <a:lnTo>
                    <a:pt x="388" y="637"/>
                  </a:lnTo>
                  <a:lnTo>
                    <a:pt x="380" y="637"/>
                  </a:lnTo>
                  <a:lnTo>
                    <a:pt x="371" y="635"/>
                  </a:lnTo>
                  <a:lnTo>
                    <a:pt x="361" y="635"/>
                  </a:lnTo>
                  <a:lnTo>
                    <a:pt x="353" y="633"/>
                  </a:lnTo>
                  <a:lnTo>
                    <a:pt x="346" y="633"/>
                  </a:lnTo>
                  <a:lnTo>
                    <a:pt x="338" y="629"/>
                  </a:lnTo>
                  <a:lnTo>
                    <a:pt x="331" y="627"/>
                  </a:lnTo>
                  <a:lnTo>
                    <a:pt x="325" y="625"/>
                  </a:lnTo>
                  <a:lnTo>
                    <a:pt x="319" y="622"/>
                  </a:lnTo>
                  <a:lnTo>
                    <a:pt x="308" y="616"/>
                  </a:lnTo>
                  <a:lnTo>
                    <a:pt x="302" y="612"/>
                  </a:lnTo>
                  <a:lnTo>
                    <a:pt x="294" y="603"/>
                  </a:lnTo>
                  <a:lnTo>
                    <a:pt x="289" y="593"/>
                  </a:lnTo>
                  <a:lnTo>
                    <a:pt x="285" y="585"/>
                  </a:lnTo>
                  <a:lnTo>
                    <a:pt x="283" y="580"/>
                  </a:lnTo>
                  <a:lnTo>
                    <a:pt x="279" y="572"/>
                  </a:lnTo>
                  <a:lnTo>
                    <a:pt x="277" y="566"/>
                  </a:lnTo>
                  <a:lnTo>
                    <a:pt x="274" y="559"/>
                  </a:lnTo>
                  <a:lnTo>
                    <a:pt x="274" y="549"/>
                  </a:lnTo>
                  <a:lnTo>
                    <a:pt x="270" y="542"/>
                  </a:lnTo>
                  <a:lnTo>
                    <a:pt x="270" y="532"/>
                  </a:lnTo>
                  <a:lnTo>
                    <a:pt x="268" y="523"/>
                  </a:lnTo>
                  <a:lnTo>
                    <a:pt x="266" y="515"/>
                  </a:lnTo>
                  <a:lnTo>
                    <a:pt x="264" y="506"/>
                  </a:lnTo>
                  <a:lnTo>
                    <a:pt x="262" y="496"/>
                  </a:lnTo>
                  <a:lnTo>
                    <a:pt x="258" y="487"/>
                  </a:lnTo>
                  <a:lnTo>
                    <a:pt x="258" y="477"/>
                  </a:lnTo>
                  <a:lnTo>
                    <a:pt x="255" y="468"/>
                  </a:lnTo>
                  <a:lnTo>
                    <a:pt x="253" y="458"/>
                  </a:lnTo>
                  <a:lnTo>
                    <a:pt x="251" y="449"/>
                  </a:lnTo>
                  <a:lnTo>
                    <a:pt x="247" y="441"/>
                  </a:lnTo>
                  <a:lnTo>
                    <a:pt x="245" y="432"/>
                  </a:lnTo>
                  <a:lnTo>
                    <a:pt x="245" y="426"/>
                  </a:lnTo>
                  <a:lnTo>
                    <a:pt x="241" y="416"/>
                  </a:lnTo>
                  <a:lnTo>
                    <a:pt x="237" y="409"/>
                  </a:lnTo>
                  <a:lnTo>
                    <a:pt x="236" y="401"/>
                  </a:lnTo>
                  <a:lnTo>
                    <a:pt x="232" y="395"/>
                  </a:lnTo>
                  <a:lnTo>
                    <a:pt x="228" y="388"/>
                  </a:lnTo>
                  <a:lnTo>
                    <a:pt x="226" y="382"/>
                  </a:lnTo>
                  <a:lnTo>
                    <a:pt x="222" y="376"/>
                  </a:lnTo>
                  <a:lnTo>
                    <a:pt x="218" y="374"/>
                  </a:lnTo>
                  <a:lnTo>
                    <a:pt x="209" y="365"/>
                  </a:lnTo>
                  <a:lnTo>
                    <a:pt x="199" y="357"/>
                  </a:lnTo>
                  <a:lnTo>
                    <a:pt x="190" y="352"/>
                  </a:lnTo>
                  <a:lnTo>
                    <a:pt x="178" y="348"/>
                  </a:lnTo>
                  <a:lnTo>
                    <a:pt x="165" y="344"/>
                  </a:lnTo>
                  <a:lnTo>
                    <a:pt x="154" y="344"/>
                  </a:lnTo>
                  <a:lnTo>
                    <a:pt x="142" y="342"/>
                  </a:lnTo>
                  <a:lnTo>
                    <a:pt x="129" y="342"/>
                  </a:lnTo>
                  <a:lnTo>
                    <a:pt x="121" y="342"/>
                  </a:lnTo>
                  <a:lnTo>
                    <a:pt x="116" y="342"/>
                  </a:lnTo>
                  <a:lnTo>
                    <a:pt x="110" y="342"/>
                  </a:lnTo>
                  <a:lnTo>
                    <a:pt x="102" y="342"/>
                  </a:lnTo>
                  <a:lnTo>
                    <a:pt x="91" y="340"/>
                  </a:lnTo>
                  <a:lnTo>
                    <a:pt x="78" y="340"/>
                  </a:lnTo>
                  <a:lnTo>
                    <a:pt x="66" y="338"/>
                  </a:lnTo>
                  <a:lnTo>
                    <a:pt x="55" y="336"/>
                  </a:lnTo>
                  <a:lnTo>
                    <a:pt x="45" y="335"/>
                  </a:lnTo>
                  <a:lnTo>
                    <a:pt x="36" y="333"/>
                  </a:lnTo>
                  <a:lnTo>
                    <a:pt x="36" y="333"/>
                  </a:lnTo>
                  <a:close/>
                </a:path>
              </a:pathLst>
            </a:custGeom>
            <a:solidFill>
              <a:srgbClr val="ff4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 flipV="1" rot="20995800">
              <a:off x="3827520" y="3750120"/>
              <a:ext cx="384480" cy="408600"/>
            </a:xfrm>
            <a:custGeom>
              <a:avLst/>
              <a:gdLst/>
              <a:ahLst/>
              <a:rect l="l" t="t" r="r" b="b"/>
              <a:pathLst>
                <a:path w="585" h="709">
                  <a:moveTo>
                    <a:pt x="496" y="44"/>
                  </a:moveTo>
                  <a:lnTo>
                    <a:pt x="492" y="40"/>
                  </a:lnTo>
                  <a:lnTo>
                    <a:pt x="483" y="37"/>
                  </a:lnTo>
                  <a:lnTo>
                    <a:pt x="473" y="33"/>
                  </a:lnTo>
                  <a:lnTo>
                    <a:pt x="466" y="29"/>
                  </a:lnTo>
                  <a:lnTo>
                    <a:pt x="456" y="25"/>
                  </a:lnTo>
                  <a:lnTo>
                    <a:pt x="449" y="21"/>
                  </a:lnTo>
                  <a:lnTo>
                    <a:pt x="437" y="18"/>
                  </a:lnTo>
                  <a:lnTo>
                    <a:pt x="426" y="14"/>
                  </a:lnTo>
                  <a:lnTo>
                    <a:pt x="412" y="10"/>
                  </a:lnTo>
                  <a:lnTo>
                    <a:pt x="401" y="8"/>
                  </a:lnTo>
                  <a:lnTo>
                    <a:pt x="393" y="4"/>
                  </a:lnTo>
                  <a:lnTo>
                    <a:pt x="386" y="4"/>
                  </a:lnTo>
                  <a:lnTo>
                    <a:pt x="380" y="2"/>
                  </a:lnTo>
                  <a:lnTo>
                    <a:pt x="372" y="2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31" y="0"/>
                  </a:lnTo>
                  <a:lnTo>
                    <a:pt x="325" y="0"/>
                  </a:lnTo>
                  <a:lnTo>
                    <a:pt x="317" y="4"/>
                  </a:lnTo>
                  <a:lnTo>
                    <a:pt x="310" y="4"/>
                  </a:lnTo>
                  <a:lnTo>
                    <a:pt x="302" y="6"/>
                  </a:lnTo>
                  <a:lnTo>
                    <a:pt x="296" y="8"/>
                  </a:lnTo>
                  <a:lnTo>
                    <a:pt x="289" y="10"/>
                  </a:lnTo>
                  <a:lnTo>
                    <a:pt x="283" y="12"/>
                  </a:lnTo>
                  <a:lnTo>
                    <a:pt x="276" y="14"/>
                  </a:lnTo>
                  <a:lnTo>
                    <a:pt x="268" y="14"/>
                  </a:lnTo>
                  <a:lnTo>
                    <a:pt x="262" y="18"/>
                  </a:lnTo>
                  <a:lnTo>
                    <a:pt x="255" y="18"/>
                  </a:lnTo>
                  <a:lnTo>
                    <a:pt x="247" y="21"/>
                  </a:lnTo>
                  <a:lnTo>
                    <a:pt x="241" y="23"/>
                  </a:lnTo>
                  <a:lnTo>
                    <a:pt x="236" y="27"/>
                  </a:lnTo>
                  <a:lnTo>
                    <a:pt x="228" y="27"/>
                  </a:lnTo>
                  <a:lnTo>
                    <a:pt x="220" y="31"/>
                  </a:lnTo>
                  <a:lnTo>
                    <a:pt x="213" y="33"/>
                  </a:lnTo>
                  <a:lnTo>
                    <a:pt x="207" y="37"/>
                  </a:lnTo>
                  <a:lnTo>
                    <a:pt x="199" y="37"/>
                  </a:lnTo>
                  <a:lnTo>
                    <a:pt x="194" y="40"/>
                  </a:lnTo>
                  <a:lnTo>
                    <a:pt x="186" y="42"/>
                  </a:lnTo>
                  <a:lnTo>
                    <a:pt x="180" y="46"/>
                  </a:lnTo>
                  <a:lnTo>
                    <a:pt x="167" y="50"/>
                  </a:lnTo>
                  <a:lnTo>
                    <a:pt x="156" y="54"/>
                  </a:lnTo>
                  <a:lnTo>
                    <a:pt x="142" y="56"/>
                  </a:lnTo>
                  <a:lnTo>
                    <a:pt x="131" y="59"/>
                  </a:lnTo>
                  <a:lnTo>
                    <a:pt x="120" y="59"/>
                  </a:lnTo>
                  <a:lnTo>
                    <a:pt x="108" y="63"/>
                  </a:lnTo>
                  <a:lnTo>
                    <a:pt x="97" y="67"/>
                  </a:lnTo>
                  <a:lnTo>
                    <a:pt x="87" y="73"/>
                  </a:lnTo>
                  <a:lnTo>
                    <a:pt x="78" y="78"/>
                  </a:lnTo>
                  <a:lnTo>
                    <a:pt x="70" y="86"/>
                  </a:lnTo>
                  <a:lnTo>
                    <a:pt x="61" y="94"/>
                  </a:lnTo>
                  <a:lnTo>
                    <a:pt x="55" y="101"/>
                  </a:lnTo>
                  <a:lnTo>
                    <a:pt x="45" y="109"/>
                  </a:lnTo>
                  <a:lnTo>
                    <a:pt x="38" y="118"/>
                  </a:lnTo>
                  <a:lnTo>
                    <a:pt x="32" y="128"/>
                  </a:lnTo>
                  <a:lnTo>
                    <a:pt x="28" y="139"/>
                  </a:lnTo>
                  <a:lnTo>
                    <a:pt x="23" y="149"/>
                  </a:lnTo>
                  <a:lnTo>
                    <a:pt x="17" y="160"/>
                  </a:lnTo>
                  <a:lnTo>
                    <a:pt x="13" y="170"/>
                  </a:lnTo>
                  <a:lnTo>
                    <a:pt x="9" y="181"/>
                  </a:lnTo>
                  <a:lnTo>
                    <a:pt x="7" y="191"/>
                  </a:lnTo>
                  <a:lnTo>
                    <a:pt x="6" y="200"/>
                  </a:lnTo>
                  <a:lnTo>
                    <a:pt x="4" y="210"/>
                  </a:lnTo>
                  <a:lnTo>
                    <a:pt x="2" y="221"/>
                  </a:lnTo>
                  <a:lnTo>
                    <a:pt x="0" y="230"/>
                  </a:lnTo>
                  <a:lnTo>
                    <a:pt x="0" y="240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80"/>
                  </a:lnTo>
                  <a:lnTo>
                    <a:pt x="2" y="289"/>
                  </a:lnTo>
                  <a:lnTo>
                    <a:pt x="4" y="299"/>
                  </a:lnTo>
                  <a:lnTo>
                    <a:pt x="4" y="308"/>
                  </a:lnTo>
                  <a:lnTo>
                    <a:pt x="4" y="318"/>
                  </a:lnTo>
                  <a:lnTo>
                    <a:pt x="6" y="329"/>
                  </a:lnTo>
                  <a:lnTo>
                    <a:pt x="7" y="341"/>
                  </a:lnTo>
                  <a:lnTo>
                    <a:pt x="7" y="350"/>
                  </a:lnTo>
                  <a:lnTo>
                    <a:pt x="9" y="360"/>
                  </a:lnTo>
                  <a:lnTo>
                    <a:pt x="9" y="369"/>
                  </a:lnTo>
                  <a:lnTo>
                    <a:pt x="9" y="381"/>
                  </a:lnTo>
                  <a:lnTo>
                    <a:pt x="11" y="390"/>
                  </a:lnTo>
                  <a:lnTo>
                    <a:pt x="13" y="401"/>
                  </a:lnTo>
                  <a:lnTo>
                    <a:pt x="13" y="411"/>
                  </a:lnTo>
                  <a:lnTo>
                    <a:pt x="17" y="421"/>
                  </a:lnTo>
                  <a:lnTo>
                    <a:pt x="19" y="428"/>
                  </a:lnTo>
                  <a:lnTo>
                    <a:pt x="21" y="438"/>
                  </a:lnTo>
                  <a:lnTo>
                    <a:pt x="25" y="443"/>
                  </a:lnTo>
                  <a:lnTo>
                    <a:pt x="28" y="453"/>
                  </a:lnTo>
                  <a:lnTo>
                    <a:pt x="32" y="459"/>
                  </a:lnTo>
                  <a:lnTo>
                    <a:pt x="38" y="464"/>
                  </a:lnTo>
                  <a:lnTo>
                    <a:pt x="44" y="470"/>
                  </a:lnTo>
                  <a:lnTo>
                    <a:pt x="51" y="474"/>
                  </a:lnTo>
                  <a:lnTo>
                    <a:pt x="57" y="476"/>
                  </a:lnTo>
                  <a:lnTo>
                    <a:pt x="64" y="478"/>
                  </a:lnTo>
                  <a:lnTo>
                    <a:pt x="72" y="478"/>
                  </a:lnTo>
                  <a:lnTo>
                    <a:pt x="82" y="479"/>
                  </a:lnTo>
                  <a:lnTo>
                    <a:pt x="91" y="478"/>
                  </a:lnTo>
                  <a:lnTo>
                    <a:pt x="101" y="478"/>
                  </a:lnTo>
                  <a:lnTo>
                    <a:pt x="110" y="476"/>
                  </a:lnTo>
                  <a:lnTo>
                    <a:pt x="122" y="476"/>
                  </a:lnTo>
                  <a:lnTo>
                    <a:pt x="129" y="476"/>
                  </a:lnTo>
                  <a:lnTo>
                    <a:pt x="139" y="476"/>
                  </a:lnTo>
                  <a:lnTo>
                    <a:pt x="148" y="476"/>
                  </a:lnTo>
                  <a:lnTo>
                    <a:pt x="158" y="476"/>
                  </a:lnTo>
                  <a:lnTo>
                    <a:pt x="163" y="478"/>
                  </a:lnTo>
                  <a:lnTo>
                    <a:pt x="171" y="481"/>
                  </a:lnTo>
                  <a:lnTo>
                    <a:pt x="177" y="483"/>
                  </a:lnTo>
                  <a:lnTo>
                    <a:pt x="184" y="489"/>
                  </a:lnTo>
                  <a:lnTo>
                    <a:pt x="186" y="495"/>
                  </a:lnTo>
                  <a:lnTo>
                    <a:pt x="190" y="502"/>
                  </a:lnTo>
                  <a:lnTo>
                    <a:pt x="192" y="510"/>
                  </a:lnTo>
                  <a:lnTo>
                    <a:pt x="194" y="519"/>
                  </a:lnTo>
                  <a:lnTo>
                    <a:pt x="194" y="529"/>
                  </a:lnTo>
                  <a:lnTo>
                    <a:pt x="196" y="540"/>
                  </a:lnTo>
                  <a:lnTo>
                    <a:pt x="196" y="550"/>
                  </a:lnTo>
                  <a:lnTo>
                    <a:pt x="198" y="563"/>
                  </a:lnTo>
                  <a:lnTo>
                    <a:pt x="198" y="573"/>
                  </a:lnTo>
                  <a:lnTo>
                    <a:pt x="199" y="586"/>
                  </a:lnTo>
                  <a:lnTo>
                    <a:pt x="199" y="595"/>
                  </a:lnTo>
                  <a:lnTo>
                    <a:pt x="203" y="609"/>
                  </a:lnTo>
                  <a:lnTo>
                    <a:pt x="203" y="618"/>
                  </a:lnTo>
                  <a:lnTo>
                    <a:pt x="207" y="630"/>
                  </a:lnTo>
                  <a:lnTo>
                    <a:pt x="211" y="641"/>
                  </a:lnTo>
                  <a:lnTo>
                    <a:pt x="218" y="650"/>
                  </a:lnTo>
                  <a:lnTo>
                    <a:pt x="222" y="660"/>
                  </a:lnTo>
                  <a:lnTo>
                    <a:pt x="230" y="668"/>
                  </a:lnTo>
                  <a:lnTo>
                    <a:pt x="237" y="675"/>
                  </a:lnTo>
                  <a:lnTo>
                    <a:pt x="247" y="683"/>
                  </a:lnTo>
                  <a:lnTo>
                    <a:pt x="255" y="689"/>
                  </a:lnTo>
                  <a:lnTo>
                    <a:pt x="266" y="694"/>
                  </a:lnTo>
                  <a:lnTo>
                    <a:pt x="277" y="698"/>
                  </a:lnTo>
                  <a:lnTo>
                    <a:pt x="289" y="702"/>
                  </a:lnTo>
                  <a:lnTo>
                    <a:pt x="300" y="704"/>
                  </a:lnTo>
                  <a:lnTo>
                    <a:pt x="312" y="708"/>
                  </a:lnTo>
                  <a:lnTo>
                    <a:pt x="325" y="708"/>
                  </a:lnTo>
                  <a:lnTo>
                    <a:pt x="338" y="709"/>
                  </a:lnTo>
                  <a:lnTo>
                    <a:pt x="348" y="708"/>
                  </a:lnTo>
                  <a:lnTo>
                    <a:pt x="361" y="708"/>
                  </a:lnTo>
                  <a:lnTo>
                    <a:pt x="371" y="704"/>
                  </a:lnTo>
                  <a:lnTo>
                    <a:pt x="382" y="702"/>
                  </a:lnTo>
                  <a:lnTo>
                    <a:pt x="391" y="698"/>
                  </a:lnTo>
                  <a:lnTo>
                    <a:pt x="401" y="694"/>
                  </a:lnTo>
                  <a:lnTo>
                    <a:pt x="409" y="689"/>
                  </a:lnTo>
                  <a:lnTo>
                    <a:pt x="418" y="683"/>
                  </a:lnTo>
                  <a:lnTo>
                    <a:pt x="428" y="675"/>
                  </a:lnTo>
                  <a:lnTo>
                    <a:pt x="435" y="670"/>
                  </a:lnTo>
                  <a:lnTo>
                    <a:pt x="443" y="660"/>
                  </a:lnTo>
                  <a:lnTo>
                    <a:pt x="450" y="652"/>
                  </a:lnTo>
                  <a:lnTo>
                    <a:pt x="456" y="641"/>
                  </a:lnTo>
                  <a:lnTo>
                    <a:pt x="464" y="631"/>
                  </a:lnTo>
                  <a:lnTo>
                    <a:pt x="469" y="620"/>
                  </a:lnTo>
                  <a:lnTo>
                    <a:pt x="477" y="611"/>
                  </a:lnTo>
                  <a:lnTo>
                    <a:pt x="483" y="597"/>
                  </a:lnTo>
                  <a:lnTo>
                    <a:pt x="488" y="586"/>
                  </a:lnTo>
                  <a:lnTo>
                    <a:pt x="494" y="574"/>
                  </a:lnTo>
                  <a:lnTo>
                    <a:pt x="502" y="563"/>
                  </a:lnTo>
                  <a:lnTo>
                    <a:pt x="504" y="555"/>
                  </a:lnTo>
                  <a:lnTo>
                    <a:pt x="507" y="550"/>
                  </a:lnTo>
                  <a:lnTo>
                    <a:pt x="509" y="542"/>
                  </a:lnTo>
                  <a:lnTo>
                    <a:pt x="513" y="536"/>
                  </a:lnTo>
                  <a:lnTo>
                    <a:pt x="515" y="529"/>
                  </a:lnTo>
                  <a:lnTo>
                    <a:pt x="519" y="521"/>
                  </a:lnTo>
                  <a:lnTo>
                    <a:pt x="521" y="514"/>
                  </a:lnTo>
                  <a:lnTo>
                    <a:pt x="525" y="508"/>
                  </a:lnTo>
                  <a:lnTo>
                    <a:pt x="528" y="500"/>
                  </a:lnTo>
                  <a:lnTo>
                    <a:pt x="530" y="493"/>
                  </a:lnTo>
                  <a:lnTo>
                    <a:pt x="532" y="485"/>
                  </a:lnTo>
                  <a:lnTo>
                    <a:pt x="536" y="479"/>
                  </a:lnTo>
                  <a:lnTo>
                    <a:pt x="538" y="472"/>
                  </a:lnTo>
                  <a:lnTo>
                    <a:pt x="542" y="464"/>
                  </a:lnTo>
                  <a:lnTo>
                    <a:pt x="544" y="457"/>
                  </a:lnTo>
                  <a:lnTo>
                    <a:pt x="547" y="449"/>
                  </a:lnTo>
                  <a:lnTo>
                    <a:pt x="549" y="441"/>
                  </a:lnTo>
                  <a:lnTo>
                    <a:pt x="553" y="434"/>
                  </a:lnTo>
                  <a:lnTo>
                    <a:pt x="553" y="426"/>
                  </a:lnTo>
                  <a:lnTo>
                    <a:pt x="557" y="419"/>
                  </a:lnTo>
                  <a:lnTo>
                    <a:pt x="559" y="411"/>
                  </a:lnTo>
                  <a:lnTo>
                    <a:pt x="563" y="403"/>
                  </a:lnTo>
                  <a:lnTo>
                    <a:pt x="563" y="396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68" y="373"/>
                  </a:lnTo>
                  <a:lnTo>
                    <a:pt x="570" y="365"/>
                  </a:lnTo>
                  <a:lnTo>
                    <a:pt x="572" y="358"/>
                  </a:lnTo>
                  <a:lnTo>
                    <a:pt x="574" y="350"/>
                  </a:lnTo>
                  <a:lnTo>
                    <a:pt x="576" y="343"/>
                  </a:lnTo>
                  <a:lnTo>
                    <a:pt x="578" y="335"/>
                  </a:lnTo>
                  <a:lnTo>
                    <a:pt x="580" y="327"/>
                  </a:lnTo>
                  <a:lnTo>
                    <a:pt x="580" y="320"/>
                  </a:lnTo>
                  <a:lnTo>
                    <a:pt x="582" y="312"/>
                  </a:lnTo>
                  <a:lnTo>
                    <a:pt x="582" y="303"/>
                  </a:lnTo>
                  <a:lnTo>
                    <a:pt x="582" y="295"/>
                  </a:lnTo>
                  <a:lnTo>
                    <a:pt x="582" y="287"/>
                  </a:lnTo>
                  <a:lnTo>
                    <a:pt x="584" y="280"/>
                  </a:lnTo>
                  <a:lnTo>
                    <a:pt x="584" y="272"/>
                  </a:lnTo>
                  <a:lnTo>
                    <a:pt x="585" y="267"/>
                  </a:lnTo>
                  <a:lnTo>
                    <a:pt x="585" y="259"/>
                  </a:lnTo>
                  <a:lnTo>
                    <a:pt x="585" y="251"/>
                  </a:lnTo>
                  <a:lnTo>
                    <a:pt x="585" y="244"/>
                  </a:lnTo>
                  <a:lnTo>
                    <a:pt x="585" y="236"/>
                  </a:lnTo>
                  <a:lnTo>
                    <a:pt x="585" y="230"/>
                  </a:lnTo>
                  <a:lnTo>
                    <a:pt x="585" y="223"/>
                  </a:lnTo>
                  <a:lnTo>
                    <a:pt x="585" y="215"/>
                  </a:lnTo>
                  <a:lnTo>
                    <a:pt x="585" y="210"/>
                  </a:lnTo>
                  <a:lnTo>
                    <a:pt x="584" y="202"/>
                  </a:lnTo>
                  <a:lnTo>
                    <a:pt x="582" y="194"/>
                  </a:lnTo>
                  <a:lnTo>
                    <a:pt x="582" y="189"/>
                  </a:lnTo>
                  <a:lnTo>
                    <a:pt x="580" y="183"/>
                  </a:lnTo>
                  <a:lnTo>
                    <a:pt x="578" y="170"/>
                  </a:lnTo>
                  <a:lnTo>
                    <a:pt x="576" y="156"/>
                  </a:lnTo>
                  <a:lnTo>
                    <a:pt x="572" y="145"/>
                  </a:lnTo>
                  <a:lnTo>
                    <a:pt x="568" y="133"/>
                  </a:lnTo>
                  <a:lnTo>
                    <a:pt x="566" y="124"/>
                  </a:lnTo>
                  <a:lnTo>
                    <a:pt x="563" y="116"/>
                  </a:lnTo>
                  <a:lnTo>
                    <a:pt x="557" y="105"/>
                  </a:lnTo>
                  <a:lnTo>
                    <a:pt x="551" y="97"/>
                  </a:lnTo>
                  <a:lnTo>
                    <a:pt x="545" y="88"/>
                  </a:lnTo>
                  <a:lnTo>
                    <a:pt x="540" y="82"/>
                  </a:lnTo>
                  <a:lnTo>
                    <a:pt x="534" y="76"/>
                  </a:lnTo>
                  <a:lnTo>
                    <a:pt x="530" y="69"/>
                  </a:lnTo>
                  <a:lnTo>
                    <a:pt x="525" y="63"/>
                  </a:lnTo>
                  <a:lnTo>
                    <a:pt x="519" y="59"/>
                  </a:lnTo>
                  <a:lnTo>
                    <a:pt x="507" y="52"/>
                  </a:lnTo>
                  <a:lnTo>
                    <a:pt x="502" y="46"/>
                  </a:lnTo>
                  <a:lnTo>
                    <a:pt x="496" y="44"/>
                  </a:lnTo>
                  <a:lnTo>
                    <a:pt x="496" y="44"/>
                  </a:lnTo>
                  <a:lnTo>
                    <a:pt x="496" y="4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 flipV="1" rot="20995800">
              <a:off x="5133600" y="3899520"/>
              <a:ext cx="217800" cy="187920"/>
            </a:xfrm>
            <a:custGeom>
              <a:avLst/>
              <a:gdLst/>
              <a:ahLst/>
              <a:rect l="l" t="t" r="r" b="b"/>
              <a:pathLst>
                <a:path w="333" h="325">
                  <a:moveTo>
                    <a:pt x="0" y="40"/>
                  </a:moveTo>
                  <a:lnTo>
                    <a:pt x="2" y="38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9" y="23"/>
                  </a:lnTo>
                  <a:lnTo>
                    <a:pt x="34" y="19"/>
                  </a:lnTo>
                  <a:lnTo>
                    <a:pt x="44" y="15"/>
                  </a:lnTo>
                  <a:lnTo>
                    <a:pt x="50" y="12"/>
                  </a:lnTo>
                  <a:lnTo>
                    <a:pt x="61" y="10"/>
                  </a:lnTo>
                  <a:lnTo>
                    <a:pt x="71" y="6"/>
                  </a:lnTo>
                  <a:lnTo>
                    <a:pt x="82" y="6"/>
                  </a:lnTo>
                  <a:lnTo>
                    <a:pt x="91" y="2"/>
                  </a:lnTo>
                  <a:lnTo>
                    <a:pt x="105" y="2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3" y="6"/>
                  </a:lnTo>
                  <a:lnTo>
                    <a:pt x="185" y="10"/>
                  </a:lnTo>
                  <a:lnTo>
                    <a:pt x="198" y="12"/>
                  </a:lnTo>
                  <a:lnTo>
                    <a:pt x="207" y="15"/>
                  </a:lnTo>
                  <a:lnTo>
                    <a:pt x="219" y="19"/>
                  </a:lnTo>
                  <a:lnTo>
                    <a:pt x="230" y="23"/>
                  </a:lnTo>
                  <a:lnTo>
                    <a:pt x="240" y="29"/>
                  </a:lnTo>
                  <a:lnTo>
                    <a:pt x="249" y="32"/>
                  </a:lnTo>
                  <a:lnTo>
                    <a:pt x="259" y="38"/>
                  </a:lnTo>
                  <a:lnTo>
                    <a:pt x="268" y="44"/>
                  </a:lnTo>
                  <a:lnTo>
                    <a:pt x="278" y="51"/>
                  </a:lnTo>
                  <a:lnTo>
                    <a:pt x="285" y="57"/>
                  </a:lnTo>
                  <a:lnTo>
                    <a:pt x="291" y="65"/>
                  </a:lnTo>
                  <a:lnTo>
                    <a:pt x="299" y="70"/>
                  </a:lnTo>
                  <a:lnTo>
                    <a:pt x="304" y="80"/>
                  </a:lnTo>
                  <a:lnTo>
                    <a:pt x="308" y="86"/>
                  </a:lnTo>
                  <a:lnTo>
                    <a:pt x="312" y="93"/>
                  </a:lnTo>
                  <a:lnTo>
                    <a:pt x="316" y="103"/>
                  </a:lnTo>
                  <a:lnTo>
                    <a:pt x="320" y="110"/>
                  </a:lnTo>
                  <a:lnTo>
                    <a:pt x="321" y="118"/>
                  </a:lnTo>
                  <a:lnTo>
                    <a:pt x="323" y="126"/>
                  </a:lnTo>
                  <a:lnTo>
                    <a:pt x="325" y="135"/>
                  </a:lnTo>
                  <a:lnTo>
                    <a:pt x="327" y="143"/>
                  </a:lnTo>
                  <a:lnTo>
                    <a:pt x="329" y="150"/>
                  </a:lnTo>
                  <a:lnTo>
                    <a:pt x="331" y="160"/>
                  </a:lnTo>
                  <a:lnTo>
                    <a:pt x="331" y="167"/>
                  </a:lnTo>
                  <a:lnTo>
                    <a:pt x="333" y="177"/>
                  </a:lnTo>
                  <a:lnTo>
                    <a:pt x="333" y="183"/>
                  </a:lnTo>
                  <a:lnTo>
                    <a:pt x="333" y="192"/>
                  </a:lnTo>
                  <a:lnTo>
                    <a:pt x="333" y="200"/>
                  </a:lnTo>
                  <a:lnTo>
                    <a:pt x="333" y="209"/>
                  </a:lnTo>
                  <a:lnTo>
                    <a:pt x="331" y="215"/>
                  </a:lnTo>
                  <a:lnTo>
                    <a:pt x="331" y="223"/>
                  </a:lnTo>
                  <a:lnTo>
                    <a:pt x="329" y="230"/>
                  </a:lnTo>
                  <a:lnTo>
                    <a:pt x="327" y="238"/>
                  </a:lnTo>
                  <a:lnTo>
                    <a:pt x="321" y="251"/>
                  </a:lnTo>
                  <a:lnTo>
                    <a:pt x="312" y="264"/>
                  </a:lnTo>
                  <a:lnTo>
                    <a:pt x="306" y="268"/>
                  </a:lnTo>
                  <a:lnTo>
                    <a:pt x="301" y="274"/>
                  </a:lnTo>
                  <a:lnTo>
                    <a:pt x="291" y="280"/>
                  </a:lnTo>
                  <a:lnTo>
                    <a:pt x="285" y="287"/>
                  </a:lnTo>
                  <a:lnTo>
                    <a:pt x="272" y="289"/>
                  </a:lnTo>
                  <a:lnTo>
                    <a:pt x="263" y="293"/>
                  </a:lnTo>
                  <a:lnTo>
                    <a:pt x="249" y="297"/>
                  </a:lnTo>
                  <a:lnTo>
                    <a:pt x="240" y="302"/>
                  </a:lnTo>
                  <a:lnTo>
                    <a:pt x="226" y="304"/>
                  </a:lnTo>
                  <a:lnTo>
                    <a:pt x="215" y="308"/>
                  </a:lnTo>
                  <a:lnTo>
                    <a:pt x="202" y="312"/>
                  </a:lnTo>
                  <a:lnTo>
                    <a:pt x="192" y="316"/>
                  </a:lnTo>
                  <a:lnTo>
                    <a:pt x="179" y="316"/>
                  </a:lnTo>
                  <a:lnTo>
                    <a:pt x="169" y="319"/>
                  </a:lnTo>
                  <a:lnTo>
                    <a:pt x="160" y="319"/>
                  </a:lnTo>
                  <a:lnTo>
                    <a:pt x="152" y="321"/>
                  </a:lnTo>
                  <a:lnTo>
                    <a:pt x="145" y="323"/>
                  </a:lnTo>
                  <a:lnTo>
                    <a:pt x="137" y="325"/>
                  </a:lnTo>
                  <a:lnTo>
                    <a:pt x="139" y="323"/>
                  </a:lnTo>
                  <a:lnTo>
                    <a:pt x="145" y="318"/>
                  </a:lnTo>
                  <a:lnTo>
                    <a:pt x="150" y="308"/>
                  </a:lnTo>
                  <a:lnTo>
                    <a:pt x="160" y="297"/>
                  </a:lnTo>
                  <a:lnTo>
                    <a:pt x="171" y="283"/>
                  </a:lnTo>
                  <a:lnTo>
                    <a:pt x="183" y="272"/>
                  </a:lnTo>
                  <a:lnTo>
                    <a:pt x="188" y="264"/>
                  </a:lnTo>
                  <a:lnTo>
                    <a:pt x="194" y="257"/>
                  </a:lnTo>
                  <a:lnTo>
                    <a:pt x="202" y="251"/>
                  </a:lnTo>
                  <a:lnTo>
                    <a:pt x="207" y="247"/>
                  </a:lnTo>
                  <a:lnTo>
                    <a:pt x="215" y="234"/>
                  </a:lnTo>
                  <a:lnTo>
                    <a:pt x="221" y="224"/>
                  </a:lnTo>
                  <a:lnTo>
                    <a:pt x="221" y="213"/>
                  </a:lnTo>
                  <a:lnTo>
                    <a:pt x="221" y="202"/>
                  </a:lnTo>
                  <a:lnTo>
                    <a:pt x="219" y="194"/>
                  </a:lnTo>
                  <a:lnTo>
                    <a:pt x="217" y="188"/>
                  </a:lnTo>
                  <a:lnTo>
                    <a:pt x="217" y="181"/>
                  </a:lnTo>
                  <a:lnTo>
                    <a:pt x="215" y="175"/>
                  </a:lnTo>
                  <a:lnTo>
                    <a:pt x="213" y="167"/>
                  </a:lnTo>
                  <a:lnTo>
                    <a:pt x="211" y="162"/>
                  </a:lnTo>
                  <a:lnTo>
                    <a:pt x="211" y="154"/>
                  </a:lnTo>
                  <a:lnTo>
                    <a:pt x="211" y="148"/>
                  </a:lnTo>
                  <a:lnTo>
                    <a:pt x="207" y="135"/>
                  </a:lnTo>
                  <a:lnTo>
                    <a:pt x="204" y="124"/>
                  </a:lnTo>
                  <a:lnTo>
                    <a:pt x="196" y="112"/>
                  </a:lnTo>
                  <a:lnTo>
                    <a:pt x="190" y="103"/>
                  </a:lnTo>
                  <a:lnTo>
                    <a:pt x="181" y="93"/>
                  </a:lnTo>
                  <a:lnTo>
                    <a:pt x="171" y="84"/>
                  </a:lnTo>
                  <a:lnTo>
                    <a:pt x="160" y="76"/>
                  </a:lnTo>
                  <a:lnTo>
                    <a:pt x="150" y="70"/>
                  </a:lnTo>
                  <a:lnTo>
                    <a:pt x="139" y="63"/>
                  </a:lnTo>
                  <a:lnTo>
                    <a:pt x="131" y="57"/>
                  </a:lnTo>
                  <a:lnTo>
                    <a:pt x="124" y="55"/>
                  </a:lnTo>
                  <a:lnTo>
                    <a:pt x="118" y="53"/>
                  </a:lnTo>
                  <a:lnTo>
                    <a:pt x="110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90" y="48"/>
                  </a:lnTo>
                  <a:lnTo>
                    <a:pt x="82" y="48"/>
                  </a:lnTo>
                  <a:lnTo>
                    <a:pt x="74" y="48"/>
                  </a:lnTo>
                  <a:lnTo>
                    <a:pt x="65" y="46"/>
                  </a:lnTo>
                  <a:lnTo>
                    <a:pt x="57" y="44"/>
                  </a:lnTo>
                  <a:lnTo>
                    <a:pt x="50" y="44"/>
                  </a:lnTo>
                  <a:lnTo>
                    <a:pt x="42" y="44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0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 flipV="1" rot="20995800">
              <a:off x="4646520" y="4090680"/>
              <a:ext cx="288720" cy="227160"/>
            </a:xfrm>
            <a:custGeom>
              <a:avLst/>
              <a:gdLst/>
              <a:ahLst/>
              <a:rect l="l" t="t" r="r" b="b"/>
              <a:pathLst>
                <a:path w="441" h="395">
                  <a:moveTo>
                    <a:pt x="0" y="34"/>
                  </a:moveTo>
                  <a:lnTo>
                    <a:pt x="0" y="34"/>
                  </a:lnTo>
                  <a:lnTo>
                    <a:pt x="6" y="32"/>
                  </a:lnTo>
                  <a:lnTo>
                    <a:pt x="13" y="30"/>
                  </a:lnTo>
                  <a:lnTo>
                    <a:pt x="23" y="28"/>
                  </a:lnTo>
                  <a:lnTo>
                    <a:pt x="28" y="24"/>
                  </a:lnTo>
                  <a:lnTo>
                    <a:pt x="36" y="24"/>
                  </a:lnTo>
                  <a:lnTo>
                    <a:pt x="42" y="22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6" y="19"/>
                  </a:lnTo>
                  <a:lnTo>
                    <a:pt x="74" y="15"/>
                  </a:lnTo>
                  <a:lnTo>
                    <a:pt x="85" y="15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12" y="9"/>
                  </a:lnTo>
                  <a:lnTo>
                    <a:pt x="123" y="9"/>
                  </a:lnTo>
                  <a:lnTo>
                    <a:pt x="133" y="5"/>
                  </a:lnTo>
                  <a:lnTo>
                    <a:pt x="144" y="5"/>
                  </a:lnTo>
                  <a:lnTo>
                    <a:pt x="154" y="2"/>
                  </a:lnTo>
                  <a:lnTo>
                    <a:pt x="165" y="2"/>
                  </a:lnTo>
                  <a:lnTo>
                    <a:pt x="175" y="2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2"/>
                  </a:lnTo>
                  <a:lnTo>
                    <a:pt x="255" y="2"/>
                  </a:lnTo>
                  <a:lnTo>
                    <a:pt x="264" y="2"/>
                  </a:lnTo>
                  <a:lnTo>
                    <a:pt x="272" y="2"/>
                  </a:lnTo>
                  <a:lnTo>
                    <a:pt x="281" y="3"/>
                  </a:lnTo>
                  <a:lnTo>
                    <a:pt x="289" y="3"/>
                  </a:lnTo>
                  <a:lnTo>
                    <a:pt x="296" y="5"/>
                  </a:lnTo>
                  <a:lnTo>
                    <a:pt x="304" y="7"/>
                  </a:lnTo>
                  <a:lnTo>
                    <a:pt x="312" y="11"/>
                  </a:lnTo>
                  <a:lnTo>
                    <a:pt x="317" y="13"/>
                  </a:lnTo>
                  <a:lnTo>
                    <a:pt x="325" y="15"/>
                  </a:lnTo>
                  <a:lnTo>
                    <a:pt x="333" y="19"/>
                  </a:lnTo>
                  <a:lnTo>
                    <a:pt x="340" y="22"/>
                  </a:lnTo>
                  <a:lnTo>
                    <a:pt x="352" y="28"/>
                  </a:lnTo>
                  <a:lnTo>
                    <a:pt x="365" y="36"/>
                  </a:lnTo>
                  <a:lnTo>
                    <a:pt x="374" y="43"/>
                  </a:lnTo>
                  <a:lnTo>
                    <a:pt x="384" y="51"/>
                  </a:lnTo>
                  <a:lnTo>
                    <a:pt x="391" y="59"/>
                  </a:lnTo>
                  <a:lnTo>
                    <a:pt x="401" y="70"/>
                  </a:lnTo>
                  <a:lnTo>
                    <a:pt x="409" y="79"/>
                  </a:lnTo>
                  <a:lnTo>
                    <a:pt x="414" y="89"/>
                  </a:lnTo>
                  <a:lnTo>
                    <a:pt x="420" y="100"/>
                  </a:lnTo>
                  <a:lnTo>
                    <a:pt x="426" y="112"/>
                  </a:lnTo>
                  <a:lnTo>
                    <a:pt x="429" y="121"/>
                  </a:lnTo>
                  <a:lnTo>
                    <a:pt x="433" y="131"/>
                  </a:lnTo>
                  <a:lnTo>
                    <a:pt x="435" y="142"/>
                  </a:lnTo>
                  <a:lnTo>
                    <a:pt x="439" y="154"/>
                  </a:lnTo>
                  <a:lnTo>
                    <a:pt x="441" y="163"/>
                  </a:lnTo>
                  <a:lnTo>
                    <a:pt x="441" y="175"/>
                  </a:lnTo>
                  <a:lnTo>
                    <a:pt x="441" y="186"/>
                  </a:lnTo>
                  <a:lnTo>
                    <a:pt x="441" y="197"/>
                  </a:lnTo>
                  <a:lnTo>
                    <a:pt x="439" y="209"/>
                  </a:lnTo>
                  <a:lnTo>
                    <a:pt x="437" y="218"/>
                  </a:lnTo>
                  <a:lnTo>
                    <a:pt x="433" y="230"/>
                  </a:lnTo>
                  <a:lnTo>
                    <a:pt x="429" y="241"/>
                  </a:lnTo>
                  <a:lnTo>
                    <a:pt x="424" y="252"/>
                  </a:lnTo>
                  <a:lnTo>
                    <a:pt x="418" y="264"/>
                  </a:lnTo>
                  <a:lnTo>
                    <a:pt x="410" y="273"/>
                  </a:lnTo>
                  <a:lnTo>
                    <a:pt x="405" y="285"/>
                  </a:lnTo>
                  <a:lnTo>
                    <a:pt x="395" y="292"/>
                  </a:lnTo>
                  <a:lnTo>
                    <a:pt x="386" y="302"/>
                  </a:lnTo>
                  <a:lnTo>
                    <a:pt x="374" y="313"/>
                  </a:lnTo>
                  <a:lnTo>
                    <a:pt x="363" y="323"/>
                  </a:lnTo>
                  <a:lnTo>
                    <a:pt x="352" y="330"/>
                  </a:lnTo>
                  <a:lnTo>
                    <a:pt x="340" y="338"/>
                  </a:lnTo>
                  <a:lnTo>
                    <a:pt x="331" y="346"/>
                  </a:lnTo>
                  <a:lnTo>
                    <a:pt x="319" y="353"/>
                  </a:lnTo>
                  <a:lnTo>
                    <a:pt x="308" y="361"/>
                  </a:lnTo>
                  <a:lnTo>
                    <a:pt x="296" y="366"/>
                  </a:lnTo>
                  <a:lnTo>
                    <a:pt x="287" y="372"/>
                  </a:lnTo>
                  <a:lnTo>
                    <a:pt x="275" y="378"/>
                  </a:lnTo>
                  <a:lnTo>
                    <a:pt x="266" y="384"/>
                  </a:lnTo>
                  <a:lnTo>
                    <a:pt x="260" y="387"/>
                  </a:lnTo>
                  <a:lnTo>
                    <a:pt x="251" y="391"/>
                  </a:lnTo>
                  <a:lnTo>
                    <a:pt x="247" y="395"/>
                  </a:lnTo>
                  <a:lnTo>
                    <a:pt x="247" y="389"/>
                  </a:lnTo>
                  <a:lnTo>
                    <a:pt x="249" y="380"/>
                  </a:lnTo>
                  <a:lnTo>
                    <a:pt x="251" y="374"/>
                  </a:lnTo>
                  <a:lnTo>
                    <a:pt x="253" y="366"/>
                  </a:lnTo>
                  <a:lnTo>
                    <a:pt x="255" y="357"/>
                  </a:lnTo>
                  <a:lnTo>
                    <a:pt x="258" y="347"/>
                  </a:lnTo>
                  <a:lnTo>
                    <a:pt x="260" y="336"/>
                  </a:lnTo>
                  <a:lnTo>
                    <a:pt x="264" y="325"/>
                  </a:lnTo>
                  <a:lnTo>
                    <a:pt x="268" y="313"/>
                  </a:lnTo>
                  <a:lnTo>
                    <a:pt x="272" y="302"/>
                  </a:lnTo>
                  <a:lnTo>
                    <a:pt x="275" y="290"/>
                  </a:lnTo>
                  <a:lnTo>
                    <a:pt x="279" y="279"/>
                  </a:lnTo>
                  <a:lnTo>
                    <a:pt x="283" y="270"/>
                  </a:lnTo>
                  <a:lnTo>
                    <a:pt x="287" y="258"/>
                  </a:lnTo>
                  <a:lnTo>
                    <a:pt x="289" y="247"/>
                  </a:lnTo>
                  <a:lnTo>
                    <a:pt x="291" y="235"/>
                  </a:lnTo>
                  <a:lnTo>
                    <a:pt x="293" y="226"/>
                  </a:lnTo>
                  <a:lnTo>
                    <a:pt x="294" y="218"/>
                  </a:lnTo>
                  <a:lnTo>
                    <a:pt x="294" y="209"/>
                  </a:lnTo>
                  <a:lnTo>
                    <a:pt x="294" y="199"/>
                  </a:lnTo>
                  <a:lnTo>
                    <a:pt x="293" y="194"/>
                  </a:lnTo>
                  <a:lnTo>
                    <a:pt x="293" y="186"/>
                  </a:lnTo>
                  <a:lnTo>
                    <a:pt x="289" y="178"/>
                  </a:lnTo>
                  <a:lnTo>
                    <a:pt x="287" y="171"/>
                  </a:lnTo>
                  <a:lnTo>
                    <a:pt x="283" y="165"/>
                  </a:lnTo>
                  <a:lnTo>
                    <a:pt x="281" y="161"/>
                  </a:lnTo>
                  <a:lnTo>
                    <a:pt x="275" y="150"/>
                  </a:lnTo>
                  <a:lnTo>
                    <a:pt x="270" y="142"/>
                  </a:lnTo>
                  <a:lnTo>
                    <a:pt x="264" y="135"/>
                  </a:lnTo>
                  <a:lnTo>
                    <a:pt x="256" y="127"/>
                  </a:lnTo>
                  <a:lnTo>
                    <a:pt x="251" y="121"/>
                  </a:lnTo>
                  <a:lnTo>
                    <a:pt x="243" y="116"/>
                  </a:lnTo>
                  <a:lnTo>
                    <a:pt x="237" y="112"/>
                  </a:lnTo>
                  <a:lnTo>
                    <a:pt x="232" y="108"/>
                  </a:lnTo>
                  <a:lnTo>
                    <a:pt x="224" y="106"/>
                  </a:lnTo>
                  <a:lnTo>
                    <a:pt x="218" y="102"/>
                  </a:lnTo>
                  <a:lnTo>
                    <a:pt x="209" y="98"/>
                  </a:lnTo>
                  <a:lnTo>
                    <a:pt x="199" y="97"/>
                  </a:lnTo>
                  <a:lnTo>
                    <a:pt x="188" y="93"/>
                  </a:lnTo>
                  <a:lnTo>
                    <a:pt x="177" y="89"/>
                  </a:lnTo>
                  <a:lnTo>
                    <a:pt x="167" y="87"/>
                  </a:lnTo>
                  <a:lnTo>
                    <a:pt x="160" y="85"/>
                  </a:lnTo>
                  <a:lnTo>
                    <a:pt x="154" y="81"/>
                  </a:lnTo>
                  <a:lnTo>
                    <a:pt x="146" y="79"/>
                  </a:lnTo>
                  <a:lnTo>
                    <a:pt x="139" y="78"/>
                  </a:lnTo>
                  <a:lnTo>
                    <a:pt x="131" y="76"/>
                  </a:lnTo>
                  <a:lnTo>
                    <a:pt x="123" y="74"/>
                  </a:lnTo>
                  <a:lnTo>
                    <a:pt x="116" y="72"/>
                  </a:lnTo>
                  <a:lnTo>
                    <a:pt x="108" y="68"/>
                  </a:lnTo>
                  <a:lnTo>
                    <a:pt x="101" y="66"/>
                  </a:lnTo>
                  <a:lnTo>
                    <a:pt x="93" y="64"/>
                  </a:lnTo>
                  <a:lnTo>
                    <a:pt x="85" y="60"/>
                  </a:lnTo>
                  <a:lnTo>
                    <a:pt x="80" y="59"/>
                  </a:lnTo>
                  <a:lnTo>
                    <a:pt x="72" y="57"/>
                  </a:lnTo>
                  <a:lnTo>
                    <a:pt x="66" y="55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5" y="49"/>
                  </a:lnTo>
                  <a:lnTo>
                    <a:pt x="40" y="47"/>
                  </a:lnTo>
                  <a:lnTo>
                    <a:pt x="36" y="45"/>
                  </a:lnTo>
                  <a:lnTo>
                    <a:pt x="25" y="41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 flipV="1" rot="20995800">
              <a:off x="4125960" y="4201920"/>
              <a:ext cx="227160" cy="198360"/>
            </a:xfrm>
            <a:custGeom>
              <a:avLst/>
              <a:gdLst/>
              <a:ahLst/>
              <a:rect l="l" t="t" r="r" b="b"/>
              <a:pathLst>
                <a:path w="344" h="344">
                  <a:moveTo>
                    <a:pt x="0" y="29"/>
                  </a:moveTo>
                  <a:lnTo>
                    <a:pt x="2" y="25"/>
                  </a:lnTo>
                  <a:lnTo>
                    <a:pt x="9" y="23"/>
                  </a:lnTo>
                  <a:lnTo>
                    <a:pt x="13" y="21"/>
                  </a:lnTo>
                  <a:lnTo>
                    <a:pt x="21" y="19"/>
                  </a:lnTo>
                  <a:lnTo>
                    <a:pt x="28" y="15"/>
                  </a:lnTo>
                  <a:lnTo>
                    <a:pt x="38" y="14"/>
                  </a:lnTo>
                  <a:lnTo>
                    <a:pt x="44" y="10"/>
                  </a:lnTo>
                  <a:lnTo>
                    <a:pt x="53" y="8"/>
                  </a:lnTo>
                  <a:lnTo>
                    <a:pt x="65" y="6"/>
                  </a:lnTo>
                  <a:lnTo>
                    <a:pt x="76" y="4"/>
                  </a:lnTo>
                  <a:lnTo>
                    <a:pt x="86" y="2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9" y="0"/>
                  </a:lnTo>
                  <a:lnTo>
                    <a:pt x="141" y="0"/>
                  </a:lnTo>
                  <a:lnTo>
                    <a:pt x="150" y="2"/>
                  </a:lnTo>
                  <a:lnTo>
                    <a:pt x="160" y="6"/>
                  </a:lnTo>
                  <a:lnTo>
                    <a:pt x="169" y="6"/>
                  </a:lnTo>
                  <a:lnTo>
                    <a:pt x="179" y="10"/>
                  </a:lnTo>
                  <a:lnTo>
                    <a:pt x="188" y="14"/>
                  </a:lnTo>
                  <a:lnTo>
                    <a:pt x="200" y="19"/>
                  </a:lnTo>
                  <a:lnTo>
                    <a:pt x="209" y="21"/>
                  </a:lnTo>
                  <a:lnTo>
                    <a:pt x="217" y="25"/>
                  </a:lnTo>
                  <a:lnTo>
                    <a:pt x="224" y="31"/>
                  </a:lnTo>
                  <a:lnTo>
                    <a:pt x="234" y="34"/>
                  </a:lnTo>
                  <a:lnTo>
                    <a:pt x="243" y="40"/>
                  </a:lnTo>
                  <a:lnTo>
                    <a:pt x="251" y="44"/>
                  </a:lnTo>
                  <a:lnTo>
                    <a:pt x="259" y="50"/>
                  </a:lnTo>
                  <a:lnTo>
                    <a:pt x="270" y="55"/>
                  </a:lnTo>
                  <a:lnTo>
                    <a:pt x="276" y="59"/>
                  </a:lnTo>
                  <a:lnTo>
                    <a:pt x="281" y="65"/>
                  </a:lnTo>
                  <a:lnTo>
                    <a:pt x="289" y="69"/>
                  </a:lnTo>
                  <a:lnTo>
                    <a:pt x="297" y="74"/>
                  </a:lnTo>
                  <a:lnTo>
                    <a:pt x="308" y="86"/>
                  </a:lnTo>
                  <a:lnTo>
                    <a:pt x="321" y="97"/>
                  </a:lnTo>
                  <a:lnTo>
                    <a:pt x="329" y="109"/>
                  </a:lnTo>
                  <a:lnTo>
                    <a:pt x="336" y="122"/>
                  </a:lnTo>
                  <a:lnTo>
                    <a:pt x="338" y="128"/>
                  </a:lnTo>
                  <a:lnTo>
                    <a:pt x="340" y="135"/>
                  </a:lnTo>
                  <a:lnTo>
                    <a:pt x="342" y="141"/>
                  </a:lnTo>
                  <a:lnTo>
                    <a:pt x="344" y="150"/>
                  </a:lnTo>
                  <a:lnTo>
                    <a:pt x="342" y="158"/>
                  </a:lnTo>
                  <a:lnTo>
                    <a:pt x="342" y="164"/>
                  </a:lnTo>
                  <a:lnTo>
                    <a:pt x="342" y="171"/>
                  </a:lnTo>
                  <a:lnTo>
                    <a:pt x="340" y="181"/>
                  </a:lnTo>
                  <a:lnTo>
                    <a:pt x="336" y="188"/>
                  </a:lnTo>
                  <a:lnTo>
                    <a:pt x="335" y="198"/>
                  </a:lnTo>
                  <a:lnTo>
                    <a:pt x="331" y="206"/>
                  </a:lnTo>
                  <a:lnTo>
                    <a:pt x="329" y="215"/>
                  </a:lnTo>
                  <a:lnTo>
                    <a:pt x="323" y="225"/>
                  </a:lnTo>
                  <a:lnTo>
                    <a:pt x="321" y="234"/>
                  </a:lnTo>
                  <a:lnTo>
                    <a:pt x="316" y="242"/>
                  </a:lnTo>
                  <a:lnTo>
                    <a:pt x="312" y="251"/>
                  </a:lnTo>
                  <a:lnTo>
                    <a:pt x="308" y="261"/>
                  </a:lnTo>
                  <a:lnTo>
                    <a:pt x="304" y="270"/>
                  </a:lnTo>
                  <a:lnTo>
                    <a:pt x="300" y="280"/>
                  </a:lnTo>
                  <a:lnTo>
                    <a:pt x="297" y="289"/>
                  </a:lnTo>
                  <a:lnTo>
                    <a:pt x="293" y="297"/>
                  </a:lnTo>
                  <a:lnTo>
                    <a:pt x="289" y="306"/>
                  </a:lnTo>
                  <a:lnTo>
                    <a:pt x="285" y="312"/>
                  </a:lnTo>
                  <a:lnTo>
                    <a:pt x="281" y="318"/>
                  </a:lnTo>
                  <a:lnTo>
                    <a:pt x="272" y="329"/>
                  </a:lnTo>
                  <a:lnTo>
                    <a:pt x="262" y="337"/>
                  </a:lnTo>
                  <a:lnTo>
                    <a:pt x="253" y="340"/>
                  </a:lnTo>
                  <a:lnTo>
                    <a:pt x="241" y="344"/>
                  </a:lnTo>
                  <a:lnTo>
                    <a:pt x="236" y="344"/>
                  </a:lnTo>
                  <a:lnTo>
                    <a:pt x="230" y="344"/>
                  </a:lnTo>
                  <a:lnTo>
                    <a:pt x="222" y="344"/>
                  </a:lnTo>
                  <a:lnTo>
                    <a:pt x="217" y="344"/>
                  </a:lnTo>
                  <a:lnTo>
                    <a:pt x="209" y="342"/>
                  </a:lnTo>
                  <a:lnTo>
                    <a:pt x="200" y="340"/>
                  </a:lnTo>
                  <a:lnTo>
                    <a:pt x="192" y="339"/>
                  </a:lnTo>
                  <a:lnTo>
                    <a:pt x="182" y="337"/>
                  </a:lnTo>
                  <a:lnTo>
                    <a:pt x="173" y="335"/>
                  </a:lnTo>
                  <a:lnTo>
                    <a:pt x="165" y="331"/>
                  </a:lnTo>
                  <a:lnTo>
                    <a:pt x="156" y="329"/>
                  </a:lnTo>
                  <a:lnTo>
                    <a:pt x="150" y="327"/>
                  </a:lnTo>
                  <a:lnTo>
                    <a:pt x="141" y="323"/>
                  </a:lnTo>
                  <a:lnTo>
                    <a:pt x="135" y="321"/>
                  </a:lnTo>
                  <a:lnTo>
                    <a:pt x="127" y="318"/>
                  </a:lnTo>
                  <a:lnTo>
                    <a:pt x="124" y="318"/>
                  </a:lnTo>
                  <a:lnTo>
                    <a:pt x="116" y="314"/>
                  </a:lnTo>
                  <a:lnTo>
                    <a:pt x="114" y="314"/>
                  </a:lnTo>
                  <a:lnTo>
                    <a:pt x="114" y="312"/>
                  </a:lnTo>
                  <a:lnTo>
                    <a:pt x="122" y="306"/>
                  </a:lnTo>
                  <a:lnTo>
                    <a:pt x="127" y="297"/>
                  </a:lnTo>
                  <a:lnTo>
                    <a:pt x="141" y="287"/>
                  </a:lnTo>
                  <a:lnTo>
                    <a:pt x="146" y="280"/>
                  </a:lnTo>
                  <a:lnTo>
                    <a:pt x="152" y="274"/>
                  </a:lnTo>
                  <a:lnTo>
                    <a:pt x="160" y="268"/>
                  </a:lnTo>
                  <a:lnTo>
                    <a:pt x="165" y="263"/>
                  </a:lnTo>
                  <a:lnTo>
                    <a:pt x="173" y="255"/>
                  </a:lnTo>
                  <a:lnTo>
                    <a:pt x="181" y="249"/>
                  </a:lnTo>
                  <a:lnTo>
                    <a:pt x="188" y="244"/>
                  </a:lnTo>
                  <a:lnTo>
                    <a:pt x="196" y="238"/>
                  </a:lnTo>
                  <a:lnTo>
                    <a:pt x="205" y="226"/>
                  </a:lnTo>
                  <a:lnTo>
                    <a:pt x="215" y="215"/>
                  </a:lnTo>
                  <a:lnTo>
                    <a:pt x="221" y="202"/>
                  </a:lnTo>
                  <a:lnTo>
                    <a:pt x="224" y="190"/>
                  </a:lnTo>
                  <a:lnTo>
                    <a:pt x="224" y="177"/>
                  </a:lnTo>
                  <a:lnTo>
                    <a:pt x="221" y="168"/>
                  </a:lnTo>
                  <a:lnTo>
                    <a:pt x="215" y="154"/>
                  </a:lnTo>
                  <a:lnTo>
                    <a:pt x="209" y="147"/>
                  </a:lnTo>
                  <a:lnTo>
                    <a:pt x="198" y="137"/>
                  </a:lnTo>
                  <a:lnTo>
                    <a:pt x="192" y="131"/>
                  </a:lnTo>
                  <a:lnTo>
                    <a:pt x="186" y="128"/>
                  </a:lnTo>
                  <a:lnTo>
                    <a:pt x="181" y="126"/>
                  </a:lnTo>
                  <a:lnTo>
                    <a:pt x="173" y="120"/>
                  </a:lnTo>
                  <a:lnTo>
                    <a:pt x="163" y="116"/>
                  </a:lnTo>
                  <a:lnTo>
                    <a:pt x="156" y="112"/>
                  </a:lnTo>
                  <a:lnTo>
                    <a:pt x="150" y="109"/>
                  </a:lnTo>
                  <a:lnTo>
                    <a:pt x="143" y="105"/>
                  </a:lnTo>
                  <a:lnTo>
                    <a:pt x="135" y="101"/>
                  </a:lnTo>
                  <a:lnTo>
                    <a:pt x="124" y="93"/>
                  </a:lnTo>
                  <a:lnTo>
                    <a:pt x="112" y="88"/>
                  </a:lnTo>
                  <a:lnTo>
                    <a:pt x="101" y="82"/>
                  </a:lnTo>
                  <a:lnTo>
                    <a:pt x="89" y="76"/>
                  </a:lnTo>
                  <a:lnTo>
                    <a:pt x="78" y="69"/>
                  </a:lnTo>
                  <a:lnTo>
                    <a:pt x="67" y="63"/>
                  </a:lnTo>
                  <a:lnTo>
                    <a:pt x="57" y="57"/>
                  </a:lnTo>
                  <a:lnTo>
                    <a:pt x="47" y="52"/>
                  </a:lnTo>
                  <a:lnTo>
                    <a:pt x="36" y="46"/>
                  </a:lnTo>
                  <a:lnTo>
                    <a:pt x="28" y="42"/>
                  </a:lnTo>
                  <a:lnTo>
                    <a:pt x="19" y="38"/>
                  </a:lnTo>
                  <a:lnTo>
                    <a:pt x="13" y="34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 flipV="1" rot="20995800">
              <a:off x="3843720" y="3775320"/>
              <a:ext cx="240120" cy="371520"/>
            </a:xfrm>
            <a:custGeom>
              <a:avLst/>
              <a:gdLst/>
              <a:ahLst/>
              <a:rect l="l" t="t" r="r" b="b"/>
              <a:pathLst>
                <a:path w="365" h="645">
                  <a:moveTo>
                    <a:pt x="0" y="31"/>
                  </a:moveTo>
                  <a:lnTo>
                    <a:pt x="0" y="29"/>
                  </a:lnTo>
                  <a:lnTo>
                    <a:pt x="4" y="29"/>
                  </a:lnTo>
                  <a:lnTo>
                    <a:pt x="9" y="25"/>
                  </a:lnTo>
                  <a:lnTo>
                    <a:pt x="19" y="25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43" y="16"/>
                  </a:lnTo>
                  <a:lnTo>
                    <a:pt x="51" y="16"/>
                  </a:lnTo>
                  <a:lnTo>
                    <a:pt x="59" y="14"/>
                  </a:lnTo>
                  <a:lnTo>
                    <a:pt x="66" y="14"/>
                  </a:lnTo>
                  <a:lnTo>
                    <a:pt x="74" y="12"/>
                  </a:lnTo>
                  <a:lnTo>
                    <a:pt x="80" y="10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6"/>
                  </a:lnTo>
                  <a:lnTo>
                    <a:pt x="112" y="6"/>
                  </a:lnTo>
                  <a:lnTo>
                    <a:pt x="120" y="4"/>
                  </a:lnTo>
                  <a:lnTo>
                    <a:pt x="129" y="4"/>
                  </a:lnTo>
                  <a:lnTo>
                    <a:pt x="137" y="2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3" y="2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6" y="2"/>
                  </a:lnTo>
                  <a:lnTo>
                    <a:pt x="196" y="2"/>
                  </a:lnTo>
                  <a:lnTo>
                    <a:pt x="201" y="2"/>
                  </a:lnTo>
                  <a:lnTo>
                    <a:pt x="209" y="2"/>
                  </a:lnTo>
                  <a:lnTo>
                    <a:pt x="216" y="2"/>
                  </a:lnTo>
                  <a:lnTo>
                    <a:pt x="224" y="6"/>
                  </a:lnTo>
                  <a:lnTo>
                    <a:pt x="236" y="8"/>
                  </a:lnTo>
                  <a:lnTo>
                    <a:pt x="249" y="12"/>
                  </a:lnTo>
                  <a:lnTo>
                    <a:pt x="260" y="16"/>
                  </a:lnTo>
                  <a:lnTo>
                    <a:pt x="270" y="21"/>
                  </a:lnTo>
                  <a:lnTo>
                    <a:pt x="279" y="29"/>
                  </a:lnTo>
                  <a:lnTo>
                    <a:pt x="291" y="35"/>
                  </a:lnTo>
                  <a:lnTo>
                    <a:pt x="298" y="42"/>
                  </a:lnTo>
                  <a:lnTo>
                    <a:pt x="306" y="50"/>
                  </a:lnTo>
                  <a:lnTo>
                    <a:pt x="313" y="59"/>
                  </a:lnTo>
                  <a:lnTo>
                    <a:pt x="321" y="69"/>
                  </a:lnTo>
                  <a:lnTo>
                    <a:pt x="327" y="80"/>
                  </a:lnTo>
                  <a:lnTo>
                    <a:pt x="332" y="92"/>
                  </a:lnTo>
                  <a:lnTo>
                    <a:pt x="338" y="103"/>
                  </a:lnTo>
                  <a:lnTo>
                    <a:pt x="344" y="114"/>
                  </a:lnTo>
                  <a:lnTo>
                    <a:pt x="348" y="128"/>
                  </a:lnTo>
                  <a:lnTo>
                    <a:pt x="351" y="141"/>
                  </a:lnTo>
                  <a:lnTo>
                    <a:pt x="353" y="147"/>
                  </a:lnTo>
                  <a:lnTo>
                    <a:pt x="353" y="154"/>
                  </a:lnTo>
                  <a:lnTo>
                    <a:pt x="355" y="160"/>
                  </a:lnTo>
                  <a:lnTo>
                    <a:pt x="357" y="168"/>
                  </a:lnTo>
                  <a:lnTo>
                    <a:pt x="357" y="175"/>
                  </a:lnTo>
                  <a:lnTo>
                    <a:pt x="359" y="183"/>
                  </a:lnTo>
                  <a:lnTo>
                    <a:pt x="359" y="189"/>
                  </a:lnTo>
                  <a:lnTo>
                    <a:pt x="361" y="196"/>
                  </a:lnTo>
                  <a:lnTo>
                    <a:pt x="361" y="204"/>
                  </a:lnTo>
                  <a:lnTo>
                    <a:pt x="363" y="211"/>
                  </a:lnTo>
                  <a:lnTo>
                    <a:pt x="363" y="219"/>
                  </a:lnTo>
                  <a:lnTo>
                    <a:pt x="365" y="229"/>
                  </a:lnTo>
                  <a:lnTo>
                    <a:pt x="365" y="234"/>
                  </a:lnTo>
                  <a:lnTo>
                    <a:pt x="365" y="242"/>
                  </a:lnTo>
                  <a:lnTo>
                    <a:pt x="365" y="251"/>
                  </a:lnTo>
                  <a:lnTo>
                    <a:pt x="365" y="259"/>
                  </a:lnTo>
                  <a:lnTo>
                    <a:pt x="363" y="267"/>
                  </a:lnTo>
                  <a:lnTo>
                    <a:pt x="363" y="274"/>
                  </a:lnTo>
                  <a:lnTo>
                    <a:pt x="363" y="284"/>
                  </a:lnTo>
                  <a:lnTo>
                    <a:pt x="363" y="293"/>
                  </a:lnTo>
                  <a:lnTo>
                    <a:pt x="361" y="299"/>
                  </a:lnTo>
                  <a:lnTo>
                    <a:pt x="361" y="308"/>
                  </a:lnTo>
                  <a:lnTo>
                    <a:pt x="359" y="318"/>
                  </a:lnTo>
                  <a:lnTo>
                    <a:pt x="359" y="327"/>
                  </a:lnTo>
                  <a:lnTo>
                    <a:pt x="355" y="335"/>
                  </a:lnTo>
                  <a:lnTo>
                    <a:pt x="355" y="346"/>
                  </a:lnTo>
                  <a:lnTo>
                    <a:pt x="353" y="354"/>
                  </a:lnTo>
                  <a:lnTo>
                    <a:pt x="353" y="365"/>
                  </a:lnTo>
                  <a:lnTo>
                    <a:pt x="350" y="373"/>
                  </a:lnTo>
                  <a:lnTo>
                    <a:pt x="346" y="383"/>
                  </a:lnTo>
                  <a:lnTo>
                    <a:pt x="344" y="392"/>
                  </a:lnTo>
                  <a:lnTo>
                    <a:pt x="342" y="402"/>
                  </a:lnTo>
                  <a:lnTo>
                    <a:pt x="338" y="409"/>
                  </a:lnTo>
                  <a:lnTo>
                    <a:pt x="336" y="421"/>
                  </a:lnTo>
                  <a:lnTo>
                    <a:pt x="332" y="428"/>
                  </a:lnTo>
                  <a:lnTo>
                    <a:pt x="331" y="440"/>
                  </a:lnTo>
                  <a:lnTo>
                    <a:pt x="327" y="447"/>
                  </a:lnTo>
                  <a:lnTo>
                    <a:pt x="323" y="457"/>
                  </a:lnTo>
                  <a:lnTo>
                    <a:pt x="319" y="466"/>
                  </a:lnTo>
                  <a:lnTo>
                    <a:pt x="315" y="476"/>
                  </a:lnTo>
                  <a:lnTo>
                    <a:pt x="312" y="485"/>
                  </a:lnTo>
                  <a:lnTo>
                    <a:pt x="308" y="495"/>
                  </a:lnTo>
                  <a:lnTo>
                    <a:pt x="302" y="502"/>
                  </a:lnTo>
                  <a:lnTo>
                    <a:pt x="298" y="512"/>
                  </a:lnTo>
                  <a:lnTo>
                    <a:pt x="293" y="519"/>
                  </a:lnTo>
                  <a:lnTo>
                    <a:pt x="289" y="529"/>
                  </a:lnTo>
                  <a:lnTo>
                    <a:pt x="283" y="536"/>
                  </a:lnTo>
                  <a:lnTo>
                    <a:pt x="279" y="544"/>
                  </a:lnTo>
                  <a:lnTo>
                    <a:pt x="274" y="552"/>
                  </a:lnTo>
                  <a:lnTo>
                    <a:pt x="270" y="559"/>
                  </a:lnTo>
                  <a:lnTo>
                    <a:pt x="264" y="567"/>
                  </a:lnTo>
                  <a:lnTo>
                    <a:pt x="260" y="576"/>
                  </a:lnTo>
                  <a:lnTo>
                    <a:pt x="251" y="588"/>
                  </a:lnTo>
                  <a:lnTo>
                    <a:pt x="239" y="601"/>
                  </a:lnTo>
                  <a:lnTo>
                    <a:pt x="228" y="612"/>
                  </a:lnTo>
                  <a:lnTo>
                    <a:pt x="218" y="622"/>
                  </a:lnTo>
                  <a:lnTo>
                    <a:pt x="207" y="628"/>
                  </a:lnTo>
                  <a:lnTo>
                    <a:pt x="196" y="633"/>
                  </a:lnTo>
                  <a:lnTo>
                    <a:pt x="186" y="637"/>
                  </a:lnTo>
                  <a:lnTo>
                    <a:pt x="177" y="641"/>
                  </a:lnTo>
                  <a:lnTo>
                    <a:pt x="165" y="643"/>
                  </a:lnTo>
                  <a:lnTo>
                    <a:pt x="154" y="645"/>
                  </a:lnTo>
                  <a:lnTo>
                    <a:pt x="144" y="645"/>
                  </a:lnTo>
                  <a:lnTo>
                    <a:pt x="137" y="645"/>
                  </a:lnTo>
                  <a:lnTo>
                    <a:pt x="127" y="643"/>
                  </a:lnTo>
                  <a:lnTo>
                    <a:pt x="121" y="641"/>
                  </a:lnTo>
                  <a:lnTo>
                    <a:pt x="114" y="641"/>
                  </a:lnTo>
                  <a:lnTo>
                    <a:pt x="110" y="639"/>
                  </a:lnTo>
                  <a:lnTo>
                    <a:pt x="102" y="637"/>
                  </a:lnTo>
                  <a:lnTo>
                    <a:pt x="101" y="637"/>
                  </a:lnTo>
                  <a:lnTo>
                    <a:pt x="102" y="635"/>
                  </a:lnTo>
                  <a:lnTo>
                    <a:pt x="112" y="628"/>
                  </a:lnTo>
                  <a:lnTo>
                    <a:pt x="116" y="622"/>
                  </a:lnTo>
                  <a:lnTo>
                    <a:pt x="123" y="618"/>
                  </a:lnTo>
                  <a:lnTo>
                    <a:pt x="131" y="612"/>
                  </a:lnTo>
                  <a:lnTo>
                    <a:pt x="139" y="605"/>
                  </a:lnTo>
                  <a:lnTo>
                    <a:pt x="146" y="597"/>
                  </a:lnTo>
                  <a:lnTo>
                    <a:pt x="156" y="590"/>
                  </a:lnTo>
                  <a:lnTo>
                    <a:pt x="163" y="580"/>
                  </a:lnTo>
                  <a:lnTo>
                    <a:pt x="173" y="571"/>
                  </a:lnTo>
                  <a:lnTo>
                    <a:pt x="180" y="559"/>
                  </a:lnTo>
                  <a:lnTo>
                    <a:pt x="188" y="550"/>
                  </a:lnTo>
                  <a:lnTo>
                    <a:pt x="196" y="538"/>
                  </a:lnTo>
                  <a:lnTo>
                    <a:pt x="203" y="527"/>
                  </a:lnTo>
                  <a:lnTo>
                    <a:pt x="205" y="519"/>
                  </a:lnTo>
                  <a:lnTo>
                    <a:pt x="209" y="514"/>
                  </a:lnTo>
                  <a:lnTo>
                    <a:pt x="211" y="506"/>
                  </a:lnTo>
                  <a:lnTo>
                    <a:pt x="213" y="500"/>
                  </a:lnTo>
                  <a:lnTo>
                    <a:pt x="216" y="487"/>
                  </a:lnTo>
                  <a:lnTo>
                    <a:pt x="220" y="476"/>
                  </a:lnTo>
                  <a:lnTo>
                    <a:pt x="220" y="468"/>
                  </a:lnTo>
                  <a:lnTo>
                    <a:pt x="222" y="460"/>
                  </a:lnTo>
                  <a:lnTo>
                    <a:pt x="224" y="453"/>
                  </a:lnTo>
                  <a:lnTo>
                    <a:pt x="224" y="447"/>
                  </a:lnTo>
                  <a:lnTo>
                    <a:pt x="226" y="441"/>
                  </a:lnTo>
                  <a:lnTo>
                    <a:pt x="228" y="434"/>
                  </a:lnTo>
                  <a:lnTo>
                    <a:pt x="228" y="426"/>
                  </a:lnTo>
                  <a:lnTo>
                    <a:pt x="230" y="421"/>
                  </a:lnTo>
                  <a:lnTo>
                    <a:pt x="230" y="413"/>
                  </a:lnTo>
                  <a:lnTo>
                    <a:pt x="230" y="405"/>
                  </a:lnTo>
                  <a:lnTo>
                    <a:pt x="230" y="400"/>
                  </a:lnTo>
                  <a:lnTo>
                    <a:pt x="230" y="392"/>
                  </a:lnTo>
                  <a:lnTo>
                    <a:pt x="230" y="384"/>
                  </a:lnTo>
                  <a:lnTo>
                    <a:pt x="230" y="377"/>
                  </a:lnTo>
                  <a:lnTo>
                    <a:pt x="230" y="369"/>
                  </a:lnTo>
                  <a:lnTo>
                    <a:pt x="232" y="363"/>
                  </a:lnTo>
                  <a:lnTo>
                    <a:pt x="232" y="358"/>
                  </a:lnTo>
                  <a:lnTo>
                    <a:pt x="232" y="350"/>
                  </a:lnTo>
                  <a:lnTo>
                    <a:pt x="232" y="344"/>
                  </a:lnTo>
                  <a:lnTo>
                    <a:pt x="232" y="337"/>
                  </a:lnTo>
                  <a:lnTo>
                    <a:pt x="234" y="325"/>
                  </a:lnTo>
                  <a:lnTo>
                    <a:pt x="234" y="314"/>
                  </a:lnTo>
                  <a:lnTo>
                    <a:pt x="234" y="301"/>
                  </a:lnTo>
                  <a:lnTo>
                    <a:pt x="234" y="289"/>
                  </a:lnTo>
                  <a:lnTo>
                    <a:pt x="234" y="280"/>
                  </a:lnTo>
                  <a:lnTo>
                    <a:pt x="236" y="268"/>
                  </a:lnTo>
                  <a:lnTo>
                    <a:pt x="234" y="257"/>
                  </a:lnTo>
                  <a:lnTo>
                    <a:pt x="234" y="248"/>
                  </a:lnTo>
                  <a:lnTo>
                    <a:pt x="234" y="238"/>
                  </a:lnTo>
                  <a:lnTo>
                    <a:pt x="234" y="230"/>
                  </a:lnTo>
                  <a:lnTo>
                    <a:pt x="232" y="219"/>
                  </a:lnTo>
                  <a:lnTo>
                    <a:pt x="230" y="211"/>
                  </a:lnTo>
                  <a:lnTo>
                    <a:pt x="224" y="202"/>
                  </a:lnTo>
                  <a:lnTo>
                    <a:pt x="220" y="192"/>
                  </a:lnTo>
                  <a:lnTo>
                    <a:pt x="215" y="183"/>
                  </a:lnTo>
                  <a:lnTo>
                    <a:pt x="207" y="173"/>
                  </a:lnTo>
                  <a:lnTo>
                    <a:pt x="197" y="164"/>
                  </a:lnTo>
                  <a:lnTo>
                    <a:pt x="188" y="154"/>
                  </a:lnTo>
                  <a:lnTo>
                    <a:pt x="182" y="149"/>
                  </a:lnTo>
                  <a:lnTo>
                    <a:pt x="177" y="145"/>
                  </a:lnTo>
                  <a:lnTo>
                    <a:pt x="169" y="137"/>
                  </a:lnTo>
                  <a:lnTo>
                    <a:pt x="163" y="134"/>
                  </a:lnTo>
                  <a:lnTo>
                    <a:pt x="156" y="128"/>
                  </a:lnTo>
                  <a:lnTo>
                    <a:pt x="148" y="122"/>
                  </a:lnTo>
                  <a:lnTo>
                    <a:pt x="140" y="116"/>
                  </a:lnTo>
                  <a:lnTo>
                    <a:pt x="135" y="113"/>
                  </a:lnTo>
                  <a:lnTo>
                    <a:pt x="125" y="105"/>
                  </a:lnTo>
                  <a:lnTo>
                    <a:pt x="118" y="101"/>
                  </a:lnTo>
                  <a:lnTo>
                    <a:pt x="108" y="95"/>
                  </a:lnTo>
                  <a:lnTo>
                    <a:pt x="102" y="90"/>
                  </a:lnTo>
                  <a:lnTo>
                    <a:pt x="93" y="84"/>
                  </a:lnTo>
                  <a:lnTo>
                    <a:pt x="85" y="80"/>
                  </a:lnTo>
                  <a:lnTo>
                    <a:pt x="80" y="75"/>
                  </a:lnTo>
                  <a:lnTo>
                    <a:pt x="72" y="71"/>
                  </a:lnTo>
                  <a:lnTo>
                    <a:pt x="64" y="67"/>
                  </a:lnTo>
                  <a:lnTo>
                    <a:pt x="57" y="61"/>
                  </a:lnTo>
                  <a:lnTo>
                    <a:pt x="49" y="57"/>
                  </a:lnTo>
                  <a:lnTo>
                    <a:pt x="42" y="54"/>
                  </a:lnTo>
                  <a:lnTo>
                    <a:pt x="28" y="46"/>
                  </a:lnTo>
                  <a:lnTo>
                    <a:pt x="19" y="40"/>
                  </a:lnTo>
                  <a:lnTo>
                    <a:pt x="9" y="35"/>
                  </a:lnTo>
                  <a:lnTo>
                    <a:pt x="4" y="3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 flipV="1" rot="20995800">
              <a:off x="4264200" y="3736080"/>
              <a:ext cx="309960" cy="334800"/>
            </a:xfrm>
            <a:custGeom>
              <a:avLst/>
              <a:gdLst/>
              <a:ahLst/>
              <a:rect l="l" t="t" r="r" b="b"/>
              <a:pathLst>
                <a:path w="471" h="580">
                  <a:moveTo>
                    <a:pt x="0" y="4"/>
                  </a:moveTo>
                  <a:lnTo>
                    <a:pt x="0" y="4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0" y="6"/>
                  </a:lnTo>
                  <a:lnTo>
                    <a:pt x="78" y="7"/>
                  </a:lnTo>
                  <a:lnTo>
                    <a:pt x="85" y="13"/>
                  </a:lnTo>
                  <a:lnTo>
                    <a:pt x="97" y="19"/>
                  </a:lnTo>
                  <a:lnTo>
                    <a:pt x="106" y="32"/>
                  </a:lnTo>
                  <a:lnTo>
                    <a:pt x="112" y="36"/>
                  </a:lnTo>
                  <a:lnTo>
                    <a:pt x="116" y="44"/>
                  </a:lnTo>
                  <a:lnTo>
                    <a:pt x="122" y="51"/>
                  </a:lnTo>
                  <a:lnTo>
                    <a:pt x="125" y="57"/>
                  </a:lnTo>
                  <a:lnTo>
                    <a:pt x="129" y="64"/>
                  </a:lnTo>
                  <a:lnTo>
                    <a:pt x="135" y="70"/>
                  </a:lnTo>
                  <a:lnTo>
                    <a:pt x="139" y="78"/>
                  </a:lnTo>
                  <a:lnTo>
                    <a:pt x="144" y="85"/>
                  </a:lnTo>
                  <a:lnTo>
                    <a:pt x="148" y="91"/>
                  </a:lnTo>
                  <a:lnTo>
                    <a:pt x="154" y="99"/>
                  </a:lnTo>
                  <a:lnTo>
                    <a:pt x="158" y="104"/>
                  </a:lnTo>
                  <a:lnTo>
                    <a:pt x="163" y="110"/>
                  </a:lnTo>
                  <a:lnTo>
                    <a:pt x="175" y="120"/>
                  </a:lnTo>
                  <a:lnTo>
                    <a:pt x="188" y="129"/>
                  </a:lnTo>
                  <a:lnTo>
                    <a:pt x="194" y="131"/>
                  </a:lnTo>
                  <a:lnTo>
                    <a:pt x="201" y="135"/>
                  </a:lnTo>
                  <a:lnTo>
                    <a:pt x="209" y="137"/>
                  </a:lnTo>
                  <a:lnTo>
                    <a:pt x="215" y="139"/>
                  </a:lnTo>
                  <a:lnTo>
                    <a:pt x="220" y="141"/>
                  </a:lnTo>
                  <a:lnTo>
                    <a:pt x="228" y="142"/>
                  </a:lnTo>
                  <a:lnTo>
                    <a:pt x="236" y="142"/>
                  </a:lnTo>
                  <a:lnTo>
                    <a:pt x="243" y="142"/>
                  </a:lnTo>
                  <a:lnTo>
                    <a:pt x="249" y="142"/>
                  </a:lnTo>
                  <a:lnTo>
                    <a:pt x="257" y="142"/>
                  </a:lnTo>
                  <a:lnTo>
                    <a:pt x="264" y="142"/>
                  </a:lnTo>
                  <a:lnTo>
                    <a:pt x="270" y="141"/>
                  </a:lnTo>
                  <a:lnTo>
                    <a:pt x="281" y="135"/>
                  </a:lnTo>
                  <a:lnTo>
                    <a:pt x="293" y="131"/>
                  </a:lnTo>
                  <a:lnTo>
                    <a:pt x="304" y="127"/>
                  </a:lnTo>
                  <a:lnTo>
                    <a:pt x="315" y="123"/>
                  </a:lnTo>
                  <a:lnTo>
                    <a:pt x="325" y="120"/>
                  </a:lnTo>
                  <a:lnTo>
                    <a:pt x="335" y="116"/>
                  </a:lnTo>
                  <a:lnTo>
                    <a:pt x="344" y="112"/>
                  </a:lnTo>
                  <a:lnTo>
                    <a:pt x="354" y="110"/>
                  </a:lnTo>
                  <a:lnTo>
                    <a:pt x="359" y="110"/>
                  </a:lnTo>
                  <a:lnTo>
                    <a:pt x="365" y="110"/>
                  </a:lnTo>
                  <a:lnTo>
                    <a:pt x="371" y="112"/>
                  </a:lnTo>
                  <a:lnTo>
                    <a:pt x="376" y="120"/>
                  </a:lnTo>
                  <a:lnTo>
                    <a:pt x="382" y="125"/>
                  </a:lnTo>
                  <a:lnTo>
                    <a:pt x="388" y="131"/>
                  </a:lnTo>
                  <a:lnTo>
                    <a:pt x="395" y="142"/>
                  </a:lnTo>
                  <a:lnTo>
                    <a:pt x="401" y="154"/>
                  </a:lnTo>
                  <a:lnTo>
                    <a:pt x="405" y="160"/>
                  </a:lnTo>
                  <a:lnTo>
                    <a:pt x="407" y="165"/>
                  </a:lnTo>
                  <a:lnTo>
                    <a:pt x="411" y="173"/>
                  </a:lnTo>
                  <a:lnTo>
                    <a:pt x="414" y="180"/>
                  </a:lnTo>
                  <a:lnTo>
                    <a:pt x="416" y="186"/>
                  </a:lnTo>
                  <a:lnTo>
                    <a:pt x="420" y="196"/>
                  </a:lnTo>
                  <a:lnTo>
                    <a:pt x="424" y="203"/>
                  </a:lnTo>
                  <a:lnTo>
                    <a:pt x="428" y="211"/>
                  </a:lnTo>
                  <a:lnTo>
                    <a:pt x="430" y="218"/>
                  </a:lnTo>
                  <a:lnTo>
                    <a:pt x="433" y="226"/>
                  </a:lnTo>
                  <a:lnTo>
                    <a:pt x="437" y="236"/>
                  </a:lnTo>
                  <a:lnTo>
                    <a:pt x="441" y="243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7" y="268"/>
                  </a:lnTo>
                  <a:lnTo>
                    <a:pt x="450" y="275"/>
                  </a:lnTo>
                  <a:lnTo>
                    <a:pt x="452" y="281"/>
                  </a:lnTo>
                  <a:lnTo>
                    <a:pt x="456" y="289"/>
                  </a:lnTo>
                  <a:lnTo>
                    <a:pt x="458" y="296"/>
                  </a:lnTo>
                  <a:lnTo>
                    <a:pt x="460" y="302"/>
                  </a:lnTo>
                  <a:lnTo>
                    <a:pt x="464" y="315"/>
                  </a:lnTo>
                  <a:lnTo>
                    <a:pt x="469" y="329"/>
                  </a:lnTo>
                  <a:lnTo>
                    <a:pt x="469" y="340"/>
                  </a:lnTo>
                  <a:lnTo>
                    <a:pt x="471" y="351"/>
                  </a:lnTo>
                  <a:lnTo>
                    <a:pt x="469" y="365"/>
                  </a:lnTo>
                  <a:lnTo>
                    <a:pt x="466" y="376"/>
                  </a:lnTo>
                  <a:lnTo>
                    <a:pt x="462" y="382"/>
                  </a:lnTo>
                  <a:lnTo>
                    <a:pt x="460" y="391"/>
                  </a:lnTo>
                  <a:lnTo>
                    <a:pt x="456" y="401"/>
                  </a:lnTo>
                  <a:lnTo>
                    <a:pt x="454" y="412"/>
                  </a:lnTo>
                  <a:lnTo>
                    <a:pt x="450" y="422"/>
                  </a:lnTo>
                  <a:lnTo>
                    <a:pt x="447" y="435"/>
                  </a:lnTo>
                  <a:lnTo>
                    <a:pt x="443" y="441"/>
                  </a:lnTo>
                  <a:lnTo>
                    <a:pt x="441" y="448"/>
                  </a:lnTo>
                  <a:lnTo>
                    <a:pt x="439" y="456"/>
                  </a:lnTo>
                  <a:lnTo>
                    <a:pt x="437" y="464"/>
                  </a:lnTo>
                  <a:lnTo>
                    <a:pt x="431" y="475"/>
                  </a:lnTo>
                  <a:lnTo>
                    <a:pt x="426" y="488"/>
                  </a:lnTo>
                  <a:lnTo>
                    <a:pt x="418" y="500"/>
                  </a:lnTo>
                  <a:lnTo>
                    <a:pt x="411" y="513"/>
                  </a:lnTo>
                  <a:lnTo>
                    <a:pt x="403" y="523"/>
                  </a:lnTo>
                  <a:lnTo>
                    <a:pt x="395" y="532"/>
                  </a:lnTo>
                  <a:lnTo>
                    <a:pt x="384" y="540"/>
                  </a:lnTo>
                  <a:lnTo>
                    <a:pt x="374" y="547"/>
                  </a:lnTo>
                  <a:lnTo>
                    <a:pt x="367" y="547"/>
                  </a:lnTo>
                  <a:lnTo>
                    <a:pt x="361" y="551"/>
                  </a:lnTo>
                  <a:lnTo>
                    <a:pt x="354" y="553"/>
                  </a:lnTo>
                  <a:lnTo>
                    <a:pt x="348" y="555"/>
                  </a:lnTo>
                  <a:lnTo>
                    <a:pt x="338" y="557"/>
                  </a:lnTo>
                  <a:lnTo>
                    <a:pt x="331" y="559"/>
                  </a:lnTo>
                  <a:lnTo>
                    <a:pt x="325" y="561"/>
                  </a:lnTo>
                  <a:lnTo>
                    <a:pt x="317" y="562"/>
                  </a:lnTo>
                  <a:lnTo>
                    <a:pt x="308" y="564"/>
                  </a:lnTo>
                  <a:lnTo>
                    <a:pt x="300" y="564"/>
                  </a:lnTo>
                  <a:lnTo>
                    <a:pt x="291" y="566"/>
                  </a:lnTo>
                  <a:lnTo>
                    <a:pt x="283" y="568"/>
                  </a:lnTo>
                  <a:lnTo>
                    <a:pt x="276" y="568"/>
                  </a:lnTo>
                  <a:lnTo>
                    <a:pt x="266" y="570"/>
                  </a:lnTo>
                  <a:lnTo>
                    <a:pt x="258" y="570"/>
                  </a:lnTo>
                  <a:lnTo>
                    <a:pt x="251" y="574"/>
                  </a:lnTo>
                  <a:lnTo>
                    <a:pt x="243" y="574"/>
                  </a:lnTo>
                  <a:lnTo>
                    <a:pt x="234" y="574"/>
                  </a:lnTo>
                  <a:lnTo>
                    <a:pt x="228" y="574"/>
                  </a:lnTo>
                  <a:lnTo>
                    <a:pt x="220" y="576"/>
                  </a:lnTo>
                  <a:lnTo>
                    <a:pt x="207" y="578"/>
                  </a:lnTo>
                  <a:lnTo>
                    <a:pt x="198" y="578"/>
                  </a:lnTo>
                  <a:lnTo>
                    <a:pt x="188" y="578"/>
                  </a:lnTo>
                  <a:lnTo>
                    <a:pt x="181" y="580"/>
                  </a:lnTo>
                  <a:lnTo>
                    <a:pt x="177" y="580"/>
                  </a:lnTo>
                  <a:lnTo>
                    <a:pt x="177" y="580"/>
                  </a:lnTo>
                  <a:lnTo>
                    <a:pt x="177" y="578"/>
                  </a:lnTo>
                  <a:lnTo>
                    <a:pt x="179" y="574"/>
                  </a:lnTo>
                  <a:lnTo>
                    <a:pt x="182" y="566"/>
                  </a:lnTo>
                  <a:lnTo>
                    <a:pt x="190" y="561"/>
                  </a:lnTo>
                  <a:lnTo>
                    <a:pt x="196" y="549"/>
                  </a:lnTo>
                  <a:lnTo>
                    <a:pt x="203" y="538"/>
                  </a:lnTo>
                  <a:lnTo>
                    <a:pt x="211" y="526"/>
                  </a:lnTo>
                  <a:lnTo>
                    <a:pt x="222" y="513"/>
                  </a:lnTo>
                  <a:lnTo>
                    <a:pt x="226" y="505"/>
                  </a:lnTo>
                  <a:lnTo>
                    <a:pt x="232" y="500"/>
                  </a:lnTo>
                  <a:lnTo>
                    <a:pt x="236" y="492"/>
                  </a:lnTo>
                  <a:lnTo>
                    <a:pt x="241" y="485"/>
                  </a:lnTo>
                  <a:lnTo>
                    <a:pt x="243" y="477"/>
                  </a:lnTo>
                  <a:lnTo>
                    <a:pt x="249" y="471"/>
                  </a:lnTo>
                  <a:lnTo>
                    <a:pt x="255" y="464"/>
                  </a:lnTo>
                  <a:lnTo>
                    <a:pt x="258" y="458"/>
                  </a:lnTo>
                  <a:lnTo>
                    <a:pt x="262" y="450"/>
                  </a:lnTo>
                  <a:lnTo>
                    <a:pt x="266" y="443"/>
                  </a:lnTo>
                  <a:lnTo>
                    <a:pt x="270" y="435"/>
                  </a:lnTo>
                  <a:lnTo>
                    <a:pt x="274" y="429"/>
                  </a:lnTo>
                  <a:lnTo>
                    <a:pt x="279" y="418"/>
                  </a:lnTo>
                  <a:lnTo>
                    <a:pt x="283" y="409"/>
                  </a:lnTo>
                  <a:lnTo>
                    <a:pt x="285" y="399"/>
                  </a:lnTo>
                  <a:lnTo>
                    <a:pt x="287" y="390"/>
                  </a:lnTo>
                  <a:lnTo>
                    <a:pt x="287" y="378"/>
                  </a:lnTo>
                  <a:lnTo>
                    <a:pt x="289" y="369"/>
                  </a:lnTo>
                  <a:lnTo>
                    <a:pt x="287" y="357"/>
                  </a:lnTo>
                  <a:lnTo>
                    <a:pt x="285" y="348"/>
                  </a:lnTo>
                  <a:lnTo>
                    <a:pt x="283" y="338"/>
                  </a:lnTo>
                  <a:lnTo>
                    <a:pt x="281" y="331"/>
                  </a:lnTo>
                  <a:lnTo>
                    <a:pt x="276" y="319"/>
                  </a:lnTo>
                  <a:lnTo>
                    <a:pt x="274" y="310"/>
                  </a:lnTo>
                  <a:lnTo>
                    <a:pt x="266" y="300"/>
                  </a:lnTo>
                  <a:lnTo>
                    <a:pt x="262" y="293"/>
                  </a:lnTo>
                  <a:lnTo>
                    <a:pt x="257" y="283"/>
                  </a:lnTo>
                  <a:lnTo>
                    <a:pt x="251" y="275"/>
                  </a:lnTo>
                  <a:lnTo>
                    <a:pt x="243" y="268"/>
                  </a:lnTo>
                  <a:lnTo>
                    <a:pt x="238" y="262"/>
                  </a:lnTo>
                  <a:lnTo>
                    <a:pt x="228" y="255"/>
                  </a:lnTo>
                  <a:lnTo>
                    <a:pt x="219" y="251"/>
                  </a:lnTo>
                  <a:lnTo>
                    <a:pt x="211" y="245"/>
                  </a:lnTo>
                  <a:lnTo>
                    <a:pt x="201" y="241"/>
                  </a:lnTo>
                  <a:lnTo>
                    <a:pt x="192" y="236"/>
                  </a:lnTo>
                  <a:lnTo>
                    <a:pt x="182" y="232"/>
                  </a:lnTo>
                  <a:lnTo>
                    <a:pt x="173" y="228"/>
                  </a:lnTo>
                  <a:lnTo>
                    <a:pt x="165" y="226"/>
                  </a:lnTo>
                  <a:lnTo>
                    <a:pt x="156" y="222"/>
                  </a:lnTo>
                  <a:lnTo>
                    <a:pt x="148" y="218"/>
                  </a:lnTo>
                  <a:lnTo>
                    <a:pt x="139" y="215"/>
                  </a:lnTo>
                  <a:lnTo>
                    <a:pt x="131" y="213"/>
                  </a:lnTo>
                  <a:lnTo>
                    <a:pt x="122" y="209"/>
                  </a:lnTo>
                  <a:lnTo>
                    <a:pt x="116" y="205"/>
                  </a:lnTo>
                  <a:lnTo>
                    <a:pt x="108" y="201"/>
                  </a:lnTo>
                  <a:lnTo>
                    <a:pt x="103" y="199"/>
                  </a:lnTo>
                  <a:lnTo>
                    <a:pt x="93" y="190"/>
                  </a:lnTo>
                  <a:lnTo>
                    <a:pt x="87" y="180"/>
                  </a:lnTo>
                  <a:lnTo>
                    <a:pt x="82" y="171"/>
                  </a:lnTo>
                  <a:lnTo>
                    <a:pt x="78" y="161"/>
                  </a:lnTo>
                  <a:lnTo>
                    <a:pt x="76" y="154"/>
                  </a:lnTo>
                  <a:lnTo>
                    <a:pt x="74" y="148"/>
                  </a:lnTo>
                  <a:lnTo>
                    <a:pt x="72" y="141"/>
                  </a:lnTo>
                  <a:lnTo>
                    <a:pt x="70" y="135"/>
                  </a:lnTo>
                  <a:lnTo>
                    <a:pt x="66" y="125"/>
                  </a:lnTo>
                  <a:lnTo>
                    <a:pt x="65" y="120"/>
                  </a:lnTo>
                  <a:lnTo>
                    <a:pt x="63" y="112"/>
                  </a:lnTo>
                  <a:lnTo>
                    <a:pt x="61" y="104"/>
                  </a:lnTo>
                  <a:lnTo>
                    <a:pt x="55" y="95"/>
                  </a:lnTo>
                  <a:lnTo>
                    <a:pt x="51" y="87"/>
                  </a:lnTo>
                  <a:lnTo>
                    <a:pt x="46" y="78"/>
                  </a:lnTo>
                  <a:lnTo>
                    <a:pt x="42" y="70"/>
                  </a:lnTo>
                  <a:lnTo>
                    <a:pt x="36" y="61"/>
                  </a:lnTo>
                  <a:lnTo>
                    <a:pt x="32" y="53"/>
                  </a:lnTo>
                  <a:lnTo>
                    <a:pt x="25" y="45"/>
                  </a:lnTo>
                  <a:lnTo>
                    <a:pt x="23" y="38"/>
                  </a:lnTo>
                  <a:lnTo>
                    <a:pt x="17" y="30"/>
                  </a:lnTo>
                  <a:lnTo>
                    <a:pt x="13" y="23"/>
                  </a:lnTo>
                  <a:lnTo>
                    <a:pt x="9" y="17"/>
                  </a:lnTo>
                  <a:lnTo>
                    <a:pt x="6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/>
          <p:nvPr/>
        </p:nvSpPr>
        <p:spPr>
          <a:xfrm>
            <a:off x="4876920" y="838080"/>
            <a:ext cx="293184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3" name="DOLPHIN" descr=""/>
          <p:cNvPicPr/>
          <p:nvPr/>
        </p:nvPicPr>
        <p:blipFill>
          <a:blip r:embed="rId1"/>
          <a:stretch/>
        </p:blipFill>
        <p:spPr>
          <a:xfrm>
            <a:off x="2778120" y="3166920"/>
            <a:ext cx="3586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"/>
          <p:cNvSpPr/>
          <p:nvPr/>
        </p:nvSpPr>
        <p:spPr>
          <a:xfrm>
            <a:off x="990720" y="3203640"/>
            <a:ext cx="5883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147680" y="2666880"/>
            <a:ext cx="623880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3238560" y="2824200"/>
            <a:ext cx="2666880" cy="1969920"/>
            <a:chOff x="3238560" y="2824200"/>
            <a:chExt cx="2666880" cy="1969920"/>
          </a:xfrm>
        </p:grpSpPr>
        <p:sp>
          <p:nvSpPr>
            <p:cNvPr id="2517" name=""/>
            <p:cNvSpPr/>
            <p:nvPr/>
          </p:nvSpPr>
          <p:spPr>
            <a:xfrm>
              <a:off x="3238560" y="2824200"/>
              <a:ext cx="2666880" cy="19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249720" y="2833560"/>
              <a:ext cx="2642400" cy="195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306960" y="2872440"/>
              <a:ext cx="2540520" cy="1883880"/>
            </a:xfrm>
            <a:custGeom>
              <a:avLst/>
              <a:gdLst/>
              <a:ahLst/>
              <a:rect l="l" t="t" r="r" b="b"/>
              <a:pathLst>
                <a:path w="3625" h="2728">
                  <a:moveTo>
                    <a:pt x="3625" y="2693"/>
                  </a:moveTo>
                  <a:lnTo>
                    <a:pt x="3611" y="1386"/>
                  </a:lnTo>
                  <a:lnTo>
                    <a:pt x="3612" y="862"/>
                  </a:lnTo>
                  <a:lnTo>
                    <a:pt x="3611" y="756"/>
                  </a:lnTo>
                  <a:lnTo>
                    <a:pt x="3605" y="397"/>
                  </a:lnTo>
                  <a:lnTo>
                    <a:pt x="3413" y="585"/>
                  </a:lnTo>
                  <a:lnTo>
                    <a:pt x="3405" y="672"/>
                  </a:lnTo>
                  <a:lnTo>
                    <a:pt x="3494" y="747"/>
                  </a:lnTo>
                  <a:lnTo>
                    <a:pt x="3535" y="833"/>
                  </a:lnTo>
                  <a:lnTo>
                    <a:pt x="3544" y="854"/>
                  </a:lnTo>
                  <a:lnTo>
                    <a:pt x="3498" y="922"/>
                  </a:lnTo>
                  <a:lnTo>
                    <a:pt x="3527" y="960"/>
                  </a:lnTo>
                  <a:lnTo>
                    <a:pt x="3537" y="979"/>
                  </a:lnTo>
                  <a:lnTo>
                    <a:pt x="3548" y="1058"/>
                  </a:lnTo>
                  <a:lnTo>
                    <a:pt x="3558" y="1096"/>
                  </a:lnTo>
                  <a:lnTo>
                    <a:pt x="3520" y="1163"/>
                  </a:lnTo>
                  <a:lnTo>
                    <a:pt x="3503" y="1176"/>
                  </a:lnTo>
                  <a:lnTo>
                    <a:pt x="3463" y="1176"/>
                  </a:lnTo>
                  <a:lnTo>
                    <a:pt x="3355" y="1099"/>
                  </a:lnTo>
                  <a:lnTo>
                    <a:pt x="3180" y="1102"/>
                  </a:lnTo>
                  <a:lnTo>
                    <a:pt x="3114" y="1123"/>
                  </a:lnTo>
                  <a:lnTo>
                    <a:pt x="2838" y="1496"/>
                  </a:lnTo>
                  <a:lnTo>
                    <a:pt x="2848" y="1517"/>
                  </a:lnTo>
                  <a:lnTo>
                    <a:pt x="2839" y="1563"/>
                  </a:lnTo>
                  <a:lnTo>
                    <a:pt x="2839" y="1603"/>
                  </a:lnTo>
                  <a:lnTo>
                    <a:pt x="3171" y="1151"/>
                  </a:lnTo>
                  <a:lnTo>
                    <a:pt x="3165" y="1181"/>
                  </a:lnTo>
                  <a:lnTo>
                    <a:pt x="3155" y="1209"/>
                  </a:lnTo>
                  <a:lnTo>
                    <a:pt x="3142" y="1237"/>
                  </a:lnTo>
                  <a:lnTo>
                    <a:pt x="3127" y="1266"/>
                  </a:lnTo>
                  <a:lnTo>
                    <a:pt x="3110" y="1294"/>
                  </a:lnTo>
                  <a:lnTo>
                    <a:pt x="3091" y="1322"/>
                  </a:lnTo>
                  <a:lnTo>
                    <a:pt x="3071" y="1350"/>
                  </a:lnTo>
                  <a:lnTo>
                    <a:pt x="3050" y="1379"/>
                  </a:lnTo>
                  <a:lnTo>
                    <a:pt x="3026" y="1407"/>
                  </a:lnTo>
                  <a:lnTo>
                    <a:pt x="3003" y="1437"/>
                  </a:lnTo>
                  <a:lnTo>
                    <a:pt x="2979" y="1466"/>
                  </a:lnTo>
                  <a:lnTo>
                    <a:pt x="2956" y="1496"/>
                  </a:lnTo>
                  <a:lnTo>
                    <a:pt x="2933" y="1526"/>
                  </a:lnTo>
                  <a:lnTo>
                    <a:pt x="2910" y="1557"/>
                  </a:lnTo>
                  <a:lnTo>
                    <a:pt x="2890" y="1589"/>
                  </a:lnTo>
                  <a:lnTo>
                    <a:pt x="2869" y="1622"/>
                  </a:lnTo>
                  <a:lnTo>
                    <a:pt x="2840" y="1650"/>
                  </a:lnTo>
                  <a:lnTo>
                    <a:pt x="2840" y="1669"/>
                  </a:lnTo>
                  <a:lnTo>
                    <a:pt x="2890" y="1668"/>
                  </a:lnTo>
                  <a:lnTo>
                    <a:pt x="2955" y="1572"/>
                  </a:lnTo>
                  <a:lnTo>
                    <a:pt x="2976" y="1551"/>
                  </a:lnTo>
                  <a:lnTo>
                    <a:pt x="3157" y="1336"/>
                  </a:lnTo>
                  <a:lnTo>
                    <a:pt x="2938" y="1659"/>
                  </a:lnTo>
                  <a:lnTo>
                    <a:pt x="3072" y="1646"/>
                  </a:lnTo>
                  <a:lnTo>
                    <a:pt x="3139" y="1578"/>
                  </a:lnTo>
                  <a:lnTo>
                    <a:pt x="3122" y="1635"/>
                  </a:lnTo>
                  <a:lnTo>
                    <a:pt x="3191" y="1683"/>
                  </a:lnTo>
                  <a:lnTo>
                    <a:pt x="3229" y="1682"/>
                  </a:lnTo>
                  <a:lnTo>
                    <a:pt x="3248" y="1672"/>
                  </a:lnTo>
                  <a:lnTo>
                    <a:pt x="3268" y="1662"/>
                  </a:lnTo>
                  <a:lnTo>
                    <a:pt x="3285" y="1586"/>
                  </a:lnTo>
                  <a:lnTo>
                    <a:pt x="3265" y="1528"/>
                  </a:lnTo>
                  <a:lnTo>
                    <a:pt x="3451" y="1534"/>
                  </a:lnTo>
                  <a:lnTo>
                    <a:pt x="3468" y="1524"/>
                  </a:lnTo>
                  <a:lnTo>
                    <a:pt x="3508" y="1483"/>
                  </a:lnTo>
                  <a:lnTo>
                    <a:pt x="3515" y="1435"/>
                  </a:lnTo>
                  <a:lnTo>
                    <a:pt x="3514" y="1366"/>
                  </a:lnTo>
                  <a:lnTo>
                    <a:pt x="3573" y="1406"/>
                  </a:lnTo>
                  <a:lnTo>
                    <a:pt x="3573" y="1454"/>
                  </a:lnTo>
                  <a:lnTo>
                    <a:pt x="3488" y="1582"/>
                  </a:lnTo>
                  <a:lnTo>
                    <a:pt x="3452" y="1600"/>
                  </a:lnTo>
                  <a:lnTo>
                    <a:pt x="3344" y="1614"/>
                  </a:lnTo>
                  <a:lnTo>
                    <a:pt x="3317" y="1710"/>
                  </a:lnTo>
                  <a:lnTo>
                    <a:pt x="3269" y="1711"/>
                  </a:lnTo>
                  <a:lnTo>
                    <a:pt x="3250" y="1748"/>
                  </a:lnTo>
                  <a:lnTo>
                    <a:pt x="3231" y="1759"/>
                  </a:lnTo>
                  <a:lnTo>
                    <a:pt x="3233" y="1904"/>
                  </a:lnTo>
                  <a:lnTo>
                    <a:pt x="3186" y="1993"/>
                  </a:lnTo>
                  <a:lnTo>
                    <a:pt x="3130" y="2034"/>
                  </a:lnTo>
                  <a:lnTo>
                    <a:pt x="3090" y="2034"/>
                  </a:lnTo>
                  <a:lnTo>
                    <a:pt x="3091" y="2168"/>
                  </a:lnTo>
                  <a:lnTo>
                    <a:pt x="3084" y="2365"/>
                  </a:lnTo>
                  <a:lnTo>
                    <a:pt x="2968" y="2366"/>
                  </a:lnTo>
                  <a:lnTo>
                    <a:pt x="2950" y="2375"/>
                  </a:lnTo>
                  <a:lnTo>
                    <a:pt x="2872" y="2377"/>
                  </a:lnTo>
                  <a:lnTo>
                    <a:pt x="2823" y="2377"/>
                  </a:lnTo>
                  <a:lnTo>
                    <a:pt x="1565" y="2439"/>
                  </a:lnTo>
                  <a:lnTo>
                    <a:pt x="1546" y="2457"/>
                  </a:lnTo>
                  <a:lnTo>
                    <a:pt x="1548" y="2496"/>
                  </a:lnTo>
                  <a:lnTo>
                    <a:pt x="1530" y="2564"/>
                  </a:lnTo>
                  <a:lnTo>
                    <a:pt x="1549" y="2564"/>
                  </a:lnTo>
                  <a:lnTo>
                    <a:pt x="1572" y="2557"/>
                  </a:lnTo>
                  <a:lnTo>
                    <a:pt x="1596" y="2551"/>
                  </a:lnTo>
                  <a:lnTo>
                    <a:pt x="1618" y="2546"/>
                  </a:lnTo>
                  <a:lnTo>
                    <a:pt x="1640" y="2542"/>
                  </a:lnTo>
                  <a:lnTo>
                    <a:pt x="1662" y="2540"/>
                  </a:lnTo>
                  <a:lnTo>
                    <a:pt x="1684" y="2538"/>
                  </a:lnTo>
                  <a:lnTo>
                    <a:pt x="1707" y="2537"/>
                  </a:lnTo>
                  <a:lnTo>
                    <a:pt x="1727" y="2538"/>
                  </a:lnTo>
                  <a:lnTo>
                    <a:pt x="1750" y="2540"/>
                  </a:lnTo>
                  <a:lnTo>
                    <a:pt x="1772" y="2542"/>
                  </a:lnTo>
                  <a:lnTo>
                    <a:pt x="1794" y="2546"/>
                  </a:lnTo>
                  <a:lnTo>
                    <a:pt x="1816" y="2551"/>
                  </a:lnTo>
                  <a:lnTo>
                    <a:pt x="1838" y="2556"/>
                  </a:lnTo>
                  <a:lnTo>
                    <a:pt x="1862" y="2563"/>
                  </a:lnTo>
                  <a:lnTo>
                    <a:pt x="1885" y="2569"/>
                  </a:lnTo>
                  <a:lnTo>
                    <a:pt x="1908" y="2578"/>
                  </a:lnTo>
                  <a:lnTo>
                    <a:pt x="1889" y="2636"/>
                  </a:lnTo>
                  <a:lnTo>
                    <a:pt x="1510" y="2585"/>
                  </a:lnTo>
                  <a:lnTo>
                    <a:pt x="1463" y="2624"/>
                  </a:lnTo>
                  <a:lnTo>
                    <a:pt x="1268" y="2607"/>
                  </a:lnTo>
                  <a:lnTo>
                    <a:pt x="1101" y="2457"/>
                  </a:lnTo>
                  <a:lnTo>
                    <a:pt x="1098" y="2312"/>
                  </a:lnTo>
                  <a:lnTo>
                    <a:pt x="760" y="2306"/>
                  </a:lnTo>
                  <a:lnTo>
                    <a:pt x="734" y="2530"/>
                  </a:lnTo>
                  <a:lnTo>
                    <a:pt x="823" y="2557"/>
                  </a:lnTo>
                  <a:lnTo>
                    <a:pt x="851" y="2548"/>
                  </a:lnTo>
                  <a:lnTo>
                    <a:pt x="888" y="2479"/>
                  </a:lnTo>
                  <a:lnTo>
                    <a:pt x="927" y="2478"/>
                  </a:lnTo>
                  <a:lnTo>
                    <a:pt x="946" y="2496"/>
                  </a:lnTo>
                  <a:lnTo>
                    <a:pt x="946" y="2517"/>
                  </a:lnTo>
                  <a:lnTo>
                    <a:pt x="889" y="2606"/>
                  </a:lnTo>
                  <a:lnTo>
                    <a:pt x="842" y="2615"/>
                  </a:lnTo>
                  <a:lnTo>
                    <a:pt x="686" y="2588"/>
                  </a:lnTo>
                  <a:lnTo>
                    <a:pt x="677" y="2560"/>
                  </a:lnTo>
                  <a:lnTo>
                    <a:pt x="701" y="2297"/>
                  </a:lnTo>
                  <a:lnTo>
                    <a:pt x="498" y="2292"/>
                  </a:lnTo>
                  <a:lnTo>
                    <a:pt x="391" y="2275"/>
                  </a:lnTo>
                  <a:lnTo>
                    <a:pt x="389" y="2245"/>
                  </a:lnTo>
                  <a:lnTo>
                    <a:pt x="700" y="2231"/>
                  </a:lnTo>
                  <a:lnTo>
                    <a:pt x="767" y="1675"/>
                  </a:lnTo>
                  <a:lnTo>
                    <a:pt x="729" y="1698"/>
                  </a:lnTo>
                  <a:lnTo>
                    <a:pt x="671" y="1757"/>
                  </a:lnTo>
                  <a:lnTo>
                    <a:pt x="642" y="1757"/>
                  </a:lnTo>
                  <a:lnTo>
                    <a:pt x="605" y="1787"/>
                  </a:lnTo>
                  <a:lnTo>
                    <a:pt x="569" y="1818"/>
                  </a:lnTo>
                  <a:lnTo>
                    <a:pt x="533" y="1848"/>
                  </a:lnTo>
                  <a:lnTo>
                    <a:pt x="499" y="1877"/>
                  </a:lnTo>
                  <a:lnTo>
                    <a:pt x="466" y="1907"/>
                  </a:lnTo>
                  <a:lnTo>
                    <a:pt x="432" y="1935"/>
                  </a:lnTo>
                  <a:lnTo>
                    <a:pt x="400" y="1965"/>
                  </a:lnTo>
                  <a:lnTo>
                    <a:pt x="368" y="1994"/>
                  </a:lnTo>
                  <a:lnTo>
                    <a:pt x="338" y="2025"/>
                  </a:lnTo>
                  <a:lnTo>
                    <a:pt x="307" y="2057"/>
                  </a:lnTo>
                  <a:lnTo>
                    <a:pt x="277" y="2089"/>
                  </a:lnTo>
                  <a:lnTo>
                    <a:pt x="249" y="2122"/>
                  </a:lnTo>
                  <a:lnTo>
                    <a:pt x="221" y="2157"/>
                  </a:lnTo>
                  <a:lnTo>
                    <a:pt x="192" y="2192"/>
                  </a:lnTo>
                  <a:lnTo>
                    <a:pt x="165" y="2231"/>
                  </a:lnTo>
                  <a:lnTo>
                    <a:pt x="138" y="2270"/>
                  </a:lnTo>
                  <a:lnTo>
                    <a:pt x="88" y="2260"/>
                  </a:lnTo>
                  <a:lnTo>
                    <a:pt x="127" y="1650"/>
                  </a:lnTo>
                  <a:lnTo>
                    <a:pt x="88" y="1631"/>
                  </a:lnTo>
                  <a:lnTo>
                    <a:pt x="133" y="1534"/>
                  </a:lnTo>
                  <a:lnTo>
                    <a:pt x="143" y="1476"/>
                  </a:lnTo>
                  <a:lnTo>
                    <a:pt x="142" y="1401"/>
                  </a:lnTo>
                  <a:lnTo>
                    <a:pt x="141" y="1325"/>
                  </a:lnTo>
                  <a:lnTo>
                    <a:pt x="139" y="1250"/>
                  </a:lnTo>
                  <a:lnTo>
                    <a:pt x="138" y="1174"/>
                  </a:lnTo>
                  <a:lnTo>
                    <a:pt x="62" y="1235"/>
                  </a:lnTo>
                  <a:lnTo>
                    <a:pt x="137" y="1107"/>
                  </a:lnTo>
                  <a:lnTo>
                    <a:pt x="125" y="1038"/>
                  </a:lnTo>
                  <a:lnTo>
                    <a:pt x="123" y="950"/>
                  </a:lnTo>
                  <a:lnTo>
                    <a:pt x="133" y="893"/>
                  </a:lnTo>
                  <a:lnTo>
                    <a:pt x="152" y="884"/>
                  </a:lnTo>
                  <a:lnTo>
                    <a:pt x="210" y="873"/>
                  </a:lnTo>
                  <a:lnTo>
                    <a:pt x="201" y="847"/>
                  </a:lnTo>
                  <a:lnTo>
                    <a:pt x="196" y="821"/>
                  </a:lnTo>
                  <a:lnTo>
                    <a:pt x="196" y="797"/>
                  </a:lnTo>
                  <a:lnTo>
                    <a:pt x="198" y="771"/>
                  </a:lnTo>
                  <a:lnTo>
                    <a:pt x="206" y="745"/>
                  </a:lnTo>
                  <a:lnTo>
                    <a:pt x="216" y="720"/>
                  </a:lnTo>
                  <a:lnTo>
                    <a:pt x="229" y="694"/>
                  </a:lnTo>
                  <a:lnTo>
                    <a:pt x="245" y="669"/>
                  </a:lnTo>
                  <a:lnTo>
                    <a:pt x="254" y="621"/>
                  </a:lnTo>
                  <a:lnTo>
                    <a:pt x="245" y="639"/>
                  </a:lnTo>
                  <a:lnTo>
                    <a:pt x="226" y="582"/>
                  </a:lnTo>
                  <a:lnTo>
                    <a:pt x="195" y="534"/>
                  </a:lnTo>
                  <a:lnTo>
                    <a:pt x="191" y="490"/>
                  </a:lnTo>
                  <a:lnTo>
                    <a:pt x="191" y="446"/>
                  </a:lnTo>
                  <a:lnTo>
                    <a:pt x="195" y="401"/>
                  </a:lnTo>
                  <a:lnTo>
                    <a:pt x="205" y="357"/>
                  </a:lnTo>
                  <a:lnTo>
                    <a:pt x="222" y="313"/>
                  </a:lnTo>
                  <a:lnTo>
                    <a:pt x="246" y="271"/>
                  </a:lnTo>
                  <a:lnTo>
                    <a:pt x="280" y="230"/>
                  </a:lnTo>
                  <a:lnTo>
                    <a:pt x="324" y="191"/>
                  </a:lnTo>
                  <a:lnTo>
                    <a:pt x="345" y="179"/>
                  </a:lnTo>
                  <a:lnTo>
                    <a:pt x="366" y="166"/>
                  </a:lnTo>
                  <a:lnTo>
                    <a:pt x="387" y="154"/>
                  </a:lnTo>
                  <a:lnTo>
                    <a:pt x="408" y="143"/>
                  </a:lnTo>
                  <a:lnTo>
                    <a:pt x="427" y="133"/>
                  </a:lnTo>
                  <a:lnTo>
                    <a:pt x="447" y="123"/>
                  </a:lnTo>
                  <a:lnTo>
                    <a:pt x="467" y="113"/>
                  </a:lnTo>
                  <a:lnTo>
                    <a:pt x="487" y="105"/>
                  </a:lnTo>
                  <a:lnTo>
                    <a:pt x="506" y="97"/>
                  </a:lnTo>
                  <a:lnTo>
                    <a:pt x="526" y="91"/>
                  </a:lnTo>
                  <a:lnTo>
                    <a:pt x="546" y="85"/>
                  </a:lnTo>
                  <a:lnTo>
                    <a:pt x="564" y="80"/>
                  </a:lnTo>
                  <a:lnTo>
                    <a:pt x="584" y="76"/>
                  </a:lnTo>
                  <a:lnTo>
                    <a:pt x="603" y="73"/>
                  </a:lnTo>
                  <a:lnTo>
                    <a:pt x="623" y="72"/>
                  </a:lnTo>
                  <a:lnTo>
                    <a:pt x="643" y="70"/>
                  </a:lnTo>
                  <a:lnTo>
                    <a:pt x="1514" y="44"/>
                  </a:lnTo>
                  <a:lnTo>
                    <a:pt x="2019" y="56"/>
                  </a:lnTo>
                  <a:lnTo>
                    <a:pt x="2000" y="116"/>
                  </a:lnTo>
                  <a:lnTo>
                    <a:pt x="2025" y="415"/>
                  </a:lnTo>
                  <a:lnTo>
                    <a:pt x="2180" y="413"/>
                  </a:lnTo>
                  <a:lnTo>
                    <a:pt x="2209" y="403"/>
                  </a:lnTo>
                  <a:lnTo>
                    <a:pt x="2226" y="197"/>
                  </a:lnTo>
                  <a:lnTo>
                    <a:pt x="2274" y="208"/>
                  </a:lnTo>
                  <a:lnTo>
                    <a:pt x="2260" y="499"/>
                  </a:lnTo>
                  <a:lnTo>
                    <a:pt x="2279" y="517"/>
                  </a:lnTo>
                  <a:lnTo>
                    <a:pt x="2270" y="595"/>
                  </a:lnTo>
                  <a:lnTo>
                    <a:pt x="2212" y="576"/>
                  </a:lnTo>
                  <a:lnTo>
                    <a:pt x="2210" y="470"/>
                  </a:lnTo>
                  <a:lnTo>
                    <a:pt x="2046" y="481"/>
                  </a:lnTo>
                  <a:lnTo>
                    <a:pt x="2028" y="608"/>
                  </a:lnTo>
                  <a:lnTo>
                    <a:pt x="2067" y="608"/>
                  </a:lnTo>
                  <a:lnTo>
                    <a:pt x="2029" y="677"/>
                  </a:lnTo>
                  <a:lnTo>
                    <a:pt x="2033" y="869"/>
                  </a:lnTo>
                  <a:lnTo>
                    <a:pt x="2061" y="880"/>
                  </a:lnTo>
                  <a:lnTo>
                    <a:pt x="2112" y="868"/>
                  </a:lnTo>
                  <a:lnTo>
                    <a:pt x="2158" y="867"/>
                  </a:lnTo>
                  <a:lnTo>
                    <a:pt x="2238" y="925"/>
                  </a:lnTo>
                  <a:lnTo>
                    <a:pt x="2285" y="877"/>
                  </a:lnTo>
                  <a:lnTo>
                    <a:pt x="2622" y="870"/>
                  </a:lnTo>
                  <a:lnTo>
                    <a:pt x="2789" y="868"/>
                  </a:lnTo>
                  <a:lnTo>
                    <a:pt x="2811" y="1049"/>
                  </a:lnTo>
                  <a:lnTo>
                    <a:pt x="2887" y="1019"/>
                  </a:lnTo>
                  <a:lnTo>
                    <a:pt x="2986" y="1038"/>
                  </a:lnTo>
                  <a:lnTo>
                    <a:pt x="3003" y="1028"/>
                  </a:lnTo>
                  <a:lnTo>
                    <a:pt x="2981" y="806"/>
                  </a:lnTo>
                  <a:lnTo>
                    <a:pt x="2998" y="747"/>
                  </a:lnTo>
                  <a:lnTo>
                    <a:pt x="3057" y="784"/>
                  </a:lnTo>
                  <a:lnTo>
                    <a:pt x="3096" y="774"/>
                  </a:lnTo>
                  <a:lnTo>
                    <a:pt x="3115" y="725"/>
                  </a:lnTo>
                  <a:lnTo>
                    <a:pt x="3164" y="694"/>
                  </a:lnTo>
                  <a:lnTo>
                    <a:pt x="3173" y="646"/>
                  </a:lnTo>
                  <a:lnTo>
                    <a:pt x="3152" y="607"/>
                  </a:lnTo>
                  <a:lnTo>
                    <a:pt x="3104" y="580"/>
                  </a:lnTo>
                  <a:lnTo>
                    <a:pt x="2822" y="605"/>
                  </a:lnTo>
                  <a:lnTo>
                    <a:pt x="2812" y="537"/>
                  </a:lnTo>
                  <a:lnTo>
                    <a:pt x="2806" y="159"/>
                  </a:lnTo>
                  <a:lnTo>
                    <a:pt x="2853" y="159"/>
                  </a:lnTo>
                  <a:lnTo>
                    <a:pt x="2865" y="245"/>
                  </a:lnTo>
                  <a:lnTo>
                    <a:pt x="2867" y="331"/>
                  </a:lnTo>
                  <a:lnTo>
                    <a:pt x="2874" y="321"/>
                  </a:lnTo>
                  <a:lnTo>
                    <a:pt x="2882" y="309"/>
                  </a:lnTo>
                  <a:lnTo>
                    <a:pt x="2893" y="294"/>
                  </a:lnTo>
                  <a:lnTo>
                    <a:pt x="2906" y="280"/>
                  </a:lnTo>
                  <a:lnTo>
                    <a:pt x="2920" y="262"/>
                  </a:lnTo>
                  <a:lnTo>
                    <a:pt x="2935" y="245"/>
                  </a:lnTo>
                  <a:lnTo>
                    <a:pt x="2952" y="227"/>
                  </a:lnTo>
                  <a:lnTo>
                    <a:pt x="2971" y="208"/>
                  </a:lnTo>
                  <a:lnTo>
                    <a:pt x="2991" y="191"/>
                  </a:lnTo>
                  <a:lnTo>
                    <a:pt x="3010" y="174"/>
                  </a:lnTo>
                  <a:lnTo>
                    <a:pt x="3031" y="158"/>
                  </a:lnTo>
                  <a:lnTo>
                    <a:pt x="3051" y="143"/>
                  </a:lnTo>
                  <a:lnTo>
                    <a:pt x="3073" y="129"/>
                  </a:lnTo>
                  <a:lnTo>
                    <a:pt x="3094" y="118"/>
                  </a:lnTo>
                  <a:lnTo>
                    <a:pt x="3114" y="110"/>
                  </a:lnTo>
                  <a:lnTo>
                    <a:pt x="3135" y="105"/>
                  </a:lnTo>
                  <a:lnTo>
                    <a:pt x="3201" y="113"/>
                  </a:lnTo>
                  <a:lnTo>
                    <a:pt x="3173" y="161"/>
                  </a:lnTo>
                  <a:lnTo>
                    <a:pt x="3039" y="223"/>
                  </a:lnTo>
                  <a:lnTo>
                    <a:pt x="2991" y="262"/>
                  </a:lnTo>
                  <a:lnTo>
                    <a:pt x="3137" y="230"/>
                  </a:lnTo>
                  <a:lnTo>
                    <a:pt x="3167" y="326"/>
                  </a:lnTo>
                  <a:lnTo>
                    <a:pt x="3252" y="180"/>
                  </a:lnTo>
                  <a:lnTo>
                    <a:pt x="3252" y="140"/>
                  </a:lnTo>
                  <a:lnTo>
                    <a:pt x="3231" y="152"/>
                  </a:lnTo>
                  <a:lnTo>
                    <a:pt x="3202" y="142"/>
                  </a:lnTo>
                  <a:lnTo>
                    <a:pt x="3229" y="83"/>
                  </a:lnTo>
                  <a:lnTo>
                    <a:pt x="3317" y="81"/>
                  </a:lnTo>
                  <a:lnTo>
                    <a:pt x="3332" y="296"/>
                  </a:lnTo>
                  <a:lnTo>
                    <a:pt x="3339" y="702"/>
                  </a:lnTo>
                  <a:lnTo>
                    <a:pt x="3300" y="702"/>
                  </a:lnTo>
                  <a:lnTo>
                    <a:pt x="3272" y="267"/>
                  </a:lnTo>
                  <a:lnTo>
                    <a:pt x="3265" y="282"/>
                  </a:lnTo>
                  <a:lnTo>
                    <a:pt x="3256" y="297"/>
                  </a:lnTo>
                  <a:lnTo>
                    <a:pt x="3247" y="312"/>
                  </a:lnTo>
                  <a:lnTo>
                    <a:pt x="3236" y="326"/>
                  </a:lnTo>
                  <a:lnTo>
                    <a:pt x="3224" y="342"/>
                  </a:lnTo>
                  <a:lnTo>
                    <a:pt x="3212" y="357"/>
                  </a:lnTo>
                  <a:lnTo>
                    <a:pt x="3200" y="372"/>
                  </a:lnTo>
                  <a:lnTo>
                    <a:pt x="3186" y="387"/>
                  </a:lnTo>
                  <a:lnTo>
                    <a:pt x="3171" y="401"/>
                  </a:lnTo>
                  <a:lnTo>
                    <a:pt x="3157" y="416"/>
                  </a:lnTo>
                  <a:lnTo>
                    <a:pt x="3142" y="430"/>
                  </a:lnTo>
                  <a:lnTo>
                    <a:pt x="3127" y="443"/>
                  </a:lnTo>
                  <a:lnTo>
                    <a:pt x="3111" y="457"/>
                  </a:lnTo>
                  <a:lnTo>
                    <a:pt x="3095" y="470"/>
                  </a:lnTo>
                  <a:lnTo>
                    <a:pt x="3079" y="483"/>
                  </a:lnTo>
                  <a:lnTo>
                    <a:pt x="3063" y="494"/>
                  </a:lnTo>
                  <a:lnTo>
                    <a:pt x="3121" y="512"/>
                  </a:lnTo>
                  <a:lnTo>
                    <a:pt x="3219" y="587"/>
                  </a:lnTo>
                  <a:lnTo>
                    <a:pt x="3231" y="675"/>
                  </a:lnTo>
                  <a:lnTo>
                    <a:pt x="3175" y="763"/>
                  </a:lnTo>
                  <a:lnTo>
                    <a:pt x="3058" y="863"/>
                  </a:lnTo>
                  <a:lnTo>
                    <a:pt x="3082" y="1026"/>
                  </a:lnTo>
                  <a:lnTo>
                    <a:pt x="3354" y="1022"/>
                  </a:lnTo>
                  <a:lnTo>
                    <a:pt x="3429" y="894"/>
                  </a:lnTo>
                  <a:lnTo>
                    <a:pt x="3447" y="884"/>
                  </a:lnTo>
                  <a:lnTo>
                    <a:pt x="3487" y="856"/>
                  </a:lnTo>
                  <a:lnTo>
                    <a:pt x="3456" y="787"/>
                  </a:lnTo>
                  <a:lnTo>
                    <a:pt x="3386" y="730"/>
                  </a:lnTo>
                  <a:lnTo>
                    <a:pt x="3339" y="713"/>
                  </a:lnTo>
                  <a:lnTo>
                    <a:pt x="3361" y="352"/>
                  </a:lnTo>
                  <a:lnTo>
                    <a:pt x="3375" y="91"/>
                  </a:lnTo>
                  <a:lnTo>
                    <a:pt x="3414" y="110"/>
                  </a:lnTo>
                  <a:lnTo>
                    <a:pt x="3428" y="224"/>
                  </a:lnTo>
                  <a:lnTo>
                    <a:pt x="3570" y="96"/>
                  </a:lnTo>
                  <a:lnTo>
                    <a:pt x="3607" y="48"/>
                  </a:lnTo>
                  <a:lnTo>
                    <a:pt x="3606" y="9"/>
                  </a:lnTo>
                  <a:lnTo>
                    <a:pt x="3558" y="10"/>
                  </a:lnTo>
                  <a:lnTo>
                    <a:pt x="3472" y="11"/>
                  </a:lnTo>
                  <a:lnTo>
                    <a:pt x="2938" y="0"/>
                  </a:lnTo>
                  <a:lnTo>
                    <a:pt x="2599" y="6"/>
                  </a:lnTo>
                  <a:lnTo>
                    <a:pt x="1436" y="9"/>
                  </a:lnTo>
                  <a:lnTo>
                    <a:pt x="1020" y="5"/>
                  </a:lnTo>
                  <a:lnTo>
                    <a:pt x="583" y="24"/>
                  </a:lnTo>
                  <a:lnTo>
                    <a:pt x="31" y="4"/>
                  </a:lnTo>
                  <a:lnTo>
                    <a:pt x="24" y="1322"/>
                  </a:lnTo>
                  <a:lnTo>
                    <a:pt x="35" y="2504"/>
                  </a:lnTo>
                  <a:lnTo>
                    <a:pt x="19" y="2658"/>
                  </a:lnTo>
                  <a:lnTo>
                    <a:pt x="0" y="2717"/>
                  </a:lnTo>
                  <a:lnTo>
                    <a:pt x="1018" y="2728"/>
                  </a:lnTo>
                  <a:lnTo>
                    <a:pt x="1153" y="2725"/>
                  </a:lnTo>
                  <a:lnTo>
                    <a:pt x="2269" y="2706"/>
                  </a:lnTo>
                  <a:lnTo>
                    <a:pt x="2771" y="2697"/>
                  </a:lnTo>
                  <a:lnTo>
                    <a:pt x="2859" y="2707"/>
                  </a:lnTo>
                  <a:lnTo>
                    <a:pt x="2945" y="2706"/>
                  </a:lnTo>
                  <a:lnTo>
                    <a:pt x="3120" y="2702"/>
                  </a:lnTo>
                  <a:lnTo>
                    <a:pt x="3586" y="2703"/>
                  </a:lnTo>
                  <a:lnTo>
                    <a:pt x="3625" y="2693"/>
                  </a:lnTo>
                  <a:close/>
                </a:path>
              </a:pathLst>
            </a:custGeom>
            <a:solidFill>
              <a:srgbClr val="da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235120" y="4342320"/>
              <a:ext cx="492120" cy="379800"/>
            </a:xfrm>
            <a:custGeom>
              <a:avLst/>
              <a:gdLst/>
              <a:ahLst/>
              <a:rect l="l" t="t" r="r" b="b"/>
              <a:pathLst>
                <a:path w="701" h="549">
                  <a:moveTo>
                    <a:pt x="107" y="549"/>
                  </a:moveTo>
                  <a:lnTo>
                    <a:pt x="0" y="542"/>
                  </a:lnTo>
                  <a:lnTo>
                    <a:pt x="58" y="474"/>
                  </a:lnTo>
                  <a:lnTo>
                    <a:pt x="97" y="473"/>
                  </a:lnTo>
                  <a:lnTo>
                    <a:pt x="58" y="453"/>
                  </a:lnTo>
                  <a:lnTo>
                    <a:pt x="56" y="405"/>
                  </a:lnTo>
                  <a:lnTo>
                    <a:pt x="386" y="381"/>
                  </a:lnTo>
                  <a:lnTo>
                    <a:pt x="364" y="360"/>
                  </a:lnTo>
                  <a:lnTo>
                    <a:pt x="528" y="194"/>
                  </a:lnTo>
                  <a:lnTo>
                    <a:pt x="552" y="0"/>
                  </a:lnTo>
                  <a:lnTo>
                    <a:pt x="573" y="66"/>
                  </a:lnTo>
                  <a:lnTo>
                    <a:pt x="576" y="221"/>
                  </a:lnTo>
                  <a:lnTo>
                    <a:pt x="577" y="269"/>
                  </a:lnTo>
                  <a:lnTo>
                    <a:pt x="628" y="298"/>
                  </a:lnTo>
                  <a:lnTo>
                    <a:pt x="632" y="123"/>
                  </a:lnTo>
                  <a:lnTo>
                    <a:pt x="672" y="94"/>
                  </a:lnTo>
                  <a:lnTo>
                    <a:pt x="673" y="219"/>
                  </a:lnTo>
                  <a:lnTo>
                    <a:pt x="701" y="210"/>
                  </a:lnTo>
                  <a:lnTo>
                    <a:pt x="687" y="404"/>
                  </a:lnTo>
                  <a:lnTo>
                    <a:pt x="657" y="336"/>
                  </a:lnTo>
                  <a:lnTo>
                    <a:pt x="639" y="442"/>
                  </a:lnTo>
                  <a:lnTo>
                    <a:pt x="599" y="377"/>
                  </a:lnTo>
                  <a:lnTo>
                    <a:pt x="581" y="453"/>
                  </a:lnTo>
                  <a:lnTo>
                    <a:pt x="543" y="455"/>
                  </a:lnTo>
                  <a:lnTo>
                    <a:pt x="522" y="473"/>
                  </a:lnTo>
                  <a:lnTo>
                    <a:pt x="134" y="492"/>
                  </a:lnTo>
                  <a:lnTo>
                    <a:pt x="165" y="519"/>
                  </a:lnTo>
                  <a:lnTo>
                    <a:pt x="107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405240" y="4456800"/>
              <a:ext cx="236520" cy="194760"/>
            </a:xfrm>
            <a:custGeom>
              <a:avLst/>
              <a:gdLst/>
              <a:ahLst/>
              <a:rect l="l" t="t" r="r" b="b"/>
              <a:pathLst>
                <a:path w="338" h="281">
                  <a:moveTo>
                    <a:pt x="187" y="280"/>
                  </a:moveTo>
                  <a:lnTo>
                    <a:pt x="129" y="281"/>
                  </a:lnTo>
                  <a:lnTo>
                    <a:pt x="21" y="235"/>
                  </a:lnTo>
                  <a:lnTo>
                    <a:pt x="9" y="205"/>
                  </a:lnTo>
                  <a:lnTo>
                    <a:pt x="1" y="187"/>
                  </a:lnTo>
                  <a:lnTo>
                    <a:pt x="0" y="149"/>
                  </a:lnTo>
                  <a:lnTo>
                    <a:pt x="46" y="60"/>
                  </a:lnTo>
                  <a:lnTo>
                    <a:pt x="65" y="20"/>
                  </a:lnTo>
                  <a:lnTo>
                    <a:pt x="201" y="0"/>
                  </a:lnTo>
                  <a:lnTo>
                    <a:pt x="318" y="93"/>
                  </a:lnTo>
                  <a:lnTo>
                    <a:pt x="338" y="162"/>
                  </a:lnTo>
                  <a:lnTo>
                    <a:pt x="274" y="261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188960" y="4600800"/>
              <a:ext cx="10800" cy="2628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40"/>
                  </a:moveTo>
                  <a:lnTo>
                    <a:pt x="18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445920" y="4505400"/>
              <a:ext cx="162720" cy="114480"/>
            </a:xfrm>
            <a:custGeom>
              <a:avLst/>
              <a:gdLst/>
              <a:ahLst/>
              <a:rect l="l" t="t" r="r" b="b"/>
              <a:pathLst>
                <a:path w="231" h="167">
                  <a:moveTo>
                    <a:pt x="87" y="167"/>
                  </a:moveTo>
                  <a:lnTo>
                    <a:pt x="0" y="110"/>
                  </a:lnTo>
                  <a:lnTo>
                    <a:pt x="0" y="71"/>
                  </a:lnTo>
                  <a:lnTo>
                    <a:pt x="27" y="31"/>
                  </a:lnTo>
                  <a:lnTo>
                    <a:pt x="96" y="30"/>
                  </a:lnTo>
                  <a:lnTo>
                    <a:pt x="114" y="0"/>
                  </a:lnTo>
                  <a:lnTo>
                    <a:pt x="192" y="20"/>
                  </a:lnTo>
                  <a:lnTo>
                    <a:pt x="220" y="57"/>
                  </a:lnTo>
                  <a:lnTo>
                    <a:pt x="231" y="77"/>
                  </a:lnTo>
                  <a:lnTo>
                    <a:pt x="186" y="156"/>
                  </a:lnTo>
                  <a:lnTo>
                    <a:pt x="87" y="16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61920" y="4506840"/>
              <a:ext cx="102240" cy="2052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08" y="29"/>
                  </a:moveTo>
                  <a:lnTo>
                    <a:pt x="40" y="2"/>
                  </a:lnTo>
                  <a:lnTo>
                    <a:pt x="0" y="4"/>
                  </a:lnTo>
                  <a:lnTo>
                    <a:pt x="146" y="0"/>
                  </a:lnTo>
                  <a:lnTo>
                    <a:pt x="10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919680" y="4476240"/>
              <a:ext cx="75960" cy="468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30" y="68"/>
                  </a:moveTo>
                  <a:lnTo>
                    <a:pt x="1" y="39"/>
                  </a:lnTo>
                  <a:lnTo>
                    <a:pt x="0" y="0"/>
                  </a:lnTo>
                  <a:lnTo>
                    <a:pt x="76" y="8"/>
                  </a:lnTo>
                  <a:lnTo>
                    <a:pt x="107" y="66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830040" y="3423600"/>
              <a:ext cx="1605240" cy="1081440"/>
            </a:xfrm>
            <a:custGeom>
              <a:avLst/>
              <a:gdLst/>
              <a:ahLst/>
              <a:rect l="l" t="t" r="r" b="b"/>
              <a:pathLst>
                <a:path w="2288" h="1565">
                  <a:moveTo>
                    <a:pt x="1146" y="1557"/>
                  </a:moveTo>
                  <a:lnTo>
                    <a:pt x="1011" y="1559"/>
                  </a:lnTo>
                  <a:lnTo>
                    <a:pt x="999" y="1490"/>
                  </a:lnTo>
                  <a:lnTo>
                    <a:pt x="950" y="1434"/>
                  </a:lnTo>
                  <a:lnTo>
                    <a:pt x="968" y="1317"/>
                  </a:lnTo>
                  <a:lnTo>
                    <a:pt x="956" y="1279"/>
                  </a:lnTo>
                  <a:lnTo>
                    <a:pt x="1101" y="1286"/>
                  </a:lnTo>
                  <a:lnTo>
                    <a:pt x="1122" y="1265"/>
                  </a:lnTo>
                  <a:lnTo>
                    <a:pt x="1122" y="1245"/>
                  </a:lnTo>
                  <a:lnTo>
                    <a:pt x="1091" y="1228"/>
                  </a:lnTo>
                  <a:lnTo>
                    <a:pt x="1024" y="1220"/>
                  </a:lnTo>
                  <a:lnTo>
                    <a:pt x="1023" y="1121"/>
                  </a:lnTo>
                  <a:lnTo>
                    <a:pt x="1031" y="1055"/>
                  </a:lnTo>
                  <a:lnTo>
                    <a:pt x="1010" y="987"/>
                  </a:lnTo>
                  <a:lnTo>
                    <a:pt x="982" y="1026"/>
                  </a:lnTo>
                  <a:lnTo>
                    <a:pt x="1005" y="1229"/>
                  </a:lnTo>
                  <a:lnTo>
                    <a:pt x="936" y="1210"/>
                  </a:lnTo>
                  <a:lnTo>
                    <a:pt x="945" y="1104"/>
                  </a:lnTo>
                  <a:lnTo>
                    <a:pt x="914" y="988"/>
                  </a:lnTo>
                  <a:lnTo>
                    <a:pt x="885" y="989"/>
                  </a:lnTo>
                  <a:lnTo>
                    <a:pt x="887" y="1163"/>
                  </a:lnTo>
                  <a:lnTo>
                    <a:pt x="878" y="1232"/>
                  </a:lnTo>
                  <a:lnTo>
                    <a:pt x="238" y="1213"/>
                  </a:lnTo>
                  <a:lnTo>
                    <a:pt x="189" y="1243"/>
                  </a:lnTo>
                  <a:lnTo>
                    <a:pt x="190" y="1261"/>
                  </a:lnTo>
                  <a:lnTo>
                    <a:pt x="433" y="1258"/>
                  </a:lnTo>
                  <a:lnTo>
                    <a:pt x="376" y="1367"/>
                  </a:lnTo>
                  <a:lnTo>
                    <a:pt x="368" y="1455"/>
                  </a:lnTo>
                  <a:lnTo>
                    <a:pt x="0" y="1440"/>
                  </a:lnTo>
                  <a:lnTo>
                    <a:pt x="77" y="848"/>
                  </a:lnTo>
                  <a:lnTo>
                    <a:pt x="145" y="780"/>
                  </a:lnTo>
                  <a:lnTo>
                    <a:pt x="152" y="741"/>
                  </a:lnTo>
                  <a:lnTo>
                    <a:pt x="84" y="694"/>
                  </a:lnTo>
                  <a:lnTo>
                    <a:pt x="55" y="636"/>
                  </a:lnTo>
                  <a:lnTo>
                    <a:pt x="24" y="540"/>
                  </a:lnTo>
                  <a:lnTo>
                    <a:pt x="24" y="508"/>
                  </a:lnTo>
                  <a:lnTo>
                    <a:pt x="28" y="476"/>
                  </a:lnTo>
                  <a:lnTo>
                    <a:pt x="32" y="444"/>
                  </a:lnTo>
                  <a:lnTo>
                    <a:pt x="39" y="411"/>
                  </a:lnTo>
                  <a:lnTo>
                    <a:pt x="49" y="378"/>
                  </a:lnTo>
                  <a:lnTo>
                    <a:pt x="60" y="344"/>
                  </a:lnTo>
                  <a:lnTo>
                    <a:pt x="73" y="311"/>
                  </a:lnTo>
                  <a:lnTo>
                    <a:pt x="88" y="278"/>
                  </a:lnTo>
                  <a:lnTo>
                    <a:pt x="107" y="246"/>
                  </a:lnTo>
                  <a:lnTo>
                    <a:pt x="126" y="213"/>
                  </a:lnTo>
                  <a:lnTo>
                    <a:pt x="147" y="181"/>
                  </a:lnTo>
                  <a:lnTo>
                    <a:pt x="171" y="149"/>
                  </a:lnTo>
                  <a:lnTo>
                    <a:pt x="196" y="118"/>
                  </a:lnTo>
                  <a:lnTo>
                    <a:pt x="225" y="88"/>
                  </a:lnTo>
                  <a:lnTo>
                    <a:pt x="254" y="59"/>
                  </a:lnTo>
                  <a:lnTo>
                    <a:pt x="285" y="31"/>
                  </a:lnTo>
                  <a:lnTo>
                    <a:pt x="306" y="21"/>
                  </a:lnTo>
                  <a:lnTo>
                    <a:pt x="328" y="12"/>
                  </a:lnTo>
                  <a:lnTo>
                    <a:pt x="348" y="6"/>
                  </a:lnTo>
                  <a:lnTo>
                    <a:pt x="369" y="2"/>
                  </a:lnTo>
                  <a:lnTo>
                    <a:pt x="389" y="0"/>
                  </a:lnTo>
                  <a:lnTo>
                    <a:pt x="409" y="0"/>
                  </a:lnTo>
                  <a:lnTo>
                    <a:pt x="429" y="1"/>
                  </a:lnTo>
                  <a:lnTo>
                    <a:pt x="449" y="3"/>
                  </a:lnTo>
                  <a:lnTo>
                    <a:pt x="469" y="8"/>
                  </a:lnTo>
                  <a:lnTo>
                    <a:pt x="488" y="13"/>
                  </a:lnTo>
                  <a:lnTo>
                    <a:pt x="508" y="19"/>
                  </a:lnTo>
                  <a:lnTo>
                    <a:pt x="528" y="27"/>
                  </a:lnTo>
                  <a:lnTo>
                    <a:pt x="547" y="35"/>
                  </a:lnTo>
                  <a:lnTo>
                    <a:pt x="567" y="44"/>
                  </a:lnTo>
                  <a:lnTo>
                    <a:pt x="587" y="54"/>
                  </a:lnTo>
                  <a:lnTo>
                    <a:pt x="608" y="64"/>
                  </a:lnTo>
                  <a:lnTo>
                    <a:pt x="640" y="86"/>
                  </a:lnTo>
                  <a:lnTo>
                    <a:pt x="670" y="111"/>
                  </a:lnTo>
                  <a:lnTo>
                    <a:pt x="698" y="138"/>
                  </a:lnTo>
                  <a:lnTo>
                    <a:pt x="723" y="165"/>
                  </a:lnTo>
                  <a:lnTo>
                    <a:pt x="746" y="193"/>
                  </a:lnTo>
                  <a:lnTo>
                    <a:pt x="764" y="220"/>
                  </a:lnTo>
                  <a:lnTo>
                    <a:pt x="781" y="247"/>
                  </a:lnTo>
                  <a:lnTo>
                    <a:pt x="794" y="273"/>
                  </a:lnTo>
                  <a:lnTo>
                    <a:pt x="807" y="316"/>
                  </a:lnTo>
                  <a:lnTo>
                    <a:pt x="818" y="357"/>
                  </a:lnTo>
                  <a:lnTo>
                    <a:pt x="824" y="397"/>
                  </a:lnTo>
                  <a:lnTo>
                    <a:pt x="829" y="437"/>
                  </a:lnTo>
                  <a:lnTo>
                    <a:pt x="829" y="476"/>
                  </a:lnTo>
                  <a:lnTo>
                    <a:pt x="828" y="514"/>
                  </a:lnTo>
                  <a:lnTo>
                    <a:pt x="826" y="554"/>
                  </a:lnTo>
                  <a:lnTo>
                    <a:pt x="819" y="594"/>
                  </a:lnTo>
                  <a:lnTo>
                    <a:pt x="684" y="644"/>
                  </a:lnTo>
                  <a:lnTo>
                    <a:pt x="608" y="704"/>
                  </a:lnTo>
                  <a:lnTo>
                    <a:pt x="568" y="744"/>
                  </a:lnTo>
                  <a:lnTo>
                    <a:pt x="569" y="773"/>
                  </a:lnTo>
                  <a:lnTo>
                    <a:pt x="620" y="772"/>
                  </a:lnTo>
                  <a:lnTo>
                    <a:pt x="599" y="811"/>
                  </a:lnTo>
                  <a:lnTo>
                    <a:pt x="717" y="895"/>
                  </a:lnTo>
                  <a:lnTo>
                    <a:pt x="913" y="901"/>
                  </a:lnTo>
                  <a:lnTo>
                    <a:pt x="978" y="870"/>
                  </a:lnTo>
                  <a:lnTo>
                    <a:pt x="1046" y="802"/>
                  </a:lnTo>
                  <a:lnTo>
                    <a:pt x="1046" y="773"/>
                  </a:lnTo>
                  <a:lnTo>
                    <a:pt x="869" y="623"/>
                  </a:lnTo>
                  <a:lnTo>
                    <a:pt x="882" y="370"/>
                  </a:lnTo>
                  <a:lnTo>
                    <a:pt x="1223" y="364"/>
                  </a:lnTo>
                  <a:lnTo>
                    <a:pt x="1233" y="480"/>
                  </a:lnTo>
                  <a:lnTo>
                    <a:pt x="1227" y="538"/>
                  </a:lnTo>
                  <a:lnTo>
                    <a:pt x="1259" y="741"/>
                  </a:lnTo>
                  <a:lnTo>
                    <a:pt x="1564" y="455"/>
                  </a:lnTo>
                  <a:lnTo>
                    <a:pt x="1601" y="464"/>
                  </a:lnTo>
                  <a:lnTo>
                    <a:pt x="1403" y="730"/>
                  </a:lnTo>
                  <a:lnTo>
                    <a:pt x="1365" y="768"/>
                  </a:lnTo>
                  <a:lnTo>
                    <a:pt x="1641" y="502"/>
                  </a:lnTo>
                  <a:lnTo>
                    <a:pt x="1689" y="520"/>
                  </a:lnTo>
                  <a:lnTo>
                    <a:pt x="1701" y="550"/>
                  </a:lnTo>
                  <a:lnTo>
                    <a:pt x="1521" y="786"/>
                  </a:lnTo>
                  <a:lnTo>
                    <a:pt x="1521" y="805"/>
                  </a:lnTo>
                  <a:lnTo>
                    <a:pt x="1579" y="756"/>
                  </a:lnTo>
                  <a:lnTo>
                    <a:pt x="1771" y="760"/>
                  </a:lnTo>
                  <a:lnTo>
                    <a:pt x="1648" y="946"/>
                  </a:lnTo>
                  <a:lnTo>
                    <a:pt x="1535" y="977"/>
                  </a:lnTo>
                  <a:lnTo>
                    <a:pt x="1213" y="972"/>
                  </a:lnTo>
                  <a:lnTo>
                    <a:pt x="1184" y="954"/>
                  </a:lnTo>
                  <a:lnTo>
                    <a:pt x="1126" y="955"/>
                  </a:lnTo>
                  <a:lnTo>
                    <a:pt x="1117" y="1003"/>
                  </a:lnTo>
                  <a:lnTo>
                    <a:pt x="1088" y="1004"/>
                  </a:lnTo>
                  <a:lnTo>
                    <a:pt x="1090" y="1149"/>
                  </a:lnTo>
                  <a:lnTo>
                    <a:pt x="1121" y="1178"/>
                  </a:lnTo>
                  <a:lnTo>
                    <a:pt x="1107" y="1003"/>
                  </a:lnTo>
                  <a:lnTo>
                    <a:pt x="1448" y="1047"/>
                  </a:lnTo>
                  <a:lnTo>
                    <a:pt x="1658" y="1004"/>
                  </a:lnTo>
                  <a:lnTo>
                    <a:pt x="1679" y="993"/>
                  </a:lnTo>
                  <a:lnTo>
                    <a:pt x="1708" y="973"/>
                  </a:lnTo>
                  <a:lnTo>
                    <a:pt x="1733" y="950"/>
                  </a:lnTo>
                  <a:lnTo>
                    <a:pt x="1754" y="924"/>
                  </a:lnTo>
                  <a:lnTo>
                    <a:pt x="1771" y="898"/>
                  </a:lnTo>
                  <a:lnTo>
                    <a:pt x="1786" y="870"/>
                  </a:lnTo>
                  <a:lnTo>
                    <a:pt x="1798" y="843"/>
                  </a:lnTo>
                  <a:lnTo>
                    <a:pt x="1809" y="815"/>
                  </a:lnTo>
                  <a:lnTo>
                    <a:pt x="1820" y="789"/>
                  </a:lnTo>
                  <a:lnTo>
                    <a:pt x="2014" y="757"/>
                  </a:lnTo>
                  <a:lnTo>
                    <a:pt x="2053" y="765"/>
                  </a:lnTo>
                  <a:lnTo>
                    <a:pt x="2064" y="881"/>
                  </a:lnTo>
                  <a:lnTo>
                    <a:pt x="2016" y="882"/>
                  </a:lnTo>
                  <a:lnTo>
                    <a:pt x="1890" y="999"/>
                  </a:lnTo>
                  <a:lnTo>
                    <a:pt x="1886" y="1194"/>
                  </a:lnTo>
                  <a:lnTo>
                    <a:pt x="1894" y="1213"/>
                  </a:lnTo>
                  <a:lnTo>
                    <a:pt x="1946" y="1252"/>
                  </a:lnTo>
                  <a:lnTo>
                    <a:pt x="2080" y="1249"/>
                  </a:lnTo>
                  <a:lnTo>
                    <a:pt x="2148" y="1189"/>
                  </a:lnTo>
                  <a:lnTo>
                    <a:pt x="2164" y="1065"/>
                  </a:lnTo>
                  <a:lnTo>
                    <a:pt x="2144" y="1015"/>
                  </a:lnTo>
                  <a:lnTo>
                    <a:pt x="2114" y="967"/>
                  </a:lnTo>
                  <a:lnTo>
                    <a:pt x="2288" y="917"/>
                  </a:lnTo>
                  <a:lnTo>
                    <a:pt x="2252" y="1120"/>
                  </a:lnTo>
                  <a:lnTo>
                    <a:pt x="2283" y="1168"/>
                  </a:lnTo>
                  <a:lnTo>
                    <a:pt x="1951" y="1522"/>
                  </a:lnTo>
                  <a:lnTo>
                    <a:pt x="1165" y="1565"/>
                  </a:lnTo>
                  <a:lnTo>
                    <a:pt x="1146" y="155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151160" y="4479120"/>
              <a:ext cx="27720" cy="1368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19"/>
                  </a:moveTo>
                  <a:lnTo>
                    <a:pt x="4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870440" y="4250880"/>
              <a:ext cx="57240" cy="222120"/>
            </a:xfrm>
            <a:custGeom>
              <a:avLst/>
              <a:gdLst/>
              <a:ahLst/>
              <a:rect l="l" t="t" r="r" b="b"/>
              <a:pathLst>
                <a:path w="81" h="321">
                  <a:moveTo>
                    <a:pt x="42" y="321"/>
                  </a:moveTo>
                  <a:lnTo>
                    <a:pt x="1" y="128"/>
                  </a:lnTo>
                  <a:lnTo>
                    <a:pt x="0" y="40"/>
                  </a:lnTo>
                  <a:lnTo>
                    <a:pt x="7" y="0"/>
                  </a:lnTo>
                  <a:lnTo>
                    <a:pt x="81" y="300"/>
                  </a:lnTo>
                  <a:lnTo>
                    <a:pt x="42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929120" y="4259520"/>
              <a:ext cx="43200" cy="17244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12" y="242"/>
                  </a:moveTo>
                  <a:lnTo>
                    <a:pt x="4" y="224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60" y="251"/>
                  </a:lnTo>
                  <a:lnTo>
                    <a:pt x="12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822560" y="4240080"/>
              <a:ext cx="33480" cy="181080"/>
            </a:xfrm>
            <a:custGeom>
              <a:avLst/>
              <a:gdLst/>
              <a:ahLst/>
              <a:rect l="l" t="t" r="r" b="b"/>
              <a:pathLst>
                <a:path w="47" h="262">
                  <a:moveTo>
                    <a:pt x="9" y="253"/>
                  </a:moveTo>
                  <a:lnTo>
                    <a:pt x="0" y="242"/>
                  </a:lnTo>
                  <a:lnTo>
                    <a:pt x="4" y="0"/>
                  </a:lnTo>
                  <a:lnTo>
                    <a:pt x="47" y="193"/>
                  </a:lnTo>
                  <a:lnTo>
                    <a:pt x="30" y="262"/>
                  </a:lnTo>
                  <a:lnTo>
                    <a:pt x="9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128840" y="4291200"/>
              <a:ext cx="340200" cy="118800"/>
            </a:xfrm>
            <a:custGeom>
              <a:avLst/>
              <a:gdLst/>
              <a:ahLst/>
              <a:rect l="l" t="t" r="r" b="b"/>
              <a:pathLst>
                <a:path w="486" h="171">
                  <a:moveTo>
                    <a:pt x="370" y="171"/>
                  </a:moveTo>
                  <a:lnTo>
                    <a:pt x="0" y="168"/>
                  </a:lnTo>
                  <a:lnTo>
                    <a:pt x="37" y="50"/>
                  </a:lnTo>
                  <a:lnTo>
                    <a:pt x="164" y="29"/>
                  </a:lnTo>
                  <a:lnTo>
                    <a:pt x="164" y="0"/>
                  </a:lnTo>
                  <a:lnTo>
                    <a:pt x="473" y="14"/>
                  </a:lnTo>
                  <a:lnTo>
                    <a:pt x="486" y="168"/>
                  </a:lnTo>
                  <a:lnTo>
                    <a:pt x="370" y="17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961520" y="4265280"/>
              <a:ext cx="91080" cy="13356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34" y="195"/>
                  </a:moveTo>
                  <a:lnTo>
                    <a:pt x="0" y="10"/>
                  </a:lnTo>
                  <a:lnTo>
                    <a:pt x="50" y="31"/>
                  </a:lnTo>
                  <a:lnTo>
                    <a:pt x="72" y="136"/>
                  </a:lnTo>
                  <a:lnTo>
                    <a:pt x="78" y="0"/>
                  </a:lnTo>
                  <a:lnTo>
                    <a:pt x="119" y="19"/>
                  </a:lnTo>
                  <a:lnTo>
                    <a:pt x="130" y="96"/>
                  </a:lnTo>
                  <a:lnTo>
                    <a:pt x="111" y="164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740120" y="4255560"/>
              <a:ext cx="40680" cy="95040"/>
            </a:xfrm>
            <a:custGeom>
              <a:avLst/>
              <a:gdLst/>
              <a:ahLst/>
              <a:rect l="l" t="t" r="r" b="b"/>
              <a:pathLst>
                <a:path w="58" h="136">
                  <a:moveTo>
                    <a:pt x="30" y="136"/>
                  </a:moveTo>
                  <a:lnTo>
                    <a:pt x="1" y="117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58" y="79"/>
                  </a:lnTo>
                  <a:lnTo>
                    <a:pt x="3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056920" y="4263480"/>
              <a:ext cx="40680" cy="604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2" y="76"/>
                  </a:moveTo>
                  <a:lnTo>
                    <a:pt x="0" y="29"/>
                  </a:lnTo>
                  <a:lnTo>
                    <a:pt x="21" y="0"/>
                  </a:lnTo>
                  <a:lnTo>
                    <a:pt x="58" y="17"/>
                  </a:lnTo>
                  <a:lnTo>
                    <a:pt x="40" y="87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07040" y="4023360"/>
              <a:ext cx="121680" cy="314640"/>
            </a:xfrm>
            <a:custGeom>
              <a:avLst/>
              <a:gdLst/>
              <a:ahLst/>
              <a:rect l="l" t="t" r="r" b="b"/>
              <a:pathLst>
                <a:path w="174" h="455">
                  <a:moveTo>
                    <a:pt x="0" y="455"/>
                  </a:moveTo>
                  <a:lnTo>
                    <a:pt x="16" y="204"/>
                  </a:lnTo>
                  <a:lnTo>
                    <a:pt x="15" y="69"/>
                  </a:lnTo>
                  <a:lnTo>
                    <a:pt x="71" y="48"/>
                  </a:lnTo>
                  <a:lnTo>
                    <a:pt x="74" y="145"/>
                  </a:lnTo>
                  <a:lnTo>
                    <a:pt x="91" y="106"/>
                  </a:lnTo>
                  <a:lnTo>
                    <a:pt x="101" y="1"/>
                  </a:lnTo>
                  <a:lnTo>
                    <a:pt x="149" y="0"/>
                  </a:lnTo>
                  <a:lnTo>
                    <a:pt x="174" y="289"/>
                  </a:lnTo>
                  <a:lnTo>
                    <a:pt x="86" y="367"/>
                  </a:lnTo>
                  <a:lnTo>
                    <a:pt x="83" y="173"/>
                  </a:lnTo>
                  <a:lnTo>
                    <a:pt x="68" y="396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181480" y="4085280"/>
              <a:ext cx="138600" cy="16164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47" y="234"/>
                  </a:moveTo>
                  <a:lnTo>
                    <a:pt x="8" y="216"/>
                  </a:lnTo>
                  <a:lnTo>
                    <a:pt x="1" y="190"/>
                  </a:lnTo>
                  <a:lnTo>
                    <a:pt x="0" y="165"/>
                  </a:lnTo>
                  <a:lnTo>
                    <a:pt x="0" y="140"/>
                  </a:lnTo>
                  <a:lnTo>
                    <a:pt x="5" y="114"/>
                  </a:lnTo>
                  <a:lnTo>
                    <a:pt x="12" y="88"/>
                  </a:lnTo>
                  <a:lnTo>
                    <a:pt x="22" y="64"/>
                  </a:lnTo>
                  <a:lnTo>
                    <a:pt x="36" y="38"/>
                  </a:lnTo>
                  <a:lnTo>
                    <a:pt x="52" y="12"/>
                  </a:lnTo>
                  <a:lnTo>
                    <a:pt x="110" y="0"/>
                  </a:lnTo>
                  <a:lnTo>
                    <a:pt x="169" y="49"/>
                  </a:lnTo>
                  <a:lnTo>
                    <a:pt x="198" y="125"/>
                  </a:lnTo>
                  <a:lnTo>
                    <a:pt x="182" y="213"/>
                  </a:lnTo>
                  <a:lnTo>
                    <a:pt x="47" y="23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225040" y="4154400"/>
              <a:ext cx="54360" cy="7848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1" y="116"/>
                  </a:moveTo>
                  <a:lnTo>
                    <a:pt x="50" y="106"/>
                  </a:lnTo>
                  <a:lnTo>
                    <a:pt x="1" y="78"/>
                  </a:lnTo>
                  <a:lnTo>
                    <a:pt x="0" y="1"/>
                  </a:lnTo>
                  <a:lnTo>
                    <a:pt x="77" y="0"/>
                  </a:lnTo>
                  <a:lnTo>
                    <a:pt x="79" y="76"/>
                  </a:lnTo>
                  <a:lnTo>
                    <a:pt x="6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51120" y="4063320"/>
              <a:ext cx="93600" cy="15984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30" y="233"/>
                  </a:moveTo>
                  <a:lnTo>
                    <a:pt x="0" y="204"/>
                  </a:lnTo>
                  <a:lnTo>
                    <a:pt x="8" y="68"/>
                  </a:lnTo>
                  <a:lnTo>
                    <a:pt x="54" y="0"/>
                  </a:lnTo>
                  <a:lnTo>
                    <a:pt x="105" y="19"/>
                  </a:lnTo>
                  <a:lnTo>
                    <a:pt x="125" y="67"/>
                  </a:lnTo>
                  <a:lnTo>
                    <a:pt x="136" y="172"/>
                  </a:lnTo>
                  <a:lnTo>
                    <a:pt x="30" y="2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887360" y="4159800"/>
              <a:ext cx="60120" cy="4680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48" y="67"/>
                  </a:moveTo>
                  <a:lnTo>
                    <a:pt x="0" y="40"/>
                  </a:lnTo>
                  <a:lnTo>
                    <a:pt x="57" y="0"/>
                  </a:lnTo>
                  <a:lnTo>
                    <a:pt x="86" y="66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31600" y="3995640"/>
              <a:ext cx="91080" cy="20700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6" y="299"/>
                  </a:moveTo>
                  <a:lnTo>
                    <a:pt x="0" y="0"/>
                  </a:lnTo>
                  <a:lnTo>
                    <a:pt x="131" y="209"/>
                  </a:lnTo>
                  <a:lnTo>
                    <a:pt x="16" y="29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566520" y="3962520"/>
              <a:ext cx="162720" cy="158760"/>
            </a:xfrm>
            <a:custGeom>
              <a:avLst/>
              <a:gdLst/>
              <a:ahLst/>
              <a:rect l="l" t="t" r="r" b="b"/>
              <a:pathLst>
                <a:path w="232" h="230">
                  <a:moveTo>
                    <a:pt x="88" y="230"/>
                  </a:moveTo>
                  <a:lnTo>
                    <a:pt x="0" y="58"/>
                  </a:lnTo>
                  <a:lnTo>
                    <a:pt x="17" y="0"/>
                  </a:lnTo>
                  <a:lnTo>
                    <a:pt x="106" y="67"/>
                  </a:lnTo>
                  <a:lnTo>
                    <a:pt x="232" y="131"/>
                  </a:lnTo>
                  <a:lnTo>
                    <a:pt x="88" y="23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605760" y="3927960"/>
              <a:ext cx="243720" cy="103320"/>
            </a:xfrm>
            <a:custGeom>
              <a:avLst/>
              <a:gdLst/>
              <a:ahLst/>
              <a:rect l="l" t="t" r="r" b="b"/>
              <a:pathLst>
                <a:path w="350" h="150">
                  <a:moveTo>
                    <a:pt x="185" y="150"/>
                  </a:moveTo>
                  <a:lnTo>
                    <a:pt x="0" y="39"/>
                  </a:lnTo>
                  <a:lnTo>
                    <a:pt x="29" y="0"/>
                  </a:lnTo>
                  <a:lnTo>
                    <a:pt x="350" y="43"/>
                  </a:lnTo>
                  <a:lnTo>
                    <a:pt x="282" y="112"/>
                  </a:lnTo>
                  <a:lnTo>
                    <a:pt x="235" y="149"/>
                  </a:lnTo>
                  <a:lnTo>
                    <a:pt x="185" y="15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977000" y="3837960"/>
              <a:ext cx="100800" cy="7992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19" y="117"/>
                  </a:moveTo>
                  <a:lnTo>
                    <a:pt x="0" y="117"/>
                  </a:lnTo>
                  <a:lnTo>
                    <a:pt x="75" y="0"/>
                  </a:lnTo>
                  <a:lnTo>
                    <a:pt x="146" y="115"/>
                  </a:lnTo>
                  <a:lnTo>
                    <a:pt x="19" y="11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843800" y="3506760"/>
              <a:ext cx="417960" cy="401760"/>
            </a:xfrm>
            <a:custGeom>
              <a:avLst/>
              <a:gdLst/>
              <a:ahLst/>
              <a:rect l="l" t="t" r="r" b="b"/>
              <a:pathLst>
                <a:path w="597" h="584">
                  <a:moveTo>
                    <a:pt x="383" y="584"/>
                  </a:moveTo>
                  <a:lnTo>
                    <a:pt x="332" y="431"/>
                  </a:lnTo>
                  <a:lnTo>
                    <a:pt x="315" y="410"/>
                  </a:lnTo>
                  <a:lnTo>
                    <a:pt x="296" y="392"/>
                  </a:lnTo>
                  <a:lnTo>
                    <a:pt x="278" y="374"/>
                  </a:lnTo>
                  <a:lnTo>
                    <a:pt x="260" y="358"/>
                  </a:lnTo>
                  <a:lnTo>
                    <a:pt x="240" y="344"/>
                  </a:lnTo>
                  <a:lnTo>
                    <a:pt x="220" y="330"/>
                  </a:lnTo>
                  <a:lnTo>
                    <a:pt x="199" y="318"/>
                  </a:lnTo>
                  <a:lnTo>
                    <a:pt x="180" y="307"/>
                  </a:lnTo>
                  <a:lnTo>
                    <a:pt x="159" y="297"/>
                  </a:lnTo>
                  <a:lnTo>
                    <a:pt x="139" y="288"/>
                  </a:lnTo>
                  <a:lnTo>
                    <a:pt x="118" y="280"/>
                  </a:lnTo>
                  <a:lnTo>
                    <a:pt x="98" y="271"/>
                  </a:lnTo>
                  <a:lnTo>
                    <a:pt x="77" y="264"/>
                  </a:lnTo>
                  <a:lnTo>
                    <a:pt x="59" y="256"/>
                  </a:lnTo>
                  <a:lnTo>
                    <a:pt x="39" y="249"/>
                  </a:lnTo>
                  <a:lnTo>
                    <a:pt x="21" y="241"/>
                  </a:lnTo>
                  <a:lnTo>
                    <a:pt x="0" y="202"/>
                  </a:lnTo>
                  <a:lnTo>
                    <a:pt x="19" y="173"/>
                  </a:lnTo>
                  <a:lnTo>
                    <a:pt x="79" y="201"/>
                  </a:lnTo>
                  <a:lnTo>
                    <a:pt x="212" y="160"/>
                  </a:lnTo>
                  <a:lnTo>
                    <a:pt x="268" y="93"/>
                  </a:lnTo>
                  <a:lnTo>
                    <a:pt x="285" y="22"/>
                  </a:lnTo>
                  <a:lnTo>
                    <a:pt x="518" y="0"/>
                  </a:lnTo>
                  <a:lnTo>
                    <a:pt x="549" y="97"/>
                  </a:lnTo>
                  <a:lnTo>
                    <a:pt x="560" y="133"/>
                  </a:lnTo>
                  <a:lnTo>
                    <a:pt x="530" y="174"/>
                  </a:lnTo>
                  <a:lnTo>
                    <a:pt x="571" y="202"/>
                  </a:lnTo>
                  <a:lnTo>
                    <a:pt x="571" y="232"/>
                  </a:lnTo>
                  <a:lnTo>
                    <a:pt x="581" y="271"/>
                  </a:lnTo>
                  <a:lnTo>
                    <a:pt x="524" y="369"/>
                  </a:lnTo>
                  <a:lnTo>
                    <a:pt x="524" y="398"/>
                  </a:lnTo>
                  <a:lnTo>
                    <a:pt x="582" y="347"/>
                  </a:lnTo>
                  <a:lnTo>
                    <a:pt x="582" y="387"/>
                  </a:lnTo>
                  <a:lnTo>
                    <a:pt x="556" y="515"/>
                  </a:lnTo>
                  <a:lnTo>
                    <a:pt x="596" y="502"/>
                  </a:lnTo>
                  <a:lnTo>
                    <a:pt x="597" y="561"/>
                  </a:lnTo>
                  <a:lnTo>
                    <a:pt x="383" y="58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57040" y="3853080"/>
              <a:ext cx="40680" cy="4572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10" y="67"/>
                  </a:moveTo>
                  <a:lnTo>
                    <a:pt x="0" y="58"/>
                  </a:lnTo>
                  <a:lnTo>
                    <a:pt x="39" y="0"/>
                  </a:lnTo>
                  <a:lnTo>
                    <a:pt x="58" y="4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34760" y="3405960"/>
              <a:ext cx="581760" cy="505440"/>
            </a:xfrm>
            <a:custGeom>
              <a:avLst/>
              <a:gdLst/>
              <a:ahLst/>
              <a:rect l="l" t="t" r="r" b="b"/>
              <a:pathLst>
                <a:path w="831" h="731">
                  <a:moveTo>
                    <a:pt x="553" y="731"/>
                  </a:moveTo>
                  <a:lnTo>
                    <a:pt x="0" y="665"/>
                  </a:lnTo>
                  <a:lnTo>
                    <a:pt x="16" y="538"/>
                  </a:lnTo>
                  <a:lnTo>
                    <a:pt x="5" y="480"/>
                  </a:lnTo>
                  <a:lnTo>
                    <a:pt x="186" y="244"/>
                  </a:lnTo>
                  <a:lnTo>
                    <a:pt x="253" y="173"/>
                  </a:lnTo>
                  <a:lnTo>
                    <a:pt x="339" y="77"/>
                  </a:lnTo>
                  <a:lnTo>
                    <a:pt x="397" y="65"/>
                  </a:lnTo>
                  <a:lnTo>
                    <a:pt x="130" y="380"/>
                  </a:lnTo>
                  <a:lnTo>
                    <a:pt x="73" y="470"/>
                  </a:lnTo>
                  <a:lnTo>
                    <a:pt x="444" y="54"/>
                  </a:lnTo>
                  <a:lnTo>
                    <a:pt x="570" y="34"/>
                  </a:lnTo>
                  <a:lnTo>
                    <a:pt x="268" y="446"/>
                  </a:lnTo>
                  <a:lnTo>
                    <a:pt x="296" y="406"/>
                  </a:lnTo>
                  <a:lnTo>
                    <a:pt x="391" y="308"/>
                  </a:lnTo>
                  <a:lnTo>
                    <a:pt x="534" y="140"/>
                  </a:lnTo>
                  <a:lnTo>
                    <a:pt x="628" y="22"/>
                  </a:lnTo>
                  <a:lnTo>
                    <a:pt x="831" y="0"/>
                  </a:lnTo>
                  <a:lnTo>
                    <a:pt x="807" y="21"/>
                  </a:lnTo>
                  <a:lnTo>
                    <a:pt x="783" y="43"/>
                  </a:lnTo>
                  <a:lnTo>
                    <a:pt x="761" y="68"/>
                  </a:lnTo>
                  <a:lnTo>
                    <a:pt x="740" y="92"/>
                  </a:lnTo>
                  <a:lnTo>
                    <a:pt x="721" y="118"/>
                  </a:lnTo>
                  <a:lnTo>
                    <a:pt x="701" y="144"/>
                  </a:lnTo>
                  <a:lnTo>
                    <a:pt x="684" y="171"/>
                  </a:lnTo>
                  <a:lnTo>
                    <a:pt x="666" y="198"/>
                  </a:lnTo>
                  <a:lnTo>
                    <a:pt x="650" y="226"/>
                  </a:lnTo>
                  <a:lnTo>
                    <a:pt x="634" y="255"/>
                  </a:lnTo>
                  <a:lnTo>
                    <a:pt x="620" y="282"/>
                  </a:lnTo>
                  <a:lnTo>
                    <a:pt x="606" y="309"/>
                  </a:lnTo>
                  <a:lnTo>
                    <a:pt x="594" y="336"/>
                  </a:lnTo>
                  <a:lnTo>
                    <a:pt x="582" y="362"/>
                  </a:lnTo>
                  <a:lnTo>
                    <a:pt x="570" y="388"/>
                  </a:lnTo>
                  <a:lnTo>
                    <a:pt x="559" y="412"/>
                  </a:lnTo>
                  <a:lnTo>
                    <a:pt x="563" y="694"/>
                  </a:lnTo>
                  <a:lnTo>
                    <a:pt x="553" y="731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731840" y="3717720"/>
              <a:ext cx="162360" cy="157320"/>
            </a:xfrm>
            <a:custGeom>
              <a:avLst/>
              <a:gdLst/>
              <a:ahLst/>
              <a:rect l="l" t="t" r="r" b="b"/>
              <a:pathLst>
                <a:path w="230" h="226">
                  <a:moveTo>
                    <a:pt x="10" y="226"/>
                  </a:moveTo>
                  <a:lnTo>
                    <a:pt x="10" y="218"/>
                  </a:lnTo>
                  <a:lnTo>
                    <a:pt x="0" y="178"/>
                  </a:lnTo>
                  <a:lnTo>
                    <a:pt x="161" y="1"/>
                  </a:lnTo>
                  <a:lnTo>
                    <a:pt x="230" y="0"/>
                  </a:lnTo>
                  <a:lnTo>
                    <a:pt x="10" y="22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281200" y="3635280"/>
              <a:ext cx="179280" cy="223560"/>
            </a:xfrm>
            <a:custGeom>
              <a:avLst/>
              <a:gdLst/>
              <a:ahLst/>
              <a:rect l="l" t="t" r="r" b="b"/>
              <a:pathLst>
                <a:path w="256" h="325">
                  <a:moveTo>
                    <a:pt x="11" y="325"/>
                  </a:moveTo>
                  <a:lnTo>
                    <a:pt x="0" y="295"/>
                  </a:lnTo>
                  <a:lnTo>
                    <a:pt x="2" y="263"/>
                  </a:lnTo>
                  <a:lnTo>
                    <a:pt x="13" y="231"/>
                  </a:lnTo>
                  <a:lnTo>
                    <a:pt x="29" y="199"/>
                  </a:lnTo>
                  <a:lnTo>
                    <a:pt x="49" y="167"/>
                  </a:lnTo>
                  <a:lnTo>
                    <a:pt x="73" y="137"/>
                  </a:lnTo>
                  <a:lnTo>
                    <a:pt x="98" y="105"/>
                  </a:lnTo>
                  <a:lnTo>
                    <a:pt x="126" y="73"/>
                  </a:lnTo>
                  <a:lnTo>
                    <a:pt x="151" y="41"/>
                  </a:lnTo>
                  <a:lnTo>
                    <a:pt x="256" y="0"/>
                  </a:lnTo>
                  <a:lnTo>
                    <a:pt x="11" y="32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921480" y="3654360"/>
              <a:ext cx="189000" cy="1684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59" y="244"/>
                  </a:moveTo>
                  <a:lnTo>
                    <a:pt x="0" y="196"/>
                  </a:lnTo>
                  <a:lnTo>
                    <a:pt x="0" y="171"/>
                  </a:lnTo>
                  <a:lnTo>
                    <a:pt x="2" y="147"/>
                  </a:lnTo>
                  <a:lnTo>
                    <a:pt x="6" y="123"/>
                  </a:lnTo>
                  <a:lnTo>
                    <a:pt x="12" y="100"/>
                  </a:lnTo>
                  <a:lnTo>
                    <a:pt x="22" y="78"/>
                  </a:lnTo>
                  <a:lnTo>
                    <a:pt x="35" y="56"/>
                  </a:lnTo>
                  <a:lnTo>
                    <a:pt x="53" y="32"/>
                  </a:lnTo>
                  <a:lnTo>
                    <a:pt x="75" y="10"/>
                  </a:lnTo>
                  <a:lnTo>
                    <a:pt x="114" y="0"/>
                  </a:lnTo>
                  <a:lnTo>
                    <a:pt x="271" y="66"/>
                  </a:lnTo>
                  <a:lnTo>
                    <a:pt x="262" y="143"/>
                  </a:lnTo>
                  <a:lnTo>
                    <a:pt x="176" y="242"/>
                  </a:lnTo>
                  <a:lnTo>
                    <a:pt x="5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721760" y="3694320"/>
              <a:ext cx="88200" cy="9396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3" y="137"/>
                  </a:moveTo>
                  <a:lnTo>
                    <a:pt x="11" y="97"/>
                  </a:lnTo>
                  <a:lnTo>
                    <a:pt x="48" y="48"/>
                  </a:lnTo>
                  <a:lnTo>
                    <a:pt x="0" y="40"/>
                  </a:lnTo>
                  <a:lnTo>
                    <a:pt x="19" y="0"/>
                  </a:lnTo>
                  <a:lnTo>
                    <a:pt x="126" y="9"/>
                  </a:lnTo>
                  <a:lnTo>
                    <a:pt x="13" y="13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948120" y="3694320"/>
              <a:ext cx="135720" cy="9396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39" y="137"/>
                  </a:moveTo>
                  <a:lnTo>
                    <a:pt x="0" y="100"/>
                  </a:lnTo>
                  <a:lnTo>
                    <a:pt x="47" y="11"/>
                  </a:lnTo>
                  <a:lnTo>
                    <a:pt x="105" y="0"/>
                  </a:lnTo>
                  <a:lnTo>
                    <a:pt x="182" y="9"/>
                  </a:lnTo>
                  <a:lnTo>
                    <a:pt x="193" y="47"/>
                  </a:lnTo>
                  <a:lnTo>
                    <a:pt x="146" y="126"/>
                  </a:lnTo>
                  <a:lnTo>
                    <a:pt x="39" y="137"/>
                  </a:lnTo>
                  <a:close/>
                </a:path>
              </a:pathLst>
            </a:custGeom>
            <a:solidFill>
              <a:srgbClr val="cc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78320" y="3643200"/>
              <a:ext cx="81360" cy="101880"/>
            </a:xfrm>
            <a:custGeom>
              <a:avLst/>
              <a:gdLst/>
              <a:ahLst/>
              <a:rect l="l" t="t" r="r" b="b"/>
              <a:pathLst>
                <a:path w="116" h="148">
                  <a:moveTo>
                    <a:pt x="1" y="148"/>
                  </a:moveTo>
                  <a:lnTo>
                    <a:pt x="0" y="82"/>
                  </a:lnTo>
                  <a:lnTo>
                    <a:pt x="38" y="31"/>
                  </a:lnTo>
                  <a:lnTo>
                    <a:pt x="116" y="0"/>
                  </a:lnTo>
                  <a:lnTo>
                    <a:pt x="31" y="139"/>
                  </a:lnTo>
                  <a:lnTo>
                    <a:pt x="1" y="148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995640" y="3720600"/>
              <a:ext cx="40320" cy="399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11" y="57"/>
                  </a:moveTo>
                  <a:lnTo>
                    <a:pt x="0" y="48"/>
                  </a:lnTo>
                  <a:lnTo>
                    <a:pt x="19" y="0"/>
                  </a:lnTo>
                  <a:lnTo>
                    <a:pt x="59" y="56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436200" y="3471840"/>
              <a:ext cx="173880" cy="223920"/>
            </a:xfrm>
            <a:custGeom>
              <a:avLst/>
              <a:gdLst/>
              <a:ahLst/>
              <a:rect l="l" t="t" r="r" b="b"/>
              <a:pathLst>
                <a:path w="247" h="325">
                  <a:moveTo>
                    <a:pt x="1" y="325"/>
                  </a:moveTo>
                  <a:lnTo>
                    <a:pt x="0" y="238"/>
                  </a:lnTo>
                  <a:lnTo>
                    <a:pt x="172" y="21"/>
                  </a:lnTo>
                  <a:lnTo>
                    <a:pt x="247" y="0"/>
                  </a:lnTo>
                  <a:lnTo>
                    <a:pt x="1" y="32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691960" y="3543840"/>
              <a:ext cx="74160" cy="99000"/>
            </a:xfrm>
            <a:custGeom>
              <a:avLst/>
              <a:gdLst/>
              <a:ahLst/>
              <a:rect l="l" t="t" r="r" b="b"/>
              <a:pathLst>
                <a:path w="106" h="144">
                  <a:moveTo>
                    <a:pt x="49" y="136"/>
                  </a:moveTo>
                  <a:lnTo>
                    <a:pt x="20" y="117"/>
                  </a:lnTo>
                  <a:lnTo>
                    <a:pt x="0" y="79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106" y="37"/>
                  </a:lnTo>
                  <a:lnTo>
                    <a:pt x="98" y="144"/>
                  </a:lnTo>
                  <a:lnTo>
                    <a:pt x="49" y="13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343400" y="3200040"/>
              <a:ext cx="353160" cy="434880"/>
            </a:xfrm>
            <a:custGeom>
              <a:avLst/>
              <a:gdLst/>
              <a:ahLst/>
              <a:rect l="l" t="t" r="r" b="b"/>
              <a:pathLst>
                <a:path w="502" h="629">
                  <a:moveTo>
                    <a:pt x="140" y="625"/>
                  </a:moveTo>
                  <a:lnTo>
                    <a:pt x="90" y="539"/>
                  </a:lnTo>
                  <a:lnTo>
                    <a:pt x="59" y="511"/>
                  </a:lnTo>
                  <a:lnTo>
                    <a:pt x="0" y="425"/>
                  </a:lnTo>
                  <a:lnTo>
                    <a:pt x="78" y="318"/>
                  </a:lnTo>
                  <a:lnTo>
                    <a:pt x="352" y="11"/>
                  </a:lnTo>
                  <a:lnTo>
                    <a:pt x="486" y="0"/>
                  </a:lnTo>
                  <a:lnTo>
                    <a:pt x="412" y="137"/>
                  </a:lnTo>
                  <a:lnTo>
                    <a:pt x="202" y="373"/>
                  </a:lnTo>
                  <a:lnTo>
                    <a:pt x="155" y="414"/>
                  </a:lnTo>
                  <a:lnTo>
                    <a:pt x="108" y="393"/>
                  </a:lnTo>
                  <a:lnTo>
                    <a:pt x="145" y="422"/>
                  </a:lnTo>
                  <a:lnTo>
                    <a:pt x="118" y="471"/>
                  </a:lnTo>
                  <a:lnTo>
                    <a:pt x="155" y="432"/>
                  </a:lnTo>
                  <a:lnTo>
                    <a:pt x="214" y="421"/>
                  </a:lnTo>
                  <a:lnTo>
                    <a:pt x="203" y="401"/>
                  </a:lnTo>
                  <a:lnTo>
                    <a:pt x="422" y="137"/>
                  </a:lnTo>
                  <a:lnTo>
                    <a:pt x="489" y="106"/>
                  </a:lnTo>
                  <a:lnTo>
                    <a:pt x="501" y="212"/>
                  </a:lnTo>
                  <a:lnTo>
                    <a:pt x="473" y="281"/>
                  </a:lnTo>
                  <a:lnTo>
                    <a:pt x="473" y="291"/>
                  </a:lnTo>
                  <a:lnTo>
                    <a:pt x="502" y="281"/>
                  </a:lnTo>
                  <a:lnTo>
                    <a:pt x="490" y="629"/>
                  </a:lnTo>
                  <a:lnTo>
                    <a:pt x="140" y="625"/>
                  </a:lnTo>
                  <a:close/>
                </a:path>
              </a:pathLst>
            </a:cu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732920" y="3525840"/>
              <a:ext cx="109080" cy="10080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41" y="145"/>
                  </a:moveTo>
                  <a:lnTo>
                    <a:pt x="11" y="115"/>
                  </a:lnTo>
                  <a:lnTo>
                    <a:pt x="0" y="80"/>
                  </a:lnTo>
                  <a:lnTo>
                    <a:pt x="38" y="0"/>
                  </a:lnTo>
                  <a:lnTo>
                    <a:pt x="154" y="18"/>
                  </a:lnTo>
                  <a:lnTo>
                    <a:pt x="155" y="95"/>
                  </a:lnTo>
                  <a:lnTo>
                    <a:pt x="109" y="144"/>
                  </a:lnTo>
                  <a:lnTo>
                    <a:pt x="41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891320" y="3517560"/>
              <a:ext cx="113760" cy="85320"/>
            </a:xfrm>
            <a:custGeom>
              <a:avLst/>
              <a:gdLst/>
              <a:ahLst/>
              <a:rect l="l" t="t" r="r" b="b"/>
              <a:pathLst>
                <a:path w="161" h="125">
                  <a:moveTo>
                    <a:pt x="18" y="125"/>
                  </a:moveTo>
                  <a:lnTo>
                    <a:pt x="0" y="106"/>
                  </a:lnTo>
                  <a:lnTo>
                    <a:pt x="8" y="58"/>
                  </a:lnTo>
                  <a:lnTo>
                    <a:pt x="37" y="0"/>
                  </a:lnTo>
                  <a:lnTo>
                    <a:pt x="112" y="8"/>
                  </a:lnTo>
                  <a:lnTo>
                    <a:pt x="161" y="46"/>
                  </a:lnTo>
                  <a:lnTo>
                    <a:pt x="124" y="115"/>
                  </a:lnTo>
                  <a:lnTo>
                    <a:pt x="18" y="125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433320" y="3507840"/>
              <a:ext cx="61560" cy="673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1" y="98"/>
                  </a:moveTo>
                  <a:lnTo>
                    <a:pt x="0" y="11"/>
                  </a:lnTo>
                  <a:lnTo>
                    <a:pt x="89" y="0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309560" y="3201120"/>
              <a:ext cx="253800" cy="265320"/>
            </a:xfrm>
            <a:custGeom>
              <a:avLst/>
              <a:gdLst/>
              <a:ahLst/>
              <a:rect l="l" t="t" r="r" b="b"/>
              <a:pathLst>
                <a:path w="362" h="384">
                  <a:moveTo>
                    <a:pt x="18" y="384"/>
                  </a:moveTo>
                  <a:lnTo>
                    <a:pt x="0" y="384"/>
                  </a:lnTo>
                  <a:lnTo>
                    <a:pt x="284" y="9"/>
                  </a:lnTo>
                  <a:lnTo>
                    <a:pt x="362" y="0"/>
                  </a:lnTo>
                  <a:lnTo>
                    <a:pt x="18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839480" y="3294000"/>
              <a:ext cx="440280" cy="165600"/>
            </a:xfrm>
            <a:custGeom>
              <a:avLst/>
              <a:gdLst/>
              <a:ahLst/>
              <a:rect l="l" t="t" r="r" b="b"/>
              <a:pathLst>
                <a:path w="629" h="240">
                  <a:moveTo>
                    <a:pt x="21" y="240"/>
                  </a:moveTo>
                  <a:lnTo>
                    <a:pt x="0" y="221"/>
                  </a:lnTo>
                  <a:lnTo>
                    <a:pt x="131" y="44"/>
                  </a:lnTo>
                  <a:lnTo>
                    <a:pt x="131" y="14"/>
                  </a:lnTo>
                  <a:lnTo>
                    <a:pt x="237" y="42"/>
                  </a:lnTo>
                  <a:lnTo>
                    <a:pt x="285" y="3"/>
                  </a:lnTo>
                  <a:lnTo>
                    <a:pt x="325" y="3"/>
                  </a:lnTo>
                  <a:lnTo>
                    <a:pt x="382" y="40"/>
                  </a:lnTo>
                  <a:lnTo>
                    <a:pt x="431" y="39"/>
                  </a:lnTo>
                  <a:lnTo>
                    <a:pt x="451" y="0"/>
                  </a:lnTo>
                  <a:lnTo>
                    <a:pt x="509" y="19"/>
                  </a:lnTo>
                  <a:lnTo>
                    <a:pt x="629" y="151"/>
                  </a:lnTo>
                  <a:lnTo>
                    <a:pt x="608" y="191"/>
                  </a:lnTo>
                  <a:lnTo>
                    <a:pt x="501" y="125"/>
                  </a:lnTo>
                  <a:lnTo>
                    <a:pt x="482" y="87"/>
                  </a:lnTo>
                  <a:lnTo>
                    <a:pt x="365" y="98"/>
                  </a:lnTo>
                  <a:lnTo>
                    <a:pt x="307" y="69"/>
                  </a:lnTo>
                  <a:lnTo>
                    <a:pt x="278" y="90"/>
                  </a:lnTo>
                  <a:lnTo>
                    <a:pt x="258" y="100"/>
                  </a:lnTo>
                  <a:lnTo>
                    <a:pt x="190" y="83"/>
                  </a:lnTo>
                  <a:lnTo>
                    <a:pt x="162" y="64"/>
                  </a:lnTo>
                  <a:lnTo>
                    <a:pt x="57" y="220"/>
                  </a:lnTo>
                  <a:lnTo>
                    <a:pt x="21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467160" y="2940120"/>
              <a:ext cx="691200" cy="521640"/>
            </a:xfrm>
            <a:custGeom>
              <a:avLst/>
              <a:gdLst/>
              <a:ahLst/>
              <a:rect l="l" t="t" r="r" b="b"/>
              <a:pathLst>
                <a:path w="987" h="757">
                  <a:moveTo>
                    <a:pt x="30" y="757"/>
                  </a:moveTo>
                  <a:lnTo>
                    <a:pt x="20" y="736"/>
                  </a:lnTo>
                  <a:lnTo>
                    <a:pt x="0" y="718"/>
                  </a:lnTo>
                  <a:lnTo>
                    <a:pt x="74" y="560"/>
                  </a:lnTo>
                  <a:lnTo>
                    <a:pt x="100" y="560"/>
                  </a:lnTo>
                  <a:lnTo>
                    <a:pt x="124" y="559"/>
                  </a:lnTo>
                  <a:lnTo>
                    <a:pt x="150" y="559"/>
                  </a:lnTo>
                  <a:lnTo>
                    <a:pt x="176" y="559"/>
                  </a:lnTo>
                  <a:lnTo>
                    <a:pt x="201" y="558"/>
                  </a:lnTo>
                  <a:lnTo>
                    <a:pt x="227" y="558"/>
                  </a:lnTo>
                  <a:lnTo>
                    <a:pt x="252" y="558"/>
                  </a:lnTo>
                  <a:lnTo>
                    <a:pt x="278" y="557"/>
                  </a:lnTo>
                  <a:lnTo>
                    <a:pt x="303" y="557"/>
                  </a:lnTo>
                  <a:lnTo>
                    <a:pt x="329" y="557"/>
                  </a:lnTo>
                  <a:lnTo>
                    <a:pt x="355" y="557"/>
                  </a:lnTo>
                  <a:lnTo>
                    <a:pt x="379" y="556"/>
                  </a:lnTo>
                  <a:lnTo>
                    <a:pt x="405" y="556"/>
                  </a:lnTo>
                  <a:lnTo>
                    <a:pt x="431" y="556"/>
                  </a:lnTo>
                  <a:lnTo>
                    <a:pt x="455" y="554"/>
                  </a:lnTo>
                  <a:lnTo>
                    <a:pt x="481" y="554"/>
                  </a:lnTo>
                  <a:lnTo>
                    <a:pt x="568" y="494"/>
                  </a:lnTo>
                  <a:lnTo>
                    <a:pt x="566" y="407"/>
                  </a:lnTo>
                  <a:lnTo>
                    <a:pt x="558" y="389"/>
                  </a:lnTo>
                  <a:lnTo>
                    <a:pt x="469" y="303"/>
                  </a:lnTo>
                  <a:lnTo>
                    <a:pt x="439" y="303"/>
                  </a:lnTo>
                  <a:lnTo>
                    <a:pt x="421" y="329"/>
                  </a:lnTo>
                  <a:lnTo>
                    <a:pt x="407" y="355"/>
                  </a:lnTo>
                  <a:lnTo>
                    <a:pt x="398" y="381"/>
                  </a:lnTo>
                  <a:lnTo>
                    <a:pt x="390" y="407"/>
                  </a:lnTo>
                  <a:lnTo>
                    <a:pt x="387" y="431"/>
                  </a:lnTo>
                  <a:lnTo>
                    <a:pt x="385" y="457"/>
                  </a:lnTo>
                  <a:lnTo>
                    <a:pt x="385" y="482"/>
                  </a:lnTo>
                  <a:lnTo>
                    <a:pt x="385" y="508"/>
                  </a:lnTo>
                  <a:lnTo>
                    <a:pt x="133" y="512"/>
                  </a:lnTo>
                  <a:lnTo>
                    <a:pt x="64" y="473"/>
                  </a:lnTo>
                  <a:lnTo>
                    <a:pt x="92" y="415"/>
                  </a:lnTo>
                  <a:lnTo>
                    <a:pt x="378" y="130"/>
                  </a:lnTo>
                  <a:lnTo>
                    <a:pt x="435" y="61"/>
                  </a:lnTo>
                  <a:lnTo>
                    <a:pt x="473" y="21"/>
                  </a:lnTo>
                  <a:lnTo>
                    <a:pt x="506" y="19"/>
                  </a:lnTo>
                  <a:lnTo>
                    <a:pt x="538" y="16"/>
                  </a:lnTo>
                  <a:lnTo>
                    <a:pt x="570" y="13"/>
                  </a:lnTo>
                  <a:lnTo>
                    <a:pt x="602" y="10"/>
                  </a:lnTo>
                  <a:lnTo>
                    <a:pt x="634" y="8"/>
                  </a:lnTo>
                  <a:lnTo>
                    <a:pt x="666" y="5"/>
                  </a:lnTo>
                  <a:lnTo>
                    <a:pt x="698" y="3"/>
                  </a:lnTo>
                  <a:lnTo>
                    <a:pt x="730" y="2"/>
                  </a:lnTo>
                  <a:lnTo>
                    <a:pt x="761" y="0"/>
                  </a:lnTo>
                  <a:lnTo>
                    <a:pt x="793" y="2"/>
                  </a:lnTo>
                  <a:lnTo>
                    <a:pt x="825" y="3"/>
                  </a:lnTo>
                  <a:lnTo>
                    <a:pt x="857" y="5"/>
                  </a:lnTo>
                  <a:lnTo>
                    <a:pt x="889" y="10"/>
                  </a:lnTo>
                  <a:lnTo>
                    <a:pt x="922" y="15"/>
                  </a:lnTo>
                  <a:lnTo>
                    <a:pt x="954" y="23"/>
                  </a:lnTo>
                  <a:lnTo>
                    <a:pt x="987" y="32"/>
                  </a:lnTo>
                  <a:lnTo>
                    <a:pt x="970" y="120"/>
                  </a:lnTo>
                  <a:lnTo>
                    <a:pt x="923" y="352"/>
                  </a:lnTo>
                  <a:lnTo>
                    <a:pt x="877" y="383"/>
                  </a:lnTo>
                  <a:lnTo>
                    <a:pt x="906" y="402"/>
                  </a:lnTo>
                  <a:lnTo>
                    <a:pt x="880" y="597"/>
                  </a:lnTo>
                  <a:lnTo>
                    <a:pt x="900" y="616"/>
                  </a:lnTo>
                  <a:lnTo>
                    <a:pt x="505" y="680"/>
                  </a:lnTo>
                  <a:lnTo>
                    <a:pt x="436" y="663"/>
                  </a:lnTo>
                  <a:lnTo>
                    <a:pt x="417" y="672"/>
                  </a:lnTo>
                  <a:lnTo>
                    <a:pt x="30" y="7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240800" y="3209760"/>
              <a:ext cx="227160" cy="230400"/>
            </a:xfrm>
            <a:custGeom>
              <a:avLst/>
              <a:gdLst/>
              <a:ahLst/>
              <a:rect l="l" t="t" r="r" b="b"/>
              <a:pathLst>
                <a:path w="325" h="334">
                  <a:moveTo>
                    <a:pt x="51" y="325"/>
                  </a:moveTo>
                  <a:lnTo>
                    <a:pt x="0" y="288"/>
                  </a:lnTo>
                  <a:lnTo>
                    <a:pt x="221" y="13"/>
                  </a:lnTo>
                  <a:lnTo>
                    <a:pt x="325" y="0"/>
                  </a:lnTo>
                  <a:lnTo>
                    <a:pt x="80" y="334"/>
                  </a:lnTo>
                  <a:lnTo>
                    <a:pt x="51" y="325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173840" y="3219120"/>
              <a:ext cx="182160" cy="175320"/>
            </a:xfrm>
            <a:custGeom>
              <a:avLst/>
              <a:gdLst/>
              <a:ahLst/>
              <a:rect l="l" t="t" r="r" b="b"/>
              <a:pathLst>
                <a:path w="259" h="254">
                  <a:moveTo>
                    <a:pt x="20" y="247"/>
                  </a:moveTo>
                  <a:lnTo>
                    <a:pt x="0" y="247"/>
                  </a:lnTo>
                  <a:lnTo>
                    <a:pt x="209" y="0"/>
                  </a:lnTo>
                  <a:lnTo>
                    <a:pt x="259" y="0"/>
                  </a:lnTo>
                  <a:lnTo>
                    <a:pt x="97" y="224"/>
                  </a:lnTo>
                  <a:lnTo>
                    <a:pt x="58" y="254"/>
                  </a:lnTo>
                  <a:lnTo>
                    <a:pt x="2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137120" y="3220560"/>
              <a:ext cx="134280" cy="135000"/>
            </a:xfrm>
            <a:custGeom>
              <a:avLst/>
              <a:gdLst/>
              <a:ahLst/>
              <a:rect l="l" t="t" r="r" b="b"/>
              <a:pathLst>
                <a:path w="192" h="194">
                  <a:moveTo>
                    <a:pt x="30" y="194"/>
                  </a:moveTo>
                  <a:lnTo>
                    <a:pt x="11" y="176"/>
                  </a:lnTo>
                  <a:lnTo>
                    <a:pt x="0" y="157"/>
                  </a:lnTo>
                  <a:lnTo>
                    <a:pt x="0" y="118"/>
                  </a:lnTo>
                  <a:lnTo>
                    <a:pt x="84" y="11"/>
                  </a:lnTo>
                  <a:lnTo>
                    <a:pt x="192" y="0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017680" y="2973240"/>
              <a:ext cx="48960" cy="306360"/>
            </a:xfrm>
            <a:custGeom>
              <a:avLst/>
              <a:gdLst/>
              <a:ahLst/>
              <a:rect l="l" t="t" r="r" b="b"/>
              <a:pathLst>
                <a:path w="70" h="445">
                  <a:moveTo>
                    <a:pt x="14" y="437"/>
                  </a:moveTo>
                  <a:lnTo>
                    <a:pt x="17" y="48"/>
                  </a:lnTo>
                  <a:lnTo>
                    <a:pt x="6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0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6" y="9"/>
                  </a:lnTo>
                  <a:lnTo>
                    <a:pt x="70" y="367"/>
                  </a:lnTo>
                  <a:lnTo>
                    <a:pt x="62" y="445"/>
                  </a:lnTo>
                  <a:lnTo>
                    <a:pt x="14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174640" y="2976120"/>
              <a:ext cx="48960" cy="295560"/>
            </a:xfrm>
            <a:custGeom>
              <a:avLst/>
              <a:gdLst/>
              <a:ahLst/>
              <a:rect l="l" t="t" r="r" b="b"/>
              <a:pathLst>
                <a:path w="70" h="429">
                  <a:moveTo>
                    <a:pt x="22" y="429"/>
                  </a:moveTo>
                  <a:lnTo>
                    <a:pt x="0" y="205"/>
                  </a:lnTo>
                  <a:lnTo>
                    <a:pt x="4" y="0"/>
                  </a:lnTo>
                  <a:lnTo>
                    <a:pt x="54" y="0"/>
                  </a:lnTo>
                  <a:lnTo>
                    <a:pt x="70" y="398"/>
                  </a:lnTo>
                  <a:lnTo>
                    <a:pt x="22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094720" y="2977560"/>
              <a:ext cx="40680" cy="28836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417"/>
                  </a:moveTo>
                  <a:lnTo>
                    <a:pt x="11" y="0"/>
                  </a:lnTo>
                  <a:lnTo>
                    <a:pt x="47" y="330"/>
                  </a:lnTo>
                  <a:lnTo>
                    <a:pt x="58" y="388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37760" y="2954160"/>
              <a:ext cx="50400" cy="314640"/>
            </a:xfrm>
            <a:custGeom>
              <a:avLst/>
              <a:gdLst/>
              <a:ahLst/>
              <a:rect l="l" t="t" r="r" b="b"/>
              <a:pathLst>
                <a:path w="71" h="457">
                  <a:moveTo>
                    <a:pt x="0" y="447"/>
                  </a:moveTo>
                  <a:lnTo>
                    <a:pt x="15" y="90"/>
                  </a:lnTo>
                  <a:lnTo>
                    <a:pt x="33" y="58"/>
                  </a:lnTo>
                  <a:lnTo>
                    <a:pt x="22" y="39"/>
                  </a:lnTo>
                  <a:lnTo>
                    <a:pt x="71" y="0"/>
                  </a:lnTo>
                  <a:lnTo>
                    <a:pt x="71" y="38"/>
                  </a:lnTo>
                  <a:lnTo>
                    <a:pt x="50" y="49"/>
                  </a:lnTo>
                  <a:lnTo>
                    <a:pt x="30" y="457"/>
                  </a:lnTo>
                  <a:lnTo>
                    <a:pt x="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86560" y="3046320"/>
              <a:ext cx="152280" cy="20268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294"/>
                  </a:moveTo>
                  <a:lnTo>
                    <a:pt x="26" y="179"/>
                  </a:lnTo>
                  <a:lnTo>
                    <a:pt x="199" y="0"/>
                  </a:lnTo>
                  <a:lnTo>
                    <a:pt x="218" y="58"/>
                  </a:lnTo>
                  <a:lnTo>
                    <a:pt x="40" y="27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12160" y="3099240"/>
              <a:ext cx="146880" cy="122760"/>
            </a:xfrm>
            <a:custGeom>
              <a:avLst/>
              <a:gdLst/>
              <a:ahLst/>
              <a:rect l="l" t="t" r="r" b="b"/>
              <a:pathLst>
                <a:path w="212" h="177">
                  <a:moveTo>
                    <a:pt x="0" y="177"/>
                  </a:moveTo>
                  <a:lnTo>
                    <a:pt x="75" y="12"/>
                  </a:lnTo>
                  <a:lnTo>
                    <a:pt x="105" y="1"/>
                  </a:lnTo>
                  <a:lnTo>
                    <a:pt x="154" y="0"/>
                  </a:lnTo>
                  <a:lnTo>
                    <a:pt x="154" y="29"/>
                  </a:lnTo>
                  <a:lnTo>
                    <a:pt x="212" y="58"/>
                  </a:lnTo>
                  <a:lnTo>
                    <a:pt x="174" y="135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483720" y="2961000"/>
              <a:ext cx="280080" cy="280080"/>
            </a:xfrm>
            <a:custGeom>
              <a:avLst/>
              <a:gdLst/>
              <a:ahLst/>
              <a:rect l="l" t="t" r="r" b="b"/>
              <a:pathLst>
                <a:path w="401" h="406">
                  <a:moveTo>
                    <a:pt x="12" y="406"/>
                  </a:moveTo>
                  <a:lnTo>
                    <a:pt x="0" y="337"/>
                  </a:lnTo>
                  <a:lnTo>
                    <a:pt x="296" y="22"/>
                  </a:lnTo>
                  <a:lnTo>
                    <a:pt x="332" y="12"/>
                  </a:lnTo>
                  <a:lnTo>
                    <a:pt x="401" y="0"/>
                  </a:lnTo>
                  <a:lnTo>
                    <a:pt x="363" y="49"/>
                  </a:lnTo>
                  <a:lnTo>
                    <a:pt x="326" y="111"/>
                  </a:lnTo>
                  <a:lnTo>
                    <a:pt x="232" y="198"/>
                  </a:lnTo>
                  <a:lnTo>
                    <a:pt x="189" y="234"/>
                  </a:lnTo>
                  <a:lnTo>
                    <a:pt x="131" y="285"/>
                  </a:lnTo>
                  <a:lnTo>
                    <a:pt x="12" y="4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150080" y="2985840"/>
              <a:ext cx="194760" cy="200160"/>
            </a:xfrm>
            <a:custGeom>
              <a:avLst/>
              <a:gdLst/>
              <a:ahLst/>
              <a:rect l="l" t="t" r="r" b="b"/>
              <a:pathLst>
                <a:path w="278" h="290">
                  <a:moveTo>
                    <a:pt x="0" y="284"/>
                  </a:moveTo>
                  <a:lnTo>
                    <a:pt x="81" y="1"/>
                  </a:lnTo>
                  <a:lnTo>
                    <a:pt x="140" y="0"/>
                  </a:lnTo>
                  <a:lnTo>
                    <a:pt x="166" y="22"/>
                  </a:lnTo>
                  <a:lnTo>
                    <a:pt x="191" y="45"/>
                  </a:lnTo>
                  <a:lnTo>
                    <a:pt x="213" y="69"/>
                  </a:lnTo>
                  <a:lnTo>
                    <a:pt x="234" y="93"/>
                  </a:lnTo>
                  <a:lnTo>
                    <a:pt x="252" y="119"/>
                  </a:lnTo>
                  <a:lnTo>
                    <a:pt x="266" y="146"/>
                  </a:lnTo>
                  <a:lnTo>
                    <a:pt x="275" y="175"/>
                  </a:lnTo>
                  <a:lnTo>
                    <a:pt x="278" y="203"/>
                  </a:lnTo>
                  <a:lnTo>
                    <a:pt x="261" y="29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96280" y="2964960"/>
              <a:ext cx="140040" cy="190440"/>
            </a:xfrm>
            <a:custGeom>
              <a:avLst/>
              <a:gdLst/>
              <a:ahLst/>
              <a:rect l="l" t="t" r="r" b="b"/>
              <a:pathLst>
                <a:path w="201" h="276">
                  <a:moveTo>
                    <a:pt x="1" y="276"/>
                  </a:moveTo>
                  <a:lnTo>
                    <a:pt x="0" y="189"/>
                  </a:lnTo>
                  <a:lnTo>
                    <a:pt x="171" y="2"/>
                  </a:lnTo>
                  <a:lnTo>
                    <a:pt x="200" y="0"/>
                  </a:lnTo>
                  <a:lnTo>
                    <a:pt x="201" y="30"/>
                  </a:lnTo>
                  <a:lnTo>
                    <a:pt x="126" y="148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379760" y="2944440"/>
              <a:ext cx="315360" cy="227520"/>
            </a:xfrm>
            <a:custGeom>
              <a:avLst/>
              <a:gdLst/>
              <a:ahLst/>
              <a:rect l="l" t="t" r="r" b="b"/>
              <a:pathLst>
                <a:path w="451" h="330">
                  <a:moveTo>
                    <a:pt x="0" y="327"/>
                  </a:moveTo>
                  <a:lnTo>
                    <a:pt x="10" y="289"/>
                  </a:lnTo>
                  <a:lnTo>
                    <a:pt x="209" y="3"/>
                  </a:lnTo>
                  <a:lnTo>
                    <a:pt x="451" y="0"/>
                  </a:lnTo>
                  <a:lnTo>
                    <a:pt x="418" y="330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472560" y="2996640"/>
              <a:ext cx="156960" cy="161640"/>
            </a:xfrm>
            <a:custGeom>
              <a:avLst/>
              <a:gdLst/>
              <a:ahLst/>
              <a:rect l="l" t="t" r="r" b="b"/>
              <a:pathLst>
                <a:path w="223" h="234">
                  <a:moveTo>
                    <a:pt x="0" y="214"/>
                  </a:moveTo>
                  <a:lnTo>
                    <a:pt x="108" y="63"/>
                  </a:lnTo>
                  <a:lnTo>
                    <a:pt x="165" y="22"/>
                  </a:lnTo>
                  <a:lnTo>
                    <a:pt x="223" y="0"/>
                  </a:lnTo>
                  <a:lnTo>
                    <a:pt x="11" y="23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439960" y="3065760"/>
              <a:ext cx="59760" cy="468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30" y="68"/>
                  </a:moveTo>
                  <a:lnTo>
                    <a:pt x="0" y="68"/>
                  </a:lnTo>
                  <a:lnTo>
                    <a:pt x="19" y="29"/>
                  </a:lnTo>
                  <a:lnTo>
                    <a:pt x="86" y="0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364280" y="2948400"/>
              <a:ext cx="120600" cy="142200"/>
            </a:xfrm>
            <a:custGeom>
              <a:avLst/>
              <a:gdLst/>
              <a:ahLst/>
              <a:rect l="l" t="t" r="r" b="b"/>
              <a:pathLst>
                <a:path w="173" h="207">
                  <a:moveTo>
                    <a:pt x="20" y="207"/>
                  </a:moveTo>
                  <a:lnTo>
                    <a:pt x="11" y="177"/>
                  </a:lnTo>
                  <a:lnTo>
                    <a:pt x="0" y="158"/>
                  </a:lnTo>
                  <a:lnTo>
                    <a:pt x="114" y="12"/>
                  </a:lnTo>
                  <a:lnTo>
                    <a:pt x="173" y="0"/>
                  </a:lnTo>
                  <a:lnTo>
                    <a:pt x="20" y="20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330800" y="2948400"/>
              <a:ext cx="79560" cy="7704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9" y="111"/>
                  </a:moveTo>
                  <a:lnTo>
                    <a:pt x="0" y="100"/>
                  </a:lnTo>
                  <a:lnTo>
                    <a:pt x="64" y="1"/>
                  </a:lnTo>
                  <a:lnTo>
                    <a:pt x="115" y="0"/>
                  </a:lnTo>
                  <a:lnTo>
                    <a:pt x="9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60360" y="2968920"/>
              <a:ext cx="42120" cy="331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10" y="49"/>
                  </a:moveTo>
                  <a:lnTo>
                    <a:pt x="0" y="40"/>
                  </a:lnTo>
                  <a:lnTo>
                    <a:pt x="47" y="0"/>
                  </a:lnTo>
                  <a:lnTo>
                    <a:pt x="57" y="15"/>
                  </a:lnTo>
                  <a:lnTo>
                    <a:pt x="60" y="26"/>
                  </a:lnTo>
                  <a:lnTo>
                    <a:pt x="58" y="35"/>
                  </a:lnTo>
                  <a:lnTo>
                    <a:pt x="52" y="41"/>
                  </a:lnTo>
                  <a:lnTo>
                    <a:pt x="43" y="46"/>
                  </a:lnTo>
                  <a:lnTo>
                    <a:pt x="32" y="48"/>
                  </a:lnTo>
                  <a:lnTo>
                    <a:pt x="21" y="49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294440" y="2951280"/>
              <a:ext cx="40680" cy="399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1" y="57"/>
                  </a:moveTo>
                  <a:lnTo>
                    <a:pt x="0" y="0"/>
                  </a:lnTo>
                  <a:lnTo>
                    <a:pt x="58" y="18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2" name="ABSTRAC5" descr=""/>
          <p:cNvPicPr/>
          <p:nvPr/>
        </p:nvPicPr>
        <p:blipFill>
          <a:blip r:embed="rId1"/>
          <a:stretch/>
        </p:blipFill>
        <p:spPr>
          <a:xfrm>
            <a:off x="3751200" y="2951280"/>
            <a:ext cx="1641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3" name="3DCLOUD" descr=""/>
          <p:cNvPicPr/>
          <p:nvPr/>
        </p:nvPicPr>
        <p:blipFill>
          <a:blip r:embed="rId1"/>
          <a:stretch/>
        </p:blipFill>
        <p:spPr>
          <a:xfrm>
            <a:off x="2917800" y="2997360"/>
            <a:ext cx="3306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OCKBIRD" descr=""/>
          <p:cNvPicPr/>
          <p:nvPr/>
        </p:nvPicPr>
        <p:blipFill>
          <a:blip r:embed="rId1"/>
          <a:stretch/>
        </p:blipFill>
        <p:spPr>
          <a:xfrm>
            <a:off x="3578400" y="2971800"/>
            <a:ext cx="198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4" name=""/>
          <p:cNvGrpSpPr/>
          <p:nvPr/>
        </p:nvGrpSpPr>
        <p:grpSpPr>
          <a:xfrm>
            <a:off x="3911760" y="3200400"/>
            <a:ext cx="1320480" cy="1428840"/>
            <a:chOff x="3911760" y="3200400"/>
            <a:chExt cx="1320480" cy="1428840"/>
          </a:xfrm>
        </p:grpSpPr>
        <p:sp>
          <p:nvSpPr>
            <p:cNvPr id="2585" name=""/>
            <p:cNvSpPr/>
            <p:nvPr/>
          </p:nvSpPr>
          <p:spPr>
            <a:xfrm>
              <a:off x="3911760" y="3200400"/>
              <a:ext cx="13204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113000" y="3208320"/>
              <a:ext cx="1018800" cy="1327320"/>
            </a:xfrm>
            <a:prstGeom prst="rect">
              <a:avLst/>
            </a:prstGeom>
            <a:solidFill>
              <a:srgbClr val="caca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798800" y="4141800"/>
              <a:ext cx="425160" cy="112680"/>
            </a:xfrm>
            <a:custGeom>
              <a:avLst/>
              <a:gdLst/>
              <a:ahLst/>
              <a:rect l="l" t="t" r="r" b="b"/>
              <a:pathLst>
                <a:path w="268" h="71">
                  <a:moveTo>
                    <a:pt x="185" y="71"/>
                  </a:moveTo>
                  <a:lnTo>
                    <a:pt x="50" y="64"/>
                  </a:lnTo>
                  <a:lnTo>
                    <a:pt x="0" y="38"/>
                  </a:lnTo>
                  <a:lnTo>
                    <a:pt x="10" y="28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9" y="8"/>
                  </a:lnTo>
                  <a:lnTo>
                    <a:pt x="63" y="4"/>
                  </a:lnTo>
                  <a:lnTo>
                    <a:pt x="80" y="2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31" y="1"/>
                  </a:lnTo>
                  <a:lnTo>
                    <a:pt x="149" y="2"/>
                  </a:lnTo>
                  <a:lnTo>
                    <a:pt x="167" y="3"/>
                  </a:lnTo>
                  <a:lnTo>
                    <a:pt x="184" y="5"/>
                  </a:lnTo>
                  <a:lnTo>
                    <a:pt x="202" y="7"/>
                  </a:lnTo>
                  <a:lnTo>
                    <a:pt x="219" y="10"/>
                  </a:lnTo>
                  <a:lnTo>
                    <a:pt x="236" y="12"/>
                  </a:lnTo>
                  <a:lnTo>
                    <a:pt x="252" y="14"/>
                  </a:lnTo>
                  <a:lnTo>
                    <a:pt x="268" y="38"/>
                  </a:lnTo>
                  <a:lnTo>
                    <a:pt x="252" y="71"/>
                  </a:lnTo>
                  <a:lnTo>
                    <a:pt x="18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000320" y="4094280"/>
              <a:ext cx="601560" cy="118800"/>
            </a:xfrm>
            <a:custGeom>
              <a:avLst/>
              <a:gdLst/>
              <a:ahLst/>
              <a:rect l="l" t="t" r="r" b="b"/>
              <a:pathLst>
                <a:path w="379" h="75">
                  <a:moveTo>
                    <a:pt x="17" y="68"/>
                  </a:moveTo>
                  <a:lnTo>
                    <a:pt x="0" y="51"/>
                  </a:lnTo>
                  <a:lnTo>
                    <a:pt x="17" y="9"/>
                  </a:lnTo>
                  <a:lnTo>
                    <a:pt x="143" y="0"/>
                  </a:lnTo>
                  <a:lnTo>
                    <a:pt x="303" y="0"/>
                  </a:lnTo>
                  <a:lnTo>
                    <a:pt x="328" y="0"/>
                  </a:lnTo>
                  <a:lnTo>
                    <a:pt x="379" y="34"/>
                  </a:lnTo>
                  <a:lnTo>
                    <a:pt x="362" y="75"/>
                  </a:lnTo>
                  <a:lnTo>
                    <a:pt x="341" y="74"/>
                  </a:lnTo>
                  <a:lnTo>
                    <a:pt x="319" y="74"/>
                  </a:lnTo>
                  <a:lnTo>
                    <a:pt x="298" y="73"/>
                  </a:lnTo>
                  <a:lnTo>
                    <a:pt x="276" y="73"/>
                  </a:lnTo>
                  <a:lnTo>
                    <a:pt x="255" y="72"/>
                  </a:lnTo>
                  <a:lnTo>
                    <a:pt x="233" y="71"/>
                  </a:lnTo>
                  <a:lnTo>
                    <a:pt x="212" y="71"/>
                  </a:lnTo>
                  <a:lnTo>
                    <a:pt x="190" y="70"/>
                  </a:lnTo>
                  <a:lnTo>
                    <a:pt x="168" y="70"/>
                  </a:lnTo>
                  <a:lnTo>
                    <a:pt x="146" y="69"/>
                  </a:lnTo>
                  <a:lnTo>
                    <a:pt x="124" y="69"/>
                  </a:lnTo>
                  <a:lnTo>
                    <a:pt x="103" y="69"/>
                  </a:lnTo>
                  <a:lnTo>
                    <a:pt x="81" y="68"/>
                  </a:lnTo>
                  <a:lnTo>
                    <a:pt x="60" y="68"/>
                  </a:lnTo>
                  <a:lnTo>
                    <a:pt x="38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027320" y="3841560"/>
              <a:ext cx="1155600" cy="130320"/>
            </a:xfrm>
            <a:custGeom>
              <a:avLst/>
              <a:gdLst/>
              <a:ahLst/>
              <a:rect l="l" t="t" r="r" b="b"/>
              <a:pathLst>
                <a:path w="728" h="82">
                  <a:moveTo>
                    <a:pt x="671" y="76"/>
                  </a:moveTo>
                  <a:lnTo>
                    <a:pt x="185" y="50"/>
                  </a:lnTo>
                  <a:lnTo>
                    <a:pt x="24" y="58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612" y="8"/>
                  </a:lnTo>
                  <a:lnTo>
                    <a:pt x="697" y="8"/>
                  </a:lnTo>
                  <a:lnTo>
                    <a:pt x="728" y="32"/>
                  </a:lnTo>
                  <a:lnTo>
                    <a:pt x="721" y="82"/>
                  </a:lnTo>
                  <a:lnTo>
                    <a:pt x="67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027320" y="3516120"/>
              <a:ext cx="1185480" cy="136800"/>
            </a:xfrm>
            <a:custGeom>
              <a:avLst/>
              <a:gdLst/>
              <a:ahLst/>
              <a:rect l="l" t="t" r="r" b="b"/>
              <a:pathLst>
                <a:path w="747" h="86">
                  <a:moveTo>
                    <a:pt x="336" y="86"/>
                  </a:moveTo>
                  <a:lnTo>
                    <a:pt x="50" y="60"/>
                  </a:lnTo>
                  <a:lnTo>
                    <a:pt x="0" y="45"/>
                  </a:lnTo>
                  <a:lnTo>
                    <a:pt x="16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78" y="0"/>
                  </a:lnTo>
                  <a:lnTo>
                    <a:pt x="98" y="1"/>
                  </a:lnTo>
                  <a:lnTo>
                    <a:pt x="118" y="2"/>
                  </a:lnTo>
                  <a:lnTo>
                    <a:pt x="140" y="2"/>
                  </a:lnTo>
                  <a:lnTo>
                    <a:pt x="160" y="4"/>
                  </a:lnTo>
                  <a:lnTo>
                    <a:pt x="181" y="5"/>
                  </a:lnTo>
                  <a:lnTo>
                    <a:pt x="201" y="6"/>
                  </a:lnTo>
                  <a:lnTo>
                    <a:pt x="222" y="8"/>
                  </a:lnTo>
                  <a:lnTo>
                    <a:pt x="242" y="10"/>
                  </a:lnTo>
                  <a:lnTo>
                    <a:pt x="262" y="11"/>
                  </a:lnTo>
                  <a:lnTo>
                    <a:pt x="283" y="13"/>
                  </a:lnTo>
                  <a:lnTo>
                    <a:pt x="303" y="15"/>
                  </a:lnTo>
                  <a:lnTo>
                    <a:pt x="324" y="17"/>
                  </a:lnTo>
                  <a:lnTo>
                    <a:pt x="344" y="18"/>
                  </a:lnTo>
                  <a:lnTo>
                    <a:pt x="364" y="20"/>
                  </a:lnTo>
                  <a:lnTo>
                    <a:pt x="385" y="21"/>
                  </a:lnTo>
                  <a:lnTo>
                    <a:pt x="405" y="22"/>
                  </a:lnTo>
                  <a:lnTo>
                    <a:pt x="425" y="23"/>
                  </a:lnTo>
                  <a:lnTo>
                    <a:pt x="446" y="24"/>
                  </a:lnTo>
                  <a:lnTo>
                    <a:pt x="466" y="25"/>
                  </a:lnTo>
                  <a:lnTo>
                    <a:pt x="486" y="25"/>
                  </a:lnTo>
                  <a:lnTo>
                    <a:pt x="507" y="25"/>
                  </a:lnTo>
                  <a:lnTo>
                    <a:pt x="527" y="25"/>
                  </a:lnTo>
                  <a:lnTo>
                    <a:pt x="548" y="24"/>
                  </a:lnTo>
                  <a:lnTo>
                    <a:pt x="569" y="23"/>
                  </a:lnTo>
                  <a:lnTo>
                    <a:pt x="589" y="21"/>
                  </a:lnTo>
                  <a:lnTo>
                    <a:pt x="610" y="19"/>
                  </a:lnTo>
                  <a:lnTo>
                    <a:pt x="630" y="17"/>
                  </a:lnTo>
                  <a:lnTo>
                    <a:pt x="651" y="14"/>
                  </a:lnTo>
                  <a:lnTo>
                    <a:pt x="671" y="10"/>
                  </a:lnTo>
                  <a:lnTo>
                    <a:pt x="747" y="45"/>
                  </a:lnTo>
                  <a:lnTo>
                    <a:pt x="729" y="86"/>
                  </a:lnTo>
                  <a:lnTo>
                    <a:pt x="370" y="86"/>
                  </a:lnTo>
                  <a:lnTo>
                    <a:pt x="33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1" name=""/>
          <p:cNvGrpSpPr/>
          <p:nvPr/>
        </p:nvGrpSpPr>
        <p:grpSpPr>
          <a:xfrm>
            <a:off x="762120" y="685800"/>
            <a:ext cx="6167160" cy="9004320"/>
            <a:chOff x="762120" y="685800"/>
            <a:chExt cx="6167160" cy="9004320"/>
          </a:xfrm>
        </p:grpSpPr>
        <p:sp>
          <p:nvSpPr>
            <p:cNvPr id="2592" name=""/>
            <p:cNvSpPr/>
            <p:nvPr/>
          </p:nvSpPr>
          <p:spPr>
            <a:xfrm>
              <a:off x="2284560" y="2013120"/>
              <a:ext cx="45734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2120" y="685800"/>
              <a:ext cx="6167160" cy="90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955960" y="3054240"/>
              <a:ext cx="3232080" cy="1513080"/>
            </a:xfrm>
            <a:custGeom>
              <a:avLst/>
              <a:gdLst/>
              <a:ahLst/>
              <a:rect l="l" t="t" r="r" b="b"/>
              <a:pathLst>
                <a:path w="4071" h="1907">
                  <a:moveTo>
                    <a:pt x="148" y="1901"/>
                  </a:moveTo>
                  <a:lnTo>
                    <a:pt x="148" y="1819"/>
                  </a:lnTo>
                  <a:lnTo>
                    <a:pt x="188" y="1788"/>
                  </a:lnTo>
                  <a:lnTo>
                    <a:pt x="189" y="1002"/>
                  </a:lnTo>
                  <a:lnTo>
                    <a:pt x="131" y="946"/>
                  </a:lnTo>
                  <a:lnTo>
                    <a:pt x="134" y="749"/>
                  </a:lnTo>
                  <a:lnTo>
                    <a:pt x="13" y="713"/>
                  </a:lnTo>
                  <a:lnTo>
                    <a:pt x="0" y="680"/>
                  </a:lnTo>
                  <a:lnTo>
                    <a:pt x="13" y="630"/>
                  </a:lnTo>
                  <a:lnTo>
                    <a:pt x="679" y="82"/>
                  </a:lnTo>
                  <a:lnTo>
                    <a:pt x="697" y="77"/>
                  </a:lnTo>
                  <a:lnTo>
                    <a:pt x="900" y="144"/>
                  </a:lnTo>
                  <a:lnTo>
                    <a:pt x="971" y="86"/>
                  </a:lnTo>
                  <a:lnTo>
                    <a:pt x="1023" y="83"/>
                  </a:lnTo>
                  <a:lnTo>
                    <a:pt x="1050" y="83"/>
                  </a:lnTo>
                  <a:lnTo>
                    <a:pt x="1021" y="0"/>
                  </a:lnTo>
                  <a:lnTo>
                    <a:pt x="1258" y="12"/>
                  </a:lnTo>
                  <a:lnTo>
                    <a:pt x="1563" y="162"/>
                  </a:lnTo>
                  <a:lnTo>
                    <a:pt x="1683" y="125"/>
                  </a:lnTo>
                  <a:lnTo>
                    <a:pt x="1634" y="83"/>
                  </a:lnTo>
                  <a:lnTo>
                    <a:pt x="1574" y="22"/>
                  </a:lnTo>
                  <a:lnTo>
                    <a:pt x="1575" y="8"/>
                  </a:lnTo>
                  <a:lnTo>
                    <a:pt x="1975" y="27"/>
                  </a:lnTo>
                  <a:lnTo>
                    <a:pt x="2495" y="275"/>
                  </a:lnTo>
                  <a:lnTo>
                    <a:pt x="2531" y="330"/>
                  </a:lnTo>
                  <a:lnTo>
                    <a:pt x="2580" y="324"/>
                  </a:lnTo>
                  <a:lnTo>
                    <a:pt x="2635" y="352"/>
                  </a:lnTo>
                  <a:lnTo>
                    <a:pt x="2730" y="471"/>
                  </a:lnTo>
                  <a:lnTo>
                    <a:pt x="2798" y="498"/>
                  </a:lnTo>
                  <a:lnTo>
                    <a:pt x="2827" y="452"/>
                  </a:lnTo>
                  <a:lnTo>
                    <a:pt x="2880" y="467"/>
                  </a:lnTo>
                  <a:lnTo>
                    <a:pt x="4042" y="1042"/>
                  </a:lnTo>
                  <a:lnTo>
                    <a:pt x="4032" y="1081"/>
                  </a:lnTo>
                  <a:lnTo>
                    <a:pt x="4003" y="1135"/>
                  </a:lnTo>
                  <a:lnTo>
                    <a:pt x="4011" y="1169"/>
                  </a:lnTo>
                  <a:lnTo>
                    <a:pt x="4071" y="1188"/>
                  </a:lnTo>
                  <a:lnTo>
                    <a:pt x="4062" y="1247"/>
                  </a:lnTo>
                  <a:lnTo>
                    <a:pt x="4032" y="1258"/>
                  </a:lnTo>
                  <a:lnTo>
                    <a:pt x="4032" y="1324"/>
                  </a:lnTo>
                  <a:lnTo>
                    <a:pt x="4030" y="1790"/>
                  </a:lnTo>
                  <a:lnTo>
                    <a:pt x="4058" y="1819"/>
                  </a:lnTo>
                  <a:lnTo>
                    <a:pt x="4053" y="1870"/>
                  </a:lnTo>
                  <a:lnTo>
                    <a:pt x="2110" y="1901"/>
                  </a:lnTo>
                  <a:lnTo>
                    <a:pt x="190" y="1907"/>
                  </a:lnTo>
                  <a:lnTo>
                    <a:pt x="148" y="1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519440" y="3063960"/>
              <a:ext cx="422280" cy="218880"/>
            </a:xfrm>
            <a:custGeom>
              <a:avLst/>
              <a:gdLst/>
              <a:ahLst/>
              <a:rect l="l" t="t" r="r" b="b"/>
              <a:pathLst>
                <a:path w="534" h="277">
                  <a:moveTo>
                    <a:pt x="534" y="258"/>
                  </a:moveTo>
                  <a:lnTo>
                    <a:pt x="530" y="25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519" y="277"/>
                  </a:lnTo>
                  <a:lnTo>
                    <a:pt x="513" y="271"/>
                  </a:lnTo>
                  <a:lnTo>
                    <a:pt x="534" y="258"/>
                  </a:lnTo>
                  <a:lnTo>
                    <a:pt x="532" y="255"/>
                  </a:lnTo>
                  <a:lnTo>
                    <a:pt x="530" y="254"/>
                  </a:lnTo>
                  <a:lnTo>
                    <a:pt x="53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925880" y="3268800"/>
              <a:ext cx="49320" cy="5868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50" y="48"/>
                  </a:moveTo>
                  <a:lnTo>
                    <a:pt x="61" y="54"/>
                  </a:lnTo>
                  <a:lnTo>
                    <a:pt x="21" y="0"/>
                  </a:lnTo>
                  <a:lnTo>
                    <a:pt x="0" y="13"/>
                  </a:lnTo>
                  <a:lnTo>
                    <a:pt x="40" y="69"/>
                  </a:lnTo>
                  <a:lnTo>
                    <a:pt x="50" y="74"/>
                  </a:lnTo>
                  <a:lnTo>
                    <a:pt x="40" y="69"/>
                  </a:lnTo>
                  <a:lnTo>
                    <a:pt x="44" y="74"/>
                  </a:lnTo>
                  <a:lnTo>
                    <a:pt x="50" y="74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965840" y="3306600"/>
              <a:ext cx="2844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2" y="3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9" y="26"/>
                  </a:lnTo>
                  <a:lnTo>
                    <a:pt x="37" y="23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7" y="2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983120" y="3295800"/>
              <a:ext cx="23760" cy="29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7" y="4"/>
                  </a:moveTo>
                  <a:lnTo>
                    <a:pt x="14" y="5"/>
                  </a:lnTo>
                  <a:lnTo>
                    <a:pt x="0" y="16"/>
                  </a:lnTo>
                  <a:lnTo>
                    <a:pt x="15" y="36"/>
                  </a:lnTo>
                  <a:lnTo>
                    <a:pt x="30" y="25"/>
                  </a:lnTo>
                  <a:lnTo>
                    <a:pt x="16" y="27"/>
                  </a:lnTo>
                  <a:lnTo>
                    <a:pt x="27" y="4"/>
                  </a:lnTo>
                  <a:lnTo>
                    <a:pt x="20" y="0"/>
                  </a:lnTo>
                  <a:lnTo>
                    <a:pt x="14" y="5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995720" y="3298680"/>
              <a:ext cx="59040" cy="414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73" y="32"/>
                  </a:moveTo>
                  <a:lnTo>
                    <a:pt x="69" y="28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58" y="51"/>
                  </a:lnTo>
                  <a:lnTo>
                    <a:pt x="53" y="48"/>
                  </a:lnTo>
                  <a:lnTo>
                    <a:pt x="73" y="32"/>
                  </a:lnTo>
                  <a:lnTo>
                    <a:pt x="72" y="30"/>
                  </a:lnTo>
                  <a:lnTo>
                    <a:pt x="69" y="28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037120" y="3325680"/>
              <a:ext cx="92160" cy="10800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1" y="112"/>
                  </a:moveTo>
                  <a:lnTo>
                    <a:pt x="115" y="116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96" y="133"/>
                  </a:lnTo>
                  <a:lnTo>
                    <a:pt x="100" y="137"/>
                  </a:lnTo>
                  <a:lnTo>
                    <a:pt x="96" y="133"/>
                  </a:lnTo>
                  <a:lnTo>
                    <a:pt x="97" y="135"/>
                  </a:lnTo>
                  <a:lnTo>
                    <a:pt x="100" y="137"/>
                  </a:lnTo>
                  <a:lnTo>
                    <a:pt x="11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116680" y="3414600"/>
              <a:ext cx="66600" cy="4788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65" y="37"/>
                  </a:moveTo>
                  <a:lnTo>
                    <a:pt x="80" y="34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67" y="57"/>
                  </a:lnTo>
                  <a:lnTo>
                    <a:pt x="82" y="54"/>
                  </a:lnTo>
                  <a:lnTo>
                    <a:pt x="67" y="57"/>
                  </a:lnTo>
                  <a:lnTo>
                    <a:pt x="76" y="61"/>
                  </a:lnTo>
                  <a:lnTo>
                    <a:pt x="82" y="54"/>
                  </a:lnTo>
                  <a:lnTo>
                    <a:pt x="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168880" y="3429000"/>
              <a:ext cx="30240" cy="28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3" y="6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17" y="35"/>
                  </a:lnTo>
                  <a:lnTo>
                    <a:pt x="35" y="19"/>
                  </a:lnTo>
                  <a:lnTo>
                    <a:pt x="39" y="12"/>
                  </a:lnTo>
                  <a:lnTo>
                    <a:pt x="35" y="19"/>
                  </a:lnTo>
                  <a:lnTo>
                    <a:pt x="38" y="16"/>
                  </a:lnTo>
                  <a:lnTo>
                    <a:pt x="39" y="12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180040" y="3398760"/>
              <a:ext cx="27000" cy="396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26" y="3"/>
                  </a:moveTo>
                  <a:lnTo>
                    <a:pt x="10" y="12"/>
                  </a:lnTo>
                  <a:lnTo>
                    <a:pt x="0" y="45"/>
                  </a:lnTo>
                  <a:lnTo>
                    <a:pt x="26" y="51"/>
                  </a:lnTo>
                  <a:lnTo>
                    <a:pt x="34" y="19"/>
                  </a:lnTo>
                  <a:lnTo>
                    <a:pt x="18" y="28"/>
                  </a:lnTo>
                  <a:lnTo>
                    <a:pt x="26" y="3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192640" y="3400560"/>
              <a:ext cx="50760" cy="3312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63" y="17"/>
                  </a:moveTo>
                  <a:lnTo>
                    <a:pt x="62" y="17"/>
                  </a:lnTo>
                  <a:lnTo>
                    <a:pt x="8" y="0"/>
                  </a:lnTo>
                  <a:lnTo>
                    <a:pt x="0" y="25"/>
                  </a:lnTo>
                  <a:lnTo>
                    <a:pt x="54" y="42"/>
                  </a:lnTo>
                  <a:lnTo>
                    <a:pt x="53" y="42"/>
                  </a:lnTo>
                  <a:lnTo>
                    <a:pt x="6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235480" y="3414600"/>
              <a:ext cx="939960" cy="478080"/>
            </a:xfrm>
            <a:custGeom>
              <a:avLst/>
              <a:gdLst/>
              <a:ahLst/>
              <a:rect l="l" t="t" r="r" b="b"/>
              <a:pathLst>
                <a:path w="1184" h="603">
                  <a:moveTo>
                    <a:pt x="1183" y="595"/>
                  </a:moveTo>
                  <a:lnTo>
                    <a:pt x="1175" y="580"/>
                  </a:lnTo>
                  <a:lnTo>
                    <a:pt x="10" y="0"/>
                  </a:lnTo>
                  <a:lnTo>
                    <a:pt x="0" y="25"/>
                  </a:lnTo>
                  <a:lnTo>
                    <a:pt x="1164" y="603"/>
                  </a:lnTo>
                  <a:lnTo>
                    <a:pt x="1157" y="589"/>
                  </a:lnTo>
                  <a:lnTo>
                    <a:pt x="1183" y="595"/>
                  </a:lnTo>
                  <a:lnTo>
                    <a:pt x="1184" y="585"/>
                  </a:lnTo>
                  <a:lnTo>
                    <a:pt x="1175" y="580"/>
                  </a:lnTo>
                  <a:lnTo>
                    <a:pt x="1183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148440" y="3881520"/>
              <a:ext cx="25200" cy="381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3" y="47"/>
                  </a:moveTo>
                  <a:lnTo>
                    <a:pt x="24" y="43"/>
                  </a:lnTo>
                  <a:lnTo>
                    <a:pt x="34" y="6"/>
                  </a:lnTo>
                  <a:lnTo>
                    <a:pt x="8" y="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3" y="47"/>
                  </a:lnTo>
                  <a:lnTo>
                    <a:pt x="24" y="46"/>
                  </a:lnTo>
                  <a:lnTo>
                    <a:pt x="24" y="43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118200" y="3908520"/>
              <a:ext cx="47520" cy="5688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26" y="61"/>
                  </a:moveTo>
                  <a:lnTo>
                    <a:pt x="26" y="73"/>
                  </a:lnTo>
                  <a:lnTo>
                    <a:pt x="61" y="13"/>
                  </a:lnTo>
                  <a:lnTo>
                    <a:pt x="39" y="0"/>
                  </a:lnTo>
                  <a:lnTo>
                    <a:pt x="4" y="59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3"/>
                  </a:lnTo>
                  <a:lnTo>
                    <a:pt x="2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121440" y="3956040"/>
              <a:ext cx="27000" cy="316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15"/>
                  </a:moveTo>
                  <a:lnTo>
                    <a:pt x="34" y="20"/>
                  </a:lnTo>
                  <a:lnTo>
                    <a:pt x="22" y="0"/>
                  </a:lnTo>
                  <a:lnTo>
                    <a:pt x="0" y="12"/>
                  </a:lnTo>
                  <a:lnTo>
                    <a:pt x="11" y="32"/>
                  </a:lnTo>
                  <a:lnTo>
                    <a:pt x="18" y="39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8" y="39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134040" y="3968640"/>
              <a:ext cx="63720" cy="367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8" y="36"/>
                  </a:moveTo>
                  <a:lnTo>
                    <a:pt x="70" y="23"/>
                  </a:lnTo>
                  <a:lnTo>
                    <a:pt x="9" y="0"/>
                  </a:lnTo>
                  <a:lnTo>
                    <a:pt x="0" y="24"/>
                  </a:lnTo>
                  <a:lnTo>
                    <a:pt x="61" y="47"/>
                  </a:lnTo>
                  <a:lnTo>
                    <a:pt x="53" y="32"/>
                  </a:lnTo>
                  <a:lnTo>
                    <a:pt x="78" y="36"/>
                  </a:lnTo>
                  <a:lnTo>
                    <a:pt x="80" y="25"/>
                  </a:lnTo>
                  <a:lnTo>
                    <a:pt x="70" y="23"/>
                  </a:lnTo>
                  <a:lnTo>
                    <a:pt x="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170760" y="3994200"/>
              <a:ext cx="27000" cy="63360"/>
            </a:xfrm>
            <a:custGeom>
              <a:avLst/>
              <a:gdLst/>
              <a:ahLst/>
              <a:rect l="l" t="t" r="r" b="b"/>
              <a:pathLst>
                <a:path w="34" h="80">
                  <a:moveTo>
                    <a:pt x="17" y="80"/>
                  </a:moveTo>
                  <a:lnTo>
                    <a:pt x="26" y="69"/>
                  </a:lnTo>
                  <a:lnTo>
                    <a:pt x="34" y="4"/>
                  </a:lnTo>
                  <a:lnTo>
                    <a:pt x="9" y="0"/>
                  </a:lnTo>
                  <a:lnTo>
                    <a:pt x="0" y="66"/>
                  </a:lnTo>
                  <a:lnTo>
                    <a:pt x="10" y="54"/>
                  </a:lnTo>
                  <a:lnTo>
                    <a:pt x="17" y="80"/>
                  </a:lnTo>
                  <a:lnTo>
                    <a:pt x="25" y="78"/>
                  </a:lnTo>
                  <a:lnTo>
                    <a:pt x="26" y="69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145200" y="4037040"/>
              <a:ext cx="38160" cy="2700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26" y="20"/>
                  </a:moveTo>
                  <a:lnTo>
                    <a:pt x="16" y="34"/>
                  </a:lnTo>
                  <a:lnTo>
                    <a:pt x="49" y="26"/>
                  </a:lnTo>
                  <a:lnTo>
                    <a:pt x="42" y="0"/>
                  </a:lnTo>
                  <a:lnTo>
                    <a:pt x="10" y="8"/>
                  </a:lnTo>
                  <a:lnTo>
                    <a:pt x="0" y="20"/>
                  </a:lnTo>
                  <a:lnTo>
                    <a:pt x="10" y="8"/>
                  </a:lnTo>
                  <a:lnTo>
                    <a:pt x="0" y="9"/>
                  </a:lnTo>
                  <a:lnTo>
                    <a:pt x="0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145200" y="4052880"/>
              <a:ext cx="19080" cy="475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4" y="49"/>
                  </a:moveTo>
                  <a:lnTo>
                    <a:pt x="26" y="5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145200" y="409104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2"/>
                  </a:moveTo>
                  <a:lnTo>
                    <a:pt x="27" y="7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2" y="12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146640" y="4102200"/>
              <a:ext cx="20880" cy="384120"/>
            </a:xfrm>
            <a:custGeom>
              <a:avLst/>
              <a:gdLst/>
              <a:ahLst/>
              <a:rect l="l" t="t" r="r" b="b"/>
              <a:pathLst>
                <a:path w="27" h="485">
                  <a:moveTo>
                    <a:pt x="23" y="467"/>
                  </a:moveTo>
                  <a:lnTo>
                    <a:pt x="27" y="4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475"/>
                  </a:lnTo>
                  <a:lnTo>
                    <a:pt x="4" y="485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4" y="485"/>
                  </a:lnTo>
                  <a:lnTo>
                    <a:pt x="23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149880" y="4471920"/>
              <a:ext cx="38160" cy="334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7" y="35"/>
                  </a:moveTo>
                  <a:lnTo>
                    <a:pt x="44" y="25"/>
                  </a:lnTo>
                  <a:lnTo>
                    <a:pt x="19" y="0"/>
                  </a:lnTo>
                  <a:lnTo>
                    <a:pt x="0" y="18"/>
                  </a:lnTo>
                  <a:lnTo>
                    <a:pt x="25" y="42"/>
                  </a:lnTo>
                  <a:lnTo>
                    <a:pt x="21" y="33"/>
                  </a:lnTo>
                  <a:lnTo>
                    <a:pt x="47" y="35"/>
                  </a:lnTo>
                  <a:lnTo>
                    <a:pt x="48" y="29"/>
                  </a:lnTo>
                  <a:lnTo>
                    <a:pt x="44" y="25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161040" y="4497480"/>
              <a:ext cx="27000" cy="522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13" y="66"/>
                  </a:moveTo>
                  <a:lnTo>
                    <a:pt x="25" y="55"/>
                  </a:lnTo>
                  <a:lnTo>
                    <a:pt x="32" y="2"/>
                  </a:lnTo>
                  <a:lnTo>
                    <a:pt x="6" y="0"/>
                  </a:lnTo>
                  <a:lnTo>
                    <a:pt x="0" y="51"/>
                  </a:lnTo>
                  <a:lnTo>
                    <a:pt x="13" y="40"/>
                  </a:lnTo>
                  <a:lnTo>
                    <a:pt x="13" y="66"/>
                  </a:lnTo>
                  <a:lnTo>
                    <a:pt x="24" y="66"/>
                  </a:lnTo>
                  <a:lnTo>
                    <a:pt x="25" y="55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850000" y="4530600"/>
              <a:ext cx="322200" cy="19080"/>
            </a:xfrm>
            <a:custGeom>
              <a:avLst/>
              <a:gdLst/>
              <a:ahLst/>
              <a:rect l="l" t="t" r="r" b="b"/>
              <a:pathLst>
                <a:path w="405" h="26">
                  <a:moveTo>
                    <a:pt x="1" y="26"/>
                  </a:moveTo>
                  <a:lnTo>
                    <a:pt x="1" y="26"/>
                  </a:lnTo>
                  <a:lnTo>
                    <a:pt x="405" y="26"/>
                  </a:lnTo>
                  <a:lnTo>
                    <a:pt x="40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594320" y="4530600"/>
              <a:ext cx="1257120" cy="44640"/>
            </a:xfrm>
            <a:custGeom>
              <a:avLst/>
              <a:gdLst/>
              <a:ahLst/>
              <a:rect l="l" t="t" r="r" b="b"/>
              <a:pathLst>
                <a:path w="1584" h="57">
                  <a:moveTo>
                    <a:pt x="0" y="57"/>
                  </a:moveTo>
                  <a:lnTo>
                    <a:pt x="0" y="57"/>
                  </a:lnTo>
                  <a:lnTo>
                    <a:pt x="1584" y="26"/>
                  </a:lnTo>
                  <a:lnTo>
                    <a:pt x="1583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062160" y="4554360"/>
              <a:ext cx="1532160" cy="20880"/>
            </a:xfrm>
            <a:custGeom>
              <a:avLst/>
              <a:gdLst/>
              <a:ahLst/>
              <a:rect l="l" t="t" r="r" b="b"/>
              <a:pathLst>
                <a:path w="1929" h="26">
                  <a:moveTo>
                    <a:pt x="0" y="12"/>
                  </a:moveTo>
                  <a:lnTo>
                    <a:pt x="13" y="26"/>
                  </a:lnTo>
                  <a:lnTo>
                    <a:pt x="1929" y="26"/>
                  </a:lnTo>
                  <a:lnTo>
                    <a:pt x="1929" y="0"/>
                  </a:lnTo>
                  <a:lnTo>
                    <a:pt x="13" y="0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062160" y="4491000"/>
              <a:ext cx="20880" cy="7308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5" y="0"/>
                  </a:moveTo>
                  <a:lnTo>
                    <a:pt x="0" y="11"/>
                  </a:lnTo>
                  <a:lnTo>
                    <a:pt x="0" y="93"/>
                  </a:lnTo>
                  <a:lnTo>
                    <a:pt x="25" y="93"/>
                  </a:lnTo>
                  <a:lnTo>
                    <a:pt x="25" y="11"/>
                  </a:lnTo>
                  <a:lnTo>
                    <a:pt x="21" y="21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067200" y="4464000"/>
              <a:ext cx="47520" cy="428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4" y="9"/>
                  </a:moveTo>
                  <a:lnTo>
                    <a:pt x="39" y="0"/>
                  </a:lnTo>
                  <a:lnTo>
                    <a:pt x="0" y="32"/>
                  </a:lnTo>
                  <a:lnTo>
                    <a:pt x="16" y="53"/>
                  </a:lnTo>
                  <a:lnTo>
                    <a:pt x="55" y="20"/>
                  </a:lnTo>
                  <a:lnTo>
                    <a:pt x="59" y="9"/>
                  </a:lnTo>
                  <a:lnTo>
                    <a:pt x="55" y="20"/>
                  </a:lnTo>
                  <a:lnTo>
                    <a:pt x="59" y="16"/>
                  </a:lnTo>
                  <a:lnTo>
                    <a:pt x="59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094200" y="4316400"/>
              <a:ext cx="20520" cy="155520"/>
            </a:xfrm>
            <a:custGeom>
              <a:avLst/>
              <a:gdLst/>
              <a:ahLst/>
              <a:rect l="l" t="t" r="r" b="b"/>
              <a:pathLst>
                <a:path w="25" h="197">
                  <a:moveTo>
                    <a:pt x="0" y="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25" y="19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4200" y="4156200"/>
              <a:ext cx="20520" cy="16020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25" y="20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094200" y="3841920"/>
              <a:ext cx="20520" cy="314280"/>
            </a:xfrm>
            <a:custGeom>
              <a:avLst/>
              <a:gdLst/>
              <a:ahLst/>
              <a:rect l="l" t="t" r="r" b="b"/>
              <a:pathLst>
                <a:path w="25" h="396">
                  <a:moveTo>
                    <a:pt x="4" y="20"/>
                  </a:moveTo>
                  <a:lnTo>
                    <a:pt x="0" y="11"/>
                  </a:lnTo>
                  <a:lnTo>
                    <a:pt x="0" y="396"/>
                  </a:lnTo>
                  <a:lnTo>
                    <a:pt x="25" y="396"/>
                  </a:lnTo>
                  <a:lnTo>
                    <a:pt x="25" y="11"/>
                  </a:lnTo>
                  <a:lnTo>
                    <a:pt x="21" y="0"/>
                  </a:lnTo>
                  <a:lnTo>
                    <a:pt x="25" y="11"/>
                  </a:lnTo>
                  <a:lnTo>
                    <a:pt x="25" y="6"/>
                  </a:lnTo>
                  <a:lnTo>
                    <a:pt x="21" y="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49560" y="3801960"/>
              <a:ext cx="61920" cy="558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10"/>
                  </a:moveTo>
                  <a:lnTo>
                    <a:pt x="6" y="20"/>
                  </a:lnTo>
                  <a:lnTo>
                    <a:pt x="60" y="70"/>
                  </a:lnTo>
                  <a:lnTo>
                    <a:pt x="77" y="50"/>
                  </a:lnTo>
                  <a:lnTo>
                    <a:pt x="22" y="0"/>
                  </a:lnTo>
                  <a:lnTo>
                    <a:pt x="27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6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49560" y="3645000"/>
              <a:ext cx="22320" cy="164880"/>
            </a:xfrm>
            <a:custGeom>
              <a:avLst/>
              <a:gdLst/>
              <a:ahLst/>
              <a:rect l="l" t="t" r="r" b="b"/>
              <a:pathLst>
                <a:path w="27" h="208">
                  <a:moveTo>
                    <a:pt x="9" y="23"/>
                  </a:moveTo>
                  <a:lnTo>
                    <a:pt x="0" y="12"/>
                  </a:lnTo>
                  <a:lnTo>
                    <a:pt x="0" y="208"/>
                  </a:lnTo>
                  <a:lnTo>
                    <a:pt x="27" y="208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27" y="12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035160" y="3633840"/>
              <a:ext cx="30240" cy="284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" y="26"/>
                  </a:moveTo>
                  <a:lnTo>
                    <a:pt x="0" y="24"/>
                  </a:lnTo>
                  <a:lnTo>
                    <a:pt x="27" y="37"/>
                  </a:lnTo>
                  <a:lnTo>
                    <a:pt x="37" y="14"/>
                  </a:lnTo>
                  <a:lnTo>
                    <a:pt x="9" y="2"/>
                  </a:lnTo>
                  <a:lnTo>
                    <a:pt x="8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82960" y="3619440"/>
              <a:ext cx="58680" cy="34920"/>
            </a:xfrm>
            <a:custGeom>
              <a:avLst/>
              <a:gdLst/>
              <a:ahLst/>
              <a:rect l="l" t="t" r="r" b="b"/>
              <a:pathLst>
                <a:path w="73" h="45">
                  <a:moveTo>
                    <a:pt x="0" y="25"/>
                  </a:moveTo>
                  <a:lnTo>
                    <a:pt x="1" y="25"/>
                  </a:lnTo>
                  <a:lnTo>
                    <a:pt x="66" y="45"/>
                  </a:lnTo>
                  <a:lnTo>
                    <a:pt x="73" y="19"/>
                  </a:lnTo>
                  <a:lnTo>
                    <a:pt x="8" y="0"/>
                  </a:lnTo>
                  <a:lnTo>
                    <a:pt x="9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55960" y="361008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18"/>
                  </a:moveTo>
                  <a:lnTo>
                    <a:pt x="6" y="24"/>
                  </a:lnTo>
                  <a:lnTo>
                    <a:pt x="35" y="37"/>
                  </a:lnTo>
                  <a:lnTo>
                    <a:pt x="44" y="12"/>
                  </a:lnTo>
                  <a:lnTo>
                    <a:pt x="16" y="0"/>
                  </a:lnTo>
                  <a:lnTo>
                    <a:pt x="24" y="8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943360" y="3589200"/>
              <a:ext cx="31680" cy="334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1" y="1"/>
                  </a:moveTo>
                  <a:lnTo>
                    <a:pt x="1" y="9"/>
                  </a:lnTo>
                  <a:lnTo>
                    <a:pt x="15" y="42"/>
                  </a:lnTo>
                  <a:lnTo>
                    <a:pt x="39" y="32"/>
                  </a:lnTo>
                  <a:lnTo>
                    <a:pt x="25" y="0"/>
                  </a:lnTo>
                  <a:lnTo>
                    <a:pt x="27" y="8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944800" y="3549600"/>
              <a:ext cx="30240" cy="4608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8" y="0"/>
                  </a:moveTo>
                  <a:lnTo>
                    <a:pt x="14" y="7"/>
                  </a:lnTo>
                  <a:lnTo>
                    <a:pt x="0" y="53"/>
                  </a:lnTo>
                  <a:lnTo>
                    <a:pt x="26" y="60"/>
                  </a:lnTo>
                  <a:lnTo>
                    <a:pt x="38" y="14"/>
                  </a:lnTo>
                  <a:lnTo>
                    <a:pt x="34" y="21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4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59200" y="3112920"/>
              <a:ext cx="541080" cy="452520"/>
            </a:xfrm>
            <a:custGeom>
              <a:avLst/>
              <a:gdLst/>
              <a:ahLst/>
              <a:rect l="l" t="t" r="r" b="b"/>
              <a:pathLst>
                <a:path w="682" h="570">
                  <a:moveTo>
                    <a:pt x="674" y="9"/>
                  </a:moveTo>
                  <a:lnTo>
                    <a:pt x="666" y="0"/>
                  </a:lnTo>
                  <a:lnTo>
                    <a:pt x="0" y="549"/>
                  </a:lnTo>
                  <a:lnTo>
                    <a:pt x="16" y="570"/>
                  </a:lnTo>
                  <a:lnTo>
                    <a:pt x="682" y="20"/>
                  </a:lnTo>
                  <a:lnTo>
                    <a:pt x="67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068800" y="3578400"/>
              <a:ext cx="1114560" cy="448920"/>
            </a:xfrm>
            <a:custGeom>
              <a:avLst/>
              <a:gdLst/>
              <a:ahLst/>
              <a:rect l="l" t="t" r="r" b="b"/>
              <a:pathLst>
                <a:path w="1404" h="566">
                  <a:moveTo>
                    <a:pt x="1" y="28"/>
                  </a:moveTo>
                  <a:lnTo>
                    <a:pt x="6" y="0"/>
                  </a:lnTo>
                  <a:lnTo>
                    <a:pt x="0" y="28"/>
                  </a:lnTo>
                  <a:lnTo>
                    <a:pt x="1335" y="533"/>
                  </a:lnTo>
                  <a:lnTo>
                    <a:pt x="1347" y="502"/>
                  </a:lnTo>
                  <a:lnTo>
                    <a:pt x="1335" y="533"/>
                  </a:lnTo>
                  <a:lnTo>
                    <a:pt x="1358" y="555"/>
                  </a:lnTo>
                  <a:lnTo>
                    <a:pt x="1404" y="56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146640" y="4017960"/>
              <a:ext cx="180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087960" y="4336920"/>
              <a:ext cx="68400" cy="147600"/>
            </a:xfrm>
            <a:custGeom>
              <a:avLst/>
              <a:gdLst/>
              <a:ahLst/>
              <a:rect l="l" t="t" r="r" b="b"/>
              <a:pathLst>
                <a:path w="87" h="185">
                  <a:moveTo>
                    <a:pt x="9" y="0"/>
                  </a:moveTo>
                  <a:lnTo>
                    <a:pt x="10" y="64"/>
                  </a:lnTo>
                  <a:lnTo>
                    <a:pt x="13" y="101"/>
                  </a:lnTo>
                  <a:lnTo>
                    <a:pt x="13" y="134"/>
                  </a:lnTo>
                  <a:lnTo>
                    <a:pt x="11" y="158"/>
                  </a:lnTo>
                  <a:lnTo>
                    <a:pt x="0" y="185"/>
                  </a:lnTo>
                  <a:lnTo>
                    <a:pt x="87" y="1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653080" y="4468680"/>
              <a:ext cx="434880" cy="15840"/>
            </a:xfrm>
            <a:custGeom>
              <a:avLst/>
              <a:gdLst/>
              <a:ahLst/>
              <a:rect l="l" t="t" r="r" b="b"/>
              <a:pathLst>
                <a:path w="549" h="19">
                  <a:moveTo>
                    <a:pt x="549" y="19"/>
                  </a:moveTo>
                  <a:lnTo>
                    <a:pt x="280" y="19"/>
                  </a:lnTo>
                  <a:lnTo>
                    <a:pt x="187" y="8"/>
                  </a:lnTo>
                  <a:lnTo>
                    <a:pt x="81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65520" y="4278240"/>
              <a:ext cx="1041480" cy="190440"/>
            </a:xfrm>
            <a:custGeom>
              <a:avLst/>
              <a:gdLst/>
              <a:ahLst/>
              <a:rect l="l" t="t" r="r" b="b"/>
              <a:pathLst>
                <a:path w="1313" h="240">
                  <a:moveTo>
                    <a:pt x="1313" y="8"/>
                  </a:moveTo>
                  <a:lnTo>
                    <a:pt x="1289" y="5"/>
                  </a:lnTo>
                  <a:lnTo>
                    <a:pt x="1251" y="3"/>
                  </a:lnTo>
                  <a:lnTo>
                    <a:pt x="1224" y="0"/>
                  </a:lnTo>
                  <a:lnTo>
                    <a:pt x="1189" y="0"/>
                  </a:lnTo>
                  <a:lnTo>
                    <a:pt x="1181" y="13"/>
                  </a:lnTo>
                  <a:lnTo>
                    <a:pt x="1184" y="220"/>
                  </a:lnTo>
                  <a:lnTo>
                    <a:pt x="1153" y="240"/>
                  </a:lnTo>
                  <a:lnTo>
                    <a:pt x="1043" y="236"/>
                  </a:lnTo>
                  <a:lnTo>
                    <a:pt x="1015" y="212"/>
                  </a:lnTo>
                  <a:lnTo>
                    <a:pt x="919" y="224"/>
                  </a:lnTo>
                  <a:lnTo>
                    <a:pt x="847" y="216"/>
                  </a:lnTo>
                  <a:lnTo>
                    <a:pt x="766" y="193"/>
                  </a:lnTo>
                  <a:lnTo>
                    <a:pt x="715" y="212"/>
                  </a:lnTo>
                  <a:lnTo>
                    <a:pt x="622" y="208"/>
                  </a:lnTo>
                  <a:lnTo>
                    <a:pt x="607" y="188"/>
                  </a:lnTo>
                  <a:lnTo>
                    <a:pt x="554" y="188"/>
                  </a:lnTo>
                  <a:lnTo>
                    <a:pt x="534" y="208"/>
                  </a:lnTo>
                  <a:lnTo>
                    <a:pt x="408" y="208"/>
                  </a:lnTo>
                  <a:lnTo>
                    <a:pt x="380" y="204"/>
                  </a:lnTo>
                  <a:lnTo>
                    <a:pt x="361" y="173"/>
                  </a:lnTo>
                  <a:lnTo>
                    <a:pt x="304" y="173"/>
                  </a:lnTo>
                  <a:lnTo>
                    <a:pt x="292" y="200"/>
                  </a:lnTo>
                  <a:lnTo>
                    <a:pt x="196" y="212"/>
                  </a:lnTo>
                  <a:lnTo>
                    <a:pt x="137" y="196"/>
                  </a:lnTo>
                  <a:lnTo>
                    <a:pt x="84" y="185"/>
                  </a:lnTo>
                  <a:lnTo>
                    <a:pt x="76" y="155"/>
                  </a:lnTo>
                  <a:lnTo>
                    <a:pt x="4" y="155"/>
                  </a:lnTo>
                  <a:lnTo>
                    <a:pt x="0" y="179"/>
                  </a:lnTo>
                  <a:lnTo>
                    <a:pt x="33" y="2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108240" y="4400640"/>
              <a:ext cx="1457280" cy="73080"/>
            </a:xfrm>
            <a:custGeom>
              <a:avLst/>
              <a:gdLst/>
              <a:ahLst/>
              <a:rect l="l" t="t" r="r" b="b"/>
              <a:pathLst>
                <a:path w="1834" h="92">
                  <a:moveTo>
                    <a:pt x="1834" y="25"/>
                  </a:moveTo>
                  <a:lnTo>
                    <a:pt x="1610" y="31"/>
                  </a:lnTo>
                  <a:lnTo>
                    <a:pt x="1592" y="0"/>
                  </a:lnTo>
                  <a:lnTo>
                    <a:pt x="1469" y="7"/>
                  </a:lnTo>
                  <a:lnTo>
                    <a:pt x="1440" y="39"/>
                  </a:lnTo>
                  <a:lnTo>
                    <a:pt x="1237" y="48"/>
                  </a:lnTo>
                  <a:lnTo>
                    <a:pt x="1225" y="3"/>
                  </a:lnTo>
                  <a:lnTo>
                    <a:pt x="1118" y="11"/>
                  </a:lnTo>
                  <a:lnTo>
                    <a:pt x="1105" y="42"/>
                  </a:lnTo>
                  <a:lnTo>
                    <a:pt x="1067" y="53"/>
                  </a:lnTo>
                  <a:lnTo>
                    <a:pt x="998" y="31"/>
                  </a:lnTo>
                  <a:lnTo>
                    <a:pt x="971" y="58"/>
                  </a:lnTo>
                  <a:lnTo>
                    <a:pt x="886" y="58"/>
                  </a:lnTo>
                  <a:lnTo>
                    <a:pt x="878" y="25"/>
                  </a:lnTo>
                  <a:lnTo>
                    <a:pt x="826" y="25"/>
                  </a:lnTo>
                  <a:lnTo>
                    <a:pt x="758" y="25"/>
                  </a:lnTo>
                  <a:lnTo>
                    <a:pt x="756" y="71"/>
                  </a:lnTo>
                  <a:lnTo>
                    <a:pt x="663" y="73"/>
                  </a:lnTo>
                  <a:lnTo>
                    <a:pt x="550" y="70"/>
                  </a:lnTo>
                  <a:lnTo>
                    <a:pt x="537" y="39"/>
                  </a:lnTo>
                  <a:lnTo>
                    <a:pt x="441" y="42"/>
                  </a:lnTo>
                  <a:lnTo>
                    <a:pt x="441" y="80"/>
                  </a:lnTo>
                  <a:lnTo>
                    <a:pt x="339" y="88"/>
                  </a:lnTo>
                  <a:lnTo>
                    <a:pt x="259" y="78"/>
                  </a:lnTo>
                  <a:lnTo>
                    <a:pt x="250" y="48"/>
                  </a:lnTo>
                  <a:lnTo>
                    <a:pt x="163" y="48"/>
                  </a:lnTo>
                  <a:lnTo>
                    <a:pt x="150" y="82"/>
                  </a:lnTo>
                  <a:lnTo>
                    <a:pt x="63" y="92"/>
                  </a:lnTo>
                  <a:lnTo>
                    <a:pt x="0" y="8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141720" y="3809880"/>
              <a:ext cx="73080" cy="138240"/>
            </a:xfrm>
            <a:custGeom>
              <a:avLst/>
              <a:gdLst/>
              <a:ahLst/>
              <a:rect l="l" t="t" r="r" b="b"/>
              <a:pathLst>
                <a:path w="92" h="174">
                  <a:moveTo>
                    <a:pt x="92" y="174"/>
                  </a:moveTo>
                  <a:lnTo>
                    <a:pt x="83" y="51"/>
                  </a:lnTo>
                  <a:lnTo>
                    <a:pt x="64" y="0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075120" y="4502160"/>
              <a:ext cx="1514520" cy="42840"/>
            </a:xfrm>
            <a:custGeom>
              <a:avLst/>
              <a:gdLst/>
              <a:ahLst/>
              <a:rect l="l" t="t" r="r" b="b"/>
              <a:pathLst>
                <a:path w="1907" h="54">
                  <a:moveTo>
                    <a:pt x="1902" y="0"/>
                  </a:moveTo>
                  <a:lnTo>
                    <a:pt x="1907" y="54"/>
                  </a:lnTo>
                  <a:lnTo>
                    <a:pt x="1902" y="0"/>
                  </a:lnTo>
                  <a:lnTo>
                    <a:pt x="0" y="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586400" y="4500720"/>
              <a:ext cx="15922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443400" y="3675240"/>
              <a:ext cx="407880" cy="136440"/>
            </a:xfrm>
            <a:custGeom>
              <a:avLst/>
              <a:gdLst/>
              <a:ahLst/>
              <a:rect l="l" t="t" r="r" b="b"/>
              <a:pathLst>
                <a:path w="514" h="171">
                  <a:moveTo>
                    <a:pt x="0" y="171"/>
                  </a:moveTo>
                  <a:lnTo>
                    <a:pt x="23" y="166"/>
                  </a:lnTo>
                  <a:lnTo>
                    <a:pt x="92" y="154"/>
                  </a:lnTo>
                  <a:lnTo>
                    <a:pt x="84" y="85"/>
                  </a:lnTo>
                  <a:lnTo>
                    <a:pt x="160" y="81"/>
                  </a:lnTo>
                  <a:lnTo>
                    <a:pt x="173" y="44"/>
                  </a:lnTo>
                  <a:lnTo>
                    <a:pt x="212" y="51"/>
                  </a:lnTo>
                  <a:lnTo>
                    <a:pt x="216" y="89"/>
                  </a:lnTo>
                  <a:lnTo>
                    <a:pt x="295" y="89"/>
                  </a:lnTo>
                  <a:lnTo>
                    <a:pt x="307" y="109"/>
                  </a:lnTo>
                  <a:lnTo>
                    <a:pt x="442" y="89"/>
                  </a:lnTo>
                  <a:lnTo>
                    <a:pt x="445" y="58"/>
                  </a:lnTo>
                  <a:lnTo>
                    <a:pt x="496" y="36"/>
                  </a:lnTo>
                  <a:lnTo>
                    <a:pt x="5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836880" y="3559320"/>
              <a:ext cx="2251080" cy="520560"/>
            </a:xfrm>
            <a:custGeom>
              <a:avLst/>
              <a:gdLst/>
              <a:ahLst/>
              <a:rect l="l" t="t" r="r" b="b"/>
              <a:pathLst>
                <a:path w="2837" h="656">
                  <a:moveTo>
                    <a:pt x="0" y="185"/>
                  </a:moveTo>
                  <a:lnTo>
                    <a:pt x="161" y="178"/>
                  </a:lnTo>
                  <a:lnTo>
                    <a:pt x="177" y="200"/>
                  </a:lnTo>
                  <a:lnTo>
                    <a:pt x="290" y="179"/>
                  </a:lnTo>
                  <a:lnTo>
                    <a:pt x="301" y="133"/>
                  </a:lnTo>
                  <a:lnTo>
                    <a:pt x="390" y="97"/>
                  </a:lnTo>
                  <a:lnTo>
                    <a:pt x="535" y="101"/>
                  </a:lnTo>
                  <a:lnTo>
                    <a:pt x="539" y="133"/>
                  </a:lnTo>
                  <a:lnTo>
                    <a:pt x="682" y="109"/>
                  </a:lnTo>
                  <a:lnTo>
                    <a:pt x="692" y="59"/>
                  </a:lnTo>
                  <a:lnTo>
                    <a:pt x="728" y="46"/>
                  </a:lnTo>
                  <a:lnTo>
                    <a:pt x="789" y="20"/>
                  </a:lnTo>
                  <a:lnTo>
                    <a:pt x="840" y="24"/>
                  </a:lnTo>
                  <a:lnTo>
                    <a:pt x="881" y="0"/>
                  </a:lnTo>
                  <a:lnTo>
                    <a:pt x="920" y="59"/>
                  </a:lnTo>
                  <a:lnTo>
                    <a:pt x="1129" y="128"/>
                  </a:lnTo>
                  <a:lnTo>
                    <a:pt x="1333" y="187"/>
                  </a:lnTo>
                  <a:lnTo>
                    <a:pt x="1456" y="237"/>
                  </a:lnTo>
                  <a:lnTo>
                    <a:pt x="1598" y="268"/>
                  </a:lnTo>
                  <a:lnTo>
                    <a:pt x="1651" y="297"/>
                  </a:lnTo>
                  <a:lnTo>
                    <a:pt x="1728" y="306"/>
                  </a:lnTo>
                  <a:lnTo>
                    <a:pt x="2124" y="429"/>
                  </a:lnTo>
                  <a:lnTo>
                    <a:pt x="2205" y="467"/>
                  </a:lnTo>
                  <a:lnTo>
                    <a:pt x="2248" y="467"/>
                  </a:lnTo>
                  <a:lnTo>
                    <a:pt x="2445" y="539"/>
                  </a:lnTo>
                  <a:lnTo>
                    <a:pt x="2502" y="547"/>
                  </a:lnTo>
                  <a:lnTo>
                    <a:pt x="2595" y="587"/>
                  </a:lnTo>
                  <a:lnTo>
                    <a:pt x="2837" y="656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881680" y="4024440"/>
              <a:ext cx="15840" cy="452160"/>
            </a:xfrm>
            <a:custGeom>
              <a:avLst/>
              <a:gdLst/>
              <a:ahLst/>
              <a:rect l="l" t="t" r="r" b="b"/>
              <a:pathLst>
                <a:path w="19" h="570">
                  <a:moveTo>
                    <a:pt x="19" y="0"/>
                  </a:moveTo>
                  <a:lnTo>
                    <a:pt x="0" y="28"/>
                  </a:lnTo>
                  <a:lnTo>
                    <a:pt x="6" y="321"/>
                  </a:lnTo>
                  <a:lnTo>
                    <a:pt x="6" y="448"/>
                  </a:lnTo>
                  <a:lnTo>
                    <a:pt x="6" y="516"/>
                  </a:lnTo>
                  <a:lnTo>
                    <a:pt x="8" y="5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748480" y="4297320"/>
              <a:ext cx="52200" cy="136440"/>
            </a:xfrm>
            <a:custGeom>
              <a:avLst/>
              <a:gdLst/>
              <a:ahLst/>
              <a:rect l="l" t="t" r="r" b="b"/>
              <a:pathLst>
                <a:path w="68" h="172">
                  <a:moveTo>
                    <a:pt x="68" y="14"/>
                  </a:moveTo>
                  <a:lnTo>
                    <a:pt x="0" y="0"/>
                  </a:lnTo>
                  <a:lnTo>
                    <a:pt x="7" y="1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737320" y="3995640"/>
              <a:ext cx="60120" cy="119160"/>
            </a:xfrm>
            <a:custGeom>
              <a:avLst/>
              <a:gdLst/>
              <a:ahLst/>
              <a:rect l="l" t="t" r="r" b="b"/>
              <a:pathLst>
                <a:path w="75" h="152">
                  <a:moveTo>
                    <a:pt x="0" y="142"/>
                  </a:moveTo>
                  <a:lnTo>
                    <a:pt x="75" y="152"/>
                  </a:lnTo>
                  <a:lnTo>
                    <a:pt x="6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351400" y="4278240"/>
              <a:ext cx="149400" cy="44640"/>
            </a:xfrm>
            <a:custGeom>
              <a:avLst/>
              <a:gdLst/>
              <a:ahLst/>
              <a:rect l="l" t="t" r="r" b="b"/>
              <a:pathLst>
                <a:path w="188" h="55">
                  <a:moveTo>
                    <a:pt x="0" y="15"/>
                  </a:moveTo>
                  <a:lnTo>
                    <a:pt x="45" y="55"/>
                  </a:lnTo>
                  <a:lnTo>
                    <a:pt x="88" y="47"/>
                  </a:lnTo>
                  <a:lnTo>
                    <a:pt x="129" y="0"/>
                  </a:lnTo>
                  <a:lnTo>
                    <a:pt x="188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345280" y="4289400"/>
              <a:ext cx="75960" cy="149400"/>
            </a:xfrm>
            <a:custGeom>
              <a:avLst/>
              <a:gdLst/>
              <a:ahLst/>
              <a:rect l="l" t="t" r="r" b="b"/>
              <a:pathLst>
                <a:path w="96" h="187">
                  <a:moveTo>
                    <a:pt x="96" y="32"/>
                  </a:moveTo>
                  <a:lnTo>
                    <a:pt x="37" y="71"/>
                  </a:lnTo>
                  <a:lnTo>
                    <a:pt x="39" y="183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037120" y="3936960"/>
              <a:ext cx="39600" cy="488880"/>
            </a:xfrm>
            <a:custGeom>
              <a:avLst/>
              <a:gdLst/>
              <a:ahLst/>
              <a:rect l="l" t="t" r="r" b="b"/>
              <a:pathLst>
                <a:path w="51" h="617">
                  <a:moveTo>
                    <a:pt x="51" y="354"/>
                  </a:moveTo>
                  <a:lnTo>
                    <a:pt x="51" y="111"/>
                  </a:lnTo>
                  <a:lnTo>
                    <a:pt x="51" y="7"/>
                  </a:lnTo>
                  <a:lnTo>
                    <a:pt x="0" y="0"/>
                  </a:lnTo>
                  <a:lnTo>
                    <a:pt x="12" y="6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000760" y="4222800"/>
              <a:ext cx="36360" cy="203040"/>
            </a:xfrm>
            <a:custGeom>
              <a:avLst/>
              <a:gdLst/>
              <a:ahLst/>
              <a:rect l="l" t="t" r="r" b="b"/>
              <a:pathLst>
                <a:path w="47" h="255">
                  <a:moveTo>
                    <a:pt x="47" y="0"/>
                  </a:moveTo>
                  <a:lnTo>
                    <a:pt x="4" y="3"/>
                  </a:lnTo>
                  <a:lnTo>
                    <a:pt x="0" y="35"/>
                  </a:lnTo>
                  <a:lnTo>
                    <a:pt x="4" y="2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849920" y="4208400"/>
              <a:ext cx="46080" cy="206280"/>
            </a:xfrm>
            <a:custGeom>
              <a:avLst/>
              <a:gdLst/>
              <a:ahLst/>
              <a:rect l="l" t="t" r="r" b="b"/>
              <a:pathLst>
                <a:path w="58" h="259">
                  <a:moveTo>
                    <a:pt x="58" y="1"/>
                  </a:move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780080" y="3676680"/>
              <a:ext cx="27000" cy="738000"/>
            </a:xfrm>
            <a:custGeom>
              <a:avLst/>
              <a:gdLst/>
              <a:ahLst/>
              <a:rect l="l" t="t" r="r" b="b"/>
              <a:pathLst>
                <a:path w="32" h="931">
                  <a:moveTo>
                    <a:pt x="0" y="0"/>
                  </a:moveTo>
                  <a:lnTo>
                    <a:pt x="20" y="172"/>
                  </a:lnTo>
                  <a:lnTo>
                    <a:pt x="32" y="9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624560" y="3830760"/>
              <a:ext cx="50760" cy="571320"/>
            </a:xfrm>
            <a:custGeom>
              <a:avLst/>
              <a:gdLst/>
              <a:ahLst/>
              <a:rect l="l" t="t" r="r" b="b"/>
              <a:pathLst>
                <a:path w="62" h="720">
                  <a:moveTo>
                    <a:pt x="62" y="460"/>
                  </a:moveTo>
                  <a:lnTo>
                    <a:pt x="43" y="0"/>
                  </a:lnTo>
                  <a:lnTo>
                    <a:pt x="0" y="4"/>
                  </a:lnTo>
                  <a:lnTo>
                    <a:pt x="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624560" y="3622680"/>
              <a:ext cx="50760" cy="210960"/>
            </a:xfrm>
            <a:custGeom>
              <a:avLst/>
              <a:gdLst/>
              <a:ahLst/>
              <a:rect l="l" t="t" r="r" b="b"/>
              <a:pathLst>
                <a:path w="63" h="266">
                  <a:moveTo>
                    <a:pt x="0" y="266"/>
                  </a:moveTo>
                  <a:lnTo>
                    <a:pt x="3" y="69"/>
                  </a:lnTo>
                  <a:lnTo>
                    <a:pt x="63" y="33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559400" y="3606840"/>
              <a:ext cx="9360" cy="795240"/>
            </a:xfrm>
            <a:custGeom>
              <a:avLst/>
              <a:gdLst/>
              <a:ahLst/>
              <a:rect l="l" t="t" r="r" b="b"/>
              <a:pathLst>
                <a:path w="11" h="1004">
                  <a:moveTo>
                    <a:pt x="11" y="0"/>
                  </a:moveTo>
                  <a:lnTo>
                    <a:pt x="0" y="19"/>
                  </a:lnTo>
                  <a:lnTo>
                    <a:pt x="3" y="729"/>
                  </a:lnTo>
                  <a:lnTo>
                    <a:pt x="6" y="939"/>
                  </a:lnTo>
                  <a:lnTo>
                    <a:pt x="11" y="10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357880" y="4325760"/>
              <a:ext cx="12600" cy="100080"/>
            </a:xfrm>
            <a:custGeom>
              <a:avLst/>
              <a:gdLst/>
              <a:ahLst/>
              <a:rect l="l" t="t" r="r" b="b"/>
              <a:pathLst>
                <a:path w="15" h="127">
                  <a:moveTo>
                    <a:pt x="15" y="14"/>
                  </a:moveTo>
                  <a:lnTo>
                    <a:pt x="0" y="127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5491080" y="4436640"/>
              <a:ext cx="32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5794200" y="4008240"/>
              <a:ext cx="4140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556160" y="3606840"/>
              <a:ext cx="120600" cy="798480"/>
            </a:xfrm>
            <a:custGeom>
              <a:avLst/>
              <a:gdLst/>
              <a:ahLst/>
              <a:rect l="l" t="t" r="r" b="b"/>
              <a:pathLst>
                <a:path w="152" h="1005">
                  <a:moveTo>
                    <a:pt x="19" y="1001"/>
                  </a:moveTo>
                  <a:lnTo>
                    <a:pt x="11" y="962"/>
                  </a:lnTo>
                  <a:lnTo>
                    <a:pt x="7" y="335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152" y="49"/>
                  </a:lnTo>
                  <a:lnTo>
                    <a:pt x="91" y="88"/>
                  </a:lnTo>
                  <a:lnTo>
                    <a:pt x="91" y="191"/>
                  </a:lnTo>
                  <a:lnTo>
                    <a:pt x="83" y="237"/>
                  </a:lnTo>
                  <a:lnTo>
                    <a:pt x="83" y="1005"/>
                  </a:lnTo>
                  <a:lnTo>
                    <a:pt x="19" y="10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780080" y="3672000"/>
              <a:ext cx="122040" cy="742680"/>
            </a:xfrm>
            <a:custGeom>
              <a:avLst/>
              <a:gdLst/>
              <a:ahLst/>
              <a:rect l="l" t="t" r="r" b="b"/>
              <a:pathLst>
                <a:path w="152" h="934">
                  <a:moveTo>
                    <a:pt x="34" y="934"/>
                  </a:moveTo>
                  <a:lnTo>
                    <a:pt x="23" y="240"/>
                  </a:lnTo>
                  <a:lnTo>
                    <a:pt x="7" y="67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52" y="71"/>
                  </a:lnTo>
                  <a:lnTo>
                    <a:pt x="82" y="108"/>
                  </a:lnTo>
                  <a:lnTo>
                    <a:pt x="89" y="934"/>
                  </a:lnTo>
                  <a:lnTo>
                    <a:pt x="34" y="9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586480" y="3929040"/>
              <a:ext cx="39600" cy="538200"/>
            </a:xfrm>
            <a:custGeom>
              <a:avLst/>
              <a:gdLst/>
              <a:ahLst/>
              <a:rect l="l" t="t" r="r" b="b"/>
              <a:pathLst>
                <a:path w="52" h="678">
                  <a:moveTo>
                    <a:pt x="33" y="678"/>
                  </a:moveTo>
                  <a:lnTo>
                    <a:pt x="11" y="162"/>
                  </a:lnTo>
                  <a:lnTo>
                    <a:pt x="0" y="1"/>
                  </a:lnTo>
                  <a:lnTo>
                    <a:pt x="27" y="0"/>
                  </a:lnTo>
                  <a:lnTo>
                    <a:pt x="52" y="678"/>
                  </a:lnTo>
                  <a:lnTo>
                    <a:pt x="33" y="678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687840" y="3747960"/>
              <a:ext cx="127080" cy="671760"/>
            </a:xfrm>
            <a:custGeom>
              <a:avLst/>
              <a:gdLst/>
              <a:ahLst/>
              <a:rect l="l" t="t" r="r" b="b"/>
              <a:pathLst>
                <a:path w="161" h="847">
                  <a:moveTo>
                    <a:pt x="30" y="847"/>
                  </a:moveTo>
                  <a:lnTo>
                    <a:pt x="19" y="626"/>
                  </a:lnTo>
                  <a:lnTo>
                    <a:pt x="4" y="193"/>
                  </a:lnTo>
                  <a:lnTo>
                    <a:pt x="0" y="17"/>
                  </a:lnTo>
                  <a:lnTo>
                    <a:pt x="135" y="0"/>
                  </a:lnTo>
                  <a:lnTo>
                    <a:pt x="135" y="34"/>
                  </a:lnTo>
                  <a:lnTo>
                    <a:pt x="135" y="65"/>
                  </a:lnTo>
                  <a:lnTo>
                    <a:pt x="135" y="91"/>
                  </a:lnTo>
                  <a:lnTo>
                    <a:pt x="147" y="110"/>
                  </a:lnTo>
                  <a:lnTo>
                    <a:pt x="150" y="137"/>
                  </a:lnTo>
                  <a:lnTo>
                    <a:pt x="161" y="157"/>
                  </a:lnTo>
                  <a:lnTo>
                    <a:pt x="151" y="168"/>
                  </a:lnTo>
                  <a:lnTo>
                    <a:pt x="151" y="181"/>
                  </a:lnTo>
                  <a:lnTo>
                    <a:pt x="154" y="218"/>
                  </a:lnTo>
                  <a:lnTo>
                    <a:pt x="141" y="260"/>
                  </a:lnTo>
                  <a:lnTo>
                    <a:pt x="158" y="596"/>
                  </a:lnTo>
                  <a:lnTo>
                    <a:pt x="151" y="844"/>
                  </a:lnTo>
                  <a:lnTo>
                    <a:pt x="30" y="8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983040" y="3701880"/>
              <a:ext cx="101520" cy="709920"/>
            </a:xfrm>
            <a:custGeom>
              <a:avLst/>
              <a:gdLst/>
              <a:ahLst/>
              <a:rect l="l" t="t" r="r" b="b"/>
              <a:pathLst>
                <a:path w="128" h="894">
                  <a:moveTo>
                    <a:pt x="17" y="894"/>
                  </a:moveTo>
                  <a:lnTo>
                    <a:pt x="4" y="369"/>
                  </a:lnTo>
                  <a:lnTo>
                    <a:pt x="0" y="111"/>
                  </a:lnTo>
                  <a:lnTo>
                    <a:pt x="0" y="19"/>
                  </a:lnTo>
                  <a:lnTo>
                    <a:pt x="106" y="0"/>
                  </a:lnTo>
                  <a:lnTo>
                    <a:pt x="117" y="307"/>
                  </a:lnTo>
                  <a:lnTo>
                    <a:pt x="120" y="609"/>
                  </a:lnTo>
                  <a:lnTo>
                    <a:pt x="128" y="888"/>
                  </a:lnTo>
                  <a:lnTo>
                    <a:pt x="17" y="8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251240" y="3646440"/>
              <a:ext cx="157320" cy="758880"/>
            </a:xfrm>
            <a:custGeom>
              <a:avLst/>
              <a:gdLst/>
              <a:ahLst/>
              <a:rect l="l" t="t" r="r" b="b"/>
              <a:pathLst>
                <a:path w="197" h="958">
                  <a:moveTo>
                    <a:pt x="28" y="958"/>
                  </a:moveTo>
                  <a:lnTo>
                    <a:pt x="17" y="717"/>
                  </a:lnTo>
                  <a:lnTo>
                    <a:pt x="16" y="534"/>
                  </a:lnTo>
                  <a:lnTo>
                    <a:pt x="16" y="459"/>
                  </a:lnTo>
                  <a:lnTo>
                    <a:pt x="15" y="367"/>
                  </a:lnTo>
                  <a:lnTo>
                    <a:pt x="11" y="319"/>
                  </a:lnTo>
                  <a:lnTo>
                    <a:pt x="7" y="292"/>
                  </a:lnTo>
                  <a:lnTo>
                    <a:pt x="0" y="265"/>
                  </a:lnTo>
                  <a:lnTo>
                    <a:pt x="11" y="208"/>
                  </a:lnTo>
                  <a:lnTo>
                    <a:pt x="13" y="146"/>
                  </a:lnTo>
                  <a:lnTo>
                    <a:pt x="13" y="78"/>
                  </a:lnTo>
                  <a:lnTo>
                    <a:pt x="161" y="0"/>
                  </a:lnTo>
                  <a:lnTo>
                    <a:pt x="167" y="330"/>
                  </a:lnTo>
                  <a:lnTo>
                    <a:pt x="170" y="639"/>
                  </a:lnTo>
                  <a:lnTo>
                    <a:pt x="171" y="743"/>
                  </a:lnTo>
                  <a:lnTo>
                    <a:pt x="185" y="760"/>
                  </a:lnTo>
                  <a:lnTo>
                    <a:pt x="197" y="817"/>
                  </a:lnTo>
                  <a:lnTo>
                    <a:pt x="185" y="890"/>
                  </a:lnTo>
                  <a:lnTo>
                    <a:pt x="152" y="954"/>
                  </a:lnTo>
                  <a:lnTo>
                    <a:pt x="28" y="9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135240" y="3787920"/>
              <a:ext cx="165240" cy="60120"/>
            </a:xfrm>
            <a:custGeom>
              <a:avLst/>
              <a:gdLst/>
              <a:ahLst/>
              <a:rect l="l" t="t" r="r" b="b"/>
              <a:pathLst>
                <a:path w="210" h="75">
                  <a:moveTo>
                    <a:pt x="92" y="75"/>
                  </a:moveTo>
                  <a:lnTo>
                    <a:pt x="72" y="43"/>
                  </a:lnTo>
                  <a:lnTo>
                    <a:pt x="0" y="40"/>
                  </a:lnTo>
                  <a:lnTo>
                    <a:pt x="183" y="0"/>
                  </a:lnTo>
                  <a:lnTo>
                    <a:pt x="210" y="4"/>
                  </a:lnTo>
                  <a:lnTo>
                    <a:pt x="177" y="55"/>
                  </a:lnTo>
                  <a:lnTo>
                    <a:pt x="92" y="75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09760" y="3832200"/>
              <a:ext cx="98640" cy="609480"/>
            </a:xfrm>
            <a:custGeom>
              <a:avLst/>
              <a:gdLst/>
              <a:ahLst/>
              <a:rect l="l" t="t" r="r" b="b"/>
              <a:pathLst>
                <a:path w="124" h="769">
                  <a:moveTo>
                    <a:pt x="25" y="769"/>
                  </a:moveTo>
                  <a:lnTo>
                    <a:pt x="5" y="123"/>
                  </a:lnTo>
                  <a:lnTo>
                    <a:pt x="0" y="20"/>
                  </a:lnTo>
                  <a:lnTo>
                    <a:pt x="88" y="0"/>
                  </a:lnTo>
                  <a:lnTo>
                    <a:pt x="115" y="590"/>
                  </a:lnTo>
                  <a:lnTo>
                    <a:pt x="124" y="764"/>
                  </a:lnTo>
                  <a:lnTo>
                    <a:pt x="25" y="7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435480" y="3797280"/>
              <a:ext cx="102960" cy="636480"/>
            </a:xfrm>
            <a:custGeom>
              <a:avLst/>
              <a:gdLst/>
              <a:ahLst/>
              <a:rect l="l" t="t" r="r" b="b"/>
              <a:pathLst>
                <a:path w="129" h="803">
                  <a:moveTo>
                    <a:pt x="31" y="803"/>
                  </a:moveTo>
                  <a:lnTo>
                    <a:pt x="17" y="403"/>
                  </a:lnTo>
                  <a:lnTo>
                    <a:pt x="0" y="22"/>
                  </a:lnTo>
                  <a:lnTo>
                    <a:pt x="101" y="0"/>
                  </a:lnTo>
                  <a:lnTo>
                    <a:pt x="129" y="797"/>
                  </a:lnTo>
                  <a:lnTo>
                    <a:pt x="31" y="80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119560" y="4227480"/>
              <a:ext cx="47880" cy="174600"/>
            </a:xfrm>
            <a:custGeom>
              <a:avLst/>
              <a:gdLst/>
              <a:ahLst/>
              <a:rect l="l" t="t" r="r" b="b"/>
              <a:pathLst>
                <a:path w="60" h="222">
                  <a:moveTo>
                    <a:pt x="60" y="0"/>
                  </a:moveTo>
                  <a:lnTo>
                    <a:pt x="0" y="0"/>
                  </a:lnTo>
                  <a:lnTo>
                    <a:pt x="0" y="2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076720" y="4221000"/>
              <a:ext cx="42840" cy="177840"/>
            </a:xfrm>
            <a:custGeom>
              <a:avLst/>
              <a:gdLst/>
              <a:ahLst/>
              <a:rect l="l" t="t" r="r" b="b"/>
              <a:pathLst>
                <a:path w="53" h="224">
                  <a:moveTo>
                    <a:pt x="53" y="7"/>
                  </a:moveTo>
                  <a:lnTo>
                    <a:pt x="0" y="0"/>
                  </a:lnTo>
                  <a:lnTo>
                    <a:pt x="0" y="143"/>
                  </a:lnTo>
                  <a:lnTo>
                    <a:pt x="0" y="2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5092560" y="379584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035680" y="3797280"/>
              <a:ext cx="56880" cy="138240"/>
            </a:xfrm>
            <a:custGeom>
              <a:avLst/>
              <a:gdLst/>
              <a:ahLst/>
              <a:rect l="l" t="t" r="r" b="b"/>
              <a:pathLst>
                <a:path w="72" h="173">
                  <a:moveTo>
                    <a:pt x="72" y="0"/>
                  </a:moveTo>
                  <a:lnTo>
                    <a:pt x="0" y="23"/>
                  </a:lnTo>
                  <a:lnTo>
                    <a:pt x="0" y="17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076720" y="3843360"/>
              <a:ext cx="1800" cy="96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 flipV="1">
              <a:off x="5118120" y="39081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127480" y="3841920"/>
              <a:ext cx="39960" cy="12348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0" y="0"/>
                  </a:moveTo>
                  <a:lnTo>
                    <a:pt x="0" y="130"/>
                  </a:lnTo>
                  <a:lnTo>
                    <a:pt x="50" y="1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122800" y="394956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 flipV="1">
              <a:off x="5076360" y="3943080"/>
              <a:ext cx="399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5127480" y="379692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302080" y="4244760"/>
              <a:ext cx="43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 flipV="1">
              <a:off x="5241960" y="4237200"/>
              <a:ext cx="5400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 flipV="1">
              <a:off x="5209920" y="4235040"/>
              <a:ext cx="298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200560" y="4297320"/>
              <a:ext cx="6480" cy="13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173560" y="4299120"/>
              <a:ext cx="1800" cy="131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H="1">
              <a:off x="5241960" y="4338720"/>
              <a:ext cx="1440" cy="68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5241960" y="4141440"/>
              <a:ext cx="1440" cy="196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99200" y="4102200"/>
              <a:ext cx="1440" cy="31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464080" y="4307040"/>
              <a:ext cx="1800" cy="11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424480" y="4332240"/>
              <a:ext cx="1440" cy="9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931000" y="4160880"/>
              <a:ext cx="21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864400" y="4133880"/>
              <a:ext cx="2880" cy="312840"/>
            </a:xfrm>
            <a:custGeom>
              <a:avLst/>
              <a:gdLst/>
              <a:ahLst/>
              <a:rect l="l" t="t" r="r" b="b"/>
              <a:pathLst>
                <a:path w="5" h="393">
                  <a:moveTo>
                    <a:pt x="5" y="393"/>
                  </a:moveTo>
                  <a:lnTo>
                    <a:pt x="3" y="115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832360" y="4156200"/>
              <a:ext cx="5040" cy="29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797440" y="4124160"/>
              <a:ext cx="3240" cy="17784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3" y="81"/>
                  </a:moveTo>
                  <a:lnTo>
                    <a:pt x="0" y="129"/>
                  </a:lnTo>
                  <a:lnTo>
                    <a:pt x="0" y="2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869080" y="4305240"/>
              <a:ext cx="158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191040" y="3778200"/>
              <a:ext cx="91800" cy="4464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112" y="0"/>
                  </a:moveTo>
                  <a:lnTo>
                    <a:pt x="108" y="2"/>
                  </a:lnTo>
                  <a:lnTo>
                    <a:pt x="0" y="31"/>
                  </a:lnTo>
                  <a:lnTo>
                    <a:pt x="6" y="57"/>
                  </a:lnTo>
                  <a:lnTo>
                    <a:pt x="115" y="26"/>
                  </a:lnTo>
                  <a:lnTo>
                    <a:pt x="112" y="26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8" y="2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279600" y="3778200"/>
              <a:ext cx="55800" cy="19080"/>
            </a:xfrm>
            <a:custGeom>
              <a:avLst/>
              <a:gdLst/>
              <a:ahLst/>
              <a:rect l="l" t="t" r="r" b="b"/>
              <a:pathLst>
                <a:path w="69" h="26">
                  <a:moveTo>
                    <a:pt x="61" y="2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5" y="26"/>
                  </a:lnTo>
                  <a:lnTo>
                    <a:pt x="69" y="26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28920" y="3747960"/>
              <a:ext cx="85680" cy="4932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08" y="1"/>
                  </a:moveTo>
                  <a:lnTo>
                    <a:pt x="100" y="1"/>
                  </a:lnTo>
                  <a:lnTo>
                    <a:pt x="0" y="38"/>
                  </a:lnTo>
                  <a:lnTo>
                    <a:pt x="8" y="62"/>
                  </a:lnTo>
                  <a:lnTo>
                    <a:pt x="108" y="25"/>
                  </a:lnTo>
                  <a:lnTo>
                    <a:pt x="100" y="27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100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408480" y="3749760"/>
              <a:ext cx="66600" cy="3960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73" y="24"/>
                  </a:moveTo>
                  <a:lnTo>
                    <a:pt x="82" y="23"/>
                  </a:lnTo>
                  <a:lnTo>
                    <a:pt x="8" y="0"/>
                  </a:lnTo>
                  <a:lnTo>
                    <a:pt x="0" y="26"/>
                  </a:lnTo>
                  <a:lnTo>
                    <a:pt x="75" y="49"/>
                  </a:lnTo>
                  <a:lnTo>
                    <a:pt x="85" y="47"/>
                  </a:lnTo>
                  <a:lnTo>
                    <a:pt x="75" y="49"/>
                  </a:lnTo>
                  <a:lnTo>
                    <a:pt x="81" y="50"/>
                  </a:lnTo>
                  <a:lnTo>
                    <a:pt x="85" y="47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65360" y="375444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9" y="2"/>
                  </a:moveTo>
                  <a:lnTo>
                    <a:pt x="33" y="0"/>
                  </a:lnTo>
                  <a:lnTo>
                    <a:pt x="0" y="17"/>
                  </a:lnTo>
                  <a:lnTo>
                    <a:pt x="12" y="40"/>
                  </a:lnTo>
                  <a:lnTo>
                    <a:pt x="45" y="23"/>
                  </a:lnTo>
                  <a:lnTo>
                    <a:pt x="48" y="20"/>
                  </a:lnTo>
                  <a:lnTo>
                    <a:pt x="45" y="23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489480" y="373536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7" y="0"/>
                  </a:moveTo>
                  <a:lnTo>
                    <a:pt x="25" y="2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511440" y="3711600"/>
              <a:ext cx="42840" cy="396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45" y="0"/>
                  </a:moveTo>
                  <a:lnTo>
                    <a:pt x="39" y="3"/>
                  </a:lnTo>
                  <a:lnTo>
                    <a:pt x="0" y="31"/>
                  </a:lnTo>
                  <a:lnTo>
                    <a:pt x="15" y="52"/>
                  </a:lnTo>
                  <a:lnTo>
                    <a:pt x="54" y="23"/>
                  </a:lnTo>
                  <a:lnTo>
                    <a:pt x="49" y="26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546360" y="3699000"/>
              <a:ext cx="74880" cy="331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89" y="0"/>
                  </a:moveTo>
                  <a:lnTo>
                    <a:pt x="89" y="0"/>
                  </a:lnTo>
                  <a:lnTo>
                    <a:pt x="0" y="16"/>
                  </a:lnTo>
                  <a:lnTo>
                    <a:pt x="4" y="42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618000" y="3665520"/>
              <a:ext cx="234720" cy="52560"/>
            </a:xfrm>
            <a:custGeom>
              <a:avLst/>
              <a:gdLst/>
              <a:ahLst/>
              <a:rect l="l" t="t" r="r" b="b"/>
              <a:pathLst>
                <a:path w="297" h="66">
                  <a:moveTo>
                    <a:pt x="293" y="0"/>
                  </a:moveTo>
                  <a:lnTo>
                    <a:pt x="293" y="0"/>
                  </a:lnTo>
                  <a:lnTo>
                    <a:pt x="0" y="40"/>
                  </a:lnTo>
                  <a:lnTo>
                    <a:pt x="4" y="66"/>
                  </a:lnTo>
                  <a:lnTo>
                    <a:pt x="297" y="24"/>
                  </a:lnTo>
                  <a:lnTo>
                    <a:pt x="297" y="24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849840" y="3616200"/>
              <a:ext cx="298440" cy="69840"/>
            </a:xfrm>
            <a:custGeom>
              <a:avLst/>
              <a:gdLst/>
              <a:ahLst/>
              <a:rect l="l" t="t" r="r" b="b"/>
              <a:pathLst>
                <a:path w="376" h="88">
                  <a:moveTo>
                    <a:pt x="368" y="0"/>
                  </a:moveTo>
                  <a:lnTo>
                    <a:pt x="370" y="0"/>
                  </a:lnTo>
                  <a:lnTo>
                    <a:pt x="0" y="64"/>
                  </a:lnTo>
                  <a:lnTo>
                    <a:pt x="4" y="88"/>
                  </a:lnTo>
                  <a:lnTo>
                    <a:pt x="374" y="25"/>
                  </a:lnTo>
                  <a:lnTo>
                    <a:pt x="376" y="2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141800" y="3583080"/>
              <a:ext cx="119160" cy="522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146" y="0"/>
                  </a:moveTo>
                  <a:lnTo>
                    <a:pt x="143" y="0"/>
                  </a:lnTo>
                  <a:lnTo>
                    <a:pt x="0" y="42"/>
                  </a:lnTo>
                  <a:lnTo>
                    <a:pt x="8" y="67"/>
                  </a:lnTo>
                  <a:lnTo>
                    <a:pt x="151" y="26"/>
                  </a:lnTo>
                  <a:lnTo>
                    <a:pt x="150" y="2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257720" y="3554280"/>
              <a:ext cx="179280" cy="49320"/>
            </a:xfrm>
            <a:custGeom>
              <a:avLst/>
              <a:gdLst/>
              <a:ahLst/>
              <a:rect l="l" t="t" r="r" b="b"/>
              <a:pathLst>
                <a:path w="225" h="61">
                  <a:moveTo>
                    <a:pt x="220" y="0"/>
                  </a:moveTo>
                  <a:lnTo>
                    <a:pt x="221" y="0"/>
                  </a:lnTo>
                  <a:lnTo>
                    <a:pt x="0" y="35"/>
                  </a:lnTo>
                  <a:lnTo>
                    <a:pt x="4" y="61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432320" y="3535200"/>
              <a:ext cx="106200" cy="381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08" y="12"/>
                  </a:moveTo>
                  <a:lnTo>
                    <a:pt x="119" y="0"/>
                  </a:lnTo>
                  <a:lnTo>
                    <a:pt x="0" y="24"/>
                  </a:lnTo>
                  <a:lnTo>
                    <a:pt x="5" y="49"/>
                  </a:lnTo>
                  <a:lnTo>
                    <a:pt x="123" y="24"/>
                  </a:lnTo>
                  <a:lnTo>
                    <a:pt x="133" y="12"/>
                  </a:lnTo>
                  <a:lnTo>
                    <a:pt x="123" y="24"/>
                  </a:lnTo>
                  <a:lnTo>
                    <a:pt x="133" y="23"/>
                  </a:lnTo>
                  <a:lnTo>
                    <a:pt x="133" y="12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518000" y="3289320"/>
              <a:ext cx="20520" cy="255600"/>
            </a:xfrm>
            <a:custGeom>
              <a:avLst/>
              <a:gdLst/>
              <a:ahLst/>
              <a:rect l="l" t="t" r="r" b="b"/>
              <a:pathLst>
                <a:path w="25" h="323">
                  <a:moveTo>
                    <a:pt x="12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25" y="323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168720" y="3954600"/>
              <a:ext cx="61920" cy="488880"/>
            </a:xfrm>
            <a:custGeom>
              <a:avLst/>
              <a:gdLst/>
              <a:ahLst/>
              <a:rect l="l" t="t" r="r" b="b"/>
              <a:pathLst>
                <a:path w="77" h="616">
                  <a:moveTo>
                    <a:pt x="76" y="616"/>
                  </a:moveTo>
                  <a:lnTo>
                    <a:pt x="57" y="0"/>
                  </a:lnTo>
                  <a:lnTo>
                    <a:pt x="0" y="15"/>
                  </a:lnTo>
                  <a:lnTo>
                    <a:pt x="13" y="262"/>
                  </a:lnTo>
                  <a:lnTo>
                    <a:pt x="17" y="423"/>
                  </a:lnTo>
                  <a:lnTo>
                    <a:pt x="42" y="413"/>
                  </a:lnTo>
                  <a:lnTo>
                    <a:pt x="71" y="419"/>
                  </a:lnTo>
                  <a:lnTo>
                    <a:pt x="77" y="6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100320" y="4286160"/>
              <a:ext cx="81000" cy="648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3" y="0"/>
                  </a:moveTo>
                  <a:lnTo>
                    <a:pt x="55" y="0"/>
                  </a:lnTo>
                  <a:lnTo>
                    <a:pt x="28" y="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181320" y="4221000"/>
              <a:ext cx="7920" cy="22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127320" y="3876840"/>
              <a:ext cx="17640" cy="561960"/>
            </a:xfrm>
            <a:custGeom>
              <a:avLst/>
              <a:gdLst/>
              <a:ahLst/>
              <a:rect l="l" t="t" r="r" b="b"/>
              <a:pathLst>
                <a:path w="21" h="707">
                  <a:moveTo>
                    <a:pt x="21" y="707"/>
                  </a:moveTo>
                  <a:lnTo>
                    <a:pt x="16" y="38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3092040" y="3968640"/>
              <a:ext cx="50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3168720" y="3868560"/>
              <a:ext cx="1440" cy="9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278160" y="3803760"/>
              <a:ext cx="42840" cy="144360"/>
            </a:xfrm>
            <a:custGeom>
              <a:avLst/>
              <a:gdLst/>
              <a:ahLst/>
              <a:rect l="l" t="t" r="r" b="b"/>
              <a:pathLst>
                <a:path w="54" h="181">
                  <a:moveTo>
                    <a:pt x="19" y="0"/>
                  </a:moveTo>
                  <a:lnTo>
                    <a:pt x="0" y="35"/>
                  </a:lnTo>
                  <a:lnTo>
                    <a:pt x="3" y="181"/>
                  </a:lnTo>
                  <a:lnTo>
                    <a:pt x="54" y="171"/>
                  </a:lnTo>
                  <a:lnTo>
                    <a:pt x="50" y="2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00480" y="3927600"/>
              <a:ext cx="88920" cy="12600"/>
            </a:xfrm>
            <a:custGeom>
              <a:avLst/>
              <a:gdLst/>
              <a:ahLst/>
              <a:rect l="l" t="t" r="r" b="b"/>
              <a:pathLst>
                <a:path w="114" h="16">
                  <a:moveTo>
                    <a:pt x="0" y="16"/>
                  </a:moveTo>
                  <a:lnTo>
                    <a:pt x="60" y="0"/>
                  </a:lnTo>
                  <a:lnTo>
                    <a:pt x="1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359160" y="3778200"/>
              <a:ext cx="93600" cy="511200"/>
            </a:xfrm>
            <a:custGeom>
              <a:avLst/>
              <a:gdLst/>
              <a:ahLst/>
              <a:rect l="l" t="t" r="r" b="b"/>
              <a:pathLst>
                <a:path w="116" h="642">
                  <a:moveTo>
                    <a:pt x="0" y="0"/>
                  </a:moveTo>
                  <a:lnTo>
                    <a:pt x="21" y="12"/>
                  </a:lnTo>
                  <a:lnTo>
                    <a:pt x="19" y="51"/>
                  </a:lnTo>
                  <a:lnTo>
                    <a:pt x="40" y="193"/>
                  </a:lnTo>
                  <a:lnTo>
                    <a:pt x="43" y="247"/>
                  </a:lnTo>
                  <a:lnTo>
                    <a:pt x="59" y="632"/>
                  </a:lnTo>
                  <a:lnTo>
                    <a:pt x="116" y="642"/>
                  </a:lnTo>
                  <a:lnTo>
                    <a:pt x="108" y="220"/>
                  </a:lnTo>
                  <a:lnTo>
                    <a:pt x="92" y="13"/>
                  </a:lnTo>
                  <a:lnTo>
                    <a:pt x="4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452760" y="4289400"/>
              <a:ext cx="648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406680" y="4282920"/>
              <a:ext cx="6480" cy="141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336840" y="4282920"/>
              <a:ext cx="52560" cy="13824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65" y="0"/>
                  </a:moveTo>
                  <a:lnTo>
                    <a:pt x="0" y="5"/>
                  </a:lnTo>
                  <a:lnTo>
                    <a:pt x="9" y="1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295800" y="4287960"/>
              <a:ext cx="41040" cy="152280"/>
            </a:xfrm>
            <a:custGeom>
              <a:avLst/>
              <a:gdLst/>
              <a:ahLst/>
              <a:rect l="l" t="t" r="r" b="b"/>
              <a:pathLst>
                <a:path w="52" h="192">
                  <a:moveTo>
                    <a:pt x="52" y="0"/>
                  </a:moveTo>
                  <a:lnTo>
                    <a:pt x="9" y="1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3279240" y="3949560"/>
              <a:ext cx="24120" cy="339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321000" y="3940200"/>
              <a:ext cx="15840" cy="345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373560" y="3927600"/>
              <a:ext cx="69840" cy="9360"/>
            </a:xfrm>
            <a:custGeom>
              <a:avLst/>
              <a:gdLst/>
              <a:ahLst/>
              <a:rect l="l" t="t" r="r" b="b"/>
              <a:pathLst>
                <a:path w="88" h="12">
                  <a:moveTo>
                    <a:pt x="10" y="12"/>
                  </a:moveTo>
                  <a:lnTo>
                    <a:pt x="0" y="3"/>
                  </a:lnTo>
                  <a:lnTo>
                    <a:pt x="54" y="0"/>
                  </a:lnTo>
                  <a:lnTo>
                    <a:pt x="88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686040" y="3763800"/>
              <a:ext cx="24120" cy="657360"/>
            </a:xfrm>
            <a:custGeom>
              <a:avLst/>
              <a:gdLst/>
              <a:ahLst/>
              <a:rect l="l" t="t" r="r" b="b"/>
              <a:pathLst>
                <a:path w="28" h="829">
                  <a:moveTo>
                    <a:pt x="0" y="0"/>
                  </a:moveTo>
                  <a:lnTo>
                    <a:pt x="13" y="511"/>
                  </a:lnTo>
                  <a:lnTo>
                    <a:pt x="28" y="8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638520" y="4243320"/>
              <a:ext cx="60480" cy="14148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76" y="0"/>
                  </a:moveTo>
                  <a:lnTo>
                    <a:pt x="0" y="0"/>
                  </a:lnTo>
                  <a:lnTo>
                    <a:pt x="0" y="1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578400" y="4243320"/>
              <a:ext cx="58680" cy="150840"/>
            </a:xfrm>
            <a:custGeom>
              <a:avLst/>
              <a:gdLst/>
              <a:ahLst/>
              <a:rect l="l" t="t" r="r" b="b"/>
              <a:pathLst>
                <a:path w="76" h="189">
                  <a:moveTo>
                    <a:pt x="76" y="0"/>
                  </a:moveTo>
                  <a:lnTo>
                    <a:pt x="0" y="5"/>
                  </a:lnTo>
                  <a:lnTo>
                    <a:pt x="4" y="1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 flipV="1">
              <a:off x="3516480" y="3798720"/>
              <a:ext cx="15840" cy="45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3522600" y="3754440"/>
              <a:ext cx="316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567240" y="3787920"/>
              <a:ext cx="66600" cy="112680"/>
            </a:xfrm>
            <a:custGeom>
              <a:avLst/>
              <a:gdLst/>
              <a:ahLst/>
              <a:rect l="l" t="t" r="r" b="b"/>
              <a:pathLst>
                <a:path w="85" h="140">
                  <a:moveTo>
                    <a:pt x="0" y="44"/>
                  </a:moveTo>
                  <a:lnTo>
                    <a:pt x="5" y="140"/>
                  </a:lnTo>
                  <a:lnTo>
                    <a:pt x="85" y="131"/>
                  </a:lnTo>
                  <a:lnTo>
                    <a:pt x="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633840" y="3892680"/>
              <a:ext cx="540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3633840" y="3892680"/>
              <a:ext cx="3240" cy="350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3570120" y="3900600"/>
              <a:ext cx="5040" cy="347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3524040" y="3900600"/>
              <a:ext cx="4572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979800" y="3718080"/>
              <a:ext cx="17640" cy="69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986280" y="4184640"/>
              <a:ext cx="14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973680" y="41846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0" y="6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971880" y="4184640"/>
              <a:ext cx="18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879720" y="4221000"/>
              <a:ext cx="14400" cy="131760"/>
            </a:xfrm>
            <a:custGeom>
              <a:avLst/>
              <a:gdLst/>
              <a:ahLst/>
              <a:rect l="l" t="t" r="r" b="b"/>
              <a:pathLst>
                <a:path w="19" h="166">
                  <a:moveTo>
                    <a:pt x="12" y="0"/>
                  </a:moveTo>
                  <a:lnTo>
                    <a:pt x="0" y="166"/>
                  </a:lnTo>
                  <a:lnTo>
                    <a:pt x="5" y="166"/>
                  </a:lnTo>
                  <a:lnTo>
                    <a:pt x="1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889440" y="4184640"/>
              <a:ext cx="17280" cy="381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15" y="0"/>
                  </a:moveTo>
                  <a:lnTo>
                    <a:pt x="0" y="47"/>
                  </a:lnTo>
                  <a:lnTo>
                    <a:pt x="7" y="49"/>
                  </a:lnTo>
                  <a:lnTo>
                    <a:pt x="22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902040" y="4137120"/>
              <a:ext cx="6480" cy="4752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3" y="0"/>
                  </a:moveTo>
                  <a:lnTo>
                    <a:pt x="0" y="59"/>
                  </a:lnTo>
                  <a:lnTo>
                    <a:pt x="7" y="59"/>
                  </a:lnTo>
                  <a:lnTo>
                    <a:pt x="9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903840" y="4092480"/>
              <a:ext cx="12600" cy="44640"/>
            </a:xfrm>
            <a:custGeom>
              <a:avLst/>
              <a:gdLst/>
              <a:ahLst/>
              <a:rect l="l" t="t" r="r" b="b"/>
              <a:pathLst>
                <a:path w="16" h="57">
                  <a:moveTo>
                    <a:pt x="11" y="0"/>
                  </a:moveTo>
                  <a:lnTo>
                    <a:pt x="0" y="56"/>
                  </a:lnTo>
                  <a:lnTo>
                    <a:pt x="6" y="57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911760" y="4059360"/>
              <a:ext cx="29880" cy="3636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3" y="0"/>
                  </a:moveTo>
                  <a:lnTo>
                    <a:pt x="0" y="43"/>
                  </a:lnTo>
                  <a:lnTo>
                    <a:pt x="5" y="47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938760" y="4041720"/>
              <a:ext cx="34920" cy="205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5"/>
                  </a:moveTo>
                  <a:lnTo>
                    <a:pt x="39" y="2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42" y="7"/>
                  </a:lnTo>
                  <a:lnTo>
                    <a:pt x="37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967200" y="4046400"/>
              <a:ext cx="9360" cy="3492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12" y="4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7" y="45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963960" y="4081320"/>
              <a:ext cx="12600" cy="3816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5" y="47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0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3963960" y="4119480"/>
              <a:ext cx="468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3956040" y="4170240"/>
              <a:ext cx="12600" cy="46080"/>
            </a:xfrm>
            <a:custGeom>
              <a:avLst/>
              <a:gdLst/>
              <a:ahLst/>
              <a:rect l="l" t="t" r="r" b="b"/>
              <a:pathLst>
                <a:path w="16" h="59">
                  <a:moveTo>
                    <a:pt x="7" y="59"/>
                  </a:moveTo>
                  <a:lnTo>
                    <a:pt x="16" y="2"/>
                  </a:lnTo>
                  <a:lnTo>
                    <a:pt x="11" y="0"/>
                  </a:lnTo>
                  <a:lnTo>
                    <a:pt x="0" y="57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956040" y="421632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23" y="15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7" y="152"/>
                  </a:lnTo>
                  <a:lnTo>
                    <a:pt x="23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967200" y="4336920"/>
              <a:ext cx="6480" cy="3816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6" y="47"/>
                  </a:moveTo>
                  <a:lnTo>
                    <a:pt x="10" y="0"/>
                  </a:lnTo>
                  <a:lnTo>
                    <a:pt x="4" y="0"/>
                  </a:lnTo>
                  <a:lnTo>
                    <a:pt x="0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963960" y="4375080"/>
              <a:ext cx="6480" cy="41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53"/>
                  </a:moveTo>
                  <a:lnTo>
                    <a:pt x="7" y="5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6" y="53"/>
                  </a:lnTo>
                  <a:lnTo>
                    <a:pt x="7" y="52"/>
                  </a:lnTo>
                  <a:lnTo>
                    <a:pt x="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900600" y="4406760"/>
              <a:ext cx="31680" cy="1908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4"/>
                  </a:moveTo>
                  <a:lnTo>
                    <a:pt x="39" y="24"/>
                  </a:lnTo>
                  <a:lnTo>
                    <a:pt x="40" y="2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890880" y="4392720"/>
              <a:ext cx="14400" cy="172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3"/>
                  </a:moveTo>
                  <a:lnTo>
                    <a:pt x="11" y="23"/>
                  </a:lnTo>
                  <a:lnTo>
                    <a:pt x="16" y="20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3879720" y="4352760"/>
              <a:ext cx="17640" cy="41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1"/>
                  </a:moveTo>
                  <a:lnTo>
                    <a:pt x="15" y="53"/>
                  </a:lnTo>
                  <a:lnTo>
                    <a:pt x="22" y="51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807000" y="4219560"/>
              <a:ext cx="52200" cy="200160"/>
            </a:xfrm>
            <a:custGeom>
              <a:avLst/>
              <a:gdLst/>
              <a:ahLst/>
              <a:rect l="l" t="t" r="r" b="b"/>
              <a:pathLst>
                <a:path w="66" h="252">
                  <a:moveTo>
                    <a:pt x="66" y="208"/>
                  </a:moveTo>
                  <a:lnTo>
                    <a:pt x="65" y="121"/>
                  </a:lnTo>
                  <a:lnTo>
                    <a:pt x="65" y="0"/>
                  </a:lnTo>
                  <a:lnTo>
                    <a:pt x="4" y="5"/>
                  </a:lnTo>
                  <a:lnTo>
                    <a:pt x="0" y="2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794040" y="3746520"/>
              <a:ext cx="14400" cy="476280"/>
            </a:xfrm>
            <a:custGeom>
              <a:avLst/>
              <a:gdLst/>
              <a:ahLst/>
              <a:rect l="l" t="t" r="r" b="b"/>
              <a:pathLst>
                <a:path w="19" h="601">
                  <a:moveTo>
                    <a:pt x="19" y="601"/>
                  </a:moveTo>
                  <a:lnTo>
                    <a:pt x="3" y="15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848040" y="3763800"/>
              <a:ext cx="60480" cy="96840"/>
            </a:xfrm>
            <a:custGeom>
              <a:avLst/>
              <a:gdLst/>
              <a:ahLst/>
              <a:rect l="l" t="t" r="r" b="b"/>
              <a:pathLst>
                <a:path w="76" h="123">
                  <a:moveTo>
                    <a:pt x="2" y="8"/>
                  </a:moveTo>
                  <a:lnTo>
                    <a:pt x="0" y="123"/>
                  </a:lnTo>
                  <a:lnTo>
                    <a:pt x="41" y="118"/>
                  </a:lnTo>
                  <a:lnTo>
                    <a:pt x="76" y="123"/>
                  </a:lnTo>
                  <a:lnTo>
                    <a:pt x="7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908520" y="3852720"/>
              <a:ext cx="73080" cy="6480"/>
            </a:xfrm>
            <a:custGeom>
              <a:avLst/>
              <a:gdLst/>
              <a:ahLst/>
              <a:rect l="l" t="t" r="r" b="b"/>
              <a:pathLst>
                <a:path w="93" h="8">
                  <a:moveTo>
                    <a:pt x="0" y="8"/>
                  </a:moveTo>
                  <a:lnTo>
                    <a:pt x="46" y="0"/>
                  </a:lnTo>
                  <a:lnTo>
                    <a:pt x="93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908520" y="3849840"/>
              <a:ext cx="32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3846600" y="3851280"/>
              <a:ext cx="11160" cy="36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3816000" y="3865680"/>
              <a:ext cx="25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H="1">
              <a:off x="3857400" y="4213080"/>
              <a:ext cx="3636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251240" y="3665520"/>
              <a:ext cx="23760" cy="739800"/>
            </a:xfrm>
            <a:custGeom>
              <a:avLst/>
              <a:gdLst/>
              <a:ahLst/>
              <a:rect l="l" t="t" r="r" b="b"/>
              <a:pathLst>
                <a:path w="29" h="934">
                  <a:moveTo>
                    <a:pt x="17" y="0"/>
                  </a:moveTo>
                  <a:lnTo>
                    <a:pt x="11" y="183"/>
                  </a:lnTo>
                  <a:lnTo>
                    <a:pt x="4" y="210"/>
                  </a:lnTo>
                  <a:lnTo>
                    <a:pt x="0" y="241"/>
                  </a:lnTo>
                  <a:lnTo>
                    <a:pt x="7" y="269"/>
                  </a:lnTo>
                  <a:lnTo>
                    <a:pt x="17" y="381"/>
                  </a:lnTo>
                  <a:lnTo>
                    <a:pt x="12" y="466"/>
                  </a:lnTo>
                  <a:lnTo>
                    <a:pt x="25" y="869"/>
                  </a:lnTo>
                  <a:lnTo>
                    <a:pt x="29" y="93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189320" y="4173480"/>
              <a:ext cx="79560" cy="201600"/>
            </a:xfrm>
            <a:custGeom>
              <a:avLst/>
              <a:gdLst/>
              <a:ahLst/>
              <a:rect l="l" t="t" r="r" b="b"/>
              <a:pathLst>
                <a:path w="100" h="255">
                  <a:moveTo>
                    <a:pt x="100" y="6"/>
                  </a:moveTo>
                  <a:lnTo>
                    <a:pt x="0" y="0"/>
                  </a:lnTo>
                  <a:lnTo>
                    <a:pt x="8" y="2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122720" y="4170240"/>
              <a:ext cx="66600" cy="208080"/>
            </a:xfrm>
            <a:custGeom>
              <a:avLst/>
              <a:gdLst/>
              <a:ahLst/>
              <a:rect l="l" t="t" r="r" b="b"/>
              <a:pathLst>
                <a:path w="84" h="262">
                  <a:moveTo>
                    <a:pt x="84" y="0"/>
                  </a:moveTo>
                  <a:lnTo>
                    <a:pt x="0" y="11"/>
                  </a:lnTo>
                  <a:lnTo>
                    <a:pt x="8" y="2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081320" y="4181400"/>
              <a:ext cx="41400" cy="220680"/>
            </a:xfrm>
            <a:custGeom>
              <a:avLst/>
              <a:gdLst/>
              <a:ahLst/>
              <a:rect l="l" t="t" r="r" b="b"/>
              <a:pathLst>
                <a:path w="51" h="277">
                  <a:moveTo>
                    <a:pt x="51" y="0"/>
                  </a:moveTo>
                  <a:lnTo>
                    <a:pt x="0" y="7"/>
                  </a:lnTo>
                  <a:lnTo>
                    <a:pt x="0" y="2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068720" y="3701880"/>
              <a:ext cx="12600" cy="486000"/>
            </a:xfrm>
            <a:custGeom>
              <a:avLst/>
              <a:gdLst/>
              <a:ahLst/>
              <a:rect l="l" t="t" r="r" b="b"/>
              <a:pathLst>
                <a:path w="16" h="611">
                  <a:moveTo>
                    <a:pt x="16" y="611"/>
                  </a:moveTo>
                  <a:lnTo>
                    <a:pt x="2" y="17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H="1" flipV="1">
              <a:off x="4106520" y="3717720"/>
              <a:ext cx="3240" cy="115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108320" y="3708360"/>
              <a:ext cx="66960" cy="119160"/>
            </a:xfrm>
            <a:custGeom>
              <a:avLst/>
              <a:gdLst/>
              <a:ahLst/>
              <a:rect l="l" t="t" r="r" b="b"/>
              <a:pathLst>
                <a:path w="85" h="150">
                  <a:moveTo>
                    <a:pt x="0" y="150"/>
                  </a:moveTo>
                  <a:lnTo>
                    <a:pt x="40" y="129"/>
                  </a:lnTo>
                  <a:lnTo>
                    <a:pt x="85" y="134"/>
                  </a:lnTo>
                  <a:lnTo>
                    <a:pt x="8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76720" y="3801960"/>
              <a:ext cx="84240" cy="9720"/>
            </a:xfrm>
            <a:custGeom>
              <a:avLst/>
              <a:gdLst/>
              <a:ahLst/>
              <a:rect l="l" t="t" r="r" b="b"/>
              <a:pathLst>
                <a:path w="106" h="12">
                  <a:moveTo>
                    <a:pt x="0" y="12"/>
                  </a:moveTo>
                  <a:lnTo>
                    <a:pt x="49" y="0"/>
                  </a:lnTo>
                  <a:lnTo>
                    <a:pt x="95" y="7"/>
                  </a:lnTo>
                  <a:lnTo>
                    <a:pt x="106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76720" y="3879720"/>
              <a:ext cx="12600" cy="290520"/>
            </a:xfrm>
            <a:custGeom>
              <a:avLst/>
              <a:gdLst/>
              <a:ahLst/>
              <a:rect l="l" t="t" r="r" b="b"/>
              <a:pathLst>
                <a:path w="15" h="364">
                  <a:moveTo>
                    <a:pt x="0" y="0"/>
                  </a:moveTo>
                  <a:lnTo>
                    <a:pt x="3" y="31"/>
                  </a:lnTo>
                  <a:lnTo>
                    <a:pt x="15" y="36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176720" y="3814920"/>
              <a:ext cx="1440" cy="77760"/>
            </a:xfrm>
            <a:custGeom>
              <a:avLst/>
              <a:gdLst/>
              <a:ahLst/>
              <a:rect l="l" t="t" r="r" b="b"/>
              <a:pathLst>
                <a:path w="3" h="99">
                  <a:moveTo>
                    <a:pt x="3" y="99"/>
                  </a:move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110120" y="3833640"/>
              <a:ext cx="12600" cy="346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73400" y="382104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6"/>
                  </a:move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487760" y="4173480"/>
              <a:ext cx="74880" cy="190440"/>
            </a:xfrm>
            <a:custGeom>
              <a:avLst/>
              <a:gdLst/>
              <a:ahLst/>
              <a:rect l="l" t="t" r="r" b="b"/>
              <a:pathLst>
                <a:path w="93" h="239">
                  <a:moveTo>
                    <a:pt x="93" y="13"/>
                  </a:moveTo>
                  <a:lnTo>
                    <a:pt x="57" y="0"/>
                  </a:lnTo>
                  <a:lnTo>
                    <a:pt x="1" y="12"/>
                  </a:lnTo>
                  <a:lnTo>
                    <a:pt x="1" y="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425840" y="4170240"/>
              <a:ext cx="63720" cy="190800"/>
            </a:xfrm>
            <a:custGeom>
              <a:avLst/>
              <a:gdLst/>
              <a:ahLst/>
              <a:rect l="l" t="t" r="r" b="b"/>
              <a:pathLst>
                <a:path w="79" h="239">
                  <a:moveTo>
                    <a:pt x="79" y="11"/>
                  </a:moveTo>
                  <a:lnTo>
                    <a:pt x="37" y="0"/>
                  </a:lnTo>
                  <a:lnTo>
                    <a:pt x="4" y="12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383000" y="4164120"/>
              <a:ext cx="6480" cy="22068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4" y="0"/>
                  </a:moveTo>
                  <a:lnTo>
                    <a:pt x="7" y="62"/>
                  </a:lnTo>
                  <a:lnTo>
                    <a:pt x="0" y="28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379760" y="3645000"/>
              <a:ext cx="6480" cy="552240"/>
            </a:xfrm>
            <a:custGeom>
              <a:avLst/>
              <a:gdLst/>
              <a:ahLst/>
              <a:rect l="l" t="t" r="r" b="b"/>
              <a:pathLst>
                <a:path w="8" h="697">
                  <a:moveTo>
                    <a:pt x="8" y="697"/>
                  </a:moveTo>
                  <a:lnTo>
                    <a:pt x="4" y="38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24400" y="3652920"/>
              <a:ext cx="60120" cy="127080"/>
            </a:xfrm>
            <a:custGeom>
              <a:avLst/>
              <a:gdLst/>
              <a:ahLst/>
              <a:rect l="l" t="t" r="r" b="b"/>
              <a:pathLst>
                <a:path w="76" h="161">
                  <a:moveTo>
                    <a:pt x="0" y="22"/>
                  </a:moveTo>
                  <a:lnTo>
                    <a:pt x="4" y="161"/>
                  </a:lnTo>
                  <a:lnTo>
                    <a:pt x="41" y="154"/>
                  </a:lnTo>
                  <a:lnTo>
                    <a:pt x="75" y="160"/>
                  </a:lnTo>
                  <a:lnTo>
                    <a:pt x="7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83080" y="3773520"/>
              <a:ext cx="79560" cy="7920"/>
            </a:xfrm>
            <a:custGeom>
              <a:avLst/>
              <a:gdLst/>
              <a:ahLst/>
              <a:rect l="l" t="t" r="r" b="b"/>
              <a:pathLst>
                <a:path w="100" h="11">
                  <a:moveTo>
                    <a:pt x="0" y="7"/>
                  </a:moveTo>
                  <a:lnTo>
                    <a:pt x="49" y="0"/>
                  </a:lnTo>
                  <a:lnTo>
                    <a:pt x="100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81640" y="3776760"/>
              <a:ext cx="9360" cy="398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25840" y="3780000"/>
              <a:ext cx="5040" cy="390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383000" y="3778200"/>
              <a:ext cx="49320" cy="6480"/>
            </a:xfrm>
            <a:custGeom>
              <a:avLst/>
              <a:gdLst/>
              <a:ahLst/>
              <a:rect l="l" t="t" r="r" b="b"/>
              <a:pathLst>
                <a:path w="62" h="10">
                  <a:moveTo>
                    <a:pt x="62" y="2"/>
                  </a:moveTo>
                  <a:lnTo>
                    <a:pt x="29" y="0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4429080" y="4169880"/>
              <a:ext cx="1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761000" y="4194000"/>
              <a:ext cx="31680" cy="168480"/>
            </a:xfrm>
            <a:custGeom>
              <a:avLst/>
              <a:gdLst/>
              <a:ahLst/>
              <a:rect l="l" t="t" r="r" b="b"/>
              <a:pathLst>
                <a:path w="40" h="212">
                  <a:moveTo>
                    <a:pt x="40" y="0"/>
                  </a:move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719600" y="4194000"/>
              <a:ext cx="41400" cy="173160"/>
            </a:xfrm>
            <a:custGeom>
              <a:avLst/>
              <a:gdLst/>
              <a:ahLst/>
              <a:rect l="l" t="t" r="r" b="b"/>
              <a:pathLst>
                <a:path w="52" h="217">
                  <a:moveTo>
                    <a:pt x="52" y="0"/>
                  </a:moveTo>
                  <a:lnTo>
                    <a:pt x="0" y="0"/>
                  </a:lnTo>
                  <a:lnTo>
                    <a:pt x="4" y="2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73520" y="4194000"/>
              <a:ext cx="46080" cy="168480"/>
            </a:xfrm>
            <a:custGeom>
              <a:avLst/>
              <a:gdLst/>
              <a:ahLst/>
              <a:rect l="l" t="t" r="r" b="b"/>
              <a:pathLst>
                <a:path w="58" h="212">
                  <a:moveTo>
                    <a:pt x="58" y="0"/>
                  </a:moveTo>
                  <a:lnTo>
                    <a:pt x="0" y="0"/>
                  </a:lnTo>
                  <a:lnTo>
                    <a:pt x="6" y="2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659480" y="3765600"/>
              <a:ext cx="468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16360" y="3724200"/>
              <a:ext cx="41400" cy="125640"/>
            </a:xfrm>
            <a:custGeom>
              <a:avLst/>
              <a:gdLst/>
              <a:ahLst/>
              <a:rect l="l" t="t" r="r" b="b"/>
              <a:pathLst>
                <a:path w="52" h="158">
                  <a:moveTo>
                    <a:pt x="0" y="0"/>
                  </a:moveTo>
                  <a:lnTo>
                    <a:pt x="0" y="140"/>
                  </a:lnTo>
                  <a:lnTo>
                    <a:pt x="46" y="158"/>
                  </a:lnTo>
                  <a:lnTo>
                    <a:pt x="52" y="51"/>
                  </a:lnTo>
                  <a:lnTo>
                    <a:pt x="52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53080" y="3849840"/>
              <a:ext cx="44280" cy="1080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0"/>
                  </a:moveTo>
                  <a:lnTo>
                    <a:pt x="8" y="15"/>
                  </a:lnTo>
                  <a:lnTo>
                    <a:pt x="54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61000" y="3860640"/>
              <a:ext cx="1440" cy="33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 flipV="1">
              <a:off x="4754520" y="384984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722840" y="3844800"/>
              <a:ext cx="3240" cy="233640"/>
            </a:xfrm>
            <a:custGeom>
              <a:avLst/>
              <a:gdLst/>
              <a:ahLst/>
              <a:rect l="l" t="t" r="r" b="b"/>
              <a:pathLst>
                <a:path w="4" h="295">
                  <a:moveTo>
                    <a:pt x="0" y="0"/>
                  </a:moveTo>
                  <a:lnTo>
                    <a:pt x="4" y="157"/>
                  </a:lnTo>
                  <a:lnTo>
                    <a:pt x="4" y="29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 flipV="1">
              <a:off x="4657320" y="3830400"/>
              <a:ext cx="586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716360" y="4146480"/>
              <a:ext cx="1800" cy="47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944960" y="4224240"/>
              <a:ext cx="60480" cy="168480"/>
            </a:xfrm>
            <a:custGeom>
              <a:avLst/>
              <a:gdLst/>
              <a:ahLst/>
              <a:rect l="l" t="t" r="r" b="b"/>
              <a:pathLst>
                <a:path w="74" h="211">
                  <a:moveTo>
                    <a:pt x="74" y="3"/>
                  </a:move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892760" y="4202280"/>
              <a:ext cx="54000" cy="185400"/>
            </a:xfrm>
            <a:custGeom>
              <a:avLst/>
              <a:gdLst/>
              <a:ahLst/>
              <a:rect l="l" t="t" r="r" b="b"/>
              <a:pathLst>
                <a:path w="67" h="234">
                  <a:moveTo>
                    <a:pt x="67" y="0"/>
                  </a:moveTo>
                  <a:lnTo>
                    <a:pt x="2" y="11"/>
                  </a:lnTo>
                  <a:lnTo>
                    <a:pt x="0" y="23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848120" y="3710160"/>
              <a:ext cx="54000" cy="498240"/>
            </a:xfrm>
            <a:custGeom>
              <a:avLst/>
              <a:gdLst/>
              <a:ahLst/>
              <a:rect l="l" t="t" r="r" b="b"/>
              <a:pathLst>
                <a:path w="67" h="628">
                  <a:moveTo>
                    <a:pt x="3" y="628"/>
                  </a:moveTo>
                  <a:lnTo>
                    <a:pt x="0" y="55"/>
                  </a:lnTo>
                  <a:lnTo>
                    <a:pt x="67" y="23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892760" y="3803760"/>
              <a:ext cx="47520" cy="8568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2" y="0"/>
                  </a:moveTo>
                  <a:lnTo>
                    <a:pt x="0" y="100"/>
                  </a:lnTo>
                  <a:lnTo>
                    <a:pt x="54" y="108"/>
                  </a:lnTo>
                  <a:lnTo>
                    <a:pt x="59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935600" y="3746520"/>
              <a:ext cx="60120" cy="158760"/>
            </a:xfrm>
            <a:custGeom>
              <a:avLst/>
              <a:gdLst/>
              <a:ahLst/>
              <a:rect l="l" t="t" r="r" b="b"/>
              <a:pathLst>
                <a:path w="75" h="200">
                  <a:moveTo>
                    <a:pt x="0" y="181"/>
                  </a:moveTo>
                  <a:lnTo>
                    <a:pt x="75" y="200"/>
                  </a:lnTo>
                  <a:lnTo>
                    <a:pt x="7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97520" y="3906720"/>
              <a:ext cx="7920" cy="319320"/>
            </a:xfrm>
            <a:custGeom>
              <a:avLst/>
              <a:gdLst/>
              <a:ahLst/>
              <a:rect l="l" t="t" r="r" b="b"/>
              <a:pathLst>
                <a:path w="10" h="401">
                  <a:moveTo>
                    <a:pt x="0" y="0"/>
                  </a:moveTo>
                  <a:lnTo>
                    <a:pt x="10" y="163"/>
                  </a:lnTo>
                  <a:lnTo>
                    <a:pt x="8" y="4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941720" y="3897360"/>
              <a:ext cx="5040" cy="323640"/>
            </a:xfrm>
            <a:custGeom>
              <a:avLst/>
              <a:gdLst/>
              <a:ahLst/>
              <a:rect l="l" t="t" r="r" b="b"/>
              <a:pathLst>
                <a:path w="5" h="408">
                  <a:moveTo>
                    <a:pt x="0" y="0"/>
                  </a:moveTo>
                  <a:lnTo>
                    <a:pt x="1" y="135"/>
                  </a:lnTo>
                  <a:lnTo>
                    <a:pt x="5" y="4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892760" y="3882960"/>
              <a:ext cx="32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4849560" y="388296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991040" y="3747960"/>
              <a:ext cx="144360" cy="681120"/>
            </a:xfrm>
            <a:custGeom>
              <a:avLst/>
              <a:gdLst/>
              <a:ahLst/>
              <a:rect l="l" t="t" r="r" b="b"/>
              <a:pathLst>
                <a:path w="181" h="857">
                  <a:moveTo>
                    <a:pt x="16" y="857"/>
                  </a:moveTo>
                  <a:lnTo>
                    <a:pt x="8" y="707"/>
                  </a:lnTo>
                  <a:lnTo>
                    <a:pt x="19" y="468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81" y="58"/>
                  </a:lnTo>
                  <a:lnTo>
                    <a:pt x="130" y="58"/>
                  </a:lnTo>
                  <a:lnTo>
                    <a:pt x="97" y="70"/>
                  </a:lnTo>
                  <a:lnTo>
                    <a:pt x="59" y="90"/>
                  </a:lnTo>
                  <a:lnTo>
                    <a:pt x="70" y="853"/>
                  </a:lnTo>
                  <a:lnTo>
                    <a:pt x="16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146560" y="3794040"/>
              <a:ext cx="217440" cy="505080"/>
            </a:xfrm>
            <a:custGeom>
              <a:avLst/>
              <a:gdLst/>
              <a:ahLst/>
              <a:rect l="l" t="t" r="r" b="b"/>
              <a:pathLst>
                <a:path w="273" h="635">
                  <a:moveTo>
                    <a:pt x="0" y="0"/>
                  </a:moveTo>
                  <a:lnTo>
                    <a:pt x="25" y="67"/>
                  </a:lnTo>
                  <a:lnTo>
                    <a:pt x="31" y="635"/>
                  </a:lnTo>
                  <a:lnTo>
                    <a:pt x="66" y="630"/>
                  </a:lnTo>
                  <a:lnTo>
                    <a:pt x="79" y="466"/>
                  </a:lnTo>
                  <a:lnTo>
                    <a:pt x="135" y="394"/>
                  </a:lnTo>
                  <a:lnTo>
                    <a:pt x="196" y="359"/>
                  </a:lnTo>
                  <a:lnTo>
                    <a:pt x="240" y="364"/>
                  </a:lnTo>
                  <a:lnTo>
                    <a:pt x="255" y="622"/>
                  </a:lnTo>
                  <a:lnTo>
                    <a:pt x="273" y="6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146560" y="3790800"/>
              <a:ext cx="420840" cy="650880"/>
            </a:xfrm>
            <a:custGeom>
              <a:avLst/>
              <a:gdLst/>
              <a:ahLst/>
              <a:rect l="l" t="t" r="r" b="b"/>
              <a:pathLst>
                <a:path w="529" h="820">
                  <a:moveTo>
                    <a:pt x="31" y="803"/>
                  </a:moveTo>
                  <a:lnTo>
                    <a:pt x="27" y="63"/>
                  </a:lnTo>
                  <a:lnTo>
                    <a:pt x="0" y="0"/>
                  </a:lnTo>
                  <a:lnTo>
                    <a:pt x="94" y="20"/>
                  </a:lnTo>
                  <a:lnTo>
                    <a:pt x="482" y="135"/>
                  </a:lnTo>
                  <a:lnTo>
                    <a:pt x="529" y="162"/>
                  </a:lnTo>
                  <a:lnTo>
                    <a:pt x="494" y="166"/>
                  </a:lnTo>
                  <a:lnTo>
                    <a:pt x="443" y="205"/>
                  </a:lnTo>
                  <a:lnTo>
                    <a:pt x="455" y="705"/>
                  </a:lnTo>
                  <a:lnTo>
                    <a:pt x="447" y="626"/>
                  </a:lnTo>
                  <a:lnTo>
                    <a:pt x="424" y="624"/>
                  </a:lnTo>
                  <a:lnTo>
                    <a:pt x="400" y="610"/>
                  </a:lnTo>
                  <a:lnTo>
                    <a:pt x="324" y="674"/>
                  </a:lnTo>
                  <a:lnTo>
                    <a:pt x="289" y="697"/>
                  </a:lnTo>
                  <a:lnTo>
                    <a:pt x="286" y="811"/>
                  </a:lnTo>
                  <a:lnTo>
                    <a:pt x="250" y="820"/>
                  </a:lnTo>
                  <a:lnTo>
                    <a:pt x="250" y="462"/>
                  </a:lnTo>
                  <a:lnTo>
                    <a:pt x="239" y="363"/>
                  </a:lnTo>
                  <a:lnTo>
                    <a:pt x="192" y="363"/>
                  </a:lnTo>
                  <a:lnTo>
                    <a:pt x="136" y="398"/>
                  </a:lnTo>
                  <a:lnTo>
                    <a:pt x="97" y="437"/>
                  </a:lnTo>
                  <a:lnTo>
                    <a:pt x="78" y="472"/>
                  </a:lnTo>
                  <a:lnTo>
                    <a:pt x="78" y="815"/>
                  </a:lnTo>
                  <a:lnTo>
                    <a:pt x="31" y="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541840" y="4275000"/>
              <a:ext cx="112680" cy="200160"/>
            </a:xfrm>
            <a:custGeom>
              <a:avLst/>
              <a:gdLst/>
              <a:ahLst/>
              <a:rect l="l" t="t" r="r" b="b"/>
              <a:pathLst>
                <a:path w="142" h="252">
                  <a:moveTo>
                    <a:pt x="142" y="8"/>
                  </a:moveTo>
                  <a:lnTo>
                    <a:pt x="117" y="0"/>
                  </a:lnTo>
                  <a:lnTo>
                    <a:pt x="96" y="8"/>
                  </a:lnTo>
                  <a:lnTo>
                    <a:pt x="81" y="3"/>
                  </a:lnTo>
                  <a:lnTo>
                    <a:pt x="89" y="236"/>
                  </a:lnTo>
                  <a:lnTo>
                    <a:pt x="65" y="252"/>
                  </a:lnTo>
                  <a:lnTo>
                    <a:pt x="0" y="2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502240" y="3919680"/>
              <a:ext cx="96840" cy="357120"/>
            </a:xfrm>
            <a:custGeom>
              <a:avLst/>
              <a:gdLst/>
              <a:ahLst/>
              <a:rect l="l" t="t" r="r" b="b"/>
              <a:pathLst>
                <a:path w="121" h="448">
                  <a:moveTo>
                    <a:pt x="121" y="201"/>
                  </a:moveTo>
                  <a:lnTo>
                    <a:pt x="105" y="12"/>
                  </a:lnTo>
                  <a:lnTo>
                    <a:pt x="66" y="0"/>
                  </a:lnTo>
                  <a:lnTo>
                    <a:pt x="0" y="43"/>
                  </a:lnTo>
                  <a:lnTo>
                    <a:pt x="7" y="4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506920" y="3919680"/>
              <a:ext cx="47880" cy="3492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0" y="43"/>
                  </a:moveTo>
                  <a:lnTo>
                    <a:pt x="16" y="21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 flipV="1">
              <a:off x="5565600" y="3952800"/>
              <a:ext cx="14400" cy="47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 flipV="1">
              <a:off x="5526000" y="3962160"/>
              <a:ext cx="14400" cy="46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673600" y="3948120"/>
              <a:ext cx="6480" cy="142920"/>
            </a:xfrm>
            <a:custGeom>
              <a:avLst/>
              <a:gdLst/>
              <a:ahLst/>
              <a:rect l="l" t="t" r="r" b="b"/>
              <a:pathLst>
                <a:path w="8" h="181">
                  <a:moveTo>
                    <a:pt x="0" y="0"/>
                  </a:moveTo>
                  <a:lnTo>
                    <a:pt x="3" y="58"/>
                  </a:lnTo>
                  <a:lnTo>
                    <a:pt x="1" y="109"/>
                  </a:lnTo>
                  <a:lnTo>
                    <a:pt x="8" y="1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653080" y="4280040"/>
              <a:ext cx="63360" cy="188640"/>
            </a:xfrm>
            <a:custGeom>
              <a:avLst/>
              <a:gdLst/>
              <a:ahLst/>
              <a:rect l="l" t="t" r="r" b="b"/>
              <a:pathLst>
                <a:path w="80" h="237">
                  <a:moveTo>
                    <a:pt x="80" y="237"/>
                  </a:moveTo>
                  <a:lnTo>
                    <a:pt x="69" y="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4" y="17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 flipV="1">
              <a:off x="5738400" y="4365360"/>
              <a:ext cx="32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727600" y="4038480"/>
              <a:ext cx="19080" cy="258840"/>
            </a:xfrm>
            <a:custGeom>
              <a:avLst/>
              <a:gdLst/>
              <a:ahLst/>
              <a:rect l="l" t="t" r="r" b="b"/>
              <a:pathLst>
                <a:path w="24" h="327">
                  <a:moveTo>
                    <a:pt x="24" y="327"/>
                  </a:moveTo>
                  <a:lnTo>
                    <a:pt x="13" y="10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691240" y="3957480"/>
              <a:ext cx="63360" cy="325440"/>
            </a:xfrm>
            <a:custGeom>
              <a:avLst/>
              <a:gdLst/>
              <a:ahLst/>
              <a:rect l="l" t="t" r="r" b="b"/>
              <a:pathLst>
                <a:path w="80" h="409">
                  <a:moveTo>
                    <a:pt x="80" y="35"/>
                  </a:moveTo>
                  <a:lnTo>
                    <a:pt x="57" y="14"/>
                  </a:lnTo>
                  <a:lnTo>
                    <a:pt x="4" y="0"/>
                  </a:lnTo>
                  <a:lnTo>
                    <a:pt x="0" y="66"/>
                  </a:lnTo>
                  <a:lnTo>
                    <a:pt x="20" y="4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646600" y="4075200"/>
              <a:ext cx="33480" cy="111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2" y="15"/>
                  </a:moveTo>
                  <a:lnTo>
                    <a:pt x="22" y="0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599080" y="4075200"/>
              <a:ext cx="46080" cy="201600"/>
            </a:xfrm>
            <a:custGeom>
              <a:avLst/>
              <a:gdLst/>
              <a:ahLst/>
              <a:rect l="l" t="t" r="r" b="b"/>
              <a:pathLst>
                <a:path w="57" h="254">
                  <a:moveTo>
                    <a:pt x="57" y="38"/>
                  </a:moveTo>
                  <a:lnTo>
                    <a:pt x="57" y="6"/>
                  </a:lnTo>
                  <a:lnTo>
                    <a:pt x="25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8" y="2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675400" y="4048200"/>
              <a:ext cx="17280" cy="368280"/>
            </a:xfrm>
            <a:custGeom>
              <a:avLst/>
              <a:gdLst/>
              <a:ahLst/>
              <a:rect l="l" t="t" r="r" b="b"/>
              <a:pathLst>
                <a:path w="21" h="464">
                  <a:moveTo>
                    <a:pt x="21" y="464"/>
                  </a:moveTo>
                  <a:lnTo>
                    <a:pt x="13" y="24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 flipV="1">
              <a:off x="5638680" y="3973680"/>
              <a:ext cx="14400" cy="31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 flipV="1">
              <a:off x="5738400" y="4121280"/>
              <a:ext cx="1800" cy="48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5787720" y="4113360"/>
              <a:ext cx="6120" cy="10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800680" y="4308480"/>
              <a:ext cx="63720" cy="166680"/>
            </a:xfrm>
            <a:custGeom>
              <a:avLst/>
              <a:gdLst/>
              <a:ahLst/>
              <a:rect l="l" t="t" r="r" b="b"/>
              <a:pathLst>
                <a:path w="79" h="210">
                  <a:moveTo>
                    <a:pt x="79" y="0"/>
                  </a:moveTo>
                  <a:lnTo>
                    <a:pt x="44" y="4"/>
                  </a:lnTo>
                  <a:lnTo>
                    <a:pt x="27" y="0"/>
                  </a:lnTo>
                  <a:lnTo>
                    <a:pt x="0" y="2"/>
                  </a:lnTo>
                  <a:lnTo>
                    <a:pt x="0" y="2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784840" y="3986280"/>
              <a:ext cx="109440" cy="296640"/>
            </a:xfrm>
            <a:custGeom>
              <a:avLst/>
              <a:gdLst/>
              <a:ahLst/>
              <a:rect l="l" t="t" r="r" b="b"/>
              <a:pathLst>
                <a:path w="139" h="374">
                  <a:moveTo>
                    <a:pt x="64" y="195"/>
                  </a:moveTo>
                  <a:lnTo>
                    <a:pt x="37" y="222"/>
                  </a:lnTo>
                  <a:lnTo>
                    <a:pt x="23" y="237"/>
                  </a:lnTo>
                  <a:lnTo>
                    <a:pt x="24" y="374"/>
                  </a:lnTo>
                  <a:lnTo>
                    <a:pt x="4" y="291"/>
                  </a:lnTo>
                  <a:lnTo>
                    <a:pt x="12" y="15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139" y="47"/>
                  </a:lnTo>
                  <a:lnTo>
                    <a:pt x="123" y="71"/>
                  </a:lnTo>
                  <a:lnTo>
                    <a:pt x="123" y="189"/>
                  </a:lnTo>
                  <a:lnTo>
                    <a:pt x="100" y="178"/>
                  </a:lnTo>
                  <a:lnTo>
                    <a:pt x="79" y="179"/>
                  </a:lnTo>
                  <a:lnTo>
                    <a:pt x="64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919840" y="4321080"/>
              <a:ext cx="71280" cy="157320"/>
            </a:xfrm>
            <a:custGeom>
              <a:avLst/>
              <a:gdLst/>
              <a:ahLst/>
              <a:rect l="l" t="t" r="r" b="b"/>
              <a:pathLst>
                <a:path w="89" h="197">
                  <a:moveTo>
                    <a:pt x="89" y="5"/>
                  </a:moveTo>
                  <a:lnTo>
                    <a:pt x="73" y="3"/>
                  </a:lnTo>
                  <a:lnTo>
                    <a:pt x="55" y="5"/>
                  </a:lnTo>
                  <a:lnTo>
                    <a:pt x="32" y="0"/>
                  </a:lnTo>
                  <a:lnTo>
                    <a:pt x="13" y="5"/>
                  </a:lnTo>
                  <a:lnTo>
                    <a:pt x="12" y="154"/>
                  </a:lnTo>
                  <a:lnTo>
                    <a:pt x="0" y="19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019920" y="4065480"/>
              <a:ext cx="9360" cy="416160"/>
            </a:xfrm>
            <a:custGeom>
              <a:avLst/>
              <a:gdLst/>
              <a:ahLst/>
              <a:rect l="l" t="t" r="r" b="b"/>
              <a:pathLst>
                <a:path w="13" h="524">
                  <a:moveTo>
                    <a:pt x="6" y="0"/>
                  </a:moveTo>
                  <a:lnTo>
                    <a:pt x="4" y="67"/>
                  </a:lnTo>
                  <a:lnTo>
                    <a:pt x="7" y="150"/>
                  </a:lnTo>
                  <a:lnTo>
                    <a:pt x="7" y="242"/>
                  </a:lnTo>
                  <a:lnTo>
                    <a:pt x="10" y="315"/>
                  </a:lnTo>
                  <a:lnTo>
                    <a:pt x="11" y="375"/>
                  </a:lnTo>
                  <a:lnTo>
                    <a:pt x="13" y="446"/>
                  </a:lnTo>
                  <a:lnTo>
                    <a:pt x="13" y="493"/>
                  </a:lnTo>
                  <a:lnTo>
                    <a:pt x="0" y="5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113520" y="4057560"/>
              <a:ext cx="23760" cy="4284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1" y="0"/>
                  </a:moveTo>
                  <a:lnTo>
                    <a:pt x="0" y="35"/>
                  </a:lnTo>
                  <a:lnTo>
                    <a:pt x="31" y="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087960" y="4081320"/>
              <a:ext cx="61920" cy="257400"/>
            </a:xfrm>
            <a:custGeom>
              <a:avLst/>
              <a:gdLst/>
              <a:ahLst/>
              <a:rect l="l" t="t" r="r" b="b"/>
              <a:pathLst>
                <a:path w="79" h="325">
                  <a:moveTo>
                    <a:pt x="32" y="6"/>
                  </a:moveTo>
                  <a:lnTo>
                    <a:pt x="0" y="0"/>
                  </a:lnTo>
                  <a:lnTo>
                    <a:pt x="5" y="90"/>
                  </a:lnTo>
                  <a:lnTo>
                    <a:pt x="5" y="123"/>
                  </a:lnTo>
                  <a:lnTo>
                    <a:pt x="5" y="153"/>
                  </a:lnTo>
                  <a:lnTo>
                    <a:pt x="10" y="323"/>
                  </a:lnTo>
                  <a:lnTo>
                    <a:pt x="23" y="316"/>
                  </a:lnTo>
                  <a:lnTo>
                    <a:pt x="42" y="323"/>
                  </a:lnTo>
                  <a:lnTo>
                    <a:pt x="55" y="319"/>
                  </a:lnTo>
                  <a:lnTo>
                    <a:pt x="65" y="325"/>
                  </a:lnTo>
                  <a:lnTo>
                    <a:pt x="79" y="32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989680" y="4325760"/>
              <a:ext cx="14400" cy="132120"/>
            </a:xfrm>
            <a:custGeom>
              <a:avLst/>
              <a:gdLst/>
              <a:ahLst/>
              <a:rect l="l" t="t" r="r" b="b"/>
              <a:pathLst>
                <a:path w="19" h="166">
                  <a:moveTo>
                    <a:pt x="19" y="166"/>
                  </a:moveTo>
                  <a:lnTo>
                    <a:pt x="19" y="6"/>
                  </a:lnTo>
                  <a:lnTo>
                    <a:pt x="2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 flipV="1">
              <a:off x="5989680" y="4233600"/>
              <a:ext cx="1440" cy="9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996160" y="4067280"/>
              <a:ext cx="6120" cy="263520"/>
            </a:xfrm>
            <a:custGeom>
              <a:avLst/>
              <a:gdLst/>
              <a:ahLst/>
              <a:rect l="l" t="t" r="r" b="b"/>
              <a:pathLst>
                <a:path w="8" h="332">
                  <a:moveTo>
                    <a:pt x="8" y="332"/>
                  </a:moveTo>
                  <a:lnTo>
                    <a:pt x="2" y="206"/>
                  </a:lnTo>
                  <a:lnTo>
                    <a:pt x="2" y="13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961240" y="4054320"/>
              <a:ext cx="79200" cy="405000"/>
            </a:xfrm>
            <a:custGeom>
              <a:avLst/>
              <a:gdLst/>
              <a:ahLst/>
              <a:rect l="l" t="t" r="r" b="b"/>
              <a:pathLst>
                <a:path w="100" h="510">
                  <a:moveTo>
                    <a:pt x="100" y="14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3" y="5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931000" y="4043520"/>
              <a:ext cx="1440" cy="282240"/>
            </a:xfrm>
            <a:custGeom>
              <a:avLst/>
              <a:gdLst/>
              <a:ahLst/>
              <a:rect l="l" t="t" r="r" b="b"/>
              <a:pathLst>
                <a:path w="0" h="355">
                  <a:moveTo>
                    <a:pt x="0" y="355"/>
                  </a:moveTo>
                  <a:lnTo>
                    <a:pt x="0" y="15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5959440" y="4044960"/>
              <a:ext cx="32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027840" y="4329000"/>
              <a:ext cx="17280" cy="324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2"/>
                  </a:moveTo>
                  <a:lnTo>
                    <a:pt x="12" y="0"/>
                  </a:lnTo>
                  <a:lnTo>
                    <a:pt x="2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045120" y="4329000"/>
              <a:ext cx="39600" cy="792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2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40" y="4"/>
                  </a:lnTo>
                  <a:lnTo>
                    <a:pt x="5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066000" y="4248000"/>
              <a:ext cx="6120" cy="200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 flipV="1">
              <a:off x="6075000" y="4087800"/>
              <a:ext cx="3240" cy="10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083280" y="4233960"/>
              <a:ext cx="4680" cy="22860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4" y="133"/>
                  </a:lnTo>
                  <a:lnTo>
                    <a:pt x="7" y="2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 flipV="1">
              <a:off x="6078240" y="4198680"/>
              <a:ext cx="468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127920" y="4114800"/>
              <a:ext cx="15840" cy="345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040440" y="4087800"/>
              <a:ext cx="7920" cy="36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110280" y="4108320"/>
              <a:ext cx="17640" cy="346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170240" y="3154320"/>
              <a:ext cx="1987560" cy="806400"/>
            </a:xfrm>
            <a:custGeom>
              <a:avLst/>
              <a:gdLst/>
              <a:ahLst/>
              <a:rect l="l" t="t" r="r" b="b"/>
              <a:pathLst>
                <a:path w="2505" h="1017">
                  <a:moveTo>
                    <a:pt x="2470" y="1017"/>
                  </a:moveTo>
                  <a:lnTo>
                    <a:pt x="2505" y="959"/>
                  </a:lnTo>
                  <a:lnTo>
                    <a:pt x="2029" y="738"/>
                  </a:lnTo>
                  <a:lnTo>
                    <a:pt x="1581" y="530"/>
                  </a:lnTo>
                  <a:lnTo>
                    <a:pt x="1267" y="374"/>
                  </a:lnTo>
                  <a:lnTo>
                    <a:pt x="440" y="0"/>
                  </a:lnTo>
                  <a:lnTo>
                    <a:pt x="273" y="46"/>
                  </a:lnTo>
                  <a:lnTo>
                    <a:pt x="0" y="124"/>
                  </a:lnTo>
                  <a:lnTo>
                    <a:pt x="31" y="177"/>
                  </a:lnTo>
                  <a:lnTo>
                    <a:pt x="220" y="212"/>
                  </a:lnTo>
                  <a:lnTo>
                    <a:pt x="426" y="165"/>
                  </a:lnTo>
                  <a:lnTo>
                    <a:pt x="971" y="394"/>
                  </a:lnTo>
                  <a:lnTo>
                    <a:pt x="1007" y="462"/>
                  </a:lnTo>
                  <a:lnTo>
                    <a:pt x="1042" y="488"/>
                  </a:lnTo>
                  <a:lnTo>
                    <a:pt x="1177" y="477"/>
                  </a:lnTo>
                  <a:lnTo>
                    <a:pt x="1672" y="688"/>
                  </a:lnTo>
                  <a:lnTo>
                    <a:pt x="2470" y="10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59160" y="3548160"/>
              <a:ext cx="1200240" cy="266760"/>
            </a:xfrm>
            <a:custGeom>
              <a:avLst/>
              <a:gdLst/>
              <a:ahLst/>
              <a:rect l="l" t="t" r="r" b="b"/>
              <a:pathLst>
                <a:path w="1512" h="336">
                  <a:moveTo>
                    <a:pt x="95" y="336"/>
                  </a:moveTo>
                  <a:lnTo>
                    <a:pt x="65" y="309"/>
                  </a:lnTo>
                  <a:lnTo>
                    <a:pt x="0" y="291"/>
                  </a:lnTo>
                  <a:lnTo>
                    <a:pt x="121" y="261"/>
                  </a:lnTo>
                  <a:lnTo>
                    <a:pt x="226" y="193"/>
                  </a:lnTo>
                  <a:lnTo>
                    <a:pt x="265" y="193"/>
                  </a:lnTo>
                  <a:lnTo>
                    <a:pt x="281" y="205"/>
                  </a:lnTo>
                  <a:lnTo>
                    <a:pt x="660" y="155"/>
                  </a:lnTo>
                  <a:lnTo>
                    <a:pt x="984" y="103"/>
                  </a:lnTo>
                  <a:lnTo>
                    <a:pt x="1145" y="60"/>
                  </a:lnTo>
                  <a:lnTo>
                    <a:pt x="1485" y="0"/>
                  </a:lnTo>
                  <a:lnTo>
                    <a:pt x="1485" y="20"/>
                  </a:lnTo>
                  <a:lnTo>
                    <a:pt x="1512" y="96"/>
                  </a:lnTo>
                  <a:lnTo>
                    <a:pt x="1473" y="64"/>
                  </a:lnTo>
                  <a:lnTo>
                    <a:pt x="1409" y="51"/>
                  </a:lnTo>
                  <a:lnTo>
                    <a:pt x="1343" y="64"/>
                  </a:lnTo>
                  <a:lnTo>
                    <a:pt x="1300" y="74"/>
                  </a:lnTo>
                  <a:lnTo>
                    <a:pt x="1288" y="123"/>
                  </a:lnTo>
                  <a:lnTo>
                    <a:pt x="1150" y="147"/>
                  </a:lnTo>
                  <a:lnTo>
                    <a:pt x="1110" y="127"/>
                  </a:lnTo>
                  <a:lnTo>
                    <a:pt x="1066" y="123"/>
                  </a:lnTo>
                  <a:lnTo>
                    <a:pt x="1007" y="123"/>
                  </a:lnTo>
                  <a:lnTo>
                    <a:pt x="960" y="135"/>
                  </a:lnTo>
                  <a:lnTo>
                    <a:pt x="923" y="151"/>
                  </a:lnTo>
                  <a:lnTo>
                    <a:pt x="904" y="166"/>
                  </a:lnTo>
                  <a:lnTo>
                    <a:pt x="893" y="197"/>
                  </a:lnTo>
                  <a:lnTo>
                    <a:pt x="791" y="214"/>
                  </a:lnTo>
                  <a:lnTo>
                    <a:pt x="743" y="197"/>
                  </a:lnTo>
                  <a:lnTo>
                    <a:pt x="676" y="197"/>
                  </a:lnTo>
                  <a:lnTo>
                    <a:pt x="608" y="201"/>
                  </a:lnTo>
                  <a:lnTo>
                    <a:pt x="573" y="214"/>
                  </a:lnTo>
                  <a:lnTo>
                    <a:pt x="558" y="222"/>
                  </a:lnTo>
                  <a:lnTo>
                    <a:pt x="553" y="254"/>
                  </a:lnTo>
                  <a:lnTo>
                    <a:pt x="415" y="270"/>
                  </a:lnTo>
                  <a:lnTo>
                    <a:pt x="396" y="258"/>
                  </a:lnTo>
                  <a:lnTo>
                    <a:pt x="356" y="254"/>
                  </a:lnTo>
                  <a:lnTo>
                    <a:pt x="319" y="251"/>
                  </a:lnTo>
                  <a:lnTo>
                    <a:pt x="276" y="255"/>
                  </a:lnTo>
                  <a:lnTo>
                    <a:pt x="241" y="265"/>
                  </a:lnTo>
                  <a:lnTo>
                    <a:pt x="211" y="284"/>
                  </a:lnTo>
                  <a:lnTo>
                    <a:pt x="199" y="313"/>
                  </a:lnTo>
                  <a:lnTo>
                    <a:pt x="95" y="33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3208320" y="3833640"/>
              <a:ext cx="684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211640" y="3817800"/>
              <a:ext cx="50760" cy="173160"/>
            </a:xfrm>
            <a:custGeom>
              <a:avLst/>
              <a:gdLst/>
              <a:ahLst/>
              <a:rect l="l" t="t" r="r" b="b"/>
              <a:pathLst>
                <a:path w="63" h="219">
                  <a:moveTo>
                    <a:pt x="54" y="0"/>
                  </a:moveTo>
                  <a:lnTo>
                    <a:pt x="50" y="50"/>
                  </a:lnTo>
                  <a:lnTo>
                    <a:pt x="63" y="142"/>
                  </a:lnTo>
                  <a:lnTo>
                    <a:pt x="50" y="219"/>
                  </a:lnTo>
                  <a:lnTo>
                    <a:pt x="0" y="130"/>
                  </a:lnTo>
                  <a:lnTo>
                    <a:pt x="0" y="66"/>
                  </a:lnTo>
                  <a:lnTo>
                    <a:pt x="5" y="38"/>
                  </a:lnTo>
                  <a:lnTo>
                    <a:pt x="17" y="1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878280" y="4041720"/>
              <a:ext cx="101520" cy="392040"/>
            </a:xfrm>
            <a:custGeom>
              <a:avLst/>
              <a:gdLst/>
              <a:ahLst/>
              <a:rect l="l" t="t" r="r" b="b"/>
              <a:pathLst>
                <a:path w="129" h="493">
                  <a:moveTo>
                    <a:pt x="125" y="2"/>
                  </a:moveTo>
                  <a:lnTo>
                    <a:pt x="129" y="23"/>
                  </a:lnTo>
                  <a:lnTo>
                    <a:pt x="129" y="54"/>
                  </a:lnTo>
                  <a:lnTo>
                    <a:pt x="129" y="100"/>
                  </a:lnTo>
                  <a:lnTo>
                    <a:pt x="129" y="123"/>
                  </a:lnTo>
                  <a:lnTo>
                    <a:pt x="122" y="171"/>
                  </a:lnTo>
                  <a:lnTo>
                    <a:pt x="118" y="189"/>
                  </a:lnTo>
                  <a:lnTo>
                    <a:pt x="114" y="212"/>
                  </a:lnTo>
                  <a:lnTo>
                    <a:pt x="118" y="248"/>
                  </a:lnTo>
                  <a:lnTo>
                    <a:pt x="122" y="291"/>
                  </a:lnTo>
                  <a:lnTo>
                    <a:pt x="126" y="310"/>
                  </a:lnTo>
                  <a:lnTo>
                    <a:pt x="129" y="333"/>
                  </a:lnTo>
                  <a:lnTo>
                    <a:pt x="129" y="348"/>
                  </a:lnTo>
                  <a:lnTo>
                    <a:pt x="129" y="377"/>
                  </a:lnTo>
                  <a:lnTo>
                    <a:pt x="129" y="421"/>
                  </a:lnTo>
                  <a:lnTo>
                    <a:pt x="125" y="452"/>
                  </a:lnTo>
                  <a:lnTo>
                    <a:pt x="122" y="470"/>
                  </a:lnTo>
                  <a:lnTo>
                    <a:pt x="115" y="485"/>
                  </a:lnTo>
                  <a:lnTo>
                    <a:pt x="108" y="490"/>
                  </a:lnTo>
                  <a:lnTo>
                    <a:pt x="92" y="493"/>
                  </a:lnTo>
                  <a:lnTo>
                    <a:pt x="76" y="490"/>
                  </a:lnTo>
                  <a:lnTo>
                    <a:pt x="56" y="483"/>
                  </a:lnTo>
                  <a:lnTo>
                    <a:pt x="37" y="476"/>
                  </a:lnTo>
                  <a:lnTo>
                    <a:pt x="25" y="466"/>
                  </a:lnTo>
                  <a:lnTo>
                    <a:pt x="12" y="458"/>
                  </a:lnTo>
                  <a:lnTo>
                    <a:pt x="10" y="449"/>
                  </a:lnTo>
                  <a:lnTo>
                    <a:pt x="6" y="432"/>
                  </a:lnTo>
                  <a:lnTo>
                    <a:pt x="0" y="406"/>
                  </a:lnTo>
                  <a:lnTo>
                    <a:pt x="0" y="387"/>
                  </a:lnTo>
                  <a:lnTo>
                    <a:pt x="0" y="362"/>
                  </a:lnTo>
                  <a:lnTo>
                    <a:pt x="3" y="309"/>
                  </a:lnTo>
                  <a:lnTo>
                    <a:pt x="6" y="274"/>
                  </a:lnTo>
                  <a:lnTo>
                    <a:pt x="7" y="237"/>
                  </a:lnTo>
                  <a:lnTo>
                    <a:pt x="11" y="209"/>
                  </a:lnTo>
                  <a:lnTo>
                    <a:pt x="18" y="190"/>
                  </a:lnTo>
                  <a:lnTo>
                    <a:pt x="23" y="165"/>
                  </a:lnTo>
                  <a:lnTo>
                    <a:pt x="25" y="135"/>
                  </a:lnTo>
                  <a:lnTo>
                    <a:pt x="29" y="102"/>
                  </a:lnTo>
                  <a:lnTo>
                    <a:pt x="30" y="83"/>
                  </a:lnTo>
                  <a:lnTo>
                    <a:pt x="34" y="66"/>
                  </a:lnTo>
                  <a:lnTo>
                    <a:pt x="42" y="55"/>
                  </a:lnTo>
                  <a:lnTo>
                    <a:pt x="54" y="36"/>
                  </a:lnTo>
                  <a:lnTo>
                    <a:pt x="62" y="27"/>
                  </a:lnTo>
                  <a:lnTo>
                    <a:pt x="75" y="19"/>
                  </a:lnTo>
                  <a:lnTo>
                    <a:pt x="85" y="12"/>
                  </a:lnTo>
                  <a:lnTo>
                    <a:pt x="99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529160" y="3538440"/>
              <a:ext cx="1628640" cy="563760"/>
            </a:xfrm>
            <a:custGeom>
              <a:avLst/>
              <a:gdLst/>
              <a:ahLst/>
              <a:rect l="l" t="t" r="r" b="b"/>
              <a:pathLst>
                <a:path w="2052" h="710">
                  <a:moveTo>
                    <a:pt x="0" y="0"/>
                  </a:moveTo>
                  <a:lnTo>
                    <a:pt x="2021" y="650"/>
                  </a:lnTo>
                  <a:lnTo>
                    <a:pt x="2048" y="650"/>
                  </a:lnTo>
                  <a:lnTo>
                    <a:pt x="2052" y="694"/>
                  </a:lnTo>
                  <a:lnTo>
                    <a:pt x="2031" y="710"/>
                  </a:lnTo>
                  <a:lnTo>
                    <a:pt x="1996" y="690"/>
                  </a:lnTo>
                  <a:lnTo>
                    <a:pt x="1721" y="613"/>
                  </a:lnTo>
                  <a:lnTo>
                    <a:pt x="1629" y="578"/>
                  </a:lnTo>
                  <a:lnTo>
                    <a:pt x="1576" y="562"/>
                  </a:lnTo>
                  <a:lnTo>
                    <a:pt x="1505" y="538"/>
                  </a:lnTo>
                  <a:lnTo>
                    <a:pt x="1425" y="513"/>
                  </a:lnTo>
                  <a:lnTo>
                    <a:pt x="1384" y="498"/>
                  </a:lnTo>
                  <a:lnTo>
                    <a:pt x="1341" y="498"/>
                  </a:lnTo>
                  <a:lnTo>
                    <a:pt x="1245" y="450"/>
                  </a:lnTo>
                  <a:lnTo>
                    <a:pt x="834" y="325"/>
                  </a:lnTo>
                  <a:lnTo>
                    <a:pt x="774" y="325"/>
                  </a:lnTo>
                  <a:lnTo>
                    <a:pt x="714" y="289"/>
                  </a:lnTo>
                  <a:lnTo>
                    <a:pt x="582" y="269"/>
                  </a:lnTo>
                  <a:lnTo>
                    <a:pt x="35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527720" y="3529080"/>
              <a:ext cx="1608120" cy="536400"/>
            </a:xfrm>
            <a:custGeom>
              <a:avLst/>
              <a:gdLst/>
              <a:ahLst/>
              <a:rect l="l" t="t" r="r" b="b"/>
              <a:pathLst>
                <a:path w="2026" h="675">
                  <a:moveTo>
                    <a:pt x="2024" y="648"/>
                  </a:moveTo>
                  <a:lnTo>
                    <a:pt x="2026" y="649"/>
                  </a:lnTo>
                  <a:lnTo>
                    <a:pt x="7" y="0"/>
                  </a:lnTo>
                  <a:lnTo>
                    <a:pt x="0" y="24"/>
                  </a:lnTo>
                  <a:lnTo>
                    <a:pt x="2020" y="674"/>
                  </a:lnTo>
                  <a:lnTo>
                    <a:pt x="2024" y="675"/>
                  </a:lnTo>
                  <a:lnTo>
                    <a:pt x="2020" y="674"/>
                  </a:lnTo>
                  <a:lnTo>
                    <a:pt x="2021" y="675"/>
                  </a:lnTo>
                  <a:lnTo>
                    <a:pt x="2024" y="675"/>
                  </a:lnTo>
                  <a:lnTo>
                    <a:pt x="2024" y="64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134040" y="4043520"/>
              <a:ext cx="31680" cy="2196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12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14" y="15"/>
                  </a:lnTo>
                  <a:lnTo>
                    <a:pt x="40" y="12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145200" y="4052880"/>
              <a:ext cx="23760" cy="4428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25" y="56"/>
                  </a:moveTo>
                  <a:lnTo>
                    <a:pt x="30" y="45"/>
                  </a:lnTo>
                  <a:lnTo>
                    <a:pt x="26" y="0"/>
                  </a:lnTo>
                  <a:lnTo>
                    <a:pt x="0" y="3"/>
                  </a:lnTo>
                  <a:lnTo>
                    <a:pt x="3" y="46"/>
                  </a:lnTo>
                  <a:lnTo>
                    <a:pt x="9" y="35"/>
                  </a:lnTo>
                  <a:lnTo>
                    <a:pt x="25" y="56"/>
                  </a:lnTo>
                  <a:lnTo>
                    <a:pt x="30" y="52"/>
                  </a:lnTo>
                  <a:lnTo>
                    <a:pt x="30" y="45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135840" y="4081320"/>
              <a:ext cx="28440" cy="3348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" y="38"/>
                  </a:moveTo>
                  <a:lnTo>
                    <a:pt x="16" y="37"/>
                  </a:lnTo>
                  <a:lnTo>
                    <a:pt x="37" y="21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5" y="17"/>
                  </a:lnTo>
                  <a:lnTo>
                    <a:pt x="3" y="38"/>
                  </a:lnTo>
                  <a:lnTo>
                    <a:pt x="10" y="44"/>
                  </a:lnTo>
                  <a:lnTo>
                    <a:pt x="16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108840" y="4076640"/>
              <a:ext cx="3960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3" y="24"/>
                  </a:moveTo>
                  <a:lnTo>
                    <a:pt x="0" y="23"/>
                  </a:lnTo>
                  <a:lnTo>
                    <a:pt x="37" y="43"/>
                  </a:lnTo>
                  <a:lnTo>
                    <a:pt x="49" y="2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892840" y="4014720"/>
              <a:ext cx="223920" cy="81000"/>
            </a:xfrm>
            <a:custGeom>
              <a:avLst/>
              <a:gdLst/>
              <a:ahLst/>
              <a:rect l="l" t="t" r="r" b="b"/>
              <a:pathLst>
                <a:path w="282" h="101">
                  <a:moveTo>
                    <a:pt x="0" y="24"/>
                  </a:moveTo>
                  <a:lnTo>
                    <a:pt x="1" y="24"/>
                  </a:lnTo>
                  <a:lnTo>
                    <a:pt x="275" y="101"/>
                  </a:lnTo>
                  <a:lnTo>
                    <a:pt x="282" y="77"/>
                  </a:lnTo>
                  <a:lnTo>
                    <a:pt x="8" y="0"/>
                  </a:lnTo>
                  <a:lnTo>
                    <a:pt x="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818320" y="3986280"/>
              <a:ext cx="82440" cy="4932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2" y="25"/>
                  </a:moveTo>
                  <a:lnTo>
                    <a:pt x="0" y="25"/>
                  </a:lnTo>
                  <a:lnTo>
                    <a:pt x="94" y="60"/>
                  </a:lnTo>
                  <a:lnTo>
                    <a:pt x="103" y="36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778360" y="3975120"/>
              <a:ext cx="47880" cy="3168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24"/>
                  </a:moveTo>
                  <a:lnTo>
                    <a:pt x="0" y="24"/>
                  </a:lnTo>
                  <a:lnTo>
                    <a:pt x="53" y="40"/>
                  </a:lnTo>
                  <a:lnTo>
                    <a:pt x="61" y="15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1480" y="3956040"/>
              <a:ext cx="63360" cy="381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25"/>
                  </a:moveTo>
                  <a:lnTo>
                    <a:pt x="0" y="25"/>
                  </a:lnTo>
                  <a:lnTo>
                    <a:pt x="72" y="49"/>
                  </a:lnTo>
                  <a:lnTo>
                    <a:pt x="80" y="25"/>
                  </a:lnTo>
                  <a:lnTo>
                    <a:pt x="9" y="0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656320" y="3936960"/>
              <a:ext cx="69840" cy="381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24"/>
                  </a:moveTo>
                  <a:lnTo>
                    <a:pt x="2" y="24"/>
                  </a:lnTo>
                  <a:lnTo>
                    <a:pt x="81" y="49"/>
                  </a:lnTo>
                  <a:lnTo>
                    <a:pt x="88" y="24"/>
                  </a:lnTo>
                  <a:lnTo>
                    <a:pt x="9" y="0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626080" y="3922560"/>
              <a:ext cx="38160" cy="3348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" y="25"/>
                  </a:moveTo>
                  <a:lnTo>
                    <a:pt x="0" y="25"/>
                  </a:lnTo>
                  <a:lnTo>
                    <a:pt x="39" y="40"/>
                  </a:lnTo>
                  <a:lnTo>
                    <a:pt x="49" y="16"/>
                  </a:lnTo>
                  <a:lnTo>
                    <a:pt x="10" y="1"/>
                  </a:lnTo>
                  <a:lnTo>
                    <a:pt x="4" y="0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589720" y="3922560"/>
              <a:ext cx="39600" cy="208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4"/>
                  </a:moveTo>
                  <a:lnTo>
                    <a:pt x="5" y="25"/>
                  </a:lnTo>
                  <a:lnTo>
                    <a:pt x="48" y="25"/>
                  </a:lnTo>
                  <a:lnTo>
                    <a:pt x="48" y="0"/>
                  </a:lnTo>
                  <a:lnTo>
                    <a:pt x="5" y="0"/>
                  </a:lnTo>
                  <a:lnTo>
                    <a:pt x="10" y="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513400" y="3886200"/>
              <a:ext cx="85680" cy="5724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3" y="24"/>
                  </a:moveTo>
                  <a:lnTo>
                    <a:pt x="0" y="23"/>
                  </a:lnTo>
                  <a:lnTo>
                    <a:pt x="98" y="71"/>
                  </a:lnTo>
                  <a:lnTo>
                    <a:pt x="108" y="5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189400" y="3786120"/>
              <a:ext cx="330480" cy="119160"/>
            </a:xfrm>
            <a:custGeom>
              <a:avLst/>
              <a:gdLst/>
              <a:ahLst/>
              <a:rect l="l" t="t" r="r" b="b"/>
              <a:pathLst>
                <a:path w="418" h="150">
                  <a:moveTo>
                    <a:pt x="4" y="26"/>
                  </a:moveTo>
                  <a:lnTo>
                    <a:pt x="0" y="26"/>
                  </a:lnTo>
                  <a:lnTo>
                    <a:pt x="411" y="150"/>
                  </a:lnTo>
                  <a:lnTo>
                    <a:pt x="418" y="126"/>
                  </a:lnTo>
                  <a:lnTo>
                    <a:pt x="7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138640" y="3786120"/>
              <a:ext cx="54000" cy="2088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24"/>
                  </a:moveTo>
                  <a:lnTo>
                    <a:pt x="7" y="26"/>
                  </a:lnTo>
                  <a:lnTo>
                    <a:pt x="67" y="26"/>
                  </a:lnTo>
                  <a:lnTo>
                    <a:pt x="67" y="0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091120" y="3757680"/>
              <a:ext cx="58680" cy="47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4" y="26"/>
                  </a:moveTo>
                  <a:lnTo>
                    <a:pt x="0" y="25"/>
                  </a:lnTo>
                  <a:lnTo>
                    <a:pt x="59" y="61"/>
                  </a:lnTo>
                  <a:lnTo>
                    <a:pt x="72" y="40"/>
                  </a:lnTo>
                  <a:lnTo>
                    <a:pt x="13" y="3"/>
                  </a:lnTo>
                  <a:lnTo>
                    <a:pt x="8" y="0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989600" y="3741840"/>
              <a:ext cx="108000" cy="3636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0" y="24"/>
                  </a:moveTo>
                  <a:lnTo>
                    <a:pt x="2" y="24"/>
                  </a:lnTo>
                  <a:lnTo>
                    <a:pt x="133" y="44"/>
                  </a:lnTo>
                  <a:lnTo>
                    <a:pt x="137" y="18"/>
                  </a:lnTo>
                  <a:lnTo>
                    <a:pt x="6" y="0"/>
                  </a:lnTo>
                  <a:lnTo>
                    <a:pt x="7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48240" y="3592440"/>
              <a:ext cx="446040" cy="168480"/>
            </a:xfrm>
            <a:custGeom>
              <a:avLst/>
              <a:gdLst/>
              <a:ahLst/>
              <a:rect l="l" t="t" r="r" b="b"/>
              <a:pathLst>
                <a:path w="563" h="212">
                  <a:moveTo>
                    <a:pt x="0" y="16"/>
                  </a:moveTo>
                  <a:lnTo>
                    <a:pt x="8" y="24"/>
                  </a:lnTo>
                  <a:lnTo>
                    <a:pt x="556" y="212"/>
                  </a:lnTo>
                  <a:lnTo>
                    <a:pt x="563" y="188"/>
                  </a:lnTo>
                  <a:lnTo>
                    <a:pt x="16" y="0"/>
                  </a:lnTo>
                  <a:lnTo>
                    <a:pt x="24" y="7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8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511520" y="3522600"/>
              <a:ext cx="55800" cy="8424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27" y="8"/>
                  </a:moveTo>
                  <a:lnTo>
                    <a:pt x="12" y="25"/>
                  </a:lnTo>
                  <a:lnTo>
                    <a:pt x="46" y="105"/>
                  </a:lnTo>
                  <a:lnTo>
                    <a:pt x="70" y="96"/>
                  </a:lnTo>
                  <a:lnTo>
                    <a:pt x="35" y="16"/>
                  </a:lnTo>
                  <a:lnTo>
                    <a:pt x="20" y="32"/>
                  </a:lnTo>
                  <a:lnTo>
                    <a:pt x="27" y="8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967280" y="3517920"/>
              <a:ext cx="136440" cy="82440"/>
            </a:xfrm>
            <a:custGeom>
              <a:avLst/>
              <a:gdLst/>
              <a:ahLst/>
              <a:rect l="l" t="t" r="r" b="b"/>
              <a:pathLst>
                <a:path w="171" h="104">
                  <a:moveTo>
                    <a:pt x="34" y="77"/>
                  </a:moveTo>
                  <a:lnTo>
                    <a:pt x="0" y="0"/>
                  </a:lnTo>
                  <a:lnTo>
                    <a:pt x="36" y="29"/>
                  </a:lnTo>
                  <a:lnTo>
                    <a:pt x="171" y="19"/>
                  </a:lnTo>
                  <a:lnTo>
                    <a:pt x="134" y="76"/>
                  </a:lnTo>
                  <a:lnTo>
                    <a:pt x="129" y="104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195800" y="3068640"/>
              <a:ext cx="76320" cy="712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9" y="81"/>
                  </a:moveTo>
                  <a:lnTo>
                    <a:pt x="97" y="72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80" y="92"/>
                  </a:lnTo>
                  <a:lnTo>
                    <a:pt x="8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192560" y="3057480"/>
              <a:ext cx="22320" cy="20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4" y="22"/>
                  </a:moveTo>
                  <a:lnTo>
                    <a:pt x="26" y="24"/>
                  </a:lnTo>
                  <a:lnTo>
                    <a:pt x="30" y="5"/>
                  </a:lnTo>
                  <a:lnTo>
                    <a:pt x="4" y="0"/>
                  </a:lnTo>
                  <a:lnTo>
                    <a:pt x="0" y="2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205160" y="3049560"/>
              <a:ext cx="317520" cy="33480"/>
            </a:xfrm>
            <a:custGeom>
              <a:avLst/>
              <a:gdLst/>
              <a:ahLst/>
              <a:rect l="l" t="t" r="r" b="b"/>
              <a:pathLst>
                <a:path w="402" h="42">
                  <a:moveTo>
                    <a:pt x="0" y="14"/>
                  </a:moveTo>
                  <a:lnTo>
                    <a:pt x="0" y="27"/>
                  </a:lnTo>
                  <a:lnTo>
                    <a:pt x="402" y="42"/>
                  </a:lnTo>
                  <a:lnTo>
                    <a:pt x="402" y="16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 flipV="1">
              <a:off x="4522320" y="30729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949560" y="306540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3" y="0"/>
                  </a:moveTo>
                  <a:lnTo>
                    <a:pt x="0" y="0"/>
                  </a:lnTo>
                  <a:lnTo>
                    <a:pt x="12" y="46"/>
                  </a:lnTo>
                  <a:lnTo>
                    <a:pt x="19" y="4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949560" y="3062160"/>
              <a:ext cx="5040" cy="3240"/>
            </a:xfrm>
            <a:prstGeom prst="rect">
              <a:avLst/>
            </a:prstGeom>
            <a:solidFill>
              <a:srgbClr val="ab02ab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2981160" y="3505320"/>
              <a:ext cx="401760" cy="125280"/>
            </a:xfrm>
            <a:custGeom>
              <a:avLst/>
              <a:gdLst/>
              <a:ahLst/>
              <a:rect l="l" t="t" r="r" b="b"/>
              <a:pathLst>
                <a:path w="505" h="158">
                  <a:moveTo>
                    <a:pt x="12" y="151"/>
                  </a:moveTo>
                  <a:lnTo>
                    <a:pt x="11" y="158"/>
                  </a:lnTo>
                  <a:lnTo>
                    <a:pt x="505" y="7"/>
                  </a:lnTo>
                  <a:lnTo>
                    <a:pt x="504" y="0"/>
                  </a:lnTo>
                  <a:lnTo>
                    <a:pt x="9" y="151"/>
                  </a:lnTo>
                  <a:lnTo>
                    <a:pt x="8" y="158"/>
                  </a:lnTo>
                  <a:lnTo>
                    <a:pt x="9" y="151"/>
                  </a:lnTo>
                  <a:lnTo>
                    <a:pt x="0" y="155"/>
                  </a:lnTo>
                  <a:lnTo>
                    <a:pt x="8" y="158"/>
                  </a:lnTo>
                  <a:lnTo>
                    <a:pt x="12" y="151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987640" y="3625920"/>
              <a:ext cx="74520" cy="30240"/>
            </a:xfrm>
            <a:custGeom>
              <a:avLst/>
              <a:gdLst/>
              <a:ahLst/>
              <a:rect l="l" t="t" r="r" b="b"/>
              <a:pathLst>
                <a:path w="93" h="38">
                  <a:moveTo>
                    <a:pt x="93" y="31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92" y="38"/>
                  </a:lnTo>
                  <a:lnTo>
                    <a:pt x="93" y="38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062160" y="3587760"/>
              <a:ext cx="227160" cy="68400"/>
            </a:xfrm>
            <a:custGeom>
              <a:avLst/>
              <a:gdLst/>
              <a:ahLst/>
              <a:rect l="l" t="t" r="r" b="b"/>
              <a:pathLst>
                <a:path w="287" h="85">
                  <a:moveTo>
                    <a:pt x="284" y="0"/>
                  </a:moveTo>
                  <a:lnTo>
                    <a:pt x="0" y="78"/>
                  </a:lnTo>
                  <a:lnTo>
                    <a:pt x="0" y="85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111480" y="3622680"/>
              <a:ext cx="222120" cy="98280"/>
            </a:xfrm>
            <a:custGeom>
              <a:avLst/>
              <a:gdLst/>
              <a:ahLst/>
              <a:rect l="l" t="t" r="r" b="b"/>
              <a:pathLst>
                <a:path w="281" h="125">
                  <a:moveTo>
                    <a:pt x="279" y="0"/>
                  </a:moveTo>
                  <a:lnTo>
                    <a:pt x="281" y="53"/>
                  </a:lnTo>
                  <a:lnTo>
                    <a:pt x="0" y="12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402000" y="3565440"/>
              <a:ext cx="203040" cy="8280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256" y="0"/>
                  </a:moveTo>
                  <a:lnTo>
                    <a:pt x="245" y="44"/>
                  </a:lnTo>
                  <a:lnTo>
                    <a:pt x="0" y="1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260960" y="3643200"/>
              <a:ext cx="112680" cy="101880"/>
            </a:xfrm>
            <a:custGeom>
              <a:avLst/>
              <a:gdLst/>
              <a:ahLst/>
              <a:rect l="l" t="t" r="r" b="b"/>
              <a:pathLst>
                <a:path w="143" h="129">
                  <a:moveTo>
                    <a:pt x="0" y="129"/>
                  </a:moveTo>
                  <a:lnTo>
                    <a:pt x="0" y="31"/>
                  </a:lnTo>
                  <a:lnTo>
                    <a:pt x="143" y="0"/>
                  </a:lnTo>
                  <a:lnTo>
                    <a:pt x="102" y="92"/>
                  </a:lnTo>
                  <a:lnTo>
                    <a:pt x="10" y="92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513320" y="3073320"/>
              <a:ext cx="22320" cy="82800"/>
            </a:xfrm>
            <a:custGeom>
              <a:avLst/>
              <a:gdLst/>
              <a:ahLst/>
              <a:rect l="l" t="t" r="r" b="b"/>
              <a:pathLst>
                <a:path w="29" h="104">
                  <a:moveTo>
                    <a:pt x="17" y="104"/>
                  </a:moveTo>
                  <a:lnTo>
                    <a:pt x="29" y="10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3" y="104"/>
                  </a:lnTo>
                  <a:lnTo>
                    <a:pt x="1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986200" y="3370320"/>
              <a:ext cx="663480" cy="258840"/>
            </a:xfrm>
            <a:custGeom>
              <a:avLst/>
              <a:gdLst/>
              <a:ahLst/>
              <a:rect l="l" t="t" r="r" b="b"/>
              <a:pathLst>
                <a:path w="835" h="325">
                  <a:moveTo>
                    <a:pt x="518" y="213"/>
                  </a:moveTo>
                  <a:lnTo>
                    <a:pt x="495" y="169"/>
                  </a:lnTo>
                  <a:lnTo>
                    <a:pt x="0" y="325"/>
                  </a:lnTo>
                  <a:lnTo>
                    <a:pt x="835" y="69"/>
                  </a:lnTo>
                  <a:lnTo>
                    <a:pt x="8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2989440" y="3065400"/>
              <a:ext cx="1206360" cy="587520"/>
            </a:xfrm>
            <a:custGeom>
              <a:avLst/>
              <a:gdLst/>
              <a:ahLst/>
              <a:rect l="l" t="t" r="r" b="b"/>
              <a:pathLst>
                <a:path w="1520" h="741">
                  <a:moveTo>
                    <a:pt x="1227" y="45"/>
                  </a:moveTo>
                  <a:lnTo>
                    <a:pt x="1214" y="0"/>
                  </a:lnTo>
                  <a:lnTo>
                    <a:pt x="1227" y="45"/>
                  </a:lnTo>
                  <a:lnTo>
                    <a:pt x="1490" y="174"/>
                  </a:lnTo>
                  <a:lnTo>
                    <a:pt x="1438" y="178"/>
                  </a:lnTo>
                  <a:lnTo>
                    <a:pt x="1405" y="153"/>
                  </a:lnTo>
                  <a:lnTo>
                    <a:pt x="1323" y="142"/>
                  </a:lnTo>
                  <a:lnTo>
                    <a:pt x="1222" y="70"/>
                  </a:lnTo>
                  <a:lnTo>
                    <a:pt x="1034" y="64"/>
                  </a:lnTo>
                  <a:lnTo>
                    <a:pt x="1081" y="140"/>
                  </a:lnTo>
                  <a:lnTo>
                    <a:pt x="1138" y="158"/>
                  </a:lnTo>
                  <a:lnTo>
                    <a:pt x="1184" y="157"/>
                  </a:lnTo>
                  <a:lnTo>
                    <a:pt x="1222" y="147"/>
                  </a:lnTo>
                  <a:lnTo>
                    <a:pt x="1273" y="154"/>
                  </a:lnTo>
                  <a:lnTo>
                    <a:pt x="1319" y="173"/>
                  </a:lnTo>
                  <a:lnTo>
                    <a:pt x="1422" y="250"/>
                  </a:lnTo>
                  <a:lnTo>
                    <a:pt x="1449" y="263"/>
                  </a:lnTo>
                  <a:lnTo>
                    <a:pt x="1442" y="292"/>
                  </a:lnTo>
                  <a:lnTo>
                    <a:pt x="1520" y="292"/>
                  </a:lnTo>
                  <a:lnTo>
                    <a:pt x="1505" y="261"/>
                  </a:lnTo>
                  <a:lnTo>
                    <a:pt x="1490" y="174"/>
                  </a:lnTo>
                  <a:lnTo>
                    <a:pt x="1227" y="45"/>
                  </a:lnTo>
                  <a:lnTo>
                    <a:pt x="918" y="639"/>
                  </a:lnTo>
                  <a:lnTo>
                    <a:pt x="1245" y="554"/>
                  </a:lnTo>
                  <a:lnTo>
                    <a:pt x="918" y="639"/>
                  </a:lnTo>
                  <a:lnTo>
                    <a:pt x="1227" y="45"/>
                  </a:lnTo>
                  <a:lnTo>
                    <a:pt x="1246" y="552"/>
                  </a:lnTo>
                  <a:lnTo>
                    <a:pt x="1246" y="494"/>
                  </a:lnTo>
                  <a:lnTo>
                    <a:pt x="1246" y="552"/>
                  </a:lnTo>
                  <a:lnTo>
                    <a:pt x="1227" y="45"/>
                  </a:lnTo>
                  <a:lnTo>
                    <a:pt x="833" y="452"/>
                  </a:lnTo>
                  <a:lnTo>
                    <a:pt x="495" y="558"/>
                  </a:lnTo>
                  <a:lnTo>
                    <a:pt x="0" y="710"/>
                  </a:lnTo>
                  <a:lnTo>
                    <a:pt x="92" y="741"/>
                  </a:lnTo>
                  <a:lnTo>
                    <a:pt x="377" y="662"/>
                  </a:lnTo>
                  <a:lnTo>
                    <a:pt x="480" y="601"/>
                  </a:lnTo>
                  <a:lnTo>
                    <a:pt x="575" y="609"/>
                  </a:lnTo>
                  <a:lnTo>
                    <a:pt x="831" y="546"/>
                  </a:lnTo>
                  <a:lnTo>
                    <a:pt x="938" y="505"/>
                  </a:lnTo>
                  <a:lnTo>
                    <a:pt x="924" y="470"/>
                  </a:lnTo>
                  <a:lnTo>
                    <a:pt x="941" y="444"/>
                  </a:lnTo>
                  <a:lnTo>
                    <a:pt x="1043" y="485"/>
                  </a:lnTo>
                  <a:lnTo>
                    <a:pt x="1228" y="448"/>
                  </a:lnTo>
                  <a:lnTo>
                    <a:pt x="1412" y="397"/>
                  </a:lnTo>
                  <a:lnTo>
                    <a:pt x="1439" y="338"/>
                  </a:lnTo>
                  <a:lnTo>
                    <a:pt x="1450" y="284"/>
                  </a:lnTo>
                  <a:lnTo>
                    <a:pt x="1424" y="247"/>
                  </a:lnTo>
                  <a:lnTo>
                    <a:pt x="1001" y="386"/>
                  </a:lnTo>
                  <a:lnTo>
                    <a:pt x="941" y="428"/>
                  </a:lnTo>
                  <a:lnTo>
                    <a:pt x="908" y="408"/>
                  </a:lnTo>
                  <a:lnTo>
                    <a:pt x="865" y="385"/>
                  </a:lnTo>
                  <a:lnTo>
                    <a:pt x="829" y="385"/>
                  </a:lnTo>
                  <a:lnTo>
                    <a:pt x="833" y="452"/>
                  </a:lnTo>
                  <a:lnTo>
                    <a:pt x="1227" y="45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746520" y="3043080"/>
              <a:ext cx="52200" cy="795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20" y="1"/>
                  </a:moveTo>
                  <a:lnTo>
                    <a:pt x="8" y="19"/>
                  </a:lnTo>
                  <a:lnTo>
                    <a:pt x="43" y="100"/>
                  </a:lnTo>
                  <a:lnTo>
                    <a:pt x="66" y="91"/>
                  </a:lnTo>
                  <a:lnTo>
                    <a:pt x="33" y="9"/>
                  </a:lnTo>
                  <a:lnTo>
                    <a:pt x="20" y="27"/>
                  </a:lnTo>
                  <a:lnTo>
                    <a:pt x="20" y="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762360" y="3044880"/>
              <a:ext cx="195120" cy="2844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246" y="11"/>
                  </a:moveTo>
                  <a:lnTo>
                    <a:pt x="241" y="11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40" y="37"/>
                  </a:lnTo>
                  <a:lnTo>
                    <a:pt x="234" y="35"/>
                  </a:lnTo>
                  <a:lnTo>
                    <a:pt x="246" y="11"/>
                  </a:lnTo>
                  <a:lnTo>
                    <a:pt x="244" y="11"/>
                  </a:lnTo>
                  <a:lnTo>
                    <a:pt x="241" y="11"/>
                  </a:lnTo>
                  <a:lnTo>
                    <a:pt x="2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948120" y="305280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0"/>
                  </a:moveTo>
                  <a:lnTo>
                    <a:pt x="28" y="10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960720" y="3060720"/>
              <a:ext cx="238320" cy="133200"/>
            </a:xfrm>
            <a:custGeom>
              <a:avLst/>
              <a:gdLst/>
              <a:ahLst/>
              <a:rect l="l" t="t" r="r" b="b"/>
              <a:pathLst>
                <a:path w="300" h="168">
                  <a:moveTo>
                    <a:pt x="291" y="141"/>
                  </a:moveTo>
                  <a:lnTo>
                    <a:pt x="300" y="14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289" y="166"/>
                  </a:lnTo>
                  <a:lnTo>
                    <a:pt x="298" y="166"/>
                  </a:lnTo>
                  <a:lnTo>
                    <a:pt x="289" y="166"/>
                  </a:lnTo>
                  <a:lnTo>
                    <a:pt x="294" y="168"/>
                  </a:lnTo>
                  <a:lnTo>
                    <a:pt x="298" y="166"/>
                  </a:lnTo>
                  <a:lnTo>
                    <a:pt x="291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192560" y="3141720"/>
              <a:ext cx="106560" cy="50760"/>
            </a:xfrm>
            <a:custGeom>
              <a:avLst/>
              <a:gdLst/>
              <a:ahLst/>
              <a:rect l="l" t="t" r="r" b="b"/>
              <a:pathLst>
                <a:path w="134" h="64">
                  <a:moveTo>
                    <a:pt x="130" y="12"/>
                  </a:moveTo>
                  <a:lnTo>
                    <a:pt x="127" y="0"/>
                  </a:lnTo>
                  <a:lnTo>
                    <a:pt x="0" y="39"/>
                  </a:lnTo>
                  <a:lnTo>
                    <a:pt x="7" y="64"/>
                  </a:lnTo>
                  <a:lnTo>
                    <a:pt x="134" y="26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951360" y="4413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" y="23"/>
                  </a:moveTo>
                  <a:lnTo>
                    <a:pt x="4" y="22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930480" y="4421160"/>
              <a:ext cx="22320" cy="1116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5"/>
                  </a:moveTo>
                  <a:lnTo>
                    <a:pt x="26" y="12"/>
                  </a:lnTo>
                  <a:lnTo>
                    <a:pt x="27" y="5"/>
                  </a:lnTo>
                  <a:lnTo>
                    <a:pt x="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3538440" y="4249800"/>
              <a:ext cx="349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 flipV="1">
              <a:off x="4529160" y="3373560"/>
              <a:ext cx="450720" cy="179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249800" y="3122640"/>
              <a:ext cx="1080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4225680" y="323676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129200" y="3200400"/>
              <a:ext cx="42840" cy="792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0" y="9"/>
                  </a:moveTo>
                  <a:lnTo>
                    <a:pt x="2" y="9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102200" y="3182760"/>
              <a:ext cx="30240" cy="255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2" y="6"/>
                  </a:moveTo>
                  <a:lnTo>
                    <a:pt x="0" y="6"/>
                  </a:lnTo>
                  <a:lnTo>
                    <a:pt x="33" y="32"/>
                  </a:lnTo>
                  <a:lnTo>
                    <a:pt x="37" y="27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037040" y="3174840"/>
              <a:ext cx="66600" cy="12960"/>
            </a:xfrm>
            <a:custGeom>
              <a:avLst/>
              <a:gdLst/>
              <a:ahLst/>
              <a:rect l="l" t="t" r="r" b="b"/>
              <a:pathLst>
                <a:path w="83" h="16">
                  <a:moveTo>
                    <a:pt x="0" y="7"/>
                  </a:moveTo>
                  <a:lnTo>
                    <a:pt x="83" y="16"/>
                  </a:lnTo>
                  <a:lnTo>
                    <a:pt x="83" y="10"/>
                  </a:lnTo>
                  <a:lnTo>
                    <a:pt x="1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957480" y="3117960"/>
              <a:ext cx="82800" cy="6192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0" y="5"/>
                  </a:moveTo>
                  <a:lnTo>
                    <a:pt x="100" y="78"/>
                  </a:lnTo>
                  <a:lnTo>
                    <a:pt x="102" y="7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05200" y="3111480"/>
              <a:ext cx="152280" cy="11160"/>
            </a:xfrm>
            <a:custGeom>
              <a:avLst/>
              <a:gdLst/>
              <a:ahLst/>
              <a:rect l="l" t="t" r="r" b="b"/>
              <a:pathLst>
                <a:path w="194" h="14">
                  <a:moveTo>
                    <a:pt x="7" y="3"/>
                  </a:moveTo>
                  <a:lnTo>
                    <a:pt x="6" y="7"/>
                  </a:lnTo>
                  <a:lnTo>
                    <a:pt x="194" y="14"/>
                  </a:lnTo>
                  <a:lnTo>
                    <a:pt x="194" y="9"/>
                  </a:lnTo>
                  <a:lnTo>
                    <a:pt x="6" y="0"/>
                  </a:lnTo>
                  <a:lnTo>
                    <a:pt x="3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807000" y="3114720"/>
              <a:ext cx="41040" cy="6336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50" y="74"/>
                  </a:moveTo>
                  <a:lnTo>
                    <a:pt x="53" y="77"/>
                  </a:lnTo>
                  <a:lnTo>
                    <a:pt x="4" y="0"/>
                  </a:lnTo>
                  <a:lnTo>
                    <a:pt x="0" y="3"/>
                  </a:lnTo>
                  <a:lnTo>
                    <a:pt x="47" y="80"/>
                  </a:lnTo>
                  <a:lnTo>
                    <a:pt x="49" y="81"/>
                  </a:lnTo>
                  <a:lnTo>
                    <a:pt x="47" y="80"/>
                  </a:lnTo>
                  <a:lnTo>
                    <a:pt x="49" y="81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844800" y="3173400"/>
              <a:ext cx="46080" cy="1908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18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58" y="25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890880" y="3186000"/>
              <a:ext cx="36720" cy="64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4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46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927600" y="3178080"/>
              <a:ext cx="31680" cy="129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0" y="10"/>
                  </a:lnTo>
                  <a:lnTo>
                    <a:pt x="2" y="16"/>
                  </a:lnTo>
                  <a:lnTo>
                    <a:pt x="4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957480" y="3178080"/>
              <a:ext cx="43200" cy="1116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2" y="8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51" y="14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997440" y="3184560"/>
              <a:ext cx="39600" cy="190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48" y="21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6" y="25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116240" y="3262320"/>
              <a:ext cx="24120" cy="144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6"/>
                  </a:moveTo>
                  <a:lnTo>
                    <a:pt x="27" y="12"/>
                  </a:lnTo>
                  <a:lnTo>
                    <a:pt x="1" y="0"/>
                  </a:lnTo>
                  <a:lnTo>
                    <a:pt x="0" y="4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130640" y="3273480"/>
              <a:ext cx="9720" cy="25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3" y="26"/>
                  </a:moveTo>
                  <a:lnTo>
                    <a:pt x="7" y="30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132440" y="3294000"/>
              <a:ext cx="66600" cy="468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75" y="4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81" y="3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1" y="3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181400" y="3270240"/>
              <a:ext cx="15840" cy="27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2"/>
                  </a:moveTo>
                  <a:lnTo>
                    <a:pt x="14" y="34"/>
                  </a:lnTo>
                  <a:lnTo>
                    <a:pt x="20" y="33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168800" y="3200400"/>
              <a:ext cx="17280" cy="7128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2" y="5"/>
                  </a:moveTo>
                  <a:lnTo>
                    <a:pt x="0" y="2"/>
                  </a:lnTo>
                  <a:lnTo>
                    <a:pt x="15" y="89"/>
                  </a:lnTo>
                  <a:lnTo>
                    <a:pt x="21" y="87"/>
                  </a:lnTo>
                  <a:lnTo>
                    <a:pt x="6" y="1"/>
                  </a:lnTo>
                  <a:lnTo>
                    <a:pt x="2" y="0"/>
                  </a:lnTo>
                  <a:lnTo>
                    <a:pt x="6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713040" y="3570120"/>
              <a:ext cx="50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0" y="0"/>
                  </a:lnTo>
                  <a:lnTo>
                    <a:pt x="1" y="6"/>
                  </a:lnTo>
                  <a:lnTo>
                    <a:pt x="5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16280" y="3502080"/>
              <a:ext cx="260280" cy="71280"/>
            </a:xfrm>
            <a:custGeom>
              <a:avLst/>
              <a:gdLst/>
              <a:ahLst/>
              <a:rect l="l" t="t" r="r" b="b"/>
              <a:pathLst>
                <a:path w="328" h="91">
                  <a:moveTo>
                    <a:pt x="327" y="3"/>
                  </a:moveTo>
                  <a:lnTo>
                    <a:pt x="327" y="0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28" y="5"/>
                  </a:lnTo>
                  <a:lnTo>
                    <a:pt x="32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976560" y="350208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976560" y="3503520"/>
              <a:ext cx="3240" cy="1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973680" y="3457440"/>
              <a:ext cx="6120" cy="460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4" y="0"/>
                  </a:moveTo>
                  <a:lnTo>
                    <a:pt x="0" y="0"/>
                  </a:lnTo>
                  <a:lnTo>
                    <a:pt x="3" y="58"/>
                  </a:lnTo>
                  <a:lnTo>
                    <a:pt x="8" y="58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973680" y="3454560"/>
              <a:ext cx="6120" cy="2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648240" y="3421080"/>
              <a:ext cx="46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7"/>
                  </a:moveTo>
                  <a:lnTo>
                    <a:pt x="6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81480" y="3421080"/>
              <a:ext cx="268200" cy="88920"/>
            </a:xfrm>
            <a:custGeom>
              <a:avLst/>
              <a:gdLst/>
              <a:ahLst/>
              <a:rect l="l" t="t" r="r" b="b"/>
              <a:pathLst>
                <a:path w="338" h="114">
                  <a:moveTo>
                    <a:pt x="1" y="114"/>
                  </a:moveTo>
                  <a:lnTo>
                    <a:pt x="338" y="7"/>
                  </a:lnTo>
                  <a:lnTo>
                    <a:pt x="336" y="0"/>
                  </a:lnTo>
                  <a:lnTo>
                    <a:pt x="0" y="107"/>
                  </a:lnTo>
                  <a:lnTo>
                    <a:pt x="1" y="1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286080" y="3540240"/>
              <a:ext cx="85680" cy="5220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4" y="0"/>
                  </a:moveTo>
                  <a:lnTo>
                    <a:pt x="0" y="61"/>
                  </a:lnTo>
                  <a:lnTo>
                    <a:pt x="3" y="67"/>
                  </a:lnTo>
                  <a:lnTo>
                    <a:pt x="107" y="6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8520" y="3540240"/>
              <a:ext cx="76320" cy="111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95" y="8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5" y="15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444840" y="3494160"/>
              <a:ext cx="203400" cy="57240"/>
            </a:xfrm>
            <a:custGeom>
              <a:avLst/>
              <a:gdLst/>
              <a:ahLst/>
              <a:rect l="l" t="t" r="r" b="b"/>
              <a:pathLst>
                <a:path w="256" h="71">
                  <a:moveTo>
                    <a:pt x="255" y="0"/>
                  </a:moveTo>
                  <a:lnTo>
                    <a:pt x="0" y="64"/>
                  </a:lnTo>
                  <a:lnTo>
                    <a:pt x="0" y="71"/>
                  </a:lnTo>
                  <a:lnTo>
                    <a:pt x="256" y="6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646440" y="3463920"/>
              <a:ext cx="88920" cy="36360"/>
            </a:xfrm>
            <a:custGeom>
              <a:avLst/>
              <a:gdLst/>
              <a:ahLst/>
              <a:rect l="l" t="t" r="r" b="b"/>
              <a:pathLst>
                <a:path w="112" h="46">
                  <a:moveTo>
                    <a:pt x="105" y="4"/>
                  </a:moveTo>
                  <a:lnTo>
                    <a:pt x="108" y="0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109" y="7"/>
                  </a:lnTo>
                  <a:lnTo>
                    <a:pt x="112" y="3"/>
                  </a:lnTo>
                  <a:lnTo>
                    <a:pt x="109" y="7"/>
                  </a:lnTo>
                  <a:lnTo>
                    <a:pt x="112" y="6"/>
                  </a:lnTo>
                  <a:lnTo>
                    <a:pt x="112" y="3"/>
                  </a:lnTo>
                  <a:lnTo>
                    <a:pt x="105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719520" y="3436920"/>
              <a:ext cx="15840" cy="3024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0"/>
                  </a:moveTo>
                  <a:lnTo>
                    <a:pt x="0" y="2"/>
                  </a:lnTo>
                  <a:lnTo>
                    <a:pt x="13" y="37"/>
                  </a:lnTo>
                  <a:lnTo>
                    <a:pt x="20" y="36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719520" y="3414600"/>
              <a:ext cx="17280" cy="25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2"/>
                  </a:moveTo>
                  <a:lnTo>
                    <a:pt x="16" y="3"/>
                  </a:lnTo>
                  <a:lnTo>
                    <a:pt x="0" y="29"/>
                  </a:lnTo>
                  <a:lnTo>
                    <a:pt x="5" y="33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6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733920" y="3414600"/>
              <a:ext cx="82440" cy="38160"/>
            </a:xfrm>
            <a:custGeom>
              <a:avLst/>
              <a:gdLst/>
              <a:ahLst/>
              <a:rect l="l" t="t" r="r" b="b"/>
              <a:pathLst>
                <a:path w="104" h="47">
                  <a:moveTo>
                    <a:pt x="104" y="40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103" y="47"/>
                  </a:lnTo>
                  <a:lnTo>
                    <a:pt x="104" y="47"/>
                  </a:lnTo>
                  <a:lnTo>
                    <a:pt x="104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816360" y="3417840"/>
              <a:ext cx="147600" cy="3492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4" y="0"/>
                  </a:moveTo>
                  <a:lnTo>
                    <a:pt x="0" y="36"/>
                  </a:lnTo>
                  <a:lnTo>
                    <a:pt x="0" y="43"/>
                  </a:lnTo>
                  <a:lnTo>
                    <a:pt x="185" y="6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62520" y="3376440"/>
              <a:ext cx="149040" cy="47880"/>
            </a:xfrm>
            <a:custGeom>
              <a:avLst/>
              <a:gdLst/>
              <a:ahLst/>
              <a:rect l="l" t="t" r="r" b="b"/>
              <a:pathLst>
                <a:path w="188" h="59">
                  <a:moveTo>
                    <a:pt x="182" y="3"/>
                  </a:moveTo>
                  <a:lnTo>
                    <a:pt x="184" y="0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85" y="7"/>
                  </a:lnTo>
                  <a:lnTo>
                    <a:pt x="188" y="5"/>
                  </a:lnTo>
                  <a:lnTo>
                    <a:pt x="185" y="7"/>
                  </a:lnTo>
                  <a:lnTo>
                    <a:pt x="188" y="5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106880" y="3332160"/>
              <a:ext cx="25560" cy="49320"/>
            </a:xfrm>
            <a:custGeom>
              <a:avLst/>
              <a:gdLst/>
              <a:ahLst/>
              <a:rect l="l" t="t" r="r" b="b"/>
              <a:pathLst>
                <a:path w="33" h="60">
                  <a:moveTo>
                    <a:pt x="27" y="0"/>
                  </a:moveTo>
                  <a:lnTo>
                    <a:pt x="0" y="58"/>
                  </a:lnTo>
                  <a:lnTo>
                    <a:pt x="6" y="60"/>
                  </a:lnTo>
                  <a:lnTo>
                    <a:pt x="33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129200" y="3287880"/>
              <a:ext cx="11160" cy="4428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1" y="4"/>
                  </a:moveTo>
                  <a:lnTo>
                    <a:pt x="10" y="1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116240" y="3257640"/>
              <a:ext cx="24120" cy="331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7"/>
                  </a:moveTo>
                  <a:lnTo>
                    <a:pt x="0" y="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5" y="1"/>
                  </a:lnTo>
                  <a:lnTo>
                    <a:pt x="1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733920" y="3370320"/>
              <a:ext cx="50760" cy="3636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0" y="46"/>
                  </a:moveTo>
                  <a:lnTo>
                    <a:pt x="3" y="46"/>
                  </a:lnTo>
                  <a:lnTo>
                    <a:pt x="64" y="5"/>
                  </a:lnTo>
                  <a:lnTo>
                    <a:pt x="61" y="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710160" y="3386160"/>
              <a:ext cx="25200" cy="205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6"/>
                  </a:moveTo>
                  <a:lnTo>
                    <a:pt x="31" y="26"/>
                  </a:lnTo>
                  <a:lnTo>
                    <a:pt x="34" y="2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646440" y="3368520"/>
              <a:ext cx="28800" cy="324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3"/>
                  </a:moveTo>
                  <a:lnTo>
                    <a:pt x="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643200" y="3368520"/>
              <a:ext cx="324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668760" y="3206880"/>
              <a:ext cx="4680" cy="2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664080" y="3170160"/>
              <a:ext cx="9360" cy="3672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4" y="0"/>
                  </a:moveTo>
                  <a:lnTo>
                    <a:pt x="0" y="0"/>
                  </a:lnTo>
                  <a:lnTo>
                    <a:pt x="7" y="46"/>
                  </a:lnTo>
                  <a:lnTo>
                    <a:pt x="14" y="46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664080" y="3168720"/>
              <a:ext cx="4680" cy="1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517920" y="313380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0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513240" y="3114720"/>
              <a:ext cx="9360" cy="205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4" y="0"/>
                  </a:moveTo>
                  <a:lnTo>
                    <a:pt x="0" y="1"/>
                  </a:lnTo>
                  <a:lnTo>
                    <a:pt x="5" y="25"/>
                  </a:lnTo>
                  <a:lnTo>
                    <a:pt x="12" y="2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513240" y="311292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lnTo>
                    <a:pt x="7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051000" y="3484440"/>
              <a:ext cx="86040" cy="66960"/>
            </a:xfrm>
            <a:custGeom>
              <a:avLst/>
              <a:gdLst/>
              <a:ahLst/>
              <a:rect l="l" t="t" r="r" b="b"/>
              <a:pathLst>
                <a:path w="108" h="85">
                  <a:moveTo>
                    <a:pt x="20" y="69"/>
                  </a:moveTo>
                  <a:lnTo>
                    <a:pt x="23" y="76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19" y="70"/>
                  </a:lnTo>
                  <a:lnTo>
                    <a:pt x="21" y="76"/>
                  </a:lnTo>
                  <a:lnTo>
                    <a:pt x="19" y="70"/>
                  </a:lnTo>
                  <a:lnTo>
                    <a:pt x="0" y="85"/>
                  </a:lnTo>
                  <a:lnTo>
                    <a:pt x="21" y="76"/>
                  </a:lnTo>
                  <a:lnTo>
                    <a:pt x="20" y="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067200" y="3519360"/>
              <a:ext cx="44280" cy="2412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55" y="0"/>
                  </a:moveTo>
                  <a:lnTo>
                    <a:pt x="0" y="24"/>
                  </a:lnTo>
                  <a:lnTo>
                    <a:pt x="1" y="31"/>
                  </a:lnTo>
                  <a:lnTo>
                    <a:pt x="57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111480" y="3446640"/>
              <a:ext cx="250920" cy="7776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312" y="1"/>
                  </a:moveTo>
                  <a:lnTo>
                    <a:pt x="314" y="0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315" y="7"/>
                  </a:lnTo>
                  <a:lnTo>
                    <a:pt x="318" y="4"/>
                  </a:lnTo>
                  <a:lnTo>
                    <a:pt x="315" y="7"/>
                  </a:lnTo>
                  <a:lnTo>
                    <a:pt x="318" y="4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59160" y="3408480"/>
              <a:ext cx="28440" cy="410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3" y="0"/>
                  </a:moveTo>
                  <a:lnTo>
                    <a:pt x="0" y="48"/>
                  </a:lnTo>
                  <a:lnTo>
                    <a:pt x="6" y="5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84720" y="3390840"/>
              <a:ext cx="34920" cy="2232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9" y="0"/>
                  </a:moveTo>
                  <a:lnTo>
                    <a:pt x="0" y="22"/>
                  </a:lnTo>
                  <a:lnTo>
                    <a:pt x="3" y="27"/>
                  </a:lnTo>
                  <a:lnTo>
                    <a:pt x="43" y="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587760" y="3205080"/>
              <a:ext cx="88920" cy="666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02" y="5"/>
                  </a:moveTo>
                  <a:lnTo>
                    <a:pt x="102" y="0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106" y="5"/>
                  </a:lnTo>
                  <a:lnTo>
                    <a:pt x="105" y="0"/>
                  </a:lnTo>
                  <a:lnTo>
                    <a:pt x="106" y="5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591000" y="3176640"/>
              <a:ext cx="81000" cy="3312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6"/>
                  </a:moveTo>
                  <a:lnTo>
                    <a:pt x="100" y="42"/>
                  </a:lnTo>
                  <a:lnTo>
                    <a:pt x="103" y="37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525840" y="3157560"/>
              <a:ext cx="66600" cy="2232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6" y="6"/>
                  </a:moveTo>
                  <a:lnTo>
                    <a:pt x="2" y="6"/>
                  </a:lnTo>
                  <a:lnTo>
                    <a:pt x="81" y="30"/>
                  </a:lnTo>
                  <a:lnTo>
                    <a:pt x="84" y="24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476520" y="3157560"/>
              <a:ext cx="54000" cy="4428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5" y="57"/>
                  </a:moveTo>
                  <a:lnTo>
                    <a:pt x="68" y="6"/>
                  </a:lnTo>
                  <a:lnTo>
                    <a:pt x="62" y="0"/>
                  </a:lnTo>
                  <a:lnTo>
                    <a:pt x="0" y="52"/>
                  </a:lnTo>
                  <a:lnTo>
                    <a:pt x="5" y="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29000" y="3197160"/>
              <a:ext cx="52560" cy="4608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4" y="56"/>
                  </a:moveTo>
                  <a:lnTo>
                    <a:pt x="66" y="5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79680" y="3238560"/>
              <a:ext cx="52560" cy="4608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3" y="58"/>
                  </a:moveTo>
                  <a:lnTo>
                    <a:pt x="66" y="5"/>
                  </a:lnTo>
                  <a:lnTo>
                    <a:pt x="62" y="0"/>
                  </a:lnTo>
                  <a:lnTo>
                    <a:pt x="0" y="51"/>
                  </a:lnTo>
                  <a:lnTo>
                    <a:pt x="3" y="58"/>
                  </a:lnTo>
                  <a:lnTo>
                    <a:pt x="4" y="57"/>
                  </a:lnTo>
                  <a:lnTo>
                    <a:pt x="3" y="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51240" y="327960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9"/>
                  </a:moveTo>
                  <a:lnTo>
                    <a:pt x="38" y="7"/>
                  </a:lnTo>
                  <a:lnTo>
                    <a:pt x="36" y="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01920" y="3289320"/>
              <a:ext cx="33480" cy="363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8" y="45"/>
                  </a:moveTo>
                  <a:lnTo>
                    <a:pt x="7" y="48"/>
                  </a:lnTo>
                  <a:lnTo>
                    <a:pt x="42" y="6"/>
                  </a:lnTo>
                  <a:lnTo>
                    <a:pt x="38" y="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8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01920" y="3324240"/>
              <a:ext cx="6480" cy="237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7" y="30"/>
                  </a:moveTo>
                  <a:lnTo>
                    <a:pt x="8" y="2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182760" y="3343320"/>
              <a:ext cx="123840" cy="104760"/>
            </a:xfrm>
            <a:custGeom>
              <a:avLst/>
              <a:gdLst/>
              <a:ahLst/>
              <a:rect l="l" t="t" r="r" b="b"/>
              <a:pathLst>
                <a:path w="157" h="131">
                  <a:moveTo>
                    <a:pt x="4" y="131"/>
                  </a:moveTo>
                  <a:lnTo>
                    <a:pt x="157" y="6"/>
                  </a:lnTo>
                  <a:lnTo>
                    <a:pt x="151" y="0"/>
                  </a:lnTo>
                  <a:lnTo>
                    <a:pt x="0" y="126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133800" y="3443400"/>
              <a:ext cx="52200" cy="442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4" y="57"/>
                  </a:moveTo>
                  <a:lnTo>
                    <a:pt x="66" y="5"/>
                  </a:lnTo>
                  <a:lnTo>
                    <a:pt x="62" y="0"/>
                  </a:lnTo>
                  <a:lnTo>
                    <a:pt x="0" y="51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3651120" y="342072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3693960" y="3230640"/>
              <a:ext cx="8604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027320" y="3387600"/>
              <a:ext cx="158760" cy="106560"/>
            </a:xfrm>
            <a:custGeom>
              <a:avLst/>
              <a:gdLst/>
              <a:ahLst/>
              <a:rect l="l" t="t" r="r" b="b"/>
              <a:pathLst>
                <a:path w="200" h="135">
                  <a:moveTo>
                    <a:pt x="200" y="0"/>
                  </a:moveTo>
                  <a:lnTo>
                    <a:pt x="200" y="82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268880" y="3363840"/>
              <a:ext cx="199800" cy="69840"/>
            </a:xfrm>
            <a:custGeom>
              <a:avLst/>
              <a:gdLst/>
              <a:ahLst/>
              <a:rect l="l" t="t" r="r" b="b"/>
              <a:pathLst>
                <a:path w="253" h="88">
                  <a:moveTo>
                    <a:pt x="253" y="0"/>
                  </a:moveTo>
                  <a:lnTo>
                    <a:pt x="250" y="28"/>
                  </a:lnTo>
                  <a:lnTo>
                    <a:pt x="0" y="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699000" y="3427560"/>
              <a:ext cx="129960" cy="145800"/>
            </a:xfrm>
            <a:custGeom>
              <a:avLst/>
              <a:gdLst/>
              <a:ahLst/>
              <a:rect l="l" t="t" r="r" b="b"/>
              <a:pathLst>
                <a:path w="163" h="184">
                  <a:moveTo>
                    <a:pt x="82" y="0"/>
                  </a:moveTo>
                  <a:lnTo>
                    <a:pt x="163" y="51"/>
                  </a:lnTo>
                  <a:lnTo>
                    <a:pt x="56" y="152"/>
                  </a:lnTo>
                  <a:lnTo>
                    <a:pt x="27" y="184"/>
                  </a:lnTo>
                  <a:lnTo>
                    <a:pt x="0" y="123"/>
                  </a:lnTo>
                  <a:lnTo>
                    <a:pt x="67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067200" y="3114720"/>
              <a:ext cx="604800" cy="426960"/>
            </a:xfrm>
            <a:custGeom>
              <a:avLst/>
              <a:gdLst/>
              <a:ahLst/>
              <a:rect l="l" t="t" r="r" b="b"/>
              <a:pathLst>
                <a:path w="762" h="537">
                  <a:moveTo>
                    <a:pt x="762" y="116"/>
                  </a:moveTo>
                  <a:lnTo>
                    <a:pt x="755" y="70"/>
                  </a:lnTo>
                  <a:lnTo>
                    <a:pt x="762" y="116"/>
                  </a:lnTo>
                  <a:lnTo>
                    <a:pt x="571" y="24"/>
                  </a:lnTo>
                  <a:lnTo>
                    <a:pt x="566" y="0"/>
                  </a:lnTo>
                  <a:lnTo>
                    <a:pt x="571" y="24"/>
                  </a:lnTo>
                  <a:lnTo>
                    <a:pt x="762" y="116"/>
                  </a:lnTo>
                  <a:lnTo>
                    <a:pt x="85" y="467"/>
                  </a:lnTo>
                  <a:lnTo>
                    <a:pt x="0" y="537"/>
                  </a:lnTo>
                  <a:lnTo>
                    <a:pt x="57" y="511"/>
                  </a:lnTo>
                  <a:lnTo>
                    <a:pt x="370" y="421"/>
                  </a:lnTo>
                  <a:lnTo>
                    <a:pt x="401" y="372"/>
                  </a:lnTo>
                  <a:lnTo>
                    <a:pt x="443" y="351"/>
                  </a:lnTo>
                  <a:lnTo>
                    <a:pt x="659" y="194"/>
                  </a:lnTo>
                  <a:lnTo>
                    <a:pt x="762" y="116"/>
                  </a:lnTo>
                  <a:lnTo>
                    <a:pt x="661" y="79"/>
                  </a:lnTo>
                  <a:lnTo>
                    <a:pt x="581" y="55"/>
                  </a:lnTo>
                  <a:lnTo>
                    <a:pt x="519" y="106"/>
                  </a:lnTo>
                  <a:lnTo>
                    <a:pt x="457" y="158"/>
                  </a:lnTo>
                  <a:lnTo>
                    <a:pt x="396" y="209"/>
                  </a:lnTo>
                  <a:lnTo>
                    <a:pt x="358" y="221"/>
                  </a:lnTo>
                  <a:lnTo>
                    <a:pt x="335" y="221"/>
                  </a:lnTo>
                  <a:lnTo>
                    <a:pt x="300" y="263"/>
                  </a:lnTo>
                  <a:lnTo>
                    <a:pt x="300" y="290"/>
                  </a:lnTo>
                  <a:lnTo>
                    <a:pt x="147" y="414"/>
                  </a:lnTo>
                  <a:lnTo>
                    <a:pt x="85" y="467"/>
                  </a:lnTo>
                  <a:lnTo>
                    <a:pt x="762" y="1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241880" y="3122640"/>
              <a:ext cx="199800" cy="34920"/>
            </a:xfrm>
            <a:custGeom>
              <a:avLst/>
              <a:gdLst/>
              <a:ahLst/>
              <a:rect l="l" t="t" r="r" b="b"/>
              <a:pathLst>
                <a:path w="253" h="45">
                  <a:moveTo>
                    <a:pt x="253" y="7"/>
                  </a:moveTo>
                  <a:lnTo>
                    <a:pt x="107" y="45"/>
                  </a:lnTo>
                  <a:lnTo>
                    <a:pt x="62" y="40"/>
                  </a:lnTo>
                  <a:lnTo>
                    <a:pt x="0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3662280" y="3262320"/>
              <a:ext cx="18252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90920" y="310500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"/>
                  </a:moveTo>
                  <a:lnTo>
                    <a:pt x="28" y="1"/>
                  </a:lnTo>
                  <a:lnTo>
                    <a:pt x="0" y="9"/>
                  </a:lnTo>
                  <a:lnTo>
                    <a:pt x="6" y="35"/>
                  </a:lnTo>
                  <a:lnTo>
                    <a:pt x="35" y="26"/>
                  </a:lnTo>
                  <a:lnTo>
                    <a:pt x="27" y="26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511440" y="3105000"/>
              <a:ext cx="152640" cy="71640"/>
            </a:xfrm>
            <a:custGeom>
              <a:avLst/>
              <a:gdLst/>
              <a:ahLst/>
              <a:rect l="l" t="t" r="r" b="b"/>
              <a:pathLst>
                <a:path w="190" h="89">
                  <a:moveTo>
                    <a:pt x="190" y="67"/>
                  </a:moveTo>
                  <a:lnTo>
                    <a:pt x="189" y="65"/>
                  </a:lnTo>
                  <a:lnTo>
                    <a:pt x="9" y="0"/>
                  </a:lnTo>
                  <a:lnTo>
                    <a:pt x="0" y="25"/>
                  </a:lnTo>
                  <a:lnTo>
                    <a:pt x="181" y="89"/>
                  </a:lnTo>
                  <a:lnTo>
                    <a:pt x="179" y="89"/>
                  </a:lnTo>
                  <a:lnTo>
                    <a:pt x="19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3654360" y="3157560"/>
              <a:ext cx="19080" cy="25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7" y="5"/>
                  </a:moveTo>
                  <a:lnTo>
                    <a:pt x="21" y="4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10" y="27"/>
                  </a:lnTo>
                  <a:lnTo>
                    <a:pt x="23" y="25"/>
                  </a:lnTo>
                  <a:lnTo>
                    <a:pt x="10" y="27"/>
                  </a:lnTo>
                  <a:lnTo>
                    <a:pt x="17" y="31"/>
                  </a:lnTo>
                  <a:lnTo>
                    <a:pt x="23" y="2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660840" y="3111480"/>
              <a:ext cx="71280" cy="6660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84" y="0"/>
                  </a:moveTo>
                  <a:lnTo>
                    <a:pt x="76" y="3"/>
                  </a:lnTo>
                  <a:lnTo>
                    <a:pt x="0" y="64"/>
                  </a:lnTo>
                  <a:lnTo>
                    <a:pt x="16" y="84"/>
                  </a:lnTo>
                  <a:lnTo>
                    <a:pt x="92" y="23"/>
                  </a:lnTo>
                  <a:lnTo>
                    <a:pt x="84" y="26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726000" y="3111480"/>
              <a:ext cx="61920" cy="2052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7" y="12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0" y="27"/>
                  </a:lnTo>
                  <a:lnTo>
                    <a:pt x="77" y="26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416400" y="3267000"/>
              <a:ext cx="174600" cy="128520"/>
            </a:xfrm>
            <a:custGeom>
              <a:avLst/>
              <a:gdLst/>
              <a:ahLst/>
              <a:rect l="l" t="t" r="r" b="b"/>
              <a:pathLst>
                <a:path w="222" h="162">
                  <a:moveTo>
                    <a:pt x="218" y="0"/>
                  </a:moveTo>
                  <a:lnTo>
                    <a:pt x="0" y="157"/>
                  </a:lnTo>
                  <a:lnTo>
                    <a:pt x="5" y="162"/>
                  </a:lnTo>
                  <a:lnTo>
                    <a:pt x="222" y="6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033800" y="3200400"/>
              <a:ext cx="84240" cy="6516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77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102" y="81"/>
                  </a:lnTo>
                  <a:lnTo>
                    <a:pt x="10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782880" y="3259080"/>
              <a:ext cx="336600" cy="115920"/>
            </a:xfrm>
            <a:custGeom>
              <a:avLst/>
              <a:gdLst/>
              <a:ahLst/>
              <a:rect l="l" t="t" r="r" b="b"/>
              <a:pathLst>
                <a:path w="426" h="146">
                  <a:moveTo>
                    <a:pt x="3" y="146"/>
                  </a:moveTo>
                  <a:lnTo>
                    <a:pt x="426" y="6"/>
                  </a:lnTo>
                  <a:lnTo>
                    <a:pt x="423" y="0"/>
                  </a:lnTo>
                  <a:lnTo>
                    <a:pt x="0" y="140"/>
                  </a:lnTo>
                  <a:lnTo>
                    <a:pt x="3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666960" y="3189240"/>
              <a:ext cx="330480" cy="195480"/>
            </a:xfrm>
            <a:custGeom>
              <a:avLst/>
              <a:gdLst/>
              <a:ahLst/>
              <a:rect l="l" t="t" r="r" b="b"/>
              <a:pathLst>
                <a:path w="418" h="246">
                  <a:moveTo>
                    <a:pt x="0" y="214"/>
                  </a:moveTo>
                  <a:lnTo>
                    <a:pt x="92" y="246"/>
                  </a:lnTo>
                  <a:lnTo>
                    <a:pt x="230" y="183"/>
                  </a:lnTo>
                  <a:lnTo>
                    <a:pt x="418" y="128"/>
                  </a:lnTo>
                  <a:lnTo>
                    <a:pt x="403" y="0"/>
                  </a:lnTo>
                  <a:lnTo>
                    <a:pt x="337" y="16"/>
                  </a:lnTo>
                  <a:lnTo>
                    <a:pt x="307" y="16"/>
                  </a:lnTo>
                  <a:lnTo>
                    <a:pt x="261" y="11"/>
                  </a:lnTo>
                  <a:lnTo>
                    <a:pt x="235" y="0"/>
                  </a:lnTo>
                  <a:lnTo>
                    <a:pt x="219" y="0"/>
                  </a:lnTo>
                  <a:lnTo>
                    <a:pt x="6" y="22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795840" y="3379680"/>
              <a:ext cx="323640" cy="104760"/>
            </a:xfrm>
            <a:custGeom>
              <a:avLst/>
              <a:gdLst/>
              <a:ahLst/>
              <a:rect l="l" t="t" r="r" b="b"/>
              <a:pathLst>
                <a:path w="408" h="132">
                  <a:moveTo>
                    <a:pt x="86" y="92"/>
                  </a:moveTo>
                  <a:lnTo>
                    <a:pt x="408" y="0"/>
                  </a:lnTo>
                  <a:lnTo>
                    <a:pt x="356" y="72"/>
                  </a:lnTo>
                  <a:lnTo>
                    <a:pt x="51" y="132"/>
                  </a:lnTo>
                  <a:lnTo>
                    <a:pt x="0" y="107"/>
                  </a:lnTo>
                  <a:lnTo>
                    <a:pt x="8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5" name="RIBBON16" descr=""/>
          <p:cNvPicPr/>
          <p:nvPr/>
        </p:nvPicPr>
        <p:blipFill>
          <a:blip r:embed="rId1"/>
          <a:stretch/>
        </p:blipFill>
        <p:spPr>
          <a:xfrm>
            <a:off x="3530520" y="2927520"/>
            <a:ext cx="20829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6" name="WIDETREE" descr=""/>
          <p:cNvPicPr/>
          <p:nvPr/>
        </p:nvPicPr>
        <p:blipFill>
          <a:blip r:embed="rId1"/>
          <a:stretch/>
        </p:blipFill>
        <p:spPr>
          <a:xfrm>
            <a:off x="3605040" y="2370240"/>
            <a:ext cx="1932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"/>
          <p:cNvSpPr/>
          <p:nvPr/>
        </p:nvSpPr>
        <p:spPr>
          <a:xfrm>
            <a:off x="1066680" y="4572000"/>
            <a:ext cx="2773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8" name=""/>
          <p:cNvGrpSpPr/>
          <p:nvPr/>
        </p:nvGrpSpPr>
        <p:grpSpPr>
          <a:xfrm>
            <a:off x="3049560" y="3218040"/>
            <a:ext cx="3043080" cy="1183680"/>
            <a:chOff x="3049560" y="3218040"/>
            <a:chExt cx="3043080" cy="1183680"/>
          </a:xfrm>
        </p:grpSpPr>
        <p:sp>
          <p:nvSpPr>
            <p:cNvPr id="2979" name=""/>
            <p:cNvSpPr/>
            <p:nvPr/>
          </p:nvSpPr>
          <p:spPr>
            <a:xfrm flipH="1">
              <a:off x="3352320" y="3390480"/>
              <a:ext cx="2740320" cy="914040"/>
            </a:xfrm>
            <a:custGeom>
              <a:avLst/>
              <a:gdLst/>
              <a:ahLst/>
              <a:rect l="l" t="t" r="r" b="b"/>
              <a:pathLst>
                <a:path w="5196" h="2222">
                  <a:moveTo>
                    <a:pt x="565" y="0"/>
                  </a:moveTo>
                  <a:lnTo>
                    <a:pt x="882" y="48"/>
                  </a:lnTo>
                  <a:lnTo>
                    <a:pt x="3612" y="858"/>
                  </a:lnTo>
                  <a:lnTo>
                    <a:pt x="4146" y="723"/>
                  </a:lnTo>
                  <a:lnTo>
                    <a:pt x="4603" y="572"/>
                  </a:lnTo>
                  <a:lnTo>
                    <a:pt x="4572" y="388"/>
                  </a:lnTo>
                  <a:lnTo>
                    <a:pt x="5165" y="588"/>
                  </a:lnTo>
                  <a:lnTo>
                    <a:pt x="4069" y="1065"/>
                  </a:lnTo>
                  <a:lnTo>
                    <a:pt x="5196" y="1468"/>
                  </a:lnTo>
                  <a:lnTo>
                    <a:pt x="4643" y="1667"/>
                  </a:lnTo>
                  <a:lnTo>
                    <a:pt x="4603" y="1500"/>
                  </a:lnTo>
                  <a:lnTo>
                    <a:pt x="4097" y="1405"/>
                  </a:lnTo>
                  <a:lnTo>
                    <a:pt x="3544" y="1373"/>
                  </a:lnTo>
                  <a:lnTo>
                    <a:pt x="892" y="2158"/>
                  </a:lnTo>
                  <a:lnTo>
                    <a:pt x="595" y="2222"/>
                  </a:lnTo>
                  <a:lnTo>
                    <a:pt x="278" y="2183"/>
                  </a:lnTo>
                  <a:lnTo>
                    <a:pt x="12" y="2095"/>
                  </a:lnTo>
                  <a:lnTo>
                    <a:pt x="2861" y="1110"/>
                  </a:lnTo>
                  <a:lnTo>
                    <a:pt x="0" y="160"/>
                  </a:lnTo>
                  <a:lnTo>
                    <a:pt x="259" y="4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3096720" y="3218040"/>
              <a:ext cx="672120" cy="423000"/>
            </a:xfrm>
            <a:custGeom>
              <a:avLst/>
              <a:gdLst/>
              <a:ahLst/>
              <a:rect l="l" t="t" r="r" b="b"/>
              <a:pathLst>
                <a:path w="1276" h="1030">
                  <a:moveTo>
                    <a:pt x="207" y="913"/>
                  </a:moveTo>
                  <a:lnTo>
                    <a:pt x="78" y="785"/>
                  </a:lnTo>
                  <a:lnTo>
                    <a:pt x="245" y="705"/>
                  </a:lnTo>
                  <a:lnTo>
                    <a:pt x="356" y="802"/>
                  </a:lnTo>
                  <a:lnTo>
                    <a:pt x="464" y="855"/>
                  </a:lnTo>
                  <a:lnTo>
                    <a:pt x="603" y="880"/>
                  </a:lnTo>
                  <a:lnTo>
                    <a:pt x="751" y="880"/>
                  </a:lnTo>
                  <a:lnTo>
                    <a:pt x="880" y="833"/>
                  </a:lnTo>
                  <a:lnTo>
                    <a:pt x="989" y="760"/>
                  </a:lnTo>
                  <a:lnTo>
                    <a:pt x="1068" y="658"/>
                  </a:lnTo>
                  <a:lnTo>
                    <a:pt x="1107" y="546"/>
                  </a:lnTo>
                  <a:lnTo>
                    <a:pt x="1087" y="437"/>
                  </a:lnTo>
                  <a:lnTo>
                    <a:pt x="1040" y="333"/>
                  </a:lnTo>
                  <a:lnTo>
                    <a:pt x="949" y="238"/>
                  </a:lnTo>
                  <a:lnTo>
                    <a:pt x="821" y="183"/>
                  </a:lnTo>
                  <a:lnTo>
                    <a:pt x="681" y="150"/>
                  </a:lnTo>
                  <a:lnTo>
                    <a:pt x="553" y="158"/>
                  </a:lnTo>
                  <a:lnTo>
                    <a:pt x="405" y="205"/>
                  </a:lnTo>
                  <a:lnTo>
                    <a:pt x="306" y="278"/>
                  </a:lnTo>
                  <a:lnTo>
                    <a:pt x="226" y="380"/>
                  </a:lnTo>
                  <a:lnTo>
                    <a:pt x="198" y="492"/>
                  </a:lnTo>
                  <a:lnTo>
                    <a:pt x="207" y="603"/>
                  </a:lnTo>
                  <a:lnTo>
                    <a:pt x="245" y="705"/>
                  </a:lnTo>
                  <a:lnTo>
                    <a:pt x="78" y="785"/>
                  </a:lnTo>
                  <a:lnTo>
                    <a:pt x="10" y="627"/>
                  </a:lnTo>
                  <a:lnTo>
                    <a:pt x="0" y="468"/>
                  </a:lnTo>
                  <a:lnTo>
                    <a:pt x="38" y="318"/>
                  </a:lnTo>
                  <a:lnTo>
                    <a:pt x="148" y="183"/>
                  </a:lnTo>
                  <a:lnTo>
                    <a:pt x="297" y="80"/>
                  </a:lnTo>
                  <a:lnTo>
                    <a:pt x="494" y="23"/>
                  </a:lnTo>
                  <a:lnTo>
                    <a:pt x="692" y="0"/>
                  </a:lnTo>
                  <a:lnTo>
                    <a:pt x="880" y="46"/>
                  </a:lnTo>
                  <a:lnTo>
                    <a:pt x="1049" y="127"/>
                  </a:lnTo>
                  <a:lnTo>
                    <a:pt x="1177" y="253"/>
                  </a:lnTo>
                  <a:lnTo>
                    <a:pt x="1266" y="395"/>
                  </a:lnTo>
                  <a:lnTo>
                    <a:pt x="1276" y="563"/>
                  </a:lnTo>
                  <a:lnTo>
                    <a:pt x="1217" y="722"/>
                  </a:lnTo>
                  <a:lnTo>
                    <a:pt x="1118" y="855"/>
                  </a:lnTo>
                  <a:lnTo>
                    <a:pt x="958" y="960"/>
                  </a:lnTo>
                  <a:lnTo>
                    <a:pt x="781" y="1015"/>
                  </a:lnTo>
                  <a:lnTo>
                    <a:pt x="584" y="1030"/>
                  </a:lnTo>
                  <a:lnTo>
                    <a:pt x="375" y="992"/>
                  </a:lnTo>
                  <a:lnTo>
                    <a:pt x="207" y="9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049560" y="3978720"/>
              <a:ext cx="678960" cy="423000"/>
            </a:xfrm>
            <a:custGeom>
              <a:avLst/>
              <a:gdLst/>
              <a:ahLst/>
              <a:rect l="l" t="t" r="r" b="b"/>
              <a:pathLst>
                <a:path w="1287" h="1030">
                  <a:moveTo>
                    <a:pt x="219" y="905"/>
                  </a:moveTo>
                  <a:lnTo>
                    <a:pt x="89" y="775"/>
                  </a:lnTo>
                  <a:lnTo>
                    <a:pt x="278" y="713"/>
                  </a:lnTo>
                  <a:lnTo>
                    <a:pt x="357" y="792"/>
                  </a:lnTo>
                  <a:lnTo>
                    <a:pt x="487" y="857"/>
                  </a:lnTo>
                  <a:lnTo>
                    <a:pt x="614" y="880"/>
                  </a:lnTo>
                  <a:lnTo>
                    <a:pt x="762" y="872"/>
                  </a:lnTo>
                  <a:lnTo>
                    <a:pt x="901" y="832"/>
                  </a:lnTo>
                  <a:lnTo>
                    <a:pt x="1002" y="753"/>
                  </a:lnTo>
                  <a:lnTo>
                    <a:pt x="1089" y="650"/>
                  </a:lnTo>
                  <a:lnTo>
                    <a:pt x="1108" y="547"/>
                  </a:lnTo>
                  <a:lnTo>
                    <a:pt x="1108" y="435"/>
                  </a:lnTo>
                  <a:lnTo>
                    <a:pt x="1059" y="332"/>
                  </a:lnTo>
                  <a:lnTo>
                    <a:pt x="962" y="237"/>
                  </a:lnTo>
                  <a:lnTo>
                    <a:pt x="842" y="180"/>
                  </a:lnTo>
                  <a:lnTo>
                    <a:pt x="703" y="150"/>
                  </a:lnTo>
                  <a:lnTo>
                    <a:pt x="553" y="157"/>
                  </a:lnTo>
                  <a:lnTo>
                    <a:pt x="426" y="205"/>
                  </a:lnTo>
                  <a:lnTo>
                    <a:pt x="317" y="277"/>
                  </a:lnTo>
                  <a:lnTo>
                    <a:pt x="249" y="363"/>
                  </a:lnTo>
                  <a:lnTo>
                    <a:pt x="198" y="483"/>
                  </a:lnTo>
                  <a:lnTo>
                    <a:pt x="219" y="595"/>
                  </a:lnTo>
                  <a:lnTo>
                    <a:pt x="278" y="713"/>
                  </a:lnTo>
                  <a:lnTo>
                    <a:pt x="89" y="775"/>
                  </a:lnTo>
                  <a:lnTo>
                    <a:pt x="21" y="625"/>
                  </a:lnTo>
                  <a:lnTo>
                    <a:pt x="0" y="467"/>
                  </a:lnTo>
                  <a:lnTo>
                    <a:pt x="61" y="308"/>
                  </a:lnTo>
                  <a:lnTo>
                    <a:pt x="160" y="175"/>
                  </a:lnTo>
                  <a:lnTo>
                    <a:pt x="317" y="70"/>
                  </a:lnTo>
                  <a:lnTo>
                    <a:pt x="506" y="15"/>
                  </a:lnTo>
                  <a:lnTo>
                    <a:pt x="703" y="0"/>
                  </a:lnTo>
                  <a:lnTo>
                    <a:pt x="901" y="47"/>
                  </a:lnTo>
                  <a:lnTo>
                    <a:pt x="1068" y="125"/>
                  </a:lnTo>
                  <a:lnTo>
                    <a:pt x="1198" y="253"/>
                  </a:lnTo>
                  <a:lnTo>
                    <a:pt x="1266" y="403"/>
                  </a:lnTo>
                  <a:lnTo>
                    <a:pt x="1287" y="562"/>
                  </a:lnTo>
                  <a:lnTo>
                    <a:pt x="1238" y="713"/>
                  </a:lnTo>
                  <a:lnTo>
                    <a:pt x="1129" y="857"/>
                  </a:lnTo>
                  <a:lnTo>
                    <a:pt x="971" y="960"/>
                  </a:lnTo>
                  <a:lnTo>
                    <a:pt x="783" y="1015"/>
                  </a:lnTo>
                  <a:lnTo>
                    <a:pt x="584" y="1030"/>
                  </a:lnTo>
                  <a:lnTo>
                    <a:pt x="386" y="1000"/>
                  </a:lnTo>
                  <a:lnTo>
                    <a:pt x="219" y="9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>
              <a:off x="4188600" y="3786480"/>
              <a:ext cx="168840" cy="13248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60"/>
                  </a:moveTo>
                  <a:lnTo>
                    <a:pt x="321" y="160"/>
                  </a:lnTo>
                  <a:lnTo>
                    <a:pt x="321" y="152"/>
                  </a:lnTo>
                  <a:lnTo>
                    <a:pt x="320" y="137"/>
                  </a:lnTo>
                  <a:lnTo>
                    <a:pt x="316" y="120"/>
                  </a:lnTo>
                  <a:lnTo>
                    <a:pt x="312" y="105"/>
                  </a:lnTo>
                  <a:lnTo>
                    <a:pt x="306" y="91"/>
                  </a:lnTo>
                  <a:lnTo>
                    <a:pt x="299" y="76"/>
                  </a:lnTo>
                  <a:lnTo>
                    <a:pt x="289" y="65"/>
                  </a:lnTo>
                  <a:lnTo>
                    <a:pt x="280" y="51"/>
                  </a:lnTo>
                  <a:lnTo>
                    <a:pt x="268" y="42"/>
                  </a:lnTo>
                  <a:lnTo>
                    <a:pt x="257" y="30"/>
                  </a:lnTo>
                  <a:lnTo>
                    <a:pt x="244" y="23"/>
                  </a:lnTo>
                  <a:lnTo>
                    <a:pt x="230" y="15"/>
                  </a:lnTo>
                  <a:lnTo>
                    <a:pt x="215" y="9"/>
                  </a:lnTo>
                  <a:lnTo>
                    <a:pt x="200" y="4"/>
                  </a:lnTo>
                  <a:lnTo>
                    <a:pt x="185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35" y="2"/>
                  </a:lnTo>
                  <a:lnTo>
                    <a:pt x="120" y="4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6" y="23"/>
                  </a:lnTo>
                  <a:lnTo>
                    <a:pt x="65" y="30"/>
                  </a:lnTo>
                  <a:lnTo>
                    <a:pt x="52" y="42"/>
                  </a:lnTo>
                  <a:lnTo>
                    <a:pt x="42" y="51"/>
                  </a:lnTo>
                  <a:lnTo>
                    <a:pt x="31" y="65"/>
                  </a:lnTo>
                  <a:lnTo>
                    <a:pt x="23" y="76"/>
                  </a:lnTo>
                  <a:lnTo>
                    <a:pt x="15" y="91"/>
                  </a:lnTo>
                  <a:lnTo>
                    <a:pt x="10" y="105"/>
                  </a:lnTo>
                  <a:lnTo>
                    <a:pt x="4" y="120"/>
                  </a:lnTo>
                  <a:lnTo>
                    <a:pt x="0" y="13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84"/>
                  </a:lnTo>
                  <a:lnTo>
                    <a:pt x="4" y="200"/>
                  </a:lnTo>
                  <a:lnTo>
                    <a:pt x="10" y="215"/>
                  </a:lnTo>
                  <a:lnTo>
                    <a:pt x="15" y="230"/>
                  </a:lnTo>
                  <a:lnTo>
                    <a:pt x="23" y="243"/>
                  </a:lnTo>
                  <a:lnTo>
                    <a:pt x="31" y="257"/>
                  </a:lnTo>
                  <a:lnTo>
                    <a:pt x="42" y="268"/>
                  </a:lnTo>
                  <a:lnTo>
                    <a:pt x="52" y="279"/>
                  </a:lnTo>
                  <a:lnTo>
                    <a:pt x="65" y="289"/>
                  </a:lnTo>
                  <a:lnTo>
                    <a:pt x="76" y="298"/>
                  </a:lnTo>
                  <a:lnTo>
                    <a:pt x="91" y="306"/>
                  </a:lnTo>
                  <a:lnTo>
                    <a:pt x="105" y="312"/>
                  </a:lnTo>
                  <a:lnTo>
                    <a:pt x="120" y="316"/>
                  </a:lnTo>
                  <a:lnTo>
                    <a:pt x="135" y="319"/>
                  </a:lnTo>
                  <a:lnTo>
                    <a:pt x="160" y="321"/>
                  </a:lnTo>
                  <a:lnTo>
                    <a:pt x="160" y="321"/>
                  </a:lnTo>
                  <a:lnTo>
                    <a:pt x="167" y="321"/>
                  </a:lnTo>
                  <a:lnTo>
                    <a:pt x="185" y="319"/>
                  </a:lnTo>
                  <a:lnTo>
                    <a:pt x="200" y="316"/>
                  </a:lnTo>
                  <a:lnTo>
                    <a:pt x="215" y="312"/>
                  </a:lnTo>
                  <a:lnTo>
                    <a:pt x="230" y="306"/>
                  </a:lnTo>
                  <a:lnTo>
                    <a:pt x="244" y="298"/>
                  </a:lnTo>
                  <a:lnTo>
                    <a:pt x="257" y="289"/>
                  </a:lnTo>
                  <a:lnTo>
                    <a:pt x="268" y="279"/>
                  </a:lnTo>
                  <a:lnTo>
                    <a:pt x="280" y="268"/>
                  </a:lnTo>
                  <a:lnTo>
                    <a:pt x="289" y="257"/>
                  </a:lnTo>
                  <a:lnTo>
                    <a:pt x="299" y="243"/>
                  </a:lnTo>
                  <a:lnTo>
                    <a:pt x="306" y="230"/>
                  </a:lnTo>
                  <a:lnTo>
                    <a:pt x="312" y="215"/>
                  </a:lnTo>
                  <a:lnTo>
                    <a:pt x="316" y="200"/>
                  </a:lnTo>
                  <a:lnTo>
                    <a:pt x="320" y="184"/>
                  </a:lnTo>
                  <a:lnTo>
                    <a:pt x="321" y="1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5877360" y="3429360"/>
              <a:ext cx="105120" cy="25920"/>
            </a:xfrm>
            <a:custGeom>
              <a:avLst/>
              <a:gdLst/>
              <a:ahLst/>
              <a:rect l="l" t="t" r="r" b="b"/>
              <a:pathLst>
                <a:path w="202" h="63">
                  <a:moveTo>
                    <a:pt x="202" y="2"/>
                  </a:moveTo>
                  <a:lnTo>
                    <a:pt x="194" y="0"/>
                  </a:lnTo>
                  <a:lnTo>
                    <a:pt x="0" y="29"/>
                  </a:lnTo>
                  <a:lnTo>
                    <a:pt x="6" y="63"/>
                  </a:lnTo>
                  <a:lnTo>
                    <a:pt x="198" y="34"/>
                  </a:lnTo>
                  <a:lnTo>
                    <a:pt x="190" y="34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4500000" y="3430800"/>
              <a:ext cx="1382040" cy="359280"/>
            </a:xfrm>
            <a:custGeom>
              <a:avLst/>
              <a:gdLst/>
              <a:ahLst/>
              <a:rect l="l" t="t" r="r" b="b"/>
              <a:pathLst>
                <a:path w="2620" h="875">
                  <a:moveTo>
                    <a:pt x="2616" y="859"/>
                  </a:moveTo>
                  <a:lnTo>
                    <a:pt x="2620" y="842"/>
                  </a:lnTo>
                  <a:lnTo>
                    <a:pt x="12" y="0"/>
                  </a:lnTo>
                  <a:lnTo>
                    <a:pt x="0" y="32"/>
                  </a:lnTo>
                  <a:lnTo>
                    <a:pt x="2611" y="875"/>
                  </a:lnTo>
                  <a:lnTo>
                    <a:pt x="2616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5834880" y="4237200"/>
              <a:ext cx="129600" cy="15480"/>
            </a:xfrm>
            <a:custGeom>
              <a:avLst/>
              <a:gdLst/>
              <a:ahLst/>
              <a:rect l="l" t="t" r="r" b="b"/>
              <a:pathLst>
                <a:path w="247" h="36">
                  <a:moveTo>
                    <a:pt x="237" y="2"/>
                  </a:moveTo>
                  <a:lnTo>
                    <a:pt x="24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43" y="36"/>
                  </a:lnTo>
                  <a:lnTo>
                    <a:pt x="247" y="34"/>
                  </a:lnTo>
                  <a:lnTo>
                    <a:pt x="243" y="36"/>
                  </a:lnTo>
                  <a:lnTo>
                    <a:pt x="245" y="36"/>
                  </a:lnTo>
                  <a:lnTo>
                    <a:pt x="247" y="34"/>
                  </a:lnTo>
                  <a:lnTo>
                    <a:pt x="2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H="1">
              <a:off x="4890960" y="4002120"/>
              <a:ext cx="948240" cy="250560"/>
            </a:xfrm>
            <a:custGeom>
              <a:avLst/>
              <a:gdLst/>
              <a:ahLst/>
              <a:rect l="l" t="t" r="r" b="b"/>
              <a:pathLst>
                <a:path w="1799" h="608">
                  <a:moveTo>
                    <a:pt x="1793" y="17"/>
                  </a:moveTo>
                  <a:lnTo>
                    <a:pt x="1787" y="0"/>
                  </a:lnTo>
                  <a:lnTo>
                    <a:pt x="0" y="576"/>
                  </a:lnTo>
                  <a:lnTo>
                    <a:pt x="10" y="608"/>
                  </a:lnTo>
                  <a:lnTo>
                    <a:pt x="1799" y="32"/>
                  </a:lnTo>
                  <a:lnTo>
                    <a:pt x="179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4440960" y="3886560"/>
              <a:ext cx="370440" cy="111600"/>
            </a:xfrm>
            <a:custGeom>
              <a:avLst/>
              <a:gdLst/>
              <a:ahLst/>
              <a:rect l="l" t="t" r="r" b="b"/>
              <a:pathLst>
                <a:path w="703" h="272">
                  <a:moveTo>
                    <a:pt x="698" y="18"/>
                  </a:moveTo>
                  <a:lnTo>
                    <a:pt x="692" y="0"/>
                  </a:lnTo>
                  <a:lnTo>
                    <a:pt x="0" y="240"/>
                  </a:lnTo>
                  <a:lnTo>
                    <a:pt x="11" y="272"/>
                  </a:lnTo>
                  <a:lnTo>
                    <a:pt x="703" y="35"/>
                  </a:lnTo>
                  <a:lnTo>
                    <a:pt x="6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>
              <a:off x="3642840" y="3660480"/>
              <a:ext cx="473040" cy="146880"/>
            </a:xfrm>
            <a:custGeom>
              <a:avLst/>
              <a:gdLst/>
              <a:ahLst/>
              <a:rect l="l" t="t" r="r" b="b"/>
              <a:pathLst>
                <a:path w="899" h="355">
                  <a:moveTo>
                    <a:pt x="894" y="17"/>
                  </a:moveTo>
                  <a:lnTo>
                    <a:pt x="888" y="0"/>
                  </a:lnTo>
                  <a:lnTo>
                    <a:pt x="0" y="323"/>
                  </a:lnTo>
                  <a:lnTo>
                    <a:pt x="14" y="355"/>
                  </a:lnTo>
                  <a:lnTo>
                    <a:pt x="899" y="32"/>
                  </a:lnTo>
                  <a:lnTo>
                    <a:pt x="89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"/>
          <p:cNvSpPr/>
          <p:nvPr/>
        </p:nvSpPr>
        <p:spPr>
          <a:xfrm>
            <a:off x="3635280" y="2868480"/>
            <a:ext cx="1873440" cy="1882800"/>
          </a:xfrm>
          <a:custGeom>
            <a:avLst/>
            <a:gdLst/>
            <a:ahLst/>
            <a:rect l="l" t="t" r="r" b="b"/>
            <a:pathLst>
              <a:path w="5901" h="5933">
                <a:moveTo>
                  <a:pt x="0" y="5933"/>
                </a:moveTo>
                <a:lnTo>
                  <a:pt x="655" y="5274"/>
                </a:lnTo>
                <a:lnTo>
                  <a:pt x="0" y="5274"/>
                </a:lnTo>
                <a:lnTo>
                  <a:pt x="655" y="4614"/>
                </a:lnTo>
                <a:lnTo>
                  <a:pt x="0" y="4614"/>
                </a:lnTo>
                <a:lnTo>
                  <a:pt x="655" y="3956"/>
                </a:lnTo>
                <a:lnTo>
                  <a:pt x="0" y="3956"/>
                </a:lnTo>
                <a:lnTo>
                  <a:pt x="655" y="3296"/>
                </a:lnTo>
                <a:lnTo>
                  <a:pt x="0" y="3296"/>
                </a:lnTo>
                <a:lnTo>
                  <a:pt x="655" y="2637"/>
                </a:lnTo>
                <a:lnTo>
                  <a:pt x="0" y="2637"/>
                </a:lnTo>
                <a:lnTo>
                  <a:pt x="655" y="1977"/>
                </a:lnTo>
                <a:lnTo>
                  <a:pt x="0" y="1977"/>
                </a:lnTo>
                <a:lnTo>
                  <a:pt x="655" y="1318"/>
                </a:lnTo>
                <a:lnTo>
                  <a:pt x="0" y="1318"/>
                </a:lnTo>
                <a:lnTo>
                  <a:pt x="655" y="660"/>
                </a:lnTo>
                <a:lnTo>
                  <a:pt x="654" y="662"/>
                </a:lnTo>
                <a:lnTo>
                  <a:pt x="655" y="661"/>
                </a:lnTo>
                <a:lnTo>
                  <a:pt x="655" y="660"/>
                </a:lnTo>
                <a:lnTo>
                  <a:pt x="0" y="660"/>
                </a:lnTo>
                <a:lnTo>
                  <a:pt x="655" y="0"/>
                </a:lnTo>
                <a:lnTo>
                  <a:pt x="655" y="5933"/>
                </a:lnTo>
                <a:lnTo>
                  <a:pt x="1311" y="5274"/>
                </a:lnTo>
                <a:lnTo>
                  <a:pt x="655" y="5274"/>
                </a:lnTo>
                <a:lnTo>
                  <a:pt x="1311" y="4614"/>
                </a:lnTo>
                <a:lnTo>
                  <a:pt x="655" y="4614"/>
                </a:lnTo>
                <a:lnTo>
                  <a:pt x="1311" y="3956"/>
                </a:lnTo>
                <a:lnTo>
                  <a:pt x="655" y="3956"/>
                </a:lnTo>
                <a:lnTo>
                  <a:pt x="1311" y="3296"/>
                </a:lnTo>
                <a:lnTo>
                  <a:pt x="655" y="3296"/>
                </a:lnTo>
                <a:lnTo>
                  <a:pt x="1311" y="2637"/>
                </a:lnTo>
                <a:lnTo>
                  <a:pt x="655" y="2637"/>
                </a:lnTo>
                <a:lnTo>
                  <a:pt x="1311" y="1977"/>
                </a:lnTo>
                <a:lnTo>
                  <a:pt x="655" y="1977"/>
                </a:lnTo>
                <a:lnTo>
                  <a:pt x="1311" y="1318"/>
                </a:lnTo>
                <a:lnTo>
                  <a:pt x="655" y="1318"/>
                </a:lnTo>
                <a:lnTo>
                  <a:pt x="1311" y="660"/>
                </a:lnTo>
                <a:lnTo>
                  <a:pt x="655" y="660"/>
                </a:lnTo>
                <a:lnTo>
                  <a:pt x="1311" y="0"/>
                </a:lnTo>
                <a:lnTo>
                  <a:pt x="1311" y="5933"/>
                </a:lnTo>
                <a:lnTo>
                  <a:pt x="1967" y="5274"/>
                </a:lnTo>
                <a:lnTo>
                  <a:pt x="1311" y="5274"/>
                </a:lnTo>
                <a:lnTo>
                  <a:pt x="1967" y="4614"/>
                </a:lnTo>
                <a:lnTo>
                  <a:pt x="1311" y="4614"/>
                </a:lnTo>
                <a:lnTo>
                  <a:pt x="1967" y="3956"/>
                </a:lnTo>
                <a:lnTo>
                  <a:pt x="1311" y="3956"/>
                </a:lnTo>
                <a:lnTo>
                  <a:pt x="1967" y="3296"/>
                </a:lnTo>
                <a:lnTo>
                  <a:pt x="1311" y="3296"/>
                </a:lnTo>
                <a:lnTo>
                  <a:pt x="1967" y="2637"/>
                </a:lnTo>
                <a:lnTo>
                  <a:pt x="1311" y="2637"/>
                </a:lnTo>
                <a:lnTo>
                  <a:pt x="1967" y="1977"/>
                </a:lnTo>
                <a:lnTo>
                  <a:pt x="1311" y="1977"/>
                </a:lnTo>
                <a:lnTo>
                  <a:pt x="1967" y="1318"/>
                </a:lnTo>
                <a:lnTo>
                  <a:pt x="1311" y="1318"/>
                </a:lnTo>
                <a:lnTo>
                  <a:pt x="1967" y="660"/>
                </a:lnTo>
                <a:lnTo>
                  <a:pt x="1311" y="660"/>
                </a:lnTo>
                <a:lnTo>
                  <a:pt x="1967" y="0"/>
                </a:lnTo>
                <a:lnTo>
                  <a:pt x="1967" y="5933"/>
                </a:lnTo>
                <a:lnTo>
                  <a:pt x="2623" y="5274"/>
                </a:lnTo>
                <a:lnTo>
                  <a:pt x="1967" y="5274"/>
                </a:lnTo>
                <a:lnTo>
                  <a:pt x="2623" y="4614"/>
                </a:lnTo>
                <a:lnTo>
                  <a:pt x="1967" y="4614"/>
                </a:lnTo>
                <a:lnTo>
                  <a:pt x="2623" y="3956"/>
                </a:lnTo>
                <a:lnTo>
                  <a:pt x="1967" y="3956"/>
                </a:lnTo>
                <a:lnTo>
                  <a:pt x="2623" y="3296"/>
                </a:lnTo>
                <a:lnTo>
                  <a:pt x="1967" y="3296"/>
                </a:lnTo>
                <a:lnTo>
                  <a:pt x="2623" y="2637"/>
                </a:lnTo>
                <a:lnTo>
                  <a:pt x="1967" y="2637"/>
                </a:lnTo>
                <a:lnTo>
                  <a:pt x="2623" y="1977"/>
                </a:lnTo>
                <a:lnTo>
                  <a:pt x="1967" y="1977"/>
                </a:lnTo>
                <a:lnTo>
                  <a:pt x="2623" y="1318"/>
                </a:lnTo>
                <a:lnTo>
                  <a:pt x="1967" y="1318"/>
                </a:lnTo>
                <a:lnTo>
                  <a:pt x="2623" y="660"/>
                </a:lnTo>
                <a:lnTo>
                  <a:pt x="1967" y="660"/>
                </a:lnTo>
                <a:lnTo>
                  <a:pt x="2623" y="0"/>
                </a:lnTo>
                <a:lnTo>
                  <a:pt x="2623" y="5933"/>
                </a:lnTo>
                <a:lnTo>
                  <a:pt x="3279" y="5274"/>
                </a:lnTo>
                <a:lnTo>
                  <a:pt x="2623" y="5274"/>
                </a:lnTo>
                <a:lnTo>
                  <a:pt x="3279" y="4614"/>
                </a:lnTo>
                <a:lnTo>
                  <a:pt x="2623" y="4614"/>
                </a:lnTo>
                <a:lnTo>
                  <a:pt x="3279" y="3956"/>
                </a:lnTo>
                <a:lnTo>
                  <a:pt x="2623" y="3956"/>
                </a:lnTo>
                <a:lnTo>
                  <a:pt x="3279" y="3296"/>
                </a:lnTo>
                <a:lnTo>
                  <a:pt x="2623" y="3296"/>
                </a:lnTo>
                <a:lnTo>
                  <a:pt x="3279" y="2637"/>
                </a:lnTo>
                <a:lnTo>
                  <a:pt x="2623" y="2637"/>
                </a:lnTo>
                <a:lnTo>
                  <a:pt x="3279" y="1977"/>
                </a:lnTo>
                <a:lnTo>
                  <a:pt x="2623" y="1977"/>
                </a:lnTo>
                <a:lnTo>
                  <a:pt x="3279" y="1318"/>
                </a:lnTo>
                <a:lnTo>
                  <a:pt x="2623" y="1318"/>
                </a:lnTo>
                <a:lnTo>
                  <a:pt x="3279" y="660"/>
                </a:lnTo>
                <a:lnTo>
                  <a:pt x="2623" y="660"/>
                </a:lnTo>
                <a:lnTo>
                  <a:pt x="3279" y="0"/>
                </a:lnTo>
                <a:lnTo>
                  <a:pt x="3279" y="5933"/>
                </a:lnTo>
                <a:lnTo>
                  <a:pt x="3934" y="5274"/>
                </a:lnTo>
                <a:lnTo>
                  <a:pt x="3279" y="5274"/>
                </a:lnTo>
                <a:lnTo>
                  <a:pt x="3934" y="4614"/>
                </a:lnTo>
                <a:lnTo>
                  <a:pt x="3279" y="4614"/>
                </a:lnTo>
                <a:lnTo>
                  <a:pt x="3934" y="3956"/>
                </a:lnTo>
                <a:lnTo>
                  <a:pt x="3279" y="3956"/>
                </a:lnTo>
                <a:lnTo>
                  <a:pt x="3934" y="3296"/>
                </a:lnTo>
                <a:lnTo>
                  <a:pt x="3279" y="3296"/>
                </a:lnTo>
                <a:lnTo>
                  <a:pt x="3934" y="2637"/>
                </a:lnTo>
                <a:lnTo>
                  <a:pt x="3279" y="2637"/>
                </a:lnTo>
                <a:lnTo>
                  <a:pt x="3934" y="1977"/>
                </a:lnTo>
                <a:lnTo>
                  <a:pt x="3279" y="1977"/>
                </a:lnTo>
                <a:lnTo>
                  <a:pt x="3934" y="1318"/>
                </a:lnTo>
                <a:lnTo>
                  <a:pt x="3279" y="1318"/>
                </a:lnTo>
                <a:lnTo>
                  <a:pt x="3934" y="660"/>
                </a:lnTo>
                <a:lnTo>
                  <a:pt x="3279" y="660"/>
                </a:lnTo>
                <a:lnTo>
                  <a:pt x="3934" y="0"/>
                </a:lnTo>
                <a:lnTo>
                  <a:pt x="3934" y="5933"/>
                </a:lnTo>
                <a:lnTo>
                  <a:pt x="4591" y="5274"/>
                </a:lnTo>
                <a:lnTo>
                  <a:pt x="3934" y="5274"/>
                </a:lnTo>
                <a:lnTo>
                  <a:pt x="4591" y="4614"/>
                </a:lnTo>
                <a:lnTo>
                  <a:pt x="3934" y="4614"/>
                </a:lnTo>
                <a:lnTo>
                  <a:pt x="4591" y="3956"/>
                </a:lnTo>
                <a:lnTo>
                  <a:pt x="3934" y="3956"/>
                </a:lnTo>
                <a:lnTo>
                  <a:pt x="4591" y="3296"/>
                </a:lnTo>
                <a:lnTo>
                  <a:pt x="3934" y="3296"/>
                </a:lnTo>
                <a:lnTo>
                  <a:pt x="4591" y="2637"/>
                </a:lnTo>
                <a:lnTo>
                  <a:pt x="3934" y="2637"/>
                </a:lnTo>
                <a:lnTo>
                  <a:pt x="4591" y="1977"/>
                </a:lnTo>
                <a:lnTo>
                  <a:pt x="3934" y="1977"/>
                </a:lnTo>
                <a:lnTo>
                  <a:pt x="4591" y="1318"/>
                </a:lnTo>
                <a:lnTo>
                  <a:pt x="3934" y="1318"/>
                </a:lnTo>
                <a:lnTo>
                  <a:pt x="4591" y="660"/>
                </a:lnTo>
                <a:lnTo>
                  <a:pt x="3934" y="660"/>
                </a:lnTo>
                <a:lnTo>
                  <a:pt x="4591" y="0"/>
                </a:lnTo>
                <a:lnTo>
                  <a:pt x="4591" y="5933"/>
                </a:lnTo>
                <a:lnTo>
                  <a:pt x="5246" y="5274"/>
                </a:lnTo>
                <a:lnTo>
                  <a:pt x="4591" y="5274"/>
                </a:lnTo>
                <a:lnTo>
                  <a:pt x="5246" y="4614"/>
                </a:lnTo>
                <a:lnTo>
                  <a:pt x="4591" y="4614"/>
                </a:lnTo>
                <a:lnTo>
                  <a:pt x="5246" y="3956"/>
                </a:lnTo>
                <a:lnTo>
                  <a:pt x="4591" y="3956"/>
                </a:lnTo>
                <a:lnTo>
                  <a:pt x="5246" y="3296"/>
                </a:lnTo>
                <a:lnTo>
                  <a:pt x="4591" y="3296"/>
                </a:lnTo>
                <a:lnTo>
                  <a:pt x="5246" y="2637"/>
                </a:lnTo>
                <a:lnTo>
                  <a:pt x="4591" y="2637"/>
                </a:lnTo>
                <a:lnTo>
                  <a:pt x="5246" y="1977"/>
                </a:lnTo>
                <a:lnTo>
                  <a:pt x="4591" y="1977"/>
                </a:lnTo>
                <a:lnTo>
                  <a:pt x="5246" y="1318"/>
                </a:lnTo>
                <a:lnTo>
                  <a:pt x="4591" y="1318"/>
                </a:lnTo>
                <a:lnTo>
                  <a:pt x="5246" y="660"/>
                </a:lnTo>
                <a:lnTo>
                  <a:pt x="4591" y="660"/>
                </a:lnTo>
                <a:lnTo>
                  <a:pt x="5246" y="0"/>
                </a:lnTo>
                <a:lnTo>
                  <a:pt x="5246" y="5933"/>
                </a:lnTo>
                <a:lnTo>
                  <a:pt x="5901" y="5274"/>
                </a:lnTo>
                <a:lnTo>
                  <a:pt x="5246" y="5274"/>
                </a:lnTo>
                <a:lnTo>
                  <a:pt x="5901" y="4614"/>
                </a:lnTo>
                <a:lnTo>
                  <a:pt x="5246" y="4614"/>
                </a:lnTo>
                <a:lnTo>
                  <a:pt x="5901" y="3956"/>
                </a:lnTo>
                <a:lnTo>
                  <a:pt x="5246" y="3956"/>
                </a:lnTo>
                <a:lnTo>
                  <a:pt x="5901" y="3296"/>
                </a:lnTo>
                <a:lnTo>
                  <a:pt x="5246" y="3296"/>
                </a:lnTo>
                <a:lnTo>
                  <a:pt x="5901" y="2637"/>
                </a:lnTo>
                <a:lnTo>
                  <a:pt x="5246" y="2637"/>
                </a:lnTo>
                <a:lnTo>
                  <a:pt x="5901" y="1977"/>
                </a:lnTo>
                <a:lnTo>
                  <a:pt x="5246" y="1977"/>
                </a:lnTo>
                <a:lnTo>
                  <a:pt x="5901" y="1318"/>
                </a:lnTo>
                <a:lnTo>
                  <a:pt x="5246" y="1318"/>
                </a:lnTo>
                <a:lnTo>
                  <a:pt x="5901" y="660"/>
                </a:lnTo>
                <a:lnTo>
                  <a:pt x="5246" y="660"/>
                </a:lnTo>
                <a:lnTo>
                  <a:pt x="5901" y="0"/>
                </a:lnTo>
                <a:lnTo>
                  <a:pt x="5901" y="5933"/>
                </a:lnTo>
                <a:lnTo>
                  <a:pt x="0" y="593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0" name=""/>
          <p:cNvGrpSpPr/>
          <p:nvPr/>
        </p:nvGrpSpPr>
        <p:grpSpPr>
          <a:xfrm>
            <a:off x="3505680" y="3200400"/>
            <a:ext cx="1915560" cy="1485720"/>
            <a:chOff x="3505680" y="3200400"/>
            <a:chExt cx="1915560" cy="1485720"/>
          </a:xfrm>
        </p:grpSpPr>
        <p:sp>
          <p:nvSpPr>
            <p:cNvPr id="2991" name=""/>
            <p:cNvSpPr/>
            <p:nvPr/>
          </p:nvSpPr>
          <p:spPr>
            <a:xfrm flipH="1">
              <a:off x="3505320" y="3200400"/>
              <a:ext cx="1915560" cy="1485720"/>
            </a:xfrm>
            <a:custGeom>
              <a:avLst/>
              <a:gdLst/>
              <a:ahLst/>
              <a:rect l="l" t="t" r="r" b="b"/>
              <a:pathLst>
                <a:path w="1795" h="1461">
                  <a:moveTo>
                    <a:pt x="40" y="596"/>
                  </a:moveTo>
                  <a:lnTo>
                    <a:pt x="34" y="554"/>
                  </a:lnTo>
                  <a:lnTo>
                    <a:pt x="30" y="514"/>
                  </a:lnTo>
                  <a:lnTo>
                    <a:pt x="27" y="475"/>
                  </a:lnTo>
                  <a:lnTo>
                    <a:pt x="30" y="437"/>
                  </a:lnTo>
                  <a:lnTo>
                    <a:pt x="38" y="399"/>
                  </a:lnTo>
                  <a:lnTo>
                    <a:pt x="53" y="362"/>
                  </a:lnTo>
                  <a:lnTo>
                    <a:pt x="78" y="325"/>
                  </a:lnTo>
                  <a:lnTo>
                    <a:pt x="114" y="288"/>
                  </a:lnTo>
                  <a:lnTo>
                    <a:pt x="137" y="268"/>
                  </a:lnTo>
                  <a:lnTo>
                    <a:pt x="162" y="247"/>
                  </a:lnTo>
                  <a:lnTo>
                    <a:pt x="190" y="222"/>
                  </a:lnTo>
                  <a:lnTo>
                    <a:pt x="220" y="197"/>
                  </a:lnTo>
                  <a:lnTo>
                    <a:pt x="251" y="172"/>
                  </a:lnTo>
                  <a:lnTo>
                    <a:pt x="283" y="146"/>
                  </a:lnTo>
                  <a:lnTo>
                    <a:pt x="315" y="121"/>
                  </a:lnTo>
                  <a:lnTo>
                    <a:pt x="349" y="96"/>
                  </a:lnTo>
                  <a:lnTo>
                    <a:pt x="381" y="74"/>
                  </a:lnTo>
                  <a:lnTo>
                    <a:pt x="413" y="53"/>
                  </a:lnTo>
                  <a:lnTo>
                    <a:pt x="445" y="35"/>
                  </a:lnTo>
                  <a:lnTo>
                    <a:pt x="475" y="20"/>
                  </a:lnTo>
                  <a:lnTo>
                    <a:pt x="504" y="8"/>
                  </a:lnTo>
                  <a:lnTo>
                    <a:pt x="529" y="2"/>
                  </a:lnTo>
                  <a:lnTo>
                    <a:pt x="554" y="0"/>
                  </a:lnTo>
                  <a:lnTo>
                    <a:pt x="574" y="4"/>
                  </a:lnTo>
                  <a:lnTo>
                    <a:pt x="582" y="6"/>
                  </a:lnTo>
                  <a:lnTo>
                    <a:pt x="592" y="9"/>
                  </a:lnTo>
                  <a:lnTo>
                    <a:pt x="602" y="12"/>
                  </a:lnTo>
                  <a:lnTo>
                    <a:pt x="614" y="15"/>
                  </a:lnTo>
                  <a:lnTo>
                    <a:pt x="627" y="19"/>
                  </a:lnTo>
                  <a:lnTo>
                    <a:pt x="640" y="22"/>
                  </a:lnTo>
                  <a:lnTo>
                    <a:pt x="655" y="25"/>
                  </a:lnTo>
                  <a:lnTo>
                    <a:pt x="670" y="29"/>
                  </a:lnTo>
                  <a:lnTo>
                    <a:pt x="685" y="32"/>
                  </a:lnTo>
                  <a:lnTo>
                    <a:pt x="700" y="35"/>
                  </a:lnTo>
                  <a:lnTo>
                    <a:pt x="716" y="37"/>
                  </a:lnTo>
                  <a:lnTo>
                    <a:pt x="731" y="38"/>
                  </a:lnTo>
                  <a:lnTo>
                    <a:pt x="745" y="39"/>
                  </a:lnTo>
                  <a:lnTo>
                    <a:pt x="760" y="39"/>
                  </a:lnTo>
                  <a:lnTo>
                    <a:pt x="772" y="38"/>
                  </a:lnTo>
                  <a:lnTo>
                    <a:pt x="785" y="36"/>
                  </a:lnTo>
                  <a:lnTo>
                    <a:pt x="798" y="32"/>
                  </a:lnTo>
                  <a:lnTo>
                    <a:pt x="810" y="29"/>
                  </a:lnTo>
                  <a:lnTo>
                    <a:pt x="825" y="25"/>
                  </a:lnTo>
                  <a:lnTo>
                    <a:pt x="840" y="22"/>
                  </a:lnTo>
                  <a:lnTo>
                    <a:pt x="856" y="19"/>
                  </a:lnTo>
                  <a:lnTo>
                    <a:pt x="873" y="15"/>
                  </a:lnTo>
                  <a:lnTo>
                    <a:pt x="891" y="12"/>
                  </a:lnTo>
                  <a:lnTo>
                    <a:pt x="909" y="9"/>
                  </a:lnTo>
                  <a:lnTo>
                    <a:pt x="929" y="7"/>
                  </a:lnTo>
                  <a:lnTo>
                    <a:pt x="951" y="6"/>
                  </a:lnTo>
                  <a:lnTo>
                    <a:pt x="973" y="6"/>
                  </a:lnTo>
                  <a:lnTo>
                    <a:pt x="996" y="7"/>
                  </a:lnTo>
                  <a:lnTo>
                    <a:pt x="1019" y="8"/>
                  </a:lnTo>
                  <a:lnTo>
                    <a:pt x="1044" y="12"/>
                  </a:lnTo>
                  <a:lnTo>
                    <a:pt x="1071" y="16"/>
                  </a:lnTo>
                  <a:lnTo>
                    <a:pt x="1098" y="23"/>
                  </a:lnTo>
                  <a:lnTo>
                    <a:pt x="1137" y="21"/>
                  </a:lnTo>
                  <a:lnTo>
                    <a:pt x="1177" y="21"/>
                  </a:lnTo>
                  <a:lnTo>
                    <a:pt x="1217" y="23"/>
                  </a:lnTo>
                  <a:lnTo>
                    <a:pt x="1256" y="29"/>
                  </a:lnTo>
                  <a:lnTo>
                    <a:pt x="1296" y="36"/>
                  </a:lnTo>
                  <a:lnTo>
                    <a:pt x="1334" y="45"/>
                  </a:lnTo>
                  <a:lnTo>
                    <a:pt x="1372" y="57"/>
                  </a:lnTo>
                  <a:lnTo>
                    <a:pt x="1408" y="68"/>
                  </a:lnTo>
                  <a:lnTo>
                    <a:pt x="1443" y="82"/>
                  </a:lnTo>
                  <a:lnTo>
                    <a:pt x="1475" y="96"/>
                  </a:lnTo>
                  <a:lnTo>
                    <a:pt x="1504" y="110"/>
                  </a:lnTo>
                  <a:lnTo>
                    <a:pt x="1530" y="125"/>
                  </a:lnTo>
                  <a:lnTo>
                    <a:pt x="1553" y="141"/>
                  </a:lnTo>
                  <a:lnTo>
                    <a:pt x="1574" y="154"/>
                  </a:lnTo>
                  <a:lnTo>
                    <a:pt x="1589" y="169"/>
                  </a:lnTo>
                  <a:lnTo>
                    <a:pt x="1600" y="183"/>
                  </a:lnTo>
                  <a:lnTo>
                    <a:pt x="1619" y="217"/>
                  </a:lnTo>
                  <a:lnTo>
                    <a:pt x="1640" y="265"/>
                  </a:lnTo>
                  <a:lnTo>
                    <a:pt x="1661" y="326"/>
                  </a:lnTo>
                  <a:lnTo>
                    <a:pt x="1681" y="398"/>
                  </a:lnTo>
                  <a:lnTo>
                    <a:pt x="1698" y="477"/>
                  </a:lnTo>
                  <a:lnTo>
                    <a:pt x="1710" y="561"/>
                  </a:lnTo>
                  <a:lnTo>
                    <a:pt x="1717" y="651"/>
                  </a:lnTo>
                  <a:lnTo>
                    <a:pt x="1716" y="741"/>
                  </a:lnTo>
                  <a:lnTo>
                    <a:pt x="1724" y="751"/>
                  </a:lnTo>
                  <a:lnTo>
                    <a:pt x="1732" y="759"/>
                  </a:lnTo>
                  <a:lnTo>
                    <a:pt x="1740" y="767"/>
                  </a:lnTo>
                  <a:lnTo>
                    <a:pt x="1748" y="775"/>
                  </a:lnTo>
                  <a:lnTo>
                    <a:pt x="1756" y="781"/>
                  </a:lnTo>
                  <a:lnTo>
                    <a:pt x="1764" y="787"/>
                  </a:lnTo>
                  <a:lnTo>
                    <a:pt x="1771" y="791"/>
                  </a:lnTo>
                  <a:lnTo>
                    <a:pt x="1778" y="796"/>
                  </a:lnTo>
                  <a:lnTo>
                    <a:pt x="1770" y="796"/>
                  </a:lnTo>
                  <a:lnTo>
                    <a:pt x="1760" y="795"/>
                  </a:lnTo>
                  <a:lnTo>
                    <a:pt x="1752" y="794"/>
                  </a:lnTo>
                  <a:lnTo>
                    <a:pt x="1744" y="791"/>
                  </a:lnTo>
                  <a:lnTo>
                    <a:pt x="1736" y="789"/>
                  </a:lnTo>
                  <a:lnTo>
                    <a:pt x="1728" y="786"/>
                  </a:lnTo>
                  <a:lnTo>
                    <a:pt x="1720" y="782"/>
                  </a:lnTo>
                  <a:lnTo>
                    <a:pt x="1713" y="779"/>
                  </a:lnTo>
                  <a:lnTo>
                    <a:pt x="1711" y="802"/>
                  </a:lnTo>
                  <a:lnTo>
                    <a:pt x="1717" y="809"/>
                  </a:lnTo>
                  <a:lnTo>
                    <a:pt x="1725" y="817"/>
                  </a:lnTo>
                  <a:lnTo>
                    <a:pt x="1734" y="827"/>
                  </a:lnTo>
                  <a:lnTo>
                    <a:pt x="1744" y="839"/>
                  </a:lnTo>
                  <a:lnTo>
                    <a:pt x="1756" y="850"/>
                  </a:lnTo>
                  <a:lnTo>
                    <a:pt x="1769" y="863"/>
                  </a:lnTo>
                  <a:lnTo>
                    <a:pt x="1781" y="876"/>
                  </a:lnTo>
                  <a:lnTo>
                    <a:pt x="1795" y="887"/>
                  </a:lnTo>
                  <a:lnTo>
                    <a:pt x="1785" y="886"/>
                  </a:lnTo>
                  <a:lnTo>
                    <a:pt x="1773" y="884"/>
                  </a:lnTo>
                  <a:lnTo>
                    <a:pt x="1762" y="880"/>
                  </a:lnTo>
                  <a:lnTo>
                    <a:pt x="1749" y="876"/>
                  </a:lnTo>
                  <a:lnTo>
                    <a:pt x="1737" y="871"/>
                  </a:lnTo>
                  <a:lnTo>
                    <a:pt x="1726" y="864"/>
                  </a:lnTo>
                  <a:lnTo>
                    <a:pt x="1714" y="857"/>
                  </a:lnTo>
                  <a:lnTo>
                    <a:pt x="1704" y="850"/>
                  </a:lnTo>
                  <a:lnTo>
                    <a:pt x="1698" y="914"/>
                  </a:lnTo>
                  <a:lnTo>
                    <a:pt x="1690" y="992"/>
                  </a:lnTo>
                  <a:lnTo>
                    <a:pt x="1678" y="1078"/>
                  </a:lnTo>
                  <a:lnTo>
                    <a:pt x="1661" y="1165"/>
                  </a:lnTo>
                  <a:lnTo>
                    <a:pt x="1642" y="1246"/>
                  </a:lnTo>
                  <a:lnTo>
                    <a:pt x="1617" y="1316"/>
                  </a:lnTo>
                  <a:lnTo>
                    <a:pt x="1587" y="1366"/>
                  </a:lnTo>
                  <a:lnTo>
                    <a:pt x="1551" y="1392"/>
                  </a:lnTo>
                  <a:lnTo>
                    <a:pt x="1526" y="1397"/>
                  </a:lnTo>
                  <a:lnTo>
                    <a:pt x="1506" y="1401"/>
                  </a:lnTo>
                  <a:lnTo>
                    <a:pt x="1491" y="1402"/>
                  </a:lnTo>
                  <a:lnTo>
                    <a:pt x="1481" y="1401"/>
                  </a:lnTo>
                  <a:lnTo>
                    <a:pt x="1475" y="1397"/>
                  </a:lnTo>
                  <a:lnTo>
                    <a:pt x="1471" y="1392"/>
                  </a:lnTo>
                  <a:lnTo>
                    <a:pt x="1470" y="1385"/>
                  </a:lnTo>
                  <a:lnTo>
                    <a:pt x="1471" y="1377"/>
                  </a:lnTo>
                  <a:lnTo>
                    <a:pt x="1473" y="1367"/>
                  </a:lnTo>
                  <a:lnTo>
                    <a:pt x="1473" y="1359"/>
                  </a:lnTo>
                  <a:lnTo>
                    <a:pt x="1473" y="1354"/>
                  </a:lnTo>
                  <a:lnTo>
                    <a:pt x="1474" y="1349"/>
                  </a:lnTo>
                  <a:lnTo>
                    <a:pt x="1477" y="1346"/>
                  </a:lnTo>
                  <a:lnTo>
                    <a:pt x="1483" y="1343"/>
                  </a:lnTo>
                  <a:lnTo>
                    <a:pt x="1493" y="1340"/>
                  </a:lnTo>
                  <a:lnTo>
                    <a:pt x="1507" y="1337"/>
                  </a:lnTo>
                  <a:lnTo>
                    <a:pt x="1516" y="1335"/>
                  </a:lnTo>
                  <a:lnTo>
                    <a:pt x="1527" y="1331"/>
                  </a:lnTo>
                  <a:lnTo>
                    <a:pt x="1537" y="1325"/>
                  </a:lnTo>
                  <a:lnTo>
                    <a:pt x="1547" y="1317"/>
                  </a:lnTo>
                  <a:lnTo>
                    <a:pt x="1557" y="1307"/>
                  </a:lnTo>
                  <a:lnTo>
                    <a:pt x="1564" y="1295"/>
                  </a:lnTo>
                  <a:lnTo>
                    <a:pt x="1569" y="1280"/>
                  </a:lnTo>
                  <a:lnTo>
                    <a:pt x="1573" y="1261"/>
                  </a:lnTo>
                  <a:lnTo>
                    <a:pt x="1577" y="1206"/>
                  </a:lnTo>
                  <a:lnTo>
                    <a:pt x="1580" y="1129"/>
                  </a:lnTo>
                  <a:lnTo>
                    <a:pt x="1579" y="1046"/>
                  </a:lnTo>
                  <a:lnTo>
                    <a:pt x="1573" y="976"/>
                  </a:lnTo>
                  <a:lnTo>
                    <a:pt x="1564" y="914"/>
                  </a:lnTo>
                  <a:lnTo>
                    <a:pt x="1557" y="844"/>
                  </a:lnTo>
                  <a:lnTo>
                    <a:pt x="1553" y="774"/>
                  </a:lnTo>
                  <a:lnTo>
                    <a:pt x="1557" y="704"/>
                  </a:lnTo>
                  <a:lnTo>
                    <a:pt x="1538" y="687"/>
                  </a:lnTo>
                  <a:lnTo>
                    <a:pt x="1519" y="668"/>
                  </a:lnTo>
                  <a:lnTo>
                    <a:pt x="1499" y="650"/>
                  </a:lnTo>
                  <a:lnTo>
                    <a:pt x="1479" y="630"/>
                  </a:lnTo>
                  <a:lnTo>
                    <a:pt x="1461" y="611"/>
                  </a:lnTo>
                  <a:lnTo>
                    <a:pt x="1443" y="590"/>
                  </a:lnTo>
                  <a:lnTo>
                    <a:pt x="1427" y="570"/>
                  </a:lnTo>
                  <a:lnTo>
                    <a:pt x="1412" y="552"/>
                  </a:lnTo>
                  <a:lnTo>
                    <a:pt x="1403" y="551"/>
                  </a:lnTo>
                  <a:lnTo>
                    <a:pt x="1394" y="548"/>
                  </a:lnTo>
                  <a:lnTo>
                    <a:pt x="1384" y="547"/>
                  </a:lnTo>
                  <a:lnTo>
                    <a:pt x="1374" y="545"/>
                  </a:lnTo>
                  <a:lnTo>
                    <a:pt x="1364" y="543"/>
                  </a:lnTo>
                  <a:lnTo>
                    <a:pt x="1356" y="540"/>
                  </a:lnTo>
                  <a:lnTo>
                    <a:pt x="1352" y="539"/>
                  </a:lnTo>
                  <a:lnTo>
                    <a:pt x="1349" y="539"/>
                  </a:lnTo>
                  <a:lnTo>
                    <a:pt x="1342" y="553"/>
                  </a:lnTo>
                  <a:lnTo>
                    <a:pt x="1336" y="566"/>
                  </a:lnTo>
                  <a:lnTo>
                    <a:pt x="1329" y="580"/>
                  </a:lnTo>
                  <a:lnTo>
                    <a:pt x="1323" y="593"/>
                  </a:lnTo>
                  <a:lnTo>
                    <a:pt x="1317" y="592"/>
                  </a:lnTo>
                  <a:lnTo>
                    <a:pt x="1311" y="591"/>
                  </a:lnTo>
                  <a:lnTo>
                    <a:pt x="1306" y="589"/>
                  </a:lnTo>
                  <a:lnTo>
                    <a:pt x="1301" y="586"/>
                  </a:lnTo>
                  <a:lnTo>
                    <a:pt x="1295" y="584"/>
                  </a:lnTo>
                  <a:lnTo>
                    <a:pt x="1291" y="581"/>
                  </a:lnTo>
                  <a:lnTo>
                    <a:pt x="1285" y="577"/>
                  </a:lnTo>
                  <a:lnTo>
                    <a:pt x="1280" y="574"/>
                  </a:lnTo>
                  <a:lnTo>
                    <a:pt x="1277" y="580"/>
                  </a:lnTo>
                  <a:lnTo>
                    <a:pt x="1272" y="584"/>
                  </a:lnTo>
                  <a:lnTo>
                    <a:pt x="1266" y="590"/>
                  </a:lnTo>
                  <a:lnTo>
                    <a:pt x="1261" y="594"/>
                  </a:lnTo>
                  <a:lnTo>
                    <a:pt x="1255" y="600"/>
                  </a:lnTo>
                  <a:lnTo>
                    <a:pt x="1247" y="605"/>
                  </a:lnTo>
                  <a:lnTo>
                    <a:pt x="1240" y="611"/>
                  </a:lnTo>
                  <a:lnTo>
                    <a:pt x="1232" y="615"/>
                  </a:lnTo>
                  <a:lnTo>
                    <a:pt x="1227" y="611"/>
                  </a:lnTo>
                  <a:lnTo>
                    <a:pt x="1223" y="605"/>
                  </a:lnTo>
                  <a:lnTo>
                    <a:pt x="1218" y="598"/>
                  </a:lnTo>
                  <a:lnTo>
                    <a:pt x="1212" y="591"/>
                  </a:lnTo>
                  <a:lnTo>
                    <a:pt x="1207" y="584"/>
                  </a:lnTo>
                  <a:lnTo>
                    <a:pt x="1200" y="577"/>
                  </a:lnTo>
                  <a:lnTo>
                    <a:pt x="1194" y="571"/>
                  </a:lnTo>
                  <a:lnTo>
                    <a:pt x="1187" y="567"/>
                  </a:lnTo>
                  <a:lnTo>
                    <a:pt x="1174" y="597"/>
                  </a:lnTo>
                  <a:lnTo>
                    <a:pt x="1167" y="631"/>
                  </a:lnTo>
                  <a:lnTo>
                    <a:pt x="1166" y="673"/>
                  </a:lnTo>
                  <a:lnTo>
                    <a:pt x="1170" y="721"/>
                  </a:lnTo>
                  <a:lnTo>
                    <a:pt x="1175" y="781"/>
                  </a:lnTo>
                  <a:lnTo>
                    <a:pt x="1178" y="856"/>
                  </a:lnTo>
                  <a:lnTo>
                    <a:pt x="1173" y="929"/>
                  </a:lnTo>
                  <a:lnTo>
                    <a:pt x="1160" y="984"/>
                  </a:lnTo>
                  <a:lnTo>
                    <a:pt x="1170" y="1010"/>
                  </a:lnTo>
                  <a:lnTo>
                    <a:pt x="1180" y="1046"/>
                  </a:lnTo>
                  <a:lnTo>
                    <a:pt x="1190" y="1087"/>
                  </a:lnTo>
                  <a:lnTo>
                    <a:pt x="1200" y="1134"/>
                  </a:lnTo>
                  <a:lnTo>
                    <a:pt x="1207" y="1183"/>
                  </a:lnTo>
                  <a:lnTo>
                    <a:pt x="1210" y="1233"/>
                  </a:lnTo>
                  <a:lnTo>
                    <a:pt x="1209" y="1280"/>
                  </a:lnTo>
                  <a:lnTo>
                    <a:pt x="1202" y="1325"/>
                  </a:lnTo>
                  <a:lnTo>
                    <a:pt x="1215" y="1337"/>
                  </a:lnTo>
                  <a:lnTo>
                    <a:pt x="1227" y="1351"/>
                  </a:lnTo>
                  <a:lnTo>
                    <a:pt x="1240" y="1365"/>
                  </a:lnTo>
                  <a:lnTo>
                    <a:pt x="1250" y="1379"/>
                  </a:lnTo>
                  <a:lnTo>
                    <a:pt x="1260" y="1393"/>
                  </a:lnTo>
                  <a:lnTo>
                    <a:pt x="1268" y="1407"/>
                  </a:lnTo>
                  <a:lnTo>
                    <a:pt x="1272" y="1420"/>
                  </a:lnTo>
                  <a:lnTo>
                    <a:pt x="1273" y="1433"/>
                  </a:lnTo>
                  <a:lnTo>
                    <a:pt x="1263" y="1433"/>
                  </a:lnTo>
                  <a:lnTo>
                    <a:pt x="1251" y="1434"/>
                  </a:lnTo>
                  <a:lnTo>
                    <a:pt x="1238" y="1434"/>
                  </a:lnTo>
                  <a:lnTo>
                    <a:pt x="1223" y="1434"/>
                  </a:lnTo>
                  <a:lnTo>
                    <a:pt x="1207" y="1434"/>
                  </a:lnTo>
                  <a:lnTo>
                    <a:pt x="1190" y="1435"/>
                  </a:lnTo>
                  <a:lnTo>
                    <a:pt x="1173" y="1434"/>
                  </a:lnTo>
                  <a:lnTo>
                    <a:pt x="1156" y="1434"/>
                  </a:lnTo>
                  <a:lnTo>
                    <a:pt x="1139" y="1434"/>
                  </a:lnTo>
                  <a:lnTo>
                    <a:pt x="1121" y="1433"/>
                  </a:lnTo>
                  <a:lnTo>
                    <a:pt x="1105" y="1433"/>
                  </a:lnTo>
                  <a:lnTo>
                    <a:pt x="1090" y="1432"/>
                  </a:lnTo>
                  <a:lnTo>
                    <a:pt x="1076" y="1430"/>
                  </a:lnTo>
                  <a:lnTo>
                    <a:pt x="1065" y="1428"/>
                  </a:lnTo>
                  <a:lnTo>
                    <a:pt x="1056" y="1426"/>
                  </a:lnTo>
                  <a:lnTo>
                    <a:pt x="1048" y="1424"/>
                  </a:lnTo>
                  <a:lnTo>
                    <a:pt x="1044" y="1411"/>
                  </a:lnTo>
                  <a:lnTo>
                    <a:pt x="1041" y="1394"/>
                  </a:lnTo>
                  <a:lnTo>
                    <a:pt x="1040" y="1379"/>
                  </a:lnTo>
                  <a:lnTo>
                    <a:pt x="1042" y="1372"/>
                  </a:lnTo>
                  <a:lnTo>
                    <a:pt x="1049" y="1370"/>
                  </a:lnTo>
                  <a:lnTo>
                    <a:pt x="1055" y="1365"/>
                  </a:lnTo>
                  <a:lnTo>
                    <a:pt x="1059" y="1360"/>
                  </a:lnTo>
                  <a:lnTo>
                    <a:pt x="1061" y="1355"/>
                  </a:lnTo>
                  <a:lnTo>
                    <a:pt x="1059" y="1339"/>
                  </a:lnTo>
                  <a:lnTo>
                    <a:pt x="1055" y="1314"/>
                  </a:lnTo>
                  <a:lnTo>
                    <a:pt x="1050" y="1284"/>
                  </a:lnTo>
                  <a:lnTo>
                    <a:pt x="1044" y="1251"/>
                  </a:lnTo>
                  <a:lnTo>
                    <a:pt x="1037" y="1218"/>
                  </a:lnTo>
                  <a:lnTo>
                    <a:pt x="1030" y="1187"/>
                  </a:lnTo>
                  <a:lnTo>
                    <a:pt x="1022" y="1159"/>
                  </a:lnTo>
                  <a:lnTo>
                    <a:pt x="1015" y="1138"/>
                  </a:lnTo>
                  <a:lnTo>
                    <a:pt x="1007" y="1159"/>
                  </a:lnTo>
                  <a:lnTo>
                    <a:pt x="997" y="1182"/>
                  </a:lnTo>
                  <a:lnTo>
                    <a:pt x="985" y="1207"/>
                  </a:lnTo>
                  <a:lnTo>
                    <a:pt x="973" y="1233"/>
                  </a:lnTo>
                  <a:lnTo>
                    <a:pt x="962" y="1256"/>
                  </a:lnTo>
                  <a:lnTo>
                    <a:pt x="953" y="1276"/>
                  </a:lnTo>
                  <a:lnTo>
                    <a:pt x="946" y="1291"/>
                  </a:lnTo>
                  <a:lnTo>
                    <a:pt x="944" y="1301"/>
                  </a:lnTo>
                  <a:lnTo>
                    <a:pt x="951" y="1320"/>
                  </a:lnTo>
                  <a:lnTo>
                    <a:pt x="960" y="1340"/>
                  </a:lnTo>
                  <a:lnTo>
                    <a:pt x="968" y="1358"/>
                  </a:lnTo>
                  <a:lnTo>
                    <a:pt x="975" y="1377"/>
                  </a:lnTo>
                  <a:lnTo>
                    <a:pt x="981" y="1393"/>
                  </a:lnTo>
                  <a:lnTo>
                    <a:pt x="983" y="1409"/>
                  </a:lnTo>
                  <a:lnTo>
                    <a:pt x="981" y="1422"/>
                  </a:lnTo>
                  <a:lnTo>
                    <a:pt x="974" y="1433"/>
                  </a:lnTo>
                  <a:lnTo>
                    <a:pt x="962" y="1432"/>
                  </a:lnTo>
                  <a:lnTo>
                    <a:pt x="951" y="1431"/>
                  </a:lnTo>
                  <a:lnTo>
                    <a:pt x="938" y="1428"/>
                  </a:lnTo>
                  <a:lnTo>
                    <a:pt x="927" y="1426"/>
                  </a:lnTo>
                  <a:lnTo>
                    <a:pt x="914" y="1424"/>
                  </a:lnTo>
                  <a:lnTo>
                    <a:pt x="903" y="1422"/>
                  </a:lnTo>
                  <a:lnTo>
                    <a:pt x="890" y="1418"/>
                  </a:lnTo>
                  <a:lnTo>
                    <a:pt x="878" y="1413"/>
                  </a:lnTo>
                  <a:lnTo>
                    <a:pt x="867" y="1409"/>
                  </a:lnTo>
                  <a:lnTo>
                    <a:pt x="854" y="1404"/>
                  </a:lnTo>
                  <a:lnTo>
                    <a:pt x="843" y="1397"/>
                  </a:lnTo>
                  <a:lnTo>
                    <a:pt x="832" y="1390"/>
                  </a:lnTo>
                  <a:lnTo>
                    <a:pt x="821" y="1382"/>
                  </a:lnTo>
                  <a:lnTo>
                    <a:pt x="810" y="1374"/>
                  </a:lnTo>
                  <a:lnTo>
                    <a:pt x="800" y="1364"/>
                  </a:lnTo>
                  <a:lnTo>
                    <a:pt x="790" y="1352"/>
                  </a:lnTo>
                  <a:lnTo>
                    <a:pt x="793" y="1340"/>
                  </a:lnTo>
                  <a:lnTo>
                    <a:pt x="798" y="1327"/>
                  </a:lnTo>
                  <a:lnTo>
                    <a:pt x="804" y="1314"/>
                  </a:lnTo>
                  <a:lnTo>
                    <a:pt x="810" y="1302"/>
                  </a:lnTo>
                  <a:lnTo>
                    <a:pt x="817" y="1289"/>
                  </a:lnTo>
                  <a:lnTo>
                    <a:pt x="824" y="1279"/>
                  </a:lnTo>
                  <a:lnTo>
                    <a:pt x="831" y="1269"/>
                  </a:lnTo>
                  <a:lnTo>
                    <a:pt x="837" y="1261"/>
                  </a:lnTo>
                  <a:lnTo>
                    <a:pt x="838" y="1203"/>
                  </a:lnTo>
                  <a:lnTo>
                    <a:pt x="837" y="1116"/>
                  </a:lnTo>
                  <a:lnTo>
                    <a:pt x="838" y="1026"/>
                  </a:lnTo>
                  <a:lnTo>
                    <a:pt x="850" y="954"/>
                  </a:lnTo>
                  <a:lnTo>
                    <a:pt x="840" y="932"/>
                  </a:lnTo>
                  <a:lnTo>
                    <a:pt x="832" y="909"/>
                  </a:lnTo>
                  <a:lnTo>
                    <a:pt x="827" y="886"/>
                  </a:lnTo>
                  <a:lnTo>
                    <a:pt x="821" y="863"/>
                  </a:lnTo>
                  <a:lnTo>
                    <a:pt x="816" y="842"/>
                  </a:lnTo>
                  <a:lnTo>
                    <a:pt x="814" y="823"/>
                  </a:lnTo>
                  <a:lnTo>
                    <a:pt x="813" y="804"/>
                  </a:lnTo>
                  <a:lnTo>
                    <a:pt x="813" y="790"/>
                  </a:lnTo>
                  <a:lnTo>
                    <a:pt x="795" y="797"/>
                  </a:lnTo>
                  <a:lnTo>
                    <a:pt x="776" y="804"/>
                  </a:lnTo>
                  <a:lnTo>
                    <a:pt x="756" y="811"/>
                  </a:lnTo>
                  <a:lnTo>
                    <a:pt x="736" y="817"/>
                  </a:lnTo>
                  <a:lnTo>
                    <a:pt x="714" y="824"/>
                  </a:lnTo>
                  <a:lnTo>
                    <a:pt x="692" y="831"/>
                  </a:lnTo>
                  <a:lnTo>
                    <a:pt x="670" y="836"/>
                  </a:lnTo>
                  <a:lnTo>
                    <a:pt x="648" y="843"/>
                  </a:lnTo>
                  <a:lnTo>
                    <a:pt x="627" y="849"/>
                  </a:lnTo>
                  <a:lnTo>
                    <a:pt x="605" y="855"/>
                  </a:lnTo>
                  <a:lnTo>
                    <a:pt x="585" y="859"/>
                  </a:lnTo>
                  <a:lnTo>
                    <a:pt x="565" y="865"/>
                  </a:lnTo>
                  <a:lnTo>
                    <a:pt x="546" y="870"/>
                  </a:lnTo>
                  <a:lnTo>
                    <a:pt x="528" y="873"/>
                  </a:lnTo>
                  <a:lnTo>
                    <a:pt x="512" y="877"/>
                  </a:lnTo>
                  <a:lnTo>
                    <a:pt x="497" y="880"/>
                  </a:lnTo>
                  <a:lnTo>
                    <a:pt x="495" y="901"/>
                  </a:lnTo>
                  <a:lnTo>
                    <a:pt x="489" y="923"/>
                  </a:lnTo>
                  <a:lnTo>
                    <a:pt x="480" y="946"/>
                  </a:lnTo>
                  <a:lnTo>
                    <a:pt x="468" y="969"/>
                  </a:lnTo>
                  <a:lnTo>
                    <a:pt x="453" y="991"/>
                  </a:lnTo>
                  <a:lnTo>
                    <a:pt x="436" y="1013"/>
                  </a:lnTo>
                  <a:lnTo>
                    <a:pt x="417" y="1032"/>
                  </a:lnTo>
                  <a:lnTo>
                    <a:pt x="395" y="1049"/>
                  </a:lnTo>
                  <a:lnTo>
                    <a:pt x="396" y="1091"/>
                  </a:lnTo>
                  <a:lnTo>
                    <a:pt x="395" y="1142"/>
                  </a:lnTo>
                  <a:lnTo>
                    <a:pt x="391" y="1189"/>
                  </a:lnTo>
                  <a:lnTo>
                    <a:pt x="387" y="1222"/>
                  </a:lnTo>
                  <a:lnTo>
                    <a:pt x="396" y="1231"/>
                  </a:lnTo>
                  <a:lnTo>
                    <a:pt x="404" y="1242"/>
                  </a:lnTo>
                  <a:lnTo>
                    <a:pt x="411" y="1256"/>
                  </a:lnTo>
                  <a:lnTo>
                    <a:pt x="415" y="1269"/>
                  </a:lnTo>
                  <a:lnTo>
                    <a:pt x="419" y="1284"/>
                  </a:lnTo>
                  <a:lnTo>
                    <a:pt x="421" y="1299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27" y="1337"/>
                  </a:lnTo>
                  <a:lnTo>
                    <a:pt x="441" y="1350"/>
                  </a:lnTo>
                  <a:lnTo>
                    <a:pt x="453" y="1365"/>
                  </a:lnTo>
                  <a:lnTo>
                    <a:pt x="466" y="1379"/>
                  </a:lnTo>
                  <a:lnTo>
                    <a:pt x="475" y="1394"/>
                  </a:lnTo>
                  <a:lnTo>
                    <a:pt x="480" y="1408"/>
                  </a:lnTo>
                  <a:lnTo>
                    <a:pt x="479" y="1420"/>
                  </a:lnTo>
                  <a:lnTo>
                    <a:pt x="468" y="1431"/>
                  </a:lnTo>
                  <a:lnTo>
                    <a:pt x="457" y="1431"/>
                  </a:lnTo>
                  <a:lnTo>
                    <a:pt x="445" y="1431"/>
                  </a:lnTo>
                  <a:lnTo>
                    <a:pt x="432" y="1431"/>
                  </a:lnTo>
                  <a:lnTo>
                    <a:pt x="418" y="1430"/>
                  </a:lnTo>
                  <a:lnTo>
                    <a:pt x="404" y="1428"/>
                  </a:lnTo>
                  <a:lnTo>
                    <a:pt x="389" y="1427"/>
                  </a:lnTo>
                  <a:lnTo>
                    <a:pt x="375" y="1426"/>
                  </a:lnTo>
                  <a:lnTo>
                    <a:pt x="360" y="1425"/>
                  </a:lnTo>
                  <a:lnTo>
                    <a:pt x="345" y="1424"/>
                  </a:lnTo>
                  <a:lnTo>
                    <a:pt x="331" y="1423"/>
                  </a:lnTo>
                  <a:lnTo>
                    <a:pt x="318" y="1422"/>
                  </a:lnTo>
                  <a:lnTo>
                    <a:pt x="305" y="1420"/>
                  </a:lnTo>
                  <a:lnTo>
                    <a:pt x="293" y="1419"/>
                  </a:lnTo>
                  <a:lnTo>
                    <a:pt x="282" y="1419"/>
                  </a:lnTo>
                  <a:lnTo>
                    <a:pt x="273" y="1418"/>
                  </a:lnTo>
                  <a:lnTo>
                    <a:pt x="265" y="1418"/>
                  </a:lnTo>
                  <a:lnTo>
                    <a:pt x="259" y="1410"/>
                  </a:lnTo>
                  <a:lnTo>
                    <a:pt x="259" y="1400"/>
                  </a:lnTo>
                  <a:lnTo>
                    <a:pt x="261" y="1390"/>
                  </a:lnTo>
                  <a:lnTo>
                    <a:pt x="269" y="1385"/>
                  </a:lnTo>
                  <a:lnTo>
                    <a:pt x="261" y="1375"/>
                  </a:lnTo>
                  <a:lnTo>
                    <a:pt x="254" y="1362"/>
                  </a:lnTo>
                  <a:lnTo>
                    <a:pt x="246" y="1344"/>
                  </a:lnTo>
                  <a:lnTo>
                    <a:pt x="240" y="1324"/>
                  </a:lnTo>
                  <a:lnTo>
                    <a:pt x="236" y="1302"/>
                  </a:lnTo>
                  <a:lnTo>
                    <a:pt x="233" y="1280"/>
                  </a:lnTo>
                  <a:lnTo>
                    <a:pt x="233" y="1259"/>
                  </a:lnTo>
                  <a:lnTo>
                    <a:pt x="237" y="1242"/>
                  </a:lnTo>
                  <a:lnTo>
                    <a:pt x="227" y="1258"/>
                  </a:lnTo>
                  <a:lnTo>
                    <a:pt x="216" y="1278"/>
                  </a:lnTo>
                  <a:lnTo>
                    <a:pt x="209" y="1298"/>
                  </a:lnTo>
                  <a:lnTo>
                    <a:pt x="206" y="1321"/>
                  </a:lnTo>
                  <a:lnTo>
                    <a:pt x="207" y="1347"/>
                  </a:lnTo>
                  <a:lnTo>
                    <a:pt x="214" y="1372"/>
                  </a:lnTo>
                  <a:lnTo>
                    <a:pt x="228" y="1397"/>
                  </a:lnTo>
                  <a:lnTo>
                    <a:pt x="250" y="1424"/>
                  </a:lnTo>
                  <a:lnTo>
                    <a:pt x="245" y="1431"/>
                  </a:lnTo>
                  <a:lnTo>
                    <a:pt x="239" y="1437"/>
                  </a:lnTo>
                  <a:lnTo>
                    <a:pt x="235" y="1442"/>
                  </a:lnTo>
                  <a:lnTo>
                    <a:pt x="229" y="1448"/>
                  </a:lnTo>
                  <a:lnTo>
                    <a:pt x="222" y="1453"/>
                  </a:lnTo>
                  <a:lnTo>
                    <a:pt x="215" y="1456"/>
                  </a:lnTo>
                  <a:lnTo>
                    <a:pt x="208" y="1460"/>
                  </a:lnTo>
                  <a:lnTo>
                    <a:pt x="200" y="1461"/>
                  </a:lnTo>
                  <a:lnTo>
                    <a:pt x="189" y="1461"/>
                  </a:lnTo>
                  <a:lnTo>
                    <a:pt x="169" y="1460"/>
                  </a:lnTo>
                  <a:lnTo>
                    <a:pt x="146" y="1456"/>
                  </a:lnTo>
                  <a:lnTo>
                    <a:pt x="121" y="1451"/>
                  </a:lnTo>
                  <a:lnTo>
                    <a:pt x="93" y="1446"/>
                  </a:lnTo>
                  <a:lnTo>
                    <a:pt x="67" y="1437"/>
                  </a:lnTo>
                  <a:lnTo>
                    <a:pt x="42" y="1426"/>
                  </a:lnTo>
                  <a:lnTo>
                    <a:pt x="23" y="1413"/>
                  </a:lnTo>
                  <a:lnTo>
                    <a:pt x="10" y="1400"/>
                  </a:lnTo>
                  <a:lnTo>
                    <a:pt x="2" y="1385"/>
                  </a:lnTo>
                  <a:lnTo>
                    <a:pt x="0" y="1371"/>
                  </a:lnTo>
                  <a:lnTo>
                    <a:pt x="2" y="1355"/>
                  </a:lnTo>
                  <a:lnTo>
                    <a:pt x="5" y="1340"/>
                  </a:lnTo>
                  <a:lnTo>
                    <a:pt x="12" y="1325"/>
                  </a:lnTo>
                  <a:lnTo>
                    <a:pt x="19" y="1309"/>
                  </a:lnTo>
                  <a:lnTo>
                    <a:pt x="26" y="1294"/>
                  </a:lnTo>
                  <a:lnTo>
                    <a:pt x="17" y="1280"/>
                  </a:lnTo>
                  <a:lnTo>
                    <a:pt x="15" y="1265"/>
                  </a:lnTo>
                  <a:lnTo>
                    <a:pt x="19" y="1252"/>
                  </a:lnTo>
                  <a:lnTo>
                    <a:pt x="31" y="1246"/>
                  </a:lnTo>
                  <a:lnTo>
                    <a:pt x="34" y="1230"/>
                  </a:lnTo>
                  <a:lnTo>
                    <a:pt x="40" y="1212"/>
                  </a:lnTo>
                  <a:lnTo>
                    <a:pt x="49" y="1192"/>
                  </a:lnTo>
                  <a:lnTo>
                    <a:pt x="61" y="1170"/>
                  </a:lnTo>
                  <a:lnTo>
                    <a:pt x="75" y="1147"/>
                  </a:lnTo>
                  <a:lnTo>
                    <a:pt x="90" y="1124"/>
                  </a:lnTo>
                  <a:lnTo>
                    <a:pt x="106" y="1099"/>
                  </a:lnTo>
                  <a:lnTo>
                    <a:pt x="124" y="1075"/>
                  </a:lnTo>
                  <a:lnTo>
                    <a:pt x="113" y="1053"/>
                  </a:lnTo>
                  <a:lnTo>
                    <a:pt x="106" y="1011"/>
                  </a:lnTo>
                  <a:lnTo>
                    <a:pt x="101" y="957"/>
                  </a:lnTo>
                  <a:lnTo>
                    <a:pt x="99" y="895"/>
                  </a:lnTo>
                  <a:lnTo>
                    <a:pt x="99" y="831"/>
                  </a:lnTo>
                  <a:lnTo>
                    <a:pt x="100" y="767"/>
                  </a:lnTo>
                  <a:lnTo>
                    <a:pt x="103" y="711"/>
                  </a:lnTo>
                  <a:lnTo>
                    <a:pt x="107" y="667"/>
                  </a:lnTo>
                  <a:lnTo>
                    <a:pt x="98" y="677"/>
                  </a:lnTo>
                  <a:lnTo>
                    <a:pt x="94" y="720"/>
                  </a:lnTo>
                  <a:lnTo>
                    <a:pt x="91" y="775"/>
                  </a:lnTo>
                  <a:lnTo>
                    <a:pt x="85" y="826"/>
                  </a:lnTo>
                  <a:lnTo>
                    <a:pt x="79" y="849"/>
                  </a:lnTo>
                  <a:lnTo>
                    <a:pt x="73" y="877"/>
                  </a:lnTo>
                  <a:lnTo>
                    <a:pt x="67" y="907"/>
                  </a:lnTo>
                  <a:lnTo>
                    <a:pt x="61" y="938"/>
                  </a:lnTo>
                  <a:lnTo>
                    <a:pt x="55" y="968"/>
                  </a:lnTo>
                  <a:lnTo>
                    <a:pt x="50" y="996"/>
                  </a:lnTo>
                  <a:lnTo>
                    <a:pt x="47" y="1022"/>
                  </a:lnTo>
                  <a:lnTo>
                    <a:pt x="46" y="1043"/>
                  </a:lnTo>
                  <a:lnTo>
                    <a:pt x="46" y="1071"/>
                  </a:lnTo>
                  <a:lnTo>
                    <a:pt x="45" y="1089"/>
                  </a:lnTo>
                  <a:lnTo>
                    <a:pt x="41" y="1099"/>
                  </a:lnTo>
                  <a:lnTo>
                    <a:pt x="33" y="1101"/>
                  </a:lnTo>
                  <a:lnTo>
                    <a:pt x="25" y="1096"/>
                  </a:lnTo>
                  <a:lnTo>
                    <a:pt x="20" y="1081"/>
                  </a:lnTo>
                  <a:lnTo>
                    <a:pt x="20" y="1059"/>
                  </a:lnTo>
                  <a:lnTo>
                    <a:pt x="23" y="1032"/>
                  </a:lnTo>
                  <a:lnTo>
                    <a:pt x="27" y="993"/>
                  </a:lnTo>
                  <a:lnTo>
                    <a:pt x="34" y="938"/>
                  </a:lnTo>
                  <a:lnTo>
                    <a:pt x="39" y="876"/>
                  </a:lnTo>
                  <a:lnTo>
                    <a:pt x="42" y="819"/>
                  </a:lnTo>
                  <a:lnTo>
                    <a:pt x="46" y="766"/>
                  </a:lnTo>
                  <a:lnTo>
                    <a:pt x="47" y="710"/>
                  </a:lnTo>
                  <a:lnTo>
                    <a:pt x="46" y="652"/>
                  </a:lnTo>
                  <a:lnTo>
                    <a:pt x="40" y="59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H="1">
              <a:off x="3505680" y="3833640"/>
              <a:ext cx="304920" cy="26856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195" y="227"/>
                  </a:moveTo>
                  <a:lnTo>
                    <a:pt x="205" y="234"/>
                  </a:lnTo>
                  <a:lnTo>
                    <a:pt x="217" y="241"/>
                  </a:lnTo>
                  <a:lnTo>
                    <a:pt x="228" y="248"/>
                  </a:lnTo>
                  <a:lnTo>
                    <a:pt x="240" y="253"/>
                  </a:lnTo>
                  <a:lnTo>
                    <a:pt x="253" y="257"/>
                  </a:lnTo>
                  <a:lnTo>
                    <a:pt x="264" y="261"/>
                  </a:lnTo>
                  <a:lnTo>
                    <a:pt x="276" y="263"/>
                  </a:lnTo>
                  <a:lnTo>
                    <a:pt x="286" y="264"/>
                  </a:lnTo>
                  <a:lnTo>
                    <a:pt x="272" y="253"/>
                  </a:lnTo>
                  <a:lnTo>
                    <a:pt x="260" y="240"/>
                  </a:lnTo>
                  <a:lnTo>
                    <a:pt x="247" y="227"/>
                  </a:lnTo>
                  <a:lnTo>
                    <a:pt x="235" y="216"/>
                  </a:lnTo>
                  <a:lnTo>
                    <a:pt x="225" y="204"/>
                  </a:lnTo>
                  <a:lnTo>
                    <a:pt x="216" y="194"/>
                  </a:lnTo>
                  <a:lnTo>
                    <a:pt x="208" y="186"/>
                  </a:lnTo>
                  <a:lnTo>
                    <a:pt x="202" y="179"/>
                  </a:lnTo>
                  <a:lnTo>
                    <a:pt x="185" y="160"/>
                  </a:lnTo>
                  <a:lnTo>
                    <a:pt x="165" y="138"/>
                  </a:lnTo>
                  <a:lnTo>
                    <a:pt x="143" y="115"/>
                  </a:lnTo>
                  <a:lnTo>
                    <a:pt x="121" y="90"/>
                  </a:lnTo>
                  <a:lnTo>
                    <a:pt x="99" y="66"/>
                  </a:lnTo>
                  <a:lnTo>
                    <a:pt x="79" y="42"/>
                  </a:lnTo>
                  <a:lnTo>
                    <a:pt x="61" y="20"/>
                  </a:lnTo>
                  <a:lnTo>
                    <a:pt x="48" y="0"/>
                  </a:lnTo>
                  <a:lnTo>
                    <a:pt x="0" y="7"/>
                  </a:lnTo>
                  <a:lnTo>
                    <a:pt x="7" y="18"/>
                  </a:lnTo>
                  <a:lnTo>
                    <a:pt x="15" y="29"/>
                  </a:lnTo>
                  <a:lnTo>
                    <a:pt x="25" y="42"/>
                  </a:lnTo>
                  <a:lnTo>
                    <a:pt x="35" y="56"/>
                  </a:lnTo>
                  <a:lnTo>
                    <a:pt x="46" y="71"/>
                  </a:lnTo>
                  <a:lnTo>
                    <a:pt x="58" y="86"/>
                  </a:lnTo>
                  <a:lnTo>
                    <a:pt x="71" y="102"/>
                  </a:lnTo>
                  <a:lnTo>
                    <a:pt x="83" y="118"/>
                  </a:lnTo>
                  <a:lnTo>
                    <a:pt x="96" y="134"/>
                  </a:lnTo>
                  <a:lnTo>
                    <a:pt x="110" y="149"/>
                  </a:lnTo>
                  <a:lnTo>
                    <a:pt x="124" y="165"/>
                  </a:lnTo>
                  <a:lnTo>
                    <a:pt x="139" y="179"/>
                  </a:lnTo>
                  <a:lnTo>
                    <a:pt x="152" y="193"/>
                  </a:lnTo>
                  <a:lnTo>
                    <a:pt x="167" y="205"/>
                  </a:lnTo>
                  <a:lnTo>
                    <a:pt x="181" y="217"/>
                  </a:lnTo>
                  <a:lnTo>
                    <a:pt x="195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H="1">
              <a:off x="4085640" y="3308400"/>
              <a:ext cx="304920" cy="443520"/>
            </a:xfrm>
            <a:custGeom>
              <a:avLst/>
              <a:gdLst/>
              <a:ahLst/>
              <a:rect l="l" t="t" r="r" b="b"/>
              <a:pathLst>
                <a:path w="285" h="438">
                  <a:moveTo>
                    <a:pt x="14" y="0"/>
                  </a:moveTo>
                  <a:lnTo>
                    <a:pt x="24" y="2"/>
                  </a:lnTo>
                  <a:lnTo>
                    <a:pt x="35" y="6"/>
                  </a:lnTo>
                  <a:lnTo>
                    <a:pt x="49" y="10"/>
                  </a:lnTo>
                  <a:lnTo>
                    <a:pt x="62" y="16"/>
                  </a:lnTo>
                  <a:lnTo>
                    <a:pt x="73" y="25"/>
                  </a:lnTo>
                  <a:lnTo>
                    <a:pt x="83" y="36"/>
                  </a:lnTo>
                  <a:lnTo>
                    <a:pt x="90" y="48"/>
                  </a:lnTo>
                  <a:lnTo>
                    <a:pt x="92" y="65"/>
                  </a:lnTo>
                  <a:lnTo>
                    <a:pt x="93" y="85"/>
                  </a:lnTo>
                  <a:lnTo>
                    <a:pt x="99" y="111"/>
                  </a:lnTo>
                  <a:lnTo>
                    <a:pt x="106" y="139"/>
                  </a:lnTo>
                  <a:lnTo>
                    <a:pt x="115" y="169"/>
                  </a:lnTo>
                  <a:lnTo>
                    <a:pt x="125" y="199"/>
                  </a:lnTo>
                  <a:lnTo>
                    <a:pt x="136" y="226"/>
                  </a:lnTo>
                  <a:lnTo>
                    <a:pt x="147" y="248"/>
                  </a:lnTo>
                  <a:lnTo>
                    <a:pt x="159" y="264"/>
                  </a:lnTo>
                  <a:lnTo>
                    <a:pt x="176" y="281"/>
                  </a:lnTo>
                  <a:lnTo>
                    <a:pt x="197" y="300"/>
                  </a:lnTo>
                  <a:lnTo>
                    <a:pt x="220" y="319"/>
                  </a:lnTo>
                  <a:lnTo>
                    <a:pt x="243" y="341"/>
                  </a:lnTo>
                  <a:lnTo>
                    <a:pt x="262" y="363"/>
                  </a:lnTo>
                  <a:lnTo>
                    <a:pt x="277" y="387"/>
                  </a:lnTo>
                  <a:lnTo>
                    <a:pt x="285" y="412"/>
                  </a:lnTo>
                  <a:lnTo>
                    <a:pt x="284" y="438"/>
                  </a:lnTo>
                  <a:lnTo>
                    <a:pt x="276" y="424"/>
                  </a:lnTo>
                  <a:lnTo>
                    <a:pt x="265" y="410"/>
                  </a:lnTo>
                  <a:lnTo>
                    <a:pt x="251" y="395"/>
                  </a:lnTo>
                  <a:lnTo>
                    <a:pt x="235" y="380"/>
                  </a:lnTo>
                  <a:lnTo>
                    <a:pt x="217" y="366"/>
                  </a:lnTo>
                  <a:lnTo>
                    <a:pt x="200" y="354"/>
                  </a:lnTo>
                  <a:lnTo>
                    <a:pt x="182" y="343"/>
                  </a:lnTo>
                  <a:lnTo>
                    <a:pt x="163" y="335"/>
                  </a:lnTo>
                  <a:lnTo>
                    <a:pt x="145" y="326"/>
                  </a:lnTo>
                  <a:lnTo>
                    <a:pt x="125" y="313"/>
                  </a:lnTo>
                  <a:lnTo>
                    <a:pt x="106" y="298"/>
                  </a:lnTo>
                  <a:lnTo>
                    <a:pt x="87" y="281"/>
                  </a:lnTo>
                  <a:lnTo>
                    <a:pt x="70" y="263"/>
                  </a:lnTo>
                  <a:lnTo>
                    <a:pt x="55" y="245"/>
                  </a:lnTo>
                  <a:lnTo>
                    <a:pt x="43" y="229"/>
                  </a:lnTo>
                  <a:lnTo>
                    <a:pt x="35" y="217"/>
                  </a:lnTo>
                  <a:lnTo>
                    <a:pt x="24" y="196"/>
                  </a:lnTo>
                  <a:lnTo>
                    <a:pt x="15" y="175"/>
                  </a:lnTo>
                  <a:lnTo>
                    <a:pt x="8" y="154"/>
                  </a:lnTo>
                  <a:lnTo>
                    <a:pt x="5" y="131"/>
                  </a:lnTo>
                  <a:lnTo>
                    <a:pt x="3" y="97"/>
                  </a:lnTo>
                  <a:lnTo>
                    <a:pt x="0" y="55"/>
                  </a:lnTo>
                  <a:lnTo>
                    <a:pt x="2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H="1">
              <a:off x="3940920" y="3247200"/>
              <a:ext cx="325800" cy="313200"/>
            </a:xfrm>
            <a:custGeom>
              <a:avLst/>
              <a:gdLst/>
              <a:ahLst/>
              <a:rect l="l" t="t" r="r" b="b"/>
              <a:pathLst>
                <a:path w="305" h="308">
                  <a:moveTo>
                    <a:pt x="0" y="5"/>
                  </a:moveTo>
                  <a:lnTo>
                    <a:pt x="12" y="12"/>
                  </a:lnTo>
                  <a:lnTo>
                    <a:pt x="25" y="21"/>
                  </a:lnTo>
                  <a:lnTo>
                    <a:pt x="41" y="31"/>
                  </a:lnTo>
                  <a:lnTo>
                    <a:pt x="60" y="44"/>
                  </a:lnTo>
                  <a:lnTo>
                    <a:pt x="81" y="59"/>
                  </a:lnTo>
                  <a:lnTo>
                    <a:pt x="101" y="74"/>
                  </a:lnTo>
                  <a:lnTo>
                    <a:pt x="122" y="90"/>
                  </a:lnTo>
                  <a:lnTo>
                    <a:pt x="144" y="106"/>
                  </a:lnTo>
                  <a:lnTo>
                    <a:pt x="165" y="122"/>
                  </a:lnTo>
                  <a:lnTo>
                    <a:pt x="184" y="139"/>
                  </a:lnTo>
                  <a:lnTo>
                    <a:pt x="204" y="154"/>
                  </a:lnTo>
                  <a:lnTo>
                    <a:pt x="221" y="166"/>
                  </a:lnTo>
                  <a:lnTo>
                    <a:pt x="235" y="179"/>
                  </a:lnTo>
                  <a:lnTo>
                    <a:pt x="248" y="189"/>
                  </a:lnTo>
                  <a:lnTo>
                    <a:pt x="256" y="197"/>
                  </a:lnTo>
                  <a:lnTo>
                    <a:pt x="261" y="202"/>
                  </a:lnTo>
                  <a:lnTo>
                    <a:pt x="265" y="224"/>
                  </a:lnTo>
                  <a:lnTo>
                    <a:pt x="267" y="251"/>
                  </a:lnTo>
                  <a:lnTo>
                    <a:pt x="265" y="280"/>
                  </a:lnTo>
                  <a:lnTo>
                    <a:pt x="257" y="308"/>
                  </a:lnTo>
                  <a:lnTo>
                    <a:pt x="270" y="301"/>
                  </a:lnTo>
                  <a:lnTo>
                    <a:pt x="280" y="293"/>
                  </a:lnTo>
                  <a:lnTo>
                    <a:pt x="286" y="283"/>
                  </a:lnTo>
                  <a:lnTo>
                    <a:pt x="288" y="273"/>
                  </a:lnTo>
                  <a:lnTo>
                    <a:pt x="288" y="258"/>
                  </a:lnTo>
                  <a:lnTo>
                    <a:pt x="287" y="238"/>
                  </a:lnTo>
                  <a:lnTo>
                    <a:pt x="287" y="217"/>
                  </a:lnTo>
                  <a:lnTo>
                    <a:pt x="288" y="202"/>
                  </a:lnTo>
                  <a:lnTo>
                    <a:pt x="301" y="185"/>
                  </a:lnTo>
                  <a:lnTo>
                    <a:pt x="305" y="163"/>
                  </a:lnTo>
                  <a:lnTo>
                    <a:pt x="304" y="140"/>
                  </a:lnTo>
                  <a:lnTo>
                    <a:pt x="298" y="117"/>
                  </a:lnTo>
                  <a:lnTo>
                    <a:pt x="295" y="122"/>
                  </a:lnTo>
                  <a:lnTo>
                    <a:pt x="291" y="129"/>
                  </a:lnTo>
                  <a:lnTo>
                    <a:pt x="288" y="136"/>
                  </a:lnTo>
                  <a:lnTo>
                    <a:pt x="283" y="142"/>
                  </a:lnTo>
                  <a:lnTo>
                    <a:pt x="279" y="149"/>
                  </a:lnTo>
                  <a:lnTo>
                    <a:pt x="273" y="154"/>
                  </a:lnTo>
                  <a:lnTo>
                    <a:pt x="267" y="157"/>
                  </a:lnTo>
                  <a:lnTo>
                    <a:pt x="261" y="158"/>
                  </a:lnTo>
                  <a:lnTo>
                    <a:pt x="248" y="149"/>
                  </a:lnTo>
                  <a:lnTo>
                    <a:pt x="230" y="136"/>
                  </a:lnTo>
                  <a:lnTo>
                    <a:pt x="211" y="120"/>
                  </a:lnTo>
                  <a:lnTo>
                    <a:pt x="190" y="103"/>
                  </a:lnTo>
                  <a:lnTo>
                    <a:pt x="170" y="87"/>
                  </a:lnTo>
                  <a:lnTo>
                    <a:pt x="154" y="72"/>
                  </a:lnTo>
                  <a:lnTo>
                    <a:pt x="142" y="59"/>
                  </a:lnTo>
                  <a:lnTo>
                    <a:pt x="136" y="52"/>
                  </a:lnTo>
                  <a:lnTo>
                    <a:pt x="141" y="46"/>
                  </a:lnTo>
                  <a:lnTo>
                    <a:pt x="144" y="38"/>
                  </a:lnTo>
                  <a:lnTo>
                    <a:pt x="145" y="30"/>
                  </a:lnTo>
                  <a:lnTo>
                    <a:pt x="141" y="22"/>
                  </a:lnTo>
                  <a:lnTo>
                    <a:pt x="135" y="19"/>
                  </a:lnTo>
                  <a:lnTo>
                    <a:pt x="123" y="14"/>
                  </a:lnTo>
                  <a:lnTo>
                    <a:pt x="108" y="10"/>
                  </a:lnTo>
                  <a:lnTo>
                    <a:pt x="90" y="5"/>
                  </a:lnTo>
                  <a:lnTo>
                    <a:pt x="68" y="1"/>
                  </a:lnTo>
                  <a:lnTo>
                    <a:pt x="46" y="0"/>
                  </a:lnTo>
                  <a:lnTo>
                    <a:pt x="2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H="1">
              <a:off x="3757680" y="3520080"/>
              <a:ext cx="102240" cy="8280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69" y="0"/>
                  </a:moveTo>
                  <a:lnTo>
                    <a:pt x="77" y="9"/>
                  </a:lnTo>
                  <a:lnTo>
                    <a:pt x="82" y="19"/>
                  </a:lnTo>
                  <a:lnTo>
                    <a:pt x="84" y="29"/>
                  </a:lnTo>
                  <a:lnTo>
                    <a:pt x="84" y="32"/>
                  </a:lnTo>
                  <a:lnTo>
                    <a:pt x="73" y="35"/>
                  </a:lnTo>
                  <a:lnTo>
                    <a:pt x="64" y="38"/>
                  </a:lnTo>
                  <a:lnTo>
                    <a:pt x="59" y="41"/>
                  </a:lnTo>
                  <a:lnTo>
                    <a:pt x="57" y="46"/>
                  </a:lnTo>
                  <a:lnTo>
                    <a:pt x="64" y="48"/>
                  </a:lnTo>
                  <a:lnTo>
                    <a:pt x="70" y="50"/>
                  </a:lnTo>
                  <a:lnTo>
                    <a:pt x="77" y="53"/>
                  </a:lnTo>
                  <a:lnTo>
                    <a:pt x="83" y="56"/>
                  </a:lnTo>
                  <a:lnTo>
                    <a:pt x="89" y="58"/>
                  </a:lnTo>
                  <a:lnTo>
                    <a:pt x="93" y="61"/>
                  </a:lnTo>
                  <a:lnTo>
                    <a:pt x="96" y="62"/>
                  </a:lnTo>
                  <a:lnTo>
                    <a:pt x="97" y="63"/>
                  </a:lnTo>
                  <a:lnTo>
                    <a:pt x="93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5" y="78"/>
                  </a:lnTo>
                  <a:lnTo>
                    <a:pt x="67" y="80"/>
                  </a:lnTo>
                  <a:lnTo>
                    <a:pt x="59" y="80"/>
                  </a:lnTo>
                  <a:lnTo>
                    <a:pt x="50" y="80"/>
                  </a:lnTo>
                  <a:lnTo>
                    <a:pt x="41" y="78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0" y="68"/>
                  </a:lnTo>
                  <a:lnTo>
                    <a:pt x="15" y="63"/>
                  </a:lnTo>
                  <a:lnTo>
                    <a:pt x="12" y="58"/>
                  </a:lnTo>
                  <a:lnTo>
                    <a:pt x="8" y="54"/>
                  </a:lnTo>
                  <a:lnTo>
                    <a:pt x="5" y="50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13" y="46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4" y="33"/>
                  </a:lnTo>
                  <a:lnTo>
                    <a:pt x="52" y="19"/>
                  </a:lnTo>
                  <a:lnTo>
                    <a:pt x="62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6" name="STETHSC2" descr=""/>
          <p:cNvPicPr/>
          <p:nvPr/>
        </p:nvPicPr>
        <p:blipFill>
          <a:blip r:embed="rId1"/>
          <a:stretch/>
        </p:blipFill>
        <p:spPr>
          <a:xfrm>
            <a:off x="3238560" y="3276720"/>
            <a:ext cx="26668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7" name="ROOSTER" descr=""/>
          <p:cNvPicPr/>
          <p:nvPr/>
        </p:nvPicPr>
        <p:blipFill>
          <a:blip r:embed="rId1"/>
          <a:stretch/>
        </p:blipFill>
        <p:spPr>
          <a:xfrm>
            <a:off x="3346560" y="3048120"/>
            <a:ext cx="24494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8" name=""/>
          <p:cNvGrpSpPr/>
          <p:nvPr/>
        </p:nvGrpSpPr>
        <p:grpSpPr>
          <a:xfrm>
            <a:off x="3675240" y="2575080"/>
            <a:ext cx="1792080" cy="2469960"/>
            <a:chOff x="3675240" y="2575080"/>
            <a:chExt cx="1792080" cy="2469960"/>
          </a:xfrm>
        </p:grpSpPr>
        <p:sp>
          <p:nvSpPr>
            <p:cNvPr id="2999" name=""/>
            <p:cNvSpPr/>
            <p:nvPr/>
          </p:nvSpPr>
          <p:spPr>
            <a:xfrm>
              <a:off x="3675240" y="2575080"/>
              <a:ext cx="179208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670280" y="3233520"/>
              <a:ext cx="750600" cy="1788840"/>
            </a:xfrm>
            <a:custGeom>
              <a:avLst/>
              <a:gdLst/>
              <a:ahLst/>
              <a:rect l="l" t="t" r="r" b="b"/>
              <a:pathLst>
                <a:path w="2837" h="5635">
                  <a:moveTo>
                    <a:pt x="251" y="5635"/>
                  </a:moveTo>
                  <a:lnTo>
                    <a:pt x="368" y="5494"/>
                  </a:lnTo>
                  <a:lnTo>
                    <a:pt x="486" y="5352"/>
                  </a:lnTo>
                  <a:lnTo>
                    <a:pt x="601" y="5210"/>
                  </a:lnTo>
                  <a:lnTo>
                    <a:pt x="715" y="5066"/>
                  </a:lnTo>
                  <a:lnTo>
                    <a:pt x="827" y="4920"/>
                  </a:lnTo>
                  <a:lnTo>
                    <a:pt x="938" y="4773"/>
                  </a:lnTo>
                  <a:lnTo>
                    <a:pt x="1046" y="4624"/>
                  </a:lnTo>
                  <a:lnTo>
                    <a:pt x="1153" y="4474"/>
                  </a:lnTo>
                  <a:lnTo>
                    <a:pt x="1257" y="4323"/>
                  </a:lnTo>
                  <a:lnTo>
                    <a:pt x="1360" y="4169"/>
                  </a:lnTo>
                  <a:lnTo>
                    <a:pt x="1460" y="4012"/>
                  </a:lnTo>
                  <a:lnTo>
                    <a:pt x="1558" y="3854"/>
                  </a:lnTo>
                  <a:lnTo>
                    <a:pt x="1653" y="3693"/>
                  </a:lnTo>
                  <a:lnTo>
                    <a:pt x="1746" y="3530"/>
                  </a:lnTo>
                  <a:lnTo>
                    <a:pt x="1836" y="3364"/>
                  </a:lnTo>
                  <a:lnTo>
                    <a:pt x="1922" y="3195"/>
                  </a:lnTo>
                  <a:lnTo>
                    <a:pt x="2007" y="3023"/>
                  </a:lnTo>
                  <a:lnTo>
                    <a:pt x="2087" y="2848"/>
                  </a:lnTo>
                  <a:lnTo>
                    <a:pt x="2165" y="2670"/>
                  </a:lnTo>
                  <a:lnTo>
                    <a:pt x="2239" y="2489"/>
                  </a:lnTo>
                  <a:lnTo>
                    <a:pt x="2311" y="2304"/>
                  </a:lnTo>
                  <a:lnTo>
                    <a:pt x="2378" y="2115"/>
                  </a:lnTo>
                  <a:lnTo>
                    <a:pt x="2442" y="1923"/>
                  </a:lnTo>
                  <a:lnTo>
                    <a:pt x="2502" y="1726"/>
                  </a:lnTo>
                  <a:lnTo>
                    <a:pt x="2559" y="1526"/>
                  </a:lnTo>
                  <a:lnTo>
                    <a:pt x="2611" y="1322"/>
                  </a:lnTo>
                  <a:lnTo>
                    <a:pt x="2659" y="1113"/>
                  </a:lnTo>
                  <a:lnTo>
                    <a:pt x="2704" y="900"/>
                  </a:lnTo>
                  <a:lnTo>
                    <a:pt x="2743" y="682"/>
                  </a:lnTo>
                  <a:lnTo>
                    <a:pt x="2779" y="460"/>
                  </a:lnTo>
                  <a:lnTo>
                    <a:pt x="2810" y="232"/>
                  </a:lnTo>
                  <a:lnTo>
                    <a:pt x="2837" y="0"/>
                  </a:lnTo>
                  <a:lnTo>
                    <a:pt x="2762" y="198"/>
                  </a:lnTo>
                  <a:lnTo>
                    <a:pt x="2687" y="394"/>
                  </a:lnTo>
                  <a:lnTo>
                    <a:pt x="2611" y="588"/>
                  </a:lnTo>
                  <a:lnTo>
                    <a:pt x="2536" y="782"/>
                  </a:lnTo>
                  <a:lnTo>
                    <a:pt x="2461" y="973"/>
                  </a:lnTo>
                  <a:lnTo>
                    <a:pt x="2385" y="1164"/>
                  </a:lnTo>
                  <a:lnTo>
                    <a:pt x="2309" y="1352"/>
                  </a:lnTo>
                  <a:lnTo>
                    <a:pt x="2231" y="1539"/>
                  </a:lnTo>
                  <a:lnTo>
                    <a:pt x="2154" y="1724"/>
                  </a:lnTo>
                  <a:lnTo>
                    <a:pt x="2077" y="1907"/>
                  </a:lnTo>
                  <a:lnTo>
                    <a:pt x="1997" y="2089"/>
                  </a:lnTo>
                  <a:lnTo>
                    <a:pt x="1918" y="2268"/>
                  </a:lnTo>
                  <a:lnTo>
                    <a:pt x="1837" y="2447"/>
                  </a:lnTo>
                  <a:lnTo>
                    <a:pt x="1755" y="2622"/>
                  </a:lnTo>
                  <a:lnTo>
                    <a:pt x="1673" y="2796"/>
                  </a:lnTo>
                  <a:lnTo>
                    <a:pt x="1589" y="2967"/>
                  </a:lnTo>
                  <a:lnTo>
                    <a:pt x="1504" y="3137"/>
                  </a:lnTo>
                  <a:lnTo>
                    <a:pt x="1416" y="3305"/>
                  </a:lnTo>
                  <a:lnTo>
                    <a:pt x="1329" y="3470"/>
                  </a:lnTo>
                  <a:lnTo>
                    <a:pt x="1239" y="3634"/>
                  </a:lnTo>
                  <a:lnTo>
                    <a:pt x="1147" y="3794"/>
                  </a:lnTo>
                  <a:lnTo>
                    <a:pt x="1053" y="3953"/>
                  </a:lnTo>
                  <a:lnTo>
                    <a:pt x="958" y="4108"/>
                  </a:lnTo>
                  <a:lnTo>
                    <a:pt x="861" y="4262"/>
                  </a:lnTo>
                  <a:lnTo>
                    <a:pt x="762" y="4412"/>
                  </a:lnTo>
                  <a:lnTo>
                    <a:pt x="660" y="4562"/>
                  </a:lnTo>
                  <a:lnTo>
                    <a:pt x="556" y="4708"/>
                  </a:lnTo>
                  <a:lnTo>
                    <a:pt x="449" y="4850"/>
                  </a:lnTo>
                  <a:lnTo>
                    <a:pt x="341" y="4991"/>
                  </a:lnTo>
                  <a:lnTo>
                    <a:pt x="230" y="5130"/>
                  </a:lnTo>
                  <a:lnTo>
                    <a:pt x="116" y="5265"/>
                  </a:lnTo>
                  <a:lnTo>
                    <a:pt x="0" y="5397"/>
                  </a:lnTo>
                  <a:lnTo>
                    <a:pt x="251" y="5635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682800" y="2584440"/>
              <a:ext cx="1776240" cy="2450520"/>
            </a:xfrm>
            <a:custGeom>
              <a:avLst/>
              <a:gdLst/>
              <a:ahLst/>
              <a:rect l="l" t="t" r="r" b="b"/>
              <a:pathLst>
                <a:path w="6717" h="7717">
                  <a:moveTo>
                    <a:pt x="78" y="4300"/>
                  </a:moveTo>
                  <a:lnTo>
                    <a:pt x="40" y="4297"/>
                  </a:lnTo>
                  <a:lnTo>
                    <a:pt x="15" y="4278"/>
                  </a:lnTo>
                  <a:lnTo>
                    <a:pt x="2" y="4246"/>
                  </a:lnTo>
                  <a:lnTo>
                    <a:pt x="0" y="4207"/>
                  </a:lnTo>
                  <a:lnTo>
                    <a:pt x="8" y="4166"/>
                  </a:lnTo>
                  <a:lnTo>
                    <a:pt x="25" y="4127"/>
                  </a:lnTo>
                  <a:lnTo>
                    <a:pt x="52" y="4095"/>
                  </a:lnTo>
                  <a:lnTo>
                    <a:pt x="85" y="4074"/>
                  </a:lnTo>
                  <a:lnTo>
                    <a:pt x="141" y="3994"/>
                  </a:lnTo>
                  <a:lnTo>
                    <a:pt x="260" y="3883"/>
                  </a:lnTo>
                  <a:lnTo>
                    <a:pt x="324" y="3841"/>
                  </a:lnTo>
                  <a:lnTo>
                    <a:pt x="552" y="3662"/>
                  </a:lnTo>
                  <a:lnTo>
                    <a:pt x="614" y="3593"/>
                  </a:lnTo>
                  <a:lnTo>
                    <a:pt x="796" y="3407"/>
                  </a:lnTo>
                  <a:lnTo>
                    <a:pt x="848" y="3344"/>
                  </a:lnTo>
                  <a:lnTo>
                    <a:pt x="897" y="3281"/>
                  </a:lnTo>
                  <a:lnTo>
                    <a:pt x="945" y="3219"/>
                  </a:lnTo>
                  <a:lnTo>
                    <a:pt x="990" y="3156"/>
                  </a:lnTo>
                  <a:lnTo>
                    <a:pt x="1035" y="3093"/>
                  </a:lnTo>
                  <a:lnTo>
                    <a:pt x="1078" y="3029"/>
                  </a:lnTo>
                  <a:lnTo>
                    <a:pt x="1120" y="2967"/>
                  </a:lnTo>
                  <a:lnTo>
                    <a:pt x="1161" y="2903"/>
                  </a:lnTo>
                  <a:lnTo>
                    <a:pt x="1202" y="2839"/>
                  </a:lnTo>
                  <a:lnTo>
                    <a:pt x="1242" y="2775"/>
                  </a:lnTo>
                  <a:lnTo>
                    <a:pt x="1282" y="2711"/>
                  </a:lnTo>
                  <a:lnTo>
                    <a:pt x="1322" y="2648"/>
                  </a:lnTo>
                  <a:lnTo>
                    <a:pt x="1362" y="2584"/>
                  </a:lnTo>
                  <a:lnTo>
                    <a:pt x="1403" y="2520"/>
                  </a:lnTo>
                  <a:lnTo>
                    <a:pt x="1444" y="2456"/>
                  </a:lnTo>
                  <a:lnTo>
                    <a:pt x="1487" y="2392"/>
                  </a:lnTo>
                  <a:lnTo>
                    <a:pt x="1513" y="2384"/>
                  </a:lnTo>
                  <a:lnTo>
                    <a:pt x="1532" y="2333"/>
                  </a:lnTo>
                  <a:lnTo>
                    <a:pt x="1569" y="2307"/>
                  </a:lnTo>
                  <a:lnTo>
                    <a:pt x="1631" y="2214"/>
                  </a:lnTo>
                  <a:lnTo>
                    <a:pt x="1649" y="2153"/>
                  </a:lnTo>
                  <a:lnTo>
                    <a:pt x="1674" y="2129"/>
                  </a:lnTo>
                  <a:lnTo>
                    <a:pt x="1698" y="2108"/>
                  </a:lnTo>
                  <a:lnTo>
                    <a:pt x="1723" y="2086"/>
                  </a:lnTo>
                  <a:lnTo>
                    <a:pt x="1749" y="2066"/>
                  </a:lnTo>
                  <a:lnTo>
                    <a:pt x="1775" y="2047"/>
                  </a:lnTo>
                  <a:lnTo>
                    <a:pt x="1800" y="2029"/>
                  </a:lnTo>
                  <a:lnTo>
                    <a:pt x="1827" y="2013"/>
                  </a:lnTo>
                  <a:lnTo>
                    <a:pt x="1855" y="1996"/>
                  </a:lnTo>
                  <a:lnTo>
                    <a:pt x="1881" y="1982"/>
                  </a:lnTo>
                  <a:lnTo>
                    <a:pt x="1908" y="1970"/>
                  </a:lnTo>
                  <a:lnTo>
                    <a:pt x="1934" y="1958"/>
                  </a:lnTo>
                  <a:lnTo>
                    <a:pt x="1961" y="1949"/>
                  </a:lnTo>
                  <a:lnTo>
                    <a:pt x="1987" y="1940"/>
                  </a:lnTo>
                  <a:lnTo>
                    <a:pt x="2014" y="1934"/>
                  </a:lnTo>
                  <a:lnTo>
                    <a:pt x="2040" y="1928"/>
                  </a:lnTo>
                  <a:lnTo>
                    <a:pt x="2066" y="1924"/>
                  </a:lnTo>
                  <a:lnTo>
                    <a:pt x="2249" y="1924"/>
                  </a:lnTo>
                  <a:lnTo>
                    <a:pt x="2275" y="1728"/>
                  </a:lnTo>
                  <a:lnTo>
                    <a:pt x="2294" y="1677"/>
                  </a:lnTo>
                  <a:lnTo>
                    <a:pt x="2320" y="1677"/>
                  </a:lnTo>
                  <a:lnTo>
                    <a:pt x="2328" y="1640"/>
                  </a:lnTo>
                  <a:lnTo>
                    <a:pt x="2336" y="1604"/>
                  </a:lnTo>
                  <a:lnTo>
                    <a:pt x="2347" y="1567"/>
                  </a:lnTo>
                  <a:lnTo>
                    <a:pt x="2358" y="1530"/>
                  </a:lnTo>
                  <a:lnTo>
                    <a:pt x="2370" y="1493"/>
                  </a:lnTo>
                  <a:lnTo>
                    <a:pt x="2384" y="1456"/>
                  </a:lnTo>
                  <a:lnTo>
                    <a:pt x="2399" y="1420"/>
                  </a:lnTo>
                  <a:lnTo>
                    <a:pt x="2414" y="1384"/>
                  </a:lnTo>
                  <a:lnTo>
                    <a:pt x="2431" y="1347"/>
                  </a:lnTo>
                  <a:lnTo>
                    <a:pt x="2448" y="1312"/>
                  </a:lnTo>
                  <a:lnTo>
                    <a:pt x="2467" y="1275"/>
                  </a:lnTo>
                  <a:lnTo>
                    <a:pt x="2487" y="1239"/>
                  </a:lnTo>
                  <a:lnTo>
                    <a:pt x="2508" y="1203"/>
                  </a:lnTo>
                  <a:lnTo>
                    <a:pt x="2529" y="1168"/>
                  </a:lnTo>
                  <a:lnTo>
                    <a:pt x="2552" y="1133"/>
                  </a:lnTo>
                  <a:lnTo>
                    <a:pt x="2575" y="1097"/>
                  </a:lnTo>
                  <a:lnTo>
                    <a:pt x="2721" y="842"/>
                  </a:lnTo>
                  <a:lnTo>
                    <a:pt x="2753" y="799"/>
                  </a:lnTo>
                  <a:lnTo>
                    <a:pt x="2786" y="756"/>
                  </a:lnTo>
                  <a:lnTo>
                    <a:pt x="2821" y="711"/>
                  </a:lnTo>
                  <a:lnTo>
                    <a:pt x="2856" y="668"/>
                  </a:lnTo>
                  <a:lnTo>
                    <a:pt x="2894" y="624"/>
                  </a:lnTo>
                  <a:lnTo>
                    <a:pt x="2932" y="580"/>
                  </a:lnTo>
                  <a:lnTo>
                    <a:pt x="2973" y="536"/>
                  </a:lnTo>
                  <a:lnTo>
                    <a:pt x="3014" y="493"/>
                  </a:lnTo>
                  <a:lnTo>
                    <a:pt x="3057" y="449"/>
                  </a:lnTo>
                  <a:lnTo>
                    <a:pt x="3101" y="406"/>
                  </a:lnTo>
                  <a:lnTo>
                    <a:pt x="3146" y="364"/>
                  </a:lnTo>
                  <a:lnTo>
                    <a:pt x="3192" y="322"/>
                  </a:lnTo>
                  <a:lnTo>
                    <a:pt x="3239" y="281"/>
                  </a:lnTo>
                  <a:lnTo>
                    <a:pt x="3286" y="240"/>
                  </a:lnTo>
                  <a:lnTo>
                    <a:pt x="3335" y="199"/>
                  </a:lnTo>
                  <a:lnTo>
                    <a:pt x="3384" y="161"/>
                  </a:lnTo>
                  <a:lnTo>
                    <a:pt x="3528" y="84"/>
                  </a:lnTo>
                  <a:lnTo>
                    <a:pt x="3575" y="51"/>
                  </a:lnTo>
                  <a:lnTo>
                    <a:pt x="3629" y="33"/>
                  </a:lnTo>
                  <a:lnTo>
                    <a:pt x="3674" y="25"/>
                  </a:lnTo>
                  <a:lnTo>
                    <a:pt x="3737" y="0"/>
                  </a:lnTo>
                  <a:lnTo>
                    <a:pt x="3801" y="33"/>
                  </a:lnTo>
                  <a:lnTo>
                    <a:pt x="3810" y="76"/>
                  </a:lnTo>
                  <a:lnTo>
                    <a:pt x="3756" y="170"/>
                  </a:lnTo>
                  <a:lnTo>
                    <a:pt x="3742" y="237"/>
                  </a:lnTo>
                  <a:lnTo>
                    <a:pt x="3727" y="303"/>
                  </a:lnTo>
                  <a:lnTo>
                    <a:pt x="3713" y="368"/>
                  </a:lnTo>
                  <a:lnTo>
                    <a:pt x="3699" y="434"/>
                  </a:lnTo>
                  <a:lnTo>
                    <a:pt x="3685" y="500"/>
                  </a:lnTo>
                  <a:lnTo>
                    <a:pt x="3674" y="565"/>
                  </a:lnTo>
                  <a:lnTo>
                    <a:pt x="3664" y="631"/>
                  </a:lnTo>
                  <a:lnTo>
                    <a:pt x="3656" y="698"/>
                  </a:lnTo>
                  <a:lnTo>
                    <a:pt x="3881" y="604"/>
                  </a:lnTo>
                  <a:lnTo>
                    <a:pt x="3937" y="597"/>
                  </a:lnTo>
                  <a:lnTo>
                    <a:pt x="3975" y="586"/>
                  </a:lnTo>
                  <a:lnTo>
                    <a:pt x="4013" y="574"/>
                  </a:lnTo>
                  <a:lnTo>
                    <a:pt x="4051" y="563"/>
                  </a:lnTo>
                  <a:lnTo>
                    <a:pt x="4090" y="551"/>
                  </a:lnTo>
                  <a:lnTo>
                    <a:pt x="4128" y="540"/>
                  </a:lnTo>
                  <a:lnTo>
                    <a:pt x="4167" y="531"/>
                  </a:lnTo>
                  <a:lnTo>
                    <a:pt x="4206" y="520"/>
                  </a:lnTo>
                  <a:lnTo>
                    <a:pt x="4246" y="511"/>
                  </a:lnTo>
                  <a:lnTo>
                    <a:pt x="4285" y="502"/>
                  </a:lnTo>
                  <a:lnTo>
                    <a:pt x="4324" y="495"/>
                  </a:lnTo>
                  <a:lnTo>
                    <a:pt x="4364" y="488"/>
                  </a:lnTo>
                  <a:lnTo>
                    <a:pt x="4403" y="483"/>
                  </a:lnTo>
                  <a:lnTo>
                    <a:pt x="4444" y="480"/>
                  </a:lnTo>
                  <a:lnTo>
                    <a:pt x="4483" y="476"/>
                  </a:lnTo>
                  <a:lnTo>
                    <a:pt x="4523" y="475"/>
                  </a:lnTo>
                  <a:lnTo>
                    <a:pt x="4564" y="476"/>
                  </a:lnTo>
                  <a:lnTo>
                    <a:pt x="4626" y="511"/>
                  </a:lnTo>
                  <a:lnTo>
                    <a:pt x="4599" y="562"/>
                  </a:lnTo>
                  <a:lnTo>
                    <a:pt x="4554" y="630"/>
                  </a:lnTo>
                  <a:lnTo>
                    <a:pt x="4550" y="664"/>
                  </a:lnTo>
                  <a:lnTo>
                    <a:pt x="4542" y="696"/>
                  </a:lnTo>
                  <a:lnTo>
                    <a:pt x="4531" y="728"/>
                  </a:lnTo>
                  <a:lnTo>
                    <a:pt x="4519" y="761"/>
                  </a:lnTo>
                  <a:lnTo>
                    <a:pt x="4504" y="793"/>
                  </a:lnTo>
                  <a:lnTo>
                    <a:pt x="4488" y="826"/>
                  </a:lnTo>
                  <a:lnTo>
                    <a:pt x="4469" y="857"/>
                  </a:lnTo>
                  <a:lnTo>
                    <a:pt x="4451" y="889"/>
                  </a:lnTo>
                  <a:lnTo>
                    <a:pt x="4430" y="921"/>
                  </a:lnTo>
                  <a:lnTo>
                    <a:pt x="4409" y="952"/>
                  </a:lnTo>
                  <a:lnTo>
                    <a:pt x="4388" y="985"/>
                  </a:lnTo>
                  <a:lnTo>
                    <a:pt x="4368" y="1017"/>
                  </a:lnTo>
                  <a:lnTo>
                    <a:pt x="4348" y="1050"/>
                  </a:lnTo>
                  <a:lnTo>
                    <a:pt x="4329" y="1082"/>
                  </a:lnTo>
                  <a:lnTo>
                    <a:pt x="4309" y="1115"/>
                  </a:lnTo>
                  <a:lnTo>
                    <a:pt x="4292" y="1148"/>
                  </a:lnTo>
                  <a:lnTo>
                    <a:pt x="4455" y="1164"/>
                  </a:lnTo>
                  <a:lnTo>
                    <a:pt x="4564" y="1260"/>
                  </a:lnTo>
                  <a:lnTo>
                    <a:pt x="4572" y="1276"/>
                  </a:lnTo>
                  <a:lnTo>
                    <a:pt x="4591" y="1294"/>
                  </a:lnTo>
                  <a:lnTo>
                    <a:pt x="4626" y="1268"/>
                  </a:lnTo>
                  <a:lnTo>
                    <a:pt x="4681" y="1243"/>
                  </a:lnTo>
                  <a:lnTo>
                    <a:pt x="4854" y="1132"/>
                  </a:lnTo>
                  <a:lnTo>
                    <a:pt x="4881" y="1114"/>
                  </a:lnTo>
                  <a:lnTo>
                    <a:pt x="4900" y="1071"/>
                  </a:lnTo>
                  <a:lnTo>
                    <a:pt x="5044" y="1047"/>
                  </a:lnTo>
                  <a:lnTo>
                    <a:pt x="5099" y="1081"/>
                  </a:lnTo>
                  <a:lnTo>
                    <a:pt x="5080" y="1138"/>
                  </a:lnTo>
                  <a:lnTo>
                    <a:pt x="5065" y="1196"/>
                  </a:lnTo>
                  <a:lnTo>
                    <a:pt x="5051" y="1253"/>
                  </a:lnTo>
                  <a:lnTo>
                    <a:pt x="5036" y="1310"/>
                  </a:lnTo>
                  <a:lnTo>
                    <a:pt x="5019" y="1368"/>
                  </a:lnTo>
                  <a:lnTo>
                    <a:pt x="4996" y="1426"/>
                  </a:lnTo>
                  <a:lnTo>
                    <a:pt x="4966" y="1484"/>
                  </a:lnTo>
                  <a:lnTo>
                    <a:pt x="4927" y="1541"/>
                  </a:lnTo>
                  <a:lnTo>
                    <a:pt x="4817" y="1719"/>
                  </a:lnTo>
                  <a:lnTo>
                    <a:pt x="4863" y="1762"/>
                  </a:lnTo>
                  <a:lnTo>
                    <a:pt x="4918" y="1983"/>
                  </a:lnTo>
                  <a:lnTo>
                    <a:pt x="4972" y="2204"/>
                  </a:lnTo>
                  <a:lnTo>
                    <a:pt x="4982" y="2265"/>
                  </a:lnTo>
                  <a:lnTo>
                    <a:pt x="5006" y="2363"/>
                  </a:lnTo>
                  <a:lnTo>
                    <a:pt x="5029" y="2463"/>
                  </a:lnTo>
                  <a:lnTo>
                    <a:pt x="5051" y="2561"/>
                  </a:lnTo>
                  <a:lnTo>
                    <a:pt x="5070" y="2660"/>
                  </a:lnTo>
                  <a:lnTo>
                    <a:pt x="5085" y="2759"/>
                  </a:lnTo>
                  <a:lnTo>
                    <a:pt x="5094" y="2858"/>
                  </a:lnTo>
                  <a:lnTo>
                    <a:pt x="5096" y="2957"/>
                  </a:lnTo>
                  <a:lnTo>
                    <a:pt x="5091" y="3056"/>
                  </a:lnTo>
                  <a:lnTo>
                    <a:pt x="5118" y="3577"/>
                  </a:lnTo>
                  <a:lnTo>
                    <a:pt x="5071" y="4207"/>
                  </a:lnTo>
                  <a:lnTo>
                    <a:pt x="5071" y="4368"/>
                  </a:lnTo>
                  <a:lnTo>
                    <a:pt x="4999" y="5127"/>
                  </a:lnTo>
                  <a:lnTo>
                    <a:pt x="4999" y="5169"/>
                  </a:lnTo>
                  <a:lnTo>
                    <a:pt x="4935" y="5612"/>
                  </a:lnTo>
                  <a:lnTo>
                    <a:pt x="4968" y="5551"/>
                  </a:lnTo>
                  <a:lnTo>
                    <a:pt x="5003" y="5490"/>
                  </a:lnTo>
                  <a:lnTo>
                    <a:pt x="5036" y="5430"/>
                  </a:lnTo>
                  <a:lnTo>
                    <a:pt x="5069" y="5370"/>
                  </a:lnTo>
                  <a:lnTo>
                    <a:pt x="5102" y="5310"/>
                  </a:lnTo>
                  <a:lnTo>
                    <a:pt x="5134" y="5250"/>
                  </a:lnTo>
                  <a:lnTo>
                    <a:pt x="5167" y="5190"/>
                  </a:lnTo>
                  <a:lnTo>
                    <a:pt x="5198" y="5130"/>
                  </a:lnTo>
                  <a:lnTo>
                    <a:pt x="5230" y="5071"/>
                  </a:lnTo>
                  <a:lnTo>
                    <a:pt x="5261" y="5011"/>
                  </a:lnTo>
                  <a:lnTo>
                    <a:pt x="5292" y="4952"/>
                  </a:lnTo>
                  <a:lnTo>
                    <a:pt x="5323" y="4892"/>
                  </a:lnTo>
                  <a:lnTo>
                    <a:pt x="5353" y="4833"/>
                  </a:lnTo>
                  <a:lnTo>
                    <a:pt x="5383" y="4773"/>
                  </a:lnTo>
                  <a:lnTo>
                    <a:pt x="5413" y="4714"/>
                  </a:lnTo>
                  <a:lnTo>
                    <a:pt x="5443" y="4654"/>
                  </a:lnTo>
                  <a:lnTo>
                    <a:pt x="5473" y="4596"/>
                  </a:lnTo>
                  <a:lnTo>
                    <a:pt x="5502" y="4536"/>
                  </a:lnTo>
                  <a:lnTo>
                    <a:pt x="5531" y="4477"/>
                  </a:lnTo>
                  <a:lnTo>
                    <a:pt x="5560" y="4417"/>
                  </a:lnTo>
                  <a:lnTo>
                    <a:pt x="5589" y="4359"/>
                  </a:lnTo>
                  <a:lnTo>
                    <a:pt x="5616" y="4299"/>
                  </a:lnTo>
                  <a:lnTo>
                    <a:pt x="5645" y="4240"/>
                  </a:lnTo>
                  <a:lnTo>
                    <a:pt x="5673" y="4180"/>
                  </a:lnTo>
                  <a:lnTo>
                    <a:pt x="5700" y="4121"/>
                  </a:lnTo>
                  <a:lnTo>
                    <a:pt x="5728" y="4062"/>
                  </a:lnTo>
                  <a:lnTo>
                    <a:pt x="5756" y="4003"/>
                  </a:lnTo>
                  <a:lnTo>
                    <a:pt x="5782" y="3943"/>
                  </a:lnTo>
                  <a:lnTo>
                    <a:pt x="5810" y="3884"/>
                  </a:lnTo>
                  <a:lnTo>
                    <a:pt x="5836" y="3823"/>
                  </a:lnTo>
                  <a:lnTo>
                    <a:pt x="5863" y="3764"/>
                  </a:lnTo>
                  <a:lnTo>
                    <a:pt x="5889" y="3704"/>
                  </a:lnTo>
                  <a:lnTo>
                    <a:pt x="5934" y="3618"/>
                  </a:lnTo>
                  <a:lnTo>
                    <a:pt x="6325" y="2597"/>
                  </a:lnTo>
                  <a:lnTo>
                    <a:pt x="6339" y="2532"/>
                  </a:lnTo>
                  <a:lnTo>
                    <a:pt x="6354" y="2466"/>
                  </a:lnTo>
                  <a:lnTo>
                    <a:pt x="6369" y="2400"/>
                  </a:lnTo>
                  <a:lnTo>
                    <a:pt x="6384" y="2334"/>
                  </a:lnTo>
                  <a:lnTo>
                    <a:pt x="6399" y="2268"/>
                  </a:lnTo>
                  <a:lnTo>
                    <a:pt x="6414" y="2202"/>
                  </a:lnTo>
                  <a:lnTo>
                    <a:pt x="6429" y="2135"/>
                  </a:lnTo>
                  <a:lnTo>
                    <a:pt x="6444" y="2069"/>
                  </a:lnTo>
                  <a:lnTo>
                    <a:pt x="6458" y="2003"/>
                  </a:lnTo>
                  <a:lnTo>
                    <a:pt x="6470" y="1936"/>
                  </a:lnTo>
                  <a:lnTo>
                    <a:pt x="6482" y="1870"/>
                  </a:lnTo>
                  <a:lnTo>
                    <a:pt x="6492" y="1804"/>
                  </a:lnTo>
                  <a:lnTo>
                    <a:pt x="6500" y="1738"/>
                  </a:lnTo>
                  <a:lnTo>
                    <a:pt x="6507" y="1672"/>
                  </a:lnTo>
                  <a:lnTo>
                    <a:pt x="6513" y="1606"/>
                  </a:lnTo>
                  <a:lnTo>
                    <a:pt x="6515" y="1541"/>
                  </a:lnTo>
                  <a:lnTo>
                    <a:pt x="6560" y="1174"/>
                  </a:lnTo>
                  <a:lnTo>
                    <a:pt x="6625" y="842"/>
                  </a:lnTo>
                  <a:lnTo>
                    <a:pt x="6660" y="919"/>
                  </a:lnTo>
                  <a:lnTo>
                    <a:pt x="6651" y="970"/>
                  </a:lnTo>
                  <a:lnTo>
                    <a:pt x="6651" y="1174"/>
                  </a:lnTo>
                  <a:lnTo>
                    <a:pt x="6670" y="1225"/>
                  </a:lnTo>
                  <a:lnTo>
                    <a:pt x="6670" y="1268"/>
                  </a:lnTo>
                  <a:lnTo>
                    <a:pt x="6716" y="1582"/>
                  </a:lnTo>
                  <a:lnTo>
                    <a:pt x="6717" y="1755"/>
                  </a:lnTo>
                  <a:lnTo>
                    <a:pt x="6711" y="1927"/>
                  </a:lnTo>
                  <a:lnTo>
                    <a:pt x="6702" y="2099"/>
                  </a:lnTo>
                  <a:lnTo>
                    <a:pt x="6687" y="2271"/>
                  </a:lnTo>
                  <a:lnTo>
                    <a:pt x="6668" y="2443"/>
                  </a:lnTo>
                  <a:lnTo>
                    <a:pt x="6642" y="2615"/>
                  </a:lnTo>
                  <a:lnTo>
                    <a:pt x="6612" y="2787"/>
                  </a:lnTo>
                  <a:lnTo>
                    <a:pt x="6578" y="2959"/>
                  </a:lnTo>
                  <a:lnTo>
                    <a:pt x="6538" y="3131"/>
                  </a:lnTo>
                  <a:lnTo>
                    <a:pt x="6495" y="3302"/>
                  </a:lnTo>
                  <a:lnTo>
                    <a:pt x="6445" y="3474"/>
                  </a:lnTo>
                  <a:lnTo>
                    <a:pt x="6392" y="3646"/>
                  </a:lnTo>
                  <a:lnTo>
                    <a:pt x="6334" y="3818"/>
                  </a:lnTo>
                  <a:lnTo>
                    <a:pt x="6272" y="3990"/>
                  </a:lnTo>
                  <a:lnTo>
                    <a:pt x="6205" y="4163"/>
                  </a:lnTo>
                  <a:lnTo>
                    <a:pt x="6135" y="4335"/>
                  </a:lnTo>
                  <a:lnTo>
                    <a:pt x="6114" y="4404"/>
                  </a:lnTo>
                  <a:lnTo>
                    <a:pt x="6091" y="4472"/>
                  </a:lnTo>
                  <a:lnTo>
                    <a:pt x="6068" y="4541"/>
                  </a:lnTo>
                  <a:lnTo>
                    <a:pt x="6043" y="4610"/>
                  </a:lnTo>
                  <a:lnTo>
                    <a:pt x="6017" y="4678"/>
                  </a:lnTo>
                  <a:lnTo>
                    <a:pt x="5991" y="4746"/>
                  </a:lnTo>
                  <a:lnTo>
                    <a:pt x="5963" y="4814"/>
                  </a:lnTo>
                  <a:lnTo>
                    <a:pt x="5934" y="4882"/>
                  </a:lnTo>
                  <a:lnTo>
                    <a:pt x="5904" y="4951"/>
                  </a:lnTo>
                  <a:lnTo>
                    <a:pt x="5873" y="5019"/>
                  </a:lnTo>
                  <a:lnTo>
                    <a:pt x="5841" y="5087"/>
                  </a:lnTo>
                  <a:lnTo>
                    <a:pt x="5809" y="5155"/>
                  </a:lnTo>
                  <a:lnTo>
                    <a:pt x="5775" y="5222"/>
                  </a:lnTo>
                  <a:lnTo>
                    <a:pt x="5741" y="5290"/>
                  </a:lnTo>
                  <a:lnTo>
                    <a:pt x="5706" y="5357"/>
                  </a:lnTo>
                  <a:lnTo>
                    <a:pt x="5670" y="5424"/>
                  </a:lnTo>
                  <a:lnTo>
                    <a:pt x="5643" y="5475"/>
                  </a:lnTo>
                  <a:lnTo>
                    <a:pt x="5614" y="5526"/>
                  </a:lnTo>
                  <a:lnTo>
                    <a:pt x="5586" y="5577"/>
                  </a:lnTo>
                  <a:lnTo>
                    <a:pt x="5557" y="5628"/>
                  </a:lnTo>
                  <a:lnTo>
                    <a:pt x="5530" y="5679"/>
                  </a:lnTo>
                  <a:lnTo>
                    <a:pt x="5501" y="5728"/>
                  </a:lnTo>
                  <a:lnTo>
                    <a:pt x="5473" y="5779"/>
                  </a:lnTo>
                  <a:lnTo>
                    <a:pt x="5444" y="5829"/>
                  </a:lnTo>
                  <a:lnTo>
                    <a:pt x="5416" y="5879"/>
                  </a:lnTo>
                  <a:lnTo>
                    <a:pt x="5387" y="5930"/>
                  </a:lnTo>
                  <a:lnTo>
                    <a:pt x="5358" y="5979"/>
                  </a:lnTo>
                  <a:lnTo>
                    <a:pt x="5329" y="6029"/>
                  </a:lnTo>
                  <a:lnTo>
                    <a:pt x="5299" y="6079"/>
                  </a:lnTo>
                  <a:lnTo>
                    <a:pt x="5270" y="6129"/>
                  </a:lnTo>
                  <a:lnTo>
                    <a:pt x="5240" y="6178"/>
                  </a:lnTo>
                  <a:lnTo>
                    <a:pt x="5210" y="6227"/>
                  </a:lnTo>
                  <a:lnTo>
                    <a:pt x="5180" y="6277"/>
                  </a:lnTo>
                  <a:lnTo>
                    <a:pt x="5150" y="6327"/>
                  </a:lnTo>
                  <a:lnTo>
                    <a:pt x="5119" y="6376"/>
                  </a:lnTo>
                  <a:lnTo>
                    <a:pt x="5088" y="6425"/>
                  </a:lnTo>
                  <a:lnTo>
                    <a:pt x="5057" y="6475"/>
                  </a:lnTo>
                  <a:lnTo>
                    <a:pt x="5026" y="6525"/>
                  </a:lnTo>
                  <a:lnTo>
                    <a:pt x="4994" y="6573"/>
                  </a:lnTo>
                  <a:lnTo>
                    <a:pt x="4961" y="6623"/>
                  </a:lnTo>
                  <a:lnTo>
                    <a:pt x="4929" y="6672"/>
                  </a:lnTo>
                  <a:lnTo>
                    <a:pt x="4897" y="6721"/>
                  </a:lnTo>
                  <a:lnTo>
                    <a:pt x="4863" y="6771"/>
                  </a:lnTo>
                  <a:lnTo>
                    <a:pt x="4830" y="6820"/>
                  </a:lnTo>
                  <a:lnTo>
                    <a:pt x="4795" y="6870"/>
                  </a:lnTo>
                  <a:lnTo>
                    <a:pt x="4761" y="6919"/>
                  </a:lnTo>
                  <a:lnTo>
                    <a:pt x="4726" y="6968"/>
                  </a:lnTo>
                  <a:lnTo>
                    <a:pt x="4691" y="7018"/>
                  </a:lnTo>
                  <a:lnTo>
                    <a:pt x="4636" y="7112"/>
                  </a:lnTo>
                  <a:lnTo>
                    <a:pt x="4500" y="7274"/>
                  </a:lnTo>
                  <a:lnTo>
                    <a:pt x="4218" y="7554"/>
                  </a:lnTo>
                  <a:lnTo>
                    <a:pt x="4183" y="7572"/>
                  </a:lnTo>
                  <a:lnTo>
                    <a:pt x="4047" y="7699"/>
                  </a:lnTo>
                  <a:lnTo>
                    <a:pt x="3965" y="7717"/>
                  </a:lnTo>
                  <a:lnTo>
                    <a:pt x="3928" y="7692"/>
                  </a:lnTo>
                  <a:lnTo>
                    <a:pt x="3918" y="7673"/>
                  </a:lnTo>
                  <a:lnTo>
                    <a:pt x="4282" y="7290"/>
                  </a:lnTo>
                  <a:lnTo>
                    <a:pt x="4337" y="7232"/>
                  </a:lnTo>
                  <a:lnTo>
                    <a:pt x="4591" y="6890"/>
                  </a:lnTo>
                  <a:lnTo>
                    <a:pt x="4827" y="6575"/>
                  </a:lnTo>
                  <a:lnTo>
                    <a:pt x="4911" y="6446"/>
                  </a:lnTo>
                  <a:lnTo>
                    <a:pt x="4993" y="6317"/>
                  </a:lnTo>
                  <a:lnTo>
                    <a:pt x="5072" y="6188"/>
                  </a:lnTo>
                  <a:lnTo>
                    <a:pt x="5149" y="6060"/>
                  </a:lnTo>
                  <a:lnTo>
                    <a:pt x="5225" y="5933"/>
                  </a:lnTo>
                  <a:lnTo>
                    <a:pt x="5299" y="5805"/>
                  </a:lnTo>
                  <a:lnTo>
                    <a:pt x="5370" y="5678"/>
                  </a:lnTo>
                  <a:lnTo>
                    <a:pt x="5439" y="5550"/>
                  </a:lnTo>
                  <a:lnTo>
                    <a:pt x="5506" y="5423"/>
                  </a:lnTo>
                  <a:lnTo>
                    <a:pt x="5571" y="5297"/>
                  </a:lnTo>
                  <a:lnTo>
                    <a:pt x="5634" y="5170"/>
                  </a:lnTo>
                  <a:lnTo>
                    <a:pt x="5695" y="5044"/>
                  </a:lnTo>
                  <a:lnTo>
                    <a:pt x="5753" y="4917"/>
                  </a:lnTo>
                  <a:lnTo>
                    <a:pt x="5810" y="4790"/>
                  </a:lnTo>
                  <a:lnTo>
                    <a:pt x="5864" y="4664"/>
                  </a:lnTo>
                  <a:lnTo>
                    <a:pt x="5916" y="4537"/>
                  </a:lnTo>
                  <a:lnTo>
                    <a:pt x="5966" y="4411"/>
                  </a:lnTo>
                  <a:lnTo>
                    <a:pt x="6014" y="4285"/>
                  </a:lnTo>
                  <a:lnTo>
                    <a:pt x="6060" y="4159"/>
                  </a:lnTo>
                  <a:lnTo>
                    <a:pt x="6103" y="4032"/>
                  </a:lnTo>
                  <a:lnTo>
                    <a:pt x="6144" y="3905"/>
                  </a:lnTo>
                  <a:lnTo>
                    <a:pt x="6185" y="3778"/>
                  </a:lnTo>
                  <a:lnTo>
                    <a:pt x="6221" y="3651"/>
                  </a:lnTo>
                  <a:lnTo>
                    <a:pt x="6256" y="3524"/>
                  </a:lnTo>
                  <a:lnTo>
                    <a:pt x="6289" y="3396"/>
                  </a:lnTo>
                  <a:lnTo>
                    <a:pt x="6321" y="3268"/>
                  </a:lnTo>
                  <a:lnTo>
                    <a:pt x="6349" y="3141"/>
                  </a:lnTo>
                  <a:lnTo>
                    <a:pt x="6376" y="3012"/>
                  </a:lnTo>
                  <a:lnTo>
                    <a:pt x="6400" y="2883"/>
                  </a:lnTo>
                  <a:lnTo>
                    <a:pt x="6423" y="2755"/>
                  </a:lnTo>
                  <a:lnTo>
                    <a:pt x="6443" y="2625"/>
                  </a:lnTo>
                  <a:lnTo>
                    <a:pt x="6461" y="2495"/>
                  </a:lnTo>
                  <a:lnTo>
                    <a:pt x="6407" y="2580"/>
                  </a:lnTo>
                  <a:lnTo>
                    <a:pt x="6370" y="2690"/>
                  </a:lnTo>
                  <a:lnTo>
                    <a:pt x="6353" y="2836"/>
                  </a:lnTo>
                  <a:lnTo>
                    <a:pt x="6098" y="3500"/>
                  </a:lnTo>
                  <a:lnTo>
                    <a:pt x="5898" y="3985"/>
                  </a:lnTo>
                  <a:lnTo>
                    <a:pt x="5752" y="4240"/>
                  </a:lnTo>
                  <a:lnTo>
                    <a:pt x="5517" y="4769"/>
                  </a:lnTo>
                  <a:lnTo>
                    <a:pt x="5499" y="4803"/>
                  </a:lnTo>
                  <a:lnTo>
                    <a:pt x="5380" y="5024"/>
                  </a:lnTo>
                  <a:lnTo>
                    <a:pt x="5272" y="5246"/>
                  </a:lnTo>
                  <a:lnTo>
                    <a:pt x="4890" y="5936"/>
                  </a:lnTo>
                  <a:lnTo>
                    <a:pt x="4790" y="6097"/>
                  </a:lnTo>
                  <a:lnTo>
                    <a:pt x="4292" y="6856"/>
                  </a:lnTo>
                  <a:lnTo>
                    <a:pt x="4282" y="6847"/>
                  </a:lnTo>
                  <a:lnTo>
                    <a:pt x="4000" y="7214"/>
                  </a:lnTo>
                  <a:lnTo>
                    <a:pt x="3765" y="7478"/>
                  </a:lnTo>
                  <a:lnTo>
                    <a:pt x="3745" y="7495"/>
                  </a:lnTo>
                  <a:lnTo>
                    <a:pt x="3691" y="7469"/>
                  </a:lnTo>
                  <a:lnTo>
                    <a:pt x="3801" y="7299"/>
                  </a:lnTo>
                  <a:lnTo>
                    <a:pt x="3819" y="7283"/>
                  </a:lnTo>
                  <a:lnTo>
                    <a:pt x="3851" y="7244"/>
                  </a:lnTo>
                  <a:lnTo>
                    <a:pt x="3884" y="7205"/>
                  </a:lnTo>
                  <a:lnTo>
                    <a:pt x="3917" y="7167"/>
                  </a:lnTo>
                  <a:lnTo>
                    <a:pt x="3949" y="7128"/>
                  </a:lnTo>
                  <a:lnTo>
                    <a:pt x="3980" y="7089"/>
                  </a:lnTo>
                  <a:lnTo>
                    <a:pt x="4013" y="7049"/>
                  </a:lnTo>
                  <a:lnTo>
                    <a:pt x="4043" y="7010"/>
                  </a:lnTo>
                  <a:lnTo>
                    <a:pt x="4074" y="6971"/>
                  </a:lnTo>
                  <a:lnTo>
                    <a:pt x="4103" y="6932"/>
                  </a:lnTo>
                  <a:lnTo>
                    <a:pt x="4130" y="6893"/>
                  </a:lnTo>
                  <a:lnTo>
                    <a:pt x="4158" y="6854"/>
                  </a:lnTo>
                  <a:lnTo>
                    <a:pt x="4183" y="6816"/>
                  </a:lnTo>
                  <a:lnTo>
                    <a:pt x="4209" y="6777"/>
                  </a:lnTo>
                  <a:lnTo>
                    <a:pt x="4232" y="6738"/>
                  </a:lnTo>
                  <a:lnTo>
                    <a:pt x="4252" y="6700"/>
                  </a:lnTo>
                  <a:lnTo>
                    <a:pt x="4272" y="6661"/>
                  </a:lnTo>
                  <a:lnTo>
                    <a:pt x="4290" y="6535"/>
                  </a:lnTo>
                  <a:lnTo>
                    <a:pt x="4311" y="6409"/>
                  </a:lnTo>
                  <a:lnTo>
                    <a:pt x="4332" y="6284"/>
                  </a:lnTo>
                  <a:lnTo>
                    <a:pt x="4355" y="6159"/>
                  </a:lnTo>
                  <a:lnTo>
                    <a:pt x="4379" y="6034"/>
                  </a:lnTo>
                  <a:lnTo>
                    <a:pt x="4402" y="5909"/>
                  </a:lnTo>
                  <a:lnTo>
                    <a:pt x="4427" y="5785"/>
                  </a:lnTo>
                  <a:lnTo>
                    <a:pt x="4450" y="5660"/>
                  </a:lnTo>
                  <a:lnTo>
                    <a:pt x="4473" y="5537"/>
                  </a:lnTo>
                  <a:lnTo>
                    <a:pt x="4493" y="5412"/>
                  </a:lnTo>
                  <a:lnTo>
                    <a:pt x="4513" y="5288"/>
                  </a:lnTo>
                  <a:lnTo>
                    <a:pt x="4530" y="5165"/>
                  </a:lnTo>
                  <a:lnTo>
                    <a:pt x="4545" y="5040"/>
                  </a:lnTo>
                  <a:lnTo>
                    <a:pt x="4558" y="4916"/>
                  </a:lnTo>
                  <a:lnTo>
                    <a:pt x="4566" y="4792"/>
                  </a:lnTo>
                  <a:lnTo>
                    <a:pt x="4572" y="4667"/>
                  </a:lnTo>
                  <a:lnTo>
                    <a:pt x="4564" y="4582"/>
                  </a:lnTo>
                  <a:lnTo>
                    <a:pt x="4572" y="4489"/>
                  </a:lnTo>
                  <a:lnTo>
                    <a:pt x="4599" y="4444"/>
                  </a:lnTo>
                  <a:lnTo>
                    <a:pt x="4606" y="4246"/>
                  </a:lnTo>
                  <a:lnTo>
                    <a:pt x="4612" y="4048"/>
                  </a:lnTo>
                  <a:lnTo>
                    <a:pt x="4618" y="3850"/>
                  </a:lnTo>
                  <a:lnTo>
                    <a:pt x="4621" y="3652"/>
                  </a:lnTo>
                  <a:lnTo>
                    <a:pt x="4622" y="3455"/>
                  </a:lnTo>
                  <a:lnTo>
                    <a:pt x="4621" y="3257"/>
                  </a:lnTo>
                  <a:lnTo>
                    <a:pt x="4617" y="3059"/>
                  </a:lnTo>
                  <a:lnTo>
                    <a:pt x="4609" y="2861"/>
                  </a:lnTo>
                  <a:lnTo>
                    <a:pt x="4609" y="2785"/>
                  </a:lnTo>
                  <a:lnTo>
                    <a:pt x="4572" y="2366"/>
                  </a:lnTo>
                  <a:lnTo>
                    <a:pt x="4572" y="2325"/>
                  </a:lnTo>
                  <a:lnTo>
                    <a:pt x="4544" y="2153"/>
                  </a:lnTo>
                  <a:lnTo>
                    <a:pt x="4518" y="2102"/>
                  </a:lnTo>
                  <a:lnTo>
                    <a:pt x="4455" y="2051"/>
                  </a:lnTo>
                  <a:lnTo>
                    <a:pt x="4428" y="2017"/>
                  </a:lnTo>
                  <a:lnTo>
                    <a:pt x="4346" y="2060"/>
                  </a:lnTo>
                  <a:lnTo>
                    <a:pt x="4272" y="2111"/>
                  </a:lnTo>
                  <a:lnTo>
                    <a:pt x="4257" y="2117"/>
                  </a:lnTo>
                  <a:lnTo>
                    <a:pt x="4239" y="2128"/>
                  </a:lnTo>
                  <a:lnTo>
                    <a:pt x="4217" y="2142"/>
                  </a:lnTo>
                  <a:lnTo>
                    <a:pt x="4192" y="2157"/>
                  </a:lnTo>
                  <a:lnTo>
                    <a:pt x="4167" y="2173"/>
                  </a:lnTo>
                  <a:lnTo>
                    <a:pt x="4142" y="2186"/>
                  </a:lnTo>
                  <a:lnTo>
                    <a:pt x="4116" y="2194"/>
                  </a:lnTo>
                  <a:lnTo>
                    <a:pt x="4091" y="2198"/>
                  </a:lnTo>
                  <a:lnTo>
                    <a:pt x="4047" y="2222"/>
                  </a:lnTo>
                  <a:lnTo>
                    <a:pt x="4000" y="2230"/>
                  </a:lnTo>
                  <a:lnTo>
                    <a:pt x="3792" y="2299"/>
                  </a:lnTo>
                  <a:lnTo>
                    <a:pt x="3691" y="2315"/>
                  </a:lnTo>
                  <a:lnTo>
                    <a:pt x="3668" y="2327"/>
                  </a:lnTo>
                  <a:lnTo>
                    <a:pt x="3646" y="2336"/>
                  </a:lnTo>
                  <a:lnTo>
                    <a:pt x="3623" y="2344"/>
                  </a:lnTo>
                  <a:lnTo>
                    <a:pt x="3601" y="2348"/>
                  </a:lnTo>
                  <a:lnTo>
                    <a:pt x="3579" y="2349"/>
                  </a:lnTo>
                  <a:lnTo>
                    <a:pt x="3557" y="2349"/>
                  </a:lnTo>
                  <a:lnTo>
                    <a:pt x="3534" y="2347"/>
                  </a:lnTo>
                  <a:lnTo>
                    <a:pt x="3510" y="2341"/>
                  </a:lnTo>
                  <a:lnTo>
                    <a:pt x="3255" y="2350"/>
                  </a:lnTo>
                  <a:lnTo>
                    <a:pt x="3057" y="2366"/>
                  </a:lnTo>
                  <a:lnTo>
                    <a:pt x="3111" y="2460"/>
                  </a:lnTo>
                  <a:lnTo>
                    <a:pt x="3123" y="2498"/>
                  </a:lnTo>
                  <a:lnTo>
                    <a:pt x="3128" y="2536"/>
                  </a:lnTo>
                  <a:lnTo>
                    <a:pt x="3132" y="2573"/>
                  </a:lnTo>
                  <a:lnTo>
                    <a:pt x="3132" y="2610"/>
                  </a:lnTo>
                  <a:lnTo>
                    <a:pt x="3128" y="2646"/>
                  </a:lnTo>
                  <a:lnTo>
                    <a:pt x="3124" y="2683"/>
                  </a:lnTo>
                  <a:lnTo>
                    <a:pt x="3118" y="2721"/>
                  </a:lnTo>
                  <a:lnTo>
                    <a:pt x="3111" y="2759"/>
                  </a:lnTo>
                  <a:lnTo>
                    <a:pt x="3074" y="2826"/>
                  </a:lnTo>
                  <a:lnTo>
                    <a:pt x="3011" y="3006"/>
                  </a:lnTo>
                  <a:lnTo>
                    <a:pt x="2996" y="3030"/>
                  </a:lnTo>
                  <a:lnTo>
                    <a:pt x="2981" y="3056"/>
                  </a:lnTo>
                  <a:lnTo>
                    <a:pt x="2962" y="3080"/>
                  </a:lnTo>
                  <a:lnTo>
                    <a:pt x="2944" y="3105"/>
                  </a:lnTo>
                  <a:lnTo>
                    <a:pt x="2923" y="3129"/>
                  </a:lnTo>
                  <a:lnTo>
                    <a:pt x="2902" y="3152"/>
                  </a:lnTo>
                  <a:lnTo>
                    <a:pt x="2879" y="3175"/>
                  </a:lnTo>
                  <a:lnTo>
                    <a:pt x="2856" y="3198"/>
                  </a:lnTo>
                  <a:lnTo>
                    <a:pt x="2832" y="3221"/>
                  </a:lnTo>
                  <a:lnTo>
                    <a:pt x="2807" y="3244"/>
                  </a:lnTo>
                  <a:lnTo>
                    <a:pt x="2781" y="3265"/>
                  </a:lnTo>
                  <a:lnTo>
                    <a:pt x="2756" y="3287"/>
                  </a:lnTo>
                  <a:lnTo>
                    <a:pt x="2728" y="3308"/>
                  </a:lnTo>
                  <a:lnTo>
                    <a:pt x="2702" y="3330"/>
                  </a:lnTo>
                  <a:lnTo>
                    <a:pt x="2675" y="3352"/>
                  </a:lnTo>
                  <a:lnTo>
                    <a:pt x="2648" y="3372"/>
                  </a:lnTo>
                  <a:lnTo>
                    <a:pt x="2476" y="3490"/>
                  </a:lnTo>
                  <a:lnTo>
                    <a:pt x="2448" y="3500"/>
                  </a:lnTo>
                  <a:lnTo>
                    <a:pt x="2167" y="3662"/>
                  </a:lnTo>
                  <a:lnTo>
                    <a:pt x="2121" y="3678"/>
                  </a:lnTo>
                  <a:lnTo>
                    <a:pt x="2077" y="3696"/>
                  </a:lnTo>
                  <a:lnTo>
                    <a:pt x="2034" y="3714"/>
                  </a:lnTo>
                  <a:lnTo>
                    <a:pt x="1992" y="3734"/>
                  </a:lnTo>
                  <a:lnTo>
                    <a:pt x="1949" y="3754"/>
                  </a:lnTo>
                  <a:lnTo>
                    <a:pt x="1906" y="3776"/>
                  </a:lnTo>
                  <a:lnTo>
                    <a:pt x="1864" y="3797"/>
                  </a:lnTo>
                  <a:lnTo>
                    <a:pt x="1822" y="3821"/>
                  </a:lnTo>
                  <a:lnTo>
                    <a:pt x="1781" y="3846"/>
                  </a:lnTo>
                  <a:lnTo>
                    <a:pt x="1739" y="3871"/>
                  </a:lnTo>
                  <a:lnTo>
                    <a:pt x="1699" y="3898"/>
                  </a:lnTo>
                  <a:lnTo>
                    <a:pt x="1659" y="3925"/>
                  </a:lnTo>
                  <a:lnTo>
                    <a:pt x="1618" y="3953"/>
                  </a:lnTo>
                  <a:lnTo>
                    <a:pt x="1579" y="3981"/>
                  </a:lnTo>
                  <a:lnTo>
                    <a:pt x="1540" y="4012"/>
                  </a:lnTo>
                  <a:lnTo>
                    <a:pt x="1502" y="4042"/>
                  </a:lnTo>
                  <a:lnTo>
                    <a:pt x="1464" y="4073"/>
                  </a:lnTo>
                  <a:lnTo>
                    <a:pt x="1427" y="4106"/>
                  </a:lnTo>
                  <a:lnTo>
                    <a:pt x="1390" y="4138"/>
                  </a:lnTo>
                  <a:lnTo>
                    <a:pt x="1353" y="4172"/>
                  </a:lnTo>
                  <a:lnTo>
                    <a:pt x="1318" y="4206"/>
                  </a:lnTo>
                  <a:lnTo>
                    <a:pt x="1283" y="4242"/>
                  </a:lnTo>
                  <a:lnTo>
                    <a:pt x="1249" y="4278"/>
                  </a:lnTo>
                  <a:lnTo>
                    <a:pt x="1216" y="4313"/>
                  </a:lnTo>
                  <a:lnTo>
                    <a:pt x="1182" y="4350"/>
                  </a:lnTo>
                  <a:lnTo>
                    <a:pt x="1150" y="4388"/>
                  </a:lnTo>
                  <a:lnTo>
                    <a:pt x="1119" y="4427"/>
                  </a:lnTo>
                  <a:lnTo>
                    <a:pt x="1089" y="4465"/>
                  </a:lnTo>
                  <a:lnTo>
                    <a:pt x="1059" y="4505"/>
                  </a:lnTo>
                  <a:lnTo>
                    <a:pt x="1030" y="4545"/>
                  </a:lnTo>
                  <a:lnTo>
                    <a:pt x="1003" y="4585"/>
                  </a:lnTo>
                  <a:lnTo>
                    <a:pt x="976" y="4626"/>
                  </a:lnTo>
                  <a:lnTo>
                    <a:pt x="950" y="4667"/>
                  </a:lnTo>
                  <a:lnTo>
                    <a:pt x="895" y="4744"/>
                  </a:lnTo>
                  <a:lnTo>
                    <a:pt x="869" y="4753"/>
                  </a:lnTo>
                  <a:lnTo>
                    <a:pt x="838" y="4759"/>
                  </a:lnTo>
                  <a:lnTo>
                    <a:pt x="807" y="4762"/>
                  </a:lnTo>
                  <a:lnTo>
                    <a:pt x="777" y="4763"/>
                  </a:lnTo>
                  <a:lnTo>
                    <a:pt x="747" y="4763"/>
                  </a:lnTo>
                  <a:lnTo>
                    <a:pt x="717" y="4760"/>
                  </a:lnTo>
                  <a:lnTo>
                    <a:pt x="687" y="4755"/>
                  </a:lnTo>
                  <a:lnTo>
                    <a:pt x="658" y="4748"/>
                  </a:lnTo>
                  <a:lnTo>
                    <a:pt x="629" y="4740"/>
                  </a:lnTo>
                  <a:lnTo>
                    <a:pt x="600" y="4729"/>
                  </a:lnTo>
                  <a:lnTo>
                    <a:pt x="573" y="4718"/>
                  </a:lnTo>
                  <a:lnTo>
                    <a:pt x="545" y="4706"/>
                  </a:lnTo>
                  <a:lnTo>
                    <a:pt x="518" y="4692"/>
                  </a:lnTo>
                  <a:lnTo>
                    <a:pt x="492" y="4678"/>
                  </a:lnTo>
                  <a:lnTo>
                    <a:pt x="465" y="4663"/>
                  </a:lnTo>
                  <a:lnTo>
                    <a:pt x="440" y="4648"/>
                  </a:lnTo>
                  <a:lnTo>
                    <a:pt x="416" y="4633"/>
                  </a:lnTo>
                  <a:lnTo>
                    <a:pt x="379" y="4556"/>
                  </a:lnTo>
                  <a:lnTo>
                    <a:pt x="351" y="4428"/>
                  </a:lnTo>
                  <a:lnTo>
                    <a:pt x="169" y="4368"/>
                  </a:lnTo>
                  <a:lnTo>
                    <a:pt x="141" y="4335"/>
                  </a:lnTo>
                  <a:lnTo>
                    <a:pt x="79" y="4309"/>
                  </a:lnTo>
                  <a:lnTo>
                    <a:pt x="78" y="4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711600" y="2779560"/>
              <a:ext cx="1250640" cy="1282320"/>
            </a:xfrm>
            <a:custGeom>
              <a:avLst/>
              <a:gdLst/>
              <a:ahLst/>
              <a:rect l="l" t="t" r="r" b="b"/>
              <a:pathLst>
                <a:path w="4727" h="4038">
                  <a:moveTo>
                    <a:pt x="0" y="3532"/>
                  </a:moveTo>
                  <a:lnTo>
                    <a:pt x="0" y="3628"/>
                  </a:lnTo>
                  <a:lnTo>
                    <a:pt x="97" y="3645"/>
                  </a:lnTo>
                  <a:lnTo>
                    <a:pt x="168" y="3679"/>
                  </a:lnTo>
                  <a:lnTo>
                    <a:pt x="215" y="3730"/>
                  </a:lnTo>
                  <a:lnTo>
                    <a:pt x="351" y="3722"/>
                  </a:lnTo>
                  <a:lnTo>
                    <a:pt x="415" y="3679"/>
                  </a:lnTo>
                  <a:lnTo>
                    <a:pt x="451" y="3627"/>
                  </a:lnTo>
                  <a:lnTo>
                    <a:pt x="650" y="3483"/>
                  </a:lnTo>
                  <a:lnTo>
                    <a:pt x="559" y="3653"/>
                  </a:lnTo>
                  <a:lnTo>
                    <a:pt x="542" y="3679"/>
                  </a:lnTo>
                  <a:lnTo>
                    <a:pt x="477" y="3773"/>
                  </a:lnTo>
                  <a:lnTo>
                    <a:pt x="443" y="3799"/>
                  </a:lnTo>
                  <a:lnTo>
                    <a:pt x="443" y="3959"/>
                  </a:lnTo>
                  <a:lnTo>
                    <a:pt x="469" y="3951"/>
                  </a:lnTo>
                  <a:lnTo>
                    <a:pt x="542" y="3841"/>
                  </a:lnTo>
                  <a:lnTo>
                    <a:pt x="732" y="3602"/>
                  </a:lnTo>
                  <a:lnTo>
                    <a:pt x="551" y="4020"/>
                  </a:lnTo>
                  <a:lnTo>
                    <a:pt x="641" y="4038"/>
                  </a:lnTo>
                  <a:lnTo>
                    <a:pt x="678" y="3977"/>
                  </a:lnTo>
                  <a:lnTo>
                    <a:pt x="708" y="3942"/>
                  </a:lnTo>
                  <a:lnTo>
                    <a:pt x="738" y="3906"/>
                  </a:lnTo>
                  <a:lnTo>
                    <a:pt x="767" y="3869"/>
                  </a:lnTo>
                  <a:lnTo>
                    <a:pt x="796" y="3832"/>
                  </a:lnTo>
                  <a:lnTo>
                    <a:pt x="824" y="3796"/>
                  </a:lnTo>
                  <a:lnTo>
                    <a:pt x="854" y="3758"/>
                  </a:lnTo>
                  <a:lnTo>
                    <a:pt x="884" y="3720"/>
                  </a:lnTo>
                  <a:lnTo>
                    <a:pt x="914" y="3683"/>
                  </a:lnTo>
                  <a:lnTo>
                    <a:pt x="947" y="3645"/>
                  </a:lnTo>
                  <a:lnTo>
                    <a:pt x="979" y="3608"/>
                  </a:lnTo>
                  <a:lnTo>
                    <a:pt x="1014" y="3571"/>
                  </a:lnTo>
                  <a:lnTo>
                    <a:pt x="1049" y="3534"/>
                  </a:lnTo>
                  <a:lnTo>
                    <a:pt x="1087" y="3497"/>
                  </a:lnTo>
                  <a:lnTo>
                    <a:pt x="1126" y="3461"/>
                  </a:lnTo>
                  <a:lnTo>
                    <a:pt x="1169" y="3426"/>
                  </a:lnTo>
                  <a:lnTo>
                    <a:pt x="1214" y="3390"/>
                  </a:lnTo>
                  <a:lnTo>
                    <a:pt x="1296" y="3313"/>
                  </a:lnTo>
                  <a:lnTo>
                    <a:pt x="1321" y="3295"/>
                  </a:lnTo>
                  <a:lnTo>
                    <a:pt x="1347" y="3277"/>
                  </a:lnTo>
                  <a:lnTo>
                    <a:pt x="1372" y="3260"/>
                  </a:lnTo>
                  <a:lnTo>
                    <a:pt x="1397" y="3244"/>
                  </a:lnTo>
                  <a:lnTo>
                    <a:pt x="1423" y="3228"/>
                  </a:lnTo>
                  <a:lnTo>
                    <a:pt x="1448" y="3211"/>
                  </a:lnTo>
                  <a:lnTo>
                    <a:pt x="1473" y="3196"/>
                  </a:lnTo>
                  <a:lnTo>
                    <a:pt x="1499" y="3181"/>
                  </a:lnTo>
                  <a:lnTo>
                    <a:pt x="1523" y="3166"/>
                  </a:lnTo>
                  <a:lnTo>
                    <a:pt x="1548" y="3152"/>
                  </a:lnTo>
                  <a:lnTo>
                    <a:pt x="1574" y="3138"/>
                  </a:lnTo>
                  <a:lnTo>
                    <a:pt x="1599" y="3124"/>
                  </a:lnTo>
                  <a:lnTo>
                    <a:pt x="1623" y="3110"/>
                  </a:lnTo>
                  <a:lnTo>
                    <a:pt x="1649" y="3097"/>
                  </a:lnTo>
                  <a:lnTo>
                    <a:pt x="1674" y="3083"/>
                  </a:lnTo>
                  <a:lnTo>
                    <a:pt x="1698" y="3070"/>
                  </a:lnTo>
                  <a:lnTo>
                    <a:pt x="1724" y="3057"/>
                  </a:lnTo>
                  <a:lnTo>
                    <a:pt x="1748" y="3044"/>
                  </a:lnTo>
                  <a:lnTo>
                    <a:pt x="1773" y="3031"/>
                  </a:lnTo>
                  <a:lnTo>
                    <a:pt x="1797" y="3018"/>
                  </a:lnTo>
                  <a:lnTo>
                    <a:pt x="1823" y="3005"/>
                  </a:lnTo>
                  <a:lnTo>
                    <a:pt x="1847" y="2992"/>
                  </a:lnTo>
                  <a:lnTo>
                    <a:pt x="1872" y="2978"/>
                  </a:lnTo>
                  <a:lnTo>
                    <a:pt x="1897" y="2965"/>
                  </a:lnTo>
                  <a:lnTo>
                    <a:pt x="1922" y="2952"/>
                  </a:lnTo>
                  <a:lnTo>
                    <a:pt x="1946" y="2938"/>
                  </a:lnTo>
                  <a:lnTo>
                    <a:pt x="1972" y="2925"/>
                  </a:lnTo>
                  <a:lnTo>
                    <a:pt x="1996" y="2911"/>
                  </a:lnTo>
                  <a:lnTo>
                    <a:pt x="2021" y="2897"/>
                  </a:lnTo>
                  <a:lnTo>
                    <a:pt x="2045" y="2883"/>
                  </a:lnTo>
                  <a:lnTo>
                    <a:pt x="2071" y="2867"/>
                  </a:lnTo>
                  <a:lnTo>
                    <a:pt x="2095" y="2852"/>
                  </a:lnTo>
                  <a:lnTo>
                    <a:pt x="2302" y="2717"/>
                  </a:lnTo>
                  <a:lnTo>
                    <a:pt x="2339" y="2673"/>
                  </a:lnTo>
                  <a:lnTo>
                    <a:pt x="2368" y="2657"/>
                  </a:lnTo>
                  <a:lnTo>
                    <a:pt x="2395" y="2638"/>
                  </a:lnTo>
                  <a:lnTo>
                    <a:pt x="2420" y="2619"/>
                  </a:lnTo>
                  <a:lnTo>
                    <a:pt x="2445" y="2599"/>
                  </a:lnTo>
                  <a:lnTo>
                    <a:pt x="2468" y="2578"/>
                  </a:lnTo>
                  <a:lnTo>
                    <a:pt x="2491" y="2555"/>
                  </a:lnTo>
                  <a:lnTo>
                    <a:pt x="2512" y="2532"/>
                  </a:lnTo>
                  <a:lnTo>
                    <a:pt x="2533" y="2508"/>
                  </a:lnTo>
                  <a:lnTo>
                    <a:pt x="2553" y="2483"/>
                  </a:lnTo>
                  <a:lnTo>
                    <a:pt x="2571" y="2460"/>
                  </a:lnTo>
                  <a:lnTo>
                    <a:pt x="2589" y="2435"/>
                  </a:lnTo>
                  <a:lnTo>
                    <a:pt x="2606" y="2411"/>
                  </a:lnTo>
                  <a:lnTo>
                    <a:pt x="2623" y="2386"/>
                  </a:lnTo>
                  <a:lnTo>
                    <a:pt x="2638" y="2362"/>
                  </a:lnTo>
                  <a:lnTo>
                    <a:pt x="2653" y="2338"/>
                  </a:lnTo>
                  <a:lnTo>
                    <a:pt x="2667" y="2316"/>
                  </a:lnTo>
                  <a:lnTo>
                    <a:pt x="2682" y="2268"/>
                  </a:lnTo>
                  <a:lnTo>
                    <a:pt x="2700" y="2222"/>
                  </a:lnTo>
                  <a:lnTo>
                    <a:pt x="2717" y="2175"/>
                  </a:lnTo>
                  <a:lnTo>
                    <a:pt x="2732" y="2129"/>
                  </a:lnTo>
                  <a:lnTo>
                    <a:pt x="2742" y="2082"/>
                  </a:lnTo>
                  <a:lnTo>
                    <a:pt x="2744" y="2036"/>
                  </a:lnTo>
                  <a:lnTo>
                    <a:pt x="2735" y="1989"/>
                  </a:lnTo>
                  <a:lnTo>
                    <a:pt x="2712" y="1941"/>
                  </a:lnTo>
                  <a:lnTo>
                    <a:pt x="2585" y="1795"/>
                  </a:lnTo>
                  <a:lnTo>
                    <a:pt x="2565" y="1720"/>
                  </a:lnTo>
                  <a:lnTo>
                    <a:pt x="2520" y="1643"/>
                  </a:lnTo>
                  <a:lnTo>
                    <a:pt x="2792" y="1635"/>
                  </a:lnTo>
                  <a:lnTo>
                    <a:pt x="3411" y="1601"/>
                  </a:lnTo>
                  <a:lnTo>
                    <a:pt x="3455" y="1617"/>
                  </a:lnTo>
                  <a:lnTo>
                    <a:pt x="3496" y="1610"/>
                  </a:lnTo>
                  <a:lnTo>
                    <a:pt x="3537" y="1604"/>
                  </a:lnTo>
                  <a:lnTo>
                    <a:pt x="3577" y="1596"/>
                  </a:lnTo>
                  <a:lnTo>
                    <a:pt x="3619" y="1589"/>
                  </a:lnTo>
                  <a:lnTo>
                    <a:pt x="3659" y="1579"/>
                  </a:lnTo>
                  <a:lnTo>
                    <a:pt x="3701" y="1569"/>
                  </a:lnTo>
                  <a:lnTo>
                    <a:pt x="3742" y="1557"/>
                  </a:lnTo>
                  <a:lnTo>
                    <a:pt x="3784" y="1544"/>
                  </a:lnTo>
                  <a:lnTo>
                    <a:pt x="3824" y="1529"/>
                  </a:lnTo>
                  <a:lnTo>
                    <a:pt x="3866" y="1512"/>
                  </a:lnTo>
                  <a:lnTo>
                    <a:pt x="3907" y="1494"/>
                  </a:lnTo>
                  <a:lnTo>
                    <a:pt x="3950" y="1472"/>
                  </a:lnTo>
                  <a:lnTo>
                    <a:pt x="3991" y="1448"/>
                  </a:lnTo>
                  <a:lnTo>
                    <a:pt x="4033" y="1422"/>
                  </a:lnTo>
                  <a:lnTo>
                    <a:pt x="4075" y="1394"/>
                  </a:lnTo>
                  <a:lnTo>
                    <a:pt x="4118" y="1362"/>
                  </a:lnTo>
                  <a:lnTo>
                    <a:pt x="4155" y="1336"/>
                  </a:lnTo>
                  <a:lnTo>
                    <a:pt x="4192" y="1310"/>
                  </a:lnTo>
                  <a:lnTo>
                    <a:pt x="4230" y="1284"/>
                  </a:lnTo>
                  <a:lnTo>
                    <a:pt x="4269" y="1257"/>
                  </a:lnTo>
                  <a:lnTo>
                    <a:pt x="4307" y="1230"/>
                  </a:lnTo>
                  <a:lnTo>
                    <a:pt x="4346" y="1202"/>
                  </a:lnTo>
                  <a:lnTo>
                    <a:pt x="4384" y="1173"/>
                  </a:lnTo>
                  <a:lnTo>
                    <a:pt x="4421" y="1144"/>
                  </a:lnTo>
                  <a:lnTo>
                    <a:pt x="4458" y="1114"/>
                  </a:lnTo>
                  <a:lnTo>
                    <a:pt x="4493" y="1084"/>
                  </a:lnTo>
                  <a:lnTo>
                    <a:pt x="4527" y="1052"/>
                  </a:lnTo>
                  <a:lnTo>
                    <a:pt x="4558" y="1019"/>
                  </a:lnTo>
                  <a:lnTo>
                    <a:pt x="4588" y="985"/>
                  </a:lnTo>
                  <a:lnTo>
                    <a:pt x="4616" y="950"/>
                  </a:lnTo>
                  <a:lnTo>
                    <a:pt x="4641" y="914"/>
                  </a:lnTo>
                  <a:lnTo>
                    <a:pt x="4663" y="876"/>
                  </a:lnTo>
                  <a:lnTo>
                    <a:pt x="4727" y="748"/>
                  </a:lnTo>
                  <a:lnTo>
                    <a:pt x="4727" y="706"/>
                  </a:lnTo>
                  <a:lnTo>
                    <a:pt x="4618" y="774"/>
                  </a:lnTo>
                  <a:lnTo>
                    <a:pt x="4000" y="1056"/>
                  </a:lnTo>
                  <a:lnTo>
                    <a:pt x="3956" y="1072"/>
                  </a:lnTo>
                  <a:lnTo>
                    <a:pt x="3928" y="1079"/>
                  </a:lnTo>
                  <a:lnTo>
                    <a:pt x="3901" y="1088"/>
                  </a:lnTo>
                  <a:lnTo>
                    <a:pt x="3874" y="1096"/>
                  </a:lnTo>
                  <a:lnTo>
                    <a:pt x="3847" y="1103"/>
                  </a:lnTo>
                  <a:lnTo>
                    <a:pt x="3821" y="1111"/>
                  </a:lnTo>
                  <a:lnTo>
                    <a:pt x="3794" y="1118"/>
                  </a:lnTo>
                  <a:lnTo>
                    <a:pt x="3768" y="1125"/>
                  </a:lnTo>
                  <a:lnTo>
                    <a:pt x="3741" y="1131"/>
                  </a:lnTo>
                  <a:lnTo>
                    <a:pt x="3715" y="1138"/>
                  </a:lnTo>
                  <a:lnTo>
                    <a:pt x="3688" y="1144"/>
                  </a:lnTo>
                  <a:lnTo>
                    <a:pt x="3662" y="1149"/>
                  </a:lnTo>
                  <a:lnTo>
                    <a:pt x="3635" y="1154"/>
                  </a:lnTo>
                  <a:lnTo>
                    <a:pt x="3609" y="1157"/>
                  </a:lnTo>
                  <a:lnTo>
                    <a:pt x="3582" y="1162"/>
                  </a:lnTo>
                  <a:lnTo>
                    <a:pt x="3555" y="1164"/>
                  </a:lnTo>
                  <a:lnTo>
                    <a:pt x="3528" y="1166"/>
                  </a:lnTo>
                  <a:lnTo>
                    <a:pt x="3500" y="1173"/>
                  </a:lnTo>
                  <a:lnTo>
                    <a:pt x="3375" y="1276"/>
                  </a:lnTo>
                  <a:lnTo>
                    <a:pt x="3330" y="1276"/>
                  </a:lnTo>
                  <a:lnTo>
                    <a:pt x="3310" y="1294"/>
                  </a:lnTo>
                  <a:lnTo>
                    <a:pt x="3256" y="1301"/>
                  </a:lnTo>
                  <a:lnTo>
                    <a:pt x="3211" y="1327"/>
                  </a:lnTo>
                  <a:lnTo>
                    <a:pt x="3146" y="1319"/>
                  </a:lnTo>
                  <a:lnTo>
                    <a:pt x="3120" y="1362"/>
                  </a:lnTo>
                  <a:lnTo>
                    <a:pt x="3084" y="1362"/>
                  </a:lnTo>
                  <a:lnTo>
                    <a:pt x="3066" y="1388"/>
                  </a:lnTo>
                  <a:lnTo>
                    <a:pt x="2993" y="1388"/>
                  </a:lnTo>
                  <a:lnTo>
                    <a:pt x="3047" y="1327"/>
                  </a:lnTo>
                  <a:lnTo>
                    <a:pt x="3102" y="1311"/>
                  </a:lnTo>
                  <a:lnTo>
                    <a:pt x="3220" y="1225"/>
                  </a:lnTo>
                  <a:lnTo>
                    <a:pt x="3356" y="1157"/>
                  </a:lnTo>
                  <a:lnTo>
                    <a:pt x="3401" y="1123"/>
                  </a:lnTo>
                  <a:lnTo>
                    <a:pt x="3474" y="1072"/>
                  </a:lnTo>
                  <a:lnTo>
                    <a:pt x="3656" y="911"/>
                  </a:lnTo>
                  <a:lnTo>
                    <a:pt x="3703" y="858"/>
                  </a:lnTo>
                  <a:lnTo>
                    <a:pt x="3749" y="806"/>
                  </a:lnTo>
                  <a:lnTo>
                    <a:pt x="3793" y="753"/>
                  </a:lnTo>
                  <a:lnTo>
                    <a:pt x="3836" y="700"/>
                  </a:lnTo>
                  <a:lnTo>
                    <a:pt x="3878" y="647"/>
                  </a:lnTo>
                  <a:lnTo>
                    <a:pt x="3919" y="594"/>
                  </a:lnTo>
                  <a:lnTo>
                    <a:pt x="3958" y="541"/>
                  </a:lnTo>
                  <a:lnTo>
                    <a:pt x="3995" y="488"/>
                  </a:lnTo>
                  <a:lnTo>
                    <a:pt x="4032" y="435"/>
                  </a:lnTo>
                  <a:lnTo>
                    <a:pt x="4066" y="382"/>
                  </a:lnTo>
                  <a:lnTo>
                    <a:pt x="4100" y="329"/>
                  </a:lnTo>
                  <a:lnTo>
                    <a:pt x="4131" y="274"/>
                  </a:lnTo>
                  <a:lnTo>
                    <a:pt x="4162" y="221"/>
                  </a:lnTo>
                  <a:lnTo>
                    <a:pt x="4191" y="167"/>
                  </a:lnTo>
                  <a:lnTo>
                    <a:pt x="4218" y="114"/>
                  </a:lnTo>
                  <a:lnTo>
                    <a:pt x="4245" y="60"/>
                  </a:lnTo>
                  <a:lnTo>
                    <a:pt x="4273" y="0"/>
                  </a:lnTo>
                  <a:lnTo>
                    <a:pt x="4229" y="1"/>
                  </a:lnTo>
                  <a:lnTo>
                    <a:pt x="4184" y="4"/>
                  </a:lnTo>
                  <a:lnTo>
                    <a:pt x="4140" y="9"/>
                  </a:lnTo>
                  <a:lnTo>
                    <a:pt x="4096" y="18"/>
                  </a:lnTo>
                  <a:lnTo>
                    <a:pt x="4051" y="27"/>
                  </a:lnTo>
                  <a:lnTo>
                    <a:pt x="4007" y="39"/>
                  </a:lnTo>
                  <a:lnTo>
                    <a:pt x="3962" y="52"/>
                  </a:lnTo>
                  <a:lnTo>
                    <a:pt x="3919" y="66"/>
                  </a:lnTo>
                  <a:lnTo>
                    <a:pt x="3875" y="82"/>
                  </a:lnTo>
                  <a:lnTo>
                    <a:pt x="3830" y="98"/>
                  </a:lnTo>
                  <a:lnTo>
                    <a:pt x="3786" y="117"/>
                  </a:lnTo>
                  <a:lnTo>
                    <a:pt x="3741" y="136"/>
                  </a:lnTo>
                  <a:lnTo>
                    <a:pt x="3697" y="156"/>
                  </a:lnTo>
                  <a:lnTo>
                    <a:pt x="3653" y="176"/>
                  </a:lnTo>
                  <a:lnTo>
                    <a:pt x="3609" y="198"/>
                  </a:lnTo>
                  <a:lnTo>
                    <a:pt x="3565" y="219"/>
                  </a:lnTo>
                  <a:lnTo>
                    <a:pt x="3528" y="229"/>
                  </a:lnTo>
                  <a:lnTo>
                    <a:pt x="3500" y="264"/>
                  </a:lnTo>
                  <a:lnTo>
                    <a:pt x="3493" y="297"/>
                  </a:lnTo>
                  <a:lnTo>
                    <a:pt x="3484" y="332"/>
                  </a:lnTo>
                  <a:lnTo>
                    <a:pt x="3474" y="365"/>
                  </a:lnTo>
                  <a:lnTo>
                    <a:pt x="3462" y="400"/>
                  </a:lnTo>
                  <a:lnTo>
                    <a:pt x="3448" y="435"/>
                  </a:lnTo>
                  <a:lnTo>
                    <a:pt x="3433" y="469"/>
                  </a:lnTo>
                  <a:lnTo>
                    <a:pt x="3416" y="504"/>
                  </a:lnTo>
                  <a:lnTo>
                    <a:pt x="3398" y="538"/>
                  </a:lnTo>
                  <a:lnTo>
                    <a:pt x="3378" y="572"/>
                  </a:lnTo>
                  <a:lnTo>
                    <a:pt x="3356" y="607"/>
                  </a:lnTo>
                  <a:lnTo>
                    <a:pt x="3333" y="640"/>
                  </a:lnTo>
                  <a:lnTo>
                    <a:pt x="3309" y="673"/>
                  </a:lnTo>
                  <a:lnTo>
                    <a:pt x="3282" y="706"/>
                  </a:lnTo>
                  <a:lnTo>
                    <a:pt x="3255" y="737"/>
                  </a:lnTo>
                  <a:lnTo>
                    <a:pt x="3225" y="770"/>
                  </a:lnTo>
                  <a:lnTo>
                    <a:pt x="3194" y="800"/>
                  </a:lnTo>
                  <a:lnTo>
                    <a:pt x="3157" y="816"/>
                  </a:lnTo>
                  <a:lnTo>
                    <a:pt x="2919" y="1064"/>
                  </a:lnTo>
                  <a:lnTo>
                    <a:pt x="2865" y="1098"/>
                  </a:lnTo>
                  <a:lnTo>
                    <a:pt x="2837" y="1106"/>
                  </a:lnTo>
                  <a:lnTo>
                    <a:pt x="2803" y="1149"/>
                  </a:lnTo>
                  <a:lnTo>
                    <a:pt x="2785" y="1167"/>
                  </a:lnTo>
                  <a:lnTo>
                    <a:pt x="2768" y="1185"/>
                  </a:lnTo>
                  <a:lnTo>
                    <a:pt x="2750" y="1203"/>
                  </a:lnTo>
                  <a:lnTo>
                    <a:pt x="2731" y="1219"/>
                  </a:lnTo>
                  <a:lnTo>
                    <a:pt x="2713" y="1235"/>
                  </a:lnTo>
                  <a:lnTo>
                    <a:pt x="2693" y="1250"/>
                  </a:lnTo>
                  <a:lnTo>
                    <a:pt x="2675" y="1263"/>
                  </a:lnTo>
                  <a:lnTo>
                    <a:pt x="2655" y="1276"/>
                  </a:lnTo>
                  <a:lnTo>
                    <a:pt x="2636" y="1287"/>
                  </a:lnTo>
                  <a:lnTo>
                    <a:pt x="2615" y="1298"/>
                  </a:lnTo>
                  <a:lnTo>
                    <a:pt x="2595" y="1306"/>
                  </a:lnTo>
                  <a:lnTo>
                    <a:pt x="2574" y="1313"/>
                  </a:lnTo>
                  <a:lnTo>
                    <a:pt x="2555" y="1319"/>
                  </a:lnTo>
                  <a:lnTo>
                    <a:pt x="2534" y="1324"/>
                  </a:lnTo>
                  <a:lnTo>
                    <a:pt x="2514" y="1326"/>
                  </a:lnTo>
                  <a:lnTo>
                    <a:pt x="2494" y="1327"/>
                  </a:lnTo>
                  <a:lnTo>
                    <a:pt x="2457" y="1336"/>
                  </a:lnTo>
                  <a:lnTo>
                    <a:pt x="2375" y="1498"/>
                  </a:lnTo>
                  <a:lnTo>
                    <a:pt x="2330" y="1566"/>
                  </a:lnTo>
                  <a:lnTo>
                    <a:pt x="2267" y="1559"/>
                  </a:lnTo>
                  <a:lnTo>
                    <a:pt x="2259" y="1524"/>
                  </a:lnTo>
                  <a:lnTo>
                    <a:pt x="2177" y="1413"/>
                  </a:lnTo>
                  <a:lnTo>
                    <a:pt x="1984" y="1413"/>
                  </a:lnTo>
                  <a:lnTo>
                    <a:pt x="1876" y="1438"/>
                  </a:lnTo>
                  <a:lnTo>
                    <a:pt x="1831" y="1456"/>
                  </a:lnTo>
                  <a:lnTo>
                    <a:pt x="1695" y="1533"/>
                  </a:lnTo>
                  <a:lnTo>
                    <a:pt x="1548" y="1652"/>
                  </a:lnTo>
                  <a:lnTo>
                    <a:pt x="1522" y="1652"/>
                  </a:lnTo>
                  <a:lnTo>
                    <a:pt x="1514" y="1694"/>
                  </a:lnTo>
                  <a:lnTo>
                    <a:pt x="1486" y="1745"/>
                  </a:lnTo>
                  <a:lnTo>
                    <a:pt x="1460" y="1753"/>
                  </a:lnTo>
                  <a:lnTo>
                    <a:pt x="1313" y="2051"/>
                  </a:lnTo>
                  <a:lnTo>
                    <a:pt x="1304" y="2111"/>
                  </a:lnTo>
                  <a:lnTo>
                    <a:pt x="1195" y="2334"/>
                  </a:lnTo>
                  <a:lnTo>
                    <a:pt x="1123" y="2436"/>
                  </a:lnTo>
                  <a:lnTo>
                    <a:pt x="841" y="2835"/>
                  </a:lnTo>
                  <a:lnTo>
                    <a:pt x="732" y="2964"/>
                  </a:lnTo>
                  <a:lnTo>
                    <a:pt x="678" y="3031"/>
                  </a:lnTo>
                  <a:lnTo>
                    <a:pt x="559" y="3135"/>
                  </a:lnTo>
                  <a:lnTo>
                    <a:pt x="524" y="3142"/>
                  </a:lnTo>
                  <a:lnTo>
                    <a:pt x="287" y="3406"/>
                  </a:lnTo>
                  <a:lnTo>
                    <a:pt x="178" y="3441"/>
                  </a:lnTo>
                  <a:lnTo>
                    <a:pt x="114" y="3499"/>
                  </a:lnTo>
                  <a:lnTo>
                    <a:pt x="79" y="3499"/>
                  </a:lnTo>
                  <a:lnTo>
                    <a:pt x="0" y="35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303800" y="2641320"/>
              <a:ext cx="327960" cy="579240"/>
            </a:xfrm>
            <a:custGeom>
              <a:avLst/>
              <a:gdLst/>
              <a:ahLst/>
              <a:rect l="l" t="t" r="r" b="b"/>
              <a:pathLst>
                <a:path w="1244" h="1822">
                  <a:moveTo>
                    <a:pt x="0" y="1633"/>
                  </a:moveTo>
                  <a:lnTo>
                    <a:pt x="46" y="1607"/>
                  </a:lnTo>
                  <a:lnTo>
                    <a:pt x="82" y="1583"/>
                  </a:lnTo>
                  <a:lnTo>
                    <a:pt x="104" y="1512"/>
                  </a:lnTo>
                  <a:lnTo>
                    <a:pt x="129" y="1442"/>
                  </a:lnTo>
                  <a:lnTo>
                    <a:pt x="157" y="1372"/>
                  </a:lnTo>
                  <a:lnTo>
                    <a:pt x="188" y="1300"/>
                  </a:lnTo>
                  <a:lnTo>
                    <a:pt x="221" y="1230"/>
                  </a:lnTo>
                  <a:lnTo>
                    <a:pt x="257" y="1159"/>
                  </a:lnTo>
                  <a:lnTo>
                    <a:pt x="296" y="1088"/>
                  </a:lnTo>
                  <a:lnTo>
                    <a:pt x="337" y="1017"/>
                  </a:lnTo>
                  <a:lnTo>
                    <a:pt x="380" y="945"/>
                  </a:lnTo>
                  <a:lnTo>
                    <a:pt x="425" y="875"/>
                  </a:lnTo>
                  <a:lnTo>
                    <a:pt x="474" y="804"/>
                  </a:lnTo>
                  <a:lnTo>
                    <a:pt x="522" y="733"/>
                  </a:lnTo>
                  <a:lnTo>
                    <a:pt x="574" y="662"/>
                  </a:lnTo>
                  <a:lnTo>
                    <a:pt x="627" y="592"/>
                  </a:lnTo>
                  <a:lnTo>
                    <a:pt x="681" y="521"/>
                  </a:lnTo>
                  <a:lnTo>
                    <a:pt x="737" y="451"/>
                  </a:lnTo>
                  <a:lnTo>
                    <a:pt x="918" y="239"/>
                  </a:lnTo>
                  <a:lnTo>
                    <a:pt x="1043" y="102"/>
                  </a:lnTo>
                  <a:lnTo>
                    <a:pt x="1190" y="0"/>
                  </a:lnTo>
                  <a:lnTo>
                    <a:pt x="1244" y="0"/>
                  </a:lnTo>
                  <a:lnTo>
                    <a:pt x="1231" y="81"/>
                  </a:lnTo>
                  <a:lnTo>
                    <a:pt x="1220" y="162"/>
                  </a:lnTo>
                  <a:lnTo>
                    <a:pt x="1207" y="243"/>
                  </a:lnTo>
                  <a:lnTo>
                    <a:pt x="1194" y="324"/>
                  </a:lnTo>
                  <a:lnTo>
                    <a:pt x="1180" y="406"/>
                  </a:lnTo>
                  <a:lnTo>
                    <a:pt x="1163" y="487"/>
                  </a:lnTo>
                  <a:lnTo>
                    <a:pt x="1144" y="567"/>
                  </a:lnTo>
                  <a:lnTo>
                    <a:pt x="1119" y="647"/>
                  </a:lnTo>
                  <a:lnTo>
                    <a:pt x="1089" y="727"/>
                  </a:lnTo>
                  <a:lnTo>
                    <a:pt x="1054" y="807"/>
                  </a:lnTo>
                  <a:lnTo>
                    <a:pt x="1012" y="886"/>
                  </a:lnTo>
                  <a:lnTo>
                    <a:pt x="963" y="965"/>
                  </a:lnTo>
                  <a:lnTo>
                    <a:pt x="905" y="1044"/>
                  </a:lnTo>
                  <a:lnTo>
                    <a:pt x="837" y="1122"/>
                  </a:lnTo>
                  <a:lnTo>
                    <a:pt x="760" y="1199"/>
                  </a:lnTo>
                  <a:lnTo>
                    <a:pt x="672" y="1275"/>
                  </a:lnTo>
                  <a:lnTo>
                    <a:pt x="581" y="1378"/>
                  </a:lnTo>
                  <a:lnTo>
                    <a:pt x="218" y="1735"/>
                  </a:lnTo>
                  <a:lnTo>
                    <a:pt x="233" y="1687"/>
                  </a:lnTo>
                  <a:lnTo>
                    <a:pt x="250" y="1640"/>
                  </a:lnTo>
                  <a:lnTo>
                    <a:pt x="270" y="1592"/>
                  </a:lnTo>
                  <a:lnTo>
                    <a:pt x="292" y="1545"/>
                  </a:lnTo>
                  <a:lnTo>
                    <a:pt x="316" y="1498"/>
                  </a:lnTo>
                  <a:lnTo>
                    <a:pt x="341" y="1451"/>
                  </a:lnTo>
                  <a:lnTo>
                    <a:pt x="369" y="1404"/>
                  </a:lnTo>
                  <a:lnTo>
                    <a:pt x="398" y="1356"/>
                  </a:lnTo>
                  <a:lnTo>
                    <a:pt x="429" y="1310"/>
                  </a:lnTo>
                  <a:lnTo>
                    <a:pt x="460" y="1262"/>
                  </a:lnTo>
                  <a:lnTo>
                    <a:pt x="493" y="1216"/>
                  </a:lnTo>
                  <a:lnTo>
                    <a:pt x="527" y="1168"/>
                  </a:lnTo>
                  <a:lnTo>
                    <a:pt x="563" y="1121"/>
                  </a:lnTo>
                  <a:lnTo>
                    <a:pt x="598" y="1073"/>
                  </a:lnTo>
                  <a:lnTo>
                    <a:pt x="635" y="1025"/>
                  </a:lnTo>
                  <a:lnTo>
                    <a:pt x="672" y="978"/>
                  </a:lnTo>
                  <a:lnTo>
                    <a:pt x="709" y="943"/>
                  </a:lnTo>
                  <a:lnTo>
                    <a:pt x="808" y="799"/>
                  </a:lnTo>
                  <a:lnTo>
                    <a:pt x="808" y="765"/>
                  </a:lnTo>
                  <a:lnTo>
                    <a:pt x="776" y="798"/>
                  </a:lnTo>
                  <a:lnTo>
                    <a:pt x="744" y="832"/>
                  </a:lnTo>
                  <a:lnTo>
                    <a:pt x="710" y="866"/>
                  </a:lnTo>
                  <a:lnTo>
                    <a:pt x="678" y="900"/>
                  </a:lnTo>
                  <a:lnTo>
                    <a:pt x="646" y="935"/>
                  </a:lnTo>
                  <a:lnTo>
                    <a:pt x="613" y="968"/>
                  </a:lnTo>
                  <a:lnTo>
                    <a:pt x="582" y="1003"/>
                  </a:lnTo>
                  <a:lnTo>
                    <a:pt x="550" y="1037"/>
                  </a:lnTo>
                  <a:lnTo>
                    <a:pt x="520" y="1072"/>
                  </a:lnTo>
                  <a:lnTo>
                    <a:pt x="489" y="1107"/>
                  </a:lnTo>
                  <a:lnTo>
                    <a:pt x="460" y="1140"/>
                  </a:lnTo>
                  <a:lnTo>
                    <a:pt x="431" y="1175"/>
                  </a:lnTo>
                  <a:lnTo>
                    <a:pt x="403" y="1208"/>
                  </a:lnTo>
                  <a:lnTo>
                    <a:pt x="377" y="1243"/>
                  </a:lnTo>
                  <a:lnTo>
                    <a:pt x="350" y="1276"/>
                  </a:lnTo>
                  <a:lnTo>
                    <a:pt x="326" y="1310"/>
                  </a:lnTo>
                  <a:lnTo>
                    <a:pt x="303" y="1343"/>
                  </a:lnTo>
                  <a:lnTo>
                    <a:pt x="282" y="1377"/>
                  </a:lnTo>
                  <a:lnTo>
                    <a:pt x="262" y="1409"/>
                  </a:lnTo>
                  <a:lnTo>
                    <a:pt x="242" y="1442"/>
                  </a:lnTo>
                  <a:lnTo>
                    <a:pt x="225" y="1474"/>
                  </a:lnTo>
                  <a:lnTo>
                    <a:pt x="207" y="1506"/>
                  </a:lnTo>
                  <a:lnTo>
                    <a:pt x="191" y="1538"/>
                  </a:lnTo>
                  <a:lnTo>
                    <a:pt x="176" y="1570"/>
                  </a:lnTo>
                  <a:lnTo>
                    <a:pt x="161" y="1601"/>
                  </a:lnTo>
                  <a:lnTo>
                    <a:pt x="148" y="1632"/>
                  </a:lnTo>
                  <a:lnTo>
                    <a:pt x="135" y="1664"/>
                  </a:lnTo>
                  <a:lnTo>
                    <a:pt x="122" y="1695"/>
                  </a:lnTo>
                  <a:lnTo>
                    <a:pt x="109" y="1726"/>
                  </a:lnTo>
                  <a:lnTo>
                    <a:pt x="97" y="1758"/>
                  </a:lnTo>
                  <a:lnTo>
                    <a:pt x="85" y="1790"/>
                  </a:lnTo>
                  <a:lnTo>
                    <a:pt x="74" y="1822"/>
                  </a:lnTo>
                  <a:lnTo>
                    <a:pt x="9" y="1779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495680" y="3222360"/>
              <a:ext cx="7560" cy="1404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0"/>
                  </a:moveTo>
                  <a:lnTo>
                    <a:pt x="28" y="0"/>
                  </a:lnTo>
                  <a:lnTo>
                    <a:pt x="2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505400" y="3209760"/>
              <a:ext cx="163080" cy="64800"/>
            </a:xfrm>
            <a:custGeom>
              <a:avLst/>
              <a:gdLst/>
              <a:ahLst/>
              <a:rect l="l" t="t" r="r" b="b"/>
              <a:pathLst>
                <a:path w="617" h="206">
                  <a:moveTo>
                    <a:pt x="8" y="180"/>
                  </a:moveTo>
                  <a:lnTo>
                    <a:pt x="28" y="145"/>
                  </a:lnTo>
                  <a:lnTo>
                    <a:pt x="90" y="120"/>
                  </a:lnTo>
                  <a:lnTo>
                    <a:pt x="590" y="0"/>
                  </a:lnTo>
                  <a:lnTo>
                    <a:pt x="617" y="17"/>
                  </a:lnTo>
                  <a:lnTo>
                    <a:pt x="481" y="94"/>
                  </a:lnTo>
                  <a:lnTo>
                    <a:pt x="218" y="171"/>
                  </a:lnTo>
                  <a:lnTo>
                    <a:pt x="0" y="206"/>
                  </a:lnTo>
                  <a:lnTo>
                    <a:pt x="8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710240" y="2982960"/>
              <a:ext cx="153360" cy="115200"/>
            </a:xfrm>
            <a:custGeom>
              <a:avLst/>
              <a:gdLst/>
              <a:ahLst/>
              <a:rect l="l" t="t" r="r" b="b"/>
              <a:pathLst>
                <a:path w="582" h="366">
                  <a:moveTo>
                    <a:pt x="0" y="366"/>
                  </a:moveTo>
                  <a:lnTo>
                    <a:pt x="156" y="178"/>
                  </a:lnTo>
                  <a:lnTo>
                    <a:pt x="170" y="163"/>
                  </a:lnTo>
                  <a:lnTo>
                    <a:pt x="185" y="148"/>
                  </a:lnTo>
                  <a:lnTo>
                    <a:pt x="200" y="134"/>
                  </a:lnTo>
                  <a:lnTo>
                    <a:pt x="216" y="120"/>
                  </a:lnTo>
                  <a:lnTo>
                    <a:pt x="233" y="107"/>
                  </a:lnTo>
                  <a:lnTo>
                    <a:pt x="250" y="94"/>
                  </a:lnTo>
                  <a:lnTo>
                    <a:pt x="268" y="82"/>
                  </a:lnTo>
                  <a:lnTo>
                    <a:pt x="286" y="71"/>
                  </a:lnTo>
                  <a:lnTo>
                    <a:pt x="305" y="61"/>
                  </a:lnTo>
                  <a:lnTo>
                    <a:pt x="323" y="51"/>
                  </a:lnTo>
                  <a:lnTo>
                    <a:pt x="343" y="42"/>
                  </a:lnTo>
                  <a:lnTo>
                    <a:pt x="361" y="33"/>
                  </a:lnTo>
                  <a:lnTo>
                    <a:pt x="381" y="26"/>
                  </a:lnTo>
                  <a:lnTo>
                    <a:pt x="400" y="19"/>
                  </a:lnTo>
                  <a:lnTo>
                    <a:pt x="419" y="14"/>
                  </a:lnTo>
                  <a:lnTo>
                    <a:pt x="438" y="9"/>
                  </a:lnTo>
                  <a:lnTo>
                    <a:pt x="483" y="0"/>
                  </a:lnTo>
                  <a:lnTo>
                    <a:pt x="564" y="76"/>
                  </a:lnTo>
                  <a:lnTo>
                    <a:pt x="582" y="102"/>
                  </a:lnTo>
                  <a:lnTo>
                    <a:pt x="550" y="121"/>
                  </a:lnTo>
                  <a:lnTo>
                    <a:pt x="518" y="140"/>
                  </a:lnTo>
                  <a:lnTo>
                    <a:pt x="487" y="159"/>
                  </a:lnTo>
                  <a:lnTo>
                    <a:pt x="454" y="177"/>
                  </a:lnTo>
                  <a:lnTo>
                    <a:pt x="423" y="196"/>
                  </a:lnTo>
                  <a:lnTo>
                    <a:pt x="391" y="214"/>
                  </a:lnTo>
                  <a:lnTo>
                    <a:pt x="360" y="233"/>
                  </a:lnTo>
                  <a:lnTo>
                    <a:pt x="328" y="250"/>
                  </a:lnTo>
                  <a:lnTo>
                    <a:pt x="295" y="266"/>
                  </a:lnTo>
                  <a:lnTo>
                    <a:pt x="263" y="282"/>
                  </a:lnTo>
                  <a:lnTo>
                    <a:pt x="231" y="299"/>
                  </a:lnTo>
                  <a:lnTo>
                    <a:pt x="199" y="314"/>
                  </a:lnTo>
                  <a:lnTo>
                    <a:pt x="165" y="328"/>
                  </a:lnTo>
                  <a:lnTo>
                    <a:pt x="133" y="342"/>
                  </a:lnTo>
                  <a:lnTo>
                    <a:pt x="98" y="354"/>
                  </a:lnTo>
                  <a:lnTo>
                    <a:pt x="65" y="366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754520" y="3174840"/>
              <a:ext cx="29880" cy="280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0" y="33"/>
                  </a:moveTo>
                  <a:lnTo>
                    <a:pt x="11" y="7"/>
                  </a:lnTo>
                  <a:lnTo>
                    <a:pt x="37" y="0"/>
                  </a:lnTo>
                  <a:lnTo>
                    <a:pt x="110" y="26"/>
                  </a:lnTo>
                  <a:lnTo>
                    <a:pt x="110" y="58"/>
                  </a:lnTo>
                  <a:lnTo>
                    <a:pt x="82" y="93"/>
                  </a:lnTo>
                  <a:lnTo>
                    <a:pt x="28" y="9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863960" y="3252600"/>
              <a:ext cx="136440" cy="1346040"/>
            </a:xfrm>
            <a:custGeom>
              <a:avLst/>
              <a:gdLst/>
              <a:ahLst/>
              <a:rect l="l" t="t" r="r" b="b"/>
              <a:pathLst>
                <a:path w="519" h="4242">
                  <a:moveTo>
                    <a:pt x="10" y="4218"/>
                  </a:moveTo>
                  <a:lnTo>
                    <a:pt x="55" y="4090"/>
                  </a:lnTo>
                  <a:lnTo>
                    <a:pt x="83" y="3982"/>
                  </a:lnTo>
                  <a:lnTo>
                    <a:pt x="109" y="3875"/>
                  </a:lnTo>
                  <a:lnTo>
                    <a:pt x="131" y="3770"/>
                  </a:lnTo>
                  <a:lnTo>
                    <a:pt x="151" y="3664"/>
                  </a:lnTo>
                  <a:lnTo>
                    <a:pt x="171" y="3558"/>
                  </a:lnTo>
                  <a:lnTo>
                    <a:pt x="189" y="3452"/>
                  </a:lnTo>
                  <a:lnTo>
                    <a:pt x="208" y="3346"/>
                  </a:lnTo>
                  <a:lnTo>
                    <a:pt x="228" y="3238"/>
                  </a:lnTo>
                  <a:lnTo>
                    <a:pt x="254" y="3034"/>
                  </a:lnTo>
                  <a:lnTo>
                    <a:pt x="272" y="2760"/>
                  </a:lnTo>
                  <a:lnTo>
                    <a:pt x="291" y="2377"/>
                  </a:lnTo>
                  <a:lnTo>
                    <a:pt x="291" y="2300"/>
                  </a:lnTo>
                  <a:lnTo>
                    <a:pt x="272" y="1704"/>
                  </a:lnTo>
                  <a:lnTo>
                    <a:pt x="291" y="1407"/>
                  </a:lnTo>
                  <a:lnTo>
                    <a:pt x="291" y="827"/>
                  </a:lnTo>
                  <a:lnTo>
                    <a:pt x="245" y="213"/>
                  </a:lnTo>
                  <a:lnTo>
                    <a:pt x="245" y="70"/>
                  </a:lnTo>
                  <a:lnTo>
                    <a:pt x="254" y="19"/>
                  </a:lnTo>
                  <a:lnTo>
                    <a:pt x="327" y="0"/>
                  </a:lnTo>
                  <a:lnTo>
                    <a:pt x="381" y="9"/>
                  </a:lnTo>
                  <a:lnTo>
                    <a:pt x="418" y="171"/>
                  </a:lnTo>
                  <a:lnTo>
                    <a:pt x="500" y="673"/>
                  </a:lnTo>
                  <a:lnTo>
                    <a:pt x="500" y="724"/>
                  </a:lnTo>
                  <a:lnTo>
                    <a:pt x="492" y="793"/>
                  </a:lnTo>
                  <a:lnTo>
                    <a:pt x="519" y="1423"/>
                  </a:lnTo>
                  <a:lnTo>
                    <a:pt x="492" y="2352"/>
                  </a:lnTo>
                  <a:lnTo>
                    <a:pt x="327" y="3783"/>
                  </a:lnTo>
                  <a:lnTo>
                    <a:pt x="27" y="4227"/>
                  </a:lnTo>
                  <a:lnTo>
                    <a:pt x="32" y="4230"/>
                  </a:lnTo>
                  <a:lnTo>
                    <a:pt x="30" y="4233"/>
                  </a:lnTo>
                  <a:lnTo>
                    <a:pt x="25" y="4238"/>
                  </a:lnTo>
                  <a:lnTo>
                    <a:pt x="18" y="4240"/>
                  </a:lnTo>
                  <a:lnTo>
                    <a:pt x="11" y="4242"/>
                  </a:lnTo>
                  <a:lnTo>
                    <a:pt x="4" y="4242"/>
                  </a:lnTo>
                  <a:lnTo>
                    <a:pt x="0" y="4240"/>
                  </a:lnTo>
                  <a:lnTo>
                    <a:pt x="0" y="4234"/>
                  </a:lnTo>
                  <a:lnTo>
                    <a:pt x="10" y="4218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879800" y="3152520"/>
              <a:ext cx="71280" cy="85680"/>
            </a:xfrm>
            <a:custGeom>
              <a:avLst/>
              <a:gdLst/>
              <a:ahLst/>
              <a:rect l="l" t="t" r="r" b="b"/>
              <a:pathLst>
                <a:path w="272" h="274">
                  <a:moveTo>
                    <a:pt x="0" y="146"/>
                  </a:moveTo>
                  <a:lnTo>
                    <a:pt x="82" y="70"/>
                  </a:lnTo>
                  <a:lnTo>
                    <a:pt x="146" y="45"/>
                  </a:lnTo>
                  <a:lnTo>
                    <a:pt x="200" y="0"/>
                  </a:lnTo>
                  <a:lnTo>
                    <a:pt x="272" y="172"/>
                  </a:lnTo>
                  <a:lnTo>
                    <a:pt x="245" y="231"/>
                  </a:lnTo>
                  <a:lnTo>
                    <a:pt x="200" y="258"/>
                  </a:lnTo>
                  <a:lnTo>
                    <a:pt x="82" y="274"/>
                  </a:lnTo>
                  <a:lnTo>
                    <a:pt x="27" y="24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1760400"/>
            <a:ext cx="2286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RROWHD" descr=""/>
          <p:cNvPicPr/>
          <p:nvPr/>
        </p:nvPicPr>
        <p:blipFill>
          <a:blip r:embed="rId1"/>
          <a:stretch/>
        </p:blipFill>
        <p:spPr>
          <a:xfrm>
            <a:off x="3790800" y="3048120"/>
            <a:ext cx="15624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"/>
          <p:cNvSpPr/>
          <p:nvPr/>
        </p:nvSpPr>
        <p:spPr>
          <a:xfrm>
            <a:off x="3611520" y="266688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"/>
          <p:cNvSpPr/>
          <p:nvPr/>
        </p:nvSpPr>
        <p:spPr>
          <a:xfrm>
            <a:off x="3916080" y="26668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2" name=""/>
          <p:cNvGrpSpPr/>
          <p:nvPr/>
        </p:nvGrpSpPr>
        <p:grpSpPr>
          <a:xfrm>
            <a:off x="990720" y="2575080"/>
            <a:ext cx="1792080" cy="2469960"/>
            <a:chOff x="990720" y="2575080"/>
            <a:chExt cx="1792080" cy="2469960"/>
          </a:xfrm>
        </p:grpSpPr>
        <p:sp>
          <p:nvSpPr>
            <p:cNvPr id="3013" name=""/>
            <p:cNvSpPr/>
            <p:nvPr/>
          </p:nvSpPr>
          <p:spPr>
            <a:xfrm>
              <a:off x="990720" y="2575080"/>
              <a:ext cx="179208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985760" y="3233520"/>
              <a:ext cx="750600" cy="1788840"/>
            </a:xfrm>
            <a:custGeom>
              <a:avLst/>
              <a:gdLst/>
              <a:ahLst/>
              <a:rect l="l" t="t" r="r" b="b"/>
              <a:pathLst>
                <a:path w="2837" h="5635">
                  <a:moveTo>
                    <a:pt x="251" y="5635"/>
                  </a:moveTo>
                  <a:lnTo>
                    <a:pt x="368" y="5494"/>
                  </a:lnTo>
                  <a:lnTo>
                    <a:pt x="486" y="5352"/>
                  </a:lnTo>
                  <a:lnTo>
                    <a:pt x="601" y="5210"/>
                  </a:lnTo>
                  <a:lnTo>
                    <a:pt x="715" y="5066"/>
                  </a:lnTo>
                  <a:lnTo>
                    <a:pt x="827" y="4920"/>
                  </a:lnTo>
                  <a:lnTo>
                    <a:pt x="938" y="4773"/>
                  </a:lnTo>
                  <a:lnTo>
                    <a:pt x="1046" y="4624"/>
                  </a:lnTo>
                  <a:lnTo>
                    <a:pt x="1153" y="4474"/>
                  </a:lnTo>
                  <a:lnTo>
                    <a:pt x="1257" y="4323"/>
                  </a:lnTo>
                  <a:lnTo>
                    <a:pt x="1360" y="4169"/>
                  </a:lnTo>
                  <a:lnTo>
                    <a:pt x="1460" y="4012"/>
                  </a:lnTo>
                  <a:lnTo>
                    <a:pt x="1558" y="3854"/>
                  </a:lnTo>
                  <a:lnTo>
                    <a:pt x="1653" y="3693"/>
                  </a:lnTo>
                  <a:lnTo>
                    <a:pt x="1746" y="3530"/>
                  </a:lnTo>
                  <a:lnTo>
                    <a:pt x="1836" y="3364"/>
                  </a:lnTo>
                  <a:lnTo>
                    <a:pt x="1922" y="3195"/>
                  </a:lnTo>
                  <a:lnTo>
                    <a:pt x="2007" y="3023"/>
                  </a:lnTo>
                  <a:lnTo>
                    <a:pt x="2087" y="2848"/>
                  </a:lnTo>
                  <a:lnTo>
                    <a:pt x="2165" y="2670"/>
                  </a:lnTo>
                  <a:lnTo>
                    <a:pt x="2239" y="2489"/>
                  </a:lnTo>
                  <a:lnTo>
                    <a:pt x="2311" y="2304"/>
                  </a:lnTo>
                  <a:lnTo>
                    <a:pt x="2378" y="2115"/>
                  </a:lnTo>
                  <a:lnTo>
                    <a:pt x="2442" y="1923"/>
                  </a:lnTo>
                  <a:lnTo>
                    <a:pt x="2502" y="1726"/>
                  </a:lnTo>
                  <a:lnTo>
                    <a:pt x="2559" y="1526"/>
                  </a:lnTo>
                  <a:lnTo>
                    <a:pt x="2611" y="1322"/>
                  </a:lnTo>
                  <a:lnTo>
                    <a:pt x="2659" y="1113"/>
                  </a:lnTo>
                  <a:lnTo>
                    <a:pt x="2704" y="900"/>
                  </a:lnTo>
                  <a:lnTo>
                    <a:pt x="2743" y="682"/>
                  </a:lnTo>
                  <a:lnTo>
                    <a:pt x="2779" y="460"/>
                  </a:lnTo>
                  <a:lnTo>
                    <a:pt x="2810" y="232"/>
                  </a:lnTo>
                  <a:lnTo>
                    <a:pt x="2837" y="0"/>
                  </a:lnTo>
                  <a:lnTo>
                    <a:pt x="2762" y="198"/>
                  </a:lnTo>
                  <a:lnTo>
                    <a:pt x="2687" y="394"/>
                  </a:lnTo>
                  <a:lnTo>
                    <a:pt x="2611" y="588"/>
                  </a:lnTo>
                  <a:lnTo>
                    <a:pt x="2536" y="782"/>
                  </a:lnTo>
                  <a:lnTo>
                    <a:pt x="2461" y="973"/>
                  </a:lnTo>
                  <a:lnTo>
                    <a:pt x="2385" y="1164"/>
                  </a:lnTo>
                  <a:lnTo>
                    <a:pt x="2309" y="1352"/>
                  </a:lnTo>
                  <a:lnTo>
                    <a:pt x="2231" y="1539"/>
                  </a:lnTo>
                  <a:lnTo>
                    <a:pt x="2154" y="1724"/>
                  </a:lnTo>
                  <a:lnTo>
                    <a:pt x="2077" y="1907"/>
                  </a:lnTo>
                  <a:lnTo>
                    <a:pt x="1997" y="2089"/>
                  </a:lnTo>
                  <a:lnTo>
                    <a:pt x="1918" y="2268"/>
                  </a:lnTo>
                  <a:lnTo>
                    <a:pt x="1837" y="2447"/>
                  </a:lnTo>
                  <a:lnTo>
                    <a:pt x="1755" y="2622"/>
                  </a:lnTo>
                  <a:lnTo>
                    <a:pt x="1673" y="2796"/>
                  </a:lnTo>
                  <a:lnTo>
                    <a:pt x="1589" y="2967"/>
                  </a:lnTo>
                  <a:lnTo>
                    <a:pt x="1504" y="3137"/>
                  </a:lnTo>
                  <a:lnTo>
                    <a:pt x="1416" y="3305"/>
                  </a:lnTo>
                  <a:lnTo>
                    <a:pt x="1329" y="3470"/>
                  </a:lnTo>
                  <a:lnTo>
                    <a:pt x="1239" y="3634"/>
                  </a:lnTo>
                  <a:lnTo>
                    <a:pt x="1147" y="3794"/>
                  </a:lnTo>
                  <a:lnTo>
                    <a:pt x="1053" y="3953"/>
                  </a:lnTo>
                  <a:lnTo>
                    <a:pt x="958" y="4108"/>
                  </a:lnTo>
                  <a:lnTo>
                    <a:pt x="861" y="4262"/>
                  </a:lnTo>
                  <a:lnTo>
                    <a:pt x="762" y="4412"/>
                  </a:lnTo>
                  <a:lnTo>
                    <a:pt x="660" y="4562"/>
                  </a:lnTo>
                  <a:lnTo>
                    <a:pt x="556" y="4708"/>
                  </a:lnTo>
                  <a:lnTo>
                    <a:pt x="449" y="4850"/>
                  </a:lnTo>
                  <a:lnTo>
                    <a:pt x="341" y="4991"/>
                  </a:lnTo>
                  <a:lnTo>
                    <a:pt x="230" y="5130"/>
                  </a:lnTo>
                  <a:lnTo>
                    <a:pt x="116" y="5265"/>
                  </a:lnTo>
                  <a:lnTo>
                    <a:pt x="0" y="5397"/>
                  </a:lnTo>
                  <a:lnTo>
                    <a:pt x="251" y="5635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998280" y="2584440"/>
              <a:ext cx="1776240" cy="2450520"/>
            </a:xfrm>
            <a:custGeom>
              <a:avLst/>
              <a:gdLst/>
              <a:ahLst/>
              <a:rect l="l" t="t" r="r" b="b"/>
              <a:pathLst>
                <a:path w="6717" h="7717">
                  <a:moveTo>
                    <a:pt x="78" y="4300"/>
                  </a:moveTo>
                  <a:lnTo>
                    <a:pt x="40" y="4297"/>
                  </a:lnTo>
                  <a:lnTo>
                    <a:pt x="15" y="4278"/>
                  </a:lnTo>
                  <a:lnTo>
                    <a:pt x="2" y="4246"/>
                  </a:lnTo>
                  <a:lnTo>
                    <a:pt x="0" y="4207"/>
                  </a:lnTo>
                  <a:lnTo>
                    <a:pt x="8" y="4166"/>
                  </a:lnTo>
                  <a:lnTo>
                    <a:pt x="25" y="4127"/>
                  </a:lnTo>
                  <a:lnTo>
                    <a:pt x="52" y="4095"/>
                  </a:lnTo>
                  <a:lnTo>
                    <a:pt x="85" y="4074"/>
                  </a:lnTo>
                  <a:lnTo>
                    <a:pt x="141" y="3994"/>
                  </a:lnTo>
                  <a:lnTo>
                    <a:pt x="260" y="3883"/>
                  </a:lnTo>
                  <a:lnTo>
                    <a:pt x="324" y="3841"/>
                  </a:lnTo>
                  <a:lnTo>
                    <a:pt x="552" y="3662"/>
                  </a:lnTo>
                  <a:lnTo>
                    <a:pt x="614" y="3593"/>
                  </a:lnTo>
                  <a:lnTo>
                    <a:pt x="796" y="3407"/>
                  </a:lnTo>
                  <a:lnTo>
                    <a:pt x="848" y="3344"/>
                  </a:lnTo>
                  <a:lnTo>
                    <a:pt x="897" y="3281"/>
                  </a:lnTo>
                  <a:lnTo>
                    <a:pt x="945" y="3219"/>
                  </a:lnTo>
                  <a:lnTo>
                    <a:pt x="990" y="3156"/>
                  </a:lnTo>
                  <a:lnTo>
                    <a:pt x="1035" y="3093"/>
                  </a:lnTo>
                  <a:lnTo>
                    <a:pt x="1078" y="3029"/>
                  </a:lnTo>
                  <a:lnTo>
                    <a:pt x="1120" y="2967"/>
                  </a:lnTo>
                  <a:lnTo>
                    <a:pt x="1161" y="2903"/>
                  </a:lnTo>
                  <a:lnTo>
                    <a:pt x="1202" y="2839"/>
                  </a:lnTo>
                  <a:lnTo>
                    <a:pt x="1242" y="2775"/>
                  </a:lnTo>
                  <a:lnTo>
                    <a:pt x="1282" y="2711"/>
                  </a:lnTo>
                  <a:lnTo>
                    <a:pt x="1322" y="2648"/>
                  </a:lnTo>
                  <a:lnTo>
                    <a:pt x="1362" y="2584"/>
                  </a:lnTo>
                  <a:lnTo>
                    <a:pt x="1403" y="2520"/>
                  </a:lnTo>
                  <a:lnTo>
                    <a:pt x="1444" y="2456"/>
                  </a:lnTo>
                  <a:lnTo>
                    <a:pt x="1487" y="2392"/>
                  </a:lnTo>
                  <a:lnTo>
                    <a:pt x="1513" y="2384"/>
                  </a:lnTo>
                  <a:lnTo>
                    <a:pt x="1532" y="2333"/>
                  </a:lnTo>
                  <a:lnTo>
                    <a:pt x="1569" y="2307"/>
                  </a:lnTo>
                  <a:lnTo>
                    <a:pt x="1631" y="2214"/>
                  </a:lnTo>
                  <a:lnTo>
                    <a:pt x="1649" y="2153"/>
                  </a:lnTo>
                  <a:lnTo>
                    <a:pt x="1674" y="2129"/>
                  </a:lnTo>
                  <a:lnTo>
                    <a:pt x="1698" y="2108"/>
                  </a:lnTo>
                  <a:lnTo>
                    <a:pt x="1723" y="2086"/>
                  </a:lnTo>
                  <a:lnTo>
                    <a:pt x="1749" y="2066"/>
                  </a:lnTo>
                  <a:lnTo>
                    <a:pt x="1775" y="2047"/>
                  </a:lnTo>
                  <a:lnTo>
                    <a:pt x="1800" y="2029"/>
                  </a:lnTo>
                  <a:lnTo>
                    <a:pt x="1827" y="2013"/>
                  </a:lnTo>
                  <a:lnTo>
                    <a:pt x="1855" y="1996"/>
                  </a:lnTo>
                  <a:lnTo>
                    <a:pt x="1881" y="1982"/>
                  </a:lnTo>
                  <a:lnTo>
                    <a:pt x="1908" y="1970"/>
                  </a:lnTo>
                  <a:lnTo>
                    <a:pt x="1934" y="1958"/>
                  </a:lnTo>
                  <a:lnTo>
                    <a:pt x="1961" y="1949"/>
                  </a:lnTo>
                  <a:lnTo>
                    <a:pt x="1987" y="1940"/>
                  </a:lnTo>
                  <a:lnTo>
                    <a:pt x="2014" y="1934"/>
                  </a:lnTo>
                  <a:lnTo>
                    <a:pt x="2040" y="1928"/>
                  </a:lnTo>
                  <a:lnTo>
                    <a:pt x="2066" y="1924"/>
                  </a:lnTo>
                  <a:lnTo>
                    <a:pt x="2249" y="1924"/>
                  </a:lnTo>
                  <a:lnTo>
                    <a:pt x="2275" y="1728"/>
                  </a:lnTo>
                  <a:lnTo>
                    <a:pt x="2294" y="1677"/>
                  </a:lnTo>
                  <a:lnTo>
                    <a:pt x="2320" y="1677"/>
                  </a:lnTo>
                  <a:lnTo>
                    <a:pt x="2328" y="1640"/>
                  </a:lnTo>
                  <a:lnTo>
                    <a:pt x="2336" y="1604"/>
                  </a:lnTo>
                  <a:lnTo>
                    <a:pt x="2347" y="1567"/>
                  </a:lnTo>
                  <a:lnTo>
                    <a:pt x="2358" y="1530"/>
                  </a:lnTo>
                  <a:lnTo>
                    <a:pt x="2370" y="1493"/>
                  </a:lnTo>
                  <a:lnTo>
                    <a:pt x="2384" y="1456"/>
                  </a:lnTo>
                  <a:lnTo>
                    <a:pt x="2399" y="1420"/>
                  </a:lnTo>
                  <a:lnTo>
                    <a:pt x="2414" y="1384"/>
                  </a:lnTo>
                  <a:lnTo>
                    <a:pt x="2431" y="1347"/>
                  </a:lnTo>
                  <a:lnTo>
                    <a:pt x="2448" y="1312"/>
                  </a:lnTo>
                  <a:lnTo>
                    <a:pt x="2467" y="1275"/>
                  </a:lnTo>
                  <a:lnTo>
                    <a:pt x="2487" y="1239"/>
                  </a:lnTo>
                  <a:lnTo>
                    <a:pt x="2508" y="1203"/>
                  </a:lnTo>
                  <a:lnTo>
                    <a:pt x="2529" y="1168"/>
                  </a:lnTo>
                  <a:lnTo>
                    <a:pt x="2552" y="1133"/>
                  </a:lnTo>
                  <a:lnTo>
                    <a:pt x="2575" y="1097"/>
                  </a:lnTo>
                  <a:lnTo>
                    <a:pt x="2721" y="842"/>
                  </a:lnTo>
                  <a:lnTo>
                    <a:pt x="2753" y="799"/>
                  </a:lnTo>
                  <a:lnTo>
                    <a:pt x="2786" y="756"/>
                  </a:lnTo>
                  <a:lnTo>
                    <a:pt x="2821" y="711"/>
                  </a:lnTo>
                  <a:lnTo>
                    <a:pt x="2856" y="668"/>
                  </a:lnTo>
                  <a:lnTo>
                    <a:pt x="2894" y="624"/>
                  </a:lnTo>
                  <a:lnTo>
                    <a:pt x="2932" y="580"/>
                  </a:lnTo>
                  <a:lnTo>
                    <a:pt x="2973" y="536"/>
                  </a:lnTo>
                  <a:lnTo>
                    <a:pt x="3014" y="493"/>
                  </a:lnTo>
                  <a:lnTo>
                    <a:pt x="3057" y="449"/>
                  </a:lnTo>
                  <a:lnTo>
                    <a:pt x="3101" y="406"/>
                  </a:lnTo>
                  <a:lnTo>
                    <a:pt x="3146" y="364"/>
                  </a:lnTo>
                  <a:lnTo>
                    <a:pt x="3192" y="322"/>
                  </a:lnTo>
                  <a:lnTo>
                    <a:pt x="3239" y="281"/>
                  </a:lnTo>
                  <a:lnTo>
                    <a:pt x="3286" y="240"/>
                  </a:lnTo>
                  <a:lnTo>
                    <a:pt x="3335" y="199"/>
                  </a:lnTo>
                  <a:lnTo>
                    <a:pt x="3384" y="161"/>
                  </a:lnTo>
                  <a:lnTo>
                    <a:pt x="3528" y="84"/>
                  </a:lnTo>
                  <a:lnTo>
                    <a:pt x="3575" y="51"/>
                  </a:lnTo>
                  <a:lnTo>
                    <a:pt x="3629" y="33"/>
                  </a:lnTo>
                  <a:lnTo>
                    <a:pt x="3674" y="25"/>
                  </a:lnTo>
                  <a:lnTo>
                    <a:pt x="3737" y="0"/>
                  </a:lnTo>
                  <a:lnTo>
                    <a:pt x="3801" y="33"/>
                  </a:lnTo>
                  <a:lnTo>
                    <a:pt x="3810" y="76"/>
                  </a:lnTo>
                  <a:lnTo>
                    <a:pt x="3756" y="170"/>
                  </a:lnTo>
                  <a:lnTo>
                    <a:pt x="3742" y="237"/>
                  </a:lnTo>
                  <a:lnTo>
                    <a:pt x="3727" y="303"/>
                  </a:lnTo>
                  <a:lnTo>
                    <a:pt x="3713" y="368"/>
                  </a:lnTo>
                  <a:lnTo>
                    <a:pt x="3699" y="434"/>
                  </a:lnTo>
                  <a:lnTo>
                    <a:pt x="3685" y="500"/>
                  </a:lnTo>
                  <a:lnTo>
                    <a:pt x="3674" y="565"/>
                  </a:lnTo>
                  <a:lnTo>
                    <a:pt x="3664" y="631"/>
                  </a:lnTo>
                  <a:lnTo>
                    <a:pt x="3656" y="698"/>
                  </a:lnTo>
                  <a:lnTo>
                    <a:pt x="3881" y="604"/>
                  </a:lnTo>
                  <a:lnTo>
                    <a:pt x="3937" y="597"/>
                  </a:lnTo>
                  <a:lnTo>
                    <a:pt x="3975" y="586"/>
                  </a:lnTo>
                  <a:lnTo>
                    <a:pt x="4013" y="574"/>
                  </a:lnTo>
                  <a:lnTo>
                    <a:pt x="4051" y="563"/>
                  </a:lnTo>
                  <a:lnTo>
                    <a:pt x="4090" y="551"/>
                  </a:lnTo>
                  <a:lnTo>
                    <a:pt x="4128" y="540"/>
                  </a:lnTo>
                  <a:lnTo>
                    <a:pt x="4167" y="531"/>
                  </a:lnTo>
                  <a:lnTo>
                    <a:pt x="4206" y="520"/>
                  </a:lnTo>
                  <a:lnTo>
                    <a:pt x="4246" y="511"/>
                  </a:lnTo>
                  <a:lnTo>
                    <a:pt x="4285" y="502"/>
                  </a:lnTo>
                  <a:lnTo>
                    <a:pt x="4324" y="495"/>
                  </a:lnTo>
                  <a:lnTo>
                    <a:pt x="4364" y="488"/>
                  </a:lnTo>
                  <a:lnTo>
                    <a:pt x="4403" y="483"/>
                  </a:lnTo>
                  <a:lnTo>
                    <a:pt x="4444" y="480"/>
                  </a:lnTo>
                  <a:lnTo>
                    <a:pt x="4483" y="476"/>
                  </a:lnTo>
                  <a:lnTo>
                    <a:pt x="4523" y="475"/>
                  </a:lnTo>
                  <a:lnTo>
                    <a:pt x="4564" y="476"/>
                  </a:lnTo>
                  <a:lnTo>
                    <a:pt x="4626" y="511"/>
                  </a:lnTo>
                  <a:lnTo>
                    <a:pt x="4599" y="562"/>
                  </a:lnTo>
                  <a:lnTo>
                    <a:pt x="4554" y="630"/>
                  </a:lnTo>
                  <a:lnTo>
                    <a:pt x="4550" y="664"/>
                  </a:lnTo>
                  <a:lnTo>
                    <a:pt x="4542" y="696"/>
                  </a:lnTo>
                  <a:lnTo>
                    <a:pt x="4531" y="728"/>
                  </a:lnTo>
                  <a:lnTo>
                    <a:pt x="4519" y="761"/>
                  </a:lnTo>
                  <a:lnTo>
                    <a:pt x="4504" y="793"/>
                  </a:lnTo>
                  <a:lnTo>
                    <a:pt x="4488" y="826"/>
                  </a:lnTo>
                  <a:lnTo>
                    <a:pt x="4469" y="857"/>
                  </a:lnTo>
                  <a:lnTo>
                    <a:pt x="4451" y="889"/>
                  </a:lnTo>
                  <a:lnTo>
                    <a:pt x="4430" y="921"/>
                  </a:lnTo>
                  <a:lnTo>
                    <a:pt x="4409" y="952"/>
                  </a:lnTo>
                  <a:lnTo>
                    <a:pt x="4388" y="985"/>
                  </a:lnTo>
                  <a:lnTo>
                    <a:pt x="4368" y="1017"/>
                  </a:lnTo>
                  <a:lnTo>
                    <a:pt x="4348" y="1050"/>
                  </a:lnTo>
                  <a:lnTo>
                    <a:pt x="4329" y="1082"/>
                  </a:lnTo>
                  <a:lnTo>
                    <a:pt x="4309" y="1115"/>
                  </a:lnTo>
                  <a:lnTo>
                    <a:pt x="4292" y="1148"/>
                  </a:lnTo>
                  <a:lnTo>
                    <a:pt x="4455" y="1164"/>
                  </a:lnTo>
                  <a:lnTo>
                    <a:pt x="4564" y="1260"/>
                  </a:lnTo>
                  <a:lnTo>
                    <a:pt x="4572" y="1276"/>
                  </a:lnTo>
                  <a:lnTo>
                    <a:pt x="4591" y="1294"/>
                  </a:lnTo>
                  <a:lnTo>
                    <a:pt x="4626" y="1268"/>
                  </a:lnTo>
                  <a:lnTo>
                    <a:pt x="4681" y="1243"/>
                  </a:lnTo>
                  <a:lnTo>
                    <a:pt x="4854" y="1132"/>
                  </a:lnTo>
                  <a:lnTo>
                    <a:pt x="4881" y="1114"/>
                  </a:lnTo>
                  <a:lnTo>
                    <a:pt x="4900" y="1071"/>
                  </a:lnTo>
                  <a:lnTo>
                    <a:pt x="5044" y="1047"/>
                  </a:lnTo>
                  <a:lnTo>
                    <a:pt x="5099" y="1081"/>
                  </a:lnTo>
                  <a:lnTo>
                    <a:pt x="5080" y="1138"/>
                  </a:lnTo>
                  <a:lnTo>
                    <a:pt x="5065" y="1196"/>
                  </a:lnTo>
                  <a:lnTo>
                    <a:pt x="5051" y="1253"/>
                  </a:lnTo>
                  <a:lnTo>
                    <a:pt x="5036" y="1310"/>
                  </a:lnTo>
                  <a:lnTo>
                    <a:pt x="5019" y="1368"/>
                  </a:lnTo>
                  <a:lnTo>
                    <a:pt x="4996" y="1426"/>
                  </a:lnTo>
                  <a:lnTo>
                    <a:pt x="4966" y="1484"/>
                  </a:lnTo>
                  <a:lnTo>
                    <a:pt x="4927" y="1541"/>
                  </a:lnTo>
                  <a:lnTo>
                    <a:pt x="4817" y="1719"/>
                  </a:lnTo>
                  <a:lnTo>
                    <a:pt x="4863" y="1762"/>
                  </a:lnTo>
                  <a:lnTo>
                    <a:pt x="4918" y="1983"/>
                  </a:lnTo>
                  <a:lnTo>
                    <a:pt x="4972" y="2204"/>
                  </a:lnTo>
                  <a:lnTo>
                    <a:pt x="4982" y="2265"/>
                  </a:lnTo>
                  <a:lnTo>
                    <a:pt x="5006" y="2363"/>
                  </a:lnTo>
                  <a:lnTo>
                    <a:pt x="5029" y="2463"/>
                  </a:lnTo>
                  <a:lnTo>
                    <a:pt x="5051" y="2561"/>
                  </a:lnTo>
                  <a:lnTo>
                    <a:pt x="5070" y="2660"/>
                  </a:lnTo>
                  <a:lnTo>
                    <a:pt x="5085" y="2759"/>
                  </a:lnTo>
                  <a:lnTo>
                    <a:pt x="5094" y="2858"/>
                  </a:lnTo>
                  <a:lnTo>
                    <a:pt x="5096" y="2957"/>
                  </a:lnTo>
                  <a:lnTo>
                    <a:pt x="5091" y="3056"/>
                  </a:lnTo>
                  <a:lnTo>
                    <a:pt x="5118" y="3577"/>
                  </a:lnTo>
                  <a:lnTo>
                    <a:pt x="5071" y="4207"/>
                  </a:lnTo>
                  <a:lnTo>
                    <a:pt x="5071" y="4368"/>
                  </a:lnTo>
                  <a:lnTo>
                    <a:pt x="4999" y="5127"/>
                  </a:lnTo>
                  <a:lnTo>
                    <a:pt x="4999" y="5169"/>
                  </a:lnTo>
                  <a:lnTo>
                    <a:pt x="4935" y="5612"/>
                  </a:lnTo>
                  <a:lnTo>
                    <a:pt x="4968" y="5551"/>
                  </a:lnTo>
                  <a:lnTo>
                    <a:pt x="5003" y="5490"/>
                  </a:lnTo>
                  <a:lnTo>
                    <a:pt x="5036" y="5430"/>
                  </a:lnTo>
                  <a:lnTo>
                    <a:pt x="5069" y="5370"/>
                  </a:lnTo>
                  <a:lnTo>
                    <a:pt x="5102" y="5310"/>
                  </a:lnTo>
                  <a:lnTo>
                    <a:pt x="5134" y="5250"/>
                  </a:lnTo>
                  <a:lnTo>
                    <a:pt x="5167" y="5190"/>
                  </a:lnTo>
                  <a:lnTo>
                    <a:pt x="5198" y="5130"/>
                  </a:lnTo>
                  <a:lnTo>
                    <a:pt x="5230" y="5071"/>
                  </a:lnTo>
                  <a:lnTo>
                    <a:pt x="5261" y="5011"/>
                  </a:lnTo>
                  <a:lnTo>
                    <a:pt x="5292" y="4952"/>
                  </a:lnTo>
                  <a:lnTo>
                    <a:pt x="5323" y="4892"/>
                  </a:lnTo>
                  <a:lnTo>
                    <a:pt x="5353" y="4833"/>
                  </a:lnTo>
                  <a:lnTo>
                    <a:pt x="5383" y="4773"/>
                  </a:lnTo>
                  <a:lnTo>
                    <a:pt x="5413" y="4714"/>
                  </a:lnTo>
                  <a:lnTo>
                    <a:pt x="5443" y="4654"/>
                  </a:lnTo>
                  <a:lnTo>
                    <a:pt x="5473" y="4596"/>
                  </a:lnTo>
                  <a:lnTo>
                    <a:pt x="5502" y="4536"/>
                  </a:lnTo>
                  <a:lnTo>
                    <a:pt x="5531" y="4477"/>
                  </a:lnTo>
                  <a:lnTo>
                    <a:pt x="5560" y="4417"/>
                  </a:lnTo>
                  <a:lnTo>
                    <a:pt x="5589" y="4359"/>
                  </a:lnTo>
                  <a:lnTo>
                    <a:pt x="5616" y="4299"/>
                  </a:lnTo>
                  <a:lnTo>
                    <a:pt x="5645" y="4240"/>
                  </a:lnTo>
                  <a:lnTo>
                    <a:pt x="5673" y="4180"/>
                  </a:lnTo>
                  <a:lnTo>
                    <a:pt x="5700" y="4121"/>
                  </a:lnTo>
                  <a:lnTo>
                    <a:pt x="5728" y="4062"/>
                  </a:lnTo>
                  <a:lnTo>
                    <a:pt x="5756" y="4003"/>
                  </a:lnTo>
                  <a:lnTo>
                    <a:pt x="5782" y="3943"/>
                  </a:lnTo>
                  <a:lnTo>
                    <a:pt x="5810" y="3884"/>
                  </a:lnTo>
                  <a:lnTo>
                    <a:pt x="5836" y="3823"/>
                  </a:lnTo>
                  <a:lnTo>
                    <a:pt x="5863" y="3764"/>
                  </a:lnTo>
                  <a:lnTo>
                    <a:pt x="5889" y="3704"/>
                  </a:lnTo>
                  <a:lnTo>
                    <a:pt x="5934" y="3618"/>
                  </a:lnTo>
                  <a:lnTo>
                    <a:pt x="6325" y="2597"/>
                  </a:lnTo>
                  <a:lnTo>
                    <a:pt x="6339" y="2532"/>
                  </a:lnTo>
                  <a:lnTo>
                    <a:pt x="6354" y="2466"/>
                  </a:lnTo>
                  <a:lnTo>
                    <a:pt x="6369" y="2400"/>
                  </a:lnTo>
                  <a:lnTo>
                    <a:pt x="6384" y="2334"/>
                  </a:lnTo>
                  <a:lnTo>
                    <a:pt x="6399" y="2268"/>
                  </a:lnTo>
                  <a:lnTo>
                    <a:pt x="6414" y="2202"/>
                  </a:lnTo>
                  <a:lnTo>
                    <a:pt x="6429" y="2135"/>
                  </a:lnTo>
                  <a:lnTo>
                    <a:pt x="6444" y="2069"/>
                  </a:lnTo>
                  <a:lnTo>
                    <a:pt x="6458" y="2003"/>
                  </a:lnTo>
                  <a:lnTo>
                    <a:pt x="6470" y="1936"/>
                  </a:lnTo>
                  <a:lnTo>
                    <a:pt x="6482" y="1870"/>
                  </a:lnTo>
                  <a:lnTo>
                    <a:pt x="6492" y="1804"/>
                  </a:lnTo>
                  <a:lnTo>
                    <a:pt x="6500" y="1738"/>
                  </a:lnTo>
                  <a:lnTo>
                    <a:pt x="6507" y="1672"/>
                  </a:lnTo>
                  <a:lnTo>
                    <a:pt x="6513" y="1606"/>
                  </a:lnTo>
                  <a:lnTo>
                    <a:pt x="6515" y="1541"/>
                  </a:lnTo>
                  <a:lnTo>
                    <a:pt x="6560" y="1174"/>
                  </a:lnTo>
                  <a:lnTo>
                    <a:pt x="6625" y="842"/>
                  </a:lnTo>
                  <a:lnTo>
                    <a:pt x="6660" y="919"/>
                  </a:lnTo>
                  <a:lnTo>
                    <a:pt x="6651" y="970"/>
                  </a:lnTo>
                  <a:lnTo>
                    <a:pt x="6651" y="1174"/>
                  </a:lnTo>
                  <a:lnTo>
                    <a:pt x="6670" y="1225"/>
                  </a:lnTo>
                  <a:lnTo>
                    <a:pt x="6670" y="1268"/>
                  </a:lnTo>
                  <a:lnTo>
                    <a:pt x="6716" y="1582"/>
                  </a:lnTo>
                  <a:lnTo>
                    <a:pt x="6717" y="1755"/>
                  </a:lnTo>
                  <a:lnTo>
                    <a:pt x="6711" y="1927"/>
                  </a:lnTo>
                  <a:lnTo>
                    <a:pt x="6702" y="2099"/>
                  </a:lnTo>
                  <a:lnTo>
                    <a:pt x="6687" y="2271"/>
                  </a:lnTo>
                  <a:lnTo>
                    <a:pt x="6668" y="2443"/>
                  </a:lnTo>
                  <a:lnTo>
                    <a:pt x="6642" y="2615"/>
                  </a:lnTo>
                  <a:lnTo>
                    <a:pt x="6612" y="2787"/>
                  </a:lnTo>
                  <a:lnTo>
                    <a:pt x="6578" y="2959"/>
                  </a:lnTo>
                  <a:lnTo>
                    <a:pt x="6538" y="3131"/>
                  </a:lnTo>
                  <a:lnTo>
                    <a:pt x="6495" y="3302"/>
                  </a:lnTo>
                  <a:lnTo>
                    <a:pt x="6445" y="3474"/>
                  </a:lnTo>
                  <a:lnTo>
                    <a:pt x="6392" y="3646"/>
                  </a:lnTo>
                  <a:lnTo>
                    <a:pt x="6334" y="3818"/>
                  </a:lnTo>
                  <a:lnTo>
                    <a:pt x="6272" y="3990"/>
                  </a:lnTo>
                  <a:lnTo>
                    <a:pt x="6205" y="4163"/>
                  </a:lnTo>
                  <a:lnTo>
                    <a:pt x="6135" y="4335"/>
                  </a:lnTo>
                  <a:lnTo>
                    <a:pt x="6114" y="4404"/>
                  </a:lnTo>
                  <a:lnTo>
                    <a:pt x="6091" y="4472"/>
                  </a:lnTo>
                  <a:lnTo>
                    <a:pt x="6068" y="4541"/>
                  </a:lnTo>
                  <a:lnTo>
                    <a:pt x="6043" y="4610"/>
                  </a:lnTo>
                  <a:lnTo>
                    <a:pt x="6017" y="4678"/>
                  </a:lnTo>
                  <a:lnTo>
                    <a:pt x="5991" y="4746"/>
                  </a:lnTo>
                  <a:lnTo>
                    <a:pt x="5963" y="4814"/>
                  </a:lnTo>
                  <a:lnTo>
                    <a:pt x="5934" y="4882"/>
                  </a:lnTo>
                  <a:lnTo>
                    <a:pt x="5904" y="4951"/>
                  </a:lnTo>
                  <a:lnTo>
                    <a:pt x="5873" y="5019"/>
                  </a:lnTo>
                  <a:lnTo>
                    <a:pt x="5841" y="5087"/>
                  </a:lnTo>
                  <a:lnTo>
                    <a:pt x="5809" y="5155"/>
                  </a:lnTo>
                  <a:lnTo>
                    <a:pt x="5775" y="5222"/>
                  </a:lnTo>
                  <a:lnTo>
                    <a:pt x="5741" y="5290"/>
                  </a:lnTo>
                  <a:lnTo>
                    <a:pt x="5706" y="5357"/>
                  </a:lnTo>
                  <a:lnTo>
                    <a:pt x="5670" y="5424"/>
                  </a:lnTo>
                  <a:lnTo>
                    <a:pt x="5643" y="5475"/>
                  </a:lnTo>
                  <a:lnTo>
                    <a:pt x="5614" y="5526"/>
                  </a:lnTo>
                  <a:lnTo>
                    <a:pt x="5586" y="5577"/>
                  </a:lnTo>
                  <a:lnTo>
                    <a:pt x="5557" y="5628"/>
                  </a:lnTo>
                  <a:lnTo>
                    <a:pt x="5530" y="5679"/>
                  </a:lnTo>
                  <a:lnTo>
                    <a:pt x="5501" y="5728"/>
                  </a:lnTo>
                  <a:lnTo>
                    <a:pt x="5473" y="5779"/>
                  </a:lnTo>
                  <a:lnTo>
                    <a:pt x="5444" y="5829"/>
                  </a:lnTo>
                  <a:lnTo>
                    <a:pt x="5416" y="5879"/>
                  </a:lnTo>
                  <a:lnTo>
                    <a:pt x="5387" y="5930"/>
                  </a:lnTo>
                  <a:lnTo>
                    <a:pt x="5358" y="5979"/>
                  </a:lnTo>
                  <a:lnTo>
                    <a:pt x="5329" y="6029"/>
                  </a:lnTo>
                  <a:lnTo>
                    <a:pt x="5299" y="6079"/>
                  </a:lnTo>
                  <a:lnTo>
                    <a:pt x="5270" y="6129"/>
                  </a:lnTo>
                  <a:lnTo>
                    <a:pt x="5240" y="6178"/>
                  </a:lnTo>
                  <a:lnTo>
                    <a:pt x="5210" y="6227"/>
                  </a:lnTo>
                  <a:lnTo>
                    <a:pt x="5180" y="6277"/>
                  </a:lnTo>
                  <a:lnTo>
                    <a:pt x="5150" y="6327"/>
                  </a:lnTo>
                  <a:lnTo>
                    <a:pt x="5119" y="6376"/>
                  </a:lnTo>
                  <a:lnTo>
                    <a:pt x="5088" y="6425"/>
                  </a:lnTo>
                  <a:lnTo>
                    <a:pt x="5057" y="6475"/>
                  </a:lnTo>
                  <a:lnTo>
                    <a:pt x="5026" y="6525"/>
                  </a:lnTo>
                  <a:lnTo>
                    <a:pt x="4994" y="6573"/>
                  </a:lnTo>
                  <a:lnTo>
                    <a:pt x="4961" y="6623"/>
                  </a:lnTo>
                  <a:lnTo>
                    <a:pt x="4929" y="6672"/>
                  </a:lnTo>
                  <a:lnTo>
                    <a:pt x="4897" y="6721"/>
                  </a:lnTo>
                  <a:lnTo>
                    <a:pt x="4863" y="6771"/>
                  </a:lnTo>
                  <a:lnTo>
                    <a:pt x="4830" y="6820"/>
                  </a:lnTo>
                  <a:lnTo>
                    <a:pt x="4795" y="6870"/>
                  </a:lnTo>
                  <a:lnTo>
                    <a:pt x="4761" y="6919"/>
                  </a:lnTo>
                  <a:lnTo>
                    <a:pt x="4726" y="6968"/>
                  </a:lnTo>
                  <a:lnTo>
                    <a:pt x="4691" y="7018"/>
                  </a:lnTo>
                  <a:lnTo>
                    <a:pt x="4636" y="7112"/>
                  </a:lnTo>
                  <a:lnTo>
                    <a:pt x="4500" y="7274"/>
                  </a:lnTo>
                  <a:lnTo>
                    <a:pt x="4218" y="7554"/>
                  </a:lnTo>
                  <a:lnTo>
                    <a:pt x="4183" y="7572"/>
                  </a:lnTo>
                  <a:lnTo>
                    <a:pt x="4047" y="7699"/>
                  </a:lnTo>
                  <a:lnTo>
                    <a:pt x="3965" y="7717"/>
                  </a:lnTo>
                  <a:lnTo>
                    <a:pt x="3928" y="7692"/>
                  </a:lnTo>
                  <a:lnTo>
                    <a:pt x="3918" y="7673"/>
                  </a:lnTo>
                  <a:lnTo>
                    <a:pt x="4282" y="7290"/>
                  </a:lnTo>
                  <a:lnTo>
                    <a:pt x="4337" y="7232"/>
                  </a:lnTo>
                  <a:lnTo>
                    <a:pt x="4591" y="6890"/>
                  </a:lnTo>
                  <a:lnTo>
                    <a:pt x="4827" y="6575"/>
                  </a:lnTo>
                  <a:lnTo>
                    <a:pt x="4911" y="6446"/>
                  </a:lnTo>
                  <a:lnTo>
                    <a:pt x="4993" y="6317"/>
                  </a:lnTo>
                  <a:lnTo>
                    <a:pt x="5072" y="6188"/>
                  </a:lnTo>
                  <a:lnTo>
                    <a:pt x="5149" y="6060"/>
                  </a:lnTo>
                  <a:lnTo>
                    <a:pt x="5225" y="5933"/>
                  </a:lnTo>
                  <a:lnTo>
                    <a:pt x="5299" y="5805"/>
                  </a:lnTo>
                  <a:lnTo>
                    <a:pt x="5370" y="5678"/>
                  </a:lnTo>
                  <a:lnTo>
                    <a:pt x="5439" y="5550"/>
                  </a:lnTo>
                  <a:lnTo>
                    <a:pt x="5506" y="5423"/>
                  </a:lnTo>
                  <a:lnTo>
                    <a:pt x="5571" y="5297"/>
                  </a:lnTo>
                  <a:lnTo>
                    <a:pt x="5634" y="5170"/>
                  </a:lnTo>
                  <a:lnTo>
                    <a:pt x="5695" y="5044"/>
                  </a:lnTo>
                  <a:lnTo>
                    <a:pt x="5753" y="4917"/>
                  </a:lnTo>
                  <a:lnTo>
                    <a:pt x="5810" y="4790"/>
                  </a:lnTo>
                  <a:lnTo>
                    <a:pt x="5864" y="4664"/>
                  </a:lnTo>
                  <a:lnTo>
                    <a:pt x="5916" y="4537"/>
                  </a:lnTo>
                  <a:lnTo>
                    <a:pt x="5966" y="4411"/>
                  </a:lnTo>
                  <a:lnTo>
                    <a:pt x="6014" y="4285"/>
                  </a:lnTo>
                  <a:lnTo>
                    <a:pt x="6060" y="4159"/>
                  </a:lnTo>
                  <a:lnTo>
                    <a:pt x="6103" y="4032"/>
                  </a:lnTo>
                  <a:lnTo>
                    <a:pt x="6144" y="3905"/>
                  </a:lnTo>
                  <a:lnTo>
                    <a:pt x="6185" y="3778"/>
                  </a:lnTo>
                  <a:lnTo>
                    <a:pt x="6221" y="3651"/>
                  </a:lnTo>
                  <a:lnTo>
                    <a:pt x="6256" y="3524"/>
                  </a:lnTo>
                  <a:lnTo>
                    <a:pt x="6289" y="3396"/>
                  </a:lnTo>
                  <a:lnTo>
                    <a:pt x="6321" y="3268"/>
                  </a:lnTo>
                  <a:lnTo>
                    <a:pt x="6349" y="3141"/>
                  </a:lnTo>
                  <a:lnTo>
                    <a:pt x="6376" y="3012"/>
                  </a:lnTo>
                  <a:lnTo>
                    <a:pt x="6400" y="2883"/>
                  </a:lnTo>
                  <a:lnTo>
                    <a:pt x="6423" y="2755"/>
                  </a:lnTo>
                  <a:lnTo>
                    <a:pt x="6443" y="2625"/>
                  </a:lnTo>
                  <a:lnTo>
                    <a:pt x="6461" y="2495"/>
                  </a:lnTo>
                  <a:lnTo>
                    <a:pt x="6407" y="2580"/>
                  </a:lnTo>
                  <a:lnTo>
                    <a:pt x="6370" y="2690"/>
                  </a:lnTo>
                  <a:lnTo>
                    <a:pt x="6353" y="2836"/>
                  </a:lnTo>
                  <a:lnTo>
                    <a:pt x="6098" y="3500"/>
                  </a:lnTo>
                  <a:lnTo>
                    <a:pt x="5898" y="3985"/>
                  </a:lnTo>
                  <a:lnTo>
                    <a:pt x="5752" y="4240"/>
                  </a:lnTo>
                  <a:lnTo>
                    <a:pt x="5517" y="4769"/>
                  </a:lnTo>
                  <a:lnTo>
                    <a:pt x="5499" y="4803"/>
                  </a:lnTo>
                  <a:lnTo>
                    <a:pt x="5380" y="5024"/>
                  </a:lnTo>
                  <a:lnTo>
                    <a:pt x="5272" y="5246"/>
                  </a:lnTo>
                  <a:lnTo>
                    <a:pt x="4890" y="5936"/>
                  </a:lnTo>
                  <a:lnTo>
                    <a:pt x="4790" y="6097"/>
                  </a:lnTo>
                  <a:lnTo>
                    <a:pt x="4292" y="6856"/>
                  </a:lnTo>
                  <a:lnTo>
                    <a:pt x="4282" y="6847"/>
                  </a:lnTo>
                  <a:lnTo>
                    <a:pt x="4000" y="7214"/>
                  </a:lnTo>
                  <a:lnTo>
                    <a:pt x="3765" y="7478"/>
                  </a:lnTo>
                  <a:lnTo>
                    <a:pt x="3745" y="7495"/>
                  </a:lnTo>
                  <a:lnTo>
                    <a:pt x="3691" y="7469"/>
                  </a:lnTo>
                  <a:lnTo>
                    <a:pt x="3801" y="7299"/>
                  </a:lnTo>
                  <a:lnTo>
                    <a:pt x="3819" y="7283"/>
                  </a:lnTo>
                  <a:lnTo>
                    <a:pt x="3851" y="7244"/>
                  </a:lnTo>
                  <a:lnTo>
                    <a:pt x="3884" y="7205"/>
                  </a:lnTo>
                  <a:lnTo>
                    <a:pt x="3917" y="7167"/>
                  </a:lnTo>
                  <a:lnTo>
                    <a:pt x="3949" y="7128"/>
                  </a:lnTo>
                  <a:lnTo>
                    <a:pt x="3980" y="7089"/>
                  </a:lnTo>
                  <a:lnTo>
                    <a:pt x="4013" y="7049"/>
                  </a:lnTo>
                  <a:lnTo>
                    <a:pt x="4043" y="7010"/>
                  </a:lnTo>
                  <a:lnTo>
                    <a:pt x="4074" y="6971"/>
                  </a:lnTo>
                  <a:lnTo>
                    <a:pt x="4103" y="6932"/>
                  </a:lnTo>
                  <a:lnTo>
                    <a:pt x="4130" y="6893"/>
                  </a:lnTo>
                  <a:lnTo>
                    <a:pt x="4158" y="6854"/>
                  </a:lnTo>
                  <a:lnTo>
                    <a:pt x="4183" y="6816"/>
                  </a:lnTo>
                  <a:lnTo>
                    <a:pt x="4209" y="6777"/>
                  </a:lnTo>
                  <a:lnTo>
                    <a:pt x="4232" y="6738"/>
                  </a:lnTo>
                  <a:lnTo>
                    <a:pt x="4252" y="6700"/>
                  </a:lnTo>
                  <a:lnTo>
                    <a:pt x="4272" y="6661"/>
                  </a:lnTo>
                  <a:lnTo>
                    <a:pt x="4290" y="6535"/>
                  </a:lnTo>
                  <a:lnTo>
                    <a:pt x="4311" y="6409"/>
                  </a:lnTo>
                  <a:lnTo>
                    <a:pt x="4332" y="6284"/>
                  </a:lnTo>
                  <a:lnTo>
                    <a:pt x="4355" y="6159"/>
                  </a:lnTo>
                  <a:lnTo>
                    <a:pt x="4379" y="6034"/>
                  </a:lnTo>
                  <a:lnTo>
                    <a:pt x="4402" y="5909"/>
                  </a:lnTo>
                  <a:lnTo>
                    <a:pt x="4427" y="5785"/>
                  </a:lnTo>
                  <a:lnTo>
                    <a:pt x="4450" y="5660"/>
                  </a:lnTo>
                  <a:lnTo>
                    <a:pt x="4473" y="5537"/>
                  </a:lnTo>
                  <a:lnTo>
                    <a:pt x="4493" y="5412"/>
                  </a:lnTo>
                  <a:lnTo>
                    <a:pt x="4513" y="5288"/>
                  </a:lnTo>
                  <a:lnTo>
                    <a:pt x="4530" y="5165"/>
                  </a:lnTo>
                  <a:lnTo>
                    <a:pt x="4545" y="5040"/>
                  </a:lnTo>
                  <a:lnTo>
                    <a:pt x="4558" y="4916"/>
                  </a:lnTo>
                  <a:lnTo>
                    <a:pt x="4566" y="4792"/>
                  </a:lnTo>
                  <a:lnTo>
                    <a:pt x="4572" y="4667"/>
                  </a:lnTo>
                  <a:lnTo>
                    <a:pt x="4564" y="4582"/>
                  </a:lnTo>
                  <a:lnTo>
                    <a:pt x="4572" y="4489"/>
                  </a:lnTo>
                  <a:lnTo>
                    <a:pt x="4599" y="4444"/>
                  </a:lnTo>
                  <a:lnTo>
                    <a:pt x="4606" y="4246"/>
                  </a:lnTo>
                  <a:lnTo>
                    <a:pt x="4612" y="4048"/>
                  </a:lnTo>
                  <a:lnTo>
                    <a:pt x="4618" y="3850"/>
                  </a:lnTo>
                  <a:lnTo>
                    <a:pt x="4621" y="3652"/>
                  </a:lnTo>
                  <a:lnTo>
                    <a:pt x="4622" y="3455"/>
                  </a:lnTo>
                  <a:lnTo>
                    <a:pt x="4621" y="3257"/>
                  </a:lnTo>
                  <a:lnTo>
                    <a:pt x="4617" y="3059"/>
                  </a:lnTo>
                  <a:lnTo>
                    <a:pt x="4609" y="2861"/>
                  </a:lnTo>
                  <a:lnTo>
                    <a:pt x="4609" y="2785"/>
                  </a:lnTo>
                  <a:lnTo>
                    <a:pt x="4572" y="2366"/>
                  </a:lnTo>
                  <a:lnTo>
                    <a:pt x="4572" y="2325"/>
                  </a:lnTo>
                  <a:lnTo>
                    <a:pt x="4544" y="2153"/>
                  </a:lnTo>
                  <a:lnTo>
                    <a:pt x="4518" y="2102"/>
                  </a:lnTo>
                  <a:lnTo>
                    <a:pt x="4455" y="2051"/>
                  </a:lnTo>
                  <a:lnTo>
                    <a:pt x="4428" y="2017"/>
                  </a:lnTo>
                  <a:lnTo>
                    <a:pt x="4346" y="2060"/>
                  </a:lnTo>
                  <a:lnTo>
                    <a:pt x="4272" y="2111"/>
                  </a:lnTo>
                  <a:lnTo>
                    <a:pt x="4257" y="2117"/>
                  </a:lnTo>
                  <a:lnTo>
                    <a:pt x="4239" y="2128"/>
                  </a:lnTo>
                  <a:lnTo>
                    <a:pt x="4217" y="2142"/>
                  </a:lnTo>
                  <a:lnTo>
                    <a:pt x="4192" y="2157"/>
                  </a:lnTo>
                  <a:lnTo>
                    <a:pt x="4167" y="2173"/>
                  </a:lnTo>
                  <a:lnTo>
                    <a:pt x="4142" y="2186"/>
                  </a:lnTo>
                  <a:lnTo>
                    <a:pt x="4116" y="2194"/>
                  </a:lnTo>
                  <a:lnTo>
                    <a:pt x="4091" y="2198"/>
                  </a:lnTo>
                  <a:lnTo>
                    <a:pt x="4047" y="2222"/>
                  </a:lnTo>
                  <a:lnTo>
                    <a:pt x="4000" y="2230"/>
                  </a:lnTo>
                  <a:lnTo>
                    <a:pt x="3792" y="2299"/>
                  </a:lnTo>
                  <a:lnTo>
                    <a:pt x="3691" y="2315"/>
                  </a:lnTo>
                  <a:lnTo>
                    <a:pt x="3668" y="2327"/>
                  </a:lnTo>
                  <a:lnTo>
                    <a:pt x="3646" y="2336"/>
                  </a:lnTo>
                  <a:lnTo>
                    <a:pt x="3623" y="2344"/>
                  </a:lnTo>
                  <a:lnTo>
                    <a:pt x="3601" y="2348"/>
                  </a:lnTo>
                  <a:lnTo>
                    <a:pt x="3579" y="2349"/>
                  </a:lnTo>
                  <a:lnTo>
                    <a:pt x="3557" y="2349"/>
                  </a:lnTo>
                  <a:lnTo>
                    <a:pt x="3534" y="2347"/>
                  </a:lnTo>
                  <a:lnTo>
                    <a:pt x="3510" y="2341"/>
                  </a:lnTo>
                  <a:lnTo>
                    <a:pt x="3255" y="2350"/>
                  </a:lnTo>
                  <a:lnTo>
                    <a:pt x="3057" y="2366"/>
                  </a:lnTo>
                  <a:lnTo>
                    <a:pt x="3111" y="2460"/>
                  </a:lnTo>
                  <a:lnTo>
                    <a:pt x="3123" y="2498"/>
                  </a:lnTo>
                  <a:lnTo>
                    <a:pt x="3128" y="2536"/>
                  </a:lnTo>
                  <a:lnTo>
                    <a:pt x="3132" y="2573"/>
                  </a:lnTo>
                  <a:lnTo>
                    <a:pt x="3132" y="2610"/>
                  </a:lnTo>
                  <a:lnTo>
                    <a:pt x="3128" y="2646"/>
                  </a:lnTo>
                  <a:lnTo>
                    <a:pt x="3124" y="2683"/>
                  </a:lnTo>
                  <a:lnTo>
                    <a:pt x="3118" y="2721"/>
                  </a:lnTo>
                  <a:lnTo>
                    <a:pt x="3111" y="2759"/>
                  </a:lnTo>
                  <a:lnTo>
                    <a:pt x="3074" y="2826"/>
                  </a:lnTo>
                  <a:lnTo>
                    <a:pt x="3011" y="3006"/>
                  </a:lnTo>
                  <a:lnTo>
                    <a:pt x="2996" y="3030"/>
                  </a:lnTo>
                  <a:lnTo>
                    <a:pt x="2981" y="3056"/>
                  </a:lnTo>
                  <a:lnTo>
                    <a:pt x="2962" y="3080"/>
                  </a:lnTo>
                  <a:lnTo>
                    <a:pt x="2944" y="3105"/>
                  </a:lnTo>
                  <a:lnTo>
                    <a:pt x="2923" y="3129"/>
                  </a:lnTo>
                  <a:lnTo>
                    <a:pt x="2902" y="3152"/>
                  </a:lnTo>
                  <a:lnTo>
                    <a:pt x="2879" y="3175"/>
                  </a:lnTo>
                  <a:lnTo>
                    <a:pt x="2856" y="3198"/>
                  </a:lnTo>
                  <a:lnTo>
                    <a:pt x="2832" y="3221"/>
                  </a:lnTo>
                  <a:lnTo>
                    <a:pt x="2807" y="3244"/>
                  </a:lnTo>
                  <a:lnTo>
                    <a:pt x="2781" y="3265"/>
                  </a:lnTo>
                  <a:lnTo>
                    <a:pt x="2756" y="3287"/>
                  </a:lnTo>
                  <a:lnTo>
                    <a:pt x="2728" y="3308"/>
                  </a:lnTo>
                  <a:lnTo>
                    <a:pt x="2702" y="3330"/>
                  </a:lnTo>
                  <a:lnTo>
                    <a:pt x="2675" y="3352"/>
                  </a:lnTo>
                  <a:lnTo>
                    <a:pt x="2648" y="3372"/>
                  </a:lnTo>
                  <a:lnTo>
                    <a:pt x="2476" y="3490"/>
                  </a:lnTo>
                  <a:lnTo>
                    <a:pt x="2448" y="3500"/>
                  </a:lnTo>
                  <a:lnTo>
                    <a:pt x="2167" y="3662"/>
                  </a:lnTo>
                  <a:lnTo>
                    <a:pt x="2121" y="3678"/>
                  </a:lnTo>
                  <a:lnTo>
                    <a:pt x="2077" y="3696"/>
                  </a:lnTo>
                  <a:lnTo>
                    <a:pt x="2034" y="3714"/>
                  </a:lnTo>
                  <a:lnTo>
                    <a:pt x="1992" y="3734"/>
                  </a:lnTo>
                  <a:lnTo>
                    <a:pt x="1949" y="3754"/>
                  </a:lnTo>
                  <a:lnTo>
                    <a:pt x="1906" y="3776"/>
                  </a:lnTo>
                  <a:lnTo>
                    <a:pt x="1864" y="3797"/>
                  </a:lnTo>
                  <a:lnTo>
                    <a:pt x="1822" y="3821"/>
                  </a:lnTo>
                  <a:lnTo>
                    <a:pt x="1781" y="3846"/>
                  </a:lnTo>
                  <a:lnTo>
                    <a:pt x="1739" y="3871"/>
                  </a:lnTo>
                  <a:lnTo>
                    <a:pt x="1699" y="3898"/>
                  </a:lnTo>
                  <a:lnTo>
                    <a:pt x="1659" y="3925"/>
                  </a:lnTo>
                  <a:lnTo>
                    <a:pt x="1618" y="3953"/>
                  </a:lnTo>
                  <a:lnTo>
                    <a:pt x="1579" y="3981"/>
                  </a:lnTo>
                  <a:lnTo>
                    <a:pt x="1540" y="4012"/>
                  </a:lnTo>
                  <a:lnTo>
                    <a:pt x="1502" y="4042"/>
                  </a:lnTo>
                  <a:lnTo>
                    <a:pt x="1464" y="4073"/>
                  </a:lnTo>
                  <a:lnTo>
                    <a:pt x="1427" y="4106"/>
                  </a:lnTo>
                  <a:lnTo>
                    <a:pt x="1390" y="4138"/>
                  </a:lnTo>
                  <a:lnTo>
                    <a:pt x="1353" y="4172"/>
                  </a:lnTo>
                  <a:lnTo>
                    <a:pt x="1318" y="4206"/>
                  </a:lnTo>
                  <a:lnTo>
                    <a:pt x="1283" y="4242"/>
                  </a:lnTo>
                  <a:lnTo>
                    <a:pt x="1249" y="4278"/>
                  </a:lnTo>
                  <a:lnTo>
                    <a:pt x="1216" y="4313"/>
                  </a:lnTo>
                  <a:lnTo>
                    <a:pt x="1182" y="4350"/>
                  </a:lnTo>
                  <a:lnTo>
                    <a:pt x="1150" y="4388"/>
                  </a:lnTo>
                  <a:lnTo>
                    <a:pt x="1119" y="4427"/>
                  </a:lnTo>
                  <a:lnTo>
                    <a:pt x="1089" y="4465"/>
                  </a:lnTo>
                  <a:lnTo>
                    <a:pt x="1059" y="4505"/>
                  </a:lnTo>
                  <a:lnTo>
                    <a:pt x="1030" y="4545"/>
                  </a:lnTo>
                  <a:lnTo>
                    <a:pt x="1003" y="4585"/>
                  </a:lnTo>
                  <a:lnTo>
                    <a:pt x="976" y="4626"/>
                  </a:lnTo>
                  <a:lnTo>
                    <a:pt x="950" y="4667"/>
                  </a:lnTo>
                  <a:lnTo>
                    <a:pt x="895" y="4744"/>
                  </a:lnTo>
                  <a:lnTo>
                    <a:pt x="869" y="4753"/>
                  </a:lnTo>
                  <a:lnTo>
                    <a:pt x="838" y="4759"/>
                  </a:lnTo>
                  <a:lnTo>
                    <a:pt x="807" y="4762"/>
                  </a:lnTo>
                  <a:lnTo>
                    <a:pt x="777" y="4763"/>
                  </a:lnTo>
                  <a:lnTo>
                    <a:pt x="747" y="4763"/>
                  </a:lnTo>
                  <a:lnTo>
                    <a:pt x="717" y="4760"/>
                  </a:lnTo>
                  <a:lnTo>
                    <a:pt x="687" y="4755"/>
                  </a:lnTo>
                  <a:lnTo>
                    <a:pt x="658" y="4748"/>
                  </a:lnTo>
                  <a:lnTo>
                    <a:pt x="629" y="4740"/>
                  </a:lnTo>
                  <a:lnTo>
                    <a:pt x="600" y="4729"/>
                  </a:lnTo>
                  <a:lnTo>
                    <a:pt x="573" y="4718"/>
                  </a:lnTo>
                  <a:lnTo>
                    <a:pt x="545" y="4706"/>
                  </a:lnTo>
                  <a:lnTo>
                    <a:pt x="518" y="4692"/>
                  </a:lnTo>
                  <a:lnTo>
                    <a:pt x="492" y="4678"/>
                  </a:lnTo>
                  <a:lnTo>
                    <a:pt x="465" y="4663"/>
                  </a:lnTo>
                  <a:lnTo>
                    <a:pt x="440" y="4648"/>
                  </a:lnTo>
                  <a:lnTo>
                    <a:pt x="416" y="4633"/>
                  </a:lnTo>
                  <a:lnTo>
                    <a:pt x="379" y="4556"/>
                  </a:lnTo>
                  <a:lnTo>
                    <a:pt x="351" y="4428"/>
                  </a:lnTo>
                  <a:lnTo>
                    <a:pt x="169" y="4368"/>
                  </a:lnTo>
                  <a:lnTo>
                    <a:pt x="141" y="4335"/>
                  </a:lnTo>
                  <a:lnTo>
                    <a:pt x="79" y="4309"/>
                  </a:lnTo>
                  <a:lnTo>
                    <a:pt x="78" y="4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027080" y="2779560"/>
              <a:ext cx="1250640" cy="1282320"/>
            </a:xfrm>
            <a:custGeom>
              <a:avLst/>
              <a:gdLst/>
              <a:ahLst/>
              <a:rect l="l" t="t" r="r" b="b"/>
              <a:pathLst>
                <a:path w="4727" h="4038">
                  <a:moveTo>
                    <a:pt x="0" y="3532"/>
                  </a:moveTo>
                  <a:lnTo>
                    <a:pt x="0" y="3628"/>
                  </a:lnTo>
                  <a:lnTo>
                    <a:pt x="97" y="3645"/>
                  </a:lnTo>
                  <a:lnTo>
                    <a:pt x="168" y="3679"/>
                  </a:lnTo>
                  <a:lnTo>
                    <a:pt x="215" y="3730"/>
                  </a:lnTo>
                  <a:lnTo>
                    <a:pt x="351" y="3722"/>
                  </a:lnTo>
                  <a:lnTo>
                    <a:pt x="415" y="3679"/>
                  </a:lnTo>
                  <a:lnTo>
                    <a:pt x="451" y="3627"/>
                  </a:lnTo>
                  <a:lnTo>
                    <a:pt x="650" y="3483"/>
                  </a:lnTo>
                  <a:lnTo>
                    <a:pt x="559" y="3653"/>
                  </a:lnTo>
                  <a:lnTo>
                    <a:pt x="542" y="3679"/>
                  </a:lnTo>
                  <a:lnTo>
                    <a:pt x="477" y="3773"/>
                  </a:lnTo>
                  <a:lnTo>
                    <a:pt x="443" y="3799"/>
                  </a:lnTo>
                  <a:lnTo>
                    <a:pt x="443" y="3959"/>
                  </a:lnTo>
                  <a:lnTo>
                    <a:pt x="469" y="3951"/>
                  </a:lnTo>
                  <a:lnTo>
                    <a:pt x="542" y="3841"/>
                  </a:lnTo>
                  <a:lnTo>
                    <a:pt x="732" y="3602"/>
                  </a:lnTo>
                  <a:lnTo>
                    <a:pt x="551" y="4020"/>
                  </a:lnTo>
                  <a:lnTo>
                    <a:pt x="641" y="4038"/>
                  </a:lnTo>
                  <a:lnTo>
                    <a:pt x="678" y="3977"/>
                  </a:lnTo>
                  <a:lnTo>
                    <a:pt x="708" y="3942"/>
                  </a:lnTo>
                  <a:lnTo>
                    <a:pt x="738" y="3906"/>
                  </a:lnTo>
                  <a:lnTo>
                    <a:pt x="767" y="3869"/>
                  </a:lnTo>
                  <a:lnTo>
                    <a:pt x="796" y="3832"/>
                  </a:lnTo>
                  <a:lnTo>
                    <a:pt x="824" y="3796"/>
                  </a:lnTo>
                  <a:lnTo>
                    <a:pt x="854" y="3758"/>
                  </a:lnTo>
                  <a:lnTo>
                    <a:pt x="884" y="3720"/>
                  </a:lnTo>
                  <a:lnTo>
                    <a:pt x="914" y="3683"/>
                  </a:lnTo>
                  <a:lnTo>
                    <a:pt x="947" y="3645"/>
                  </a:lnTo>
                  <a:lnTo>
                    <a:pt x="979" y="3608"/>
                  </a:lnTo>
                  <a:lnTo>
                    <a:pt x="1014" y="3571"/>
                  </a:lnTo>
                  <a:lnTo>
                    <a:pt x="1049" y="3534"/>
                  </a:lnTo>
                  <a:lnTo>
                    <a:pt x="1087" y="3497"/>
                  </a:lnTo>
                  <a:lnTo>
                    <a:pt x="1126" y="3461"/>
                  </a:lnTo>
                  <a:lnTo>
                    <a:pt x="1169" y="3426"/>
                  </a:lnTo>
                  <a:lnTo>
                    <a:pt x="1214" y="3390"/>
                  </a:lnTo>
                  <a:lnTo>
                    <a:pt x="1296" y="3313"/>
                  </a:lnTo>
                  <a:lnTo>
                    <a:pt x="1321" y="3295"/>
                  </a:lnTo>
                  <a:lnTo>
                    <a:pt x="1347" y="3277"/>
                  </a:lnTo>
                  <a:lnTo>
                    <a:pt x="1372" y="3260"/>
                  </a:lnTo>
                  <a:lnTo>
                    <a:pt x="1397" y="3244"/>
                  </a:lnTo>
                  <a:lnTo>
                    <a:pt x="1423" y="3228"/>
                  </a:lnTo>
                  <a:lnTo>
                    <a:pt x="1448" y="3211"/>
                  </a:lnTo>
                  <a:lnTo>
                    <a:pt x="1473" y="3196"/>
                  </a:lnTo>
                  <a:lnTo>
                    <a:pt x="1499" y="3181"/>
                  </a:lnTo>
                  <a:lnTo>
                    <a:pt x="1523" y="3166"/>
                  </a:lnTo>
                  <a:lnTo>
                    <a:pt x="1548" y="3152"/>
                  </a:lnTo>
                  <a:lnTo>
                    <a:pt x="1574" y="3138"/>
                  </a:lnTo>
                  <a:lnTo>
                    <a:pt x="1599" y="3124"/>
                  </a:lnTo>
                  <a:lnTo>
                    <a:pt x="1623" y="3110"/>
                  </a:lnTo>
                  <a:lnTo>
                    <a:pt x="1649" y="3097"/>
                  </a:lnTo>
                  <a:lnTo>
                    <a:pt x="1674" y="3083"/>
                  </a:lnTo>
                  <a:lnTo>
                    <a:pt x="1698" y="3070"/>
                  </a:lnTo>
                  <a:lnTo>
                    <a:pt x="1724" y="3057"/>
                  </a:lnTo>
                  <a:lnTo>
                    <a:pt x="1748" y="3044"/>
                  </a:lnTo>
                  <a:lnTo>
                    <a:pt x="1773" y="3031"/>
                  </a:lnTo>
                  <a:lnTo>
                    <a:pt x="1797" y="3018"/>
                  </a:lnTo>
                  <a:lnTo>
                    <a:pt x="1823" y="3005"/>
                  </a:lnTo>
                  <a:lnTo>
                    <a:pt x="1847" y="2992"/>
                  </a:lnTo>
                  <a:lnTo>
                    <a:pt x="1872" y="2978"/>
                  </a:lnTo>
                  <a:lnTo>
                    <a:pt x="1897" y="2965"/>
                  </a:lnTo>
                  <a:lnTo>
                    <a:pt x="1922" y="2952"/>
                  </a:lnTo>
                  <a:lnTo>
                    <a:pt x="1946" y="2938"/>
                  </a:lnTo>
                  <a:lnTo>
                    <a:pt x="1972" y="2925"/>
                  </a:lnTo>
                  <a:lnTo>
                    <a:pt x="1996" y="2911"/>
                  </a:lnTo>
                  <a:lnTo>
                    <a:pt x="2021" y="2897"/>
                  </a:lnTo>
                  <a:lnTo>
                    <a:pt x="2045" y="2883"/>
                  </a:lnTo>
                  <a:lnTo>
                    <a:pt x="2071" y="2867"/>
                  </a:lnTo>
                  <a:lnTo>
                    <a:pt x="2095" y="2852"/>
                  </a:lnTo>
                  <a:lnTo>
                    <a:pt x="2302" y="2717"/>
                  </a:lnTo>
                  <a:lnTo>
                    <a:pt x="2339" y="2673"/>
                  </a:lnTo>
                  <a:lnTo>
                    <a:pt x="2368" y="2657"/>
                  </a:lnTo>
                  <a:lnTo>
                    <a:pt x="2395" y="2638"/>
                  </a:lnTo>
                  <a:lnTo>
                    <a:pt x="2420" y="2619"/>
                  </a:lnTo>
                  <a:lnTo>
                    <a:pt x="2445" y="2599"/>
                  </a:lnTo>
                  <a:lnTo>
                    <a:pt x="2468" y="2578"/>
                  </a:lnTo>
                  <a:lnTo>
                    <a:pt x="2491" y="2555"/>
                  </a:lnTo>
                  <a:lnTo>
                    <a:pt x="2512" y="2532"/>
                  </a:lnTo>
                  <a:lnTo>
                    <a:pt x="2533" y="2508"/>
                  </a:lnTo>
                  <a:lnTo>
                    <a:pt x="2553" y="2483"/>
                  </a:lnTo>
                  <a:lnTo>
                    <a:pt x="2571" y="2460"/>
                  </a:lnTo>
                  <a:lnTo>
                    <a:pt x="2589" y="2435"/>
                  </a:lnTo>
                  <a:lnTo>
                    <a:pt x="2606" y="2411"/>
                  </a:lnTo>
                  <a:lnTo>
                    <a:pt x="2623" y="2386"/>
                  </a:lnTo>
                  <a:lnTo>
                    <a:pt x="2638" y="2362"/>
                  </a:lnTo>
                  <a:lnTo>
                    <a:pt x="2653" y="2338"/>
                  </a:lnTo>
                  <a:lnTo>
                    <a:pt x="2667" y="2316"/>
                  </a:lnTo>
                  <a:lnTo>
                    <a:pt x="2682" y="2268"/>
                  </a:lnTo>
                  <a:lnTo>
                    <a:pt x="2700" y="2222"/>
                  </a:lnTo>
                  <a:lnTo>
                    <a:pt x="2717" y="2175"/>
                  </a:lnTo>
                  <a:lnTo>
                    <a:pt x="2732" y="2129"/>
                  </a:lnTo>
                  <a:lnTo>
                    <a:pt x="2742" y="2082"/>
                  </a:lnTo>
                  <a:lnTo>
                    <a:pt x="2744" y="2036"/>
                  </a:lnTo>
                  <a:lnTo>
                    <a:pt x="2735" y="1989"/>
                  </a:lnTo>
                  <a:lnTo>
                    <a:pt x="2712" y="1941"/>
                  </a:lnTo>
                  <a:lnTo>
                    <a:pt x="2585" y="1795"/>
                  </a:lnTo>
                  <a:lnTo>
                    <a:pt x="2565" y="1720"/>
                  </a:lnTo>
                  <a:lnTo>
                    <a:pt x="2520" y="1643"/>
                  </a:lnTo>
                  <a:lnTo>
                    <a:pt x="2792" y="1635"/>
                  </a:lnTo>
                  <a:lnTo>
                    <a:pt x="3411" y="1601"/>
                  </a:lnTo>
                  <a:lnTo>
                    <a:pt x="3455" y="1617"/>
                  </a:lnTo>
                  <a:lnTo>
                    <a:pt x="3496" y="1610"/>
                  </a:lnTo>
                  <a:lnTo>
                    <a:pt x="3537" y="1604"/>
                  </a:lnTo>
                  <a:lnTo>
                    <a:pt x="3577" y="1596"/>
                  </a:lnTo>
                  <a:lnTo>
                    <a:pt x="3619" y="1589"/>
                  </a:lnTo>
                  <a:lnTo>
                    <a:pt x="3659" y="1579"/>
                  </a:lnTo>
                  <a:lnTo>
                    <a:pt x="3701" y="1569"/>
                  </a:lnTo>
                  <a:lnTo>
                    <a:pt x="3742" y="1557"/>
                  </a:lnTo>
                  <a:lnTo>
                    <a:pt x="3784" y="1544"/>
                  </a:lnTo>
                  <a:lnTo>
                    <a:pt x="3824" y="1529"/>
                  </a:lnTo>
                  <a:lnTo>
                    <a:pt x="3866" y="1512"/>
                  </a:lnTo>
                  <a:lnTo>
                    <a:pt x="3907" y="1494"/>
                  </a:lnTo>
                  <a:lnTo>
                    <a:pt x="3950" y="1472"/>
                  </a:lnTo>
                  <a:lnTo>
                    <a:pt x="3991" y="1448"/>
                  </a:lnTo>
                  <a:lnTo>
                    <a:pt x="4033" y="1422"/>
                  </a:lnTo>
                  <a:lnTo>
                    <a:pt x="4075" y="1394"/>
                  </a:lnTo>
                  <a:lnTo>
                    <a:pt x="4118" y="1362"/>
                  </a:lnTo>
                  <a:lnTo>
                    <a:pt x="4155" y="1336"/>
                  </a:lnTo>
                  <a:lnTo>
                    <a:pt x="4192" y="1310"/>
                  </a:lnTo>
                  <a:lnTo>
                    <a:pt x="4230" y="1284"/>
                  </a:lnTo>
                  <a:lnTo>
                    <a:pt x="4269" y="1257"/>
                  </a:lnTo>
                  <a:lnTo>
                    <a:pt x="4307" y="1230"/>
                  </a:lnTo>
                  <a:lnTo>
                    <a:pt x="4346" y="1202"/>
                  </a:lnTo>
                  <a:lnTo>
                    <a:pt x="4384" y="1173"/>
                  </a:lnTo>
                  <a:lnTo>
                    <a:pt x="4421" y="1144"/>
                  </a:lnTo>
                  <a:lnTo>
                    <a:pt x="4458" y="1114"/>
                  </a:lnTo>
                  <a:lnTo>
                    <a:pt x="4493" y="1084"/>
                  </a:lnTo>
                  <a:lnTo>
                    <a:pt x="4527" y="1052"/>
                  </a:lnTo>
                  <a:lnTo>
                    <a:pt x="4558" y="1019"/>
                  </a:lnTo>
                  <a:lnTo>
                    <a:pt x="4588" y="985"/>
                  </a:lnTo>
                  <a:lnTo>
                    <a:pt x="4616" y="950"/>
                  </a:lnTo>
                  <a:lnTo>
                    <a:pt x="4641" y="914"/>
                  </a:lnTo>
                  <a:lnTo>
                    <a:pt x="4663" y="876"/>
                  </a:lnTo>
                  <a:lnTo>
                    <a:pt x="4727" y="748"/>
                  </a:lnTo>
                  <a:lnTo>
                    <a:pt x="4727" y="706"/>
                  </a:lnTo>
                  <a:lnTo>
                    <a:pt x="4618" y="774"/>
                  </a:lnTo>
                  <a:lnTo>
                    <a:pt x="4000" y="1056"/>
                  </a:lnTo>
                  <a:lnTo>
                    <a:pt x="3956" y="1072"/>
                  </a:lnTo>
                  <a:lnTo>
                    <a:pt x="3928" y="1079"/>
                  </a:lnTo>
                  <a:lnTo>
                    <a:pt x="3901" y="1088"/>
                  </a:lnTo>
                  <a:lnTo>
                    <a:pt x="3874" y="1096"/>
                  </a:lnTo>
                  <a:lnTo>
                    <a:pt x="3847" y="1103"/>
                  </a:lnTo>
                  <a:lnTo>
                    <a:pt x="3821" y="1111"/>
                  </a:lnTo>
                  <a:lnTo>
                    <a:pt x="3794" y="1118"/>
                  </a:lnTo>
                  <a:lnTo>
                    <a:pt x="3768" y="1125"/>
                  </a:lnTo>
                  <a:lnTo>
                    <a:pt x="3741" y="1131"/>
                  </a:lnTo>
                  <a:lnTo>
                    <a:pt x="3715" y="1138"/>
                  </a:lnTo>
                  <a:lnTo>
                    <a:pt x="3688" y="1144"/>
                  </a:lnTo>
                  <a:lnTo>
                    <a:pt x="3662" y="1149"/>
                  </a:lnTo>
                  <a:lnTo>
                    <a:pt x="3635" y="1154"/>
                  </a:lnTo>
                  <a:lnTo>
                    <a:pt x="3609" y="1157"/>
                  </a:lnTo>
                  <a:lnTo>
                    <a:pt x="3582" y="1162"/>
                  </a:lnTo>
                  <a:lnTo>
                    <a:pt x="3555" y="1164"/>
                  </a:lnTo>
                  <a:lnTo>
                    <a:pt x="3528" y="1166"/>
                  </a:lnTo>
                  <a:lnTo>
                    <a:pt x="3500" y="1173"/>
                  </a:lnTo>
                  <a:lnTo>
                    <a:pt x="3375" y="1276"/>
                  </a:lnTo>
                  <a:lnTo>
                    <a:pt x="3330" y="1276"/>
                  </a:lnTo>
                  <a:lnTo>
                    <a:pt x="3310" y="1294"/>
                  </a:lnTo>
                  <a:lnTo>
                    <a:pt x="3256" y="1301"/>
                  </a:lnTo>
                  <a:lnTo>
                    <a:pt x="3211" y="1327"/>
                  </a:lnTo>
                  <a:lnTo>
                    <a:pt x="3146" y="1319"/>
                  </a:lnTo>
                  <a:lnTo>
                    <a:pt x="3120" y="1362"/>
                  </a:lnTo>
                  <a:lnTo>
                    <a:pt x="3084" y="1362"/>
                  </a:lnTo>
                  <a:lnTo>
                    <a:pt x="3066" y="1388"/>
                  </a:lnTo>
                  <a:lnTo>
                    <a:pt x="2993" y="1388"/>
                  </a:lnTo>
                  <a:lnTo>
                    <a:pt x="3047" y="1327"/>
                  </a:lnTo>
                  <a:lnTo>
                    <a:pt x="3102" y="1311"/>
                  </a:lnTo>
                  <a:lnTo>
                    <a:pt x="3220" y="1225"/>
                  </a:lnTo>
                  <a:lnTo>
                    <a:pt x="3356" y="1157"/>
                  </a:lnTo>
                  <a:lnTo>
                    <a:pt x="3401" y="1123"/>
                  </a:lnTo>
                  <a:lnTo>
                    <a:pt x="3474" y="1072"/>
                  </a:lnTo>
                  <a:lnTo>
                    <a:pt x="3656" y="911"/>
                  </a:lnTo>
                  <a:lnTo>
                    <a:pt x="3703" y="858"/>
                  </a:lnTo>
                  <a:lnTo>
                    <a:pt x="3749" y="806"/>
                  </a:lnTo>
                  <a:lnTo>
                    <a:pt x="3793" y="753"/>
                  </a:lnTo>
                  <a:lnTo>
                    <a:pt x="3836" y="700"/>
                  </a:lnTo>
                  <a:lnTo>
                    <a:pt x="3878" y="647"/>
                  </a:lnTo>
                  <a:lnTo>
                    <a:pt x="3919" y="594"/>
                  </a:lnTo>
                  <a:lnTo>
                    <a:pt x="3958" y="541"/>
                  </a:lnTo>
                  <a:lnTo>
                    <a:pt x="3995" y="488"/>
                  </a:lnTo>
                  <a:lnTo>
                    <a:pt x="4032" y="435"/>
                  </a:lnTo>
                  <a:lnTo>
                    <a:pt x="4066" y="382"/>
                  </a:lnTo>
                  <a:lnTo>
                    <a:pt x="4100" y="329"/>
                  </a:lnTo>
                  <a:lnTo>
                    <a:pt x="4131" y="274"/>
                  </a:lnTo>
                  <a:lnTo>
                    <a:pt x="4162" y="221"/>
                  </a:lnTo>
                  <a:lnTo>
                    <a:pt x="4191" y="167"/>
                  </a:lnTo>
                  <a:lnTo>
                    <a:pt x="4218" y="114"/>
                  </a:lnTo>
                  <a:lnTo>
                    <a:pt x="4245" y="60"/>
                  </a:lnTo>
                  <a:lnTo>
                    <a:pt x="4273" y="0"/>
                  </a:lnTo>
                  <a:lnTo>
                    <a:pt x="4229" y="1"/>
                  </a:lnTo>
                  <a:lnTo>
                    <a:pt x="4184" y="4"/>
                  </a:lnTo>
                  <a:lnTo>
                    <a:pt x="4140" y="9"/>
                  </a:lnTo>
                  <a:lnTo>
                    <a:pt x="4096" y="18"/>
                  </a:lnTo>
                  <a:lnTo>
                    <a:pt x="4051" y="27"/>
                  </a:lnTo>
                  <a:lnTo>
                    <a:pt x="4007" y="39"/>
                  </a:lnTo>
                  <a:lnTo>
                    <a:pt x="3962" y="52"/>
                  </a:lnTo>
                  <a:lnTo>
                    <a:pt x="3919" y="66"/>
                  </a:lnTo>
                  <a:lnTo>
                    <a:pt x="3875" y="82"/>
                  </a:lnTo>
                  <a:lnTo>
                    <a:pt x="3830" y="98"/>
                  </a:lnTo>
                  <a:lnTo>
                    <a:pt x="3786" y="117"/>
                  </a:lnTo>
                  <a:lnTo>
                    <a:pt x="3741" y="136"/>
                  </a:lnTo>
                  <a:lnTo>
                    <a:pt x="3697" y="156"/>
                  </a:lnTo>
                  <a:lnTo>
                    <a:pt x="3653" y="176"/>
                  </a:lnTo>
                  <a:lnTo>
                    <a:pt x="3609" y="198"/>
                  </a:lnTo>
                  <a:lnTo>
                    <a:pt x="3565" y="219"/>
                  </a:lnTo>
                  <a:lnTo>
                    <a:pt x="3528" y="229"/>
                  </a:lnTo>
                  <a:lnTo>
                    <a:pt x="3500" y="264"/>
                  </a:lnTo>
                  <a:lnTo>
                    <a:pt x="3493" y="297"/>
                  </a:lnTo>
                  <a:lnTo>
                    <a:pt x="3484" y="332"/>
                  </a:lnTo>
                  <a:lnTo>
                    <a:pt x="3474" y="365"/>
                  </a:lnTo>
                  <a:lnTo>
                    <a:pt x="3462" y="400"/>
                  </a:lnTo>
                  <a:lnTo>
                    <a:pt x="3448" y="435"/>
                  </a:lnTo>
                  <a:lnTo>
                    <a:pt x="3433" y="469"/>
                  </a:lnTo>
                  <a:lnTo>
                    <a:pt x="3416" y="504"/>
                  </a:lnTo>
                  <a:lnTo>
                    <a:pt x="3398" y="538"/>
                  </a:lnTo>
                  <a:lnTo>
                    <a:pt x="3378" y="572"/>
                  </a:lnTo>
                  <a:lnTo>
                    <a:pt x="3356" y="607"/>
                  </a:lnTo>
                  <a:lnTo>
                    <a:pt x="3333" y="640"/>
                  </a:lnTo>
                  <a:lnTo>
                    <a:pt x="3309" y="673"/>
                  </a:lnTo>
                  <a:lnTo>
                    <a:pt x="3282" y="706"/>
                  </a:lnTo>
                  <a:lnTo>
                    <a:pt x="3255" y="737"/>
                  </a:lnTo>
                  <a:lnTo>
                    <a:pt x="3225" y="770"/>
                  </a:lnTo>
                  <a:lnTo>
                    <a:pt x="3194" y="800"/>
                  </a:lnTo>
                  <a:lnTo>
                    <a:pt x="3157" y="816"/>
                  </a:lnTo>
                  <a:lnTo>
                    <a:pt x="2919" y="1064"/>
                  </a:lnTo>
                  <a:lnTo>
                    <a:pt x="2865" y="1098"/>
                  </a:lnTo>
                  <a:lnTo>
                    <a:pt x="2837" y="1106"/>
                  </a:lnTo>
                  <a:lnTo>
                    <a:pt x="2803" y="1149"/>
                  </a:lnTo>
                  <a:lnTo>
                    <a:pt x="2785" y="1167"/>
                  </a:lnTo>
                  <a:lnTo>
                    <a:pt x="2768" y="1185"/>
                  </a:lnTo>
                  <a:lnTo>
                    <a:pt x="2750" y="1203"/>
                  </a:lnTo>
                  <a:lnTo>
                    <a:pt x="2731" y="1219"/>
                  </a:lnTo>
                  <a:lnTo>
                    <a:pt x="2713" y="1235"/>
                  </a:lnTo>
                  <a:lnTo>
                    <a:pt x="2693" y="1250"/>
                  </a:lnTo>
                  <a:lnTo>
                    <a:pt x="2675" y="1263"/>
                  </a:lnTo>
                  <a:lnTo>
                    <a:pt x="2655" y="1276"/>
                  </a:lnTo>
                  <a:lnTo>
                    <a:pt x="2636" y="1287"/>
                  </a:lnTo>
                  <a:lnTo>
                    <a:pt x="2615" y="1298"/>
                  </a:lnTo>
                  <a:lnTo>
                    <a:pt x="2595" y="1306"/>
                  </a:lnTo>
                  <a:lnTo>
                    <a:pt x="2574" y="1313"/>
                  </a:lnTo>
                  <a:lnTo>
                    <a:pt x="2555" y="1319"/>
                  </a:lnTo>
                  <a:lnTo>
                    <a:pt x="2534" y="1324"/>
                  </a:lnTo>
                  <a:lnTo>
                    <a:pt x="2514" y="1326"/>
                  </a:lnTo>
                  <a:lnTo>
                    <a:pt x="2494" y="1327"/>
                  </a:lnTo>
                  <a:lnTo>
                    <a:pt x="2457" y="1336"/>
                  </a:lnTo>
                  <a:lnTo>
                    <a:pt x="2375" y="1498"/>
                  </a:lnTo>
                  <a:lnTo>
                    <a:pt x="2330" y="1566"/>
                  </a:lnTo>
                  <a:lnTo>
                    <a:pt x="2267" y="1559"/>
                  </a:lnTo>
                  <a:lnTo>
                    <a:pt x="2259" y="1524"/>
                  </a:lnTo>
                  <a:lnTo>
                    <a:pt x="2177" y="1413"/>
                  </a:lnTo>
                  <a:lnTo>
                    <a:pt x="1984" y="1413"/>
                  </a:lnTo>
                  <a:lnTo>
                    <a:pt x="1876" y="1438"/>
                  </a:lnTo>
                  <a:lnTo>
                    <a:pt x="1831" y="1456"/>
                  </a:lnTo>
                  <a:lnTo>
                    <a:pt x="1695" y="1533"/>
                  </a:lnTo>
                  <a:lnTo>
                    <a:pt x="1548" y="1652"/>
                  </a:lnTo>
                  <a:lnTo>
                    <a:pt x="1522" y="1652"/>
                  </a:lnTo>
                  <a:lnTo>
                    <a:pt x="1514" y="1694"/>
                  </a:lnTo>
                  <a:lnTo>
                    <a:pt x="1486" y="1745"/>
                  </a:lnTo>
                  <a:lnTo>
                    <a:pt x="1460" y="1753"/>
                  </a:lnTo>
                  <a:lnTo>
                    <a:pt x="1313" y="2051"/>
                  </a:lnTo>
                  <a:lnTo>
                    <a:pt x="1304" y="2111"/>
                  </a:lnTo>
                  <a:lnTo>
                    <a:pt x="1195" y="2334"/>
                  </a:lnTo>
                  <a:lnTo>
                    <a:pt x="1123" y="2436"/>
                  </a:lnTo>
                  <a:lnTo>
                    <a:pt x="841" y="2835"/>
                  </a:lnTo>
                  <a:lnTo>
                    <a:pt x="732" y="2964"/>
                  </a:lnTo>
                  <a:lnTo>
                    <a:pt x="678" y="3031"/>
                  </a:lnTo>
                  <a:lnTo>
                    <a:pt x="559" y="3135"/>
                  </a:lnTo>
                  <a:lnTo>
                    <a:pt x="524" y="3142"/>
                  </a:lnTo>
                  <a:lnTo>
                    <a:pt x="287" y="3406"/>
                  </a:lnTo>
                  <a:lnTo>
                    <a:pt x="178" y="3441"/>
                  </a:lnTo>
                  <a:lnTo>
                    <a:pt x="114" y="3499"/>
                  </a:lnTo>
                  <a:lnTo>
                    <a:pt x="79" y="3499"/>
                  </a:lnTo>
                  <a:lnTo>
                    <a:pt x="0" y="35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1619280" y="2641320"/>
              <a:ext cx="327960" cy="579240"/>
            </a:xfrm>
            <a:custGeom>
              <a:avLst/>
              <a:gdLst/>
              <a:ahLst/>
              <a:rect l="l" t="t" r="r" b="b"/>
              <a:pathLst>
                <a:path w="1244" h="1822">
                  <a:moveTo>
                    <a:pt x="0" y="1633"/>
                  </a:moveTo>
                  <a:lnTo>
                    <a:pt x="46" y="1607"/>
                  </a:lnTo>
                  <a:lnTo>
                    <a:pt x="82" y="1583"/>
                  </a:lnTo>
                  <a:lnTo>
                    <a:pt x="104" y="1512"/>
                  </a:lnTo>
                  <a:lnTo>
                    <a:pt x="129" y="1442"/>
                  </a:lnTo>
                  <a:lnTo>
                    <a:pt x="157" y="1372"/>
                  </a:lnTo>
                  <a:lnTo>
                    <a:pt x="188" y="1300"/>
                  </a:lnTo>
                  <a:lnTo>
                    <a:pt x="221" y="1230"/>
                  </a:lnTo>
                  <a:lnTo>
                    <a:pt x="257" y="1159"/>
                  </a:lnTo>
                  <a:lnTo>
                    <a:pt x="296" y="1088"/>
                  </a:lnTo>
                  <a:lnTo>
                    <a:pt x="337" y="1017"/>
                  </a:lnTo>
                  <a:lnTo>
                    <a:pt x="380" y="945"/>
                  </a:lnTo>
                  <a:lnTo>
                    <a:pt x="425" y="875"/>
                  </a:lnTo>
                  <a:lnTo>
                    <a:pt x="474" y="804"/>
                  </a:lnTo>
                  <a:lnTo>
                    <a:pt x="522" y="733"/>
                  </a:lnTo>
                  <a:lnTo>
                    <a:pt x="574" y="662"/>
                  </a:lnTo>
                  <a:lnTo>
                    <a:pt x="627" y="592"/>
                  </a:lnTo>
                  <a:lnTo>
                    <a:pt x="681" y="521"/>
                  </a:lnTo>
                  <a:lnTo>
                    <a:pt x="737" y="451"/>
                  </a:lnTo>
                  <a:lnTo>
                    <a:pt x="918" y="239"/>
                  </a:lnTo>
                  <a:lnTo>
                    <a:pt x="1043" y="102"/>
                  </a:lnTo>
                  <a:lnTo>
                    <a:pt x="1190" y="0"/>
                  </a:lnTo>
                  <a:lnTo>
                    <a:pt x="1244" y="0"/>
                  </a:lnTo>
                  <a:lnTo>
                    <a:pt x="1231" y="81"/>
                  </a:lnTo>
                  <a:lnTo>
                    <a:pt x="1220" y="162"/>
                  </a:lnTo>
                  <a:lnTo>
                    <a:pt x="1207" y="243"/>
                  </a:lnTo>
                  <a:lnTo>
                    <a:pt x="1194" y="324"/>
                  </a:lnTo>
                  <a:lnTo>
                    <a:pt x="1180" y="406"/>
                  </a:lnTo>
                  <a:lnTo>
                    <a:pt x="1163" y="487"/>
                  </a:lnTo>
                  <a:lnTo>
                    <a:pt x="1144" y="567"/>
                  </a:lnTo>
                  <a:lnTo>
                    <a:pt x="1119" y="647"/>
                  </a:lnTo>
                  <a:lnTo>
                    <a:pt x="1089" y="727"/>
                  </a:lnTo>
                  <a:lnTo>
                    <a:pt x="1054" y="807"/>
                  </a:lnTo>
                  <a:lnTo>
                    <a:pt x="1012" y="886"/>
                  </a:lnTo>
                  <a:lnTo>
                    <a:pt x="963" y="965"/>
                  </a:lnTo>
                  <a:lnTo>
                    <a:pt x="905" y="1044"/>
                  </a:lnTo>
                  <a:lnTo>
                    <a:pt x="837" y="1122"/>
                  </a:lnTo>
                  <a:lnTo>
                    <a:pt x="760" y="1199"/>
                  </a:lnTo>
                  <a:lnTo>
                    <a:pt x="672" y="1275"/>
                  </a:lnTo>
                  <a:lnTo>
                    <a:pt x="581" y="1378"/>
                  </a:lnTo>
                  <a:lnTo>
                    <a:pt x="218" y="1735"/>
                  </a:lnTo>
                  <a:lnTo>
                    <a:pt x="233" y="1687"/>
                  </a:lnTo>
                  <a:lnTo>
                    <a:pt x="250" y="1640"/>
                  </a:lnTo>
                  <a:lnTo>
                    <a:pt x="270" y="1592"/>
                  </a:lnTo>
                  <a:lnTo>
                    <a:pt x="292" y="1545"/>
                  </a:lnTo>
                  <a:lnTo>
                    <a:pt x="316" y="1498"/>
                  </a:lnTo>
                  <a:lnTo>
                    <a:pt x="341" y="1451"/>
                  </a:lnTo>
                  <a:lnTo>
                    <a:pt x="369" y="1404"/>
                  </a:lnTo>
                  <a:lnTo>
                    <a:pt x="398" y="1356"/>
                  </a:lnTo>
                  <a:lnTo>
                    <a:pt x="429" y="1310"/>
                  </a:lnTo>
                  <a:lnTo>
                    <a:pt x="460" y="1262"/>
                  </a:lnTo>
                  <a:lnTo>
                    <a:pt x="493" y="1216"/>
                  </a:lnTo>
                  <a:lnTo>
                    <a:pt x="527" y="1168"/>
                  </a:lnTo>
                  <a:lnTo>
                    <a:pt x="563" y="1121"/>
                  </a:lnTo>
                  <a:lnTo>
                    <a:pt x="598" y="1073"/>
                  </a:lnTo>
                  <a:lnTo>
                    <a:pt x="635" y="1025"/>
                  </a:lnTo>
                  <a:lnTo>
                    <a:pt x="672" y="978"/>
                  </a:lnTo>
                  <a:lnTo>
                    <a:pt x="709" y="943"/>
                  </a:lnTo>
                  <a:lnTo>
                    <a:pt x="808" y="799"/>
                  </a:lnTo>
                  <a:lnTo>
                    <a:pt x="808" y="765"/>
                  </a:lnTo>
                  <a:lnTo>
                    <a:pt x="776" y="798"/>
                  </a:lnTo>
                  <a:lnTo>
                    <a:pt x="744" y="832"/>
                  </a:lnTo>
                  <a:lnTo>
                    <a:pt x="710" y="866"/>
                  </a:lnTo>
                  <a:lnTo>
                    <a:pt x="678" y="900"/>
                  </a:lnTo>
                  <a:lnTo>
                    <a:pt x="646" y="935"/>
                  </a:lnTo>
                  <a:lnTo>
                    <a:pt x="613" y="968"/>
                  </a:lnTo>
                  <a:lnTo>
                    <a:pt x="582" y="1003"/>
                  </a:lnTo>
                  <a:lnTo>
                    <a:pt x="550" y="1037"/>
                  </a:lnTo>
                  <a:lnTo>
                    <a:pt x="520" y="1072"/>
                  </a:lnTo>
                  <a:lnTo>
                    <a:pt x="489" y="1107"/>
                  </a:lnTo>
                  <a:lnTo>
                    <a:pt x="460" y="1140"/>
                  </a:lnTo>
                  <a:lnTo>
                    <a:pt x="431" y="1175"/>
                  </a:lnTo>
                  <a:lnTo>
                    <a:pt x="403" y="1208"/>
                  </a:lnTo>
                  <a:lnTo>
                    <a:pt x="377" y="1243"/>
                  </a:lnTo>
                  <a:lnTo>
                    <a:pt x="350" y="1276"/>
                  </a:lnTo>
                  <a:lnTo>
                    <a:pt x="326" y="1310"/>
                  </a:lnTo>
                  <a:lnTo>
                    <a:pt x="303" y="1343"/>
                  </a:lnTo>
                  <a:lnTo>
                    <a:pt x="282" y="1377"/>
                  </a:lnTo>
                  <a:lnTo>
                    <a:pt x="262" y="1409"/>
                  </a:lnTo>
                  <a:lnTo>
                    <a:pt x="242" y="1442"/>
                  </a:lnTo>
                  <a:lnTo>
                    <a:pt x="225" y="1474"/>
                  </a:lnTo>
                  <a:lnTo>
                    <a:pt x="207" y="1506"/>
                  </a:lnTo>
                  <a:lnTo>
                    <a:pt x="191" y="1538"/>
                  </a:lnTo>
                  <a:lnTo>
                    <a:pt x="176" y="1570"/>
                  </a:lnTo>
                  <a:lnTo>
                    <a:pt x="161" y="1601"/>
                  </a:lnTo>
                  <a:lnTo>
                    <a:pt x="148" y="1632"/>
                  </a:lnTo>
                  <a:lnTo>
                    <a:pt x="135" y="1664"/>
                  </a:lnTo>
                  <a:lnTo>
                    <a:pt x="122" y="1695"/>
                  </a:lnTo>
                  <a:lnTo>
                    <a:pt x="109" y="1726"/>
                  </a:lnTo>
                  <a:lnTo>
                    <a:pt x="97" y="1758"/>
                  </a:lnTo>
                  <a:lnTo>
                    <a:pt x="85" y="1790"/>
                  </a:lnTo>
                  <a:lnTo>
                    <a:pt x="74" y="1822"/>
                  </a:lnTo>
                  <a:lnTo>
                    <a:pt x="9" y="1779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811160" y="3222360"/>
              <a:ext cx="7560" cy="1404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0"/>
                  </a:moveTo>
                  <a:lnTo>
                    <a:pt x="28" y="0"/>
                  </a:lnTo>
                  <a:lnTo>
                    <a:pt x="2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820880" y="3209760"/>
              <a:ext cx="163080" cy="64800"/>
            </a:xfrm>
            <a:custGeom>
              <a:avLst/>
              <a:gdLst/>
              <a:ahLst/>
              <a:rect l="l" t="t" r="r" b="b"/>
              <a:pathLst>
                <a:path w="617" h="206">
                  <a:moveTo>
                    <a:pt x="8" y="180"/>
                  </a:moveTo>
                  <a:lnTo>
                    <a:pt x="28" y="145"/>
                  </a:lnTo>
                  <a:lnTo>
                    <a:pt x="90" y="120"/>
                  </a:lnTo>
                  <a:lnTo>
                    <a:pt x="590" y="0"/>
                  </a:lnTo>
                  <a:lnTo>
                    <a:pt x="617" y="17"/>
                  </a:lnTo>
                  <a:lnTo>
                    <a:pt x="481" y="94"/>
                  </a:lnTo>
                  <a:lnTo>
                    <a:pt x="218" y="171"/>
                  </a:lnTo>
                  <a:lnTo>
                    <a:pt x="0" y="206"/>
                  </a:lnTo>
                  <a:lnTo>
                    <a:pt x="8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25720" y="2982960"/>
              <a:ext cx="153360" cy="115200"/>
            </a:xfrm>
            <a:custGeom>
              <a:avLst/>
              <a:gdLst/>
              <a:ahLst/>
              <a:rect l="l" t="t" r="r" b="b"/>
              <a:pathLst>
                <a:path w="582" h="366">
                  <a:moveTo>
                    <a:pt x="0" y="366"/>
                  </a:moveTo>
                  <a:lnTo>
                    <a:pt x="156" y="178"/>
                  </a:lnTo>
                  <a:lnTo>
                    <a:pt x="170" y="163"/>
                  </a:lnTo>
                  <a:lnTo>
                    <a:pt x="185" y="148"/>
                  </a:lnTo>
                  <a:lnTo>
                    <a:pt x="200" y="134"/>
                  </a:lnTo>
                  <a:lnTo>
                    <a:pt x="216" y="120"/>
                  </a:lnTo>
                  <a:lnTo>
                    <a:pt x="233" y="107"/>
                  </a:lnTo>
                  <a:lnTo>
                    <a:pt x="250" y="94"/>
                  </a:lnTo>
                  <a:lnTo>
                    <a:pt x="268" y="82"/>
                  </a:lnTo>
                  <a:lnTo>
                    <a:pt x="286" y="71"/>
                  </a:lnTo>
                  <a:lnTo>
                    <a:pt x="305" y="61"/>
                  </a:lnTo>
                  <a:lnTo>
                    <a:pt x="323" y="51"/>
                  </a:lnTo>
                  <a:lnTo>
                    <a:pt x="343" y="42"/>
                  </a:lnTo>
                  <a:lnTo>
                    <a:pt x="361" y="33"/>
                  </a:lnTo>
                  <a:lnTo>
                    <a:pt x="381" y="26"/>
                  </a:lnTo>
                  <a:lnTo>
                    <a:pt x="400" y="19"/>
                  </a:lnTo>
                  <a:lnTo>
                    <a:pt x="419" y="14"/>
                  </a:lnTo>
                  <a:lnTo>
                    <a:pt x="438" y="9"/>
                  </a:lnTo>
                  <a:lnTo>
                    <a:pt x="483" y="0"/>
                  </a:lnTo>
                  <a:lnTo>
                    <a:pt x="564" y="76"/>
                  </a:lnTo>
                  <a:lnTo>
                    <a:pt x="582" y="102"/>
                  </a:lnTo>
                  <a:lnTo>
                    <a:pt x="550" y="121"/>
                  </a:lnTo>
                  <a:lnTo>
                    <a:pt x="518" y="140"/>
                  </a:lnTo>
                  <a:lnTo>
                    <a:pt x="487" y="159"/>
                  </a:lnTo>
                  <a:lnTo>
                    <a:pt x="454" y="177"/>
                  </a:lnTo>
                  <a:lnTo>
                    <a:pt x="423" y="196"/>
                  </a:lnTo>
                  <a:lnTo>
                    <a:pt x="391" y="214"/>
                  </a:lnTo>
                  <a:lnTo>
                    <a:pt x="360" y="233"/>
                  </a:lnTo>
                  <a:lnTo>
                    <a:pt x="328" y="250"/>
                  </a:lnTo>
                  <a:lnTo>
                    <a:pt x="295" y="266"/>
                  </a:lnTo>
                  <a:lnTo>
                    <a:pt x="263" y="282"/>
                  </a:lnTo>
                  <a:lnTo>
                    <a:pt x="231" y="299"/>
                  </a:lnTo>
                  <a:lnTo>
                    <a:pt x="199" y="314"/>
                  </a:lnTo>
                  <a:lnTo>
                    <a:pt x="165" y="328"/>
                  </a:lnTo>
                  <a:lnTo>
                    <a:pt x="133" y="342"/>
                  </a:lnTo>
                  <a:lnTo>
                    <a:pt x="98" y="354"/>
                  </a:lnTo>
                  <a:lnTo>
                    <a:pt x="65" y="366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070000" y="3174840"/>
              <a:ext cx="29880" cy="280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0" y="33"/>
                  </a:moveTo>
                  <a:lnTo>
                    <a:pt x="11" y="7"/>
                  </a:lnTo>
                  <a:lnTo>
                    <a:pt x="37" y="0"/>
                  </a:lnTo>
                  <a:lnTo>
                    <a:pt x="110" y="26"/>
                  </a:lnTo>
                  <a:lnTo>
                    <a:pt x="110" y="58"/>
                  </a:lnTo>
                  <a:lnTo>
                    <a:pt x="82" y="93"/>
                  </a:lnTo>
                  <a:lnTo>
                    <a:pt x="28" y="9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179440" y="3252600"/>
              <a:ext cx="136440" cy="1346040"/>
            </a:xfrm>
            <a:custGeom>
              <a:avLst/>
              <a:gdLst/>
              <a:ahLst/>
              <a:rect l="l" t="t" r="r" b="b"/>
              <a:pathLst>
                <a:path w="519" h="4242">
                  <a:moveTo>
                    <a:pt x="10" y="4218"/>
                  </a:moveTo>
                  <a:lnTo>
                    <a:pt x="55" y="4090"/>
                  </a:lnTo>
                  <a:lnTo>
                    <a:pt x="83" y="3982"/>
                  </a:lnTo>
                  <a:lnTo>
                    <a:pt x="109" y="3875"/>
                  </a:lnTo>
                  <a:lnTo>
                    <a:pt x="131" y="3770"/>
                  </a:lnTo>
                  <a:lnTo>
                    <a:pt x="151" y="3664"/>
                  </a:lnTo>
                  <a:lnTo>
                    <a:pt x="171" y="3558"/>
                  </a:lnTo>
                  <a:lnTo>
                    <a:pt x="189" y="3452"/>
                  </a:lnTo>
                  <a:lnTo>
                    <a:pt x="208" y="3346"/>
                  </a:lnTo>
                  <a:lnTo>
                    <a:pt x="228" y="3238"/>
                  </a:lnTo>
                  <a:lnTo>
                    <a:pt x="254" y="3034"/>
                  </a:lnTo>
                  <a:lnTo>
                    <a:pt x="272" y="2760"/>
                  </a:lnTo>
                  <a:lnTo>
                    <a:pt x="291" y="2377"/>
                  </a:lnTo>
                  <a:lnTo>
                    <a:pt x="291" y="2300"/>
                  </a:lnTo>
                  <a:lnTo>
                    <a:pt x="272" y="1704"/>
                  </a:lnTo>
                  <a:lnTo>
                    <a:pt x="291" y="1407"/>
                  </a:lnTo>
                  <a:lnTo>
                    <a:pt x="291" y="827"/>
                  </a:lnTo>
                  <a:lnTo>
                    <a:pt x="245" y="213"/>
                  </a:lnTo>
                  <a:lnTo>
                    <a:pt x="245" y="70"/>
                  </a:lnTo>
                  <a:lnTo>
                    <a:pt x="254" y="19"/>
                  </a:lnTo>
                  <a:lnTo>
                    <a:pt x="327" y="0"/>
                  </a:lnTo>
                  <a:lnTo>
                    <a:pt x="381" y="9"/>
                  </a:lnTo>
                  <a:lnTo>
                    <a:pt x="418" y="171"/>
                  </a:lnTo>
                  <a:lnTo>
                    <a:pt x="500" y="673"/>
                  </a:lnTo>
                  <a:lnTo>
                    <a:pt x="500" y="724"/>
                  </a:lnTo>
                  <a:lnTo>
                    <a:pt x="492" y="793"/>
                  </a:lnTo>
                  <a:lnTo>
                    <a:pt x="519" y="1423"/>
                  </a:lnTo>
                  <a:lnTo>
                    <a:pt x="492" y="2352"/>
                  </a:lnTo>
                  <a:lnTo>
                    <a:pt x="327" y="3783"/>
                  </a:lnTo>
                  <a:lnTo>
                    <a:pt x="27" y="4227"/>
                  </a:lnTo>
                  <a:lnTo>
                    <a:pt x="32" y="4230"/>
                  </a:lnTo>
                  <a:lnTo>
                    <a:pt x="30" y="4233"/>
                  </a:lnTo>
                  <a:lnTo>
                    <a:pt x="25" y="4238"/>
                  </a:lnTo>
                  <a:lnTo>
                    <a:pt x="18" y="4240"/>
                  </a:lnTo>
                  <a:lnTo>
                    <a:pt x="11" y="4242"/>
                  </a:lnTo>
                  <a:lnTo>
                    <a:pt x="4" y="4242"/>
                  </a:lnTo>
                  <a:lnTo>
                    <a:pt x="0" y="4240"/>
                  </a:lnTo>
                  <a:lnTo>
                    <a:pt x="0" y="4234"/>
                  </a:lnTo>
                  <a:lnTo>
                    <a:pt x="10" y="4218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95280" y="3152520"/>
              <a:ext cx="71280" cy="85680"/>
            </a:xfrm>
            <a:custGeom>
              <a:avLst/>
              <a:gdLst/>
              <a:ahLst/>
              <a:rect l="l" t="t" r="r" b="b"/>
              <a:pathLst>
                <a:path w="272" h="274">
                  <a:moveTo>
                    <a:pt x="0" y="146"/>
                  </a:moveTo>
                  <a:lnTo>
                    <a:pt x="82" y="70"/>
                  </a:lnTo>
                  <a:lnTo>
                    <a:pt x="146" y="45"/>
                  </a:lnTo>
                  <a:lnTo>
                    <a:pt x="200" y="0"/>
                  </a:lnTo>
                  <a:lnTo>
                    <a:pt x="272" y="172"/>
                  </a:lnTo>
                  <a:lnTo>
                    <a:pt x="245" y="231"/>
                  </a:lnTo>
                  <a:lnTo>
                    <a:pt x="200" y="258"/>
                  </a:lnTo>
                  <a:lnTo>
                    <a:pt x="82" y="274"/>
                  </a:lnTo>
                  <a:lnTo>
                    <a:pt x="27" y="24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4" name=""/>
          <p:cNvGrpSpPr/>
          <p:nvPr/>
        </p:nvGrpSpPr>
        <p:grpSpPr>
          <a:xfrm>
            <a:off x="6477120" y="2522520"/>
            <a:ext cx="1577520" cy="2574720"/>
            <a:chOff x="6477120" y="2522520"/>
            <a:chExt cx="1577520" cy="2574720"/>
          </a:xfrm>
        </p:grpSpPr>
        <p:sp>
          <p:nvSpPr>
            <p:cNvPr id="3025" name=""/>
            <p:cNvSpPr/>
            <p:nvPr/>
          </p:nvSpPr>
          <p:spPr>
            <a:xfrm>
              <a:off x="6477120" y="2522520"/>
              <a:ext cx="1577520" cy="25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93400" y="2532960"/>
              <a:ext cx="1252800" cy="2553480"/>
            </a:xfrm>
            <a:custGeom>
              <a:avLst/>
              <a:gdLst/>
              <a:ahLst/>
              <a:rect l="l" t="t" r="r" b="b"/>
              <a:pathLst>
                <a:path w="3004" h="7046">
                  <a:moveTo>
                    <a:pt x="316" y="6942"/>
                  </a:moveTo>
                  <a:lnTo>
                    <a:pt x="209" y="6881"/>
                  </a:lnTo>
                  <a:lnTo>
                    <a:pt x="226" y="6841"/>
                  </a:lnTo>
                  <a:lnTo>
                    <a:pt x="247" y="6806"/>
                  </a:lnTo>
                  <a:lnTo>
                    <a:pt x="269" y="6772"/>
                  </a:lnTo>
                  <a:lnTo>
                    <a:pt x="290" y="6738"/>
                  </a:lnTo>
                  <a:lnTo>
                    <a:pt x="312" y="6704"/>
                  </a:lnTo>
                  <a:lnTo>
                    <a:pt x="333" y="6669"/>
                  </a:lnTo>
                  <a:lnTo>
                    <a:pt x="355" y="6636"/>
                  </a:lnTo>
                  <a:lnTo>
                    <a:pt x="377" y="6602"/>
                  </a:lnTo>
                  <a:lnTo>
                    <a:pt x="400" y="6568"/>
                  </a:lnTo>
                  <a:lnTo>
                    <a:pt x="423" y="6536"/>
                  </a:lnTo>
                  <a:lnTo>
                    <a:pt x="445" y="6502"/>
                  </a:lnTo>
                  <a:lnTo>
                    <a:pt x="467" y="6469"/>
                  </a:lnTo>
                  <a:lnTo>
                    <a:pt x="490" y="6437"/>
                  </a:lnTo>
                  <a:lnTo>
                    <a:pt x="513" y="6404"/>
                  </a:lnTo>
                  <a:lnTo>
                    <a:pt x="536" y="6371"/>
                  </a:lnTo>
                  <a:lnTo>
                    <a:pt x="558" y="6339"/>
                  </a:lnTo>
                  <a:lnTo>
                    <a:pt x="582" y="6306"/>
                  </a:lnTo>
                  <a:lnTo>
                    <a:pt x="606" y="6276"/>
                  </a:lnTo>
                  <a:lnTo>
                    <a:pt x="730" y="6112"/>
                  </a:lnTo>
                  <a:lnTo>
                    <a:pt x="754" y="6089"/>
                  </a:lnTo>
                  <a:lnTo>
                    <a:pt x="853" y="5928"/>
                  </a:lnTo>
                  <a:lnTo>
                    <a:pt x="868" y="5786"/>
                  </a:lnTo>
                  <a:lnTo>
                    <a:pt x="837" y="5741"/>
                  </a:lnTo>
                  <a:lnTo>
                    <a:pt x="731" y="5735"/>
                  </a:lnTo>
                  <a:lnTo>
                    <a:pt x="686" y="5720"/>
                  </a:lnTo>
                  <a:lnTo>
                    <a:pt x="652" y="5720"/>
                  </a:lnTo>
                  <a:lnTo>
                    <a:pt x="472" y="5715"/>
                  </a:lnTo>
                  <a:lnTo>
                    <a:pt x="124" y="5753"/>
                  </a:lnTo>
                  <a:lnTo>
                    <a:pt x="17" y="5725"/>
                  </a:lnTo>
                  <a:lnTo>
                    <a:pt x="0" y="5706"/>
                  </a:lnTo>
                  <a:lnTo>
                    <a:pt x="13" y="5641"/>
                  </a:lnTo>
                  <a:lnTo>
                    <a:pt x="20" y="5629"/>
                  </a:lnTo>
                  <a:lnTo>
                    <a:pt x="84" y="5596"/>
                  </a:lnTo>
                  <a:lnTo>
                    <a:pt x="124" y="5572"/>
                  </a:lnTo>
                  <a:lnTo>
                    <a:pt x="154" y="5553"/>
                  </a:lnTo>
                  <a:lnTo>
                    <a:pt x="184" y="5535"/>
                  </a:lnTo>
                  <a:lnTo>
                    <a:pt x="215" y="5520"/>
                  </a:lnTo>
                  <a:lnTo>
                    <a:pt x="248" y="5505"/>
                  </a:lnTo>
                  <a:lnTo>
                    <a:pt x="282" y="5491"/>
                  </a:lnTo>
                  <a:lnTo>
                    <a:pt x="317" y="5479"/>
                  </a:lnTo>
                  <a:lnTo>
                    <a:pt x="354" y="5469"/>
                  </a:lnTo>
                  <a:lnTo>
                    <a:pt x="390" y="5459"/>
                  </a:lnTo>
                  <a:lnTo>
                    <a:pt x="428" y="5451"/>
                  </a:lnTo>
                  <a:lnTo>
                    <a:pt x="466" y="5443"/>
                  </a:lnTo>
                  <a:lnTo>
                    <a:pt x="506" y="5436"/>
                  </a:lnTo>
                  <a:lnTo>
                    <a:pt x="546" y="5431"/>
                  </a:lnTo>
                  <a:lnTo>
                    <a:pt x="587" y="5426"/>
                  </a:lnTo>
                  <a:lnTo>
                    <a:pt x="630" y="5423"/>
                  </a:lnTo>
                  <a:lnTo>
                    <a:pt x="673" y="5420"/>
                  </a:lnTo>
                  <a:lnTo>
                    <a:pt x="716" y="5417"/>
                  </a:lnTo>
                  <a:lnTo>
                    <a:pt x="771" y="5413"/>
                  </a:lnTo>
                  <a:lnTo>
                    <a:pt x="881" y="5424"/>
                  </a:lnTo>
                  <a:lnTo>
                    <a:pt x="900" y="5425"/>
                  </a:lnTo>
                  <a:lnTo>
                    <a:pt x="954" y="5421"/>
                  </a:lnTo>
                  <a:lnTo>
                    <a:pt x="1022" y="5430"/>
                  </a:lnTo>
                  <a:lnTo>
                    <a:pt x="1128" y="5465"/>
                  </a:lnTo>
                  <a:lnTo>
                    <a:pt x="1135" y="5475"/>
                  </a:lnTo>
                  <a:lnTo>
                    <a:pt x="1176" y="5426"/>
                  </a:lnTo>
                  <a:lnTo>
                    <a:pt x="1214" y="5377"/>
                  </a:lnTo>
                  <a:lnTo>
                    <a:pt x="1251" y="5326"/>
                  </a:lnTo>
                  <a:lnTo>
                    <a:pt x="1288" y="5275"/>
                  </a:lnTo>
                  <a:lnTo>
                    <a:pt x="1323" y="5221"/>
                  </a:lnTo>
                  <a:lnTo>
                    <a:pt x="1358" y="5167"/>
                  </a:lnTo>
                  <a:lnTo>
                    <a:pt x="1392" y="5112"/>
                  </a:lnTo>
                  <a:lnTo>
                    <a:pt x="1425" y="5054"/>
                  </a:lnTo>
                  <a:lnTo>
                    <a:pt x="1456" y="4998"/>
                  </a:lnTo>
                  <a:lnTo>
                    <a:pt x="1489" y="4940"/>
                  </a:lnTo>
                  <a:lnTo>
                    <a:pt x="1518" y="4881"/>
                  </a:lnTo>
                  <a:lnTo>
                    <a:pt x="1550" y="4822"/>
                  </a:lnTo>
                  <a:lnTo>
                    <a:pt x="1580" y="4762"/>
                  </a:lnTo>
                  <a:lnTo>
                    <a:pt x="1610" y="4703"/>
                  </a:lnTo>
                  <a:lnTo>
                    <a:pt x="1638" y="4642"/>
                  </a:lnTo>
                  <a:lnTo>
                    <a:pt x="1668" y="4581"/>
                  </a:lnTo>
                  <a:lnTo>
                    <a:pt x="1594" y="4592"/>
                  </a:lnTo>
                  <a:lnTo>
                    <a:pt x="1448" y="4559"/>
                  </a:lnTo>
                  <a:lnTo>
                    <a:pt x="1408" y="4551"/>
                  </a:lnTo>
                  <a:lnTo>
                    <a:pt x="1380" y="4535"/>
                  </a:lnTo>
                  <a:lnTo>
                    <a:pt x="1356" y="4518"/>
                  </a:lnTo>
                  <a:lnTo>
                    <a:pt x="1336" y="4499"/>
                  </a:lnTo>
                  <a:lnTo>
                    <a:pt x="1318" y="4479"/>
                  </a:lnTo>
                  <a:lnTo>
                    <a:pt x="1302" y="4456"/>
                  </a:lnTo>
                  <a:lnTo>
                    <a:pt x="1288" y="4434"/>
                  </a:lnTo>
                  <a:lnTo>
                    <a:pt x="1275" y="4410"/>
                  </a:lnTo>
                  <a:lnTo>
                    <a:pt x="1260" y="4387"/>
                  </a:lnTo>
                  <a:lnTo>
                    <a:pt x="1214" y="4329"/>
                  </a:lnTo>
                  <a:lnTo>
                    <a:pt x="1167" y="4293"/>
                  </a:lnTo>
                  <a:lnTo>
                    <a:pt x="1160" y="4226"/>
                  </a:lnTo>
                  <a:lnTo>
                    <a:pt x="1181" y="4191"/>
                  </a:lnTo>
                  <a:lnTo>
                    <a:pt x="1189" y="4171"/>
                  </a:lnTo>
                  <a:lnTo>
                    <a:pt x="1371" y="4087"/>
                  </a:lnTo>
                  <a:lnTo>
                    <a:pt x="1353" y="4075"/>
                  </a:lnTo>
                  <a:lnTo>
                    <a:pt x="1332" y="4065"/>
                  </a:lnTo>
                  <a:lnTo>
                    <a:pt x="1310" y="4057"/>
                  </a:lnTo>
                  <a:lnTo>
                    <a:pt x="1287" y="4051"/>
                  </a:lnTo>
                  <a:lnTo>
                    <a:pt x="1262" y="4045"/>
                  </a:lnTo>
                  <a:lnTo>
                    <a:pt x="1236" y="4039"/>
                  </a:lnTo>
                  <a:lnTo>
                    <a:pt x="1211" y="4034"/>
                  </a:lnTo>
                  <a:lnTo>
                    <a:pt x="1186" y="4028"/>
                  </a:lnTo>
                  <a:lnTo>
                    <a:pt x="1161" y="4021"/>
                  </a:lnTo>
                  <a:lnTo>
                    <a:pt x="1139" y="4015"/>
                  </a:lnTo>
                  <a:lnTo>
                    <a:pt x="1118" y="4006"/>
                  </a:lnTo>
                  <a:lnTo>
                    <a:pt x="1100" y="3995"/>
                  </a:lnTo>
                  <a:lnTo>
                    <a:pt x="1085" y="3982"/>
                  </a:lnTo>
                  <a:lnTo>
                    <a:pt x="1073" y="3966"/>
                  </a:lnTo>
                  <a:lnTo>
                    <a:pt x="1064" y="3948"/>
                  </a:lnTo>
                  <a:lnTo>
                    <a:pt x="1060" y="3927"/>
                  </a:lnTo>
                  <a:lnTo>
                    <a:pt x="1112" y="3829"/>
                  </a:lnTo>
                  <a:lnTo>
                    <a:pt x="1128" y="3768"/>
                  </a:lnTo>
                  <a:lnTo>
                    <a:pt x="1117" y="3694"/>
                  </a:lnTo>
                  <a:lnTo>
                    <a:pt x="1113" y="3662"/>
                  </a:lnTo>
                  <a:lnTo>
                    <a:pt x="1112" y="3611"/>
                  </a:lnTo>
                  <a:lnTo>
                    <a:pt x="1172" y="3573"/>
                  </a:lnTo>
                  <a:lnTo>
                    <a:pt x="1186" y="3579"/>
                  </a:lnTo>
                  <a:lnTo>
                    <a:pt x="1193" y="3569"/>
                  </a:lnTo>
                  <a:lnTo>
                    <a:pt x="1232" y="3544"/>
                  </a:lnTo>
                  <a:lnTo>
                    <a:pt x="1313" y="3500"/>
                  </a:lnTo>
                  <a:lnTo>
                    <a:pt x="1340" y="3483"/>
                  </a:lnTo>
                  <a:lnTo>
                    <a:pt x="1453" y="3367"/>
                  </a:lnTo>
                  <a:lnTo>
                    <a:pt x="1483" y="3343"/>
                  </a:lnTo>
                  <a:lnTo>
                    <a:pt x="1491" y="3322"/>
                  </a:lnTo>
                  <a:lnTo>
                    <a:pt x="1363" y="3330"/>
                  </a:lnTo>
                  <a:lnTo>
                    <a:pt x="1313" y="3312"/>
                  </a:lnTo>
                  <a:lnTo>
                    <a:pt x="1288" y="3295"/>
                  </a:lnTo>
                  <a:lnTo>
                    <a:pt x="1264" y="3278"/>
                  </a:lnTo>
                  <a:lnTo>
                    <a:pt x="1242" y="3260"/>
                  </a:lnTo>
                  <a:lnTo>
                    <a:pt x="1223" y="3239"/>
                  </a:lnTo>
                  <a:lnTo>
                    <a:pt x="1204" y="3219"/>
                  </a:lnTo>
                  <a:lnTo>
                    <a:pt x="1189" y="3198"/>
                  </a:lnTo>
                  <a:lnTo>
                    <a:pt x="1174" y="3175"/>
                  </a:lnTo>
                  <a:lnTo>
                    <a:pt x="1161" y="3153"/>
                  </a:lnTo>
                  <a:lnTo>
                    <a:pt x="1150" y="3129"/>
                  </a:lnTo>
                  <a:lnTo>
                    <a:pt x="1139" y="3103"/>
                  </a:lnTo>
                  <a:lnTo>
                    <a:pt x="1130" y="3077"/>
                  </a:lnTo>
                  <a:lnTo>
                    <a:pt x="1122" y="3052"/>
                  </a:lnTo>
                  <a:lnTo>
                    <a:pt x="1116" y="3024"/>
                  </a:lnTo>
                  <a:lnTo>
                    <a:pt x="1111" y="2994"/>
                  </a:lnTo>
                  <a:lnTo>
                    <a:pt x="1107" y="2965"/>
                  </a:lnTo>
                  <a:lnTo>
                    <a:pt x="1104" y="2935"/>
                  </a:lnTo>
                  <a:lnTo>
                    <a:pt x="1139" y="2904"/>
                  </a:lnTo>
                  <a:lnTo>
                    <a:pt x="1168" y="2899"/>
                  </a:lnTo>
                  <a:lnTo>
                    <a:pt x="1198" y="2892"/>
                  </a:lnTo>
                  <a:lnTo>
                    <a:pt x="1227" y="2885"/>
                  </a:lnTo>
                  <a:lnTo>
                    <a:pt x="1255" y="2879"/>
                  </a:lnTo>
                  <a:lnTo>
                    <a:pt x="1284" y="2871"/>
                  </a:lnTo>
                  <a:lnTo>
                    <a:pt x="1311" y="2863"/>
                  </a:lnTo>
                  <a:lnTo>
                    <a:pt x="1339" y="2855"/>
                  </a:lnTo>
                  <a:lnTo>
                    <a:pt x="1366" y="2846"/>
                  </a:lnTo>
                  <a:lnTo>
                    <a:pt x="1391" y="2836"/>
                  </a:lnTo>
                  <a:lnTo>
                    <a:pt x="1417" y="2826"/>
                  </a:lnTo>
                  <a:lnTo>
                    <a:pt x="1442" y="2814"/>
                  </a:lnTo>
                  <a:lnTo>
                    <a:pt x="1465" y="2802"/>
                  </a:lnTo>
                  <a:lnTo>
                    <a:pt x="1487" y="2789"/>
                  </a:lnTo>
                  <a:lnTo>
                    <a:pt x="1509" y="2775"/>
                  </a:lnTo>
                  <a:lnTo>
                    <a:pt x="1529" y="2759"/>
                  </a:lnTo>
                  <a:lnTo>
                    <a:pt x="1548" y="2743"/>
                  </a:lnTo>
                  <a:lnTo>
                    <a:pt x="1494" y="2668"/>
                  </a:lnTo>
                  <a:lnTo>
                    <a:pt x="1361" y="2391"/>
                  </a:lnTo>
                  <a:lnTo>
                    <a:pt x="1349" y="2346"/>
                  </a:lnTo>
                  <a:lnTo>
                    <a:pt x="1362" y="2330"/>
                  </a:lnTo>
                  <a:lnTo>
                    <a:pt x="1392" y="2327"/>
                  </a:lnTo>
                  <a:lnTo>
                    <a:pt x="1499" y="2274"/>
                  </a:lnTo>
                  <a:lnTo>
                    <a:pt x="1477" y="2258"/>
                  </a:lnTo>
                  <a:lnTo>
                    <a:pt x="1324" y="2108"/>
                  </a:lnTo>
                  <a:lnTo>
                    <a:pt x="1324" y="2078"/>
                  </a:lnTo>
                  <a:lnTo>
                    <a:pt x="1378" y="2081"/>
                  </a:lnTo>
                  <a:lnTo>
                    <a:pt x="1373" y="2027"/>
                  </a:lnTo>
                  <a:lnTo>
                    <a:pt x="1379" y="1993"/>
                  </a:lnTo>
                  <a:lnTo>
                    <a:pt x="1503" y="1881"/>
                  </a:lnTo>
                  <a:lnTo>
                    <a:pt x="1634" y="1747"/>
                  </a:lnTo>
                  <a:lnTo>
                    <a:pt x="1655" y="1712"/>
                  </a:lnTo>
                  <a:lnTo>
                    <a:pt x="1684" y="1685"/>
                  </a:lnTo>
                  <a:lnTo>
                    <a:pt x="1710" y="1625"/>
                  </a:lnTo>
                  <a:lnTo>
                    <a:pt x="1688" y="1640"/>
                  </a:lnTo>
                  <a:lnTo>
                    <a:pt x="1614" y="1643"/>
                  </a:lnTo>
                  <a:lnTo>
                    <a:pt x="1513" y="1532"/>
                  </a:lnTo>
                  <a:lnTo>
                    <a:pt x="1509" y="1368"/>
                  </a:lnTo>
                  <a:lnTo>
                    <a:pt x="1520" y="1353"/>
                  </a:lnTo>
                  <a:lnTo>
                    <a:pt x="1529" y="1340"/>
                  </a:lnTo>
                  <a:lnTo>
                    <a:pt x="1539" y="1325"/>
                  </a:lnTo>
                  <a:lnTo>
                    <a:pt x="1551" y="1312"/>
                  </a:lnTo>
                  <a:lnTo>
                    <a:pt x="1561" y="1300"/>
                  </a:lnTo>
                  <a:lnTo>
                    <a:pt x="1575" y="1288"/>
                  </a:lnTo>
                  <a:lnTo>
                    <a:pt x="1586" y="1277"/>
                  </a:lnTo>
                  <a:lnTo>
                    <a:pt x="1601" y="1267"/>
                  </a:lnTo>
                  <a:lnTo>
                    <a:pt x="1782" y="1182"/>
                  </a:lnTo>
                  <a:lnTo>
                    <a:pt x="1761" y="1168"/>
                  </a:lnTo>
                  <a:lnTo>
                    <a:pt x="1732" y="1148"/>
                  </a:lnTo>
                  <a:lnTo>
                    <a:pt x="1707" y="1125"/>
                  </a:lnTo>
                  <a:lnTo>
                    <a:pt x="1688" y="1101"/>
                  </a:lnTo>
                  <a:lnTo>
                    <a:pt x="1672" y="1074"/>
                  </a:lnTo>
                  <a:lnTo>
                    <a:pt x="1661" y="1044"/>
                  </a:lnTo>
                  <a:lnTo>
                    <a:pt x="1653" y="1013"/>
                  </a:lnTo>
                  <a:lnTo>
                    <a:pt x="1647" y="979"/>
                  </a:lnTo>
                  <a:lnTo>
                    <a:pt x="1645" y="942"/>
                  </a:lnTo>
                  <a:lnTo>
                    <a:pt x="1666" y="865"/>
                  </a:lnTo>
                  <a:lnTo>
                    <a:pt x="1684" y="838"/>
                  </a:lnTo>
                  <a:lnTo>
                    <a:pt x="1700" y="806"/>
                  </a:lnTo>
                  <a:lnTo>
                    <a:pt x="1724" y="805"/>
                  </a:lnTo>
                  <a:lnTo>
                    <a:pt x="1941" y="712"/>
                  </a:lnTo>
                  <a:lnTo>
                    <a:pt x="1929" y="640"/>
                  </a:lnTo>
                  <a:lnTo>
                    <a:pt x="1945" y="608"/>
                  </a:lnTo>
                  <a:lnTo>
                    <a:pt x="1959" y="588"/>
                  </a:lnTo>
                  <a:lnTo>
                    <a:pt x="1975" y="570"/>
                  </a:lnTo>
                  <a:lnTo>
                    <a:pt x="1990" y="553"/>
                  </a:lnTo>
                  <a:lnTo>
                    <a:pt x="2008" y="538"/>
                  </a:lnTo>
                  <a:lnTo>
                    <a:pt x="2027" y="524"/>
                  </a:lnTo>
                  <a:lnTo>
                    <a:pt x="2045" y="511"/>
                  </a:lnTo>
                  <a:lnTo>
                    <a:pt x="2064" y="498"/>
                  </a:lnTo>
                  <a:lnTo>
                    <a:pt x="2085" y="485"/>
                  </a:lnTo>
                  <a:lnTo>
                    <a:pt x="2058" y="473"/>
                  </a:lnTo>
                  <a:lnTo>
                    <a:pt x="2045" y="467"/>
                  </a:lnTo>
                  <a:lnTo>
                    <a:pt x="2029" y="448"/>
                  </a:lnTo>
                  <a:lnTo>
                    <a:pt x="2044" y="314"/>
                  </a:lnTo>
                  <a:lnTo>
                    <a:pt x="2054" y="307"/>
                  </a:lnTo>
                  <a:lnTo>
                    <a:pt x="2148" y="221"/>
                  </a:lnTo>
                  <a:lnTo>
                    <a:pt x="2322" y="148"/>
                  </a:lnTo>
                  <a:lnTo>
                    <a:pt x="2358" y="39"/>
                  </a:lnTo>
                  <a:lnTo>
                    <a:pt x="2389" y="5"/>
                  </a:lnTo>
                  <a:lnTo>
                    <a:pt x="2442" y="0"/>
                  </a:lnTo>
                  <a:lnTo>
                    <a:pt x="2472" y="76"/>
                  </a:lnTo>
                  <a:lnTo>
                    <a:pt x="2461" y="90"/>
                  </a:lnTo>
                  <a:lnTo>
                    <a:pt x="2448" y="157"/>
                  </a:lnTo>
                  <a:lnTo>
                    <a:pt x="2519" y="132"/>
                  </a:lnTo>
                  <a:lnTo>
                    <a:pt x="2530" y="105"/>
                  </a:lnTo>
                  <a:lnTo>
                    <a:pt x="2537" y="63"/>
                  </a:lnTo>
                  <a:lnTo>
                    <a:pt x="2565" y="46"/>
                  </a:lnTo>
                  <a:lnTo>
                    <a:pt x="2588" y="104"/>
                  </a:lnTo>
                  <a:lnTo>
                    <a:pt x="2566" y="168"/>
                  </a:lnTo>
                  <a:lnTo>
                    <a:pt x="2565" y="206"/>
                  </a:lnTo>
                  <a:lnTo>
                    <a:pt x="2541" y="227"/>
                  </a:lnTo>
                  <a:lnTo>
                    <a:pt x="2470" y="272"/>
                  </a:lnTo>
                  <a:lnTo>
                    <a:pt x="2485" y="312"/>
                  </a:lnTo>
                  <a:lnTo>
                    <a:pt x="2500" y="353"/>
                  </a:lnTo>
                  <a:lnTo>
                    <a:pt x="2513" y="398"/>
                  </a:lnTo>
                  <a:lnTo>
                    <a:pt x="2521" y="445"/>
                  </a:lnTo>
                  <a:lnTo>
                    <a:pt x="2524" y="493"/>
                  </a:lnTo>
                  <a:lnTo>
                    <a:pt x="2522" y="539"/>
                  </a:lnTo>
                  <a:lnTo>
                    <a:pt x="2511" y="585"/>
                  </a:lnTo>
                  <a:lnTo>
                    <a:pt x="2492" y="629"/>
                  </a:lnTo>
                  <a:lnTo>
                    <a:pt x="2421" y="636"/>
                  </a:lnTo>
                  <a:lnTo>
                    <a:pt x="2437" y="714"/>
                  </a:lnTo>
                  <a:lnTo>
                    <a:pt x="2436" y="832"/>
                  </a:lnTo>
                  <a:lnTo>
                    <a:pt x="2384" y="878"/>
                  </a:lnTo>
                  <a:lnTo>
                    <a:pt x="2408" y="910"/>
                  </a:lnTo>
                  <a:lnTo>
                    <a:pt x="2433" y="939"/>
                  </a:lnTo>
                  <a:lnTo>
                    <a:pt x="2458" y="969"/>
                  </a:lnTo>
                  <a:lnTo>
                    <a:pt x="2480" y="999"/>
                  </a:lnTo>
                  <a:lnTo>
                    <a:pt x="2500" y="1032"/>
                  </a:lnTo>
                  <a:lnTo>
                    <a:pt x="2514" y="1068"/>
                  </a:lnTo>
                  <a:lnTo>
                    <a:pt x="2522" y="1108"/>
                  </a:lnTo>
                  <a:lnTo>
                    <a:pt x="2522" y="1155"/>
                  </a:lnTo>
                  <a:lnTo>
                    <a:pt x="2518" y="1179"/>
                  </a:lnTo>
                  <a:lnTo>
                    <a:pt x="2513" y="1203"/>
                  </a:lnTo>
                  <a:lnTo>
                    <a:pt x="2507" y="1226"/>
                  </a:lnTo>
                  <a:lnTo>
                    <a:pt x="2502" y="1248"/>
                  </a:lnTo>
                  <a:lnTo>
                    <a:pt x="2496" y="1268"/>
                  </a:lnTo>
                  <a:lnTo>
                    <a:pt x="2488" y="1287"/>
                  </a:lnTo>
                  <a:lnTo>
                    <a:pt x="2479" y="1304"/>
                  </a:lnTo>
                  <a:lnTo>
                    <a:pt x="2468" y="1319"/>
                  </a:lnTo>
                  <a:lnTo>
                    <a:pt x="2449" y="1337"/>
                  </a:lnTo>
                  <a:lnTo>
                    <a:pt x="2466" y="1356"/>
                  </a:lnTo>
                  <a:lnTo>
                    <a:pt x="2530" y="1461"/>
                  </a:lnTo>
                  <a:lnTo>
                    <a:pt x="2565" y="1504"/>
                  </a:lnTo>
                  <a:lnTo>
                    <a:pt x="2578" y="1598"/>
                  </a:lnTo>
                  <a:lnTo>
                    <a:pt x="2571" y="1620"/>
                  </a:lnTo>
                  <a:lnTo>
                    <a:pt x="2564" y="1639"/>
                  </a:lnTo>
                  <a:lnTo>
                    <a:pt x="2554" y="1656"/>
                  </a:lnTo>
                  <a:lnTo>
                    <a:pt x="2544" y="1672"/>
                  </a:lnTo>
                  <a:lnTo>
                    <a:pt x="2532" y="1686"/>
                  </a:lnTo>
                  <a:lnTo>
                    <a:pt x="2519" y="1700"/>
                  </a:lnTo>
                  <a:lnTo>
                    <a:pt x="2505" y="1712"/>
                  </a:lnTo>
                  <a:lnTo>
                    <a:pt x="2491" y="1724"/>
                  </a:lnTo>
                  <a:lnTo>
                    <a:pt x="2436" y="1759"/>
                  </a:lnTo>
                  <a:lnTo>
                    <a:pt x="2319" y="1751"/>
                  </a:lnTo>
                  <a:lnTo>
                    <a:pt x="2256" y="1756"/>
                  </a:lnTo>
                  <a:lnTo>
                    <a:pt x="2213" y="1746"/>
                  </a:lnTo>
                  <a:lnTo>
                    <a:pt x="2233" y="1778"/>
                  </a:lnTo>
                  <a:lnTo>
                    <a:pt x="2363" y="1833"/>
                  </a:lnTo>
                  <a:lnTo>
                    <a:pt x="2395" y="1842"/>
                  </a:lnTo>
                  <a:lnTo>
                    <a:pt x="2442" y="1857"/>
                  </a:lnTo>
                  <a:lnTo>
                    <a:pt x="2564" y="1882"/>
                  </a:lnTo>
                  <a:lnTo>
                    <a:pt x="2573" y="1963"/>
                  </a:lnTo>
                  <a:lnTo>
                    <a:pt x="2584" y="1987"/>
                  </a:lnTo>
                  <a:lnTo>
                    <a:pt x="2596" y="2012"/>
                  </a:lnTo>
                  <a:lnTo>
                    <a:pt x="2607" y="2037"/>
                  </a:lnTo>
                  <a:lnTo>
                    <a:pt x="2614" y="2063"/>
                  </a:lnTo>
                  <a:lnTo>
                    <a:pt x="2621" y="2090"/>
                  </a:lnTo>
                  <a:lnTo>
                    <a:pt x="2623" y="2119"/>
                  </a:lnTo>
                  <a:lnTo>
                    <a:pt x="2622" y="2149"/>
                  </a:lnTo>
                  <a:lnTo>
                    <a:pt x="2616" y="2183"/>
                  </a:lnTo>
                  <a:lnTo>
                    <a:pt x="2593" y="2227"/>
                  </a:lnTo>
                  <a:lnTo>
                    <a:pt x="2570" y="2248"/>
                  </a:lnTo>
                  <a:lnTo>
                    <a:pt x="2543" y="2265"/>
                  </a:lnTo>
                  <a:lnTo>
                    <a:pt x="2470" y="2318"/>
                  </a:lnTo>
                  <a:lnTo>
                    <a:pt x="2567" y="2446"/>
                  </a:lnTo>
                  <a:lnTo>
                    <a:pt x="2573" y="2580"/>
                  </a:lnTo>
                  <a:lnTo>
                    <a:pt x="2552" y="2614"/>
                  </a:lnTo>
                  <a:lnTo>
                    <a:pt x="2527" y="2637"/>
                  </a:lnTo>
                  <a:lnTo>
                    <a:pt x="2491" y="2703"/>
                  </a:lnTo>
                  <a:lnTo>
                    <a:pt x="2466" y="2734"/>
                  </a:lnTo>
                  <a:lnTo>
                    <a:pt x="2338" y="2741"/>
                  </a:lnTo>
                  <a:lnTo>
                    <a:pt x="2319" y="2819"/>
                  </a:lnTo>
                  <a:lnTo>
                    <a:pt x="2345" y="2868"/>
                  </a:lnTo>
                  <a:lnTo>
                    <a:pt x="2384" y="2894"/>
                  </a:lnTo>
                  <a:lnTo>
                    <a:pt x="2483" y="2934"/>
                  </a:lnTo>
                  <a:lnTo>
                    <a:pt x="2626" y="3003"/>
                  </a:lnTo>
                  <a:lnTo>
                    <a:pt x="2638" y="3047"/>
                  </a:lnTo>
                  <a:lnTo>
                    <a:pt x="2634" y="3152"/>
                  </a:lnTo>
                  <a:lnTo>
                    <a:pt x="2612" y="3186"/>
                  </a:lnTo>
                  <a:lnTo>
                    <a:pt x="2466" y="3292"/>
                  </a:lnTo>
                  <a:lnTo>
                    <a:pt x="2642" y="3333"/>
                  </a:lnTo>
                  <a:lnTo>
                    <a:pt x="2679" y="3346"/>
                  </a:lnTo>
                  <a:lnTo>
                    <a:pt x="2691" y="3390"/>
                  </a:lnTo>
                  <a:lnTo>
                    <a:pt x="2743" y="3582"/>
                  </a:lnTo>
                  <a:lnTo>
                    <a:pt x="2733" y="3610"/>
                  </a:lnTo>
                  <a:lnTo>
                    <a:pt x="2721" y="3646"/>
                  </a:lnTo>
                  <a:lnTo>
                    <a:pt x="2695" y="3685"/>
                  </a:lnTo>
                  <a:lnTo>
                    <a:pt x="2670" y="3707"/>
                  </a:lnTo>
                  <a:lnTo>
                    <a:pt x="2811" y="3901"/>
                  </a:lnTo>
                  <a:lnTo>
                    <a:pt x="2801" y="3951"/>
                  </a:lnTo>
                  <a:lnTo>
                    <a:pt x="2627" y="4104"/>
                  </a:lnTo>
                  <a:lnTo>
                    <a:pt x="2593" y="4141"/>
                  </a:lnTo>
                  <a:lnTo>
                    <a:pt x="2580" y="4198"/>
                  </a:lnTo>
                  <a:lnTo>
                    <a:pt x="2545" y="4206"/>
                  </a:lnTo>
                  <a:lnTo>
                    <a:pt x="2397" y="4198"/>
                  </a:lnTo>
                  <a:lnTo>
                    <a:pt x="2412" y="4228"/>
                  </a:lnTo>
                  <a:lnTo>
                    <a:pt x="2425" y="4262"/>
                  </a:lnTo>
                  <a:lnTo>
                    <a:pt x="2435" y="4300"/>
                  </a:lnTo>
                  <a:lnTo>
                    <a:pt x="2441" y="4340"/>
                  </a:lnTo>
                  <a:lnTo>
                    <a:pt x="2441" y="4380"/>
                  </a:lnTo>
                  <a:lnTo>
                    <a:pt x="2437" y="4422"/>
                  </a:lnTo>
                  <a:lnTo>
                    <a:pt x="2427" y="4462"/>
                  </a:lnTo>
                  <a:lnTo>
                    <a:pt x="2408" y="4501"/>
                  </a:lnTo>
                  <a:lnTo>
                    <a:pt x="2333" y="4543"/>
                  </a:lnTo>
                  <a:lnTo>
                    <a:pt x="2322" y="4553"/>
                  </a:lnTo>
                  <a:lnTo>
                    <a:pt x="2311" y="4562"/>
                  </a:lnTo>
                  <a:lnTo>
                    <a:pt x="2299" y="4571"/>
                  </a:lnTo>
                  <a:lnTo>
                    <a:pt x="2286" y="4579"/>
                  </a:lnTo>
                  <a:lnTo>
                    <a:pt x="2273" y="4586"/>
                  </a:lnTo>
                  <a:lnTo>
                    <a:pt x="2257" y="4591"/>
                  </a:lnTo>
                  <a:lnTo>
                    <a:pt x="2243" y="4597"/>
                  </a:lnTo>
                  <a:lnTo>
                    <a:pt x="2227" y="4601"/>
                  </a:lnTo>
                  <a:lnTo>
                    <a:pt x="2210" y="4605"/>
                  </a:lnTo>
                  <a:lnTo>
                    <a:pt x="2192" y="4607"/>
                  </a:lnTo>
                  <a:lnTo>
                    <a:pt x="2174" y="4608"/>
                  </a:lnTo>
                  <a:lnTo>
                    <a:pt x="2156" y="4608"/>
                  </a:lnTo>
                  <a:lnTo>
                    <a:pt x="2135" y="4608"/>
                  </a:lnTo>
                  <a:lnTo>
                    <a:pt x="2115" y="4606"/>
                  </a:lnTo>
                  <a:lnTo>
                    <a:pt x="2093" y="4604"/>
                  </a:lnTo>
                  <a:lnTo>
                    <a:pt x="2071" y="4599"/>
                  </a:lnTo>
                  <a:lnTo>
                    <a:pt x="1956" y="4583"/>
                  </a:lnTo>
                  <a:lnTo>
                    <a:pt x="1907" y="4583"/>
                  </a:lnTo>
                  <a:lnTo>
                    <a:pt x="1869" y="4660"/>
                  </a:lnTo>
                  <a:lnTo>
                    <a:pt x="1857" y="4695"/>
                  </a:lnTo>
                  <a:lnTo>
                    <a:pt x="1849" y="4707"/>
                  </a:lnTo>
                  <a:lnTo>
                    <a:pt x="1827" y="4730"/>
                  </a:lnTo>
                  <a:lnTo>
                    <a:pt x="1718" y="4899"/>
                  </a:lnTo>
                  <a:lnTo>
                    <a:pt x="1707" y="4935"/>
                  </a:lnTo>
                  <a:lnTo>
                    <a:pt x="1505" y="5315"/>
                  </a:lnTo>
                  <a:lnTo>
                    <a:pt x="1482" y="5338"/>
                  </a:lnTo>
                  <a:lnTo>
                    <a:pt x="1395" y="5543"/>
                  </a:lnTo>
                  <a:lnTo>
                    <a:pt x="1386" y="5563"/>
                  </a:lnTo>
                  <a:lnTo>
                    <a:pt x="1442" y="5579"/>
                  </a:lnTo>
                  <a:lnTo>
                    <a:pt x="1478" y="5593"/>
                  </a:lnTo>
                  <a:lnTo>
                    <a:pt x="1515" y="5606"/>
                  </a:lnTo>
                  <a:lnTo>
                    <a:pt x="1679" y="5692"/>
                  </a:lnTo>
                  <a:lnTo>
                    <a:pt x="1700" y="5706"/>
                  </a:lnTo>
                  <a:lnTo>
                    <a:pt x="1720" y="5722"/>
                  </a:lnTo>
                  <a:lnTo>
                    <a:pt x="1739" y="5738"/>
                  </a:lnTo>
                  <a:lnTo>
                    <a:pt x="1757" y="5754"/>
                  </a:lnTo>
                  <a:lnTo>
                    <a:pt x="1774" y="5774"/>
                  </a:lnTo>
                  <a:lnTo>
                    <a:pt x="1790" y="5792"/>
                  </a:lnTo>
                  <a:lnTo>
                    <a:pt x="1803" y="5812"/>
                  </a:lnTo>
                  <a:lnTo>
                    <a:pt x="1814" y="5832"/>
                  </a:lnTo>
                  <a:lnTo>
                    <a:pt x="1823" y="5893"/>
                  </a:lnTo>
                  <a:lnTo>
                    <a:pt x="1766" y="5906"/>
                  </a:lnTo>
                  <a:lnTo>
                    <a:pt x="1750" y="5895"/>
                  </a:lnTo>
                  <a:lnTo>
                    <a:pt x="1704" y="5879"/>
                  </a:lnTo>
                  <a:lnTo>
                    <a:pt x="1453" y="5833"/>
                  </a:lnTo>
                  <a:lnTo>
                    <a:pt x="1378" y="5823"/>
                  </a:lnTo>
                  <a:lnTo>
                    <a:pt x="1330" y="5816"/>
                  </a:lnTo>
                  <a:lnTo>
                    <a:pt x="1272" y="5816"/>
                  </a:lnTo>
                  <a:lnTo>
                    <a:pt x="1244" y="5834"/>
                  </a:lnTo>
                  <a:lnTo>
                    <a:pt x="1148" y="6010"/>
                  </a:lnTo>
                  <a:lnTo>
                    <a:pt x="1026" y="6253"/>
                  </a:lnTo>
                  <a:lnTo>
                    <a:pt x="1055" y="6238"/>
                  </a:lnTo>
                  <a:lnTo>
                    <a:pt x="1083" y="6222"/>
                  </a:lnTo>
                  <a:lnTo>
                    <a:pt x="1112" y="6207"/>
                  </a:lnTo>
                  <a:lnTo>
                    <a:pt x="1142" y="6194"/>
                  </a:lnTo>
                  <a:lnTo>
                    <a:pt x="1172" y="6180"/>
                  </a:lnTo>
                  <a:lnTo>
                    <a:pt x="1203" y="6169"/>
                  </a:lnTo>
                  <a:lnTo>
                    <a:pt x="1236" y="6158"/>
                  </a:lnTo>
                  <a:lnTo>
                    <a:pt x="1267" y="6147"/>
                  </a:lnTo>
                  <a:lnTo>
                    <a:pt x="1301" y="6137"/>
                  </a:lnTo>
                  <a:lnTo>
                    <a:pt x="1333" y="6128"/>
                  </a:lnTo>
                  <a:lnTo>
                    <a:pt x="1367" y="6120"/>
                  </a:lnTo>
                  <a:lnTo>
                    <a:pt x="1403" y="6112"/>
                  </a:lnTo>
                  <a:lnTo>
                    <a:pt x="1438" y="6105"/>
                  </a:lnTo>
                  <a:lnTo>
                    <a:pt x="1473" y="6098"/>
                  </a:lnTo>
                  <a:lnTo>
                    <a:pt x="1509" y="6094"/>
                  </a:lnTo>
                  <a:lnTo>
                    <a:pt x="1546" y="6088"/>
                  </a:lnTo>
                  <a:lnTo>
                    <a:pt x="1584" y="6084"/>
                  </a:lnTo>
                  <a:lnTo>
                    <a:pt x="1621" y="6080"/>
                  </a:lnTo>
                  <a:lnTo>
                    <a:pt x="1659" y="6077"/>
                  </a:lnTo>
                  <a:lnTo>
                    <a:pt x="1698" y="6075"/>
                  </a:lnTo>
                  <a:lnTo>
                    <a:pt x="1737" y="6073"/>
                  </a:lnTo>
                  <a:lnTo>
                    <a:pt x="1776" y="6071"/>
                  </a:lnTo>
                  <a:lnTo>
                    <a:pt x="1817" y="6071"/>
                  </a:lnTo>
                  <a:lnTo>
                    <a:pt x="1857" y="6070"/>
                  </a:lnTo>
                  <a:lnTo>
                    <a:pt x="1898" y="6071"/>
                  </a:lnTo>
                  <a:lnTo>
                    <a:pt x="1939" y="6071"/>
                  </a:lnTo>
                  <a:lnTo>
                    <a:pt x="1981" y="6073"/>
                  </a:lnTo>
                  <a:lnTo>
                    <a:pt x="2023" y="6075"/>
                  </a:lnTo>
                  <a:lnTo>
                    <a:pt x="2066" y="6077"/>
                  </a:lnTo>
                  <a:lnTo>
                    <a:pt x="2109" y="6079"/>
                  </a:lnTo>
                  <a:lnTo>
                    <a:pt x="2152" y="6083"/>
                  </a:lnTo>
                  <a:lnTo>
                    <a:pt x="2196" y="6086"/>
                  </a:lnTo>
                  <a:lnTo>
                    <a:pt x="2445" y="6132"/>
                  </a:lnTo>
                  <a:lnTo>
                    <a:pt x="2850" y="6314"/>
                  </a:lnTo>
                  <a:lnTo>
                    <a:pt x="3004" y="6406"/>
                  </a:lnTo>
                  <a:lnTo>
                    <a:pt x="2983" y="6412"/>
                  </a:lnTo>
                  <a:lnTo>
                    <a:pt x="2755" y="6351"/>
                  </a:lnTo>
                  <a:lnTo>
                    <a:pt x="2670" y="6339"/>
                  </a:lnTo>
                  <a:lnTo>
                    <a:pt x="2368" y="6311"/>
                  </a:lnTo>
                  <a:lnTo>
                    <a:pt x="2316" y="6337"/>
                  </a:lnTo>
                  <a:lnTo>
                    <a:pt x="2306" y="6350"/>
                  </a:lnTo>
                  <a:lnTo>
                    <a:pt x="2295" y="6366"/>
                  </a:lnTo>
                  <a:lnTo>
                    <a:pt x="2287" y="6382"/>
                  </a:lnTo>
                  <a:lnTo>
                    <a:pt x="2278" y="6397"/>
                  </a:lnTo>
                  <a:lnTo>
                    <a:pt x="2268" y="6411"/>
                  </a:lnTo>
                  <a:lnTo>
                    <a:pt x="2256" y="6423"/>
                  </a:lnTo>
                  <a:lnTo>
                    <a:pt x="2242" y="6433"/>
                  </a:lnTo>
                  <a:lnTo>
                    <a:pt x="2225" y="6439"/>
                  </a:lnTo>
                  <a:lnTo>
                    <a:pt x="2206" y="6449"/>
                  </a:lnTo>
                  <a:lnTo>
                    <a:pt x="2187" y="6458"/>
                  </a:lnTo>
                  <a:lnTo>
                    <a:pt x="2167" y="6466"/>
                  </a:lnTo>
                  <a:lnTo>
                    <a:pt x="2148" y="6474"/>
                  </a:lnTo>
                  <a:lnTo>
                    <a:pt x="2127" y="6480"/>
                  </a:lnTo>
                  <a:lnTo>
                    <a:pt x="2105" y="6486"/>
                  </a:lnTo>
                  <a:lnTo>
                    <a:pt x="2083" y="6491"/>
                  </a:lnTo>
                  <a:lnTo>
                    <a:pt x="2061" y="6494"/>
                  </a:lnTo>
                  <a:lnTo>
                    <a:pt x="2037" y="6497"/>
                  </a:lnTo>
                  <a:lnTo>
                    <a:pt x="2012" y="6498"/>
                  </a:lnTo>
                  <a:lnTo>
                    <a:pt x="1988" y="6498"/>
                  </a:lnTo>
                  <a:lnTo>
                    <a:pt x="1963" y="6497"/>
                  </a:lnTo>
                  <a:lnTo>
                    <a:pt x="1937" y="6494"/>
                  </a:lnTo>
                  <a:lnTo>
                    <a:pt x="1909" y="6489"/>
                  </a:lnTo>
                  <a:lnTo>
                    <a:pt x="1881" y="6484"/>
                  </a:lnTo>
                  <a:lnTo>
                    <a:pt x="1852" y="6476"/>
                  </a:lnTo>
                  <a:lnTo>
                    <a:pt x="1827" y="6467"/>
                  </a:lnTo>
                  <a:lnTo>
                    <a:pt x="1803" y="6460"/>
                  </a:lnTo>
                  <a:lnTo>
                    <a:pt x="1779" y="6452"/>
                  </a:lnTo>
                  <a:lnTo>
                    <a:pt x="1756" y="6447"/>
                  </a:lnTo>
                  <a:lnTo>
                    <a:pt x="1731" y="6441"/>
                  </a:lnTo>
                  <a:lnTo>
                    <a:pt x="1707" y="6437"/>
                  </a:lnTo>
                  <a:lnTo>
                    <a:pt x="1684" y="6433"/>
                  </a:lnTo>
                  <a:lnTo>
                    <a:pt x="1661" y="6430"/>
                  </a:lnTo>
                  <a:lnTo>
                    <a:pt x="1636" y="6428"/>
                  </a:lnTo>
                  <a:lnTo>
                    <a:pt x="1612" y="6424"/>
                  </a:lnTo>
                  <a:lnTo>
                    <a:pt x="1588" y="6423"/>
                  </a:lnTo>
                  <a:lnTo>
                    <a:pt x="1563" y="6421"/>
                  </a:lnTo>
                  <a:lnTo>
                    <a:pt x="1537" y="6420"/>
                  </a:lnTo>
                  <a:lnTo>
                    <a:pt x="1511" y="6419"/>
                  </a:lnTo>
                  <a:lnTo>
                    <a:pt x="1485" y="6419"/>
                  </a:lnTo>
                  <a:lnTo>
                    <a:pt x="1457" y="6418"/>
                  </a:lnTo>
                  <a:lnTo>
                    <a:pt x="1426" y="6420"/>
                  </a:lnTo>
                  <a:lnTo>
                    <a:pt x="1396" y="6422"/>
                  </a:lnTo>
                  <a:lnTo>
                    <a:pt x="1365" y="6424"/>
                  </a:lnTo>
                  <a:lnTo>
                    <a:pt x="1335" y="6427"/>
                  </a:lnTo>
                  <a:lnTo>
                    <a:pt x="1305" y="6429"/>
                  </a:lnTo>
                  <a:lnTo>
                    <a:pt x="1275" y="6432"/>
                  </a:lnTo>
                  <a:lnTo>
                    <a:pt x="1245" y="6436"/>
                  </a:lnTo>
                  <a:lnTo>
                    <a:pt x="1216" y="6439"/>
                  </a:lnTo>
                  <a:lnTo>
                    <a:pt x="1189" y="6443"/>
                  </a:lnTo>
                  <a:lnTo>
                    <a:pt x="1161" y="6449"/>
                  </a:lnTo>
                  <a:lnTo>
                    <a:pt x="1134" y="6455"/>
                  </a:lnTo>
                  <a:lnTo>
                    <a:pt x="1108" y="6461"/>
                  </a:lnTo>
                  <a:lnTo>
                    <a:pt x="1083" y="6469"/>
                  </a:lnTo>
                  <a:lnTo>
                    <a:pt x="1060" y="6479"/>
                  </a:lnTo>
                  <a:lnTo>
                    <a:pt x="1036" y="6489"/>
                  </a:lnTo>
                  <a:lnTo>
                    <a:pt x="1014" y="6501"/>
                  </a:lnTo>
                  <a:lnTo>
                    <a:pt x="1000" y="6511"/>
                  </a:lnTo>
                  <a:lnTo>
                    <a:pt x="986" y="6521"/>
                  </a:lnTo>
                  <a:lnTo>
                    <a:pt x="973" y="6532"/>
                  </a:lnTo>
                  <a:lnTo>
                    <a:pt x="959" y="6543"/>
                  </a:lnTo>
                  <a:lnTo>
                    <a:pt x="948" y="6555"/>
                  </a:lnTo>
                  <a:lnTo>
                    <a:pt x="936" y="6565"/>
                  </a:lnTo>
                  <a:lnTo>
                    <a:pt x="924" y="6576"/>
                  </a:lnTo>
                  <a:lnTo>
                    <a:pt x="911" y="6586"/>
                  </a:lnTo>
                  <a:lnTo>
                    <a:pt x="900" y="6596"/>
                  </a:lnTo>
                  <a:lnTo>
                    <a:pt x="887" y="6606"/>
                  </a:lnTo>
                  <a:lnTo>
                    <a:pt x="873" y="6614"/>
                  </a:lnTo>
                  <a:lnTo>
                    <a:pt x="859" y="6622"/>
                  </a:lnTo>
                  <a:lnTo>
                    <a:pt x="844" y="6629"/>
                  </a:lnTo>
                  <a:lnTo>
                    <a:pt x="827" y="6634"/>
                  </a:lnTo>
                  <a:lnTo>
                    <a:pt x="808" y="6639"/>
                  </a:lnTo>
                  <a:lnTo>
                    <a:pt x="789" y="6641"/>
                  </a:lnTo>
                  <a:lnTo>
                    <a:pt x="678" y="6768"/>
                  </a:lnTo>
                  <a:lnTo>
                    <a:pt x="623" y="6826"/>
                  </a:lnTo>
                  <a:lnTo>
                    <a:pt x="614" y="6845"/>
                  </a:lnTo>
                  <a:lnTo>
                    <a:pt x="600" y="6876"/>
                  </a:lnTo>
                  <a:lnTo>
                    <a:pt x="519" y="6940"/>
                  </a:lnTo>
                  <a:lnTo>
                    <a:pt x="421" y="6974"/>
                  </a:lnTo>
                  <a:lnTo>
                    <a:pt x="248" y="7046"/>
                  </a:lnTo>
                  <a:lnTo>
                    <a:pt x="227" y="7044"/>
                  </a:lnTo>
                  <a:lnTo>
                    <a:pt x="236" y="7032"/>
                  </a:lnTo>
                  <a:lnTo>
                    <a:pt x="245" y="7022"/>
                  </a:lnTo>
                  <a:lnTo>
                    <a:pt x="256" y="7012"/>
                  </a:lnTo>
                  <a:lnTo>
                    <a:pt x="268" y="7001"/>
                  </a:lnTo>
                  <a:lnTo>
                    <a:pt x="278" y="6990"/>
                  </a:lnTo>
                  <a:lnTo>
                    <a:pt x="291" y="6976"/>
                  </a:lnTo>
                  <a:lnTo>
                    <a:pt x="303" y="6960"/>
                  </a:lnTo>
                  <a:lnTo>
                    <a:pt x="316" y="69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695280" y="4352760"/>
              <a:ext cx="543960" cy="704520"/>
            </a:xfrm>
            <a:custGeom>
              <a:avLst/>
              <a:gdLst/>
              <a:ahLst/>
              <a:rect l="l" t="t" r="r" b="b"/>
              <a:pathLst>
                <a:path w="1306" h="1949">
                  <a:moveTo>
                    <a:pt x="57" y="1949"/>
                  </a:moveTo>
                  <a:lnTo>
                    <a:pt x="70" y="1937"/>
                  </a:lnTo>
                  <a:lnTo>
                    <a:pt x="84" y="1923"/>
                  </a:lnTo>
                  <a:lnTo>
                    <a:pt x="100" y="1910"/>
                  </a:lnTo>
                  <a:lnTo>
                    <a:pt x="117" y="1895"/>
                  </a:lnTo>
                  <a:lnTo>
                    <a:pt x="134" y="1882"/>
                  </a:lnTo>
                  <a:lnTo>
                    <a:pt x="152" y="1869"/>
                  </a:lnTo>
                  <a:lnTo>
                    <a:pt x="169" y="1859"/>
                  </a:lnTo>
                  <a:lnTo>
                    <a:pt x="185" y="1851"/>
                  </a:lnTo>
                  <a:lnTo>
                    <a:pt x="250" y="1785"/>
                  </a:lnTo>
                  <a:lnTo>
                    <a:pt x="312" y="1716"/>
                  </a:lnTo>
                  <a:lnTo>
                    <a:pt x="372" y="1645"/>
                  </a:lnTo>
                  <a:lnTo>
                    <a:pt x="430" y="1570"/>
                  </a:lnTo>
                  <a:lnTo>
                    <a:pt x="484" y="1495"/>
                  </a:lnTo>
                  <a:lnTo>
                    <a:pt x="538" y="1416"/>
                  </a:lnTo>
                  <a:lnTo>
                    <a:pt x="590" y="1337"/>
                  </a:lnTo>
                  <a:lnTo>
                    <a:pt x="641" y="1256"/>
                  </a:lnTo>
                  <a:lnTo>
                    <a:pt x="689" y="1174"/>
                  </a:lnTo>
                  <a:lnTo>
                    <a:pt x="737" y="1089"/>
                  </a:lnTo>
                  <a:lnTo>
                    <a:pt x="785" y="1005"/>
                  </a:lnTo>
                  <a:lnTo>
                    <a:pt x="831" y="920"/>
                  </a:lnTo>
                  <a:lnTo>
                    <a:pt x="878" y="834"/>
                  </a:lnTo>
                  <a:lnTo>
                    <a:pt x="925" y="748"/>
                  </a:lnTo>
                  <a:lnTo>
                    <a:pt x="970" y="661"/>
                  </a:lnTo>
                  <a:lnTo>
                    <a:pt x="1017" y="575"/>
                  </a:lnTo>
                  <a:lnTo>
                    <a:pt x="1297" y="28"/>
                  </a:lnTo>
                  <a:lnTo>
                    <a:pt x="1306" y="0"/>
                  </a:lnTo>
                  <a:lnTo>
                    <a:pt x="955" y="570"/>
                  </a:lnTo>
                  <a:lnTo>
                    <a:pt x="931" y="591"/>
                  </a:lnTo>
                  <a:lnTo>
                    <a:pt x="549" y="1166"/>
                  </a:lnTo>
                  <a:lnTo>
                    <a:pt x="527" y="1193"/>
                  </a:lnTo>
                  <a:lnTo>
                    <a:pt x="502" y="1223"/>
                  </a:lnTo>
                  <a:lnTo>
                    <a:pt x="478" y="1252"/>
                  </a:lnTo>
                  <a:lnTo>
                    <a:pt x="383" y="1398"/>
                  </a:lnTo>
                  <a:lnTo>
                    <a:pt x="360" y="1421"/>
                  </a:lnTo>
                  <a:lnTo>
                    <a:pt x="101" y="1823"/>
                  </a:lnTo>
                  <a:lnTo>
                    <a:pt x="0" y="1909"/>
                  </a:lnTo>
                  <a:lnTo>
                    <a:pt x="57" y="194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442640" y="4767480"/>
              <a:ext cx="204840" cy="32760"/>
            </a:xfrm>
            <a:custGeom>
              <a:avLst/>
              <a:gdLst/>
              <a:ahLst/>
              <a:rect l="l" t="t" r="r" b="b"/>
              <a:pathLst>
                <a:path w="494" h="91">
                  <a:moveTo>
                    <a:pt x="488" y="86"/>
                  </a:moveTo>
                  <a:lnTo>
                    <a:pt x="248" y="91"/>
                  </a:lnTo>
                  <a:lnTo>
                    <a:pt x="139" y="50"/>
                  </a:lnTo>
                  <a:lnTo>
                    <a:pt x="122" y="45"/>
                  </a:lnTo>
                  <a:lnTo>
                    <a:pt x="105" y="40"/>
                  </a:lnTo>
                  <a:lnTo>
                    <a:pt x="86" y="35"/>
                  </a:lnTo>
                  <a:lnTo>
                    <a:pt x="70" y="28"/>
                  </a:lnTo>
                  <a:lnTo>
                    <a:pt x="51" y="22"/>
                  </a:lnTo>
                  <a:lnTo>
                    <a:pt x="34" y="17"/>
                  </a:lnTo>
                  <a:lnTo>
                    <a:pt x="17" y="12"/>
                  </a:lnTo>
                  <a:lnTo>
                    <a:pt x="0" y="7"/>
                  </a:lnTo>
                  <a:lnTo>
                    <a:pt x="30" y="3"/>
                  </a:lnTo>
                  <a:lnTo>
                    <a:pt x="60" y="1"/>
                  </a:lnTo>
                  <a:lnTo>
                    <a:pt x="92" y="0"/>
                  </a:lnTo>
                  <a:lnTo>
                    <a:pt x="123" y="0"/>
                  </a:lnTo>
                  <a:lnTo>
                    <a:pt x="154" y="2"/>
                  </a:lnTo>
                  <a:lnTo>
                    <a:pt x="187" y="5"/>
                  </a:lnTo>
                  <a:lnTo>
                    <a:pt x="218" y="9"/>
                  </a:lnTo>
                  <a:lnTo>
                    <a:pt x="251" y="14"/>
                  </a:lnTo>
                  <a:lnTo>
                    <a:pt x="283" y="20"/>
                  </a:lnTo>
                  <a:lnTo>
                    <a:pt x="315" y="27"/>
                  </a:lnTo>
                  <a:lnTo>
                    <a:pt x="346" y="34"/>
                  </a:lnTo>
                  <a:lnTo>
                    <a:pt x="377" y="41"/>
                  </a:lnTo>
                  <a:lnTo>
                    <a:pt x="407" y="49"/>
                  </a:lnTo>
                  <a:lnTo>
                    <a:pt x="437" y="57"/>
                  </a:lnTo>
                  <a:lnTo>
                    <a:pt x="466" y="65"/>
                  </a:lnTo>
                  <a:lnTo>
                    <a:pt x="494" y="74"/>
                  </a:lnTo>
                  <a:lnTo>
                    <a:pt x="488" y="86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053840" y="4771080"/>
              <a:ext cx="463680" cy="90720"/>
            </a:xfrm>
            <a:custGeom>
              <a:avLst/>
              <a:gdLst/>
              <a:ahLst/>
              <a:rect l="l" t="t" r="r" b="b"/>
              <a:pathLst>
                <a:path w="1110" h="252">
                  <a:moveTo>
                    <a:pt x="993" y="212"/>
                  </a:moveTo>
                  <a:lnTo>
                    <a:pt x="816" y="252"/>
                  </a:lnTo>
                  <a:lnTo>
                    <a:pt x="588" y="191"/>
                  </a:lnTo>
                  <a:lnTo>
                    <a:pt x="543" y="189"/>
                  </a:lnTo>
                  <a:lnTo>
                    <a:pt x="516" y="184"/>
                  </a:lnTo>
                  <a:lnTo>
                    <a:pt x="489" y="181"/>
                  </a:lnTo>
                  <a:lnTo>
                    <a:pt x="461" y="177"/>
                  </a:lnTo>
                  <a:lnTo>
                    <a:pt x="434" y="174"/>
                  </a:lnTo>
                  <a:lnTo>
                    <a:pt x="407" y="172"/>
                  </a:lnTo>
                  <a:lnTo>
                    <a:pt x="381" y="169"/>
                  </a:lnTo>
                  <a:lnTo>
                    <a:pt x="353" y="168"/>
                  </a:lnTo>
                  <a:lnTo>
                    <a:pt x="327" y="167"/>
                  </a:lnTo>
                  <a:lnTo>
                    <a:pt x="301" y="166"/>
                  </a:lnTo>
                  <a:lnTo>
                    <a:pt x="275" y="166"/>
                  </a:lnTo>
                  <a:lnTo>
                    <a:pt x="250" y="167"/>
                  </a:lnTo>
                  <a:lnTo>
                    <a:pt x="226" y="168"/>
                  </a:lnTo>
                  <a:lnTo>
                    <a:pt x="202" y="171"/>
                  </a:lnTo>
                  <a:lnTo>
                    <a:pt x="177" y="173"/>
                  </a:lnTo>
                  <a:lnTo>
                    <a:pt x="155" y="176"/>
                  </a:lnTo>
                  <a:lnTo>
                    <a:pt x="133" y="180"/>
                  </a:lnTo>
                  <a:lnTo>
                    <a:pt x="0" y="182"/>
                  </a:lnTo>
                  <a:lnTo>
                    <a:pt x="35" y="153"/>
                  </a:lnTo>
                  <a:lnTo>
                    <a:pt x="246" y="56"/>
                  </a:lnTo>
                  <a:lnTo>
                    <a:pt x="278" y="51"/>
                  </a:lnTo>
                  <a:lnTo>
                    <a:pt x="308" y="47"/>
                  </a:lnTo>
                  <a:lnTo>
                    <a:pt x="338" y="43"/>
                  </a:lnTo>
                  <a:lnTo>
                    <a:pt x="366" y="37"/>
                  </a:lnTo>
                  <a:lnTo>
                    <a:pt x="395" y="31"/>
                  </a:lnTo>
                  <a:lnTo>
                    <a:pt x="424" y="26"/>
                  </a:lnTo>
                  <a:lnTo>
                    <a:pt x="452" y="20"/>
                  </a:lnTo>
                  <a:lnTo>
                    <a:pt x="481" y="14"/>
                  </a:lnTo>
                  <a:lnTo>
                    <a:pt x="510" y="10"/>
                  </a:lnTo>
                  <a:lnTo>
                    <a:pt x="538" y="7"/>
                  </a:lnTo>
                  <a:lnTo>
                    <a:pt x="568" y="3"/>
                  </a:lnTo>
                  <a:lnTo>
                    <a:pt x="600" y="1"/>
                  </a:lnTo>
                  <a:lnTo>
                    <a:pt x="631" y="0"/>
                  </a:lnTo>
                  <a:lnTo>
                    <a:pt x="663" y="0"/>
                  </a:lnTo>
                  <a:lnTo>
                    <a:pt x="699" y="1"/>
                  </a:lnTo>
                  <a:lnTo>
                    <a:pt x="734" y="4"/>
                  </a:lnTo>
                  <a:lnTo>
                    <a:pt x="872" y="48"/>
                  </a:lnTo>
                  <a:lnTo>
                    <a:pt x="1075" y="110"/>
                  </a:lnTo>
                  <a:lnTo>
                    <a:pt x="1110" y="131"/>
                  </a:lnTo>
                  <a:lnTo>
                    <a:pt x="993" y="212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138800" y="4580640"/>
              <a:ext cx="124920" cy="39600"/>
            </a:xfrm>
            <a:custGeom>
              <a:avLst/>
              <a:gdLst/>
              <a:ahLst/>
              <a:rect l="l" t="t" r="r" b="b"/>
              <a:pathLst>
                <a:path w="299" h="110">
                  <a:moveTo>
                    <a:pt x="299" y="110"/>
                  </a:moveTo>
                  <a:lnTo>
                    <a:pt x="280" y="108"/>
                  </a:lnTo>
                  <a:lnTo>
                    <a:pt x="260" y="104"/>
                  </a:lnTo>
                  <a:lnTo>
                    <a:pt x="239" y="102"/>
                  </a:lnTo>
                  <a:lnTo>
                    <a:pt x="220" y="100"/>
                  </a:lnTo>
                  <a:lnTo>
                    <a:pt x="200" y="97"/>
                  </a:lnTo>
                  <a:lnTo>
                    <a:pt x="181" y="96"/>
                  </a:lnTo>
                  <a:lnTo>
                    <a:pt x="161" y="94"/>
                  </a:lnTo>
                  <a:lnTo>
                    <a:pt x="142" y="93"/>
                  </a:lnTo>
                  <a:lnTo>
                    <a:pt x="122" y="92"/>
                  </a:lnTo>
                  <a:lnTo>
                    <a:pt x="103" y="92"/>
                  </a:lnTo>
                  <a:lnTo>
                    <a:pt x="84" y="92"/>
                  </a:lnTo>
                  <a:lnTo>
                    <a:pt x="66" y="93"/>
                  </a:lnTo>
                  <a:lnTo>
                    <a:pt x="49" y="94"/>
                  </a:lnTo>
                  <a:lnTo>
                    <a:pt x="32" y="96"/>
                  </a:lnTo>
                  <a:lnTo>
                    <a:pt x="15" y="100"/>
                  </a:lnTo>
                  <a:lnTo>
                    <a:pt x="0" y="103"/>
                  </a:lnTo>
                  <a:lnTo>
                    <a:pt x="23" y="0"/>
                  </a:lnTo>
                  <a:lnTo>
                    <a:pt x="105" y="28"/>
                  </a:lnTo>
                  <a:lnTo>
                    <a:pt x="161" y="45"/>
                  </a:lnTo>
                  <a:lnTo>
                    <a:pt x="299" y="1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654960" y="4533840"/>
              <a:ext cx="390240" cy="99360"/>
            </a:xfrm>
            <a:custGeom>
              <a:avLst/>
              <a:gdLst/>
              <a:ahLst/>
              <a:rect l="l" t="t" r="r" b="b"/>
              <a:pathLst>
                <a:path w="937" h="275">
                  <a:moveTo>
                    <a:pt x="787" y="275"/>
                  </a:moveTo>
                  <a:lnTo>
                    <a:pt x="779" y="258"/>
                  </a:lnTo>
                  <a:lnTo>
                    <a:pt x="771" y="241"/>
                  </a:lnTo>
                  <a:lnTo>
                    <a:pt x="761" y="226"/>
                  </a:lnTo>
                  <a:lnTo>
                    <a:pt x="749" y="211"/>
                  </a:lnTo>
                  <a:lnTo>
                    <a:pt x="737" y="198"/>
                  </a:lnTo>
                  <a:lnTo>
                    <a:pt x="723" y="184"/>
                  </a:lnTo>
                  <a:lnTo>
                    <a:pt x="707" y="172"/>
                  </a:lnTo>
                  <a:lnTo>
                    <a:pt x="690" y="160"/>
                  </a:lnTo>
                  <a:lnTo>
                    <a:pt x="672" y="150"/>
                  </a:lnTo>
                  <a:lnTo>
                    <a:pt x="651" y="140"/>
                  </a:lnTo>
                  <a:lnTo>
                    <a:pt x="629" y="132"/>
                  </a:lnTo>
                  <a:lnTo>
                    <a:pt x="606" y="124"/>
                  </a:lnTo>
                  <a:lnTo>
                    <a:pt x="580" y="118"/>
                  </a:lnTo>
                  <a:lnTo>
                    <a:pt x="552" y="112"/>
                  </a:lnTo>
                  <a:lnTo>
                    <a:pt x="522" y="108"/>
                  </a:lnTo>
                  <a:lnTo>
                    <a:pt x="491" y="104"/>
                  </a:lnTo>
                  <a:lnTo>
                    <a:pt x="47" y="115"/>
                  </a:lnTo>
                  <a:lnTo>
                    <a:pt x="0" y="109"/>
                  </a:lnTo>
                  <a:lnTo>
                    <a:pt x="168" y="39"/>
                  </a:lnTo>
                  <a:lnTo>
                    <a:pt x="223" y="26"/>
                  </a:lnTo>
                  <a:lnTo>
                    <a:pt x="564" y="0"/>
                  </a:lnTo>
                  <a:lnTo>
                    <a:pt x="856" y="37"/>
                  </a:lnTo>
                  <a:lnTo>
                    <a:pt x="873" y="48"/>
                  </a:lnTo>
                  <a:lnTo>
                    <a:pt x="937" y="42"/>
                  </a:lnTo>
                  <a:lnTo>
                    <a:pt x="787" y="275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250760" y="4320000"/>
              <a:ext cx="9720" cy="50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18"/>
                  </a:moveTo>
                  <a:lnTo>
                    <a:pt x="2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260840" y="4171320"/>
              <a:ext cx="88200" cy="138960"/>
            </a:xfrm>
            <a:custGeom>
              <a:avLst/>
              <a:gdLst/>
              <a:ahLst/>
              <a:rect l="l" t="t" r="r" b="b"/>
              <a:pathLst>
                <a:path w="214" h="388">
                  <a:moveTo>
                    <a:pt x="0" y="388"/>
                  </a:moveTo>
                  <a:lnTo>
                    <a:pt x="9" y="370"/>
                  </a:lnTo>
                  <a:lnTo>
                    <a:pt x="20" y="333"/>
                  </a:lnTo>
                  <a:lnTo>
                    <a:pt x="35" y="302"/>
                  </a:lnTo>
                  <a:lnTo>
                    <a:pt x="59" y="279"/>
                  </a:lnTo>
                  <a:lnTo>
                    <a:pt x="75" y="248"/>
                  </a:lnTo>
                  <a:lnTo>
                    <a:pt x="98" y="176"/>
                  </a:lnTo>
                  <a:lnTo>
                    <a:pt x="153" y="10"/>
                  </a:lnTo>
                  <a:lnTo>
                    <a:pt x="168" y="0"/>
                  </a:lnTo>
                  <a:lnTo>
                    <a:pt x="188" y="3"/>
                  </a:lnTo>
                  <a:lnTo>
                    <a:pt x="201" y="9"/>
                  </a:lnTo>
                  <a:lnTo>
                    <a:pt x="214" y="24"/>
                  </a:lnTo>
                  <a:lnTo>
                    <a:pt x="210" y="69"/>
                  </a:lnTo>
                  <a:lnTo>
                    <a:pt x="69" y="280"/>
                  </a:lnTo>
                  <a:lnTo>
                    <a:pt x="56" y="317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54080" y="4026600"/>
              <a:ext cx="216720" cy="148320"/>
            </a:xfrm>
            <a:custGeom>
              <a:avLst/>
              <a:gdLst/>
              <a:ahLst/>
              <a:rect l="l" t="t" r="r" b="b"/>
              <a:pathLst>
                <a:path w="517" h="410">
                  <a:moveTo>
                    <a:pt x="384" y="385"/>
                  </a:moveTo>
                  <a:lnTo>
                    <a:pt x="262" y="410"/>
                  </a:lnTo>
                  <a:lnTo>
                    <a:pt x="80" y="394"/>
                  </a:lnTo>
                  <a:lnTo>
                    <a:pt x="15" y="355"/>
                  </a:lnTo>
                  <a:lnTo>
                    <a:pt x="1" y="350"/>
                  </a:lnTo>
                  <a:lnTo>
                    <a:pt x="0" y="307"/>
                  </a:lnTo>
                  <a:lnTo>
                    <a:pt x="74" y="265"/>
                  </a:lnTo>
                  <a:lnTo>
                    <a:pt x="86" y="209"/>
                  </a:lnTo>
                  <a:lnTo>
                    <a:pt x="43" y="150"/>
                  </a:lnTo>
                  <a:lnTo>
                    <a:pt x="117" y="140"/>
                  </a:lnTo>
                  <a:lnTo>
                    <a:pt x="229" y="163"/>
                  </a:lnTo>
                  <a:lnTo>
                    <a:pt x="305" y="122"/>
                  </a:lnTo>
                  <a:lnTo>
                    <a:pt x="315" y="95"/>
                  </a:lnTo>
                  <a:lnTo>
                    <a:pt x="323" y="24"/>
                  </a:lnTo>
                  <a:lnTo>
                    <a:pt x="337" y="0"/>
                  </a:lnTo>
                  <a:lnTo>
                    <a:pt x="414" y="62"/>
                  </a:lnTo>
                  <a:lnTo>
                    <a:pt x="458" y="64"/>
                  </a:lnTo>
                  <a:lnTo>
                    <a:pt x="471" y="82"/>
                  </a:lnTo>
                  <a:lnTo>
                    <a:pt x="484" y="100"/>
                  </a:lnTo>
                  <a:lnTo>
                    <a:pt x="495" y="118"/>
                  </a:lnTo>
                  <a:lnTo>
                    <a:pt x="504" y="139"/>
                  </a:lnTo>
                  <a:lnTo>
                    <a:pt x="510" y="160"/>
                  </a:lnTo>
                  <a:lnTo>
                    <a:pt x="516" y="183"/>
                  </a:lnTo>
                  <a:lnTo>
                    <a:pt x="517" y="208"/>
                  </a:lnTo>
                  <a:lnTo>
                    <a:pt x="517" y="235"/>
                  </a:lnTo>
                  <a:lnTo>
                    <a:pt x="508" y="263"/>
                  </a:lnTo>
                  <a:lnTo>
                    <a:pt x="478" y="261"/>
                  </a:lnTo>
                  <a:lnTo>
                    <a:pt x="448" y="259"/>
                  </a:lnTo>
                  <a:lnTo>
                    <a:pt x="418" y="259"/>
                  </a:lnTo>
                  <a:lnTo>
                    <a:pt x="389" y="258"/>
                  </a:lnTo>
                  <a:lnTo>
                    <a:pt x="361" y="258"/>
                  </a:lnTo>
                  <a:lnTo>
                    <a:pt x="333" y="259"/>
                  </a:lnTo>
                  <a:lnTo>
                    <a:pt x="306" y="260"/>
                  </a:lnTo>
                  <a:lnTo>
                    <a:pt x="280" y="262"/>
                  </a:lnTo>
                  <a:lnTo>
                    <a:pt x="254" y="264"/>
                  </a:lnTo>
                  <a:lnTo>
                    <a:pt x="228" y="268"/>
                  </a:lnTo>
                  <a:lnTo>
                    <a:pt x="203" y="272"/>
                  </a:lnTo>
                  <a:lnTo>
                    <a:pt x="178" y="277"/>
                  </a:lnTo>
                  <a:lnTo>
                    <a:pt x="155" y="282"/>
                  </a:lnTo>
                  <a:lnTo>
                    <a:pt x="131" y="288"/>
                  </a:lnTo>
                  <a:lnTo>
                    <a:pt x="109" y="295"/>
                  </a:lnTo>
                  <a:lnTo>
                    <a:pt x="87" y="303"/>
                  </a:lnTo>
                  <a:lnTo>
                    <a:pt x="90" y="345"/>
                  </a:lnTo>
                  <a:lnTo>
                    <a:pt x="109" y="348"/>
                  </a:lnTo>
                  <a:lnTo>
                    <a:pt x="209" y="357"/>
                  </a:lnTo>
                  <a:lnTo>
                    <a:pt x="332" y="345"/>
                  </a:lnTo>
                  <a:lnTo>
                    <a:pt x="384" y="355"/>
                  </a:lnTo>
                  <a:lnTo>
                    <a:pt x="384" y="3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561080" y="3879720"/>
              <a:ext cx="161640" cy="142920"/>
            </a:xfrm>
            <a:custGeom>
              <a:avLst/>
              <a:gdLst/>
              <a:ahLst/>
              <a:rect l="l" t="t" r="r" b="b"/>
              <a:pathLst>
                <a:path w="387" h="392">
                  <a:moveTo>
                    <a:pt x="206" y="385"/>
                  </a:moveTo>
                  <a:lnTo>
                    <a:pt x="0" y="392"/>
                  </a:lnTo>
                  <a:lnTo>
                    <a:pt x="17" y="353"/>
                  </a:lnTo>
                  <a:lnTo>
                    <a:pt x="70" y="298"/>
                  </a:lnTo>
                  <a:lnTo>
                    <a:pt x="108" y="180"/>
                  </a:lnTo>
                  <a:lnTo>
                    <a:pt x="129" y="145"/>
                  </a:lnTo>
                  <a:lnTo>
                    <a:pt x="143" y="92"/>
                  </a:lnTo>
                  <a:lnTo>
                    <a:pt x="267" y="0"/>
                  </a:lnTo>
                  <a:lnTo>
                    <a:pt x="369" y="140"/>
                  </a:lnTo>
                  <a:lnTo>
                    <a:pt x="387" y="171"/>
                  </a:lnTo>
                  <a:lnTo>
                    <a:pt x="307" y="257"/>
                  </a:lnTo>
                  <a:lnTo>
                    <a:pt x="288" y="284"/>
                  </a:lnTo>
                  <a:lnTo>
                    <a:pt x="241" y="349"/>
                  </a:lnTo>
                  <a:lnTo>
                    <a:pt x="234" y="362"/>
                  </a:lnTo>
                  <a:lnTo>
                    <a:pt x="206" y="385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664400" y="3941280"/>
              <a:ext cx="28080" cy="2700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3" y="79"/>
                  </a:moveTo>
                  <a:lnTo>
                    <a:pt x="29" y="74"/>
                  </a:lnTo>
                  <a:lnTo>
                    <a:pt x="0" y="19"/>
                  </a:lnTo>
                  <a:lnTo>
                    <a:pt x="8" y="8"/>
                  </a:lnTo>
                  <a:lnTo>
                    <a:pt x="42" y="0"/>
                  </a:lnTo>
                  <a:lnTo>
                    <a:pt x="64" y="16"/>
                  </a:lnTo>
                  <a:lnTo>
                    <a:pt x="69" y="62"/>
                  </a:lnTo>
                  <a:lnTo>
                    <a:pt x="3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119000" y="4068000"/>
              <a:ext cx="163800" cy="85320"/>
            </a:xfrm>
            <a:custGeom>
              <a:avLst/>
              <a:gdLst/>
              <a:ahLst/>
              <a:rect l="l" t="t" r="r" b="b"/>
              <a:pathLst>
                <a:path w="395" h="232">
                  <a:moveTo>
                    <a:pt x="352" y="216"/>
                  </a:moveTo>
                  <a:lnTo>
                    <a:pt x="306" y="231"/>
                  </a:lnTo>
                  <a:lnTo>
                    <a:pt x="280" y="232"/>
                  </a:lnTo>
                  <a:lnTo>
                    <a:pt x="257" y="231"/>
                  </a:lnTo>
                  <a:lnTo>
                    <a:pt x="233" y="227"/>
                  </a:lnTo>
                  <a:lnTo>
                    <a:pt x="212" y="222"/>
                  </a:lnTo>
                  <a:lnTo>
                    <a:pt x="193" y="215"/>
                  </a:lnTo>
                  <a:lnTo>
                    <a:pt x="173" y="207"/>
                  </a:lnTo>
                  <a:lnTo>
                    <a:pt x="155" y="199"/>
                  </a:lnTo>
                  <a:lnTo>
                    <a:pt x="138" y="190"/>
                  </a:lnTo>
                  <a:lnTo>
                    <a:pt x="61" y="100"/>
                  </a:lnTo>
                  <a:lnTo>
                    <a:pt x="26" y="57"/>
                  </a:lnTo>
                  <a:lnTo>
                    <a:pt x="0" y="38"/>
                  </a:lnTo>
                  <a:lnTo>
                    <a:pt x="40" y="26"/>
                  </a:lnTo>
                  <a:lnTo>
                    <a:pt x="95" y="0"/>
                  </a:lnTo>
                  <a:lnTo>
                    <a:pt x="122" y="33"/>
                  </a:lnTo>
                  <a:lnTo>
                    <a:pt x="146" y="61"/>
                  </a:lnTo>
                  <a:lnTo>
                    <a:pt x="264" y="89"/>
                  </a:lnTo>
                  <a:lnTo>
                    <a:pt x="280" y="101"/>
                  </a:lnTo>
                  <a:lnTo>
                    <a:pt x="395" y="196"/>
                  </a:lnTo>
                  <a:lnTo>
                    <a:pt x="352" y="21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197480" y="4010040"/>
              <a:ext cx="146520" cy="1065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332" y="258"/>
                  </a:moveTo>
                  <a:lnTo>
                    <a:pt x="312" y="234"/>
                  </a:lnTo>
                  <a:lnTo>
                    <a:pt x="238" y="295"/>
                  </a:lnTo>
                  <a:lnTo>
                    <a:pt x="224" y="284"/>
                  </a:lnTo>
                  <a:lnTo>
                    <a:pt x="211" y="271"/>
                  </a:lnTo>
                  <a:lnTo>
                    <a:pt x="198" y="260"/>
                  </a:lnTo>
                  <a:lnTo>
                    <a:pt x="185" y="249"/>
                  </a:lnTo>
                  <a:lnTo>
                    <a:pt x="173" y="236"/>
                  </a:lnTo>
                  <a:lnTo>
                    <a:pt x="160" y="225"/>
                  </a:lnTo>
                  <a:lnTo>
                    <a:pt x="148" y="214"/>
                  </a:lnTo>
                  <a:lnTo>
                    <a:pt x="135" y="203"/>
                  </a:lnTo>
                  <a:lnTo>
                    <a:pt x="122" y="192"/>
                  </a:lnTo>
                  <a:lnTo>
                    <a:pt x="108" y="182"/>
                  </a:lnTo>
                  <a:lnTo>
                    <a:pt x="92" y="172"/>
                  </a:lnTo>
                  <a:lnTo>
                    <a:pt x="76" y="163"/>
                  </a:lnTo>
                  <a:lnTo>
                    <a:pt x="59" y="154"/>
                  </a:lnTo>
                  <a:lnTo>
                    <a:pt x="41" y="146"/>
                  </a:lnTo>
                  <a:lnTo>
                    <a:pt x="22" y="139"/>
                  </a:lnTo>
                  <a:lnTo>
                    <a:pt x="0" y="132"/>
                  </a:lnTo>
                  <a:lnTo>
                    <a:pt x="165" y="0"/>
                  </a:lnTo>
                  <a:lnTo>
                    <a:pt x="321" y="207"/>
                  </a:lnTo>
                  <a:lnTo>
                    <a:pt x="341" y="208"/>
                  </a:lnTo>
                  <a:lnTo>
                    <a:pt x="353" y="252"/>
                  </a:lnTo>
                  <a:lnTo>
                    <a:pt x="332" y="25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419240" y="3749040"/>
              <a:ext cx="210240" cy="259200"/>
            </a:xfrm>
            <a:custGeom>
              <a:avLst/>
              <a:gdLst/>
              <a:ahLst/>
              <a:rect l="l" t="t" r="r" b="b"/>
              <a:pathLst>
                <a:path w="503" h="715">
                  <a:moveTo>
                    <a:pt x="216" y="715"/>
                  </a:moveTo>
                  <a:lnTo>
                    <a:pt x="208" y="706"/>
                  </a:lnTo>
                  <a:lnTo>
                    <a:pt x="216" y="636"/>
                  </a:lnTo>
                  <a:lnTo>
                    <a:pt x="224" y="565"/>
                  </a:lnTo>
                  <a:lnTo>
                    <a:pt x="268" y="537"/>
                  </a:lnTo>
                  <a:lnTo>
                    <a:pt x="245" y="517"/>
                  </a:lnTo>
                  <a:lnTo>
                    <a:pt x="224" y="497"/>
                  </a:lnTo>
                  <a:lnTo>
                    <a:pt x="206" y="474"/>
                  </a:lnTo>
                  <a:lnTo>
                    <a:pt x="189" y="451"/>
                  </a:lnTo>
                  <a:lnTo>
                    <a:pt x="173" y="426"/>
                  </a:lnTo>
                  <a:lnTo>
                    <a:pt x="159" y="401"/>
                  </a:lnTo>
                  <a:lnTo>
                    <a:pt x="146" y="375"/>
                  </a:lnTo>
                  <a:lnTo>
                    <a:pt x="134" y="348"/>
                  </a:lnTo>
                  <a:lnTo>
                    <a:pt x="121" y="321"/>
                  </a:lnTo>
                  <a:lnTo>
                    <a:pt x="109" y="294"/>
                  </a:lnTo>
                  <a:lnTo>
                    <a:pt x="99" y="268"/>
                  </a:lnTo>
                  <a:lnTo>
                    <a:pt x="86" y="241"/>
                  </a:lnTo>
                  <a:lnTo>
                    <a:pt x="74" y="214"/>
                  </a:lnTo>
                  <a:lnTo>
                    <a:pt x="61" y="188"/>
                  </a:lnTo>
                  <a:lnTo>
                    <a:pt x="47" y="161"/>
                  </a:lnTo>
                  <a:lnTo>
                    <a:pt x="31" y="136"/>
                  </a:lnTo>
                  <a:lnTo>
                    <a:pt x="0" y="98"/>
                  </a:lnTo>
                  <a:lnTo>
                    <a:pt x="108" y="0"/>
                  </a:lnTo>
                  <a:lnTo>
                    <a:pt x="311" y="198"/>
                  </a:lnTo>
                  <a:lnTo>
                    <a:pt x="483" y="272"/>
                  </a:lnTo>
                  <a:lnTo>
                    <a:pt x="503" y="296"/>
                  </a:lnTo>
                  <a:lnTo>
                    <a:pt x="422" y="441"/>
                  </a:lnTo>
                  <a:lnTo>
                    <a:pt x="389" y="461"/>
                  </a:lnTo>
                  <a:lnTo>
                    <a:pt x="365" y="483"/>
                  </a:lnTo>
                  <a:lnTo>
                    <a:pt x="355" y="532"/>
                  </a:lnTo>
                  <a:lnTo>
                    <a:pt x="216" y="71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82800" y="3935520"/>
              <a:ext cx="199800" cy="121320"/>
            </a:xfrm>
            <a:custGeom>
              <a:avLst/>
              <a:gdLst/>
              <a:ahLst/>
              <a:rect l="l" t="t" r="r" b="b"/>
              <a:pathLst>
                <a:path w="479" h="335">
                  <a:moveTo>
                    <a:pt x="319" y="335"/>
                  </a:moveTo>
                  <a:lnTo>
                    <a:pt x="114" y="331"/>
                  </a:lnTo>
                  <a:lnTo>
                    <a:pt x="94" y="315"/>
                  </a:lnTo>
                  <a:lnTo>
                    <a:pt x="0" y="113"/>
                  </a:lnTo>
                  <a:lnTo>
                    <a:pt x="19" y="111"/>
                  </a:lnTo>
                  <a:lnTo>
                    <a:pt x="39" y="109"/>
                  </a:lnTo>
                  <a:lnTo>
                    <a:pt x="58" y="105"/>
                  </a:lnTo>
                  <a:lnTo>
                    <a:pt x="77" y="102"/>
                  </a:lnTo>
                  <a:lnTo>
                    <a:pt x="94" y="99"/>
                  </a:lnTo>
                  <a:lnTo>
                    <a:pt x="112" y="94"/>
                  </a:lnTo>
                  <a:lnTo>
                    <a:pt x="129" y="88"/>
                  </a:lnTo>
                  <a:lnTo>
                    <a:pt x="144" y="83"/>
                  </a:lnTo>
                  <a:lnTo>
                    <a:pt x="160" y="77"/>
                  </a:lnTo>
                  <a:lnTo>
                    <a:pt x="176" y="72"/>
                  </a:lnTo>
                  <a:lnTo>
                    <a:pt x="191" y="65"/>
                  </a:lnTo>
                  <a:lnTo>
                    <a:pt x="206" y="57"/>
                  </a:lnTo>
                  <a:lnTo>
                    <a:pt x="219" y="49"/>
                  </a:lnTo>
                  <a:lnTo>
                    <a:pt x="233" y="41"/>
                  </a:lnTo>
                  <a:lnTo>
                    <a:pt x="246" y="32"/>
                  </a:lnTo>
                  <a:lnTo>
                    <a:pt x="259" y="23"/>
                  </a:lnTo>
                  <a:lnTo>
                    <a:pt x="273" y="0"/>
                  </a:lnTo>
                  <a:lnTo>
                    <a:pt x="479" y="95"/>
                  </a:lnTo>
                  <a:lnTo>
                    <a:pt x="451" y="120"/>
                  </a:lnTo>
                  <a:lnTo>
                    <a:pt x="413" y="166"/>
                  </a:lnTo>
                  <a:lnTo>
                    <a:pt x="350" y="321"/>
                  </a:lnTo>
                  <a:lnTo>
                    <a:pt x="319" y="335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379280" y="3988080"/>
              <a:ext cx="28080" cy="2916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49" y="80"/>
                  </a:moveTo>
                  <a:lnTo>
                    <a:pt x="30" y="76"/>
                  </a:lnTo>
                  <a:lnTo>
                    <a:pt x="7" y="48"/>
                  </a:lnTo>
                  <a:lnTo>
                    <a:pt x="0" y="2"/>
                  </a:lnTo>
                  <a:lnTo>
                    <a:pt x="49" y="0"/>
                  </a:lnTo>
                  <a:lnTo>
                    <a:pt x="69" y="24"/>
                  </a:lnTo>
                  <a:lnTo>
                    <a:pt x="69" y="74"/>
                  </a:lnTo>
                  <a:lnTo>
                    <a:pt x="4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338960" y="3981240"/>
              <a:ext cx="38520" cy="42840"/>
            </a:xfrm>
            <a:custGeom>
              <a:avLst/>
              <a:gdLst/>
              <a:ahLst/>
              <a:rect l="l" t="t" r="r" b="b"/>
              <a:pathLst>
                <a:path w="92" h="123">
                  <a:moveTo>
                    <a:pt x="47" y="123"/>
                  </a:moveTo>
                  <a:lnTo>
                    <a:pt x="36" y="123"/>
                  </a:lnTo>
                  <a:lnTo>
                    <a:pt x="22" y="116"/>
                  </a:lnTo>
                  <a:lnTo>
                    <a:pt x="0" y="21"/>
                  </a:lnTo>
                  <a:lnTo>
                    <a:pt x="33" y="0"/>
                  </a:lnTo>
                  <a:lnTo>
                    <a:pt x="52" y="11"/>
                  </a:lnTo>
                  <a:lnTo>
                    <a:pt x="92" y="89"/>
                  </a:lnTo>
                  <a:lnTo>
                    <a:pt x="76" y="112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631280" y="3783600"/>
              <a:ext cx="66600" cy="61560"/>
            </a:xfrm>
            <a:custGeom>
              <a:avLst/>
              <a:gdLst/>
              <a:ahLst/>
              <a:rect l="l" t="t" r="r" b="b"/>
              <a:pathLst>
                <a:path w="160" h="168">
                  <a:moveTo>
                    <a:pt x="126" y="168"/>
                  </a:moveTo>
                  <a:lnTo>
                    <a:pt x="98" y="142"/>
                  </a:lnTo>
                  <a:lnTo>
                    <a:pt x="46" y="111"/>
                  </a:lnTo>
                  <a:lnTo>
                    <a:pt x="0" y="87"/>
                  </a:lnTo>
                  <a:lnTo>
                    <a:pt x="14" y="72"/>
                  </a:lnTo>
                  <a:lnTo>
                    <a:pt x="27" y="57"/>
                  </a:lnTo>
                  <a:lnTo>
                    <a:pt x="40" y="45"/>
                  </a:lnTo>
                  <a:lnTo>
                    <a:pt x="53" y="33"/>
                  </a:lnTo>
                  <a:lnTo>
                    <a:pt x="68" y="23"/>
                  </a:lnTo>
                  <a:lnTo>
                    <a:pt x="83" y="14"/>
                  </a:lnTo>
                  <a:lnTo>
                    <a:pt x="100" y="6"/>
                  </a:lnTo>
                  <a:lnTo>
                    <a:pt x="119" y="0"/>
                  </a:lnTo>
                  <a:lnTo>
                    <a:pt x="134" y="14"/>
                  </a:lnTo>
                  <a:lnTo>
                    <a:pt x="146" y="30"/>
                  </a:lnTo>
                  <a:lnTo>
                    <a:pt x="154" y="47"/>
                  </a:lnTo>
                  <a:lnTo>
                    <a:pt x="159" y="65"/>
                  </a:lnTo>
                  <a:lnTo>
                    <a:pt x="160" y="84"/>
                  </a:lnTo>
                  <a:lnTo>
                    <a:pt x="160" y="104"/>
                  </a:lnTo>
                  <a:lnTo>
                    <a:pt x="156" y="124"/>
                  </a:lnTo>
                  <a:lnTo>
                    <a:pt x="150" y="146"/>
                  </a:lnTo>
                  <a:lnTo>
                    <a:pt x="126" y="16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289280" y="3785040"/>
              <a:ext cx="190080" cy="164880"/>
            </a:xfrm>
            <a:custGeom>
              <a:avLst/>
              <a:gdLst/>
              <a:ahLst/>
              <a:rect l="l" t="t" r="r" b="b"/>
              <a:pathLst>
                <a:path w="457" h="453">
                  <a:moveTo>
                    <a:pt x="457" y="398"/>
                  </a:moveTo>
                  <a:lnTo>
                    <a:pt x="320" y="345"/>
                  </a:lnTo>
                  <a:lnTo>
                    <a:pt x="254" y="337"/>
                  </a:lnTo>
                  <a:lnTo>
                    <a:pt x="247" y="347"/>
                  </a:lnTo>
                  <a:lnTo>
                    <a:pt x="195" y="367"/>
                  </a:lnTo>
                  <a:lnTo>
                    <a:pt x="0" y="453"/>
                  </a:lnTo>
                  <a:lnTo>
                    <a:pt x="133" y="232"/>
                  </a:lnTo>
                  <a:lnTo>
                    <a:pt x="169" y="165"/>
                  </a:lnTo>
                  <a:lnTo>
                    <a:pt x="176" y="54"/>
                  </a:lnTo>
                  <a:lnTo>
                    <a:pt x="191" y="1"/>
                  </a:lnTo>
                  <a:lnTo>
                    <a:pt x="249" y="0"/>
                  </a:lnTo>
                  <a:lnTo>
                    <a:pt x="247" y="38"/>
                  </a:lnTo>
                  <a:lnTo>
                    <a:pt x="276" y="42"/>
                  </a:lnTo>
                  <a:lnTo>
                    <a:pt x="401" y="303"/>
                  </a:lnTo>
                  <a:lnTo>
                    <a:pt x="457" y="39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497720" y="3734640"/>
              <a:ext cx="136800" cy="75960"/>
            </a:xfrm>
            <a:custGeom>
              <a:avLst/>
              <a:gdLst/>
              <a:ahLst/>
              <a:rect l="l" t="t" r="r" b="b"/>
              <a:pathLst>
                <a:path w="330" h="210">
                  <a:moveTo>
                    <a:pt x="266" y="210"/>
                  </a:moveTo>
                  <a:lnTo>
                    <a:pt x="123" y="148"/>
                  </a:lnTo>
                  <a:lnTo>
                    <a:pt x="0" y="23"/>
                  </a:lnTo>
                  <a:lnTo>
                    <a:pt x="184" y="0"/>
                  </a:lnTo>
                  <a:lnTo>
                    <a:pt x="248" y="48"/>
                  </a:lnTo>
                  <a:lnTo>
                    <a:pt x="275" y="59"/>
                  </a:lnTo>
                  <a:lnTo>
                    <a:pt x="330" y="77"/>
                  </a:lnTo>
                  <a:lnTo>
                    <a:pt x="297" y="147"/>
                  </a:lnTo>
                  <a:lnTo>
                    <a:pt x="266" y="21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085520" y="3906720"/>
              <a:ext cx="120240" cy="92160"/>
            </a:xfrm>
            <a:custGeom>
              <a:avLst/>
              <a:gdLst/>
              <a:ahLst/>
              <a:rect l="l" t="t" r="r" b="b"/>
              <a:pathLst>
                <a:path w="288" h="255">
                  <a:moveTo>
                    <a:pt x="258" y="255"/>
                  </a:moveTo>
                  <a:lnTo>
                    <a:pt x="37" y="162"/>
                  </a:lnTo>
                  <a:lnTo>
                    <a:pt x="0" y="148"/>
                  </a:lnTo>
                  <a:lnTo>
                    <a:pt x="13" y="132"/>
                  </a:lnTo>
                  <a:lnTo>
                    <a:pt x="24" y="114"/>
                  </a:lnTo>
                  <a:lnTo>
                    <a:pt x="34" y="96"/>
                  </a:lnTo>
                  <a:lnTo>
                    <a:pt x="42" y="78"/>
                  </a:lnTo>
                  <a:lnTo>
                    <a:pt x="47" y="60"/>
                  </a:lnTo>
                  <a:lnTo>
                    <a:pt x="51" y="41"/>
                  </a:lnTo>
                  <a:lnTo>
                    <a:pt x="53" y="20"/>
                  </a:lnTo>
                  <a:lnTo>
                    <a:pt x="51" y="0"/>
                  </a:lnTo>
                  <a:lnTo>
                    <a:pt x="172" y="3"/>
                  </a:lnTo>
                  <a:lnTo>
                    <a:pt x="236" y="8"/>
                  </a:lnTo>
                  <a:lnTo>
                    <a:pt x="234" y="68"/>
                  </a:lnTo>
                  <a:lnTo>
                    <a:pt x="288" y="170"/>
                  </a:lnTo>
                  <a:lnTo>
                    <a:pt x="268" y="226"/>
                  </a:lnTo>
                  <a:lnTo>
                    <a:pt x="258" y="255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098840" y="3754440"/>
              <a:ext cx="238680" cy="202680"/>
            </a:xfrm>
            <a:custGeom>
              <a:avLst/>
              <a:gdLst/>
              <a:ahLst/>
              <a:rect l="l" t="t" r="r" b="b"/>
              <a:pathLst>
                <a:path w="572" h="557">
                  <a:moveTo>
                    <a:pt x="296" y="557"/>
                  </a:moveTo>
                  <a:lnTo>
                    <a:pt x="279" y="538"/>
                  </a:lnTo>
                  <a:lnTo>
                    <a:pt x="288" y="409"/>
                  </a:lnTo>
                  <a:lnTo>
                    <a:pt x="238" y="331"/>
                  </a:lnTo>
                  <a:lnTo>
                    <a:pt x="137" y="338"/>
                  </a:lnTo>
                  <a:lnTo>
                    <a:pt x="81" y="331"/>
                  </a:lnTo>
                  <a:lnTo>
                    <a:pt x="0" y="308"/>
                  </a:lnTo>
                  <a:lnTo>
                    <a:pt x="211" y="198"/>
                  </a:lnTo>
                  <a:lnTo>
                    <a:pt x="327" y="66"/>
                  </a:lnTo>
                  <a:lnTo>
                    <a:pt x="370" y="19"/>
                  </a:lnTo>
                  <a:lnTo>
                    <a:pt x="378" y="6"/>
                  </a:lnTo>
                  <a:lnTo>
                    <a:pt x="422" y="0"/>
                  </a:lnTo>
                  <a:lnTo>
                    <a:pt x="554" y="47"/>
                  </a:lnTo>
                  <a:lnTo>
                    <a:pt x="567" y="53"/>
                  </a:lnTo>
                  <a:lnTo>
                    <a:pt x="571" y="72"/>
                  </a:lnTo>
                  <a:lnTo>
                    <a:pt x="572" y="91"/>
                  </a:lnTo>
                  <a:lnTo>
                    <a:pt x="569" y="110"/>
                  </a:lnTo>
                  <a:lnTo>
                    <a:pt x="565" y="129"/>
                  </a:lnTo>
                  <a:lnTo>
                    <a:pt x="559" y="149"/>
                  </a:lnTo>
                  <a:lnTo>
                    <a:pt x="552" y="170"/>
                  </a:lnTo>
                  <a:lnTo>
                    <a:pt x="546" y="189"/>
                  </a:lnTo>
                  <a:lnTo>
                    <a:pt x="539" y="209"/>
                  </a:lnTo>
                  <a:lnTo>
                    <a:pt x="521" y="257"/>
                  </a:lnTo>
                  <a:lnTo>
                    <a:pt x="450" y="382"/>
                  </a:lnTo>
                  <a:lnTo>
                    <a:pt x="434" y="413"/>
                  </a:lnTo>
                  <a:lnTo>
                    <a:pt x="370" y="488"/>
                  </a:lnTo>
                  <a:lnTo>
                    <a:pt x="296" y="55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64000" y="3943080"/>
              <a:ext cx="15120" cy="162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7" y="4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9" y="14"/>
                  </a:lnTo>
                  <a:lnTo>
                    <a:pt x="36" y="26"/>
                  </a:lnTo>
                  <a:lnTo>
                    <a:pt x="36" y="35"/>
                  </a:lnTo>
                  <a:lnTo>
                    <a:pt x="24" y="41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487640" y="3647520"/>
              <a:ext cx="163080" cy="61560"/>
            </a:xfrm>
            <a:custGeom>
              <a:avLst/>
              <a:gdLst/>
              <a:ahLst/>
              <a:rect l="l" t="t" r="r" b="b"/>
              <a:pathLst>
                <a:path w="394" h="170">
                  <a:moveTo>
                    <a:pt x="295" y="114"/>
                  </a:moveTo>
                  <a:lnTo>
                    <a:pt x="170" y="162"/>
                  </a:lnTo>
                  <a:lnTo>
                    <a:pt x="7" y="170"/>
                  </a:lnTo>
                  <a:lnTo>
                    <a:pt x="0" y="152"/>
                  </a:lnTo>
                  <a:lnTo>
                    <a:pt x="24" y="131"/>
                  </a:lnTo>
                  <a:lnTo>
                    <a:pt x="56" y="109"/>
                  </a:lnTo>
                  <a:lnTo>
                    <a:pt x="75" y="98"/>
                  </a:lnTo>
                  <a:lnTo>
                    <a:pt x="93" y="88"/>
                  </a:lnTo>
                  <a:lnTo>
                    <a:pt x="111" y="79"/>
                  </a:lnTo>
                  <a:lnTo>
                    <a:pt x="129" y="69"/>
                  </a:lnTo>
                  <a:lnTo>
                    <a:pt x="149" y="60"/>
                  </a:lnTo>
                  <a:lnTo>
                    <a:pt x="168" y="52"/>
                  </a:lnTo>
                  <a:lnTo>
                    <a:pt x="189" y="44"/>
                  </a:lnTo>
                  <a:lnTo>
                    <a:pt x="210" y="37"/>
                  </a:lnTo>
                  <a:lnTo>
                    <a:pt x="231" y="31"/>
                  </a:lnTo>
                  <a:lnTo>
                    <a:pt x="253" y="24"/>
                  </a:lnTo>
                  <a:lnTo>
                    <a:pt x="275" y="18"/>
                  </a:lnTo>
                  <a:lnTo>
                    <a:pt x="297" y="14"/>
                  </a:lnTo>
                  <a:lnTo>
                    <a:pt x="321" y="9"/>
                  </a:lnTo>
                  <a:lnTo>
                    <a:pt x="344" y="6"/>
                  </a:lnTo>
                  <a:lnTo>
                    <a:pt x="369" y="2"/>
                  </a:lnTo>
                  <a:lnTo>
                    <a:pt x="394" y="0"/>
                  </a:lnTo>
                  <a:lnTo>
                    <a:pt x="348" y="86"/>
                  </a:lnTo>
                  <a:lnTo>
                    <a:pt x="295" y="11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122240" y="3932280"/>
              <a:ext cx="6480" cy="1584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0" y="46"/>
                  </a:moveTo>
                  <a:lnTo>
                    <a:pt x="0" y="11"/>
                  </a:lnTo>
                  <a:lnTo>
                    <a:pt x="15" y="0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285680" y="3705480"/>
              <a:ext cx="140040" cy="43560"/>
            </a:xfrm>
            <a:custGeom>
              <a:avLst/>
              <a:gdLst/>
              <a:ahLst/>
              <a:rect l="l" t="t" r="r" b="b"/>
              <a:pathLst>
                <a:path w="336" h="119">
                  <a:moveTo>
                    <a:pt x="289" y="101"/>
                  </a:moveTo>
                  <a:lnTo>
                    <a:pt x="261" y="46"/>
                  </a:lnTo>
                  <a:lnTo>
                    <a:pt x="231" y="50"/>
                  </a:lnTo>
                  <a:lnTo>
                    <a:pt x="238" y="110"/>
                  </a:lnTo>
                  <a:lnTo>
                    <a:pt x="177" y="119"/>
                  </a:lnTo>
                  <a:lnTo>
                    <a:pt x="175" y="84"/>
                  </a:lnTo>
                  <a:lnTo>
                    <a:pt x="135" y="49"/>
                  </a:lnTo>
                  <a:lnTo>
                    <a:pt x="120" y="59"/>
                  </a:lnTo>
                  <a:lnTo>
                    <a:pt x="146" y="109"/>
                  </a:lnTo>
                  <a:lnTo>
                    <a:pt x="25" y="105"/>
                  </a:lnTo>
                  <a:lnTo>
                    <a:pt x="0" y="99"/>
                  </a:lnTo>
                  <a:lnTo>
                    <a:pt x="9" y="58"/>
                  </a:lnTo>
                  <a:lnTo>
                    <a:pt x="14" y="34"/>
                  </a:lnTo>
                  <a:lnTo>
                    <a:pt x="43" y="0"/>
                  </a:lnTo>
                  <a:lnTo>
                    <a:pt x="233" y="4"/>
                  </a:lnTo>
                  <a:lnTo>
                    <a:pt x="281" y="11"/>
                  </a:lnTo>
                  <a:lnTo>
                    <a:pt x="320" y="38"/>
                  </a:lnTo>
                  <a:lnTo>
                    <a:pt x="336" y="77"/>
                  </a:lnTo>
                  <a:lnTo>
                    <a:pt x="289" y="10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472520" y="3511440"/>
              <a:ext cx="114840" cy="144720"/>
            </a:xfrm>
            <a:custGeom>
              <a:avLst/>
              <a:gdLst/>
              <a:ahLst/>
              <a:rect l="l" t="t" r="r" b="b"/>
              <a:pathLst>
                <a:path w="277" h="402">
                  <a:moveTo>
                    <a:pt x="269" y="307"/>
                  </a:moveTo>
                  <a:lnTo>
                    <a:pt x="245" y="316"/>
                  </a:lnTo>
                  <a:lnTo>
                    <a:pt x="222" y="326"/>
                  </a:lnTo>
                  <a:lnTo>
                    <a:pt x="200" y="336"/>
                  </a:lnTo>
                  <a:lnTo>
                    <a:pt x="178" y="347"/>
                  </a:lnTo>
                  <a:lnTo>
                    <a:pt x="156" y="358"/>
                  </a:lnTo>
                  <a:lnTo>
                    <a:pt x="135" y="372"/>
                  </a:lnTo>
                  <a:lnTo>
                    <a:pt x="115" y="386"/>
                  </a:lnTo>
                  <a:lnTo>
                    <a:pt x="97" y="402"/>
                  </a:lnTo>
                  <a:lnTo>
                    <a:pt x="72" y="343"/>
                  </a:lnTo>
                  <a:lnTo>
                    <a:pt x="0" y="157"/>
                  </a:lnTo>
                  <a:lnTo>
                    <a:pt x="36" y="128"/>
                  </a:lnTo>
                  <a:lnTo>
                    <a:pt x="63" y="82"/>
                  </a:lnTo>
                  <a:lnTo>
                    <a:pt x="70" y="71"/>
                  </a:lnTo>
                  <a:lnTo>
                    <a:pt x="68" y="28"/>
                  </a:lnTo>
                  <a:lnTo>
                    <a:pt x="79" y="0"/>
                  </a:lnTo>
                  <a:lnTo>
                    <a:pt x="124" y="13"/>
                  </a:lnTo>
                  <a:lnTo>
                    <a:pt x="98" y="44"/>
                  </a:lnTo>
                  <a:lnTo>
                    <a:pt x="101" y="86"/>
                  </a:lnTo>
                  <a:lnTo>
                    <a:pt x="119" y="116"/>
                  </a:lnTo>
                  <a:lnTo>
                    <a:pt x="136" y="145"/>
                  </a:lnTo>
                  <a:lnTo>
                    <a:pt x="153" y="174"/>
                  </a:lnTo>
                  <a:lnTo>
                    <a:pt x="172" y="201"/>
                  </a:lnTo>
                  <a:lnTo>
                    <a:pt x="193" y="228"/>
                  </a:lnTo>
                  <a:lnTo>
                    <a:pt x="217" y="253"/>
                  </a:lnTo>
                  <a:lnTo>
                    <a:pt x="244" y="276"/>
                  </a:lnTo>
                  <a:lnTo>
                    <a:pt x="277" y="297"/>
                  </a:lnTo>
                  <a:lnTo>
                    <a:pt x="269" y="30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287480" y="3558600"/>
              <a:ext cx="183240" cy="137520"/>
            </a:xfrm>
            <a:custGeom>
              <a:avLst/>
              <a:gdLst/>
              <a:ahLst/>
              <a:rect l="l" t="t" r="r" b="b"/>
              <a:pathLst>
                <a:path w="442" h="382">
                  <a:moveTo>
                    <a:pt x="375" y="382"/>
                  </a:moveTo>
                  <a:lnTo>
                    <a:pt x="348" y="371"/>
                  </a:lnTo>
                  <a:lnTo>
                    <a:pt x="311" y="358"/>
                  </a:lnTo>
                  <a:lnTo>
                    <a:pt x="298" y="351"/>
                  </a:lnTo>
                  <a:lnTo>
                    <a:pt x="286" y="336"/>
                  </a:lnTo>
                  <a:lnTo>
                    <a:pt x="224" y="333"/>
                  </a:lnTo>
                  <a:lnTo>
                    <a:pt x="19" y="359"/>
                  </a:lnTo>
                  <a:lnTo>
                    <a:pt x="0" y="336"/>
                  </a:lnTo>
                  <a:lnTo>
                    <a:pt x="18" y="308"/>
                  </a:lnTo>
                  <a:lnTo>
                    <a:pt x="18" y="276"/>
                  </a:lnTo>
                  <a:lnTo>
                    <a:pt x="21" y="243"/>
                  </a:lnTo>
                  <a:lnTo>
                    <a:pt x="27" y="211"/>
                  </a:lnTo>
                  <a:lnTo>
                    <a:pt x="36" y="181"/>
                  </a:lnTo>
                  <a:lnTo>
                    <a:pt x="47" y="152"/>
                  </a:lnTo>
                  <a:lnTo>
                    <a:pt x="60" y="123"/>
                  </a:lnTo>
                  <a:lnTo>
                    <a:pt x="73" y="96"/>
                  </a:lnTo>
                  <a:lnTo>
                    <a:pt x="87" y="70"/>
                  </a:lnTo>
                  <a:lnTo>
                    <a:pt x="113" y="40"/>
                  </a:lnTo>
                  <a:lnTo>
                    <a:pt x="131" y="14"/>
                  </a:lnTo>
                  <a:lnTo>
                    <a:pt x="163" y="0"/>
                  </a:lnTo>
                  <a:lnTo>
                    <a:pt x="382" y="32"/>
                  </a:lnTo>
                  <a:lnTo>
                    <a:pt x="442" y="204"/>
                  </a:lnTo>
                  <a:lnTo>
                    <a:pt x="432" y="282"/>
                  </a:lnTo>
                  <a:lnTo>
                    <a:pt x="423" y="331"/>
                  </a:lnTo>
                  <a:lnTo>
                    <a:pt x="375" y="38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69360" y="3417480"/>
              <a:ext cx="64800" cy="8856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37" y="225"/>
                  </a:moveTo>
                  <a:lnTo>
                    <a:pt x="3" y="246"/>
                  </a:lnTo>
                  <a:lnTo>
                    <a:pt x="0" y="184"/>
                  </a:lnTo>
                  <a:lnTo>
                    <a:pt x="19" y="144"/>
                  </a:lnTo>
                  <a:lnTo>
                    <a:pt x="36" y="104"/>
                  </a:lnTo>
                  <a:lnTo>
                    <a:pt x="141" y="0"/>
                  </a:lnTo>
                  <a:lnTo>
                    <a:pt x="154" y="14"/>
                  </a:lnTo>
                  <a:lnTo>
                    <a:pt x="152" y="43"/>
                  </a:lnTo>
                  <a:lnTo>
                    <a:pt x="146" y="73"/>
                  </a:lnTo>
                  <a:lnTo>
                    <a:pt x="136" y="103"/>
                  </a:lnTo>
                  <a:lnTo>
                    <a:pt x="123" y="131"/>
                  </a:lnTo>
                  <a:lnTo>
                    <a:pt x="106" y="159"/>
                  </a:lnTo>
                  <a:lnTo>
                    <a:pt x="86" y="184"/>
                  </a:lnTo>
                  <a:lnTo>
                    <a:pt x="63" y="206"/>
                  </a:lnTo>
                  <a:lnTo>
                    <a:pt x="37" y="225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092360" y="3625920"/>
              <a:ext cx="111240" cy="921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6" y="257"/>
                  </a:moveTo>
                  <a:lnTo>
                    <a:pt x="156" y="242"/>
                  </a:lnTo>
                  <a:lnTo>
                    <a:pt x="117" y="218"/>
                  </a:lnTo>
                  <a:lnTo>
                    <a:pt x="87" y="190"/>
                  </a:lnTo>
                  <a:lnTo>
                    <a:pt x="63" y="157"/>
                  </a:lnTo>
                  <a:lnTo>
                    <a:pt x="45" y="120"/>
                  </a:lnTo>
                  <a:lnTo>
                    <a:pt x="30" y="80"/>
                  </a:lnTo>
                  <a:lnTo>
                    <a:pt x="15" y="40"/>
                  </a:lnTo>
                  <a:lnTo>
                    <a:pt x="0" y="0"/>
                  </a:lnTo>
                  <a:lnTo>
                    <a:pt x="43" y="3"/>
                  </a:lnTo>
                  <a:lnTo>
                    <a:pt x="58" y="12"/>
                  </a:lnTo>
                  <a:lnTo>
                    <a:pt x="74" y="20"/>
                  </a:lnTo>
                  <a:lnTo>
                    <a:pt x="91" y="27"/>
                  </a:lnTo>
                  <a:lnTo>
                    <a:pt x="106" y="34"/>
                  </a:lnTo>
                  <a:lnTo>
                    <a:pt x="122" y="43"/>
                  </a:lnTo>
                  <a:lnTo>
                    <a:pt x="134" y="53"/>
                  </a:lnTo>
                  <a:lnTo>
                    <a:pt x="144" y="66"/>
                  </a:lnTo>
                  <a:lnTo>
                    <a:pt x="151" y="80"/>
                  </a:lnTo>
                  <a:lnTo>
                    <a:pt x="267" y="217"/>
                  </a:lnTo>
                  <a:lnTo>
                    <a:pt x="206" y="25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144200" y="3520800"/>
              <a:ext cx="177840" cy="175320"/>
            </a:xfrm>
            <a:custGeom>
              <a:avLst/>
              <a:gdLst/>
              <a:ahLst/>
              <a:rect l="l" t="t" r="r" b="b"/>
              <a:pathLst>
                <a:path w="430" h="483">
                  <a:moveTo>
                    <a:pt x="171" y="483"/>
                  </a:moveTo>
                  <a:lnTo>
                    <a:pt x="159" y="453"/>
                  </a:lnTo>
                  <a:lnTo>
                    <a:pt x="146" y="423"/>
                  </a:lnTo>
                  <a:lnTo>
                    <a:pt x="130" y="395"/>
                  </a:lnTo>
                  <a:lnTo>
                    <a:pt x="114" y="368"/>
                  </a:lnTo>
                  <a:lnTo>
                    <a:pt x="96" y="342"/>
                  </a:lnTo>
                  <a:lnTo>
                    <a:pt x="77" y="315"/>
                  </a:lnTo>
                  <a:lnTo>
                    <a:pt x="57" y="290"/>
                  </a:lnTo>
                  <a:lnTo>
                    <a:pt x="35" y="263"/>
                  </a:lnTo>
                  <a:lnTo>
                    <a:pt x="0" y="241"/>
                  </a:lnTo>
                  <a:lnTo>
                    <a:pt x="197" y="176"/>
                  </a:lnTo>
                  <a:lnTo>
                    <a:pt x="343" y="49"/>
                  </a:lnTo>
                  <a:lnTo>
                    <a:pt x="386" y="0"/>
                  </a:lnTo>
                  <a:lnTo>
                    <a:pt x="406" y="36"/>
                  </a:lnTo>
                  <a:lnTo>
                    <a:pt x="430" y="51"/>
                  </a:lnTo>
                  <a:lnTo>
                    <a:pt x="382" y="96"/>
                  </a:lnTo>
                  <a:lnTo>
                    <a:pt x="348" y="155"/>
                  </a:lnTo>
                  <a:lnTo>
                    <a:pt x="335" y="191"/>
                  </a:lnTo>
                  <a:lnTo>
                    <a:pt x="286" y="381"/>
                  </a:lnTo>
                  <a:lnTo>
                    <a:pt x="171" y="48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404120" y="3272400"/>
              <a:ext cx="193680" cy="226800"/>
            </a:xfrm>
            <a:custGeom>
              <a:avLst/>
              <a:gdLst/>
              <a:ahLst/>
              <a:rect l="l" t="t" r="r" b="b"/>
              <a:pathLst>
                <a:path w="466" h="626">
                  <a:moveTo>
                    <a:pt x="332" y="626"/>
                  </a:moveTo>
                  <a:lnTo>
                    <a:pt x="305" y="614"/>
                  </a:lnTo>
                  <a:lnTo>
                    <a:pt x="215" y="555"/>
                  </a:lnTo>
                  <a:lnTo>
                    <a:pt x="197" y="515"/>
                  </a:lnTo>
                  <a:lnTo>
                    <a:pt x="192" y="471"/>
                  </a:lnTo>
                  <a:lnTo>
                    <a:pt x="182" y="431"/>
                  </a:lnTo>
                  <a:lnTo>
                    <a:pt x="172" y="391"/>
                  </a:lnTo>
                  <a:lnTo>
                    <a:pt x="158" y="353"/>
                  </a:lnTo>
                  <a:lnTo>
                    <a:pt x="142" y="315"/>
                  </a:lnTo>
                  <a:lnTo>
                    <a:pt x="125" y="279"/>
                  </a:lnTo>
                  <a:lnTo>
                    <a:pt x="107" y="242"/>
                  </a:lnTo>
                  <a:lnTo>
                    <a:pt x="87" y="205"/>
                  </a:lnTo>
                  <a:lnTo>
                    <a:pt x="69" y="196"/>
                  </a:lnTo>
                  <a:lnTo>
                    <a:pt x="0" y="0"/>
                  </a:lnTo>
                  <a:lnTo>
                    <a:pt x="188" y="193"/>
                  </a:lnTo>
                  <a:lnTo>
                    <a:pt x="288" y="253"/>
                  </a:lnTo>
                  <a:lnTo>
                    <a:pt x="318" y="271"/>
                  </a:lnTo>
                  <a:lnTo>
                    <a:pt x="438" y="311"/>
                  </a:lnTo>
                  <a:lnTo>
                    <a:pt x="466" y="337"/>
                  </a:lnTo>
                  <a:lnTo>
                    <a:pt x="451" y="355"/>
                  </a:lnTo>
                  <a:lnTo>
                    <a:pt x="426" y="378"/>
                  </a:lnTo>
                  <a:lnTo>
                    <a:pt x="354" y="532"/>
                  </a:lnTo>
                  <a:lnTo>
                    <a:pt x="332" y="62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327800" y="3459240"/>
              <a:ext cx="151560" cy="84960"/>
            </a:xfrm>
            <a:custGeom>
              <a:avLst/>
              <a:gdLst/>
              <a:ahLst/>
              <a:rect l="l" t="t" r="r" b="b"/>
              <a:pathLst>
                <a:path w="365" h="235">
                  <a:moveTo>
                    <a:pt x="269" y="235"/>
                  </a:moveTo>
                  <a:lnTo>
                    <a:pt x="210" y="235"/>
                  </a:lnTo>
                  <a:lnTo>
                    <a:pt x="67" y="195"/>
                  </a:lnTo>
                  <a:lnTo>
                    <a:pt x="18" y="165"/>
                  </a:lnTo>
                  <a:lnTo>
                    <a:pt x="0" y="134"/>
                  </a:lnTo>
                  <a:lnTo>
                    <a:pt x="20" y="108"/>
                  </a:lnTo>
                  <a:lnTo>
                    <a:pt x="30" y="96"/>
                  </a:lnTo>
                  <a:lnTo>
                    <a:pt x="41" y="84"/>
                  </a:lnTo>
                  <a:lnTo>
                    <a:pt x="52" y="74"/>
                  </a:lnTo>
                  <a:lnTo>
                    <a:pt x="64" y="63"/>
                  </a:lnTo>
                  <a:lnTo>
                    <a:pt x="76" y="54"/>
                  </a:lnTo>
                  <a:lnTo>
                    <a:pt x="89" y="44"/>
                  </a:lnTo>
                  <a:lnTo>
                    <a:pt x="102" y="36"/>
                  </a:lnTo>
                  <a:lnTo>
                    <a:pt x="116" y="28"/>
                  </a:lnTo>
                  <a:lnTo>
                    <a:pt x="131" y="21"/>
                  </a:lnTo>
                  <a:lnTo>
                    <a:pt x="146" y="15"/>
                  </a:lnTo>
                  <a:lnTo>
                    <a:pt x="163" y="10"/>
                  </a:lnTo>
                  <a:lnTo>
                    <a:pt x="180" y="6"/>
                  </a:lnTo>
                  <a:lnTo>
                    <a:pt x="198" y="3"/>
                  </a:lnTo>
                  <a:lnTo>
                    <a:pt x="217" y="1"/>
                  </a:lnTo>
                  <a:lnTo>
                    <a:pt x="237" y="0"/>
                  </a:lnTo>
                  <a:lnTo>
                    <a:pt x="258" y="1"/>
                  </a:lnTo>
                  <a:lnTo>
                    <a:pt x="365" y="138"/>
                  </a:lnTo>
                  <a:lnTo>
                    <a:pt x="342" y="182"/>
                  </a:lnTo>
                  <a:lnTo>
                    <a:pt x="269" y="23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424280" y="3182040"/>
              <a:ext cx="226800" cy="168480"/>
            </a:xfrm>
            <a:custGeom>
              <a:avLst/>
              <a:gdLst/>
              <a:ahLst/>
              <a:rect l="l" t="t" r="r" b="b"/>
              <a:pathLst>
                <a:path w="546" h="465">
                  <a:moveTo>
                    <a:pt x="385" y="465"/>
                  </a:moveTo>
                  <a:lnTo>
                    <a:pt x="198" y="384"/>
                  </a:lnTo>
                  <a:lnTo>
                    <a:pt x="173" y="363"/>
                  </a:lnTo>
                  <a:lnTo>
                    <a:pt x="4" y="173"/>
                  </a:lnTo>
                  <a:lnTo>
                    <a:pt x="0" y="139"/>
                  </a:lnTo>
                  <a:lnTo>
                    <a:pt x="68" y="119"/>
                  </a:lnTo>
                  <a:lnTo>
                    <a:pt x="86" y="78"/>
                  </a:lnTo>
                  <a:lnTo>
                    <a:pt x="129" y="51"/>
                  </a:lnTo>
                  <a:lnTo>
                    <a:pt x="153" y="0"/>
                  </a:lnTo>
                  <a:lnTo>
                    <a:pt x="171" y="22"/>
                  </a:lnTo>
                  <a:lnTo>
                    <a:pt x="190" y="46"/>
                  </a:lnTo>
                  <a:lnTo>
                    <a:pt x="209" y="67"/>
                  </a:lnTo>
                  <a:lnTo>
                    <a:pt x="230" y="87"/>
                  </a:lnTo>
                  <a:lnTo>
                    <a:pt x="252" y="108"/>
                  </a:lnTo>
                  <a:lnTo>
                    <a:pt x="275" y="126"/>
                  </a:lnTo>
                  <a:lnTo>
                    <a:pt x="302" y="141"/>
                  </a:lnTo>
                  <a:lnTo>
                    <a:pt x="332" y="155"/>
                  </a:lnTo>
                  <a:lnTo>
                    <a:pt x="388" y="170"/>
                  </a:lnTo>
                  <a:lnTo>
                    <a:pt x="413" y="191"/>
                  </a:lnTo>
                  <a:lnTo>
                    <a:pt x="364" y="251"/>
                  </a:lnTo>
                  <a:lnTo>
                    <a:pt x="353" y="287"/>
                  </a:lnTo>
                  <a:lnTo>
                    <a:pt x="331" y="323"/>
                  </a:lnTo>
                  <a:lnTo>
                    <a:pt x="329" y="338"/>
                  </a:lnTo>
                  <a:lnTo>
                    <a:pt x="344" y="438"/>
                  </a:lnTo>
                  <a:lnTo>
                    <a:pt x="373" y="449"/>
                  </a:lnTo>
                  <a:lnTo>
                    <a:pt x="417" y="413"/>
                  </a:lnTo>
                  <a:lnTo>
                    <a:pt x="385" y="404"/>
                  </a:lnTo>
                  <a:lnTo>
                    <a:pt x="388" y="373"/>
                  </a:lnTo>
                  <a:lnTo>
                    <a:pt x="398" y="346"/>
                  </a:lnTo>
                  <a:lnTo>
                    <a:pt x="411" y="321"/>
                  </a:lnTo>
                  <a:lnTo>
                    <a:pt x="428" y="299"/>
                  </a:lnTo>
                  <a:lnTo>
                    <a:pt x="447" y="279"/>
                  </a:lnTo>
                  <a:lnTo>
                    <a:pt x="468" y="260"/>
                  </a:lnTo>
                  <a:lnTo>
                    <a:pt x="490" y="242"/>
                  </a:lnTo>
                  <a:lnTo>
                    <a:pt x="511" y="224"/>
                  </a:lnTo>
                  <a:lnTo>
                    <a:pt x="546" y="326"/>
                  </a:lnTo>
                  <a:lnTo>
                    <a:pt x="527" y="345"/>
                  </a:lnTo>
                  <a:lnTo>
                    <a:pt x="504" y="367"/>
                  </a:lnTo>
                  <a:lnTo>
                    <a:pt x="385" y="46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381080" y="3370680"/>
              <a:ext cx="45000" cy="7200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78" y="170"/>
                  </a:moveTo>
                  <a:lnTo>
                    <a:pt x="0" y="197"/>
                  </a:lnTo>
                  <a:lnTo>
                    <a:pt x="61" y="0"/>
                  </a:lnTo>
                  <a:lnTo>
                    <a:pt x="105" y="161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15840" y="3433680"/>
              <a:ext cx="61560" cy="68400"/>
            </a:xfrm>
            <a:custGeom>
              <a:avLst/>
              <a:gdLst/>
              <a:ahLst/>
              <a:rect l="l" t="t" r="r" b="b"/>
              <a:pathLst>
                <a:path w="149" h="189">
                  <a:moveTo>
                    <a:pt x="133" y="189"/>
                  </a:moveTo>
                  <a:lnTo>
                    <a:pt x="95" y="184"/>
                  </a:lnTo>
                  <a:lnTo>
                    <a:pt x="82" y="179"/>
                  </a:lnTo>
                  <a:lnTo>
                    <a:pt x="0" y="42"/>
                  </a:lnTo>
                  <a:lnTo>
                    <a:pt x="8" y="0"/>
                  </a:lnTo>
                  <a:lnTo>
                    <a:pt x="43" y="21"/>
                  </a:lnTo>
                  <a:lnTo>
                    <a:pt x="149" y="166"/>
                  </a:lnTo>
                  <a:lnTo>
                    <a:pt x="133" y="189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197480" y="3324960"/>
              <a:ext cx="177840" cy="148680"/>
            </a:xfrm>
            <a:custGeom>
              <a:avLst/>
              <a:gdLst/>
              <a:ahLst/>
              <a:rect l="l" t="t" r="r" b="b"/>
              <a:pathLst>
                <a:path w="428" h="412">
                  <a:moveTo>
                    <a:pt x="220" y="412"/>
                  </a:moveTo>
                  <a:lnTo>
                    <a:pt x="168" y="300"/>
                  </a:lnTo>
                  <a:lnTo>
                    <a:pt x="113" y="256"/>
                  </a:lnTo>
                  <a:lnTo>
                    <a:pt x="29" y="206"/>
                  </a:lnTo>
                  <a:lnTo>
                    <a:pt x="0" y="181"/>
                  </a:lnTo>
                  <a:lnTo>
                    <a:pt x="90" y="167"/>
                  </a:lnTo>
                  <a:lnTo>
                    <a:pt x="287" y="81"/>
                  </a:lnTo>
                  <a:lnTo>
                    <a:pt x="295" y="62"/>
                  </a:lnTo>
                  <a:lnTo>
                    <a:pt x="351" y="48"/>
                  </a:lnTo>
                  <a:lnTo>
                    <a:pt x="368" y="58"/>
                  </a:lnTo>
                  <a:lnTo>
                    <a:pt x="428" y="0"/>
                  </a:lnTo>
                  <a:lnTo>
                    <a:pt x="392" y="190"/>
                  </a:lnTo>
                  <a:lnTo>
                    <a:pt x="328" y="300"/>
                  </a:lnTo>
                  <a:lnTo>
                    <a:pt x="274" y="356"/>
                  </a:lnTo>
                  <a:lnTo>
                    <a:pt x="220" y="41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194240" y="3194640"/>
              <a:ext cx="183240" cy="138960"/>
            </a:xfrm>
            <a:custGeom>
              <a:avLst/>
              <a:gdLst/>
              <a:ahLst/>
              <a:rect l="l" t="t" r="r" b="b"/>
              <a:pathLst>
                <a:path w="438" h="385">
                  <a:moveTo>
                    <a:pt x="218" y="377"/>
                  </a:moveTo>
                  <a:lnTo>
                    <a:pt x="207" y="384"/>
                  </a:lnTo>
                  <a:lnTo>
                    <a:pt x="189" y="385"/>
                  </a:lnTo>
                  <a:lnTo>
                    <a:pt x="170" y="385"/>
                  </a:lnTo>
                  <a:lnTo>
                    <a:pt x="150" y="385"/>
                  </a:lnTo>
                  <a:lnTo>
                    <a:pt x="131" y="382"/>
                  </a:lnTo>
                  <a:lnTo>
                    <a:pt x="112" y="378"/>
                  </a:lnTo>
                  <a:lnTo>
                    <a:pt x="95" y="374"/>
                  </a:lnTo>
                  <a:lnTo>
                    <a:pt x="81" y="368"/>
                  </a:lnTo>
                  <a:lnTo>
                    <a:pt x="69" y="360"/>
                  </a:lnTo>
                  <a:lnTo>
                    <a:pt x="0" y="309"/>
                  </a:lnTo>
                  <a:lnTo>
                    <a:pt x="56" y="274"/>
                  </a:lnTo>
                  <a:lnTo>
                    <a:pt x="128" y="281"/>
                  </a:lnTo>
                  <a:lnTo>
                    <a:pt x="194" y="310"/>
                  </a:lnTo>
                  <a:lnTo>
                    <a:pt x="202" y="297"/>
                  </a:lnTo>
                  <a:lnTo>
                    <a:pt x="95" y="192"/>
                  </a:lnTo>
                  <a:lnTo>
                    <a:pt x="75" y="176"/>
                  </a:lnTo>
                  <a:lnTo>
                    <a:pt x="253" y="0"/>
                  </a:lnTo>
                  <a:lnTo>
                    <a:pt x="269" y="19"/>
                  </a:lnTo>
                  <a:lnTo>
                    <a:pt x="286" y="37"/>
                  </a:lnTo>
                  <a:lnTo>
                    <a:pt x="301" y="54"/>
                  </a:lnTo>
                  <a:lnTo>
                    <a:pt x="318" y="69"/>
                  </a:lnTo>
                  <a:lnTo>
                    <a:pt x="336" y="84"/>
                  </a:lnTo>
                  <a:lnTo>
                    <a:pt x="357" y="97"/>
                  </a:lnTo>
                  <a:lnTo>
                    <a:pt x="379" y="110"/>
                  </a:lnTo>
                  <a:lnTo>
                    <a:pt x="406" y="121"/>
                  </a:lnTo>
                  <a:lnTo>
                    <a:pt x="429" y="128"/>
                  </a:lnTo>
                  <a:lnTo>
                    <a:pt x="438" y="179"/>
                  </a:lnTo>
                  <a:lnTo>
                    <a:pt x="378" y="276"/>
                  </a:lnTo>
                  <a:lnTo>
                    <a:pt x="343" y="305"/>
                  </a:lnTo>
                  <a:lnTo>
                    <a:pt x="218" y="37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544520" y="3066120"/>
              <a:ext cx="76680" cy="66960"/>
            </a:xfrm>
            <a:custGeom>
              <a:avLst/>
              <a:gdLst/>
              <a:ahLst/>
              <a:rect l="l" t="t" r="r" b="b"/>
              <a:pathLst>
                <a:path w="184" h="186">
                  <a:moveTo>
                    <a:pt x="111" y="146"/>
                  </a:moveTo>
                  <a:lnTo>
                    <a:pt x="3" y="186"/>
                  </a:lnTo>
                  <a:lnTo>
                    <a:pt x="0" y="144"/>
                  </a:lnTo>
                  <a:lnTo>
                    <a:pt x="56" y="71"/>
                  </a:lnTo>
                  <a:lnTo>
                    <a:pt x="147" y="0"/>
                  </a:lnTo>
                  <a:lnTo>
                    <a:pt x="184" y="43"/>
                  </a:lnTo>
                  <a:lnTo>
                    <a:pt x="184" y="93"/>
                  </a:lnTo>
                  <a:lnTo>
                    <a:pt x="111" y="14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319520" y="3154680"/>
              <a:ext cx="106560" cy="52560"/>
            </a:xfrm>
            <a:custGeom>
              <a:avLst/>
              <a:gdLst/>
              <a:ahLst/>
              <a:rect l="l" t="t" r="r" b="b"/>
              <a:pathLst>
                <a:path w="254" h="146">
                  <a:moveTo>
                    <a:pt x="238" y="144"/>
                  </a:moveTo>
                  <a:lnTo>
                    <a:pt x="132" y="146"/>
                  </a:lnTo>
                  <a:lnTo>
                    <a:pt x="50" y="117"/>
                  </a:lnTo>
                  <a:lnTo>
                    <a:pt x="0" y="69"/>
                  </a:lnTo>
                  <a:lnTo>
                    <a:pt x="73" y="16"/>
                  </a:lnTo>
                  <a:lnTo>
                    <a:pt x="109" y="0"/>
                  </a:lnTo>
                  <a:lnTo>
                    <a:pt x="194" y="50"/>
                  </a:lnTo>
                  <a:lnTo>
                    <a:pt x="254" y="91"/>
                  </a:lnTo>
                  <a:lnTo>
                    <a:pt x="238" y="14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379280" y="3078720"/>
              <a:ext cx="81360" cy="101160"/>
            </a:xfrm>
            <a:custGeom>
              <a:avLst/>
              <a:gdLst/>
              <a:ahLst/>
              <a:rect l="l" t="t" r="r" b="b"/>
              <a:pathLst>
                <a:path w="196" h="282">
                  <a:moveTo>
                    <a:pt x="172" y="282"/>
                  </a:moveTo>
                  <a:lnTo>
                    <a:pt x="67" y="189"/>
                  </a:lnTo>
                  <a:lnTo>
                    <a:pt x="19" y="170"/>
                  </a:lnTo>
                  <a:lnTo>
                    <a:pt x="3" y="163"/>
                  </a:lnTo>
                  <a:lnTo>
                    <a:pt x="0" y="129"/>
                  </a:lnTo>
                  <a:lnTo>
                    <a:pt x="106" y="35"/>
                  </a:lnTo>
                  <a:lnTo>
                    <a:pt x="136" y="0"/>
                  </a:lnTo>
                  <a:lnTo>
                    <a:pt x="196" y="152"/>
                  </a:lnTo>
                  <a:lnTo>
                    <a:pt x="172" y="28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469280" y="2964600"/>
              <a:ext cx="90360" cy="155520"/>
            </a:xfrm>
            <a:custGeom>
              <a:avLst/>
              <a:gdLst/>
              <a:ahLst/>
              <a:rect l="l" t="t" r="r" b="b"/>
              <a:pathLst>
                <a:path w="215" h="433">
                  <a:moveTo>
                    <a:pt x="102" y="433"/>
                  </a:moveTo>
                  <a:lnTo>
                    <a:pt x="5" y="320"/>
                  </a:lnTo>
                  <a:lnTo>
                    <a:pt x="0" y="84"/>
                  </a:lnTo>
                  <a:lnTo>
                    <a:pt x="23" y="10"/>
                  </a:lnTo>
                  <a:lnTo>
                    <a:pt x="39" y="0"/>
                  </a:lnTo>
                  <a:lnTo>
                    <a:pt x="68" y="34"/>
                  </a:lnTo>
                  <a:lnTo>
                    <a:pt x="77" y="63"/>
                  </a:lnTo>
                  <a:lnTo>
                    <a:pt x="90" y="89"/>
                  </a:lnTo>
                  <a:lnTo>
                    <a:pt x="105" y="113"/>
                  </a:lnTo>
                  <a:lnTo>
                    <a:pt x="125" y="134"/>
                  </a:lnTo>
                  <a:lnTo>
                    <a:pt x="146" y="154"/>
                  </a:lnTo>
                  <a:lnTo>
                    <a:pt x="168" y="173"/>
                  </a:lnTo>
                  <a:lnTo>
                    <a:pt x="191" y="191"/>
                  </a:lnTo>
                  <a:lnTo>
                    <a:pt x="215" y="208"/>
                  </a:lnTo>
                  <a:lnTo>
                    <a:pt x="135" y="345"/>
                  </a:lnTo>
                  <a:lnTo>
                    <a:pt x="102" y="4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547760" y="2966040"/>
              <a:ext cx="61560" cy="1260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103" y="36"/>
                  </a:moveTo>
                  <a:lnTo>
                    <a:pt x="60" y="32"/>
                  </a:lnTo>
                  <a:lnTo>
                    <a:pt x="0" y="13"/>
                  </a:lnTo>
                  <a:lnTo>
                    <a:pt x="89" y="0"/>
                  </a:lnTo>
                  <a:lnTo>
                    <a:pt x="147" y="8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242480" y="3018600"/>
              <a:ext cx="66240" cy="90720"/>
            </a:xfrm>
            <a:custGeom>
              <a:avLst/>
              <a:gdLst/>
              <a:ahLst/>
              <a:rect l="l" t="t" r="r" b="b"/>
              <a:pathLst>
                <a:path w="158" h="250">
                  <a:moveTo>
                    <a:pt x="141" y="223"/>
                  </a:moveTo>
                  <a:lnTo>
                    <a:pt x="88" y="250"/>
                  </a:lnTo>
                  <a:lnTo>
                    <a:pt x="63" y="230"/>
                  </a:lnTo>
                  <a:lnTo>
                    <a:pt x="46" y="213"/>
                  </a:lnTo>
                  <a:lnTo>
                    <a:pt x="32" y="196"/>
                  </a:lnTo>
                  <a:lnTo>
                    <a:pt x="20" y="177"/>
                  </a:lnTo>
                  <a:lnTo>
                    <a:pt x="11" y="157"/>
                  </a:lnTo>
                  <a:lnTo>
                    <a:pt x="4" y="136"/>
                  </a:lnTo>
                  <a:lnTo>
                    <a:pt x="0" y="111"/>
                  </a:lnTo>
                  <a:lnTo>
                    <a:pt x="2" y="84"/>
                  </a:lnTo>
                  <a:lnTo>
                    <a:pt x="7" y="54"/>
                  </a:lnTo>
                  <a:lnTo>
                    <a:pt x="33" y="15"/>
                  </a:lnTo>
                  <a:lnTo>
                    <a:pt x="71" y="0"/>
                  </a:lnTo>
                  <a:lnTo>
                    <a:pt x="153" y="78"/>
                  </a:lnTo>
                  <a:lnTo>
                    <a:pt x="158" y="155"/>
                  </a:lnTo>
                  <a:lnTo>
                    <a:pt x="141" y="22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315920" y="2921040"/>
              <a:ext cx="141840" cy="146520"/>
            </a:xfrm>
            <a:custGeom>
              <a:avLst/>
              <a:gdLst/>
              <a:ahLst/>
              <a:rect l="l" t="t" r="r" b="b"/>
              <a:pathLst>
                <a:path w="340" h="403">
                  <a:moveTo>
                    <a:pt x="76" y="403"/>
                  </a:moveTo>
                  <a:lnTo>
                    <a:pt x="73" y="382"/>
                  </a:lnTo>
                  <a:lnTo>
                    <a:pt x="67" y="363"/>
                  </a:lnTo>
                  <a:lnTo>
                    <a:pt x="60" y="344"/>
                  </a:lnTo>
                  <a:lnTo>
                    <a:pt x="49" y="326"/>
                  </a:lnTo>
                  <a:lnTo>
                    <a:pt x="37" y="309"/>
                  </a:lnTo>
                  <a:lnTo>
                    <a:pt x="26" y="294"/>
                  </a:lnTo>
                  <a:lnTo>
                    <a:pt x="13" y="277"/>
                  </a:lnTo>
                  <a:lnTo>
                    <a:pt x="0" y="261"/>
                  </a:lnTo>
                  <a:lnTo>
                    <a:pt x="18" y="250"/>
                  </a:lnTo>
                  <a:lnTo>
                    <a:pt x="37" y="239"/>
                  </a:lnTo>
                  <a:lnTo>
                    <a:pt x="56" y="228"/>
                  </a:lnTo>
                  <a:lnTo>
                    <a:pt x="74" y="218"/>
                  </a:lnTo>
                  <a:lnTo>
                    <a:pt x="92" y="208"/>
                  </a:lnTo>
                  <a:lnTo>
                    <a:pt x="112" y="199"/>
                  </a:lnTo>
                  <a:lnTo>
                    <a:pt x="129" y="189"/>
                  </a:lnTo>
                  <a:lnTo>
                    <a:pt x="147" y="179"/>
                  </a:lnTo>
                  <a:lnTo>
                    <a:pt x="164" y="169"/>
                  </a:lnTo>
                  <a:lnTo>
                    <a:pt x="181" y="159"/>
                  </a:lnTo>
                  <a:lnTo>
                    <a:pt x="198" y="147"/>
                  </a:lnTo>
                  <a:lnTo>
                    <a:pt x="213" y="136"/>
                  </a:lnTo>
                  <a:lnTo>
                    <a:pt x="229" y="124"/>
                  </a:lnTo>
                  <a:lnTo>
                    <a:pt x="243" y="112"/>
                  </a:lnTo>
                  <a:lnTo>
                    <a:pt x="258" y="98"/>
                  </a:lnTo>
                  <a:lnTo>
                    <a:pt x="271" y="83"/>
                  </a:lnTo>
                  <a:lnTo>
                    <a:pt x="336" y="0"/>
                  </a:lnTo>
                  <a:lnTo>
                    <a:pt x="340" y="55"/>
                  </a:lnTo>
                  <a:lnTo>
                    <a:pt x="298" y="155"/>
                  </a:lnTo>
                  <a:lnTo>
                    <a:pt x="282" y="186"/>
                  </a:lnTo>
                  <a:lnTo>
                    <a:pt x="268" y="201"/>
                  </a:lnTo>
                  <a:lnTo>
                    <a:pt x="259" y="237"/>
                  </a:lnTo>
                  <a:lnTo>
                    <a:pt x="217" y="299"/>
                  </a:lnTo>
                  <a:lnTo>
                    <a:pt x="76" y="40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512840" y="2851920"/>
              <a:ext cx="88200" cy="92160"/>
            </a:xfrm>
            <a:custGeom>
              <a:avLst/>
              <a:gdLst/>
              <a:ahLst/>
              <a:rect l="l" t="t" r="r" b="b"/>
              <a:pathLst>
                <a:path w="213" h="253">
                  <a:moveTo>
                    <a:pt x="203" y="194"/>
                  </a:moveTo>
                  <a:lnTo>
                    <a:pt x="178" y="195"/>
                  </a:lnTo>
                  <a:lnTo>
                    <a:pt x="153" y="199"/>
                  </a:lnTo>
                  <a:lnTo>
                    <a:pt x="130" y="206"/>
                  </a:lnTo>
                  <a:lnTo>
                    <a:pt x="109" y="214"/>
                  </a:lnTo>
                  <a:lnTo>
                    <a:pt x="87" y="223"/>
                  </a:lnTo>
                  <a:lnTo>
                    <a:pt x="66" y="233"/>
                  </a:lnTo>
                  <a:lnTo>
                    <a:pt x="45" y="243"/>
                  </a:lnTo>
                  <a:lnTo>
                    <a:pt x="26" y="253"/>
                  </a:lnTo>
                  <a:lnTo>
                    <a:pt x="0" y="212"/>
                  </a:lnTo>
                  <a:lnTo>
                    <a:pt x="48" y="0"/>
                  </a:lnTo>
                  <a:lnTo>
                    <a:pt x="71" y="23"/>
                  </a:lnTo>
                  <a:lnTo>
                    <a:pt x="95" y="45"/>
                  </a:lnTo>
                  <a:lnTo>
                    <a:pt x="119" y="67"/>
                  </a:lnTo>
                  <a:lnTo>
                    <a:pt x="143" y="89"/>
                  </a:lnTo>
                  <a:lnTo>
                    <a:pt x="164" y="112"/>
                  </a:lnTo>
                  <a:lnTo>
                    <a:pt x="183" y="135"/>
                  </a:lnTo>
                  <a:lnTo>
                    <a:pt x="200" y="160"/>
                  </a:lnTo>
                  <a:lnTo>
                    <a:pt x="213" y="187"/>
                  </a:lnTo>
                  <a:lnTo>
                    <a:pt x="203" y="19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472520" y="289764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0" y="33"/>
                  </a:moveTo>
                  <a:lnTo>
                    <a:pt x="1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302240" y="2860920"/>
              <a:ext cx="90360" cy="63360"/>
            </a:xfrm>
            <a:custGeom>
              <a:avLst/>
              <a:gdLst/>
              <a:ahLst/>
              <a:rect l="l" t="t" r="r" b="b"/>
              <a:pathLst>
                <a:path w="217" h="173">
                  <a:moveTo>
                    <a:pt x="191" y="172"/>
                  </a:moveTo>
                  <a:lnTo>
                    <a:pt x="106" y="173"/>
                  </a:lnTo>
                  <a:lnTo>
                    <a:pt x="63" y="152"/>
                  </a:lnTo>
                  <a:lnTo>
                    <a:pt x="0" y="37"/>
                  </a:lnTo>
                  <a:lnTo>
                    <a:pt x="129" y="0"/>
                  </a:lnTo>
                  <a:lnTo>
                    <a:pt x="174" y="23"/>
                  </a:lnTo>
                  <a:lnTo>
                    <a:pt x="214" y="100"/>
                  </a:lnTo>
                  <a:lnTo>
                    <a:pt x="184" y="125"/>
                  </a:lnTo>
                  <a:lnTo>
                    <a:pt x="217" y="163"/>
                  </a:lnTo>
                  <a:lnTo>
                    <a:pt x="191" y="17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374240" y="2806560"/>
              <a:ext cx="102960" cy="87120"/>
            </a:xfrm>
            <a:custGeom>
              <a:avLst/>
              <a:gdLst/>
              <a:ahLst/>
              <a:rect l="l" t="t" r="r" b="b"/>
              <a:pathLst>
                <a:path w="248" h="240">
                  <a:moveTo>
                    <a:pt x="96" y="240"/>
                  </a:moveTo>
                  <a:lnTo>
                    <a:pt x="79" y="192"/>
                  </a:lnTo>
                  <a:lnTo>
                    <a:pt x="43" y="135"/>
                  </a:lnTo>
                  <a:lnTo>
                    <a:pt x="0" y="97"/>
                  </a:lnTo>
                  <a:lnTo>
                    <a:pt x="246" y="0"/>
                  </a:lnTo>
                  <a:lnTo>
                    <a:pt x="248" y="62"/>
                  </a:lnTo>
                  <a:lnTo>
                    <a:pt x="207" y="133"/>
                  </a:lnTo>
                  <a:lnTo>
                    <a:pt x="96" y="24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4440" y="2736000"/>
              <a:ext cx="48240" cy="74160"/>
            </a:xfrm>
            <a:custGeom>
              <a:avLst/>
              <a:gdLst/>
              <a:ahLst/>
              <a:rect l="l" t="t" r="r" b="b"/>
              <a:pathLst>
                <a:path w="113" h="201">
                  <a:moveTo>
                    <a:pt x="81" y="201"/>
                  </a:moveTo>
                  <a:lnTo>
                    <a:pt x="4" y="110"/>
                  </a:lnTo>
                  <a:lnTo>
                    <a:pt x="0" y="55"/>
                  </a:lnTo>
                  <a:lnTo>
                    <a:pt x="4" y="31"/>
                  </a:lnTo>
                  <a:lnTo>
                    <a:pt x="53" y="0"/>
                  </a:lnTo>
                  <a:lnTo>
                    <a:pt x="112" y="137"/>
                  </a:lnTo>
                  <a:lnTo>
                    <a:pt x="113" y="180"/>
                  </a:lnTo>
                  <a:lnTo>
                    <a:pt x="81" y="20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72960" y="2645640"/>
              <a:ext cx="36360" cy="57600"/>
            </a:xfrm>
            <a:custGeom>
              <a:avLst/>
              <a:gdLst/>
              <a:ahLst/>
              <a:rect l="l" t="t" r="r" b="b"/>
              <a:pathLst>
                <a:path w="87" h="160">
                  <a:moveTo>
                    <a:pt x="87" y="160"/>
                  </a:moveTo>
                  <a:lnTo>
                    <a:pt x="0" y="34"/>
                  </a:lnTo>
                  <a:lnTo>
                    <a:pt x="30" y="0"/>
                  </a:lnTo>
                  <a:lnTo>
                    <a:pt x="53" y="0"/>
                  </a:lnTo>
                  <a:lnTo>
                    <a:pt x="75" y="36"/>
                  </a:lnTo>
                  <a:lnTo>
                    <a:pt x="87" y="16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434360" y="2703600"/>
              <a:ext cx="91440" cy="70560"/>
            </a:xfrm>
            <a:custGeom>
              <a:avLst/>
              <a:gdLst/>
              <a:ahLst/>
              <a:rect l="l" t="t" r="r" b="b"/>
              <a:pathLst>
                <a:path w="218" h="194">
                  <a:moveTo>
                    <a:pt x="141" y="158"/>
                  </a:moveTo>
                  <a:lnTo>
                    <a:pt x="132" y="156"/>
                  </a:lnTo>
                  <a:lnTo>
                    <a:pt x="119" y="172"/>
                  </a:lnTo>
                  <a:lnTo>
                    <a:pt x="95" y="186"/>
                  </a:lnTo>
                  <a:lnTo>
                    <a:pt x="26" y="194"/>
                  </a:lnTo>
                  <a:lnTo>
                    <a:pt x="0" y="172"/>
                  </a:lnTo>
                  <a:lnTo>
                    <a:pt x="106" y="107"/>
                  </a:lnTo>
                  <a:lnTo>
                    <a:pt x="218" y="0"/>
                  </a:lnTo>
                  <a:lnTo>
                    <a:pt x="218" y="101"/>
                  </a:lnTo>
                  <a:lnTo>
                    <a:pt x="141" y="15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497720" y="2614680"/>
              <a:ext cx="61920" cy="43560"/>
            </a:xfrm>
            <a:custGeom>
              <a:avLst/>
              <a:gdLst/>
              <a:ahLst/>
              <a:rect l="l" t="t" r="r" b="b"/>
              <a:pathLst>
                <a:path w="144" h="118">
                  <a:moveTo>
                    <a:pt x="97" y="64"/>
                  </a:moveTo>
                  <a:lnTo>
                    <a:pt x="0" y="118"/>
                  </a:lnTo>
                  <a:lnTo>
                    <a:pt x="6" y="100"/>
                  </a:lnTo>
                  <a:lnTo>
                    <a:pt x="17" y="83"/>
                  </a:lnTo>
                  <a:lnTo>
                    <a:pt x="28" y="68"/>
                  </a:lnTo>
                  <a:lnTo>
                    <a:pt x="43" y="53"/>
                  </a:lnTo>
                  <a:lnTo>
                    <a:pt x="60" y="40"/>
                  </a:lnTo>
                  <a:lnTo>
                    <a:pt x="77" y="27"/>
                  </a:lnTo>
                  <a:lnTo>
                    <a:pt x="95" y="16"/>
                  </a:lnTo>
                  <a:lnTo>
                    <a:pt x="113" y="4"/>
                  </a:lnTo>
                  <a:lnTo>
                    <a:pt x="144" y="0"/>
                  </a:lnTo>
                  <a:lnTo>
                    <a:pt x="130" y="4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9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6554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1" name="ROOSTER" descr=""/>
          <p:cNvPicPr/>
          <p:nvPr/>
        </p:nvPicPr>
        <p:blipFill>
          <a:blip r:embed="rId1"/>
          <a:stretch/>
        </p:blipFill>
        <p:spPr>
          <a:xfrm>
            <a:off x="5638680" y="2805120"/>
            <a:ext cx="2449800" cy="2008080"/>
          </a:xfrm>
          <a:prstGeom prst="rect">
            <a:avLst/>
          </a:prstGeom>
          <a:ln w="0">
            <a:noFill/>
          </a:ln>
        </p:spPr>
      </p:pic>
      <p:pic>
        <p:nvPicPr>
          <p:cNvPr id="3082" name="CRANE6" descr=""/>
          <p:cNvPicPr/>
          <p:nvPr/>
        </p:nvPicPr>
        <p:blipFill>
          <a:blip r:embed="rId2"/>
          <a:stretch/>
        </p:blipFill>
        <p:spPr>
          <a:xfrm>
            <a:off x="457200" y="2736720"/>
            <a:ext cx="3454560" cy="2146320"/>
          </a:xfrm>
          <a:prstGeom prst="rect">
            <a:avLst/>
          </a:prstGeom>
          <a:ln w="0">
            <a:noFill/>
          </a:ln>
        </p:spPr>
      </p:pic>
      <p:sp>
        <p:nvSpPr>
          <p:cNvPr id="3083" name=""/>
          <p:cNvSpPr/>
          <p:nvPr/>
        </p:nvSpPr>
        <p:spPr>
          <a:xfrm>
            <a:off x="27450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72406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5" name="STETHSC2" descr=""/>
          <p:cNvPicPr/>
          <p:nvPr/>
        </p:nvPicPr>
        <p:blipFill>
          <a:blip r:embed="rId1"/>
          <a:stretch/>
        </p:blipFill>
        <p:spPr>
          <a:xfrm>
            <a:off x="5638680" y="3137040"/>
            <a:ext cx="2667240" cy="1344600"/>
          </a:xfrm>
          <a:prstGeom prst="rect">
            <a:avLst/>
          </a:prstGeom>
          <a:ln w="0">
            <a:noFill/>
          </a:ln>
        </p:spPr>
      </p:pic>
      <p:grpSp>
        <p:nvGrpSpPr>
          <p:cNvPr id="3086" name=""/>
          <p:cNvGrpSpPr/>
          <p:nvPr/>
        </p:nvGrpSpPr>
        <p:grpSpPr>
          <a:xfrm>
            <a:off x="990720" y="3017880"/>
            <a:ext cx="1695240" cy="1582560"/>
            <a:chOff x="990720" y="3017880"/>
            <a:chExt cx="1695240" cy="1582560"/>
          </a:xfrm>
        </p:grpSpPr>
        <p:sp>
          <p:nvSpPr>
            <p:cNvPr id="3087" name=""/>
            <p:cNvSpPr/>
            <p:nvPr/>
          </p:nvSpPr>
          <p:spPr>
            <a:xfrm>
              <a:off x="990720" y="3017880"/>
              <a:ext cx="1695240" cy="1582560"/>
            </a:xfrm>
            <a:custGeom>
              <a:avLst/>
              <a:gdLst/>
              <a:ahLst/>
              <a:rect l="l" t="t" r="r" b="b"/>
              <a:pathLst>
                <a:path w="4274" h="3990">
                  <a:moveTo>
                    <a:pt x="910" y="3669"/>
                  </a:moveTo>
                  <a:lnTo>
                    <a:pt x="851" y="3590"/>
                  </a:lnTo>
                  <a:lnTo>
                    <a:pt x="798" y="3506"/>
                  </a:lnTo>
                  <a:lnTo>
                    <a:pt x="755" y="3418"/>
                  </a:lnTo>
                  <a:lnTo>
                    <a:pt x="719" y="3326"/>
                  </a:lnTo>
                  <a:lnTo>
                    <a:pt x="690" y="3231"/>
                  </a:lnTo>
                  <a:lnTo>
                    <a:pt x="667" y="3135"/>
                  </a:lnTo>
                  <a:lnTo>
                    <a:pt x="652" y="3036"/>
                  </a:lnTo>
                  <a:lnTo>
                    <a:pt x="643" y="2935"/>
                  </a:lnTo>
                  <a:lnTo>
                    <a:pt x="638" y="2835"/>
                  </a:lnTo>
                  <a:lnTo>
                    <a:pt x="641" y="2733"/>
                  </a:lnTo>
                  <a:lnTo>
                    <a:pt x="648" y="2633"/>
                  </a:lnTo>
                  <a:lnTo>
                    <a:pt x="661" y="2532"/>
                  </a:lnTo>
                  <a:lnTo>
                    <a:pt x="677" y="2433"/>
                  </a:lnTo>
                  <a:lnTo>
                    <a:pt x="699" y="2336"/>
                  </a:lnTo>
                  <a:lnTo>
                    <a:pt x="724" y="2241"/>
                  </a:lnTo>
                  <a:lnTo>
                    <a:pt x="753" y="2148"/>
                  </a:lnTo>
                  <a:lnTo>
                    <a:pt x="715" y="2158"/>
                  </a:lnTo>
                  <a:lnTo>
                    <a:pt x="686" y="2168"/>
                  </a:lnTo>
                  <a:lnTo>
                    <a:pt x="664" y="2181"/>
                  </a:lnTo>
                  <a:lnTo>
                    <a:pt x="646" y="2199"/>
                  </a:lnTo>
                  <a:lnTo>
                    <a:pt x="631" y="2222"/>
                  </a:lnTo>
                  <a:lnTo>
                    <a:pt x="616" y="2249"/>
                  </a:lnTo>
                  <a:lnTo>
                    <a:pt x="580" y="2327"/>
                  </a:lnTo>
                  <a:lnTo>
                    <a:pt x="555" y="2390"/>
                  </a:lnTo>
                  <a:lnTo>
                    <a:pt x="530" y="2462"/>
                  </a:lnTo>
                  <a:lnTo>
                    <a:pt x="483" y="2606"/>
                  </a:lnTo>
                  <a:lnTo>
                    <a:pt x="442" y="2718"/>
                  </a:lnTo>
                  <a:lnTo>
                    <a:pt x="424" y="2747"/>
                  </a:lnTo>
                  <a:lnTo>
                    <a:pt x="417" y="2753"/>
                  </a:lnTo>
                  <a:lnTo>
                    <a:pt x="416" y="2756"/>
                  </a:lnTo>
                  <a:lnTo>
                    <a:pt x="408" y="2751"/>
                  </a:lnTo>
                  <a:lnTo>
                    <a:pt x="385" y="2786"/>
                  </a:lnTo>
                  <a:lnTo>
                    <a:pt x="350" y="2821"/>
                  </a:lnTo>
                  <a:lnTo>
                    <a:pt x="330" y="2835"/>
                  </a:lnTo>
                  <a:lnTo>
                    <a:pt x="309" y="2843"/>
                  </a:lnTo>
                  <a:lnTo>
                    <a:pt x="288" y="2844"/>
                  </a:lnTo>
                  <a:lnTo>
                    <a:pt x="267" y="2835"/>
                  </a:lnTo>
                  <a:lnTo>
                    <a:pt x="266" y="2849"/>
                  </a:lnTo>
                  <a:lnTo>
                    <a:pt x="261" y="2866"/>
                  </a:lnTo>
                  <a:lnTo>
                    <a:pt x="240" y="2895"/>
                  </a:lnTo>
                  <a:lnTo>
                    <a:pt x="225" y="2905"/>
                  </a:lnTo>
                  <a:lnTo>
                    <a:pt x="211" y="2911"/>
                  </a:lnTo>
                  <a:lnTo>
                    <a:pt x="195" y="2909"/>
                  </a:lnTo>
                  <a:lnTo>
                    <a:pt x="180" y="2897"/>
                  </a:lnTo>
                  <a:lnTo>
                    <a:pt x="178" y="2934"/>
                  </a:lnTo>
                  <a:lnTo>
                    <a:pt x="168" y="2959"/>
                  </a:lnTo>
                  <a:lnTo>
                    <a:pt x="152" y="2976"/>
                  </a:lnTo>
                  <a:lnTo>
                    <a:pt x="135" y="2991"/>
                  </a:lnTo>
                  <a:lnTo>
                    <a:pt x="118" y="3010"/>
                  </a:lnTo>
                  <a:lnTo>
                    <a:pt x="104" y="3037"/>
                  </a:lnTo>
                  <a:lnTo>
                    <a:pt x="99" y="3056"/>
                  </a:lnTo>
                  <a:lnTo>
                    <a:pt x="97" y="3078"/>
                  </a:lnTo>
                  <a:lnTo>
                    <a:pt x="97" y="3105"/>
                  </a:lnTo>
                  <a:lnTo>
                    <a:pt x="99" y="3137"/>
                  </a:lnTo>
                  <a:lnTo>
                    <a:pt x="73" y="3111"/>
                  </a:lnTo>
                  <a:lnTo>
                    <a:pt x="56" y="3079"/>
                  </a:lnTo>
                  <a:lnTo>
                    <a:pt x="51" y="3044"/>
                  </a:lnTo>
                  <a:lnTo>
                    <a:pt x="54" y="3007"/>
                  </a:lnTo>
                  <a:lnTo>
                    <a:pt x="33" y="3026"/>
                  </a:lnTo>
                  <a:lnTo>
                    <a:pt x="17" y="3048"/>
                  </a:lnTo>
                  <a:lnTo>
                    <a:pt x="7" y="3074"/>
                  </a:lnTo>
                  <a:lnTo>
                    <a:pt x="3" y="3103"/>
                  </a:lnTo>
                  <a:lnTo>
                    <a:pt x="0" y="3082"/>
                  </a:lnTo>
                  <a:lnTo>
                    <a:pt x="0" y="3060"/>
                  </a:lnTo>
                  <a:lnTo>
                    <a:pt x="8" y="3021"/>
                  </a:lnTo>
                  <a:lnTo>
                    <a:pt x="24" y="2986"/>
                  </a:lnTo>
                  <a:lnTo>
                    <a:pt x="45" y="2952"/>
                  </a:lnTo>
                  <a:lnTo>
                    <a:pt x="100" y="2890"/>
                  </a:lnTo>
                  <a:lnTo>
                    <a:pt x="158" y="2833"/>
                  </a:lnTo>
                  <a:lnTo>
                    <a:pt x="161" y="2815"/>
                  </a:lnTo>
                  <a:lnTo>
                    <a:pt x="169" y="2801"/>
                  </a:lnTo>
                  <a:lnTo>
                    <a:pt x="180" y="2789"/>
                  </a:lnTo>
                  <a:lnTo>
                    <a:pt x="195" y="2781"/>
                  </a:lnTo>
                  <a:lnTo>
                    <a:pt x="228" y="2771"/>
                  </a:lnTo>
                  <a:lnTo>
                    <a:pt x="261" y="2768"/>
                  </a:lnTo>
                  <a:lnTo>
                    <a:pt x="267" y="2751"/>
                  </a:lnTo>
                  <a:lnTo>
                    <a:pt x="280" y="2738"/>
                  </a:lnTo>
                  <a:lnTo>
                    <a:pt x="312" y="2718"/>
                  </a:lnTo>
                  <a:lnTo>
                    <a:pt x="387" y="2690"/>
                  </a:lnTo>
                  <a:lnTo>
                    <a:pt x="397" y="2623"/>
                  </a:lnTo>
                  <a:lnTo>
                    <a:pt x="408" y="2556"/>
                  </a:lnTo>
                  <a:lnTo>
                    <a:pt x="442" y="2424"/>
                  </a:lnTo>
                  <a:lnTo>
                    <a:pt x="485" y="2298"/>
                  </a:lnTo>
                  <a:lnTo>
                    <a:pt x="511" y="2238"/>
                  </a:lnTo>
                  <a:lnTo>
                    <a:pt x="539" y="2181"/>
                  </a:lnTo>
                  <a:lnTo>
                    <a:pt x="570" y="2127"/>
                  </a:lnTo>
                  <a:lnTo>
                    <a:pt x="605" y="2077"/>
                  </a:lnTo>
                  <a:lnTo>
                    <a:pt x="641" y="2030"/>
                  </a:lnTo>
                  <a:lnTo>
                    <a:pt x="680" y="1986"/>
                  </a:lnTo>
                  <a:lnTo>
                    <a:pt x="722" y="1948"/>
                  </a:lnTo>
                  <a:lnTo>
                    <a:pt x="767" y="1915"/>
                  </a:lnTo>
                  <a:lnTo>
                    <a:pt x="814" y="1887"/>
                  </a:lnTo>
                  <a:lnTo>
                    <a:pt x="864" y="1864"/>
                  </a:lnTo>
                  <a:lnTo>
                    <a:pt x="934" y="1717"/>
                  </a:lnTo>
                  <a:lnTo>
                    <a:pt x="1014" y="1573"/>
                  </a:lnTo>
                  <a:lnTo>
                    <a:pt x="1101" y="1434"/>
                  </a:lnTo>
                  <a:lnTo>
                    <a:pt x="1196" y="1301"/>
                  </a:lnTo>
                  <a:lnTo>
                    <a:pt x="1257" y="1226"/>
                  </a:lnTo>
                  <a:lnTo>
                    <a:pt x="1321" y="1152"/>
                  </a:lnTo>
                  <a:lnTo>
                    <a:pt x="1281" y="1118"/>
                  </a:lnTo>
                  <a:lnTo>
                    <a:pt x="1225" y="1136"/>
                  </a:lnTo>
                  <a:lnTo>
                    <a:pt x="1168" y="1160"/>
                  </a:lnTo>
                  <a:lnTo>
                    <a:pt x="1111" y="1186"/>
                  </a:lnTo>
                  <a:lnTo>
                    <a:pt x="1055" y="1217"/>
                  </a:lnTo>
                  <a:lnTo>
                    <a:pt x="1001" y="1252"/>
                  </a:lnTo>
                  <a:lnTo>
                    <a:pt x="953" y="1291"/>
                  </a:lnTo>
                  <a:lnTo>
                    <a:pt x="912" y="1336"/>
                  </a:lnTo>
                  <a:lnTo>
                    <a:pt x="879" y="1384"/>
                  </a:lnTo>
                  <a:lnTo>
                    <a:pt x="862" y="1402"/>
                  </a:lnTo>
                  <a:lnTo>
                    <a:pt x="842" y="1408"/>
                  </a:lnTo>
                  <a:lnTo>
                    <a:pt x="832" y="1405"/>
                  </a:lnTo>
                  <a:lnTo>
                    <a:pt x="824" y="1399"/>
                  </a:lnTo>
                  <a:lnTo>
                    <a:pt x="817" y="1387"/>
                  </a:lnTo>
                  <a:lnTo>
                    <a:pt x="814" y="1371"/>
                  </a:lnTo>
                  <a:lnTo>
                    <a:pt x="765" y="1389"/>
                  </a:lnTo>
                  <a:lnTo>
                    <a:pt x="717" y="1395"/>
                  </a:lnTo>
                  <a:lnTo>
                    <a:pt x="676" y="1392"/>
                  </a:lnTo>
                  <a:lnTo>
                    <a:pt x="662" y="1385"/>
                  </a:lnTo>
                  <a:lnTo>
                    <a:pt x="652" y="1376"/>
                  </a:lnTo>
                  <a:lnTo>
                    <a:pt x="613" y="1392"/>
                  </a:lnTo>
                  <a:lnTo>
                    <a:pt x="575" y="1401"/>
                  </a:lnTo>
                  <a:lnTo>
                    <a:pt x="545" y="1400"/>
                  </a:lnTo>
                  <a:lnTo>
                    <a:pt x="534" y="1395"/>
                  </a:lnTo>
                  <a:lnTo>
                    <a:pt x="528" y="1386"/>
                  </a:lnTo>
                  <a:lnTo>
                    <a:pt x="507" y="1401"/>
                  </a:lnTo>
                  <a:lnTo>
                    <a:pt x="491" y="1422"/>
                  </a:lnTo>
                  <a:lnTo>
                    <a:pt x="479" y="1448"/>
                  </a:lnTo>
                  <a:lnTo>
                    <a:pt x="470" y="1477"/>
                  </a:lnTo>
                  <a:lnTo>
                    <a:pt x="450" y="1537"/>
                  </a:lnTo>
                  <a:lnTo>
                    <a:pt x="436" y="1563"/>
                  </a:lnTo>
                  <a:lnTo>
                    <a:pt x="429" y="1573"/>
                  </a:lnTo>
                  <a:lnTo>
                    <a:pt x="417" y="1585"/>
                  </a:lnTo>
                  <a:lnTo>
                    <a:pt x="417" y="1562"/>
                  </a:lnTo>
                  <a:lnTo>
                    <a:pt x="409" y="1539"/>
                  </a:lnTo>
                  <a:lnTo>
                    <a:pt x="396" y="1520"/>
                  </a:lnTo>
                  <a:lnTo>
                    <a:pt x="377" y="1505"/>
                  </a:lnTo>
                  <a:lnTo>
                    <a:pt x="356" y="1527"/>
                  </a:lnTo>
                  <a:lnTo>
                    <a:pt x="338" y="1553"/>
                  </a:lnTo>
                  <a:lnTo>
                    <a:pt x="326" y="1581"/>
                  </a:lnTo>
                  <a:lnTo>
                    <a:pt x="319" y="1612"/>
                  </a:lnTo>
                  <a:lnTo>
                    <a:pt x="310" y="1587"/>
                  </a:lnTo>
                  <a:lnTo>
                    <a:pt x="305" y="1563"/>
                  </a:lnTo>
                  <a:lnTo>
                    <a:pt x="308" y="1517"/>
                  </a:lnTo>
                  <a:lnTo>
                    <a:pt x="324" y="1473"/>
                  </a:lnTo>
                  <a:lnTo>
                    <a:pt x="351" y="1434"/>
                  </a:lnTo>
                  <a:lnTo>
                    <a:pt x="387" y="1400"/>
                  </a:lnTo>
                  <a:lnTo>
                    <a:pt x="427" y="1371"/>
                  </a:lnTo>
                  <a:lnTo>
                    <a:pt x="472" y="1348"/>
                  </a:lnTo>
                  <a:lnTo>
                    <a:pt x="517" y="1334"/>
                  </a:lnTo>
                  <a:lnTo>
                    <a:pt x="521" y="1318"/>
                  </a:lnTo>
                  <a:lnTo>
                    <a:pt x="534" y="1306"/>
                  </a:lnTo>
                  <a:lnTo>
                    <a:pt x="555" y="1299"/>
                  </a:lnTo>
                  <a:lnTo>
                    <a:pt x="578" y="1296"/>
                  </a:lnTo>
                  <a:lnTo>
                    <a:pt x="625" y="1297"/>
                  </a:lnTo>
                  <a:lnTo>
                    <a:pt x="643" y="1301"/>
                  </a:lnTo>
                  <a:lnTo>
                    <a:pt x="653" y="1307"/>
                  </a:lnTo>
                  <a:lnTo>
                    <a:pt x="670" y="1293"/>
                  </a:lnTo>
                  <a:lnTo>
                    <a:pt x="689" y="1286"/>
                  </a:lnTo>
                  <a:lnTo>
                    <a:pt x="710" y="1284"/>
                  </a:lnTo>
                  <a:lnTo>
                    <a:pt x="732" y="1287"/>
                  </a:lnTo>
                  <a:lnTo>
                    <a:pt x="818" y="1309"/>
                  </a:lnTo>
                  <a:lnTo>
                    <a:pt x="857" y="1250"/>
                  </a:lnTo>
                  <a:lnTo>
                    <a:pt x="902" y="1201"/>
                  </a:lnTo>
                  <a:lnTo>
                    <a:pt x="950" y="1161"/>
                  </a:lnTo>
                  <a:lnTo>
                    <a:pt x="1004" y="1127"/>
                  </a:lnTo>
                  <a:lnTo>
                    <a:pt x="1062" y="1100"/>
                  </a:lnTo>
                  <a:lnTo>
                    <a:pt x="1125" y="1079"/>
                  </a:lnTo>
                  <a:lnTo>
                    <a:pt x="1194" y="1061"/>
                  </a:lnTo>
                  <a:lnTo>
                    <a:pt x="1267" y="1047"/>
                  </a:lnTo>
                  <a:lnTo>
                    <a:pt x="1283" y="1028"/>
                  </a:lnTo>
                  <a:lnTo>
                    <a:pt x="1306" y="1012"/>
                  </a:lnTo>
                  <a:lnTo>
                    <a:pt x="1334" y="999"/>
                  </a:lnTo>
                  <a:lnTo>
                    <a:pt x="1366" y="989"/>
                  </a:lnTo>
                  <a:lnTo>
                    <a:pt x="1434" y="978"/>
                  </a:lnTo>
                  <a:lnTo>
                    <a:pt x="1465" y="977"/>
                  </a:lnTo>
                  <a:lnTo>
                    <a:pt x="1494" y="980"/>
                  </a:lnTo>
                  <a:lnTo>
                    <a:pt x="1558" y="926"/>
                  </a:lnTo>
                  <a:lnTo>
                    <a:pt x="1616" y="885"/>
                  </a:lnTo>
                  <a:lnTo>
                    <a:pt x="1671" y="853"/>
                  </a:lnTo>
                  <a:lnTo>
                    <a:pt x="1726" y="831"/>
                  </a:lnTo>
                  <a:lnTo>
                    <a:pt x="1785" y="819"/>
                  </a:lnTo>
                  <a:lnTo>
                    <a:pt x="1848" y="817"/>
                  </a:lnTo>
                  <a:lnTo>
                    <a:pt x="1920" y="821"/>
                  </a:lnTo>
                  <a:lnTo>
                    <a:pt x="2002" y="835"/>
                  </a:lnTo>
                  <a:lnTo>
                    <a:pt x="1985" y="815"/>
                  </a:lnTo>
                  <a:lnTo>
                    <a:pt x="1971" y="791"/>
                  </a:lnTo>
                  <a:lnTo>
                    <a:pt x="1963" y="767"/>
                  </a:lnTo>
                  <a:lnTo>
                    <a:pt x="1960" y="740"/>
                  </a:lnTo>
                  <a:lnTo>
                    <a:pt x="1961" y="713"/>
                  </a:lnTo>
                  <a:lnTo>
                    <a:pt x="1966" y="685"/>
                  </a:lnTo>
                  <a:lnTo>
                    <a:pt x="1983" y="631"/>
                  </a:lnTo>
                  <a:lnTo>
                    <a:pt x="1954" y="617"/>
                  </a:lnTo>
                  <a:lnTo>
                    <a:pt x="1922" y="609"/>
                  </a:lnTo>
                  <a:lnTo>
                    <a:pt x="1887" y="606"/>
                  </a:lnTo>
                  <a:lnTo>
                    <a:pt x="1853" y="606"/>
                  </a:lnTo>
                  <a:lnTo>
                    <a:pt x="1779" y="615"/>
                  </a:lnTo>
                  <a:lnTo>
                    <a:pt x="1707" y="628"/>
                  </a:lnTo>
                  <a:lnTo>
                    <a:pt x="1642" y="638"/>
                  </a:lnTo>
                  <a:lnTo>
                    <a:pt x="1613" y="640"/>
                  </a:lnTo>
                  <a:lnTo>
                    <a:pt x="1587" y="638"/>
                  </a:lnTo>
                  <a:lnTo>
                    <a:pt x="1564" y="633"/>
                  </a:lnTo>
                  <a:lnTo>
                    <a:pt x="1547" y="620"/>
                  </a:lnTo>
                  <a:lnTo>
                    <a:pt x="1534" y="602"/>
                  </a:lnTo>
                  <a:lnTo>
                    <a:pt x="1526" y="578"/>
                  </a:lnTo>
                  <a:lnTo>
                    <a:pt x="1473" y="558"/>
                  </a:lnTo>
                  <a:lnTo>
                    <a:pt x="1424" y="532"/>
                  </a:lnTo>
                  <a:lnTo>
                    <a:pt x="1405" y="519"/>
                  </a:lnTo>
                  <a:lnTo>
                    <a:pt x="1395" y="505"/>
                  </a:lnTo>
                  <a:lnTo>
                    <a:pt x="1394" y="493"/>
                  </a:lnTo>
                  <a:lnTo>
                    <a:pt x="1405" y="481"/>
                  </a:lnTo>
                  <a:lnTo>
                    <a:pt x="1353" y="455"/>
                  </a:lnTo>
                  <a:lnTo>
                    <a:pt x="1334" y="440"/>
                  </a:lnTo>
                  <a:lnTo>
                    <a:pt x="1319" y="425"/>
                  </a:lnTo>
                  <a:lnTo>
                    <a:pt x="1309" y="411"/>
                  </a:lnTo>
                  <a:lnTo>
                    <a:pt x="1305" y="398"/>
                  </a:lnTo>
                  <a:lnTo>
                    <a:pt x="1306" y="387"/>
                  </a:lnTo>
                  <a:lnTo>
                    <a:pt x="1315" y="379"/>
                  </a:lnTo>
                  <a:lnTo>
                    <a:pt x="1295" y="362"/>
                  </a:lnTo>
                  <a:lnTo>
                    <a:pt x="1273" y="351"/>
                  </a:lnTo>
                  <a:lnTo>
                    <a:pt x="1248" y="344"/>
                  </a:lnTo>
                  <a:lnTo>
                    <a:pt x="1224" y="342"/>
                  </a:lnTo>
                  <a:lnTo>
                    <a:pt x="1197" y="342"/>
                  </a:lnTo>
                  <a:lnTo>
                    <a:pt x="1171" y="347"/>
                  </a:lnTo>
                  <a:lnTo>
                    <a:pt x="1122" y="361"/>
                  </a:lnTo>
                  <a:lnTo>
                    <a:pt x="1129" y="332"/>
                  </a:lnTo>
                  <a:lnTo>
                    <a:pt x="1144" y="308"/>
                  </a:lnTo>
                  <a:lnTo>
                    <a:pt x="1167" y="289"/>
                  </a:lnTo>
                  <a:lnTo>
                    <a:pt x="1196" y="280"/>
                  </a:lnTo>
                  <a:lnTo>
                    <a:pt x="1189" y="263"/>
                  </a:lnTo>
                  <a:lnTo>
                    <a:pt x="1178" y="250"/>
                  </a:lnTo>
                  <a:lnTo>
                    <a:pt x="1162" y="242"/>
                  </a:lnTo>
                  <a:lnTo>
                    <a:pt x="1144" y="239"/>
                  </a:lnTo>
                  <a:lnTo>
                    <a:pt x="1176" y="233"/>
                  </a:lnTo>
                  <a:lnTo>
                    <a:pt x="1206" y="235"/>
                  </a:lnTo>
                  <a:lnTo>
                    <a:pt x="1236" y="246"/>
                  </a:lnTo>
                  <a:lnTo>
                    <a:pt x="1265" y="263"/>
                  </a:lnTo>
                  <a:lnTo>
                    <a:pt x="1318" y="309"/>
                  </a:lnTo>
                  <a:lnTo>
                    <a:pt x="1359" y="357"/>
                  </a:lnTo>
                  <a:lnTo>
                    <a:pt x="1366" y="354"/>
                  </a:lnTo>
                  <a:lnTo>
                    <a:pt x="1373" y="354"/>
                  </a:lnTo>
                  <a:lnTo>
                    <a:pt x="1387" y="362"/>
                  </a:lnTo>
                  <a:lnTo>
                    <a:pt x="1414" y="396"/>
                  </a:lnTo>
                  <a:lnTo>
                    <a:pt x="1434" y="435"/>
                  </a:lnTo>
                  <a:lnTo>
                    <a:pt x="1442" y="458"/>
                  </a:lnTo>
                  <a:lnTo>
                    <a:pt x="1455" y="454"/>
                  </a:lnTo>
                  <a:lnTo>
                    <a:pt x="1468" y="456"/>
                  </a:lnTo>
                  <a:lnTo>
                    <a:pt x="1481" y="464"/>
                  </a:lnTo>
                  <a:lnTo>
                    <a:pt x="1493" y="475"/>
                  </a:lnTo>
                  <a:lnTo>
                    <a:pt x="1516" y="509"/>
                  </a:lnTo>
                  <a:lnTo>
                    <a:pt x="1537" y="545"/>
                  </a:lnTo>
                  <a:lnTo>
                    <a:pt x="1556" y="531"/>
                  </a:lnTo>
                  <a:lnTo>
                    <a:pt x="1578" y="519"/>
                  </a:lnTo>
                  <a:lnTo>
                    <a:pt x="1605" y="509"/>
                  </a:lnTo>
                  <a:lnTo>
                    <a:pt x="1633" y="501"/>
                  </a:lnTo>
                  <a:lnTo>
                    <a:pt x="1696" y="492"/>
                  </a:lnTo>
                  <a:lnTo>
                    <a:pt x="1766" y="492"/>
                  </a:lnTo>
                  <a:lnTo>
                    <a:pt x="1836" y="500"/>
                  </a:lnTo>
                  <a:lnTo>
                    <a:pt x="1905" y="514"/>
                  </a:lnTo>
                  <a:lnTo>
                    <a:pt x="1970" y="537"/>
                  </a:lnTo>
                  <a:lnTo>
                    <a:pt x="2027" y="566"/>
                  </a:lnTo>
                  <a:lnTo>
                    <a:pt x="2054" y="540"/>
                  </a:lnTo>
                  <a:lnTo>
                    <a:pt x="2082" y="518"/>
                  </a:lnTo>
                  <a:lnTo>
                    <a:pt x="2143" y="481"/>
                  </a:lnTo>
                  <a:lnTo>
                    <a:pt x="2210" y="453"/>
                  </a:lnTo>
                  <a:lnTo>
                    <a:pt x="2281" y="435"/>
                  </a:lnTo>
                  <a:lnTo>
                    <a:pt x="2353" y="425"/>
                  </a:lnTo>
                  <a:lnTo>
                    <a:pt x="2426" y="423"/>
                  </a:lnTo>
                  <a:lnTo>
                    <a:pt x="2498" y="426"/>
                  </a:lnTo>
                  <a:lnTo>
                    <a:pt x="2569" y="436"/>
                  </a:lnTo>
                  <a:lnTo>
                    <a:pt x="2579" y="414"/>
                  </a:lnTo>
                  <a:lnTo>
                    <a:pt x="2593" y="396"/>
                  </a:lnTo>
                  <a:lnTo>
                    <a:pt x="2613" y="382"/>
                  </a:lnTo>
                  <a:lnTo>
                    <a:pt x="2636" y="373"/>
                  </a:lnTo>
                  <a:lnTo>
                    <a:pt x="2660" y="370"/>
                  </a:lnTo>
                  <a:lnTo>
                    <a:pt x="2685" y="371"/>
                  </a:lnTo>
                  <a:lnTo>
                    <a:pt x="2708" y="377"/>
                  </a:lnTo>
                  <a:lnTo>
                    <a:pt x="2730" y="387"/>
                  </a:lnTo>
                  <a:lnTo>
                    <a:pt x="2745" y="371"/>
                  </a:lnTo>
                  <a:lnTo>
                    <a:pt x="2735" y="348"/>
                  </a:lnTo>
                  <a:lnTo>
                    <a:pt x="2722" y="328"/>
                  </a:lnTo>
                  <a:lnTo>
                    <a:pt x="2687" y="291"/>
                  </a:lnTo>
                  <a:lnTo>
                    <a:pt x="2605" y="226"/>
                  </a:lnTo>
                  <a:lnTo>
                    <a:pt x="2564" y="193"/>
                  </a:lnTo>
                  <a:lnTo>
                    <a:pt x="2530" y="156"/>
                  </a:lnTo>
                  <a:lnTo>
                    <a:pt x="2517" y="134"/>
                  </a:lnTo>
                  <a:lnTo>
                    <a:pt x="2507" y="111"/>
                  </a:lnTo>
                  <a:lnTo>
                    <a:pt x="2501" y="85"/>
                  </a:lnTo>
                  <a:lnTo>
                    <a:pt x="2498" y="56"/>
                  </a:lnTo>
                  <a:lnTo>
                    <a:pt x="2503" y="32"/>
                  </a:lnTo>
                  <a:lnTo>
                    <a:pt x="2514" y="14"/>
                  </a:lnTo>
                  <a:lnTo>
                    <a:pt x="2531" y="4"/>
                  </a:lnTo>
                  <a:lnTo>
                    <a:pt x="2550" y="0"/>
                  </a:lnTo>
                  <a:lnTo>
                    <a:pt x="2570" y="6"/>
                  </a:lnTo>
                  <a:lnTo>
                    <a:pt x="2590" y="18"/>
                  </a:lnTo>
                  <a:lnTo>
                    <a:pt x="2607" y="41"/>
                  </a:lnTo>
                  <a:lnTo>
                    <a:pt x="2618" y="71"/>
                  </a:lnTo>
                  <a:lnTo>
                    <a:pt x="2632" y="113"/>
                  </a:lnTo>
                  <a:lnTo>
                    <a:pt x="2654" y="149"/>
                  </a:lnTo>
                  <a:lnTo>
                    <a:pt x="2678" y="179"/>
                  </a:lnTo>
                  <a:lnTo>
                    <a:pt x="2705" y="207"/>
                  </a:lnTo>
                  <a:lnTo>
                    <a:pt x="2732" y="235"/>
                  </a:lnTo>
                  <a:lnTo>
                    <a:pt x="2759" y="266"/>
                  </a:lnTo>
                  <a:lnTo>
                    <a:pt x="2781" y="303"/>
                  </a:lnTo>
                  <a:lnTo>
                    <a:pt x="2799" y="349"/>
                  </a:lnTo>
                  <a:lnTo>
                    <a:pt x="2853" y="344"/>
                  </a:lnTo>
                  <a:lnTo>
                    <a:pt x="2907" y="349"/>
                  </a:lnTo>
                  <a:lnTo>
                    <a:pt x="2961" y="360"/>
                  </a:lnTo>
                  <a:lnTo>
                    <a:pt x="3012" y="378"/>
                  </a:lnTo>
                  <a:lnTo>
                    <a:pt x="3061" y="404"/>
                  </a:lnTo>
                  <a:lnTo>
                    <a:pt x="3106" y="435"/>
                  </a:lnTo>
                  <a:lnTo>
                    <a:pt x="3146" y="471"/>
                  </a:lnTo>
                  <a:lnTo>
                    <a:pt x="3181" y="513"/>
                  </a:lnTo>
                  <a:lnTo>
                    <a:pt x="3195" y="493"/>
                  </a:lnTo>
                  <a:lnTo>
                    <a:pt x="3212" y="480"/>
                  </a:lnTo>
                  <a:lnTo>
                    <a:pt x="3249" y="466"/>
                  </a:lnTo>
                  <a:lnTo>
                    <a:pt x="3290" y="465"/>
                  </a:lnTo>
                  <a:lnTo>
                    <a:pt x="3335" y="472"/>
                  </a:lnTo>
                  <a:lnTo>
                    <a:pt x="3382" y="480"/>
                  </a:lnTo>
                  <a:lnTo>
                    <a:pt x="3429" y="481"/>
                  </a:lnTo>
                  <a:lnTo>
                    <a:pt x="3452" y="477"/>
                  </a:lnTo>
                  <a:lnTo>
                    <a:pt x="3475" y="471"/>
                  </a:lnTo>
                  <a:lnTo>
                    <a:pt x="3498" y="458"/>
                  </a:lnTo>
                  <a:lnTo>
                    <a:pt x="3519" y="442"/>
                  </a:lnTo>
                  <a:lnTo>
                    <a:pt x="3534" y="432"/>
                  </a:lnTo>
                  <a:lnTo>
                    <a:pt x="3550" y="425"/>
                  </a:lnTo>
                  <a:lnTo>
                    <a:pt x="3581" y="424"/>
                  </a:lnTo>
                  <a:lnTo>
                    <a:pt x="3595" y="429"/>
                  </a:lnTo>
                  <a:lnTo>
                    <a:pt x="3609" y="436"/>
                  </a:lnTo>
                  <a:lnTo>
                    <a:pt x="3629" y="457"/>
                  </a:lnTo>
                  <a:lnTo>
                    <a:pt x="3638" y="484"/>
                  </a:lnTo>
                  <a:lnTo>
                    <a:pt x="3637" y="499"/>
                  </a:lnTo>
                  <a:lnTo>
                    <a:pt x="3630" y="512"/>
                  </a:lnTo>
                  <a:lnTo>
                    <a:pt x="3620" y="526"/>
                  </a:lnTo>
                  <a:lnTo>
                    <a:pt x="3603" y="540"/>
                  </a:lnTo>
                  <a:lnTo>
                    <a:pt x="3581" y="552"/>
                  </a:lnTo>
                  <a:lnTo>
                    <a:pt x="3552" y="562"/>
                  </a:lnTo>
                  <a:lnTo>
                    <a:pt x="3509" y="567"/>
                  </a:lnTo>
                  <a:lnTo>
                    <a:pt x="3465" y="562"/>
                  </a:lnTo>
                  <a:lnTo>
                    <a:pt x="3376" y="543"/>
                  </a:lnTo>
                  <a:lnTo>
                    <a:pt x="3332" y="534"/>
                  </a:lnTo>
                  <a:lnTo>
                    <a:pt x="3287" y="531"/>
                  </a:lnTo>
                  <a:lnTo>
                    <a:pt x="3244" y="538"/>
                  </a:lnTo>
                  <a:lnTo>
                    <a:pt x="3222" y="544"/>
                  </a:lnTo>
                  <a:lnTo>
                    <a:pt x="3201" y="556"/>
                  </a:lnTo>
                  <a:lnTo>
                    <a:pt x="3207" y="582"/>
                  </a:lnTo>
                  <a:lnTo>
                    <a:pt x="3204" y="609"/>
                  </a:lnTo>
                  <a:lnTo>
                    <a:pt x="3228" y="617"/>
                  </a:lnTo>
                  <a:lnTo>
                    <a:pt x="3247" y="631"/>
                  </a:lnTo>
                  <a:lnTo>
                    <a:pt x="3261" y="650"/>
                  </a:lnTo>
                  <a:lnTo>
                    <a:pt x="3271" y="673"/>
                  </a:lnTo>
                  <a:lnTo>
                    <a:pt x="3275" y="696"/>
                  </a:lnTo>
                  <a:lnTo>
                    <a:pt x="3271" y="721"/>
                  </a:lnTo>
                  <a:lnTo>
                    <a:pt x="3261" y="745"/>
                  </a:lnTo>
                  <a:lnTo>
                    <a:pt x="3244" y="768"/>
                  </a:lnTo>
                  <a:lnTo>
                    <a:pt x="3302" y="834"/>
                  </a:lnTo>
                  <a:lnTo>
                    <a:pt x="3350" y="906"/>
                  </a:lnTo>
                  <a:lnTo>
                    <a:pt x="3369" y="945"/>
                  </a:lnTo>
                  <a:lnTo>
                    <a:pt x="3387" y="985"/>
                  </a:lnTo>
                  <a:lnTo>
                    <a:pt x="3400" y="1026"/>
                  </a:lnTo>
                  <a:lnTo>
                    <a:pt x="3411" y="1068"/>
                  </a:lnTo>
                  <a:lnTo>
                    <a:pt x="3448" y="1058"/>
                  </a:lnTo>
                  <a:lnTo>
                    <a:pt x="3478" y="1059"/>
                  </a:lnTo>
                  <a:lnTo>
                    <a:pt x="3502" y="1069"/>
                  </a:lnTo>
                  <a:lnTo>
                    <a:pt x="3517" y="1086"/>
                  </a:lnTo>
                  <a:lnTo>
                    <a:pt x="3542" y="1100"/>
                  </a:lnTo>
                  <a:lnTo>
                    <a:pt x="3563" y="1118"/>
                  </a:lnTo>
                  <a:lnTo>
                    <a:pt x="3598" y="1161"/>
                  </a:lnTo>
                  <a:lnTo>
                    <a:pt x="3626" y="1211"/>
                  </a:lnTo>
                  <a:lnTo>
                    <a:pt x="3648" y="1266"/>
                  </a:lnTo>
                  <a:lnTo>
                    <a:pt x="3685" y="1382"/>
                  </a:lnTo>
                  <a:lnTo>
                    <a:pt x="3705" y="1437"/>
                  </a:lnTo>
                  <a:lnTo>
                    <a:pt x="3729" y="1486"/>
                  </a:lnTo>
                  <a:lnTo>
                    <a:pt x="3742" y="1508"/>
                  </a:lnTo>
                  <a:lnTo>
                    <a:pt x="3750" y="1530"/>
                  </a:lnTo>
                  <a:lnTo>
                    <a:pt x="3783" y="1518"/>
                  </a:lnTo>
                  <a:lnTo>
                    <a:pt x="3821" y="1501"/>
                  </a:lnTo>
                  <a:lnTo>
                    <a:pt x="3840" y="1495"/>
                  </a:lnTo>
                  <a:lnTo>
                    <a:pt x="3858" y="1494"/>
                  </a:lnTo>
                  <a:lnTo>
                    <a:pt x="3874" y="1499"/>
                  </a:lnTo>
                  <a:lnTo>
                    <a:pt x="3886" y="1513"/>
                  </a:lnTo>
                  <a:lnTo>
                    <a:pt x="3914" y="1506"/>
                  </a:lnTo>
                  <a:lnTo>
                    <a:pt x="3945" y="1500"/>
                  </a:lnTo>
                  <a:lnTo>
                    <a:pt x="3961" y="1500"/>
                  </a:lnTo>
                  <a:lnTo>
                    <a:pt x="3975" y="1504"/>
                  </a:lnTo>
                  <a:lnTo>
                    <a:pt x="3988" y="1514"/>
                  </a:lnTo>
                  <a:lnTo>
                    <a:pt x="3998" y="1530"/>
                  </a:lnTo>
                  <a:lnTo>
                    <a:pt x="4036" y="1520"/>
                  </a:lnTo>
                  <a:lnTo>
                    <a:pt x="4074" y="1517"/>
                  </a:lnTo>
                  <a:lnTo>
                    <a:pt x="4110" y="1519"/>
                  </a:lnTo>
                  <a:lnTo>
                    <a:pt x="4147" y="1527"/>
                  </a:lnTo>
                  <a:lnTo>
                    <a:pt x="4183" y="1540"/>
                  </a:lnTo>
                  <a:lnTo>
                    <a:pt x="4217" y="1558"/>
                  </a:lnTo>
                  <a:lnTo>
                    <a:pt x="4247" y="1582"/>
                  </a:lnTo>
                  <a:lnTo>
                    <a:pt x="4274" y="1610"/>
                  </a:lnTo>
                  <a:lnTo>
                    <a:pt x="4251" y="1600"/>
                  </a:lnTo>
                  <a:lnTo>
                    <a:pt x="4227" y="1594"/>
                  </a:lnTo>
                  <a:lnTo>
                    <a:pt x="4201" y="1593"/>
                  </a:lnTo>
                  <a:lnTo>
                    <a:pt x="4176" y="1597"/>
                  </a:lnTo>
                  <a:lnTo>
                    <a:pt x="4185" y="1628"/>
                  </a:lnTo>
                  <a:lnTo>
                    <a:pt x="4186" y="1659"/>
                  </a:lnTo>
                  <a:lnTo>
                    <a:pt x="4182" y="1690"/>
                  </a:lnTo>
                  <a:lnTo>
                    <a:pt x="4170" y="1719"/>
                  </a:lnTo>
                  <a:lnTo>
                    <a:pt x="4158" y="1691"/>
                  </a:lnTo>
                  <a:lnTo>
                    <a:pt x="4142" y="1667"/>
                  </a:lnTo>
                  <a:lnTo>
                    <a:pt x="4123" y="1644"/>
                  </a:lnTo>
                  <a:lnTo>
                    <a:pt x="4099" y="1625"/>
                  </a:lnTo>
                  <a:lnTo>
                    <a:pt x="4047" y="1596"/>
                  </a:lnTo>
                  <a:lnTo>
                    <a:pt x="4018" y="1586"/>
                  </a:lnTo>
                  <a:lnTo>
                    <a:pt x="3989" y="1580"/>
                  </a:lnTo>
                  <a:lnTo>
                    <a:pt x="3980" y="1593"/>
                  </a:lnTo>
                  <a:lnTo>
                    <a:pt x="3969" y="1602"/>
                  </a:lnTo>
                  <a:lnTo>
                    <a:pt x="3954" y="1606"/>
                  </a:lnTo>
                  <a:lnTo>
                    <a:pt x="3938" y="1606"/>
                  </a:lnTo>
                  <a:lnTo>
                    <a:pt x="3907" y="1595"/>
                  </a:lnTo>
                  <a:lnTo>
                    <a:pt x="3881" y="1573"/>
                  </a:lnTo>
                  <a:lnTo>
                    <a:pt x="3868" y="1589"/>
                  </a:lnTo>
                  <a:lnTo>
                    <a:pt x="3851" y="1597"/>
                  </a:lnTo>
                  <a:lnTo>
                    <a:pt x="3831" y="1603"/>
                  </a:lnTo>
                  <a:lnTo>
                    <a:pt x="3809" y="1603"/>
                  </a:lnTo>
                  <a:lnTo>
                    <a:pt x="3764" y="1592"/>
                  </a:lnTo>
                  <a:lnTo>
                    <a:pt x="3723" y="1570"/>
                  </a:lnTo>
                  <a:lnTo>
                    <a:pt x="3698" y="1576"/>
                  </a:lnTo>
                  <a:lnTo>
                    <a:pt x="3677" y="1574"/>
                  </a:lnTo>
                  <a:lnTo>
                    <a:pt x="3658" y="1563"/>
                  </a:lnTo>
                  <a:lnTo>
                    <a:pt x="3642" y="1545"/>
                  </a:lnTo>
                  <a:lnTo>
                    <a:pt x="3628" y="1520"/>
                  </a:lnTo>
                  <a:lnTo>
                    <a:pt x="3616" y="1491"/>
                  </a:lnTo>
                  <a:lnTo>
                    <a:pt x="3595" y="1422"/>
                  </a:lnTo>
                  <a:lnTo>
                    <a:pt x="3560" y="1276"/>
                  </a:lnTo>
                  <a:lnTo>
                    <a:pt x="3540" y="1217"/>
                  </a:lnTo>
                  <a:lnTo>
                    <a:pt x="3532" y="1198"/>
                  </a:lnTo>
                  <a:lnTo>
                    <a:pt x="3529" y="1192"/>
                  </a:lnTo>
                  <a:lnTo>
                    <a:pt x="3515" y="1180"/>
                  </a:lnTo>
                  <a:lnTo>
                    <a:pt x="3500" y="1202"/>
                  </a:lnTo>
                  <a:lnTo>
                    <a:pt x="3480" y="1221"/>
                  </a:lnTo>
                  <a:lnTo>
                    <a:pt x="3454" y="1236"/>
                  </a:lnTo>
                  <a:lnTo>
                    <a:pt x="3422" y="1242"/>
                  </a:lnTo>
                  <a:lnTo>
                    <a:pt x="3417" y="1269"/>
                  </a:lnTo>
                  <a:lnTo>
                    <a:pt x="3408" y="1294"/>
                  </a:lnTo>
                  <a:lnTo>
                    <a:pt x="3393" y="1318"/>
                  </a:lnTo>
                  <a:lnTo>
                    <a:pt x="3376" y="1339"/>
                  </a:lnTo>
                  <a:lnTo>
                    <a:pt x="3355" y="1357"/>
                  </a:lnTo>
                  <a:lnTo>
                    <a:pt x="3332" y="1370"/>
                  </a:lnTo>
                  <a:lnTo>
                    <a:pt x="3306" y="1377"/>
                  </a:lnTo>
                  <a:lnTo>
                    <a:pt x="3278" y="1379"/>
                  </a:lnTo>
                  <a:lnTo>
                    <a:pt x="3296" y="1408"/>
                  </a:lnTo>
                  <a:lnTo>
                    <a:pt x="3314" y="1446"/>
                  </a:lnTo>
                  <a:lnTo>
                    <a:pt x="3345" y="1542"/>
                  </a:lnTo>
                  <a:lnTo>
                    <a:pt x="3370" y="1656"/>
                  </a:lnTo>
                  <a:lnTo>
                    <a:pt x="3387" y="1776"/>
                  </a:lnTo>
                  <a:lnTo>
                    <a:pt x="3402" y="1768"/>
                  </a:lnTo>
                  <a:lnTo>
                    <a:pt x="3418" y="1765"/>
                  </a:lnTo>
                  <a:lnTo>
                    <a:pt x="3454" y="1768"/>
                  </a:lnTo>
                  <a:lnTo>
                    <a:pt x="3489" y="1784"/>
                  </a:lnTo>
                  <a:lnTo>
                    <a:pt x="3523" y="1809"/>
                  </a:lnTo>
                  <a:lnTo>
                    <a:pt x="3552" y="1839"/>
                  </a:lnTo>
                  <a:lnTo>
                    <a:pt x="3573" y="1873"/>
                  </a:lnTo>
                  <a:lnTo>
                    <a:pt x="3583" y="1907"/>
                  </a:lnTo>
                  <a:lnTo>
                    <a:pt x="3584" y="1924"/>
                  </a:lnTo>
                  <a:lnTo>
                    <a:pt x="3581" y="1939"/>
                  </a:lnTo>
                  <a:lnTo>
                    <a:pt x="3619" y="1984"/>
                  </a:lnTo>
                  <a:lnTo>
                    <a:pt x="3646" y="2034"/>
                  </a:lnTo>
                  <a:lnTo>
                    <a:pt x="3664" y="2088"/>
                  </a:lnTo>
                  <a:lnTo>
                    <a:pt x="3674" y="2145"/>
                  </a:lnTo>
                  <a:lnTo>
                    <a:pt x="3677" y="2203"/>
                  </a:lnTo>
                  <a:lnTo>
                    <a:pt x="3678" y="2262"/>
                  </a:lnTo>
                  <a:lnTo>
                    <a:pt x="3676" y="2378"/>
                  </a:lnTo>
                  <a:lnTo>
                    <a:pt x="3681" y="2431"/>
                  </a:lnTo>
                  <a:lnTo>
                    <a:pt x="3683" y="2457"/>
                  </a:lnTo>
                  <a:lnTo>
                    <a:pt x="3683" y="2467"/>
                  </a:lnTo>
                  <a:lnTo>
                    <a:pt x="3678" y="2483"/>
                  </a:lnTo>
                  <a:lnTo>
                    <a:pt x="3714" y="2503"/>
                  </a:lnTo>
                  <a:lnTo>
                    <a:pt x="3759" y="2528"/>
                  </a:lnTo>
                  <a:lnTo>
                    <a:pt x="3777" y="2542"/>
                  </a:lnTo>
                  <a:lnTo>
                    <a:pt x="3791" y="2557"/>
                  </a:lnTo>
                  <a:lnTo>
                    <a:pt x="3795" y="2572"/>
                  </a:lnTo>
                  <a:lnTo>
                    <a:pt x="3788" y="2590"/>
                  </a:lnTo>
                  <a:lnTo>
                    <a:pt x="3803" y="2592"/>
                  </a:lnTo>
                  <a:lnTo>
                    <a:pt x="3823" y="2600"/>
                  </a:lnTo>
                  <a:lnTo>
                    <a:pt x="3870" y="2627"/>
                  </a:lnTo>
                  <a:lnTo>
                    <a:pt x="3890" y="2645"/>
                  </a:lnTo>
                  <a:lnTo>
                    <a:pt x="3907" y="2664"/>
                  </a:lnTo>
                  <a:lnTo>
                    <a:pt x="3917" y="2683"/>
                  </a:lnTo>
                  <a:lnTo>
                    <a:pt x="3918" y="2701"/>
                  </a:lnTo>
                  <a:lnTo>
                    <a:pt x="3939" y="2725"/>
                  </a:lnTo>
                  <a:lnTo>
                    <a:pt x="3957" y="2754"/>
                  </a:lnTo>
                  <a:lnTo>
                    <a:pt x="3971" y="2786"/>
                  </a:lnTo>
                  <a:lnTo>
                    <a:pt x="3980" y="2819"/>
                  </a:lnTo>
                  <a:lnTo>
                    <a:pt x="3982" y="2853"/>
                  </a:lnTo>
                  <a:lnTo>
                    <a:pt x="3976" y="2886"/>
                  </a:lnTo>
                  <a:lnTo>
                    <a:pt x="3964" y="2916"/>
                  </a:lnTo>
                  <a:lnTo>
                    <a:pt x="3944" y="2944"/>
                  </a:lnTo>
                  <a:lnTo>
                    <a:pt x="3939" y="2898"/>
                  </a:lnTo>
                  <a:lnTo>
                    <a:pt x="3924" y="2855"/>
                  </a:lnTo>
                  <a:lnTo>
                    <a:pt x="3898" y="2872"/>
                  </a:lnTo>
                  <a:lnTo>
                    <a:pt x="3878" y="2894"/>
                  </a:lnTo>
                  <a:lnTo>
                    <a:pt x="3864" y="2921"/>
                  </a:lnTo>
                  <a:lnTo>
                    <a:pt x="3855" y="2950"/>
                  </a:lnTo>
                  <a:lnTo>
                    <a:pt x="3842" y="2935"/>
                  </a:lnTo>
                  <a:lnTo>
                    <a:pt x="3837" y="2916"/>
                  </a:lnTo>
                  <a:lnTo>
                    <a:pt x="3836" y="2895"/>
                  </a:lnTo>
                  <a:lnTo>
                    <a:pt x="3839" y="2871"/>
                  </a:lnTo>
                  <a:lnTo>
                    <a:pt x="3849" y="2820"/>
                  </a:lnTo>
                  <a:lnTo>
                    <a:pt x="3856" y="2779"/>
                  </a:lnTo>
                  <a:lnTo>
                    <a:pt x="3838" y="2783"/>
                  </a:lnTo>
                  <a:lnTo>
                    <a:pt x="3822" y="2780"/>
                  </a:lnTo>
                  <a:lnTo>
                    <a:pt x="3808" y="2769"/>
                  </a:lnTo>
                  <a:lnTo>
                    <a:pt x="3795" y="2751"/>
                  </a:lnTo>
                  <a:lnTo>
                    <a:pt x="3772" y="2701"/>
                  </a:lnTo>
                  <a:lnTo>
                    <a:pt x="3752" y="2637"/>
                  </a:lnTo>
                  <a:lnTo>
                    <a:pt x="3735" y="2648"/>
                  </a:lnTo>
                  <a:lnTo>
                    <a:pt x="3726" y="2648"/>
                  </a:lnTo>
                  <a:lnTo>
                    <a:pt x="3717" y="2646"/>
                  </a:lnTo>
                  <a:lnTo>
                    <a:pt x="3697" y="2634"/>
                  </a:lnTo>
                  <a:lnTo>
                    <a:pt x="3678" y="2615"/>
                  </a:lnTo>
                  <a:lnTo>
                    <a:pt x="3646" y="2569"/>
                  </a:lnTo>
                  <a:lnTo>
                    <a:pt x="3630" y="2532"/>
                  </a:lnTo>
                  <a:lnTo>
                    <a:pt x="3618" y="2538"/>
                  </a:lnTo>
                  <a:lnTo>
                    <a:pt x="3605" y="2539"/>
                  </a:lnTo>
                  <a:lnTo>
                    <a:pt x="3593" y="2534"/>
                  </a:lnTo>
                  <a:lnTo>
                    <a:pt x="3582" y="2527"/>
                  </a:lnTo>
                  <a:lnTo>
                    <a:pt x="3572" y="2513"/>
                  </a:lnTo>
                  <a:lnTo>
                    <a:pt x="3563" y="2495"/>
                  </a:lnTo>
                  <a:lnTo>
                    <a:pt x="3556" y="2472"/>
                  </a:lnTo>
                  <a:lnTo>
                    <a:pt x="3552" y="2443"/>
                  </a:lnTo>
                  <a:lnTo>
                    <a:pt x="3551" y="2388"/>
                  </a:lnTo>
                  <a:lnTo>
                    <a:pt x="3557" y="2329"/>
                  </a:lnTo>
                  <a:lnTo>
                    <a:pt x="3574" y="2206"/>
                  </a:lnTo>
                  <a:lnTo>
                    <a:pt x="3578" y="2145"/>
                  </a:lnTo>
                  <a:lnTo>
                    <a:pt x="3572" y="2088"/>
                  </a:lnTo>
                  <a:lnTo>
                    <a:pt x="3554" y="2034"/>
                  </a:lnTo>
                  <a:lnTo>
                    <a:pt x="3540" y="2011"/>
                  </a:lnTo>
                  <a:lnTo>
                    <a:pt x="3521" y="1988"/>
                  </a:lnTo>
                  <a:lnTo>
                    <a:pt x="3485" y="1985"/>
                  </a:lnTo>
                  <a:lnTo>
                    <a:pt x="3449" y="1970"/>
                  </a:lnTo>
                  <a:lnTo>
                    <a:pt x="3417" y="1948"/>
                  </a:lnTo>
                  <a:lnTo>
                    <a:pt x="3393" y="1922"/>
                  </a:lnTo>
                  <a:lnTo>
                    <a:pt x="3389" y="2021"/>
                  </a:lnTo>
                  <a:lnTo>
                    <a:pt x="3376" y="2118"/>
                  </a:lnTo>
                  <a:lnTo>
                    <a:pt x="3357" y="2214"/>
                  </a:lnTo>
                  <a:lnTo>
                    <a:pt x="3332" y="2309"/>
                  </a:lnTo>
                  <a:lnTo>
                    <a:pt x="3300" y="2403"/>
                  </a:lnTo>
                  <a:lnTo>
                    <a:pt x="3265" y="2494"/>
                  </a:lnTo>
                  <a:lnTo>
                    <a:pt x="3182" y="2674"/>
                  </a:lnTo>
                  <a:lnTo>
                    <a:pt x="3231" y="2718"/>
                  </a:lnTo>
                  <a:lnTo>
                    <a:pt x="3268" y="2762"/>
                  </a:lnTo>
                  <a:lnTo>
                    <a:pt x="3295" y="2809"/>
                  </a:lnTo>
                  <a:lnTo>
                    <a:pt x="3312" y="2857"/>
                  </a:lnTo>
                  <a:lnTo>
                    <a:pt x="3321" y="2906"/>
                  </a:lnTo>
                  <a:lnTo>
                    <a:pt x="3322" y="2957"/>
                  </a:lnTo>
                  <a:lnTo>
                    <a:pt x="3316" y="3008"/>
                  </a:lnTo>
                  <a:lnTo>
                    <a:pt x="3305" y="3059"/>
                  </a:lnTo>
                  <a:lnTo>
                    <a:pt x="3289" y="3111"/>
                  </a:lnTo>
                  <a:lnTo>
                    <a:pt x="3270" y="3163"/>
                  </a:lnTo>
                  <a:lnTo>
                    <a:pt x="3225" y="3267"/>
                  </a:lnTo>
                  <a:lnTo>
                    <a:pt x="3175" y="3369"/>
                  </a:lnTo>
                  <a:lnTo>
                    <a:pt x="3132" y="3466"/>
                  </a:lnTo>
                  <a:lnTo>
                    <a:pt x="3112" y="3506"/>
                  </a:lnTo>
                  <a:lnTo>
                    <a:pt x="3099" y="3517"/>
                  </a:lnTo>
                  <a:lnTo>
                    <a:pt x="3095" y="3520"/>
                  </a:lnTo>
                  <a:lnTo>
                    <a:pt x="3085" y="3523"/>
                  </a:lnTo>
                  <a:lnTo>
                    <a:pt x="3098" y="3522"/>
                  </a:lnTo>
                  <a:lnTo>
                    <a:pt x="3112" y="3526"/>
                  </a:lnTo>
                  <a:lnTo>
                    <a:pt x="3124" y="3533"/>
                  </a:lnTo>
                  <a:lnTo>
                    <a:pt x="3134" y="3542"/>
                  </a:lnTo>
                  <a:lnTo>
                    <a:pt x="3149" y="3564"/>
                  </a:lnTo>
                  <a:lnTo>
                    <a:pt x="3154" y="3587"/>
                  </a:lnTo>
                  <a:lnTo>
                    <a:pt x="3190" y="3608"/>
                  </a:lnTo>
                  <a:lnTo>
                    <a:pt x="3231" y="3632"/>
                  </a:lnTo>
                  <a:lnTo>
                    <a:pt x="3248" y="3647"/>
                  </a:lnTo>
                  <a:lnTo>
                    <a:pt x="3261" y="3663"/>
                  </a:lnTo>
                  <a:lnTo>
                    <a:pt x="3269" y="3681"/>
                  </a:lnTo>
                  <a:lnTo>
                    <a:pt x="3268" y="3701"/>
                  </a:lnTo>
                  <a:lnTo>
                    <a:pt x="3294" y="3732"/>
                  </a:lnTo>
                  <a:lnTo>
                    <a:pt x="3315" y="3765"/>
                  </a:lnTo>
                  <a:lnTo>
                    <a:pt x="3331" y="3800"/>
                  </a:lnTo>
                  <a:lnTo>
                    <a:pt x="3341" y="3838"/>
                  </a:lnTo>
                  <a:lnTo>
                    <a:pt x="3345" y="3876"/>
                  </a:lnTo>
                  <a:lnTo>
                    <a:pt x="3344" y="3914"/>
                  </a:lnTo>
                  <a:lnTo>
                    <a:pt x="3337" y="3952"/>
                  </a:lnTo>
                  <a:lnTo>
                    <a:pt x="3324" y="3990"/>
                  </a:lnTo>
                  <a:lnTo>
                    <a:pt x="3317" y="3943"/>
                  </a:lnTo>
                  <a:lnTo>
                    <a:pt x="3300" y="3899"/>
                  </a:lnTo>
                  <a:lnTo>
                    <a:pt x="3276" y="3911"/>
                  </a:lnTo>
                  <a:lnTo>
                    <a:pt x="3254" y="3928"/>
                  </a:lnTo>
                  <a:lnTo>
                    <a:pt x="3233" y="3947"/>
                  </a:lnTo>
                  <a:lnTo>
                    <a:pt x="3216" y="3969"/>
                  </a:lnTo>
                  <a:lnTo>
                    <a:pt x="3227" y="3915"/>
                  </a:lnTo>
                  <a:lnTo>
                    <a:pt x="3229" y="3860"/>
                  </a:lnTo>
                  <a:lnTo>
                    <a:pt x="3223" y="3805"/>
                  </a:lnTo>
                  <a:lnTo>
                    <a:pt x="3209" y="3753"/>
                  </a:lnTo>
                  <a:lnTo>
                    <a:pt x="3190" y="3757"/>
                  </a:lnTo>
                  <a:lnTo>
                    <a:pt x="3174" y="3754"/>
                  </a:lnTo>
                  <a:lnTo>
                    <a:pt x="3160" y="3744"/>
                  </a:lnTo>
                  <a:lnTo>
                    <a:pt x="3149" y="3728"/>
                  </a:lnTo>
                  <a:lnTo>
                    <a:pt x="3132" y="3688"/>
                  </a:lnTo>
                  <a:lnTo>
                    <a:pt x="3124" y="3649"/>
                  </a:lnTo>
                  <a:lnTo>
                    <a:pt x="3107" y="3655"/>
                  </a:lnTo>
                  <a:lnTo>
                    <a:pt x="3090" y="3649"/>
                  </a:lnTo>
                  <a:lnTo>
                    <a:pt x="3075" y="3633"/>
                  </a:lnTo>
                  <a:lnTo>
                    <a:pt x="3063" y="3613"/>
                  </a:lnTo>
                  <a:lnTo>
                    <a:pt x="3042" y="3567"/>
                  </a:lnTo>
                  <a:lnTo>
                    <a:pt x="3035" y="3533"/>
                  </a:lnTo>
                  <a:lnTo>
                    <a:pt x="3019" y="3532"/>
                  </a:lnTo>
                  <a:lnTo>
                    <a:pt x="3010" y="3520"/>
                  </a:lnTo>
                  <a:lnTo>
                    <a:pt x="3008" y="3502"/>
                  </a:lnTo>
                  <a:lnTo>
                    <a:pt x="3011" y="3475"/>
                  </a:lnTo>
                  <a:lnTo>
                    <a:pt x="3030" y="3407"/>
                  </a:lnTo>
                  <a:lnTo>
                    <a:pt x="3063" y="3324"/>
                  </a:lnTo>
                  <a:lnTo>
                    <a:pt x="3139" y="3162"/>
                  </a:lnTo>
                  <a:lnTo>
                    <a:pt x="3189" y="3070"/>
                  </a:lnTo>
                  <a:lnTo>
                    <a:pt x="3203" y="3041"/>
                  </a:lnTo>
                  <a:lnTo>
                    <a:pt x="3209" y="3011"/>
                  </a:lnTo>
                  <a:lnTo>
                    <a:pt x="3204" y="2982"/>
                  </a:lnTo>
                  <a:lnTo>
                    <a:pt x="3193" y="2952"/>
                  </a:lnTo>
                  <a:lnTo>
                    <a:pt x="3176" y="2921"/>
                  </a:lnTo>
                  <a:lnTo>
                    <a:pt x="3154" y="2890"/>
                  </a:lnTo>
                  <a:lnTo>
                    <a:pt x="3102" y="2825"/>
                  </a:lnTo>
                  <a:lnTo>
                    <a:pt x="3032" y="2941"/>
                  </a:lnTo>
                  <a:lnTo>
                    <a:pt x="2956" y="3056"/>
                  </a:lnTo>
                  <a:lnTo>
                    <a:pt x="2873" y="3169"/>
                  </a:lnTo>
                  <a:lnTo>
                    <a:pt x="2783" y="3279"/>
                  </a:lnTo>
                  <a:lnTo>
                    <a:pt x="2687" y="3384"/>
                  </a:lnTo>
                  <a:lnTo>
                    <a:pt x="2587" y="3484"/>
                  </a:lnTo>
                  <a:lnTo>
                    <a:pt x="2479" y="3575"/>
                  </a:lnTo>
                  <a:lnTo>
                    <a:pt x="2368" y="3659"/>
                  </a:lnTo>
                  <a:lnTo>
                    <a:pt x="2252" y="3733"/>
                  </a:lnTo>
                  <a:lnTo>
                    <a:pt x="2191" y="3765"/>
                  </a:lnTo>
                  <a:lnTo>
                    <a:pt x="2130" y="3795"/>
                  </a:lnTo>
                  <a:lnTo>
                    <a:pt x="2005" y="3845"/>
                  </a:lnTo>
                  <a:lnTo>
                    <a:pt x="1941" y="3866"/>
                  </a:lnTo>
                  <a:lnTo>
                    <a:pt x="1875" y="3882"/>
                  </a:lnTo>
                  <a:lnTo>
                    <a:pt x="1809" y="3896"/>
                  </a:lnTo>
                  <a:lnTo>
                    <a:pt x="1743" y="3905"/>
                  </a:lnTo>
                  <a:lnTo>
                    <a:pt x="1675" y="3909"/>
                  </a:lnTo>
                  <a:lnTo>
                    <a:pt x="1607" y="3910"/>
                  </a:lnTo>
                  <a:lnTo>
                    <a:pt x="1538" y="3906"/>
                  </a:lnTo>
                  <a:lnTo>
                    <a:pt x="1468" y="3898"/>
                  </a:lnTo>
                  <a:lnTo>
                    <a:pt x="1398" y="3886"/>
                  </a:lnTo>
                  <a:lnTo>
                    <a:pt x="1327" y="3868"/>
                  </a:lnTo>
                  <a:lnTo>
                    <a:pt x="1286" y="3852"/>
                  </a:lnTo>
                  <a:lnTo>
                    <a:pt x="1255" y="3830"/>
                  </a:lnTo>
                  <a:lnTo>
                    <a:pt x="1244" y="3814"/>
                  </a:lnTo>
                  <a:lnTo>
                    <a:pt x="1236" y="3796"/>
                  </a:lnTo>
                  <a:lnTo>
                    <a:pt x="1234" y="3776"/>
                  </a:lnTo>
                  <a:lnTo>
                    <a:pt x="1236" y="3754"/>
                  </a:lnTo>
                  <a:lnTo>
                    <a:pt x="1220" y="3786"/>
                  </a:lnTo>
                  <a:lnTo>
                    <a:pt x="1208" y="3799"/>
                  </a:lnTo>
                  <a:lnTo>
                    <a:pt x="1194" y="3806"/>
                  </a:lnTo>
                  <a:lnTo>
                    <a:pt x="1176" y="3812"/>
                  </a:lnTo>
                  <a:lnTo>
                    <a:pt x="1157" y="3814"/>
                  </a:lnTo>
                  <a:lnTo>
                    <a:pt x="1135" y="3813"/>
                  </a:lnTo>
                  <a:lnTo>
                    <a:pt x="1112" y="3809"/>
                  </a:lnTo>
                  <a:lnTo>
                    <a:pt x="1063" y="3792"/>
                  </a:lnTo>
                  <a:lnTo>
                    <a:pt x="1011" y="3763"/>
                  </a:lnTo>
                  <a:lnTo>
                    <a:pt x="960" y="3722"/>
                  </a:lnTo>
                  <a:lnTo>
                    <a:pt x="910" y="3669"/>
                  </a:lnTo>
                  <a:close/>
                </a:path>
              </a:pathLst>
            </a:custGeom>
            <a:solidFill>
              <a:srgbClr val="e65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90720" y="3017880"/>
              <a:ext cx="1695240" cy="1582560"/>
            </a:xfrm>
            <a:custGeom>
              <a:avLst/>
              <a:gdLst/>
              <a:ahLst/>
              <a:rect l="l" t="t" r="r" b="b"/>
              <a:pathLst>
                <a:path w="4274" h="3990">
                  <a:moveTo>
                    <a:pt x="910" y="3669"/>
                  </a:moveTo>
                  <a:lnTo>
                    <a:pt x="851" y="3590"/>
                  </a:lnTo>
                  <a:lnTo>
                    <a:pt x="798" y="3506"/>
                  </a:lnTo>
                  <a:lnTo>
                    <a:pt x="755" y="3418"/>
                  </a:lnTo>
                  <a:lnTo>
                    <a:pt x="719" y="3326"/>
                  </a:lnTo>
                  <a:lnTo>
                    <a:pt x="690" y="3231"/>
                  </a:lnTo>
                  <a:lnTo>
                    <a:pt x="667" y="3135"/>
                  </a:lnTo>
                  <a:lnTo>
                    <a:pt x="652" y="3036"/>
                  </a:lnTo>
                  <a:lnTo>
                    <a:pt x="643" y="2935"/>
                  </a:lnTo>
                  <a:lnTo>
                    <a:pt x="638" y="2835"/>
                  </a:lnTo>
                  <a:lnTo>
                    <a:pt x="641" y="2733"/>
                  </a:lnTo>
                  <a:lnTo>
                    <a:pt x="648" y="2633"/>
                  </a:lnTo>
                  <a:lnTo>
                    <a:pt x="661" y="2532"/>
                  </a:lnTo>
                  <a:lnTo>
                    <a:pt x="677" y="2433"/>
                  </a:lnTo>
                  <a:lnTo>
                    <a:pt x="699" y="2336"/>
                  </a:lnTo>
                  <a:lnTo>
                    <a:pt x="724" y="2241"/>
                  </a:lnTo>
                  <a:lnTo>
                    <a:pt x="753" y="2148"/>
                  </a:lnTo>
                  <a:lnTo>
                    <a:pt x="715" y="2158"/>
                  </a:lnTo>
                  <a:lnTo>
                    <a:pt x="686" y="2168"/>
                  </a:lnTo>
                  <a:lnTo>
                    <a:pt x="664" y="2181"/>
                  </a:lnTo>
                  <a:lnTo>
                    <a:pt x="646" y="2199"/>
                  </a:lnTo>
                  <a:lnTo>
                    <a:pt x="631" y="2222"/>
                  </a:lnTo>
                  <a:lnTo>
                    <a:pt x="616" y="2249"/>
                  </a:lnTo>
                  <a:lnTo>
                    <a:pt x="580" y="2327"/>
                  </a:lnTo>
                  <a:lnTo>
                    <a:pt x="555" y="2390"/>
                  </a:lnTo>
                  <a:lnTo>
                    <a:pt x="530" y="2462"/>
                  </a:lnTo>
                  <a:lnTo>
                    <a:pt x="483" y="2606"/>
                  </a:lnTo>
                  <a:lnTo>
                    <a:pt x="442" y="2718"/>
                  </a:lnTo>
                  <a:lnTo>
                    <a:pt x="424" y="2747"/>
                  </a:lnTo>
                  <a:lnTo>
                    <a:pt x="417" y="2753"/>
                  </a:lnTo>
                  <a:lnTo>
                    <a:pt x="416" y="2756"/>
                  </a:lnTo>
                  <a:lnTo>
                    <a:pt x="408" y="2751"/>
                  </a:lnTo>
                  <a:lnTo>
                    <a:pt x="385" y="2786"/>
                  </a:lnTo>
                  <a:lnTo>
                    <a:pt x="350" y="2821"/>
                  </a:lnTo>
                  <a:lnTo>
                    <a:pt x="330" y="2835"/>
                  </a:lnTo>
                  <a:lnTo>
                    <a:pt x="309" y="2843"/>
                  </a:lnTo>
                  <a:lnTo>
                    <a:pt x="288" y="2844"/>
                  </a:lnTo>
                  <a:lnTo>
                    <a:pt x="267" y="2835"/>
                  </a:lnTo>
                  <a:lnTo>
                    <a:pt x="266" y="2849"/>
                  </a:lnTo>
                  <a:lnTo>
                    <a:pt x="261" y="2866"/>
                  </a:lnTo>
                  <a:lnTo>
                    <a:pt x="240" y="2895"/>
                  </a:lnTo>
                  <a:lnTo>
                    <a:pt x="225" y="2905"/>
                  </a:lnTo>
                  <a:lnTo>
                    <a:pt x="211" y="2911"/>
                  </a:lnTo>
                  <a:lnTo>
                    <a:pt x="195" y="2909"/>
                  </a:lnTo>
                  <a:lnTo>
                    <a:pt x="180" y="2897"/>
                  </a:lnTo>
                  <a:lnTo>
                    <a:pt x="178" y="2934"/>
                  </a:lnTo>
                  <a:lnTo>
                    <a:pt x="168" y="2959"/>
                  </a:lnTo>
                  <a:lnTo>
                    <a:pt x="152" y="2976"/>
                  </a:lnTo>
                  <a:lnTo>
                    <a:pt x="135" y="2991"/>
                  </a:lnTo>
                  <a:lnTo>
                    <a:pt x="118" y="3010"/>
                  </a:lnTo>
                  <a:lnTo>
                    <a:pt x="104" y="3037"/>
                  </a:lnTo>
                  <a:lnTo>
                    <a:pt x="99" y="3056"/>
                  </a:lnTo>
                  <a:lnTo>
                    <a:pt x="97" y="3078"/>
                  </a:lnTo>
                  <a:lnTo>
                    <a:pt x="97" y="3105"/>
                  </a:lnTo>
                  <a:lnTo>
                    <a:pt x="99" y="3137"/>
                  </a:lnTo>
                  <a:lnTo>
                    <a:pt x="73" y="3111"/>
                  </a:lnTo>
                  <a:lnTo>
                    <a:pt x="56" y="3079"/>
                  </a:lnTo>
                  <a:lnTo>
                    <a:pt x="51" y="3044"/>
                  </a:lnTo>
                  <a:lnTo>
                    <a:pt x="54" y="3007"/>
                  </a:lnTo>
                  <a:lnTo>
                    <a:pt x="33" y="3026"/>
                  </a:lnTo>
                  <a:lnTo>
                    <a:pt x="17" y="3048"/>
                  </a:lnTo>
                  <a:lnTo>
                    <a:pt x="7" y="3074"/>
                  </a:lnTo>
                  <a:lnTo>
                    <a:pt x="3" y="3103"/>
                  </a:lnTo>
                  <a:lnTo>
                    <a:pt x="0" y="3082"/>
                  </a:lnTo>
                  <a:lnTo>
                    <a:pt x="0" y="3060"/>
                  </a:lnTo>
                  <a:lnTo>
                    <a:pt x="8" y="3021"/>
                  </a:lnTo>
                  <a:lnTo>
                    <a:pt x="24" y="2986"/>
                  </a:lnTo>
                  <a:lnTo>
                    <a:pt x="45" y="2952"/>
                  </a:lnTo>
                  <a:lnTo>
                    <a:pt x="100" y="2890"/>
                  </a:lnTo>
                  <a:lnTo>
                    <a:pt x="158" y="2833"/>
                  </a:lnTo>
                  <a:lnTo>
                    <a:pt x="161" y="2815"/>
                  </a:lnTo>
                  <a:lnTo>
                    <a:pt x="169" y="2801"/>
                  </a:lnTo>
                  <a:lnTo>
                    <a:pt x="180" y="2789"/>
                  </a:lnTo>
                  <a:lnTo>
                    <a:pt x="195" y="2781"/>
                  </a:lnTo>
                  <a:lnTo>
                    <a:pt x="228" y="2771"/>
                  </a:lnTo>
                  <a:lnTo>
                    <a:pt x="261" y="2768"/>
                  </a:lnTo>
                  <a:lnTo>
                    <a:pt x="267" y="2751"/>
                  </a:lnTo>
                  <a:lnTo>
                    <a:pt x="280" y="2738"/>
                  </a:lnTo>
                  <a:lnTo>
                    <a:pt x="312" y="2718"/>
                  </a:lnTo>
                  <a:lnTo>
                    <a:pt x="387" y="2690"/>
                  </a:lnTo>
                  <a:lnTo>
                    <a:pt x="397" y="2623"/>
                  </a:lnTo>
                  <a:lnTo>
                    <a:pt x="408" y="2556"/>
                  </a:lnTo>
                  <a:lnTo>
                    <a:pt x="442" y="2424"/>
                  </a:lnTo>
                  <a:lnTo>
                    <a:pt x="485" y="2298"/>
                  </a:lnTo>
                  <a:lnTo>
                    <a:pt x="511" y="2238"/>
                  </a:lnTo>
                  <a:lnTo>
                    <a:pt x="539" y="2181"/>
                  </a:lnTo>
                  <a:lnTo>
                    <a:pt x="570" y="2127"/>
                  </a:lnTo>
                  <a:lnTo>
                    <a:pt x="605" y="2077"/>
                  </a:lnTo>
                  <a:lnTo>
                    <a:pt x="641" y="2030"/>
                  </a:lnTo>
                  <a:lnTo>
                    <a:pt x="680" y="1986"/>
                  </a:lnTo>
                  <a:lnTo>
                    <a:pt x="722" y="1948"/>
                  </a:lnTo>
                  <a:lnTo>
                    <a:pt x="767" y="1915"/>
                  </a:lnTo>
                  <a:lnTo>
                    <a:pt x="814" y="1887"/>
                  </a:lnTo>
                  <a:lnTo>
                    <a:pt x="864" y="1864"/>
                  </a:lnTo>
                  <a:lnTo>
                    <a:pt x="934" y="1717"/>
                  </a:lnTo>
                  <a:lnTo>
                    <a:pt x="1014" y="1573"/>
                  </a:lnTo>
                  <a:lnTo>
                    <a:pt x="1101" y="1434"/>
                  </a:lnTo>
                  <a:lnTo>
                    <a:pt x="1196" y="1301"/>
                  </a:lnTo>
                  <a:lnTo>
                    <a:pt x="1257" y="1226"/>
                  </a:lnTo>
                  <a:lnTo>
                    <a:pt x="1321" y="1152"/>
                  </a:lnTo>
                  <a:lnTo>
                    <a:pt x="1281" y="1118"/>
                  </a:lnTo>
                  <a:lnTo>
                    <a:pt x="1225" y="1136"/>
                  </a:lnTo>
                  <a:lnTo>
                    <a:pt x="1168" y="1160"/>
                  </a:lnTo>
                  <a:lnTo>
                    <a:pt x="1111" y="1186"/>
                  </a:lnTo>
                  <a:lnTo>
                    <a:pt x="1055" y="1217"/>
                  </a:lnTo>
                  <a:lnTo>
                    <a:pt x="1001" y="1252"/>
                  </a:lnTo>
                  <a:lnTo>
                    <a:pt x="953" y="1291"/>
                  </a:lnTo>
                  <a:lnTo>
                    <a:pt x="912" y="1336"/>
                  </a:lnTo>
                  <a:lnTo>
                    <a:pt x="879" y="1384"/>
                  </a:lnTo>
                  <a:lnTo>
                    <a:pt x="862" y="1402"/>
                  </a:lnTo>
                  <a:lnTo>
                    <a:pt x="842" y="1408"/>
                  </a:lnTo>
                  <a:lnTo>
                    <a:pt x="832" y="1405"/>
                  </a:lnTo>
                  <a:lnTo>
                    <a:pt x="824" y="1399"/>
                  </a:lnTo>
                  <a:lnTo>
                    <a:pt x="817" y="1387"/>
                  </a:lnTo>
                  <a:lnTo>
                    <a:pt x="814" y="1371"/>
                  </a:lnTo>
                  <a:lnTo>
                    <a:pt x="765" y="1389"/>
                  </a:lnTo>
                  <a:lnTo>
                    <a:pt x="717" y="1395"/>
                  </a:lnTo>
                  <a:lnTo>
                    <a:pt x="676" y="1392"/>
                  </a:lnTo>
                  <a:lnTo>
                    <a:pt x="662" y="1385"/>
                  </a:lnTo>
                  <a:lnTo>
                    <a:pt x="652" y="1376"/>
                  </a:lnTo>
                  <a:lnTo>
                    <a:pt x="613" y="1392"/>
                  </a:lnTo>
                  <a:lnTo>
                    <a:pt x="575" y="1401"/>
                  </a:lnTo>
                  <a:lnTo>
                    <a:pt x="545" y="1400"/>
                  </a:lnTo>
                  <a:lnTo>
                    <a:pt x="534" y="1395"/>
                  </a:lnTo>
                  <a:lnTo>
                    <a:pt x="528" y="1386"/>
                  </a:lnTo>
                  <a:lnTo>
                    <a:pt x="507" y="1401"/>
                  </a:lnTo>
                  <a:lnTo>
                    <a:pt x="491" y="1422"/>
                  </a:lnTo>
                  <a:lnTo>
                    <a:pt x="479" y="1448"/>
                  </a:lnTo>
                  <a:lnTo>
                    <a:pt x="470" y="1477"/>
                  </a:lnTo>
                  <a:lnTo>
                    <a:pt x="450" y="1537"/>
                  </a:lnTo>
                  <a:lnTo>
                    <a:pt x="436" y="1563"/>
                  </a:lnTo>
                  <a:lnTo>
                    <a:pt x="429" y="1573"/>
                  </a:lnTo>
                  <a:lnTo>
                    <a:pt x="417" y="1585"/>
                  </a:lnTo>
                  <a:lnTo>
                    <a:pt x="417" y="1562"/>
                  </a:lnTo>
                  <a:lnTo>
                    <a:pt x="409" y="1539"/>
                  </a:lnTo>
                  <a:lnTo>
                    <a:pt x="396" y="1520"/>
                  </a:lnTo>
                  <a:lnTo>
                    <a:pt x="377" y="1505"/>
                  </a:lnTo>
                  <a:lnTo>
                    <a:pt x="356" y="1527"/>
                  </a:lnTo>
                  <a:lnTo>
                    <a:pt x="338" y="1553"/>
                  </a:lnTo>
                  <a:lnTo>
                    <a:pt x="326" y="1581"/>
                  </a:lnTo>
                  <a:lnTo>
                    <a:pt x="319" y="1612"/>
                  </a:lnTo>
                  <a:lnTo>
                    <a:pt x="310" y="1587"/>
                  </a:lnTo>
                  <a:lnTo>
                    <a:pt x="305" y="1563"/>
                  </a:lnTo>
                  <a:lnTo>
                    <a:pt x="308" y="1517"/>
                  </a:lnTo>
                  <a:lnTo>
                    <a:pt x="324" y="1473"/>
                  </a:lnTo>
                  <a:lnTo>
                    <a:pt x="351" y="1434"/>
                  </a:lnTo>
                  <a:lnTo>
                    <a:pt x="387" y="1400"/>
                  </a:lnTo>
                  <a:lnTo>
                    <a:pt x="427" y="1371"/>
                  </a:lnTo>
                  <a:lnTo>
                    <a:pt x="472" y="1348"/>
                  </a:lnTo>
                  <a:lnTo>
                    <a:pt x="517" y="1334"/>
                  </a:lnTo>
                  <a:lnTo>
                    <a:pt x="521" y="1318"/>
                  </a:lnTo>
                  <a:lnTo>
                    <a:pt x="534" y="1306"/>
                  </a:lnTo>
                  <a:lnTo>
                    <a:pt x="555" y="1299"/>
                  </a:lnTo>
                  <a:lnTo>
                    <a:pt x="578" y="1296"/>
                  </a:lnTo>
                  <a:lnTo>
                    <a:pt x="625" y="1297"/>
                  </a:lnTo>
                  <a:lnTo>
                    <a:pt x="643" y="1301"/>
                  </a:lnTo>
                  <a:lnTo>
                    <a:pt x="653" y="1307"/>
                  </a:lnTo>
                  <a:lnTo>
                    <a:pt x="670" y="1293"/>
                  </a:lnTo>
                  <a:lnTo>
                    <a:pt x="689" y="1286"/>
                  </a:lnTo>
                  <a:lnTo>
                    <a:pt x="710" y="1284"/>
                  </a:lnTo>
                  <a:lnTo>
                    <a:pt x="732" y="1287"/>
                  </a:lnTo>
                  <a:lnTo>
                    <a:pt x="818" y="1309"/>
                  </a:lnTo>
                  <a:lnTo>
                    <a:pt x="857" y="1250"/>
                  </a:lnTo>
                  <a:lnTo>
                    <a:pt x="902" y="1201"/>
                  </a:lnTo>
                  <a:lnTo>
                    <a:pt x="950" y="1161"/>
                  </a:lnTo>
                  <a:lnTo>
                    <a:pt x="1004" y="1127"/>
                  </a:lnTo>
                  <a:lnTo>
                    <a:pt x="1062" y="1100"/>
                  </a:lnTo>
                  <a:lnTo>
                    <a:pt x="1125" y="1079"/>
                  </a:lnTo>
                  <a:lnTo>
                    <a:pt x="1194" y="1061"/>
                  </a:lnTo>
                  <a:lnTo>
                    <a:pt x="1267" y="1047"/>
                  </a:lnTo>
                  <a:lnTo>
                    <a:pt x="1283" y="1028"/>
                  </a:lnTo>
                  <a:lnTo>
                    <a:pt x="1306" y="1012"/>
                  </a:lnTo>
                  <a:lnTo>
                    <a:pt x="1334" y="999"/>
                  </a:lnTo>
                  <a:lnTo>
                    <a:pt x="1366" y="989"/>
                  </a:lnTo>
                  <a:lnTo>
                    <a:pt x="1434" y="978"/>
                  </a:lnTo>
                  <a:lnTo>
                    <a:pt x="1465" y="977"/>
                  </a:lnTo>
                  <a:lnTo>
                    <a:pt x="1494" y="980"/>
                  </a:lnTo>
                  <a:lnTo>
                    <a:pt x="1558" y="926"/>
                  </a:lnTo>
                  <a:lnTo>
                    <a:pt x="1616" y="885"/>
                  </a:lnTo>
                  <a:lnTo>
                    <a:pt x="1671" y="853"/>
                  </a:lnTo>
                  <a:lnTo>
                    <a:pt x="1726" y="831"/>
                  </a:lnTo>
                  <a:lnTo>
                    <a:pt x="1785" y="819"/>
                  </a:lnTo>
                  <a:lnTo>
                    <a:pt x="1848" y="817"/>
                  </a:lnTo>
                  <a:lnTo>
                    <a:pt x="1920" y="821"/>
                  </a:lnTo>
                  <a:lnTo>
                    <a:pt x="2002" y="835"/>
                  </a:lnTo>
                  <a:lnTo>
                    <a:pt x="1985" y="815"/>
                  </a:lnTo>
                  <a:lnTo>
                    <a:pt x="1971" y="791"/>
                  </a:lnTo>
                  <a:lnTo>
                    <a:pt x="1963" y="767"/>
                  </a:lnTo>
                  <a:lnTo>
                    <a:pt x="1960" y="740"/>
                  </a:lnTo>
                  <a:lnTo>
                    <a:pt x="1961" y="713"/>
                  </a:lnTo>
                  <a:lnTo>
                    <a:pt x="1966" y="685"/>
                  </a:lnTo>
                  <a:lnTo>
                    <a:pt x="1983" y="631"/>
                  </a:lnTo>
                  <a:lnTo>
                    <a:pt x="1954" y="617"/>
                  </a:lnTo>
                  <a:lnTo>
                    <a:pt x="1922" y="609"/>
                  </a:lnTo>
                  <a:lnTo>
                    <a:pt x="1887" y="606"/>
                  </a:lnTo>
                  <a:lnTo>
                    <a:pt x="1853" y="606"/>
                  </a:lnTo>
                  <a:lnTo>
                    <a:pt x="1779" y="615"/>
                  </a:lnTo>
                  <a:lnTo>
                    <a:pt x="1707" y="628"/>
                  </a:lnTo>
                  <a:lnTo>
                    <a:pt x="1642" y="638"/>
                  </a:lnTo>
                  <a:lnTo>
                    <a:pt x="1613" y="640"/>
                  </a:lnTo>
                  <a:lnTo>
                    <a:pt x="1587" y="638"/>
                  </a:lnTo>
                  <a:lnTo>
                    <a:pt x="1564" y="633"/>
                  </a:lnTo>
                  <a:lnTo>
                    <a:pt x="1547" y="620"/>
                  </a:lnTo>
                  <a:lnTo>
                    <a:pt x="1534" y="602"/>
                  </a:lnTo>
                  <a:lnTo>
                    <a:pt x="1526" y="578"/>
                  </a:lnTo>
                  <a:lnTo>
                    <a:pt x="1473" y="558"/>
                  </a:lnTo>
                  <a:lnTo>
                    <a:pt x="1424" y="532"/>
                  </a:lnTo>
                  <a:lnTo>
                    <a:pt x="1405" y="519"/>
                  </a:lnTo>
                  <a:lnTo>
                    <a:pt x="1395" y="505"/>
                  </a:lnTo>
                  <a:lnTo>
                    <a:pt x="1394" y="493"/>
                  </a:lnTo>
                  <a:lnTo>
                    <a:pt x="1405" y="481"/>
                  </a:lnTo>
                  <a:lnTo>
                    <a:pt x="1353" y="455"/>
                  </a:lnTo>
                  <a:lnTo>
                    <a:pt x="1334" y="440"/>
                  </a:lnTo>
                  <a:lnTo>
                    <a:pt x="1319" y="425"/>
                  </a:lnTo>
                  <a:lnTo>
                    <a:pt x="1309" y="411"/>
                  </a:lnTo>
                  <a:lnTo>
                    <a:pt x="1305" y="398"/>
                  </a:lnTo>
                  <a:lnTo>
                    <a:pt x="1306" y="387"/>
                  </a:lnTo>
                  <a:lnTo>
                    <a:pt x="1315" y="379"/>
                  </a:lnTo>
                  <a:lnTo>
                    <a:pt x="1295" y="362"/>
                  </a:lnTo>
                  <a:lnTo>
                    <a:pt x="1273" y="351"/>
                  </a:lnTo>
                  <a:lnTo>
                    <a:pt x="1248" y="344"/>
                  </a:lnTo>
                  <a:lnTo>
                    <a:pt x="1224" y="342"/>
                  </a:lnTo>
                  <a:lnTo>
                    <a:pt x="1197" y="342"/>
                  </a:lnTo>
                  <a:lnTo>
                    <a:pt x="1171" y="347"/>
                  </a:lnTo>
                  <a:lnTo>
                    <a:pt x="1122" y="361"/>
                  </a:lnTo>
                  <a:lnTo>
                    <a:pt x="1129" y="332"/>
                  </a:lnTo>
                  <a:lnTo>
                    <a:pt x="1144" y="308"/>
                  </a:lnTo>
                  <a:lnTo>
                    <a:pt x="1167" y="289"/>
                  </a:lnTo>
                  <a:lnTo>
                    <a:pt x="1196" y="280"/>
                  </a:lnTo>
                  <a:lnTo>
                    <a:pt x="1189" y="263"/>
                  </a:lnTo>
                  <a:lnTo>
                    <a:pt x="1178" y="250"/>
                  </a:lnTo>
                  <a:lnTo>
                    <a:pt x="1162" y="242"/>
                  </a:lnTo>
                  <a:lnTo>
                    <a:pt x="1144" y="239"/>
                  </a:lnTo>
                  <a:lnTo>
                    <a:pt x="1176" y="233"/>
                  </a:lnTo>
                  <a:lnTo>
                    <a:pt x="1206" y="235"/>
                  </a:lnTo>
                  <a:lnTo>
                    <a:pt x="1236" y="246"/>
                  </a:lnTo>
                  <a:lnTo>
                    <a:pt x="1265" y="263"/>
                  </a:lnTo>
                  <a:lnTo>
                    <a:pt x="1318" y="309"/>
                  </a:lnTo>
                  <a:lnTo>
                    <a:pt x="1359" y="357"/>
                  </a:lnTo>
                  <a:lnTo>
                    <a:pt x="1366" y="354"/>
                  </a:lnTo>
                  <a:lnTo>
                    <a:pt x="1373" y="354"/>
                  </a:lnTo>
                  <a:lnTo>
                    <a:pt x="1387" y="362"/>
                  </a:lnTo>
                  <a:lnTo>
                    <a:pt x="1414" y="396"/>
                  </a:lnTo>
                  <a:lnTo>
                    <a:pt x="1434" y="435"/>
                  </a:lnTo>
                  <a:lnTo>
                    <a:pt x="1442" y="458"/>
                  </a:lnTo>
                  <a:lnTo>
                    <a:pt x="1455" y="454"/>
                  </a:lnTo>
                  <a:lnTo>
                    <a:pt x="1468" y="456"/>
                  </a:lnTo>
                  <a:lnTo>
                    <a:pt x="1481" y="464"/>
                  </a:lnTo>
                  <a:lnTo>
                    <a:pt x="1493" y="475"/>
                  </a:lnTo>
                  <a:lnTo>
                    <a:pt x="1516" y="509"/>
                  </a:lnTo>
                  <a:lnTo>
                    <a:pt x="1537" y="545"/>
                  </a:lnTo>
                  <a:lnTo>
                    <a:pt x="1556" y="531"/>
                  </a:lnTo>
                  <a:lnTo>
                    <a:pt x="1578" y="519"/>
                  </a:lnTo>
                  <a:lnTo>
                    <a:pt x="1605" y="509"/>
                  </a:lnTo>
                  <a:lnTo>
                    <a:pt x="1633" y="501"/>
                  </a:lnTo>
                  <a:lnTo>
                    <a:pt x="1696" y="492"/>
                  </a:lnTo>
                  <a:lnTo>
                    <a:pt x="1766" y="492"/>
                  </a:lnTo>
                  <a:lnTo>
                    <a:pt x="1836" y="500"/>
                  </a:lnTo>
                  <a:lnTo>
                    <a:pt x="1905" y="514"/>
                  </a:lnTo>
                  <a:lnTo>
                    <a:pt x="1970" y="537"/>
                  </a:lnTo>
                  <a:lnTo>
                    <a:pt x="2027" y="566"/>
                  </a:lnTo>
                  <a:lnTo>
                    <a:pt x="2054" y="540"/>
                  </a:lnTo>
                  <a:lnTo>
                    <a:pt x="2082" y="518"/>
                  </a:lnTo>
                  <a:lnTo>
                    <a:pt x="2143" y="481"/>
                  </a:lnTo>
                  <a:lnTo>
                    <a:pt x="2210" y="453"/>
                  </a:lnTo>
                  <a:lnTo>
                    <a:pt x="2281" y="435"/>
                  </a:lnTo>
                  <a:lnTo>
                    <a:pt x="2353" y="425"/>
                  </a:lnTo>
                  <a:lnTo>
                    <a:pt x="2426" y="423"/>
                  </a:lnTo>
                  <a:lnTo>
                    <a:pt x="2498" y="426"/>
                  </a:lnTo>
                  <a:lnTo>
                    <a:pt x="2569" y="436"/>
                  </a:lnTo>
                  <a:lnTo>
                    <a:pt x="2579" y="414"/>
                  </a:lnTo>
                  <a:lnTo>
                    <a:pt x="2593" y="396"/>
                  </a:lnTo>
                  <a:lnTo>
                    <a:pt x="2613" y="382"/>
                  </a:lnTo>
                  <a:lnTo>
                    <a:pt x="2636" y="373"/>
                  </a:lnTo>
                  <a:lnTo>
                    <a:pt x="2660" y="370"/>
                  </a:lnTo>
                  <a:lnTo>
                    <a:pt x="2685" y="371"/>
                  </a:lnTo>
                  <a:lnTo>
                    <a:pt x="2708" y="377"/>
                  </a:lnTo>
                  <a:lnTo>
                    <a:pt x="2730" y="387"/>
                  </a:lnTo>
                  <a:lnTo>
                    <a:pt x="2745" y="371"/>
                  </a:lnTo>
                  <a:lnTo>
                    <a:pt x="2735" y="348"/>
                  </a:lnTo>
                  <a:lnTo>
                    <a:pt x="2722" y="328"/>
                  </a:lnTo>
                  <a:lnTo>
                    <a:pt x="2687" y="291"/>
                  </a:lnTo>
                  <a:lnTo>
                    <a:pt x="2605" y="226"/>
                  </a:lnTo>
                  <a:lnTo>
                    <a:pt x="2564" y="193"/>
                  </a:lnTo>
                  <a:lnTo>
                    <a:pt x="2530" y="156"/>
                  </a:lnTo>
                  <a:lnTo>
                    <a:pt x="2517" y="134"/>
                  </a:lnTo>
                  <a:lnTo>
                    <a:pt x="2507" y="111"/>
                  </a:lnTo>
                  <a:lnTo>
                    <a:pt x="2501" y="85"/>
                  </a:lnTo>
                  <a:lnTo>
                    <a:pt x="2498" y="56"/>
                  </a:lnTo>
                  <a:lnTo>
                    <a:pt x="2503" y="32"/>
                  </a:lnTo>
                  <a:lnTo>
                    <a:pt x="2514" y="14"/>
                  </a:lnTo>
                  <a:lnTo>
                    <a:pt x="2531" y="4"/>
                  </a:lnTo>
                  <a:lnTo>
                    <a:pt x="2550" y="0"/>
                  </a:lnTo>
                  <a:lnTo>
                    <a:pt x="2570" y="6"/>
                  </a:lnTo>
                  <a:lnTo>
                    <a:pt x="2590" y="18"/>
                  </a:lnTo>
                  <a:lnTo>
                    <a:pt x="2607" y="41"/>
                  </a:lnTo>
                  <a:lnTo>
                    <a:pt x="2618" y="71"/>
                  </a:lnTo>
                  <a:lnTo>
                    <a:pt x="2632" y="113"/>
                  </a:lnTo>
                  <a:lnTo>
                    <a:pt x="2654" y="149"/>
                  </a:lnTo>
                  <a:lnTo>
                    <a:pt x="2678" y="179"/>
                  </a:lnTo>
                  <a:lnTo>
                    <a:pt x="2705" y="207"/>
                  </a:lnTo>
                  <a:lnTo>
                    <a:pt x="2732" y="235"/>
                  </a:lnTo>
                  <a:lnTo>
                    <a:pt x="2759" y="266"/>
                  </a:lnTo>
                  <a:lnTo>
                    <a:pt x="2781" y="303"/>
                  </a:lnTo>
                  <a:lnTo>
                    <a:pt x="2799" y="349"/>
                  </a:lnTo>
                  <a:lnTo>
                    <a:pt x="2853" y="344"/>
                  </a:lnTo>
                  <a:lnTo>
                    <a:pt x="2907" y="349"/>
                  </a:lnTo>
                  <a:lnTo>
                    <a:pt x="2961" y="360"/>
                  </a:lnTo>
                  <a:lnTo>
                    <a:pt x="3012" y="378"/>
                  </a:lnTo>
                  <a:lnTo>
                    <a:pt x="3061" y="404"/>
                  </a:lnTo>
                  <a:lnTo>
                    <a:pt x="3106" y="435"/>
                  </a:lnTo>
                  <a:lnTo>
                    <a:pt x="3146" y="471"/>
                  </a:lnTo>
                  <a:lnTo>
                    <a:pt x="3181" y="513"/>
                  </a:lnTo>
                  <a:lnTo>
                    <a:pt x="3195" y="493"/>
                  </a:lnTo>
                  <a:lnTo>
                    <a:pt x="3212" y="480"/>
                  </a:lnTo>
                  <a:lnTo>
                    <a:pt x="3249" y="466"/>
                  </a:lnTo>
                  <a:lnTo>
                    <a:pt x="3290" y="465"/>
                  </a:lnTo>
                  <a:lnTo>
                    <a:pt x="3335" y="472"/>
                  </a:lnTo>
                  <a:lnTo>
                    <a:pt x="3382" y="480"/>
                  </a:lnTo>
                  <a:lnTo>
                    <a:pt x="3429" y="481"/>
                  </a:lnTo>
                  <a:lnTo>
                    <a:pt x="3452" y="477"/>
                  </a:lnTo>
                  <a:lnTo>
                    <a:pt x="3475" y="471"/>
                  </a:lnTo>
                  <a:lnTo>
                    <a:pt x="3498" y="458"/>
                  </a:lnTo>
                  <a:lnTo>
                    <a:pt x="3519" y="442"/>
                  </a:lnTo>
                  <a:lnTo>
                    <a:pt x="3534" y="432"/>
                  </a:lnTo>
                  <a:lnTo>
                    <a:pt x="3550" y="425"/>
                  </a:lnTo>
                  <a:lnTo>
                    <a:pt x="3581" y="424"/>
                  </a:lnTo>
                  <a:lnTo>
                    <a:pt x="3595" y="429"/>
                  </a:lnTo>
                  <a:lnTo>
                    <a:pt x="3609" y="436"/>
                  </a:lnTo>
                  <a:lnTo>
                    <a:pt x="3629" y="457"/>
                  </a:lnTo>
                  <a:lnTo>
                    <a:pt x="3638" y="484"/>
                  </a:lnTo>
                  <a:lnTo>
                    <a:pt x="3637" y="499"/>
                  </a:lnTo>
                  <a:lnTo>
                    <a:pt x="3630" y="512"/>
                  </a:lnTo>
                  <a:lnTo>
                    <a:pt x="3620" y="526"/>
                  </a:lnTo>
                  <a:lnTo>
                    <a:pt x="3603" y="540"/>
                  </a:lnTo>
                  <a:lnTo>
                    <a:pt x="3581" y="552"/>
                  </a:lnTo>
                  <a:lnTo>
                    <a:pt x="3552" y="562"/>
                  </a:lnTo>
                  <a:lnTo>
                    <a:pt x="3509" y="567"/>
                  </a:lnTo>
                  <a:lnTo>
                    <a:pt x="3465" y="562"/>
                  </a:lnTo>
                  <a:lnTo>
                    <a:pt x="3376" y="543"/>
                  </a:lnTo>
                  <a:lnTo>
                    <a:pt x="3332" y="534"/>
                  </a:lnTo>
                  <a:lnTo>
                    <a:pt x="3287" y="531"/>
                  </a:lnTo>
                  <a:lnTo>
                    <a:pt x="3244" y="538"/>
                  </a:lnTo>
                  <a:lnTo>
                    <a:pt x="3222" y="544"/>
                  </a:lnTo>
                  <a:lnTo>
                    <a:pt x="3201" y="556"/>
                  </a:lnTo>
                  <a:lnTo>
                    <a:pt x="3207" y="582"/>
                  </a:lnTo>
                  <a:lnTo>
                    <a:pt x="3204" y="609"/>
                  </a:lnTo>
                  <a:lnTo>
                    <a:pt x="3228" y="617"/>
                  </a:lnTo>
                  <a:lnTo>
                    <a:pt x="3247" y="631"/>
                  </a:lnTo>
                  <a:lnTo>
                    <a:pt x="3261" y="650"/>
                  </a:lnTo>
                  <a:lnTo>
                    <a:pt x="3271" y="673"/>
                  </a:lnTo>
                  <a:lnTo>
                    <a:pt x="3275" y="696"/>
                  </a:lnTo>
                  <a:lnTo>
                    <a:pt x="3271" y="721"/>
                  </a:lnTo>
                  <a:lnTo>
                    <a:pt x="3261" y="745"/>
                  </a:lnTo>
                  <a:lnTo>
                    <a:pt x="3244" y="768"/>
                  </a:lnTo>
                  <a:lnTo>
                    <a:pt x="3302" y="834"/>
                  </a:lnTo>
                  <a:lnTo>
                    <a:pt x="3350" y="906"/>
                  </a:lnTo>
                  <a:lnTo>
                    <a:pt x="3369" y="945"/>
                  </a:lnTo>
                  <a:lnTo>
                    <a:pt x="3387" y="985"/>
                  </a:lnTo>
                  <a:lnTo>
                    <a:pt x="3400" y="1026"/>
                  </a:lnTo>
                  <a:lnTo>
                    <a:pt x="3411" y="1068"/>
                  </a:lnTo>
                  <a:lnTo>
                    <a:pt x="3448" y="1058"/>
                  </a:lnTo>
                  <a:lnTo>
                    <a:pt x="3478" y="1059"/>
                  </a:lnTo>
                  <a:lnTo>
                    <a:pt x="3502" y="1069"/>
                  </a:lnTo>
                  <a:lnTo>
                    <a:pt x="3517" y="1086"/>
                  </a:lnTo>
                  <a:lnTo>
                    <a:pt x="3542" y="1100"/>
                  </a:lnTo>
                  <a:lnTo>
                    <a:pt x="3563" y="1118"/>
                  </a:lnTo>
                  <a:lnTo>
                    <a:pt x="3598" y="1161"/>
                  </a:lnTo>
                  <a:lnTo>
                    <a:pt x="3626" y="1211"/>
                  </a:lnTo>
                  <a:lnTo>
                    <a:pt x="3648" y="1266"/>
                  </a:lnTo>
                  <a:lnTo>
                    <a:pt x="3685" y="1382"/>
                  </a:lnTo>
                  <a:lnTo>
                    <a:pt x="3705" y="1437"/>
                  </a:lnTo>
                  <a:lnTo>
                    <a:pt x="3729" y="1486"/>
                  </a:lnTo>
                  <a:lnTo>
                    <a:pt x="3742" y="1508"/>
                  </a:lnTo>
                  <a:lnTo>
                    <a:pt x="3750" y="1530"/>
                  </a:lnTo>
                  <a:lnTo>
                    <a:pt x="3783" y="1518"/>
                  </a:lnTo>
                  <a:lnTo>
                    <a:pt x="3821" y="1501"/>
                  </a:lnTo>
                  <a:lnTo>
                    <a:pt x="3840" y="1495"/>
                  </a:lnTo>
                  <a:lnTo>
                    <a:pt x="3858" y="1494"/>
                  </a:lnTo>
                  <a:lnTo>
                    <a:pt x="3874" y="1499"/>
                  </a:lnTo>
                  <a:lnTo>
                    <a:pt x="3886" y="1513"/>
                  </a:lnTo>
                  <a:lnTo>
                    <a:pt x="3914" y="1506"/>
                  </a:lnTo>
                  <a:lnTo>
                    <a:pt x="3945" y="1500"/>
                  </a:lnTo>
                  <a:lnTo>
                    <a:pt x="3961" y="1500"/>
                  </a:lnTo>
                  <a:lnTo>
                    <a:pt x="3975" y="1504"/>
                  </a:lnTo>
                  <a:lnTo>
                    <a:pt x="3988" y="1514"/>
                  </a:lnTo>
                  <a:lnTo>
                    <a:pt x="3998" y="1530"/>
                  </a:lnTo>
                  <a:lnTo>
                    <a:pt x="4036" y="1520"/>
                  </a:lnTo>
                  <a:lnTo>
                    <a:pt x="4074" y="1517"/>
                  </a:lnTo>
                  <a:lnTo>
                    <a:pt x="4110" y="1519"/>
                  </a:lnTo>
                  <a:lnTo>
                    <a:pt x="4147" y="1527"/>
                  </a:lnTo>
                  <a:lnTo>
                    <a:pt x="4183" y="1540"/>
                  </a:lnTo>
                  <a:lnTo>
                    <a:pt x="4217" y="1558"/>
                  </a:lnTo>
                  <a:lnTo>
                    <a:pt x="4247" y="1582"/>
                  </a:lnTo>
                  <a:lnTo>
                    <a:pt x="4274" y="1610"/>
                  </a:lnTo>
                  <a:lnTo>
                    <a:pt x="4251" y="1600"/>
                  </a:lnTo>
                  <a:lnTo>
                    <a:pt x="4227" y="1594"/>
                  </a:lnTo>
                  <a:lnTo>
                    <a:pt x="4201" y="1593"/>
                  </a:lnTo>
                  <a:lnTo>
                    <a:pt x="4176" y="1597"/>
                  </a:lnTo>
                  <a:lnTo>
                    <a:pt x="4185" y="1628"/>
                  </a:lnTo>
                  <a:lnTo>
                    <a:pt x="4186" y="1659"/>
                  </a:lnTo>
                  <a:lnTo>
                    <a:pt x="4182" y="1690"/>
                  </a:lnTo>
                  <a:lnTo>
                    <a:pt x="4170" y="1719"/>
                  </a:lnTo>
                  <a:lnTo>
                    <a:pt x="4158" y="1691"/>
                  </a:lnTo>
                  <a:lnTo>
                    <a:pt x="4142" y="1667"/>
                  </a:lnTo>
                  <a:lnTo>
                    <a:pt x="4123" y="1644"/>
                  </a:lnTo>
                  <a:lnTo>
                    <a:pt x="4099" y="1625"/>
                  </a:lnTo>
                  <a:lnTo>
                    <a:pt x="4047" y="1596"/>
                  </a:lnTo>
                  <a:lnTo>
                    <a:pt x="4018" y="1586"/>
                  </a:lnTo>
                  <a:lnTo>
                    <a:pt x="3989" y="1580"/>
                  </a:lnTo>
                  <a:lnTo>
                    <a:pt x="3980" y="1593"/>
                  </a:lnTo>
                  <a:lnTo>
                    <a:pt x="3969" y="1602"/>
                  </a:lnTo>
                  <a:lnTo>
                    <a:pt x="3954" y="1606"/>
                  </a:lnTo>
                  <a:lnTo>
                    <a:pt x="3938" y="1606"/>
                  </a:lnTo>
                  <a:lnTo>
                    <a:pt x="3907" y="1595"/>
                  </a:lnTo>
                  <a:lnTo>
                    <a:pt x="3881" y="1573"/>
                  </a:lnTo>
                  <a:lnTo>
                    <a:pt x="3868" y="1589"/>
                  </a:lnTo>
                  <a:lnTo>
                    <a:pt x="3851" y="1597"/>
                  </a:lnTo>
                  <a:lnTo>
                    <a:pt x="3831" y="1603"/>
                  </a:lnTo>
                  <a:lnTo>
                    <a:pt x="3809" y="1603"/>
                  </a:lnTo>
                  <a:lnTo>
                    <a:pt x="3764" y="1592"/>
                  </a:lnTo>
                  <a:lnTo>
                    <a:pt x="3723" y="1570"/>
                  </a:lnTo>
                  <a:lnTo>
                    <a:pt x="3698" y="1576"/>
                  </a:lnTo>
                  <a:lnTo>
                    <a:pt x="3677" y="1574"/>
                  </a:lnTo>
                  <a:lnTo>
                    <a:pt x="3658" y="1563"/>
                  </a:lnTo>
                  <a:lnTo>
                    <a:pt x="3642" y="1545"/>
                  </a:lnTo>
                  <a:lnTo>
                    <a:pt x="3628" y="1520"/>
                  </a:lnTo>
                  <a:lnTo>
                    <a:pt x="3616" y="1491"/>
                  </a:lnTo>
                  <a:lnTo>
                    <a:pt x="3595" y="1422"/>
                  </a:lnTo>
                  <a:lnTo>
                    <a:pt x="3560" y="1276"/>
                  </a:lnTo>
                  <a:lnTo>
                    <a:pt x="3540" y="1217"/>
                  </a:lnTo>
                  <a:lnTo>
                    <a:pt x="3532" y="1198"/>
                  </a:lnTo>
                  <a:lnTo>
                    <a:pt x="3529" y="1192"/>
                  </a:lnTo>
                  <a:lnTo>
                    <a:pt x="3515" y="1180"/>
                  </a:lnTo>
                  <a:lnTo>
                    <a:pt x="3500" y="1202"/>
                  </a:lnTo>
                  <a:lnTo>
                    <a:pt x="3480" y="1221"/>
                  </a:lnTo>
                  <a:lnTo>
                    <a:pt x="3454" y="1236"/>
                  </a:lnTo>
                  <a:lnTo>
                    <a:pt x="3422" y="1242"/>
                  </a:lnTo>
                  <a:lnTo>
                    <a:pt x="3417" y="1269"/>
                  </a:lnTo>
                  <a:lnTo>
                    <a:pt x="3408" y="1294"/>
                  </a:lnTo>
                  <a:lnTo>
                    <a:pt x="3393" y="1318"/>
                  </a:lnTo>
                  <a:lnTo>
                    <a:pt x="3376" y="1339"/>
                  </a:lnTo>
                  <a:lnTo>
                    <a:pt x="3355" y="1357"/>
                  </a:lnTo>
                  <a:lnTo>
                    <a:pt x="3332" y="1370"/>
                  </a:lnTo>
                  <a:lnTo>
                    <a:pt x="3306" y="1377"/>
                  </a:lnTo>
                  <a:lnTo>
                    <a:pt x="3278" y="1379"/>
                  </a:lnTo>
                  <a:lnTo>
                    <a:pt x="3296" y="1408"/>
                  </a:lnTo>
                  <a:lnTo>
                    <a:pt x="3314" y="1446"/>
                  </a:lnTo>
                  <a:lnTo>
                    <a:pt x="3345" y="1542"/>
                  </a:lnTo>
                  <a:lnTo>
                    <a:pt x="3370" y="1656"/>
                  </a:lnTo>
                  <a:lnTo>
                    <a:pt x="3387" y="1776"/>
                  </a:lnTo>
                  <a:lnTo>
                    <a:pt x="3402" y="1768"/>
                  </a:lnTo>
                  <a:lnTo>
                    <a:pt x="3418" y="1765"/>
                  </a:lnTo>
                  <a:lnTo>
                    <a:pt x="3454" y="1768"/>
                  </a:lnTo>
                  <a:lnTo>
                    <a:pt x="3489" y="1784"/>
                  </a:lnTo>
                  <a:lnTo>
                    <a:pt x="3523" y="1809"/>
                  </a:lnTo>
                  <a:lnTo>
                    <a:pt x="3552" y="1839"/>
                  </a:lnTo>
                  <a:lnTo>
                    <a:pt x="3573" y="1873"/>
                  </a:lnTo>
                  <a:lnTo>
                    <a:pt x="3583" y="1907"/>
                  </a:lnTo>
                  <a:lnTo>
                    <a:pt x="3584" y="1924"/>
                  </a:lnTo>
                  <a:lnTo>
                    <a:pt x="3581" y="1939"/>
                  </a:lnTo>
                  <a:lnTo>
                    <a:pt x="3619" y="1984"/>
                  </a:lnTo>
                  <a:lnTo>
                    <a:pt x="3646" y="2034"/>
                  </a:lnTo>
                  <a:lnTo>
                    <a:pt x="3664" y="2088"/>
                  </a:lnTo>
                  <a:lnTo>
                    <a:pt x="3674" y="2145"/>
                  </a:lnTo>
                  <a:lnTo>
                    <a:pt x="3677" y="2203"/>
                  </a:lnTo>
                  <a:lnTo>
                    <a:pt x="3678" y="2262"/>
                  </a:lnTo>
                  <a:lnTo>
                    <a:pt x="3676" y="2378"/>
                  </a:lnTo>
                  <a:lnTo>
                    <a:pt x="3681" y="2431"/>
                  </a:lnTo>
                  <a:lnTo>
                    <a:pt x="3683" y="2457"/>
                  </a:lnTo>
                  <a:lnTo>
                    <a:pt x="3683" y="2467"/>
                  </a:lnTo>
                  <a:lnTo>
                    <a:pt x="3678" y="2483"/>
                  </a:lnTo>
                  <a:lnTo>
                    <a:pt x="3714" y="2503"/>
                  </a:lnTo>
                  <a:lnTo>
                    <a:pt x="3759" y="2528"/>
                  </a:lnTo>
                  <a:lnTo>
                    <a:pt x="3777" y="2542"/>
                  </a:lnTo>
                  <a:lnTo>
                    <a:pt x="3791" y="2557"/>
                  </a:lnTo>
                  <a:lnTo>
                    <a:pt x="3795" y="2572"/>
                  </a:lnTo>
                  <a:lnTo>
                    <a:pt x="3788" y="2590"/>
                  </a:lnTo>
                  <a:lnTo>
                    <a:pt x="3803" y="2592"/>
                  </a:lnTo>
                  <a:lnTo>
                    <a:pt x="3823" y="2600"/>
                  </a:lnTo>
                  <a:lnTo>
                    <a:pt x="3870" y="2627"/>
                  </a:lnTo>
                  <a:lnTo>
                    <a:pt x="3890" y="2645"/>
                  </a:lnTo>
                  <a:lnTo>
                    <a:pt x="3907" y="2664"/>
                  </a:lnTo>
                  <a:lnTo>
                    <a:pt x="3917" y="2683"/>
                  </a:lnTo>
                  <a:lnTo>
                    <a:pt x="3918" y="2701"/>
                  </a:lnTo>
                  <a:lnTo>
                    <a:pt x="3939" y="2725"/>
                  </a:lnTo>
                  <a:lnTo>
                    <a:pt x="3957" y="2754"/>
                  </a:lnTo>
                  <a:lnTo>
                    <a:pt x="3971" y="2786"/>
                  </a:lnTo>
                  <a:lnTo>
                    <a:pt x="3980" y="2819"/>
                  </a:lnTo>
                  <a:lnTo>
                    <a:pt x="3982" y="2853"/>
                  </a:lnTo>
                  <a:lnTo>
                    <a:pt x="3976" y="2886"/>
                  </a:lnTo>
                  <a:lnTo>
                    <a:pt x="3964" y="2916"/>
                  </a:lnTo>
                  <a:lnTo>
                    <a:pt x="3944" y="2944"/>
                  </a:lnTo>
                  <a:lnTo>
                    <a:pt x="3939" y="2898"/>
                  </a:lnTo>
                  <a:lnTo>
                    <a:pt x="3924" y="2855"/>
                  </a:lnTo>
                  <a:lnTo>
                    <a:pt x="3898" y="2872"/>
                  </a:lnTo>
                  <a:lnTo>
                    <a:pt x="3878" y="2894"/>
                  </a:lnTo>
                  <a:lnTo>
                    <a:pt x="3864" y="2921"/>
                  </a:lnTo>
                  <a:lnTo>
                    <a:pt x="3855" y="2950"/>
                  </a:lnTo>
                  <a:lnTo>
                    <a:pt x="3842" y="2935"/>
                  </a:lnTo>
                  <a:lnTo>
                    <a:pt x="3837" y="2916"/>
                  </a:lnTo>
                  <a:lnTo>
                    <a:pt x="3836" y="2895"/>
                  </a:lnTo>
                  <a:lnTo>
                    <a:pt x="3839" y="2871"/>
                  </a:lnTo>
                  <a:lnTo>
                    <a:pt x="3849" y="2820"/>
                  </a:lnTo>
                  <a:lnTo>
                    <a:pt x="3856" y="2779"/>
                  </a:lnTo>
                  <a:lnTo>
                    <a:pt x="3838" y="2783"/>
                  </a:lnTo>
                  <a:lnTo>
                    <a:pt x="3822" y="2780"/>
                  </a:lnTo>
                  <a:lnTo>
                    <a:pt x="3808" y="2769"/>
                  </a:lnTo>
                  <a:lnTo>
                    <a:pt x="3795" y="2751"/>
                  </a:lnTo>
                  <a:lnTo>
                    <a:pt x="3772" y="2701"/>
                  </a:lnTo>
                  <a:lnTo>
                    <a:pt x="3752" y="2637"/>
                  </a:lnTo>
                  <a:lnTo>
                    <a:pt x="3735" y="2648"/>
                  </a:lnTo>
                  <a:lnTo>
                    <a:pt x="3726" y="2648"/>
                  </a:lnTo>
                  <a:lnTo>
                    <a:pt x="3717" y="2646"/>
                  </a:lnTo>
                  <a:lnTo>
                    <a:pt x="3697" y="2634"/>
                  </a:lnTo>
                  <a:lnTo>
                    <a:pt x="3678" y="2615"/>
                  </a:lnTo>
                  <a:lnTo>
                    <a:pt x="3646" y="2569"/>
                  </a:lnTo>
                  <a:lnTo>
                    <a:pt x="3630" y="2532"/>
                  </a:lnTo>
                  <a:lnTo>
                    <a:pt x="3618" y="2538"/>
                  </a:lnTo>
                  <a:lnTo>
                    <a:pt x="3605" y="2539"/>
                  </a:lnTo>
                  <a:lnTo>
                    <a:pt x="3593" y="2534"/>
                  </a:lnTo>
                  <a:lnTo>
                    <a:pt x="3582" y="2527"/>
                  </a:lnTo>
                  <a:lnTo>
                    <a:pt x="3572" y="2513"/>
                  </a:lnTo>
                  <a:lnTo>
                    <a:pt x="3563" y="2495"/>
                  </a:lnTo>
                  <a:lnTo>
                    <a:pt x="3556" y="2472"/>
                  </a:lnTo>
                  <a:lnTo>
                    <a:pt x="3552" y="2443"/>
                  </a:lnTo>
                  <a:lnTo>
                    <a:pt x="3551" y="2388"/>
                  </a:lnTo>
                  <a:lnTo>
                    <a:pt x="3557" y="2329"/>
                  </a:lnTo>
                  <a:lnTo>
                    <a:pt x="3574" y="2206"/>
                  </a:lnTo>
                  <a:lnTo>
                    <a:pt x="3578" y="2145"/>
                  </a:lnTo>
                  <a:lnTo>
                    <a:pt x="3572" y="2088"/>
                  </a:lnTo>
                  <a:lnTo>
                    <a:pt x="3554" y="2034"/>
                  </a:lnTo>
                  <a:lnTo>
                    <a:pt x="3540" y="2011"/>
                  </a:lnTo>
                  <a:lnTo>
                    <a:pt x="3521" y="1988"/>
                  </a:lnTo>
                  <a:lnTo>
                    <a:pt x="3485" y="1985"/>
                  </a:lnTo>
                  <a:lnTo>
                    <a:pt x="3449" y="1970"/>
                  </a:lnTo>
                  <a:lnTo>
                    <a:pt x="3417" y="1948"/>
                  </a:lnTo>
                  <a:lnTo>
                    <a:pt x="3393" y="1922"/>
                  </a:lnTo>
                  <a:lnTo>
                    <a:pt x="3389" y="2021"/>
                  </a:lnTo>
                  <a:lnTo>
                    <a:pt x="3376" y="2118"/>
                  </a:lnTo>
                  <a:lnTo>
                    <a:pt x="3357" y="2214"/>
                  </a:lnTo>
                  <a:lnTo>
                    <a:pt x="3332" y="2309"/>
                  </a:lnTo>
                  <a:lnTo>
                    <a:pt x="3300" y="2403"/>
                  </a:lnTo>
                  <a:lnTo>
                    <a:pt x="3265" y="2494"/>
                  </a:lnTo>
                  <a:lnTo>
                    <a:pt x="3182" y="2674"/>
                  </a:lnTo>
                  <a:lnTo>
                    <a:pt x="3231" y="2718"/>
                  </a:lnTo>
                  <a:lnTo>
                    <a:pt x="3268" y="2762"/>
                  </a:lnTo>
                  <a:lnTo>
                    <a:pt x="3295" y="2809"/>
                  </a:lnTo>
                  <a:lnTo>
                    <a:pt x="3312" y="2857"/>
                  </a:lnTo>
                  <a:lnTo>
                    <a:pt x="3321" y="2906"/>
                  </a:lnTo>
                  <a:lnTo>
                    <a:pt x="3322" y="2957"/>
                  </a:lnTo>
                  <a:lnTo>
                    <a:pt x="3316" y="3008"/>
                  </a:lnTo>
                  <a:lnTo>
                    <a:pt x="3305" y="3059"/>
                  </a:lnTo>
                  <a:lnTo>
                    <a:pt x="3289" y="3111"/>
                  </a:lnTo>
                  <a:lnTo>
                    <a:pt x="3270" y="3163"/>
                  </a:lnTo>
                  <a:lnTo>
                    <a:pt x="3225" y="3267"/>
                  </a:lnTo>
                  <a:lnTo>
                    <a:pt x="3175" y="3369"/>
                  </a:lnTo>
                  <a:lnTo>
                    <a:pt x="3132" y="3466"/>
                  </a:lnTo>
                  <a:lnTo>
                    <a:pt x="3112" y="3506"/>
                  </a:lnTo>
                  <a:lnTo>
                    <a:pt x="3099" y="3517"/>
                  </a:lnTo>
                  <a:lnTo>
                    <a:pt x="3095" y="3520"/>
                  </a:lnTo>
                  <a:lnTo>
                    <a:pt x="3085" y="3523"/>
                  </a:lnTo>
                  <a:lnTo>
                    <a:pt x="3098" y="3522"/>
                  </a:lnTo>
                  <a:lnTo>
                    <a:pt x="3112" y="3526"/>
                  </a:lnTo>
                  <a:lnTo>
                    <a:pt x="3124" y="3533"/>
                  </a:lnTo>
                  <a:lnTo>
                    <a:pt x="3134" y="3542"/>
                  </a:lnTo>
                  <a:lnTo>
                    <a:pt x="3149" y="3564"/>
                  </a:lnTo>
                  <a:lnTo>
                    <a:pt x="3154" y="3587"/>
                  </a:lnTo>
                  <a:lnTo>
                    <a:pt x="3190" y="3608"/>
                  </a:lnTo>
                  <a:lnTo>
                    <a:pt x="3231" y="3632"/>
                  </a:lnTo>
                  <a:lnTo>
                    <a:pt x="3248" y="3647"/>
                  </a:lnTo>
                  <a:lnTo>
                    <a:pt x="3261" y="3663"/>
                  </a:lnTo>
                  <a:lnTo>
                    <a:pt x="3269" y="3681"/>
                  </a:lnTo>
                  <a:lnTo>
                    <a:pt x="3268" y="3701"/>
                  </a:lnTo>
                  <a:lnTo>
                    <a:pt x="3294" y="3732"/>
                  </a:lnTo>
                  <a:lnTo>
                    <a:pt x="3315" y="3765"/>
                  </a:lnTo>
                  <a:lnTo>
                    <a:pt x="3331" y="3800"/>
                  </a:lnTo>
                  <a:lnTo>
                    <a:pt x="3341" y="3838"/>
                  </a:lnTo>
                  <a:lnTo>
                    <a:pt x="3345" y="3876"/>
                  </a:lnTo>
                  <a:lnTo>
                    <a:pt x="3344" y="3914"/>
                  </a:lnTo>
                  <a:lnTo>
                    <a:pt x="3337" y="3952"/>
                  </a:lnTo>
                  <a:lnTo>
                    <a:pt x="3324" y="3990"/>
                  </a:lnTo>
                  <a:lnTo>
                    <a:pt x="3317" y="3943"/>
                  </a:lnTo>
                  <a:lnTo>
                    <a:pt x="3300" y="3899"/>
                  </a:lnTo>
                  <a:lnTo>
                    <a:pt x="3276" y="3911"/>
                  </a:lnTo>
                  <a:lnTo>
                    <a:pt x="3254" y="3928"/>
                  </a:lnTo>
                  <a:lnTo>
                    <a:pt x="3233" y="3947"/>
                  </a:lnTo>
                  <a:lnTo>
                    <a:pt x="3216" y="3969"/>
                  </a:lnTo>
                  <a:lnTo>
                    <a:pt x="3227" y="3915"/>
                  </a:lnTo>
                  <a:lnTo>
                    <a:pt x="3229" y="3860"/>
                  </a:lnTo>
                  <a:lnTo>
                    <a:pt x="3223" y="3805"/>
                  </a:lnTo>
                  <a:lnTo>
                    <a:pt x="3209" y="3753"/>
                  </a:lnTo>
                  <a:lnTo>
                    <a:pt x="3190" y="3757"/>
                  </a:lnTo>
                  <a:lnTo>
                    <a:pt x="3174" y="3754"/>
                  </a:lnTo>
                  <a:lnTo>
                    <a:pt x="3160" y="3744"/>
                  </a:lnTo>
                  <a:lnTo>
                    <a:pt x="3149" y="3728"/>
                  </a:lnTo>
                  <a:lnTo>
                    <a:pt x="3132" y="3688"/>
                  </a:lnTo>
                  <a:lnTo>
                    <a:pt x="3124" y="3649"/>
                  </a:lnTo>
                  <a:lnTo>
                    <a:pt x="3107" y="3655"/>
                  </a:lnTo>
                  <a:lnTo>
                    <a:pt x="3090" y="3649"/>
                  </a:lnTo>
                  <a:lnTo>
                    <a:pt x="3075" y="3633"/>
                  </a:lnTo>
                  <a:lnTo>
                    <a:pt x="3063" y="3613"/>
                  </a:lnTo>
                  <a:lnTo>
                    <a:pt x="3042" y="3567"/>
                  </a:lnTo>
                  <a:lnTo>
                    <a:pt x="3035" y="3533"/>
                  </a:lnTo>
                  <a:lnTo>
                    <a:pt x="3019" y="3532"/>
                  </a:lnTo>
                  <a:lnTo>
                    <a:pt x="3010" y="3520"/>
                  </a:lnTo>
                  <a:lnTo>
                    <a:pt x="3008" y="3502"/>
                  </a:lnTo>
                  <a:lnTo>
                    <a:pt x="3011" y="3475"/>
                  </a:lnTo>
                  <a:lnTo>
                    <a:pt x="3030" y="3407"/>
                  </a:lnTo>
                  <a:lnTo>
                    <a:pt x="3063" y="3324"/>
                  </a:lnTo>
                  <a:lnTo>
                    <a:pt x="3139" y="3162"/>
                  </a:lnTo>
                  <a:lnTo>
                    <a:pt x="3189" y="3070"/>
                  </a:lnTo>
                  <a:lnTo>
                    <a:pt x="3203" y="3041"/>
                  </a:lnTo>
                  <a:lnTo>
                    <a:pt x="3209" y="3011"/>
                  </a:lnTo>
                  <a:lnTo>
                    <a:pt x="3204" y="2982"/>
                  </a:lnTo>
                  <a:lnTo>
                    <a:pt x="3193" y="2952"/>
                  </a:lnTo>
                  <a:lnTo>
                    <a:pt x="3176" y="2921"/>
                  </a:lnTo>
                  <a:lnTo>
                    <a:pt x="3154" y="2890"/>
                  </a:lnTo>
                  <a:lnTo>
                    <a:pt x="3102" y="2825"/>
                  </a:lnTo>
                  <a:lnTo>
                    <a:pt x="3032" y="2941"/>
                  </a:lnTo>
                  <a:lnTo>
                    <a:pt x="2956" y="3056"/>
                  </a:lnTo>
                  <a:lnTo>
                    <a:pt x="2873" y="3169"/>
                  </a:lnTo>
                  <a:lnTo>
                    <a:pt x="2783" y="3279"/>
                  </a:lnTo>
                  <a:lnTo>
                    <a:pt x="2687" y="3384"/>
                  </a:lnTo>
                  <a:lnTo>
                    <a:pt x="2587" y="3484"/>
                  </a:lnTo>
                  <a:lnTo>
                    <a:pt x="2479" y="3575"/>
                  </a:lnTo>
                  <a:lnTo>
                    <a:pt x="2368" y="3659"/>
                  </a:lnTo>
                  <a:lnTo>
                    <a:pt x="2252" y="3733"/>
                  </a:lnTo>
                  <a:lnTo>
                    <a:pt x="2191" y="3765"/>
                  </a:lnTo>
                  <a:lnTo>
                    <a:pt x="2130" y="3795"/>
                  </a:lnTo>
                  <a:lnTo>
                    <a:pt x="2005" y="3845"/>
                  </a:lnTo>
                  <a:lnTo>
                    <a:pt x="1941" y="3866"/>
                  </a:lnTo>
                  <a:lnTo>
                    <a:pt x="1875" y="3882"/>
                  </a:lnTo>
                  <a:lnTo>
                    <a:pt x="1809" y="3896"/>
                  </a:lnTo>
                  <a:lnTo>
                    <a:pt x="1743" y="3905"/>
                  </a:lnTo>
                  <a:lnTo>
                    <a:pt x="1675" y="3909"/>
                  </a:lnTo>
                  <a:lnTo>
                    <a:pt x="1607" y="3910"/>
                  </a:lnTo>
                  <a:lnTo>
                    <a:pt x="1538" y="3906"/>
                  </a:lnTo>
                  <a:lnTo>
                    <a:pt x="1468" y="3898"/>
                  </a:lnTo>
                  <a:lnTo>
                    <a:pt x="1398" y="3886"/>
                  </a:lnTo>
                  <a:lnTo>
                    <a:pt x="1327" y="3868"/>
                  </a:lnTo>
                  <a:lnTo>
                    <a:pt x="1286" y="3852"/>
                  </a:lnTo>
                  <a:lnTo>
                    <a:pt x="1255" y="3830"/>
                  </a:lnTo>
                  <a:lnTo>
                    <a:pt x="1244" y="3814"/>
                  </a:lnTo>
                  <a:lnTo>
                    <a:pt x="1236" y="3796"/>
                  </a:lnTo>
                  <a:lnTo>
                    <a:pt x="1234" y="3776"/>
                  </a:lnTo>
                  <a:lnTo>
                    <a:pt x="1236" y="3754"/>
                  </a:lnTo>
                  <a:lnTo>
                    <a:pt x="1220" y="3786"/>
                  </a:lnTo>
                  <a:lnTo>
                    <a:pt x="1208" y="3799"/>
                  </a:lnTo>
                  <a:lnTo>
                    <a:pt x="1194" y="3806"/>
                  </a:lnTo>
                  <a:lnTo>
                    <a:pt x="1176" y="3812"/>
                  </a:lnTo>
                  <a:lnTo>
                    <a:pt x="1157" y="3814"/>
                  </a:lnTo>
                  <a:lnTo>
                    <a:pt x="1135" y="3813"/>
                  </a:lnTo>
                  <a:lnTo>
                    <a:pt x="1112" y="3809"/>
                  </a:lnTo>
                  <a:lnTo>
                    <a:pt x="1063" y="3792"/>
                  </a:lnTo>
                  <a:lnTo>
                    <a:pt x="1011" y="3763"/>
                  </a:lnTo>
                  <a:lnTo>
                    <a:pt x="960" y="3722"/>
                  </a:lnTo>
                  <a:lnTo>
                    <a:pt x="910" y="366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481040" y="3462480"/>
              <a:ext cx="809640" cy="1044360"/>
            </a:xfrm>
            <a:custGeom>
              <a:avLst/>
              <a:gdLst/>
              <a:ahLst/>
              <a:rect l="l" t="t" r="r" b="b"/>
              <a:pathLst>
                <a:path w="2042" h="2631">
                  <a:moveTo>
                    <a:pt x="0" y="2631"/>
                  </a:moveTo>
                  <a:lnTo>
                    <a:pt x="44" y="2459"/>
                  </a:lnTo>
                  <a:lnTo>
                    <a:pt x="93" y="2290"/>
                  </a:lnTo>
                  <a:lnTo>
                    <a:pt x="147" y="2123"/>
                  </a:lnTo>
                  <a:lnTo>
                    <a:pt x="207" y="1956"/>
                  </a:lnTo>
                  <a:lnTo>
                    <a:pt x="271" y="1793"/>
                  </a:lnTo>
                  <a:lnTo>
                    <a:pt x="341" y="1631"/>
                  </a:lnTo>
                  <a:lnTo>
                    <a:pt x="492" y="1312"/>
                  </a:lnTo>
                  <a:lnTo>
                    <a:pt x="656" y="998"/>
                  </a:lnTo>
                  <a:lnTo>
                    <a:pt x="829" y="690"/>
                  </a:lnTo>
                  <a:lnTo>
                    <a:pt x="1010" y="386"/>
                  </a:lnTo>
                  <a:lnTo>
                    <a:pt x="1195" y="87"/>
                  </a:lnTo>
                  <a:lnTo>
                    <a:pt x="1213" y="62"/>
                  </a:lnTo>
                  <a:lnTo>
                    <a:pt x="1233" y="43"/>
                  </a:lnTo>
                  <a:lnTo>
                    <a:pt x="1281" y="15"/>
                  </a:lnTo>
                  <a:lnTo>
                    <a:pt x="1308" y="7"/>
                  </a:lnTo>
                  <a:lnTo>
                    <a:pt x="1336" y="2"/>
                  </a:lnTo>
                  <a:lnTo>
                    <a:pt x="1395" y="0"/>
                  </a:lnTo>
                  <a:lnTo>
                    <a:pt x="1455" y="7"/>
                  </a:lnTo>
                  <a:lnTo>
                    <a:pt x="1513" y="21"/>
                  </a:lnTo>
                  <a:lnTo>
                    <a:pt x="1566" y="41"/>
                  </a:lnTo>
                  <a:lnTo>
                    <a:pt x="1613" y="62"/>
                  </a:lnTo>
                  <a:lnTo>
                    <a:pt x="1668" y="87"/>
                  </a:lnTo>
                  <a:lnTo>
                    <a:pt x="1727" y="108"/>
                  </a:lnTo>
                  <a:lnTo>
                    <a:pt x="1849" y="146"/>
                  </a:lnTo>
                  <a:lnTo>
                    <a:pt x="1907" y="166"/>
                  </a:lnTo>
                  <a:lnTo>
                    <a:pt x="1959" y="191"/>
                  </a:lnTo>
                  <a:lnTo>
                    <a:pt x="2005" y="220"/>
                  </a:lnTo>
                  <a:lnTo>
                    <a:pt x="2042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784520" y="3348000"/>
              <a:ext cx="210960" cy="119160"/>
            </a:xfrm>
            <a:custGeom>
              <a:avLst/>
              <a:gdLst/>
              <a:ahLst/>
              <a:rect l="l" t="t" r="r" b="b"/>
              <a:pathLst>
                <a:path w="530" h="298">
                  <a:moveTo>
                    <a:pt x="530" y="298"/>
                  </a:moveTo>
                  <a:lnTo>
                    <a:pt x="519" y="277"/>
                  </a:lnTo>
                  <a:lnTo>
                    <a:pt x="501" y="253"/>
                  </a:lnTo>
                  <a:lnTo>
                    <a:pt x="477" y="231"/>
                  </a:lnTo>
                  <a:lnTo>
                    <a:pt x="449" y="207"/>
                  </a:lnTo>
                  <a:lnTo>
                    <a:pt x="380" y="161"/>
                  </a:lnTo>
                  <a:lnTo>
                    <a:pt x="302" y="116"/>
                  </a:lnTo>
                  <a:lnTo>
                    <a:pt x="218" y="76"/>
                  </a:lnTo>
                  <a:lnTo>
                    <a:pt x="136" y="41"/>
                  </a:lnTo>
                  <a:lnTo>
                    <a:pt x="61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832040" y="3208320"/>
              <a:ext cx="476280" cy="317520"/>
            </a:xfrm>
            <a:custGeom>
              <a:avLst/>
              <a:gdLst/>
              <a:ahLst/>
              <a:rect l="l" t="t" r="r" b="b"/>
              <a:pathLst>
                <a:path w="1203" h="798">
                  <a:moveTo>
                    <a:pt x="57" y="410"/>
                  </a:moveTo>
                  <a:lnTo>
                    <a:pt x="34" y="371"/>
                  </a:lnTo>
                  <a:lnTo>
                    <a:pt x="19" y="333"/>
                  </a:lnTo>
                  <a:lnTo>
                    <a:pt x="8" y="297"/>
                  </a:lnTo>
                  <a:lnTo>
                    <a:pt x="1" y="263"/>
                  </a:lnTo>
                  <a:lnTo>
                    <a:pt x="0" y="232"/>
                  </a:lnTo>
                  <a:lnTo>
                    <a:pt x="2" y="202"/>
                  </a:lnTo>
                  <a:lnTo>
                    <a:pt x="10" y="174"/>
                  </a:lnTo>
                  <a:lnTo>
                    <a:pt x="20" y="148"/>
                  </a:lnTo>
                  <a:lnTo>
                    <a:pt x="34" y="125"/>
                  </a:lnTo>
                  <a:lnTo>
                    <a:pt x="52" y="103"/>
                  </a:lnTo>
                  <a:lnTo>
                    <a:pt x="73" y="84"/>
                  </a:lnTo>
                  <a:lnTo>
                    <a:pt x="97" y="66"/>
                  </a:lnTo>
                  <a:lnTo>
                    <a:pt x="150" y="37"/>
                  </a:lnTo>
                  <a:lnTo>
                    <a:pt x="212" y="15"/>
                  </a:lnTo>
                  <a:lnTo>
                    <a:pt x="279" y="3"/>
                  </a:lnTo>
                  <a:lnTo>
                    <a:pt x="348" y="0"/>
                  </a:lnTo>
                  <a:lnTo>
                    <a:pt x="417" y="5"/>
                  </a:lnTo>
                  <a:lnTo>
                    <a:pt x="486" y="19"/>
                  </a:lnTo>
                  <a:lnTo>
                    <a:pt x="549" y="41"/>
                  </a:lnTo>
                  <a:lnTo>
                    <a:pt x="579" y="57"/>
                  </a:lnTo>
                  <a:lnTo>
                    <a:pt x="606" y="74"/>
                  </a:lnTo>
                  <a:lnTo>
                    <a:pt x="632" y="92"/>
                  </a:lnTo>
                  <a:lnTo>
                    <a:pt x="655" y="115"/>
                  </a:lnTo>
                  <a:lnTo>
                    <a:pt x="693" y="165"/>
                  </a:lnTo>
                  <a:lnTo>
                    <a:pt x="722" y="157"/>
                  </a:lnTo>
                  <a:lnTo>
                    <a:pt x="753" y="153"/>
                  </a:lnTo>
                  <a:lnTo>
                    <a:pt x="814" y="157"/>
                  </a:lnTo>
                  <a:lnTo>
                    <a:pt x="844" y="164"/>
                  </a:lnTo>
                  <a:lnTo>
                    <a:pt x="876" y="174"/>
                  </a:lnTo>
                  <a:lnTo>
                    <a:pt x="937" y="204"/>
                  </a:lnTo>
                  <a:lnTo>
                    <a:pt x="996" y="243"/>
                  </a:lnTo>
                  <a:lnTo>
                    <a:pt x="1051" y="291"/>
                  </a:lnTo>
                  <a:lnTo>
                    <a:pt x="1099" y="345"/>
                  </a:lnTo>
                  <a:lnTo>
                    <a:pt x="1140" y="403"/>
                  </a:lnTo>
                  <a:lnTo>
                    <a:pt x="1173" y="463"/>
                  </a:lnTo>
                  <a:lnTo>
                    <a:pt x="1194" y="525"/>
                  </a:lnTo>
                  <a:lnTo>
                    <a:pt x="1199" y="555"/>
                  </a:lnTo>
                  <a:lnTo>
                    <a:pt x="1203" y="585"/>
                  </a:lnTo>
                  <a:lnTo>
                    <a:pt x="1202" y="614"/>
                  </a:lnTo>
                  <a:lnTo>
                    <a:pt x="1196" y="642"/>
                  </a:lnTo>
                  <a:lnTo>
                    <a:pt x="1188" y="668"/>
                  </a:lnTo>
                  <a:lnTo>
                    <a:pt x="1175" y="693"/>
                  </a:lnTo>
                  <a:lnTo>
                    <a:pt x="1157" y="717"/>
                  </a:lnTo>
                  <a:lnTo>
                    <a:pt x="1136" y="738"/>
                  </a:lnTo>
                  <a:lnTo>
                    <a:pt x="1109" y="757"/>
                  </a:lnTo>
                  <a:lnTo>
                    <a:pt x="1077" y="774"/>
                  </a:lnTo>
                  <a:lnTo>
                    <a:pt x="1040" y="787"/>
                  </a:lnTo>
                  <a:lnTo>
                    <a:pt x="997" y="7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009880" y="3191040"/>
              <a:ext cx="268200" cy="131760"/>
            </a:xfrm>
            <a:custGeom>
              <a:avLst/>
              <a:gdLst/>
              <a:ahLst/>
              <a:rect l="l" t="t" r="r" b="b"/>
              <a:pathLst>
                <a:path w="675" h="332">
                  <a:moveTo>
                    <a:pt x="675" y="332"/>
                  </a:moveTo>
                  <a:lnTo>
                    <a:pt x="604" y="268"/>
                  </a:lnTo>
                  <a:lnTo>
                    <a:pt x="528" y="211"/>
                  </a:lnTo>
                  <a:lnTo>
                    <a:pt x="447" y="160"/>
                  </a:lnTo>
                  <a:lnTo>
                    <a:pt x="363" y="115"/>
                  </a:lnTo>
                  <a:lnTo>
                    <a:pt x="275" y="77"/>
                  </a:lnTo>
                  <a:lnTo>
                    <a:pt x="184" y="45"/>
                  </a:lnTo>
                  <a:lnTo>
                    <a:pt x="92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065320" y="3170160"/>
              <a:ext cx="7920" cy="3348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7" y="83"/>
                  </a:moveTo>
                  <a:lnTo>
                    <a:pt x="0" y="65"/>
                  </a:lnTo>
                  <a:lnTo>
                    <a:pt x="0" y="45"/>
                  </a:lnTo>
                  <a:lnTo>
                    <a:pt x="7" y="22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079720" y="3156120"/>
              <a:ext cx="20520" cy="936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22"/>
                  </a:moveTo>
                  <a:lnTo>
                    <a:pt x="24" y="8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252520" y="3220920"/>
              <a:ext cx="79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241720" y="3259080"/>
              <a:ext cx="20520" cy="30240"/>
            </a:xfrm>
            <a:custGeom>
              <a:avLst/>
              <a:gdLst/>
              <a:ahLst/>
              <a:rect l="l" t="t" r="r" b="b"/>
              <a:pathLst>
                <a:path w="52" h="77">
                  <a:moveTo>
                    <a:pt x="52" y="0"/>
                  </a:moveTo>
                  <a:lnTo>
                    <a:pt x="46" y="24"/>
                  </a:lnTo>
                  <a:lnTo>
                    <a:pt x="35" y="45"/>
                  </a:lnTo>
                  <a:lnTo>
                    <a:pt x="20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344680" y="3441600"/>
              <a:ext cx="4680" cy="68400"/>
            </a:xfrm>
            <a:custGeom>
              <a:avLst/>
              <a:gdLst/>
              <a:ahLst/>
              <a:rect l="l" t="t" r="r" b="b"/>
              <a:pathLst>
                <a:path w="15" h="174">
                  <a:moveTo>
                    <a:pt x="0" y="0"/>
                  </a:moveTo>
                  <a:lnTo>
                    <a:pt x="8" y="44"/>
                  </a:lnTo>
                  <a:lnTo>
                    <a:pt x="13" y="87"/>
                  </a:lnTo>
                  <a:lnTo>
                    <a:pt x="15" y="131"/>
                  </a:lnTo>
                  <a:lnTo>
                    <a:pt x="11" y="1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384280" y="3448080"/>
              <a:ext cx="6480" cy="38160"/>
            </a:xfrm>
            <a:custGeom>
              <a:avLst/>
              <a:gdLst/>
              <a:ahLst/>
              <a:rect l="l" t="t" r="r" b="b"/>
              <a:pathLst>
                <a:path w="13" h="94">
                  <a:moveTo>
                    <a:pt x="0" y="94"/>
                  </a:moveTo>
                  <a:lnTo>
                    <a:pt x="10" y="69"/>
                  </a:lnTo>
                  <a:lnTo>
                    <a:pt x="13" y="45"/>
                  </a:lnTo>
                  <a:lnTo>
                    <a:pt x="11" y="2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467080" y="3624120"/>
              <a:ext cx="11160" cy="1584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lnTo>
                    <a:pt x="13" y="31"/>
                  </a:lnTo>
                  <a:lnTo>
                    <a:pt x="22" y="22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530440" y="3618000"/>
              <a:ext cx="4680" cy="2376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5" y="0"/>
                  </a:moveTo>
                  <a:lnTo>
                    <a:pt x="9" y="14"/>
                  </a:lnTo>
                  <a:lnTo>
                    <a:pt x="10" y="30"/>
                  </a:lnTo>
                  <a:lnTo>
                    <a:pt x="7" y="45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573280" y="3624120"/>
              <a:ext cx="3240" cy="208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0" y="50"/>
                  </a:moveTo>
                  <a:lnTo>
                    <a:pt x="7" y="23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333520" y="3722760"/>
              <a:ext cx="3240" cy="57240"/>
            </a:xfrm>
            <a:custGeom>
              <a:avLst/>
              <a:gdLst/>
              <a:ahLst/>
              <a:rect l="l" t="t" r="r" b="b"/>
              <a:pathLst>
                <a:path w="6" h="146">
                  <a:moveTo>
                    <a:pt x="0" y="0"/>
                  </a:moveTo>
                  <a:lnTo>
                    <a:pt x="5" y="76"/>
                  </a:lnTo>
                  <a:lnTo>
                    <a:pt x="6" y="1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387520" y="3787920"/>
              <a:ext cx="23760" cy="190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19" y="45"/>
                  </a:lnTo>
                  <a:lnTo>
                    <a:pt x="35" y="36"/>
                  </a:lnTo>
                  <a:lnTo>
                    <a:pt x="50" y="21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430360" y="4003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39" y="16"/>
                  </a:lnTo>
                  <a:lnTo>
                    <a:pt x="27" y="29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2479680" y="4044600"/>
              <a:ext cx="144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521080" y="4089240"/>
              <a:ext cx="23760" cy="30240"/>
            </a:xfrm>
            <a:custGeom>
              <a:avLst/>
              <a:gdLst/>
              <a:ahLst/>
              <a:rect l="l" t="t" r="r" b="b"/>
              <a:pathLst>
                <a:path w="62" h="78">
                  <a:moveTo>
                    <a:pt x="62" y="0"/>
                  </a:moveTo>
                  <a:lnTo>
                    <a:pt x="54" y="21"/>
                  </a:lnTo>
                  <a:lnTo>
                    <a:pt x="40" y="43"/>
                  </a:lnTo>
                  <a:lnTo>
                    <a:pt x="21" y="63"/>
                  </a:lnTo>
                  <a:lnTo>
                    <a:pt x="0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>
              <a:off x="2220840" y="4078440"/>
              <a:ext cx="3168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2193840" y="4414680"/>
              <a:ext cx="2088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230560" y="4441680"/>
              <a:ext cx="11160" cy="2412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62"/>
                  </a:moveTo>
                  <a:lnTo>
                    <a:pt x="19" y="40"/>
                  </a:lnTo>
                  <a:lnTo>
                    <a:pt x="27" y="22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63680" y="4486320"/>
              <a:ext cx="23760" cy="2052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0"/>
                  </a:moveTo>
                  <a:lnTo>
                    <a:pt x="50" y="17"/>
                  </a:lnTo>
                  <a:lnTo>
                    <a:pt x="36" y="31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052640" y="4141800"/>
              <a:ext cx="9360" cy="255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22" y="64"/>
                  </a:moveTo>
                  <a:lnTo>
                    <a:pt x="11" y="50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092240" y="4116240"/>
              <a:ext cx="4680" cy="25560"/>
            </a:xfrm>
            <a:custGeom>
              <a:avLst/>
              <a:gdLst/>
              <a:ahLst/>
              <a:rect l="l" t="t" r="r" b="b"/>
              <a:pathLst>
                <a:path w="8" h="67">
                  <a:moveTo>
                    <a:pt x="2" y="0"/>
                  </a:moveTo>
                  <a:lnTo>
                    <a:pt x="0" y="19"/>
                  </a:lnTo>
                  <a:lnTo>
                    <a:pt x="0" y="39"/>
                  </a:lnTo>
                  <a:lnTo>
                    <a:pt x="3" y="57"/>
                  </a:lnTo>
                  <a:lnTo>
                    <a:pt x="8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144440" y="4084560"/>
              <a:ext cx="8280" cy="255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21" y="61"/>
                  </a:moveTo>
                  <a:lnTo>
                    <a:pt x="9" y="49"/>
                  </a:lnTo>
                  <a:lnTo>
                    <a:pt x="2" y="34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289160" y="3757680"/>
              <a:ext cx="44280" cy="11268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0" y="284"/>
                  </a:moveTo>
                  <a:lnTo>
                    <a:pt x="52" y="141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195560" y="3546360"/>
              <a:ext cx="4680" cy="20880"/>
            </a:xfrm>
            <a:custGeom>
              <a:avLst/>
              <a:gdLst/>
              <a:ahLst/>
              <a:rect l="l" t="t" r="r" b="b"/>
              <a:pathLst>
                <a:path w="11" h="52">
                  <a:moveTo>
                    <a:pt x="11" y="52"/>
                  </a:moveTo>
                  <a:lnTo>
                    <a:pt x="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244520" y="3537000"/>
              <a:ext cx="4680" cy="27000"/>
            </a:xfrm>
            <a:custGeom>
              <a:avLst/>
              <a:gdLst/>
              <a:ahLst/>
              <a:rect l="l" t="t" r="r" b="b"/>
              <a:pathLst>
                <a:path w="10" h="69">
                  <a:moveTo>
                    <a:pt x="10" y="0"/>
                  </a:moveTo>
                  <a:lnTo>
                    <a:pt x="3" y="13"/>
                  </a:lnTo>
                  <a:lnTo>
                    <a:pt x="0" y="31"/>
                  </a:lnTo>
                  <a:lnTo>
                    <a:pt x="1" y="51"/>
                  </a:lnTo>
                  <a:lnTo>
                    <a:pt x="9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312920" y="3537000"/>
              <a:ext cx="1440" cy="2376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1" y="62"/>
                  </a:moveTo>
                  <a:lnTo>
                    <a:pt x="0" y="2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490760" y="3432240"/>
              <a:ext cx="7920" cy="28440"/>
            </a:xfrm>
            <a:custGeom>
              <a:avLst/>
              <a:gdLst/>
              <a:ahLst/>
              <a:rect l="l" t="t" r="r" b="b"/>
              <a:pathLst>
                <a:path w="20" h="71">
                  <a:moveTo>
                    <a:pt x="6" y="0"/>
                  </a:moveTo>
                  <a:lnTo>
                    <a:pt x="0" y="16"/>
                  </a:lnTo>
                  <a:lnTo>
                    <a:pt x="0" y="33"/>
                  </a:lnTo>
                  <a:lnTo>
                    <a:pt x="6" y="51"/>
                  </a:lnTo>
                  <a:lnTo>
                    <a:pt x="2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514520" y="3406680"/>
              <a:ext cx="68400" cy="68400"/>
            </a:xfrm>
            <a:custGeom>
              <a:avLst/>
              <a:gdLst/>
              <a:ahLst/>
              <a:rect l="l" t="t" r="r" b="b"/>
              <a:pathLst>
                <a:path w="173" h="172">
                  <a:moveTo>
                    <a:pt x="0" y="172"/>
                  </a:moveTo>
                  <a:lnTo>
                    <a:pt x="85" y="84"/>
                  </a:lnTo>
                  <a:lnTo>
                    <a:pt x="1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1513080" y="3158640"/>
              <a:ext cx="158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H="1">
              <a:off x="1547640" y="3198960"/>
              <a:ext cx="140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95520" y="3233880"/>
              <a:ext cx="4680" cy="126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33"/>
                  </a:moveTo>
                  <a:lnTo>
                    <a:pt x="3" y="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778040" y="3241800"/>
              <a:ext cx="15840" cy="2700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44" y="0"/>
                  </a:moveTo>
                  <a:lnTo>
                    <a:pt x="21" y="30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990720" y="3017880"/>
              <a:ext cx="1695240" cy="1582560"/>
            </a:xfrm>
            <a:custGeom>
              <a:avLst/>
              <a:gdLst/>
              <a:ahLst/>
              <a:rect l="l" t="t" r="r" b="b"/>
              <a:pathLst>
                <a:path w="4274" h="3990">
                  <a:moveTo>
                    <a:pt x="99" y="3137"/>
                  </a:moveTo>
                  <a:lnTo>
                    <a:pt x="73" y="3111"/>
                  </a:lnTo>
                  <a:lnTo>
                    <a:pt x="56" y="3079"/>
                  </a:lnTo>
                  <a:lnTo>
                    <a:pt x="51" y="3044"/>
                  </a:lnTo>
                  <a:lnTo>
                    <a:pt x="54" y="3007"/>
                  </a:lnTo>
                  <a:lnTo>
                    <a:pt x="33" y="3026"/>
                  </a:lnTo>
                  <a:lnTo>
                    <a:pt x="17" y="3048"/>
                  </a:lnTo>
                  <a:lnTo>
                    <a:pt x="7" y="3074"/>
                  </a:lnTo>
                  <a:lnTo>
                    <a:pt x="3" y="3103"/>
                  </a:lnTo>
                  <a:lnTo>
                    <a:pt x="0" y="3082"/>
                  </a:lnTo>
                  <a:lnTo>
                    <a:pt x="0" y="3060"/>
                  </a:lnTo>
                  <a:lnTo>
                    <a:pt x="8" y="3021"/>
                  </a:lnTo>
                  <a:lnTo>
                    <a:pt x="24" y="2986"/>
                  </a:lnTo>
                  <a:lnTo>
                    <a:pt x="45" y="2952"/>
                  </a:lnTo>
                  <a:lnTo>
                    <a:pt x="100" y="2890"/>
                  </a:lnTo>
                  <a:lnTo>
                    <a:pt x="158" y="2833"/>
                  </a:lnTo>
                  <a:lnTo>
                    <a:pt x="161" y="2815"/>
                  </a:lnTo>
                  <a:lnTo>
                    <a:pt x="169" y="2801"/>
                  </a:lnTo>
                  <a:lnTo>
                    <a:pt x="180" y="2789"/>
                  </a:lnTo>
                  <a:lnTo>
                    <a:pt x="195" y="2781"/>
                  </a:lnTo>
                  <a:lnTo>
                    <a:pt x="228" y="2771"/>
                  </a:lnTo>
                  <a:lnTo>
                    <a:pt x="261" y="2768"/>
                  </a:lnTo>
                  <a:lnTo>
                    <a:pt x="267" y="2751"/>
                  </a:lnTo>
                  <a:lnTo>
                    <a:pt x="280" y="2738"/>
                  </a:lnTo>
                  <a:lnTo>
                    <a:pt x="312" y="2718"/>
                  </a:lnTo>
                  <a:lnTo>
                    <a:pt x="387" y="2690"/>
                  </a:lnTo>
                  <a:lnTo>
                    <a:pt x="397" y="2623"/>
                  </a:lnTo>
                  <a:lnTo>
                    <a:pt x="408" y="2556"/>
                  </a:lnTo>
                  <a:lnTo>
                    <a:pt x="442" y="2424"/>
                  </a:lnTo>
                  <a:lnTo>
                    <a:pt x="485" y="2298"/>
                  </a:lnTo>
                  <a:lnTo>
                    <a:pt x="511" y="2238"/>
                  </a:lnTo>
                  <a:lnTo>
                    <a:pt x="539" y="2181"/>
                  </a:lnTo>
                  <a:lnTo>
                    <a:pt x="570" y="2127"/>
                  </a:lnTo>
                  <a:lnTo>
                    <a:pt x="605" y="2077"/>
                  </a:lnTo>
                  <a:lnTo>
                    <a:pt x="641" y="2030"/>
                  </a:lnTo>
                  <a:lnTo>
                    <a:pt x="680" y="1986"/>
                  </a:lnTo>
                  <a:lnTo>
                    <a:pt x="722" y="1948"/>
                  </a:lnTo>
                  <a:lnTo>
                    <a:pt x="767" y="1915"/>
                  </a:lnTo>
                  <a:lnTo>
                    <a:pt x="814" y="1887"/>
                  </a:lnTo>
                  <a:lnTo>
                    <a:pt x="864" y="1864"/>
                  </a:lnTo>
                  <a:lnTo>
                    <a:pt x="805" y="2005"/>
                  </a:lnTo>
                  <a:lnTo>
                    <a:pt x="753" y="2148"/>
                  </a:lnTo>
                  <a:lnTo>
                    <a:pt x="715" y="2158"/>
                  </a:lnTo>
                  <a:lnTo>
                    <a:pt x="686" y="2168"/>
                  </a:lnTo>
                  <a:lnTo>
                    <a:pt x="664" y="2181"/>
                  </a:lnTo>
                  <a:lnTo>
                    <a:pt x="646" y="2199"/>
                  </a:lnTo>
                  <a:lnTo>
                    <a:pt x="631" y="2222"/>
                  </a:lnTo>
                  <a:lnTo>
                    <a:pt x="616" y="2249"/>
                  </a:lnTo>
                  <a:lnTo>
                    <a:pt x="580" y="2327"/>
                  </a:lnTo>
                  <a:lnTo>
                    <a:pt x="555" y="2390"/>
                  </a:lnTo>
                  <a:lnTo>
                    <a:pt x="530" y="2462"/>
                  </a:lnTo>
                  <a:lnTo>
                    <a:pt x="483" y="2606"/>
                  </a:lnTo>
                  <a:lnTo>
                    <a:pt x="442" y="2718"/>
                  </a:lnTo>
                  <a:lnTo>
                    <a:pt x="424" y="2747"/>
                  </a:lnTo>
                  <a:lnTo>
                    <a:pt x="417" y="2753"/>
                  </a:lnTo>
                  <a:lnTo>
                    <a:pt x="416" y="2756"/>
                  </a:lnTo>
                  <a:lnTo>
                    <a:pt x="408" y="2751"/>
                  </a:lnTo>
                  <a:lnTo>
                    <a:pt x="385" y="2786"/>
                  </a:lnTo>
                  <a:lnTo>
                    <a:pt x="350" y="2821"/>
                  </a:lnTo>
                  <a:lnTo>
                    <a:pt x="330" y="2835"/>
                  </a:lnTo>
                  <a:lnTo>
                    <a:pt x="309" y="2843"/>
                  </a:lnTo>
                  <a:lnTo>
                    <a:pt x="288" y="2844"/>
                  </a:lnTo>
                  <a:lnTo>
                    <a:pt x="267" y="2835"/>
                  </a:lnTo>
                  <a:lnTo>
                    <a:pt x="266" y="2849"/>
                  </a:lnTo>
                  <a:lnTo>
                    <a:pt x="261" y="2866"/>
                  </a:lnTo>
                  <a:lnTo>
                    <a:pt x="240" y="2895"/>
                  </a:lnTo>
                  <a:lnTo>
                    <a:pt x="225" y="2905"/>
                  </a:lnTo>
                  <a:lnTo>
                    <a:pt x="211" y="2911"/>
                  </a:lnTo>
                  <a:lnTo>
                    <a:pt x="195" y="2909"/>
                  </a:lnTo>
                  <a:lnTo>
                    <a:pt x="180" y="2897"/>
                  </a:lnTo>
                  <a:lnTo>
                    <a:pt x="178" y="2934"/>
                  </a:lnTo>
                  <a:lnTo>
                    <a:pt x="168" y="2959"/>
                  </a:lnTo>
                  <a:lnTo>
                    <a:pt x="152" y="2976"/>
                  </a:lnTo>
                  <a:lnTo>
                    <a:pt x="135" y="2991"/>
                  </a:lnTo>
                  <a:lnTo>
                    <a:pt x="118" y="3010"/>
                  </a:lnTo>
                  <a:lnTo>
                    <a:pt x="104" y="3037"/>
                  </a:lnTo>
                  <a:lnTo>
                    <a:pt x="99" y="3056"/>
                  </a:lnTo>
                  <a:lnTo>
                    <a:pt x="97" y="3078"/>
                  </a:lnTo>
                  <a:lnTo>
                    <a:pt x="97" y="3105"/>
                  </a:lnTo>
                  <a:lnTo>
                    <a:pt x="99" y="3137"/>
                  </a:lnTo>
                  <a:close/>
                  <a:moveTo>
                    <a:pt x="694" y="2622"/>
                  </a:moveTo>
                  <a:lnTo>
                    <a:pt x="721" y="2527"/>
                  </a:lnTo>
                  <a:lnTo>
                    <a:pt x="737" y="2489"/>
                  </a:lnTo>
                  <a:lnTo>
                    <a:pt x="752" y="2457"/>
                  </a:lnTo>
                  <a:lnTo>
                    <a:pt x="768" y="2433"/>
                  </a:lnTo>
                  <a:lnTo>
                    <a:pt x="785" y="2415"/>
                  </a:lnTo>
                  <a:lnTo>
                    <a:pt x="801" y="2405"/>
                  </a:lnTo>
                  <a:lnTo>
                    <a:pt x="817" y="2401"/>
                  </a:lnTo>
                  <a:lnTo>
                    <a:pt x="833" y="2405"/>
                  </a:lnTo>
                  <a:lnTo>
                    <a:pt x="846" y="2416"/>
                  </a:lnTo>
                  <a:lnTo>
                    <a:pt x="860" y="2436"/>
                  </a:lnTo>
                  <a:lnTo>
                    <a:pt x="870" y="2463"/>
                  </a:lnTo>
                  <a:lnTo>
                    <a:pt x="879" y="2498"/>
                  </a:lnTo>
                  <a:lnTo>
                    <a:pt x="885" y="2541"/>
                  </a:lnTo>
                  <a:lnTo>
                    <a:pt x="891" y="2654"/>
                  </a:lnTo>
                  <a:lnTo>
                    <a:pt x="887" y="2704"/>
                  </a:lnTo>
                  <a:lnTo>
                    <a:pt x="880" y="2747"/>
                  </a:lnTo>
                  <a:lnTo>
                    <a:pt x="867" y="2782"/>
                  </a:lnTo>
                  <a:lnTo>
                    <a:pt x="851" y="2810"/>
                  </a:lnTo>
                  <a:lnTo>
                    <a:pt x="832" y="2831"/>
                  </a:lnTo>
                  <a:lnTo>
                    <a:pt x="812" y="2845"/>
                  </a:lnTo>
                  <a:lnTo>
                    <a:pt x="790" y="2852"/>
                  </a:lnTo>
                  <a:lnTo>
                    <a:pt x="769" y="2852"/>
                  </a:lnTo>
                  <a:lnTo>
                    <a:pt x="748" y="2845"/>
                  </a:lnTo>
                  <a:lnTo>
                    <a:pt x="729" y="2831"/>
                  </a:lnTo>
                  <a:lnTo>
                    <a:pt x="712" y="2811"/>
                  </a:lnTo>
                  <a:lnTo>
                    <a:pt x="699" y="2786"/>
                  </a:lnTo>
                  <a:lnTo>
                    <a:pt x="689" y="2753"/>
                  </a:lnTo>
                  <a:lnTo>
                    <a:pt x="684" y="2715"/>
                  </a:lnTo>
                  <a:lnTo>
                    <a:pt x="686" y="2672"/>
                  </a:lnTo>
                  <a:lnTo>
                    <a:pt x="694" y="2622"/>
                  </a:lnTo>
                  <a:close/>
                  <a:moveTo>
                    <a:pt x="1072" y="2378"/>
                  </a:moveTo>
                  <a:lnTo>
                    <a:pt x="1096" y="2343"/>
                  </a:lnTo>
                  <a:lnTo>
                    <a:pt x="1128" y="2314"/>
                  </a:lnTo>
                  <a:lnTo>
                    <a:pt x="1165" y="2291"/>
                  </a:lnTo>
                  <a:lnTo>
                    <a:pt x="1206" y="2273"/>
                  </a:lnTo>
                  <a:lnTo>
                    <a:pt x="1251" y="2262"/>
                  </a:lnTo>
                  <a:lnTo>
                    <a:pt x="1296" y="2256"/>
                  </a:lnTo>
                  <a:lnTo>
                    <a:pt x="1342" y="2256"/>
                  </a:lnTo>
                  <a:lnTo>
                    <a:pt x="1386" y="2263"/>
                  </a:lnTo>
                  <a:lnTo>
                    <a:pt x="1427" y="2275"/>
                  </a:lnTo>
                  <a:lnTo>
                    <a:pt x="1464" y="2293"/>
                  </a:lnTo>
                  <a:lnTo>
                    <a:pt x="1495" y="2317"/>
                  </a:lnTo>
                  <a:lnTo>
                    <a:pt x="1519" y="2347"/>
                  </a:lnTo>
                  <a:lnTo>
                    <a:pt x="1533" y="2383"/>
                  </a:lnTo>
                  <a:lnTo>
                    <a:pt x="1538" y="2425"/>
                  </a:lnTo>
                  <a:lnTo>
                    <a:pt x="1531" y="2473"/>
                  </a:lnTo>
                  <a:lnTo>
                    <a:pt x="1511" y="2528"/>
                  </a:lnTo>
                  <a:lnTo>
                    <a:pt x="1489" y="2561"/>
                  </a:lnTo>
                  <a:lnTo>
                    <a:pt x="1461" y="2587"/>
                  </a:lnTo>
                  <a:lnTo>
                    <a:pt x="1426" y="2606"/>
                  </a:lnTo>
                  <a:lnTo>
                    <a:pt x="1387" y="2617"/>
                  </a:lnTo>
                  <a:lnTo>
                    <a:pt x="1346" y="2622"/>
                  </a:lnTo>
                  <a:lnTo>
                    <a:pt x="1302" y="2620"/>
                  </a:lnTo>
                  <a:lnTo>
                    <a:pt x="1258" y="2614"/>
                  </a:lnTo>
                  <a:lnTo>
                    <a:pt x="1216" y="2603"/>
                  </a:lnTo>
                  <a:lnTo>
                    <a:pt x="1176" y="2586"/>
                  </a:lnTo>
                  <a:lnTo>
                    <a:pt x="1139" y="2566"/>
                  </a:lnTo>
                  <a:lnTo>
                    <a:pt x="1108" y="2541"/>
                  </a:lnTo>
                  <a:lnTo>
                    <a:pt x="1082" y="2513"/>
                  </a:lnTo>
                  <a:lnTo>
                    <a:pt x="1065" y="2483"/>
                  </a:lnTo>
                  <a:lnTo>
                    <a:pt x="1056" y="2450"/>
                  </a:lnTo>
                  <a:lnTo>
                    <a:pt x="1058" y="2415"/>
                  </a:lnTo>
                  <a:lnTo>
                    <a:pt x="1072" y="2378"/>
                  </a:lnTo>
                  <a:close/>
                  <a:moveTo>
                    <a:pt x="881" y="3137"/>
                  </a:moveTo>
                  <a:lnTo>
                    <a:pt x="891" y="3098"/>
                  </a:lnTo>
                  <a:lnTo>
                    <a:pt x="909" y="3063"/>
                  </a:lnTo>
                  <a:lnTo>
                    <a:pt x="931" y="3031"/>
                  </a:lnTo>
                  <a:lnTo>
                    <a:pt x="959" y="3006"/>
                  </a:lnTo>
                  <a:lnTo>
                    <a:pt x="990" y="2989"/>
                  </a:lnTo>
                  <a:lnTo>
                    <a:pt x="1026" y="2981"/>
                  </a:lnTo>
                  <a:lnTo>
                    <a:pt x="1063" y="2984"/>
                  </a:lnTo>
                  <a:lnTo>
                    <a:pt x="1082" y="2992"/>
                  </a:lnTo>
                  <a:lnTo>
                    <a:pt x="1101" y="3002"/>
                  </a:lnTo>
                  <a:lnTo>
                    <a:pt x="1118" y="3017"/>
                  </a:lnTo>
                  <a:lnTo>
                    <a:pt x="1130" y="3038"/>
                  </a:lnTo>
                  <a:lnTo>
                    <a:pt x="1140" y="3063"/>
                  </a:lnTo>
                  <a:lnTo>
                    <a:pt x="1147" y="3091"/>
                  </a:lnTo>
                  <a:lnTo>
                    <a:pt x="1149" y="3152"/>
                  </a:lnTo>
                  <a:lnTo>
                    <a:pt x="1139" y="3216"/>
                  </a:lnTo>
                  <a:lnTo>
                    <a:pt x="1128" y="3245"/>
                  </a:lnTo>
                  <a:lnTo>
                    <a:pt x="1114" y="3270"/>
                  </a:lnTo>
                  <a:lnTo>
                    <a:pt x="1098" y="3293"/>
                  </a:lnTo>
                  <a:lnTo>
                    <a:pt x="1077" y="3311"/>
                  </a:lnTo>
                  <a:lnTo>
                    <a:pt x="1054" y="3322"/>
                  </a:lnTo>
                  <a:lnTo>
                    <a:pt x="1026" y="3326"/>
                  </a:lnTo>
                  <a:lnTo>
                    <a:pt x="996" y="3323"/>
                  </a:lnTo>
                  <a:lnTo>
                    <a:pt x="962" y="3309"/>
                  </a:lnTo>
                  <a:lnTo>
                    <a:pt x="938" y="3295"/>
                  </a:lnTo>
                  <a:lnTo>
                    <a:pt x="918" y="3277"/>
                  </a:lnTo>
                  <a:lnTo>
                    <a:pt x="902" y="3257"/>
                  </a:lnTo>
                  <a:lnTo>
                    <a:pt x="891" y="3236"/>
                  </a:lnTo>
                  <a:lnTo>
                    <a:pt x="883" y="3212"/>
                  </a:lnTo>
                  <a:lnTo>
                    <a:pt x="879" y="3188"/>
                  </a:lnTo>
                  <a:lnTo>
                    <a:pt x="879" y="3163"/>
                  </a:lnTo>
                  <a:lnTo>
                    <a:pt x="881" y="3137"/>
                  </a:lnTo>
                  <a:close/>
                  <a:moveTo>
                    <a:pt x="1730" y="3598"/>
                  </a:moveTo>
                  <a:lnTo>
                    <a:pt x="1710" y="3601"/>
                  </a:lnTo>
                  <a:lnTo>
                    <a:pt x="1692" y="3598"/>
                  </a:lnTo>
                  <a:lnTo>
                    <a:pt x="1675" y="3589"/>
                  </a:lnTo>
                  <a:lnTo>
                    <a:pt x="1659" y="3576"/>
                  </a:lnTo>
                  <a:lnTo>
                    <a:pt x="1646" y="3560"/>
                  </a:lnTo>
                  <a:lnTo>
                    <a:pt x="1635" y="3539"/>
                  </a:lnTo>
                  <a:lnTo>
                    <a:pt x="1619" y="3494"/>
                  </a:lnTo>
                  <a:lnTo>
                    <a:pt x="1614" y="3446"/>
                  </a:lnTo>
                  <a:lnTo>
                    <a:pt x="1616" y="3421"/>
                  </a:lnTo>
                  <a:lnTo>
                    <a:pt x="1619" y="3399"/>
                  </a:lnTo>
                  <a:lnTo>
                    <a:pt x="1627" y="3379"/>
                  </a:lnTo>
                  <a:lnTo>
                    <a:pt x="1638" y="3362"/>
                  </a:lnTo>
                  <a:lnTo>
                    <a:pt x="1652" y="3347"/>
                  </a:lnTo>
                  <a:lnTo>
                    <a:pt x="1669" y="3338"/>
                  </a:lnTo>
                  <a:lnTo>
                    <a:pt x="1719" y="3324"/>
                  </a:lnTo>
                  <a:lnTo>
                    <a:pt x="1762" y="3317"/>
                  </a:lnTo>
                  <a:lnTo>
                    <a:pt x="1802" y="3316"/>
                  </a:lnTo>
                  <a:lnTo>
                    <a:pt x="1836" y="3323"/>
                  </a:lnTo>
                  <a:lnTo>
                    <a:pt x="1865" y="3333"/>
                  </a:lnTo>
                  <a:lnTo>
                    <a:pt x="1888" y="3349"/>
                  </a:lnTo>
                  <a:lnTo>
                    <a:pt x="1905" y="3367"/>
                  </a:lnTo>
                  <a:lnTo>
                    <a:pt x="1916" y="3390"/>
                  </a:lnTo>
                  <a:lnTo>
                    <a:pt x="1922" y="3417"/>
                  </a:lnTo>
                  <a:lnTo>
                    <a:pt x="1919" y="3445"/>
                  </a:lnTo>
                  <a:lnTo>
                    <a:pt x="1909" y="3472"/>
                  </a:lnTo>
                  <a:lnTo>
                    <a:pt x="1891" y="3502"/>
                  </a:lnTo>
                  <a:lnTo>
                    <a:pt x="1864" y="3529"/>
                  </a:lnTo>
                  <a:lnTo>
                    <a:pt x="1828" y="3555"/>
                  </a:lnTo>
                  <a:lnTo>
                    <a:pt x="1783" y="3579"/>
                  </a:lnTo>
                  <a:lnTo>
                    <a:pt x="1730" y="3598"/>
                  </a:lnTo>
                  <a:close/>
                  <a:moveTo>
                    <a:pt x="2075" y="2972"/>
                  </a:moveTo>
                  <a:lnTo>
                    <a:pt x="1996" y="2936"/>
                  </a:lnTo>
                  <a:lnTo>
                    <a:pt x="1962" y="2916"/>
                  </a:lnTo>
                  <a:lnTo>
                    <a:pt x="1933" y="2895"/>
                  </a:lnTo>
                  <a:lnTo>
                    <a:pt x="1888" y="2850"/>
                  </a:lnTo>
                  <a:lnTo>
                    <a:pt x="1858" y="2804"/>
                  </a:lnTo>
                  <a:lnTo>
                    <a:pt x="1842" y="2757"/>
                  </a:lnTo>
                  <a:lnTo>
                    <a:pt x="1838" y="2712"/>
                  </a:lnTo>
                  <a:lnTo>
                    <a:pt x="1845" y="2670"/>
                  </a:lnTo>
                  <a:lnTo>
                    <a:pt x="1863" y="2632"/>
                  </a:lnTo>
                  <a:lnTo>
                    <a:pt x="1875" y="2616"/>
                  </a:lnTo>
                  <a:lnTo>
                    <a:pt x="1890" y="2601"/>
                  </a:lnTo>
                  <a:lnTo>
                    <a:pt x="1923" y="2578"/>
                  </a:lnTo>
                  <a:lnTo>
                    <a:pt x="1962" y="2565"/>
                  </a:lnTo>
                  <a:lnTo>
                    <a:pt x="1985" y="2562"/>
                  </a:lnTo>
                  <a:lnTo>
                    <a:pt x="2008" y="2563"/>
                  </a:lnTo>
                  <a:lnTo>
                    <a:pt x="2031" y="2568"/>
                  </a:lnTo>
                  <a:lnTo>
                    <a:pt x="2056" y="2575"/>
                  </a:lnTo>
                  <a:lnTo>
                    <a:pt x="2081" y="2587"/>
                  </a:lnTo>
                  <a:lnTo>
                    <a:pt x="2106" y="2601"/>
                  </a:lnTo>
                  <a:lnTo>
                    <a:pt x="2159" y="2644"/>
                  </a:lnTo>
                  <a:lnTo>
                    <a:pt x="2184" y="2673"/>
                  </a:lnTo>
                  <a:lnTo>
                    <a:pt x="2210" y="2705"/>
                  </a:lnTo>
                  <a:lnTo>
                    <a:pt x="2237" y="2756"/>
                  </a:lnTo>
                  <a:lnTo>
                    <a:pt x="2247" y="2782"/>
                  </a:lnTo>
                  <a:lnTo>
                    <a:pt x="2253" y="2809"/>
                  </a:lnTo>
                  <a:lnTo>
                    <a:pt x="2255" y="2836"/>
                  </a:lnTo>
                  <a:lnTo>
                    <a:pt x="2255" y="2863"/>
                  </a:lnTo>
                  <a:lnTo>
                    <a:pt x="2252" y="2887"/>
                  </a:lnTo>
                  <a:lnTo>
                    <a:pt x="2245" y="2911"/>
                  </a:lnTo>
                  <a:lnTo>
                    <a:pt x="2221" y="2951"/>
                  </a:lnTo>
                  <a:lnTo>
                    <a:pt x="2205" y="2965"/>
                  </a:lnTo>
                  <a:lnTo>
                    <a:pt x="2186" y="2977"/>
                  </a:lnTo>
                  <a:lnTo>
                    <a:pt x="2163" y="2983"/>
                  </a:lnTo>
                  <a:lnTo>
                    <a:pt x="2136" y="2986"/>
                  </a:lnTo>
                  <a:lnTo>
                    <a:pt x="2107" y="2982"/>
                  </a:lnTo>
                  <a:lnTo>
                    <a:pt x="2075" y="2972"/>
                  </a:lnTo>
                  <a:close/>
                  <a:moveTo>
                    <a:pt x="2298" y="3252"/>
                  </a:moveTo>
                  <a:lnTo>
                    <a:pt x="2335" y="3210"/>
                  </a:lnTo>
                  <a:lnTo>
                    <a:pt x="2372" y="3178"/>
                  </a:lnTo>
                  <a:lnTo>
                    <a:pt x="2409" y="3156"/>
                  </a:lnTo>
                  <a:lnTo>
                    <a:pt x="2445" y="3144"/>
                  </a:lnTo>
                  <a:lnTo>
                    <a:pt x="2477" y="3141"/>
                  </a:lnTo>
                  <a:lnTo>
                    <a:pt x="2506" y="3145"/>
                  </a:lnTo>
                  <a:lnTo>
                    <a:pt x="2531" y="3158"/>
                  </a:lnTo>
                  <a:lnTo>
                    <a:pt x="2550" y="3177"/>
                  </a:lnTo>
                  <a:lnTo>
                    <a:pt x="2562" y="3201"/>
                  </a:lnTo>
                  <a:lnTo>
                    <a:pt x="2567" y="3231"/>
                  </a:lnTo>
                  <a:lnTo>
                    <a:pt x="2562" y="3266"/>
                  </a:lnTo>
                  <a:lnTo>
                    <a:pt x="2549" y="3305"/>
                  </a:lnTo>
                  <a:lnTo>
                    <a:pt x="2523" y="3347"/>
                  </a:lnTo>
                  <a:lnTo>
                    <a:pt x="2486" y="3392"/>
                  </a:lnTo>
                  <a:lnTo>
                    <a:pt x="2436" y="3438"/>
                  </a:lnTo>
                  <a:lnTo>
                    <a:pt x="2372" y="3486"/>
                  </a:lnTo>
                  <a:lnTo>
                    <a:pt x="2352" y="3497"/>
                  </a:lnTo>
                  <a:lnTo>
                    <a:pt x="2334" y="3502"/>
                  </a:lnTo>
                  <a:lnTo>
                    <a:pt x="2319" y="3499"/>
                  </a:lnTo>
                  <a:lnTo>
                    <a:pt x="2304" y="3493"/>
                  </a:lnTo>
                  <a:lnTo>
                    <a:pt x="2293" y="3481"/>
                  </a:lnTo>
                  <a:lnTo>
                    <a:pt x="2284" y="3467"/>
                  </a:lnTo>
                  <a:lnTo>
                    <a:pt x="2272" y="3428"/>
                  </a:lnTo>
                  <a:lnTo>
                    <a:pt x="2267" y="3381"/>
                  </a:lnTo>
                  <a:lnTo>
                    <a:pt x="2269" y="3333"/>
                  </a:lnTo>
                  <a:lnTo>
                    <a:pt x="2281" y="3288"/>
                  </a:lnTo>
                  <a:lnTo>
                    <a:pt x="2288" y="3269"/>
                  </a:lnTo>
                  <a:lnTo>
                    <a:pt x="2298" y="3252"/>
                  </a:lnTo>
                  <a:close/>
                  <a:moveTo>
                    <a:pt x="3035" y="3533"/>
                  </a:moveTo>
                  <a:lnTo>
                    <a:pt x="3019" y="3532"/>
                  </a:lnTo>
                  <a:lnTo>
                    <a:pt x="3010" y="3520"/>
                  </a:lnTo>
                  <a:lnTo>
                    <a:pt x="3008" y="3502"/>
                  </a:lnTo>
                  <a:lnTo>
                    <a:pt x="3011" y="3475"/>
                  </a:lnTo>
                  <a:lnTo>
                    <a:pt x="3030" y="3407"/>
                  </a:lnTo>
                  <a:lnTo>
                    <a:pt x="3063" y="3324"/>
                  </a:lnTo>
                  <a:lnTo>
                    <a:pt x="3139" y="3162"/>
                  </a:lnTo>
                  <a:lnTo>
                    <a:pt x="3189" y="3070"/>
                  </a:lnTo>
                  <a:lnTo>
                    <a:pt x="3203" y="3041"/>
                  </a:lnTo>
                  <a:lnTo>
                    <a:pt x="3209" y="3011"/>
                  </a:lnTo>
                  <a:lnTo>
                    <a:pt x="3204" y="2982"/>
                  </a:lnTo>
                  <a:lnTo>
                    <a:pt x="3193" y="2952"/>
                  </a:lnTo>
                  <a:lnTo>
                    <a:pt x="3176" y="2921"/>
                  </a:lnTo>
                  <a:lnTo>
                    <a:pt x="3154" y="2890"/>
                  </a:lnTo>
                  <a:lnTo>
                    <a:pt x="3102" y="2825"/>
                  </a:lnTo>
                  <a:lnTo>
                    <a:pt x="3182" y="2674"/>
                  </a:lnTo>
                  <a:lnTo>
                    <a:pt x="3231" y="2718"/>
                  </a:lnTo>
                  <a:lnTo>
                    <a:pt x="3268" y="2762"/>
                  </a:lnTo>
                  <a:lnTo>
                    <a:pt x="3295" y="2809"/>
                  </a:lnTo>
                  <a:lnTo>
                    <a:pt x="3312" y="2857"/>
                  </a:lnTo>
                  <a:lnTo>
                    <a:pt x="3321" y="2906"/>
                  </a:lnTo>
                  <a:lnTo>
                    <a:pt x="3322" y="2957"/>
                  </a:lnTo>
                  <a:lnTo>
                    <a:pt x="3316" y="3008"/>
                  </a:lnTo>
                  <a:lnTo>
                    <a:pt x="3305" y="3059"/>
                  </a:lnTo>
                  <a:lnTo>
                    <a:pt x="3289" y="3111"/>
                  </a:lnTo>
                  <a:lnTo>
                    <a:pt x="3270" y="3163"/>
                  </a:lnTo>
                  <a:lnTo>
                    <a:pt x="3225" y="3267"/>
                  </a:lnTo>
                  <a:lnTo>
                    <a:pt x="3175" y="3369"/>
                  </a:lnTo>
                  <a:lnTo>
                    <a:pt x="3132" y="3466"/>
                  </a:lnTo>
                  <a:lnTo>
                    <a:pt x="3112" y="3506"/>
                  </a:lnTo>
                  <a:lnTo>
                    <a:pt x="3099" y="3517"/>
                  </a:lnTo>
                  <a:lnTo>
                    <a:pt x="3095" y="3520"/>
                  </a:lnTo>
                  <a:lnTo>
                    <a:pt x="3085" y="3523"/>
                  </a:lnTo>
                  <a:lnTo>
                    <a:pt x="3098" y="3522"/>
                  </a:lnTo>
                  <a:lnTo>
                    <a:pt x="3112" y="3526"/>
                  </a:lnTo>
                  <a:lnTo>
                    <a:pt x="3124" y="3533"/>
                  </a:lnTo>
                  <a:lnTo>
                    <a:pt x="3134" y="3542"/>
                  </a:lnTo>
                  <a:lnTo>
                    <a:pt x="3149" y="3564"/>
                  </a:lnTo>
                  <a:lnTo>
                    <a:pt x="3154" y="3587"/>
                  </a:lnTo>
                  <a:lnTo>
                    <a:pt x="3190" y="3608"/>
                  </a:lnTo>
                  <a:lnTo>
                    <a:pt x="3231" y="3632"/>
                  </a:lnTo>
                  <a:lnTo>
                    <a:pt x="3248" y="3647"/>
                  </a:lnTo>
                  <a:lnTo>
                    <a:pt x="3261" y="3663"/>
                  </a:lnTo>
                  <a:lnTo>
                    <a:pt x="3269" y="3681"/>
                  </a:lnTo>
                  <a:lnTo>
                    <a:pt x="3268" y="3701"/>
                  </a:lnTo>
                  <a:lnTo>
                    <a:pt x="3294" y="3732"/>
                  </a:lnTo>
                  <a:lnTo>
                    <a:pt x="3315" y="3765"/>
                  </a:lnTo>
                  <a:lnTo>
                    <a:pt x="3331" y="3800"/>
                  </a:lnTo>
                  <a:lnTo>
                    <a:pt x="3341" y="3838"/>
                  </a:lnTo>
                  <a:lnTo>
                    <a:pt x="3345" y="3876"/>
                  </a:lnTo>
                  <a:lnTo>
                    <a:pt x="3344" y="3914"/>
                  </a:lnTo>
                  <a:lnTo>
                    <a:pt x="3337" y="3952"/>
                  </a:lnTo>
                  <a:lnTo>
                    <a:pt x="3324" y="3990"/>
                  </a:lnTo>
                  <a:lnTo>
                    <a:pt x="3317" y="3943"/>
                  </a:lnTo>
                  <a:lnTo>
                    <a:pt x="3300" y="3899"/>
                  </a:lnTo>
                  <a:lnTo>
                    <a:pt x="3276" y="3911"/>
                  </a:lnTo>
                  <a:lnTo>
                    <a:pt x="3254" y="3928"/>
                  </a:lnTo>
                  <a:lnTo>
                    <a:pt x="3233" y="3947"/>
                  </a:lnTo>
                  <a:lnTo>
                    <a:pt x="3216" y="3969"/>
                  </a:lnTo>
                  <a:lnTo>
                    <a:pt x="3227" y="3915"/>
                  </a:lnTo>
                  <a:lnTo>
                    <a:pt x="3229" y="3860"/>
                  </a:lnTo>
                  <a:lnTo>
                    <a:pt x="3223" y="3805"/>
                  </a:lnTo>
                  <a:lnTo>
                    <a:pt x="3209" y="3753"/>
                  </a:lnTo>
                  <a:lnTo>
                    <a:pt x="3190" y="3757"/>
                  </a:lnTo>
                  <a:lnTo>
                    <a:pt x="3174" y="3754"/>
                  </a:lnTo>
                  <a:lnTo>
                    <a:pt x="3160" y="3744"/>
                  </a:lnTo>
                  <a:lnTo>
                    <a:pt x="3149" y="3728"/>
                  </a:lnTo>
                  <a:lnTo>
                    <a:pt x="3132" y="3688"/>
                  </a:lnTo>
                  <a:lnTo>
                    <a:pt x="3124" y="3649"/>
                  </a:lnTo>
                  <a:lnTo>
                    <a:pt x="3107" y="3655"/>
                  </a:lnTo>
                  <a:lnTo>
                    <a:pt x="3090" y="3649"/>
                  </a:lnTo>
                  <a:lnTo>
                    <a:pt x="3075" y="3633"/>
                  </a:lnTo>
                  <a:lnTo>
                    <a:pt x="3063" y="3613"/>
                  </a:lnTo>
                  <a:lnTo>
                    <a:pt x="3042" y="3567"/>
                  </a:lnTo>
                  <a:lnTo>
                    <a:pt x="3035" y="3533"/>
                  </a:lnTo>
                  <a:close/>
                  <a:moveTo>
                    <a:pt x="3944" y="2944"/>
                  </a:moveTo>
                  <a:lnTo>
                    <a:pt x="3939" y="2898"/>
                  </a:lnTo>
                  <a:lnTo>
                    <a:pt x="3924" y="2855"/>
                  </a:lnTo>
                  <a:lnTo>
                    <a:pt x="3898" y="2872"/>
                  </a:lnTo>
                  <a:lnTo>
                    <a:pt x="3878" y="2894"/>
                  </a:lnTo>
                  <a:lnTo>
                    <a:pt x="3864" y="2921"/>
                  </a:lnTo>
                  <a:lnTo>
                    <a:pt x="3855" y="2950"/>
                  </a:lnTo>
                  <a:lnTo>
                    <a:pt x="3842" y="2935"/>
                  </a:lnTo>
                  <a:lnTo>
                    <a:pt x="3837" y="2916"/>
                  </a:lnTo>
                  <a:lnTo>
                    <a:pt x="3836" y="2895"/>
                  </a:lnTo>
                  <a:lnTo>
                    <a:pt x="3839" y="2871"/>
                  </a:lnTo>
                  <a:lnTo>
                    <a:pt x="3849" y="2820"/>
                  </a:lnTo>
                  <a:lnTo>
                    <a:pt x="3856" y="2779"/>
                  </a:lnTo>
                  <a:lnTo>
                    <a:pt x="3838" y="2783"/>
                  </a:lnTo>
                  <a:lnTo>
                    <a:pt x="3822" y="2780"/>
                  </a:lnTo>
                  <a:lnTo>
                    <a:pt x="3808" y="2769"/>
                  </a:lnTo>
                  <a:lnTo>
                    <a:pt x="3795" y="2751"/>
                  </a:lnTo>
                  <a:lnTo>
                    <a:pt x="3772" y="2701"/>
                  </a:lnTo>
                  <a:lnTo>
                    <a:pt x="3752" y="2637"/>
                  </a:lnTo>
                  <a:lnTo>
                    <a:pt x="3735" y="2648"/>
                  </a:lnTo>
                  <a:lnTo>
                    <a:pt x="3726" y="2648"/>
                  </a:lnTo>
                  <a:lnTo>
                    <a:pt x="3717" y="2646"/>
                  </a:lnTo>
                  <a:lnTo>
                    <a:pt x="3697" y="2634"/>
                  </a:lnTo>
                  <a:lnTo>
                    <a:pt x="3678" y="2615"/>
                  </a:lnTo>
                  <a:lnTo>
                    <a:pt x="3646" y="2569"/>
                  </a:lnTo>
                  <a:lnTo>
                    <a:pt x="3630" y="2532"/>
                  </a:lnTo>
                  <a:lnTo>
                    <a:pt x="3618" y="2538"/>
                  </a:lnTo>
                  <a:lnTo>
                    <a:pt x="3605" y="2539"/>
                  </a:lnTo>
                  <a:lnTo>
                    <a:pt x="3593" y="2534"/>
                  </a:lnTo>
                  <a:lnTo>
                    <a:pt x="3582" y="2527"/>
                  </a:lnTo>
                  <a:lnTo>
                    <a:pt x="3572" y="2513"/>
                  </a:lnTo>
                  <a:lnTo>
                    <a:pt x="3563" y="2495"/>
                  </a:lnTo>
                  <a:lnTo>
                    <a:pt x="3556" y="2472"/>
                  </a:lnTo>
                  <a:lnTo>
                    <a:pt x="3552" y="2443"/>
                  </a:lnTo>
                  <a:lnTo>
                    <a:pt x="3551" y="2388"/>
                  </a:lnTo>
                  <a:lnTo>
                    <a:pt x="3557" y="2329"/>
                  </a:lnTo>
                  <a:lnTo>
                    <a:pt x="3574" y="2206"/>
                  </a:lnTo>
                  <a:lnTo>
                    <a:pt x="3578" y="2145"/>
                  </a:lnTo>
                  <a:lnTo>
                    <a:pt x="3572" y="2088"/>
                  </a:lnTo>
                  <a:lnTo>
                    <a:pt x="3554" y="2034"/>
                  </a:lnTo>
                  <a:lnTo>
                    <a:pt x="3540" y="2011"/>
                  </a:lnTo>
                  <a:lnTo>
                    <a:pt x="3521" y="1988"/>
                  </a:lnTo>
                  <a:lnTo>
                    <a:pt x="3485" y="1985"/>
                  </a:lnTo>
                  <a:lnTo>
                    <a:pt x="3449" y="1970"/>
                  </a:lnTo>
                  <a:lnTo>
                    <a:pt x="3417" y="1948"/>
                  </a:lnTo>
                  <a:lnTo>
                    <a:pt x="3393" y="1922"/>
                  </a:lnTo>
                  <a:lnTo>
                    <a:pt x="3392" y="1852"/>
                  </a:lnTo>
                  <a:lnTo>
                    <a:pt x="3387" y="1776"/>
                  </a:lnTo>
                  <a:lnTo>
                    <a:pt x="3402" y="1768"/>
                  </a:lnTo>
                  <a:lnTo>
                    <a:pt x="3418" y="1765"/>
                  </a:lnTo>
                  <a:lnTo>
                    <a:pt x="3454" y="1768"/>
                  </a:lnTo>
                  <a:lnTo>
                    <a:pt x="3489" y="1784"/>
                  </a:lnTo>
                  <a:lnTo>
                    <a:pt x="3523" y="1809"/>
                  </a:lnTo>
                  <a:lnTo>
                    <a:pt x="3552" y="1839"/>
                  </a:lnTo>
                  <a:lnTo>
                    <a:pt x="3573" y="1873"/>
                  </a:lnTo>
                  <a:lnTo>
                    <a:pt x="3583" y="1907"/>
                  </a:lnTo>
                  <a:lnTo>
                    <a:pt x="3584" y="1924"/>
                  </a:lnTo>
                  <a:lnTo>
                    <a:pt x="3581" y="1939"/>
                  </a:lnTo>
                  <a:lnTo>
                    <a:pt x="3619" y="1984"/>
                  </a:lnTo>
                  <a:lnTo>
                    <a:pt x="3646" y="2034"/>
                  </a:lnTo>
                  <a:lnTo>
                    <a:pt x="3664" y="2088"/>
                  </a:lnTo>
                  <a:lnTo>
                    <a:pt x="3674" y="2145"/>
                  </a:lnTo>
                  <a:lnTo>
                    <a:pt x="3677" y="2203"/>
                  </a:lnTo>
                  <a:lnTo>
                    <a:pt x="3678" y="2262"/>
                  </a:lnTo>
                  <a:lnTo>
                    <a:pt x="3676" y="2378"/>
                  </a:lnTo>
                  <a:lnTo>
                    <a:pt x="3681" y="2431"/>
                  </a:lnTo>
                  <a:lnTo>
                    <a:pt x="3683" y="2457"/>
                  </a:lnTo>
                  <a:lnTo>
                    <a:pt x="3683" y="2467"/>
                  </a:lnTo>
                  <a:lnTo>
                    <a:pt x="3678" y="2483"/>
                  </a:lnTo>
                  <a:lnTo>
                    <a:pt x="3714" y="2503"/>
                  </a:lnTo>
                  <a:lnTo>
                    <a:pt x="3759" y="2528"/>
                  </a:lnTo>
                  <a:lnTo>
                    <a:pt x="3777" y="2542"/>
                  </a:lnTo>
                  <a:lnTo>
                    <a:pt x="3791" y="2557"/>
                  </a:lnTo>
                  <a:lnTo>
                    <a:pt x="3795" y="2572"/>
                  </a:lnTo>
                  <a:lnTo>
                    <a:pt x="3788" y="2590"/>
                  </a:lnTo>
                  <a:lnTo>
                    <a:pt x="3803" y="2592"/>
                  </a:lnTo>
                  <a:lnTo>
                    <a:pt x="3823" y="2600"/>
                  </a:lnTo>
                  <a:lnTo>
                    <a:pt x="3870" y="2627"/>
                  </a:lnTo>
                  <a:lnTo>
                    <a:pt x="3890" y="2645"/>
                  </a:lnTo>
                  <a:lnTo>
                    <a:pt x="3907" y="2664"/>
                  </a:lnTo>
                  <a:lnTo>
                    <a:pt x="3917" y="2683"/>
                  </a:lnTo>
                  <a:lnTo>
                    <a:pt x="3918" y="2701"/>
                  </a:lnTo>
                  <a:lnTo>
                    <a:pt x="3939" y="2725"/>
                  </a:lnTo>
                  <a:lnTo>
                    <a:pt x="3957" y="2754"/>
                  </a:lnTo>
                  <a:lnTo>
                    <a:pt x="3971" y="2786"/>
                  </a:lnTo>
                  <a:lnTo>
                    <a:pt x="3980" y="2819"/>
                  </a:lnTo>
                  <a:lnTo>
                    <a:pt x="3982" y="2853"/>
                  </a:lnTo>
                  <a:lnTo>
                    <a:pt x="3976" y="2886"/>
                  </a:lnTo>
                  <a:lnTo>
                    <a:pt x="3964" y="2916"/>
                  </a:lnTo>
                  <a:lnTo>
                    <a:pt x="3944" y="2944"/>
                  </a:lnTo>
                  <a:close/>
                  <a:moveTo>
                    <a:pt x="3231" y="2089"/>
                  </a:moveTo>
                  <a:lnTo>
                    <a:pt x="3214" y="2108"/>
                  </a:lnTo>
                  <a:lnTo>
                    <a:pt x="3198" y="2120"/>
                  </a:lnTo>
                  <a:lnTo>
                    <a:pt x="3181" y="2126"/>
                  </a:lnTo>
                  <a:lnTo>
                    <a:pt x="3163" y="2126"/>
                  </a:lnTo>
                  <a:lnTo>
                    <a:pt x="3146" y="2120"/>
                  </a:lnTo>
                  <a:lnTo>
                    <a:pt x="3131" y="2111"/>
                  </a:lnTo>
                  <a:lnTo>
                    <a:pt x="3116" y="2098"/>
                  </a:lnTo>
                  <a:lnTo>
                    <a:pt x="3103" y="2083"/>
                  </a:lnTo>
                  <a:lnTo>
                    <a:pt x="3084" y="2046"/>
                  </a:lnTo>
                  <a:lnTo>
                    <a:pt x="3075" y="2008"/>
                  </a:lnTo>
                  <a:lnTo>
                    <a:pt x="3076" y="1991"/>
                  </a:lnTo>
                  <a:lnTo>
                    <a:pt x="3080" y="1974"/>
                  </a:lnTo>
                  <a:lnTo>
                    <a:pt x="3089" y="1960"/>
                  </a:lnTo>
                  <a:lnTo>
                    <a:pt x="3104" y="1949"/>
                  </a:lnTo>
                  <a:lnTo>
                    <a:pt x="3131" y="1936"/>
                  </a:lnTo>
                  <a:lnTo>
                    <a:pt x="3156" y="1927"/>
                  </a:lnTo>
                  <a:lnTo>
                    <a:pt x="3199" y="1920"/>
                  </a:lnTo>
                  <a:lnTo>
                    <a:pt x="3217" y="1921"/>
                  </a:lnTo>
                  <a:lnTo>
                    <a:pt x="3232" y="1926"/>
                  </a:lnTo>
                  <a:lnTo>
                    <a:pt x="3245" y="1934"/>
                  </a:lnTo>
                  <a:lnTo>
                    <a:pt x="3255" y="1944"/>
                  </a:lnTo>
                  <a:lnTo>
                    <a:pt x="3267" y="1972"/>
                  </a:lnTo>
                  <a:lnTo>
                    <a:pt x="3267" y="2006"/>
                  </a:lnTo>
                  <a:lnTo>
                    <a:pt x="3256" y="2045"/>
                  </a:lnTo>
                  <a:lnTo>
                    <a:pt x="3231" y="2089"/>
                  </a:lnTo>
                  <a:close/>
                  <a:moveTo>
                    <a:pt x="3187" y="1764"/>
                  </a:moveTo>
                  <a:lnTo>
                    <a:pt x="3163" y="1756"/>
                  </a:lnTo>
                  <a:lnTo>
                    <a:pt x="3140" y="1743"/>
                  </a:lnTo>
                  <a:lnTo>
                    <a:pt x="3096" y="1707"/>
                  </a:lnTo>
                  <a:lnTo>
                    <a:pt x="3078" y="1687"/>
                  </a:lnTo>
                  <a:lnTo>
                    <a:pt x="3065" y="1666"/>
                  </a:lnTo>
                  <a:lnTo>
                    <a:pt x="3058" y="1647"/>
                  </a:lnTo>
                  <a:lnTo>
                    <a:pt x="3059" y="1629"/>
                  </a:lnTo>
                  <a:lnTo>
                    <a:pt x="3075" y="1591"/>
                  </a:lnTo>
                  <a:lnTo>
                    <a:pt x="3096" y="1562"/>
                  </a:lnTo>
                  <a:lnTo>
                    <a:pt x="3122" y="1542"/>
                  </a:lnTo>
                  <a:lnTo>
                    <a:pt x="3149" y="1528"/>
                  </a:lnTo>
                  <a:lnTo>
                    <a:pt x="3178" y="1523"/>
                  </a:lnTo>
                  <a:lnTo>
                    <a:pt x="3208" y="1523"/>
                  </a:lnTo>
                  <a:lnTo>
                    <a:pt x="3236" y="1529"/>
                  </a:lnTo>
                  <a:lnTo>
                    <a:pt x="3261" y="1542"/>
                  </a:lnTo>
                  <a:lnTo>
                    <a:pt x="3283" y="1557"/>
                  </a:lnTo>
                  <a:lnTo>
                    <a:pt x="3299" y="1578"/>
                  </a:lnTo>
                  <a:lnTo>
                    <a:pt x="3311" y="1603"/>
                  </a:lnTo>
                  <a:lnTo>
                    <a:pt x="3314" y="1630"/>
                  </a:lnTo>
                  <a:lnTo>
                    <a:pt x="3308" y="1660"/>
                  </a:lnTo>
                  <a:lnTo>
                    <a:pt x="3294" y="1691"/>
                  </a:lnTo>
                  <a:lnTo>
                    <a:pt x="3267" y="1725"/>
                  </a:lnTo>
                  <a:lnTo>
                    <a:pt x="3228" y="1758"/>
                  </a:lnTo>
                  <a:lnTo>
                    <a:pt x="3209" y="1765"/>
                  </a:lnTo>
                  <a:lnTo>
                    <a:pt x="3187" y="1764"/>
                  </a:lnTo>
                  <a:close/>
                  <a:moveTo>
                    <a:pt x="2368" y="2100"/>
                  </a:moveTo>
                  <a:lnTo>
                    <a:pt x="2322" y="2126"/>
                  </a:lnTo>
                  <a:lnTo>
                    <a:pt x="2281" y="2139"/>
                  </a:lnTo>
                  <a:lnTo>
                    <a:pt x="2246" y="2141"/>
                  </a:lnTo>
                  <a:lnTo>
                    <a:pt x="2216" y="2135"/>
                  </a:lnTo>
                  <a:lnTo>
                    <a:pt x="2191" y="2118"/>
                  </a:lnTo>
                  <a:lnTo>
                    <a:pt x="2172" y="2096"/>
                  </a:lnTo>
                  <a:lnTo>
                    <a:pt x="2158" y="2068"/>
                  </a:lnTo>
                  <a:lnTo>
                    <a:pt x="2150" y="2035"/>
                  </a:lnTo>
                  <a:lnTo>
                    <a:pt x="2146" y="1999"/>
                  </a:lnTo>
                  <a:lnTo>
                    <a:pt x="2150" y="1963"/>
                  </a:lnTo>
                  <a:lnTo>
                    <a:pt x="2158" y="1927"/>
                  </a:lnTo>
                  <a:lnTo>
                    <a:pt x="2172" y="1891"/>
                  </a:lnTo>
                  <a:lnTo>
                    <a:pt x="2191" y="1859"/>
                  </a:lnTo>
                  <a:lnTo>
                    <a:pt x="2216" y="1831"/>
                  </a:lnTo>
                  <a:lnTo>
                    <a:pt x="2247" y="1809"/>
                  </a:lnTo>
                  <a:lnTo>
                    <a:pt x="2283" y="1793"/>
                  </a:lnTo>
                  <a:lnTo>
                    <a:pt x="2302" y="1788"/>
                  </a:lnTo>
                  <a:lnTo>
                    <a:pt x="2320" y="1788"/>
                  </a:lnTo>
                  <a:lnTo>
                    <a:pt x="2352" y="1796"/>
                  </a:lnTo>
                  <a:lnTo>
                    <a:pt x="2369" y="1805"/>
                  </a:lnTo>
                  <a:lnTo>
                    <a:pt x="2384" y="1817"/>
                  </a:lnTo>
                  <a:lnTo>
                    <a:pt x="2409" y="1850"/>
                  </a:lnTo>
                  <a:lnTo>
                    <a:pt x="2427" y="1890"/>
                  </a:lnTo>
                  <a:lnTo>
                    <a:pt x="2436" y="1935"/>
                  </a:lnTo>
                  <a:lnTo>
                    <a:pt x="2436" y="1982"/>
                  </a:lnTo>
                  <a:lnTo>
                    <a:pt x="2431" y="2004"/>
                  </a:lnTo>
                  <a:lnTo>
                    <a:pt x="2425" y="2026"/>
                  </a:lnTo>
                  <a:lnTo>
                    <a:pt x="2415" y="2047"/>
                  </a:lnTo>
                  <a:lnTo>
                    <a:pt x="2402" y="2068"/>
                  </a:lnTo>
                  <a:lnTo>
                    <a:pt x="2368" y="2100"/>
                  </a:lnTo>
                  <a:close/>
                  <a:moveTo>
                    <a:pt x="1586" y="1791"/>
                  </a:moveTo>
                  <a:lnTo>
                    <a:pt x="1583" y="1762"/>
                  </a:lnTo>
                  <a:lnTo>
                    <a:pt x="1588" y="1733"/>
                  </a:lnTo>
                  <a:lnTo>
                    <a:pt x="1599" y="1705"/>
                  </a:lnTo>
                  <a:lnTo>
                    <a:pt x="1616" y="1679"/>
                  </a:lnTo>
                  <a:lnTo>
                    <a:pt x="1636" y="1654"/>
                  </a:lnTo>
                  <a:lnTo>
                    <a:pt x="1659" y="1633"/>
                  </a:lnTo>
                  <a:lnTo>
                    <a:pt x="1686" y="1614"/>
                  </a:lnTo>
                  <a:lnTo>
                    <a:pt x="1715" y="1599"/>
                  </a:lnTo>
                  <a:lnTo>
                    <a:pt x="1743" y="1586"/>
                  </a:lnTo>
                  <a:lnTo>
                    <a:pt x="1772" y="1580"/>
                  </a:lnTo>
                  <a:lnTo>
                    <a:pt x="1800" y="1576"/>
                  </a:lnTo>
                  <a:lnTo>
                    <a:pt x="1827" y="1578"/>
                  </a:lnTo>
                  <a:lnTo>
                    <a:pt x="1850" y="1586"/>
                  </a:lnTo>
                  <a:lnTo>
                    <a:pt x="1869" y="1601"/>
                  </a:lnTo>
                  <a:lnTo>
                    <a:pt x="1884" y="1621"/>
                  </a:lnTo>
                  <a:lnTo>
                    <a:pt x="1894" y="1649"/>
                  </a:lnTo>
                  <a:lnTo>
                    <a:pt x="1896" y="1677"/>
                  </a:lnTo>
                  <a:lnTo>
                    <a:pt x="1892" y="1705"/>
                  </a:lnTo>
                  <a:lnTo>
                    <a:pt x="1881" y="1734"/>
                  </a:lnTo>
                  <a:lnTo>
                    <a:pt x="1865" y="1763"/>
                  </a:lnTo>
                  <a:lnTo>
                    <a:pt x="1845" y="1790"/>
                  </a:lnTo>
                  <a:lnTo>
                    <a:pt x="1821" y="1814"/>
                  </a:lnTo>
                  <a:lnTo>
                    <a:pt x="1796" y="1836"/>
                  </a:lnTo>
                  <a:lnTo>
                    <a:pt x="1769" y="1855"/>
                  </a:lnTo>
                  <a:lnTo>
                    <a:pt x="1740" y="1870"/>
                  </a:lnTo>
                  <a:lnTo>
                    <a:pt x="1711" y="1880"/>
                  </a:lnTo>
                  <a:lnTo>
                    <a:pt x="1684" y="1883"/>
                  </a:lnTo>
                  <a:lnTo>
                    <a:pt x="1657" y="1881"/>
                  </a:lnTo>
                  <a:lnTo>
                    <a:pt x="1634" y="1871"/>
                  </a:lnTo>
                  <a:lnTo>
                    <a:pt x="1614" y="1853"/>
                  </a:lnTo>
                  <a:lnTo>
                    <a:pt x="1597" y="1826"/>
                  </a:lnTo>
                  <a:lnTo>
                    <a:pt x="1586" y="1791"/>
                  </a:lnTo>
                  <a:close/>
                  <a:moveTo>
                    <a:pt x="1333" y="1303"/>
                  </a:moveTo>
                  <a:lnTo>
                    <a:pt x="1323" y="1285"/>
                  </a:lnTo>
                  <a:lnTo>
                    <a:pt x="1321" y="1267"/>
                  </a:lnTo>
                  <a:lnTo>
                    <a:pt x="1325" y="1247"/>
                  </a:lnTo>
                  <a:lnTo>
                    <a:pt x="1335" y="1228"/>
                  </a:lnTo>
                  <a:lnTo>
                    <a:pt x="1369" y="1191"/>
                  </a:lnTo>
                  <a:lnTo>
                    <a:pt x="1415" y="1162"/>
                  </a:lnTo>
                  <a:lnTo>
                    <a:pt x="1465" y="1145"/>
                  </a:lnTo>
                  <a:lnTo>
                    <a:pt x="1491" y="1143"/>
                  </a:lnTo>
                  <a:lnTo>
                    <a:pt x="1514" y="1146"/>
                  </a:lnTo>
                  <a:lnTo>
                    <a:pt x="1535" y="1155"/>
                  </a:lnTo>
                  <a:lnTo>
                    <a:pt x="1554" y="1171"/>
                  </a:lnTo>
                  <a:lnTo>
                    <a:pt x="1569" y="1194"/>
                  </a:lnTo>
                  <a:lnTo>
                    <a:pt x="1578" y="1224"/>
                  </a:lnTo>
                  <a:lnTo>
                    <a:pt x="1580" y="1246"/>
                  </a:lnTo>
                  <a:lnTo>
                    <a:pt x="1577" y="1266"/>
                  </a:lnTo>
                  <a:lnTo>
                    <a:pt x="1570" y="1284"/>
                  </a:lnTo>
                  <a:lnTo>
                    <a:pt x="1560" y="1300"/>
                  </a:lnTo>
                  <a:lnTo>
                    <a:pt x="1530" y="1326"/>
                  </a:lnTo>
                  <a:lnTo>
                    <a:pt x="1492" y="1344"/>
                  </a:lnTo>
                  <a:lnTo>
                    <a:pt x="1449" y="1351"/>
                  </a:lnTo>
                  <a:lnTo>
                    <a:pt x="1406" y="1347"/>
                  </a:lnTo>
                  <a:lnTo>
                    <a:pt x="1385" y="1341"/>
                  </a:lnTo>
                  <a:lnTo>
                    <a:pt x="1366" y="1332"/>
                  </a:lnTo>
                  <a:lnTo>
                    <a:pt x="1349" y="1318"/>
                  </a:lnTo>
                  <a:lnTo>
                    <a:pt x="1333" y="1303"/>
                  </a:lnTo>
                  <a:close/>
                  <a:moveTo>
                    <a:pt x="1321" y="1152"/>
                  </a:moveTo>
                  <a:lnTo>
                    <a:pt x="1281" y="1118"/>
                  </a:lnTo>
                  <a:lnTo>
                    <a:pt x="1225" y="1136"/>
                  </a:lnTo>
                  <a:lnTo>
                    <a:pt x="1168" y="1160"/>
                  </a:lnTo>
                  <a:lnTo>
                    <a:pt x="1111" y="1186"/>
                  </a:lnTo>
                  <a:lnTo>
                    <a:pt x="1055" y="1217"/>
                  </a:lnTo>
                  <a:lnTo>
                    <a:pt x="1001" y="1252"/>
                  </a:lnTo>
                  <a:lnTo>
                    <a:pt x="953" y="1291"/>
                  </a:lnTo>
                  <a:lnTo>
                    <a:pt x="912" y="1336"/>
                  </a:lnTo>
                  <a:lnTo>
                    <a:pt x="879" y="1384"/>
                  </a:lnTo>
                  <a:lnTo>
                    <a:pt x="862" y="1402"/>
                  </a:lnTo>
                  <a:lnTo>
                    <a:pt x="842" y="1408"/>
                  </a:lnTo>
                  <a:lnTo>
                    <a:pt x="832" y="1405"/>
                  </a:lnTo>
                  <a:lnTo>
                    <a:pt x="824" y="1399"/>
                  </a:lnTo>
                  <a:lnTo>
                    <a:pt x="817" y="1387"/>
                  </a:lnTo>
                  <a:lnTo>
                    <a:pt x="814" y="1371"/>
                  </a:lnTo>
                  <a:lnTo>
                    <a:pt x="765" y="1389"/>
                  </a:lnTo>
                  <a:lnTo>
                    <a:pt x="717" y="1395"/>
                  </a:lnTo>
                  <a:lnTo>
                    <a:pt x="676" y="1392"/>
                  </a:lnTo>
                  <a:lnTo>
                    <a:pt x="662" y="1385"/>
                  </a:lnTo>
                  <a:lnTo>
                    <a:pt x="652" y="1376"/>
                  </a:lnTo>
                  <a:lnTo>
                    <a:pt x="613" y="1392"/>
                  </a:lnTo>
                  <a:lnTo>
                    <a:pt x="575" y="1401"/>
                  </a:lnTo>
                  <a:lnTo>
                    <a:pt x="545" y="1400"/>
                  </a:lnTo>
                  <a:lnTo>
                    <a:pt x="534" y="1395"/>
                  </a:lnTo>
                  <a:lnTo>
                    <a:pt x="528" y="1386"/>
                  </a:lnTo>
                  <a:lnTo>
                    <a:pt x="507" y="1401"/>
                  </a:lnTo>
                  <a:lnTo>
                    <a:pt x="491" y="1422"/>
                  </a:lnTo>
                  <a:lnTo>
                    <a:pt x="479" y="1448"/>
                  </a:lnTo>
                  <a:lnTo>
                    <a:pt x="470" y="1477"/>
                  </a:lnTo>
                  <a:lnTo>
                    <a:pt x="450" y="1537"/>
                  </a:lnTo>
                  <a:lnTo>
                    <a:pt x="436" y="1563"/>
                  </a:lnTo>
                  <a:lnTo>
                    <a:pt x="429" y="1573"/>
                  </a:lnTo>
                  <a:lnTo>
                    <a:pt x="417" y="1585"/>
                  </a:lnTo>
                  <a:lnTo>
                    <a:pt x="417" y="1562"/>
                  </a:lnTo>
                  <a:lnTo>
                    <a:pt x="409" y="1539"/>
                  </a:lnTo>
                  <a:lnTo>
                    <a:pt x="396" y="1520"/>
                  </a:lnTo>
                  <a:lnTo>
                    <a:pt x="377" y="1505"/>
                  </a:lnTo>
                  <a:lnTo>
                    <a:pt x="356" y="1527"/>
                  </a:lnTo>
                  <a:lnTo>
                    <a:pt x="338" y="1553"/>
                  </a:lnTo>
                  <a:lnTo>
                    <a:pt x="326" y="1581"/>
                  </a:lnTo>
                  <a:lnTo>
                    <a:pt x="319" y="1612"/>
                  </a:lnTo>
                  <a:lnTo>
                    <a:pt x="310" y="1587"/>
                  </a:lnTo>
                  <a:lnTo>
                    <a:pt x="305" y="1563"/>
                  </a:lnTo>
                  <a:lnTo>
                    <a:pt x="308" y="1517"/>
                  </a:lnTo>
                  <a:lnTo>
                    <a:pt x="324" y="1473"/>
                  </a:lnTo>
                  <a:lnTo>
                    <a:pt x="351" y="1434"/>
                  </a:lnTo>
                  <a:lnTo>
                    <a:pt x="387" y="1400"/>
                  </a:lnTo>
                  <a:lnTo>
                    <a:pt x="427" y="1371"/>
                  </a:lnTo>
                  <a:lnTo>
                    <a:pt x="472" y="1348"/>
                  </a:lnTo>
                  <a:lnTo>
                    <a:pt x="517" y="1334"/>
                  </a:lnTo>
                  <a:lnTo>
                    <a:pt x="521" y="1318"/>
                  </a:lnTo>
                  <a:lnTo>
                    <a:pt x="534" y="1306"/>
                  </a:lnTo>
                  <a:lnTo>
                    <a:pt x="555" y="1299"/>
                  </a:lnTo>
                  <a:lnTo>
                    <a:pt x="578" y="1296"/>
                  </a:lnTo>
                  <a:lnTo>
                    <a:pt x="625" y="1297"/>
                  </a:lnTo>
                  <a:lnTo>
                    <a:pt x="643" y="1301"/>
                  </a:lnTo>
                  <a:lnTo>
                    <a:pt x="653" y="1307"/>
                  </a:lnTo>
                  <a:lnTo>
                    <a:pt x="670" y="1293"/>
                  </a:lnTo>
                  <a:lnTo>
                    <a:pt x="689" y="1286"/>
                  </a:lnTo>
                  <a:lnTo>
                    <a:pt x="710" y="1284"/>
                  </a:lnTo>
                  <a:lnTo>
                    <a:pt x="732" y="1287"/>
                  </a:lnTo>
                  <a:lnTo>
                    <a:pt x="818" y="1309"/>
                  </a:lnTo>
                  <a:lnTo>
                    <a:pt x="857" y="1250"/>
                  </a:lnTo>
                  <a:lnTo>
                    <a:pt x="902" y="1201"/>
                  </a:lnTo>
                  <a:lnTo>
                    <a:pt x="950" y="1161"/>
                  </a:lnTo>
                  <a:lnTo>
                    <a:pt x="1004" y="1127"/>
                  </a:lnTo>
                  <a:lnTo>
                    <a:pt x="1062" y="1100"/>
                  </a:lnTo>
                  <a:lnTo>
                    <a:pt x="1125" y="1079"/>
                  </a:lnTo>
                  <a:lnTo>
                    <a:pt x="1194" y="1061"/>
                  </a:lnTo>
                  <a:lnTo>
                    <a:pt x="1267" y="1047"/>
                  </a:lnTo>
                  <a:lnTo>
                    <a:pt x="1283" y="1028"/>
                  </a:lnTo>
                  <a:lnTo>
                    <a:pt x="1306" y="1012"/>
                  </a:lnTo>
                  <a:lnTo>
                    <a:pt x="1334" y="999"/>
                  </a:lnTo>
                  <a:lnTo>
                    <a:pt x="1366" y="989"/>
                  </a:lnTo>
                  <a:lnTo>
                    <a:pt x="1434" y="978"/>
                  </a:lnTo>
                  <a:lnTo>
                    <a:pt x="1465" y="977"/>
                  </a:lnTo>
                  <a:lnTo>
                    <a:pt x="1494" y="980"/>
                  </a:lnTo>
                  <a:lnTo>
                    <a:pt x="1406" y="1064"/>
                  </a:lnTo>
                  <a:lnTo>
                    <a:pt x="1321" y="1152"/>
                  </a:lnTo>
                  <a:close/>
                  <a:moveTo>
                    <a:pt x="1673" y="1080"/>
                  </a:moveTo>
                  <a:lnTo>
                    <a:pt x="1665" y="1059"/>
                  </a:lnTo>
                  <a:lnTo>
                    <a:pt x="1662" y="1039"/>
                  </a:lnTo>
                  <a:lnTo>
                    <a:pt x="1664" y="1019"/>
                  </a:lnTo>
                  <a:lnTo>
                    <a:pt x="1671" y="999"/>
                  </a:lnTo>
                  <a:lnTo>
                    <a:pt x="1681" y="981"/>
                  </a:lnTo>
                  <a:lnTo>
                    <a:pt x="1694" y="963"/>
                  </a:lnTo>
                  <a:lnTo>
                    <a:pt x="1729" y="933"/>
                  </a:lnTo>
                  <a:lnTo>
                    <a:pt x="1759" y="915"/>
                  </a:lnTo>
                  <a:lnTo>
                    <a:pt x="1791" y="903"/>
                  </a:lnTo>
                  <a:lnTo>
                    <a:pt x="1825" y="896"/>
                  </a:lnTo>
                  <a:lnTo>
                    <a:pt x="1855" y="897"/>
                  </a:lnTo>
                  <a:lnTo>
                    <a:pt x="1882" y="906"/>
                  </a:lnTo>
                  <a:lnTo>
                    <a:pt x="1903" y="924"/>
                  </a:lnTo>
                  <a:lnTo>
                    <a:pt x="1916" y="952"/>
                  </a:lnTo>
                  <a:lnTo>
                    <a:pt x="1921" y="991"/>
                  </a:lnTo>
                  <a:lnTo>
                    <a:pt x="1912" y="1029"/>
                  </a:lnTo>
                  <a:lnTo>
                    <a:pt x="1890" y="1063"/>
                  </a:lnTo>
                  <a:lnTo>
                    <a:pt x="1857" y="1092"/>
                  </a:lnTo>
                  <a:lnTo>
                    <a:pt x="1818" y="1113"/>
                  </a:lnTo>
                  <a:lnTo>
                    <a:pt x="1777" y="1124"/>
                  </a:lnTo>
                  <a:lnTo>
                    <a:pt x="1735" y="1124"/>
                  </a:lnTo>
                  <a:lnTo>
                    <a:pt x="1718" y="1119"/>
                  </a:lnTo>
                  <a:lnTo>
                    <a:pt x="1700" y="1111"/>
                  </a:lnTo>
                  <a:lnTo>
                    <a:pt x="1685" y="1097"/>
                  </a:lnTo>
                  <a:lnTo>
                    <a:pt x="1673" y="1080"/>
                  </a:lnTo>
                  <a:close/>
                  <a:moveTo>
                    <a:pt x="1983" y="631"/>
                  </a:moveTo>
                  <a:lnTo>
                    <a:pt x="1954" y="617"/>
                  </a:lnTo>
                  <a:lnTo>
                    <a:pt x="1922" y="609"/>
                  </a:lnTo>
                  <a:lnTo>
                    <a:pt x="1887" y="606"/>
                  </a:lnTo>
                  <a:lnTo>
                    <a:pt x="1853" y="606"/>
                  </a:lnTo>
                  <a:lnTo>
                    <a:pt x="1779" y="615"/>
                  </a:lnTo>
                  <a:lnTo>
                    <a:pt x="1707" y="628"/>
                  </a:lnTo>
                  <a:lnTo>
                    <a:pt x="1642" y="638"/>
                  </a:lnTo>
                  <a:lnTo>
                    <a:pt x="1613" y="640"/>
                  </a:lnTo>
                  <a:lnTo>
                    <a:pt x="1587" y="638"/>
                  </a:lnTo>
                  <a:lnTo>
                    <a:pt x="1564" y="633"/>
                  </a:lnTo>
                  <a:lnTo>
                    <a:pt x="1547" y="620"/>
                  </a:lnTo>
                  <a:lnTo>
                    <a:pt x="1534" y="602"/>
                  </a:lnTo>
                  <a:lnTo>
                    <a:pt x="1526" y="578"/>
                  </a:lnTo>
                  <a:lnTo>
                    <a:pt x="1473" y="558"/>
                  </a:lnTo>
                  <a:lnTo>
                    <a:pt x="1424" y="532"/>
                  </a:lnTo>
                  <a:lnTo>
                    <a:pt x="1405" y="519"/>
                  </a:lnTo>
                  <a:lnTo>
                    <a:pt x="1395" y="505"/>
                  </a:lnTo>
                  <a:lnTo>
                    <a:pt x="1394" y="493"/>
                  </a:lnTo>
                  <a:lnTo>
                    <a:pt x="1405" y="481"/>
                  </a:lnTo>
                  <a:lnTo>
                    <a:pt x="1353" y="455"/>
                  </a:lnTo>
                  <a:lnTo>
                    <a:pt x="1334" y="440"/>
                  </a:lnTo>
                  <a:lnTo>
                    <a:pt x="1319" y="425"/>
                  </a:lnTo>
                  <a:lnTo>
                    <a:pt x="1309" y="411"/>
                  </a:lnTo>
                  <a:lnTo>
                    <a:pt x="1305" y="398"/>
                  </a:lnTo>
                  <a:lnTo>
                    <a:pt x="1306" y="387"/>
                  </a:lnTo>
                  <a:lnTo>
                    <a:pt x="1315" y="379"/>
                  </a:lnTo>
                  <a:lnTo>
                    <a:pt x="1295" y="362"/>
                  </a:lnTo>
                  <a:lnTo>
                    <a:pt x="1273" y="351"/>
                  </a:lnTo>
                  <a:lnTo>
                    <a:pt x="1248" y="344"/>
                  </a:lnTo>
                  <a:lnTo>
                    <a:pt x="1224" y="342"/>
                  </a:lnTo>
                  <a:lnTo>
                    <a:pt x="1197" y="342"/>
                  </a:lnTo>
                  <a:lnTo>
                    <a:pt x="1171" y="347"/>
                  </a:lnTo>
                  <a:lnTo>
                    <a:pt x="1122" y="361"/>
                  </a:lnTo>
                  <a:lnTo>
                    <a:pt x="1129" y="332"/>
                  </a:lnTo>
                  <a:lnTo>
                    <a:pt x="1144" y="308"/>
                  </a:lnTo>
                  <a:lnTo>
                    <a:pt x="1167" y="289"/>
                  </a:lnTo>
                  <a:lnTo>
                    <a:pt x="1196" y="280"/>
                  </a:lnTo>
                  <a:lnTo>
                    <a:pt x="1189" y="263"/>
                  </a:lnTo>
                  <a:lnTo>
                    <a:pt x="1178" y="250"/>
                  </a:lnTo>
                  <a:lnTo>
                    <a:pt x="1162" y="242"/>
                  </a:lnTo>
                  <a:lnTo>
                    <a:pt x="1144" y="239"/>
                  </a:lnTo>
                  <a:lnTo>
                    <a:pt x="1176" y="233"/>
                  </a:lnTo>
                  <a:lnTo>
                    <a:pt x="1206" y="235"/>
                  </a:lnTo>
                  <a:lnTo>
                    <a:pt x="1236" y="246"/>
                  </a:lnTo>
                  <a:lnTo>
                    <a:pt x="1265" y="263"/>
                  </a:lnTo>
                  <a:lnTo>
                    <a:pt x="1318" y="309"/>
                  </a:lnTo>
                  <a:lnTo>
                    <a:pt x="1359" y="357"/>
                  </a:lnTo>
                  <a:lnTo>
                    <a:pt x="1366" y="354"/>
                  </a:lnTo>
                  <a:lnTo>
                    <a:pt x="1373" y="354"/>
                  </a:lnTo>
                  <a:lnTo>
                    <a:pt x="1387" y="362"/>
                  </a:lnTo>
                  <a:lnTo>
                    <a:pt x="1414" y="396"/>
                  </a:lnTo>
                  <a:lnTo>
                    <a:pt x="1434" y="435"/>
                  </a:lnTo>
                  <a:lnTo>
                    <a:pt x="1442" y="458"/>
                  </a:lnTo>
                  <a:lnTo>
                    <a:pt x="1455" y="454"/>
                  </a:lnTo>
                  <a:lnTo>
                    <a:pt x="1468" y="456"/>
                  </a:lnTo>
                  <a:lnTo>
                    <a:pt x="1481" y="464"/>
                  </a:lnTo>
                  <a:lnTo>
                    <a:pt x="1493" y="475"/>
                  </a:lnTo>
                  <a:lnTo>
                    <a:pt x="1516" y="509"/>
                  </a:lnTo>
                  <a:lnTo>
                    <a:pt x="1537" y="545"/>
                  </a:lnTo>
                  <a:lnTo>
                    <a:pt x="1556" y="531"/>
                  </a:lnTo>
                  <a:lnTo>
                    <a:pt x="1578" y="519"/>
                  </a:lnTo>
                  <a:lnTo>
                    <a:pt x="1605" y="509"/>
                  </a:lnTo>
                  <a:lnTo>
                    <a:pt x="1633" y="501"/>
                  </a:lnTo>
                  <a:lnTo>
                    <a:pt x="1696" y="492"/>
                  </a:lnTo>
                  <a:lnTo>
                    <a:pt x="1766" y="492"/>
                  </a:lnTo>
                  <a:lnTo>
                    <a:pt x="1836" y="500"/>
                  </a:lnTo>
                  <a:lnTo>
                    <a:pt x="1905" y="514"/>
                  </a:lnTo>
                  <a:lnTo>
                    <a:pt x="1970" y="537"/>
                  </a:lnTo>
                  <a:lnTo>
                    <a:pt x="2027" y="566"/>
                  </a:lnTo>
                  <a:lnTo>
                    <a:pt x="2004" y="596"/>
                  </a:lnTo>
                  <a:lnTo>
                    <a:pt x="1983" y="631"/>
                  </a:lnTo>
                  <a:close/>
                  <a:moveTo>
                    <a:pt x="2482" y="952"/>
                  </a:moveTo>
                  <a:lnTo>
                    <a:pt x="2472" y="940"/>
                  </a:lnTo>
                  <a:lnTo>
                    <a:pt x="2460" y="922"/>
                  </a:lnTo>
                  <a:lnTo>
                    <a:pt x="2438" y="867"/>
                  </a:lnTo>
                  <a:lnTo>
                    <a:pt x="2419" y="800"/>
                  </a:lnTo>
                  <a:lnTo>
                    <a:pt x="2406" y="729"/>
                  </a:lnTo>
                  <a:lnTo>
                    <a:pt x="2402" y="695"/>
                  </a:lnTo>
                  <a:lnTo>
                    <a:pt x="2401" y="665"/>
                  </a:lnTo>
                  <a:lnTo>
                    <a:pt x="2403" y="638"/>
                  </a:lnTo>
                  <a:lnTo>
                    <a:pt x="2408" y="617"/>
                  </a:lnTo>
                  <a:lnTo>
                    <a:pt x="2417" y="602"/>
                  </a:lnTo>
                  <a:lnTo>
                    <a:pt x="2430" y="596"/>
                  </a:lnTo>
                  <a:lnTo>
                    <a:pt x="2447" y="598"/>
                  </a:lnTo>
                  <a:lnTo>
                    <a:pt x="2469" y="611"/>
                  </a:lnTo>
                  <a:lnTo>
                    <a:pt x="2485" y="627"/>
                  </a:lnTo>
                  <a:lnTo>
                    <a:pt x="2496" y="645"/>
                  </a:lnTo>
                  <a:lnTo>
                    <a:pt x="2504" y="665"/>
                  </a:lnTo>
                  <a:lnTo>
                    <a:pt x="2510" y="686"/>
                  </a:lnTo>
                  <a:lnTo>
                    <a:pt x="2520" y="731"/>
                  </a:lnTo>
                  <a:lnTo>
                    <a:pt x="2527" y="752"/>
                  </a:lnTo>
                  <a:lnTo>
                    <a:pt x="2539" y="771"/>
                  </a:lnTo>
                  <a:lnTo>
                    <a:pt x="2553" y="800"/>
                  </a:lnTo>
                  <a:lnTo>
                    <a:pt x="2564" y="837"/>
                  </a:lnTo>
                  <a:lnTo>
                    <a:pt x="2569" y="877"/>
                  </a:lnTo>
                  <a:lnTo>
                    <a:pt x="2568" y="915"/>
                  </a:lnTo>
                  <a:lnTo>
                    <a:pt x="2559" y="946"/>
                  </a:lnTo>
                  <a:lnTo>
                    <a:pt x="2552" y="959"/>
                  </a:lnTo>
                  <a:lnTo>
                    <a:pt x="2543" y="966"/>
                  </a:lnTo>
                  <a:lnTo>
                    <a:pt x="2531" y="971"/>
                  </a:lnTo>
                  <a:lnTo>
                    <a:pt x="2517" y="970"/>
                  </a:lnTo>
                  <a:lnTo>
                    <a:pt x="2501" y="964"/>
                  </a:lnTo>
                  <a:lnTo>
                    <a:pt x="2482" y="952"/>
                  </a:lnTo>
                  <a:close/>
                  <a:moveTo>
                    <a:pt x="2720" y="960"/>
                  </a:moveTo>
                  <a:lnTo>
                    <a:pt x="2748" y="936"/>
                  </a:lnTo>
                  <a:lnTo>
                    <a:pt x="2782" y="921"/>
                  </a:lnTo>
                  <a:lnTo>
                    <a:pt x="2822" y="912"/>
                  </a:lnTo>
                  <a:lnTo>
                    <a:pt x="2866" y="907"/>
                  </a:lnTo>
                  <a:lnTo>
                    <a:pt x="2953" y="904"/>
                  </a:lnTo>
                  <a:lnTo>
                    <a:pt x="3028" y="899"/>
                  </a:lnTo>
                  <a:lnTo>
                    <a:pt x="3066" y="897"/>
                  </a:lnTo>
                  <a:lnTo>
                    <a:pt x="3098" y="903"/>
                  </a:lnTo>
                  <a:lnTo>
                    <a:pt x="3122" y="916"/>
                  </a:lnTo>
                  <a:lnTo>
                    <a:pt x="3135" y="933"/>
                  </a:lnTo>
                  <a:lnTo>
                    <a:pt x="3136" y="953"/>
                  </a:lnTo>
                  <a:lnTo>
                    <a:pt x="3131" y="963"/>
                  </a:lnTo>
                  <a:lnTo>
                    <a:pt x="3123" y="973"/>
                  </a:lnTo>
                  <a:lnTo>
                    <a:pt x="3109" y="983"/>
                  </a:lnTo>
                  <a:lnTo>
                    <a:pt x="3093" y="992"/>
                  </a:lnTo>
                  <a:lnTo>
                    <a:pt x="3045" y="1009"/>
                  </a:lnTo>
                  <a:lnTo>
                    <a:pt x="2956" y="1025"/>
                  </a:lnTo>
                  <a:lnTo>
                    <a:pt x="2891" y="1031"/>
                  </a:lnTo>
                  <a:lnTo>
                    <a:pt x="2823" y="1035"/>
                  </a:lnTo>
                  <a:lnTo>
                    <a:pt x="2763" y="1032"/>
                  </a:lnTo>
                  <a:lnTo>
                    <a:pt x="2739" y="1028"/>
                  </a:lnTo>
                  <a:lnTo>
                    <a:pt x="2720" y="1021"/>
                  </a:lnTo>
                  <a:lnTo>
                    <a:pt x="2707" y="1011"/>
                  </a:lnTo>
                  <a:lnTo>
                    <a:pt x="2702" y="998"/>
                  </a:lnTo>
                  <a:lnTo>
                    <a:pt x="2706" y="981"/>
                  </a:lnTo>
                  <a:lnTo>
                    <a:pt x="2720" y="960"/>
                  </a:lnTo>
                  <a:close/>
                  <a:moveTo>
                    <a:pt x="2569" y="436"/>
                  </a:moveTo>
                  <a:lnTo>
                    <a:pt x="2579" y="414"/>
                  </a:lnTo>
                  <a:lnTo>
                    <a:pt x="2593" y="396"/>
                  </a:lnTo>
                  <a:lnTo>
                    <a:pt x="2613" y="382"/>
                  </a:lnTo>
                  <a:lnTo>
                    <a:pt x="2636" y="373"/>
                  </a:lnTo>
                  <a:lnTo>
                    <a:pt x="2660" y="370"/>
                  </a:lnTo>
                  <a:lnTo>
                    <a:pt x="2685" y="371"/>
                  </a:lnTo>
                  <a:lnTo>
                    <a:pt x="2708" y="377"/>
                  </a:lnTo>
                  <a:lnTo>
                    <a:pt x="2730" y="387"/>
                  </a:lnTo>
                  <a:lnTo>
                    <a:pt x="2745" y="371"/>
                  </a:lnTo>
                  <a:lnTo>
                    <a:pt x="2735" y="348"/>
                  </a:lnTo>
                  <a:lnTo>
                    <a:pt x="2722" y="328"/>
                  </a:lnTo>
                  <a:lnTo>
                    <a:pt x="2687" y="291"/>
                  </a:lnTo>
                  <a:lnTo>
                    <a:pt x="2605" y="226"/>
                  </a:lnTo>
                  <a:lnTo>
                    <a:pt x="2564" y="193"/>
                  </a:lnTo>
                  <a:lnTo>
                    <a:pt x="2530" y="156"/>
                  </a:lnTo>
                  <a:lnTo>
                    <a:pt x="2517" y="134"/>
                  </a:lnTo>
                  <a:lnTo>
                    <a:pt x="2507" y="111"/>
                  </a:lnTo>
                  <a:lnTo>
                    <a:pt x="2501" y="85"/>
                  </a:lnTo>
                  <a:lnTo>
                    <a:pt x="2498" y="56"/>
                  </a:lnTo>
                  <a:lnTo>
                    <a:pt x="2503" y="32"/>
                  </a:lnTo>
                  <a:lnTo>
                    <a:pt x="2514" y="14"/>
                  </a:lnTo>
                  <a:lnTo>
                    <a:pt x="2531" y="4"/>
                  </a:lnTo>
                  <a:lnTo>
                    <a:pt x="2550" y="0"/>
                  </a:lnTo>
                  <a:lnTo>
                    <a:pt x="2570" y="6"/>
                  </a:lnTo>
                  <a:lnTo>
                    <a:pt x="2590" y="18"/>
                  </a:lnTo>
                  <a:lnTo>
                    <a:pt x="2607" y="41"/>
                  </a:lnTo>
                  <a:lnTo>
                    <a:pt x="2618" y="71"/>
                  </a:lnTo>
                  <a:lnTo>
                    <a:pt x="2632" y="113"/>
                  </a:lnTo>
                  <a:lnTo>
                    <a:pt x="2654" y="149"/>
                  </a:lnTo>
                  <a:lnTo>
                    <a:pt x="2678" y="179"/>
                  </a:lnTo>
                  <a:lnTo>
                    <a:pt x="2705" y="207"/>
                  </a:lnTo>
                  <a:lnTo>
                    <a:pt x="2732" y="235"/>
                  </a:lnTo>
                  <a:lnTo>
                    <a:pt x="2759" y="266"/>
                  </a:lnTo>
                  <a:lnTo>
                    <a:pt x="2781" y="303"/>
                  </a:lnTo>
                  <a:lnTo>
                    <a:pt x="2799" y="349"/>
                  </a:lnTo>
                  <a:lnTo>
                    <a:pt x="2853" y="344"/>
                  </a:lnTo>
                  <a:lnTo>
                    <a:pt x="2907" y="349"/>
                  </a:lnTo>
                  <a:lnTo>
                    <a:pt x="2961" y="360"/>
                  </a:lnTo>
                  <a:lnTo>
                    <a:pt x="3012" y="378"/>
                  </a:lnTo>
                  <a:lnTo>
                    <a:pt x="3061" y="404"/>
                  </a:lnTo>
                  <a:lnTo>
                    <a:pt x="3106" y="435"/>
                  </a:lnTo>
                  <a:lnTo>
                    <a:pt x="3146" y="471"/>
                  </a:lnTo>
                  <a:lnTo>
                    <a:pt x="3181" y="513"/>
                  </a:lnTo>
                  <a:lnTo>
                    <a:pt x="3195" y="493"/>
                  </a:lnTo>
                  <a:lnTo>
                    <a:pt x="3212" y="480"/>
                  </a:lnTo>
                  <a:lnTo>
                    <a:pt x="3249" y="466"/>
                  </a:lnTo>
                  <a:lnTo>
                    <a:pt x="3290" y="465"/>
                  </a:lnTo>
                  <a:lnTo>
                    <a:pt x="3335" y="472"/>
                  </a:lnTo>
                  <a:lnTo>
                    <a:pt x="3382" y="480"/>
                  </a:lnTo>
                  <a:lnTo>
                    <a:pt x="3429" y="481"/>
                  </a:lnTo>
                  <a:lnTo>
                    <a:pt x="3452" y="477"/>
                  </a:lnTo>
                  <a:lnTo>
                    <a:pt x="3475" y="471"/>
                  </a:lnTo>
                  <a:lnTo>
                    <a:pt x="3498" y="458"/>
                  </a:lnTo>
                  <a:lnTo>
                    <a:pt x="3519" y="442"/>
                  </a:lnTo>
                  <a:lnTo>
                    <a:pt x="3534" y="432"/>
                  </a:lnTo>
                  <a:lnTo>
                    <a:pt x="3550" y="425"/>
                  </a:lnTo>
                  <a:lnTo>
                    <a:pt x="3581" y="424"/>
                  </a:lnTo>
                  <a:lnTo>
                    <a:pt x="3595" y="429"/>
                  </a:lnTo>
                  <a:lnTo>
                    <a:pt x="3609" y="436"/>
                  </a:lnTo>
                  <a:lnTo>
                    <a:pt x="3629" y="457"/>
                  </a:lnTo>
                  <a:lnTo>
                    <a:pt x="3638" y="484"/>
                  </a:lnTo>
                  <a:lnTo>
                    <a:pt x="3637" y="499"/>
                  </a:lnTo>
                  <a:lnTo>
                    <a:pt x="3630" y="512"/>
                  </a:lnTo>
                  <a:lnTo>
                    <a:pt x="3620" y="526"/>
                  </a:lnTo>
                  <a:lnTo>
                    <a:pt x="3603" y="540"/>
                  </a:lnTo>
                  <a:lnTo>
                    <a:pt x="3581" y="552"/>
                  </a:lnTo>
                  <a:lnTo>
                    <a:pt x="3552" y="562"/>
                  </a:lnTo>
                  <a:lnTo>
                    <a:pt x="3509" y="567"/>
                  </a:lnTo>
                  <a:lnTo>
                    <a:pt x="3465" y="562"/>
                  </a:lnTo>
                  <a:lnTo>
                    <a:pt x="3376" y="543"/>
                  </a:lnTo>
                  <a:lnTo>
                    <a:pt x="3332" y="534"/>
                  </a:lnTo>
                  <a:lnTo>
                    <a:pt x="3287" y="531"/>
                  </a:lnTo>
                  <a:lnTo>
                    <a:pt x="3244" y="538"/>
                  </a:lnTo>
                  <a:lnTo>
                    <a:pt x="3222" y="544"/>
                  </a:lnTo>
                  <a:lnTo>
                    <a:pt x="3201" y="556"/>
                  </a:lnTo>
                  <a:lnTo>
                    <a:pt x="3207" y="582"/>
                  </a:lnTo>
                  <a:lnTo>
                    <a:pt x="3204" y="609"/>
                  </a:lnTo>
                  <a:lnTo>
                    <a:pt x="3228" y="617"/>
                  </a:lnTo>
                  <a:lnTo>
                    <a:pt x="3247" y="631"/>
                  </a:lnTo>
                  <a:lnTo>
                    <a:pt x="3261" y="650"/>
                  </a:lnTo>
                  <a:lnTo>
                    <a:pt x="3271" y="673"/>
                  </a:lnTo>
                  <a:lnTo>
                    <a:pt x="3275" y="696"/>
                  </a:lnTo>
                  <a:lnTo>
                    <a:pt x="3271" y="721"/>
                  </a:lnTo>
                  <a:lnTo>
                    <a:pt x="3261" y="745"/>
                  </a:lnTo>
                  <a:lnTo>
                    <a:pt x="3244" y="768"/>
                  </a:lnTo>
                  <a:lnTo>
                    <a:pt x="3173" y="704"/>
                  </a:lnTo>
                  <a:lnTo>
                    <a:pt x="3097" y="647"/>
                  </a:lnTo>
                  <a:lnTo>
                    <a:pt x="3016" y="596"/>
                  </a:lnTo>
                  <a:lnTo>
                    <a:pt x="2932" y="551"/>
                  </a:lnTo>
                  <a:lnTo>
                    <a:pt x="2844" y="513"/>
                  </a:lnTo>
                  <a:lnTo>
                    <a:pt x="2753" y="481"/>
                  </a:lnTo>
                  <a:lnTo>
                    <a:pt x="2661" y="455"/>
                  </a:lnTo>
                  <a:lnTo>
                    <a:pt x="2569" y="436"/>
                  </a:lnTo>
                  <a:close/>
                  <a:moveTo>
                    <a:pt x="3411" y="1068"/>
                  </a:moveTo>
                  <a:lnTo>
                    <a:pt x="3448" y="1058"/>
                  </a:lnTo>
                  <a:lnTo>
                    <a:pt x="3478" y="1059"/>
                  </a:lnTo>
                  <a:lnTo>
                    <a:pt x="3502" y="1069"/>
                  </a:lnTo>
                  <a:lnTo>
                    <a:pt x="3517" y="1086"/>
                  </a:lnTo>
                  <a:lnTo>
                    <a:pt x="3542" y="1100"/>
                  </a:lnTo>
                  <a:lnTo>
                    <a:pt x="3563" y="1118"/>
                  </a:lnTo>
                  <a:lnTo>
                    <a:pt x="3598" y="1161"/>
                  </a:lnTo>
                  <a:lnTo>
                    <a:pt x="3626" y="1211"/>
                  </a:lnTo>
                  <a:lnTo>
                    <a:pt x="3648" y="1266"/>
                  </a:lnTo>
                  <a:lnTo>
                    <a:pt x="3685" y="1382"/>
                  </a:lnTo>
                  <a:lnTo>
                    <a:pt x="3705" y="1437"/>
                  </a:lnTo>
                  <a:lnTo>
                    <a:pt x="3729" y="1486"/>
                  </a:lnTo>
                  <a:lnTo>
                    <a:pt x="3742" y="1508"/>
                  </a:lnTo>
                  <a:lnTo>
                    <a:pt x="3750" y="1530"/>
                  </a:lnTo>
                  <a:lnTo>
                    <a:pt x="3783" y="1518"/>
                  </a:lnTo>
                  <a:lnTo>
                    <a:pt x="3821" y="1501"/>
                  </a:lnTo>
                  <a:lnTo>
                    <a:pt x="3840" y="1495"/>
                  </a:lnTo>
                  <a:lnTo>
                    <a:pt x="3858" y="1494"/>
                  </a:lnTo>
                  <a:lnTo>
                    <a:pt x="3874" y="1499"/>
                  </a:lnTo>
                  <a:lnTo>
                    <a:pt x="3886" y="1513"/>
                  </a:lnTo>
                  <a:lnTo>
                    <a:pt x="3914" y="1506"/>
                  </a:lnTo>
                  <a:lnTo>
                    <a:pt x="3945" y="1500"/>
                  </a:lnTo>
                  <a:lnTo>
                    <a:pt x="3961" y="1500"/>
                  </a:lnTo>
                  <a:lnTo>
                    <a:pt x="3975" y="1504"/>
                  </a:lnTo>
                  <a:lnTo>
                    <a:pt x="3988" y="1514"/>
                  </a:lnTo>
                  <a:lnTo>
                    <a:pt x="3998" y="1530"/>
                  </a:lnTo>
                  <a:lnTo>
                    <a:pt x="4036" y="1520"/>
                  </a:lnTo>
                  <a:lnTo>
                    <a:pt x="4074" y="1517"/>
                  </a:lnTo>
                  <a:lnTo>
                    <a:pt x="4110" y="1519"/>
                  </a:lnTo>
                  <a:lnTo>
                    <a:pt x="4147" y="1527"/>
                  </a:lnTo>
                  <a:lnTo>
                    <a:pt x="4183" y="1540"/>
                  </a:lnTo>
                  <a:lnTo>
                    <a:pt x="4217" y="1558"/>
                  </a:lnTo>
                  <a:lnTo>
                    <a:pt x="4247" y="1582"/>
                  </a:lnTo>
                  <a:lnTo>
                    <a:pt x="4274" y="1610"/>
                  </a:lnTo>
                  <a:lnTo>
                    <a:pt x="4251" y="1600"/>
                  </a:lnTo>
                  <a:lnTo>
                    <a:pt x="4227" y="1594"/>
                  </a:lnTo>
                  <a:lnTo>
                    <a:pt x="4201" y="1593"/>
                  </a:lnTo>
                  <a:lnTo>
                    <a:pt x="4176" y="1597"/>
                  </a:lnTo>
                  <a:lnTo>
                    <a:pt x="4185" y="1628"/>
                  </a:lnTo>
                  <a:lnTo>
                    <a:pt x="4186" y="1659"/>
                  </a:lnTo>
                  <a:lnTo>
                    <a:pt x="4182" y="1690"/>
                  </a:lnTo>
                  <a:lnTo>
                    <a:pt x="4170" y="1719"/>
                  </a:lnTo>
                  <a:lnTo>
                    <a:pt x="4158" y="1691"/>
                  </a:lnTo>
                  <a:lnTo>
                    <a:pt x="4142" y="1667"/>
                  </a:lnTo>
                  <a:lnTo>
                    <a:pt x="4123" y="1644"/>
                  </a:lnTo>
                  <a:lnTo>
                    <a:pt x="4099" y="1625"/>
                  </a:lnTo>
                  <a:lnTo>
                    <a:pt x="4047" y="1596"/>
                  </a:lnTo>
                  <a:lnTo>
                    <a:pt x="4018" y="1586"/>
                  </a:lnTo>
                  <a:lnTo>
                    <a:pt x="3989" y="1580"/>
                  </a:lnTo>
                  <a:lnTo>
                    <a:pt x="3980" y="1593"/>
                  </a:lnTo>
                  <a:lnTo>
                    <a:pt x="3969" y="1602"/>
                  </a:lnTo>
                  <a:lnTo>
                    <a:pt x="3954" y="1606"/>
                  </a:lnTo>
                  <a:lnTo>
                    <a:pt x="3938" y="1606"/>
                  </a:lnTo>
                  <a:lnTo>
                    <a:pt x="3907" y="1595"/>
                  </a:lnTo>
                  <a:lnTo>
                    <a:pt x="3881" y="1573"/>
                  </a:lnTo>
                  <a:lnTo>
                    <a:pt x="3868" y="1589"/>
                  </a:lnTo>
                  <a:lnTo>
                    <a:pt x="3851" y="1597"/>
                  </a:lnTo>
                  <a:lnTo>
                    <a:pt x="3831" y="1603"/>
                  </a:lnTo>
                  <a:lnTo>
                    <a:pt x="3809" y="1603"/>
                  </a:lnTo>
                  <a:lnTo>
                    <a:pt x="3764" y="1592"/>
                  </a:lnTo>
                  <a:lnTo>
                    <a:pt x="3723" y="1570"/>
                  </a:lnTo>
                  <a:lnTo>
                    <a:pt x="3698" y="1576"/>
                  </a:lnTo>
                  <a:lnTo>
                    <a:pt x="3677" y="1574"/>
                  </a:lnTo>
                  <a:lnTo>
                    <a:pt x="3658" y="1563"/>
                  </a:lnTo>
                  <a:lnTo>
                    <a:pt x="3642" y="1545"/>
                  </a:lnTo>
                  <a:lnTo>
                    <a:pt x="3628" y="1520"/>
                  </a:lnTo>
                  <a:lnTo>
                    <a:pt x="3616" y="1491"/>
                  </a:lnTo>
                  <a:lnTo>
                    <a:pt x="3595" y="1422"/>
                  </a:lnTo>
                  <a:lnTo>
                    <a:pt x="3560" y="1276"/>
                  </a:lnTo>
                  <a:lnTo>
                    <a:pt x="3540" y="1217"/>
                  </a:lnTo>
                  <a:lnTo>
                    <a:pt x="3532" y="1198"/>
                  </a:lnTo>
                  <a:lnTo>
                    <a:pt x="3529" y="1192"/>
                  </a:lnTo>
                  <a:lnTo>
                    <a:pt x="3515" y="1180"/>
                  </a:lnTo>
                  <a:lnTo>
                    <a:pt x="3500" y="1202"/>
                  </a:lnTo>
                  <a:lnTo>
                    <a:pt x="3480" y="1221"/>
                  </a:lnTo>
                  <a:lnTo>
                    <a:pt x="3454" y="1236"/>
                  </a:lnTo>
                  <a:lnTo>
                    <a:pt x="3422" y="1242"/>
                  </a:lnTo>
                  <a:lnTo>
                    <a:pt x="3426" y="1199"/>
                  </a:lnTo>
                  <a:lnTo>
                    <a:pt x="3424" y="1155"/>
                  </a:lnTo>
                  <a:lnTo>
                    <a:pt x="3419" y="1112"/>
                  </a:lnTo>
                  <a:lnTo>
                    <a:pt x="3411" y="1068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5" name=""/>
          <p:cNvSpPr/>
          <p:nvPr/>
        </p:nvSpPr>
        <p:spPr>
          <a:xfrm>
            <a:off x="14497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7" name=""/>
          <p:cNvGrpSpPr/>
          <p:nvPr/>
        </p:nvGrpSpPr>
        <p:grpSpPr>
          <a:xfrm>
            <a:off x="685800" y="2935440"/>
            <a:ext cx="2265480" cy="1748880"/>
            <a:chOff x="685800" y="2935440"/>
            <a:chExt cx="2265480" cy="1748880"/>
          </a:xfrm>
        </p:grpSpPr>
        <p:sp>
          <p:nvSpPr>
            <p:cNvPr id="3128" name=""/>
            <p:cNvSpPr/>
            <p:nvPr/>
          </p:nvSpPr>
          <p:spPr>
            <a:xfrm>
              <a:off x="685800" y="2935440"/>
              <a:ext cx="1123920" cy="1429920"/>
            </a:xfrm>
            <a:custGeom>
              <a:avLst/>
              <a:gdLst/>
              <a:ahLst/>
              <a:rect l="l" t="t" r="r" b="b"/>
              <a:pathLst>
                <a:path w="2123" h="2705">
                  <a:moveTo>
                    <a:pt x="2098" y="392"/>
                  </a:moveTo>
                  <a:lnTo>
                    <a:pt x="2099" y="424"/>
                  </a:lnTo>
                  <a:lnTo>
                    <a:pt x="2109" y="510"/>
                  </a:lnTo>
                  <a:lnTo>
                    <a:pt x="2101" y="644"/>
                  </a:lnTo>
                  <a:lnTo>
                    <a:pt x="2123" y="831"/>
                  </a:lnTo>
                  <a:lnTo>
                    <a:pt x="2081" y="829"/>
                  </a:lnTo>
                  <a:lnTo>
                    <a:pt x="2054" y="840"/>
                  </a:lnTo>
                  <a:lnTo>
                    <a:pt x="2025" y="861"/>
                  </a:lnTo>
                  <a:lnTo>
                    <a:pt x="2004" y="793"/>
                  </a:lnTo>
                  <a:lnTo>
                    <a:pt x="1929" y="824"/>
                  </a:lnTo>
                  <a:lnTo>
                    <a:pt x="1881" y="867"/>
                  </a:lnTo>
                  <a:lnTo>
                    <a:pt x="1816" y="872"/>
                  </a:lnTo>
                  <a:lnTo>
                    <a:pt x="1788" y="931"/>
                  </a:lnTo>
                  <a:lnTo>
                    <a:pt x="1734" y="975"/>
                  </a:lnTo>
                  <a:lnTo>
                    <a:pt x="1671" y="989"/>
                  </a:lnTo>
                  <a:lnTo>
                    <a:pt x="1636" y="1072"/>
                  </a:lnTo>
                  <a:lnTo>
                    <a:pt x="1614" y="1088"/>
                  </a:lnTo>
                  <a:lnTo>
                    <a:pt x="1610" y="1116"/>
                  </a:lnTo>
                  <a:lnTo>
                    <a:pt x="1544" y="1196"/>
                  </a:lnTo>
                  <a:lnTo>
                    <a:pt x="1514" y="1246"/>
                  </a:lnTo>
                  <a:lnTo>
                    <a:pt x="1489" y="1309"/>
                  </a:lnTo>
                  <a:lnTo>
                    <a:pt x="1465" y="1338"/>
                  </a:lnTo>
                  <a:lnTo>
                    <a:pt x="1454" y="1331"/>
                  </a:lnTo>
                  <a:lnTo>
                    <a:pt x="1444" y="1317"/>
                  </a:lnTo>
                  <a:lnTo>
                    <a:pt x="1401" y="1319"/>
                  </a:lnTo>
                  <a:lnTo>
                    <a:pt x="1338" y="1336"/>
                  </a:lnTo>
                  <a:lnTo>
                    <a:pt x="1332" y="1329"/>
                  </a:lnTo>
                  <a:lnTo>
                    <a:pt x="1365" y="1305"/>
                  </a:lnTo>
                  <a:lnTo>
                    <a:pt x="1335" y="1310"/>
                  </a:lnTo>
                  <a:lnTo>
                    <a:pt x="1266" y="1334"/>
                  </a:lnTo>
                  <a:lnTo>
                    <a:pt x="1252" y="1324"/>
                  </a:lnTo>
                  <a:lnTo>
                    <a:pt x="1363" y="1274"/>
                  </a:lnTo>
                  <a:lnTo>
                    <a:pt x="1411" y="1217"/>
                  </a:lnTo>
                  <a:lnTo>
                    <a:pt x="1404" y="1199"/>
                  </a:lnTo>
                  <a:lnTo>
                    <a:pt x="1266" y="1217"/>
                  </a:lnTo>
                  <a:lnTo>
                    <a:pt x="1215" y="1246"/>
                  </a:lnTo>
                  <a:lnTo>
                    <a:pt x="1117" y="1258"/>
                  </a:lnTo>
                  <a:lnTo>
                    <a:pt x="1091" y="1293"/>
                  </a:lnTo>
                  <a:lnTo>
                    <a:pt x="1060" y="1326"/>
                  </a:lnTo>
                  <a:lnTo>
                    <a:pt x="1041" y="1348"/>
                  </a:lnTo>
                  <a:lnTo>
                    <a:pt x="995" y="1289"/>
                  </a:lnTo>
                  <a:lnTo>
                    <a:pt x="960" y="1353"/>
                  </a:lnTo>
                  <a:lnTo>
                    <a:pt x="919" y="1420"/>
                  </a:lnTo>
                  <a:lnTo>
                    <a:pt x="829" y="1530"/>
                  </a:lnTo>
                  <a:lnTo>
                    <a:pt x="819" y="1551"/>
                  </a:lnTo>
                  <a:lnTo>
                    <a:pt x="780" y="1724"/>
                  </a:lnTo>
                  <a:lnTo>
                    <a:pt x="736" y="1855"/>
                  </a:lnTo>
                  <a:lnTo>
                    <a:pt x="647" y="2086"/>
                  </a:lnTo>
                  <a:lnTo>
                    <a:pt x="594" y="2223"/>
                  </a:lnTo>
                  <a:lnTo>
                    <a:pt x="550" y="2363"/>
                  </a:lnTo>
                  <a:lnTo>
                    <a:pt x="522" y="2446"/>
                  </a:lnTo>
                  <a:lnTo>
                    <a:pt x="519" y="2474"/>
                  </a:lnTo>
                  <a:lnTo>
                    <a:pt x="506" y="2494"/>
                  </a:lnTo>
                  <a:lnTo>
                    <a:pt x="503" y="2513"/>
                  </a:lnTo>
                  <a:lnTo>
                    <a:pt x="512" y="2533"/>
                  </a:lnTo>
                  <a:lnTo>
                    <a:pt x="527" y="2544"/>
                  </a:lnTo>
                  <a:lnTo>
                    <a:pt x="575" y="2537"/>
                  </a:lnTo>
                  <a:lnTo>
                    <a:pt x="588" y="2536"/>
                  </a:lnTo>
                  <a:lnTo>
                    <a:pt x="592" y="2524"/>
                  </a:lnTo>
                  <a:lnTo>
                    <a:pt x="591" y="2512"/>
                  </a:lnTo>
                  <a:lnTo>
                    <a:pt x="591" y="2492"/>
                  </a:lnTo>
                  <a:lnTo>
                    <a:pt x="603" y="2479"/>
                  </a:lnTo>
                  <a:lnTo>
                    <a:pt x="625" y="2479"/>
                  </a:lnTo>
                  <a:lnTo>
                    <a:pt x="646" y="2491"/>
                  </a:lnTo>
                  <a:lnTo>
                    <a:pt x="697" y="2495"/>
                  </a:lnTo>
                  <a:lnTo>
                    <a:pt x="722" y="2509"/>
                  </a:lnTo>
                  <a:lnTo>
                    <a:pt x="784" y="2506"/>
                  </a:lnTo>
                  <a:lnTo>
                    <a:pt x="811" y="2520"/>
                  </a:lnTo>
                  <a:lnTo>
                    <a:pt x="806" y="2551"/>
                  </a:lnTo>
                  <a:lnTo>
                    <a:pt x="797" y="2564"/>
                  </a:lnTo>
                  <a:lnTo>
                    <a:pt x="766" y="2588"/>
                  </a:lnTo>
                  <a:lnTo>
                    <a:pt x="725" y="2602"/>
                  </a:lnTo>
                  <a:lnTo>
                    <a:pt x="613" y="2670"/>
                  </a:lnTo>
                  <a:lnTo>
                    <a:pt x="537" y="2696"/>
                  </a:lnTo>
                  <a:lnTo>
                    <a:pt x="492" y="2705"/>
                  </a:lnTo>
                  <a:lnTo>
                    <a:pt x="461" y="2705"/>
                  </a:lnTo>
                  <a:lnTo>
                    <a:pt x="431" y="2702"/>
                  </a:lnTo>
                  <a:lnTo>
                    <a:pt x="405" y="2696"/>
                  </a:lnTo>
                  <a:lnTo>
                    <a:pt x="381" y="2689"/>
                  </a:lnTo>
                  <a:lnTo>
                    <a:pt x="360" y="2679"/>
                  </a:lnTo>
                  <a:lnTo>
                    <a:pt x="340" y="2667"/>
                  </a:lnTo>
                  <a:lnTo>
                    <a:pt x="321" y="2653"/>
                  </a:lnTo>
                  <a:lnTo>
                    <a:pt x="306" y="2636"/>
                  </a:lnTo>
                  <a:lnTo>
                    <a:pt x="289" y="2613"/>
                  </a:lnTo>
                  <a:lnTo>
                    <a:pt x="276" y="2588"/>
                  </a:lnTo>
                  <a:lnTo>
                    <a:pt x="265" y="2561"/>
                  </a:lnTo>
                  <a:lnTo>
                    <a:pt x="259" y="2533"/>
                  </a:lnTo>
                  <a:lnTo>
                    <a:pt x="257" y="2502"/>
                  </a:lnTo>
                  <a:lnTo>
                    <a:pt x="257" y="2471"/>
                  </a:lnTo>
                  <a:lnTo>
                    <a:pt x="261" y="2440"/>
                  </a:lnTo>
                  <a:lnTo>
                    <a:pt x="268" y="2406"/>
                  </a:lnTo>
                  <a:lnTo>
                    <a:pt x="340" y="2164"/>
                  </a:lnTo>
                  <a:lnTo>
                    <a:pt x="362" y="2075"/>
                  </a:lnTo>
                  <a:lnTo>
                    <a:pt x="392" y="1929"/>
                  </a:lnTo>
                  <a:lnTo>
                    <a:pt x="396" y="1871"/>
                  </a:lnTo>
                  <a:lnTo>
                    <a:pt x="393" y="1547"/>
                  </a:lnTo>
                  <a:lnTo>
                    <a:pt x="398" y="1484"/>
                  </a:lnTo>
                  <a:lnTo>
                    <a:pt x="309" y="1560"/>
                  </a:lnTo>
                  <a:lnTo>
                    <a:pt x="223" y="1609"/>
                  </a:lnTo>
                  <a:lnTo>
                    <a:pt x="155" y="1640"/>
                  </a:lnTo>
                  <a:lnTo>
                    <a:pt x="109" y="1655"/>
                  </a:lnTo>
                  <a:lnTo>
                    <a:pt x="44" y="1674"/>
                  </a:lnTo>
                  <a:lnTo>
                    <a:pt x="20" y="1677"/>
                  </a:lnTo>
                  <a:lnTo>
                    <a:pt x="7" y="1674"/>
                  </a:lnTo>
                  <a:lnTo>
                    <a:pt x="0" y="1667"/>
                  </a:lnTo>
                  <a:lnTo>
                    <a:pt x="3" y="1653"/>
                  </a:lnTo>
                  <a:lnTo>
                    <a:pt x="58" y="1613"/>
                  </a:lnTo>
                  <a:lnTo>
                    <a:pt x="110" y="1579"/>
                  </a:lnTo>
                  <a:lnTo>
                    <a:pt x="178" y="1531"/>
                  </a:lnTo>
                  <a:lnTo>
                    <a:pt x="228" y="1488"/>
                  </a:lnTo>
                  <a:lnTo>
                    <a:pt x="313" y="1400"/>
                  </a:lnTo>
                  <a:lnTo>
                    <a:pt x="460" y="1217"/>
                  </a:lnTo>
                  <a:lnTo>
                    <a:pt x="508" y="1081"/>
                  </a:lnTo>
                  <a:lnTo>
                    <a:pt x="481" y="1074"/>
                  </a:lnTo>
                  <a:lnTo>
                    <a:pt x="444" y="1040"/>
                  </a:lnTo>
                  <a:lnTo>
                    <a:pt x="409" y="1043"/>
                  </a:lnTo>
                  <a:lnTo>
                    <a:pt x="391" y="1055"/>
                  </a:lnTo>
                  <a:lnTo>
                    <a:pt x="386" y="1081"/>
                  </a:lnTo>
                  <a:lnTo>
                    <a:pt x="385" y="1086"/>
                  </a:lnTo>
                  <a:lnTo>
                    <a:pt x="378" y="1091"/>
                  </a:lnTo>
                  <a:lnTo>
                    <a:pt x="348" y="1079"/>
                  </a:lnTo>
                  <a:lnTo>
                    <a:pt x="329" y="1084"/>
                  </a:lnTo>
                  <a:lnTo>
                    <a:pt x="303" y="1102"/>
                  </a:lnTo>
                  <a:lnTo>
                    <a:pt x="279" y="1103"/>
                  </a:lnTo>
                  <a:lnTo>
                    <a:pt x="272" y="1096"/>
                  </a:lnTo>
                  <a:lnTo>
                    <a:pt x="266" y="1079"/>
                  </a:lnTo>
                  <a:lnTo>
                    <a:pt x="272" y="1030"/>
                  </a:lnTo>
                  <a:lnTo>
                    <a:pt x="290" y="969"/>
                  </a:lnTo>
                  <a:lnTo>
                    <a:pt x="306" y="898"/>
                  </a:lnTo>
                  <a:lnTo>
                    <a:pt x="320" y="779"/>
                  </a:lnTo>
                  <a:lnTo>
                    <a:pt x="334" y="745"/>
                  </a:lnTo>
                  <a:lnTo>
                    <a:pt x="375" y="678"/>
                  </a:lnTo>
                  <a:lnTo>
                    <a:pt x="443" y="565"/>
                  </a:lnTo>
                  <a:lnTo>
                    <a:pt x="512" y="458"/>
                  </a:lnTo>
                  <a:lnTo>
                    <a:pt x="575" y="313"/>
                  </a:lnTo>
                  <a:lnTo>
                    <a:pt x="596" y="276"/>
                  </a:lnTo>
                  <a:lnTo>
                    <a:pt x="642" y="240"/>
                  </a:lnTo>
                  <a:lnTo>
                    <a:pt x="673" y="223"/>
                  </a:lnTo>
                  <a:lnTo>
                    <a:pt x="729" y="207"/>
                  </a:lnTo>
                  <a:lnTo>
                    <a:pt x="750" y="198"/>
                  </a:lnTo>
                  <a:lnTo>
                    <a:pt x="814" y="124"/>
                  </a:lnTo>
                  <a:lnTo>
                    <a:pt x="847" y="90"/>
                  </a:lnTo>
                  <a:lnTo>
                    <a:pt x="876" y="76"/>
                  </a:lnTo>
                  <a:lnTo>
                    <a:pt x="928" y="64"/>
                  </a:lnTo>
                  <a:lnTo>
                    <a:pt x="998" y="60"/>
                  </a:lnTo>
                  <a:lnTo>
                    <a:pt x="1073" y="60"/>
                  </a:lnTo>
                  <a:lnTo>
                    <a:pt x="1151" y="45"/>
                  </a:lnTo>
                  <a:lnTo>
                    <a:pt x="1210" y="21"/>
                  </a:lnTo>
                  <a:lnTo>
                    <a:pt x="1272" y="7"/>
                  </a:lnTo>
                  <a:lnTo>
                    <a:pt x="1354" y="0"/>
                  </a:lnTo>
                  <a:lnTo>
                    <a:pt x="1425" y="13"/>
                  </a:lnTo>
                  <a:lnTo>
                    <a:pt x="1480" y="38"/>
                  </a:lnTo>
                  <a:lnTo>
                    <a:pt x="1571" y="129"/>
                  </a:lnTo>
                  <a:lnTo>
                    <a:pt x="1621" y="167"/>
                  </a:lnTo>
                  <a:lnTo>
                    <a:pt x="1700" y="209"/>
                  </a:lnTo>
                  <a:lnTo>
                    <a:pt x="1815" y="248"/>
                  </a:lnTo>
                  <a:lnTo>
                    <a:pt x="1898" y="269"/>
                  </a:lnTo>
                  <a:lnTo>
                    <a:pt x="1968" y="292"/>
                  </a:lnTo>
                  <a:lnTo>
                    <a:pt x="2032" y="320"/>
                  </a:lnTo>
                  <a:lnTo>
                    <a:pt x="2063" y="344"/>
                  </a:lnTo>
                  <a:lnTo>
                    <a:pt x="2084" y="367"/>
                  </a:lnTo>
                  <a:lnTo>
                    <a:pt x="2098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427040" y="3093840"/>
              <a:ext cx="293760" cy="406080"/>
            </a:xfrm>
            <a:custGeom>
              <a:avLst/>
              <a:gdLst/>
              <a:ahLst/>
              <a:rect l="l" t="t" r="r" b="b"/>
              <a:pathLst>
                <a:path w="553" h="766">
                  <a:moveTo>
                    <a:pt x="86" y="510"/>
                  </a:moveTo>
                  <a:lnTo>
                    <a:pt x="88" y="510"/>
                  </a:lnTo>
                  <a:lnTo>
                    <a:pt x="92" y="507"/>
                  </a:lnTo>
                  <a:lnTo>
                    <a:pt x="99" y="496"/>
                  </a:lnTo>
                  <a:lnTo>
                    <a:pt x="115" y="486"/>
                  </a:lnTo>
                  <a:lnTo>
                    <a:pt x="165" y="452"/>
                  </a:lnTo>
                  <a:lnTo>
                    <a:pt x="184" y="432"/>
                  </a:lnTo>
                  <a:lnTo>
                    <a:pt x="202" y="397"/>
                  </a:lnTo>
                  <a:lnTo>
                    <a:pt x="220" y="321"/>
                  </a:lnTo>
                  <a:lnTo>
                    <a:pt x="192" y="260"/>
                  </a:lnTo>
                  <a:lnTo>
                    <a:pt x="153" y="212"/>
                  </a:lnTo>
                  <a:lnTo>
                    <a:pt x="101" y="173"/>
                  </a:lnTo>
                  <a:lnTo>
                    <a:pt x="43" y="112"/>
                  </a:lnTo>
                  <a:lnTo>
                    <a:pt x="24" y="97"/>
                  </a:lnTo>
                  <a:lnTo>
                    <a:pt x="22" y="93"/>
                  </a:lnTo>
                  <a:lnTo>
                    <a:pt x="9" y="81"/>
                  </a:lnTo>
                  <a:lnTo>
                    <a:pt x="0" y="67"/>
                  </a:lnTo>
                  <a:lnTo>
                    <a:pt x="0" y="46"/>
                  </a:lnTo>
                  <a:lnTo>
                    <a:pt x="3" y="41"/>
                  </a:lnTo>
                  <a:lnTo>
                    <a:pt x="8" y="38"/>
                  </a:lnTo>
                  <a:lnTo>
                    <a:pt x="15" y="43"/>
                  </a:lnTo>
                  <a:lnTo>
                    <a:pt x="34" y="66"/>
                  </a:lnTo>
                  <a:lnTo>
                    <a:pt x="44" y="69"/>
                  </a:lnTo>
                  <a:lnTo>
                    <a:pt x="78" y="93"/>
                  </a:lnTo>
                  <a:lnTo>
                    <a:pt x="86" y="93"/>
                  </a:lnTo>
                  <a:lnTo>
                    <a:pt x="88" y="93"/>
                  </a:lnTo>
                  <a:lnTo>
                    <a:pt x="88" y="87"/>
                  </a:lnTo>
                  <a:lnTo>
                    <a:pt x="70" y="79"/>
                  </a:lnTo>
                  <a:lnTo>
                    <a:pt x="43" y="45"/>
                  </a:lnTo>
                  <a:lnTo>
                    <a:pt x="39" y="36"/>
                  </a:lnTo>
                  <a:lnTo>
                    <a:pt x="36" y="3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47" y="14"/>
                  </a:lnTo>
                  <a:lnTo>
                    <a:pt x="106" y="19"/>
                  </a:lnTo>
                  <a:lnTo>
                    <a:pt x="137" y="5"/>
                  </a:lnTo>
                  <a:lnTo>
                    <a:pt x="191" y="0"/>
                  </a:lnTo>
                  <a:lnTo>
                    <a:pt x="249" y="4"/>
                  </a:lnTo>
                  <a:lnTo>
                    <a:pt x="268" y="18"/>
                  </a:lnTo>
                  <a:lnTo>
                    <a:pt x="330" y="31"/>
                  </a:lnTo>
                  <a:lnTo>
                    <a:pt x="419" y="34"/>
                  </a:lnTo>
                  <a:lnTo>
                    <a:pt x="442" y="38"/>
                  </a:lnTo>
                  <a:lnTo>
                    <a:pt x="495" y="69"/>
                  </a:lnTo>
                  <a:lnTo>
                    <a:pt x="528" y="104"/>
                  </a:lnTo>
                  <a:lnTo>
                    <a:pt x="540" y="141"/>
                  </a:lnTo>
                  <a:lnTo>
                    <a:pt x="550" y="187"/>
                  </a:lnTo>
                  <a:lnTo>
                    <a:pt x="549" y="256"/>
                  </a:lnTo>
                  <a:lnTo>
                    <a:pt x="542" y="329"/>
                  </a:lnTo>
                  <a:lnTo>
                    <a:pt x="543" y="390"/>
                  </a:lnTo>
                  <a:lnTo>
                    <a:pt x="553" y="451"/>
                  </a:lnTo>
                  <a:lnTo>
                    <a:pt x="552" y="493"/>
                  </a:lnTo>
                  <a:lnTo>
                    <a:pt x="515" y="527"/>
                  </a:lnTo>
                  <a:lnTo>
                    <a:pt x="464" y="558"/>
                  </a:lnTo>
                  <a:lnTo>
                    <a:pt x="421" y="560"/>
                  </a:lnTo>
                  <a:lnTo>
                    <a:pt x="412" y="558"/>
                  </a:lnTo>
                  <a:lnTo>
                    <a:pt x="405" y="567"/>
                  </a:lnTo>
                  <a:lnTo>
                    <a:pt x="392" y="607"/>
                  </a:lnTo>
                  <a:lnTo>
                    <a:pt x="364" y="645"/>
                  </a:lnTo>
                  <a:lnTo>
                    <a:pt x="336" y="666"/>
                  </a:lnTo>
                  <a:lnTo>
                    <a:pt x="290" y="667"/>
                  </a:lnTo>
                  <a:lnTo>
                    <a:pt x="267" y="677"/>
                  </a:lnTo>
                  <a:lnTo>
                    <a:pt x="257" y="696"/>
                  </a:lnTo>
                  <a:lnTo>
                    <a:pt x="244" y="741"/>
                  </a:lnTo>
                  <a:lnTo>
                    <a:pt x="226" y="766"/>
                  </a:lnTo>
                  <a:lnTo>
                    <a:pt x="215" y="763"/>
                  </a:lnTo>
                  <a:lnTo>
                    <a:pt x="189" y="741"/>
                  </a:lnTo>
                  <a:lnTo>
                    <a:pt x="146" y="680"/>
                  </a:lnTo>
                  <a:lnTo>
                    <a:pt x="134" y="662"/>
                  </a:lnTo>
                  <a:lnTo>
                    <a:pt x="96" y="577"/>
                  </a:lnTo>
                  <a:lnTo>
                    <a:pt x="88" y="563"/>
                  </a:lnTo>
                  <a:lnTo>
                    <a:pt x="86" y="510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942840" y="3546360"/>
              <a:ext cx="84240" cy="20160"/>
            </a:xfrm>
            <a:custGeom>
              <a:avLst/>
              <a:gdLst/>
              <a:ahLst/>
              <a:rect l="l" t="t" r="r" b="b"/>
              <a:pathLst>
                <a:path w="158" h="38">
                  <a:moveTo>
                    <a:pt x="0" y="12"/>
                  </a:moveTo>
                  <a:lnTo>
                    <a:pt x="87" y="17"/>
                  </a:lnTo>
                  <a:lnTo>
                    <a:pt x="128" y="31"/>
                  </a:lnTo>
                  <a:lnTo>
                    <a:pt x="155" y="38"/>
                  </a:lnTo>
                  <a:lnTo>
                    <a:pt x="158" y="32"/>
                  </a:lnTo>
                  <a:lnTo>
                    <a:pt x="140" y="24"/>
                  </a:lnTo>
                  <a:lnTo>
                    <a:pt x="87" y="7"/>
                  </a:lnTo>
                  <a:lnTo>
                    <a:pt x="47" y="0"/>
                  </a:lnTo>
                  <a:lnTo>
                    <a:pt x="3" y="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933480" y="3570120"/>
              <a:ext cx="49320" cy="756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0" y="10"/>
                  </a:moveTo>
                  <a:lnTo>
                    <a:pt x="73" y="13"/>
                  </a:lnTo>
                  <a:lnTo>
                    <a:pt x="84" y="15"/>
                  </a:lnTo>
                  <a:lnTo>
                    <a:pt x="94" y="14"/>
                  </a:lnTo>
                  <a:lnTo>
                    <a:pt x="73" y="3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920880" y="3611520"/>
              <a:ext cx="33120" cy="1224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7"/>
                  </a:moveTo>
                  <a:lnTo>
                    <a:pt x="2" y="0"/>
                  </a:lnTo>
                  <a:lnTo>
                    <a:pt x="28" y="10"/>
                  </a:lnTo>
                  <a:lnTo>
                    <a:pt x="61" y="17"/>
                  </a:lnTo>
                  <a:lnTo>
                    <a:pt x="59" y="2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925560" y="3590640"/>
              <a:ext cx="44280" cy="1080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5"/>
                  </a:moveTo>
                  <a:lnTo>
                    <a:pt x="42" y="0"/>
                  </a:lnTo>
                  <a:lnTo>
                    <a:pt x="81" y="13"/>
                  </a:lnTo>
                  <a:lnTo>
                    <a:pt x="83" y="21"/>
                  </a:lnTo>
                  <a:lnTo>
                    <a:pt x="43" y="10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903240" y="2939760"/>
              <a:ext cx="900000" cy="933120"/>
            </a:xfrm>
            <a:custGeom>
              <a:avLst/>
              <a:gdLst/>
              <a:ahLst/>
              <a:rect l="l" t="t" r="r" b="b"/>
              <a:pathLst>
                <a:path w="1702" h="1765">
                  <a:moveTo>
                    <a:pt x="681" y="1182"/>
                  </a:moveTo>
                  <a:lnTo>
                    <a:pt x="643" y="1217"/>
                  </a:lnTo>
                  <a:lnTo>
                    <a:pt x="603" y="1245"/>
                  </a:lnTo>
                  <a:lnTo>
                    <a:pt x="605" y="1225"/>
                  </a:lnTo>
                  <a:lnTo>
                    <a:pt x="615" y="1214"/>
                  </a:lnTo>
                  <a:lnTo>
                    <a:pt x="616" y="1169"/>
                  </a:lnTo>
                  <a:lnTo>
                    <a:pt x="612" y="1149"/>
                  </a:lnTo>
                  <a:lnTo>
                    <a:pt x="599" y="1131"/>
                  </a:lnTo>
                  <a:lnTo>
                    <a:pt x="575" y="1110"/>
                  </a:lnTo>
                  <a:lnTo>
                    <a:pt x="550" y="1096"/>
                  </a:lnTo>
                  <a:lnTo>
                    <a:pt x="536" y="1091"/>
                  </a:lnTo>
                  <a:lnTo>
                    <a:pt x="510" y="1103"/>
                  </a:lnTo>
                  <a:lnTo>
                    <a:pt x="483" y="1122"/>
                  </a:lnTo>
                  <a:lnTo>
                    <a:pt x="481" y="1128"/>
                  </a:lnTo>
                  <a:lnTo>
                    <a:pt x="464" y="1141"/>
                  </a:lnTo>
                  <a:lnTo>
                    <a:pt x="443" y="1172"/>
                  </a:lnTo>
                  <a:lnTo>
                    <a:pt x="416" y="1224"/>
                  </a:lnTo>
                  <a:lnTo>
                    <a:pt x="414" y="1225"/>
                  </a:lnTo>
                  <a:lnTo>
                    <a:pt x="413" y="1180"/>
                  </a:lnTo>
                  <a:lnTo>
                    <a:pt x="419" y="1156"/>
                  </a:lnTo>
                  <a:lnTo>
                    <a:pt x="423" y="1148"/>
                  </a:lnTo>
                  <a:lnTo>
                    <a:pt x="423" y="1141"/>
                  </a:lnTo>
                  <a:lnTo>
                    <a:pt x="448" y="1096"/>
                  </a:lnTo>
                  <a:lnTo>
                    <a:pt x="457" y="1089"/>
                  </a:lnTo>
                  <a:lnTo>
                    <a:pt x="461" y="1084"/>
                  </a:lnTo>
                  <a:lnTo>
                    <a:pt x="460" y="1082"/>
                  </a:lnTo>
                  <a:lnTo>
                    <a:pt x="445" y="1089"/>
                  </a:lnTo>
                  <a:lnTo>
                    <a:pt x="414" y="1134"/>
                  </a:lnTo>
                  <a:lnTo>
                    <a:pt x="414" y="1135"/>
                  </a:lnTo>
                  <a:lnTo>
                    <a:pt x="413" y="1137"/>
                  </a:lnTo>
                  <a:lnTo>
                    <a:pt x="414" y="1115"/>
                  </a:lnTo>
                  <a:lnTo>
                    <a:pt x="434" y="1073"/>
                  </a:lnTo>
                  <a:lnTo>
                    <a:pt x="452" y="1049"/>
                  </a:lnTo>
                  <a:lnTo>
                    <a:pt x="452" y="1046"/>
                  </a:lnTo>
                  <a:lnTo>
                    <a:pt x="443" y="1045"/>
                  </a:lnTo>
                  <a:lnTo>
                    <a:pt x="468" y="1011"/>
                  </a:lnTo>
                  <a:lnTo>
                    <a:pt x="468" y="993"/>
                  </a:lnTo>
                  <a:lnTo>
                    <a:pt x="474" y="962"/>
                  </a:lnTo>
                  <a:lnTo>
                    <a:pt x="471" y="949"/>
                  </a:lnTo>
                  <a:lnTo>
                    <a:pt x="471" y="928"/>
                  </a:lnTo>
                  <a:lnTo>
                    <a:pt x="468" y="914"/>
                  </a:lnTo>
                  <a:lnTo>
                    <a:pt x="468" y="913"/>
                  </a:lnTo>
                  <a:lnTo>
                    <a:pt x="467" y="911"/>
                  </a:lnTo>
                  <a:lnTo>
                    <a:pt x="460" y="924"/>
                  </a:lnTo>
                  <a:lnTo>
                    <a:pt x="455" y="973"/>
                  </a:lnTo>
                  <a:lnTo>
                    <a:pt x="414" y="1066"/>
                  </a:lnTo>
                  <a:lnTo>
                    <a:pt x="389" y="1155"/>
                  </a:lnTo>
                  <a:lnTo>
                    <a:pt x="389" y="1180"/>
                  </a:lnTo>
                  <a:lnTo>
                    <a:pt x="395" y="1200"/>
                  </a:lnTo>
                  <a:lnTo>
                    <a:pt x="390" y="1231"/>
                  </a:lnTo>
                  <a:lnTo>
                    <a:pt x="395" y="1255"/>
                  </a:lnTo>
                  <a:lnTo>
                    <a:pt x="402" y="1265"/>
                  </a:lnTo>
                  <a:lnTo>
                    <a:pt x="385" y="1315"/>
                  </a:lnTo>
                  <a:lnTo>
                    <a:pt x="348" y="1400"/>
                  </a:lnTo>
                  <a:lnTo>
                    <a:pt x="297" y="1483"/>
                  </a:lnTo>
                  <a:lnTo>
                    <a:pt x="237" y="1560"/>
                  </a:lnTo>
                  <a:lnTo>
                    <a:pt x="155" y="1641"/>
                  </a:lnTo>
                  <a:lnTo>
                    <a:pt x="61" y="1715"/>
                  </a:lnTo>
                  <a:lnTo>
                    <a:pt x="1" y="1765"/>
                  </a:lnTo>
                  <a:lnTo>
                    <a:pt x="0" y="1648"/>
                  </a:lnTo>
                  <a:lnTo>
                    <a:pt x="0" y="1572"/>
                  </a:lnTo>
                  <a:lnTo>
                    <a:pt x="0" y="1527"/>
                  </a:lnTo>
                  <a:lnTo>
                    <a:pt x="11" y="1424"/>
                  </a:lnTo>
                  <a:lnTo>
                    <a:pt x="44" y="1260"/>
                  </a:lnTo>
                  <a:lnTo>
                    <a:pt x="62" y="1211"/>
                  </a:lnTo>
                  <a:lnTo>
                    <a:pt x="110" y="1084"/>
                  </a:lnTo>
                  <a:lnTo>
                    <a:pt x="124" y="1049"/>
                  </a:lnTo>
                  <a:lnTo>
                    <a:pt x="147" y="986"/>
                  </a:lnTo>
                  <a:lnTo>
                    <a:pt x="170" y="887"/>
                  </a:lnTo>
                  <a:lnTo>
                    <a:pt x="178" y="820"/>
                  </a:lnTo>
                  <a:lnTo>
                    <a:pt x="183" y="751"/>
                  </a:lnTo>
                  <a:lnTo>
                    <a:pt x="168" y="655"/>
                  </a:lnTo>
                  <a:lnTo>
                    <a:pt x="158" y="591"/>
                  </a:lnTo>
                  <a:lnTo>
                    <a:pt x="173" y="551"/>
                  </a:lnTo>
                  <a:lnTo>
                    <a:pt x="185" y="515"/>
                  </a:lnTo>
                  <a:lnTo>
                    <a:pt x="204" y="467"/>
                  </a:lnTo>
                  <a:lnTo>
                    <a:pt x="211" y="428"/>
                  </a:lnTo>
                  <a:lnTo>
                    <a:pt x="220" y="390"/>
                  </a:lnTo>
                  <a:lnTo>
                    <a:pt x="235" y="358"/>
                  </a:lnTo>
                  <a:lnTo>
                    <a:pt x="313" y="252"/>
                  </a:lnTo>
                  <a:lnTo>
                    <a:pt x="366" y="189"/>
                  </a:lnTo>
                  <a:lnTo>
                    <a:pt x="420" y="124"/>
                  </a:lnTo>
                  <a:lnTo>
                    <a:pt x="452" y="94"/>
                  </a:lnTo>
                  <a:lnTo>
                    <a:pt x="506" y="70"/>
                  </a:lnTo>
                  <a:lnTo>
                    <a:pt x="543" y="65"/>
                  </a:lnTo>
                  <a:lnTo>
                    <a:pt x="595" y="63"/>
                  </a:lnTo>
                  <a:lnTo>
                    <a:pt x="674" y="59"/>
                  </a:lnTo>
                  <a:lnTo>
                    <a:pt x="744" y="42"/>
                  </a:lnTo>
                  <a:lnTo>
                    <a:pt x="842" y="12"/>
                  </a:lnTo>
                  <a:lnTo>
                    <a:pt x="935" y="0"/>
                  </a:lnTo>
                  <a:lnTo>
                    <a:pt x="1005" y="14"/>
                  </a:lnTo>
                  <a:lnTo>
                    <a:pt x="1062" y="36"/>
                  </a:lnTo>
                  <a:lnTo>
                    <a:pt x="1121" y="89"/>
                  </a:lnTo>
                  <a:lnTo>
                    <a:pt x="1173" y="142"/>
                  </a:lnTo>
                  <a:lnTo>
                    <a:pt x="1256" y="194"/>
                  </a:lnTo>
                  <a:lnTo>
                    <a:pt x="1404" y="246"/>
                  </a:lnTo>
                  <a:lnTo>
                    <a:pt x="1469" y="263"/>
                  </a:lnTo>
                  <a:lnTo>
                    <a:pt x="1548" y="289"/>
                  </a:lnTo>
                  <a:lnTo>
                    <a:pt x="1626" y="325"/>
                  </a:lnTo>
                  <a:lnTo>
                    <a:pt x="1671" y="372"/>
                  </a:lnTo>
                  <a:lnTo>
                    <a:pt x="1685" y="424"/>
                  </a:lnTo>
                  <a:lnTo>
                    <a:pt x="1690" y="459"/>
                  </a:lnTo>
                  <a:lnTo>
                    <a:pt x="1695" y="517"/>
                  </a:lnTo>
                  <a:lnTo>
                    <a:pt x="1686" y="590"/>
                  </a:lnTo>
                  <a:lnTo>
                    <a:pt x="1688" y="672"/>
                  </a:lnTo>
                  <a:lnTo>
                    <a:pt x="1692" y="697"/>
                  </a:lnTo>
                  <a:lnTo>
                    <a:pt x="1702" y="786"/>
                  </a:lnTo>
                  <a:lnTo>
                    <a:pt x="1699" y="815"/>
                  </a:lnTo>
                  <a:lnTo>
                    <a:pt x="1655" y="818"/>
                  </a:lnTo>
                  <a:lnTo>
                    <a:pt x="1620" y="842"/>
                  </a:lnTo>
                  <a:lnTo>
                    <a:pt x="1600" y="760"/>
                  </a:lnTo>
                  <a:lnTo>
                    <a:pt x="1603" y="704"/>
                  </a:lnTo>
                  <a:lnTo>
                    <a:pt x="1604" y="662"/>
                  </a:lnTo>
                  <a:lnTo>
                    <a:pt x="1610" y="559"/>
                  </a:lnTo>
                  <a:lnTo>
                    <a:pt x="1621" y="466"/>
                  </a:lnTo>
                  <a:lnTo>
                    <a:pt x="1614" y="417"/>
                  </a:lnTo>
                  <a:lnTo>
                    <a:pt x="1589" y="380"/>
                  </a:lnTo>
                  <a:lnTo>
                    <a:pt x="1555" y="353"/>
                  </a:lnTo>
                  <a:lnTo>
                    <a:pt x="1527" y="336"/>
                  </a:lnTo>
                  <a:lnTo>
                    <a:pt x="1454" y="320"/>
                  </a:lnTo>
                  <a:lnTo>
                    <a:pt x="1407" y="317"/>
                  </a:lnTo>
                  <a:lnTo>
                    <a:pt x="1338" y="314"/>
                  </a:lnTo>
                  <a:lnTo>
                    <a:pt x="1262" y="297"/>
                  </a:lnTo>
                  <a:lnTo>
                    <a:pt x="1222" y="259"/>
                  </a:lnTo>
                  <a:lnTo>
                    <a:pt x="1186" y="218"/>
                  </a:lnTo>
                  <a:lnTo>
                    <a:pt x="1146" y="189"/>
                  </a:lnTo>
                  <a:lnTo>
                    <a:pt x="1126" y="183"/>
                  </a:lnTo>
                  <a:lnTo>
                    <a:pt x="1101" y="180"/>
                  </a:lnTo>
                  <a:lnTo>
                    <a:pt x="1069" y="187"/>
                  </a:lnTo>
                  <a:lnTo>
                    <a:pt x="1028" y="218"/>
                  </a:lnTo>
                  <a:lnTo>
                    <a:pt x="961" y="269"/>
                  </a:lnTo>
                  <a:lnTo>
                    <a:pt x="940" y="310"/>
                  </a:lnTo>
                  <a:lnTo>
                    <a:pt x="939" y="329"/>
                  </a:lnTo>
                  <a:lnTo>
                    <a:pt x="953" y="355"/>
                  </a:lnTo>
                  <a:lnTo>
                    <a:pt x="980" y="386"/>
                  </a:lnTo>
                  <a:lnTo>
                    <a:pt x="1049" y="439"/>
                  </a:lnTo>
                  <a:lnTo>
                    <a:pt x="1090" y="474"/>
                  </a:lnTo>
                  <a:lnTo>
                    <a:pt x="1126" y="501"/>
                  </a:lnTo>
                  <a:lnTo>
                    <a:pt x="1155" y="536"/>
                  </a:lnTo>
                  <a:lnTo>
                    <a:pt x="1184" y="580"/>
                  </a:lnTo>
                  <a:lnTo>
                    <a:pt x="1197" y="614"/>
                  </a:lnTo>
                  <a:lnTo>
                    <a:pt x="1194" y="638"/>
                  </a:lnTo>
                  <a:lnTo>
                    <a:pt x="1188" y="672"/>
                  </a:lnTo>
                  <a:lnTo>
                    <a:pt x="1176" y="693"/>
                  </a:lnTo>
                  <a:lnTo>
                    <a:pt x="1155" y="729"/>
                  </a:lnTo>
                  <a:lnTo>
                    <a:pt x="1129" y="749"/>
                  </a:lnTo>
                  <a:lnTo>
                    <a:pt x="1105" y="767"/>
                  </a:lnTo>
                  <a:lnTo>
                    <a:pt x="1093" y="776"/>
                  </a:lnTo>
                  <a:lnTo>
                    <a:pt x="1073" y="790"/>
                  </a:lnTo>
                  <a:lnTo>
                    <a:pt x="1056" y="821"/>
                  </a:lnTo>
                  <a:lnTo>
                    <a:pt x="1008" y="811"/>
                  </a:lnTo>
                  <a:lnTo>
                    <a:pt x="1004" y="815"/>
                  </a:lnTo>
                  <a:lnTo>
                    <a:pt x="1023" y="842"/>
                  </a:lnTo>
                  <a:lnTo>
                    <a:pt x="1032" y="896"/>
                  </a:lnTo>
                  <a:lnTo>
                    <a:pt x="1032" y="956"/>
                  </a:lnTo>
                  <a:lnTo>
                    <a:pt x="1023" y="980"/>
                  </a:lnTo>
                  <a:lnTo>
                    <a:pt x="1016" y="997"/>
                  </a:lnTo>
                  <a:lnTo>
                    <a:pt x="967" y="1018"/>
                  </a:lnTo>
                  <a:lnTo>
                    <a:pt x="901" y="1049"/>
                  </a:lnTo>
                  <a:lnTo>
                    <a:pt x="826" y="1096"/>
                  </a:lnTo>
                  <a:lnTo>
                    <a:pt x="804" y="1104"/>
                  </a:lnTo>
                  <a:lnTo>
                    <a:pt x="708" y="1156"/>
                  </a:lnTo>
                  <a:lnTo>
                    <a:pt x="681" y="1182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55680" y="3130560"/>
              <a:ext cx="795600" cy="1459800"/>
            </a:xfrm>
            <a:custGeom>
              <a:avLst/>
              <a:gdLst/>
              <a:ahLst/>
              <a:rect l="l" t="t" r="r" b="b"/>
              <a:pathLst>
                <a:path w="1503" h="2760">
                  <a:moveTo>
                    <a:pt x="0" y="1782"/>
                  </a:moveTo>
                  <a:lnTo>
                    <a:pt x="137" y="1761"/>
                  </a:lnTo>
                  <a:lnTo>
                    <a:pt x="254" y="1741"/>
                  </a:lnTo>
                  <a:lnTo>
                    <a:pt x="334" y="1719"/>
                  </a:lnTo>
                  <a:lnTo>
                    <a:pt x="364" y="1775"/>
                  </a:lnTo>
                  <a:lnTo>
                    <a:pt x="410" y="1785"/>
                  </a:lnTo>
                  <a:lnTo>
                    <a:pt x="504" y="1977"/>
                  </a:lnTo>
                  <a:lnTo>
                    <a:pt x="567" y="2071"/>
                  </a:lnTo>
                  <a:lnTo>
                    <a:pt x="561" y="2198"/>
                  </a:lnTo>
                  <a:lnTo>
                    <a:pt x="553" y="2295"/>
                  </a:lnTo>
                  <a:lnTo>
                    <a:pt x="525" y="2403"/>
                  </a:lnTo>
                  <a:lnTo>
                    <a:pt x="496" y="2472"/>
                  </a:lnTo>
                  <a:lnTo>
                    <a:pt x="458" y="2558"/>
                  </a:lnTo>
                  <a:lnTo>
                    <a:pt x="425" y="2622"/>
                  </a:lnTo>
                  <a:lnTo>
                    <a:pt x="418" y="2656"/>
                  </a:lnTo>
                  <a:lnTo>
                    <a:pt x="420" y="2675"/>
                  </a:lnTo>
                  <a:lnTo>
                    <a:pt x="450" y="2712"/>
                  </a:lnTo>
                  <a:lnTo>
                    <a:pt x="478" y="2729"/>
                  </a:lnTo>
                  <a:lnTo>
                    <a:pt x="516" y="2734"/>
                  </a:lnTo>
                  <a:lnTo>
                    <a:pt x="556" y="2729"/>
                  </a:lnTo>
                  <a:lnTo>
                    <a:pt x="561" y="2737"/>
                  </a:lnTo>
                  <a:lnTo>
                    <a:pt x="604" y="2753"/>
                  </a:lnTo>
                  <a:lnTo>
                    <a:pt x="667" y="2760"/>
                  </a:lnTo>
                  <a:lnTo>
                    <a:pt x="716" y="2751"/>
                  </a:lnTo>
                  <a:lnTo>
                    <a:pt x="739" y="2734"/>
                  </a:lnTo>
                  <a:lnTo>
                    <a:pt x="760" y="2744"/>
                  </a:lnTo>
                  <a:lnTo>
                    <a:pt x="801" y="2746"/>
                  </a:lnTo>
                  <a:lnTo>
                    <a:pt x="843" y="2734"/>
                  </a:lnTo>
                  <a:lnTo>
                    <a:pt x="887" y="2710"/>
                  </a:lnTo>
                  <a:lnTo>
                    <a:pt x="900" y="2695"/>
                  </a:lnTo>
                  <a:lnTo>
                    <a:pt x="904" y="2678"/>
                  </a:lnTo>
                  <a:lnTo>
                    <a:pt x="915" y="2658"/>
                  </a:lnTo>
                  <a:lnTo>
                    <a:pt x="928" y="2615"/>
                  </a:lnTo>
                  <a:lnTo>
                    <a:pt x="922" y="2564"/>
                  </a:lnTo>
                  <a:lnTo>
                    <a:pt x="904" y="2532"/>
                  </a:lnTo>
                  <a:lnTo>
                    <a:pt x="904" y="2525"/>
                  </a:lnTo>
                  <a:lnTo>
                    <a:pt x="963" y="2520"/>
                  </a:lnTo>
                  <a:lnTo>
                    <a:pt x="1001" y="2508"/>
                  </a:lnTo>
                  <a:lnTo>
                    <a:pt x="1083" y="2492"/>
                  </a:lnTo>
                  <a:lnTo>
                    <a:pt x="1113" y="2468"/>
                  </a:lnTo>
                  <a:lnTo>
                    <a:pt x="1120" y="2457"/>
                  </a:lnTo>
                  <a:lnTo>
                    <a:pt x="1120" y="2413"/>
                  </a:lnTo>
                  <a:lnTo>
                    <a:pt x="1107" y="2358"/>
                  </a:lnTo>
                  <a:lnTo>
                    <a:pt x="1089" y="2313"/>
                  </a:lnTo>
                  <a:lnTo>
                    <a:pt x="1083" y="2275"/>
                  </a:lnTo>
                  <a:lnTo>
                    <a:pt x="1084" y="2219"/>
                  </a:lnTo>
                  <a:lnTo>
                    <a:pt x="1077" y="2198"/>
                  </a:lnTo>
                  <a:lnTo>
                    <a:pt x="1068" y="2184"/>
                  </a:lnTo>
                  <a:lnTo>
                    <a:pt x="1039" y="2158"/>
                  </a:lnTo>
                  <a:lnTo>
                    <a:pt x="1005" y="2103"/>
                  </a:lnTo>
                  <a:lnTo>
                    <a:pt x="982" y="2020"/>
                  </a:lnTo>
                  <a:lnTo>
                    <a:pt x="969" y="1930"/>
                  </a:lnTo>
                  <a:lnTo>
                    <a:pt x="1013" y="1826"/>
                  </a:lnTo>
                  <a:lnTo>
                    <a:pt x="1024" y="1755"/>
                  </a:lnTo>
                  <a:lnTo>
                    <a:pt x="1073" y="1654"/>
                  </a:lnTo>
                  <a:lnTo>
                    <a:pt x="1162" y="1453"/>
                  </a:lnTo>
                  <a:lnTo>
                    <a:pt x="1193" y="1531"/>
                  </a:lnTo>
                  <a:lnTo>
                    <a:pt x="1196" y="1553"/>
                  </a:lnTo>
                  <a:lnTo>
                    <a:pt x="1231" y="1643"/>
                  </a:lnTo>
                  <a:lnTo>
                    <a:pt x="1266" y="1748"/>
                  </a:lnTo>
                  <a:lnTo>
                    <a:pt x="1266" y="1770"/>
                  </a:lnTo>
                  <a:lnTo>
                    <a:pt x="1275" y="1785"/>
                  </a:lnTo>
                  <a:lnTo>
                    <a:pt x="1300" y="1826"/>
                  </a:lnTo>
                  <a:lnTo>
                    <a:pt x="1304" y="1836"/>
                  </a:lnTo>
                  <a:lnTo>
                    <a:pt x="1318" y="1885"/>
                  </a:lnTo>
                  <a:lnTo>
                    <a:pt x="1337" y="1922"/>
                  </a:lnTo>
                  <a:lnTo>
                    <a:pt x="1386" y="1955"/>
                  </a:lnTo>
                  <a:lnTo>
                    <a:pt x="1399" y="1955"/>
                  </a:lnTo>
                  <a:lnTo>
                    <a:pt x="1379" y="1933"/>
                  </a:lnTo>
                  <a:lnTo>
                    <a:pt x="1393" y="1939"/>
                  </a:lnTo>
                  <a:lnTo>
                    <a:pt x="1434" y="1974"/>
                  </a:lnTo>
                  <a:lnTo>
                    <a:pt x="1430" y="1948"/>
                  </a:lnTo>
                  <a:lnTo>
                    <a:pt x="1454" y="1955"/>
                  </a:lnTo>
                  <a:lnTo>
                    <a:pt x="1489" y="1977"/>
                  </a:lnTo>
                  <a:lnTo>
                    <a:pt x="1503" y="1978"/>
                  </a:lnTo>
                  <a:lnTo>
                    <a:pt x="1489" y="1964"/>
                  </a:lnTo>
                  <a:lnTo>
                    <a:pt x="1492" y="1958"/>
                  </a:lnTo>
                  <a:lnTo>
                    <a:pt x="1481" y="1943"/>
                  </a:lnTo>
                  <a:lnTo>
                    <a:pt x="1488" y="1944"/>
                  </a:lnTo>
                  <a:lnTo>
                    <a:pt x="1493" y="1939"/>
                  </a:lnTo>
                  <a:lnTo>
                    <a:pt x="1467" y="1926"/>
                  </a:lnTo>
                  <a:lnTo>
                    <a:pt x="1444" y="1892"/>
                  </a:lnTo>
                  <a:lnTo>
                    <a:pt x="1399" y="1837"/>
                  </a:lnTo>
                  <a:lnTo>
                    <a:pt x="1389" y="1830"/>
                  </a:lnTo>
                  <a:lnTo>
                    <a:pt x="1340" y="1801"/>
                  </a:lnTo>
                  <a:lnTo>
                    <a:pt x="1310" y="1744"/>
                  </a:lnTo>
                  <a:lnTo>
                    <a:pt x="1306" y="1732"/>
                  </a:lnTo>
                  <a:lnTo>
                    <a:pt x="1293" y="1654"/>
                  </a:lnTo>
                  <a:lnTo>
                    <a:pt x="1271" y="1567"/>
                  </a:lnTo>
                  <a:lnTo>
                    <a:pt x="1248" y="1491"/>
                  </a:lnTo>
                  <a:lnTo>
                    <a:pt x="1235" y="1395"/>
                  </a:lnTo>
                  <a:lnTo>
                    <a:pt x="1231" y="1255"/>
                  </a:lnTo>
                  <a:lnTo>
                    <a:pt x="1272" y="1129"/>
                  </a:lnTo>
                  <a:lnTo>
                    <a:pt x="1275" y="1106"/>
                  </a:lnTo>
                  <a:lnTo>
                    <a:pt x="1280" y="933"/>
                  </a:lnTo>
                  <a:lnTo>
                    <a:pt x="1292" y="823"/>
                  </a:lnTo>
                  <a:lnTo>
                    <a:pt x="1292" y="805"/>
                  </a:lnTo>
                  <a:lnTo>
                    <a:pt x="1280" y="748"/>
                  </a:lnTo>
                  <a:lnTo>
                    <a:pt x="1255" y="684"/>
                  </a:lnTo>
                  <a:lnTo>
                    <a:pt x="1209" y="560"/>
                  </a:lnTo>
                  <a:lnTo>
                    <a:pt x="1165" y="419"/>
                  </a:lnTo>
                  <a:lnTo>
                    <a:pt x="1113" y="314"/>
                  </a:lnTo>
                  <a:lnTo>
                    <a:pt x="1101" y="298"/>
                  </a:lnTo>
                  <a:lnTo>
                    <a:pt x="1086" y="285"/>
                  </a:lnTo>
                  <a:lnTo>
                    <a:pt x="822" y="133"/>
                  </a:lnTo>
                  <a:lnTo>
                    <a:pt x="791" y="123"/>
                  </a:lnTo>
                  <a:lnTo>
                    <a:pt x="647" y="126"/>
                  </a:lnTo>
                  <a:lnTo>
                    <a:pt x="505" y="133"/>
                  </a:lnTo>
                  <a:lnTo>
                    <a:pt x="465" y="131"/>
                  </a:lnTo>
                  <a:lnTo>
                    <a:pt x="415" y="127"/>
                  </a:lnTo>
                  <a:lnTo>
                    <a:pt x="324" y="110"/>
                  </a:lnTo>
                  <a:lnTo>
                    <a:pt x="205" y="74"/>
                  </a:lnTo>
                  <a:lnTo>
                    <a:pt x="2" y="0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212840" y="3114360"/>
              <a:ext cx="942840" cy="1569960"/>
            </a:xfrm>
            <a:custGeom>
              <a:avLst/>
              <a:gdLst/>
              <a:ahLst/>
              <a:rect l="l" t="t" r="r" b="b"/>
              <a:pathLst>
                <a:path w="1783" h="2966">
                  <a:moveTo>
                    <a:pt x="1783" y="1810"/>
                  </a:moveTo>
                  <a:lnTo>
                    <a:pt x="1783" y="29"/>
                  </a:lnTo>
                  <a:lnTo>
                    <a:pt x="1699" y="11"/>
                  </a:lnTo>
                  <a:lnTo>
                    <a:pt x="1606" y="4"/>
                  </a:lnTo>
                  <a:lnTo>
                    <a:pt x="1475" y="0"/>
                  </a:lnTo>
                  <a:lnTo>
                    <a:pt x="1378" y="7"/>
                  </a:lnTo>
                  <a:lnTo>
                    <a:pt x="1262" y="31"/>
                  </a:lnTo>
                  <a:lnTo>
                    <a:pt x="1202" y="42"/>
                  </a:lnTo>
                  <a:lnTo>
                    <a:pt x="1103" y="52"/>
                  </a:lnTo>
                  <a:lnTo>
                    <a:pt x="1104" y="84"/>
                  </a:lnTo>
                  <a:lnTo>
                    <a:pt x="1114" y="170"/>
                  </a:lnTo>
                  <a:lnTo>
                    <a:pt x="1106" y="304"/>
                  </a:lnTo>
                  <a:lnTo>
                    <a:pt x="1128" y="491"/>
                  </a:lnTo>
                  <a:lnTo>
                    <a:pt x="1086" y="489"/>
                  </a:lnTo>
                  <a:lnTo>
                    <a:pt x="1059" y="500"/>
                  </a:lnTo>
                  <a:lnTo>
                    <a:pt x="1030" y="521"/>
                  </a:lnTo>
                  <a:lnTo>
                    <a:pt x="1009" y="453"/>
                  </a:lnTo>
                  <a:lnTo>
                    <a:pt x="934" y="484"/>
                  </a:lnTo>
                  <a:lnTo>
                    <a:pt x="886" y="527"/>
                  </a:lnTo>
                  <a:lnTo>
                    <a:pt x="821" y="532"/>
                  </a:lnTo>
                  <a:lnTo>
                    <a:pt x="793" y="591"/>
                  </a:lnTo>
                  <a:lnTo>
                    <a:pt x="739" y="635"/>
                  </a:lnTo>
                  <a:lnTo>
                    <a:pt x="676" y="649"/>
                  </a:lnTo>
                  <a:lnTo>
                    <a:pt x="641" y="732"/>
                  </a:lnTo>
                  <a:lnTo>
                    <a:pt x="619" y="748"/>
                  </a:lnTo>
                  <a:lnTo>
                    <a:pt x="615" y="776"/>
                  </a:lnTo>
                  <a:lnTo>
                    <a:pt x="549" y="856"/>
                  </a:lnTo>
                  <a:lnTo>
                    <a:pt x="519" y="906"/>
                  </a:lnTo>
                  <a:lnTo>
                    <a:pt x="494" y="969"/>
                  </a:lnTo>
                  <a:lnTo>
                    <a:pt x="470" y="998"/>
                  </a:lnTo>
                  <a:lnTo>
                    <a:pt x="460" y="991"/>
                  </a:lnTo>
                  <a:lnTo>
                    <a:pt x="449" y="977"/>
                  </a:lnTo>
                  <a:lnTo>
                    <a:pt x="406" y="979"/>
                  </a:lnTo>
                  <a:lnTo>
                    <a:pt x="343" y="996"/>
                  </a:lnTo>
                  <a:lnTo>
                    <a:pt x="337" y="989"/>
                  </a:lnTo>
                  <a:lnTo>
                    <a:pt x="370" y="965"/>
                  </a:lnTo>
                  <a:lnTo>
                    <a:pt x="340" y="970"/>
                  </a:lnTo>
                  <a:lnTo>
                    <a:pt x="271" y="994"/>
                  </a:lnTo>
                  <a:lnTo>
                    <a:pt x="257" y="984"/>
                  </a:lnTo>
                  <a:lnTo>
                    <a:pt x="368" y="934"/>
                  </a:lnTo>
                  <a:lnTo>
                    <a:pt x="416" y="877"/>
                  </a:lnTo>
                  <a:lnTo>
                    <a:pt x="409" y="859"/>
                  </a:lnTo>
                  <a:lnTo>
                    <a:pt x="271" y="877"/>
                  </a:lnTo>
                  <a:lnTo>
                    <a:pt x="220" y="906"/>
                  </a:lnTo>
                  <a:lnTo>
                    <a:pt x="122" y="918"/>
                  </a:lnTo>
                  <a:lnTo>
                    <a:pt x="96" y="953"/>
                  </a:lnTo>
                  <a:lnTo>
                    <a:pt x="62" y="990"/>
                  </a:lnTo>
                  <a:lnTo>
                    <a:pt x="34" y="982"/>
                  </a:lnTo>
                  <a:lnTo>
                    <a:pt x="0" y="949"/>
                  </a:lnTo>
                  <a:lnTo>
                    <a:pt x="37" y="1070"/>
                  </a:lnTo>
                  <a:lnTo>
                    <a:pt x="72" y="1145"/>
                  </a:lnTo>
                  <a:lnTo>
                    <a:pt x="64" y="1346"/>
                  </a:lnTo>
                  <a:lnTo>
                    <a:pt x="72" y="1501"/>
                  </a:lnTo>
                  <a:lnTo>
                    <a:pt x="67" y="1587"/>
                  </a:lnTo>
                  <a:lnTo>
                    <a:pt x="72" y="1682"/>
                  </a:lnTo>
                  <a:lnTo>
                    <a:pt x="92" y="1824"/>
                  </a:lnTo>
                  <a:lnTo>
                    <a:pt x="103" y="1855"/>
                  </a:lnTo>
                  <a:lnTo>
                    <a:pt x="96" y="1863"/>
                  </a:lnTo>
                  <a:lnTo>
                    <a:pt x="96" y="1876"/>
                  </a:lnTo>
                  <a:lnTo>
                    <a:pt x="99" y="1890"/>
                  </a:lnTo>
                  <a:lnTo>
                    <a:pt x="122" y="1927"/>
                  </a:lnTo>
                  <a:lnTo>
                    <a:pt x="130" y="1984"/>
                  </a:lnTo>
                  <a:lnTo>
                    <a:pt x="165" y="2080"/>
                  </a:lnTo>
                  <a:lnTo>
                    <a:pt x="209" y="2148"/>
                  </a:lnTo>
                  <a:lnTo>
                    <a:pt x="179" y="2206"/>
                  </a:lnTo>
                  <a:lnTo>
                    <a:pt x="168" y="2251"/>
                  </a:lnTo>
                  <a:lnTo>
                    <a:pt x="168" y="2299"/>
                  </a:lnTo>
                  <a:lnTo>
                    <a:pt x="206" y="2394"/>
                  </a:lnTo>
                  <a:lnTo>
                    <a:pt x="209" y="2435"/>
                  </a:lnTo>
                  <a:lnTo>
                    <a:pt x="222" y="2456"/>
                  </a:lnTo>
                  <a:lnTo>
                    <a:pt x="220" y="2469"/>
                  </a:lnTo>
                  <a:lnTo>
                    <a:pt x="226" y="2485"/>
                  </a:lnTo>
                  <a:lnTo>
                    <a:pt x="227" y="2514"/>
                  </a:lnTo>
                  <a:lnTo>
                    <a:pt x="212" y="2566"/>
                  </a:lnTo>
                  <a:lnTo>
                    <a:pt x="177" y="2624"/>
                  </a:lnTo>
                  <a:lnTo>
                    <a:pt x="147" y="2651"/>
                  </a:lnTo>
                  <a:lnTo>
                    <a:pt x="140" y="2666"/>
                  </a:lnTo>
                  <a:lnTo>
                    <a:pt x="143" y="2677"/>
                  </a:lnTo>
                  <a:lnTo>
                    <a:pt x="143" y="2699"/>
                  </a:lnTo>
                  <a:lnTo>
                    <a:pt x="150" y="2720"/>
                  </a:lnTo>
                  <a:lnTo>
                    <a:pt x="192" y="2765"/>
                  </a:lnTo>
                  <a:lnTo>
                    <a:pt x="222" y="2778"/>
                  </a:lnTo>
                  <a:lnTo>
                    <a:pt x="254" y="2778"/>
                  </a:lnTo>
                  <a:lnTo>
                    <a:pt x="264" y="2782"/>
                  </a:lnTo>
                  <a:lnTo>
                    <a:pt x="264" y="2800"/>
                  </a:lnTo>
                  <a:lnTo>
                    <a:pt x="282" y="2821"/>
                  </a:lnTo>
                  <a:lnTo>
                    <a:pt x="275" y="2838"/>
                  </a:lnTo>
                  <a:lnTo>
                    <a:pt x="277" y="2855"/>
                  </a:lnTo>
                  <a:lnTo>
                    <a:pt x="285" y="2868"/>
                  </a:lnTo>
                  <a:lnTo>
                    <a:pt x="273" y="2883"/>
                  </a:lnTo>
                  <a:lnTo>
                    <a:pt x="267" y="2899"/>
                  </a:lnTo>
                  <a:lnTo>
                    <a:pt x="273" y="2911"/>
                  </a:lnTo>
                  <a:lnTo>
                    <a:pt x="282" y="2927"/>
                  </a:lnTo>
                  <a:lnTo>
                    <a:pt x="298" y="2935"/>
                  </a:lnTo>
                  <a:lnTo>
                    <a:pt x="322" y="2938"/>
                  </a:lnTo>
                  <a:lnTo>
                    <a:pt x="336" y="2952"/>
                  </a:lnTo>
                  <a:lnTo>
                    <a:pt x="349" y="2956"/>
                  </a:lnTo>
                  <a:lnTo>
                    <a:pt x="370" y="2962"/>
                  </a:lnTo>
                  <a:lnTo>
                    <a:pt x="416" y="2959"/>
                  </a:lnTo>
                  <a:lnTo>
                    <a:pt x="435" y="2966"/>
                  </a:lnTo>
                  <a:lnTo>
                    <a:pt x="460" y="2966"/>
                  </a:lnTo>
                  <a:lnTo>
                    <a:pt x="570" y="2930"/>
                  </a:lnTo>
                  <a:lnTo>
                    <a:pt x="734" y="2878"/>
                  </a:lnTo>
                  <a:lnTo>
                    <a:pt x="810" y="2844"/>
                  </a:lnTo>
                  <a:lnTo>
                    <a:pt x="824" y="2823"/>
                  </a:lnTo>
                  <a:lnTo>
                    <a:pt x="829" y="2782"/>
                  </a:lnTo>
                  <a:lnTo>
                    <a:pt x="827" y="2724"/>
                  </a:lnTo>
                  <a:lnTo>
                    <a:pt x="817" y="2682"/>
                  </a:lnTo>
                  <a:lnTo>
                    <a:pt x="786" y="2624"/>
                  </a:lnTo>
                  <a:lnTo>
                    <a:pt x="774" y="2587"/>
                  </a:lnTo>
                  <a:lnTo>
                    <a:pt x="766" y="2551"/>
                  </a:lnTo>
                  <a:lnTo>
                    <a:pt x="734" y="2397"/>
                  </a:lnTo>
                  <a:lnTo>
                    <a:pt x="708" y="2330"/>
                  </a:lnTo>
                  <a:lnTo>
                    <a:pt x="705" y="2282"/>
                  </a:lnTo>
                  <a:lnTo>
                    <a:pt x="686" y="2192"/>
                  </a:lnTo>
                  <a:lnTo>
                    <a:pt x="779" y="2086"/>
                  </a:lnTo>
                  <a:lnTo>
                    <a:pt x="892" y="1963"/>
                  </a:lnTo>
                  <a:lnTo>
                    <a:pt x="945" y="1903"/>
                  </a:lnTo>
                  <a:lnTo>
                    <a:pt x="1027" y="1787"/>
                  </a:lnTo>
                  <a:lnTo>
                    <a:pt x="1056" y="1745"/>
                  </a:lnTo>
                  <a:lnTo>
                    <a:pt x="1119" y="1769"/>
                  </a:lnTo>
                  <a:lnTo>
                    <a:pt x="1217" y="1793"/>
                  </a:lnTo>
                  <a:lnTo>
                    <a:pt x="1278" y="1801"/>
                  </a:lnTo>
                  <a:lnTo>
                    <a:pt x="1391" y="1820"/>
                  </a:lnTo>
                  <a:lnTo>
                    <a:pt x="1537" y="1832"/>
                  </a:lnTo>
                  <a:lnTo>
                    <a:pt x="1660" y="1828"/>
                  </a:lnTo>
                  <a:lnTo>
                    <a:pt x="1783" y="1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325520" y="2968560"/>
              <a:ext cx="114480" cy="144000"/>
            </a:xfrm>
            <a:custGeom>
              <a:avLst/>
              <a:gdLst/>
              <a:ahLst/>
              <a:rect l="l" t="t" r="r" b="b"/>
              <a:pathLst>
                <a:path w="216" h="274">
                  <a:moveTo>
                    <a:pt x="216" y="17"/>
                  </a:moveTo>
                  <a:lnTo>
                    <a:pt x="214" y="28"/>
                  </a:lnTo>
                  <a:lnTo>
                    <a:pt x="152" y="87"/>
                  </a:lnTo>
                  <a:lnTo>
                    <a:pt x="124" y="125"/>
                  </a:lnTo>
                  <a:lnTo>
                    <a:pt x="110" y="145"/>
                  </a:lnTo>
                  <a:lnTo>
                    <a:pt x="103" y="197"/>
                  </a:lnTo>
                  <a:lnTo>
                    <a:pt x="106" y="249"/>
                  </a:lnTo>
                  <a:lnTo>
                    <a:pt x="103" y="259"/>
                  </a:lnTo>
                  <a:lnTo>
                    <a:pt x="89" y="266"/>
                  </a:lnTo>
                  <a:lnTo>
                    <a:pt x="59" y="259"/>
                  </a:lnTo>
                  <a:lnTo>
                    <a:pt x="45" y="274"/>
                  </a:lnTo>
                  <a:lnTo>
                    <a:pt x="30" y="272"/>
                  </a:lnTo>
                  <a:lnTo>
                    <a:pt x="0" y="234"/>
                  </a:lnTo>
                  <a:lnTo>
                    <a:pt x="0" y="218"/>
                  </a:lnTo>
                  <a:lnTo>
                    <a:pt x="10" y="188"/>
                  </a:lnTo>
                  <a:lnTo>
                    <a:pt x="32" y="150"/>
                  </a:lnTo>
                  <a:lnTo>
                    <a:pt x="79" y="93"/>
                  </a:lnTo>
                  <a:lnTo>
                    <a:pt x="116" y="48"/>
                  </a:lnTo>
                  <a:lnTo>
                    <a:pt x="169" y="4"/>
                  </a:lnTo>
                  <a:lnTo>
                    <a:pt x="186" y="0"/>
                  </a:lnTo>
                  <a:lnTo>
                    <a:pt x="209" y="3"/>
                  </a:lnTo>
                  <a:lnTo>
                    <a:pt x="21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338120" y="2976480"/>
              <a:ext cx="95400" cy="128160"/>
            </a:xfrm>
            <a:custGeom>
              <a:avLst/>
              <a:gdLst/>
              <a:ahLst/>
              <a:rect l="l" t="t" r="r" b="b"/>
              <a:pathLst>
                <a:path w="182" h="243">
                  <a:moveTo>
                    <a:pt x="182" y="8"/>
                  </a:moveTo>
                  <a:lnTo>
                    <a:pt x="145" y="43"/>
                  </a:lnTo>
                  <a:lnTo>
                    <a:pt x="114" y="76"/>
                  </a:lnTo>
                  <a:lnTo>
                    <a:pt x="79" y="124"/>
                  </a:lnTo>
                  <a:lnTo>
                    <a:pt x="69" y="173"/>
                  </a:lnTo>
                  <a:lnTo>
                    <a:pt x="70" y="220"/>
                  </a:lnTo>
                  <a:lnTo>
                    <a:pt x="70" y="238"/>
                  </a:lnTo>
                  <a:lnTo>
                    <a:pt x="65" y="243"/>
                  </a:lnTo>
                  <a:lnTo>
                    <a:pt x="51" y="241"/>
                  </a:lnTo>
                  <a:lnTo>
                    <a:pt x="39" y="236"/>
                  </a:lnTo>
                  <a:lnTo>
                    <a:pt x="24" y="241"/>
                  </a:lnTo>
                  <a:lnTo>
                    <a:pt x="20" y="243"/>
                  </a:lnTo>
                  <a:lnTo>
                    <a:pt x="7" y="235"/>
                  </a:lnTo>
                  <a:lnTo>
                    <a:pt x="1" y="229"/>
                  </a:lnTo>
                  <a:lnTo>
                    <a:pt x="0" y="197"/>
                  </a:lnTo>
                  <a:lnTo>
                    <a:pt x="20" y="141"/>
                  </a:lnTo>
                  <a:lnTo>
                    <a:pt x="61" y="87"/>
                  </a:lnTo>
                  <a:lnTo>
                    <a:pt x="110" y="32"/>
                  </a:lnTo>
                  <a:lnTo>
                    <a:pt x="149" y="1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2" y="8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409760" y="3041640"/>
              <a:ext cx="141120" cy="90000"/>
            </a:xfrm>
            <a:custGeom>
              <a:avLst/>
              <a:gdLst/>
              <a:ahLst/>
              <a:rect l="l" t="t" r="r" b="b"/>
              <a:pathLst>
                <a:path w="267" h="169">
                  <a:moveTo>
                    <a:pt x="215" y="28"/>
                  </a:moveTo>
                  <a:lnTo>
                    <a:pt x="250" y="68"/>
                  </a:lnTo>
                  <a:lnTo>
                    <a:pt x="267" y="90"/>
                  </a:lnTo>
                  <a:lnTo>
                    <a:pt x="200" y="90"/>
                  </a:lnTo>
                  <a:lnTo>
                    <a:pt x="158" y="99"/>
                  </a:lnTo>
                  <a:lnTo>
                    <a:pt x="143" y="107"/>
                  </a:lnTo>
                  <a:lnTo>
                    <a:pt x="83" y="103"/>
                  </a:lnTo>
                  <a:lnTo>
                    <a:pt x="69" y="109"/>
                  </a:lnTo>
                  <a:lnTo>
                    <a:pt x="54" y="126"/>
                  </a:lnTo>
                  <a:lnTo>
                    <a:pt x="52" y="124"/>
                  </a:lnTo>
                  <a:lnTo>
                    <a:pt x="48" y="124"/>
                  </a:lnTo>
                  <a:lnTo>
                    <a:pt x="43" y="130"/>
                  </a:lnTo>
                  <a:lnTo>
                    <a:pt x="33" y="133"/>
                  </a:lnTo>
                  <a:lnTo>
                    <a:pt x="21" y="142"/>
                  </a:lnTo>
                  <a:lnTo>
                    <a:pt x="21" y="169"/>
                  </a:lnTo>
                  <a:lnTo>
                    <a:pt x="6" y="149"/>
                  </a:lnTo>
                  <a:lnTo>
                    <a:pt x="0" y="130"/>
                  </a:lnTo>
                  <a:lnTo>
                    <a:pt x="7" y="107"/>
                  </a:lnTo>
                  <a:lnTo>
                    <a:pt x="14" y="85"/>
                  </a:lnTo>
                  <a:lnTo>
                    <a:pt x="51" y="52"/>
                  </a:lnTo>
                  <a:lnTo>
                    <a:pt x="103" y="23"/>
                  </a:lnTo>
                  <a:lnTo>
                    <a:pt x="147" y="17"/>
                  </a:lnTo>
                  <a:lnTo>
                    <a:pt x="150" y="17"/>
                  </a:lnTo>
                  <a:lnTo>
                    <a:pt x="151" y="16"/>
                  </a:lnTo>
                  <a:lnTo>
                    <a:pt x="141" y="10"/>
                  </a:lnTo>
                  <a:lnTo>
                    <a:pt x="102" y="14"/>
                  </a:lnTo>
                  <a:lnTo>
                    <a:pt x="99" y="14"/>
                  </a:lnTo>
                  <a:lnTo>
                    <a:pt x="96" y="14"/>
                  </a:lnTo>
                  <a:lnTo>
                    <a:pt x="124" y="3"/>
                  </a:lnTo>
                  <a:lnTo>
                    <a:pt x="145" y="0"/>
                  </a:lnTo>
                  <a:lnTo>
                    <a:pt x="184" y="9"/>
                  </a:lnTo>
                  <a:lnTo>
                    <a:pt x="215" y="28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35200" y="3057480"/>
              <a:ext cx="233280" cy="455040"/>
            </a:xfrm>
            <a:custGeom>
              <a:avLst/>
              <a:gdLst/>
              <a:ahLst/>
              <a:rect l="l" t="t" r="r" b="b"/>
              <a:pathLst>
                <a:path w="441" h="859">
                  <a:moveTo>
                    <a:pt x="370" y="86"/>
                  </a:moveTo>
                  <a:lnTo>
                    <a:pt x="346" y="97"/>
                  </a:lnTo>
                  <a:lnTo>
                    <a:pt x="331" y="119"/>
                  </a:lnTo>
                  <a:lnTo>
                    <a:pt x="315" y="145"/>
                  </a:lnTo>
                  <a:lnTo>
                    <a:pt x="300" y="183"/>
                  </a:lnTo>
                  <a:lnTo>
                    <a:pt x="289" y="215"/>
                  </a:lnTo>
                  <a:lnTo>
                    <a:pt x="279" y="232"/>
                  </a:lnTo>
                  <a:lnTo>
                    <a:pt x="272" y="255"/>
                  </a:lnTo>
                  <a:lnTo>
                    <a:pt x="181" y="412"/>
                  </a:lnTo>
                  <a:lnTo>
                    <a:pt x="138" y="501"/>
                  </a:lnTo>
                  <a:lnTo>
                    <a:pt x="119" y="566"/>
                  </a:lnTo>
                  <a:lnTo>
                    <a:pt x="107" y="628"/>
                  </a:lnTo>
                  <a:lnTo>
                    <a:pt x="101" y="673"/>
                  </a:lnTo>
                  <a:lnTo>
                    <a:pt x="98" y="703"/>
                  </a:lnTo>
                  <a:lnTo>
                    <a:pt x="94" y="732"/>
                  </a:lnTo>
                  <a:lnTo>
                    <a:pt x="93" y="769"/>
                  </a:lnTo>
                  <a:lnTo>
                    <a:pt x="95" y="774"/>
                  </a:lnTo>
                  <a:lnTo>
                    <a:pt x="97" y="825"/>
                  </a:lnTo>
                  <a:lnTo>
                    <a:pt x="95" y="848"/>
                  </a:lnTo>
                  <a:lnTo>
                    <a:pt x="74" y="841"/>
                  </a:lnTo>
                  <a:lnTo>
                    <a:pt x="59" y="836"/>
                  </a:lnTo>
                  <a:lnTo>
                    <a:pt x="38" y="839"/>
                  </a:lnTo>
                  <a:lnTo>
                    <a:pt x="15" y="858"/>
                  </a:lnTo>
                  <a:lnTo>
                    <a:pt x="8" y="859"/>
                  </a:lnTo>
                  <a:lnTo>
                    <a:pt x="0" y="848"/>
                  </a:lnTo>
                  <a:lnTo>
                    <a:pt x="1" y="803"/>
                  </a:lnTo>
                  <a:lnTo>
                    <a:pt x="18" y="741"/>
                  </a:lnTo>
                  <a:lnTo>
                    <a:pt x="36" y="677"/>
                  </a:lnTo>
                  <a:lnTo>
                    <a:pt x="59" y="545"/>
                  </a:lnTo>
                  <a:lnTo>
                    <a:pt x="73" y="507"/>
                  </a:lnTo>
                  <a:lnTo>
                    <a:pt x="124" y="411"/>
                  </a:lnTo>
                  <a:lnTo>
                    <a:pt x="159" y="350"/>
                  </a:lnTo>
                  <a:lnTo>
                    <a:pt x="201" y="290"/>
                  </a:lnTo>
                  <a:lnTo>
                    <a:pt x="256" y="205"/>
                  </a:lnTo>
                  <a:lnTo>
                    <a:pt x="291" y="121"/>
                  </a:lnTo>
                  <a:lnTo>
                    <a:pt x="337" y="55"/>
                  </a:lnTo>
                  <a:lnTo>
                    <a:pt x="370" y="28"/>
                  </a:lnTo>
                  <a:lnTo>
                    <a:pt x="435" y="1"/>
                  </a:lnTo>
                  <a:lnTo>
                    <a:pt x="441" y="0"/>
                  </a:lnTo>
                  <a:lnTo>
                    <a:pt x="430" y="18"/>
                  </a:lnTo>
                  <a:lnTo>
                    <a:pt x="370" y="86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668600" y="3112920"/>
              <a:ext cx="87120" cy="240840"/>
            </a:xfrm>
            <a:custGeom>
              <a:avLst/>
              <a:gdLst/>
              <a:ahLst/>
              <a:rect l="l" t="t" r="r" b="b"/>
              <a:pathLst>
                <a:path w="165" h="454">
                  <a:moveTo>
                    <a:pt x="95" y="29"/>
                  </a:moveTo>
                  <a:lnTo>
                    <a:pt x="146" y="68"/>
                  </a:lnTo>
                  <a:lnTo>
                    <a:pt x="158" y="88"/>
                  </a:lnTo>
                  <a:lnTo>
                    <a:pt x="165" y="140"/>
                  </a:lnTo>
                  <a:lnTo>
                    <a:pt x="163" y="150"/>
                  </a:lnTo>
                  <a:lnTo>
                    <a:pt x="157" y="236"/>
                  </a:lnTo>
                  <a:lnTo>
                    <a:pt x="149" y="292"/>
                  </a:lnTo>
                  <a:lnTo>
                    <a:pt x="147" y="372"/>
                  </a:lnTo>
                  <a:lnTo>
                    <a:pt x="146" y="443"/>
                  </a:lnTo>
                  <a:lnTo>
                    <a:pt x="112" y="454"/>
                  </a:lnTo>
                  <a:lnTo>
                    <a:pt x="110" y="405"/>
                  </a:lnTo>
                  <a:lnTo>
                    <a:pt x="98" y="343"/>
                  </a:lnTo>
                  <a:lnTo>
                    <a:pt x="98" y="296"/>
                  </a:lnTo>
                  <a:lnTo>
                    <a:pt x="106" y="184"/>
                  </a:lnTo>
                  <a:lnTo>
                    <a:pt x="102" y="130"/>
                  </a:lnTo>
                  <a:lnTo>
                    <a:pt x="81" y="61"/>
                  </a:lnTo>
                  <a:lnTo>
                    <a:pt x="41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58" y="9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54040" y="3114360"/>
              <a:ext cx="55800" cy="36360"/>
            </a:xfrm>
            <a:custGeom>
              <a:avLst/>
              <a:gdLst/>
              <a:ahLst/>
              <a:rect l="l" t="t" r="r" b="b"/>
              <a:pathLst>
                <a:path w="103" h="70">
                  <a:moveTo>
                    <a:pt x="33" y="35"/>
                  </a:moveTo>
                  <a:lnTo>
                    <a:pt x="40" y="38"/>
                  </a:lnTo>
                  <a:lnTo>
                    <a:pt x="52" y="38"/>
                  </a:lnTo>
                  <a:lnTo>
                    <a:pt x="90" y="59"/>
                  </a:lnTo>
                  <a:lnTo>
                    <a:pt x="103" y="70"/>
                  </a:lnTo>
                  <a:lnTo>
                    <a:pt x="93" y="70"/>
                  </a:lnTo>
                  <a:lnTo>
                    <a:pt x="58" y="49"/>
                  </a:lnTo>
                  <a:lnTo>
                    <a:pt x="31" y="41"/>
                  </a:lnTo>
                  <a:lnTo>
                    <a:pt x="0" y="5"/>
                  </a:lnTo>
                  <a:lnTo>
                    <a:pt x="2" y="0"/>
                  </a:lnTo>
                  <a:lnTo>
                    <a:pt x="6" y="1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384280" y="3495600"/>
              <a:ext cx="446400" cy="1074240"/>
            </a:xfrm>
            <a:custGeom>
              <a:avLst/>
              <a:gdLst/>
              <a:ahLst/>
              <a:rect l="l" t="t" r="r" b="b"/>
              <a:pathLst>
                <a:path w="844" h="2031">
                  <a:moveTo>
                    <a:pt x="810" y="0"/>
                  </a:moveTo>
                  <a:lnTo>
                    <a:pt x="754" y="76"/>
                  </a:lnTo>
                  <a:lnTo>
                    <a:pt x="668" y="155"/>
                  </a:lnTo>
                  <a:lnTo>
                    <a:pt x="669" y="169"/>
                  </a:lnTo>
                  <a:lnTo>
                    <a:pt x="623" y="258"/>
                  </a:lnTo>
                  <a:lnTo>
                    <a:pt x="593" y="328"/>
                  </a:lnTo>
                  <a:lnTo>
                    <a:pt x="507" y="493"/>
                  </a:lnTo>
                  <a:lnTo>
                    <a:pt x="464" y="562"/>
                  </a:lnTo>
                  <a:lnTo>
                    <a:pt x="400" y="648"/>
                  </a:lnTo>
                  <a:lnTo>
                    <a:pt x="338" y="727"/>
                  </a:lnTo>
                  <a:lnTo>
                    <a:pt x="115" y="907"/>
                  </a:lnTo>
                  <a:lnTo>
                    <a:pt x="101" y="921"/>
                  </a:lnTo>
                  <a:lnTo>
                    <a:pt x="93" y="944"/>
                  </a:lnTo>
                  <a:lnTo>
                    <a:pt x="94" y="975"/>
                  </a:lnTo>
                  <a:lnTo>
                    <a:pt x="111" y="951"/>
                  </a:lnTo>
                  <a:lnTo>
                    <a:pt x="145" y="917"/>
                  </a:lnTo>
                  <a:lnTo>
                    <a:pt x="176" y="875"/>
                  </a:lnTo>
                  <a:lnTo>
                    <a:pt x="376" y="718"/>
                  </a:lnTo>
                  <a:lnTo>
                    <a:pt x="555" y="506"/>
                  </a:lnTo>
                  <a:lnTo>
                    <a:pt x="559" y="510"/>
                  </a:lnTo>
                  <a:lnTo>
                    <a:pt x="379" y="730"/>
                  </a:lnTo>
                  <a:lnTo>
                    <a:pt x="191" y="875"/>
                  </a:lnTo>
                  <a:lnTo>
                    <a:pt x="136" y="941"/>
                  </a:lnTo>
                  <a:lnTo>
                    <a:pt x="114" y="980"/>
                  </a:lnTo>
                  <a:lnTo>
                    <a:pt x="107" y="1014"/>
                  </a:lnTo>
                  <a:lnTo>
                    <a:pt x="117" y="1125"/>
                  </a:lnTo>
                  <a:lnTo>
                    <a:pt x="153" y="1266"/>
                  </a:lnTo>
                  <a:lnTo>
                    <a:pt x="156" y="1287"/>
                  </a:lnTo>
                  <a:lnTo>
                    <a:pt x="136" y="1578"/>
                  </a:lnTo>
                  <a:lnTo>
                    <a:pt x="129" y="1620"/>
                  </a:lnTo>
                  <a:lnTo>
                    <a:pt x="112" y="1693"/>
                  </a:lnTo>
                  <a:lnTo>
                    <a:pt x="117" y="1699"/>
                  </a:lnTo>
                  <a:lnTo>
                    <a:pt x="105" y="1717"/>
                  </a:lnTo>
                  <a:lnTo>
                    <a:pt x="111" y="1725"/>
                  </a:lnTo>
                  <a:lnTo>
                    <a:pt x="79" y="1778"/>
                  </a:lnTo>
                  <a:lnTo>
                    <a:pt x="43" y="1852"/>
                  </a:lnTo>
                  <a:lnTo>
                    <a:pt x="9" y="1931"/>
                  </a:lnTo>
                  <a:lnTo>
                    <a:pt x="0" y="1962"/>
                  </a:lnTo>
                  <a:lnTo>
                    <a:pt x="12" y="1972"/>
                  </a:lnTo>
                  <a:lnTo>
                    <a:pt x="48" y="1964"/>
                  </a:lnTo>
                  <a:lnTo>
                    <a:pt x="76" y="1968"/>
                  </a:lnTo>
                  <a:lnTo>
                    <a:pt x="111" y="2003"/>
                  </a:lnTo>
                  <a:lnTo>
                    <a:pt x="108" y="1985"/>
                  </a:lnTo>
                  <a:lnTo>
                    <a:pt x="117" y="1934"/>
                  </a:lnTo>
                  <a:lnTo>
                    <a:pt x="141" y="1873"/>
                  </a:lnTo>
                  <a:lnTo>
                    <a:pt x="153" y="1855"/>
                  </a:lnTo>
                  <a:lnTo>
                    <a:pt x="173" y="1838"/>
                  </a:lnTo>
                  <a:lnTo>
                    <a:pt x="186" y="1833"/>
                  </a:lnTo>
                  <a:lnTo>
                    <a:pt x="190" y="1837"/>
                  </a:lnTo>
                  <a:lnTo>
                    <a:pt x="166" y="1854"/>
                  </a:lnTo>
                  <a:lnTo>
                    <a:pt x="156" y="1866"/>
                  </a:lnTo>
                  <a:lnTo>
                    <a:pt x="166" y="1868"/>
                  </a:lnTo>
                  <a:lnTo>
                    <a:pt x="152" y="1893"/>
                  </a:lnTo>
                  <a:lnTo>
                    <a:pt x="159" y="1896"/>
                  </a:lnTo>
                  <a:lnTo>
                    <a:pt x="136" y="1928"/>
                  </a:lnTo>
                  <a:lnTo>
                    <a:pt x="121" y="1989"/>
                  </a:lnTo>
                  <a:lnTo>
                    <a:pt x="121" y="2002"/>
                  </a:lnTo>
                  <a:lnTo>
                    <a:pt x="127" y="2016"/>
                  </a:lnTo>
                  <a:lnTo>
                    <a:pt x="129" y="2000"/>
                  </a:lnTo>
                  <a:lnTo>
                    <a:pt x="141" y="1980"/>
                  </a:lnTo>
                  <a:lnTo>
                    <a:pt x="159" y="1972"/>
                  </a:lnTo>
                  <a:lnTo>
                    <a:pt x="190" y="1969"/>
                  </a:lnTo>
                  <a:lnTo>
                    <a:pt x="238" y="1980"/>
                  </a:lnTo>
                  <a:lnTo>
                    <a:pt x="265" y="1999"/>
                  </a:lnTo>
                  <a:lnTo>
                    <a:pt x="294" y="2031"/>
                  </a:lnTo>
                  <a:lnTo>
                    <a:pt x="299" y="2031"/>
                  </a:lnTo>
                  <a:lnTo>
                    <a:pt x="300" y="2018"/>
                  </a:lnTo>
                  <a:lnTo>
                    <a:pt x="289" y="1982"/>
                  </a:lnTo>
                  <a:lnTo>
                    <a:pt x="299" y="1980"/>
                  </a:lnTo>
                  <a:lnTo>
                    <a:pt x="300" y="1962"/>
                  </a:lnTo>
                  <a:lnTo>
                    <a:pt x="304" y="1962"/>
                  </a:lnTo>
                  <a:lnTo>
                    <a:pt x="306" y="1945"/>
                  </a:lnTo>
                  <a:lnTo>
                    <a:pt x="315" y="1942"/>
                  </a:lnTo>
                  <a:lnTo>
                    <a:pt x="318" y="1961"/>
                  </a:lnTo>
                  <a:lnTo>
                    <a:pt x="328" y="1956"/>
                  </a:lnTo>
                  <a:lnTo>
                    <a:pt x="330" y="1959"/>
                  </a:lnTo>
                  <a:lnTo>
                    <a:pt x="321" y="1979"/>
                  </a:lnTo>
                  <a:lnTo>
                    <a:pt x="330" y="1978"/>
                  </a:lnTo>
                  <a:lnTo>
                    <a:pt x="332" y="1980"/>
                  </a:lnTo>
                  <a:lnTo>
                    <a:pt x="328" y="1986"/>
                  </a:lnTo>
                  <a:lnTo>
                    <a:pt x="321" y="2011"/>
                  </a:lnTo>
                  <a:lnTo>
                    <a:pt x="346" y="1979"/>
                  </a:lnTo>
                  <a:lnTo>
                    <a:pt x="362" y="1971"/>
                  </a:lnTo>
                  <a:lnTo>
                    <a:pt x="418" y="1951"/>
                  </a:lnTo>
                  <a:lnTo>
                    <a:pt x="454" y="1952"/>
                  </a:lnTo>
                  <a:lnTo>
                    <a:pt x="465" y="1959"/>
                  </a:lnTo>
                  <a:lnTo>
                    <a:pt x="458" y="1930"/>
                  </a:lnTo>
                  <a:lnTo>
                    <a:pt x="466" y="1927"/>
                  </a:lnTo>
                  <a:lnTo>
                    <a:pt x="476" y="1921"/>
                  </a:lnTo>
                  <a:lnTo>
                    <a:pt x="465" y="1896"/>
                  </a:lnTo>
                  <a:lnTo>
                    <a:pt x="471" y="1889"/>
                  </a:lnTo>
                  <a:lnTo>
                    <a:pt x="461" y="1875"/>
                  </a:lnTo>
                  <a:lnTo>
                    <a:pt x="471" y="1869"/>
                  </a:lnTo>
                  <a:lnTo>
                    <a:pt x="458" y="1838"/>
                  </a:lnTo>
                  <a:lnTo>
                    <a:pt x="440" y="1793"/>
                  </a:lnTo>
                  <a:lnTo>
                    <a:pt x="435" y="1796"/>
                  </a:lnTo>
                  <a:lnTo>
                    <a:pt x="432" y="1790"/>
                  </a:lnTo>
                  <a:lnTo>
                    <a:pt x="437" y="1776"/>
                  </a:lnTo>
                  <a:lnTo>
                    <a:pt x="438" y="1710"/>
                  </a:lnTo>
                  <a:lnTo>
                    <a:pt x="441" y="1707"/>
                  </a:lnTo>
                  <a:lnTo>
                    <a:pt x="448" y="1658"/>
                  </a:lnTo>
                  <a:lnTo>
                    <a:pt x="455" y="1580"/>
                  </a:lnTo>
                  <a:lnTo>
                    <a:pt x="458" y="1520"/>
                  </a:lnTo>
                  <a:lnTo>
                    <a:pt x="462" y="1435"/>
                  </a:lnTo>
                  <a:lnTo>
                    <a:pt x="495" y="1311"/>
                  </a:lnTo>
                  <a:lnTo>
                    <a:pt x="527" y="1232"/>
                  </a:lnTo>
                  <a:lnTo>
                    <a:pt x="572" y="1130"/>
                  </a:lnTo>
                  <a:lnTo>
                    <a:pt x="582" y="1076"/>
                  </a:lnTo>
                  <a:lnTo>
                    <a:pt x="572" y="1076"/>
                  </a:lnTo>
                  <a:lnTo>
                    <a:pt x="547" y="1097"/>
                  </a:lnTo>
                  <a:lnTo>
                    <a:pt x="540" y="1096"/>
                  </a:lnTo>
                  <a:lnTo>
                    <a:pt x="550" y="1086"/>
                  </a:lnTo>
                  <a:lnTo>
                    <a:pt x="579" y="1062"/>
                  </a:lnTo>
                  <a:lnTo>
                    <a:pt x="609" y="1001"/>
                  </a:lnTo>
                  <a:lnTo>
                    <a:pt x="664" y="879"/>
                  </a:lnTo>
                  <a:lnTo>
                    <a:pt x="719" y="751"/>
                  </a:lnTo>
                  <a:lnTo>
                    <a:pt x="827" y="427"/>
                  </a:lnTo>
                  <a:lnTo>
                    <a:pt x="834" y="238"/>
                  </a:lnTo>
                  <a:lnTo>
                    <a:pt x="844" y="138"/>
                  </a:lnTo>
                  <a:lnTo>
                    <a:pt x="844" y="113"/>
                  </a:lnTo>
                  <a:lnTo>
                    <a:pt x="834" y="62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220760" y="3446280"/>
              <a:ext cx="316080" cy="205920"/>
            </a:xfrm>
            <a:custGeom>
              <a:avLst/>
              <a:gdLst/>
              <a:ahLst/>
              <a:rect l="l" t="t" r="r" b="b"/>
              <a:pathLst>
                <a:path w="595" h="389">
                  <a:moveTo>
                    <a:pt x="247" y="358"/>
                  </a:moveTo>
                  <a:lnTo>
                    <a:pt x="268" y="355"/>
                  </a:lnTo>
                  <a:lnTo>
                    <a:pt x="316" y="327"/>
                  </a:lnTo>
                  <a:lnTo>
                    <a:pt x="344" y="317"/>
                  </a:lnTo>
                  <a:lnTo>
                    <a:pt x="390" y="279"/>
                  </a:lnTo>
                  <a:lnTo>
                    <a:pt x="406" y="259"/>
                  </a:lnTo>
                  <a:lnTo>
                    <a:pt x="406" y="238"/>
                  </a:lnTo>
                  <a:lnTo>
                    <a:pt x="395" y="230"/>
                  </a:lnTo>
                  <a:lnTo>
                    <a:pt x="369" y="230"/>
                  </a:lnTo>
                  <a:lnTo>
                    <a:pt x="307" y="239"/>
                  </a:lnTo>
                  <a:lnTo>
                    <a:pt x="303" y="238"/>
                  </a:lnTo>
                  <a:lnTo>
                    <a:pt x="302" y="238"/>
                  </a:lnTo>
                  <a:lnTo>
                    <a:pt x="320" y="223"/>
                  </a:lnTo>
                  <a:lnTo>
                    <a:pt x="316" y="220"/>
                  </a:lnTo>
                  <a:lnTo>
                    <a:pt x="297" y="225"/>
                  </a:lnTo>
                  <a:lnTo>
                    <a:pt x="297" y="221"/>
                  </a:lnTo>
                  <a:lnTo>
                    <a:pt x="295" y="220"/>
                  </a:lnTo>
                  <a:lnTo>
                    <a:pt x="226" y="265"/>
                  </a:lnTo>
                  <a:lnTo>
                    <a:pt x="161" y="279"/>
                  </a:lnTo>
                  <a:lnTo>
                    <a:pt x="83" y="285"/>
                  </a:lnTo>
                  <a:lnTo>
                    <a:pt x="61" y="283"/>
                  </a:lnTo>
                  <a:lnTo>
                    <a:pt x="56" y="286"/>
                  </a:lnTo>
                  <a:lnTo>
                    <a:pt x="76" y="296"/>
                  </a:lnTo>
                  <a:lnTo>
                    <a:pt x="93" y="296"/>
                  </a:lnTo>
                  <a:lnTo>
                    <a:pt x="94" y="296"/>
                  </a:lnTo>
                  <a:lnTo>
                    <a:pt x="85" y="311"/>
                  </a:lnTo>
                  <a:lnTo>
                    <a:pt x="85" y="317"/>
                  </a:lnTo>
                  <a:lnTo>
                    <a:pt x="69" y="317"/>
                  </a:lnTo>
                  <a:lnTo>
                    <a:pt x="45" y="307"/>
                  </a:lnTo>
                  <a:lnTo>
                    <a:pt x="44" y="309"/>
                  </a:lnTo>
                  <a:lnTo>
                    <a:pt x="45" y="311"/>
                  </a:lnTo>
                  <a:lnTo>
                    <a:pt x="51" y="314"/>
                  </a:lnTo>
                  <a:lnTo>
                    <a:pt x="48" y="314"/>
                  </a:lnTo>
                  <a:lnTo>
                    <a:pt x="48" y="321"/>
                  </a:lnTo>
                  <a:lnTo>
                    <a:pt x="63" y="331"/>
                  </a:lnTo>
                  <a:lnTo>
                    <a:pt x="63" y="338"/>
                  </a:lnTo>
                  <a:lnTo>
                    <a:pt x="56" y="339"/>
                  </a:lnTo>
                  <a:lnTo>
                    <a:pt x="31" y="363"/>
                  </a:lnTo>
                  <a:lnTo>
                    <a:pt x="22" y="389"/>
                  </a:lnTo>
                  <a:lnTo>
                    <a:pt x="10" y="355"/>
                  </a:lnTo>
                  <a:lnTo>
                    <a:pt x="0" y="324"/>
                  </a:lnTo>
                  <a:lnTo>
                    <a:pt x="25" y="307"/>
                  </a:lnTo>
                  <a:lnTo>
                    <a:pt x="66" y="262"/>
                  </a:lnTo>
                  <a:lnTo>
                    <a:pt x="86" y="230"/>
                  </a:lnTo>
                  <a:lnTo>
                    <a:pt x="106" y="228"/>
                  </a:lnTo>
                  <a:lnTo>
                    <a:pt x="156" y="197"/>
                  </a:lnTo>
                  <a:lnTo>
                    <a:pt x="196" y="165"/>
                  </a:lnTo>
                  <a:lnTo>
                    <a:pt x="202" y="165"/>
                  </a:lnTo>
                  <a:lnTo>
                    <a:pt x="257" y="134"/>
                  </a:lnTo>
                  <a:lnTo>
                    <a:pt x="293" y="106"/>
                  </a:lnTo>
                  <a:lnTo>
                    <a:pt x="352" y="73"/>
                  </a:lnTo>
                  <a:lnTo>
                    <a:pt x="393" y="61"/>
                  </a:lnTo>
                  <a:lnTo>
                    <a:pt x="405" y="54"/>
                  </a:lnTo>
                  <a:lnTo>
                    <a:pt x="451" y="34"/>
                  </a:lnTo>
                  <a:lnTo>
                    <a:pt x="462" y="24"/>
                  </a:lnTo>
                  <a:lnTo>
                    <a:pt x="496" y="7"/>
                  </a:lnTo>
                  <a:lnTo>
                    <a:pt x="503" y="0"/>
                  </a:lnTo>
                  <a:lnTo>
                    <a:pt x="516" y="25"/>
                  </a:lnTo>
                  <a:lnTo>
                    <a:pt x="491" y="59"/>
                  </a:lnTo>
                  <a:lnTo>
                    <a:pt x="454" y="85"/>
                  </a:lnTo>
                  <a:lnTo>
                    <a:pt x="413" y="107"/>
                  </a:lnTo>
                  <a:lnTo>
                    <a:pt x="390" y="124"/>
                  </a:lnTo>
                  <a:lnTo>
                    <a:pt x="390" y="128"/>
                  </a:lnTo>
                  <a:lnTo>
                    <a:pt x="393" y="131"/>
                  </a:lnTo>
                  <a:lnTo>
                    <a:pt x="416" y="120"/>
                  </a:lnTo>
                  <a:lnTo>
                    <a:pt x="450" y="101"/>
                  </a:lnTo>
                  <a:lnTo>
                    <a:pt x="492" y="82"/>
                  </a:lnTo>
                  <a:lnTo>
                    <a:pt x="517" y="63"/>
                  </a:lnTo>
                  <a:lnTo>
                    <a:pt x="530" y="59"/>
                  </a:lnTo>
                  <a:lnTo>
                    <a:pt x="543" y="76"/>
                  </a:lnTo>
                  <a:lnTo>
                    <a:pt x="554" y="93"/>
                  </a:lnTo>
                  <a:lnTo>
                    <a:pt x="581" y="113"/>
                  </a:lnTo>
                  <a:lnTo>
                    <a:pt x="592" y="117"/>
                  </a:lnTo>
                  <a:lnTo>
                    <a:pt x="595" y="144"/>
                  </a:lnTo>
                  <a:lnTo>
                    <a:pt x="581" y="163"/>
                  </a:lnTo>
                  <a:lnTo>
                    <a:pt x="543" y="201"/>
                  </a:lnTo>
                  <a:lnTo>
                    <a:pt x="499" y="275"/>
                  </a:lnTo>
                  <a:lnTo>
                    <a:pt x="488" y="311"/>
                  </a:lnTo>
                  <a:lnTo>
                    <a:pt x="469" y="347"/>
                  </a:lnTo>
                  <a:lnTo>
                    <a:pt x="457" y="361"/>
                  </a:lnTo>
                  <a:lnTo>
                    <a:pt x="454" y="363"/>
                  </a:lnTo>
                  <a:lnTo>
                    <a:pt x="454" y="365"/>
                  </a:lnTo>
                  <a:lnTo>
                    <a:pt x="450" y="363"/>
                  </a:lnTo>
                  <a:lnTo>
                    <a:pt x="437" y="347"/>
                  </a:lnTo>
                  <a:lnTo>
                    <a:pt x="429" y="342"/>
                  </a:lnTo>
                  <a:lnTo>
                    <a:pt x="390" y="345"/>
                  </a:lnTo>
                  <a:lnTo>
                    <a:pt x="343" y="359"/>
                  </a:lnTo>
                  <a:lnTo>
                    <a:pt x="333" y="361"/>
                  </a:lnTo>
                  <a:lnTo>
                    <a:pt x="365" y="337"/>
                  </a:lnTo>
                  <a:lnTo>
                    <a:pt x="362" y="334"/>
                  </a:lnTo>
                  <a:lnTo>
                    <a:pt x="359" y="331"/>
                  </a:lnTo>
                  <a:lnTo>
                    <a:pt x="326" y="338"/>
                  </a:lnTo>
                  <a:lnTo>
                    <a:pt x="299" y="349"/>
                  </a:lnTo>
                  <a:lnTo>
                    <a:pt x="261" y="362"/>
                  </a:lnTo>
                  <a:lnTo>
                    <a:pt x="247" y="358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536840" y="3138480"/>
              <a:ext cx="66600" cy="153360"/>
            </a:xfrm>
            <a:custGeom>
              <a:avLst/>
              <a:gdLst/>
              <a:ahLst/>
              <a:rect l="l" t="t" r="r" b="b"/>
              <a:pathLst>
                <a:path w="126" h="291">
                  <a:moveTo>
                    <a:pt x="115" y="14"/>
                  </a:moveTo>
                  <a:lnTo>
                    <a:pt x="76" y="44"/>
                  </a:lnTo>
                  <a:lnTo>
                    <a:pt x="48" y="76"/>
                  </a:lnTo>
                  <a:lnTo>
                    <a:pt x="30" y="124"/>
                  </a:lnTo>
                  <a:lnTo>
                    <a:pt x="31" y="145"/>
                  </a:lnTo>
                  <a:lnTo>
                    <a:pt x="47" y="169"/>
                  </a:lnTo>
                  <a:lnTo>
                    <a:pt x="69" y="221"/>
                  </a:lnTo>
                  <a:lnTo>
                    <a:pt x="78" y="228"/>
                  </a:lnTo>
                  <a:lnTo>
                    <a:pt x="103" y="265"/>
                  </a:lnTo>
                  <a:lnTo>
                    <a:pt x="126" y="287"/>
                  </a:lnTo>
                  <a:lnTo>
                    <a:pt x="122" y="291"/>
                  </a:lnTo>
                  <a:lnTo>
                    <a:pt x="89" y="260"/>
                  </a:lnTo>
                  <a:lnTo>
                    <a:pt x="79" y="259"/>
                  </a:lnTo>
                  <a:lnTo>
                    <a:pt x="61" y="235"/>
                  </a:lnTo>
                  <a:lnTo>
                    <a:pt x="54" y="215"/>
                  </a:lnTo>
                  <a:lnTo>
                    <a:pt x="43" y="193"/>
                  </a:lnTo>
                  <a:lnTo>
                    <a:pt x="36" y="169"/>
                  </a:lnTo>
                  <a:lnTo>
                    <a:pt x="29" y="15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13" y="122"/>
                  </a:lnTo>
                  <a:lnTo>
                    <a:pt x="10" y="110"/>
                  </a:lnTo>
                  <a:lnTo>
                    <a:pt x="6" y="100"/>
                  </a:lnTo>
                  <a:lnTo>
                    <a:pt x="9" y="76"/>
                  </a:lnTo>
                  <a:lnTo>
                    <a:pt x="17" y="55"/>
                  </a:lnTo>
                  <a:lnTo>
                    <a:pt x="27" y="44"/>
                  </a:lnTo>
                  <a:lnTo>
                    <a:pt x="54" y="25"/>
                  </a:lnTo>
                  <a:lnTo>
                    <a:pt x="81" y="14"/>
                  </a:lnTo>
                  <a:lnTo>
                    <a:pt x="95" y="7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903240" y="3147840"/>
              <a:ext cx="104760" cy="250560"/>
            </a:xfrm>
            <a:custGeom>
              <a:avLst/>
              <a:gdLst/>
              <a:ahLst/>
              <a:rect l="l" t="t" r="r" b="b"/>
              <a:pathLst>
                <a:path w="199" h="474">
                  <a:moveTo>
                    <a:pt x="182" y="101"/>
                  </a:moveTo>
                  <a:lnTo>
                    <a:pt x="165" y="135"/>
                  </a:lnTo>
                  <a:lnTo>
                    <a:pt x="153" y="172"/>
                  </a:lnTo>
                  <a:lnTo>
                    <a:pt x="146" y="203"/>
                  </a:lnTo>
                  <a:lnTo>
                    <a:pt x="154" y="248"/>
                  </a:lnTo>
                  <a:lnTo>
                    <a:pt x="162" y="294"/>
                  </a:lnTo>
                  <a:lnTo>
                    <a:pt x="144" y="310"/>
                  </a:lnTo>
                  <a:lnTo>
                    <a:pt x="130" y="300"/>
                  </a:lnTo>
                  <a:lnTo>
                    <a:pt x="109" y="300"/>
                  </a:lnTo>
                  <a:lnTo>
                    <a:pt x="79" y="328"/>
                  </a:lnTo>
                  <a:lnTo>
                    <a:pt x="38" y="403"/>
                  </a:lnTo>
                  <a:lnTo>
                    <a:pt x="0" y="474"/>
                  </a:lnTo>
                  <a:lnTo>
                    <a:pt x="9" y="443"/>
                  </a:lnTo>
                  <a:lnTo>
                    <a:pt x="16" y="376"/>
                  </a:lnTo>
                  <a:lnTo>
                    <a:pt x="19" y="362"/>
                  </a:lnTo>
                  <a:lnTo>
                    <a:pt x="44" y="287"/>
                  </a:lnTo>
                  <a:lnTo>
                    <a:pt x="61" y="249"/>
                  </a:lnTo>
                  <a:lnTo>
                    <a:pt x="99" y="183"/>
                  </a:lnTo>
                  <a:lnTo>
                    <a:pt x="122" y="141"/>
                  </a:lnTo>
                  <a:lnTo>
                    <a:pt x="169" y="58"/>
                  </a:lnTo>
                  <a:lnTo>
                    <a:pt x="178" y="34"/>
                  </a:lnTo>
                  <a:lnTo>
                    <a:pt x="199" y="0"/>
                  </a:lnTo>
                  <a:lnTo>
                    <a:pt x="192" y="74"/>
                  </a:lnTo>
                  <a:lnTo>
                    <a:pt x="182" y="101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081080" y="3157200"/>
              <a:ext cx="30240" cy="9828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57" y="1"/>
                  </a:moveTo>
                  <a:lnTo>
                    <a:pt x="54" y="16"/>
                  </a:lnTo>
                  <a:lnTo>
                    <a:pt x="48" y="36"/>
                  </a:lnTo>
                  <a:lnTo>
                    <a:pt x="30" y="80"/>
                  </a:lnTo>
                  <a:lnTo>
                    <a:pt x="28" y="90"/>
                  </a:lnTo>
                  <a:lnTo>
                    <a:pt x="34" y="101"/>
                  </a:lnTo>
                  <a:lnTo>
                    <a:pt x="20" y="173"/>
                  </a:lnTo>
                  <a:lnTo>
                    <a:pt x="23" y="178"/>
                  </a:lnTo>
                  <a:lnTo>
                    <a:pt x="23" y="181"/>
                  </a:lnTo>
                  <a:lnTo>
                    <a:pt x="19" y="184"/>
                  </a:lnTo>
                  <a:lnTo>
                    <a:pt x="6" y="173"/>
                  </a:lnTo>
                  <a:lnTo>
                    <a:pt x="3" y="173"/>
                  </a:lnTo>
                  <a:lnTo>
                    <a:pt x="0" y="161"/>
                  </a:lnTo>
                  <a:lnTo>
                    <a:pt x="6" y="118"/>
                  </a:lnTo>
                  <a:lnTo>
                    <a:pt x="20" y="70"/>
                  </a:lnTo>
                  <a:lnTo>
                    <a:pt x="33" y="46"/>
                  </a:lnTo>
                  <a:lnTo>
                    <a:pt x="52" y="0"/>
                  </a:lnTo>
                  <a:lnTo>
                    <a:pt x="54" y="1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1546200" y="3159000"/>
              <a:ext cx="27000" cy="41040"/>
            </a:xfrm>
            <a:custGeom>
              <a:avLst/>
              <a:gdLst/>
              <a:ahLst/>
              <a:rect l="l" t="t" r="r" b="b"/>
              <a:pathLst>
                <a:path w="52" h="79">
                  <a:moveTo>
                    <a:pt x="21" y="37"/>
                  </a:moveTo>
                  <a:lnTo>
                    <a:pt x="6" y="78"/>
                  </a:lnTo>
                  <a:lnTo>
                    <a:pt x="4" y="79"/>
                  </a:lnTo>
                  <a:lnTo>
                    <a:pt x="0" y="67"/>
                  </a:lnTo>
                  <a:lnTo>
                    <a:pt x="0" y="41"/>
                  </a:lnTo>
                  <a:lnTo>
                    <a:pt x="9" y="26"/>
                  </a:lnTo>
                  <a:lnTo>
                    <a:pt x="34" y="5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1219320" y="3162240"/>
              <a:ext cx="83880" cy="99720"/>
            </a:xfrm>
            <a:custGeom>
              <a:avLst/>
              <a:gdLst/>
              <a:ahLst/>
              <a:rect l="l" t="t" r="r" b="b"/>
              <a:pathLst>
                <a:path w="160" h="190">
                  <a:moveTo>
                    <a:pt x="160" y="1"/>
                  </a:moveTo>
                  <a:lnTo>
                    <a:pt x="97" y="44"/>
                  </a:lnTo>
                  <a:lnTo>
                    <a:pt x="63" y="94"/>
                  </a:lnTo>
                  <a:lnTo>
                    <a:pt x="59" y="117"/>
                  </a:lnTo>
                  <a:lnTo>
                    <a:pt x="46" y="137"/>
                  </a:lnTo>
                  <a:lnTo>
                    <a:pt x="22" y="165"/>
                  </a:lnTo>
                  <a:lnTo>
                    <a:pt x="4" y="189"/>
                  </a:lnTo>
                  <a:lnTo>
                    <a:pt x="3" y="190"/>
                  </a:lnTo>
                  <a:lnTo>
                    <a:pt x="0" y="190"/>
                  </a:lnTo>
                  <a:lnTo>
                    <a:pt x="12" y="125"/>
                  </a:lnTo>
                  <a:lnTo>
                    <a:pt x="26" y="94"/>
                  </a:lnTo>
                  <a:lnTo>
                    <a:pt x="48" y="72"/>
                  </a:lnTo>
                  <a:lnTo>
                    <a:pt x="58" y="70"/>
                  </a:lnTo>
                  <a:lnTo>
                    <a:pt x="83" y="52"/>
                  </a:lnTo>
                  <a:lnTo>
                    <a:pt x="118" y="2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1381320" y="3170160"/>
              <a:ext cx="50760" cy="8532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59" y="34"/>
                  </a:moveTo>
                  <a:lnTo>
                    <a:pt x="70" y="53"/>
                  </a:lnTo>
                  <a:lnTo>
                    <a:pt x="88" y="95"/>
                  </a:lnTo>
                  <a:lnTo>
                    <a:pt x="96" y="103"/>
                  </a:lnTo>
                  <a:lnTo>
                    <a:pt x="93" y="147"/>
                  </a:lnTo>
                  <a:lnTo>
                    <a:pt x="88" y="160"/>
                  </a:lnTo>
                  <a:lnTo>
                    <a:pt x="86" y="162"/>
                  </a:lnTo>
                  <a:lnTo>
                    <a:pt x="86" y="162"/>
                  </a:lnTo>
                  <a:lnTo>
                    <a:pt x="88" y="131"/>
                  </a:lnTo>
                  <a:lnTo>
                    <a:pt x="86" y="119"/>
                  </a:lnTo>
                  <a:lnTo>
                    <a:pt x="83" y="119"/>
                  </a:lnTo>
                  <a:lnTo>
                    <a:pt x="80" y="113"/>
                  </a:lnTo>
                  <a:lnTo>
                    <a:pt x="77" y="112"/>
                  </a:lnTo>
                  <a:lnTo>
                    <a:pt x="74" y="112"/>
                  </a:lnTo>
                  <a:lnTo>
                    <a:pt x="72" y="105"/>
                  </a:lnTo>
                  <a:lnTo>
                    <a:pt x="63" y="112"/>
                  </a:lnTo>
                  <a:lnTo>
                    <a:pt x="63" y="105"/>
                  </a:lnTo>
                  <a:lnTo>
                    <a:pt x="65" y="92"/>
                  </a:lnTo>
                  <a:lnTo>
                    <a:pt x="55" y="50"/>
                  </a:lnTo>
                  <a:lnTo>
                    <a:pt x="0" y="6"/>
                  </a:lnTo>
                  <a:lnTo>
                    <a:pt x="5" y="0"/>
                  </a:lnTo>
                  <a:lnTo>
                    <a:pt x="45" y="29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236600" y="3182760"/>
              <a:ext cx="92160" cy="247320"/>
            </a:xfrm>
            <a:custGeom>
              <a:avLst/>
              <a:gdLst/>
              <a:ahLst/>
              <a:rect l="l" t="t" r="r" b="b"/>
              <a:pathLst>
                <a:path w="176" h="469">
                  <a:moveTo>
                    <a:pt x="165" y="0"/>
                  </a:moveTo>
                  <a:lnTo>
                    <a:pt x="171" y="0"/>
                  </a:lnTo>
                  <a:lnTo>
                    <a:pt x="171" y="1"/>
                  </a:lnTo>
                  <a:lnTo>
                    <a:pt x="164" y="10"/>
                  </a:lnTo>
                  <a:lnTo>
                    <a:pt x="176" y="14"/>
                  </a:lnTo>
                  <a:lnTo>
                    <a:pt x="176" y="18"/>
                  </a:lnTo>
                  <a:lnTo>
                    <a:pt x="150" y="20"/>
                  </a:lnTo>
                  <a:lnTo>
                    <a:pt x="147" y="27"/>
                  </a:lnTo>
                  <a:lnTo>
                    <a:pt x="120" y="34"/>
                  </a:lnTo>
                  <a:lnTo>
                    <a:pt x="78" y="69"/>
                  </a:lnTo>
                  <a:lnTo>
                    <a:pt x="52" y="103"/>
                  </a:lnTo>
                  <a:lnTo>
                    <a:pt x="41" y="151"/>
                  </a:lnTo>
                  <a:lnTo>
                    <a:pt x="49" y="232"/>
                  </a:lnTo>
                  <a:lnTo>
                    <a:pt x="51" y="285"/>
                  </a:lnTo>
                  <a:lnTo>
                    <a:pt x="59" y="328"/>
                  </a:lnTo>
                  <a:lnTo>
                    <a:pt x="62" y="413"/>
                  </a:lnTo>
                  <a:lnTo>
                    <a:pt x="73" y="469"/>
                  </a:lnTo>
                  <a:lnTo>
                    <a:pt x="69" y="466"/>
                  </a:lnTo>
                  <a:lnTo>
                    <a:pt x="61" y="454"/>
                  </a:lnTo>
                  <a:lnTo>
                    <a:pt x="51" y="401"/>
                  </a:lnTo>
                  <a:lnTo>
                    <a:pt x="49" y="358"/>
                  </a:lnTo>
                  <a:lnTo>
                    <a:pt x="47" y="339"/>
                  </a:lnTo>
                  <a:lnTo>
                    <a:pt x="35" y="314"/>
                  </a:lnTo>
                  <a:lnTo>
                    <a:pt x="18" y="297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33" y="292"/>
                  </a:lnTo>
                  <a:lnTo>
                    <a:pt x="35" y="290"/>
                  </a:lnTo>
                  <a:lnTo>
                    <a:pt x="24" y="273"/>
                  </a:lnTo>
                  <a:lnTo>
                    <a:pt x="3" y="261"/>
                  </a:lnTo>
                  <a:lnTo>
                    <a:pt x="3" y="258"/>
                  </a:lnTo>
                  <a:lnTo>
                    <a:pt x="13" y="259"/>
                  </a:lnTo>
                  <a:lnTo>
                    <a:pt x="35" y="270"/>
                  </a:lnTo>
                  <a:lnTo>
                    <a:pt x="34" y="252"/>
                  </a:lnTo>
                  <a:lnTo>
                    <a:pt x="14" y="239"/>
                  </a:lnTo>
                  <a:lnTo>
                    <a:pt x="4" y="237"/>
                  </a:lnTo>
                  <a:lnTo>
                    <a:pt x="3" y="235"/>
                  </a:lnTo>
                  <a:lnTo>
                    <a:pt x="3" y="232"/>
                  </a:lnTo>
                  <a:lnTo>
                    <a:pt x="26" y="234"/>
                  </a:lnTo>
                  <a:lnTo>
                    <a:pt x="33" y="239"/>
                  </a:lnTo>
                  <a:lnTo>
                    <a:pt x="34" y="239"/>
                  </a:lnTo>
                  <a:lnTo>
                    <a:pt x="35" y="228"/>
                  </a:lnTo>
                  <a:lnTo>
                    <a:pt x="28" y="217"/>
                  </a:lnTo>
                  <a:lnTo>
                    <a:pt x="14" y="203"/>
                  </a:lnTo>
                  <a:lnTo>
                    <a:pt x="16" y="201"/>
                  </a:lnTo>
                  <a:lnTo>
                    <a:pt x="0" y="183"/>
                  </a:lnTo>
                  <a:lnTo>
                    <a:pt x="2" y="182"/>
                  </a:lnTo>
                  <a:lnTo>
                    <a:pt x="13" y="186"/>
                  </a:lnTo>
                  <a:lnTo>
                    <a:pt x="20" y="192"/>
                  </a:lnTo>
                  <a:lnTo>
                    <a:pt x="24" y="189"/>
                  </a:lnTo>
                  <a:lnTo>
                    <a:pt x="3" y="166"/>
                  </a:lnTo>
                  <a:lnTo>
                    <a:pt x="13" y="166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7" y="145"/>
                  </a:lnTo>
                  <a:lnTo>
                    <a:pt x="23" y="132"/>
                  </a:lnTo>
                  <a:lnTo>
                    <a:pt x="24" y="124"/>
                  </a:lnTo>
                  <a:lnTo>
                    <a:pt x="31" y="121"/>
                  </a:lnTo>
                  <a:lnTo>
                    <a:pt x="40" y="101"/>
                  </a:lnTo>
                  <a:lnTo>
                    <a:pt x="57" y="80"/>
                  </a:lnTo>
                  <a:lnTo>
                    <a:pt x="66" y="62"/>
                  </a:lnTo>
                  <a:lnTo>
                    <a:pt x="86" y="39"/>
                  </a:lnTo>
                  <a:lnTo>
                    <a:pt x="89" y="34"/>
                  </a:lnTo>
                  <a:lnTo>
                    <a:pt x="89" y="30"/>
                  </a:lnTo>
                  <a:lnTo>
                    <a:pt x="99" y="28"/>
                  </a:lnTo>
                  <a:lnTo>
                    <a:pt x="106" y="18"/>
                  </a:lnTo>
                  <a:lnTo>
                    <a:pt x="117" y="20"/>
                  </a:lnTo>
                  <a:lnTo>
                    <a:pt x="130" y="11"/>
                  </a:lnTo>
                  <a:lnTo>
                    <a:pt x="140" y="0"/>
                  </a:lnTo>
                  <a:lnTo>
                    <a:pt x="154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427040" y="3192120"/>
              <a:ext cx="14400" cy="47520"/>
            </a:xfrm>
            <a:custGeom>
              <a:avLst/>
              <a:gdLst/>
              <a:ahLst/>
              <a:rect l="l" t="t" r="r" b="b"/>
              <a:pathLst>
                <a:path w="26" h="88">
                  <a:moveTo>
                    <a:pt x="26" y="34"/>
                  </a:moveTo>
                  <a:lnTo>
                    <a:pt x="26" y="59"/>
                  </a:lnTo>
                  <a:lnTo>
                    <a:pt x="16" y="88"/>
                  </a:lnTo>
                  <a:lnTo>
                    <a:pt x="13" y="88"/>
                  </a:lnTo>
                  <a:lnTo>
                    <a:pt x="13" y="49"/>
                  </a:lnTo>
                  <a:lnTo>
                    <a:pt x="3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381320" y="3203280"/>
              <a:ext cx="26640" cy="4896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38" y="18"/>
                  </a:moveTo>
                  <a:lnTo>
                    <a:pt x="49" y="36"/>
                  </a:lnTo>
                  <a:lnTo>
                    <a:pt x="52" y="51"/>
                  </a:lnTo>
                  <a:lnTo>
                    <a:pt x="43" y="83"/>
                  </a:lnTo>
                  <a:lnTo>
                    <a:pt x="32" y="93"/>
                  </a:lnTo>
                  <a:lnTo>
                    <a:pt x="35" y="80"/>
                  </a:lnTo>
                  <a:lnTo>
                    <a:pt x="32" y="76"/>
                  </a:lnTo>
                  <a:lnTo>
                    <a:pt x="35" y="69"/>
                  </a:lnTo>
                  <a:lnTo>
                    <a:pt x="35" y="63"/>
                  </a:lnTo>
                  <a:lnTo>
                    <a:pt x="32" y="63"/>
                  </a:lnTo>
                  <a:lnTo>
                    <a:pt x="24" y="76"/>
                  </a:lnTo>
                  <a:lnTo>
                    <a:pt x="21" y="76"/>
                  </a:lnTo>
                  <a:lnTo>
                    <a:pt x="28" y="53"/>
                  </a:lnTo>
                  <a:lnTo>
                    <a:pt x="21" y="31"/>
                  </a:lnTo>
                  <a:lnTo>
                    <a:pt x="11" y="1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4" y="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230480" y="3205080"/>
              <a:ext cx="15840" cy="2808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0" y="55"/>
                  </a:moveTo>
                  <a:lnTo>
                    <a:pt x="6" y="28"/>
                  </a:lnTo>
                  <a:lnTo>
                    <a:pt x="30" y="0"/>
                  </a:lnTo>
                  <a:lnTo>
                    <a:pt x="3" y="5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440000" y="3214440"/>
              <a:ext cx="15840" cy="4572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31" y="18"/>
                  </a:moveTo>
                  <a:lnTo>
                    <a:pt x="21" y="45"/>
                  </a:lnTo>
                  <a:lnTo>
                    <a:pt x="11" y="56"/>
                  </a:lnTo>
                  <a:lnTo>
                    <a:pt x="5" y="86"/>
                  </a:lnTo>
                  <a:lnTo>
                    <a:pt x="2" y="87"/>
                  </a:lnTo>
                  <a:lnTo>
                    <a:pt x="0" y="87"/>
                  </a:lnTo>
                  <a:lnTo>
                    <a:pt x="0" y="59"/>
                  </a:lnTo>
                  <a:lnTo>
                    <a:pt x="9" y="39"/>
                  </a:lnTo>
                  <a:lnTo>
                    <a:pt x="9" y="8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266840" y="3222360"/>
              <a:ext cx="81000" cy="41040"/>
            </a:xfrm>
            <a:custGeom>
              <a:avLst/>
              <a:gdLst/>
              <a:ahLst/>
              <a:rect l="l" t="t" r="r" b="b"/>
              <a:pathLst>
                <a:path w="154" h="80">
                  <a:moveTo>
                    <a:pt x="154" y="26"/>
                  </a:moveTo>
                  <a:lnTo>
                    <a:pt x="147" y="31"/>
                  </a:lnTo>
                  <a:lnTo>
                    <a:pt x="90" y="11"/>
                  </a:lnTo>
                  <a:lnTo>
                    <a:pt x="51" y="15"/>
                  </a:lnTo>
                  <a:lnTo>
                    <a:pt x="41" y="21"/>
                  </a:lnTo>
                  <a:lnTo>
                    <a:pt x="34" y="28"/>
                  </a:lnTo>
                  <a:lnTo>
                    <a:pt x="34" y="32"/>
                  </a:lnTo>
                  <a:lnTo>
                    <a:pt x="42" y="26"/>
                  </a:lnTo>
                  <a:lnTo>
                    <a:pt x="49" y="22"/>
                  </a:lnTo>
                  <a:lnTo>
                    <a:pt x="58" y="18"/>
                  </a:lnTo>
                  <a:lnTo>
                    <a:pt x="66" y="17"/>
                  </a:lnTo>
                  <a:lnTo>
                    <a:pt x="75" y="17"/>
                  </a:lnTo>
                  <a:lnTo>
                    <a:pt x="85" y="18"/>
                  </a:lnTo>
                  <a:lnTo>
                    <a:pt x="94" y="21"/>
                  </a:lnTo>
                  <a:lnTo>
                    <a:pt x="106" y="24"/>
                  </a:lnTo>
                  <a:lnTo>
                    <a:pt x="120" y="33"/>
                  </a:lnTo>
                  <a:lnTo>
                    <a:pt x="140" y="38"/>
                  </a:lnTo>
                  <a:lnTo>
                    <a:pt x="141" y="42"/>
                  </a:lnTo>
                  <a:lnTo>
                    <a:pt x="124" y="43"/>
                  </a:lnTo>
                  <a:lnTo>
                    <a:pt x="113" y="49"/>
                  </a:lnTo>
                  <a:lnTo>
                    <a:pt x="104" y="56"/>
                  </a:lnTo>
                  <a:lnTo>
                    <a:pt x="96" y="63"/>
                  </a:lnTo>
                  <a:lnTo>
                    <a:pt x="86" y="67"/>
                  </a:lnTo>
                  <a:lnTo>
                    <a:pt x="77" y="71"/>
                  </a:lnTo>
                  <a:lnTo>
                    <a:pt x="68" y="74"/>
                  </a:lnTo>
                  <a:lnTo>
                    <a:pt x="58" y="74"/>
                  </a:lnTo>
                  <a:lnTo>
                    <a:pt x="45" y="74"/>
                  </a:lnTo>
                  <a:lnTo>
                    <a:pt x="34" y="70"/>
                  </a:lnTo>
                  <a:lnTo>
                    <a:pt x="17" y="74"/>
                  </a:lnTo>
                  <a:lnTo>
                    <a:pt x="7" y="80"/>
                  </a:lnTo>
                  <a:lnTo>
                    <a:pt x="0" y="80"/>
                  </a:lnTo>
                  <a:lnTo>
                    <a:pt x="1" y="73"/>
                  </a:lnTo>
                  <a:lnTo>
                    <a:pt x="17" y="60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11" y="52"/>
                  </a:lnTo>
                  <a:lnTo>
                    <a:pt x="8" y="52"/>
                  </a:lnTo>
                  <a:lnTo>
                    <a:pt x="38" y="14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104" y="4"/>
                  </a:lnTo>
                  <a:lnTo>
                    <a:pt x="1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343160" y="3230280"/>
              <a:ext cx="21960" cy="2520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13"/>
                  </a:moveTo>
                  <a:lnTo>
                    <a:pt x="38" y="27"/>
                  </a:lnTo>
                  <a:lnTo>
                    <a:pt x="28" y="34"/>
                  </a:lnTo>
                  <a:lnTo>
                    <a:pt x="17" y="34"/>
                  </a:lnTo>
                  <a:lnTo>
                    <a:pt x="9" y="45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6" y="37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26" y="20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33" y="0"/>
                  </a:lnTo>
                  <a:lnTo>
                    <a:pt x="37" y="3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295280" y="3238200"/>
              <a:ext cx="9720" cy="140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2"/>
                  </a:moveTo>
                  <a:lnTo>
                    <a:pt x="12" y="7"/>
                  </a:lnTo>
                  <a:lnTo>
                    <a:pt x="11" y="15"/>
                  </a:lnTo>
                  <a:lnTo>
                    <a:pt x="15" y="25"/>
                  </a:lnTo>
                  <a:lnTo>
                    <a:pt x="11" y="26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5" y="2"/>
                  </a:lnTo>
                  <a:lnTo>
                    <a:pt x="18" y="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316160" y="3235320"/>
              <a:ext cx="15840" cy="136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0" y="19"/>
                  </a:moveTo>
                  <a:lnTo>
                    <a:pt x="13" y="28"/>
                  </a:lnTo>
                  <a:lnTo>
                    <a:pt x="14" y="25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0" y="9"/>
                  </a:lnTo>
                  <a:lnTo>
                    <a:pt x="7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23" y="9"/>
                  </a:lnTo>
                  <a:lnTo>
                    <a:pt x="30" y="15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278000" y="3244680"/>
              <a:ext cx="103320" cy="220320"/>
            </a:xfrm>
            <a:custGeom>
              <a:avLst/>
              <a:gdLst/>
              <a:ahLst/>
              <a:rect l="l" t="t" r="r" b="b"/>
              <a:pathLst>
                <a:path w="197" h="417">
                  <a:moveTo>
                    <a:pt x="196" y="56"/>
                  </a:moveTo>
                  <a:lnTo>
                    <a:pt x="197" y="59"/>
                  </a:lnTo>
                  <a:lnTo>
                    <a:pt x="189" y="96"/>
                  </a:lnTo>
                  <a:lnTo>
                    <a:pt x="165" y="128"/>
                  </a:lnTo>
                  <a:lnTo>
                    <a:pt x="149" y="146"/>
                  </a:lnTo>
                  <a:lnTo>
                    <a:pt x="134" y="180"/>
                  </a:lnTo>
                  <a:lnTo>
                    <a:pt x="90" y="242"/>
                  </a:lnTo>
                  <a:lnTo>
                    <a:pt x="73" y="266"/>
                  </a:lnTo>
                  <a:lnTo>
                    <a:pt x="59" y="341"/>
                  </a:lnTo>
                  <a:lnTo>
                    <a:pt x="65" y="377"/>
                  </a:lnTo>
                  <a:lnTo>
                    <a:pt x="63" y="396"/>
                  </a:lnTo>
                  <a:lnTo>
                    <a:pt x="63" y="413"/>
                  </a:lnTo>
                  <a:lnTo>
                    <a:pt x="57" y="417"/>
                  </a:lnTo>
                  <a:lnTo>
                    <a:pt x="59" y="363"/>
                  </a:lnTo>
                  <a:lnTo>
                    <a:pt x="52" y="344"/>
                  </a:lnTo>
                  <a:lnTo>
                    <a:pt x="52" y="318"/>
                  </a:lnTo>
                  <a:lnTo>
                    <a:pt x="46" y="315"/>
                  </a:lnTo>
                  <a:lnTo>
                    <a:pt x="42" y="303"/>
                  </a:lnTo>
                  <a:lnTo>
                    <a:pt x="53" y="269"/>
                  </a:lnTo>
                  <a:lnTo>
                    <a:pt x="50" y="266"/>
                  </a:lnTo>
                  <a:lnTo>
                    <a:pt x="48" y="269"/>
                  </a:lnTo>
                  <a:lnTo>
                    <a:pt x="46" y="269"/>
                  </a:lnTo>
                  <a:lnTo>
                    <a:pt x="8" y="290"/>
                  </a:lnTo>
                  <a:lnTo>
                    <a:pt x="0" y="289"/>
                  </a:lnTo>
                  <a:lnTo>
                    <a:pt x="34" y="235"/>
                  </a:lnTo>
                  <a:lnTo>
                    <a:pt x="42" y="208"/>
                  </a:lnTo>
                  <a:lnTo>
                    <a:pt x="45" y="208"/>
                  </a:lnTo>
                  <a:lnTo>
                    <a:pt x="45" y="211"/>
                  </a:lnTo>
                  <a:lnTo>
                    <a:pt x="46" y="213"/>
                  </a:lnTo>
                  <a:lnTo>
                    <a:pt x="57" y="201"/>
                  </a:lnTo>
                  <a:lnTo>
                    <a:pt x="67" y="155"/>
                  </a:lnTo>
                  <a:lnTo>
                    <a:pt x="77" y="141"/>
                  </a:lnTo>
                  <a:lnTo>
                    <a:pt x="80" y="138"/>
                  </a:lnTo>
                  <a:lnTo>
                    <a:pt x="93" y="142"/>
                  </a:lnTo>
                  <a:lnTo>
                    <a:pt x="105" y="132"/>
                  </a:lnTo>
                  <a:lnTo>
                    <a:pt x="155" y="110"/>
                  </a:lnTo>
                  <a:lnTo>
                    <a:pt x="176" y="82"/>
                  </a:lnTo>
                  <a:lnTo>
                    <a:pt x="176" y="79"/>
                  </a:lnTo>
                  <a:lnTo>
                    <a:pt x="166" y="80"/>
                  </a:lnTo>
                  <a:lnTo>
                    <a:pt x="151" y="90"/>
                  </a:lnTo>
                  <a:lnTo>
                    <a:pt x="148" y="90"/>
                  </a:lnTo>
                  <a:lnTo>
                    <a:pt x="145" y="89"/>
                  </a:lnTo>
                  <a:lnTo>
                    <a:pt x="179" y="44"/>
                  </a:lnTo>
                  <a:lnTo>
                    <a:pt x="187" y="14"/>
                  </a:lnTo>
                  <a:lnTo>
                    <a:pt x="191" y="1"/>
                  </a:lnTo>
                  <a:lnTo>
                    <a:pt x="194" y="0"/>
                  </a:lnTo>
                  <a:lnTo>
                    <a:pt x="196" y="4"/>
                  </a:lnTo>
                  <a:lnTo>
                    <a:pt x="19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278000" y="3241440"/>
              <a:ext cx="14400" cy="172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31"/>
                  </a:moveTo>
                  <a:lnTo>
                    <a:pt x="18" y="0"/>
                  </a:lnTo>
                  <a:lnTo>
                    <a:pt x="15" y="7"/>
                  </a:lnTo>
                  <a:lnTo>
                    <a:pt x="14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4" y="31"/>
                  </a:lnTo>
                  <a:lnTo>
                    <a:pt x="28" y="34"/>
                  </a:lnTo>
                  <a:lnTo>
                    <a:pt x="12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289160" y="3255840"/>
              <a:ext cx="50760" cy="16920"/>
            </a:xfrm>
            <a:custGeom>
              <a:avLst/>
              <a:gdLst/>
              <a:ahLst/>
              <a:rect l="l" t="t" r="r" b="b"/>
              <a:pathLst>
                <a:path w="96" h="35">
                  <a:moveTo>
                    <a:pt x="93" y="1"/>
                  </a:moveTo>
                  <a:lnTo>
                    <a:pt x="96" y="4"/>
                  </a:lnTo>
                  <a:lnTo>
                    <a:pt x="76" y="24"/>
                  </a:lnTo>
                  <a:lnTo>
                    <a:pt x="46" y="35"/>
                  </a:lnTo>
                  <a:lnTo>
                    <a:pt x="18" y="32"/>
                  </a:lnTo>
                  <a:lnTo>
                    <a:pt x="10" y="30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0" y="21"/>
                  </a:lnTo>
                  <a:lnTo>
                    <a:pt x="44" y="17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2" y="18"/>
                  </a:lnTo>
                  <a:lnTo>
                    <a:pt x="59" y="18"/>
                  </a:lnTo>
                  <a:lnTo>
                    <a:pt x="84" y="0"/>
                  </a:lnTo>
                  <a:lnTo>
                    <a:pt x="91" y="1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274760" y="3255840"/>
              <a:ext cx="77760" cy="31320"/>
            </a:xfrm>
            <a:custGeom>
              <a:avLst/>
              <a:gdLst/>
              <a:ahLst/>
              <a:rect l="l" t="t" r="r" b="b"/>
              <a:pathLst>
                <a:path w="148" h="61">
                  <a:moveTo>
                    <a:pt x="148" y="7"/>
                  </a:moveTo>
                  <a:lnTo>
                    <a:pt x="133" y="17"/>
                  </a:lnTo>
                  <a:lnTo>
                    <a:pt x="117" y="35"/>
                  </a:lnTo>
                  <a:lnTo>
                    <a:pt x="117" y="38"/>
                  </a:lnTo>
                  <a:lnTo>
                    <a:pt x="63" y="61"/>
                  </a:lnTo>
                  <a:lnTo>
                    <a:pt x="30" y="54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7" y="35"/>
                  </a:lnTo>
                  <a:lnTo>
                    <a:pt x="38" y="49"/>
                  </a:lnTo>
                  <a:lnTo>
                    <a:pt x="96" y="35"/>
                  </a:lnTo>
                  <a:lnTo>
                    <a:pt x="111" y="25"/>
                  </a:lnTo>
                  <a:lnTo>
                    <a:pt x="120" y="14"/>
                  </a:lnTo>
                  <a:lnTo>
                    <a:pt x="140" y="1"/>
                  </a:lnTo>
                  <a:lnTo>
                    <a:pt x="147" y="0"/>
                  </a:lnTo>
                  <a:lnTo>
                    <a:pt x="148" y="4"/>
                  </a:lnTo>
                  <a:lnTo>
                    <a:pt x="14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98560" y="3306600"/>
              <a:ext cx="93600" cy="186840"/>
            </a:xfrm>
            <a:custGeom>
              <a:avLst/>
              <a:gdLst/>
              <a:ahLst/>
              <a:rect l="l" t="t" r="r" b="b"/>
              <a:pathLst>
                <a:path w="177" h="356">
                  <a:moveTo>
                    <a:pt x="174" y="100"/>
                  </a:moveTo>
                  <a:lnTo>
                    <a:pt x="172" y="167"/>
                  </a:lnTo>
                  <a:lnTo>
                    <a:pt x="143" y="277"/>
                  </a:lnTo>
                  <a:lnTo>
                    <a:pt x="116" y="353"/>
                  </a:lnTo>
                  <a:lnTo>
                    <a:pt x="95" y="356"/>
                  </a:lnTo>
                  <a:lnTo>
                    <a:pt x="75" y="352"/>
                  </a:lnTo>
                  <a:lnTo>
                    <a:pt x="71" y="345"/>
                  </a:lnTo>
                  <a:lnTo>
                    <a:pt x="102" y="238"/>
                  </a:lnTo>
                  <a:lnTo>
                    <a:pt x="115" y="186"/>
                  </a:lnTo>
                  <a:lnTo>
                    <a:pt x="124" y="158"/>
                  </a:lnTo>
                  <a:lnTo>
                    <a:pt x="124" y="149"/>
                  </a:lnTo>
                  <a:lnTo>
                    <a:pt x="119" y="149"/>
                  </a:lnTo>
                  <a:lnTo>
                    <a:pt x="109" y="167"/>
                  </a:lnTo>
                  <a:lnTo>
                    <a:pt x="72" y="269"/>
                  </a:lnTo>
                  <a:lnTo>
                    <a:pt x="53" y="317"/>
                  </a:lnTo>
                  <a:lnTo>
                    <a:pt x="46" y="317"/>
                  </a:lnTo>
                  <a:lnTo>
                    <a:pt x="38" y="314"/>
                  </a:lnTo>
                  <a:lnTo>
                    <a:pt x="7" y="328"/>
                  </a:lnTo>
                  <a:lnTo>
                    <a:pt x="5" y="328"/>
                  </a:lnTo>
                  <a:lnTo>
                    <a:pt x="0" y="266"/>
                  </a:lnTo>
                  <a:lnTo>
                    <a:pt x="9" y="217"/>
                  </a:lnTo>
                  <a:lnTo>
                    <a:pt x="23" y="170"/>
                  </a:lnTo>
                  <a:lnTo>
                    <a:pt x="89" y="42"/>
                  </a:lnTo>
                  <a:lnTo>
                    <a:pt x="116" y="14"/>
                  </a:lnTo>
                  <a:lnTo>
                    <a:pt x="126" y="10"/>
                  </a:lnTo>
                  <a:lnTo>
                    <a:pt x="140" y="12"/>
                  </a:lnTo>
                  <a:lnTo>
                    <a:pt x="146" y="18"/>
                  </a:lnTo>
                  <a:lnTo>
                    <a:pt x="143" y="28"/>
                  </a:lnTo>
                  <a:lnTo>
                    <a:pt x="147" y="31"/>
                  </a:lnTo>
                  <a:lnTo>
                    <a:pt x="154" y="24"/>
                  </a:lnTo>
                  <a:lnTo>
                    <a:pt x="165" y="7"/>
                  </a:lnTo>
                  <a:lnTo>
                    <a:pt x="174" y="0"/>
                  </a:lnTo>
                  <a:lnTo>
                    <a:pt x="177" y="21"/>
                  </a:lnTo>
                  <a:lnTo>
                    <a:pt x="174" y="100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292400" y="3306600"/>
              <a:ext cx="69840" cy="78840"/>
            </a:xfrm>
            <a:custGeom>
              <a:avLst/>
              <a:gdLst/>
              <a:ahLst/>
              <a:rect l="l" t="t" r="r" b="b"/>
              <a:pathLst>
                <a:path w="132" h="151">
                  <a:moveTo>
                    <a:pt x="89" y="72"/>
                  </a:moveTo>
                  <a:lnTo>
                    <a:pt x="62" y="96"/>
                  </a:lnTo>
                  <a:lnTo>
                    <a:pt x="58" y="97"/>
                  </a:lnTo>
                  <a:lnTo>
                    <a:pt x="44" y="116"/>
                  </a:lnTo>
                  <a:lnTo>
                    <a:pt x="44" y="111"/>
                  </a:lnTo>
                  <a:lnTo>
                    <a:pt x="41" y="109"/>
                  </a:lnTo>
                  <a:lnTo>
                    <a:pt x="37" y="111"/>
                  </a:lnTo>
                  <a:lnTo>
                    <a:pt x="0" y="151"/>
                  </a:lnTo>
                  <a:lnTo>
                    <a:pt x="13" y="127"/>
                  </a:lnTo>
                  <a:lnTo>
                    <a:pt x="17" y="106"/>
                  </a:lnTo>
                  <a:lnTo>
                    <a:pt x="34" y="92"/>
                  </a:lnTo>
                  <a:lnTo>
                    <a:pt x="45" y="57"/>
                  </a:lnTo>
                  <a:lnTo>
                    <a:pt x="42" y="50"/>
                  </a:lnTo>
                  <a:lnTo>
                    <a:pt x="49" y="37"/>
                  </a:lnTo>
                  <a:lnTo>
                    <a:pt x="49" y="35"/>
                  </a:lnTo>
                  <a:lnTo>
                    <a:pt x="56" y="38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59" y="45"/>
                  </a:lnTo>
                  <a:lnTo>
                    <a:pt x="72" y="35"/>
                  </a:lnTo>
                  <a:lnTo>
                    <a:pt x="77" y="27"/>
                  </a:lnTo>
                  <a:lnTo>
                    <a:pt x="132" y="0"/>
                  </a:lnTo>
                  <a:lnTo>
                    <a:pt x="106" y="37"/>
                  </a:lnTo>
                  <a:lnTo>
                    <a:pt x="89" y="72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614600" y="3330360"/>
              <a:ext cx="33120" cy="5688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37" y="68"/>
                  </a:moveTo>
                  <a:lnTo>
                    <a:pt x="61" y="103"/>
                  </a:lnTo>
                  <a:lnTo>
                    <a:pt x="61" y="106"/>
                  </a:lnTo>
                  <a:lnTo>
                    <a:pt x="62" y="107"/>
                  </a:lnTo>
                  <a:lnTo>
                    <a:pt x="53" y="107"/>
                  </a:lnTo>
                  <a:lnTo>
                    <a:pt x="51" y="109"/>
                  </a:lnTo>
                  <a:lnTo>
                    <a:pt x="48" y="105"/>
                  </a:lnTo>
                  <a:lnTo>
                    <a:pt x="47" y="92"/>
                  </a:lnTo>
                  <a:lnTo>
                    <a:pt x="38" y="83"/>
                  </a:lnTo>
                  <a:lnTo>
                    <a:pt x="36" y="74"/>
                  </a:lnTo>
                  <a:lnTo>
                    <a:pt x="16" y="40"/>
                  </a:lnTo>
                  <a:lnTo>
                    <a:pt x="12" y="23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37"/>
                  </a:lnTo>
                  <a:lnTo>
                    <a:pt x="3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61960" y="3335040"/>
              <a:ext cx="11160" cy="2520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1" y="30"/>
                  </a:moveTo>
                  <a:lnTo>
                    <a:pt x="13" y="45"/>
                  </a:lnTo>
                  <a:lnTo>
                    <a:pt x="11" y="47"/>
                  </a:lnTo>
                  <a:lnTo>
                    <a:pt x="6" y="47"/>
                  </a:lnTo>
                  <a:lnTo>
                    <a:pt x="0" y="37"/>
                  </a:lnTo>
                  <a:lnTo>
                    <a:pt x="0" y="21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77800" y="3385800"/>
              <a:ext cx="51120" cy="77760"/>
            </a:xfrm>
            <a:custGeom>
              <a:avLst/>
              <a:gdLst/>
              <a:ahLst/>
              <a:rect l="l" t="t" r="r" b="b"/>
              <a:pathLst>
                <a:path w="96" h="147">
                  <a:moveTo>
                    <a:pt x="14" y="4"/>
                  </a:moveTo>
                  <a:lnTo>
                    <a:pt x="31" y="28"/>
                  </a:lnTo>
                  <a:lnTo>
                    <a:pt x="89" y="135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65" y="111"/>
                  </a:lnTo>
                  <a:lnTo>
                    <a:pt x="31" y="53"/>
                  </a:lnTo>
                  <a:lnTo>
                    <a:pt x="13" y="19"/>
                  </a:lnTo>
                  <a:lnTo>
                    <a:pt x="0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513080" y="3369960"/>
              <a:ext cx="47520" cy="109440"/>
            </a:xfrm>
            <a:custGeom>
              <a:avLst/>
              <a:gdLst/>
              <a:ahLst/>
              <a:rect l="l" t="t" r="r" b="b"/>
              <a:pathLst>
                <a:path w="89" h="206">
                  <a:moveTo>
                    <a:pt x="30" y="33"/>
                  </a:moveTo>
                  <a:lnTo>
                    <a:pt x="41" y="52"/>
                  </a:lnTo>
                  <a:lnTo>
                    <a:pt x="72" y="91"/>
                  </a:lnTo>
                  <a:lnTo>
                    <a:pt x="83" y="124"/>
                  </a:lnTo>
                  <a:lnTo>
                    <a:pt x="89" y="168"/>
                  </a:lnTo>
                  <a:lnTo>
                    <a:pt x="75" y="206"/>
                  </a:lnTo>
                  <a:lnTo>
                    <a:pt x="62" y="154"/>
                  </a:lnTo>
                  <a:lnTo>
                    <a:pt x="47" y="117"/>
                  </a:lnTo>
                  <a:lnTo>
                    <a:pt x="34" y="74"/>
                  </a:lnTo>
                  <a:lnTo>
                    <a:pt x="0" y="12"/>
                  </a:lnTo>
                  <a:lnTo>
                    <a:pt x="3" y="0"/>
                  </a:lnTo>
                  <a:lnTo>
                    <a:pt x="7" y="2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46120" y="3377880"/>
              <a:ext cx="34920" cy="7920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57" y="62"/>
                  </a:moveTo>
                  <a:lnTo>
                    <a:pt x="67" y="94"/>
                  </a:lnTo>
                  <a:lnTo>
                    <a:pt x="57" y="116"/>
                  </a:lnTo>
                  <a:lnTo>
                    <a:pt x="19" y="151"/>
                  </a:lnTo>
                  <a:lnTo>
                    <a:pt x="13" y="151"/>
                  </a:lnTo>
                  <a:lnTo>
                    <a:pt x="10" y="151"/>
                  </a:lnTo>
                  <a:lnTo>
                    <a:pt x="19" y="113"/>
                  </a:lnTo>
                  <a:lnTo>
                    <a:pt x="17" y="69"/>
                  </a:lnTo>
                  <a:lnTo>
                    <a:pt x="13" y="42"/>
                  </a:lnTo>
                  <a:lnTo>
                    <a:pt x="6" y="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57" y="62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297080" y="3377880"/>
              <a:ext cx="47520" cy="150480"/>
            </a:xfrm>
            <a:custGeom>
              <a:avLst/>
              <a:gdLst/>
              <a:ahLst/>
              <a:rect l="l" t="t" r="r" b="b"/>
              <a:pathLst>
                <a:path w="92" h="285">
                  <a:moveTo>
                    <a:pt x="85" y="29"/>
                  </a:moveTo>
                  <a:lnTo>
                    <a:pt x="64" y="75"/>
                  </a:lnTo>
                  <a:lnTo>
                    <a:pt x="48" y="150"/>
                  </a:lnTo>
                  <a:lnTo>
                    <a:pt x="47" y="227"/>
                  </a:lnTo>
                  <a:lnTo>
                    <a:pt x="27" y="274"/>
                  </a:lnTo>
                  <a:lnTo>
                    <a:pt x="14" y="285"/>
                  </a:lnTo>
                  <a:lnTo>
                    <a:pt x="0" y="285"/>
                  </a:lnTo>
                  <a:lnTo>
                    <a:pt x="27" y="240"/>
                  </a:lnTo>
                  <a:lnTo>
                    <a:pt x="40" y="196"/>
                  </a:lnTo>
                  <a:lnTo>
                    <a:pt x="43" y="130"/>
                  </a:lnTo>
                  <a:lnTo>
                    <a:pt x="57" y="68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001880" y="3403440"/>
              <a:ext cx="82440" cy="10800"/>
            </a:xfrm>
            <a:custGeom>
              <a:avLst/>
              <a:gdLst/>
              <a:ahLst/>
              <a:rect l="l" t="t" r="r" b="b"/>
              <a:pathLst>
                <a:path w="155" h="21">
                  <a:moveTo>
                    <a:pt x="154" y="17"/>
                  </a:moveTo>
                  <a:lnTo>
                    <a:pt x="155" y="21"/>
                  </a:lnTo>
                  <a:lnTo>
                    <a:pt x="93" y="7"/>
                  </a:lnTo>
                  <a:lnTo>
                    <a:pt x="85" y="8"/>
                  </a:lnTo>
                  <a:lnTo>
                    <a:pt x="57" y="11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3" y="3"/>
                  </a:lnTo>
                  <a:lnTo>
                    <a:pt x="44" y="0"/>
                  </a:lnTo>
                  <a:lnTo>
                    <a:pt x="119" y="3"/>
                  </a:lnTo>
                  <a:lnTo>
                    <a:pt x="1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322280" y="3404880"/>
              <a:ext cx="41400" cy="102960"/>
            </a:xfrm>
            <a:custGeom>
              <a:avLst/>
              <a:gdLst/>
              <a:ahLst/>
              <a:rect l="l" t="t" r="r" b="b"/>
              <a:pathLst>
                <a:path w="76" h="196">
                  <a:moveTo>
                    <a:pt x="76" y="4"/>
                  </a:moveTo>
                  <a:lnTo>
                    <a:pt x="56" y="52"/>
                  </a:lnTo>
                  <a:lnTo>
                    <a:pt x="49" y="81"/>
                  </a:lnTo>
                  <a:lnTo>
                    <a:pt x="42" y="146"/>
                  </a:lnTo>
                  <a:lnTo>
                    <a:pt x="29" y="181"/>
                  </a:lnTo>
                  <a:lnTo>
                    <a:pt x="21" y="190"/>
                  </a:lnTo>
                  <a:lnTo>
                    <a:pt x="4" y="196"/>
                  </a:lnTo>
                  <a:lnTo>
                    <a:pt x="0" y="193"/>
                  </a:lnTo>
                  <a:lnTo>
                    <a:pt x="1" y="186"/>
                  </a:lnTo>
                  <a:lnTo>
                    <a:pt x="19" y="163"/>
                  </a:lnTo>
                  <a:lnTo>
                    <a:pt x="34" y="119"/>
                  </a:lnTo>
                  <a:lnTo>
                    <a:pt x="35" y="107"/>
                  </a:lnTo>
                  <a:lnTo>
                    <a:pt x="41" y="103"/>
                  </a:lnTo>
                  <a:lnTo>
                    <a:pt x="41" y="72"/>
                  </a:lnTo>
                  <a:lnTo>
                    <a:pt x="43" y="63"/>
                  </a:lnTo>
                  <a:lnTo>
                    <a:pt x="49" y="39"/>
                  </a:lnTo>
                  <a:lnTo>
                    <a:pt x="59" y="14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774880" y="3406680"/>
              <a:ext cx="33480" cy="72720"/>
            </a:xfrm>
            <a:custGeom>
              <a:avLst/>
              <a:gdLst/>
              <a:ahLst/>
              <a:rect l="l" t="t" r="r" b="b"/>
              <a:pathLst>
                <a:path w="65" h="138">
                  <a:moveTo>
                    <a:pt x="50" y="96"/>
                  </a:moveTo>
                  <a:lnTo>
                    <a:pt x="65" y="138"/>
                  </a:lnTo>
                  <a:lnTo>
                    <a:pt x="27" y="106"/>
                  </a:lnTo>
                  <a:lnTo>
                    <a:pt x="6" y="72"/>
                  </a:lnTo>
                  <a:lnTo>
                    <a:pt x="0" y="3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40" y="77"/>
                  </a:lnTo>
                  <a:lnTo>
                    <a:pt x="50" y="96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539720" y="3412800"/>
              <a:ext cx="16200" cy="53640"/>
            </a:xfrm>
            <a:custGeom>
              <a:avLst/>
              <a:gdLst/>
              <a:ahLst/>
              <a:rect l="l" t="t" r="r" b="b"/>
              <a:pathLst>
                <a:path w="31" h="104">
                  <a:moveTo>
                    <a:pt x="31" y="82"/>
                  </a:moveTo>
                  <a:lnTo>
                    <a:pt x="30" y="104"/>
                  </a:lnTo>
                  <a:lnTo>
                    <a:pt x="28" y="104"/>
                  </a:lnTo>
                  <a:lnTo>
                    <a:pt x="23" y="78"/>
                  </a:lnTo>
                  <a:lnTo>
                    <a:pt x="13" y="5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9"/>
                  </a:lnTo>
                  <a:lnTo>
                    <a:pt x="31" y="82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371600" y="3429000"/>
              <a:ext cx="11160" cy="3600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21" y="3"/>
                  </a:moveTo>
                  <a:lnTo>
                    <a:pt x="21" y="23"/>
                  </a:lnTo>
                  <a:lnTo>
                    <a:pt x="12" y="42"/>
                  </a:lnTo>
                  <a:lnTo>
                    <a:pt x="7" y="69"/>
                  </a:lnTo>
                  <a:lnTo>
                    <a:pt x="3" y="68"/>
                  </a:lnTo>
                  <a:lnTo>
                    <a:pt x="1" y="68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006560" y="3528720"/>
              <a:ext cx="212760" cy="303120"/>
            </a:xfrm>
            <a:custGeom>
              <a:avLst/>
              <a:gdLst/>
              <a:ahLst/>
              <a:rect l="l" t="t" r="r" b="b"/>
              <a:pathLst>
                <a:path w="402" h="572">
                  <a:moveTo>
                    <a:pt x="376" y="11"/>
                  </a:moveTo>
                  <a:lnTo>
                    <a:pt x="392" y="27"/>
                  </a:lnTo>
                  <a:lnTo>
                    <a:pt x="396" y="41"/>
                  </a:lnTo>
                  <a:lnTo>
                    <a:pt x="402" y="61"/>
                  </a:lnTo>
                  <a:lnTo>
                    <a:pt x="399" y="89"/>
                  </a:lnTo>
                  <a:lnTo>
                    <a:pt x="393" y="100"/>
                  </a:lnTo>
                  <a:lnTo>
                    <a:pt x="383" y="141"/>
                  </a:lnTo>
                  <a:lnTo>
                    <a:pt x="345" y="228"/>
                  </a:lnTo>
                  <a:lnTo>
                    <a:pt x="293" y="310"/>
                  </a:lnTo>
                  <a:lnTo>
                    <a:pt x="223" y="390"/>
                  </a:lnTo>
                  <a:lnTo>
                    <a:pt x="131" y="480"/>
                  </a:lnTo>
                  <a:lnTo>
                    <a:pt x="45" y="544"/>
                  </a:lnTo>
                  <a:lnTo>
                    <a:pt x="0" y="572"/>
                  </a:lnTo>
                  <a:lnTo>
                    <a:pt x="99" y="490"/>
                  </a:lnTo>
                  <a:lnTo>
                    <a:pt x="161" y="425"/>
                  </a:lnTo>
                  <a:lnTo>
                    <a:pt x="247" y="310"/>
                  </a:lnTo>
                  <a:lnTo>
                    <a:pt x="304" y="215"/>
                  </a:lnTo>
                  <a:lnTo>
                    <a:pt x="326" y="170"/>
                  </a:lnTo>
                  <a:lnTo>
                    <a:pt x="352" y="90"/>
                  </a:lnTo>
                  <a:lnTo>
                    <a:pt x="355" y="55"/>
                  </a:lnTo>
                  <a:lnTo>
                    <a:pt x="359" y="51"/>
                  </a:lnTo>
                  <a:lnTo>
                    <a:pt x="351" y="14"/>
                  </a:lnTo>
                  <a:lnTo>
                    <a:pt x="348" y="0"/>
                  </a:lnTo>
                  <a:lnTo>
                    <a:pt x="357" y="1"/>
                  </a:lnTo>
                  <a:lnTo>
                    <a:pt x="376" y="11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914400" y="3530520"/>
              <a:ext cx="273240" cy="342360"/>
            </a:xfrm>
            <a:custGeom>
              <a:avLst/>
              <a:gdLst/>
              <a:ahLst/>
              <a:rect l="l" t="t" r="r" b="b"/>
              <a:pathLst>
                <a:path w="515" h="648">
                  <a:moveTo>
                    <a:pt x="515" y="43"/>
                  </a:moveTo>
                  <a:lnTo>
                    <a:pt x="514" y="97"/>
                  </a:lnTo>
                  <a:lnTo>
                    <a:pt x="484" y="183"/>
                  </a:lnTo>
                  <a:lnTo>
                    <a:pt x="438" y="263"/>
                  </a:lnTo>
                  <a:lnTo>
                    <a:pt x="323" y="422"/>
                  </a:lnTo>
                  <a:lnTo>
                    <a:pt x="263" y="483"/>
                  </a:lnTo>
                  <a:lnTo>
                    <a:pt x="171" y="558"/>
                  </a:lnTo>
                  <a:lnTo>
                    <a:pt x="55" y="632"/>
                  </a:lnTo>
                  <a:lnTo>
                    <a:pt x="13" y="648"/>
                  </a:lnTo>
                  <a:lnTo>
                    <a:pt x="0" y="648"/>
                  </a:lnTo>
                  <a:lnTo>
                    <a:pt x="3" y="641"/>
                  </a:lnTo>
                  <a:lnTo>
                    <a:pt x="61" y="593"/>
                  </a:lnTo>
                  <a:lnTo>
                    <a:pt x="134" y="535"/>
                  </a:lnTo>
                  <a:lnTo>
                    <a:pt x="156" y="517"/>
                  </a:lnTo>
                  <a:lnTo>
                    <a:pt x="179" y="496"/>
                  </a:lnTo>
                  <a:lnTo>
                    <a:pt x="267" y="398"/>
                  </a:lnTo>
                  <a:lnTo>
                    <a:pt x="315" y="327"/>
                  </a:lnTo>
                  <a:lnTo>
                    <a:pt x="354" y="249"/>
                  </a:lnTo>
                  <a:lnTo>
                    <a:pt x="430" y="62"/>
                  </a:lnTo>
                  <a:lnTo>
                    <a:pt x="456" y="31"/>
                  </a:lnTo>
                  <a:lnTo>
                    <a:pt x="470" y="20"/>
                  </a:lnTo>
                  <a:lnTo>
                    <a:pt x="471" y="11"/>
                  </a:lnTo>
                  <a:lnTo>
                    <a:pt x="488" y="3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281240" y="3530520"/>
              <a:ext cx="123840" cy="53640"/>
            </a:xfrm>
            <a:custGeom>
              <a:avLst/>
              <a:gdLst/>
              <a:ahLst/>
              <a:rect l="l" t="t" r="r" b="b"/>
              <a:pathLst>
                <a:path w="234" h="101">
                  <a:moveTo>
                    <a:pt x="234" y="5"/>
                  </a:moveTo>
                  <a:lnTo>
                    <a:pt x="198" y="31"/>
                  </a:lnTo>
                  <a:lnTo>
                    <a:pt x="178" y="48"/>
                  </a:lnTo>
                  <a:lnTo>
                    <a:pt x="145" y="74"/>
                  </a:lnTo>
                  <a:lnTo>
                    <a:pt x="95" y="93"/>
                  </a:lnTo>
                  <a:lnTo>
                    <a:pt x="57" y="97"/>
                  </a:lnTo>
                  <a:lnTo>
                    <a:pt x="7" y="101"/>
                  </a:lnTo>
                  <a:lnTo>
                    <a:pt x="0" y="100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48" y="81"/>
                  </a:lnTo>
                  <a:lnTo>
                    <a:pt x="114" y="66"/>
                  </a:lnTo>
                  <a:lnTo>
                    <a:pt x="151" y="49"/>
                  </a:lnTo>
                  <a:lnTo>
                    <a:pt x="231" y="0"/>
                  </a:lnTo>
                  <a:lnTo>
                    <a:pt x="234" y="0"/>
                  </a:lnTo>
                  <a:lnTo>
                    <a:pt x="23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952560" y="3536640"/>
              <a:ext cx="54000" cy="7560"/>
            </a:xfrm>
            <a:custGeom>
              <a:avLst/>
              <a:gdLst/>
              <a:ahLst/>
              <a:rect l="l" t="t" r="r" b="b"/>
              <a:pathLst>
                <a:path w="104" h="17">
                  <a:moveTo>
                    <a:pt x="103" y="13"/>
                  </a:moveTo>
                  <a:lnTo>
                    <a:pt x="104" y="13"/>
                  </a:lnTo>
                  <a:lnTo>
                    <a:pt x="104" y="17"/>
                  </a:lnTo>
                  <a:lnTo>
                    <a:pt x="61" y="7"/>
                  </a:lnTo>
                  <a:lnTo>
                    <a:pt x="8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1" y="4"/>
                  </a:lnTo>
                  <a:lnTo>
                    <a:pt x="28" y="0"/>
                  </a:lnTo>
                  <a:lnTo>
                    <a:pt x="72" y="3"/>
                  </a:lnTo>
                  <a:lnTo>
                    <a:pt x="10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22240" y="3601800"/>
              <a:ext cx="96840" cy="169560"/>
            </a:xfrm>
            <a:custGeom>
              <a:avLst/>
              <a:gdLst/>
              <a:ahLst/>
              <a:rect l="l" t="t" r="r" b="b"/>
              <a:pathLst>
                <a:path w="184" h="319">
                  <a:moveTo>
                    <a:pt x="148" y="176"/>
                  </a:moveTo>
                  <a:lnTo>
                    <a:pt x="129" y="215"/>
                  </a:lnTo>
                  <a:lnTo>
                    <a:pt x="45" y="291"/>
                  </a:lnTo>
                  <a:lnTo>
                    <a:pt x="0" y="319"/>
                  </a:lnTo>
                  <a:lnTo>
                    <a:pt x="52" y="254"/>
                  </a:lnTo>
                  <a:lnTo>
                    <a:pt x="62" y="234"/>
                  </a:lnTo>
                  <a:lnTo>
                    <a:pt x="62" y="209"/>
                  </a:lnTo>
                  <a:lnTo>
                    <a:pt x="52" y="182"/>
                  </a:lnTo>
                  <a:lnTo>
                    <a:pt x="43" y="174"/>
                  </a:lnTo>
                  <a:lnTo>
                    <a:pt x="138" y="58"/>
                  </a:lnTo>
                  <a:lnTo>
                    <a:pt x="184" y="0"/>
                  </a:lnTo>
                  <a:lnTo>
                    <a:pt x="163" y="99"/>
                  </a:lnTo>
                  <a:lnTo>
                    <a:pt x="148" y="176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96960" y="3698640"/>
              <a:ext cx="152280" cy="118800"/>
            </a:xfrm>
            <a:custGeom>
              <a:avLst/>
              <a:gdLst/>
              <a:ahLst/>
              <a:rect l="l" t="t" r="r" b="b"/>
              <a:pathLst>
                <a:path w="289" h="224">
                  <a:moveTo>
                    <a:pt x="289" y="24"/>
                  </a:moveTo>
                  <a:lnTo>
                    <a:pt x="289" y="52"/>
                  </a:lnTo>
                  <a:lnTo>
                    <a:pt x="254" y="103"/>
                  </a:lnTo>
                  <a:lnTo>
                    <a:pt x="217" y="144"/>
                  </a:lnTo>
                  <a:lnTo>
                    <a:pt x="170" y="173"/>
                  </a:lnTo>
                  <a:lnTo>
                    <a:pt x="125" y="193"/>
                  </a:lnTo>
                  <a:lnTo>
                    <a:pt x="90" y="204"/>
                  </a:lnTo>
                  <a:lnTo>
                    <a:pt x="28" y="223"/>
                  </a:lnTo>
                  <a:lnTo>
                    <a:pt x="17" y="224"/>
                  </a:lnTo>
                  <a:lnTo>
                    <a:pt x="5" y="223"/>
                  </a:lnTo>
                  <a:lnTo>
                    <a:pt x="0" y="216"/>
                  </a:lnTo>
                  <a:lnTo>
                    <a:pt x="4" y="204"/>
                  </a:lnTo>
                  <a:lnTo>
                    <a:pt x="41" y="178"/>
                  </a:lnTo>
                  <a:lnTo>
                    <a:pt x="84" y="152"/>
                  </a:lnTo>
                  <a:lnTo>
                    <a:pt x="183" y="83"/>
                  </a:lnTo>
                  <a:lnTo>
                    <a:pt x="272" y="0"/>
                  </a:lnTo>
                  <a:lnTo>
                    <a:pt x="279" y="4"/>
                  </a:lnTo>
                  <a:lnTo>
                    <a:pt x="28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254240" y="3732120"/>
              <a:ext cx="247680" cy="239400"/>
            </a:xfrm>
            <a:custGeom>
              <a:avLst/>
              <a:gdLst/>
              <a:ahLst/>
              <a:rect l="l" t="t" r="r" b="b"/>
              <a:pathLst>
                <a:path w="466" h="455">
                  <a:moveTo>
                    <a:pt x="150" y="162"/>
                  </a:moveTo>
                  <a:lnTo>
                    <a:pt x="225" y="228"/>
                  </a:lnTo>
                  <a:lnTo>
                    <a:pt x="347" y="344"/>
                  </a:lnTo>
                  <a:lnTo>
                    <a:pt x="422" y="393"/>
                  </a:lnTo>
                  <a:lnTo>
                    <a:pt x="466" y="416"/>
                  </a:lnTo>
                  <a:lnTo>
                    <a:pt x="450" y="454"/>
                  </a:lnTo>
                  <a:lnTo>
                    <a:pt x="450" y="455"/>
                  </a:lnTo>
                  <a:lnTo>
                    <a:pt x="409" y="433"/>
                  </a:lnTo>
                  <a:lnTo>
                    <a:pt x="368" y="424"/>
                  </a:lnTo>
                  <a:lnTo>
                    <a:pt x="299" y="410"/>
                  </a:lnTo>
                  <a:lnTo>
                    <a:pt x="232" y="375"/>
                  </a:lnTo>
                  <a:lnTo>
                    <a:pt x="140" y="311"/>
                  </a:lnTo>
                  <a:lnTo>
                    <a:pt x="93" y="289"/>
                  </a:lnTo>
                  <a:lnTo>
                    <a:pt x="57" y="279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2"/>
                  </a:lnTo>
                  <a:lnTo>
                    <a:pt x="5" y="240"/>
                  </a:lnTo>
                  <a:lnTo>
                    <a:pt x="0" y="180"/>
                  </a:lnTo>
                  <a:lnTo>
                    <a:pt x="6" y="107"/>
                  </a:lnTo>
                  <a:lnTo>
                    <a:pt x="9" y="0"/>
                  </a:lnTo>
                  <a:lnTo>
                    <a:pt x="93" y="107"/>
                  </a:lnTo>
                  <a:lnTo>
                    <a:pt x="150" y="162"/>
                  </a:lnTo>
                  <a:close/>
                </a:path>
              </a:pathLst>
            </a:custGeom>
            <a:solidFill>
              <a:srgbClr val="5959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33400" y="3757320"/>
              <a:ext cx="279360" cy="583920"/>
            </a:xfrm>
            <a:custGeom>
              <a:avLst/>
              <a:gdLst/>
              <a:ahLst/>
              <a:rect l="l" t="t" r="r" b="b"/>
              <a:pathLst>
                <a:path w="528" h="1106">
                  <a:moveTo>
                    <a:pt x="500" y="114"/>
                  </a:moveTo>
                  <a:lnTo>
                    <a:pt x="486" y="170"/>
                  </a:lnTo>
                  <a:lnTo>
                    <a:pt x="475" y="211"/>
                  </a:lnTo>
                  <a:lnTo>
                    <a:pt x="459" y="258"/>
                  </a:lnTo>
                  <a:lnTo>
                    <a:pt x="428" y="351"/>
                  </a:lnTo>
                  <a:lnTo>
                    <a:pt x="404" y="408"/>
                  </a:lnTo>
                  <a:lnTo>
                    <a:pt x="373" y="489"/>
                  </a:lnTo>
                  <a:lnTo>
                    <a:pt x="349" y="556"/>
                  </a:lnTo>
                  <a:lnTo>
                    <a:pt x="299" y="663"/>
                  </a:lnTo>
                  <a:lnTo>
                    <a:pt x="293" y="682"/>
                  </a:lnTo>
                  <a:lnTo>
                    <a:pt x="280" y="714"/>
                  </a:lnTo>
                  <a:lnTo>
                    <a:pt x="256" y="801"/>
                  </a:lnTo>
                  <a:lnTo>
                    <a:pt x="241" y="876"/>
                  </a:lnTo>
                  <a:lnTo>
                    <a:pt x="234" y="886"/>
                  </a:lnTo>
                  <a:lnTo>
                    <a:pt x="234" y="913"/>
                  </a:lnTo>
                  <a:lnTo>
                    <a:pt x="230" y="920"/>
                  </a:lnTo>
                  <a:lnTo>
                    <a:pt x="214" y="931"/>
                  </a:lnTo>
                  <a:lnTo>
                    <a:pt x="213" y="948"/>
                  </a:lnTo>
                  <a:lnTo>
                    <a:pt x="197" y="965"/>
                  </a:lnTo>
                  <a:lnTo>
                    <a:pt x="201" y="968"/>
                  </a:lnTo>
                  <a:lnTo>
                    <a:pt x="213" y="966"/>
                  </a:lnTo>
                  <a:lnTo>
                    <a:pt x="214" y="966"/>
                  </a:lnTo>
                  <a:lnTo>
                    <a:pt x="217" y="976"/>
                  </a:lnTo>
                  <a:lnTo>
                    <a:pt x="218" y="978"/>
                  </a:lnTo>
                  <a:lnTo>
                    <a:pt x="217" y="987"/>
                  </a:lnTo>
                  <a:lnTo>
                    <a:pt x="203" y="1001"/>
                  </a:lnTo>
                  <a:lnTo>
                    <a:pt x="204" y="1004"/>
                  </a:lnTo>
                  <a:lnTo>
                    <a:pt x="221" y="999"/>
                  </a:lnTo>
                  <a:lnTo>
                    <a:pt x="217" y="1018"/>
                  </a:lnTo>
                  <a:lnTo>
                    <a:pt x="214" y="1023"/>
                  </a:lnTo>
                  <a:lnTo>
                    <a:pt x="214" y="1027"/>
                  </a:lnTo>
                  <a:lnTo>
                    <a:pt x="228" y="1027"/>
                  </a:lnTo>
                  <a:lnTo>
                    <a:pt x="237" y="1011"/>
                  </a:lnTo>
                  <a:lnTo>
                    <a:pt x="241" y="994"/>
                  </a:lnTo>
                  <a:lnTo>
                    <a:pt x="248" y="1001"/>
                  </a:lnTo>
                  <a:lnTo>
                    <a:pt x="255" y="1011"/>
                  </a:lnTo>
                  <a:lnTo>
                    <a:pt x="259" y="1030"/>
                  </a:lnTo>
                  <a:lnTo>
                    <a:pt x="254" y="1048"/>
                  </a:lnTo>
                  <a:lnTo>
                    <a:pt x="255" y="1049"/>
                  </a:lnTo>
                  <a:lnTo>
                    <a:pt x="259" y="1049"/>
                  </a:lnTo>
                  <a:lnTo>
                    <a:pt x="268" y="1025"/>
                  </a:lnTo>
                  <a:lnTo>
                    <a:pt x="265" y="1001"/>
                  </a:lnTo>
                  <a:lnTo>
                    <a:pt x="278" y="1004"/>
                  </a:lnTo>
                  <a:lnTo>
                    <a:pt x="299" y="1035"/>
                  </a:lnTo>
                  <a:lnTo>
                    <a:pt x="301" y="1040"/>
                  </a:lnTo>
                  <a:lnTo>
                    <a:pt x="307" y="1040"/>
                  </a:lnTo>
                  <a:lnTo>
                    <a:pt x="313" y="1030"/>
                  </a:lnTo>
                  <a:lnTo>
                    <a:pt x="303" y="997"/>
                  </a:lnTo>
                  <a:lnTo>
                    <a:pt x="320" y="985"/>
                  </a:lnTo>
                  <a:lnTo>
                    <a:pt x="327" y="972"/>
                  </a:lnTo>
                  <a:lnTo>
                    <a:pt x="320" y="951"/>
                  </a:lnTo>
                  <a:lnTo>
                    <a:pt x="321" y="940"/>
                  </a:lnTo>
                  <a:lnTo>
                    <a:pt x="331" y="932"/>
                  </a:lnTo>
                  <a:lnTo>
                    <a:pt x="344" y="932"/>
                  </a:lnTo>
                  <a:lnTo>
                    <a:pt x="338" y="934"/>
                  </a:lnTo>
                  <a:lnTo>
                    <a:pt x="340" y="944"/>
                  </a:lnTo>
                  <a:lnTo>
                    <a:pt x="352" y="951"/>
                  </a:lnTo>
                  <a:lnTo>
                    <a:pt x="404" y="952"/>
                  </a:lnTo>
                  <a:lnTo>
                    <a:pt x="444" y="968"/>
                  </a:lnTo>
                  <a:lnTo>
                    <a:pt x="486" y="987"/>
                  </a:lnTo>
                  <a:lnTo>
                    <a:pt x="512" y="986"/>
                  </a:lnTo>
                  <a:lnTo>
                    <a:pt x="517" y="983"/>
                  </a:lnTo>
                  <a:lnTo>
                    <a:pt x="521" y="983"/>
                  </a:lnTo>
                  <a:lnTo>
                    <a:pt x="516" y="994"/>
                  </a:lnTo>
                  <a:lnTo>
                    <a:pt x="486" y="1018"/>
                  </a:lnTo>
                  <a:lnTo>
                    <a:pt x="448" y="1028"/>
                  </a:lnTo>
                  <a:lnTo>
                    <a:pt x="406" y="1041"/>
                  </a:lnTo>
                  <a:lnTo>
                    <a:pt x="358" y="1065"/>
                  </a:lnTo>
                  <a:lnTo>
                    <a:pt x="334" y="1079"/>
                  </a:lnTo>
                  <a:lnTo>
                    <a:pt x="313" y="1087"/>
                  </a:lnTo>
                  <a:lnTo>
                    <a:pt x="248" y="1106"/>
                  </a:lnTo>
                  <a:lnTo>
                    <a:pt x="201" y="1104"/>
                  </a:lnTo>
                  <a:lnTo>
                    <a:pt x="153" y="1099"/>
                  </a:lnTo>
                  <a:lnTo>
                    <a:pt x="125" y="1099"/>
                  </a:lnTo>
                  <a:lnTo>
                    <a:pt x="105" y="1086"/>
                  </a:lnTo>
                  <a:lnTo>
                    <a:pt x="83" y="1080"/>
                  </a:lnTo>
                  <a:lnTo>
                    <a:pt x="77" y="1075"/>
                  </a:lnTo>
                  <a:lnTo>
                    <a:pt x="96" y="1063"/>
                  </a:lnTo>
                  <a:lnTo>
                    <a:pt x="104" y="1051"/>
                  </a:lnTo>
                  <a:lnTo>
                    <a:pt x="104" y="1049"/>
                  </a:lnTo>
                  <a:lnTo>
                    <a:pt x="103" y="1048"/>
                  </a:lnTo>
                  <a:lnTo>
                    <a:pt x="79" y="1063"/>
                  </a:lnTo>
                  <a:lnTo>
                    <a:pt x="62" y="1063"/>
                  </a:lnTo>
                  <a:lnTo>
                    <a:pt x="59" y="1061"/>
                  </a:lnTo>
                  <a:lnTo>
                    <a:pt x="56" y="1058"/>
                  </a:lnTo>
                  <a:lnTo>
                    <a:pt x="79" y="1047"/>
                  </a:lnTo>
                  <a:lnTo>
                    <a:pt x="86" y="1040"/>
                  </a:lnTo>
                  <a:lnTo>
                    <a:pt x="86" y="1034"/>
                  </a:lnTo>
                  <a:lnTo>
                    <a:pt x="76" y="1035"/>
                  </a:lnTo>
                  <a:lnTo>
                    <a:pt x="70" y="1041"/>
                  </a:lnTo>
                  <a:lnTo>
                    <a:pt x="51" y="1041"/>
                  </a:lnTo>
                  <a:lnTo>
                    <a:pt x="32" y="1030"/>
                  </a:lnTo>
                  <a:lnTo>
                    <a:pt x="27" y="1021"/>
                  </a:lnTo>
                  <a:lnTo>
                    <a:pt x="25" y="1018"/>
                  </a:lnTo>
                  <a:lnTo>
                    <a:pt x="35" y="1018"/>
                  </a:lnTo>
                  <a:lnTo>
                    <a:pt x="41" y="1014"/>
                  </a:lnTo>
                  <a:lnTo>
                    <a:pt x="15" y="993"/>
                  </a:lnTo>
                  <a:lnTo>
                    <a:pt x="8" y="979"/>
                  </a:lnTo>
                  <a:lnTo>
                    <a:pt x="8" y="952"/>
                  </a:lnTo>
                  <a:lnTo>
                    <a:pt x="12" y="951"/>
                  </a:lnTo>
                  <a:lnTo>
                    <a:pt x="15" y="948"/>
                  </a:lnTo>
                  <a:lnTo>
                    <a:pt x="15" y="944"/>
                  </a:lnTo>
                  <a:lnTo>
                    <a:pt x="3" y="930"/>
                  </a:lnTo>
                  <a:lnTo>
                    <a:pt x="0" y="906"/>
                  </a:lnTo>
                  <a:lnTo>
                    <a:pt x="7" y="862"/>
                  </a:lnTo>
                  <a:lnTo>
                    <a:pt x="10" y="852"/>
                  </a:lnTo>
                  <a:lnTo>
                    <a:pt x="14" y="825"/>
                  </a:lnTo>
                  <a:lnTo>
                    <a:pt x="21" y="797"/>
                  </a:lnTo>
                  <a:lnTo>
                    <a:pt x="45" y="720"/>
                  </a:lnTo>
                  <a:lnTo>
                    <a:pt x="62" y="662"/>
                  </a:lnTo>
                  <a:lnTo>
                    <a:pt x="66" y="659"/>
                  </a:lnTo>
                  <a:lnTo>
                    <a:pt x="86" y="578"/>
                  </a:lnTo>
                  <a:lnTo>
                    <a:pt x="111" y="482"/>
                  </a:lnTo>
                  <a:lnTo>
                    <a:pt x="132" y="348"/>
                  </a:lnTo>
                  <a:lnTo>
                    <a:pt x="134" y="300"/>
                  </a:lnTo>
                  <a:lnTo>
                    <a:pt x="132" y="241"/>
                  </a:lnTo>
                  <a:lnTo>
                    <a:pt x="132" y="230"/>
                  </a:lnTo>
                  <a:lnTo>
                    <a:pt x="156" y="235"/>
                  </a:lnTo>
                  <a:lnTo>
                    <a:pt x="183" y="231"/>
                  </a:lnTo>
                  <a:lnTo>
                    <a:pt x="246" y="203"/>
                  </a:lnTo>
                  <a:lnTo>
                    <a:pt x="332" y="158"/>
                  </a:lnTo>
                  <a:lnTo>
                    <a:pt x="435" y="83"/>
                  </a:lnTo>
                  <a:lnTo>
                    <a:pt x="506" y="23"/>
                  </a:lnTo>
                  <a:lnTo>
                    <a:pt x="528" y="0"/>
                  </a:lnTo>
                  <a:lnTo>
                    <a:pt x="513" y="73"/>
                  </a:lnTo>
                  <a:lnTo>
                    <a:pt x="500" y="114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644920" y="3814560"/>
              <a:ext cx="42840" cy="410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83" y="2"/>
                  </a:moveTo>
                  <a:lnTo>
                    <a:pt x="69" y="23"/>
                  </a:lnTo>
                  <a:lnTo>
                    <a:pt x="69" y="31"/>
                  </a:lnTo>
                  <a:lnTo>
                    <a:pt x="28" y="65"/>
                  </a:lnTo>
                  <a:lnTo>
                    <a:pt x="12" y="69"/>
                  </a:lnTo>
                  <a:lnTo>
                    <a:pt x="5" y="77"/>
                  </a:lnTo>
                  <a:lnTo>
                    <a:pt x="3" y="79"/>
                  </a:lnTo>
                  <a:lnTo>
                    <a:pt x="1" y="77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60" y="23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773440" y="3805200"/>
              <a:ext cx="28440" cy="107640"/>
            </a:xfrm>
            <a:custGeom>
              <a:avLst/>
              <a:gdLst/>
              <a:ahLst/>
              <a:rect l="l" t="t" r="r" b="b"/>
              <a:pathLst>
                <a:path w="55" h="204">
                  <a:moveTo>
                    <a:pt x="45" y="116"/>
                  </a:moveTo>
                  <a:lnTo>
                    <a:pt x="28" y="133"/>
                  </a:lnTo>
                  <a:lnTo>
                    <a:pt x="17" y="164"/>
                  </a:lnTo>
                  <a:lnTo>
                    <a:pt x="18" y="183"/>
                  </a:lnTo>
                  <a:lnTo>
                    <a:pt x="14" y="204"/>
                  </a:lnTo>
                  <a:lnTo>
                    <a:pt x="0" y="165"/>
                  </a:lnTo>
                  <a:lnTo>
                    <a:pt x="52" y="0"/>
                  </a:lnTo>
                  <a:lnTo>
                    <a:pt x="55" y="111"/>
                  </a:lnTo>
                  <a:lnTo>
                    <a:pt x="45" y="116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786040" y="3870000"/>
              <a:ext cx="85680" cy="241200"/>
            </a:xfrm>
            <a:custGeom>
              <a:avLst/>
              <a:gdLst/>
              <a:ahLst/>
              <a:rect l="l" t="t" r="r" b="b"/>
              <a:pathLst>
                <a:path w="161" h="455">
                  <a:moveTo>
                    <a:pt x="69" y="190"/>
                  </a:moveTo>
                  <a:lnTo>
                    <a:pt x="92" y="266"/>
                  </a:lnTo>
                  <a:lnTo>
                    <a:pt x="103" y="331"/>
                  </a:lnTo>
                  <a:lnTo>
                    <a:pt x="121" y="379"/>
                  </a:lnTo>
                  <a:lnTo>
                    <a:pt x="151" y="427"/>
                  </a:lnTo>
                  <a:lnTo>
                    <a:pt x="161" y="440"/>
                  </a:lnTo>
                  <a:lnTo>
                    <a:pt x="157" y="449"/>
                  </a:lnTo>
                  <a:lnTo>
                    <a:pt x="157" y="452"/>
                  </a:lnTo>
                  <a:lnTo>
                    <a:pt x="147" y="455"/>
                  </a:lnTo>
                  <a:lnTo>
                    <a:pt x="142" y="452"/>
                  </a:lnTo>
                  <a:lnTo>
                    <a:pt x="135" y="442"/>
                  </a:lnTo>
                  <a:lnTo>
                    <a:pt x="128" y="437"/>
                  </a:lnTo>
                  <a:lnTo>
                    <a:pt x="121" y="427"/>
                  </a:lnTo>
                  <a:lnTo>
                    <a:pt x="117" y="427"/>
                  </a:lnTo>
                  <a:lnTo>
                    <a:pt x="97" y="399"/>
                  </a:lnTo>
                  <a:lnTo>
                    <a:pt x="82" y="358"/>
                  </a:lnTo>
                  <a:lnTo>
                    <a:pt x="82" y="348"/>
                  </a:lnTo>
                  <a:lnTo>
                    <a:pt x="85" y="349"/>
                  </a:lnTo>
                  <a:lnTo>
                    <a:pt x="87" y="345"/>
                  </a:lnTo>
                  <a:lnTo>
                    <a:pt x="65" y="300"/>
                  </a:lnTo>
                  <a:lnTo>
                    <a:pt x="34" y="210"/>
                  </a:lnTo>
                  <a:lnTo>
                    <a:pt x="11" y="145"/>
                  </a:lnTo>
                  <a:lnTo>
                    <a:pt x="0" y="104"/>
                  </a:lnTo>
                  <a:lnTo>
                    <a:pt x="1" y="65"/>
                  </a:lnTo>
                  <a:lnTo>
                    <a:pt x="6" y="49"/>
                  </a:lnTo>
                  <a:lnTo>
                    <a:pt x="6" y="38"/>
                  </a:lnTo>
                  <a:lnTo>
                    <a:pt x="21" y="6"/>
                  </a:lnTo>
                  <a:lnTo>
                    <a:pt x="30" y="0"/>
                  </a:lnTo>
                  <a:lnTo>
                    <a:pt x="45" y="97"/>
                  </a:lnTo>
                  <a:lnTo>
                    <a:pt x="69" y="190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460600" y="3871800"/>
              <a:ext cx="157320" cy="128160"/>
            </a:xfrm>
            <a:custGeom>
              <a:avLst/>
              <a:gdLst/>
              <a:ahLst/>
              <a:rect l="l" t="t" r="r" b="b"/>
              <a:pathLst>
                <a:path w="296" h="243">
                  <a:moveTo>
                    <a:pt x="211" y="85"/>
                  </a:moveTo>
                  <a:lnTo>
                    <a:pt x="151" y="133"/>
                  </a:lnTo>
                  <a:lnTo>
                    <a:pt x="69" y="194"/>
                  </a:lnTo>
                  <a:lnTo>
                    <a:pt x="20" y="238"/>
                  </a:lnTo>
                  <a:lnTo>
                    <a:pt x="8" y="239"/>
                  </a:lnTo>
                  <a:lnTo>
                    <a:pt x="1" y="243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52" y="188"/>
                  </a:lnTo>
                  <a:lnTo>
                    <a:pt x="114" y="146"/>
                  </a:lnTo>
                  <a:lnTo>
                    <a:pt x="159" y="118"/>
                  </a:lnTo>
                  <a:lnTo>
                    <a:pt x="276" y="12"/>
                  </a:lnTo>
                  <a:lnTo>
                    <a:pt x="296" y="0"/>
                  </a:lnTo>
                  <a:lnTo>
                    <a:pt x="262" y="45"/>
                  </a:lnTo>
                  <a:lnTo>
                    <a:pt x="21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257480" y="3882960"/>
              <a:ext cx="233280" cy="360000"/>
            </a:xfrm>
            <a:custGeom>
              <a:avLst/>
              <a:gdLst/>
              <a:ahLst/>
              <a:rect l="l" t="t" r="r" b="b"/>
              <a:pathLst>
                <a:path w="440" h="681">
                  <a:moveTo>
                    <a:pt x="125" y="29"/>
                  </a:moveTo>
                  <a:lnTo>
                    <a:pt x="225" y="95"/>
                  </a:lnTo>
                  <a:lnTo>
                    <a:pt x="275" y="122"/>
                  </a:lnTo>
                  <a:lnTo>
                    <a:pt x="310" y="136"/>
                  </a:lnTo>
                  <a:lnTo>
                    <a:pt x="400" y="153"/>
                  </a:lnTo>
                  <a:lnTo>
                    <a:pt x="440" y="185"/>
                  </a:lnTo>
                  <a:lnTo>
                    <a:pt x="400" y="265"/>
                  </a:lnTo>
                  <a:lnTo>
                    <a:pt x="362" y="336"/>
                  </a:lnTo>
                  <a:lnTo>
                    <a:pt x="311" y="430"/>
                  </a:lnTo>
                  <a:lnTo>
                    <a:pt x="255" y="512"/>
                  </a:lnTo>
                  <a:lnTo>
                    <a:pt x="138" y="681"/>
                  </a:lnTo>
                  <a:lnTo>
                    <a:pt x="117" y="658"/>
                  </a:lnTo>
                  <a:lnTo>
                    <a:pt x="87" y="593"/>
                  </a:lnTo>
                  <a:lnTo>
                    <a:pt x="63" y="509"/>
                  </a:lnTo>
                  <a:lnTo>
                    <a:pt x="63" y="506"/>
                  </a:lnTo>
                  <a:lnTo>
                    <a:pt x="84" y="510"/>
                  </a:lnTo>
                  <a:lnTo>
                    <a:pt x="100" y="510"/>
                  </a:lnTo>
                  <a:lnTo>
                    <a:pt x="105" y="513"/>
                  </a:lnTo>
                  <a:lnTo>
                    <a:pt x="114" y="512"/>
                  </a:lnTo>
                  <a:lnTo>
                    <a:pt x="118" y="508"/>
                  </a:lnTo>
                  <a:lnTo>
                    <a:pt x="104" y="500"/>
                  </a:lnTo>
                  <a:lnTo>
                    <a:pt x="80" y="492"/>
                  </a:lnTo>
                  <a:lnTo>
                    <a:pt x="52" y="472"/>
                  </a:lnTo>
                  <a:lnTo>
                    <a:pt x="38" y="451"/>
                  </a:lnTo>
                  <a:lnTo>
                    <a:pt x="35" y="444"/>
                  </a:lnTo>
                  <a:lnTo>
                    <a:pt x="33" y="443"/>
                  </a:lnTo>
                  <a:lnTo>
                    <a:pt x="72" y="461"/>
                  </a:lnTo>
                  <a:lnTo>
                    <a:pt x="80" y="458"/>
                  </a:lnTo>
                  <a:lnTo>
                    <a:pt x="83" y="454"/>
                  </a:lnTo>
                  <a:lnTo>
                    <a:pt x="73" y="446"/>
                  </a:lnTo>
                  <a:lnTo>
                    <a:pt x="52" y="436"/>
                  </a:lnTo>
                  <a:lnTo>
                    <a:pt x="38" y="423"/>
                  </a:lnTo>
                  <a:lnTo>
                    <a:pt x="15" y="361"/>
                  </a:lnTo>
                  <a:lnTo>
                    <a:pt x="14" y="353"/>
                  </a:lnTo>
                  <a:lnTo>
                    <a:pt x="45" y="377"/>
                  </a:lnTo>
                  <a:lnTo>
                    <a:pt x="46" y="377"/>
                  </a:lnTo>
                  <a:lnTo>
                    <a:pt x="52" y="372"/>
                  </a:lnTo>
                  <a:lnTo>
                    <a:pt x="39" y="355"/>
                  </a:lnTo>
                  <a:lnTo>
                    <a:pt x="32" y="348"/>
                  </a:lnTo>
                  <a:lnTo>
                    <a:pt x="19" y="331"/>
                  </a:lnTo>
                  <a:lnTo>
                    <a:pt x="2" y="265"/>
                  </a:lnTo>
                  <a:lnTo>
                    <a:pt x="8" y="253"/>
                  </a:lnTo>
                  <a:lnTo>
                    <a:pt x="2" y="202"/>
                  </a:lnTo>
                  <a:lnTo>
                    <a:pt x="0" y="168"/>
                  </a:lnTo>
                  <a:lnTo>
                    <a:pt x="2" y="89"/>
                  </a:lnTo>
                  <a:lnTo>
                    <a:pt x="7" y="67"/>
                  </a:lnTo>
                  <a:lnTo>
                    <a:pt x="1" y="43"/>
                  </a:lnTo>
                  <a:lnTo>
                    <a:pt x="0" y="10"/>
                  </a:lnTo>
                  <a:lnTo>
                    <a:pt x="7" y="6"/>
                  </a:lnTo>
                  <a:lnTo>
                    <a:pt x="33" y="0"/>
                  </a:lnTo>
                  <a:lnTo>
                    <a:pt x="74" y="6"/>
                  </a:lnTo>
                  <a:lnTo>
                    <a:pt x="125" y="29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914400" y="3903480"/>
              <a:ext cx="27000" cy="2880"/>
            </a:xfrm>
            <a:custGeom>
              <a:avLst/>
              <a:gdLst/>
              <a:ahLst/>
              <a:rect l="l" t="t" r="r" b="b"/>
              <a:pathLst>
                <a:path w="51" h="6">
                  <a:moveTo>
                    <a:pt x="51" y="2"/>
                  </a:moveTo>
                  <a:lnTo>
                    <a:pt x="44" y="6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911160" y="3919320"/>
              <a:ext cx="50760" cy="7560"/>
            </a:xfrm>
            <a:custGeom>
              <a:avLst/>
              <a:gdLst/>
              <a:ahLst/>
              <a:rect l="l" t="t" r="r" b="b"/>
              <a:pathLst>
                <a:path w="98" h="14">
                  <a:moveTo>
                    <a:pt x="95" y="3"/>
                  </a:moveTo>
                  <a:lnTo>
                    <a:pt x="96" y="4"/>
                  </a:lnTo>
                  <a:lnTo>
                    <a:pt x="98" y="4"/>
                  </a:lnTo>
                  <a:lnTo>
                    <a:pt x="88" y="9"/>
                  </a:lnTo>
                  <a:lnTo>
                    <a:pt x="20" y="14"/>
                  </a:lnTo>
                  <a:lnTo>
                    <a:pt x="2" y="7"/>
                  </a:lnTo>
                  <a:lnTo>
                    <a:pt x="0" y="4"/>
                  </a:lnTo>
                  <a:lnTo>
                    <a:pt x="6" y="0"/>
                  </a:lnTo>
                  <a:lnTo>
                    <a:pt x="65" y="4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909720" y="3935160"/>
              <a:ext cx="46080" cy="756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79" y="3"/>
                  </a:moveTo>
                  <a:lnTo>
                    <a:pt x="85" y="3"/>
                  </a:lnTo>
                  <a:lnTo>
                    <a:pt x="86" y="4"/>
                  </a:lnTo>
                  <a:lnTo>
                    <a:pt x="55" y="13"/>
                  </a:lnTo>
                  <a:lnTo>
                    <a:pt x="20" y="13"/>
                  </a:lnTo>
                  <a:lnTo>
                    <a:pt x="6" y="10"/>
                  </a:lnTo>
                  <a:lnTo>
                    <a:pt x="0" y="3"/>
                  </a:lnTo>
                  <a:lnTo>
                    <a:pt x="34" y="0"/>
                  </a:lnTo>
                  <a:lnTo>
                    <a:pt x="59" y="6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911160" y="3949560"/>
              <a:ext cx="30240" cy="2880"/>
            </a:xfrm>
            <a:custGeom>
              <a:avLst/>
              <a:gdLst/>
              <a:ahLst/>
              <a:rect l="l" t="t" r="r" b="b"/>
              <a:pathLst>
                <a:path w="56" h="5">
                  <a:moveTo>
                    <a:pt x="56" y="1"/>
                  </a:moveTo>
                  <a:lnTo>
                    <a:pt x="49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592360" y="3954240"/>
              <a:ext cx="119160" cy="133200"/>
            </a:xfrm>
            <a:custGeom>
              <a:avLst/>
              <a:gdLst/>
              <a:ahLst/>
              <a:rect l="l" t="t" r="r" b="b"/>
              <a:pathLst>
                <a:path w="226" h="251">
                  <a:moveTo>
                    <a:pt x="226" y="14"/>
                  </a:moveTo>
                  <a:lnTo>
                    <a:pt x="193" y="68"/>
                  </a:lnTo>
                  <a:lnTo>
                    <a:pt x="165" y="127"/>
                  </a:lnTo>
                  <a:lnTo>
                    <a:pt x="157" y="143"/>
                  </a:lnTo>
                  <a:lnTo>
                    <a:pt x="144" y="154"/>
                  </a:lnTo>
                  <a:lnTo>
                    <a:pt x="144" y="172"/>
                  </a:lnTo>
                  <a:lnTo>
                    <a:pt x="121" y="219"/>
                  </a:lnTo>
                  <a:lnTo>
                    <a:pt x="116" y="221"/>
                  </a:lnTo>
                  <a:lnTo>
                    <a:pt x="113" y="221"/>
                  </a:lnTo>
                  <a:lnTo>
                    <a:pt x="110" y="219"/>
                  </a:lnTo>
                  <a:lnTo>
                    <a:pt x="128" y="186"/>
                  </a:lnTo>
                  <a:lnTo>
                    <a:pt x="127" y="183"/>
                  </a:lnTo>
                  <a:lnTo>
                    <a:pt x="86" y="220"/>
                  </a:lnTo>
                  <a:lnTo>
                    <a:pt x="55" y="238"/>
                  </a:lnTo>
                  <a:lnTo>
                    <a:pt x="32" y="243"/>
                  </a:lnTo>
                  <a:lnTo>
                    <a:pt x="4" y="251"/>
                  </a:lnTo>
                  <a:lnTo>
                    <a:pt x="0" y="250"/>
                  </a:lnTo>
                  <a:lnTo>
                    <a:pt x="0" y="247"/>
                  </a:lnTo>
                  <a:lnTo>
                    <a:pt x="34" y="237"/>
                  </a:lnTo>
                  <a:lnTo>
                    <a:pt x="78" y="212"/>
                  </a:lnTo>
                  <a:lnTo>
                    <a:pt x="121" y="172"/>
                  </a:lnTo>
                  <a:lnTo>
                    <a:pt x="128" y="164"/>
                  </a:lnTo>
                  <a:lnTo>
                    <a:pt x="128" y="162"/>
                  </a:lnTo>
                  <a:lnTo>
                    <a:pt x="116" y="162"/>
                  </a:lnTo>
                  <a:lnTo>
                    <a:pt x="94" y="174"/>
                  </a:lnTo>
                  <a:lnTo>
                    <a:pt x="66" y="193"/>
                  </a:lnTo>
                  <a:lnTo>
                    <a:pt x="31" y="200"/>
                  </a:lnTo>
                  <a:lnTo>
                    <a:pt x="25" y="200"/>
                  </a:lnTo>
                  <a:lnTo>
                    <a:pt x="25" y="197"/>
                  </a:lnTo>
                  <a:lnTo>
                    <a:pt x="69" y="179"/>
                  </a:lnTo>
                  <a:lnTo>
                    <a:pt x="135" y="128"/>
                  </a:lnTo>
                  <a:lnTo>
                    <a:pt x="149" y="119"/>
                  </a:lnTo>
                  <a:lnTo>
                    <a:pt x="152" y="109"/>
                  </a:lnTo>
                  <a:lnTo>
                    <a:pt x="152" y="106"/>
                  </a:lnTo>
                  <a:lnTo>
                    <a:pt x="144" y="106"/>
                  </a:lnTo>
                  <a:lnTo>
                    <a:pt x="123" y="119"/>
                  </a:lnTo>
                  <a:lnTo>
                    <a:pt x="118" y="119"/>
                  </a:lnTo>
                  <a:lnTo>
                    <a:pt x="120" y="110"/>
                  </a:lnTo>
                  <a:lnTo>
                    <a:pt x="179" y="58"/>
                  </a:lnTo>
                  <a:lnTo>
                    <a:pt x="213" y="23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463840" y="3958920"/>
              <a:ext cx="84240" cy="141120"/>
            </a:xfrm>
            <a:custGeom>
              <a:avLst/>
              <a:gdLst/>
              <a:ahLst/>
              <a:rect l="l" t="t" r="r" b="b"/>
              <a:pathLst>
                <a:path w="161" h="266">
                  <a:moveTo>
                    <a:pt x="161" y="3"/>
                  </a:moveTo>
                  <a:lnTo>
                    <a:pt x="68" y="89"/>
                  </a:lnTo>
                  <a:lnTo>
                    <a:pt x="33" y="149"/>
                  </a:lnTo>
                  <a:lnTo>
                    <a:pt x="20" y="189"/>
                  </a:lnTo>
                  <a:lnTo>
                    <a:pt x="8" y="255"/>
                  </a:lnTo>
                  <a:lnTo>
                    <a:pt x="9" y="262"/>
                  </a:lnTo>
                  <a:lnTo>
                    <a:pt x="9" y="266"/>
                  </a:lnTo>
                  <a:lnTo>
                    <a:pt x="5" y="266"/>
                  </a:lnTo>
                  <a:lnTo>
                    <a:pt x="0" y="262"/>
                  </a:lnTo>
                  <a:lnTo>
                    <a:pt x="0" y="237"/>
                  </a:lnTo>
                  <a:lnTo>
                    <a:pt x="9" y="199"/>
                  </a:lnTo>
                  <a:lnTo>
                    <a:pt x="20" y="144"/>
                  </a:lnTo>
                  <a:lnTo>
                    <a:pt x="27" y="125"/>
                  </a:lnTo>
                  <a:lnTo>
                    <a:pt x="47" y="106"/>
                  </a:lnTo>
                  <a:lnTo>
                    <a:pt x="68" y="76"/>
                  </a:lnTo>
                  <a:lnTo>
                    <a:pt x="82" y="61"/>
                  </a:lnTo>
                  <a:lnTo>
                    <a:pt x="151" y="0"/>
                  </a:lnTo>
                  <a:lnTo>
                    <a:pt x="158" y="0"/>
                  </a:lnTo>
                  <a:lnTo>
                    <a:pt x="16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338560" y="4003560"/>
              <a:ext cx="91800" cy="61560"/>
            </a:xfrm>
            <a:custGeom>
              <a:avLst/>
              <a:gdLst/>
              <a:ahLst/>
              <a:rect l="l" t="t" r="r" b="b"/>
              <a:pathLst>
                <a:path w="174" h="116">
                  <a:moveTo>
                    <a:pt x="174" y="58"/>
                  </a:moveTo>
                  <a:lnTo>
                    <a:pt x="160" y="61"/>
                  </a:lnTo>
                  <a:lnTo>
                    <a:pt x="103" y="95"/>
                  </a:lnTo>
                  <a:lnTo>
                    <a:pt x="63" y="113"/>
                  </a:lnTo>
                  <a:lnTo>
                    <a:pt x="43" y="116"/>
                  </a:lnTo>
                  <a:lnTo>
                    <a:pt x="31" y="116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48" y="47"/>
                  </a:lnTo>
                  <a:lnTo>
                    <a:pt x="104" y="26"/>
                  </a:lnTo>
                  <a:lnTo>
                    <a:pt x="150" y="0"/>
                  </a:lnTo>
                  <a:lnTo>
                    <a:pt x="170" y="47"/>
                  </a:lnTo>
                  <a:lnTo>
                    <a:pt x="174" y="58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379600" y="4041720"/>
              <a:ext cx="58680" cy="123480"/>
            </a:xfrm>
            <a:custGeom>
              <a:avLst/>
              <a:gdLst/>
              <a:ahLst/>
              <a:rect l="l" t="t" r="r" b="b"/>
              <a:pathLst>
                <a:path w="111" h="235">
                  <a:moveTo>
                    <a:pt x="105" y="88"/>
                  </a:moveTo>
                  <a:lnTo>
                    <a:pt x="111" y="119"/>
                  </a:lnTo>
                  <a:lnTo>
                    <a:pt x="95" y="155"/>
                  </a:lnTo>
                  <a:lnTo>
                    <a:pt x="83" y="235"/>
                  </a:lnTo>
                  <a:lnTo>
                    <a:pt x="45" y="157"/>
                  </a:lnTo>
                  <a:lnTo>
                    <a:pt x="31" y="129"/>
                  </a:lnTo>
                  <a:lnTo>
                    <a:pt x="0" y="62"/>
                  </a:lnTo>
                  <a:lnTo>
                    <a:pt x="35" y="36"/>
                  </a:lnTo>
                  <a:lnTo>
                    <a:pt x="57" y="22"/>
                  </a:lnTo>
                  <a:lnTo>
                    <a:pt x="97" y="0"/>
                  </a:lnTo>
                  <a:lnTo>
                    <a:pt x="104" y="66"/>
                  </a:lnTo>
                  <a:lnTo>
                    <a:pt x="105" y="88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494080" y="4065480"/>
              <a:ext cx="75960" cy="248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22" y="16"/>
                  </a:moveTo>
                  <a:lnTo>
                    <a:pt x="41" y="30"/>
                  </a:lnTo>
                  <a:lnTo>
                    <a:pt x="55" y="34"/>
                  </a:lnTo>
                  <a:lnTo>
                    <a:pt x="101" y="34"/>
                  </a:lnTo>
                  <a:lnTo>
                    <a:pt x="113" y="44"/>
                  </a:lnTo>
                  <a:lnTo>
                    <a:pt x="132" y="44"/>
                  </a:lnTo>
                  <a:lnTo>
                    <a:pt x="138" y="42"/>
                  </a:lnTo>
                  <a:lnTo>
                    <a:pt x="142" y="42"/>
                  </a:lnTo>
                  <a:lnTo>
                    <a:pt x="145" y="45"/>
                  </a:lnTo>
                  <a:lnTo>
                    <a:pt x="128" y="49"/>
                  </a:lnTo>
                  <a:lnTo>
                    <a:pt x="75" y="44"/>
                  </a:lnTo>
                  <a:lnTo>
                    <a:pt x="18" y="31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1" y="9"/>
                  </a:lnTo>
                  <a:lnTo>
                    <a:pt x="1" y="7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0" y="3"/>
                  </a:lnTo>
                  <a:lnTo>
                    <a:pt x="8" y="0"/>
                  </a:lnTo>
                  <a:lnTo>
                    <a:pt x="11" y="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497320" y="4084560"/>
              <a:ext cx="60120" cy="31320"/>
            </a:xfrm>
            <a:custGeom>
              <a:avLst/>
              <a:gdLst/>
              <a:ahLst/>
              <a:rect l="l" t="t" r="r" b="b"/>
              <a:pathLst>
                <a:path w="113" h="62">
                  <a:moveTo>
                    <a:pt x="36" y="37"/>
                  </a:moveTo>
                  <a:lnTo>
                    <a:pt x="54" y="41"/>
                  </a:lnTo>
                  <a:lnTo>
                    <a:pt x="92" y="55"/>
                  </a:lnTo>
                  <a:lnTo>
                    <a:pt x="108" y="58"/>
                  </a:lnTo>
                  <a:lnTo>
                    <a:pt x="113" y="62"/>
                  </a:lnTo>
                  <a:lnTo>
                    <a:pt x="93" y="62"/>
                  </a:lnTo>
                  <a:lnTo>
                    <a:pt x="33" y="51"/>
                  </a:lnTo>
                  <a:lnTo>
                    <a:pt x="10" y="33"/>
                  </a:lnTo>
                  <a:lnTo>
                    <a:pt x="0" y="9"/>
                  </a:lnTo>
                  <a:lnTo>
                    <a:pt x="2" y="0"/>
                  </a:lnTo>
                  <a:lnTo>
                    <a:pt x="22" y="31"/>
                  </a:lnTo>
                  <a:lnTo>
                    <a:pt x="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847960" y="4090680"/>
              <a:ext cx="96840" cy="83880"/>
            </a:xfrm>
            <a:custGeom>
              <a:avLst/>
              <a:gdLst/>
              <a:ahLst/>
              <a:rect l="l" t="t" r="r" b="b"/>
              <a:pathLst>
                <a:path w="182" h="159">
                  <a:moveTo>
                    <a:pt x="90" y="31"/>
                  </a:moveTo>
                  <a:lnTo>
                    <a:pt x="100" y="71"/>
                  </a:lnTo>
                  <a:lnTo>
                    <a:pt x="104" y="71"/>
                  </a:lnTo>
                  <a:lnTo>
                    <a:pt x="98" y="40"/>
                  </a:lnTo>
                  <a:lnTo>
                    <a:pt x="124" y="73"/>
                  </a:lnTo>
                  <a:lnTo>
                    <a:pt x="132" y="81"/>
                  </a:lnTo>
                  <a:lnTo>
                    <a:pt x="148" y="109"/>
                  </a:lnTo>
                  <a:lnTo>
                    <a:pt x="110" y="87"/>
                  </a:lnTo>
                  <a:lnTo>
                    <a:pt x="112" y="93"/>
                  </a:lnTo>
                  <a:lnTo>
                    <a:pt x="152" y="115"/>
                  </a:lnTo>
                  <a:lnTo>
                    <a:pt x="158" y="115"/>
                  </a:lnTo>
                  <a:lnTo>
                    <a:pt x="179" y="125"/>
                  </a:lnTo>
                  <a:lnTo>
                    <a:pt x="176" y="126"/>
                  </a:lnTo>
                  <a:lnTo>
                    <a:pt x="165" y="125"/>
                  </a:lnTo>
                  <a:lnTo>
                    <a:pt x="177" y="143"/>
                  </a:lnTo>
                  <a:lnTo>
                    <a:pt x="174" y="149"/>
                  </a:lnTo>
                  <a:lnTo>
                    <a:pt x="182" y="159"/>
                  </a:lnTo>
                  <a:lnTo>
                    <a:pt x="148" y="136"/>
                  </a:lnTo>
                  <a:lnTo>
                    <a:pt x="127" y="131"/>
                  </a:lnTo>
                  <a:lnTo>
                    <a:pt x="98" y="104"/>
                  </a:lnTo>
                  <a:lnTo>
                    <a:pt x="72" y="76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9" y="87"/>
                  </a:lnTo>
                  <a:lnTo>
                    <a:pt x="76" y="100"/>
                  </a:lnTo>
                  <a:lnTo>
                    <a:pt x="117" y="131"/>
                  </a:lnTo>
                  <a:lnTo>
                    <a:pt x="119" y="149"/>
                  </a:lnTo>
                  <a:lnTo>
                    <a:pt x="86" y="119"/>
                  </a:lnTo>
                  <a:lnTo>
                    <a:pt x="62" y="111"/>
                  </a:lnTo>
                  <a:lnTo>
                    <a:pt x="80" y="138"/>
                  </a:lnTo>
                  <a:lnTo>
                    <a:pt x="32" y="104"/>
                  </a:lnTo>
                  <a:lnTo>
                    <a:pt x="15" y="70"/>
                  </a:lnTo>
                  <a:lnTo>
                    <a:pt x="0" y="18"/>
                  </a:lnTo>
                  <a:lnTo>
                    <a:pt x="9" y="24"/>
                  </a:lnTo>
                  <a:lnTo>
                    <a:pt x="15" y="31"/>
                  </a:lnTo>
                  <a:lnTo>
                    <a:pt x="24" y="39"/>
                  </a:lnTo>
                  <a:lnTo>
                    <a:pt x="31" y="67"/>
                  </a:lnTo>
                  <a:lnTo>
                    <a:pt x="42" y="70"/>
                  </a:lnTo>
                  <a:lnTo>
                    <a:pt x="39" y="52"/>
                  </a:lnTo>
                  <a:lnTo>
                    <a:pt x="45" y="50"/>
                  </a:lnTo>
                  <a:lnTo>
                    <a:pt x="57" y="67"/>
                  </a:lnTo>
                  <a:lnTo>
                    <a:pt x="70" y="70"/>
                  </a:lnTo>
                  <a:lnTo>
                    <a:pt x="72" y="57"/>
                  </a:lnTo>
                  <a:lnTo>
                    <a:pt x="36" y="0"/>
                  </a:lnTo>
                  <a:lnTo>
                    <a:pt x="74" y="22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428920" y="4108320"/>
              <a:ext cx="30240" cy="110880"/>
            </a:xfrm>
            <a:custGeom>
              <a:avLst/>
              <a:gdLst/>
              <a:ahLst/>
              <a:rect l="l" t="t" r="r" b="b"/>
              <a:pathLst>
                <a:path w="56" h="208">
                  <a:moveTo>
                    <a:pt x="56" y="156"/>
                  </a:moveTo>
                  <a:lnTo>
                    <a:pt x="53" y="193"/>
                  </a:lnTo>
                  <a:lnTo>
                    <a:pt x="49" y="204"/>
                  </a:lnTo>
                  <a:lnTo>
                    <a:pt x="49" y="208"/>
                  </a:lnTo>
                  <a:lnTo>
                    <a:pt x="29" y="174"/>
                  </a:lnTo>
                  <a:lnTo>
                    <a:pt x="0" y="127"/>
                  </a:lnTo>
                  <a:lnTo>
                    <a:pt x="2" y="62"/>
                  </a:lnTo>
                  <a:lnTo>
                    <a:pt x="14" y="15"/>
                  </a:lnTo>
                  <a:lnTo>
                    <a:pt x="21" y="0"/>
                  </a:lnTo>
                  <a:lnTo>
                    <a:pt x="48" y="94"/>
                  </a:lnTo>
                  <a:lnTo>
                    <a:pt x="56" y="156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887560" y="4125600"/>
              <a:ext cx="22320" cy="205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3" y="34"/>
                  </a:moveTo>
                  <a:lnTo>
                    <a:pt x="44" y="38"/>
                  </a:lnTo>
                  <a:lnTo>
                    <a:pt x="43" y="40"/>
                  </a:lnTo>
                  <a:lnTo>
                    <a:pt x="29" y="35"/>
                  </a:lnTo>
                  <a:lnTo>
                    <a:pt x="0" y="7"/>
                  </a:lnTo>
                  <a:lnTo>
                    <a:pt x="0" y="0"/>
                  </a:lnTo>
                  <a:lnTo>
                    <a:pt x="14" y="9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511360" y="4128840"/>
              <a:ext cx="52560" cy="15480"/>
            </a:xfrm>
            <a:custGeom>
              <a:avLst/>
              <a:gdLst/>
              <a:ahLst/>
              <a:rect l="l" t="t" r="r" b="b"/>
              <a:pathLst>
                <a:path w="98" h="30">
                  <a:moveTo>
                    <a:pt x="66" y="19"/>
                  </a:moveTo>
                  <a:lnTo>
                    <a:pt x="98" y="21"/>
                  </a:lnTo>
                  <a:lnTo>
                    <a:pt x="98" y="26"/>
                  </a:lnTo>
                  <a:lnTo>
                    <a:pt x="89" y="26"/>
                  </a:lnTo>
                  <a:lnTo>
                    <a:pt x="82" y="30"/>
                  </a:lnTo>
                  <a:lnTo>
                    <a:pt x="39" y="28"/>
                  </a:lnTo>
                  <a:lnTo>
                    <a:pt x="19" y="21"/>
                  </a:lnTo>
                  <a:lnTo>
                    <a:pt x="0" y="3"/>
                  </a:lnTo>
                  <a:lnTo>
                    <a:pt x="3" y="0"/>
                  </a:lnTo>
                  <a:lnTo>
                    <a:pt x="36" y="14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631960" y="4160520"/>
              <a:ext cx="47880" cy="134640"/>
            </a:xfrm>
            <a:custGeom>
              <a:avLst/>
              <a:gdLst/>
              <a:ahLst/>
              <a:rect l="l" t="t" r="r" b="b"/>
              <a:pathLst>
                <a:path w="91" h="256">
                  <a:moveTo>
                    <a:pt x="60" y="65"/>
                  </a:moveTo>
                  <a:lnTo>
                    <a:pt x="73" y="77"/>
                  </a:lnTo>
                  <a:lnTo>
                    <a:pt x="84" y="116"/>
                  </a:lnTo>
                  <a:lnTo>
                    <a:pt x="91" y="138"/>
                  </a:lnTo>
                  <a:lnTo>
                    <a:pt x="82" y="139"/>
                  </a:lnTo>
                  <a:lnTo>
                    <a:pt x="59" y="158"/>
                  </a:lnTo>
                  <a:lnTo>
                    <a:pt x="39" y="182"/>
                  </a:lnTo>
                  <a:lnTo>
                    <a:pt x="10" y="237"/>
                  </a:lnTo>
                  <a:lnTo>
                    <a:pt x="4" y="252"/>
                  </a:lnTo>
                  <a:lnTo>
                    <a:pt x="0" y="256"/>
                  </a:lnTo>
                  <a:lnTo>
                    <a:pt x="3" y="199"/>
                  </a:lnTo>
                  <a:lnTo>
                    <a:pt x="14" y="132"/>
                  </a:lnTo>
                  <a:lnTo>
                    <a:pt x="38" y="49"/>
                  </a:lnTo>
                  <a:lnTo>
                    <a:pt x="59" y="0"/>
                  </a:lnTo>
                  <a:lnTo>
                    <a:pt x="66" y="37"/>
                  </a:lnTo>
                  <a:lnTo>
                    <a:pt x="60" y="65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622600" y="4238640"/>
              <a:ext cx="120600" cy="221760"/>
            </a:xfrm>
            <a:custGeom>
              <a:avLst/>
              <a:gdLst/>
              <a:ahLst/>
              <a:rect l="l" t="t" r="r" b="b"/>
              <a:pathLst>
                <a:path w="227" h="422">
                  <a:moveTo>
                    <a:pt x="126" y="38"/>
                  </a:moveTo>
                  <a:lnTo>
                    <a:pt x="140" y="59"/>
                  </a:lnTo>
                  <a:lnTo>
                    <a:pt x="151" y="76"/>
                  </a:lnTo>
                  <a:lnTo>
                    <a:pt x="185" y="118"/>
                  </a:lnTo>
                  <a:lnTo>
                    <a:pt x="189" y="149"/>
                  </a:lnTo>
                  <a:lnTo>
                    <a:pt x="188" y="171"/>
                  </a:lnTo>
                  <a:lnTo>
                    <a:pt x="178" y="208"/>
                  </a:lnTo>
                  <a:lnTo>
                    <a:pt x="184" y="226"/>
                  </a:lnTo>
                  <a:lnTo>
                    <a:pt x="198" y="221"/>
                  </a:lnTo>
                  <a:lnTo>
                    <a:pt x="217" y="274"/>
                  </a:lnTo>
                  <a:lnTo>
                    <a:pt x="227" y="325"/>
                  </a:lnTo>
                  <a:lnTo>
                    <a:pt x="223" y="360"/>
                  </a:lnTo>
                  <a:lnTo>
                    <a:pt x="209" y="373"/>
                  </a:lnTo>
                  <a:lnTo>
                    <a:pt x="192" y="387"/>
                  </a:lnTo>
                  <a:lnTo>
                    <a:pt x="165" y="394"/>
                  </a:lnTo>
                  <a:lnTo>
                    <a:pt x="109" y="404"/>
                  </a:lnTo>
                  <a:lnTo>
                    <a:pt x="83" y="415"/>
                  </a:lnTo>
                  <a:lnTo>
                    <a:pt x="19" y="422"/>
                  </a:lnTo>
                  <a:lnTo>
                    <a:pt x="10" y="412"/>
                  </a:lnTo>
                  <a:lnTo>
                    <a:pt x="3" y="381"/>
                  </a:lnTo>
                  <a:lnTo>
                    <a:pt x="9" y="340"/>
                  </a:lnTo>
                  <a:lnTo>
                    <a:pt x="6" y="315"/>
                  </a:lnTo>
                  <a:lnTo>
                    <a:pt x="0" y="311"/>
                  </a:lnTo>
                  <a:lnTo>
                    <a:pt x="10" y="209"/>
                  </a:lnTo>
                  <a:lnTo>
                    <a:pt x="16" y="142"/>
                  </a:lnTo>
                  <a:lnTo>
                    <a:pt x="20" y="115"/>
                  </a:lnTo>
                  <a:lnTo>
                    <a:pt x="54" y="53"/>
                  </a:lnTo>
                  <a:lnTo>
                    <a:pt x="85" y="11"/>
                  </a:lnTo>
                  <a:lnTo>
                    <a:pt x="95" y="1"/>
                  </a:lnTo>
                  <a:lnTo>
                    <a:pt x="109" y="0"/>
                  </a:lnTo>
                  <a:lnTo>
                    <a:pt x="126" y="38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017720" y="4251240"/>
              <a:ext cx="4680" cy="2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8" y="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46000" y="4252680"/>
              <a:ext cx="20880" cy="93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7"/>
                  </a:moveTo>
                  <a:lnTo>
                    <a:pt x="24" y="15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4"/>
                  </a:lnTo>
                  <a:lnTo>
                    <a:pt x="35" y="1"/>
                  </a:lnTo>
                  <a:lnTo>
                    <a:pt x="36" y="0"/>
                  </a:lnTo>
                  <a:lnTo>
                    <a:pt x="38" y="3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076400" y="4265280"/>
              <a:ext cx="31680" cy="792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60" y="7"/>
                  </a:moveTo>
                  <a:lnTo>
                    <a:pt x="60" y="9"/>
                  </a:lnTo>
                  <a:lnTo>
                    <a:pt x="41" y="15"/>
                  </a:lnTo>
                  <a:lnTo>
                    <a:pt x="22" y="12"/>
                  </a:lnTo>
                  <a:lnTo>
                    <a:pt x="0" y="4"/>
                  </a:lnTo>
                  <a:lnTo>
                    <a:pt x="30" y="0"/>
                  </a:lnTo>
                  <a:lnTo>
                    <a:pt x="50" y="1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ffe3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685960" y="4268520"/>
              <a:ext cx="22320" cy="77400"/>
            </a:xfrm>
            <a:custGeom>
              <a:avLst/>
              <a:gdLst/>
              <a:ahLst/>
              <a:rect l="l" t="t" r="r" b="b"/>
              <a:pathLst>
                <a:path w="42" h="147">
                  <a:moveTo>
                    <a:pt x="1" y="2"/>
                  </a:moveTo>
                  <a:lnTo>
                    <a:pt x="12" y="6"/>
                  </a:lnTo>
                  <a:lnTo>
                    <a:pt x="21" y="64"/>
                  </a:lnTo>
                  <a:lnTo>
                    <a:pt x="29" y="79"/>
                  </a:lnTo>
                  <a:lnTo>
                    <a:pt x="32" y="89"/>
                  </a:lnTo>
                  <a:lnTo>
                    <a:pt x="42" y="102"/>
                  </a:lnTo>
                  <a:lnTo>
                    <a:pt x="38" y="128"/>
                  </a:lnTo>
                  <a:lnTo>
                    <a:pt x="32" y="147"/>
                  </a:lnTo>
                  <a:lnTo>
                    <a:pt x="29" y="147"/>
                  </a:lnTo>
                  <a:lnTo>
                    <a:pt x="24" y="145"/>
                  </a:lnTo>
                  <a:lnTo>
                    <a:pt x="21" y="141"/>
                  </a:lnTo>
                  <a:lnTo>
                    <a:pt x="17" y="103"/>
                  </a:lnTo>
                  <a:lnTo>
                    <a:pt x="18" y="96"/>
                  </a:lnTo>
                  <a:lnTo>
                    <a:pt x="8" y="7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5" y="2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539720" y="4287600"/>
              <a:ext cx="36720" cy="5544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64" y="50"/>
                  </a:moveTo>
                  <a:lnTo>
                    <a:pt x="62" y="55"/>
                  </a:lnTo>
                  <a:lnTo>
                    <a:pt x="67" y="71"/>
                  </a:lnTo>
                  <a:lnTo>
                    <a:pt x="68" y="99"/>
                  </a:lnTo>
                  <a:lnTo>
                    <a:pt x="69" y="100"/>
                  </a:lnTo>
                  <a:lnTo>
                    <a:pt x="69" y="105"/>
                  </a:lnTo>
                  <a:lnTo>
                    <a:pt x="40" y="86"/>
                  </a:lnTo>
                  <a:lnTo>
                    <a:pt x="0" y="81"/>
                  </a:lnTo>
                  <a:lnTo>
                    <a:pt x="19" y="33"/>
                  </a:lnTo>
                  <a:lnTo>
                    <a:pt x="44" y="6"/>
                  </a:lnTo>
                  <a:lnTo>
                    <a:pt x="47" y="0"/>
                  </a:lnTo>
                  <a:lnTo>
                    <a:pt x="55" y="14"/>
                  </a:lnTo>
                  <a:lnTo>
                    <a:pt x="64" y="50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9880" y="4297320"/>
              <a:ext cx="3240" cy="57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47800" y="431460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3" y="18"/>
                  </a:moveTo>
                  <a:lnTo>
                    <a:pt x="13" y="20"/>
                  </a:lnTo>
                  <a:lnTo>
                    <a:pt x="11" y="20"/>
                  </a:lnTo>
                  <a:lnTo>
                    <a:pt x="0" y="0"/>
                  </a:lnTo>
                  <a:lnTo>
                    <a:pt x="15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68320" y="4319280"/>
              <a:ext cx="169920" cy="41040"/>
            </a:xfrm>
            <a:custGeom>
              <a:avLst/>
              <a:gdLst/>
              <a:ahLst/>
              <a:rect l="l" t="t" r="r" b="b"/>
              <a:pathLst>
                <a:path w="321" h="80">
                  <a:moveTo>
                    <a:pt x="289" y="27"/>
                  </a:moveTo>
                  <a:lnTo>
                    <a:pt x="276" y="32"/>
                  </a:lnTo>
                  <a:lnTo>
                    <a:pt x="266" y="41"/>
                  </a:lnTo>
                  <a:lnTo>
                    <a:pt x="253" y="45"/>
                  </a:lnTo>
                  <a:lnTo>
                    <a:pt x="232" y="56"/>
                  </a:lnTo>
                  <a:lnTo>
                    <a:pt x="194" y="69"/>
                  </a:lnTo>
                  <a:lnTo>
                    <a:pt x="176" y="73"/>
                  </a:lnTo>
                  <a:lnTo>
                    <a:pt x="165" y="73"/>
                  </a:lnTo>
                  <a:lnTo>
                    <a:pt x="139" y="78"/>
                  </a:lnTo>
                  <a:lnTo>
                    <a:pt x="108" y="80"/>
                  </a:lnTo>
                  <a:lnTo>
                    <a:pt x="72" y="73"/>
                  </a:lnTo>
                  <a:lnTo>
                    <a:pt x="48" y="69"/>
                  </a:lnTo>
                  <a:lnTo>
                    <a:pt x="38" y="63"/>
                  </a:lnTo>
                  <a:lnTo>
                    <a:pt x="19" y="56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53" y="51"/>
                  </a:lnTo>
                  <a:lnTo>
                    <a:pt x="97" y="48"/>
                  </a:lnTo>
                  <a:lnTo>
                    <a:pt x="118" y="56"/>
                  </a:lnTo>
                  <a:lnTo>
                    <a:pt x="165" y="61"/>
                  </a:lnTo>
                  <a:lnTo>
                    <a:pt x="191" y="55"/>
                  </a:lnTo>
                  <a:lnTo>
                    <a:pt x="213" y="49"/>
                  </a:lnTo>
                  <a:lnTo>
                    <a:pt x="248" y="35"/>
                  </a:lnTo>
                  <a:lnTo>
                    <a:pt x="273" y="28"/>
                  </a:lnTo>
                  <a:lnTo>
                    <a:pt x="282" y="23"/>
                  </a:lnTo>
                  <a:lnTo>
                    <a:pt x="308" y="7"/>
                  </a:lnTo>
                  <a:lnTo>
                    <a:pt x="321" y="0"/>
                  </a:lnTo>
                  <a:lnTo>
                    <a:pt x="313" y="7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366920" y="4336920"/>
              <a:ext cx="276120" cy="337680"/>
            </a:xfrm>
            <a:custGeom>
              <a:avLst/>
              <a:gdLst/>
              <a:ahLst/>
              <a:rect l="l" t="t" r="r" b="b"/>
              <a:pathLst>
                <a:path w="522" h="637">
                  <a:moveTo>
                    <a:pt x="381" y="16"/>
                  </a:moveTo>
                  <a:lnTo>
                    <a:pt x="396" y="28"/>
                  </a:lnTo>
                  <a:lnTo>
                    <a:pt x="416" y="68"/>
                  </a:lnTo>
                  <a:lnTo>
                    <a:pt x="450" y="172"/>
                  </a:lnTo>
                  <a:lnTo>
                    <a:pt x="460" y="234"/>
                  </a:lnTo>
                  <a:lnTo>
                    <a:pt x="436" y="206"/>
                  </a:lnTo>
                  <a:lnTo>
                    <a:pt x="429" y="206"/>
                  </a:lnTo>
                  <a:lnTo>
                    <a:pt x="427" y="207"/>
                  </a:lnTo>
                  <a:lnTo>
                    <a:pt x="446" y="255"/>
                  </a:lnTo>
                  <a:lnTo>
                    <a:pt x="449" y="259"/>
                  </a:lnTo>
                  <a:lnTo>
                    <a:pt x="456" y="312"/>
                  </a:lnTo>
                  <a:lnTo>
                    <a:pt x="459" y="314"/>
                  </a:lnTo>
                  <a:lnTo>
                    <a:pt x="461" y="316"/>
                  </a:lnTo>
                  <a:lnTo>
                    <a:pt x="466" y="316"/>
                  </a:lnTo>
                  <a:lnTo>
                    <a:pt x="468" y="313"/>
                  </a:lnTo>
                  <a:lnTo>
                    <a:pt x="468" y="292"/>
                  </a:lnTo>
                  <a:lnTo>
                    <a:pt x="515" y="392"/>
                  </a:lnTo>
                  <a:lnTo>
                    <a:pt x="522" y="447"/>
                  </a:lnTo>
                  <a:lnTo>
                    <a:pt x="519" y="483"/>
                  </a:lnTo>
                  <a:lnTo>
                    <a:pt x="508" y="507"/>
                  </a:lnTo>
                  <a:lnTo>
                    <a:pt x="460" y="540"/>
                  </a:lnTo>
                  <a:lnTo>
                    <a:pt x="381" y="572"/>
                  </a:lnTo>
                  <a:lnTo>
                    <a:pt x="356" y="578"/>
                  </a:lnTo>
                  <a:lnTo>
                    <a:pt x="322" y="588"/>
                  </a:lnTo>
                  <a:lnTo>
                    <a:pt x="320" y="589"/>
                  </a:lnTo>
                  <a:lnTo>
                    <a:pt x="279" y="600"/>
                  </a:lnTo>
                  <a:lnTo>
                    <a:pt x="196" y="631"/>
                  </a:lnTo>
                  <a:lnTo>
                    <a:pt x="161" y="637"/>
                  </a:lnTo>
                  <a:lnTo>
                    <a:pt x="158" y="636"/>
                  </a:lnTo>
                  <a:lnTo>
                    <a:pt x="161" y="627"/>
                  </a:lnTo>
                  <a:lnTo>
                    <a:pt x="167" y="621"/>
                  </a:lnTo>
                  <a:lnTo>
                    <a:pt x="162" y="610"/>
                  </a:lnTo>
                  <a:lnTo>
                    <a:pt x="150" y="596"/>
                  </a:lnTo>
                  <a:lnTo>
                    <a:pt x="134" y="585"/>
                  </a:lnTo>
                  <a:lnTo>
                    <a:pt x="93" y="572"/>
                  </a:lnTo>
                  <a:lnTo>
                    <a:pt x="123" y="559"/>
                  </a:lnTo>
                  <a:lnTo>
                    <a:pt x="126" y="557"/>
                  </a:lnTo>
                  <a:lnTo>
                    <a:pt x="124" y="551"/>
                  </a:lnTo>
                  <a:lnTo>
                    <a:pt x="123" y="550"/>
                  </a:lnTo>
                  <a:lnTo>
                    <a:pt x="133" y="544"/>
                  </a:lnTo>
                  <a:lnTo>
                    <a:pt x="136" y="541"/>
                  </a:lnTo>
                  <a:lnTo>
                    <a:pt x="133" y="537"/>
                  </a:lnTo>
                  <a:lnTo>
                    <a:pt x="122" y="537"/>
                  </a:lnTo>
                  <a:lnTo>
                    <a:pt x="85" y="558"/>
                  </a:lnTo>
                  <a:lnTo>
                    <a:pt x="76" y="551"/>
                  </a:lnTo>
                  <a:lnTo>
                    <a:pt x="58" y="538"/>
                  </a:lnTo>
                  <a:lnTo>
                    <a:pt x="30" y="531"/>
                  </a:lnTo>
                  <a:lnTo>
                    <a:pt x="6" y="541"/>
                  </a:lnTo>
                  <a:lnTo>
                    <a:pt x="0" y="547"/>
                  </a:lnTo>
                  <a:lnTo>
                    <a:pt x="2" y="527"/>
                  </a:lnTo>
                  <a:lnTo>
                    <a:pt x="7" y="520"/>
                  </a:lnTo>
                  <a:lnTo>
                    <a:pt x="47" y="528"/>
                  </a:lnTo>
                  <a:lnTo>
                    <a:pt x="93" y="530"/>
                  </a:lnTo>
                  <a:lnTo>
                    <a:pt x="134" y="521"/>
                  </a:lnTo>
                  <a:lnTo>
                    <a:pt x="153" y="514"/>
                  </a:lnTo>
                  <a:lnTo>
                    <a:pt x="162" y="503"/>
                  </a:lnTo>
                  <a:lnTo>
                    <a:pt x="188" y="514"/>
                  </a:lnTo>
                  <a:lnTo>
                    <a:pt x="227" y="513"/>
                  </a:lnTo>
                  <a:lnTo>
                    <a:pt x="263" y="502"/>
                  </a:lnTo>
                  <a:lnTo>
                    <a:pt x="296" y="478"/>
                  </a:lnTo>
                  <a:lnTo>
                    <a:pt x="315" y="455"/>
                  </a:lnTo>
                  <a:lnTo>
                    <a:pt x="319" y="444"/>
                  </a:lnTo>
                  <a:lnTo>
                    <a:pt x="329" y="436"/>
                  </a:lnTo>
                  <a:lnTo>
                    <a:pt x="368" y="393"/>
                  </a:lnTo>
                  <a:lnTo>
                    <a:pt x="377" y="392"/>
                  </a:lnTo>
                  <a:lnTo>
                    <a:pt x="392" y="375"/>
                  </a:lnTo>
                  <a:lnTo>
                    <a:pt x="405" y="344"/>
                  </a:lnTo>
                  <a:lnTo>
                    <a:pt x="408" y="295"/>
                  </a:lnTo>
                  <a:lnTo>
                    <a:pt x="396" y="252"/>
                  </a:lnTo>
                  <a:lnTo>
                    <a:pt x="353" y="199"/>
                  </a:lnTo>
                  <a:lnTo>
                    <a:pt x="344" y="178"/>
                  </a:lnTo>
                  <a:lnTo>
                    <a:pt x="341" y="135"/>
                  </a:lnTo>
                  <a:lnTo>
                    <a:pt x="316" y="51"/>
                  </a:lnTo>
                  <a:lnTo>
                    <a:pt x="313" y="38"/>
                  </a:lnTo>
                  <a:lnTo>
                    <a:pt x="322" y="3"/>
                  </a:lnTo>
                  <a:lnTo>
                    <a:pt x="326" y="0"/>
                  </a:lnTo>
                  <a:lnTo>
                    <a:pt x="351" y="2"/>
                  </a:lnTo>
                  <a:lnTo>
                    <a:pt x="381" y="16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95520" y="4370400"/>
              <a:ext cx="100080" cy="12240"/>
            </a:xfrm>
            <a:custGeom>
              <a:avLst/>
              <a:gdLst/>
              <a:ahLst/>
              <a:rect l="l" t="t" r="r" b="b"/>
              <a:pathLst>
                <a:path w="188" h="24">
                  <a:moveTo>
                    <a:pt x="176" y="16"/>
                  </a:moveTo>
                  <a:lnTo>
                    <a:pt x="185" y="21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64" y="21"/>
                  </a:lnTo>
                  <a:lnTo>
                    <a:pt x="128" y="14"/>
                  </a:lnTo>
                  <a:lnTo>
                    <a:pt x="130" y="13"/>
                  </a:lnTo>
                  <a:lnTo>
                    <a:pt x="124" y="10"/>
                  </a:lnTo>
                  <a:lnTo>
                    <a:pt x="71" y="12"/>
                  </a:lnTo>
                  <a:lnTo>
                    <a:pt x="34" y="16"/>
                  </a:lnTo>
                  <a:lnTo>
                    <a:pt x="9" y="6"/>
                  </a:lnTo>
                  <a:lnTo>
                    <a:pt x="4" y="6"/>
                  </a:lnTo>
                  <a:lnTo>
                    <a:pt x="0" y="2"/>
                  </a:lnTo>
                  <a:lnTo>
                    <a:pt x="13" y="0"/>
                  </a:lnTo>
                  <a:lnTo>
                    <a:pt x="117" y="2"/>
                  </a:lnTo>
                  <a:lnTo>
                    <a:pt x="17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519280" y="4378320"/>
              <a:ext cx="82800" cy="2340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97" y="13"/>
                  </a:moveTo>
                  <a:lnTo>
                    <a:pt x="130" y="19"/>
                  </a:lnTo>
                  <a:lnTo>
                    <a:pt x="148" y="33"/>
                  </a:lnTo>
                  <a:lnTo>
                    <a:pt x="158" y="44"/>
                  </a:lnTo>
                  <a:lnTo>
                    <a:pt x="158" y="45"/>
                  </a:lnTo>
                  <a:lnTo>
                    <a:pt x="148" y="44"/>
                  </a:lnTo>
                  <a:lnTo>
                    <a:pt x="137" y="31"/>
                  </a:lnTo>
                  <a:lnTo>
                    <a:pt x="97" y="20"/>
                  </a:lnTo>
                  <a:lnTo>
                    <a:pt x="22" y="9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9"/>
                  </a:lnTo>
                  <a:lnTo>
                    <a:pt x="22" y="0"/>
                  </a:lnTo>
                  <a:lnTo>
                    <a:pt x="60" y="3"/>
                  </a:lnTo>
                  <a:lnTo>
                    <a:pt x="9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516040" y="4397040"/>
              <a:ext cx="76320" cy="9360"/>
            </a:xfrm>
            <a:custGeom>
              <a:avLst/>
              <a:gdLst/>
              <a:ahLst/>
              <a:rect l="l" t="t" r="r" b="b"/>
              <a:pathLst>
                <a:path w="142" h="18">
                  <a:moveTo>
                    <a:pt x="141" y="11"/>
                  </a:moveTo>
                  <a:lnTo>
                    <a:pt x="142" y="14"/>
                  </a:lnTo>
                  <a:lnTo>
                    <a:pt x="142" y="18"/>
                  </a:lnTo>
                  <a:lnTo>
                    <a:pt x="126" y="18"/>
                  </a:lnTo>
                  <a:lnTo>
                    <a:pt x="105" y="9"/>
                  </a:lnTo>
                  <a:lnTo>
                    <a:pt x="40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2"/>
                  </a:lnTo>
                  <a:lnTo>
                    <a:pt x="90" y="0"/>
                  </a:lnTo>
                  <a:lnTo>
                    <a:pt x="136" y="8"/>
                  </a:lnTo>
                  <a:lnTo>
                    <a:pt x="1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497320" y="4403520"/>
              <a:ext cx="90360" cy="12240"/>
            </a:xfrm>
            <a:custGeom>
              <a:avLst/>
              <a:gdLst/>
              <a:ahLst/>
              <a:rect l="l" t="t" r="r" b="b"/>
              <a:pathLst>
                <a:path w="170" h="24">
                  <a:moveTo>
                    <a:pt x="153" y="9"/>
                  </a:moveTo>
                  <a:lnTo>
                    <a:pt x="170" y="21"/>
                  </a:lnTo>
                  <a:lnTo>
                    <a:pt x="170" y="24"/>
                  </a:lnTo>
                  <a:lnTo>
                    <a:pt x="148" y="21"/>
                  </a:lnTo>
                  <a:lnTo>
                    <a:pt x="89" y="8"/>
                  </a:lnTo>
                  <a:lnTo>
                    <a:pt x="30" y="12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6" y="5"/>
                  </a:lnTo>
                  <a:lnTo>
                    <a:pt x="55" y="4"/>
                  </a:lnTo>
                  <a:lnTo>
                    <a:pt x="76" y="0"/>
                  </a:lnTo>
                  <a:lnTo>
                    <a:pt x="124" y="1"/>
                  </a:lnTo>
                  <a:lnTo>
                    <a:pt x="15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508120" y="4427280"/>
              <a:ext cx="41400" cy="61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6" y="5"/>
                  </a:moveTo>
                  <a:lnTo>
                    <a:pt x="79" y="9"/>
                  </a:lnTo>
                  <a:lnTo>
                    <a:pt x="79" y="12"/>
                  </a:lnTo>
                  <a:lnTo>
                    <a:pt x="72" y="13"/>
                  </a:lnTo>
                  <a:lnTo>
                    <a:pt x="6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72" y="3"/>
                  </a:lnTo>
                  <a:lnTo>
                    <a:pt x="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292400" y="4530600"/>
              <a:ext cx="60120" cy="4716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86" y="26"/>
                  </a:moveTo>
                  <a:lnTo>
                    <a:pt x="106" y="51"/>
                  </a:lnTo>
                  <a:lnTo>
                    <a:pt x="114" y="74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70" y="86"/>
                  </a:lnTo>
                  <a:lnTo>
                    <a:pt x="38" y="70"/>
                  </a:lnTo>
                  <a:lnTo>
                    <a:pt x="7" y="3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7" y="2"/>
                  </a:lnTo>
                  <a:lnTo>
                    <a:pt x="18" y="0"/>
                  </a:lnTo>
                  <a:lnTo>
                    <a:pt x="51" y="3"/>
                  </a:lnTo>
                  <a:lnTo>
                    <a:pt x="8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557440" y="4533840"/>
              <a:ext cx="71640" cy="43920"/>
            </a:xfrm>
            <a:custGeom>
              <a:avLst/>
              <a:gdLst/>
              <a:ahLst/>
              <a:rect l="l" t="t" r="r" b="b"/>
              <a:pathLst>
                <a:path w="134" h="83">
                  <a:moveTo>
                    <a:pt x="134" y="9"/>
                  </a:moveTo>
                  <a:lnTo>
                    <a:pt x="134" y="30"/>
                  </a:lnTo>
                  <a:lnTo>
                    <a:pt x="117" y="49"/>
                  </a:lnTo>
                  <a:lnTo>
                    <a:pt x="75" y="72"/>
                  </a:lnTo>
                  <a:lnTo>
                    <a:pt x="27" y="83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4" y="40"/>
                  </a:lnTo>
                  <a:lnTo>
                    <a:pt x="24" y="28"/>
                  </a:lnTo>
                  <a:lnTo>
                    <a:pt x="72" y="6"/>
                  </a:lnTo>
                  <a:lnTo>
                    <a:pt x="99" y="0"/>
                  </a:lnTo>
                  <a:lnTo>
                    <a:pt x="123" y="3"/>
                  </a:lnTo>
                  <a:lnTo>
                    <a:pt x="13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86080" y="4541760"/>
              <a:ext cx="58680" cy="29880"/>
            </a:xfrm>
            <a:custGeom>
              <a:avLst/>
              <a:gdLst/>
              <a:ahLst/>
              <a:rect l="l" t="t" r="r" b="b"/>
              <a:pathLst>
                <a:path w="110" h="58">
                  <a:moveTo>
                    <a:pt x="81" y="10"/>
                  </a:moveTo>
                  <a:lnTo>
                    <a:pt x="106" y="35"/>
                  </a:lnTo>
                  <a:lnTo>
                    <a:pt x="110" y="50"/>
                  </a:lnTo>
                  <a:lnTo>
                    <a:pt x="110" y="52"/>
                  </a:lnTo>
                  <a:lnTo>
                    <a:pt x="93" y="55"/>
                  </a:lnTo>
                  <a:lnTo>
                    <a:pt x="64" y="58"/>
                  </a:lnTo>
                  <a:lnTo>
                    <a:pt x="30" y="47"/>
                  </a:lnTo>
                  <a:lnTo>
                    <a:pt x="16" y="35"/>
                  </a:lnTo>
                  <a:lnTo>
                    <a:pt x="0" y="19"/>
                  </a:lnTo>
                  <a:lnTo>
                    <a:pt x="2" y="9"/>
                  </a:lnTo>
                  <a:lnTo>
                    <a:pt x="37" y="0"/>
                  </a:lnTo>
                  <a:lnTo>
                    <a:pt x="69" y="4"/>
                  </a:lnTo>
                  <a:lnTo>
                    <a:pt x="8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457360" y="4543200"/>
              <a:ext cx="77760" cy="3924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106" y="15"/>
                  </a:moveTo>
                  <a:lnTo>
                    <a:pt x="134" y="38"/>
                  </a:lnTo>
                  <a:lnTo>
                    <a:pt x="148" y="60"/>
                  </a:lnTo>
                  <a:lnTo>
                    <a:pt x="148" y="65"/>
                  </a:lnTo>
                  <a:lnTo>
                    <a:pt x="130" y="72"/>
                  </a:lnTo>
                  <a:lnTo>
                    <a:pt x="123" y="72"/>
                  </a:lnTo>
                  <a:lnTo>
                    <a:pt x="99" y="74"/>
                  </a:lnTo>
                  <a:lnTo>
                    <a:pt x="27" y="68"/>
                  </a:lnTo>
                  <a:lnTo>
                    <a:pt x="3" y="60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26" y="3"/>
                  </a:lnTo>
                  <a:lnTo>
                    <a:pt x="37" y="0"/>
                  </a:lnTo>
                  <a:lnTo>
                    <a:pt x="75" y="3"/>
                  </a:lnTo>
                  <a:lnTo>
                    <a:pt x="10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5840" y="4568760"/>
              <a:ext cx="73080" cy="34560"/>
            </a:xfrm>
            <a:custGeom>
              <a:avLst/>
              <a:gdLst/>
              <a:ahLst/>
              <a:rect l="l" t="t" r="r" b="b"/>
              <a:pathLst>
                <a:path w="137" h="66">
                  <a:moveTo>
                    <a:pt x="137" y="8"/>
                  </a:moveTo>
                  <a:lnTo>
                    <a:pt x="130" y="23"/>
                  </a:lnTo>
                  <a:lnTo>
                    <a:pt x="107" y="45"/>
                  </a:lnTo>
                  <a:lnTo>
                    <a:pt x="66" y="61"/>
                  </a:lnTo>
                  <a:lnTo>
                    <a:pt x="38" y="66"/>
                  </a:lnTo>
                  <a:lnTo>
                    <a:pt x="9" y="61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6" y="28"/>
                  </a:lnTo>
                  <a:lnTo>
                    <a:pt x="32" y="14"/>
                  </a:lnTo>
                  <a:lnTo>
                    <a:pt x="73" y="0"/>
                  </a:lnTo>
                  <a:lnTo>
                    <a:pt x="116" y="2"/>
                  </a:lnTo>
                  <a:lnTo>
                    <a:pt x="13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359000" y="4572000"/>
              <a:ext cx="85680" cy="39240"/>
            </a:xfrm>
            <a:custGeom>
              <a:avLst/>
              <a:gdLst/>
              <a:ahLst/>
              <a:rect l="l" t="t" r="r" b="b"/>
              <a:pathLst>
                <a:path w="162" h="75">
                  <a:moveTo>
                    <a:pt x="129" y="15"/>
                  </a:moveTo>
                  <a:lnTo>
                    <a:pt x="151" y="27"/>
                  </a:lnTo>
                  <a:lnTo>
                    <a:pt x="162" y="42"/>
                  </a:lnTo>
                  <a:lnTo>
                    <a:pt x="160" y="59"/>
                  </a:lnTo>
                  <a:lnTo>
                    <a:pt x="148" y="66"/>
                  </a:lnTo>
                  <a:lnTo>
                    <a:pt x="104" y="75"/>
                  </a:lnTo>
                  <a:lnTo>
                    <a:pt x="53" y="72"/>
                  </a:lnTo>
                  <a:lnTo>
                    <a:pt x="14" y="55"/>
                  </a:lnTo>
                  <a:lnTo>
                    <a:pt x="0" y="39"/>
                  </a:lnTo>
                  <a:lnTo>
                    <a:pt x="0" y="20"/>
                  </a:lnTo>
                  <a:lnTo>
                    <a:pt x="24" y="6"/>
                  </a:lnTo>
                  <a:lnTo>
                    <a:pt x="41" y="0"/>
                  </a:lnTo>
                  <a:lnTo>
                    <a:pt x="97" y="3"/>
                  </a:lnTo>
                  <a:lnTo>
                    <a:pt x="12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362240" y="4625640"/>
              <a:ext cx="42840" cy="3456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82" y="20"/>
                  </a:moveTo>
                  <a:lnTo>
                    <a:pt x="47" y="47"/>
                  </a:lnTo>
                  <a:lnTo>
                    <a:pt x="34" y="67"/>
                  </a:lnTo>
                  <a:lnTo>
                    <a:pt x="20" y="65"/>
                  </a:lnTo>
                  <a:lnTo>
                    <a:pt x="3" y="54"/>
                  </a:lnTo>
                  <a:lnTo>
                    <a:pt x="0" y="44"/>
                  </a:lnTo>
                  <a:lnTo>
                    <a:pt x="16" y="17"/>
                  </a:lnTo>
                  <a:lnTo>
                    <a:pt x="34" y="0"/>
                  </a:lnTo>
                  <a:lnTo>
                    <a:pt x="55" y="5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387440" y="4644720"/>
              <a:ext cx="61920" cy="298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87" y="14"/>
                  </a:moveTo>
                  <a:lnTo>
                    <a:pt x="107" y="20"/>
                  </a:lnTo>
                  <a:lnTo>
                    <a:pt x="118" y="35"/>
                  </a:lnTo>
                  <a:lnTo>
                    <a:pt x="113" y="45"/>
                  </a:lnTo>
                  <a:lnTo>
                    <a:pt x="99" y="55"/>
                  </a:lnTo>
                  <a:lnTo>
                    <a:pt x="38" y="54"/>
                  </a:lnTo>
                  <a:lnTo>
                    <a:pt x="10" y="48"/>
                  </a:lnTo>
                  <a:lnTo>
                    <a:pt x="0" y="37"/>
                  </a:lnTo>
                  <a:lnTo>
                    <a:pt x="10" y="2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8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238400" y="3573360"/>
              <a:ext cx="266400" cy="372600"/>
            </a:xfrm>
            <a:custGeom>
              <a:avLst/>
              <a:gdLst/>
              <a:ahLst/>
              <a:rect l="l" t="t" r="r" b="b"/>
              <a:pathLst>
                <a:path w="505" h="706">
                  <a:moveTo>
                    <a:pt x="399" y="263"/>
                  </a:moveTo>
                  <a:lnTo>
                    <a:pt x="412" y="138"/>
                  </a:lnTo>
                  <a:lnTo>
                    <a:pt x="401" y="116"/>
                  </a:lnTo>
                  <a:lnTo>
                    <a:pt x="371" y="116"/>
                  </a:lnTo>
                  <a:lnTo>
                    <a:pt x="326" y="128"/>
                  </a:lnTo>
                  <a:lnTo>
                    <a:pt x="287" y="134"/>
                  </a:lnTo>
                  <a:lnTo>
                    <a:pt x="280" y="125"/>
                  </a:lnTo>
                  <a:lnTo>
                    <a:pt x="308" y="106"/>
                  </a:lnTo>
                  <a:lnTo>
                    <a:pt x="267" y="123"/>
                  </a:lnTo>
                  <a:lnTo>
                    <a:pt x="223" y="134"/>
                  </a:lnTo>
                  <a:lnTo>
                    <a:pt x="213" y="132"/>
                  </a:lnTo>
                  <a:lnTo>
                    <a:pt x="208" y="125"/>
                  </a:lnTo>
                  <a:lnTo>
                    <a:pt x="205" y="117"/>
                  </a:lnTo>
                  <a:lnTo>
                    <a:pt x="213" y="113"/>
                  </a:lnTo>
                  <a:lnTo>
                    <a:pt x="305" y="71"/>
                  </a:lnTo>
                  <a:lnTo>
                    <a:pt x="333" y="48"/>
                  </a:lnTo>
                  <a:lnTo>
                    <a:pt x="360" y="14"/>
                  </a:lnTo>
                  <a:lnTo>
                    <a:pt x="357" y="1"/>
                  </a:lnTo>
                  <a:lnTo>
                    <a:pt x="346" y="0"/>
                  </a:lnTo>
                  <a:lnTo>
                    <a:pt x="230" y="17"/>
                  </a:lnTo>
                  <a:lnTo>
                    <a:pt x="198" y="40"/>
                  </a:lnTo>
                  <a:lnTo>
                    <a:pt x="130" y="54"/>
                  </a:lnTo>
                  <a:lnTo>
                    <a:pt x="76" y="59"/>
                  </a:lnTo>
                  <a:lnTo>
                    <a:pt x="60" y="86"/>
                  </a:lnTo>
                  <a:lnTo>
                    <a:pt x="105" y="86"/>
                  </a:lnTo>
                  <a:lnTo>
                    <a:pt x="110" y="90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39" y="93"/>
                  </a:lnTo>
                  <a:lnTo>
                    <a:pt x="143" y="104"/>
                  </a:lnTo>
                  <a:lnTo>
                    <a:pt x="93" y="113"/>
                  </a:lnTo>
                  <a:lnTo>
                    <a:pt x="71" y="113"/>
                  </a:lnTo>
                  <a:lnTo>
                    <a:pt x="51" y="100"/>
                  </a:lnTo>
                  <a:lnTo>
                    <a:pt x="48" y="103"/>
                  </a:lnTo>
                  <a:lnTo>
                    <a:pt x="102" y="144"/>
                  </a:lnTo>
                  <a:lnTo>
                    <a:pt x="123" y="151"/>
                  </a:lnTo>
                  <a:lnTo>
                    <a:pt x="151" y="151"/>
                  </a:lnTo>
                  <a:lnTo>
                    <a:pt x="158" y="155"/>
                  </a:lnTo>
                  <a:lnTo>
                    <a:pt x="192" y="151"/>
                  </a:lnTo>
                  <a:lnTo>
                    <a:pt x="201" y="158"/>
                  </a:lnTo>
                  <a:lnTo>
                    <a:pt x="195" y="162"/>
                  </a:lnTo>
                  <a:lnTo>
                    <a:pt x="139" y="166"/>
                  </a:lnTo>
                  <a:lnTo>
                    <a:pt x="117" y="172"/>
                  </a:lnTo>
                  <a:lnTo>
                    <a:pt x="98" y="165"/>
                  </a:lnTo>
                  <a:lnTo>
                    <a:pt x="60" y="141"/>
                  </a:lnTo>
                  <a:lnTo>
                    <a:pt x="62" y="134"/>
                  </a:lnTo>
                  <a:lnTo>
                    <a:pt x="74" y="140"/>
                  </a:lnTo>
                  <a:lnTo>
                    <a:pt x="44" y="120"/>
                  </a:lnTo>
                  <a:lnTo>
                    <a:pt x="38" y="113"/>
                  </a:lnTo>
                  <a:lnTo>
                    <a:pt x="31" y="116"/>
                  </a:lnTo>
                  <a:lnTo>
                    <a:pt x="20" y="125"/>
                  </a:lnTo>
                  <a:lnTo>
                    <a:pt x="19" y="137"/>
                  </a:lnTo>
                  <a:lnTo>
                    <a:pt x="9" y="152"/>
                  </a:lnTo>
                  <a:lnTo>
                    <a:pt x="7" y="169"/>
                  </a:lnTo>
                  <a:lnTo>
                    <a:pt x="0" y="185"/>
                  </a:lnTo>
                  <a:lnTo>
                    <a:pt x="20" y="237"/>
                  </a:lnTo>
                  <a:lnTo>
                    <a:pt x="53" y="296"/>
                  </a:lnTo>
                  <a:lnTo>
                    <a:pt x="161" y="425"/>
                  </a:lnTo>
                  <a:lnTo>
                    <a:pt x="295" y="549"/>
                  </a:lnTo>
                  <a:lnTo>
                    <a:pt x="391" y="638"/>
                  </a:lnTo>
                  <a:lnTo>
                    <a:pt x="470" y="687"/>
                  </a:lnTo>
                  <a:lnTo>
                    <a:pt x="501" y="706"/>
                  </a:lnTo>
                  <a:lnTo>
                    <a:pt x="505" y="683"/>
                  </a:lnTo>
                  <a:lnTo>
                    <a:pt x="502" y="654"/>
                  </a:lnTo>
                  <a:lnTo>
                    <a:pt x="477" y="609"/>
                  </a:lnTo>
                  <a:lnTo>
                    <a:pt x="443" y="568"/>
                  </a:lnTo>
                  <a:lnTo>
                    <a:pt x="426" y="535"/>
                  </a:lnTo>
                  <a:lnTo>
                    <a:pt x="419" y="509"/>
                  </a:lnTo>
                  <a:lnTo>
                    <a:pt x="422" y="506"/>
                  </a:lnTo>
                  <a:lnTo>
                    <a:pt x="428" y="506"/>
                  </a:lnTo>
                  <a:lnTo>
                    <a:pt x="437" y="533"/>
                  </a:lnTo>
                  <a:lnTo>
                    <a:pt x="453" y="564"/>
                  </a:lnTo>
                  <a:lnTo>
                    <a:pt x="488" y="603"/>
                  </a:lnTo>
                  <a:lnTo>
                    <a:pt x="501" y="616"/>
                  </a:lnTo>
                  <a:lnTo>
                    <a:pt x="497" y="583"/>
                  </a:lnTo>
                  <a:lnTo>
                    <a:pt x="485" y="569"/>
                  </a:lnTo>
                  <a:lnTo>
                    <a:pt x="454" y="540"/>
                  </a:lnTo>
                  <a:lnTo>
                    <a:pt x="428" y="487"/>
                  </a:lnTo>
                  <a:lnTo>
                    <a:pt x="419" y="451"/>
                  </a:lnTo>
                  <a:lnTo>
                    <a:pt x="419" y="428"/>
                  </a:lnTo>
                  <a:lnTo>
                    <a:pt x="412" y="400"/>
                  </a:lnTo>
                  <a:lnTo>
                    <a:pt x="409" y="389"/>
                  </a:lnTo>
                  <a:lnTo>
                    <a:pt x="405" y="327"/>
                  </a:lnTo>
                  <a:lnTo>
                    <a:pt x="406" y="290"/>
                  </a:lnTo>
                  <a:lnTo>
                    <a:pt x="399" y="263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467080" y="3663720"/>
              <a:ext cx="60120" cy="6624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14" y="10"/>
                  </a:moveTo>
                  <a:lnTo>
                    <a:pt x="86" y="51"/>
                  </a:lnTo>
                  <a:lnTo>
                    <a:pt x="79" y="67"/>
                  </a:lnTo>
                  <a:lnTo>
                    <a:pt x="61" y="92"/>
                  </a:lnTo>
                  <a:lnTo>
                    <a:pt x="33" y="113"/>
                  </a:lnTo>
                  <a:lnTo>
                    <a:pt x="35" y="107"/>
                  </a:lnTo>
                  <a:lnTo>
                    <a:pt x="49" y="93"/>
                  </a:lnTo>
                  <a:lnTo>
                    <a:pt x="49" y="89"/>
                  </a:lnTo>
                  <a:lnTo>
                    <a:pt x="64" y="72"/>
                  </a:lnTo>
                  <a:lnTo>
                    <a:pt x="62" y="71"/>
                  </a:lnTo>
                  <a:lnTo>
                    <a:pt x="30" y="100"/>
                  </a:lnTo>
                  <a:lnTo>
                    <a:pt x="4" y="124"/>
                  </a:lnTo>
                  <a:lnTo>
                    <a:pt x="0" y="124"/>
                  </a:lnTo>
                  <a:lnTo>
                    <a:pt x="4" y="119"/>
                  </a:lnTo>
                  <a:lnTo>
                    <a:pt x="23" y="98"/>
                  </a:lnTo>
                  <a:lnTo>
                    <a:pt x="49" y="69"/>
                  </a:lnTo>
                  <a:lnTo>
                    <a:pt x="65" y="62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409840" y="3693960"/>
              <a:ext cx="65160" cy="66240"/>
            </a:xfrm>
            <a:custGeom>
              <a:avLst/>
              <a:gdLst/>
              <a:ahLst/>
              <a:rect l="l" t="t" r="r" b="b"/>
              <a:pathLst>
                <a:path w="124" h="126">
                  <a:moveTo>
                    <a:pt x="114" y="27"/>
                  </a:moveTo>
                  <a:lnTo>
                    <a:pt x="99" y="50"/>
                  </a:lnTo>
                  <a:lnTo>
                    <a:pt x="78" y="66"/>
                  </a:lnTo>
                  <a:lnTo>
                    <a:pt x="51" y="104"/>
                  </a:lnTo>
                  <a:lnTo>
                    <a:pt x="34" y="120"/>
                  </a:lnTo>
                  <a:lnTo>
                    <a:pt x="3" y="126"/>
                  </a:lnTo>
                  <a:lnTo>
                    <a:pt x="1" y="126"/>
                  </a:lnTo>
                  <a:lnTo>
                    <a:pt x="0" y="124"/>
                  </a:lnTo>
                  <a:lnTo>
                    <a:pt x="13" y="119"/>
                  </a:lnTo>
                  <a:lnTo>
                    <a:pt x="25" y="113"/>
                  </a:lnTo>
                  <a:lnTo>
                    <a:pt x="56" y="75"/>
                  </a:lnTo>
                  <a:lnTo>
                    <a:pt x="106" y="23"/>
                  </a:lnTo>
                  <a:lnTo>
                    <a:pt x="121" y="0"/>
                  </a:lnTo>
                  <a:lnTo>
                    <a:pt x="124" y="0"/>
                  </a:lnTo>
                  <a:lnTo>
                    <a:pt x="1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379600" y="3752640"/>
              <a:ext cx="17640" cy="201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9" y="36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1160" y="3492360"/>
              <a:ext cx="1361880" cy="425160"/>
            </a:xfrm>
            <a:custGeom>
              <a:avLst/>
              <a:gdLst/>
              <a:ahLst/>
              <a:rect l="l" t="t" r="r" b="b"/>
              <a:pathLst>
                <a:path w="2574" h="804">
                  <a:moveTo>
                    <a:pt x="8" y="295"/>
                  </a:moveTo>
                  <a:lnTo>
                    <a:pt x="36" y="290"/>
                  </a:lnTo>
                  <a:lnTo>
                    <a:pt x="275" y="116"/>
                  </a:lnTo>
                  <a:lnTo>
                    <a:pt x="825" y="167"/>
                  </a:lnTo>
                  <a:lnTo>
                    <a:pt x="936" y="419"/>
                  </a:lnTo>
                  <a:lnTo>
                    <a:pt x="1637" y="493"/>
                  </a:lnTo>
                  <a:lnTo>
                    <a:pt x="2103" y="180"/>
                  </a:lnTo>
                  <a:lnTo>
                    <a:pt x="2442" y="11"/>
                  </a:lnTo>
                  <a:lnTo>
                    <a:pt x="2559" y="0"/>
                  </a:lnTo>
                  <a:lnTo>
                    <a:pt x="2574" y="8"/>
                  </a:lnTo>
                  <a:lnTo>
                    <a:pt x="2522" y="81"/>
                  </a:lnTo>
                  <a:lnTo>
                    <a:pt x="2416" y="177"/>
                  </a:lnTo>
                  <a:lnTo>
                    <a:pt x="2196" y="433"/>
                  </a:lnTo>
                  <a:lnTo>
                    <a:pt x="1465" y="804"/>
                  </a:lnTo>
                  <a:lnTo>
                    <a:pt x="1001" y="753"/>
                  </a:lnTo>
                  <a:lnTo>
                    <a:pt x="787" y="504"/>
                  </a:lnTo>
                  <a:lnTo>
                    <a:pt x="768" y="380"/>
                  </a:lnTo>
                  <a:lnTo>
                    <a:pt x="682" y="318"/>
                  </a:lnTo>
                  <a:lnTo>
                    <a:pt x="406" y="200"/>
                  </a:lnTo>
                  <a:lnTo>
                    <a:pt x="145" y="360"/>
                  </a:lnTo>
                  <a:lnTo>
                    <a:pt x="65" y="391"/>
                  </a:lnTo>
                  <a:lnTo>
                    <a:pt x="93" y="704"/>
                  </a:lnTo>
                  <a:lnTo>
                    <a:pt x="96" y="740"/>
                  </a:lnTo>
                  <a:lnTo>
                    <a:pt x="53" y="695"/>
                  </a:lnTo>
                  <a:lnTo>
                    <a:pt x="21" y="636"/>
                  </a:lnTo>
                  <a:lnTo>
                    <a:pt x="5" y="549"/>
                  </a:lnTo>
                  <a:lnTo>
                    <a:pt x="0" y="415"/>
                  </a:lnTo>
                  <a:lnTo>
                    <a:pt x="8" y="29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778040" y="3578040"/>
              <a:ext cx="954000" cy="499680"/>
            </a:xfrm>
            <a:custGeom>
              <a:avLst/>
              <a:gdLst/>
              <a:ahLst/>
              <a:rect l="l" t="t" r="r" b="b"/>
              <a:pathLst>
                <a:path w="1803" h="946">
                  <a:moveTo>
                    <a:pt x="1799" y="8"/>
                  </a:moveTo>
                  <a:lnTo>
                    <a:pt x="1803" y="12"/>
                  </a:lnTo>
                  <a:lnTo>
                    <a:pt x="1796" y="31"/>
                  </a:lnTo>
                  <a:lnTo>
                    <a:pt x="1766" y="83"/>
                  </a:lnTo>
                  <a:lnTo>
                    <a:pt x="1734" y="156"/>
                  </a:lnTo>
                  <a:lnTo>
                    <a:pt x="1711" y="211"/>
                  </a:lnTo>
                  <a:lnTo>
                    <a:pt x="1668" y="284"/>
                  </a:lnTo>
                  <a:lnTo>
                    <a:pt x="1661" y="293"/>
                  </a:lnTo>
                  <a:lnTo>
                    <a:pt x="1623" y="367"/>
                  </a:lnTo>
                  <a:lnTo>
                    <a:pt x="1580" y="428"/>
                  </a:lnTo>
                  <a:lnTo>
                    <a:pt x="1544" y="471"/>
                  </a:lnTo>
                  <a:lnTo>
                    <a:pt x="1486" y="543"/>
                  </a:lnTo>
                  <a:lnTo>
                    <a:pt x="1445" y="584"/>
                  </a:lnTo>
                  <a:lnTo>
                    <a:pt x="1318" y="694"/>
                  </a:lnTo>
                  <a:lnTo>
                    <a:pt x="1229" y="767"/>
                  </a:lnTo>
                  <a:lnTo>
                    <a:pt x="1208" y="794"/>
                  </a:lnTo>
                  <a:lnTo>
                    <a:pt x="1149" y="824"/>
                  </a:lnTo>
                  <a:lnTo>
                    <a:pt x="1047" y="859"/>
                  </a:lnTo>
                  <a:lnTo>
                    <a:pt x="970" y="881"/>
                  </a:lnTo>
                  <a:lnTo>
                    <a:pt x="823" y="908"/>
                  </a:lnTo>
                  <a:lnTo>
                    <a:pt x="575" y="943"/>
                  </a:lnTo>
                  <a:lnTo>
                    <a:pt x="493" y="946"/>
                  </a:lnTo>
                  <a:lnTo>
                    <a:pt x="348" y="938"/>
                  </a:lnTo>
                  <a:lnTo>
                    <a:pt x="172" y="912"/>
                  </a:lnTo>
                  <a:lnTo>
                    <a:pt x="62" y="888"/>
                  </a:lnTo>
                  <a:lnTo>
                    <a:pt x="14" y="863"/>
                  </a:lnTo>
                  <a:lnTo>
                    <a:pt x="0" y="849"/>
                  </a:lnTo>
                  <a:lnTo>
                    <a:pt x="0" y="840"/>
                  </a:lnTo>
                  <a:lnTo>
                    <a:pt x="17" y="798"/>
                  </a:lnTo>
                  <a:lnTo>
                    <a:pt x="17" y="791"/>
                  </a:lnTo>
                  <a:lnTo>
                    <a:pt x="34" y="749"/>
                  </a:lnTo>
                  <a:lnTo>
                    <a:pt x="48" y="694"/>
                  </a:lnTo>
                  <a:lnTo>
                    <a:pt x="63" y="621"/>
                  </a:lnTo>
                  <a:lnTo>
                    <a:pt x="73" y="567"/>
                  </a:lnTo>
                  <a:lnTo>
                    <a:pt x="83" y="519"/>
                  </a:lnTo>
                  <a:lnTo>
                    <a:pt x="125" y="323"/>
                  </a:lnTo>
                  <a:lnTo>
                    <a:pt x="151" y="219"/>
                  </a:lnTo>
                  <a:lnTo>
                    <a:pt x="162" y="253"/>
                  </a:lnTo>
                  <a:lnTo>
                    <a:pt x="182" y="293"/>
                  </a:lnTo>
                  <a:lnTo>
                    <a:pt x="203" y="331"/>
                  </a:lnTo>
                  <a:lnTo>
                    <a:pt x="227" y="364"/>
                  </a:lnTo>
                  <a:lnTo>
                    <a:pt x="252" y="397"/>
                  </a:lnTo>
                  <a:lnTo>
                    <a:pt x="279" y="426"/>
                  </a:lnTo>
                  <a:lnTo>
                    <a:pt x="311" y="453"/>
                  </a:lnTo>
                  <a:lnTo>
                    <a:pt x="349" y="478"/>
                  </a:lnTo>
                  <a:lnTo>
                    <a:pt x="393" y="500"/>
                  </a:lnTo>
                  <a:lnTo>
                    <a:pt x="420" y="511"/>
                  </a:lnTo>
                  <a:lnTo>
                    <a:pt x="447" y="519"/>
                  </a:lnTo>
                  <a:lnTo>
                    <a:pt x="476" y="529"/>
                  </a:lnTo>
                  <a:lnTo>
                    <a:pt x="509" y="536"/>
                  </a:lnTo>
                  <a:lnTo>
                    <a:pt x="544" y="545"/>
                  </a:lnTo>
                  <a:lnTo>
                    <a:pt x="581" y="550"/>
                  </a:lnTo>
                  <a:lnTo>
                    <a:pt x="622" y="555"/>
                  </a:lnTo>
                  <a:lnTo>
                    <a:pt x="665" y="559"/>
                  </a:lnTo>
                  <a:lnTo>
                    <a:pt x="744" y="556"/>
                  </a:lnTo>
                  <a:lnTo>
                    <a:pt x="805" y="545"/>
                  </a:lnTo>
                  <a:lnTo>
                    <a:pt x="871" y="526"/>
                  </a:lnTo>
                  <a:lnTo>
                    <a:pt x="936" y="521"/>
                  </a:lnTo>
                  <a:lnTo>
                    <a:pt x="997" y="514"/>
                  </a:lnTo>
                  <a:lnTo>
                    <a:pt x="1045" y="497"/>
                  </a:lnTo>
                  <a:lnTo>
                    <a:pt x="1321" y="331"/>
                  </a:lnTo>
                  <a:lnTo>
                    <a:pt x="1342" y="328"/>
                  </a:lnTo>
                  <a:lnTo>
                    <a:pt x="1644" y="101"/>
                  </a:lnTo>
                  <a:lnTo>
                    <a:pt x="1728" y="28"/>
                  </a:lnTo>
                  <a:lnTo>
                    <a:pt x="1766" y="8"/>
                  </a:lnTo>
                  <a:lnTo>
                    <a:pt x="1773" y="1"/>
                  </a:lnTo>
                  <a:lnTo>
                    <a:pt x="1779" y="0"/>
                  </a:lnTo>
                  <a:lnTo>
                    <a:pt x="1792" y="2"/>
                  </a:lnTo>
                  <a:lnTo>
                    <a:pt x="1799" y="8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4040" y="3144600"/>
              <a:ext cx="1351080" cy="726840"/>
            </a:xfrm>
            <a:custGeom>
              <a:avLst/>
              <a:gdLst/>
              <a:ahLst/>
              <a:rect l="l" t="t" r="r" b="b"/>
              <a:pathLst>
                <a:path w="2551" h="1373">
                  <a:moveTo>
                    <a:pt x="0" y="1064"/>
                  </a:moveTo>
                  <a:lnTo>
                    <a:pt x="7" y="1091"/>
                  </a:lnTo>
                  <a:lnTo>
                    <a:pt x="7" y="1160"/>
                  </a:lnTo>
                  <a:lnTo>
                    <a:pt x="9" y="1195"/>
                  </a:lnTo>
                  <a:lnTo>
                    <a:pt x="19" y="1231"/>
                  </a:lnTo>
                  <a:lnTo>
                    <a:pt x="21" y="1263"/>
                  </a:lnTo>
                  <a:lnTo>
                    <a:pt x="33" y="1298"/>
                  </a:lnTo>
                  <a:lnTo>
                    <a:pt x="58" y="1348"/>
                  </a:lnTo>
                  <a:lnTo>
                    <a:pt x="92" y="1373"/>
                  </a:lnTo>
                  <a:lnTo>
                    <a:pt x="78" y="1239"/>
                  </a:lnTo>
                  <a:lnTo>
                    <a:pt x="68" y="1163"/>
                  </a:lnTo>
                  <a:lnTo>
                    <a:pt x="68" y="1098"/>
                  </a:lnTo>
                  <a:lnTo>
                    <a:pt x="75" y="1033"/>
                  </a:lnTo>
                  <a:lnTo>
                    <a:pt x="92" y="995"/>
                  </a:lnTo>
                  <a:lnTo>
                    <a:pt x="112" y="973"/>
                  </a:lnTo>
                  <a:lnTo>
                    <a:pt x="161" y="926"/>
                  </a:lnTo>
                  <a:lnTo>
                    <a:pt x="199" y="887"/>
                  </a:lnTo>
                  <a:lnTo>
                    <a:pt x="255" y="856"/>
                  </a:lnTo>
                  <a:lnTo>
                    <a:pt x="317" y="831"/>
                  </a:lnTo>
                  <a:lnTo>
                    <a:pt x="395" y="812"/>
                  </a:lnTo>
                  <a:lnTo>
                    <a:pt x="477" y="805"/>
                  </a:lnTo>
                  <a:lnTo>
                    <a:pt x="561" y="814"/>
                  </a:lnTo>
                  <a:lnTo>
                    <a:pt x="646" y="836"/>
                  </a:lnTo>
                  <a:lnTo>
                    <a:pt x="722" y="873"/>
                  </a:lnTo>
                  <a:lnTo>
                    <a:pt x="752" y="894"/>
                  </a:lnTo>
                  <a:lnTo>
                    <a:pt x="764" y="912"/>
                  </a:lnTo>
                  <a:lnTo>
                    <a:pt x="770" y="935"/>
                  </a:lnTo>
                  <a:lnTo>
                    <a:pt x="771" y="983"/>
                  </a:lnTo>
                  <a:lnTo>
                    <a:pt x="774" y="1022"/>
                  </a:lnTo>
                  <a:lnTo>
                    <a:pt x="784" y="1070"/>
                  </a:lnTo>
                  <a:lnTo>
                    <a:pt x="807" y="1112"/>
                  </a:lnTo>
                  <a:lnTo>
                    <a:pt x="829" y="1150"/>
                  </a:lnTo>
                  <a:lnTo>
                    <a:pt x="853" y="1184"/>
                  </a:lnTo>
                  <a:lnTo>
                    <a:pt x="880" y="1214"/>
                  </a:lnTo>
                  <a:lnTo>
                    <a:pt x="907" y="1239"/>
                  </a:lnTo>
                  <a:lnTo>
                    <a:pt x="935" y="1259"/>
                  </a:lnTo>
                  <a:lnTo>
                    <a:pt x="966" y="1279"/>
                  </a:lnTo>
                  <a:lnTo>
                    <a:pt x="997" y="1295"/>
                  </a:lnTo>
                  <a:lnTo>
                    <a:pt x="1027" y="1308"/>
                  </a:lnTo>
                  <a:lnTo>
                    <a:pt x="1056" y="1319"/>
                  </a:lnTo>
                  <a:lnTo>
                    <a:pt x="1089" y="1329"/>
                  </a:lnTo>
                  <a:lnTo>
                    <a:pt x="1123" y="1336"/>
                  </a:lnTo>
                  <a:lnTo>
                    <a:pt x="1156" y="1343"/>
                  </a:lnTo>
                  <a:lnTo>
                    <a:pt x="1193" y="1350"/>
                  </a:lnTo>
                  <a:lnTo>
                    <a:pt x="1233" y="1356"/>
                  </a:lnTo>
                  <a:lnTo>
                    <a:pt x="1272" y="1362"/>
                  </a:lnTo>
                  <a:lnTo>
                    <a:pt x="1354" y="1357"/>
                  </a:lnTo>
                  <a:lnTo>
                    <a:pt x="1413" y="1346"/>
                  </a:lnTo>
                  <a:lnTo>
                    <a:pt x="1479" y="1328"/>
                  </a:lnTo>
                  <a:lnTo>
                    <a:pt x="1544" y="1322"/>
                  </a:lnTo>
                  <a:lnTo>
                    <a:pt x="1601" y="1317"/>
                  </a:lnTo>
                  <a:lnTo>
                    <a:pt x="1648" y="1297"/>
                  </a:lnTo>
                  <a:lnTo>
                    <a:pt x="1930" y="1133"/>
                  </a:lnTo>
                  <a:lnTo>
                    <a:pt x="1952" y="1131"/>
                  </a:lnTo>
                  <a:lnTo>
                    <a:pt x="2246" y="902"/>
                  </a:lnTo>
                  <a:lnTo>
                    <a:pt x="2329" y="836"/>
                  </a:lnTo>
                  <a:lnTo>
                    <a:pt x="2366" y="818"/>
                  </a:lnTo>
                  <a:lnTo>
                    <a:pt x="2396" y="807"/>
                  </a:lnTo>
                  <a:lnTo>
                    <a:pt x="2424" y="797"/>
                  </a:lnTo>
                  <a:lnTo>
                    <a:pt x="2499" y="725"/>
                  </a:lnTo>
                  <a:lnTo>
                    <a:pt x="2551" y="656"/>
                  </a:lnTo>
                  <a:lnTo>
                    <a:pt x="2540" y="645"/>
                  </a:lnTo>
                  <a:lnTo>
                    <a:pt x="2520" y="619"/>
                  </a:lnTo>
                  <a:lnTo>
                    <a:pt x="2493" y="581"/>
                  </a:lnTo>
                  <a:lnTo>
                    <a:pt x="2483" y="545"/>
                  </a:lnTo>
                  <a:lnTo>
                    <a:pt x="2489" y="509"/>
                  </a:lnTo>
                  <a:lnTo>
                    <a:pt x="2499" y="474"/>
                  </a:lnTo>
                  <a:lnTo>
                    <a:pt x="2478" y="400"/>
                  </a:lnTo>
                  <a:lnTo>
                    <a:pt x="2421" y="285"/>
                  </a:lnTo>
                  <a:lnTo>
                    <a:pt x="2399" y="266"/>
                  </a:lnTo>
                  <a:lnTo>
                    <a:pt x="2149" y="124"/>
                  </a:lnTo>
                  <a:lnTo>
                    <a:pt x="2108" y="105"/>
                  </a:lnTo>
                  <a:lnTo>
                    <a:pt x="1964" y="111"/>
                  </a:lnTo>
                  <a:lnTo>
                    <a:pt x="1826" y="116"/>
                  </a:lnTo>
                  <a:lnTo>
                    <a:pt x="1780" y="114"/>
                  </a:lnTo>
                  <a:lnTo>
                    <a:pt x="1711" y="107"/>
                  </a:lnTo>
                  <a:lnTo>
                    <a:pt x="1643" y="94"/>
                  </a:lnTo>
                  <a:lnTo>
                    <a:pt x="1529" y="57"/>
                  </a:lnTo>
                  <a:lnTo>
                    <a:pt x="1516" y="66"/>
                  </a:lnTo>
                  <a:lnTo>
                    <a:pt x="1438" y="50"/>
                  </a:lnTo>
                  <a:lnTo>
                    <a:pt x="1427" y="53"/>
                  </a:lnTo>
                  <a:lnTo>
                    <a:pt x="1399" y="40"/>
                  </a:lnTo>
                  <a:lnTo>
                    <a:pt x="1374" y="49"/>
                  </a:lnTo>
                  <a:lnTo>
                    <a:pt x="1345" y="40"/>
                  </a:lnTo>
                  <a:lnTo>
                    <a:pt x="1328" y="49"/>
                  </a:lnTo>
                  <a:lnTo>
                    <a:pt x="1292" y="40"/>
                  </a:lnTo>
                  <a:lnTo>
                    <a:pt x="1272" y="45"/>
                  </a:lnTo>
                  <a:lnTo>
                    <a:pt x="1254" y="38"/>
                  </a:lnTo>
                  <a:lnTo>
                    <a:pt x="1235" y="42"/>
                  </a:lnTo>
                  <a:lnTo>
                    <a:pt x="1202" y="29"/>
                  </a:lnTo>
                  <a:lnTo>
                    <a:pt x="1192" y="35"/>
                  </a:lnTo>
                  <a:lnTo>
                    <a:pt x="1162" y="39"/>
                  </a:lnTo>
                  <a:lnTo>
                    <a:pt x="1151" y="32"/>
                  </a:lnTo>
                  <a:lnTo>
                    <a:pt x="1104" y="35"/>
                  </a:lnTo>
                  <a:lnTo>
                    <a:pt x="1061" y="16"/>
                  </a:lnTo>
                  <a:lnTo>
                    <a:pt x="1042" y="16"/>
                  </a:lnTo>
                  <a:lnTo>
                    <a:pt x="1018" y="15"/>
                  </a:lnTo>
                  <a:lnTo>
                    <a:pt x="1020" y="24"/>
                  </a:lnTo>
                  <a:lnTo>
                    <a:pt x="996" y="26"/>
                  </a:lnTo>
                  <a:lnTo>
                    <a:pt x="979" y="19"/>
                  </a:lnTo>
                  <a:lnTo>
                    <a:pt x="966" y="22"/>
                  </a:lnTo>
                  <a:lnTo>
                    <a:pt x="953" y="19"/>
                  </a:lnTo>
                  <a:lnTo>
                    <a:pt x="943" y="29"/>
                  </a:lnTo>
                  <a:lnTo>
                    <a:pt x="932" y="29"/>
                  </a:lnTo>
                  <a:lnTo>
                    <a:pt x="921" y="32"/>
                  </a:lnTo>
                  <a:lnTo>
                    <a:pt x="894" y="22"/>
                  </a:lnTo>
                  <a:lnTo>
                    <a:pt x="887" y="28"/>
                  </a:lnTo>
                  <a:lnTo>
                    <a:pt x="866" y="22"/>
                  </a:lnTo>
                  <a:lnTo>
                    <a:pt x="852" y="26"/>
                  </a:lnTo>
                  <a:lnTo>
                    <a:pt x="828" y="21"/>
                  </a:lnTo>
                  <a:lnTo>
                    <a:pt x="804" y="24"/>
                  </a:lnTo>
                  <a:lnTo>
                    <a:pt x="764" y="21"/>
                  </a:lnTo>
                  <a:lnTo>
                    <a:pt x="715" y="0"/>
                  </a:lnTo>
                  <a:lnTo>
                    <a:pt x="662" y="5"/>
                  </a:lnTo>
                  <a:lnTo>
                    <a:pt x="659" y="26"/>
                  </a:lnTo>
                  <a:lnTo>
                    <a:pt x="660" y="40"/>
                  </a:lnTo>
                  <a:lnTo>
                    <a:pt x="662" y="112"/>
                  </a:lnTo>
                  <a:lnTo>
                    <a:pt x="656" y="239"/>
                  </a:lnTo>
                  <a:lnTo>
                    <a:pt x="660" y="276"/>
                  </a:lnTo>
                  <a:lnTo>
                    <a:pt x="663" y="294"/>
                  </a:lnTo>
                  <a:lnTo>
                    <a:pt x="680" y="432"/>
                  </a:lnTo>
                  <a:lnTo>
                    <a:pt x="670" y="443"/>
                  </a:lnTo>
                  <a:lnTo>
                    <a:pt x="643" y="443"/>
                  </a:lnTo>
                  <a:lnTo>
                    <a:pt x="625" y="438"/>
                  </a:lnTo>
                  <a:lnTo>
                    <a:pt x="584" y="464"/>
                  </a:lnTo>
                  <a:lnTo>
                    <a:pt x="574" y="469"/>
                  </a:lnTo>
                  <a:lnTo>
                    <a:pt x="564" y="464"/>
                  </a:lnTo>
                  <a:lnTo>
                    <a:pt x="560" y="456"/>
                  </a:lnTo>
                  <a:lnTo>
                    <a:pt x="547" y="411"/>
                  </a:lnTo>
                  <a:lnTo>
                    <a:pt x="522" y="414"/>
                  </a:lnTo>
                  <a:lnTo>
                    <a:pt x="477" y="438"/>
                  </a:lnTo>
                  <a:lnTo>
                    <a:pt x="454" y="463"/>
                  </a:lnTo>
                  <a:lnTo>
                    <a:pt x="436" y="474"/>
                  </a:lnTo>
                  <a:lnTo>
                    <a:pt x="408" y="481"/>
                  </a:lnTo>
                  <a:lnTo>
                    <a:pt x="370" y="481"/>
                  </a:lnTo>
                  <a:lnTo>
                    <a:pt x="330" y="547"/>
                  </a:lnTo>
                  <a:lnTo>
                    <a:pt x="285" y="584"/>
                  </a:lnTo>
                  <a:lnTo>
                    <a:pt x="272" y="587"/>
                  </a:lnTo>
                  <a:lnTo>
                    <a:pt x="244" y="590"/>
                  </a:lnTo>
                  <a:lnTo>
                    <a:pt x="231" y="595"/>
                  </a:lnTo>
                  <a:lnTo>
                    <a:pt x="219" y="614"/>
                  </a:lnTo>
                  <a:lnTo>
                    <a:pt x="206" y="653"/>
                  </a:lnTo>
                  <a:lnTo>
                    <a:pt x="189" y="677"/>
                  </a:lnTo>
                  <a:lnTo>
                    <a:pt x="172" y="690"/>
                  </a:lnTo>
                  <a:lnTo>
                    <a:pt x="168" y="697"/>
                  </a:lnTo>
                  <a:lnTo>
                    <a:pt x="171" y="714"/>
                  </a:lnTo>
                  <a:lnTo>
                    <a:pt x="112" y="780"/>
                  </a:lnTo>
                  <a:lnTo>
                    <a:pt x="72" y="843"/>
                  </a:lnTo>
                  <a:lnTo>
                    <a:pt x="45" y="909"/>
                  </a:lnTo>
                  <a:lnTo>
                    <a:pt x="13" y="946"/>
                  </a:lnTo>
                  <a:lnTo>
                    <a:pt x="0" y="106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916280" y="3489120"/>
              <a:ext cx="20520" cy="112320"/>
            </a:xfrm>
            <a:custGeom>
              <a:avLst/>
              <a:gdLst/>
              <a:ahLst/>
              <a:rect l="l" t="t" r="r" b="b"/>
              <a:pathLst>
                <a:path w="39" h="213">
                  <a:moveTo>
                    <a:pt x="39" y="14"/>
                  </a:moveTo>
                  <a:lnTo>
                    <a:pt x="34" y="106"/>
                  </a:lnTo>
                  <a:lnTo>
                    <a:pt x="30" y="118"/>
                  </a:lnTo>
                  <a:lnTo>
                    <a:pt x="27" y="156"/>
                  </a:lnTo>
                  <a:lnTo>
                    <a:pt x="11" y="208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18" y="151"/>
                  </a:lnTo>
                  <a:lnTo>
                    <a:pt x="23" y="125"/>
                  </a:lnTo>
                  <a:lnTo>
                    <a:pt x="23" y="107"/>
                  </a:lnTo>
                  <a:lnTo>
                    <a:pt x="24" y="90"/>
                  </a:lnTo>
                  <a:lnTo>
                    <a:pt x="23" y="55"/>
                  </a:lnTo>
                  <a:lnTo>
                    <a:pt x="30" y="51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947960" y="3495600"/>
              <a:ext cx="14040" cy="85320"/>
            </a:xfrm>
            <a:custGeom>
              <a:avLst/>
              <a:gdLst/>
              <a:ahLst/>
              <a:rect l="l" t="t" r="r" b="b"/>
              <a:pathLst>
                <a:path w="29" h="162">
                  <a:moveTo>
                    <a:pt x="18" y="37"/>
                  </a:moveTo>
                  <a:lnTo>
                    <a:pt x="22" y="82"/>
                  </a:lnTo>
                  <a:lnTo>
                    <a:pt x="29" y="86"/>
                  </a:lnTo>
                  <a:lnTo>
                    <a:pt x="20" y="127"/>
                  </a:lnTo>
                  <a:lnTo>
                    <a:pt x="7" y="158"/>
                  </a:lnTo>
                  <a:lnTo>
                    <a:pt x="4" y="162"/>
                  </a:lnTo>
                  <a:lnTo>
                    <a:pt x="0" y="162"/>
                  </a:lnTo>
                  <a:lnTo>
                    <a:pt x="0" y="151"/>
                  </a:lnTo>
                  <a:lnTo>
                    <a:pt x="11" y="111"/>
                  </a:lnTo>
                  <a:lnTo>
                    <a:pt x="8" y="104"/>
                  </a:lnTo>
                  <a:lnTo>
                    <a:pt x="12" y="56"/>
                  </a:lnTo>
                  <a:lnTo>
                    <a:pt x="15" y="7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951200" y="3573360"/>
              <a:ext cx="17280" cy="5688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32" y="16"/>
                  </a:moveTo>
                  <a:lnTo>
                    <a:pt x="17" y="75"/>
                  </a:lnTo>
                  <a:lnTo>
                    <a:pt x="7" y="105"/>
                  </a:lnTo>
                  <a:lnTo>
                    <a:pt x="4" y="108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14" y="30"/>
                  </a:lnTo>
                  <a:lnTo>
                    <a:pt x="15" y="33"/>
                  </a:lnTo>
                  <a:lnTo>
                    <a:pt x="22" y="24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424240" y="3430440"/>
              <a:ext cx="12600" cy="60120"/>
            </a:xfrm>
            <a:custGeom>
              <a:avLst/>
              <a:gdLst/>
              <a:ahLst/>
              <a:rect l="l" t="t" r="r" b="b"/>
              <a:pathLst>
                <a:path w="25" h="114">
                  <a:moveTo>
                    <a:pt x="15" y="25"/>
                  </a:moveTo>
                  <a:lnTo>
                    <a:pt x="22" y="29"/>
                  </a:lnTo>
                  <a:lnTo>
                    <a:pt x="25" y="62"/>
                  </a:lnTo>
                  <a:lnTo>
                    <a:pt x="18" y="101"/>
                  </a:lnTo>
                  <a:lnTo>
                    <a:pt x="11" y="111"/>
                  </a:lnTo>
                  <a:lnTo>
                    <a:pt x="7" y="114"/>
                  </a:lnTo>
                  <a:lnTo>
                    <a:pt x="4" y="114"/>
                  </a:lnTo>
                  <a:lnTo>
                    <a:pt x="8" y="104"/>
                  </a:lnTo>
                  <a:lnTo>
                    <a:pt x="5" y="101"/>
                  </a:lnTo>
                  <a:lnTo>
                    <a:pt x="12" y="59"/>
                  </a:lnTo>
                  <a:lnTo>
                    <a:pt x="10" y="31"/>
                  </a:lnTo>
                  <a:lnTo>
                    <a:pt x="0" y="7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397240" y="3439800"/>
              <a:ext cx="21960" cy="75960"/>
            </a:xfrm>
            <a:custGeom>
              <a:avLst/>
              <a:gdLst/>
              <a:ahLst/>
              <a:rect l="l" t="t" r="r" b="b"/>
              <a:pathLst>
                <a:path w="41" h="143">
                  <a:moveTo>
                    <a:pt x="41" y="20"/>
                  </a:moveTo>
                  <a:lnTo>
                    <a:pt x="41" y="60"/>
                  </a:lnTo>
                  <a:lnTo>
                    <a:pt x="29" y="82"/>
                  </a:lnTo>
                  <a:lnTo>
                    <a:pt x="20" y="110"/>
                  </a:lnTo>
                  <a:lnTo>
                    <a:pt x="5" y="143"/>
                  </a:lnTo>
                  <a:lnTo>
                    <a:pt x="0" y="143"/>
                  </a:lnTo>
                  <a:lnTo>
                    <a:pt x="22" y="89"/>
                  </a:lnTo>
                  <a:lnTo>
                    <a:pt x="29" y="52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395440" y="3446280"/>
              <a:ext cx="9720" cy="3924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16" y="7"/>
                  </a:moveTo>
                  <a:lnTo>
                    <a:pt x="17" y="49"/>
                  </a:lnTo>
                  <a:lnTo>
                    <a:pt x="7" y="73"/>
                  </a:lnTo>
                  <a:lnTo>
                    <a:pt x="4" y="74"/>
                  </a:lnTo>
                  <a:lnTo>
                    <a:pt x="0" y="74"/>
                  </a:lnTo>
                  <a:lnTo>
                    <a:pt x="9" y="33"/>
                  </a:lnTo>
                  <a:lnTo>
                    <a:pt x="2" y="7"/>
                  </a:lnTo>
                  <a:lnTo>
                    <a:pt x="4" y="0"/>
                  </a:lnTo>
                  <a:lnTo>
                    <a:pt x="11" y="1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570040" y="3340080"/>
              <a:ext cx="130320" cy="118440"/>
            </a:xfrm>
            <a:custGeom>
              <a:avLst/>
              <a:gdLst/>
              <a:ahLst/>
              <a:rect l="l" t="t" r="r" b="b"/>
              <a:pathLst>
                <a:path w="245" h="226">
                  <a:moveTo>
                    <a:pt x="28" y="13"/>
                  </a:moveTo>
                  <a:lnTo>
                    <a:pt x="66" y="54"/>
                  </a:lnTo>
                  <a:lnTo>
                    <a:pt x="72" y="57"/>
                  </a:lnTo>
                  <a:lnTo>
                    <a:pt x="83" y="58"/>
                  </a:lnTo>
                  <a:lnTo>
                    <a:pt x="100" y="80"/>
                  </a:lnTo>
                  <a:lnTo>
                    <a:pt x="106" y="73"/>
                  </a:lnTo>
                  <a:lnTo>
                    <a:pt x="126" y="90"/>
                  </a:lnTo>
                  <a:lnTo>
                    <a:pt x="154" y="120"/>
                  </a:lnTo>
                  <a:lnTo>
                    <a:pt x="159" y="126"/>
                  </a:lnTo>
                  <a:lnTo>
                    <a:pt x="161" y="126"/>
                  </a:lnTo>
                  <a:lnTo>
                    <a:pt x="161" y="120"/>
                  </a:lnTo>
                  <a:lnTo>
                    <a:pt x="145" y="102"/>
                  </a:lnTo>
                  <a:lnTo>
                    <a:pt x="145" y="100"/>
                  </a:lnTo>
                  <a:lnTo>
                    <a:pt x="155" y="102"/>
                  </a:lnTo>
                  <a:lnTo>
                    <a:pt x="182" y="123"/>
                  </a:lnTo>
                  <a:lnTo>
                    <a:pt x="192" y="128"/>
                  </a:lnTo>
                  <a:lnTo>
                    <a:pt x="209" y="145"/>
                  </a:lnTo>
                  <a:lnTo>
                    <a:pt x="240" y="186"/>
                  </a:lnTo>
                  <a:lnTo>
                    <a:pt x="245" y="189"/>
                  </a:lnTo>
                  <a:lnTo>
                    <a:pt x="240" y="192"/>
                  </a:lnTo>
                  <a:lnTo>
                    <a:pt x="231" y="192"/>
                  </a:lnTo>
                  <a:lnTo>
                    <a:pt x="219" y="182"/>
                  </a:lnTo>
                  <a:lnTo>
                    <a:pt x="216" y="195"/>
                  </a:lnTo>
                  <a:lnTo>
                    <a:pt x="213" y="197"/>
                  </a:lnTo>
                  <a:lnTo>
                    <a:pt x="185" y="182"/>
                  </a:lnTo>
                  <a:lnTo>
                    <a:pt x="185" y="195"/>
                  </a:lnTo>
                  <a:lnTo>
                    <a:pt x="182" y="197"/>
                  </a:lnTo>
                  <a:lnTo>
                    <a:pt x="169" y="193"/>
                  </a:lnTo>
                  <a:lnTo>
                    <a:pt x="162" y="188"/>
                  </a:lnTo>
                  <a:lnTo>
                    <a:pt x="159" y="197"/>
                  </a:lnTo>
                  <a:lnTo>
                    <a:pt x="155" y="200"/>
                  </a:lnTo>
                  <a:lnTo>
                    <a:pt x="138" y="195"/>
                  </a:lnTo>
                  <a:lnTo>
                    <a:pt x="135" y="202"/>
                  </a:lnTo>
                  <a:lnTo>
                    <a:pt x="134" y="203"/>
                  </a:lnTo>
                  <a:lnTo>
                    <a:pt x="120" y="197"/>
                  </a:lnTo>
                  <a:lnTo>
                    <a:pt x="119" y="206"/>
                  </a:lnTo>
                  <a:lnTo>
                    <a:pt x="120" y="217"/>
                  </a:lnTo>
                  <a:lnTo>
                    <a:pt x="120" y="223"/>
                  </a:lnTo>
                  <a:lnTo>
                    <a:pt x="112" y="226"/>
                  </a:lnTo>
                  <a:lnTo>
                    <a:pt x="106" y="216"/>
                  </a:lnTo>
                  <a:lnTo>
                    <a:pt x="76" y="140"/>
                  </a:lnTo>
                  <a:lnTo>
                    <a:pt x="40" y="47"/>
                  </a:lnTo>
                  <a:lnTo>
                    <a:pt x="14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602080" y="3371760"/>
              <a:ext cx="80640" cy="67680"/>
            </a:xfrm>
            <a:custGeom>
              <a:avLst/>
              <a:gdLst/>
              <a:ahLst/>
              <a:rect l="l" t="t" r="r" b="b"/>
              <a:pathLst>
                <a:path w="154" h="129">
                  <a:moveTo>
                    <a:pt x="33" y="27"/>
                  </a:moveTo>
                  <a:lnTo>
                    <a:pt x="72" y="60"/>
                  </a:lnTo>
                  <a:lnTo>
                    <a:pt x="79" y="60"/>
                  </a:lnTo>
                  <a:lnTo>
                    <a:pt x="99" y="79"/>
                  </a:lnTo>
                  <a:lnTo>
                    <a:pt x="115" y="83"/>
                  </a:lnTo>
                  <a:lnTo>
                    <a:pt x="126" y="84"/>
                  </a:lnTo>
                  <a:lnTo>
                    <a:pt x="141" y="97"/>
                  </a:lnTo>
                  <a:lnTo>
                    <a:pt x="144" y="94"/>
                  </a:lnTo>
                  <a:lnTo>
                    <a:pt x="154" y="108"/>
                  </a:lnTo>
                  <a:lnTo>
                    <a:pt x="150" y="114"/>
                  </a:lnTo>
                  <a:lnTo>
                    <a:pt x="147" y="117"/>
                  </a:lnTo>
                  <a:lnTo>
                    <a:pt x="126" y="111"/>
                  </a:lnTo>
                  <a:lnTo>
                    <a:pt x="115" y="117"/>
                  </a:lnTo>
                  <a:lnTo>
                    <a:pt x="112" y="119"/>
                  </a:lnTo>
                  <a:lnTo>
                    <a:pt x="103" y="114"/>
                  </a:lnTo>
                  <a:lnTo>
                    <a:pt x="98" y="114"/>
                  </a:lnTo>
                  <a:lnTo>
                    <a:pt x="93" y="124"/>
                  </a:lnTo>
                  <a:lnTo>
                    <a:pt x="86" y="124"/>
                  </a:lnTo>
                  <a:lnTo>
                    <a:pt x="75" y="118"/>
                  </a:lnTo>
                  <a:lnTo>
                    <a:pt x="71" y="118"/>
                  </a:lnTo>
                  <a:lnTo>
                    <a:pt x="65" y="125"/>
                  </a:lnTo>
                  <a:lnTo>
                    <a:pt x="57" y="125"/>
                  </a:lnTo>
                  <a:lnTo>
                    <a:pt x="53" y="129"/>
                  </a:lnTo>
                  <a:lnTo>
                    <a:pt x="24" y="67"/>
                  </a:lnTo>
                  <a:lnTo>
                    <a:pt x="16" y="48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838520" y="3122280"/>
              <a:ext cx="420480" cy="53640"/>
            </a:xfrm>
            <a:custGeom>
              <a:avLst/>
              <a:gdLst/>
              <a:ahLst/>
              <a:rect l="l" t="t" r="r" b="b"/>
              <a:pathLst>
                <a:path w="794" h="102">
                  <a:moveTo>
                    <a:pt x="794" y="100"/>
                  </a:moveTo>
                  <a:lnTo>
                    <a:pt x="746" y="82"/>
                  </a:lnTo>
                  <a:lnTo>
                    <a:pt x="607" y="34"/>
                  </a:lnTo>
                  <a:lnTo>
                    <a:pt x="512" y="13"/>
                  </a:lnTo>
                  <a:lnTo>
                    <a:pt x="442" y="7"/>
                  </a:lnTo>
                  <a:lnTo>
                    <a:pt x="364" y="3"/>
                  </a:lnTo>
                  <a:lnTo>
                    <a:pt x="320" y="0"/>
                  </a:lnTo>
                  <a:lnTo>
                    <a:pt x="280" y="2"/>
                  </a:lnTo>
                  <a:lnTo>
                    <a:pt x="199" y="6"/>
                  </a:lnTo>
                  <a:lnTo>
                    <a:pt x="74" y="30"/>
                  </a:lnTo>
                  <a:lnTo>
                    <a:pt x="0" y="40"/>
                  </a:lnTo>
                  <a:lnTo>
                    <a:pt x="43" y="55"/>
                  </a:lnTo>
                  <a:lnTo>
                    <a:pt x="81" y="59"/>
                  </a:lnTo>
                  <a:lnTo>
                    <a:pt x="105" y="55"/>
                  </a:lnTo>
                  <a:lnTo>
                    <a:pt x="126" y="61"/>
                  </a:lnTo>
                  <a:lnTo>
                    <a:pt x="140" y="58"/>
                  </a:lnTo>
                  <a:lnTo>
                    <a:pt x="157" y="64"/>
                  </a:lnTo>
                  <a:lnTo>
                    <a:pt x="155" y="62"/>
                  </a:lnTo>
                  <a:lnTo>
                    <a:pt x="155" y="61"/>
                  </a:lnTo>
                  <a:lnTo>
                    <a:pt x="161" y="55"/>
                  </a:lnTo>
                  <a:lnTo>
                    <a:pt x="177" y="59"/>
                  </a:lnTo>
                  <a:lnTo>
                    <a:pt x="199" y="69"/>
                  </a:lnTo>
                  <a:lnTo>
                    <a:pt x="194" y="65"/>
                  </a:lnTo>
                  <a:lnTo>
                    <a:pt x="199" y="61"/>
                  </a:lnTo>
                  <a:lnTo>
                    <a:pt x="216" y="64"/>
                  </a:lnTo>
                  <a:lnTo>
                    <a:pt x="225" y="51"/>
                  </a:lnTo>
                  <a:lnTo>
                    <a:pt x="239" y="57"/>
                  </a:lnTo>
                  <a:lnTo>
                    <a:pt x="251" y="54"/>
                  </a:lnTo>
                  <a:lnTo>
                    <a:pt x="267" y="61"/>
                  </a:lnTo>
                  <a:lnTo>
                    <a:pt x="270" y="58"/>
                  </a:lnTo>
                  <a:lnTo>
                    <a:pt x="285" y="59"/>
                  </a:lnTo>
                  <a:lnTo>
                    <a:pt x="281" y="51"/>
                  </a:lnTo>
                  <a:lnTo>
                    <a:pt x="282" y="47"/>
                  </a:lnTo>
                  <a:lnTo>
                    <a:pt x="299" y="51"/>
                  </a:lnTo>
                  <a:lnTo>
                    <a:pt x="309" y="55"/>
                  </a:lnTo>
                  <a:lnTo>
                    <a:pt x="313" y="51"/>
                  </a:lnTo>
                  <a:lnTo>
                    <a:pt x="326" y="55"/>
                  </a:lnTo>
                  <a:lnTo>
                    <a:pt x="330" y="51"/>
                  </a:lnTo>
                  <a:lnTo>
                    <a:pt x="364" y="62"/>
                  </a:lnTo>
                  <a:lnTo>
                    <a:pt x="381" y="72"/>
                  </a:lnTo>
                  <a:lnTo>
                    <a:pt x="384" y="72"/>
                  </a:lnTo>
                  <a:lnTo>
                    <a:pt x="385" y="65"/>
                  </a:lnTo>
                  <a:lnTo>
                    <a:pt x="405" y="65"/>
                  </a:lnTo>
                  <a:lnTo>
                    <a:pt x="412" y="69"/>
                  </a:lnTo>
                  <a:lnTo>
                    <a:pt x="429" y="69"/>
                  </a:lnTo>
                  <a:lnTo>
                    <a:pt x="437" y="74"/>
                  </a:lnTo>
                  <a:lnTo>
                    <a:pt x="461" y="72"/>
                  </a:lnTo>
                  <a:lnTo>
                    <a:pt x="453" y="61"/>
                  </a:lnTo>
                  <a:lnTo>
                    <a:pt x="466" y="61"/>
                  </a:lnTo>
                  <a:lnTo>
                    <a:pt x="512" y="81"/>
                  </a:lnTo>
                  <a:lnTo>
                    <a:pt x="515" y="81"/>
                  </a:lnTo>
                  <a:lnTo>
                    <a:pt x="515" y="79"/>
                  </a:lnTo>
                  <a:lnTo>
                    <a:pt x="484" y="64"/>
                  </a:lnTo>
                  <a:lnTo>
                    <a:pt x="484" y="62"/>
                  </a:lnTo>
                  <a:lnTo>
                    <a:pt x="504" y="62"/>
                  </a:lnTo>
                  <a:lnTo>
                    <a:pt x="545" y="82"/>
                  </a:lnTo>
                  <a:lnTo>
                    <a:pt x="550" y="82"/>
                  </a:lnTo>
                  <a:lnTo>
                    <a:pt x="552" y="81"/>
                  </a:lnTo>
                  <a:lnTo>
                    <a:pt x="543" y="75"/>
                  </a:lnTo>
                  <a:lnTo>
                    <a:pt x="539" y="71"/>
                  </a:lnTo>
                  <a:lnTo>
                    <a:pt x="539" y="67"/>
                  </a:lnTo>
                  <a:lnTo>
                    <a:pt x="549" y="68"/>
                  </a:lnTo>
                  <a:lnTo>
                    <a:pt x="567" y="78"/>
                  </a:lnTo>
                  <a:lnTo>
                    <a:pt x="597" y="85"/>
                  </a:lnTo>
                  <a:lnTo>
                    <a:pt x="607" y="82"/>
                  </a:lnTo>
                  <a:lnTo>
                    <a:pt x="607" y="79"/>
                  </a:lnTo>
                  <a:lnTo>
                    <a:pt x="598" y="74"/>
                  </a:lnTo>
                  <a:lnTo>
                    <a:pt x="597" y="74"/>
                  </a:lnTo>
                  <a:lnTo>
                    <a:pt x="597" y="71"/>
                  </a:lnTo>
                  <a:lnTo>
                    <a:pt x="601" y="68"/>
                  </a:lnTo>
                  <a:lnTo>
                    <a:pt x="635" y="82"/>
                  </a:lnTo>
                  <a:lnTo>
                    <a:pt x="643" y="83"/>
                  </a:lnTo>
                  <a:lnTo>
                    <a:pt x="659" y="79"/>
                  </a:lnTo>
                  <a:lnTo>
                    <a:pt x="659" y="76"/>
                  </a:lnTo>
                  <a:lnTo>
                    <a:pt x="662" y="74"/>
                  </a:lnTo>
                  <a:lnTo>
                    <a:pt x="698" y="85"/>
                  </a:lnTo>
                  <a:lnTo>
                    <a:pt x="711" y="85"/>
                  </a:lnTo>
                  <a:lnTo>
                    <a:pt x="789" y="102"/>
                  </a:lnTo>
                  <a:lnTo>
                    <a:pt x="794" y="100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419200" y="3211200"/>
              <a:ext cx="185760" cy="26640"/>
            </a:xfrm>
            <a:custGeom>
              <a:avLst/>
              <a:gdLst/>
              <a:ahLst/>
              <a:rect l="l" t="t" r="r" b="b"/>
              <a:pathLst>
                <a:path w="350" h="53">
                  <a:moveTo>
                    <a:pt x="69" y="12"/>
                  </a:moveTo>
                  <a:lnTo>
                    <a:pt x="86" y="18"/>
                  </a:lnTo>
                  <a:lnTo>
                    <a:pt x="88" y="18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112" y="14"/>
                  </a:lnTo>
                  <a:lnTo>
                    <a:pt x="130" y="21"/>
                  </a:lnTo>
                  <a:lnTo>
                    <a:pt x="134" y="18"/>
                  </a:lnTo>
                  <a:lnTo>
                    <a:pt x="158" y="23"/>
                  </a:lnTo>
                  <a:lnTo>
                    <a:pt x="171" y="29"/>
                  </a:lnTo>
                  <a:lnTo>
                    <a:pt x="179" y="29"/>
                  </a:lnTo>
                  <a:lnTo>
                    <a:pt x="181" y="28"/>
                  </a:lnTo>
                  <a:lnTo>
                    <a:pt x="174" y="19"/>
                  </a:lnTo>
                  <a:lnTo>
                    <a:pt x="174" y="18"/>
                  </a:lnTo>
                  <a:lnTo>
                    <a:pt x="182" y="19"/>
                  </a:lnTo>
                  <a:lnTo>
                    <a:pt x="186" y="21"/>
                  </a:lnTo>
                  <a:lnTo>
                    <a:pt x="193" y="19"/>
                  </a:lnTo>
                  <a:lnTo>
                    <a:pt x="220" y="29"/>
                  </a:lnTo>
                  <a:lnTo>
                    <a:pt x="227" y="29"/>
                  </a:lnTo>
                  <a:lnTo>
                    <a:pt x="229" y="28"/>
                  </a:lnTo>
                  <a:lnTo>
                    <a:pt x="219" y="21"/>
                  </a:lnTo>
                  <a:lnTo>
                    <a:pt x="219" y="18"/>
                  </a:lnTo>
                  <a:lnTo>
                    <a:pt x="229" y="15"/>
                  </a:lnTo>
                  <a:lnTo>
                    <a:pt x="289" y="28"/>
                  </a:lnTo>
                  <a:lnTo>
                    <a:pt x="325" y="40"/>
                  </a:lnTo>
                  <a:lnTo>
                    <a:pt x="347" y="46"/>
                  </a:lnTo>
                  <a:lnTo>
                    <a:pt x="350" y="49"/>
                  </a:lnTo>
                  <a:lnTo>
                    <a:pt x="350" y="50"/>
                  </a:lnTo>
                  <a:lnTo>
                    <a:pt x="305" y="43"/>
                  </a:lnTo>
                  <a:lnTo>
                    <a:pt x="260" y="45"/>
                  </a:lnTo>
                  <a:lnTo>
                    <a:pt x="246" y="47"/>
                  </a:lnTo>
                  <a:lnTo>
                    <a:pt x="234" y="53"/>
                  </a:lnTo>
                  <a:lnTo>
                    <a:pt x="196" y="52"/>
                  </a:lnTo>
                  <a:lnTo>
                    <a:pt x="174" y="45"/>
                  </a:lnTo>
                  <a:lnTo>
                    <a:pt x="168" y="42"/>
                  </a:lnTo>
                  <a:lnTo>
                    <a:pt x="130" y="39"/>
                  </a:lnTo>
                  <a:lnTo>
                    <a:pt x="83" y="26"/>
                  </a:lnTo>
                  <a:lnTo>
                    <a:pt x="79" y="29"/>
                  </a:lnTo>
                  <a:lnTo>
                    <a:pt x="38" y="23"/>
                  </a:lnTo>
                  <a:lnTo>
                    <a:pt x="12" y="16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3" y="4"/>
                  </a:lnTo>
                  <a:lnTo>
                    <a:pt x="31" y="9"/>
                  </a:lnTo>
                  <a:lnTo>
                    <a:pt x="44" y="1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295280" y="3579480"/>
              <a:ext cx="560520" cy="1006200"/>
            </a:xfrm>
            <a:custGeom>
              <a:avLst/>
              <a:gdLst/>
              <a:ahLst/>
              <a:rect l="l" t="t" r="r" b="b"/>
              <a:pathLst>
                <a:path w="1057" h="1901">
                  <a:moveTo>
                    <a:pt x="1032" y="76"/>
                  </a:moveTo>
                  <a:lnTo>
                    <a:pt x="1001" y="59"/>
                  </a:lnTo>
                  <a:lnTo>
                    <a:pt x="967" y="41"/>
                  </a:lnTo>
                  <a:lnTo>
                    <a:pt x="925" y="27"/>
                  </a:lnTo>
                  <a:lnTo>
                    <a:pt x="877" y="12"/>
                  </a:lnTo>
                  <a:lnTo>
                    <a:pt x="832" y="5"/>
                  </a:lnTo>
                  <a:lnTo>
                    <a:pt x="787" y="0"/>
                  </a:lnTo>
                  <a:lnTo>
                    <a:pt x="744" y="0"/>
                  </a:lnTo>
                  <a:lnTo>
                    <a:pt x="705" y="4"/>
                  </a:lnTo>
                  <a:lnTo>
                    <a:pt x="658" y="14"/>
                  </a:lnTo>
                  <a:lnTo>
                    <a:pt x="610" y="29"/>
                  </a:lnTo>
                  <a:lnTo>
                    <a:pt x="548" y="53"/>
                  </a:lnTo>
                  <a:lnTo>
                    <a:pt x="493" y="84"/>
                  </a:lnTo>
                  <a:lnTo>
                    <a:pt x="465" y="117"/>
                  </a:lnTo>
                  <a:lnTo>
                    <a:pt x="465" y="119"/>
                  </a:lnTo>
                  <a:lnTo>
                    <a:pt x="464" y="122"/>
                  </a:lnTo>
                  <a:lnTo>
                    <a:pt x="464" y="124"/>
                  </a:lnTo>
                  <a:lnTo>
                    <a:pt x="464" y="125"/>
                  </a:lnTo>
                  <a:lnTo>
                    <a:pt x="464" y="127"/>
                  </a:lnTo>
                  <a:lnTo>
                    <a:pt x="464" y="128"/>
                  </a:lnTo>
                  <a:lnTo>
                    <a:pt x="464" y="128"/>
                  </a:lnTo>
                  <a:lnTo>
                    <a:pt x="464" y="129"/>
                  </a:lnTo>
                  <a:lnTo>
                    <a:pt x="465" y="129"/>
                  </a:lnTo>
                  <a:lnTo>
                    <a:pt x="465" y="129"/>
                  </a:lnTo>
                  <a:lnTo>
                    <a:pt x="467" y="131"/>
                  </a:lnTo>
                  <a:lnTo>
                    <a:pt x="468" y="131"/>
                  </a:lnTo>
                  <a:lnTo>
                    <a:pt x="469" y="131"/>
                  </a:lnTo>
                  <a:lnTo>
                    <a:pt x="471" y="132"/>
                  </a:lnTo>
                  <a:lnTo>
                    <a:pt x="472" y="134"/>
                  </a:lnTo>
                  <a:lnTo>
                    <a:pt x="476" y="136"/>
                  </a:lnTo>
                  <a:lnTo>
                    <a:pt x="476" y="136"/>
                  </a:lnTo>
                  <a:lnTo>
                    <a:pt x="476" y="138"/>
                  </a:lnTo>
                  <a:lnTo>
                    <a:pt x="475" y="139"/>
                  </a:lnTo>
                  <a:lnTo>
                    <a:pt x="475" y="141"/>
                  </a:lnTo>
                  <a:lnTo>
                    <a:pt x="475" y="142"/>
                  </a:lnTo>
                  <a:lnTo>
                    <a:pt x="475" y="142"/>
                  </a:lnTo>
                  <a:lnTo>
                    <a:pt x="475" y="142"/>
                  </a:lnTo>
                  <a:lnTo>
                    <a:pt x="475" y="143"/>
                  </a:lnTo>
                  <a:lnTo>
                    <a:pt x="475" y="145"/>
                  </a:lnTo>
                  <a:lnTo>
                    <a:pt x="476" y="145"/>
                  </a:lnTo>
                  <a:lnTo>
                    <a:pt x="476" y="146"/>
                  </a:lnTo>
                  <a:lnTo>
                    <a:pt x="476" y="146"/>
                  </a:lnTo>
                  <a:lnTo>
                    <a:pt x="476" y="148"/>
                  </a:lnTo>
                  <a:lnTo>
                    <a:pt x="476" y="149"/>
                  </a:lnTo>
                  <a:lnTo>
                    <a:pt x="476" y="150"/>
                  </a:lnTo>
                  <a:lnTo>
                    <a:pt x="433" y="146"/>
                  </a:lnTo>
                  <a:lnTo>
                    <a:pt x="413" y="170"/>
                  </a:lnTo>
                  <a:lnTo>
                    <a:pt x="400" y="177"/>
                  </a:lnTo>
                  <a:lnTo>
                    <a:pt x="393" y="197"/>
                  </a:lnTo>
                  <a:lnTo>
                    <a:pt x="393" y="208"/>
                  </a:lnTo>
                  <a:lnTo>
                    <a:pt x="390" y="214"/>
                  </a:lnTo>
                  <a:lnTo>
                    <a:pt x="393" y="229"/>
                  </a:lnTo>
                  <a:lnTo>
                    <a:pt x="402" y="221"/>
                  </a:lnTo>
                  <a:lnTo>
                    <a:pt x="405" y="224"/>
                  </a:lnTo>
                  <a:lnTo>
                    <a:pt x="396" y="263"/>
                  </a:lnTo>
                  <a:lnTo>
                    <a:pt x="409" y="241"/>
                  </a:lnTo>
                  <a:lnTo>
                    <a:pt x="413" y="250"/>
                  </a:lnTo>
                  <a:lnTo>
                    <a:pt x="390" y="297"/>
                  </a:lnTo>
                  <a:lnTo>
                    <a:pt x="396" y="367"/>
                  </a:lnTo>
                  <a:lnTo>
                    <a:pt x="400" y="425"/>
                  </a:lnTo>
                  <a:lnTo>
                    <a:pt x="398" y="434"/>
                  </a:lnTo>
                  <a:lnTo>
                    <a:pt x="414" y="589"/>
                  </a:lnTo>
                  <a:lnTo>
                    <a:pt x="417" y="653"/>
                  </a:lnTo>
                  <a:lnTo>
                    <a:pt x="413" y="663"/>
                  </a:lnTo>
                  <a:lnTo>
                    <a:pt x="413" y="677"/>
                  </a:lnTo>
                  <a:lnTo>
                    <a:pt x="364" y="800"/>
                  </a:lnTo>
                  <a:lnTo>
                    <a:pt x="245" y="1013"/>
                  </a:lnTo>
                  <a:lnTo>
                    <a:pt x="145" y="1160"/>
                  </a:lnTo>
                  <a:lnTo>
                    <a:pt x="103" y="1221"/>
                  </a:lnTo>
                  <a:lnTo>
                    <a:pt x="39" y="1327"/>
                  </a:lnTo>
                  <a:lnTo>
                    <a:pt x="31" y="1376"/>
                  </a:lnTo>
                  <a:lnTo>
                    <a:pt x="30" y="1415"/>
                  </a:lnTo>
                  <a:lnTo>
                    <a:pt x="62" y="1500"/>
                  </a:lnTo>
                  <a:lnTo>
                    <a:pt x="80" y="1525"/>
                  </a:lnTo>
                  <a:lnTo>
                    <a:pt x="100" y="1538"/>
                  </a:lnTo>
                  <a:lnTo>
                    <a:pt x="94" y="1544"/>
                  </a:lnTo>
                  <a:lnTo>
                    <a:pt x="135" y="1565"/>
                  </a:lnTo>
                  <a:lnTo>
                    <a:pt x="145" y="1563"/>
                  </a:lnTo>
                  <a:lnTo>
                    <a:pt x="162" y="1573"/>
                  </a:lnTo>
                  <a:lnTo>
                    <a:pt x="159" y="1577"/>
                  </a:lnTo>
                  <a:lnTo>
                    <a:pt x="137" y="1577"/>
                  </a:lnTo>
                  <a:lnTo>
                    <a:pt x="94" y="1555"/>
                  </a:lnTo>
                  <a:lnTo>
                    <a:pt x="79" y="1542"/>
                  </a:lnTo>
                  <a:lnTo>
                    <a:pt x="80" y="1538"/>
                  </a:lnTo>
                  <a:lnTo>
                    <a:pt x="65" y="1527"/>
                  </a:lnTo>
                  <a:lnTo>
                    <a:pt x="72" y="1549"/>
                  </a:lnTo>
                  <a:lnTo>
                    <a:pt x="96" y="1576"/>
                  </a:lnTo>
                  <a:lnTo>
                    <a:pt x="127" y="1597"/>
                  </a:lnTo>
                  <a:lnTo>
                    <a:pt x="120" y="1601"/>
                  </a:lnTo>
                  <a:lnTo>
                    <a:pt x="83" y="1590"/>
                  </a:lnTo>
                  <a:lnTo>
                    <a:pt x="87" y="1614"/>
                  </a:lnTo>
                  <a:lnTo>
                    <a:pt x="107" y="1631"/>
                  </a:lnTo>
                  <a:lnTo>
                    <a:pt x="103" y="1638"/>
                  </a:lnTo>
                  <a:lnTo>
                    <a:pt x="85" y="1631"/>
                  </a:lnTo>
                  <a:lnTo>
                    <a:pt x="79" y="1659"/>
                  </a:lnTo>
                  <a:lnTo>
                    <a:pt x="83" y="1691"/>
                  </a:lnTo>
                  <a:lnTo>
                    <a:pt x="76" y="1694"/>
                  </a:lnTo>
                  <a:lnTo>
                    <a:pt x="73" y="1682"/>
                  </a:lnTo>
                  <a:lnTo>
                    <a:pt x="45" y="1721"/>
                  </a:lnTo>
                  <a:lnTo>
                    <a:pt x="37" y="1745"/>
                  </a:lnTo>
                  <a:lnTo>
                    <a:pt x="0" y="1790"/>
                  </a:lnTo>
                  <a:lnTo>
                    <a:pt x="28" y="1789"/>
                  </a:lnTo>
                  <a:lnTo>
                    <a:pt x="51" y="1794"/>
                  </a:lnTo>
                  <a:lnTo>
                    <a:pt x="83" y="1817"/>
                  </a:lnTo>
                  <a:lnTo>
                    <a:pt x="113" y="1853"/>
                  </a:lnTo>
                  <a:lnTo>
                    <a:pt x="120" y="1828"/>
                  </a:lnTo>
                  <a:lnTo>
                    <a:pt x="140" y="1789"/>
                  </a:lnTo>
                  <a:lnTo>
                    <a:pt x="145" y="1786"/>
                  </a:lnTo>
                  <a:lnTo>
                    <a:pt x="149" y="1789"/>
                  </a:lnTo>
                  <a:lnTo>
                    <a:pt x="149" y="1797"/>
                  </a:lnTo>
                  <a:lnTo>
                    <a:pt x="130" y="1838"/>
                  </a:lnTo>
                  <a:lnTo>
                    <a:pt x="140" y="1838"/>
                  </a:lnTo>
                  <a:lnTo>
                    <a:pt x="142" y="1841"/>
                  </a:lnTo>
                  <a:lnTo>
                    <a:pt x="142" y="1845"/>
                  </a:lnTo>
                  <a:lnTo>
                    <a:pt x="130" y="1868"/>
                  </a:lnTo>
                  <a:lnTo>
                    <a:pt x="128" y="1877"/>
                  </a:lnTo>
                  <a:lnTo>
                    <a:pt x="158" y="1868"/>
                  </a:lnTo>
                  <a:lnTo>
                    <a:pt x="211" y="1868"/>
                  </a:lnTo>
                  <a:lnTo>
                    <a:pt x="241" y="1876"/>
                  </a:lnTo>
                  <a:lnTo>
                    <a:pt x="276" y="1896"/>
                  </a:lnTo>
                  <a:lnTo>
                    <a:pt x="289" y="1901"/>
                  </a:lnTo>
                  <a:lnTo>
                    <a:pt x="289" y="1866"/>
                  </a:lnTo>
                  <a:lnTo>
                    <a:pt x="303" y="1822"/>
                  </a:lnTo>
                  <a:lnTo>
                    <a:pt x="310" y="1822"/>
                  </a:lnTo>
                  <a:lnTo>
                    <a:pt x="313" y="1825"/>
                  </a:lnTo>
                  <a:lnTo>
                    <a:pt x="307" y="1853"/>
                  </a:lnTo>
                  <a:lnTo>
                    <a:pt x="313" y="1858"/>
                  </a:lnTo>
                  <a:lnTo>
                    <a:pt x="310" y="1873"/>
                  </a:lnTo>
                  <a:lnTo>
                    <a:pt x="316" y="1879"/>
                  </a:lnTo>
                  <a:lnTo>
                    <a:pt x="375" y="1859"/>
                  </a:lnTo>
                  <a:lnTo>
                    <a:pt x="429" y="1860"/>
                  </a:lnTo>
                  <a:lnTo>
                    <a:pt x="450" y="1868"/>
                  </a:lnTo>
                  <a:lnTo>
                    <a:pt x="458" y="1852"/>
                  </a:lnTo>
                  <a:lnTo>
                    <a:pt x="472" y="1804"/>
                  </a:lnTo>
                  <a:lnTo>
                    <a:pt x="476" y="1804"/>
                  </a:lnTo>
                  <a:lnTo>
                    <a:pt x="478" y="1808"/>
                  </a:lnTo>
                  <a:lnTo>
                    <a:pt x="484" y="1803"/>
                  </a:lnTo>
                  <a:lnTo>
                    <a:pt x="486" y="1806"/>
                  </a:lnTo>
                  <a:lnTo>
                    <a:pt x="499" y="1772"/>
                  </a:lnTo>
                  <a:lnTo>
                    <a:pt x="503" y="1780"/>
                  </a:lnTo>
                  <a:lnTo>
                    <a:pt x="499" y="1796"/>
                  </a:lnTo>
                  <a:lnTo>
                    <a:pt x="519" y="1753"/>
                  </a:lnTo>
                  <a:lnTo>
                    <a:pt x="523" y="1724"/>
                  </a:lnTo>
                  <a:lnTo>
                    <a:pt x="517" y="1691"/>
                  </a:lnTo>
                  <a:lnTo>
                    <a:pt x="503" y="1666"/>
                  </a:lnTo>
                  <a:lnTo>
                    <a:pt x="455" y="1604"/>
                  </a:lnTo>
                  <a:lnTo>
                    <a:pt x="455" y="1582"/>
                  </a:lnTo>
                  <a:lnTo>
                    <a:pt x="443" y="1528"/>
                  </a:lnTo>
                  <a:lnTo>
                    <a:pt x="433" y="1504"/>
                  </a:lnTo>
                  <a:lnTo>
                    <a:pt x="424" y="1500"/>
                  </a:lnTo>
                  <a:lnTo>
                    <a:pt x="388" y="1527"/>
                  </a:lnTo>
                  <a:lnTo>
                    <a:pt x="381" y="1518"/>
                  </a:lnTo>
                  <a:lnTo>
                    <a:pt x="417" y="1482"/>
                  </a:lnTo>
                  <a:lnTo>
                    <a:pt x="440" y="1446"/>
                  </a:lnTo>
                  <a:lnTo>
                    <a:pt x="444" y="1425"/>
                  </a:lnTo>
                  <a:lnTo>
                    <a:pt x="441" y="1420"/>
                  </a:lnTo>
                  <a:lnTo>
                    <a:pt x="431" y="1438"/>
                  </a:lnTo>
                  <a:lnTo>
                    <a:pt x="375" y="1477"/>
                  </a:lnTo>
                  <a:lnTo>
                    <a:pt x="364" y="1476"/>
                  </a:lnTo>
                  <a:lnTo>
                    <a:pt x="351" y="1483"/>
                  </a:lnTo>
                  <a:lnTo>
                    <a:pt x="345" y="1476"/>
                  </a:lnTo>
                  <a:lnTo>
                    <a:pt x="419" y="1425"/>
                  </a:lnTo>
                  <a:lnTo>
                    <a:pt x="462" y="1353"/>
                  </a:lnTo>
                  <a:lnTo>
                    <a:pt x="503" y="1322"/>
                  </a:lnTo>
                  <a:lnTo>
                    <a:pt x="595" y="1221"/>
                  </a:lnTo>
                  <a:lnTo>
                    <a:pt x="788" y="994"/>
                  </a:lnTo>
                  <a:lnTo>
                    <a:pt x="885" y="852"/>
                  </a:lnTo>
                  <a:lnTo>
                    <a:pt x="930" y="735"/>
                  </a:lnTo>
                  <a:lnTo>
                    <a:pt x="963" y="596"/>
                  </a:lnTo>
                  <a:lnTo>
                    <a:pt x="994" y="434"/>
                  </a:lnTo>
                  <a:lnTo>
                    <a:pt x="1021" y="314"/>
                  </a:lnTo>
                  <a:lnTo>
                    <a:pt x="1057" y="169"/>
                  </a:lnTo>
                  <a:lnTo>
                    <a:pt x="1057" y="115"/>
                  </a:lnTo>
                  <a:lnTo>
                    <a:pt x="1053" y="94"/>
                  </a:lnTo>
                  <a:lnTo>
                    <a:pt x="1032" y="7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96880" y="4081320"/>
              <a:ext cx="168480" cy="202680"/>
            </a:xfrm>
            <a:custGeom>
              <a:avLst/>
              <a:gdLst/>
              <a:ahLst/>
              <a:rect l="l" t="t" r="r" b="b"/>
              <a:pathLst>
                <a:path w="319" h="383">
                  <a:moveTo>
                    <a:pt x="319" y="7"/>
                  </a:moveTo>
                  <a:lnTo>
                    <a:pt x="315" y="34"/>
                  </a:lnTo>
                  <a:lnTo>
                    <a:pt x="293" y="85"/>
                  </a:lnTo>
                  <a:lnTo>
                    <a:pt x="179" y="213"/>
                  </a:lnTo>
                  <a:lnTo>
                    <a:pt x="143" y="249"/>
                  </a:lnTo>
                  <a:lnTo>
                    <a:pt x="65" y="317"/>
                  </a:lnTo>
                  <a:lnTo>
                    <a:pt x="14" y="378"/>
                  </a:lnTo>
                  <a:lnTo>
                    <a:pt x="9" y="382"/>
                  </a:lnTo>
                  <a:lnTo>
                    <a:pt x="4" y="383"/>
                  </a:lnTo>
                  <a:lnTo>
                    <a:pt x="0" y="383"/>
                  </a:lnTo>
                  <a:lnTo>
                    <a:pt x="0" y="373"/>
                  </a:lnTo>
                  <a:lnTo>
                    <a:pt x="86" y="278"/>
                  </a:lnTo>
                  <a:lnTo>
                    <a:pt x="169" y="165"/>
                  </a:lnTo>
                  <a:lnTo>
                    <a:pt x="200" y="116"/>
                  </a:lnTo>
                  <a:lnTo>
                    <a:pt x="213" y="116"/>
                  </a:lnTo>
                  <a:lnTo>
                    <a:pt x="237" y="82"/>
                  </a:lnTo>
                  <a:lnTo>
                    <a:pt x="248" y="79"/>
                  </a:lnTo>
                  <a:lnTo>
                    <a:pt x="248" y="80"/>
                  </a:lnTo>
                  <a:lnTo>
                    <a:pt x="257" y="75"/>
                  </a:lnTo>
                  <a:lnTo>
                    <a:pt x="306" y="7"/>
                  </a:lnTo>
                  <a:lnTo>
                    <a:pt x="310" y="0"/>
                  </a:lnTo>
                  <a:lnTo>
                    <a:pt x="315" y="2"/>
                  </a:lnTo>
                  <a:lnTo>
                    <a:pt x="3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555920" y="4103640"/>
              <a:ext cx="96840" cy="117000"/>
            </a:xfrm>
            <a:custGeom>
              <a:avLst/>
              <a:gdLst/>
              <a:ahLst/>
              <a:rect l="l" t="t" r="r" b="b"/>
              <a:pathLst>
                <a:path w="184" h="220">
                  <a:moveTo>
                    <a:pt x="115" y="92"/>
                  </a:moveTo>
                  <a:lnTo>
                    <a:pt x="48" y="178"/>
                  </a:lnTo>
                  <a:lnTo>
                    <a:pt x="0" y="220"/>
                  </a:lnTo>
                  <a:lnTo>
                    <a:pt x="43" y="164"/>
                  </a:lnTo>
                  <a:lnTo>
                    <a:pt x="80" y="107"/>
                  </a:lnTo>
                  <a:lnTo>
                    <a:pt x="83" y="103"/>
                  </a:lnTo>
                  <a:lnTo>
                    <a:pt x="93" y="107"/>
                  </a:lnTo>
                  <a:lnTo>
                    <a:pt x="121" y="67"/>
                  </a:lnTo>
                  <a:lnTo>
                    <a:pt x="125" y="62"/>
                  </a:lnTo>
                  <a:lnTo>
                    <a:pt x="129" y="64"/>
                  </a:lnTo>
                  <a:lnTo>
                    <a:pt x="134" y="64"/>
                  </a:lnTo>
                  <a:lnTo>
                    <a:pt x="143" y="48"/>
                  </a:lnTo>
                  <a:lnTo>
                    <a:pt x="157" y="40"/>
                  </a:lnTo>
                  <a:lnTo>
                    <a:pt x="184" y="0"/>
                  </a:lnTo>
                  <a:lnTo>
                    <a:pt x="160" y="48"/>
                  </a:lnTo>
                  <a:lnTo>
                    <a:pt x="115" y="92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528920" y="3859200"/>
              <a:ext cx="87120" cy="215280"/>
            </a:xfrm>
            <a:custGeom>
              <a:avLst/>
              <a:gdLst/>
              <a:ahLst/>
              <a:rect l="l" t="t" r="r" b="b"/>
              <a:pathLst>
                <a:path w="164" h="407">
                  <a:moveTo>
                    <a:pt x="164" y="13"/>
                  </a:moveTo>
                  <a:lnTo>
                    <a:pt x="157" y="103"/>
                  </a:lnTo>
                  <a:lnTo>
                    <a:pt x="147" y="149"/>
                  </a:lnTo>
                  <a:lnTo>
                    <a:pt x="129" y="199"/>
                  </a:lnTo>
                  <a:lnTo>
                    <a:pt x="98" y="262"/>
                  </a:lnTo>
                  <a:lnTo>
                    <a:pt x="35" y="361"/>
                  </a:lnTo>
                  <a:lnTo>
                    <a:pt x="6" y="407"/>
                  </a:lnTo>
                  <a:lnTo>
                    <a:pt x="0" y="403"/>
                  </a:lnTo>
                  <a:lnTo>
                    <a:pt x="33" y="352"/>
                  </a:lnTo>
                  <a:lnTo>
                    <a:pt x="48" y="324"/>
                  </a:lnTo>
                  <a:lnTo>
                    <a:pt x="58" y="280"/>
                  </a:lnTo>
                  <a:lnTo>
                    <a:pt x="67" y="280"/>
                  </a:lnTo>
                  <a:lnTo>
                    <a:pt x="75" y="266"/>
                  </a:lnTo>
                  <a:lnTo>
                    <a:pt x="76" y="245"/>
                  </a:lnTo>
                  <a:lnTo>
                    <a:pt x="76" y="241"/>
                  </a:lnTo>
                  <a:lnTo>
                    <a:pt x="79" y="238"/>
                  </a:lnTo>
                  <a:lnTo>
                    <a:pt x="82" y="238"/>
                  </a:lnTo>
                  <a:lnTo>
                    <a:pt x="86" y="242"/>
                  </a:lnTo>
                  <a:lnTo>
                    <a:pt x="90" y="227"/>
                  </a:lnTo>
                  <a:lnTo>
                    <a:pt x="92" y="196"/>
                  </a:lnTo>
                  <a:lnTo>
                    <a:pt x="93" y="194"/>
                  </a:lnTo>
                  <a:lnTo>
                    <a:pt x="96" y="194"/>
                  </a:lnTo>
                  <a:lnTo>
                    <a:pt x="103" y="214"/>
                  </a:lnTo>
                  <a:lnTo>
                    <a:pt x="109" y="184"/>
                  </a:lnTo>
                  <a:lnTo>
                    <a:pt x="109" y="176"/>
                  </a:lnTo>
                  <a:lnTo>
                    <a:pt x="112" y="175"/>
                  </a:lnTo>
                  <a:lnTo>
                    <a:pt x="116" y="175"/>
                  </a:lnTo>
                  <a:lnTo>
                    <a:pt x="117" y="184"/>
                  </a:lnTo>
                  <a:lnTo>
                    <a:pt x="119" y="186"/>
                  </a:lnTo>
                  <a:lnTo>
                    <a:pt x="129" y="163"/>
                  </a:lnTo>
                  <a:lnTo>
                    <a:pt x="129" y="123"/>
                  </a:lnTo>
                  <a:lnTo>
                    <a:pt x="130" y="120"/>
                  </a:lnTo>
                  <a:lnTo>
                    <a:pt x="136" y="121"/>
                  </a:lnTo>
                  <a:lnTo>
                    <a:pt x="136" y="123"/>
                  </a:lnTo>
                  <a:lnTo>
                    <a:pt x="138" y="125"/>
                  </a:lnTo>
                  <a:lnTo>
                    <a:pt x="143" y="107"/>
                  </a:lnTo>
                  <a:lnTo>
                    <a:pt x="144" y="89"/>
                  </a:lnTo>
                  <a:lnTo>
                    <a:pt x="150" y="75"/>
                  </a:lnTo>
                  <a:lnTo>
                    <a:pt x="157" y="17"/>
                  </a:lnTo>
                  <a:lnTo>
                    <a:pt x="154" y="1"/>
                  </a:lnTo>
                  <a:lnTo>
                    <a:pt x="157" y="0"/>
                  </a:lnTo>
                  <a:lnTo>
                    <a:pt x="161" y="0"/>
                  </a:lnTo>
                  <a:lnTo>
                    <a:pt x="16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360440" y="4449600"/>
              <a:ext cx="33480" cy="9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59" y="6"/>
                  </a:moveTo>
                  <a:lnTo>
                    <a:pt x="62" y="7"/>
                  </a:lnTo>
                  <a:lnTo>
                    <a:pt x="56" y="13"/>
                  </a:lnTo>
                  <a:lnTo>
                    <a:pt x="28" y="17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0" y="3"/>
                  </a:lnTo>
                  <a:lnTo>
                    <a:pt x="5" y="0"/>
                  </a:lnTo>
                  <a:lnTo>
                    <a:pt x="50" y="7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344600" y="4449600"/>
              <a:ext cx="50760" cy="28080"/>
            </a:xfrm>
            <a:custGeom>
              <a:avLst/>
              <a:gdLst/>
              <a:ahLst/>
              <a:rect l="l" t="t" r="r" b="b"/>
              <a:pathLst>
                <a:path w="97" h="53">
                  <a:moveTo>
                    <a:pt x="43" y="32"/>
                  </a:moveTo>
                  <a:lnTo>
                    <a:pt x="71" y="44"/>
                  </a:lnTo>
                  <a:lnTo>
                    <a:pt x="90" y="44"/>
                  </a:lnTo>
                  <a:lnTo>
                    <a:pt x="97" y="51"/>
                  </a:lnTo>
                  <a:lnTo>
                    <a:pt x="97" y="53"/>
                  </a:lnTo>
                  <a:lnTo>
                    <a:pt x="50" y="52"/>
                  </a:lnTo>
                  <a:lnTo>
                    <a:pt x="18" y="32"/>
                  </a:lnTo>
                  <a:lnTo>
                    <a:pt x="0" y="8"/>
                  </a:lnTo>
                  <a:lnTo>
                    <a:pt x="2" y="0"/>
                  </a:lnTo>
                  <a:lnTo>
                    <a:pt x="26" y="1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76360" y="4411440"/>
              <a:ext cx="28440" cy="122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41" y="12"/>
                  </a:moveTo>
                  <a:lnTo>
                    <a:pt x="7" y="24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1" y="15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5840" y="4440240"/>
              <a:ext cx="60120" cy="2484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114" y="1"/>
                  </a:moveTo>
                  <a:lnTo>
                    <a:pt x="114" y="5"/>
                  </a:lnTo>
                  <a:lnTo>
                    <a:pt x="40" y="40"/>
                  </a:lnTo>
                  <a:lnTo>
                    <a:pt x="18" y="48"/>
                  </a:lnTo>
                  <a:lnTo>
                    <a:pt x="13" y="48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42" y="33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9" y="19"/>
                  </a:lnTo>
                  <a:lnTo>
                    <a:pt x="23" y="26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4" y="26"/>
                  </a:lnTo>
                  <a:lnTo>
                    <a:pt x="86" y="8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46120" y="4454280"/>
              <a:ext cx="68400" cy="313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129" y="6"/>
                  </a:moveTo>
                  <a:lnTo>
                    <a:pt x="105" y="27"/>
                  </a:lnTo>
                  <a:lnTo>
                    <a:pt x="36" y="55"/>
                  </a:lnTo>
                  <a:lnTo>
                    <a:pt x="15" y="56"/>
                  </a:lnTo>
                  <a:lnTo>
                    <a:pt x="4" y="62"/>
                  </a:lnTo>
                  <a:lnTo>
                    <a:pt x="0" y="61"/>
                  </a:lnTo>
                  <a:lnTo>
                    <a:pt x="36" y="39"/>
                  </a:lnTo>
                  <a:lnTo>
                    <a:pt x="73" y="30"/>
                  </a:lnTo>
                  <a:lnTo>
                    <a:pt x="98" y="23"/>
                  </a:lnTo>
                  <a:lnTo>
                    <a:pt x="124" y="0"/>
                  </a:lnTo>
                  <a:lnTo>
                    <a:pt x="129" y="1"/>
                  </a:lnTo>
                  <a:lnTo>
                    <a:pt x="1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992160" y="3362040"/>
              <a:ext cx="98640" cy="33120"/>
            </a:xfrm>
            <a:custGeom>
              <a:avLst/>
              <a:gdLst/>
              <a:ahLst/>
              <a:rect l="l" t="t" r="r" b="b"/>
              <a:pathLst>
                <a:path w="185" h="62">
                  <a:moveTo>
                    <a:pt x="0" y="20"/>
                  </a:moveTo>
                  <a:lnTo>
                    <a:pt x="0" y="62"/>
                  </a:lnTo>
                  <a:lnTo>
                    <a:pt x="40" y="49"/>
                  </a:lnTo>
                  <a:lnTo>
                    <a:pt x="99" y="39"/>
                  </a:lnTo>
                  <a:lnTo>
                    <a:pt x="143" y="39"/>
                  </a:lnTo>
                  <a:lnTo>
                    <a:pt x="185" y="46"/>
                  </a:lnTo>
                  <a:lnTo>
                    <a:pt x="177" y="38"/>
                  </a:lnTo>
                  <a:lnTo>
                    <a:pt x="139" y="31"/>
                  </a:lnTo>
                  <a:lnTo>
                    <a:pt x="63" y="32"/>
                  </a:lnTo>
                  <a:lnTo>
                    <a:pt x="12" y="45"/>
                  </a:lnTo>
                  <a:lnTo>
                    <a:pt x="12" y="35"/>
                  </a:lnTo>
                  <a:lnTo>
                    <a:pt x="30" y="28"/>
                  </a:lnTo>
                  <a:lnTo>
                    <a:pt x="51" y="18"/>
                  </a:lnTo>
                  <a:lnTo>
                    <a:pt x="86" y="10"/>
                  </a:lnTo>
                  <a:lnTo>
                    <a:pt x="137" y="13"/>
                  </a:lnTo>
                  <a:lnTo>
                    <a:pt x="125" y="5"/>
                  </a:lnTo>
                  <a:lnTo>
                    <a:pt x="68" y="0"/>
                  </a:lnTo>
                  <a:lnTo>
                    <a:pt x="29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239840" y="3456000"/>
              <a:ext cx="50760" cy="121680"/>
            </a:xfrm>
            <a:custGeom>
              <a:avLst/>
              <a:gdLst/>
              <a:ahLst/>
              <a:rect l="l" t="t" r="r" b="b"/>
              <a:pathLst>
                <a:path w="97" h="231">
                  <a:moveTo>
                    <a:pt x="27" y="231"/>
                  </a:moveTo>
                  <a:lnTo>
                    <a:pt x="66" y="196"/>
                  </a:lnTo>
                  <a:lnTo>
                    <a:pt x="74" y="146"/>
                  </a:lnTo>
                  <a:lnTo>
                    <a:pt x="80" y="120"/>
                  </a:lnTo>
                  <a:lnTo>
                    <a:pt x="94" y="84"/>
                  </a:lnTo>
                  <a:lnTo>
                    <a:pt x="97" y="49"/>
                  </a:lnTo>
                  <a:lnTo>
                    <a:pt x="87" y="4"/>
                  </a:lnTo>
                  <a:lnTo>
                    <a:pt x="80" y="0"/>
                  </a:lnTo>
                  <a:lnTo>
                    <a:pt x="79" y="3"/>
                  </a:lnTo>
                  <a:lnTo>
                    <a:pt x="80" y="37"/>
                  </a:lnTo>
                  <a:lnTo>
                    <a:pt x="72" y="58"/>
                  </a:lnTo>
                  <a:lnTo>
                    <a:pt x="72" y="59"/>
                  </a:lnTo>
                  <a:lnTo>
                    <a:pt x="66" y="62"/>
                  </a:lnTo>
                  <a:lnTo>
                    <a:pt x="62" y="62"/>
                  </a:lnTo>
                  <a:lnTo>
                    <a:pt x="59" y="65"/>
                  </a:lnTo>
                  <a:lnTo>
                    <a:pt x="67" y="80"/>
                  </a:lnTo>
                  <a:lnTo>
                    <a:pt x="72" y="97"/>
                  </a:lnTo>
                  <a:lnTo>
                    <a:pt x="58" y="144"/>
                  </a:lnTo>
                  <a:lnTo>
                    <a:pt x="52" y="161"/>
                  </a:lnTo>
                  <a:lnTo>
                    <a:pt x="48" y="128"/>
                  </a:lnTo>
                  <a:lnTo>
                    <a:pt x="46" y="86"/>
                  </a:lnTo>
                  <a:lnTo>
                    <a:pt x="39" y="75"/>
                  </a:lnTo>
                  <a:lnTo>
                    <a:pt x="29" y="69"/>
                  </a:lnTo>
                  <a:lnTo>
                    <a:pt x="21" y="70"/>
                  </a:lnTo>
                  <a:lnTo>
                    <a:pt x="21" y="76"/>
                  </a:lnTo>
                  <a:lnTo>
                    <a:pt x="34" y="97"/>
                  </a:lnTo>
                  <a:lnTo>
                    <a:pt x="39" y="130"/>
                  </a:lnTo>
                  <a:lnTo>
                    <a:pt x="41" y="165"/>
                  </a:lnTo>
                  <a:lnTo>
                    <a:pt x="41" y="169"/>
                  </a:lnTo>
                  <a:lnTo>
                    <a:pt x="39" y="172"/>
                  </a:lnTo>
                  <a:lnTo>
                    <a:pt x="29" y="117"/>
                  </a:lnTo>
                  <a:lnTo>
                    <a:pt x="18" y="100"/>
                  </a:lnTo>
                  <a:lnTo>
                    <a:pt x="5" y="91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8" y="101"/>
                  </a:lnTo>
                  <a:lnTo>
                    <a:pt x="5" y="103"/>
                  </a:lnTo>
                  <a:lnTo>
                    <a:pt x="18" y="124"/>
                  </a:lnTo>
                  <a:lnTo>
                    <a:pt x="29" y="180"/>
                  </a:lnTo>
                  <a:lnTo>
                    <a:pt x="27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5791680" y="3067200"/>
            <a:ext cx="1915560" cy="1485360"/>
            <a:chOff x="5791680" y="3067200"/>
            <a:chExt cx="1915560" cy="1485360"/>
          </a:xfrm>
        </p:grpSpPr>
        <p:sp>
          <p:nvSpPr>
            <p:cNvPr id="3257" name=""/>
            <p:cNvSpPr/>
            <p:nvPr/>
          </p:nvSpPr>
          <p:spPr>
            <a:xfrm flipH="1">
              <a:off x="5791320" y="3067200"/>
              <a:ext cx="1915560" cy="1485360"/>
            </a:xfrm>
            <a:custGeom>
              <a:avLst/>
              <a:gdLst/>
              <a:ahLst/>
              <a:rect l="l" t="t" r="r" b="b"/>
              <a:pathLst>
                <a:path w="1795" h="1461">
                  <a:moveTo>
                    <a:pt x="40" y="596"/>
                  </a:moveTo>
                  <a:lnTo>
                    <a:pt x="34" y="554"/>
                  </a:lnTo>
                  <a:lnTo>
                    <a:pt x="30" y="514"/>
                  </a:lnTo>
                  <a:lnTo>
                    <a:pt x="27" y="475"/>
                  </a:lnTo>
                  <a:lnTo>
                    <a:pt x="30" y="437"/>
                  </a:lnTo>
                  <a:lnTo>
                    <a:pt x="38" y="399"/>
                  </a:lnTo>
                  <a:lnTo>
                    <a:pt x="53" y="362"/>
                  </a:lnTo>
                  <a:lnTo>
                    <a:pt x="78" y="325"/>
                  </a:lnTo>
                  <a:lnTo>
                    <a:pt x="114" y="288"/>
                  </a:lnTo>
                  <a:lnTo>
                    <a:pt x="137" y="268"/>
                  </a:lnTo>
                  <a:lnTo>
                    <a:pt x="162" y="247"/>
                  </a:lnTo>
                  <a:lnTo>
                    <a:pt x="190" y="222"/>
                  </a:lnTo>
                  <a:lnTo>
                    <a:pt x="220" y="197"/>
                  </a:lnTo>
                  <a:lnTo>
                    <a:pt x="251" y="172"/>
                  </a:lnTo>
                  <a:lnTo>
                    <a:pt x="283" y="146"/>
                  </a:lnTo>
                  <a:lnTo>
                    <a:pt x="315" y="121"/>
                  </a:lnTo>
                  <a:lnTo>
                    <a:pt x="349" y="96"/>
                  </a:lnTo>
                  <a:lnTo>
                    <a:pt x="381" y="74"/>
                  </a:lnTo>
                  <a:lnTo>
                    <a:pt x="413" y="53"/>
                  </a:lnTo>
                  <a:lnTo>
                    <a:pt x="445" y="35"/>
                  </a:lnTo>
                  <a:lnTo>
                    <a:pt x="475" y="20"/>
                  </a:lnTo>
                  <a:lnTo>
                    <a:pt x="504" y="8"/>
                  </a:lnTo>
                  <a:lnTo>
                    <a:pt x="529" y="2"/>
                  </a:lnTo>
                  <a:lnTo>
                    <a:pt x="554" y="0"/>
                  </a:lnTo>
                  <a:lnTo>
                    <a:pt x="574" y="4"/>
                  </a:lnTo>
                  <a:lnTo>
                    <a:pt x="582" y="6"/>
                  </a:lnTo>
                  <a:lnTo>
                    <a:pt x="592" y="9"/>
                  </a:lnTo>
                  <a:lnTo>
                    <a:pt x="602" y="12"/>
                  </a:lnTo>
                  <a:lnTo>
                    <a:pt x="614" y="15"/>
                  </a:lnTo>
                  <a:lnTo>
                    <a:pt x="627" y="19"/>
                  </a:lnTo>
                  <a:lnTo>
                    <a:pt x="640" y="22"/>
                  </a:lnTo>
                  <a:lnTo>
                    <a:pt x="655" y="25"/>
                  </a:lnTo>
                  <a:lnTo>
                    <a:pt x="670" y="29"/>
                  </a:lnTo>
                  <a:lnTo>
                    <a:pt x="685" y="32"/>
                  </a:lnTo>
                  <a:lnTo>
                    <a:pt x="700" y="35"/>
                  </a:lnTo>
                  <a:lnTo>
                    <a:pt x="716" y="37"/>
                  </a:lnTo>
                  <a:lnTo>
                    <a:pt x="731" y="38"/>
                  </a:lnTo>
                  <a:lnTo>
                    <a:pt x="745" y="39"/>
                  </a:lnTo>
                  <a:lnTo>
                    <a:pt x="760" y="39"/>
                  </a:lnTo>
                  <a:lnTo>
                    <a:pt x="772" y="38"/>
                  </a:lnTo>
                  <a:lnTo>
                    <a:pt x="785" y="36"/>
                  </a:lnTo>
                  <a:lnTo>
                    <a:pt x="798" y="32"/>
                  </a:lnTo>
                  <a:lnTo>
                    <a:pt x="810" y="29"/>
                  </a:lnTo>
                  <a:lnTo>
                    <a:pt x="825" y="25"/>
                  </a:lnTo>
                  <a:lnTo>
                    <a:pt x="840" y="22"/>
                  </a:lnTo>
                  <a:lnTo>
                    <a:pt x="856" y="19"/>
                  </a:lnTo>
                  <a:lnTo>
                    <a:pt x="873" y="15"/>
                  </a:lnTo>
                  <a:lnTo>
                    <a:pt x="891" y="12"/>
                  </a:lnTo>
                  <a:lnTo>
                    <a:pt x="909" y="9"/>
                  </a:lnTo>
                  <a:lnTo>
                    <a:pt x="929" y="7"/>
                  </a:lnTo>
                  <a:lnTo>
                    <a:pt x="951" y="6"/>
                  </a:lnTo>
                  <a:lnTo>
                    <a:pt x="973" y="6"/>
                  </a:lnTo>
                  <a:lnTo>
                    <a:pt x="996" y="7"/>
                  </a:lnTo>
                  <a:lnTo>
                    <a:pt x="1019" y="8"/>
                  </a:lnTo>
                  <a:lnTo>
                    <a:pt x="1044" y="12"/>
                  </a:lnTo>
                  <a:lnTo>
                    <a:pt x="1071" y="16"/>
                  </a:lnTo>
                  <a:lnTo>
                    <a:pt x="1098" y="23"/>
                  </a:lnTo>
                  <a:lnTo>
                    <a:pt x="1137" y="21"/>
                  </a:lnTo>
                  <a:lnTo>
                    <a:pt x="1177" y="21"/>
                  </a:lnTo>
                  <a:lnTo>
                    <a:pt x="1217" y="23"/>
                  </a:lnTo>
                  <a:lnTo>
                    <a:pt x="1256" y="29"/>
                  </a:lnTo>
                  <a:lnTo>
                    <a:pt x="1296" y="36"/>
                  </a:lnTo>
                  <a:lnTo>
                    <a:pt x="1334" y="45"/>
                  </a:lnTo>
                  <a:lnTo>
                    <a:pt x="1372" y="57"/>
                  </a:lnTo>
                  <a:lnTo>
                    <a:pt x="1408" y="68"/>
                  </a:lnTo>
                  <a:lnTo>
                    <a:pt x="1443" y="82"/>
                  </a:lnTo>
                  <a:lnTo>
                    <a:pt x="1475" y="96"/>
                  </a:lnTo>
                  <a:lnTo>
                    <a:pt x="1504" y="110"/>
                  </a:lnTo>
                  <a:lnTo>
                    <a:pt x="1530" y="125"/>
                  </a:lnTo>
                  <a:lnTo>
                    <a:pt x="1553" y="141"/>
                  </a:lnTo>
                  <a:lnTo>
                    <a:pt x="1574" y="154"/>
                  </a:lnTo>
                  <a:lnTo>
                    <a:pt x="1589" y="169"/>
                  </a:lnTo>
                  <a:lnTo>
                    <a:pt x="1600" y="183"/>
                  </a:lnTo>
                  <a:lnTo>
                    <a:pt x="1619" y="217"/>
                  </a:lnTo>
                  <a:lnTo>
                    <a:pt x="1640" y="265"/>
                  </a:lnTo>
                  <a:lnTo>
                    <a:pt x="1661" y="326"/>
                  </a:lnTo>
                  <a:lnTo>
                    <a:pt x="1681" y="398"/>
                  </a:lnTo>
                  <a:lnTo>
                    <a:pt x="1698" y="477"/>
                  </a:lnTo>
                  <a:lnTo>
                    <a:pt x="1710" y="561"/>
                  </a:lnTo>
                  <a:lnTo>
                    <a:pt x="1717" y="651"/>
                  </a:lnTo>
                  <a:lnTo>
                    <a:pt x="1716" y="741"/>
                  </a:lnTo>
                  <a:lnTo>
                    <a:pt x="1724" y="751"/>
                  </a:lnTo>
                  <a:lnTo>
                    <a:pt x="1732" y="759"/>
                  </a:lnTo>
                  <a:lnTo>
                    <a:pt x="1740" y="767"/>
                  </a:lnTo>
                  <a:lnTo>
                    <a:pt x="1748" y="775"/>
                  </a:lnTo>
                  <a:lnTo>
                    <a:pt x="1756" y="781"/>
                  </a:lnTo>
                  <a:lnTo>
                    <a:pt x="1764" y="787"/>
                  </a:lnTo>
                  <a:lnTo>
                    <a:pt x="1771" y="791"/>
                  </a:lnTo>
                  <a:lnTo>
                    <a:pt x="1778" y="796"/>
                  </a:lnTo>
                  <a:lnTo>
                    <a:pt x="1770" y="796"/>
                  </a:lnTo>
                  <a:lnTo>
                    <a:pt x="1760" y="795"/>
                  </a:lnTo>
                  <a:lnTo>
                    <a:pt x="1752" y="794"/>
                  </a:lnTo>
                  <a:lnTo>
                    <a:pt x="1744" y="791"/>
                  </a:lnTo>
                  <a:lnTo>
                    <a:pt x="1736" y="789"/>
                  </a:lnTo>
                  <a:lnTo>
                    <a:pt x="1728" y="786"/>
                  </a:lnTo>
                  <a:lnTo>
                    <a:pt x="1720" y="782"/>
                  </a:lnTo>
                  <a:lnTo>
                    <a:pt x="1713" y="779"/>
                  </a:lnTo>
                  <a:lnTo>
                    <a:pt x="1711" y="802"/>
                  </a:lnTo>
                  <a:lnTo>
                    <a:pt x="1717" y="809"/>
                  </a:lnTo>
                  <a:lnTo>
                    <a:pt x="1725" y="817"/>
                  </a:lnTo>
                  <a:lnTo>
                    <a:pt x="1734" y="827"/>
                  </a:lnTo>
                  <a:lnTo>
                    <a:pt x="1744" y="839"/>
                  </a:lnTo>
                  <a:lnTo>
                    <a:pt x="1756" y="850"/>
                  </a:lnTo>
                  <a:lnTo>
                    <a:pt x="1769" y="863"/>
                  </a:lnTo>
                  <a:lnTo>
                    <a:pt x="1781" y="876"/>
                  </a:lnTo>
                  <a:lnTo>
                    <a:pt x="1795" y="887"/>
                  </a:lnTo>
                  <a:lnTo>
                    <a:pt x="1785" y="886"/>
                  </a:lnTo>
                  <a:lnTo>
                    <a:pt x="1773" y="884"/>
                  </a:lnTo>
                  <a:lnTo>
                    <a:pt x="1762" y="880"/>
                  </a:lnTo>
                  <a:lnTo>
                    <a:pt x="1749" y="876"/>
                  </a:lnTo>
                  <a:lnTo>
                    <a:pt x="1737" y="871"/>
                  </a:lnTo>
                  <a:lnTo>
                    <a:pt x="1726" y="864"/>
                  </a:lnTo>
                  <a:lnTo>
                    <a:pt x="1714" y="857"/>
                  </a:lnTo>
                  <a:lnTo>
                    <a:pt x="1704" y="850"/>
                  </a:lnTo>
                  <a:lnTo>
                    <a:pt x="1698" y="914"/>
                  </a:lnTo>
                  <a:lnTo>
                    <a:pt x="1690" y="992"/>
                  </a:lnTo>
                  <a:lnTo>
                    <a:pt x="1678" y="1078"/>
                  </a:lnTo>
                  <a:lnTo>
                    <a:pt x="1661" y="1165"/>
                  </a:lnTo>
                  <a:lnTo>
                    <a:pt x="1642" y="1246"/>
                  </a:lnTo>
                  <a:lnTo>
                    <a:pt x="1617" y="1316"/>
                  </a:lnTo>
                  <a:lnTo>
                    <a:pt x="1587" y="1366"/>
                  </a:lnTo>
                  <a:lnTo>
                    <a:pt x="1551" y="1392"/>
                  </a:lnTo>
                  <a:lnTo>
                    <a:pt x="1526" y="1397"/>
                  </a:lnTo>
                  <a:lnTo>
                    <a:pt x="1506" y="1401"/>
                  </a:lnTo>
                  <a:lnTo>
                    <a:pt x="1491" y="1402"/>
                  </a:lnTo>
                  <a:lnTo>
                    <a:pt x="1481" y="1401"/>
                  </a:lnTo>
                  <a:lnTo>
                    <a:pt x="1475" y="1397"/>
                  </a:lnTo>
                  <a:lnTo>
                    <a:pt x="1471" y="1392"/>
                  </a:lnTo>
                  <a:lnTo>
                    <a:pt x="1470" y="1385"/>
                  </a:lnTo>
                  <a:lnTo>
                    <a:pt x="1471" y="1377"/>
                  </a:lnTo>
                  <a:lnTo>
                    <a:pt x="1473" y="1367"/>
                  </a:lnTo>
                  <a:lnTo>
                    <a:pt x="1473" y="1359"/>
                  </a:lnTo>
                  <a:lnTo>
                    <a:pt x="1473" y="1354"/>
                  </a:lnTo>
                  <a:lnTo>
                    <a:pt x="1474" y="1349"/>
                  </a:lnTo>
                  <a:lnTo>
                    <a:pt x="1477" y="1346"/>
                  </a:lnTo>
                  <a:lnTo>
                    <a:pt x="1483" y="1343"/>
                  </a:lnTo>
                  <a:lnTo>
                    <a:pt x="1493" y="1340"/>
                  </a:lnTo>
                  <a:lnTo>
                    <a:pt x="1507" y="1337"/>
                  </a:lnTo>
                  <a:lnTo>
                    <a:pt x="1516" y="1335"/>
                  </a:lnTo>
                  <a:lnTo>
                    <a:pt x="1527" y="1331"/>
                  </a:lnTo>
                  <a:lnTo>
                    <a:pt x="1537" y="1325"/>
                  </a:lnTo>
                  <a:lnTo>
                    <a:pt x="1547" y="1317"/>
                  </a:lnTo>
                  <a:lnTo>
                    <a:pt x="1557" y="1307"/>
                  </a:lnTo>
                  <a:lnTo>
                    <a:pt x="1564" y="1295"/>
                  </a:lnTo>
                  <a:lnTo>
                    <a:pt x="1569" y="1280"/>
                  </a:lnTo>
                  <a:lnTo>
                    <a:pt x="1573" y="1261"/>
                  </a:lnTo>
                  <a:lnTo>
                    <a:pt x="1577" y="1206"/>
                  </a:lnTo>
                  <a:lnTo>
                    <a:pt x="1580" y="1129"/>
                  </a:lnTo>
                  <a:lnTo>
                    <a:pt x="1579" y="1046"/>
                  </a:lnTo>
                  <a:lnTo>
                    <a:pt x="1573" y="976"/>
                  </a:lnTo>
                  <a:lnTo>
                    <a:pt x="1564" y="914"/>
                  </a:lnTo>
                  <a:lnTo>
                    <a:pt x="1557" y="844"/>
                  </a:lnTo>
                  <a:lnTo>
                    <a:pt x="1553" y="774"/>
                  </a:lnTo>
                  <a:lnTo>
                    <a:pt x="1557" y="704"/>
                  </a:lnTo>
                  <a:lnTo>
                    <a:pt x="1538" y="687"/>
                  </a:lnTo>
                  <a:lnTo>
                    <a:pt x="1519" y="668"/>
                  </a:lnTo>
                  <a:lnTo>
                    <a:pt x="1499" y="650"/>
                  </a:lnTo>
                  <a:lnTo>
                    <a:pt x="1479" y="630"/>
                  </a:lnTo>
                  <a:lnTo>
                    <a:pt x="1461" y="611"/>
                  </a:lnTo>
                  <a:lnTo>
                    <a:pt x="1443" y="590"/>
                  </a:lnTo>
                  <a:lnTo>
                    <a:pt x="1427" y="570"/>
                  </a:lnTo>
                  <a:lnTo>
                    <a:pt x="1412" y="552"/>
                  </a:lnTo>
                  <a:lnTo>
                    <a:pt x="1403" y="551"/>
                  </a:lnTo>
                  <a:lnTo>
                    <a:pt x="1394" y="548"/>
                  </a:lnTo>
                  <a:lnTo>
                    <a:pt x="1384" y="547"/>
                  </a:lnTo>
                  <a:lnTo>
                    <a:pt x="1374" y="545"/>
                  </a:lnTo>
                  <a:lnTo>
                    <a:pt x="1364" y="543"/>
                  </a:lnTo>
                  <a:lnTo>
                    <a:pt x="1356" y="540"/>
                  </a:lnTo>
                  <a:lnTo>
                    <a:pt x="1352" y="539"/>
                  </a:lnTo>
                  <a:lnTo>
                    <a:pt x="1349" y="539"/>
                  </a:lnTo>
                  <a:lnTo>
                    <a:pt x="1342" y="553"/>
                  </a:lnTo>
                  <a:lnTo>
                    <a:pt x="1336" y="566"/>
                  </a:lnTo>
                  <a:lnTo>
                    <a:pt x="1329" y="580"/>
                  </a:lnTo>
                  <a:lnTo>
                    <a:pt x="1323" y="593"/>
                  </a:lnTo>
                  <a:lnTo>
                    <a:pt x="1317" y="592"/>
                  </a:lnTo>
                  <a:lnTo>
                    <a:pt x="1311" y="591"/>
                  </a:lnTo>
                  <a:lnTo>
                    <a:pt x="1306" y="589"/>
                  </a:lnTo>
                  <a:lnTo>
                    <a:pt x="1301" y="586"/>
                  </a:lnTo>
                  <a:lnTo>
                    <a:pt x="1295" y="584"/>
                  </a:lnTo>
                  <a:lnTo>
                    <a:pt x="1291" y="581"/>
                  </a:lnTo>
                  <a:lnTo>
                    <a:pt x="1285" y="577"/>
                  </a:lnTo>
                  <a:lnTo>
                    <a:pt x="1280" y="574"/>
                  </a:lnTo>
                  <a:lnTo>
                    <a:pt x="1277" y="580"/>
                  </a:lnTo>
                  <a:lnTo>
                    <a:pt x="1272" y="584"/>
                  </a:lnTo>
                  <a:lnTo>
                    <a:pt x="1266" y="590"/>
                  </a:lnTo>
                  <a:lnTo>
                    <a:pt x="1261" y="594"/>
                  </a:lnTo>
                  <a:lnTo>
                    <a:pt x="1255" y="600"/>
                  </a:lnTo>
                  <a:lnTo>
                    <a:pt x="1247" y="605"/>
                  </a:lnTo>
                  <a:lnTo>
                    <a:pt x="1240" y="611"/>
                  </a:lnTo>
                  <a:lnTo>
                    <a:pt x="1232" y="615"/>
                  </a:lnTo>
                  <a:lnTo>
                    <a:pt x="1227" y="611"/>
                  </a:lnTo>
                  <a:lnTo>
                    <a:pt x="1223" y="605"/>
                  </a:lnTo>
                  <a:lnTo>
                    <a:pt x="1218" y="598"/>
                  </a:lnTo>
                  <a:lnTo>
                    <a:pt x="1212" y="591"/>
                  </a:lnTo>
                  <a:lnTo>
                    <a:pt x="1207" y="584"/>
                  </a:lnTo>
                  <a:lnTo>
                    <a:pt x="1200" y="577"/>
                  </a:lnTo>
                  <a:lnTo>
                    <a:pt x="1194" y="571"/>
                  </a:lnTo>
                  <a:lnTo>
                    <a:pt x="1187" y="567"/>
                  </a:lnTo>
                  <a:lnTo>
                    <a:pt x="1174" y="597"/>
                  </a:lnTo>
                  <a:lnTo>
                    <a:pt x="1167" y="631"/>
                  </a:lnTo>
                  <a:lnTo>
                    <a:pt x="1166" y="673"/>
                  </a:lnTo>
                  <a:lnTo>
                    <a:pt x="1170" y="721"/>
                  </a:lnTo>
                  <a:lnTo>
                    <a:pt x="1175" y="781"/>
                  </a:lnTo>
                  <a:lnTo>
                    <a:pt x="1178" y="856"/>
                  </a:lnTo>
                  <a:lnTo>
                    <a:pt x="1173" y="929"/>
                  </a:lnTo>
                  <a:lnTo>
                    <a:pt x="1160" y="984"/>
                  </a:lnTo>
                  <a:lnTo>
                    <a:pt x="1170" y="1010"/>
                  </a:lnTo>
                  <a:lnTo>
                    <a:pt x="1180" y="1046"/>
                  </a:lnTo>
                  <a:lnTo>
                    <a:pt x="1190" y="1087"/>
                  </a:lnTo>
                  <a:lnTo>
                    <a:pt x="1200" y="1134"/>
                  </a:lnTo>
                  <a:lnTo>
                    <a:pt x="1207" y="1183"/>
                  </a:lnTo>
                  <a:lnTo>
                    <a:pt x="1210" y="1233"/>
                  </a:lnTo>
                  <a:lnTo>
                    <a:pt x="1209" y="1280"/>
                  </a:lnTo>
                  <a:lnTo>
                    <a:pt x="1202" y="1325"/>
                  </a:lnTo>
                  <a:lnTo>
                    <a:pt x="1215" y="1337"/>
                  </a:lnTo>
                  <a:lnTo>
                    <a:pt x="1227" y="1351"/>
                  </a:lnTo>
                  <a:lnTo>
                    <a:pt x="1240" y="1365"/>
                  </a:lnTo>
                  <a:lnTo>
                    <a:pt x="1250" y="1379"/>
                  </a:lnTo>
                  <a:lnTo>
                    <a:pt x="1260" y="1393"/>
                  </a:lnTo>
                  <a:lnTo>
                    <a:pt x="1268" y="1407"/>
                  </a:lnTo>
                  <a:lnTo>
                    <a:pt x="1272" y="1420"/>
                  </a:lnTo>
                  <a:lnTo>
                    <a:pt x="1273" y="1433"/>
                  </a:lnTo>
                  <a:lnTo>
                    <a:pt x="1263" y="1433"/>
                  </a:lnTo>
                  <a:lnTo>
                    <a:pt x="1251" y="1434"/>
                  </a:lnTo>
                  <a:lnTo>
                    <a:pt x="1238" y="1434"/>
                  </a:lnTo>
                  <a:lnTo>
                    <a:pt x="1223" y="1434"/>
                  </a:lnTo>
                  <a:lnTo>
                    <a:pt x="1207" y="1434"/>
                  </a:lnTo>
                  <a:lnTo>
                    <a:pt x="1190" y="1435"/>
                  </a:lnTo>
                  <a:lnTo>
                    <a:pt x="1173" y="1434"/>
                  </a:lnTo>
                  <a:lnTo>
                    <a:pt x="1156" y="1434"/>
                  </a:lnTo>
                  <a:lnTo>
                    <a:pt x="1139" y="1434"/>
                  </a:lnTo>
                  <a:lnTo>
                    <a:pt x="1121" y="1433"/>
                  </a:lnTo>
                  <a:lnTo>
                    <a:pt x="1105" y="1433"/>
                  </a:lnTo>
                  <a:lnTo>
                    <a:pt x="1090" y="1432"/>
                  </a:lnTo>
                  <a:lnTo>
                    <a:pt x="1076" y="1430"/>
                  </a:lnTo>
                  <a:lnTo>
                    <a:pt x="1065" y="1428"/>
                  </a:lnTo>
                  <a:lnTo>
                    <a:pt x="1056" y="1426"/>
                  </a:lnTo>
                  <a:lnTo>
                    <a:pt x="1048" y="1424"/>
                  </a:lnTo>
                  <a:lnTo>
                    <a:pt x="1044" y="1411"/>
                  </a:lnTo>
                  <a:lnTo>
                    <a:pt x="1041" y="1394"/>
                  </a:lnTo>
                  <a:lnTo>
                    <a:pt x="1040" y="1379"/>
                  </a:lnTo>
                  <a:lnTo>
                    <a:pt x="1042" y="1372"/>
                  </a:lnTo>
                  <a:lnTo>
                    <a:pt x="1049" y="1370"/>
                  </a:lnTo>
                  <a:lnTo>
                    <a:pt x="1055" y="1365"/>
                  </a:lnTo>
                  <a:lnTo>
                    <a:pt x="1059" y="1360"/>
                  </a:lnTo>
                  <a:lnTo>
                    <a:pt x="1061" y="1355"/>
                  </a:lnTo>
                  <a:lnTo>
                    <a:pt x="1059" y="1339"/>
                  </a:lnTo>
                  <a:lnTo>
                    <a:pt x="1055" y="1314"/>
                  </a:lnTo>
                  <a:lnTo>
                    <a:pt x="1050" y="1284"/>
                  </a:lnTo>
                  <a:lnTo>
                    <a:pt x="1044" y="1251"/>
                  </a:lnTo>
                  <a:lnTo>
                    <a:pt x="1037" y="1218"/>
                  </a:lnTo>
                  <a:lnTo>
                    <a:pt x="1030" y="1187"/>
                  </a:lnTo>
                  <a:lnTo>
                    <a:pt x="1022" y="1159"/>
                  </a:lnTo>
                  <a:lnTo>
                    <a:pt x="1015" y="1138"/>
                  </a:lnTo>
                  <a:lnTo>
                    <a:pt x="1007" y="1159"/>
                  </a:lnTo>
                  <a:lnTo>
                    <a:pt x="997" y="1182"/>
                  </a:lnTo>
                  <a:lnTo>
                    <a:pt x="985" y="1207"/>
                  </a:lnTo>
                  <a:lnTo>
                    <a:pt x="973" y="1233"/>
                  </a:lnTo>
                  <a:lnTo>
                    <a:pt x="962" y="1256"/>
                  </a:lnTo>
                  <a:lnTo>
                    <a:pt x="953" y="1276"/>
                  </a:lnTo>
                  <a:lnTo>
                    <a:pt x="946" y="1291"/>
                  </a:lnTo>
                  <a:lnTo>
                    <a:pt x="944" y="1301"/>
                  </a:lnTo>
                  <a:lnTo>
                    <a:pt x="951" y="1320"/>
                  </a:lnTo>
                  <a:lnTo>
                    <a:pt x="960" y="1340"/>
                  </a:lnTo>
                  <a:lnTo>
                    <a:pt x="968" y="1358"/>
                  </a:lnTo>
                  <a:lnTo>
                    <a:pt x="975" y="1377"/>
                  </a:lnTo>
                  <a:lnTo>
                    <a:pt x="981" y="1393"/>
                  </a:lnTo>
                  <a:lnTo>
                    <a:pt x="983" y="1409"/>
                  </a:lnTo>
                  <a:lnTo>
                    <a:pt x="981" y="1422"/>
                  </a:lnTo>
                  <a:lnTo>
                    <a:pt x="974" y="1433"/>
                  </a:lnTo>
                  <a:lnTo>
                    <a:pt x="962" y="1432"/>
                  </a:lnTo>
                  <a:lnTo>
                    <a:pt x="951" y="1431"/>
                  </a:lnTo>
                  <a:lnTo>
                    <a:pt x="938" y="1428"/>
                  </a:lnTo>
                  <a:lnTo>
                    <a:pt x="927" y="1426"/>
                  </a:lnTo>
                  <a:lnTo>
                    <a:pt x="914" y="1424"/>
                  </a:lnTo>
                  <a:lnTo>
                    <a:pt x="903" y="1422"/>
                  </a:lnTo>
                  <a:lnTo>
                    <a:pt x="890" y="1418"/>
                  </a:lnTo>
                  <a:lnTo>
                    <a:pt x="878" y="1413"/>
                  </a:lnTo>
                  <a:lnTo>
                    <a:pt x="867" y="1409"/>
                  </a:lnTo>
                  <a:lnTo>
                    <a:pt x="854" y="1404"/>
                  </a:lnTo>
                  <a:lnTo>
                    <a:pt x="843" y="1397"/>
                  </a:lnTo>
                  <a:lnTo>
                    <a:pt x="832" y="1390"/>
                  </a:lnTo>
                  <a:lnTo>
                    <a:pt x="821" y="1382"/>
                  </a:lnTo>
                  <a:lnTo>
                    <a:pt x="810" y="1374"/>
                  </a:lnTo>
                  <a:lnTo>
                    <a:pt x="800" y="1364"/>
                  </a:lnTo>
                  <a:lnTo>
                    <a:pt x="790" y="1352"/>
                  </a:lnTo>
                  <a:lnTo>
                    <a:pt x="793" y="1340"/>
                  </a:lnTo>
                  <a:lnTo>
                    <a:pt x="798" y="1327"/>
                  </a:lnTo>
                  <a:lnTo>
                    <a:pt x="804" y="1314"/>
                  </a:lnTo>
                  <a:lnTo>
                    <a:pt x="810" y="1302"/>
                  </a:lnTo>
                  <a:lnTo>
                    <a:pt x="817" y="1289"/>
                  </a:lnTo>
                  <a:lnTo>
                    <a:pt x="824" y="1279"/>
                  </a:lnTo>
                  <a:lnTo>
                    <a:pt x="831" y="1269"/>
                  </a:lnTo>
                  <a:lnTo>
                    <a:pt x="837" y="1261"/>
                  </a:lnTo>
                  <a:lnTo>
                    <a:pt x="838" y="1203"/>
                  </a:lnTo>
                  <a:lnTo>
                    <a:pt x="837" y="1116"/>
                  </a:lnTo>
                  <a:lnTo>
                    <a:pt x="838" y="1026"/>
                  </a:lnTo>
                  <a:lnTo>
                    <a:pt x="850" y="954"/>
                  </a:lnTo>
                  <a:lnTo>
                    <a:pt x="840" y="932"/>
                  </a:lnTo>
                  <a:lnTo>
                    <a:pt x="832" y="909"/>
                  </a:lnTo>
                  <a:lnTo>
                    <a:pt x="827" y="886"/>
                  </a:lnTo>
                  <a:lnTo>
                    <a:pt x="821" y="863"/>
                  </a:lnTo>
                  <a:lnTo>
                    <a:pt x="816" y="842"/>
                  </a:lnTo>
                  <a:lnTo>
                    <a:pt x="814" y="823"/>
                  </a:lnTo>
                  <a:lnTo>
                    <a:pt x="813" y="804"/>
                  </a:lnTo>
                  <a:lnTo>
                    <a:pt x="813" y="790"/>
                  </a:lnTo>
                  <a:lnTo>
                    <a:pt x="795" y="797"/>
                  </a:lnTo>
                  <a:lnTo>
                    <a:pt x="776" y="804"/>
                  </a:lnTo>
                  <a:lnTo>
                    <a:pt x="756" y="811"/>
                  </a:lnTo>
                  <a:lnTo>
                    <a:pt x="736" y="817"/>
                  </a:lnTo>
                  <a:lnTo>
                    <a:pt x="714" y="824"/>
                  </a:lnTo>
                  <a:lnTo>
                    <a:pt x="692" y="831"/>
                  </a:lnTo>
                  <a:lnTo>
                    <a:pt x="670" y="836"/>
                  </a:lnTo>
                  <a:lnTo>
                    <a:pt x="648" y="843"/>
                  </a:lnTo>
                  <a:lnTo>
                    <a:pt x="627" y="849"/>
                  </a:lnTo>
                  <a:lnTo>
                    <a:pt x="605" y="855"/>
                  </a:lnTo>
                  <a:lnTo>
                    <a:pt x="585" y="859"/>
                  </a:lnTo>
                  <a:lnTo>
                    <a:pt x="565" y="865"/>
                  </a:lnTo>
                  <a:lnTo>
                    <a:pt x="546" y="870"/>
                  </a:lnTo>
                  <a:lnTo>
                    <a:pt x="528" y="873"/>
                  </a:lnTo>
                  <a:lnTo>
                    <a:pt x="512" y="877"/>
                  </a:lnTo>
                  <a:lnTo>
                    <a:pt x="497" y="880"/>
                  </a:lnTo>
                  <a:lnTo>
                    <a:pt x="495" y="901"/>
                  </a:lnTo>
                  <a:lnTo>
                    <a:pt x="489" y="923"/>
                  </a:lnTo>
                  <a:lnTo>
                    <a:pt x="480" y="946"/>
                  </a:lnTo>
                  <a:lnTo>
                    <a:pt x="468" y="969"/>
                  </a:lnTo>
                  <a:lnTo>
                    <a:pt x="453" y="991"/>
                  </a:lnTo>
                  <a:lnTo>
                    <a:pt x="436" y="1013"/>
                  </a:lnTo>
                  <a:lnTo>
                    <a:pt x="417" y="1032"/>
                  </a:lnTo>
                  <a:lnTo>
                    <a:pt x="395" y="1049"/>
                  </a:lnTo>
                  <a:lnTo>
                    <a:pt x="396" y="1091"/>
                  </a:lnTo>
                  <a:lnTo>
                    <a:pt x="395" y="1142"/>
                  </a:lnTo>
                  <a:lnTo>
                    <a:pt x="391" y="1189"/>
                  </a:lnTo>
                  <a:lnTo>
                    <a:pt x="387" y="1222"/>
                  </a:lnTo>
                  <a:lnTo>
                    <a:pt x="396" y="1231"/>
                  </a:lnTo>
                  <a:lnTo>
                    <a:pt x="404" y="1242"/>
                  </a:lnTo>
                  <a:lnTo>
                    <a:pt x="411" y="1256"/>
                  </a:lnTo>
                  <a:lnTo>
                    <a:pt x="415" y="1269"/>
                  </a:lnTo>
                  <a:lnTo>
                    <a:pt x="419" y="1284"/>
                  </a:lnTo>
                  <a:lnTo>
                    <a:pt x="421" y="1299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27" y="1337"/>
                  </a:lnTo>
                  <a:lnTo>
                    <a:pt x="441" y="1350"/>
                  </a:lnTo>
                  <a:lnTo>
                    <a:pt x="453" y="1365"/>
                  </a:lnTo>
                  <a:lnTo>
                    <a:pt x="466" y="1379"/>
                  </a:lnTo>
                  <a:lnTo>
                    <a:pt x="475" y="1394"/>
                  </a:lnTo>
                  <a:lnTo>
                    <a:pt x="480" y="1408"/>
                  </a:lnTo>
                  <a:lnTo>
                    <a:pt x="479" y="1420"/>
                  </a:lnTo>
                  <a:lnTo>
                    <a:pt x="468" y="1431"/>
                  </a:lnTo>
                  <a:lnTo>
                    <a:pt x="457" y="1431"/>
                  </a:lnTo>
                  <a:lnTo>
                    <a:pt x="445" y="1431"/>
                  </a:lnTo>
                  <a:lnTo>
                    <a:pt x="432" y="1431"/>
                  </a:lnTo>
                  <a:lnTo>
                    <a:pt x="418" y="1430"/>
                  </a:lnTo>
                  <a:lnTo>
                    <a:pt x="404" y="1428"/>
                  </a:lnTo>
                  <a:lnTo>
                    <a:pt x="389" y="1427"/>
                  </a:lnTo>
                  <a:lnTo>
                    <a:pt x="375" y="1426"/>
                  </a:lnTo>
                  <a:lnTo>
                    <a:pt x="360" y="1425"/>
                  </a:lnTo>
                  <a:lnTo>
                    <a:pt x="345" y="1424"/>
                  </a:lnTo>
                  <a:lnTo>
                    <a:pt x="331" y="1423"/>
                  </a:lnTo>
                  <a:lnTo>
                    <a:pt x="318" y="1422"/>
                  </a:lnTo>
                  <a:lnTo>
                    <a:pt x="305" y="1420"/>
                  </a:lnTo>
                  <a:lnTo>
                    <a:pt x="293" y="1419"/>
                  </a:lnTo>
                  <a:lnTo>
                    <a:pt x="282" y="1419"/>
                  </a:lnTo>
                  <a:lnTo>
                    <a:pt x="273" y="1418"/>
                  </a:lnTo>
                  <a:lnTo>
                    <a:pt x="265" y="1418"/>
                  </a:lnTo>
                  <a:lnTo>
                    <a:pt x="259" y="1410"/>
                  </a:lnTo>
                  <a:lnTo>
                    <a:pt x="259" y="1400"/>
                  </a:lnTo>
                  <a:lnTo>
                    <a:pt x="261" y="1390"/>
                  </a:lnTo>
                  <a:lnTo>
                    <a:pt x="269" y="1385"/>
                  </a:lnTo>
                  <a:lnTo>
                    <a:pt x="261" y="1375"/>
                  </a:lnTo>
                  <a:lnTo>
                    <a:pt x="254" y="1362"/>
                  </a:lnTo>
                  <a:lnTo>
                    <a:pt x="246" y="1344"/>
                  </a:lnTo>
                  <a:lnTo>
                    <a:pt x="240" y="1324"/>
                  </a:lnTo>
                  <a:lnTo>
                    <a:pt x="236" y="1302"/>
                  </a:lnTo>
                  <a:lnTo>
                    <a:pt x="233" y="1280"/>
                  </a:lnTo>
                  <a:lnTo>
                    <a:pt x="233" y="1259"/>
                  </a:lnTo>
                  <a:lnTo>
                    <a:pt x="237" y="1242"/>
                  </a:lnTo>
                  <a:lnTo>
                    <a:pt x="227" y="1258"/>
                  </a:lnTo>
                  <a:lnTo>
                    <a:pt x="216" y="1278"/>
                  </a:lnTo>
                  <a:lnTo>
                    <a:pt x="209" y="1298"/>
                  </a:lnTo>
                  <a:lnTo>
                    <a:pt x="206" y="1321"/>
                  </a:lnTo>
                  <a:lnTo>
                    <a:pt x="207" y="1347"/>
                  </a:lnTo>
                  <a:lnTo>
                    <a:pt x="214" y="1372"/>
                  </a:lnTo>
                  <a:lnTo>
                    <a:pt x="228" y="1397"/>
                  </a:lnTo>
                  <a:lnTo>
                    <a:pt x="250" y="1424"/>
                  </a:lnTo>
                  <a:lnTo>
                    <a:pt x="245" y="1431"/>
                  </a:lnTo>
                  <a:lnTo>
                    <a:pt x="239" y="1437"/>
                  </a:lnTo>
                  <a:lnTo>
                    <a:pt x="235" y="1442"/>
                  </a:lnTo>
                  <a:lnTo>
                    <a:pt x="229" y="1448"/>
                  </a:lnTo>
                  <a:lnTo>
                    <a:pt x="222" y="1453"/>
                  </a:lnTo>
                  <a:lnTo>
                    <a:pt x="215" y="1456"/>
                  </a:lnTo>
                  <a:lnTo>
                    <a:pt x="208" y="1460"/>
                  </a:lnTo>
                  <a:lnTo>
                    <a:pt x="200" y="1461"/>
                  </a:lnTo>
                  <a:lnTo>
                    <a:pt x="189" y="1461"/>
                  </a:lnTo>
                  <a:lnTo>
                    <a:pt x="169" y="1460"/>
                  </a:lnTo>
                  <a:lnTo>
                    <a:pt x="146" y="1456"/>
                  </a:lnTo>
                  <a:lnTo>
                    <a:pt x="121" y="1451"/>
                  </a:lnTo>
                  <a:lnTo>
                    <a:pt x="93" y="1446"/>
                  </a:lnTo>
                  <a:lnTo>
                    <a:pt x="67" y="1437"/>
                  </a:lnTo>
                  <a:lnTo>
                    <a:pt x="42" y="1426"/>
                  </a:lnTo>
                  <a:lnTo>
                    <a:pt x="23" y="1413"/>
                  </a:lnTo>
                  <a:lnTo>
                    <a:pt x="10" y="1400"/>
                  </a:lnTo>
                  <a:lnTo>
                    <a:pt x="2" y="1385"/>
                  </a:lnTo>
                  <a:lnTo>
                    <a:pt x="0" y="1371"/>
                  </a:lnTo>
                  <a:lnTo>
                    <a:pt x="2" y="1355"/>
                  </a:lnTo>
                  <a:lnTo>
                    <a:pt x="5" y="1340"/>
                  </a:lnTo>
                  <a:lnTo>
                    <a:pt x="12" y="1325"/>
                  </a:lnTo>
                  <a:lnTo>
                    <a:pt x="19" y="1309"/>
                  </a:lnTo>
                  <a:lnTo>
                    <a:pt x="26" y="1294"/>
                  </a:lnTo>
                  <a:lnTo>
                    <a:pt x="17" y="1280"/>
                  </a:lnTo>
                  <a:lnTo>
                    <a:pt x="15" y="1265"/>
                  </a:lnTo>
                  <a:lnTo>
                    <a:pt x="19" y="1252"/>
                  </a:lnTo>
                  <a:lnTo>
                    <a:pt x="31" y="1246"/>
                  </a:lnTo>
                  <a:lnTo>
                    <a:pt x="34" y="1230"/>
                  </a:lnTo>
                  <a:lnTo>
                    <a:pt x="40" y="1212"/>
                  </a:lnTo>
                  <a:lnTo>
                    <a:pt x="49" y="1192"/>
                  </a:lnTo>
                  <a:lnTo>
                    <a:pt x="61" y="1170"/>
                  </a:lnTo>
                  <a:lnTo>
                    <a:pt x="75" y="1147"/>
                  </a:lnTo>
                  <a:lnTo>
                    <a:pt x="90" y="1124"/>
                  </a:lnTo>
                  <a:lnTo>
                    <a:pt x="106" y="1099"/>
                  </a:lnTo>
                  <a:lnTo>
                    <a:pt x="124" y="1075"/>
                  </a:lnTo>
                  <a:lnTo>
                    <a:pt x="113" y="1053"/>
                  </a:lnTo>
                  <a:lnTo>
                    <a:pt x="106" y="1011"/>
                  </a:lnTo>
                  <a:lnTo>
                    <a:pt x="101" y="957"/>
                  </a:lnTo>
                  <a:lnTo>
                    <a:pt x="99" y="895"/>
                  </a:lnTo>
                  <a:lnTo>
                    <a:pt x="99" y="831"/>
                  </a:lnTo>
                  <a:lnTo>
                    <a:pt x="100" y="767"/>
                  </a:lnTo>
                  <a:lnTo>
                    <a:pt x="103" y="711"/>
                  </a:lnTo>
                  <a:lnTo>
                    <a:pt x="107" y="667"/>
                  </a:lnTo>
                  <a:lnTo>
                    <a:pt x="98" y="677"/>
                  </a:lnTo>
                  <a:lnTo>
                    <a:pt x="94" y="720"/>
                  </a:lnTo>
                  <a:lnTo>
                    <a:pt x="91" y="775"/>
                  </a:lnTo>
                  <a:lnTo>
                    <a:pt x="85" y="826"/>
                  </a:lnTo>
                  <a:lnTo>
                    <a:pt x="79" y="849"/>
                  </a:lnTo>
                  <a:lnTo>
                    <a:pt x="73" y="877"/>
                  </a:lnTo>
                  <a:lnTo>
                    <a:pt x="67" y="907"/>
                  </a:lnTo>
                  <a:lnTo>
                    <a:pt x="61" y="938"/>
                  </a:lnTo>
                  <a:lnTo>
                    <a:pt x="55" y="968"/>
                  </a:lnTo>
                  <a:lnTo>
                    <a:pt x="50" y="996"/>
                  </a:lnTo>
                  <a:lnTo>
                    <a:pt x="47" y="1022"/>
                  </a:lnTo>
                  <a:lnTo>
                    <a:pt x="46" y="1043"/>
                  </a:lnTo>
                  <a:lnTo>
                    <a:pt x="46" y="1071"/>
                  </a:lnTo>
                  <a:lnTo>
                    <a:pt x="45" y="1089"/>
                  </a:lnTo>
                  <a:lnTo>
                    <a:pt x="41" y="1099"/>
                  </a:lnTo>
                  <a:lnTo>
                    <a:pt x="33" y="1101"/>
                  </a:lnTo>
                  <a:lnTo>
                    <a:pt x="25" y="1096"/>
                  </a:lnTo>
                  <a:lnTo>
                    <a:pt x="20" y="1081"/>
                  </a:lnTo>
                  <a:lnTo>
                    <a:pt x="20" y="1059"/>
                  </a:lnTo>
                  <a:lnTo>
                    <a:pt x="23" y="1032"/>
                  </a:lnTo>
                  <a:lnTo>
                    <a:pt x="27" y="993"/>
                  </a:lnTo>
                  <a:lnTo>
                    <a:pt x="34" y="938"/>
                  </a:lnTo>
                  <a:lnTo>
                    <a:pt x="39" y="876"/>
                  </a:lnTo>
                  <a:lnTo>
                    <a:pt x="42" y="819"/>
                  </a:lnTo>
                  <a:lnTo>
                    <a:pt x="46" y="766"/>
                  </a:lnTo>
                  <a:lnTo>
                    <a:pt x="47" y="710"/>
                  </a:lnTo>
                  <a:lnTo>
                    <a:pt x="46" y="652"/>
                  </a:lnTo>
                  <a:lnTo>
                    <a:pt x="40" y="59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>
              <a:off x="5791680" y="3700080"/>
              <a:ext cx="304920" cy="26856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195" y="227"/>
                  </a:moveTo>
                  <a:lnTo>
                    <a:pt x="205" y="234"/>
                  </a:lnTo>
                  <a:lnTo>
                    <a:pt x="217" y="241"/>
                  </a:lnTo>
                  <a:lnTo>
                    <a:pt x="228" y="248"/>
                  </a:lnTo>
                  <a:lnTo>
                    <a:pt x="240" y="253"/>
                  </a:lnTo>
                  <a:lnTo>
                    <a:pt x="253" y="257"/>
                  </a:lnTo>
                  <a:lnTo>
                    <a:pt x="264" y="261"/>
                  </a:lnTo>
                  <a:lnTo>
                    <a:pt x="276" y="263"/>
                  </a:lnTo>
                  <a:lnTo>
                    <a:pt x="286" y="264"/>
                  </a:lnTo>
                  <a:lnTo>
                    <a:pt x="272" y="253"/>
                  </a:lnTo>
                  <a:lnTo>
                    <a:pt x="260" y="240"/>
                  </a:lnTo>
                  <a:lnTo>
                    <a:pt x="247" y="227"/>
                  </a:lnTo>
                  <a:lnTo>
                    <a:pt x="235" y="216"/>
                  </a:lnTo>
                  <a:lnTo>
                    <a:pt x="225" y="204"/>
                  </a:lnTo>
                  <a:lnTo>
                    <a:pt x="216" y="194"/>
                  </a:lnTo>
                  <a:lnTo>
                    <a:pt x="208" y="186"/>
                  </a:lnTo>
                  <a:lnTo>
                    <a:pt x="202" y="179"/>
                  </a:lnTo>
                  <a:lnTo>
                    <a:pt x="185" y="160"/>
                  </a:lnTo>
                  <a:lnTo>
                    <a:pt x="165" y="138"/>
                  </a:lnTo>
                  <a:lnTo>
                    <a:pt x="143" y="115"/>
                  </a:lnTo>
                  <a:lnTo>
                    <a:pt x="121" y="90"/>
                  </a:lnTo>
                  <a:lnTo>
                    <a:pt x="99" y="66"/>
                  </a:lnTo>
                  <a:lnTo>
                    <a:pt x="79" y="42"/>
                  </a:lnTo>
                  <a:lnTo>
                    <a:pt x="61" y="20"/>
                  </a:lnTo>
                  <a:lnTo>
                    <a:pt x="48" y="0"/>
                  </a:lnTo>
                  <a:lnTo>
                    <a:pt x="0" y="7"/>
                  </a:lnTo>
                  <a:lnTo>
                    <a:pt x="7" y="18"/>
                  </a:lnTo>
                  <a:lnTo>
                    <a:pt x="15" y="29"/>
                  </a:lnTo>
                  <a:lnTo>
                    <a:pt x="25" y="42"/>
                  </a:lnTo>
                  <a:lnTo>
                    <a:pt x="35" y="56"/>
                  </a:lnTo>
                  <a:lnTo>
                    <a:pt x="46" y="71"/>
                  </a:lnTo>
                  <a:lnTo>
                    <a:pt x="58" y="86"/>
                  </a:lnTo>
                  <a:lnTo>
                    <a:pt x="71" y="102"/>
                  </a:lnTo>
                  <a:lnTo>
                    <a:pt x="83" y="118"/>
                  </a:lnTo>
                  <a:lnTo>
                    <a:pt x="96" y="134"/>
                  </a:lnTo>
                  <a:lnTo>
                    <a:pt x="110" y="149"/>
                  </a:lnTo>
                  <a:lnTo>
                    <a:pt x="124" y="165"/>
                  </a:lnTo>
                  <a:lnTo>
                    <a:pt x="139" y="179"/>
                  </a:lnTo>
                  <a:lnTo>
                    <a:pt x="152" y="193"/>
                  </a:lnTo>
                  <a:lnTo>
                    <a:pt x="167" y="205"/>
                  </a:lnTo>
                  <a:lnTo>
                    <a:pt x="181" y="217"/>
                  </a:lnTo>
                  <a:lnTo>
                    <a:pt x="195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H="1">
              <a:off x="6371640" y="3174840"/>
              <a:ext cx="304920" cy="443160"/>
            </a:xfrm>
            <a:custGeom>
              <a:avLst/>
              <a:gdLst/>
              <a:ahLst/>
              <a:rect l="l" t="t" r="r" b="b"/>
              <a:pathLst>
                <a:path w="285" h="438">
                  <a:moveTo>
                    <a:pt x="14" y="0"/>
                  </a:moveTo>
                  <a:lnTo>
                    <a:pt x="24" y="2"/>
                  </a:lnTo>
                  <a:lnTo>
                    <a:pt x="35" y="6"/>
                  </a:lnTo>
                  <a:lnTo>
                    <a:pt x="49" y="10"/>
                  </a:lnTo>
                  <a:lnTo>
                    <a:pt x="62" y="16"/>
                  </a:lnTo>
                  <a:lnTo>
                    <a:pt x="73" y="25"/>
                  </a:lnTo>
                  <a:lnTo>
                    <a:pt x="83" y="36"/>
                  </a:lnTo>
                  <a:lnTo>
                    <a:pt x="90" y="48"/>
                  </a:lnTo>
                  <a:lnTo>
                    <a:pt x="92" y="65"/>
                  </a:lnTo>
                  <a:lnTo>
                    <a:pt x="93" y="85"/>
                  </a:lnTo>
                  <a:lnTo>
                    <a:pt x="99" y="111"/>
                  </a:lnTo>
                  <a:lnTo>
                    <a:pt x="106" y="139"/>
                  </a:lnTo>
                  <a:lnTo>
                    <a:pt x="115" y="169"/>
                  </a:lnTo>
                  <a:lnTo>
                    <a:pt x="125" y="199"/>
                  </a:lnTo>
                  <a:lnTo>
                    <a:pt x="136" y="226"/>
                  </a:lnTo>
                  <a:lnTo>
                    <a:pt x="147" y="248"/>
                  </a:lnTo>
                  <a:lnTo>
                    <a:pt x="159" y="264"/>
                  </a:lnTo>
                  <a:lnTo>
                    <a:pt x="176" y="281"/>
                  </a:lnTo>
                  <a:lnTo>
                    <a:pt x="197" y="300"/>
                  </a:lnTo>
                  <a:lnTo>
                    <a:pt x="220" y="319"/>
                  </a:lnTo>
                  <a:lnTo>
                    <a:pt x="243" y="341"/>
                  </a:lnTo>
                  <a:lnTo>
                    <a:pt x="262" y="363"/>
                  </a:lnTo>
                  <a:lnTo>
                    <a:pt x="277" y="387"/>
                  </a:lnTo>
                  <a:lnTo>
                    <a:pt x="285" y="412"/>
                  </a:lnTo>
                  <a:lnTo>
                    <a:pt x="284" y="438"/>
                  </a:lnTo>
                  <a:lnTo>
                    <a:pt x="276" y="424"/>
                  </a:lnTo>
                  <a:lnTo>
                    <a:pt x="265" y="410"/>
                  </a:lnTo>
                  <a:lnTo>
                    <a:pt x="251" y="395"/>
                  </a:lnTo>
                  <a:lnTo>
                    <a:pt x="235" y="380"/>
                  </a:lnTo>
                  <a:lnTo>
                    <a:pt x="217" y="366"/>
                  </a:lnTo>
                  <a:lnTo>
                    <a:pt x="200" y="354"/>
                  </a:lnTo>
                  <a:lnTo>
                    <a:pt x="182" y="343"/>
                  </a:lnTo>
                  <a:lnTo>
                    <a:pt x="163" y="335"/>
                  </a:lnTo>
                  <a:lnTo>
                    <a:pt x="145" y="326"/>
                  </a:lnTo>
                  <a:lnTo>
                    <a:pt x="125" y="313"/>
                  </a:lnTo>
                  <a:lnTo>
                    <a:pt x="106" y="298"/>
                  </a:lnTo>
                  <a:lnTo>
                    <a:pt x="87" y="281"/>
                  </a:lnTo>
                  <a:lnTo>
                    <a:pt x="70" y="263"/>
                  </a:lnTo>
                  <a:lnTo>
                    <a:pt x="55" y="245"/>
                  </a:lnTo>
                  <a:lnTo>
                    <a:pt x="43" y="229"/>
                  </a:lnTo>
                  <a:lnTo>
                    <a:pt x="35" y="217"/>
                  </a:lnTo>
                  <a:lnTo>
                    <a:pt x="24" y="196"/>
                  </a:lnTo>
                  <a:lnTo>
                    <a:pt x="15" y="175"/>
                  </a:lnTo>
                  <a:lnTo>
                    <a:pt x="8" y="154"/>
                  </a:lnTo>
                  <a:lnTo>
                    <a:pt x="5" y="131"/>
                  </a:lnTo>
                  <a:lnTo>
                    <a:pt x="3" y="97"/>
                  </a:lnTo>
                  <a:lnTo>
                    <a:pt x="0" y="55"/>
                  </a:lnTo>
                  <a:lnTo>
                    <a:pt x="2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6226920" y="3114000"/>
              <a:ext cx="325800" cy="313200"/>
            </a:xfrm>
            <a:custGeom>
              <a:avLst/>
              <a:gdLst/>
              <a:ahLst/>
              <a:rect l="l" t="t" r="r" b="b"/>
              <a:pathLst>
                <a:path w="305" h="308">
                  <a:moveTo>
                    <a:pt x="0" y="5"/>
                  </a:moveTo>
                  <a:lnTo>
                    <a:pt x="12" y="12"/>
                  </a:lnTo>
                  <a:lnTo>
                    <a:pt x="25" y="21"/>
                  </a:lnTo>
                  <a:lnTo>
                    <a:pt x="41" y="31"/>
                  </a:lnTo>
                  <a:lnTo>
                    <a:pt x="60" y="44"/>
                  </a:lnTo>
                  <a:lnTo>
                    <a:pt x="81" y="59"/>
                  </a:lnTo>
                  <a:lnTo>
                    <a:pt x="101" y="74"/>
                  </a:lnTo>
                  <a:lnTo>
                    <a:pt x="122" y="90"/>
                  </a:lnTo>
                  <a:lnTo>
                    <a:pt x="144" y="106"/>
                  </a:lnTo>
                  <a:lnTo>
                    <a:pt x="165" y="122"/>
                  </a:lnTo>
                  <a:lnTo>
                    <a:pt x="184" y="139"/>
                  </a:lnTo>
                  <a:lnTo>
                    <a:pt x="204" y="154"/>
                  </a:lnTo>
                  <a:lnTo>
                    <a:pt x="221" y="166"/>
                  </a:lnTo>
                  <a:lnTo>
                    <a:pt x="235" y="179"/>
                  </a:lnTo>
                  <a:lnTo>
                    <a:pt x="248" y="189"/>
                  </a:lnTo>
                  <a:lnTo>
                    <a:pt x="256" y="197"/>
                  </a:lnTo>
                  <a:lnTo>
                    <a:pt x="261" y="202"/>
                  </a:lnTo>
                  <a:lnTo>
                    <a:pt x="265" y="224"/>
                  </a:lnTo>
                  <a:lnTo>
                    <a:pt x="267" y="251"/>
                  </a:lnTo>
                  <a:lnTo>
                    <a:pt x="265" y="280"/>
                  </a:lnTo>
                  <a:lnTo>
                    <a:pt x="257" y="308"/>
                  </a:lnTo>
                  <a:lnTo>
                    <a:pt x="270" y="301"/>
                  </a:lnTo>
                  <a:lnTo>
                    <a:pt x="280" y="293"/>
                  </a:lnTo>
                  <a:lnTo>
                    <a:pt x="286" y="283"/>
                  </a:lnTo>
                  <a:lnTo>
                    <a:pt x="288" y="273"/>
                  </a:lnTo>
                  <a:lnTo>
                    <a:pt x="288" y="258"/>
                  </a:lnTo>
                  <a:lnTo>
                    <a:pt x="287" y="238"/>
                  </a:lnTo>
                  <a:lnTo>
                    <a:pt x="287" y="217"/>
                  </a:lnTo>
                  <a:lnTo>
                    <a:pt x="288" y="202"/>
                  </a:lnTo>
                  <a:lnTo>
                    <a:pt x="301" y="185"/>
                  </a:lnTo>
                  <a:lnTo>
                    <a:pt x="305" y="163"/>
                  </a:lnTo>
                  <a:lnTo>
                    <a:pt x="304" y="140"/>
                  </a:lnTo>
                  <a:lnTo>
                    <a:pt x="298" y="117"/>
                  </a:lnTo>
                  <a:lnTo>
                    <a:pt x="295" y="122"/>
                  </a:lnTo>
                  <a:lnTo>
                    <a:pt x="291" y="129"/>
                  </a:lnTo>
                  <a:lnTo>
                    <a:pt x="288" y="136"/>
                  </a:lnTo>
                  <a:lnTo>
                    <a:pt x="283" y="142"/>
                  </a:lnTo>
                  <a:lnTo>
                    <a:pt x="279" y="149"/>
                  </a:lnTo>
                  <a:lnTo>
                    <a:pt x="273" y="154"/>
                  </a:lnTo>
                  <a:lnTo>
                    <a:pt x="267" y="157"/>
                  </a:lnTo>
                  <a:lnTo>
                    <a:pt x="261" y="158"/>
                  </a:lnTo>
                  <a:lnTo>
                    <a:pt x="248" y="149"/>
                  </a:lnTo>
                  <a:lnTo>
                    <a:pt x="230" y="136"/>
                  </a:lnTo>
                  <a:lnTo>
                    <a:pt x="211" y="120"/>
                  </a:lnTo>
                  <a:lnTo>
                    <a:pt x="190" y="103"/>
                  </a:lnTo>
                  <a:lnTo>
                    <a:pt x="170" y="87"/>
                  </a:lnTo>
                  <a:lnTo>
                    <a:pt x="154" y="72"/>
                  </a:lnTo>
                  <a:lnTo>
                    <a:pt x="142" y="59"/>
                  </a:lnTo>
                  <a:lnTo>
                    <a:pt x="136" y="52"/>
                  </a:lnTo>
                  <a:lnTo>
                    <a:pt x="141" y="46"/>
                  </a:lnTo>
                  <a:lnTo>
                    <a:pt x="144" y="38"/>
                  </a:lnTo>
                  <a:lnTo>
                    <a:pt x="145" y="30"/>
                  </a:lnTo>
                  <a:lnTo>
                    <a:pt x="141" y="22"/>
                  </a:lnTo>
                  <a:lnTo>
                    <a:pt x="135" y="19"/>
                  </a:lnTo>
                  <a:lnTo>
                    <a:pt x="123" y="14"/>
                  </a:lnTo>
                  <a:lnTo>
                    <a:pt x="108" y="10"/>
                  </a:lnTo>
                  <a:lnTo>
                    <a:pt x="90" y="5"/>
                  </a:lnTo>
                  <a:lnTo>
                    <a:pt x="68" y="1"/>
                  </a:lnTo>
                  <a:lnTo>
                    <a:pt x="46" y="0"/>
                  </a:lnTo>
                  <a:lnTo>
                    <a:pt x="2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>
              <a:off x="6043680" y="3386880"/>
              <a:ext cx="102240" cy="8280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69" y="0"/>
                  </a:moveTo>
                  <a:lnTo>
                    <a:pt x="77" y="9"/>
                  </a:lnTo>
                  <a:lnTo>
                    <a:pt x="82" y="19"/>
                  </a:lnTo>
                  <a:lnTo>
                    <a:pt x="84" y="29"/>
                  </a:lnTo>
                  <a:lnTo>
                    <a:pt x="84" y="32"/>
                  </a:lnTo>
                  <a:lnTo>
                    <a:pt x="73" y="35"/>
                  </a:lnTo>
                  <a:lnTo>
                    <a:pt x="64" y="38"/>
                  </a:lnTo>
                  <a:lnTo>
                    <a:pt x="59" y="41"/>
                  </a:lnTo>
                  <a:lnTo>
                    <a:pt x="57" y="46"/>
                  </a:lnTo>
                  <a:lnTo>
                    <a:pt x="64" y="48"/>
                  </a:lnTo>
                  <a:lnTo>
                    <a:pt x="70" y="50"/>
                  </a:lnTo>
                  <a:lnTo>
                    <a:pt x="77" y="53"/>
                  </a:lnTo>
                  <a:lnTo>
                    <a:pt x="83" y="56"/>
                  </a:lnTo>
                  <a:lnTo>
                    <a:pt x="89" y="58"/>
                  </a:lnTo>
                  <a:lnTo>
                    <a:pt x="93" y="61"/>
                  </a:lnTo>
                  <a:lnTo>
                    <a:pt x="96" y="62"/>
                  </a:lnTo>
                  <a:lnTo>
                    <a:pt x="97" y="63"/>
                  </a:lnTo>
                  <a:lnTo>
                    <a:pt x="93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5" y="78"/>
                  </a:lnTo>
                  <a:lnTo>
                    <a:pt x="67" y="80"/>
                  </a:lnTo>
                  <a:lnTo>
                    <a:pt x="59" y="80"/>
                  </a:lnTo>
                  <a:lnTo>
                    <a:pt x="50" y="80"/>
                  </a:lnTo>
                  <a:lnTo>
                    <a:pt x="41" y="78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0" y="68"/>
                  </a:lnTo>
                  <a:lnTo>
                    <a:pt x="15" y="63"/>
                  </a:lnTo>
                  <a:lnTo>
                    <a:pt x="12" y="58"/>
                  </a:lnTo>
                  <a:lnTo>
                    <a:pt x="8" y="54"/>
                  </a:lnTo>
                  <a:lnTo>
                    <a:pt x="5" y="50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13" y="46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4" y="33"/>
                  </a:lnTo>
                  <a:lnTo>
                    <a:pt x="52" y="19"/>
                  </a:lnTo>
                  <a:lnTo>
                    <a:pt x="62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2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17542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"/>
          <p:cNvSpPr/>
          <p:nvPr/>
        </p:nvSpPr>
        <p:spPr>
          <a:xfrm>
            <a:off x="1143000" y="2868480"/>
            <a:ext cx="1873080" cy="1882800"/>
          </a:xfrm>
          <a:custGeom>
            <a:avLst/>
            <a:gdLst/>
            <a:ahLst/>
            <a:rect l="l" t="t" r="r" b="b"/>
            <a:pathLst>
              <a:path w="5901" h="5933">
                <a:moveTo>
                  <a:pt x="0" y="5933"/>
                </a:moveTo>
                <a:lnTo>
                  <a:pt x="655" y="5274"/>
                </a:lnTo>
                <a:lnTo>
                  <a:pt x="0" y="5274"/>
                </a:lnTo>
                <a:lnTo>
                  <a:pt x="655" y="4614"/>
                </a:lnTo>
                <a:lnTo>
                  <a:pt x="0" y="4614"/>
                </a:lnTo>
                <a:lnTo>
                  <a:pt x="655" y="3956"/>
                </a:lnTo>
                <a:lnTo>
                  <a:pt x="0" y="3956"/>
                </a:lnTo>
                <a:lnTo>
                  <a:pt x="655" y="3296"/>
                </a:lnTo>
                <a:lnTo>
                  <a:pt x="0" y="3296"/>
                </a:lnTo>
                <a:lnTo>
                  <a:pt x="655" y="2637"/>
                </a:lnTo>
                <a:lnTo>
                  <a:pt x="0" y="2637"/>
                </a:lnTo>
                <a:lnTo>
                  <a:pt x="655" y="1977"/>
                </a:lnTo>
                <a:lnTo>
                  <a:pt x="0" y="1977"/>
                </a:lnTo>
                <a:lnTo>
                  <a:pt x="655" y="1318"/>
                </a:lnTo>
                <a:lnTo>
                  <a:pt x="0" y="1318"/>
                </a:lnTo>
                <a:lnTo>
                  <a:pt x="655" y="660"/>
                </a:lnTo>
                <a:lnTo>
                  <a:pt x="654" y="662"/>
                </a:lnTo>
                <a:lnTo>
                  <a:pt x="655" y="661"/>
                </a:lnTo>
                <a:lnTo>
                  <a:pt x="655" y="660"/>
                </a:lnTo>
                <a:lnTo>
                  <a:pt x="0" y="660"/>
                </a:lnTo>
                <a:lnTo>
                  <a:pt x="655" y="0"/>
                </a:lnTo>
                <a:lnTo>
                  <a:pt x="655" y="5933"/>
                </a:lnTo>
                <a:lnTo>
                  <a:pt x="1311" y="5274"/>
                </a:lnTo>
                <a:lnTo>
                  <a:pt x="655" y="5274"/>
                </a:lnTo>
                <a:lnTo>
                  <a:pt x="1311" y="4614"/>
                </a:lnTo>
                <a:lnTo>
                  <a:pt x="655" y="4614"/>
                </a:lnTo>
                <a:lnTo>
                  <a:pt x="1311" y="3956"/>
                </a:lnTo>
                <a:lnTo>
                  <a:pt x="655" y="3956"/>
                </a:lnTo>
                <a:lnTo>
                  <a:pt x="1311" y="3296"/>
                </a:lnTo>
                <a:lnTo>
                  <a:pt x="655" y="3296"/>
                </a:lnTo>
                <a:lnTo>
                  <a:pt x="1311" y="2637"/>
                </a:lnTo>
                <a:lnTo>
                  <a:pt x="655" y="2637"/>
                </a:lnTo>
                <a:lnTo>
                  <a:pt x="1311" y="1977"/>
                </a:lnTo>
                <a:lnTo>
                  <a:pt x="655" y="1977"/>
                </a:lnTo>
                <a:lnTo>
                  <a:pt x="1311" y="1318"/>
                </a:lnTo>
                <a:lnTo>
                  <a:pt x="655" y="1318"/>
                </a:lnTo>
                <a:lnTo>
                  <a:pt x="1311" y="660"/>
                </a:lnTo>
                <a:lnTo>
                  <a:pt x="655" y="660"/>
                </a:lnTo>
                <a:lnTo>
                  <a:pt x="1311" y="0"/>
                </a:lnTo>
                <a:lnTo>
                  <a:pt x="1311" y="5933"/>
                </a:lnTo>
                <a:lnTo>
                  <a:pt x="1967" y="5274"/>
                </a:lnTo>
                <a:lnTo>
                  <a:pt x="1311" y="5274"/>
                </a:lnTo>
                <a:lnTo>
                  <a:pt x="1967" y="4614"/>
                </a:lnTo>
                <a:lnTo>
                  <a:pt x="1311" y="4614"/>
                </a:lnTo>
                <a:lnTo>
                  <a:pt x="1967" y="3956"/>
                </a:lnTo>
                <a:lnTo>
                  <a:pt x="1311" y="3956"/>
                </a:lnTo>
                <a:lnTo>
                  <a:pt x="1967" y="3296"/>
                </a:lnTo>
                <a:lnTo>
                  <a:pt x="1311" y="3296"/>
                </a:lnTo>
                <a:lnTo>
                  <a:pt x="1967" y="2637"/>
                </a:lnTo>
                <a:lnTo>
                  <a:pt x="1311" y="2637"/>
                </a:lnTo>
                <a:lnTo>
                  <a:pt x="1967" y="1977"/>
                </a:lnTo>
                <a:lnTo>
                  <a:pt x="1311" y="1977"/>
                </a:lnTo>
                <a:lnTo>
                  <a:pt x="1967" y="1318"/>
                </a:lnTo>
                <a:lnTo>
                  <a:pt x="1311" y="1318"/>
                </a:lnTo>
                <a:lnTo>
                  <a:pt x="1967" y="660"/>
                </a:lnTo>
                <a:lnTo>
                  <a:pt x="1311" y="660"/>
                </a:lnTo>
                <a:lnTo>
                  <a:pt x="1967" y="0"/>
                </a:lnTo>
                <a:lnTo>
                  <a:pt x="1967" y="5933"/>
                </a:lnTo>
                <a:lnTo>
                  <a:pt x="2623" y="5274"/>
                </a:lnTo>
                <a:lnTo>
                  <a:pt x="1967" y="5274"/>
                </a:lnTo>
                <a:lnTo>
                  <a:pt x="2623" y="4614"/>
                </a:lnTo>
                <a:lnTo>
                  <a:pt x="1967" y="4614"/>
                </a:lnTo>
                <a:lnTo>
                  <a:pt x="2623" y="3956"/>
                </a:lnTo>
                <a:lnTo>
                  <a:pt x="1967" y="3956"/>
                </a:lnTo>
                <a:lnTo>
                  <a:pt x="2623" y="3296"/>
                </a:lnTo>
                <a:lnTo>
                  <a:pt x="1967" y="3296"/>
                </a:lnTo>
                <a:lnTo>
                  <a:pt x="2623" y="2637"/>
                </a:lnTo>
                <a:lnTo>
                  <a:pt x="1967" y="2637"/>
                </a:lnTo>
                <a:lnTo>
                  <a:pt x="2623" y="1977"/>
                </a:lnTo>
                <a:lnTo>
                  <a:pt x="1967" y="1977"/>
                </a:lnTo>
                <a:lnTo>
                  <a:pt x="2623" y="1318"/>
                </a:lnTo>
                <a:lnTo>
                  <a:pt x="1967" y="1318"/>
                </a:lnTo>
                <a:lnTo>
                  <a:pt x="2623" y="660"/>
                </a:lnTo>
                <a:lnTo>
                  <a:pt x="1967" y="660"/>
                </a:lnTo>
                <a:lnTo>
                  <a:pt x="2623" y="0"/>
                </a:lnTo>
                <a:lnTo>
                  <a:pt x="2623" y="5933"/>
                </a:lnTo>
                <a:lnTo>
                  <a:pt x="3279" y="5274"/>
                </a:lnTo>
                <a:lnTo>
                  <a:pt x="2623" y="5274"/>
                </a:lnTo>
                <a:lnTo>
                  <a:pt x="3279" y="4614"/>
                </a:lnTo>
                <a:lnTo>
                  <a:pt x="2623" y="4614"/>
                </a:lnTo>
                <a:lnTo>
                  <a:pt x="3279" y="3956"/>
                </a:lnTo>
                <a:lnTo>
                  <a:pt x="2623" y="3956"/>
                </a:lnTo>
                <a:lnTo>
                  <a:pt x="3279" y="3296"/>
                </a:lnTo>
                <a:lnTo>
                  <a:pt x="2623" y="3296"/>
                </a:lnTo>
                <a:lnTo>
                  <a:pt x="3279" y="2637"/>
                </a:lnTo>
                <a:lnTo>
                  <a:pt x="2623" y="2637"/>
                </a:lnTo>
                <a:lnTo>
                  <a:pt x="3279" y="1977"/>
                </a:lnTo>
                <a:lnTo>
                  <a:pt x="2623" y="1977"/>
                </a:lnTo>
                <a:lnTo>
                  <a:pt x="3279" y="1318"/>
                </a:lnTo>
                <a:lnTo>
                  <a:pt x="2623" y="1318"/>
                </a:lnTo>
                <a:lnTo>
                  <a:pt x="3279" y="660"/>
                </a:lnTo>
                <a:lnTo>
                  <a:pt x="2623" y="660"/>
                </a:lnTo>
                <a:lnTo>
                  <a:pt x="3279" y="0"/>
                </a:lnTo>
                <a:lnTo>
                  <a:pt x="3279" y="5933"/>
                </a:lnTo>
                <a:lnTo>
                  <a:pt x="3934" y="5274"/>
                </a:lnTo>
                <a:lnTo>
                  <a:pt x="3279" y="5274"/>
                </a:lnTo>
                <a:lnTo>
                  <a:pt x="3934" y="4614"/>
                </a:lnTo>
                <a:lnTo>
                  <a:pt x="3279" y="4614"/>
                </a:lnTo>
                <a:lnTo>
                  <a:pt x="3934" y="3956"/>
                </a:lnTo>
                <a:lnTo>
                  <a:pt x="3279" y="3956"/>
                </a:lnTo>
                <a:lnTo>
                  <a:pt x="3934" y="3296"/>
                </a:lnTo>
                <a:lnTo>
                  <a:pt x="3279" y="3296"/>
                </a:lnTo>
                <a:lnTo>
                  <a:pt x="3934" y="2637"/>
                </a:lnTo>
                <a:lnTo>
                  <a:pt x="3279" y="2637"/>
                </a:lnTo>
                <a:lnTo>
                  <a:pt x="3934" y="1977"/>
                </a:lnTo>
                <a:lnTo>
                  <a:pt x="3279" y="1977"/>
                </a:lnTo>
                <a:lnTo>
                  <a:pt x="3934" y="1318"/>
                </a:lnTo>
                <a:lnTo>
                  <a:pt x="3279" y="1318"/>
                </a:lnTo>
                <a:lnTo>
                  <a:pt x="3934" y="660"/>
                </a:lnTo>
                <a:lnTo>
                  <a:pt x="3279" y="660"/>
                </a:lnTo>
                <a:lnTo>
                  <a:pt x="3934" y="0"/>
                </a:lnTo>
                <a:lnTo>
                  <a:pt x="3934" y="5933"/>
                </a:lnTo>
                <a:lnTo>
                  <a:pt x="4591" y="5274"/>
                </a:lnTo>
                <a:lnTo>
                  <a:pt x="3934" y="5274"/>
                </a:lnTo>
                <a:lnTo>
                  <a:pt x="4591" y="4614"/>
                </a:lnTo>
                <a:lnTo>
                  <a:pt x="3934" y="4614"/>
                </a:lnTo>
                <a:lnTo>
                  <a:pt x="4591" y="3956"/>
                </a:lnTo>
                <a:lnTo>
                  <a:pt x="3934" y="3956"/>
                </a:lnTo>
                <a:lnTo>
                  <a:pt x="4591" y="3296"/>
                </a:lnTo>
                <a:lnTo>
                  <a:pt x="3934" y="3296"/>
                </a:lnTo>
                <a:lnTo>
                  <a:pt x="4591" y="2637"/>
                </a:lnTo>
                <a:lnTo>
                  <a:pt x="3934" y="2637"/>
                </a:lnTo>
                <a:lnTo>
                  <a:pt x="4591" y="1977"/>
                </a:lnTo>
                <a:lnTo>
                  <a:pt x="3934" y="1977"/>
                </a:lnTo>
                <a:lnTo>
                  <a:pt x="4591" y="1318"/>
                </a:lnTo>
                <a:lnTo>
                  <a:pt x="3934" y="1318"/>
                </a:lnTo>
                <a:lnTo>
                  <a:pt x="4591" y="660"/>
                </a:lnTo>
                <a:lnTo>
                  <a:pt x="3934" y="660"/>
                </a:lnTo>
                <a:lnTo>
                  <a:pt x="4591" y="0"/>
                </a:lnTo>
                <a:lnTo>
                  <a:pt x="4591" y="5933"/>
                </a:lnTo>
                <a:lnTo>
                  <a:pt x="5246" y="5274"/>
                </a:lnTo>
                <a:lnTo>
                  <a:pt x="4591" y="5274"/>
                </a:lnTo>
                <a:lnTo>
                  <a:pt x="5246" y="4614"/>
                </a:lnTo>
                <a:lnTo>
                  <a:pt x="4591" y="4614"/>
                </a:lnTo>
                <a:lnTo>
                  <a:pt x="5246" y="3956"/>
                </a:lnTo>
                <a:lnTo>
                  <a:pt x="4591" y="3956"/>
                </a:lnTo>
                <a:lnTo>
                  <a:pt x="5246" y="3296"/>
                </a:lnTo>
                <a:lnTo>
                  <a:pt x="4591" y="3296"/>
                </a:lnTo>
                <a:lnTo>
                  <a:pt x="5246" y="2637"/>
                </a:lnTo>
                <a:lnTo>
                  <a:pt x="4591" y="2637"/>
                </a:lnTo>
                <a:lnTo>
                  <a:pt x="5246" y="1977"/>
                </a:lnTo>
                <a:lnTo>
                  <a:pt x="4591" y="1977"/>
                </a:lnTo>
                <a:lnTo>
                  <a:pt x="5246" y="1318"/>
                </a:lnTo>
                <a:lnTo>
                  <a:pt x="4591" y="1318"/>
                </a:lnTo>
                <a:lnTo>
                  <a:pt x="5246" y="660"/>
                </a:lnTo>
                <a:lnTo>
                  <a:pt x="4591" y="660"/>
                </a:lnTo>
                <a:lnTo>
                  <a:pt x="5246" y="0"/>
                </a:lnTo>
                <a:lnTo>
                  <a:pt x="5246" y="5933"/>
                </a:lnTo>
                <a:lnTo>
                  <a:pt x="5901" y="5274"/>
                </a:lnTo>
                <a:lnTo>
                  <a:pt x="5246" y="5274"/>
                </a:lnTo>
                <a:lnTo>
                  <a:pt x="5901" y="4614"/>
                </a:lnTo>
                <a:lnTo>
                  <a:pt x="5246" y="4614"/>
                </a:lnTo>
                <a:lnTo>
                  <a:pt x="5901" y="3956"/>
                </a:lnTo>
                <a:lnTo>
                  <a:pt x="5246" y="3956"/>
                </a:lnTo>
                <a:lnTo>
                  <a:pt x="5901" y="3296"/>
                </a:lnTo>
                <a:lnTo>
                  <a:pt x="5246" y="3296"/>
                </a:lnTo>
                <a:lnTo>
                  <a:pt x="5901" y="2637"/>
                </a:lnTo>
                <a:lnTo>
                  <a:pt x="5246" y="2637"/>
                </a:lnTo>
                <a:lnTo>
                  <a:pt x="5901" y="1977"/>
                </a:lnTo>
                <a:lnTo>
                  <a:pt x="5246" y="1977"/>
                </a:lnTo>
                <a:lnTo>
                  <a:pt x="5901" y="1318"/>
                </a:lnTo>
                <a:lnTo>
                  <a:pt x="5246" y="1318"/>
                </a:lnTo>
                <a:lnTo>
                  <a:pt x="5901" y="660"/>
                </a:lnTo>
                <a:lnTo>
                  <a:pt x="5246" y="660"/>
                </a:lnTo>
                <a:lnTo>
                  <a:pt x="5901" y="0"/>
                </a:lnTo>
                <a:lnTo>
                  <a:pt x="5901" y="5933"/>
                </a:lnTo>
                <a:lnTo>
                  <a:pt x="0" y="593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6248520" y="2873520"/>
            <a:ext cx="1873080" cy="1873080"/>
          </a:xfrm>
          <a:custGeom>
            <a:avLst/>
            <a:gdLst/>
            <a:ahLst/>
            <a:rect l="l" t="t" r="r" b="b"/>
            <a:pathLst>
              <a:path w="5902" h="5902">
                <a:moveTo>
                  <a:pt x="916" y="5088"/>
                </a:moveTo>
                <a:lnTo>
                  <a:pt x="804" y="4977"/>
                </a:lnTo>
                <a:lnTo>
                  <a:pt x="700" y="4861"/>
                </a:lnTo>
                <a:lnTo>
                  <a:pt x="604" y="4741"/>
                </a:lnTo>
                <a:lnTo>
                  <a:pt x="515" y="4618"/>
                </a:lnTo>
                <a:lnTo>
                  <a:pt x="433" y="4491"/>
                </a:lnTo>
                <a:lnTo>
                  <a:pt x="358" y="4361"/>
                </a:lnTo>
                <a:lnTo>
                  <a:pt x="290" y="4229"/>
                </a:lnTo>
                <a:lnTo>
                  <a:pt x="229" y="4093"/>
                </a:lnTo>
                <a:lnTo>
                  <a:pt x="175" y="3956"/>
                </a:lnTo>
                <a:lnTo>
                  <a:pt x="129" y="3816"/>
                </a:lnTo>
                <a:lnTo>
                  <a:pt x="89" y="3674"/>
                </a:lnTo>
                <a:lnTo>
                  <a:pt x="57" y="3531"/>
                </a:lnTo>
                <a:lnTo>
                  <a:pt x="32" y="3388"/>
                </a:lnTo>
                <a:lnTo>
                  <a:pt x="14" y="3242"/>
                </a:lnTo>
                <a:lnTo>
                  <a:pt x="4" y="3097"/>
                </a:lnTo>
                <a:lnTo>
                  <a:pt x="0" y="2951"/>
                </a:lnTo>
                <a:lnTo>
                  <a:pt x="4" y="2805"/>
                </a:lnTo>
                <a:lnTo>
                  <a:pt x="14" y="2660"/>
                </a:lnTo>
                <a:lnTo>
                  <a:pt x="32" y="2514"/>
                </a:lnTo>
                <a:lnTo>
                  <a:pt x="57" y="2371"/>
                </a:lnTo>
                <a:lnTo>
                  <a:pt x="89" y="2228"/>
                </a:lnTo>
                <a:lnTo>
                  <a:pt x="129" y="2086"/>
                </a:lnTo>
                <a:lnTo>
                  <a:pt x="175" y="1946"/>
                </a:lnTo>
                <a:lnTo>
                  <a:pt x="229" y="1809"/>
                </a:lnTo>
                <a:lnTo>
                  <a:pt x="290" y="1673"/>
                </a:lnTo>
                <a:lnTo>
                  <a:pt x="358" y="1541"/>
                </a:lnTo>
                <a:lnTo>
                  <a:pt x="433" y="1411"/>
                </a:lnTo>
                <a:lnTo>
                  <a:pt x="515" y="1284"/>
                </a:lnTo>
                <a:lnTo>
                  <a:pt x="604" y="1161"/>
                </a:lnTo>
                <a:lnTo>
                  <a:pt x="700" y="1041"/>
                </a:lnTo>
                <a:lnTo>
                  <a:pt x="804" y="925"/>
                </a:lnTo>
                <a:lnTo>
                  <a:pt x="916" y="814"/>
                </a:lnTo>
                <a:lnTo>
                  <a:pt x="914" y="816"/>
                </a:lnTo>
                <a:lnTo>
                  <a:pt x="916" y="815"/>
                </a:lnTo>
                <a:lnTo>
                  <a:pt x="916" y="814"/>
                </a:lnTo>
                <a:lnTo>
                  <a:pt x="860" y="941"/>
                </a:lnTo>
                <a:lnTo>
                  <a:pt x="807" y="1070"/>
                </a:lnTo>
                <a:lnTo>
                  <a:pt x="713" y="1330"/>
                </a:lnTo>
                <a:lnTo>
                  <a:pt x="673" y="1461"/>
                </a:lnTo>
                <a:lnTo>
                  <a:pt x="634" y="1594"/>
                </a:lnTo>
                <a:lnTo>
                  <a:pt x="600" y="1727"/>
                </a:lnTo>
                <a:lnTo>
                  <a:pt x="570" y="1862"/>
                </a:lnTo>
                <a:lnTo>
                  <a:pt x="542" y="1996"/>
                </a:lnTo>
                <a:lnTo>
                  <a:pt x="519" y="2131"/>
                </a:lnTo>
                <a:lnTo>
                  <a:pt x="499" y="2267"/>
                </a:lnTo>
                <a:lnTo>
                  <a:pt x="483" y="2403"/>
                </a:lnTo>
                <a:lnTo>
                  <a:pt x="470" y="2540"/>
                </a:lnTo>
                <a:lnTo>
                  <a:pt x="461" y="2677"/>
                </a:lnTo>
                <a:lnTo>
                  <a:pt x="455" y="2814"/>
                </a:lnTo>
                <a:lnTo>
                  <a:pt x="454" y="2951"/>
                </a:lnTo>
                <a:lnTo>
                  <a:pt x="455" y="3088"/>
                </a:lnTo>
                <a:lnTo>
                  <a:pt x="461" y="3225"/>
                </a:lnTo>
                <a:lnTo>
                  <a:pt x="470" y="3362"/>
                </a:lnTo>
                <a:lnTo>
                  <a:pt x="483" y="3499"/>
                </a:lnTo>
                <a:lnTo>
                  <a:pt x="499" y="3635"/>
                </a:lnTo>
                <a:lnTo>
                  <a:pt x="519" y="3771"/>
                </a:lnTo>
                <a:lnTo>
                  <a:pt x="542" y="3906"/>
                </a:lnTo>
                <a:lnTo>
                  <a:pt x="570" y="4040"/>
                </a:lnTo>
                <a:lnTo>
                  <a:pt x="600" y="4175"/>
                </a:lnTo>
                <a:lnTo>
                  <a:pt x="634" y="4308"/>
                </a:lnTo>
                <a:lnTo>
                  <a:pt x="673" y="4441"/>
                </a:lnTo>
                <a:lnTo>
                  <a:pt x="713" y="4572"/>
                </a:lnTo>
                <a:lnTo>
                  <a:pt x="807" y="4832"/>
                </a:lnTo>
                <a:lnTo>
                  <a:pt x="916" y="5088"/>
                </a:lnTo>
                <a:close/>
                <a:moveTo>
                  <a:pt x="1947" y="5727"/>
                </a:moveTo>
                <a:lnTo>
                  <a:pt x="1836" y="5684"/>
                </a:lnTo>
                <a:lnTo>
                  <a:pt x="1727" y="5637"/>
                </a:lnTo>
                <a:lnTo>
                  <a:pt x="1621" y="5586"/>
                </a:lnTo>
                <a:lnTo>
                  <a:pt x="1516" y="5530"/>
                </a:lnTo>
                <a:lnTo>
                  <a:pt x="1442" y="5378"/>
                </a:lnTo>
                <a:lnTo>
                  <a:pt x="1374" y="5224"/>
                </a:lnTo>
                <a:lnTo>
                  <a:pt x="1309" y="5068"/>
                </a:lnTo>
                <a:lnTo>
                  <a:pt x="1249" y="4910"/>
                </a:lnTo>
                <a:lnTo>
                  <a:pt x="1195" y="4752"/>
                </a:lnTo>
                <a:lnTo>
                  <a:pt x="1146" y="4593"/>
                </a:lnTo>
                <a:lnTo>
                  <a:pt x="1100" y="4432"/>
                </a:lnTo>
                <a:lnTo>
                  <a:pt x="1060" y="4269"/>
                </a:lnTo>
                <a:lnTo>
                  <a:pt x="1024" y="4107"/>
                </a:lnTo>
                <a:lnTo>
                  <a:pt x="993" y="3943"/>
                </a:lnTo>
                <a:lnTo>
                  <a:pt x="967" y="3779"/>
                </a:lnTo>
                <a:lnTo>
                  <a:pt x="946" y="3613"/>
                </a:lnTo>
                <a:lnTo>
                  <a:pt x="929" y="3449"/>
                </a:lnTo>
                <a:lnTo>
                  <a:pt x="917" y="3283"/>
                </a:lnTo>
                <a:lnTo>
                  <a:pt x="910" y="3117"/>
                </a:lnTo>
                <a:lnTo>
                  <a:pt x="908" y="2951"/>
                </a:lnTo>
                <a:lnTo>
                  <a:pt x="910" y="2785"/>
                </a:lnTo>
                <a:lnTo>
                  <a:pt x="918" y="2619"/>
                </a:lnTo>
                <a:lnTo>
                  <a:pt x="929" y="2453"/>
                </a:lnTo>
                <a:lnTo>
                  <a:pt x="946" y="2289"/>
                </a:lnTo>
                <a:lnTo>
                  <a:pt x="967" y="2123"/>
                </a:lnTo>
                <a:lnTo>
                  <a:pt x="994" y="1959"/>
                </a:lnTo>
                <a:lnTo>
                  <a:pt x="1025" y="1795"/>
                </a:lnTo>
                <a:lnTo>
                  <a:pt x="1060" y="1633"/>
                </a:lnTo>
                <a:lnTo>
                  <a:pt x="1101" y="1470"/>
                </a:lnTo>
                <a:lnTo>
                  <a:pt x="1146" y="1309"/>
                </a:lnTo>
                <a:lnTo>
                  <a:pt x="1196" y="1150"/>
                </a:lnTo>
                <a:lnTo>
                  <a:pt x="1251" y="992"/>
                </a:lnTo>
                <a:lnTo>
                  <a:pt x="1310" y="834"/>
                </a:lnTo>
                <a:lnTo>
                  <a:pt x="1375" y="678"/>
                </a:lnTo>
                <a:lnTo>
                  <a:pt x="1443" y="524"/>
                </a:lnTo>
                <a:lnTo>
                  <a:pt x="1517" y="372"/>
                </a:lnTo>
                <a:lnTo>
                  <a:pt x="1621" y="316"/>
                </a:lnTo>
                <a:lnTo>
                  <a:pt x="1727" y="265"/>
                </a:lnTo>
                <a:lnTo>
                  <a:pt x="1836" y="219"/>
                </a:lnTo>
                <a:lnTo>
                  <a:pt x="1946" y="176"/>
                </a:lnTo>
                <a:lnTo>
                  <a:pt x="1875" y="342"/>
                </a:lnTo>
                <a:lnTo>
                  <a:pt x="1809" y="510"/>
                </a:lnTo>
                <a:lnTo>
                  <a:pt x="1747" y="678"/>
                </a:lnTo>
                <a:lnTo>
                  <a:pt x="1690" y="848"/>
                </a:lnTo>
                <a:lnTo>
                  <a:pt x="1638" y="1019"/>
                </a:lnTo>
                <a:lnTo>
                  <a:pt x="1590" y="1192"/>
                </a:lnTo>
                <a:lnTo>
                  <a:pt x="1547" y="1365"/>
                </a:lnTo>
                <a:lnTo>
                  <a:pt x="1508" y="1539"/>
                </a:lnTo>
                <a:lnTo>
                  <a:pt x="1474" y="1714"/>
                </a:lnTo>
                <a:lnTo>
                  <a:pt x="1444" y="1889"/>
                </a:lnTo>
                <a:lnTo>
                  <a:pt x="1419" y="2066"/>
                </a:lnTo>
                <a:lnTo>
                  <a:pt x="1398" y="2243"/>
                </a:lnTo>
                <a:lnTo>
                  <a:pt x="1382" y="2419"/>
                </a:lnTo>
                <a:lnTo>
                  <a:pt x="1371" y="2597"/>
                </a:lnTo>
                <a:lnTo>
                  <a:pt x="1364" y="2773"/>
                </a:lnTo>
                <a:lnTo>
                  <a:pt x="1362" y="2951"/>
                </a:lnTo>
                <a:lnTo>
                  <a:pt x="1364" y="3129"/>
                </a:lnTo>
                <a:lnTo>
                  <a:pt x="1371" y="3306"/>
                </a:lnTo>
                <a:lnTo>
                  <a:pt x="1382" y="3483"/>
                </a:lnTo>
                <a:lnTo>
                  <a:pt x="1398" y="3661"/>
                </a:lnTo>
                <a:lnTo>
                  <a:pt x="1420" y="3837"/>
                </a:lnTo>
                <a:lnTo>
                  <a:pt x="1444" y="4013"/>
                </a:lnTo>
                <a:lnTo>
                  <a:pt x="1474" y="4188"/>
                </a:lnTo>
                <a:lnTo>
                  <a:pt x="1508" y="4364"/>
                </a:lnTo>
                <a:lnTo>
                  <a:pt x="1547" y="4537"/>
                </a:lnTo>
                <a:lnTo>
                  <a:pt x="1591" y="4710"/>
                </a:lnTo>
                <a:lnTo>
                  <a:pt x="1639" y="4883"/>
                </a:lnTo>
                <a:lnTo>
                  <a:pt x="1691" y="5054"/>
                </a:lnTo>
                <a:lnTo>
                  <a:pt x="1748" y="5224"/>
                </a:lnTo>
                <a:lnTo>
                  <a:pt x="1810" y="5393"/>
                </a:lnTo>
                <a:lnTo>
                  <a:pt x="1877" y="5561"/>
                </a:lnTo>
                <a:lnTo>
                  <a:pt x="1947" y="5727"/>
                </a:lnTo>
                <a:close/>
                <a:moveTo>
                  <a:pt x="2569" y="5878"/>
                </a:moveTo>
                <a:lnTo>
                  <a:pt x="2426" y="5855"/>
                </a:lnTo>
                <a:lnTo>
                  <a:pt x="2282" y="5825"/>
                </a:lnTo>
                <a:lnTo>
                  <a:pt x="2225" y="5650"/>
                </a:lnTo>
                <a:lnTo>
                  <a:pt x="2173" y="5474"/>
                </a:lnTo>
                <a:lnTo>
                  <a:pt x="2124" y="5297"/>
                </a:lnTo>
                <a:lnTo>
                  <a:pt x="2078" y="5119"/>
                </a:lnTo>
                <a:lnTo>
                  <a:pt x="2036" y="4941"/>
                </a:lnTo>
                <a:lnTo>
                  <a:pt x="1997" y="4763"/>
                </a:lnTo>
                <a:lnTo>
                  <a:pt x="1963" y="4583"/>
                </a:lnTo>
                <a:lnTo>
                  <a:pt x="1932" y="4403"/>
                </a:lnTo>
                <a:lnTo>
                  <a:pt x="1881" y="4041"/>
                </a:lnTo>
                <a:lnTo>
                  <a:pt x="1861" y="3861"/>
                </a:lnTo>
                <a:lnTo>
                  <a:pt x="1844" y="3679"/>
                </a:lnTo>
                <a:lnTo>
                  <a:pt x="1832" y="3497"/>
                </a:lnTo>
                <a:lnTo>
                  <a:pt x="1822" y="3315"/>
                </a:lnTo>
                <a:lnTo>
                  <a:pt x="1817" y="3133"/>
                </a:lnTo>
                <a:lnTo>
                  <a:pt x="1816" y="2951"/>
                </a:lnTo>
                <a:lnTo>
                  <a:pt x="1818" y="2769"/>
                </a:lnTo>
                <a:lnTo>
                  <a:pt x="1823" y="2587"/>
                </a:lnTo>
                <a:lnTo>
                  <a:pt x="1844" y="2223"/>
                </a:lnTo>
                <a:lnTo>
                  <a:pt x="1862" y="2041"/>
                </a:lnTo>
                <a:lnTo>
                  <a:pt x="1882" y="1861"/>
                </a:lnTo>
                <a:lnTo>
                  <a:pt x="1932" y="1499"/>
                </a:lnTo>
                <a:lnTo>
                  <a:pt x="1964" y="1319"/>
                </a:lnTo>
                <a:lnTo>
                  <a:pt x="1999" y="1139"/>
                </a:lnTo>
                <a:lnTo>
                  <a:pt x="2037" y="961"/>
                </a:lnTo>
                <a:lnTo>
                  <a:pt x="2079" y="782"/>
                </a:lnTo>
                <a:lnTo>
                  <a:pt x="2125" y="604"/>
                </a:lnTo>
                <a:lnTo>
                  <a:pt x="2174" y="427"/>
                </a:lnTo>
                <a:lnTo>
                  <a:pt x="2228" y="251"/>
                </a:lnTo>
                <a:lnTo>
                  <a:pt x="2284" y="75"/>
                </a:lnTo>
                <a:lnTo>
                  <a:pt x="2426" y="47"/>
                </a:lnTo>
                <a:lnTo>
                  <a:pt x="2571" y="24"/>
                </a:lnTo>
                <a:lnTo>
                  <a:pt x="2500" y="387"/>
                </a:lnTo>
                <a:lnTo>
                  <a:pt x="2439" y="751"/>
                </a:lnTo>
                <a:lnTo>
                  <a:pt x="2388" y="1116"/>
                </a:lnTo>
                <a:lnTo>
                  <a:pt x="2345" y="1482"/>
                </a:lnTo>
                <a:lnTo>
                  <a:pt x="2312" y="1849"/>
                </a:lnTo>
                <a:lnTo>
                  <a:pt x="2289" y="2216"/>
                </a:lnTo>
                <a:lnTo>
                  <a:pt x="2275" y="2583"/>
                </a:lnTo>
                <a:lnTo>
                  <a:pt x="2270" y="2951"/>
                </a:lnTo>
                <a:lnTo>
                  <a:pt x="2275" y="3319"/>
                </a:lnTo>
                <a:lnTo>
                  <a:pt x="2289" y="3686"/>
                </a:lnTo>
                <a:lnTo>
                  <a:pt x="2312" y="4053"/>
                </a:lnTo>
                <a:lnTo>
                  <a:pt x="2344" y="4420"/>
                </a:lnTo>
                <a:lnTo>
                  <a:pt x="2387" y="4786"/>
                </a:lnTo>
                <a:lnTo>
                  <a:pt x="2438" y="5151"/>
                </a:lnTo>
                <a:lnTo>
                  <a:pt x="2498" y="5515"/>
                </a:lnTo>
                <a:lnTo>
                  <a:pt x="2569" y="5878"/>
                </a:lnTo>
                <a:close/>
                <a:moveTo>
                  <a:pt x="3075" y="5900"/>
                </a:moveTo>
                <a:lnTo>
                  <a:pt x="2951" y="5902"/>
                </a:lnTo>
                <a:lnTo>
                  <a:pt x="2828" y="5900"/>
                </a:lnTo>
                <a:lnTo>
                  <a:pt x="2803" y="5532"/>
                </a:lnTo>
                <a:lnTo>
                  <a:pt x="2783" y="5164"/>
                </a:lnTo>
                <a:lnTo>
                  <a:pt x="2750" y="4427"/>
                </a:lnTo>
                <a:lnTo>
                  <a:pt x="2731" y="3688"/>
                </a:lnTo>
                <a:lnTo>
                  <a:pt x="2724" y="2951"/>
                </a:lnTo>
                <a:lnTo>
                  <a:pt x="2731" y="2214"/>
                </a:lnTo>
                <a:lnTo>
                  <a:pt x="2750" y="1475"/>
                </a:lnTo>
                <a:lnTo>
                  <a:pt x="2782" y="738"/>
                </a:lnTo>
                <a:lnTo>
                  <a:pt x="2827" y="2"/>
                </a:lnTo>
                <a:lnTo>
                  <a:pt x="2951" y="0"/>
                </a:lnTo>
                <a:lnTo>
                  <a:pt x="3074" y="2"/>
                </a:lnTo>
                <a:lnTo>
                  <a:pt x="3119" y="738"/>
                </a:lnTo>
                <a:lnTo>
                  <a:pt x="3152" y="1475"/>
                </a:lnTo>
                <a:lnTo>
                  <a:pt x="3171" y="2214"/>
                </a:lnTo>
                <a:lnTo>
                  <a:pt x="3178" y="2951"/>
                </a:lnTo>
                <a:lnTo>
                  <a:pt x="3171" y="3688"/>
                </a:lnTo>
                <a:lnTo>
                  <a:pt x="3152" y="4427"/>
                </a:lnTo>
                <a:lnTo>
                  <a:pt x="3120" y="5164"/>
                </a:lnTo>
                <a:lnTo>
                  <a:pt x="3099" y="5532"/>
                </a:lnTo>
                <a:lnTo>
                  <a:pt x="3075" y="5900"/>
                </a:lnTo>
                <a:close/>
                <a:moveTo>
                  <a:pt x="3618" y="5827"/>
                </a:moveTo>
                <a:lnTo>
                  <a:pt x="3476" y="5855"/>
                </a:lnTo>
                <a:lnTo>
                  <a:pt x="3331" y="5878"/>
                </a:lnTo>
                <a:lnTo>
                  <a:pt x="3402" y="5515"/>
                </a:lnTo>
                <a:lnTo>
                  <a:pt x="3463" y="5151"/>
                </a:lnTo>
                <a:lnTo>
                  <a:pt x="3514" y="4786"/>
                </a:lnTo>
                <a:lnTo>
                  <a:pt x="3557" y="4420"/>
                </a:lnTo>
                <a:lnTo>
                  <a:pt x="3590" y="4053"/>
                </a:lnTo>
                <a:lnTo>
                  <a:pt x="3613" y="3686"/>
                </a:lnTo>
                <a:lnTo>
                  <a:pt x="3627" y="3319"/>
                </a:lnTo>
                <a:lnTo>
                  <a:pt x="3633" y="2951"/>
                </a:lnTo>
                <a:lnTo>
                  <a:pt x="3627" y="2583"/>
                </a:lnTo>
                <a:lnTo>
                  <a:pt x="3613" y="2216"/>
                </a:lnTo>
                <a:lnTo>
                  <a:pt x="3590" y="1849"/>
                </a:lnTo>
                <a:lnTo>
                  <a:pt x="3558" y="1482"/>
                </a:lnTo>
                <a:lnTo>
                  <a:pt x="3515" y="1116"/>
                </a:lnTo>
                <a:lnTo>
                  <a:pt x="3464" y="751"/>
                </a:lnTo>
                <a:lnTo>
                  <a:pt x="3404" y="387"/>
                </a:lnTo>
                <a:lnTo>
                  <a:pt x="3333" y="24"/>
                </a:lnTo>
                <a:lnTo>
                  <a:pt x="3476" y="47"/>
                </a:lnTo>
                <a:lnTo>
                  <a:pt x="3620" y="77"/>
                </a:lnTo>
                <a:lnTo>
                  <a:pt x="3677" y="252"/>
                </a:lnTo>
                <a:lnTo>
                  <a:pt x="3729" y="428"/>
                </a:lnTo>
                <a:lnTo>
                  <a:pt x="3778" y="605"/>
                </a:lnTo>
                <a:lnTo>
                  <a:pt x="3824" y="783"/>
                </a:lnTo>
                <a:lnTo>
                  <a:pt x="3866" y="961"/>
                </a:lnTo>
                <a:lnTo>
                  <a:pt x="3905" y="1139"/>
                </a:lnTo>
                <a:lnTo>
                  <a:pt x="3939" y="1319"/>
                </a:lnTo>
                <a:lnTo>
                  <a:pt x="3970" y="1499"/>
                </a:lnTo>
                <a:lnTo>
                  <a:pt x="4021" y="1861"/>
                </a:lnTo>
                <a:lnTo>
                  <a:pt x="4041" y="2041"/>
                </a:lnTo>
                <a:lnTo>
                  <a:pt x="4058" y="2223"/>
                </a:lnTo>
                <a:lnTo>
                  <a:pt x="4070" y="2405"/>
                </a:lnTo>
                <a:lnTo>
                  <a:pt x="4080" y="2587"/>
                </a:lnTo>
                <a:lnTo>
                  <a:pt x="4085" y="2769"/>
                </a:lnTo>
                <a:lnTo>
                  <a:pt x="4086" y="2951"/>
                </a:lnTo>
                <a:lnTo>
                  <a:pt x="4084" y="3133"/>
                </a:lnTo>
                <a:lnTo>
                  <a:pt x="4079" y="3315"/>
                </a:lnTo>
                <a:lnTo>
                  <a:pt x="4058" y="3679"/>
                </a:lnTo>
                <a:lnTo>
                  <a:pt x="4040" y="3861"/>
                </a:lnTo>
                <a:lnTo>
                  <a:pt x="4020" y="4041"/>
                </a:lnTo>
                <a:lnTo>
                  <a:pt x="3970" y="4403"/>
                </a:lnTo>
                <a:lnTo>
                  <a:pt x="3938" y="4583"/>
                </a:lnTo>
                <a:lnTo>
                  <a:pt x="3903" y="4763"/>
                </a:lnTo>
                <a:lnTo>
                  <a:pt x="3865" y="4941"/>
                </a:lnTo>
                <a:lnTo>
                  <a:pt x="3823" y="5120"/>
                </a:lnTo>
                <a:lnTo>
                  <a:pt x="3777" y="5298"/>
                </a:lnTo>
                <a:lnTo>
                  <a:pt x="3728" y="5475"/>
                </a:lnTo>
                <a:lnTo>
                  <a:pt x="3618" y="5827"/>
                </a:lnTo>
                <a:close/>
                <a:moveTo>
                  <a:pt x="4385" y="5530"/>
                </a:moveTo>
                <a:lnTo>
                  <a:pt x="4281" y="5586"/>
                </a:lnTo>
                <a:lnTo>
                  <a:pt x="4175" y="5637"/>
                </a:lnTo>
                <a:lnTo>
                  <a:pt x="4066" y="5683"/>
                </a:lnTo>
                <a:lnTo>
                  <a:pt x="3956" y="5726"/>
                </a:lnTo>
                <a:lnTo>
                  <a:pt x="4027" y="5560"/>
                </a:lnTo>
                <a:lnTo>
                  <a:pt x="4093" y="5392"/>
                </a:lnTo>
                <a:lnTo>
                  <a:pt x="4155" y="5224"/>
                </a:lnTo>
                <a:lnTo>
                  <a:pt x="4212" y="5054"/>
                </a:lnTo>
                <a:lnTo>
                  <a:pt x="4264" y="4883"/>
                </a:lnTo>
                <a:lnTo>
                  <a:pt x="4312" y="4710"/>
                </a:lnTo>
                <a:lnTo>
                  <a:pt x="4355" y="4537"/>
                </a:lnTo>
                <a:lnTo>
                  <a:pt x="4394" y="4363"/>
                </a:lnTo>
                <a:lnTo>
                  <a:pt x="4428" y="4188"/>
                </a:lnTo>
                <a:lnTo>
                  <a:pt x="4458" y="4013"/>
                </a:lnTo>
                <a:lnTo>
                  <a:pt x="4483" y="3836"/>
                </a:lnTo>
                <a:lnTo>
                  <a:pt x="4504" y="3659"/>
                </a:lnTo>
                <a:lnTo>
                  <a:pt x="4520" y="3483"/>
                </a:lnTo>
                <a:lnTo>
                  <a:pt x="4531" y="3305"/>
                </a:lnTo>
                <a:lnTo>
                  <a:pt x="4538" y="3129"/>
                </a:lnTo>
                <a:lnTo>
                  <a:pt x="4540" y="2951"/>
                </a:lnTo>
                <a:lnTo>
                  <a:pt x="4538" y="2773"/>
                </a:lnTo>
                <a:lnTo>
                  <a:pt x="4531" y="2596"/>
                </a:lnTo>
                <a:lnTo>
                  <a:pt x="4520" y="2419"/>
                </a:lnTo>
                <a:lnTo>
                  <a:pt x="4504" y="2241"/>
                </a:lnTo>
                <a:lnTo>
                  <a:pt x="4482" y="2065"/>
                </a:lnTo>
                <a:lnTo>
                  <a:pt x="4458" y="1889"/>
                </a:lnTo>
                <a:lnTo>
                  <a:pt x="4428" y="1714"/>
                </a:lnTo>
                <a:lnTo>
                  <a:pt x="4394" y="1538"/>
                </a:lnTo>
                <a:lnTo>
                  <a:pt x="4355" y="1365"/>
                </a:lnTo>
                <a:lnTo>
                  <a:pt x="4311" y="1192"/>
                </a:lnTo>
                <a:lnTo>
                  <a:pt x="4263" y="1019"/>
                </a:lnTo>
                <a:lnTo>
                  <a:pt x="4211" y="848"/>
                </a:lnTo>
                <a:lnTo>
                  <a:pt x="4154" y="678"/>
                </a:lnTo>
                <a:lnTo>
                  <a:pt x="4092" y="509"/>
                </a:lnTo>
                <a:lnTo>
                  <a:pt x="4025" y="341"/>
                </a:lnTo>
                <a:lnTo>
                  <a:pt x="3955" y="175"/>
                </a:lnTo>
                <a:lnTo>
                  <a:pt x="4066" y="218"/>
                </a:lnTo>
                <a:lnTo>
                  <a:pt x="4175" y="265"/>
                </a:lnTo>
                <a:lnTo>
                  <a:pt x="4281" y="316"/>
                </a:lnTo>
                <a:lnTo>
                  <a:pt x="4386" y="372"/>
                </a:lnTo>
                <a:lnTo>
                  <a:pt x="4460" y="524"/>
                </a:lnTo>
                <a:lnTo>
                  <a:pt x="4528" y="678"/>
                </a:lnTo>
                <a:lnTo>
                  <a:pt x="4593" y="834"/>
                </a:lnTo>
                <a:lnTo>
                  <a:pt x="4653" y="992"/>
                </a:lnTo>
                <a:lnTo>
                  <a:pt x="4707" y="1150"/>
                </a:lnTo>
                <a:lnTo>
                  <a:pt x="4756" y="1309"/>
                </a:lnTo>
                <a:lnTo>
                  <a:pt x="4802" y="1470"/>
                </a:lnTo>
                <a:lnTo>
                  <a:pt x="4842" y="1633"/>
                </a:lnTo>
                <a:lnTo>
                  <a:pt x="4878" y="1795"/>
                </a:lnTo>
                <a:lnTo>
                  <a:pt x="4909" y="1959"/>
                </a:lnTo>
                <a:lnTo>
                  <a:pt x="4935" y="2123"/>
                </a:lnTo>
                <a:lnTo>
                  <a:pt x="4956" y="2289"/>
                </a:lnTo>
                <a:lnTo>
                  <a:pt x="4973" y="2453"/>
                </a:lnTo>
                <a:lnTo>
                  <a:pt x="4985" y="2619"/>
                </a:lnTo>
                <a:lnTo>
                  <a:pt x="4992" y="2785"/>
                </a:lnTo>
                <a:lnTo>
                  <a:pt x="4994" y="2951"/>
                </a:lnTo>
                <a:lnTo>
                  <a:pt x="4992" y="3117"/>
                </a:lnTo>
                <a:lnTo>
                  <a:pt x="4984" y="3283"/>
                </a:lnTo>
                <a:lnTo>
                  <a:pt x="4973" y="3449"/>
                </a:lnTo>
                <a:lnTo>
                  <a:pt x="4956" y="3613"/>
                </a:lnTo>
                <a:lnTo>
                  <a:pt x="4935" y="3779"/>
                </a:lnTo>
                <a:lnTo>
                  <a:pt x="4908" y="3943"/>
                </a:lnTo>
                <a:lnTo>
                  <a:pt x="4877" y="4107"/>
                </a:lnTo>
                <a:lnTo>
                  <a:pt x="4842" y="4269"/>
                </a:lnTo>
                <a:lnTo>
                  <a:pt x="4801" y="4432"/>
                </a:lnTo>
                <a:lnTo>
                  <a:pt x="4756" y="4593"/>
                </a:lnTo>
                <a:lnTo>
                  <a:pt x="4706" y="4752"/>
                </a:lnTo>
                <a:lnTo>
                  <a:pt x="4651" y="4910"/>
                </a:lnTo>
                <a:lnTo>
                  <a:pt x="4592" y="5068"/>
                </a:lnTo>
                <a:lnTo>
                  <a:pt x="4527" y="5224"/>
                </a:lnTo>
                <a:lnTo>
                  <a:pt x="4459" y="5378"/>
                </a:lnTo>
                <a:lnTo>
                  <a:pt x="4385" y="5530"/>
                </a:lnTo>
                <a:close/>
                <a:moveTo>
                  <a:pt x="4986" y="814"/>
                </a:moveTo>
                <a:lnTo>
                  <a:pt x="5098" y="925"/>
                </a:lnTo>
                <a:lnTo>
                  <a:pt x="5202" y="1041"/>
                </a:lnTo>
                <a:lnTo>
                  <a:pt x="5298" y="1161"/>
                </a:lnTo>
                <a:lnTo>
                  <a:pt x="5387" y="1284"/>
                </a:lnTo>
                <a:lnTo>
                  <a:pt x="5469" y="1411"/>
                </a:lnTo>
                <a:lnTo>
                  <a:pt x="5544" y="1541"/>
                </a:lnTo>
                <a:lnTo>
                  <a:pt x="5612" y="1673"/>
                </a:lnTo>
                <a:lnTo>
                  <a:pt x="5673" y="1809"/>
                </a:lnTo>
                <a:lnTo>
                  <a:pt x="5727" y="1946"/>
                </a:lnTo>
                <a:lnTo>
                  <a:pt x="5773" y="2086"/>
                </a:lnTo>
                <a:lnTo>
                  <a:pt x="5813" y="2228"/>
                </a:lnTo>
                <a:lnTo>
                  <a:pt x="5845" y="2371"/>
                </a:lnTo>
                <a:lnTo>
                  <a:pt x="5870" y="2514"/>
                </a:lnTo>
                <a:lnTo>
                  <a:pt x="5888" y="2660"/>
                </a:lnTo>
                <a:lnTo>
                  <a:pt x="5898" y="2805"/>
                </a:lnTo>
                <a:lnTo>
                  <a:pt x="5902" y="2951"/>
                </a:lnTo>
                <a:lnTo>
                  <a:pt x="5898" y="3097"/>
                </a:lnTo>
                <a:lnTo>
                  <a:pt x="5888" y="3242"/>
                </a:lnTo>
                <a:lnTo>
                  <a:pt x="5870" y="3388"/>
                </a:lnTo>
                <a:lnTo>
                  <a:pt x="5845" y="3531"/>
                </a:lnTo>
                <a:lnTo>
                  <a:pt x="5813" y="3674"/>
                </a:lnTo>
                <a:lnTo>
                  <a:pt x="5773" y="3816"/>
                </a:lnTo>
                <a:lnTo>
                  <a:pt x="5727" y="3956"/>
                </a:lnTo>
                <a:lnTo>
                  <a:pt x="5673" y="4093"/>
                </a:lnTo>
                <a:lnTo>
                  <a:pt x="5612" y="4229"/>
                </a:lnTo>
                <a:lnTo>
                  <a:pt x="5544" y="4361"/>
                </a:lnTo>
                <a:lnTo>
                  <a:pt x="5469" y="4491"/>
                </a:lnTo>
                <a:lnTo>
                  <a:pt x="5387" y="4618"/>
                </a:lnTo>
                <a:lnTo>
                  <a:pt x="5298" y="4741"/>
                </a:lnTo>
                <a:lnTo>
                  <a:pt x="5202" y="4861"/>
                </a:lnTo>
                <a:lnTo>
                  <a:pt x="5098" y="4977"/>
                </a:lnTo>
                <a:lnTo>
                  <a:pt x="4986" y="5088"/>
                </a:lnTo>
                <a:lnTo>
                  <a:pt x="5095" y="4832"/>
                </a:lnTo>
                <a:lnTo>
                  <a:pt x="5189" y="4572"/>
                </a:lnTo>
                <a:lnTo>
                  <a:pt x="5229" y="4441"/>
                </a:lnTo>
                <a:lnTo>
                  <a:pt x="5268" y="4308"/>
                </a:lnTo>
                <a:lnTo>
                  <a:pt x="5302" y="4175"/>
                </a:lnTo>
                <a:lnTo>
                  <a:pt x="5332" y="4040"/>
                </a:lnTo>
                <a:lnTo>
                  <a:pt x="5360" y="3906"/>
                </a:lnTo>
                <a:lnTo>
                  <a:pt x="5383" y="3771"/>
                </a:lnTo>
                <a:lnTo>
                  <a:pt x="5403" y="3635"/>
                </a:lnTo>
                <a:lnTo>
                  <a:pt x="5419" y="3499"/>
                </a:lnTo>
                <a:lnTo>
                  <a:pt x="5432" y="3362"/>
                </a:lnTo>
                <a:lnTo>
                  <a:pt x="5441" y="3225"/>
                </a:lnTo>
                <a:lnTo>
                  <a:pt x="5447" y="3088"/>
                </a:lnTo>
                <a:lnTo>
                  <a:pt x="5448" y="2951"/>
                </a:lnTo>
                <a:lnTo>
                  <a:pt x="5447" y="2814"/>
                </a:lnTo>
                <a:lnTo>
                  <a:pt x="5441" y="2677"/>
                </a:lnTo>
                <a:lnTo>
                  <a:pt x="5432" y="2540"/>
                </a:lnTo>
                <a:lnTo>
                  <a:pt x="5419" y="2403"/>
                </a:lnTo>
                <a:lnTo>
                  <a:pt x="5403" y="2267"/>
                </a:lnTo>
                <a:lnTo>
                  <a:pt x="5383" y="2131"/>
                </a:lnTo>
                <a:lnTo>
                  <a:pt x="5360" y="1996"/>
                </a:lnTo>
                <a:lnTo>
                  <a:pt x="5332" y="1862"/>
                </a:lnTo>
                <a:lnTo>
                  <a:pt x="5302" y="1727"/>
                </a:lnTo>
                <a:lnTo>
                  <a:pt x="5268" y="1594"/>
                </a:lnTo>
                <a:lnTo>
                  <a:pt x="5229" y="1461"/>
                </a:lnTo>
                <a:lnTo>
                  <a:pt x="5189" y="1330"/>
                </a:lnTo>
                <a:lnTo>
                  <a:pt x="5095" y="1070"/>
                </a:lnTo>
                <a:lnTo>
                  <a:pt x="4986" y="814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8" name=""/>
          <p:cNvGrpSpPr/>
          <p:nvPr/>
        </p:nvGrpSpPr>
        <p:grpSpPr>
          <a:xfrm>
            <a:off x="5867280" y="3247920"/>
            <a:ext cx="2366640" cy="1122120"/>
            <a:chOff x="5867280" y="3247920"/>
            <a:chExt cx="2366640" cy="1122120"/>
          </a:xfrm>
        </p:grpSpPr>
        <p:sp>
          <p:nvSpPr>
            <p:cNvPr id="3269" name=""/>
            <p:cNvSpPr/>
            <p:nvPr/>
          </p:nvSpPr>
          <p:spPr>
            <a:xfrm flipH="1">
              <a:off x="6904080" y="3655440"/>
              <a:ext cx="1018080" cy="226440"/>
            </a:xfrm>
            <a:custGeom>
              <a:avLst/>
              <a:gdLst/>
              <a:ahLst/>
              <a:rect l="l" t="t" r="r" b="b"/>
              <a:pathLst>
                <a:path w="2313" h="566">
                  <a:moveTo>
                    <a:pt x="2313" y="281"/>
                  </a:moveTo>
                  <a:lnTo>
                    <a:pt x="2071" y="0"/>
                  </a:lnTo>
                  <a:lnTo>
                    <a:pt x="1402" y="21"/>
                  </a:lnTo>
                  <a:lnTo>
                    <a:pt x="1391" y="20"/>
                  </a:lnTo>
                  <a:lnTo>
                    <a:pt x="1392" y="44"/>
                  </a:lnTo>
                  <a:lnTo>
                    <a:pt x="1391" y="71"/>
                  </a:lnTo>
                  <a:lnTo>
                    <a:pt x="1386" y="96"/>
                  </a:lnTo>
                  <a:lnTo>
                    <a:pt x="1380" y="124"/>
                  </a:lnTo>
                  <a:lnTo>
                    <a:pt x="1370" y="152"/>
                  </a:lnTo>
                  <a:lnTo>
                    <a:pt x="1358" y="177"/>
                  </a:lnTo>
                  <a:lnTo>
                    <a:pt x="1343" y="203"/>
                  </a:lnTo>
                  <a:lnTo>
                    <a:pt x="1323" y="230"/>
                  </a:lnTo>
                  <a:lnTo>
                    <a:pt x="1299" y="253"/>
                  </a:lnTo>
                  <a:lnTo>
                    <a:pt x="1271" y="274"/>
                  </a:lnTo>
                  <a:lnTo>
                    <a:pt x="1239" y="295"/>
                  </a:lnTo>
                  <a:lnTo>
                    <a:pt x="1203" y="313"/>
                  </a:lnTo>
                  <a:lnTo>
                    <a:pt x="1162" y="327"/>
                  </a:lnTo>
                  <a:lnTo>
                    <a:pt x="1114" y="337"/>
                  </a:lnTo>
                  <a:lnTo>
                    <a:pt x="1060" y="343"/>
                  </a:lnTo>
                  <a:lnTo>
                    <a:pt x="1001" y="345"/>
                  </a:lnTo>
                  <a:lnTo>
                    <a:pt x="872" y="347"/>
                  </a:lnTo>
                  <a:lnTo>
                    <a:pt x="742" y="355"/>
                  </a:lnTo>
                  <a:lnTo>
                    <a:pt x="614" y="364"/>
                  </a:lnTo>
                  <a:lnTo>
                    <a:pt x="485" y="376"/>
                  </a:lnTo>
                  <a:lnTo>
                    <a:pt x="365" y="391"/>
                  </a:lnTo>
                  <a:lnTo>
                    <a:pt x="265" y="405"/>
                  </a:lnTo>
                  <a:lnTo>
                    <a:pt x="157" y="419"/>
                  </a:lnTo>
                  <a:lnTo>
                    <a:pt x="0" y="445"/>
                  </a:lnTo>
                  <a:lnTo>
                    <a:pt x="174" y="465"/>
                  </a:lnTo>
                  <a:lnTo>
                    <a:pt x="358" y="484"/>
                  </a:lnTo>
                  <a:lnTo>
                    <a:pt x="550" y="502"/>
                  </a:lnTo>
                  <a:lnTo>
                    <a:pt x="747" y="521"/>
                  </a:lnTo>
                  <a:lnTo>
                    <a:pt x="946" y="533"/>
                  </a:lnTo>
                  <a:lnTo>
                    <a:pt x="1145" y="547"/>
                  </a:lnTo>
                  <a:lnTo>
                    <a:pt x="1343" y="551"/>
                  </a:lnTo>
                  <a:lnTo>
                    <a:pt x="1440" y="555"/>
                  </a:lnTo>
                  <a:lnTo>
                    <a:pt x="1538" y="555"/>
                  </a:lnTo>
                  <a:lnTo>
                    <a:pt x="1633" y="555"/>
                  </a:lnTo>
                  <a:lnTo>
                    <a:pt x="1939" y="566"/>
                  </a:lnTo>
                  <a:lnTo>
                    <a:pt x="2065" y="566"/>
                  </a:lnTo>
                  <a:lnTo>
                    <a:pt x="2313" y="28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H="1">
              <a:off x="5866920" y="3247920"/>
              <a:ext cx="1143720" cy="520200"/>
            </a:xfrm>
            <a:custGeom>
              <a:avLst/>
              <a:gdLst/>
              <a:ahLst/>
              <a:rect l="l" t="t" r="r" b="b"/>
              <a:pathLst>
                <a:path w="2598" h="1300">
                  <a:moveTo>
                    <a:pt x="242" y="1300"/>
                  </a:moveTo>
                  <a:lnTo>
                    <a:pt x="307" y="1294"/>
                  </a:lnTo>
                  <a:lnTo>
                    <a:pt x="390" y="1288"/>
                  </a:lnTo>
                  <a:lnTo>
                    <a:pt x="482" y="1285"/>
                  </a:lnTo>
                  <a:lnTo>
                    <a:pt x="581" y="1284"/>
                  </a:lnTo>
                  <a:lnTo>
                    <a:pt x="673" y="1282"/>
                  </a:lnTo>
                  <a:lnTo>
                    <a:pt x="756" y="1282"/>
                  </a:lnTo>
                  <a:lnTo>
                    <a:pt x="825" y="1282"/>
                  </a:lnTo>
                  <a:lnTo>
                    <a:pt x="870" y="1282"/>
                  </a:lnTo>
                  <a:lnTo>
                    <a:pt x="933" y="1272"/>
                  </a:lnTo>
                  <a:lnTo>
                    <a:pt x="996" y="1249"/>
                  </a:lnTo>
                  <a:lnTo>
                    <a:pt x="1046" y="1212"/>
                  </a:lnTo>
                  <a:lnTo>
                    <a:pt x="1065" y="1188"/>
                  </a:lnTo>
                  <a:lnTo>
                    <a:pt x="1093" y="1141"/>
                  </a:lnTo>
                  <a:lnTo>
                    <a:pt x="1127" y="1100"/>
                  </a:lnTo>
                  <a:lnTo>
                    <a:pt x="1163" y="1072"/>
                  </a:lnTo>
                  <a:lnTo>
                    <a:pt x="1199" y="1075"/>
                  </a:lnTo>
                  <a:lnTo>
                    <a:pt x="1217" y="1095"/>
                  </a:lnTo>
                  <a:lnTo>
                    <a:pt x="1232" y="1111"/>
                  </a:lnTo>
                  <a:lnTo>
                    <a:pt x="1266" y="1137"/>
                  </a:lnTo>
                  <a:lnTo>
                    <a:pt x="1315" y="1171"/>
                  </a:lnTo>
                  <a:lnTo>
                    <a:pt x="1383" y="1206"/>
                  </a:lnTo>
                  <a:lnTo>
                    <a:pt x="1472" y="1239"/>
                  </a:lnTo>
                  <a:lnTo>
                    <a:pt x="1585" y="1263"/>
                  </a:lnTo>
                  <a:lnTo>
                    <a:pt x="1717" y="1280"/>
                  </a:lnTo>
                  <a:lnTo>
                    <a:pt x="1882" y="1278"/>
                  </a:lnTo>
                  <a:lnTo>
                    <a:pt x="2047" y="1249"/>
                  </a:lnTo>
                  <a:lnTo>
                    <a:pt x="2194" y="1191"/>
                  </a:lnTo>
                  <a:lnTo>
                    <a:pt x="2322" y="1113"/>
                  </a:lnTo>
                  <a:lnTo>
                    <a:pt x="2429" y="1016"/>
                  </a:lnTo>
                  <a:lnTo>
                    <a:pt x="2512" y="905"/>
                  </a:lnTo>
                  <a:lnTo>
                    <a:pt x="2569" y="785"/>
                  </a:lnTo>
                  <a:lnTo>
                    <a:pt x="2598" y="662"/>
                  </a:lnTo>
                  <a:lnTo>
                    <a:pt x="2597" y="536"/>
                  </a:lnTo>
                  <a:lnTo>
                    <a:pt x="2561" y="419"/>
                  </a:lnTo>
                  <a:lnTo>
                    <a:pt x="2494" y="311"/>
                  </a:lnTo>
                  <a:lnTo>
                    <a:pt x="2401" y="215"/>
                  </a:lnTo>
                  <a:lnTo>
                    <a:pt x="2290" y="134"/>
                  </a:lnTo>
                  <a:lnTo>
                    <a:pt x="2164" y="70"/>
                  </a:lnTo>
                  <a:lnTo>
                    <a:pt x="2028" y="25"/>
                  </a:lnTo>
                  <a:lnTo>
                    <a:pt x="1894" y="3"/>
                  </a:lnTo>
                  <a:lnTo>
                    <a:pt x="1758" y="0"/>
                  </a:lnTo>
                  <a:lnTo>
                    <a:pt x="1634" y="16"/>
                  </a:lnTo>
                  <a:lnTo>
                    <a:pt x="1595" y="96"/>
                  </a:lnTo>
                  <a:lnTo>
                    <a:pt x="1596" y="158"/>
                  </a:lnTo>
                  <a:lnTo>
                    <a:pt x="1697" y="213"/>
                  </a:lnTo>
                  <a:lnTo>
                    <a:pt x="1805" y="203"/>
                  </a:lnTo>
                  <a:lnTo>
                    <a:pt x="1912" y="213"/>
                  </a:lnTo>
                  <a:lnTo>
                    <a:pt x="2011" y="237"/>
                  </a:lnTo>
                  <a:lnTo>
                    <a:pt x="2101" y="274"/>
                  </a:lnTo>
                  <a:lnTo>
                    <a:pt x="2180" y="324"/>
                  </a:lnTo>
                  <a:lnTo>
                    <a:pt x="2246" y="387"/>
                  </a:lnTo>
                  <a:lnTo>
                    <a:pt x="2296" y="458"/>
                  </a:lnTo>
                  <a:lnTo>
                    <a:pt x="2327" y="536"/>
                  </a:lnTo>
                  <a:lnTo>
                    <a:pt x="2338" y="620"/>
                  </a:lnTo>
                  <a:lnTo>
                    <a:pt x="2327" y="703"/>
                  </a:lnTo>
                  <a:lnTo>
                    <a:pt x="2296" y="782"/>
                  </a:lnTo>
                  <a:lnTo>
                    <a:pt x="2246" y="851"/>
                  </a:lnTo>
                  <a:lnTo>
                    <a:pt x="2180" y="914"/>
                  </a:lnTo>
                  <a:lnTo>
                    <a:pt x="2101" y="963"/>
                  </a:lnTo>
                  <a:lnTo>
                    <a:pt x="2011" y="1000"/>
                  </a:lnTo>
                  <a:lnTo>
                    <a:pt x="1912" y="1025"/>
                  </a:lnTo>
                  <a:lnTo>
                    <a:pt x="1805" y="1034"/>
                  </a:lnTo>
                  <a:lnTo>
                    <a:pt x="1697" y="1025"/>
                  </a:lnTo>
                  <a:lnTo>
                    <a:pt x="1597" y="1000"/>
                  </a:lnTo>
                  <a:lnTo>
                    <a:pt x="1506" y="963"/>
                  </a:lnTo>
                  <a:lnTo>
                    <a:pt x="1426" y="914"/>
                  </a:lnTo>
                  <a:lnTo>
                    <a:pt x="1361" y="851"/>
                  </a:lnTo>
                  <a:lnTo>
                    <a:pt x="1313" y="782"/>
                  </a:lnTo>
                  <a:lnTo>
                    <a:pt x="1280" y="703"/>
                  </a:lnTo>
                  <a:lnTo>
                    <a:pt x="1271" y="620"/>
                  </a:lnTo>
                  <a:lnTo>
                    <a:pt x="1280" y="536"/>
                  </a:lnTo>
                  <a:lnTo>
                    <a:pt x="1313" y="458"/>
                  </a:lnTo>
                  <a:lnTo>
                    <a:pt x="1248" y="365"/>
                  </a:lnTo>
                  <a:lnTo>
                    <a:pt x="1236" y="365"/>
                  </a:lnTo>
                  <a:lnTo>
                    <a:pt x="1226" y="362"/>
                  </a:lnTo>
                  <a:lnTo>
                    <a:pt x="1215" y="356"/>
                  </a:lnTo>
                  <a:lnTo>
                    <a:pt x="1209" y="346"/>
                  </a:lnTo>
                  <a:lnTo>
                    <a:pt x="1207" y="334"/>
                  </a:lnTo>
                  <a:lnTo>
                    <a:pt x="1212" y="322"/>
                  </a:lnTo>
                  <a:lnTo>
                    <a:pt x="1105" y="329"/>
                  </a:lnTo>
                  <a:lnTo>
                    <a:pt x="1065" y="390"/>
                  </a:lnTo>
                  <a:lnTo>
                    <a:pt x="1032" y="448"/>
                  </a:lnTo>
                  <a:lnTo>
                    <a:pt x="996" y="509"/>
                  </a:lnTo>
                  <a:lnTo>
                    <a:pt x="957" y="575"/>
                  </a:lnTo>
                  <a:lnTo>
                    <a:pt x="920" y="635"/>
                  </a:lnTo>
                  <a:lnTo>
                    <a:pt x="883" y="694"/>
                  </a:lnTo>
                  <a:lnTo>
                    <a:pt x="848" y="745"/>
                  </a:lnTo>
                  <a:lnTo>
                    <a:pt x="819" y="784"/>
                  </a:lnTo>
                  <a:lnTo>
                    <a:pt x="793" y="809"/>
                  </a:lnTo>
                  <a:lnTo>
                    <a:pt x="751" y="829"/>
                  </a:lnTo>
                  <a:lnTo>
                    <a:pt x="695" y="847"/>
                  </a:lnTo>
                  <a:lnTo>
                    <a:pt x="630" y="857"/>
                  </a:lnTo>
                  <a:lnTo>
                    <a:pt x="559" y="869"/>
                  </a:lnTo>
                  <a:lnTo>
                    <a:pt x="488" y="874"/>
                  </a:lnTo>
                  <a:lnTo>
                    <a:pt x="419" y="880"/>
                  </a:lnTo>
                  <a:lnTo>
                    <a:pt x="419" y="957"/>
                  </a:lnTo>
                  <a:lnTo>
                    <a:pt x="419" y="1018"/>
                  </a:lnTo>
                  <a:lnTo>
                    <a:pt x="397" y="1018"/>
                  </a:lnTo>
                  <a:lnTo>
                    <a:pt x="378" y="1018"/>
                  </a:lnTo>
                  <a:lnTo>
                    <a:pt x="358" y="1019"/>
                  </a:lnTo>
                  <a:lnTo>
                    <a:pt x="339" y="1021"/>
                  </a:lnTo>
                  <a:lnTo>
                    <a:pt x="324" y="1021"/>
                  </a:lnTo>
                  <a:lnTo>
                    <a:pt x="307" y="1022"/>
                  </a:lnTo>
                  <a:lnTo>
                    <a:pt x="290" y="1025"/>
                  </a:lnTo>
                  <a:lnTo>
                    <a:pt x="276" y="1028"/>
                  </a:lnTo>
                  <a:lnTo>
                    <a:pt x="262" y="1030"/>
                  </a:lnTo>
                  <a:lnTo>
                    <a:pt x="247" y="1031"/>
                  </a:lnTo>
                  <a:lnTo>
                    <a:pt x="236" y="1036"/>
                  </a:lnTo>
                  <a:lnTo>
                    <a:pt x="223" y="1041"/>
                  </a:lnTo>
                  <a:lnTo>
                    <a:pt x="207" y="1046"/>
                  </a:lnTo>
                  <a:lnTo>
                    <a:pt x="195" y="1051"/>
                  </a:lnTo>
                  <a:lnTo>
                    <a:pt x="184" y="1059"/>
                  </a:lnTo>
                  <a:lnTo>
                    <a:pt x="171" y="1064"/>
                  </a:lnTo>
                  <a:lnTo>
                    <a:pt x="159" y="1070"/>
                  </a:lnTo>
                  <a:lnTo>
                    <a:pt x="148" y="1067"/>
                  </a:lnTo>
                  <a:lnTo>
                    <a:pt x="139" y="1061"/>
                  </a:lnTo>
                  <a:lnTo>
                    <a:pt x="133" y="1054"/>
                  </a:lnTo>
                  <a:lnTo>
                    <a:pt x="127" y="1042"/>
                  </a:lnTo>
                  <a:lnTo>
                    <a:pt x="127" y="1031"/>
                  </a:lnTo>
                  <a:lnTo>
                    <a:pt x="0" y="1019"/>
                  </a:lnTo>
                  <a:lnTo>
                    <a:pt x="242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H="1">
              <a:off x="5892120" y="3801600"/>
              <a:ext cx="1126440" cy="568440"/>
            </a:xfrm>
            <a:custGeom>
              <a:avLst/>
              <a:gdLst/>
              <a:ahLst/>
              <a:rect l="l" t="t" r="r" b="b"/>
              <a:pathLst>
                <a:path w="2561" h="1422">
                  <a:moveTo>
                    <a:pt x="0" y="263"/>
                  </a:moveTo>
                  <a:lnTo>
                    <a:pt x="24" y="289"/>
                  </a:lnTo>
                  <a:lnTo>
                    <a:pt x="69" y="332"/>
                  </a:lnTo>
                  <a:lnTo>
                    <a:pt x="107" y="364"/>
                  </a:lnTo>
                  <a:lnTo>
                    <a:pt x="147" y="387"/>
                  </a:lnTo>
                  <a:lnTo>
                    <a:pt x="183" y="404"/>
                  </a:lnTo>
                  <a:lnTo>
                    <a:pt x="218" y="412"/>
                  </a:lnTo>
                  <a:lnTo>
                    <a:pt x="257" y="418"/>
                  </a:lnTo>
                  <a:lnTo>
                    <a:pt x="298" y="423"/>
                  </a:lnTo>
                  <a:lnTo>
                    <a:pt x="346" y="428"/>
                  </a:lnTo>
                  <a:lnTo>
                    <a:pt x="406" y="434"/>
                  </a:lnTo>
                  <a:lnTo>
                    <a:pt x="472" y="445"/>
                  </a:lnTo>
                  <a:lnTo>
                    <a:pt x="543" y="457"/>
                  </a:lnTo>
                  <a:lnTo>
                    <a:pt x="614" y="472"/>
                  </a:lnTo>
                  <a:lnTo>
                    <a:pt x="679" y="489"/>
                  </a:lnTo>
                  <a:lnTo>
                    <a:pt x="733" y="512"/>
                  </a:lnTo>
                  <a:lnTo>
                    <a:pt x="772" y="533"/>
                  </a:lnTo>
                  <a:lnTo>
                    <a:pt x="785" y="545"/>
                  </a:lnTo>
                  <a:lnTo>
                    <a:pt x="809" y="579"/>
                  </a:lnTo>
                  <a:lnTo>
                    <a:pt x="839" y="626"/>
                  </a:lnTo>
                  <a:lnTo>
                    <a:pt x="902" y="748"/>
                  </a:lnTo>
                  <a:lnTo>
                    <a:pt x="969" y="880"/>
                  </a:lnTo>
                  <a:lnTo>
                    <a:pt x="1024" y="997"/>
                  </a:lnTo>
                  <a:lnTo>
                    <a:pt x="1071" y="1077"/>
                  </a:lnTo>
                  <a:lnTo>
                    <a:pt x="1132" y="1152"/>
                  </a:lnTo>
                  <a:lnTo>
                    <a:pt x="1203" y="1220"/>
                  </a:lnTo>
                  <a:lnTo>
                    <a:pt x="1288" y="1281"/>
                  </a:lnTo>
                  <a:lnTo>
                    <a:pt x="1383" y="1333"/>
                  </a:lnTo>
                  <a:lnTo>
                    <a:pt x="1491" y="1375"/>
                  </a:lnTo>
                  <a:lnTo>
                    <a:pt x="1609" y="1405"/>
                  </a:lnTo>
                  <a:lnTo>
                    <a:pt x="1737" y="1422"/>
                  </a:lnTo>
                  <a:lnTo>
                    <a:pt x="1874" y="1421"/>
                  </a:lnTo>
                  <a:lnTo>
                    <a:pt x="2013" y="1397"/>
                  </a:lnTo>
                  <a:lnTo>
                    <a:pt x="2042" y="1300"/>
                  </a:lnTo>
                  <a:lnTo>
                    <a:pt x="2028" y="1300"/>
                  </a:lnTo>
                  <a:lnTo>
                    <a:pt x="2019" y="1297"/>
                  </a:lnTo>
                  <a:lnTo>
                    <a:pt x="2012" y="1287"/>
                  </a:lnTo>
                  <a:lnTo>
                    <a:pt x="2006" y="1279"/>
                  </a:lnTo>
                  <a:lnTo>
                    <a:pt x="2006" y="1267"/>
                  </a:lnTo>
                  <a:lnTo>
                    <a:pt x="2010" y="1257"/>
                  </a:lnTo>
                  <a:lnTo>
                    <a:pt x="1942" y="1201"/>
                  </a:lnTo>
                  <a:lnTo>
                    <a:pt x="1840" y="1219"/>
                  </a:lnTo>
                  <a:lnTo>
                    <a:pt x="1732" y="1219"/>
                  </a:lnTo>
                  <a:lnTo>
                    <a:pt x="1627" y="1201"/>
                  </a:lnTo>
                  <a:lnTo>
                    <a:pt x="1528" y="1168"/>
                  </a:lnTo>
                  <a:lnTo>
                    <a:pt x="1442" y="1123"/>
                  </a:lnTo>
                  <a:lnTo>
                    <a:pt x="1366" y="1065"/>
                  </a:lnTo>
                  <a:lnTo>
                    <a:pt x="1306" y="1000"/>
                  </a:lnTo>
                  <a:lnTo>
                    <a:pt x="1263" y="926"/>
                  </a:lnTo>
                  <a:lnTo>
                    <a:pt x="1237" y="844"/>
                  </a:lnTo>
                  <a:lnTo>
                    <a:pt x="1238" y="718"/>
                  </a:lnTo>
                  <a:lnTo>
                    <a:pt x="1267" y="639"/>
                  </a:lnTo>
                  <a:lnTo>
                    <a:pt x="1312" y="567"/>
                  </a:lnTo>
                  <a:lnTo>
                    <a:pt x="1375" y="506"/>
                  </a:lnTo>
                  <a:lnTo>
                    <a:pt x="1452" y="457"/>
                  </a:lnTo>
                  <a:lnTo>
                    <a:pt x="1540" y="418"/>
                  </a:lnTo>
                  <a:lnTo>
                    <a:pt x="1638" y="394"/>
                  </a:lnTo>
                  <a:lnTo>
                    <a:pt x="1743" y="387"/>
                  </a:lnTo>
                  <a:lnTo>
                    <a:pt x="1798" y="388"/>
                  </a:lnTo>
                  <a:lnTo>
                    <a:pt x="1904" y="405"/>
                  </a:lnTo>
                  <a:lnTo>
                    <a:pt x="2002" y="437"/>
                  </a:lnTo>
                  <a:lnTo>
                    <a:pt x="2091" y="482"/>
                  </a:lnTo>
                  <a:lnTo>
                    <a:pt x="2163" y="538"/>
                  </a:lnTo>
                  <a:lnTo>
                    <a:pt x="2224" y="605"/>
                  </a:lnTo>
                  <a:lnTo>
                    <a:pt x="2269" y="679"/>
                  </a:lnTo>
                  <a:lnTo>
                    <a:pt x="2292" y="759"/>
                  </a:lnTo>
                  <a:lnTo>
                    <a:pt x="2298" y="843"/>
                  </a:lnTo>
                  <a:lnTo>
                    <a:pt x="2277" y="930"/>
                  </a:lnTo>
                  <a:lnTo>
                    <a:pt x="2323" y="1021"/>
                  </a:lnTo>
                  <a:lnTo>
                    <a:pt x="2377" y="1045"/>
                  </a:lnTo>
                  <a:lnTo>
                    <a:pt x="2532" y="1008"/>
                  </a:lnTo>
                  <a:lnTo>
                    <a:pt x="2561" y="886"/>
                  </a:lnTo>
                  <a:lnTo>
                    <a:pt x="2556" y="759"/>
                  </a:lnTo>
                  <a:lnTo>
                    <a:pt x="2521" y="634"/>
                  </a:lnTo>
                  <a:lnTo>
                    <a:pt x="2460" y="513"/>
                  </a:lnTo>
                  <a:lnTo>
                    <a:pt x="2374" y="401"/>
                  </a:lnTo>
                  <a:lnTo>
                    <a:pt x="2264" y="305"/>
                  </a:lnTo>
                  <a:lnTo>
                    <a:pt x="2130" y="226"/>
                  </a:lnTo>
                  <a:lnTo>
                    <a:pt x="1978" y="170"/>
                  </a:lnTo>
                  <a:lnTo>
                    <a:pt x="1807" y="142"/>
                  </a:lnTo>
                  <a:lnTo>
                    <a:pt x="1662" y="137"/>
                  </a:lnTo>
                  <a:lnTo>
                    <a:pt x="1538" y="150"/>
                  </a:lnTo>
                  <a:lnTo>
                    <a:pt x="1437" y="172"/>
                  </a:lnTo>
                  <a:lnTo>
                    <a:pt x="1355" y="201"/>
                  </a:lnTo>
                  <a:lnTo>
                    <a:pt x="1292" y="231"/>
                  </a:lnTo>
                  <a:lnTo>
                    <a:pt x="1250" y="258"/>
                  </a:lnTo>
                  <a:lnTo>
                    <a:pt x="1216" y="285"/>
                  </a:lnTo>
                  <a:lnTo>
                    <a:pt x="1180" y="307"/>
                  </a:lnTo>
                  <a:lnTo>
                    <a:pt x="1143" y="291"/>
                  </a:lnTo>
                  <a:lnTo>
                    <a:pt x="1112" y="248"/>
                  </a:lnTo>
                  <a:lnTo>
                    <a:pt x="1085" y="201"/>
                  </a:lnTo>
                  <a:lnTo>
                    <a:pt x="1057" y="154"/>
                  </a:lnTo>
                  <a:lnTo>
                    <a:pt x="1006" y="113"/>
                  </a:lnTo>
                  <a:lnTo>
                    <a:pt x="949" y="82"/>
                  </a:lnTo>
                  <a:lnTo>
                    <a:pt x="886" y="70"/>
                  </a:lnTo>
                  <a:lnTo>
                    <a:pt x="841" y="66"/>
                  </a:lnTo>
                  <a:lnTo>
                    <a:pt x="773" y="59"/>
                  </a:lnTo>
                  <a:lnTo>
                    <a:pt x="688" y="53"/>
                  </a:lnTo>
                  <a:lnTo>
                    <a:pt x="597" y="44"/>
                  </a:lnTo>
                  <a:lnTo>
                    <a:pt x="542" y="40"/>
                  </a:lnTo>
                  <a:lnTo>
                    <a:pt x="533" y="136"/>
                  </a:lnTo>
                  <a:lnTo>
                    <a:pt x="531" y="197"/>
                  </a:lnTo>
                  <a:lnTo>
                    <a:pt x="525" y="197"/>
                  </a:lnTo>
                  <a:lnTo>
                    <a:pt x="508" y="196"/>
                  </a:lnTo>
                  <a:lnTo>
                    <a:pt x="482" y="194"/>
                  </a:lnTo>
                  <a:lnTo>
                    <a:pt x="447" y="189"/>
                  </a:lnTo>
                  <a:lnTo>
                    <a:pt x="411" y="183"/>
                  </a:lnTo>
                  <a:lnTo>
                    <a:pt x="370" y="176"/>
                  </a:lnTo>
                  <a:lnTo>
                    <a:pt x="327" y="165"/>
                  </a:lnTo>
                  <a:lnTo>
                    <a:pt x="285" y="156"/>
                  </a:lnTo>
                  <a:lnTo>
                    <a:pt x="273" y="149"/>
                  </a:lnTo>
                  <a:lnTo>
                    <a:pt x="267" y="142"/>
                  </a:lnTo>
                  <a:lnTo>
                    <a:pt x="264" y="131"/>
                  </a:lnTo>
                  <a:lnTo>
                    <a:pt x="264" y="119"/>
                  </a:lnTo>
                  <a:lnTo>
                    <a:pt x="269" y="111"/>
                  </a:lnTo>
                  <a:lnTo>
                    <a:pt x="275" y="102"/>
                  </a:lnTo>
                  <a:lnTo>
                    <a:pt x="287" y="98"/>
                  </a:lnTo>
                  <a:lnTo>
                    <a:pt x="262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7309440" y="3663720"/>
              <a:ext cx="924480" cy="168840"/>
            </a:xfrm>
            <a:custGeom>
              <a:avLst/>
              <a:gdLst/>
              <a:ahLst/>
              <a:rect l="l" t="t" r="r" b="b"/>
              <a:pathLst>
                <a:path w="2101" h="425">
                  <a:moveTo>
                    <a:pt x="744" y="159"/>
                  </a:moveTo>
                  <a:lnTo>
                    <a:pt x="661" y="169"/>
                  </a:lnTo>
                  <a:lnTo>
                    <a:pt x="553" y="182"/>
                  </a:lnTo>
                  <a:lnTo>
                    <a:pt x="431" y="201"/>
                  </a:lnTo>
                  <a:lnTo>
                    <a:pt x="305" y="219"/>
                  </a:lnTo>
                  <a:lnTo>
                    <a:pt x="189" y="239"/>
                  </a:lnTo>
                  <a:lnTo>
                    <a:pt x="90" y="259"/>
                  </a:lnTo>
                  <a:lnTo>
                    <a:pt x="24" y="277"/>
                  </a:lnTo>
                  <a:lnTo>
                    <a:pt x="0" y="294"/>
                  </a:lnTo>
                  <a:lnTo>
                    <a:pt x="15" y="303"/>
                  </a:lnTo>
                  <a:lnTo>
                    <a:pt x="57" y="317"/>
                  </a:lnTo>
                  <a:lnTo>
                    <a:pt x="128" y="333"/>
                  </a:lnTo>
                  <a:lnTo>
                    <a:pt x="226" y="351"/>
                  </a:lnTo>
                  <a:lnTo>
                    <a:pt x="341" y="371"/>
                  </a:lnTo>
                  <a:lnTo>
                    <a:pt x="478" y="391"/>
                  </a:lnTo>
                  <a:lnTo>
                    <a:pt x="629" y="413"/>
                  </a:lnTo>
                  <a:lnTo>
                    <a:pt x="709" y="425"/>
                  </a:lnTo>
                  <a:lnTo>
                    <a:pt x="866" y="399"/>
                  </a:lnTo>
                  <a:lnTo>
                    <a:pt x="974" y="385"/>
                  </a:lnTo>
                  <a:lnTo>
                    <a:pt x="1074" y="371"/>
                  </a:lnTo>
                  <a:lnTo>
                    <a:pt x="1194" y="356"/>
                  </a:lnTo>
                  <a:lnTo>
                    <a:pt x="1323" y="344"/>
                  </a:lnTo>
                  <a:lnTo>
                    <a:pt x="1451" y="335"/>
                  </a:lnTo>
                  <a:lnTo>
                    <a:pt x="1581" y="327"/>
                  </a:lnTo>
                  <a:lnTo>
                    <a:pt x="1710" y="325"/>
                  </a:lnTo>
                  <a:lnTo>
                    <a:pt x="1769" y="323"/>
                  </a:lnTo>
                  <a:lnTo>
                    <a:pt x="1823" y="317"/>
                  </a:lnTo>
                  <a:lnTo>
                    <a:pt x="1871" y="307"/>
                  </a:lnTo>
                  <a:lnTo>
                    <a:pt x="1912" y="293"/>
                  </a:lnTo>
                  <a:lnTo>
                    <a:pt x="1948" y="275"/>
                  </a:lnTo>
                  <a:lnTo>
                    <a:pt x="1980" y="254"/>
                  </a:lnTo>
                  <a:lnTo>
                    <a:pt x="2008" y="233"/>
                  </a:lnTo>
                  <a:lnTo>
                    <a:pt x="2032" y="210"/>
                  </a:lnTo>
                  <a:lnTo>
                    <a:pt x="2052" y="183"/>
                  </a:lnTo>
                  <a:lnTo>
                    <a:pt x="2067" y="157"/>
                  </a:lnTo>
                  <a:lnTo>
                    <a:pt x="2079" y="132"/>
                  </a:lnTo>
                  <a:lnTo>
                    <a:pt x="2089" y="104"/>
                  </a:lnTo>
                  <a:lnTo>
                    <a:pt x="2095" y="76"/>
                  </a:lnTo>
                  <a:lnTo>
                    <a:pt x="2100" y="51"/>
                  </a:lnTo>
                  <a:lnTo>
                    <a:pt x="2101" y="24"/>
                  </a:lnTo>
                  <a:lnTo>
                    <a:pt x="2100" y="0"/>
                  </a:lnTo>
                  <a:lnTo>
                    <a:pt x="1954" y="12"/>
                  </a:lnTo>
                  <a:lnTo>
                    <a:pt x="1779" y="31"/>
                  </a:lnTo>
                  <a:lnTo>
                    <a:pt x="1606" y="51"/>
                  </a:lnTo>
                  <a:lnTo>
                    <a:pt x="1425" y="74"/>
                  </a:lnTo>
                  <a:lnTo>
                    <a:pt x="1237" y="99"/>
                  </a:lnTo>
                  <a:lnTo>
                    <a:pt x="1052" y="126"/>
                  </a:lnTo>
                  <a:lnTo>
                    <a:pt x="872" y="151"/>
                  </a:lnTo>
                  <a:lnTo>
                    <a:pt x="744" y="159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6904440" y="3768120"/>
              <a:ext cx="299520" cy="137520"/>
            </a:xfrm>
            <a:custGeom>
              <a:avLst/>
              <a:gdLst/>
              <a:ahLst/>
              <a:rect l="l" t="t" r="r" b="b"/>
              <a:pathLst>
                <a:path w="680" h="347">
                  <a:moveTo>
                    <a:pt x="680" y="0"/>
                  </a:moveTo>
                  <a:lnTo>
                    <a:pt x="432" y="285"/>
                  </a:lnTo>
                  <a:lnTo>
                    <a:pt x="306" y="285"/>
                  </a:lnTo>
                  <a:lnTo>
                    <a:pt x="0" y="274"/>
                  </a:lnTo>
                  <a:lnTo>
                    <a:pt x="418" y="347"/>
                  </a:lnTo>
                  <a:lnTo>
                    <a:pt x="680" y="8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flipH="1">
              <a:off x="6291000" y="3255120"/>
              <a:ext cx="232560" cy="124200"/>
            </a:xfrm>
            <a:custGeom>
              <a:avLst/>
              <a:gdLst/>
              <a:ahLst/>
              <a:rect l="l" t="t" r="r" b="b"/>
              <a:pathLst>
                <a:path w="529" h="313">
                  <a:moveTo>
                    <a:pt x="0" y="313"/>
                  </a:moveTo>
                  <a:lnTo>
                    <a:pt x="107" y="306"/>
                  </a:lnTo>
                  <a:lnTo>
                    <a:pt x="124" y="277"/>
                  </a:lnTo>
                  <a:lnTo>
                    <a:pt x="143" y="252"/>
                  </a:lnTo>
                  <a:lnTo>
                    <a:pt x="163" y="228"/>
                  </a:lnTo>
                  <a:lnTo>
                    <a:pt x="187" y="205"/>
                  </a:lnTo>
                  <a:lnTo>
                    <a:pt x="210" y="185"/>
                  </a:lnTo>
                  <a:lnTo>
                    <a:pt x="236" y="169"/>
                  </a:lnTo>
                  <a:lnTo>
                    <a:pt x="264" y="151"/>
                  </a:lnTo>
                  <a:lnTo>
                    <a:pt x="289" y="136"/>
                  </a:lnTo>
                  <a:lnTo>
                    <a:pt x="317" y="124"/>
                  </a:lnTo>
                  <a:lnTo>
                    <a:pt x="343" y="110"/>
                  </a:lnTo>
                  <a:lnTo>
                    <a:pt x="371" y="102"/>
                  </a:lnTo>
                  <a:lnTo>
                    <a:pt x="397" y="95"/>
                  </a:lnTo>
                  <a:lnTo>
                    <a:pt x="421" y="89"/>
                  </a:lnTo>
                  <a:lnTo>
                    <a:pt x="448" y="83"/>
                  </a:lnTo>
                  <a:lnTo>
                    <a:pt x="469" y="81"/>
                  </a:lnTo>
                  <a:lnTo>
                    <a:pt x="490" y="80"/>
                  </a:lnTo>
                  <a:lnTo>
                    <a:pt x="529" y="0"/>
                  </a:lnTo>
                  <a:lnTo>
                    <a:pt x="414" y="27"/>
                  </a:lnTo>
                  <a:lnTo>
                    <a:pt x="309" y="65"/>
                  </a:lnTo>
                  <a:lnTo>
                    <a:pt x="215" y="115"/>
                  </a:lnTo>
                  <a:lnTo>
                    <a:pt x="132" y="172"/>
                  </a:lnTo>
                  <a:lnTo>
                    <a:pt x="60" y="239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904360" y="4204800"/>
              <a:ext cx="228240" cy="154440"/>
            </a:xfrm>
            <a:custGeom>
              <a:avLst/>
              <a:gdLst/>
              <a:ahLst/>
              <a:rect l="l" t="t" r="r" b="b"/>
              <a:pathLst>
                <a:path w="519" h="389">
                  <a:moveTo>
                    <a:pt x="0" y="389"/>
                  </a:moveTo>
                  <a:lnTo>
                    <a:pt x="135" y="347"/>
                  </a:lnTo>
                  <a:lnTo>
                    <a:pt x="261" y="283"/>
                  </a:lnTo>
                  <a:lnTo>
                    <a:pt x="369" y="204"/>
                  </a:lnTo>
                  <a:lnTo>
                    <a:pt x="459" y="109"/>
                  </a:lnTo>
                  <a:lnTo>
                    <a:pt x="519" y="0"/>
                  </a:lnTo>
                  <a:lnTo>
                    <a:pt x="364" y="37"/>
                  </a:lnTo>
                  <a:lnTo>
                    <a:pt x="359" y="43"/>
                  </a:lnTo>
                  <a:lnTo>
                    <a:pt x="355" y="55"/>
                  </a:lnTo>
                  <a:lnTo>
                    <a:pt x="346" y="69"/>
                  </a:lnTo>
                  <a:lnTo>
                    <a:pt x="334" y="85"/>
                  </a:lnTo>
                  <a:lnTo>
                    <a:pt x="322" y="104"/>
                  </a:lnTo>
                  <a:lnTo>
                    <a:pt x="305" y="123"/>
                  </a:lnTo>
                  <a:lnTo>
                    <a:pt x="288" y="144"/>
                  </a:lnTo>
                  <a:lnTo>
                    <a:pt x="267" y="166"/>
                  </a:lnTo>
                  <a:lnTo>
                    <a:pt x="244" y="188"/>
                  </a:lnTo>
                  <a:lnTo>
                    <a:pt x="214" y="211"/>
                  </a:lnTo>
                  <a:lnTo>
                    <a:pt x="184" y="231"/>
                  </a:lnTo>
                  <a:lnTo>
                    <a:pt x="150" y="252"/>
                  </a:lnTo>
                  <a:lnTo>
                    <a:pt x="113" y="265"/>
                  </a:lnTo>
                  <a:lnTo>
                    <a:pt x="72" y="283"/>
                  </a:lnTo>
                  <a:lnTo>
                    <a:pt x="29" y="292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H="1">
              <a:off x="6263280" y="3311280"/>
              <a:ext cx="198000" cy="119880"/>
            </a:xfrm>
            <a:custGeom>
              <a:avLst/>
              <a:gdLst/>
              <a:ahLst/>
              <a:rect l="l" t="t" r="r" b="b"/>
              <a:pathLst>
                <a:path w="449" h="300">
                  <a:moveTo>
                    <a:pt x="449" y="55"/>
                  </a:moveTo>
                  <a:lnTo>
                    <a:pt x="348" y="0"/>
                  </a:lnTo>
                  <a:lnTo>
                    <a:pt x="329" y="1"/>
                  </a:lnTo>
                  <a:lnTo>
                    <a:pt x="311" y="2"/>
                  </a:lnTo>
                  <a:lnTo>
                    <a:pt x="292" y="4"/>
                  </a:lnTo>
                  <a:lnTo>
                    <a:pt x="269" y="10"/>
                  </a:lnTo>
                  <a:lnTo>
                    <a:pt x="246" y="18"/>
                  </a:lnTo>
                  <a:lnTo>
                    <a:pt x="222" y="27"/>
                  </a:lnTo>
                  <a:lnTo>
                    <a:pt x="198" y="37"/>
                  </a:lnTo>
                  <a:lnTo>
                    <a:pt x="174" y="48"/>
                  </a:lnTo>
                  <a:lnTo>
                    <a:pt x="150" y="61"/>
                  </a:lnTo>
                  <a:lnTo>
                    <a:pt x="127" y="75"/>
                  </a:lnTo>
                  <a:lnTo>
                    <a:pt x="103" y="92"/>
                  </a:lnTo>
                  <a:lnTo>
                    <a:pt x="84" y="109"/>
                  </a:lnTo>
                  <a:lnTo>
                    <a:pt x="63" y="129"/>
                  </a:lnTo>
                  <a:lnTo>
                    <a:pt x="44" y="147"/>
                  </a:lnTo>
                  <a:lnTo>
                    <a:pt x="31" y="169"/>
                  </a:lnTo>
                  <a:lnTo>
                    <a:pt x="18" y="192"/>
                  </a:lnTo>
                  <a:lnTo>
                    <a:pt x="9" y="201"/>
                  </a:lnTo>
                  <a:lnTo>
                    <a:pt x="0" y="207"/>
                  </a:lnTo>
                  <a:lnTo>
                    <a:pt x="65" y="300"/>
                  </a:lnTo>
                  <a:lnTo>
                    <a:pt x="113" y="229"/>
                  </a:lnTo>
                  <a:lnTo>
                    <a:pt x="178" y="166"/>
                  </a:lnTo>
                  <a:lnTo>
                    <a:pt x="258" y="116"/>
                  </a:lnTo>
                  <a:lnTo>
                    <a:pt x="349" y="79"/>
                  </a:lnTo>
                  <a:lnTo>
                    <a:pt x="44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6825960" y="3600360"/>
              <a:ext cx="185040" cy="59760"/>
            </a:xfrm>
            <a:custGeom>
              <a:avLst/>
              <a:gdLst/>
              <a:ahLst/>
              <a:rect l="l" t="t" r="r" b="b"/>
              <a:pathLst>
                <a:path w="419" h="151">
                  <a:moveTo>
                    <a:pt x="0" y="139"/>
                  </a:moveTo>
                  <a:lnTo>
                    <a:pt x="127" y="151"/>
                  </a:lnTo>
                  <a:lnTo>
                    <a:pt x="133" y="142"/>
                  </a:lnTo>
                  <a:lnTo>
                    <a:pt x="141" y="133"/>
                  </a:lnTo>
                  <a:lnTo>
                    <a:pt x="157" y="124"/>
                  </a:lnTo>
                  <a:lnTo>
                    <a:pt x="171" y="118"/>
                  </a:lnTo>
                  <a:lnTo>
                    <a:pt x="187" y="111"/>
                  </a:lnTo>
                  <a:lnTo>
                    <a:pt x="201" y="105"/>
                  </a:lnTo>
                  <a:lnTo>
                    <a:pt x="217" y="100"/>
                  </a:lnTo>
                  <a:lnTo>
                    <a:pt x="236" y="95"/>
                  </a:lnTo>
                  <a:lnTo>
                    <a:pt x="249" y="91"/>
                  </a:lnTo>
                  <a:lnTo>
                    <a:pt x="267" y="87"/>
                  </a:lnTo>
                  <a:lnTo>
                    <a:pt x="284" y="84"/>
                  </a:lnTo>
                  <a:lnTo>
                    <a:pt x="302" y="83"/>
                  </a:lnTo>
                  <a:lnTo>
                    <a:pt x="320" y="79"/>
                  </a:lnTo>
                  <a:lnTo>
                    <a:pt x="339" y="79"/>
                  </a:lnTo>
                  <a:lnTo>
                    <a:pt x="356" y="78"/>
                  </a:lnTo>
                  <a:lnTo>
                    <a:pt x="378" y="77"/>
                  </a:lnTo>
                  <a:lnTo>
                    <a:pt x="397" y="77"/>
                  </a:lnTo>
                  <a:lnTo>
                    <a:pt x="419" y="77"/>
                  </a:lnTo>
                  <a:lnTo>
                    <a:pt x="419" y="0"/>
                  </a:lnTo>
                  <a:lnTo>
                    <a:pt x="390" y="1"/>
                  </a:lnTo>
                  <a:lnTo>
                    <a:pt x="334" y="3"/>
                  </a:lnTo>
                  <a:lnTo>
                    <a:pt x="290" y="3"/>
                  </a:lnTo>
                  <a:lnTo>
                    <a:pt x="250" y="4"/>
                  </a:lnTo>
                  <a:lnTo>
                    <a:pt x="213" y="10"/>
                  </a:lnTo>
                  <a:lnTo>
                    <a:pt x="175" y="19"/>
                  </a:lnTo>
                  <a:lnTo>
                    <a:pt x="139" y="36"/>
                  </a:lnTo>
                  <a:lnTo>
                    <a:pt x="97" y="59"/>
                  </a:lnTo>
                  <a:lnTo>
                    <a:pt x="52" y="93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H="1">
              <a:off x="6307920" y="3286080"/>
              <a:ext cx="170280" cy="107640"/>
            </a:xfrm>
            <a:custGeom>
              <a:avLst/>
              <a:gdLst/>
              <a:ahLst/>
              <a:rect l="l" t="t" r="r" b="b"/>
              <a:pathLst>
                <a:path w="389" h="269">
                  <a:moveTo>
                    <a:pt x="41" y="269"/>
                  </a:moveTo>
                  <a:lnTo>
                    <a:pt x="50" y="263"/>
                  </a:lnTo>
                  <a:lnTo>
                    <a:pt x="59" y="254"/>
                  </a:lnTo>
                  <a:lnTo>
                    <a:pt x="72" y="231"/>
                  </a:lnTo>
                  <a:lnTo>
                    <a:pt x="85" y="209"/>
                  </a:lnTo>
                  <a:lnTo>
                    <a:pt x="104" y="191"/>
                  </a:lnTo>
                  <a:lnTo>
                    <a:pt x="125" y="171"/>
                  </a:lnTo>
                  <a:lnTo>
                    <a:pt x="144" y="154"/>
                  </a:lnTo>
                  <a:lnTo>
                    <a:pt x="168" y="137"/>
                  </a:lnTo>
                  <a:lnTo>
                    <a:pt x="191" y="123"/>
                  </a:lnTo>
                  <a:lnTo>
                    <a:pt x="215" y="110"/>
                  </a:lnTo>
                  <a:lnTo>
                    <a:pt x="239" y="99"/>
                  </a:lnTo>
                  <a:lnTo>
                    <a:pt x="263" y="89"/>
                  </a:lnTo>
                  <a:lnTo>
                    <a:pt x="287" y="80"/>
                  </a:lnTo>
                  <a:lnTo>
                    <a:pt x="310" y="72"/>
                  </a:lnTo>
                  <a:lnTo>
                    <a:pt x="333" y="66"/>
                  </a:lnTo>
                  <a:lnTo>
                    <a:pt x="352" y="64"/>
                  </a:lnTo>
                  <a:lnTo>
                    <a:pt x="370" y="63"/>
                  </a:lnTo>
                  <a:lnTo>
                    <a:pt x="389" y="62"/>
                  </a:lnTo>
                  <a:lnTo>
                    <a:pt x="388" y="0"/>
                  </a:lnTo>
                  <a:lnTo>
                    <a:pt x="367" y="1"/>
                  </a:lnTo>
                  <a:lnTo>
                    <a:pt x="346" y="3"/>
                  </a:lnTo>
                  <a:lnTo>
                    <a:pt x="319" y="9"/>
                  </a:lnTo>
                  <a:lnTo>
                    <a:pt x="295" y="15"/>
                  </a:lnTo>
                  <a:lnTo>
                    <a:pt x="269" y="22"/>
                  </a:lnTo>
                  <a:lnTo>
                    <a:pt x="241" y="30"/>
                  </a:lnTo>
                  <a:lnTo>
                    <a:pt x="215" y="44"/>
                  </a:lnTo>
                  <a:lnTo>
                    <a:pt x="187" y="56"/>
                  </a:lnTo>
                  <a:lnTo>
                    <a:pt x="162" y="71"/>
                  </a:lnTo>
                  <a:lnTo>
                    <a:pt x="134" y="89"/>
                  </a:lnTo>
                  <a:lnTo>
                    <a:pt x="108" y="105"/>
                  </a:lnTo>
                  <a:lnTo>
                    <a:pt x="85" y="125"/>
                  </a:lnTo>
                  <a:lnTo>
                    <a:pt x="61" y="148"/>
                  </a:lnTo>
                  <a:lnTo>
                    <a:pt x="41" y="172"/>
                  </a:lnTo>
                  <a:lnTo>
                    <a:pt x="22" y="197"/>
                  </a:lnTo>
                  <a:lnTo>
                    <a:pt x="5" y="226"/>
                  </a:lnTo>
                  <a:lnTo>
                    <a:pt x="0" y="238"/>
                  </a:lnTo>
                  <a:lnTo>
                    <a:pt x="2" y="250"/>
                  </a:lnTo>
                  <a:lnTo>
                    <a:pt x="8" y="260"/>
                  </a:lnTo>
                  <a:lnTo>
                    <a:pt x="19" y="266"/>
                  </a:lnTo>
                  <a:lnTo>
                    <a:pt x="29" y="269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5996520" y="4173480"/>
              <a:ext cx="167400" cy="130680"/>
            </a:xfrm>
            <a:custGeom>
              <a:avLst/>
              <a:gdLst/>
              <a:ahLst/>
              <a:rect l="l" t="t" r="r" b="b"/>
              <a:pathLst>
                <a:path w="381" h="327">
                  <a:moveTo>
                    <a:pt x="335" y="0"/>
                  </a:moveTo>
                  <a:lnTo>
                    <a:pt x="300" y="73"/>
                  </a:lnTo>
                  <a:lnTo>
                    <a:pt x="245" y="140"/>
                  </a:lnTo>
                  <a:lnTo>
                    <a:pt x="176" y="196"/>
                  </a:lnTo>
                  <a:lnTo>
                    <a:pt x="93" y="241"/>
                  </a:lnTo>
                  <a:lnTo>
                    <a:pt x="0" y="271"/>
                  </a:lnTo>
                  <a:lnTo>
                    <a:pt x="68" y="327"/>
                  </a:lnTo>
                  <a:lnTo>
                    <a:pt x="76" y="318"/>
                  </a:lnTo>
                  <a:lnTo>
                    <a:pt x="87" y="313"/>
                  </a:lnTo>
                  <a:lnTo>
                    <a:pt x="125" y="302"/>
                  </a:lnTo>
                  <a:lnTo>
                    <a:pt x="164" y="290"/>
                  </a:lnTo>
                  <a:lnTo>
                    <a:pt x="195" y="274"/>
                  </a:lnTo>
                  <a:lnTo>
                    <a:pt x="225" y="256"/>
                  </a:lnTo>
                  <a:lnTo>
                    <a:pt x="251" y="238"/>
                  </a:lnTo>
                  <a:lnTo>
                    <a:pt x="275" y="220"/>
                  </a:lnTo>
                  <a:lnTo>
                    <a:pt x="297" y="201"/>
                  </a:lnTo>
                  <a:lnTo>
                    <a:pt x="315" y="183"/>
                  </a:lnTo>
                  <a:lnTo>
                    <a:pt x="332" y="165"/>
                  </a:lnTo>
                  <a:lnTo>
                    <a:pt x="345" y="146"/>
                  </a:lnTo>
                  <a:lnTo>
                    <a:pt x="356" y="129"/>
                  </a:lnTo>
                  <a:lnTo>
                    <a:pt x="365" y="115"/>
                  </a:lnTo>
                  <a:lnTo>
                    <a:pt x="371" y="106"/>
                  </a:lnTo>
                  <a:lnTo>
                    <a:pt x="376" y="97"/>
                  </a:lnTo>
                  <a:lnTo>
                    <a:pt x="381" y="91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5972760" y="4209480"/>
              <a:ext cx="163440" cy="111240"/>
            </a:xfrm>
            <a:custGeom>
              <a:avLst/>
              <a:gdLst/>
              <a:ahLst/>
              <a:rect l="l" t="t" r="r" b="b"/>
              <a:pathLst>
                <a:path w="371" h="279">
                  <a:moveTo>
                    <a:pt x="4" y="236"/>
                  </a:moveTo>
                  <a:lnTo>
                    <a:pt x="0" y="246"/>
                  </a:lnTo>
                  <a:lnTo>
                    <a:pt x="0" y="258"/>
                  </a:lnTo>
                  <a:lnTo>
                    <a:pt x="6" y="266"/>
                  </a:lnTo>
                  <a:lnTo>
                    <a:pt x="13" y="276"/>
                  </a:lnTo>
                  <a:lnTo>
                    <a:pt x="22" y="279"/>
                  </a:lnTo>
                  <a:lnTo>
                    <a:pt x="36" y="279"/>
                  </a:lnTo>
                  <a:lnTo>
                    <a:pt x="79" y="270"/>
                  </a:lnTo>
                  <a:lnTo>
                    <a:pt x="120" y="252"/>
                  </a:lnTo>
                  <a:lnTo>
                    <a:pt x="157" y="239"/>
                  </a:lnTo>
                  <a:lnTo>
                    <a:pt x="191" y="218"/>
                  </a:lnTo>
                  <a:lnTo>
                    <a:pt x="221" y="198"/>
                  </a:lnTo>
                  <a:lnTo>
                    <a:pt x="251" y="175"/>
                  </a:lnTo>
                  <a:lnTo>
                    <a:pt x="274" y="153"/>
                  </a:lnTo>
                  <a:lnTo>
                    <a:pt x="295" y="131"/>
                  </a:lnTo>
                  <a:lnTo>
                    <a:pt x="312" y="110"/>
                  </a:lnTo>
                  <a:lnTo>
                    <a:pt x="329" y="91"/>
                  </a:lnTo>
                  <a:lnTo>
                    <a:pt x="341" y="72"/>
                  </a:lnTo>
                  <a:lnTo>
                    <a:pt x="353" y="56"/>
                  </a:lnTo>
                  <a:lnTo>
                    <a:pt x="362" y="42"/>
                  </a:lnTo>
                  <a:lnTo>
                    <a:pt x="366" y="30"/>
                  </a:lnTo>
                  <a:lnTo>
                    <a:pt x="371" y="24"/>
                  </a:lnTo>
                  <a:lnTo>
                    <a:pt x="317" y="0"/>
                  </a:lnTo>
                  <a:lnTo>
                    <a:pt x="312" y="6"/>
                  </a:lnTo>
                  <a:lnTo>
                    <a:pt x="307" y="15"/>
                  </a:lnTo>
                  <a:lnTo>
                    <a:pt x="301" y="24"/>
                  </a:lnTo>
                  <a:lnTo>
                    <a:pt x="292" y="38"/>
                  </a:lnTo>
                  <a:lnTo>
                    <a:pt x="281" y="55"/>
                  </a:lnTo>
                  <a:lnTo>
                    <a:pt x="268" y="74"/>
                  </a:lnTo>
                  <a:lnTo>
                    <a:pt x="251" y="92"/>
                  </a:lnTo>
                  <a:lnTo>
                    <a:pt x="233" y="110"/>
                  </a:lnTo>
                  <a:lnTo>
                    <a:pt x="211" y="129"/>
                  </a:lnTo>
                  <a:lnTo>
                    <a:pt x="187" y="147"/>
                  </a:lnTo>
                  <a:lnTo>
                    <a:pt x="161" y="165"/>
                  </a:lnTo>
                  <a:lnTo>
                    <a:pt x="131" y="183"/>
                  </a:lnTo>
                  <a:lnTo>
                    <a:pt x="100" y="199"/>
                  </a:lnTo>
                  <a:lnTo>
                    <a:pt x="61" y="211"/>
                  </a:lnTo>
                  <a:lnTo>
                    <a:pt x="23" y="222"/>
                  </a:lnTo>
                  <a:lnTo>
                    <a:pt x="12" y="227"/>
                  </a:lnTo>
                  <a:lnTo>
                    <a:pt x="4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6825960" y="3630240"/>
              <a:ext cx="128160" cy="45360"/>
            </a:xfrm>
            <a:custGeom>
              <a:avLst/>
              <a:gdLst/>
              <a:ahLst/>
              <a:rect l="l" t="t" r="r" b="b"/>
              <a:pathLst>
                <a:path w="292" h="113">
                  <a:moveTo>
                    <a:pt x="0" y="74"/>
                  </a:moveTo>
                  <a:lnTo>
                    <a:pt x="0" y="85"/>
                  </a:lnTo>
                  <a:lnTo>
                    <a:pt x="6" y="97"/>
                  </a:lnTo>
                  <a:lnTo>
                    <a:pt x="12" y="104"/>
                  </a:lnTo>
                  <a:lnTo>
                    <a:pt x="21" y="110"/>
                  </a:lnTo>
                  <a:lnTo>
                    <a:pt x="32" y="113"/>
                  </a:lnTo>
                  <a:lnTo>
                    <a:pt x="44" y="107"/>
                  </a:lnTo>
                  <a:lnTo>
                    <a:pt x="57" y="102"/>
                  </a:lnTo>
                  <a:lnTo>
                    <a:pt x="68" y="94"/>
                  </a:lnTo>
                  <a:lnTo>
                    <a:pt x="80" y="89"/>
                  </a:lnTo>
                  <a:lnTo>
                    <a:pt x="96" y="84"/>
                  </a:lnTo>
                  <a:lnTo>
                    <a:pt x="109" y="79"/>
                  </a:lnTo>
                  <a:lnTo>
                    <a:pt x="120" y="74"/>
                  </a:lnTo>
                  <a:lnTo>
                    <a:pt x="135" y="73"/>
                  </a:lnTo>
                  <a:lnTo>
                    <a:pt x="149" y="71"/>
                  </a:lnTo>
                  <a:lnTo>
                    <a:pt x="163" y="68"/>
                  </a:lnTo>
                  <a:lnTo>
                    <a:pt x="180" y="65"/>
                  </a:lnTo>
                  <a:lnTo>
                    <a:pt x="197" y="64"/>
                  </a:lnTo>
                  <a:lnTo>
                    <a:pt x="212" y="64"/>
                  </a:lnTo>
                  <a:lnTo>
                    <a:pt x="231" y="62"/>
                  </a:lnTo>
                  <a:lnTo>
                    <a:pt x="251" y="61"/>
                  </a:lnTo>
                  <a:lnTo>
                    <a:pt x="270" y="61"/>
                  </a:lnTo>
                  <a:lnTo>
                    <a:pt x="292" y="61"/>
                  </a:lnTo>
                  <a:lnTo>
                    <a:pt x="292" y="0"/>
                  </a:lnTo>
                  <a:lnTo>
                    <a:pt x="270" y="0"/>
                  </a:lnTo>
                  <a:lnTo>
                    <a:pt x="251" y="0"/>
                  </a:lnTo>
                  <a:lnTo>
                    <a:pt x="229" y="1"/>
                  </a:lnTo>
                  <a:lnTo>
                    <a:pt x="212" y="2"/>
                  </a:lnTo>
                  <a:lnTo>
                    <a:pt x="193" y="2"/>
                  </a:lnTo>
                  <a:lnTo>
                    <a:pt x="175" y="6"/>
                  </a:lnTo>
                  <a:lnTo>
                    <a:pt x="157" y="7"/>
                  </a:lnTo>
                  <a:lnTo>
                    <a:pt x="140" y="10"/>
                  </a:lnTo>
                  <a:lnTo>
                    <a:pt x="122" y="14"/>
                  </a:lnTo>
                  <a:lnTo>
                    <a:pt x="109" y="18"/>
                  </a:lnTo>
                  <a:lnTo>
                    <a:pt x="90" y="23"/>
                  </a:lnTo>
                  <a:lnTo>
                    <a:pt x="74" y="28"/>
                  </a:lnTo>
                  <a:lnTo>
                    <a:pt x="60" y="34"/>
                  </a:lnTo>
                  <a:lnTo>
                    <a:pt x="44" y="41"/>
                  </a:lnTo>
                  <a:lnTo>
                    <a:pt x="30" y="47"/>
                  </a:lnTo>
                  <a:lnTo>
                    <a:pt x="14" y="56"/>
                  </a:lnTo>
                  <a:lnTo>
                    <a:pt x="6" y="6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>
              <a:off x="7199640" y="3722400"/>
              <a:ext cx="64440" cy="116280"/>
            </a:xfrm>
            <a:custGeom>
              <a:avLst/>
              <a:gdLst/>
              <a:ahLst/>
              <a:rect l="l" t="t" r="r" b="b"/>
              <a:pathLst>
                <a:path w="146" h="289">
                  <a:moveTo>
                    <a:pt x="0" y="249"/>
                  </a:moveTo>
                  <a:lnTo>
                    <a:pt x="0" y="289"/>
                  </a:lnTo>
                  <a:lnTo>
                    <a:pt x="30" y="286"/>
                  </a:lnTo>
                  <a:lnTo>
                    <a:pt x="56" y="277"/>
                  </a:lnTo>
                  <a:lnTo>
                    <a:pt x="80" y="266"/>
                  </a:lnTo>
                  <a:lnTo>
                    <a:pt x="103" y="248"/>
                  </a:lnTo>
                  <a:lnTo>
                    <a:pt x="120" y="225"/>
                  </a:lnTo>
                  <a:lnTo>
                    <a:pt x="134" y="201"/>
                  </a:lnTo>
                  <a:lnTo>
                    <a:pt x="141" y="174"/>
                  </a:lnTo>
                  <a:lnTo>
                    <a:pt x="146" y="145"/>
                  </a:lnTo>
                  <a:lnTo>
                    <a:pt x="141" y="116"/>
                  </a:lnTo>
                  <a:lnTo>
                    <a:pt x="134" y="90"/>
                  </a:lnTo>
                  <a:lnTo>
                    <a:pt x="120" y="66"/>
                  </a:lnTo>
                  <a:lnTo>
                    <a:pt x="103" y="42"/>
                  </a:lnTo>
                  <a:lnTo>
                    <a:pt x="80" y="24"/>
                  </a:lnTo>
                  <a:lnTo>
                    <a:pt x="56" y="10"/>
                  </a:lnTo>
                  <a:lnTo>
                    <a:pt x="30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22" y="42"/>
                  </a:lnTo>
                  <a:lnTo>
                    <a:pt x="40" y="48"/>
                  </a:lnTo>
                  <a:lnTo>
                    <a:pt x="58" y="58"/>
                  </a:lnTo>
                  <a:lnTo>
                    <a:pt x="75" y="70"/>
                  </a:lnTo>
                  <a:lnTo>
                    <a:pt x="86" y="86"/>
                  </a:lnTo>
                  <a:lnTo>
                    <a:pt x="98" y="104"/>
                  </a:lnTo>
                  <a:lnTo>
                    <a:pt x="103" y="122"/>
                  </a:lnTo>
                  <a:lnTo>
                    <a:pt x="105" y="145"/>
                  </a:lnTo>
                  <a:lnTo>
                    <a:pt x="103" y="168"/>
                  </a:lnTo>
                  <a:lnTo>
                    <a:pt x="98" y="186"/>
                  </a:lnTo>
                  <a:lnTo>
                    <a:pt x="86" y="204"/>
                  </a:lnTo>
                  <a:lnTo>
                    <a:pt x="75" y="219"/>
                  </a:lnTo>
                  <a:lnTo>
                    <a:pt x="58" y="232"/>
                  </a:lnTo>
                  <a:lnTo>
                    <a:pt x="40" y="241"/>
                  </a:lnTo>
                  <a:lnTo>
                    <a:pt x="22" y="248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7264440" y="3722400"/>
              <a:ext cx="63360" cy="116280"/>
            </a:xfrm>
            <a:custGeom>
              <a:avLst/>
              <a:gdLst/>
              <a:ahLst/>
              <a:rect l="l" t="t" r="r" b="b"/>
              <a:pathLst>
                <a:path w="145" h="289">
                  <a:moveTo>
                    <a:pt x="145" y="249"/>
                  </a:moveTo>
                  <a:lnTo>
                    <a:pt x="122" y="248"/>
                  </a:lnTo>
                  <a:lnTo>
                    <a:pt x="104" y="241"/>
                  </a:lnTo>
                  <a:lnTo>
                    <a:pt x="86" y="232"/>
                  </a:lnTo>
                  <a:lnTo>
                    <a:pt x="69" y="219"/>
                  </a:lnTo>
                  <a:lnTo>
                    <a:pt x="57" y="204"/>
                  </a:lnTo>
                  <a:lnTo>
                    <a:pt x="47" y="186"/>
                  </a:lnTo>
                  <a:lnTo>
                    <a:pt x="42" y="168"/>
                  </a:lnTo>
                  <a:lnTo>
                    <a:pt x="39" y="145"/>
                  </a:lnTo>
                  <a:lnTo>
                    <a:pt x="42" y="122"/>
                  </a:lnTo>
                  <a:lnTo>
                    <a:pt x="47" y="104"/>
                  </a:lnTo>
                  <a:lnTo>
                    <a:pt x="57" y="86"/>
                  </a:lnTo>
                  <a:lnTo>
                    <a:pt x="69" y="70"/>
                  </a:lnTo>
                  <a:lnTo>
                    <a:pt x="86" y="58"/>
                  </a:lnTo>
                  <a:lnTo>
                    <a:pt x="104" y="48"/>
                  </a:lnTo>
                  <a:lnTo>
                    <a:pt x="122" y="42"/>
                  </a:lnTo>
                  <a:lnTo>
                    <a:pt x="145" y="40"/>
                  </a:lnTo>
                  <a:lnTo>
                    <a:pt x="145" y="0"/>
                  </a:lnTo>
                  <a:lnTo>
                    <a:pt x="117" y="3"/>
                  </a:lnTo>
                  <a:lnTo>
                    <a:pt x="88" y="10"/>
                  </a:lnTo>
                  <a:lnTo>
                    <a:pt x="64" y="24"/>
                  </a:lnTo>
                  <a:lnTo>
                    <a:pt x="42" y="42"/>
                  </a:lnTo>
                  <a:lnTo>
                    <a:pt x="23" y="66"/>
                  </a:lnTo>
                  <a:lnTo>
                    <a:pt x="11" y="90"/>
                  </a:lnTo>
                  <a:lnTo>
                    <a:pt x="3" y="116"/>
                  </a:lnTo>
                  <a:lnTo>
                    <a:pt x="0" y="145"/>
                  </a:lnTo>
                  <a:lnTo>
                    <a:pt x="3" y="174"/>
                  </a:lnTo>
                  <a:lnTo>
                    <a:pt x="11" y="201"/>
                  </a:lnTo>
                  <a:lnTo>
                    <a:pt x="23" y="225"/>
                  </a:lnTo>
                  <a:lnTo>
                    <a:pt x="42" y="248"/>
                  </a:lnTo>
                  <a:lnTo>
                    <a:pt x="64" y="266"/>
                  </a:lnTo>
                  <a:lnTo>
                    <a:pt x="88" y="277"/>
                  </a:lnTo>
                  <a:lnTo>
                    <a:pt x="117" y="286"/>
                  </a:lnTo>
                  <a:lnTo>
                    <a:pt x="145" y="289"/>
                  </a:lnTo>
                  <a:lnTo>
                    <a:pt x="145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6780960" y="3801600"/>
              <a:ext cx="122760" cy="54000"/>
            </a:xfrm>
            <a:custGeom>
              <a:avLst/>
              <a:gdLst/>
              <a:ahLst/>
              <a:rect l="l" t="t" r="r" b="b"/>
              <a:pathLst>
                <a:path w="280" h="136">
                  <a:moveTo>
                    <a:pt x="0" y="0"/>
                  </a:moveTo>
                  <a:lnTo>
                    <a:pt x="25" y="98"/>
                  </a:lnTo>
                  <a:lnTo>
                    <a:pt x="38" y="98"/>
                  </a:lnTo>
                  <a:lnTo>
                    <a:pt x="78" y="108"/>
                  </a:lnTo>
                  <a:lnTo>
                    <a:pt x="116" y="117"/>
                  </a:lnTo>
                  <a:lnTo>
                    <a:pt x="157" y="122"/>
                  </a:lnTo>
                  <a:lnTo>
                    <a:pt x="195" y="129"/>
                  </a:lnTo>
                  <a:lnTo>
                    <a:pt x="226" y="132"/>
                  </a:lnTo>
                  <a:lnTo>
                    <a:pt x="252" y="136"/>
                  </a:lnTo>
                  <a:lnTo>
                    <a:pt x="267" y="136"/>
                  </a:lnTo>
                  <a:lnTo>
                    <a:pt x="271" y="136"/>
                  </a:lnTo>
                  <a:lnTo>
                    <a:pt x="280" y="40"/>
                  </a:lnTo>
                  <a:lnTo>
                    <a:pt x="239" y="34"/>
                  </a:lnTo>
                  <a:lnTo>
                    <a:pt x="145" y="22"/>
                  </a:lnTo>
                  <a:lnTo>
                    <a:pt x="6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6785280" y="3840120"/>
              <a:ext cx="117360" cy="39240"/>
            </a:xfrm>
            <a:custGeom>
              <a:avLst/>
              <a:gdLst/>
              <a:ahLst/>
              <a:rect l="l" t="t" r="r" b="b"/>
              <a:pathLst>
                <a:path w="269" h="99">
                  <a:moveTo>
                    <a:pt x="23" y="0"/>
                  </a:moveTo>
                  <a:lnTo>
                    <a:pt x="11" y="4"/>
                  </a:lnTo>
                  <a:lnTo>
                    <a:pt x="5" y="13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3" y="44"/>
                  </a:lnTo>
                  <a:lnTo>
                    <a:pt x="9" y="51"/>
                  </a:lnTo>
                  <a:lnTo>
                    <a:pt x="21" y="58"/>
                  </a:lnTo>
                  <a:lnTo>
                    <a:pt x="63" y="67"/>
                  </a:lnTo>
                  <a:lnTo>
                    <a:pt x="106" y="78"/>
                  </a:lnTo>
                  <a:lnTo>
                    <a:pt x="147" y="85"/>
                  </a:lnTo>
                  <a:lnTo>
                    <a:pt x="183" y="91"/>
                  </a:lnTo>
                  <a:lnTo>
                    <a:pt x="218" y="96"/>
                  </a:lnTo>
                  <a:lnTo>
                    <a:pt x="244" y="98"/>
                  </a:lnTo>
                  <a:lnTo>
                    <a:pt x="261" y="99"/>
                  </a:lnTo>
                  <a:lnTo>
                    <a:pt x="267" y="99"/>
                  </a:lnTo>
                  <a:lnTo>
                    <a:pt x="269" y="38"/>
                  </a:lnTo>
                  <a:lnTo>
                    <a:pt x="265" y="38"/>
                  </a:lnTo>
                  <a:lnTo>
                    <a:pt x="250" y="38"/>
                  </a:lnTo>
                  <a:lnTo>
                    <a:pt x="224" y="34"/>
                  </a:lnTo>
                  <a:lnTo>
                    <a:pt x="193" y="31"/>
                  </a:lnTo>
                  <a:lnTo>
                    <a:pt x="155" y="24"/>
                  </a:lnTo>
                  <a:lnTo>
                    <a:pt x="114" y="19"/>
                  </a:lnTo>
                  <a:lnTo>
                    <a:pt x="76" y="10"/>
                  </a:lnTo>
                  <a:lnTo>
                    <a:pt x="3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 flipV="1">
              <a:off x="7243560" y="373896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7280280" y="37393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7218000" y="3739320"/>
              <a:ext cx="92520" cy="82440"/>
            </a:xfrm>
            <a:custGeom>
              <a:avLst/>
              <a:gdLst/>
              <a:ahLst/>
              <a:rect l="l" t="t" r="r" b="b"/>
              <a:pathLst>
                <a:path w="211" h="209">
                  <a:moveTo>
                    <a:pt x="106" y="209"/>
                  </a:moveTo>
                  <a:lnTo>
                    <a:pt x="128" y="208"/>
                  </a:lnTo>
                  <a:lnTo>
                    <a:pt x="146" y="201"/>
                  </a:lnTo>
                  <a:lnTo>
                    <a:pt x="164" y="192"/>
                  </a:lnTo>
                  <a:lnTo>
                    <a:pt x="181" y="179"/>
                  </a:lnTo>
                  <a:lnTo>
                    <a:pt x="192" y="164"/>
                  </a:lnTo>
                  <a:lnTo>
                    <a:pt x="204" y="146"/>
                  </a:lnTo>
                  <a:lnTo>
                    <a:pt x="209" y="128"/>
                  </a:lnTo>
                  <a:lnTo>
                    <a:pt x="211" y="105"/>
                  </a:lnTo>
                  <a:lnTo>
                    <a:pt x="209" y="82"/>
                  </a:lnTo>
                  <a:lnTo>
                    <a:pt x="204" y="64"/>
                  </a:lnTo>
                  <a:lnTo>
                    <a:pt x="192" y="46"/>
                  </a:lnTo>
                  <a:lnTo>
                    <a:pt x="181" y="30"/>
                  </a:lnTo>
                  <a:lnTo>
                    <a:pt x="164" y="18"/>
                  </a:lnTo>
                  <a:lnTo>
                    <a:pt x="146" y="8"/>
                  </a:lnTo>
                  <a:lnTo>
                    <a:pt x="128" y="2"/>
                  </a:lnTo>
                  <a:lnTo>
                    <a:pt x="106" y="0"/>
                  </a:lnTo>
                  <a:lnTo>
                    <a:pt x="83" y="2"/>
                  </a:lnTo>
                  <a:lnTo>
                    <a:pt x="65" y="8"/>
                  </a:lnTo>
                  <a:lnTo>
                    <a:pt x="47" y="18"/>
                  </a:lnTo>
                  <a:lnTo>
                    <a:pt x="30" y="30"/>
                  </a:lnTo>
                  <a:lnTo>
                    <a:pt x="18" y="46"/>
                  </a:lnTo>
                  <a:lnTo>
                    <a:pt x="8" y="64"/>
                  </a:lnTo>
                  <a:lnTo>
                    <a:pt x="3" y="82"/>
                  </a:lnTo>
                  <a:lnTo>
                    <a:pt x="0" y="105"/>
                  </a:lnTo>
                  <a:lnTo>
                    <a:pt x="3" y="128"/>
                  </a:lnTo>
                  <a:lnTo>
                    <a:pt x="8" y="146"/>
                  </a:lnTo>
                  <a:lnTo>
                    <a:pt x="18" y="164"/>
                  </a:lnTo>
                  <a:lnTo>
                    <a:pt x="30" y="179"/>
                  </a:lnTo>
                  <a:lnTo>
                    <a:pt x="47" y="192"/>
                  </a:lnTo>
                  <a:lnTo>
                    <a:pt x="65" y="201"/>
                  </a:lnTo>
                  <a:lnTo>
                    <a:pt x="83" y="208"/>
                  </a:lnTo>
                  <a:lnTo>
                    <a:pt x="106" y="209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H="1">
              <a:off x="7309440" y="3625560"/>
              <a:ext cx="902160" cy="101880"/>
            </a:xfrm>
            <a:custGeom>
              <a:avLst/>
              <a:gdLst/>
              <a:ahLst/>
              <a:rect l="l" t="t" r="r" b="b"/>
              <a:pathLst>
                <a:path w="2047" h="253">
                  <a:moveTo>
                    <a:pt x="1998" y="86"/>
                  </a:moveTo>
                  <a:lnTo>
                    <a:pt x="1865" y="73"/>
                  </a:lnTo>
                  <a:lnTo>
                    <a:pt x="1721" y="59"/>
                  </a:lnTo>
                  <a:lnTo>
                    <a:pt x="1560" y="46"/>
                  </a:lnTo>
                  <a:lnTo>
                    <a:pt x="1397" y="36"/>
                  </a:lnTo>
                  <a:lnTo>
                    <a:pt x="1226" y="26"/>
                  </a:lnTo>
                  <a:lnTo>
                    <a:pt x="1055" y="19"/>
                  </a:lnTo>
                  <a:lnTo>
                    <a:pt x="887" y="12"/>
                  </a:lnTo>
                  <a:lnTo>
                    <a:pt x="722" y="7"/>
                  </a:lnTo>
                  <a:lnTo>
                    <a:pt x="567" y="2"/>
                  </a:lnTo>
                  <a:lnTo>
                    <a:pt x="425" y="0"/>
                  </a:lnTo>
                  <a:lnTo>
                    <a:pt x="299" y="0"/>
                  </a:lnTo>
                  <a:lnTo>
                    <a:pt x="187" y="0"/>
                  </a:lnTo>
                  <a:lnTo>
                    <a:pt x="102" y="0"/>
                  </a:lnTo>
                  <a:lnTo>
                    <a:pt x="38" y="2"/>
                  </a:lnTo>
                  <a:lnTo>
                    <a:pt x="18" y="6"/>
                  </a:lnTo>
                  <a:lnTo>
                    <a:pt x="0" y="11"/>
                  </a:lnTo>
                  <a:lnTo>
                    <a:pt x="19" y="28"/>
                  </a:lnTo>
                  <a:lnTo>
                    <a:pt x="75" y="58"/>
                  </a:lnTo>
                  <a:lnTo>
                    <a:pt x="164" y="91"/>
                  </a:lnTo>
                  <a:lnTo>
                    <a:pt x="271" y="132"/>
                  </a:lnTo>
                  <a:lnTo>
                    <a:pt x="386" y="170"/>
                  </a:lnTo>
                  <a:lnTo>
                    <a:pt x="503" y="207"/>
                  </a:lnTo>
                  <a:lnTo>
                    <a:pt x="607" y="234"/>
                  </a:lnTo>
                  <a:lnTo>
                    <a:pt x="691" y="253"/>
                  </a:lnTo>
                  <a:lnTo>
                    <a:pt x="819" y="245"/>
                  </a:lnTo>
                  <a:lnTo>
                    <a:pt x="999" y="220"/>
                  </a:lnTo>
                  <a:lnTo>
                    <a:pt x="1184" y="193"/>
                  </a:lnTo>
                  <a:lnTo>
                    <a:pt x="1372" y="168"/>
                  </a:lnTo>
                  <a:lnTo>
                    <a:pt x="1553" y="145"/>
                  </a:lnTo>
                  <a:lnTo>
                    <a:pt x="1726" y="125"/>
                  </a:lnTo>
                  <a:lnTo>
                    <a:pt x="1901" y="106"/>
                  </a:lnTo>
                  <a:lnTo>
                    <a:pt x="2047" y="94"/>
                  </a:lnTo>
                  <a:lnTo>
                    <a:pt x="1998" y="86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0" name=""/>
          <p:cNvSpPr/>
          <p:nvPr/>
        </p:nvSpPr>
        <p:spPr>
          <a:xfrm>
            <a:off x="1066680" y="4572000"/>
            <a:ext cx="2773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1" name=""/>
          <p:cNvGrpSpPr/>
          <p:nvPr/>
        </p:nvGrpSpPr>
        <p:grpSpPr>
          <a:xfrm>
            <a:off x="685800" y="3218040"/>
            <a:ext cx="3042360" cy="1183680"/>
            <a:chOff x="685800" y="3218040"/>
            <a:chExt cx="3042360" cy="1183680"/>
          </a:xfrm>
        </p:grpSpPr>
        <p:sp>
          <p:nvSpPr>
            <p:cNvPr id="3292" name=""/>
            <p:cNvSpPr/>
            <p:nvPr/>
          </p:nvSpPr>
          <p:spPr>
            <a:xfrm flipH="1">
              <a:off x="987840" y="3390480"/>
              <a:ext cx="2739960" cy="914040"/>
            </a:xfrm>
            <a:custGeom>
              <a:avLst/>
              <a:gdLst/>
              <a:ahLst/>
              <a:rect l="l" t="t" r="r" b="b"/>
              <a:pathLst>
                <a:path w="5196" h="2222">
                  <a:moveTo>
                    <a:pt x="565" y="0"/>
                  </a:moveTo>
                  <a:lnTo>
                    <a:pt x="882" y="48"/>
                  </a:lnTo>
                  <a:lnTo>
                    <a:pt x="3612" y="858"/>
                  </a:lnTo>
                  <a:lnTo>
                    <a:pt x="4146" y="723"/>
                  </a:lnTo>
                  <a:lnTo>
                    <a:pt x="4603" y="572"/>
                  </a:lnTo>
                  <a:lnTo>
                    <a:pt x="4572" y="388"/>
                  </a:lnTo>
                  <a:lnTo>
                    <a:pt x="5165" y="588"/>
                  </a:lnTo>
                  <a:lnTo>
                    <a:pt x="4069" y="1065"/>
                  </a:lnTo>
                  <a:lnTo>
                    <a:pt x="5196" y="1468"/>
                  </a:lnTo>
                  <a:lnTo>
                    <a:pt x="4643" y="1667"/>
                  </a:lnTo>
                  <a:lnTo>
                    <a:pt x="4603" y="1500"/>
                  </a:lnTo>
                  <a:lnTo>
                    <a:pt x="4097" y="1405"/>
                  </a:lnTo>
                  <a:lnTo>
                    <a:pt x="3544" y="1373"/>
                  </a:lnTo>
                  <a:lnTo>
                    <a:pt x="892" y="2158"/>
                  </a:lnTo>
                  <a:lnTo>
                    <a:pt x="595" y="2222"/>
                  </a:lnTo>
                  <a:lnTo>
                    <a:pt x="278" y="2183"/>
                  </a:lnTo>
                  <a:lnTo>
                    <a:pt x="12" y="2095"/>
                  </a:lnTo>
                  <a:lnTo>
                    <a:pt x="2861" y="1110"/>
                  </a:lnTo>
                  <a:lnTo>
                    <a:pt x="0" y="160"/>
                  </a:lnTo>
                  <a:lnTo>
                    <a:pt x="259" y="4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732960" y="3218040"/>
              <a:ext cx="672120" cy="423000"/>
            </a:xfrm>
            <a:custGeom>
              <a:avLst/>
              <a:gdLst/>
              <a:ahLst/>
              <a:rect l="l" t="t" r="r" b="b"/>
              <a:pathLst>
                <a:path w="1276" h="1030">
                  <a:moveTo>
                    <a:pt x="207" y="913"/>
                  </a:moveTo>
                  <a:lnTo>
                    <a:pt x="78" y="785"/>
                  </a:lnTo>
                  <a:lnTo>
                    <a:pt x="245" y="705"/>
                  </a:lnTo>
                  <a:lnTo>
                    <a:pt x="356" y="802"/>
                  </a:lnTo>
                  <a:lnTo>
                    <a:pt x="464" y="855"/>
                  </a:lnTo>
                  <a:lnTo>
                    <a:pt x="603" y="880"/>
                  </a:lnTo>
                  <a:lnTo>
                    <a:pt x="751" y="880"/>
                  </a:lnTo>
                  <a:lnTo>
                    <a:pt x="880" y="833"/>
                  </a:lnTo>
                  <a:lnTo>
                    <a:pt x="989" y="760"/>
                  </a:lnTo>
                  <a:lnTo>
                    <a:pt x="1068" y="658"/>
                  </a:lnTo>
                  <a:lnTo>
                    <a:pt x="1107" y="546"/>
                  </a:lnTo>
                  <a:lnTo>
                    <a:pt x="1087" y="437"/>
                  </a:lnTo>
                  <a:lnTo>
                    <a:pt x="1040" y="333"/>
                  </a:lnTo>
                  <a:lnTo>
                    <a:pt x="949" y="238"/>
                  </a:lnTo>
                  <a:lnTo>
                    <a:pt x="821" y="183"/>
                  </a:lnTo>
                  <a:lnTo>
                    <a:pt x="681" y="150"/>
                  </a:lnTo>
                  <a:lnTo>
                    <a:pt x="553" y="158"/>
                  </a:lnTo>
                  <a:lnTo>
                    <a:pt x="405" y="205"/>
                  </a:lnTo>
                  <a:lnTo>
                    <a:pt x="306" y="278"/>
                  </a:lnTo>
                  <a:lnTo>
                    <a:pt x="226" y="380"/>
                  </a:lnTo>
                  <a:lnTo>
                    <a:pt x="198" y="492"/>
                  </a:lnTo>
                  <a:lnTo>
                    <a:pt x="207" y="603"/>
                  </a:lnTo>
                  <a:lnTo>
                    <a:pt x="245" y="705"/>
                  </a:lnTo>
                  <a:lnTo>
                    <a:pt x="78" y="785"/>
                  </a:lnTo>
                  <a:lnTo>
                    <a:pt x="10" y="627"/>
                  </a:lnTo>
                  <a:lnTo>
                    <a:pt x="0" y="468"/>
                  </a:lnTo>
                  <a:lnTo>
                    <a:pt x="38" y="318"/>
                  </a:lnTo>
                  <a:lnTo>
                    <a:pt x="148" y="183"/>
                  </a:lnTo>
                  <a:lnTo>
                    <a:pt x="297" y="80"/>
                  </a:lnTo>
                  <a:lnTo>
                    <a:pt x="494" y="23"/>
                  </a:lnTo>
                  <a:lnTo>
                    <a:pt x="692" y="0"/>
                  </a:lnTo>
                  <a:lnTo>
                    <a:pt x="880" y="46"/>
                  </a:lnTo>
                  <a:lnTo>
                    <a:pt x="1049" y="127"/>
                  </a:lnTo>
                  <a:lnTo>
                    <a:pt x="1177" y="253"/>
                  </a:lnTo>
                  <a:lnTo>
                    <a:pt x="1266" y="395"/>
                  </a:lnTo>
                  <a:lnTo>
                    <a:pt x="1276" y="563"/>
                  </a:lnTo>
                  <a:lnTo>
                    <a:pt x="1217" y="722"/>
                  </a:lnTo>
                  <a:lnTo>
                    <a:pt x="1118" y="855"/>
                  </a:lnTo>
                  <a:lnTo>
                    <a:pt x="958" y="960"/>
                  </a:lnTo>
                  <a:lnTo>
                    <a:pt x="781" y="1015"/>
                  </a:lnTo>
                  <a:lnTo>
                    <a:pt x="584" y="1030"/>
                  </a:lnTo>
                  <a:lnTo>
                    <a:pt x="375" y="992"/>
                  </a:lnTo>
                  <a:lnTo>
                    <a:pt x="207" y="9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685800" y="3978720"/>
              <a:ext cx="678960" cy="423000"/>
            </a:xfrm>
            <a:custGeom>
              <a:avLst/>
              <a:gdLst/>
              <a:ahLst/>
              <a:rect l="l" t="t" r="r" b="b"/>
              <a:pathLst>
                <a:path w="1287" h="1030">
                  <a:moveTo>
                    <a:pt x="219" y="905"/>
                  </a:moveTo>
                  <a:lnTo>
                    <a:pt x="89" y="775"/>
                  </a:lnTo>
                  <a:lnTo>
                    <a:pt x="278" y="713"/>
                  </a:lnTo>
                  <a:lnTo>
                    <a:pt x="357" y="792"/>
                  </a:lnTo>
                  <a:lnTo>
                    <a:pt x="487" y="857"/>
                  </a:lnTo>
                  <a:lnTo>
                    <a:pt x="614" y="880"/>
                  </a:lnTo>
                  <a:lnTo>
                    <a:pt x="762" y="872"/>
                  </a:lnTo>
                  <a:lnTo>
                    <a:pt x="901" y="832"/>
                  </a:lnTo>
                  <a:lnTo>
                    <a:pt x="1002" y="753"/>
                  </a:lnTo>
                  <a:lnTo>
                    <a:pt x="1089" y="650"/>
                  </a:lnTo>
                  <a:lnTo>
                    <a:pt x="1108" y="547"/>
                  </a:lnTo>
                  <a:lnTo>
                    <a:pt x="1108" y="435"/>
                  </a:lnTo>
                  <a:lnTo>
                    <a:pt x="1059" y="332"/>
                  </a:lnTo>
                  <a:lnTo>
                    <a:pt x="962" y="237"/>
                  </a:lnTo>
                  <a:lnTo>
                    <a:pt x="842" y="180"/>
                  </a:lnTo>
                  <a:lnTo>
                    <a:pt x="703" y="150"/>
                  </a:lnTo>
                  <a:lnTo>
                    <a:pt x="553" y="157"/>
                  </a:lnTo>
                  <a:lnTo>
                    <a:pt x="426" y="205"/>
                  </a:lnTo>
                  <a:lnTo>
                    <a:pt x="317" y="277"/>
                  </a:lnTo>
                  <a:lnTo>
                    <a:pt x="249" y="363"/>
                  </a:lnTo>
                  <a:lnTo>
                    <a:pt x="198" y="483"/>
                  </a:lnTo>
                  <a:lnTo>
                    <a:pt x="219" y="595"/>
                  </a:lnTo>
                  <a:lnTo>
                    <a:pt x="278" y="713"/>
                  </a:lnTo>
                  <a:lnTo>
                    <a:pt x="89" y="775"/>
                  </a:lnTo>
                  <a:lnTo>
                    <a:pt x="21" y="625"/>
                  </a:lnTo>
                  <a:lnTo>
                    <a:pt x="0" y="467"/>
                  </a:lnTo>
                  <a:lnTo>
                    <a:pt x="61" y="308"/>
                  </a:lnTo>
                  <a:lnTo>
                    <a:pt x="160" y="175"/>
                  </a:lnTo>
                  <a:lnTo>
                    <a:pt x="317" y="70"/>
                  </a:lnTo>
                  <a:lnTo>
                    <a:pt x="506" y="15"/>
                  </a:lnTo>
                  <a:lnTo>
                    <a:pt x="703" y="0"/>
                  </a:lnTo>
                  <a:lnTo>
                    <a:pt x="901" y="47"/>
                  </a:lnTo>
                  <a:lnTo>
                    <a:pt x="1068" y="125"/>
                  </a:lnTo>
                  <a:lnTo>
                    <a:pt x="1198" y="253"/>
                  </a:lnTo>
                  <a:lnTo>
                    <a:pt x="1266" y="403"/>
                  </a:lnTo>
                  <a:lnTo>
                    <a:pt x="1287" y="562"/>
                  </a:lnTo>
                  <a:lnTo>
                    <a:pt x="1238" y="713"/>
                  </a:lnTo>
                  <a:lnTo>
                    <a:pt x="1129" y="857"/>
                  </a:lnTo>
                  <a:lnTo>
                    <a:pt x="971" y="960"/>
                  </a:lnTo>
                  <a:lnTo>
                    <a:pt x="783" y="1015"/>
                  </a:lnTo>
                  <a:lnTo>
                    <a:pt x="584" y="1030"/>
                  </a:lnTo>
                  <a:lnTo>
                    <a:pt x="386" y="1000"/>
                  </a:lnTo>
                  <a:lnTo>
                    <a:pt x="219" y="9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1824840" y="3786480"/>
              <a:ext cx="168840" cy="13248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60"/>
                  </a:moveTo>
                  <a:lnTo>
                    <a:pt x="321" y="160"/>
                  </a:lnTo>
                  <a:lnTo>
                    <a:pt x="321" y="152"/>
                  </a:lnTo>
                  <a:lnTo>
                    <a:pt x="320" y="137"/>
                  </a:lnTo>
                  <a:lnTo>
                    <a:pt x="316" y="120"/>
                  </a:lnTo>
                  <a:lnTo>
                    <a:pt x="312" y="105"/>
                  </a:lnTo>
                  <a:lnTo>
                    <a:pt x="306" y="91"/>
                  </a:lnTo>
                  <a:lnTo>
                    <a:pt x="299" y="76"/>
                  </a:lnTo>
                  <a:lnTo>
                    <a:pt x="289" y="65"/>
                  </a:lnTo>
                  <a:lnTo>
                    <a:pt x="280" y="51"/>
                  </a:lnTo>
                  <a:lnTo>
                    <a:pt x="268" y="42"/>
                  </a:lnTo>
                  <a:lnTo>
                    <a:pt x="257" y="30"/>
                  </a:lnTo>
                  <a:lnTo>
                    <a:pt x="244" y="23"/>
                  </a:lnTo>
                  <a:lnTo>
                    <a:pt x="230" y="15"/>
                  </a:lnTo>
                  <a:lnTo>
                    <a:pt x="215" y="9"/>
                  </a:lnTo>
                  <a:lnTo>
                    <a:pt x="200" y="4"/>
                  </a:lnTo>
                  <a:lnTo>
                    <a:pt x="185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35" y="2"/>
                  </a:lnTo>
                  <a:lnTo>
                    <a:pt x="120" y="4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6" y="23"/>
                  </a:lnTo>
                  <a:lnTo>
                    <a:pt x="65" y="30"/>
                  </a:lnTo>
                  <a:lnTo>
                    <a:pt x="52" y="42"/>
                  </a:lnTo>
                  <a:lnTo>
                    <a:pt x="42" y="51"/>
                  </a:lnTo>
                  <a:lnTo>
                    <a:pt x="31" y="65"/>
                  </a:lnTo>
                  <a:lnTo>
                    <a:pt x="23" y="76"/>
                  </a:lnTo>
                  <a:lnTo>
                    <a:pt x="15" y="91"/>
                  </a:lnTo>
                  <a:lnTo>
                    <a:pt x="10" y="105"/>
                  </a:lnTo>
                  <a:lnTo>
                    <a:pt x="4" y="120"/>
                  </a:lnTo>
                  <a:lnTo>
                    <a:pt x="0" y="13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84"/>
                  </a:lnTo>
                  <a:lnTo>
                    <a:pt x="4" y="200"/>
                  </a:lnTo>
                  <a:lnTo>
                    <a:pt x="10" y="215"/>
                  </a:lnTo>
                  <a:lnTo>
                    <a:pt x="15" y="230"/>
                  </a:lnTo>
                  <a:lnTo>
                    <a:pt x="23" y="243"/>
                  </a:lnTo>
                  <a:lnTo>
                    <a:pt x="31" y="257"/>
                  </a:lnTo>
                  <a:lnTo>
                    <a:pt x="42" y="268"/>
                  </a:lnTo>
                  <a:lnTo>
                    <a:pt x="52" y="279"/>
                  </a:lnTo>
                  <a:lnTo>
                    <a:pt x="65" y="289"/>
                  </a:lnTo>
                  <a:lnTo>
                    <a:pt x="76" y="298"/>
                  </a:lnTo>
                  <a:lnTo>
                    <a:pt x="91" y="306"/>
                  </a:lnTo>
                  <a:lnTo>
                    <a:pt x="105" y="312"/>
                  </a:lnTo>
                  <a:lnTo>
                    <a:pt x="120" y="316"/>
                  </a:lnTo>
                  <a:lnTo>
                    <a:pt x="135" y="319"/>
                  </a:lnTo>
                  <a:lnTo>
                    <a:pt x="160" y="321"/>
                  </a:lnTo>
                  <a:lnTo>
                    <a:pt x="160" y="321"/>
                  </a:lnTo>
                  <a:lnTo>
                    <a:pt x="167" y="321"/>
                  </a:lnTo>
                  <a:lnTo>
                    <a:pt x="185" y="319"/>
                  </a:lnTo>
                  <a:lnTo>
                    <a:pt x="200" y="316"/>
                  </a:lnTo>
                  <a:lnTo>
                    <a:pt x="215" y="312"/>
                  </a:lnTo>
                  <a:lnTo>
                    <a:pt x="230" y="306"/>
                  </a:lnTo>
                  <a:lnTo>
                    <a:pt x="244" y="298"/>
                  </a:lnTo>
                  <a:lnTo>
                    <a:pt x="257" y="289"/>
                  </a:lnTo>
                  <a:lnTo>
                    <a:pt x="268" y="279"/>
                  </a:lnTo>
                  <a:lnTo>
                    <a:pt x="280" y="268"/>
                  </a:lnTo>
                  <a:lnTo>
                    <a:pt x="289" y="257"/>
                  </a:lnTo>
                  <a:lnTo>
                    <a:pt x="299" y="243"/>
                  </a:lnTo>
                  <a:lnTo>
                    <a:pt x="306" y="230"/>
                  </a:lnTo>
                  <a:lnTo>
                    <a:pt x="312" y="215"/>
                  </a:lnTo>
                  <a:lnTo>
                    <a:pt x="316" y="200"/>
                  </a:lnTo>
                  <a:lnTo>
                    <a:pt x="320" y="184"/>
                  </a:lnTo>
                  <a:lnTo>
                    <a:pt x="321" y="1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3513240" y="3429360"/>
              <a:ext cx="105120" cy="25920"/>
            </a:xfrm>
            <a:custGeom>
              <a:avLst/>
              <a:gdLst/>
              <a:ahLst/>
              <a:rect l="l" t="t" r="r" b="b"/>
              <a:pathLst>
                <a:path w="202" h="63">
                  <a:moveTo>
                    <a:pt x="202" y="2"/>
                  </a:moveTo>
                  <a:lnTo>
                    <a:pt x="194" y="0"/>
                  </a:lnTo>
                  <a:lnTo>
                    <a:pt x="0" y="29"/>
                  </a:lnTo>
                  <a:lnTo>
                    <a:pt x="6" y="63"/>
                  </a:lnTo>
                  <a:lnTo>
                    <a:pt x="198" y="34"/>
                  </a:lnTo>
                  <a:lnTo>
                    <a:pt x="190" y="34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2135880" y="3430800"/>
              <a:ext cx="1382040" cy="359280"/>
            </a:xfrm>
            <a:custGeom>
              <a:avLst/>
              <a:gdLst/>
              <a:ahLst/>
              <a:rect l="l" t="t" r="r" b="b"/>
              <a:pathLst>
                <a:path w="2620" h="875">
                  <a:moveTo>
                    <a:pt x="2616" y="859"/>
                  </a:moveTo>
                  <a:lnTo>
                    <a:pt x="2620" y="842"/>
                  </a:lnTo>
                  <a:lnTo>
                    <a:pt x="12" y="0"/>
                  </a:lnTo>
                  <a:lnTo>
                    <a:pt x="0" y="32"/>
                  </a:lnTo>
                  <a:lnTo>
                    <a:pt x="2611" y="875"/>
                  </a:lnTo>
                  <a:lnTo>
                    <a:pt x="2616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3470760" y="4237200"/>
              <a:ext cx="129600" cy="15480"/>
            </a:xfrm>
            <a:custGeom>
              <a:avLst/>
              <a:gdLst/>
              <a:ahLst/>
              <a:rect l="l" t="t" r="r" b="b"/>
              <a:pathLst>
                <a:path w="247" h="36">
                  <a:moveTo>
                    <a:pt x="237" y="2"/>
                  </a:moveTo>
                  <a:lnTo>
                    <a:pt x="24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43" y="36"/>
                  </a:lnTo>
                  <a:lnTo>
                    <a:pt x="247" y="34"/>
                  </a:lnTo>
                  <a:lnTo>
                    <a:pt x="243" y="36"/>
                  </a:lnTo>
                  <a:lnTo>
                    <a:pt x="245" y="36"/>
                  </a:lnTo>
                  <a:lnTo>
                    <a:pt x="247" y="34"/>
                  </a:lnTo>
                  <a:lnTo>
                    <a:pt x="2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H="1">
              <a:off x="2526480" y="4002120"/>
              <a:ext cx="947880" cy="250560"/>
            </a:xfrm>
            <a:custGeom>
              <a:avLst/>
              <a:gdLst/>
              <a:ahLst/>
              <a:rect l="l" t="t" r="r" b="b"/>
              <a:pathLst>
                <a:path w="1799" h="608">
                  <a:moveTo>
                    <a:pt x="1793" y="17"/>
                  </a:moveTo>
                  <a:lnTo>
                    <a:pt x="1787" y="0"/>
                  </a:lnTo>
                  <a:lnTo>
                    <a:pt x="0" y="576"/>
                  </a:lnTo>
                  <a:lnTo>
                    <a:pt x="10" y="608"/>
                  </a:lnTo>
                  <a:lnTo>
                    <a:pt x="1799" y="32"/>
                  </a:lnTo>
                  <a:lnTo>
                    <a:pt x="179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H="1">
              <a:off x="2076840" y="3886560"/>
              <a:ext cx="370440" cy="111600"/>
            </a:xfrm>
            <a:custGeom>
              <a:avLst/>
              <a:gdLst/>
              <a:ahLst/>
              <a:rect l="l" t="t" r="r" b="b"/>
              <a:pathLst>
                <a:path w="703" h="272">
                  <a:moveTo>
                    <a:pt x="698" y="18"/>
                  </a:moveTo>
                  <a:lnTo>
                    <a:pt x="692" y="0"/>
                  </a:lnTo>
                  <a:lnTo>
                    <a:pt x="0" y="240"/>
                  </a:lnTo>
                  <a:lnTo>
                    <a:pt x="11" y="272"/>
                  </a:lnTo>
                  <a:lnTo>
                    <a:pt x="703" y="35"/>
                  </a:lnTo>
                  <a:lnTo>
                    <a:pt x="6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H="1">
              <a:off x="1279080" y="3660480"/>
              <a:ext cx="473040" cy="146880"/>
            </a:xfrm>
            <a:custGeom>
              <a:avLst/>
              <a:gdLst/>
              <a:ahLst/>
              <a:rect l="l" t="t" r="r" b="b"/>
              <a:pathLst>
                <a:path w="899" h="355">
                  <a:moveTo>
                    <a:pt x="894" y="17"/>
                  </a:moveTo>
                  <a:lnTo>
                    <a:pt x="888" y="0"/>
                  </a:lnTo>
                  <a:lnTo>
                    <a:pt x="0" y="323"/>
                  </a:lnTo>
                  <a:lnTo>
                    <a:pt x="14" y="355"/>
                  </a:lnTo>
                  <a:lnTo>
                    <a:pt x="899" y="32"/>
                  </a:lnTo>
                  <a:lnTo>
                    <a:pt x="89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70884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678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4" name="WIDETREE" descr=""/>
          <p:cNvPicPr/>
          <p:nvPr/>
        </p:nvPicPr>
        <p:blipFill>
          <a:blip r:embed="rId1"/>
          <a:stretch/>
        </p:blipFill>
        <p:spPr>
          <a:xfrm>
            <a:off x="6019920" y="2370240"/>
            <a:ext cx="1931760" cy="2878200"/>
          </a:xfrm>
          <a:prstGeom prst="rect">
            <a:avLst/>
          </a:prstGeom>
          <a:ln w="0">
            <a:noFill/>
          </a:ln>
        </p:spPr>
      </p:pic>
      <p:grpSp>
        <p:nvGrpSpPr>
          <p:cNvPr id="3305" name=""/>
          <p:cNvGrpSpPr/>
          <p:nvPr/>
        </p:nvGrpSpPr>
        <p:grpSpPr>
          <a:xfrm>
            <a:off x="1752480" y="3152880"/>
            <a:ext cx="1005120" cy="1312920"/>
            <a:chOff x="1752480" y="3152880"/>
            <a:chExt cx="1005120" cy="1312920"/>
          </a:xfrm>
        </p:grpSpPr>
        <p:sp>
          <p:nvSpPr>
            <p:cNvPr id="3306" name=""/>
            <p:cNvSpPr/>
            <p:nvPr/>
          </p:nvSpPr>
          <p:spPr>
            <a:xfrm>
              <a:off x="2230560" y="3191040"/>
              <a:ext cx="57240" cy="8712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0"/>
                  </a:moveTo>
                  <a:lnTo>
                    <a:pt x="11" y="17"/>
                  </a:lnTo>
                  <a:lnTo>
                    <a:pt x="7" y="26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0" y="55"/>
                  </a:lnTo>
                  <a:lnTo>
                    <a:pt x="2" y="64"/>
                  </a:lnTo>
                  <a:lnTo>
                    <a:pt x="4" y="74"/>
                  </a:lnTo>
                  <a:lnTo>
                    <a:pt x="7" y="83"/>
                  </a:lnTo>
                  <a:lnTo>
                    <a:pt x="11" y="95"/>
                  </a:lnTo>
                  <a:lnTo>
                    <a:pt x="72" y="1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>
              <a:off x="2243160" y="3213360"/>
              <a:ext cx="38160" cy="612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70120" y="3321000"/>
              <a:ext cx="20880" cy="3996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0"/>
                  </a:moveTo>
                  <a:lnTo>
                    <a:pt x="0" y="10"/>
                  </a:lnTo>
                  <a:lnTo>
                    <a:pt x="4" y="17"/>
                  </a:lnTo>
                  <a:lnTo>
                    <a:pt x="9" y="25"/>
                  </a:lnTo>
                  <a:lnTo>
                    <a:pt x="17" y="32"/>
                  </a:lnTo>
                  <a:lnTo>
                    <a:pt x="21" y="36"/>
                  </a:lnTo>
                  <a:lnTo>
                    <a:pt x="25" y="42"/>
                  </a:lnTo>
                  <a:lnTo>
                    <a:pt x="25" y="46"/>
                  </a:lnTo>
                  <a:lnTo>
                    <a:pt x="21" y="51"/>
                  </a:lnTo>
                  <a:lnTo>
                    <a:pt x="15" y="48"/>
                  </a:lnTo>
                  <a:lnTo>
                    <a:pt x="9" y="44"/>
                  </a:lnTo>
                  <a:lnTo>
                    <a:pt x="4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752480" y="3289320"/>
              <a:ext cx="981360" cy="1176480"/>
            </a:xfrm>
            <a:custGeom>
              <a:avLst/>
              <a:gdLst/>
              <a:ahLst/>
              <a:rect l="l" t="t" r="r" b="b"/>
              <a:pathLst>
                <a:path w="1238" h="1483">
                  <a:moveTo>
                    <a:pt x="0" y="0"/>
                  </a:moveTo>
                  <a:lnTo>
                    <a:pt x="0" y="1245"/>
                  </a:lnTo>
                  <a:lnTo>
                    <a:pt x="4" y="1266"/>
                  </a:lnTo>
                  <a:lnTo>
                    <a:pt x="12" y="1287"/>
                  </a:lnTo>
                  <a:lnTo>
                    <a:pt x="27" y="1308"/>
                  </a:lnTo>
                  <a:lnTo>
                    <a:pt x="48" y="1329"/>
                  </a:lnTo>
                  <a:lnTo>
                    <a:pt x="72" y="1348"/>
                  </a:lnTo>
                  <a:lnTo>
                    <a:pt x="103" y="1369"/>
                  </a:lnTo>
                  <a:lnTo>
                    <a:pt x="137" y="1386"/>
                  </a:lnTo>
                  <a:lnTo>
                    <a:pt x="177" y="1405"/>
                  </a:lnTo>
                  <a:lnTo>
                    <a:pt x="221" y="1420"/>
                  </a:lnTo>
                  <a:lnTo>
                    <a:pt x="266" y="1435"/>
                  </a:lnTo>
                  <a:lnTo>
                    <a:pt x="318" y="1449"/>
                  </a:lnTo>
                  <a:lnTo>
                    <a:pt x="373" y="1460"/>
                  </a:lnTo>
                  <a:lnTo>
                    <a:pt x="430" y="1470"/>
                  </a:lnTo>
                  <a:lnTo>
                    <a:pt x="491" y="1475"/>
                  </a:lnTo>
                  <a:lnTo>
                    <a:pt x="553" y="1481"/>
                  </a:lnTo>
                  <a:lnTo>
                    <a:pt x="618" y="1483"/>
                  </a:lnTo>
                  <a:lnTo>
                    <a:pt x="683" y="1481"/>
                  </a:lnTo>
                  <a:lnTo>
                    <a:pt x="745" y="1475"/>
                  </a:lnTo>
                  <a:lnTo>
                    <a:pt x="806" y="1470"/>
                  </a:lnTo>
                  <a:lnTo>
                    <a:pt x="863" y="1460"/>
                  </a:lnTo>
                  <a:lnTo>
                    <a:pt x="916" y="1449"/>
                  </a:lnTo>
                  <a:lnTo>
                    <a:pt x="968" y="1435"/>
                  </a:lnTo>
                  <a:lnTo>
                    <a:pt x="1015" y="1420"/>
                  </a:lnTo>
                  <a:lnTo>
                    <a:pt x="1059" y="1405"/>
                  </a:lnTo>
                  <a:lnTo>
                    <a:pt x="1099" y="1386"/>
                  </a:lnTo>
                  <a:lnTo>
                    <a:pt x="1133" y="1369"/>
                  </a:lnTo>
                  <a:lnTo>
                    <a:pt x="1164" y="1348"/>
                  </a:lnTo>
                  <a:lnTo>
                    <a:pt x="1190" y="1329"/>
                  </a:lnTo>
                  <a:lnTo>
                    <a:pt x="1209" y="1308"/>
                  </a:lnTo>
                  <a:lnTo>
                    <a:pt x="1224" y="1287"/>
                  </a:lnTo>
                  <a:lnTo>
                    <a:pt x="1234" y="1266"/>
                  </a:lnTo>
                  <a:lnTo>
                    <a:pt x="1238" y="1245"/>
                  </a:lnTo>
                  <a:lnTo>
                    <a:pt x="12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778040" y="3341880"/>
              <a:ext cx="1440" cy="947520"/>
            </a:xfrm>
            <a:prstGeom prst="line">
              <a:avLst/>
            </a:prstGeom>
            <a:ln w="144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801800" y="3367080"/>
              <a:ext cx="1800" cy="959040"/>
            </a:xfrm>
            <a:prstGeom prst="line">
              <a:avLst/>
            </a:prstGeom>
            <a:ln w="144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827360" y="3380040"/>
              <a:ext cx="1440" cy="946080"/>
            </a:xfrm>
            <a:prstGeom prst="line">
              <a:avLst/>
            </a:prstGeom>
            <a:ln w="144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876320" y="3390840"/>
              <a:ext cx="1800" cy="960480"/>
            </a:xfrm>
            <a:prstGeom prst="line">
              <a:avLst/>
            </a:prstGeom>
            <a:ln w="144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851120" y="3348000"/>
              <a:ext cx="820800" cy="719280"/>
            </a:xfrm>
            <a:custGeom>
              <a:avLst/>
              <a:gdLst/>
              <a:ahLst/>
              <a:rect l="l" t="t" r="r" b="b"/>
              <a:pathLst>
                <a:path w="1034" h="907">
                  <a:moveTo>
                    <a:pt x="0" y="21"/>
                  </a:moveTo>
                  <a:lnTo>
                    <a:pt x="36" y="44"/>
                  </a:lnTo>
                  <a:lnTo>
                    <a:pt x="57" y="71"/>
                  </a:lnTo>
                  <a:lnTo>
                    <a:pt x="72" y="97"/>
                  </a:lnTo>
                  <a:lnTo>
                    <a:pt x="85" y="112"/>
                  </a:lnTo>
                  <a:lnTo>
                    <a:pt x="116" y="122"/>
                  </a:lnTo>
                  <a:lnTo>
                    <a:pt x="131" y="110"/>
                  </a:lnTo>
                  <a:lnTo>
                    <a:pt x="156" y="91"/>
                  </a:lnTo>
                  <a:lnTo>
                    <a:pt x="180" y="110"/>
                  </a:lnTo>
                  <a:lnTo>
                    <a:pt x="197" y="135"/>
                  </a:lnTo>
                  <a:lnTo>
                    <a:pt x="209" y="162"/>
                  </a:lnTo>
                  <a:lnTo>
                    <a:pt x="222" y="190"/>
                  </a:lnTo>
                  <a:lnTo>
                    <a:pt x="235" y="215"/>
                  </a:lnTo>
                  <a:lnTo>
                    <a:pt x="252" y="236"/>
                  </a:lnTo>
                  <a:lnTo>
                    <a:pt x="277" y="251"/>
                  </a:lnTo>
                  <a:lnTo>
                    <a:pt x="313" y="257"/>
                  </a:lnTo>
                  <a:lnTo>
                    <a:pt x="334" y="251"/>
                  </a:lnTo>
                  <a:lnTo>
                    <a:pt x="344" y="238"/>
                  </a:lnTo>
                  <a:lnTo>
                    <a:pt x="349" y="217"/>
                  </a:lnTo>
                  <a:lnTo>
                    <a:pt x="351" y="194"/>
                  </a:lnTo>
                  <a:lnTo>
                    <a:pt x="355" y="171"/>
                  </a:lnTo>
                  <a:lnTo>
                    <a:pt x="368" y="152"/>
                  </a:lnTo>
                  <a:lnTo>
                    <a:pt x="395" y="137"/>
                  </a:lnTo>
                  <a:lnTo>
                    <a:pt x="439" y="131"/>
                  </a:lnTo>
                  <a:lnTo>
                    <a:pt x="469" y="135"/>
                  </a:lnTo>
                  <a:lnTo>
                    <a:pt x="488" y="150"/>
                  </a:lnTo>
                  <a:lnTo>
                    <a:pt x="496" y="171"/>
                  </a:lnTo>
                  <a:lnTo>
                    <a:pt x="500" y="194"/>
                  </a:lnTo>
                  <a:lnTo>
                    <a:pt x="498" y="221"/>
                  </a:lnTo>
                  <a:lnTo>
                    <a:pt x="498" y="245"/>
                  </a:lnTo>
                  <a:lnTo>
                    <a:pt x="502" y="270"/>
                  </a:lnTo>
                  <a:lnTo>
                    <a:pt x="517" y="289"/>
                  </a:lnTo>
                  <a:lnTo>
                    <a:pt x="555" y="301"/>
                  </a:lnTo>
                  <a:lnTo>
                    <a:pt x="566" y="268"/>
                  </a:lnTo>
                  <a:lnTo>
                    <a:pt x="568" y="230"/>
                  </a:lnTo>
                  <a:lnTo>
                    <a:pt x="579" y="226"/>
                  </a:lnTo>
                  <a:lnTo>
                    <a:pt x="602" y="261"/>
                  </a:lnTo>
                  <a:lnTo>
                    <a:pt x="617" y="297"/>
                  </a:lnTo>
                  <a:lnTo>
                    <a:pt x="625" y="331"/>
                  </a:lnTo>
                  <a:lnTo>
                    <a:pt x="629" y="365"/>
                  </a:lnTo>
                  <a:lnTo>
                    <a:pt x="629" y="399"/>
                  </a:lnTo>
                  <a:lnTo>
                    <a:pt x="633" y="432"/>
                  </a:lnTo>
                  <a:lnTo>
                    <a:pt x="636" y="464"/>
                  </a:lnTo>
                  <a:lnTo>
                    <a:pt x="648" y="494"/>
                  </a:lnTo>
                  <a:lnTo>
                    <a:pt x="652" y="512"/>
                  </a:lnTo>
                  <a:lnTo>
                    <a:pt x="656" y="532"/>
                  </a:lnTo>
                  <a:lnTo>
                    <a:pt x="656" y="555"/>
                  </a:lnTo>
                  <a:lnTo>
                    <a:pt x="654" y="580"/>
                  </a:lnTo>
                  <a:lnTo>
                    <a:pt x="650" y="605"/>
                  </a:lnTo>
                  <a:lnTo>
                    <a:pt x="648" y="633"/>
                  </a:lnTo>
                  <a:lnTo>
                    <a:pt x="644" y="660"/>
                  </a:lnTo>
                  <a:lnTo>
                    <a:pt x="640" y="688"/>
                  </a:lnTo>
                  <a:lnTo>
                    <a:pt x="636" y="713"/>
                  </a:lnTo>
                  <a:lnTo>
                    <a:pt x="635" y="740"/>
                  </a:lnTo>
                  <a:lnTo>
                    <a:pt x="636" y="764"/>
                  </a:lnTo>
                  <a:lnTo>
                    <a:pt x="638" y="785"/>
                  </a:lnTo>
                  <a:lnTo>
                    <a:pt x="644" y="804"/>
                  </a:lnTo>
                  <a:lnTo>
                    <a:pt x="652" y="821"/>
                  </a:lnTo>
                  <a:lnTo>
                    <a:pt x="665" y="835"/>
                  </a:lnTo>
                  <a:lnTo>
                    <a:pt x="682" y="844"/>
                  </a:lnTo>
                  <a:lnTo>
                    <a:pt x="701" y="854"/>
                  </a:lnTo>
                  <a:lnTo>
                    <a:pt x="722" y="867"/>
                  </a:lnTo>
                  <a:lnTo>
                    <a:pt x="743" y="884"/>
                  </a:lnTo>
                  <a:lnTo>
                    <a:pt x="764" y="897"/>
                  </a:lnTo>
                  <a:lnTo>
                    <a:pt x="785" y="907"/>
                  </a:lnTo>
                  <a:lnTo>
                    <a:pt x="806" y="907"/>
                  </a:lnTo>
                  <a:lnTo>
                    <a:pt x="825" y="897"/>
                  </a:lnTo>
                  <a:lnTo>
                    <a:pt x="846" y="873"/>
                  </a:lnTo>
                  <a:lnTo>
                    <a:pt x="855" y="850"/>
                  </a:lnTo>
                  <a:lnTo>
                    <a:pt x="865" y="829"/>
                  </a:lnTo>
                  <a:lnTo>
                    <a:pt x="870" y="806"/>
                  </a:lnTo>
                  <a:lnTo>
                    <a:pt x="876" y="785"/>
                  </a:lnTo>
                  <a:lnTo>
                    <a:pt x="880" y="763"/>
                  </a:lnTo>
                  <a:lnTo>
                    <a:pt x="882" y="740"/>
                  </a:lnTo>
                  <a:lnTo>
                    <a:pt x="884" y="717"/>
                  </a:lnTo>
                  <a:lnTo>
                    <a:pt x="884" y="694"/>
                  </a:lnTo>
                  <a:lnTo>
                    <a:pt x="884" y="669"/>
                  </a:lnTo>
                  <a:lnTo>
                    <a:pt x="884" y="647"/>
                  </a:lnTo>
                  <a:lnTo>
                    <a:pt x="882" y="622"/>
                  </a:lnTo>
                  <a:lnTo>
                    <a:pt x="880" y="597"/>
                  </a:lnTo>
                  <a:lnTo>
                    <a:pt x="878" y="571"/>
                  </a:lnTo>
                  <a:lnTo>
                    <a:pt x="876" y="546"/>
                  </a:lnTo>
                  <a:lnTo>
                    <a:pt x="876" y="519"/>
                  </a:lnTo>
                  <a:lnTo>
                    <a:pt x="876" y="493"/>
                  </a:lnTo>
                  <a:lnTo>
                    <a:pt x="901" y="515"/>
                  </a:lnTo>
                  <a:lnTo>
                    <a:pt x="927" y="513"/>
                  </a:lnTo>
                  <a:lnTo>
                    <a:pt x="946" y="489"/>
                  </a:lnTo>
                  <a:lnTo>
                    <a:pt x="954" y="447"/>
                  </a:lnTo>
                  <a:lnTo>
                    <a:pt x="954" y="418"/>
                  </a:lnTo>
                  <a:lnTo>
                    <a:pt x="952" y="392"/>
                  </a:lnTo>
                  <a:lnTo>
                    <a:pt x="950" y="361"/>
                  </a:lnTo>
                  <a:lnTo>
                    <a:pt x="946" y="335"/>
                  </a:lnTo>
                  <a:lnTo>
                    <a:pt x="946" y="308"/>
                  </a:lnTo>
                  <a:lnTo>
                    <a:pt x="946" y="285"/>
                  </a:lnTo>
                  <a:lnTo>
                    <a:pt x="950" y="264"/>
                  </a:lnTo>
                  <a:lnTo>
                    <a:pt x="958" y="249"/>
                  </a:lnTo>
                  <a:lnTo>
                    <a:pt x="971" y="255"/>
                  </a:lnTo>
                  <a:lnTo>
                    <a:pt x="984" y="255"/>
                  </a:lnTo>
                  <a:lnTo>
                    <a:pt x="994" y="251"/>
                  </a:lnTo>
                  <a:lnTo>
                    <a:pt x="1003" y="242"/>
                  </a:lnTo>
                  <a:lnTo>
                    <a:pt x="1011" y="226"/>
                  </a:lnTo>
                  <a:lnTo>
                    <a:pt x="1017" y="209"/>
                  </a:lnTo>
                  <a:lnTo>
                    <a:pt x="1022" y="188"/>
                  </a:lnTo>
                  <a:lnTo>
                    <a:pt x="1028" y="168"/>
                  </a:lnTo>
                  <a:lnTo>
                    <a:pt x="1030" y="143"/>
                  </a:lnTo>
                  <a:lnTo>
                    <a:pt x="1032" y="118"/>
                  </a:lnTo>
                  <a:lnTo>
                    <a:pt x="1034" y="95"/>
                  </a:lnTo>
                  <a:lnTo>
                    <a:pt x="1034" y="71"/>
                  </a:lnTo>
                  <a:lnTo>
                    <a:pt x="1032" y="50"/>
                  </a:lnTo>
                  <a:lnTo>
                    <a:pt x="1030" y="31"/>
                  </a:lnTo>
                  <a:lnTo>
                    <a:pt x="1026" y="14"/>
                  </a:lnTo>
                  <a:lnTo>
                    <a:pt x="102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85"/>
            </a:solidFill>
            <a:ln w="1440">
              <a:solidFill>
                <a:srgbClr val="8502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305080" y="3436920"/>
              <a:ext cx="6480" cy="777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7" y="99"/>
                  </a:moveTo>
                  <a:lnTo>
                    <a:pt x="4" y="5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8502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497320" y="3443400"/>
              <a:ext cx="50760" cy="295200"/>
            </a:xfrm>
            <a:custGeom>
              <a:avLst/>
              <a:gdLst/>
              <a:ahLst/>
              <a:rect l="l" t="t" r="r" b="b"/>
              <a:pathLst>
                <a:path w="63" h="371">
                  <a:moveTo>
                    <a:pt x="0" y="0"/>
                  </a:moveTo>
                  <a:lnTo>
                    <a:pt x="17" y="36"/>
                  </a:lnTo>
                  <a:lnTo>
                    <a:pt x="31" y="80"/>
                  </a:lnTo>
                  <a:lnTo>
                    <a:pt x="40" y="127"/>
                  </a:lnTo>
                  <a:lnTo>
                    <a:pt x="50" y="179"/>
                  </a:lnTo>
                  <a:lnTo>
                    <a:pt x="55" y="228"/>
                  </a:lnTo>
                  <a:lnTo>
                    <a:pt x="61" y="281"/>
                  </a:lnTo>
                  <a:lnTo>
                    <a:pt x="61" y="329"/>
                  </a:lnTo>
                  <a:lnTo>
                    <a:pt x="63" y="371"/>
                  </a:lnTo>
                </a:path>
              </a:pathLst>
            </a:custGeom>
            <a:noFill/>
            <a:ln w="1440">
              <a:solidFill>
                <a:srgbClr val="8502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422440" y="3733920"/>
              <a:ext cx="28800" cy="262080"/>
            </a:xfrm>
            <a:custGeom>
              <a:avLst/>
              <a:gdLst/>
              <a:ahLst/>
              <a:rect l="l" t="t" r="r" b="b"/>
              <a:pathLst>
                <a:path w="36" h="331">
                  <a:moveTo>
                    <a:pt x="25" y="0"/>
                  </a:moveTo>
                  <a:lnTo>
                    <a:pt x="31" y="40"/>
                  </a:lnTo>
                  <a:lnTo>
                    <a:pt x="34" y="82"/>
                  </a:lnTo>
                  <a:lnTo>
                    <a:pt x="36" y="125"/>
                  </a:lnTo>
                  <a:lnTo>
                    <a:pt x="36" y="169"/>
                  </a:lnTo>
                  <a:lnTo>
                    <a:pt x="33" y="213"/>
                  </a:lnTo>
                  <a:lnTo>
                    <a:pt x="25" y="253"/>
                  </a:lnTo>
                  <a:lnTo>
                    <a:pt x="15" y="293"/>
                  </a:lnTo>
                  <a:lnTo>
                    <a:pt x="0" y="331"/>
                  </a:lnTo>
                </a:path>
              </a:pathLst>
            </a:custGeom>
            <a:noFill/>
            <a:ln w="1440">
              <a:solidFill>
                <a:srgbClr val="8502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178000" y="3640320"/>
              <a:ext cx="95400" cy="109440"/>
            </a:xfrm>
            <a:custGeom>
              <a:avLst/>
              <a:gdLst/>
              <a:ahLst/>
              <a:rect l="l" t="t" r="r" b="b"/>
              <a:pathLst>
                <a:path w="120" h="139">
                  <a:moveTo>
                    <a:pt x="59" y="139"/>
                  </a:moveTo>
                  <a:lnTo>
                    <a:pt x="84" y="135"/>
                  </a:lnTo>
                  <a:lnTo>
                    <a:pt x="103" y="118"/>
                  </a:lnTo>
                  <a:lnTo>
                    <a:pt x="114" y="97"/>
                  </a:lnTo>
                  <a:lnTo>
                    <a:pt x="120" y="70"/>
                  </a:lnTo>
                  <a:lnTo>
                    <a:pt x="114" y="44"/>
                  </a:lnTo>
                  <a:lnTo>
                    <a:pt x="103" y="21"/>
                  </a:lnTo>
                  <a:lnTo>
                    <a:pt x="84" y="6"/>
                  </a:lnTo>
                  <a:lnTo>
                    <a:pt x="59" y="0"/>
                  </a:lnTo>
                  <a:lnTo>
                    <a:pt x="34" y="6"/>
                  </a:lnTo>
                  <a:lnTo>
                    <a:pt x="15" y="21"/>
                  </a:lnTo>
                  <a:lnTo>
                    <a:pt x="4" y="44"/>
                  </a:lnTo>
                  <a:lnTo>
                    <a:pt x="0" y="70"/>
                  </a:lnTo>
                  <a:lnTo>
                    <a:pt x="4" y="97"/>
                  </a:lnTo>
                  <a:lnTo>
                    <a:pt x="15" y="118"/>
                  </a:lnTo>
                  <a:lnTo>
                    <a:pt x="34" y="135"/>
                  </a:lnTo>
                  <a:lnTo>
                    <a:pt x="59" y="139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222640" y="3692520"/>
              <a:ext cx="534960" cy="35712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7" y="0"/>
                  </a:moveTo>
                  <a:lnTo>
                    <a:pt x="4" y="5"/>
                  </a:lnTo>
                  <a:lnTo>
                    <a:pt x="0" y="20"/>
                  </a:lnTo>
                  <a:lnTo>
                    <a:pt x="6" y="38"/>
                  </a:lnTo>
                  <a:lnTo>
                    <a:pt x="17" y="47"/>
                  </a:lnTo>
                  <a:lnTo>
                    <a:pt x="55" y="77"/>
                  </a:lnTo>
                  <a:lnTo>
                    <a:pt x="103" y="114"/>
                  </a:lnTo>
                  <a:lnTo>
                    <a:pt x="156" y="154"/>
                  </a:lnTo>
                  <a:lnTo>
                    <a:pt x="215" y="199"/>
                  </a:lnTo>
                  <a:lnTo>
                    <a:pt x="276" y="243"/>
                  </a:lnTo>
                  <a:lnTo>
                    <a:pt x="341" y="288"/>
                  </a:lnTo>
                  <a:lnTo>
                    <a:pt x="401" y="330"/>
                  </a:lnTo>
                  <a:lnTo>
                    <a:pt x="462" y="370"/>
                  </a:lnTo>
                  <a:lnTo>
                    <a:pt x="491" y="387"/>
                  </a:lnTo>
                  <a:lnTo>
                    <a:pt x="519" y="403"/>
                  </a:lnTo>
                  <a:lnTo>
                    <a:pt x="544" y="416"/>
                  </a:lnTo>
                  <a:lnTo>
                    <a:pt x="569" y="427"/>
                  </a:lnTo>
                  <a:lnTo>
                    <a:pt x="590" y="437"/>
                  </a:lnTo>
                  <a:lnTo>
                    <a:pt x="611" y="442"/>
                  </a:lnTo>
                  <a:lnTo>
                    <a:pt x="628" y="446"/>
                  </a:lnTo>
                  <a:lnTo>
                    <a:pt x="645" y="448"/>
                  </a:lnTo>
                  <a:lnTo>
                    <a:pt x="656" y="444"/>
                  </a:lnTo>
                  <a:lnTo>
                    <a:pt x="666" y="441"/>
                  </a:lnTo>
                  <a:lnTo>
                    <a:pt x="671" y="431"/>
                  </a:lnTo>
                  <a:lnTo>
                    <a:pt x="673" y="418"/>
                  </a:lnTo>
                  <a:lnTo>
                    <a:pt x="671" y="401"/>
                  </a:lnTo>
                  <a:lnTo>
                    <a:pt x="666" y="380"/>
                  </a:lnTo>
                  <a:lnTo>
                    <a:pt x="658" y="355"/>
                  </a:lnTo>
                  <a:lnTo>
                    <a:pt x="645" y="327"/>
                  </a:lnTo>
                  <a:lnTo>
                    <a:pt x="645" y="353"/>
                  </a:lnTo>
                  <a:lnTo>
                    <a:pt x="641" y="374"/>
                  </a:lnTo>
                  <a:lnTo>
                    <a:pt x="635" y="389"/>
                  </a:lnTo>
                  <a:lnTo>
                    <a:pt x="622" y="397"/>
                  </a:lnTo>
                  <a:lnTo>
                    <a:pt x="599" y="393"/>
                  </a:lnTo>
                  <a:lnTo>
                    <a:pt x="569" y="384"/>
                  </a:lnTo>
                  <a:lnTo>
                    <a:pt x="525" y="359"/>
                  </a:lnTo>
                  <a:lnTo>
                    <a:pt x="466" y="327"/>
                  </a:lnTo>
                  <a:lnTo>
                    <a:pt x="401" y="285"/>
                  </a:lnTo>
                  <a:lnTo>
                    <a:pt x="346" y="247"/>
                  </a:lnTo>
                  <a:lnTo>
                    <a:pt x="293" y="211"/>
                  </a:lnTo>
                  <a:lnTo>
                    <a:pt x="242" y="173"/>
                  </a:lnTo>
                  <a:lnTo>
                    <a:pt x="190" y="135"/>
                  </a:lnTo>
                  <a:lnTo>
                    <a:pt x="139" y="93"/>
                  </a:lnTo>
                  <a:lnTo>
                    <a:pt x="8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198880" y="3664080"/>
              <a:ext cx="71280" cy="8244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89" y="52"/>
                  </a:moveTo>
                  <a:lnTo>
                    <a:pt x="85" y="33"/>
                  </a:lnTo>
                  <a:lnTo>
                    <a:pt x="78" y="18"/>
                  </a:lnTo>
                  <a:lnTo>
                    <a:pt x="63" y="4"/>
                  </a:lnTo>
                  <a:lnTo>
                    <a:pt x="46" y="0"/>
                  </a:lnTo>
                  <a:lnTo>
                    <a:pt x="26" y="4"/>
                  </a:lnTo>
                  <a:lnTo>
                    <a:pt x="13" y="18"/>
                  </a:lnTo>
                  <a:lnTo>
                    <a:pt x="2" y="33"/>
                  </a:lnTo>
                  <a:lnTo>
                    <a:pt x="0" y="52"/>
                  </a:lnTo>
                  <a:lnTo>
                    <a:pt x="2" y="73"/>
                  </a:lnTo>
                  <a:lnTo>
                    <a:pt x="13" y="90"/>
                  </a:lnTo>
                  <a:lnTo>
                    <a:pt x="26" y="101"/>
                  </a:lnTo>
                  <a:lnTo>
                    <a:pt x="46" y="10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511360" y="3915000"/>
              <a:ext cx="209520" cy="110880"/>
            </a:xfrm>
            <a:custGeom>
              <a:avLst/>
              <a:gdLst/>
              <a:ahLst/>
              <a:rect l="l" t="t" r="r" b="b"/>
              <a:pathLst>
                <a:path w="265" h="141">
                  <a:moveTo>
                    <a:pt x="265" y="141"/>
                  </a:moveTo>
                  <a:lnTo>
                    <a:pt x="236" y="133"/>
                  </a:lnTo>
                  <a:lnTo>
                    <a:pt x="204" y="122"/>
                  </a:lnTo>
                  <a:lnTo>
                    <a:pt x="172" y="106"/>
                  </a:lnTo>
                  <a:lnTo>
                    <a:pt x="139" y="87"/>
                  </a:lnTo>
                  <a:lnTo>
                    <a:pt x="105" y="68"/>
                  </a:lnTo>
                  <a:lnTo>
                    <a:pt x="71" y="48"/>
                  </a:lnTo>
                  <a:lnTo>
                    <a:pt x="35" y="2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752480" y="3152880"/>
              <a:ext cx="981360" cy="260280"/>
            </a:xfrm>
            <a:custGeom>
              <a:avLst/>
              <a:gdLst/>
              <a:ahLst/>
              <a:rect l="l" t="t" r="r" b="b"/>
              <a:pathLst>
                <a:path w="1238" h="329">
                  <a:moveTo>
                    <a:pt x="618" y="329"/>
                  </a:moveTo>
                  <a:lnTo>
                    <a:pt x="679" y="329"/>
                  </a:lnTo>
                  <a:lnTo>
                    <a:pt x="740" y="327"/>
                  </a:lnTo>
                  <a:lnTo>
                    <a:pt x="799" y="323"/>
                  </a:lnTo>
                  <a:lnTo>
                    <a:pt x="858" y="317"/>
                  </a:lnTo>
                  <a:lnTo>
                    <a:pt x="909" y="312"/>
                  </a:lnTo>
                  <a:lnTo>
                    <a:pt x="962" y="304"/>
                  </a:lnTo>
                  <a:lnTo>
                    <a:pt x="1010" y="297"/>
                  </a:lnTo>
                  <a:lnTo>
                    <a:pt x="1053" y="285"/>
                  </a:lnTo>
                  <a:lnTo>
                    <a:pt x="1093" y="274"/>
                  </a:lnTo>
                  <a:lnTo>
                    <a:pt x="1129" y="262"/>
                  </a:lnTo>
                  <a:lnTo>
                    <a:pt x="1160" y="249"/>
                  </a:lnTo>
                  <a:lnTo>
                    <a:pt x="1186" y="236"/>
                  </a:lnTo>
                  <a:lnTo>
                    <a:pt x="1207" y="222"/>
                  </a:lnTo>
                  <a:lnTo>
                    <a:pt x="1223" y="205"/>
                  </a:lnTo>
                  <a:lnTo>
                    <a:pt x="1232" y="190"/>
                  </a:lnTo>
                  <a:lnTo>
                    <a:pt x="1238" y="173"/>
                  </a:lnTo>
                  <a:lnTo>
                    <a:pt x="1232" y="156"/>
                  </a:lnTo>
                  <a:lnTo>
                    <a:pt x="1223" y="139"/>
                  </a:lnTo>
                  <a:lnTo>
                    <a:pt x="1207" y="124"/>
                  </a:lnTo>
                  <a:lnTo>
                    <a:pt x="1186" y="108"/>
                  </a:lnTo>
                  <a:lnTo>
                    <a:pt x="1160" y="93"/>
                  </a:lnTo>
                  <a:lnTo>
                    <a:pt x="1129" y="80"/>
                  </a:lnTo>
                  <a:lnTo>
                    <a:pt x="1093" y="67"/>
                  </a:lnTo>
                  <a:lnTo>
                    <a:pt x="1053" y="53"/>
                  </a:lnTo>
                  <a:lnTo>
                    <a:pt x="1010" y="42"/>
                  </a:lnTo>
                  <a:lnTo>
                    <a:pt x="962" y="32"/>
                  </a:lnTo>
                  <a:lnTo>
                    <a:pt x="909" y="23"/>
                  </a:lnTo>
                  <a:lnTo>
                    <a:pt x="858" y="15"/>
                  </a:lnTo>
                  <a:lnTo>
                    <a:pt x="799" y="10"/>
                  </a:lnTo>
                  <a:lnTo>
                    <a:pt x="740" y="6"/>
                  </a:lnTo>
                  <a:lnTo>
                    <a:pt x="679" y="2"/>
                  </a:lnTo>
                  <a:lnTo>
                    <a:pt x="618" y="0"/>
                  </a:lnTo>
                  <a:lnTo>
                    <a:pt x="555" y="2"/>
                  </a:lnTo>
                  <a:lnTo>
                    <a:pt x="493" y="6"/>
                  </a:lnTo>
                  <a:lnTo>
                    <a:pt x="434" y="10"/>
                  </a:lnTo>
                  <a:lnTo>
                    <a:pt x="377" y="15"/>
                  </a:lnTo>
                  <a:lnTo>
                    <a:pt x="321" y="23"/>
                  </a:lnTo>
                  <a:lnTo>
                    <a:pt x="272" y="32"/>
                  </a:lnTo>
                  <a:lnTo>
                    <a:pt x="224" y="42"/>
                  </a:lnTo>
                  <a:lnTo>
                    <a:pt x="181" y="53"/>
                  </a:lnTo>
                  <a:lnTo>
                    <a:pt x="141" y="67"/>
                  </a:lnTo>
                  <a:lnTo>
                    <a:pt x="105" y="80"/>
                  </a:lnTo>
                  <a:lnTo>
                    <a:pt x="74" y="93"/>
                  </a:lnTo>
                  <a:lnTo>
                    <a:pt x="50" y="108"/>
                  </a:lnTo>
                  <a:lnTo>
                    <a:pt x="29" y="124"/>
                  </a:lnTo>
                  <a:lnTo>
                    <a:pt x="13" y="139"/>
                  </a:lnTo>
                  <a:lnTo>
                    <a:pt x="4" y="156"/>
                  </a:lnTo>
                  <a:lnTo>
                    <a:pt x="0" y="173"/>
                  </a:lnTo>
                  <a:lnTo>
                    <a:pt x="4" y="190"/>
                  </a:lnTo>
                  <a:lnTo>
                    <a:pt x="13" y="205"/>
                  </a:lnTo>
                  <a:lnTo>
                    <a:pt x="29" y="222"/>
                  </a:lnTo>
                  <a:lnTo>
                    <a:pt x="50" y="236"/>
                  </a:lnTo>
                  <a:lnTo>
                    <a:pt x="74" y="249"/>
                  </a:lnTo>
                  <a:lnTo>
                    <a:pt x="105" y="262"/>
                  </a:lnTo>
                  <a:lnTo>
                    <a:pt x="141" y="274"/>
                  </a:lnTo>
                  <a:lnTo>
                    <a:pt x="181" y="285"/>
                  </a:lnTo>
                  <a:lnTo>
                    <a:pt x="224" y="297"/>
                  </a:lnTo>
                  <a:lnTo>
                    <a:pt x="272" y="304"/>
                  </a:lnTo>
                  <a:lnTo>
                    <a:pt x="321" y="312"/>
                  </a:lnTo>
                  <a:lnTo>
                    <a:pt x="377" y="317"/>
                  </a:lnTo>
                  <a:lnTo>
                    <a:pt x="434" y="323"/>
                  </a:lnTo>
                  <a:lnTo>
                    <a:pt x="493" y="327"/>
                  </a:lnTo>
                  <a:lnTo>
                    <a:pt x="555" y="329"/>
                  </a:lnTo>
                  <a:lnTo>
                    <a:pt x="618" y="329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801800" y="3167280"/>
              <a:ext cx="881280" cy="234720"/>
            </a:xfrm>
            <a:custGeom>
              <a:avLst/>
              <a:gdLst/>
              <a:ahLst/>
              <a:rect l="l" t="t" r="r" b="b"/>
              <a:pathLst>
                <a:path w="1110" h="297">
                  <a:moveTo>
                    <a:pt x="555" y="0"/>
                  </a:moveTo>
                  <a:lnTo>
                    <a:pt x="498" y="2"/>
                  </a:lnTo>
                  <a:lnTo>
                    <a:pt x="443" y="4"/>
                  </a:lnTo>
                  <a:lnTo>
                    <a:pt x="390" y="8"/>
                  </a:lnTo>
                  <a:lnTo>
                    <a:pt x="338" y="13"/>
                  </a:lnTo>
                  <a:lnTo>
                    <a:pt x="289" y="21"/>
                  </a:lnTo>
                  <a:lnTo>
                    <a:pt x="243" y="29"/>
                  </a:lnTo>
                  <a:lnTo>
                    <a:pt x="201" y="38"/>
                  </a:lnTo>
                  <a:lnTo>
                    <a:pt x="163" y="48"/>
                  </a:lnTo>
                  <a:lnTo>
                    <a:pt x="127" y="59"/>
                  </a:lnTo>
                  <a:lnTo>
                    <a:pt x="95" y="70"/>
                  </a:lnTo>
                  <a:lnTo>
                    <a:pt x="66" y="84"/>
                  </a:lnTo>
                  <a:lnTo>
                    <a:pt x="44" y="97"/>
                  </a:lnTo>
                  <a:lnTo>
                    <a:pt x="25" y="110"/>
                  </a:lnTo>
                  <a:lnTo>
                    <a:pt x="11" y="126"/>
                  </a:lnTo>
                  <a:lnTo>
                    <a:pt x="4" y="141"/>
                  </a:lnTo>
                  <a:lnTo>
                    <a:pt x="0" y="154"/>
                  </a:lnTo>
                  <a:lnTo>
                    <a:pt x="4" y="171"/>
                  </a:lnTo>
                  <a:lnTo>
                    <a:pt x="11" y="185"/>
                  </a:lnTo>
                  <a:lnTo>
                    <a:pt x="25" y="198"/>
                  </a:lnTo>
                  <a:lnTo>
                    <a:pt x="44" y="211"/>
                  </a:lnTo>
                  <a:lnTo>
                    <a:pt x="66" y="224"/>
                  </a:lnTo>
                  <a:lnTo>
                    <a:pt x="95" y="236"/>
                  </a:lnTo>
                  <a:lnTo>
                    <a:pt x="127" y="247"/>
                  </a:lnTo>
                  <a:lnTo>
                    <a:pt x="163" y="255"/>
                  </a:lnTo>
                  <a:lnTo>
                    <a:pt x="201" y="266"/>
                  </a:lnTo>
                  <a:lnTo>
                    <a:pt x="243" y="274"/>
                  </a:lnTo>
                  <a:lnTo>
                    <a:pt x="289" y="281"/>
                  </a:lnTo>
                  <a:lnTo>
                    <a:pt x="338" y="285"/>
                  </a:lnTo>
                  <a:lnTo>
                    <a:pt x="390" y="291"/>
                  </a:lnTo>
                  <a:lnTo>
                    <a:pt x="443" y="293"/>
                  </a:lnTo>
                  <a:lnTo>
                    <a:pt x="498" y="295"/>
                  </a:lnTo>
                  <a:lnTo>
                    <a:pt x="555" y="297"/>
                  </a:lnTo>
                  <a:lnTo>
                    <a:pt x="610" y="295"/>
                  </a:lnTo>
                  <a:lnTo>
                    <a:pt x="665" y="293"/>
                  </a:lnTo>
                  <a:lnTo>
                    <a:pt x="719" y="291"/>
                  </a:lnTo>
                  <a:lnTo>
                    <a:pt x="770" y="285"/>
                  </a:lnTo>
                  <a:lnTo>
                    <a:pt x="817" y="281"/>
                  </a:lnTo>
                  <a:lnTo>
                    <a:pt x="863" y="274"/>
                  </a:lnTo>
                  <a:lnTo>
                    <a:pt x="907" y="266"/>
                  </a:lnTo>
                  <a:lnTo>
                    <a:pt x="947" y="255"/>
                  </a:lnTo>
                  <a:lnTo>
                    <a:pt x="983" y="247"/>
                  </a:lnTo>
                  <a:lnTo>
                    <a:pt x="1015" y="236"/>
                  </a:lnTo>
                  <a:lnTo>
                    <a:pt x="1042" y="224"/>
                  </a:lnTo>
                  <a:lnTo>
                    <a:pt x="1066" y="211"/>
                  </a:lnTo>
                  <a:lnTo>
                    <a:pt x="1085" y="198"/>
                  </a:lnTo>
                  <a:lnTo>
                    <a:pt x="1099" y="185"/>
                  </a:lnTo>
                  <a:lnTo>
                    <a:pt x="1106" y="171"/>
                  </a:lnTo>
                  <a:lnTo>
                    <a:pt x="1110" y="154"/>
                  </a:lnTo>
                  <a:lnTo>
                    <a:pt x="1106" y="141"/>
                  </a:lnTo>
                  <a:lnTo>
                    <a:pt x="1099" y="126"/>
                  </a:lnTo>
                  <a:lnTo>
                    <a:pt x="1085" y="110"/>
                  </a:lnTo>
                  <a:lnTo>
                    <a:pt x="1066" y="97"/>
                  </a:lnTo>
                  <a:lnTo>
                    <a:pt x="1042" y="84"/>
                  </a:lnTo>
                  <a:lnTo>
                    <a:pt x="1015" y="70"/>
                  </a:lnTo>
                  <a:lnTo>
                    <a:pt x="983" y="59"/>
                  </a:lnTo>
                  <a:lnTo>
                    <a:pt x="947" y="48"/>
                  </a:lnTo>
                  <a:lnTo>
                    <a:pt x="907" y="38"/>
                  </a:lnTo>
                  <a:lnTo>
                    <a:pt x="863" y="29"/>
                  </a:lnTo>
                  <a:lnTo>
                    <a:pt x="817" y="21"/>
                  </a:lnTo>
                  <a:lnTo>
                    <a:pt x="770" y="13"/>
                  </a:lnTo>
                  <a:lnTo>
                    <a:pt x="719" y="8"/>
                  </a:lnTo>
                  <a:lnTo>
                    <a:pt x="665" y="4"/>
                  </a:lnTo>
                  <a:lnTo>
                    <a:pt x="610" y="2"/>
                  </a:lnTo>
                  <a:lnTo>
                    <a:pt x="555" y="0"/>
                  </a:lnTo>
                  <a:lnTo>
                    <a:pt x="555" y="0"/>
                  </a:lnTo>
                  <a:lnTo>
                    <a:pt x="555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844640" y="3176640"/>
              <a:ext cx="797040" cy="212760"/>
            </a:xfrm>
            <a:custGeom>
              <a:avLst/>
              <a:gdLst/>
              <a:ahLst/>
              <a:rect l="l" t="t" r="r" b="b"/>
              <a:pathLst>
                <a:path w="1006" h="268">
                  <a:moveTo>
                    <a:pt x="502" y="268"/>
                  </a:moveTo>
                  <a:lnTo>
                    <a:pt x="601" y="265"/>
                  </a:lnTo>
                  <a:lnTo>
                    <a:pt x="696" y="259"/>
                  </a:lnTo>
                  <a:lnTo>
                    <a:pt x="781" y="248"/>
                  </a:lnTo>
                  <a:lnTo>
                    <a:pt x="856" y="232"/>
                  </a:lnTo>
                  <a:lnTo>
                    <a:pt x="918" y="213"/>
                  </a:lnTo>
                  <a:lnTo>
                    <a:pt x="964" y="192"/>
                  </a:lnTo>
                  <a:lnTo>
                    <a:pt x="994" y="168"/>
                  </a:lnTo>
                  <a:lnTo>
                    <a:pt x="1006" y="139"/>
                  </a:lnTo>
                  <a:lnTo>
                    <a:pt x="994" y="114"/>
                  </a:lnTo>
                  <a:lnTo>
                    <a:pt x="964" y="88"/>
                  </a:lnTo>
                  <a:lnTo>
                    <a:pt x="918" y="65"/>
                  </a:lnTo>
                  <a:lnTo>
                    <a:pt x="856" y="44"/>
                  </a:lnTo>
                  <a:lnTo>
                    <a:pt x="781" y="27"/>
                  </a:lnTo>
                  <a:lnTo>
                    <a:pt x="696" y="12"/>
                  </a:lnTo>
                  <a:lnTo>
                    <a:pt x="601" y="4"/>
                  </a:lnTo>
                  <a:lnTo>
                    <a:pt x="502" y="0"/>
                  </a:lnTo>
                  <a:lnTo>
                    <a:pt x="399" y="4"/>
                  </a:lnTo>
                  <a:lnTo>
                    <a:pt x="306" y="12"/>
                  </a:lnTo>
                  <a:lnTo>
                    <a:pt x="221" y="27"/>
                  </a:lnTo>
                  <a:lnTo>
                    <a:pt x="146" y="44"/>
                  </a:lnTo>
                  <a:lnTo>
                    <a:pt x="86" y="65"/>
                  </a:lnTo>
                  <a:lnTo>
                    <a:pt x="40" y="88"/>
                  </a:lnTo>
                  <a:lnTo>
                    <a:pt x="12" y="114"/>
                  </a:lnTo>
                  <a:lnTo>
                    <a:pt x="0" y="139"/>
                  </a:lnTo>
                  <a:lnTo>
                    <a:pt x="12" y="168"/>
                  </a:lnTo>
                  <a:lnTo>
                    <a:pt x="40" y="192"/>
                  </a:lnTo>
                  <a:lnTo>
                    <a:pt x="86" y="213"/>
                  </a:lnTo>
                  <a:lnTo>
                    <a:pt x="146" y="232"/>
                  </a:lnTo>
                  <a:lnTo>
                    <a:pt x="221" y="248"/>
                  </a:lnTo>
                  <a:lnTo>
                    <a:pt x="306" y="259"/>
                  </a:lnTo>
                  <a:lnTo>
                    <a:pt x="399" y="265"/>
                  </a:lnTo>
                  <a:lnTo>
                    <a:pt x="502" y="268"/>
                  </a:lnTo>
                  <a:close/>
                </a:path>
              </a:pathLst>
            </a:custGeom>
            <a:solidFill>
              <a:srgbClr val="ff0085"/>
            </a:solidFill>
            <a:ln w="1440">
              <a:solidFill>
                <a:srgbClr val="8502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844640" y="3186360"/>
              <a:ext cx="243000" cy="174600"/>
            </a:xfrm>
            <a:custGeom>
              <a:avLst/>
              <a:gdLst/>
              <a:ahLst/>
              <a:rect l="l" t="t" r="r" b="b"/>
              <a:pathLst>
                <a:path w="306" h="220">
                  <a:moveTo>
                    <a:pt x="306" y="0"/>
                  </a:moveTo>
                  <a:lnTo>
                    <a:pt x="221" y="15"/>
                  </a:lnTo>
                  <a:lnTo>
                    <a:pt x="146" y="32"/>
                  </a:lnTo>
                  <a:lnTo>
                    <a:pt x="86" y="53"/>
                  </a:lnTo>
                  <a:lnTo>
                    <a:pt x="40" y="76"/>
                  </a:lnTo>
                  <a:lnTo>
                    <a:pt x="12" y="102"/>
                  </a:lnTo>
                  <a:lnTo>
                    <a:pt x="0" y="127"/>
                  </a:lnTo>
                  <a:lnTo>
                    <a:pt x="12" y="156"/>
                  </a:lnTo>
                  <a:lnTo>
                    <a:pt x="40" y="180"/>
                  </a:lnTo>
                  <a:lnTo>
                    <a:pt x="86" y="201"/>
                  </a:lnTo>
                  <a:lnTo>
                    <a:pt x="146" y="220"/>
                  </a:lnTo>
                  <a:lnTo>
                    <a:pt x="131" y="192"/>
                  </a:lnTo>
                  <a:lnTo>
                    <a:pt x="126" y="160"/>
                  </a:lnTo>
                  <a:lnTo>
                    <a:pt x="131" y="127"/>
                  </a:lnTo>
                  <a:lnTo>
                    <a:pt x="146" y="97"/>
                  </a:lnTo>
                  <a:lnTo>
                    <a:pt x="171" y="66"/>
                  </a:lnTo>
                  <a:lnTo>
                    <a:pt x="207" y="40"/>
                  </a:lnTo>
                  <a:lnTo>
                    <a:pt x="253" y="17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850285"/>
            </a:solidFill>
            <a:ln w="1440">
              <a:solidFill>
                <a:srgbClr val="8502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054160" y="3468960"/>
              <a:ext cx="20880" cy="3960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" y="0"/>
                  </a:moveTo>
                  <a:lnTo>
                    <a:pt x="2" y="10"/>
                  </a:lnTo>
                  <a:lnTo>
                    <a:pt x="6" y="19"/>
                  </a:lnTo>
                  <a:lnTo>
                    <a:pt x="10" y="25"/>
                  </a:lnTo>
                  <a:lnTo>
                    <a:pt x="17" y="33"/>
                  </a:lnTo>
                  <a:lnTo>
                    <a:pt x="23" y="36"/>
                  </a:lnTo>
                  <a:lnTo>
                    <a:pt x="27" y="42"/>
                  </a:lnTo>
                  <a:lnTo>
                    <a:pt x="27" y="46"/>
                  </a:lnTo>
                  <a:lnTo>
                    <a:pt x="21" y="52"/>
                  </a:lnTo>
                  <a:lnTo>
                    <a:pt x="16" y="48"/>
                  </a:lnTo>
                  <a:lnTo>
                    <a:pt x="10" y="44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2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484360" y="3726000"/>
              <a:ext cx="20880" cy="10620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21" y="0"/>
                  </a:moveTo>
                  <a:lnTo>
                    <a:pt x="23" y="21"/>
                  </a:lnTo>
                  <a:lnTo>
                    <a:pt x="27" y="46"/>
                  </a:lnTo>
                  <a:lnTo>
                    <a:pt x="27" y="71"/>
                  </a:lnTo>
                  <a:lnTo>
                    <a:pt x="27" y="94"/>
                  </a:lnTo>
                  <a:lnTo>
                    <a:pt x="25" y="114"/>
                  </a:lnTo>
                  <a:lnTo>
                    <a:pt x="19" y="128"/>
                  </a:lnTo>
                  <a:lnTo>
                    <a:pt x="13" y="133"/>
                  </a:lnTo>
                  <a:lnTo>
                    <a:pt x="2" y="128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6" y="94"/>
                  </a:lnTo>
                  <a:lnTo>
                    <a:pt x="10" y="76"/>
                  </a:lnTo>
                  <a:lnTo>
                    <a:pt x="17" y="57"/>
                  </a:lnTo>
                  <a:lnTo>
                    <a:pt x="19" y="38"/>
                  </a:lnTo>
                  <a:lnTo>
                    <a:pt x="2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597040" y="3400560"/>
              <a:ext cx="7920" cy="120600"/>
            </a:xfrm>
            <a:custGeom>
              <a:avLst/>
              <a:gdLst/>
              <a:ahLst/>
              <a:rect l="l" t="t" r="r" b="b"/>
              <a:pathLst>
                <a:path w="9" h="152">
                  <a:moveTo>
                    <a:pt x="4" y="0"/>
                  </a:moveTo>
                  <a:lnTo>
                    <a:pt x="4" y="34"/>
                  </a:lnTo>
                  <a:lnTo>
                    <a:pt x="0" y="78"/>
                  </a:lnTo>
                  <a:lnTo>
                    <a:pt x="2" y="120"/>
                  </a:lnTo>
                  <a:lnTo>
                    <a:pt x="9" y="152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548080" y="3222720"/>
              <a:ext cx="1440" cy="12852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559240" y="3227400"/>
              <a:ext cx="1440" cy="11916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573280" y="3229200"/>
              <a:ext cx="1800" cy="11088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2" name=""/>
          <p:cNvSpPr/>
          <p:nvPr/>
        </p:nvSpPr>
        <p:spPr>
          <a:xfrm>
            <a:off x="205920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685980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4" name=""/>
          <p:cNvGrpSpPr/>
          <p:nvPr/>
        </p:nvGrpSpPr>
        <p:grpSpPr>
          <a:xfrm>
            <a:off x="5562720" y="2882880"/>
            <a:ext cx="2925720" cy="1852560"/>
            <a:chOff x="5562720" y="2882880"/>
            <a:chExt cx="2925720" cy="1852560"/>
          </a:xfrm>
        </p:grpSpPr>
        <p:sp>
          <p:nvSpPr>
            <p:cNvPr id="3335" name=""/>
            <p:cNvSpPr/>
            <p:nvPr/>
          </p:nvSpPr>
          <p:spPr>
            <a:xfrm>
              <a:off x="5562720" y="2882880"/>
              <a:ext cx="2925720" cy="18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305760" y="4108320"/>
              <a:ext cx="93240" cy="66600"/>
            </a:xfrm>
            <a:custGeom>
              <a:avLst/>
              <a:gdLst/>
              <a:ahLst/>
              <a:rect l="l" t="t" r="r" b="b"/>
              <a:pathLst>
                <a:path w="171" h="123">
                  <a:moveTo>
                    <a:pt x="0" y="123"/>
                  </a:moveTo>
                  <a:lnTo>
                    <a:pt x="171" y="0"/>
                  </a:lnTo>
                  <a:lnTo>
                    <a:pt x="0" y="1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557400" y="4273200"/>
              <a:ext cx="70200" cy="7884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44"/>
                  </a:moveTo>
                  <a:lnTo>
                    <a:pt x="127" y="61"/>
                  </a:lnTo>
                  <a:lnTo>
                    <a:pt x="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783120" y="3575160"/>
              <a:ext cx="1206000" cy="920160"/>
            </a:xfrm>
            <a:custGeom>
              <a:avLst/>
              <a:gdLst/>
              <a:ahLst/>
              <a:rect l="l" t="t" r="r" b="b"/>
              <a:pathLst>
                <a:path w="2191" h="1685">
                  <a:moveTo>
                    <a:pt x="1" y="1685"/>
                  </a:moveTo>
                  <a:lnTo>
                    <a:pt x="2191" y="86"/>
                  </a:lnTo>
                  <a:lnTo>
                    <a:pt x="2106" y="0"/>
                  </a:lnTo>
                  <a:lnTo>
                    <a:pt x="0" y="1504"/>
                  </a:lnTo>
                  <a:lnTo>
                    <a:pt x="1" y="1586"/>
                  </a:lnTo>
                  <a:lnTo>
                    <a:pt x="1" y="1685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783120" y="3519360"/>
              <a:ext cx="1206000" cy="832680"/>
            </a:xfrm>
            <a:custGeom>
              <a:avLst/>
              <a:gdLst/>
              <a:ahLst/>
              <a:rect l="l" t="t" r="r" b="b"/>
              <a:pathLst>
                <a:path w="2191" h="1524">
                  <a:moveTo>
                    <a:pt x="275" y="1524"/>
                  </a:moveTo>
                  <a:lnTo>
                    <a:pt x="2191" y="104"/>
                  </a:lnTo>
                  <a:lnTo>
                    <a:pt x="1914" y="0"/>
                  </a:lnTo>
                  <a:lnTo>
                    <a:pt x="0" y="1355"/>
                  </a:lnTo>
                  <a:lnTo>
                    <a:pt x="275" y="1524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986800" y="3147480"/>
              <a:ext cx="1274760" cy="844920"/>
            </a:xfrm>
            <a:custGeom>
              <a:avLst/>
              <a:gdLst/>
              <a:ahLst/>
              <a:rect l="l" t="t" r="r" b="b"/>
              <a:pathLst>
                <a:path w="2319" h="1546">
                  <a:moveTo>
                    <a:pt x="1" y="1546"/>
                  </a:moveTo>
                  <a:lnTo>
                    <a:pt x="2319" y="85"/>
                  </a:lnTo>
                  <a:lnTo>
                    <a:pt x="2254" y="0"/>
                  </a:lnTo>
                  <a:lnTo>
                    <a:pt x="43" y="1355"/>
                  </a:lnTo>
                  <a:lnTo>
                    <a:pt x="0" y="1411"/>
                  </a:lnTo>
                  <a:lnTo>
                    <a:pt x="1" y="1546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822640" y="3819240"/>
              <a:ext cx="163800" cy="172800"/>
            </a:xfrm>
            <a:custGeom>
              <a:avLst/>
              <a:gdLst/>
              <a:ahLst/>
              <a:rect l="l" t="t" r="r" b="b"/>
              <a:pathLst>
                <a:path w="300" h="316">
                  <a:moveTo>
                    <a:pt x="2" y="0"/>
                  </a:moveTo>
                  <a:lnTo>
                    <a:pt x="0" y="105"/>
                  </a:lnTo>
                  <a:lnTo>
                    <a:pt x="300" y="316"/>
                  </a:lnTo>
                  <a:lnTo>
                    <a:pt x="299" y="19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881680" y="3055680"/>
              <a:ext cx="1333800" cy="833040"/>
            </a:xfrm>
            <a:custGeom>
              <a:avLst/>
              <a:gdLst/>
              <a:ahLst/>
              <a:rect l="l" t="t" r="r" b="b"/>
              <a:pathLst>
                <a:path w="2424" h="1524">
                  <a:moveTo>
                    <a:pt x="383" y="1524"/>
                  </a:moveTo>
                  <a:lnTo>
                    <a:pt x="2424" y="211"/>
                  </a:lnTo>
                  <a:lnTo>
                    <a:pt x="2148" y="0"/>
                  </a:lnTo>
                  <a:lnTo>
                    <a:pt x="0" y="1291"/>
                  </a:lnTo>
                  <a:lnTo>
                    <a:pt x="383" y="1524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514200" y="3309480"/>
              <a:ext cx="1145880" cy="730440"/>
            </a:xfrm>
            <a:custGeom>
              <a:avLst/>
              <a:gdLst/>
              <a:ahLst/>
              <a:rect l="l" t="t" r="r" b="b"/>
              <a:pathLst>
                <a:path w="2083" h="1337">
                  <a:moveTo>
                    <a:pt x="1828" y="1337"/>
                  </a:moveTo>
                  <a:lnTo>
                    <a:pt x="0" y="232"/>
                  </a:lnTo>
                  <a:lnTo>
                    <a:pt x="169" y="0"/>
                  </a:lnTo>
                  <a:lnTo>
                    <a:pt x="2083" y="1145"/>
                  </a:lnTo>
                  <a:lnTo>
                    <a:pt x="1828" y="1337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606000" y="3321720"/>
              <a:ext cx="1066680" cy="636480"/>
            </a:xfrm>
            <a:custGeom>
              <a:avLst/>
              <a:gdLst/>
              <a:ahLst/>
              <a:rect l="l" t="t" r="r" b="b"/>
              <a:pathLst>
                <a:path w="1937" h="1166">
                  <a:moveTo>
                    <a:pt x="1937" y="1038"/>
                  </a:moveTo>
                  <a:lnTo>
                    <a:pt x="148" y="0"/>
                  </a:lnTo>
                  <a:lnTo>
                    <a:pt x="0" y="84"/>
                  </a:lnTo>
                  <a:lnTo>
                    <a:pt x="1851" y="1166"/>
                  </a:lnTo>
                  <a:lnTo>
                    <a:pt x="1937" y="1038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050600" y="3018960"/>
              <a:ext cx="1102320" cy="648720"/>
            </a:xfrm>
            <a:custGeom>
              <a:avLst/>
              <a:gdLst/>
              <a:ahLst/>
              <a:rect l="l" t="t" r="r" b="b"/>
              <a:pathLst>
                <a:path w="2003" h="1186">
                  <a:moveTo>
                    <a:pt x="1788" y="1186"/>
                  </a:moveTo>
                  <a:lnTo>
                    <a:pt x="0" y="211"/>
                  </a:lnTo>
                  <a:lnTo>
                    <a:pt x="234" y="0"/>
                  </a:lnTo>
                  <a:lnTo>
                    <a:pt x="2003" y="913"/>
                  </a:lnTo>
                  <a:lnTo>
                    <a:pt x="1788" y="1186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158600" y="3018960"/>
              <a:ext cx="1027800" cy="545040"/>
            </a:xfrm>
            <a:custGeom>
              <a:avLst/>
              <a:gdLst/>
              <a:ahLst/>
              <a:rect l="l" t="t" r="r" b="b"/>
              <a:pathLst>
                <a:path w="1870" h="996">
                  <a:moveTo>
                    <a:pt x="1870" y="892"/>
                  </a:moveTo>
                  <a:lnTo>
                    <a:pt x="125" y="0"/>
                  </a:lnTo>
                  <a:lnTo>
                    <a:pt x="0" y="23"/>
                  </a:lnTo>
                  <a:lnTo>
                    <a:pt x="1828" y="996"/>
                  </a:lnTo>
                  <a:lnTo>
                    <a:pt x="1870" y="892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822640" y="3678840"/>
              <a:ext cx="1322640" cy="996120"/>
            </a:xfrm>
            <a:custGeom>
              <a:avLst/>
              <a:gdLst/>
              <a:ahLst/>
              <a:rect l="l" t="t" r="r" b="b"/>
              <a:pathLst>
                <a:path w="2405" h="1822">
                  <a:moveTo>
                    <a:pt x="0" y="0"/>
                  </a:moveTo>
                  <a:lnTo>
                    <a:pt x="2405" y="1506"/>
                  </a:lnTo>
                  <a:lnTo>
                    <a:pt x="2405" y="1822"/>
                  </a:lnTo>
                  <a:lnTo>
                    <a:pt x="0" y="2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822640" y="3610800"/>
              <a:ext cx="1404360" cy="891360"/>
            </a:xfrm>
            <a:custGeom>
              <a:avLst/>
              <a:gdLst/>
              <a:ahLst/>
              <a:rect l="l" t="t" r="r" b="b"/>
              <a:pathLst>
                <a:path w="2551" h="1631">
                  <a:moveTo>
                    <a:pt x="0" y="125"/>
                  </a:moveTo>
                  <a:lnTo>
                    <a:pt x="171" y="0"/>
                  </a:lnTo>
                  <a:lnTo>
                    <a:pt x="510" y="190"/>
                  </a:lnTo>
                  <a:lnTo>
                    <a:pt x="2317" y="1355"/>
                  </a:lnTo>
                  <a:lnTo>
                    <a:pt x="2551" y="1504"/>
                  </a:lnTo>
                  <a:lnTo>
                    <a:pt x="2405" y="163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66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822640" y="2892240"/>
              <a:ext cx="1411920" cy="846360"/>
            </a:xfrm>
            <a:custGeom>
              <a:avLst/>
              <a:gdLst/>
              <a:ahLst/>
              <a:rect l="l" t="t" r="r" b="b"/>
              <a:pathLst>
                <a:path w="2565" h="1550">
                  <a:moveTo>
                    <a:pt x="2277" y="0"/>
                  </a:moveTo>
                  <a:lnTo>
                    <a:pt x="0" y="1337"/>
                  </a:lnTo>
                  <a:lnTo>
                    <a:pt x="319" y="1550"/>
                  </a:lnTo>
                  <a:lnTo>
                    <a:pt x="2565" y="143"/>
                  </a:lnTo>
                  <a:lnTo>
                    <a:pt x="2277" y="0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001200" y="2970360"/>
              <a:ext cx="1233360" cy="821880"/>
            </a:xfrm>
            <a:custGeom>
              <a:avLst/>
              <a:gdLst/>
              <a:ahLst/>
              <a:rect l="l" t="t" r="r" b="b"/>
              <a:pathLst>
                <a:path w="2244" h="1504">
                  <a:moveTo>
                    <a:pt x="2244" y="0"/>
                  </a:moveTo>
                  <a:lnTo>
                    <a:pt x="2244" y="97"/>
                  </a:lnTo>
                  <a:lnTo>
                    <a:pt x="0" y="1504"/>
                  </a:lnTo>
                  <a:lnTo>
                    <a:pt x="0" y="1407"/>
                  </a:lnTo>
                  <a:lnTo>
                    <a:pt x="2244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822640" y="3624480"/>
              <a:ext cx="178200" cy="167760"/>
            </a:xfrm>
            <a:custGeom>
              <a:avLst/>
              <a:gdLst/>
              <a:ahLst/>
              <a:rect l="l" t="t" r="r" b="b"/>
              <a:pathLst>
                <a:path w="323" h="308">
                  <a:moveTo>
                    <a:pt x="323" y="211"/>
                  </a:moveTo>
                  <a:lnTo>
                    <a:pt x="0" y="0"/>
                  </a:lnTo>
                  <a:lnTo>
                    <a:pt x="0" y="104"/>
                  </a:lnTo>
                  <a:lnTo>
                    <a:pt x="323" y="308"/>
                  </a:lnTo>
                  <a:lnTo>
                    <a:pt x="323" y="211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145280" y="3541320"/>
              <a:ext cx="1181520" cy="1180440"/>
            </a:xfrm>
            <a:custGeom>
              <a:avLst/>
              <a:gdLst/>
              <a:ahLst/>
              <a:rect l="l" t="t" r="r" b="b"/>
              <a:pathLst>
                <a:path w="2148" h="2160">
                  <a:moveTo>
                    <a:pt x="0" y="1672"/>
                  </a:moveTo>
                  <a:lnTo>
                    <a:pt x="2148" y="0"/>
                  </a:lnTo>
                  <a:lnTo>
                    <a:pt x="2148" y="445"/>
                  </a:lnTo>
                  <a:lnTo>
                    <a:pt x="0" y="2160"/>
                  </a:lnTo>
                  <a:lnTo>
                    <a:pt x="0" y="167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859880" y="3668040"/>
              <a:ext cx="409680" cy="434880"/>
            </a:xfrm>
            <a:custGeom>
              <a:avLst/>
              <a:gdLst/>
              <a:ahLst/>
              <a:rect l="l" t="t" r="r" b="b"/>
              <a:pathLst>
                <a:path w="746" h="797">
                  <a:moveTo>
                    <a:pt x="746" y="172"/>
                  </a:moveTo>
                  <a:lnTo>
                    <a:pt x="746" y="6"/>
                  </a:lnTo>
                  <a:lnTo>
                    <a:pt x="729" y="0"/>
                  </a:lnTo>
                  <a:lnTo>
                    <a:pt x="6" y="559"/>
                  </a:lnTo>
                  <a:lnTo>
                    <a:pt x="0" y="588"/>
                  </a:lnTo>
                  <a:lnTo>
                    <a:pt x="0" y="776"/>
                  </a:lnTo>
                  <a:lnTo>
                    <a:pt x="10" y="797"/>
                  </a:lnTo>
                  <a:lnTo>
                    <a:pt x="737" y="208"/>
                  </a:lnTo>
                  <a:lnTo>
                    <a:pt x="746" y="172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c966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228800" y="4050720"/>
              <a:ext cx="534600" cy="551880"/>
            </a:xfrm>
            <a:custGeom>
              <a:avLst/>
              <a:gdLst/>
              <a:ahLst/>
              <a:rect l="l" t="t" r="r" b="b"/>
              <a:pathLst>
                <a:path w="972" h="1012">
                  <a:moveTo>
                    <a:pt x="972" y="11"/>
                  </a:moveTo>
                  <a:lnTo>
                    <a:pt x="955" y="0"/>
                  </a:lnTo>
                  <a:lnTo>
                    <a:pt x="15" y="745"/>
                  </a:lnTo>
                  <a:lnTo>
                    <a:pt x="0" y="791"/>
                  </a:lnTo>
                  <a:lnTo>
                    <a:pt x="2" y="1002"/>
                  </a:lnTo>
                  <a:lnTo>
                    <a:pt x="19" y="1012"/>
                  </a:lnTo>
                  <a:lnTo>
                    <a:pt x="955" y="255"/>
                  </a:lnTo>
                  <a:lnTo>
                    <a:pt x="972" y="224"/>
                  </a:lnTo>
                  <a:lnTo>
                    <a:pt x="972" y="11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c966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 flipV="1">
              <a:off x="8170200" y="3734640"/>
              <a:ext cx="91800" cy="50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 flipV="1">
              <a:off x="7671240" y="4114800"/>
              <a:ext cx="90360" cy="63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981480" y="3471480"/>
              <a:ext cx="1345680" cy="982800"/>
            </a:xfrm>
            <a:custGeom>
              <a:avLst/>
              <a:gdLst/>
              <a:ahLst/>
              <a:rect l="l" t="t" r="r" b="b"/>
              <a:pathLst>
                <a:path w="2449" h="1799">
                  <a:moveTo>
                    <a:pt x="2449" y="127"/>
                  </a:moveTo>
                  <a:lnTo>
                    <a:pt x="2171" y="0"/>
                  </a:lnTo>
                  <a:lnTo>
                    <a:pt x="0" y="1610"/>
                  </a:lnTo>
                  <a:lnTo>
                    <a:pt x="301" y="1799"/>
                  </a:lnTo>
                  <a:lnTo>
                    <a:pt x="2449" y="127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984360" y="4569120"/>
              <a:ext cx="160920" cy="153720"/>
            </a:xfrm>
            <a:custGeom>
              <a:avLst/>
              <a:gdLst/>
              <a:ahLst/>
              <a:rect l="l" t="t" r="r" b="b"/>
              <a:pathLst>
                <a:path w="295" h="281">
                  <a:moveTo>
                    <a:pt x="0" y="0"/>
                  </a:moveTo>
                  <a:lnTo>
                    <a:pt x="0" y="83"/>
                  </a:lnTo>
                  <a:lnTo>
                    <a:pt x="295" y="281"/>
                  </a:lnTo>
                  <a:lnTo>
                    <a:pt x="295" y="1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643800" y="4346640"/>
              <a:ext cx="140760" cy="148680"/>
            </a:xfrm>
            <a:custGeom>
              <a:avLst/>
              <a:gdLst/>
              <a:ahLst/>
              <a:rect l="l" t="t" r="r" b="b"/>
              <a:pathLst>
                <a:path w="255" h="272">
                  <a:moveTo>
                    <a:pt x="255" y="272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255" y="169"/>
                  </a:lnTo>
                  <a:lnTo>
                    <a:pt x="255" y="272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416280" y="4208040"/>
              <a:ext cx="142200" cy="144360"/>
            </a:xfrm>
            <a:custGeom>
              <a:avLst/>
              <a:gdLst/>
              <a:ahLst/>
              <a:rect l="l" t="t" r="r" b="b"/>
              <a:pathLst>
                <a:path w="256" h="266">
                  <a:moveTo>
                    <a:pt x="255" y="162"/>
                  </a:moveTo>
                  <a:lnTo>
                    <a:pt x="0" y="0"/>
                  </a:lnTo>
                  <a:lnTo>
                    <a:pt x="0" y="97"/>
                  </a:lnTo>
                  <a:lnTo>
                    <a:pt x="256" y="266"/>
                  </a:lnTo>
                  <a:lnTo>
                    <a:pt x="255" y="162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163560" y="4032000"/>
              <a:ext cx="142200" cy="144360"/>
            </a:xfrm>
            <a:custGeom>
              <a:avLst/>
              <a:gdLst/>
              <a:ahLst/>
              <a:rect l="l" t="t" r="r" b="b"/>
              <a:pathLst>
                <a:path w="257" h="264">
                  <a:moveTo>
                    <a:pt x="257" y="167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257" y="264"/>
                  </a:lnTo>
                  <a:lnTo>
                    <a:pt x="257" y="167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853680" y="3418560"/>
              <a:ext cx="1224720" cy="906480"/>
            </a:xfrm>
            <a:custGeom>
              <a:avLst/>
              <a:gdLst/>
              <a:ahLst/>
              <a:rect l="l" t="t" r="r" b="b"/>
              <a:pathLst>
                <a:path w="2226" h="1660">
                  <a:moveTo>
                    <a:pt x="0" y="1660"/>
                  </a:moveTo>
                  <a:lnTo>
                    <a:pt x="2226" y="84"/>
                  </a:lnTo>
                  <a:lnTo>
                    <a:pt x="2226" y="0"/>
                  </a:lnTo>
                  <a:lnTo>
                    <a:pt x="0" y="1574"/>
                  </a:lnTo>
                  <a:lnTo>
                    <a:pt x="0" y="166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594840" y="3278160"/>
              <a:ext cx="1237680" cy="879120"/>
            </a:xfrm>
            <a:custGeom>
              <a:avLst/>
              <a:gdLst/>
              <a:ahLst/>
              <a:rect l="l" t="t" r="r" b="b"/>
              <a:pathLst>
                <a:path w="2251" h="1609">
                  <a:moveTo>
                    <a:pt x="0" y="1609"/>
                  </a:moveTo>
                  <a:lnTo>
                    <a:pt x="2251" y="90"/>
                  </a:lnTo>
                  <a:lnTo>
                    <a:pt x="2251" y="0"/>
                  </a:lnTo>
                  <a:lnTo>
                    <a:pt x="0" y="1518"/>
                  </a:lnTo>
                  <a:lnTo>
                    <a:pt x="0" y="160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69120" y="3170520"/>
              <a:ext cx="1250280" cy="859680"/>
            </a:xfrm>
            <a:custGeom>
              <a:avLst/>
              <a:gdLst/>
              <a:ahLst/>
              <a:rect l="l" t="t" r="r" b="b"/>
              <a:pathLst>
                <a:path w="2276" h="1572">
                  <a:moveTo>
                    <a:pt x="0" y="1572"/>
                  </a:moveTo>
                  <a:lnTo>
                    <a:pt x="2276" y="104"/>
                  </a:lnTo>
                  <a:lnTo>
                    <a:pt x="2276" y="0"/>
                  </a:lnTo>
                  <a:lnTo>
                    <a:pt x="0" y="1485"/>
                  </a:lnTo>
                  <a:lnTo>
                    <a:pt x="0" y="157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216480" y="3090240"/>
              <a:ext cx="1402920" cy="892440"/>
            </a:xfrm>
            <a:custGeom>
              <a:avLst/>
              <a:gdLst/>
              <a:ahLst/>
              <a:rect l="l" t="t" r="r" b="b"/>
              <a:pathLst>
                <a:path w="2552" h="1632">
                  <a:moveTo>
                    <a:pt x="276" y="1632"/>
                  </a:moveTo>
                  <a:lnTo>
                    <a:pt x="0" y="1451"/>
                  </a:lnTo>
                  <a:lnTo>
                    <a:pt x="2249" y="0"/>
                  </a:lnTo>
                  <a:lnTo>
                    <a:pt x="2552" y="147"/>
                  </a:lnTo>
                  <a:lnTo>
                    <a:pt x="276" y="1632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467040" y="3208680"/>
              <a:ext cx="1365480" cy="899640"/>
            </a:xfrm>
            <a:custGeom>
              <a:avLst/>
              <a:gdLst/>
              <a:ahLst/>
              <a:rect l="l" t="t" r="r" b="b"/>
              <a:pathLst>
                <a:path w="2483" h="1647">
                  <a:moveTo>
                    <a:pt x="234" y="1647"/>
                  </a:moveTo>
                  <a:lnTo>
                    <a:pt x="0" y="1498"/>
                  </a:lnTo>
                  <a:lnTo>
                    <a:pt x="2234" y="0"/>
                  </a:lnTo>
                  <a:lnTo>
                    <a:pt x="2483" y="129"/>
                  </a:lnTo>
                  <a:lnTo>
                    <a:pt x="234" y="1647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712920" y="3346560"/>
              <a:ext cx="1365480" cy="932040"/>
            </a:xfrm>
            <a:custGeom>
              <a:avLst/>
              <a:gdLst/>
              <a:ahLst/>
              <a:rect l="l" t="t" r="r" b="b"/>
              <a:pathLst>
                <a:path w="2485" h="1705">
                  <a:moveTo>
                    <a:pt x="259" y="1705"/>
                  </a:moveTo>
                  <a:lnTo>
                    <a:pt x="0" y="1540"/>
                  </a:lnTo>
                  <a:lnTo>
                    <a:pt x="2226" y="0"/>
                  </a:lnTo>
                  <a:lnTo>
                    <a:pt x="2485" y="129"/>
                  </a:lnTo>
                  <a:lnTo>
                    <a:pt x="259" y="1705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981480" y="4350960"/>
              <a:ext cx="163800" cy="150840"/>
            </a:xfrm>
            <a:custGeom>
              <a:avLst/>
              <a:gdLst/>
              <a:ahLst/>
              <a:rect l="l" t="t" r="r" b="b"/>
              <a:pathLst>
                <a:path w="301" h="277">
                  <a:moveTo>
                    <a:pt x="301" y="186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301" y="277"/>
                  </a:lnTo>
                  <a:lnTo>
                    <a:pt x="301" y="186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712920" y="4187160"/>
              <a:ext cx="139320" cy="140400"/>
            </a:xfrm>
            <a:custGeom>
              <a:avLst/>
              <a:gdLst/>
              <a:ahLst/>
              <a:rect l="l" t="t" r="r" b="b"/>
              <a:pathLst>
                <a:path w="255" h="257">
                  <a:moveTo>
                    <a:pt x="255" y="164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255" y="257"/>
                  </a:lnTo>
                  <a:lnTo>
                    <a:pt x="255" y="164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467040" y="4026600"/>
              <a:ext cx="127800" cy="132120"/>
            </a:xfrm>
            <a:custGeom>
              <a:avLst/>
              <a:gdLst/>
              <a:ahLst/>
              <a:rect l="l" t="t" r="r" b="b"/>
              <a:pathLst>
                <a:path w="232" h="244">
                  <a:moveTo>
                    <a:pt x="232" y="14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232" y="244"/>
                  </a:lnTo>
                  <a:lnTo>
                    <a:pt x="232" y="149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226560" y="3873600"/>
              <a:ext cx="149400" cy="145800"/>
            </a:xfrm>
            <a:custGeom>
              <a:avLst/>
              <a:gdLst/>
              <a:ahLst/>
              <a:rect l="l" t="t" r="r" b="b"/>
              <a:pathLst>
                <a:path w="272" h="266">
                  <a:moveTo>
                    <a:pt x="272" y="173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272" y="266"/>
                  </a:lnTo>
                  <a:lnTo>
                    <a:pt x="272" y="173"/>
                  </a:lnTo>
                  <a:close/>
                </a:path>
              </a:pathLst>
            </a:custGeom>
            <a:solidFill>
              <a:srgbClr val="c9662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2" name="RIBBON16" descr=""/>
          <p:cNvPicPr/>
          <p:nvPr/>
        </p:nvPicPr>
        <p:blipFill>
          <a:blip r:embed="rId1"/>
          <a:stretch/>
        </p:blipFill>
        <p:spPr>
          <a:xfrm>
            <a:off x="914400" y="2927520"/>
            <a:ext cx="2082960" cy="1763640"/>
          </a:xfrm>
          <a:prstGeom prst="rect">
            <a:avLst/>
          </a:prstGeom>
          <a:ln w="0">
            <a:noFill/>
          </a:ln>
        </p:spPr>
      </p:pic>
      <p:sp>
        <p:nvSpPr>
          <p:cNvPr id="3373" name=""/>
          <p:cNvSpPr/>
          <p:nvPr/>
        </p:nvSpPr>
        <p:spPr>
          <a:xfrm>
            <a:off x="1678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LIPPERS" descr=""/>
          <p:cNvPicPr/>
          <p:nvPr/>
        </p:nvPicPr>
        <p:blipFill>
          <a:blip r:embed="rId1"/>
          <a:stretch/>
        </p:blipFill>
        <p:spPr>
          <a:xfrm>
            <a:off x="3728880" y="2479680"/>
            <a:ext cx="16862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5" name="PAPRCLP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1733400" cy="1904760"/>
          </a:xfrm>
          <a:prstGeom prst="rect">
            <a:avLst/>
          </a:prstGeom>
          <a:ln w="0">
            <a:noFill/>
          </a:ln>
        </p:spPr>
      </p:pic>
      <p:sp>
        <p:nvSpPr>
          <p:cNvPr id="3376" name=""/>
          <p:cNvSpPr/>
          <p:nvPr/>
        </p:nvSpPr>
        <p:spPr>
          <a:xfrm>
            <a:off x="19069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6936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8" name=""/>
          <p:cNvGrpSpPr/>
          <p:nvPr/>
        </p:nvGrpSpPr>
        <p:grpSpPr>
          <a:xfrm>
            <a:off x="3200400" y="609480"/>
            <a:ext cx="6167160" cy="9004320"/>
            <a:chOff x="3200400" y="609480"/>
            <a:chExt cx="6167160" cy="9004320"/>
          </a:xfrm>
        </p:grpSpPr>
        <p:sp>
          <p:nvSpPr>
            <p:cNvPr id="3379" name=""/>
            <p:cNvSpPr/>
            <p:nvPr/>
          </p:nvSpPr>
          <p:spPr>
            <a:xfrm>
              <a:off x="4722840" y="1936800"/>
              <a:ext cx="45734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200400" y="609480"/>
              <a:ext cx="6167160" cy="90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394240" y="2977920"/>
              <a:ext cx="3232080" cy="1513080"/>
            </a:xfrm>
            <a:custGeom>
              <a:avLst/>
              <a:gdLst/>
              <a:ahLst/>
              <a:rect l="l" t="t" r="r" b="b"/>
              <a:pathLst>
                <a:path w="4071" h="1907">
                  <a:moveTo>
                    <a:pt x="148" y="1901"/>
                  </a:moveTo>
                  <a:lnTo>
                    <a:pt x="148" y="1819"/>
                  </a:lnTo>
                  <a:lnTo>
                    <a:pt x="188" y="1788"/>
                  </a:lnTo>
                  <a:lnTo>
                    <a:pt x="189" y="1002"/>
                  </a:lnTo>
                  <a:lnTo>
                    <a:pt x="131" y="946"/>
                  </a:lnTo>
                  <a:lnTo>
                    <a:pt x="134" y="749"/>
                  </a:lnTo>
                  <a:lnTo>
                    <a:pt x="13" y="713"/>
                  </a:lnTo>
                  <a:lnTo>
                    <a:pt x="0" y="680"/>
                  </a:lnTo>
                  <a:lnTo>
                    <a:pt x="13" y="630"/>
                  </a:lnTo>
                  <a:lnTo>
                    <a:pt x="679" y="82"/>
                  </a:lnTo>
                  <a:lnTo>
                    <a:pt x="697" y="77"/>
                  </a:lnTo>
                  <a:lnTo>
                    <a:pt x="900" y="144"/>
                  </a:lnTo>
                  <a:lnTo>
                    <a:pt x="971" y="86"/>
                  </a:lnTo>
                  <a:lnTo>
                    <a:pt x="1023" y="83"/>
                  </a:lnTo>
                  <a:lnTo>
                    <a:pt x="1050" y="83"/>
                  </a:lnTo>
                  <a:lnTo>
                    <a:pt x="1021" y="0"/>
                  </a:lnTo>
                  <a:lnTo>
                    <a:pt x="1258" y="12"/>
                  </a:lnTo>
                  <a:lnTo>
                    <a:pt x="1563" y="162"/>
                  </a:lnTo>
                  <a:lnTo>
                    <a:pt x="1683" y="125"/>
                  </a:lnTo>
                  <a:lnTo>
                    <a:pt x="1634" y="83"/>
                  </a:lnTo>
                  <a:lnTo>
                    <a:pt x="1574" y="22"/>
                  </a:lnTo>
                  <a:lnTo>
                    <a:pt x="1575" y="8"/>
                  </a:lnTo>
                  <a:lnTo>
                    <a:pt x="1975" y="27"/>
                  </a:lnTo>
                  <a:lnTo>
                    <a:pt x="2495" y="275"/>
                  </a:lnTo>
                  <a:lnTo>
                    <a:pt x="2531" y="330"/>
                  </a:lnTo>
                  <a:lnTo>
                    <a:pt x="2580" y="324"/>
                  </a:lnTo>
                  <a:lnTo>
                    <a:pt x="2635" y="352"/>
                  </a:lnTo>
                  <a:lnTo>
                    <a:pt x="2730" y="471"/>
                  </a:lnTo>
                  <a:lnTo>
                    <a:pt x="2798" y="498"/>
                  </a:lnTo>
                  <a:lnTo>
                    <a:pt x="2827" y="452"/>
                  </a:lnTo>
                  <a:lnTo>
                    <a:pt x="2880" y="467"/>
                  </a:lnTo>
                  <a:lnTo>
                    <a:pt x="4042" y="1042"/>
                  </a:lnTo>
                  <a:lnTo>
                    <a:pt x="4032" y="1081"/>
                  </a:lnTo>
                  <a:lnTo>
                    <a:pt x="4003" y="1135"/>
                  </a:lnTo>
                  <a:lnTo>
                    <a:pt x="4011" y="1169"/>
                  </a:lnTo>
                  <a:lnTo>
                    <a:pt x="4071" y="1188"/>
                  </a:lnTo>
                  <a:lnTo>
                    <a:pt x="4062" y="1247"/>
                  </a:lnTo>
                  <a:lnTo>
                    <a:pt x="4032" y="1258"/>
                  </a:lnTo>
                  <a:lnTo>
                    <a:pt x="4032" y="1324"/>
                  </a:lnTo>
                  <a:lnTo>
                    <a:pt x="4030" y="1790"/>
                  </a:lnTo>
                  <a:lnTo>
                    <a:pt x="4058" y="1819"/>
                  </a:lnTo>
                  <a:lnTo>
                    <a:pt x="4053" y="1870"/>
                  </a:lnTo>
                  <a:lnTo>
                    <a:pt x="2110" y="1901"/>
                  </a:lnTo>
                  <a:lnTo>
                    <a:pt x="190" y="1907"/>
                  </a:lnTo>
                  <a:lnTo>
                    <a:pt x="148" y="1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957720" y="2987640"/>
              <a:ext cx="422280" cy="218880"/>
            </a:xfrm>
            <a:custGeom>
              <a:avLst/>
              <a:gdLst/>
              <a:ahLst/>
              <a:rect l="l" t="t" r="r" b="b"/>
              <a:pathLst>
                <a:path w="534" h="277">
                  <a:moveTo>
                    <a:pt x="534" y="258"/>
                  </a:moveTo>
                  <a:lnTo>
                    <a:pt x="530" y="25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519" y="277"/>
                  </a:lnTo>
                  <a:lnTo>
                    <a:pt x="513" y="271"/>
                  </a:lnTo>
                  <a:lnTo>
                    <a:pt x="534" y="258"/>
                  </a:lnTo>
                  <a:lnTo>
                    <a:pt x="532" y="255"/>
                  </a:lnTo>
                  <a:lnTo>
                    <a:pt x="530" y="254"/>
                  </a:lnTo>
                  <a:lnTo>
                    <a:pt x="53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364160" y="3192480"/>
              <a:ext cx="49320" cy="5868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50" y="48"/>
                  </a:moveTo>
                  <a:lnTo>
                    <a:pt x="61" y="54"/>
                  </a:lnTo>
                  <a:lnTo>
                    <a:pt x="21" y="0"/>
                  </a:lnTo>
                  <a:lnTo>
                    <a:pt x="0" y="13"/>
                  </a:lnTo>
                  <a:lnTo>
                    <a:pt x="40" y="69"/>
                  </a:lnTo>
                  <a:lnTo>
                    <a:pt x="50" y="74"/>
                  </a:lnTo>
                  <a:lnTo>
                    <a:pt x="40" y="69"/>
                  </a:lnTo>
                  <a:lnTo>
                    <a:pt x="44" y="74"/>
                  </a:lnTo>
                  <a:lnTo>
                    <a:pt x="50" y="74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404120" y="3230280"/>
              <a:ext cx="2844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2" y="3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9" y="26"/>
                  </a:lnTo>
                  <a:lnTo>
                    <a:pt x="37" y="23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7" y="2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421400" y="3219480"/>
              <a:ext cx="23760" cy="29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7" y="4"/>
                  </a:moveTo>
                  <a:lnTo>
                    <a:pt x="14" y="5"/>
                  </a:lnTo>
                  <a:lnTo>
                    <a:pt x="0" y="16"/>
                  </a:lnTo>
                  <a:lnTo>
                    <a:pt x="15" y="36"/>
                  </a:lnTo>
                  <a:lnTo>
                    <a:pt x="30" y="25"/>
                  </a:lnTo>
                  <a:lnTo>
                    <a:pt x="16" y="27"/>
                  </a:lnTo>
                  <a:lnTo>
                    <a:pt x="27" y="4"/>
                  </a:lnTo>
                  <a:lnTo>
                    <a:pt x="20" y="0"/>
                  </a:lnTo>
                  <a:lnTo>
                    <a:pt x="14" y="5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434000" y="3222360"/>
              <a:ext cx="59040" cy="414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73" y="32"/>
                  </a:moveTo>
                  <a:lnTo>
                    <a:pt x="69" y="28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58" y="51"/>
                  </a:lnTo>
                  <a:lnTo>
                    <a:pt x="53" y="48"/>
                  </a:lnTo>
                  <a:lnTo>
                    <a:pt x="73" y="32"/>
                  </a:lnTo>
                  <a:lnTo>
                    <a:pt x="72" y="30"/>
                  </a:lnTo>
                  <a:lnTo>
                    <a:pt x="69" y="28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475400" y="3249360"/>
              <a:ext cx="92160" cy="10800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1" y="112"/>
                  </a:moveTo>
                  <a:lnTo>
                    <a:pt x="115" y="116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96" y="133"/>
                  </a:lnTo>
                  <a:lnTo>
                    <a:pt x="100" y="137"/>
                  </a:lnTo>
                  <a:lnTo>
                    <a:pt x="96" y="133"/>
                  </a:lnTo>
                  <a:lnTo>
                    <a:pt x="97" y="135"/>
                  </a:lnTo>
                  <a:lnTo>
                    <a:pt x="100" y="137"/>
                  </a:lnTo>
                  <a:lnTo>
                    <a:pt x="11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54960" y="3338280"/>
              <a:ext cx="66600" cy="4788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65" y="37"/>
                  </a:moveTo>
                  <a:lnTo>
                    <a:pt x="80" y="34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67" y="57"/>
                  </a:lnTo>
                  <a:lnTo>
                    <a:pt x="82" y="54"/>
                  </a:lnTo>
                  <a:lnTo>
                    <a:pt x="67" y="57"/>
                  </a:lnTo>
                  <a:lnTo>
                    <a:pt x="76" y="61"/>
                  </a:lnTo>
                  <a:lnTo>
                    <a:pt x="82" y="54"/>
                  </a:lnTo>
                  <a:lnTo>
                    <a:pt x="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607160" y="3352680"/>
              <a:ext cx="30240" cy="28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3" y="6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17" y="35"/>
                  </a:lnTo>
                  <a:lnTo>
                    <a:pt x="35" y="19"/>
                  </a:lnTo>
                  <a:lnTo>
                    <a:pt x="39" y="12"/>
                  </a:lnTo>
                  <a:lnTo>
                    <a:pt x="35" y="19"/>
                  </a:lnTo>
                  <a:lnTo>
                    <a:pt x="38" y="16"/>
                  </a:lnTo>
                  <a:lnTo>
                    <a:pt x="39" y="12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618320" y="3322440"/>
              <a:ext cx="27000" cy="396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26" y="3"/>
                  </a:moveTo>
                  <a:lnTo>
                    <a:pt x="10" y="12"/>
                  </a:lnTo>
                  <a:lnTo>
                    <a:pt x="0" y="45"/>
                  </a:lnTo>
                  <a:lnTo>
                    <a:pt x="26" y="51"/>
                  </a:lnTo>
                  <a:lnTo>
                    <a:pt x="34" y="19"/>
                  </a:lnTo>
                  <a:lnTo>
                    <a:pt x="18" y="28"/>
                  </a:lnTo>
                  <a:lnTo>
                    <a:pt x="26" y="3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630920" y="3324240"/>
              <a:ext cx="50760" cy="3312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63" y="17"/>
                  </a:moveTo>
                  <a:lnTo>
                    <a:pt x="62" y="17"/>
                  </a:lnTo>
                  <a:lnTo>
                    <a:pt x="8" y="0"/>
                  </a:lnTo>
                  <a:lnTo>
                    <a:pt x="0" y="25"/>
                  </a:lnTo>
                  <a:lnTo>
                    <a:pt x="54" y="42"/>
                  </a:lnTo>
                  <a:lnTo>
                    <a:pt x="53" y="42"/>
                  </a:lnTo>
                  <a:lnTo>
                    <a:pt x="6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673760" y="3338280"/>
              <a:ext cx="939960" cy="478080"/>
            </a:xfrm>
            <a:custGeom>
              <a:avLst/>
              <a:gdLst/>
              <a:ahLst/>
              <a:rect l="l" t="t" r="r" b="b"/>
              <a:pathLst>
                <a:path w="1184" h="603">
                  <a:moveTo>
                    <a:pt x="1183" y="595"/>
                  </a:moveTo>
                  <a:lnTo>
                    <a:pt x="1175" y="580"/>
                  </a:lnTo>
                  <a:lnTo>
                    <a:pt x="10" y="0"/>
                  </a:lnTo>
                  <a:lnTo>
                    <a:pt x="0" y="25"/>
                  </a:lnTo>
                  <a:lnTo>
                    <a:pt x="1164" y="603"/>
                  </a:lnTo>
                  <a:lnTo>
                    <a:pt x="1157" y="589"/>
                  </a:lnTo>
                  <a:lnTo>
                    <a:pt x="1183" y="595"/>
                  </a:lnTo>
                  <a:lnTo>
                    <a:pt x="1184" y="585"/>
                  </a:lnTo>
                  <a:lnTo>
                    <a:pt x="1175" y="580"/>
                  </a:lnTo>
                  <a:lnTo>
                    <a:pt x="1183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586720" y="3805200"/>
              <a:ext cx="25200" cy="381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3" y="47"/>
                  </a:moveTo>
                  <a:lnTo>
                    <a:pt x="24" y="43"/>
                  </a:lnTo>
                  <a:lnTo>
                    <a:pt x="34" y="6"/>
                  </a:lnTo>
                  <a:lnTo>
                    <a:pt x="8" y="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3" y="47"/>
                  </a:lnTo>
                  <a:lnTo>
                    <a:pt x="24" y="46"/>
                  </a:lnTo>
                  <a:lnTo>
                    <a:pt x="24" y="43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556480" y="3832200"/>
              <a:ext cx="47520" cy="5688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26" y="61"/>
                  </a:moveTo>
                  <a:lnTo>
                    <a:pt x="26" y="73"/>
                  </a:lnTo>
                  <a:lnTo>
                    <a:pt x="61" y="13"/>
                  </a:lnTo>
                  <a:lnTo>
                    <a:pt x="39" y="0"/>
                  </a:lnTo>
                  <a:lnTo>
                    <a:pt x="4" y="59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3"/>
                  </a:lnTo>
                  <a:lnTo>
                    <a:pt x="2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559720" y="3879720"/>
              <a:ext cx="27000" cy="316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15"/>
                  </a:moveTo>
                  <a:lnTo>
                    <a:pt x="34" y="20"/>
                  </a:lnTo>
                  <a:lnTo>
                    <a:pt x="22" y="0"/>
                  </a:lnTo>
                  <a:lnTo>
                    <a:pt x="0" y="12"/>
                  </a:lnTo>
                  <a:lnTo>
                    <a:pt x="11" y="32"/>
                  </a:lnTo>
                  <a:lnTo>
                    <a:pt x="18" y="39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8" y="39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572320" y="3892320"/>
              <a:ext cx="63720" cy="367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8" y="36"/>
                  </a:moveTo>
                  <a:lnTo>
                    <a:pt x="70" y="23"/>
                  </a:lnTo>
                  <a:lnTo>
                    <a:pt x="9" y="0"/>
                  </a:lnTo>
                  <a:lnTo>
                    <a:pt x="0" y="24"/>
                  </a:lnTo>
                  <a:lnTo>
                    <a:pt x="61" y="47"/>
                  </a:lnTo>
                  <a:lnTo>
                    <a:pt x="53" y="32"/>
                  </a:lnTo>
                  <a:lnTo>
                    <a:pt x="78" y="36"/>
                  </a:lnTo>
                  <a:lnTo>
                    <a:pt x="80" y="25"/>
                  </a:lnTo>
                  <a:lnTo>
                    <a:pt x="70" y="23"/>
                  </a:lnTo>
                  <a:lnTo>
                    <a:pt x="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609040" y="3917880"/>
              <a:ext cx="27000" cy="63360"/>
            </a:xfrm>
            <a:custGeom>
              <a:avLst/>
              <a:gdLst/>
              <a:ahLst/>
              <a:rect l="l" t="t" r="r" b="b"/>
              <a:pathLst>
                <a:path w="34" h="80">
                  <a:moveTo>
                    <a:pt x="17" y="80"/>
                  </a:moveTo>
                  <a:lnTo>
                    <a:pt x="26" y="69"/>
                  </a:lnTo>
                  <a:lnTo>
                    <a:pt x="34" y="4"/>
                  </a:lnTo>
                  <a:lnTo>
                    <a:pt x="9" y="0"/>
                  </a:lnTo>
                  <a:lnTo>
                    <a:pt x="0" y="66"/>
                  </a:lnTo>
                  <a:lnTo>
                    <a:pt x="10" y="54"/>
                  </a:lnTo>
                  <a:lnTo>
                    <a:pt x="17" y="80"/>
                  </a:lnTo>
                  <a:lnTo>
                    <a:pt x="25" y="78"/>
                  </a:lnTo>
                  <a:lnTo>
                    <a:pt x="26" y="69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583480" y="3960720"/>
              <a:ext cx="38160" cy="2700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26" y="20"/>
                  </a:moveTo>
                  <a:lnTo>
                    <a:pt x="16" y="34"/>
                  </a:lnTo>
                  <a:lnTo>
                    <a:pt x="49" y="26"/>
                  </a:lnTo>
                  <a:lnTo>
                    <a:pt x="42" y="0"/>
                  </a:lnTo>
                  <a:lnTo>
                    <a:pt x="10" y="8"/>
                  </a:lnTo>
                  <a:lnTo>
                    <a:pt x="0" y="20"/>
                  </a:lnTo>
                  <a:lnTo>
                    <a:pt x="10" y="8"/>
                  </a:lnTo>
                  <a:lnTo>
                    <a:pt x="0" y="9"/>
                  </a:lnTo>
                  <a:lnTo>
                    <a:pt x="0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583480" y="3976560"/>
              <a:ext cx="19080" cy="475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4" y="49"/>
                  </a:moveTo>
                  <a:lnTo>
                    <a:pt x="26" y="5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583480" y="401472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2"/>
                  </a:moveTo>
                  <a:lnTo>
                    <a:pt x="27" y="7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2" y="12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584920" y="4025880"/>
              <a:ext cx="20880" cy="384120"/>
            </a:xfrm>
            <a:custGeom>
              <a:avLst/>
              <a:gdLst/>
              <a:ahLst/>
              <a:rect l="l" t="t" r="r" b="b"/>
              <a:pathLst>
                <a:path w="27" h="485">
                  <a:moveTo>
                    <a:pt x="23" y="467"/>
                  </a:moveTo>
                  <a:lnTo>
                    <a:pt x="27" y="4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475"/>
                  </a:lnTo>
                  <a:lnTo>
                    <a:pt x="4" y="485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4" y="485"/>
                  </a:lnTo>
                  <a:lnTo>
                    <a:pt x="23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588160" y="4395600"/>
              <a:ext cx="38160" cy="334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7" y="35"/>
                  </a:moveTo>
                  <a:lnTo>
                    <a:pt x="44" y="25"/>
                  </a:lnTo>
                  <a:lnTo>
                    <a:pt x="19" y="0"/>
                  </a:lnTo>
                  <a:lnTo>
                    <a:pt x="0" y="18"/>
                  </a:lnTo>
                  <a:lnTo>
                    <a:pt x="25" y="42"/>
                  </a:lnTo>
                  <a:lnTo>
                    <a:pt x="21" y="33"/>
                  </a:lnTo>
                  <a:lnTo>
                    <a:pt x="47" y="35"/>
                  </a:lnTo>
                  <a:lnTo>
                    <a:pt x="48" y="29"/>
                  </a:lnTo>
                  <a:lnTo>
                    <a:pt x="44" y="25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599320" y="4421160"/>
              <a:ext cx="27000" cy="522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13" y="66"/>
                  </a:moveTo>
                  <a:lnTo>
                    <a:pt x="25" y="55"/>
                  </a:lnTo>
                  <a:lnTo>
                    <a:pt x="32" y="2"/>
                  </a:lnTo>
                  <a:lnTo>
                    <a:pt x="6" y="0"/>
                  </a:lnTo>
                  <a:lnTo>
                    <a:pt x="0" y="51"/>
                  </a:lnTo>
                  <a:lnTo>
                    <a:pt x="13" y="40"/>
                  </a:lnTo>
                  <a:lnTo>
                    <a:pt x="13" y="66"/>
                  </a:lnTo>
                  <a:lnTo>
                    <a:pt x="24" y="66"/>
                  </a:lnTo>
                  <a:lnTo>
                    <a:pt x="25" y="55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288280" y="4454280"/>
              <a:ext cx="322200" cy="19080"/>
            </a:xfrm>
            <a:custGeom>
              <a:avLst/>
              <a:gdLst/>
              <a:ahLst/>
              <a:rect l="l" t="t" r="r" b="b"/>
              <a:pathLst>
                <a:path w="405" h="26">
                  <a:moveTo>
                    <a:pt x="1" y="26"/>
                  </a:moveTo>
                  <a:lnTo>
                    <a:pt x="1" y="26"/>
                  </a:lnTo>
                  <a:lnTo>
                    <a:pt x="405" y="26"/>
                  </a:lnTo>
                  <a:lnTo>
                    <a:pt x="40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032600" y="4454280"/>
              <a:ext cx="1257120" cy="44640"/>
            </a:xfrm>
            <a:custGeom>
              <a:avLst/>
              <a:gdLst/>
              <a:ahLst/>
              <a:rect l="l" t="t" r="r" b="b"/>
              <a:pathLst>
                <a:path w="1584" h="57">
                  <a:moveTo>
                    <a:pt x="0" y="57"/>
                  </a:moveTo>
                  <a:lnTo>
                    <a:pt x="0" y="57"/>
                  </a:lnTo>
                  <a:lnTo>
                    <a:pt x="1584" y="26"/>
                  </a:lnTo>
                  <a:lnTo>
                    <a:pt x="1583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500440" y="4478040"/>
              <a:ext cx="1532160" cy="20880"/>
            </a:xfrm>
            <a:custGeom>
              <a:avLst/>
              <a:gdLst/>
              <a:ahLst/>
              <a:rect l="l" t="t" r="r" b="b"/>
              <a:pathLst>
                <a:path w="1929" h="26">
                  <a:moveTo>
                    <a:pt x="0" y="12"/>
                  </a:moveTo>
                  <a:lnTo>
                    <a:pt x="13" y="26"/>
                  </a:lnTo>
                  <a:lnTo>
                    <a:pt x="1929" y="26"/>
                  </a:lnTo>
                  <a:lnTo>
                    <a:pt x="1929" y="0"/>
                  </a:lnTo>
                  <a:lnTo>
                    <a:pt x="13" y="0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500440" y="4414680"/>
              <a:ext cx="20880" cy="7308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5" y="0"/>
                  </a:moveTo>
                  <a:lnTo>
                    <a:pt x="0" y="11"/>
                  </a:lnTo>
                  <a:lnTo>
                    <a:pt x="0" y="93"/>
                  </a:lnTo>
                  <a:lnTo>
                    <a:pt x="25" y="93"/>
                  </a:lnTo>
                  <a:lnTo>
                    <a:pt x="25" y="11"/>
                  </a:lnTo>
                  <a:lnTo>
                    <a:pt x="21" y="21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05480" y="4387680"/>
              <a:ext cx="47520" cy="428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4" y="9"/>
                  </a:moveTo>
                  <a:lnTo>
                    <a:pt x="39" y="0"/>
                  </a:lnTo>
                  <a:lnTo>
                    <a:pt x="0" y="32"/>
                  </a:lnTo>
                  <a:lnTo>
                    <a:pt x="16" y="53"/>
                  </a:lnTo>
                  <a:lnTo>
                    <a:pt x="55" y="20"/>
                  </a:lnTo>
                  <a:lnTo>
                    <a:pt x="59" y="9"/>
                  </a:lnTo>
                  <a:lnTo>
                    <a:pt x="55" y="20"/>
                  </a:lnTo>
                  <a:lnTo>
                    <a:pt x="59" y="16"/>
                  </a:lnTo>
                  <a:lnTo>
                    <a:pt x="59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532480" y="4240080"/>
              <a:ext cx="20520" cy="155520"/>
            </a:xfrm>
            <a:custGeom>
              <a:avLst/>
              <a:gdLst/>
              <a:ahLst/>
              <a:rect l="l" t="t" r="r" b="b"/>
              <a:pathLst>
                <a:path w="25" h="197">
                  <a:moveTo>
                    <a:pt x="0" y="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25" y="19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532480" y="4079880"/>
              <a:ext cx="20520" cy="16020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25" y="20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532480" y="3765600"/>
              <a:ext cx="20520" cy="314280"/>
            </a:xfrm>
            <a:custGeom>
              <a:avLst/>
              <a:gdLst/>
              <a:ahLst/>
              <a:rect l="l" t="t" r="r" b="b"/>
              <a:pathLst>
                <a:path w="25" h="396">
                  <a:moveTo>
                    <a:pt x="4" y="20"/>
                  </a:moveTo>
                  <a:lnTo>
                    <a:pt x="0" y="11"/>
                  </a:lnTo>
                  <a:lnTo>
                    <a:pt x="0" y="396"/>
                  </a:lnTo>
                  <a:lnTo>
                    <a:pt x="25" y="396"/>
                  </a:lnTo>
                  <a:lnTo>
                    <a:pt x="25" y="11"/>
                  </a:lnTo>
                  <a:lnTo>
                    <a:pt x="21" y="0"/>
                  </a:lnTo>
                  <a:lnTo>
                    <a:pt x="25" y="11"/>
                  </a:lnTo>
                  <a:lnTo>
                    <a:pt x="25" y="6"/>
                  </a:lnTo>
                  <a:lnTo>
                    <a:pt x="21" y="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487840" y="3725640"/>
              <a:ext cx="61920" cy="558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10"/>
                  </a:moveTo>
                  <a:lnTo>
                    <a:pt x="6" y="20"/>
                  </a:lnTo>
                  <a:lnTo>
                    <a:pt x="60" y="70"/>
                  </a:lnTo>
                  <a:lnTo>
                    <a:pt x="77" y="50"/>
                  </a:lnTo>
                  <a:lnTo>
                    <a:pt x="22" y="0"/>
                  </a:lnTo>
                  <a:lnTo>
                    <a:pt x="27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6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487840" y="3568680"/>
              <a:ext cx="22320" cy="164880"/>
            </a:xfrm>
            <a:custGeom>
              <a:avLst/>
              <a:gdLst/>
              <a:ahLst/>
              <a:rect l="l" t="t" r="r" b="b"/>
              <a:pathLst>
                <a:path w="27" h="208">
                  <a:moveTo>
                    <a:pt x="9" y="23"/>
                  </a:moveTo>
                  <a:lnTo>
                    <a:pt x="0" y="12"/>
                  </a:lnTo>
                  <a:lnTo>
                    <a:pt x="0" y="208"/>
                  </a:lnTo>
                  <a:lnTo>
                    <a:pt x="27" y="208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27" y="12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473440" y="3557520"/>
              <a:ext cx="30240" cy="284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" y="26"/>
                  </a:moveTo>
                  <a:lnTo>
                    <a:pt x="0" y="24"/>
                  </a:lnTo>
                  <a:lnTo>
                    <a:pt x="27" y="37"/>
                  </a:lnTo>
                  <a:lnTo>
                    <a:pt x="37" y="14"/>
                  </a:lnTo>
                  <a:lnTo>
                    <a:pt x="9" y="2"/>
                  </a:lnTo>
                  <a:lnTo>
                    <a:pt x="8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421240" y="3543120"/>
              <a:ext cx="58680" cy="34920"/>
            </a:xfrm>
            <a:custGeom>
              <a:avLst/>
              <a:gdLst/>
              <a:ahLst/>
              <a:rect l="l" t="t" r="r" b="b"/>
              <a:pathLst>
                <a:path w="73" h="45">
                  <a:moveTo>
                    <a:pt x="0" y="25"/>
                  </a:moveTo>
                  <a:lnTo>
                    <a:pt x="1" y="25"/>
                  </a:lnTo>
                  <a:lnTo>
                    <a:pt x="66" y="45"/>
                  </a:lnTo>
                  <a:lnTo>
                    <a:pt x="73" y="19"/>
                  </a:lnTo>
                  <a:lnTo>
                    <a:pt x="8" y="0"/>
                  </a:lnTo>
                  <a:lnTo>
                    <a:pt x="9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394240" y="353376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18"/>
                  </a:moveTo>
                  <a:lnTo>
                    <a:pt x="6" y="24"/>
                  </a:lnTo>
                  <a:lnTo>
                    <a:pt x="35" y="37"/>
                  </a:lnTo>
                  <a:lnTo>
                    <a:pt x="44" y="12"/>
                  </a:lnTo>
                  <a:lnTo>
                    <a:pt x="16" y="0"/>
                  </a:lnTo>
                  <a:lnTo>
                    <a:pt x="24" y="8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381640" y="3512880"/>
              <a:ext cx="31680" cy="334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1" y="1"/>
                  </a:moveTo>
                  <a:lnTo>
                    <a:pt x="1" y="9"/>
                  </a:lnTo>
                  <a:lnTo>
                    <a:pt x="15" y="42"/>
                  </a:lnTo>
                  <a:lnTo>
                    <a:pt x="39" y="32"/>
                  </a:lnTo>
                  <a:lnTo>
                    <a:pt x="25" y="0"/>
                  </a:lnTo>
                  <a:lnTo>
                    <a:pt x="27" y="8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383080" y="3473280"/>
              <a:ext cx="30240" cy="4608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8" y="0"/>
                  </a:moveTo>
                  <a:lnTo>
                    <a:pt x="14" y="7"/>
                  </a:lnTo>
                  <a:lnTo>
                    <a:pt x="0" y="53"/>
                  </a:lnTo>
                  <a:lnTo>
                    <a:pt x="26" y="60"/>
                  </a:lnTo>
                  <a:lnTo>
                    <a:pt x="38" y="14"/>
                  </a:lnTo>
                  <a:lnTo>
                    <a:pt x="34" y="21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4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5397480" y="3036600"/>
              <a:ext cx="541080" cy="452520"/>
            </a:xfrm>
            <a:custGeom>
              <a:avLst/>
              <a:gdLst/>
              <a:ahLst/>
              <a:rect l="l" t="t" r="r" b="b"/>
              <a:pathLst>
                <a:path w="682" h="570">
                  <a:moveTo>
                    <a:pt x="674" y="9"/>
                  </a:moveTo>
                  <a:lnTo>
                    <a:pt x="666" y="0"/>
                  </a:lnTo>
                  <a:lnTo>
                    <a:pt x="0" y="549"/>
                  </a:lnTo>
                  <a:lnTo>
                    <a:pt x="16" y="570"/>
                  </a:lnTo>
                  <a:lnTo>
                    <a:pt x="682" y="20"/>
                  </a:lnTo>
                  <a:lnTo>
                    <a:pt x="67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507080" y="3502080"/>
              <a:ext cx="1114560" cy="448920"/>
            </a:xfrm>
            <a:custGeom>
              <a:avLst/>
              <a:gdLst/>
              <a:ahLst/>
              <a:rect l="l" t="t" r="r" b="b"/>
              <a:pathLst>
                <a:path w="1404" h="566">
                  <a:moveTo>
                    <a:pt x="1" y="28"/>
                  </a:moveTo>
                  <a:lnTo>
                    <a:pt x="6" y="0"/>
                  </a:lnTo>
                  <a:lnTo>
                    <a:pt x="0" y="28"/>
                  </a:lnTo>
                  <a:lnTo>
                    <a:pt x="1335" y="533"/>
                  </a:lnTo>
                  <a:lnTo>
                    <a:pt x="1347" y="502"/>
                  </a:lnTo>
                  <a:lnTo>
                    <a:pt x="1335" y="533"/>
                  </a:lnTo>
                  <a:lnTo>
                    <a:pt x="1358" y="555"/>
                  </a:lnTo>
                  <a:lnTo>
                    <a:pt x="1404" y="56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584920" y="3941640"/>
              <a:ext cx="180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526240" y="4260600"/>
              <a:ext cx="68400" cy="147600"/>
            </a:xfrm>
            <a:custGeom>
              <a:avLst/>
              <a:gdLst/>
              <a:ahLst/>
              <a:rect l="l" t="t" r="r" b="b"/>
              <a:pathLst>
                <a:path w="87" h="185">
                  <a:moveTo>
                    <a:pt x="9" y="0"/>
                  </a:moveTo>
                  <a:lnTo>
                    <a:pt x="10" y="64"/>
                  </a:lnTo>
                  <a:lnTo>
                    <a:pt x="13" y="101"/>
                  </a:lnTo>
                  <a:lnTo>
                    <a:pt x="13" y="134"/>
                  </a:lnTo>
                  <a:lnTo>
                    <a:pt x="11" y="158"/>
                  </a:lnTo>
                  <a:lnTo>
                    <a:pt x="0" y="185"/>
                  </a:lnTo>
                  <a:lnTo>
                    <a:pt x="87" y="1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091360" y="4392360"/>
              <a:ext cx="434880" cy="15840"/>
            </a:xfrm>
            <a:custGeom>
              <a:avLst/>
              <a:gdLst/>
              <a:ahLst/>
              <a:rect l="l" t="t" r="r" b="b"/>
              <a:pathLst>
                <a:path w="549" h="19">
                  <a:moveTo>
                    <a:pt x="549" y="19"/>
                  </a:moveTo>
                  <a:lnTo>
                    <a:pt x="280" y="19"/>
                  </a:lnTo>
                  <a:lnTo>
                    <a:pt x="187" y="8"/>
                  </a:lnTo>
                  <a:lnTo>
                    <a:pt x="81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003800" y="4201920"/>
              <a:ext cx="1041480" cy="190440"/>
            </a:xfrm>
            <a:custGeom>
              <a:avLst/>
              <a:gdLst/>
              <a:ahLst/>
              <a:rect l="l" t="t" r="r" b="b"/>
              <a:pathLst>
                <a:path w="1313" h="240">
                  <a:moveTo>
                    <a:pt x="1313" y="8"/>
                  </a:moveTo>
                  <a:lnTo>
                    <a:pt x="1289" y="5"/>
                  </a:lnTo>
                  <a:lnTo>
                    <a:pt x="1251" y="3"/>
                  </a:lnTo>
                  <a:lnTo>
                    <a:pt x="1224" y="0"/>
                  </a:lnTo>
                  <a:lnTo>
                    <a:pt x="1189" y="0"/>
                  </a:lnTo>
                  <a:lnTo>
                    <a:pt x="1181" y="13"/>
                  </a:lnTo>
                  <a:lnTo>
                    <a:pt x="1184" y="220"/>
                  </a:lnTo>
                  <a:lnTo>
                    <a:pt x="1153" y="240"/>
                  </a:lnTo>
                  <a:lnTo>
                    <a:pt x="1043" y="236"/>
                  </a:lnTo>
                  <a:lnTo>
                    <a:pt x="1015" y="212"/>
                  </a:lnTo>
                  <a:lnTo>
                    <a:pt x="919" y="224"/>
                  </a:lnTo>
                  <a:lnTo>
                    <a:pt x="847" y="216"/>
                  </a:lnTo>
                  <a:lnTo>
                    <a:pt x="766" y="193"/>
                  </a:lnTo>
                  <a:lnTo>
                    <a:pt x="715" y="212"/>
                  </a:lnTo>
                  <a:lnTo>
                    <a:pt x="622" y="208"/>
                  </a:lnTo>
                  <a:lnTo>
                    <a:pt x="607" y="188"/>
                  </a:lnTo>
                  <a:lnTo>
                    <a:pt x="554" y="188"/>
                  </a:lnTo>
                  <a:lnTo>
                    <a:pt x="534" y="208"/>
                  </a:lnTo>
                  <a:lnTo>
                    <a:pt x="408" y="208"/>
                  </a:lnTo>
                  <a:lnTo>
                    <a:pt x="380" y="204"/>
                  </a:lnTo>
                  <a:lnTo>
                    <a:pt x="361" y="173"/>
                  </a:lnTo>
                  <a:lnTo>
                    <a:pt x="304" y="173"/>
                  </a:lnTo>
                  <a:lnTo>
                    <a:pt x="292" y="200"/>
                  </a:lnTo>
                  <a:lnTo>
                    <a:pt x="196" y="212"/>
                  </a:lnTo>
                  <a:lnTo>
                    <a:pt x="137" y="196"/>
                  </a:lnTo>
                  <a:lnTo>
                    <a:pt x="84" y="185"/>
                  </a:lnTo>
                  <a:lnTo>
                    <a:pt x="76" y="155"/>
                  </a:lnTo>
                  <a:lnTo>
                    <a:pt x="4" y="155"/>
                  </a:lnTo>
                  <a:lnTo>
                    <a:pt x="0" y="179"/>
                  </a:lnTo>
                  <a:lnTo>
                    <a:pt x="33" y="2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546520" y="4324320"/>
              <a:ext cx="1457280" cy="73080"/>
            </a:xfrm>
            <a:custGeom>
              <a:avLst/>
              <a:gdLst/>
              <a:ahLst/>
              <a:rect l="l" t="t" r="r" b="b"/>
              <a:pathLst>
                <a:path w="1834" h="92">
                  <a:moveTo>
                    <a:pt x="1834" y="25"/>
                  </a:moveTo>
                  <a:lnTo>
                    <a:pt x="1610" y="31"/>
                  </a:lnTo>
                  <a:lnTo>
                    <a:pt x="1592" y="0"/>
                  </a:lnTo>
                  <a:lnTo>
                    <a:pt x="1469" y="7"/>
                  </a:lnTo>
                  <a:lnTo>
                    <a:pt x="1440" y="39"/>
                  </a:lnTo>
                  <a:lnTo>
                    <a:pt x="1237" y="48"/>
                  </a:lnTo>
                  <a:lnTo>
                    <a:pt x="1225" y="3"/>
                  </a:lnTo>
                  <a:lnTo>
                    <a:pt x="1118" y="11"/>
                  </a:lnTo>
                  <a:lnTo>
                    <a:pt x="1105" y="42"/>
                  </a:lnTo>
                  <a:lnTo>
                    <a:pt x="1067" y="53"/>
                  </a:lnTo>
                  <a:lnTo>
                    <a:pt x="998" y="31"/>
                  </a:lnTo>
                  <a:lnTo>
                    <a:pt x="971" y="58"/>
                  </a:lnTo>
                  <a:lnTo>
                    <a:pt x="886" y="58"/>
                  </a:lnTo>
                  <a:lnTo>
                    <a:pt x="878" y="25"/>
                  </a:lnTo>
                  <a:lnTo>
                    <a:pt x="826" y="25"/>
                  </a:lnTo>
                  <a:lnTo>
                    <a:pt x="758" y="25"/>
                  </a:lnTo>
                  <a:lnTo>
                    <a:pt x="756" y="71"/>
                  </a:lnTo>
                  <a:lnTo>
                    <a:pt x="663" y="73"/>
                  </a:lnTo>
                  <a:lnTo>
                    <a:pt x="550" y="70"/>
                  </a:lnTo>
                  <a:lnTo>
                    <a:pt x="537" y="39"/>
                  </a:lnTo>
                  <a:lnTo>
                    <a:pt x="441" y="42"/>
                  </a:lnTo>
                  <a:lnTo>
                    <a:pt x="441" y="80"/>
                  </a:lnTo>
                  <a:lnTo>
                    <a:pt x="339" y="88"/>
                  </a:lnTo>
                  <a:lnTo>
                    <a:pt x="259" y="78"/>
                  </a:lnTo>
                  <a:lnTo>
                    <a:pt x="250" y="48"/>
                  </a:lnTo>
                  <a:lnTo>
                    <a:pt x="163" y="48"/>
                  </a:lnTo>
                  <a:lnTo>
                    <a:pt x="150" y="82"/>
                  </a:lnTo>
                  <a:lnTo>
                    <a:pt x="63" y="92"/>
                  </a:lnTo>
                  <a:lnTo>
                    <a:pt x="0" y="8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80000" y="3733560"/>
              <a:ext cx="73080" cy="138240"/>
            </a:xfrm>
            <a:custGeom>
              <a:avLst/>
              <a:gdLst/>
              <a:ahLst/>
              <a:rect l="l" t="t" r="r" b="b"/>
              <a:pathLst>
                <a:path w="92" h="174">
                  <a:moveTo>
                    <a:pt x="92" y="174"/>
                  </a:moveTo>
                  <a:lnTo>
                    <a:pt x="83" y="51"/>
                  </a:lnTo>
                  <a:lnTo>
                    <a:pt x="64" y="0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513400" y="4425840"/>
              <a:ext cx="1514520" cy="42840"/>
            </a:xfrm>
            <a:custGeom>
              <a:avLst/>
              <a:gdLst/>
              <a:ahLst/>
              <a:rect l="l" t="t" r="r" b="b"/>
              <a:pathLst>
                <a:path w="1907" h="54">
                  <a:moveTo>
                    <a:pt x="1902" y="0"/>
                  </a:moveTo>
                  <a:lnTo>
                    <a:pt x="1907" y="54"/>
                  </a:lnTo>
                  <a:lnTo>
                    <a:pt x="1902" y="0"/>
                  </a:lnTo>
                  <a:lnTo>
                    <a:pt x="0" y="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024680" y="4424400"/>
              <a:ext cx="15922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881680" y="3598920"/>
              <a:ext cx="407880" cy="136440"/>
            </a:xfrm>
            <a:custGeom>
              <a:avLst/>
              <a:gdLst/>
              <a:ahLst/>
              <a:rect l="l" t="t" r="r" b="b"/>
              <a:pathLst>
                <a:path w="514" h="171">
                  <a:moveTo>
                    <a:pt x="0" y="171"/>
                  </a:moveTo>
                  <a:lnTo>
                    <a:pt x="23" y="166"/>
                  </a:lnTo>
                  <a:lnTo>
                    <a:pt x="92" y="154"/>
                  </a:lnTo>
                  <a:lnTo>
                    <a:pt x="84" y="85"/>
                  </a:lnTo>
                  <a:lnTo>
                    <a:pt x="160" y="81"/>
                  </a:lnTo>
                  <a:lnTo>
                    <a:pt x="173" y="44"/>
                  </a:lnTo>
                  <a:lnTo>
                    <a:pt x="212" y="51"/>
                  </a:lnTo>
                  <a:lnTo>
                    <a:pt x="216" y="89"/>
                  </a:lnTo>
                  <a:lnTo>
                    <a:pt x="295" y="89"/>
                  </a:lnTo>
                  <a:lnTo>
                    <a:pt x="307" y="109"/>
                  </a:lnTo>
                  <a:lnTo>
                    <a:pt x="442" y="89"/>
                  </a:lnTo>
                  <a:lnTo>
                    <a:pt x="445" y="58"/>
                  </a:lnTo>
                  <a:lnTo>
                    <a:pt x="496" y="36"/>
                  </a:lnTo>
                  <a:lnTo>
                    <a:pt x="5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275160" y="3483000"/>
              <a:ext cx="2251080" cy="520560"/>
            </a:xfrm>
            <a:custGeom>
              <a:avLst/>
              <a:gdLst/>
              <a:ahLst/>
              <a:rect l="l" t="t" r="r" b="b"/>
              <a:pathLst>
                <a:path w="2837" h="656">
                  <a:moveTo>
                    <a:pt x="0" y="185"/>
                  </a:moveTo>
                  <a:lnTo>
                    <a:pt x="161" y="178"/>
                  </a:lnTo>
                  <a:lnTo>
                    <a:pt x="177" y="200"/>
                  </a:lnTo>
                  <a:lnTo>
                    <a:pt x="290" y="179"/>
                  </a:lnTo>
                  <a:lnTo>
                    <a:pt x="301" y="133"/>
                  </a:lnTo>
                  <a:lnTo>
                    <a:pt x="390" y="97"/>
                  </a:lnTo>
                  <a:lnTo>
                    <a:pt x="535" y="101"/>
                  </a:lnTo>
                  <a:lnTo>
                    <a:pt x="539" y="133"/>
                  </a:lnTo>
                  <a:lnTo>
                    <a:pt x="682" y="109"/>
                  </a:lnTo>
                  <a:lnTo>
                    <a:pt x="692" y="59"/>
                  </a:lnTo>
                  <a:lnTo>
                    <a:pt x="728" y="46"/>
                  </a:lnTo>
                  <a:lnTo>
                    <a:pt x="789" y="20"/>
                  </a:lnTo>
                  <a:lnTo>
                    <a:pt x="840" y="24"/>
                  </a:lnTo>
                  <a:lnTo>
                    <a:pt x="881" y="0"/>
                  </a:lnTo>
                  <a:lnTo>
                    <a:pt x="920" y="59"/>
                  </a:lnTo>
                  <a:lnTo>
                    <a:pt x="1129" y="128"/>
                  </a:lnTo>
                  <a:lnTo>
                    <a:pt x="1333" y="187"/>
                  </a:lnTo>
                  <a:lnTo>
                    <a:pt x="1456" y="237"/>
                  </a:lnTo>
                  <a:lnTo>
                    <a:pt x="1598" y="268"/>
                  </a:lnTo>
                  <a:lnTo>
                    <a:pt x="1651" y="297"/>
                  </a:lnTo>
                  <a:lnTo>
                    <a:pt x="1728" y="306"/>
                  </a:lnTo>
                  <a:lnTo>
                    <a:pt x="2124" y="429"/>
                  </a:lnTo>
                  <a:lnTo>
                    <a:pt x="2205" y="467"/>
                  </a:lnTo>
                  <a:lnTo>
                    <a:pt x="2248" y="467"/>
                  </a:lnTo>
                  <a:lnTo>
                    <a:pt x="2445" y="539"/>
                  </a:lnTo>
                  <a:lnTo>
                    <a:pt x="2502" y="547"/>
                  </a:lnTo>
                  <a:lnTo>
                    <a:pt x="2595" y="587"/>
                  </a:lnTo>
                  <a:lnTo>
                    <a:pt x="2837" y="656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319960" y="3948120"/>
              <a:ext cx="15840" cy="452160"/>
            </a:xfrm>
            <a:custGeom>
              <a:avLst/>
              <a:gdLst/>
              <a:ahLst/>
              <a:rect l="l" t="t" r="r" b="b"/>
              <a:pathLst>
                <a:path w="19" h="570">
                  <a:moveTo>
                    <a:pt x="19" y="0"/>
                  </a:moveTo>
                  <a:lnTo>
                    <a:pt x="0" y="28"/>
                  </a:lnTo>
                  <a:lnTo>
                    <a:pt x="6" y="321"/>
                  </a:lnTo>
                  <a:lnTo>
                    <a:pt x="6" y="448"/>
                  </a:lnTo>
                  <a:lnTo>
                    <a:pt x="6" y="516"/>
                  </a:lnTo>
                  <a:lnTo>
                    <a:pt x="8" y="5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186760" y="4221000"/>
              <a:ext cx="52200" cy="136440"/>
            </a:xfrm>
            <a:custGeom>
              <a:avLst/>
              <a:gdLst/>
              <a:ahLst/>
              <a:rect l="l" t="t" r="r" b="b"/>
              <a:pathLst>
                <a:path w="68" h="172">
                  <a:moveTo>
                    <a:pt x="68" y="14"/>
                  </a:moveTo>
                  <a:lnTo>
                    <a:pt x="0" y="0"/>
                  </a:lnTo>
                  <a:lnTo>
                    <a:pt x="7" y="1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175600" y="3919320"/>
              <a:ext cx="60120" cy="119160"/>
            </a:xfrm>
            <a:custGeom>
              <a:avLst/>
              <a:gdLst/>
              <a:ahLst/>
              <a:rect l="l" t="t" r="r" b="b"/>
              <a:pathLst>
                <a:path w="75" h="152">
                  <a:moveTo>
                    <a:pt x="0" y="142"/>
                  </a:moveTo>
                  <a:lnTo>
                    <a:pt x="75" y="152"/>
                  </a:lnTo>
                  <a:lnTo>
                    <a:pt x="6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789680" y="4201920"/>
              <a:ext cx="149400" cy="44640"/>
            </a:xfrm>
            <a:custGeom>
              <a:avLst/>
              <a:gdLst/>
              <a:ahLst/>
              <a:rect l="l" t="t" r="r" b="b"/>
              <a:pathLst>
                <a:path w="188" h="55">
                  <a:moveTo>
                    <a:pt x="0" y="15"/>
                  </a:moveTo>
                  <a:lnTo>
                    <a:pt x="45" y="55"/>
                  </a:lnTo>
                  <a:lnTo>
                    <a:pt x="88" y="47"/>
                  </a:lnTo>
                  <a:lnTo>
                    <a:pt x="129" y="0"/>
                  </a:lnTo>
                  <a:lnTo>
                    <a:pt x="188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783560" y="4213080"/>
              <a:ext cx="75960" cy="149400"/>
            </a:xfrm>
            <a:custGeom>
              <a:avLst/>
              <a:gdLst/>
              <a:ahLst/>
              <a:rect l="l" t="t" r="r" b="b"/>
              <a:pathLst>
                <a:path w="96" h="187">
                  <a:moveTo>
                    <a:pt x="96" y="32"/>
                  </a:moveTo>
                  <a:lnTo>
                    <a:pt x="37" y="71"/>
                  </a:lnTo>
                  <a:lnTo>
                    <a:pt x="39" y="183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475400" y="3860640"/>
              <a:ext cx="39600" cy="488880"/>
            </a:xfrm>
            <a:custGeom>
              <a:avLst/>
              <a:gdLst/>
              <a:ahLst/>
              <a:rect l="l" t="t" r="r" b="b"/>
              <a:pathLst>
                <a:path w="51" h="617">
                  <a:moveTo>
                    <a:pt x="51" y="354"/>
                  </a:moveTo>
                  <a:lnTo>
                    <a:pt x="51" y="111"/>
                  </a:lnTo>
                  <a:lnTo>
                    <a:pt x="51" y="7"/>
                  </a:lnTo>
                  <a:lnTo>
                    <a:pt x="0" y="0"/>
                  </a:lnTo>
                  <a:lnTo>
                    <a:pt x="12" y="6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439040" y="4146480"/>
              <a:ext cx="36360" cy="203040"/>
            </a:xfrm>
            <a:custGeom>
              <a:avLst/>
              <a:gdLst/>
              <a:ahLst/>
              <a:rect l="l" t="t" r="r" b="b"/>
              <a:pathLst>
                <a:path w="47" h="255">
                  <a:moveTo>
                    <a:pt x="47" y="0"/>
                  </a:moveTo>
                  <a:lnTo>
                    <a:pt x="4" y="3"/>
                  </a:lnTo>
                  <a:lnTo>
                    <a:pt x="0" y="35"/>
                  </a:lnTo>
                  <a:lnTo>
                    <a:pt x="4" y="2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288200" y="4132080"/>
              <a:ext cx="46080" cy="206280"/>
            </a:xfrm>
            <a:custGeom>
              <a:avLst/>
              <a:gdLst/>
              <a:ahLst/>
              <a:rect l="l" t="t" r="r" b="b"/>
              <a:pathLst>
                <a:path w="58" h="259">
                  <a:moveTo>
                    <a:pt x="58" y="1"/>
                  </a:move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218360" y="3600360"/>
              <a:ext cx="27000" cy="738000"/>
            </a:xfrm>
            <a:custGeom>
              <a:avLst/>
              <a:gdLst/>
              <a:ahLst/>
              <a:rect l="l" t="t" r="r" b="b"/>
              <a:pathLst>
                <a:path w="32" h="931">
                  <a:moveTo>
                    <a:pt x="0" y="0"/>
                  </a:moveTo>
                  <a:lnTo>
                    <a:pt x="20" y="172"/>
                  </a:lnTo>
                  <a:lnTo>
                    <a:pt x="32" y="9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062840" y="3754440"/>
              <a:ext cx="50760" cy="571320"/>
            </a:xfrm>
            <a:custGeom>
              <a:avLst/>
              <a:gdLst/>
              <a:ahLst/>
              <a:rect l="l" t="t" r="r" b="b"/>
              <a:pathLst>
                <a:path w="62" h="720">
                  <a:moveTo>
                    <a:pt x="62" y="460"/>
                  </a:moveTo>
                  <a:lnTo>
                    <a:pt x="43" y="0"/>
                  </a:lnTo>
                  <a:lnTo>
                    <a:pt x="0" y="4"/>
                  </a:lnTo>
                  <a:lnTo>
                    <a:pt x="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062840" y="3546360"/>
              <a:ext cx="50760" cy="210960"/>
            </a:xfrm>
            <a:custGeom>
              <a:avLst/>
              <a:gdLst/>
              <a:ahLst/>
              <a:rect l="l" t="t" r="r" b="b"/>
              <a:pathLst>
                <a:path w="63" h="266">
                  <a:moveTo>
                    <a:pt x="0" y="266"/>
                  </a:moveTo>
                  <a:lnTo>
                    <a:pt x="3" y="69"/>
                  </a:lnTo>
                  <a:lnTo>
                    <a:pt x="63" y="33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997680" y="3530520"/>
              <a:ext cx="9360" cy="795240"/>
            </a:xfrm>
            <a:custGeom>
              <a:avLst/>
              <a:gdLst/>
              <a:ahLst/>
              <a:rect l="l" t="t" r="r" b="b"/>
              <a:pathLst>
                <a:path w="11" h="1004">
                  <a:moveTo>
                    <a:pt x="11" y="0"/>
                  </a:moveTo>
                  <a:lnTo>
                    <a:pt x="0" y="19"/>
                  </a:lnTo>
                  <a:lnTo>
                    <a:pt x="3" y="729"/>
                  </a:lnTo>
                  <a:lnTo>
                    <a:pt x="6" y="939"/>
                  </a:lnTo>
                  <a:lnTo>
                    <a:pt x="11" y="10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796160" y="4249440"/>
              <a:ext cx="12600" cy="100080"/>
            </a:xfrm>
            <a:custGeom>
              <a:avLst/>
              <a:gdLst/>
              <a:ahLst/>
              <a:rect l="l" t="t" r="r" b="b"/>
              <a:pathLst>
                <a:path w="15" h="127">
                  <a:moveTo>
                    <a:pt x="15" y="14"/>
                  </a:moveTo>
                  <a:lnTo>
                    <a:pt x="0" y="127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7929360" y="4360320"/>
              <a:ext cx="32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8232480" y="3931920"/>
              <a:ext cx="4140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994440" y="3530520"/>
              <a:ext cx="120600" cy="798480"/>
            </a:xfrm>
            <a:custGeom>
              <a:avLst/>
              <a:gdLst/>
              <a:ahLst/>
              <a:rect l="l" t="t" r="r" b="b"/>
              <a:pathLst>
                <a:path w="152" h="1005">
                  <a:moveTo>
                    <a:pt x="19" y="1001"/>
                  </a:moveTo>
                  <a:lnTo>
                    <a:pt x="11" y="962"/>
                  </a:lnTo>
                  <a:lnTo>
                    <a:pt x="7" y="335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152" y="49"/>
                  </a:lnTo>
                  <a:lnTo>
                    <a:pt x="91" y="88"/>
                  </a:lnTo>
                  <a:lnTo>
                    <a:pt x="91" y="191"/>
                  </a:lnTo>
                  <a:lnTo>
                    <a:pt x="83" y="237"/>
                  </a:lnTo>
                  <a:lnTo>
                    <a:pt x="83" y="1005"/>
                  </a:lnTo>
                  <a:lnTo>
                    <a:pt x="19" y="10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218360" y="3595680"/>
              <a:ext cx="122040" cy="742680"/>
            </a:xfrm>
            <a:custGeom>
              <a:avLst/>
              <a:gdLst/>
              <a:ahLst/>
              <a:rect l="l" t="t" r="r" b="b"/>
              <a:pathLst>
                <a:path w="152" h="934">
                  <a:moveTo>
                    <a:pt x="34" y="934"/>
                  </a:moveTo>
                  <a:lnTo>
                    <a:pt x="23" y="240"/>
                  </a:lnTo>
                  <a:lnTo>
                    <a:pt x="7" y="67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52" y="71"/>
                  </a:lnTo>
                  <a:lnTo>
                    <a:pt x="82" y="108"/>
                  </a:lnTo>
                  <a:lnTo>
                    <a:pt x="89" y="934"/>
                  </a:lnTo>
                  <a:lnTo>
                    <a:pt x="34" y="9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24760" y="3852720"/>
              <a:ext cx="39600" cy="538200"/>
            </a:xfrm>
            <a:custGeom>
              <a:avLst/>
              <a:gdLst/>
              <a:ahLst/>
              <a:rect l="l" t="t" r="r" b="b"/>
              <a:pathLst>
                <a:path w="52" h="678">
                  <a:moveTo>
                    <a:pt x="33" y="678"/>
                  </a:moveTo>
                  <a:lnTo>
                    <a:pt x="11" y="162"/>
                  </a:lnTo>
                  <a:lnTo>
                    <a:pt x="0" y="1"/>
                  </a:lnTo>
                  <a:lnTo>
                    <a:pt x="27" y="0"/>
                  </a:lnTo>
                  <a:lnTo>
                    <a:pt x="52" y="678"/>
                  </a:lnTo>
                  <a:lnTo>
                    <a:pt x="33" y="678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126120" y="3671640"/>
              <a:ext cx="127080" cy="671760"/>
            </a:xfrm>
            <a:custGeom>
              <a:avLst/>
              <a:gdLst/>
              <a:ahLst/>
              <a:rect l="l" t="t" r="r" b="b"/>
              <a:pathLst>
                <a:path w="161" h="847">
                  <a:moveTo>
                    <a:pt x="30" y="847"/>
                  </a:moveTo>
                  <a:lnTo>
                    <a:pt x="19" y="626"/>
                  </a:lnTo>
                  <a:lnTo>
                    <a:pt x="4" y="193"/>
                  </a:lnTo>
                  <a:lnTo>
                    <a:pt x="0" y="17"/>
                  </a:lnTo>
                  <a:lnTo>
                    <a:pt x="135" y="0"/>
                  </a:lnTo>
                  <a:lnTo>
                    <a:pt x="135" y="34"/>
                  </a:lnTo>
                  <a:lnTo>
                    <a:pt x="135" y="65"/>
                  </a:lnTo>
                  <a:lnTo>
                    <a:pt x="135" y="91"/>
                  </a:lnTo>
                  <a:lnTo>
                    <a:pt x="147" y="110"/>
                  </a:lnTo>
                  <a:lnTo>
                    <a:pt x="150" y="137"/>
                  </a:lnTo>
                  <a:lnTo>
                    <a:pt x="161" y="157"/>
                  </a:lnTo>
                  <a:lnTo>
                    <a:pt x="151" y="168"/>
                  </a:lnTo>
                  <a:lnTo>
                    <a:pt x="151" y="181"/>
                  </a:lnTo>
                  <a:lnTo>
                    <a:pt x="154" y="218"/>
                  </a:lnTo>
                  <a:lnTo>
                    <a:pt x="141" y="260"/>
                  </a:lnTo>
                  <a:lnTo>
                    <a:pt x="158" y="596"/>
                  </a:lnTo>
                  <a:lnTo>
                    <a:pt x="151" y="844"/>
                  </a:lnTo>
                  <a:lnTo>
                    <a:pt x="30" y="8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421320" y="3625560"/>
              <a:ext cx="101520" cy="709920"/>
            </a:xfrm>
            <a:custGeom>
              <a:avLst/>
              <a:gdLst/>
              <a:ahLst/>
              <a:rect l="l" t="t" r="r" b="b"/>
              <a:pathLst>
                <a:path w="128" h="894">
                  <a:moveTo>
                    <a:pt x="17" y="894"/>
                  </a:moveTo>
                  <a:lnTo>
                    <a:pt x="4" y="369"/>
                  </a:lnTo>
                  <a:lnTo>
                    <a:pt x="0" y="111"/>
                  </a:lnTo>
                  <a:lnTo>
                    <a:pt x="0" y="19"/>
                  </a:lnTo>
                  <a:lnTo>
                    <a:pt x="106" y="0"/>
                  </a:lnTo>
                  <a:lnTo>
                    <a:pt x="117" y="307"/>
                  </a:lnTo>
                  <a:lnTo>
                    <a:pt x="120" y="609"/>
                  </a:lnTo>
                  <a:lnTo>
                    <a:pt x="128" y="888"/>
                  </a:lnTo>
                  <a:lnTo>
                    <a:pt x="17" y="8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689520" y="3570120"/>
              <a:ext cx="157320" cy="758880"/>
            </a:xfrm>
            <a:custGeom>
              <a:avLst/>
              <a:gdLst/>
              <a:ahLst/>
              <a:rect l="l" t="t" r="r" b="b"/>
              <a:pathLst>
                <a:path w="197" h="958">
                  <a:moveTo>
                    <a:pt x="28" y="958"/>
                  </a:moveTo>
                  <a:lnTo>
                    <a:pt x="17" y="717"/>
                  </a:lnTo>
                  <a:lnTo>
                    <a:pt x="16" y="534"/>
                  </a:lnTo>
                  <a:lnTo>
                    <a:pt x="16" y="459"/>
                  </a:lnTo>
                  <a:lnTo>
                    <a:pt x="15" y="367"/>
                  </a:lnTo>
                  <a:lnTo>
                    <a:pt x="11" y="319"/>
                  </a:lnTo>
                  <a:lnTo>
                    <a:pt x="7" y="292"/>
                  </a:lnTo>
                  <a:lnTo>
                    <a:pt x="0" y="265"/>
                  </a:lnTo>
                  <a:lnTo>
                    <a:pt x="11" y="208"/>
                  </a:lnTo>
                  <a:lnTo>
                    <a:pt x="13" y="146"/>
                  </a:lnTo>
                  <a:lnTo>
                    <a:pt x="13" y="78"/>
                  </a:lnTo>
                  <a:lnTo>
                    <a:pt x="161" y="0"/>
                  </a:lnTo>
                  <a:lnTo>
                    <a:pt x="167" y="330"/>
                  </a:lnTo>
                  <a:lnTo>
                    <a:pt x="170" y="639"/>
                  </a:lnTo>
                  <a:lnTo>
                    <a:pt x="171" y="743"/>
                  </a:lnTo>
                  <a:lnTo>
                    <a:pt x="185" y="760"/>
                  </a:lnTo>
                  <a:lnTo>
                    <a:pt x="197" y="817"/>
                  </a:lnTo>
                  <a:lnTo>
                    <a:pt x="185" y="890"/>
                  </a:lnTo>
                  <a:lnTo>
                    <a:pt x="152" y="954"/>
                  </a:lnTo>
                  <a:lnTo>
                    <a:pt x="28" y="9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5573520" y="3711600"/>
              <a:ext cx="165240" cy="60120"/>
            </a:xfrm>
            <a:custGeom>
              <a:avLst/>
              <a:gdLst/>
              <a:ahLst/>
              <a:rect l="l" t="t" r="r" b="b"/>
              <a:pathLst>
                <a:path w="210" h="75">
                  <a:moveTo>
                    <a:pt x="92" y="75"/>
                  </a:moveTo>
                  <a:lnTo>
                    <a:pt x="72" y="43"/>
                  </a:lnTo>
                  <a:lnTo>
                    <a:pt x="0" y="40"/>
                  </a:lnTo>
                  <a:lnTo>
                    <a:pt x="183" y="0"/>
                  </a:lnTo>
                  <a:lnTo>
                    <a:pt x="210" y="4"/>
                  </a:lnTo>
                  <a:lnTo>
                    <a:pt x="177" y="55"/>
                  </a:lnTo>
                  <a:lnTo>
                    <a:pt x="92" y="75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648040" y="3755880"/>
              <a:ext cx="98640" cy="609480"/>
            </a:xfrm>
            <a:custGeom>
              <a:avLst/>
              <a:gdLst/>
              <a:ahLst/>
              <a:rect l="l" t="t" r="r" b="b"/>
              <a:pathLst>
                <a:path w="124" h="769">
                  <a:moveTo>
                    <a:pt x="25" y="769"/>
                  </a:moveTo>
                  <a:lnTo>
                    <a:pt x="5" y="123"/>
                  </a:lnTo>
                  <a:lnTo>
                    <a:pt x="0" y="20"/>
                  </a:lnTo>
                  <a:lnTo>
                    <a:pt x="88" y="0"/>
                  </a:lnTo>
                  <a:lnTo>
                    <a:pt x="115" y="590"/>
                  </a:lnTo>
                  <a:lnTo>
                    <a:pt x="124" y="764"/>
                  </a:lnTo>
                  <a:lnTo>
                    <a:pt x="25" y="7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873760" y="3720960"/>
              <a:ext cx="102960" cy="636480"/>
            </a:xfrm>
            <a:custGeom>
              <a:avLst/>
              <a:gdLst/>
              <a:ahLst/>
              <a:rect l="l" t="t" r="r" b="b"/>
              <a:pathLst>
                <a:path w="129" h="803">
                  <a:moveTo>
                    <a:pt x="31" y="803"/>
                  </a:moveTo>
                  <a:lnTo>
                    <a:pt x="17" y="403"/>
                  </a:lnTo>
                  <a:lnTo>
                    <a:pt x="0" y="22"/>
                  </a:lnTo>
                  <a:lnTo>
                    <a:pt x="101" y="0"/>
                  </a:lnTo>
                  <a:lnTo>
                    <a:pt x="129" y="797"/>
                  </a:lnTo>
                  <a:lnTo>
                    <a:pt x="31" y="80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557840" y="4151160"/>
              <a:ext cx="47880" cy="174600"/>
            </a:xfrm>
            <a:custGeom>
              <a:avLst/>
              <a:gdLst/>
              <a:ahLst/>
              <a:rect l="l" t="t" r="r" b="b"/>
              <a:pathLst>
                <a:path w="60" h="222">
                  <a:moveTo>
                    <a:pt x="60" y="0"/>
                  </a:moveTo>
                  <a:lnTo>
                    <a:pt x="0" y="0"/>
                  </a:lnTo>
                  <a:lnTo>
                    <a:pt x="0" y="2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515000" y="4144680"/>
              <a:ext cx="42840" cy="177840"/>
            </a:xfrm>
            <a:custGeom>
              <a:avLst/>
              <a:gdLst/>
              <a:ahLst/>
              <a:rect l="l" t="t" r="r" b="b"/>
              <a:pathLst>
                <a:path w="53" h="224">
                  <a:moveTo>
                    <a:pt x="53" y="7"/>
                  </a:moveTo>
                  <a:lnTo>
                    <a:pt x="0" y="0"/>
                  </a:lnTo>
                  <a:lnTo>
                    <a:pt x="0" y="143"/>
                  </a:lnTo>
                  <a:lnTo>
                    <a:pt x="0" y="2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7530840" y="371952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473960" y="3720960"/>
              <a:ext cx="56880" cy="138240"/>
            </a:xfrm>
            <a:custGeom>
              <a:avLst/>
              <a:gdLst/>
              <a:ahLst/>
              <a:rect l="l" t="t" r="r" b="b"/>
              <a:pathLst>
                <a:path w="72" h="173">
                  <a:moveTo>
                    <a:pt x="72" y="0"/>
                  </a:moveTo>
                  <a:lnTo>
                    <a:pt x="0" y="23"/>
                  </a:lnTo>
                  <a:lnTo>
                    <a:pt x="0" y="17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515000" y="3767040"/>
              <a:ext cx="1800" cy="96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 flipV="1">
              <a:off x="7556400" y="38318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565760" y="3765600"/>
              <a:ext cx="39960" cy="12348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0" y="0"/>
                  </a:moveTo>
                  <a:lnTo>
                    <a:pt x="0" y="130"/>
                  </a:lnTo>
                  <a:lnTo>
                    <a:pt x="50" y="1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561080" y="38732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H="1" flipV="1">
              <a:off x="7514640" y="3866760"/>
              <a:ext cx="399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7565760" y="372060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 flipV="1">
              <a:off x="7740360" y="4168440"/>
              <a:ext cx="43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 flipV="1">
              <a:off x="7680240" y="4160880"/>
              <a:ext cx="5400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 flipV="1">
              <a:off x="7648200" y="4158720"/>
              <a:ext cx="298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638840" y="4221000"/>
              <a:ext cx="6480" cy="13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611840" y="4222800"/>
              <a:ext cx="1800" cy="131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H="1">
              <a:off x="7680240" y="4262400"/>
              <a:ext cx="1440" cy="68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 flipV="1">
              <a:off x="7680240" y="4065120"/>
              <a:ext cx="1440" cy="196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737480" y="4025880"/>
              <a:ext cx="1440" cy="31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902360" y="4230720"/>
              <a:ext cx="1800" cy="11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862760" y="4255920"/>
              <a:ext cx="1440" cy="9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369280" y="4084560"/>
              <a:ext cx="21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302680" y="4057560"/>
              <a:ext cx="2880" cy="312840"/>
            </a:xfrm>
            <a:custGeom>
              <a:avLst/>
              <a:gdLst/>
              <a:ahLst/>
              <a:rect l="l" t="t" r="r" b="b"/>
              <a:pathLst>
                <a:path w="5" h="393">
                  <a:moveTo>
                    <a:pt x="5" y="393"/>
                  </a:moveTo>
                  <a:lnTo>
                    <a:pt x="3" y="115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270640" y="4079880"/>
              <a:ext cx="5040" cy="29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235720" y="4047840"/>
              <a:ext cx="3240" cy="17784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3" y="81"/>
                  </a:moveTo>
                  <a:lnTo>
                    <a:pt x="0" y="129"/>
                  </a:lnTo>
                  <a:lnTo>
                    <a:pt x="0" y="2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307360" y="4228920"/>
              <a:ext cx="158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629320" y="3701880"/>
              <a:ext cx="91800" cy="4464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112" y="0"/>
                  </a:moveTo>
                  <a:lnTo>
                    <a:pt x="108" y="2"/>
                  </a:lnTo>
                  <a:lnTo>
                    <a:pt x="0" y="31"/>
                  </a:lnTo>
                  <a:lnTo>
                    <a:pt x="6" y="57"/>
                  </a:lnTo>
                  <a:lnTo>
                    <a:pt x="115" y="26"/>
                  </a:lnTo>
                  <a:lnTo>
                    <a:pt x="112" y="26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8" y="2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717880" y="3701880"/>
              <a:ext cx="55800" cy="19080"/>
            </a:xfrm>
            <a:custGeom>
              <a:avLst/>
              <a:gdLst/>
              <a:ahLst/>
              <a:rect l="l" t="t" r="r" b="b"/>
              <a:pathLst>
                <a:path w="69" h="26">
                  <a:moveTo>
                    <a:pt x="61" y="2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5" y="26"/>
                  </a:lnTo>
                  <a:lnTo>
                    <a:pt x="69" y="26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767200" y="3671640"/>
              <a:ext cx="85680" cy="4932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08" y="1"/>
                  </a:moveTo>
                  <a:lnTo>
                    <a:pt x="100" y="1"/>
                  </a:lnTo>
                  <a:lnTo>
                    <a:pt x="0" y="38"/>
                  </a:lnTo>
                  <a:lnTo>
                    <a:pt x="8" y="62"/>
                  </a:lnTo>
                  <a:lnTo>
                    <a:pt x="108" y="25"/>
                  </a:lnTo>
                  <a:lnTo>
                    <a:pt x="100" y="27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100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846760" y="3673440"/>
              <a:ext cx="66600" cy="3960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73" y="24"/>
                  </a:moveTo>
                  <a:lnTo>
                    <a:pt x="82" y="23"/>
                  </a:lnTo>
                  <a:lnTo>
                    <a:pt x="8" y="0"/>
                  </a:lnTo>
                  <a:lnTo>
                    <a:pt x="0" y="26"/>
                  </a:lnTo>
                  <a:lnTo>
                    <a:pt x="75" y="49"/>
                  </a:lnTo>
                  <a:lnTo>
                    <a:pt x="85" y="47"/>
                  </a:lnTo>
                  <a:lnTo>
                    <a:pt x="75" y="49"/>
                  </a:lnTo>
                  <a:lnTo>
                    <a:pt x="81" y="50"/>
                  </a:lnTo>
                  <a:lnTo>
                    <a:pt x="85" y="47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903640" y="367812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9" y="2"/>
                  </a:moveTo>
                  <a:lnTo>
                    <a:pt x="33" y="0"/>
                  </a:lnTo>
                  <a:lnTo>
                    <a:pt x="0" y="17"/>
                  </a:lnTo>
                  <a:lnTo>
                    <a:pt x="12" y="40"/>
                  </a:lnTo>
                  <a:lnTo>
                    <a:pt x="45" y="23"/>
                  </a:lnTo>
                  <a:lnTo>
                    <a:pt x="48" y="20"/>
                  </a:lnTo>
                  <a:lnTo>
                    <a:pt x="45" y="23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5927760" y="365904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7" y="0"/>
                  </a:moveTo>
                  <a:lnTo>
                    <a:pt x="25" y="2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5949720" y="3635280"/>
              <a:ext cx="42840" cy="396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45" y="0"/>
                  </a:moveTo>
                  <a:lnTo>
                    <a:pt x="39" y="3"/>
                  </a:lnTo>
                  <a:lnTo>
                    <a:pt x="0" y="31"/>
                  </a:lnTo>
                  <a:lnTo>
                    <a:pt x="15" y="52"/>
                  </a:lnTo>
                  <a:lnTo>
                    <a:pt x="54" y="23"/>
                  </a:lnTo>
                  <a:lnTo>
                    <a:pt x="49" y="26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984640" y="3622680"/>
              <a:ext cx="74880" cy="331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89" y="0"/>
                  </a:moveTo>
                  <a:lnTo>
                    <a:pt x="89" y="0"/>
                  </a:lnTo>
                  <a:lnTo>
                    <a:pt x="0" y="16"/>
                  </a:lnTo>
                  <a:lnTo>
                    <a:pt x="4" y="42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056280" y="3589200"/>
              <a:ext cx="234720" cy="52560"/>
            </a:xfrm>
            <a:custGeom>
              <a:avLst/>
              <a:gdLst/>
              <a:ahLst/>
              <a:rect l="l" t="t" r="r" b="b"/>
              <a:pathLst>
                <a:path w="297" h="66">
                  <a:moveTo>
                    <a:pt x="293" y="0"/>
                  </a:moveTo>
                  <a:lnTo>
                    <a:pt x="293" y="0"/>
                  </a:lnTo>
                  <a:lnTo>
                    <a:pt x="0" y="40"/>
                  </a:lnTo>
                  <a:lnTo>
                    <a:pt x="4" y="66"/>
                  </a:lnTo>
                  <a:lnTo>
                    <a:pt x="297" y="24"/>
                  </a:lnTo>
                  <a:lnTo>
                    <a:pt x="297" y="24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288120" y="3539880"/>
              <a:ext cx="298440" cy="69840"/>
            </a:xfrm>
            <a:custGeom>
              <a:avLst/>
              <a:gdLst/>
              <a:ahLst/>
              <a:rect l="l" t="t" r="r" b="b"/>
              <a:pathLst>
                <a:path w="376" h="88">
                  <a:moveTo>
                    <a:pt x="368" y="0"/>
                  </a:moveTo>
                  <a:lnTo>
                    <a:pt x="370" y="0"/>
                  </a:lnTo>
                  <a:lnTo>
                    <a:pt x="0" y="64"/>
                  </a:lnTo>
                  <a:lnTo>
                    <a:pt x="4" y="88"/>
                  </a:lnTo>
                  <a:lnTo>
                    <a:pt x="374" y="25"/>
                  </a:lnTo>
                  <a:lnTo>
                    <a:pt x="376" y="2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580080" y="3506760"/>
              <a:ext cx="119160" cy="522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146" y="0"/>
                  </a:moveTo>
                  <a:lnTo>
                    <a:pt x="143" y="0"/>
                  </a:lnTo>
                  <a:lnTo>
                    <a:pt x="0" y="42"/>
                  </a:lnTo>
                  <a:lnTo>
                    <a:pt x="8" y="67"/>
                  </a:lnTo>
                  <a:lnTo>
                    <a:pt x="151" y="26"/>
                  </a:lnTo>
                  <a:lnTo>
                    <a:pt x="150" y="2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696000" y="3477960"/>
              <a:ext cx="179280" cy="49320"/>
            </a:xfrm>
            <a:custGeom>
              <a:avLst/>
              <a:gdLst/>
              <a:ahLst/>
              <a:rect l="l" t="t" r="r" b="b"/>
              <a:pathLst>
                <a:path w="225" h="61">
                  <a:moveTo>
                    <a:pt x="220" y="0"/>
                  </a:moveTo>
                  <a:lnTo>
                    <a:pt x="221" y="0"/>
                  </a:lnTo>
                  <a:lnTo>
                    <a:pt x="0" y="35"/>
                  </a:lnTo>
                  <a:lnTo>
                    <a:pt x="4" y="61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870600" y="3458880"/>
              <a:ext cx="106200" cy="381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08" y="12"/>
                  </a:moveTo>
                  <a:lnTo>
                    <a:pt x="119" y="0"/>
                  </a:lnTo>
                  <a:lnTo>
                    <a:pt x="0" y="24"/>
                  </a:lnTo>
                  <a:lnTo>
                    <a:pt x="5" y="49"/>
                  </a:lnTo>
                  <a:lnTo>
                    <a:pt x="123" y="24"/>
                  </a:lnTo>
                  <a:lnTo>
                    <a:pt x="133" y="12"/>
                  </a:lnTo>
                  <a:lnTo>
                    <a:pt x="123" y="24"/>
                  </a:lnTo>
                  <a:lnTo>
                    <a:pt x="133" y="23"/>
                  </a:lnTo>
                  <a:lnTo>
                    <a:pt x="133" y="12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956280" y="3213000"/>
              <a:ext cx="20520" cy="255600"/>
            </a:xfrm>
            <a:custGeom>
              <a:avLst/>
              <a:gdLst/>
              <a:ahLst/>
              <a:rect l="l" t="t" r="r" b="b"/>
              <a:pathLst>
                <a:path w="25" h="323">
                  <a:moveTo>
                    <a:pt x="12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25" y="323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607000" y="3878280"/>
              <a:ext cx="61920" cy="488880"/>
            </a:xfrm>
            <a:custGeom>
              <a:avLst/>
              <a:gdLst/>
              <a:ahLst/>
              <a:rect l="l" t="t" r="r" b="b"/>
              <a:pathLst>
                <a:path w="77" h="616">
                  <a:moveTo>
                    <a:pt x="76" y="616"/>
                  </a:moveTo>
                  <a:lnTo>
                    <a:pt x="57" y="0"/>
                  </a:lnTo>
                  <a:lnTo>
                    <a:pt x="0" y="15"/>
                  </a:lnTo>
                  <a:lnTo>
                    <a:pt x="13" y="262"/>
                  </a:lnTo>
                  <a:lnTo>
                    <a:pt x="17" y="423"/>
                  </a:lnTo>
                  <a:lnTo>
                    <a:pt x="42" y="413"/>
                  </a:lnTo>
                  <a:lnTo>
                    <a:pt x="71" y="419"/>
                  </a:lnTo>
                  <a:lnTo>
                    <a:pt x="77" y="6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538600" y="4209840"/>
              <a:ext cx="81000" cy="648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3" y="0"/>
                  </a:moveTo>
                  <a:lnTo>
                    <a:pt x="55" y="0"/>
                  </a:lnTo>
                  <a:lnTo>
                    <a:pt x="28" y="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5619600" y="4144680"/>
              <a:ext cx="7920" cy="22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565600" y="3800520"/>
              <a:ext cx="17640" cy="561960"/>
            </a:xfrm>
            <a:custGeom>
              <a:avLst/>
              <a:gdLst/>
              <a:ahLst/>
              <a:rect l="l" t="t" r="r" b="b"/>
              <a:pathLst>
                <a:path w="21" h="707">
                  <a:moveTo>
                    <a:pt x="21" y="707"/>
                  </a:moveTo>
                  <a:lnTo>
                    <a:pt x="16" y="38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5530320" y="3892320"/>
              <a:ext cx="50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V="1">
              <a:off x="5607000" y="3792240"/>
              <a:ext cx="1440" cy="9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716440" y="3727440"/>
              <a:ext cx="42840" cy="144360"/>
            </a:xfrm>
            <a:custGeom>
              <a:avLst/>
              <a:gdLst/>
              <a:ahLst/>
              <a:rect l="l" t="t" r="r" b="b"/>
              <a:pathLst>
                <a:path w="54" h="181">
                  <a:moveTo>
                    <a:pt x="19" y="0"/>
                  </a:moveTo>
                  <a:lnTo>
                    <a:pt x="0" y="35"/>
                  </a:lnTo>
                  <a:lnTo>
                    <a:pt x="3" y="181"/>
                  </a:lnTo>
                  <a:lnTo>
                    <a:pt x="54" y="171"/>
                  </a:lnTo>
                  <a:lnTo>
                    <a:pt x="50" y="2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5738760" y="3851280"/>
              <a:ext cx="88920" cy="12600"/>
            </a:xfrm>
            <a:custGeom>
              <a:avLst/>
              <a:gdLst/>
              <a:ahLst/>
              <a:rect l="l" t="t" r="r" b="b"/>
              <a:pathLst>
                <a:path w="114" h="16">
                  <a:moveTo>
                    <a:pt x="0" y="16"/>
                  </a:moveTo>
                  <a:lnTo>
                    <a:pt x="60" y="0"/>
                  </a:lnTo>
                  <a:lnTo>
                    <a:pt x="1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797440" y="3701880"/>
              <a:ext cx="93600" cy="511200"/>
            </a:xfrm>
            <a:custGeom>
              <a:avLst/>
              <a:gdLst/>
              <a:ahLst/>
              <a:rect l="l" t="t" r="r" b="b"/>
              <a:pathLst>
                <a:path w="116" h="642">
                  <a:moveTo>
                    <a:pt x="0" y="0"/>
                  </a:moveTo>
                  <a:lnTo>
                    <a:pt x="21" y="12"/>
                  </a:lnTo>
                  <a:lnTo>
                    <a:pt x="19" y="51"/>
                  </a:lnTo>
                  <a:lnTo>
                    <a:pt x="40" y="193"/>
                  </a:lnTo>
                  <a:lnTo>
                    <a:pt x="43" y="247"/>
                  </a:lnTo>
                  <a:lnTo>
                    <a:pt x="59" y="632"/>
                  </a:lnTo>
                  <a:lnTo>
                    <a:pt x="116" y="642"/>
                  </a:lnTo>
                  <a:lnTo>
                    <a:pt x="108" y="220"/>
                  </a:lnTo>
                  <a:lnTo>
                    <a:pt x="92" y="13"/>
                  </a:lnTo>
                  <a:lnTo>
                    <a:pt x="4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891040" y="4213080"/>
              <a:ext cx="648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844960" y="4206600"/>
              <a:ext cx="6480" cy="141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775120" y="4206600"/>
              <a:ext cx="52560" cy="13824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65" y="0"/>
                  </a:moveTo>
                  <a:lnTo>
                    <a:pt x="0" y="5"/>
                  </a:lnTo>
                  <a:lnTo>
                    <a:pt x="9" y="1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734080" y="4211640"/>
              <a:ext cx="41040" cy="152280"/>
            </a:xfrm>
            <a:custGeom>
              <a:avLst/>
              <a:gdLst/>
              <a:ahLst/>
              <a:rect l="l" t="t" r="r" b="b"/>
              <a:pathLst>
                <a:path w="52" h="192">
                  <a:moveTo>
                    <a:pt x="52" y="0"/>
                  </a:moveTo>
                  <a:lnTo>
                    <a:pt x="9" y="1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 flipV="1">
              <a:off x="5717520" y="3873240"/>
              <a:ext cx="24120" cy="339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59280" y="3863880"/>
              <a:ext cx="15840" cy="345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11840" y="3851280"/>
              <a:ext cx="69840" cy="9360"/>
            </a:xfrm>
            <a:custGeom>
              <a:avLst/>
              <a:gdLst/>
              <a:ahLst/>
              <a:rect l="l" t="t" r="r" b="b"/>
              <a:pathLst>
                <a:path w="88" h="12">
                  <a:moveTo>
                    <a:pt x="10" y="12"/>
                  </a:moveTo>
                  <a:lnTo>
                    <a:pt x="0" y="3"/>
                  </a:lnTo>
                  <a:lnTo>
                    <a:pt x="54" y="0"/>
                  </a:lnTo>
                  <a:lnTo>
                    <a:pt x="88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124320" y="3687480"/>
              <a:ext cx="24120" cy="657360"/>
            </a:xfrm>
            <a:custGeom>
              <a:avLst/>
              <a:gdLst/>
              <a:ahLst/>
              <a:rect l="l" t="t" r="r" b="b"/>
              <a:pathLst>
                <a:path w="28" h="829">
                  <a:moveTo>
                    <a:pt x="0" y="0"/>
                  </a:moveTo>
                  <a:lnTo>
                    <a:pt x="13" y="511"/>
                  </a:lnTo>
                  <a:lnTo>
                    <a:pt x="28" y="8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076800" y="4167000"/>
              <a:ext cx="60480" cy="14148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76" y="0"/>
                  </a:moveTo>
                  <a:lnTo>
                    <a:pt x="0" y="0"/>
                  </a:lnTo>
                  <a:lnTo>
                    <a:pt x="0" y="1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016680" y="4167000"/>
              <a:ext cx="58680" cy="150840"/>
            </a:xfrm>
            <a:custGeom>
              <a:avLst/>
              <a:gdLst/>
              <a:ahLst/>
              <a:rect l="l" t="t" r="r" b="b"/>
              <a:pathLst>
                <a:path w="76" h="189">
                  <a:moveTo>
                    <a:pt x="76" y="0"/>
                  </a:moveTo>
                  <a:lnTo>
                    <a:pt x="0" y="5"/>
                  </a:lnTo>
                  <a:lnTo>
                    <a:pt x="4" y="1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 flipH="1" flipV="1">
              <a:off x="5954760" y="3722400"/>
              <a:ext cx="15840" cy="45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5960880" y="3678120"/>
              <a:ext cx="316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005520" y="3711600"/>
              <a:ext cx="66600" cy="112680"/>
            </a:xfrm>
            <a:custGeom>
              <a:avLst/>
              <a:gdLst/>
              <a:ahLst/>
              <a:rect l="l" t="t" r="r" b="b"/>
              <a:pathLst>
                <a:path w="85" h="140">
                  <a:moveTo>
                    <a:pt x="0" y="44"/>
                  </a:moveTo>
                  <a:lnTo>
                    <a:pt x="5" y="140"/>
                  </a:lnTo>
                  <a:lnTo>
                    <a:pt x="85" y="131"/>
                  </a:lnTo>
                  <a:lnTo>
                    <a:pt x="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6072120" y="3816360"/>
              <a:ext cx="540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6072120" y="3816360"/>
              <a:ext cx="3240" cy="350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008400" y="3824280"/>
              <a:ext cx="5040" cy="347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H="1">
              <a:off x="5962320" y="3824280"/>
              <a:ext cx="4572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418080" y="3641760"/>
              <a:ext cx="17640" cy="69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424560" y="4108320"/>
              <a:ext cx="14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411960" y="410832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0" y="6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410160" y="4108320"/>
              <a:ext cx="18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318000" y="4144680"/>
              <a:ext cx="14400" cy="131760"/>
            </a:xfrm>
            <a:custGeom>
              <a:avLst/>
              <a:gdLst/>
              <a:ahLst/>
              <a:rect l="l" t="t" r="r" b="b"/>
              <a:pathLst>
                <a:path w="19" h="166">
                  <a:moveTo>
                    <a:pt x="12" y="0"/>
                  </a:moveTo>
                  <a:lnTo>
                    <a:pt x="0" y="166"/>
                  </a:lnTo>
                  <a:lnTo>
                    <a:pt x="5" y="166"/>
                  </a:lnTo>
                  <a:lnTo>
                    <a:pt x="1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327720" y="4108320"/>
              <a:ext cx="17280" cy="381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15" y="0"/>
                  </a:moveTo>
                  <a:lnTo>
                    <a:pt x="0" y="47"/>
                  </a:lnTo>
                  <a:lnTo>
                    <a:pt x="7" y="49"/>
                  </a:lnTo>
                  <a:lnTo>
                    <a:pt x="22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340320" y="4060800"/>
              <a:ext cx="6480" cy="4752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3" y="0"/>
                  </a:moveTo>
                  <a:lnTo>
                    <a:pt x="0" y="59"/>
                  </a:lnTo>
                  <a:lnTo>
                    <a:pt x="7" y="59"/>
                  </a:lnTo>
                  <a:lnTo>
                    <a:pt x="9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342120" y="4016160"/>
              <a:ext cx="12600" cy="44640"/>
            </a:xfrm>
            <a:custGeom>
              <a:avLst/>
              <a:gdLst/>
              <a:ahLst/>
              <a:rect l="l" t="t" r="r" b="b"/>
              <a:pathLst>
                <a:path w="16" h="57">
                  <a:moveTo>
                    <a:pt x="11" y="0"/>
                  </a:moveTo>
                  <a:lnTo>
                    <a:pt x="0" y="56"/>
                  </a:lnTo>
                  <a:lnTo>
                    <a:pt x="6" y="57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350040" y="3983040"/>
              <a:ext cx="29880" cy="3636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3" y="0"/>
                  </a:moveTo>
                  <a:lnTo>
                    <a:pt x="0" y="43"/>
                  </a:lnTo>
                  <a:lnTo>
                    <a:pt x="5" y="47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377040" y="3965400"/>
              <a:ext cx="34920" cy="205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5"/>
                  </a:moveTo>
                  <a:lnTo>
                    <a:pt x="39" y="2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42" y="7"/>
                  </a:lnTo>
                  <a:lnTo>
                    <a:pt x="37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405480" y="3970080"/>
              <a:ext cx="9360" cy="3492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12" y="4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7" y="45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402240" y="4005000"/>
              <a:ext cx="12600" cy="3816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5" y="47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0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402240" y="4043160"/>
              <a:ext cx="468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394320" y="4093920"/>
              <a:ext cx="12600" cy="46080"/>
            </a:xfrm>
            <a:custGeom>
              <a:avLst/>
              <a:gdLst/>
              <a:ahLst/>
              <a:rect l="l" t="t" r="r" b="b"/>
              <a:pathLst>
                <a:path w="16" h="59">
                  <a:moveTo>
                    <a:pt x="7" y="59"/>
                  </a:moveTo>
                  <a:lnTo>
                    <a:pt x="16" y="2"/>
                  </a:lnTo>
                  <a:lnTo>
                    <a:pt x="11" y="0"/>
                  </a:lnTo>
                  <a:lnTo>
                    <a:pt x="0" y="57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394320" y="414000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23" y="15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7" y="152"/>
                  </a:lnTo>
                  <a:lnTo>
                    <a:pt x="23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405480" y="4260600"/>
              <a:ext cx="6480" cy="3816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6" y="47"/>
                  </a:moveTo>
                  <a:lnTo>
                    <a:pt x="10" y="0"/>
                  </a:lnTo>
                  <a:lnTo>
                    <a:pt x="4" y="0"/>
                  </a:lnTo>
                  <a:lnTo>
                    <a:pt x="0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402240" y="4298760"/>
              <a:ext cx="6480" cy="41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53"/>
                  </a:moveTo>
                  <a:lnTo>
                    <a:pt x="7" y="5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6" y="53"/>
                  </a:lnTo>
                  <a:lnTo>
                    <a:pt x="7" y="52"/>
                  </a:lnTo>
                  <a:lnTo>
                    <a:pt x="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38880" y="4330440"/>
              <a:ext cx="31680" cy="1908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4"/>
                  </a:moveTo>
                  <a:lnTo>
                    <a:pt x="39" y="24"/>
                  </a:lnTo>
                  <a:lnTo>
                    <a:pt x="40" y="2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329160" y="4316400"/>
              <a:ext cx="14400" cy="172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3"/>
                  </a:moveTo>
                  <a:lnTo>
                    <a:pt x="11" y="23"/>
                  </a:lnTo>
                  <a:lnTo>
                    <a:pt x="16" y="20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318000" y="4276440"/>
              <a:ext cx="17640" cy="41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1"/>
                  </a:moveTo>
                  <a:lnTo>
                    <a:pt x="15" y="53"/>
                  </a:lnTo>
                  <a:lnTo>
                    <a:pt x="22" y="51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245280" y="4143240"/>
              <a:ext cx="52200" cy="200160"/>
            </a:xfrm>
            <a:custGeom>
              <a:avLst/>
              <a:gdLst/>
              <a:ahLst/>
              <a:rect l="l" t="t" r="r" b="b"/>
              <a:pathLst>
                <a:path w="66" h="252">
                  <a:moveTo>
                    <a:pt x="66" y="208"/>
                  </a:moveTo>
                  <a:lnTo>
                    <a:pt x="65" y="121"/>
                  </a:lnTo>
                  <a:lnTo>
                    <a:pt x="65" y="0"/>
                  </a:lnTo>
                  <a:lnTo>
                    <a:pt x="4" y="5"/>
                  </a:lnTo>
                  <a:lnTo>
                    <a:pt x="0" y="2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232320" y="3670200"/>
              <a:ext cx="14400" cy="476280"/>
            </a:xfrm>
            <a:custGeom>
              <a:avLst/>
              <a:gdLst/>
              <a:ahLst/>
              <a:rect l="l" t="t" r="r" b="b"/>
              <a:pathLst>
                <a:path w="19" h="601">
                  <a:moveTo>
                    <a:pt x="19" y="601"/>
                  </a:moveTo>
                  <a:lnTo>
                    <a:pt x="3" y="15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286320" y="3687480"/>
              <a:ext cx="60480" cy="96840"/>
            </a:xfrm>
            <a:custGeom>
              <a:avLst/>
              <a:gdLst/>
              <a:ahLst/>
              <a:rect l="l" t="t" r="r" b="b"/>
              <a:pathLst>
                <a:path w="76" h="123">
                  <a:moveTo>
                    <a:pt x="2" y="8"/>
                  </a:moveTo>
                  <a:lnTo>
                    <a:pt x="0" y="123"/>
                  </a:lnTo>
                  <a:lnTo>
                    <a:pt x="41" y="118"/>
                  </a:lnTo>
                  <a:lnTo>
                    <a:pt x="76" y="123"/>
                  </a:lnTo>
                  <a:lnTo>
                    <a:pt x="7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346800" y="3776400"/>
              <a:ext cx="73080" cy="6480"/>
            </a:xfrm>
            <a:custGeom>
              <a:avLst/>
              <a:gdLst/>
              <a:ahLst/>
              <a:rect l="l" t="t" r="r" b="b"/>
              <a:pathLst>
                <a:path w="93" h="8">
                  <a:moveTo>
                    <a:pt x="0" y="8"/>
                  </a:moveTo>
                  <a:lnTo>
                    <a:pt x="46" y="0"/>
                  </a:lnTo>
                  <a:lnTo>
                    <a:pt x="93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346800" y="3773520"/>
              <a:ext cx="32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84880" y="3774960"/>
              <a:ext cx="11160" cy="36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H="1">
              <a:off x="6254280" y="3789360"/>
              <a:ext cx="25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>
              <a:off x="6295680" y="4136760"/>
              <a:ext cx="3636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89520" y="3589200"/>
              <a:ext cx="23760" cy="739800"/>
            </a:xfrm>
            <a:custGeom>
              <a:avLst/>
              <a:gdLst/>
              <a:ahLst/>
              <a:rect l="l" t="t" r="r" b="b"/>
              <a:pathLst>
                <a:path w="29" h="934">
                  <a:moveTo>
                    <a:pt x="17" y="0"/>
                  </a:moveTo>
                  <a:lnTo>
                    <a:pt x="11" y="183"/>
                  </a:lnTo>
                  <a:lnTo>
                    <a:pt x="4" y="210"/>
                  </a:lnTo>
                  <a:lnTo>
                    <a:pt x="0" y="241"/>
                  </a:lnTo>
                  <a:lnTo>
                    <a:pt x="7" y="269"/>
                  </a:lnTo>
                  <a:lnTo>
                    <a:pt x="17" y="381"/>
                  </a:lnTo>
                  <a:lnTo>
                    <a:pt x="12" y="466"/>
                  </a:lnTo>
                  <a:lnTo>
                    <a:pt x="25" y="869"/>
                  </a:lnTo>
                  <a:lnTo>
                    <a:pt x="29" y="93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627600" y="4097160"/>
              <a:ext cx="79560" cy="201600"/>
            </a:xfrm>
            <a:custGeom>
              <a:avLst/>
              <a:gdLst/>
              <a:ahLst/>
              <a:rect l="l" t="t" r="r" b="b"/>
              <a:pathLst>
                <a:path w="100" h="255">
                  <a:moveTo>
                    <a:pt x="100" y="6"/>
                  </a:moveTo>
                  <a:lnTo>
                    <a:pt x="0" y="0"/>
                  </a:lnTo>
                  <a:lnTo>
                    <a:pt x="8" y="2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561000" y="4093920"/>
              <a:ext cx="66600" cy="208080"/>
            </a:xfrm>
            <a:custGeom>
              <a:avLst/>
              <a:gdLst/>
              <a:ahLst/>
              <a:rect l="l" t="t" r="r" b="b"/>
              <a:pathLst>
                <a:path w="84" h="262">
                  <a:moveTo>
                    <a:pt x="84" y="0"/>
                  </a:moveTo>
                  <a:lnTo>
                    <a:pt x="0" y="11"/>
                  </a:lnTo>
                  <a:lnTo>
                    <a:pt x="8" y="2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519600" y="4105080"/>
              <a:ext cx="41400" cy="220680"/>
            </a:xfrm>
            <a:custGeom>
              <a:avLst/>
              <a:gdLst/>
              <a:ahLst/>
              <a:rect l="l" t="t" r="r" b="b"/>
              <a:pathLst>
                <a:path w="51" h="277">
                  <a:moveTo>
                    <a:pt x="51" y="0"/>
                  </a:moveTo>
                  <a:lnTo>
                    <a:pt x="0" y="7"/>
                  </a:lnTo>
                  <a:lnTo>
                    <a:pt x="0" y="2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507000" y="3625560"/>
              <a:ext cx="12600" cy="486000"/>
            </a:xfrm>
            <a:custGeom>
              <a:avLst/>
              <a:gdLst/>
              <a:ahLst/>
              <a:rect l="l" t="t" r="r" b="b"/>
              <a:pathLst>
                <a:path w="16" h="611">
                  <a:moveTo>
                    <a:pt x="16" y="611"/>
                  </a:moveTo>
                  <a:lnTo>
                    <a:pt x="2" y="17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H="1" flipV="1">
              <a:off x="6544800" y="3641400"/>
              <a:ext cx="3240" cy="115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546600" y="3632040"/>
              <a:ext cx="66960" cy="119160"/>
            </a:xfrm>
            <a:custGeom>
              <a:avLst/>
              <a:gdLst/>
              <a:ahLst/>
              <a:rect l="l" t="t" r="r" b="b"/>
              <a:pathLst>
                <a:path w="85" h="150">
                  <a:moveTo>
                    <a:pt x="0" y="150"/>
                  </a:moveTo>
                  <a:lnTo>
                    <a:pt x="40" y="129"/>
                  </a:lnTo>
                  <a:lnTo>
                    <a:pt x="85" y="134"/>
                  </a:lnTo>
                  <a:lnTo>
                    <a:pt x="8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615000" y="3725640"/>
              <a:ext cx="84240" cy="9720"/>
            </a:xfrm>
            <a:custGeom>
              <a:avLst/>
              <a:gdLst/>
              <a:ahLst/>
              <a:rect l="l" t="t" r="r" b="b"/>
              <a:pathLst>
                <a:path w="106" h="12">
                  <a:moveTo>
                    <a:pt x="0" y="12"/>
                  </a:moveTo>
                  <a:lnTo>
                    <a:pt x="49" y="0"/>
                  </a:lnTo>
                  <a:lnTo>
                    <a:pt x="95" y="7"/>
                  </a:lnTo>
                  <a:lnTo>
                    <a:pt x="106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615000" y="3803400"/>
              <a:ext cx="12600" cy="290520"/>
            </a:xfrm>
            <a:custGeom>
              <a:avLst/>
              <a:gdLst/>
              <a:ahLst/>
              <a:rect l="l" t="t" r="r" b="b"/>
              <a:pathLst>
                <a:path w="15" h="364">
                  <a:moveTo>
                    <a:pt x="0" y="0"/>
                  </a:moveTo>
                  <a:lnTo>
                    <a:pt x="3" y="31"/>
                  </a:lnTo>
                  <a:lnTo>
                    <a:pt x="15" y="36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615000" y="3738600"/>
              <a:ext cx="1440" cy="77760"/>
            </a:xfrm>
            <a:custGeom>
              <a:avLst/>
              <a:gdLst/>
              <a:ahLst/>
              <a:rect l="l" t="t" r="r" b="b"/>
              <a:pathLst>
                <a:path w="3" h="99">
                  <a:moveTo>
                    <a:pt x="3" y="99"/>
                  </a:move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548400" y="3757320"/>
              <a:ext cx="12600" cy="346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511680" y="374472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6"/>
                  </a:move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926040" y="4097160"/>
              <a:ext cx="74880" cy="190440"/>
            </a:xfrm>
            <a:custGeom>
              <a:avLst/>
              <a:gdLst/>
              <a:ahLst/>
              <a:rect l="l" t="t" r="r" b="b"/>
              <a:pathLst>
                <a:path w="93" h="239">
                  <a:moveTo>
                    <a:pt x="93" y="13"/>
                  </a:moveTo>
                  <a:lnTo>
                    <a:pt x="57" y="0"/>
                  </a:lnTo>
                  <a:lnTo>
                    <a:pt x="1" y="12"/>
                  </a:lnTo>
                  <a:lnTo>
                    <a:pt x="1" y="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864120" y="4093920"/>
              <a:ext cx="63720" cy="190800"/>
            </a:xfrm>
            <a:custGeom>
              <a:avLst/>
              <a:gdLst/>
              <a:ahLst/>
              <a:rect l="l" t="t" r="r" b="b"/>
              <a:pathLst>
                <a:path w="79" h="239">
                  <a:moveTo>
                    <a:pt x="79" y="11"/>
                  </a:moveTo>
                  <a:lnTo>
                    <a:pt x="37" y="0"/>
                  </a:lnTo>
                  <a:lnTo>
                    <a:pt x="4" y="12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821280" y="4087800"/>
              <a:ext cx="6480" cy="22068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4" y="0"/>
                  </a:moveTo>
                  <a:lnTo>
                    <a:pt x="7" y="62"/>
                  </a:lnTo>
                  <a:lnTo>
                    <a:pt x="0" y="28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818040" y="3568680"/>
              <a:ext cx="6480" cy="552240"/>
            </a:xfrm>
            <a:custGeom>
              <a:avLst/>
              <a:gdLst/>
              <a:ahLst/>
              <a:rect l="l" t="t" r="r" b="b"/>
              <a:pathLst>
                <a:path w="8" h="697">
                  <a:moveTo>
                    <a:pt x="8" y="697"/>
                  </a:moveTo>
                  <a:lnTo>
                    <a:pt x="4" y="38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862680" y="3576600"/>
              <a:ext cx="60120" cy="127080"/>
            </a:xfrm>
            <a:custGeom>
              <a:avLst/>
              <a:gdLst/>
              <a:ahLst/>
              <a:rect l="l" t="t" r="r" b="b"/>
              <a:pathLst>
                <a:path w="76" h="161">
                  <a:moveTo>
                    <a:pt x="0" y="22"/>
                  </a:moveTo>
                  <a:lnTo>
                    <a:pt x="4" y="161"/>
                  </a:lnTo>
                  <a:lnTo>
                    <a:pt x="41" y="154"/>
                  </a:lnTo>
                  <a:lnTo>
                    <a:pt x="75" y="160"/>
                  </a:lnTo>
                  <a:lnTo>
                    <a:pt x="7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921360" y="3697200"/>
              <a:ext cx="79560" cy="7920"/>
            </a:xfrm>
            <a:custGeom>
              <a:avLst/>
              <a:gdLst/>
              <a:ahLst/>
              <a:rect l="l" t="t" r="r" b="b"/>
              <a:pathLst>
                <a:path w="100" h="11">
                  <a:moveTo>
                    <a:pt x="0" y="7"/>
                  </a:moveTo>
                  <a:lnTo>
                    <a:pt x="49" y="0"/>
                  </a:lnTo>
                  <a:lnTo>
                    <a:pt x="100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919920" y="3700440"/>
              <a:ext cx="9360" cy="398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864120" y="3703680"/>
              <a:ext cx="5040" cy="390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821280" y="3701880"/>
              <a:ext cx="49320" cy="6480"/>
            </a:xfrm>
            <a:custGeom>
              <a:avLst/>
              <a:gdLst/>
              <a:ahLst/>
              <a:rect l="l" t="t" r="r" b="b"/>
              <a:pathLst>
                <a:path w="62" h="10">
                  <a:moveTo>
                    <a:pt x="62" y="2"/>
                  </a:moveTo>
                  <a:lnTo>
                    <a:pt x="29" y="0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6867360" y="4093560"/>
              <a:ext cx="1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99280" y="4117680"/>
              <a:ext cx="31680" cy="168480"/>
            </a:xfrm>
            <a:custGeom>
              <a:avLst/>
              <a:gdLst/>
              <a:ahLst/>
              <a:rect l="l" t="t" r="r" b="b"/>
              <a:pathLst>
                <a:path w="40" h="212">
                  <a:moveTo>
                    <a:pt x="40" y="0"/>
                  </a:move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157880" y="4117680"/>
              <a:ext cx="41400" cy="173160"/>
            </a:xfrm>
            <a:custGeom>
              <a:avLst/>
              <a:gdLst/>
              <a:ahLst/>
              <a:rect l="l" t="t" r="r" b="b"/>
              <a:pathLst>
                <a:path w="52" h="217">
                  <a:moveTo>
                    <a:pt x="52" y="0"/>
                  </a:moveTo>
                  <a:lnTo>
                    <a:pt x="0" y="0"/>
                  </a:lnTo>
                  <a:lnTo>
                    <a:pt x="4" y="2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111800" y="4117680"/>
              <a:ext cx="46080" cy="168480"/>
            </a:xfrm>
            <a:custGeom>
              <a:avLst/>
              <a:gdLst/>
              <a:ahLst/>
              <a:rect l="l" t="t" r="r" b="b"/>
              <a:pathLst>
                <a:path w="58" h="212">
                  <a:moveTo>
                    <a:pt x="58" y="0"/>
                  </a:moveTo>
                  <a:lnTo>
                    <a:pt x="0" y="0"/>
                  </a:lnTo>
                  <a:lnTo>
                    <a:pt x="6" y="2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7097760" y="3689280"/>
              <a:ext cx="468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154640" y="3647880"/>
              <a:ext cx="41400" cy="125640"/>
            </a:xfrm>
            <a:custGeom>
              <a:avLst/>
              <a:gdLst/>
              <a:ahLst/>
              <a:rect l="l" t="t" r="r" b="b"/>
              <a:pathLst>
                <a:path w="52" h="158">
                  <a:moveTo>
                    <a:pt x="0" y="0"/>
                  </a:moveTo>
                  <a:lnTo>
                    <a:pt x="0" y="140"/>
                  </a:lnTo>
                  <a:lnTo>
                    <a:pt x="46" y="158"/>
                  </a:lnTo>
                  <a:lnTo>
                    <a:pt x="52" y="51"/>
                  </a:lnTo>
                  <a:lnTo>
                    <a:pt x="52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191360" y="3773520"/>
              <a:ext cx="44280" cy="1080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0"/>
                  </a:moveTo>
                  <a:lnTo>
                    <a:pt x="8" y="15"/>
                  </a:lnTo>
                  <a:lnTo>
                    <a:pt x="54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199280" y="3784320"/>
              <a:ext cx="1440" cy="33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H="1" flipV="1">
              <a:off x="7192800" y="377352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161120" y="3768480"/>
              <a:ext cx="3240" cy="233640"/>
            </a:xfrm>
            <a:custGeom>
              <a:avLst/>
              <a:gdLst/>
              <a:ahLst/>
              <a:rect l="l" t="t" r="r" b="b"/>
              <a:pathLst>
                <a:path w="4" h="295">
                  <a:moveTo>
                    <a:pt x="0" y="0"/>
                  </a:moveTo>
                  <a:lnTo>
                    <a:pt x="4" y="157"/>
                  </a:lnTo>
                  <a:lnTo>
                    <a:pt x="4" y="29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H="1" flipV="1">
              <a:off x="7095600" y="3754080"/>
              <a:ext cx="586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54640" y="4070160"/>
              <a:ext cx="1800" cy="47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383240" y="4147920"/>
              <a:ext cx="60480" cy="168480"/>
            </a:xfrm>
            <a:custGeom>
              <a:avLst/>
              <a:gdLst/>
              <a:ahLst/>
              <a:rect l="l" t="t" r="r" b="b"/>
              <a:pathLst>
                <a:path w="74" h="211">
                  <a:moveTo>
                    <a:pt x="74" y="3"/>
                  </a:move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331040" y="4125960"/>
              <a:ext cx="54000" cy="185400"/>
            </a:xfrm>
            <a:custGeom>
              <a:avLst/>
              <a:gdLst/>
              <a:ahLst/>
              <a:rect l="l" t="t" r="r" b="b"/>
              <a:pathLst>
                <a:path w="67" h="234">
                  <a:moveTo>
                    <a:pt x="67" y="0"/>
                  </a:moveTo>
                  <a:lnTo>
                    <a:pt x="2" y="11"/>
                  </a:lnTo>
                  <a:lnTo>
                    <a:pt x="0" y="23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286400" y="3633840"/>
              <a:ext cx="54000" cy="498240"/>
            </a:xfrm>
            <a:custGeom>
              <a:avLst/>
              <a:gdLst/>
              <a:ahLst/>
              <a:rect l="l" t="t" r="r" b="b"/>
              <a:pathLst>
                <a:path w="67" h="628">
                  <a:moveTo>
                    <a:pt x="3" y="628"/>
                  </a:moveTo>
                  <a:lnTo>
                    <a:pt x="0" y="55"/>
                  </a:lnTo>
                  <a:lnTo>
                    <a:pt x="67" y="23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331040" y="3727440"/>
              <a:ext cx="47520" cy="8568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2" y="0"/>
                  </a:moveTo>
                  <a:lnTo>
                    <a:pt x="0" y="100"/>
                  </a:lnTo>
                  <a:lnTo>
                    <a:pt x="54" y="108"/>
                  </a:lnTo>
                  <a:lnTo>
                    <a:pt x="59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373880" y="3670200"/>
              <a:ext cx="60120" cy="158760"/>
            </a:xfrm>
            <a:custGeom>
              <a:avLst/>
              <a:gdLst/>
              <a:ahLst/>
              <a:rect l="l" t="t" r="r" b="b"/>
              <a:pathLst>
                <a:path w="75" h="200">
                  <a:moveTo>
                    <a:pt x="0" y="181"/>
                  </a:moveTo>
                  <a:lnTo>
                    <a:pt x="75" y="200"/>
                  </a:lnTo>
                  <a:lnTo>
                    <a:pt x="7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435800" y="3830400"/>
              <a:ext cx="7920" cy="319320"/>
            </a:xfrm>
            <a:custGeom>
              <a:avLst/>
              <a:gdLst/>
              <a:ahLst/>
              <a:rect l="l" t="t" r="r" b="b"/>
              <a:pathLst>
                <a:path w="10" h="401">
                  <a:moveTo>
                    <a:pt x="0" y="0"/>
                  </a:moveTo>
                  <a:lnTo>
                    <a:pt x="10" y="163"/>
                  </a:lnTo>
                  <a:lnTo>
                    <a:pt x="8" y="4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380000" y="3821040"/>
              <a:ext cx="5040" cy="323640"/>
            </a:xfrm>
            <a:custGeom>
              <a:avLst/>
              <a:gdLst/>
              <a:ahLst/>
              <a:rect l="l" t="t" r="r" b="b"/>
              <a:pathLst>
                <a:path w="5" h="408">
                  <a:moveTo>
                    <a:pt x="0" y="0"/>
                  </a:moveTo>
                  <a:lnTo>
                    <a:pt x="1" y="135"/>
                  </a:lnTo>
                  <a:lnTo>
                    <a:pt x="5" y="4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331040" y="3806640"/>
              <a:ext cx="32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>
              <a:off x="7287840" y="380664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429320" y="3671640"/>
              <a:ext cx="144360" cy="681120"/>
            </a:xfrm>
            <a:custGeom>
              <a:avLst/>
              <a:gdLst/>
              <a:ahLst/>
              <a:rect l="l" t="t" r="r" b="b"/>
              <a:pathLst>
                <a:path w="181" h="857">
                  <a:moveTo>
                    <a:pt x="16" y="857"/>
                  </a:moveTo>
                  <a:lnTo>
                    <a:pt x="8" y="707"/>
                  </a:lnTo>
                  <a:lnTo>
                    <a:pt x="19" y="468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81" y="58"/>
                  </a:lnTo>
                  <a:lnTo>
                    <a:pt x="130" y="58"/>
                  </a:lnTo>
                  <a:lnTo>
                    <a:pt x="97" y="70"/>
                  </a:lnTo>
                  <a:lnTo>
                    <a:pt x="59" y="90"/>
                  </a:lnTo>
                  <a:lnTo>
                    <a:pt x="70" y="853"/>
                  </a:lnTo>
                  <a:lnTo>
                    <a:pt x="16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584840" y="3717720"/>
              <a:ext cx="217440" cy="505080"/>
            </a:xfrm>
            <a:custGeom>
              <a:avLst/>
              <a:gdLst/>
              <a:ahLst/>
              <a:rect l="l" t="t" r="r" b="b"/>
              <a:pathLst>
                <a:path w="273" h="635">
                  <a:moveTo>
                    <a:pt x="0" y="0"/>
                  </a:moveTo>
                  <a:lnTo>
                    <a:pt x="25" y="67"/>
                  </a:lnTo>
                  <a:lnTo>
                    <a:pt x="31" y="635"/>
                  </a:lnTo>
                  <a:lnTo>
                    <a:pt x="66" y="630"/>
                  </a:lnTo>
                  <a:lnTo>
                    <a:pt x="79" y="466"/>
                  </a:lnTo>
                  <a:lnTo>
                    <a:pt x="135" y="394"/>
                  </a:lnTo>
                  <a:lnTo>
                    <a:pt x="196" y="359"/>
                  </a:lnTo>
                  <a:lnTo>
                    <a:pt x="240" y="364"/>
                  </a:lnTo>
                  <a:lnTo>
                    <a:pt x="255" y="622"/>
                  </a:lnTo>
                  <a:lnTo>
                    <a:pt x="273" y="6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584840" y="3714480"/>
              <a:ext cx="420840" cy="650880"/>
            </a:xfrm>
            <a:custGeom>
              <a:avLst/>
              <a:gdLst/>
              <a:ahLst/>
              <a:rect l="l" t="t" r="r" b="b"/>
              <a:pathLst>
                <a:path w="529" h="820">
                  <a:moveTo>
                    <a:pt x="31" y="803"/>
                  </a:moveTo>
                  <a:lnTo>
                    <a:pt x="27" y="63"/>
                  </a:lnTo>
                  <a:lnTo>
                    <a:pt x="0" y="0"/>
                  </a:lnTo>
                  <a:lnTo>
                    <a:pt x="94" y="20"/>
                  </a:lnTo>
                  <a:lnTo>
                    <a:pt x="482" y="135"/>
                  </a:lnTo>
                  <a:lnTo>
                    <a:pt x="529" y="162"/>
                  </a:lnTo>
                  <a:lnTo>
                    <a:pt x="494" y="166"/>
                  </a:lnTo>
                  <a:lnTo>
                    <a:pt x="443" y="205"/>
                  </a:lnTo>
                  <a:lnTo>
                    <a:pt x="455" y="705"/>
                  </a:lnTo>
                  <a:lnTo>
                    <a:pt x="447" y="626"/>
                  </a:lnTo>
                  <a:lnTo>
                    <a:pt x="424" y="624"/>
                  </a:lnTo>
                  <a:lnTo>
                    <a:pt x="400" y="610"/>
                  </a:lnTo>
                  <a:lnTo>
                    <a:pt x="324" y="674"/>
                  </a:lnTo>
                  <a:lnTo>
                    <a:pt x="289" y="697"/>
                  </a:lnTo>
                  <a:lnTo>
                    <a:pt x="286" y="811"/>
                  </a:lnTo>
                  <a:lnTo>
                    <a:pt x="250" y="820"/>
                  </a:lnTo>
                  <a:lnTo>
                    <a:pt x="250" y="462"/>
                  </a:lnTo>
                  <a:lnTo>
                    <a:pt x="239" y="363"/>
                  </a:lnTo>
                  <a:lnTo>
                    <a:pt x="192" y="363"/>
                  </a:lnTo>
                  <a:lnTo>
                    <a:pt x="136" y="398"/>
                  </a:lnTo>
                  <a:lnTo>
                    <a:pt x="97" y="437"/>
                  </a:lnTo>
                  <a:lnTo>
                    <a:pt x="78" y="472"/>
                  </a:lnTo>
                  <a:lnTo>
                    <a:pt x="78" y="815"/>
                  </a:lnTo>
                  <a:lnTo>
                    <a:pt x="31" y="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980120" y="4198680"/>
              <a:ext cx="112680" cy="200160"/>
            </a:xfrm>
            <a:custGeom>
              <a:avLst/>
              <a:gdLst/>
              <a:ahLst/>
              <a:rect l="l" t="t" r="r" b="b"/>
              <a:pathLst>
                <a:path w="142" h="252">
                  <a:moveTo>
                    <a:pt x="142" y="8"/>
                  </a:moveTo>
                  <a:lnTo>
                    <a:pt x="117" y="0"/>
                  </a:lnTo>
                  <a:lnTo>
                    <a:pt x="96" y="8"/>
                  </a:lnTo>
                  <a:lnTo>
                    <a:pt x="81" y="3"/>
                  </a:lnTo>
                  <a:lnTo>
                    <a:pt x="89" y="236"/>
                  </a:lnTo>
                  <a:lnTo>
                    <a:pt x="65" y="252"/>
                  </a:lnTo>
                  <a:lnTo>
                    <a:pt x="0" y="2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940520" y="3843360"/>
              <a:ext cx="96840" cy="357120"/>
            </a:xfrm>
            <a:custGeom>
              <a:avLst/>
              <a:gdLst/>
              <a:ahLst/>
              <a:rect l="l" t="t" r="r" b="b"/>
              <a:pathLst>
                <a:path w="121" h="448">
                  <a:moveTo>
                    <a:pt x="121" y="201"/>
                  </a:moveTo>
                  <a:lnTo>
                    <a:pt x="105" y="12"/>
                  </a:lnTo>
                  <a:lnTo>
                    <a:pt x="66" y="0"/>
                  </a:lnTo>
                  <a:lnTo>
                    <a:pt x="0" y="43"/>
                  </a:lnTo>
                  <a:lnTo>
                    <a:pt x="7" y="4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945200" y="3843360"/>
              <a:ext cx="47880" cy="3492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0" y="43"/>
                  </a:moveTo>
                  <a:lnTo>
                    <a:pt x="16" y="21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 flipV="1">
              <a:off x="8003880" y="3876480"/>
              <a:ext cx="14400" cy="47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H="1" flipV="1">
              <a:off x="7964280" y="3885840"/>
              <a:ext cx="14400" cy="46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111880" y="3871800"/>
              <a:ext cx="6480" cy="142920"/>
            </a:xfrm>
            <a:custGeom>
              <a:avLst/>
              <a:gdLst/>
              <a:ahLst/>
              <a:rect l="l" t="t" r="r" b="b"/>
              <a:pathLst>
                <a:path w="8" h="181">
                  <a:moveTo>
                    <a:pt x="0" y="0"/>
                  </a:moveTo>
                  <a:lnTo>
                    <a:pt x="3" y="58"/>
                  </a:lnTo>
                  <a:lnTo>
                    <a:pt x="1" y="109"/>
                  </a:lnTo>
                  <a:lnTo>
                    <a:pt x="8" y="1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091360" y="4203720"/>
              <a:ext cx="63360" cy="188640"/>
            </a:xfrm>
            <a:custGeom>
              <a:avLst/>
              <a:gdLst/>
              <a:ahLst/>
              <a:rect l="l" t="t" r="r" b="b"/>
              <a:pathLst>
                <a:path w="80" h="237">
                  <a:moveTo>
                    <a:pt x="80" y="237"/>
                  </a:moveTo>
                  <a:lnTo>
                    <a:pt x="69" y="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4" y="17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H="1" flipV="1">
              <a:off x="8176680" y="4289040"/>
              <a:ext cx="32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8165880" y="3962160"/>
              <a:ext cx="19080" cy="258840"/>
            </a:xfrm>
            <a:custGeom>
              <a:avLst/>
              <a:gdLst/>
              <a:ahLst/>
              <a:rect l="l" t="t" r="r" b="b"/>
              <a:pathLst>
                <a:path w="24" h="327">
                  <a:moveTo>
                    <a:pt x="24" y="327"/>
                  </a:moveTo>
                  <a:lnTo>
                    <a:pt x="13" y="10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129520" y="3881160"/>
              <a:ext cx="63360" cy="325440"/>
            </a:xfrm>
            <a:custGeom>
              <a:avLst/>
              <a:gdLst/>
              <a:ahLst/>
              <a:rect l="l" t="t" r="r" b="b"/>
              <a:pathLst>
                <a:path w="80" h="409">
                  <a:moveTo>
                    <a:pt x="80" y="35"/>
                  </a:moveTo>
                  <a:lnTo>
                    <a:pt x="57" y="14"/>
                  </a:lnTo>
                  <a:lnTo>
                    <a:pt x="4" y="0"/>
                  </a:lnTo>
                  <a:lnTo>
                    <a:pt x="0" y="66"/>
                  </a:lnTo>
                  <a:lnTo>
                    <a:pt x="20" y="4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8084880" y="3998880"/>
              <a:ext cx="33480" cy="111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2" y="15"/>
                  </a:moveTo>
                  <a:lnTo>
                    <a:pt x="22" y="0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037360" y="3998880"/>
              <a:ext cx="46080" cy="201600"/>
            </a:xfrm>
            <a:custGeom>
              <a:avLst/>
              <a:gdLst/>
              <a:ahLst/>
              <a:rect l="l" t="t" r="r" b="b"/>
              <a:pathLst>
                <a:path w="57" h="254">
                  <a:moveTo>
                    <a:pt x="57" y="38"/>
                  </a:moveTo>
                  <a:lnTo>
                    <a:pt x="57" y="6"/>
                  </a:lnTo>
                  <a:lnTo>
                    <a:pt x="25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8" y="2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8113680" y="3971880"/>
              <a:ext cx="17280" cy="368280"/>
            </a:xfrm>
            <a:custGeom>
              <a:avLst/>
              <a:gdLst/>
              <a:ahLst/>
              <a:rect l="l" t="t" r="r" b="b"/>
              <a:pathLst>
                <a:path w="21" h="464">
                  <a:moveTo>
                    <a:pt x="21" y="464"/>
                  </a:moveTo>
                  <a:lnTo>
                    <a:pt x="13" y="24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 flipV="1">
              <a:off x="8076960" y="3897360"/>
              <a:ext cx="14400" cy="31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 flipH="1" flipV="1">
              <a:off x="8176680" y="4044960"/>
              <a:ext cx="1800" cy="48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>
              <a:off x="8226000" y="4037040"/>
              <a:ext cx="6120" cy="10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8238960" y="4232160"/>
              <a:ext cx="63720" cy="166680"/>
            </a:xfrm>
            <a:custGeom>
              <a:avLst/>
              <a:gdLst/>
              <a:ahLst/>
              <a:rect l="l" t="t" r="r" b="b"/>
              <a:pathLst>
                <a:path w="79" h="210">
                  <a:moveTo>
                    <a:pt x="79" y="0"/>
                  </a:moveTo>
                  <a:lnTo>
                    <a:pt x="44" y="4"/>
                  </a:lnTo>
                  <a:lnTo>
                    <a:pt x="27" y="0"/>
                  </a:lnTo>
                  <a:lnTo>
                    <a:pt x="0" y="2"/>
                  </a:lnTo>
                  <a:lnTo>
                    <a:pt x="0" y="2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8223120" y="3909960"/>
              <a:ext cx="109440" cy="296640"/>
            </a:xfrm>
            <a:custGeom>
              <a:avLst/>
              <a:gdLst/>
              <a:ahLst/>
              <a:rect l="l" t="t" r="r" b="b"/>
              <a:pathLst>
                <a:path w="139" h="374">
                  <a:moveTo>
                    <a:pt x="64" y="195"/>
                  </a:moveTo>
                  <a:lnTo>
                    <a:pt x="37" y="222"/>
                  </a:lnTo>
                  <a:lnTo>
                    <a:pt x="23" y="237"/>
                  </a:lnTo>
                  <a:lnTo>
                    <a:pt x="24" y="374"/>
                  </a:lnTo>
                  <a:lnTo>
                    <a:pt x="4" y="291"/>
                  </a:lnTo>
                  <a:lnTo>
                    <a:pt x="12" y="15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139" y="47"/>
                  </a:lnTo>
                  <a:lnTo>
                    <a:pt x="123" y="71"/>
                  </a:lnTo>
                  <a:lnTo>
                    <a:pt x="123" y="189"/>
                  </a:lnTo>
                  <a:lnTo>
                    <a:pt x="100" y="178"/>
                  </a:lnTo>
                  <a:lnTo>
                    <a:pt x="79" y="179"/>
                  </a:lnTo>
                  <a:lnTo>
                    <a:pt x="64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8358120" y="4244760"/>
              <a:ext cx="71280" cy="157320"/>
            </a:xfrm>
            <a:custGeom>
              <a:avLst/>
              <a:gdLst/>
              <a:ahLst/>
              <a:rect l="l" t="t" r="r" b="b"/>
              <a:pathLst>
                <a:path w="89" h="197">
                  <a:moveTo>
                    <a:pt x="89" y="5"/>
                  </a:moveTo>
                  <a:lnTo>
                    <a:pt x="73" y="3"/>
                  </a:lnTo>
                  <a:lnTo>
                    <a:pt x="55" y="5"/>
                  </a:lnTo>
                  <a:lnTo>
                    <a:pt x="32" y="0"/>
                  </a:lnTo>
                  <a:lnTo>
                    <a:pt x="13" y="5"/>
                  </a:lnTo>
                  <a:lnTo>
                    <a:pt x="12" y="154"/>
                  </a:lnTo>
                  <a:lnTo>
                    <a:pt x="0" y="19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8458200" y="3989160"/>
              <a:ext cx="9360" cy="416160"/>
            </a:xfrm>
            <a:custGeom>
              <a:avLst/>
              <a:gdLst/>
              <a:ahLst/>
              <a:rect l="l" t="t" r="r" b="b"/>
              <a:pathLst>
                <a:path w="13" h="524">
                  <a:moveTo>
                    <a:pt x="6" y="0"/>
                  </a:moveTo>
                  <a:lnTo>
                    <a:pt x="4" y="67"/>
                  </a:lnTo>
                  <a:lnTo>
                    <a:pt x="7" y="150"/>
                  </a:lnTo>
                  <a:lnTo>
                    <a:pt x="7" y="242"/>
                  </a:lnTo>
                  <a:lnTo>
                    <a:pt x="10" y="315"/>
                  </a:lnTo>
                  <a:lnTo>
                    <a:pt x="11" y="375"/>
                  </a:lnTo>
                  <a:lnTo>
                    <a:pt x="13" y="446"/>
                  </a:lnTo>
                  <a:lnTo>
                    <a:pt x="13" y="493"/>
                  </a:lnTo>
                  <a:lnTo>
                    <a:pt x="0" y="5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8551800" y="3981240"/>
              <a:ext cx="23760" cy="4284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1" y="0"/>
                  </a:moveTo>
                  <a:lnTo>
                    <a:pt x="0" y="35"/>
                  </a:lnTo>
                  <a:lnTo>
                    <a:pt x="31" y="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8526240" y="4005000"/>
              <a:ext cx="61920" cy="257400"/>
            </a:xfrm>
            <a:custGeom>
              <a:avLst/>
              <a:gdLst/>
              <a:ahLst/>
              <a:rect l="l" t="t" r="r" b="b"/>
              <a:pathLst>
                <a:path w="79" h="325">
                  <a:moveTo>
                    <a:pt x="32" y="6"/>
                  </a:moveTo>
                  <a:lnTo>
                    <a:pt x="0" y="0"/>
                  </a:lnTo>
                  <a:lnTo>
                    <a:pt x="5" y="90"/>
                  </a:lnTo>
                  <a:lnTo>
                    <a:pt x="5" y="123"/>
                  </a:lnTo>
                  <a:lnTo>
                    <a:pt x="5" y="153"/>
                  </a:lnTo>
                  <a:lnTo>
                    <a:pt x="10" y="323"/>
                  </a:lnTo>
                  <a:lnTo>
                    <a:pt x="23" y="316"/>
                  </a:lnTo>
                  <a:lnTo>
                    <a:pt x="42" y="323"/>
                  </a:lnTo>
                  <a:lnTo>
                    <a:pt x="55" y="319"/>
                  </a:lnTo>
                  <a:lnTo>
                    <a:pt x="65" y="325"/>
                  </a:lnTo>
                  <a:lnTo>
                    <a:pt x="79" y="32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8427960" y="4249440"/>
              <a:ext cx="14400" cy="132120"/>
            </a:xfrm>
            <a:custGeom>
              <a:avLst/>
              <a:gdLst/>
              <a:ahLst/>
              <a:rect l="l" t="t" r="r" b="b"/>
              <a:pathLst>
                <a:path w="19" h="166">
                  <a:moveTo>
                    <a:pt x="19" y="166"/>
                  </a:moveTo>
                  <a:lnTo>
                    <a:pt x="19" y="6"/>
                  </a:lnTo>
                  <a:lnTo>
                    <a:pt x="2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H="1" flipV="1">
              <a:off x="8427960" y="4157280"/>
              <a:ext cx="1440" cy="9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8434440" y="3990960"/>
              <a:ext cx="6120" cy="263520"/>
            </a:xfrm>
            <a:custGeom>
              <a:avLst/>
              <a:gdLst/>
              <a:ahLst/>
              <a:rect l="l" t="t" r="r" b="b"/>
              <a:pathLst>
                <a:path w="8" h="332">
                  <a:moveTo>
                    <a:pt x="8" y="332"/>
                  </a:moveTo>
                  <a:lnTo>
                    <a:pt x="2" y="206"/>
                  </a:lnTo>
                  <a:lnTo>
                    <a:pt x="2" y="13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8399520" y="3978000"/>
              <a:ext cx="79200" cy="405000"/>
            </a:xfrm>
            <a:custGeom>
              <a:avLst/>
              <a:gdLst/>
              <a:ahLst/>
              <a:rect l="l" t="t" r="r" b="b"/>
              <a:pathLst>
                <a:path w="100" h="510">
                  <a:moveTo>
                    <a:pt x="100" y="14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3" y="5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8369280" y="3967200"/>
              <a:ext cx="1440" cy="282240"/>
            </a:xfrm>
            <a:custGeom>
              <a:avLst/>
              <a:gdLst/>
              <a:ahLst/>
              <a:rect l="l" t="t" r="r" b="b"/>
              <a:pathLst>
                <a:path w="0" h="355">
                  <a:moveTo>
                    <a:pt x="0" y="355"/>
                  </a:moveTo>
                  <a:lnTo>
                    <a:pt x="0" y="15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8397720" y="3968640"/>
              <a:ext cx="32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8466120" y="4252680"/>
              <a:ext cx="17280" cy="324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2"/>
                  </a:moveTo>
                  <a:lnTo>
                    <a:pt x="12" y="0"/>
                  </a:lnTo>
                  <a:lnTo>
                    <a:pt x="2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8483400" y="4252680"/>
              <a:ext cx="39600" cy="792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2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40" y="4"/>
                  </a:lnTo>
                  <a:lnTo>
                    <a:pt x="5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8504280" y="4171680"/>
              <a:ext cx="6120" cy="200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H="1" flipV="1">
              <a:off x="8513280" y="4011480"/>
              <a:ext cx="3240" cy="10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8521560" y="4157640"/>
              <a:ext cx="4680" cy="22860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4" y="133"/>
                  </a:lnTo>
                  <a:lnTo>
                    <a:pt x="7" y="2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H="1" flipV="1">
              <a:off x="8516520" y="4122360"/>
              <a:ext cx="468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8566200" y="4038480"/>
              <a:ext cx="15840" cy="345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8478720" y="4011480"/>
              <a:ext cx="7920" cy="36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8548560" y="4032000"/>
              <a:ext cx="17640" cy="346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608520" y="3078000"/>
              <a:ext cx="1987560" cy="806400"/>
            </a:xfrm>
            <a:custGeom>
              <a:avLst/>
              <a:gdLst/>
              <a:ahLst/>
              <a:rect l="l" t="t" r="r" b="b"/>
              <a:pathLst>
                <a:path w="2505" h="1017">
                  <a:moveTo>
                    <a:pt x="2470" y="1017"/>
                  </a:moveTo>
                  <a:lnTo>
                    <a:pt x="2505" y="959"/>
                  </a:lnTo>
                  <a:lnTo>
                    <a:pt x="2029" y="738"/>
                  </a:lnTo>
                  <a:lnTo>
                    <a:pt x="1581" y="530"/>
                  </a:lnTo>
                  <a:lnTo>
                    <a:pt x="1267" y="374"/>
                  </a:lnTo>
                  <a:lnTo>
                    <a:pt x="440" y="0"/>
                  </a:lnTo>
                  <a:lnTo>
                    <a:pt x="273" y="46"/>
                  </a:lnTo>
                  <a:lnTo>
                    <a:pt x="0" y="124"/>
                  </a:lnTo>
                  <a:lnTo>
                    <a:pt x="31" y="177"/>
                  </a:lnTo>
                  <a:lnTo>
                    <a:pt x="220" y="212"/>
                  </a:lnTo>
                  <a:lnTo>
                    <a:pt x="426" y="165"/>
                  </a:lnTo>
                  <a:lnTo>
                    <a:pt x="971" y="394"/>
                  </a:lnTo>
                  <a:lnTo>
                    <a:pt x="1007" y="462"/>
                  </a:lnTo>
                  <a:lnTo>
                    <a:pt x="1042" y="488"/>
                  </a:lnTo>
                  <a:lnTo>
                    <a:pt x="1177" y="477"/>
                  </a:lnTo>
                  <a:lnTo>
                    <a:pt x="1672" y="688"/>
                  </a:lnTo>
                  <a:lnTo>
                    <a:pt x="2470" y="10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5797440" y="3471840"/>
              <a:ext cx="1200240" cy="266760"/>
            </a:xfrm>
            <a:custGeom>
              <a:avLst/>
              <a:gdLst/>
              <a:ahLst/>
              <a:rect l="l" t="t" r="r" b="b"/>
              <a:pathLst>
                <a:path w="1512" h="336">
                  <a:moveTo>
                    <a:pt x="95" y="336"/>
                  </a:moveTo>
                  <a:lnTo>
                    <a:pt x="65" y="309"/>
                  </a:lnTo>
                  <a:lnTo>
                    <a:pt x="0" y="291"/>
                  </a:lnTo>
                  <a:lnTo>
                    <a:pt x="121" y="261"/>
                  </a:lnTo>
                  <a:lnTo>
                    <a:pt x="226" y="193"/>
                  </a:lnTo>
                  <a:lnTo>
                    <a:pt x="265" y="193"/>
                  </a:lnTo>
                  <a:lnTo>
                    <a:pt x="281" y="205"/>
                  </a:lnTo>
                  <a:lnTo>
                    <a:pt x="660" y="155"/>
                  </a:lnTo>
                  <a:lnTo>
                    <a:pt x="984" y="103"/>
                  </a:lnTo>
                  <a:lnTo>
                    <a:pt x="1145" y="60"/>
                  </a:lnTo>
                  <a:lnTo>
                    <a:pt x="1485" y="0"/>
                  </a:lnTo>
                  <a:lnTo>
                    <a:pt x="1485" y="20"/>
                  </a:lnTo>
                  <a:lnTo>
                    <a:pt x="1512" y="96"/>
                  </a:lnTo>
                  <a:lnTo>
                    <a:pt x="1473" y="64"/>
                  </a:lnTo>
                  <a:lnTo>
                    <a:pt x="1409" y="51"/>
                  </a:lnTo>
                  <a:lnTo>
                    <a:pt x="1343" y="64"/>
                  </a:lnTo>
                  <a:lnTo>
                    <a:pt x="1300" y="74"/>
                  </a:lnTo>
                  <a:lnTo>
                    <a:pt x="1288" y="123"/>
                  </a:lnTo>
                  <a:lnTo>
                    <a:pt x="1150" y="147"/>
                  </a:lnTo>
                  <a:lnTo>
                    <a:pt x="1110" y="127"/>
                  </a:lnTo>
                  <a:lnTo>
                    <a:pt x="1066" y="123"/>
                  </a:lnTo>
                  <a:lnTo>
                    <a:pt x="1007" y="123"/>
                  </a:lnTo>
                  <a:lnTo>
                    <a:pt x="960" y="135"/>
                  </a:lnTo>
                  <a:lnTo>
                    <a:pt x="923" y="151"/>
                  </a:lnTo>
                  <a:lnTo>
                    <a:pt x="904" y="166"/>
                  </a:lnTo>
                  <a:lnTo>
                    <a:pt x="893" y="197"/>
                  </a:lnTo>
                  <a:lnTo>
                    <a:pt x="791" y="214"/>
                  </a:lnTo>
                  <a:lnTo>
                    <a:pt x="743" y="197"/>
                  </a:lnTo>
                  <a:lnTo>
                    <a:pt x="676" y="197"/>
                  </a:lnTo>
                  <a:lnTo>
                    <a:pt x="608" y="201"/>
                  </a:lnTo>
                  <a:lnTo>
                    <a:pt x="573" y="214"/>
                  </a:lnTo>
                  <a:lnTo>
                    <a:pt x="558" y="222"/>
                  </a:lnTo>
                  <a:lnTo>
                    <a:pt x="553" y="254"/>
                  </a:lnTo>
                  <a:lnTo>
                    <a:pt x="415" y="270"/>
                  </a:lnTo>
                  <a:lnTo>
                    <a:pt x="396" y="258"/>
                  </a:lnTo>
                  <a:lnTo>
                    <a:pt x="356" y="254"/>
                  </a:lnTo>
                  <a:lnTo>
                    <a:pt x="319" y="251"/>
                  </a:lnTo>
                  <a:lnTo>
                    <a:pt x="276" y="255"/>
                  </a:lnTo>
                  <a:lnTo>
                    <a:pt x="241" y="265"/>
                  </a:lnTo>
                  <a:lnTo>
                    <a:pt x="211" y="284"/>
                  </a:lnTo>
                  <a:lnTo>
                    <a:pt x="199" y="313"/>
                  </a:lnTo>
                  <a:lnTo>
                    <a:pt x="95" y="33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H="1">
              <a:off x="5646600" y="3757320"/>
              <a:ext cx="684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649920" y="3741480"/>
              <a:ext cx="50760" cy="173160"/>
            </a:xfrm>
            <a:custGeom>
              <a:avLst/>
              <a:gdLst/>
              <a:ahLst/>
              <a:rect l="l" t="t" r="r" b="b"/>
              <a:pathLst>
                <a:path w="63" h="219">
                  <a:moveTo>
                    <a:pt x="54" y="0"/>
                  </a:moveTo>
                  <a:lnTo>
                    <a:pt x="50" y="50"/>
                  </a:lnTo>
                  <a:lnTo>
                    <a:pt x="63" y="142"/>
                  </a:lnTo>
                  <a:lnTo>
                    <a:pt x="50" y="219"/>
                  </a:lnTo>
                  <a:lnTo>
                    <a:pt x="0" y="130"/>
                  </a:lnTo>
                  <a:lnTo>
                    <a:pt x="0" y="66"/>
                  </a:lnTo>
                  <a:lnTo>
                    <a:pt x="5" y="38"/>
                  </a:lnTo>
                  <a:lnTo>
                    <a:pt x="17" y="1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316560" y="3965400"/>
              <a:ext cx="101520" cy="392040"/>
            </a:xfrm>
            <a:custGeom>
              <a:avLst/>
              <a:gdLst/>
              <a:ahLst/>
              <a:rect l="l" t="t" r="r" b="b"/>
              <a:pathLst>
                <a:path w="129" h="493">
                  <a:moveTo>
                    <a:pt x="125" y="2"/>
                  </a:moveTo>
                  <a:lnTo>
                    <a:pt x="129" y="23"/>
                  </a:lnTo>
                  <a:lnTo>
                    <a:pt x="129" y="54"/>
                  </a:lnTo>
                  <a:lnTo>
                    <a:pt x="129" y="100"/>
                  </a:lnTo>
                  <a:lnTo>
                    <a:pt x="129" y="123"/>
                  </a:lnTo>
                  <a:lnTo>
                    <a:pt x="122" y="171"/>
                  </a:lnTo>
                  <a:lnTo>
                    <a:pt x="118" y="189"/>
                  </a:lnTo>
                  <a:lnTo>
                    <a:pt x="114" y="212"/>
                  </a:lnTo>
                  <a:lnTo>
                    <a:pt x="118" y="248"/>
                  </a:lnTo>
                  <a:lnTo>
                    <a:pt x="122" y="291"/>
                  </a:lnTo>
                  <a:lnTo>
                    <a:pt x="126" y="310"/>
                  </a:lnTo>
                  <a:lnTo>
                    <a:pt x="129" y="333"/>
                  </a:lnTo>
                  <a:lnTo>
                    <a:pt x="129" y="348"/>
                  </a:lnTo>
                  <a:lnTo>
                    <a:pt x="129" y="377"/>
                  </a:lnTo>
                  <a:lnTo>
                    <a:pt x="129" y="421"/>
                  </a:lnTo>
                  <a:lnTo>
                    <a:pt x="125" y="452"/>
                  </a:lnTo>
                  <a:lnTo>
                    <a:pt x="122" y="470"/>
                  </a:lnTo>
                  <a:lnTo>
                    <a:pt x="115" y="485"/>
                  </a:lnTo>
                  <a:lnTo>
                    <a:pt x="108" y="490"/>
                  </a:lnTo>
                  <a:lnTo>
                    <a:pt x="92" y="493"/>
                  </a:lnTo>
                  <a:lnTo>
                    <a:pt x="76" y="490"/>
                  </a:lnTo>
                  <a:lnTo>
                    <a:pt x="56" y="483"/>
                  </a:lnTo>
                  <a:lnTo>
                    <a:pt x="37" y="476"/>
                  </a:lnTo>
                  <a:lnTo>
                    <a:pt x="25" y="466"/>
                  </a:lnTo>
                  <a:lnTo>
                    <a:pt x="12" y="458"/>
                  </a:lnTo>
                  <a:lnTo>
                    <a:pt x="10" y="449"/>
                  </a:lnTo>
                  <a:lnTo>
                    <a:pt x="6" y="432"/>
                  </a:lnTo>
                  <a:lnTo>
                    <a:pt x="0" y="406"/>
                  </a:lnTo>
                  <a:lnTo>
                    <a:pt x="0" y="387"/>
                  </a:lnTo>
                  <a:lnTo>
                    <a:pt x="0" y="362"/>
                  </a:lnTo>
                  <a:lnTo>
                    <a:pt x="3" y="309"/>
                  </a:lnTo>
                  <a:lnTo>
                    <a:pt x="6" y="274"/>
                  </a:lnTo>
                  <a:lnTo>
                    <a:pt x="7" y="237"/>
                  </a:lnTo>
                  <a:lnTo>
                    <a:pt x="11" y="209"/>
                  </a:lnTo>
                  <a:lnTo>
                    <a:pt x="18" y="190"/>
                  </a:lnTo>
                  <a:lnTo>
                    <a:pt x="23" y="165"/>
                  </a:lnTo>
                  <a:lnTo>
                    <a:pt x="25" y="135"/>
                  </a:lnTo>
                  <a:lnTo>
                    <a:pt x="29" y="102"/>
                  </a:lnTo>
                  <a:lnTo>
                    <a:pt x="30" y="83"/>
                  </a:lnTo>
                  <a:lnTo>
                    <a:pt x="34" y="66"/>
                  </a:lnTo>
                  <a:lnTo>
                    <a:pt x="42" y="55"/>
                  </a:lnTo>
                  <a:lnTo>
                    <a:pt x="54" y="36"/>
                  </a:lnTo>
                  <a:lnTo>
                    <a:pt x="62" y="27"/>
                  </a:lnTo>
                  <a:lnTo>
                    <a:pt x="75" y="19"/>
                  </a:lnTo>
                  <a:lnTo>
                    <a:pt x="85" y="12"/>
                  </a:lnTo>
                  <a:lnTo>
                    <a:pt x="99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967440" y="3462120"/>
              <a:ext cx="1628640" cy="563760"/>
            </a:xfrm>
            <a:custGeom>
              <a:avLst/>
              <a:gdLst/>
              <a:ahLst/>
              <a:rect l="l" t="t" r="r" b="b"/>
              <a:pathLst>
                <a:path w="2052" h="710">
                  <a:moveTo>
                    <a:pt x="0" y="0"/>
                  </a:moveTo>
                  <a:lnTo>
                    <a:pt x="2021" y="650"/>
                  </a:lnTo>
                  <a:lnTo>
                    <a:pt x="2048" y="650"/>
                  </a:lnTo>
                  <a:lnTo>
                    <a:pt x="2052" y="694"/>
                  </a:lnTo>
                  <a:lnTo>
                    <a:pt x="2031" y="710"/>
                  </a:lnTo>
                  <a:lnTo>
                    <a:pt x="1996" y="690"/>
                  </a:lnTo>
                  <a:lnTo>
                    <a:pt x="1721" y="613"/>
                  </a:lnTo>
                  <a:lnTo>
                    <a:pt x="1629" y="578"/>
                  </a:lnTo>
                  <a:lnTo>
                    <a:pt x="1576" y="562"/>
                  </a:lnTo>
                  <a:lnTo>
                    <a:pt x="1505" y="538"/>
                  </a:lnTo>
                  <a:lnTo>
                    <a:pt x="1425" y="513"/>
                  </a:lnTo>
                  <a:lnTo>
                    <a:pt x="1384" y="498"/>
                  </a:lnTo>
                  <a:lnTo>
                    <a:pt x="1341" y="498"/>
                  </a:lnTo>
                  <a:lnTo>
                    <a:pt x="1245" y="450"/>
                  </a:lnTo>
                  <a:lnTo>
                    <a:pt x="834" y="325"/>
                  </a:lnTo>
                  <a:lnTo>
                    <a:pt x="774" y="325"/>
                  </a:lnTo>
                  <a:lnTo>
                    <a:pt x="714" y="289"/>
                  </a:lnTo>
                  <a:lnTo>
                    <a:pt x="582" y="269"/>
                  </a:lnTo>
                  <a:lnTo>
                    <a:pt x="35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966000" y="3452760"/>
              <a:ext cx="1608120" cy="536400"/>
            </a:xfrm>
            <a:custGeom>
              <a:avLst/>
              <a:gdLst/>
              <a:ahLst/>
              <a:rect l="l" t="t" r="r" b="b"/>
              <a:pathLst>
                <a:path w="2026" h="675">
                  <a:moveTo>
                    <a:pt x="2024" y="648"/>
                  </a:moveTo>
                  <a:lnTo>
                    <a:pt x="2026" y="649"/>
                  </a:lnTo>
                  <a:lnTo>
                    <a:pt x="7" y="0"/>
                  </a:lnTo>
                  <a:lnTo>
                    <a:pt x="0" y="24"/>
                  </a:lnTo>
                  <a:lnTo>
                    <a:pt x="2020" y="674"/>
                  </a:lnTo>
                  <a:lnTo>
                    <a:pt x="2024" y="675"/>
                  </a:lnTo>
                  <a:lnTo>
                    <a:pt x="2020" y="674"/>
                  </a:lnTo>
                  <a:lnTo>
                    <a:pt x="2021" y="675"/>
                  </a:lnTo>
                  <a:lnTo>
                    <a:pt x="2024" y="675"/>
                  </a:lnTo>
                  <a:lnTo>
                    <a:pt x="2024" y="64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8572320" y="3967200"/>
              <a:ext cx="31680" cy="2196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12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14" y="15"/>
                  </a:lnTo>
                  <a:lnTo>
                    <a:pt x="40" y="12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8583480" y="3976560"/>
              <a:ext cx="23760" cy="4428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25" y="56"/>
                  </a:moveTo>
                  <a:lnTo>
                    <a:pt x="30" y="45"/>
                  </a:lnTo>
                  <a:lnTo>
                    <a:pt x="26" y="0"/>
                  </a:lnTo>
                  <a:lnTo>
                    <a:pt x="0" y="3"/>
                  </a:lnTo>
                  <a:lnTo>
                    <a:pt x="3" y="46"/>
                  </a:lnTo>
                  <a:lnTo>
                    <a:pt x="9" y="35"/>
                  </a:lnTo>
                  <a:lnTo>
                    <a:pt x="25" y="56"/>
                  </a:lnTo>
                  <a:lnTo>
                    <a:pt x="30" y="52"/>
                  </a:lnTo>
                  <a:lnTo>
                    <a:pt x="30" y="45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8574120" y="4005000"/>
              <a:ext cx="28440" cy="3348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" y="38"/>
                  </a:moveTo>
                  <a:lnTo>
                    <a:pt x="16" y="37"/>
                  </a:lnTo>
                  <a:lnTo>
                    <a:pt x="37" y="21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5" y="17"/>
                  </a:lnTo>
                  <a:lnTo>
                    <a:pt x="3" y="38"/>
                  </a:lnTo>
                  <a:lnTo>
                    <a:pt x="10" y="44"/>
                  </a:lnTo>
                  <a:lnTo>
                    <a:pt x="16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8547120" y="4000320"/>
              <a:ext cx="3960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3" y="24"/>
                  </a:moveTo>
                  <a:lnTo>
                    <a:pt x="0" y="23"/>
                  </a:lnTo>
                  <a:lnTo>
                    <a:pt x="37" y="43"/>
                  </a:lnTo>
                  <a:lnTo>
                    <a:pt x="49" y="2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8331120" y="3938400"/>
              <a:ext cx="223920" cy="81000"/>
            </a:xfrm>
            <a:custGeom>
              <a:avLst/>
              <a:gdLst/>
              <a:ahLst/>
              <a:rect l="l" t="t" r="r" b="b"/>
              <a:pathLst>
                <a:path w="282" h="101">
                  <a:moveTo>
                    <a:pt x="0" y="24"/>
                  </a:moveTo>
                  <a:lnTo>
                    <a:pt x="1" y="24"/>
                  </a:lnTo>
                  <a:lnTo>
                    <a:pt x="275" y="101"/>
                  </a:lnTo>
                  <a:lnTo>
                    <a:pt x="282" y="77"/>
                  </a:lnTo>
                  <a:lnTo>
                    <a:pt x="8" y="0"/>
                  </a:lnTo>
                  <a:lnTo>
                    <a:pt x="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8256600" y="3909960"/>
              <a:ext cx="82440" cy="4932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2" y="25"/>
                  </a:moveTo>
                  <a:lnTo>
                    <a:pt x="0" y="25"/>
                  </a:lnTo>
                  <a:lnTo>
                    <a:pt x="94" y="60"/>
                  </a:lnTo>
                  <a:lnTo>
                    <a:pt x="103" y="36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8216640" y="3898800"/>
              <a:ext cx="47880" cy="3168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24"/>
                  </a:moveTo>
                  <a:lnTo>
                    <a:pt x="0" y="24"/>
                  </a:lnTo>
                  <a:lnTo>
                    <a:pt x="53" y="40"/>
                  </a:lnTo>
                  <a:lnTo>
                    <a:pt x="61" y="15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159760" y="3879720"/>
              <a:ext cx="63360" cy="381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25"/>
                  </a:moveTo>
                  <a:lnTo>
                    <a:pt x="0" y="25"/>
                  </a:lnTo>
                  <a:lnTo>
                    <a:pt x="72" y="49"/>
                  </a:lnTo>
                  <a:lnTo>
                    <a:pt x="80" y="25"/>
                  </a:lnTo>
                  <a:lnTo>
                    <a:pt x="9" y="0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094600" y="3860640"/>
              <a:ext cx="69840" cy="381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24"/>
                  </a:moveTo>
                  <a:lnTo>
                    <a:pt x="2" y="24"/>
                  </a:lnTo>
                  <a:lnTo>
                    <a:pt x="81" y="49"/>
                  </a:lnTo>
                  <a:lnTo>
                    <a:pt x="88" y="24"/>
                  </a:lnTo>
                  <a:lnTo>
                    <a:pt x="9" y="0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064360" y="3846240"/>
              <a:ext cx="38160" cy="3348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" y="25"/>
                  </a:moveTo>
                  <a:lnTo>
                    <a:pt x="0" y="25"/>
                  </a:lnTo>
                  <a:lnTo>
                    <a:pt x="39" y="40"/>
                  </a:lnTo>
                  <a:lnTo>
                    <a:pt x="49" y="16"/>
                  </a:lnTo>
                  <a:lnTo>
                    <a:pt x="10" y="1"/>
                  </a:lnTo>
                  <a:lnTo>
                    <a:pt x="4" y="0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8028000" y="3846240"/>
              <a:ext cx="39600" cy="208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4"/>
                  </a:moveTo>
                  <a:lnTo>
                    <a:pt x="5" y="25"/>
                  </a:lnTo>
                  <a:lnTo>
                    <a:pt x="48" y="25"/>
                  </a:lnTo>
                  <a:lnTo>
                    <a:pt x="48" y="0"/>
                  </a:lnTo>
                  <a:lnTo>
                    <a:pt x="5" y="0"/>
                  </a:lnTo>
                  <a:lnTo>
                    <a:pt x="10" y="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951680" y="3809880"/>
              <a:ext cx="85680" cy="5724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3" y="24"/>
                  </a:moveTo>
                  <a:lnTo>
                    <a:pt x="0" y="23"/>
                  </a:lnTo>
                  <a:lnTo>
                    <a:pt x="98" y="71"/>
                  </a:lnTo>
                  <a:lnTo>
                    <a:pt x="108" y="5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627680" y="3709800"/>
              <a:ext cx="330480" cy="119160"/>
            </a:xfrm>
            <a:custGeom>
              <a:avLst/>
              <a:gdLst/>
              <a:ahLst/>
              <a:rect l="l" t="t" r="r" b="b"/>
              <a:pathLst>
                <a:path w="418" h="150">
                  <a:moveTo>
                    <a:pt x="4" y="26"/>
                  </a:moveTo>
                  <a:lnTo>
                    <a:pt x="0" y="26"/>
                  </a:lnTo>
                  <a:lnTo>
                    <a:pt x="411" y="150"/>
                  </a:lnTo>
                  <a:lnTo>
                    <a:pt x="418" y="126"/>
                  </a:lnTo>
                  <a:lnTo>
                    <a:pt x="7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576920" y="3709800"/>
              <a:ext cx="54000" cy="2088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24"/>
                  </a:moveTo>
                  <a:lnTo>
                    <a:pt x="7" y="26"/>
                  </a:lnTo>
                  <a:lnTo>
                    <a:pt x="67" y="26"/>
                  </a:lnTo>
                  <a:lnTo>
                    <a:pt x="67" y="0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529400" y="3681360"/>
              <a:ext cx="58680" cy="47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4" y="26"/>
                  </a:moveTo>
                  <a:lnTo>
                    <a:pt x="0" y="25"/>
                  </a:lnTo>
                  <a:lnTo>
                    <a:pt x="59" y="61"/>
                  </a:lnTo>
                  <a:lnTo>
                    <a:pt x="72" y="40"/>
                  </a:lnTo>
                  <a:lnTo>
                    <a:pt x="13" y="3"/>
                  </a:lnTo>
                  <a:lnTo>
                    <a:pt x="8" y="0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427880" y="3665520"/>
              <a:ext cx="108000" cy="3636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0" y="24"/>
                  </a:moveTo>
                  <a:lnTo>
                    <a:pt x="2" y="24"/>
                  </a:lnTo>
                  <a:lnTo>
                    <a:pt x="133" y="44"/>
                  </a:lnTo>
                  <a:lnTo>
                    <a:pt x="137" y="18"/>
                  </a:lnTo>
                  <a:lnTo>
                    <a:pt x="6" y="0"/>
                  </a:lnTo>
                  <a:lnTo>
                    <a:pt x="7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986520" y="3516120"/>
              <a:ext cx="446040" cy="168480"/>
            </a:xfrm>
            <a:custGeom>
              <a:avLst/>
              <a:gdLst/>
              <a:ahLst/>
              <a:rect l="l" t="t" r="r" b="b"/>
              <a:pathLst>
                <a:path w="563" h="212">
                  <a:moveTo>
                    <a:pt x="0" y="16"/>
                  </a:moveTo>
                  <a:lnTo>
                    <a:pt x="8" y="24"/>
                  </a:lnTo>
                  <a:lnTo>
                    <a:pt x="556" y="212"/>
                  </a:lnTo>
                  <a:lnTo>
                    <a:pt x="563" y="188"/>
                  </a:lnTo>
                  <a:lnTo>
                    <a:pt x="16" y="0"/>
                  </a:lnTo>
                  <a:lnTo>
                    <a:pt x="24" y="7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8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949800" y="3446280"/>
              <a:ext cx="55800" cy="8424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27" y="8"/>
                  </a:moveTo>
                  <a:lnTo>
                    <a:pt x="12" y="25"/>
                  </a:lnTo>
                  <a:lnTo>
                    <a:pt x="46" y="105"/>
                  </a:lnTo>
                  <a:lnTo>
                    <a:pt x="70" y="96"/>
                  </a:lnTo>
                  <a:lnTo>
                    <a:pt x="35" y="16"/>
                  </a:lnTo>
                  <a:lnTo>
                    <a:pt x="20" y="32"/>
                  </a:lnTo>
                  <a:lnTo>
                    <a:pt x="27" y="8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405560" y="3441600"/>
              <a:ext cx="136440" cy="82440"/>
            </a:xfrm>
            <a:custGeom>
              <a:avLst/>
              <a:gdLst/>
              <a:ahLst/>
              <a:rect l="l" t="t" r="r" b="b"/>
              <a:pathLst>
                <a:path w="171" h="104">
                  <a:moveTo>
                    <a:pt x="34" y="77"/>
                  </a:moveTo>
                  <a:lnTo>
                    <a:pt x="0" y="0"/>
                  </a:lnTo>
                  <a:lnTo>
                    <a:pt x="36" y="29"/>
                  </a:lnTo>
                  <a:lnTo>
                    <a:pt x="171" y="19"/>
                  </a:lnTo>
                  <a:lnTo>
                    <a:pt x="134" y="76"/>
                  </a:lnTo>
                  <a:lnTo>
                    <a:pt x="129" y="104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634080" y="2992320"/>
              <a:ext cx="76320" cy="712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9" y="81"/>
                  </a:moveTo>
                  <a:lnTo>
                    <a:pt x="97" y="72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80" y="92"/>
                  </a:lnTo>
                  <a:lnTo>
                    <a:pt x="8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630840" y="2981160"/>
              <a:ext cx="22320" cy="20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4" y="22"/>
                  </a:moveTo>
                  <a:lnTo>
                    <a:pt x="26" y="24"/>
                  </a:lnTo>
                  <a:lnTo>
                    <a:pt x="30" y="5"/>
                  </a:lnTo>
                  <a:lnTo>
                    <a:pt x="4" y="0"/>
                  </a:lnTo>
                  <a:lnTo>
                    <a:pt x="0" y="2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643440" y="2973240"/>
              <a:ext cx="317520" cy="33480"/>
            </a:xfrm>
            <a:custGeom>
              <a:avLst/>
              <a:gdLst/>
              <a:ahLst/>
              <a:rect l="l" t="t" r="r" b="b"/>
              <a:pathLst>
                <a:path w="402" h="42">
                  <a:moveTo>
                    <a:pt x="0" y="14"/>
                  </a:moveTo>
                  <a:lnTo>
                    <a:pt x="0" y="27"/>
                  </a:lnTo>
                  <a:lnTo>
                    <a:pt x="402" y="42"/>
                  </a:lnTo>
                  <a:lnTo>
                    <a:pt x="402" y="16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H="1" flipV="1">
              <a:off x="6960600" y="299664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387840" y="298908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3" y="0"/>
                  </a:moveTo>
                  <a:lnTo>
                    <a:pt x="0" y="0"/>
                  </a:lnTo>
                  <a:lnTo>
                    <a:pt x="12" y="46"/>
                  </a:lnTo>
                  <a:lnTo>
                    <a:pt x="19" y="4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387840" y="2985840"/>
              <a:ext cx="5040" cy="3240"/>
            </a:xfrm>
            <a:prstGeom prst="rect">
              <a:avLst/>
            </a:prstGeom>
            <a:solidFill>
              <a:srgbClr val="ab02ab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419440" y="3429000"/>
              <a:ext cx="401760" cy="125280"/>
            </a:xfrm>
            <a:custGeom>
              <a:avLst/>
              <a:gdLst/>
              <a:ahLst/>
              <a:rect l="l" t="t" r="r" b="b"/>
              <a:pathLst>
                <a:path w="505" h="158">
                  <a:moveTo>
                    <a:pt x="12" y="151"/>
                  </a:moveTo>
                  <a:lnTo>
                    <a:pt x="11" y="158"/>
                  </a:lnTo>
                  <a:lnTo>
                    <a:pt x="505" y="7"/>
                  </a:lnTo>
                  <a:lnTo>
                    <a:pt x="504" y="0"/>
                  </a:lnTo>
                  <a:lnTo>
                    <a:pt x="9" y="151"/>
                  </a:lnTo>
                  <a:lnTo>
                    <a:pt x="8" y="158"/>
                  </a:lnTo>
                  <a:lnTo>
                    <a:pt x="9" y="151"/>
                  </a:lnTo>
                  <a:lnTo>
                    <a:pt x="0" y="155"/>
                  </a:lnTo>
                  <a:lnTo>
                    <a:pt x="8" y="158"/>
                  </a:lnTo>
                  <a:lnTo>
                    <a:pt x="12" y="151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425920" y="3549600"/>
              <a:ext cx="74520" cy="30240"/>
            </a:xfrm>
            <a:custGeom>
              <a:avLst/>
              <a:gdLst/>
              <a:ahLst/>
              <a:rect l="l" t="t" r="r" b="b"/>
              <a:pathLst>
                <a:path w="93" h="38">
                  <a:moveTo>
                    <a:pt x="93" y="31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92" y="38"/>
                  </a:lnTo>
                  <a:lnTo>
                    <a:pt x="93" y="38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500440" y="3511440"/>
              <a:ext cx="227160" cy="68400"/>
            </a:xfrm>
            <a:custGeom>
              <a:avLst/>
              <a:gdLst/>
              <a:ahLst/>
              <a:rect l="l" t="t" r="r" b="b"/>
              <a:pathLst>
                <a:path w="287" h="85">
                  <a:moveTo>
                    <a:pt x="284" y="0"/>
                  </a:moveTo>
                  <a:lnTo>
                    <a:pt x="0" y="78"/>
                  </a:lnTo>
                  <a:lnTo>
                    <a:pt x="0" y="85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549760" y="3546360"/>
              <a:ext cx="222120" cy="98280"/>
            </a:xfrm>
            <a:custGeom>
              <a:avLst/>
              <a:gdLst/>
              <a:ahLst/>
              <a:rect l="l" t="t" r="r" b="b"/>
              <a:pathLst>
                <a:path w="281" h="125">
                  <a:moveTo>
                    <a:pt x="279" y="0"/>
                  </a:moveTo>
                  <a:lnTo>
                    <a:pt x="281" y="53"/>
                  </a:lnTo>
                  <a:lnTo>
                    <a:pt x="0" y="12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840280" y="3489120"/>
              <a:ext cx="203040" cy="8280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256" y="0"/>
                  </a:moveTo>
                  <a:lnTo>
                    <a:pt x="245" y="44"/>
                  </a:lnTo>
                  <a:lnTo>
                    <a:pt x="0" y="1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699240" y="3566880"/>
              <a:ext cx="112680" cy="101880"/>
            </a:xfrm>
            <a:custGeom>
              <a:avLst/>
              <a:gdLst/>
              <a:ahLst/>
              <a:rect l="l" t="t" r="r" b="b"/>
              <a:pathLst>
                <a:path w="143" h="129">
                  <a:moveTo>
                    <a:pt x="0" y="129"/>
                  </a:moveTo>
                  <a:lnTo>
                    <a:pt x="0" y="31"/>
                  </a:lnTo>
                  <a:lnTo>
                    <a:pt x="143" y="0"/>
                  </a:lnTo>
                  <a:lnTo>
                    <a:pt x="102" y="92"/>
                  </a:lnTo>
                  <a:lnTo>
                    <a:pt x="10" y="92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951600" y="2997000"/>
              <a:ext cx="22320" cy="82800"/>
            </a:xfrm>
            <a:custGeom>
              <a:avLst/>
              <a:gdLst/>
              <a:ahLst/>
              <a:rect l="l" t="t" r="r" b="b"/>
              <a:pathLst>
                <a:path w="29" h="104">
                  <a:moveTo>
                    <a:pt x="17" y="104"/>
                  </a:moveTo>
                  <a:lnTo>
                    <a:pt x="29" y="10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3" y="104"/>
                  </a:lnTo>
                  <a:lnTo>
                    <a:pt x="1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424480" y="3294000"/>
              <a:ext cx="663480" cy="258840"/>
            </a:xfrm>
            <a:custGeom>
              <a:avLst/>
              <a:gdLst/>
              <a:ahLst/>
              <a:rect l="l" t="t" r="r" b="b"/>
              <a:pathLst>
                <a:path w="835" h="325">
                  <a:moveTo>
                    <a:pt x="518" y="213"/>
                  </a:moveTo>
                  <a:lnTo>
                    <a:pt x="495" y="169"/>
                  </a:lnTo>
                  <a:lnTo>
                    <a:pt x="0" y="325"/>
                  </a:lnTo>
                  <a:lnTo>
                    <a:pt x="835" y="69"/>
                  </a:lnTo>
                  <a:lnTo>
                    <a:pt x="8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427720" y="2989080"/>
              <a:ext cx="1206360" cy="587520"/>
            </a:xfrm>
            <a:custGeom>
              <a:avLst/>
              <a:gdLst/>
              <a:ahLst/>
              <a:rect l="l" t="t" r="r" b="b"/>
              <a:pathLst>
                <a:path w="1520" h="741">
                  <a:moveTo>
                    <a:pt x="1227" y="45"/>
                  </a:moveTo>
                  <a:lnTo>
                    <a:pt x="1214" y="0"/>
                  </a:lnTo>
                  <a:lnTo>
                    <a:pt x="1227" y="45"/>
                  </a:lnTo>
                  <a:lnTo>
                    <a:pt x="1490" y="174"/>
                  </a:lnTo>
                  <a:lnTo>
                    <a:pt x="1438" y="178"/>
                  </a:lnTo>
                  <a:lnTo>
                    <a:pt x="1405" y="153"/>
                  </a:lnTo>
                  <a:lnTo>
                    <a:pt x="1323" y="142"/>
                  </a:lnTo>
                  <a:lnTo>
                    <a:pt x="1222" y="70"/>
                  </a:lnTo>
                  <a:lnTo>
                    <a:pt x="1034" y="64"/>
                  </a:lnTo>
                  <a:lnTo>
                    <a:pt x="1081" y="140"/>
                  </a:lnTo>
                  <a:lnTo>
                    <a:pt x="1138" y="158"/>
                  </a:lnTo>
                  <a:lnTo>
                    <a:pt x="1184" y="157"/>
                  </a:lnTo>
                  <a:lnTo>
                    <a:pt x="1222" y="147"/>
                  </a:lnTo>
                  <a:lnTo>
                    <a:pt x="1273" y="154"/>
                  </a:lnTo>
                  <a:lnTo>
                    <a:pt x="1319" y="173"/>
                  </a:lnTo>
                  <a:lnTo>
                    <a:pt x="1422" y="250"/>
                  </a:lnTo>
                  <a:lnTo>
                    <a:pt x="1449" y="263"/>
                  </a:lnTo>
                  <a:lnTo>
                    <a:pt x="1442" y="292"/>
                  </a:lnTo>
                  <a:lnTo>
                    <a:pt x="1520" y="292"/>
                  </a:lnTo>
                  <a:lnTo>
                    <a:pt x="1505" y="261"/>
                  </a:lnTo>
                  <a:lnTo>
                    <a:pt x="1490" y="174"/>
                  </a:lnTo>
                  <a:lnTo>
                    <a:pt x="1227" y="45"/>
                  </a:lnTo>
                  <a:lnTo>
                    <a:pt x="918" y="639"/>
                  </a:lnTo>
                  <a:lnTo>
                    <a:pt x="1245" y="554"/>
                  </a:lnTo>
                  <a:lnTo>
                    <a:pt x="918" y="639"/>
                  </a:lnTo>
                  <a:lnTo>
                    <a:pt x="1227" y="45"/>
                  </a:lnTo>
                  <a:lnTo>
                    <a:pt x="1246" y="552"/>
                  </a:lnTo>
                  <a:lnTo>
                    <a:pt x="1246" y="494"/>
                  </a:lnTo>
                  <a:lnTo>
                    <a:pt x="1246" y="552"/>
                  </a:lnTo>
                  <a:lnTo>
                    <a:pt x="1227" y="45"/>
                  </a:lnTo>
                  <a:lnTo>
                    <a:pt x="833" y="452"/>
                  </a:lnTo>
                  <a:lnTo>
                    <a:pt x="495" y="558"/>
                  </a:lnTo>
                  <a:lnTo>
                    <a:pt x="0" y="710"/>
                  </a:lnTo>
                  <a:lnTo>
                    <a:pt x="92" y="741"/>
                  </a:lnTo>
                  <a:lnTo>
                    <a:pt x="377" y="662"/>
                  </a:lnTo>
                  <a:lnTo>
                    <a:pt x="480" y="601"/>
                  </a:lnTo>
                  <a:lnTo>
                    <a:pt x="575" y="609"/>
                  </a:lnTo>
                  <a:lnTo>
                    <a:pt x="831" y="546"/>
                  </a:lnTo>
                  <a:lnTo>
                    <a:pt x="938" y="505"/>
                  </a:lnTo>
                  <a:lnTo>
                    <a:pt x="924" y="470"/>
                  </a:lnTo>
                  <a:lnTo>
                    <a:pt x="941" y="444"/>
                  </a:lnTo>
                  <a:lnTo>
                    <a:pt x="1043" y="485"/>
                  </a:lnTo>
                  <a:lnTo>
                    <a:pt x="1228" y="448"/>
                  </a:lnTo>
                  <a:lnTo>
                    <a:pt x="1412" y="397"/>
                  </a:lnTo>
                  <a:lnTo>
                    <a:pt x="1439" y="338"/>
                  </a:lnTo>
                  <a:lnTo>
                    <a:pt x="1450" y="284"/>
                  </a:lnTo>
                  <a:lnTo>
                    <a:pt x="1424" y="247"/>
                  </a:lnTo>
                  <a:lnTo>
                    <a:pt x="1001" y="386"/>
                  </a:lnTo>
                  <a:lnTo>
                    <a:pt x="941" y="428"/>
                  </a:lnTo>
                  <a:lnTo>
                    <a:pt x="908" y="408"/>
                  </a:lnTo>
                  <a:lnTo>
                    <a:pt x="865" y="385"/>
                  </a:lnTo>
                  <a:lnTo>
                    <a:pt x="829" y="385"/>
                  </a:lnTo>
                  <a:lnTo>
                    <a:pt x="833" y="452"/>
                  </a:lnTo>
                  <a:lnTo>
                    <a:pt x="1227" y="45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184800" y="2966760"/>
              <a:ext cx="52200" cy="795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20" y="1"/>
                  </a:moveTo>
                  <a:lnTo>
                    <a:pt x="8" y="19"/>
                  </a:lnTo>
                  <a:lnTo>
                    <a:pt x="43" y="100"/>
                  </a:lnTo>
                  <a:lnTo>
                    <a:pt x="66" y="91"/>
                  </a:lnTo>
                  <a:lnTo>
                    <a:pt x="33" y="9"/>
                  </a:lnTo>
                  <a:lnTo>
                    <a:pt x="20" y="27"/>
                  </a:lnTo>
                  <a:lnTo>
                    <a:pt x="20" y="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200640" y="2968560"/>
              <a:ext cx="195120" cy="2844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246" y="11"/>
                  </a:moveTo>
                  <a:lnTo>
                    <a:pt x="241" y="11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40" y="37"/>
                  </a:lnTo>
                  <a:lnTo>
                    <a:pt x="234" y="35"/>
                  </a:lnTo>
                  <a:lnTo>
                    <a:pt x="246" y="11"/>
                  </a:lnTo>
                  <a:lnTo>
                    <a:pt x="244" y="11"/>
                  </a:lnTo>
                  <a:lnTo>
                    <a:pt x="241" y="11"/>
                  </a:lnTo>
                  <a:lnTo>
                    <a:pt x="2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386400" y="297648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0"/>
                  </a:moveTo>
                  <a:lnTo>
                    <a:pt x="28" y="10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399000" y="2984400"/>
              <a:ext cx="238320" cy="133200"/>
            </a:xfrm>
            <a:custGeom>
              <a:avLst/>
              <a:gdLst/>
              <a:ahLst/>
              <a:rect l="l" t="t" r="r" b="b"/>
              <a:pathLst>
                <a:path w="300" h="168">
                  <a:moveTo>
                    <a:pt x="291" y="141"/>
                  </a:moveTo>
                  <a:lnTo>
                    <a:pt x="300" y="14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289" y="166"/>
                  </a:lnTo>
                  <a:lnTo>
                    <a:pt x="298" y="166"/>
                  </a:lnTo>
                  <a:lnTo>
                    <a:pt x="289" y="166"/>
                  </a:lnTo>
                  <a:lnTo>
                    <a:pt x="294" y="168"/>
                  </a:lnTo>
                  <a:lnTo>
                    <a:pt x="298" y="166"/>
                  </a:lnTo>
                  <a:lnTo>
                    <a:pt x="291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630840" y="3065400"/>
              <a:ext cx="106560" cy="50760"/>
            </a:xfrm>
            <a:custGeom>
              <a:avLst/>
              <a:gdLst/>
              <a:ahLst/>
              <a:rect l="l" t="t" r="r" b="b"/>
              <a:pathLst>
                <a:path w="134" h="64">
                  <a:moveTo>
                    <a:pt x="130" y="12"/>
                  </a:moveTo>
                  <a:lnTo>
                    <a:pt x="127" y="0"/>
                  </a:lnTo>
                  <a:lnTo>
                    <a:pt x="0" y="39"/>
                  </a:lnTo>
                  <a:lnTo>
                    <a:pt x="7" y="64"/>
                  </a:lnTo>
                  <a:lnTo>
                    <a:pt x="134" y="26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389640" y="433692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" y="23"/>
                  </a:moveTo>
                  <a:lnTo>
                    <a:pt x="4" y="22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368760" y="4344840"/>
              <a:ext cx="22320" cy="1116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5"/>
                  </a:moveTo>
                  <a:lnTo>
                    <a:pt x="26" y="12"/>
                  </a:lnTo>
                  <a:lnTo>
                    <a:pt x="27" y="5"/>
                  </a:lnTo>
                  <a:lnTo>
                    <a:pt x="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5976720" y="4173480"/>
              <a:ext cx="349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H="1" flipV="1">
              <a:off x="6967440" y="3297240"/>
              <a:ext cx="450720" cy="179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688080" y="3046320"/>
              <a:ext cx="1080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6663960" y="316044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567480" y="3124080"/>
              <a:ext cx="42840" cy="792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0" y="9"/>
                  </a:moveTo>
                  <a:lnTo>
                    <a:pt x="2" y="9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40480" y="3106440"/>
              <a:ext cx="30240" cy="255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2" y="6"/>
                  </a:moveTo>
                  <a:lnTo>
                    <a:pt x="0" y="6"/>
                  </a:lnTo>
                  <a:lnTo>
                    <a:pt x="33" y="32"/>
                  </a:lnTo>
                  <a:lnTo>
                    <a:pt x="37" y="27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6475320" y="3098520"/>
              <a:ext cx="66600" cy="12960"/>
            </a:xfrm>
            <a:custGeom>
              <a:avLst/>
              <a:gdLst/>
              <a:ahLst/>
              <a:rect l="l" t="t" r="r" b="b"/>
              <a:pathLst>
                <a:path w="83" h="16">
                  <a:moveTo>
                    <a:pt x="0" y="7"/>
                  </a:moveTo>
                  <a:lnTo>
                    <a:pt x="83" y="16"/>
                  </a:lnTo>
                  <a:lnTo>
                    <a:pt x="83" y="10"/>
                  </a:lnTo>
                  <a:lnTo>
                    <a:pt x="1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395760" y="3041640"/>
              <a:ext cx="82800" cy="6192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0" y="5"/>
                  </a:moveTo>
                  <a:lnTo>
                    <a:pt x="100" y="78"/>
                  </a:lnTo>
                  <a:lnTo>
                    <a:pt x="102" y="7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243480" y="3035160"/>
              <a:ext cx="152280" cy="11160"/>
            </a:xfrm>
            <a:custGeom>
              <a:avLst/>
              <a:gdLst/>
              <a:ahLst/>
              <a:rect l="l" t="t" r="r" b="b"/>
              <a:pathLst>
                <a:path w="194" h="14">
                  <a:moveTo>
                    <a:pt x="7" y="3"/>
                  </a:moveTo>
                  <a:lnTo>
                    <a:pt x="6" y="7"/>
                  </a:lnTo>
                  <a:lnTo>
                    <a:pt x="194" y="14"/>
                  </a:lnTo>
                  <a:lnTo>
                    <a:pt x="194" y="9"/>
                  </a:lnTo>
                  <a:lnTo>
                    <a:pt x="6" y="0"/>
                  </a:lnTo>
                  <a:lnTo>
                    <a:pt x="3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6245280" y="3038400"/>
              <a:ext cx="41040" cy="6336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50" y="74"/>
                  </a:moveTo>
                  <a:lnTo>
                    <a:pt x="53" y="77"/>
                  </a:lnTo>
                  <a:lnTo>
                    <a:pt x="4" y="0"/>
                  </a:lnTo>
                  <a:lnTo>
                    <a:pt x="0" y="3"/>
                  </a:lnTo>
                  <a:lnTo>
                    <a:pt x="47" y="80"/>
                  </a:lnTo>
                  <a:lnTo>
                    <a:pt x="49" y="81"/>
                  </a:lnTo>
                  <a:lnTo>
                    <a:pt x="47" y="80"/>
                  </a:lnTo>
                  <a:lnTo>
                    <a:pt x="49" y="81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283080" y="3097080"/>
              <a:ext cx="46080" cy="1908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18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58" y="25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6329160" y="3109680"/>
              <a:ext cx="36720" cy="64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4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46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6365880" y="3101760"/>
              <a:ext cx="31680" cy="129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0" y="10"/>
                  </a:lnTo>
                  <a:lnTo>
                    <a:pt x="2" y="16"/>
                  </a:lnTo>
                  <a:lnTo>
                    <a:pt x="4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6395760" y="3101760"/>
              <a:ext cx="43200" cy="1116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2" y="8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51" y="14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6435720" y="3108240"/>
              <a:ext cx="39600" cy="190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48" y="21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6" y="25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6554520" y="3186000"/>
              <a:ext cx="24120" cy="144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6"/>
                  </a:moveTo>
                  <a:lnTo>
                    <a:pt x="27" y="12"/>
                  </a:lnTo>
                  <a:lnTo>
                    <a:pt x="1" y="0"/>
                  </a:lnTo>
                  <a:lnTo>
                    <a:pt x="0" y="4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6568920" y="3197160"/>
              <a:ext cx="9720" cy="25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3" y="26"/>
                  </a:moveTo>
                  <a:lnTo>
                    <a:pt x="7" y="30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570720" y="3217680"/>
              <a:ext cx="66600" cy="468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75" y="4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81" y="3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1" y="3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619680" y="3193920"/>
              <a:ext cx="15840" cy="27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2"/>
                  </a:moveTo>
                  <a:lnTo>
                    <a:pt x="14" y="34"/>
                  </a:lnTo>
                  <a:lnTo>
                    <a:pt x="20" y="33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607080" y="3124080"/>
              <a:ext cx="17280" cy="7128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2" y="5"/>
                  </a:moveTo>
                  <a:lnTo>
                    <a:pt x="0" y="2"/>
                  </a:lnTo>
                  <a:lnTo>
                    <a:pt x="15" y="89"/>
                  </a:lnTo>
                  <a:lnTo>
                    <a:pt x="21" y="87"/>
                  </a:lnTo>
                  <a:lnTo>
                    <a:pt x="6" y="1"/>
                  </a:lnTo>
                  <a:lnTo>
                    <a:pt x="2" y="0"/>
                  </a:lnTo>
                  <a:lnTo>
                    <a:pt x="6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151320" y="3493800"/>
              <a:ext cx="50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0" y="0"/>
                  </a:lnTo>
                  <a:lnTo>
                    <a:pt x="1" y="6"/>
                  </a:lnTo>
                  <a:lnTo>
                    <a:pt x="5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154560" y="3425760"/>
              <a:ext cx="260280" cy="71280"/>
            </a:xfrm>
            <a:custGeom>
              <a:avLst/>
              <a:gdLst/>
              <a:ahLst/>
              <a:rect l="l" t="t" r="r" b="b"/>
              <a:pathLst>
                <a:path w="328" h="91">
                  <a:moveTo>
                    <a:pt x="327" y="3"/>
                  </a:moveTo>
                  <a:lnTo>
                    <a:pt x="327" y="0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28" y="5"/>
                  </a:lnTo>
                  <a:lnTo>
                    <a:pt x="32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6414840" y="342576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414840" y="3427200"/>
              <a:ext cx="3240" cy="1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411960" y="3381120"/>
              <a:ext cx="6120" cy="460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4" y="0"/>
                  </a:moveTo>
                  <a:lnTo>
                    <a:pt x="0" y="0"/>
                  </a:lnTo>
                  <a:lnTo>
                    <a:pt x="3" y="58"/>
                  </a:lnTo>
                  <a:lnTo>
                    <a:pt x="8" y="58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411960" y="3378240"/>
              <a:ext cx="6120" cy="2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086520" y="3344760"/>
              <a:ext cx="46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7"/>
                  </a:moveTo>
                  <a:lnTo>
                    <a:pt x="6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819760" y="3344760"/>
              <a:ext cx="268200" cy="88920"/>
            </a:xfrm>
            <a:custGeom>
              <a:avLst/>
              <a:gdLst/>
              <a:ahLst/>
              <a:rect l="l" t="t" r="r" b="b"/>
              <a:pathLst>
                <a:path w="338" h="114">
                  <a:moveTo>
                    <a:pt x="1" y="114"/>
                  </a:moveTo>
                  <a:lnTo>
                    <a:pt x="338" y="7"/>
                  </a:lnTo>
                  <a:lnTo>
                    <a:pt x="336" y="0"/>
                  </a:lnTo>
                  <a:lnTo>
                    <a:pt x="0" y="107"/>
                  </a:lnTo>
                  <a:lnTo>
                    <a:pt x="1" y="1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724360" y="3463920"/>
              <a:ext cx="85680" cy="5220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4" y="0"/>
                  </a:moveTo>
                  <a:lnTo>
                    <a:pt x="0" y="61"/>
                  </a:lnTo>
                  <a:lnTo>
                    <a:pt x="3" y="67"/>
                  </a:lnTo>
                  <a:lnTo>
                    <a:pt x="107" y="6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806800" y="3463920"/>
              <a:ext cx="76320" cy="111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95" y="8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5" y="15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883120" y="3417840"/>
              <a:ext cx="203400" cy="57240"/>
            </a:xfrm>
            <a:custGeom>
              <a:avLst/>
              <a:gdLst/>
              <a:ahLst/>
              <a:rect l="l" t="t" r="r" b="b"/>
              <a:pathLst>
                <a:path w="256" h="71">
                  <a:moveTo>
                    <a:pt x="255" y="0"/>
                  </a:moveTo>
                  <a:lnTo>
                    <a:pt x="0" y="64"/>
                  </a:lnTo>
                  <a:lnTo>
                    <a:pt x="0" y="71"/>
                  </a:lnTo>
                  <a:lnTo>
                    <a:pt x="256" y="6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084720" y="3387600"/>
              <a:ext cx="88920" cy="36360"/>
            </a:xfrm>
            <a:custGeom>
              <a:avLst/>
              <a:gdLst/>
              <a:ahLst/>
              <a:rect l="l" t="t" r="r" b="b"/>
              <a:pathLst>
                <a:path w="112" h="46">
                  <a:moveTo>
                    <a:pt x="105" y="4"/>
                  </a:moveTo>
                  <a:lnTo>
                    <a:pt x="108" y="0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109" y="7"/>
                  </a:lnTo>
                  <a:lnTo>
                    <a:pt x="112" y="3"/>
                  </a:lnTo>
                  <a:lnTo>
                    <a:pt x="109" y="7"/>
                  </a:lnTo>
                  <a:lnTo>
                    <a:pt x="112" y="6"/>
                  </a:lnTo>
                  <a:lnTo>
                    <a:pt x="112" y="3"/>
                  </a:lnTo>
                  <a:lnTo>
                    <a:pt x="105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157800" y="3360600"/>
              <a:ext cx="15840" cy="3024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0"/>
                  </a:moveTo>
                  <a:lnTo>
                    <a:pt x="0" y="2"/>
                  </a:lnTo>
                  <a:lnTo>
                    <a:pt x="13" y="37"/>
                  </a:lnTo>
                  <a:lnTo>
                    <a:pt x="20" y="36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157800" y="3338280"/>
              <a:ext cx="17280" cy="25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2"/>
                  </a:moveTo>
                  <a:lnTo>
                    <a:pt x="16" y="3"/>
                  </a:lnTo>
                  <a:lnTo>
                    <a:pt x="0" y="29"/>
                  </a:lnTo>
                  <a:lnTo>
                    <a:pt x="5" y="33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6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172200" y="3338280"/>
              <a:ext cx="82440" cy="38160"/>
            </a:xfrm>
            <a:custGeom>
              <a:avLst/>
              <a:gdLst/>
              <a:ahLst/>
              <a:rect l="l" t="t" r="r" b="b"/>
              <a:pathLst>
                <a:path w="104" h="47">
                  <a:moveTo>
                    <a:pt x="104" y="40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103" y="47"/>
                  </a:lnTo>
                  <a:lnTo>
                    <a:pt x="104" y="47"/>
                  </a:lnTo>
                  <a:lnTo>
                    <a:pt x="104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254640" y="3341520"/>
              <a:ext cx="147600" cy="3492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4" y="0"/>
                  </a:moveTo>
                  <a:lnTo>
                    <a:pt x="0" y="36"/>
                  </a:lnTo>
                  <a:lnTo>
                    <a:pt x="0" y="43"/>
                  </a:lnTo>
                  <a:lnTo>
                    <a:pt x="185" y="6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400800" y="3300120"/>
              <a:ext cx="149040" cy="47880"/>
            </a:xfrm>
            <a:custGeom>
              <a:avLst/>
              <a:gdLst/>
              <a:ahLst/>
              <a:rect l="l" t="t" r="r" b="b"/>
              <a:pathLst>
                <a:path w="188" h="59">
                  <a:moveTo>
                    <a:pt x="182" y="3"/>
                  </a:moveTo>
                  <a:lnTo>
                    <a:pt x="184" y="0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85" y="7"/>
                  </a:lnTo>
                  <a:lnTo>
                    <a:pt x="188" y="5"/>
                  </a:lnTo>
                  <a:lnTo>
                    <a:pt x="185" y="7"/>
                  </a:lnTo>
                  <a:lnTo>
                    <a:pt x="188" y="5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545160" y="3255840"/>
              <a:ext cx="25560" cy="49320"/>
            </a:xfrm>
            <a:custGeom>
              <a:avLst/>
              <a:gdLst/>
              <a:ahLst/>
              <a:rect l="l" t="t" r="r" b="b"/>
              <a:pathLst>
                <a:path w="33" h="60">
                  <a:moveTo>
                    <a:pt x="27" y="0"/>
                  </a:moveTo>
                  <a:lnTo>
                    <a:pt x="0" y="58"/>
                  </a:lnTo>
                  <a:lnTo>
                    <a:pt x="6" y="60"/>
                  </a:lnTo>
                  <a:lnTo>
                    <a:pt x="33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567480" y="3211560"/>
              <a:ext cx="11160" cy="4428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1" y="4"/>
                  </a:moveTo>
                  <a:lnTo>
                    <a:pt x="10" y="1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554520" y="3181320"/>
              <a:ext cx="24120" cy="331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7"/>
                  </a:moveTo>
                  <a:lnTo>
                    <a:pt x="0" y="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5" y="1"/>
                  </a:lnTo>
                  <a:lnTo>
                    <a:pt x="1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172200" y="3294000"/>
              <a:ext cx="50760" cy="3636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0" y="46"/>
                  </a:moveTo>
                  <a:lnTo>
                    <a:pt x="3" y="46"/>
                  </a:lnTo>
                  <a:lnTo>
                    <a:pt x="64" y="5"/>
                  </a:lnTo>
                  <a:lnTo>
                    <a:pt x="61" y="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148440" y="3309840"/>
              <a:ext cx="25200" cy="205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6"/>
                  </a:moveTo>
                  <a:lnTo>
                    <a:pt x="31" y="26"/>
                  </a:lnTo>
                  <a:lnTo>
                    <a:pt x="34" y="2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084720" y="3292200"/>
              <a:ext cx="28800" cy="324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3"/>
                  </a:moveTo>
                  <a:lnTo>
                    <a:pt x="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081480" y="3292200"/>
              <a:ext cx="324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107040" y="3130560"/>
              <a:ext cx="4680" cy="2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102360" y="3093840"/>
              <a:ext cx="9360" cy="3672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4" y="0"/>
                  </a:moveTo>
                  <a:lnTo>
                    <a:pt x="0" y="0"/>
                  </a:lnTo>
                  <a:lnTo>
                    <a:pt x="7" y="46"/>
                  </a:lnTo>
                  <a:lnTo>
                    <a:pt x="14" y="46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102360" y="3092400"/>
              <a:ext cx="4680" cy="1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956200" y="305748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0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951520" y="3038400"/>
              <a:ext cx="9360" cy="205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4" y="0"/>
                  </a:moveTo>
                  <a:lnTo>
                    <a:pt x="0" y="1"/>
                  </a:lnTo>
                  <a:lnTo>
                    <a:pt x="5" y="25"/>
                  </a:lnTo>
                  <a:lnTo>
                    <a:pt x="12" y="2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951520" y="303660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lnTo>
                    <a:pt x="7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489280" y="3408120"/>
              <a:ext cx="86040" cy="66960"/>
            </a:xfrm>
            <a:custGeom>
              <a:avLst/>
              <a:gdLst/>
              <a:ahLst/>
              <a:rect l="l" t="t" r="r" b="b"/>
              <a:pathLst>
                <a:path w="108" h="85">
                  <a:moveTo>
                    <a:pt x="20" y="69"/>
                  </a:moveTo>
                  <a:lnTo>
                    <a:pt x="23" y="76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19" y="70"/>
                  </a:lnTo>
                  <a:lnTo>
                    <a:pt x="21" y="76"/>
                  </a:lnTo>
                  <a:lnTo>
                    <a:pt x="19" y="70"/>
                  </a:lnTo>
                  <a:lnTo>
                    <a:pt x="0" y="85"/>
                  </a:lnTo>
                  <a:lnTo>
                    <a:pt x="21" y="76"/>
                  </a:lnTo>
                  <a:lnTo>
                    <a:pt x="20" y="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505480" y="3443040"/>
              <a:ext cx="44280" cy="2412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55" y="0"/>
                  </a:moveTo>
                  <a:lnTo>
                    <a:pt x="0" y="24"/>
                  </a:lnTo>
                  <a:lnTo>
                    <a:pt x="1" y="31"/>
                  </a:lnTo>
                  <a:lnTo>
                    <a:pt x="57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549760" y="3370320"/>
              <a:ext cx="250920" cy="7776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312" y="1"/>
                  </a:moveTo>
                  <a:lnTo>
                    <a:pt x="314" y="0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315" y="7"/>
                  </a:lnTo>
                  <a:lnTo>
                    <a:pt x="318" y="4"/>
                  </a:lnTo>
                  <a:lnTo>
                    <a:pt x="315" y="7"/>
                  </a:lnTo>
                  <a:lnTo>
                    <a:pt x="318" y="4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797440" y="3332160"/>
              <a:ext cx="28440" cy="410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3" y="0"/>
                  </a:moveTo>
                  <a:lnTo>
                    <a:pt x="0" y="48"/>
                  </a:lnTo>
                  <a:lnTo>
                    <a:pt x="6" y="5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823000" y="3314520"/>
              <a:ext cx="34920" cy="2232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9" y="0"/>
                  </a:moveTo>
                  <a:lnTo>
                    <a:pt x="0" y="22"/>
                  </a:lnTo>
                  <a:lnTo>
                    <a:pt x="3" y="27"/>
                  </a:lnTo>
                  <a:lnTo>
                    <a:pt x="43" y="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026040" y="3128760"/>
              <a:ext cx="88920" cy="666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02" y="5"/>
                  </a:moveTo>
                  <a:lnTo>
                    <a:pt x="102" y="0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106" y="5"/>
                  </a:lnTo>
                  <a:lnTo>
                    <a:pt x="105" y="0"/>
                  </a:lnTo>
                  <a:lnTo>
                    <a:pt x="106" y="5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029280" y="3100320"/>
              <a:ext cx="81000" cy="3312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6"/>
                  </a:moveTo>
                  <a:lnTo>
                    <a:pt x="100" y="42"/>
                  </a:lnTo>
                  <a:lnTo>
                    <a:pt x="103" y="37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964120" y="3081240"/>
              <a:ext cx="66600" cy="2232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6" y="6"/>
                  </a:moveTo>
                  <a:lnTo>
                    <a:pt x="2" y="6"/>
                  </a:lnTo>
                  <a:lnTo>
                    <a:pt x="81" y="30"/>
                  </a:lnTo>
                  <a:lnTo>
                    <a:pt x="84" y="24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914800" y="3081240"/>
              <a:ext cx="54000" cy="4428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5" y="57"/>
                  </a:moveTo>
                  <a:lnTo>
                    <a:pt x="68" y="6"/>
                  </a:lnTo>
                  <a:lnTo>
                    <a:pt x="62" y="0"/>
                  </a:lnTo>
                  <a:lnTo>
                    <a:pt x="0" y="52"/>
                  </a:lnTo>
                  <a:lnTo>
                    <a:pt x="5" y="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867280" y="3120840"/>
              <a:ext cx="52560" cy="4608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4" y="56"/>
                  </a:moveTo>
                  <a:lnTo>
                    <a:pt x="66" y="5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817960" y="3162240"/>
              <a:ext cx="52560" cy="4608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3" y="58"/>
                  </a:moveTo>
                  <a:lnTo>
                    <a:pt x="66" y="5"/>
                  </a:lnTo>
                  <a:lnTo>
                    <a:pt x="62" y="0"/>
                  </a:lnTo>
                  <a:lnTo>
                    <a:pt x="0" y="51"/>
                  </a:lnTo>
                  <a:lnTo>
                    <a:pt x="3" y="58"/>
                  </a:lnTo>
                  <a:lnTo>
                    <a:pt x="4" y="57"/>
                  </a:lnTo>
                  <a:lnTo>
                    <a:pt x="3" y="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789520" y="320328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9"/>
                  </a:moveTo>
                  <a:lnTo>
                    <a:pt x="38" y="7"/>
                  </a:lnTo>
                  <a:lnTo>
                    <a:pt x="36" y="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740200" y="3213000"/>
              <a:ext cx="33480" cy="363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8" y="45"/>
                  </a:moveTo>
                  <a:lnTo>
                    <a:pt x="7" y="48"/>
                  </a:lnTo>
                  <a:lnTo>
                    <a:pt x="42" y="6"/>
                  </a:lnTo>
                  <a:lnTo>
                    <a:pt x="38" y="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8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740200" y="3247920"/>
              <a:ext cx="6480" cy="237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7" y="30"/>
                  </a:moveTo>
                  <a:lnTo>
                    <a:pt x="8" y="2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621040" y="3267000"/>
              <a:ext cx="123840" cy="104760"/>
            </a:xfrm>
            <a:custGeom>
              <a:avLst/>
              <a:gdLst/>
              <a:ahLst/>
              <a:rect l="l" t="t" r="r" b="b"/>
              <a:pathLst>
                <a:path w="157" h="131">
                  <a:moveTo>
                    <a:pt x="4" y="131"/>
                  </a:moveTo>
                  <a:lnTo>
                    <a:pt x="157" y="6"/>
                  </a:lnTo>
                  <a:lnTo>
                    <a:pt x="151" y="0"/>
                  </a:lnTo>
                  <a:lnTo>
                    <a:pt x="0" y="126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572080" y="3367080"/>
              <a:ext cx="52200" cy="442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4" y="57"/>
                  </a:moveTo>
                  <a:lnTo>
                    <a:pt x="66" y="5"/>
                  </a:lnTo>
                  <a:lnTo>
                    <a:pt x="62" y="0"/>
                  </a:lnTo>
                  <a:lnTo>
                    <a:pt x="0" y="51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6089400" y="334440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6132240" y="3154320"/>
              <a:ext cx="8604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465600" y="3311280"/>
              <a:ext cx="158760" cy="106560"/>
            </a:xfrm>
            <a:custGeom>
              <a:avLst/>
              <a:gdLst/>
              <a:ahLst/>
              <a:rect l="l" t="t" r="r" b="b"/>
              <a:pathLst>
                <a:path w="200" h="135">
                  <a:moveTo>
                    <a:pt x="200" y="0"/>
                  </a:moveTo>
                  <a:lnTo>
                    <a:pt x="200" y="82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6707160" y="3287520"/>
              <a:ext cx="199800" cy="69840"/>
            </a:xfrm>
            <a:custGeom>
              <a:avLst/>
              <a:gdLst/>
              <a:ahLst/>
              <a:rect l="l" t="t" r="r" b="b"/>
              <a:pathLst>
                <a:path w="253" h="88">
                  <a:moveTo>
                    <a:pt x="253" y="0"/>
                  </a:moveTo>
                  <a:lnTo>
                    <a:pt x="250" y="28"/>
                  </a:lnTo>
                  <a:lnTo>
                    <a:pt x="0" y="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6137280" y="3351240"/>
              <a:ext cx="129960" cy="145800"/>
            </a:xfrm>
            <a:custGeom>
              <a:avLst/>
              <a:gdLst/>
              <a:ahLst/>
              <a:rect l="l" t="t" r="r" b="b"/>
              <a:pathLst>
                <a:path w="163" h="184">
                  <a:moveTo>
                    <a:pt x="82" y="0"/>
                  </a:moveTo>
                  <a:lnTo>
                    <a:pt x="163" y="51"/>
                  </a:lnTo>
                  <a:lnTo>
                    <a:pt x="56" y="152"/>
                  </a:lnTo>
                  <a:lnTo>
                    <a:pt x="27" y="184"/>
                  </a:lnTo>
                  <a:lnTo>
                    <a:pt x="0" y="123"/>
                  </a:lnTo>
                  <a:lnTo>
                    <a:pt x="67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505480" y="3038400"/>
              <a:ext cx="604800" cy="426960"/>
            </a:xfrm>
            <a:custGeom>
              <a:avLst/>
              <a:gdLst/>
              <a:ahLst/>
              <a:rect l="l" t="t" r="r" b="b"/>
              <a:pathLst>
                <a:path w="762" h="537">
                  <a:moveTo>
                    <a:pt x="762" y="116"/>
                  </a:moveTo>
                  <a:lnTo>
                    <a:pt x="755" y="70"/>
                  </a:lnTo>
                  <a:lnTo>
                    <a:pt x="762" y="116"/>
                  </a:lnTo>
                  <a:lnTo>
                    <a:pt x="571" y="24"/>
                  </a:lnTo>
                  <a:lnTo>
                    <a:pt x="566" y="0"/>
                  </a:lnTo>
                  <a:lnTo>
                    <a:pt x="571" y="24"/>
                  </a:lnTo>
                  <a:lnTo>
                    <a:pt x="762" y="116"/>
                  </a:lnTo>
                  <a:lnTo>
                    <a:pt x="85" y="467"/>
                  </a:lnTo>
                  <a:lnTo>
                    <a:pt x="0" y="537"/>
                  </a:lnTo>
                  <a:lnTo>
                    <a:pt x="57" y="511"/>
                  </a:lnTo>
                  <a:lnTo>
                    <a:pt x="370" y="421"/>
                  </a:lnTo>
                  <a:lnTo>
                    <a:pt x="401" y="372"/>
                  </a:lnTo>
                  <a:lnTo>
                    <a:pt x="443" y="351"/>
                  </a:lnTo>
                  <a:lnTo>
                    <a:pt x="659" y="194"/>
                  </a:lnTo>
                  <a:lnTo>
                    <a:pt x="762" y="116"/>
                  </a:lnTo>
                  <a:lnTo>
                    <a:pt x="661" y="79"/>
                  </a:lnTo>
                  <a:lnTo>
                    <a:pt x="581" y="55"/>
                  </a:lnTo>
                  <a:lnTo>
                    <a:pt x="519" y="106"/>
                  </a:lnTo>
                  <a:lnTo>
                    <a:pt x="457" y="158"/>
                  </a:lnTo>
                  <a:lnTo>
                    <a:pt x="396" y="209"/>
                  </a:lnTo>
                  <a:lnTo>
                    <a:pt x="358" y="221"/>
                  </a:lnTo>
                  <a:lnTo>
                    <a:pt x="335" y="221"/>
                  </a:lnTo>
                  <a:lnTo>
                    <a:pt x="300" y="263"/>
                  </a:lnTo>
                  <a:lnTo>
                    <a:pt x="300" y="290"/>
                  </a:lnTo>
                  <a:lnTo>
                    <a:pt x="147" y="414"/>
                  </a:lnTo>
                  <a:lnTo>
                    <a:pt x="85" y="467"/>
                  </a:lnTo>
                  <a:lnTo>
                    <a:pt x="762" y="1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6680160" y="3046320"/>
              <a:ext cx="199800" cy="34920"/>
            </a:xfrm>
            <a:custGeom>
              <a:avLst/>
              <a:gdLst/>
              <a:ahLst/>
              <a:rect l="l" t="t" r="r" b="b"/>
              <a:pathLst>
                <a:path w="253" h="45">
                  <a:moveTo>
                    <a:pt x="253" y="7"/>
                  </a:moveTo>
                  <a:lnTo>
                    <a:pt x="107" y="45"/>
                  </a:lnTo>
                  <a:lnTo>
                    <a:pt x="62" y="40"/>
                  </a:lnTo>
                  <a:lnTo>
                    <a:pt x="0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6100560" y="3186000"/>
              <a:ext cx="18252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929200" y="30286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"/>
                  </a:moveTo>
                  <a:lnTo>
                    <a:pt x="28" y="1"/>
                  </a:lnTo>
                  <a:lnTo>
                    <a:pt x="0" y="9"/>
                  </a:lnTo>
                  <a:lnTo>
                    <a:pt x="6" y="35"/>
                  </a:lnTo>
                  <a:lnTo>
                    <a:pt x="35" y="26"/>
                  </a:lnTo>
                  <a:lnTo>
                    <a:pt x="27" y="26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949720" y="3028680"/>
              <a:ext cx="152640" cy="71640"/>
            </a:xfrm>
            <a:custGeom>
              <a:avLst/>
              <a:gdLst/>
              <a:ahLst/>
              <a:rect l="l" t="t" r="r" b="b"/>
              <a:pathLst>
                <a:path w="190" h="89">
                  <a:moveTo>
                    <a:pt x="190" y="67"/>
                  </a:moveTo>
                  <a:lnTo>
                    <a:pt x="189" y="65"/>
                  </a:lnTo>
                  <a:lnTo>
                    <a:pt x="9" y="0"/>
                  </a:lnTo>
                  <a:lnTo>
                    <a:pt x="0" y="25"/>
                  </a:lnTo>
                  <a:lnTo>
                    <a:pt x="181" y="89"/>
                  </a:lnTo>
                  <a:lnTo>
                    <a:pt x="179" y="89"/>
                  </a:lnTo>
                  <a:lnTo>
                    <a:pt x="19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092640" y="3081240"/>
              <a:ext cx="19080" cy="25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7" y="5"/>
                  </a:moveTo>
                  <a:lnTo>
                    <a:pt x="21" y="4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10" y="27"/>
                  </a:lnTo>
                  <a:lnTo>
                    <a:pt x="23" y="25"/>
                  </a:lnTo>
                  <a:lnTo>
                    <a:pt x="10" y="27"/>
                  </a:lnTo>
                  <a:lnTo>
                    <a:pt x="17" y="31"/>
                  </a:lnTo>
                  <a:lnTo>
                    <a:pt x="23" y="2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099120" y="3035160"/>
              <a:ext cx="71280" cy="6660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84" y="0"/>
                  </a:moveTo>
                  <a:lnTo>
                    <a:pt x="76" y="3"/>
                  </a:lnTo>
                  <a:lnTo>
                    <a:pt x="0" y="64"/>
                  </a:lnTo>
                  <a:lnTo>
                    <a:pt x="16" y="84"/>
                  </a:lnTo>
                  <a:lnTo>
                    <a:pt x="92" y="23"/>
                  </a:lnTo>
                  <a:lnTo>
                    <a:pt x="84" y="26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164280" y="3035160"/>
              <a:ext cx="61920" cy="2052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7" y="12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0" y="27"/>
                  </a:lnTo>
                  <a:lnTo>
                    <a:pt x="77" y="26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854680" y="3190680"/>
              <a:ext cx="174600" cy="128520"/>
            </a:xfrm>
            <a:custGeom>
              <a:avLst/>
              <a:gdLst/>
              <a:ahLst/>
              <a:rect l="l" t="t" r="r" b="b"/>
              <a:pathLst>
                <a:path w="222" h="162">
                  <a:moveTo>
                    <a:pt x="218" y="0"/>
                  </a:moveTo>
                  <a:lnTo>
                    <a:pt x="0" y="157"/>
                  </a:lnTo>
                  <a:lnTo>
                    <a:pt x="5" y="162"/>
                  </a:lnTo>
                  <a:lnTo>
                    <a:pt x="222" y="6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6472080" y="3124080"/>
              <a:ext cx="84240" cy="6516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77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102" y="81"/>
                  </a:lnTo>
                  <a:lnTo>
                    <a:pt x="10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6221160" y="3182760"/>
              <a:ext cx="336600" cy="115920"/>
            </a:xfrm>
            <a:custGeom>
              <a:avLst/>
              <a:gdLst/>
              <a:ahLst/>
              <a:rect l="l" t="t" r="r" b="b"/>
              <a:pathLst>
                <a:path w="426" h="146">
                  <a:moveTo>
                    <a:pt x="3" y="146"/>
                  </a:moveTo>
                  <a:lnTo>
                    <a:pt x="426" y="6"/>
                  </a:lnTo>
                  <a:lnTo>
                    <a:pt x="423" y="0"/>
                  </a:lnTo>
                  <a:lnTo>
                    <a:pt x="0" y="140"/>
                  </a:lnTo>
                  <a:lnTo>
                    <a:pt x="3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6105240" y="3112920"/>
              <a:ext cx="330480" cy="195480"/>
            </a:xfrm>
            <a:custGeom>
              <a:avLst/>
              <a:gdLst/>
              <a:ahLst/>
              <a:rect l="l" t="t" r="r" b="b"/>
              <a:pathLst>
                <a:path w="418" h="246">
                  <a:moveTo>
                    <a:pt x="0" y="214"/>
                  </a:moveTo>
                  <a:lnTo>
                    <a:pt x="92" y="246"/>
                  </a:lnTo>
                  <a:lnTo>
                    <a:pt x="230" y="183"/>
                  </a:lnTo>
                  <a:lnTo>
                    <a:pt x="418" y="128"/>
                  </a:lnTo>
                  <a:lnTo>
                    <a:pt x="403" y="0"/>
                  </a:lnTo>
                  <a:lnTo>
                    <a:pt x="337" y="16"/>
                  </a:lnTo>
                  <a:lnTo>
                    <a:pt x="307" y="16"/>
                  </a:lnTo>
                  <a:lnTo>
                    <a:pt x="261" y="11"/>
                  </a:lnTo>
                  <a:lnTo>
                    <a:pt x="235" y="0"/>
                  </a:lnTo>
                  <a:lnTo>
                    <a:pt x="219" y="0"/>
                  </a:lnTo>
                  <a:lnTo>
                    <a:pt x="6" y="22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234120" y="3303360"/>
              <a:ext cx="323640" cy="104760"/>
            </a:xfrm>
            <a:custGeom>
              <a:avLst/>
              <a:gdLst/>
              <a:ahLst/>
              <a:rect l="l" t="t" r="r" b="b"/>
              <a:pathLst>
                <a:path w="408" h="132">
                  <a:moveTo>
                    <a:pt x="86" y="92"/>
                  </a:moveTo>
                  <a:lnTo>
                    <a:pt x="408" y="0"/>
                  </a:lnTo>
                  <a:lnTo>
                    <a:pt x="356" y="72"/>
                  </a:lnTo>
                  <a:lnTo>
                    <a:pt x="51" y="132"/>
                  </a:lnTo>
                  <a:lnTo>
                    <a:pt x="0" y="107"/>
                  </a:lnTo>
                  <a:lnTo>
                    <a:pt x="8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2" name="SYMBOL4" descr=""/>
          <p:cNvPicPr/>
          <p:nvPr/>
        </p:nvPicPr>
        <p:blipFill>
          <a:blip r:embed="rId1"/>
          <a:stretch/>
        </p:blipFill>
        <p:spPr>
          <a:xfrm>
            <a:off x="838080" y="3189240"/>
            <a:ext cx="2468520" cy="1239840"/>
          </a:xfrm>
          <a:prstGeom prst="rect">
            <a:avLst/>
          </a:prstGeom>
          <a:ln w="0">
            <a:noFill/>
          </a:ln>
        </p:spPr>
      </p:pic>
      <p:grpSp>
        <p:nvGrpSpPr>
          <p:cNvPr id="3763" name=""/>
          <p:cNvGrpSpPr/>
          <p:nvPr/>
        </p:nvGrpSpPr>
        <p:grpSpPr>
          <a:xfrm>
            <a:off x="6248520" y="3095640"/>
            <a:ext cx="1320840" cy="1428840"/>
            <a:chOff x="6248520" y="3095640"/>
            <a:chExt cx="1320840" cy="1428840"/>
          </a:xfrm>
        </p:grpSpPr>
        <p:sp>
          <p:nvSpPr>
            <p:cNvPr id="3764" name=""/>
            <p:cNvSpPr/>
            <p:nvPr/>
          </p:nvSpPr>
          <p:spPr>
            <a:xfrm>
              <a:off x="6248520" y="3095640"/>
              <a:ext cx="1320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6450120" y="3103560"/>
              <a:ext cx="1019160" cy="1327320"/>
            </a:xfrm>
            <a:prstGeom prst="rect">
              <a:avLst/>
            </a:prstGeom>
            <a:solidFill>
              <a:srgbClr val="caca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135920" y="4037040"/>
              <a:ext cx="425520" cy="112680"/>
            </a:xfrm>
            <a:custGeom>
              <a:avLst/>
              <a:gdLst/>
              <a:ahLst/>
              <a:rect l="l" t="t" r="r" b="b"/>
              <a:pathLst>
                <a:path w="268" h="71">
                  <a:moveTo>
                    <a:pt x="185" y="71"/>
                  </a:moveTo>
                  <a:lnTo>
                    <a:pt x="50" y="64"/>
                  </a:lnTo>
                  <a:lnTo>
                    <a:pt x="0" y="38"/>
                  </a:lnTo>
                  <a:lnTo>
                    <a:pt x="10" y="28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9" y="8"/>
                  </a:lnTo>
                  <a:lnTo>
                    <a:pt x="63" y="4"/>
                  </a:lnTo>
                  <a:lnTo>
                    <a:pt x="80" y="2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31" y="1"/>
                  </a:lnTo>
                  <a:lnTo>
                    <a:pt x="149" y="2"/>
                  </a:lnTo>
                  <a:lnTo>
                    <a:pt x="167" y="3"/>
                  </a:lnTo>
                  <a:lnTo>
                    <a:pt x="184" y="5"/>
                  </a:lnTo>
                  <a:lnTo>
                    <a:pt x="202" y="7"/>
                  </a:lnTo>
                  <a:lnTo>
                    <a:pt x="219" y="10"/>
                  </a:lnTo>
                  <a:lnTo>
                    <a:pt x="236" y="12"/>
                  </a:lnTo>
                  <a:lnTo>
                    <a:pt x="252" y="14"/>
                  </a:lnTo>
                  <a:lnTo>
                    <a:pt x="268" y="38"/>
                  </a:lnTo>
                  <a:lnTo>
                    <a:pt x="252" y="71"/>
                  </a:lnTo>
                  <a:lnTo>
                    <a:pt x="18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6337440" y="3989520"/>
              <a:ext cx="601920" cy="118800"/>
            </a:xfrm>
            <a:custGeom>
              <a:avLst/>
              <a:gdLst/>
              <a:ahLst/>
              <a:rect l="l" t="t" r="r" b="b"/>
              <a:pathLst>
                <a:path w="379" h="75">
                  <a:moveTo>
                    <a:pt x="17" y="68"/>
                  </a:moveTo>
                  <a:lnTo>
                    <a:pt x="0" y="51"/>
                  </a:lnTo>
                  <a:lnTo>
                    <a:pt x="17" y="9"/>
                  </a:lnTo>
                  <a:lnTo>
                    <a:pt x="143" y="0"/>
                  </a:lnTo>
                  <a:lnTo>
                    <a:pt x="303" y="0"/>
                  </a:lnTo>
                  <a:lnTo>
                    <a:pt x="328" y="0"/>
                  </a:lnTo>
                  <a:lnTo>
                    <a:pt x="379" y="34"/>
                  </a:lnTo>
                  <a:lnTo>
                    <a:pt x="362" y="75"/>
                  </a:lnTo>
                  <a:lnTo>
                    <a:pt x="341" y="74"/>
                  </a:lnTo>
                  <a:lnTo>
                    <a:pt x="319" y="74"/>
                  </a:lnTo>
                  <a:lnTo>
                    <a:pt x="298" y="73"/>
                  </a:lnTo>
                  <a:lnTo>
                    <a:pt x="276" y="73"/>
                  </a:lnTo>
                  <a:lnTo>
                    <a:pt x="255" y="72"/>
                  </a:lnTo>
                  <a:lnTo>
                    <a:pt x="233" y="71"/>
                  </a:lnTo>
                  <a:lnTo>
                    <a:pt x="212" y="71"/>
                  </a:lnTo>
                  <a:lnTo>
                    <a:pt x="190" y="70"/>
                  </a:lnTo>
                  <a:lnTo>
                    <a:pt x="168" y="70"/>
                  </a:lnTo>
                  <a:lnTo>
                    <a:pt x="146" y="69"/>
                  </a:lnTo>
                  <a:lnTo>
                    <a:pt x="124" y="69"/>
                  </a:lnTo>
                  <a:lnTo>
                    <a:pt x="103" y="69"/>
                  </a:lnTo>
                  <a:lnTo>
                    <a:pt x="81" y="68"/>
                  </a:lnTo>
                  <a:lnTo>
                    <a:pt x="60" y="68"/>
                  </a:lnTo>
                  <a:lnTo>
                    <a:pt x="38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364440" y="3736800"/>
              <a:ext cx="1155960" cy="130320"/>
            </a:xfrm>
            <a:custGeom>
              <a:avLst/>
              <a:gdLst/>
              <a:ahLst/>
              <a:rect l="l" t="t" r="r" b="b"/>
              <a:pathLst>
                <a:path w="728" h="82">
                  <a:moveTo>
                    <a:pt x="671" y="76"/>
                  </a:moveTo>
                  <a:lnTo>
                    <a:pt x="185" y="50"/>
                  </a:lnTo>
                  <a:lnTo>
                    <a:pt x="24" y="58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612" y="8"/>
                  </a:lnTo>
                  <a:lnTo>
                    <a:pt x="697" y="8"/>
                  </a:lnTo>
                  <a:lnTo>
                    <a:pt x="728" y="32"/>
                  </a:lnTo>
                  <a:lnTo>
                    <a:pt x="721" y="82"/>
                  </a:lnTo>
                  <a:lnTo>
                    <a:pt x="67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6364440" y="3411360"/>
              <a:ext cx="1185840" cy="136800"/>
            </a:xfrm>
            <a:custGeom>
              <a:avLst/>
              <a:gdLst/>
              <a:ahLst/>
              <a:rect l="l" t="t" r="r" b="b"/>
              <a:pathLst>
                <a:path w="747" h="86">
                  <a:moveTo>
                    <a:pt x="336" y="86"/>
                  </a:moveTo>
                  <a:lnTo>
                    <a:pt x="50" y="60"/>
                  </a:lnTo>
                  <a:lnTo>
                    <a:pt x="0" y="45"/>
                  </a:lnTo>
                  <a:lnTo>
                    <a:pt x="16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78" y="0"/>
                  </a:lnTo>
                  <a:lnTo>
                    <a:pt x="98" y="1"/>
                  </a:lnTo>
                  <a:lnTo>
                    <a:pt x="118" y="2"/>
                  </a:lnTo>
                  <a:lnTo>
                    <a:pt x="140" y="2"/>
                  </a:lnTo>
                  <a:lnTo>
                    <a:pt x="160" y="4"/>
                  </a:lnTo>
                  <a:lnTo>
                    <a:pt x="181" y="5"/>
                  </a:lnTo>
                  <a:lnTo>
                    <a:pt x="201" y="6"/>
                  </a:lnTo>
                  <a:lnTo>
                    <a:pt x="222" y="8"/>
                  </a:lnTo>
                  <a:lnTo>
                    <a:pt x="242" y="10"/>
                  </a:lnTo>
                  <a:lnTo>
                    <a:pt x="262" y="11"/>
                  </a:lnTo>
                  <a:lnTo>
                    <a:pt x="283" y="13"/>
                  </a:lnTo>
                  <a:lnTo>
                    <a:pt x="303" y="15"/>
                  </a:lnTo>
                  <a:lnTo>
                    <a:pt x="324" y="17"/>
                  </a:lnTo>
                  <a:lnTo>
                    <a:pt x="344" y="18"/>
                  </a:lnTo>
                  <a:lnTo>
                    <a:pt x="364" y="20"/>
                  </a:lnTo>
                  <a:lnTo>
                    <a:pt x="385" y="21"/>
                  </a:lnTo>
                  <a:lnTo>
                    <a:pt x="405" y="22"/>
                  </a:lnTo>
                  <a:lnTo>
                    <a:pt x="425" y="23"/>
                  </a:lnTo>
                  <a:lnTo>
                    <a:pt x="446" y="24"/>
                  </a:lnTo>
                  <a:lnTo>
                    <a:pt x="466" y="25"/>
                  </a:lnTo>
                  <a:lnTo>
                    <a:pt x="486" y="25"/>
                  </a:lnTo>
                  <a:lnTo>
                    <a:pt x="507" y="25"/>
                  </a:lnTo>
                  <a:lnTo>
                    <a:pt x="527" y="25"/>
                  </a:lnTo>
                  <a:lnTo>
                    <a:pt x="548" y="24"/>
                  </a:lnTo>
                  <a:lnTo>
                    <a:pt x="569" y="23"/>
                  </a:lnTo>
                  <a:lnTo>
                    <a:pt x="589" y="21"/>
                  </a:lnTo>
                  <a:lnTo>
                    <a:pt x="610" y="19"/>
                  </a:lnTo>
                  <a:lnTo>
                    <a:pt x="630" y="17"/>
                  </a:lnTo>
                  <a:lnTo>
                    <a:pt x="651" y="14"/>
                  </a:lnTo>
                  <a:lnTo>
                    <a:pt x="671" y="10"/>
                  </a:lnTo>
                  <a:lnTo>
                    <a:pt x="747" y="45"/>
                  </a:lnTo>
                  <a:lnTo>
                    <a:pt x="729" y="86"/>
                  </a:lnTo>
                  <a:lnTo>
                    <a:pt x="370" y="86"/>
                  </a:lnTo>
                  <a:lnTo>
                    <a:pt x="33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0" name=""/>
          <p:cNvSpPr/>
          <p:nvPr/>
        </p:nvSpPr>
        <p:spPr>
          <a:xfrm>
            <a:off x="18306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2" name="3DCLOUD" descr=""/>
          <p:cNvPicPr/>
          <p:nvPr/>
        </p:nvPicPr>
        <p:blipFill>
          <a:blip r:embed="rId1"/>
          <a:stretch/>
        </p:blipFill>
        <p:spPr>
          <a:xfrm>
            <a:off x="762120" y="2997360"/>
            <a:ext cx="3306600" cy="1623960"/>
          </a:xfrm>
          <a:prstGeom prst="rect">
            <a:avLst/>
          </a:prstGeom>
          <a:ln w="0">
            <a:noFill/>
          </a:ln>
        </p:spPr>
      </p:pic>
      <p:grpSp>
        <p:nvGrpSpPr>
          <p:cNvPr id="3773" name=""/>
          <p:cNvGrpSpPr/>
          <p:nvPr/>
        </p:nvGrpSpPr>
        <p:grpSpPr>
          <a:xfrm>
            <a:off x="6400800" y="2932200"/>
            <a:ext cx="1553760" cy="1753920"/>
            <a:chOff x="6400800" y="2932200"/>
            <a:chExt cx="1553760" cy="1753920"/>
          </a:xfrm>
        </p:grpSpPr>
        <p:sp>
          <p:nvSpPr>
            <p:cNvPr id="3774" name=""/>
            <p:cNvSpPr/>
            <p:nvPr/>
          </p:nvSpPr>
          <p:spPr>
            <a:xfrm>
              <a:off x="6824880" y="4180320"/>
              <a:ext cx="36360" cy="172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5"/>
                  </a:moveTo>
                  <a:lnTo>
                    <a:pt x="4" y="11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4" y="11"/>
                  </a:lnTo>
                  <a:lnTo>
                    <a:pt x="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7057080" y="4357800"/>
              <a:ext cx="228600" cy="64080"/>
            </a:xfrm>
            <a:custGeom>
              <a:avLst/>
              <a:gdLst/>
              <a:ahLst/>
              <a:rect l="l" t="t" r="r" b="b"/>
              <a:pathLst>
                <a:path w="261" h="74">
                  <a:moveTo>
                    <a:pt x="0" y="74"/>
                  </a:moveTo>
                  <a:lnTo>
                    <a:pt x="10" y="74"/>
                  </a:lnTo>
                  <a:lnTo>
                    <a:pt x="17" y="74"/>
                  </a:lnTo>
                  <a:lnTo>
                    <a:pt x="25" y="72"/>
                  </a:lnTo>
                  <a:lnTo>
                    <a:pt x="34" y="72"/>
                  </a:lnTo>
                  <a:lnTo>
                    <a:pt x="42" y="72"/>
                  </a:lnTo>
                  <a:lnTo>
                    <a:pt x="51" y="70"/>
                  </a:lnTo>
                  <a:lnTo>
                    <a:pt x="59" y="70"/>
                  </a:lnTo>
                  <a:lnTo>
                    <a:pt x="67" y="69"/>
                  </a:lnTo>
                  <a:lnTo>
                    <a:pt x="76" y="69"/>
                  </a:lnTo>
                  <a:lnTo>
                    <a:pt x="84" y="67"/>
                  </a:lnTo>
                  <a:lnTo>
                    <a:pt x="93" y="65"/>
                  </a:lnTo>
                  <a:lnTo>
                    <a:pt x="101" y="63"/>
                  </a:lnTo>
                  <a:lnTo>
                    <a:pt x="109" y="61"/>
                  </a:lnTo>
                  <a:lnTo>
                    <a:pt x="118" y="59"/>
                  </a:lnTo>
                  <a:lnTo>
                    <a:pt x="126" y="57"/>
                  </a:lnTo>
                  <a:lnTo>
                    <a:pt x="133" y="55"/>
                  </a:lnTo>
                  <a:lnTo>
                    <a:pt x="141" y="51"/>
                  </a:lnTo>
                  <a:lnTo>
                    <a:pt x="148" y="50"/>
                  </a:lnTo>
                  <a:lnTo>
                    <a:pt x="158" y="48"/>
                  </a:lnTo>
                  <a:lnTo>
                    <a:pt x="166" y="44"/>
                  </a:lnTo>
                  <a:lnTo>
                    <a:pt x="173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8" y="32"/>
                  </a:lnTo>
                  <a:lnTo>
                    <a:pt x="205" y="29"/>
                  </a:lnTo>
                  <a:lnTo>
                    <a:pt x="213" y="25"/>
                  </a:lnTo>
                  <a:lnTo>
                    <a:pt x="221" y="21"/>
                  </a:lnTo>
                  <a:lnTo>
                    <a:pt x="230" y="17"/>
                  </a:lnTo>
                  <a:lnTo>
                    <a:pt x="238" y="13"/>
                  </a:lnTo>
                  <a:lnTo>
                    <a:pt x="245" y="10"/>
                  </a:lnTo>
                  <a:lnTo>
                    <a:pt x="253" y="6"/>
                  </a:lnTo>
                  <a:lnTo>
                    <a:pt x="26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956640" y="4176720"/>
              <a:ext cx="515880" cy="509400"/>
            </a:xfrm>
            <a:custGeom>
              <a:avLst/>
              <a:gdLst/>
              <a:ahLst/>
              <a:rect l="l" t="t" r="r" b="b"/>
              <a:pathLst>
                <a:path w="586" h="585">
                  <a:moveTo>
                    <a:pt x="392" y="563"/>
                  </a:moveTo>
                  <a:lnTo>
                    <a:pt x="418" y="547"/>
                  </a:lnTo>
                  <a:lnTo>
                    <a:pt x="445" y="534"/>
                  </a:lnTo>
                  <a:lnTo>
                    <a:pt x="468" y="515"/>
                  </a:lnTo>
                  <a:lnTo>
                    <a:pt x="490" y="496"/>
                  </a:lnTo>
                  <a:lnTo>
                    <a:pt x="509" y="475"/>
                  </a:lnTo>
                  <a:lnTo>
                    <a:pt x="528" y="452"/>
                  </a:lnTo>
                  <a:lnTo>
                    <a:pt x="544" y="428"/>
                  </a:lnTo>
                  <a:lnTo>
                    <a:pt x="557" y="403"/>
                  </a:lnTo>
                  <a:lnTo>
                    <a:pt x="568" y="374"/>
                  </a:lnTo>
                  <a:lnTo>
                    <a:pt x="576" y="350"/>
                  </a:lnTo>
                  <a:lnTo>
                    <a:pt x="582" y="319"/>
                  </a:lnTo>
                  <a:lnTo>
                    <a:pt x="586" y="291"/>
                  </a:lnTo>
                  <a:lnTo>
                    <a:pt x="586" y="264"/>
                  </a:lnTo>
                  <a:lnTo>
                    <a:pt x="584" y="236"/>
                  </a:lnTo>
                  <a:lnTo>
                    <a:pt x="580" y="205"/>
                  </a:lnTo>
                  <a:lnTo>
                    <a:pt x="570" y="179"/>
                  </a:lnTo>
                  <a:lnTo>
                    <a:pt x="559" y="152"/>
                  </a:lnTo>
                  <a:lnTo>
                    <a:pt x="546" y="127"/>
                  </a:lnTo>
                  <a:lnTo>
                    <a:pt x="528" y="103"/>
                  </a:lnTo>
                  <a:lnTo>
                    <a:pt x="509" y="82"/>
                  </a:lnTo>
                  <a:lnTo>
                    <a:pt x="490" y="63"/>
                  </a:lnTo>
                  <a:lnTo>
                    <a:pt x="470" y="47"/>
                  </a:lnTo>
                  <a:lnTo>
                    <a:pt x="445" y="34"/>
                  </a:lnTo>
                  <a:lnTo>
                    <a:pt x="420" y="23"/>
                  </a:lnTo>
                  <a:lnTo>
                    <a:pt x="394" y="11"/>
                  </a:lnTo>
                  <a:lnTo>
                    <a:pt x="367" y="6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83" y="0"/>
                  </a:lnTo>
                  <a:lnTo>
                    <a:pt x="255" y="4"/>
                  </a:lnTo>
                  <a:lnTo>
                    <a:pt x="226" y="11"/>
                  </a:lnTo>
                  <a:lnTo>
                    <a:pt x="196" y="23"/>
                  </a:lnTo>
                  <a:lnTo>
                    <a:pt x="167" y="34"/>
                  </a:lnTo>
                  <a:lnTo>
                    <a:pt x="143" y="49"/>
                  </a:lnTo>
                  <a:lnTo>
                    <a:pt x="120" y="68"/>
                  </a:lnTo>
                  <a:lnTo>
                    <a:pt x="97" y="87"/>
                  </a:lnTo>
                  <a:lnTo>
                    <a:pt x="76" y="108"/>
                  </a:lnTo>
                  <a:lnTo>
                    <a:pt x="59" y="131"/>
                  </a:lnTo>
                  <a:lnTo>
                    <a:pt x="42" y="156"/>
                  </a:lnTo>
                  <a:lnTo>
                    <a:pt x="29" y="181"/>
                  </a:lnTo>
                  <a:lnTo>
                    <a:pt x="17" y="207"/>
                  </a:lnTo>
                  <a:lnTo>
                    <a:pt x="9" y="238"/>
                  </a:lnTo>
                  <a:lnTo>
                    <a:pt x="4" y="262"/>
                  </a:lnTo>
                  <a:lnTo>
                    <a:pt x="2" y="293"/>
                  </a:lnTo>
                  <a:lnTo>
                    <a:pt x="0" y="319"/>
                  </a:lnTo>
                  <a:lnTo>
                    <a:pt x="2" y="350"/>
                  </a:lnTo>
                  <a:lnTo>
                    <a:pt x="9" y="378"/>
                  </a:lnTo>
                  <a:lnTo>
                    <a:pt x="15" y="405"/>
                  </a:lnTo>
                  <a:lnTo>
                    <a:pt x="29" y="431"/>
                  </a:lnTo>
                  <a:lnTo>
                    <a:pt x="42" y="458"/>
                  </a:lnTo>
                  <a:lnTo>
                    <a:pt x="57" y="481"/>
                  </a:lnTo>
                  <a:lnTo>
                    <a:pt x="76" y="500"/>
                  </a:lnTo>
                  <a:lnTo>
                    <a:pt x="97" y="519"/>
                  </a:lnTo>
                  <a:lnTo>
                    <a:pt x="118" y="538"/>
                  </a:lnTo>
                  <a:lnTo>
                    <a:pt x="141" y="551"/>
                  </a:lnTo>
                  <a:lnTo>
                    <a:pt x="167" y="563"/>
                  </a:lnTo>
                  <a:lnTo>
                    <a:pt x="192" y="572"/>
                  </a:lnTo>
                  <a:lnTo>
                    <a:pt x="219" y="580"/>
                  </a:lnTo>
                  <a:lnTo>
                    <a:pt x="247" y="584"/>
                  </a:lnTo>
                  <a:lnTo>
                    <a:pt x="276" y="585"/>
                  </a:lnTo>
                  <a:lnTo>
                    <a:pt x="304" y="584"/>
                  </a:lnTo>
                  <a:lnTo>
                    <a:pt x="333" y="580"/>
                  </a:lnTo>
                  <a:lnTo>
                    <a:pt x="363" y="572"/>
                  </a:lnTo>
                  <a:lnTo>
                    <a:pt x="392" y="56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7092360" y="4329720"/>
              <a:ext cx="45720" cy="78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11" y="89"/>
                  </a:moveTo>
                  <a:lnTo>
                    <a:pt x="21" y="89"/>
                  </a:lnTo>
                  <a:lnTo>
                    <a:pt x="40" y="68"/>
                  </a:lnTo>
                  <a:lnTo>
                    <a:pt x="48" y="51"/>
                  </a:lnTo>
                  <a:lnTo>
                    <a:pt x="51" y="32"/>
                  </a:lnTo>
                  <a:lnTo>
                    <a:pt x="51" y="17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11" y="21"/>
                  </a:lnTo>
                  <a:lnTo>
                    <a:pt x="4" y="36"/>
                  </a:lnTo>
                  <a:lnTo>
                    <a:pt x="0" y="55"/>
                  </a:lnTo>
                  <a:lnTo>
                    <a:pt x="0" y="72"/>
                  </a:lnTo>
                  <a:lnTo>
                    <a:pt x="4" y="83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6842520" y="3380400"/>
              <a:ext cx="756360" cy="905760"/>
            </a:xfrm>
            <a:custGeom>
              <a:avLst/>
              <a:gdLst/>
              <a:ahLst/>
              <a:rect l="l" t="t" r="r" b="b"/>
              <a:pathLst>
                <a:path w="859" h="1041">
                  <a:moveTo>
                    <a:pt x="0" y="914"/>
                  </a:moveTo>
                  <a:lnTo>
                    <a:pt x="30" y="895"/>
                  </a:lnTo>
                  <a:lnTo>
                    <a:pt x="61" y="874"/>
                  </a:lnTo>
                  <a:lnTo>
                    <a:pt x="89" y="853"/>
                  </a:lnTo>
                  <a:lnTo>
                    <a:pt x="120" y="832"/>
                  </a:lnTo>
                  <a:lnTo>
                    <a:pt x="146" y="810"/>
                  </a:lnTo>
                  <a:lnTo>
                    <a:pt x="175" y="785"/>
                  </a:lnTo>
                  <a:lnTo>
                    <a:pt x="203" y="762"/>
                  </a:lnTo>
                  <a:lnTo>
                    <a:pt x="232" y="737"/>
                  </a:lnTo>
                  <a:lnTo>
                    <a:pt x="258" y="714"/>
                  </a:lnTo>
                  <a:lnTo>
                    <a:pt x="285" y="688"/>
                  </a:lnTo>
                  <a:lnTo>
                    <a:pt x="312" y="663"/>
                  </a:lnTo>
                  <a:lnTo>
                    <a:pt x="338" y="635"/>
                  </a:lnTo>
                  <a:lnTo>
                    <a:pt x="363" y="608"/>
                  </a:lnTo>
                  <a:lnTo>
                    <a:pt x="390" y="580"/>
                  </a:lnTo>
                  <a:lnTo>
                    <a:pt x="414" y="553"/>
                  </a:lnTo>
                  <a:lnTo>
                    <a:pt x="441" y="522"/>
                  </a:lnTo>
                  <a:lnTo>
                    <a:pt x="466" y="494"/>
                  </a:lnTo>
                  <a:lnTo>
                    <a:pt x="490" y="464"/>
                  </a:lnTo>
                  <a:lnTo>
                    <a:pt x="515" y="435"/>
                  </a:lnTo>
                  <a:lnTo>
                    <a:pt x="538" y="403"/>
                  </a:lnTo>
                  <a:lnTo>
                    <a:pt x="561" y="372"/>
                  </a:lnTo>
                  <a:lnTo>
                    <a:pt x="583" y="342"/>
                  </a:lnTo>
                  <a:lnTo>
                    <a:pt x="608" y="308"/>
                  </a:lnTo>
                  <a:lnTo>
                    <a:pt x="631" y="277"/>
                  </a:lnTo>
                  <a:lnTo>
                    <a:pt x="652" y="245"/>
                  </a:lnTo>
                  <a:lnTo>
                    <a:pt x="675" y="209"/>
                  </a:lnTo>
                  <a:lnTo>
                    <a:pt x="698" y="177"/>
                  </a:lnTo>
                  <a:lnTo>
                    <a:pt x="720" y="142"/>
                  </a:lnTo>
                  <a:lnTo>
                    <a:pt x="739" y="108"/>
                  </a:lnTo>
                  <a:lnTo>
                    <a:pt x="762" y="72"/>
                  </a:lnTo>
                  <a:lnTo>
                    <a:pt x="783" y="38"/>
                  </a:lnTo>
                  <a:lnTo>
                    <a:pt x="804" y="0"/>
                  </a:lnTo>
                  <a:lnTo>
                    <a:pt x="859" y="26"/>
                  </a:lnTo>
                  <a:lnTo>
                    <a:pt x="832" y="91"/>
                  </a:lnTo>
                  <a:lnTo>
                    <a:pt x="821" y="123"/>
                  </a:lnTo>
                  <a:lnTo>
                    <a:pt x="810" y="152"/>
                  </a:lnTo>
                  <a:lnTo>
                    <a:pt x="796" y="184"/>
                  </a:lnTo>
                  <a:lnTo>
                    <a:pt x="785" y="216"/>
                  </a:lnTo>
                  <a:lnTo>
                    <a:pt x="774" y="247"/>
                  </a:lnTo>
                  <a:lnTo>
                    <a:pt x="762" y="277"/>
                  </a:lnTo>
                  <a:lnTo>
                    <a:pt x="751" y="312"/>
                  </a:lnTo>
                  <a:lnTo>
                    <a:pt x="737" y="342"/>
                  </a:lnTo>
                  <a:lnTo>
                    <a:pt x="726" y="372"/>
                  </a:lnTo>
                  <a:lnTo>
                    <a:pt x="717" y="403"/>
                  </a:lnTo>
                  <a:lnTo>
                    <a:pt x="705" y="435"/>
                  </a:lnTo>
                  <a:lnTo>
                    <a:pt x="696" y="464"/>
                  </a:lnTo>
                  <a:lnTo>
                    <a:pt x="684" y="494"/>
                  </a:lnTo>
                  <a:lnTo>
                    <a:pt x="675" y="524"/>
                  </a:lnTo>
                  <a:lnTo>
                    <a:pt x="661" y="557"/>
                  </a:lnTo>
                  <a:lnTo>
                    <a:pt x="652" y="587"/>
                  </a:lnTo>
                  <a:lnTo>
                    <a:pt x="642" y="618"/>
                  </a:lnTo>
                  <a:lnTo>
                    <a:pt x="633" y="650"/>
                  </a:lnTo>
                  <a:lnTo>
                    <a:pt x="621" y="680"/>
                  </a:lnTo>
                  <a:lnTo>
                    <a:pt x="612" y="711"/>
                  </a:lnTo>
                  <a:lnTo>
                    <a:pt x="604" y="741"/>
                  </a:lnTo>
                  <a:lnTo>
                    <a:pt x="595" y="772"/>
                  </a:lnTo>
                  <a:lnTo>
                    <a:pt x="585" y="804"/>
                  </a:lnTo>
                  <a:lnTo>
                    <a:pt x="578" y="834"/>
                  </a:lnTo>
                  <a:lnTo>
                    <a:pt x="568" y="867"/>
                  </a:lnTo>
                  <a:lnTo>
                    <a:pt x="561" y="899"/>
                  </a:lnTo>
                  <a:lnTo>
                    <a:pt x="551" y="927"/>
                  </a:lnTo>
                  <a:lnTo>
                    <a:pt x="544" y="960"/>
                  </a:lnTo>
                  <a:lnTo>
                    <a:pt x="536" y="992"/>
                  </a:lnTo>
                  <a:lnTo>
                    <a:pt x="528" y="1024"/>
                  </a:lnTo>
                  <a:lnTo>
                    <a:pt x="506" y="1041"/>
                  </a:lnTo>
                  <a:lnTo>
                    <a:pt x="464" y="1024"/>
                  </a:lnTo>
                  <a:lnTo>
                    <a:pt x="473" y="975"/>
                  </a:lnTo>
                  <a:lnTo>
                    <a:pt x="485" y="925"/>
                  </a:lnTo>
                  <a:lnTo>
                    <a:pt x="494" y="878"/>
                  </a:lnTo>
                  <a:lnTo>
                    <a:pt x="507" y="832"/>
                  </a:lnTo>
                  <a:lnTo>
                    <a:pt x="519" y="783"/>
                  </a:lnTo>
                  <a:lnTo>
                    <a:pt x="532" y="737"/>
                  </a:lnTo>
                  <a:lnTo>
                    <a:pt x="545" y="690"/>
                  </a:lnTo>
                  <a:lnTo>
                    <a:pt x="561" y="642"/>
                  </a:lnTo>
                  <a:lnTo>
                    <a:pt x="574" y="595"/>
                  </a:lnTo>
                  <a:lnTo>
                    <a:pt x="589" y="547"/>
                  </a:lnTo>
                  <a:lnTo>
                    <a:pt x="604" y="502"/>
                  </a:lnTo>
                  <a:lnTo>
                    <a:pt x="623" y="454"/>
                  </a:lnTo>
                  <a:lnTo>
                    <a:pt x="640" y="407"/>
                  </a:lnTo>
                  <a:lnTo>
                    <a:pt x="661" y="359"/>
                  </a:lnTo>
                  <a:lnTo>
                    <a:pt x="682" y="312"/>
                  </a:lnTo>
                  <a:lnTo>
                    <a:pt x="705" y="262"/>
                  </a:lnTo>
                  <a:lnTo>
                    <a:pt x="669" y="321"/>
                  </a:lnTo>
                  <a:lnTo>
                    <a:pt x="633" y="378"/>
                  </a:lnTo>
                  <a:lnTo>
                    <a:pt x="597" y="429"/>
                  </a:lnTo>
                  <a:lnTo>
                    <a:pt x="559" y="481"/>
                  </a:lnTo>
                  <a:lnTo>
                    <a:pt x="519" y="528"/>
                  </a:lnTo>
                  <a:lnTo>
                    <a:pt x="481" y="574"/>
                  </a:lnTo>
                  <a:lnTo>
                    <a:pt x="439" y="618"/>
                  </a:lnTo>
                  <a:lnTo>
                    <a:pt x="397" y="659"/>
                  </a:lnTo>
                  <a:lnTo>
                    <a:pt x="353" y="701"/>
                  </a:lnTo>
                  <a:lnTo>
                    <a:pt x="310" y="739"/>
                  </a:lnTo>
                  <a:lnTo>
                    <a:pt x="266" y="779"/>
                  </a:lnTo>
                  <a:lnTo>
                    <a:pt x="220" y="817"/>
                  </a:lnTo>
                  <a:lnTo>
                    <a:pt x="175" y="855"/>
                  </a:lnTo>
                  <a:lnTo>
                    <a:pt x="129" y="895"/>
                  </a:lnTo>
                  <a:lnTo>
                    <a:pt x="82" y="933"/>
                  </a:lnTo>
                  <a:lnTo>
                    <a:pt x="34" y="973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028a0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6400800" y="4062240"/>
              <a:ext cx="545400" cy="510840"/>
            </a:xfrm>
            <a:custGeom>
              <a:avLst/>
              <a:gdLst/>
              <a:ahLst/>
              <a:rect l="l" t="t" r="r" b="b"/>
              <a:pathLst>
                <a:path w="620" h="587">
                  <a:moveTo>
                    <a:pt x="412" y="564"/>
                  </a:moveTo>
                  <a:lnTo>
                    <a:pt x="441" y="551"/>
                  </a:lnTo>
                  <a:lnTo>
                    <a:pt x="469" y="536"/>
                  </a:lnTo>
                  <a:lnTo>
                    <a:pt x="494" y="517"/>
                  </a:lnTo>
                  <a:lnTo>
                    <a:pt x="517" y="500"/>
                  </a:lnTo>
                  <a:lnTo>
                    <a:pt x="538" y="477"/>
                  </a:lnTo>
                  <a:lnTo>
                    <a:pt x="557" y="454"/>
                  </a:lnTo>
                  <a:lnTo>
                    <a:pt x="574" y="431"/>
                  </a:lnTo>
                  <a:lnTo>
                    <a:pt x="589" y="405"/>
                  </a:lnTo>
                  <a:lnTo>
                    <a:pt x="601" y="376"/>
                  </a:lnTo>
                  <a:lnTo>
                    <a:pt x="608" y="350"/>
                  </a:lnTo>
                  <a:lnTo>
                    <a:pt x="616" y="321"/>
                  </a:lnTo>
                  <a:lnTo>
                    <a:pt x="620" y="293"/>
                  </a:lnTo>
                  <a:lnTo>
                    <a:pt x="620" y="266"/>
                  </a:lnTo>
                  <a:lnTo>
                    <a:pt x="618" y="236"/>
                  </a:lnTo>
                  <a:lnTo>
                    <a:pt x="612" y="209"/>
                  </a:lnTo>
                  <a:lnTo>
                    <a:pt x="603" y="180"/>
                  </a:lnTo>
                  <a:lnTo>
                    <a:pt x="591" y="152"/>
                  </a:lnTo>
                  <a:lnTo>
                    <a:pt x="576" y="129"/>
                  </a:lnTo>
                  <a:lnTo>
                    <a:pt x="559" y="106"/>
                  </a:lnTo>
                  <a:lnTo>
                    <a:pt x="540" y="84"/>
                  </a:lnTo>
                  <a:lnTo>
                    <a:pt x="517" y="65"/>
                  </a:lnTo>
                  <a:lnTo>
                    <a:pt x="494" y="51"/>
                  </a:lnTo>
                  <a:lnTo>
                    <a:pt x="471" y="34"/>
                  </a:lnTo>
                  <a:lnTo>
                    <a:pt x="445" y="23"/>
                  </a:lnTo>
                  <a:lnTo>
                    <a:pt x="416" y="13"/>
                  </a:lnTo>
                  <a:lnTo>
                    <a:pt x="388" y="8"/>
                  </a:lnTo>
                  <a:lnTo>
                    <a:pt x="359" y="2"/>
                  </a:lnTo>
                  <a:lnTo>
                    <a:pt x="329" y="0"/>
                  </a:lnTo>
                  <a:lnTo>
                    <a:pt x="298" y="2"/>
                  </a:lnTo>
                  <a:lnTo>
                    <a:pt x="268" y="6"/>
                  </a:lnTo>
                  <a:lnTo>
                    <a:pt x="238" y="13"/>
                  </a:lnTo>
                  <a:lnTo>
                    <a:pt x="207" y="23"/>
                  </a:lnTo>
                  <a:lnTo>
                    <a:pt x="179" y="36"/>
                  </a:lnTo>
                  <a:lnTo>
                    <a:pt x="150" y="51"/>
                  </a:lnTo>
                  <a:lnTo>
                    <a:pt x="125" y="70"/>
                  </a:lnTo>
                  <a:lnTo>
                    <a:pt x="103" y="89"/>
                  </a:lnTo>
                  <a:lnTo>
                    <a:pt x="80" y="110"/>
                  </a:lnTo>
                  <a:lnTo>
                    <a:pt x="61" y="133"/>
                  </a:lnTo>
                  <a:lnTo>
                    <a:pt x="46" y="158"/>
                  </a:lnTo>
                  <a:lnTo>
                    <a:pt x="30" y="184"/>
                  </a:lnTo>
                  <a:lnTo>
                    <a:pt x="19" y="209"/>
                  </a:lnTo>
                  <a:lnTo>
                    <a:pt x="9" y="238"/>
                  </a:lnTo>
                  <a:lnTo>
                    <a:pt x="4" y="264"/>
                  </a:lnTo>
                  <a:lnTo>
                    <a:pt x="2" y="295"/>
                  </a:lnTo>
                  <a:lnTo>
                    <a:pt x="0" y="323"/>
                  </a:lnTo>
                  <a:lnTo>
                    <a:pt x="4" y="350"/>
                  </a:lnTo>
                  <a:lnTo>
                    <a:pt x="8" y="380"/>
                  </a:lnTo>
                  <a:lnTo>
                    <a:pt x="15" y="407"/>
                  </a:lnTo>
                  <a:lnTo>
                    <a:pt x="28" y="433"/>
                  </a:lnTo>
                  <a:lnTo>
                    <a:pt x="44" y="460"/>
                  </a:lnTo>
                  <a:lnTo>
                    <a:pt x="61" y="483"/>
                  </a:lnTo>
                  <a:lnTo>
                    <a:pt x="80" y="504"/>
                  </a:lnTo>
                  <a:lnTo>
                    <a:pt x="103" y="521"/>
                  </a:lnTo>
                  <a:lnTo>
                    <a:pt x="123" y="538"/>
                  </a:lnTo>
                  <a:lnTo>
                    <a:pt x="148" y="553"/>
                  </a:lnTo>
                  <a:lnTo>
                    <a:pt x="175" y="564"/>
                  </a:lnTo>
                  <a:lnTo>
                    <a:pt x="203" y="574"/>
                  </a:lnTo>
                  <a:lnTo>
                    <a:pt x="232" y="580"/>
                  </a:lnTo>
                  <a:lnTo>
                    <a:pt x="260" y="585"/>
                  </a:lnTo>
                  <a:lnTo>
                    <a:pt x="293" y="587"/>
                  </a:lnTo>
                  <a:lnTo>
                    <a:pt x="319" y="585"/>
                  </a:lnTo>
                  <a:lnTo>
                    <a:pt x="352" y="580"/>
                  </a:lnTo>
                  <a:lnTo>
                    <a:pt x="382" y="574"/>
                  </a:lnTo>
                  <a:lnTo>
                    <a:pt x="412" y="56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521840" y="2932200"/>
              <a:ext cx="432720" cy="549000"/>
            </a:xfrm>
            <a:custGeom>
              <a:avLst/>
              <a:gdLst/>
              <a:ahLst/>
              <a:rect l="l" t="t" r="r" b="b"/>
              <a:pathLst>
                <a:path w="492" h="633">
                  <a:moveTo>
                    <a:pt x="492" y="186"/>
                  </a:moveTo>
                  <a:lnTo>
                    <a:pt x="484" y="199"/>
                  </a:lnTo>
                  <a:lnTo>
                    <a:pt x="477" y="213"/>
                  </a:lnTo>
                  <a:lnTo>
                    <a:pt x="465" y="241"/>
                  </a:lnTo>
                  <a:lnTo>
                    <a:pt x="454" y="268"/>
                  </a:lnTo>
                  <a:lnTo>
                    <a:pt x="445" y="298"/>
                  </a:lnTo>
                  <a:lnTo>
                    <a:pt x="437" y="329"/>
                  </a:lnTo>
                  <a:lnTo>
                    <a:pt x="429" y="359"/>
                  </a:lnTo>
                  <a:lnTo>
                    <a:pt x="422" y="389"/>
                  </a:lnTo>
                  <a:lnTo>
                    <a:pt x="414" y="420"/>
                  </a:lnTo>
                  <a:lnTo>
                    <a:pt x="405" y="448"/>
                  </a:lnTo>
                  <a:lnTo>
                    <a:pt x="395" y="475"/>
                  </a:lnTo>
                  <a:lnTo>
                    <a:pt x="384" y="503"/>
                  </a:lnTo>
                  <a:lnTo>
                    <a:pt x="370" y="528"/>
                  </a:lnTo>
                  <a:lnTo>
                    <a:pt x="355" y="551"/>
                  </a:lnTo>
                  <a:lnTo>
                    <a:pt x="336" y="572"/>
                  </a:lnTo>
                  <a:lnTo>
                    <a:pt x="313" y="591"/>
                  </a:lnTo>
                  <a:lnTo>
                    <a:pt x="287" y="608"/>
                  </a:lnTo>
                  <a:lnTo>
                    <a:pt x="275" y="614"/>
                  </a:lnTo>
                  <a:lnTo>
                    <a:pt x="266" y="619"/>
                  </a:lnTo>
                  <a:lnTo>
                    <a:pt x="243" y="627"/>
                  </a:lnTo>
                  <a:lnTo>
                    <a:pt x="226" y="631"/>
                  </a:lnTo>
                  <a:lnTo>
                    <a:pt x="207" y="633"/>
                  </a:lnTo>
                  <a:lnTo>
                    <a:pt x="192" y="633"/>
                  </a:lnTo>
                  <a:lnTo>
                    <a:pt x="176" y="631"/>
                  </a:lnTo>
                  <a:lnTo>
                    <a:pt x="163" y="629"/>
                  </a:lnTo>
                  <a:lnTo>
                    <a:pt x="148" y="623"/>
                  </a:lnTo>
                  <a:lnTo>
                    <a:pt x="135" y="619"/>
                  </a:lnTo>
                  <a:lnTo>
                    <a:pt x="121" y="614"/>
                  </a:lnTo>
                  <a:lnTo>
                    <a:pt x="106" y="608"/>
                  </a:lnTo>
                  <a:lnTo>
                    <a:pt x="91" y="604"/>
                  </a:lnTo>
                  <a:lnTo>
                    <a:pt x="76" y="600"/>
                  </a:lnTo>
                  <a:lnTo>
                    <a:pt x="60" y="597"/>
                  </a:lnTo>
                  <a:lnTo>
                    <a:pt x="41" y="597"/>
                  </a:lnTo>
                  <a:lnTo>
                    <a:pt x="22" y="597"/>
                  </a:lnTo>
                  <a:lnTo>
                    <a:pt x="22" y="578"/>
                  </a:lnTo>
                  <a:lnTo>
                    <a:pt x="9" y="536"/>
                  </a:lnTo>
                  <a:lnTo>
                    <a:pt x="3" y="519"/>
                  </a:lnTo>
                  <a:lnTo>
                    <a:pt x="0" y="498"/>
                  </a:lnTo>
                  <a:lnTo>
                    <a:pt x="2" y="488"/>
                  </a:lnTo>
                  <a:lnTo>
                    <a:pt x="2" y="475"/>
                  </a:lnTo>
                  <a:lnTo>
                    <a:pt x="5" y="462"/>
                  </a:lnTo>
                  <a:lnTo>
                    <a:pt x="9" y="446"/>
                  </a:lnTo>
                  <a:lnTo>
                    <a:pt x="17" y="427"/>
                  </a:lnTo>
                  <a:lnTo>
                    <a:pt x="24" y="414"/>
                  </a:lnTo>
                  <a:lnTo>
                    <a:pt x="34" y="403"/>
                  </a:lnTo>
                  <a:lnTo>
                    <a:pt x="41" y="393"/>
                  </a:lnTo>
                  <a:lnTo>
                    <a:pt x="53" y="382"/>
                  </a:lnTo>
                  <a:lnTo>
                    <a:pt x="64" y="374"/>
                  </a:lnTo>
                  <a:lnTo>
                    <a:pt x="76" y="367"/>
                  </a:lnTo>
                  <a:lnTo>
                    <a:pt x="87" y="357"/>
                  </a:lnTo>
                  <a:lnTo>
                    <a:pt x="99" y="351"/>
                  </a:lnTo>
                  <a:lnTo>
                    <a:pt x="110" y="342"/>
                  </a:lnTo>
                  <a:lnTo>
                    <a:pt x="121" y="334"/>
                  </a:lnTo>
                  <a:lnTo>
                    <a:pt x="133" y="325"/>
                  </a:lnTo>
                  <a:lnTo>
                    <a:pt x="152" y="304"/>
                  </a:lnTo>
                  <a:lnTo>
                    <a:pt x="159" y="292"/>
                  </a:lnTo>
                  <a:lnTo>
                    <a:pt x="167" y="277"/>
                  </a:lnTo>
                  <a:lnTo>
                    <a:pt x="173" y="262"/>
                  </a:lnTo>
                  <a:lnTo>
                    <a:pt x="173" y="253"/>
                  </a:lnTo>
                  <a:lnTo>
                    <a:pt x="178" y="228"/>
                  </a:lnTo>
                  <a:lnTo>
                    <a:pt x="176" y="211"/>
                  </a:lnTo>
                  <a:lnTo>
                    <a:pt x="175" y="196"/>
                  </a:lnTo>
                  <a:lnTo>
                    <a:pt x="173" y="177"/>
                  </a:lnTo>
                  <a:lnTo>
                    <a:pt x="169" y="161"/>
                  </a:lnTo>
                  <a:lnTo>
                    <a:pt x="165" y="144"/>
                  </a:lnTo>
                  <a:lnTo>
                    <a:pt x="161" y="127"/>
                  </a:lnTo>
                  <a:lnTo>
                    <a:pt x="157" y="112"/>
                  </a:lnTo>
                  <a:lnTo>
                    <a:pt x="156" y="97"/>
                  </a:lnTo>
                  <a:lnTo>
                    <a:pt x="154" y="80"/>
                  </a:lnTo>
                  <a:lnTo>
                    <a:pt x="152" y="62"/>
                  </a:lnTo>
                  <a:lnTo>
                    <a:pt x="154" y="47"/>
                  </a:lnTo>
                  <a:lnTo>
                    <a:pt x="156" y="32"/>
                  </a:lnTo>
                  <a:lnTo>
                    <a:pt x="161" y="15"/>
                  </a:lnTo>
                  <a:lnTo>
                    <a:pt x="169" y="0"/>
                  </a:lnTo>
                  <a:lnTo>
                    <a:pt x="173" y="9"/>
                  </a:lnTo>
                  <a:lnTo>
                    <a:pt x="190" y="38"/>
                  </a:lnTo>
                  <a:lnTo>
                    <a:pt x="201" y="59"/>
                  </a:lnTo>
                  <a:lnTo>
                    <a:pt x="213" y="76"/>
                  </a:lnTo>
                  <a:lnTo>
                    <a:pt x="226" y="95"/>
                  </a:lnTo>
                  <a:lnTo>
                    <a:pt x="239" y="112"/>
                  </a:lnTo>
                  <a:lnTo>
                    <a:pt x="253" y="131"/>
                  </a:lnTo>
                  <a:lnTo>
                    <a:pt x="266" y="152"/>
                  </a:lnTo>
                  <a:lnTo>
                    <a:pt x="277" y="169"/>
                  </a:lnTo>
                  <a:lnTo>
                    <a:pt x="287" y="190"/>
                  </a:lnTo>
                  <a:lnTo>
                    <a:pt x="296" y="211"/>
                  </a:lnTo>
                  <a:lnTo>
                    <a:pt x="306" y="230"/>
                  </a:lnTo>
                  <a:lnTo>
                    <a:pt x="311" y="253"/>
                  </a:lnTo>
                  <a:lnTo>
                    <a:pt x="315" y="277"/>
                  </a:lnTo>
                  <a:lnTo>
                    <a:pt x="317" y="302"/>
                  </a:lnTo>
                  <a:lnTo>
                    <a:pt x="317" y="327"/>
                  </a:lnTo>
                  <a:lnTo>
                    <a:pt x="319" y="319"/>
                  </a:lnTo>
                  <a:lnTo>
                    <a:pt x="332" y="294"/>
                  </a:lnTo>
                  <a:lnTo>
                    <a:pt x="342" y="279"/>
                  </a:lnTo>
                  <a:lnTo>
                    <a:pt x="351" y="266"/>
                  </a:lnTo>
                  <a:lnTo>
                    <a:pt x="361" y="253"/>
                  </a:lnTo>
                  <a:lnTo>
                    <a:pt x="370" y="243"/>
                  </a:lnTo>
                  <a:lnTo>
                    <a:pt x="382" y="234"/>
                  </a:lnTo>
                  <a:lnTo>
                    <a:pt x="393" y="224"/>
                  </a:lnTo>
                  <a:lnTo>
                    <a:pt x="405" y="216"/>
                  </a:lnTo>
                  <a:lnTo>
                    <a:pt x="416" y="211"/>
                  </a:lnTo>
                  <a:lnTo>
                    <a:pt x="427" y="203"/>
                  </a:lnTo>
                  <a:lnTo>
                    <a:pt x="441" y="197"/>
                  </a:lnTo>
                  <a:lnTo>
                    <a:pt x="452" y="196"/>
                  </a:lnTo>
                  <a:lnTo>
                    <a:pt x="465" y="190"/>
                  </a:lnTo>
                  <a:lnTo>
                    <a:pt x="477" y="188"/>
                  </a:lnTo>
                  <a:lnTo>
                    <a:pt x="492" y="186"/>
                  </a:lnTo>
                  <a:close/>
                </a:path>
              </a:pathLst>
            </a:custGeom>
            <a:solidFill>
              <a:srgbClr val="0065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541280" y="3210120"/>
              <a:ext cx="262080" cy="236520"/>
            </a:xfrm>
            <a:custGeom>
              <a:avLst/>
              <a:gdLst/>
              <a:ahLst/>
              <a:rect l="l" t="t" r="r" b="b"/>
              <a:pathLst>
                <a:path w="299" h="272">
                  <a:moveTo>
                    <a:pt x="299" y="0"/>
                  </a:moveTo>
                  <a:lnTo>
                    <a:pt x="282" y="40"/>
                  </a:lnTo>
                  <a:lnTo>
                    <a:pt x="261" y="72"/>
                  </a:lnTo>
                  <a:lnTo>
                    <a:pt x="240" y="97"/>
                  </a:lnTo>
                  <a:lnTo>
                    <a:pt x="217" y="120"/>
                  </a:lnTo>
                  <a:lnTo>
                    <a:pt x="194" y="137"/>
                  </a:lnTo>
                  <a:lnTo>
                    <a:pt x="170" y="152"/>
                  </a:lnTo>
                  <a:lnTo>
                    <a:pt x="145" y="163"/>
                  </a:lnTo>
                  <a:lnTo>
                    <a:pt x="122" y="175"/>
                  </a:lnTo>
                  <a:lnTo>
                    <a:pt x="101" y="182"/>
                  </a:lnTo>
                  <a:lnTo>
                    <a:pt x="78" y="192"/>
                  </a:lnTo>
                  <a:lnTo>
                    <a:pt x="61" y="200"/>
                  </a:lnTo>
                  <a:lnTo>
                    <a:pt x="44" y="211"/>
                  </a:lnTo>
                  <a:lnTo>
                    <a:pt x="29" y="220"/>
                  </a:lnTo>
                  <a:lnTo>
                    <a:pt x="16" y="234"/>
                  </a:lnTo>
                  <a:lnTo>
                    <a:pt x="0" y="2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580080" y="4190760"/>
              <a:ext cx="45360" cy="8172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14" y="93"/>
                  </a:moveTo>
                  <a:lnTo>
                    <a:pt x="23" y="91"/>
                  </a:lnTo>
                  <a:lnTo>
                    <a:pt x="42" y="71"/>
                  </a:lnTo>
                  <a:lnTo>
                    <a:pt x="50" y="55"/>
                  </a:lnTo>
                  <a:lnTo>
                    <a:pt x="54" y="34"/>
                  </a:lnTo>
                  <a:lnTo>
                    <a:pt x="54" y="19"/>
                  </a:lnTo>
                  <a:lnTo>
                    <a:pt x="50" y="8"/>
                  </a:lnTo>
                  <a:lnTo>
                    <a:pt x="33" y="0"/>
                  </a:lnTo>
                  <a:lnTo>
                    <a:pt x="23" y="10"/>
                  </a:lnTo>
                  <a:lnTo>
                    <a:pt x="14" y="21"/>
                  </a:lnTo>
                  <a:lnTo>
                    <a:pt x="4" y="38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4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572880" y="4251600"/>
              <a:ext cx="350280" cy="295200"/>
            </a:xfrm>
            <a:custGeom>
              <a:avLst/>
              <a:gdLst/>
              <a:ahLst/>
              <a:rect l="l" t="t" r="r" b="b"/>
              <a:pathLst>
                <a:path w="399" h="340">
                  <a:moveTo>
                    <a:pt x="0" y="319"/>
                  </a:moveTo>
                  <a:lnTo>
                    <a:pt x="32" y="330"/>
                  </a:lnTo>
                  <a:lnTo>
                    <a:pt x="68" y="338"/>
                  </a:lnTo>
                  <a:lnTo>
                    <a:pt x="104" y="340"/>
                  </a:lnTo>
                  <a:lnTo>
                    <a:pt x="140" y="338"/>
                  </a:lnTo>
                  <a:lnTo>
                    <a:pt x="177" y="330"/>
                  </a:lnTo>
                  <a:lnTo>
                    <a:pt x="211" y="319"/>
                  </a:lnTo>
                  <a:lnTo>
                    <a:pt x="241" y="306"/>
                  </a:lnTo>
                  <a:lnTo>
                    <a:pt x="270" y="287"/>
                  </a:lnTo>
                  <a:lnTo>
                    <a:pt x="294" y="266"/>
                  </a:lnTo>
                  <a:lnTo>
                    <a:pt x="319" y="241"/>
                  </a:lnTo>
                  <a:lnTo>
                    <a:pt x="344" y="210"/>
                  </a:lnTo>
                  <a:lnTo>
                    <a:pt x="367" y="176"/>
                  </a:lnTo>
                  <a:lnTo>
                    <a:pt x="384" y="140"/>
                  </a:lnTo>
                  <a:lnTo>
                    <a:pt x="395" y="96"/>
                  </a:lnTo>
                  <a:lnTo>
                    <a:pt x="399" y="51"/>
                  </a:lnTo>
                  <a:lnTo>
                    <a:pt x="39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057080" y="4383720"/>
              <a:ext cx="395640" cy="276120"/>
            </a:xfrm>
            <a:custGeom>
              <a:avLst/>
              <a:gdLst/>
              <a:ahLst/>
              <a:rect l="l" t="t" r="r" b="b"/>
              <a:pathLst>
                <a:path w="451" h="317">
                  <a:moveTo>
                    <a:pt x="0" y="254"/>
                  </a:moveTo>
                  <a:lnTo>
                    <a:pt x="27" y="281"/>
                  </a:lnTo>
                  <a:lnTo>
                    <a:pt x="59" y="300"/>
                  </a:lnTo>
                  <a:lnTo>
                    <a:pt x="99" y="311"/>
                  </a:lnTo>
                  <a:lnTo>
                    <a:pt x="141" y="317"/>
                  </a:lnTo>
                  <a:lnTo>
                    <a:pt x="185" y="317"/>
                  </a:lnTo>
                  <a:lnTo>
                    <a:pt x="226" y="313"/>
                  </a:lnTo>
                  <a:lnTo>
                    <a:pt x="264" y="304"/>
                  </a:lnTo>
                  <a:lnTo>
                    <a:pt x="297" y="292"/>
                  </a:lnTo>
                  <a:lnTo>
                    <a:pt x="323" y="271"/>
                  </a:lnTo>
                  <a:lnTo>
                    <a:pt x="356" y="243"/>
                  </a:lnTo>
                  <a:lnTo>
                    <a:pt x="384" y="207"/>
                  </a:lnTo>
                  <a:lnTo>
                    <a:pt x="413" y="169"/>
                  </a:lnTo>
                  <a:lnTo>
                    <a:pt x="434" y="127"/>
                  </a:lnTo>
                  <a:lnTo>
                    <a:pt x="447" y="83"/>
                  </a:lnTo>
                  <a:lnTo>
                    <a:pt x="451" y="39"/>
                  </a:lnTo>
                  <a:lnTo>
                    <a:pt x="44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7553160" y="3102480"/>
              <a:ext cx="383760" cy="340560"/>
            </a:xfrm>
            <a:custGeom>
              <a:avLst/>
              <a:gdLst/>
              <a:ahLst/>
              <a:rect l="l" t="t" r="r" b="b"/>
              <a:pathLst>
                <a:path w="435" h="391">
                  <a:moveTo>
                    <a:pt x="435" y="0"/>
                  </a:moveTo>
                  <a:lnTo>
                    <a:pt x="391" y="32"/>
                  </a:lnTo>
                  <a:lnTo>
                    <a:pt x="359" y="74"/>
                  </a:lnTo>
                  <a:lnTo>
                    <a:pt x="334" y="119"/>
                  </a:lnTo>
                  <a:lnTo>
                    <a:pt x="317" y="169"/>
                  </a:lnTo>
                  <a:lnTo>
                    <a:pt x="302" y="216"/>
                  </a:lnTo>
                  <a:lnTo>
                    <a:pt x="285" y="258"/>
                  </a:lnTo>
                  <a:lnTo>
                    <a:pt x="266" y="296"/>
                  </a:lnTo>
                  <a:lnTo>
                    <a:pt x="237" y="323"/>
                  </a:lnTo>
                  <a:lnTo>
                    <a:pt x="209" y="338"/>
                  </a:lnTo>
                  <a:lnTo>
                    <a:pt x="180" y="345"/>
                  </a:lnTo>
                  <a:lnTo>
                    <a:pt x="154" y="345"/>
                  </a:lnTo>
                  <a:lnTo>
                    <a:pt x="125" y="345"/>
                  </a:lnTo>
                  <a:lnTo>
                    <a:pt x="97" y="345"/>
                  </a:lnTo>
                  <a:lnTo>
                    <a:pt x="68" y="349"/>
                  </a:lnTo>
                  <a:lnTo>
                    <a:pt x="36" y="363"/>
                  </a:lnTo>
                  <a:lnTo>
                    <a:pt x="0" y="39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539120" y="2955960"/>
              <a:ext cx="182880" cy="457200"/>
            </a:xfrm>
            <a:custGeom>
              <a:avLst/>
              <a:gdLst/>
              <a:ahLst/>
              <a:rect l="l" t="t" r="r" b="b"/>
              <a:pathLst>
                <a:path w="207" h="527">
                  <a:moveTo>
                    <a:pt x="155" y="0"/>
                  </a:moveTo>
                  <a:lnTo>
                    <a:pt x="184" y="84"/>
                  </a:lnTo>
                  <a:lnTo>
                    <a:pt x="201" y="156"/>
                  </a:lnTo>
                  <a:lnTo>
                    <a:pt x="207" y="215"/>
                  </a:lnTo>
                  <a:lnTo>
                    <a:pt x="205" y="266"/>
                  </a:lnTo>
                  <a:lnTo>
                    <a:pt x="193" y="306"/>
                  </a:lnTo>
                  <a:lnTo>
                    <a:pt x="178" y="339"/>
                  </a:lnTo>
                  <a:lnTo>
                    <a:pt x="157" y="365"/>
                  </a:lnTo>
                  <a:lnTo>
                    <a:pt x="133" y="386"/>
                  </a:lnTo>
                  <a:lnTo>
                    <a:pt x="106" y="403"/>
                  </a:lnTo>
                  <a:lnTo>
                    <a:pt x="79" y="418"/>
                  </a:lnTo>
                  <a:lnTo>
                    <a:pt x="57" y="430"/>
                  </a:lnTo>
                  <a:lnTo>
                    <a:pt x="34" y="445"/>
                  </a:lnTo>
                  <a:lnTo>
                    <a:pt x="17" y="460"/>
                  </a:lnTo>
                  <a:lnTo>
                    <a:pt x="5" y="477"/>
                  </a:lnTo>
                  <a:lnTo>
                    <a:pt x="0" y="500"/>
                  </a:lnTo>
                  <a:lnTo>
                    <a:pt x="5" y="5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7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9" name="ABSTRAC5" descr=""/>
          <p:cNvPicPr/>
          <p:nvPr/>
        </p:nvPicPr>
        <p:blipFill>
          <a:blip r:embed="rId1"/>
          <a:stretch/>
        </p:blipFill>
        <p:spPr>
          <a:xfrm>
            <a:off x="1523880" y="2951280"/>
            <a:ext cx="1641600" cy="1717560"/>
          </a:xfrm>
          <a:prstGeom prst="rect">
            <a:avLst/>
          </a:prstGeom>
          <a:ln w="0">
            <a:noFill/>
          </a:ln>
        </p:spPr>
      </p:pic>
      <p:pic>
        <p:nvPicPr>
          <p:cNvPr id="3790" name="ABSTRACT" descr=""/>
          <p:cNvPicPr/>
          <p:nvPr/>
        </p:nvPicPr>
        <p:blipFill>
          <a:blip r:embed="rId2"/>
          <a:stretch/>
        </p:blipFill>
        <p:spPr>
          <a:xfrm>
            <a:off x="6324480" y="2981160"/>
            <a:ext cx="1641600" cy="1657440"/>
          </a:xfrm>
          <a:prstGeom prst="rect">
            <a:avLst/>
          </a:prstGeom>
          <a:ln w="0">
            <a:noFill/>
          </a:ln>
        </p:spPr>
      </p:pic>
      <p:sp>
        <p:nvSpPr>
          <p:cNvPr id="3791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3" name=""/>
          <p:cNvGrpSpPr/>
          <p:nvPr/>
        </p:nvGrpSpPr>
        <p:grpSpPr>
          <a:xfrm>
            <a:off x="914400" y="2824200"/>
            <a:ext cx="2666880" cy="1969920"/>
            <a:chOff x="914400" y="2824200"/>
            <a:chExt cx="2666880" cy="1969920"/>
          </a:xfrm>
        </p:grpSpPr>
        <p:sp>
          <p:nvSpPr>
            <p:cNvPr id="3794" name=""/>
            <p:cNvSpPr/>
            <p:nvPr/>
          </p:nvSpPr>
          <p:spPr>
            <a:xfrm>
              <a:off x="914400" y="2824200"/>
              <a:ext cx="2666880" cy="19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925560" y="2833560"/>
              <a:ext cx="2642400" cy="195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982800" y="2872440"/>
              <a:ext cx="2540520" cy="1883880"/>
            </a:xfrm>
            <a:custGeom>
              <a:avLst/>
              <a:gdLst/>
              <a:ahLst/>
              <a:rect l="l" t="t" r="r" b="b"/>
              <a:pathLst>
                <a:path w="3625" h="2728">
                  <a:moveTo>
                    <a:pt x="3625" y="2693"/>
                  </a:moveTo>
                  <a:lnTo>
                    <a:pt x="3611" y="1386"/>
                  </a:lnTo>
                  <a:lnTo>
                    <a:pt x="3612" y="862"/>
                  </a:lnTo>
                  <a:lnTo>
                    <a:pt x="3611" y="756"/>
                  </a:lnTo>
                  <a:lnTo>
                    <a:pt x="3605" y="397"/>
                  </a:lnTo>
                  <a:lnTo>
                    <a:pt x="3413" y="585"/>
                  </a:lnTo>
                  <a:lnTo>
                    <a:pt x="3405" y="672"/>
                  </a:lnTo>
                  <a:lnTo>
                    <a:pt x="3494" y="747"/>
                  </a:lnTo>
                  <a:lnTo>
                    <a:pt x="3535" y="833"/>
                  </a:lnTo>
                  <a:lnTo>
                    <a:pt x="3544" y="854"/>
                  </a:lnTo>
                  <a:lnTo>
                    <a:pt x="3498" y="922"/>
                  </a:lnTo>
                  <a:lnTo>
                    <a:pt x="3527" y="960"/>
                  </a:lnTo>
                  <a:lnTo>
                    <a:pt x="3537" y="979"/>
                  </a:lnTo>
                  <a:lnTo>
                    <a:pt x="3548" y="1058"/>
                  </a:lnTo>
                  <a:lnTo>
                    <a:pt x="3558" y="1096"/>
                  </a:lnTo>
                  <a:lnTo>
                    <a:pt x="3520" y="1163"/>
                  </a:lnTo>
                  <a:lnTo>
                    <a:pt x="3503" y="1176"/>
                  </a:lnTo>
                  <a:lnTo>
                    <a:pt x="3463" y="1176"/>
                  </a:lnTo>
                  <a:lnTo>
                    <a:pt x="3355" y="1099"/>
                  </a:lnTo>
                  <a:lnTo>
                    <a:pt x="3180" y="1102"/>
                  </a:lnTo>
                  <a:lnTo>
                    <a:pt x="3114" y="1123"/>
                  </a:lnTo>
                  <a:lnTo>
                    <a:pt x="2838" y="1496"/>
                  </a:lnTo>
                  <a:lnTo>
                    <a:pt x="2848" y="1517"/>
                  </a:lnTo>
                  <a:lnTo>
                    <a:pt x="2839" y="1563"/>
                  </a:lnTo>
                  <a:lnTo>
                    <a:pt x="2839" y="1603"/>
                  </a:lnTo>
                  <a:lnTo>
                    <a:pt x="3171" y="1151"/>
                  </a:lnTo>
                  <a:lnTo>
                    <a:pt x="3165" y="1181"/>
                  </a:lnTo>
                  <a:lnTo>
                    <a:pt x="3155" y="1209"/>
                  </a:lnTo>
                  <a:lnTo>
                    <a:pt x="3142" y="1237"/>
                  </a:lnTo>
                  <a:lnTo>
                    <a:pt x="3127" y="1266"/>
                  </a:lnTo>
                  <a:lnTo>
                    <a:pt x="3110" y="1294"/>
                  </a:lnTo>
                  <a:lnTo>
                    <a:pt x="3091" y="1322"/>
                  </a:lnTo>
                  <a:lnTo>
                    <a:pt x="3071" y="1350"/>
                  </a:lnTo>
                  <a:lnTo>
                    <a:pt x="3050" y="1379"/>
                  </a:lnTo>
                  <a:lnTo>
                    <a:pt x="3026" y="1407"/>
                  </a:lnTo>
                  <a:lnTo>
                    <a:pt x="3003" y="1437"/>
                  </a:lnTo>
                  <a:lnTo>
                    <a:pt x="2979" y="1466"/>
                  </a:lnTo>
                  <a:lnTo>
                    <a:pt x="2956" y="1496"/>
                  </a:lnTo>
                  <a:lnTo>
                    <a:pt x="2933" y="1526"/>
                  </a:lnTo>
                  <a:lnTo>
                    <a:pt x="2910" y="1557"/>
                  </a:lnTo>
                  <a:lnTo>
                    <a:pt x="2890" y="1589"/>
                  </a:lnTo>
                  <a:lnTo>
                    <a:pt x="2869" y="1622"/>
                  </a:lnTo>
                  <a:lnTo>
                    <a:pt x="2840" y="1650"/>
                  </a:lnTo>
                  <a:lnTo>
                    <a:pt x="2840" y="1669"/>
                  </a:lnTo>
                  <a:lnTo>
                    <a:pt x="2890" y="1668"/>
                  </a:lnTo>
                  <a:lnTo>
                    <a:pt x="2955" y="1572"/>
                  </a:lnTo>
                  <a:lnTo>
                    <a:pt x="2976" y="1551"/>
                  </a:lnTo>
                  <a:lnTo>
                    <a:pt x="3157" y="1336"/>
                  </a:lnTo>
                  <a:lnTo>
                    <a:pt x="2938" y="1659"/>
                  </a:lnTo>
                  <a:lnTo>
                    <a:pt x="3072" y="1646"/>
                  </a:lnTo>
                  <a:lnTo>
                    <a:pt x="3139" y="1578"/>
                  </a:lnTo>
                  <a:lnTo>
                    <a:pt x="3122" y="1635"/>
                  </a:lnTo>
                  <a:lnTo>
                    <a:pt x="3191" y="1683"/>
                  </a:lnTo>
                  <a:lnTo>
                    <a:pt x="3229" y="1682"/>
                  </a:lnTo>
                  <a:lnTo>
                    <a:pt x="3248" y="1672"/>
                  </a:lnTo>
                  <a:lnTo>
                    <a:pt x="3268" y="1662"/>
                  </a:lnTo>
                  <a:lnTo>
                    <a:pt x="3285" y="1586"/>
                  </a:lnTo>
                  <a:lnTo>
                    <a:pt x="3265" y="1528"/>
                  </a:lnTo>
                  <a:lnTo>
                    <a:pt x="3451" y="1534"/>
                  </a:lnTo>
                  <a:lnTo>
                    <a:pt x="3468" y="1524"/>
                  </a:lnTo>
                  <a:lnTo>
                    <a:pt x="3508" y="1483"/>
                  </a:lnTo>
                  <a:lnTo>
                    <a:pt x="3515" y="1435"/>
                  </a:lnTo>
                  <a:lnTo>
                    <a:pt x="3514" y="1366"/>
                  </a:lnTo>
                  <a:lnTo>
                    <a:pt x="3573" y="1406"/>
                  </a:lnTo>
                  <a:lnTo>
                    <a:pt x="3573" y="1454"/>
                  </a:lnTo>
                  <a:lnTo>
                    <a:pt x="3488" y="1582"/>
                  </a:lnTo>
                  <a:lnTo>
                    <a:pt x="3452" y="1600"/>
                  </a:lnTo>
                  <a:lnTo>
                    <a:pt x="3344" y="1614"/>
                  </a:lnTo>
                  <a:lnTo>
                    <a:pt x="3317" y="1710"/>
                  </a:lnTo>
                  <a:lnTo>
                    <a:pt x="3269" y="1711"/>
                  </a:lnTo>
                  <a:lnTo>
                    <a:pt x="3250" y="1748"/>
                  </a:lnTo>
                  <a:lnTo>
                    <a:pt x="3231" y="1759"/>
                  </a:lnTo>
                  <a:lnTo>
                    <a:pt x="3233" y="1904"/>
                  </a:lnTo>
                  <a:lnTo>
                    <a:pt x="3186" y="1993"/>
                  </a:lnTo>
                  <a:lnTo>
                    <a:pt x="3130" y="2034"/>
                  </a:lnTo>
                  <a:lnTo>
                    <a:pt x="3090" y="2034"/>
                  </a:lnTo>
                  <a:lnTo>
                    <a:pt x="3091" y="2168"/>
                  </a:lnTo>
                  <a:lnTo>
                    <a:pt x="3084" y="2365"/>
                  </a:lnTo>
                  <a:lnTo>
                    <a:pt x="2968" y="2366"/>
                  </a:lnTo>
                  <a:lnTo>
                    <a:pt x="2950" y="2375"/>
                  </a:lnTo>
                  <a:lnTo>
                    <a:pt x="2872" y="2377"/>
                  </a:lnTo>
                  <a:lnTo>
                    <a:pt x="2823" y="2377"/>
                  </a:lnTo>
                  <a:lnTo>
                    <a:pt x="1565" y="2439"/>
                  </a:lnTo>
                  <a:lnTo>
                    <a:pt x="1546" y="2457"/>
                  </a:lnTo>
                  <a:lnTo>
                    <a:pt x="1548" y="2496"/>
                  </a:lnTo>
                  <a:lnTo>
                    <a:pt x="1530" y="2564"/>
                  </a:lnTo>
                  <a:lnTo>
                    <a:pt x="1549" y="2564"/>
                  </a:lnTo>
                  <a:lnTo>
                    <a:pt x="1572" y="2557"/>
                  </a:lnTo>
                  <a:lnTo>
                    <a:pt x="1596" y="2551"/>
                  </a:lnTo>
                  <a:lnTo>
                    <a:pt x="1618" y="2546"/>
                  </a:lnTo>
                  <a:lnTo>
                    <a:pt x="1640" y="2542"/>
                  </a:lnTo>
                  <a:lnTo>
                    <a:pt x="1662" y="2540"/>
                  </a:lnTo>
                  <a:lnTo>
                    <a:pt x="1684" y="2538"/>
                  </a:lnTo>
                  <a:lnTo>
                    <a:pt x="1707" y="2537"/>
                  </a:lnTo>
                  <a:lnTo>
                    <a:pt x="1727" y="2538"/>
                  </a:lnTo>
                  <a:lnTo>
                    <a:pt x="1750" y="2540"/>
                  </a:lnTo>
                  <a:lnTo>
                    <a:pt x="1772" y="2542"/>
                  </a:lnTo>
                  <a:lnTo>
                    <a:pt x="1794" y="2546"/>
                  </a:lnTo>
                  <a:lnTo>
                    <a:pt x="1816" y="2551"/>
                  </a:lnTo>
                  <a:lnTo>
                    <a:pt x="1838" y="2556"/>
                  </a:lnTo>
                  <a:lnTo>
                    <a:pt x="1862" y="2563"/>
                  </a:lnTo>
                  <a:lnTo>
                    <a:pt x="1885" y="2569"/>
                  </a:lnTo>
                  <a:lnTo>
                    <a:pt x="1908" y="2578"/>
                  </a:lnTo>
                  <a:lnTo>
                    <a:pt x="1889" y="2636"/>
                  </a:lnTo>
                  <a:lnTo>
                    <a:pt x="1510" y="2585"/>
                  </a:lnTo>
                  <a:lnTo>
                    <a:pt x="1463" y="2624"/>
                  </a:lnTo>
                  <a:lnTo>
                    <a:pt x="1268" y="2607"/>
                  </a:lnTo>
                  <a:lnTo>
                    <a:pt x="1101" y="2457"/>
                  </a:lnTo>
                  <a:lnTo>
                    <a:pt x="1098" y="2312"/>
                  </a:lnTo>
                  <a:lnTo>
                    <a:pt x="760" y="2306"/>
                  </a:lnTo>
                  <a:lnTo>
                    <a:pt x="734" y="2530"/>
                  </a:lnTo>
                  <a:lnTo>
                    <a:pt x="823" y="2557"/>
                  </a:lnTo>
                  <a:lnTo>
                    <a:pt x="851" y="2548"/>
                  </a:lnTo>
                  <a:lnTo>
                    <a:pt x="888" y="2479"/>
                  </a:lnTo>
                  <a:lnTo>
                    <a:pt x="927" y="2478"/>
                  </a:lnTo>
                  <a:lnTo>
                    <a:pt x="946" y="2496"/>
                  </a:lnTo>
                  <a:lnTo>
                    <a:pt x="946" y="2517"/>
                  </a:lnTo>
                  <a:lnTo>
                    <a:pt x="889" y="2606"/>
                  </a:lnTo>
                  <a:lnTo>
                    <a:pt x="842" y="2615"/>
                  </a:lnTo>
                  <a:lnTo>
                    <a:pt x="686" y="2588"/>
                  </a:lnTo>
                  <a:lnTo>
                    <a:pt x="677" y="2560"/>
                  </a:lnTo>
                  <a:lnTo>
                    <a:pt x="701" y="2297"/>
                  </a:lnTo>
                  <a:lnTo>
                    <a:pt x="498" y="2292"/>
                  </a:lnTo>
                  <a:lnTo>
                    <a:pt x="391" y="2275"/>
                  </a:lnTo>
                  <a:lnTo>
                    <a:pt x="389" y="2245"/>
                  </a:lnTo>
                  <a:lnTo>
                    <a:pt x="700" y="2231"/>
                  </a:lnTo>
                  <a:lnTo>
                    <a:pt x="767" y="1675"/>
                  </a:lnTo>
                  <a:lnTo>
                    <a:pt x="729" y="1698"/>
                  </a:lnTo>
                  <a:lnTo>
                    <a:pt x="671" y="1757"/>
                  </a:lnTo>
                  <a:lnTo>
                    <a:pt x="642" y="1757"/>
                  </a:lnTo>
                  <a:lnTo>
                    <a:pt x="605" y="1787"/>
                  </a:lnTo>
                  <a:lnTo>
                    <a:pt x="569" y="1818"/>
                  </a:lnTo>
                  <a:lnTo>
                    <a:pt x="533" y="1848"/>
                  </a:lnTo>
                  <a:lnTo>
                    <a:pt x="499" y="1877"/>
                  </a:lnTo>
                  <a:lnTo>
                    <a:pt x="466" y="1907"/>
                  </a:lnTo>
                  <a:lnTo>
                    <a:pt x="432" y="1935"/>
                  </a:lnTo>
                  <a:lnTo>
                    <a:pt x="400" y="1965"/>
                  </a:lnTo>
                  <a:lnTo>
                    <a:pt x="368" y="1994"/>
                  </a:lnTo>
                  <a:lnTo>
                    <a:pt x="338" y="2025"/>
                  </a:lnTo>
                  <a:lnTo>
                    <a:pt x="307" y="2057"/>
                  </a:lnTo>
                  <a:lnTo>
                    <a:pt x="277" y="2089"/>
                  </a:lnTo>
                  <a:lnTo>
                    <a:pt x="249" y="2122"/>
                  </a:lnTo>
                  <a:lnTo>
                    <a:pt x="221" y="2157"/>
                  </a:lnTo>
                  <a:lnTo>
                    <a:pt x="192" y="2192"/>
                  </a:lnTo>
                  <a:lnTo>
                    <a:pt x="165" y="2231"/>
                  </a:lnTo>
                  <a:lnTo>
                    <a:pt x="138" y="2270"/>
                  </a:lnTo>
                  <a:lnTo>
                    <a:pt x="88" y="2260"/>
                  </a:lnTo>
                  <a:lnTo>
                    <a:pt x="127" y="1650"/>
                  </a:lnTo>
                  <a:lnTo>
                    <a:pt x="88" y="1631"/>
                  </a:lnTo>
                  <a:lnTo>
                    <a:pt x="133" y="1534"/>
                  </a:lnTo>
                  <a:lnTo>
                    <a:pt x="143" y="1476"/>
                  </a:lnTo>
                  <a:lnTo>
                    <a:pt x="142" y="1401"/>
                  </a:lnTo>
                  <a:lnTo>
                    <a:pt x="141" y="1325"/>
                  </a:lnTo>
                  <a:lnTo>
                    <a:pt x="139" y="1250"/>
                  </a:lnTo>
                  <a:lnTo>
                    <a:pt x="138" y="1174"/>
                  </a:lnTo>
                  <a:lnTo>
                    <a:pt x="62" y="1235"/>
                  </a:lnTo>
                  <a:lnTo>
                    <a:pt x="137" y="1107"/>
                  </a:lnTo>
                  <a:lnTo>
                    <a:pt x="125" y="1038"/>
                  </a:lnTo>
                  <a:lnTo>
                    <a:pt x="123" y="950"/>
                  </a:lnTo>
                  <a:lnTo>
                    <a:pt x="133" y="893"/>
                  </a:lnTo>
                  <a:lnTo>
                    <a:pt x="152" y="884"/>
                  </a:lnTo>
                  <a:lnTo>
                    <a:pt x="210" y="873"/>
                  </a:lnTo>
                  <a:lnTo>
                    <a:pt x="201" y="847"/>
                  </a:lnTo>
                  <a:lnTo>
                    <a:pt x="196" y="821"/>
                  </a:lnTo>
                  <a:lnTo>
                    <a:pt x="196" y="797"/>
                  </a:lnTo>
                  <a:lnTo>
                    <a:pt x="198" y="771"/>
                  </a:lnTo>
                  <a:lnTo>
                    <a:pt x="206" y="745"/>
                  </a:lnTo>
                  <a:lnTo>
                    <a:pt x="216" y="720"/>
                  </a:lnTo>
                  <a:lnTo>
                    <a:pt x="229" y="694"/>
                  </a:lnTo>
                  <a:lnTo>
                    <a:pt x="245" y="669"/>
                  </a:lnTo>
                  <a:lnTo>
                    <a:pt x="254" y="621"/>
                  </a:lnTo>
                  <a:lnTo>
                    <a:pt x="245" y="639"/>
                  </a:lnTo>
                  <a:lnTo>
                    <a:pt x="226" y="582"/>
                  </a:lnTo>
                  <a:lnTo>
                    <a:pt x="195" y="534"/>
                  </a:lnTo>
                  <a:lnTo>
                    <a:pt x="191" y="490"/>
                  </a:lnTo>
                  <a:lnTo>
                    <a:pt x="191" y="446"/>
                  </a:lnTo>
                  <a:lnTo>
                    <a:pt x="195" y="401"/>
                  </a:lnTo>
                  <a:lnTo>
                    <a:pt x="205" y="357"/>
                  </a:lnTo>
                  <a:lnTo>
                    <a:pt x="222" y="313"/>
                  </a:lnTo>
                  <a:lnTo>
                    <a:pt x="246" y="271"/>
                  </a:lnTo>
                  <a:lnTo>
                    <a:pt x="280" y="230"/>
                  </a:lnTo>
                  <a:lnTo>
                    <a:pt x="324" y="191"/>
                  </a:lnTo>
                  <a:lnTo>
                    <a:pt x="345" y="179"/>
                  </a:lnTo>
                  <a:lnTo>
                    <a:pt x="366" y="166"/>
                  </a:lnTo>
                  <a:lnTo>
                    <a:pt x="387" y="154"/>
                  </a:lnTo>
                  <a:lnTo>
                    <a:pt x="408" y="143"/>
                  </a:lnTo>
                  <a:lnTo>
                    <a:pt x="427" y="133"/>
                  </a:lnTo>
                  <a:lnTo>
                    <a:pt x="447" y="123"/>
                  </a:lnTo>
                  <a:lnTo>
                    <a:pt x="467" y="113"/>
                  </a:lnTo>
                  <a:lnTo>
                    <a:pt x="487" y="105"/>
                  </a:lnTo>
                  <a:lnTo>
                    <a:pt x="506" y="97"/>
                  </a:lnTo>
                  <a:lnTo>
                    <a:pt x="526" y="91"/>
                  </a:lnTo>
                  <a:lnTo>
                    <a:pt x="546" y="85"/>
                  </a:lnTo>
                  <a:lnTo>
                    <a:pt x="564" y="80"/>
                  </a:lnTo>
                  <a:lnTo>
                    <a:pt x="584" y="76"/>
                  </a:lnTo>
                  <a:lnTo>
                    <a:pt x="603" y="73"/>
                  </a:lnTo>
                  <a:lnTo>
                    <a:pt x="623" y="72"/>
                  </a:lnTo>
                  <a:lnTo>
                    <a:pt x="643" y="70"/>
                  </a:lnTo>
                  <a:lnTo>
                    <a:pt x="1514" y="44"/>
                  </a:lnTo>
                  <a:lnTo>
                    <a:pt x="2019" y="56"/>
                  </a:lnTo>
                  <a:lnTo>
                    <a:pt x="2000" y="116"/>
                  </a:lnTo>
                  <a:lnTo>
                    <a:pt x="2025" y="415"/>
                  </a:lnTo>
                  <a:lnTo>
                    <a:pt x="2180" y="413"/>
                  </a:lnTo>
                  <a:lnTo>
                    <a:pt x="2209" y="403"/>
                  </a:lnTo>
                  <a:lnTo>
                    <a:pt x="2226" y="197"/>
                  </a:lnTo>
                  <a:lnTo>
                    <a:pt x="2274" y="208"/>
                  </a:lnTo>
                  <a:lnTo>
                    <a:pt x="2260" y="499"/>
                  </a:lnTo>
                  <a:lnTo>
                    <a:pt x="2279" y="517"/>
                  </a:lnTo>
                  <a:lnTo>
                    <a:pt x="2270" y="595"/>
                  </a:lnTo>
                  <a:lnTo>
                    <a:pt x="2212" y="576"/>
                  </a:lnTo>
                  <a:lnTo>
                    <a:pt x="2210" y="470"/>
                  </a:lnTo>
                  <a:lnTo>
                    <a:pt x="2046" y="481"/>
                  </a:lnTo>
                  <a:lnTo>
                    <a:pt x="2028" y="608"/>
                  </a:lnTo>
                  <a:lnTo>
                    <a:pt x="2067" y="608"/>
                  </a:lnTo>
                  <a:lnTo>
                    <a:pt x="2029" y="677"/>
                  </a:lnTo>
                  <a:lnTo>
                    <a:pt x="2033" y="869"/>
                  </a:lnTo>
                  <a:lnTo>
                    <a:pt x="2061" y="880"/>
                  </a:lnTo>
                  <a:lnTo>
                    <a:pt x="2112" y="868"/>
                  </a:lnTo>
                  <a:lnTo>
                    <a:pt x="2158" y="867"/>
                  </a:lnTo>
                  <a:lnTo>
                    <a:pt x="2238" y="925"/>
                  </a:lnTo>
                  <a:lnTo>
                    <a:pt x="2285" y="877"/>
                  </a:lnTo>
                  <a:lnTo>
                    <a:pt x="2622" y="870"/>
                  </a:lnTo>
                  <a:lnTo>
                    <a:pt x="2789" y="868"/>
                  </a:lnTo>
                  <a:lnTo>
                    <a:pt x="2811" y="1049"/>
                  </a:lnTo>
                  <a:lnTo>
                    <a:pt x="2887" y="1019"/>
                  </a:lnTo>
                  <a:lnTo>
                    <a:pt x="2986" y="1038"/>
                  </a:lnTo>
                  <a:lnTo>
                    <a:pt x="3003" y="1028"/>
                  </a:lnTo>
                  <a:lnTo>
                    <a:pt x="2981" y="806"/>
                  </a:lnTo>
                  <a:lnTo>
                    <a:pt x="2998" y="747"/>
                  </a:lnTo>
                  <a:lnTo>
                    <a:pt x="3057" y="784"/>
                  </a:lnTo>
                  <a:lnTo>
                    <a:pt x="3096" y="774"/>
                  </a:lnTo>
                  <a:lnTo>
                    <a:pt x="3115" y="725"/>
                  </a:lnTo>
                  <a:lnTo>
                    <a:pt x="3164" y="694"/>
                  </a:lnTo>
                  <a:lnTo>
                    <a:pt x="3173" y="646"/>
                  </a:lnTo>
                  <a:lnTo>
                    <a:pt x="3152" y="607"/>
                  </a:lnTo>
                  <a:lnTo>
                    <a:pt x="3104" y="580"/>
                  </a:lnTo>
                  <a:lnTo>
                    <a:pt x="2822" y="605"/>
                  </a:lnTo>
                  <a:lnTo>
                    <a:pt x="2812" y="537"/>
                  </a:lnTo>
                  <a:lnTo>
                    <a:pt x="2806" y="159"/>
                  </a:lnTo>
                  <a:lnTo>
                    <a:pt x="2853" y="159"/>
                  </a:lnTo>
                  <a:lnTo>
                    <a:pt x="2865" y="245"/>
                  </a:lnTo>
                  <a:lnTo>
                    <a:pt x="2867" y="331"/>
                  </a:lnTo>
                  <a:lnTo>
                    <a:pt x="2874" y="321"/>
                  </a:lnTo>
                  <a:lnTo>
                    <a:pt x="2882" y="309"/>
                  </a:lnTo>
                  <a:lnTo>
                    <a:pt x="2893" y="294"/>
                  </a:lnTo>
                  <a:lnTo>
                    <a:pt x="2906" y="280"/>
                  </a:lnTo>
                  <a:lnTo>
                    <a:pt x="2920" y="262"/>
                  </a:lnTo>
                  <a:lnTo>
                    <a:pt x="2935" y="245"/>
                  </a:lnTo>
                  <a:lnTo>
                    <a:pt x="2952" y="227"/>
                  </a:lnTo>
                  <a:lnTo>
                    <a:pt x="2971" y="208"/>
                  </a:lnTo>
                  <a:lnTo>
                    <a:pt x="2991" y="191"/>
                  </a:lnTo>
                  <a:lnTo>
                    <a:pt x="3010" y="174"/>
                  </a:lnTo>
                  <a:lnTo>
                    <a:pt x="3031" y="158"/>
                  </a:lnTo>
                  <a:lnTo>
                    <a:pt x="3051" y="143"/>
                  </a:lnTo>
                  <a:lnTo>
                    <a:pt x="3073" y="129"/>
                  </a:lnTo>
                  <a:lnTo>
                    <a:pt x="3094" y="118"/>
                  </a:lnTo>
                  <a:lnTo>
                    <a:pt x="3114" y="110"/>
                  </a:lnTo>
                  <a:lnTo>
                    <a:pt x="3135" y="105"/>
                  </a:lnTo>
                  <a:lnTo>
                    <a:pt x="3201" y="113"/>
                  </a:lnTo>
                  <a:lnTo>
                    <a:pt x="3173" y="161"/>
                  </a:lnTo>
                  <a:lnTo>
                    <a:pt x="3039" y="223"/>
                  </a:lnTo>
                  <a:lnTo>
                    <a:pt x="2991" y="262"/>
                  </a:lnTo>
                  <a:lnTo>
                    <a:pt x="3137" y="230"/>
                  </a:lnTo>
                  <a:lnTo>
                    <a:pt x="3167" y="326"/>
                  </a:lnTo>
                  <a:lnTo>
                    <a:pt x="3252" y="180"/>
                  </a:lnTo>
                  <a:lnTo>
                    <a:pt x="3252" y="140"/>
                  </a:lnTo>
                  <a:lnTo>
                    <a:pt x="3231" y="152"/>
                  </a:lnTo>
                  <a:lnTo>
                    <a:pt x="3202" y="142"/>
                  </a:lnTo>
                  <a:lnTo>
                    <a:pt x="3229" y="83"/>
                  </a:lnTo>
                  <a:lnTo>
                    <a:pt x="3317" y="81"/>
                  </a:lnTo>
                  <a:lnTo>
                    <a:pt x="3332" y="296"/>
                  </a:lnTo>
                  <a:lnTo>
                    <a:pt x="3339" y="702"/>
                  </a:lnTo>
                  <a:lnTo>
                    <a:pt x="3300" y="702"/>
                  </a:lnTo>
                  <a:lnTo>
                    <a:pt x="3272" y="267"/>
                  </a:lnTo>
                  <a:lnTo>
                    <a:pt x="3265" y="282"/>
                  </a:lnTo>
                  <a:lnTo>
                    <a:pt x="3256" y="297"/>
                  </a:lnTo>
                  <a:lnTo>
                    <a:pt x="3247" y="312"/>
                  </a:lnTo>
                  <a:lnTo>
                    <a:pt x="3236" y="326"/>
                  </a:lnTo>
                  <a:lnTo>
                    <a:pt x="3224" y="342"/>
                  </a:lnTo>
                  <a:lnTo>
                    <a:pt x="3212" y="357"/>
                  </a:lnTo>
                  <a:lnTo>
                    <a:pt x="3200" y="372"/>
                  </a:lnTo>
                  <a:lnTo>
                    <a:pt x="3186" y="387"/>
                  </a:lnTo>
                  <a:lnTo>
                    <a:pt x="3171" y="401"/>
                  </a:lnTo>
                  <a:lnTo>
                    <a:pt x="3157" y="416"/>
                  </a:lnTo>
                  <a:lnTo>
                    <a:pt x="3142" y="430"/>
                  </a:lnTo>
                  <a:lnTo>
                    <a:pt x="3127" y="443"/>
                  </a:lnTo>
                  <a:lnTo>
                    <a:pt x="3111" y="457"/>
                  </a:lnTo>
                  <a:lnTo>
                    <a:pt x="3095" y="470"/>
                  </a:lnTo>
                  <a:lnTo>
                    <a:pt x="3079" y="483"/>
                  </a:lnTo>
                  <a:lnTo>
                    <a:pt x="3063" y="494"/>
                  </a:lnTo>
                  <a:lnTo>
                    <a:pt x="3121" y="512"/>
                  </a:lnTo>
                  <a:lnTo>
                    <a:pt x="3219" y="587"/>
                  </a:lnTo>
                  <a:lnTo>
                    <a:pt x="3231" y="675"/>
                  </a:lnTo>
                  <a:lnTo>
                    <a:pt x="3175" y="763"/>
                  </a:lnTo>
                  <a:lnTo>
                    <a:pt x="3058" y="863"/>
                  </a:lnTo>
                  <a:lnTo>
                    <a:pt x="3082" y="1026"/>
                  </a:lnTo>
                  <a:lnTo>
                    <a:pt x="3354" y="1022"/>
                  </a:lnTo>
                  <a:lnTo>
                    <a:pt x="3429" y="894"/>
                  </a:lnTo>
                  <a:lnTo>
                    <a:pt x="3447" y="884"/>
                  </a:lnTo>
                  <a:lnTo>
                    <a:pt x="3487" y="856"/>
                  </a:lnTo>
                  <a:lnTo>
                    <a:pt x="3456" y="787"/>
                  </a:lnTo>
                  <a:lnTo>
                    <a:pt x="3386" y="730"/>
                  </a:lnTo>
                  <a:lnTo>
                    <a:pt x="3339" y="713"/>
                  </a:lnTo>
                  <a:lnTo>
                    <a:pt x="3361" y="352"/>
                  </a:lnTo>
                  <a:lnTo>
                    <a:pt x="3375" y="91"/>
                  </a:lnTo>
                  <a:lnTo>
                    <a:pt x="3414" y="110"/>
                  </a:lnTo>
                  <a:lnTo>
                    <a:pt x="3428" y="224"/>
                  </a:lnTo>
                  <a:lnTo>
                    <a:pt x="3570" y="96"/>
                  </a:lnTo>
                  <a:lnTo>
                    <a:pt x="3607" y="48"/>
                  </a:lnTo>
                  <a:lnTo>
                    <a:pt x="3606" y="9"/>
                  </a:lnTo>
                  <a:lnTo>
                    <a:pt x="3558" y="10"/>
                  </a:lnTo>
                  <a:lnTo>
                    <a:pt x="3472" y="11"/>
                  </a:lnTo>
                  <a:lnTo>
                    <a:pt x="2938" y="0"/>
                  </a:lnTo>
                  <a:lnTo>
                    <a:pt x="2599" y="6"/>
                  </a:lnTo>
                  <a:lnTo>
                    <a:pt x="1436" y="9"/>
                  </a:lnTo>
                  <a:lnTo>
                    <a:pt x="1020" y="5"/>
                  </a:lnTo>
                  <a:lnTo>
                    <a:pt x="583" y="24"/>
                  </a:lnTo>
                  <a:lnTo>
                    <a:pt x="31" y="4"/>
                  </a:lnTo>
                  <a:lnTo>
                    <a:pt x="24" y="1322"/>
                  </a:lnTo>
                  <a:lnTo>
                    <a:pt x="35" y="2504"/>
                  </a:lnTo>
                  <a:lnTo>
                    <a:pt x="19" y="2658"/>
                  </a:lnTo>
                  <a:lnTo>
                    <a:pt x="0" y="2717"/>
                  </a:lnTo>
                  <a:lnTo>
                    <a:pt x="1018" y="2728"/>
                  </a:lnTo>
                  <a:lnTo>
                    <a:pt x="1153" y="2725"/>
                  </a:lnTo>
                  <a:lnTo>
                    <a:pt x="2269" y="2706"/>
                  </a:lnTo>
                  <a:lnTo>
                    <a:pt x="2771" y="2697"/>
                  </a:lnTo>
                  <a:lnTo>
                    <a:pt x="2859" y="2707"/>
                  </a:lnTo>
                  <a:lnTo>
                    <a:pt x="2945" y="2706"/>
                  </a:lnTo>
                  <a:lnTo>
                    <a:pt x="3120" y="2702"/>
                  </a:lnTo>
                  <a:lnTo>
                    <a:pt x="3586" y="2703"/>
                  </a:lnTo>
                  <a:lnTo>
                    <a:pt x="3625" y="2693"/>
                  </a:lnTo>
                  <a:close/>
                </a:path>
              </a:pathLst>
            </a:custGeom>
            <a:solidFill>
              <a:srgbClr val="da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910960" y="4342320"/>
              <a:ext cx="492120" cy="379800"/>
            </a:xfrm>
            <a:custGeom>
              <a:avLst/>
              <a:gdLst/>
              <a:ahLst/>
              <a:rect l="l" t="t" r="r" b="b"/>
              <a:pathLst>
                <a:path w="701" h="549">
                  <a:moveTo>
                    <a:pt x="107" y="549"/>
                  </a:moveTo>
                  <a:lnTo>
                    <a:pt x="0" y="542"/>
                  </a:lnTo>
                  <a:lnTo>
                    <a:pt x="58" y="474"/>
                  </a:lnTo>
                  <a:lnTo>
                    <a:pt x="97" y="473"/>
                  </a:lnTo>
                  <a:lnTo>
                    <a:pt x="58" y="453"/>
                  </a:lnTo>
                  <a:lnTo>
                    <a:pt x="56" y="405"/>
                  </a:lnTo>
                  <a:lnTo>
                    <a:pt x="386" y="381"/>
                  </a:lnTo>
                  <a:lnTo>
                    <a:pt x="364" y="360"/>
                  </a:lnTo>
                  <a:lnTo>
                    <a:pt x="528" y="194"/>
                  </a:lnTo>
                  <a:lnTo>
                    <a:pt x="552" y="0"/>
                  </a:lnTo>
                  <a:lnTo>
                    <a:pt x="573" y="66"/>
                  </a:lnTo>
                  <a:lnTo>
                    <a:pt x="576" y="221"/>
                  </a:lnTo>
                  <a:lnTo>
                    <a:pt x="577" y="269"/>
                  </a:lnTo>
                  <a:lnTo>
                    <a:pt x="628" y="298"/>
                  </a:lnTo>
                  <a:lnTo>
                    <a:pt x="632" y="123"/>
                  </a:lnTo>
                  <a:lnTo>
                    <a:pt x="672" y="94"/>
                  </a:lnTo>
                  <a:lnTo>
                    <a:pt x="673" y="219"/>
                  </a:lnTo>
                  <a:lnTo>
                    <a:pt x="701" y="210"/>
                  </a:lnTo>
                  <a:lnTo>
                    <a:pt x="687" y="404"/>
                  </a:lnTo>
                  <a:lnTo>
                    <a:pt x="657" y="336"/>
                  </a:lnTo>
                  <a:lnTo>
                    <a:pt x="639" y="442"/>
                  </a:lnTo>
                  <a:lnTo>
                    <a:pt x="599" y="377"/>
                  </a:lnTo>
                  <a:lnTo>
                    <a:pt x="581" y="453"/>
                  </a:lnTo>
                  <a:lnTo>
                    <a:pt x="543" y="455"/>
                  </a:lnTo>
                  <a:lnTo>
                    <a:pt x="522" y="473"/>
                  </a:lnTo>
                  <a:lnTo>
                    <a:pt x="134" y="492"/>
                  </a:lnTo>
                  <a:lnTo>
                    <a:pt x="165" y="519"/>
                  </a:lnTo>
                  <a:lnTo>
                    <a:pt x="107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081080" y="4456800"/>
              <a:ext cx="236520" cy="194760"/>
            </a:xfrm>
            <a:custGeom>
              <a:avLst/>
              <a:gdLst/>
              <a:ahLst/>
              <a:rect l="l" t="t" r="r" b="b"/>
              <a:pathLst>
                <a:path w="338" h="281">
                  <a:moveTo>
                    <a:pt x="187" y="280"/>
                  </a:moveTo>
                  <a:lnTo>
                    <a:pt x="129" y="281"/>
                  </a:lnTo>
                  <a:lnTo>
                    <a:pt x="21" y="235"/>
                  </a:lnTo>
                  <a:lnTo>
                    <a:pt x="9" y="205"/>
                  </a:lnTo>
                  <a:lnTo>
                    <a:pt x="1" y="187"/>
                  </a:lnTo>
                  <a:lnTo>
                    <a:pt x="0" y="149"/>
                  </a:lnTo>
                  <a:lnTo>
                    <a:pt x="46" y="60"/>
                  </a:lnTo>
                  <a:lnTo>
                    <a:pt x="65" y="20"/>
                  </a:lnTo>
                  <a:lnTo>
                    <a:pt x="201" y="0"/>
                  </a:lnTo>
                  <a:lnTo>
                    <a:pt x="318" y="93"/>
                  </a:lnTo>
                  <a:lnTo>
                    <a:pt x="338" y="162"/>
                  </a:lnTo>
                  <a:lnTo>
                    <a:pt x="274" y="261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864800" y="4600800"/>
              <a:ext cx="10800" cy="2628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40"/>
                  </a:moveTo>
                  <a:lnTo>
                    <a:pt x="18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21760" y="4505400"/>
              <a:ext cx="162720" cy="114480"/>
            </a:xfrm>
            <a:custGeom>
              <a:avLst/>
              <a:gdLst/>
              <a:ahLst/>
              <a:rect l="l" t="t" r="r" b="b"/>
              <a:pathLst>
                <a:path w="231" h="167">
                  <a:moveTo>
                    <a:pt x="87" y="167"/>
                  </a:moveTo>
                  <a:lnTo>
                    <a:pt x="0" y="110"/>
                  </a:lnTo>
                  <a:lnTo>
                    <a:pt x="0" y="71"/>
                  </a:lnTo>
                  <a:lnTo>
                    <a:pt x="27" y="31"/>
                  </a:lnTo>
                  <a:lnTo>
                    <a:pt x="96" y="30"/>
                  </a:lnTo>
                  <a:lnTo>
                    <a:pt x="114" y="0"/>
                  </a:lnTo>
                  <a:lnTo>
                    <a:pt x="192" y="20"/>
                  </a:lnTo>
                  <a:lnTo>
                    <a:pt x="220" y="57"/>
                  </a:lnTo>
                  <a:lnTo>
                    <a:pt x="231" y="77"/>
                  </a:lnTo>
                  <a:lnTo>
                    <a:pt x="186" y="156"/>
                  </a:lnTo>
                  <a:lnTo>
                    <a:pt x="87" y="16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337760" y="4506840"/>
              <a:ext cx="102240" cy="2052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08" y="29"/>
                  </a:moveTo>
                  <a:lnTo>
                    <a:pt x="40" y="2"/>
                  </a:lnTo>
                  <a:lnTo>
                    <a:pt x="0" y="4"/>
                  </a:lnTo>
                  <a:lnTo>
                    <a:pt x="146" y="0"/>
                  </a:lnTo>
                  <a:lnTo>
                    <a:pt x="10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595520" y="4476240"/>
              <a:ext cx="75960" cy="468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30" y="68"/>
                  </a:moveTo>
                  <a:lnTo>
                    <a:pt x="1" y="39"/>
                  </a:lnTo>
                  <a:lnTo>
                    <a:pt x="0" y="0"/>
                  </a:lnTo>
                  <a:lnTo>
                    <a:pt x="76" y="8"/>
                  </a:lnTo>
                  <a:lnTo>
                    <a:pt x="107" y="66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505880" y="3423600"/>
              <a:ext cx="1605240" cy="1081440"/>
            </a:xfrm>
            <a:custGeom>
              <a:avLst/>
              <a:gdLst/>
              <a:ahLst/>
              <a:rect l="l" t="t" r="r" b="b"/>
              <a:pathLst>
                <a:path w="2288" h="1565">
                  <a:moveTo>
                    <a:pt x="1146" y="1557"/>
                  </a:moveTo>
                  <a:lnTo>
                    <a:pt x="1011" y="1559"/>
                  </a:lnTo>
                  <a:lnTo>
                    <a:pt x="999" y="1490"/>
                  </a:lnTo>
                  <a:lnTo>
                    <a:pt x="950" y="1434"/>
                  </a:lnTo>
                  <a:lnTo>
                    <a:pt x="968" y="1317"/>
                  </a:lnTo>
                  <a:lnTo>
                    <a:pt x="956" y="1279"/>
                  </a:lnTo>
                  <a:lnTo>
                    <a:pt x="1101" y="1286"/>
                  </a:lnTo>
                  <a:lnTo>
                    <a:pt x="1122" y="1265"/>
                  </a:lnTo>
                  <a:lnTo>
                    <a:pt x="1122" y="1245"/>
                  </a:lnTo>
                  <a:lnTo>
                    <a:pt x="1091" y="1228"/>
                  </a:lnTo>
                  <a:lnTo>
                    <a:pt x="1024" y="1220"/>
                  </a:lnTo>
                  <a:lnTo>
                    <a:pt x="1023" y="1121"/>
                  </a:lnTo>
                  <a:lnTo>
                    <a:pt x="1031" y="1055"/>
                  </a:lnTo>
                  <a:lnTo>
                    <a:pt x="1010" y="987"/>
                  </a:lnTo>
                  <a:lnTo>
                    <a:pt x="982" y="1026"/>
                  </a:lnTo>
                  <a:lnTo>
                    <a:pt x="1005" y="1229"/>
                  </a:lnTo>
                  <a:lnTo>
                    <a:pt x="936" y="1210"/>
                  </a:lnTo>
                  <a:lnTo>
                    <a:pt x="945" y="1104"/>
                  </a:lnTo>
                  <a:lnTo>
                    <a:pt x="914" y="988"/>
                  </a:lnTo>
                  <a:lnTo>
                    <a:pt x="885" y="989"/>
                  </a:lnTo>
                  <a:lnTo>
                    <a:pt x="887" y="1163"/>
                  </a:lnTo>
                  <a:lnTo>
                    <a:pt x="878" y="1232"/>
                  </a:lnTo>
                  <a:lnTo>
                    <a:pt x="238" y="1213"/>
                  </a:lnTo>
                  <a:lnTo>
                    <a:pt x="189" y="1243"/>
                  </a:lnTo>
                  <a:lnTo>
                    <a:pt x="190" y="1261"/>
                  </a:lnTo>
                  <a:lnTo>
                    <a:pt x="433" y="1258"/>
                  </a:lnTo>
                  <a:lnTo>
                    <a:pt x="376" y="1367"/>
                  </a:lnTo>
                  <a:lnTo>
                    <a:pt x="368" y="1455"/>
                  </a:lnTo>
                  <a:lnTo>
                    <a:pt x="0" y="1440"/>
                  </a:lnTo>
                  <a:lnTo>
                    <a:pt x="77" y="848"/>
                  </a:lnTo>
                  <a:lnTo>
                    <a:pt x="145" y="780"/>
                  </a:lnTo>
                  <a:lnTo>
                    <a:pt x="152" y="741"/>
                  </a:lnTo>
                  <a:lnTo>
                    <a:pt x="84" y="694"/>
                  </a:lnTo>
                  <a:lnTo>
                    <a:pt x="55" y="636"/>
                  </a:lnTo>
                  <a:lnTo>
                    <a:pt x="24" y="540"/>
                  </a:lnTo>
                  <a:lnTo>
                    <a:pt x="24" y="508"/>
                  </a:lnTo>
                  <a:lnTo>
                    <a:pt x="28" y="476"/>
                  </a:lnTo>
                  <a:lnTo>
                    <a:pt x="32" y="444"/>
                  </a:lnTo>
                  <a:lnTo>
                    <a:pt x="39" y="411"/>
                  </a:lnTo>
                  <a:lnTo>
                    <a:pt x="49" y="378"/>
                  </a:lnTo>
                  <a:lnTo>
                    <a:pt x="60" y="344"/>
                  </a:lnTo>
                  <a:lnTo>
                    <a:pt x="73" y="311"/>
                  </a:lnTo>
                  <a:lnTo>
                    <a:pt x="88" y="278"/>
                  </a:lnTo>
                  <a:lnTo>
                    <a:pt x="107" y="246"/>
                  </a:lnTo>
                  <a:lnTo>
                    <a:pt x="126" y="213"/>
                  </a:lnTo>
                  <a:lnTo>
                    <a:pt x="147" y="181"/>
                  </a:lnTo>
                  <a:lnTo>
                    <a:pt x="171" y="149"/>
                  </a:lnTo>
                  <a:lnTo>
                    <a:pt x="196" y="118"/>
                  </a:lnTo>
                  <a:lnTo>
                    <a:pt x="225" y="88"/>
                  </a:lnTo>
                  <a:lnTo>
                    <a:pt x="254" y="59"/>
                  </a:lnTo>
                  <a:lnTo>
                    <a:pt x="285" y="31"/>
                  </a:lnTo>
                  <a:lnTo>
                    <a:pt x="306" y="21"/>
                  </a:lnTo>
                  <a:lnTo>
                    <a:pt x="328" y="12"/>
                  </a:lnTo>
                  <a:lnTo>
                    <a:pt x="348" y="6"/>
                  </a:lnTo>
                  <a:lnTo>
                    <a:pt x="369" y="2"/>
                  </a:lnTo>
                  <a:lnTo>
                    <a:pt x="389" y="0"/>
                  </a:lnTo>
                  <a:lnTo>
                    <a:pt x="409" y="0"/>
                  </a:lnTo>
                  <a:lnTo>
                    <a:pt x="429" y="1"/>
                  </a:lnTo>
                  <a:lnTo>
                    <a:pt x="449" y="3"/>
                  </a:lnTo>
                  <a:lnTo>
                    <a:pt x="469" y="8"/>
                  </a:lnTo>
                  <a:lnTo>
                    <a:pt x="488" y="13"/>
                  </a:lnTo>
                  <a:lnTo>
                    <a:pt x="508" y="19"/>
                  </a:lnTo>
                  <a:lnTo>
                    <a:pt x="528" y="27"/>
                  </a:lnTo>
                  <a:lnTo>
                    <a:pt x="547" y="35"/>
                  </a:lnTo>
                  <a:lnTo>
                    <a:pt x="567" y="44"/>
                  </a:lnTo>
                  <a:lnTo>
                    <a:pt x="587" y="54"/>
                  </a:lnTo>
                  <a:lnTo>
                    <a:pt x="608" y="64"/>
                  </a:lnTo>
                  <a:lnTo>
                    <a:pt x="640" y="86"/>
                  </a:lnTo>
                  <a:lnTo>
                    <a:pt x="670" y="111"/>
                  </a:lnTo>
                  <a:lnTo>
                    <a:pt x="698" y="138"/>
                  </a:lnTo>
                  <a:lnTo>
                    <a:pt x="723" y="165"/>
                  </a:lnTo>
                  <a:lnTo>
                    <a:pt x="746" y="193"/>
                  </a:lnTo>
                  <a:lnTo>
                    <a:pt x="764" y="220"/>
                  </a:lnTo>
                  <a:lnTo>
                    <a:pt x="781" y="247"/>
                  </a:lnTo>
                  <a:lnTo>
                    <a:pt x="794" y="273"/>
                  </a:lnTo>
                  <a:lnTo>
                    <a:pt x="807" y="316"/>
                  </a:lnTo>
                  <a:lnTo>
                    <a:pt x="818" y="357"/>
                  </a:lnTo>
                  <a:lnTo>
                    <a:pt x="824" y="397"/>
                  </a:lnTo>
                  <a:lnTo>
                    <a:pt x="829" y="437"/>
                  </a:lnTo>
                  <a:lnTo>
                    <a:pt x="829" y="476"/>
                  </a:lnTo>
                  <a:lnTo>
                    <a:pt x="828" y="514"/>
                  </a:lnTo>
                  <a:lnTo>
                    <a:pt x="826" y="554"/>
                  </a:lnTo>
                  <a:lnTo>
                    <a:pt x="819" y="594"/>
                  </a:lnTo>
                  <a:lnTo>
                    <a:pt x="684" y="644"/>
                  </a:lnTo>
                  <a:lnTo>
                    <a:pt x="608" y="704"/>
                  </a:lnTo>
                  <a:lnTo>
                    <a:pt x="568" y="744"/>
                  </a:lnTo>
                  <a:lnTo>
                    <a:pt x="569" y="773"/>
                  </a:lnTo>
                  <a:lnTo>
                    <a:pt x="620" y="772"/>
                  </a:lnTo>
                  <a:lnTo>
                    <a:pt x="599" y="811"/>
                  </a:lnTo>
                  <a:lnTo>
                    <a:pt x="717" y="895"/>
                  </a:lnTo>
                  <a:lnTo>
                    <a:pt x="913" y="901"/>
                  </a:lnTo>
                  <a:lnTo>
                    <a:pt x="978" y="870"/>
                  </a:lnTo>
                  <a:lnTo>
                    <a:pt x="1046" y="802"/>
                  </a:lnTo>
                  <a:lnTo>
                    <a:pt x="1046" y="773"/>
                  </a:lnTo>
                  <a:lnTo>
                    <a:pt x="869" y="623"/>
                  </a:lnTo>
                  <a:lnTo>
                    <a:pt x="882" y="370"/>
                  </a:lnTo>
                  <a:lnTo>
                    <a:pt x="1223" y="364"/>
                  </a:lnTo>
                  <a:lnTo>
                    <a:pt x="1233" y="480"/>
                  </a:lnTo>
                  <a:lnTo>
                    <a:pt x="1227" y="538"/>
                  </a:lnTo>
                  <a:lnTo>
                    <a:pt x="1259" y="741"/>
                  </a:lnTo>
                  <a:lnTo>
                    <a:pt x="1564" y="455"/>
                  </a:lnTo>
                  <a:lnTo>
                    <a:pt x="1601" y="464"/>
                  </a:lnTo>
                  <a:lnTo>
                    <a:pt x="1403" y="730"/>
                  </a:lnTo>
                  <a:lnTo>
                    <a:pt x="1365" y="768"/>
                  </a:lnTo>
                  <a:lnTo>
                    <a:pt x="1641" y="502"/>
                  </a:lnTo>
                  <a:lnTo>
                    <a:pt x="1689" y="520"/>
                  </a:lnTo>
                  <a:lnTo>
                    <a:pt x="1701" y="550"/>
                  </a:lnTo>
                  <a:lnTo>
                    <a:pt x="1521" y="786"/>
                  </a:lnTo>
                  <a:lnTo>
                    <a:pt x="1521" y="805"/>
                  </a:lnTo>
                  <a:lnTo>
                    <a:pt x="1579" y="756"/>
                  </a:lnTo>
                  <a:lnTo>
                    <a:pt x="1771" y="760"/>
                  </a:lnTo>
                  <a:lnTo>
                    <a:pt x="1648" y="946"/>
                  </a:lnTo>
                  <a:lnTo>
                    <a:pt x="1535" y="977"/>
                  </a:lnTo>
                  <a:lnTo>
                    <a:pt x="1213" y="972"/>
                  </a:lnTo>
                  <a:lnTo>
                    <a:pt x="1184" y="954"/>
                  </a:lnTo>
                  <a:lnTo>
                    <a:pt x="1126" y="955"/>
                  </a:lnTo>
                  <a:lnTo>
                    <a:pt x="1117" y="1003"/>
                  </a:lnTo>
                  <a:lnTo>
                    <a:pt x="1088" y="1004"/>
                  </a:lnTo>
                  <a:lnTo>
                    <a:pt x="1090" y="1149"/>
                  </a:lnTo>
                  <a:lnTo>
                    <a:pt x="1121" y="1178"/>
                  </a:lnTo>
                  <a:lnTo>
                    <a:pt x="1107" y="1003"/>
                  </a:lnTo>
                  <a:lnTo>
                    <a:pt x="1448" y="1047"/>
                  </a:lnTo>
                  <a:lnTo>
                    <a:pt x="1658" y="1004"/>
                  </a:lnTo>
                  <a:lnTo>
                    <a:pt x="1679" y="993"/>
                  </a:lnTo>
                  <a:lnTo>
                    <a:pt x="1708" y="973"/>
                  </a:lnTo>
                  <a:lnTo>
                    <a:pt x="1733" y="950"/>
                  </a:lnTo>
                  <a:lnTo>
                    <a:pt x="1754" y="924"/>
                  </a:lnTo>
                  <a:lnTo>
                    <a:pt x="1771" y="898"/>
                  </a:lnTo>
                  <a:lnTo>
                    <a:pt x="1786" y="870"/>
                  </a:lnTo>
                  <a:lnTo>
                    <a:pt x="1798" y="843"/>
                  </a:lnTo>
                  <a:lnTo>
                    <a:pt x="1809" y="815"/>
                  </a:lnTo>
                  <a:lnTo>
                    <a:pt x="1820" y="789"/>
                  </a:lnTo>
                  <a:lnTo>
                    <a:pt x="2014" y="757"/>
                  </a:lnTo>
                  <a:lnTo>
                    <a:pt x="2053" y="765"/>
                  </a:lnTo>
                  <a:lnTo>
                    <a:pt x="2064" y="881"/>
                  </a:lnTo>
                  <a:lnTo>
                    <a:pt x="2016" y="882"/>
                  </a:lnTo>
                  <a:lnTo>
                    <a:pt x="1890" y="999"/>
                  </a:lnTo>
                  <a:lnTo>
                    <a:pt x="1886" y="1194"/>
                  </a:lnTo>
                  <a:lnTo>
                    <a:pt x="1894" y="1213"/>
                  </a:lnTo>
                  <a:lnTo>
                    <a:pt x="1946" y="1252"/>
                  </a:lnTo>
                  <a:lnTo>
                    <a:pt x="2080" y="1249"/>
                  </a:lnTo>
                  <a:lnTo>
                    <a:pt x="2148" y="1189"/>
                  </a:lnTo>
                  <a:lnTo>
                    <a:pt x="2164" y="1065"/>
                  </a:lnTo>
                  <a:lnTo>
                    <a:pt x="2144" y="1015"/>
                  </a:lnTo>
                  <a:lnTo>
                    <a:pt x="2114" y="967"/>
                  </a:lnTo>
                  <a:lnTo>
                    <a:pt x="2288" y="917"/>
                  </a:lnTo>
                  <a:lnTo>
                    <a:pt x="2252" y="1120"/>
                  </a:lnTo>
                  <a:lnTo>
                    <a:pt x="2283" y="1168"/>
                  </a:lnTo>
                  <a:lnTo>
                    <a:pt x="1951" y="1522"/>
                  </a:lnTo>
                  <a:lnTo>
                    <a:pt x="1165" y="1565"/>
                  </a:lnTo>
                  <a:lnTo>
                    <a:pt x="1146" y="155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827000" y="4479120"/>
              <a:ext cx="27720" cy="1368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19"/>
                  </a:moveTo>
                  <a:lnTo>
                    <a:pt x="4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546280" y="4250880"/>
              <a:ext cx="57240" cy="222120"/>
            </a:xfrm>
            <a:custGeom>
              <a:avLst/>
              <a:gdLst/>
              <a:ahLst/>
              <a:rect l="l" t="t" r="r" b="b"/>
              <a:pathLst>
                <a:path w="81" h="321">
                  <a:moveTo>
                    <a:pt x="42" y="321"/>
                  </a:moveTo>
                  <a:lnTo>
                    <a:pt x="1" y="128"/>
                  </a:lnTo>
                  <a:lnTo>
                    <a:pt x="0" y="40"/>
                  </a:lnTo>
                  <a:lnTo>
                    <a:pt x="7" y="0"/>
                  </a:lnTo>
                  <a:lnTo>
                    <a:pt x="81" y="300"/>
                  </a:lnTo>
                  <a:lnTo>
                    <a:pt x="42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604960" y="4259520"/>
              <a:ext cx="43200" cy="17244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12" y="242"/>
                  </a:moveTo>
                  <a:lnTo>
                    <a:pt x="4" y="224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60" y="251"/>
                  </a:lnTo>
                  <a:lnTo>
                    <a:pt x="12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498400" y="4240080"/>
              <a:ext cx="33480" cy="181080"/>
            </a:xfrm>
            <a:custGeom>
              <a:avLst/>
              <a:gdLst/>
              <a:ahLst/>
              <a:rect l="l" t="t" r="r" b="b"/>
              <a:pathLst>
                <a:path w="47" h="262">
                  <a:moveTo>
                    <a:pt x="9" y="253"/>
                  </a:moveTo>
                  <a:lnTo>
                    <a:pt x="0" y="242"/>
                  </a:lnTo>
                  <a:lnTo>
                    <a:pt x="4" y="0"/>
                  </a:lnTo>
                  <a:lnTo>
                    <a:pt x="47" y="193"/>
                  </a:lnTo>
                  <a:lnTo>
                    <a:pt x="30" y="262"/>
                  </a:lnTo>
                  <a:lnTo>
                    <a:pt x="9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804680" y="4291200"/>
              <a:ext cx="340200" cy="118800"/>
            </a:xfrm>
            <a:custGeom>
              <a:avLst/>
              <a:gdLst/>
              <a:ahLst/>
              <a:rect l="l" t="t" r="r" b="b"/>
              <a:pathLst>
                <a:path w="486" h="171">
                  <a:moveTo>
                    <a:pt x="370" y="171"/>
                  </a:moveTo>
                  <a:lnTo>
                    <a:pt x="0" y="168"/>
                  </a:lnTo>
                  <a:lnTo>
                    <a:pt x="37" y="50"/>
                  </a:lnTo>
                  <a:lnTo>
                    <a:pt x="164" y="29"/>
                  </a:lnTo>
                  <a:lnTo>
                    <a:pt x="164" y="0"/>
                  </a:lnTo>
                  <a:lnTo>
                    <a:pt x="473" y="14"/>
                  </a:lnTo>
                  <a:lnTo>
                    <a:pt x="486" y="168"/>
                  </a:lnTo>
                  <a:lnTo>
                    <a:pt x="370" y="17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637360" y="4265280"/>
              <a:ext cx="91080" cy="13356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34" y="195"/>
                  </a:moveTo>
                  <a:lnTo>
                    <a:pt x="0" y="10"/>
                  </a:lnTo>
                  <a:lnTo>
                    <a:pt x="50" y="31"/>
                  </a:lnTo>
                  <a:lnTo>
                    <a:pt x="72" y="136"/>
                  </a:lnTo>
                  <a:lnTo>
                    <a:pt x="78" y="0"/>
                  </a:lnTo>
                  <a:lnTo>
                    <a:pt x="119" y="19"/>
                  </a:lnTo>
                  <a:lnTo>
                    <a:pt x="130" y="96"/>
                  </a:lnTo>
                  <a:lnTo>
                    <a:pt x="111" y="164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415960" y="4255560"/>
              <a:ext cx="40680" cy="95040"/>
            </a:xfrm>
            <a:custGeom>
              <a:avLst/>
              <a:gdLst/>
              <a:ahLst/>
              <a:rect l="l" t="t" r="r" b="b"/>
              <a:pathLst>
                <a:path w="58" h="136">
                  <a:moveTo>
                    <a:pt x="30" y="136"/>
                  </a:moveTo>
                  <a:lnTo>
                    <a:pt x="1" y="117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58" y="79"/>
                  </a:lnTo>
                  <a:lnTo>
                    <a:pt x="3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732760" y="4263480"/>
              <a:ext cx="40680" cy="604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2" y="76"/>
                  </a:moveTo>
                  <a:lnTo>
                    <a:pt x="0" y="29"/>
                  </a:lnTo>
                  <a:lnTo>
                    <a:pt x="21" y="0"/>
                  </a:lnTo>
                  <a:lnTo>
                    <a:pt x="58" y="17"/>
                  </a:lnTo>
                  <a:lnTo>
                    <a:pt x="40" y="87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082880" y="4023360"/>
              <a:ext cx="121680" cy="314640"/>
            </a:xfrm>
            <a:custGeom>
              <a:avLst/>
              <a:gdLst/>
              <a:ahLst/>
              <a:rect l="l" t="t" r="r" b="b"/>
              <a:pathLst>
                <a:path w="174" h="455">
                  <a:moveTo>
                    <a:pt x="0" y="455"/>
                  </a:moveTo>
                  <a:lnTo>
                    <a:pt x="16" y="204"/>
                  </a:lnTo>
                  <a:lnTo>
                    <a:pt x="15" y="69"/>
                  </a:lnTo>
                  <a:lnTo>
                    <a:pt x="71" y="48"/>
                  </a:lnTo>
                  <a:lnTo>
                    <a:pt x="74" y="145"/>
                  </a:lnTo>
                  <a:lnTo>
                    <a:pt x="91" y="106"/>
                  </a:lnTo>
                  <a:lnTo>
                    <a:pt x="101" y="1"/>
                  </a:lnTo>
                  <a:lnTo>
                    <a:pt x="149" y="0"/>
                  </a:lnTo>
                  <a:lnTo>
                    <a:pt x="174" y="289"/>
                  </a:lnTo>
                  <a:lnTo>
                    <a:pt x="86" y="367"/>
                  </a:lnTo>
                  <a:lnTo>
                    <a:pt x="83" y="173"/>
                  </a:lnTo>
                  <a:lnTo>
                    <a:pt x="68" y="396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857320" y="4085280"/>
              <a:ext cx="138600" cy="16164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47" y="234"/>
                  </a:moveTo>
                  <a:lnTo>
                    <a:pt x="8" y="216"/>
                  </a:lnTo>
                  <a:lnTo>
                    <a:pt x="1" y="190"/>
                  </a:lnTo>
                  <a:lnTo>
                    <a:pt x="0" y="165"/>
                  </a:lnTo>
                  <a:lnTo>
                    <a:pt x="0" y="140"/>
                  </a:lnTo>
                  <a:lnTo>
                    <a:pt x="5" y="114"/>
                  </a:lnTo>
                  <a:lnTo>
                    <a:pt x="12" y="88"/>
                  </a:lnTo>
                  <a:lnTo>
                    <a:pt x="22" y="64"/>
                  </a:lnTo>
                  <a:lnTo>
                    <a:pt x="36" y="38"/>
                  </a:lnTo>
                  <a:lnTo>
                    <a:pt x="52" y="12"/>
                  </a:lnTo>
                  <a:lnTo>
                    <a:pt x="110" y="0"/>
                  </a:lnTo>
                  <a:lnTo>
                    <a:pt x="169" y="49"/>
                  </a:lnTo>
                  <a:lnTo>
                    <a:pt x="198" y="125"/>
                  </a:lnTo>
                  <a:lnTo>
                    <a:pt x="182" y="213"/>
                  </a:lnTo>
                  <a:lnTo>
                    <a:pt x="47" y="23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900880" y="4154400"/>
              <a:ext cx="54360" cy="7848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1" y="116"/>
                  </a:moveTo>
                  <a:lnTo>
                    <a:pt x="50" y="106"/>
                  </a:lnTo>
                  <a:lnTo>
                    <a:pt x="1" y="78"/>
                  </a:lnTo>
                  <a:lnTo>
                    <a:pt x="0" y="1"/>
                  </a:lnTo>
                  <a:lnTo>
                    <a:pt x="77" y="0"/>
                  </a:lnTo>
                  <a:lnTo>
                    <a:pt x="79" y="76"/>
                  </a:lnTo>
                  <a:lnTo>
                    <a:pt x="6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3126960" y="4063320"/>
              <a:ext cx="93600" cy="15984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30" y="233"/>
                  </a:moveTo>
                  <a:lnTo>
                    <a:pt x="0" y="204"/>
                  </a:lnTo>
                  <a:lnTo>
                    <a:pt x="8" y="68"/>
                  </a:lnTo>
                  <a:lnTo>
                    <a:pt x="54" y="0"/>
                  </a:lnTo>
                  <a:lnTo>
                    <a:pt x="105" y="19"/>
                  </a:lnTo>
                  <a:lnTo>
                    <a:pt x="125" y="67"/>
                  </a:lnTo>
                  <a:lnTo>
                    <a:pt x="136" y="172"/>
                  </a:lnTo>
                  <a:lnTo>
                    <a:pt x="30" y="2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563200" y="4159800"/>
              <a:ext cx="60120" cy="4680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48" y="67"/>
                  </a:moveTo>
                  <a:lnTo>
                    <a:pt x="0" y="40"/>
                  </a:lnTo>
                  <a:lnTo>
                    <a:pt x="57" y="0"/>
                  </a:lnTo>
                  <a:lnTo>
                    <a:pt x="86" y="66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207440" y="3995640"/>
              <a:ext cx="91080" cy="20700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6" y="299"/>
                  </a:moveTo>
                  <a:lnTo>
                    <a:pt x="0" y="0"/>
                  </a:lnTo>
                  <a:lnTo>
                    <a:pt x="131" y="209"/>
                  </a:lnTo>
                  <a:lnTo>
                    <a:pt x="16" y="29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242360" y="3962520"/>
              <a:ext cx="162720" cy="158760"/>
            </a:xfrm>
            <a:custGeom>
              <a:avLst/>
              <a:gdLst/>
              <a:ahLst/>
              <a:rect l="l" t="t" r="r" b="b"/>
              <a:pathLst>
                <a:path w="232" h="230">
                  <a:moveTo>
                    <a:pt x="88" y="230"/>
                  </a:moveTo>
                  <a:lnTo>
                    <a:pt x="0" y="58"/>
                  </a:lnTo>
                  <a:lnTo>
                    <a:pt x="17" y="0"/>
                  </a:lnTo>
                  <a:lnTo>
                    <a:pt x="106" y="67"/>
                  </a:lnTo>
                  <a:lnTo>
                    <a:pt x="232" y="131"/>
                  </a:lnTo>
                  <a:lnTo>
                    <a:pt x="88" y="23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281600" y="3927960"/>
              <a:ext cx="243720" cy="103320"/>
            </a:xfrm>
            <a:custGeom>
              <a:avLst/>
              <a:gdLst/>
              <a:ahLst/>
              <a:rect l="l" t="t" r="r" b="b"/>
              <a:pathLst>
                <a:path w="350" h="150">
                  <a:moveTo>
                    <a:pt x="185" y="150"/>
                  </a:moveTo>
                  <a:lnTo>
                    <a:pt x="0" y="39"/>
                  </a:lnTo>
                  <a:lnTo>
                    <a:pt x="29" y="0"/>
                  </a:lnTo>
                  <a:lnTo>
                    <a:pt x="350" y="43"/>
                  </a:lnTo>
                  <a:lnTo>
                    <a:pt x="282" y="112"/>
                  </a:lnTo>
                  <a:lnTo>
                    <a:pt x="235" y="149"/>
                  </a:lnTo>
                  <a:lnTo>
                    <a:pt x="185" y="15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652840" y="3837960"/>
              <a:ext cx="100800" cy="7992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19" y="117"/>
                  </a:moveTo>
                  <a:lnTo>
                    <a:pt x="0" y="117"/>
                  </a:lnTo>
                  <a:lnTo>
                    <a:pt x="75" y="0"/>
                  </a:lnTo>
                  <a:lnTo>
                    <a:pt x="146" y="115"/>
                  </a:lnTo>
                  <a:lnTo>
                    <a:pt x="19" y="11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519640" y="3506760"/>
              <a:ext cx="417960" cy="401760"/>
            </a:xfrm>
            <a:custGeom>
              <a:avLst/>
              <a:gdLst/>
              <a:ahLst/>
              <a:rect l="l" t="t" r="r" b="b"/>
              <a:pathLst>
                <a:path w="597" h="584">
                  <a:moveTo>
                    <a:pt x="383" y="584"/>
                  </a:moveTo>
                  <a:lnTo>
                    <a:pt x="332" y="431"/>
                  </a:lnTo>
                  <a:lnTo>
                    <a:pt x="315" y="410"/>
                  </a:lnTo>
                  <a:lnTo>
                    <a:pt x="296" y="392"/>
                  </a:lnTo>
                  <a:lnTo>
                    <a:pt x="278" y="374"/>
                  </a:lnTo>
                  <a:lnTo>
                    <a:pt x="260" y="358"/>
                  </a:lnTo>
                  <a:lnTo>
                    <a:pt x="240" y="344"/>
                  </a:lnTo>
                  <a:lnTo>
                    <a:pt x="220" y="330"/>
                  </a:lnTo>
                  <a:lnTo>
                    <a:pt x="199" y="318"/>
                  </a:lnTo>
                  <a:lnTo>
                    <a:pt x="180" y="307"/>
                  </a:lnTo>
                  <a:lnTo>
                    <a:pt x="159" y="297"/>
                  </a:lnTo>
                  <a:lnTo>
                    <a:pt x="139" y="288"/>
                  </a:lnTo>
                  <a:lnTo>
                    <a:pt x="118" y="280"/>
                  </a:lnTo>
                  <a:lnTo>
                    <a:pt x="98" y="271"/>
                  </a:lnTo>
                  <a:lnTo>
                    <a:pt x="77" y="264"/>
                  </a:lnTo>
                  <a:lnTo>
                    <a:pt x="59" y="256"/>
                  </a:lnTo>
                  <a:lnTo>
                    <a:pt x="39" y="249"/>
                  </a:lnTo>
                  <a:lnTo>
                    <a:pt x="21" y="241"/>
                  </a:lnTo>
                  <a:lnTo>
                    <a:pt x="0" y="202"/>
                  </a:lnTo>
                  <a:lnTo>
                    <a:pt x="19" y="173"/>
                  </a:lnTo>
                  <a:lnTo>
                    <a:pt x="79" y="201"/>
                  </a:lnTo>
                  <a:lnTo>
                    <a:pt x="212" y="160"/>
                  </a:lnTo>
                  <a:lnTo>
                    <a:pt x="268" y="93"/>
                  </a:lnTo>
                  <a:lnTo>
                    <a:pt x="285" y="22"/>
                  </a:lnTo>
                  <a:lnTo>
                    <a:pt x="518" y="0"/>
                  </a:lnTo>
                  <a:lnTo>
                    <a:pt x="549" y="97"/>
                  </a:lnTo>
                  <a:lnTo>
                    <a:pt x="560" y="133"/>
                  </a:lnTo>
                  <a:lnTo>
                    <a:pt x="530" y="174"/>
                  </a:lnTo>
                  <a:lnTo>
                    <a:pt x="571" y="202"/>
                  </a:lnTo>
                  <a:lnTo>
                    <a:pt x="571" y="232"/>
                  </a:lnTo>
                  <a:lnTo>
                    <a:pt x="581" y="271"/>
                  </a:lnTo>
                  <a:lnTo>
                    <a:pt x="524" y="369"/>
                  </a:lnTo>
                  <a:lnTo>
                    <a:pt x="524" y="398"/>
                  </a:lnTo>
                  <a:lnTo>
                    <a:pt x="582" y="347"/>
                  </a:lnTo>
                  <a:lnTo>
                    <a:pt x="582" y="387"/>
                  </a:lnTo>
                  <a:lnTo>
                    <a:pt x="556" y="515"/>
                  </a:lnTo>
                  <a:lnTo>
                    <a:pt x="596" y="502"/>
                  </a:lnTo>
                  <a:lnTo>
                    <a:pt x="597" y="561"/>
                  </a:lnTo>
                  <a:lnTo>
                    <a:pt x="383" y="58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3332880" y="3853080"/>
              <a:ext cx="40680" cy="4572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10" y="67"/>
                  </a:moveTo>
                  <a:lnTo>
                    <a:pt x="0" y="58"/>
                  </a:lnTo>
                  <a:lnTo>
                    <a:pt x="39" y="0"/>
                  </a:lnTo>
                  <a:lnTo>
                    <a:pt x="58" y="4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110600" y="3405960"/>
              <a:ext cx="581760" cy="505440"/>
            </a:xfrm>
            <a:custGeom>
              <a:avLst/>
              <a:gdLst/>
              <a:ahLst/>
              <a:rect l="l" t="t" r="r" b="b"/>
              <a:pathLst>
                <a:path w="831" h="731">
                  <a:moveTo>
                    <a:pt x="553" y="731"/>
                  </a:moveTo>
                  <a:lnTo>
                    <a:pt x="0" y="665"/>
                  </a:lnTo>
                  <a:lnTo>
                    <a:pt x="16" y="538"/>
                  </a:lnTo>
                  <a:lnTo>
                    <a:pt x="5" y="480"/>
                  </a:lnTo>
                  <a:lnTo>
                    <a:pt x="186" y="244"/>
                  </a:lnTo>
                  <a:lnTo>
                    <a:pt x="253" y="173"/>
                  </a:lnTo>
                  <a:lnTo>
                    <a:pt x="339" y="77"/>
                  </a:lnTo>
                  <a:lnTo>
                    <a:pt x="397" y="65"/>
                  </a:lnTo>
                  <a:lnTo>
                    <a:pt x="130" y="380"/>
                  </a:lnTo>
                  <a:lnTo>
                    <a:pt x="73" y="470"/>
                  </a:lnTo>
                  <a:lnTo>
                    <a:pt x="444" y="54"/>
                  </a:lnTo>
                  <a:lnTo>
                    <a:pt x="570" y="34"/>
                  </a:lnTo>
                  <a:lnTo>
                    <a:pt x="268" y="446"/>
                  </a:lnTo>
                  <a:lnTo>
                    <a:pt x="296" y="406"/>
                  </a:lnTo>
                  <a:lnTo>
                    <a:pt x="391" y="308"/>
                  </a:lnTo>
                  <a:lnTo>
                    <a:pt x="534" y="140"/>
                  </a:lnTo>
                  <a:lnTo>
                    <a:pt x="628" y="22"/>
                  </a:lnTo>
                  <a:lnTo>
                    <a:pt x="831" y="0"/>
                  </a:lnTo>
                  <a:lnTo>
                    <a:pt x="807" y="21"/>
                  </a:lnTo>
                  <a:lnTo>
                    <a:pt x="783" y="43"/>
                  </a:lnTo>
                  <a:lnTo>
                    <a:pt x="761" y="68"/>
                  </a:lnTo>
                  <a:lnTo>
                    <a:pt x="740" y="92"/>
                  </a:lnTo>
                  <a:lnTo>
                    <a:pt x="721" y="118"/>
                  </a:lnTo>
                  <a:lnTo>
                    <a:pt x="701" y="144"/>
                  </a:lnTo>
                  <a:lnTo>
                    <a:pt x="684" y="171"/>
                  </a:lnTo>
                  <a:lnTo>
                    <a:pt x="666" y="198"/>
                  </a:lnTo>
                  <a:lnTo>
                    <a:pt x="650" y="226"/>
                  </a:lnTo>
                  <a:lnTo>
                    <a:pt x="634" y="255"/>
                  </a:lnTo>
                  <a:lnTo>
                    <a:pt x="620" y="282"/>
                  </a:lnTo>
                  <a:lnTo>
                    <a:pt x="606" y="309"/>
                  </a:lnTo>
                  <a:lnTo>
                    <a:pt x="594" y="336"/>
                  </a:lnTo>
                  <a:lnTo>
                    <a:pt x="582" y="362"/>
                  </a:lnTo>
                  <a:lnTo>
                    <a:pt x="570" y="388"/>
                  </a:lnTo>
                  <a:lnTo>
                    <a:pt x="559" y="412"/>
                  </a:lnTo>
                  <a:lnTo>
                    <a:pt x="563" y="694"/>
                  </a:lnTo>
                  <a:lnTo>
                    <a:pt x="553" y="731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407680" y="3717720"/>
              <a:ext cx="162360" cy="157320"/>
            </a:xfrm>
            <a:custGeom>
              <a:avLst/>
              <a:gdLst/>
              <a:ahLst/>
              <a:rect l="l" t="t" r="r" b="b"/>
              <a:pathLst>
                <a:path w="230" h="226">
                  <a:moveTo>
                    <a:pt x="10" y="226"/>
                  </a:moveTo>
                  <a:lnTo>
                    <a:pt x="10" y="218"/>
                  </a:lnTo>
                  <a:lnTo>
                    <a:pt x="0" y="178"/>
                  </a:lnTo>
                  <a:lnTo>
                    <a:pt x="161" y="1"/>
                  </a:lnTo>
                  <a:lnTo>
                    <a:pt x="230" y="0"/>
                  </a:lnTo>
                  <a:lnTo>
                    <a:pt x="10" y="22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957040" y="3635280"/>
              <a:ext cx="179280" cy="223560"/>
            </a:xfrm>
            <a:custGeom>
              <a:avLst/>
              <a:gdLst/>
              <a:ahLst/>
              <a:rect l="l" t="t" r="r" b="b"/>
              <a:pathLst>
                <a:path w="256" h="325">
                  <a:moveTo>
                    <a:pt x="11" y="325"/>
                  </a:moveTo>
                  <a:lnTo>
                    <a:pt x="0" y="295"/>
                  </a:lnTo>
                  <a:lnTo>
                    <a:pt x="2" y="263"/>
                  </a:lnTo>
                  <a:lnTo>
                    <a:pt x="13" y="231"/>
                  </a:lnTo>
                  <a:lnTo>
                    <a:pt x="29" y="199"/>
                  </a:lnTo>
                  <a:lnTo>
                    <a:pt x="49" y="167"/>
                  </a:lnTo>
                  <a:lnTo>
                    <a:pt x="73" y="137"/>
                  </a:lnTo>
                  <a:lnTo>
                    <a:pt x="98" y="105"/>
                  </a:lnTo>
                  <a:lnTo>
                    <a:pt x="126" y="73"/>
                  </a:lnTo>
                  <a:lnTo>
                    <a:pt x="151" y="41"/>
                  </a:lnTo>
                  <a:lnTo>
                    <a:pt x="256" y="0"/>
                  </a:lnTo>
                  <a:lnTo>
                    <a:pt x="11" y="32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597320" y="3654360"/>
              <a:ext cx="189000" cy="1684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59" y="244"/>
                  </a:moveTo>
                  <a:lnTo>
                    <a:pt x="0" y="196"/>
                  </a:lnTo>
                  <a:lnTo>
                    <a:pt x="0" y="171"/>
                  </a:lnTo>
                  <a:lnTo>
                    <a:pt x="2" y="147"/>
                  </a:lnTo>
                  <a:lnTo>
                    <a:pt x="6" y="123"/>
                  </a:lnTo>
                  <a:lnTo>
                    <a:pt x="12" y="100"/>
                  </a:lnTo>
                  <a:lnTo>
                    <a:pt x="22" y="78"/>
                  </a:lnTo>
                  <a:lnTo>
                    <a:pt x="35" y="56"/>
                  </a:lnTo>
                  <a:lnTo>
                    <a:pt x="53" y="32"/>
                  </a:lnTo>
                  <a:lnTo>
                    <a:pt x="75" y="10"/>
                  </a:lnTo>
                  <a:lnTo>
                    <a:pt x="114" y="0"/>
                  </a:lnTo>
                  <a:lnTo>
                    <a:pt x="271" y="66"/>
                  </a:lnTo>
                  <a:lnTo>
                    <a:pt x="262" y="143"/>
                  </a:lnTo>
                  <a:lnTo>
                    <a:pt x="176" y="242"/>
                  </a:lnTo>
                  <a:lnTo>
                    <a:pt x="5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397600" y="3694320"/>
              <a:ext cx="88200" cy="9396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3" y="137"/>
                  </a:moveTo>
                  <a:lnTo>
                    <a:pt x="11" y="97"/>
                  </a:lnTo>
                  <a:lnTo>
                    <a:pt x="48" y="48"/>
                  </a:lnTo>
                  <a:lnTo>
                    <a:pt x="0" y="40"/>
                  </a:lnTo>
                  <a:lnTo>
                    <a:pt x="19" y="0"/>
                  </a:lnTo>
                  <a:lnTo>
                    <a:pt x="126" y="9"/>
                  </a:lnTo>
                  <a:lnTo>
                    <a:pt x="13" y="13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23960" y="3694320"/>
              <a:ext cx="135720" cy="9396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39" y="137"/>
                  </a:moveTo>
                  <a:lnTo>
                    <a:pt x="0" y="100"/>
                  </a:lnTo>
                  <a:lnTo>
                    <a:pt x="47" y="11"/>
                  </a:lnTo>
                  <a:lnTo>
                    <a:pt x="105" y="0"/>
                  </a:lnTo>
                  <a:lnTo>
                    <a:pt x="182" y="9"/>
                  </a:lnTo>
                  <a:lnTo>
                    <a:pt x="193" y="47"/>
                  </a:lnTo>
                  <a:lnTo>
                    <a:pt x="146" y="126"/>
                  </a:lnTo>
                  <a:lnTo>
                    <a:pt x="39" y="137"/>
                  </a:lnTo>
                  <a:close/>
                </a:path>
              </a:pathLst>
            </a:custGeom>
            <a:solidFill>
              <a:srgbClr val="cc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954160" y="3643200"/>
              <a:ext cx="81360" cy="101880"/>
            </a:xfrm>
            <a:custGeom>
              <a:avLst/>
              <a:gdLst/>
              <a:ahLst/>
              <a:rect l="l" t="t" r="r" b="b"/>
              <a:pathLst>
                <a:path w="116" h="148">
                  <a:moveTo>
                    <a:pt x="1" y="148"/>
                  </a:moveTo>
                  <a:lnTo>
                    <a:pt x="0" y="82"/>
                  </a:lnTo>
                  <a:lnTo>
                    <a:pt x="38" y="31"/>
                  </a:lnTo>
                  <a:lnTo>
                    <a:pt x="116" y="0"/>
                  </a:lnTo>
                  <a:lnTo>
                    <a:pt x="31" y="139"/>
                  </a:lnTo>
                  <a:lnTo>
                    <a:pt x="1" y="148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671480" y="3720600"/>
              <a:ext cx="40320" cy="399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11" y="57"/>
                  </a:moveTo>
                  <a:lnTo>
                    <a:pt x="0" y="48"/>
                  </a:lnTo>
                  <a:lnTo>
                    <a:pt x="19" y="0"/>
                  </a:lnTo>
                  <a:lnTo>
                    <a:pt x="59" y="56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112040" y="3471840"/>
              <a:ext cx="173880" cy="223920"/>
            </a:xfrm>
            <a:custGeom>
              <a:avLst/>
              <a:gdLst/>
              <a:ahLst/>
              <a:rect l="l" t="t" r="r" b="b"/>
              <a:pathLst>
                <a:path w="247" h="325">
                  <a:moveTo>
                    <a:pt x="1" y="325"/>
                  </a:moveTo>
                  <a:lnTo>
                    <a:pt x="0" y="238"/>
                  </a:lnTo>
                  <a:lnTo>
                    <a:pt x="172" y="21"/>
                  </a:lnTo>
                  <a:lnTo>
                    <a:pt x="247" y="0"/>
                  </a:lnTo>
                  <a:lnTo>
                    <a:pt x="1" y="32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367800" y="3543840"/>
              <a:ext cx="74160" cy="99000"/>
            </a:xfrm>
            <a:custGeom>
              <a:avLst/>
              <a:gdLst/>
              <a:ahLst/>
              <a:rect l="l" t="t" r="r" b="b"/>
              <a:pathLst>
                <a:path w="106" h="144">
                  <a:moveTo>
                    <a:pt x="49" y="136"/>
                  </a:moveTo>
                  <a:lnTo>
                    <a:pt x="20" y="117"/>
                  </a:lnTo>
                  <a:lnTo>
                    <a:pt x="0" y="79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106" y="37"/>
                  </a:lnTo>
                  <a:lnTo>
                    <a:pt x="98" y="144"/>
                  </a:lnTo>
                  <a:lnTo>
                    <a:pt x="49" y="13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19240" y="3200040"/>
              <a:ext cx="353160" cy="434880"/>
            </a:xfrm>
            <a:custGeom>
              <a:avLst/>
              <a:gdLst/>
              <a:ahLst/>
              <a:rect l="l" t="t" r="r" b="b"/>
              <a:pathLst>
                <a:path w="502" h="629">
                  <a:moveTo>
                    <a:pt x="140" y="625"/>
                  </a:moveTo>
                  <a:lnTo>
                    <a:pt x="90" y="539"/>
                  </a:lnTo>
                  <a:lnTo>
                    <a:pt x="59" y="511"/>
                  </a:lnTo>
                  <a:lnTo>
                    <a:pt x="0" y="425"/>
                  </a:lnTo>
                  <a:lnTo>
                    <a:pt x="78" y="318"/>
                  </a:lnTo>
                  <a:lnTo>
                    <a:pt x="352" y="11"/>
                  </a:lnTo>
                  <a:lnTo>
                    <a:pt x="486" y="0"/>
                  </a:lnTo>
                  <a:lnTo>
                    <a:pt x="412" y="137"/>
                  </a:lnTo>
                  <a:lnTo>
                    <a:pt x="202" y="373"/>
                  </a:lnTo>
                  <a:lnTo>
                    <a:pt x="155" y="414"/>
                  </a:lnTo>
                  <a:lnTo>
                    <a:pt x="108" y="393"/>
                  </a:lnTo>
                  <a:lnTo>
                    <a:pt x="145" y="422"/>
                  </a:lnTo>
                  <a:lnTo>
                    <a:pt x="118" y="471"/>
                  </a:lnTo>
                  <a:lnTo>
                    <a:pt x="155" y="432"/>
                  </a:lnTo>
                  <a:lnTo>
                    <a:pt x="214" y="421"/>
                  </a:lnTo>
                  <a:lnTo>
                    <a:pt x="203" y="401"/>
                  </a:lnTo>
                  <a:lnTo>
                    <a:pt x="422" y="137"/>
                  </a:lnTo>
                  <a:lnTo>
                    <a:pt x="489" y="106"/>
                  </a:lnTo>
                  <a:lnTo>
                    <a:pt x="501" y="212"/>
                  </a:lnTo>
                  <a:lnTo>
                    <a:pt x="473" y="281"/>
                  </a:lnTo>
                  <a:lnTo>
                    <a:pt x="473" y="291"/>
                  </a:lnTo>
                  <a:lnTo>
                    <a:pt x="502" y="281"/>
                  </a:lnTo>
                  <a:lnTo>
                    <a:pt x="490" y="629"/>
                  </a:lnTo>
                  <a:lnTo>
                    <a:pt x="140" y="625"/>
                  </a:lnTo>
                  <a:close/>
                </a:path>
              </a:pathLst>
            </a:cu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408760" y="3525840"/>
              <a:ext cx="109080" cy="10080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41" y="145"/>
                  </a:moveTo>
                  <a:lnTo>
                    <a:pt x="11" y="115"/>
                  </a:lnTo>
                  <a:lnTo>
                    <a:pt x="0" y="80"/>
                  </a:lnTo>
                  <a:lnTo>
                    <a:pt x="38" y="0"/>
                  </a:lnTo>
                  <a:lnTo>
                    <a:pt x="154" y="18"/>
                  </a:lnTo>
                  <a:lnTo>
                    <a:pt x="155" y="95"/>
                  </a:lnTo>
                  <a:lnTo>
                    <a:pt x="109" y="144"/>
                  </a:lnTo>
                  <a:lnTo>
                    <a:pt x="41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567160" y="3517560"/>
              <a:ext cx="113760" cy="85320"/>
            </a:xfrm>
            <a:custGeom>
              <a:avLst/>
              <a:gdLst/>
              <a:ahLst/>
              <a:rect l="l" t="t" r="r" b="b"/>
              <a:pathLst>
                <a:path w="161" h="125">
                  <a:moveTo>
                    <a:pt x="18" y="125"/>
                  </a:moveTo>
                  <a:lnTo>
                    <a:pt x="0" y="106"/>
                  </a:lnTo>
                  <a:lnTo>
                    <a:pt x="8" y="58"/>
                  </a:lnTo>
                  <a:lnTo>
                    <a:pt x="37" y="0"/>
                  </a:lnTo>
                  <a:lnTo>
                    <a:pt x="112" y="8"/>
                  </a:lnTo>
                  <a:lnTo>
                    <a:pt x="161" y="46"/>
                  </a:lnTo>
                  <a:lnTo>
                    <a:pt x="124" y="115"/>
                  </a:lnTo>
                  <a:lnTo>
                    <a:pt x="18" y="125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109160" y="3507840"/>
              <a:ext cx="61560" cy="673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1" y="98"/>
                  </a:moveTo>
                  <a:lnTo>
                    <a:pt x="0" y="11"/>
                  </a:lnTo>
                  <a:lnTo>
                    <a:pt x="89" y="0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985400" y="3201120"/>
              <a:ext cx="253800" cy="265320"/>
            </a:xfrm>
            <a:custGeom>
              <a:avLst/>
              <a:gdLst/>
              <a:ahLst/>
              <a:rect l="l" t="t" r="r" b="b"/>
              <a:pathLst>
                <a:path w="362" h="384">
                  <a:moveTo>
                    <a:pt x="18" y="384"/>
                  </a:moveTo>
                  <a:lnTo>
                    <a:pt x="0" y="384"/>
                  </a:lnTo>
                  <a:lnTo>
                    <a:pt x="284" y="9"/>
                  </a:lnTo>
                  <a:lnTo>
                    <a:pt x="362" y="0"/>
                  </a:lnTo>
                  <a:lnTo>
                    <a:pt x="18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515320" y="3294000"/>
              <a:ext cx="440280" cy="165600"/>
            </a:xfrm>
            <a:custGeom>
              <a:avLst/>
              <a:gdLst/>
              <a:ahLst/>
              <a:rect l="l" t="t" r="r" b="b"/>
              <a:pathLst>
                <a:path w="629" h="240">
                  <a:moveTo>
                    <a:pt x="21" y="240"/>
                  </a:moveTo>
                  <a:lnTo>
                    <a:pt x="0" y="221"/>
                  </a:lnTo>
                  <a:lnTo>
                    <a:pt x="131" y="44"/>
                  </a:lnTo>
                  <a:lnTo>
                    <a:pt x="131" y="14"/>
                  </a:lnTo>
                  <a:lnTo>
                    <a:pt x="237" y="42"/>
                  </a:lnTo>
                  <a:lnTo>
                    <a:pt x="285" y="3"/>
                  </a:lnTo>
                  <a:lnTo>
                    <a:pt x="325" y="3"/>
                  </a:lnTo>
                  <a:lnTo>
                    <a:pt x="382" y="40"/>
                  </a:lnTo>
                  <a:lnTo>
                    <a:pt x="431" y="39"/>
                  </a:lnTo>
                  <a:lnTo>
                    <a:pt x="451" y="0"/>
                  </a:lnTo>
                  <a:lnTo>
                    <a:pt x="509" y="19"/>
                  </a:lnTo>
                  <a:lnTo>
                    <a:pt x="629" y="151"/>
                  </a:lnTo>
                  <a:lnTo>
                    <a:pt x="608" y="191"/>
                  </a:lnTo>
                  <a:lnTo>
                    <a:pt x="501" y="125"/>
                  </a:lnTo>
                  <a:lnTo>
                    <a:pt x="482" y="87"/>
                  </a:lnTo>
                  <a:lnTo>
                    <a:pt x="365" y="98"/>
                  </a:lnTo>
                  <a:lnTo>
                    <a:pt x="307" y="69"/>
                  </a:lnTo>
                  <a:lnTo>
                    <a:pt x="278" y="90"/>
                  </a:lnTo>
                  <a:lnTo>
                    <a:pt x="258" y="100"/>
                  </a:lnTo>
                  <a:lnTo>
                    <a:pt x="190" y="83"/>
                  </a:lnTo>
                  <a:lnTo>
                    <a:pt x="162" y="64"/>
                  </a:lnTo>
                  <a:lnTo>
                    <a:pt x="57" y="220"/>
                  </a:lnTo>
                  <a:lnTo>
                    <a:pt x="21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143000" y="2940120"/>
              <a:ext cx="691200" cy="521640"/>
            </a:xfrm>
            <a:custGeom>
              <a:avLst/>
              <a:gdLst/>
              <a:ahLst/>
              <a:rect l="l" t="t" r="r" b="b"/>
              <a:pathLst>
                <a:path w="987" h="757">
                  <a:moveTo>
                    <a:pt x="30" y="757"/>
                  </a:moveTo>
                  <a:lnTo>
                    <a:pt x="20" y="736"/>
                  </a:lnTo>
                  <a:lnTo>
                    <a:pt x="0" y="718"/>
                  </a:lnTo>
                  <a:lnTo>
                    <a:pt x="74" y="560"/>
                  </a:lnTo>
                  <a:lnTo>
                    <a:pt x="100" y="560"/>
                  </a:lnTo>
                  <a:lnTo>
                    <a:pt x="124" y="559"/>
                  </a:lnTo>
                  <a:lnTo>
                    <a:pt x="150" y="559"/>
                  </a:lnTo>
                  <a:lnTo>
                    <a:pt x="176" y="559"/>
                  </a:lnTo>
                  <a:lnTo>
                    <a:pt x="201" y="558"/>
                  </a:lnTo>
                  <a:lnTo>
                    <a:pt x="227" y="558"/>
                  </a:lnTo>
                  <a:lnTo>
                    <a:pt x="252" y="558"/>
                  </a:lnTo>
                  <a:lnTo>
                    <a:pt x="278" y="557"/>
                  </a:lnTo>
                  <a:lnTo>
                    <a:pt x="303" y="557"/>
                  </a:lnTo>
                  <a:lnTo>
                    <a:pt x="329" y="557"/>
                  </a:lnTo>
                  <a:lnTo>
                    <a:pt x="355" y="557"/>
                  </a:lnTo>
                  <a:lnTo>
                    <a:pt x="379" y="556"/>
                  </a:lnTo>
                  <a:lnTo>
                    <a:pt x="405" y="556"/>
                  </a:lnTo>
                  <a:lnTo>
                    <a:pt x="431" y="556"/>
                  </a:lnTo>
                  <a:lnTo>
                    <a:pt x="455" y="554"/>
                  </a:lnTo>
                  <a:lnTo>
                    <a:pt x="481" y="554"/>
                  </a:lnTo>
                  <a:lnTo>
                    <a:pt x="568" y="494"/>
                  </a:lnTo>
                  <a:lnTo>
                    <a:pt x="566" y="407"/>
                  </a:lnTo>
                  <a:lnTo>
                    <a:pt x="558" y="389"/>
                  </a:lnTo>
                  <a:lnTo>
                    <a:pt x="469" y="303"/>
                  </a:lnTo>
                  <a:lnTo>
                    <a:pt x="439" y="303"/>
                  </a:lnTo>
                  <a:lnTo>
                    <a:pt x="421" y="329"/>
                  </a:lnTo>
                  <a:lnTo>
                    <a:pt x="407" y="355"/>
                  </a:lnTo>
                  <a:lnTo>
                    <a:pt x="398" y="381"/>
                  </a:lnTo>
                  <a:lnTo>
                    <a:pt x="390" y="407"/>
                  </a:lnTo>
                  <a:lnTo>
                    <a:pt x="387" y="431"/>
                  </a:lnTo>
                  <a:lnTo>
                    <a:pt x="385" y="457"/>
                  </a:lnTo>
                  <a:lnTo>
                    <a:pt x="385" y="482"/>
                  </a:lnTo>
                  <a:lnTo>
                    <a:pt x="385" y="508"/>
                  </a:lnTo>
                  <a:lnTo>
                    <a:pt x="133" y="512"/>
                  </a:lnTo>
                  <a:lnTo>
                    <a:pt x="64" y="473"/>
                  </a:lnTo>
                  <a:lnTo>
                    <a:pt x="92" y="415"/>
                  </a:lnTo>
                  <a:lnTo>
                    <a:pt x="378" y="130"/>
                  </a:lnTo>
                  <a:lnTo>
                    <a:pt x="435" y="61"/>
                  </a:lnTo>
                  <a:lnTo>
                    <a:pt x="473" y="21"/>
                  </a:lnTo>
                  <a:lnTo>
                    <a:pt x="506" y="19"/>
                  </a:lnTo>
                  <a:lnTo>
                    <a:pt x="538" y="16"/>
                  </a:lnTo>
                  <a:lnTo>
                    <a:pt x="570" y="13"/>
                  </a:lnTo>
                  <a:lnTo>
                    <a:pt x="602" y="10"/>
                  </a:lnTo>
                  <a:lnTo>
                    <a:pt x="634" y="8"/>
                  </a:lnTo>
                  <a:lnTo>
                    <a:pt x="666" y="5"/>
                  </a:lnTo>
                  <a:lnTo>
                    <a:pt x="698" y="3"/>
                  </a:lnTo>
                  <a:lnTo>
                    <a:pt x="730" y="2"/>
                  </a:lnTo>
                  <a:lnTo>
                    <a:pt x="761" y="0"/>
                  </a:lnTo>
                  <a:lnTo>
                    <a:pt x="793" y="2"/>
                  </a:lnTo>
                  <a:lnTo>
                    <a:pt x="825" y="3"/>
                  </a:lnTo>
                  <a:lnTo>
                    <a:pt x="857" y="5"/>
                  </a:lnTo>
                  <a:lnTo>
                    <a:pt x="889" y="10"/>
                  </a:lnTo>
                  <a:lnTo>
                    <a:pt x="922" y="15"/>
                  </a:lnTo>
                  <a:lnTo>
                    <a:pt x="954" y="23"/>
                  </a:lnTo>
                  <a:lnTo>
                    <a:pt x="987" y="32"/>
                  </a:lnTo>
                  <a:lnTo>
                    <a:pt x="970" y="120"/>
                  </a:lnTo>
                  <a:lnTo>
                    <a:pt x="923" y="352"/>
                  </a:lnTo>
                  <a:lnTo>
                    <a:pt x="877" y="383"/>
                  </a:lnTo>
                  <a:lnTo>
                    <a:pt x="906" y="402"/>
                  </a:lnTo>
                  <a:lnTo>
                    <a:pt x="880" y="597"/>
                  </a:lnTo>
                  <a:lnTo>
                    <a:pt x="900" y="616"/>
                  </a:lnTo>
                  <a:lnTo>
                    <a:pt x="505" y="680"/>
                  </a:lnTo>
                  <a:lnTo>
                    <a:pt x="436" y="663"/>
                  </a:lnTo>
                  <a:lnTo>
                    <a:pt x="417" y="672"/>
                  </a:lnTo>
                  <a:lnTo>
                    <a:pt x="30" y="7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916640" y="3209760"/>
              <a:ext cx="227160" cy="230400"/>
            </a:xfrm>
            <a:custGeom>
              <a:avLst/>
              <a:gdLst/>
              <a:ahLst/>
              <a:rect l="l" t="t" r="r" b="b"/>
              <a:pathLst>
                <a:path w="325" h="334">
                  <a:moveTo>
                    <a:pt x="51" y="325"/>
                  </a:moveTo>
                  <a:lnTo>
                    <a:pt x="0" y="288"/>
                  </a:lnTo>
                  <a:lnTo>
                    <a:pt x="221" y="13"/>
                  </a:lnTo>
                  <a:lnTo>
                    <a:pt x="325" y="0"/>
                  </a:lnTo>
                  <a:lnTo>
                    <a:pt x="80" y="334"/>
                  </a:lnTo>
                  <a:lnTo>
                    <a:pt x="51" y="325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9680" y="3219120"/>
              <a:ext cx="182160" cy="175320"/>
            </a:xfrm>
            <a:custGeom>
              <a:avLst/>
              <a:gdLst/>
              <a:ahLst/>
              <a:rect l="l" t="t" r="r" b="b"/>
              <a:pathLst>
                <a:path w="259" h="254">
                  <a:moveTo>
                    <a:pt x="20" y="247"/>
                  </a:moveTo>
                  <a:lnTo>
                    <a:pt x="0" y="247"/>
                  </a:lnTo>
                  <a:lnTo>
                    <a:pt x="209" y="0"/>
                  </a:lnTo>
                  <a:lnTo>
                    <a:pt x="259" y="0"/>
                  </a:lnTo>
                  <a:lnTo>
                    <a:pt x="97" y="224"/>
                  </a:lnTo>
                  <a:lnTo>
                    <a:pt x="58" y="254"/>
                  </a:lnTo>
                  <a:lnTo>
                    <a:pt x="2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812960" y="3220560"/>
              <a:ext cx="134280" cy="135000"/>
            </a:xfrm>
            <a:custGeom>
              <a:avLst/>
              <a:gdLst/>
              <a:ahLst/>
              <a:rect l="l" t="t" r="r" b="b"/>
              <a:pathLst>
                <a:path w="192" h="194">
                  <a:moveTo>
                    <a:pt x="30" y="194"/>
                  </a:moveTo>
                  <a:lnTo>
                    <a:pt x="11" y="176"/>
                  </a:lnTo>
                  <a:lnTo>
                    <a:pt x="0" y="157"/>
                  </a:lnTo>
                  <a:lnTo>
                    <a:pt x="0" y="118"/>
                  </a:lnTo>
                  <a:lnTo>
                    <a:pt x="84" y="11"/>
                  </a:lnTo>
                  <a:lnTo>
                    <a:pt x="192" y="0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693520" y="2973240"/>
              <a:ext cx="48960" cy="306360"/>
            </a:xfrm>
            <a:custGeom>
              <a:avLst/>
              <a:gdLst/>
              <a:ahLst/>
              <a:rect l="l" t="t" r="r" b="b"/>
              <a:pathLst>
                <a:path w="70" h="445">
                  <a:moveTo>
                    <a:pt x="14" y="437"/>
                  </a:moveTo>
                  <a:lnTo>
                    <a:pt x="17" y="48"/>
                  </a:lnTo>
                  <a:lnTo>
                    <a:pt x="6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0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6" y="9"/>
                  </a:lnTo>
                  <a:lnTo>
                    <a:pt x="70" y="367"/>
                  </a:lnTo>
                  <a:lnTo>
                    <a:pt x="62" y="445"/>
                  </a:lnTo>
                  <a:lnTo>
                    <a:pt x="14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850480" y="2976120"/>
              <a:ext cx="48960" cy="295560"/>
            </a:xfrm>
            <a:custGeom>
              <a:avLst/>
              <a:gdLst/>
              <a:ahLst/>
              <a:rect l="l" t="t" r="r" b="b"/>
              <a:pathLst>
                <a:path w="70" h="429">
                  <a:moveTo>
                    <a:pt x="22" y="429"/>
                  </a:moveTo>
                  <a:lnTo>
                    <a:pt x="0" y="205"/>
                  </a:lnTo>
                  <a:lnTo>
                    <a:pt x="4" y="0"/>
                  </a:lnTo>
                  <a:lnTo>
                    <a:pt x="54" y="0"/>
                  </a:lnTo>
                  <a:lnTo>
                    <a:pt x="70" y="398"/>
                  </a:lnTo>
                  <a:lnTo>
                    <a:pt x="22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770560" y="2977560"/>
              <a:ext cx="40680" cy="28836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417"/>
                  </a:moveTo>
                  <a:lnTo>
                    <a:pt x="11" y="0"/>
                  </a:lnTo>
                  <a:lnTo>
                    <a:pt x="47" y="330"/>
                  </a:lnTo>
                  <a:lnTo>
                    <a:pt x="58" y="388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613600" y="2954160"/>
              <a:ext cx="50400" cy="314640"/>
            </a:xfrm>
            <a:custGeom>
              <a:avLst/>
              <a:gdLst/>
              <a:ahLst/>
              <a:rect l="l" t="t" r="r" b="b"/>
              <a:pathLst>
                <a:path w="71" h="457">
                  <a:moveTo>
                    <a:pt x="0" y="447"/>
                  </a:moveTo>
                  <a:lnTo>
                    <a:pt x="15" y="90"/>
                  </a:lnTo>
                  <a:lnTo>
                    <a:pt x="33" y="58"/>
                  </a:lnTo>
                  <a:lnTo>
                    <a:pt x="22" y="39"/>
                  </a:lnTo>
                  <a:lnTo>
                    <a:pt x="71" y="0"/>
                  </a:lnTo>
                  <a:lnTo>
                    <a:pt x="71" y="38"/>
                  </a:lnTo>
                  <a:lnTo>
                    <a:pt x="50" y="49"/>
                  </a:lnTo>
                  <a:lnTo>
                    <a:pt x="30" y="457"/>
                  </a:lnTo>
                  <a:lnTo>
                    <a:pt x="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362400" y="3046320"/>
              <a:ext cx="152280" cy="20268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294"/>
                  </a:moveTo>
                  <a:lnTo>
                    <a:pt x="26" y="179"/>
                  </a:lnTo>
                  <a:lnTo>
                    <a:pt x="199" y="0"/>
                  </a:lnTo>
                  <a:lnTo>
                    <a:pt x="218" y="58"/>
                  </a:lnTo>
                  <a:lnTo>
                    <a:pt x="40" y="27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988000" y="3099240"/>
              <a:ext cx="146880" cy="122760"/>
            </a:xfrm>
            <a:custGeom>
              <a:avLst/>
              <a:gdLst/>
              <a:ahLst/>
              <a:rect l="l" t="t" r="r" b="b"/>
              <a:pathLst>
                <a:path w="212" h="177">
                  <a:moveTo>
                    <a:pt x="0" y="177"/>
                  </a:moveTo>
                  <a:lnTo>
                    <a:pt x="75" y="12"/>
                  </a:lnTo>
                  <a:lnTo>
                    <a:pt x="105" y="1"/>
                  </a:lnTo>
                  <a:lnTo>
                    <a:pt x="154" y="0"/>
                  </a:lnTo>
                  <a:lnTo>
                    <a:pt x="154" y="29"/>
                  </a:lnTo>
                  <a:lnTo>
                    <a:pt x="212" y="58"/>
                  </a:lnTo>
                  <a:lnTo>
                    <a:pt x="174" y="135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159560" y="2961000"/>
              <a:ext cx="280080" cy="280080"/>
            </a:xfrm>
            <a:custGeom>
              <a:avLst/>
              <a:gdLst/>
              <a:ahLst/>
              <a:rect l="l" t="t" r="r" b="b"/>
              <a:pathLst>
                <a:path w="401" h="406">
                  <a:moveTo>
                    <a:pt x="12" y="406"/>
                  </a:moveTo>
                  <a:lnTo>
                    <a:pt x="0" y="337"/>
                  </a:lnTo>
                  <a:lnTo>
                    <a:pt x="296" y="22"/>
                  </a:lnTo>
                  <a:lnTo>
                    <a:pt x="332" y="12"/>
                  </a:lnTo>
                  <a:lnTo>
                    <a:pt x="401" y="0"/>
                  </a:lnTo>
                  <a:lnTo>
                    <a:pt x="363" y="49"/>
                  </a:lnTo>
                  <a:lnTo>
                    <a:pt x="326" y="111"/>
                  </a:lnTo>
                  <a:lnTo>
                    <a:pt x="232" y="198"/>
                  </a:lnTo>
                  <a:lnTo>
                    <a:pt x="189" y="234"/>
                  </a:lnTo>
                  <a:lnTo>
                    <a:pt x="131" y="285"/>
                  </a:lnTo>
                  <a:lnTo>
                    <a:pt x="12" y="4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825920" y="2985840"/>
              <a:ext cx="194760" cy="200160"/>
            </a:xfrm>
            <a:custGeom>
              <a:avLst/>
              <a:gdLst/>
              <a:ahLst/>
              <a:rect l="l" t="t" r="r" b="b"/>
              <a:pathLst>
                <a:path w="278" h="290">
                  <a:moveTo>
                    <a:pt x="0" y="284"/>
                  </a:moveTo>
                  <a:lnTo>
                    <a:pt x="81" y="1"/>
                  </a:lnTo>
                  <a:lnTo>
                    <a:pt x="140" y="0"/>
                  </a:lnTo>
                  <a:lnTo>
                    <a:pt x="166" y="22"/>
                  </a:lnTo>
                  <a:lnTo>
                    <a:pt x="191" y="45"/>
                  </a:lnTo>
                  <a:lnTo>
                    <a:pt x="213" y="69"/>
                  </a:lnTo>
                  <a:lnTo>
                    <a:pt x="234" y="93"/>
                  </a:lnTo>
                  <a:lnTo>
                    <a:pt x="252" y="119"/>
                  </a:lnTo>
                  <a:lnTo>
                    <a:pt x="266" y="146"/>
                  </a:lnTo>
                  <a:lnTo>
                    <a:pt x="275" y="175"/>
                  </a:lnTo>
                  <a:lnTo>
                    <a:pt x="278" y="203"/>
                  </a:lnTo>
                  <a:lnTo>
                    <a:pt x="261" y="29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372120" y="2964960"/>
              <a:ext cx="140040" cy="190440"/>
            </a:xfrm>
            <a:custGeom>
              <a:avLst/>
              <a:gdLst/>
              <a:ahLst/>
              <a:rect l="l" t="t" r="r" b="b"/>
              <a:pathLst>
                <a:path w="201" h="276">
                  <a:moveTo>
                    <a:pt x="1" y="276"/>
                  </a:moveTo>
                  <a:lnTo>
                    <a:pt x="0" y="189"/>
                  </a:lnTo>
                  <a:lnTo>
                    <a:pt x="171" y="2"/>
                  </a:lnTo>
                  <a:lnTo>
                    <a:pt x="200" y="0"/>
                  </a:lnTo>
                  <a:lnTo>
                    <a:pt x="201" y="30"/>
                  </a:lnTo>
                  <a:lnTo>
                    <a:pt x="126" y="148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055600" y="2944440"/>
              <a:ext cx="315360" cy="227520"/>
            </a:xfrm>
            <a:custGeom>
              <a:avLst/>
              <a:gdLst/>
              <a:ahLst/>
              <a:rect l="l" t="t" r="r" b="b"/>
              <a:pathLst>
                <a:path w="451" h="330">
                  <a:moveTo>
                    <a:pt x="0" y="327"/>
                  </a:moveTo>
                  <a:lnTo>
                    <a:pt x="10" y="289"/>
                  </a:lnTo>
                  <a:lnTo>
                    <a:pt x="209" y="3"/>
                  </a:lnTo>
                  <a:lnTo>
                    <a:pt x="451" y="0"/>
                  </a:lnTo>
                  <a:lnTo>
                    <a:pt x="418" y="330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148400" y="2996640"/>
              <a:ext cx="156960" cy="161640"/>
            </a:xfrm>
            <a:custGeom>
              <a:avLst/>
              <a:gdLst/>
              <a:ahLst/>
              <a:rect l="l" t="t" r="r" b="b"/>
              <a:pathLst>
                <a:path w="223" h="234">
                  <a:moveTo>
                    <a:pt x="0" y="214"/>
                  </a:moveTo>
                  <a:lnTo>
                    <a:pt x="108" y="63"/>
                  </a:lnTo>
                  <a:lnTo>
                    <a:pt x="165" y="22"/>
                  </a:lnTo>
                  <a:lnTo>
                    <a:pt x="223" y="0"/>
                  </a:lnTo>
                  <a:lnTo>
                    <a:pt x="11" y="23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115800" y="3065760"/>
              <a:ext cx="59760" cy="468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30" y="68"/>
                  </a:moveTo>
                  <a:lnTo>
                    <a:pt x="0" y="68"/>
                  </a:lnTo>
                  <a:lnTo>
                    <a:pt x="19" y="29"/>
                  </a:lnTo>
                  <a:lnTo>
                    <a:pt x="86" y="0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040120" y="2948400"/>
              <a:ext cx="120600" cy="142200"/>
            </a:xfrm>
            <a:custGeom>
              <a:avLst/>
              <a:gdLst/>
              <a:ahLst/>
              <a:rect l="l" t="t" r="r" b="b"/>
              <a:pathLst>
                <a:path w="173" h="207">
                  <a:moveTo>
                    <a:pt x="20" y="207"/>
                  </a:moveTo>
                  <a:lnTo>
                    <a:pt x="11" y="177"/>
                  </a:lnTo>
                  <a:lnTo>
                    <a:pt x="0" y="158"/>
                  </a:lnTo>
                  <a:lnTo>
                    <a:pt x="114" y="12"/>
                  </a:lnTo>
                  <a:lnTo>
                    <a:pt x="173" y="0"/>
                  </a:lnTo>
                  <a:lnTo>
                    <a:pt x="20" y="20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006640" y="2948400"/>
              <a:ext cx="79560" cy="7704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9" y="111"/>
                  </a:moveTo>
                  <a:lnTo>
                    <a:pt x="0" y="100"/>
                  </a:lnTo>
                  <a:lnTo>
                    <a:pt x="64" y="1"/>
                  </a:lnTo>
                  <a:lnTo>
                    <a:pt x="115" y="0"/>
                  </a:lnTo>
                  <a:lnTo>
                    <a:pt x="9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536200" y="2968920"/>
              <a:ext cx="42120" cy="331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10" y="49"/>
                  </a:moveTo>
                  <a:lnTo>
                    <a:pt x="0" y="40"/>
                  </a:lnTo>
                  <a:lnTo>
                    <a:pt x="47" y="0"/>
                  </a:lnTo>
                  <a:lnTo>
                    <a:pt x="57" y="15"/>
                  </a:lnTo>
                  <a:lnTo>
                    <a:pt x="60" y="26"/>
                  </a:lnTo>
                  <a:lnTo>
                    <a:pt x="58" y="35"/>
                  </a:lnTo>
                  <a:lnTo>
                    <a:pt x="52" y="41"/>
                  </a:lnTo>
                  <a:lnTo>
                    <a:pt x="43" y="46"/>
                  </a:lnTo>
                  <a:lnTo>
                    <a:pt x="32" y="48"/>
                  </a:lnTo>
                  <a:lnTo>
                    <a:pt x="21" y="49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970280" y="2951280"/>
              <a:ext cx="40680" cy="399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1" y="57"/>
                  </a:moveTo>
                  <a:lnTo>
                    <a:pt x="0" y="0"/>
                  </a:lnTo>
                  <a:lnTo>
                    <a:pt x="58" y="18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59" name="BUTN005" descr=""/>
          <p:cNvPicPr/>
          <p:nvPr/>
        </p:nvPicPr>
        <p:blipFill>
          <a:blip r:embed="rId1"/>
          <a:stretch/>
        </p:blipFill>
        <p:spPr>
          <a:xfrm>
            <a:off x="6172200" y="2967120"/>
            <a:ext cx="1684440" cy="1684080"/>
          </a:xfrm>
          <a:prstGeom prst="rect">
            <a:avLst/>
          </a:prstGeom>
          <a:ln w="0">
            <a:noFill/>
          </a:ln>
        </p:spPr>
      </p:pic>
      <p:sp>
        <p:nvSpPr>
          <p:cNvPr id="3860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2" name=""/>
          <p:cNvGrpSpPr/>
          <p:nvPr/>
        </p:nvGrpSpPr>
        <p:grpSpPr>
          <a:xfrm>
            <a:off x="990720" y="2255760"/>
            <a:ext cx="2200320" cy="3106800"/>
            <a:chOff x="990720" y="2255760"/>
            <a:chExt cx="2200320" cy="3106800"/>
          </a:xfrm>
        </p:grpSpPr>
        <p:sp>
          <p:nvSpPr>
            <p:cNvPr id="3863" name=""/>
            <p:cNvSpPr/>
            <p:nvPr/>
          </p:nvSpPr>
          <p:spPr>
            <a:xfrm>
              <a:off x="990720" y="2255760"/>
              <a:ext cx="2200320" cy="31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946160" y="5218200"/>
              <a:ext cx="27000" cy="41760"/>
            </a:xfrm>
            <a:custGeom>
              <a:avLst/>
              <a:gdLst/>
              <a:ahLst/>
              <a:rect l="l" t="t" r="r" b="b"/>
              <a:pathLst>
                <a:path w="101" h="154">
                  <a:moveTo>
                    <a:pt x="50" y="0"/>
                  </a:moveTo>
                  <a:lnTo>
                    <a:pt x="60" y="1"/>
                  </a:lnTo>
                  <a:lnTo>
                    <a:pt x="69" y="6"/>
                  </a:lnTo>
                  <a:lnTo>
                    <a:pt x="77" y="13"/>
                  </a:lnTo>
                  <a:lnTo>
                    <a:pt x="84" y="22"/>
                  </a:lnTo>
                  <a:lnTo>
                    <a:pt x="90" y="34"/>
                  </a:lnTo>
                  <a:lnTo>
                    <a:pt x="95" y="47"/>
                  </a:lnTo>
                  <a:lnTo>
                    <a:pt x="97" y="62"/>
                  </a:lnTo>
                  <a:lnTo>
                    <a:pt x="98" y="77"/>
                  </a:lnTo>
                  <a:lnTo>
                    <a:pt x="99" y="92"/>
                  </a:lnTo>
                  <a:lnTo>
                    <a:pt x="99" y="106"/>
                  </a:lnTo>
                  <a:lnTo>
                    <a:pt x="101" y="120"/>
                  </a:lnTo>
                  <a:lnTo>
                    <a:pt x="99" y="131"/>
                  </a:lnTo>
                  <a:lnTo>
                    <a:pt x="95" y="142"/>
                  </a:lnTo>
                  <a:lnTo>
                    <a:pt x="85" y="149"/>
                  </a:lnTo>
                  <a:lnTo>
                    <a:pt x="71" y="153"/>
                  </a:lnTo>
                  <a:lnTo>
                    <a:pt x="50" y="154"/>
                  </a:lnTo>
                  <a:lnTo>
                    <a:pt x="29" y="153"/>
                  </a:lnTo>
                  <a:lnTo>
                    <a:pt x="15" y="149"/>
                  </a:lnTo>
                  <a:lnTo>
                    <a:pt x="6" y="142"/>
                  </a:lnTo>
                  <a:lnTo>
                    <a:pt x="2" y="131"/>
                  </a:lnTo>
                  <a:lnTo>
                    <a:pt x="0" y="120"/>
                  </a:lnTo>
                  <a:lnTo>
                    <a:pt x="1" y="106"/>
                  </a:lnTo>
                  <a:lnTo>
                    <a:pt x="1" y="92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6" y="47"/>
                  </a:lnTo>
                  <a:lnTo>
                    <a:pt x="11" y="34"/>
                  </a:lnTo>
                  <a:lnTo>
                    <a:pt x="16" y="22"/>
                  </a:lnTo>
                  <a:lnTo>
                    <a:pt x="23" y="13"/>
                  </a:lnTo>
                  <a:lnTo>
                    <a:pt x="32" y="6"/>
                  </a:lnTo>
                  <a:lnTo>
                    <a:pt x="4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9d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207160" y="5221080"/>
              <a:ext cx="27000" cy="4176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50" y="0"/>
                  </a:moveTo>
                  <a:lnTo>
                    <a:pt x="41" y="1"/>
                  </a:lnTo>
                  <a:lnTo>
                    <a:pt x="31" y="6"/>
                  </a:lnTo>
                  <a:lnTo>
                    <a:pt x="23" y="13"/>
                  </a:lnTo>
                  <a:lnTo>
                    <a:pt x="16" y="22"/>
                  </a:lnTo>
                  <a:lnTo>
                    <a:pt x="10" y="34"/>
                  </a:lnTo>
                  <a:lnTo>
                    <a:pt x="6" y="47"/>
                  </a:lnTo>
                  <a:lnTo>
                    <a:pt x="3" y="62"/>
                  </a:lnTo>
                  <a:lnTo>
                    <a:pt x="2" y="77"/>
                  </a:lnTo>
                  <a:lnTo>
                    <a:pt x="1" y="92"/>
                  </a:lnTo>
                  <a:lnTo>
                    <a:pt x="1" y="106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6" y="141"/>
                  </a:lnTo>
                  <a:lnTo>
                    <a:pt x="15" y="148"/>
                  </a:lnTo>
                  <a:lnTo>
                    <a:pt x="29" y="153"/>
                  </a:lnTo>
                  <a:lnTo>
                    <a:pt x="50" y="154"/>
                  </a:lnTo>
                  <a:lnTo>
                    <a:pt x="71" y="153"/>
                  </a:lnTo>
                  <a:lnTo>
                    <a:pt x="85" y="148"/>
                  </a:lnTo>
                  <a:lnTo>
                    <a:pt x="94" y="141"/>
                  </a:lnTo>
                  <a:lnTo>
                    <a:pt x="99" y="131"/>
                  </a:lnTo>
                  <a:lnTo>
                    <a:pt x="100" y="120"/>
                  </a:lnTo>
                  <a:lnTo>
                    <a:pt x="99" y="106"/>
                  </a:lnTo>
                  <a:lnTo>
                    <a:pt x="99" y="92"/>
                  </a:lnTo>
                  <a:lnTo>
                    <a:pt x="98" y="77"/>
                  </a:lnTo>
                  <a:lnTo>
                    <a:pt x="97" y="62"/>
                  </a:lnTo>
                  <a:lnTo>
                    <a:pt x="94" y="47"/>
                  </a:lnTo>
                  <a:lnTo>
                    <a:pt x="90" y="34"/>
                  </a:lnTo>
                  <a:lnTo>
                    <a:pt x="84" y="22"/>
                  </a:lnTo>
                  <a:lnTo>
                    <a:pt x="77" y="13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9d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074680" y="4977000"/>
              <a:ext cx="102600" cy="181080"/>
            </a:xfrm>
            <a:custGeom>
              <a:avLst/>
              <a:gdLst/>
              <a:ahLst/>
              <a:rect l="l" t="t" r="r" b="b"/>
              <a:pathLst>
                <a:path w="378" h="661">
                  <a:moveTo>
                    <a:pt x="324" y="661"/>
                  </a:moveTo>
                  <a:lnTo>
                    <a:pt x="324" y="661"/>
                  </a:lnTo>
                  <a:lnTo>
                    <a:pt x="324" y="661"/>
                  </a:lnTo>
                  <a:lnTo>
                    <a:pt x="324" y="661"/>
                  </a:lnTo>
                  <a:lnTo>
                    <a:pt x="323" y="660"/>
                  </a:lnTo>
                  <a:lnTo>
                    <a:pt x="0" y="660"/>
                  </a:lnTo>
                  <a:lnTo>
                    <a:pt x="0" y="657"/>
                  </a:lnTo>
                  <a:lnTo>
                    <a:pt x="1" y="655"/>
                  </a:lnTo>
                  <a:lnTo>
                    <a:pt x="1" y="654"/>
                  </a:lnTo>
                  <a:lnTo>
                    <a:pt x="1" y="652"/>
                  </a:lnTo>
                  <a:lnTo>
                    <a:pt x="8" y="615"/>
                  </a:lnTo>
                  <a:lnTo>
                    <a:pt x="15" y="580"/>
                  </a:lnTo>
                  <a:lnTo>
                    <a:pt x="24" y="544"/>
                  </a:lnTo>
                  <a:lnTo>
                    <a:pt x="32" y="509"/>
                  </a:lnTo>
                  <a:lnTo>
                    <a:pt x="41" y="473"/>
                  </a:lnTo>
                  <a:lnTo>
                    <a:pt x="52" y="438"/>
                  </a:lnTo>
                  <a:lnTo>
                    <a:pt x="62" y="401"/>
                  </a:lnTo>
                  <a:lnTo>
                    <a:pt x="73" y="366"/>
                  </a:lnTo>
                  <a:lnTo>
                    <a:pt x="73" y="366"/>
                  </a:lnTo>
                  <a:lnTo>
                    <a:pt x="73" y="365"/>
                  </a:lnTo>
                  <a:lnTo>
                    <a:pt x="71" y="365"/>
                  </a:lnTo>
                  <a:lnTo>
                    <a:pt x="71" y="364"/>
                  </a:lnTo>
                  <a:lnTo>
                    <a:pt x="73" y="364"/>
                  </a:lnTo>
                  <a:lnTo>
                    <a:pt x="73" y="364"/>
                  </a:lnTo>
                  <a:lnTo>
                    <a:pt x="73" y="364"/>
                  </a:lnTo>
                  <a:lnTo>
                    <a:pt x="74" y="364"/>
                  </a:lnTo>
                  <a:lnTo>
                    <a:pt x="88" y="324"/>
                  </a:lnTo>
                  <a:lnTo>
                    <a:pt x="90" y="317"/>
                  </a:lnTo>
                  <a:lnTo>
                    <a:pt x="91" y="310"/>
                  </a:lnTo>
                  <a:lnTo>
                    <a:pt x="94" y="304"/>
                  </a:lnTo>
                  <a:lnTo>
                    <a:pt x="95" y="297"/>
                  </a:lnTo>
                  <a:lnTo>
                    <a:pt x="98" y="284"/>
                  </a:lnTo>
                  <a:lnTo>
                    <a:pt x="104" y="275"/>
                  </a:lnTo>
                  <a:lnTo>
                    <a:pt x="110" y="265"/>
                  </a:lnTo>
                  <a:lnTo>
                    <a:pt x="111" y="253"/>
                  </a:lnTo>
                  <a:lnTo>
                    <a:pt x="111" y="248"/>
                  </a:lnTo>
                  <a:lnTo>
                    <a:pt x="110" y="245"/>
                  </a:lnTo>
                  <a:lnTo>
                    <a:pt x="109" y="241"/>
                  </a:lnTo>
                  <a:lnTo>
                    <a:pt x="109" y="238"/>
                  </a:lnTo>
                  <a:lnTo>
                    <a:pt x="109" y="236"/>
                  </a:lnTo>
                  <a:lnTo>
                    <a:pt x="109" y="236"/>
                  </a:lnTo>
                  <a:lnTo>
                    <a:pt x="108" y="236"/>
                  </a:lnTo>
                  <a:lnTo>
                    <a:pt x="108" y="235"/>
                  </a:lnTo>
                  <a:lnTo>
                    <a:pt x="109" y="233"/>
                  </a:lnTo>
                  <a:lnTo>
                    <a:pt x="108" y="231"/>
                  </a:lnTo>
                  <a:lnTo>
                    <a:pt x="108" y="228"/>
                  </a:lnTo>
                  <a:lnTo>
                    <a:pt x="108" y="226"/>
                  </a:lnTo>
                  <a:lnTo>
                    <a:pt x="107" y="224"/>
                  </a:lnTo>
                  <a:lnTo>
                    <a:pt x="108" y="211"/>
                  </a:lnTo>
                  <a:lnTo>
                    <a:pt x="110" y="197"/>
                  </a:lnTo>
                  <a:lnTo>
                    <a:pt x="112" y="184"/>
                  </a:lnTo>
                  <a:lnTo>
                    <a:pt x="116" y="171"/>
                  </a:lnTo>
                  <a:lnTo>
                    <a:pt x="124" y="157"/>
                  </a:lnTo>
                  <a:lnTo>
                    <a:pt x="125" y="142"/>
                  </a:lnTo>
                  <a:lnTo>
                    <a:pt x="123" y="125"/>
                  </a:lnTo>
                  <a:lnTo>
                    <a:pt x="116" y="109"/>
                  </a:lnTo>
                  <a:lnTo>
                    <a:pt x="114" y="102"/>
                  </a:lnTo>
                  <a:lnTo>
                    <a:pt x="112" y="95"/>
                  </a:lnTo>
                  <a:lnTo>
                    <a:pt x="112" y="89"/>
                  </a:lnTo>
                  <a:lnTo>
                    <a:pt x="114" y="82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22" y="77"/>
                  </a:lnTo>
                  <a:lnTo>
                    <a:pt x="128" y="74"/>
                  </a:lnTo>
                  <a:lnTo>
                    <a:pt x="133" y="70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8" y="63"/>
                  </a:lnTo>
                  <a:lnTo>
                    <a:pt x="138" y="63"/>
                  </a:lnTo>
                  <a:lnTo>
                    <a:pt x="138" y="63"/>
                  </a:lnTo>
                  <a:lnTo>
                    <a:pt x="138" y="62"/>
                  </a:lnTo>
                  <a:lnTo>
                    <a:pt x="139" y="61"/>
                  </a:lnTo>
                  <a:lnTo>
                    <a:pt x="140" y="60"/>
                  </a:lnTo>
                  <a:lnTo>
                    <a:pt x="142" y="59"/>
                  </a:lnTo>
                  <a:lnTo>
                    <a:pt x="144" y="59"/>
                  </a:lnTo>
                  <a:lnTo>
                    <a:pt x="145" y="60"/>
                  </a:lnTo>
                  <a:lnTo>
                    <a:pt x="147" y="61"/>
                  </a:lnTo>
                  <a:lnTo>
                    <a:pt x="149" y="62"/>
                  </a:lnTo>
                  <a:lnTo>
                    <a:pt x="151" y="61"/>
                  </a:lnTo>
                  <a:lnTo>
                    <a:pt x="151" y="54"/>
                  </a:lnTo>
                  <a:lnTo>
                    <a:pt x="153" y="52"/>
                  </a:lnTo>
                  <a:lnTo>
                    <a:pt x="157" y="52"/>
                  </a:lnTo>
                  <a:lnTo>
                    <a:pt x="160" y="50"/>
                  </a:lnTo>
                  <a:lnTo>
                    <a:pt x="164" y="49"/>
                  </a:lnTo>
                  <a:lnTo>
                    <a:pt x="165" y="49"/>
                  </a:lnTo>
                  <a:lnTo>
                    <a:pt x="166" y="49"/>
                  </a:lnTo>
                  <a:lnTo>
                    <a:pt x="166" y="49"/>
                  </a:lnTo>
                  <a:lnTo>
                    <a:pt x="167" y="48"/>
                  </a:lnTo>
                  <a:lnTo>
                    <a:pt x="167" y="45"/>
                  </a:lnTo>
                  <a:lnTo>
                    <a:pt x="167" y="39"/>
                  </a:lnTo>
                  <a:lnTo>
                    <a:pt x="167" y="34"/>
                  </a:lnTo>
                  <a:lnTo>
                    <a:pt x="170" y="31"/>
                  </a:lnTo>
                  <a:lnTo>
                    <a:pt x="174" y="29"/>
                  </a:lnTo>
                  <a:lnTo>
                    <a:pt x="180" y="29"/>
                  </a:lnTo>
                  <a:lnTo>
                    <a:pt x="185" y="31"/>
                  </a:lnTo>
                  <a:lnTo>
                    <a:pt x="191" y="33"/>
                  </a:lnTo>
                  <a:lnTo>
                    <a:pt x="195" y="34"/>
                  </a:lnTo>
                  <a:lnTo>
                    <a:pt x="200" y="36"/>
                  </a:lnTo>
                  <a:lnTo>
                    <a:pt x="206" y="36"/>
                  </a:lnTo>
                  <a:lnTo>
                    <a:pt x="211" y="35"/>
                  </a:lnTo>
                  <a:lnTo>
                    <a:pt x="213" y="33"/>
                  </a:lnTo>
                  <a:lnTo>
                    <a:pt x="216" y="31"/>
                  </a:lnTo>
                  <a:lnTo>
                    <a:pt x="220" y="29"/>
                  </a:lnTo>
                  <a:lnTo>
                    <a:pt x="222" y="28"/>
                  </a:lnTo>
                  <a:lnTo>
                    <a:pt x="229" y="26"/>
                  </a:lnTo>
                  <a:lnTo>
                    <a:pt x="236" y="24"/>
                  </a:lnTo>
                  <a:lnTo>
                    <a:pt x="243" y="21"/>
                  </a:lnTo>
                  <a:lnTo>
                    <a:pt x="250" y="19"/>
                  </a:lnTo>
                  <a:lnTo>
                    <a:pt x="254" y="13"/>
                  </a:lnTo>
                  <a:lnTo>
                    <a:pt x="254" y="12"/>
                  </a:lnTo>
                  <a:lnTo>
                    <a:pt x="255" y="12"/>
                  </a:lnTo>
                  <a:lnTo>
                    <a:pt x="255" y="12"/>
                  </a:lnTo>
                  <a:lnTo>
                    <a:pt x="256" y="11"/>
                  </a:lnTo>
                  <a:lnTo>
                    <a:pt x="257" y="8"/>
                  </a:lnTo>
                  <a:lnTo>
                    <a:pt x="257" y="5"/>
                  </a:lnTo>
                  <a:lnTo>
                    <a:pt x="259" y="3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69" y="0"/>
                  </a:lnTo>
                  <a:lnTo>
                    <a:pt x="273" y="0"/>
                  </a:lnTo>
                  <a:lnTo>
                    <a:pt x="276" y="1"/>
                  </a:lnTo>
                  <a:lnTo>
                    <a:pt x="277" y="3"/>
                  </a:lnTo>
                  <a:lnTo>
                    <a:pt x="278" y="4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4" y="6"/>
                  </a:lnTo>
                  <a:lnTo>
                    <a:pt x="289" y="6"/>
                  </a:lnTo>
                  <a:lnTo>
                    <a:pt x="294" y="6"/>
                  </a:lnTo>
                  <a:lnTo>
                    <a:pt x="298" y="8"/>
                  </a:lnTo>
                  <a:lnTo>
                    <a:pt x="319" y="18"/>
                  </a:lnTo>
                  <a:lnTo>
                    <a:pt x="321" y="22"/>
                  </a:lnTo>
                  <a:lnTo>
                    <a:pt x="325" y="27"/>
                  </a:lnTo>
                  <a:lnTo>
                    <a:pt x="330" y="32"/>
                  </a:lnTo>
                  <a:lnTo>
                    <a:pt x="335" y="36"/>
                  </a:lnTo>
                  <a:lnTo>
                    <a:pt x="339" y="42"/>
                  </a:lnTo>
                  <a:lnTo>
                    <a:pt x="344" y="48"/>
                  </a:lnTo>
                  <a:lnTo>
                    <a:pt x="349" y="53"/>
                  </a:lnTo>
                  <a:lnTo>
                    <a:pt x="353" y="59"/>
                  </a:lnTo>
                  <a:lnTo>
                    <a:pt x="358" y="65"/>
                  </a:lnTo>
                  <a:lnTo>
                    <a:pt x="359" y="68"/>
                  </a:lnTo>
                  <a:lnTo>
                    <a:pt x="360" y="70"/>
                  </a:lnTo>
                  <a:lnTo>
                    <a:pt x="361" y="74"/>
                  </a:lnTo>
                  <a:lnTo>
                    <a:pt x="364" y="76"/>
                  </a:lnTo>
                  <a:lnTo>
                    <a:pt x="365" y="81"/>
                  </a:lnTo>
                  <a:lnTo>
                    <a:pt x="366" y="84"/>
                  </a:lnTo>
                  <a:lnTo>
                    <a:pt x="366" y="88"/>
                  </a:lnTo>
                  <a:lnTo>
                    <a:pt x="367" y="93"/>
                  </a:lnTo>
                  <a:lnTo>
                    <a:pt x="367" y="93"/>
                  </a:lnTo>
                  <a:lnTo>
                    <a:pt x="368" y="93"/>
                  </a:lnTo>
                  <a:lnTo>
                    <a:pt x="368" y="94"/>
                  </a:lnTo>
                  <a:lnTo>
                    <a:pt x="370" y="94"/>
                  </a:lnTo>
                  <a:lnTo>
                    <a:pt x="370" y="95"/>
                  </a:lnTo>
                  <a:lnTo>
                    <a:pt x="371" y="95"/>
                  </a:lnTo>
                  <a:lnTo>
                    <a:pt x="371" y="96"/>
                  </a:lnTo>
                  <a:lnTo>
                    <a:pt x="371" y="97"/>
                  </a:lnTo>
                  <a:lnTo>
                    <a:pt x="378" y="107"/>
                  </a:lnTo>
                  <a:lnTo>
                    <a:pt x="377" y="110"/>
                  </a:lnTo>
                  <a:lnTo>
                    <a:pt x="374" y="114"/>
                  </a:lnTo>
                  <a:lnTo>
                    <a:pt x="374" y="117"/>
                  </a:lnTo>
                  <a:lnTo>
                    <a:pt x="374" y="122"/>
                  </a:lnTo>
                  <a:lnTo>
                    <a:pt x="373" y="131"/>
                  </a:lnTo>
                  <a:lnTo>
                    <a:pt x="372" y="141"/>
                  </a:lnTo>
                  <a:lnTo>
                    <a:pt x="368" y="149"/>
                  </a:lnTo>
                  <a:lnTo>
                    <a:pt x="364" y="157"/>
                  </a:lnTo>
                  <a:lnTo>
                    <a:pt x="359" y="160"/>
                  </a:lnTo>
                  <a:lnTo>
                    <a:pt x="354" y="163"/>
                  </a:lnTo>
                  <a:lnTo>
                    <a:pt x="350" y="166"/>
                  </a:lnTo>
                  <a:lnTo>
                    <a:pt x="347" y="170"/>
                  </a:lnTo>
                  <a:lnTo>
                    <a:pt x="344" y="171"/>
                  </a:lnTo>
                  <a:lnTo>
                    <a:pt x="342" y="172"/>
                  </a:lnTo>
                  <a:lnTo>
                    <a:pt x="339" y="174"/>
                  </a:lnTo>
                  <a:lnTo>
                    <a:pt x="338" y="178"/>
                  </a:lnTo>
                  <a:lnTo>
                    <a:pt x="338" y="179"/>
                  </a:lnTo>
                  <a:lnTo>
                    <a:pt x="338" y="181"/>
                  </a:lnTo>
                  <a:lnTo>
                    <a:pt x="337" y="183"/>
                  </a:lnTo>
                  <a:lnTo>
                    <a:pt x="336" y="184"/>
                  </a:lnTo>
                  <a:lnTo>
                    <a:pt x="329" y="188"/>
                  </a:lnTo>
                  <a:lnTo>
                    <a:pt x="322" y="200"/>
                  </a:lnTo>
                  <a:lnTo>
                    <a:pt x="319" y="201"/>
                  </a:lnTo>
                  <a:lnTo>
                    <a:pt x="316" y="204"/>
                  </a:lnTo>
                  <a:lnTo>
                    <a:pt x="312" y="205"/>
                  </a:lnTo>
                  <a:lnTo>
                    <a:pt x="308" y="205"/>
                  </a:lnTo>
                  <a:lnTo>
                    <a:pt x="304" y="207"/>
                  </a:lnTo>
                  <a:lnTo>
                    <a:pt x="303" y="208"/>
                  </a:lnTo>
                  <a:lnTo>
                    <a:pt x="302" y="211"/>
                  </a:lnTo>
                  <a:lnTo>
                    <a:pt x="299" y="212"/>
                  </a:lnTo>
                  <a:lnTo>
                    <a:pt x="297" y="213"/>
                  </a:lnTo>
                  <a:lnTo>
                    <a:pt x="291" y="220"/>
                  </a:lnTo>
                  <a:lnTo>
                    <a:pt x="284" y="225"/>
                  </a:lnTo>
                  <a:lnTo>
                    <a:pt x="284" y="227"/>
                  </a:lnTo>
                  <a:lnTo>
                    <a:pt x="284" y="227"/>
                  </a:lnTo>
                  <a:lnTo>
                    <a:pt x="284" y="227"/>
                  </a:lnTo>
                  <a:lnTo>
                    <a:pt x="284" y="228"/>
                  </a:lnTo>
                  <a:lnTo>
                    <a:pt x="283" y="228"/>
                  </a:lnTo>
                  <a:lnTo>
                    <a:pt x="264" y="229"/>
                  </a:lnTo>
                  <a:lnTo>
                    <a:pt x="263" y="229"/>
                  </a:lnTo>
                  <a:lnTo>
                    <a:pt x="263" y="231"/>
                  </a:lnTo>
                  <a:lnTo>
                    <a:pt x="263" y="231"/>
                  </a:lnTo>
                  <a:lnTo>
                    <a:pt x="262" y="232"/>
                  </a:lnTo>
                  <a:lnTo>
                    <a:pt x="262" y="235"/>
                  </a:lnTo>
                  <a:lnTo>
                    <a:pt x="252" y="246"/>
                  </a:lnTo>
                  <a:lnTo>
                    <a:pt x="256" y="247"/>
                  </a:lnTo>
                  <a:lnTo>
                    <a:pt x="260" y="250"/>
                  </a:lnTo>
                  <a:lnTo>
                    <a:pt x="263" y="254"/>
                  </a:lnTo>
                  <a:lnTo>
                    <a:pt x="267" y="257"/>
                  </a:lnTo>
                  <a:lnTo>
                    <a:pt x="274" y="263"/>
                  </a:lnTo>
                  <a:lnTo>
                    <a:pt x="277" y="270"/>
                  </a:lnTo>
                  <a:lnTo>
                    <a:pt x="281" y="280"/>
                  </a:lnTo>
                  <a:lnTo>
                    <a:pt x="283" y="288"/>
                  </a:lnTo>
                  <a:lnTo>
                    <a:pt x="284" y="298"/>
                  </a:lnTo>
                  <a:lnTo>
                    <a:pt x="285" y="310"/>
                  </a:lnTo>
                  <a:lnTo>
                    <a:pt x="287" y="321"/>
                  </a:lnTo>
                  <a:lnTo>
                    <a:pt x="289" y="332"/>
                  </a:lnTo>
                  <a:lnTo>
                    <a:pt x="294" y="367"/>
                  </a:lnTo>
                  <a:lnTo>
                    <a:pt x="299" y="403"/>
                  </a:lnTo>
                  <a:lnTo>
                    <a:pt x="305" y="438"/>
                  </a:lnTo>
                  <a:lnTo>
                    <a:pt x="310" y="473"/>
                  </a:lnTo>
                  <a:lnTo>
                    <a:pt x="315" y="508"/>
                  </a:lnTo>
                  <a:lnTo>
                    <a:pt x="318" y="543"/>
                  </a:lnTo>
                  <a:lnTo>
                    <a:pt x="321" y="579"/>
                  </a:lnTo>
                  <a:lnTo>
                    <a:pt x="321" y="614"/>
                  </a:lnTo>
                  <a:lnTo>
                    <a:pt x="322" y="626"/>
                  </a:lnTo>
                  <a:lnTo>
                    <a:pt x="322" y="638"/>
                  </a:lnTo>
                  <a:lnTo>
                    <a:pt x="322" y="649"/>
                  </a:lnTo>
                  <a:lnTo>
                    <a:pt x="325" y="660"/>
                  </a:lnTo>
                  <a:lnTo>
                    <a:pt x="325" y="660"/>
                  </a:lnTo>
                  <a:lnTo>
                    <a:pt x="325" y="660"/>
                  </a:lnTo>
                  <a:lnTo>
                    <a:pt x="325" y="661"/>
                  </a:lnTo>
                  <a:lnTo>
                    <a:pt x="324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954080" y="5137920"/>
              <a:ext cx="281160" cy="201240"/>
            </a:xfrm>
            <a:custGeom>
              <a:avLst/>
              <a:gdLst/>
              <a:ahLst/>
              <a:rect l="l" t="t" r="r" b="b"/>
              <a:pathLst>
                <a:path w="1041" h="743">
                  <a:moveTo>
                    <a:pt x="0" y="743"/>
                  </a:moveTo>
                  <a:lnTo>
                    <a:pt x="73" y="76"/>
                  </a:lnTo>
                  <a:lnTo>
                    <a:pt x="76" y="68"/>
                  </a:lnTo>
                  <a:lnTo>
                    <a:pt x="84" y="59"/>
                  </a:lnTo>
                  <a:lnTo>
                    <a:pt x="97" y="52"/>
                  </a:lnTo>
                  <a:lnTo>
                    <a:pt x="114" y="45"/>
                  </a:lnTo>
                  <a:lnTo>
                    <a:pt x="133" y="38"/>
                  </a:lnTo>
                  <a:lnTo>
                    <a:pt x="157" y="32"/>
                  </a:lnTo>
                  <a:lnTo>
                    <a:pt x="184" y="26"/>
                  </a:lnTo>
                  <a:lnTo>
                    <a:pt x="213" y="21"/>
                  </a:lnTo>
                  <a:lnTo>
                    <a:pt x="246" y="17"/>
                  </a:lnTo>
                  <a:lnTo>
                    <a:pt x="280" y="12"/>
                  </a:lnTo>
                  <a:lnTo>
                    <a:pt x="316" y="9"/>
                  </a:lnTo>
                  <a:lnTo>
                    <a:pt x="353" y="6"/>
                  </a:lnTo>
                  <a:lnTo>
                    <a:pt x="393" y="4"/>
                  </a:lnTo>
                  <a:lnTo>
                    <a:pt x="433" y="2"/>
                  </a:lnTo>
                  <a:lnTo>
                    <a:pt x="473" y="1"/>
                  </a:lnTo>
                  <a:lnTo>
                    <a:pt x="513" y="0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5" y="2"/>
                  </a:lnTo>
                  <a:lnTo>
                    <a:pt x="675" y="4"/>
                  </a:lnTo>
                  <a:lnTo>
                    <a:pt x="712" y="6"/>
                  </a:lnTo>
                  <a:lnTo>
                    <a:pt x="748" y="9"/>
                  </a:lnTo>
                  <a:lnTo>
                    <a:pt x="782" y="13"/>
                  </a:lnTo>
                  <a:lnTo>
                    <a:pt x="815" y="17"/>
                  </a:lnTo>
                  <a:lnTo>
                    <a:pt x="844" y="21"/>
                  </a:lnTo>
                  <a:lnTo>
                    <a:pt x="871" y="27"/>
                  </a:lnTo>
                  <a:lnTo>
                    <a:pt x="896" y="33"/>
                  </a:lnTo>
                  <a:lnTo>
                    <a:pt x="916" y="40"/>
                  </a:lnTo>
                  <a:lnTo>
                    <a:pt x="933" y="47"/>
                  </a:lnTo>
                  <a:lnTo>
                    <a:pt x="946" y="55"/>
                  </a:lnTo>
                  <a:lnTo>
                    <a:pt x="954" y="63"/>
                  </a:lnTo>
                  <a:lnTo>
                    <a:pt x="958" y="73"/>
                  </a:lnTo>
                  <a:lnTo>
                    <a:pt x="1041" y="743"/>
                  </a:lnTo>
                  <a:lnTo>
                    <a:pt x="1023" y="738"/>
                  </a:lnTo>
                  <a:lnTo>
                    <a:pt x="1003" y="733"/>
                  </a:lnTo>
                  <a:lnTo>
                    <a:pt x="980" y="730"/>
                  </a:lnTo>
                  <a:lnTo>
                    <a:pt x="953" y="726"/>
                  </a:lnTo>
                  <a:lnTo>
                    <a:pt x="925" y="723"/>
                  </a:lnTo>
                  <a:lnTo>
                    <a:pt x="893" y="719"/>
                  </a:lnTo>
                  <a:lnTo>
                    <a:pt x="861" y="717"/>
                  </a:lnTo>
                  <a:lnTo>
                    <a:pt x="826" y="715"/>
                  </a:lnTo>
                  <a:lnTo>
                    <a:pt x="789" y="712"/>
                  </a:lnTo>
                  <a:lnTo>
                    <a:pt x="751" y="710"/>
                  </a:lnTo>
                  <a:lnTo>
                    <a:pt x="712" y="709"/>
                  </a:lnTo>
                  <a:lnTo>
                    <a:pt x="671" y="708"/>
                  </a:lnTo>
                  <a:lnTo>
                    <a:pt x="630" y="707"/>
                  </a:lnTo>
                  <a:lnTo>
                    <a:pt x="589" y="705"/>
                  </a:lnTo>
                  <a:lnTo>
                    <a:pt x="547" y="705"/>
                  </a:lnTo>
                  <a:lnTo>
                    <a:pt x="505" y="705"/>
                  </a:lnTo>
                  <a:lnTo>
                    <a:pt x="463" y="705"/>
                  </a:lnTo>
                  <a:lnTo>
                    <a:pt x="422" y="705"/>
                  </a:lnTo>
                  <a:lnTo>
                    <a:pt x="381" y="707"/>
                  </a:lnTo>
                  <a:lnTo>
                    <a:pt x="340" y="708"/>
                  </a:lnTo>
                  <a:lnTo>
                    <a:pt x="302" y="709"/>
                  </a:lnTo>
                  <a:lnTo>
                    <a:pt x="263" y="711"/>
                  </a:lnTo>
                  <a:lnTo>
                    <a:pt x="227" y="712"/>
                  </a:lnTo>
                  <a:lnTo>
                    <a:pt x="192" y="715"/>
                  </a:lnTo>
                  <a:lnTo>
                    <a:pt x="159" y="717"/>
                  </a:lnTo>
                  <a:lnTo>
                    <a:pt x="129" y="721"/>
                  </a:lnTo>
                  <a:lnTo>
                    <a:pt x="100" y="723"/>
                  </a:lnTo>
                  <a:lnTo>
                    <a:pt x="74" y="726"/>
                  </a:lnTo>
                  <a:lnTo>
                    <a:pt x="50" y="730"/>
                  </a:lnTo>
                  <a:lnTo>
                    <a:pt x="31" y="735"/>
                  </a:lnTo>
                  <a:lnTo>
                    <a:pt x="14" y="738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dca76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963440" y="5137920"/>
              <a:ext cx="262080" cy="199800"/>
            </a:xfrm>
            <a:custGeom>
              <a:avLst/>
              <a:gdLst/>
              <a:ahLst/>
              <a:rect l="l" t="t" r="r" b="b"/>
              <a:pathLst>
                <a:path w="970" h="739">
                  <a:moveTo>
                    <a:pt x="68" y="69"/>
                  </a:moveTo>
                  <a:lnTo>
                    <a:pt x="72" y="61"/>
                  </a:lnTo>
                  <a:lnTo>
                    <a:pt x="80" y="54"/>
                  </a:lnTo>
                  <a:lnTo>
                    <a:pt x="92" y="47"/>
                  </a:lnTo>
                  <a:lnTo>
                    <a:pt x="108" y="40"/>
                  </a:lnTo>
                  <a:lnTo>
                    <a:pt x="127" y="34"/>
                  </a:lnTo>
                  <a:lnTo>
                    <a:pt x="149" y="28"/>
                  </a:lnTo>
                  <a:lnTo>
                    <a:pt x="173" y="24"/>
                  </a:lnTo>
                  <a:lnTo>
                    <a:pt x="200" y="19"/>
                  </a:lnTo>
                  <a:lnTo>
                    <a:pt x="231" y="14"/>
                  </a:lnTo>
                  <a:lnTo>
                    <a:pt x="262" y="11"/>
                  </a:lnTo>
                  <a:lnTo>
                    <a:pt x="295" y="8"/>
                  </a:lnTo>
                  <a:lnTo>
                    <a:pt x="330" y="5"/>
                  </a:lnTo>
                  <a:lnTo>
                    <a:pt x="366" y="4"/>
                  </a:lnTo>
                  <a:lnTo>
                    <a:pt x="403" y="1"/>
                  </a:lnTo>
                  <a:lnTo>
                    <a:pt x="440" y="0"/>
                  </a:lnTo>
                  <a:lnTo>
                    <a:pt x="479" y="0"/>
                  </a:lnTo>
                  <a:lnTo>
                    <a:pt x="516" y="0"/>
                  </a:lnTo>
                  <a:lnTo>
                    <a:pt x="553" y="0"/>
                  </a:lnTo>
                  <a:lnTo>
                    <a:pt x="590" y="1"/>
                  </a:lnTo>
                  <a:lnTo>
                    <a:pt x="626" y="4"/>
                  </a:lnTo>
                  <a:lnTo>
                    <a:pt x="661" y="6"/>
                  </a:lnTo>
                  <a:lnTo>
                    <a:pt x="695" y="8"/>
                  </a:lnTo>
                  <a:lnTo>
                    <a:pt x="726" y="12"/>
                  </a:lnTo>
                  <a:lnTo>
                    <a:pt x="757" y="15"/>
                  </a:lnTo>
                  <a:lnTo>
                    <a:pt x="785" y="20"/>
                  </a:lnTo>
                  <a:lnTo>
                    <a:pt x="810" y="25"/>
                  </a:lnTo>
                  <a:lnTo>
                    <a:pt x="832" y="31"/>
                  </a:lnTo>
                  <a:lnTo>
                    <a:pt x="852" y="36"/>
                  </a:lnTo>
                  <a:lnTo>
                    <a:pt x="868" y="43"/>
                  </a:lnTo>
                  <a:lnTo>
                    <a:pt x="880" y="50"/>
                  </a:lnTo>
                  <a:lnTo>
                    <a:pt x="888" y="59"/>
                  </a:lnTo>
                  <a:lnTo>
                    <a:pt x="893" y="67"/>
                  </a:lnTo>
                  <a:lnTo>
                    <a:pt x="901" y="138"/>
                  </a:lnTo>
                  <a:lnTo>
                    <a:pt x="907" y="192"/>
                  </a:lnTo>
                  <a:lnTo>
                    <a:pt x="912" y="239"/>
                  </a:lnTo>
                  <a:lnTo>
                    <a:pt x="918" y="289"/>
                  </a:lnTo>
                  <a:lnTo>
                    <a:pt x="925" y="355"/>
                  </a:lnTo>
                  <a:lnTo>
                    <a:pt x="936" y="443"/>
                  </a:lnTo>
                  <a:lnTo>
                    <a:pt x="950" y="569"/>
                  </a:lnTo>
                  <a:lnTo>
                    <a:pt x="970" y="739"/>
                  </a:lnTo>
                  <a:lnTo>
                    <a:pt x="953" y="735"/>
                  </a:lnTo>
                  <a:lnTo>
                    <a:pt x="935" y="731"/>
                  </a:lnTo>
                  <a:lnTo>
                    <a:pt x="912" y="728"/>
                  </a:lnTo>
                  <a:lnTo>
                    <a:pt x="889" y="724"/>
                  </a:lnTo>
                  <a:lnTo>
                    <a:pt x="862" y="721"/>
                  </a:lnTo>
                  <a:lnTo>
                    <a:pt x="833" y="718"/>
                  </a:lnTo>
                  <a:lnTo>
                    <a:pt x="802" y="716"/>
                  </a:lnTo>
                  <a:lnTo>
                    <a:pt x="770" y="714"/>
                  </a:lnTo>
                  <a:lnTo>
                    <a:pt x="736" y="711"/>
                  </a:lnTo>
                  <a:lnTo>
                    <a:pt x="701" y="710"/>
                  </a:lnTo>
                  <a:lnTo>
                    <a:pt x="665" y="708"/>
                  </a:lnTo>
                  <a:lnTo>
                    <a:pt x="627" y="707"/>
                  </a:lnTo>
                  <a:lnTo>
                    <a:pt x="589" y="707"/>
                  </a:lnTo>
                  <a:lnTo>
                    <a:pt x="550" y="705"/>
                  </a:lnTo>
                  <a:lnTo>
                    <a:pt x="511" y="705"/>
                  </a:lnTo>
                  <a:lnTo>
                    <a:pt x="472" y="705"/>
                  </a:lnTo>
                  <a:lnTo>
                    <a:pt x="433" y="705"/>
                  </a:lnTo>
                  <a:lnTo>
                    <a:pt x="394" y="705"/>
                  </a:lnTo>
                  <a:lnTo>
                    <a:pt x="356" y="707"/>
                  </a:lnTo>
                  <a:lnTo>
                    <a:pt x="318" y="708"/>
                  </a:lnTo>
                  <a:lnTo>
                    <a:pt x="282" y="709"/>
                  </a:lnTo>
                  <a:lnTo>
                    <a:pt x="247" y="710"/>
                  </a:lnTo>
                  <a:lnTo>
                    <a:pt x="213" y="712"/>
                  </a:lnTo>
                  <a:lnTo>
                    <a:pt x="180" y="714"/>
                  </a:lnTo>
                  <a:lnTo>
                    <a:pt x="150" y="716"/>
                  </a:lnTo>
                  <a:lnTo>
                    <a:pt x="121" y="718"/>
                  </a:lnTo>
                  <a:lnTo>
                    <a:pt x="94" y="722"/>
                  </a:lnTo>
                  <a:lnTo>
                    <a:pt x="69" y="724"/>
                  </a:lnTo>
                  <a:lnTo>
                    <a:pt x="48" y="728"/>
                  </a:lnTo>
                  <a:lnTo>
                    <a:pt x="30" y="731"/>
                  </a:lnTo>
                  <a:lnTo>
                    <a:pt x="13" y="736"/>
                  </a:lnTo>
                  <a:lnTo>
                    <a:pt x="0" y="739"/>
                  </a:lnTo>
                  <a:lnTo>
                    <a:pt x="9" y="663"/>
                  </a:lnTo>
                  <a:lnTo>
                    <a:pt x="14" y="604"/>
                  </a:lnTo>
                  <a:lnTo>
                    <a:pt x="19" y="552"/>
                  </a:lnTo>
                  <a:lnTo>
                    <a:pt x="25" y="497"/>
                  </a:lnTo>
                  <a:lnTo>
                    <a:pt x="31" y="432"/>
                  </a:lnTo>
                  <a:lnTo>
                    <a:pt x="40" y="345"/>
                  </a:lnTo>
                  <a:lnTo>
                    <a:pt x="52" y="227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dea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973160" y="5137920"/>
              <a:ext cx="241920" cy="199800"/>
            </a:xfrm>
            <a:custGeom>
              <a:avLst/>
              <a:gdLst/>
              <a:ahLst/>
              <a:rect l="l" t="t" r="r" b="b"/>
              <a:pathLst>
                <a:path w="898" h="736">
                  <a:moveTo>
                    <a:pt x="66" y="63"/>
                  </a:moveTo>
                  <a:lnTo>
                    <a:pt x="69" y="56"/>
                  </a:lnTo>
                  <a:lnTo>
                    <a:pt x="78" y="49"/>
                  </a:lnTo>
                  <a:lnTo>
                    <a:pt x="89" y="43"/>
                  </a:lnTo>
                  <a:lnTo>
                    <a:pt x="103" y="36"/>
                  </a:lnTo>
                  <a:lnTo>
                    <a:pt x="121" y="32"/>
                  </a:lnTo>
                  <a:lnTo>
                    <a:pt x="142" y="26"/>
                  </a:lnTo>
                  <a:lnTo>
                    <a:pt x="164" y="21"/>
                  </a:lnTo>
                  <a:lnTo>
                    <a:pt x="190" y="18"/>
                  </a:lnTo>
                  <a:lnTo>
                    <a:pt x="217" y="14"/>
                  </a:lnTo>
                  <a:lnTo>
                    <a:pt x="246" y="11"/>
                  </a:lnTo>
                  <a:lnTo>
                    <a:pt x="276" y="7"/>
                  </a:lnTo>
                  <a:lnTo>
                    <a:pt x="309" y="5"/>
                  </a:lnTo>
                  <a:lnTo>
                    <a:pt x="342" y="4"/>
                  </a:lnTo>
                  <a:lnTo>
                    <a:pt x="376" y="2"/>
                  </a:lnTo>
                  <a:lnTo>
                    <a:pt x="410" y="1"/>
                  </a:lnTo>
                  <a:lnTo>
                    <a:pt x="444" y="0"/>
                  </a:lnTo>
                  <a:lnTo>
                    <a:pt x="479" y="0"/>
                  </a:lnTo>
                  <a:lnTo>
                    <a:pt x="513" y="1"/>
                  </a:lnTo>
                  <a:lnTo>
                    <a:pt x="546" y="2"/>
                  </a:lnTo>
                  <a:lnTo>
                    <a:pt x="579" y="4"/>
                  </a:lnTo>
                  <a:lnTo>
                    <a:pt x="612" y="5"/>
                  </a:lnTo>
                  <a:lnTo>
                    <a:pt x="642" y="8"/>
                  </a:lnTo>
                  <a:lnTo>
                    <a:pt x="672" y="11"/>
                  </a:lnTo>
                  <a:lnTo>
                    <a:pt x="700" y="14"/>
                  </a:lnTo>
                  <a:lnTo>
                    <a:pt x="725" y="18"/>
                  </a:lnTo>
                  <a:lnTo>
                    <a:pt x="749" y="22"/>
                  </a:lnTo>
                  <a:lnTo>
                    <a:pt x="769" y="27"/>
                  </a:lnTo>
                  <a:lnTo>
                    <a:pt x="787" y="33"/>
                  </a:lnTo>
                  <a:lnTo>
                    <a:pt x="803" y="39"/>
                  </a:lnTo>
                  <a:lnTo>
                    <a:pt x="814" y="46"/>
                  </a:lnTo>
                  <a:lnTo>
                    <a:pt x="822" y="53"/>
                  </a:lnTo>
                  <a:lnTo>
                    <a:pt x="827" y="60"/>
                  </a:lnTo>
                  <a:lnTo>
                    <a:pt x="835" y="131"/>
                  </a:lnTo>
                  <a:lnTo>
                    <a:pt x="841" y="186"/>
                  </a:lnTo>
                  <a:lnTo>
                    <a:pt x="846" y="233"/>
                  </a:lnTo>
                  <a:lnTo>
                    <a:pt x="852" y="284"/>
                  </a:lnTo>
                  <a:lnTo>
                    <a:pt x="859" y="350"/>
                  </a:lnTo>
                  <a:lnTo>
                    <a:pt x="868" y="439"/>
                  </a:lnTo>
                  <a:lnTo>
                    <a:pt x="881" y="565"/>
                  </a:lnTo>
                  <a:lnTo>
                    <a:pt x="898" y="736"/>
                  </a:lnTo>
                  <a:lnTo>
                    <a:pt x="883" y="732"/>
                  </a:lnTo>
                  <a:lnTo>
                    <a:pt x="867" y="729"/>
                  </a:lnTo>
                  <a:lnTo>
                    <a:pt x="846" y="725"/>
                  </a:lnTo>
                  <a:lnTo>
                    <a:pt x="824" y="722"/>
                  </a:lnTo>
                  <a:lnTo>
                    <a:pt x="799" y="719"/>
                  </a:lnTo>
                  <a:lnTo>
                    <a:pt x="773" y="717"/>
                  </a:lnTo>
                  <a:lnTo>
                    <a:pt x="744" y="715"/>
                  </a:lnTo>
                  <a:lnTo>
                    <a:pt x="715" y="712"/>
                  </a:lnTo>
                  <a:lnTo>
                    <a:pt x="683" y="711"/>
                  </a:lnTo>
                  <a:lnTo>
                    <a:pt x="651" y="709"/>
                  </a:lnTo>
                  <a:lnTo>
                    <a:pt x="617" y="708"/>
                  </a:lnTo>
                  <a:lnTo>
                    <a:pt x="583" y="707"/>
                  </a:lnTo>
                  <a:lnTo>
                    <a:pt x="548" y="707"/>
                  </a:lnTo>
                  <a:lnTo>
                    <a:pt x="511" y="705"/>
                  </a:lnTo>
                  <a:lnTo>
                    <a:pt x="475" y="705"/>
                  </a:lnTo>
                  <a:lnTo>
                    <a:pt x="439" y="705"/>
                  </a:lnTo>
                  <a:lnTo>
                    <a:pt x="404" y="705"/>
                  </a:lnTo>
                  <a:lnTo>
                    <a:pt x="368" y="705"/>
                  </a:lnTo>
                  <a:lnTo>
                    <a:pt x="333" y="707"/>
                  </a:lnTo>
                  <a:lnTo>
                    <a:pt x="297" y="708"/>
                  </a:lnTo>
                  <a:lnTo>
                    <a:pt x="264" y="709"/>
                  </a:lnTo>
                  <a:lnTo>
                    <a:pt x="231" y="710"/>
                  </a:lnTo>
                  <a:lnTo>
                    <a:pt x="199" y="711"/>
                  </a:lnTo>
                  <a:lnTo>
                    <a:pt x="169" y="714"/>
                  </a:lnTo>
                  <a:lnTo>
                    <a:pt x="141" y="715"/>
                  </a:lnTo>
                  <a:lnTo>
                    <a:pt x="114" y="717"/>
                  </a:lnTo>
                  <a:lnTo>
                    <a:pt x="89" y="719"/>
                  </a:lnTo>
                  <a:lnTo>
                    <a:pt x="66" y="723"/>
                  </a:lnTo>
                  <a:lnTo>
                    <a:pt x="46" y="725"/>
                  </a:lnTo>
                  <a:lnTo>
                    <a:pt x="27" y="729"/>
                  </a:lnTo>
                  <a:lnTo>
                    <a:pt x="12" y="732"/>
                  </a:lnTo>
                  <a:lnTo>
                    <a:pt x="0" y="736"/>
                  </a:lnTo>
                  <a:lnTo>
                    <a:pt x="7" y="655"/>
                  </a:lnTo>
                  <a:lnTo>
                    <a:pt x="13" y="591"/>
                  </a:lnTo>
                  <a:lnTo>
                    <a:pt x="19" y="533"/>
                  </a:lnTo>
                  <a:lnTo>
                    <a:pt x="25" y="475"/>
                  </a:lnTo>
                  <a:lnTo>
                    <a:pt x="31" y="408"/>
                  </a:lnTo>
                  <a:lnTo>
                    <a:pt x="39" y="323"/>
                  </a:lnTo>
                  <a:lnTo>
                    <a:pt x="51" y="211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e1b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982520" y="5137920"/>
              <a:ext cx="222840" cy="198360"/>
            </a:xfrm>
            <a:custGeom>
              <a:avLst/>
              <a:gdLst/>
              <a:ahLst/>
              <a:rect l="l" t="t" r="r" b="b"/>
              <a:pathLst>
                <a:path w="826" h="732">
                  <a:moveTo>
                    <a:pt x="60" y="56"/>
                  </a:moveTo>
                  <a:lnTo>
                    <a:pt x="72" y="43"/>
                  </a:lnTo>
                  <a:lnTo>
                    <a:pt x="97" y="33"/>
                  </a:lnTo>
                  <a:lnTo>
                    <a:pt x="132" y="24"/>
                  </a:lnTo>
                  <a:lnTo>
                    <a:pt x="176" y="15"/>
                  </a:lnTo>
                  <a:lnTo>
                    <a:pt x="228" y="9"/>
                  </a:lnTo>
                  <a:lnTo>
                    <a:pt x="284" y="5"/>
                  </a:lnTo>
                  <a:lnTo>
                    <a:pt x="345" y="1"/>
                  </a:lnTo>
                  <a:lnTo>
                    <a:pt x="408" y="0"/>
                  </a:lnTo>
                  <a:lnTo>
                    <a:pt x="470" y="1"/>
                  </a:lnTo>
                  <a:lnTo>
                    <a:pt x="531" y="2"/>
                  </a:lnTo>
                  <a:lnTo>
                    <a:pt x="588" y="7"/>
                  </a:lnTo>
                  <a:lnTo>
                    <a:pt x="640" y="13"/>
                  </a:lnTo>
                  <a:lnTo>
                    <a:pt x="685" y="20"/>
                  </a:lnTo>
                  <a:lnTo>
                    <a:pt x="721" y="29"/>
                  </a:lnTo>
                  <a:lnTo>
                    <a:pt x="747" y="41"/>
                  </a:lnTo>
                  <a:lnTo>
                    <a:pt x="761" y="54"/>
                  </a:lnTo>
                  <a:lnTo>
                    <a:pt x="768" y="126"/>
                  </a:lnTo>
                  <a:lnTo>
                    <a:pt x="773" y="180"/>
                  </a:lnTo>
                  <a:lnTo>
                    <a:pt x="777" y="228"/>
                  </a:lnTo>
                  <a:lnTo>
                    <a:pt x="782" y="278"/>
                  </a:lnTo>
                  <a:lnTo>
                    <a:pt x="789" y="344"/>
                  </a:lnTo>
                  <a:lnTo>
                    <a:pt x="797" y="435"/>
                  </a:lnTo>
                  <a:lnTo>
                    <a:pt x="810" y="560"/>
                  </a:lnTo>
                  <a:lnTo>
                    <a:pt x="826" y="732"/>
                  </a:lnTo>
                  <a:lnTo>
                    <a:pt x="812" y="729"/>
                  </a:lnTo>
                  <a:lnTo>
                    <a:pt x="797" y="725"/>
                  </a:lnTo>
                  <a:lnTo>
                    <a:pt x="778" y="723"/>
                  </a:lnTo>
                  <a:lnTo>
                    <a:pt x="759" y="721"/>
                  </a:lnTo>
                  <a:lnTo>
                    <a:pt x="735" y="717"/>
                  </a:lnTo>
                  <a:lnTo>
                    <a:pt x="712" y="716"/>
                  </a:lnTo>
                  <a:lnTo>
                    <a:pt x="685" y="714"/>
                  </a:lnTo>
                  <a:lnTo>
                    <a:pt x="658" y="711"/>
                  </a:lnTo>
                  <a:lnTo>
                    <a:pt x="629" y="710"/>
                  </a:lnTo>
                  <a:lnTo>
                    <a:pt x="600" y="709"/>
                  </a:lnTo>
                  <a:lnTo>
                    <a:pt x="568" y="708"/>
                  </a:lnTo>
                  <a:lnTo>
                    <a:pt x="536" y="707"/>
                  </a:lnTo>
                  <a:lnTo>
                    <a:pt x="505" y="705"/>
                  </a:lnTo>
                  <a:lnTo>
                    <a:pt x="472" y="705"/>
                  </a:lnTo>
                  <a:lnTo>
                    <a:pt x="438" y="705"/>
                  </a:lnTo>
                  <a:lnTo>
                    <a:pt x="405" y="705"/>
                  </a:lnTo>
                  <a:lnTo>
                    <a:pt x="373" y="705"/>
                  </a:lnTo>
                  <a:lnTo>
                    <a:pt x="340" y="705"/>
                  </a:lnTo>
                  <a:lnTo>
                    <a:pt x="307" y="707"/>
                  </a:lnTo>
                  <a:lnTo>
                    <a:pt x="276" y="707"/>
                  </a:lnTo>
                  <a:lnTo>
                    <a:pt x="244" y="708"/>
                  </a:lnTo>
                  <a:lnTo>
                    <a:pt x="214" y="709"/>
                  </a:lnTo>
                  <a:lnTo>
                    <a:pt x="184" y="710"/>
                  </a:lnTo>
                  <a:lnTo>
                    <a:pt x="158" y="712"/>
                  </a:lnTo>
                  <a:lnTo>
                    <a:pt x="131" y="714"/>
                  </a:lnTo>
                  <a:lnTo>
                    <a:pt x="106" y="716"/>
                  </a:lnTo>
                  <a:lnTo>
                    <a:pt x="83" y="718"/>
                  </a:lnTo>
                  <a:lnTo>
                    <a:pt x="62" y="721"/>
                  </a:lnTo>
                  <a:lnTo>
                    <a:pt x="43" y="723"/>
                  </a:lnTo>
                  <a:lnTo>
                    <a:pt x="25" y="726"/>
                  </a:lnTo>
                  <a:lnTo>
                    <a:pt x="11" y="729"/>
                  </a:lnTo>
                  <a:lnTo>
                    <a:pt x="0" y="732"/>
                  </a:lnTo>
                  <a:lnTo>
                    <a:pt x="7" y="647"/>
                  </a:lnTo>
                  <a:lnTo>
                    <a:pt x="13" y="577"/>
                  </a:lnTo>
                  <a:lnTo>
                    <a:pt x="17" y="515"/>
                  </a:lnTo>
                  <a:lnTo>
                    <a:pt x="23" y="454"/>
                  </a:lnTo>
                  <a:lnTo>
                    <a:pt x="29" y="385"/>
                  </a:lnTo>
                  <a:lnTo>
                    <a:pt x="37" y="301"/>
                  </a:lnTo>
                  <a:lnTo>
                    <a:pt x="46" y="193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e6b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992240" y="5137920"/>
              <a:ext cx="203760" cy="197280"/>
            </a:xfrm>
            <a:custGeom>
              <a:avLst/>
              <a:gdLst/>
              <a:ahLst/>
              <a:rect l="l" t="t" r="r" b="b"/>
              <a:pathLst>
                <a:path w="754" h="729">
                  <a:moveTo>
                    <a:pt x="56" y="50"/>
                  </a:moveTo>
                  <a:lnTo>
                    <a:pt x="68" y="39"/>
                  </a:lnTo>
                  <a:lnTo>
                    <a:pt x="91" y="29"/>
                  </a:lnTo>
                  <a:lnTo>
                    <a:pt x="124" y="21"/>
                  </a:lnTo>
                  <a:lnTo>
                    <a:pt x="164" y="14"/>
                  </a:lnTo>
                  <a:lnTo>
                    <a:pt x="210" y="8"/>
                  </a:lnTo>
                  <a:lnTo>
                    <a:pt x="261" y="4"/>
                  </a:lnTo>
                  <a:lnTo>
                    <a:pt x="316" y="1"/>
                  </a:lnTo>
                  <a:lnTo>
                    <a:pt x="372" y="0"/>
                  </a:lnTo>
                  <a:lnTo>
                    <a:pt x="428" y="1"/>
                  </a:lnTo>
                  <a:lnTo>
                    <a:pt x="482" y="4"/>
                  </a:lnTo>
                  <a:lnTo>
                    <a:pt x="534" y="7"/>
                  </a:lnTo>
                  <a:lnTo>
                    <a:pt x="581" y="12"/>
                  </a:lnTo>
                  <a:lnTo>
                    <a:pt x="622" y="19"/>
                  </a:lnTo>
                  <a:lnTo>
                    <a:pt x="656" y="27"/>
                  </a:lnTo>
                  <a:lnTo>
                    <a:pt x="680" y="36"/>
                  </a:lnTo>
                  <a:lnTo>
                    <a:pt x="694" y="48"/>
                  </a:lnTo>
                  <a:lnTo>
                    <a:pt x="700" y="121"/>
                  </a:lnTo>
                  <a:lnTo>
                    <a:pt x="706" y="176"/>
                  </a:lnTo>
                  <a:lnTo>
                    <a:pt x="710" y="222"/>
                  </a:lnTo>
                  <a:lnTo>
                    <a:pt x="714" y="274"/>
                  </a:lnTo>
                  <a:lnTo>
                    <a:pt x="720" y="339"/>
                  </a:lnTo>
                  <a:lnTo>
                    <a:pt x="728" y="431"/>
                  </a:lnTo>
                  <a:lnTo>
                    <a:pt x="739" y="557"/>
                  </a:lnTo>
                  <a:lnTo>
                    <a:pt x="754" y="729"/>
                  </a:lnTo>
                  <a:lnTo>
                    <a:pt x="727" y="723"/>
                  </a:lnTo>
                  <a:lnTo>
                    <a:pt x="692" y="718"/>
                  </a:lnTo>
                  <a:lnTo>
                    <a:pt x="650" y="714"/>
                  </a:lnTo>
                  <a:lnTo>
                    <a:pt x="602" y="711"/>
                  </a:lnTo>
                  <a:lnTo>
                    <a:pt x="548" y="708"/>
                  </a:lnTo>
                  <a:lnTo>
                    <a:pt x="491" y="707"/>
                  </a:lnTo>
                  <a:lnTo>
                    <a:pt x="433" y="705"/>
                  </a:lnTo>
                  <a:lnTo>
                    <a:pt x="372" y="705"/>
                  </a:lnTo>
                  <a:lnTo>
                    <a:pt x="312" y="705"/>
                  </a:lnTo>
                  <a:lnTo>
                    <a:pt x="254" y="707"/>
                  </a:lnTo>
                  <a:lnTo>
                    <a:pt x="198" y="709"/>
                  </a:lnTo>
                  <a:lnTo>
                    <a:pt x="145" y="711"/>
                  </a:lnTo>
                  <a:lnTo>
                    <a:pt x="98" y="715"/>
                  </a:lnTo>
                  <a:lnTo>
                    <a:pt x="57" y="718"/>
                  </a:lnTo>
                  <a:lnTo>
                    <a:pt x="24" y="723"/>
                  </a:lnTo>
                  <a:lnTo>
                    <a:pt x="0" y="729"/>
                  </a:lnTo>
                  <a:lnTo>
                    <a:pt x="6" y="639"/>
                  </a:lnTo>
                  <a:lnTo>
                    <a:pt x="12" y="564"/>
                  </a:lnTo>
                  <a:lnTo>
                    <a:pt x="16" y="497"/>
                  </a:lnTo>
                  <a:lnTo>
                    <a:pt x="21" y="432"/>
                  </a:lnTo>
                  <a:lnTo>
                    <a:pt x="27" y="362"/>
                  </a:lnTo>
                  <a:lnTo>
                    <a:pt x="35" y="278"/>
                  </a:lnTo>
                  <a:lnTo>
                    <a:pt x="44" y="177"/>
                  </a:lnTo>
                  <a:lnTo>
                    <a:pt x="56" y="50"/>
                  </a:lnTo>
                  <a:close/>
                </a:path>
              </a:pathLst>
            </a:custGeom>
            <a:solidFill>
              <a:srgbClr val="e9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002680" y="5137920"/>
              <a:ext cx="183960" cy="197280"/>
            </a:xfrm>
            <a:custGeom>
              <a:avLst/>
              <a:gdLst/>
              <a:ahLst/>
              <a:rect l="l" t="t" r="r" b="b"/>
              <a:pathLst>
                <a:path w="683" h="725">
                  <a:moveTo>
                    <a:pt x="53" y="43"/>
                  </a:moveTo>
                  <a:lnTo>
                    <a:pt x="64" y="34"/>
                  </a:lnTo>
                  <a:lnTo>
                    <a:pt x="87" y="25"/>
                  </a:lnTo>
                  <a:lnTo>
                    <a:pt x="116" y="18"/>
                  </a:lnTo>
                  <a:lnTo>
                    <a:pt x="151" y="12"/>
                  </a:lnTo>
                  <a:lnTo>
                    <a:pt x="193" y="7"/>
                  </a:lnTo>
                  <a:lnTo>
                    <a:pt x="238" y="4"/>
                  </a:lnTo>
                  <a:lnTo>
                    <a:pt x="287" y="1"/>
                  </a:lnTo>
                  <a:lnTo>
                    <a:pt x="336" y="0"/>
                  </a:lnTo>
                  <a:lnTo>
                    <a:pt x="386" y="1"/>
                  </a:lnTo>
                  <a:lnTo>
                    <a:pt x="434" y="2"/>
                  </a:lnTo>
                  <a:lnTo>
                    <a:pt x="481" y="6"/>
                  </a:lnTo>
                  <a:lnTo>
                    <a:pt x="523" y="9"/>
                  </a:lnTo>
                  <a:lnTo>
                    <a:pt x="560" y="15"/>
                  </a:lnTo>
                  <a:lnTo>
                    <a:pt x="591" y="22"/>
                  </a:lnTo>
                  <a:lnTo>
                    <a:pt x="615" y="32"/>
                  </a:lnTo>
                  <a:lnTo>
                    <a:pt x="629" y="41"/>
                  </a:lnTo>
                  <a:lnTo>
                    <a:pt x="635" y="114"/>
                  </a:lnTo>
                  <a:lnTo>
                    <a:pt x="639" y="169"/>
                  </a:lnTo>
                  <a:lnTo>
                    <a:pt x="643" y="217"/>
                  </a:lnTo>
                  <a:lnTo>
                    <a:pt x="647" y="268"/>
                  </a:lnTo>
                  <a:lnTo>
                    <a:pt x="653" y="335"/>
                  </a:lnTo>
                  <a:lnTo>
                    <a:pt x="660" y="425"/>
                  </a:lnTo>
                  <a:lnTo>
                    <a:pt x="669" y="552"/>
                  </a:lnTo>
                  <a:lnTo>
                    <a:pt x="683" y="725"/>
                  </a:lnTo>
                  <a:lnTo>
                    <a:pt x="660" y="721"/>
                  </a:lnTo>
                  <a:lnTo>
                    <a:pt x="628" y="716"/>
                  </a:lnTo>
                  <a:lnTo>
                    <a:pt x="590" y="712"/>
                  </a:lnTo>
                  <a:lnTo>
                    <a:pt x="546" y="710"/>
                  </a:lnTo>
                  <a:lnTo>
                    <a:pt x="498" y="708"/>
                  </a:lnTo>
                  <a:lnTo>
                    <a:pt x="447" y="707"/>
                  </a:lnTo>
                  <a:lnTo>
                    <a:pt x="393" y="705"/>
                  </a:lnTo>
                  <a:lnTo>
                    <a:pt x="339" y="705"/>
                  </a:lnTo>
                  <a:lnTo>
                    <a:pt x="284" y="705"/>
                  </a:lnTo>
                  <a:lnTo>
                    <a:pt x="232" y="707"/>
                  </a:lnTo>
                  <a:lnTo>
                    <a:pt x="181" y="708"/>
                  </a:lnTo>
                  <a:lnTo>
                    <a:pt x="133" y="710"/>
                  </a:lnTo>
                  <a:lnTo>
                    <a:pt x="90" y="714"/>
                  </a:lnTo>
                  <a:lnTo>
                    <a:pt x="54" y="717"/>
                  </a:lnTo>
                  <a:lnTo>
                    <a:pt x="22" y="721"/>
                  </a:lnTo>
                  <a:lnTo>
                    <a:pt x="0" y="725"/>
                  </a:lnTo>
                  <a:lnTo>
                    <a:pt x="6" y="631"/>
                  </a:lnTo>
                  <a:lnTo>
                    <a:pt x="11" y="551"/>
                  </a:lnTo>
                  <a:lnTo>
                    <a:pt x="15" y="478"/>
                  </a:lnTo>
                  <a:lnTo>
                    <a:pt x="20" y="409"/>
                  </a:lnTo>
                  <a:lnTo>
                    <a:pt x="26" y="337"/>
                  </a:lnTo>
                  <a:lnTo>
                    <a:pt x="33" y="256"/>
                  </a:lnTo>
                  <a:lnTo>
                    <a:pt x="42" y="159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ebc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012400" y="5137920"/>
              <a:ext cx="164880" cy="195840"/>
            </a:xfrm>
            <a:custGeom>
              <a:avLst/>
              <a:gdLst/>
              <a:ahLst/>
              <a:rect l="l" t="t" r="r" b="b"/>
              <a:pathLst>
                <a:path w="612" h="722">
                  <a:moveTo>
                    <a:pt x="49" y="37"/>
                  </a:moveTo>
                  <a:lnTo>
                    <a:pt x="62" y="28"/>
                  </a:lnTo>
                  <a:lnTo>
                    <a:pt x="82" y="21"/>
                  </a:lnTo>
                  <a:lnTo>
                    <a:pt x="108" y="14"/>
                  </a:lnTo>
                  <a:lnTo>
                    <a:pt x="139" y="10"/>
                  </a:lnTo>
                  <a:lnTo>
                    <a:pt x="177" y="5"/>
                  </a:lnTo>
                  <a:lnTo>
                    <a:pt x="217" y="3"/>
                  </a:lnTo>
                  <a:lnTo>
                    <a:pt x="259" y="0"/>
                  </a:lnTo>
                  <a:lnTo>
                    <a:pt x="302" y="0"/>
                  </a:lnTo>
                  <a:lnTo>
                    <a:pt x="345" y="0"/>
                  </a:lnTo>
                  <a:lnTo>
                    <a:pt x="387" y="1"/>
                  </a:lnTo>
                  <a:lnTo>
                    <a:pt x="428" y="4"/>
                  </a:lnTo>
                  <a:lnTo>
                    <a:pt x="466" y="8"/>
                  </a:lnTo>
                  <a:lnTo>
                    <a:pt x="498" y="13"/>
                  </a:lnTo>
                  <a:lnTo>
                    <a:pt x="528" y="19"/>
                  </a:lnTo>
                  <a:lnTo>
                    <a:pt x="549" y="26"/>
                  </a:lnTo>
                  <a:lnTo>
                    <a:pt x="564" y="34"/>
                  </a:lnTo>
                  <a:lnTo>
                    <a:pt x="569" y="107"/>
                  </a:lnTo>
                  <a:lnTo>
                    <a:pt x="573" y="163"/>
                  </a:lnTo>
                  <a:lnTo>
                    <a:pt x="577" y="211"/>
                  </a:lnTo>
                  <a:lnTo>
                    <a:pt x="580" y="262"/>
                  </a:lnTo>
                  <a:lnTo>
                    <a:pt x="585" y="329"/>
                  </a:lnTo>
                  <a:lnTo>
                    <a:pt x="591" y="420"/>
                  </a:lnTo>
                  <a:lnTo>
                    <a:pt x="600" y="548"/>
                  </a:lnTo>
                  <a:lnTo>
                    <a:pt x="612" y="722"/>
                  </a:lnTo>
                  <a:lnTo>
                    <a:pt x="591" y="717"/>
                  </a:lnTo>
                  <a:lnTo>
                    <a:pt x="563" y="714"/>
                  </a:lnTo>
                  <a:lnTo>
                    <a:pt x="529" y="711"/>
                  </a:lnTo>
                  <a:lnTo>
                    <a:pt x="490" y="709"/>
                  </a:lnTo>
                  <a:lnTo>
                    <a:pt x="448" y="707"/>
                  </a:lnTo>
                  <a:lnTo>
                    <a:pt x="402" y="706"/>
                  </a:lnTo>
                  <a:lnTo>
                    <a:pt x="355" y="704"/>
                  </a:lnTo>
                  <a:lnTo>
                    <a:pt x="307" y="704"/>
                  </a:lnTo>
                  <a:lnTo>
                    <a:pt x="258" y="704"/>
                  </a:lnTo>
                  <a:lnTo>
                    <a:pt x="211" y="706"/>
                  </a:lnTo>
                  <a:lnTo>
                    <a:pt x="165" y="707"/>
                  </a:lnTo>
                  <a:lnTo>
                    <a:pt x="122" y="709"/>
                  </a:lnTo>
                  <a:lnTo>
                    <a:pt x="83" y="711"/>
                  </a:lnTo>
                  <a:lnTo>
                    <a:pt x="49" y="714"/>
                  </a:lnTo>
                  <a:lnTo>
                    <a:pt x="21" y="717"/>
                  </a:lnTo>
                  <a:lnTo>
                    <a:pt x="0" y="722"/>
                  </a:lnTo>
                  <a:lnTo>
                    <a:pt x="6" y="623"/>
                  </a:lnTo>
                  <a:lnTo>
                    <a:pt x="11" y="537"/>
                  </a:lnTo>
                  <a:lnTo>
                    <a:pt x="15" y="460"/>
                  </a:lnTo>
                  <a:lnTo>
                    <a:pt x="20" y="387"/>
                  </a:lnTo>
                  <a:lnTo>
                    <a:pt x="26" y="313"/>
                  </a:lnTo>
                  <a:lnTo>
                    <a:pt x="32" y="233"/>
                  </a:lnTo>
                  <a:lnTo>
                    <a:pt x="40" y="143"/>
                  </a:lnTo>
                  <a:lnTo>
                    <a:pt x="49" y="37"/>
                  </a:lnTo>
                  <a:close/>
                </a:path>
              </a:pathLst>
            </a:custGeom>
            <a:solidFill>
              <a:srgbClr val="f0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021760" y="5137920"/>
              <a:ext cx="145800" cy="194400"/>
            </a:xfrm>
            <a:custGeom>
              <a:avLst/>
              <a:gdLst/>
              <a:ahLst/>
              <a:rect l="l" t="t" r="r" b="b"/>
              <a:pathLst>
                <a:path w="540" h="718">
                  <a:moveTo>
                    <a:pt x="45" y="30"/>
                  </a:moveTo>
                  <a:lnTo>
                    <a:pt x="57" y="23"/>
                  </a:lnTo>
                  <a:lnTo>
                    <a:pt x="76" y="17"/>
                  </a:lnTo>
                  <a:lnTo>
                    <a:pt x="99" y="12"/>
                  </a:lnTo>
                  <a:lnTo>
                    <a:pt x="127" y="7"/>
                  </a:lnTo>
                  <a:lnTo>
                    <a:pt x="159" y="4"/>
                  </a:lnTo>
                  <a:lnTo>
                    <a:pt x="192" y="1"/>
                  </a:lnTo>
                  <a:lnTo>
                    <a:pt x="228" y="0"/>
                  </a:lnTo>
                  <a:lnTo>
                    <a:pt x="265" y="0"/>
                  </a:lnTo>
                  <a:lnTo>
                    <a:pt x="302" y="0"/>
                  </a:lnTo>
                  <a:lnTo>
                    <a:pt x="339" y="1"/>
                  </a:lnTo>
                  <a:lnTo>
                    <a:pt x="374" y="4"/>
                  </a:lnTo>
                  <a:lnTo>
                    <a:pt x="406" y="6"/>
                  </a:lnTo>
                  <a:lnTo>
                    <a:pt x="436" y="10"/>
                  </a:lnTo>
                  <a:lnTo>
                    <a:pt x="461" y="16"/>
                  </a:lnTo>
                  <a:lnTo>
                    <a:pt x="482" y="20"/>
                  </a:lnTo>
                  <a:lnTo>
                    <a:pt x="498" y="27"/>
                  </a:lnTo>
                  <a:lnTo>
                    <a:pt x="502" y="101"/>
                  </a:lnTo>
                  <a:lnTo>
                    <a:pt x="506" y="156"/>
                  </a:lnTo>
                  <a:lnTo>
                    <a:pt x="508" y="205"/>
                  </a:lnTo>
                  <a:lnTo>
                    <a:pt x="512" y="256"/>
                  </a:lnTo>
                  <a:lnTo>
                    <a:pt x="515" y="323"/>
                  </a:lnTo>
                  <a:lnTo>
                    <a:pt x="521" y="415"/>
                  </a:lnTo>
                  <a:lnTo>
                    <a:pt x="529" y="543"/>
                  </a:lnTo>
                  <a:lnTo>
                    <a:pt x="540" y="718"/>
                  </a:lnTo>
                  <a:lnTo>
                    <a:pt x="521" y="715"/>
                  </a:lnTo>
                  <a:lnTo>
                    <a:pt x="496" y="713"/>
                  </a:lnTo>
                  <a:lnTo>
                    <a:pt x="467" y="710"/>
                  </a:lnTo>
                  <a:lnTo>
                    <a:pt x="433" y="708"/>
                  </a:lnTo>
                  <a:lnTo>
                    <a:pt x="396" y="707"/>
                  </a:lnTo>
                  <a:lnTo>
                    <a:pt x="356" y="706"/>
                  </a:lnTo>
                  <a:lnTo>
                    <a:pt x="315" y="704"/>
                  </a:lnTo>
                  <a:lnTo>
                    <a:pt x="272" y="704"/>
                  </a:lnTo>
                  <a:lnTo>
                    <a:pt x="230" y="704"/>
                  </a:lnTo>
                  <a:lnTo>
                    <a:pt x="188" y="706"/>
                  </a:lnTo>
                  <a:lnTo>
                    <a:pt x="147" y="707"/>
                  </a:lnTo>
                  <a:lnTo>
                    <a:pt x="109" y="708"/>
                  </a:lnTo>
                  <a:lnTo>
                    <a:pt x="76" y="710"/>
                  </a:lnTo>
                  <a:lnTo>
                    <a:pt x="45" y="713"/>
                  </a:lnTo>
                  <a:lnTo>
                    <a:pt x="19" y="715"/>
                  </a:lnTo>
                  <a:lnTo>
                    <a:pt x="0" y="718"/>
                  </a:lnTo>
                  <a:lnTo>
                    <a:pt x="4" y="614"/>
                  </a:lnTo>
                  <a:lnTo>
                    <a:pt x="9" y="524"/>
                  </a:lnTo>
                  <a:lnTo>
                    <a:pt x="14" y="441"/>
                  </a:lnTo>
                  <a:lnTo>
                    <a:pt x="18" y="365"/>
                  </a:lnTo>
                  <a:lnTo>
                    <a:pt x="23" y="289"/>
                  </a:lnTo>
                  <a:lnTo>
                    <a:pt x="30" y="211"/>
                  </a:lnTo>
                  <a:lnTo>
                    <a:pt x="37" y="125"/>
                  </a:lnTo>
                  <a:lnTo>
                    <a:pt x="45" y="30"/>
                  </a:lnTo>
                  <a:close/>
                </a:path>
              </a:pathLst>
            </a:custGeom>
            <a:solidFill>
              <a:srgbClr val="f3d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031120" y="5137920"/>
              <a:ext cx="127080" cy="194400"/>
            </a:xfrm>
            <a:custGeom>
              <a:avLst/>
              <a:gdLst/>
              <a:ahLst/>
              <a:rect l="l" t="t" r="r" b="b"/>
              <a:pathLst>
                <a:path w="467" h="715">
                  <a:moveTo>
                    <a:pt x="41" y="24"/>
                  </a:moveTo>
                  <a:lnTo>
                    <a:pt x="54" y="18"/>
                  </a:lnTo>
                  <a:lnTo>
                    <a:pt x="70" y="13"/>
                  </a:lnTo>
                  <a:lnTo>
                    <a:pt x="91" y="10"/>
                  </a:lnTo>
                  <a:lnTo>
                    <a:pt x="114" y="6"/>
                  </a:lnTo>
                  <a:lnTo>
                    <a:pt x="140" y="4"/>
                  </a:lnTo>
                  <a:lnTo>
                    <a:pt x="169" y="1"/>
                  </a:lnTo>
                  <a:lnTo>
                    <a:pt x="199" y="0"/>
                  </a:lnTo>
                  <a:lnTo>
                    <a:pt x="229" y="0"/>
                  </a:lnTo>
                  <a:lnTo>
                    <a:pt x="259" y="0"/>
                  </a:lnTo>
                  <a:lnTo>
                    <a:pt x="290" y="1"/>
                  </a:lnTo>
                  <a:lnTo>
                    <a:pt x="319" y="3"/>
                  </a:lnTo>
                  <a:lnTo>
                    <a:pt x="347" y="5"/>
                  </a:lnTo>
                  <a:lnTo>
                    <a:pt x="373" y="8"/>
                  </a:lnTo>
                  <a:lnTo>
                    <a:pt x="396" y="12"/>
                  </a:lnTo>
                  <a:lnTo>
                    <a:pt x="416" y="17"/>
                  </a:lnTo>
                  <a:lnTo>
                    <a:pt x="431" y="21"/>
                  </a:lnTo>
                  <a:lnTo>
                    <a:pt x="436" y="95"/>
                  </a:lnTo>
                  <a:lnTo>
                    <a:pt x="438" y="151"/>
                  </a:lnTo>
                  <a:lnTo>
                    <a:pt x="441" y="199"/>
                  </a:lnTo>
                  <a:lnTo>
                    <a:pt x="444" y="252"/>
                  </a:lnTo>
                  <a:lnTo>
                    <a:pt x="448" y="318"/>
                  </a:lnTo>
                  <a:lnTo>
                    <a:pt x="452" y="411"/>
                  </a:lnTo>
                  <a:lnTo>
                    <a:pt x="458" y="539"/>
                  </a:lnTo>
                  <a:lnTo>
                    <a:pt x="467" y="715"/>
                  </a:lnTo>
                  <a:lnTo>
                    <a:pt x="452" y="713"/>
                  </a:lnTo>
                  <a:lnTo>
                    <a:pt x="431" y="710"/>
                  </a:lnTo>
                  <a:lnTo>
                    <a:pt x="407" y="709"/>
                  </a:lnTo>
                  <a:lnTo>
                    <a:pt x="377" y="707"/>
                  </a:lnTo>
                  <a:lnTo>
                    <a:pt x="346" y="706"/>
                  </a:lnTo>
                  <a:lnTo>
                    <a:pt x="311" y="706"/>
                  </a:lnTo>
                  <a:lnTo>
                    <a:pt x="276" y="704"/>
                  </a:lnTo>
                  <a:lnTo>
                    <a:pt x="239" y="704"/>
                  </a:lnTo>
                  <a:lnTo>
                    <a:pt x="202" y="704"/>
                  </a:lnTo>
                  <a:lnTo>
                    <a:pt x="166" y="706"/>
                  </a:lnTo>
                  <a:lnTo>
                    <a:pt x="131" y="706"/>
                  </a:lnTo>
                  <a:lnTo>
                    <a:pt x="98" y="707"/>
                  </a:lnTo>
                  <a:lnTo>
                    <a:pt x="68" y="709"/>
                  </a:lnTo>
                  <a:lnTo>
                    <a:pt x="41" y="710"/>
                  </a:lnTo>
                  <a:lnTo>
                    <a:pt x="17" y="713"/>
                  </a:lnTo>
                  <a:lnTo>
                    <a:pt x="0" y="715"/>
                  </a:lnTo>
                  <a:lnTo>
                    <a:pt x="3" y="606"/>
                  </a:lnTo>
                  <a:lnTo>
                    <a:pt x="8" y="510"/>
                  </a:lnTo>
                  <a:lnTo>
                    <a:pt x="13" y="424"/>
                  </a:lnTo>
                  <a:lnTo>
                    <a:pt x="17" y="343"/>
                  </a:lnTo>
                  <a:lnTo>
                    <a:pt x="22" y="266"/>
                  </a:lnTo>
                  <a:lnTo>
                    <a:pt x="28" y="189"/>
                  </a:lnTo>
                  <a:lnTo>
                    <a:pt x="34" y="109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5d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040480" y="5137920"/>
              <a:ext cx="108000" cy="192960"/>
            </a:xfrm>
            <a:custGeom>
              <a:avLst/>
              <a:gdLst/>
              <a:ahLst/>
              <a:rect l="l" t="t" r="r" b="b"/>
              <a:pathLst>
                <a:path w="396" h="711">
                  <a:moveTo>
                    <a:pt x="36" y="17"/>
                  </a:moveTo>
                  <a:lnTo>
                    <a:pt x="49" y="13"/>
                  </a:lnTo>
                  <a:lnTo>
                    <a:pt x="64" y="10"/>
                  </a:lnTo>
                  <a:lnTo>
                    <a:pt x="82" y="6"/>
                  </a:lnTo>
                  <a:lnTo>
                    <a:pt x="102" y="4"/>
                  </a:lnTo>
                  <a:lnTo>
                    <a:pt x="123" y="1"/>
                  </a:lnTo>
                  <a:lnTo>
                    <a:pt x="145" y="0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7" y="0"/>
                  </a:lnTo>
                  <a:lnTo>
                    <a:pt x="242" y="1"/>
                  </a:lnTo>
                  <a:lnTo>
                    <a:pt x="265" y="3"/>
                  </a:lnTo>
                  <a:lnTo>
                    <a:pt x="289" y="4"/>
                  </a:lnTo>
                  <a:lnTo>
                    <a:pt x="311" y="6"/>
                  </a:lnTo>
                  <a:lnTo>
                    <a:pt x="331" y="8"/>
                  </a:lnTo>
                  <a:lnTo>
                    <a:pt x="350" y="12"/>
                  </a:lnTo>
                  <a:lnTo>
                    <a:pt x="366" y="16"/>
                  </a:lnTo>
                  <a:lnTo>
                    <a:pt x="371" y="145"/>
                  </a:lnTo>
                  <a:lnTo>
                    <a:pt x="375" y="246"/>
                  </a:lnTo>
                  <a:lnTo>
                    <a:pt x="382" y="406"/>
                  </a:lnTo>
                  <a:lnTo>
                    <a:pt x="396" y="711"/>
                  </a:lnTo>
                  <a:lnTo>
                    <a:pt x="384" y="710"/>
                  </a:lnTo>
                  <a:lnTo>
                    <a:pt x="366" y="708"/>
                  </a:lnTo>
                  <a:lnTo>
                    <a:pt x="346" y="707"/>
                  </a:lnTo>
                  <a:lnTo>
                    <a:pt x="322" y="706"/>
                  </a:lnTo>
                  <a:lnTo>
                    <a:pt x="295" y="706"/>
                  </a:lnTo>
                  <a:lnTo>
                    <a:pt x="267" y="704"/>
                  </a:lnTo>
                  <a:lnTo>
                    <a:pt x="237" y="704"/>
                  </a:lnTo>
                  <a:lnTo>
                    <a:pt x="206" y="704"/>
                  </a:lnTo>
                  <a:lnTo>
                    <a:pt x="175" y="704"/>
                  </a:lnTo>
                  <a:lnTo>
                    <a:pt x="145" y="704"/>
                  </a:lnTo>
                  <a:lnTo>
                    <a:pt x="115" y="706"/>
                  </a:lnTo>
                  <a:lnTo>
                    <a:pt x="87" y="706"/>
                  </a:lnTo>
                  <a:lnTo>
                    <a:pt x="61" y="707"/>
                  </a:lnTo>
                  <a:lnTo>
                    <a:pt x="37" y="708"/>
                  </a:lnTo>
                  <a:lnTo>
                    <a:pt x="16" y="710"/>
                  </a:lnTo>
                  <a:lnTo>
                    <a:pt x="0" y="711"/>
                  </a:lnTo>
                  <a:lnTo>
                    <a:pt x="4" y="599"/>
                  </a:lnTo>
                  <a:lnTo>
                    <a:pt x="7" y="497"/>
                  </a:lnTo>
                  <a:lnTo>
                    <a:pt x="12" y="405"/>
                  </a:lnTo>
                  <a:lnTo>
                    <a:pt x="16" y="321"/>
                  </a:lnTo>
                  <a:lnTo>
                    <a:pt x="21" y="242"/>
                  </a:lnTo>
                  <a:lnTo>
                    <a:pt x="26" y="166"/>
                  </a:lnTo>
                  <a:lnTo>
                    <a:pt x="30" y="9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fa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050200" y="5137920"/>
              <a:ext cx="87840" cy="191520"/>
            </a:xfrm>
            <a:custGeom>
              <a:avLst/>
              <a:gdLst/>
              <a:ahLst/>
              <a:rect l="l" t="t" r="r" b="b"/>
              <a:pathLst>
                <a:path w="325" h="708">
                  <a:moveTo>
                    <a:pt x="34" y="11"/>
                  </a:moveTo>
                  <a:lnTo>
                    <a:pt x="47" y="8"/>
                  </a:lnTo>
                  <a:lnTo>
                    <a:pt x="61" y="6"/>
                  </a:lnTo>
                  <a:lnTo>
                    <a:pt x="75" y="4"/>
                  </a:lnTo>
                  <a:lnTo>
                    <a:pt x="90" y="3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195" y="1"/>
                  </a:lnTo>
                  <a:lnTo>
                    <a:pt x="213" y="1"/>
                  </a:lnTo>
                  <a:lnTo>
                    <a:pt x="232" y="3"/>
                  </a:lnTo>
                  <a:lnTo>
                    <a:pt x="249" y="4"/>
                  </a:lnTo>
                  <a:lnTo>
                    <a:pt x="267" y="5"/>
                  </a:lnTo>
                  <a:lnTo>
                    <a:pt x="284" y="7"/>
                  </a:lnTo>
                  <a:lnTo>
                    <a:pt x="301" y="8"/>
                  </a:lnTo>
                  <a:lnTo>
                    <a:pt x="305" y="139"/>
                  </a:lnTo>
                  <a:lnTo>
                    <a:pt x="309" y="241"/>
                  </a:lnTo>
                  <a:lnTo>
                    <a:pt x="315" y="401"/>
                  </a:lnTo>
                  <a:lnTo>
                    <a:pt x="325" y="708"/>
                  </a:lnTo>
                  <a:lnTo>
                    <a:pt x="315" y="707"/>
                  </a:lnTo>
                  <a:lnTo>
                    <a:pt x="302" y="707"/>
                  </a:lnTo>
                  <a:lnTo>
                    <a:pt x="285" y="706"/>
                  </a:lnTo>
                  <a:lnTo>
                    <a:pt x="267" y="706"/>
                  </a:lnTo>
                  <a:lnTo>
                    <a:pt x="246" y="704"/>
                  </a:lnTo>
                  <a:lnTo>
                    <a:pt x="222" y="704"/>
                  </a:lnTo>
                  <a:lnTo>
                    <a:pt x="199" y="704"/>
                  </a:lnTo>
                  <a:lnTo>
                    <a:pt x="173" y="704"/>
                  </a:lnTo>
                  <a:lnTo>
                    <a:pt x="149" y="704"/>
                  </a:lnTo>
                  <a:lnTo>
                    <a:pt x="123" y="704"/>
                  </a:lnTo>
                  <a:lnTo>
                    <a:pt x="98" y="704"/>
                  </a:lnTo>
                  <a:lnTo>
                    <a:pt x="75" y="706"/>
                  </a:lnTo>
                  <a:lnTo>
                    <a:pt x="54" y="706"/>
                  </a:lnTo>
                  <a:lnTo>
                    <a:pt x="33" y="707"/>
                  </a:lnTo>
                  <a:lnTo>
                    <a:pt x="15" y="707"/>
                  </a:lnTo>
                  <a:lnTo>
                    <a:pt x="0" y="708"/>
                  </a:lnTo>
                  <a:lnTo>
                    <a:pt x="7" y="483"/>
                  </a:lnTo>
                  <a:lnTo>
                    <a:pt x="15" y="299"/>
                  </a:lnTo>
                  <a:lnTo>
                    <a:pt x="25" y="144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fde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060640" y="5137920"/>
              <a:ext cx="67680" cy="191520"/>
            </a:xfrm>
            <a:custGeom>
              <a:avLst/>
              <a:gdLst/>
              <a:ahLst/>
              <a:rect l="l" t="t" r="r" b="b"/>
              <a:pathLst>
                <a:path w="254" h="704">
                  <a:moveTo>
                    <a:pt x="0" y="704"/>
                  </a:moveTo>
                  <a:lnTo>
                    <a:pt x="6" y="470"/>
                  </a:lnTo>
                  <a:lnTo>
                    <a:pt x="14" y="276"/>
                  </a:lnTo>
                  <a:lnTo>
                    <a:pt x="24" y="122"/>
                  </a:lnTo>
                  <a:lnTo>
                    <a:pt x="31" y="4"/>
                  </a:lnTo>
                  <a:lnTo>
                    <a:pt x="44" y="3"/>
                  </a:lnTo>
                  <a:lnTo>
                    <a:pt x="55" y="1"/>
                  </a:lnTo>
                  <a:lnTo>
                    <a:pt x="68" y="1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3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1" y="1"/>
                  </a:lnTo>
                  <a:lnTo>
                    <a:pt x="173" y="1"/>
                  </a:lnTo>
                  <a:lnTo>
                    <a:pt x="187" y="1"/>
                  </a:lnTo>
                  <a:lnTo>
                    <a:pt x="203" y="3"/>
                  </a:lnTo>
                  <a:lnTo>
                    <a:pt x="219" y="3"/>
                  </a:lnTo>
                  <a:lnTo>
                    <a:pt x="235" y="3"/>
                  </a:lnTo>
                  <a:lnTo>
                    <a:pt x="254" y="704"/>
                  </a:lnTo>
                  <a:lnTo>
                    <a:pt x="247" y="704"/>
                  </a:lnTo>
                  <a:lnTo>
                    <a:pt x="238" y="704"/>
                  </a:lnTo>
                  <a:lnTo>
                    <a:pt x="225" y="704"/>
                  </a:lnTo>
                  <a:lnTo>
                    <a:pt x="211" y="704"/>
                  </a:lnTo>
                  <a:lnTo>
                    <a:pt x="196" y="704"/>
                  </a:lnTo>
                  <a:lnTo>
                    <a:pt x="178" y="704"/>
                  </a:lnTo>
                  <a:lnTo>
                    <a:pt x="159" y="704"/>
                  </a:lnTo>
                  <a:lnTo>
                    <a:pt x="141" y="704"/>
                  </a:lnTo>
                  <a:lnTo>
                    <a:pt x="122" y="704"/>
                  </a:lnTo>
                  <a:lnTo>
                    <a:pt x="102" y="704"/>
                  </a:lnTo>
                  <a:lnTo>
                    <a:pt x="82" y="704"/>
                  </a:lnTo>
                  <a:lnTo>
                    <a:pt x="63" y="704"/>
                  </a:lnTo>
                  <a:lnTo>
                    <a:pt x="46" y="704"/>
                  </a:lnTo>
                  <a:lnTo>
                    <a:pt x="30" y="704"/>
                  </a:lnTo>
                  <a:lnTo>
                    <a:pt x="14" y="70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954080" y="5327280"/>
              <a:ext cx="281160" cy="22680"/>
            </a:xfrm>
            <a:custGeom>
              <a:avLst/>
              <a:gdLst/>
              <a:ahLst/>
              <a:rect l="l" t="t" r="r" b="b"/>
              <a:pathLst>
                <a:path w="1041" h="84">
                  <a:moveTo>
                    <a:pt x="519" y="0"/>
                  </a:moveTo>
                  <a:lnTo>
                    <a:pt x="572" y="0"/>
                  </a:lnTo>
                  <a:lnTo>
                    <a:pt x="623" y="1"/>
                  </a:lnTo>
                  <a:lnTo>
                    <a:pt x="674" y="1"/>
                  </a:lnTo>
                  <a:lnTo>
                    <a:pt x="722" y="3"/>
                  </a:lnTo>
                  <a:lnTo>
                    <a:pt x="767" y="5"/>
                  </a:lnTo>
                  <a:lnTo>
                    <a:pt x="810" y="6"/>
                  </a:lnTo>
                  <a:lnTo>
                    <a:pt x="850" y="8"/>
                  </a:lnTo>
                  <a:lnTo>
                    <a:pt x="888" y="12"/>
                  </a:lnTo>
                  <a:lnTo>
                    <a:pt x="920" y="14"/>
                  </a:lnTo>
                  <a:lnTo>
                    <a:pt x="951" y="18"/>
                  </a:lnTo>
                  <a:lnTo>
                    <a:pt x="976" y="21"/>
                  </a:lnTo>
                  <a:lnTo>
                    <a:pt x="999" y="26"/>
                  </a:lnTo>
                  <a:lnTo>
                    <a:pt x="1016" y="31"/>
                  </a:lnTo>
                  <a:lnTo>
                    <a:pt x="1030" y="35"/>
                  </a:lnTo>
                  <a:lnTo>
                    <a:pt x="1038" y="40"/>
                  </a:lnTo>
                  <a:lnTo>
                    <a:pt x="1041" y="46"/>
                  </a:lnTo>
                  <a:lnTo>
                    <a:pt x="1038" y="52"/>
                  </a:lnTo>
                  <a:lnTo>
                    <a:pt x="1030" y="56"/>
                  </a:lnTo>
                  <a:lnTo>
                    <a:pt x="1017" y="61"/>
                  </a:lnTo>
                  <a:lnTo>
                    <a:pt x="1000" y="65"/>
                  </a:lnTo>
                  <a:lnTo>
                    <a:pt x="979" y="68"/>
                  </a:lnTo>
                  <a:lnTo>
                    <a:pt x="952" y="72"/>
                  </a:lnTo>
                  <a:lnTo>
                    <a:pt x="923" y="74"/>
                  </a:lnTo>
                  <a:lnTo>
                    <a:pt x="889" y="76"/>
                  </a:lnTo>
                  <a:lnTo>
                    <a:pt x="851" y="79"/>
                  </a:lnTo>
                  <a:lnTo>
                    <a:pt x="812" y="80"/>
                  </a:lnTo>
                  <a:lnTo>
                    <a:pt x="768" y="82"/>
                  </a:lnTo>
                  <a:lnTo>
                    <a:pt x="723" y="82"/>
                  </a:lnTo>
                  <a:lnTo>
                    <a:pt x="675" y="83"/>
                  </a:lnTo>
                  <a:lnTo>
                    <a:pt x="626" y="84"/>
                  </a:lnTo>
                  <a:lnTo>
                    <a:pt x="573" y="84"/>
                  </a:lnTo>
                  <a:lnTo>
                    <a:pt x="520" y="84"/>
                  </a:lnTo>
                  <a:lnTo>
                    <a:pt x="468" y="84"/>
                  </a:lnTo>
                  <a:lnTo>
                    <a:pt x="416" y="84"/>
                  </a:lnTo>
                  <a:lnTo>
                    <a:pt x="366" y="84"/>
                  </a:lnTo>
                  <a:lnTo>
                    <a:pt x="318" y="84"/>
                  </a:lnTo>
                  <a:lnTo>
                    <a:pt x="273" y="83"/>
                  </a:lnTo>
                  <a:lnTo>
                    <a:pt x="230" y="83"/>
                  </a:lnTo>
                  <a:lnTo>
                    <a:pt x="191" y="82"/>
                  </a:lnTo>
                  <a:lnTo>
                    <a:pt x="153" y="81"/>
                  </a:lnTo>
                  <a:lnTo>
                    <a:pt x="119" y="79"/>
                  </a:lnTo>
                  <a:lnTo>
                    <a:pt x="90" y="76"/>
                  </a:lnTo>
                  <a:lnTo>
                    <a:pt x="63" y="73"/>
                  </a:lnTo>
                  <a:lnTo>
                    <a:pt x="42" y="69"/>
                  </a:lnTo>
                  <a:lnTo>
                    <a:pt x="24" y="65"/>
                  </a:lnTo>
                  <a:lnTo>
                    <a:pt x="11" y="59"/>
                  </a:lnTo>
                  <a:lnTo>
                    <a:pt x="2" y="53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11" y="32"/>
                  </a:lnTo>
                  <a:lnTo>
                    <a:pt x="24" y="26"/>
                  </a:lnTo>
                  <a:lnTo>
                    <a:pt x="41" y="21"/>
                  </a:lnTo>
                  <a:lnTo>
                    <a:pt x="62" y="17"/>
                  </a:lnTo>
                  <a:lnTo>
                    <a:pt x="88" y="13"/>
                  </a:lnTo>
                  <a:lnTo>
                    <a:pt x="118" y="11"/>
                  </a:lnTo>
                  <a:lnTo>
                    <a:pt x="152" y="7"/>
                  </a:lnTo>
                  <a:lnTo>
                    <a:pt x="188" y="6"/>
                  </a:lnTo>
                  <a:lnTo>
                    <a:pt x="229" y="4"/>
                  </a:lnTo>
                  <a:lnTo>
                    <a:pt x="271" y="3"/>
                  </a:lnTo>
                  <a:lnTo>
                    <a:pt x="317" y="1"/>
                  </a:lnTo>
                  <a:lnTo>
                    <a:pt x="365" y="1"/>
                  </a:lnTo>
                  <a:lnTo>
                    <a:pt x="415" y="0"/>
                  </a:lnTo>
                  <a:lnTo>
                    <a:pt x="467" y="0"/>
                  </a:lnTo>
                  <a:lnTo>
                    <a:pt x="519" y="0"/>
                  </a:lnTo>
                  <a:close/>
                </a:path>
              </a:pathLst>
            </a:custGeom>
            <a:solidFill>
              <a:srgbClr val="644e1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000080" y="2485440"/>
              <a:ext cx="2181240" cy="2246040"/>
            </a:xfrm>
            <a:custGeom>
              <a:avLst/>
              <a:gdLst/>
              <a:ahLst/>
              <a:rect l="l" t="t" r="r" b="b"/>
              <a:pathLst>
                <a:path w="8063" h="8247">
                  <a:moveTo>
                    <a:pt x="4048" y="8247"/>
                  </a:moveTo>
                  <a:lnTo>
                    <a:pt x="4085" y="8246"/>
                  </a:lnTo>
                  <a:lnTo>
                    <a:pt x="4123" y="8246"/>
                  </a:lnTo>
                  <a:lnTo>
                    <a:pt x="4160" y="8245"/>
                  </a:lnTo>
                  <a:lnTo>
                    <a:pt x="4197" y="8245"/>
                  </a:lnTo>
                  <a:lnTo>
                    <a:pt x="4235" y="8244"/>
                  </a:lnTo>
                  <a:lnTo>
                    <a:pt x="4272" y="8243"/>
                  </a:lnTo>
                  <a:lnTo>
                    <a:pt x="4310" y="8243"/>
                  </a:lnTo>
                  <a:lnTo>
                    <a:pt x="4348" y="8241"/>
                  </a:lnTo>
                  <a:lnTo>
                    <a:pt x="4386" y="8240"/>
                  </a:lnTo>
                  <a:lnTo>
                    <a:pt x="4423" y="8240"/>
                  </a:lnTo>
                  <a:lnTo>
                    <a:pt x="4462" y="8239"/>
                  </a:lnTo>
                  <a:lnTo>
                    <a:pt x="4499" y="8238"/>
                  </a:lnTo>
                  <a:lnTo>
                    <a:pt x="4538" y="8238"/>
                  </a:lnTo>
                  <a:lnTo>
                    <a:pt x="4575" y="8237"/>
                  </a:lnTo>
                  <a:lnTo>
                    <a:pt x="4614" y="8237"/>
                  </a:lnTo>
                  <a:lnTo>
                    <a:pt x="4651" y="8236"/>
                  </a:lnTo>
                  <a:lnTo>
                    <a:pt x="4701" y="8201"/>
                  </a:lnTo>
                  <a:lnTo>
                    <a:pt x="4753" y="8163"/>
                  </a:lnTo>
                  <a:lnTo>
                    <a:pt x="4807" y="8121"/>
                  </a:lnTo>
                  <a:lnTo>
                    <a:pt x="4862" y="8078"/>
                  </a:lnTo>
                  <a:lnTo>
                    <a:pt x="4919" y="8030"/>
                  </a:lnTo>
                  <a:lnTo>
                    <a:pt x="4976" y="7979"/>
                  </a:lnTo>
                  <a:lnTo>
                    <a:pt x="5036" y="7927"/>
                  </a:lnTo>
                  <a:lnTo>
                    <a:pt x="5097" y="7872"/>
                  </a:lnTo>
                  <a:lnTo>
                    <a:pt x="5159" y="7813"/>
                  </a:lnTo>
                  <a:lnTo>
                    <a:pt x="5222" y="7751"/>
                  </a:lnTo>
                  <a:lnTo>
                    <a:pt x="5286" y="7688"/>
                  </a:lnTo>
                  <a:lnTo>
                    <a:pt x="5350" y="7623"/>
                  </a:lnTo>
                  <a:lnTo>
                    <a:pt x="5417" y="7554"/>
                  </a:lnTo>
                  <a:lnTo>
                    <a:pt x="5484" y="7484"/>
                  </a:lnTo>
                  <a:lnTo>
                    <a:pt x="5551" y="7411"/>
                  </a:lnTo>
                  <a:lnTo>
                    <a:pt x="5619" y="7335"/>
                  </a:lnTo>
                  <a:lnTo>
                    <a:pt x="5688" y="7258"/>
                  </a:lnTo>
                  <a:lnTo>
                    <a:pt x="5758" y="7180"/>
                  </a:lnTo>
                  <a:lnTo>
                    <a:pt x="5827" y="7098"/>
                  </a:lnTo>
                  <a:lnTo>
                    <a:pt x="5899" y="7015"/>
                  </a:lnTo>
                  <a:lnTo>
                    <a:pt x="5969" y="6930"/>
                  </a:lnTo>
                  <a:lnTo>
                    <a:pt x="6040" y="6844"/>
                  </a:lnTo>
                  <a:lnTo>
                    <a:pt x="6112" y="6756"/>
                  </a:lnTo>
                  <a:lnTo>
                    <a:pt x="6183" y="6666"/>
                  </a:lnTo>
                  <a:lnTo>
                    <a:pt x="6253" y="6575"/>
                  </a:lnTo>
                  <a:lnTo>
                    <a:pt x="6324" y="6482"/>
                  </a:lnTo>
                  <a:lnTo>
                    <a:pt x="6396" y="6389"/>
                  </a:lnTo>
                  <a:lnTo>
                    <a:pt x="6467" y="6293"/>
                  </a:lnTo>
                  <a:lnTo>
                    <a:pt x="6537" y="6197"/>
                  </a:lnTo>
                  <a:lnTo>
                    <a:pt x="6609" y="6099"/>
                  </a:lnTo>
                  <a:lnTo>
                    <a:pt x="6679" y="6001"/>
                  </a:lnTo>
                  <a:lnTo>
                    <a:pt x="6748" y="5901"/>
                  </a:lnTo>
                  <a:lnTo>
                    <a:pt x="6818" y="5798"/>
                  </a:lnTo>
                  <a:lnTo>
                    <a:pt x="6887" y="5695"/>
                  </a:lnTo>
                  <a:lnTo>
                    <a:pt x="6955" y="5591"/>
                  </a:lnTo>
                  <a:lnTo>
                    <a:pt x="7021" y="5486"/>
                  </a:lnTo>
                  <a:lnTo>
                    <a:pt x="7086" y="5381"/>
                  </a:lnTo>
                  <a:lnTo>
                    <a:pt x="7150" y="5276"/>
                  </a:lnTo>
                  <a:lnTo>
                    <a:pt x="7212" y="5169"/>
                  </a:lnTo>
                  <a:lnTo>
                    <a:pt x="7271" y="5061"/>
                  </a:lnTo>
                  <a:lnTo>
                    <a:pt x="7331" y="4955"/>
                  </a:lnTo>
                  <a:lnTo>
                    <a:pt x="7387" y="4847"/>
                  </a:lnTo>
                  <a:lnTo>
                    <a:pt x="7443" y="4741"/>
                  </a:lnTo>
                  <a:lnTo>
                    <a:pt x="7496" y="4633"/>
                  </a:lnTo>
                  <a:lnTo>
                    <a:pt x="7547" y="4527"/>
                  </a:lnTo>
                  <a:lnTo>
                    <a:pt x="7597" y="4421"/>
                  </a:lnTo>
                  <a:lnTo>
                    <a:pt x="7644" y="4314"/>
                  </a:lnTo>
                  <a:lnTo>
                    <a:pt x="7690" y="4209"/>
                  </a:lnTo>
                  <a:lnTo>
                    <a:pt x="7732" y="4104"/>
                  </a:lnTo>
                  <a:lnTo>
                    <a:pt x="7773" y="4000"/>
                  </a:lnTo>
                  <a:lnTo>
                    <a:pt x="7812" y="3895"/>
                  </a:lnTo>
                  <a:lnTo>
                    <a:pt x="7847" y="3793"/>
                  </a:lnTo>
                  <a:lnTo>
                    <a:pt x="7881" y="3691"/>
                  </a:lnTo>
                  <a:lnTo>
                    <a:pt x="7911" y="3590"/>
                  </a:lnTo>
                  <a:lnTo>
                    <a:pt x="7939" y="3491"/>
                  </a:lnTo>
                  <a:lnTo>
                    <a:pt x="7965" y="3393"/>
                  </a:lnTo>
                  <a:lnTo>
                    <a:pt x="7988" y="3295"/>
                  </a:lnTo>
                  <a:lnTo>
                    <a:pt x="8008" y="3200"/>
                  </a:lnTo>
                  <a:lnTo>
                    <a:pt x="8025" y="3106"/>
                  </a:lnTo>
                  <a:lnTo>
                    <a:pt x="8039" y="3014"/>
                  </a:lnTo>
                  <a:lnTo>
                    <a:pt x="8049" y="2922"/>
                  </a:lnTo>
                  <a:lnTo>
                    <a:pt x="8057" y="2835"/>
                  </a:lnTo>
                  <a:lnTo>
                    <a:pt x="8062" y="2747"/>
                  </a:lnTo>
                  <a:lnTo>
                    <a:pt x="8063" y="2663"/>
                  </a:lnTo>
                  <a:lnTo>
                    <a:pt x="8056" y="2561"/>
                  </a:lnTo>
                  <a:lnTo>
                    <a:pt x="8048" y="2459"/>
                  </a:lnTo>
                  <a:lnTo>
                    <a:pt x="8039" y="2360"/>
                  </a:lnTo>
                  <a:lnTo>
                    <a:pt x="8027" y="2262"/>
                  </a:lnTo>
                  <a:lnTo>
                    <a:pt x="8014" y="2165"/>
                  </a:lnTo>
                  <a:lnTo>
                    <a:pt x="8000" y="2069"/>
                  </a:lnTo>
                  <a:lnTo>
                    <a:pt x="7984" y="1975"/>
                  </a:lnTo>
                  <a:lnTo>
                    <a:pt x="7965" y="1883"/>
                  </a:lnTo>
                  <a:lnTo>
                    <a:pt x="7946" y="1793"/>
                  </a:lnTo>
                  <a:lnTo>
                    <a:pt x="7924" y="1704"/>
                  </a:lnTo>
                  <a:lnTo>
                    <a:pt x="7902" y="1616"/>
                  </a:lnTo>
                  <a:lnTo>
                    <a:pt x="7877" y="1531"/>
                  </a:lnTo>
                  <a:lnTo>
                    <a:pt x="7850" y="1448"/>
                  </a:lnTo>
                  <a:lnTo>
                    <a:pt x="7822" y="1366"/>
                  </a:lnTo>
                  <a:lnTo>
                    <a:pt x="7793" y="1286"/>
                  </a:lnTo>
                  <a:lnTo>
                    <a:pt x="7761" y="1208"/>
                  </a:lnTo>
                  <a:lnTo>
                    <a:pt x="7729" y="1132"/>
                  </a:lnTo>
                  <a:lnTo>
                    <a:pt x="7694" y="1058"/>
                  </a:lnTo>
                  <a:lnTo>
                    <a:pt x="7656" y="987"/>
                  </a:lnTo>
                  <a:lnTo>
                    <a:pt x="7619" y="918"/>
                  </a:lnTo>
                  <a:lnTo>
                    <a:pt x="7578" y="850"/>
                  </a:lnTo>
                  <a:lnTo>
                    <a:pt x="7536" y="786"/>
                  </a:lnTo>
                  <a:lnTo>
                    <a:pt x="7492" y="724"/>
                  </a:lnTo>
                  <a:lnTo>
                    <a:pt x="7447" y="663"/>
                  </a:lnTo>
                  <a:lnTo>
                    <a:pt x="7400" y="606"/>
                  </a:lnTo>
                  <a:lnTo>
                    <a:pt x="7351" y="551"/>
                  </a:lnTo>
                  <a:lnTo>
                    <a:pt x="7300" y="497"/>
                  </a:lnTo>
                  <a:lnTo>
                    <a:pt x="7247" y="448"/>
                  </a:lnTo>
                  <a:lnTo>
                    <a:pt x="7192" y="400"/>
                  </a:lnTo>
                  <a:lnTo>
                    <a:pt x="7136" y="355"/>
                  </a:lnTo>
                  <a:lnTo>
                    <a:pt x="7077" y="313"/>
                  </a:lnTo>
                  <a:lnTo>
                    <a:pt x="7018" y="273"/>
                  </a:lnTo>
                  <a:lnTo>
                    <a:pt x="6956" y="237"/>
                  </a:lnTo>
                  <a:lnTo>
                    <a:pt x="6893" y="203"/>
                  </a:lnTo>
                  <a:lnTo>
                    <a:pt x="6828" y="172"/>
                  </a:lnTo>
                  <a:lnTo>
                    <a:pt x="6762" y="142"/>
                  </a:lnTo>
                  <a:lnTo>
                    <a:pt x="6694" y="116"/>
                  </a:lnTo>
                  <a:lnTo>
                    <a:pt x="6624" y="92"/>
                  </a:lnTo>
                  <a:lnTo>
                    <a:pt x="6551" y="71"/>
                  </a:lnTo>
                  <a:lnTo>
                    <a:pt x="6478" y="52"/>
                  </a:lnTo>
                  <a:lnTo>
                    <a:pt x="6402" y="36"/>
                  </a:lnTo>
                  <a:lnTo>
                    <a:pt x="6324" y="23"/>
                  </a:lnTo>
                  <a:lnTo>
                    <a:pt x="6245" y="13"/>
                  </a:lnTo>
                  <a:lnTo>
                    <a:pt x="6163" y="6"/>
                  </a:lnTo>
                  <a:lnTo>
                    <a:pt x="6079" y="1"/>
                  </a:lnTo>
                  <a:lnTo>
                    <a:pt x="5993" y="0"/>
                  </a:lnTo>
                  <a:lnTo>
                    <a:pt x="5906" y="1"/>
                  </a:lnTo>
                  <a:lnTo>
                    <a:pt x="5815" y="6"/>
                  </a:lnTo>
                  <a:lnTo>
                    <a:pt x="5722" y="13"/>
                  </a:lnTo>
                  <a:lnTo>
                    <a:pt x="5627" y="23"/>
                  </a:lnTo>
                  <a:lnTo>
                    <a:pt x="5530" y="37"/>
                  </a:lnTo>
                  <a:lnTo>
                    <a:pt x="5431" y="54"/>
                  </a:lnTo>
                  <a:lnTo>
                    <a:pt x="5329" y="73"/>
                  </a:lnTo>
                  <a:lnTo>
                    <a:pt x="5224" y="97"/>
                  </a:lnTo>
                  <a:lnTo>
                    <a:pt x="5118" y="124"/>
                  </a:lnTo>
                  <a:lnTo>
                    <a:pt x="5008" y="153"/>
                  </a:lnTo>
                  <a:lnTo>
                    <a:pt x="4897" y="187"/>
                  </a:lnTo>
                  <a:lnTo>
                    <a:pt x="4782" y="223"/>
                  </a:lnTo>
                  <a:lnTo>
                    <a:pt x="4664" y="263"/>
                  </a:lnTo>
                  <a:lnTo>
                    <a:pt x="4545" y="306"/>
                  </a:lnTo>
                  <a:lnTo>
                    <a:pt x="4422" y="353"/>
                  </a:lnTo>
                  <a:lnTo>
                    <a:pt x="4296" y="403"/>
                  </a:lnTo>
                  <a:lnTo>
                    <a:pt x="4167" y="458"/>
                  </a:lnTo>
                  <a:lnTo>
                    <a:pt x="4036" y="516"/>
                  </a:lnTo>
                  <a:lnTo>
                    <a:pt x="3905" y="458"/>
                  </a:lnTo>
                  <a:lnTo>
                    <a:pt x="3777" y="403"/>
                  </a:lnTo>
                  <a:lnTo>
                    <a:pt x="3651" y="353"/>
                  </a:lnTo>
                  <a:lnTo>
                    <a:pt x="3529" y="306"/>
                  </a:lnTo>
                  <a:lnTo>
                    <a:pt x="3409" y="263"/>
                  </a:lnTo>
                  <a:lnTo>
                    <a:pt x="3292" y="223"/>
                  </a:lnTo>
                  <a:lnTo>
                    <a:pt x="3178" y="187"/>
                  </a:lnTo>
                  <a:lnTo>
                    <a:pt x="3066" y="153"/>
                  </a:lnTo>
                  <a:lnTo>
                    <a:pt x="2956" y="124"/>
                  </a:lnTo>
                  <a:lnTo>
                    <a:pt x="2849" y="97"/>
                  </a:lnTo>
                  <a:lnTo>
                    <a:pt x="2745" y="73"/>
                  </a:lnTo>
                  <a:lnTo>
                    <a:pt x="2643" y="54"/>
                  </a:lnTo>
                  <a:lnTo>
                    <a:pt x="2543" y="37"/>
                  </a:lnTo>
                  <a:lnTo>
                    <a:pt x="2446" y="23"/>
                  </a:lnTo>
                  <a:lnTo>
                    <a:pt x="2351" y="13"/>
                  </a:lnTo>
                  <a:lnTo>
                    <a:pt x="2259" y="6"/>
                  </a:lnTo>
                  <a:lnTo>
                    <a:pt x="2169" y="1"/>
                  </a:lnTo>
                  <a:lnTo>
                    <a:pt x="2080" y="0"/>
                  </a:lnTo>
                  <a:lnTo>
                    <a:pt x="1995" y="1"/>
                  </a:lnTo>
                  <a:lnTo>
                    <a:pt x="1910" y="6"/>
                  </a:lnTo>
                  <a:lnTo>
                    <a:pt x="1828" y="13"/>
                  </a:lnTo>
                  <a:lnTo>
                    <a:pt x="1748" y="23"/>
                  </a:lnTo>
                  <a:lnTo>
                    <a:pt x="1671" y="36"/>
                  </a:lnTo>
                  <a:lnTo>
                    <a:pt x="1595" y="52"/>
                  </a:lnTo>
                  <a:lnTo>
                    <a:pt x="1521" y="71"/>
                  </a:lnTo>
                  <a:lnTo>
                    <a:pt x="1448" y="92"/>
                  </a:lnTo>
                  <a:lnTo>
                    <a:pt x="1378" y="116"/>
                  </a:lnTo>
                  <a:lnTo>
                    <a:pt x="1309" y="142"/>
                  </a:lnTo>
                  <a:lnTo>
                    <a:pt x="1243" y="172"/>
                  </a:lnTo>
                  <a:lnTo>
                    <a:pt x="1177" y="203"/>
                  </a:lnTo>
                  <a:lnTo>
                    <a:pt x="1114" y="237"/>
                  </a:lnTo>
                  <a:lnTo>
                    <a:pt x="1052" y="273"/>
                  </a:lnTo>
                  <a:lnTo>
                    <a:pt x="991" y="313"/>
                  </a:lnTo>
                  <a:lnTo>
                    <a:pt x="933" y="355"/>
                  </a:lnTo>
                  <a:lnTo>
                    <a:pt x="877" y="400"/>
                  </a:lnTo>
                  <a:lnTo>
                    <a:pt x="822" y="448"/>
                  </a:lnTo>
                  <a:lnTo>
                    <a:pt x="769" y="497"/>
                  </a:lnTo>
                  <a:lnTo>
                    <a:pt x="718" y="551"/>
                  </a:lnTo>
                  <a:lnTo>
                    <a:pt x="669" y="606"/>
                  </a:lnTo>
                  <a:lnTo>
                    <a:pt x="621" y="663"/>
                  </a:lnTo>
                  <a:lnTo>
                    <a:pt x="575" y="724"/>
                  </a:lnTo>
                  <a:lnTo>
                    <a:pt x="531" y="786"/>
                  </a:lnTo>
                  <a:lnTo>
                    <a:pt x="488" y="850"/>
                  </a:lnTo>
                  <a:lnTo>
                    <a:pt x="449" y="918"/>
                  </a:lnTo>
                  <a:lnTo>
                    <a:pt x="410" y="987"/>
                  </a:lnTo>
                  <a:lnTo>
                    <a:pt x="373" y="1058"/>
                  </a:lnTo>
                  <a:lnTo>
                    <a:pt x="338" y="1132"/>
                  </a:lnTo>
                  <a:lnTo>
                    <a:pt x="305" y="1208"/>
                  </a:lnTo>
                  <a:lnTo>
                    <a:pt x="273" y="1286"/>
                  </a:lnTo>
                  <a:lnTo>
                    <a:pt x="243" y="1366"/>
                  </a:lnTo>
                  <a:lnTo>
                    <a:pt x="215" y="1448"/>
                  </a:lnTo>
                  <a:lnTo>
                    <a:pt x="189" y="1531"/>
                  </a:lnTo>
                  <a:lnTo>
                    <a:pt x="165" y="1616"/>
                  </a:lnTo>
                  <a:lnTo>
                    <a:pt x="141" y="1704"/>
                  </a:lnTo>
                  <a:lnTo>
                    <a:pt x="119" y="1793"/>
                  </a:lnTo>
                  <a:lnTo>
                    <a:pt x="100" y="1883"/>
                  </a:lnTo>
                  <a:lnTo>
                    <a:pt x="82" y="1975"/>
                  </a:lnTo>
                  <a:lnTo>
                    <a:pt x="65" y="2069"/>
                  </a:lnTo>
                  <a:lnTo>
                    <a:pt x="50" y="2165"/>
                  </a:lnTo>
                  <a:lnTo>
                    <a:pt x="37" y="2262"/>
                  </a:lnTo>
                  <a:lnTo>
                    <a:pt x="25" y="2360"/>
                  </a:lnTo>
                  <a:lnTo>
                    <a:pt x="15" y="2459"/>
                  </a:lnTo>
                  <a:lnTo>
                    <a:pt x="7" y="2561"/>
                  </a:lnTo>
                  <a:lnTo>
                    <a:pt x="0" y="2663"/>
                  </a:lnTo>
                  <a:lnTo>
                    <a:pt x="1" y="2747"/>
                  </a:lnTo>
                  <a:lnTo>
                    <a:pt x="6" y="2835"/>
                  </a:lnTo>
                  <a:lnTo>
                    <a:pt x="14" y="2922"/>
                  </a:lnTo>
                  <a:lnTo>
                    <a:pt x="24" y="3014"/>
                  </a:lnTo>
                  <a:lnTo>
                    <a:pt x="38" y="3106"/>
                  </a:lnTo>
                  <a:lnTo>
                    <a:pt x="55" y="3200"/>
                  </a:lnTo>
                  <a:lnTo>
                    <a:pt x="75" y="3295"/>
                  </a:lnTo>
                  <a:lnTo>
                    <a:pt x="97" y="3393"/>
                  </a:lnTo>
                  <a:lnTo>
                    <a:pt x="123" y="3491"/>
                  </a:lnTo>
                  <a:lnTo>
                    <a:pt x="151" y="3590"/>
                  </a:lnTo>
                  <a:lnTo>
                    <a:pt x="181" y="3691"/>
                  </a:lnTo>
                  <a:lnTo>
                    <a:pt x="215" y="3793"/>
                  </a:lnTo>
                  <a:lnTo>
                    <a:pt x="251" y="3895"/>
                  </a:lnTo>
                  <a:lnTo>
                    <a:pt x="289" y="4000"/>
                  </a:lnTo>
                  <a:lnTo>
                    <a:pt x="329" y="4104"/>
                  </a:lnTo>
                  <a:lnTo>
                    <a:pt x="373" y="4209"/>
                  </a:lnTo>
                  <a:lnTo>
                    <a:pt x="417" y="4315"/>
                  </a:lnTo>
                  <a:lnTo>
                    <a:pt x="465" y="4421"/>
                  </a:lnTo>
                  <a:lnTo>
                    <a:pt x="514" y="4527"/>
                  </a:lnTo>
                  <a:lnTo>
                    <a:pt x="566" y="4635"/>
                  </a:lnTo>
                  <a:lnTo>
                    <a:pt x="619" y="4741"/>
                  </a:lnTo>
                  <a:lnTo>
                    <a:pt x="674" y="4849"/>
                  </a:lnTo>
                  <a:lnTo>
                    <a:pt x="732" y="4955"/>
                  </a:lnTo>
                  <a:lnTo>
                    <a:pt x="791" y="5063"/>
                  </a:lnTo>
                  <a:lnTo>
                    <a:pt x="852" y="5169"/>
                  </a:lnTo>
                  <a:lnTo>
                    <a:pt x="914" y="5276"/>
                  </a:lnTo>
                  <a:lnTo>
                    <a:pt x="978" y="5381"/>
                  </a:lnTo>
                  <a:lnTo>
                    <a:pt x="1044" y="5487"/>
                  </a:lnTo>
                  <a:lnTo>
                    <a:pt x="1111" y="5591"/>
                  </a:lnTo>
                  <a:lnTo>
                    <a:pt x="1178" y="5695"/>
                  </a:lnTo>
                  <a:lnTo>
                    <a:pt x="1247" y="5798"/>
                  </a:lnTo>
                  <a:lnTo>
                    <a:pt x="1319" y="5901"/>
                  </a:lnTo>
                  <a:lnTo>
                    <a:pt x="1389" y="6001"/>
                  </a:lnTo>
                  <a:lnTo>
                    <a:pt x="1460" y="6100"/>
                  </a:lnTo>
                  <a:lnTo>
                    <a:pt x="1531" y="6197"/>
                  </a:lnTo>
                  <a:lnTo>
                    <a:pt x="1603" y="6293"/>
                  </a:lnTo>
                  <a:lnTo>
                    <a:pt x="1674" y="6389"/>
                  </a:lnTo>
                  <a:lnTo>
                    <a:pt x="1747" y="6482"/>
                  </a:lnTo>
                  <a:lnTo>
                    <a:pt x="1818" y="6575"/>
                  </a:lnTo>
                  <a:lnTo>
                    <a:pt x="1890" y="6666"/>
                  </a:lnTo>
                  <a:lnTo>
                    <a:pt x="1963" y="6756"/>
                  </a:lnTo>
                  <a:lnTo>
                    <a:pt x="2034" y="6844"/>
                  </a:lnTo>
                  <a:lnTo>
                    <a:pt x="2107" y="6930"/>
                  </a:lnTo>
                  <a:lnTo>
                    <a:pt x="2178" y="7016"/>
                  </a:lnTo>
                  <a:lnTo>
                    <a:pt x="2249" y="7099"/>
                  </a:lnTo>
                  <a:lnTo>
                    <a:pt x="2321" y="7180"/>
                  </a:lnTo>
                  <a:lnTo>
                    <a:pt x="2391" y="7259"/>
                  </a:lnTo>
                  <a:lnTo>
                    <a:pt x="2461" y="7336"/>
                  </a:lnTo>
                  <a:lnTo>
                    <a:pt x="2530" y="7411"/>
                  </a:lnTo>
                  <a:lnTo>
                    <a:pt x="2598" y="7484"/>
                  </a:lnTo>
                  <a:lnTo>
                    <a:pt x="2666" y="7555"/>
                  </a:lnTo>
                  <a:lnTo>
                    <a:pt x="2732" y="7623"/>
                  </a:lnTo>
                  <a:lnTo>
                    <a:pt x="2799" y="7688"/>
                  </a:lnTo>
                  <a:lnTo>
                    <a:pt x="2863" y="7753"/>
                  </a:lnTo>
                  <a:lnTo>
                    <a:pt x="2928" y="7813"/>
                  </a:lnTo>
                  <a:lnTo>
                    <a:pt x="2990" y="7872"/>
                  </a:lnTo>
                  <a:lnTo>
                    <a:pt x="3052" y="7927"/>
                  </a:lnTo>
                  <a:lnTo>
                    <a:pt x="3111" y="7981"/>
                  </a:lnTo>
                  <a:lnTo>
                    <a:pt x="3171" y="8030"/>
                  </a:lnTo>
                  <a:lnTo>
                    <a:pt x="3228" y="8078"/>
                  </a:lnTo>
                  <a:lnTo>
                    <a:pt x="3283" y="8121"/>
                  </a:lnTo>
                  <a:lnTo>
                    <a:pt x="3338" y="8163"/>
                  </a:lnTo>
                  <a:lnTo>
                    <a:pt x="3391" y="8201"/>
                  </a:lnTo>
                  <a:lnTo>
                    <a:pt x="3441" y="8236"/>
                  </a:lnTo>
                  <a:lnTo>
                    <a:pt x="3478" y="8237"/>
                  </a:lnTo>
                  <a:lnTo>
                    <a:pt x="3517" y="8237"/>
                  </a:lnTo>
                  <a:lnTo>
                    <a:pt x="3554" y="8238"/>
                  </a:lnTo>
                  <a:lnTo>
                    <a:pt x="3592" y="8238"/>
                  </a:lnTo>
                  <a:lnTo>
                    <a:pt x="3630" y="8239"/>
                  </a:lnTo>
                  <a:lnTo>
                    <a:pt x="3668" y="8240"/>
                  </a:lnTo>
                  <a:lnTo>
                    <a:pt x="3705" y="8240"/>
                  </a:lnTo>
                  <a:lnTo>
                    <a:pt x="3744" y="8241"/>
                  </a:lnTo>
                  <a:lnTo>
                    <a:pt x="3781" y="8243"/>
                  </a:lnTo>
                  <a:lnTo>
                    <a:pt x="3820" y="8243"/>
                  </a:lnTo>
                  <a:lnTo>
                    <a:pt x="3857" y="8244"/>
                  </a:lnTo>
                  <a:lnTo>
                    <a:pt x="3896" y="8245"/>
                  </a:lnTo>
                  <a:lnTo>
                    <a:pt x="3933" y="8245"/>
                  </a:lnTo>
                  <a:lnTo>
                    <a:pt x="3972" y="8246"/>
                  </a:lnTo>
                  <a:lnTo>
                    <a:pt x="4009" y="8246"/>
                  </a:lnTo>
                  <a:lnTo>
                    <a:pt x="4048" y="8247"/>
                  </a:lnTo>
                  <a:close/>
                </a:path>
              </a:pathLst>
            </a:custGeom>
            <a:solidFill>
              <a:srgbClr val="cccc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153080" y="2367360"/>
              <a:ext cx="1872360" cy="2364480"/>
            </a:xfrm>
            <a:custGeom>
              <a:avLst/>
              <a:gdLst/>
              <a:ahLst/>
              <a:rect l="l" t="t" r="r" b="b"/>
              <a:pathLst>
                <a:path w="6919" h="8685">
                  <a:moveTo>
                    <a:pt x="3479" y="8685"/>
                  </a:moveTo>
                  <a:lnTo>
                    <a:pt x="3510" y="8684"/>
                  </a:lnTo>
                  <a:lnTo>
                    <a:pt x="3543" y="8684"/>
                  </a:lnTo>
                  <a:lnTo>
                    <a:pt x="3575" y="8683"/>
                  </a:lnTo>
                  <a:lnTo>
                    <a:pt x="3607" y="8683"/>
                  </a:lnTo>
                  <a:lnTo>
                    <a:pt x="3640" y="8682"/>
                  </a:lnTo>
                  <a:lnTo>
                    <a:pt x="3672" y="8681"/>
                  </a:lnTo>
                  <a:lnTo>
                    <a:pt x="3704" y="8681"/>
                  </a:lnTo>
                  <a:lnTo>
                    <a:pt x="3737" y="8679"/>
                  </a:lnTo>
                  <a:lnTo>
                    <a:pt x="3770" y="8678"/>
                  </a:lnTo>
                  <a:lnTo>
                    <a:pt x="3803" y="8678"/>
                  </a:lnTo>
                  <a:lnTo>
                    <a:pt x="3835" y="8677"/>
                  </a:lnTo>
                  <a:lnTo>
                    <a:pt x="3868" y="8676"/>
                  </a:lnTo>
                  <a:lnTo>
                    <a:pt x="3901" y="8676"/>
                  </a:lnTo>
                  <a:lnTo>
                    <a:pt x="3934" y="8675"/>
                  </a:lnTo>
                  <a:lnTo>
                    <a:pt x="3966" y="8675"/>
                  </a:lnTo>
                  <a:lnTo>
                    <a:pt x="3999" y="8674"/>
                  </a:lnTo>
                  <a:lnTo>
                    <a:pt x="4042" y="8637"/>
                  </a:lnTo>
                  <a:lnTo>
                    <a:pt x="4087" y="8596"/>
                  </a:lnTo>
                  <a:lnTo>
                    <a:pt x="4132" y="8553"/>
                  </a:lnTo>
                  <a:lnTo>
                    <a:pt x="4180" y="8506"/>
                  </a:lnTo>
                  <a:lnTo>
                    <a:pt x="4229" y="8457"/>
                  </a:lnTo>
                  <a:lnTo>
                    <a:pt x="4280" y="8403"/>
                  </a:lnTo>
                  <a:lnTo>
                    <a:pt x="4330" y="8348"/>
                  </a:lnTo>
                  <a:lnTo>
                    <a:pt x="4383" y="8290"/>
                  </a:lnTo>
                  <a:lnTo>
                    <a:pt x="4436" y="8228"/>
                  </a:lnTo>
                  <a:lnTo>
                    <a:pt x="4491" y="8164"/>
                  </a:lnTo>
                  <a:lnTo>
                    <a:pt x="4546" y="8097"/>
                  </a:lnTo>
                  <a:lnTo>
                    <a:pt x="4602" y="8027"/>
                  </a:lnTo>
                  <a:lnTo>
                    <a:pt x="4660" y="7956"/>
                  </a:lnTo>
                  <a:lnTo>
                    <a:pt x="4717" y="7881"/>
                  </a:lnTo>
                  <a:lnTo>
                    <a:pt x="4777" y="7805"/>
                  </a:lnTo>
                  <a:lnTo>
                    <a:pt x="4835" y="7725"/>
                  </a:lnTo>
                  <a:lnTo>
                    <a:pt x="4895" y="7644"/>
                  </a:lnTo>
                  <a:lnTo>
                    <a:pt x="4956" y="7561"/>
                  </a:lnTo>
                  <a:lnTo>
                    <a:pt x="5016" y="7476"/>
                  </a:lnTo>
                  <a:lnTo>
                    <a:pt x="5077" y="7389"/>
                  </a:lnTo>
                  <a:lnTo>
                    <a:pt x="5138" y="7301"/>
                  </a:lnTo>
                  <a:lnTo>
                    <a:pt x="5200" y="7209"/>
                  </a:lnTo>
                  <a:lnTo>
                    <a:pt x="5261" y="7117"/>
                  </a:lnTo>
                  <a:lnTo>
                    <a:pt x="5323" y="7023"/>
                  </a:lnTo>
                  <a:lnTo>
                    <a:pt x="5385" y="6928"/>
                  </a:lnTo>
                  <a:lnTo>
                    <a:pt x="5447" y="6830"/>
                  </a:lnTo>
                  <a:lnTo>
                    <a:pt x="5509" y="6732"/>
                  </a:lnTo>
                  <a:lnTo>
                    <a:pt x="5569" y="6633"/>
                  </a:lnTo>
                  <a:lnTo>
                    <a:pt x="5631" y="6531"/>
                  </a:lnTo>
                  <a:lnTo>
                    <a:pt x="5692" y="6429"/>
                  </a:lnTo>
                  <a:lnTo>
                    <a:pt x="5753" y="6326"/>
                  </a:lnTo>
                  <a:lnTo>
                    <a:pt x="5813" y="6222"/>
                  </a:lnTo>
                  <a:lnTo>
                    <a:pt x="5872" y="6116"/>
                  </a:lnTo>
                  <a:lnTo>
                    <a:pt x="5932" y="6008"/>
                  </a:lnTo>
                  <a:lnTo>
                    <a:pt x="5990" y="5901"/>
                  </a:lnTo>
                  <a:lnTo>
                    <a:pt x="6047" y="5792"/>
                  </a:lnTo>
                  <a:lnTo>
                    <a:pt x="6103" y="5682"/>
                  </a:lnTo>
                  <a:lnTo>
                    <a:pt x="6156" y="5572"/>
                  </a:lnTo>
                  <a:lnTo>
                    <a:pt x="6209" y="5462"/>
                  </a:lnTo>
                  <a:lnTo>
                    <a:pt x="6261" y="5351"/>
                  </a:lnTo>
                  <a:lnTo>
                    <a:pt x="6311" y="5240"/>
                  </a:lnTo>
                  <a:lnTo>
                    <a:pt x="6360" y="5129"/>
                  </a:lnTo>
                  <a:lnTo>
                    <a:pt x="6407" y="5018"/>
                  </a:lnTo>
                  <a:lnTo>
                    <a:pt x="6451" y="4908"/>
                  </a:lnTo>
                  <a:lnTo>
                    <a:pt x="6494" y="4797"/>
                  </a:lnTo>
                  <a:lnTo>
                    <a:pt x="6536" y="4687"/>
                  </a:lnTo>
                  <a:lnTo>
                    <a:pt x="6576" y="4577"/>
                  </a:lnTo>
                  <a:lnTo>
                    <a:pt x="6615" y="4467"/>
                  </a:lnTo>
                  <a:lnTo>
                    <a:pt x="6650" y="4358"/>
                  </a:lnTo>
                  <a:lnTo>
                    <a:pt x="6685" y="4249"/>
                  </a:lnTo>
                  <a:lnTo>
                    <a:pt x="6717" y="4142"/>
                  </a:lnTo>
                  <a:lnTo>
                    <a:pt x="6746" y="4035"/>
                  </a:lnTo>
                  <a:lnTo>
                    <a:pt x="6774" y="3930"/>
                  </a:lnTo>
                  <a:lnTo>
                    <a:pt x="6800" y="3826"/>
                  </a:lnTo>
                  <a:lnTo>
                    <a:pt x="6823" y="3722"/>
                  </a:lnTo>
                  <a:lnTo>
                    <a:pt x="6844" y="3620"/>
                  </a:lnTo>
                  <a:lnTo>
                    <a:pt x="6862" y="3519"/>
                  </a:lnTo>
                  <a:lnTo>
                    <a:pt x="6878" y="3420"/>
                  </a:lnTo>
                  <a:lnTo>
                    <a:pt x="6892" y="3322"/>
                  </a:lnTo>
                  <a:lnTo>
                    <a:pt x="6902" y="3226"/>
                  </a:lnTo>
                  <a:lnTo>
                    <a:pt x="6911" y="3132"/>
                  </a:lnTo>
                  <a:lnTo>
                    <a:pt x="6916" y="3040"/>
                  </a:lnTo>
                  <a:lnTo>
                    <a:pt x="6919" y="2950"/>
                  </a:lnTo>
                  <a:lnTo>
                    <a:pt x="6919" y="2861"/>
                  </a:lnTo>
                  <a:lnTo>
                    <a:pt x="6911" y="2755"/>
                  </a:lnTo>
                  <a:lnTo>
                    <a:pt x="6902" y="2649"/>
                  </a:lnTo>
                  <a:lnTo>
                    <a:pt x="6892" y="2545"/>
                  </a:lnTo>
                  <a:lnTo>
                    <a:pt x="6879" y="2442"/>
                  </a:lnTo>
                  <a:lnTo>
                    <a:pt x="6866" y="2342"/>
                  </a:lnTo>
                  <a:lnTo>
                    <a:pt x="6852" y="2241"/>
                  </a:lnTo>
                  <a:lnTo>
                    <a:pt x="6836" y="2143"/>
                  </a:lnTo>
                  <a:lnTo>
                    <a:pt x="6818" y="2047"/>
                  </a:lnTo>
                  <a:lnTo>
                    <a:pt x="6800" y="1951"/>
                  </a:lnTo>
                  <a:lnTo>
                    <a:pt x="6778" y="1858"/>
                  </a:lnTo>
                  <a:lnTo>
                    <a:pt x="6757" y="1766"/>
                  </a:lnTo>
                  <a:lnTo>
                    <a:pt x="6734" y="1676"/>
                  </a:lnTo>
                  <a:lnTo>
                    <a:pt x="6710" y="1587"/>
                  </a:lnTo>
                  <a:lnTo>
                    <a:pt x="6683" y="1502"/>
                  </a:lnTo>
                  <a:lnTo>
                    <a:pt x="6656" y="1417"/>
                  </a:lnTo>
                  <a:lnTo>
                    <a:pt x="6626" y="1335"/>
                  </a:lnTo>
                  <a:lnTo>
                    <a:pt x="6596" y="1254"/>
                  </a:lnTo>
                  <a:lnTo>
                    <a:pt x="6565" y="1176"/>
                  </a:lnTo>
                  <a:lnTo>
                    <a:pt x="6532" y="1100"/>
                  </a:lnTo>
                  <a:lnTo>
                    <a:pt x="6497" y="1025"/>
                  </a:lnTo>
                  <a:lnTo>
                    <a:pt x="6460" y="954"/>
                  </a:lnTo>
                  <a:lnTo>
                    <a:pt x="6423" y="883"/>
                  </a:lnTo>
                  <a:lnTo>
                    <a:pt x="6384" y="817"/>
                  </a:lnTo>
                  <a:lnTo>
                    <a:pt x="6344" y="751"/>
                  </a:lnTo>
                  <a:lnTo>
                    <a:pt x="6301" y="689"/>
                  </a:lnTo>
                  <a:lnTo>
                    <a:pt x="6258" y="628"/>
                  </a:lnTo>
                  <a:lnTo>
                    <a:pt x="6214" y="571"/>
                  </a:lnTo>
                  <a:lnTo>
                    <a:pt x="6167" y="516"/>
                  </a:lnTo>
                  <a:lnTo>
                    <a:pt x="6119" y="463"/>
                  </a:lnTo>
                  <a:lnTo>
                    <a:pt x="6070" y="414"/>
                  </a:lnTo>
                  <a:lnTo>
                    <a:pt x="6020" y="368"/>
                  </a:lnTo>
                  <a:lnTo>
                    <a:pt x="5967" y="323"/>
                  </a:lnTo>
                  <a:lnTo>
                    <a:pt x="5914" y="282"/>
                  </a:lnTo>
                  <a:lnTo>
                    <a:pt x="5861" y="244"/>
                  </a:lnTo>
                  <a:lnTo>
                    <a:pt x="5804" y="209"/>
                  </a:lnTo>
                  <a:lnTo>
                    <a:pt x="5748" y="176"/>
                  </a:lnTo>
                  <a:lnTo>
                    <a:pt x="5690" y="145"/>
                  </a:lnTo>
                  <a:lnTo>
                    <a:pt x="5630" y="117"/>
                  </a:lnTo>
                  <a:lnTo>
                    <a:pt x="5569" y="93"/>
                  </a:lnTo>
                  <a:lnTo>
                    <a:pt x="5507" y="72"/>
                  </a:lnTo>
                  <a:lnTo>
                    <a:pt x="5443" y="52"/>
                  </a:lnTo>
                  <a:lnTo>
                    <a:pt x="5378" y="37"/>
                  </a:lnTo>
                  <a:lnTo>
                    <a:pt x="5311" y="24"/>
                  </a:lnTo>
                  <a:lnTo>
                    <a:pt x="5242" y="13"/>
                  </a:lnTo>
                  <a:lnTo>
                    <a:pt x="5172" y="6"/>
                  </a:lnTo>
                  <a:lnTo>
                    <a:pt x="5099" y="3"/>
                  </a:lnTo>
                  <a:lnTo>
                    <a:pt x="5026" y="2"/>
                  </a:lnTo>
                  <a:lnTo>
                    <a:pt x="4951" y="4"/>
                  </a:lnTo>
                  <a:lnTo>
                    <a:pt x="4873" y="10"/>
                  </a:lnTo>
                  <a:lnTo>
                    <a:pt x="4794" y="19"/>
                  </a:lnTo>
                  <a:lnTo>
                    <a:pt x="4712" y="31"/>
                  </a:lnTo>
                  <a:lnTo>
                    <a:pt x="4629" y="47"/>
                  </a:lnTo>
                  <a:lnTo>
                    <a:pt x="4544" y="66"/>
                  </a:lnTo>
                  <a:lnTo>
                    <a:pt x="4457" y="89"/>
                  </a:lnTo>
                  <a:lnTo>
                    <a:pt x="4369" y="115"/>
                  </a:lnTo>
                  <a:lnTo>
                    <a:pt x="4277" y="144"/>
                  </a:lnTo>
                  <a:lnTo>
                    <a:pt x="4184" y="178"/>
                  </a:lnTo>
                  <a:lnTo>
                    <a:pt x="4088" y="214"/>
                  </a:lnTo>
                  <a:lnTo>
                    <a:pt x="3991" y="255"/>
                  </a:lnTo>
                  <a:lnTo>
                    <a:pt x="3890" y="300"/>
                  </a:lnTo>
                  <a:lnTo>
                    <a:pt x="3789" y="348"/>
                  </a:lnTo>
                  <a:lnTo>
                    <a:pt x="3685" y="399"/>
                  </a:lnTo>
                  <a:lnTo>
                    <a:pt x="3577" y="455"/>
                  </a:lnTo>
                  <a:lnTo>
                    <a:pt x="3468" y="515"/>
                  </a:lnTo>
                  <a:lnTo>
                    <a:pt x="3360" y="455"/>
                  </a:lnTo>
                  <a:lnTo>
                    <a:pt x="3253" y="399"/>
                  </a:lnTo>
                  <a:lnTo>
                    <a:pt x="3149" y="348"/>
                  </a:lnTo>
                  <a:lnTo>
                    <a:pt x="3047" y="300"/>
                  </a:lnTo>
                  <a:lnTo>
                    <a:pt x="2948" y="255"/>
                  </a:lnTo>
                  <a:lnTo>
                    <a:pt x="2851" y="214"/>
                  </a:lnTo>
                  <a:lnTo>
                    <a:pt x="2755" y="177"/>
                  </a:lnTo>
                  <a:lnTo>
                    <a:pt x="2663" y="144"/>
                  </a:lnTo>
                  <a:lnTo>
                    <a:pt x="2571" y="114"/>
                  </a:lnTo>
                  <a:lnTo>
                    <a:pt x="2483" y="88"/>
                  </a:lnTo>
                  <a:lnTo>
                    <a:pt x="2395" y="66"/>
                  </a:lnTo>
                  <a:lnTo>
                    <a:pt x="2311" y="46"/>
                  </a:lnTo>
                  <a:lnTo>
                    <a:pt x="2228" y="31"/>
                  </a:lnTo>
                  <a:lnTo>
                    <a:pt x="2146" y="18"/>
                  </a:lnTo>
                  <a:lnTo>
                    <a:pt x="2066" y="9"/>
                  </a:lnTo>
                  <a:lnTo>
                    <a:pt x="1989" y="3"/>
                  </a:lnTo>
                  <a:lnTo>
                    <a:pt x="1913" y="0"/>
                  </a:lnTo>
                  <a:lnTo>
                    <a:pt x="1839" y="2"/>
                  </a:lnTo>
                  <a:lnTo>
                    <a:pt x="1767" y="5"/>
                  </a:lnTo>
                  <a:lnTo>
                    <a:pt x="1696" y="12"/>
                  </a:lnTo>
                  <a:lnTo>
                    <a:pt x="1627" y="23"/>
                  </a:lnTo>
                  <a:lnTo>
                    <a:pt x="1560" y="35"/>
                  </a:lnTo>
                  <a:lnTo>
                    <a:pt x="1493" y="52"/>
                  </a:lnTo>
                  <a:lnTo>
                    <a:pt x="1429" y="71"/>
                  </a:lnTo>
                  <a:lnTo>
                    <a:pt x="1367" y="93"/>
                  </a:lnTo>
                  <a:lnTo>
                    <a:pt x="1305" y="117"/>
                  </a:lnTo>
                  <a:lnTo>
                    <a:pt x="1245" y="144"/>
                  </a:lnTo>
                  <a:lnTo>
                    <a:pt x="1187" y="175"/>
                  </a:lnTo>
                  <a:lnTo>
                    <a:pt x="1130" y="209"/>
                  </a:lnTo>
                  <a:lnTo>
                    <a:pt x="1074" y="244"/>
                  </a:lnTo>
                  <a:lnTo>
                    <a:pt x="1019" y="282"/>
                  </a:lnTo>
                  <a:lnTo>
                    <a:pt x="965" y="323"/>
                  </a:lnTo>
                  <a:lnTo>
                    <a:pt x="912" y="368"/>
                  </a:lnTo>
                  <a:lnTo>
                    <a:pt x="861" y="414"/>
                  </a:lnTo>
                  <a:lnTo>
                    <a:pt x="812" y="463"/>
                  </a:lnTo>
                  <a:lnTo>
                    <a:pt x="764" y="516"/>
                  </a:lnTo>
                  <a:lnTo>
                    <a:pt x="717" y="571"/>
                  </a:lnTo>
                  <a:lnTo>
                    <a:pt x="671" y="628"/>
                  </a:lnTo>
                  <a:lnTo>
                    <a:pt x="628" y="688"/>
                  </a:lnTo>
                  <a:lnTo>
                    <a:pt x="586" y="751"/>
                  </a:lnTo>
                  <a:lnTo>
                    <a:pt x="545" y="816"/>
                  </a:lnTo>
                  <a:lnTo>
                    <a:pt x="505" y="883"/>
                  </a:lnTo>
                  <a:lnTo>
                    <a:pt x="468" y="952"/>
                  </a:lnTo>
                  <a:lnTo>
                    <a:pt x="432" y="1025"/>
                  </a:lnTo>
                  <a:lnTo>
                    <a:pt x="397" y="1099"/>
                  </a:lnTo>
                  <a:lnTo>
                    <a:pt x="363" y="1176"/>
                  </a:lnTo>
                  <a:lnTo>
                    <a:pt x="330" y="1254"/>
                  </a:lnTo>
                  <a:lnTo>
                    <a:pt x="300" y="1334"/>
                  </a:lnTo>
                  <a:lnTo>
                    <a:pt x="270" y="1417"/>
                  </a:lnTo>
                  <a:lnTo>
                    <a:pt x="242" y="1501"/>
                  </a:lnTo>
                  <a:lnTo>
                    <a:pt x="216" y="1587"/>
                  </a:lnTo>
                  <a:lnTo>
                    <a:pt x="191" y="1676"/>
                  </a:lnTo>
                  <a:lnTo>
                    <a:pt x="167" y="1766"/>
                  </a:lnTo>
                  <a:lnTo>
                    <a:pt x="145" y="1858"/>
                  </a:lnTo>
                  <a:lnTo>
                    <a:pt x="124" y="1951"/>
                  </a:lnTo>
                  <a:lnTo>
                    <a:pt x="105" y="2046"/>
                  </a:lnTo>
                  <a:lnTo>
                    <a:pt x="87" y="2143"/>
                  </a:lnTo>
                  <a:lnTo>
                    <a:pt x="70" y="2241"/>
                  </a:lnTo>
                  <a:lnTo>
                    <a:pt x="55" y="2342"/>
                  </a:lnTo>
                  <a:lnTo>
                    <a:pt x="41" y="2442"/>
                  </a:lnTo>
                  <a:lnTo>
                    <a:pt x="29" y="2545"/>
                  </a:lnTo>
                  <a:lnTo>
                    <a:pt x="18" y="2649"/>
                  </a:lnTo>
                  <a:lnTo>
                    <a:pt x="8" y="2755"/>
                  </a:lnTo>
                  <a:lnTo>
                    <a:pt x="0" y="2861"/>
                  </a:lnTo>
                  <a:lnTo>
                    <a:pt x="0" y="2950"/>
                  </a:lnTo>
                  <a:lnTo>
                    <a:pt x="3" y="3040"/>
                  </a:lnTo>
                  <a:lnTo>
                    <a:pt x="8" y="3132"/>
                  </a:lnTo>
                  <a:lnTo>
                    <a:pt x="17" y="3226"/>
                  </a:lnTo>
                  <a:lnTo>
                    <a:pt x="27" y="3323"/>
                  </a:lnTo>
                  <a:lnTo>
                    <a:pt x="41" y="3420"/>
                  </a:lnTo>
                  <a:lnTo>
                    <a:pt x="56" y="3519"/>
                  </a:lnTo>
                  <a:lnTo>
                    <a:pt x="75" y="3620"/>
                  </a:lnTo>
                  <a:lnTo>
                    <a:pt x="96" y="3722"/>
                  </a:lnTo>
                  <a:lnTo>
                    <a:pt x="119" y="3826"/>
                  </a:lnTo>
                  <a:lnTo>
                    <a:pt x="145" y="3930"/>
                  </a:lnTo>
                  <a:lnTo>
                    <a:pt x="172" y="4035"/>
                  </a:lnTo>
                  <a:lnTo>
                    <a:pt x="202" y="4143"/>
                  </a:lnTo>
                  <a:lnTo>
                    <a:pt x="235" y="4250"/>
                  </a:lnTo>
                  <a:lnTo>
                    <a:pt x="269" y="4358"/>
                  </a:lnTo>
                  <a:lnTo>
                    <a:pt x="305" y="4467"/>
                  </a:lnTo>
                  <a:lnTo>
                    <a:pt x="343" y="4577"/>
                  </a:lnTo>
                  <a:lnTo>
                    <a:pt x="384" y="4687"/>
                  </a:lnTo>
                  <a:lnTo>
                    <a:pt x="426" y="4797"/>
                  </a:lnTo>
                  <a:lnTo>
                    <a:pt x="469" y="4908"/>
                  </a:lnTo>
                  <a:lnTo>
                    <a:pt x="515" y="5019"/>
                  </a:lnTo>
                  <a:lnTo>
                    <a:pt x="561" y="5130"/>
                  </a:lnTo>
                  <a:lnTo>
                    <a:pt x="611" y="5241"/>
                  </a:lnTo>
                  <a:lnTo>
                    <a:pt x="661" y="5351"/>
                  </a:lnTo>
                  <a:lnTo>
                    <a:pt x="712" y="5462"/>
                  </a:lnTo>
                  <a:lnTo>
                    <a:pt x="766" y="5572"/>
                  </a:lnTo>
                  <a:lnTo>
                    <a:pt x="821" y="5682"/>
                  </a:lnTo>
                  <a:lnTo>
                    <a:pt x="877" y="5792"/>
                  </a:lnTo>
                  <a:lnTo>
                    <a:pt x="934" y="5901"/>
                  </a:lnTo>
                  <a:lnTo>
                    <a:pt x="993" y="6008"/>
                  </a:lnTo>
                  <a:lnTo>
                    <a:pt x="1053" y="6116"/>
                  </a:lnTo>
                  <a:lnTo>
                    <a:pt x="1113" y="6222"/>
                  </a:lnTo>
                  <a:lnTo>
                    <a:pt x="1174" y="6326"/>
                  </a:lnTo>
                  <a:lnTo>
                    <a:pt x="1235" y="6429"/>
                  </a:lnTo>
                  <a:lnTo>
                    <a:pt x="1297" y="6532"/>
                  </a:lnTo>
                  <a:lnTo>
                    <a:pt x="1359" y="6633"/>
                  </a:lnTo>
                  <a:lnTo>
                    <a:pt x="1422" y="6732"/>
                  </a:lnTo>
                  <a:lnTo>
                    <a:pt x="1484" y="6830"/>
                  </a:lnTo>
                  <a:lnTo>
                    <a:pt x="1546" y="6928"/>
                  </a:lnTo>
                  <a:lnTo>
                    <a:pt x="1609" y="7023"/>
                  </a:lnTo>
                  <a:lnTo>
                    <a:pt x="1671" y="7117"/>
                  </a:lnTo>
                  <a:lnTo>
                    <a:pt x="1734" y="7209"/>
                  </a:lnTo>
                  <a:lnTo>
                    <a:pt x="1796" y="7301"/>
                  </a:lnTo>
                  <a:lnTo>
                    <a:pt x="1858" y="7389"/>
                  </a:lnTo>
                  <a:lnTo>
                    <a:pt x="1920" y="7477"/>
                  </a:lnTo>
                  <a:lnTo>
                    <a:pt x="1982" y="7561"/>
                  </a:lnTo>
                  <a:lnTo>
                    <a:pt x="2043" y="7644"/>
                  </a:lnTo>
                  <a:lnTo>
                    <a:pt x="2104" y="7726"/>
                  </a:lnTo>
                  <a:lnTo>
                    <a:pt x="2163" y="7805"/>
                  </a:lnTo>
                  <a:lnTo>
                    <a:pt x="2223" y="7882"/>
                  </a:lnTo>
                  <a:lnTo>
                    <a:pt x="2281" y="7956"/>
                  </a:lnTo>
                  <a:lnTo>
                    <a:pt x="2340" y="8028"/>
                  </a:lnTo>
                  <a:lnTo>
                    <a:pt x="2397" y="8097"/>
                  </a:lnTo>
                  <a:lnTo>
                    <a:pt x="2453" y="8164"/>
                  </a:lnTo>
                  <a:lnTo>
                    <a:pt x="2509" y="8228"/>
                  </a:lnTo>
                  <a:lnTo>
                    <a:pt x="2563" y="8290"/>
                  </a:lnTo>
                  <a:lnTo>
                    <a:pt x="2617" y="8348"/>
                  </a:lnTo>
                  <a:lnTo>
                    <a:pt x="2668" y="8403"/>
                  </a:lnTo>
                  <a:lnTo>
                    <a:pt x="2720" y="8457"/>
                  </a:lnTo>
                  <a:lnTo>
                    <a:pt x="2769" y="8506"/>
                  </a:lnTo>
                  <a:lnTo>
                    <a:pt x="2818" y="8553"/>
                  </a:lnTo>
                  <a:lnTo>
                    <a:pt x="2865" y="8596"/>
                  </a:lnTo>
                  <a:lnTo>
                    <a:pt x="2909" y="8637"/>
                  </a:lnTo>
                  <a:lnTo>
                    <a:pt x="2954" y="8674"/>
                  </a:lnTo>
                  <a:lnTo>
                    <a:pt x="2987" y="8675"/>
                  </a:lnTo>
                  <a:lnTo>
                    <a:pt x="3019" y="8675"/>
                  </a:lnTo>
                  <a:lnTo>
                    <a:pt x="3052" y="8676"/>
                  </a:lnTo>
                  <a:lnTo>
                    <a:pt x="3085" y="8676"/>
                  </a:lnTo>
                  <a:lnTo>
                    <a:pt x="3117" y="8677"/>
                  </a:lnTo>
                  <a:lnTo>
                    <a:pt x="3150" y="8678"/>
                  </a:lnTo>
                  <a:lnTo>
                    <a:pt x="3183" y="8678"/>
                  </a:lnTo>
                  <a:lnTo>
                    <a:pt x="3216" y="8679"/>
                  </a:lnTo>
                  <a:lnTo>
                    <a:pt x="3248" y="8681"/>
                  </a:lnTo>
                  <a:lnTo>
                    <a:pt x="3281" y="8681"/>
                  </a:lnTo>
                  <a:lnTo>
                    <a:pt x="3314" y="8682"/>
                  </a:lnTo>
                  <a:lnTo>
                    <a:pt x="3347" y="8683"/>
                  </a:lnTo>
                  <a:lnTo>
                    <a:pt x="3379" y="8683"/>
                  </a:lnTo>
                  <a:lnTo>
                    <a:pt x="3412" y="8684"/>
                  </a:lnTo>
                  <a:lnTo>
                    <a:pt x="3446" y="8684"/>
                  </a:lnTo>
                  <a:lnTo>
                    <a:pt x="3479" y="868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407600" y="2324880"/>
              <a:ext cx="1365120" cy="2406600"/>
            </a:xfrm>
            <a:custGeom>
              <a:avLst/>
              <a:gdLst/>
              <a:ahLst/>
              <a:rect l="l" t="t" r="r" b="b"/>
              <a:pathLst>
                <a:path w="5042" h="8839">
                  <a:moveTo>
                    <a:pt x="2536" y="8839"/>
                  </a:moveTo>
                  <a:lnTo>
                    <a:pt x="2560" y="8838"/>
                  </a:lnTo>
                  <a:lnTo>
                    <a:pt x="2584" y="8838"/>
                  </a:lnTo>
                  <a:lnTo>
                    <a:pt x="2608" y="8837"/>
                  </a:lnTo>
                  <a:lnTo>
                    <a:pt x="2632" y="8837"/>
                  </a:lnTo>
                  <a:lnTo>
                    <a:pt x="2656" y="8836"/>
                  </a:lnTo>
                  <a:lnTo>
                    <a:pt x="2679" y="8834"/>
                  </a:lnTo>
                  <a:lnTo>
                    <a:pt x="2703" y="8834"/>
                  </a:lnTo>
                  <a:lnTo>
                    <a:pt x="2727" y="8833"/>
                  </a:lnTo>
                  <a:lnTo>
                    <a:pt x="2750" y="8832"/>
                  </a:lnTo>
                  <a:lnTo>
                    <a:pt x="2775" y="8831"/>
                  </a:lnTo>
                  <a:lnTo>
                    <a:pt x="2798" y="8831"/>
                  </a:lnTo>
                  <a:lnTo>
                    <a:pt x="2822" y="8830"/>
                  </a:lnTo>
                  <a:lnTo>
                    <a:pt x="2846" y="8829"/>
                  </a:lnTo>
                  <a:lnTo>
                    <a:pt x="2870" y="8827"/>
                  </a:lnTo>
                  <a:lnTo>
                    <a:pt x="2894" y="8827"/>
                  </a:lnTo>
                  <a:lnTo>
                    <a:pt x="2917" y="8826"/>
                  </a:lnTo>
                  <a:lnTo>
                    <a:pt x="2949" y="8789"/>
                  </a:lnTo>
                  <a:lnTo>
                    <a:pt x="2982" y="8748"/>
                  </a:lnTo>
                  <a:lnTo>
                    <a:pt x="3016" y="8703"/>
                  </a:lnTo>
                  <a:lnTo>
                    <a:pt x="3050" y="8656"/>
                  </a:lnTo>
                  <a:lnTo>
                    <a:pt x="3086" y="8605"/>
                  </a:lnTo>
                  <a:lnTo>
                    <a:pt x="3122" y="8551"/>
                  </a:lnTo>
                  <a:lnTo>
                    <a:pt x="3160" y="8494"/>
                  </a:lnTo>
                  <a:lnTo>
                    <a:pt x="3198" y="8434"/>
                  </a:lnTo>
                  <a:lnTo>
                    <a:pt x="3237" y="8371"/>
                  </a:lnTo>
                  <a:lnTo>
                    <a:pt x="3276" y="8307"/>
                  </a:lnTo>
                  <a:lnTo>
                    <a:pt x="3317" y="8238"/>
                  </a:lnTo>
                  <a:lnTo>
                    <a:pt x="3358" y="8168"/>
                  </a:lnTo>
                  <a:lnTo>
                    <a:pt x="3400" y="8094"/>
                  </a:lnTo>
                  <a:lnTo>
                    <a:pt x="3442" y="8019"/>
                  </a:lnTo>
                  <a:lnTo>
                    <a:pt x="3485" y="7941"/>
                  </a:lnTo>
                  <a:lnTo>
                    <a:pt x="3528" y="7861"/>
                  </a:lnTo>
                  <a:lnTo>
                    <a:pt x="3571" y="7778"/>
                  </a:lnTo>
                  <a:lnTo>
                    <a:pt x="3616" y="7694"/>
                  </a:lnTo>
                  <a:lnTo>
                    <a:pt x="3660" y="7608"/>
                  </a:lnTo>
                  <a:lnTo>
                    <a:pt x="3704" y="7520"/>
                  </a:lnTo>
                  <a:lnTo>
                    <a:pt x="3749" y="7429"/>
                  </a:lnTo>
                  <a:lnTo>
                    <a:pt x="3793" y="7337"/>
                  </a:lnTo>
                  <a:lnTo>
                    <a:pt x="3839" y="7244"/>
                  </a:lnTo>
                  <a:lnTo>
                    <a:pt x="3883" y="7148"/>
                  </a:lnTo>
                  <a:lnTo>
                    <a:pt x="3929" y="7051"/>
                  </a:lnTo>
                  <a:lnTo>
                    <a:pt x="3974" y="6953"/>
                  </a:lnTo>
                  <a:lnTo>
                    <a:pt x="4019" y="6853"/>
                  </a:lnTo>
                  <a:lnTo>
                    <a:pt x="4063" y="6753"/>
                  </a:lnTo>
                  <a:lnTo>
                    <a:pt x="4109" y="6651"/>
                  </a:lnTo>
                  <a:lnTo>
                    <a:pt x="4153" y="6548"/>
                  </a:lnTo>
                  <a:lnTo>
                    <a:pt x="4197" y="6444"/>
                  </a:lnTo>
                  <a:lnTo>
                    <a:pt x="4241" y="6339"/>
                  </a:lnTo>
                  <a:lnTo>
                    <a:pt x="4284" y="6232"/>
                  </a:lnTo>
                  <a:lnTo>
                    <a:pt x="4328" y="6125"/>
                  </a:lnTo>
                  <a:lnTo>
                    <a:pt x="4370" y="6017"/>
                  </a:lnTo>
                  <a:lnTo>
                    <a:pt x="4411" y="5908"/>
                  </a:lnTo>
                  <a:lnTo>
                    <a:pt x="4452" y="5798"/>
                  </a:lnTo>
                  <a:lnTo>
                    <a:pt x="4490" y="5688"/>
                  </a:lnTo>
                  <a:lnTo>
                    <a:pt x="4529" y="5578"/>
                  </a:lnTo>
                  <a:lnTo>
                    <a:pt x="4566" y="5469"/>
                  </a:lnTo>
                  <a:lnTo>
                    <a:pt x="4602" y="5359"/>
                  </a:lnTo>
                  <a:lnTo>
                    <a:pt x="4637" y="5248"/>
                  </a:lnTo>
                  <a:lnTo>
                    <a:pt x="4671" y="5138"/>
                  </a:lnTo>
                  <a:lnTo>
                    <a:pt x="4704" y="5026"/>
                  </a:lnTo>
                  <a:lnTo>
                    <a:pt x="4736" y="4917"/>
                  </a:lnTo>
                  <a:lnTo>
                    <a:pt x="4766" y="4807"/>
                  </a:lnTo>
                  <a:lnTo>
                    <a:pt x="4795" y="4697"/>
                  </a:lnTo>
                  <a:lnTo>
                    <a:pt x="4823" y="4588"/>
                  </a:lnTo>
                  <a:lnTo>
                    <a:pt x="4849" y="4479"/>
                  </a:lnTo>
                  <a:lnTo>
                    <a:pt x="4874" y="4372"/>
                  </a:lnTo>
                  <a:lnTo>
                    <a:pt x="4897" y="4265"/>
                  </a:lnTo>
                  <a:lnTo>
                    <a:pt x="4919" y="4159"/>
                  </a:lnTo>
                  <a:lnTo>
                    <a:pt x="4939" y="4053"/>
                  </a:lnTo>
                  <a:lnTo>
                    <a:pt x="4958" y="3949"/>
                  </a:lnTo>
                  <a:lnTo>
                    <a:pt x="4974" y="3846"/>
                  </a:lnTo>
                  <a:lnTo>
                    <a:pt x="4989" y="3745"/>
                  </a:lnTo>
                  <a:lnTo>
                    <a:pt x="5002" y="3644"/>
                  </a:lnTo>
                  <a:lnTo>
                    <a:pt x="5014" y="3545"/>
                  </a:lnTo>
                  <a:lnTo>
                    <a:pt x="5023" y="3448"/>
                  </a:lnTo>
                  <a:lnTo>
                    <a:pt x="5032" y="3352"/>
                  </a:lnTo>
                  <a:lnTo>
                    <a:pt x="5037" y="3257"/>
                  </a:lnTo>
                  <a:lnTo>
                    <a:pt x="5041" y="3165"/>
                  </a:lnTo>
                  <a:lnTo>
                    <a:pt x="5042" y="3075"/>
                  </a:lnTo>
                  <a:lnTo>
                    <a:pt x="5042" y="2986"/>
                  </a:lnTo>
                  <a:lnTo>
                    <a:pt x="5028" y="2773"/>
                  </a:lnTo>
                  <a:lnTo>
                    <a:pt x="5010" y="2563"/>
                  </a:lnTo>
                  <a:lnTo>
                    <a:pt x="4988" y="2361"/>
                  </a:lnTo>
                  <a:lnTo>
                    <a:pt x="4963" y="2162"/>
                  </a:lnTo>
                  <a:lnTo>
                    <a:pt x="4932" y="1972"/>
                  </a:lnTo>
                  <a:lnTo>
                    <a:pt x="4897" y="1786"/>
                  </a:lnTo>
                  <a:lnTo>
                    <a:pt x="4860" y="1608"/>
                  </a:lnTo>
                  <a:lnTo>
                    <a:pt x="4816" y="1436"/>
                  </a:lnTo>
                  <a:lnTo>
                    <a:pt x="4771" y="1272"/>
                  </a:lnTo>
                  <a:lnTo>
                    <a:pt x="4719" y="1117"/>
                  </a:lnTo>
                  <a:lnTo>
                    <a:pt x="4666" y="971"/>
                  </a:lnTo>
                  <a:lnTo>
                    <a:pt x="4606" y="832"/>
                  </a:lnTo>
                  <a:lnTo>
                    <a:pt x="4544" y="703"/>
                  </a:lnTo>
                  <a:lnTo>
                    <a:pt x="4477" y="585"/>
                  </a:lnTo>
                  <a:lnTo>
                    <a:pt x="4406" y="475"/>
                  </a:lnTo>
                  <a:lnTo>
                    <a:pt x="4331" y="376"/>
                  </a:lnTo>
                  <a:lnTo>
                    <a:pt x="4293" y="332"/>
                  </a:lnTo>
                  <a:lnTo>
                    <a:pt x="4253" y="289"/>
                  </a:lnTo>
                  <a:lnTo>
                    <a:pt x="4213" y="249"/>
                  </a:lnTo>
                  <a:lnTo>
                    <a:pt x="4171" y="213"/>
                  </a:lnTo>
                  <a:lnTo>
                    <a:pt x="4129" y="179"/>
                  </a:lnTo>
                  <a:lnTo>
                    <a:pt x="4086" y="147"/>
                  </a:lnTo>
                  <a:lnTo>
                    <a:pt x="4041" y="119"/>
                  </a:lnTo>
                  <a:lnTo>
                    <a:pt x="3997" y="93"/>
                  </a:lnTo>
                  <a:lnTo>
                    <a:pt x="3950" y="71"/>
                  </a:lnTo>
                  <a:lnTo>
                    <a:pt x="3902" y="51"/>
                  </a:lnTo>
                  <a:lnTo>
                    <a:pt x="3854" y="35"/>
                  </a:lnTo>
                  <a:lnTo>
                    <a:pt x="3804" y="22"/>
                  </a:lnTo>
                  <a:lnTo>
                    <a:pt x="3753" y="11"/>
                  </a:lnTo>
                  <a:lnTo>
                    <a:pt x="3701" y="4"/>
                  </a:lnTo>
                  <a:lnTo>
                    <a:pt x="3648" y="1"/>
                  </a:lnTo>
                  <a:lnTo>
                    <a:pt x="3593" y="1"/>
                  </a:lnTo>
                  <a:lnTo>
                    <a:pt x="3538" y="3"/>
                  </a:lnTo>
                  <a:lnTo>
                    <a:pt x="3481" y="10"/>
                  </a:lnTo>
                  <a:lnTo>
                    <a:pt x="3423" y="20"/>
                  </a:lnTo>
                  <a:lnTo>
                    <a:pt x="3363" y="34"/>
                  </a:lnTo>
                  <a:lnTo>
                    <a:pt x="3302" y="50"/>
                  </a:lnTo>
                  <a:lnTo>
                    <a:pt x="3239" y="71"/>
                  </a:lnTo>
                  <a:lnTo>
                    <a:pt x="3175" y="95"/>
                  </a:lnTo>
                  <a:lnTo>
                    <a:pt x="3109" y="123"/>
                  </a:lnTo>
                  <a:lnTo>
                    <a:pt x="3043" y="154"/>
                  </a:lnTo>
                  <a:lnTo>
                    <a:pt x="2974" y="190"/>
                  </a:lnTo>
                  <a:lnTo>
                    <a:pt x="2903" y="229"/>
                  </a:lnTo>
                  <a:lnTo>
                    <a:pt x="2832" y="272"/>
                  </a:lnTo>
                  <a:lnTo>
                    <a:pt x="2760" y="319"/>
                  </a:lnTo>
                  <a:lnTo>
                    <a:pt x="2684" y="371"/>
                  </a:lnTo>
                  <a:lnTo>
                    <a:pt x="2608" y="426"/>
                  </a:lnTo>
                  <a:lnTo>
                    <a:pt x="2529" y="484"/>
                  </a:lnTo>
                  <a:lnTo>
                    <a:pt x="2451" y="426"/>
                  </a:lnTo>
                  <a:lnTo>
                    <a:pt x="2375" y="371"/>
                  </a:lnTo>
                  <a:lnTo>
                    <a:pt x="2300" y="319"/>
                  </a:lnTo>
                  <a:lnTo>
                    <a:pt x="2228" y="272"/>
                  </a:lnTo>
                  <a:lnTo>
                    <a:pt x="2155" y="229"/>
                  </a:lnTo>
                  <a:lnTo>
                    <a:pt x="2086" y="189"/>
                  </a:lnTo>
                  <a:lnTo>
                    <a:pt x="2017" y="154"/>
                  </a:lnTo>
                  <a:lnTo>
                    <a:pt x="1950" y="123"/>
                  </a:lnTo>
                  <a:lnTo>
                    <a:pt x="1885" y="95"/>
                  </a:lnTo>
                  <a:lnTo>
                    <a:pt x="1821" y="71"/>
                  </a:lnTo>
                  <a:lnTo>
                    <a:pt x="1759" y="50"/>
                  </a:lnTo>
                  <a:lnTo>
                    <a:pt x="1698" y="34"/>
                  </a:lnTo>
                  <a:lnTo>
                    <a:pt x="1638" y="20"/>
                  </a:lnTo>
                  <a:lnTo>
                    <a:pt x="1580" y="10"/>
                  </a:lnTo>
                  <a:lnTo>
                    <a:pt x="1523" y="3"/>
                  </a:lnTo>
                  <a:lnTo>
                    <a:pt x="1466" y="0"/>
                  </a:lnTo>
                  <a:lnTo>
                    <a:pt x="1413" y="1"/>
                  </a:lnTo>
                  <a:lnTo>
                    <a:pt x="1359" y="4"/>
                  </a:lnTo>
                  <a:lnTo>
                    <a:pt x="1306" y="11"/>
                  </a:lnTo>
                  <a:lnTo>
                    <a:pt x="1256" y="21"/>
                  </a:lnTo>
                  <a:lnTo>
                    <a:pt x="1206" y="34"/>
                  </a:lnTo>
                  <a:lnTo>
                    <a:pt x="1158" y="50"/>
                  </a:lnTo>
                  <a:lnTo>
                    <a:pt x="1110" y="70"/>
                  </a:lnTo>
                  <a:lnTo>
                    <a:pt x="1063" y="92"/>
                  </a:lnTo>
                  <a:lnTo>
                    <a:pt x="1017" y="118"/>
                  </a:lnTo>
                  <a:lnTo>
                    <a:pt x="973" y="146"/>
                  </a:lnTo>
                  <a:lnTo>
                    <a:pt x="930" y="178"/>
                  </a:lnTo>
                  <a:lnTo>
                    <a:pt x="886" y="211"/>
                  </a:lnTo>
                  <a:lnTo>
                    <a:pt x="845" y="249"/>
                  </a:lnTo>
                  <a:lnTo>
                    <a:pt x="805" y="287"/>
                  </a:lnTo>
                  <a:lnTo>
                    <a:pt x="765" y="331"/>
                  </a:lnTo>
                  <a:lnTo>
                    <a:pt x="725" y="375"/>
                  </a:lnTo>
                  <a:lnTo>
                    <a:pt x="649" y="473"/>
                  </a:lnTo>
                  <a:lnTo>
                    <a:pt x="577" y="583"/>
                  </a:lnTo>
                  <a:lnTo>
                    <a:pt x="509" y="702"/>
                  </a:lnTo>
                  <a:lnTo>
                    <a:pt x="446" y="831"/>
                  </a:lnTo>
                  <a:lnTo>
                    <a:pt x="385" y="969"/>
                  </a:lnTo>
                  <a:lnTo>
                    <a:pt x="330" y="1117"/>
                  </a:lnTo>
                  <a:lnTo>
                    <a:pt x="278" y="1272"/>
                  </a:lnTo>
                  <a:lnTo>
                    <a:pt x="232" y="1435"/>
                  </a:lnTo>
                  <a:lnTo>
                    <a:pt x="188" y="1607"/>
                  </a:lnTo>
                  <a:lnTo>
                    <a:pt x="149" y="1785"/>
                  </a:lnTo>
                  <a:lnTo>
                    <a:pt x="114" y="1970"/>
                  </a:lnTo>
                  <a:lnTo>
                    <a:pt x="83" y="2162"/>
                  </a:lnTo>
                  <a:lnTo>
                    <a:pt x="56" y="2360"/>
                  </a:lnTo>
                  <a:lnTo>
                    <a:pt x="33" y="2563"/>
                  </a:lnTo>
                  <a:lnTo>
                    <a:pt x="14" y="2772"/>
                  </a:lnTo>
                  <a:lnTo>
                    <a:pt x="0" y="2986"/>
                  </a:lnTo>
                  <a:lnTo>
                    <a:pt x="0" y="3075"/>
                  </a:lnTo>
                  <a:lnTo>
                    <a:pt x="1" y="3165"/>
                  </a:lnTo>
                  <a:lnTo>
                    <a:pt x="5" y="3257"/>
                  </a:lnTo>
                  <a:lnTo>
                    <a:pt x="11" y="3352"/>
                  </a:lnTo>
                  <a:lnTo>
                    <a:pt x="19" y="3448"/>
                  </a:lnTo>
                  <a:lnTo>
                    <a:pt x="28" y="3545"/>
                  </a:lnTo>
                  <a:lnTo>
                    <a:pt x="39" y="3644"/>
                  </a:lnTo>
                  <a:lnTo>
                    <a:pt x="53" y="3745"/>
                  </a:lnTo>
                  <a:lnTo>
                    <a:pt x="67" y="3846"/>
                  </a:lnTo>
                  <a:lnTo>
                    <a:pt x="84" y="3949"/>
                  </a:lnTo>
                  <a:lnTo>
                    <a:pt x="102" y="4053"/>
                  </a:lnTo>
                  <a:lnTo>
                    <a:pt x="122" y="4159"/>
                  </a:lnTo>
                  <a:lnTo>
                    <a:pt x="144" y="4265"/>
                  </a:lnTo>
                  <a:lnTo>
                    <a:pt x="167" y="4372"/>
                  </a:lnTo>
                  <a:lnTo>
                    <a:pt x="192" y="4479"/>
                  </a:lnTo>
                  <a:lnTo>
                    <a:pt x="218" y="4588"/>
                  </a:lnTo>
                  <a:lnTo>
                    <a:pt x="246" y="4697"/>
                  </a:lnTo>
                  <a:lnTo>
                    <a:pt x="275" y="4807"/>
                  </a:lnTo>
                  <a:lnTo>
                    <a:pt x="304" y="4917"/>
                  </a:lnTo>
                  <a:lnTo>
                    <a:pt x="337" y="5026"/>
                  </a:lnTo>
                  <a:lnTo>
                    <a:pt x="370" y="5138"/>
                  </a:lnTo>
                  <a:lnTo>
                    <a:pt x="404" y="5248"/>
                  </a:lnTo>
                  <a:lnTo>
                    <a:pt x="439" y="5359"/>
                  </a:lnTo>
                  <a:lnTo>
                    <a:pt x="476" y="5469"/>
                  </a:lnTo>
                  <a:lnTo>
                    <a:pt x="513" y="5578"/>
                  </a:lnTo>
                  <a:lnTo>
                    <a:pt x="552" y="5688"/>
                  </a:lnTo>
                  <a:lnTo>
                    <a:pt x="592" y="5798"/>
                  </a:lnTo>
                  <a:lnTo>
                    <a:pt x="633" y="5908"/>
                  </a:lnTo>
                  <a:lnTo>
                    <a:pt x="674" y="6017"/>
                  </a:lnTo>
                  <a:lnTo>
                    <a:pt x="717" y="6125"/>
                  </a:lnTo>
                  <a:lnTo>
                    <a:pt x="760" y="6232"/>
                  </a:lnTo>
                  <a:lnTo>
                    <a:pt x="805" y="6339"/>
                  </a:lnTo>
                  <a:lnTo>
                    <a:pt x="849" y="6444"/>
                  </a:lnTo>
                  <a:lnTo>
                    <a:pt x="895" y="6548"/>
                  </a:lnTo>
                  <a:lnTo>
                    <a:pt x="939" y="6651"/>
                  </a:lnTo>
                  <a:lnTo>
                    <a:pt x="985" y="6753"/>
                  </a:lnTo>
                  <a:lnTo>
                    <a:pt x="1031" y="6853"/>
                  </a:lnTo>
                  <a:lnTo>
                    <a:pt x="1077" y="6953"/>
                  </a:lnTo>
                  <a:lnTo>
                    <a:pt x="1123" y="7051"/>
                  </a:lnTo>
                  <a:lnTo>
                    <a:pt x="1168" y="7148"/>
                  </a:lnTo>
                  <a:lnTo>
                    <a:pt x="1215" y="7244"/>
                  </a:lnTo>
                  <a:lnTo>
                    <a:pt x="1261" y="7337"/>
                  </a:lnTo>
                  <a:lnTo>
                    <a:pt x="1306" y="7429"/>
                  </a:lnTo>
                  <a:lnTo>
                    <a:pt x="1352" y="7520"/>
                  </a:lnTo>
                  <a:lnTo>
                    <a:pt x="1397" y="7608"/>
                  </a:lnTo>
                  <a:lnTo>
                    <a:pt x="1443" y="7694"/>
                  </a:lnTo>
                  <a:lnTo>
                    <a:pt x="1487" y="7778"/>
                  </a:lnTo>
                  <a:lnTo>
                    <a:pt x="1532" y="7861"/>
                  </a:lnTo>
                  <a:lnTo>
                    <a:pt x="1576" y="7941"/>
                  </a:lnTo>
                  <a:lnTo>
                    <a:pt x="1620" y="8019"/>
                  </a:lnTo>
                  <a:lnTo>
                    <a:pt x="1663" y="8094"/>
                  </a:lnTo>
                  <a:lnTo>
                    <a:pt x="1706" y="8168"/>
                  </a:lnTo>
                  <a:lnTo>
                    <a:pt x="1748" y="8238"/>
                  </a:lnTo>
                  <a:lnTo>
                    <a:pt x="1789" y="8307"/>
                  </a:lnTo>
                  <a:lnTo>
                    <a:pt x="1830" y="8371"/>
                  </a:lnTo>
                  <a:lnTo>
                    <a:pt x="1870" y="8434"/>
                  </a:lnTo>
                  <a:lnTo>
                    <a:pt x="1908" y="8494"/>
                  </a:lnTo>
                  <a:lnTo>
                    <a:pt x="1947" y="8551"/>
                  </a:lnTo>
                  <a:lnTo>
                    <a:pt x="1984" y="8605"/>
                  </a:lnTo>
                  <a:lnTo>
                    <a:pt x="2021" y="8656"/>
                  </a:lnTo>
                  <a:lnTo>
                    <a:pt x="2057" y="8703"/>
                  </a:lnTo>
                  <a:lnTo>
                    <a:pt x="2091" y="8748"/>
                  </a:lnTo>
                  <a:lnTo>
                    <a:pt x="2124" y="8789"/>
                  </a:lnTo>
                  <a:lnTo>
                    <a:pt x="2156" y="8826"/>
                  </a:lnTo>
                  <a:lnTo>
                    <a:pt x="2180" y="8827"/>
                  </a:lnTo>
                  <a:lnTo>
                    <a:pt x="2204" y="8827"/>
                  </a:lnTo>
                  <a:lnTo>
                    <a:pt x="2228" y="8829"/>
                  </a:lnTo>
                  <a:lnTo>
                    <a:pt x="2252" y="8830"/>
                  </a:lnTo>
                  <a:lnTo>
                    <a:pt x="2276" y="8831"/>
                  </a:lnTo>
                  <a:lnTo>
                    <a:pt x="2299" y="8831"/>
                  </a:lnTo>
                  <a:lnTo>
                    <a:pt x="2323" y="8832"/>
                  </a:lnTo>
                  <a:lnTo>
                    <a:pt x="2347" y="8833"/>
                  </a:lnTo>
                  <a:lnTo>
                    <a:pt x="2370" y="8834"/>
                  </a:lnTo>
                  <a:lnTo>
                    <a:pt x="2394" y="8834"/>
                  </a:lnTo>
                  <a:lnTo>
                    <a:pt x="2418" y="8836"/>
                  </a:lnTo>
                  <a:lnTo>
                    <a:pt x="2442" y="8837"/>
                  </a:lnTo>
                  <a:lnTo>
                    <a:pt x="2465" y="8837"/>
                  </a:lnTo>
                  <a:lnTo>
                    <a:pt x="2488" y="8838"/>
                  </a:lnTo>
                  <a:lnTo>
                    <a:pt x="2513" y="8838"/>
                  </a:lnTo>
                  <a:lnTo>
                    <a:pt x="2536" y="8839"/>
                  </a:lnTo>
                  <a:close/>
                </a:path>
              </a:pathLst>
            </a:custGeom>
            <a:solidFill>
              <a:srgbClr val="f3f3f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779480" y="2271960"/>
              <a:ext cx="621000" cy="2459880"/>
            </a:xfrm>
            <a:custGeom>
              <a:avLst/>
              <a:gdLst/>
              <a:ahLst/>
              <a:rect l="l" t="t" r="r" b="b"/>
              <a:pathLst>
                <a:path w="2296" h="9035">
                  <a:moveTo>
                    <a:pt x="1167" y="9035"/>
                  </a:moveTo>
                  <a:lnTo>
                    <a:pt x="1188" y="9034"/>
                  </a:lnTo>
                  <a:lnTo>
                    <a:pt x="1209" y="9033"/>
                  </a:lnTo>
                  <a:lnTo>
                    <a:pt x="1231" y="9032"/>
                  </a:lnTo>
                  <a:lnTo>
                    <a:pt x="1252" y="9030"/>
                  </a:lnTo>
                  <a:lnTo>
                    <a:pt x="1274" y="9029"/>
                  </a:lnTo>
                  <a:lnTo>
                    <a:pt x="1295" y="9027"/>
                  </a:lnTo>
                  <a:lnTo>
                    <a:pt x="1318" y="9026"/>
                  </a:lnTo>
                  <a:lnTo>
                    <a:pt x="1339" y="9025"/>
                  </a:lnTo>
                  <a:lnTo>
                    <a:pt x="1368" y="8944"/>
                  </a:lnTo>
                  <a:lnTo>
                    <a:pt x="1399" y="8850"/>
                  </a:lnTo>
                  <a:lnTo>
                    <a:pt x="1432" y="8744"/>
                  </a:lnTo>
                  <a:lnTo>
                    <a:pt x="1466" y="8625"/>
                  </a:lnTo>
                  <a:lnTo>
                    <a:pt x="1502" y="8495"/>
                  </a:lnTo>
                  <a:lnTo>
                    <a:pt x="1539" y="8353"/>
                  </a:lnTo>
                  <a:lnTo>
                    <a:pt x="1577" y="8202"/>
                  </a:lnTo>
                  <a:lnTo>
                    <a:pt x="1616" y="8041"/>
                  </a:lnTo>
                  <a:lnTo>
                    <a:pt x="1656" y="7871"/>
                  </a:lnTo>
                  <a:lnTo>
                    <a:pt x="1695" y="7694"/>
                  </a:lnTo>
                  <a:lnTo>
                    <a:pt x="1735" y="7509"/>
                  </a:lnTo>
                  <a:lnTo>
                    <a:pt x="1776" y="7317"/>
                  </a:lnTo>
                  <a:lnTo>
                    <a:pt x="1817" y="7119"/>
                  </a:lnTo>
                  <a:lnTo>
                    <a:pt x="1858" y="6917"/>
                  </a:lnTo>
                  <a:lnTo>
                    <a:pt x="1898" y="6709"/>
                  </a:lnTo>
                  <a:lnTo>
                    <a:pt x="1937" y="6497"/>
                  </a:lnTo>
                  <a:lnTo>
                    <a:pt x="1976" y="6282"/>
                  </a:lnTo>
                  <a:lnTo>
                    <a:pt x="2013" y="6065"/>
                  </a:lnTo>
                  <a:lnTo>
                    <a:pt x="2050" y="5846"/>
                  </a:lnTo>
                  <a:lnTo>
                    <a:pt x="2084" y="5625"/>
                  </a:lnTo>
                  <a:lnTo>
                    <a:pt x="2116" y="5404"/>
                  </a:lnTo>
                  <a:lnTo>
                    <a:pt x="2147" y="5183"/>
                  </a:lnTo>
                  <a:lnTo>
                    <a:pt x="2174" y="4962"/>
                  </a:lnTo>
                  <a:lnTo>
                    <a:pt x="2199" y="4743"/>
                  </a:lnTo>
                  <a:lnTo>
                    <a:pt x="2223" y="4527"/>
                  </a:lnTo>
                  <a:lnTo>
                    <a:pt x="2243" y="4314"/>
                  </a:lnTo>
                  <a:lnTo>
                    <a:pt x="2259" y="4104"/>
                  </a:lnTo>
                  <a:lnTo>
                    <a:pt x="2273" y="3899"/>
                  </a:lnTo>
                  <a:lnTo>
                    <a:pt x="2285" y="3699"/>
                  </a:lnTo>
                  <a:lnTo>
                    <a:pt x="2292" y="3504"/>
                  </a:lnTo>
                  <a:lnTo>
                    <a:pt x="2296" y="3316"/>
                  </a:lnTo>
                  <a:lnTo>
                    <a:pt x="2296" y="3136"/>
                  </a:lnTo>
                  <a:lnTo>
                    <a:pt x="2290" y="2923"/>
                  </a:lnTo>
                  <a:lnTo>
                    <a:pt x="2283" y="2718"/>
                  </a:lnTo>
                  <a:lnTo>
                    <a:pt x="2276" y="2522"/>
                  </a:lnTo>
                  <a:lnTo>
                    <a:pt x="2268" y="2334"/>
                  </a:lnTo>
                  <a:lnTo>
                    <a:pt x="2259" y="2154"/>
                  </a:lnTo>
                  <a:lnTo>
                    <a:pt x="2248" y="1981"/>
                  </a:lnTo>
                  <a:lnTo>
                    <a:pt x="2237" y="1817"/>
                  </a:lnTo>
                  <a:lnTo>
                    <a:pt x="2223" y="1660"/>
                  </a:lnTo>
                  <a:lnTo>
                    <a:pt x="2209" y="1512"/>
                  </a:lnTo>
                  <a:lnTo>
                    <a:pt x="2192" y="1370"/>
                  </a:lnTo>
                  <a:lnTo>
                    <a:pt x="2175" y="1236"/>
                  </a:lnTo>
                  <a:lnTo>
                    <a:pt x="2155" y="1109"/>
                  </a:lnTo>
                  <a:lnTo>
                    <a:pt x="2133" y="991"/>
                  </a:lnTo>
                  <a:lnTo>
                    <a:pt x="2109" y="879"/>
                  </a:lnTo>
                  <a:lnTo>
                    <a:pt x="2082" y="775"/>
                  </a:lnTo>
                  <a:lnTo>
                    <a:pt x="2054" y="678"/>
                  </a:lnTo>
                  <a:lnTo>
                    <a:pt x="2039" y="632"/>
                  </a:lnTo>
                  <a:lnTo>
                    <a:pt x="2024" y="588"/>
                  </a:lnTo>
                  <a:lnTo>
                    <a:pt x="2007" y="545"/>
                  </a:lnTo>
                  <a:lnTo>
                    <a:pt x="1991" y="505"/>
                  </a:lnTo>
                  <a:lnTo>
                    <a:pt x="1974" y="466"/>
                  </a:lnTo>
                  <a:lnTo>
                    <a:pt x="1956" y="429"/>
                  </a:lnTo>
                  <a:lnTo>
                    <a:pt x="1939" y="392"/>
                  </a:lnTo>
                  <a:lnTo>
                    <a:pt x="1919" y="358"/>
                  </a:lnTo>
                  <a:lnTo>
                    <a:pt x="1899" y="327"/>
                  </a:lnTo>
                  <a:lnTo>
                    <a:pt x="1879" y="296"/>
                  </a:lnTo>
                  <a:lnTo>
                    <a:pt x="1858" y="267"/>
                  </a:lnTo>
                  <a:lnTo>
                    <a:pt x="1836" y="239"/>
                  </a:lnTo>
                  <a:lnTo>
                    <a:pt x="1813" y="213"/>
                  </a:lnTo>
                  <a:lnTo>
                    <a:pt x="1790" y="189"/>
                  </a:lnTo>
                  <a:lnTo>
                    <a:pt x="1765" y="167"/>
                  </a:lnTo>
                  <a:lnTo>
                    <a:pt x="1741" y="145"/>
                  </a:lnTo>
                  <a:lnTo>
                    <a:pt x="1715" y="126"/>
                  </a:lnTo>
                  <a:lnTo>
                    <a:pt x="1688" y="108"/>
                  </a:lnTo>
                  <a:lnTo>
                    <a:pt x="1661" y="91"/>
                  </a:lnTo>
                  <a:lnTo>
                    <a:pt x="1633" y="75"/>
                  </a:lnTo>
                  <a:lnTo>
                    <a:pt x="1603" y="61"/>
                  </a:lnTo>
                  <a:lnTo>
                    <a:pt x="1574" y="50"/>
                  </a:lnTo>
                  <a:lnTo>
                    <a:pt x="1542" y="39"/>
                  </a:lnTo>
                  <a:lnTo>
                    <a:pt x="1509" y="30"/>
                  </a:lnTo>
                  <a:lnTo>
                    <a:pt x="1477" y="22"/>
                  </a:lnTo>
                  <a:lnTo>
                    <a:pt x="1443" y="15"/>
                  </a:lnTo>
                  <a:lnTo>
                    <a:pt x="1408" y="9"/>
                  </a:lnTo>
                  <a:lnTo>
                    <a:pt x="1371" y="5"/>
                  </a:lnTo>
                  <a:lnTo>
                    <a:pt x="1334" y="2"/>
                  </a:lnTo>
                  <a:lnTo>
                    <a:pt x="1295" y="0"/>
                  </a:lnTo>
                  <a:lnTo>
                    <a:pt x="1256" y="0"/>
                  </a:lnTo>
                  <a:lnTo>
                    <a:pt x="1215" y="2"/>
                  </a:lnTo>
                  <a:lnTo>
                    <a:pt x="1171" y="4"/>
                  </a:lnTo>
                  <a:lnTo>
                    <a:pt x="1129" y="7"/>
                  </a:lnTo>
                  <a:lnTo>
                    <a:pt x="1088" y="12"/>
                  </a:lnTo>
                  <a:lnTo>
                    <a:pt x="1049" y="18"/>
                  </a:lnTo>
                  <a:lnTo>
                    <a:pt x="1010" y="25"/>
                  </a:lnTo>
                  <a:lnTo>
                    <a:pt x="972" y="33"/>
                  </a:lnTo>
                  <a:lnTo>
                    <a:pt x="935" y="43"/>
                  </a:lnTo>
                  <a:lnTo>
                    <a:pt x="899" y="52"/>
                  </a:lnTo>
                  <a:lnTo>
                    <a:pt x="864" y="64"/>
                  </a:lnTo>
                  <a:lnTo>
                    <a:pt x="830" y="76"/>
                  </a:lnTo>
                  <a:lnTo>
                    <a:pt x="797" y="91"/>
                  </a:lnTo>
                  <a:lnTo>
                    <a:pt x="766" y="106"/>
                  </a:lnTo>
                  <a:lnTo>
                    <a:pt x="734" y="123"/>
                  </a:lnTo>
                  <a:lnTo>
                    <a:pt x="704" y="141"/>
                  </a:lnTo>
                  <a:lnTo>
                    <a:pt x="675" y="160"/>
                  </a:lnTo>
                  <a:lnTo>
                    <a:pt x="646" y="181"/>
                  </a:lnTo>
                  <a:lnTo>
                    <a:pt x="618" y="203"/>
                  </a:lnTo>
                  <a:lnTo>
                    <a:pt x="591" y="226"/>
                  </a:lnTo>
                  <a:lnTo>
                    <a:pt x="566" y="251"/>
                  </a:lnTo>
                  <a:lnTo>
                    <a:pt x="540" y="276"/>
                  </a:lnTo>
                  <a:lnTo>
                    <a:pt x="515" y="305"/>
                  </a:lnTo>
                  <a:lnTo>
                    <a:pt x="492" y="334"/>
                  </a:lnTo>
                  <a:lnTo>
                    <a:pt x="469" y="364"/>
                  </a:lnTo>
                  <a:lnTo>
                    <a:pt x="447" y="396"/>
                  </a:lnTo>
                  <a:lnTo>
                    <a:pt x="425" y="430"/>
                  </a:lnTo>
                  <a:lnTo>
                    <a:pt x="404" y="465"/>
                  </a:lnTo>
                  <a:lnTo>
                    <a:pt x="383" y="501"/>
                  </a:lnTo>
                  <a:lnTo>
                    <a:pt x="363" y="540"/>
                  </a:lnTo>
                  <a:lnTo>
                    <a:pt x="345" y="579"/>
                  </a:lnTo>
                  <a:lnTo>
                    <a:pt x="326" y="622"/>
                  </a:lnTo>
                  <a:lnTo>
                    <a:pt x="309" y="665"/>
                  </a:lnTo>
                  <a:lnTo>
                    <a:pt x="291" y="709"/>
                  </a:lnTo>
                  <a:lnTo>
                    <a:pt x="258" y="805"/>
                  </a:lnTo>
                  <a:lnTo>
                    <a:pt x="227" y="907"/>
                  </a:lnTo>
                  <a:lnTo>
                    <a:pt x="199" y="1017"/>
                  </a:lnTo>
                  <a:lnTo>
                    <a:pt x="173" y="1133"/>
                  </a:lnTo>
                  <a:lnTo>
                    <a:pt x="150" y="1257"/>
                  </a:lnTo>
                  <a:lnTo>
                    <a:pt x="127" y="1388"/>
                  </a:lnTo>
                  <a:lnTo>
                    <a:pt x="107" y="1527"/>
                  </a:lnTo>
                  <a:lnTo>
                    <a:pt x="90" y="1673"/>
                  </a:lnTo>
                  <a:lnTo>
                    <a:pt x="74" y="1827"/>
                  </a:lnTo>
                  <a:lnTo>
                    <a:pt x="59" y="1990"/>
                  </a:lnTo>
                  <a:lnTo>
                    <a:pt x="45" y="2159"/>
                  </a:lnTo>
                  <a:lnTo>
                    <a:pt x="34" y="2338"/>
                  </a:lnTo>
                  <a:lnTo>
                    <a:pt x="24" y="2526"/>
                  </a:lnTo>
                  <a:lnTo>
                    <a:pt x="15" y="2721"/>
                  </a:lnTo>
                  <a:lnTo>
                    <a:pt x="7" y="2924"/>
                  </a:lnTo>
                  <a:lnTo>
                    <a:pt x="0" y="3137"/>
                  </a:lnTo>
                  <a:lnTo>
                    <a:pt x="0" y="3317"/>
                  </a:lnTo>
                  <a:lnTo>
                    <a:pt x="3" y="3506"/>
                  </a:lnTo>
                  <a:lnTo>
                    <a:pt x="12" y="3700"/>
                  </a:lnTo>
                  <a:lnTo>
                    <a:pt x="22" y="3900"/>
                  </a:lnTo>
                  <a:lnTo>
                    <a:pt x="36" y="4104"/>
                  </a:lnTo>
                  <a:lnTo>
                    <a:pt x="54" y="4314"/>
                  </a:lnTo>
                  <a:lnTo>
                    <a:pt x="74" y="4528"/>
                  </a:lnTo>
                  <a:lnTo>
                    <a:pt x="97" y="4744"/>
                  </a:lnTo>
                  <a:lnTo>
                    <a:pt x="123" y="4963"/>
                  </a:lnTo>
                  <a:lnTo>
                    <a:pt x="151" y="5183"/>
                  </a:lnTo>
                  <a:lnTo>
                    <a:pt x="181" y="5404"/>
                  </a:lnTo>
                  <a:lnTo>
                    <a:pt x="215" y="5625"/>
                  </a:lnTo>
                  <a:lnTo>
                    <a:pt x="250" y="5846"/>
                  </a:lnTo>
                  <a:lnTo>
                    <a:pt x="286" y="6066"/>
                  </a:lnTo>
                  <a:lnTo>
                    <a:pt x="325" y="6283"/>
                  </a:lnTo>
                  <a:lnTo>
                    <a:pt x="366" y="6498"/>
                  </a:lnTo>
                  <a:lnTo>
                    <a:pt x="407" y="6710"/>
                  </a:lnTo>
                  <a:lnTo>
                    <a:pt x="449" y="6917"/>
                  </a:lnTo>
                  <a:lnTo>
                    <a:pt x="492" y="7121"/>
                  </a:lnTo>
                  <a:lnTo>
                    <a:pt x="534" y="7318"/>
                  </a:lnTo>
                  <a:lnTo>
                    <a:pt x="576" y="7509"/>
                  </a:lnTo>
                  <a:lnTo>
                    <a:pt x="620" y="7695"/>
                  </a:lnTo>
                  <a:lnTo>
                    <a:pt x="662" y="7871"/>
                  </a:lnTo>
                  <a:lnTo>
                    <a:pt x="703" y="8041"/>
                  </a:lnTo>
                  <a:lnTo>
                    <a:pt x="744" y="8202"/>
                  </a:lnTo>
                  <a:lnTo>
                    <a:pt x="783" y="8353"/>
                  </a:lnTo>
                  <a:lnTo>
                    <a:pt x="822" y="8495"/>
                  </a:lnTo>
                  <a:lnTo>
                    <a:pt x="859" y="8625"/>
                  </a:lnTo>
                  <a:lnTo>
                    <a:pt x="896" y="8744"/>
                  </a:lnTo>
                  <a:lnTo>
                    <a:pt x="929" y="8850"/>
                  </a:lnTo>
                  <a:lnTo>
                    <a:pt x="962" y="8944"/>
                  </a:lnTo>
                  <a:lnTo>
                    <a:pt x="993" y="9025"/>
                  </a:lnTo>
                  <a:lnTo>
                    <a:pt x="1015" y="9026"/>
                  </a:lnTo>
                  <a:lnTo>
                    <a:pt x="1036" y="9027"/>
                  </a:lnTo>
                  <a:lnTo>
                    <a:pt x="1058" y="9029"/>
                  </a:lnTo>
                  <a:lnTo>
                    <a:pt x="1080" y="9030"/>
                  </a:lnTo>
                  <a:lnTo>
                    <a:pt x="1101" y="9032"/>
                  </a:lnTo>
                  <a:lnTo>
                    <a:pt x="1124" y="9033"/>
                  </a:lnTo>
                  <a:lnTo>
                    <a:pt x="1145" y="9034"/>
                  </a:lnTo>
                  <a:lnTo>
                    <a:pt x="1167" y="9035"/>
                  </a:lnTo>
                  <a:close/>
                </a:path>
              </a:pathLst>
            </a:custGeom>
            <a:solidFill>
              <a:srgbClr val="b2b2b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3045960" y="3524400"/>
              <a:ext cx="67320" cy="205560"/>
            </a:xfrm>
            <a:custGeom>
              <a:avLst/>
              <a:gdLst/>
              <a:ahLst/>
              <a:rect l="l" t="t" r="r" b="b"/>
              <a:pathLst>
                <a:path w="249" h="755">
                  <a:moveTo>
                    <a:pt x="0" y="755"/>
                  </a:moveTo>
                  <a:lnTo>
                    <a:pt x="21" y="720"/>
                  </a:lnTo>
                  <a:lnTo>
                    <a:pt x="38" y="686"/>
                  </a:lnTo>
                  <a:lnTo>
                    <a:pt x="52" y="655"/>
                  </a:lnTo>
                  <a:lnTo>
                    <a:pt x="64" y="626"/>
                  </a:lnTo>
                  <a:lnTo>
                    <a:pt x="72" y="600"/>
                  </a:lnTo>
                  <a:lnTo>
                    <a:pt x="79" y="576"/>
                  </a:lnTo>
                  <a:lnTo>
                    <a:pt x="82" y="553"/>
                  </a:lnTo>
                  <a:lnTo>
                    <a:pt x="83" y="532"/>
                  </a:lnTo>
                  <a:lnTo>
                    <a:pt x="106" y="459"/>
                  </a:lnTo>
                  <a:lnTo>
                    <a:pt x="128" y="387"/>
                  </a:lnTo>
                  <a:lnTo>
                    <a:pt x="148" y="318"/>
                  </a:lnTo>
                  <a:lnTo>
                    <a:pt x="167" y="251"/>
                  </a:lnTo>
                  <a:lnTo>
                    <a:pt x="183" y="185"/>
                  </a:lnTo>
                  <a:lnTo>
                    <a:pt x="199" y="122"/>
                  </a:lnTo>
                  <a:lnTo>
                    <a:pt x="211" y="60"/>
                  </a:lnTo>
                  <a:lnTo>
                    <a:pt x="223" y="0"/>
                  </a:lnTo>
                  <a:lnTo>
                    <a:pt x="240" y="34"/>
                  </a:lnTo>
                  <a:lnTo>
                    <a:pt x="248" y="75"/>
                  </a:lnTo>
                  <a:lnTo>
                    <a:pt x="249" y="124"/>
                  </a:lnTo>
                  <a:lnTo>
                    <a:pt x="240" y="182"/>
                  </a:lnTo>
                  <a:lnTo>
                    <a:pt x="221" y="248"/>
                  </a:lnTo>
                  <a:lnTo>
                    <a:pt x="192" y="327"/>
                  </a:lnTo>
                  <a:lnTo>
                    <a:pt x="151" y="415"/>
                  </a:lnTo>
                  <a:lnTo>
                    <a:pt x="98" y="517"/>
                  </a:lnTo>
                  <a:lnTo>
                    <a:pt x="93" y="528"/>
                  </a:lnTo>
                  <a:lnTo>
                    <a:pt x="89" y="537"/>
                  </a:lnTo>
                  <a:lnTo>
                    <a:pt x="84" y="548"/>
                  </a:lnTo>
                  <a:lnTo>
                    <a:pt x="79" y="557"/>
                  </a:lnTo>
                  <a:lnTo>
                    <a:pt x="73" y="567"/>
                  </a:lnTo>
                  <a:lnTo>
                    <a:pt x="69" y="577"/>
                  </a:lnTo>
                  <a:lnTo>
                    <a:pt x="64" y="587"/>
                  </a:lnTo>
                  <a:lnTo>
                    <a:pt x="59" y="597"/>
                  </a:lnTo>
                  <a:lnTo>
                    <a:pt x="56" y="608"/>
                  </a:lnTo>
                  <a:lnTo>
                    <a:pt x="51" y="621"/>
                  </a:lnTo>
                  <a:lnTo>
                    <a:pt x="45" y="638"/>
                  </a:lnTo>
                  <a:lnTo>
                    <a:pt x="38" y="656"/>
                  </a:lnTo>
                  <a:lnTo>
                    <a:pt x="30" y="677"/>
                  </a:lnTo>
                  <a:lnTo>
                    <a:pt x="21" y="701"/>
                  </a:lnTo>
                  <a:lnTo>
                    <a:pt x="12" y="727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029760" y="3686760"/>
              <a:ext cx="32400" cy="67680"/>
            </a:xfrm>
            <a:custGeom>
              <a:avLst/>
              <a:gdLst/>
              <a:ahLst/>
              <a:rect l="l" t="t" r="r" b="b"/>
              <a:pathLst>
                <a:path w="121" h="252">
                  <a:moveTo>
                    <a:pt x="62" y="158"/>
                  </a:moveTo>
                  <a:lnTo>
                    <a:pt x="55" y="168"/>
                  </a:lnTo>
                  <a:lnTo>
                    <a:pt x="48" y="180"/>
                  </a:lnTo>
                  <a:lnTo>
                    <a:pt x="41" y="192"/>
                  </a:lnTo>
                  <a:lnTo>
                    <a:pt x="34" y="203"/>
                  </a:lnTo>
                  <a:lnTo>
                    <a:pt x="26" y="215"/>
                  </a:lnTo>
                  <a:lnTo>
                    <a:pt x="17" y="228"/>
                  </a:lnTo>
                  <a:lnTo>
                    <a:pt x="9" y="239"/>
                  </a:lnTo>
                  <a:lnTo>
                    <a:pt x="0" y="252"/>
                  </a:lnTo>
                  <a:lnTo>
                    <a:pt x="15" y="221"/>
                  </a:lnTo>
                  <a:lnTo>
                    <a:pt x="30" y="189"/>
                  </a:lnTo>
                  <a:lnTo>
                    <a:pt x="45" y="158"/>
                  </a:lnTo>
                  <a:lnTo>
                    <a:pt x="61" y="126"/>
                  </a:lnTo>
                  <a:lnTo>
                    <a:pt x="76" y="94"/>
                  </a:lnTo>
                  <a:lnTo>
                    <a:pt x="91" y="63"/>
                  </a:lnTo>
                  <a:lnTo>
                    <a:pt x="106" y="31"/>
                  </a:lnTo>
                  <a:lnTo>
                    <a:pt x="121" y="0"/>
                  </a:lnTo>
                  <a:lnTo>
                    <a:pt x="118" y="11"/>
                  </a:lnTo>
                  <a:lnTo>
                    <a:pt x="113" y="24"/>
                  </a:lnTo>
                  <a:lnTo>
                    <a:pt x="107" y="41"/>
                  </a:lnTo>
                  <a:lnTo>
                    <a:pt x="100" y="59"/>
                  </a:lnTo>
                  <a:lnTo>
                    <a:pt x="92" y="80"/>
                  </a:lnTo>
                  <a:lnTo>
                    <a:pt x="83" y="104"/>
                  </a:lnTo>
                  <a:lnTo>
                    <a:pt x="74" y="130"/>
                  </a:lnTo>
                  <a:lnTo>
                    <a:pt x="62" y="158"/>
                  </a:lnTo>
                  <a:close/>
                </a:path>
              </a:pathLst>
            </a:cu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3054240" y="3506760"/>
              <a:ext cx="52560" cy="161640"/>
            </a:xfrm>
            <a:custGeom>
              <a:avLst/>
              <a:gdLst/>
              <a:ahLst/>
              <a:rect l="l" t="t" r="r" b="b"/>
              <a:pathLst>
                <a:path w="195" h="595">
                  <a:moveTo>
                    <a:pt x="55" y="595"/>
                  </a:moveTo>
                  <a:lnTo>
                    <a:pt x="54" y="579"/>
                  </a:lnTo>
                  <a:lnTo>
                    <a:pt x="51" y="564"/>
                  </a:lnTo>
                  <a:lnTo>
                    <a:pt x="47" y="550"/>
                  </a:lnTo>
                  <a:lnTo>
                    <a:pt x="40" y="537"/>
                  </a:lnTo>
                  <a:lnTo>
                    <a:pt x="33" y="525"/>
                  </a:lnTo>
                  <a:lnTo>
                    <a:pt x="23" y="515"/>
                  </a:lnTo>
                  <a:lnTo>
                    <a:pt x="12" y="504"/>
                  </a:lnTo>
                  <a:lnTo>
                    <a:pt x="0" y="496"/>
                  </a:lnTo>
                  <a:lnTo>
                    <a:pt x="21" y="427"/>
                  </a:lnTo>
                  <a:lnTo>
                    <a:pt x="40" y="360"/>
                  </a:lnTo>
                  <a:lnTo>
                    <a:pt x="57" y="295"/>
                  </a:lnTo>
                  <a:lnTo>
                    <a:pt x="72" y="232"/>
                  </a:lnTo>
                  <a:lnTo>
                    <a:pt x="86" y="171"/>
                  </a:lnTo>
                  <a:lnTo>
                    <a:pt x="99" y="112"/>
                  </a:lnTo>
                  <a:lnTo>
                    <a:pt x="111" y="55"/>
                  </a:lnTo>
                  <a:lnTo>
                    <a:pt x="120" y="0"/>
                  </a:lnTo>
                  <a:lnTo>
                    <a:pt x="132" y="6"/>
                  </a:lnTo>
                  <a:lnTo>
                    <a:pt x="143" y="13"/>
                  </a:lnTo>
                  <a:lnTo>
                    <a:pt x="153" y="19"/>
                  </a:lnTo>
                  <a:lnTo>
                    <a:pt x="164" y="27"/>
                  </a:lnTo>
                  <a:lnTo>
                    <a:pt x="172" y="35"/>
                  </a:lnTo>
                  <a:lnTo>
                    <a:pt x="180" y="43"/>
                  </a:lnTo>
                  <a:lnTo>
                    <a:pt x="188" y="53"/>
                  </a:lnTo>
                  <a:lnTo>
                    <a:pt x="195" y="63"/>
                  </a:lnTo>
                  <a:lnTo>
                    <a:pt x="183" y="123"/>
                  </a:lnTo>
                  <a:lnTo>
                    <a:pt x="171" y="185"/>
                  </a:lnTo>
                  <a:lnTo>
                    <a:pt x="155" y="248"/>
                  </a:lnTo>
                  <a:lnTo>
                    <a:pt x="139" y="314"/>
                  </a:lnTo>
                  <a:lnTo>
                    <a:pt x="120" y="381"/>
                  </a:lnTo>
                  <a:lnTo>
                    <a:pt x="100" y="450"/>
                  </a:lnTo>
                  <a:lnTo>
                    <a:pt x="78" y="522"/>
                  </a:lnTo>
                  <a:lnTo>
                    <a:pt x="55" y="595"/>
                  </a:lnTo>
                  <a:close/>
                </a:path>
              </a:pathLst>
            </a:cu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3032640" y="3498480"/>
              <a:ext cx="54000" cy="142920"/>
            </a:xfrm>
            <a:custGeom>
              <a:avLst/>
              <a:gdLst/>
              <a:ahLst/>
              <a:rect l="l" t="t" r="r" b="b"/>
              <a:pathLst>
                <a:path w="200" h="525">
                  <a:moveTo>
                    <a:pt x="80" y="525"/>
                  </a:moveTo>
                  <a:lnTo>
                    <a:pt x="72" y="520"/>
                  </a:lnTo>
                  <a:lnTo>
                    <a:pt x="62" y="516"/>
                  </a:lnTo>
                  <a:lnTo>
                    <a:pt x="53" y="511"/>
                  </a:lnTo>
                  <a:lnTo>
                    <a:pt x="44" y="506"/>
                  </a:lnTo>
                  <a:lnTo>
                    <a:pt x="33" y="503"/>
                  </a:lnTo>
                  <a:lnTo>
                    <a:pt x="23" y="499"/>
                  </a:lnTo>
                  <a:lnTo>
                    <a:pt x="12" y="496"/>
                  </a:lnTo>
                  <a:lnTo>
                    <a:pt x="0" y="492"/>
                  </a:lnTo>
                  <a:lnTo>
                    <a:pt x="20" y="424"/>
                  </a:lnTo>
                  <a:lnTo>
                    <a:pt x="39" y="358"/>
                  </a:lnTo>
                  <a:lnTo>
                    <a:pt x="56" y="293"/>
                  </a:lnTo>
                  <a:lnTo>
                    <a:pt x="72" y="230"/>
                  </a:lnTo>
                  <a:lnTo>
                    <a:pt x="86" y="171"/>
                  </a:lnTo>
                  <a:lnTo>
                    <a:pt x="99" y="111"/>
                  </a:lnTo>
                  <a:lnTo>
                    <a:pt x="109" y="55"/>
                  </a:lnTo>
                  <a:lnTo>
                    <a:pt x="118" y="0"/>
                  </a:lnTo>
                  <a:lnTo>
                    <a:pt x="129" y="3"/>
                  </a:lnTo>
                  <a:lnTo>
                    <a:pt x="141" y="6"/>
                  </a:lnTo>
                  <a:lnTo>
                    <a:pt x="151" y="9"/>
                  </a:lnTo>
                  <a:lnTo>
                    <a:pt x="162" y="13"/>
                  </a:lnTo>
                  <a:lnTo>
                    <a:pt x="171" y="17"/>
                  </a:lnTo>
                  <a:lnTo>
                    <a:pt x="182" y="21"/>
                  </a:lnTo>
                  <a:lnTo>
                    <a:pt x="191" y="24"/>
                  </a:lnTo>
                  <a:lnTo>
                    <a:pt x="200" y="29"/>
                  </a:lnTo>
                  <a:lnTo>
                    <a:pt x="191" y="84"/>
                  </a:lnTo>
                  <a:lnTo>
                    <a:pt x="179" y="141"/>
                  </a:lnTo>
                  <a:lnTo>
                    <a:pt x="166" y="200"/>
                  </a:lnTo>
                  <a:lnTo>
                    <a:pt x="152" y="261"/>
                  </a:lnTo>
                  <a:lnTo>
                    <a:pt x="137" y="324"/>
                  </a:lnTo>
                  <a:lnTo>
                    <a:pt x="120" y="389"/>
                  </a:lnTo>
                  <a:lnTo>
                    <a:pt x="101" y="456"/>
                  </a:lnTo>
                  <a:lnTo>
                    <a:pt x="80" y="525"/>
                  </a:lnTo>
                  <a:close/>
                </a:path>
              </a:pathLst>
            </a:cu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066320" y="3519000"/>
              <a:ext cx="84960" cy="236880"/>
            </a:xfrm>
            <a:custGeom>
              <a:avLst/>
              <a:gdLst/>
              <a:ahLst/>
              <a:rect l="l" t="t" r="r" b="b"/>
              <a:pathLst>
                <a:path w="315" h="867">
                  <a:moveTo>
                    <a:pt x="39" y="0"/>
                  </a:moveTo>
                  <a:lnTo>
                    <a:pt x="18" y="33"/>
                  </a:lnTo>
                  <a:lnTo>
                    <a:pt x="4" y="72"/>
                  </a:lnTo>
                  <a:lnTo>
                    <a:pt x="0" y="120"/>
                  </a:lnTo>
                  <a:lnTo>
                    <a:pt x="5" y="178"/>
                  </a:lnTo>
                  <a:lnTo>
                    <a:pt x="22" y="247"/>
                  </a:lnTo>
                  <a:lnTo>
                    <a:pt x="50" y="326"/>
                  </a:lnTo>
                  <a:lnTo>
                    <a:pt x="90" y="419"/>
                  </a:lnTo>
                  <a:lnTo>
                    <a:pt x="145" y="524"/>
                  </a:lnTo>
                  <a:lnTo>
                    <a:pt x="166" y="567"/>
                  </a:lnTo>
                  <a:lnTo>
                    <a:pt x="188" y="609"/>
                  </a:lnTo>
                  <a:lnTo>
                    <a:pt x="209" y="652"/>
                  </a:lnTo>
                  <a:lnTo>
                    <a:pt x="231" y="696"/>
                  </a:lnTo>
                  <a:lnTo>
                    <a:pt x="252" y="739"/>
                  </a:lnTo>
                  <a:lnTo>
                    <a:pt x="273" y="781"/>
                  </a:lnTo>
                  <a:lnTo>
                    <a:pt x="294" y="824"/>
                  </a:lnTo>
                  <a:lnTo>
                    <a:pt x="315" y="867"/>
                  </a:lnTo>
                  <a:lnTo>
                    <a:pt x="271" y="801"/>
                  </a:lnTo>
                  <a:lnTo>
                    <a:pt x="235" y="743"/>
                  </a:lnTo>
                  <a:lnTo>
                    <a:pt x="207" y="690"/>
                  </a:lnTo>
                  <a:lnTo>
                    <a:pt x="188" y="643"/>
                  </a:lnTo>
                  <a:lnTo>
                    <a:pt x="175" y="602"/>
                  </a:lnTo>
                  <a:lnTo>
                    <a:pt x="168" y="567"/>
                  </a:lnTo>
                  <a:lnTo>
                    <a:pt x="168" y="536"/>
                  </a:lnTo>
                  <a:lnTo>
                    <a:pt x="174" y="509"/>
                  </a:lnTo>
                  <a:lnTo>
                    <a:pt x="150" y="438"/>
                  </a:lnTo>
                  <a:lnTo>
                    <a:pt x="129" y="369"/>
                  </a:lnTo>
                  <a:lnTo>
                    <a:pt x="110" y="303"/>
                  </a:lnTo>
                  <a:lnTo>
                    <a:pt x="93" y="238"/>
                  </a:lnTo>
                  <a:lnTo>
                    <a:pt x="76" y="176"/>
                  </a:lnTo>
                  <a:lnTo>
                    <a:pt x="62" y="116"/>
                  </a:lnTo>
                  <a:lnTo>
                    <a:pt x="50" y="5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077480" y="3505320"/>
              <a:ext cx="54000" cy="152280"/>
            </a:xfrm>
            <a:custGeom>
              <a:avLst/>
              <a:gdLst/>
              <a:ahLst/>
              <a:rect l="l" t="t" r="r" b="b"/>
              <a:pathLst>
                <a:path w="202" h="562">
                  <a:moveTo>
                    <a:pt x="0" y="53"/>
                  </a:moveTo>
                  <a:lnTo>
                    <a:pt x="8" y="45"/>
                  </a:lnTo>
                  <a:lnTo>
                    <a:pt x="16" y="37"/>
                  </a:lnTo>
                  <a:lnTo>
                    <a:pt x="25" y="30"/>
                  </a:lnTo>
                  <a:lnTo>
                    <a:pt x="34" y="22"/>
                  </a:lnTo>
                  <a:lnTo>
                    <a:pt x="44" y="17"/>
                  </a:lnTo>
                  <a:lnTo>
                    <a:pt x="55" y="11"/>
                  </a:lnTo>
                  <a:lnTo>
                    <a:pt x="66" y="5"/>
                  </a:lnTo>
                  <a:lnTo>
                    <a:pt x="77" y="0"/>
                  </a:lnTo>
                  <a:lnTo>
                    <a:pt x="88" y="55"/>
                  </a:lnTo>
                  <a:lnTo>
                    <a:pt x="98" y="111"/>
                  </a:lnTo>
                  <a:lnTo>
                    <a:pt x="112" y="170"/>
                  </a:lnTo>
                  <a:lnTo>
                    <a:pt x="126" y="231"/>
                  </a:lnTo>
                  <a:lnTo>
                    <a:pt x="143" y="293"/>
                  </a:lnTo>
                  <a:lnTo>
                    <a:pt x="161" y="357"/>
                  </a:lnTo>
                  <a:lnTo>
                    <a:pt x="181" y="424"/>
                  </a:lnTo>
                  <a:lnTo>
                    <a:pt x="202" y="491"/>
                  </a:lnTo>
                  <a:lnTo>
                    <a:pt x="191" y="497"/>
                  </a:lnTo>
                  <a:lnTo>
                    <a:pt x="180" y="504"/>
                  </a:lnTo>
                  <a:lnTo>
                    <a:pt x="170" y="513"/>
                  </a:lnTo>
                  <a:lnTo>
                    <a:pt x="160" y="521"/>
                  </a:lnTo>
                  <a:lnTo>
                    <a:pt x="152" y="530"/>
                  </a:lnTo>
                  <a:lnTo>
                    <a:pt x="145" y="539"/>
                  </a:lnTo>
                  <a:lnTo>
                    <a:pt x="139" y="550"/>
                  </a:lnTo>
                  <a:lnTo>
                    <a:pt x="135" y="562"/>
                  </a:lnTo>
                  <a:lnTo>
                    <a:pt x="111" y="491"/>
                  </a:lnTo>
                  <a:lnTo>
                    <a:pt x="90" y="422"/>
                  </a:lnTo>
                  <a:lnTo>
                    <a:pt x="71" y="356"/>
                  </a:lnTo>
                  <a:lnTo>
                    <a:pt x="54" y="291"/>
                  </a:lnTo>
                  <a:lnTo>
                    <a:pt x="37" y="229"/>
                  </a:lnTo>
                  <a:lnTo>
                    <a:pt x="23" y="169"/>
                  </a:lnTo>
                  <a:lnTo>
                    <a:pt x="11" y="11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009600" y="3494520"/>
              <a:ext cx="55080" cy="138600"/>
            </a:xfrm>
            <a:custGeom>
              <a:avLst/>
              <a:gdLst/>
              <a:ahLst/>
              <a:rect l="l" t="t" r="r" b="b"/>
              <a:pathLst>
                <a:path w="203" h="509">
                  <a:moveTo>
                    <a:pt x="85" y="509"/>
                  </a:moveTo>
                  <a:lnTo>
                    <a:pt x="75" y="507"/>
                  </a:lnTo>
                  <a:lnTo>
                    <a:pt x="65" y="505"/>
                  </a:lnTo>
                  <a:lnTo>
                    <a:pt x="55" y="502"/>
                  </a:lnTo>
                  <a:lnTo>
                    <a:pt x="44" y="500"/>
                  </a:lnTo>
                  <a:lnTo>
                    <a:pt x="33" y="499"/>
                  </a:lnTo>
                  <a:lnTo>
                    <a:pt x="22" y="496"/>
                  </a:lnTo>
                  <a:lnTo>
                    <a:pt x="12" y="495"/>
                  </a:lnTo>
                  <a:lnTo>
                    <a:pt x="0" y="493"/>
                  </a:lnTo>
                  <a:lnTo>
                    <a:pt x="21" y="425"/>
                  </a:lnTo>
                  <a:lnTo>
                    <a:pt x="40" y="358"/>
                  </a:lnTo>
                  <a:lnTo>
                    <a:pt x="57" y="294"/>
                  </a:lnTo>
                  <a:lnTo>
                    <a:pt x="72" y="231"/>
                  </a:lnTo>
                  <a:lnTo>
                    <a:pt x="87" y="171"/>
                  </a:lnTo>
                  <a:lnTo>
                    <a:pt x="99" y="112"/>
                  </a:lnTo>
                  <a:lnTo>
                    <a:pt x="110" y="55"/>
                  </a:lnTo>
                  <a:lnTo>
                    <a:pt x="119" y="0"/>
                  </a:lnTo>
                  <a:lnTo>
                    <a:pt x="130" y="3"/>
                  </a:lnTo>
                  <a:lnTo>
                    <a:pt x="141" y="4"/>
                  </a:lnTo>
                  <a:lnTo>
                    <a:pt x="152" y="6"/>
                  </a:lnTo>
                  <a:lnTo>
                    <a:pt x="163" y="9"/>
                  </a:lnTo>
                  <a:lnTo>
                    <a:pt x="173" y="10"/>
                  </a:lnTo>
                  <a:lnTo>
                    <a:pt x="184" y="12"/>
                  </a:lnTo>
                  <a:lnTo>
                    <a:pt x="193" y="15"/>
                  </a:lnTo>
                  <a:lnTo>
                    <a:pt x="203" y="17"/>
                  </a:lnTo>
                  <a:lnTo>
                    <a:pt x="194" y="72"/>
                  </a:lnTo>
                  <a:lnTo>
                    <a:pt x="184" y="128"/>
                  </a:lnTo>
                  <a:lnTo>
                    <a:pt x="171" y="188"/>
                  </a:lnTo>
                  <a:lnTo>
                    <a:pt x="157" y="247"/>
                  </a:lnTo>
                  <a:lnTo>
                    <a:pt x="141" y="310"/>
                  </a:lnTo>
                  <a:lnTo>
                    <a:pt x="124" y="375"/>
                  </a:lnTo>
                  <a:lnTo>
                    <a:pt x="105" y="441"/>
                  </a:lnTo>
                  <a:lnTo>
                    <a:pt x="85" y="509"/>
                  </a:lnTo>
                  <a:close/>
                </a:path>
              </a:pathLst>
            </a:cu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097640" y="3498480"/>
              <a:ext cx="55440" cy="140040"/>
            </a:xfrm>
            <a:custGeom>
              <a:avLst/>
              <a:gdLst/>
              <a:ahLst/>
              <a:rect l="l" t="t" r="r" b="b"/>
              <a:pathLst>
                <a:path w="205" h="516">
                  <a:moveTo>
                    <a:pt x="0" y="25"/>
                  </a:moveTo>
                  <a:lnTo>
                    <a:pt x="10" y="22"/>
                  </a:lnTo>
                  <a:lnTo>
                    <a:pt x="19" y="18"/>
                  </a:lnTo>
                  <a:lnTo>
                    <a:pt x="28" y="15"/>
                  </a:lnTo>
                  <a:lnTo>
                    <a:pt x="39" y="11"/>
                  </a:lnTo>
                  <a:lnTo>
                    <a:pt x="49" y="8"/>
                  </a:lnTo>
                  <a:lnTo>
                    <a:pt x="60" y="5"/>
                  </a:lnTo>
                  <a:lnTo>
                    <a:pt x="70" y="2"/>
                  </a:lnTo>
                  <a:lnTo>
                    <a:pt x="81" y="0"/>
                  </a:lnTo>
                  <a:lnTo>
                    <a:pt x="90" y="55"/>
                  </a:lnTo>
                  <a:lnTo>
                    <a:pt x="102" y="111"/>
                  </a:lnTo>
                  <a:lnTo>
                    <a:pt x="115" y="169"/>
                  </a:lnTo>
                  <a:lnTo>
                    <a:pt x="130" y="230"/>
                  </a:lnTo>
                  <a:lnTo>
                    <a:pt x="146" y="292"/>
                  </a:lnTo>
                  <a:lnTo>
                    <a:pt x="164" y="356"/>
                  </a:lnTo>
                  <a:lnTo>
                    <a:pt x="184" y="422"/>
                  </a:lnTo>
                  <a:lnTo>
                    <a:pt x="205" y="490"/>
                  </a:lnTo>
                  <a:lnTo>
                    <a:pt x="194" y="492"/>
                  </a:lnTo>
                  <a:lnTo>
                    <a:pt x="184" y="495"/>
                  </a:lnTo>
                  <a:lnTo>
                    <a:pt x="173" y="498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3" y="508"/>
                  </a:lnTo>
                  <a:lnTo>
                    <a:pt x="134" y="512"/>
                  </a:lnTo>
                  <a:lnTo>
                    <a:pt x="125" y="516"/>
                  </a:lnTo>
                  <a:lnTo>
                    <a:pt x="104" y="449"/>
                  </a:lnTo>
                  <a:lnTo>
                    <a:pt x="84" y="382"/>
                  </a:lnTo>
                  <a:lnTo>
                    <a:pt x="66" y="318"/>
                  </a:lnTo>
                  <a:lnTo>
                    <a:pt x="49" y="256"/>
                  </a:lnTo>
                  <a:lnTo>
                    <a:pt x="35" y="195"/>
                  </a:lnTo>
                  <a:lnTo>
                    <a:pt x="21" y="136"/>
                  </a:lnTo>
                  <a:lnTo>
                    <a:pt x="11" y="8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986560" y="3490560"/>
              <a:ext cx="55080" cy="137160"/>
            </a:xfrm>
            <a:custGeom>
              <a:avLst/>
              <a:gdLst/>
              <a:ahLst/>
              <a:rect l="l" t="t" r="r" b="b"/>
              <a:pathLst>
                <a:path w="203" h="508">
                  <a:moveTo>
                    <a:pt x="84" y="508"/>
                  </a:moveTo>
                  <a:lnTo>
                    <a:pt x="73" y="507"/>
                  </a:lnTo>
                  <a:lnTo>
                    <a:pt x="63" y="504"/>
                  </a:lnTo>
                  <a:lnTo>
                    <a:pt x="52" y="503"/>
                  </a:lnTo>
                  <a:lnTo>
                    <a:pt x="42" y="502"/>
                  </a:lnTo>
                  <a:lnTo>
                    <a:pt x="31" y="500"/>
                  </a:lnTo>
                  <a:lnTo>
                    <a:pt x="21" y="499"/>
                  </a:lnTo>
                  <a:lnTo>
                    <a:pt x="10" y="497"/>
                  </a:lnTo>
                  <a:lnTo>
                    <a:pt x="0" y="496"/>
                  </a:lnTo>
                  <a:lnTo>
                    <a:pt x="21" y="427"/>
                  </a:lnTo>
                  <a:lnTo>
                    <a:pt x="40" y="361"/>
                  </a:lnTo>
                  <a:lnTo>
                    <a:pt x="57" y="296"/>
                  </a:lnTo>
                  <a:lnTo>
                    <a:pt x="73" y="233"/>
                  </a:lnTo>
                  <a:lnTo>
                    <a:pt x="88" y="172"/>
                  </a:lnTo>
                  <a:lnTo>
                    <a:pt x="100" y="114"/>
                  </a:lnTo>
                  <a:lnTo>
                    <a:pt x="111" y="56"/>
                  </a:lnTo>
                  <a:lnTo>
                    <a:pt x="120" y="0"/>
                  </a:lnTo>
                  <a:lnTo>
                    <a:pt x="131" y="3"/>
                  </a:lnTo>
                  <a:lnTo>
                    <a:pt x="141" y="5"/>
                  </a:lnTo>
                  <a:lnTo>
                    <a:pt x="152" y="6"/>
                  </a:lnTo>
                  <a:lnTo>
                    <a:pt x="162" y="8"/>
                  </a:lnTo>
                  <a:lnTo>
                    <a:pt x="173" y="10"/>
                  </a:lnTo>
                  <a:lnTo>
                    <a:pt x="183" y="12"/>
                  </a:lnTo>
                  <a:lnTo>
                    <a:pt x="193" y="13"/>
                  </a:lnTo>
                  <a:lnTo>
                    <a:pt x="203" y="15"/>
                  </a:lnTo>
                  <a:lnTo>
                    <a:pt x="194" y="70"/>
                  </a:lnTo>
                  <a:lnTo>
                    <a:pt x="183" y="127"/>
                  </a:lnTo>
                  <a:lnTo>
                    <a:pt x="171" y="186"/>
                  </a:lnTo>
                  <a:lnTo>
                    <a:pt x="156" y="246"/>
                  </a:lnTo>
                  <a:lnTo>
                    <a:pt x="141" y="309"/>
                  </a:lnTo>
                  <a:lnTo>
                    <a:pt x="124" y="373"/>
                  </a:lnTo>
                  <a:lnTo>
                    <a:pt x="105" y="440"/>
                  </a:lnTo>
                  <a:lnTo>
                    <a:pt x="84" y="508"/>
                  </a:lnTo>
                  <a:close/>
                </a:path>
              </a:pathLst>
            </a:custGeom>
            <a:solidFill>
              <a:srgbClr val="ff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119240" y="3493440"/>
              <a:ext cx="56520" cy="138600"/>
            </a:xfrm>
            <a:custGeom>
              <a:avLst/>
              <a:gdLst/>
              <a:ahLst/>
              <a:rect l="l" t="t" r="r" b="b"/>
              <a:pathLst>
                <a:path w="209" h="507">
                  <a:moveTo>
                    <a:pt x="0" y="17"/>
                  </a:moveTo>
                  <a:lnTo>
                    <a:pt x="10" y="14"/>
                  </a:lnTo>
                  <a:lnTo>
                    <a:pt x="20" y="12"/>
                  </a:lnTo>
                  <a:lnTo>
                    <a:pt x="30" y="10"/>
                  </a:lnTo>
                  <a:lnTo>
                    <a:pt x="41" y="8"/>
                  </a:lnTo>
                  <a:lnTo>
                    <a:pt x="51" y="6"/>
                  </a:lnTo>
                  <a:lnTo>
                    <a:pt x="62" y="4"/>
                  </a:lnTo>
                  <a:lnTo>
                    <a:pt x="72" y="2"/>
                  </a:lnTo>
                  <a:lnTo>
                    <a:pt x="83" y="0"/>
                  </a:lnTo>
                  <a:lnTo>
                    <a:pt x="93" y="56"/>
                  </a:lnTo>
                  <a:lnTo>
                    <a:pt x="105" y="112"/>
                  </a:lnTo>
                  <a:lnTo>
                    <a:pt x="118" y="172"/>
                  </a:lnTo>
                  <a:lnTo>
                    <a:pt x="133" y="232"/>
                  </a:lnTo>
                  <a:lnTo>
                    <a:pt x="150" y="295"/>
                  </a:lnTo>
                  <a:lnTo>
                    <a:pt x="168" y="359"/>
                  </a:lnTo>
                  <a:lnTo>
                    <a:pt x="188" y="425"/>
                  </a:lnTo>
                  <a:lnTo>
                    <a:pt x="209" y="493"/>
                  </a:lnTo>
                  <a:lnTo>
                    <a:pt x="198" y="494"/>
                  </a:lnTo>
                  <a:lnTo>
                    <a:pt x="187" y="495"/>
                  </a:lnTo>
                  <a:lnTo>
                    <a:pt x="176" y="497"/>
                  </a:lnTo>
                  <a:lnTo>
                    <a:pt x="165" y="498"/>
                  </a:lnTo>
                  <a:lnTo>
                    <a:pt x="154" y="501"/>
                  </a:lnTo>
                  <a:lnTo>
                    <a:pt x="144" y="502"/>
                  </a:lnTo>
                  <a:lnTo>
                    <a:pt x="134" y="504"/>
                  </a:lnTo>
                  <a:lnTo>
                    <a:pt x="124" y="507"/>
                  </a:lnTo>
                  <a:lnTo>
                    <a:pt x="103" y="439"/>
                  </a:lnTo>
                  <a:lnTo>
                    <a:pt x="83" y="373"/>
                  </a:lnTo>
                  <a:lnTo>
                    <a:pt x="65" y="309"/>
                  </a:lnTo>
                  <a:lnTo>
                    <a:pt x="49" y="247"/>
                  </a:lnTo>
                  <a:lnTo>
                    <a:pt x="34" y="186"/>
                  </a:lnTo>
                  <a:lnTo>
                    <a:pt x="21" y="128"/>
                  </a:lnTo>
                  <a:lnTo>
                    <a:pt x="9" y="7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963520" y="3485160"/>
              <a:ext cx="55440" cy="140040"/>
            </a:xfrm>
            <a:custGeom>
              <a:avLst/>
              <a:gdLst/>
              <a:ahLst/>
              <a:rect l="l" t="t" r="r" b="b"/>
              <a:pathLst>
                <a:path w="207" h="513">
                  <a:moveTo>
                    <a:pt x="87" y="513"/>
                  </a:moveTo>
                  <a:lnTo>
                    <a:pt x="76" y="512"/>
                  </a:lnTo>
                  <a:lnTo>
                    <a:pt x="65" y="511"/>
                  </a:lnTo>
                  <a:lnTo>
                    <a:pt x="54" y="508"/>
                  </a:lnTo>
                  <a:lnTo>
                    <a:pt x="44" y="507"/>
                  </a:lnTo>
                  <a:lnTo>
                    <a:pt x="32" y="505"/>
                  </a:lnTo>
                  <a:lnTo>
                    <a:pt x="21" y="504"/>
                  </a:lnTo>
                  <a:lnTo>
                    <a:pt x="11" y="501"/>
                  </a:lnTo>
                  <a:lnTo>
                    <a:pt x="0" y="500"/>
                  </a:lnTo>
                  <a:lnTo>
                    <a:pt x="21" y="431"/>
                  </a:lnTo>
                  <a:lnTo>
                    <a:pt x="41" y="365"/>
                  </a:lnTo>
                  <a:lnTo>
                    <a:pt x="59" y="299"/>
                  </a:lnTo>
                  <a:lnTo>
                    <a:pt x="75" y="236"/>
                  </a:lnTo>
                  <a:lnTo>
                    <a:pt x="90" y="174"/>
                  </a:lnTo>
                  <a:lnTo>
                    <a:pt x="103" y="114"/>
                  </a:lnTo>
                  <a:lnTo>
                    <a:pt x="115" y="56"/>
                  </a:lnTo>
                  <a:lnTo>
                    <a:pt x="124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7"/>
                  </a:lnTo>
                  <a:lnTo>
                    <a:pt x="165" y="9"/>
                  </a:lnTo>
                  <a:lnTo>
                    <a:pt x="176" y="11"/>
                  </a:lnTo>
                  <a:lnTo>
                    <a:pt x="186" y="14"/>
                  </a:lnTo>
                  <a:lnTo>
                    <a:pt x="197" y="15"/>
                  </a:lnTo>
                  <a:lnTo>
                    <a:pt x="207" y="17"/>
                  </a:lnTo>
                  <a:lnTo>
                    <a:pt x="198" y="73"/>
                  </a:lnTo>
                  <a:lnTo>
                    <a:pt x="187" y="131"/>
                  </a:lnTo>
                  <a:lnTo>
                    <a:pt x="175" y="189"/>
                  </a:lnTo>
                  <a:lnTo>
                    <a:pt x="160" y="250"/>
                  </a:lnTo>
                  <a:lnTo>
                    <a:pt x="144" y="313"/>
                  </a:lnTo>
                  <a:lnTo>
                    <a:pt x="127" y="378"/>
                  </a:lnTo>
                  <a:lnTo>
                    <a:pt x="108" y="444"/>
                  </a:lnTo>
                  <a:lnTo>
                    <a:pt x="87" y="513"/>
                  </a:lnTo>
                  <a:close/>
                </a:path>
              </a:pathLst>
            </a:custGeom>
            <a:solidFill>
              <a:srgbClr val="ff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142280" y="3490560"/>
              <a:ext cx="56520" cy="137160"/>
            </a:xfrm>
            <a:custGeom>
              <a:avLst/>
              <a:gdLst/>
              <a:ahLst/>
              <a:rect l="l" t="t" r="r" b="b"/>
              <a:pathLst>
                <a:path w="212" h="507">
                  <a:moveTo>
                    <a:pt x="0" y="14"/>
                  </a:moveTo>
                  <a:lnTo>
                    <a:pt x="10" y="12"/>
                  </a:lnTo>
                  <a:lnTo>
                    <a:pt x="21" y="11"/>
                  </a:lnTo>
                  <a:lnTo>
                    <a:pt x="31" y="8"/>
                  </a:lnTo>
                  <a:lnTo>
                    <a:pt x="42" y="7"/>
                  </a:lnTo>
                  <a:lnTo>
                    <a:pt x="53" y="5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3" y="56"/>
                  </a:lnTo>
                  <a:lnTo>
                    <a:pt x="105" y="114"/>
                  </a:lnTo>
                  <a:lnTo>
                    <a:pt x="118" y="172"/>
                  </a:lnTo>
                  <a:lnTo>
                    <a:pt x="133" y="233"/>
                  </a:lnTo>
                  <a:lnTo>
                    <a:pt x="151" y="296"/>
                  </a:lnTo>
                  <a:lnTo>
                    <a:pt x="169" y="360"/>
                  </a:lnTo>
                  <a:lnTo>
                    <a:pt x="189" y="427"/>
                  </a:lnTo>
                  <a:lnTo>
                    <a:pt x="212" y="495"/>
                  </a:lnTo>
                  <a:lnTo>
                    <a:pt x="201" y="496"/>
                  </a:lnTo>
                  <a:lnTo>
                    <a:pt x="189" y="497"/>
                  </a:lnTo>
                  <a:lnTo>
                    <a:pt x="179" y="498"/>
                  </a:lnTo>
                  <a:lnTo>
                    <a:pt x="168" y="501"/>
                  </a:lnTo>
                  <a:lnTo>
                    <a:pt x="158" y="502"/>
                  </a:lnTo>
                  <a:lnTo>
                    <a:pt x="147" y="503"/>
                  </a:lnTo>
                  <a:lnTo>
                    <a:pt x="137" y="505"/>
                  </a:lnTo>
                  <a:lnTo>
                    <a:pt x="126" y="507"/>
                  </a:lnTo>
                  <a:lnTo>
                    <a:pt x="105" y="439"/>
                  </a:lnTo>
                  <a:lnTo>
                    <a:pt x="85" y="373"/>
                  </a:lnTo>
                  <a:lnTo>
                    <a:pt x="67" y="309"/>
                  </a:lnTo>
                  <a:lnTo>
                    <a:pt x="50" y="246"/>
                  </a:lnTo>
                  <a:lnTo>
                    <a:pt x="35" y="186"/>
                  </a:lnTo>
                  <a:lnTo>
                    <a:pt x="22" y="126"/>
                  </a:lnTo>
                  <a:lnTo>
                    <a:pt x="10" y="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941920" y="3369240"/>
              <a:ext cx="55440" cy="251640"/>
            </a:xfrm>
            <a:custGeom>
              <a:avLst/>
              <a:gdLst/>
              <a:ahLst/>
              <a:rect l="l" t="t" r="r" b="b"/>
              <a:pathLst>
                <a:path w="201" h="925">
                  <a:moveTo>
                    <a:pt x="77" y="925"/>
                  </a:moveTo>
                  <a:lnTo>
                    <a:pt x="67" y="923"/>
                  </a:lnTo>
                  <a:lnTo>
                    <a:pt x="57" y="922"/>
                  </a:lnTo>
                  <a:lnTo>
                    <a:pt x="48" y="919"/>
                  </a:lnTo>
                  <a:lnTo>
                    <a:pt x="38" y="917"/>
                  </a:lnTo>
                  <a:lnTo>
                    <a:pt x="28" y="915"/>
                  </a:lnTo>
                  <a:lnTo>
                    <a:pt x="19" y="912"/>
                  </a:lnTo>
                  <a:lnTo>
                    <a:pt x="9" y="910"/>
                  </a:lnTo>
                  <a:lnTo>
                    <a:pt x="0" y="908"/>
                  </a:lnTo>
                  <a:lnTo>
                    <a:pt x="14" y="876"/>
                  </a:lnTo>
                  <a:lnTo>
                    <a:pt x="25" y="847"/>
                  </a:lnTo>
                  <a:lnTo>
                    <a:pt x="35" y="819"/>
                  </a:lnTo>
                  <a:lnTo>
                    <a:pt x="42" y="793"/>
                  </a:lnTo>
                  <a:lnTo>
                    <a:pt x="49" y="769"/>
                  </a:lnTo>
                  <a:lnTo>
                    <a:pt x="53" y="745"/>
                  </a:lnTo>
                  <a:lnTo>
                    <a:pt x="55" y="723"/>
                  </a:lnTo>
                  <a:lnTo>
                    <a:pt x="56" y="703"/>
                  </a:lnTo>
                  <a:lnTo>
                    <a:pt x="78" y="612"/>
                  </a:lnTo>
                  <a:lnTo>
                    <a:pt x="97" y="521"/>
                  </a:lnTo>
                  <a:lnTo>
                    <a:pt x="115" y="432"/>
                  </a:lnTo>
                  <a:lnTo>
                    <a:pt x="129" y="344"/>
                  </a:lnTo>
                  <a:lnTo>
                    <a:pt x="140" y="256"/>
                  </a:lnTo>
                  <a:lnTo>
                    <a:pt x="150" y="171"/>
                  </a:lnTo>
                  <a:lnTo>
                    <a:pt x="157" y="86"/>
                  </a:lnTo>
                  <a:lnTo>
                    <a:pt x="161" y="0"/>
                  </a:lnTo>
                  <a:lnTo>
                    <a:pt x="178" y="31"/>
                  </a:lnTo>
                  <a:lnTo>
                    <a:pt x="188" y="67"/>
                  </a:lnTo>
                  <a:lnTo>
                    <a:pt x="195" y="108"/>
                  </a:lnTo>
                  <a:lnTo>
                    <a:pt x="197" y="156"/>
                  </a:lnTo>
                  <a:lnTo>
                    <a:pt x="192" y="208"/>
                  </a:lnTo>
                  <a:lnTo>
                    <a:pt x="181" y="268"/>
                  </a:lnTo>
                  <a:lnTo>
                    <a:pt x="165" y="334"/>
                  </a:lnTo>
                  <a:lnTo>
                    <a:pt x="143" y="406"/>
                  </a:lnTo>
                  <a:lnTo>
                    <a:pt x="150" y="408"/>
                  </a:lnTo>
                  <a:lnTo>
                    <a:pt x="157" y="411"/>
                  </a:lnTo>
                  <a:lnTo>
                    <a:pt x="164" y="413"/>
                  </a:lnTo>
                  <a:lnTo>
                    <a:pt x="172" y="415"/>
                  </a:lnTo>
                  <a:lnTo>
                    <a:pt x="179" y="418"/>
                  </a:lnTo>
                  <a:lnTo>
                    <a:pt x="186" y="420"/>
                  </a:lnTo>
                  <a:lnTo>
                    <a:pt x="194" y="422"/>
                  </a:lnTo>
                  <a:lnTo>
                    <a:pt x="201" y="425"/>
                  </a:lnTo>
                  <a:lnTo>
                    <a:pt x="192" y="481"/>
                  </a:lnTo>
                  <a:lnTo>
                    <a:pt x="180" y="539"/>
                  </a:lnTo>
                  <a:lnTo>
                    <a:pt x="167" y="599"/>
                  </a:lnTo>
                  <a:lnTo>
                    <a:pt x="152" y="661"/>
                  </a:lnTo>
                  <a:lnTo>
                    <a:pt x="136" y="724"/>
                  </a:lnTo>
                  <a:lnTo>
                    <a:pt x="118" y="790"/>
                  </a:lnTo>
                  <a:lnTo>
                    <a:pt x="98" y="856"/>
                  </a:lnTo>
                  <a:lnTo>
                    <a:pt x="77" y="925"/>
                  </a:lnTo>
                  <a:close/>
                </a:path>
              </a:pathLst>
            </a:custGeom>
            <a:solidFill>
              <a:srgbClr val="ff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163880" y="3485160"/>
              <a:ext cx="57960" cy="140040"/>
            </a:xfrm>
            <a:custGeom>
              <a:avLst/>
              <a:gdLst/>
              <a:ahLst/>
              <a:rect l="l" t="t" r="r" b="b"/>
              <a:pathLst>
                <a:path w="214" h="515">
                  <a:moveTo>
                    <a:pt x="0" y="20"/>
                  </a:moveTo>
                  <a:lnTo>
                    <a:pt x="10" y="18"/>
                  </a:lnTo>
                  <a:lnTo>
                    <a:pt x="22" y="15"/>
                  </a:lnTo>
                  <a:lnTo>
                    <a:pt x="33" y="13"/>
                  </a:lnTo>
                  <a:lnTo>
                    <a:pt x="43" y="11"/>
                  </a:lnTo>
                  <a:lnTo>
                    <a:pt x="54" y="8"/>
                  </a:lnTo>
                  <a:lnTo>
                    <a:pt x="64" y="6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5" y="58"/>
                  </a:lnTo>
                  <a:lnTo>
                    <a:pt x="106" y="116"/>
                  </a:lnTo>
                  <a:lnTo>
                    <a:pt x="119" y="176"/>
                  </a:lnTo>
                  <a:lnTo>
                    <a:pt x="134" y="238"/>
                  </a:lnTo>
                  <a:lnTo>
                    <a:pt x="152" y="301"/>
                  </a:lnTo>
                  <a:lnTo>
                    <a:pt x="171" y="365"/>
                  </a:lnTo>
                  <a:lnTo>
                    <a:pt x="192" y="432"/>
                  </a:lnTo>
                  <a:lnTo>
                    <a:pt x="214" y="501"/>
                  </a:lnTo>
                  <a:lnTo>
                    <a:pt x="203" y="503"/>
                  </a:lnTo>
                  <a:lnTo>
                    <a:pt x="193" y="504"/>
                  </a:lnTo>
                  <a:lnTo>
                    <a:pt x="182" y="507"/>
                  </a:lnTo>
                  <a:lnTo>
                    <a:pt x="172" y="508"/>
                  </a:lnTo>
                  <a:lnTo>
                    <a:pt x="160" y="510"/>
                  </a:lnTo>
                  <a:lnTo>
                    <a:pt x="150" y="511"/>
                  </a:lnTo>
                  <a:lnTo>
                    <a:pt x="139" y="514"/>
                  </a:lnTo>
                  <a:lnTo>
                    <a:pt x="129" y="515"/>
                  </a:lnTo>
                  <a:lnTo>
                    <a:pt x="106" y="447"/>
                  </a:lnTo>
                  <a:lnTo>
                    <a:pt x="86" y="380"/>
                  </a:lnTo>
                  <a:lnTo>
                    <a:pt x="68" y="316"/>
                  </a:lnTo>
                  <a:lnTo>
                    <a:pt x="50" y="253"/>
                  </a:lnTo>
                  <a:lnTo>
                    <a:pt x="35" y="192"/>
                  </a:lnTo>
                  <a:lnTo>
                    <a:pt x="22" y="134"/>
                  </a:lnTo>
                  <a:lnTo>
                    <a:pt x="10" y="7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941920" y="3350520"/>
              <a:ext cx="44640" cy="210600"/>
            </a:xfrm>
            <a:custGeom>
              <a:avLst/>
              <a:gdLst/>
              <a:ahLst/>
              <a:rect l="l" t="t" r="r" b="b"/>
              <a:pathLst>
                <a:path w="163" h="774">
                  <a:moveTo>
                    <a:pt x="58" y="774"/>
                  </a:moveTo>
                  <a:lnTo>
                    <a:pt x="57" y="753"/>
                  </a:lnTo>
                  <a:lnTo>
                    <a:pt x="55" y="734"/>
                  </a:lnTo>
                  <a:lnTo>
                    <a:pt x="50" y="717"/>
                  </a:lnTo>
                  <a:lnTo>
                    <a:pt x="43" y="700"/>
                  </a:lnTo>
                  <a:lnTo>
                    <a:pt x="35" y="686"/>
                  </a:lnTo>
                  <a:lnTo>
                    <a:pt x="24" y="672"/>
                  </a:lnTo>
                  <a:lnTo>
                    <a:pt x="13" y="661"/>
                  </a:lnTo>
                  <a:lnTo>
                    <a:pt x="0" y="650"/>
                  </a:lnTo>
                  <a:lnTo>
                    <a:pt x="17" y="565"/>
                  </a:lnTo>
                  <a:lnTo>
                    <a:pt x="34" y="482"/>
                  </a:lnTo>
                  <a:lnTo>
                    <a:pt x="47" y="399"/>
                  </a:lnTo>
                  <a:lnTo>
                    <a:pt x="58" y="318"/>
                  </a:lnTo>
                  <a:lnTo>
                    <a:pt x="68" y="237"/>
                  </a:lnTo>
                  <a:lnTo>
                    <a:pt x="75" y="158"/>
                  </a:lnTo>
                  <a:lnTo>
                    <a:pt x="79" y="78"/>
                  </a:lnTo>
                  <a:lnTo>
                    <a:pt x="82" y="0"/>
                  </a:lnTo>
                  <a:lnTo>
                    <a:pt x="94" y="7"/>
                  </a:lnTo>
                  <a:lnTo>
                    <a:pt x="106" y="14"/>
                  </a:lnTo>
                  <a:lnTo>
                    <a:pt x="117" y="21"/>
                  </a:lnTo>
                  <a:lnTo>
                    <a:pt x="128" y="30"/>
                  </a:lnTo>
                  <a:lnTo>
                    <a:pt x="138" y="40"/>
                  </a:lnTo>
                  <a:lnTo>
                    <a:pt x="147" y="49"/>
                  </a:lnTo>
                  <a:lnTo>
                    <a:pt x="155" y="60"/>
                  </a:lnTo>
                  <a:lnTo>
                    <a:pt x="163" y="71"/>
                  </a:lnTo>
                  <a:lnTo>
                    <a:pt x="159" y="157"/>
                  </a:lnTo>
                  <a:lnTo>
                    <a:pt x="152" y="242"/>
                  </a:lnTo>
                  <a:lnTo>
                    <a:pt x="142" y="327"/>
                  </a:lnTo>
                  <a:lnTo>
                    <a:pt x="131" y="415"/>
                  </a:lnTo>
                  <a:lnTo>
                    <a:pt x="117" y="503"/>
                  </a:lnTo>
                  <a:lnTo>
                    <a:pt x="99" y="592"/>
                  </a:lnTo>
                  <a:lnTo>
                    <a:pt x="80" y="683"/>
                  </a:lnTo>
                  <a:lnTo>
                    <a:pt x="58" y="774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1185480" y="3366720"/>
              <a:ext cx="51480" cy="254160"/>
            </a:xfrm>
            <a:custGeom>
              <a:avLst/>
              <a:gdLst/>
              <a:ahLst/>
              <a:rect l="l" t="t" r="r" b="b"/>
              <a:pathLst>
                <a:path w="194" h="936">
                  <a:moveTo>
                    <a:pt x="9" y="435"/>
                  </a:moveTo>
                  <a:lnTo>
                    <a:pt x="15" y="433"/>
                  </a:lnTo>
                  <a:lnTo>
                    <a:pt x="21" y="432"/>
                  </a:lnTo>
                  <a:lnTo>
                    <a:pt x="27" y="429"/>
                  </a:lnTo>
                  <a:lnTo>
                    <a:pt x="32" y="428"/>
                  </a:lnTo>
                  <a:lnTo>
                    <a:pt x="37" y="426"/>
                  </a:lnTo>
                  <a:lnTo>
                    <a:pt x="43" y="425"/>
                  </a:lnTo>
                  <a:lnTo>
                    <a:pt x="48" y="422"/>
                  </a:lnTo>
                  <a:lnTo>
                    <a:pt x="54" y="420"/>
                  </a:lnTo>
                  <a:lnTo>
                    <a:pt x="30" y="343"/>
                  </a:lnTo>
                  <a:lnTo>
                    <a:pt x="13" y="273"/>
                  </a:lnTo>
                  <a:lnTo>
                    <a:pt x="3" y="211"/>
                  </a:lnTo>
                  <a:lnTo>
                    <a:pt x="0" y="156"/>
                  </a:lnTo>
                  <a:lnTo>
                    <a:pt x="2" y="108"/>
                  </a:lnTo>
                  <a:lnTo>
                    <a:pt x="12" y="67"/>
                  </a:lnTo>
                  <a:lnTo>
                    <a:pt x="26" y="31"/>
                  </a:lnTo>
                  <a:lnTo>
                    <a:pt x="44" y="0"/>
                  </a:lnTo>
                  <a:lnTo>
                    <a:pt x="49" y="81"/>
                  </a:lnTo>
                  <a:lnTo>
                    <a:pt x="55" y="162"/>
                  </a:lnTo>
                  <a:lnTo>
                    <a:pt x="64" y="243"/>
                  </a:lnTo>
                  <a:lnTo>
                    <a:pt x="75" y="326"/>
                  </a:lnTo>
                  <a:lnTo>
                    <a:pt x="89" y="411"/>
                  </a:lnTo>
                  <a:lnTo>
                    <a:pt x="105" y="496"/>
                  </a:lnTo>
                  <a:lnTo>
                    <a:pt x="123" y="581"/>
                  </a:lnTo>
                  <a:lnTo>
                    <a:pt x="144" y="669"/>
                  </a:lnTo>
                  <a:lnTo>
                    <a:pt x="139" y="691"/>
                  </a:lnTo>
                  <a:lnTo>
                    <a:pt x="138" y="717"/>
                  </a:lnTo>
                  <a:lnTo>
                    <a:pt x="139" y="744"/>
                  </a:lnTo>
                  <a:lnTo>
                    <a:pt x="144" y="774"/>
                  </a:lnTo>
                  <a:lnTo>
                    <a:pt x="152" y="807"/>
                  </a:lnTo>
                  <a:lnTo>
                    <a:pt x="162" y="842"/>
                  </a:lnTo>
                  <a:lnTo>
                    <a:pt x="176" y="881"/>
                  </a:lnTo>
                  <a:lnTo>
                    <a:pt x="194" y="922"/>
                  </a:lnTo>
                  <a:lnTo>
                    <a:pt x="187" y="924"/>
                  </a:lnTo>
                  <a:lnTo>
                    <a:pt x="181" y="925"/>
                  </a:lnTo>
                  <a:lnTo>
                    <a:pt x="174" y="928"/>
                  </a:lnTo>
                  <a:lnTo>
                    <a:pt x="167" y="929"/>
                  </a:lnTo>
                  <a:lnTo>
                    <a:pt x="160" y="931"/>
                  </a:lnTo>
                  <a:lnTo>
                    <a:pt x="153" y="932"/>
                  </a:lnTo>
                  <a:lnTo>
                    <a:pt x="145" y="935"/>
                  </a:lnTo>
                  <a:lnTo>
                    <a:pt x="138" y="936"/>
                  </a:lnTo>
                  <a:lnTo>
                    <a:pt x="116" y="867"/>
                  </a:lnTo>
                  <a:lnTo>
                    <a:pt x="95" y="800"/>
                  </a:lnTo>
                  <a:lnTo>
                    <a:pt x="76" y="736"/>
                  </a:lnTo>
                  <a:lnTo>
                    <a:pt x="58" y="673"/>
                  </a:lnTo>
                  <a:lnTo>
                    <a:pt x="43" y="611"/>
                  </a:lnTo>
                  <a:lnTo>
                    <a:pt x="30" y="551"/>
                  </a:lnTo>
                  <a:lnTo>
                    <a:pt x="19" y="493"/>
                  </a:lnTo>
                  <a:lnTo>
                    <a:pt x="9" y="435"/>
                  </a:lnTo>
                  <a:close/>
                </a:path>
              </a:pathLst>
            </a:cu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920320" y="3343680"/>
              <a:ext cx="43200" cy="183600"/>
            </a:xfrm>
            <a:custGeom>
              <a:avLst/>
              <a:gdLst/>
              <a:ahLst/>
              <a:rect l="l" t="t" r="r" b="b"/>
              <a:pathLst>
                <a:path w="161" h="676">
                  <a:moveTo>
                    <a:pt x="79" y="676"/>
                  </a:moveTo>
                  <a:lnTo>
                    <a:pt x="71" y="670"/>
                  </a:lnTo>
                  <a:lnTo>
                    <a:pt x="62" y="666"/>
                  </a:lnTo>
                  <a:lnTo>
                    <a:pt x="53" y="661"/>
                  </a:lnTo>
                  <a:lnTo>
                    <a:pt x="44" y="656"/>
                  </a:lnTo>
                  <a:lnTo>
                    <a:pt x="33" y="652"/>
                  </a:lnTo>
                  <a:lnTo>
                    <a:pt x="23" y="648"/>
                  </a:lnTo>
                  <a:lnTo>
                    <a:pt x="12" y="645"/>
                  </a:lnTo>
                  <a:lnTo>
                    <a:pt x="0" y="641"/>
                  </a:lnTo>
                  <a:lnTo>
                    <a:pt x="18" y="558"/>
                  </a:lnTo>
                  <a:lnTo>
                    <a:pt x="32" y="475"/>
                  </a:lnTo>
                  <a:lnTo>
                    <a:pt x="45" y="394"/>
                  </a:lnTo>
                  <a:lnTo>
                    <a:pt x="55" y="314"/>
                  </a:lnTo>
                  <a:lnTo>
                    <a:pt x="64" y="235"/>
                  </a:lnTo>
                  <a:lnTo>
                    <a:pt x="69" y="156"/>
                  </a:lnTo>
                  <a:lnTo>
                    <a:pt x="73" y="77"/>
                  </a:lnTo>
                  <a:lnTo>
                    <a:pt x="75" y="0"/>
                  </a:lnTo>
                  <a:lnTo>
                    <a:pt x="87" y="2"/>
                  </a:lnTo>
                  <a:lnTo>
                    <a:pt x="99" y="5"/>
                  </a:lnTo>
                  <a:lnTo>
                    <a:pt x="109" y="8"/>
                  </a:lnTo>
                  <a:lnTo>
                    <a:pt x="120" y="11"/>
                  </a:lnTo>
                  <a:lnTo>
                    <a:pt x="130" y="14"/>
                  </a:lnTo>
                  <a:lnTo>
                    <a:pt x="141" y="18"/>
                  </a:lnTo>
                  <a:lnTo>
                    <a:pt x="151" y="21"/>
                  </a:lnTo>
                  <a:lnTo>
                    <a:pt x="161" y="26"/>
                  </a:lnTo>
                  <a:lnTo>
                    <a:pt x="158" y="104"/>
                  </a:lnTo>
                  <a:lnTo>
                    <a:pt x="154" y="184"/>
                  </a:lnTo>
                  <a:lnTo>
                    <a:pt x="147" y="263"/>
                  </a:lnTo>
                  <a:lnTo>
                    <a:pt x="137" y="344"/>
                  </a:lnTo>
                  <a:lnTo>
                    <a:pt x="126" y="425"/>
                  </a:lnTo>
                  <a:lnTo>
                    <a:pt x="113" y="508"/>
                  </a:lnTo>
                  <a:lnTo>
                    <a:pt x="96" y="591"/>
                  </a:lnTo>
                  <a:lnTo>
                    <a:pt x="79" y="676"/>
                  </a:lnTo>
                  <a:close/>
                </a:path>
              </a:pathLst>
            </a:cu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196280" y="3348720"/>
              <a:ext cx="45720" cy="198720"/>
            </a:xfrm>
            <a:custGeom>
              <a:avLst/>
              <a:gdLst/>
              <a:ahLst/>
              <a:rect l="l" t="t" r="r" b="b"/>
              <a:pathLst>
                <a:path w="168" h="730">
                  <a:moveTo>
                    <a:pt x="0" y="61"/>
                  </a:moveTo>
                  <a:lnTo>
                    <a:pt x="9" y="52"/>
                  </a:lnTo>
                  <a:lnTo>
                    <a:pt x="18" y="42"/>
                  </a:lnTo>
                  <a:lnTo>
                    <a:pt x="27" y="34"/>
                  </a:lnTo>
                  <a:lnTo>
                    <a:pt x="37" y="26"/>
                  </a:lnTo>
                  <a:lnTo>
                    <a:pt x="48" y="19"/>
                  </a:lnTo>
                  <a:lnTo>
                    <a:pt x="59" y="12"/>
                  </a:lnTo>
                  <a:lnTo>
                    <a:pt x="71" y="6"/>
                  </a:lnTo>
                  <a:lnTo>
                    <a:pt x="83" y="0"/>
                  </a:lnTo>
                  <a:lnTo>
                    <a:pt x="86" y="79"/>
                  </a:lnTo>
                  <a:lnTo>
                    <a:pt x="92" y="156"/>
                  </a:lnTo>
                  <a:lnTo>
                    <a:pt x="99" y="235"/>
                  </a:lnTo>
                  <a:lnTo>
                    <a:pt x="108" y="315"/>
                  </a:lnTo>
                  <a:lnTo>
                    <a:pt x="118" y="396"/>
                  </a:lnTo>
                  <a:lnTo>
                    <a:pt x="132" y="478"/>
                  </a:lnTo>
                  <a:lnTo>
                    <a:pt x="149" y="561"/>
                  </a:lnTo>
                  <a:lnTo>
                    <a:pt x="168" y="645"/>
                  </a:lnTo>
                  <a:lnTo>
                    <a:pt x="156" y="652"/>
                  </a:lnTo>
                  <a:lnTo>
                    <a:pt x="144" y="661"/>
                  </a:lnTo>
                  <a:lnTo>
                    <a:pt x="134" y="669"/>
                  </a:lnTo>
                  <a:lnTo>
                    <a:pt x="125" y="680"/>
                  </a:lnTo>
                  <a:lnTo>
                    <a:pt x="117" y="692"/>
                  </a:lnTo>
                  <a:lnTo>
                    <a:pt x="110" y="703"/>
                  </a:lnTo>
                  <a:lnTo>
                    <a:pt x="104" y="716"/>
                  </a:lnTo>
                  <a:lnTo>
                    <a:pt x="100" y="730"/>
                  </a:lnTo>
                  <a:lnTo>
                    <a:pt x="79" y="642"/>
                  </a:lnTo>
                  <a:lnTo>
                    <a:pt x="61" y="557"/>
                  </a:lnTo>
                  <a:lnTo>
                    <a:pt x="45" y="472"/>
                  </a:lnTo>
                  <a:lnTo>
                    <a:pt x="31" y="387"/>
                  </a:lnTo>
                  <a:lnTo>
                    <a:pt x="20" y="304"/>
                  </a:lnTo>
                  <a:lnTo>
                    <a:pt x="11" y="223"/>
                  </a:lnTo>
                  <a:lnTo>
                    <a:pt x="5" y="14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897280" y="3340800"/>
              <a:ext cx="43200" cy="176760"/>
            </a:xfrm>
            <a:custGeom>
              <a:avLst/>
              <a:gdLst/>
              <a:ahLst/>
              <a:rect l="l" t="t" r="r" b="b"/>
              <a:pathLst>
                <a:path w="160" h="649">
                  <a:moveTo>
                    <a:pt x="85" y="649"/>
                  </a:moveTo>
                  <a:lnTo>
                    <a:pt x="76" y="647"/>
                  </a:lnTo>
                  <a:lnTo>
                    <a:pt x="66" y="644"/>
                  </a:lnTo>
                  <a:lnTo>
                    <a:pt x="55" y="643"/>
                  </a:lnTo>
                  <a:lnTo>
                    <a:pt x="45" y="641"/>
                  </a:lnTo>
                  <a:lnTo>
                    <a:pt x="34" y="640"/>
                  </a:lnTo>
                  <a:lnTo>
                    <a:pt x="22" y="639"/>
                  </a:lnTo>
                  <a:lnTo>
                    <a:pt x="12" y="637"/>
                  </a:lnTo>
                  <a:lnTo>
                    <a:pt x="0" y="636"/>
                  </a:lnTo>
                  <a:lnTo>
                    <a:pt x="18" y="553"/>
                  </a:lnTo>
                  <a:lnTo>
                    <a:pt x="33" y="471"/>
                  </a:lnTo>
                  <a:lnTo>
                    <a:pt x="45" y="391"/>
                  </a:lnTo>
                  <a:lnTo>
                    <a:pt x="56" y="311"/>
                  </a:lnTo>
                  <a:lnTo>
                    <a:pt x="64" y="233"/>
                  </a:lnTo>
                  <a:lnTo>
                    <a:pt x="70" y="154"/>
                  </a:lnTo>
                  <a:lnTo>
                    <a:pt x="74" y="77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9" y="2"/>
                  </a:lnTo>
                  <a:lnTo>
                    <a:pt x="121" y="2"/>
                  </a:lnTo>
                  <a:lnTo>
                    <a:pt x="130" y="3"/>
                  </a:lnTo>
                  <a:lnTo>
                    <a:pt x="140" y="5"/>
                  </a:lnTo>
                  <a:lnTo>
                    <a:pt x="151" y="7"/>
                  </a:lnTo>
                  <a:lnTo>
                    <a:pt x="160" y="8"/>
                  </a:lnTo>
                  <a:lnTo>
                    <a:pt x="158" y="85"/>
                  </a:lnTo>
                  <a:lnTo>
                    <a:pt x="154" y="164"/>
                  </a:lnTo>
                  <a:lnTo>
                    <a:pt x="149" y="243"/>
                  </a:lnTo>
                  <a:lnTo>
                    <a:pt x="140" y="322"/>
                  </a:lnTo>
                  <a:lnTo>
                    <a:pt x="130" y="402"/>
                  </a:lnTo>
                  <a:lnTo>
                    <a:pt x="117" y="483"/>
                  </a:lnTo>
                  <a:lnTo>
                    <a:pt x="103" y="566"/>
                  </a:lnTo>
                  <a:lnTo>
                    <a:pt x="85" y="649"/>
                  </a:lnTo>
                  <a:close/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219320" y="3343680"/>
              <a:ext cx="44280" cy="180720"/>
            </a:xfrm>
            <a:custGeom>
              <a:avLst/>
              <a:gdLst/>
              <a:ahLst/>
              <a:rect l="l" t="t" r="r" b="b"/>
              <a:pathLst>
                <a:path w="165" h="668">
                  <a:moveTo>
                    <a:pt x="0" y="23"/>
                  </a:moveTo>
                  <a:lnTo>
                    <a:pt x="10" y="20"/>
                  </a:lnTo>
                  <a:lnTo>
                    <a:pt x="20" y="16"/>
                  </a:lnTo>
                  <a:lnTo>
                    <a:pt x="31" y="13"/>
                  </a:lnTo>
                  <a:lnTo>
                    <a:pt x="41" y="9"/>
                  </a:lnTo>
                  <a:lnTo>
                    <a:pt x="52" y="7"/>
                  </a:lnTo>
                  <a:lnTo>
                    <a:pt x="62" y="5"/>
                  </a:lnTo>
                  <a:lnTo>
                    <a:pt x="74" y="2"/>
                  </a:lnTo>
                  <a:lnTo>
                    <a:pt x="86" y="0"/>
                  </a:lnTo>
                  <a:lnTo>
                    <a:pt x="88" y="77"/>
                  </a:lnTo>
                  <a:lnTo>
                    <a:pt x="93" y="156"/>
                  </a:lnTo>
                  <a:lnTo>
                    <a:pt x="99" y="234"/>
                  </a:lnTo>
                  <a:lnTo>
                    <a:pt x="108" y="313"/>
                  </a:lnTo>
                  <a:lnTo>
                    <a:pt x="118" y="393"/>
                  </a:lnTo>
                  <a:lnTo>
                    <a:pt x="131" y="474"/>
                  </a:lnTo>
                  <a:lnTo>
                    <a:pt x="148" y="555"/>
                  </a:lnTo>
                  <a:lnTo>
                    <a:pt x="165" y="639"/>
                  </a:lnTo>
                  <a:lnTo>
                    <a:pt x="154" y="641"/>
                  </a:lnTo>
                  <a:lnTo>
                    <a:pt x="143" y="644"/>
                  </a:lnTo>
                  <a:lnTo>
                    <a:pt x="133" y="648"/>
                  </a:lnTo>
                  <a:lnTo>
                    <a:pt x="122" y="651"/>
                  </a:lnTo>
                  <a:lnTo>
                    <a:pt x="113" y="655"/>
                  </a:lnTo>
                  <a:lnTo>
                    <a:pt x="103" y="658"/>
                  </a:lnTo>
                  <a:lnTo>
                    <a:pt x="94" y="663"/>
                  </a:lnTo>
                  <a:lnTo>
                    <a:pt x="85" y="668"/>
                  </a:lnTo>
                  <a:lnTo>
                    <a:pt x="66" y="584"/>
                  </a:lnTo>
                  <a:lnTo>
                    <a:pt x="49" y="501"/>
                  </a:lnTo>
                  <a:lnTo>
                    <a:pt x="35" y="419"/>
                  </a:lnTo>
                  <a:lnTo>
                    <a:pt x="25" y="338"/>
                  </a:lnTo>
                  <a:lnTo>
                    <a:pt x="16" y="258"/>
                  </a:lnTo>
                  <a:lnTo>
                    <a:pt x="9" y="179"/>
                  </a:lnTo>
                  <a:lnTo>
                    <a:pt x="3" y="10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874240" y="3340800"/>
              <a:ext cx="43200" cy="173880"/>
            </a:xfrm>
            <a:custGeom>
              <a:avLst/>
              <a:gdLst/>
              <a:ahLst/>
              <a:rect l="l" t="t" r="r" b="b"/>
              <a:pathLst>
                <a:path w="161" h="637">
                  <a:moveTo>
                    <a:pt x="85" y="637"/>
                  </a:moveTo>
                  <a:lnTo>
                    <a:pt x="75" y="636"/>
                  </a:lnTo>
                  <a:lnTo>
                    <a:pt x="64" y="636"/>
                  </a:lnTo>
                  <a:lnTo>
                    <a:pt x="54" y="635"/>
                  </a:lnTo>
                  <a:lnTo>
                    <a:pt x="43" y="635"/>
                  </a:lnTo>
                  <a:lnTo>
                    <a:pt x="32" y="635"/>
                  </a:lnTo>
                  <a:lnTo>
                    <a:pt x="22" y="635"/>
                  </a:lnTo>
                  <a:lnTo>
                    <a:pt x="10" y="635"/>
                  </a:lnTo>
                  <a:lnTo>
                    <a:pt x="0" y="635"/>
                  </a:lnTo>
                  <a:lnTo>
                    <a:pt x="17" y="552"/>
                  </a:lnTo>
                  <a:lnTo>
                    <a:pt x="32" y="471"/>
                  </a:lnTo>
                  <a:lnTo>
                    <a:pt x="44" y="390"/>
                  </a:lnTo>
                  <a:lnTo>
                    <a:pt x="56" y="312"/>
                  </a:lnTo>
                  <a:lnTo>
                    <a:pt x="64" y="234"/>
                  </a:lnTo>
                  <a:lnTo>
                    <a:pt x="70" y="155"/>
                  </a:lnTo>
                  <a:lnTo>
                    <a:pt x="73" y="78"/>
                  </a:lnTo>
                  <a:lnTo>
                    <a:pt x="76" y="1"/>
                  </a:lnTo>
                  <a:lnTo>
                    <a:pt x="86" y="1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1" y="1"/>
                  </a:lnTo>
                  <a:lnTo>
                    <a:pt x="161" y="1"/>
                  </a:lnTo>
                  <a:lnTo>
                    <a:pt x="159" y="78"/>
                  </a:lnTo>
                  <a:lnTo>
                    <a:pt x="155" y="155"/>
                  </a:lnTo>
                  <a:lnTo>
                    <a:pt x="149" y="234"/>
                  </a:lnTo>
                  <a:lnTo>
                    <a:pt x="141" y="312"/>
                  </a:lnTo>
                  <a:lnTo>
                    <a:pt x="130" y="392"/>
                  </a:lnTo>
                  <a:lnTo>
                    <a:pt x="118" y="472"/>
                  </a:lnTo>
                  <a:lnTo>
                    <a:pt x="103" y="554"/>
                  </a:lnTo>
                  <a:lnTo>
                    <a:pt x="85" y="637"/>
                  </a:lnTo>
                  <a:close/>
                </a:path>
              </a:pathLst>
            </a:custGeom>
            <a:solidFill>
              <a:srgbClr val="ff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242360" y="3340800"/>
              <a:ext cx="44280" cy="176760"/>
            </a:xfrm>
            <a:custGeom>
              <a:avLst/>
              <a:gdLst/>
              <a:ahLst/>
              <a:rect l="l" t="t" r="r" b="b"/>
              <a:pathLst>
                <a:path w="163" h="646">
                  <a:moveTo>
                    <a:pt x="0" y="7"/>
                  </a:moveTo>
                  <a:lnTo>
                    <a:pt x="10" y="6"/>
                  </a:lnTo>
                  <a:lnTo>
                    <a:pt x="20" y="5"/>
                  </a:lnTo>
                  <a:lnTo>
                    <a:pt x="30" y="3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86" y="77"/>
                  </a:lnTo>
                  <a:lnTo>
                    <a:pt x="90" y="154"/>
                  </a:lnTo>
                  <a:lnTo>
                    <a:pt x="97" y="233"/>
                  </a:lnTo>
                  <a:lnTo>
                    <a:pt x="105" y="311"/>
                  </a:lnTo>
                  <a:lnTo>
                    <a:pt x="117" y="391"/>
                  </a:lnTo>
                  <a:lnTo>
                    <a:pt x="130" y="471"/>
                  </a:lnTo>
                  <a:lnTo>
                    <a:pt x="146" y="552"/>
                  </a:lnTo>
                  <a:lnTo>
                    <a:pt x="163" y="635"/>
                  </a:lnTo>
                  <a:lnTo>
                    <a:pt x="152" y="636"/>
                  </a:lnTo>
                  <a:lnTo>
                    <a:pt x="141" y="637"/>
                  </a:lnTo>
                  <a:lnTo>
                    <a:pt x="131" y="639"/>
                  </a:lnTo>
                  <a:lnTo>
                    <a:pt x="120" y="640"/>
                  </a:lnTo>
                  <a:lnTo>
                    <a:pt x="110" y="641"/>
                  </a:lnTo>
                  <a:lnTo>
                    <a:pt x="99" y="642"/>
                  </a:lnTo>
                  <a:lnTo>
                    <a:pt x="89" y="644"/>
                  </a:lnTo>
                  <a:lnTo>
                    <a:pt x="79" y="646"/>
                  </a:lnTo>
                  <a:lnTo>
                    <a:pt x="62" y="562"/>
                  </a:lnTo>
                  <a:lnTo>
                    <a:pt x="45" y="481"/>
                  </a:lnTo>
                  <a:lnTo>
                    <a:pt x="32" y="400"/>
                  </a:lnTo>
                  <a:lnTo>
                    <a:pt x="22" y="320"/>
                  </a:lnTo>
                  <a:lnTo>
                    <a:pt x="13" y="241"/>
                  </a:lnTo>
                  <a:lnTo>
                    <a:pt x="7" y="163"/>
                  </a:lnTo>
                  <a:lnTo>
                    <a:pt x="2" y="8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849760" y="3340800"/>
              <a:ext cx="44640" cy="173880"/>
            </a:xfrm>
            <a:custGeom>
              <a:avLst/>
              <a:gdLst/>
              <a:ahLst/>
              <a:rect l="l" t="t" r="r" b="b"/>
              <a:pathLst>
                <a:path w="165" h="637">
                  <a:moveTo>
                    <a:pt x="89" y="634"/>
                  </a:moveTo>
                  <a:lnTo>
                    <a:pt x="78" y="634"/>
                  </a:lnTo>
                  <a:lnTo>
                    <a:pt x="67" y="634"/>
                  </a:lnTo>
                  <a:lnTo>
                    <a:pt x="56" y="634"/>
                  </a:lnTo>
                  <a:lnTo>
                    <a:pt x="44" y="635"/>
                  </a:lnTo>
                  <a:lnTo>
                    <a:pt x="34" y="635"/>
                  </a:lnTo>
                  <a:lnTo>
                    <a:pt x="22" y="636"/>
                  </a:lnTo>
                  <a:lnTo>
                    <a:pt x="12" y="636"/>
                  </a:lnTo>
                  <a:lnTo>
                    <a:pt x="0" y="637"/>
                  </a:lnTo>
                  <a:lnTo>
                    <a:pt x="19" y="554"/>
                  </a:lnTo>
                  <a:lnTo>
                    <a:pt x="34" y="474"/>
                  </a:lnTo>
                  <a:lnTo>
                    <a:pt x="48" y="393"/>
                  </a:lnTo>
                  <a:lnTo>
                    <a:pt x="58" y="315"/>
                  </a:lnTo>
                  <a:lnTo>
                    <a:pt x="68" y="236"/>
                  </a:lnTo>
                  <a:lnTo>
                    <a:pt x="74" y="159"/>
                  </a:lnTo>
                  <a:lnTo>
                    <a:pt x="78" y="82"/>
                  </a:lnTo>
                  <a:lnTo>
                    <a:pt x="81" y="5"/>
                  </a:lnTo>
                  <a:lnTo>
                    <a:pt x="91" y="3"/>
                  </a:lnTo>
                  <a:lnTo>
                    <a:pt x="103" y="3"/>
                  </a:lnTo>
                  <a:lnTo>
                    <a:pt x="113" y="2"/>
                  </a:lnTo>
                  <a:lnTo>
                    <a:pt x="124" y="2"/>
                  </a:lnTo>
                  <a:lnTo>
                    <a:pt x="134" y="1"/>
                  </a:lnTo>
                  <a:lnTo>
                    <a:pt x="145" y="1"/>
                  </a:lnTo>
                  <a:lnTo>
                    <a:pt x="154" y="0"/>
                  </a:lnTo>
                  <a:lnTo>
                    <a:pt x="165" y="0"/>
                  </a:lnTo>
                  <a:lnTo>
                    <a:pt x="162" y="77"/>
                  </a:lnTo>
                  <a:lnTo>
                    <a:pt x="159" y="154"/>
                  </a:lnTo>
                  <a:lnTo>
                    <a:pt x="153" y="233"/>
                  </a:lnTo>
                  <a:lnTo>
                    <a:pt x="145" y="311"/>
                  </a:lnTo>
                  <a:lnTo>
                    <a:pt x="133" y="389"/>
                  </a:lnTo>
                  <a:lnTo>
                    <a:pt x="121" y="470"/>
                  </a:lnTo>
                  <a:lnTo>
                    <a:pt x="106" y="551"/>
                  </a:lnTo>
                  <a:lnTo>
                    <a:pt x="89" y="634"/>
                  </a:lnTo>
                  <a:close/>
                </a:path>
              </a:pathLst>
            </a:custGeom>
            <a:solidFill>
              <a:srgbClr val="ff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265400" y="3340800"/>
              <a:ext cx="44280" cy="172800"/>
            </a:xfrm>
            <a:custGeom>
              <a:avLst/>
              <a:gdLst/>
              <a:ahLst/>
              <a:rect l="l" t="t" r="r" b="b"/>
              <a:pathLst>
                <a:path w="167" h="635">
                  <a:moveTo>
                    <a:pt x="0" y="0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5" y="1"/>
                  </a:lnTo>
                  <a:lnTo>
                    <a:pt x="85" y="1"/>
                  </a:lnTo>
                  <a:lnTo>
                    <a:pt x="88" y="78"/>
                  </a:lnTo>
                  <a:lnTo>
                    <a:pt x="91" y="155"/>
                  </a:lnTo>
                  <a:lnTo>
                    <a:pt x="98" y="233"/>
                  </a:lnTo>
                  <a:lnTo>
                    <a:pt x="108" y="311"/>
                  </a:lnTo>
                  <a:lnTo>
                    <a:pt x="119" y="391"/>
                  </a:lnTo>
                  <a:lnTo>
                    <a:pt x="132" y="470"/>
                  </a:lnTo>
                  <a:lnTo>
                    <a:pt x="148" y="552"/>
                  </a:lnTo>
                  <a:lnTo>
                    <a:pt x="167" y="634"/>
                  </a:lnTo>
                  <a:lnTo>
                    <a:pt x="155" y="634"/>
                  </a:lnTo>
                  <a:lnTo>
                    <a:pt x="145" y="634"/>
                  </a:lnTo>
                  <a:lnTo>
                    <a:pt x="133" y="634"/>
                  </a:lnTo>
                  <a:lnTo>
                    <a:pt x="123" y="634"/>
                  </a:lnTo>
                  <a:lnTo>
                    <a:pt x="111" y="634"/>
                  </a:lnTo>
                  <a:lnTo>
                    <a:pt x="100" y="634"/>
                  </a:lnTo>
                  <a:lnTo>
                    <a:pt x="90" y="635"/>
                  </a:lnTo>
                  <a:lnTo>
                    <a:pt x="79" y="635"/>
                  </a:lnTo>
                  <a:lnTo>
                    <a:pt x="62" y="552"/>
                  </a:lnTo>
                  <a:lnTo>
                    <a:pt x="46" y="471"/>
                  </a:lnTo>
                  <a:lnTo>
                    <a:pt x="33" y="391"/>
                  </a:lnTo>
                  <a:lnTo>
                    <a:pt x="21" y="311"/>
                  </a:lnTo>
                  <a:lnTo>
                    <a:pt x="13" y="233"/>
                  </a:lnTo>
                  <a:lnTo>
                    <a:pt x="6" y="154"/>
                  </a:lnTo>
                  <a:lnTo>
                    <a:pt x="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826720" y="3341880"/>
              <a:ext cx="45720" cy="174240"/>
            </a:xfrm>
            <a:custGeom>
              <a:avLst/>
              <a:gdLst/>
              <a:ahLst/>
              <a:rect l="l" t="t" r="r" b="b"/>
              <a:pathLst>
                <a:path w="170" h="638">
                  <a:moveTo>
                    <a:pt x="89" y="632"/>
                  </a:moveTo>
                  <a:lnTo>
                    <a:pt x="78" y="632"/>
                  </a:lnTo>
                  <a:lnTo>
                    <a:pt x="68" y="634"/>
                  </a:lnTo>
                  <a:lnTo>
                    <a:pt x="56" y="634"/>
                  </a:lnTo>
                  <a:lnTo>
                    <a:pt x="46" y="635"/>
                  </a:lnTo>
                  <a:lnTo>
                    <a:pt x="34" y="636"/>
                  </a:lnTo>
                  <a:lnTo>
                    <a:pt x="22" y="637"/>
                  </a:lnTo>
                  <a:lnTo>
                    <a:pt x="12" y="637"/>
                  </a:lnTo>
                  <a:lnTo>
                    <a:pt x="0" y="638"/>
                  </a:lnTo>
                  <a:lnTo>
                    <a:pt x="19" y="556"/>
                  </a:lnTo>
                  <a:lnTo>
                    <a:pt x="35" y="476"/>
                  </a:lnTo>
                  <a:lnTo>
                    <a:pt x="49" y="395"/>
                  </a:lnTo>
                  <a:lnTo>
                    <a:pt x="61" y="317"/>
                  </a:lnTo>
                  <a:lnTo>
                    <a:pt x="70" y="238"/>
                  </a:lnTo>
                  <a:lnTo>
                    <a:pt x="77" y="161"/>
                  </a:lnTo>
                  <a:lnTo>
                    <a:pt x="82" y="84"/>
                  </a:lnTo>
                  <a:lnTo>
                    <a:pt x="84" y="8"/>
                  </a:lnTo>
                  <a:lnTo>
                    <a:pt x="95" y="7"/>
                  </a:lnTo>
                  <a:lnTo>
                    <a:pt x="105" y="5"/>
                  </a:lnTo>
                  <a:lnTo>
                    <a:pt x="116" y="4"/>
                  </a:lnTo>
                  <a:lnTo>
                    <a:pt x="127" y="3"/>
                  </a:lnTo>
                  <a:lnTo>
                    <a:pt x="138" y="2"/>
                  </a:lnTo>
                  <a:lnTo>
                    <a:pt x="148" y="2"/>
                  </a:lnTo>
                  <a:lnTo>
                    <a:pt x="159" y="1"/>
                  </a:lnTo>
                  <a:lnTo>
                    <a:pt x="170" y="0"/>
                  </a:lnTo>
                  <a:lnTo>
                    <a:pt x="167" y="77"/>
                  </a:lnTo>
                  <a:lnTo>
                    <a:pt x="163" y="154"/>
                  </a:lnTo>
                  <a:lnTo>
                    <a:pt x="157" y="231"/>
                  </a:lnTo>
                  <a:lnTo>
                    <a:pt x="147" y="310"/>
                  </a:lnTo>
                  <a:lnTo>
                    <a:pt x="137" y="388"/>
                  </a:lnTo>
                  <a:lnTo>
                    <a:pt x="123" y="469"/>
                  </a:lnTo>
                  <a:lnTo>
                    <a:pt x="108" y="549"/>
                  </a:lnTo>
                  <a:lnTo>
                    <a:pt x="89" y="632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288080" y="3341880"/>
              <a:ext cx="45720" cy="172800"/>
            </a:xfrm>
            <a:custGeom>
              <a:avLst/>
              <a:gdLst/>
              <a:ahLst/>
              <a:rect l="l" t="t" r="r" b="b"/>
              <a:pathLst>
                <a:path w="169" h="636">
                  <a:moveTo>
                    <a:pt x="0" y="0"/>
                  </a:moveTo>
                  <a:lnTo>
                    <a:pt x="11" y="0"/>
                  </a:lnTo>
                  <a:lnTo>
                    <a:pt x="21" y="1"/>
                  </a:lnTo>
                  <a:lnTo>
                    <a:pt x="32" y="1"/>
                  </a:lnTo>
                  <a:lnTo>
                    <a:pt x="42" y="2"/>
                  </a:lnTo>
                  <a:lnTo>
                    <a:pt x="53" y="2"/>
                  </a:lnTo>
                  <a:lnTo>
                    <a:pt x="63" y="4"/>
                  </a:lnTo>
                  <a:lnTo>
                    <a:pt x="74" y="4"/>
                  </a:lnTo>
                  <a:lnTo>
                    <a:pt x="84" y="5"/>
                  </a:lnTo>
                  <a:lnTo>
                    <a:pt x="87" y="82"/>
                  </a:lnTo>
                  <a:lnTo>
                    <a:pt x="91" y="159"/>
                  </a:lnTo>
                  <a:lnTo>
                    <a:pt x="99" y="236"/>
                  </a:lnTo>
                  <a:lnTo>
                    <a:pt x="108" y="315"/>
                  </a:lnTo>
                  <a:lnTo>
                    <a:pt x="120" y="394"/>
                  </a:lnTo>
                  <a:lnTo>
                    <a:pt x="134" y="474"/>
                  </a:lnTo>
                  <a:lnTo>
                    <a:pt x="150" y="554"/>
                  </a:lnTo>
                  <a:lnTo>
                    <a:pt x="169" y="636"/>
                  </a:lnTo>
                  <a:lnTo>
                    <a:pt x="158" y="636"/>
                  </a:lnTo>
                  <a:lnTo>
                    <a:pt x="146" y="635"/>
                  </a:lnTo>
                  <a:lnTo>
                    <a:pt x="136" y="635"/>
                  </a:lnTo>
                  <a:lnTo>
                    <a:pt x="125" y="634"/>
                  </a:lnTo>
                  <a:lnTo>
                    <a:pt x="114" y="634"/>
                  </a:lnTo>
                  <a:lnTo>
                    <a:pt x="103" y="633"/>
                  </a:lnTo>
                  <a:lnTo>
                    <a:pt x="93" y="633"/>
                  </a:lnTo>
                  <a:lnTo>
                    <a:pt x="82" y="633"/>
                  </a:lnTo>
                  <a:lnTo>
                    <a:pt x="63" y="551"/>
                  </a:lnTo>
                  <a:lnTo>
                    <a:pt x="47" y="469"/>
                  </a:lnTo>
                  <a:lnTo>
                    <a:pt x="34" y="390"/>
                  </a:lnTo>
                  <a:lnTo>
                    <a:pt x="23" y="310"/>
                  </a:lnTo>
                  <a:lnTo>
                    <a:pt x="13" y="232"/>
                  </a:lnTo>
                  <a:lnTo>
                    <a:pt x="6" y="154"/>
                  </a:lnTo>
                  <a:lnTo>
                    <a:pt x="3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802600" y="3344760"/>
              <a:ext cx="45720" cy="172800"/>
            </a:xfrm>
            <a:custGeom>
              <a:avLst/>
              <a:gdLst/>
              <a:ahLst/>
              <a:rect l="l" t="t" r="r" b="b"/>
              <a:pathLst>
                <a:path w="171" h="637">
                  <a:moveTo>
                    <a:pt x="87" y="630"/>
                  </a:moveTo>
                  <a:lnTo>
                    <a:pt x="76" y="631"/>
                  </a:lnTo>
                  <a:lnTo>
                    <a:pt x="66" y="631"/>
                  </a:lnTo>
                  <a:lnTo>
                    <a:pt x="55" y="633"/>
                  </a:lnTo>
                  <a:lnTo>
                    <a:pt x="44" y="634"/>
                  </a:lnTo>
                  <a:lnTo>
                    <a:pt x="33" y="635"/>
                  </a:lnTo>
                  <a:lnTo>
                    <a:pt x="23" y="635"/>
                  </a:lnTo>
                  <a:lnTo>
                    <a:pt x="11" y="636"/>
                  </a:lnTo>
                  <a:lnTo>
                    <a:pt x="0" y="637"/>
                  </a:lnTo>
                  <a:lnTo>
                    <a:pt x="19" y="555"/>
                  </a:lnTo>
                  <a:lnTo>
                    <a:pt x="36" y="475"/>
                  </a:lnTo>
                  <a:lnTo>
                    <a:pt x="51" y="395"/>
                  </a:lnTo>
                  <a:lnTo>
                    <a:pt x="62" y="317"/>
                  </a:lnTo>
                  <a:lnTo>
                    <a:pt x="72" y="238"/>
                  </a:lnTo>
                  <a:lnTo>
                    <a:pt x="79" y="161"/>
                  </a:lnTo>
                  <a:lnTo>
                    <a:pt x="83" y="84"/>
                  </a:lnTo>
                  <a:lnTo>
                    <a:pt x="86" y="8"/>
                  </a:lnTo>
                  <a:lnTo>
                    <a:pt x="96" y="7"/>
                  </a:lnTo>
                  <a:lnTo>
                    <a:pt x="108" y="6"/>
                  </a:lnTo>
                  <a:lnTo>
                    <a:pt x="119" y="4"/>
                  </a:lnTo>
                  <a:lnTo>
                    <a:pt x="129" y="3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61" y="1"/>
                  </a:lnTo>
                  <a:lnTo>
                    <a:pt x="171" y="0"/>
                  </a:lnTo>
                  <a:lnTo>
                    <a:pt x="169" y="76"/>
                  </a:lnTo>
                  <a:lnTo>
                    <a:pt x="164" y="153"/>
                  </a:lnTo>
                  <a:lnTo>
                    <a:pt x="157" y="230"/>
                  </a:lnTo>
                  <a:lnTo>
                    <a:pt x="148" y="309"/>
                  </a:lnTo>
                  <a:lnTo>
                    <a:pt x="136" y="387"/>
                  </a:lnTo>
                  <a:lnTo>
                    <a:pt x="122" y="468"/>
                  </a:lnTo>
                  <a:lnTo>
                    <a:pt x="106" y="548"/>
                  </a:lnTo>
                  <a:lnTo>
                    <a:pt x="87" y="630"/>
                  </a:lnTo>
                  <a:close/>
                </a:path>
              </a:pathLst>
            </a:custGeom>
            <a:solidFill>
              <a:srgbClr val="ff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311120" y="3343680"/>
              <a:ext cx="47520" cy="172800"/>
            </a:xfrm>
            <a:custGeom>
              <a:avLst/>
              <a:gdLst/>
              <a:ahLst/>
              <a:rect l="l" t="t" r="r" b="b"/>
              <a:pathLst>
                <a:path w="175" h="637">
                  <a:moveTo>
                    <a:pt x="0" y="0"/>
                  </a:moveTo>
                  <a:lnTo>
                    <a:pt x="11" y="1"/>
                  </a:lnTo>
                  <a:lnTo>
                    <a:pt x="22" y="2"/>
                  </a:lnTo>
                  <a:lnTo>
                    <a:pt x="32" y="2"/>
                  </a:lnTo>
                  <a:lnTo>
                    <a:pt x="44" y="3"/>
                  </a:lnTo>
                  <a:lnTo>
                    <a:pt x="54" y="4"/>
                  </a:lnTo>
                  <a:lnTo>
                    <a:pt x="65" y="6"/>
                  </a:lnTo>
                  <a:lnTo>
                    <a:pt x="76" y="7"/>
                  </a:lnTo>
                  <a:lnTo>
                    <a:pt x="87" y="8"/>
                  </a:lnTo>
                  <a:lnTo>
                    <a:pt x="89" y="84"/>
                  </a:lnTo>
                  <a:lnTo>
                    <a:pt x="94" y="161"/>
                  </a:lnTo>
                  <a:lnTo>
                    <a:pt x="101" y="238"/>
                  </a:lnTo>
                  <a:lnTo>
                    <a:pt x="112" y="317"/>
                  </a:lnTo>
                  <a:lnTo>
                    <a:pt x="123" y="395"/>
                  </a:lnTo>
                  <a:lnTo>
                    <a:pt x="137" y="476"/>
                  </a:lnTo>
                  <a:lnTo>
                    <a:pt x="155" y="555"/>
                  </a:lnTo>
                  <a:lnTo>
                    <a:pt x="175" y="637"/>
                  </a:lnTo>
                  <a:lnTo>
                    <a:pt x="163" y="636"/>
                  </a:lnTo>
                  <a:lnTo>
                    <a:pt x="152" y="636"/>
                  </a:lnTo>
                  <a:lnTo>
                    <a:pt x="141" y="635"/>
                  </a:lnTo>
                  <a:lnTo>
                    <a:pt x="129" y="634"/>
                  </a:lnTo>
                  <a:lnTo>
                    <a:pt x="117" y="634"/>
                  </a:lnTo>
                  <a:lnTo>
                    <a:pt x="107" y="633"/>
                  </a:lnTo>
                  <a:lnTo>
                    <a:pt x="95" y="633"/>
                  </a:lnTo>
                  <a:lnTo>
                    <a:pt x="85" y="631"/>
                  </a:lnTo>
                  <a:lnTo>
                    <a:pt x="66" y="549"/>
                  </a:lnTo>
                  <a:lnTo>
                    <a:pt x="50" y="469"/>
                  </a:lnTo>
                  <a:lnTo>
                    <a:pt x="36" y="389"/>
                  </a:lnTo>
                  <a:lnTo>
                    <a:pt x="24" y="310"/>
                  </a:lnTo>
                  <a:lnTo>
                    <a:pt x="15" y="231"/>
                  </a:lnTo>
                  <a:lnTo>
                    <a:pt x="7" y="154"/>
                  </a:lnTo>
                  <a:lnTo>
                    <a:pt x="3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778120" y="3347640"/>
              <a:ext cx="47160" cy="172800"/>
            </a:xfrm>
            <a:custGeom>
              <a:avLst/>
              <a:gdLst/>
              <a:ahLst/>
              <a:rect l="l" t="t" r="r" b="b"/>
              <a:pathLst>
                <a:path w="177" h="636">
                  <a:moveTo>
                    <a:pt x="91" y="629"/>
                  </a:moveTo>
                  <a:lnTo>
                    <a:pt x="80" y="630"/>
                  </a:lnTo>
                  <a:lnTo>
                    <a:pt x="69" y="630"/>
                  </a:lnTo>
                  <a:lnTo>
                    <a:pt x="58" y="632"/>
                  </a:lnTo>
                  <a:lnTo>
                    <a:pt x="46" y="633"/>
                  </a:lnTo>
                  <a:lnTo>
                    <a:pt x="34" y="634"/>
                  </a:lnTo>
                  <a:lnTo>
                    <a:pt x="24" y="634"/>
                  </a:lnTo>
                  <a:lnTo>
                    <a:pt x="12" y="635"/>
                  </a:lnTo>
                  <a:lnTo>
                    <a:pt x="0" y="636"/>
                  </a:lnTo>
                  <a:lnTo>
                    <a:pt x="20" y="554"/>
                  </a:lnTo>
                  <a:lnTo>
                    <a:pt x="38" y="475"/>
                  </a:lnTo>
                  <a:lnTo>
                    <a:pt x="53" y="394"/>
                  </a:lnTo>
                  <a:lnTo>
                    <a:pt x="66" y="316"/>
                  </a:lnTo>
                  <a:lnTo>
                    <a:pt x="75" y="237"/>
                  </a:lnTo>
                  <a:lnTo>
                    <a:pt x="83" y="160"/>
                  </a:lnTo>
                  <a:lnTo>
                    <a:pt x="89" y="83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114" y="5"/>
                  </a:lnTo>
                  <a:lnTo>
                    <a:pt x="124" y="5"/>
                  </a:lnTo>
                  <a:lnTo>
                    <a:pt x="135" y="4"/>
                  </a:lnTo>
                  <a:lnTo>
                    <a:pt x="145" y="2"/>
                  </a:lnTo>
                  <a:lnTo>
                    <a:pt x="156" y="1"/>
                  </a:lnTo>
                  <a:lnTo>
                    <a:pt x="166" y="1"/>
                  </a:lnTo>
                  <a:lnTo>
                    <a:pt x="177" y="0"/>
                  </a:lnTo>
                  <a:lnTo>
                    <a:pt x="174" y="76"/>
                  </a:lnTo>
                  <a:lnTo>
                    <a:pt x="170" y="153"/>
                  </a:lnTo>
                  <a:lnTo>
                    <a:pt x="163" y="230"/>
                  </a:lnTo>
                  <a:lnTo>
                    <a:pt x="153" y="309"/>
                  </a:lnTo>
                  <a:lnTo>
                    <a:pt x="142" y="387"/>
                  </a:lnTo>
                  <a:lnTo>
                    <a:pt x="127" y="467"/>
                  </a:lnTo>
                  <a:lnTo>
                    <a:pt x="110" y="547"/>
                  </a:lnTo>
                  <a:lnTo>
                    <a:pt x="91" y="629"/>
                  </a:lnTo>
                  <a:close/>
                </a:path>
              </a:pathLst>
            </a:custGeom>
            <a:solidFill>
              <a:srgbClr val="ff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334160" y="3344760"/>
              <a:ext cx="48600" cy="173880"/>
            </a:xfrm>
            <a:custGeom>
              <a:avLst/>
              <a:gdLst/>
              <a:ahLst/>
              <a:rect l="l" t="t" r="r" b="b"/>
              <a:pathLst>
                <a:path w="179" h="637">
                  <a:moveTo>
                    <a:pt x="0" y="0"/>
                  </a:moveTo>
                  <a:lnTo>
                    <a:pt x="11" y="1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42" y="3"/>
                  </a:lnTo>
                  <a:lnTo>
                    <a:pt x="53" y="5"/>
                  </a:lnTo>
                  <a:lnTo>
                    <a:pt x="63" y="6"/>
                  </a:lnTo>
                  <a:lnTo>
                    <a:pt x="74" y="7"/>
                  </a:lnTo>
                  <a:lnTo>
                    <a:pt x="84" y="8"/>
                  </a:lnTo>
                  <a:lnTo>
                    <a:pt x="88" y="84"/>
                  </a:lnTo>
                  <a:lnTo>
                    <a:pt x="94" y="161"/>
                  </a:lnTo>
                  <a:lnTo>
                    <a:pt x="101" y="239"/>
                  </a:lnTo>
                  <a:lnTo>
                    <a:pt x="111" y="317"/>
                  </a:lnTo>
                  <a:lnTo>
                    <a:pt x="124" y="395"/>
                  </a:lnTo>
                  <a:lnTo>
                    <a:pt x="140" y="476"/>
                  </a:lnTo>
                  <a:lnTo>
                    <a:pt x="158" y="556"/>
                  </a:lnTo>
                  <a:lnTo>
                    <a:pt x="179" y="637"/>
                  </a:lnTo>
                  <a:lnTo>
                    <a:pt x="167" y="636"/>
                  </a:lnTo>
                  <a:lnTo>
                    <a:pt x="157" y="635"/>
                  </a:lnTo>
                  <a:lnTo>
                    <a:pt x="145" y="635"/>
                  </a:lnTo>
                  <a:lnTo>
                    <a:pt x="133" y="634"/>
                  </a:lnTo>
                  <a:lnTo>
                    <a:pt x="122" y="633"/>
                  </a:lnTo>
                  <a:lnTo>
                    <a:pt x="111" y="632"/>
                  </a:lnTo>
                  <a:lnTo>
                    <a:pt x="99" y="630"/>
                  </a:lnTo>
                  <a:lnTo>
                    <a:pt x="88" y="629"/>
                  </a:lnTo>
                  <a:lnTo>
                    <a:pt x="68" y="547"/>
                  </a:lnTo>
                  <a:lnTo>
                    <a:pt x="50" y="468"/>
                  </a:lnTo>
                  <a:lnTo>
                    <a:pt x="36" y="387"/>
                  </a:lnTo>
                  <a:lnTo>
                    <a:pt x="25" y="309"/>
                  </a:lnTo>
                  <a:lnTo>
                    <a:pt x="14" y="230"/>
                  </a:lnTo>
                  <a:lnTo>
                    <a:pt x="7" y="153"/>
                  </a:lnTo>
                  <a:lnTo>
                    <a:pt x="2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753640" y="3348720"/>
              <a:ext cx="48600" cy="172800"/>
            </a:xfrm>
            <a:custGeom>
              <a:avLst/>
              <a:gdLst/>
              <a:ahLst/>
              <a:rect l="l" t="t" r="r" b="b"/>
              <a:pathLst>
                <a:path w="182" h="635">
                  <a:moveTo>
                    <a:pt x="91" y="629"/>
                  </a:moveTo>
                  <a:lnTo>
                    <a:pt x="80" y="630"/>
                  </a:lnTo>
                  <a:lnTo>
                    <a:pt x="69" y="630"/>
                  </a:lnTo>
                  <a:lnTo>
                    <a:pt x="57" y="632"/>
                  </a:lnTo>
                  <a:lnTo>
                    <a:pt x="46" y="633"/>
                  </a:lnTo>
                  <a:lnTo>
                    <a:pt x="34" y="634"/>
                  </a:lnTo>
                  <a:lnTo>
                    <a:pt x="23" y="634"/>
                  </a:lnTo>
                  <a:lnTo>
                    <a:pt x="12" y="635"/>
                  </a:lnTo>
                  <a:lnTo>
                    <a:pt x="0" y="635"/>
                  </a:lnTo>
                  <a:lnTo>
                    <a:pt x="21" y="553"/>
                  </a:lnTo>
                  <a:lnTo>
                    <a:pt x="40" y="474"/>
                  </a:lnTo>
                  <a:lnTo>
                    <a:pt x="56" y="394"/>
                  </a:lnTo>
                  <a:lnTo>
                    <a:pt x="69" y="315"/>
                  </a:lnTo>
                  <a:lnTo>
                    <a:pt x="80" y="237"/>
                  </a:lnTo>
                  <a:lnTo>
                    <a:pt x="88" y="160"/>
                  </a:lnTo>
                  <a:lnTo>
                    <a:pt x="94" y="83"/>
                  </a:lnTo>
                  <a:lnTo>
                    <a:pt x="97" y="6"/>
                  </a:lnTo>
                  <a:lnTo>
                    <a:pt x="108" y="6"/>
                  </a:lnTo>
                  <a:lnTo>
                    <a:pt x="118" y="5"/>
                  </a:lnTo>
                  <a:lnTo>
                    <a:pt x="129" y="5"/>
                  </a:lnTo>
                  <a:lnTo>
                    <a:pt x="140" y="4"/>
                  </a:lnTo>
                  <a:lnTo>
                    <a:pt x="151" y="2"/>
                  </a:lnTo>
                  <a:lnTo>
                    <a:pt x="161" y="1"/>
                  </a:lnTo>
                  <a:lnTo>
                    <a:pt x="172" y="1"/>
                  </a:lnTo>
                  <a:lnTo>
                    <a:pt x="182" y="0"/>
                  </a:lnTo>
                  <a:lnTo>
                    <a:pt x="180" y="76"/>
                  </a:lnTo>
                  <a:lnTo>
                    <a:pt x="174" y="153"/>
                  </a:lnTo>
                  <a:lnTo>
                    <a:pt x="166" y="230"/>
                  </a:lnTo>
                  <a:lnTo>
                    <a:pt x="157" y="309"/>
                  </a:lnTo>
                  <a:lnTo>
                    <a:pt x="144" y="387"/>
                  </a:lnTo>
                  <a:lnTo>
                    <a:pt x="129" y="468"/>
                  </a:lnTo>
                  <a:lnTo>
                    <a:pt x="111" y="547"/>
                  </a:lnTo>
                  <a:lnTo>
                    <a:pt x="91" y="629"/>
                  </a:lnTo>
                  <a:close/>
                </a:path>
              </a:pathLst>
            </a:cu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357200" y="3347640"/>
              <a:ext cx="50040" cy="172800"/>
            </a:xfrm>
            <a:custGeom>
              <a:avLst/>
              <a:gdLst/>
              <a:ahLst/>
              <a:rect l="l" t="t" r="r" b="b"/>
              <a:pathLst>
                <a:path w="185" h="636">
                  <a:moveTo>
                    <a:pt x="0" y="0"/>
                  </a:moveTo>
                  <a:lnTo>
                    <a:pt x="11" y="1"/>
                  </a:lnTo>
                  <a:lnTo>
                    <a:pt x="22" y="1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4" y="5"/>
                  </a:lnTo>
                  <a:lnTo>
                    <a:pt x="65" y="5"/>
                  </a:lnTo>
                  <a:lnTo>
                    <a:pt x="75" y="6"/>
                  </a:lnTo>
                  <a:lnTo>
                    <a:pt x="86" y="7"/>
                  </a:lnTo>
                  <a:lnTo>
                    <a:pt x="89" y="84"/>
                  </a:lnTo>
                  <a:lnTo>
                    <a:pt x="95" y="162"/>
                  </a:lnTo>
                  <a:lnTo>
                    <a:pt x="103" y="239"/>
                  </a:lnTo>
                  <a:lnTo>
                    <a:pt x="114" y="316"/>
                  </a:lnTo>
                  <a:lnTo>
                    <a:pt x="128" y="395"/>
                  </a:lnTo>
                  <a:lnTo>
                    <a:pt x="144" y="475"/>
                  </a:lnTo>
                  <a:lnTo>
                    <a:pt x="163" y="555"/>
                  </a:lnTo>
                  <a:lnTo>
                    <a:pt x="185" y="636"/>
                  </a:lnTo>
                  <a:lnTo>
                    <a:pt x="173" y="635"/>
                  </a:lnTo>
                  <a:lnTo>
                    <a:pt x="163" y="634"/>
                  </a:lnTo>
                  <a:lnTo>
                    <a:pt x="151" y="634"/>
                  </a:lnTo>
                  <a:lnTo>
                    <a:pt x="141" y="633"/>
                  </a:lnTo>
                  <a:lnTo>
                    <a:pt x="129" y="632"/>
                  </a:lnTo>
                  <a:lnTo>
                    <a:pt x="117" y="631"/>
                  </a:lnTo>
                  <a:lnTo>
                    <a:pt x="107" y="631"/>
                  </a:lnTo>
                  <a:lnTo>
                    <a:pt x="95" y="629"/>
                  </a:lnTo>
                  <a:lnTo>
                    <a:pt x="74" y="548"/>
                  </a:lnTo>
                  <a:lnTo>
                    <a:pt x="56" y="468"/>
                  </a:lnTo>
                  <a:lnTo>
                    <a:pt x="40" y="387"/>
                  </a:lnTo>
                  <a:lnTo>
                    <a:pt x="27" y="309"/>
                  </a:lnTo>
                  <a:lnTo>
                    <a:pt x="17" y="231"/>
                  </a:lnTo>
                  <a:lnTo>
                    <a:pt x="10" y="153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732040" y="3288960"/>
              <a:ext cx="47160" cy="232560"/>
            </a:xfrm>
            <a:custGeom>
              <a:avLst/>
              <a:gdLst/>
              <a:ahLst/>
              <a:rect l="l" t="t" r="r" b="b"/>
              <a:pathLst>
                <a:path w="175" h="857">
                  <a:moveTo>
                    <a:pt x="78" y="855"/>
                  </a:moveTo>
                  <a:lnTo>
                    <a:pt x="69" y="855"/>
                  </a:lnTo>
                  <a:lnTo>
                    <a:pt x="58" y="856"/>
                  </a:lnTo>
                  <a:lnTo>
                    <a:pt x="49" y="856"/>
                  </a:lnTo>
                  <a:lnTo>
                    <a:pt x="39" y="856"/>
                  </a:lnTo>
                  <a:lnTo>
                    <a:pt x="29" y="857"/>
                  </a:lnTo>
                  <a:lnTo>
                    <a:pt x="20" y="857"/>
                  </a:lnTo>
                  <a:lnTo>
                    <a:pt x="9" y="857"/>
                  </a:lnTo>
                  <a:lnTo>
                    <a:pt x="0" y="857"/>
                  </a:lnTo>
                  <a:lnTo>
                    <a:pt x="10" y="831"/>
                  </a:lnTo>
                  <a:lnTo>
                    <a:pt x="16" y="804"/>
                  </a:lnTo>
                  <a:lnTo>
                    <a:pt x="20" y="779"/>
                  </a:lnTo>
                  <a:lnTo>
                    <a:pt x="18" y="754"/>
                  </a:lnTo>
                  <a:lnTo>
                    <a:pt x="39" y="659"/>
                  </a:lnTo>
                  <a:lnTo>
                    <a:pt x="57" y="564"/>
                  </a:lnTo>
                  <a:lnTo>
                    <a:pt x="71" y="470"/>
                  </a:lnTo>
                  <a:lnTo>
                    <a:pt x="83" y="376"/>
                  </a:lnTo>
                  <a:lnTo>
                    <a:pt x="90" y="282"/>
                  </a:lnTo>
                  <a:lnTo>
                    <a:pt x="93" y="188"/>
                  </a:lnTo>
                  <a:lnTo>
                    <a:pt x="93" y="95"/>
                  </a:lnTo>
                  <a:lnTo>
                    <a:pt x="90" y="0"/>
                  </a:lnTo>
                  <a:lnTo>
                    <a:pt x="101" y="25"/>
                  </a:lnTo>
                  <a:lnTo>
                    <a:pt x="110" y="52"/>
                  </a:lnTo>
                  <a:lnTo>
                    <a:pt x="115" y="79"/>
                  </a:lnTo>
                  <a:lnTo>
                    <a:pt x="118" y="107"/>
                  </a:lnTo>
                  <a:lnTo>
                    <a:pt x="118" y="136"/>
                  </a:lnTo>
                  <a:lnTo>
                    <a:pt x="114" y="165"/>
                  </a:lnTo>
                  <a:lnTo>
                    <a:pt x="108" y="197"/>
                  </a:lnTo>
                  <a:lnTo>
                    <a:pt x="99" y="228"/>
                  </a:lnTo>
                  <a:lnTo>
                    <a:pt x="108" y="228"/>
                  </a:lnTo>
                  <a:lnTo>
                    <a:pt x="118" y="228"/>
                  </a:lnTo>
                  <a:lnTo>
                    <a:pt x="127" y="228"/>
                  </a:lnTo>
                  <a:lnTo>
                    <a:pt x="137" y="227"/>
                  </a:lnTo>
                  <a:lnTo>
                    <a:pt x="146" y="227"/>
                  </a:lnTo>
                  <a:lnTo>
                    <a:pt x="156" y="227"/>
                  </a:lnTo>
                  <a:lnTo>
                    <a:pt x="166" y="226"/>
                  </a:lnTo>
                  <a:lnTo>
                    <a:pt x="175" y="226"/>
                  </a:lnTo>
                  <a:lnTo>
                    <a:pt x="172" y="303"/>
                  </a:lnTo>
                  <a:lnTo>
                    <a:pt x="166" y="380"/>
                  </a:lnTo>
                  <a:lnTo>
                    <a:pt x="158" y="457"/>
                  </a:lnTo>
                  <a:lnTo>
                    <a:pt x="147" y="535"/>
                  </a:lnTo>
                  <a:lnTo>
                    <a:pt x="134" y="614"/>
                  </a:lnTo>
                  <a:lnTo>
                    <a:pt x="118" y="694"/>
                  </a:lnTo>
                  <a:lnTo>
                    <a:pt x="99" y="773"/>
                  </a:lnTo>
                  <a:lnTo>
                    <a:pt x="78" y="855"/>
                  </a:lnTo>
                  <a:close/>
                </a:path>
              </a:pathLst>
            </a:cu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721240" y="3260520"/>
              <a:ext cx="36360" cy="234000"/>
            </a:xfrm>
            <a:custGeom>
              <a:avLst/>
              <a:gdLst/>
              <a:ahLst/>
              <a:rect l="l" t="t" r="r" b="b"/>
              <a:pathLst>
                <a:path w="135" h="859">
                  <a:moveTo>
                    <a:pt x="132" y="105"/>
                  </a:moveTo>
                  <a:lnTo>
                    <a:pt x="124" y="90"/>
                  </a:lnTo>
                  <a:lnTo>
                    <a:pt x="114" y="76"/>
                  </a:lnTo>
                  <a:lnTo>
                    <a:pt x="104" y="62"/>
                  </a:lnTo>
                  <a:lnTo>
                    <a:pt x="92" y="49"/>
                  </a:lnTo>
                  <a:lnTo>
                    <a:pt x="80" y="35"/>
                  </a:lnTo>
                  <a:lnTo>
                    <a:pt x="66" y="23"/>
                  </a:lnTo>
                  <a:lnTo>
                    <a:pt x="52" y="12"/>
                  </a:lnTo>
                  <a:lnTo>
                    <a:pt x="37" y="0"/>
                  </a:lnTo>
                  <a:lnTo>
                    <a:pt x="44" y="93"/>
                  </a:lnTo>
                  <a:lnTo>
                    <a:pt x="49" y="187"/>
                  </a:lnTo>
                  <a:lnTo>
                    <a:pt x="49" y="281"/>
                  </a:lnTo>
                  <a:lnTo>
                    <a:pt x="46" y="373"/>
                  </a:lnTo>
                  <a:lnTo>
                    <a:pt x="39" y="467"/>
                  </a:lnTo>
                  <a:lnTo>
                    <a:pt x="30" y="559"/>
                  </a:lnTo>
                  <a:lnTo>
                    <a:pt x="16" y="652"/>
                  </a:lnTo>
                  <a:lnTo>
                    <a:pt x="0" y="747"/>
                  </a:lnTo>
                  <a:lnTo>
                    <a:pt x="12" y="760"/>
                  </a:lnTo>
                  <a:lnTo>
                    <a:pt x="23" y="773"/>
                  </a:lnTo>
                  <a:lnTo>
                    <a:pt x="34" y="786"/>
                  </a:lnTo>
                  <a:lnTo>
                    <a:pt x="42" y="800"/>
                  </a:lnTo>
                  <a:lnTo>
                    <a:pt x="49" y="814"/>
                  </a:lnTo>
                  <a:lnTo>
                    <a:pt x="53" y="829"/>
                  </a:lnTo>
                  <a:lnTo>
                    <a:pt x="58" y="844"/>
                  </a:lnTo>
                  <a:lnTo>
                    <a:pt x="60" y="859"/>
                  </a:lnTo>
                  <a:lnTo>
                    <a:pt x="81" y="764"/>
                  </a:lnTo>
                  <a:lnTo>
                    <a:pt x="99" y="669"/>
                  </a:lnTo>
                  <a:lnTo>
                    <a:pt x="113" y="575"/>
                  </a:lnTo>
                  <a:lnTo>
                    <a:pt x="125" y="481"/>
                  </a:lnTo>
                  <a:lnTo>
                    <a:pt x="132" y="387"/>
                  </a:lnTo>
                  <a:lnTo>
                    <a:pt x="135" y="293"/>
                  </a:lnTo>
                  <a:lnTo>
                    <a:pt x="135" y="200"/>
                  </a:lnTo>
                  <a:lnTo>
                    <a:pt x="132" y="105"/>
                  </a:lnTo>
                  <a:close/>
                </a:path>
              </a:pathLst>
            </a:custGeom>
            <a:solidFill>
              <a:srgbClr val="f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380240" y="3348720"/>
              <a:ext cx="51480" cy="172800"/>
            </a:xfrm>
            <a:custGeom>
              <a:avLst/>
              <a:gdLst/>
              <a:ahLst/>
              <a:rect l="l" t="t" r="r" b="b"/>
              <a:pathLst>
                <a:path w="189" h="634">
                  <a:moveTo>
                    <a:pt x="0" y="0"/>
                  </a:moveTo>
                  <a:lnTo>
                    <a:pt x="10" y="1"/>
                  </a:lnTo>
                  <a:lnTo>
                    <a:pt x="22" y="1"/>
                  </a:lnTo>
                  <a:lnTo>
                    <a:pt x="32" y="3"/>
                  </a:lnTo>
                  <a:lnTo>
                    <a:pt x="43" y="3"/>
                  </a:lnTo>
                  <a:lnTo>
                    <a:pt x="53" y="4"/>
                  </a:lnTo>
                  <a:lnTo>
                    <a:pt x="64" y="5"/>
                  </a:lnTo>
                  <a:lnTo>
                    <a:pt x="74" y="5"/>
                  </a:lnTo>
                  <a:lnTo>
                    <a:pt x="85" y="6"/>
                  </a:lnTo>
                  <a:lnTo>
                    <a:pt x="88" y="83"/>
                  </a:lnTo>
                  <a:lnTo>
                    <a:pt x="94" y="160"/>
                  </a:lnTo>
                  <a:lnTo>
                    <a:pt x="104" y="238"/>
                  </a:lnTo>
                  <a:lnTo>
                    <a:pt x="115" y="316"/>
                  </a:lnTo>
                  <a:lnTo>
                    <a:pt x="129" y="394"/>
                  </a:lnTo>
                  <a:lnTo>
                    <a:pt x="147" y="474"/>
                  </a:lnTo>
                  <a:lnTo>
                    <a:pt x="167" y="553"/>
                  </a:lnTo>
                  <a:lnTo>
                    <a:pt x="189" y="634"/>
                  </a:lnTo>
                  <a:lnTo>
                    <a:pt x="178" y="634"/>
                  </a:lnTo>
                  <a:lnTo>
                    <a:pt x="167" y="633"/>
                  </a:lnTo>
                  <a:lnTo>
                    <a:pt x="156" y="633"/>
                  </a:lnTo>
                  <a:lnTo>
                    <a:pt x="145" y="632"/>
                  </a:lnTo>
                  <a:lnTo>
                    <a:pt x="133" y="632"/>
                  </a:lnTo>
                  <a:lnTo>
                    <a:pt x="121" y="631"/>
                  </a:lnTo>
                  <a:lnTo>
                    <a:pt x="111" y="631"/>
                  </a:lnTo>
                  <a:lnTo>
                    <a:pt x="99" y="629"/>
                  </a:lnTo>
                  <a:lnTo>
                    <a:pt x="77" y="548"/>
                  </a:lnTo>
                  <a:lnTo>
                    <a:pt x="58" y="468"/>
                  </a:lnTo>
                  <a:lnTo>
                    <a:pt x="42" y="388"/>
                  </a:lnTo>
                  <a:lnTo>
                    <a:pt x="28" y="309"/>
                  </a:lnTo>
                  <a:lnTo>
                    <a:pt x="17" y="232"/>
                  </a:lnTo>
                  <a:lnTo>
                    <a:pt x="9" y="155"/>
                  </a:lnTo>
                  <a:lnTo>
                    <a:pt x="3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699640" y="3246480"/>
              <a:ext cx="34920" cy="216720"/>
            </a:xfrm>
            <a:custGeom>
              <a:avLst/>
              <a:gdLst/>
              <a:ahLst/>
              <a:rect l="l" t="t" r="r" b="b"/>
              <a:pathLst>
                <a:path w="127" h="799">
                  <a:moveTo>
                    <a:pt x="115" y="52"/>
                  </a:moveTo>
                  <a:lnTo>
                    <a:pt x="106" y="45"/>
                  </a:lnTo>
                  <a:lnTo>
                    <a:pt x="95" y="38"/>
                  </a:lnTo>
                  <a:lnTo>
                    <a:pt x="85" y="31"/>
                  </a:lnTo>
                  <a:lnTo>
                    <a:pt x="73" y="24"/>
                  </a:lnTo>
                  <a:lnTo>
                    <a:pt x="61" y="18"/>
                  </a:lnTo>
                  <a:lnTo>
                    <a:pt x="50" y="12"/>
                  </a:lnTo>
                  <a:lnTo>
                    <a:pt x="38" y="6"/>
                  </a:lnTo>
                  <a:lnTo>
                    <a:pt x="25" y="0"/>
                  </a:lnTo>
                  <a:lnTo>
                    <a:pt x="34" y="95"/>
                  </a:lnTo>
                  <a:lnTo>
                    <a:pt x="40" y="189"/>
                  </a:lnTo>
                  <a:lnTo>
                    <a:pt x="43" y="282"/>
                  </a:lnTo>
                  <a:lnTo>
                    <a:pt x="41" y="375"/>
                  </a:lnTo>
                  <a:lnTo>
                    <a:pt x="37" y="468"/>
                  </a:lnTo>
                  <a:lnTo>
                    <a:pt x="29" y="562"/>
                  </a:lnTo>
                  <a:lnTo>
                    <a:pt x="16" y="655"/>
                  </a:lnTo>
                  <a:lnTo>
                    <a:pt x="0" y="750"/>
                  </a:lnTo>
                  <a:lnTo>
                    <a:pt x="12" y="756"/>
                  </a:lnTo>
                  <a:lnTo>
                    <a:pt x="23" y="761"/>
                  </a:lnTo>
                  <a:lnTo>
                    <a:pt x="33" y="766"/>
                  </a:lnTo>
                  <a:lnTo>
                    <a:pt x="43" y="772"/>
                  </a:lnTo>
                  <a:lnTo>
                    <a:pt x="52" y="779"/>
                  </a:lnTo>
                  <a:lnTo>
                    <a:pt x="61" y="785"/>
                  </a:lnTo>
                  <a:lnTo>
                    <a:pt x="69" y="792"/>
                  </a:lnTo>
                  <a:lnTo>
                    <a:pt x="78" y="799"/>
                  </a:lnTo>
                  <a:lnTo>
                    <a:pt x="94" y="704"/>
                  </a:lnTo>
                  <a:lnTo>
                    <a:pt x="108" y="611"/>
                  </a:lnTo>
                  <a:lnTo>
                    <a:pt x="117" y="519"/>
                  </a:lnTo>
                  <a:lnTo>
                    <a:pt x="124" y="425"/>
                  </a:lnTo>
                  <a:lnTo>
                    <a:pt x="127" y="333"/>
                  </a:lnTo>
                  <a:lnTo>
                    <a:pt x="127" y="239"/>
                  </a:lnTo>
                  <a:lnTo>
                    <a:pt x="122" y="145"/>
                  </a:lnTo>
                  <a:lnTo>
                    <a:pt x="115" y="52"/>
                  </a:lnTo>
                  <a:close/>
                </a:path>
              </a:pathLst>
            </a:custGeom>
            <a:solidFill>
              <a:srgbClr val="ff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403280" y="3283560"/>
              <a:ext cx="44640" cy="237960"/>
            </a:xfrm>
            <a:custGeom>
              <a:avLst/>
              <a:gdLst/>
              <a:ahLst/>
              <a:rect l="l" t="t" r="r" b="b"/>
              <a:pathLst>
                <a:path w="165" h="877">
                  <a:moveTo>
                    <a:pt x="0" y="247"/>
                  </a:moveTo>
                  <a:lnTo>
                    <a:pt x="8" y="247"/>
                  </a:lnTo>
                  <a:lnTo>
                    <a:pt x="16" y="247"/>
                  </a:lnTo>
                  <a:lnTo>
                    <a:pt x="24" y="247"/>
                  </a:lnTo>
                  <a:lnTo>
                    <a:pt x="34" y="247"/>
                  </a:lnTo>
                  <a:lnTo>
                    <a:pt x="42" y="248"/>
                  </a:lnTo>
                  <a:lnTo>
                    <a:pt x="50" y="248"/>
                  </a:lnTo>
                  <a:lnTo>
                    <a:pt x="58" y="248"/>
                  </a:lnTo>
                  <a:lnTo>
                    <a:pt x="67" y="248"/>
                  </a:lnTo>
                  <a:lnTo>
                    <a:pt x="56" y="213"/>
                  </a:lnTo>
                  <a:lnTo>
                    <a:pt x="50" y="179"/>
                  </a:lnTo>
                  <a:lnTo>
                    <a:pt x="47" y="145"/>
                  </a:lnTo>
                  <a:lnTo>
                    <a:pt x="48" y="114"/>
                  </a:lnTo>
                  <a:lnTo>
                    <a:pt x="53" y="83"/>
                  </a:lnTo>
                  <a:lnTo>
                    <a:pt x="61" y="54"/>
                  </a:lnTo>
                  <a:lnTo>
                    <a:pt x="72" y="27"/>
                  </a:lnTo>
                  <a:lnTo>
                    <a:pt x="88" y="0"/>
                  </a:lnTo>
                  <a:lnTo>
                    <a:pt x="83" y="93"/>
                  </a:lnTo>
                  <a:lnTo>
                    <a:pt x="83" y="185"/>
                  </a:lnTo>
                  <a:lnTo>
                    <a:pt x="85" y="277"/>
                  </a:lnTo>
                  <a:lnTo>
                    <a:pt x="91" y="369"/>
                  </a:lnTo>
                  <a:lnTo>
                    <a:pt x="102" y="461"/>
                  </a:lnTo>
                  <a:lnTo>
                    <a:pt x="114" y="553"/>
                  </a:lnTo>
                  <a:lnTo>
                    <a:pt x="132" y="647"/>
                  </a:lnTo>
                  <a:lnTo>
                    <a:pt x="153" y="741"/>
                  </a:lnTo>
                  <a:lnTo>
                    <a:pt x="146" y="772"/>
                  </a:lnTo>
                  <a:lnTo>
                    <a:pt x="145" y="805"/>
                  </a:lnTo>
                  <a:lnTo>
                    <a:pt x="151" y="840"/>
                  </a:lnTo>
                  <a:lnTo>
                    <a:pt x="165" y="877"/>
                  </a:lnTo>
                  <a:lnTo>
                    <a:pt x="158" y="877"/>
                  </a:lnTo>
                  <a:lnTo>
                    <a:pt x="150" y="877"/>
                  </a:lnTo>
                  <a:lnTo>
                    <a:pt x="143" y="877"/>
                  </a:lnTo>
                  <a:lnTo>
                    <a:pt x="134" y="876"/>
                  </a:lnTo>
                  <a:lnTo>
                    <a:pt x="126" y="876"/>
                  </a:lnTo>
                  <a:lnTo>
                    <a:pt x="119" y="876"/>
                  </a:lnTo>
                  <a:lnTo>
                    <a:pt x="111" y="875"/>
                  </a:lnTo>
                  <a:lnTo>
                    <a:pt x="104" y="875"/>
                  </a:lnTo>
                  <a:lnTo>
                    <a:pt x="82" y="794"/>
                  </a:lnTo>
                  <a:lnTo>
                    <a:pt x="62" y="715"/>
                  </a:lnTo>
                  <a:lnTo>
                    <a:pt x="44" y="635"/>
                  </a:lnTo>
                  <a:lnTo>
                    <a:pt x="30" y="557"/>
                  </a:lnTo>
                  <a:lnTo>
                    <a:pt x="19" y="479"/>
                  </a:lnTo>
                  <a:lnTo>
                    <a:pt x="9" y="401"/>
                  </a:lnTo>
                  <a:lnTo>
                    <a:pt x="3" y="324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678040" y="3237480"/>
              <a:ext cx="33840" cy="213480"/>
            </a:xfrm>
            <a:custGeom>
              <a:avLst/>
              <a:gdLst/>
              <a:ahLst/>
              <a:rect l="l" t="t" r="r" b="b"/>
              <a:pathLst>
                <a:path w="124" h="781">
                  <a:moveTo>
                    <a:pt x="106" y="31"/>
                  </a:moveTo>
                  <a:lnTo>
                    <a:pt x="95" y="27"/>
                  </a:lnTo>
                  <a:lnTo>
                    <a:pt x="85" y="23"/>
                  </a:lnTo>
                  <a:lnTo>
                    <a:pt x="73" y="19"/>
                  </a:lnTo>
                  <a:lnTo>
                    <a:pt x="63" y="14"/>
                  </a:lnTo>
                  <a:lnTo>
                    <a:pt x="51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5" y="0"/>
                  </a:lnTo>
                  <a:lnTo>
                    <a:pt x="26" y="95"/>
                  </a:lnTo>
                  <a:lnTo>
                    <a:pt x="35" y="188"/>
                  </a:lnTo>
                  <a:lnTo>
                    <a:pt x="38" y="281"/>
                  </a:lnTo>
                  <a:lnTo>
                    <a:pt x="38" y="374"/>
                  </a:lnTo>
                  <a:lnTo>
                    <a:pt x="35" y="468"/>
                  </a:lnTo>
                  <a:lnTo>
                    <a:pt x="26" y="560"/>
                  </a:lnTo>
                  <a:lnTo>
                    <a:pt x="15" y="654"/>
                  </a:lnTo>
                  <a:lnTo>
                    <a:pt x="0" y="748"/>
                  </a:lnTo>
                  <a:lnTo>
                    <a:pt x="11" y="752"/>
                  </a:lnTo>
                  <a:lnTo>
                    <a:pt x="22" y="755"/>
                  </a:lnTo>
                  <a:lnTo>
                    <a:pt x="32" y="759"/>
                  </a:lnTo>
                  <a:lnTo>
                    <a:pt x="43" y="764"/>
                  </a:lnTo>
                  <a:lnTo>
                    <a:pt x="52" y="767"/>
                  </a:lnTo>
                  <a:lnTo>
                    <a:pt x="63" y="772"/>
                  </a:lnTo>
                  <a:lnTo>
                    <a:pt x="72" y="776"/>
                  </a:lnTo>
                  <a:lnTo>
                    <a:pt x="81" y="781"/>
                  </a:lnTo>
                  <a:lnTo>
                    <a:pt x="97" y="686"/>
                  </a:lnTo>
                  <a:lnTo>
                    <a:pt x="110" y="593"/>
                  </a:lnTo>
                  <a:lnTo>
                    <a:pt x="118" y="499"/>
                  </a:lnTo>
                  <a:lnTo>
                    <a:pt x="122" y="406"/>
                  </a:lnTo>
                  <a:lnTo>
                    <a:pt x="124" y="313"/>
                  </a:lnTo>
                  <a:lnTo>
                    <a:pt x="121" y="220"/>
                  </a:lnTo>
                  <a:lnTo>
                    <a:pt x="115" y="126"/>
                  </a:lnTo>
                  <a:lnTo>
                    <a:pt x="106" y="31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426320" y="3257640"/>
              <a:ext cx="36360" cy="227160"/>
            </a:xfrm>
            <a:custGeom>
              <a:avLst/>
              <a:gdLst/>
              <a:ahLst/>
              <a:rect l="l" t="t" r="r" b="b"/>
              <a:pathLst>
                <a:path w="137" h="835">
                  <a:moveTo>
                    <a:pt x="5" y="94"/>
                  </a:moveTo>
                  <a:lnTo>
                    <a:pt x="13" y="81"/>
                  </a:lnTo>
                  <a:lnTo>
                    <a:pt x="23" y="67"/>
                  </a:lnTo>
                  <a:lnTo>
                    <a:pt x="34" y="56"/>
                  </a:lnTo>
                  <a:lnTo>
                    <a:pt x="44" y="43"/>
                  </a:lnTo>
                  <a:lnTo>
                    <a:pt x="57" y="32"/>
                  </a:lnTo>
                  <a:lnTo>
                    <a:pt x="70" y="21"/>
                  </a:lnTo>
                  <a:lnTo>
                    <a:pt x="84" y="10"/>
                  </a:lnTo>
                  <a:lnTo>
                    <a:pt x="98" y="0"/>
                  </a:lnTo>
                  <a:lnTo>
                    <a:pt x="90" y="93"/>
                  </a:lnTo>
                  <a:lnTo>
                    <a:pt x="85" y="187"/>
                  </a:lnTo>
                  <a:lnTo>
                    <a:pt x="84" y="279"/>
                  </a:lnTo>
                  <a:lnTo>
                    <a:pt x="88" y="371"/>
                  </a:lnTo>
                  <a:lnTo>
                    <a:pt x="95" y="465"/>
                  </a:lnTo>
                  <a:lnTo>
                    <a:pt x="105" y="557"/>
                  </a:lnTo>
                  <a:lnTo>
                    <a:pt x="119" y="651"/>
                  </a:lnTo>
                  <a:lnTo>
                    <a:pt x="137" y="746"/>
                  </a:lnTo>
                  <a:lnTo>
                    <a:pt x="125" y="755"/>
                  </a:lnTo>
                  <a:lnTo>
                    <a:pt x="115" y="766"/>
                  </a:lnTo>
                  <a:lnTo>
                    <a:pt x="104" y="776"/>
                  </a:lnTo>
                  <a:lnTo>
                    <a:pt x="96" y="787"/>
                  </a:lnTo>
                  <a:lnTo>
                    <a:pt x="88" y="798"/>
                  </a:lnTo>
                  <a:lnTo>
                    <a:pt x="81" y="810"/>
                  </a:lnTo>
                  <a:lnTo>
                    <a:pt x="75" y="822"/>
                  </a:lnTo>
                  <a:lnTo>
                    <a:pt x="70" y="835"/>
                  </a:lnTo>
                  <a:lnTo>
                    <a:pt x="49" y="741"/>
                  </a:lnTo>
                  <a:lnTo>
                    <a:pt x="31" y="647"/>
                  </a:lnTo>
                  <a:lnTo>
                    <a:pt x="19" y="555"/>
                  </a:lnTo>
                  <a:lnTo>
                    <a:pt x="8" y="463"/>
                  </a:lnTo>
                  <a:lnTo>
                    <a:pt x="2" y="371"/>
                  </a:lnTo>
                  <a:lnTo>
                    <a:pt x="0" y="279"/>
                  </a:lnTo>
                  <a:lnTo>
                    <a:pt x="0" y="187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656440" y="3233160"/>
              <a:ext cx="32400" cy="208080"/>
            </a:xfrm>
            <a:custGeom>
              <a:avLst/>
              <a:gdLst/>
              <a:ahLst/>
              <a:rect l="l" t="t" r="r" b="b"/>
              <a:pathLst>
                <a:path w="120" h="767">
                  <a:moveTo>
                    <a:pt x="97" y="19"/>
                  </a:moveTo>
                  <a:lnTo>
                    <a:pt x="86" y="15"/>
                  </a:lnTo>
                  <a:lnTo>
                    <a:pt x="76" y="13"/>
                  </a:lnTo>
                  <a:lnTo>
                    <a:pt x="65" y="11"/>
                  </a:lnTo>
                  <a:lnTo>
                    <a:pt x="55" y="8"/>
                  </a:lnTo>
                  <a:lnTo>
                    <a:pt x="44" y="6"/>
                  </a:lnTo>
                  <a:lnTo>
                    <a:pt x="32" y="4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23" y="94"/>
                  </a:lnTo>
                  <a:lnTo>
                    <a:pt x="31" y="187"/>
                  </a:lnTo>
                  <a:lnTo>
                    <a:pt x="36" y="281"/>
                  </a:lnTo>
                  <a:lnTo>
                    <a:pt x="37" y="373"/>
                  </a:lnTo>
                  <a:lnTo>
                    <a:pt x="34" y="467"/>
                  </a:lnTo>
                  <a:lnTo>
                    <a:pt x="27" y="560"/>
                  </a:lnTo>
                  <a:lnTo>
                    <a:pt x="15" y="654"/>
                  </a:lnTo>
                  <a:lnTo>
                    <a:pt x="0" y="747"/>
                  </a:lnTo>
                  <a:lnTo>
                    <a:pt x="10" y="750"/>
                  </a:lnTo>
                  <a:lnTo>
                    <a:pt x="22" y="752"/>
                  </a:lnTo>
                  <a:lnTo>
                    <a:pt x="32" y="754"/>
                  </a:lnTo>
                  <a:lnTo>
                    <a:pt x="43" y="757"/>
                  </a:lnTo>
                  <a:lnTo>
                    <a:pt x="52" y="759"/>
                  </a:lnTo>
                  <a:lnTo>
                    <a:pt x="63" y="763"/>
                  </a:lnTo>
                  <a:lnTo>
                    <a:pt x="72" y="765"/>
                  </a:lnTo>
                  <a:lnTo>
                    <a:pt x="82" y="767"/>
                  </a:lnTo>
                  <a:lnTo>
                    <a:pt x="97" y="673"/>
                  </a:lnTo>
                  <a:lnTo>
                    <a:pt x="108" y="579"/>
                  </a:lnTo>
                  <a:lnTo>
                    <a:pt x="117" y="487"/>
                  </a:lnTo>
                  <a:lnTo>
                    <a:pt x="120" y="393"/>
                  </a:lnTo>
                  <a:lnTo>
                    <a:pt x="120" y="300"/>
                  </a:lnTo>
                  <a:lnTo>
                    <a:pt x="117" y="207"/>
                  </a:lnTo>
                  <a:lnTo>
                    <a:pt x="108" y="114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ff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449360" y="3245400"/>
              <a:ext cx="33480" cy="214920"/>
            </a:xfrm>
            <a:custGeom>
              <a:avLst/>
              <a:gdLst/>
              <a:ahLst/>
              <a:rect l="l" t="t" r="r" b="b"/>
              <a:pathLst>
                <a:path w="129" h="794">
                  <a:moveTo>
                    <a:pt x="14" y="48"/>
                  </a:moveTo>
                  <a:lnTo>
                    <a:pt x="25" y="41"/>
                  </a:lnTo>
                  <a:lnTo>
                    <a:pt x="35" y="35"/>
                  </a:lnTo>
                  <a:lnTo>
                    <a:pt x="46" y="29"/>
                  </a:lnTo>
                  <a:lnTo>
                    <a:pt x="57" y="22"/>
                  </a:lnTo>
                  <a:lnTo>
                    <a:pt x="69" y="16"/>
                  </a:lnTo>
                  <a:lnTo>
                    <a:pt x="81" y="10"/>
                  </a:lnTo>
                  <a:lnTo>
                    <a:pt x="92" y="5"/>
                  </a:lnTo>
                  <a:lnTo>
                    <a:pt x="105" y="0"/>
                  </a:lnTo>
                  <a:lnTo>
                    <a:pt x="95" y="94"/>
                  </a:lnTo>
                  <a:lnTo>
                    <a:pt x="88" y="188"/>
                  </a:lnTo>
                  <a:lnTo>
                    <a:pt x="85" y="281"/>
                  </a:lnTo>
                  <a:lnTo>
                    <a:pt x="85" y="374"/>
                  </a:lnTo>
                  <a:lnTo>
                    <a:pt x="91" y="467"/>
                  </a:lnTo>
                  <a:lnTo>
                    <a:pt x="100" y="561"/>
                  </a:lnTo>
                  <a:lnTo>
                    <a:pt x="112" y="655"/>
                  </a:lnTo>
                  <a:lnTo>
                    <a:pt x="129" y="749"/>
                  </a:lnTo>
                  <a:lnTo>
                    <a:pt x="118" y="754"/>
                  </a:lnTo>
                  <a:lnTo>
                    <a:pt x="108" y="760"/>
                  </a:lnTo>
                  <a:lnTo>
                    <a:pt x="97" y="764"/>
                  </a:lnTo>
                  <a:lnTo>
                    <a:pt x="88" y="770"/>
                  </a:lnTo>
                  <a:lnTo>
                    <a:pt x="78" y="776"/>
                  </a:lnTo>
                  <a:lnTo>
                    <a:pt x="70" y="782"/>
                  </a:lnTo>
                  <a:lnTo>
                    <a:pt x="61" y="788"/>
                  </a:lnTo>
                  <a:lnTo>
                    <a:pt x="53" y="794"/>
                  </a:lnTo>
                  <a:lnTo>
                    <a:pt x="35" y="699"/>
                  </a:lnTo>
                  <a:lnTo>
                    <a:pt x="21" y="605"/>
                  </a:lnTo>
                  <a:lnTo>
                    <a:pt x="11" y="513"/>
                  </a:lnTo>
                  <a:lnTo>
                    <a:pt x="4" y="419"/>
                  </a:lnTo>
                  <a:lnTo>
                    <a:pt x="0" y="327"/>
                  </a:lnTo>
                  <a:lnTo>
                    <a:pt x="1" y="235"/>
                  </a:lnTo>
                  <a:lnTo>
                    <a:pt x="6" y="141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633400" y="3229200"/>
              <a:ext cx="32400" cy="206640"/>
            </a:xfrm>
            <a:custGeom>
              <a:avLst/>
              <a:gdLst/>
              <a:ahLst/>
              <a:rect l="l" t="t" r="r" b="b"/>
              <a:pathLst>
                <a:path w="121" h="759">
                  <a:moveTo>
                    <a:pt x="94" y="12"/>
                  </a:moveTo>
                  <a:lnTo>
                    <a:pt x="84" y="11"/>
                  </a:lnTo>
                  <a:lnTo>
                    <a:pt x="72" y="9"/>
                  </a:lnTo>
                  <a:lnTo>
                    <a:pt x="62" y="7"/>
                  </a:lnTo>
                  <a:lnTo>
                    <a:pt x="50" y="6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7" y="2"/>
                  </a:lnTo>
                  <a:lnTo>
                    <a:pt x="5" y="0"/>
                  </a:lnTo>
                  <a:lnTo>
                    <a:pt x="18" y="94"/>
                  </a:lnTo>
                  <a:lnTo>
                    <a:pt x="28" y="188"/>
                  </a:lnTo>
                  <a:lnTo>
                    <a:pt x="33" y="281"/>
                  </a:lnTo>
                  <a:lnTo>
                    <a:pt x="35" y="374"/>
                  </a:lnTo>
                  <a:lnTo>
                    <a:pt x="32" y="467"/>
                  </a:lnTo>
                  <a:lnTo>
                    <a:pt x="25" y="559"/>
                  </a:lnTo>
                  <a:lnTo>
                    <a:pt x="15" y="653"/>
                  </a:lnTo>
                  <a:lnTo>
                    <a:pt x="0" y="747"/>
                  </a:lnTo>
                  <a:lnTo>
                    <a:pt x="11" y="748"/>
                  </a:lnTo>
                  <a:lnTo>
                    <a:pt x="22" y="749"/>
                  </a:lnTo>
                  <a:lnTo>
                    <a:pt x="32" y="751"/>
                  </a:lnTo>
                  <a:lnTo>
                    <a:pt x="44" y="752"/>
                  </a:lnTo>
                  <a:lnTo>
                    <a:pt x="53" y="755"/>
                  </a:lnTo>
                  <a:lnTo>
                    <a:pt x="64" y="756"/>
                  </a:lnTo>
                  <a:lnTo>
                    <a:pt x="74" y="758"/>
                  </a:lnTo>
                  <a:lnTo>
                    <a:pt x="84" y="759"/>
                  </a:lnTo>
                  <a:lnTo>
                    <a:pt x="99" y="666"/>
                  </a:lnTo>
                  <a:lnTo>
                    <a:pt x="111" y="572"/>
                  </a:lnTo>
                  <a:lnTo>
                    <a:pt x="118" y="479"/>
                  </a:lnTo>
                  <a:lnTo>
                    <a:pt x="121" y="385"/>
                  </a:lnTo>
                  <a:lnTo>
                    <a:pt x="120" y="293"/>
                  </a:lnTo>
                  <a:lnTo>
                    <a:pt x="115" y="199"/>
                  </a:lnTo>
                  <a:lnTo>
                    <a:pt x="107" y="106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472400" y="3237480"/>
              <a:ext cx="33480" cy="210600"/>
            </a:xfrm>
            <a:custGeom>
              <a:avLst/>
              <a:gdLst/>
              <a:ahLst/>
              <a:rect l="l" t="t" r="r" b="b"/>
              <a:pathLst>
                <a:path w="126" h="779">
                  <a:moveTo>
                    <a:pt x="20" y="30"/>
                  </a:moveTo>
                  <a:lnTo>
                    <a:pt x="31" y="25"/>
                  </a:lnTo>
                  <a:lnTo>
                    <a:pt x="41" y="21"/>
                  </a:lnTo>
                  <a:lnTo>
                    <a:pt x="53" y="18"/>
                  </a:lnTo>
                  <a:lnTo>
                    <a:pt x="64" y="13"/>
                  </a:lnTo>
                  <a:lnTo>
                    <a:pt x="75" y="10"/>
                  </a:lnTo>
                  <a:lnTo>
                    <a:pt x="87" y="6"/>
                  </a:lnTo>
                  <a:lnTo>
                    <a:pt x="99" y="4"/>
                  </a:lnTo>
                  <a:lnTo>
                    <a:pt x="110" y="0"/>
                  </a:lnTo>
                  <a:lnTo>
                    <a:pt x="98" y="95"/>
                  </a:lnTo>
                  <a:lnTo>
                    <a:pt x="89" y="189"/>
                  </a:lnTo>
                  <a:lnTo>
                    <a:pt x="86" y="282"/>
                  </a:lnTo>
                  <a:lnTo>
                    <a:pt x="86" y="375"/>
                  </a:lnTo>
                  <a:lnTo>
                    <a:pt x="89" y="468"/>
                  </a:lnTo>
                  <a:lnTo>
                    <a:pt x="98" y="562"/>
                  </a:lnTo>
                  <a:lnTo>
                    <a:pt x="109" y="655"/>
                  </a:lnTo>
                  <a:lnTo>
                    <a:pt x="126" y="749"/>
                  </a:lnTo>
                  <a:lnTo>
                    <a:pt x="115" y="752"/>
                  </a:lnTo>
                  <a:lnTo>
                    <a:pt x="103" y="756"/>
                  </a:lnTo>
                  <a:lnTo>
                    <a:pt x="93" y="759"/>
                  </a:lnTo>
                  <a:lnTo>
                    <a:pt x="83" y="763"/>
                  </a:lnTo>
                  <a:lnTo>
                    <a:pt x="73" y="766"/>
                  </a:lnTo>
                  <a:lnTo>
                    <a:pt x="62" y="771"/>
                  </a:lnTo>
                  <a:lnTo>
                    <a:pt x="53" y="775"/>
                  </a:lnTo>
                  <a:lnTo>
                    <a:pt x="44" y="779"/>
                  </a:lnTo>
                  <a:lnTo>
                    <a:pt x="27" y="685"/>
                  </a:lnTo>
                  <a:lnTo>
                    <a:pt x="15" y="591"/>
                  </a:lnTo>
                  <a:lnTo>
                    <a:pt x="6" y="497"/>
                  </a:lnTo>
                  <a:lnTo>
                    <a:pt x="0" y="404"/>
                  </a:lnTo>
                  <a:lnTo>
                    <a:pt x="0" y="311"/>
                  </a:lnTo>
                  <a:lnTo>
                    <a:pt x="3" y="218"/>
                  </a:lnTo>
                  <a:lnTo>
                    <a:pt x="10" y="124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10360" y="3229200"/>
              <a:ext cx="32400" cy="204120"/>
            </a:xfrm>
            <a:custGeom>
              <a:avLst/>
              <a:gdLst/>
              <a:ahLst/>
              <a:rect l="l" t="t" r="r" b="b"/>
              <a:pathLst>
                <a:path w="120" h="750">
                  <a:moveTo>
                    <a:pt x="90" y="3"/>
                  </a:moveTo>
                  <a:lnTo>
                    <a:pt x="80" y="2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3" y="0"/>
                  </a:lnTo>
                  <a:lnTo>
                    <a:pt x="17" y="93"/>
                  </a:lnTo>
                  <a:lnTo>
                    <a:pt x="27" y="187"/>
                  </a:lnTo>
                  <a:lnTo>
                    <a:pt x="33" y="279"/>
                  </a:lnTo>
                  <a:lnTo>
                    <a:pt x="35" y="372"/>
                  </a:lnTo>
                  <a:lnTo>
                    <a:pt x="33" y="464"/>
                  </a:lnTo>
                  <a:lnTo>
                    <a:pt x="26" y="557"/>
                  </a:lnTo>
                  <a:lnTo>
                    <a:pt x="16" y="649"/>
                  </a:lnTo>
                  <a:lnTo>
                    <a:pt x="0" y="743"/>
                  </a:lnTo>
                  <a:lnTo>
                    <a:pt x="11" y="743"/>
                  </a:lnTo>
                  <a:lnTo>
                    <a:pt x="23" y="744"/>
                  </a:lnTo>
                  <a:lnTo>
                    <a:pt x="33" y="745"/>
                  </a:lnTo>
                  <a:lnTo>
                    <a:pt x="44" y="745"/>
                  </a:lnTo>
                  <a:lnTo>
                    <a:pt x="54" y="746"/>
                  </a:lnTo>
                  <a:lnTo>
                    <a:pt x="65" y="747"/>
                  </a:lnTo>
                  <a:lnTo>
                    <a:pt x="74" y="748"/>
                  </a:lnTo>
                  <a:lnTo>
                    <a:pt x="85" y="750"/>
                  </a:lnTo>
                  <a:lnTo>
                    <a:pt x="100" y="656"/>
                  </a:lnTo>
                  <a:lnTo>
                    <a:pt x="110" y="562"/>
                  </a:lnTo>
                  <a:lnTo>
                    <a:pt x="117" y="470"/>
                  </a:lnTo>
                  <a:lnTo>
                    <a:pt x="120" y="377"/>
                  </a:lnTo>
                  <a:lnTo>
                    <a:pt x="118" y="284"/>
                  </a:lnTo>
                  <a:lnTo>
                    <a:pt x="113" y="191"/>
                  </a:lnTo>
                  <a:lnTo>
                    <a:pt x="103" y="97"/>
                  </a:lnTo>
                  <a:lnTo>
                    <a:pt x="90" y="3"/>
                  </a:lnTo>
                  <a:close/>
                </a:path>
              </a:pathLst>
            </a:custGeom>
            <a:solidFill>
              <a:srgbClr val="ff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495440" y="3231720"/>
              <a:ext cx="32400" cy="208080"/>
            </a:xfrm>
            <a:custGeom>
              <a:avLst/>
              <a:gdLst/>
              <a:ahLst/>
              <a:rect l="l" t="t" r="r" b="b"/>
              <a:pathLst>
                <a:path w="123" h="766">
                  <a:moveTo>
                    <a:pt x="24" y="17"/>
                  </a:moveTo>
                  <a:lnTo>
                    <a:pt x="35" y="15"/>
                  </a:lnTo>
                  <a:lnTo>
                    <a:pt x="45" y="13"/>
                  </a:lnTo>
                  <a:lnTo>
                    <a:pt x="57" y="10"/>
                  </a:lnTo>
                  <a:lnTo>
                    <a:pt x="68" y="8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3" y="2"/>
                  </a:lnTo>
                  <a:lnTo>
                    <a:pt x="114" y="0"/>
                  </a:lnTo>
                  <a:lnTo>
                    <a:pt x="100" y="93"/>
                  </a:lnTo>
                  <a:lnTo>
                    <a:pt x="91" y="187"/>
                  </a:lnTo>
                  <a:lnTo>
                    <a:pt x="86" y="280"/>
                  </a:lnTo>
                  <a:lnTo>
                    <a:pt x="85" y="373"/>
                  </a:lnTo>
                  <a:lnTo>
                    <a:pt x="88" y="466"/>
                  </a:lnTo>
                  <a:lnTo>
                    <a:pt x="96" y="560"/>
                  </a:lnTo>
                  <a:lnTo>
                    <a:pt x="106" y="654"/>
                  </a:lnTo>
                  <a:lnTo>
                    <a:pt x="123" y="747"/>
                  </a:lnTo>
                  <a:lnTo>
                    <a:pt x="112" y="749"/>
                  </a:lnTo>
                  <a:lnTo>
                    <a:pt x="100" y="752"/>
                  </a:lnTo>
                  <a:lnTo>
                    <a:pt x="90" y="754"/>
                  </a:lnTo>
                  <a:lnTo>
                    <a:pt x="79" y="756"/>
                  </a:lnTo>
                  <a:lnTo>
                    <a:pt x="70" y="759"/>
                  </a:lnTo>
                  <a:lnTo>
                    <a:pt x="59" y="761"/>
                  </a:lnTo>
                  <a:lnTo>
                    <a:pt x="49" y="764"/>
                  </a:lnTo>
                  <a:lnTo>
                    <a:pt x="40" y="766"/>
                  </a:lnTo>
                  <a:lnTo>
                    <a:pt x="23" y="672"/>
                  </a:lnTo>
                  <a:lnTo>
                    <a:pt x="12" y="579"/>
                  </a:lnTo>
                  <a:lnTo>
                    <a:pt x="3" y="485"/>
                  </a:lnTo>
                  <a:lnTo>
                    <a:pt x="0" y="392"/>
                  </a:lnTo>
                  <a:lnTo>
                    <a:pt x="0" y="299"/>
                  </a:lnTo>
                  <a:lnTo>
                    <a:pt x="3" y="206"/>
                  </a:lnTo>
                  <a:lnTo>
                    <a:pt x="12" y="112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ff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587320" y="3229200"/>
              <a:ext cx="32400" cy="201600"/>
            </a:xfrm>
            <a:custGeom>
              <a:avLst/>
              <a:gdLst/>
              <a:ahLst/>
              <a:rect l="l" t="t" r="r" b="b"/>
              <a:pathLst>
                <a:path w="121" h="743">
                  <a:moveTo>
                    <a:pt x="89" y="0"/>
                  </a:moveTo>
                  <a:lnTo>
                    <a:pt x="78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26" y="1"/>
                  </a:lnTo>
                  <a:lnTo>
                    <a:pt x="14" y="1"/>
                  </a:lnTo>
                  <a:lnTo>
                    <a:pt x="3" y="2"/>
                  </a:lnTo>
                  <a:lnTo>
                    <a:pt x="19" y="95"/>
                  </a:lnTo>
                  <a:lnTo>
                    <a:pt x="29" y="187"/>
                  </a:lnTo>
                  <a:lnTo>
                    <a:pt x="35" y="279"/>
                  </a:lnTo>
                  <a:lnTo>
                    <a:pt x="37" y="371"/>
                  </a:lnTo>
                  <a:lnTo>
                    <a:pt x="34" y="463"/>
                  </a:lnTo>
                  <a:lnTo>
                    <a:pt x="27" y="555"/>
                  </a:lnTo>
                  <a:lnTo>
                    <a:pt x="16" y="648"/>
                  </a:lnTo>
                  <a:lnTo>
                    <a:pt x="0" y="740"/>
                  </a:lnTo>
                  <a:lnTo>
                    <a:pt x="10" y="740"/>
                  </a:lnTo>
                  <a:lnTo>
                    <a:pt x="22" y="740"/>
                  </a:lnTo>
                  <a:lnTo>
                    <a:pt x="33" y="740"/>
                  </a:lnTo>
                  <a:lnTo>
                    <a:pt x="43" y="741"/>
                  </a:lnTo>
                  <a:lnTo>
                    <a:pt x="55" y="741"/>
                  </a:lnTo>
                  <a:lnTo>
                    <a:pt x="65" y="741"/>
                  </a:lnTo>
                  <a:lnTo>
                    <a:pt x="76" y="743"/>
                  </a:lnTo>
                  <a:lnTo>
                    <a:pt x="86" y="743"/>
                  </a:lnTo>
                  <a:lnTo>
                    <a:pt x="102" y="649"/>
                  </a:lnTo>
                  <a:lnTo>
                    <a:pt x="112" y="557"/>
                  </a:lnTo>
                  <a:lnTo>
                    <a:pt x="119" y="464"/>
                  </a:lnTo>
                  <a:lnTo>
                    <a:pt x="121" y="372"/>
                  </a:lnTo>
                  <a:lnTo>
                    <a:pt x="119" y="279"/>
                  </a:lnTo>
                  <a:lnTo>
                    <a:pt x="113" y="187"/>
                  </a:lnTo>
                  <a:lnTo>
                    <a:pt x="103" y="9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518480" y="3229200"/>
              <a:ext cx="32400" cy="206640"/>
            </a:xfrm>
            <a:custGeom>
              <a:avLst/>
              <a:gdLst/>
              <a:ahLst/>
              <a:rect l="l" t="t" r="r" b="b"/>
              <a:pathLst>
                <a:path w="122" h="757">
                  <a:moveTo>
                    <a:pt x="29" y="10"/>
                  </a:moveTo>
                  <a:lnTo>
                    <a:pt x="40" y="9"/>
                  </a:lnTo>
                  <a:lnTo>
                    <a:pt x="50" y="6"/>
                  </a:lnTo>
                  <a:lnTo>
                    <a:pt x="61" y="5"/>
                  </a:lnTo>
                  <a:lnTo>
                    <a:pt x="72" y="4"/>
                  </a:lnTo>
                  <a:lnTo>
                    <a:pt x="82" y="3"/>
                  </a:lnTo>
                  <a:lnTo>
                    <a:pt x="94" y="2"/>
                  </a:lnTo>
                  <a:lnTo>
                    <a:pt x="104" y="0"/>
                  </a:lnTo>
                  <a:lnTo>
                    <a:pt x="116" y="0"/>
                  </a:lnTo>
                  <a:lnTo>
                    <a:pt x="102" y="94"/>
                  </a:lnTo>
                  <a:lnTo>
                    <a:pt x="91" y="188"/>
                  </a:lnTo>
                  <a:lnTo>
                    <a:pt x="86" y="280"/>
                  </a:lnTo>
                  <a:lnTo>
                    <a:pt x="84" y="372"/>
                  </a:lnTo>
                  <a:lnTo>
                    <a:pt x="87" y="466"/>
                  </a:lnTo>
                  <a:lnTo>
                    <a:pt x="94" y="558"/>
                  </a:lnTo>
                  <a:lnTo>
                    <a:pt x="105" y="652"/>
                  </a:lnTo>
                  <a:lnTo>
                    <a:pt x="122" y="745"/>
                  </a:lnTo>
                  <a:lnTo>
                    <a:pt x="111" y="747"/>
                  </a:lnTo>
                  <a:lnTo>
                    <a:pt x="100" y="748"/>
                  </a:lnTo>
                  <a:lnTo>
                    <a:pt x="89" y="749"/>
                  </a:lnTo>
                  <a:lnTo>
                    <a:pt x="79" y="751"/>
                  </a:lnTo>
                  <a:lnTo>
                    <a:pt x="68" y="752"/>
                  </a:lnTo>
                  <a:lnTo>
                    <a:pt x="57" y="754"/>
                  </a:lnTo>
                  <a:lnTo>
                    <a:pt x="48" y="756"/>
                  </a:lnTo>
                  <a:lnTo>
                    <a:pt x="38" y="757"/>
                  </a:lnTo>
                  <a:lnTo>
                    <a:pt x="21" y="664"/>
                  </a:lnTo>
                  <a:lnTo>
                    <a:pt x="11" y="570"/>
                  </a:lnTo>
                  <a:lnTo>
                    <a:pt x="3" y="476"/>
                  </a:lnTo>
                  <a:lnTo>
                    <a:pt x="0" y="383"/>
                  </a:lnTo>
                  <a:lnTo>
                    <a:pt x="1" y="290"/>
                  </a:lnTo>
                  <a:lnTo>
                    <a:pt x="6" y="197"/>
                  </a:lnTo>
                  <a:lnTo>
                    <a:pt x="15" y="103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562840" y="3229200"/>
              <a:ext cx="33840" cy="201600"/>
            </a:xfrm>
            <a:custGeom>
              <a:avLst/>
              <a:gdLst/>
              <a:ahLst/>
              <a:rect l="l" t="t" r="r" b="b"/>
              <a:pathLst>
                <a:path w="124" h="742">
                  <a:moveTo>
                    <a:pt x="90" y="0"/>
                  </a:moveTo>
                  <a:lnTo>
                    <a:pt x="80" y="0"/>
                  </a:lnTo>
                  <a:lnTo>
                    <a:pt x="69" y="1"/>
                  </a:lnTo>
                  <a:lnTo>
                    <a:pt x="59" y="1"/>
                  </a:lnTo>
                  <a:lnTo>
                    <a:pt x="48" y="3"/>
                  </a:lnTo>
                  <a:lnTo>
                    <a:pt x="38" y="4"/>
                  </a:lnTo>
                  <a:lnTo>
                    <a:pt x="27" y="5"/>
                  </a:lnTo>
                  <a:lnTo>
                    <a:pt x="17" y="5"/>
                  </a:lnTo>
                  <a:lnTo>
                    <a:pt x="6" y="6"/>
                  </a:lnTo>
                  <a:lnTo>
                    <a:pt x="20" y="99"/>
                  </a:lnTo>
                  <a:lnTo>
                    <a:pt x="31" y="191"/>
                  </a:lnTo>
                  <a:lnTo>
                    <a:pt x="37" y="283"/>
                  </a:lnTo>
                  <a:lnTo>
                    <a:pt x="39" y="375"/>
                  </a:lnTo>
                  <a:lnTo>
                    <a:pt x="35" y="466"/>
                  </a:lnTo>
                  <a:lnTo>
                    <a:pt x="28" y="558"/>
                  </a:lnTo>
                  <a:lnTo>
                    <a:pt x="17" y="649"/>
                  </a:lnTo>
                  <a:lnTo>
                    <a:pt x="0" y="742"/>
                  </a:lnTo>
                  <a:lnTo>
                    <a:pt x="11" y="741"/>
                  </a:lnTo>
                  <a:lnTo>
                    <a:pt x="23" y="741"/>
                  </a:lnTo>
                  <a:lnTo>
                    <a:pt x="33" y="739"/>
                  </a:lnTo>
                  <a:lnTo>
                    <a:pt x="44" y="739"/>
                  </a:lnTo>
                  <a:lnTo>
                    <a:pt x="55" y="739"/>
                  </a:lnTo>
                  <a:lnTo>
                    <a:pt x="66" y="739"/>
                  </a:lnTo>
                  <a:lnTo>
                    <a:pt x="76" y="738"/>
                  </a:lnTo>
                  <a:lnTo>
                    <a:pt x="87" y="738"/>
                  </a:lnTo>
                  <a:lnTo>
                    <a:pt x="103" y="646"/>
                  </a:lnTo>
                  <a:lnTo>
                    <a:pt x="114" y="553"/>
                  </a:lnTo>
                  <a:lnTo>
                    <a:pt x="121" y="461"/>
                  </a:lnTo>
                  <a:lnTo>
                    <a:pt x="124" y="369"/>
                  </a:lnTo>
                  <a:lnTo>
                    <a:pt x="122" y="277"/>
                  </a:lnTo>
                  <a:lnTo>
                    <a:pt x="116" y="185"/>
                  </a:lnTo>
                  <a:lnTo>
                    <a:pt x="106" y="93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541160" y="3229200"/>
              <a:ext cx="32400" cy="202680"/>
            </a:xfrm>
            <a:custGeom>
              <a:avLst/>
              <a:gdLst/>
              <a:ahLst/>
              <a:rect l="l" t="t" r="r" b="b"/>
              <a:pathLst>
                <a:path w="122" h="748">
                  <a:moveTo>
                    <a:pt x="32" y="3"/>
                  </a:moveTo>
                  <a:lnTo>
                    <a:pt x="42" y="2"/>
                  </a:lnTo>
                  <a:lnTo>
                    <a:pt x="53" y="2"/>
                  </a:lnTo>
                  <a:lnTo>
                    <a:pt x="64" y="1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04" y="93"/>
                  </a:lnTo>
                  <a:lnTo>
                    <a:pt x="94" y="186"/>
                  </a:lnTo>
                  <a:lnTo>
                    <a:pt x="87" y="278"/>
                  </a:lnTo>
                  <a:lnTo>
                    <a:pt x="86" y="371"/>
                  </a:lnTo>
                  <a:lnTo>
                    <a:pt x="88" y="464"/>
                  </a:lnTo>
                  <a:lnTo>
                    <a:pt x="95" y="557"/>
                  </a:lnTo>
                  <a:lnTo>
                    <a:pt x="107" y="649"/>
                  </a:lnTo>
                  <a:lnTo>
                    <a:pt x="122" y="743"/>
                  </a:lnTo>
                  <a:lnTo>
                    <a:pt x="111" y="743"/>
                  </a:lnTo>
                  <a:lnTo>
                    <a:pt x="100" y="744"/>
                  </a:lnTo>
                  <a:lnTo>
                    <a:pt x="89" y="744"/>
                  </a:lnTo>
                  <a:lnTo>
                    <a:pt x="79" y="745"/>
                  </a:lnTo>
                  <a:lnTo>
                    <a:pt x="68" y="746"/>
                  </a:lnTo>
                  <a:lnTo>
                    <a:pt x="58" y="747"/>
                  </a:lnTo>
                  <a:lnTo>
                    <a:pt x="48" y="747"/>
                  </a:lnTo>
                  <a:lnTo>
                    <a:pt x="38" y="748"/>
                  </a:lnTo>
                  <a:lnTo>
                    <a:pt x="21" y="655"/>
                  </a:lnTo>
                  <a:lnTo>
                    <a:pt x="10" y="561"/>
                  </a:lnTo>
                  <a:lnTo>
                    <a:pt x="3" y="469"/>
                  </a:lnTo>
                  <a:lnTo>
                    <a:pt x="0" y="375"/>
                  </a:lnTo>
                  <a:lnTo>
                    <a:pt x="2" y="283"/>
                  </a:lnTo>
                  <a:lnTo>
                    <a:pt x="7" y="191"/>
                  </a:lnTo>
                  <a:lnTo>
                    <a:pt x="18" y="97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ff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539800" y="3230640"/>
              <a:ext cx="33840" cy="202680"/>
            </a:xfrm>
            <a:custGeom>
              <a:avLst/>
              <a:gdLst/>
              <a:ahLst/>
              <a:rect l="l" t="t" r="r" b="b"/>
              <a:pathLst>
                <a:path w="126" h="742">
                  <a:moveTo>
                    <a:pt x="93" y="0"/>
                  </a:moveTo>
                  <a:lnTo>
                    <a:pt x="83" y="1"/>
                  </a:lnTo>
                  <a:lnTo>
                    <a:pt x="72" y="2"/>
                  </a:lnTo>
                  <a:lnTo>
                    <a:pt x="62" y="4"/>
                  </a:lnTo>
                  <a:lnTo>
                    <a:pt x="51" y="5"/>
                  </a:lnTo>
                  <a:lnTo>
                    <a:pt x="41" y="6"/>
                  </a:lnTo>
                  <a:lnTo>
                    <a:pt x="30" y="8"/>
                  </a:lnTo>
                  <a:lnTo>
                    <a:pt x="18" y="9"/>
                  </a:lnTo>
                  <a:lnTo>
                    <a:pt x="8" y="11"/>
                  </a:lnTo>
                  <a:lnTo>
                    <a:pt x="23" y="103"/>
                  </a:lnTo>
                  <a:lnTo>
                    <a:pt x="34" y="194"/>
                  </a:lnTo>
                  <a:lnTo>
                    <a:pt x="39" y="285"/>
                  </a:lnTo>
                  <a:lnTo>
                    <a:pt x="41" y="377"/>
                  </a:lnTo>
                  <a:lnTo>
                    <a:pt x="38" y="468"/>
                  </a:lnTo>
                  <a:lnTo>
                    <a:pt x="30" y="559"/>
                  </a:lnTo>
                  <a:lnTo>
                    <a:pt x="17" y="650"/>
                  </a:lnTo>
                  <a:lnTo>
                    <a:pt x="0" y="742"/>
                  </a:lnTo>
                  <a:lnTo>
                    <a:pt x="10" y="740"/>
                  </a:lnTo>
                  <a:lnTo>
                    <a:pt x="22" y="740"/>
                  </a:lnTo>
                  <a:lnTo>
                    <a:pt x="32" y="739"/>
                  </a:lnTo>
                  <a:lnTo>
                    <a:pt x="44" y="738"/>
                  </a:lnTo>
                  <a:lnTo>
                    <a:pt x="55" y="737"/>
                  </a:lnTo>
                  <a:lnTo>
                    <a:pt x="65" y="737"/>
                  </a:lnTo>
                  <a:lnTo>
                    <a:pt x="77" y="736"/>
                  </a:lnTo>
                  <a:lnTo>
                    <a:pt x="87" y="736"/>
                  </a:lnTo>
                  <a:lnTo>
                    <a:pt x="104" y="643"/>
                  </a:lnTo>
                  <a:lnTo>
                    <a:pt x="115" y="552"/>
                  </a:lnTo>
                  <a:lnTo>
                    <a:pt x="122" y="460"/>
                  </a:lnTo>
                  <a:lnTo>
                    <a:pt x="126" y="369"/>
                  </a:lnTo>
                  <a:lnTo>
                    <a:pt x="124" y="277"/>
                  </a:lnTo>
                  <a:lnTo>
                    <a:pt x="118" y="185"/>
                  </a:lnTo>
                  <a:lnTo>
                    <a:pt x="107" y="9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564200" y="3229200"/>
              <a:ext cx="33480" cy="201600"/>
            </a:xfrm>
            <a:custGeom>
              <a:avLst/>
              <a:gdLst/>
              <a:ahLst/>
              <a:rect l="l" t="t" r="r" b="b"/>
              <a:pathLst>
                <a:path w="124" h="743">
                  <a:moveTo>
                    <a:pt x="34" y="0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6" y="1"/>
                  </a:lnTo>
                  <a:lnTo>
                    <a:pt x="86" y="1"/>
                  </a:lnTo>
                  <a:lnTo>
                    <a:pt x="97" y="1"/>
                  </a:lnTo>
                  <a:lnTo>
                    <a:pt x="108" y="2"/>
                  </a:lnTo>
                  <a:lnTo>
                    <a:pt x="119" y="2"/>
                  </a:lnTo>
                  <a:lnTo>
                    <a:pt x="103" y="95"/>
                  </a:lnTo>
                  <a:lnTo>
                    <a:pt x="92" y="188"/>
                  </a:lnTo>
                  <a:lnTo>
                    <a:pt x="85" y="279"/>
                  </a:lnTo>
                  <a:lnTo>
                    <a:pt x="83" y="372"/>
                  </a:lnTo>
                  <a:lnTo>
                    <a:pt x="86" y="464"/>
                  </a:lnTo>
                  <a:lnTo>
                    <a:pt x="93" y="557"/>
                  </a:lnTo>
                  <a:lnTo>
                    <a:pt x="106" y="649"/>
                  </a:lnTo>
                  <a:lnTo>
                    <a:pt x="124" y="741"/>
                  </a:lnTo>
                  <a:lnTo>
                    <a:pt x="112" y="741"/>
                  </a:lnTo>
                  <a:lnTo>
                    <a:pt x="101" y="741"/>
                  </a:lnTo>
                  <a:lnTo>
                    <a:pt x="90" y="741"/>
                  </a:lnTo>
                  <a:lnTo>
                    <a:pt x="79" y="741"/>
                  </a:lnTo>
                  <a:lnTo>
                    <a:pt x="68" y="741"/>
                  </a:lnTo>
                  <a:lnTo>
                    <a:pt x="57" y="741"/>
                  </a:lnTo>
                  <a:lnTo>
                    <a:pt x="47" y="743"/>
                  </a:lnTo>
                  <a:lnTo>
                    <a:pt x="36" y="743"/>
                  </a:lnTo>
                  <a:lnTo>
                    <a:pt x="21" y="649"/>
                  </a:lnTo>
                  <a:lnTo>
                    <a:pt x="9" y="557"/>
                  </a:lnTo>
                  <a:lnTo>
                    <a:pt x="2" y="464"/>
                  </a:lnTo>
                  <a:lnTo>
                    <a:pt x="0" y="371"/>
                  </a:lnTo>
                  <a:lnTo>
                    <a:pt x="1" y="278"/>
                  </a:lnTo>
                  <a:lnTo>
                    <a:pt x="8" y="186"/>
                  </a:lnTo>
                  <a:lnTo>
                    <a:pt x="18" y="9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514240" y="3233160"/>
              <a:ext cx="36360" cy="202680"/>
            </a:xfrm>
            <a:custGeom>
              <a:avLst/>
              <a:gdLst/>
              <a:ahLst/>
              <a:rect l="l" t="t" r="r" b="b"/>
              <a:pathLst>
                <a:path w="133" h="741">
                  <a:moveTo>
                    <a:pt x="100" y="0"/>
                  </a:moveTo>
                  <a:lnTo>
                    <a:pt x="89" y="2"/>
                  </a:lnTo>
                  <a:lnTo>
                    <a:pt x="80" y="3"/>
                  </a:lnTo>
                  <a:lnTo>
                    <a:pt x="69" y="5"/>
                  </a:lnTo>
                  <a:lnTo>
                    <a:pt x="59" y="7"/>
                  </a:lnTo>
                  <a:lnTo>
                    <a:pt x="48" y="9"/>
                  </a:lnTo>
                  <a:lnTo>
                    <a:pt x="38" y="10"/>
                  </a:lnTo>
                  <a:lnTo>
                    <a:pt x="26" y="13"/>
                  </a:lnTo>
                  <a:lnTo>
                    <a:pt x="16" y="15"/>
                  </a:lnTo>
                  <a:lnTo>
                    <a:pt x="31" y="106"/>
                  </a:lnTo>
                  <a:lnTo>
                    <a:pt x="41" y="197"/>
                  </a:lnTo>
                  <a:lnTo>
                    <a:pt x="46" y="287"/>
                  </a:lnTo>
                  <a:lnTo>
                    <a:pt x="47" y="379"/>
                  </a:lnTo>
                  <a:lnTo>
                    <a:pt x="43" y="469"/>
                  </a:lnTo>
                  <a:lnTo>
                    <a:pt x="33" y="560"/>
                  </a:lnTo>
                  <a:lnTo>
                    <a:pt x="19" y="650"/>
                  </a:lnTo>
                  <a:lnTo>
                    <a:pt x="0" y="741"/>
                  </a:lnTo>
                  <a:lnTo>
                    <a:pt x="12" y="740"/>
                  </a:lnTo>
                  <a:lnTo>
                    <a:pt x="24" y="738"/>
                  </a:lnTo>
                  <a:lnTo>
                    <a:pt x="35" y="736"/>
                  </a:lnTo>
                  <a:lnTo>
                    <a:pt x="47" y="735"/>
                  </a:lnTo>
                  <a:lnTo>
                    <a:pt x="58" y="734"/>
                  </a:lnTo>
                  <a:lnTo>
                    <a:pt x="69" y="733"/>
                  </a:lnTo>
                  <a:lnTo>
                    <a:pt x="81" y="732"/>
                  </a:lnTo>
                  <a:lnTo>
                    <a:pt x="92" y="731"/>
                  </a:lnTo>
                  <a:lnTo>
                    <a:pt x="109" y="639"/>
                  </a:lnTo>
                  <a:lnTo>
                    <a:pt x="122" y="548"/>
                  </a:lnTo>
                  <a:lnTo>
                    <a:pt x="130" y="457"/>
                  </a:lnTo>
                  <a:lnTo>
                    <a:pt x="133" y="366"/>
                  </a:lnTo>
                  <a:lnTo>
                    <a:pt x="131" y="274"/>
                  </a:lnTo>
                  <a:lnTo>
                    <a:pt x="126" y="183"/>
                  </a:lnTo>
                  <a:lnTo>
                    <a:pt x="115" y="9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586160" y="3229200"/>
              <a:ext cx="34920" cy="202680"/>
            </a:xfrm>
            <a:custGeom>
              <a:avLst/>
              <a:gdLst/>
              <a:ahLst/>
              <a:rect l="l" t="t" r="r" b="b"/>
              <a:pathLst>
                <a:path w="128" h="743">
                  <a:moveTo>
                    <a:pt x="36" y="0"/>
                  </a:moveTo>
                  <a:lnTo>
                    <a:pt x="47" y="1"/>
                  </a:lnTo>
                  <a:lnTo>
                    <a:pt x="57" y="3"/>
                  </a:lnTo>
                  <a:lnTo>
                    <a:pt x="68" y="3"/>
                  </a:lnTo>
                  <a:lnTo>
                    <a:pt x="78" y="4"/>
                  </a:lnTo>
                  <a:lnTo>
                    <a:pt x="89" y="5"/>
                  </a:lnTo>
                  <a:lnTo>
                    <a:pt x="99" y="6"/>
                  </a:lnTo>
                  <a:lnTo>
                    <a:pt x="111" y="7"/>
                  </a:lnTo>
                  <a:lnTo>
                    <a:pt x="121" y="8"/>
                  </a:lnTo>
                  <a:lnTo>
                    <a:pt x="105" y="101"/>
                  </a:lnTo>
                  <a:lnTo>
                    <a:pt x="93" y="192"/>
                  </a:lnTo>
                  <a:lnTo>
                    <a:pt x="87" y="284"/>
                  </a:lnTo>
                  <a:lnTo>
                    <a:pt x="85" y="376"/>
                  </a:lnTo>
                  <a:lnTo>
                    <a:pt x="89" y="467"/>
                  </a:lnTo>
                  <a:lnTo>
                    <a:pt x="97" y="559"/>
                  </a:lnTo>
                  <a:lnTo>
                    <a:pt x="110" y="651"/>
                  </a:lnTo>
                  <a:lnTo>
                    <a:pt x="128" y="743"/>
                  </a:lnTo>
                  <a:lnTo>
                    <a:pt x="117" y="742"/>
                  </a:lnTo>
                  <a:lnTo>
                    <a:pt x="106" y="742"/>
                  </a:lnTo>
                  <a:lnTo>
                    <a:pt x="94" y="741"/>
                  </a:lnTo>
                  <a:lnTo>
                    <a:pt x="84" y="741"/>
                  </a:lnTo>
                  <a:lnTo>
                    <a:pt x="72" y="739"/>
                  </a:lnTo>
                  <a:lnTo>
                    <a:pt x="62" y="739"/>
                  </a:lnTo>
                  <a:lnTo>
                    <a:pt x="51" y="739"/>
                  </a:lnTo>
                  <a:lnTo>
                    <a:pt x="41" y="739"/>
                  </a:lnTo>
                  <a:lnTo>
                    <a:pt x="23" y="647"/>
                  </a:lnTo>
                  <a:lnTo>
                    <a:pt x="10" y="555"/>
                  </a:lnTo>
                  <a:lnTo>
                    <a:pt x="3" y="462"/>
                  </a:lnTo>
                  <a:lnTo>
                    <a:pt x="0" y="370"/>
                  </a:lnTo>
                  <a:lnTo>
                    <a:pt x="2" y="277"/>
                  </a:lnTo>
                  <a:lnTo>
                    <a:pt x="9" y="186"/>
                  </a:lnTo>
                  <a:lnTo>
                    <a:pt x="20" y="9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491200" y="3237480"/>
              <a:ext cx="36360" cy="201240"/>
            </a:xfrm>
            <a:custGeom>
              <a:avLst/>
              <a:gdLst/>
              <a:ahLst/>
              <a:rect l="l" t="t" r="r" b="b"/>
              <a:pathLst>
                <a:path w="135" h="740">
                  <a:moveTo>
                    <a:pt x="104" y="0"/>
                  </a:moveTo>
                  <a:lnTo>
                    <a:pt x="93" y="2"/>
                  </a:lnTo>
                  <a:lnTo>
                    <a:pt x="84" y="3"/>
                  </a:lnTo>
                  <a:lnTo>
                    <a:pt x="73" y="6"/>
                  </a:lnTo>
                  <a:lnTo>
                    <a:pt x="63" y="8"/>
                  </a:lnTo>
                  <a:lnTo>
                    <a:pt x="53" y="10"/>
                  </a:lnTo>
                  <a:lnTo>
                    <a:pt x="43" y="13"/>
                  </a:lnTo>
                  <a:lnTo>
                    <a:pt x="32" y="15"/>
                  </a:lnTo>
                  <a:lnTo>
                    <a:pt x="22" y="17"/>
                  </a:lnTo>
                  <a:lnTo>
                    <a:pt x="37" y="109"/>
                  </a:lnTo>
                  <a:lnTo>
                    <a:pt x="46" y="199"/>
                  </a:lnTo>
                  <a:lnTo>
                    <a:pt x="51" y="290"/>
                  </a:lnTo>
                  <a:lnTo>
                    <a:pt x="51" y="380"/>
                  </a:lnTo>
                  <a:lnTo>
                    <a:pt x="45" y="470"/>
                  </a:lnTo>
                  <a:lnTo>
                    <a:pt x="36" y="560"/>
                  </a:lnTo>
                  <a:lnTo>
                    <a:pt x="19" y="650"/>
                  </a:lnTo>
                  <a:lnTo>
                    <a:pt x="0" y="740"/>
                  </a:lnTo>
                  <a:lnTo>
                    <a:pt x="11" y="738"/>
                  </a:lnTo>
                  <a:lnTo>
                    <a:pt x="22" y="735"/>
                  </a:lnTo>
                  <a:lnTo>
                    <a:pt x="33" y="734"/>
                  </a:lnTo>
                  <a:lnTo>
                    <a:pt x="44" y="732"/>
                  </a:lnTo>
                  <a:lnTo>
                    <a:pt x="56" y="731"/>
                  </a:lnTo>
                  <a:lnTo>
                    <a:pt x="66" y="728"/>
                  </a:lnTo>
                  <a:lnTo>
                    <a:pt x="78" y="727"/>
                  </a:lnTo>
                  <a:lnTo>
                    <a:pt x="88" y="726"/>
                  </a:lnTo>
                  <a:lnTo>
                    <a:pt x="107" y="635"/>
                  </a:lnTo>
                  <a:lnTo>
                    <a:pt x="121" y="545"/>
                  </a:lnTo>
                  <a:lnTo>
                    <a:pt x="131" y="454"/>
                  </a:lnTo>
                  <a:lnTo>
                    <a:pt x="135" y="364"/>
                  </a:lnTo>
                  <a:lnTo>
                    <a:pt x="134" y="272"/>
                  </a:lnTo>
                  <a:lnTo>
                    <a:pt x="129" y="182"/>
                  </a:lnTo>
                  <a:lnTo>
                    <a:pt x="119" y="9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609200" y="3231720"/>
              <a:ext cx="36360" cy="201600"/>
            </a:xfrm>
            <a:custGeom>
              <a:avLst/>
              <a:gdLst/>
              <a:ahLst/>
              <a:rect l="l" t="t" r="r" b="b"/>
              <a:pathLst>
                <a:path w="131" h="742">
                  <a:moveTo>
                    <a:pt x="36" y="0"/>
                  </a:moveTo>
                  <a:lnTo>
                    <a:pt x="47" y="2"/>
                  </a:lnTo>
                  <a:lnTo>
                    <a:pt x="57" y="3"/>
                  </a:lnTo>
                  <a:lnTo>
                    <a:pt x="68" y="4"/>
                  </a:lnTo>
                  <a:lnTo>
                    <a:pt x="78" y="5"/>
                  </a:lnTo>
                  <a:lnTo>
                    <a:pt x="89" y="6"/>
                  </a:lnTo>
                  <a:lnTo>
                    <a:pt x="99" y="9"/>
                  </a:lnTo>
                  <a:lnTo>
                    <a:pt x="110" y="10"/>
                  </a:lnTo>
                  <a:lnTo>
                    <a:pt x="121" y="11"/>
                  </a:lnTo>
                  <a:lnTo>
                    <a:pt x="104" y="103"/>
                  </a:lnTo>
                  <a:lnTo>
                    <a:pt x="92" y="195"/>
                  </a:lnTo>
                  <a:lnTo>
                    <a:pt x="87" y="286"/>
                  </a:lnTo>
                  <a:lnTo>
                    <a:pt x="85" y="377"/>
                  </a:lnTo>
                  <a:lnTo>
                    <a:pt x="89" y="468"/>
                  </a:lnTo>
                  <a:lnTo>
                    <a:pt x="98" y="559"/>
                  </a:lnTo>
                  <a:lnTo>
                    <a:pt x="112" y="651"/>
                  </a:lnTo>
                  <a:lnTo>
                    <a:pt x="131" y="742"/>
                  </a:lnTo>
                  <a:lnTo>
                    <a:pt x="121" y="741"/>
                  </a:lnTo>
                  <a:lnTo>
                    <a:pt x="109" y="740"/>
                  </a:lnTo>
                  <a:lnTo>
                    <a:pt x="98" y="738"/>
                  </a:lnTo>
                  <a:lnTo>
                    <a:pt x="88" y="737"/>
                  </a:lnTo>
                  <a:lnTo>
                    <a:pt x="76" y="737"/>
                  </a:lnTo>
                  <a:lnTo>
                    <a:pt x="66" y="736"/>
                  </a:lnTo>
                  <a:lnTo>
                    <a:pt x="54" y="735"/>
                  </a:lnTo>
                  <a:lnTo>
                    <a:pt x="43" y="735"/>
                  </a:lnTo>
                  <a:lnTo>
                    <a:pt x="25" y="643"/>
                  </a:lnTo>
                  <a:lnTo>
                    <a:pt x="12" y="551"/>
                  </a:lnTo>
                  <a:lnTo>
                    <a:pt x="4" y="459"/>
                  </a:lnTo>
                  <a:lnTo>
                    <a:pt x="0" y="368"/>
                  </a:lnTo>
                  <a:lnTo>
                    <a:pt x="2" y="276"/>
                  </a:lnTo>
                  <a:lnTo>
                    <a:pt x="8" y="184"/>
                  </a:lnTo>
                  <a:lnTo>
                    <a:pt x="20" y="9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465640" y="3242520"/>
              <a:ext cx="39240" cy="201600"/>
            </a:xfrm>
            <a:custGeom>
              <a:avLst/>
              <a:gdLst/>
              <a:ahLst/>
              <a:rect l="l" t="t" r="r" b="b"/>
              <a:pathLst>
                <a:path w="146" h="741">
                  <a:moveTo>
                    <a:pt x="117" y="0"/>
                  </a:moveTo>
                  <a:lnTo>
                    <a:pt x="106" y="3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6" y="11"/>
                  </a:lnTo>
                  <a:lnTo>
                    <a:pt x="65" y="13"/>
                  </a:lnTo>
                  <a:lnTo>
                    <a:pt x="55" y="16"/>
                  </a:lnTo>
                  <a:lnTo>
                    <a:pt x="44" y="19"/>
                  </a:lnTo>
                  <a:lnTo>
                    <a:pt x="34" y="21"/>
                  </a:lnTo>
                  <a:lnTo>
                    <a:pt x="48" y="113"/>
                  </a:lnTo>
                  <a:lnTo>
                    <a:pt x="57" y="203"/>
                  </a:lnTo>
                  <a:lnTo>
                    <a:pt x="61" y="293"/>
                  </a:lnTo>
                  <a:lnTo>
                    <a:pt x="59" y="383"/>
                  </a:lnTo>
                  <a:lnTo>
                    <a:pt x="52" y="473"/>
                  </a:lnTo>
                  <a:lnTo>
                    <a:pt x="40" y="563"/>
                  </a:lnTo>
                  <a:lnTo>
                    <a:pt x="22" y="652"/>
                  </a:lnTo>
                  <a:lnTo>
                    <a:pt x="0" y="741"/>
                  </a:lnTo>
                  <a:lnTo>
                    <a:pt x="12" y="738"/>
                  </a:lnTo>
                  <a:lnTo>
                    <a:pt x="23" y="736"/>
                  </a:lnTo>
                  <a:lnTo>
                    <a:pt x="35" y="734"/>
                  </a:lnTo>
                  <a:lnTo>
                    <a:pt x="48" y="731"/>
                  </a:lnTo>
                  <a:lnTo>
                    <a:pt x="59" y="729"/>
                  </a:lnTo>
                  <a:lnTo>
                    <a:pt x="71" y="727"/>
                  </a:lnTo>
                  <a:lnTo>
                    <a:pt x="83" y="726"/>
                  </a:lnTo>
                  <a:lnTo>
                    <a:pt x="95" y="723"/>
                  </a:lnTo>
                  <a:lnTo>
                    <a:pt x="114" y="633"/>
                  </a:lnTo>
                  <a:lnTo>
                    <a:pt x="131" y="543"/>
                  </a:lnTo>
                  <a:lnTo>
                    <a:pt x="140" y="453"/>
                  </a:lnTo>
                  <a:lnTo>
                    <a:pt x="146" y="363"/>
                  </a:lnTo>
                  <a:lnTo>
                    <a:pt x="146" y="273"/>
                  </a:lnTo>
                  <a:lnTo>
                    <a:pt x="141" y="182"/>
                  </a:lnTo>
                  <a:lnTo>
                    <a:pt x="132" y="92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632240" y="3234600"/>
              <a:ext cx="37440" cy="201240"/>
            </a:xfrm>
            <a:custGeom>
              <a:avLst/>
              <a:gdLst/>
              <a:ahLst/>
              <a:rect l="l" t="t" r="r" b="b"/>
              <a:pathLst>
                <a:path w="138" h="741">
                  <a:moveTo>
                    <a:pt x="36" y="0"/>
                  </a:moveTo>
                  <a:lnTo>
                    <a:pt x="46" y="2"/>
                  </a:lnTo>
                  <a:lnTo>
                    <a:pt x="57" y="3"/>
                  </a:lnTo>
                  <a:lnTo>
                    <a:pt x="67" y="6"/>
                  </a:lnTo>
                  <a:lnTo>
                    <a:pt x="78" y="8"/>
                  </a:lnTo>
                  <a:lnTo>
                    <a:pt x="88" y="9"/>
                  </a:lnTo>
                  <a:lnTo>
                    <a:pt x="99" y="12"/>
                  </a:lnTo>
                  <a:lnTo>
                    <a:pt x="110" y="14"/>
                  </a:lnTo>
                  <a:lnTo>
                    <a:pt x="121" y="16"/>
                  </a:lnTo>
                  <a:lnTo>
                    <a:pt x="103" y="108"/>
                  </a:lnTo>
                  <a:lnTo>
                    <a:pt x="93" y="199"/>
                  </a:lnTo>
                  <a:lnTo>
                    <a:pt x="86" y="289"/>
                  </a:lnTo>
                  <a:lnTo>
                    <a:pt x="86" y="380"/>
                  </a:lnTo>
                  <a:lnTo>
                    <a:pt x="91" y="470"/>
                  </a:lnTo>
                  <a:lnTo>
                    <a:pt x="101" y="560"/>
                  </a:lnTo>
                  <a:lnTo>
                    <a:pt x="117" y="651"/>
                  </a:lnTo>
                  <a:lnTo>
                    <a:pt x="138" y="741"/>
                  </a:lnTo>
                  <a:lnTo>
                    <a:pt x="127" y="740"/>
                  </a:lnTo>
                  <a:lnTo>
                    <a:pt x="115" y="738"/>
                  </a:lnTo>
                  <a:lnTo>
                    <a:pt x="103" y="737"/>
                  </a:lnTo>
                  <a:lnTo>
                    <a:pt x="92" y="736"/>
                  </a:lnTo>
                  <a:lnTo>
                    <a:pt x="80" y="734"/>
                  </a:lnTo>
                  <a:lnTo>
                    <a:pt x="69" y="733"/>
                  </a:lnTo>
                  <a:lnTo>
                    <a:pt x="58" y="732"/>
                  </a:lnTo>
                  <a:lnTo>
                    <a:pt x="46" y="731"/>
                  </a:lnTo>
                  <a:lnTo>
                    <a:pt x="27" y="640"/>
                  </a:lnTo>
                  <a:lnTo>
                    <a:pt x="13" y="548"/>
                  </a:lnTo>
                  <a:lnTo>
                    <a:pt x="4" y="457"/>
                  </a:lnTo>
                  <a:lnTo>
                    <a:pt x="0" y="366"/>
                  </a:lnTo>
                  <a:lnTo>
                    <a:pt x="2" y="275"/>
                  </a:lnTo>
                  <a:lnTo>
                    <a:pt x="7" y="184"/>
                  </a:lnTo>
                  <a:lnTo>
                    <a:pt x="19" y="9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39720" y="3248280"/>
              <a:ext cx="41760" cy="202680"/>
            </a:xfrm>
            <a:custGeom>
              <a:avLst/>
              <a:gdLst/>
              <a:ahLst/>
              <a:rect l="l" t="t" r="r" b="b"/>
              <a:pathLst>
                <a:path w="157" h="743">
                  <a:moveTo>
                    <a:pt x="130" y="0"/>
                  </a:moveTo>
                  <a:lnTo>
                    <a:pt x="119" y="4"/>
                  </a:lnTo>
                  <a:lnTo>
                    <a:pt x="110" y="6"/>
                  </a:lnTo>
                  <a:lnTo>
                    <a:pt x="99" y="10"/>
                  </a:lnTo>
                  <a:lnTo>
                    <a:pt x="90" y="13"/>
                  </a:lnTo>
                  <a:lnTo>
                    <a:pt x="79" y="16"/>
                  </a:lnTo>
                  <a:lnTo>
                    <a:pt x="69" y="19"/>
                  </a:lnTo>
                  <a:lnTo>
                    <a:pt x="60" y="23"/>
                  </a:lnTo>
                  <a:lnTo>
                    <a:pt x="49" y="26"/>
                  </a:lnTo>
                  <a:lnTo>
                    <a:pt x="62" y="117"/>
                  </a:lnTo>
                  <a:lnTo>
                    <a:pt x="70" y="207"/>
                  </a:lnTo>
                  <a:lnTo>
                    <a:pt x="72" y="298"/>
                  </a:lnTo>
                  <a:lnTo>
                    <a:pt x="69" y="388"/>
                  </a:lnTo>
                  <a:lnTo>
                    <a:pt x="60" y="476"/>
                  </a:lnTo>
                  <a:lnTo>
                    <a:pt x="46" y="567"/>
                  </a:lnTo>
                  <a:lnTo>
                    <a:pt x="26" y="654"/>
                  </a:lnTo>
                  <a:lnTo>
                    <a:pt x="0" y="743"/>
                  </a:lnTo>
                  <a:lnTo>
                    <a:pt x="12" y="740"/>
                  </a:lnTo>
                  <a:lnTo>
                    <a:pt x="25" y="737"/>
                  </a:lnTo>
                  <a:lnTo>
                    <a:pt x="36" y="734"/>
                  </a:lnTo>
                  <a:lnTo>
                    <a:pt x="48" y="731"/>
                  </a:lnTo>
                  <a:lnTo>
                    <a:pt x="61" y="728"/>
                  </a:lnTo>
                  <a:lnTo>
                    <a:pt x="72" y="726"/>
                  </a:lnTo>
                  <a:lnTo>
                    <a:pt x="84" y="722"/>
                  </a:lnTo>
                  <a:lnTo>
                    <a:pt x="96" y="720"/>
                  </a:lnTo>
                  <a:lnTo>
                    <a:pt x="118" y="631"/>
                  </a:lnTo>
                  <a:lnTo>
                    <a:pt x="136" y="542"/>
                  </a:lnTo>
                  <a:lnTo>
                    <a:pt x="148" y="452"/>
                  </a:lnTo>
                  <a:lnTo>
                    <a:pt x="155" y="362"/>
                  </a:lnTo>
                  <a:lnTo>
                    <a:pt x="157" y="272"/>
                  </a:lnTo>
                  <a:lnTo>
                    <a:pt x="153" y="182"/>
                  </a:lnTo>
                  <a:lnTo>
                    <a:pt x="144" y="9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656360" y="3238560"/>
              <a:ext cx="39240" cy="201600"/>
            </a:xfrm>
            <a:custGeom>
              <a:avLst/>
              <a:gdLst/>
              <a:ahLst/>
              <a:rect l="l" t="t" r="r" b="b"/>
              <a:pathLst>
                <a:path w="145" h="741">
                  <a:moveTo>
                    <a:pt x="35" y="0"/>
                  </a:moveTo>
                  <a:lnTo>
                    <a:pt x="45" y="3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6" y="10"/>
                  </a:lnTo>
                  <a:lnTo>
                    <a:pt x="85" y="12"/>
                  </a:lnTo>
                  <a:lnTo>
                    <a:pt x="96" y="14"/>
                  </a:lnTo>
                  <a:lnTo>
                    <a:pt x="106" y="17"/>
                  </a:lnTo>
                  <a:lnTo>
                    <a:pt x="117" y="19"/>
                  </a:lnTo>
                  <a:lnTo>
                    <a:pt x="100" y="110"/>
                  </a:lnTo>
                  <a:lnTo>
                    <a:pt x="90" y="200"/>
                  </a:lnTo>
                  <a:lnTo>
                    <a:pt x="85" y="292"/>
                  </a:lnTo>
                  <a:lnTo>
                    <a:pt x="85" y="382"/>
                  </a:lnTo>
                  <a:lnTo>
                    <a:pt x="92" y="472"/>
                  </a:lnTo>
                  <a:lnTo>
                    <a:pt x="104" y="562"/>
                  </a:lnTo>
                  <a:lnTo>
                    <a:pt x="121" y="652"/>
                  </a:lnTo>
                  <a:lnTo>
                    <a:pt x="145" y="741"/>
                  </a:lnTo>
                  <a:lnTo>
                    <a:pt x="133" y="738"/>
                  </a:lnTo>
                  <a:lnTo>
                    <a:pt x="121" y="736"/>
                  </a:lnTo>
                  <a:lnTo>
                    <a:pt x="110" y="735"/>
                  </a:lnTo>
                  <a:lnTo>
                    <a:pt x="98" y="732"/>
                  </a:lnTo>
                  <a:lnTo>
                    <a:pt x="86" y="731"/>
                  </a:lnTo>
                  <a:lnTo>
                    <a:pt x="76" y="729"/>
                  </a:lnTo>
                  <a:lnTo>
                    <a:pt x="64" y="728"/>
                  </a:lnTo>
                  <a:lnTo>
                    <a:pt x="52" y="725"/>
                  </a:lnTo>
                  <a:lnTo>
                    <a:pt x="31" y="635"/>
                  </a:lnTo>
                  <a:lnTo>
                    <a:pt x="15" y="544"/>
                  </a:lnTo>
                  <a:lnTo>
                    <a:pt x="5" y="454"/>
                  </a:lnTo>
                  <a:lnTo>
                    <a:pt x="0" y="364"/>
                  </a:lnTo>
                  <a:lnTo>
                    <a:pt x="0" y="273"/>
                  </a:lnTo>
                  <a:lnTo>
                    <a:pt x="7" y="183"/>
                  </a:lnTo>
                  <a:lnTo>
                    <a:pt x="17" y="9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412720" y="3255120"/>
              <a:ext cx="45720" cy="202680"/>
            </a:xfrm>
            <a:custGeom>
              <a:avLst/>
              <a:gdLst/>
              <a:ahLst/>
              <a:rect l="l" t="t" r="r" b="b"/>
              <a:pathLst>
                <a:path w="170" h="743">
                  <a:moveTo>
                    <a:pt x="147" y="0"/>
                  </a:moveTo>
                  <a:lnTo>
                    <a:pt x="137" y="4"/>
                  </a:lnTo>
                  <a:lnTo>
                    <a:pt x="127" y="6"/>
                  </a:lnTo>
                  <a:lnTo>
                    <a:pt x="117" y="10"/>
                  </a:lnTo>
                  <a:lnTo>
                    <a:pt x="106" y="13"/>
                  </a:lnTo>
                  <a:lnTo>
                    <a:pt x="96" y="17"/>
                  </a:lnTo>
                  <a:lnTo>
                    <a:pt x="85" y="20"/>
                  </a:lnTo>
                  <a:lnTo>
                    <a:pt x="76" y="24"/>
                  </a:lnTo>
                  <a:lnTo>
                    <a:pt x="65" y="27"/>
                  </a:lnTo>
                  <a:lnTo>
                    <a:pt x="78" y="118"/>
                  </a:lnTo>
                  <a:lnTo>
                    <a:pt x="85" y="210"/>
                  </a:lnTo>
                  <a:lnTo>
                    <a:pt x="85" y="300"/>
                  </a:lnTo>
                  <a:lnTo>
                    <a:pt x="80" y="390"/>
                  </a:lnTo>
                  <a:lnTo>
                    <a:pt x="69" y="479"/>
                  </a:lnTo>
                  <a:lnTo>
                    <a:pt x="52" y="567"/>
                  </a:lnTo>
                  <a:lnTo>
                    <a:pt x="29" y="655"/>
                  </a:lnTo>
                  <a:lnTo>
                    <a:pt x="0" y="743"/>
                  </a:lnTo>
                  <a:lnTo>
                    <a:pt x="13" y="739"/>
                  </a:lnTo>
                  <a:lnTo>
                    <a:pt x="24" y="736"/>
                  </a:lnTo>
                  <a:lnTo>
                    <a:pt x="37" y="732"/>
                  </a:lnTo>
                  <a:lnTo>
                    <a:pt x="49" y="729"/>
                  </a:lnTo>
                  <a:lnTo>
                    <a:pt x="62" y="725"/>
                  </a:lnTo>
                  <a:lnTo>
                    <a:pt x="73" y="723"/>
                  </a:lnTo>
                  <a:lnTo>
                    <a:pt x="86" y="719"/>
                  </a:lnTo>
                  <a:lnTo>
                    <a:pt x="98" y="717"/>
                  </a:lnTo>
                  <a:lnTo>
                    <a:pt x="124" y="628"/>
                  </a:lnTo>
                  <a:lnTo>
                    <a:pt x="144" y="541"/>
                  </a:lnTo>
                  <a:lnTo>
                    <a:pt x="158" y="450"/>
                  </a:lnTo>
                  <a:lnTo>
                    <a:pt x="167" y="362"/>
                  </a:lnTo>
                  <a:lnTo>
                    <a:pt x="170" y="272"/>
                  </a:lnTo>
                  <a:lnTo>
                    <a:pt x="168" y="181"/>
                  </a:lnTo>
                  <a:lnTo>
                    <a:pt x="160" y="91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679400" y="3244320"/>
              <a:ext cx="41760" cy="201240"/>
            </a:xfrm>
            <a:custGeom>
              <a:avLst/>
              <a:gdLst/>
              <a:ahLst/>
              <a:rect l="l" t="t" r="r" b="b"/>
              <a:pathLst>
                <a:path w="155" h="742">
                  <a:moveTo>
                    <a:pt x="32" y="0"/>
                  </a:moveTo>
                  <a:lnTo>
                    <a:pt x="42" y="2"/>
                  </a:lnTo>
                  <a:lnTo>
                    <a:pt x="52" y="6"/>
                  </a:lnTo>
                  <a:lnTo>
                    <a:pt x="62" y="8"/>
                  </a:lnTo>
                  <a:lnTo>
                    <a:pt x="73" y="11"/>
                  </a:lnTo>
                  <a:lnTo>
                    <a:pt x="82" y="13"/>
                  </a:lnTo>
                  <a:lnTo>
                    <a:pt x="93" y="16"/>
                  </a:lnTo>
                  <a:lnTo>
                    <a:pt x="103" y="19"/>
                  </a:lnTo>
                  <a:lnTo>
                    <a:pt x="114" y="22"/>
                  </a:lnTo>
                  <a:lnTo>
                    <a:pt x="97" y="114"/>
                  </a:lnTo>
                  <a:lnTo>
                    <a:pt x="88" y="204"/>
                  </a:lnTo>
                  <a:lnTo>
                    <a:pt x="84" y="294"/>
                  </a:lnTo>
                  <a:lnTo>
                    <a:pt x="87" y="384"/>
                  </a:lnTo>
                  <a:lnTo>
                    <a:pt x="95" y="474"/>
                  </a:lnTo>
                  <a:lnTo>
                    <a:pt x="109" y="564"/>
                  </a:lnTo>
                  <a:lnTo>
                    <a:pt x="129" y="653"/>
                  </a:lnTo>
                  <a:lnTo>
                    <a:pt x="155" y="742"/>
                  </a:lnTo>
                  <a:lnTo>
                    <a:pt x="143" y="739"/>
                  </a:lnTo>
                  <a:lnTo>
                    <a:pt x="131" y="737"/>
                  </a:lnTo>
                  <a:lnTo>
                    <a:pt x="119" y="733"/>
                  </a:lnTo>
                  <a:lnTo>
                    <a:pt x="108" y="731"/>
                  </a:lnTo>
                  <a:lnTo>
                    <a:pt x="95" y="729"/>
                  </a:lnTo>
                  <a:lnTo>
                    <a:pt x="83" y="726"/>
                  </a:lnTo>
                  <a:lnTo>
                    <a:pt x="72" y="724"/>
                  </a:lnTo>
                  <a:lnTo>
                    <a:pt x="60" y="722"/>
                  </a:lnTo>
                  <a:lnTo>
                    <a:pt x="36" y="633"/>
                  </a:lnTo>
                  <a:lnTo>
                    <a:pt x="19" y="543"/>
                  </a:lnTo>
                  <a:lnTo>
                    <a:pt x="7" y="453"/>
                  </a:lnTo>
                  <a:lnTo>
                    <a:pt x="0" y="363"/>
                  </a:lnTo>
                  <a:lnTo>
                    <a:pt x="0" y="273"/>
                  </a:lnTo>
                  <a:lnTo>
                    <a:pt x="5" y="181"/>
                  </a:lnTo>
                  <a:lnTo>
                    <a:pt x="15" y="9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385720" y="3263040"/>
              <a:ext cx="49680" cy="201600"/>
            </a:xfrm>
            <a:custGeom>
              <a:avLst/>
              <a:gdLst/>
              <a:ahLst/>
              <a:rect l="l" t="t" r="r" b="b"/>
              <a:pathLst>
                <a:path w="185" h="740">
                  <a:moveTo>
                    <a:pt x="165" y="0"/>
                  </a:moveTo>
                  <a:lnTo>
                    <a:pt x="155" y="4"/>
                  </a:lnTo>
                  <a:lnTo>
                    <a:pt x="145" y="8"/>
                  </a:lnTo>
                  <a:lnTo>
                    <a:pt x="135" y="12"/>
                  </a:lnTo>
                  <a:lnTo>
                    <a:pt x="124" y="15"/>
                  </a:lnTo>
                  <a:lnTo>
                    <a:pt x="115" y="20"/>
                  </a:lnTo>
                  <a:lnTo>
                    <a:pt x="104" y="23"/>
                  </a:lnTo>
                  <a:lnTo>
                    <a:pt x="94" y="28"/>
                  </a:lnTo>
                  <a:lnTo>
                    <a:pt x="83" y="32"/>
                  </a:lnTo>
                  <a:lnTo>
                    <a:pt x="95" y="121"/>
                  </a:lnTo>
                  <a:lnTo>
                    <a:pt x="100" y="211"/>
                  </a:lnTo>
                  <a:lnTo>
                    <a:pt x="99" y="299"/>
                  </a:lnTo>
                  <a:lnTo>
                    <a:pt x="92" y="387"/>
                  </a:lnTo>
                  <a:lnTo>
                    <a:pt x="78" y="475"/>
                  </a:lnTo>
                  <a:lnTo>
                    <a:pt x="58" y="561"/>
                  </a:lnTo>
                  <a:lnTo>
                    <a:pt x="32" y="648"/>
                  </a:lnTo>
                  <a:lnTo>
                    <a:pt x="0" y="732"/>
                  </a:lnTo>
                  <a:lnTo>
                    <a:pt x="5" y="735"/>
                  </a:lnTo>
                  <a:lnTo>
                    <a:pt x="10" y="736"/>
                  </a:lnTo>
                  <a:lnTo>
                    <a:pt x="14" y="738"/>
                  </a:lnTo>
                  <a:lnTo>
                    <a:pt x="19" y="740"/>
                  </a:lnTo>
                  <a:lnTo>
                    <a:pt x="30" y="737"/>
                  </a:lnTo>
                  <a:lnTo>
                    <a:pt x="39" y="735"/>
                  </a:lnTo>
                  <a:lnTo>
                    <a:pt x="49" y="731"/>
                  </a:lnTo>
                  <a:lnTo>
                    <a:pt x="60" y="728"/>
                  </a:lnTo>
                  <a:lnTo>
                    <a:pt x="69" y="725"/>
                  </a:lnTo>
                  <a:lnTo>
                    <a:pt x="80" y="722"/>
                  </a:lnTo>
                  <a:lnTo>
                    <a:pt x="89" y="719"/>
                  </a:lnTo>
                  <a:lnTo>
                    <a:pt x="100" y="716"/>
                  </a:lnTo>
                  <a:lnTo>
                    <a:pt x="129" y="628"/>
                  </a:lnTo>
                  <a:lnTo>
                    <a:pt x="152" y="540"/>
                  </a:lnTo>
                  <a:lnTo>
                    <a:pt x="169" y="452"/>
                  </a:lnTo>
                  <a:lnTo>
                    <a:pt x="180" y="363"/>
                  </a:lnTo>
                  <a:lnTo>
                    <a:pt x="185" y="273"/>
                  </a:lnTo>
                  <a:lnTo>
                    <a:pt x="185" y="183"/>
                  </a:lnTo>
                  <a:lnTo>
                    <a:pt x="178" y="91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701000" y="3249360"/>
              <a:ext cx="45720" cy="202680"/>
            </a:xfrm>
            <a:custGeom>
              <a:avLst/>
              <a:gdLst/>
              <a:ahLst/>
              <a:rect l="l" t="t" r="r" b="b"/>
              <a:pathLst>
                <a:path w="170" h="743">
                  <a:moveTo>
                    <a:pt x="30" y="0"/>
                  </a:moveTo>
                  <a:lnTo>
                    <a:pt x="40" y="3"/>
                  </a:lnTo>
                  <a:lnTo>
                    <a:pt x="49" y="6"/>
                  </a:lnTo>
                  <a:lnTo>
                    <a:pt x="60" y="8"/>
                  </a:lnTo>
                  <a:lnTo>
                    <a:pt x="71" y="12"/>
                  </a:lnTo>
                  <a:lnTo>
                    <a:pt x="80" y="15"/>
                  </a:lnTo>
                  <a:lnTo>
                    <a:pt x="90" y="19"/>
                  </a:lnTo>
                  <a:lnTo>
                    <a:pt x="101" y="21"/>
                  </a:lnTo>
                  <a:lnTo>
                    <a:pt x="111" y="25"/>
                  </a:lnTo>
                  <a:lnTo>
                    <a:pt x="96" y="116"/>
                  </a:lnTo>
                  <a:lnTo>
                    <a:pt x="88" y="207"/>
                  </a:lnTo>
                  <a:lnTo>
                    <a:pt x="86" y="297"/>
                  </a:lnTo>
                  <a:lnTo>
                    <a:pt x="89" y="387"/>
                  </a:lnTo>
                  <a:lnTo>
                    <a:pt x="100" y="477"/>
                  </a:lnTo>
                  <a:lnTo>
                    <a:pt x="117" y="566"/>
                  </a:lnTo>
                  <a:lnTo>
                    <a:pt x="141" y="655"/>
                  </a:lnTo>
                  <a:lnTo>
                    <a:pt x="170" y="743"/>
                  </a:lnTo>
                  <a:lnTo>
                    <a:pt x="157" y="739"/>
                  </a:lnTo>
                  <a:lnTo>
                    <a:pt x="144" y="737"/>
                  </a:lnTo>
                  <a:lnTo>
                    <a:pt x="132" y="734"/>
                  </a:lnTo>
                  <a:lnTo>
                    <a:pt x="120" y="731"/>
                  </a:lnTo>
                  <a:lnTo>
                    <a:pt x="108" y="728"/>
                  </a:lnTo>
                  <a:lnTo>
                    <a:pt x="95" y="725"/>
                  </a:lnTo>
                  <a:lnTo>
                    <a:pt x="83" y="722"/>
                  </a:lnTo>
                  <a:lnTo>
                    <a:pt x="71" y="720"/>
                  </a:lnTo>
                  <a:lnTo>
                    <a:pt x="45" y="631"/>
                  </a:lnTo>
                  <a:lnTo>
                    <a:pt x="25" y="542"/>
                  </a:lnTo>
                  <a:lnTo>
                    <a:pt x="11" y="452"/>
                  </a:lnTo>
                  <a:lnTo>
                    <a:pt x="3" y="362"/>
                  </a:lnTo>
                  <a:lnTo>
                    <a:pt x="0" y="272"/>
                  </a:lnTo>
                  <a:lnTo>
                    <a:pt x="4" y="182"/>
                  </a:lnTo>
                  <a:lnTo>
                    <a:pt x="13" y="9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365560" y="3261600"/>
              <a:ext cx="47160" cy="199800"/>
            </a:xfrm>
            <a:custGeom>
              <a:avLst/>
              <a:gdLst/>
              <a:ahLst/>
              <a:rect l="l" t="t" r="r" b="b"/>
              <a:pathLst>
                <a:path w="176" h="734">
                  <a:moveTo>
                    <a:pt x="159" y="34"/>
                  </a:moveTo>
                  <a:lnTo>
                    <a:pt x="155" y="36"/>
                  </a:lnTo>
                  <a:lnTo>
                    <a:pt x="150" y="37"/>
                  </a:lnTo>
                  <a:lnTo>
                    <a:pt x="144" y="40"/>
                  </a:lnTo>
                  <a:lnTo>
                    <a:pt x="139" y="42"/>
                  </a:lnTo>
                  <a:lnTo>
                    <a:pt x="130" y="36"/>
                  </a:lnTo>
                  <a:lnTo>
                    <a:pt x="122" y="31"/>
                  </a:lnTo>
                  <a:lnTo>
                    <a:pt x="113" y="25"/>
                  </a:lnTo>
                  <a:lnTo>
                    <a:pt x="104" y="21"/>
                  </a:lnTo>
                  <a:lnTo>
                    <a:pt x="95" y="15"/>
                  </a:lnTo>
                  <a:lnTo>
                    <a:pt x="87" y="10"/>
                  </a:lnTo>
                  <a:lnTo>
                    <a:pt x="78" y="4"/>
                  </a:lnTo>
                  <a:lnTo>
                    <a:pt x="68" y="0"/>
                  </a:lnTo>
                  <a:lnTo>
                    <a:pt x="83" y="89"/>
                  </a:lnTo>
                  <a:lnTo>
                    <a:pt x="90" y="179"/>
                  </a:lnTo>
                  <a:lnTo>
                    <a:pt x="92" y="268"/>
                  </a:lnTo>
                  <a:lnTo>
                    <a:pt x="87" y="355"/>
                  </a:lnTo>
                  <a:lnTo>
                    <a:pt x="75" y="443"/>
                  </a:lnTo>
                  <a:lnTo>
                    <a:pt x="56" y="531"/>
                  </a:lnTo>
                  <a:lnTo>
                    <a:pt x="32" y="616"/>
                  </a:lnTo>
                  <a:lnTo>
                    <a:pt x="0" y="700"/>
                  </a:lnTo>
                  <a:lnTo>
                    <a:pt x="10" y="704"/>
                  </a:lnTo>
                  <a:lnTo>
                    <a:pt x="19" y="708"/>
                  </a:lnTo>
                  <a:lnTo>
                    <a:pt x="30" y="712"/>
                  </a:lnTo>
                  <a:lnTo>
                    <a:pt x="39" y="717"/>
                  </a:lnTo>
                  <a:lnTo>
                    <a:pt x="48" y="721"/>
                  </a:lnTo>
                  <a:lnTo>
                    <a:pt x="58" y="726"/>
                  </a:lnTo>
                  <a:lnTo>
                    <a:pt x="67" y="730"/>
                  </a:lnTo>
                  <a:lnTo>
                    <a:pt x="76" y="734"/>
                  </a:lnTo>
                  <a:lnTo>
                    <a:pt x="108" y="650"/>
                  </a:lnTo>
                  <a:lnTo>
                    <a:pt x="134" y="563"/>
                  </a:lnTo>
                  <a:lnTo>
                    <a:pt x="154" y="477"/>
                  </a:lnTo>
                  <a:lnTo>
                    <a:pt x="168" y="389"/>
                  </a:lnTo>
                  <a:lnTo>
                    <a:pt x="175" y="301"/>
                  </a:lnTo>
                  <a:lnTo>
                    <a:pt x="176" y="213"/>
                  </a:lnTo>
                  <a:lnTo>
                    <a:pt x="171" y="123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ff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725480" y="3256200"/>
              <a:ext cx="49680" cy="204120"/>
            </a:xfrm>
            <a:custGeom>
              <a:avLst/>
              <a:gdLst/>
              <a:ahLst/>
              <a:rect l="l" t="t" r="r" b="b"/>
              <a:pathLst>
                <a:path w="188" h="747">
                  <a:moveTo>
                    <a:pt x="25" y="0"/>
                  </a:moveTo>
                  <a:lnTo>
                    <a:pt x="35" y="3"/>
                  </a:lnTo>
                  <a:lnTo>
                    <a:pt x="45" y="7"/>
                  </a:lnTo>
                  <a:lnTo>
                    <a:pt x="55" y="10"/>
                  </a:lnTo>
                  <a:lnTo>
                    <a:pt x="65" y="14"/>
                  </a:lnTo>
                  <a:lnTo>
                    <a:pt x="75" y="17"/>
                  </a:lnTo>
                  <a:lnTo>
                    <a:pt x="85" y="21"/>
                  </a:lnTo>
                  <a:lnTo>
                    <a:pt x="94" y="26"/>
                  </a:lnTo>
                  <a:lnTo>
                    <a:pt x="105" y="29"/>
                  </a:lnTo>
                  <a:lnTo>
                    <a:pt x="91" y="120"/>
                  </a:lnTo>
                  <a:lnTo>
                    <a:pt x="84" y="213"/>
                  </a:lnTo>
                  <a:lnTo>
                    <a:pt x="84" y="304"/>
                  </a:lnTo>
                  <a:lnTo>
                    <a:pt x="91" y="394"/>
                  </a:lnTo>
                  <a:lnTo>
                    <a:pt x="105" y="484"/>
                  </a:lnTo>
                  <a:lnTo>
                    <a:pt x="126" y="573"/>
                  </a:lnTo>
                  <a:lnTo>
                    <a:pt x="153" y="661"/>
                  </a:lnTo>
                  <a:lnTo>
                    <a:pt x="188" y="747"/>
                  </a:lnTo>
                  <a:lnTo>
                    <a:pt x="175" y="744"/>
                  </a:lnTo>
                  <a:lnTo>
                    <a:pt x="162" y="739"/>
                  </a:lnTo>
                  <a:lnTo>
                    <a:pt x="148" y="735"/>
                  </a:lnTo>
                  <a:lnTo>
                    <a:pt x="135" y="732"/>
                  </a:lnTo>
                  <a:lnTo>
                    <a:pt x="123" y="728"/>
                  </a:lnTo>
                  <a:lnTo>
                    <a:pt x="110" y="725"/>
                  </a:lnTo>
                  <a:lnTo>
                    <a:pt x="97" y="721"/>
                  </a:lnTo>
                  <a:lnTo>
                    <a:pt x="84" y="718"/>
                  </a:lnTo>
                  <a:lnTo>
                    <a:pt x="55" y="630"/>
                  </a:lnTo>
                  <a:lnTo>
                    <a:pt x="31" y="541"/>
                  </a:lnTo>
                  <a:lnTo>
                    <a:pt x="14" y="452"/>
                  </a:lnTo>
                  <a:lnTo>
                    <a:pt x="3" y="362"/>
                  </a:lnTo>
                  <a:lnTo>
                    <a:pt x="0" y="272"/>
                  </a:lnTo>
                  <a:lnTo>
                    <a:pt x="2" y="182"/>
                  </a:lnTo>
                  <a:lnTo>
                    <a:pt x="10" y="9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343600" y="3248280"/>
              <a:ext cx="45720" cy="203760"/>
            </a:xfrm>
            <a:custGeom>
              <a:avLst/>
              <a:gdLst/>
              <a:ahLst/>
              <a:rect l="l" t="t" r="r" b="b"/>
              <a:pathLst>
                <a:path w="171" h="752">
                  <a:moveTo>
                    <a:pt x="147" y="52"/>
                  </a:moveTo>
                  <a:lnTo>
                    <a:pt x="134" y="45"/>
                  </a:lnTo>
                  <a:lnTo>
                    <a:pt x="123" y="38"/>
                  </a:lnTo>
                  <a:lnTo>
                    <a:pt x="110" y="32"/>
                  </a:lnTo>
                  <a:lnTo>
                    <a:pt x="97" y="25"/>
                  </a:lnTo>
                  <a:lnTo>
                    <a:pt x="85" y="19"/>
                  </a:lnTo>
                  <a:lnTo>
                    <a:pt x="72" y="13"/>
                  </a:lnTo>
                  <a:lnTo>
                    <a:pt x="59" y="6"/>
                  </a:lnTo>
                  <a:lnTo>
                    <a:pt x="47" y="0"/>
                  </a:lnTo>
                  <a:lnTo>
                    <a:pt x="68" y="90"/>
                  </a:lnTo>
                  <a:lnTo>
                    <a:pt x="81" y="182"/>
                  </a:lnTo>
                  <a:lnTo>
                    <a:pt x="86" y="273"/>
                  </a:lnTo>
                  <a:lnTo>
                    <a:pt x="84" y="364"/>
                  </a:lnTo>
                  <a:lnTo>
                    <a:pt x="74" y="454"/>
                  </a:lnTo>
                  <a:lnTo>
                    <a:pt x="57" y="544"/>
                  </a:lnTo>
                  <a:lnTo>
                    <a:pt x="33" y="633"/>
                  </a:lnTo>
                  <a:lnTo>
                    <a:pt x="0" y="721"/>
                  </a:lnTo>
                  <a:lnTo>
                    <a:pt x="10" y="724"/>
                  </a:lnTo>
                  <a:lnTo>
                    <a:pt x="20" y="729"/>
                  </a:lnTo>
                  <a:lnTo>
                    <a:pt x="30" y="732"/>
                  </a:lnTo>
                  <a:lnTo>
                    <a:pt x="40" y="736"/>
                  </a:lnTo>
                  <a:lnTo>
                    <a:pt x="49" y="739"/>
                  </a:lnTo>
                  <a:lnTo>
                    <a:pt x="59" y="744"/>
                  </a:lnTo>
                  <a:lnTo>
                    <a:pt x="69" y="748"/>
                  </a:lnTo>
                  <a:lnTo>
                    <a:pt x="79" y="752"/>
                  </a:lnTo>
                  <a:lnTo>
                    <a:pt x="111" y="668"/>
                  </a:lnTo>
                  <a:lnTo>
                    <a:pt x="135" y="583"/>
                  </a:lnTo>
                  <a:lnTo>
                    <a:pt x="154" y="495"/>
                  </a:lnTo>
                  <a:lnTo>
                    <a:pt x="166" y="407"/>
                  </a:lnTo>
                  <a:lnTo>
                    <a:pt x="171" y="320"/>
                  </a:lnTo>
                  <a:lnTo>
                    <a:pt x="169" y="231"/>
                  </a:lnTo>
                  <a:lnTo>
                    <a:pt x="162" y="141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ff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747080" y="3264480"/>
              <a:ext cx="52560" cy="199800"/>
            </a:xfrm>
            <a:custGeom>
              <a:avLst/>
              <a:gdLst/>
              <a:ahLst/>
              <a:rect l="l" t="t" r="r" b="b"/>
              <a:pathLst>
                <a:path w="195" h="733">
                  <a:moveTo>
                    <a:pt x="21" y="0"/>
                  </a:moveTo>
                  <a:lnTo>
                    <a:pt x="31" y="4"/>
                  </a:lnTo>
                  <a:lnTo>
                    <a:pt x="41" y="7"/>
                  </a:lnTo>
                  <a:lnTo>
                    <a:pt x="51" y="11"/>
                  </a:lnTo>
                  <a:lnTo>
                    <a:pt x="62" y="15"/>
                  </a:lnTo>
                  <a:lnTo>
                    <a:pt x="71" y="19"/>
                  </a:lnTo>
                  <a:lnTo>
                    <a:pt x="82" y="23"/>
                  </a:lnTo>
                  <a:lnTo>
                    <a:pt x="92" y="27"/>
                  </a:lnTo>
                  <a:lnTo>
                    <a:pt x="103" y="32"/>
                  </a:lnTo>
                  <a:lnTo>
                    <a:pt x="90" y="119"/>
                  </a:lnTo>
                  <a:lnTo>
                    <a:pt x="85" y="207"/>
                  </a:lnTo>
                  <a:lnTo>
                    <a:pt x="86" y="294"/>
                  </a:lnTo>
                  <a:lnTo>
                    <a:pt x="95" y="380"/>
                  </a:lnTo>
                  <a:lnTo>
                    <a:pt x="110" y="466"/>
                  </a:lnTo>
                  <a:lnTo>
                    <a:pt x="131" y="550"/>
                  </a:lnTo>
                  <a:lnTo>
                    <a:pt x="160" y="633"/>
                  </a:lnTo>
                  <a:lnTo>
                    <a:pt x="195" y="714"/>
                  </a:lnTo>
                  <a:lnTo>
                    <a:pt x="191" y="716"/>
                  </a:lnTo>
                  <a:lnTo>
                    <a:pt x="185" y="718"/>
                  </a:lnTo>
                  <a:lnTo>
                    <a:pt x="180" y="721"/>
                  </a:lnTo>
                  <a:lnTo>
                    <a:pt x="174" y="723"/>
                  </a:lnTo>
                  <a:lnTo>
                    <a:pt x="169" y="726"/>
                  </a:lnTo>
                  <a:lnTo>
                    <a:pt x="164" y="729"/>
                  </a:lnTo>
                  <a:lnTo>
                    <a:pt x="159" y="731"/>
                  </a:lnTo>
                  <a:lnTo>
                    <a:pt x="153" y="733"/>
                  </a:lnTo>
                  <a:lnTo>
                    <a:pt x="147" y="731"/>
                  </a:lnTo>
                  <a:lnTo>
                    <a:pt x="141" y="730"/>
                  </a:lnTo>
                  <a:lnTo>
                    <a:pt x="134" y="728"/>
                  </a:lnTo>
                  <a:lnTo>
                    <a:pt x="129" y="725"/>
                  </a:lnTo>
                  <a:lnTo>
                    <a:pt x="123" y="724"/>
                  </a:lnTo>
                  <a:lnTo>
                    <a:pt x="117" y="722"/>
                  </a:lnTo>
                  <a:lnTo>
                    <a:pt x="110" y="721"/>
                  </a:lnTo>
                  <a:lnTo>
                    <a:pt x="104" y="718"/>
                  </a:lnTo>
                  <a:lnTo>
                    <a:pt x="69" y="632"/>
                  </a:lnTo>
                  <a:lnTo>
                    <a:pt x="42" y="544"/>
                  </a:lnTo>
                  <a:lnTo>
                    <a:pt x="21" y="455"/>
                  </a:lnTo>
                  <a:lnTo>
                    <a:pt x="7" y="365"/>
                  </a:lnTo>
                  <a:lnTo>
                    <a:pt x="0" y="275"/>
                  </a:lnTo>
                  <a:lnTo>
                    <a:pt x="0" y="184"/>
                  </a:lnTo>
                  <a:lnTo>
                    <a:pt x="7" y="9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322360" y="3234600"/>
              <a:ext cx="44280" cy="209520"/>
            </a:xfrm>
            <a:custGeom>
              <a:avLst/>
              <a:gdLst/>
              <a:ahLst/>
              <a:rect l="l" t="t" r="r" b="b"/>
              <a:pathLst>
                <a:path w="167" h="769">
                  <a:moveTo>
                    <a:pt x="128" y="48"/>
                  </a:moveTo>
                  <a:lnTo>
                    <a:pt x="115" y="41"/>
                  </a:lnTo>
                  <a:lnTo>
                    <a:pt x="102" y="35"/>
                  </a:lnTo>
                  <a:lnTo>
                    <a:pt x="89" y="30"/>
                  </a:lnTo>
                  <a:lnTo>
                    <a:pt x="76" y="24"/>
                  </a:lnTo>
                  <a:lnTo>
                    <a:pt x="63" y="18"/>
                  </a:lnTo>
                  <a:lnTo>
                    <a:pt x="49" y="12"/>
                  </a:lnTo>
                  <a:lnTo>
                    <a:pt x="36" y="6"/>
                  </a:lnTo>
                  <a:lnTo>
                    <a:pt x="24" y="0"/>
                  </a:lnTo>
                  <a:lnTo>
                    <a:pt x="50" y="93"/>
                  </a:lnTo>
                  <a:lnTo>
                    <a:pt x="69" y="186"/>
                  </a:lnTo>
                  <a:lnTo>
                    <a:pt x="80" y="280"/>
                  </a:lnTo>
                  <a:lnTo>
                    <a:pt x="81" y="373"/>
                  </a:lnTo>
                  <a:lnTo>
                    <a:pt x="74" y="467"/>
                  </a:lnTo>
                  <a:lnTo>
                    <a:pt x="57" y="559"/>
                  </a:lnTo>
                  <a:lnTo>
                    <a:pt x="33" y="651"/>
                  </a:lnTo>
                  <a:lnTo>
                    <a:pt x="0" y="741"/>
                  </a:lnTo>
                  <a:lnTo>
                    <a:pt x="11" y="744"/>
                  </a:lnTo>
                  <a:lnTo>
                    <a:pt x="20" y="748"/>
                  </a:lnTo>
                  <a:lnTo>
                    <a:pt x="31" y="751"/>
                  </a:lnTo>
                  <a:lnTo>
                    <a:pt x="41" y="755"/>
                  </a:lnTo>
                  <a:lnTo>
                    <a:pt x="50" y="758"/>
                  </a:lnTo>
                  <a:lnTo>
                    <a:pt x="61" y="762"/>
                  </a:lnTo>
                  <a:lnTo>
                    <a:pt x="70" y="765"/>
                  </a:lnTo>
                  <a:lnTo>
                    <a:pt x="81" y="769"/>
                  </a:lnTo>
                  <a:lnTo>
                    <a:pt x="114" y="681"/>
                  </a:lnTo>
                  <a:lnTo>
                    <a:pt x="138" y="592"/>
                  </a:lnTo>
                  <a:lnTo>
                    <a:pt x="155" y="502"/>
                  </a:lnTo>
                  <a:lnTo>
                    <a:pt x="165" y="412"/>
                  </a:lnTo>
                  <a:lnTo>
                    <a:pt x="167" y="321"/>
                  </a:lnTo>
                  <a:lnTo>
                    <a:pt x="162" y="230"/>
                  </a:lnTo>
                  <a:lnTo>
                    <a:pt x="149" y="138"/>
                  </a:lnTo>
                  <a:lnTo>
                    <a:pt x="128" y="48"/>
                  </a:lnTo>
                  <a:close/>
                </a:path>
              </a:pathLst>
            </a:custGeom>
            <a:solidFill>
              <a:srgbClr val="ff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69760" y="3259080"/>
              <a:ext cx="51480" cy="199800"/>
            </a:xfrm>
            <a:custGeom>
              <a:avLst/>
              <a:gdLst/>
              <a:ahLst/>
              <a:rect l="l" t="t" r="r" b="b"/>
              <a:pathLst>
                <a:path w="190" h="734">
                  <a:moveTo>
                    <a:pt x="18" y="52"/>
                  </a:moveTo>
                  <a:lnTo>
                    <a:pt x="19" y="52"/>
                  </a:lnTo>
                  <a:lnTo>
                    <a:pt x="20" y="53"/>
                  </a:lnTo>
                  <a:lnTo>
                    <a:pt x="22" y="53"/>
                  </a:lnTo>
                  <a:lnTo>
                    <a:pt x="24" y="54"/>
                  </a:lnTo>
                  <a:lnTo>
                    <a:pt x="35" y="47"/>
                  </a:lnTo>
                  <a:lnTo>
                    <a:pt x="47" y="40"/>
                  </a:lnTo>
                  <a:lnTo>
                    <a:pt x="58" y="33"/>
                  </a:lnTo>
                  <a:lnTo>
                    <a:pt x="69" y="27"/>
                  </a:lnTo>
                  <a:lnTo>
                    <a:pt x="81" y="20"/>
                  </a:lnTo>
                  <a:lnTo>
                    <a:pt x="93" y="13"/>
                  </a:lnTo>
                  <a:lnTo>
                    <a:pt x="103" y="7"/>
                  </a:lnTo>
                  <a:lnTo>
                    <a:pt x="115" y="0"/>
                  </a:lnTo>
                  <a:lnTo>
                    <a:pt x="97" y="89"/>
                  </a:lnTo>
                  <a:lnTo>
                    <a:pt x="88" y="179"/>
                  </a:lnTo>
                  <a:lnTo>
                    <a:pt x="86" y="268"/>
                  </a:lnTo>
                  <a:lnTo>
                    <a:pt x="91" y="357"/>
                  </a:lnTo>
                  <a:lnTo>
                    <a:pt x="104" y="445"/>
                  </a:lnTo>
                  <a:lnTo>
                    <a:pt x="125" y="531"/>
                  </a:lnTo>
                  <a:lnTo>
                    <a:pt x="153" y="617"/>
                  </a:lnTo>
                  <a:lnTo>
                    <a:pt x="190" y="700"/>
                  </a:lnTo>
                  <a:lnTo>
                    <a:pt x="179" y="704"/>
                  </a:lnTo>
                  <a:lnTo>
                    <a:pt x="170" y="708"/>
                  </a:lnTo>
                  <a:lnTo>
                    <a:pt x="159" y="712"/>
                  </a:lnTo>
                  <a:lnTo>
                    <a:pt x="150" y="716"/>
                  </a:lnTo>
                  <a:lnTo>
                    <a:pt x="139" y="721"/>
                  </a:lnTo>
                  <a:lnTo>
                    <a:pt x="130" y="725"/>
                  </a:lnTo>
                  <a:lnTo>
                    <a:pt x="120" y="729"/>
                  </a:lnTo>
                  <a:lnTo>
                    <a:pt x="110" y="734"/>
                  </a:lnTo>
                  <a:lnTo>
                    <a:pt x="75" y="653"/>
                  </a:lnTo>
                  <a:lnTo>
                    <a:pt x="46" y="570"/>
                  </a:lnTo>
                  <a:lnTo>
                    <a:pt x="25" y="486"/>
                  </a:lnTo>
                  <a:lnTo>
                    <a:pt x="10" y="400"/>
                  </a:lnTo>
                  <a:lnTo>
                    <a:pt x="1" y="314"/>
                  </a:lnTo>
                  <a:lnTo>
                    <a:pt x="0" y="227"/>
                  </a:lnTo>
                  <a:lnTo>
                    <a:pt x="5" y="139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ff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99320" y="3223440"/>
              <a:ext cx="44280" cy="212400"/>
            </a:xfrm>
            <a:custGeom>
              <a:avLst/>
              <a:gdLst/>
              <a:ahLst/>
              <a:rect l="l" t="t" r="r" b="b"/>
              <a:pathLst>
                <a:path w="165" h="782">
                  <a:moveTo>
                    <a:pt x="108" y="41"/>
                  </a:moveTo>
                  <a:lnTo>
                    <a:pt x="95" y="37"/>
                  </a:lnTo>
                  <a:lnTo>
                    <a:pt x="81" y="31"/>
                  </a:lnTo>
                  <a:lnTo>
                    <a:pt x="68" y="26"/>
                  </a:lnTo>
                  <a:lnTo>
                    <a:pt x="54" y="20"/>
                  </a:lnTo>
                  <a:lnTo>
                    <a:pt x="41" y="16"/>
                  </a:lnTo>
                  <a:lnTo>
                    <a:pt x="27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35" y="93"/>
                  </a:lnTo>
                  <a:lnTo>
                    <a:pt x="61" y="186"/>
                  </a:lnTo>
                  <a:lnTo>
                    <a:pt x="76" y="282"/>
                  </a:lnTo>
                  <a:lnTo>
                    <a:pt x="81" y="378"/>
                  </a:lnTo>
                  <a:lnTo>
                    <a:pt x="76" y="474"/>
                  </a:lnTo>
                  <a:lnTo>
                    <a:pt x="62" y="570"/>
                  </a:lnTo>
                  <a:lnTo>
                    <a:pt x="37" y="664"/>
                  </a:lnTo>
                  <a:lnTo>
                    <a:pt x="2" y="756"/>
                  </a:lnTo>
                  <a:lnTo>
                    <a:pt x="13" y="759"/>
                  </a:lnTo>
                  <a:lnTo>
                    <a:pt x="22" y="762"/>
                  </a:lnTo>
                  <a:lnTo>
                    <a:pt x="33" y="765"/>
                  </a:lnTo>
                  <a:lnTo>
                    <a:pt x="43" y="769"/>
                  </a:lnTo>
                  <a:lnTo>
                    <a:pt x="54" y="771"/>
                  </a:lnTo>
                  <a:lnTo>
                    <a:pt x="64" y="775"/>
                  </a:lnTo>
                  <a:lnTo>
                    <a:pt x="74" y="778"/>
                  </a:lnTo>
                  <a:lnTo>
                    <a:pt x="84" y="782"/>
                  </a:lnTo>
                  <a:lnTo>
                    <a:pt x="117" y="692"/>
                  </a:lnTo>
                  <a:lnTo>
                    <a:pt x="141" y="600"/>
                  </a:lnTo>
                  <a:lnTo>
                    <a:pt x="158" y="508"/>
                  </a:lnTo>
                  <a:lnTo>
                    <a:pt x="165" y="414"/>
                  </a:lnTo>
                  <a:lnTo>
                    <a:pt x="164" y="321"/>
                  </a:lnTo>
                  <a:lnTo>
                    <a:pt x="153" y="227"/>
                  </a:lnTo>
                  <a:lnTo>
                    <a:pt x="134" y="134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f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794600" y="3245400"/>
              <a:ext cx="48240" cy="204120"/>
            </a:xfrm>
            <a:custGeom>
              <a:avLst/>
              <a:gdLst/>
              <a:ahLst/>
              <a:rect l="l" t="t" r="r" b="b"/>
              <a:pathLst>
                <a:path w="183" h="752">
                  <a:moveTo>
                    <a:pt x="29" y="52"/>
                  </a:moveTo>
                  <a:lnTo>
                    <a:pt x="42" y="45"/>
                  </a:lnTo>
                  <a:lnTo>
                    <a:pt x="55" y="38"/>
                  </a:lnTo>
                  <a:lnTo>
                    <a:pt x="67" y="31"/>
                  </a:lnTo>
                  <a:lnTo>
                    <a:pt x="81" y="25"/>
                  </a:lnTo>
                  <a:lnTo>
                    <a:pt x="94" y="18"/>
                  </a:lnTo>
                  <a:lnTo>
                    <a:pt x="107" y="12"/>
                  </a:lnTo>
                  <a:lnTo>
                    <a:pt x="120" y="5"/>
                  </a:lnTo>
                  <a:lnTo>
                    <a:pt x="134" y="0"/>
                  </a:lnTo>
                  <a:lnTo>
                    <a:pt x="108" y="91"/>
                  </a:lnTo>
                  <a:lnTo>
                    <a:pt x="91" y="182"/>
                  </a:lnTo>
                  <a:lnTo>
                    <a:pt x="84" y="274"/>
                  </a:lnTo>
                  <a:lnTo>
                    <a:pt x="85" y="367"/>
                  </a:lnTo>
                  <a:lnTo>
                    <a:pt x="97" y="458"/>
                  </a:lnTo>
                  <a:lnTo>
                    <a:pt x="117" y="548"/>
                  </a:lnTo>
                  <a:lnTo>
                    <a:pt x="145" y="636"/>
                  </a:lnTo>
                  <a:lnTo>
                    <a:pt x="183" y="722"/>
                  </a:lnTo>
                  <a:lnTo>
                    <a:pt x="173" y="726"/>
                  </a:lnTo>
                  <a:lnTo>
                    <a:pt x="163" y="729"/>
                  </a:lnTo>
                  <a:lnTo>
                    <a:pt x="153" y="733"/>
                  </a:lnTo>
                  <a:lnTo>
                    <a:pt x="143" y="736"/>
                  </a:lnTo>
                  <a:lnTo>
                    <a:pt x="133" y="741"/>
                  </a:lnTo>
                  <a:lnTo>
                    <a:pt x="124" y="745"/>
                  </a:lnTo>
                  <a:lnTo>
                    <a:pt x="113" y="748"/>
                  </a:lnTo>
                  <a:lnTo>
                    <a:pt x="104" y="752"/>
                  </a:lnTo>
                  <a:lnTo>
                    <a:pt x="67" y="669"/>
                  </a:lnTo>
                  <a:lnTo>
                    <a:pt x="39" y="583"/>
                  </a:lnTo>
                  <a:lnTo>
                    <a:pt x="18" y="497"/>
                  </a:lnTo>
                  <a:lnTo>
                    <a:pt x="5" y="409"/>
                  </a:lnTo>
                  <a:lnTo>
                    <a:pt x="0" y="320"/>
                  </a:lnTo>
                  <a:lnTo>
                    <a:pt x="2" y="231"/>
                  </a:lnTo>
                  <a:lnTo>
                    <a:pt x="11" y="141"/>
                  </a:lnTo>
                  <a:lnTo>
                    <a:pt x="29" y="52"/>
                  </a:lnTo>
                  <a:close/>
                </a:path>
              </a:pathLst>
            </a:custGeom>
            <a:solidFill>
              <a:srgbClr val="f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268000" y="3214080"/>
              <a:ext cx="52560" cy="214560"/>
            </a:xfrm>
            <a:custGeom>
              <a:avLst/>
              <a:gdLst/>
              <a:ahLst/>
              <a:rect l="l" t="t" r="r" b="b"/>
              <a:pathLst>
                <a:path w="196" h="793">
                  <a:moveTo>
                    <a:pt x="115" y="37"/>
                  </a:moveTo>
                  <a:lnTo>
                    <a:pt x="101" y="33"/>
                  </a:lnTo>
                  <a:lnTo>
                    <a:pt x="87" y="27"/>
                  </a:lnTo>
                  <a:lnTo>
                    <a:pt x="73" y="22"/>
                  </a:lnTo>
                  <a:lnTo>
                    <a:pt x="58" y="18"/>
                  </a:lnTo>
                  <a:lnTo>
                    <a:pt x="44" y="13"/>
                  </a:lnTo>
                  <a:lnTo>
                    <a:pt x="30" y="9"/>
                  </a:lnTo>
                  <a:lnTo>
                    <a:pt x="14" y="5"/>
                  </a:lnTo>
                  <a:lnTo>
                    <a:pt x="0" y="0"/>
                  </a:lnTo>
                  <a:lnTo>
                    <a:pt x="45" y="91"/>
                  </a:lnTo>
                  <a:lnTo>
                    <a:pt x="79" y="186"/>
                  </a:lnTo>
                  <a:lnTo>
                    <a:pt x="100" y="282"/>
                  </a:lnTo>
                  <a:lnTo>
                    <a:pt x="110" y="380"/>
                  </a:lnTo>
                  <a:lnTo>
                    <a:pt x="108" y="479"/>
                  </a:lnTo>
                  <a:lnTo>
                    <a:pt x="95" y="578"/>
                  </a:lnTo>
                  <a:lnTo>
                    <a:pt x="71" y="676"/>
                  </a:lnTo>
                  <a:lnTo>
                    <a:pt x="34" y="771"/>
                  </a:lnTo>
                  <a:lnTo>
                    <a:pt x="45" y="773"/>
                  </a:lnTo>
                  <a:lnTo>
                    <a:pt x="55" y="777"/>
                  </a:lnTo>
                  <a:lnTo>
                    <a:pt x="66" y="779"/>
                  </a:lnTo>
                  <a:lnTo>
                    <a:pt x="76" y="781"/>
                  </a:lnTo>
                  <a:lnTo>
                    <a:pt x="86" y="785"/>
                  </a:lnTo>
                  <a:lnTo>
                    <a:pt x="96" y="787"/>
                  </a:lnTo>
                  <a:lnTo>
                    <a:pt x="107" y="791"/>
                  </a:lnTo>
                  <a:lnTo>
                    <a:pt x="117" y="793"/>
                  </a:lnTo>
                  <a:lnTo>
                    <a:pt x="152" y="701"/>
                  </a:lnTo>
                  <a:lnTo>
                    <a:pt x="177" y="607"/>
                  </a:lnTo>
                  <a:lnTo>
                    <a:pt x="191" y="511"/>
                  </a:lnTo>
                  <a:lnTo>
                    <a:pt x="196" y="415"/>
                  </a:lnTo>
                  <a:lnTo>
                    <a:pt x="191" y="319"/>
                  </a:lnTo>
                  <a:lnTo>
                    <a:pt x="176" y="223"/>
                  </a:lnTo>
                  <a:lnTo>
                    <a:pt x="150" y="130"/>
                  </a:lnTo>
                  <a:lnTo>
                    <a:pt x="115" y="3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15840" y="3231720"/>
              <a:ext cx="49680" cy="209520"/>
            </a:xfrm>
            <a:custGeom>
              <a:avLst/>
              <a:gdLst/>
              <a:ahLst/>
              <a:rect l="l" t="t" r="r" b="b"/>
              <a:pathLst>
                <a:path w="181" h="770">
                  <a:moveTo>
                    <a:pt x="50" y="48"/>
                  </a:moveTo>
                  <a:lnTo>
                    <a:pt x="64" y="42"/>
                  </a:lnTo>
                  <a:lnTo>
                    <a:pt x="77" y="36"/>
                  </a:lnTo>
                  <a:lnTo>
                    <a:pt x="91" y="29"/>
                  </a:lnTo>
                  <a:lnTo>
                    <a:pt x="105" y="23"/>
                  </a:lnTo>
                  <a:lnTo>
                    <a:pt x="118" y="17"/>
                  </a:lnTo>
                  <a:lnTo>
                    <a:pt x="132" y="11"/>
                  </a:lnTo>
                  <a:lnTo>
                    <a:pt x="146" y="5"/>
                  </a:lnTo>
                  <a:lnTo>
                    <a:pt x="160" y="0"/>
                  </a:lnTo>
                  <a:lnTo>
                    <a:pt x="125" y="91"/>
                  </a:lnTo>
                  <a:lnTo>
                    <a:pt x="102" y="184"/>
                  </a:lnTo>
                  <a:lnTo>
                    <a:pt x="88" y="279"/>
                  </a:lnTo>
                  <a:lnTo>
                    <a:pt x="85" y="374"/>
                  </a:lnTo>
                  <a:lnTo>
                    <a:pt x="93" y="469"/>
                  </a:lnTo>
                  <a:lnTo>
                    <a:pt x="112" y="562"/>
                  </a:lnTo>
                  <a:lnTo>
                    <a:pt x="141" y="653"/>
                  </a:lnTo>
                  <a:lnTo>
                    <a:pt x="181" y="742"/>
                  </a:lnTo>
                  <a:lnTo>
                    <a:pt x="171" y="746"/>
                  </a:lnTo>
                  <a:lnTo>
                    <a:pt x="160" y="749"/>
                  </a:lnTo>
                  <a:lnTo>
                    <a:pt x="149" y="753"/>
                  </a:lnTo>
                  <a:lnTo>
                    <a:pt x="140" y="756"/>
                  </a:lnTo>
                  <a:lnTo>
                    <a:pt x="130" y="760"/>
                  </a:lnTo>
                  <a:lnTo>
                    <a:pt x="119" y="763"/>
                  </a:lnTo>
                  <a:lnTo>
                    <a:pt x="110" y="767"/>
                  </a:lnTo>
                  <a:lnTo>
                    <a:pt x="99" y="770"/>
                  </a:lnTo>
                  <a:lnTo>
                    <a:pt x="61" y="684"/>
                  </a:lnTo>
                  <a:lnTo>
                    <a:pt x="33" y="596"/>
                  </a:lnTo>
                  <a:lnTo>
                    <a:pt x="13" y="506"/>
                  </a:lnTo>
                  <a:lnTo>
                    <a:pt x="1" y="415"/>
                  </a:lnTo>
                  <a:lnTo>
                    <a:pt x="0" y="322"/>
                  </a:lnTo>
                  <a:lnTo>
                    <a:pt x="7" y="230"/>
                  </a:lnTo>
                  <a:lnTo>
                    <a:pt x="24" y="139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235240" y="3204720"/>
              <a:ext cx="62280" cy="21888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120" y="33"/>
                  </a:moveTo>
                  <a:lnTo>
                    <a:pt x="105" y="28"/>
                  </a:lnTo>
                  <a:lnTo>
                    <a:pt x="90" y="25"/>
                  </a:lnTo>
                  <a:lnTo>
                    <a:pt x="75" y="20"/>
                  </a:lnTo>
                  <a:lnTo>
                    <a:pt x="61" y="15"/>
                  </a:lnTo>
                  <a:lnTo>
                    <a:pt x="46" y="12"/>
                  </a:lnTo>
                  <a:lnTo>
                    <a:pt x="30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29" y="43"/>
                  </a:lnTo>
                  <a:lnTo>
                    <a:pt x="56" y="89"/>
                  </a:lnTo>
                  <a:lnTo>
                    <a:pt x="78" y="135"/>
                  </a:lnTo>
                  <a:lnTo>
                    <a:pt x="98" y="183"/>
                  </a:lnTo>
                  <a:lnTo>
                    <a:pt x="115" y="231"/>
                  </a:lnTo>
                  <a:lnTo>
                    <a:pt x="127" y="281"/>
                  </a:lnTo>
                  <a:lnTo>
                    <a:pt x="137" y="330"/>
                  </a:lnTo>
                  <a:lnTo>
                    <a:pt x="144" y="381"/>
                  </a:lnTo>
                  <a:lnTo>
                    <a:pt x="146" y="432"/>
                  </a:lnTo>
                  <a:lnTo>
                    <a:pt x="146" y="483"/>
                  </a:lnTo>
                  <a:lnTo>
                    <a:pt x="141" y="534"/>
                  </a:lnTo>
                  <a:lnTo>
                    <a:pt x="134" y="585"/>
                  </a:lnTo>
                  <a:lnTo>
                    <a:pt x="124" y="635"/>
                  </a:lnTo>
                  <a:lnTo>
                    <a:pt x="109" y="686"/>
                  </a:lnTo>
                  <a:lnTo>
                    <a:pt x="91" y="735"/>
                  </a:lnTo>
                  <a:lnTo>
                    <a:pt x="70" y="784"/>
                  </a:lnTo>
                  <a:lnTo>
                    <a:pt x="81" y="786"/>
                  </a:lnTo>
                  <a:lnTo>
                    <a:pt x="91" y="788"/>
                  </a:lnTo>
                  <a:lnTo>
                    <a:pt x="102" y="791"/>
                  </a:lnTo>
                  <a:lnTo>
                    <a:pt x="112" y="793"/>
                  </a:lnTo>
                  <a:lnTo>
                    <a:pt x="123" y="796"/>
                  </a:lnTo>
                  <a:lnTo>
                    <a:pt x="133" y="799"/>
                  </a:lnTo>
                  <a:lnTo>
                    <a:pt x="144" y="801"/>
                  </a:lnTo>
                  <a:lnTo>
                    <a:pt x="154" y="804"/>
                  </a:lnTo>
                  <a:lnTo>
                    <a:pt x="191" y="709"/>
                  </a:lnTo>
                  <a:lnTo>
                    <a:pt x="215" y="611"/>
                  </a:lnTo>
                  <a:lnTo>
                    <a:pt x="228" y="512"/>
                  </a:lnTo>
                  <a:lnTo>
                    <a:pt x="230" y="413"/>
                  </a:lnTo>
                  <a:lnTo>
                    <a:pt x="220" y="315"/>
                  </a:lnTo>
                  <a:lnTo>
                    <a:pt x="199" y="219"/>
                  </a:lnTo>
                  <a:lnTo>
                    <a:pt x="165" y="124"/>
                  </a:lnTo>
                  <a:lnTo>
                    <a:pt x="120" y="33"/>
                  </a:lnTo>
                  <a:close/>
                </a:path>
              </a:pathLst>
            </a:custGeom>
            <a:solidFill>
              <a:srgbClr val="ff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838880" y="3219480"/>
              <a:ext cx="52560" cy="213840"/>
            </a:xfrm>
            <a:custGeom>
              <a:avLst/>
              <a:gdLst/>
              <a:ahLst/>
              <a:rect l="l" t="t" r="r" b="b"/>
              <a:pathLst>
                <a:path w="193" h="786">
                  <a:moveTo>
                    <a:pt x="75" y="44"/>
                  </a:moveTo>
                  <a:lnTo>
                    <a:pt x="90" y="38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5" y="21"/>
                  </a:lnTo>
                  <a:lnTo>
                    <a:pt x="149" y="17"/>
                  </a:lnTo>
                  <a:lnTo>
                    <a:pt x="164" y="11"/>
                  </a:lnTo>
                  <a:lnTo>
                    <a:pt x="178" y="6"/>
                  </a:lnTo>
                  <a:lnTo>
                    <a:pt x="193" y="0"/>
                  </a:lnTo>
                  <a:lnTo>
                    <a:pt x="146" y="90"/>
                  </a:lnTo>
                  <a:lnTo>
                    <a:pt x="114" y="184"/>
                  </a:lnTo>
                  <a:lnTo>
                    <a:pt x="93" y="281"/>
                  </a:lnTo>
                  <a:lnTo>
                    <a:pt x="84" y="379"/>
                  </a:lnTo>
                  <a:lnTo>
                    <a:pt x="88" y="478"/>
                  </a:lnTo>
                  <a:lnTo>
                    <a:pt x="105" y="575"/>
                  </a:lnTo>
                  <a:lnTo>
                    <a:pt x="135" y="671"/>
                  </a:lnTo>
                  <a:lnTo>
                    <a:pt x="178" y="763"/>
                  </a:lnTo>
                  <a:lnTo>
                    <a:pt x="167" y="765"/>
                  </a:lnTo>
                  <a:lnTo>
                    <a:pt x="158" y="769"/>
                  </a:lnTo>
                  <a:lnTo>
                    <a:pt x="148" y="771"/>
                  </a:lnTo>
                  <a:lnTo>
                    <a:pt x="137" y="775"/>
                  </a:lnTo>
                  <a:lnTo>
                    <a:pt x="126" y="777"/>
                  </a:lnTo>
                  <a:lnTo>
                    <a:pt x="116" y="780"/>
                  </a:lnTo>
                  <a:lnTo>
                    <a:pt x="107" y="783"/>
                  </a:lnTo>
                  <a:lnTo>
                    <a:pt x="96" y="786"/>
                  </a:lnTo>
                  <a:lnTo>
                    <a:pt x="56" y="697"/>
                  </a:lnTo>
                  <a:lnTo>
                    <a:pt x="27" y="606"/>
                  </a:lnTo>
                  <a:lnTo>
                    <a:pt x="8" y="513"/>
                  </a:lnTo>
                  <a:lnTo>
                    <a:pt x="0" y="418"/>
                  </a:lnTo>
                  <a:lnTo>
                    <a:pt x="3" y="323"/>
                  </a:lnTo>
                  <a:lnTo>
                    <a:pt x="17" y="228"/>
                  </a:lnTo>
                  <a:lnTo>
                    <a:pt x="40" y="135"/>
                  </a:lnTo>
                  <a:lnTo>
                    <a:pt x="75" y="44"/>
                  </a:lnTo>
                  <a:close/>
                </a:path>
              </a:pathLst>
            </a:custGeom>
            <a:solidFill>
              <a:srgbClr val="ff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198880" y="3196440"/>
              <a:ext cx="75600" cy="221760"/>
            </a:xfrm>
            <a:custGeom>
              <a:avLst/>
              <a:gdLst/>
              <a:ahLst/>
              <a:rect l="l" t="t" r="r" b="b"/>
              <a:pathLst>
                <a:path w="282" h="813">
                  <a:moveTo>
                    <a:pt x="136" y="29"/>
                  </a:moveTo>
                  <a:lnTo>
                    <a:pt x="118" y="26"/>
                  </a:lnTo>
                  <a:lnTo>
                    <a:pt x="102" y="21"/>
                  </a:lnTo>
                  <a:lnTo>
                    <a:pt x="84" y="18"/>
                  </a:lnTo>
                  <a:lnTo>
                    <a:pt x="68" y="14"/>
                  </a:lnTo>
                  <a:lnTo>
                    <a:pt x="51" y="11"/>
                  </a:lnTo>
                  <a:lnTo>
                    <a:pt x="34" y="7"/>
                  </a:lnTo>
                  <a:lnTo>
                    <a:pt x="17" y="3"/>
                  </a:lnTo>
                  <a:lnTo>
                    <a:pt x="0" y="0"/>
                  </a:lnTo>
                  <a:lnTo>
                    <a:pt x="38" y="41"/>
                  </a:lnTo>
                  <a:lnTo>
                    <a:pt x="70" y="83"/>
                  </a:lnTo>
                  <a:lnTo>
                    <a:pt x="101" y="129"/>
                  </a:lnTo>
                  <a:lnTo>
                    <a:pt x="127" y="175"/>
                  </a:lnTo>
                  <a:lnTo>
                    <a:pt x="148" y="223"/>
                  </a:lnTo>
                  <a:lnTo>
                    <a:pt x="166" y="274"/>
                  </a:lnTo>
                  <a:lnTo>
                    <a:pt x="180" y="325"/>
                  </a:lnTo>
                  <a:lnTo>
                    <a:pt x="190" y="377"/>
                  </a:lnTo>
                  <a:lnTo>
                    <a:pt x="196" y="429"/>
                  </a:lnTo>
                  <a:lnTo>
                    <a:pt x="198" y="482"/>
                  </a:lnTo>
                  <a:lnTo>
                    <a:pt x="194" y="536"/>
                  </a:lnTo>
                  <a:lnTo>
                    <a:pt x="189" y="588"/>
                  </a:lnTo>
                  <a:lnTo>
                    <a:pt x="178" y="641"/>
                  </a:lnTo>
                  <a:lnTo>
                    <a:pt x="163" y="694"/>
                  </a:lnTo>
                  <a:lnTo>
                    <a:pt x="143" y="745"/>
                  </a:lnTo>
                  <a:lnTo>
                    <a:pt x="120" y="795"/>
                  </a:lnTo>
                  <a:lnTo>
                    <a:pt x="130" y="798"/>
                  </a:lnTo>
                  <a:lnTo>
                    <a:pt x="142" y="799"/>
                  </a:lnTo>
                  <a:lnTo>
                    <a:pt x="152" y="801"/>
                  </a:lnTo>
                  <a:lnTo>
                    <a:pt x="163" y="803"/>
                  </a:lnTo>
                  <a:lnTo>
                    <a:pt x="173" y="806"/>
                  </a:lnTo>
                  <a:lnTo>
                    <a:pt x="184" y="808"/>
                  </a:lnTo>
                  <a:lnTo>
                    <a:pt x="196" y="810"/>
                  </a:lnTo>
                  <a:lnTo>
                    <a:pt x="206" y="813"/>
                  </a:lnTo>
                  <a:lnTo>
                    <a:pt x="227" y="764"/>
                  </a:lnTo>
                  <a:lnTo>
                    <a:pt x="245" y="715"/>
                  </a:lnTo>
                  <a:lnTo>
                    <a:pt x="260" y="664"/>
                  </a:lnTo>
                  <a:lnTo>
                    <a:pt x="270" y="614"/>
                  </a:lnTo>
                  <a:lnTo>
                    <a:pt x="277" y="563"/>
                  </a:lnTo>
                  <a:lnTo>
                    <a:pt x="282" y="512"/>
                  </a:lnTo>
                  <a:lnTo>
                    <a:pt x="282" y="461"/>
                  </a:lnTo>
                  <a:lnTo>
                    <a:pt x="280" y="410"/>
                  </a:lnTo>
                  <a:lnTo>
                    <a:pt x="273" y="359"/>
                  </a:lnTo>
                  <a:lnTo>
                    <a:pt x="263" y="310"/>
                  </a:lnTo>
                  <a:lnTo>
                    <a:pt x="251" y="260"/>
                  </a:lnTo>
                  <a:lnTo>
                    <a:pt x="234" y="212"/>
                  </a:lnTo>
                  <a:lnTo>
                    <a:pt x="214" y="164"/>
                  </a:lnTo>
                  <a:lnTo>
                    <a:pt x="192" y="118"/>
                  </a:lnTo>
                  <a:lnTo>
                    <a:pt x="165" y="72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ff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861920" y="3208680"/>
              <a:ext cx="66240" cy="218880"/>
            </a:xfrm>
            <a:custGeom>
              <a:avLst/>
              <a:gdLst/>
              <a:ahLst/>
              <a:rect l="l" t="t" r="r" b="b"/>
              <a:pathLst>
                <a:path w="242" h="802">
                  <a:moveTo>
                    <a:pt x="109" y="39"/>
                  </a:moveTo>
                  <a:lnTo>
                    <a:pt x="125" y="35"/>
                  </a:lnTo>
                  <a:lnTo>
                    <a:pt x="143" y="29"/>
                  </a:lnTo>
                  <a:lnTo>
                    <a:pt x="159" y="24"/>
                  </a:lnTo>
                  <a:lnTo>
                    <a:pt x="176" y="18"/>
                  </a:lnTo>
                  <a:lnTo>
                    <a:pt x="192" y="14"/>
                  </a:lnTo>
                  <a:lnTo>
                    <a:pt x="210" y="9"/>
                  </a:lnTo>
                  <a:lnTo>
                    <a:pt x="226" y="4"/>
                  </a:lnTo>
                  <a:lnTo>
                    <a:pt x="242" y="0"/>
                  </a:lnTo>
                  <a:lnTo>
                    <a:pt x="210" y="42"/>
                  </a:lnTo>
                  <a:lnTo>
                    <a:pt x="180" y="86"/>
                  </a:lnTo>
                  <a:lnTo>
                    <a:pt x="156" y="132"/>
                  </a:lnTo>
                  <a:lnTo>
                    <a:pt x="135" y="180"/>
                  </a:lnTo>
                  <a:lnTo>
                    <a:pt x="117" y="228"/>
                  </a:lnTo>
                  <a:lnTo>
                    <a:pt x="103" y="277"/>
                  </a:lnTo>
                  <a:lnTo>
                    <a:pt x="93" y="328"/>
                  </a:lnTo>
                  <a:lnTo>
                    <a:pt x="87" y="379"/>
                  </a:lnTo>
                  <a:lnTo>
                    <a:pt x="85" y="430"/>
                  </a:lnTo>
                  <a:lnTo>
                    <a:pt x="87" y="481"/>
                  </a:lnTo>
                  <a:lnTo>
                    <a:pt x="93" y="533"/>
                  </a:lnTo>
                  <a:lnTo>
                    <a:pt x="102" y="583"/>
                  </a:lnTo>
                  <a:lnTo>
                    <a:pt x="115" y="633"/>
                  </a:lnTo>
                  <a:lnTo>
                    <a:pt x="132" y="684"/>
                  </a:lnTo>
                  <a:lnTo>
                    <a:pt x="154" y="732"/>
                  </a:lnTo>
                  <a:lnTo>
                    <a:pt x="179" y="780"/>
                  </a:lnTo>
                  <a:lnTo>
                    <a:pt x="169" y="782"/>
                  </a:lnTo>
                  <a:lnTo>
                    <a:pt x="158" y="786"/>
                  </a:lnTo>
                  <a:lnTo>
                    <a:pt x="148" y="788"/>
                  </a:lnTo>
                  <a:lnTo>
                    <a:pt x="137" y="790"/>
                  </a:lnTo>
                  <a:lnTo>
                    <a:pt x="125" y="793"/>
                  </a:lnTo>
                  <a:lnTo>
                    <a:pt x="115" y="796"/>
                  </a:lnTo>
                  <a:lnTo>
                    <a:pt x="104" y="798"/>
                  </a:lnTo>
                  <a:lnTo>
                    <a:pt x="94" y="802"/>
                  </a:lnTo>
                  <a:lnTo>
                    <a:pt x="51" y="710"/>
                  </a:lnTo>
                  <a:lnTo>
                    <a:pt x="21" y="614"/>
                  </a:lnTo>
                  <a:lnTo>
                    <a:pt x="4" y="517"/>
                  </a:lnTo>
                  <a:lnTo>
                    <a:pt x="0" y="418"/>
                  </a:lnTo>
                  <a:lnTo>
                    <a:pt x="9" y="320"/>
                  </a:lnTo>
                  <a:lnTo>
                    <a:pt x="30" y="223"/>
                  </a:lnTo>
                  <a:lnTo>
                    <a:pt x="62" y="12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ff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152800" y="3189600"/>
              <a:ext cx="98640" cy="223200"/>
            </a:xfrm>
            <a:custGeom>
              <a:avLst/>
              <a:gdLst/>
              <a:ahLst/>
              <a:rect l="l" t="t" r="r" b="b"/>
              <a:pathLst>
                <a:path w="365" h="820">
                  <a:moveTo>
                    <a:pt x="167" y="25"/>
                  </a:moveTo>
                  <a:lnTo>
                    <a:pt x="146" y="21"/>
                  </a:lnTo>
                  <a:lnTo>
                    <a:pt x="125" y="18"/>
                  </a:lnTo>
                  <a:lnTo>
                    <a:pt x="104" y="14"/>
                  </a:lnTo>
                  <a:lnTo>
                    <a:pt x="83" y="12"/>
                  </a:lnTo>
                  <a:lnTo>
                    <a:pt x="62" y="9"/>
                  </a:lnTo>
                  <a:lnTo>
                    <a:pt x="41" y="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49" y="34"/>
                  </a:lnTo>
                  <a:lnTo>
                    <a:pt x="94" y="72"/>
                  </a:lnTo>
                  <a:lnTo>
                    <a:pt x="133" y="113"/>
                  </a:lnTo>
                  <a:lnTo>
                    <a:pt x="168" y="157"/>
                  </a:lnTo>
                  <a:lnTo>
                    <a:pt x="200" y="204"/>
                  </a:lnTo>
                  <a:lnTo>
                    <a:pt x="226" y="254"/>
                  </a:lnTo>
                  <a:lnTo>
                    <a:pt x="247" y="306"/>
                  </a:lnTo>
                  <a:lnTo>
                    <a:pt x="263" y="359"/>
                  </a:lnTo>
                  <a:lnTo>
                    <a:pt x="274" y="414"/>
                  </a:lnTo>
                  <a:lnTo>
                    <a:pt x="280" y="471"/>
                  </a:lnTo>
                  <a:lnTo>
                    <a:pt x="280" y="527"/>
                  </a:lnTo>
                  <a:lnTo>
                    <a:pt x="275" y="584"/>
                  </a:lnTo>
                  <a:lnTo>
                    <a:pt x="264" y="640"/>
                  </a:lnTo>
                  <a:lnTo>
                    <a:pt x="248" y="696"/>
                  </a:lnTo>
                  <a:lnTo>
                    <a:pt x="227" y="751"/>
                  </a:lnTo>
                  <a:lnTo>
                    <a:pt x="199" y="805"/>
                  </a:lnTo>
                  <a:lnTo>
                    <a:pt x="209" y="807"/>
                  </a:lnTo>
                  <a:lnTo>
                    <a:pt x="221" y="809"/>
                  </a:lnTo>
                  <a:lnTo>
                    <a:pt x="232" y="811"/>
                  </a:lnTo>
                  <a:lnTo>
                    <a:pt x="243" y="812"/>
                  </a:lnTo>
                  <a:lnTo>
                    <a:pt x="254" y="814"/>
                  </a:lnTo>
                  <a:lnTo>
                    <a:pt x="264" y="816"/>
                  </a:lnTo>
                  <a:lnTo>
                    <a:pt x="276" y="818"/>
                  </a:lnTo>
                  <a:lnTo>
                    <a:pt x="287" y="820"/>
                  </a:lnTo>
                  <a:lnTo>
                    <a:pt x="310" y="770"/>
                  </a:lnTo>
                  <a:lnTo>
                    <a:pt x="330" y="719"/>
                  </a:lnTo>
                  <a:lnTo>
                    <a:pt x="345" y="666"/>
                  </a:lnTo>
                  <a:lnTo>
                    <a:pt x="356" y="613"/>
                  </a:lnTo>
                  <a:lnTo>
                    <a:pt x="361" y="561"/>
                  </a:lnTo>
                  <a:lnTo>
                    <a:pt x="365" y="507"/>
                  </a:lnTo>
                  <a:lnTo>
                    <a:pt x="363" y="454"/>
                  </a:lnTo>
                  <a:lnTo>
                    <a:pt x="357" y="402"/>
                  </a:lnTo>
                  <a:lnTo>
                    <a:pt x="347" y="350"/>
                  </a:lnTo>
                  <a:lnTo>
                    <a:pt x="333" y="299"/>
                  </a:lnTo>
                  <a:lnTo>
                    <a:pt x="315" y="248"/>
                  </a:lnTo>
                  <a:lnTo>
                    <a:pt x="294" y="200"/>
                  </a:lnTo>
                  <a:lnTo>
                    <a:pt x="268" y="154"/>
                  </a:lnTo>
                  <a:lnTo>
                    <a:pt x="237" y="108"/>
                  </a:lnTo>
                  <a:lnTo>
                    <a:pt x="205" y="66"/>
                  </a:lnTo>
                  <a:lnTo>
                    <a:pt x="167" y="25"/>
                  </a:lnTo>
                  <a:close/>
                </a:path>
              </a:pathLst>
            </a:custGeom>
            <a:solidFill>
              <a:srgbClr val="ff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884960" y="3198960"/>
              <a:ext cx="86400" cy="221760"/>
            </a:xfrm>
            <a:custGeom>
              <a:avLst/>
              <a:gdLst/>
              <a:ahLst/>
              <a:rect l="l" t="t" r="r" b="b"/>
              <a:pathLst>
                <a:path w="319" h="818">
                  <a:moveTo>
                    <a:pt x="157" y="38"/>
                  </a:moveTo>
                  <a:lnTo>
                    <a:pt x="177" y="32"/>
                  </a:lnTo>
                  <a:lnTo>
                    <a:pt x="198" y="27"/>
                  </a:lnTo>
                  <a:lnTo>
                    <a:pt x="218" y="22"/>
                  </a:lnTo>
                  <a:lnTo>
                    <a:pt x="238" y="17"/>
                  </a:lnTo>
                  <a:lnTo>
                    <a:pt x="258" y="13"/>
                  </a:lnTo>
                  <a:lnTo>
                    <a:pt x="279" y="8"/>
                  </a:lnTo>
                  <a:lnTo>
                    <a:pt x="299" y="4"/>
                  </a:lnTo>
                  <a:lnTo>
                    <a:pt x="319" y="0"/>
                  </a:lnTo>
                  <a:lnTo>
                    <a:pt x="274" y="36"/>
                  </a:lnTo>
                  <a:lnTo>
                    <a:pt x="235" y="77"/>
                  </a:lnTo>
                  <a:lnTo>
                    <a:pt x="199" y="121"/>
                  </a:lnTo>
                  <a:lnTo>
                    <a:pt x="169" y="166"/>
                  </a:lnTo>
                  <a:lnTo>
                    <a:pt x="142" y="214"/>
                  </a:lnTo>
                  <a:lnTo>
                    <a:pt x="121" y="264"/>
                  </a:lnTo>
                  <a:lnTo>
                    <a:pt x="105" y="317"/>
                  </a:lnTo>
                  <a:lnTo>
                    <a:pt x="93" y="370"/>
                  </a:lnTo>
                  <a:lnTo>
                    <a:pt x="86" y="425"/>
                  </a:lnTo>
                  <a:lnTo>
                    <a:pt x="85" y="479"/>
                  </a:lnTo>
                  <a:lnTo>
                    <a:pt x="87" y="533"/>
                  </a:lnTo>
                  <a:lnTo>
                    <a:pt x="95" y="588"/>
                  </a:lnTo>
                  <a:lnTo>
                    <a:pt x="109" y="642"/>
                  </a:lnTo>
                  <a:lnTo>
                    <a:pt x="128" y="696"/>
                  </a:lnTo>
                  <a:lnTo>
                    <a:pt x="153" y="748"/>
                  </a:lnTo>
                  <a:lnTo>
                    <a:pt x="182" y="798"/>
                  </a:lnTo>
                  <a:lnTo>
                    <a:pt x="171" y="800"/>
                  </a:lnTo>
                  <a:lnTo>
                    <a:pt x="160" y="802"/>
                  </a:lnTo>
                  <a:lnTo>
                    <a:pt x="149" y="805"/>
                  </a:lnTo>
                  <a:lnTo>
                    <a:pt x="139" y="807"/>
                  </a:lnTo>
                  <a:lnTo>
                    <a:pt x="127" y="809"/>
                  </a:lnTo>
                  <a:lnTo>
                    <a:pt x="116" y="813"/>
                  </a:lnTo>
                  <a:lnTo>
                    <a:pt x="105" y="815"/>
                  </a:lnTo>
                  <a:lnTo>
                    <a:pt x="94" y="818"/>
                  </a:lnTo>
                  <a:lnTo>
                    <a:pt x="69" y="770"/>
                  </a:lnTo>
                  <a:lnTo>
                    <a:pt x="47" y="722"/>
                  </a:lnTo>
                  <a:lnTo>
                    <a:pt x="30" y="671"/>
                  </a:lnTo>
                  <a:lnTo>
                    <a:pt x="17" y="621"/>
                  </a:lnTo>
                  <a:lnTo>
                    <a:pt x="8" y="571"/>
                  </a:lnTo>
                  <a:lnTo>
                    <a:pt x="2" y="519"/>
                  </a:lnTo>
                  <a:lnTo>
                    <a:pt x="0" y="468"/>
                  </a:lnTo>
                  <a:lnTo>
                    <a:pt x="2" y="417"/>
                  </a:lnTo>
                  <a:lnTo>
                    <a:pt x="8" y="366"/>
                  </a:lnTo>
                  <a:lnTo>
                    <a:pt x="18" y="315"/>
                  </a:lnTo>
                  <a:lnTo>
                    <a:pt x="32" y="266"/>
                  </a:lnTo>
                  <a:lnTo>
                    <a:pt x="50" y="218"/>
                  </a:lnTo>
                  <a:lnTo>
                    <a:pt x="71" y="170"/>
                  </a:lnTo>
                  <a:lnTo>
                    <a:pt x="95" y="124"/>
                  </a:lnTo>
                  <a:lnTo>
                    <a:pt x="125" y="80"/>
                  </a:lnTo>
                  <a:lnTo>
                    <a:pt x="157" y="38"/>
                  </a:lnTo>
                  <a:close/>
                </a:path>
              </a:pathLst>
            </a:custGeom>
            <a:solidFill>
              <a:srgbClr val="ff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908000" y="3186720"/>
              <a:ext cx="320400" cy="228600"/>
            </a:xfrm>
            <a:custGeom>
              <a:avLst/>
              <a:gdLst/>
              <a:ahLst/>
              <a:rect l="l" t="t" r="r" b="b"/>
              <a:pathLst>
                <a:path w="1186" h="843">
                  <a:moveTo>
                    <a:pt x="906" y="12"/>
                  </a:moveTo>
                  <a:lnTo>
                    <a:pt x="891" y="11"/>
                  </a:lnTo>
                  <a:lnTo>
                    <a:pt x="876" y="10"/>
                  </a:lnTo>
                  <a:lnTo>
                    <a:pt x="861" y="8"/>
                  </a:lnTo>
                  <a:lnTo>
                    <a:pt x="846" y="7"/>
                  </a:lnTo>
                  <a:lnTo>
                    <a:pt x="831" y="5"/>
                  </a:lnTo>
                  <a:lnTo>
                    <a:pt x="816" y="4"/>
                  </a:lnTo>
                  <a:lnTo>
                    <a:pt x="802" y="4"/>
                  </a:lnTo>
                  <a:lnTo>
                    <a:pt x="787" y="3"/>
                  </a:lnTo>
                  <a:lnTo>
                    <a:pt x="773" y="2"/>
                  </a:lnTo>
                  <a:lnTo>
                    <a:pt x="758" y="2"/>
                  </a:lnTo>
                  <a:lnTo>
                    <a:pt x="744" y="1"/>
                  </a:lnTo>
                  <a:lnTo>
                    <a:pt x="730" y="1"/>
                  </a:lnTo>
                  <a:lnTo>
                    <a:pt x="716" y="0"/>
                  </a:lnTo>
                  <a:lnTo>
                    <a:pt x="701" y="0"/>
                  </a:lnTo>
                  <a:lnTo>
                    <a:pt x="687" y="0"/>
                  </a:lnTo>
                  <a:lnTo>
                    <a:pt x="673" y="0"/>
                  </a:lnTo>
                  <a:lnTo>
                    <a:pt x="648" y="0"/>
                  </a:lnTo>
                  <a:lnTo>
                    <a:pt x="622" y="1"/>
                  </a:lnTo>
                  <a:lnTo>
                    <a:pt x="596" y="1"/>
                  </a:lnTo>
                  <a:lnTo>
                    <a:pt x="569" y="2"/>
                  </a:lnTo>
                  <a:lnTo>
                    <a:pt x="542" y="4"/>
                  </a:lnTo>
                  <a:lnTo>
                    <a:pt x="516" y="5"/>
                  </a:lnTo>
                  <a:lnTo>
                    <a:pt x="489" y="8"/>
                  </a:lnTo>
                  <a:lnTo>
                    <a:pt x="461" y="10"/>
                  </a:lnTo>
                  <a:lnTo>
                    <a:pt x="433" y="14"/>
                  </a:lnTo>
                  <a:lnTo>
                    <a:pt x="404" y="17"/>
                  </a:lnTo>
                  <a:lnTo>
                    <a:pt x="376" y="21"/>
                  </a:lnTo>
                  <a:lnTo>
                    <a:pt x="348" y="25"/>
                  </a:lnTo>
                  <a:lnTo>
                    <a:pt x="320" y="29"/>
                  </a:lnTo>
                  <a:lnTo>
                    <a:pt x="291" y="35"/>
                  </a:lnTo>
                  <a:lnTo>
                    <a:pt x="263" y="39"/>
                  </a:lnTo>
                  <a:lnTo>
                    <a:pt x="234" y="45"/>
                  </a:lnTo>
                  <a:lnTo>
                    <a:pt x="189" y="81"/>
                  </a:lnTo>
                  <a:lnTo>
                    <a:pt x="150" y="122"/>
                  </a:lnTo>
                  <a:lnTo>
                    <a:pt x="114" y="166"/>
                  </a:lnTo>
                  <a:lnTo>
                    <a:pt x="84" y="211"/>
                  </a:lnTo>
                  <a:lnTo>
                    <a:pt x="57" y="259"/>
                  </a:lnTo>
                  <a:lnTo>
                    <a:pt x="36" y="309"/>
                  </a:lnTo>
                  <a:lnTo>
                    <a:pt x="20" y="362"/>
                  </a:lnTo>
                  <a:lnTo>
                    <a:pt x="8" y="415"/>
                  </a:lnTo>
                  <a:lnTo>
                    <a:pt x="1" y="470"/>
                  </a:lnTo>
                  <a:lnTo>
                    <a:pt x="0" y="524"/>
                  </a:lnTo>
                  <a:lnTo>
                    <a:pt x="2" y="578"/>
                  </a:lnTo>
                  <a:lnTo>
                    <a:pt x="10" y="633"/>
                  </a:lnTo>
                  <a:lnTo>
                    <a:pt x="24" y="687"/>
                  </a:lnTo>
                  <a:lnTo>
                    <a:pt x="43" y="741"/>
                  </a:lnTo>
                  <a:lnTo>
                    <a:pt x="68" y="793"/>
                  </a:lnTo>
                  <a:lnTo>
                    <a:pt x="97" y="843"/>
                  </a:lnTo>
                  <a:lnTo>
                    <a:pt x="109" y="840"/>
                  </a:lnTo>
                  <a:lnTo>
                    <a:pt x="120" y="838"/>
                  </a:lnTo>
                  <a:lnTo>
                    <a:pt x="131" y="836"/>
                  </a:lnTo>
                  <a:lnTo>
                    <a:pt x="143" y="833"/>
                  </a:lnTo>
                  <a:lnTo>
                    <a:pt x="154" y="831"/>
                  </a:lnTo>
                  <a:lnTo>
                    <a:pt x="166" y="829"/>
                  </a:lnTo>
                  <a:lnTo>
                    <a:pt x="176" y="828"/>
                  </a:lnTo>
                  <a:lnTo>
                    <a:pt x="188" y="825"/>
                  </a:lnTo>
                  <a:lnTo>
                    <a:pt x="161" y="785"/>
                  </a:lnTo>
                  <a:lnTo>
                    <a:pt x="138" y="743"/>
                  </a:lnTo>
                  <a:lnTo>
                    <a:pt x="118" y="700"/>
                  </a:lnTo>
                  <a:lnTo>
                    <a:pt x="104" y="657"/>
                  </a:lnTo>
                  <a:lnTo>
                    <a:pt x="93" y="611"/>
                  </a:lnTo>
                  <a:lnTo>
                    <a:pt x="86" y="566"/>
                  </a:lnTo>
                  <a:lnTo>
                    <a:pt x="84" y="520"/>
                  </a:lnTo>
                  <a:lnTo>
                    <a:pt x="86" y="474"/>
                  </a:lnTo>
                  <a:lnTo>
                    <a:pt x="91" y="430"/>
                  </a:lnTo>
                  <a:lnTo>
                    <a:pt x="102" y="384"/>
                  </a:lnTo>
                  <a:lnTo>
                    <a:pt x="116" y="341"/>
                  </a:lnTo>
                  <a:lnTo>
                    <a:pt x="133" y="299"/>
                  </a:lnTo>
                  <a:lnTo>
                    <a:pt x="154" y="258"/>
                  </a:lnTo>
                  <a:lnTo>
                    <a:pt x="180" y="218"/>
                  </a:lnTo>
                  <a:lnTo>
                    <a:pt x="209" y="182"/>
                  </a:lnTo>
                  <a:lnTo>
                    <a:pt x="243" y="147"/>
                  </a:lnTo>
                  <a:lnTo>
                    <a:pt x="279" y="115"/>
                  </a:lnTo>
                  <a:lnTo>
                    <a:pt x="318" y="88"/>
                  </a:lnTo>
                  <a:lnTo>
                    <a:pt x="359" y="64"/>
                  </a:lnTo>
                  <a:lnTo>
                    <a:pt x="401" y="45"/>
                  </a:lnTo>
                  <a:lnTo>
                    <a:pt x="444" y="30"/>
                  </a:lnTo>
                  <a:lnTo>
                    <a:pt x="489" y="18"/>
                  </a:lnTo>
                  <a:lnTo>
                    <a:pt x="534" y="11"/>
                  </a:lnTo>
                  <a:lnTo>
                    <a:pt x="580" y="8"/>
                  </a:lnTo>
                  <a:lnTo>
                    <a:pt x="625" y="9"/>
                  </a:lnTo>
                  <a:lnTo>
                    <a:pt x="670" y="14"/>
                  </a:lnTo>
                  <a:lnTo>
                    <a:pt x="716" y="23"/>
                  </a:lnTo>
                  <a:lnTo>
                    <a:pt x="760" y="36"/>
                  </a:lnTo>
                  <a:lnTo>
                    <a:pt x="802" y="53"/>
                  </a:lnTo>
                  <a:lnTo>
                    <a:pt x="844" y="74"/>
                  </a:lnTo>
                  <a:lnTo>
                    <a:pt x="884" y="100"/>
                  </a:lnTo>
                  <a:lnTo>
                    <a:pt x="922" y="129"/>
                  </a:lnTo>
                  <a:lnTo>
                    <a:pt x="958" y="162"/>
                  </a:lnTo>
                  <a:lnTo>
                    <a:pt x="989" y="197"/>
                  </a:lnTo>
                  <a:lnTo>
                    <a:pt x="1017" y="235"/>
                  </a:lnTo>
                  <a:lnTo>
                    <a:pt x="1041" y="274"/>
                  </a:lnTo>
                  <a:lnTo>
                    <a:pt x="1060" y="317"/>
                  </a:lnTo>
                  <a:lnTo>
                    <a:pt x="1077" y="359"/>
                  </a:lnTo>
                  <a:lnTo>
                    <a:pt x="1089" y="403"/>
                  </a:lnTo>
                  <a:lnTo>
                    <a:pt x="1097" y="447"/>
                  </a:lnTo>
                  <a:lnTo>
                    <a:pt x="1101" y="493"/>
                  </a:lnTo>
                  <a:lnTo>
                    <a:pt x="1101" y="539"/>
                  </a:lnTo>
                  <a:lnTo>
                    <a:pt x="1097" y="584"/>
                  </a:lnTo>
                  <a:lnTo>
                    <a:pt x="1089" y="630"/>
                  </a:lnTo>
                  <a:lnTo>
                    <a:pt x="1076" y="674"/>
                  </a:lnTo>
                  <a:lnTo>
                    <a:pt x="1059" y="719"/>
                  </a:lnTo>
                  <a:lnTo>
                    <a:pt x="1038" y="762"/>
                  </a:lnTo>
                  <a:lnTo>
                    <a:pt x="1013" y="803"/>
                  </a:lnTo>
                  <a:lnTo>
                    <a:pt x="1024" y="804"/>
                  </a:lnTo>
                  <a:lnTo>
                    <a:pt x="1036" y="807"/>
                  </a:lnTo>
                  <a:lnTo>
                    <a:pt x="1048" y="808"/>
                  </a:lnTo>
                  <a:lnTo>
                    <a:pt x="1059" y="810"/>
                  </a:lnTo>
                  <a:lnTo>
                    <a:pt x="1070" y="811"/>
                  </a:lnTo>
                  <a:lnTo>
                    <a:pt x="1081" y="814"/>
                  </a:lnTo>
                  <a:lnTo>
                    <a:pt x="1093" y="815"/>
                  </a:lnTo>
                  <a:lnTo>
                    <a:pt x="1105" y="817"/>
                  </a:lnTo>
                  <a:lnTo>
                    <a:pt x="1133" y="763"/>
                  </a:lnTo>
                  <a:lnTo>
                    <a:pt x="1154" y="708"/>
                  </a:lnTo>
                  <a:lnTo>
                    <a:pt x="1170" y="652"/>
                  </a:lnTo>
                  <a:lnTo>
                    <a:pt x="1181" y="596"/>
                  </a:lnTo>
                  <a:lnTo>
                    <a:pt x="1186" y="539"/>
                  </a:lnTo>
                  <a:lnTo>
                    <a:pt x="1186" y="483"/>
                  </a:lnTo>
                  <a:lnTo>
                    <a:pt x="1180" y="426"/>
                  </a:lnTo>
                  <a:lnTo>
                    <a:pt x="1169" y="371"/>
                  </a:lnTo>
                  <a:lnTo>
                    <a:pt x="1153" y="318"/>
                  </a:lnTo>
                  <a:lnTo>
                    <a:pt x="1132" y="266"/>
                  </a:lnTo>
                  <a:lnTo>
                    <a:pt x="1106" y="216"/>
                  </a:lnTo>
                  <a:lnTo>
                    <a:pt x="1074" y="169"/>
                  </a:lnTo>
                  <a:lnTo>
                    <a:pt x="1039" y="125"/>
                  </a:lnTo>
                  <a:lnTo>
                    <a:pt x="1000" y="84"/>
                  </a:lnTo>
                  <a:lnTo>
                    <a:pt x="955" y="46"/>
                  </a:lnTo>
                  <a:lnTo>
                    <a:pt x="906" y="12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931040" y="3188160"/>
              <a:ext cx="274320" cy="223200"/>
            </a:xfrm>
            <a:custGeom>
              <a:avLst/>
              <a:gdLst/>
              <a:ahLst/>
              <a:rect l="l" t="t" r="r" b="b"/>
              <a:pathLst>
                <a:path w="1017" h="817">
                  <a:moveTo>
                    <a:pt x="104" y="817"/>
                  </a:moveTo>
                  <a:lnTo>
                    <a:pt x="117" y="815"/>
                  </a:lnTo>
                  <a:lnTo>
                    <a:pt x="130" y="813"/>
                  </a:lnTo>
                  <a:lnTo>
                    <a:pt x="142" y="810"/>
                  </a:lnTo>
                  <a:lnTo>
                    <a:pt x="154" y="809"/>
                  </a:lnTo>
                  <a:lnTo>
                    <a:pt x="166" y="807"/>
                  </a:lnTo>
                  <a:lnTo>
                    <a:pt x="179" y="804"/>
                  </a:lnTo>
                  <a:lnTo>
                    <a:pt x="191" y="803"/>
                  </a:lnTo>
                  <a:lnTo>
                    <a:pt x="204" y="801"/>
                  </a:lnTo>
                  <a:lnTo>
                    <a:pt x="151" y="735"/>
                  </a:lnTo>
                  <a:lnTo>
                    <a:pt x="115" y="663"/>
                  </a:lnTo>
                  <a:lnTo>
                    <a:pt x="92" y="586"/>
                  </a:lnTo>
                  <a:lnTo>
                    <a:pt x="85" y="506"/>
                  </a:lnTo>
                  <a:lnTo>
                    <a:pt x="94" y="427"/>
                  </a:lnTo>
                  <a:lnTo>
                    <a:pt x="116" y="351"/>
                  </a:lnTo>
                  <a:lnTo>
                    <a:pt x="153" y="278"/>
                  </a:lnTo>
                  <a:lnTo>
                    <a:pt x="206" y="213"/>
                  </a:lnTo>
                  <a:lnTo>
                    <a:pt x="237" y="183"/>
                  </a:lnTo>
                  <a:lnTo>
                    <a:pt x="270" y="159"/>
                  </a:lnTo>
                  <a:lnTo>
                    <a:pt x="305" y="137"/>
                  </a:lnTo>
                  <a:lnTo>
                    <a:pt x="342" y="119"/>
                  </a:lnTo>
                  <a:lnTo>
                    <a:pt x="379" y="105"/>
                  </a:lnTo>
                  <a:lnTo>
                    <a:pt x="418" y="94"/>
                  </a:lnTo>
                  <a:lnTo>
                    <a:pt x="457" y="89"/>
                  </a:lnTo>
                  <a:lnTo>
                    <a:pt x="497" y="85"/>
                  </a:lnTo>
                  <a:lnTo>
                    <a:pt x="537" y="86"/>
                  </a:lnTo>
                  <a:lnTo>
                    <a:pt x="577" y="91"/>
                  </a:lnTo>
                  <a:lnTo>
                    <a:pt x="615" y="99"/>
                  </a:lnTo>
                  <a:lnTo>
                    <a:pt x="654" y="111"/>
                  </a:lnTo>
                  <a:lnTo>
                    <a:pt x="691" y="126"/>
                  </a:lnTo>
                  <a:lnTo>
                    <a:pt x="727" y="146"/>
                  </a:lnTo>
                  <a:lnTo>
                    <a:pt x="761" y="169"/>
                  </a:lnTo>
                  <a:lnTo>
                    <a:pt x="794" y="196"/>
                  </a:lnTo>
                  <a:lnTo>
                    <a:pt x="850" y="258"/>
                  </a:lnTo>
                  <a:lnTo>
                    <a:pt x="891" y="328"/>
                  </a:lnTo>
                  <a:lnTo>
                    <a:pt x="919" y="404"/>
                  </a:lnTo>
                  <a:lnTo>
                    <a:pt x="931" y="483"/>
                  </a:lnTo>
                  <a:lnTo>
                    <a:pt x="929" y="562"/>
                  </a:lnTo>
                  <a:lnTo>
                    <a:pt x="911" y="641"/>
                  </a:lnTo>
                  <a:lnTo>
                    <a:pt x="877" y="715"/>
                  </a:lnTo>
                  <a:lnTo>
                    <a:pt x="829" y="785"/>
                  </a:lnTo>
                  <a:lnTo>
                    <a:pt x="842" y="786"/>
                  </a:lnTo>
                  <a:lnTo>
                    <a:pt x="854" y="787"/>
                  </a:lnTo>
                  <a:lnTo>
                    <a:pt x="867" y="788"/>
                  </a:lnTo>
                  <a:lnTo>
                    <a:pt x="879" y="789"/>
                  </a:lnTo>
                  <a:lnTo>
                    <a:pt x="891" y="790"/>
                  </a:lnTo>
                  <a:lnTo>
                    <a:pt x="904" y="793"/>
                  </a:lnTo>
                  <a:lnTo>
                    <a:pt x="916" y="794"/>
                  </a:lnTo>
                  <a:lnTo>
                    <a:pt x="929" y="795"/>
                  </a:lnTo>
                  <a:lnTo>
                    <a:pt x="954" y="754"/>
                  </a:lnTo>
                  <a:lnTo>
                    <a:pt x="975" y="711"/>
                  </a:lnTo>
                  <a:lnTo>
                    <a:pt x="992" y="666"/>
                  </a:lnTo>
                  <a:lnTo>
                    <a:pt x="1005" y="622"/>
                  </a:lnTo>
                  <a:lnTo>
                    <a:pt x="1013" y="576"/>
                  </a:lnTo>
                  <a:lnTo>
                    <a:pt x="1017" y="531"/>
                  </a:lnTo>
                  <a:lnTo>
                    <a:pt x="1017" y="485"/>
                  </a:lnTo>
                  <a:lnTo>
                    <a:pt x="1013" y="439"/>
                  </a:lnTo>
                  <a:lnTo>
                    <a:pt x="1005" y="395"/>
                  </a:lnTo>
                  <a:lnTo>
                    <a:pt x="993" y="351"/>
                  </a:lnTo>
                  <a:lnTo>
                    <a:pt x="976" y="309"/>
                  </a:lnTo>
                  <a:lnTo>
                    <a:pt x="957" y="266"/>
                  </a:lnTo>
                  <a:lnTo>
                    <a:pt x="933" y="227"/>
                  </a:lnTo>
                  <a:lnTo>
                    <a:pt x="905" y="189"/>
                  </a:lnTo>
                  <a:lnTo>
                    <a:pt x="874" y="154"/>
                  </a:lnTo>
                  <a:lnTo>
                    <a:pt x="838" y="121"/>
                  </a:lnTo>
                  <a:lnTo>
                    <a:pt x="800" y="92"/>
                  </a:lnTo>
                  <a:lnTo>
                    <a:pt x="760" y="66"/>
                  </a:lnTo>
                  <a:lnTo>
                    <a:pt x="718" y="45"/>
                  </a:lnTo>
                  <a:lnTo>
                    <a:pt x="676" y="28"/>
                  </a:lnTo>
                  <a:lnTo>
                    <a:pt x="632" y="15"/>
                  </a:lnTo>
                  <a:lnTo>
                    <a:pt x="586" y="6"/>
                  </a:lnTo>
                  <a:lnTo>
                    <a:pt x="541" y="1"/>
                  </a:lnTo>
                  <a:lnTo>
                    <a:pt x="496" y="0"/>
                  </a:lnTo>
                  <a:lnTo>
                    <a:pt x="450" y="3"/>
                  </a:lnTo>
                  <a:lnTo>
                    <a:pt x="405" y="10"/>
                  </a:lnTo>
                  <a:lnTo>
                    <a:pt x="360" y="22"/>
                  </a:lnTo>
                  <a:lnTo>
                    <a:pt x="317" y="37"/>
                  </a:lnTo>
                  <a:lnTo>
                    <a:pt x="275" y="56"/>
                  </a:lnTo>
                  <a:lnTo>
                    <a:pt x="234" y="80"/>
                  </a:lnTo>
                  <a:lnTo>
                    <a:pt x="195" y="107"/>
                  </a:lnTo>
                  <a:lnTo>
                    <a:pt x="159" y="139"/>
                  </a:lnTo>
                  <a:lnTo>
                    <a:pt x="125" y="174"/>
                  </a:lnTo>
                  <a:lnTo>
                    <a:pt x="96" y="210"/>
                  </a:lnTo>
                  <a:lnTo>
                    <a:pt x="70" y="250"/>
                  </a:lnTo>
                  <a:lnTo>
                    <a:pt x="49" y="291"/>
                  </a:lnTo>
                  <a:lnTo>
                    <a:pt x="32" y="333"/>
                  </a:lnTo>
                  <a:lnTo>
                    <a:pt x="18" y="376"/>
                  </a:lnTo>
                  <a:lnTo>
                    <a:pt x="7" y="422"/>
                  </a:lnTo>
                  <a:lnTo>
                    <a:pt x="2" y="466"/>
                  </a:lnTo>
                  <a:lnTo>
                    <a:pt x="0" y="512"/>
                  </a:lnTo>
                  <a:lnTo>
                    <a:pt x="2" y="558"/>
                  </a:lnTo>
                  <a:lnTo>
                    <a:pt x="9" y="603"/>
                  </a:lnTo>
                  <a:lnTo>
                    <a:pt x="20" y="649"/>
                  </a:lnTo>
                  <a:lnTo>
                    <a:pt x="34" y="692"/>
                  </a:lnTo>
                  <a:lnTo>
                    <a:pt x="54" y="735"/>
                  </a:lnTo>
                  <a:lnTo>
                    <a:pt x="77" y="777"/>
                  </a:lnTo>
                  <a:lnTo>
                    <a:pt x="104" y="817"/>
                  </a:lnTo>
                  <a:close/>
                </a:path>
              </a:pathLst>
            </a:custGeom>
            <a:solidFill>
              <a:srgbClr val="f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954080" y="3211560"/>
              <a:ext cx="228240" cy="195840"/>
            </a:xfrm>
            <a:custGeom>
              <a:avLst/>
              <a:gdLst/>
              <a:ahLst/>
              <a:rect l="l" t="t" r="r" b="b"/>
              <a:pathLst>
                <a:path w="846" h="716">
                  <a:moveTo>
                    <a:pt x="119" y="716"/>
                  </a:moveTo>
                  <a:lnTo>
                    <a:pt x="133" y="714"/>
                  </a:lnTo>
                  <a:lnTo>
                    <a:pt x="147" y="712"/>
                  </a:lnTo>
                  <a:lnTo>
                    <a:pt x="161" y="710"/>
                  </a:lnTo>
                  <a:lnTo>
                    <a:pt x="176" y="709"/>
                  </a:lnTo>
                  <a:lnTo>
                    <a:pt x="190" y="707"/>
                  </a:lnTo>
                  <a:lnTo>
                    <a:pt x="204" y="705"/>
                  </a:lnTo>
                  <a:lnTo>
                    <a:pt x="218" y="703"/>
                  </a:lnTo>
                  <a:lnTo>
                    <a:pt x="232" y="702"/>
                  </a:lnTo>
                  <a:lnTo>
                    <a:pt x="190" y="668"/>
                  </a:lnTo>
                  <a:lnTo>
                    <a:pt x="155" y="629"/>
                  </a:lnTo>
                  <a:lnTo>
                    <a:pt x="126" y="585"/>
                  </a:lnTo>
                  <a:lnTo>
                    <a:pt x="105" y="538"/>
                  </a:lnTo>
                  <a:lnTo>
                    <a:pt x="90" y="487"/>
                  </a:lnTo>
                  <a:lnTo>
                    <a:pt x="85" y="435"/>
                  </a:lnTo>
                  <a:lnTo>
                    <a:pt x="87" y="381"/>
                  </a:lnTo>
                  <a:lnTo>
                    <a:pt x="99" y="329"/>
                  </a:lnTo>
                  <a:lnTo>
                    <a:pt x="107" y="303"/>
                  </a:lnTo>
                  <a:lnTo>
                    <a:pt x="117" y="277"/>
                  </a:lnTo>
                  <a:lnTo>
                    <a:pt x="130" y="254"/>
                  </a:lnTo>
                  <a:lnTo>
                    <a:pt x="144" y="232"/>
                  </a:lnTo>
                  <a:lnTo>
                    <a:pt x="161" y="211"/>
                  </a:lnTo>
                  <a:lnTo>
                    <a:pt x="178" y="191"/>
                  </a:lnTo>
                  <a:lnTo>
                    <a:pt x="197" y="172"/>
                  </a:lnTo>
                  <a:lnTo>
                    <a:pt x="217" y="156"/>
                  </a:lnTo>
                  <a:lnTo>
                    <a:pt x="238" y="140"/>
                  </a:lnTo>
                  <a:lnTo>
                    <a:pt x="260" y="126"/>
                  </a:lnTo>
                  <a:lnTo>
                    <a:pt x="285" y="115"/>
                  </a:lnTo>
                  <a:lnTo>
                    <a:pt x="309" y="104"/>
                  </a:lnTo>
                  <a:lnTo>
                    <a:pt x="334" y="96"/>
                  </a:lnTo>
                  <a:lnTo>
                    <a:pt x="361" y="90"/>
                  </a:lnTo>
                  <a:lnTo>
                    <a:pt x="387" y="87"/>
                  </a:lnTo>
                  <a:lnTo>
                    <a:pt x="414" y="84"/>
                  </a:lnTo>
                  <a:lnTo>
                    <a:pt x="441" y="84"/>
                  </a:lnTo>
                  <a:lnTo>
                    <a:pt x="468" y="87"/>
                  </a:lnTo>
                  <a:lnTo>
                    <a:pt x="495" y="91"/>
                  </a:lnTo>
                  <a:lnTo>
                    <a:pt x="521" y="98"/>
                  </a:lnTo>
                  <a:lnTo>
                    <a:pt x="545" y="107"/>
                  </a:lnTo>
                  <a:lnTo>
                    <a:pt x="570" y="117"/>
                  </a:lnTo>
                  <a:lnTo>
                    <a:pt x="593" y="129"/>
                  </a:lnTo>
                  <a:lnTo>
                    <a:pt x="615" y="143"/>
                  </a:lnTo>
                  <a:lnTo>
                    <a:pt x="637" y="159"/>
                  </a:lnTo>
                  <a:lnTo>
                    <a:pt x="656" y="176"/>
                  </a:lnTo>
                  <a:lnTo>
                    <a:pt x="674" y="194"/>
                  </a:lnTo>
                  <a:lnTo>
                    <a:pt x="692" y="215"/>
                  </a:lnTo>
                  <a:lnTo>
                    <a:pt x="707" y="236"/>
                  </a:lnTo>
                  <a:lnTo>
                    <a:pt x="721" y="260"/>
                  </a:lnTo>
                  <a:lnTo>
                    <a:pt x="732" y="283"/>
                  </a:lnTo>
                  <a:lnTo>
                    <a:pt x="743" y="309"/>
                  </a:lnTo>
                  <a:lnTo>
                    <a:pt x="757" y="362"/>
                  </a:lnTo>
                  <a:lnTo>
                    <a:pt x="763" y="415"/>
                  </a:lnTo>
                  <a:lnTo>
                    <a:pt x="759" y="468"/>
                  </a:lnTo>
                  <a:lnTo>
                    <a:pt x="749" y="519"/>
                  </a:lnTo>
                  <a:lnTo>
                    <a:pt x="730" y="569"/>
                  </a:lnTo>
                  <a:lnTo>
                    <a:pt x="704" y="614"/>
                  </a:lnTo>
                  <a:lnTo>
                    <a:pt x="672" y="655"/>
                  </a:lnTo>
                  <a:lnTo>
                    <a:pt x="631" y="691"/>
                  </a:lnTo>
                  <a:lnTo>
                    <a:pt x="645" y="691"/>
                  </a:lnTo>
                  <a:lnTo>
                    <a:pt x="659" y="692"/>
                  </a:lnTo>
                  <a:lnTo>
                    <a:pt x="673" y="694"/>
                  </a:lnTo>
                  <a:lnTo>
                    <a:pt x="687" y="695"/>
                  </a:lnTo>
                  <a:lnTo>
                    <a:pt x="701" y="696"/>
                  </a:lnTo>
                  <a:lnTo>
                    <a:pt x="715" y="697"/>
                  </a:lnTo>
                  <a:lnTo>
                    <a:pt x="730" y="698"/>
                  </a:lnTo>
                  <a:lnTo>
                    <a:pt x="744" y="700"/>
                  </a:lnTo>
                  <a:lnTo>
                    <a:pt x="792" y="630"/>
                  </a:lnTo>
                  <a:lnTo>
                    <a:pt x="826" y="556"/>
                  </a:lnTo>
                  <a:lnTo>
                    <a:pt x="844" y="477"/>
                  </a:lnTo>
                  <a:lnTo>
                    <a:pt x="846" y="398"/>
                  </a:lnTo>
                  <a:lnTo>
                    <a:pt x="834" y="319"/>
                  </a:lnTo>
                  <a:lnTo>
                    <a:pt x="806" y="243"/>
                  </a:lnTo>
                  <a:lnTo>
                    <a:pt x="765" y="173"/>
                  </a:lnTo>
                  <a:lnTo>
                    <a:pt x="709" y="111"/>
                  </a:lnTo>
                  <a:lnTo>
                    <a:pt x="676" y="84"/>
                  </a:lnTo>
                  <a:lnTo>
                    <a:pt x="642" y="61"/>
                  </a:lnTo>
                  <a:lnTo>
                    <a:pt x="606" y="41"/>
                  </a:lnTo>
                  <a:lnTo>
                    <a:pt x="569" y="26"/>
                  </a:lnTo>
                  <a:lnTo>
                    <a:pt x="530" y="14"/>
                  </a:lnTo>
                  <a:lnTo>
                    <a:pt x="492" y="6"/>
                  </a:lnTo>
                  <a:lnTo>
                    <a:pt x="452" y="1"/>
                  </a:lnTo>
                  <a:lnTo>
                    <a:pt x="412" y="0"/>
                  </a:lnTo>
                  <a:lnTo>
                    <a:pt x="372" y="4"/>
                  </a:lnTo>
                  <a:lnTo>
                    <a:pt x="333" y="9"/>
                  </a:lnTo>
                  <a:lnTo>
                    <a:pt x="294" y="20"/>
                  </a:lnTo>
                  <a:lnTo>
                    <a:pt x="257" y="34"/>
                  </a:lnTo>
                  <a:lnTo>
                    <a:pt x="220" y="52"/>
                  </a:lnTo>
                  <a:lnTo>
                    <a:pt x="185" y="74"/>
                  </a:lnTo>
                  <a:lnTo>
                    <a:pt x="152" y="98"/>
                  </a:lnTo>
                  <a:lnTo>
                    <a:pt x="121" y="128"/>
                  </a:lnTo>
                  <a:lnTo>
                    <a:pt x="68" y="193"/>
                  </a:lnTo>
                  <a:lnTo>
                    <a:pt x="31" y="266"/>
                  </a:lnTo>
                  <a:lnTo>
                    <a:pt x="9" y="342"/>
                  </a:lnTo>
                  <a:lnTo>
                    <a:pt x="0" y="421"/>
                  </a:lnTo>
                  <a:lnTo>
                    <a:pt x="7" y="501"/>
                  </a:lnTo>
                  <a:lnTo>
                    <a:pt x="30" y="578"/>
                  </a:lnTo>
                  <a:lnTo>
                    <a:pt x="66" y="650"/>
                  </a:lnTo>
                  <a:lnTo>
                    <a:pt x="119" y="716"/>
                  </a:lnTo>
                  <a:close/>
                </a:path>
              </a:pathLst>
            </a:custGeom>
            <a:solidFill>
              <a:srgbClr val="f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77120" y="3234600"/>
              <a:ext cx="183960" cy="92520"/>
            </a:xfrm>
            <a:custGeom>
              <a:avLst/>
              <a:gdLst/>
              <a:ahLst/>
              <a:rect l="l" t="t" r="r" b="b"/>
              <a:pathLst>
                <a:path w="678" h="339">
                  <a:moveTo>
                    <a:pt x="0" y="339"/>
                  </a:moveTo>
                  <a:lnTo>
                    <a:pt x="2" y="297"/>
                  </a:lnTo>
                  <a:lnTo>
                    <a:pt x="14" y="245"/>
                  </a:lnTo>
                  <a:lnTo>
                    <a:pt x="22" y="219"/>
                  </a:lnTo>
                  <a:lnTo>
                    <a:pt x="32" y="193"/>
                  </a:lnTo>
                  <a:lnTo>
                    <a:pt x="45" y="170"/>
                  </a:lnTo>
                  <a:lnTo>
                    <a:pt x="59" y="148"/>
                  </a:lnTo>
                  <a:lnTo>
                    <a:pt x="76" y="127"/>
                  </a:lnTo>
                  <a:lnTo>
                    <a:pt x="93" y="107"/>
                  </a:lnTo>
                  <a:lnTo>
                    <a:pt x="112" y="88"/>
                  </a:lnTo>
                  <a:lnTo>
                    <a:pt x="132" y="72"/>
                  </a:lnTo>
                  <a:lnTo>
                    <a:pt x="153" y="56"/>
                  </a:lnTo>
                  <a:lnTo>
                    <a:pt x="175" y="42"/>
                  </a:lnTo>
                  <a:lnTo>
                    <a:pt x="200" y="31"/>
                  </a:lnTo>
                  <a:lnTo>
                    <a:pt x="224" y="20"/>
                  </a:lnTo>
                  <a:lnTo>
                    <a:pt x="249" y="12"/>
                  </a:lnTo>
                  <a:lnTo>
                    <a:pt x="276" y="6"/>
                  </a:lnTo>
                  <a:lnTo>
                    <a:pt x="302" y="3"/>
                  </a:lnTo>
                  <a:lnTo>
                    <a:pt x="329" y="0"/>
                  </a:lnTo>
                  <a:lnTo>
                    <a:pt x="356" y="0"/>
                  </a:lnTo>
                  <a:lnTo>
                    <a:pt x="383" y="3"/>
                  </a:lnTo>
                  <a:lnTo>
                    <a:pt x="410" y="7"/>
                  </a:lnTo>
                  <a:lnTo>
                    <a:pt x="436" y="14"/>
                  </a:lnTo>
                  <a:lnTo>
                    <a:pt x="460" y="23"/>
                  </a:lnTo>
                  <a:lnTo>
                    <a:pt x="485" y="33"/>
                  </a:lnTo>
                  <a:lnTo>
                    <a:pt x="508" y="45"/>
                  </a:lnTo>
                  <a:lnTo>
                    <a:pt x="530" y="59"/>
                  </a:lnTo>
                  <a:lnTo>
                    <a:pt x="552" y="75"/>
                  </a:lnTo>
                  <a:lnTo>
                    <a:pt x="571" y="92"/>
                  </a:lnTo>
                  <a:lnTo>
                    <a:pt x="589" y="110"/>
                  </a:lnTo>
                  <a:lnTo>
                    <a:pt x="607" y="131"/>
                  </a:lnTo>
                  <a:lnTo>
                    <a:pt x="622" y="152"/>
                  </a:lnTo>
                  <a:lnTo>
                    <a:pt x="636" y="176"/>
                  </a:lnTo>
                  <a:lnTo>
                    <a:pt x="647" y="199"/>
                  </a:lnTo>
                  <a:lnTo>
                    <a:pt x="658" y="225"/>
                  </a:lnTo>
                  <a:lnTo>
                    <a:pt x="672" y="278"/>
                  </a:lnTo>
                  <a:lnTo>
                    <a:pt x="678" y="331"/>
                  </a:lnTo>
                  <a:lnTo>
                    <a:pt x="678" y="339"/>
                  </a:lnTo>
                  <a:lnTo>
                    <a:pt x="592" y="339"/>
                  </a:lnTo>
                  <a:lnTo>
                    <a:pt x="592" y="339"/>
                  </a:lnTo>
                  <a:lnTo>
                    <a:pt x="591" y="314"/>
                  </a:lnTo>
                  <a:lnTo>
                    <a:pt x="588" y="289"/>
                  </a:lnTo>
                  <a:lnTo>
                    <a:pt x="581" y="265"/>
                  </a:lnTo>
                  <a:lnTo>
                    <a:pt x="573" y="241"/>
                  </a:lnTo>
                  <a:lnTo>
                    <a:pt x="562" y="219"/>
                  </a:lnTo>
                  <a:lnTo>
                    <a:pt x="549" y="198"/>
                  </a:lnTo>
                  <a:lnTo>
                    <a:pt x="534" y="178"/>
                  </a:lnTo>
                  <a:lnTo>
                    <a:pt x="518" y="161"/>
                  </a:lnTo>
                  <a:lnTo>
                    <a:pt x="500" y="144"/>
                  </a:lnTo>
                  <a:lnTo>
                    <a:pt x="480" y="129"/>
                  </a:lnTo>
                  <a:lnTo>
                    <a:pt x="459" y="116"/>
                  </a:lnTo>
                  <a:lnTo>
                    <a:pt x="437" y="106"/>
                  </a:lnTo>
                  <a:lnTo>
                    <a:pt x="414" y="97"/>
                  </a:lnTo>
                  <a:lnTo>
                    <a:pt x="389" y="90"/>
                  </a:lnTo>
                  <a:lnTo>
                    <a:pt x="364" y="87"/>
                  </a:lnTo>
                  <a:lnTo>
                    <a:pt x="339" y="86"/>
                  </a:lnTo>
                  <a:lnTo>
                    <a:pt x="313" y="87"/>
                  </a:lnTo>
                  <a:lnTo>
                    <a:pt x="288" y="90"/>
                  </a:lnTo>
                  <a:lnTo>
                    <a:pt x="264" y="97"/>
                  </a:lnTo>
                  <a:lnTo>
                    <a:pt x="241" y="106"/>
                  </a:lnTo>
                  <a:lnTo>
                    <a:pt x="218" y="116"/>
                  </a:lnTo>
                  <a:lnTo>
                    <a:pt x="197" y="129"/>
                  </a:lnTo>
                  <a:lnTo>
                    <a:pt x="177" y="144"/>
                  </a:lnTo>
                  <a:lnTo>
                    <a:pt x="160" y="161"/>
                  </a:lnTo>
                  <a:lnTo>
                    <a:pt x="143" y="178"/>
                  </a:lnTo>
                  <a:lnTo>
                    <a:pt x="128" y="198"/>
                  </a:lnTo>
                  <a:lnTo>
                    <a:pt x="115" y="219"/>
                  </a:lnTo>
                  <a:lnTo>
                    <a:pt x="105" y="241"/>
                  </a:lnTo>
                  <a:lnTo>
                    <a:pt x="97" y="265"/>
                  </a:lnTo>
                  <a:lnTo>
                    <a:pt x="90" y="289"/>
                  </a:lnTo>
                  <a:lnTo>
                    <a:pt x="86" y="314"/>
                  </a:lnTo>
                  <a:lnTo>
                    <a:pt x="85" y="339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77120" y="3327120"/>
              <a:ext cx="183960" cy="75960"/>
            </a:xfrm>
            <a:custGeom>
              <a:avLst/>
              <a:gdLst/>
              <a:ahLst/>
              <a:rect l="l" t="t" r="r" b="b"/>
              <a:pathLst>
                <a:path w="678" h="279">
                  <a:moveTo>
                    <a:pt x="0" y="0"/>
                  </a:moveTo>
                  <a:lnTo>
                    <a:pt x="0" y="12"/>
                  </a:lnTo>
                  <a:lnTo>
                    <a:pt x="5" y="64"/>
                  </a:lnTo>
                  <a:lnTo>
                    <a:pt x="20" y="115"/>
                  </a:lnTo>
                  <a:lnTo>
                    <a:pt x="41" y="162"/>
                  </a:lnTo>
                  <a:lnTo>
                    <a:pt x="70" y="206"/>
                  </a:lnTo>
                  <a:lnTo>
                    <a:pt x="105" y="245"/>
                  </a:lnTo>
                  <a:lnTo>
                    <a:pt x="147" y="279"/>
                  </a:lnTo>
                  <a:lnTo>
                    <a:pt x="165" y="278"/>
                  </a:lnTo>
                  <a:lnTo>
                    <a:pt x="182" y="275"/>
                  </a:lnTo>
                  <a:lnTo>
                    <a:pt x="200" y="274"/>
                  </a:lnTo>
                  <a:lnTo>
                    <a:pt x="217" y="273"/>
                  </a:lnTo>
                  <a:lnTo>
                    <a:pt x="235" y="272"/>
                  </a:lnTo>
                  <a:lnTo>
                    <a:pt x="252" y="271"/>
                  </a:lnTo>
                  <a:lnTo>
                    <a:pt x="270" y="269"/>
                  </a:lnTo>
                  <a:lnTo>
                    <a:pt x="287" y="268"/>
                  </a:lnTo>
                  <a:lnTo>
                    <a:pt x="304" y="267"/>
                  </a:lnTo>
                  <a:lnTo>
                    <a:pt x="321" y="267"/>
                  </a:lnTo>
                  <a:lnTo>
                    <a:pt x="338" y="266"/>
                  </a:lnTo>
                  <a:lnTo>
                    <a:pt x="354" y="266"/>
                  </a:lnTo>
                  <a:lnTo>
                    <a:pt x="370" y="265"/>
                  </a:lnTo>
                  <a:lnTo>
                    <a:pt x="387" y="265"/>
                  </a:lnTo>
                  <a:lnTo>
                    <a:pt x="403" y="265"/>
                  </a:lnTo>
                  <a:lnTo>
                    <a:pt x="419" y="265"/>
                  </a:lnTo>
                  <a:lnTo>
                    <a:pt x="435" y="265"/>
                  </a:lnTo>
                  <a:lnTo>
                    <a:pt x="450" y="265"/>
                  </a:lnTo>
                  <a:lnTo>
                    <a:pt x="466" y="265"/>
                  </a:lnTo>
                  <a:lnTo>
                    <a:pt x="481" y="266"/>
                  </a:lnTo>
                  <a:lnTo>
                    <a:pt x="498" y="266"/>
                  </a:lnTo>
                  <a:lnTo>
                    <a:pt x="513" y="267"/>
                  </a:lnTo>
                  <a:lnTo>
                    <a:pt x="529" y="267"/>
                  </a:lnTo>
                  <a:lnTo>
                    <a:pt x="546" y="268"/>
                  </a:lnTo>
                  <a:lnTo>
                    <a:pt x="587" y="232"/>
                  </a:lnTo>
                  <a:lnTo>
                    <a:pt x="619" y="191"/>
                  </a:lnTo>
                  <a:lnTo>
                    <a:pt x="645" y="146"/>
                  </a:lnTo>
                  <a:lnTo>
                    <a:pt x="664" y="96"/>
                  </a:lnTo>
                  <a:lnTo>
                    <a:pt x="674" y="45"/>
                  </a:lnTo>
                  <a:lnTo>
                    <a:pt x="678" y="0"/>
                  </a:lnTo>
                  <a:lnTo>
                    <a:pt x="592" y="0"/>
                  </a:lnTo>
                  <a:lnTo>
                    <a:pt x="591" y="26"/>
                  </a:lnTo>
                  <a:lnTo>
                    <a:pt x="588" y="51"/>
                  </a:lnTo>
                  <a:lnTo>
                    <a:pt x="581" y="75"/>
                  </a:lnTo>
                  <a:lnTo>
                    <a:pt x="573" y="99"/>
                  </a:lnTo>
                  <a:lnTo>
                    <a:pt x="562" y="121"/>
                  </a:lnTo>
                  <a:lnTo>
                    <a:pt x="549" y="142"/>
                  </a:lnTo>
                  <a:lnTo>
                    <a:pt x="534" y="162"/>
                  </a:lnTo>
                  <a:lnTo>
                    <a:pt x="518" y="179"/>
                  </a:lnTo>
                  <a:lnTo>
                    <a:pt x="500" y="196"/>
                  </a:lnTo>
                  <a:lnTo>
                    <a:pt x="480" y="211"/>
                  </a:lnTo>
                  <a:lnTo>
                    <a:pt x="459" y="224"/>
                  </a:lnTo>
                  <a:lnTo>
                    <a:pt x="437" y="234"/>
                  </a:lnTo>
                  <a:lnTo>
                    <a:pt x="414" y="243"/>
                  </a:lnTo>
                  <a:lnTo>
                    <a:pt x="389" y="250"/>
                  </a:lnTo>
                  <a:lnTo>
                    <a:pt x="364" y="253"/>
                  </a:lnTo>
                  <a:lnTo>
                    <a:pt x="339" y="254"/>
                  </a:lnTo>
                  <a:lnTo>
                    <a:pt x="313" y="253"/>
                  </a:lnTo>
                  <a:lnTo>
                    <a:pt x="288" y="250"/>
                  </a:lnTo>
                  <a:lnTo>
                    <a:pt x="264" y="243"/>
                  </a:lnTo>
                  <a:lnTo>
                    <a:pt x="241" y="234"/>
                  </a:lnTo>
                  <a:lnTo>
                    <a:pt x="218" y="224"/>
                  </a:lnTo>
                  <a:lnTo>
                    <a:pt x="197" y="211"/>
                  </a:lnTo>
                  <a:lnTo>
                    <a:pt x="177" y="196"/>
                  </a:lnTo>
                  <a:lnTo>
                    <a:pt x="160" y="179"/>
                  </a:lnTo>
                  <a:lnTo>
                    <a:pt x="143" y="162"/>
                  </a:lnTo>
                  <a:lnTo>
                    <a:pt x="128" y="142"/>
                  </a:lnTo>
                  <a:lnTo>
                    <a:pt x="115" y="121"/>
                  </a:lnTo>
                  <a:lnTo>
                    <a:pt x="105" y="99"/>
                  </a:lnTo>
                  <a:lnTo>
                    <a:pt x="97" y="75"/>
                  </a:lnTo>
                  <a:lnTo>
                    <a:pt x="90" y="51"/>
                  </a:lnTo>
                  <a:lnTo>
                    <a:pt x="86" y="26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000160" y="3257640"/>
              <a:ext cx="136440" cy="69120"/>
            </a:xfrm>
            <a:custGeom>
              <a:avLst/>
              <a:gdLst/>
              <a:ahLst/>
              <a:rect l="l" t="t" r="r" b="b"/>
              <a:pathLst>
                <a:path w="507" h="253">
                  <a:moveTo>
                    <a:pt x="0" y="253"/>
                  </a:moveTo>
                  <a:lnTo>
                    <a:pt x="1" y="228"/>
                  </a:lnTo>
                  <a:lnTo>
                    <a:pt x="5" y="203"/>
                  </a:lnTo>
                  <a:lnTo>
                    <a:pt x="12" y="179"/>
                  </a:lnTo>
                  <a:lnTo>
                    <a:pt x="20" y="155"/>
                  </a:lnTo>
                  <a:lnTo>
                    <a:pt x="30" y="133"/>
                  </a:lnTo>
                  <a:lnTo>
                    <a:pt x="43" y="112"/>
                  </a:lnTo>
                  <a:lnTo>
                    <a:pt x="58" y="92"/>
                  </a:lnTo>
                  <a:lnTo>
                    <a:pt x="75" y="75"/>
                  </a:lnTo>
                  <a:lnTo>
                    <a:pt x="92" y="58"/>
                  </a:lnTo>
                  <a:lnTo>
                    <a:pt x="112" y="43"/>
                  </a:lnTo>
                  <a:lnTo>
                    <a:pt x="133" y="30"/>
                  </a:lnTo>
                  <a:lnTo>
                    <a:pt x="156" y="20"/>
                  </a:lnTo>
                  <a:lnTo>
                    <a:pt x="179" y="11"/>
                  </a:lnTo>
                  <a:lnTo>
                    <a:pt x="203" y="4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4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0"/>
                  </a:lnTo>
                  <a:lnTo>
                    <a:pt x="395" y="43"/>
                  </a:lnTo>
                  <a:lnTo>
                    <a:pt x="415" y="58"/>
                  </a:lnTo>
                  <a:lnTo>
                    <a:pt x="433" y="75"/>
                  </a:lnTo>
                  <a:lnTo>
                    <a:pt x="449" y="92"/>
                  </a:lnTo>
                  <a:lnTo>
                    <a:pt x="464" y="112"/>
                  </a:lnTo>
                  <a:lnTo>
                    <a:pt x="477" y="133"/>
                  </a:lnTo>
                  <a:lnTo>
                    <a:pt x="488" y="155"/>
                  </a:lnTo>
                  <a:lnTo>
                    <a:pt x="496" y="179"/>
                  </a:lnTo>
                  <a:lnTo>
                    <a:pt x="503" y="203"/>
                  </a:lnTo>
                  <a:lnTo>
                    <a:pt x="506" y="228"/>
                  </a:lnTo>
                  <a:lnTo>
                    <a:pt x="507" y="253"/>
                  </a:lnTo>
                  <a:lnTo>
                    <a:pt x="507" y="253"/>
                  </a:lnTo>
                  <a:lnTo>
                    <a:pt x="423" y="253"/>
                  </a:lnTo>
                  <a:lnTo>
                    <a:pt x="423" y="253"/>
                  </a:lnTo>
                  <a:lnTo>
                    <a:pt x="420" y="220"/>
                  </a:lnTo>
                  <a:lnTo>
                    <a:pt x="410" y="188"/>
                  </a:lnTo>
                  <a:lnTo>
                    <a:pt x="394" y="159"/>
                  </a:lnTo>
                  <a:lnTo>
                    <a:pt x="374" y="133"/>
                  </a:lnTo>
                  <a:lnTo>
                    <a:pt x="348" y="113"/>
                  </a:lnTo>
                  <a:lnTo>
                    <a:pt x="319" y="97"/>
                  </a:lnTo>
                  <a:lnTo>
                    <a:pt x="288" y="87"/>
                  </a:lnTo>
                  <a:lnTo>
                    <a:pt x="254" y="84"/>
                  </a:lnTo>
                  <a:lnTo>
                    <a:pt x="220" y="87"/>
                  </a:lnTo>
                  <a:lnTo>
                    <a:pt x="188" y="97"/>
                  </a:lnTo>
                  <a:lnTo>
                    <a:pt x="159" y="113"/>
                  </a:lnTo>
                  <a:lnTo>
                    <a:pt x="134" y="133"/>
                  </a:lnTo>
                  <a:lnTo>
                    <a:pt x="113" y="159"/>
                  </a:lnTo>
                  <a:lnTo>
                    <a:pt x="97" y="188"/>
                  </a:lnTo>
                  <a:lnTo>
                    <a:pt x="88" y="220"/>
                  </a:lnTo>
                  <a:lnTo>
                    <a:pt x="84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f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000160" y="3327120"/>
              <a:ext cx="136440" cy="69120"/>
            </a:xfrm>
            <a:custGeom>
              <a:avLst/>
              <a:gdLst/>
              <a:ahLst/>
              <a:rect l="l" t="t" r="r" b="b"/>
              <a:pathLst>
                <a:path w="507" h="254">
                  <a:moveTo>
                    <a:pt x="0" y="0"/>
                  </a:moveTo>
                  <a:lnTo>
                    <a:pt x="0" y="0"/>
                  </a:lnTo>
                  <a:lnTo>
                    <a:pt x="1" y="26"/>
                  </a:lnTo>
                  <a:lnTo>
                    <a:pt x="5" y="51"/>
                  </a:lnTo>
                  <a:lnTo>
                    <a:pt x="12" y="75"/>
                  </a:lnTo>
                  <a:lnTo>
                    <a:pt x="20" y="99"/>
                  </a:lnTo>
                  <a:lnTo>
                    <a:pt x="30" y="121"/>
                  </a:lnTo>
                  <a:lnTo>
                    <a:pt x="43" y="142"/>
                  </a:lnTo>
                  <a:lnTo>
                    <a:pt x="58" y="162"/>
                  </a:lnTo>
                  <a:lnTo>
                    <a:pt x="75" y="179"/>
                  </a:lnTo>
                  <a:lnTo>
                    <a:pt x="92" y="196"/>
                  </a:lnTo>
                  <a:lnTo>
                    <a:pt x="112" y="211"/>
                  </a:lnTo>
                  <a:lnTo>
                    <a:pt x="133" y="224"/>
                  </a:lnTo>
                  <a:lnTo>
                    <a:pt x="156" y="234"/>
                  </a:lnTo>
                  <a:lnTo>
                    <a:pt x="179" y="243"/>
                  </a:lnTo>
                  <a:lnTo>
                    <a:pt x="203" y="250"/>
                  </a:lnTo>
                  <a:lnTo>
                    <a:pt x="228" y="253"/>
                  </a:lnTo>
                  <a:lnTo>
                    <a:pt x="254" y="254"/>
                  </a:lnTo>
                  <a:lnTo>
                    <a:pt x="279" y="253"/>
                  </a:lnTo>
                  <a:lnTo>
                    <a:pt x="304" y="250"/>
                  </a:lnTo>
                  <a:lnTo>
                    <a:pt x="329" y="243"/>
                  </a:lnTo>
                  <a:lnTo>
                    <a:pt x="352" y="234"/>
                  </a:lnTo>
                  <a:lnTo>
                    <a:pt x="374" y="224"/>
                  </a:lnTo>
                  <a:lnTo>
                    <a:pt x="395" y="211"/>
                  </a:lnTo>
                  <a:lnTo>
                    <a:pt x="415" y="196"/>
                  </a:lnTo>
                  <a:lnTo>
                    <a:pt x="433" y="179"/>
                  </a:lnTo>
                  <a:lnTo>
                    <a:pt x="449" y="162"/>
                  </a:lnTo>
                  <a:lnTo>
                    <a:pt x="464" y="142"/>
                  </a:lnTo>
                  <a:lnTo>
                    <a:pt x="477" y="121"/>
                  </a:lnTo>
                  <a:lnTo>
                    <a:pt x="488" y="99"/>
                  </a:lnTo>
                  <a:lnTo>
                    <a:pt x="496" y="75"/>
                  </a:lnTo>
                  <a:lnTo>
                    <a:pt x="503" y="51"/>
                  </a:lnTo>
                  <a:lnTo>
                    <a:pt x="506" y="26"/>
                  </a:lnTo>
                  <a:lnTo>
                    <a:pt x="507" y="0"/>
                  </a:lnTo>
                  <a:lnTo>
                    <a:pt x="423" y="0"/>
                  </a:lnTo>
                  <a:lnTo>
                    <a:pt x="420" y="34"/>
                  </a:lnTo>
                  <a:lnTo>
                    <a:pt x="410" y="66"/>
                  </a:lnTo>
                  <a:lnTo>
                    <a:pt x="394" y="95"/>
                  </a:lnTo>
                  <a:lnTo>
                    <a:pt x="374" y="120"/>
                  </a:lnTo>
                  <a:lnTo>
                    <a:pt x="348" y="141"/>
                  </a:lnTo>
                  <a:lnTo>
                    <a:pt x="319" y="157"/>
                  </a:lnTo>
                  <a:lnTo>
                    <a:pt x="288" y="167"/>
                  </a:lnTo>
                  <a:lnTo>
                    <a:pt x="254" y="170"/>
                  </a:lnTo>
                  <a:lnTo>
                    <a:pt x="220" y="167"/>
                  </a:lnTo>
                  <a:lnTo>
                    <a:pt x="188" y="157"/>
                  </a:lnTo>
                  <a:lnTo>
                    <a:pt x="159" y="141"/>
                  </a:lnTo>
                  <a:lnTo>
                    <a:pt x="134" y="120"/>
                  </a:lnTo>
                  <a:lnTo>
                    <a:pt x="113" y="95"/>
                  </a:lnTo>
                  <a:lnTo>
                    <a:pt x="97" y="66"/>
                  </a:lnTo>
                  <a:lnTo>
                    <a:pt x="88" y="3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023200" y="3281040"/>
              <a:ext cx="91800" cy="46080"/>
            </a:xfrm>
            <a:custGeom>
              <a:avLst/>
              <a:gdLst/>
              <a:ahLst/>
              <a:rect l="l" t="t" r="r" b="b"/>
              <a:pathLst>
                <a:path w="339" h="169">
                  <a:moveTo>
                    <a:pt x="0" y="169"/>
                  </a:moveTo>
                  <a:lnTo>
                    <a:pt x="4" y="136"/>
                  </a:lnTo>
                  <a:lnTo>
                    <a:pt x="13" y="104"/>
                  </a:lnTo>
                  <a:lnTo>
                    <a:pt x="29" y="75"/>
                  </a:lnTo>
                  <a:lnTo>
                    <a:pt x="50" y="49"/>
                  </a:lnTo>
                  <a:lnTo>
                    <a:pt x="75" y="29"/>
                  </a:lnTo>
                  <a:lnTo>
                    <a:pt x="104" y="13"/>
                  </a:lnTo>
                  <a:lnTo>
                    <a:pt x="136" y="3"/>
                  </a:lnTo>
                  <a:lnTo>
                    <a:pt x="170" y="0"/>
                  </a:lnTo>
                  <a:lnTo>
                    <a:pt x="204" y="3"/>
                  </a:lnTo>
                  <a:lnTo>
                    <a:pt x="235" y="13"/>
                  </a:lnTo>
                  <a:lnTo>
                    <a:pt x="264" y="29"/>
                  </a:lnTo>
                  <a:lnTo>
                    <a:pt x="290" y="49"/>
                  </a:lnTo>
                  <a:lnTo>
                    <a:pt x="310" y="75"/>
                  </a:lnTo>
                  <a:lnTo>
                    <a:pt x="326" y="104"/>
                  </a:lnTo>
                  <a:lnTo>
                    <a:pt x="336" y="136"/>
                  </a:lnTo>
                  <a:lnTo>
                    <a:pt x="339" y="169"/>
                  </a:lnTo>
                  <a:lnTo>
                    <a:pt x="339" y="169"/>
                  </a:lnTo>
                  <a:lnTo>
                    <a:pt x="254" y="169"/>
                  </a:lnTo>
                  <a:lnTo>
                    <a:pt x="254" y="169"/>
                  </a:lnTo>
                  <a:lnTo>
                    <a:pt x="253" y="153"/>
                  </a:lnTo>
                  <a:lnTo>
                    <a:pt x="247" y="137"/>
                  </a:lnTo>
                  <a:lnTo>
                    <a:pt x="240" y="123"/>
                  </a:lnTo>
                  <a:lnTo>
                    <a:pt x="229" y="110"/>
                  </a:lnTo>
                  <a:lnTo>
                    <a:pt x="217" y="99"/>
                  </a:lnTo>
                  <a:lnTo>
                    <a:pt x="202" y="92"/>
                  </a:lnTo>
                  <a:lnTo>
                    <a:pt x="186" y="86"/>
                  </a:lnTo>
                  <a:lnTo>
                    <a:pt x="170" y="85"/>
                  </a:lnTo>
                  <a:lnTo>
                    <a:pt x="153" y="86"/>
                  </a:lnTo>
                  <a:lnTo>
                    <a:pt x="137" y="92"/>
                  </a:lnTo>
                  <a:lnTo>
                    <a:pt x="123" y="99"/>
                  </a:lnTo>
                  <a:lnTo>
                    <a:pt x="110" y="110"/>
                  </a:lnTo>
                  <a:lnTo>
                    <a:pt x="100" y="123"/>
                  </a:lnTo>
                  <a:lnTo>
                    <a:pt x="93" y="137"/>
                  </a:lnTo>
                  <a:lnTo>
                    <a:pt x="87" y="153"/>
                  </a:lnTo>
                  <a:lnTo>
                    <a:pt x="86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023200" y="3327120"/>
              <a:ext cx="91800" cy="46080"/>
            </a:xfrm>
            <a:custGeom>
              <a:avLst/>
              <a:gdLst/>
              <a:ahLst/>
              <a:rect l="l" t="t" r="r" b="b"/>
              <a:pathLst>
                <a:path w="339" h="170">
                  <a:moveTo>
                    <a:pt x="0" y="0"/>
                  </a:moveTo>
                  <a:lnTo>
                    <a:pt x="0" y="0"/>
                  </a:lnTo>
                  <a:lnTo>
                    <a:pt x="4" y="34"/>
                  </a:lnTo>
                  <a:lnTo>
                    <a:pt x="13" y="66"/>
                  </a:lnTo>
                  <a:lnTo>
                    <a:pt x="29" y="95"/>
                  </a:lnTo>
                  <a:lnTo>
                    <a:pt x="50" y="120"/>
                  </a:lnTo>
                  <a:lnTo>
                    <a:pt x="75" y="141"/>
                  </a:lnTo>
                  <a:lnTo>
                    <a:pt x="104" y="157"/>
                  </a:lnTo>
                  <a:lnTo>
                    <a:pt x="136" y="167"/>
                  </a:lnTo>
                  <a:lnTo>
                    <a:pt x="170" y="170"/>
                  </a:lnTo>
                  <a:lnTo>
                    <a:pt x="204" y="167"/>
                  </a:lnTo>
                  <a:lnTo>
                    <a:pt x="235" y="157"/>
                  </a:lnTo>
                  <a:lnTo>
                    <a:pt x="264" y="141"/>
                  </a:lnTo>
                  <a:lnTo>
                    <a:pt x="290" y="120"/>
                  </a:lnTo>
                  <a:lnTo>
                    <a:pt x="310" y="95"/>
                  </a:lnTo>
                  <a:lnTo>
                    <a:pt x="326" y="66"/>
                  </a:lnTo>
                  <a:lnTo>
                    <a:pt x="336" y="34"/>
                  </a:lnTo>
                  <a:lnTo>
                    <a:pt x="339" y="0"/>
                  </a:lnTo>
                  <a:lnTo>
                    <a:pt x="254" y="0"/>
                  </a:lnTo>
                  <a:lnTo>
                    <a:pt x="253" y="17"/>
                  </a:lnTo>
                  <a:lnTo>
                    <a:pt x="247" y="33"/>
                  </a:lnTo>
                  <a:lnTo>
                    <a:pt x="240" y="47"/>
                  </a:lnTo>
                  <a:lnTo>
                    <a:pt x="229" y="60"/>
                  </a:lnTo>
                  <a:lnTo>
                    <a:pt x="217" y="71"/>
                  </a:lnTo>
                  <a:lnTo>
                    <a:pt x="202" y="78"/>
                  </a:lnTo>
                  <a:lnTo>
                    <a:pt x="186" y="84"/>
                  </a:lnTo>
                  <a:lnTo>
                    <a:pt x="170" y="85"/>
                  </a:lnTo>
                  <a:lnTo>
                    <a:pt x="153" y="84"/>
                  </a:lnTo>
                  <a:lnTo>
                    <a:pt x="137" y="78"/>
                  </a:lnTo>
                  <a:lnTo>
                    <a:pt x="123" y="71"/>
                  </a:lnTo>
                  <a:lnTo>
                    <a:pt x="110" y="60"/>
                  </a:lnTo>
                  <a:lnTo>
                    <a:pt x="100" y="47"/>
                  </a:lnTo>
                  <a:lnTo>
                    <a:pt x="93" y="33"/>
                  </a:lnTo>
                  <a:lnTo>
                    <a:pt x="87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046240" y="3304080"/>
              <a:ext cx="45720" cy="4608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168" y="84"/>
                  </a:moveTo>
                  <a:lnTo>
                    <a:pt x="167" y="68"/>
                  </a:lnTo>
                  <a:lnTo>
                    <a:pt x="161" y="52"/>
                  </a:lnTo>
                  <a:lnTo>
                    <a:pt x="154" y="38"/>
                  </a:lnTo>
                  <a:lnTo>
                    <a:pt x="143" y="25"/>
                  </a:lnTo>
                  <a:lnTo>
                    <a:pt x="131" y="14"/>
                  </a:lnTo>
                  <a:lnTo>
                    <a:pt x="116" y="7"/>
                  </a:lnTo>
                  <a:lnTo>
                    <a:pt x="100" y="1"/>
                  </a:lnTo>
                  <a:lnTo>
                    <a:pt x="84" y="0"/>
                  </a:lnTo>
                  <a:lnTo>
                    <a:pt x="67" y="1"/>
                  </a:lnTo>
                  <a:lnTo>
                    <a:pt x="51" y="7"/>
                  </a:lnTo>
                  <a:lnTo>
                    <a:pt x="37" y="14"/>
                  </a:lnTo>
                  <a:lnTo>
                    <a:pt x="24" y="25"/>
                  </a:lnTo>
                  <a:lnTo>
                    <a:pt x="14" y="38"/>
                  </a:lnTo>
                  <a:lnTo>
                    <a:pt x="7" y="52"/>
                  </a:lnTo>
                  <a:lnTo>
                    <a:pt x="1" y="68"/>
                  </a:lnTo>
                  <a:lnTo>
                    <a:pt x="0" y="84"/>
                  </a:lnTo>
                  <a:lnTo>
                    <a:pt x="1" y="101"/>
                  </a:lnTo>
                  <a:lnTo>
                    <a:pt x="7" y="117"/>
                  </a:lnTo>
                  <a:lnTo>
                    <a:pt x="14" y="131"/>
                  </a:lnTo>
                  <a:lnTo>
                    <a:pt x="24" y="144"/>
                  </a:lnTo>
                  <a:lnTo>
                    <a:pt x="37" y="155"/>
                  </a:lnTo>
                  <a:lnTo>
                    <a:pt x="51" y="162"/>
                  </a:lnTo>
                  <a:lnTo>
                    <a:pt x="67" y="168"/>
                  </a:lnTo>
                  <a:lnTo>
                    <a:pt x="84" y="169"/>
                  </a:lnTo>
                  <a:lnTo>
                    <a:pt x="100" y="168"/>
                  </a:lnTo>
                  <a:lnTo>
                    <a:pt x="116" y="162"/>
                  </a:lnTo>
                  <a:lnTo>
                    <a:pt x="131" y="155"/>
                  </a:lnTo>
                  <a:lnTo>
                    <a:pt x="143" y="144"/>
                  </a:lnTo>
                  <a:lnTo>
                    <a:pt x="154" y="131"/>
                  </a:lnTo>
                  <a:lnTo>
                    <a:pt x="161" y="117"/>
                  </a:lnTo>
                  <a:lnTo>
                    <a:pt x="167" y="101"/>
                  </a:lnTo>
                  <a:lnTo>
                    <a:pt x="168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916000" y="3905640"/>
              <a:ext cx="8280" cy="36720"/>
            </a:xfrm>
            <a:custGeom>
              <a:avLst/>
              <a:gdLst/>
              <a:ahLst/>
              <a:rect l="l" t="t" r="r" b="b"/>
              <a:pathLst>
                <a:path w="30" h="136">
                  <a:moveTo>
                    <a:pt x="0" y="136"/>
                  </a:moveTo>
                  <a:lnTo>
                    <a:pt x="17" y="95"/>
                  </a:lnTo>
                  <a:lnTo>
                    <a:pt x="26" y="59"/>
                  </a:lnTo>
                  <a:lnTo>
                    <a:pt x="30" y="27"/>
                  </a:lnTo>
                  <a:lnTo>
                    <a:pt x="26" y="0"/>
                  </a:lnTo>
                  <a:lnTo>
                    <a:pt x="23" y="24"/>
                  </a:lnTo>
                  <a:lnTo>
                    <a:pt x="17" y="54"/>
                  </a:lnTo>
                  <a:lnTo>
                    <a:pt x="10" y="91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b0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881080" y="3886560"/>
              <a:ext cx="43200" cy="120960"/>
            </a:xfrm>
            <a:custGeom>
              <a:avLst/>
              <a:gdLst/>
              <a:ahLst/>
              <a:rect l="l" t="t" r="r" b="b"/>
              <a:pathLst>
                <a:path w="159" h="447">
                  <a:moveTo>
                    <a:pt x="133" y="205"/>
                  </a:moveTo>
                  <a:lnTo>
                    <a:pt x="125" y="224"/>
                  </a:lnTo>
                  <a:lnTo>
                    <a:pt x="115" y="242"/>
                  </a:lnTo>
                  <a:lnTo>
                    <a:pt x="104" y="263"/>
                  </a:lnTo>
                  <a:lnTo>
                    <a:pt x="91" y="284"/>
                  </a:lnTo>
                  <a:lnTo>
                    <a:pt x="77" y="307"/>
                  </a:lnTo>
                  <a:lnTo>
                    <a:pt x="62" y="330"/>
                  </a:lnTo>
                  <a:lnTo>
                    <a:pt x="46" y="355"/>
                  </a:lnTo>
                  <a:lnTo>
                    <a:pt x="27" y="380"/>
                  </a:lnTo>
                  <a:lnTo>
                    <a:pt x="22" y="386"/>
                  </a:lnTo>
                  <a:lnTo>
                    <a:pt x="19" y="392"/>
                  </a:lnTo>
                  <a:lnTo>
                    <a:pt x="15" y="399"/>
                  </a:lnTo>
                  <a:lnTo>
                    <a:pt x="11" y="405"/>
                  </a:lnTo>
                  <a:lnTo>
                    <a:pt x="0" y="447"/>
                  </a:lnTo>
                  <a:lnTo>
                    <a:pt x="6" y="434"/>
                  </a:lnTo>
                  <a:lnTo>
                    <a:pt x="9" y="421"/>
                  </a:lnTo>
                  <a:lnTo>
                    <a:pt x="12" y="410"/>
                  </a:lnTo>
                  <a:lnTo>
                    <a:pt x="14" y="399"/>
                  </a:lnTo>
                  <a:lnTo>
                    <a:pt x="29" y="343"/>
                  </a:lnTo>
                  <a:lnTo>
                    <a:pt x="43" y="289"/>
                  </a:lnTo>
                  <a:lnTo>
                    <a:pt x="56" y="236"/>
                  </a:lnTo>
                  <a:lnTo>
                    <a:pt x="68" y="186"/>
                  </a:lnTo>
                  <a:lnTo>
                    <a:pt x="78" y="137"/>
                  </a:lnTo>
                  <a:lnTo>
                    <a:pt x="88" y="89"/>
                  </a:lnTo>
                  <a:lnTo>
                    <a:pt x="96" y="43"/>
                  </a:lnTo>
                  <a:lnTo>
                    <a:pt x="103" y="0"/>
                  </a:lnTo>
                  <a:lnTo>
                    <a:pt x="114" y="6"/>
                  </a:lnTo>
                  <a:lnTo>
                    <a:pt x="123" y="13"/>
                  </a:lnTo>
                  <a:lnTo>
                    <a:pt x="131" y="20"/>
                  </a:lnTo>
                  <a:lnTo>
                    <a:pt x="139" y="28"/>
                  </a:lnTo>
                  <a:lnTo>
                    <a:pt x="146" y="38"/>
                  </a:lnTo>
                  <a:lnTo>
                    <a:pt x="151" y="47"/>
                  </a:lnTo>
                  <a:lnTo>
                    <a:pt x="156" y="58"/>
                  </a:lnTo>
                  <a:lnTo>
                    <a:pt x="159" y="69"/>
                  </a:lnTo>
                  <a:lnTo>
                    <a:pt x="156" y="93"/>
                  </a:lnTo>
                  <a:lnTo>
                    <a:pt x="150" y="123"/>
                  </a:lnTo>
                  <a:lnTo>
                    <a:pt x="143" y="160"/>
                  </a:lnTo>
                  <a:lnTo>
                    <a:pt x="133" y="205"/>
                  </a:lnTo>
                  <a:close/>
                </a:path>
              </a:pathLst>
            </a:custGeom>
            <a:solidFill>
              <a:srgbClr val="101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851200" y="3996720"/>
              <a:ext cx="32400" cy="52920"/>
            </a:xfrm>
            <a:custGeom>
              <a:avLst/>
              <a:gdLst/>
              <a:ahLst/>
              <a:rect l="l" t="t" r="r" b="b"/>
              <a:pathLst>
                <a:path w="122" h="198">
                  <a:moveTo>
                    <a:pt x="111" y="42"/>
                  </a:moveTo>
                  <a:lnTo>
                    <a:pt x="103" y="58"/>
                  </a:lnTo>
                  <a:lnTo>
                    <a:pt x="94" y="75"/>
                  </a:lnTo>
                  <a:lnTo>
                    <a:pt x="83" y="92"/>
                  </a:lnTo>
                  <a:lnTo>
                    <a:pt x="70" y="111"/>
                  </a:lnTo>
                  <a:lnTo>
                    <a:pt x="55" y="131"/>
                  </a:lnTo>
                  <a:lnTo>
                    <a:pt x="39" y="152"/>
                  </a:lnTo>
                  <a:lnTo>
                    <a:pt x="20" y="174"/>
                  </a:lnTo>
                  <a:lnTo>
                    <a:pt x="0" y="198"/>
                  </a:lnTo>
                  <a:lnTo>
                    <a:pt x="15" y="173"/>
                  </a:lnTo>
                  <a:lnTo>
                    <a:pt x="30" y="148"/>
                  </a:lnTo>
                  <a:lnTo>
                    <a:pt x="46" y="124"/>
                  </a:lnTo>
                  <a:lnTo>
                    <a:pt x="61" y="98"/>
                  </a:lnTo>
                  <a:lnTo>
                    <a:pt x="76" y="74"/>
                  </a:lnTo>
                  <a:lnTo>
                    <a:pt x="91" y="49"/>
                  </a:lnTo>
                  <a:lnTo>
                    <a:pt x="106" y="24"/>
                  </a:lnTo>
                  <a:lnTo>
                    <a:pt x="122" y="0"/>
                  </a:lnTo>
                  <a:lnTo>
                    <a:pt x="111" y="42"/>
                  </a:lnTo>
                  <a:close/>
                </a:path>
              </a:pathLst>
            </a:custGeom>
            <a:solidFill>
              <a:srgbClr val="151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871360" y="3879720"/>
              <a:ext cx="36360" cy="115560"/>
            </a:xfrm>
            <a:custGeom>
              <a:avLst/>
              <a:gdLst/>
              <a:ahLst/>
              <a:rect l="l" t="t" r="r" b="b"/>
              <a:pathLst>
                <a:path w="137" h="425">
                  <a:moveTo>
                    <a:pt x="48" y="425"/>
                  </a:moveTo>
                  <a:lnTo>
                    <a:pt x="48" y="411"/>
                  </a:lnTo>
                  <a:lnTo>
                    <a:pt x="47" y="398"/>
                  </a:lnTo>
                  <a:lnTo>
                    <a:pt x="43" y="388"/>
                  </a:lnTo>
                  <a:lnTo>
                    <a:pt x="38" y="377"/>
                  </a:lnTo>
                  <a:lnTo>
                    <a:pt x="31" y="368"/>
                  </a:lnTo>
                  <a:lnTo>
                    <a:pt x="22" y="360"/>
                  </a:lnTo>
                  <a:lnTo>
                    <a:pt x="12" y="352"/>
                  </a:lnTo>
                  <a:lnTo>
                    <a:pt x="0" y="345"/>
                  </a:lnTo>
                  <a:lnTo>
                    <a:pt x="12" y="296"/>
                  </a:lnTo>
                  <a:lnTo>
                    <a:pt x="24" y="248"/>
                  </a:lnTo>
                  <a:lnTo>
                    <a:pt x="34" y="203"/>
                  </a:lnTo>
                  <a:lnTo>
                    <a:pt x="43" y="160"/>
                  </a:lnTo>
                  <a:lnTo>
                    <a:pt x="52" y="117"/>
                  </a:lnTo>
                  <a:lnTo>
                    <a:pt x="60" y="76"/>
                  </a:lnTo>
                  <a:lnTo>
                    <a:pt x="67" y="38"/>
                  </a:lnTo>
                  <a:lnTo>
                    <a:pt x="73" y="0"/>
                  </a:lnTo>
                  <a:lnTo>
                    <a:pt x="81" y="3"/>
                  </a:lnTo>
                  <a:lnTo>
                    <a:pt x="90" y="6"/>
                  </a:lnTo>
                  <a:lnTo>
                    <a:pt x="98" y="9"/>
                  </a:lnTo>
                  <a:lnTo>
                    <a:pt x="107" y="12"/>
                  </a:lnTo>
                  <a:lnTo>
                    <a:pt x="115" y="16"/>
                  </a:lnTo>
                  <a:lnTo>
                    <a:pt x="122" y="19"/>
                  </a:lnTo>
                  <a:lnTo>
                    <a:pt x="130" y="23"/>
                  </a:lnTo>
                  <a:lnTo>
                    <a:pt x="137" y="26"/>
                  </a:lnTo>
                  <a:lnTo>
                    <a:pt x="130" y="69"/>
                  </a:lnTo>
                  <a:lnTo>
                    <a:pt x="122" y="115"/>
                  </a:lnTo>
                  <a:lnTo>
                    <a:pt x="112" y="163"/>
                  </a:lnTo>
                  <a:lnTo>
                    <a:pt x="102" y="212"/>
                  </a:lnTo>
                  <a:lnTo>
                    <a:pt x="90" y="262"/>
                  </a:lnTo>
                  <a:lnTo>
                    <a:pt x="77" y="315"/>
                  </a:lnTo>
                  <a:lnTo>
                    <a:pt x="63" y="369"/>
                  </a:lnTo>
                  <a:lnTo>
                    <a:pt x="48" y="425"/>
                  </a:lnTo>
                  <a:close/>
                </a:path>
              </a:pathLst>
            </a:custGeom>
            <a:solidFill>
              <a:srgbClr val="151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254600" y="3901680"/>
              <a:ext cx="10800" cy="50040"/>
            </a:xfrm>
            <a:custGeom>
              <a:avLst/>
              <a:gdLst/>
              <a:ahLst/>
              <a:rect l="l" t="t" r="r" b="b"/>
              <a:pathLst>
                <a:path w="44" h="184">
                  <a:moveTo>
                    <a:pt x="7" y="0"/>
                  </a:moveTo>
                  <a:lnTo>
                    <a:pt x="2" y="15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2" y="74"/>
                  </a:lnTo>
                  <a:lnTo>
                    <a:pt x="8" y="98"/>
                  </a:lnTo>
                  <a:lnTo>
                    <a:pt x="17" y="124"/>
                  </a:lnTo>
                  <a:lnTo>
                    <a:pt x="29" y="152"/>
                  </a:lnTo>
                  <a:lnTo>
                    <a:pt x="44" y="184"/>
                  </a:lnTo>
                  <a:lnTo>
                    <a:pt x="38" y="155"/>
                  </a:lnTo>
                  <a:lnTo>
                    <a:pt x="33" y="128"/>
                  </a:lnTo>
                  <a:lnTo>
                    <a:pt x="27" y="102"/>
                  </a:lnTo>
                  <a:lnTo>
                    <a:pt x="22" y="79"/>
                  </a:lnTo>
                  <a:lnTo>
                    <a:pt x="17" y="56"/>
                  </a:lnTo>
                  <a:lnTo>
                    <a:pt x="14" y="36"/>
                  </a:lnTo>
                  <a:lnTo>
                    <a:pt x="10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51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256040" y="3885480"/>
              <a:ext cx="49680" cy="136080"/>
            </a:xfrm>
            <a:custGeom>
              <a:avLst/>
              <a:gdLst/>
              <a:ahLst/>
              <a:rect l="l" t="t" r="r" b="b"/>
              <a:pathLst>
                <a:path w="186" h="503">
                  <a:moveTo>
                    <a:pt x="0" y="61"/>
                  </a:moveTo>
                  <a:lnTo>
                    <a:pt x="5" y="52"/>
                  </a:lnTo>
                  <a:lnTo>
                    <a:pt x="9" y="42"/>
                  </a:lnTo>
                  <a:lnTo>
                    <a:pt x="16" y="34"/>
                  </a:lnTo>
                  <a:lnTo>
                    <a:pt x="23" y="26"/>
                  </a:lnTo>
                  <a:lnTo>
                    <a:pt x="31" y="19"/>
                  </a:lnTo>
                  <a:lnTo>
                    <a:pt x="40" y="12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7" y="41"/>
                  </a:lnTo>
                  <a:lnTo>
                    <a:pt x="75" y="85"/>
                  </a:lnTo>
                  <a:lnTo>
                    <a:pt x="83" y="129"/>
                  </a:lnTo>
                  <a:lnTo>
                    <a:pt x="93" y="176"/>
                  </a:lnTo>
                  <a:lnTo>
                    <a:pt x="104" y="223"/>
                  </a:lnTo>
                  <a:lnTo>
                    <a:pt x="117" y="272"/>
                  </a:lnTo>
                  <a:lnTo>
                    <a:pt x="130" y="323"/>
                  </a:lnTo>
                  <a:lnTo>
                    <a:pt x="145" y="376"/>
                  </a:lnTo>
                  <a:lnTo>
                    <a:pt x="143" y="387"/>
                  </a:lnTo>
                  <a:lnTo>
                    <a:pt x="143" y="400"/>
                  </a:lnTo>
                  <a:lnTo>
                    <a:pt x="145" y="414"/>
                  </a:lnTo>
                  <a:lnTo>
                    <a:pt x="148" y="428"/>
                  </a:lnTo>
                  <a:lnTo>
                    <a:pt x="154" y="446"/>
                  </a:lnTo>
                  <a:lnTo>
                    <a:pt x="162" y="463"/>
                  </a:lnTo>
                  <a:lnTo>
                    <a:pt x="173" y="482"/>
                  </a:lnTo>
                  <a:lnTo>
                    <a:pt x="186" y="503"/>
                  </a:lnTo>
                  <a:lnTo>
                    <a:pt x="178" y="479"/>
                  </a:lnTo>
                  <a:lnTo>
                    <a:pt x="173" y="462"/>
                  </a:lnTo>
                  <a:lnTo>
                    <a:pt x="169" y="453"/>
                  </a:lnTo>
                  <a:lnTo>
                    <a:pt x="169" y="452"/>
                  </a:lnTo>
                  <a:lnTo>
                    <a:pt x="164" y="442"/>
                  </a:lnTo>
                  <a:lnTo>
                    <a:pt x="158" y="433"/>
                  </a:lnTo>
                  <a:lnTo>
                    <a:pt x="152" y="425"/>
                  </a:lnTo>
                  <a:lnTo>
                    <a:pt x="147" y="416"/>
                  </a:lnTo>
                  <a:lnTo>
                    <a:pt x="141" y="406"/>
                  </a:lnTo>
                  <a:lnTo>
                    <a:pt x="135" y="398"/>
                  </a:lnTo>
                  <a:lnTo>
                    <a:pt x="130" y="389"/>
                  </a:lnTo>
                  <a:lnTo>
                    <a:pt x="124" y="379"/>
                  </a:lnTo>
                  <a:lnTo>
                    <a:pt x="110" y="361"/>
                  </a:lnTo>
                  <a:lnTo>
                    <a:pt x="97" y="342"/>
                  </a:lnTo>
                  <a:lnTo>
                    <a:pt x="85" y="324"/>
                  </a:lnTo>
                  <a:lnTo>
                    <a:pt x="75" y="307"/>
                  </a:lnTo>
                  <a:lnTo>
                    <a:pt x="64" y="290"/>
                  </a:lnTo>
                  <a:lnTo>
                    <a:pt x="55" y="275"/>
                  </a:lnTo>
                  <a:lnTo>
                    <a:pt x="45" y="260"/>
                  </a:lnTo>
                  <a:lnTo>
                    <a:pt x="37" y="245"/>
                  </a:lnTo>
                  <a:lnTo>
                    <a:pt x="31" y="216"/>
                  </a:lnTo>
                  <a:lnTo>
                    <a:pt x="26" y="189"/>
                  </a:lnTo>
                  <a:lnTo>
                    <a:pt x="20" y="163"/>
                  </a:lnTo>
                  <a:lnTo>
                    <a:pt x="15" y="140"/>
                  </a:lnTo>
                  <a:lnTo>
                    <a:pt x="10" y="117"/>
                  </a:lnTo>
                  <a:lnTo>
                    <a:pt x="7" y="97"/>
                  </a:lnTo>
                  <a:lnTo>
                    <a:pt x="3" y="7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1d1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854080" y="3875760"/>
              <a:ext cx="37440" cy="97560"/>
            </a:xfrm>
            <a:custGeom>
              <a:avLst/>
              <a:gdLst/>
              <a:ahLst/>
              <a:rect l="l" t="t" r="r" b="b"/>
              <a:pathLst>
                <a:path w="139" h="360">
                  <a:moveTo>
                    <a:pt x="66" y="360"/>
                  </a:moveTo>
                  <a:lnTo>
                    <a:pt x="59" y="357"/>
                  </a:lnTo>
                  <a:lnTo>
                    <a:pt x="51" y="353"/>
                  </a:lnTo>
                  <a:lnTo>
                    <a:pt x="44" y="351"/>
                  </a:lnTo>
                  <a:lnTo>
                    <a:pt x="36" y="348"/>
                  </a:lnTo>
                  <a:lnTo>
                    <a:pt x="26" y="345"/>
                  </a:lnTo>
                  <a:lnTo>
                    <a:pt x="18" y="343"/>
                  </a:lnTo>
                  <a:lnTo>
                    <a:pt x="9" y="341"/>
                  </a:lnTo>
                  <a:lnTo>
                    <a:pt x="0" y="338"/>
                  </a:lnTo>
                  <a:lnTo>
                    <a:pt x="11" y="290"/>
                  </a:lnTo>
                  <a:lnTo>
                    <a:pt x="23" y="244"/>
                  </a:lnTo>
                  <a:lnTo>
                    <a:pt x="33" y="199"/>
                  </a:lnTo>
                  <a:lnTo>
                    <a:pt x="43" y="156"/>
                  </a:lnTo>
                  <a:lnTo>
                    <a:pt x="51" y="115"/>
                  </a:lnTo>
                  <a:lnTo>
                    <a:pt x="58" y="75"/>
                  </a:lnTo>
                  <a:lnTo>
                    <a:pt x="64" y="37"/>
                  </a:lnTo>
                  <a:lnTo>
                    <a:pt x="70" y="0"/>
                  </a:lnTo>
                  <a:lnTo>
                    <a:pt x="79" y="3"/>
                  </a:lnTo>
                  <a:lnTo>
                    <a:pt x="88" y="4"/>
                  </a:lnTo>
                  <a:lnTo>
                    <a:pt x="97" y="6"/>
                  </a:lnTo>
                  <a:lnTo>
                    <a:pt x="106" y="7"/>
                  </a:lnTo>
                  <a:lnTo>
                    <a:pt x="114" y="10"/>
                  </a:lnTo>
                  <a:lnTo>
                    <a:pt x="122" y="11"/>
                  </a:lnTo>
                  <a:lnTo>
                    <a:pt x="131" y="13"/>
                  </a:lnTo>
                  <a:lnTo>
                    <a:pt x="139" y="15"/>
                  </a:lnTo>
                  <a:lnTo>
                    <a:pt x="133" y="53"/>
                  </a:lnTo>
                  <a:lnTo>
                    <a:pt x="126" y="91"/>
                  </a:lnTo>
                  <a:lnTo>
                    <a:pt x="118" y="132"/>
                  </a:lnTo>
                  <a:lnTo>
                    <a:pt x="109" y="175"/>
                  </a:lnTo>
                  <a:lnTo>
                    <a:pt x="100" y="218"/>
                  </a:lnTo>
                  <a:lnTo>
                    <a:pt x="90" y="263"/>
                  </a:lnTo>
                  <a:lnTo>
                    <a:pt x="78" y="311"/>
                  </a:lnTo>
                  <a:lnTo>
                    <a:pt x="66" y="360"/>
                  </a:lnTo>
                  <a:close/>
                </a:path>
              </a:pathLst>
            </a:custGeom>
            <a:solidFill>
              <a:srgbClr val="1d1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272240" y="3878640"/>
              <a:ext cx="37440" cy="108360"/>
            </a:xfrm>
            <a:custGeom>
              <a:avLst/>
              <a:gdLst/>
              <a:ahLst/>
              <a:rect l="l" t="t" r="r" b="b"/>
              <a:pathLst>
                <a:path w="142" h="398">
                  <a:moveTo>
                    <a:pt x="0" y="22"/>
                  </a:moveTo>
                  <a:lnTo>
                    <a:pt x="8" y="19"/>
                  </a:lnTo>
                  <a:lnTo>
                    <a:pt x="16" y="15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9" y="7"/>
                  </a:lnTo>
                  <a:lnTo>
                    <a:pt x="48" y="5"/>
                  </a:lnTo>
                  <a:lnTo>
                    <a:pt x="57" y="2"/>
                  </a:lnTo>
                  <a:lnTo>
                    <a:pt x="66" y="0"/>
                  </a:lnTo>
                  <a:lnTo>
                    <a:pt x="72" y="38"/>
                  </a:lnTo>
                  <a:lnTo>
                    <a:pt x="79" y="76"/>
                  </a:lnTo>
                  <a:lnTo>
                    <a:pt x="87" y="117"/>
                  </a:lnTo>
                  <a:lnTo>
                    <a:pt x="95" y="158"/>
                  </a:lnTo>
                  <a:lnTo>
                    <a:pt x="106" y="202"/>
                  </a:lnTo>
                  <a:lnTo>
                    <a:pt x="116" y="247"/>
                  </a:lnTo>
                  <a:lnTo>
                    <a:pt x="129" y="294"/>
                  </a:lnTo>
                  <a:lnTo>
                    <a:pt x="142" y="342"/>
                  </a:lnTo>
                  <a:lnTo>
                    <a:pt x="131" y="346"/>
                  </a:lnTo>
                  <a:lnTo>
                    <a:pt x="122" y="352"/>
                  </a:lnTo>
                  <a:lnTo>
                    <a:pt x="113" y="358"/>
                  </a:lnTo>
                  <a:lnTo>
                    <a:pt x="106" y="365"/>
                  </a:lnTo>
                  <a:lnTo>
                    <a:pt x="99" y="372"/>
                  </a:lnTo>
                  <a:lnTo>
                    <a:pt x="94" y="380"/>
                  </a:lnTo>
                  <a:lnTo>
                    <a:pt x="89" y="388"/>
                  </a:lnTo>
                  <a:lnTo>
                    <a:pt x="86" y="398"/>
                  </a:lnTo>
                  <a:lnTo>
                    <a:pt x="71" y="345"/>
                  </a:lnTo>
                  <a:lnTo>
                    <a:pt x="58" y="294"/>
                  </a:lnTo>
                  <a:lnTo>
                    <a:pt x="45" y="245"/>
                  </a:lnTo>
                  <a:lnTo>
                    <a:pt x="34" y="198"/>
                  </a:lnTo>
                  <a:lnTo>
                    <a:pt x="24" y="151"/>
                  </a:lnTo>
                  <a:lnTo>
                    <a:pt x="16" y="107"/>
                  </a:lnTo>
                  <a:lnTo>
                    <a:pt x="8" y="6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222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302120" y="4007520"/>
              <a:ext cx="27000" cy="42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0" y="0"/>
                  </a:moveTo>
                  <a:lnTo>
                    <a:pt x="13" y="20"/>
                  </a:lnTo>
                  <a:lnTo>
                    <a:pt x="26" y="40"/>
                  </a:lnTo>
                  <a:lnTo>
                    <a:pt x="38" y="59"/>
                  </a:lnTo>
                  <a:lnTo>
                    <a:pt x="51" y="78"/>
                  </a:lnTo>
                  <a:lnTo>
                    <a:pt x="62" y="98"/>
                  </a:lnTo>
                  <a:lnTo>
                    <a:pt x="75" y="118"/>
                  </a:lnTo>
                  <a:lnTo>
                    <a:pt x="87" y="137"/>
                  </a:lnTo>
                  <a:lnTo>
                    <a:pt x="100" y="157"/>
                  </a:lnTo>
                  <a:lnTo>
                    <a:pt x="87" y="141"/>
                  </a:lnTo>
                  <a:lnTo>
                    <a:pt x="74" y="127"/>
                  </a:lnTo>
                  <a:lnTo>
                    <a:pt x="62" y="113"/>
                  </a:lnTo>
                  <a:lnTo>
                    <a:pt x="52" y="100"/>
                  </a:lnTo>
                  <a:lnTo>
                    <a:pt x="42" y="88"/>
                  </a:lnTo>
                  <a:lnTo>
                    <a:pt x="33" y="75"/>
                  </a:lnTo>
                  <a:lnTo>
                    <a:pt x="25" y="63"/>
                  </a:lnTo>
                  <a:lnTo>
                    <a:pt x="17" y="51"/>
                  </a:lnTo>
                  <a:lnTo>
                    <a:pt x="9" y="27"/>
                  </a:lnTo>
                  <a:lnTo>
                    <a:pt x="4" y="1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2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35000" y="3873240"/>
              <a:ext cx="37440" cy="93600"/>
            </a:xfrm>
            <a:custGeom>
              <a:avLst/>
              <a:gdLst/>
              <a:ahLst/>
              <a:rect l="l" t="t" r="r" b="b"/>
              <a:pathLst>
                <a:path w="138" h="348">
                  <a:moveTo>
                    <a:pt x="68" y="348"/>
                  </a:moveTo>
                  <a:lnTo>
                    <a:pt x="59" y="347"/>
                  </a:lnTo>
                  <a:lnTo>
                    <a:pt x="51" y="345"/>
                  </a:lnTo>
                  <a:lnTo>
                    <a:pt x="43" y="344"/>
                  </a:lnTo>
                  <a:lnTo>
                    <a:pt x="35" y="342"/>
                  </a:lnTo>
                  <a:lnTo>
                    <a:pt x="27" y="340"/>
                  </a:lnTo>
                  <a:lnTo>
                    <a:pt x="17" y="339"/>
                  </a:lnTo>
                  <a:lnTo>
                    <a:pt x="9" y="338"/>
                  </a:lnTo>
                  <a:lnTo>
                    <a:pt x="0" y="337"/>
                  </a:lnTo>
                  <a:lnTo>
                    <a:pt x="13" y="289"/>
                  </a:lnTo>
                  <a:lnTo>
                    <a:pt x="24" y="243"/>
                  </a:lnTo>
                  <a:lnTo>
                    <a:pt x="34" y="199"/>
                  </a:lnTo>
                  <a:lnTo>
                    <a:pt x="43" y="155"/>
                  </a:lnTo>
                  <a:lnTo>
                    <a:pt x="52" y="114"/>
                  </a:lnTo>
                  <a:lnTo>
                    <a:pt x="59" y="75"/>
                  </a:lnTo>
                  <a:lnTo>
                    <a:pt x="66" y="36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9" y="2"/>
                  </a:lnTo>
                  <a:lnTo>
                    <a:pt x="97" y="3"/>
                  </a:lnTo>
                  <a:lnTo>
                    <a:pt x="105" y="4"/>
                  </a:lnTo>
                  <a:lnTo>
                    <a:pt x="113" y="7"/>
                  </a:lnTo>
                  <a:lnTo>
                    <a:pt x="121" y="8"/>
                  </a:lnTo>
                  <a:lnTo>
                    <a:pt x="130" y="9"/>
                  </a:lnTo>
                  <a:lnTo>
                    <a:pt x="138" y="10"/>
                  </a:lnTo>
                  <a:lnTo>
                    <a:pt x="132" y="47"/>
                  </a:lnTo>
                  <a:lnTo>
                    <a:pt x="126" y="85"/>
                  </a:lnTo>
                  <a:lnTo>
                    <a:pt x="119" y="125"/>
                  </a:lnTo>
                  <a:lnTo>
                    <a:pt x="111" y="166"/>
                  </a:lnTo>
                  <a:lnTo>
                    <a:pt x="101" y="209"/>
                  </a:lnTo>
                  <a:lnTo>
                    <a:pt x="91" y="254"/>
                  </a:lnTo>
                  <a:lnTo>
                    <a:pt x="79" y="300"/>
                  </a:lnTo>
                  <a:lnTo>
                    <a:pt x="68" y="348"/>
                  </a:lnTo>
                  <a:close/>
                </a:path>
              </a:pathLst>
            </a:custGeom>
            <a:solidFill>
              <a:srgbClr val="222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289880" y="3874320"/>
              <a:ext cx="37440" cy="97920"/>
            </a:xfrm>
            <a:custGeom>
              <a:avLst/>
              <a:gdLst/>
              <a:ahLst/>
              <a:rect l="l" t="t" r="r" b="b"/>
              <a:pathLst>
                <a:path w="140" h="356">
                  <a:moveTo>
                    <a:pt x="0" y="14"/>
                  </a:moveTo>
                  <a:lnTo>
                    <a:pt x="7" y="12"/>
                  </a:lnTo>
                  <a:lnTo>
                    <a:pt x="15" y="9"/>
                  </a:lnTo>
                  <a:lnTo>
                    <a:pt x="23" y="8"/>
                  </a:lnTo>
                  <a:lnTo>
                    <a:pt x="32" y="6"/>
                  </a:lnTo>
                  <a:lnTo>
                    <a:pt x="40" y="5"/>
                  </a:lnTo>
                  <a:lnTo>
                    <a:pt x="48" y="2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1" y="38"/>
                  </a:lnTo>
                  <a:lnTo>
                    <a:pt x="78" y="76"/>
                  </a:lnTo>
                  <a:lnTo>
                    <a:pt x="86" y="116"/>
                  </a:lnTo>
                  <a:lnTo>
                    <a:pt x="95" y="157"/>
                  </a:lnTo>
                  <a:lnTo>
                    <a:pt x="105" y="199"/>
                  </a:lnTo>
                  <a:lnTo>
                    <a:pt x="116" y="243"/>
                  </a:lnTo>
                  <a:lnTo>
                    <a:pt x="127" y="289"/>
                  </a:lnTo>
                  <a:lnTo>
                    <a:pt x="140" y="337"/>
                  </a:lnTo>
                  <a:lnTo>
                    <a:pt x="131" y="339"/>
                  </a:lnTo>
                  <a:lnTo>
                    <a:pt x="123" y="340"/>
                  </a:lnTo>
                  <a:lnTo>
                    <a:pt x="115" y="343"/>
                  </a:lnTo>
                  <a:lnTo>
                    <a:pt x="106" y="345"/>
                  </a:lnTo>
                  <a:lnTo>
                    <a:pt x="98" y="347"/>
                  </a:lnTo>
                  <a:lnTo>
                    <a:pt x="90" y="350"/>
                  </a:lnTo>
                  <a:lnTo>
                    <a:pt x="83" y="352"/>
                  </a:lnTo>
                  <a:lnTo>
                    <a:pt x="76" y="356"/>
                  </a:lnTo>
                  <a:lnTo>
                    <a:pt x="63" y="308"/>
                  </a:lnTo>
                  <a:lnTo>
                    <a:pt x="50" y="261"/>
                  </a:lnTo>
                  <a:lnTo>
                    <a:pt x="40" y="216"/>
                  </a:lnTo>
                  <a:lnTo>
                    <a:pt x="29" y="172"/>
                  </a:lnTo>
                  <a:lnTo>
                    <a:pt x="21" y="131"/>
                  </a:lnTo>
                  <a:lnTo>
                    <a:pt x="13" y="90"/>
                  </a:lnTo>
                  <a:lnTo>
                    <a:pt x="6" y="5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2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817000" y="3868920"/>
              <a:ext cx="37800" cy="95040"/>
            </a:xfrm>
            <a:custGeom>
              <a:avLst/>
              <a:gdLst/>
              <a:ahLst/>
              <a:rect l="l" t="t" r="r" b="b"/>
              <a:pathLst>
                <a:path w="139" h="350">
                  <a:moveTo>
                    <a:pt x="67" y="350"/>
                  </a:moveTo>
                  <a:lnTo>
                    <a:pt x="59" y="348"/>
                  </a:lnTo>
                  <a:lnTo>
                    <a:pt x="50" y="347"/>
                  </a:lnTo>
                  <a:lnTo>
                    <a:pt x="42" y="346"/>
                  </a:lnTo>
                  <a:lnTo>
                    <a:pt x="34" y="345"/>
                  </a:lnTo>
                  <a:lnTo>
                    <a:pt x="25" y="344"/>
                  </a:lnTo>
                  <a:lnTo>
                    <a:pt x="16" y="343"/>
                  </a:lnTo>
                  <a:lnTo>
                    <a:pt x="8" y="341"/>
                  </a:lnTo>
                  <a:lnTo>
                    <a:pt x="0" y="340"/>
                  </a:lnTo>
                  <a:lnTo>
                    <a:pt x="13" y="292"/>
                  </a:lnTo>
                  <a:lnTo>
                    <a:pt x="25" y="245"/>
                  </a:lnTo>
                  <a:lnTo>
                    <a:pt x="34" y="201"/>
                  </a:lnTo>
                  <a:lnTo>
                    <a:pt x="43" y="158"/>
                  </a:lnTo>
                  <a:lnTo>
                    <a:pt x="52" y="116"/>
                  </a:lnTo>
                  <a:lnTo>
                    <a:pt x="60" y="76"/>
                  </a:lnTo>
                  <a:lnTo>
                    <a:pt x="66" y="37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8" y="3"/>
                  </a:lnTo>
                  <a:lnTo>
                    <a:pt x="96" y="5"/>
                  </a:lnTo>
                  <a:lnTo>
                    <a:pt x="105" y="6"/>
                  </a:lnTo>
                  <a:lnTo>
                    <a:pt x="114" y="8"/>
                  </a:lnTo>
                  <a:lnTo>
                    <a:pt x="122" y="9"/>
                  </a:lnTo>
                  <a:lnTo>
                    <a:pt x="131" y="12"/>
                  </a:lnTo>
                  <a:lnTo>
                    <a:pt x="139" y="13"/>
                  </a:lnTo>
                  <a:lnTo>
                    <a:pt x="133" y="49"/>
                  </a:lnTo>
                  <a:lnTo>
                    <a:pt x="126" y="88"/>
                  </a:lnTo>
                  <a:lnTo>
                    <a:pt x="119" y="127"/>
                  </a:lnTo>
                  <a:lnTo>
                    <a:pt x="110" y="168"/>
                  </a:lnTo>
                  <a:lnTo>
                    <a:pt x="101" y="212"/>
                  </a:lnTo>
                  <a:lnTo>
                    <a:pt x="91" y="256"/>
                  </a:lnTo>
                  <a:lnTo>
                    <a:pt x="80" y="302"/>
                  </a:lnTo>
                  <a:lnTo>
                    <a:pt x="67" y="350"/>
                  </a:lnTo>
                  <a:close/>
                </a:path>
              </a:pathLst>
            </a:custGeom>
            <a:solidFill>
              <a:srgbClr val="272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07160" y="3871800"/>
              <a:ext cx="39240" cy="95040"/>
            </a:xfrm>
            <a:custGeom>
              <a:avLst/>
              <a:gdLst/>
              <a:ahLst/>
              <a:rect l="l" t="t" r="r" b="b"/>
              <a:pathLst>
                <a:path w="143" h="349">
                  <a:moveTo>
                    <a:pt x="0" y="12"/>
                  </a:moveTo>
                  <a:lnTo>
                    <a:pt x="9" y="11"/>
                  </a:lnTo>
                  <a:lnTo>
                    <a:pt x="17" y="10"/>
                  </a:lnTo>
                  <a:lnTo>
                    <a:pt x="26" y="7"/>
                  </a:lnTo>
                  <a:lnTo>
                    <a:pt x="34" y="6"/>
                  </a:lnTo>
                  <a:lnTo>
                    <a:pt x="43" y="5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4" y="38"/>
                  </a:lnTo>
                  <a:lnTo>
                    <a:pt x="81" y="76"/>
                  </a:lnTo>
                  <a:lnTo>
                    <a:pt x="88" y="116"/>
                  </a:lnTo>
                  <a:lnTo>
                    <a:pt x="97" y="157"/>
                  </a:lnTo>
                  <a:lnTo>
                    <a:pt x="107" y="200"/>
                  </a:lnTo>
                  <a:lnTo>
                    <a:pt x="119" y="245"/>
                  </a:lnTo>
                  <a:lnTo>
                    <a:pt x="130" y="290"/>
                  </a:lnTo>
                  <a:lnTo>
                    <a:pt x="143" y="338"/>
                  </a:lnTo>
                  <a:lnTo>
                    <a:pt x="135" y="340"/>
                  </a:lnTo>
                  <a:lnTo>
                    <a:pt x="126" y="341"/>
                  </a:lnTo>
                  <a:lnTo>
                    <a:pt x="117" y="342"/>
                  </a:lnTo>
                  <a:lnTo>
                    <a:pt x="108" y="343"/>
                  </a:lnTo>
                  <a:lnTo>
                    <a:pt x="100" y="344"/>
                  </a:lnTo>
                  <a:lnTo>
                    <a:pt x="92" y="345"/>
                  </a:lnTo>
                  <a:lnTo>
                    <a:pt x="83" y="348"/>
                  </a:lnTo>
                  <a:lnTo>
                    <a:pt x="75" y="349"/>
                  </a:lnTo>
                  <a:lnTo>
                    <a:pt x="62" y="301"/>
                  </a:lnTo>
                  <a:lnTo>
                    <a:pt x="51" y="255"/>
                  </a:lnTo>
                  <a:lnTo>
                    <a:pt x="40" y="211"/>
                  </a:lnTo>
                  <a:lnTo>
                    <a:pt x="30" y="169"/>
                  </a:lnTo>
                  <a:lnTo>
                    <a:pt x="21" y="128"/>
                  </a:lnTo>
                  <a:lnTo>
                    <a:pt x="13" y="88"/>
                  </a:lnTo>
                  <a:lnTo>
                    <a:pt x="6" y="5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c2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798640" y="3863520"/>
              <a:ext cx="37440" cy="97920"/>
            </a:xfrm>
            <a:custGeom>
              <a:avLst/>
              <a:gdLst/>
              <a:ahLst/>
              <a:rect l="l" t="t" r="r" b="b"/>
              <a:pathLst>
                <a:path w="139" h="359">
                  <a:moveTo>
                    <a:pt x="68" y="359"/>
                  </a:moveTo>
                  <a:lnTo>
                    <a:pt x="60" y="358"/>
                  </a:lnTo>
                  <a:lnTo>
                    <a:pt x="51" y="357"/>
                  </a:lnTo>
                  <a:lnTo>
                    <a:pt x="42" y="356"/>
                  </a:lnTo>
                  <a:lnTo>
                    <a:pt x="33" y="355"/>
                  </a:lnTo>
                  <a:lnTo>
                    <a:pt x="25" y="353"/>
                  </a:lnTo>
                  <a:lnTo>
                    <a:pt x="17" y="352"/>
                  </a:lnTo>
                  <a:lnTo>
                    <a:pt x="8" y="351"/>
                  </a:lnTo>
                  <a:lnTo>
                    <a:pt x="0" y="350"/>
                  </a:lnTo>
                  <a:lnTo>
                    <a:pt x="13" y="301"/>
                  </a:lnTo>
                  <a:lnTo>
                    <a:pt x="25" y="254"/>
                  </a:lnTo>
                  <a:lnTo>
                    <a:pt x="35" y="208"/>
                  </a:lnTo>
                  <a:lnTo>
                    <a:pt x="45" y="164"/>
                  </a:lnTo>
                  <a:lnTo>
                    <a:pt x="53" y="121"/>
                  </a:lnTo>
                  <a:lnTo>
                    <a:pt x="61" y="80"/>
                  </a:lnTo>
                  <a:lnTo>
                    <a:pt x="67" y="39"/>
                  </a:lnTo>
                  <a:lnTo>
                    <a:pt x="73" y="0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7" y="8"/>
                  </a:lnTo>
                  <a:lnTo>
                    <a:pt x="105" y="11"/>
                  </a:lnTo>
                  <a:lnTo>
                    <a:pt x="114" y="13"/>
                  </a:lnTo>
                  <a:lnTo>
                    <a:pt x="122" y="15"/>
                  </a:lnTo>
                  <a:lnTo>
                    <a:pt x="131" y="17"/>
                  </a:lnTo>
                  <a:lnTo>
                    <a:pt x="139" y="19"/>
                  </a:lnTo>
                  <a:lnTo>
                    <a:pt x="134" y="56"/>
                  </a:lnTo>
                  <a:lnTo>
                    <a:pt x="128" y="95"/>
                  </a:lnTo>
                  <a:lnTo>
                    <a:pt x="120" y="135"/>
                  </a:lnTo>
                  <a:lnTo>
                    <a:pt x="111" y="177"/>
                  </a:lnTo>
                  <a:lnTo>
                    <a:pt x="102" y="220"/>
                  </a:lnTo>
                  <a:lnTo>
                    <a:pt x="93" y="264"/>
                  </a:lnTo>
                  <a:lnTo>
                    <a:pt x="81" y="311"/>
                  </a:lnTo>
                  <a:lnTo>
                    <a:pt x="68" y="359"/>
                  </a:lnTo>
                  <a:close/>
                </a:path>
              </a:pathLst>
            </a:custGeom>
            <a:solidFill>
              <a:srgbClr val="2c2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818800" y="3788640"/>
              <a:ext cx="13320" cy="73440"/>
            </a:xfrm>
            <a:custGeom>
              <a:avLst/>
              <a:gdLst/>
              <a:ahLst/>
              <a:rect l="l" t="t" r="r" b="b"/>
              <a:pathLst>
                <a:path w="51" h="271">
                  <a:moveTo>
                    <a:pt x="0" y="271"/>
                  </a:moveTo>
                  <a:lnTo>
                    <a:pt x="21" y="222"/>
                  </a:lnTo>
                  <a:lnTo>
                    <a:pt x="36" y="179"/>
                  </a:lnTo>
                  <a:lnTo>
                    <a:pt x="47" y="139"/>
                  </a:lnTo>
                  <a:lnTo>
                    <a:pt x="51" y="104"/>
                  </a:lnTo>
                  <a:lnTo>
                    <a:pt x="51" y="72"/>
                  </a:lnTo>
                  <a:lnTo>
                    <a:pt x="48" y="44"/>
                  </a:lnTo>
                  <a:lnTo>
                    <a:pt x="40" y="21"/>
                  </a:lnTo>
                  <a:lnTo>
                    <a:pt x="27" y="0"/>
                  </a:lnTo>
                  <a:lnTo>
                    <a:pt x="23" y="63"/>
                  </a:lnTo>
                  <a:lnTo>
                    <a:pt x="17" y="129"/>
                  </a:lnTo>
                  <a:lnTo>
                    <a:pt x="10" y="198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2c2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326240" y="3868920"/>
              <a:ext cx="37440" cy="95040"/>
            </a:xfrm>
            <a:custGeom>
              <a:avLst/>
              <a:gdLst/>
              <a:ahLst/>
              <a:rect l="l" t="t" r="r" b="b"/>
              <a:pathLst>
                <a:path w="143" h="350">
                  <a:moveTo>
                    <a:pt x="0" y="12"/>
                  </a:moveTo>
                  <a:lnTo>
                    <a:pt x="8" y="11"/>
                  </a:lnTo>
                  <a:lnTo>
                    <a:pt x="17" y="10"/>
                  </a:lnTo>
                  <a:lnTo>
                    <a:pt x="25" y="8"/>
                  </a:lnTo>
                  <a:lnTo>
                    <a:pt x="34" y="7"/>
                  </a:lnTo>
                  <a:lnTo>
                    <a:pt x="42" y="4"/>
                  </a:lnTo>
                  <a:lnTo>
                    <a:pt x="51" y="3"/>
                  </a:lnTo>
                  <a:lnTo>
                    <a:pt x="59" y="1"/>
                  </a:lnTo>
                  <a:lnTo>
                    <a:pt x="67" y="0"/>
                  </a:lnTo>
                  <a:lnTo>
                    <a:pt x="73" y="37"/>
                  </a:lnTo>
                  <a:lnTo>
                    <a:pt x="80" y="77"/>
                  </a:lnTo>
                  <a:lnTo>
                    <a:pt x="88" y="116"/>
                  </a:lnTo>
                  <a:lnTo>
                    <a:pt x="96" y="159"/>
                  </a:lnTo>
                  <a:lnTo>
                    <a:pt x="107" y="202"/>
                  </a:lnTo>
                  <a:lnTo>
                    <a:pt x="117" y="246"/>
                  </a:lnTo>
                  <a:lnTo>
                    <a:pt x="130" y="293"/>
                  </a:lnTo>
                  <a:lnTo>
                    <a:pt x="143" y="341"/>
                  </a:lnTo>
                  <a:lnTo>
                    <a:pt x="135" y="342"/>
                  </a:lnTo>
                  <a:lnTo>
                    <a:pt x="125" y="343"/>
                  </a:lnTo>
                  <a:lnTo>
                    <a:pt x="117" y="345"/>
                  </a:lnTo>
                  <a:lnTo>
                    <a:pt x="109" y="346"/>
                  </a:lnTo>
                  <a:lnTo>
                    <a:pt x="100" y="347"/>
                  </a:lnTo>
                  <a:lnTo>
                    <a:pt x="91" y="348"/>
                  </a:lnTo>
                  <a:lnTo>
                    <a:pt x="83" y="349"/>
                  </a:lnTo>
                  <a:lnTo>
                    <a:pt x="75" y="350"/>
                  </a:lnTo>
                  <a:lnTo>
                    <a:pt x="62" y="302"/>
                  </a:lnTo>
                  <a:lnTo>
                    <a:pt x="51" y="257"/>
                  </a:lnTo>
                  <a:lnTo>
                    <a:pt x="39" y="212"/>
                  </a:lnTo>
                  <a:lnTo>
                    <a:pt x="29" y="169"/>
                  </a:lnTo>
                  <a:lnTo>
                    <a:pt x="20" y="128"/>
                  </a:lnTo>
                  <a:lnTo>
                    <a:pt x="13" y="88"/>
                  </a:lnTo>
                  <a:lnTo>
                    <a:pt x="6" y="5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13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783520" y="3774960"/>
              <a:ext cx="41760" cy="183960"/>
            </a:xfrm>
            <a:custGeom>
              <a:avLst/>
              <a:gdLst/>
              <a:ahLst/>
              <a:rect l="l" t="t" r="r" b="b"/>
              <a:pathLst>
                <a:path w="158" h="675">
                  <a:moveTo>
                    <a:pt x="57" y="675"/>
                  </a:moveTo>
                  <a:lnTo>
                    <a:pt x="50" y="674"/>
                  </a:lnTo>
                  <a:lnTo>
                    <a:pt x="42" y="673"/>
                  </a:lnTo>
                  <a:lnTo>
                    <a:pt x="35" y="670"/>
                  </a:lnTo>
                  <a:lnTo>
                    <a:pt x="28" y="669"/>
                  </a:lnTo>
                  <a:lnTo>
                    <a:pt x="21" y="667"/>
                  </a:lnTo>
                  <a:lnTo>
                    <a:pt x="14" y="665"/>
                  </a:lnTo>
                  <a:lnTo>
                    <a:pt x="7" y="663"/>
                  </a:lnTo>
                  <a:lnTo>
                    <a:pt x="0" y="662"/>
                  </a:lnTo>
                  <a:lnTo>
                    <a:pt x="18" y="629"/>
                  </a:lnTo>
                  <a:lnTo>
                    <a:pt x="32" y="600"/>
                  </a:lnTo>
                  <a:lnTo>
                    <a:pt x="42" y="573"/>
                  </a:lnTo>
                  <a:lnTo>
                    <a:pt x="48" y="547"/>
                  </a:lnTo>
                  <a:lnTo>
                    <a:pt x="50" y="525"/>
                  </a:lnTo>
                  <a:lnTo>
                    <a:pt x="49" y="505"/>
                  </a:lnTo>
                  <a:lnTo>
                    <a:pt x="46" y="488"/>
                  </a:lnTo>
                  <a:lnTo>
                    <a:pt x="37" y="473"/>
                  </a:lnTo>
                  <a:lnTo>
                    <a:pt x="49" y="409"/>
                  </a:lnTo>
                  <a:lnTo>
                    <a:pt x="60" y="349"/>
                  </a:lnTo>
                  <a:lnTo>
                    <a:pt x="68" y="288"/>
                  </a:lnTo>
                  <a:lnTo>
                    <a:pt x="75" y="229"/>
                  </a:lnTo>
                  <a:lnTo>
                    <a:pt x="81" y="171"/>
                  </a:lnTo>
                  <a:lnTo>
                    <a:pt x="85" y="113"/>
                  </a:lnTo>
                  <a:lnTo>
                    <a:pt x="89" y="56"/>
                  </a:lnTo>
                  <a:lnTo>
                    <a:pt x="90" y="0"/>
                  </a:lnTo>
                  <a:lnTo>
                    <a:pt x="101" y="5"/>
                  </a:lnTo>
                  <a:lnTo>
                    <a:pt x="111" y="9"/>
                  </a:lnTo>
                  <a:lnTo>
                    <a:pt x="120" y="14"/>
                  </a:lnTo>
                  <a:lnTo>
                    <a:pt x="129" y="20"/>
                  </a:lnTo>
                  <a:lnTo>
                    <a:pt x="137" y="26"/>
                  </a:lnTo>
                  <a:lnTo>
                    <a:pt x="145" y="33"/>
                  </a:lnTo>
                  <a:lnTo>
                    <a:pt x="152" y="40"/>
                  </a:lnTo>
                  <a:lnTo>
                    <a:pt x="158" y="48"/>
                  </a:lnTo>
                  <a:lnTo>
                    <a:pt x="154" y="111"/>
                  </a:lnTo>
                  <a:lnTo>
                    <a:pt x="148" y="177"/>
                  </a:lnTo>
                  <a:lnTo>
                    <a:pt x="141" y="246"/>
                  </a:lnTo>
                  <a:lnTo>
                    <a:pt x="131" y="319"/>
                  </a:lnTo>
                  <a:lnTo>
                    <a:pt x="131" y="320"/>
                  </a:lnTo>
                  <a:lnTo>
                    <a:pt x="130" y="322"/>
                  </a:lnTo>
                  <a:lnTo>
                    <a:pt x="130" y="324"/>
                  </a:lnTo>
                  <a:lnTo>
                    <a:pt x="129" y="325"/>
                  </a:lnTo>
                  <a:lnTo>
                    <a:pt x="129" y="325"/>
                  </a:lnTo>
                  <a:lnTo>
                    <a:pt x="130" y="325"/>
                  </a:lnTo>
                  <a:lnTo>
                    <a:pt x="130" y="325"/>
                  </a:lnTo>
                  <a:lnTo>
                    <a:pt x="130" y="325"/>
                  </a:lnTo>
                  <a:lnTo>
                    <a:pt x="124" y="364"/>
                  </a:lnTo>
                  <a:lnTo>
                    <a:pt x="118" y="405"/>
                  </a:lnTo>
                  <a:lnTo>
                    <a:pt x="110" y="446"/>
                  </a:lnTo>
                  <a:lnTo>
                    <a:pt x="102" y="489"/>
                  </a:lnTo>
                  <a:lnTo>
                    <a:pt x="92" y="533"/>
                  </a:lnTo>
                  <a:lnTo>
                    <a:pt x="82" y="579"/>
                  </a:lnTo>
                  <a:lnTo>
                    <a:pt x="70" y="626"/>
                  </a:lnTo>
                  <a:lnTo>
                    <a:pt x="57" y="675"/>
                  </a:lnTo>
                  <a:close/>
                </a:path>
              </a:pathLst>
            </a:custGeom>
            <a:solidFill>
              <a:srgbClr val="313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343880" y="3786120"/>
              <a:ext cx="39240" cy="175320"/>
            </a:xfrm>
            <a:custGeom>
              <a:avLst/>
              <a:gdLst/>
              <a:ahLst/>
              <a:rect l="l" t="t" r="r" b="b"/>
              <a:pathLst>
                <a:path w="145" h="646">
                  <a:moveTo>
                    <a:pt x="0" y="305"/>
                  </a:moveTo>
                  <a:lnTo>
                    <a:pt x="8" y="302"/>
                  </a:lnTo>
                  <a:lnTo>
                    <a:pt x="15" y="301"/>
                  </a:lnTo>
                  <a:lnTo>
                    <a:pt x="23" y="299"/>
                  </a:lnTo>
                  <a:lnTo>
                    <a:pt x="31" y="296"/>
                  </a:lnTo>
                  <a:lnTo>
                    <a:pt x="39" y="294"/>
                  </a:lnTo>
                  <a:lnTo>
                    <a:pt x="47" y="292"/>
                  </a:lnTo>
                  <a:lnTo>
                    <a:pt x="54" y="289"/>
                  </a:lnTo>
                  <a:lnTo>
                    <a:pt x="61" y="287"/>
                  </a:lnTo>
                  <a:lnTo>
                    <a:pt x="37" y="234"/>
                  </a:lnTo>
                  <a:lnTo>
                    <a:pt x="21" y="186"/>
                  </a:lnTo>
                  <a:lnTo>
                    <a:pt x="10" y="144"/>
                  </a:lnTo>
                  <a:lnTo>
                    <a:pt x="6" y="107"/>
                  </a:lnTo>
                  <a:lnTo>
                    <a:pt x="7" y="74"/>
                  </a:lnTo>
                  <a:lnTo>
                    <a:pt x="13" y="46"/>
                  </a:lnTo>
                  <a:lnTo>
                    <a:pt x="24" y="22"/>
                  </a:lnTo>
                  <a:lnTo>
                    <a:pt x="40" y="0"/>
                  </a:lnTo>
                  <a:lnTo>
                    <a:pt x="43" y="78"/>
                  </a:lnTo>
                  <a:lnTo>
                    <a:pt x="50" y="155"/>
                  </a:lnTo>
                  <a:lnTo>
                    <a:pt x="60" y="233"/>
                  </a:lnTo>
                  <a:lnTo>
                    <a:pt x="71" y="312"/>
                  </a:lnTo>
                  <a:lnTo>
                    <a:pt x="85" y="391"/>
                  </a:lnTo>
                  <a:lnTo>
                    <a:pt x="103" y="472"/>
                  </a:lnTo>
                  <a:lnTo>
                    <a:pt x="123" y="554"/>
                  </a:lnTo>
                  <a:lnTo>
                    <a:pt x="145" y="636"/>
                  </a:lnTo>
                  <a:lnTo>
                    <a:pt x="137" y="637"/>
                  </a:lnTo>
                  <a:lnTo>
                    <a:pt x="129" y="638"/>
                  </a:lnTo>
                  <a:lnTo>
                    <a:pt x="119" y="639"/>
                  </a:lnTo>
                  <a:lnTo>
                    <a:pt x="111" y="640"/>
                  </a:lnTo>
                  <a:lnTo>
                    <a:pt x="102" y="643"/>
                  </a:lnTo>
                  <a:lnTo>
                    <a:pt x="93" y="644"/>
                  </a:lnTo>
                  <a:lnTo>
                    <a:pt x="84" y="645"/>
                  </a:lnTo>
                  <a:lnTo>
                    <a:pt x="76" y="646"/>
                  </a:lnTo>
                  <a:lnTo>
                    <a:pt x="63" y="598"/>
                  </a:lnTo>
                  <a:lnTo>
                    <a:pt x="50" y="551"/>
                  </a:lnTo>
                  <a:lnTo>
                    <a:pt x="40" y="507"/>
                  </a:lnTo>
                  <a:lnTo>
                    <a:pt x="29" y="464"/>
                  </a:lnTo>
                  <a:lnTo>
                    <a:pt x="21" y="421"/>
                  </a:lnTo>
                  <a:lnTo>
                    <a:pt x="13" y="382"/>
                  </a:lnTo>
                  <a:lnTo>
                    <a:pt x="6" y="342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36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776680" y="3769560"/>
              <a:ext cx="30960" cy="134280"/>
            </a:xfrm>
            <a:custGeom>
              <a:avLst/>
              <a:gdLst/>
              <a:ahLst/>
              <a:rect l="l" t="t" r="r" b="b"/>
              <a:pathLst>
                <a:path w="115" h="492">
                  <a:moveTo>
                    <a:pt x="62" y="492"/>
                  </a:moveTo>
                  <a:lnTo>
                    <a:pt x="58" y="483"/>
                  </a:lnTo>
                  <a:lnTo>
                    <a:pt x="52" y="476"/>
                  </a:lnTo>
                  <a:lnTo>
                    <a:pt x="45" y="470"/>
                  </a:lnTo>
                  <a:lnTo>
                    <a:pt x="38" y="465"/>
                  </a:lnTo>
                  <a:lnTo>
                    <a:pt x="30" y="459"/>
                  </a:lnTo>
                  <a:lnTo>
                    <a:pt x="20" y="454"/>
                  </a:lnTo>
                  <a:lnTo>
                    <a:pt x="11" y="449"/>
                  </a:lnTo>
                  <a:lnTo>
                    <a:pt x="0" y="445"/>
                  </a:lnTo>
                  <a:lnTo>
                    <a:pt x="11" y="386"/>
                  </a:lnTo>
                  <a:lnTo>
                    <a:pt x="20" y="329"/>
                  </a:lnTo>
                  <a:lnTo>
                    <a:pt x="27" y="273"/>
                  </a:lnTo>
                  <a:lnTo>
                    <a:pt x="34" y="217"/>
                  </a:lnTo>
                  <a:lnTo>
                    <a:pt x="39" y="162"/>
                  </a:lnTo>
                  <a:lnTo>
                    <a:pt x="43" y="108"/>
                  </a:lnTo>
                  <a:lnTo>
                    <a:pt x="46" y="54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6" y="4"/>
                  </a:lnTo>
                  <a:lnTo>
                    <a:pt x="75" y="6"/>
                  </a:lnTo>
                  <a:lnTo>
                    <a:pt x="83" y="9"/>
                  </a:lnTo>
                  <a:lnTo>
                    <a:pt x="92" y="11"/>
                  </a:lnTo>
                  <a:lnTo>
                    <a:pt x="100" y="13"/>
                  </a:lnTo>
                  <a:lnTo>
                    <a:pt x="108" y="16"/>
                  </a:lnTo>
                  <a:lnTo>
                    <a:pt x="115" y="19"/>
                  </a:lnTo>
                  <a:lnTo>
                    <a:pt x="114" y="75"/>
                  </a:lnTo>
                  <a:lnTo>
                    <a:pt x="110" y="132"/>
                  </a:lnTo>
                  <a:lnTo>
                    <a:pt x="106" y="190"/>
                  </a:lnTo>
                  <a:lnTo>
                    <a:pt x="100" y="248"/>
                  </a:lnTo>
                  <a:lnTo>
                    <a:pt x="93" y="307"/>
                  </a:lnTo>
                  <a:lnTo>
                    <a:pt x="85" y="368"/>
                  </a:lnTo>
                  <a:lnTo>
                    <a:pt x="74" y="428"/>
                  </a:lnTo>
                  <a:lnTo>
                    <a:pt x="62" y="492"/>
                  </a:lnTo>
                  <a:close/>
                </a:path>
              </a:pathLst>
            </a:custGeom>
            <a:solidFill>
              <a:srgbClr val="36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354680" y="3774960"/>
              <a:ext cx="40320" cy="183960"/>
            </a:xfrm>
            <a:custGeom>
              <a:avLst/>
              <a:gdLst/>
              <a:ahLst/>
              <a:rect l="l" t="t" r="r" b="b"/>
              <a:pathLst>
                <a:path w="152" h="676">
                  <a:moveTo>
                    <a:pt x="0" y="40"/>
                  </a:moveTo>
                  <a:lnTo>
                    <a:pt x="6" y="33"/>
                  </a:lnTo>
                  <a:lnTo>
                    <a:pt x="13" y="28"/>
                  </a:lnTo>
                  <a:lnTo>
                    <a:pt x="21" y="22"/>
                  </a:lnTo>
                  <a:lnTo>
                    <a:pt x="29" y="16"/>
                  </a:lnTo>
                  <a:lnTo>
                    <a:pt x="37" y="11"/>
                  </a:lnTo>
                  <a:lnTo>
                    <a:pt x="46" y="8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7" y="54"/>
                  </a:lnTo>
                  <a:lnTo>
                    <a:pt x="71" y="111"/>
                  </a:lnTo>
                  <a:lnTo>
                    <a:pt x="76" y="167"/>
                  </a:lnTo>
                  <a:lnTo>
                    <a:pt x="82" y="224"/>
                  </a:lnTo>
                  <a:lnTo>
                    <a:pt x="89" y="283"/>
                  </a:lnTo>
                  <a:lnTo>
                    <a:pt x="98" y="341"/>
                  </a:lnTo>
                  <a:lnTo>
                    <a:pt x="108" y="402"/>
                  </a:lnTo>
                  <a:lnTo>
                    <a:pt x="120" y="463"/>
                  </a:lnTo>
                  <a:lnTo>
                    <a:pt x="110" y="479"/>
                  </a:lnTo>
                  <a:lnTo>
                    <a:pt x="103" y="497"/>
                  </a:lnTo>
                  <a:lnTo>
                    <a:pt x="99" y="518"/>
                  </a:lnTo>
                  <a:lnTo>
                    <a:pt x="100" y="541"/>
                  </a:lnTo>
                  <a:lnTo>
                    <a:pt x="106" y="567"/>
                  </a:lnTo>
                  <a:lnTo>
                    <a:pt x="117" y="596"/>
                  </a:lnTo>
                  <a:lnTo>
                    <a:pt x="132" y="629"/>
                  </a:lnTo>
                  <a:lnTo>
                    <a:pt x="152" y="665"/>
                  </a:lnTo>
                  <a:lnTo>
                    <a:pt x="146" y="666"/>
                  </a:lnTo>
                  <a:lnTo>
                    <a:pt x="140" y="667"/>
                  </a:lnTo>
                  <a:lnTo>
                    <a:pt x="134" y="668"/>
                  </a:lnTo>
                  <a:lnTo>
                    <a:pt x="128" y="670"/>
                  </a:lnTo>
                  <a:lnTo>
                    <a:pt x="122" y="672"/>
                  </a:lnTo>
                  <a:lnTo>
                    <a:pt x="117" y="673"/>
                  </a:lnTo>
                  <a:lnTo>
                    <a:pt x="111" y="674"/>
                  </a:lnTo>
                  <a:lnTo>
                    <a:pt x="105" y="676"/>
                  </a:lnTo>
                  <a:lnTo>
                    <a:pt x="83" y="594"/>
                  </a:lnTo>
                  <a:lnTo>
                    <a:pt x="63" y="512"/>
                  </a:lnTo>
                  <a:lnTo>
                    <a:pt x="45" y="431"/>
                  </a:lnTo>
                  <a:lnTo>
                    <a:pt x="31" y="352"/>
                  </a:lnTo>
                  <a:lnTo>
                    <a:pt x="20" y="273"/>
                  </a:lnTo>
                  <a:lnTo>
                    <a:pt x="10" y="195"/>
                  </a:lnTo>
                  <a:lnTo>
                    <a:pt x="3" y="118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b3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759040" y="3768120"/>
              <a:ext cx="29520" cy="122400"/>
            </a:xfrm>
            <a:custGeom>
              <a:avLst/>
              <a:gdLst/>
              <a:ahLst/>
              <a:rect l="l" t="t" r="r" b="b"/>
              <a:pathLst>
                <a:path w="113" h="452">
                  <a:moveTo>
                    <a:pt x="66" y="452"/>
                  </a:moveTo>
                  <a:lnTo>
                    <a:pt x="59" y="449"/>
                  </a:lnTo>
                  <a:lnTo>
                    <a:pt x="51" y="447"/>
                  </a:lnTo>
                  <a:lnTo>
                    <a:pt x="44" y="445"/>
                  </a:lnTo>
                  <a:lnTo>
                    <a:pt x="36" y="442"/>
                  </a:lnTo>
                  <a:lnTo>
                    <a:pt x="27" y="441"/>
                  </a:lnTo>
                  <a:lnTo>
                    <a:pt x="18" y="439"/>
                  </a:lnTo>
                  <a:lnTo>
                    <a:pt x="9" y="438"/>
                  </a:lnTo>
                  <a:lnTo>
                    <a:pt x="0" y="437"/>
                  </a:lnTo>
                  <a:lnTo>
                    <a:pt x="10" y="379"/>
                  </a:lnTo>
                  <a:lnTo>
                    <a:pt x="18" y="322"/>
                  </a:lnTo>
                  <a:lnTo>
                    <a:pt x="27" y="267"/>
                  </a:lnTo>
                  <a:lnTo>
                    <a:pt x="33" y="212"/>
                  </a:lnTo>
                  <a:lnTo>
                    <a:pt x="37" y="158"/>
                  </a:lnTo>
                  <a:lnTo>
                    <a:pt x="42" y="106"/>
                  </a:lnTo>
                  <a:lnTo>
                    <a:pt x="44" y="53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3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7" y="5"/>
                  </a:lnTo>
                  <a:lnTo>
                    <a:pt x="105" y="6"/>
                  </a:lnTo>
                  <a:lnTo>
                    <a:pt x="113" y="7"/>
                  </a:lnTo>
                  <a:lnTo>
                    <a:pt x="112" y="61"/>
                  </a:lnTo>
                  <a:lnTo>
                    <a:pt x="109" y="115"/>
                  </a:lnTo>
                  <a:lnTo>
                    <a:pt x="105" y="169"/>
                  </a:lnTo>
                  <a:lnTo>
                    <a:pt x="100" y="224"/>
                  </a:lnTo>
                  <a:lnTo>
                    <a:pt x="93" y="280"/>
                  </a:lnTo>
                  <a:lnTo>
                    <a:pt x="86" y="336"/>
                  </a:lnTo>
                  <a:lnTo>
                    <a:pt x="77" y="393"/>
                  </a:lnTo>
                  <a:lnTo>
                    <a:pt x="66" y="452"/>
                  </a:lnTo>
                  <a:close/>
                </a:path>
              </a:pathLst>
            </a:custGeom>
            <a:solidFill>
              <a:srgbClr val="3b3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372320" y="3769560"/>
              <a:ext cx="30960" cy="130320"/>
            </a:xfrm>
            <a:custGeom>
              <a:avLst/>
              <a:gdLst/>
              <a:ahLst/>
              <a:rect l="l" t="t" r="r" b="b"/>
              <a:pathLst>
                <a:path w="116" h="480">
                  <a:moveTo>
                    <a:pt x="0" y="17"/>
                  </a:moveTo>
                  <a:lnTo>
                    <a:pt x="7" y="14"/>
                  </a:lnTo>
                  <a:lnTo>
                    <a:pt x="16" y="12"/>
                  </a:lnTo>
                  <a:lnTo>
                    <a:pt x="24" y="10"/>
                  </a:lnTo>
                  <a:lnTo>
                    <a:pt x="32" y="7"/>
                  </a:lnTo>
                  <a:lnTo>
                    <a:pt x="40" y="5"/>
                  </a:lnTo>
                  <a:lnTo>
                    <a:pt x="49" y="4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68" y="53"/>
                  </a:lnTo>
                  <a:lnTo>
                    <a:pt x="72" y="107"/>
                  </a:lnTo>
                  <a:lnTo>
                    <a:pt x="75" y="160"/>
                  </a:lnTo>
                  <a:lnTo>
                    <a:pt x="81" y="215"/>
                  </a:lnTo>
                  <a:lnTo>
                    <a:pt x="88" y="270"/>
                  </a:lnTo>
                  <a:lnTo>
                    <a:pt x="96" y="326"/>
                  </a:lnTo>
                  <a:lnTo>
                    <a:pt x="106" y="384"/>
                  </a:lnTo>
                  <a:lnTo>
                    <a:pt x="116" y="442"/>
                  </a:lnTo>
                  <a:lnTo>
                    <a:pt x="107" y="446"/>
                  </a:lnTo>
                  <a:lnTo>
                    <a:pt x="97" y="449"/>
                  </a:lnTo>
                  <a:lnTo>
                    <a:pt x="88" y="454"/>
                  </a:lnTo>
                  <a:lnTo>
                    <a:pt x="80" y="459"/>
                  </a:lnTo>
                  <a:lnTo>
                    <a:pt x="73" y="463"/>
                  </a:lnTo>
                  <a:lnTo>
                    <a:pt x="66" y="468"/>
                  </a:lnTo>
                  <a:lnTo>
                    <a:pt x="60" y="474"/>
                  </a:lnTo>
                  <a:lnTo>
                    <a:pt x="54" y="480"/>
                  </a:lnTo>
                  <a:lnTo>
                    <a:pt x="42" y="419"/>
                  </a:lnTo>
                  <a:lnTo>
                    <a:pt x="32" y="358"/>
                  </a:lnTo>
                  <a:lnTo>
                    <a:pt x="23" y="300"/>
                  </a:lnTo>
                  <a:lnTo>
                    <a:pt x="16" y="241"/>
                  </a:lnTo>
                  <a:lnTo>
                    <a:pt x="10" y="184"/>
                  </a:lnTo>
                  <a:lnTo>
                    <a:pt x="5" y="128"/>
                  </a:lnTo>
                  <a:lnTo>
                    <a:pt x="1" y="7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740320" y="3768120"/>
              <a:ext cx="30960" cy="118440"/>
            </a:xfrm>
            <a:custGeom>
              <a:avLst/>
              <a:gdLst/>
              <a:ahLst/>
              <a:rect l="l" t="t" r="r" b="b"/>
              <a:pathLst>
                <a:path w="113" h="438">
                  <a:moveTo>
                    <a:pt x="68" y="438"/>
                  </a:moveTo>
                  <a:lnTo>
                    <a:pt x="60" y="436"/>
                  </a:lnTo>
                  <a:lnTo>
                    <a:pt x="51" y="435"/>
                  </a:lnTo>
                  <a:lnTo>
                    <a:pt x="43" y="434"/>
                  </a:lnTo>
                  <a:lnTo>
                    <a:pt x="35" y="433"/>
                  </a:lnTo>
                  <a:lnTo>
                    <a:pt x="27" y="433"/>
                  </a:lnTo>
                  <a:lnTo>
                    <a:pt x="17" y="432"/>
                  </a:lnTo>
                  <a:lnTo>
                    <a:pt x="9" y="431"/>
                  </a:lnTo>
                  <a:lnTo>
                    <a:pt x="0" y="431"/>
                  </a:lnTo>
                  <a:lnTo>
                    <a:pt x="10" y="373"/>
                  </a:lnTo>
                  <a:lnTo>
                    <a:pt x="19" y="318"/>
                  </a:lnTo>
                  <a:lnTo>
                    <a:pt x="27" y="263"/>
                  </a:lnTo>
                  <a:lnTo>
                    <a:pt x="33" y="209"/>
                  </a:lnTo>
                  <a:lnTo>
                    <a:pt x="37" y="157"/>
                  </a:lnTo>
                  <a:lnTo>
                    <a:pt x="42" y="104"/>
                  </a:lnTo>
                  <a:lnTo>
                    <a:pt x="44" y="5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12" y="54"/>
                  </a:lnTo>
                  <a:lnTo>
                    <a:pt x="110" y="107"/>
                  </a:lnTo>
                  <a:lnTo>
                    <a:pt x="105" y="159"/>
                  </a:lnTo>
                  <a:lnTo>
                    <a:pt x="101" y="213"/>
                  </a:lnTo>
                  <a:lnTo>
                    <a:pt x="95" y="268"/>
                  </a:lnTo>
                  <a:lnTo>
                    <a:pt x="86" y="323"/>
                  </a:lnTo>
                  <a:lnTo>
                    <a:pt x="78" y="380"/>
                  </a:lnTo>
                  <a:lnTo>
                    <a:pt x="68" y="43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391400" y="3768120"/>
              <a:ext cx="30960" cy="122400"/>
            </a:xfrm>
            <a:custGeom>
              <a:avLst/>
              <a:gdLst/>
              <a:ahLst/>
              <a:rect l="l" t="t" r="r" b="b"/>
              <a:pathLst>
                <a:path w="116" h="448">
                  <a:moveTo>
                    <a:pt x="0" y="6"/>
                  </a:moveTo>
                  <a:lnTo>
                    <a:pt x="8" y="5"/>
                  </a:lnTo>
                  <a:lnTo>
                    <a:pt x="16" y="5"/>
                  </a:lnTo>
                  <a:lnTo>
                    <a:pt x="25" y="4"/>
                  </a:lnTo>
                  <a:lnTo>
                    <a:pt x="33" y="3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69" y="53"/>
                  </a:lnTo>
                  <a:lnTo>
                    <a:pt x="72" y="106"/>
                  </a:lnTo>
                  <a:lnTo>
                    <a:pt x="76" y="158"/>
                  </a:lnTo>
                  <a:lnTo>
                    <a:pt x="82" y="212"/>
                  </a:lnTo>
                  <a:lnTo>
                    <a:pt x="88" y="266"/>
                  </a:lnTo>
                  <a:lnTo>
                    <a:pt x="96" y="321"/>
                  </a:lnTo>
                  <a:lnTo>
                    <a:pt x="105" y="377"/>
                  </a:lnTo>
                  <a:lnTo>
                    <a:pt x="116" y="434"/>
                  </a:lnTo>
                  <a:lnTo>
                    <a:pt x="106" y="435"/>
                  </a:lnTo>
                  <a:lnTo>
                    <a:pt x="97" y="437"/>
                  </a:lnTo>
                  <a:lnTo>
                    <a:pt x="89" y="439"/>
                  </a:lnTo>
                  <a:lnTo>
                    <a:pt x="81" y="440"/>
                  </a:lnTo>
                  <a:lnTo>
                    <a:pt x="72" y="442"/>
                  </a:lnTo>
                  <a:lnTo>
                    <a:pt x="64" y="444"/>
                  </a:lnTo>
                  <a:lnTo>
                    <a:pt x="56" y="446"/>
                  </a:lnTo>
                  <a:lnTo>
                    <a:pt x="49" y="448"/>
                  </a:lnTo>
                  <a:lnTo>
                    <a:pt x="39" y="390"/>
                  </a:lnTo>
                  <a:lnTo>
                    <a:pt x="29" y="332"/>
                  </a:lnTo>
                  <a:lnTo>
                    <a:pt x="21" y="276"/>
                  </a:lnTo>
                  <a:lnTo>
                    <a:pt x="14" y="221"/>
                  </a:lnTo>
                  <a:lnTo>
                    <a:pt x="8" y="166"/>
                  </a:lnTo>
                  <a:lnTo>
                    <a:pt x="5" y="113"/>
                  </a:lnTo>
                  <a:lnTo>
                    <a:pt x="1" y="5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5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721240" y="3768120"/>
              <a:ext cx="30960" cy="117000"/>
            </a:xfrm>
            <a:custGeom>
              <a:avLst/>
              <a:gdLst/>
              <a:ahLst/>
              <a:rect l="l" t="t" r="r" b="b"/>
              <a:pathLst>
                <a:path w="115" h="431">
                  <a:moveTo>
                    <a:pt x="69" y="431"/>
                  </a:moveTo>
                  <a:lnTo>
                    <a:pt x="61" y="431"/>
                  </a:lnTo>
                  <a:lnTo>
                    <a:pt x="53" y="429"/>
                  </a:lnTo>
                  <a:lnTo>
                    <a:pt x="43" y="429"/>
                  </a:lnTo>
                  <a:lnTo>
                    <a:pt x="35" y="429"/>
                  </a:lnTo>
                  <a:lnTo>
                    <a:pt x="26" y="429"/>
                  </a:lnTo>
                  <a:lnTo>
                    <a:pt x="17" y="429"/>
                  </a:lnTo>
                  <a:lnTo>
                    <a:pt x="8" y="429"/>
                  </a:lnTo>
                  <a:lnTo>
                    <a:pt x="0" y="429"/>
                  </a:lnTo>
                  <a:lnTo>
                    <a:pt x="10" y="373"/>
                  </a:lnTo>
                  <a:lnTo>
                    <a:pt x="20" y="317"/>
                  </a:lnTo>
                  <a:lnTo>
                    <a:pt x="27" y="263"/>
                  </a:lnTo>
                  <a:lnTo>
                    <a:pt x="34" y="209"/>
                  </a:lnTo>
                  <a:lnTo>
                    <a:pt x="39" y="157"/>
                  </a:lnTo>
                  <a:lnTo>
                    <a:pt x="42" y="105"/>
                  </a:lnTo>
                  <a:lnTo>
                    <a:pt x="46" y="54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13" y="52"/>
                  </a:lnTo>
                  <a:lnTo>
                    <a:pt x="111" y="104"/>
                  </a:lnTo>
                  <a:lnTo>
                    <a:pt x="106" y="157"/>
                  </a:lnTo>
                  <a:lnTo>
                    <a:pt x="102" y="209"/>
                  </a:lnTo>
                  <a:lnTo>
                    <a:pt x="96" y="263"/>
                  </a:lnTo>
                  <a:lnTo>
                    <a:pt x="88" y="318"/>
                  </a:lnTo>
                  <a:lnTo>
                    <a:pt x="79" y="373"/>
                  </a:lnTo>
                  <a:lnTo>
                    <a:pt x="69" y="431"/>
                  </a:lnTo>
                  <a:close/>
                </a:path>
              </a:pathLst>
            </a:custGeom>
            <a:solidFill>
              <a:srgbClr val="45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408680" y="3768120"/>
              <a:ext cx="30960" cy="118440"/>
            </a:xfrm>
            <a:custGeom>
              <a:avLst/>
              <a:gdLst/>
              <a:ahLst/>
              <a:rect l="l" t="t" r="r" b="b"/>
              <a:pathLst>
                <a:path w="114" h="435">
                  <a:moveTo>
                    <a:pt x="0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0" y="52"/>
                  </a:lnTo>
                  <a:lnTo>
                    <a:pt x="72" y="104"/>
                  </a:lnTo>
                  <a:lnTo>
                    <a:pt x="76" y="157"/>
                  </a:lnTo>
                  <a:lnTo>
                    <a:pt x="82" y="209"/>
                  </a:lnTo>
                  <a:lnTo>
                    <a:pt x="87" y="263"/>
                  </a:lnTo>
                  <a:lnTo>
                    <a:pt x="96" y="317"/>
                  </a:lnTo>
                  <a:lnTo>
                    <a:pt x="104" y="373"/>
                  </a:lnTo>
                  <a:lnTo>
                    <a:pt x="114" y="429"/>
                  </a:lnTo>
                  <a:lnTo>
                    <a:pt x="106" y="429"/>
                  </a:lnTo>
                  <a:lnTo>
                    <a:pt x="97" y="431"/>
                  </a:lnTo>
                  <a:lnTo>
                    <a:pt x="89" y="431"/>
                  </a:lnTo>
                  <a:lnTo>
                    <a:pt x="80" y="432"/>
                  </a:lnTo>
                  <a:lnTo>
                    <a:pt x="72" y="432"/>
                  </a:lnTo>
                  <a:lnTo>
                    <a:pt x="64" y="433"/>
                  </a:lnTo>
                  <a:lnTo>
                    <a:pt x="56" y="434"/>
                  </a:lnTo>
                  <a:lnTo>
                    <a:pt x="48" y="435"/>
                  </a:lnTo>
                  <a:lnTo>
                    <a:pt x="37" y="378"/>
                  </a:lnTo>
                  <a:lnTo>
                    <a:pt x="28" y="322"/>
                  </a:lnTo>
                  <a:lnTo>
                    <a:pt x="20" y="267"/>
                  </a:lnTo>
                  <a:lnTo>
                    <a:pt x="14" y="213"/>
                  </a:lnTo>
                  <a:lnTo>
                    <a:pt x="8" y="159"/>
                  </a:lnTo>
                  <a:lnTo>
                    <a:pt x="4" y="107"/>
                  </a:lnTo>
                  <a:lnTo>
                    <a:pt x="1" y="5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4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702520" y="3768120"/>
              <a:ext cx="32040" cy="117000"/>
            </a:xfrm>
            <a:custGeom>
              <a:avLst/>
              <a:gdLst/>
              <a:ahLst/>
              <a:rect l="l" t="t" r="r" b="b"/>
              <a:pathLst>
                <a:path w="116" h="429">
                  <a:moveTo>
                    <a:pt x="69" y="427"/>
                  </a:moveTo>
                  <a:lnTo>
                    <a:pt x="61" y="427"/>
                  </a:lnTo>
                  <a:lnTo>
                    <a:pt x="53" y="427"/>
                  </a:lnTo>
                  <a:lnTo>
                    <a:pt x="43" y="427"/>
                  </a:lnTo>
                  <a:lnTo>
                    <a:pt x="35" y="427"/>
                  </a:lnTo>
                  <a:lnTo>
                    <a:pt x="26" y="429"/>
                  </a:lnTo>
                  <a:lnTo>
                    <a:pt x="18" y="429"/>
                  </a:lnTo>
                  <a:lnTo>
                    <a:pt x="8" y="429"/>
                  </a:lnTo>
                  <a:lnTo>
                    <a:pt x="0" y="429"/>
                  </a:lnTo>
                  <a:lnTo>
                    <a:pt x="10" y="372"/>
                  </a:lnTo>
                  <a:lnTo>
                    <a:pt x="20" y="317"/>
                  </a:lnTo>
                  <a:lnTo>
                    <a:pt x="28" y="264"/>
                  </a:lnTo>
                  <a:lnTo>
                    <a:pt x="35" y="210"/>
                  </a:lnTo>
                  <a:lnTo>
                    <a:pt x="40" y="158"/>
                  </a:lnTo>
                  <a:lnTo>
                    <a:pt x="43" y="106"/>
                  </a:lnTo>
                  <a:lnTo>
                    <a:pt x="47" y="54"/>
                  </a:lnTo>
                  <a:lnTo>
                    <a:pt x="48" y="3"/>
                  </a:lnTo>
                  <a:lnTo>
                    <a:pt x="56" y="3"/>
                  </a:lnTo>
                  <a:lnTo>
                    <a:pt x="64" y="2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15" y="52"/>
                  </a:lnTo>
                  <a:lnTo>
                    <a:pt x="111" y="103"/>
                  </a:lnTo>
                  <a:lnTo>
                    <a:pt x="108" y="155"/>
                  </a:lnTo>
                  <a:lnTo>
                    <a:pt x="103" y="207"/>
                  </a:lnTo>
                  <a:lnTo>
                    <a:pt x="96" y="261"/>
                  </a:lnTo>
                  <a:lnTo>
                    <a:pt x="89" y="315"/>
                  </a:lnTo>
                  <a:lnTo>
                    <a:pt x="79" y="371"/>
                  </a:lnTo>
                  <a:lnTo>
                    <a:pt x="69" y="427"/>
                  </a:lnTo>
                  <a:close/>
                </a:path>
              </a:pathLst>
            </a:custGeom>
            <a:solidFill>
              <a:srgbClr val="4a4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427760" y="3768120"/>
              <a:ext cx="30960" cy="117000"/>
            </a:xfrm>
            <a:custGeom>
              <a:avLst/>
              <a:gdLst/>
              <a:ahLst/>
              <a:rect l="l" t="t" r="r" b="b"/>
              <a:pathLst>
                <a:path w="116" h="42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8" y="2"/>
                  </a:lnTo>
                  <a:lnTo>
                    <a:pt x="69" y="54"/>
                  </a:lnTo>
                  <a:lnTo>
                    <a:pt x="72" y="105"/>
                  </a:lnTo>
                  <a:lnTo>
                    <a:pt x="76" y="157"/>
                  </a:lnTo>
                  <a:lnTo>
                    <a:pt x="82" y="209"/>
                  </a:lnTo>
                  <a:lnTo>
                    <a:pt x="87" y="263"/>
                  </a:lnTo>
                  <a:lnTo>
                    <a:pt x="96" y="317"/>
                  </a:lnTo>
                  <a:lnTo>
                    <a:pt x="105" y="372"/>
                  </a:lnTo>
                  <a:lnTo>
                    <a:pt x="116" y="428"/>
                  </a:lnTo>
                  <a:lnTo>
                    <a:pt x="106" y="428"/>
                  </a:lnTo>
                  <a:lnTo>
                    <a:pt x="97" y="428"/>
                  </a:lnTo>
                  <a:lnTo>
                    <a:pt x="89" y="428"/>
                  </a:lnTo>
                  <a:lnTo>
                    <a:pt x="79" y="428"/>
                  </a:lnTo>
                  <a:lnTo>
                    <a:pt x="71" y="428"/>
                  </a:lnTo>
                  <a:lnTo>
                    <a:pt x="62" y="428"/>
                  </a:lnTo>
                  <a:lnTo>
                    <a:pt x="54" y="429"/>
                  </a:lnTo>
                  <a:lnTo>
                    <a:pt x="45" y="429"/>
                  </a:lnTo>
                  <a:lnTo>
                    <a:pt x="35" y="373"/>
                  </a:lnTo>
                  <a:lnTo>
                    <a:pt x="27" y="317"/>
                  </a:lnTo>
                  <a:lnTo>
                    <a:pt x="18" y="263"/>
                  </a:lnTo>
                  <a:lnTo>
                    <a:pt x="13" y="209"/>
                  </a:lnTo>
                  <a:lnTo>
                    <a:pt x="7" y="157"/>
                  </a:lnTo>
                  <a:lnTo>
                    <a:pt x="3" y="104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5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683440" y="3769560"/>
              <a:ext cx="32400" cy="117000"/>
            </a:xfrm>
            <a:custGeom>
              <a:avLst/>
              <a:gdLst/>
              <a:ahLst/>
              <a:rect l="l" t="t" r="r" b="b"/>
              <a:pathLst>
                <a:path w="119" h="429">
                  <a:moveTo>
                    <a:pt x="71" y="426"/>
                  </a:moveTo>
                  <a:lnTo>
                    <a:pt x="62" y="426"/>
                  </a:lnTo>
                  <a:lnTo>
                    <a:pt x="53" y="427"/>
                  </a:lnTo>
                  <a:lnTo>
                    <a:pt x="44" y="427"/>
                  </a:lnTo>
                  <a:lnTo>
                    <a:pt x="36" y="427"/>
                  </a:lnTo>
                  <a:lnTo>
                    <a:pt x="27" y="428"/>
                  </a:lnTo>
                  <a:lnTo>
                    <a:pt x="18" y="428"/>
                  </a:lnTo>
                  <a:lnTo>
                    <a:pt x="9" y="429"/>
                  </a:lnTo>
                  <a:lnTo>
                    <a:pt x="0" y="429"/>
                  </a:lnTo>
                  <a:lnTo>
                    <a:pt x="10" y="373"/>
                  </a:lnTo>
                  <a:lnTo>
                    <a:pt x="21" y="318"/>
                  </a:lnTo>
                  <a:lnTo>
                    <a:pt x="29" y="264"/>
                  </a:lnTo>
                  <a:lnTo>
                    <a:pt x="35" y="211"/>
                  </a:lnTo>
                  <a:lnTo>
                    <a:pt x="41" y="159"/>
                  </a:lnTo>
                  <a:lnTo>
                    <a:pt x="44" y="107"/>
                  </a:lnTo>
                  <a:lnTo>
                    <a:pt x="48" y="56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6" y="3"/>
                  </a:lnTo>
                  <a:lnTo>
                    <a:pt x="76" y="3"/>
                  </a:lnTo>
                  <a:lnTo>
                    <a:pt x="84" y="2"/>
                  </a:lnTo>
                  <a:lnTo>
                    <a:pt x="93" y="1"/>
                  </a:lnTo>
                  <a:lnTo>
                    <a:pt x="101" y="1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18" y="51"/>
                  </a:lnTo>
                  <a:lnTo>
                    <a:pt x="114" y="103"/>
                  </a:lnTo>
                  <a:lnTo>
                    <a:pt x="111" y="155"/>
                  </a:lnTo>
                  <a:lnTo>
                    <a:pt x="106" y="207"/>
                  </a:lnTo>
                  <a:lnTo>
                    <a:pt x="99" y="261"/>
                  </a:lnTo>
                  <a:lnTo>
                    <a:pt x="91" y="314"/>
                  </a:lnTo>
                  <a:lnTo>
                    <a:pt x="81" y="369"/>
                  </a:lnTo>
                  <a:lnTo>
                    <a:pt x="71" y="426"/>
                  </a:lnTo>
                  <a:close/>
                </a:path>
              </a:pathLst>
            </a:custGeom>
            <a:solidFill>
              <a:srgbClr val="505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446480" y="3768120"/>
              <a:ext cx="30960" cy="117000"/>
            </a:xfrm>
            <a:custGeom>
              <a:avLst/>
              <a:gdLst/>
              <a:ahLst/>
              <a:rect l="l" t="t" r="r" b="b"/>
              <a:pathLst>
                <a:path w="119" h="429">
                  <a:moveTo>
                    <a:pt x="0" y="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4" y="2"/>
                  </a:lnTo>
                  <a:lnTo>
                    <a:pt x="34" y="2"/>
                  </a:lnTo>
                  <a:lnTo>
                    <a:pt x="42" y="3"/>
                  </a:lnTo>
                  <a:lnTo>
                    <a:pt x="50" y="3"/>
                  </a:lnTo>
                  <a:lnTo>
                    <a:pt x="59" y="4"/>
                  </a:lnTo>
                  <a:lnTo>
                    <a:pt x="67" y="4"/>
                  </a:lnTo>
                  <a:lnTo>
                    <a:pt x="69" y="55"/>
                  </a:lnTo>
                  <a:lnTo>
                    <a:pt x="72" y="107"/>
                  </a:lnTo>
                  <a:lnTo>
                    <a:pt x="76" y="158"/>
                  </a:lnTo>
                  <a:lnTo>
                    <a:pt x="81" y="211"/>
                  </a:lnTo>
                  <a:lnTo>
                    <a:pt x="88" y="264"/>
                  </a:lnTo>
                  <a:lnTo>
                    <a:pt x="98" y="317"/>
                  </a:lnTo>
                  <a:lnTo>
                    <a:pt x="107" y="372"/>
                  </a:lnTo>
                  <a:lnTo>
                    <a:pt x="119" y="429"/>
                  </a:lnTo>
                  <a:lnTo>
                    <a:pt x="110" y="429"/>
                  </a:lnTo>
                  <a:lnTo>
                    <a:pt x="100" y="427"/>
                  </a:lnTo>
                  <a:lnTo>
                    <a:pt x="92" y="427"/>
                  </a:lnTo>
                  <a:lnTo>
                    <a:pt x="83" y="427"/>
                  </a:lnTo>
                  <a:lnTo>
                    <a:pt x="74" y="427"/>
                  </a:lnTo>
                  <a:lnTo>
                    <a:pt x="65" y="427"/>
                  </a:lnTo>
                  <a:lnTo>
                    <a:pt x="57" y="426"/>
                  </a:lnTo>
                  <a:lnTo>
                    <a:pt x="48" y="426"/>
                  </a:lnTo>
                  <a:lnTo>
                    <a:pt x="37" y="370"/>
                  </a:lnTo>
                  <a:lnTo>
                    <a:pt x="28" y="315"/>
                  </a:lnTo>
                  <a:lnTo>
                    <a:pt x="19" y="261"/>
                  </a:lnTo>
                  <a:lnTo>
                    <a:pt x="14" y="207"/>
                  </a:lnTo>
                  <a:lnTo>
                    <a:pt x="8" y="155"/>
                  </a:lnTo>
                  <a:lnTo>
                    <a:pt x="4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664360" y="3771000"/>
              <a:ext cx="32400" cy="11556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71" y="425"/>
                  </a:moveTo>
                  <a:lnTo>
                    <a:pt x="62" y="425"/>
                  </a:lnTo>
                  <a:lnTo>
                    <a:pt x="53" y="425"/>
                  </a:lnTo>
                  <a:lnTo>
                    <a:pt x="45" y="425"/>
                  </a:lnTo>
                  <a:lnTo>
                    <a:pt x="36" y="426"/>
                  </a:lnTo>
                  <a:lnTo>
                    <a:pt x="27" y="426"/>
                  </a:lnTo>
                  <a:lnTo>
                    <a:pt x="18" y="426"/>
                  </a:lnTo>
                  <a:lnTo>
                    <a:pt x="10" y="427"/>
                  </a:lnTo>
                  <a:lnTo>
                    <a:pt x="0" y="427"/>
                  </a:lnTo>
                  <a:lnTo>
                    <a:pt x="12" y="371"/>
                  </a:lnTo>
                  <a:lnTo>
                    <a:pt x="22" y="317"/>
                  </a:lnTo>
                  <a:lnTo>
                    <a:pt x="31" y="264"/>
                  </a:lnTo>
                  <a:lnTo>
                    <a:pt x="38" y="210"/>
                  </a:lnTo>
                  <a:lnTo>
                    <a:pt x="44" y="158"/>
                  </a:lnTo>
                  <a:lnTo>
                    <a:pt x="48" y="106"/>
                  </a:lnTo>
                  <a:lnTo>
                    <a:pt x="51" y="55"/>
                  </a:lnTo>
                  <a:lnTo>
                    <a:pt x="53" y="4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5" y="2"/>
                  </a:lnTo>
                  <a:lnTo>
                    <a:pt x="103" y="2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19" y="52"/>
                  </a:lnTo>
                  <a:lnTo>
                    <a:pt x="115" y="103"/>
                  </a:lnTo>
                  <a:lnTo>
                    <a:pt x="112" y="155"/>
                  </a:lnTo>
                  <a:lnTo>
                    <a:pt x="106" y="207"/>
                  </a:lnTo>
                  <a:lnTo>
                    <a:pt x="100" y="260"/>
                  </a:lnTo>
                  <a:lnTo>
                    <a:pt x="92" y="314"/>
                  </a:lnTo>
                  <a:lnTo>
                    <a:pt x="81" y="369"/>
                  </a:lnTo>
                  <a:lnTo>
                    <a:pt x="71" y="425"/>
                  </a:lnTo>
                  <a:close/>
                </a:path>
              </a:pathLst>
            </a:custGeom>
            <a:solidFill>
              <a:srgbClr val="55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464480" y="3769560"/>
              <a:ext cx="32400" cy="115560"/>
            </a:xfrm>
            <a:custGeom>
              <a:avLst/>
              <a:gdLst/>
              <a:ahLst/>
              <a:rect l="l" t="t" r="r" b="b"/>
              <a:pathLst>
                <a:path w="122" h="427">
                  <a:moveTo>
                    <a:pt x="0" y="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25" y="1"/>
                  </a:lnTo>
                  <a:lnTo>
                    <a:pt x="34" y="1"/>
                  </a:lnTo>
                  <a:lnTo>
                    <a:pt x="43" y="2"/>
                  </a:lnTo>
                  <a:lnTo>
                    <a:pt x="51" y="2"/>
                  </a:lnTo>
                  <a:lnTo>
                    <a:pt x="60" y="3"/>
                  </a:lnTo>
                  <a:lnTo>
                    <a:pt x="68" y="3"/>
                  </a:lnTo>
                  <a:lnTo>
                    <a:pt x="71" y="55"/>
                  </a:lnTo>
                  <a:lnTo>
                    <a:pt x="73" y="106"/>
                  </a:lnTo>
                  <a:lnTo>
                    <a:pt x="78" y="158"/>
                  </a:lnTo>
                  <a:lnTo>
                    <a:pt x="83" y="210"/>
                  </a:lnTo>
                  <a:lnTo>
                    <a:pt x="90" y="263"/>
                  </a:lnTo>
                  <a:lnTo>
                    <a:pt x="100" y="317"/>
                  </a:lnTo>
                  <a:lnTo>
                    <a:pt x="110" y="372"/>
                  </a:lnTo>
                  <a:lnTo>
                    <a:pt x="122" y="427"/>
                  </a:lnTo>
                  <a:lnTo>
                    <a:pt x="114" y="427"/>
                  </a:lnTo>
                  <a:lnTo>
                    <a:pt x="104" y="426"/>
                  </a:lnTo>
                  <a:lnTo>
                    <a:pt x="96" y="426"/>
                  </a:lnTo>
                  <a:lnTo>
                    <a:pt x="87" y="426"/>
                  </a:lnTo>
                  <a:lnTo>
                    <a:pt x="79" y="426"/>
                  </a:lnTo>
                  <a:lnTo>
                    <a:pt x="69" y="426"/>
                  </a:lnTo>
                  <a:lnTo>
                    <a:pt x="61" y="425"/>
                  </a:lnTo>
                  <a:lnTo>
                    <a:pt x="52" y="425"/>
                  </a:lnTo>
                  <a:lnTo>
                    <a:pt x="40" y="368"/>
                  </a:lnTo>
                  <a:lnTo>
                    <a:pt x="31" y="313"/>
                  </a:lnTo>
                  <a:lnTo>
                    <a:pt x="21" y="260"/>
                  </a:lnTo>
                  <a:lnTo>
                    <a:pt x="14" y="207"/>
                  </a:lnTo>
                  <a:lnTo>
                    <a:pt x="9" y="154"/>
                  </a:lnTo>
                  <a:lnTo>
                    <a:pt x="5" y="103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a5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645280" y="3771000"/>
              <a:ext cx="33840" cy="117000"/>
            </a:xfrm>
            <a:custGeom>
              <a:avLst/>
              <a:gdLst/>
              <a:ahLst/>
              <a:rect l="l" t="t" r="r" b="b"/>
              <a:pathLst>
                <a:path w="123" h="427">
                  <a:moveTo>
                    <a:pt x="70" y="423"/>
                  </a:moveTo>
                  <a:lnTo>
                    <a:pt x="62" y="423"/>
                  </a:lnTo>
                  <a:lnTo>
                    <a:pt x="53" y="425"/>
                  </a:lnTo>
                  <a:lnTo>
                    <a:pt x="45" y="425"/>
                  </a:lnTo>
                  <a:lnTo>
                    <a:pt x="35" y="425"/>
                  </a:lnTo>
                  <a:lnTo>
                    <a:pt x="27" y="426"/>
                  </a:lnTo>
                  <a:lnTo>
                    <a:pt x="18" y="426"/>
                  </a:lnTo>
                  <a:lnTo>
                    <a:pt x="10" y="427"/>
                  </a:lnTo>
                  <a:lnTo>
                    <a:pt x="0" y="427"/>
                  </a:lnTo>
                  <a:lnTo>
                    <a:pt x="12" y="371"/>
                  </a:lnTo>
                  <a:lnTo>
                    <a:pt x="23" y="317"/>
                  </a:lnTo>
                  <a:lnTo>
                    <a:pt x="32" y="262"/>
                  </a:lnTo>
                  <a:lnTo>
                    <a:pt x="39" y="209"/>
                  </a:lnTo>
                  <a:lnTo>
                    <a:pt x="45" y="157"/>
                  </a:lnTo>
                  <a:lnTo>
                    <a:pt x="49" y="105"/>
                  </a:lnTo>
                  <a:lnTo>
                    <a:pt x="53" y="54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89" y="1"/>
                  </a:lnTo>
                  <a:lnTo>
                    <a:pt x="97" y="1"/>
                  </a:lnTo>
                  <a:lnTo>
                    <a:pt x="106" y="1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21" y="51"/>
                  </a:lnTo>
                  <a:lnTo>
                    <a:pt x="118" y="102"/>
                  </a:lnTo>
                  <a:lnTo>
                    <a:pt x="114" y="154"/>
                  </a:lnTo>
                  <a:lnTo>
                    <a:pt x="108" y="206"/>
                  </a:lnTo>
                  <a:lnTo>
                    <a:pt x="101" y="260"/>
                  </a:lnTo>
                  <a:lnTo>
                    <a:pt x="92" y="313"/>
                  </a:lnTo>
                  <a:lnTo>
                    <a:pt x="82" y="367"/>
                  </a:lnTo>
                  <a:lnTo>
                    <a:pt x="70" y="423"/>
                  </a:lnTo>
                  <a:close/>
                </a:path>
              </a:pathLst>
            </a:custGeom>
            <a:solidFill>
              <a:srgbClr val="5a5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483200" y="3771000"/>
              <a:ext cx="32400" cy="115560"/>
            </a:xfrm>
            <a:custGeom>
              <a:avLst/>
              <a:gdLst/>
              <a:ahLst/>
              <a:rect l="l" t="t" r="r" b="b"/>
              <a:pathLst>
                <a:path w="124" h="427">
                  <a:moveTo>
                    <a:pt x="0" y="0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0" y="4"/>
                  </a:lnTo>
                  <a:lnTo>
                    <a:pt x="68" y="4"/>
                  </a:lnTo>
                  <a:lnTo>
                    <a:pt x="70" y="55"/>
                  </a:lnTo>
                  <a:lnTo>
                    <a:pt x="74" y="106"/>
                  </a:lnTo>
                  <a:lnTo>
                    <a:pt x="79" y="158"/>
                  </a:lnTo>
                  <a:lnTo>
                    <a:pt x="84" y="210"/>
                  </a:lnTo>
                  <a:lnTo>
                    <a:pt x="91" y="264"/>
                  </a:lnTo>
                  <a:lnTo>
                    <a:pt x="101" y="317"/>
                  </a:lnTo>
                  <a:lnTo>
                    <a:pt x="111" y="371"/>
                  </a:lnTo>
                  <a:lnTo>
                    <a:pt x="124" y="427"/>
                  </a:lnTo>
                  <a:lnTo>
                    <a:pt x="116" y="427"/>
                  </a:lnTo>
                  <a:lnTo>
                    <a:pt x="107" y="426"/>
                  </a:lnTo>
                  <a:lnTo>
                    <a:pt x="98" y="426"/>
                  </a:lnTo>
                  <a:lnTo>
                    <a:pt x="89" y="425"/>
                  </a:lnTo>
                  <a:lnTo>
                    <a:pt x="81" y="425"/>
                  </a:lnTo>
                  <a:lnTo>
                    <a:pt x="72" y="425"/>
                  </a:lnTo>
                  <a:lnTo>
                    <a:pt x="63" y="424"/>
                  </a:lnTo>
                  <a:lnTo>
                    <a:pt x="54" y="424"/>
                  </a:lnTo>
                  <a:lnTo>
                    <a:pt x="42" y="369"/>
                  </a:lnTo>
                  <a:lnTo>
                    <a:pt x="32" y="314"/>
                  </a:lnTo>
                  <a:lnTo>
                    <a:pt x="22" y="260"/>
                  </a:lnTo>
                  <a:lnTo>
                    <a:pt x="15" y="207"/>
                  </a:lnTo>
                  <a:lnTo>
                    <a:pt x="10" y="155"/>
                  </a:lnTo>
                  <a:lnTo>
                    <a:pt x="5" y="103"/>
                  </a:lnTo>
                  <a:lnTo>
                    <a:pt x="3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626560" y="3772440"/>
              <a:ext cx="33480" cy="115200"/>
            </a:xfrm>
            <a:custGeom>
              <a:avLst/>
              <a:gdLst/>
              <a:ahLst/>
              <a:rect l="l" t="t" r="r" b="b"/>
              <a:pathLst>
                <a:path w="125" h="426">
                  <a:moveTo>
                    <a:pt x="70" y="425"/>
                  </a:moveTo>
                  <a:lnTo>
                    <a:pt x="61" y="425"/>
                  </a:lnTo>
                  <a:lnTo>
                    <a:pt x="53" y="425"/>
                  </a:lnTo>
                  <a:lnTo>
                    <a:pt x="43" y="425"/>
                  </a:lnTo>
                  <a:lnTo>
                    <a:pt x="35" y="425"/>
                  </a:lnTo>
                  <a:lnTo>
                    <a:pt x="26" y="426"/>
                  </a:lnTo>
                  <a:lnTo>
                    <a:pt x="18" y="426"/>
                  </a:lnTo>
                  <a:lnTo>
                    <a:pt x="8" y="426"/>
                  </a:lnTo>
                  <a:lnTo>
                    <a:pt x="0" y="426"/>
                  </a:lnTo>
                  <a:lnTo>
                    <a:pt x="13" y="370"/>
                  </a:lnTo>
                  <a:lnTo>
                    <a:pt x="24" y="316"/>
                  </a:lnTo>
                  <a:lnTo>
                    <a:pt x="33" y="261"/>
                  </a:lnTo>
                  <a:lnTo>
                    <a:pt x="41" y="209"/>
                  </a:lnTo>
                  <a:lnTo>
                    <a:pt x="47" y="156"/>
                  </a:lnTo>
                  <a:lnTo>
                    <a:pt x="52" y="103"/>
                  </a:lnTo>
                  <a:lnTo>
                    <a:pt x="55" y="52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3" y="52"/>
                  </a:lnTo>
                  <a:lnTo>
                    <a:pt x="119" y="103"/>
                  </a:lnTo>
                  <a:lnTo>
                    <a:pt x="115" y="155"/>
                  </a:lnTo>
                  <a:lnTo>
                    <a:pt x="109" y="207"/>
                  </a:lnTo>
                  <a:lnTo>
                    <a:pt x="102" y="260"/>
                  </a:lnTo>
                  <a:lnTo>
                    <a:pt x="93" y="315"/>
                  </a:lnTo>
                  <a:lnTo>
                    <a:pt x="82" y="369"/>
                  </a:lnTo>
                  <a:lnTo>
                    <a:pt x="70" y="425"/>
                  </a:lnTo>
                  <a:close/>
                </a:path>
              </a:pathLst>
            </a:custGeom>
            <a:solidFill>
              <a:srgbClr val="5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641320" y="3732840"/>
              <a:ext cx="3960" cy="3672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0" y="0"/>
                  </a:moveTo>
                  <a:lnTo>
                    <a:pt x="11" y="31"/>
                  </a:lnTo>
                  <a:lnTo>
                    <a:pt x="15" y="63"/>
                  </a:lnTo>
                  <a:lnTo>
                    <a:pt x="11" y="98"/>
                  </a:lnTo>
                  <a:lnTo>
                    <a:pt x="0" y="135"/>
                  </a:lnTo>
                  <a:lnTo>
                    <a:pt x="2" y="102"/>
                  </a:lnTo>
                  <a:lnTo>
                    <a:pt x="2" y="68"/>
                  </a:lnTo>
                  <a:lnTo>
                    <a:pt x="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614320" y="3710880"/>
              <a:ext cx="28440" cy="176760"/>
            </a:xfrm>
            <a:custGeom>
              <a:avLst/>
              <a:gdLst/>
              <a:ahLst/>
              <a:rect l="l" t="t" r="r" b="b"/>
              <a:pathLst>
                <a:path w="103" h="649">
                  <a:moveTo>
                    <a:pt x="101" y="77"/>
                  </a:moveTo>
                  <a:lnTo>
                    <a:pt x="96" y="67"/>
                  </a:lnTo>
                  <a:lnTo>
                    <a:pt x="89" y="56"/>
                  </a:lnTo>
                  <a:lnTo>
                    <a:pt x="80" y="46"/>
                  </a:lnTo>
                  <a:lnTo>
                    <a:pt x="72" y="36"/>
                  </a:lnTo>
                  <a:lnTo>
                    <a:pt x="63" y="27"/>
                  </a:lnTo>
                  <a:lnTo>
                    <a:pt x="52" y="17"/>
                  </a:lnTo>
                  <a:lnTo>
                    <a:pt x="41" y="8"/>
                  </a:lnTo>
                  <a:lnTo>
                    <a:pt x="29" y="0"/>
                  </a:lnTo>
                  <a:lnTo>
                    <a:pt x="32" y="67"/>
                  </a:lnTo>
                  <a:lnTo>
                    <a:pt x="35" y="133"/>
                  </a:lnTo>
                  <a:lnTo>
                    <a:pt x="34" y="200"/>
                  </a:lnTo>
                  <a:lnTo>
                    <a:pt x="31" y="267"/>
                  </a:lnTo>
                  <a:lnTo>
                    <a:pt x="27" y="333"/>
                  </a:lnTo>
                  <a:lnTo>
                    <a:pt x="20" y="400"/>
                  </a:lnTo>
                  <a:lnTo>
                    <a:pt x="11" y="468"/>
                  </a:lnTo>
                  <a:lnTo>
                    <a:pt x="0" y="536"/>
                  </a:lnTo>
                  <a:lnTo>
                    <a:pt x="13" y="561"/>
                  </a:lnTo>
                  <a:lnTo>
                    <a:pt x="17" y="588"/>
                  </a:lnTo>
                  <a:lnTo>
                    <a:pt x="14" y="617"/>
                  </a:lnTo>
                  <a:lnTo>
                    <a:pt x="0" y="649"/>
                  </a:lnTo>
                  <a:lnTo>
                    <a:pt x="6" y="649"/>
                  </a:lnTo>
                  <a:lnTo>
                    <a:pt x="10" y="649"/>
                  </a:lnTo>
                  <a:lnTo>
                    <a:pt x="16" y="649"/>
                  </a:lnTo>
                  <a:lnTo>
                    <a:pt x="22" y="649"/>
                  </a:lnTo>
                  <a:lnTo>
                    <a:pt x="27" y="649"/>
                  </a:lnTo>
                  <a:lnTo>
                    <a:pt x="32" y="649"/>
                  </a:lnTo>
                  <a:lnTo>
                    <a:pt x="38" y="649"/>
                  </a:lnTo>
                  <a:lnTo>
                    <a:pt x="44" y="649"/>
                  </a:lnTo>
                  <a:lnTo>
                    <a:pt x="57" y="593"/>
                  </a:lnTo>
                  <a:lnTo>
                    <a:pt x="68" y="539"/>
                  </a:lnTo>
                  <a:lnTo>
                    <a:pt x="77" y="484"/>
                  </a:lnTo>
                  <a:lnTo>
                    <a:pt x="85" y="432"/>
                  </a:lnTo>
                  <a:lnTo>
                    <a:pt x="91" y="379"/>
                  </a:lnTo>
                  <a:lnTo>
                    <a:pt x="96" y="326"/>
                  </a:lnTo>
                  <a:lnTo>
                    <a:pt x="99" y="275"/>
                  </a:lnTo>
                  <a:lnTo>
                    <a:pt x="101" y="223"/>
                  </a:lnTo>
                  <a:lnTo>
                    <a:pt x="100" y="223"/>
                  </a:lnTo>
                  <a:lnTo>
                    <a:pt x="99" y="223"/>
                  </a:lnTo>
                  <a:lnTo>
                    <a:pt x="98" y="223"/>
                  </a:lnTo>
                  <a:lnTo>
                    <a:pt x="97" y="223"/>
                  </a:lnTo>
                  <a:lnTo>
                    <a:pt x="98" y="221"/>
                  </a:lnTo>
                  <a:lnTo>
                    <a:pt x="99" y="217"/>
                  </a:lnTo>
                  <a:lnTo>
                    <a:pt x="100" y="214"/>
                  </a:lnTo>
                  <a:lnTo>
                    <a:pt x="101" y="212"/>
                  </a:lnTo>
                  <a:lnTo>
                    <a:pt x="103" y="179"/>
                  </a:lnTo>
                  <a:lnTo>
                    <a:pt x="103" y="145"/>
                  </a:lnTo>
                  <a:lnTo>
                    <a:pt x="103" y="111"/>
                  </a:lnTo>
                  <a:lnTo>
                    <a:pt x="101" y="77"/>
                  </a:lnTo>
                  <a:close/>
                </a:path>
              </a:pathLst>
            </a:custGeom>
            <a:solidFill>
              <a:srgbClr val="64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500840" y="3771000"/>
              <a:ext cx="33480" cy="117000"/>
            </a:xfrm>
            <a:custGeom>
              <a:avLst/>
              <a:gdLst/>
              <a:ahLst/>
              <a:rect l="l" t="t" r="r" b="b"/>
              <a:pathLst>
                <a:path w="126" h="427">
                  <a:moveTo>
                    <a:pt x="0" y="0"/>
                  </a:moveTo>
                  <a:lnTo>
                    <a:pt x="8" y="0"/>
                  </a:lnTo>
                  <a:lnTo>
                    <a:pt x="18" y="1"/>
                  </a:lnTo>
                  <a:lnTo>
                    <a:pt x="26" y="1"/>
                  </a:lnTo>
                  <a:lnTo>
                    <a:pt x="34" y="1"/>
                  </a:lnTo>
                  <a:lnTo>
                    <a:pt x="43" y="2"/>
                  </a:lnTo>
                  <a:lnTo>
                    <a:pt x="51" y="2"/>
                  </a:lnTo>
                  <a:lnTo>
                    <a:pt x="60" y="2"/>
                  </a:lnTo>
                  <a:lnTo>
                    <a:pt x="68" y="2"/>
                  </a:lnTo>
                  <a:lnTo>
                    <a:pt x="70" y="54"/>
                  </a:lnTo>
                  <a:lnTo>
                    <a:pt x="74" y="105"/>
                  </a:lnTo>
                  <a:lnTo>
                    <a:pt x="78" y="158"/>
                  </a:lnTo>
                  <a:lnTo>
                    <a:pt x="85" y="209"/>
                  </a:lnTo>
                  <a:lnTo>
                    <a:pt x="94" y="263"/>
                  </a:lnTo>
                  <a:lnTo>
                    <a:pt x="103" y="317"/>
                  </a:lnTo>
                  <a:lnTo>
                    <a:pt x="113" y="371"/>
                  </a:lnTo>
                  <a:lnTo>
                    <a:pt x="126" y="427"/>
                  </a:lnTo>
                  <a:lnTo>
                    <a:pt x="118" y="427"/>
                  </a:lnTo>
                  <a:lnTo>
                    <a:pt x="109" y="426"/>
                  </a:lnTo>
                  <a:lnTo>
                    <a:pt x="101" y="426"/>
                  </a:lnTo>
                  <a:lnTo>
                    <a:pt x="91" y="425"/>
                  </a:lnTo>
                  <a:lnTo>
                    <a:pt x="83" y="425"/>
                  </a:lnTo>
                  <a:lnTo>
                    <a:pt x="74" y="425"/>
                  </a:lnTo>
                  <a:lnTo>
                    <a:pt x="66" y="423"/>
                  </a:lnTo>
                  <a:lnTo>
                    <a:pt x="56" y="423"/>
                  </a:lnTo>
                  <a:lnTo>
                    <a:pt x="43" y="367"/>
                  </a:lnTo>
                  <a:lnTo>
                    <a:pt x="33" y="313"/>
                  </a:lnTo>
                  <a:lnTo>
                    <a:pt x="23" y="260"/>
                  </a:lnTo>
                  <a:lnTo>
                    <a:pt x="16" y="206"/>
                  </a:lnTo>
                  <a:lnTo>
                    <a:pt x="11" y="154"/>
                  </a:lnTo>
                  <a:lnTo>
                    <a:pt x="6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598120" y="3700080"/>
              <a:ext cx="25560" cy="156240"/>
            </a:xfrm>
            <a:custGeom>
              <a:avLst/>
              <a:gdLst/>
              <a:ahLst/>
              <a:rect l="l" t="t" r="r" b="b"/>
              <a:pathLst>
                <a:path w="96" h="575">
                  <a:moveTo>
                    <a:pt x="90" y="39"/>
                  </a:moveTo>
                  <a:lnTo>
                    <a:pt x="82" y="34"/>
                  </a:lnTo>
                  <a:lnTo>
                    <a:pt x="74" y="28"/>
                  </a:lnTo>
                  <a:lnTo>
                    <a:pt x="64" y="24"/>
                  </a:lnTo>
                  <a:lnTo>
                    <a:pt x="56" y="19"/>
                  </a:lnTo>
                  <a:lnTo>
                    <a:pt x="47" y="14"/>
                  </a:lnTo>
                  <a:lnTo>
                    <a:pt x="36" y="10"/>
                  </a:lnTo>
                  <a:lnTo>
                    <a:pt x="27" y="5"/>
                  </a:lnTo>
                  <a:lnTo>
                    <a:pt x="16" y="0"/>
                  </a:lnTo>
                  <a:lnTo>
                    <a:pt x="26" y="131"/>
                  </a:lnTo>
                  <a:lnTo>
                    <a:pt x="26" y="261"/>
                  </a:lnTo>
                  <a:lnTo>
                    <a:pt x="16" y="391"/>
                  </a:lnTo>
                  <a:lnTo>
                    <a:pt x="0" y="523"/>
                  </a:lnTo>
                  <a:lnTo>
                    <a:pt x="9" y="529"/>
                  </a:lnTo>
                  <a:lnTo>
                    <a:pt x="19" y="535"/>
                  </a:lnTo>
                  <a:lnTo>
                    <a:pt x="28" y="541"/>
                  </a:lnTo>
                  <a:lnTo>
                    <a:pt x="36" y="547"/>
                  </a:lnTo>
                  <a:lnTo>
                    <a:pt x="43" y="554"/>
                  </a:lnTo>
                  <a:lnTo>
                    <a:pt x="49" y="561"/>
                  </a:lnTo>
                  <a:lnTo>
                    <a:pt x="56" y="568"/>
                  </a:lnTo>
                  <a:lnTo>
                    <a:pt x="61" y="575"/>
                  </a:lnTo>
                  <a:lnTo>
                    <a:pt x="72" y="507"/>
                  </a:lnTo>
                  <a:lnTo>
                    <a:pt x="81" y="439"/>
                  </a:lnTo>
                  <a:lnTo>
                    <a:pt x="88" y="372"/>
                  </a:lnTo>
                  <a:lnTo>
                    <a:pt x="92" y="306"/>
                  </a:lnTo>
                  <a:lnTo>
                    <a:pt x="95" y="239"/>
                  </a:lnTo>
                  <a:lnTo>
                    <a:pt x="96" y="172"/>
                  </a:lnTo>
                  <a:lnTo>
                    <a:pt x="93" y="106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6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519920" y="3728520"/>
              <a:ext cx="34920" cy="159120"/>
            </a:xfrm>
            <a:custGeom>
              <a:avLst/>
              <a:gdLst/>
              <a:ahLst/>
              <a:rect l="l" t="t" r="r" b="b"/>
              <a:pathLst>
                <a:path w="130" h="586">
                  <a:moveTo>
                    <a:pt x="0" y="160"/>
                  </a:moveTo>
                  <a:lnTo>
                    <a:pt x="8" y="160"/>
                  </a:lnTo>
                  <a:lnTo>
                    <a:pt x="16" y="160"/>
                  </a:lnTo>
                  <a:lnTo>
                    <a:pt x="24" y="160"/>
                  </a:lnTo>
                  <a:lnTo>
                    <a:pt x="33" y="160"/>
                  </a:lnTo>
                  <a:lnTo>
                    <a:pt x="41" y="160"/>
                  </a:lnTo>
                  <a:lnTo>
                    <a:pt x="49" y="160"/>
                  </a:lnTo>
                  <a:lnTo>
                    <a:pt x="57" y="160"/>
                  </a:lnTo>
                  <a:lnTo>
                    <a:pt x="65" y="160"/>
                  </a:lnTo>
                  <a:lnTo>
                    <a:pt x="50" y="116"/>
                  </a:lnTo>
                  <a:lnTo>
                    <a:pt x="47" y="75"/>
                  </a:lnTo>
                  <a:lnTo>
                    <a:pt x="52" y="36"/>
                  </a:lnTo>
                  <a:lnTo>
                    <a:pt x="69" y="0"/>
                  </a:lnTo>
                  <a:lnTo>
                    <a:pt x="68" y="74"/>
                  </a:lnTo>
                  <a:lnTo>
                    <a:pt x="68" y="146"/>
                  </a:lnTo>
                  <a:lnTo>
                    <a:pt x="71" y="219"/>
                  </a:lnTo>
                  <a:lnTo>
                    <a:pt x="78" y="291"/>
                  </a:lnTo>
                  <a:lnTo>
                    <a:pt x="86" y="365"/>
                  </a:lnTo>
                  <a:lnTo>
                    <a:pt x="98" y="438"/>
                  </a:lnTo>
                  <a:lnTo>
                    <a:pt x="112" y="512"/>
                  </a:lnTo>
                  <a:lnTo>
                    <a:pt x="130" y="586"/>
                  </a:lnTo>
                  <a:lnTo>
                    <a:pt x="120" y="586"/>
                  </a:lnTo>
                  <a:lnTo>
                    <a:pt x="112" y="586"/>
                  </a:lnTo>
                  <a:lnTo>
                    <a:pt x="103" y="586"/>
                  </a:lnTo>
                  <a:lnTo>
                    <a:pt x="95" y="585"/>
                  </a:lnTo>
                  <a:lnTo>
                    <a:pt x="85" y="585"/>
                  </a:lnTo>
                  <a:lnTo>
                    <a:pt x="76" y="585"/>
                  </a:lnTo>
                  <a:lnTo>
                    <a:pt x="68" y="585"/>
                  </a:lnTo>
                  <a:lnTo>
                    <a:pt x="58" y="585"/>
                  </a:lnTo>
                  <a:lnTo>
                    <a:pt x="45" y="529"/>
                  </a:lnTo>
                  <a:lnTo>
                    <a:pt x="35" y="475"/>
                  </a:lnTo>
                  <a:lnTo>
                    <a:pt x="26" y="421"/>
                  </a:lnTo>
                  <a:lnTo>
                    <a:pt x="17" y="367"/>
                  </a:lnTo>
                  <a:lnTo>
                    <a:pt x="10" y="316"/>
                  </a:lnTo>
                  <a:lnTo>
                    <a:pt x="6" y="263"/>
                  </a:lnTo>
                  <a:lnTo>
                    <a:pt x="2" y="21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580480" y="3694680"/>
              <a:ext cx="24120" cy="148320"/>
            </a:xfrm>
            <a:custGeom>
              <a:avLst/>
              <a:gdLst/>
              <a:ahLst/>
              <a:rect l="l" t="t" r="r" b="b"/>
              <a:pathLst>
                <a:path w="90" h="545">
                  <a:moveTo>
                    <a:pt x="80" y="22"/>
                  </a:moveTo>
                  <a:lnTo>
                    <a:pt x="72" y="19"/>
                  </a:lnTo>
                  <a:lnTo>
                    <a:pt x="64" y="17"/>
                  </a:lnTo>
                  <a:lnTo>
                    <a:pt x="56" y="13"/>
                  </a:lnTo>
                  <a:lnTo>
                    <a:pt x="48" y="11"/>
                  </a:lnTo>
                  <a:lnTo>
                    <a:pt x="38" y="8"/>
                  </a:lnTo>
                  <a:lnTo>
                    <a:pt x="30" y="6"/>
                  </a:lnTo>
                  <a:lnTo>
                    <a:pt x="21" y="2"/>
                  </a:lnTo>
                  <a:lnTo>
                    <a:pt x="11" y="0"/>
                  </a:lnTo>
                  <a:lnTo>
                    <a:pt x="21" y="130"/>
                  </a:lnTo>
                  <a:lnTo>
                    <a:pt x="23" y="259"/>
                  </a:lnTo>
                  <a:lnTo>
                    <a:pt x="16" y="387"/>
                  </a:lnTo>
                  <a:lnTo>
                    <a:pt x="0" y="517"/>
                  </a:lnTo>
                  <a:lnTo>
                    <a:pt x="9" y="521"/>
                  </a:lnTo>
                  <a:lnTo>
                    <a:pt x="17" y="523"/>
                  </a:lnTo>
                  <a:lnTo>
                    <a:pt x="25" y="526"/>
                  </a:lnTo>
                  <a:lnTo>
                    <a:pt x="34" y="530"/>
                  </a:lnTo>
                  <a:lnTo>
                    <a:pt x="42" y="533"/>
                  </a:lnTo>
                  <a:lnTo>
                    <a:pt x="50" y="537"/>
                  </a:lnTo>
                  <a:lnTo>
                    <a:pt x="57" y="542"/>
                  </a:lnTo>
                  <a:lnTo>
                    <a:pt x="64" y="545"/>
                  </a:lnTo>
                  <a:lnTo>
                    <a:pt x="80" y="413"/>
                  </a:lnTo>
                  <a:lnTo>
                    <a:pt x="90" y="283"/>
                  </a:lnTo>
                  <a:lnTo>
                    <a:pt x="90" y="153"/>
                  </a:lnTo>
                  <a:lnTo>
                    <a:pt x="80" y="22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537200" y="3709800"/>
              <a:ext cx="28080" cy="177840"/>
            </a:xfrm>
            <a:custGeom>
              <a:avLst/>
              <a:gdLst/>
              <a:ahLst/>
              <a:rect l="l" t="t" r="r" b="b"/>
              <a:pathLst>
                <a:path w="103" h="655">
                  <a:moveTo>
                    <a:pt x="1" y="69"/>
                  </a:moveTo>
                  <a:lnTo>
                    <a:pt x="8" y="60"/>
                  </a:lnTo>
                  <a:lnTo>
                    <a:pt x="15" y="50"/>
                  </a:lnTo>
                  <a:lnTo>
                    <a:pt x="23" y="41"/>
                  </a:lnTo>
                  <a:lnTo>
                    <a:pt x="31" y="33"/>
                  </a:lnTo>
                  <a:lnTo>
                    <a:pt x="41" y="23"/>
                  </a:lnTo>
                  <a:lnTo>
                    <a:pt x="51" y="15"/>
                  </a:lnTo>
                  <a:lnTo>
                    <a:pt x="63" y="8"/>
                  </a:lnTo>
                  <a:lnTo>
                    <a:pt x="75" y="0"/>
                  </a:lnTo>
                  <a:lnTo>
                    <a:pt x="70" y="67"/>
                  </a:lnTo>
                  <a:lnTo>
                    <a:pt x="68" y="132"/>
                  </a:lnTo>
                  <a:lnTo>
                    <a:pt x="68" y="199"/>
                  </a:lnTo>
                  <a:lnTo>
                    <a:pt x="70" y="264"/>
                  </a:lnTo>
                  <a:lnTo>
                    <a:pt x="75" y="330"/>
                  </a:lnTo>
                  <a:lnTo>
                    <a:pt x="82" y="397"/>
                  </a:lnTo>
                  <a:lnTo>
                    <a:pt x="91" y="463"/>
                  </a:lnTo>
                  <a:lnTo>
                    <a:pt x="103" y="530"/>
                  </a:lnTo>
                  <a:lnTo>
                    <a:pt x="85" y="558"/>
                  </a:lnTo>
                  <a:lnTo>
                    <a:pt x="78" y="587"/>
                  </a:lnTo>
                  <a:lnTo>
                    <a:pt x="82" y="620"/>
                  </a:lnTo>
                  <a:lnTo>
                    <a:pt x="97" y="655"/>
                  </a:lnTo>
                  <a:lnTo>
                    <a:pt x="92" y="655"/>
                  </a:lnTo>
                  <a:lnTo>
                    <a:pt x="89" y="655"/>
                  </a:lnTo>
                  <a:lnTo>
                    <a:pt x="84" y="655"/>
                  </a:lnTo>
                  <a:lnTo>
                    <a:pt x="79" y="655"/>
                  </a:lnTo>
                  <a:lnTo>
                    <a:pt x="75" y="655"/>
                  </a:lnTo>
                  <a:lnTo>
                    <a:pt x="71" y="655"/>
                  </a:lnTo>
                  <a:lnTo>
                    <a:pt x="66" y="655"/>
                  </a:lnTo>
                  <a:lnTo>
                    <a:pt x="62" y="655"/>
                  </a:lnTo>
                  <a:lnTo>
                    <a:pt x="44" y="581"/>
                  </a:lnTo>
                  <a:lnTo>
                    <a:pt x="30" y="507"/>
                  </a:lnTo>
                  <a:lnTo>
                    <a:pt x="18" y="434"/>
                  </a:lnTo>
                  <a:lnTo>
                    <a:pt x="10" y="360"/>
                  </a:lnTo>
                  <a:lnTo>
                    <a:pt x="3" y="288"/>
                  </a:lnTo>
                  <a:lnTo>
                    <a:pt x="0" y="215"/>
                  </a:lnTo>
                  <a:lnTo>
                    <a:pt x="0" y="143"/>
                  </a:lnTo>
                  <a:lnTo>
                    <a:pt x="1" y="69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562840" y="3690720"/>
              <a:ext cx="24480" cy="144000"/>
            </a:xfrm>
            <a:custGeom>
              <a:avLst/>
              <a:gdLst/>
              <a:ahLst/>
              <a:rect l="l" t="t" r="r" b="b"/>
              <a:pathLst>
                <a:path w="89" h="532">
                  <a:moveTo>
                    <a:pt x="77" y="15"/>
                  </a:moveTo>
                  <a:lnTo>
                    <a:pt x="69" y="13"/>
                  </a:lnTo>
                  <a:lnTo>
                    <a:pt x="61" y="10"/>
                  </a:lnTo>
                  <a:lnTo>
                    <a:pt x="52" y="9"/>
                  </a:lnTo>
                  <a:lnTo>
                    <a:pt x="43" y="7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17" y="2"/>
                  </a:lnTo>
                  <a:lnTo>
                    <a:pt x="7" y="0"/>
                  </a:lnTo>
                  <a:lnTo>
                    <a:pt x="19" y="130"/>
                  </a:lnTo>
                  <a:lnTo>
                    <a:pt x="21" y="257"/>
                  </a:lnTo>
                  <a:lnTo>
                    <a:pt x="15" y="386"/>
                  </a:lnTo>
                  <a:lnTo>
                    <a:pt x="0" y="515"/>
                  </a:lnTo>
                  <a:lnTo>
                    <a:pt x="8" y="517"/>
                  </a:lnTo>
                  <a:lnTo>
                    <a:pt x="18" y="519"/>
                  </a:lnTo>
                  <a:lnTo>
                    <a:pt x="26" y="522"/>
                  </a:lnTo>
                  <a:lnTo>
                    <a:pt x="34" y="523"/>
                  </a:lnTo>
                  <a:lnTo>
                    <a:pt x="42" y="525"/>
                  </a:lnTo>
                  <a:lnTo>
                    <a:pt x="50" y="527"/>
                  </a:lnTo>
                  <a:lnTo>
                    <a:pt x="59" y="530"/>
                  </a:lnTo>
                  <a:lnTo>
                    <a:pt x="66" y="532"/>
                  </a:lnTo>
                  <a:lnTo>
                    <a:pt x="82" y="402"/>
                  </a:lnTo>
                  <a:lnTo>
                    <a:pt x="89" y="274"/>
                  </a:lnTo>
                  <a:lnTo>
                    <a:pt x="87" y="14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56280" y="3700080"/>
              <a:ext cx="25200" cy="153720"/>
            </a:xfrm>
            <a:custGeom>
              <a:avLst/>
              <a:gdLst/>
              <a:ahLst/>
              <a:rect l="l" t="t" r="r" b="b"/>
              <a:pathLst>
                <a:path w="95" h="565">
                  <a:moveTo>
                    <a:pt x="7" y="35"/>
                  </a:moveTo>
                  <a:lnTo>
                    <a:pt x="15" y="30"/>
                  </a:lnTo>
                  <a:lnTo>
                    <a:pt x="23" y="25"/>
                  </a:lnTo>
                  <a:lnTo>
                    <a:pt x="31" y="20"/>
                  </a:lnTo>
                  <a:lnTo>
                    <a:pt x="40" y="15"/>
                  </a:lnTo>
                  <a:lnTo>
                    <a:pt x="49" y="12"/>
                  </a:lnTo>
                  <a:lnTo>
                    <a:pt x="58" y="7"/>
                  </a:lnTo>
                  <a:lnTo>
                    <a:pt x="68" y="4"/>
                  </a:lnTo>
                  <a:lnTo>
                    <a:pt x="78" y="0"/>
                  </a:lnTo>
                  <a:lnTo>
                    <a:pt x="72" y="66"/>
                  </a:lnTo>
                  <a:lnTo>
                    <a:pt x="68" y="131"/>
                  </a:lnTo>
                  <a:lnTo>
                    <a:pt x="67" y="195"/>
                  </a:lnTo>
                  <a:lnTo>
                    <a:pt x="68" y="260"/>
                  </a:lnTo>
                  <a:lnTo>
                    <a:pt x="72" y="324"/>
                  </a:lnTo>
                  <a:lnTo>
                    <a:pt x="78" y="389"/>
                  </a:lnTo>
                  <a:lnTo>
                    <a:pt x="85" y="455"/>
                  </a:lnTo>
                  <a:lnTo>
                    <a:pt x="95" y="520"/>
                  </a:lnTo>
                  <a:lnTo>
                    <a:pt x="86" y="525"/>
                  </a:lnTo>
                  <a:lnTo>
                    <a:pt x="77" y="531"/>
                  </a:lnTo>
                  <a:lnTo>
                    <a:pt x="68" y="536"/>
                  </a:lnTo>
                  <a:lnTo>
                    <a:pt x="61" y="542"/>
                  </a:lnTo>
                  <a:lnTo>
                    <a:pt x="53" y="547"/>
                  </a:lnTo>
                  <a:lnTo>
                    <a:pt x="47" y="553"/>
                  </a:lnTo>
                  <a:lnTo>
                    <a:pt x="40" y="559"/>
                  </a:lnTo>
                  <a:lnTo>
                    <a:pt x="35" y="565"/>
                  </a:lnTo>
                  <a:lnTo>
                    <a:pt x="23" y="498"/>
                  </a:lnTo>
                  <a:lnTo>
                    <a:pt x="14" y="432"/>
                  </a:lnTo>
                  <a:lnTo>
                    <a:pt x="7" y="365"/>
                  </a:lnTo>
                  <a:lnTo>
                    <a:pt x="2" y="299"/>
                  </a:lnTo>
                  <a:lnTo>
                    <a:pt x="0" y="234"/>
                  </a:lnTo>
                  <a:lnTo>
                    <a:pt x="0" y="167"/>
                  </a:lnTo>
                  <a:lnTo>
                    <a:pt x="2" y="102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545200" y="3687840"/>
              <a:ext cx="22680" cy="142920"/>
            </a:xfrm>
            <a:custGeom>
              <a:avLst/>
              <a:gdLst/>
              <a:ahLst/>
              <a:rect l="l" t="t" r="r" b="b"/>
              <a:pathLst>
                <a:path w="87" h="523">
                  <a:moveTo>
                    <a:pt x="73" y="8"/>
                  </a:moveTo>
                  <a:lnTo>
                    <a:pt x="65" y="7"/>
                  </a:lnTo>
                  <a:lnTo>
                    <a:pt x="57" y="6"/>
                  </a:lnTo>
                  <a:lnTo>
                    <a:pt x="47" y="4"/>
                  </a:lnTo>
                  <a:lnTo>
                    <a:pt x="39" y="3"/>
                  </a:lnTo>
                  <a:lnTo>
                    <a:pt x="30" y="2"/>
                  </a:lnTo>
                  <a:lnTo>
                    <a:pt x="22" y="2"/>
                  </a:lnTo>
                  <a:lnTo>
                    <a:pt x="12" y="1"/>
                  </a:lnTo>
                  <a:lnTo>
                    <a:pt x="3" y="0"/>
                  </a:lnTo>
                  <a:lnTo>
                    <a:pt x="16" y="128"/>
                  </a:lnTo>
                  <a:lnTo>
                    <a:pt x="19" y="256"/>
                  </a:lnTo>
                  <a:lnTo>
                    <a:pt x="14" y="383"/>
                  </a:lnTo>
                  <a:lnTo>
                    <a:pt x="0" y="511"/>
                  </a:lnTo>
                  <a:lnTo>
                    <a:pt x="8" y="512"/>
                  </a:lnTo>
                  <a:lnTo>
                    <a:pt x="17" y="513"/>
                  </a:lnTo>
                  <a:lnTo>
                    <a:pt x="25" y="514"/>
                  </a:lnTo>
                  <a:lnTo>
                    <a:pt x="33" y="517"/>
                  </a:lnTo>
                  <a:lnTo>
                    <a:pt x="42" y="518"/>
                  </a:lnTo>
                  <a:lnTo>
                    <a:pt x="50" y="519"/>
                  </a:lnTo>
                  <a:lnTo>
                    <a:pt x="58" y="521"/>
                  </a:lnTo>
                  <a:lnTo>
                    <a:pt x="66" y="523"/>
                  </a:lnTo>
                  <a:lnTo>
                    <a:pt x="81" y="394"/>
                  </a:lnTo>
                  <a:lnTo>
                    <a:pt x="87" y="265"/>
                  </a:lnTo>
                  <a:lnTo>
                    <a:pt x="85" y="138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78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73920" y="3694680"/>
              <a:ext cx="25560" cy="147240"/>
            </a:xfrm>
            <a:custGeom>
              <a:avLst/>
              <a:gdLst/>
              <a:ahLst/>
              <a:rect l="l" t="t" r="r" b="b"/>
              <a:pathLst>
                <a:path w="93" h="542">
                  <a:moveTo>
                    <a:pt x="11" y="22"/>
                  </a:moveTo>
                  <a:lnTo>
                    <a:pt x="19" y="19"/>
                  </a:lnTo>
                  <a:lnTo>
                    <a:pt x="27" y="15"/>
                  </a:lnTo>
                  <a:lnTo>
                    <a:pt x="37" y="13"/>
                  </a:lnTo>
                  <a:lnTo>
                    <a:pt x="45" y="9"/>
                  </a:lnTo>
                  <a:lnTo>
                    <a:pt x="54" y="7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70" y="130"/>
                  </a:lnTo>
                  <a:lnTo>
                    <a:pt x="69" y="258"/>
                  </a:lnTo>
                  <a:lnTo>
                    <a:pt x="76" y="387"/>
                  </a:lnTo>
                  <a:lnTo>
                    <a:pt x="93" y="517"/>
                  </a:lnTo>
                  <a:lnTo>
                    <a:pt x="85" y="519"/>
                  </a:lnTo>
                  <a:lnTo>
                    <a:pt x="75" y="523"/>
                  </a:lnTo>
                  <a:lnTo>
                    <a:pt x="67" y="525"/>
                  </a:lnTo>
                  <a:lnTo>
                    <a:pt x="59" y="528"/>
                  </a:lnTo>
                  <a:lnTo>
                    <a:pt x="51" y="532"/>
                  </a:lnTo>
                  <a:lnTo>
                    <a:pt x="44" y="535"/>
                  </a:lnTo>
                  <a:lnTo>
                    <a:pt x="35" y="539"/>
                  </a:lnTo>
                  <a:lnTo>
                    <a:pt x="28" y="542"/>
                  </a:lnTo>
                  <a:lnTo>
                    <a:pt x="18" y="477"/>
                  </a:lnTo>
                  <a:lnTo>
                    <a:pt x="11" y="411"/>
                  </a:lnTo>
                  <a:lnTo>
                    <a:pt x="5" y="346"/>
                  </a:lnTo>
                  <a:lnTo>
                    <a:pt x="1" y="282"/>
                  </a:lnTo>
                  <a:lnTo>
                    <a:pt x="0" y="217"/>
                  </a:lnTo>
                  <a:lnTo>
                    <a:pt x="1" y="153"/>
                  </a:lnTo>
                  <a:lnTo>
                    <a:pt x="5" y="88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78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526120" y="3686760"/>
              <a:ext cx="24480" cy="141120"/>
            </a:xfrm>
            <a:custGeom>
              <a:avLst/>
              <a:gdLst/>
              <a:ahLst/>
              <a:rect l="l" t="t" r="r" b="b"/>
              <a:pathLst>
                <a:path w="87" h="516">
                  <a:moveTo>
                    <a:pt x="71" y="5"/>
                  </a:moveTo>
                  <a:lnTo>
                    <a:pt x="63" y="4"/>
                  </a:lnTo>
                  <a:lnTo>
                    <a:pt x="55" y="4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28" y="1"/>
                  </a:lnTo>
                  <a:lnTo>
                    <a:pt x="20" y="1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5" y="128"/>
                  </a:lnTo>
                  <a:lnTo>
                    <a:pt x="20" y="254"/>
                  </a:lnTo>
                  <a:lnTo>
                    <a:pt x="14" y="381"/>
                  </a:lnTo>
                  <a:lnTo>
                    <a:pt x="0" y="509"/>
                  </a:lnTo>
                  <a:lnTo>
                    <a:pt x="8" y="510"/>
                  </a:lnTo>
                  <a:lnTo>
                    <a:pt x="17" y="510"/>
                  </a:lnTo>
                  <a:lnTo>
                    <a:pt x="25" y="511"/>
                  </a:lnTo>
                  <a:lnTo>
                    <a:pt x="34" y="512"/>
                  </a:lnTo>
                  <a:lnTo>
                    <a:pt x="43" y="513"/>
                  </a:lnTo>
                  <a:lnTo>
                    <a:pt x="51" y="513"/>
                  </a:lnTo>
                  <a:lnTo>
                    <a:pt x="59" y="515"/>
                  </a:lnTo>
                  <a:lnTo>
                    <a:pt x="68" y="516"/>
                  </a:lnTo>
                  <a:lnTo>
                    <a:pt x="82" y="388"/>
                  </a:lnTo>
                  <a:lnTo>
                    <a:pt x="87" y="261"/>
                  </a:lnTo>
                  <a:lnTo>
                    <a:pt x="84" y="133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7d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93000" y="3690720"/>
              <a:ext cx="24120" cy="144000"/>
            </a:xfrm>
            <a:custGeom>
              <a:avLst/>
              <a:gdLst/>
              <a:ahLst/>
              <a:rect l="l" t="t" r="r" b="b"/>
              <a:pathLst>
                <a:path w="90" h="531">
                  <a:moveTo>
                    <a:pt x="13" y="14"/>
                  </a:moveTo>
                  <a:lnTo>
                    <a:pt x="21" y="11"/>
                  </a:lnTo>
                  <a:lnTo>
                    <a:pt x="30" y="9"/>
                  </a:lnTo>
                  <a:lnTo>
                    <a:pt x="39" y="8"/>
                  </a:lnTo>
                  <a:lnTo>
                    <a:pt x="47" y="6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70" y="128"/>
                  </a:lnTo>
                  <a:lnTo>
                    <a:pt x="68" y="256"/>
                  </a:lnTo>
                  <a:lnTo>
                    <a:pt x="74" y="385"/>
                  </a:lnTo>
                  <a:lnTo>
                    <a:pt x="90" y="513"/>
                  </a:lnTo>
                  <a:lnTo>
                    <a:pt x="82" y="516"/>
                  </a:lnTo>
                  <a:lnTo>
                    <a:pt x="73" y="518"/>
                  </a:lnTo>
                  <a:lnTo>
                    <a:pt x="65" y="519"/>
                  </a:lnTo>
                  <a:lnTo>
                    <a:pt x="56" y="521"/>
                  </a:lnTo>
                  <a:lnTo>
                    <a:pt x="48" y="524"/>
                  </a:lnTo>
                  <a:lnTo>
                    <a:pt x="40" y="526"/>
                  </a:lnTo>
                  <a:lnTo>
                    <a:pt x="32" y="528"/>
                  </a:lnTo>
                  <a:lnTo>
                    <a:pt x="24" y="531"/>
                  </a:lnTo>
                  <a:lnTo>
                    <a:pt x="7" y="401"/>
                  </a:lnTo>
                  <a:lnTo>
                    <a:pt x="0" y="272"/>
                  </a:lnTo>
                  <a:lnTo>
                    <a:pt x="1" y="144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7d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507400" y="3686760"/>
              <a:ext cx="24120" cy="138600"/>
            </a:xfrm>
            <a:custGeom>
              <a:avLst/>
              <a:gdLst/>
              <a:ahLst/>
              <a:rect l="l" t="t" r="r" b="b"/>
              <a:pathLst>
                <a:path w="90" h="510">
                  <a:moveTo>
                    <a:pt x="71" y="1"/>
                  </a:moveTo>
                  <a:lnTo>
                    <a:pt x="63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2" y="0"/>
                  </a:lnTo>
                  <a:lnTo>
                    <a:pt x="16" y="127"/>
                  </a:lnTo>
                  <a:lnTo>
                    <a:pt x="21" y="253"/>
                  </a:lnTo>
                  <a:lnTo>
                    <a:pt x="15" y="379"/>
                  </a:lnTo>
                  <a:lnTo>
                    <a:pt x="0" y="506"/>
                  </a:lnTo>
                  <a:lnTo>
                    <a:pt x="9" y="506"/>
                  </a:lnTo>
                  <a:lnTo>
                    <a:pt x="18" y="506"/>
                  </a:lnTo>
                  <a:lnTo>
                    <a:pt x="26" y="506"/>
                  </a:lnTo>
                  <a:lnTo>
                    <a:pt x="36" y="507"/>
                  </a:lnTo>
                  <a:lnTo>
                    <a:pt x="44" y="507"/>
                  </a:lnTo>
                  <a:lnTo>
                    <a:pt x="53" y="509"/>
                  </a:lnTo>
                  <a:lnTo>
                    <a:pt x="61" y="509"/>
                  </a:lnTo>
                  <a:lnTo>
                    <a:pt x="70" y="510"/>
                  </a:lnTo>
                  <a:lnTo>
                    <a:pt x="84" y="382"/>
                  </a:lnTo>
                  <a:lnTo>
                    <a:pt x="90" y="255"/>
                  </a:lnTo>
                  <a:lnTo>
                    <a:pt x="85" y="129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83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611720" y="3687840"/>
              <a:ext cx="24480" cy="141480"/>
            </a:xfrm>
            <a:custGeom>
              <a:avLst/>
              <a:gdLst/>
              <a:ahLst/>
              <a:rect l="l" t="t" r="r" b="b"/>
              <a:pathLst>
                <a:path w="90" h="521">
                  <a:moveTo>
                    <a:pt x="15" y="8"/>
                  </a:moveTo>
                  <a:lnTo>
                    <a:pt x="24" y="7"/>
                  </a:lnTo>
                  <a:lnTo>
                    <a:pt x="33" y="5"/>
                  </a:lnTo>
                  <a:lnTo>
                    <a:pt x="41" y="4"/>
                  </a:lnTo>
                  <a:lnTo>
                    <a:pt x="50" y="3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73" y="127"/>
                  </a:lnTo>
                  <a:lnTo>
                    <a:pt x="68" y="255"/>
                  </a:lnTo>
                  <a:lnTo>
                    <a:pt x="74" y="382"/>
                  </a:lnTo>
                  <a:lnTo>
                    <a:pt x="90" y="511"/>
                  </a:lnTo>
                  <a:lnTo>
                    <a:pt x="81" y="512"/>
                  </a:lnTo>
                  <a:lnTo>
                    <a:pt x="73" y="513"/>
                  </a:lnTo>
                  <a:lnTo>
                    <a:pt x="63" y="514"/>
                  </a:lnTo>
                  <a:lnTo>
                    <a:pt x="55" y="515"/>
                  </a:lnTo>
                  <a:lnTo>
                    <a:pt x="47" y="518"/>
                  </a:lnTo>
                  <a:lnTo>
                    <a:pt x="39" y="519"/>
                  </a:lnTo>
                  <a:lnTo>
                    <a:pt x="31" y="520"/>
                  </a:lnTo>
                  <a:lnTo>
                    <a:pt x="22" y="521"/>
                  </a:lnTo>
                  <a:lnTo>
                    <a:pt x="6" y="393"/>
                  </a:lnTo>
                  <a:lnTo>
                    <a:pt x="0" y="264"/>
                  </a:lnTo>
                  <a:lnTo>
                    <a:pt x="2" y="136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3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489760" y="3686760"/>
              <a:ext cx="22680" cy="137160"/>
            </a:xfrm>
            <a:custGeom>
              <a:avLst/>
              <a:gdLst/>
              <a:ahLst/>
              <a:rect l="l" t="t" r="r" b="b"/>
              <a:pathLst>
                <a:path w="89" h="506">
                  <a:moveTo>
                    <a:pt x="70" y="0"/>
                  </a:moveTo>
                  <a:lnTo>
                    <a:pt x="62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1"/>
                  </a:lnTo>
                  <a:lnTo>
                    <a:pt x="20" y="1"/>
                  </a:lnTo>
                  <a:lnTo>
                    <a:pt x="10" y="2"/>
                  </a:lnTo>
                  <a:lnTo>
                    <a:pt x="2" y="2"/>
                  </a:lnTo>
                  <a:lnTo>
                    <a:pt x="16" y="129"/>
                  </a:lnTo>
                  <a:lnTo>
                    <a:pt x="21" y="254"/>
                  </a:lnTo>
                  <a:lnTo>
                    <a:pt x="15" y="379"/>
                  </a:lnTo>
                  <a:lnTo>
                    <a:pt x="0" y="505"/>
                  </a:lnTo>
                  <a:lnTo>
                    <a:pt x="8" y="505"/>
                  </a:lnTo>
                  <a:lnTo>
                    <a:pt x="17" y="505"/>
                  </a:lnTo>
                  <a:lnTo>
                    <a:pt x="25" y="505"/>
                  </a:lnTo>
                  <a:lnTo>
                    <a:pt x="34" y="505"/>
                  </a:lnTo>
                  <a:lnTo>
                    <a:pt x="43" y="505"/>
                  </a:lnTo>
                  <a:lnTo>
                    <a:pt x="51" y="505"/>
                  </a:lnTo>
                  <a:lnTo>
                    <a:pt x="59" y="506"/>
                  </a:lnTo>
                  <a:lnTo>
                    <a:pt x="68" y="506"/>
                  </a:lnTo>
                  <a:lnTo>
                    <a:pt x="83" y="379"/>
                  </a:lnTo>
                  <a:lnTo>
                    <a:pt x="89" y="253"/>
                  </a:lnTo>
                  <a:lnTo>
                    <a:pt x="84" y="12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88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629360" y="3686760"/>
              <a:ext cx="24120" cy="140040"/>
            </a:xfrm>
            <a:custGeom>
              <a:avLst/>
              <a:gdLst/>
              <a:ahLst/>
              <a:rect l="l" t="t" r="r" b="b"/>
              <a:pathLst>
                <a:path w="89" h="516">
                  <a:moveTo>
                    <a:pt x="19" y="5"/>
                  </a:moveTo>
                  <a:lnTo>
                    <a:pt x="27" y="3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1" y="2"/>
                  </a:lnTo>
                  <a:lnTo>
                    <a:pt x="61" y="1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72" y="127"/>
                  </a:lnTo>
                  <a:lnTo>
                    <a:pt x="68" y="255"/>
                  </a:lnTo>
                  <a:lnTo>
                    <a:pt x="74" y="381"/>
                  </a:lnTo>
                  <a:lnTo>
                    <a:pt x="89" y="509"/>
                  </a:lnTo>
                  <a:lnTo>
                    <a:pt x="81" y="510"/>
                  </a:lnTo>
                  <a:lnTo>
                    <a:pt x="71" y="510"/>
                  </a:lnTo>
                  <a:lnTo>
                    <a:pt x="63" y="511"/>
                  </a:lnTo>
                  <a:lnTo>
                    <a:pt x="55" y="512"/>
                  </a:lnTo>
                  <a:lnTo>
                    <a:pt x="47" y="513"/>
                  </a:lnTo>
                  <a:lnTo>
                    <a:pt x="39" y="513"/>
                  </a:lnTo>
                  <a:lnTo>
                    <a:pt x="30" y="514"/>
                  </a:lnTo>
                  <a:lnTo>
                    <a:pt x="22" y="516"/>
                  </a:lnTo>
                  <a:lnTo>
                    <a:pt x="6" y="387"/>
                  </a:lnTo>
                  <a:lnTo>
                    <a:pt x="0" y="260"/>
                  </a:lnTo>
                  <a:lnTo>
                    <a:pt x="5" y="13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88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471040" y="3687840"/>
              <a:ext cx="24120" cy="137520"/>
            </a:xfrm>
            <a:custGeom>
              <a:avLst/>
              <a:gdLst/>
              <a:ahLst/>
              <a:rect l="l" t="t" r="r" b="b"/>
              <a:pathLst>
                <a:path w="91" h="505">
                  <a:moveTo>
                    <a:pt x="72" y="0"/>
                  </a:moveTo>
                  <a:lnTo>
                    <a:pt x="64" y="0"/>
                  </a:lnTo>
                  <a:lnTo>
                    <a:pt x="56" y="1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29" y="4"/>
                  </a:lnTo>
                  <a:lnTo>
                    <a:pt x="21" y="5"/>
                  </a:lnTo>
                  <a:lnTo>
                    <a:pt x="11" y="5"/>
                  </a:lnTo>
                  <a:lnTo>
                    <a:pt x="3" y="6"/>
                  </a:lnTo>
                  <a:lnTo>
                    <a:pt x="18" y="131"/>
                  </a:lnTo>
                  <a:lnTo>
                    <a:pt x="23" y="255"/>
                  </a:lnTo>
                  <a:lnTo>
                    <a:pt x="16" y="380"/>
                  </a:lnTo>
                  <a:lnTo>
                    <a:pt x="0" y="505"/>
                  </a:lnTo>
                  <a:lnTo>
                    <a:pt x="9" y="505"/>
                  </a:lnTo>
                  <a:lnTo>
                    <a:pt x="17" y="504"/>
                  </a:lnTo>
                  <a:lnTo>
                    <a:pt x="26" y="504"/>
                  </a:lnTo>
                  <a:lnTo>
                    <a:pt x="35" y="504"/>
                  </a:lnTo>
                  <a:lnTo>
                    <a:pt x="44" y="503"/>
                  </a:lnTo>
                  <a:lnTo>
                    <a:pt x="52" y="503"/>
                  </a:lnTo>
                  <a:lnTo>
                    <a:pt x="62" y="503"/>
                  </a:lnTo>
                  <a:lnTo>
                    <a:pt x="70" y="503"/>
                  </a:lnTo>
                  <a:lnTo>
                    <a:pt x="85" y="377"/>
                  </a:lnTo>
                  <a:lnTo>
                    <a:pt x="91" y="252"/>
                  </a:lnTo>
                  <a:lnTo>
                    <a:pt x="86" y="1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d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648080" y="3686760"/>
              <a:ext cx="24480" cy="138600"/>
            </a:xfrm>
            <a:custGeom>
              <a:avLst/>
              <a:gdLst/>
              <a:ahLst/>
              <a:rect l="l" t="t" r="r" b="b"/>
              <a:pathLst>
                <a:path w="90" h="509">
                  <a:moveTo>
                    <a:pt x="18" y="0"/>
                  </a:moveTo>
                  <a:lnTo>
                    <a:pt x="27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72" y="127"/>
                  </a:lnTo>
                  <a:lnTo>
                    <a:pt x="68" y="253"/>
                  </a:lnTo>
                  <a:lnTo>
                    <a:pt x="73" y="379"/>
                  </a:lnTo>
                  <a:lnTo>
                    <a:pt x="90" y="505"/>
                  </a:lnTo>
                  <a:lnTo>
                    <a:pt x="82" y="505"/>
                  </a:lnTo>
                  <a:lnTo>
                    <a:pt x="72" y="506"/>
                  </a:lnTo>
                  <a:lnTo>
                    <a:pt x="64" y="506"/>
                  </a:lnTo>
                  <a:lnTo>
                    <a:pt x="55" y="506"/>
                  </a:lnTo>
                  <a:lnTo>
                    <a:pt x="47" y="507"/>
                  </a:lnTo>
                  <a:lnTo>
                    <a:pt x="37" y="507"/>
                  </a:lnTo>
                  <a:lnTo>
                    <a:pt x="29" y="509"/>
                  </a:lnTo>
                  <a:lnTo>
                    <a:pt x="21" y="509"/>
                  </a:lnTo>
                  <a:lnTo>
                    <a:pt x="6" y="381"/>
                  </a:lnTo>
                  <a:lnTo>
                    <a:pt x="0" y="255"/>
                  </a:lnTo>
                  <a:lnTo>
                    <a:pt x="4" y="1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d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451960" y="3689280"/>
              <a:ext cx="24120" cy="136080"/>
            </a:xfrm>
            <a:custGeom>
              <a:avLst/>
              <a:gdLst/>
              <a:ahLst/>
              <a:rect l="l" t="t" r="r" b="b"/>
              <a:pathLst>
                <a:path w="92" h="503">
                  <a:moveTo>
                    <a:pt x="72" y="0"/>
                  </a:moveTo>
                  <a:lnTo>
                    <a:pt x="64" y="1"/>
                  </a:lnTo>
                  <a:lnTo>
                    <a:pt x="56" y="1"/>
                  </a:lnTo>
                  <a:lnTo>
                    <a:pt x="48" y="2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14" y="6"/>
                  </a:lnTo>
                  <a:lnTo>
                    <a:pt x="5" y="7"/>
                  </a:lnTo>
                  <a:lnTo>
                    <a:pt x="21" y="132"/>
                  </a:lnTo>
                  <a:lnTo>
                    <a:pt x="24" y="255"/>
                  </a:lnTo>
                  <a:lnTo>
                    <a:pt x="17" y="379"/>
                  </a:lnTo>
                  <a:lnTo>
                    <a:pt x="0" y="503"/>
                  </a:lnTo>
                  <a:lnTo>
                    <a:pt x="8" y="503"/>
                  </a:lnTo>
                  <a:lnTo>
                    <a:pt x="17" y="502"/>
                  </a:lnTo>
                  <a:lnTo>
                    <a:pt x="25" y="502"/>
                  </a:lnTo>
                  <a:lnTo>
                    <a:pt x="35" y="501"/>
                  </a:lnTo>
                  <a:lnTo>
                    <a:pt x="43" y="501"/>
                  </a:lnTo>
                  <a:lnTo>
                    <a:pt x="52" y="499"/>
                  </a:lnTo>
                  <a:lnTo>
                    <a:pt x="60" y="499"/>
                  </a:lnTo>
                  <a:lnTo>
                    <a:pt x="69" y="499"/>
                  </a:lnTo>
                  <a:lnTo>
                    <a:pt x="85" y="374"/>
                  </a:lnTo>
                  <a:lnTo>
                    <a:pt x="92" y="249"/>
                  </a:lnTo>
                  <a:lnTo>
                    <a:pt x="87" y="12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29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667160" y="3686760"/>
              <a:ext cx="24480" cy="137160"/>
            </a:xfrm>
            <a:custGeom>
              <a:avLst/>
              <a:gdLst/>
              <a:ahLst/>
              <a:rect l="l" t="t" r="r" b="b"/>
              <a:pathLst>
                <a:path w="91" h="505">
                  <a:moveTo>
                    <a:pt x="19" y="0"/>
                  </a:moveTo>
                  <a:lnTo>
                    <a:pt x="28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80" y="2"/>
                  </a:lnTo>
                  <a:lnTo>
                    <a:pt x="88" y="2"/>
                  </a:lnTo>
                  <a:lnTo>
                    <a:pt x="73" y="129"/>
                  </a:lnTo>
                  <a:lnTo>
                    <a:pt x="67" y="254"/>
                  </a:lnTo>
                  <a:lnTo>
                    <a:pt x="73" y="379"/>
                  </a:lnTo>
                  <a:lnTo>
                    <a:pt x="91" y="505"/>
                  </a:lnTo>
                  <a:lnTo>
                    <a:pt x="83" y="505"/>
                  </a:lnTo>
                  <a:lnTo>
                    <a:pt x="73" y="505"/>
                  </a:lnTo>
                  <a:lnTo>
                    <a:pt x="65" y="505"/>
                  </a:lnTo>
                  <a:lnTo>
                    <a:pt x="56" y="505"/>
                  </a:lnTo>
                  <a:lnTo>
                    <a:pt x="48" y="505"/>
                  </a:lnTo>
                  <a:lnTo>
                    <a:pt x="38" y="505"/>
                  </a:lnTo>
                  <a:lnTo>
                    <a:pt x="30" y="505"/>
                  </a:lnTo>
                  <a:lnTo>
                    <a:pt x="22" y="505"/>
                  </a:lnTo>
                  <a:lnTo>
                    <a:pt x="5" y="379"/>
                  </a:lnTo>
                  <a:lnTo>
                    <a:pt x="0" y="253"/>
                  </a:lnTo>
                  <a:lnTo>
                    <a:pt x="4" y="12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29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431800" y="3690720"/>
              <a:ext cx="27000" cy="137160"/>
            </a:xfrm>
            <a:custGeom>
              <a:avLst/>
              <a:gdLst/>
              <a:ahLst/>
              <a:rect l="l" t="t" r="r" b="b"/>
              <a:pathLst>
                <a:path w="96" h="503">
                  <a:moveTo>
                    <a:pt x="77" y="0"/>
                  </a:moveTo>
                  <a:lnTo>
                    <a:pt x="69" y="1"/>
                  </a:lnTo>
                  <a:lnTo>
                    <a:pt x="61" y="2"/>
                  </a:lnTo>
                  <a:lnTo>
                    <a:pt x="53" y="4"/>
                  </a:lnTo>
                  <a:lnTo>
                    <a:pt x="45" y="5"/>
                  </a:lnTo>
                  <a:lnTo>
                    <a:pt x="35" y="7"/>
                  </a:lnTo>
                  <a:lnTo>
                    <a:pt x="27" y="8"/>
                  </a:lnTo>
                  <a:lnTo>
                    <a:pt x="19" y="9"/>
                  </a:lnTo>
                  <a:lnTo>
                    <a:pt x="11" y="11"/>
                  </a:lnTo>
                  <a:lnTo>
                    <a:pt x="19" y="73"/>
                  </a:lnTo>
                  <a:lnTo>
                    <a:pt x="25" y="135"/>
                  </a:lnTo>
                  <a:lnTo>
                    <a:pt x="27" y="195"/>
                  </a:lnTo>
                  <a:lnTo>
                    <a:pt x="28" y="257"/>
                  </a:lnTo>
                  <a:lnTo>
                    <a:pt x="25" y="318"/>
                  </a:lnTo>
                  <a:lnTo>
                    <a:pt x="20" y="380"/>
                  </a:lnTo>
                  <a:lnTo>
                    <a:pt x="12" y="441"/>
                  </a:lnTo>
                  <a:lnTo>
                    <a:pt x="0" y="503"/>
                  </a:lnTo>
                  <a:lnTo>
                    <a:pt x="10" y="502"/>
                  </a:lnTo>
                  <a:lnTo>
                    <a:pt x="19" y="501"/>
                  </a:lnTo>
                  <a:lnTo>
                    <a:pt x="27" y="501"/>
                  </a:lnTo>
                  <a:lnTo>
                    <a:pt x="36" y="499"/>
                  </a:lnTo>
                  <a:lnTo>
                    <a:pt x="45" y="498"/>
                  </a:lnTo>
                  <a:lnTo>
                    <a:pt x="54" y="497"/>
                  </a:lnTo>
                  <a:lnTo>
                    <a:pt x="62" y="497"/>
                  </a:lnTo>
                  <a:lnTo>
                    <a:pt x="72" y="496"/>
                  </a:lnTo>
                  <a:lnTo>
                    <a:pt x="89" y="372"/>
                  </a:lnTo>
                  <a:lnTo>
                    <a:pt x="96" y="248"/>
                  </a:lnTo>
                  <a:lnTo>
                    <a:pt x="93" y="12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7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684800" y="3687840"/>
              <a:ext cx="25200" cy="137520"/>
            </a:xfrm>
            <a:custGeom>
              <a:avLst/>
              <a:gdLst/>
              <a:ahLst/>
              <a:rect l="l" t="t" r="r" b="b"/>
              <a:pathLst>
                <a:path w="94" h="505">
                  <a:moveTo>
                    <a:pt x="21" y="0"/>
                  </a:moveTo>
                  <a:lnTo>
                    <a:pt x="30" y="0"/>
                  </a:lnTo>
                  <a:lnTo>
                    <a:pt x="38" y="1"/>
                  </a:lnTo>
                  <a:lnTo>
                    <a:pt x="47" y="1"/>
                  </a:lnTo>
                  <a:lnTo>
                    <a:pt x="55" y="3"/>
                  </a:lnTo>
                  <a:lnTo>
                    <a:pt x="64" y="4"/>
                  </a:lnTo>
                  <a:lnTo>
                    <a:pt x="73" y="5"/>
                  </a:lnTo>
                  <a:lnTo>
                    <a:pt x="81" y="5"/>
                  </a:lnTo>
                  <a:lnTo>
                    <a:pt x="89" y="6"/>
                  </a:lnTo>
                  <a:lnTo>
                    <a:pt x="73" y="131"/>
                  </a:lnTo>
                  <a:lnTo>
                    <a:pt x="68" y="256"/>
                  </a:lnTo>
                  <a:lnTo>
                    <a:pt x="75" y="380"/>
                  </a:lnTo>
                  <a:lnTo>
                    <a:pt x="94" y="505"/>
                  </a:lnTo>
                  <a:lnTo>
                    <a:pt x="86" y="505"/>
                  </a:lnTo>
                  <a:lnTo>
                    <a:pt x="76" y="504"/>
                  </a:lnTo>
                  <a:lnTo>
                    <a:pt x="68" y="504"/>
                  </a:lnTo>
                  <a:lnTo>
                    <a:pt x="59" y="504"/>
                  </a:lnTo>
                  <a:lnTo>
                    <a:pt x="51" y="503"/>
                  </a:lnTo>
                  <a:lnTo>
                    <a:pt x="41" y="503"/>
                  </a:lnTo>
                  <a:lnTo>
                    <a:pt x="33" y="503"/>
                  </a:lnTo>
                  <a:lnTo>
                    <a:pt x="24" y="503"/>
                  </a:lnTo>
                  <a:lnTo>
                    <a:pt x="6" y="377"/>
                  </a:lnTo>
                  <a:lnTo>
                    <a:pt x="0" y="252"/>
                  </a:lnTo>
                  <a:lnTo>
                    <a:pt x="6" y="1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412720" y="3693240"/>
              <a:ext cx="27000" cy="137160"/>
            </a:xfrm>
            <a:custGeom>
              <a:avLst/>
              <a:gdLst/>
              <a:ahLst/>
              <a:rect l="l" t="t" r="r" b="b"/>
              <a:pathLst>
                <a:path w="99" h="501">
                  <a:moveTo>
                    <a:pt x="82" y="0"/>
                  </a:moveTo>
                  <a:lnTo>
                    <a:pt x="74" y="1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48" y="5"/>
                  </a:lnTo>
                  <a:lnTo>
                    <a:pt x="38" y="8"/>
                  </a:lnTo>
                  <a:lnTo>
                    <a:pt x="30" y="9"/>
                  </a:lnTo>
                  <a:lnTo>
                    <a:pt x="21" y="11"/>
                  </a:lnTo>
                  <a:lnTo>
                    <a:pt x="13" y="12"/>
                  </a:lnTo>
                  <a:lnTo>
                    <a:pt x="21" y="73"/>
                  </a:lnTo>
                  <a:lnTo>
                    <a:pt x="27" y="135"/>
                  </a:lnTo>
                  <a:lnTo>
                    <a:pt x="30" y="196"/>
                  </a:lnTo>
                  <a:lnTo>
                    <a:pt x="29" y="257"/>
                  </a:lnTo>
                  <a:lnTo>
                    <a:pt x="27" y="318"/>
                  </a:lnTo>
                  <a:lnTo>
                    <a:pt x="21" y="379"/>
                  </a:lnTo>
                  <a:lnTo>
                    <a:pt x="12" y="439"/>
                  </a:lnTo>
                  <a:lnTo>
                    <a:pt x="0" y="501"/>
                  </a:lnTo>
                  <a:lnTo>
                    <a:pt x="9" y="500"/>
                  </a:lnTo>
                  <a:lnTo>
                    <a:pt x="19" y="499"/>
                  </a:lnTo>
                  <a:lnTo>
                    <a:pt x="27" y="498"/>
                  </a:lnTo>
                  <a:lnTo>
                    <a:pt x="36" y="497"/>
                  </a:lnTo>
                  <a:lnTo>
                    <a:pt x="44" y="496"/>
                  </a:lnTo>
                  <a:lnTo>
                    <a:pt x="54" y="494"/>
                  </a:lnTo>
                  <a:lnTo>
                    <a:pt x="62" y="493"/>
                  </a:lnTo>
                  <a:lnTo>
                    <a:pt x="71" y="492"/>
                  </a:lnTo>
                  <a:lnTo>
                    <a:pt x="83" y="430"/>
                  </a:lnTo>
                  <a:lnTo>
                    <a:pt x="91" y="369"/>
                  </a:lnTo>
                  <a:lnTo>
                    <a:pt x="96" y="307"/>
                  </a:lnTo>
                  <a:lnTo>
                    <a:pt x="99" y="246"/>
                  </a:lnTo>
                  <a:lnTo>
                    <a:pt x="98" y="184"/>
                  </a:lnTo>
                  <a:lnTo>
                    <a:pt x="96" y="124"/>
                  </a:lnTo>
                  <a:lnTo>
                    <a:pt x="90" y="6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9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703520" y="3689280"/>
              <a:ext cx="25560" cy="137160"/>
            </a:xfrm>
            <a:custGeom>
              <a:avLst/>
              <a:gdLst/>
              <a:ahLst/>
              <a:rect l="l" t="t" r="r" b="b"/>
              <a:pathLst>
                <a:path w="96" h="504">
                  <a:moveTo>
                    <a:pt x="21" y="0"/>
                  </a:moveTo>
                  <a:lnTo>
                    <a:pt x="29" y="1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5" y="5"/>
                  </a:lnTo>
                  <a:lnTo>
                    <a:pt x="73" y="6"/>
                  </a:lnTo>
                  <a:lnTo>
                    <a:pt x="82" y="7"/>
                  </a:lnTo>
                  <a:lnTo>
                    <a:pt x="90" y="8"/>
                  </a:lnTo>
                  <a:lnTo>
                    <a:pt x="81" y="70"/>
                  </a:lnTo>
                  <a:lnTo>
                    <a:pt x="74" y="133"/>
                  </a:lnTo>
                  <a:lnTo>
                    <a:pt x="70" y="195"/>
                  </a:lnTo>
                  <a:lnTo>
                    <a:pt x="70" y="256"/>
                  </a:lnTo>
                  <a:lnTo>
                    <a:pt x="73" y="318"/>
                  </a:lnTo>
                  <a:lnTo>
                    <a:pt x="77" y="380"/>
                  </a:lnTo>
                  <a:lnTo>
                    <a:pt x="86" y="442"/>
                  </a:lnTo>
                  <a:lnTo>
                    <a:pt x="96" y="504"/>
                  </a:lnTo>
                  <a:lnTo>
                    <a:pt x="87" y="503"/>
                  </a:lnTo>
                  <a:lnTo>
                    <a:pt x="79" y="503"/>
                  </a:lnTo>
                  <a:lnTo>
                    <a:pt x="69" y="502"/>
                  </a:lnTo>
                  <a:lnTo>
                    <a:pt x="61" y="502"/>
                  </a:lnTo>
                  <a:lnTo>
                    <a:pt x="52" y="501"/>
                  </a:lnTo>
                  <a:lnTo>
                    <a:pt x="43" y="501"/>
                  </a:lnTo>
                  <a:lnTo>
                    <a:pt x="34" y="499"/>
                  </a:lnTo>
                  <a:lnTo>
                    <a:pt x="26" y="499"/>
                  </a:lnTo>
                  <a:lnTo>
                    <a:pt x="7" y="374"/>
                  </a:lnTo>
                  <a:lnTo>
                    <a:pt x="0" y="250"/>
                  </a:lnTo>
                  <a:lnTo>
                    <a:pt x="5" y="1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393640" y="3697560"/>
              <a:ext cx="27000" cy="136080"/>
            </a:xfrm>
            <a:custGeom>
              <a:avLst/>
              <a:gdLst/>
              <a:ahLst/>
              <a:rect l="l" t="t" r="r" b="b"/>
              <a:pathLst>
                <a:path w="103" h="500">
                  <a:moveTo>
                    <a:pt x="86" y="0"/>
                  </a:moveTo>
                  <a:lnTo>
                    <a:pt x="78" y="2"/>
                  </a:lnTo>
                  <a:lnTo>
                    <a:pt x="69" y="4"/>
                  </a:lnTo>
                  <a:lnTo>
                    <a:pt x="61" y="5"/>
                  </a:lnTo>
                  <a:lnTo>
                    <a:pt x="53" y="8"/>
                  </a:lnTo>
                  <a:lnTo>
                    <a:pt x="45" y="9"/>
                  </a:lnTo>
                  <a:lnTo>
                    <a:pt x="37" y="11"/>
                  </a:lnTo>
                  <a:lnTo>
                    <a:pt x="28" y="12"/>
                  </a:lnTo>
                  <a:lnTo>
                    <a:pt x="20" y="15"/>
                  </a:lnTo>
                  <a:lnTo>
                    <a:pt x="28" y="75"/>
                  </a:lnTo>
                  <a:lnTo>
                    <a:pt x="33" y="136"/>
                  </a:lnTo>
                  <a:lnTo>
                    <a:pt x="35" y="197"/>
                  </a:lnTo>
                  <a:lnTo>
                    <a:pt x="34" y="257"/>
                  </a:lnTo>
                  <a:lnTo>
                    <a:pt x="30" y="317"/>
                  </a:lnTo>
                  <a:lnTo>
                    <a:pt x="24" y="378"/>
                  </a:lnTo>
                  <a:lnTo>
                    <a:pt x="13" y="439"/>
                  </a:lnTo>
                  <a:lnTo>
                    <a:pt x="0" y="500"/>
                  </a:lnTo>
                  <a:lnTo>
                    <a:pt x="10" y="499"/>
                  </a:lnTo>
                  <a:lnTo>
                    <a:pt x="19" y="498"/>
                  </a:lnTo>
                  <a:lnTo>
                    <a:pt x="27" y="496"/>
                  </a:lnTo>
                  <a:lnTo>
                    <a:pt x="37" y="494"/>
                  </a:lnTo>
                  <a:lnTo>
                    <a:pt x="46" y="493"/>
                  </a:lnTo>
                  <a:lnTo>
                    <a:pt x="54" y="492"/>
                  </a:lnTo>
                  <a:lnTo>
                    <a:pt x="64" y="491"/>
                  </a:lnTo>
                  <a:lnTo>
                    <a:pt x="73" y="489"/>
                  </a:lnTo>
                  <a:lnTo>
                    <a:pt x="85" y="427"/>
                  </a:lnTo>
                  <a:lnTo>
                    <a:pt x="94" y="367"/>
                  </a:lnTo>
                  <a:lnTo>
                    <a:pt x="100" y="306"/>
                  </a:lnTo>
                  <a:lnTo>
                    <a:pt x="102" y="245"/>
                  </a:lnTo>
                  <a:lnTo>
                    <a:pt x="103" y="184"/>
                  </a:lnTo>
                  <a:lnTo>
                    <a:pt x="100" y="123"/>
                  </a:lnTo>
                  <a:lnTo>
                    <a:pt x="94" y="6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4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722600" y="3690720"/>
              <a:ext cx="25560" cy="137160"/>
            </a:xfrm>
            <a:custGeom>
              <a:avLst/>
              <a:gdLst/>
              <a:ahLst/>
              <a:rect l="l" t="t" r="r" b="b"/>
              <a:pathLst>
                <a:path w="97" h="503">
                  <a:moveTo>
                    <a:pt x="20" y="0"/>
                  </a:moveTo>
                  <a:lnTo>
                    <a:pt x="28" y="1"/>
                  </a:lnTo>
                  <a:lnTo>
                    <a:pt x="37" y="3"/>
                  </a:lnTo>
                  <a:lnTo>
                    <a:pt x="45" y="4"/>
                  </a:lnTo>
                  <a:lnTo>
                    <a:pt x="54" y="5"/>
                  </a:lnTo>
                  <a:lnTo>
                    <a:pt x="62" y="7"/>
                  </a:lnTo>
                  <a:lnTo>
                    <a:pt x="71" y="8"/>
                  </a:lnTo>
                  <a:lnTo>
                    <a:pt x="79" y="10"/>
                  </a:lnTo>
                  <a:lnTo>
                    <a:pt x="87" y="11"/>
                  </a:lnTo>
                  <a:lnTo>
                    <a:pt x="78" y="73"/>
                  </a:lnTo>
                  <a:lnTo>
                    <a:pt x="72" y="135"/>
                  </a:lnTo>
                  <a:lnTo>
                    <a:pt x="68" y="197"/>
                  </a:lnTo>
                  <a:lnTo>
                    <a:pt x="68" y="258"/>
                  </a:lnTo>
                  <a:lnTo>
                    <a:pt x="71" y="320"/>
                  </a:lnTo>
                  <a:lnTo>
                    <a:pt x="76" y="380"/>
                  </a:lnTo>
                  <a:lnTo>
                    <a:pt x="86" y="442"/>
                  </a:lnTo>
                  <a:lnTo>
                    <a:pt x="97" y="503"/>
                  </a:lnTo>
                  <a:lnTo>
                    <a:pt x="88" y="502"/>
                  </a:lnTo>
                  <a:lnTo>
                    <a:pt x="79" y="501"/>
                  </a:lnTo>
                  <a:lnTo>
                    <a:pt x="71" y="501"/>
                  </a:lnTo>
                  <a:lnTo>
                    <a:pt x="61" y="500"/>
                  </a:lnTo>
                  <a:lnTo>
                    <a:pt x="53" y="498"/>
                  </a:lnTo>
                  <a:lnTo>
                    <a:pt x="44" y="497"/>
                  </a:lnTo>
                  <a:lnTo>
                    <a:pt x="35" y="497"/>
                  </a:lnTo>
                  <a:lnTo>
                    <a:pt x="26" y="496"/>
                  </a:lnTo>
                  <a:lnTo>
                    <a:pt x="16" y="434"/>
                  </a:lnTo>
                  <a:lnTo>
                    <a:pt x="7" y="372"/>
                  </a:lnTo>
                  <a:lnTo>
                    <a:pt x="3" y="310"/>
                  </a:lnTo>
                  <a:lnTo>
                    <a:pt x="0" y="248"/>
                  </a:lnTo>
                  <a:lnTo>
                    <a:pt x="0" y="187"/>
                  </a:lnTo>
                  <a:lnTo>
                    <a:pt x="4" y="125"/>
                  </a:lnTo>
                  <a:lnTo>
                    <a:pt x="11" y="6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4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373480" y="3701520"/>
              <a:ext cx="29520" cy="136080"/>
            </a:xfrm>
            <a:custGeom>
              <a:avLst/>
              <a:gdLst/>
              <a:ahLst/>
              <a:rect l="l" t="t" r="r" b="b"/>
              <a:pathLst>
                <a:path w="108" h="499">
                  <a:moveTo>
                    <a:pt x="93" y="0"/>
                  </a:moveTo>
                  <a:lnTo>
                    <a:pt x="85" y="2"/>
                  </a:lnTo>
                  <a:lnTo>
                    <a:pt x="77" y="3"/>
                  </a:lnTo>
                  <a:lnTo>
                    <a:pt x="69" y="5"/>
                  </a:lnTo>
                  <a:lnTo>
                    <a:pt x="61" y="8"/>
                  </a:lnTo>
                  <a:lnTo>
                    <a:pt x="52" y="9"/>
                  </a:lnTo>
                  <a:lnTo>
                    <a:pt x="44" y="11"/>
                  </a:lnTo>
                  <a:lnTo>
                    <a:pt x="36" y="14"/>
                  </a:lnTo>
                  <a:lnTo>
                    <a:pt x="28" y="16"/>
                  </a:lnTo>
                  <a:lnTo>
                    <a:pt x="35" y="77"/>
                  </a:lnTo>
                  <a:lnTo>
                    <a:pt x="40" y="138"/>
                  </a:lnTo>
                  <a:lnTo>
                    <a:pt x="41" y="198"/>
                  </a:lnTo>
                  <a:lnTo>
                    <a:pt x="38" y="258"/>
                  </a:lnTo>
                  <a:lnTo>
                    <a:pt x="34" y="319"/>
                  </a:lnTo>
                  <a:lnTo>
                    <a:pt x="25" y="378"/>
                  </a:lnTo>
                  <a:lnTo>
                    <a:pt x="14" y="439"/>
                  </a:lnTo>
                  <a:lnTo>
                    <a:pt x="0" y="499"/>
                  </a:lnTo>
                  <a:lnTo>
                    <a:pt x="9" y="497"/>
                  </a:lnTo>
                  <a:lnTo>
                    <a:pt x="18" y="495"/>
                  </a:lnTo>
                  <a:lnTo>
                    <a:pt x="28" y="493"/>
                  </a:lnTo>
                  <a:lnTo>
                    <a:pt x="37" y="492"/>
                  </a:lnTo>
                  <a:lnTo>
                    <a:pt x="47" y="490"/>
                  </a:lnTo>
                  <a:lnTo>
                    <a:pt x="55" y="488"/>
                  </a:lnTo>
                  <a:lnTo>
                    <a:pt x="64" y="486"/>
                  </a:lnTo>
                  <a:lnTo>
                    <a:pt x="73" y="485"/>
                  </a:lnTo>
                  <a:lnTo>
                    <a:pt x="86" y="424"/>
                  </a:lnTo>
                  <a:lnTo>
                    <a:pt x="97" y="363"/>
                  </a:lnTo>
                  <a:lnTo>
                    <a:pt x="103" y="302"/>
                  </a:lnTo>
                  <a:lnTo>
                    <a:pt x="107" y="242"/>
                  </a:lnTo>
                  <a:lnTo>
                    <a:pt x="108" y="182"/>
                  </a:lnTo>
                  <a:lnTo>
                    <a:pt x="106" y="121"/>
                  </a:lnTo>
                  <a:lnTo>
                    <a:pt x="101" y="6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a9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740240" y="3694680"/>
              <a:ext cx="27000" cy="136080"/>
            </a:xfrm>
            <a:custGeom>
              <a:avLst/>
              <a:gdLst/>
              <a:ahLst/>
              <a:rect l="l" t="t" r="r" b="b"/>
              <a:pathLst>
                <a:path w="101" h="502">
                  <a:moveTo>
                    <a:pt x="19" y="0"/>
                  </a:moveTo>
                  <a:lnTo>
                    <a:pt x="27" y="1"/>
                  </a:lnTo>
                  <a:lnTo>
                    <a:pt x="35" y="2"/>
                  </a:lnTo>
                  <a:lnTo>
                    <a:pt x="43" y="4"/>
                  </a:lnTo>
                  <a:lnTo>
                    <a:pt x="53" y="6"/>
                  </a:lnTo>
                  <a:lnTo>
                    <a:pt x="61" y="8"/>
                  </a:lnTo>
                  <a:lnTo>
                    <a:pt x="69" y="9"/>
                  </a:lnTo>
                  <a:lnTo>
                    <a:pt x="77" y="11"/>
                  </a:lnTo>
                  <a:lnTo>
                    <a:pt x="86" y="13"/>
                  </a:lnTo>
                  <a:lnTo>
                    <a:pt x="76" y="75"/>
                  </a:lnTo>
                  <a:lnTo>
                    <a:pt x="70" y="135"/>
                  </a:lnTo>
                  <a:lnTo>
                    <a:pt x="67" y="197"/>
                  </a:lnTo>
                  <a:lnTo>
                    <a:pt x="68" y="258"/>
                  </a:lnTo>
                  <a:lnTo>
                    <a:pt x="72" y="319"/>
                  </a:lnTo>
                  <a:lnTo>
                    <a:pt x="79" y="380"/>
                  </a:lnTo>
                  <a:lnTo>
                    <a:pt x="88" y="441"/>
                  </a:lnTo>
                  <a:lnTo>
                    <a:pt x="101" y="502"/>
                  </a:lnTo>
                  <a:lnTo>
                    <a:pt x="91" y="500"/>
                  </a:lnTo>
                  <a:lnTo>
                    <a:pt x="83" y="499"/>
                  </a:lnTo>
                  <a:lnTo>
                    <a:pt x="74" y="498"/>
                  </a:lnTo>
                  <a:lnTo>
                    <a:pt x="66" y="497"/>
                  </a:lnTo>
                  <a:lnTo>
                    <a:pt x="56" y="496"/>
                  </a:lnTo>
                  <a:lnTo>
                    <a:pt x="47" y="495"/>
                  </a:lnTo>
                  <a:lnTo>
                    <a:pt x="39" y="493"/>
                  </a:lnTo>
                  <a:lnTo>
                    <a:pt x="29" y="492"/>
                  </a:lnTo>
                  <a:lnTo>
                    <a:pt x="18" y="431"/>
                  </a:lnTo>
                  <a:lnTo>
                    <a:pt x="8" y="369"/>
                  </a:lnTo>
                  <a:lnTo>
                    <a:pt x="3" y="309"/>
                  </a:lnTo>
                  <a:lnTo>
                    <a:pt x="0" y="247"/>
                  </a:lnTo>
                  <a:lnTo>
                    <a:pt x="0" y="186"/>
                  </a:lnTo>
                  <a:lnTo>
                    <a:pt x="4" y="124"/>
                  </a:lnTo>
                  <a:lnTo>
                    <a:pt x="10" y="6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9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353320" y="3705840"/>
              <a:ext cx="30960" cy="136080"/>
            </a:xfrm>
            <a:custGeom>
              <a:avLst/>
              <a:gdLst/>
              <a:ahLst/>
              <a:rect l="l" t="t" r="r" b="b"/>
              <a:pathLst>
                <a:path w="116" h="499">
                  <a:moveTo>
                    <a:pt x="103" y="0"/>
                  </a:moveTo>
                  <a:lnTo>
                    <a:pt x="95" y="2"/>
                  </a:lnTo>
                  <a:lnTo>
                    <a:pt x="86" y="5"/>
                  </a:lnTo>
                  <a:lnTo>
                    <a:pt x="78" y="7"/>
                  </a:lnTo>
                  <a:lnTo>
                    <a:pt x="70" y="9"/>
                  </a:lnTo>
                  <a:lnTo>
                    <a:pt x="61" y="12"/>
                  </a:lnTo>
                  <a:lnTo>
                    <a:pt x="53" y="14"/>
                  </a:lnTo>
                  <a:lnTo>
                    <a:pt x="44" y="16"/>
                  </a:lnTo>
                  <a:lnTo>
                    <a:pt x="36" y="19"/>
                  </a:lnTo>
                  <a:lnTo>
                    <a:pt x="43" y="79"/>
                  </a:lnTo>
                  <a:lnTo>
                    <a:pt x="47" y="140"/>
                  </a:lnTo>
                  <a:lnTo>
                    <a:pt x="48" y="200"/>
                  </a:lnTo>
                  <a:lnTo>
                    <a:pt x="44" y="261"/>
                  </a:lnTo>
                  <a:lnTo>
                    <a:pt x="39" y="320"/>
                  </a:lnTo>
                  <a:lnTo>
                    <a:pt x="29" y="380"/>
                  </a:lnTo>
                  <a:lnTo>
                    <a:pt x="16" y="440"/>
                  </a:lnTo>
                  <a:lnTo>
                    <a:pt x="0" y="499"/>
                  </a:lnTo>
                  <a:lnTo>
                    <a:pt x="9" y="497"/>
                  </a:lnTo>
                  <a:lnTo>
                    <a:pt x="19" y="495"/>
                  </a:lnTo>
                  <a:lnTo>
                    <a:pt x="28" y="492"/>
                  </a:lnTo>
                  <a:lnTo>
                    <a:pt x="37" y="491"/>
                  </a:lnTo>
                  <a:lnTo>
                    <a:pt x="47" y="489"/>
                  </a:lnTo>
                  <a:lnTo>
                    <a:pt x="56" y="486"/>
                  </a:lnTo>
                  <a:lnTo>
                    <a:pt x="65" y="485"/>
                  </a:lnTo>
                  <a:lnTo>
                    <a:pt x="75" y="483"/>
                  </a:lnTo>
                  <a:lnTo>
                    <a:pt x="89" y="423"/>
                  </a:lnTo>
                  <a:lnTo>
                    <a:pt x="100" y="362"/>
                  </a:lnTo>
                  <a:lnTo>
                    <a:pt x="109" y="303"/>
                  </a:lnTo>
                  <a:lnTo>
                    <a:pt x="113" y="242"/>
                  </a:lnTo>
                  <a:lnTo>
                    <a:pt x="116" y="182"/>
                  </a:lnTo>
                  <a:lnTo>
                    <a:pt x="115" y="122"/>
                  </a:lnTo>
                  <a:lnTo>
                    <a:pt x="110" y="6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ae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759320" y="3697560"/>
              <a:ext cx="28440" cy="136080"/>
            </a:xfrm>
            <a:custGeom>
              <a:avLst/>
              <a:gdLst/>
              <a:ahLst/>
              <a:rect l="l" t="t" r="r" b="b"/>
              <a:pathLst>
                <a:path w="107" h="500">
                  <a:moveTo>
                    <a:pt x="19" y="0"/>
                  </a:moveTo>
                  <a:lnTo>
                    <a:pt x="27" y="2"/>
                  </a:lnTo>
                  <a:lnTo>
                    <a:pt x="35" y="3"/>
                  </a:lnTo>
                  <a:lnTo>
                    <a:pt x="43" y="6"/>
                  </a:lnTo>
                  <a:lnTo>
                    <a:pt x="51" y="7"/>
                  </a:lnTo>
                  <a:lnTo>
                    <a:pt x="59" y="9"/>
                  </a:lnTo>
                  <a:lnTo>
                    <a:pt x="68" y="10"/>
                  </a:lnTo>
                  <a:lnTo>
                    <a:pt x="77" y="13"/>
                  </a:lnTo>
                  <a:lnTo>
                    <a:pt x="85" y="15"/>
                  </a:lnTo>
                  <a:lnTo>
                    <a:pt x="76" y="76"/>
                  </a:lnTo>
                  <a:lnTo>
                    <a:pt x="70" y="138"/>
                  </a:lnTo>
                  <a:lnTo>
                    <a:pt x="68" y="198"/>
                  </a:lnTo>
                  <a:lnTo>
                    <a:pt x="69" y="259"/>
                  </a:lnTo>
                  <a:lnTo>
                    <a:pt x="74" y="319"/>
                  </a:lnTo>
                  <a:lnTo>
                    <a:pt x="82" y="380"/>
                  </a:lnTo>
                  <a:lnTo>
                    <a:pt x="93" y="441"/>
                  </a:lnTo>
                  <a:lnTo>
                    <a:pt x="107" y="500"/>
                  </a:lnTo>
                  <a:lnTo>
                    <a:pt x="98" y="499"/>
                  </a:lnTo>
                  <a:lnTo>
                    <a:pt x="89" y="498"/>
                  </a:lnTo>
                  <a:lnTo>
                    <a:pt x="79" y="496"/>
                  </a:lnTo>
                  <a:lnTo>
                    <a:pt x="71" y="494"/>
                  </a:lnTo>
                  <a:lnTo>
                    <a:pt x="62" y="493"/>
                  </a:lnTo>
                  <a:lnTo>
                    <a:pt x="52" y="491"/>
                  </a:lnTo>
                  <a:lnTo>
                    <a:pt x="43" y="490"/>
                  </a:lnTo>
                  <a:lnTo>
                    <a:pt x="34" y="489"/>
                  </a:lnTo>
                  <a:lnTo>
                    <a:pt x="21" y="428"/>
                  </a:lnTo>
                  <a:lnTo>
                    <a:pt x="12" y="367"/>
                  </a:lnTo>
                  <a:lnTo>
                    <a:pt x="5" y="306"/>
                  </a:lnTo>
                  <a:lnTo>
                    <a:pt x="1" y="245"/>
                  </a:lnTo>
                  <a:lnTo>
                    <a:pt x="0" y="184"/>
                  </a:lnTo>
                  <a:lnTo>
                    <a:pt x="3" y="122"/>
                  </a:lnTo>
                  <a:lnTo>
                    <a:pt x="9" y="6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e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332800" y="3710880"/>
              <a:ext cx="33480" cy="134640"/>
            </a:xfrm>
            <a:custGeom>
              <a:avLst/>
              <a:gdLst/>
              <a:ahLst/>
              <a:rect l="l" t="t" r="r" b="b"/>
              <a:pathLst>
                <a:path w="124" h="495">
                  <a:moveTo>
                    <a:pt x="112" y="0"/>
                  </a:moveTo>
                  <a:lnTo>
                    <a:pt x="105" y="2"/>
                  </a:lnTo>
                  <a:lnTo>
                    <a:pt x="99" y="3"/>
                  </a:lnTo>
                  <a:lnTo>
                    <a:pt x="92" y="5"/>
                  </a:lnTo>
                  <a:lnTo>
                    <a:pt x="85" y="8"/>
                  </a:lnTo>
                  <a:lnTo>
                    <a:pt x="78" y="9"/>
                  </a:lnTo>
                  <a:lnTo>
                    <a:pt x="71" y="11"/>
                  </a:lnTo>
                  <a:lnTo>
                    <a:pt x="65" y="14"/>
                  </a:lnTo>
                  <a:lnTo>
                    <a:pt x="58" y="16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53" y="70"/>
                  </a:lnTo>
                  <a:lnTo>
                    <a:pt x="55" y="131"/>
                  </a:lnTo>
                  <a:lnTo>
                    <a:pt x="55" y="191"/>
                  </a:lnTo>
                  <a:lnTo>
                    <a:pt x="51" y="252"/>
                  </a:lnTo>
                  <a:lnTo>
                    <a:pt x="44" y="312"/>
                  </a:lnTo>
                  <a:lnTo>
                    <a:pt x="33" y="372"/>
                  </a:lnTo>
                  <a:lnTo>
                    <a:pt x="19" y="431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6" y="493"/>
                  </a:lnTo>
                  <a:lnTo>
                    <a:pt x="8" y="494"/>
                  </a:lnTo>
                  <a:lnTo>
                    <a:pt x="10" y="495"/>
                  </a:lnTo>
                  <a:lnTo>
                    <a:pt x="19" y="493"/>
                  </a:lnTo>
                  <a:lnTo>
                    <a:pt x="27" y="491"/>
                  </a:lnTo>
                  <a:lnTo>
                    <a:pt x="35" y="490"/>
                  </a:lnTo>
                  <a:lnTo>
                    <a:pt x="43" y="487"/>
                  </a:lnTo>
                  <a:lnTo>
                    <a:pt x="51" y="486"/>
                  </a:lnTo>
                  <a:lnTo>
                    <a:pt x="60" y="484"/>
                  </a:lnTo>
                  <a:lnTo>
                    <a:pt x="68" y="483"/>
                  </a:lnTo>
                  <a:lnTo>
                    <a:pt x="76" y="480"/>
                  </a:lnTo>
                  <a:lnTo>
                    <a:pt x="92" y="421"/>
                  </a:lnTo>
                  <a:lnTo>
                    <a:pt x="105" y="361"/>
                  </a:lnTo>
                  <a:lnTo>
                    <a:pt x="115" y="301"/>
                  </a:lnTo>
                  <a:lnTo>
                    <a:pt x="120" y="242"/>
                  </a:lnTo>
                  <a:lnTo>
                    <a:pt x="124" y="181"/>
                  </a:lnTo>
                  <a:lnTo>
                    <a:pt x="123" y="121"/>
                  </a:lnTo>
                  <a:lnTo>
                    <a:pt x="119" y="6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776600" y="3701520"/>
              <a:ext cx="30960" cy="136080"/>
            </a:xfrm>
            <a:custGeom>
              <a:avLst/>
              <a:gdLst/>
              <a:ahLst/>
              <a:rect l="l" t="t" r="r" b="b"/>
              <a:pathLst>
                <a:path w="114" h="500">
                  <a:moveTo>
                    <a:pt x="17" y="0"/>
                  </a:moveTo>
                  <a:lnTo>
                    <a:pt x="25" y="2"/>
                  </a:lnTo>
                  <a:lnTo>
                    <a:pt x="34" y="3"/>
                  </a:lnTo>
                  <a:lnTo>
                    <a:pt x="42" y="6"/>
                  </a:lnTo>
                  <a:lnTo>
                    <a:pt x="50" y="8"/>
                  </a:lnTo>
                  <a:lnTo>
                    <a:pt x="58" y="9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74" y="77"/>
                  </a:lnTo>
                  <a:lnTo>
                    <a:pt x="70" y="138"/>
                  </a:lnTo>
                  <a:lnTo>
                    <a:pt x="69" y="199"/>
                  </a:lnTo>
                  <a:lnTo>
                    <a:pt x="71" y="260"/>
                  </a:lnTo>
                  <a:lnTo>
                    <a:pt x="76" y="320"/>
                  </a:lnTo>
                  <a:lnTo>
                    <a:pt x="85" y="380"/>
                  </a:lnTo>
                  <a:lnTo>
                    <a:pt x="98" y="441"/>
                  </a:lnTo>
                  <a:lnTo>
                    <a:pt x="114" y="500"/>
                  </a:lnTo>
                  <a:lnTo>
                    <a:pt x="105" y="498"/>
                  </a:lnTo>
                  <a:lnTo>
                    <a:pt x="96" y="496"/>
                  </a:lnTo>
                  <a:lnTo>
                    <a:pt x="86" y="495"/>
                  </a:lnTo>
                  <a:lnTo>
                    <a:pt x="77" y="492"/>
                  </a:lnTo>
                  <a:lnTo>
                    <a:pt x="67" y="491"/>
                  </a:lnTo>
                  <a:lnTo>
                    <a:pt x="58" y="489"/>
                  </a:lnTo>
                  <a:lnTo>
                    <a:pt x="49" y="488"/>
                  </a:lnTo>
                  <a:lnTo>
                    <a:pt x="39" y="485"/>
                  </a:lnTo>
                  <a:lnTo>
                    <a:pt x="25" y="426"/>
                  </a:lnTo>
                  <a:lnTo>
                    <a:pt x="14" y="365"/>
                  </a:lnTo>
                  <a:lnTo>
                    <a:pt x="6" y="304"/>
                  </a:lnTo>
                  <a:lnTo>
                    <a:pt x="1" y="244"/>
                  </a:lnTo>
                  <a:lnTo>
                    <a:pt x="0" y="183"/>
                  </a:lnTo>
                  <a:lnTo>
                    <a:pt x="2" y="123"/>
                  </a:lnTo>
                  <a:lnTo>
                    <a:pt x="8" y="6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315160" y="3702960"/>
              <a:ext cx="32400" cy="14112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110" y="36"/>
                  </a:moveTo>
                  <a:lnTo>
                    <a:pt x="100" y="31"/>
                  </a:lnTo>
                  <a:lnTo>
                    <a:pt x="91" y="27"/>
                  </a:lnTo>
                  <a:lnTo>
                    <a:pt x="80" y="22"/>
                  </a:lnTo>
                  <a:lnTo>
                    <a:pt x="71" y="17"/>
                  </a:lnTo>
                  <a:lnTo>
                    <a:pt x="62" y="13"/>
                  </a:lnTo>
                  <a:lnTo>
                    <a:pt x="52" y="9"/>
                  </a:lnTo>
                  <a:lnTo>
                    <a:pt x="42" y="4"/>
                  </a:lnTo>
                  <a:lnTo>
                    <a:pt x="32" y="0"/>
                  </a:lnTo>
                  <a:lnTo>
                    <a:pt x="43" y="62"/>
                  </a:lnTo>
                  <a:lnTo>
                    <a:pt x="49" y="124"/>
                  </a:lnTo>
                  <a:lnTo>
                    <a:pt x="51" y="187"/>
                  </a:lnTo>
                  <a:lnTo>
                    <a:pt x="49" y="248"/>
                  </a:lnTo>
                  <a:lnTo>
                    <a:pt x="42" y="310"/>
                  </a:lnTo>
                  <a:lnTo>
                    <a:pt x="32" y="372"/>
                  </a:lnTo>
                  <a:lnTo>
                    <a:pt x="18" y="432"/>
                  </a:lnTo>
                  <a:lnTo>
                    <a:pt x="0" y="493"/>
                  </a:lnTo>
                  <a:lnTo>
                    <a:pt x="8" y="497"/>
                  </a:lnTo>
                  <a:lnTo>
                    <a:pt x="16" y="499"/>
                  </a:lnTo>
                  <a:lnTo>
                    <a:pt x="24" y="503"/>
                  </a:lnTo>
                  <a:lnTo>
                    <a:pt x="32" y="505"/>
                  </a:lnTo>
                  <a:lnTo>
                    <a:pt x="41" y="508"/>
                  </a:lnTo>
                  <a:lnTo>
                    <a:pt x="48" y="512"/>
                  </a:lnTo>
                  <a:lnTo>
                    <a:pt x="56" y="514"/>
                  </a:lnTo>
                  <a:lnTo>
                    <a:pt x="64" y="518"/>
                  </a:lnTo>
                  <a:lnTo>
                    <a:pt x="83" y="458"/>
                  </a:lnTo>
                  <a:lnTo>
                    <a:pt x="97" y="399"/>
                  </a:lnTo>
                  <a:lnTo>
                    <a:pt x="108" y="339"/>
                  </a:lnTo>
                  <a:lnTo>
                    <a:pt x="115" y="279"/>
                  </a:lnTo>
                  <a:lnTo>
                    <a:pt x="119" y="218"/>
                  </a:lnTo>
                  <a:lnTo>
                    <a:pt x="119" y="158"/>
                  </a:lnTo>
                  <a:lnTo>
                    <a:pt x="117" y="97"/>
                  </a:lnTo>
                  <a:lnTo>
                    <a:pt x="110" y="36"/>
                  </a:lnTo>
                  <a:close/>
                </a:path>
              </a:pathLst>
            </a:custGeom>
            <a:solidFill>
              <a:srgbClr val="b8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795680" y="3705840"/>
              <a:ext cx="33480" cy="137160"/>
            </a:xfrm>
            <a:custGeom>
              <a:avLst/>
              <a:gdLst/>
              <a:ahLst/>
              <a:rect l="l" t="t" r="r" b="b"/>
              <a:pathLst>
                <a:path w="125" h="501">
                  <a:moveTo>
                    <a:pt x="14" y="0"/>
                  </a:moveTo>
                  <a:lnTo>
                    <a:pt x="22" y="3"/>
                  </a:lnTo>
                  <a:lnTo>
                    <a:pt x="30" y="5"/>
                  </a:lnTo>
                  <a:lnTo>
                    <a:pt x="38" y="7"/>
                  </a:lnTo>
                  <a:lnTo>
                    <a:pt x="48" y="10"/>
                  </a:lnTo>
                  <a:lnTo>
                    <a:pt x="56" y="12"/>
                  </a:lnTo>
                  <a:lnTo>
                    <a:pt x="64" y="15"/>
                  </a:lnTo>
                  <a:lnTo>
                    <a:pt x="72" y="18"/>
                  </a:lnTo>
                  <a:lnTo>
                    <a:pt x="80" y="20"/>
                  </a:lnTo>
                  <a:lnTo>
                    <a:pt x="72" y="81"/>
                  </a:lnTo>
                  <a:lnTo>
                    <a:pt x="69" y="142"/>
                  </a:lnTo>
                  <a:lnTo>
                    <a:pt x="69" y="203"/>
                  </a:lnTo>
                  <a:lnTo>
                    <a:pt x="72" y="262"/>
                  </a:lnTo>
                  <a:lnTo>
                    <a:pt x="79" y="323"/>
                  </a:lnTo>
                  <a:lnTo>
                    <a:pt x="91" y="383"/>
                  </a:lnTo>
                  <a:lnTo>
                    <a:pt x="106" y="442"/>
                  </a:lnTo>
                  <a:lnTo>
                    <a:pt x="125" y="501"/>
                  </a:lnTo>
                  <a:lnTo>
                    <a:pt x="114" y="498"/>
                  </a:lnTo>
                  <a:lnTo>
                    <a:pt x="105" y="496"/>
                  </a:lnTo>
                  <a:lnTo>
                    <a:pt x="94" y="494"/>
                  </a:lnTo>
                  <a:lnTo>
                    <a:pt x="85" y="493"/>
                  </a:lnTo>
                  <a:lnTo>
                    <a:pt x="74" y="490"/>
                  </a:lnTo>
                  <a:lnTo>
                    <a:pt x="65" y="488"/>
                  </a:lnTo>
                  <a:lnTo>
                    <a:pt x="55" y="487"/>
                  </a:lnTo>
                  <a:lnTo>
                    <a:pt x="45" y="484"/>
                  </a:lnTo>
                  <a:lnTo>
                    <a:pt x="29" y="425"/>
                  </a:lnTo>
                  <a:lnTo>
                    <a:pt x="16" y="364"/>
                  </a:lnTo>
                  <a:lnTo>
                    <a:pt x="7" y="304"/>
                  </a:lnTo>
                  <a:lnTo>
                    <a:pt x="2" y="244"/>
                  </a:lnTo>
                  <a:lnTo>
                    <a:pt x="0" y="183"/>
                  </a:lnTo>
                  <a:lnTo>
                    <a:pt x="1" y="122"/>
                  </a:lnTo>
                  <a:lnTo>
                    <a:pt x="5" y="6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8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297520" y="3694680"/>
              <a:ext cx="30960" cy="142920"/>
            </a:xfrm>
            <a:custGeom>
              <a:avLst/>
              <a:gdLst/>
              <a:ahLst/>
              <a:rect l="l" t="t" r="r" b="b"/>
              <a:pathLst>
                <a:path w="116" h="526">
                  <a:moveTo>
                    <a:pt x="97" y="33"/>
                  </a:moveTo>
                  <a:lnTo>
                    <a:pt x="88" y="28"/>
                  </a:lnTo>
                  <a:lnTo>
                    <a:pt x="79" y="25"/>
                  </a:lnTo>
                  <a:lnTo>
                    <a:pt x="69" y="20"/>
                  </a:lnTo>
                  <a:lnTo>
                    <a:pt x="60" y="16"/>
                  </a:lnTo>
                  <a:lnTo>
                    <a:pt x="51" y="12"/>
                  </a:lnTo>
                  <a:lnTo>
                    <a:pt x="40" y="8"/>
                  </a:lnTo>
                  <a:lnTo>
                    <a:pt x="31" y="3"/>
                  </a:lnTo>
                  <a:lnTo>
                    <a:pt x="21" y="0"/>
                  </a:lnTo>
                  <a:lnTo>
                    <a:pt x="34" y="63"/>
                  </a:lnTo>
                  <a:lnTo>
                    <a:pt x="44" y="127"/>
                  </a:lnTo>
                  <a:lnTo>
                    <a:pt x="47" y="191"/>
                  </a:lnTo>
                  <a:lnTo>
                    <a:pt x="47" y="254"/>
                  </a:lnTo>
                  <a:lnTo>
                    <a:pt x="42" y="318"/>
                  </a:lnTo>
                  <a:lnTo>
                    <a:pt x="33" y="380"/>
                  </a:lnTo>
                  <a:lnTo>
                    <a:pt x="19" y="443"/>
                  </a:lnTo>
                  <a:lnTo>
                    <a:pt x="0" y="505"/>
                  </a:lnTo>
                  <a:lnTo>
                    <a:pt x="8" y="508"/>
                  </a:lnTo>
                  <a:lnTo>
                    <a:pt x="17" y="510"/>
                  </a:lnTo>
                  <a:lnTo>
                    <a:pt x="25" y="513"/>
                  </a:lnTo>
                  <a:lnTo>
                    <a:pt x="33" y="516"/>
                  </a:lnTo>
                  <a:lnTo>
                    <a:pt x="41" y="518"/>
                  </a:lnTo>
                  <a:lnTo>
                    <a:pt x="48" y="520"/>
                  </a:lnTo>
                  <a:lnTo>
                    <a:pt x="56" y="524"/>
                  </a:lnTo>
                  <a:lnTo>
                    <a:pt x="65" y="526"/>
                  </a:lnTo>
                  <a:lnTo>
                    <a:pt x="83" y="465"/>
                  </a:lnTo>
                  <a:lnTo>
                    <a:pt x="97" y="405"/>
                  </a:lnTo>
                  <a:lnTo>
                    <a:pt x="107" y="343"/>
                  </a:lnTo>
                  <a:lnTo>
                    <a:pt x="114" y="281"/>
                  </a:lnTo>
                  <a:lnTo>
                    <a:pt x="116" y="220"/>
                  </a:lnTo>
                  <a:lnTo>
                    <a:pt x="114" y="157"/>
                  </a:lnTo>
                  <a:lnTo>
                    <a:pt x="108" y="9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bd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814760" y="3710880"/>
              <a:ext cx="33480" cy="134640"/>
            </a:xfrm>
            <a:custGeom>
              <a:avLst/>
              <a:gdLst/>
              <a:ahLst/>
              <a:rect l="l" t="t" r="r" b="b"/>
              <a:pathLst>
                <a:path w="128" h="493">
                  <a:moveTo>
                    <a:pt x="11" y="1"/>
                  </a:moveTo>
                  <a:lnTo>
                    <a:pt x="17" y="2"/>
                  </a:lnTo>
                  <a:lnTo>
                    <a:pt x="22" y="3"/>
                  </a:lnTo>
                  <a:lnTo>
                    <a:pt x="28" y="6"/>
                  </a:lnTo>
                  <a:lnTo>
                    <a:pt x="32" y="7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9" y="13"/>
                  </a:lnTo>
                  <a:lnTo>
                    <a:pt x="53" y="14"/>
                  </a:lnTo>
                  <a:lnTo>
                    <a:pt x="60" y="10"/>
                  </a:lnTo>
                  <a:lnTo>
                    <a:pt x="67" y="7"/>
                  </a:lnTo>
                  <a:lnTo>
                    <a:pt x="73" y="3"/>
                  </a:lnTo>
                  <a:lnTo>
                    <a:pt x="80" y="0"/>
                  </a:lnTo>
                  <a:lnTo>
                    <a:pt x="72" y="61"/>
                  </a:lnTo>
                  <a:lnTo>
                    <a:pt x="67" y="123"/>
                  </a:lnTo>
                  <a:lnTo>
                    <a:pt x="67" y="184"/>
                  </a:lnTo>
                  <a:lnTo>
                    <a:pt x="71" y="244"/>
                  </a:lnTo>
                  <a:lnTo>
                    <a:pt x="79" y="305"/>
                  </a:lnTo>
                  <a:lnTo>
                    <a:pt x="92" y="365"/>
                  </a:lnTo>
                  <a:lnTo>
                    <a:pt x="108" y="424"/>
                  </a:lnTo>
                  <a:lnTo>
                    <a:pt x="128" y="483"/>
                  </a:lnTo>
                  <a:lnTo>
                    <a:pt x="121" y="485"/>
                  </a:lnTo>
                  <a:lnTo>
                    <a:pt x="115" y="488"/>
                  </a:lnTo>
                  <a:lnTo>
                    <a:pt x="108" y="491"/>
                  </a:lnTo>
                  <a:lnTo>
                    <a:pt x="101" y="493"/>
                  </a:lnTo>
                  <a:lnTo>
                    <a:pt x="96" y="492"/>
                  </a:lnTo>
                  <a:lnTo>
                    <a:pt x="90" y="491"/>
                  </a:lnTo>
                  <a:lnTo>
                    <a:pt x="84" y="489"/>
                  </a:lnTo>
                  <a:lnTo>
                    <a:pt x="79" y="488"/>
                  </a:lnTo>
                  <a:lnTo>
                    <a:pt x="73" y="486"/>
                  </a:lnTo>
                  <a:lnTo>
                    <a:pt x="67" y="484"/>
                  </a:lnTo>
                  <a:lnTo>
                    <a:pt x="62" y="483"/>
                  </a:lnTo>
                  <a:lnTo>
                    <a:pt x="56" y="482"/>
                  </a:lnTo>
                  <a:lnTo>
                    <a:pt x="37" y="423"/>
                  </a:lnTo>
                  <a:lnTo>
                    <a:pt x="22" y="364"/>
                  </a:lnTo>
                  <a:lnTo>
                    <a:pt x="10" y="304"/>
                  </a:lnTo>
                  <a:lnTo>
                    <a:pt x="3" y="243"/>
                  </a:lnTo>
                  <a:lnTo>
                    <a:pt x="0" y="184"/>
                  </a:lnTo>
                  <a:lnTo>
                    <a:pt x="0" y="123"/>
                  </a:lnTo>
                  <a:lnTo>
                    <a:pt x="3" y="6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bd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280240" y="3686760"/>
              <a:ext cx="29520" cy="145440"/>
            </a:xfrm>
            <a:custGeom>
              <a:avLst/>
              <a:gdLst/>
              <a:ahLst/>
              <a:rect l="l" t="t" r="r" b="b"/>
              <a:pathLst>
                <a:path w="111" h="533">
                  <a:moveTo>
                    <a:pt x="85" y="28"/>
                  </a:moveTo>
                  <a:lnTo>
                    <a:pt x="76" y="24"/>
                  </a:lnTo>
                  <a:lnTo>
                    <a:pt x="65" y="21"/>
                  </a:lnTo>
                  <a:lnTo>
                    <a:pt x="56" y="17"/>
                  </a:lnTo>
                  <a:lnTo>
                    <a:pt x="47" y="14"/>
                  </a:lnTo>
                  <a:lnTo>
                    <a:pt x="37" y="10"/>
                  </a:lnTo>
                  <a:lnTo>
                    <a:pt x="27" y="7"/>
                  </a:lnTo>
                  <a:lnTo>
                    <a:pt x="18" y="3"/>
                  </a:lnTo>
                  <a:lnTo>
                    <a:pt x="7" y="0"/>
                  </a:lnTo>
                  <a:lnTo>
                    <a:pt x="23" y="64"/>
                  </a:lnTo>
                  <a:lnTo>
                    <a:pt x="35" y="129"/>
                  </a:lnTo>
                  <a:lnTo>
                    <a:pt x="42" y="193"/>
                  </a:lnTo>
                  <a:lnTo>
                    <a:pt x="44" y="257"/>
                  </a:lnTo>
                  <a:lnTo>
                    <a:pt x="41" y="322"/>
                  </a:lnTo>
                  <a:lnTo>
                    <a:pt x="32" y="386"/>
                  </a:lnTo>
                  <a:lnTo>
                    <a:pt x="19" y="450"/>
                  </a:lnTo>
                  <a:lnTo>
                    <a:pt x="0" y="513"/>
                  </a:lnTo>
                  <a:lnTo>
                    <a:pt x="8" y="516"/>
                  </a:lnTo>
                  <a:lnTo>
                    <a:pt x="16" y="518"/>
                  </a:lnTo>
                  <a:lnTo>
                    <a:pt x="25" y="520"/>
                  </a:lnTo>
                  <a:lnTo>
                    <a:pt x="33" y="523"/>
                  </a:lnTo>
                  <a:lnTo>
                    <a:pt x="41" y="526"/>
                  </a:lnTo>
                  <a:lnTo>
                    <a:pt x="48" y="529"/>
                  </a:lnTo>
                  <a:lnTo>
                    <a:pt x="56" y="531"/>
                  </a:lnTo>
                  <a:lnTo>
                    <a:pt x="64" y="533"/>
                  </a:lnTo>
                  <a:lnTo>
                    <a:pt x="83" y="471"/>
                  </a:lnTo>
                  <a:lnTo>
                    <a:pt x="97" y="408"/>
                  </a:lnTo>
                  <a:lnTo>
                    <a:pt x="106" y="346"/>
                  </a:lnTo>
                  <a:lnTo>
                    <a:pt x="111" y="282"/>
                  </a:lnTo>
                  <a:lnTo>
                    <a:pt x="111" y="219"/>
                  </a:lnTo>
                  <a:lnTo>
                    <a:pt x="108" y="155"/>
                  </a:lnTo>
                  <a:lnTo>
                    <a:pt x="98" y="91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832040" y="3701520"/>
              <a:ext cx="33480" cy="141480"/>
            </a:xfrm>
            <a:custGeom>
              <a:avLst/>
              <a:gdLst/>
              <a:ahLst/>
              <a:rect l="l" t="t" r="r" b="b"/>
              <a:pathLst>
                <a:path w="126" h="518">
                  <a:moveTo>
                    <a:pt x="13" y="35"/>
                  </a:moveTo>
                  <a:lnTo>
                    <a:pt x="23" y="30"/>
                  </a:lnTo>
                  <a:lnTo>
                    <a:pt x="32" y="26"/>
                  </a:lnTo>
                  <a:lnTo>
                    <a:pt x="41" y="22"/>
                  </a:lnTo>
                  <a:lnTo>
                    <a:pt x="51" y="17"/>
                  </a:lnTo>
                  <a:lnTo>
                    <a:pt x="60" y="13"/>
                  </a:lnTo>
                  <a:lnTo>
                    <a:pt x="71" y="8"/>
                  </a:lnTo>
                  <a:lnTo>
                    <a:pt x="80" y="5"/>
                  </a:lnTo>
                  <a:lnTo>
                    <a:pt x="89" y="0"/>
                  </a:lnTo>
                  <a:lnTo>
                    <a:pt x="78" y="63"/>
                  </a:lnTo>
                  <a:lnTo>
                    <a:pt x="69" y="125"/>
                  </a:lnTo>
                  <a:lnTo>
                    <a:pt x="67" y="188"/>
                  </a:lnTo>
                  <a:lnTo>
                    <a:pt x="69" y="250"/>
                  </a:lnTo>
                  <a:lnTo>
                    <a:pt x="76" y="312"/>
                  </a:lnTo>
                  <a:lnTo>
                    <a:pt x="88" y="374"/>
                  </a:lnTo>
                  <a:lnTo>
                    <a:pt x="105" y="435"/>
                  </a:lnTo>
                  <a:lnTo>
                    <a:pt x="126" y="495"/>
                  </a:lnTo>
                  <a:lnTo>
                    <a:pt x="117" y="497"/>
                  </a:lnTo>
                  <a:lnTo>
                    <a:pt x="109" y="500"/>
                  </a:lnTo>
                  <a:lnTo>
                    <a:pt x="101" y="503"/>
                  </a:lnTo>
                  <a:lnTo>
                    <a:pt x="93" y="506"/>
                  </a:lnTo>
                  <a:lnTo>
                    <a:pt x="85" y="509"/>
                  </a:lnTo>
                  <a:lnTo>
                    <a:pt x="78" y="512"/>
                  </a:lnTo>
                  <a:lnTo>
                    <a:pt x="69" y="514"/>
                  </a:lnTo>
                  <a:lnTo>
                    <a:pt x="61" y="518"/>
                  </a:lnTo>
                  <a:lnTo>
                    <a:pt x="41" y="459"/>
                  </a:lnTo>
                  <a:lnTo>
                    <a:pt x="25" y="400"/>
                  </a:lnTo>
                  <a:lnTo>
                    <a:pt x="12" y="340"/>
                  </a:lnTo>
                  <a:lnTo>
                    <a:pt x="4" y="279"/>
                  </a:lnTo>
                  <a:lnTo>
                    <a:pt x="0" y="219"/>
                  </a:lnTo>
                  <a:lnTo>
                    <a:pt x="0" y="158"/>
                  </a:lnTo>
                  <a:lnTo>
                    <a:pt x="5" y="96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260080" y="3679920"/>
              <a:ext cx="32040" cy="146880"/>
            </a:xfrm>
            <a:custGeom>
              <a:avLst/>
              <a:gdLst/>
              <a:ahLst/>
              <a:rect l="l" t="t" r="r" b="b"/>
              <a:pathLst>
                <a:path w="119" h="539">
                  <a:moveTo>
                    <a:pt x="82" y="26"/>
                  </a:moveTo>
                  <a:lnTo>
                    <a:pt x="71" y="22"/>
                  </a:lnTo>
                  <a:lnTo>
                    <a:pt x="62" y="19"/>
                  </a:lnTo>
                  <a:lnTo>
                    <a:pt x="52" y="15"/>
                  </a:lnTo>
                  <a:lnTo>
                    <a:pt x="41" y="13"/>
                  </a:lnTo>
                  <a:lnTo>
                    <a:pt x="32" y="10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21" y="64"/>
                  </a:lnTo>
                  <a:lnTo>
                    <a:pt x="38" y="129"/>
                  </a:lnTo>
                  <a:lnTo>
                    <a:pt x="47" y="194"/>
                  </a:lnTo>
                  <a:lnTo>
                    <a:pt x="52" y="261"/>
                  </a:lnTo>
                  <a:lnTo>
                    <a:pt x="49" y="326"/>
                  </a:lnTo>
                  <a:lnTo>
                    <a:pt x="41" y="392"/>
                  </a:lnTo>
                  <a:lnTo>
                    <a:pt x="28" y="457"/>
                  </a:lnTo>
                  <a:lnTo>
                    <a:pt x="8" y="522"/>
                  </a:lnTo>
                  <a:lnTo>
                    <a:pt x="17" y="524"/>
                  </a:lnTo>
                  <a:lnTo>
                    <a:pt x="25" y="526"/>
                  </a:lnTo>
                  <a:lnTo>
                    <a:pt x="33" y="529"/>
                  </a:lnTo>
                  <a:lnTo>
                    <a:pt x="42" y="530"/>
                  </a:lnTo>
                  <a:lnTo>
                    <a:pt x="50" y="532"/>
                  </a:lnTo>
                  <a:lnTo>
                    <a:pt x="59" y="535"/>
                  </a:lnTo>
                  <a:lnTo>
                    <a:pt x="67" y="537"/>
                  </a:lnTo>
                  <a:lnTo>
                    <a:pt x="75" y="539"/>
                  </a:lnTo>
                  <a:lnTo>
                    <a:pt x="94" y="476"/>
                  </a:lnTo>
                  <a:lnTo>
                    <a:pt x="107" y="412"/>
                  </a:lnTo>
                  <a:lnTo>
                    <a:pt x="116" y="348"/>
                  </a:lnTo>
                  <a:lnTo>
                    <a:pt x="119" y="283"/>
                  </a:lnTo>
                  <a:lnTo>
                    <a:pt x="117" y="219"/>
                  </a:lnTo>
                  <a:lnTo>
                    <a:pt x="110" y="155"/>
                  </a:lnTo>
                  <a:lnTo>
                    <a:pt x="98" y="90"/>
                  </a:lnTo>
                  <a:lnTo>
                    <a:pt x="82" y="26"/>
                  </a:lnTo>
                  <a:close/>
                </a:path>
              </a:pathLst>
            </a:custGeom>
            <a:solidFill>
              <a:srgbClr val="c7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851120" y="3693240"/>
              <a:ext cx="32400" cy="142920"/>
            </a:xfrm>
            <a:custGeom>
              <a:avLst/>
              <a:gdLst/>
              <a:ahLst/>
              <a:rect l="l" t="t" r="r" b="b"/>
              <a:pathLst>
                <a:path w="123" h="528">
                  <a:moveTo>
                    <a:pt x="22" y="33"/>
                  </a:moveTo>
                  <a:lnTo>
                    <a:pt x="33" y="28"/>
                  </a:lnTo>
                  <a:lnTo>
                    <a:pt x="42" y="25"/>
                  </a:lnTo>
                  <a:lnTo>
                    <a:pt x="53" y="20"/>
                  </a:lnTo>
                  <a:lnTo>
                    <a:pt x="63" y="16"/>
                  </a:lnTo>
                  <a:lnTo>
                    <a:pt x="73" y="12"/>
                  </a:lnTo>
                  <a:lnTo>
                    <a:pt x="83" y="8"/>
                  </a:lnTo>
                  <a:lnTo>
                    <a:pt x="92" y="4"/>
                  </a:lnTo>
                  <a:lnTo>
                    <a:pt x="103" y="0"/>
                  </a:lnTo>
                  <a:lnTo>
                    <a:pt x="87" y="63"/>
                  </a:lnTo>
                  <a:lnTo>
                    <a:pt x="75" y="128"/>
                  </a:lnTo>
                  <a:lnTo>
                    <a:pt x="69" y="192"/>
                  </a:lnTo>
                  <a:lnTo>
                    <a:pt x="69" y="255"/>
                  </a:lnTo>
                  <a:lnTo>
                    <a:pt x="75" y="319"/>
                  </a:lnTo>
                  <a:lnTo>
                    <a:pt x="85" y="383"/>
                  </a:lnTo>
                  <a:lnTo>
                    <a:pt x="102" y="445"/>
                  </a:lnTo>
                  <a:lnTo>
                    <a:pt x="123" y="507"/>
                  </a:lnTo>
                  <a:lnTo>
                    <a:pt x="115" y="509"/>
                  </a:lnTo>
                  <a:lnTo>
                    <a:pt x="107" y="511"/>
                  </a:lnTo>
                  <a:lnTo>
                    <a:pt x="98" y="515"/>
                  </a:lnTo>
                  <a:lnTo>
                    <a:pt x="90" y="517"/>
                  </a:lnTo>
                  <a:lnTo>
                    <a:pt x="82" y="519"/>
                  </a:lnTo>
                  <a:lnTo>
                    <a:pt x="75" y="522"/>
                  </a:lnTo>
                  <a:lnTo>
                    <a:pt x="67" y="525"/>
                  </a:lnTo>
                  <a:lnTo>
                    <a:pt x="59" y="528"/>
                  </a:lnTo>
                  <a:lnTo>
                    <a:pt x="38" y="468"/>
                  </a:lnTo>
                  <a:lnTo>
                    <a:pt x="21" y="407"/>
                  </a:lnTo>
                  <a:lnTo>
                    <a:pt x="9" y="345"/>
                  </a:lnTo>
                  <a:lnTo>
                    <a:pt x="2" y="283"/>
                  </a:lnTo>
                  <a:lnTo>
                    <a:pt x="0" y="221"/>
                  </a:lnTo>
                  <a:lnTo>
                    <a:pt x="2" y="158"/>
                  </a:lnTo>
                  <a:lnTo>
                    <a:pt x="11" y="96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c7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238120" y="3674160"/>
              <a:ext cx="36360" cy="146880"/>
            </a:xfrm>
            <a:custGeom>
              <a:avLst/>
              <a:gdLst/>
              <a:ahLst/>
              <a:rect l="l" t="t" r="r" b="b"/>
              <a:pathLst>
                <a:path w="135" h="544">
                  <a:moveTo>
                    <a:pt x="83" y="22"/>
                  </a:moveTo>
                  <a:lnTo>
                    <a:pt x="73" y="19"/>
                  </a:lnTo>
                  <a:lnTo>
                    <a:pt x="62" y="16"/>
                  </a:lnTo>
                  <a:lnTo>
                    <a:pt x="52" y="13"/>
                  </a:lnTo>
                  <a:lnTo>
                    <a:pt x="42" y="10"/>
                  </a:lnTo>
                  <a:lnTo>
                    <a:pt x="32" y="8"/>
                  </a:lnTo>
                  <a:lnTo>
                    <a:pt x="21" y="6"/>
                  </a:lnTo>
                  <a:lnTo>
                    <a:pt x="11" y="2"/>
                  </a:lnTo>
                  <a:lnTo>
                    <a:pt x="0" y="0"/>
                  </a:lnTo>
                  <a:lnTo>
                    <a:pt x="26" y="63"/>
                  </a:lnTo>
                  <a:lnTo>
                    <a:pt x="46" y="129"/>
                  </a:lnTo>
                  <a:lnTo>
                    <a:pt x="59" y="195"/>
                  </a:lnTo>
                  <a:lnTo>
                    <a:pt x="66" y="262"/>
                  </a:lnTo>
                  <a:lnTo>
                    <a:pt x="66" y="329"/>
                  </a:lnTo>
                  <a:lnTo>
                    <a:pt x="59" y="396"/>
                  </a:lnTo>
                  <a:lnTo>
                    <a:pt x="46" y="463"/>
                  </a:lnTo>
                  <a:lnTo>
                    <a:pt x="26" y="529"/>
                  </a:lnTo>
                  <a:lnTo>
                    <a:pt x="34" y="531"/>
                  </a:lnTo>
                  <a:lnTo>
                    <a:pt x="42" y="532"/>
                  </a:lnTo>
                  <a:lnTo>
                    <a:pt x="50" y="534"/>
                  </a:lnTo>
                  <a:lnTo>
                    <a:pt x="59" y="536"/>
                  </a:lnTo>
                  <a:lnTo>
                    <a:pt x="67" y="538"/>
                  </a:lnTo>
                  <a:lnTo>
                    <a:pt x="75" y="540"/>
                  </a:lnTo>
                  <a:lnTo>
                    <a:pt x="83" y="541"/>
                  </a:lnTo>
                  <a:lnTo>
                    <a:pt x="91" y="544"/>
                  </a:lnTo>
                  <a:lnTo>
                    <a:pt x="111" y="479"/>
                  </a:lnTo>
                  <a:lnTo>
                    <a:pt x="124" y="414"/>
                  </a:lnTo>
                  <a:lnTo>
                    <a:pt x="132" y="348"/>
                  </a:lnTo>
                  <a:lnTo>
                    <a:pt x="135" y="283"/>
                  </a:lnTo>
                  <a:lnTo>
                    <a:pt x="130" y="216"/>
                  </a:lnTo>
                  <a:lnTo>
                    <a:pt x="121" y="151"/>
                  </a:lnTo>
                  <a:lnTo>
                    <a:pt x="104" y="86"/>
                  </a:lnTo>
                  <a:lnTo>
                    <a:pt x="83" y="2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868760" y="3684960"/>
              <a:ext cx="32400" cy="145440"/>
            </a:xfrm>
            <a:custGeom>
              <a:avLst/>
              <a:gdLst/>
              <a:ahLst/>
              <a:rect l="l" t="t" r="r" b="b"/>
              <a:pathLst>
                <a:path w="119" h="535">
                  <a:moveTo>
                    <a:pt x="34" y="28"/>
                  </a:moveTo>
                  <a:lnTo>
                    <a:pt x="45" y="25"/>
                  </a:lnTo>
                  <a:lnTo>
                    <a:pt x="54" y="21"/>
                  </a:lnTo>
                  <a:lnTo>
                    <a:pt x="64" y="18"/>
                  </a:lnTo>
                  <a:lnTo>
                    <a:pt x="75" y="14"/>
                  </a:lnTo>
                  <a:lnTo>
                    <a:pt x="84" y="11"/>
                  </a:lnTo>
                  <a:lnTo>
                    <a:pt x="95" y="7"/>
                  </a:lnTo>
                  <a:lnTo>
                    <a:pt x="105" y="4"/>
                  </a:lnTo>
                  <a:lnTo>
                    <a:pt x="116" y="0"/>
                  </a:lnTo>
                  <a:lnTo>
                    <a:pt x="94" y="63"/>
                  </a:lnTo>
                  <a:lnTo>
                    <a:pt x="78" y="128"/>
                  </a:lnTo>
                  <a:lnTo>
                    <a:pt x="70" y="193"/>
                  </a:lnTo>
                  <a:lnTo>
                    <a:pt x="67" y="257"/>
                  </a:lnTo>
                  <a:lnTo>
                    <a:pt x="71" y="323"/>
                  </a:lnTo>
                  <a:lnTo>
                    <a:pt x="81" y="388"/>
                  </a:lnTo>
                  <a:lnTo>
                    <a:pt x="97" y="453"/>
                  </a:lnTo>
                  <a:lnTo>
                    <a:pt x="119" y="516"/>
                  </a:lnTo>
                  <a:lnTo>
                    <a:pt x="111" y="518"/>
                  </a:lnTo>
                  <a:lnTo>
                    <a:pt x="103" y="520"/>
                  </a:lnTo>
                  <a:lnTo>
                    <a:pt x="95" y="523"/>
                  </a:lnTo>
                  <a:lnTo>
                    <a:pt x="87" y="525"/>
                  </a:lnTo>
                  <a:lnTo>
                    <a:pt x="78" y="528"/>
                  </a:lnTo>
                  <a:lnTo>
                    <a:pt x="70" y="530"/>
                  </a:lnTo>
                  <a:lnTo>
                    <a:pt x="62" y="532"/>
                  </a:lnTo>
                  <a:lnTo>
                    <a:pt x="54" y="535"/>
                  </a:lnTo>
                  <a:lnTo>
                    <a:pt x="33" y="473"/>
                  </a:lnTo>
                  <a:lnTo>
                    <a:pt x="16" y="411"/>
                  </a:lnTo>
                  <a:lnTo>
                    <a:pt x="6" y="347"/>
                  </a:lnTo>
                  <a:lnTo>
                    <a:pt x="0" y="283"/>
                  </a:lnTo>
                  <a:lnTo>
                    <a:pt x="0" y="220"/>
                  </a:lnTo>
                  <a:lnTo>
                    <a:pt x="6" y="156"/>
                  </a:lnTo>
                  <a:lnTo>
                    <a:pt x="18" y="91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212560" y="3667320"/>
              <a:ext cx="43200" cy="149400"/>
            </a:xfrm>
            <a:custGeom>
              <a:avLst/>
              <a:gdLst/>
              <a:ahLst/>
              <a:rect l="l" t="t" r="r" b="b"/>
              <a:pathLst>
                <a:path w="157" h="550">
                  <a:moveTo>
                    <a:pt x="91" y="21"/>
                  </a:moveTo>
                  <a:lnTo>
                    <a:pt x="79" y="19"/>
                  </a:lnTo>
                  <a:lnTo>
                    <a:pt x="69" y="15"/>
                  </a:lnTo>
                  <a:lnTo>
                    <a:pt x="57" y="13"/>
                  </a:lnTo>
                  <a:lnTo>
                    <a:pt x="46" y="10"/>
                  </a:lnTo>
                  <a:lnTo>
                    <a:pt x="34" y="8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0"/>
                  </a:lnTo>
                  <a:lnTo>
                    <a:pt x="33" y="62"/>
                  </a:lnTo>
                  <a:lnTo>
                    <a:pt x="58" y="127"/>
                  </a:lnTo>
                  <a:lnTo>
                    <a:pt x="76" y="194"/>
                  </a:lnTo>
                  <a:lnTo>
                    <a:pt x="86" y="262"/>
                  </a:lnTo>
                  <a:lnTo>
                    <a:pt x="88" y="331"/>
                  </a:lnTo>
                  <a:lnTo>
                    <a:pt x="82" y="400"/>
                  </a:lnTo>
                  <a:lnTo>
                    <a:pt x="69" y="468"/>
                  </a:lnTo>
                  <a:lnTo>
                    <a:pt x="47" y="536"/>
                  </a:lnTo>
                  <a:lnTo>
                    <a:pt x="56" y="537"/>
                  </a:lnTo>
                  <a:lnTo>
                    <a:pt x="64" y="539"/>
                  </a:lnTo>
                  <a:lnTo>
                    <a:pt x="74" y="540"/>
                  </a:lnTo>
                  <a:lnTo>
                    <a:pt x="82" y="543"/>
                  </a:lnTo>
                  <a:lnTo>
                    <a:pt x="91" y="544"/>
                  </a:lnTo>
                  <a:lnTo>
                    <a:pt x="99" y="546"/>
                  </a:lnTo>
                  <a:lnTo>
                    <a:pt x="109" y="547"/>
                  </a:lnTo>
                  <a:lnTo>
                    <a:pt x="117" y="550"/>
                  </a:lnTo>
                  <a:lnTo>
                    <a:pt x="137" y="484"/>
                  </a:lnTo>
                  <a:lnTo>
                    <a:pt x="150" y="417"/>
                  </a:lnTo>
                  <a:lnTo>
                    <a:pt x="157" y="350"/>
                  </a:lnTo>
                  <a:lnTo>
                    <a:pt x="157" y="283"/>
                  </a:lnTo>
                  <a:lnTo>
                    <a:pt x="150" y="216"/>
                  </a:lnTo>
                  <a:lnTo>
                    <a:pt x="137" y="150"/>
                  </a:lnTo>
                  <a:lnTo>
                    <a:pt x="117" y="84"/>
                  </a:lnTo>
                  <a:lnTo>
                    <a:pt x="91" y="21"/>
                  </a:lnTo>
                  <a:close/>
                </a:path>
              </a:pathLst>
            </a:custGeom>
            <a:solidFill>
              <a:srgbClr val="d2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87840" y="3678120"/>
              <a:ext cx="36360" cy="147240"/>
            </a:xfrm>
            <a:custGeom>
              <a:avLst/>
              <a:gdLst/>
              <a:ahLst/>
              <a:rect l="l" t="t" r="r" b="b"/>
              <a:pathLst>
                <a:path w="138" h="543">
                  <a:moveTo>
                    <a:pt x="49" y="27"/>
                  </a:moveTo>
                  <a:lnTo>
                    <a:pt x="59" y="24"/>
                  </a:lnTo>
                  <a:lnTo>
                    <a:pt x="71" y="20"/>
                  </a:lnTo>
                  <a:lnTo>
                    <a:pt x="82" y="17"/>
                  </a:lnTo>
                  <a:lnTo>
                    <a:pt x="93" y="13"/>
                  </a:lnTo>
                  <a:lnTo>
                    <a:pt x="104" y="10"/>
                  </a:lnTo>
                  <a:lnTo>
                    <a:pt x="115" y="6"/>
                  </a:lnTo>
                  <a:lnTo>
                    <a:pt x="126" y="4"/>
                  </a:lnTo>
                  <a:lnTo>
                    <a:pt x="138" y="0"/>
                  </a:lnTo>
                  <a:lnTo>
                    <a:pt x="110" y="63"/>
                  </a:lnTo>
                  <a:lnTo>
                    <a:pt x="89" y="128"/>
                  </a:lnTo>
                  <a:lnTo>
                    <a:pt x="76" y="194"/>
                  </a:lnTo>
                  <a:lnTo>
                    <a:pt x="70" y="261"/>
                  </a:lnTo>
                  <a:lnTo>
                    <a:pt x="71" y="328"/>
                  </a:lnTo>
                  <a:lnTo>
                    <a:pt x="80" y="394"/>
                  </a:lnTo>
                  <a:lnTo>
                    <a:pt x="97" y="461"/>
                  </a:lnTo>
                  <a:lnTo>
                    <a:pt x="120" y="525"/>
                  </a:lnTo>
                  <a:lnTo>
                    <a:pt x="112" y="528"/>
                  </a:lnTo>
                  <a:lnTo>
                    <a:pt x="104" y="530"/>
                  </a:lnTo>
                  <a:lnTo>
                    <a:pt x="94" y="531"/>
                  </a:lnTo>
                  <a:lnTo>
                    <a:pt x="86" y="533"/>
                  </a:lnTo>
                  <a:lnTo>
                    <a:pt x="78" y="536"/>
                  </a:lnTo>
                  <a:lnTo>
                    <a:pt x="69" y="538"/>
                  </a:lnTo>
                  <a:lnTo>
                    <a:pt x="61" y="540"/>
                  </a:lnTo>
                  <a:lnTo>
                    <a:pt x="52" y="543"/>
                  </a:lnTo>
                  <a:lnTo>
                    <a:pt x="30" y="480"/>
                  </a:lnTo>
                  <a:lnTo>
                    <a:pt x="14" y="415"/>
                  </a:lnTo>
                  <a:lnTo>
                    <a:pt x="4" y="350"/>
                  </a:lnTo>
                  <a:lnTo>
                    <a:pt x="0" y="284"/>
                  </a:lnTo>
                  <a:lnTo>
                    <a:pt x="3" y="220"/>
                  </a:lnTo>
                  <a:lnTo>
                    <a:pt x="11" y="155"/>
                  </a:lnTo>
                  <a:lnTo>
                    <a:pt x="27" y="9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d2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187000" y="3663360"/>
              <a:ext cx="49680" cy="150840"/>
            </a:xfrm>
            <a:custGeom>
              <a:avLst/>
              <a:gdLst/>
              <a:ahLst/>
              <a:rect l="l" t="t" r="r" b="b"/>
              <a:pathLst>
                <a:path w="183" h="554">
                  <a:moveTo>
                    <a:pt x="95" y="18"/>
                  </a:moveTo>
                  <a:lnTo>
                    <a:pt x="83" y="16"/>
                  </a:lnTo>
                  <a:lnTo>
                    <a:pt x="72" y="13"/>
                  </a:lnTo>
                  <a:lnTo>
                    <a:pt x="60" y="11"/>
                  </a:lnTo>
                  <a:lnTo>
                    <a:pt x="48" y="9"/>
                  </a:lnTo>
                  <a:lnTo>
                    <a:pt x="35" y="7"/>
                  </a:lnTo>
                  <a:lnTo>
                    <a:pt x="24" y="5"/>
                  </a:lnTo>
                  <a:lnTo>
                    <a:pt x="12" y="3"/>
                  </a:lnTo>
                  <a:lnTo>
                    <a:pt x="0" y="0"/>
                  </a:lnTo>
                  <a:lnTo>
                    <a:pt x="41" y="60"/>
                  </a:lnTo>
                  <a:lnTo>
                    <a:pt x="73" y="124"/>
                  </a:lnTo>
                  <a:lnTo>
                    <a:pt x="96" y="191"/>
                  </a:lnTo>
                  <a:lnTo>
                    <a:pt x="110" y="260"/>
                  </a:lnTo>
                  <a:lnTo>
                    <a:pt x="115" y="330"/>
                  </a:lnTo>
                  <a:lnTo>
                    <a:pt x="111" y="402"/>
                  </a:lnTo>
                  <a:lnTo>
                    <a:pt x="97" y="472"/>
                  </a:lnTo>
                  <a:lnTo>
                    <a:pt x="74" y="542"/>
                  </a:lnTo>
                  <a:lnTo>
                    <a:pt x="82" y="543"/>
                  </a:lnTo>
                  <a:lnTo>
                    <a:pt x="91" y="544"/>
                  </a:lnTo>
                  <a:lnTo>
                    <a:pt x="100" y="545"/>
                  </a:lnTo>
                  <a:lnTo>
                    <a:pt x="108" y="548"/>
                  </a:lnTo>
                  <a:lnTo>
                    <a:pt x="117" y="549"/>
                  </a:lnTo>
                  <a:lnTo>
                    <a:pt x="125" y="550"/>
                  </a:lnTo>
                  <a:lnTo>
                    <a:pt x="134" y="552"/>
                  </a:lnTo>
                  <a:lnTo>
                    <a:pt x="142" y="554"/>
                  </a:lnTo>
                  <a:lnTo>
                    <a:pt x="164" y="486"/>
                  </a:lnTo>
                  <a:lnTo>
                    <a:pt x="177" y="418"/>
                  </a:lnTo>
                  <a:lnTo>
                    <a:pt x="183" y="349"/>
                  </a:lnTo>
                  <a:lnTo>
                    <a:pt x="181" y="280"/>
                  </a:lnTo>
                  <a:lnTo>
                    <a:pt x="171" y="212"/>
                  </a:lnTo>
                  <a:lnTo>
                    <a:pt x="153" y="145"/>
                  </a:lnTo>
                  <a:lnTo>
                    <a:pt x="128" y="80"/>
                  </a:lnTo>
                  <a:lnTo>
                    <a:pt x="95" y="18"/>
                  </a:lnTo>
                  <a:close/>
                </a:path>
              </a:pathLst>
            </a:custGeom>
            <a:solidFill>
              <a:srgbClr val="d7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906920" y="3671640"/>
              <a:ext cx="43200" cy="149400"/>
            </a:xfrm>
            <a:custGeom>
              <a:avLst/>
              <a:gdLst/>
              <a:ahLst/>
              <a:rect l="l" t="t" r="r" b="b"/>
              <a:pathLst>
                <a:path w="160" h="548">
                  <a:moveTo>
                    <a:pt x="68" y="23"/>
                  </a:moveTo>
                  <a:lnTo>
                    <a:pt x="79" y="20"/>
                  </a:lnTo>
                  <a:lnTo>
                    <a:pt x="91" y="17"/>
                  </a:lnTo>
                  <a:lnTo>
                    <a:pt x="102" y="14"/>
                  </a:lnTo>
                  <a:lnTo>
                    <a:pt x="113" y="11"/>
                  </a:lnTo>
                  <a:lnTo>
                    <a:pt x="125" y="8"/>
                  </a:lnTo>
                  <a:lnTo>
                    <a:pt x="137" y="6"/>
                  </a:lnTo>
                  <a:lnTo>
                    <a:pt x="148" y="2"/>
                  </a:lnTo>
                  <a:lnTo>
                    <a:pt x="160" y="0"/>
                  </a:lnTo>
                  <a:lnTo>
                    <a:pt x="124" y="62"/>
                  </a:lnTo>
                  <a:lnTo>
                    <a:pt x="97" y="126"/>
                  </a:lnTo>
                  <a:lnTo>
                    <a:pt x="78" y="193"/>
                  </a:lnTo>
                  <a:lnTo>
                    <a:pt x="69" y="261"/>
                  </a:lnTo>
                  <a:lnTo>
                    <a:pt x="68" y="330"/>
                  </a:lnTo>
                  <a:lnTo>
                    <a:pt x="76" y="399"/>
                  </a:lnTo>
                  <a:lnTo>
                    <a:pt x="93" y="466"/>
                  </a:lnTo>
                  <a:lnTo>
                    <a:pt x="119" y="533"/>
                  </a:lnTo>
                  <a:lnTo>
                    <a:pt x="111" y="535"/>
                  </a:lnTo>
                  <a:lnTo>
                    <a:pt x="102" y="537"/>
                  </a:lnTo>
                  <a:lnTo>
                    <a:pt x="93" y="539"/>
                  </a:lnTo>
                  <a:lnTo>
                    <a:pt x="84" y="540"/>
                  </a:lnTo>
                  <a:lnTo>
                    <a:pt x="76" y="542"/>
                  </a:lnTo>
                  <a:lnTo>
                    <a:pt x="67" y="544"/>
                  </a:lnTo>
                  <a:lnTo>
                    <a:pt x="58" y="546"/>
                  </a:lnTo>
                  <a:lnTo>
                    <a:pt x="50" y="548"/>
                  </a:lnTo>
                  <a:lnTo>
                    <a:pt x="27" y="484"/>
                  </a:lnTo>
                  <a:lnTo>
                    <a:pt x="10" y="417"/>
                  </a:lnTo>
                  <a:lnTo>
                    <a:pt x="1" y="351"/>
                  </a:lnTo>
                  <a:lnTo>
                    <a:pt x="0" y="284"/>
                  </a:lnTo>
                  <a:lnTo>
                    <a:pt x="6" y="217"/>
                  </a:lnTo>
                  <a:lnTo>
                    <a:pt x="19" y="151"/>
                  </a:lnTo>
                  <a:lnTo>
                    <a:pt x="40" y="86"/>
                  </a:lnTo>
                  <a:lnTo>
                    <a:pt x="68" y="23"/>
                  </a:lnTo>
                  <a:close/>
                </a:path>
              </a:pathLst>
            </a:custGeom>
            <a:solidFill>
              <a:srgbClr val="d7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159640" y="3659400"/>
              <a:ext cx="57960" cy="150840"/>
            </a:xfrm>
            <a:custGeom>
              <a:avLst/>
              <a:gdLst/>
              <a:ahLst/>
              <a:rect l="l" t="t" r="r" b="b"/>
              <a:pathLst>
                <a:path w="218" h="556">
                  <a:moveTo>
                    <a:pt x="103" y="14"/>
                  </a:moveTo>
                  <a:lnTo>
                    <a:pt x="90" y="12"/>
                  </a:lnTo>
                  <a:lnTo>
                    <a:pt x="77" y="10"/>
                  </a:lnTo>
                  <a:lnTo>
                    <a:pt x="65" y="9"/>
                  </a:lnTo>
                  <a:lnTo>
                    <a:pt x="52" y="6"/>
                  </a:lnTo>
                  <a:lnTo>
                    <a:pt x="39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27" y="27"/>
                  </a:lnTo>
                  <a:lnTo>
                    <a:pt x="51" y="55"/>
                  </a:lnTo>
                  <a:lnTo>
                    <a:pt x="73" y="86"/>
                  </a:lnTo>
                  <a:lnTo>
                    <a:pt x="92" y="117"/>
                  </a:lnTo>
                  <a:lnTo>
                    <a:pt x="108" y="150"/>
                  </a:lnTo>
                  <a:lnTo>
                    <a:pt x="122" y="184"/>
                  </a:lnTo>
                  <a:lnTo>
                    <a:pt x="134" y="218"/>
                  </a:lnTo>
                  <a:lnTo>
                    <a:pt x="142" y="253"/>
                  </a:lnTo>
                  <a:lnTo>
                    <a:pt x="148" y="289"/>
                  </a:lnTo>
                  <a:lnTo>
                    <a:pt x="150" y="325"/>
                  </a:lnTo>
                  <a:lnTo>
                    <a:pt x="151" y="363"/>
                  </a:lnTo>
                  <a:lnTo>
                    <a:pt x="148" y="399"/>
                  </a:lnTo>
                  <a:lnTo>
                    <a:pt x="143" y="437"/>
                  </a:lnTo>
                  <a:lnTo>
                    <a:pt x="134" y="473"/>
                  </a:lnTo>
                  <a:lnTo>
                    <a:pt x="122" y="509"/>
                  </a:lnTo>
                  <a:lnTo>
                    <a:pt x="108" y="545"/>
                  </a:lnTo>
                  <a:lnTo>
                    <a:pt x="116" y="546"/>
                  </a:lnTo>
                  <a:lnTo>
                    <a:pt x="125" y="548"/>
                  </a:lnTo>
                  <a:lnTo>
                    <a:pt x="134" y="549"/>
                  </a:lnTo>
                  <a:lnTo>
                    <a:pt x="143" y="550"/>
                  </a:lnTo>
                  <a:lnTo>
                    <a:pt x="151" y="551"/>
                  </a:lnTo>
                  <a:lnTo>
                    <a:pt x="161" y="552"/>
                  </a:lnTo>
                  <a:lnTo>
                    <a:pt x="169" y="555"/>
                  </a:lnTo>
                  <a:lnTo>
                    <a:pt x="177" y="556"/>
                  </a:lnTo>
                  <a:lnTo>
                    <a:pt x="200" y="486"/>
                  </a:lnTo>
                  <a:lnTo>
                    <a:pt x="214" y="416"/>
                  </a:lnTo>
                  <a:lnTo>
                    <a:pt x="218" y="344"/>
                  </a:lnTo>
                  <a:lnTo>
                    <a:pt x="213" y="274"/>
                  </a:lnTo>
                  <a:lnTo>
                    <a:pt x="199" y="205"/>
                  </a:lnTo>
                  <a:lnTo>
                    <a:pt x="176" y="138"/>
                  </a:lnTo>
                  <a:lnTo>
                    <a:pt x="144" y="74"/>
                  </a:lnTo>
                  <a:lnTo>
                    <a:pt x="103" y="14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924200" y="3666240"/>
              <a:ext cx="52560" cy="150840"/>
            </a:xfrm>
            <a:custGeom>
              <a:avLst/>
              <a:gdLst/>
              <a:ahLst/>
              <a:rect l="l" t="t" r="r" b="b"/>
              <a:pathLst>
                <a:path w="195" h="555">
                  <a:moveTo>
                    <a:pt x="92" y="22"/>
                  </a:moveTo>
                  <a:lnTo>
                    <a:pt x="105" y="18"/>
                  </a:lnTo>
                  <a:lnTo>
                    <a:pt x="118" y="16"/>
                  </a:lnTo>
                  <a:lnTo>
                    <a:pt x="131" y="12"/>
                  </a:lnTo>
                  <a:lnTo>
                    <a:pt x="144" y="10"/>
                  </a:lnTo>
                  <a:lnTo>
                    <a:pt x="156" y="8"/>
                  </a:lnTo>
                  <a:lnTo>
                    <a:pt x="169" y="5"/>
                  </a:lnTo>
                  <a:lnTo>
                    <a:pt x="182" y="2"/>
                  </a:lnTo>
                  <a:lnTo>
                    <a:pt x="195" y="0"/>
                  </a:lnTo>
                  <a:lnTo>
                    <a:pt x="148" y="57"/>
                  </a:lnTo>
                  <a:lnTo>
                    <a:pt x="113" y="120"/>
                  </a:lnTo>
                  <a:lnTo>
                    <a:pt x="86" y="188"/>
                  </a:lnTo>
                  <a:lnTo>
                    <a:pt x="71" y="258"/>
                  </a:lnTo>
                  <a:lnTo>
                    <a:pt x="66" y="329"/>
                  </a:lnTo>
                  <a:lnTo>
                    <a:pt x="73" y="401"/>
                  </a:lnTo>
                  <a:lnTo>
                    <a:pt x="91" y="472"/>
                  </a:lnTo>
                  <a:lnTo>
                    <a:pt x="119" y="541"/>
                  </a:lnTo>
                  <a:lnTo>
                    <a:pt x="111" y="542"/>
                  </a:lnTo>
                  <a:lnTo>
                    <a:pt x="101" y="545"/>
                  </a:lnTo>
                  <a:lnTo>
                    <a:pt x="93" y="546"/>
                  </a:lnTo>
                  <a:lnTo>
                    <a:pt x="85" y="548"/>
                  </a:lnTo>
                  <a:lnTo>
                    <a:pt x="76" y="549"/>
                  </a:lnTo>
                  <a:lnTo>
                    <a:pt x="68" y="552"/>
                  </a:lnTo>
                  <a:lnTo>
                    <a:pt x="59" y="553"/>
                  </a:lnTo>
                  <a:lnTo>
                    <a:pt x="51" y="555"/>
                  </a:lnTo>
                  <a:lnTo>
                    <a:pt x="25" y="488"/>
                  </a:lnTo>
                  <a:lnTo>
                    <a:pt x="8" y="421"/>
                  </a:lnTo>
                  <a:lnTo>
                    <a:pt x="0" y="352"/>
                  </a:lnTo>
                  <a:lnTo>
                    <a:pt x="1" y="283"/>
                  </a:lnTo>
                  <a:lnTo>
                    <a:pt x="10" y="215"/>
                  </a:lnTo>
                  <a:lnTo>
                    <a:pt x="29" y="148"/>
                  </a:lnTo>
                  <a:lnTo>
                    <a:pt x="56" y="84"/>
                  </a:lnTo>
                  <a:lnTo>
                    <a:pt x="92" y="22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122920" y="3656520"/>
              <a:ext cx="77040" cy="150840"/>
            </a:xfrm>
            <a:custGeom>
              <a:avLst/>
              <a:gdLst/>
              <a:ahLst/>
              <a:rect l="l" t="t" r="r" b="b"/>
              <a:pathLst>
                <a:path w="283" h="556">
                  <a:moveTo>
                    <a:pt x="132" y="11"/>
                  </a:moveTo>
                  <a:lnTo>
                    <a:pt x="116" y="9"/>
                  </a:lnTo>
                  <a:lnTo>
                    <a:pt x="100" y="8"/>
                  </a:lnTo>
                  <a:lnTo>
                    <a:pt x="82" y="5"/>
                  </a:lnTo>
                  <a:lnTo>
                    <a:pt x="66" y="4"/>
                  </a:lnTo>
                  <a:lnTo>
                    <a:pt x="49" y="3"/>
                  </a:lnTo>
                  <a:lnTo>
                    <a:pt x="33" y="2"/>
                  </a:lnTo>
                  <a:lnTo>
                    <a:pt x="17" y="1"/>
                  </a:lnTo>
                  <a:lnTo>
                    <a:pt x="0" y="0"/>
                  </a:lnTo>
                  <a:lnTo>
                    <a:pt x="35" y="21"/>
                  </a:lnTo>
                  <a:lnTo>
                    <a:pt x="68" y="44"/>
                  </a:lnTo>
                  <a:lnTo>
                    <a:pt x="97" y="71"/>
                  </a:lnTo>
                  <a:lnTo>
                    <a:pt x="123" y="100"/>
                  </a:lnTo>
                  <a:lnTo>
                    <a:pt x="146" y="132"/>
                  </a:lnTo>
                  <a:lnTo>
                    <a:pt x="166" y="165"/>
                  </a:lnTo>
                  <a:lnTo>
                    <a:pt x="184" y="200"/>
                  </a:lnTo>
                  <a:lnTo>
                    <a:pt x="197" y="236"/>
                  </a:lnTo>
                  <a:lnTo>
                    <a:pt x="206" y="274"/>
                  </a:lnTo>
                  <a:lnTo>
                    <a:pt x="213" y="313"/>
                  </a:lnTo>
                  <a:lnTo>
                    <a:pt x="215" y="352"/>
                  </a:lnTo>
                  <a:lnTo>
                    <a:pt x="214" y="391"/>
                  </a:lnTo>
                  <a:lnTo>
                    <a:pt x="208" y="430"/>
                  </a:lnTo>
                  <a:lnTo>
                    <a:pt x="199" y="470"/>
                  </a:lnTo>
                  <a:lnTo>
                    <a:pt x="186" y="508"/>
                  </a:lnTo>
                  <a:lnTo>
                    <a:pt x="169" y="547"/>
                  </a:lnTo>
                  <a:lnTo>
                    <a:pt x="178" y="548"/>
                  </a:lnTo>
                  <a:lnTo>
                    <a:pt x="186" y="549"/>
                  </a:lnTo>
                  <a:lnTo>
                    <a:pt x="195" y="550"/>
                  </a:lnTo>
                  <a:lnTo>
                    <a:pt x="205" y="552"/>
                  </a:lnTo>
                  <a:lnTo>
                    <a:pt x="213" y="553"/>
                  </a:lnTo>
                  <a:lnTo>
                    <a:pt x="222" y="554"/>
                  </a:lnTo>
                  <a:lnTo>
                    <a:pt x="231" y="555"/>
                  </a:lnTo>
                  <a:lnTo>
                    <a:pt x="240" y="556"/>
                  </a:lnTo>
                  <a:lnTo>
                    <a:pt x="254" y="520"/>
                  </a:lnTo>
                  <a:lnTo>
                    <a:pt x="266" y="484"/>
                  </a:lnTo>
                  <a:lnTo>
                    <a:pt x="275" y="448"/>
                  </a:lnTo>
                  <a:lnTo>
                    <a:pt x="280" y="410"/>
                  </a:lnTo>
                  <a:lnTo>
                    <a:pt x="283" y="374"/>
                  </a:lnTo>
                  <a:lnTo>
                    <a:pt x="282" y="336"/>
                  </a:lnTo>
                  <a:lnTo>
                    <a:pt x="280" y="300"/>
                  </a:lnTo>
                  <a:lnTo>
                    <a:pt x="274" y="264"/>
                  </a:lnTo>
                  <a:lnTo>
                    <a:pt x="266" y="229"/>
                  </a:lnTo>
                  <a:lnTo>
                    <a:pt x="254" y="195"/>
                  </a:lnTo>
                  <a:lnTo>
                    <a:pt x="240" y="161"/>
                  </a:lnTo>
                  <a:lnTo>
                    <a:pt x="224" y="128"/>
                  </a:lnTo>
                  <a:lnTo>
                    <a:pt x="205" y="97"/>
                  </a:lnTo>
                  <a:lnTo>
                    <a:pt x="183" y="66"/>
                  </a:lnTo>
                  <a:lnTo>
                    <a:pt x="159" y="38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943280" y="3660480"/>
              <a:ext cx="70200" cy="152280"/>
            </a:xfrm>
            <a:custGeom>
              <a:avLst/>
              <a:gdLst/>
              <a:ahLst/>
              <a:rect l="l" t="t" r="r" b="b"/>
              <a:pathLst>
                <a:path w="260" h="561">
                  <a:moveTo>
                    <a:pt x="129" y="20"/>
                  </a:moveTo>
                  <a:lnTo>
                    <a:pt x="145" y="16"/>
                  </a:lnTo>
                  <a:lnTo>
                    <a:pt x="162" y="14"/>
                  </a:lnTo>
                  <a:lnTo>
                    <a:pt x="178" y="11"/>
                  </a:lnTo>
                  <a:lnTo>
                    <a:pt x="194" y="9"/>
                  </a:lnTo>
                  <a:lnTo>
                    <a:pt x="211" y="7"/>
                  </a:lnTo>
                  <a:lnTo>
                    <a:pt x="227" y="4"/>
                  </a:lnTo>
                  <a:lnTo>
                    <a:pt x="244" y="2"/>
                  </a:lnTo>
                  <a:lnTo>
                    <a:pt x="260" y="0"/>
                  </a:lnTo>
                  <a:lnTo>
                    <a:pt x="226" y="23"/>
                  </a:lnTo>
                  <a:lnTo>
                    <a:pt x="196" y="49"/>
                  </a:lnTo>
                  <a:lnTo>
                    <a:pt x="169" y="77"/>
                  </a:lnTo>
                  <a:lnTo>
                    <a:pt x="144" y="107"/>
                  </a:lnTo>
                  <a:lnTo>
                    <a:pt x="123" y="139"/>
                  </a:lnTo>
                  <a:lnTo>
                    <a:pt x="106" y="174"/>
                  </a:lnTo>
                  <a:lnTo>
                    <a:pt x="92" y="209"/>
                  </a:lnTo>
                  <a:lnTo>
                    <a:pt x="81" y="245"/>
                  </a:lnTo>
                  <a:lnTo>
                    <a:pt x="73" y="283"/>
                  </a:lnTo>
                  <a:lnTo>
                    <a:pt x="69" y="321"/>
                  </a:lnTo>
                  <a:lnTo>
                    <a:pt x="68" y="360"/>
                  </a:lnTo>
                  <a:lnTo>
                    <a:pt x="72" y="398"/>
                  </a:lnTo>
                  <a:lnTo>
                    <a:pt x="79" y="437"/>
                  </a:lnTo>
                  <a:lnTo>
                    <a:pt x="90" y="476"/>
                  </a:lnTo>
                  <a:lnTo>
                    <a:pt x="104" y="513"/>
                  </a:lnTo>
                  <a:lnTo>
                    <a:pt x="123" y="549"/>
                  </a:lnTo>
                  <a:lnTo>
                    <a:pt x="115" y="551"/>
                  </a:lnTo>
                  <a:lnTo>
                    <a:pt x="106" y="552"/>
                  </a:lnTo>
                  <a:lnTo>
                    <a:pt x="97" y="553"/>
                  </a:lnTo>
                  <a:lnTo>
                    <a:pt x="88" y="555"/>
                  </a:lnTo>
                  <a:lnTo>
                    <a:pt x="80" y="556"/>
                  </a:lnTo>
                  <a:lnTo>
                    <a:pt x="71" y="558"/>
                  </a:lnTo>
                  <a:lnTo>
                    <a:pt x="62" y="560"/>
                  </a:lnTo>
                  <a:lnTo>
                    <a:pt x="53" y="561"/>
                  </a:lnTo>
                  <a:lnTo>
                    <a:pt x="25" y="492"/>
                  </a:lnTo>
                  <a:lnTo>
                    <a:pt x="7" y="421"/>
                  </a:lnTo>
                  <a:lnTo>
                    <a:pt x="0" y="349"/>
                  </a:lnTo>
                  <a:lnTo>
                    <a:pt x="5" y="278"/>
                  </a:lnTo>
                  <a:lnTo>
                    <a:pt x="20" y="208"/>
                  </a:lnTo>
                  <a:lnTo>
                    <a:pt x="47" y="140"/>
                  </a:lnTo>
                  <a:lnTo>
                    <a:pt x="82" y="77"/>
                  </a:lnTo>
                  <a:lnTo>
                    <a:pt x="129" y="20"/>
                  </a:lnTo>
                  <a:close/>
                </a:path>
              </a:pathLst>
            </a:cu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960920" y="3655080"/>
              <a:ext cx="220320" cy="153720"/>
            </a:xfrm>
            <a:custGeom>
              <a:avLst/>
              <a:gdLst/>
              <a:ahLst/>
              <a:rect l="l" t="t" r="r" b="b"/>
              <a:pathLst>
                <a:path w="816" h="568">
                  <a:moveTo>
                    <a:pt x="601" y="5"/>
                  </a:moveTo>
                  <a:lnTo>
                    <a:pt x="585" y="3"/>
                  </a:lnTo>
                  <a:lnTo>
                    <a:pt x="568" y="2"/>
                  </a:lnTo>
                  <a:lnTo>
                    <a:pt x="552" y="1"/>
                  </a:lnTo>
                  <a:lnTo>
                    <a:pt x="536" y="1"/>
                  </a:lnTo>
                  <a:lnTo>
                    <a:pt x="521" y="0"/>
                  </a:lnTo>
                  <a:lnTo>
                    <a:pt x="504" y="0"/>
                  </a:lnTo>
                  <a:lnTo>
                    <a:pt x="489" y="0"/>
                  </a:lnTo>
                  <a:lnTo>
                    <a:pt x="473" y="0"/>
                  </a:lnTo>
                  <a:lnTo>
                    <a:pt x="456" y="0"/>
                  </a:lnTo>
                  <a:lnTo>
                    <a:pt x="440" y="0"/>
                  </a:lnTo>
                  <a:lnTo>
                    <a:pt x="422" y="1"/>
                  </a:lnTo>
                  <a:lnTo>
                    <a:pt x="406" y="1"/>
                  </a:lnTo>
                  <a:lnTo>
                    <a:pt x="388" y="1"/>
                  </a:lnTo>
                  <a:lnTo>
                    <a:pt x="371" y="2"/>
                  </a:lnTo>
                  <a:lnTo>
                    <a:pt x="353" y="3"/>
                  </a:lnTo>
                  <a:lnTo>
                    <a:pt x="336" y="5"/>
                  </a:lnTo>
                  <a:lnTo>
                    <a:pt x="318" y="6"/>
                  </a:lnTo>
                  <a:lnTo>
                    <a:pt x="301" y="7"/>
                  </a:lnTo>
                  <a:lnTo>
                    <a:pt x="282" y="8"/>
                  </a:lnTo>
                  <a:lnTo>
                    <a:pt x="264" y="10"/>
                  </a:lnTo>
                  <a:lnTo>
                    <a:pt x="247" y="12"/>
                  </a:lnTo>
                  <a:lnTo>
                    <a:pt x="228" y="14"/>
                  </a:lnTo>
                  <a:lnTo>
                    <a:pt x="211" y="16"/>
                  </a:lnTo>
                  <a:lnTo>
                    <a:pt x="192" y="19"/>
                  </a:lnTo>
                  <a:lnTo>
                    <a:pt x="158" y="42"/>
                  </a:lnTo>
                  <a:lnTo>
                    <a:pt x="128" y="68"/>
                  </a:lnTo>
                  <a:lnTo>
                    <a:pt x="101" y="96"/>
                  </a:lnTo>
                  <a:lnTo>
                    <a:pt x="76" y="126"/>
                  </a:lnTo>
                  <a:lnTo>
                    <a:pt x="55" y="158"/>
                  </a:lnTo>
                  <a:lnTo>
                    <a:pt x="38" y="193"/>
                  </a:lnTo>
                  <a:lnTo>
                    <a:pt x="24" y="228"/>
                  </a:lnTo>
                  <a:lnTo>
                    <a:pt x="13" y="264"/>
                  </a:lnTo>
                  <a:lnTo>
                    <a:pt x="5" y="302"/>
                  </a:lnTo>
                  <a:lnTo>
                    <a:pt x="1" y="340"/>
                  </a:lnTo>
                  <a:lnTo>
                    <a:pt x="0" y="379"/>
                  </a:lnTo>
                  <a:lnTo>
                    <a:pt x="4" y="417"/>
                  </a:lnTo>
                  <a:lnTo>
                    <a:pt x="11" y="456"/>
                  </a:lnTo>
                  <a:lnTo>
                    <a:pt x="22" y="495"/>
                  </a:lnTo>
                  <a:lnTo>
                    <a:pt x="36" y="532"/>
                  </a:lnTo>
                  <a:lnTo>
                    <a:pt x="55" y="568"/>
                  </a:lnTo>
                  <a:lnTo>
                    <a:pt x="64" y="567"/>
                  </a:lnTo>
                  <a:lnTo>
                    <a:pt x="74" y="566"/>
                  </a:lnTo>
                  <a:lnTo>
                    <a:pt x="83" y="564"/>
                  </a:lnTo>
                  <a:lnTo>
                    <a:pt x="93" y="562"/>
                  </a:lnTo>
                  <a:lnTo>
                    <a:pt x="101" y="561"/>
                  </a:lnTo>
                  <a:lnTo>
                    <a:pt x="110" y="560"/>
                  </a:lnTo>
                  <a:lnTo>
                    <a:pt x="119" y="559"/>
                  </a:lnTo>
                  <a:lnTo>
                    <a:pt x="129" y="558"/>
                  </a:lnTo>
                  <a:lnTo>
                    <a:pt x="98" y="503"/>
                  </a:lnTo>
                  <a:lnTo>
                    <a:pt x="79" y="446"/>
                  </a:lnTo>
                  <a:lnTo>
                    <a:pt x="69" y="386"/>
                  </a:lnTo>
                  <a:lnTo>
                    <a:pt x="70" y="325"/>
                  </a:lnTo>
                  <a:lnTo>
                    <a:pt x="82" y="267"/>
                  </a:lnTo>
                  <a:lnTo>
                    <a:pt x="104" y="210"/>
                  </a:lnTo>
                  <a:lnTo>
                    <a:pt x="137" y="159"/>
                  </a:lnTo>
                  <a:lnTo>
                    <a:pt x="179" y="112"/>
                  </a:lnTo>
                  <a:lnTo>
                    <a:pt x="204" y="92"/>
                  </a:lnTo>
                  <a:lnTo>
                    <a:pt x="229" y="75"/>
                  </a:lnTo>
                  <a:lnTo>
                    <a:pt x="255" y="60"/>
                  </a:lnTo>
                  <a:lnTo>
                    <a:pt x="283" y="47"/>
                  </a:lnTo>
                  <a:lnTo>
                    <a:pt x="311" y="37"/>
                  </a:lnTo>
                  <a:lnTo>
                    <a:pt x="340" y="30"/>
                  </a:lnTo>
                  <a:lnTo>
                    <a:pt x="371" y="26"/>
                  </a:lnTo>
                  <a:lnTo>
                    <a:pt x="400" y="23"/>
                  </a:lnTo>
                  <a:lnTo>
                    <a:pt x="430" y="23"/>
                  </a:lnTo>
                  <a:lnTo>
                    <a:pt x="460" y="27"/>
                  </a:lnTo>
                  <a:lnTo>
                    <a:pt x="489" y="33"/>
                  </a:lnTo>
                  <a:lnTo>
                    <a:pt x="518" y="41"/>
                  </a:lnTo>
                  <a:lnTo>
                    <a:pt x="546" y="53"/>
                  </a:lnTo>
                  <a:lnTo>
                    <a:pt x="574" y="67"/>
                  </a:lnTo>
                  <a:lnTo>
                    <a:pt x="600" y="83"/>
                  </a:lnTo>
                  <a:lnTo>
                    <a:pt x="626" y="102"/>
                  </a:lnTo>
                  <a:lnTo>
                    <a:pt x="670" y="146"/>
                  </a:lnTo>
                  <a:lnTo>
                    <a:pt x="705" y="196"/>
                  </a:lnTo>
                  <a:lnTo>
                    <a:pt x="730" y="251"/>
                  </a:lnTo>
                  <a:lnTo>
                    <a:pt x="744" y="309"/>
                  </a:lnTo>
                  <a:lnTo>
                    <a:pt x="749" y="370"/>
                  </a:lnTo>
                  <a:lnTo>
                    <a:pt x="742" y="429"/>
                  </a:lnTo>
                  <a:lnTo>
                    <a:pt x="724" y="489"/>
                  </a:lnTo>
                  <a:lnTo>
                    <a:pt x="696" y="545"/>
                  </a:lnTo>
                  <a:lnTo>
                    <a:pt x="705" y="545"/>
                  </a:lnTo>
                  <a:lnTo>
                    <a:pt x="715" y="546"/>
                  </a:lnTo>
                  <a:lnTo>
                    <a:pt x="724" y="547"/>
                  </a:lnTo>
                  <a:lnTo>
                    <a:pt x="733" y="547"/>
                  </a:lnTo>
                  <a:lnTo>
                    <a:pt x="742" y="548"/>
                  </a:lnTo>
                  <a:lnTo>
                    <a:pt x="751" y="550"/>
                  </a:lnTo>
                  <a:lnTo>
                    <a:pt x="760" y="551"/>
                  </a:lnTo>
                  <a:lnTo>
                    <a:pt x="770" y="552"/>
                  </a:lnTo>
                  <a:lnTo>
                    <a:pt x="787" y="513"/>
                  </a:lnTo>
                  <a:lnTo>
                    <a:pt x="800" y="475"/>
                  </a:lnTo>
                  <a:lnTo>
                    <a:pt x="809" y="435"/>
                  </a:lnTo>
                  <a:lnTo>
                    <a:pt x="815" y="396"/>
                  </a:lnTo>
                  <a:lnTo>
                    <a:pt x="816" y="357"/>
                  </a:lnTo>
                  <a:lnTo>
                    <a:pt x="814" y="318"/>
                  </a:lnTo>
                  <a:lnTo>
                    <a:pt x="807" y="279"/>
                  </a:lnTo>
                  <a:lnTo>
                    <a:pt x="798" y="241"/>
                  </a:lnTo>
                  <a:lnTo>
                    <a:pt x="785" y="205"/>
                  </a:lnTo>
                  <a:lnTo>
                    <a:pt x="767" y="170"/>
                  </a:lnTo>
                  <a:lnTo>
                    <a:pt x="747" y="137"/>
                  </a:lnTo>
                  <a:lnTo>
                    <a:pt x="724" y="105"/>
                  </a:lnTo>
                  <a:lnTo>
                    <a:pt x="698" y="76"/>
                  </a:lnTo>
                  <a:lnTo>
                    <a:pt x="669" y="49"/>
                  </a:lnTo>
                  <a:lnTo>
                    <a:pt x="636" y="26"/>
                  </a:lnTo>
                  <a:lnTo>
                    <a:pt x="601" y="5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979640" y="3660480"/>
              <a:ext cx="183960" cy="145440"/>
            </a:xfrm>
            <a:custGeom>
              <a:avLst/>
              <a:gdLst/>
              <a:ahLst/>
              <a:rect l="l" t="t" r="r" b="b"/>
              <a:pathLst>
                <a:path w="680" h="535">
                  <a:moveTo>
                    <a:pt x="60" y="535"/>
                  </a:moveTo>
                  <a:lnTo>
                    <a:pt x="70" y="534"/>
                  </a:lnTo>
                  <a:lnTo>
                    <a:pt x="81" y="532"/>
                  </a:lnTo>
                  <a:lnTo>
                    <a:pt x="91" y="531"/>
                  </a:lnTo>
                  <a:lnTo>
                    <a:pt x="101" y="530"/>
                  </a:lnTo>
                  <a:lnTo>
                    <a:pt x="111" y="529"/>
                  </a:lnTo>
                  <a:lnTo>
                    <a:pt x="122" y="528"/>
                  </a:lnTo>
                  <a:lnTo>
                    <a:pt x="131" y="527"/>
                  </a:lnTo>
                  <a:lnTo>
                    <a:pt x="142" y="525"/>
                  </a:lnTo>
                  <a:lnTo>
                    <a:pt x="109" y="483"/>
                  </a:lnTo>
                  <a:lnTo>
                    <a:pt x="86" y="437"/>
                  </a:lnTo>
                  <a:lnTo>
                    <a:pt x="73" y="387"/>
                  </a:lnTo>
                  <a:lnTo>
                    <a:pt x="68" y="336"/>
                  </a:lnTo>
                  <a:lnTo>
                    <a:pt x="74" y="286"/>
                  </a:lnTo>
                  <a:lnTo>
                    <a:pt x="89" y="237"/>
                  </a:lnTo>
                  <a:lnTo>
                    <a:pt x="112" y="191"/>
                  </a:lnTo>
                  <a:lnTo>
                    <a:pt x="146" y="150"/>
                  </a:lnTo>
                  <a:lnTo>
                    <a:pt x="166" y="131"/>
                  </a:lnTo>
                  <a:lnTo>
                    <a:pt x="187" y="116"/>
                  </a:lnTo>
                  <a:lnTo>
                    <a:pt x="211" y="102"/>
                  </a:lnTo>
                  <a:lnTo>
                    <a:pt x="234" y="90"/>
                  </a:lnTo>
                  <a:lnTo>
                    <a:pt x="257" y="82"/>
                  </a:lnTo>
                  <a:lnTo>
                    <a:pt x="282" y="75"/>
                  </a:lnTo>
                  <a:lnTo>
                    <a:pt x="308" y="72"/>
                  </a:lnTo>
                  <a:lnTo>
                    <a:pt x="333" y="69"/>
                  </a:lnTo>
                  <a:lnTo>
                    <a:pt x="358" y="71"/>
                  </a:lnTo>
                  <a:lnTo>
                    <a:pt x="384" y="73"/>
                  </a:lnTo>
                  <a:lnTo>
                    <a:pt x="408" y="79"/>
                  </a:lnTo>
                  <a:lnTo>
                    <a:pt x="433" y="86"/>
                  </a:lnTo>
                  <a:lnTo>
                    <a:pt x="457" y="96"/>
                  </a:lnTo>
                  <a:lnTo>
                    <a:pt x="480" y="109"/>
                  </a:lnTo>
                  <a:lnTo>
                    <a:pt x="502" y="123"/>
                  </a:lnTo>
                  <a:lnTo>
                    <a:pt x="523" y="141"/>
                  </a:lnTo>
                  <a:lnTo>
                    <a:pt x="558" y="180"/>
                  </a:lnTo>
                  <a:lnTo>
                    <a:pt x="585" y="225"/>
                  </a:lnTo>
                  <a:lnTo>
                    <a:pt x="602" y="273"/>
                  </a:lnTo>
                  <a:lnTo>
                    <a:pt x="609" y="323"/>
                  </a:lnTo>
                  <a:lnTo>
                    <a:pt x="608" y="375"/>
                  </a:lnTo>
                  <a:lnTo>
                    <a:pt x="597" y="425"/>
                  </a:lnTo>
                  <a:lnTo>
                    <a:pt x="575" y="472"/>
                  </a:lnTo>
                  <a:lnTo>
                    <a:pt x="545" y="516"/>
                  </a:lnTo>
                  <a:lnTo>
                    <a:pt x="556" y="516"/>
                  </a:lnTo>
                  <a:lnTo>
                    <a:pt x="565" y="517"/>
                  </a:lnTo>
                  <a:lnTo>
                    <a:pt x="575" y="517"/>
                  </a:lnTo>
                  <a:lnTo>
                    <a:pt x="586" y="518"/>
                  </a:lnTo>
                  <a:lnTo>
                    <a:pt x="595" y="520"/>
                  </a:lnTo>
                  <a:lnTo>
                    <a:pt x="606" y="521"/>
                  </a:lnTo>
                  <a:lnTo>
                    <a:pt x="616" y="521"/>
                  </a:lnTo>
                  <a:lnTo>
                    <a:pt x="627" y="522"/>
                  </a:lnTo>
                  <a:lnTo>
                    <a:pt x="655" y="466"/>
                  </a:lnTo>
                  <a:lnTo>
                    <a:pt x="673" y="406"/>
                  </a:lnTo>
                  <a:lnTo>
                    <a:pt x="680" y="347"/>
                  </a:lnTo>
                  <a:lnTo>
                    <a:pt x="675" y="286"/>
                  </a:lnTo>
                  <a:lnTo>
                    <a:pt x="661" y="228"/>
                  </a:lnTo>
                  <a:lnTo>
                    <a:pt x="636" y="173"/>
                  </a:lnTo>
                  <a:lnTo>
                    <a:pt x="601" y="123"/>
                  </a:lnTo>
                  <a:lnTo>
                    <a:pt x="557" y="79"/>
                  </a:lnTo>
                  <a:lnTo>
                    <a:pt x="531" y="60"/>
                  </a:lnTo>
                  <a:lnTo>
                    <a:pt x="505" y="44"/>
                  </a:lnTo>
                  <a:lnTo>
                    <a:pt x="477" y="30"/>
                  </a:lnTo>
                  <a:lnTo>
                    <a:pt x="449" y="18"/>
                  </a:lnTo>
                  <a:lnTo>
                    <a:pt x="420" y="10"/>
                  </a:lnTo>
                  <a:lnTo>
                    <a:pt x="391" y="4"/>
                  </a:lnTo>
                  <a:lnTo>
                    <a:pt x="361" y="0"/>
                  </a:lnTo>
                  <a:lnTo>
                    <a:pt x="331" y="0"/>
                  </a:lnTo>
                  <a:lnTo>
                    <a:pt x="302" y="3"/>
                  </a:lnTo>
                  <a:lnTo>
                    <a:pt x="271" y="7"/>
                  </a:lnTo>
                  <a:lnTo>
                    <a:pt x="242" y="14"/>
                  </a:lnTo>
                  <a:lnTo>
                    <a:pt x="214" y="24"/>
                  </a:lnTo>
                  <a:lnTo>
                    <a:pt x="186" y="37"/>
                  </a:lnTo>
                  <a:lnTo>
                    <a:pt x="160" y="52"/>
                  </a:lnTo>
                  <a:lnTo>
                    <a:pt x="135" y="69"/>
                  </a:lnTo>
                  <a:lnTo>
                    <a:pt x="110" y="89"/>
                  </a:lnTo>
                  <a:lnTo>
                    <a:pt x="68" y="136"/>
                  </a:lnTo>
                  <a:lnTo>
                    <a:pt x="35" y="187"/>
                  </a:lnTo>
                  <a:lnTo>
                    <a:pt x="13" y="244"/>
                  </a:lnTo>
                  <a:lnTo>
                    <a:pt x="1" y="302"/>
                  </a:lnTo>
                  <a:lnTo>
                    <a:pt x="0" y="363"/>
                  </a:lnTo>
                  <a:lnTo>
                    <a:pt x="10" y="423"/>
                  </a:lnTo>
                  <a:lnTo>
                    <a:pt x="29" y="480"/>
                  </a:lnTo>
                  <a:lnTo>
                    <a:pt x="60" y="535"/>
                  </a:lnTo>
                  <a:close/>
                </a:path>
              </a:pathLst>
            </a:cu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998720" y="3679920"/>
              <a:ext cx="145800" cy="123480"/>
            </a:xfrm>
            <a:custGeom>
              <a:avLst/>
              <a:gdLst/>
              <a:ahLst/>
              <a:rect l="l" t="t" r="r" b="b"/>
              <a:pathLst>
                <a:path w="541" h="456">
                  <a:moveTo>
                    <a:pt x="74" y="456"/>
                  </a:moveTo>
                  <a:lnTo>
                    <a:pt x="87" y="455"/>
                  </a:lnTo>
                  <a:lnTo>
                    <a:pt x="98" y="454"/>
                  </a:lnTo>
                  <a:lnTo>
                    <a:pt x="111" y="453"/>
                  </a:lnTo>
                  <a:lnTo>
                    <a:pt x="124" y="452"/>
                  </a:lnTo>
                  <a:lnTo>
                    <a:pt x="136" y="451"/>
                  </a:lnTo>
                  <a:lnTo>
                    <a:pt x="148" y="449"/>
                  </a:lnTo>
                  <a:lnTo>
                    <a:pt x="160" y="448"/>
                  </a:lnTo>
                  <a:lnTo>
                    <a:pt x="173" y="448"/>
                  </a:lnTo>
                  <a:lnTo>
                    <a:pt x="145" y="430"/>
                  </a:lnTo>
                  <a:lnTo>
                    <a:pt x="120" y="407"/>
                  </a:lnTo>
                  <a:lnTo>
                    <a:pt x="101" y="382"/>
                  </a:lnTo>
                  <a:lnTo>
                    <a:pt x="85" y="354"/>
                  </a:lnTo>
                  <a:lnTo>
                    <a:pt x="74" y="322"/>
                  </a:lnTo>
                  <a:lnTo>
                    <a:pt x="69" y="290"/>
                  </a:lnTo>
                  <a:lnTo>
                    <a:pt x="68" y="258"/>
                  </a:lnTo>
                  <a:lnTo>
                    <a:pt x="74" y="224"/>
                  </a:lnTo>
                  <a:lnTo>
                    <a:pt x="78" y="207"/>
                  </a:lnTo>
                  <a:lnTo>
                    <a:pt x="84" y="192"/>
                  </a:lnTo>
                  <a:lnTo>
                    <a:pt x="92" y="177"/>
                  </a:lnTo>
                  <a:lnTo>
                    <a:pt x="101" y="162"/>
                  </a:lnTo>
                  <a:lnTo>
                    <a:pt x="110" y="149"/>
                  </a:lnTo>
                  <a:lnTo>
                    <a:pt x="120" y="136"/>
                  </a:lnTo>
                  <a:lnTo>
                    <a:pt x="131" y="124"/>
                  </a:lnTo>
                  <a:lnTo>
                    <a:pt x="144" y="114"/>
                  </a:lnTo>
                  <a:lnTo>
                    <a:pt x="157" y="103"/>
                  </a:lnTo>
                  <a:lnTo>
                    <a:pt x="171" y="95"/>
                  </a:lnTo>
                  <a:lnTo>
                    <a:pt x="185" y="87"/>
                  </a:lnTo>
                  <a:lnTo>
                    <a:pt x="200" y="81"/>
                  </a:lnTo>
                  <a:lnTo>
                    <a:pt x="216" y="76"/>
                  </a:lnTo>
                  <a:lnTo>
                    <a:pt x="232" y="72"/>
                  </a:lnTo>
                  <a:lnTo>
                    <a:pt x="249" y="69"/>
                  </a:lnTo>
                  <a:lnTo>
                    <a:pt x="265" y="68"/>
                  </a:lnTo>
                  <a:lnTo>
                    <a:pt x="283" y="68"/>
                  </a:lnTo>
                  <a:lnTo>
                    <a:pt x="299" y="71"/>
                  </a:lnTo>
                  <a:lnTo>
                    <a:pt x="316" y="73"/>
                  </a:lnTo>
                  <a:lnTo>
                    <a:pt x="332" y="78"/>
                  </a:lnTo>
                  <a:lnTo>
                    <a:pt x="347" y="83"/>
                  </a:lnTo>
                  <a:lnTo>
                    <a:pt x="362" y="90"/>
                  </a:lnTo>
                  <a:lnTo>
                    <a:pt x="376" y="97"/>
                  </a:lnTo>
                  <a:lnTo>
                    <a:pt x="391" y="107"/>
                  </a:lnTo>
                  <a:lnTo>
                    <a:pt x="403" y="117"/>
                  </a:lnTo>
                  <a:lnTo>
                    <a:pt x="415" y="128"/>
                  </a:lnTo>
                  <a:lnTo>
                    <a:pt x="427" y="141"/>
                  </a:lnTo>
                  <a:lnTo>
                    <a:pt x="437" y="154"/>
                  </a:lnTo>
                  <a:lnTo>
                    <a:pt x="445" y="168"/>
                  </a:lnTo>
                  <a:lnTo>
                    <a:pt x="454" y="182"/>
                  </a:lnTo>
                  <a:lnTo>
                    <a:pt x="461" y="197"/>
                  </a:lnTo>
                  <a:lnTo>
                    <a:pt x="467" y="213"/>
                  </a:lnTo>
                  <a:lnTo>
                    <a:pt x="474" y="246"/>
                  </a:lnTo>
                  <a:lnTo>
                    <a:pt x="475" y="280"/>
                  </a:lnTo>
                  <a:lnTo>
                    <a:pt x="471" y="311"/>
                  </a:lnTo>
                  <a:lnTo>
                    <a:pt x="462" y="343"/>
                  </a:lnTo>
                  <a:lnTo>
                    <a:pt x="448" y="372"/>
                  </a:lnTo>
                  <a:lnTo>
                    <a:pt x="429" y="399"/>
                  </a:lnTo>
                  <a:lnTo>
                    <a:pt x="406" y="423"/>
                  </a:lnTo>
                  <a:lnTo>
                    <a:pt x="379" y="442"/>
                  </a:lnTo>
                  <a:lnTo>
                    <a:pt x="391" y="442"/>
                  </a:lnTo>
                  <a:lnTo>
                    <a:pt x="402" y="444"/>
                  </a:lnTo>
                  <a:lnTo>
                    <a:pt x="415" y="444"/>
                  </a:lnTo>
                  <a:lnTo>
                    <a:pt x="427" y="445"/>
                  </a:lnTo>
                  <a:lnTo>
                    <a:pt x="440" y="445"/>
                  </a:lnTo>
                  <a:lnTo>
                    <a:pt x="451" y="446"/>
                  </a:lnTo>
                  <a:lnTo>
                    <a:pt x="464" y="446"/>
                  </a:lnTo>
                  <a:lnTo>
                    <a:pt x="477" y="447"/>
                  </a:lnTo>
                  <a:lnTo>
                    <a:pt x="507" y="403"/>
                  </a:lnTo>
                  <a:lnTo>
                    <a:pt x="529" y="356"/>
                  </a:lnTo>
                  <a:lnTo>
                    <a:pt x="540" y="306"/>
                  </a:lnTo>
                  <a:lnTo>
                    <a:pt x="541" y="254"/>
                  </a:lnTo>
                  <a:lnTo>
                    <a:pt x="534" y="204"/>
                  </a:lnTo>
                  <a:lnTo>
                    <a:pt x="517" y="156"/>
                  </a:lnTo>
                  <a:lnTo>
                    <a:pt x="490" y="111"/>
                  </a:lnTo>
                  <a:lnTo>
                    <a:pt x="455" y="72"/>
                  </a:lnTo>
                  <a:lnTo>
                    <a:pt x="434" y="54"/>
                  </a:lnTo>
                  <a:lnTo>
                    <a:pt x="412" y="40"/>
                  </a:lnTo>
                  <a:lnTo>
                    <a:pt x="389" y="27"/>
                  </a:lnTo>
                  <a:lnTo>
                    <a:pt x="365" y="17"/>
                  </a:lnTo>
                  <a:lnTo>
                    <a:pt x="340" y="10"/>
                  </a:lnTo>
                  <a:lnTo>
                    <a:pt x="316" y="4"/>
                  </a:lnTo>
                  <a:lnTo>
                    <a:pt x="290" y="2"/>
                  </a:lnTo>
                  <a:lnTo>
                    <a:pt x="265" y="0"/>
                  </a:lnTo>
                  <a:lnTo>
                    <a:pt x="240" y="3"/>
                  </a:lnTo>
                  <a:lnTo>
                    <a:pt x="214" y="6"/>
                  </a:lnTo>
                  <a:lnTo>
                    <a:pt x="189" y="13"/>
                  </a:lnTo>
                  <a:lnTo>
                    <a:pt x="166" y="21"/>
                  </a:lnTo>
                  <a:lnTo>
                    <a:pt x="143" y="33"/>
                  </a:lnTo>
                  <a:lnTo>
                    <a:pt x="119" y="47"/>
                  </a:lnTo>
                  <a:lnTo>
                    <a:pt x="98" y="62"/>
                  </a:lnTo>
                  <a:lnTo>
                    <a:pt x="78" y="81"/>
                  </a:lnTo>
                  <a:lnTo>
                    <a:pt x="44" y="122"/>
                  </a:lnTo>
                  <a:lnTo>
                    <a:pt x="21" y="168"/>
                  </a:lnTo>
                  <a:lnTo>
                    <a:pt x="6" y="217"/>
                  </a:lnTo>
                  <a:lnTo>
                    <a:pt x="0" y="267"/>
                  </a:lnTo>
                  <a:lnTo>
                    <a:pt x="5" y="318"/>
                  </a:lnTo>
                  <a:lnTo>
                    <a:pt x="18" y="368"/>
                  </a:lnTo>
                  <a:lnTo>
                    <a:pt x="41" y="414"/>
                  </a:lnTo>
                  <a:lnTo>
                    <a:pt x="74" y="456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016360" y="3698640"/>
              <a:ext cx="110880" cy="55800"/>
            </a:xfrm>
            <a:custGeom>
              <a:avLst/>
              <a:gdLst/>
              <a:ahLst/>
              <a:rect l="l" t="t" r="r" b="b"/>
              <a:pathLst>
                <a:path w="407" h="204">
                  <a:moveTo>
                    <a:pt x="0" y="204"/>
                  </a:moveTo>
                  <a:lnTo>
                    <a:pt x="0" y="190"/>
                  </a:lnTo>
                  <a:lnTo>
                    <a:pt x="6" y="156"/>
                  </a:lnTo>
                  <a:lnTo>
                    <a:pt x="10" y="139"/>
                  </a:lnTo>
                  <a:lnTo>
                    <a:pt x="16" y="124"/>
                  </a:lnTo>
                  <a:lnTo>
                    <a:pt x="24" y="109"/>
                  </a:lnTo>
                  <a:lnTo>
                    <a:pt x="33" y="94"/>
                  </a:lnTo>
                  <a:lnTo>
                    <a:pt x="42" y="81"/>
                  </a:lnTo>
                  <a:lnTo>
                    <a:pt x="52" y="68"/>
                  </a:lnTo>
                  <a:lnTo>
                    <a:pt x="63" y="56"/>
                  </a:lnTo>
                  <a:lnTo>
                    <a:pt x="76" y="46"/>
                  </a:lnTo>
                  <a:lnTo>
                    <a:pt x="89" y="35"/>
                  </a:lnTo>
                  <a:lnTo>
                    <a:pt x="103" y="27"/>
                  </a:lnTo>
                  <a:lnTo>
                    <a:pt x="117" y="19"/>
                  </a:lnTo>
                  <a:lnTo>
                    <a:pt x="132" y="13"/>
                  </a:lnTo>
                  <a:lnTo>
                    <a:pt x="148" y="8"/>
                  </a:lnTo>
                  <a:lnTo>
                    <a:pt x="164" y="4"/>
                  </a:lnTo>
                  <a:lnTo>
                    <a:pt x="181" y="1"/>
                  </a:lnTo>
                  <a:lnTo>
                    <a:pt x="197" y="0"/>
                  </a:lnTo>
                  <a:lnTo>
                    <a:pt x="215" y="0"/>
                  </a:lnTo>
                  <a:lnTo>
                    <a:pt x="231" y="3"/>
                  </a:lnTo>
                  <a:lnTo>
                    <a:pt x="248" y="5"/>
                  </a:lnTo>
                  <a:lnTo>
                    <a:pt x="264" y="10"/>
                  </a:lnTo>
                  <a:lnTo>
                    <a:pt x="279" y="15"/>
                  </a:lnTo>
                  <a:lnTo>
                    <a:pt x="294" y="22"/>
                  </a:lnTo>
                  <a:lnTo>
                    <a:pt x="308" y="29"/>
                  </a:lnTo>
                  <a:lnTo>
                    <a:pt x="323" y="39"/>
                  </a:lnTo>
                  <a:lnTo>
                    <a:pt x="335" y="49"/>
                  </a:lnTo>
                  <a:lnTo>
                    <a:pt x="347" y="60"/>
                  </a:lnTo>
                  <a:lnTo>
                    <a:pt x="359" y="73"/>
                  </a:lnTo>
                  <a:lnTo>
                    <a:pt x="369" y="86"/>
                  </a:lnTo>
                  <a:lnTo>
                    <a:pt x="377" y="100"/>
                  </a:lnTo>
                  <a:lnTo>
                    <a:pt x="386" y="114"/>
                  </a:lnTo>
                  <a:lnTo>
                    <a:pt x="393" y="129"/>
                  </a:lnTo>
                  <a:lnTo>
                    <a:pt x="399" y="145"/>
                  </a:lnTo>
                  <a:lnTo>
                    <a:pt x="406" y="178"/>
                  </a:lnTo>
                  <a:lnTo>
                    <a:pt x="407" y="204"/>
                  </a:lnTo>
                  <a:lnTo>
                    <a:pt x="339" y="204"/>
                  </a:lnTo>
                  <a:lnTo>
                    <a:pt x="339" y="204"/>
                  </a:lnTo>
                  <a:lnTo>
                    <a:pt x="337" y="177"/>
                  </a:lnTo>
                  <a:lnTo>
                    <a:pt x="328" y="151"/>
                  </a:lnTo>
                  <a:lnTo>
                    <a:pt x="316" y="128"/>
                  </a:lnTo>
                  <a:lnTo>
                    <a:pt x="299" y="108"/>
                  </a:lnTo>
                  <a:lnTo>
                    <a:pt x="279" y="91"/>
                  </a:lnTo>
                  <a:lnTo>
                    <a:pt x="256" y="79"/>
                  </a:lnTo>
                  <a:lnTo>
                    <a:pt x="230" y="70"/>
                  </a:lnTo>
                  <a:lnTo>
                    <a:pt x="203" y="68"/>
                  </a:lnTo>
                  <a:lnTo>
                    <a:pt x="176" y="70"/>
                  </a:lnTo>
                  <a:lnTo>
                    <a:pt x="151" y="79"/>
                  </a:lnTo>
                  <a:lnTo>
                    <a:pt x="127" y="91"/>
                  </a:lnTo>
                  <a:lnTo>
                    <a:pt x="107" y="108"/>
                  </a:lnTo>
                  <a:lnTo>
                    <a:pt x="91" y="128"/>
                  </a:lnTo>
                  <a:lnTo>
                    <a:pt x="78" y="151"/>
                  </a:lnTo>
                  <a:lnTo>
                    <a:pt x="70" y="177"/>
                  </a:lnTo>
                  <a:lnTo>
                    <a:pt x="68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016360" y="3754440"/>
              <a:ext cx="110880" cy="47520"/>
            </a:xfrm>
            <a:custGeom>
              <a:avLst/>
              <a:gdLst/>
              <a:ahLst/>
              <a:rect l="l" t="t" r="r" b="b"/>
              <a:pathLst>
                <a:path w="407" h="176">
                  <a:moveTo>
                    <a:pt x="0" y="0"/>
                  </a:moveTo>
                  <a:lnTo>
                    <a:pt x="1" y="18"/>
                  </a:lnTo>
                  <a:lnTo>
                    <a:pt x="6" y="50"/>
                  </a:lnTo>
                  <a:lnTo>
                    <a:pt x="17" y="82"/>
                  </a:lnTo>
                  <a:lnTo>
                    <a:pt x="33" y="110"/>
                  </a:lnTo>
                  <a:lnTo>
                    <a:pt x="52" y="135"/>
                  </a:lnTo>
                  <a:lnTo>
                    <a:pt x="77" y="158"/>
                  </a:lnTo>
                  <a:lnTo>
                    <a:pt x="105" y="176"/>
                  </a:lnTo>
                  <a:lnTo>
                    <a:pt x="126" y="175"/>
                  </a:lnTo>
                  <a:lnTo>
                    <a:pt x="147" y="174"/>
                  </a:lnTo>
                  <a:lnTo>
                    <a:pt x="167" y="173"/>
                  </a:lnTo>
                  <a:lnTo>
                    <a:pt x="188" y="172"/>
                  </a:lnTo>
                  <a:lnTo>
                    <a:pt x="208" y="172"/>
                  </a:lnTo>
                  <a:lnTo>
                    <a:pt x="228" y="170"/>
                  </a:lnTo>
                  <a:lnTo>
                    <a:pt x="248" y="170"/>
                  </a:lnTo>
                  <a:lnTo>
                    <a:pt x="268" y="170"/>
                  </a:lnTo>
                  <a:lnTo>
                    <a:pt x="273" y="170"/>
                  </a:lnTo>
                  <a:lnTo>
                    <a:pt x="278" y="170"/>
                  </a:lnTo>
                  <a:lnTo>
                    <a:pt x="284" y="170"/>
                  </a:lnTo>
                  <a:lnTo>
                    <a:pt x="290" y="170"/>
                  </a:lnTo>
                  <a:lnTo>
                    <a:pt x="294" y="170"/>
                  </a:lnTo>
                  <a:lnTo>
                    <a:pt x="300" y="170"/>
                  </a:lnTo>
                  <a:lnTo>
                    <a:pt x="305" y="170"/>
                  </a:lnTo>
                  <a:lnTo>
                    <a:pt x="311" y="170"/>
                  </a:lnTo>
                  <a:lnTo>
                    <a:pt x="338" y="151"/>
                  </a:lnTo>
                  <a:lnTo>
                    <a:pt x="361" y="127"/>
                  </a:lnTo>
                  <a:lnTo>
                    <a:pt x="380" y="100"/>
                  </a:lnTo>
                  <a:lnTo>
                    <a:pt x="394" y="71"/>
                  </a:lnTo>
                  <a:lnTo>
                    <a:pt x="403" y="39"/>
                  </a:lnTo>
                  <a:lnTo>
                    <a:pt x="407" y="8"/>
                  </a:lnTo>
                  <a:lnTo>
                    <a:pt x="407" y="0"/>
                  </a:lnTo>
                  <a:lnTo>
                    <a:pt x="339" y="0"/>
                  </a:lnTo>
                  <a:lnTo>
                    <a:pt x="337" y="27"/>
                  </a:lnTo>
                  <a:lnTo>
                    <a:pt x="328" y="52"/>
                  </a:lnTo>
                  <a:lnTo>
                    <a:pt x="316" y="76"/>
                  </a:lnTo>
                  <a:lnTo>
                    <a:pt x="299" y="96"/>
                  </a:lnTo>
                  <a:lnTo>
                    <a:pt x="279" y="112"/>
                  </a:lnTo>
                  <a:lnTo>
                    <a:pt x="256" y="125"/>
                  </a:lnTo>
                  <a:lnTo>
                    <a:pt x="230" y="133"/>
                  </a:lnTo>
                  <a:lnTo>
                    <a:pt x="203" y="135"/>
                  </a:lnTo>
                  <a:lnTo>
                    <a:pt x="176" y="133"/>
                  </a:lnTo>
                  <a:lnTo>
                    <a:pt x="151" y="125"/>
                  </a:lnTo>
                  <a:lnTo>
                    <a:pt x="127" y="112"/>
                  </a:lnTo>
                  <a:lnTo>
                    <a:pt x="107" y="96"/>
                  </a:lnTo>
                  <a:lnTo>
                    <a:pt x="91" y="76"/>
                  </a:lnTo>
                  <a:lnTo>
                    <a:pt x="78" y="52"/>
                  </a:lnTo>
                  <a:lnTo>
                    <a:pt x="70" y="27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035440" y="3716640"/>
              <a:ext cx="72720" cy="37800"/>
            </a:xfrm>
            <a:custGeom>
              <a:avLst/>
              <a:gdLst/>
              <a:ahLst/>
              <a:rect l="l" t="t" r="r" b="b"/>
              <a:pathLst>
                <a:path w="271" h="136">
                  <a:moveTo>
                    <a:pt x="0" y="136"/>
                  </a:moveTo>
                  <a:lnTo>
                    <a:pt x="2" y="109"/>
                  </a:lnTo>
                  <a:lnTo>
                    <a:pt x="10" y="83"/>
                  </a:lnTo>
                  <a:lnTo>
                    <a:pt x="23" y="60"/>
                  </a:lnTo>
                  <a:lnTo>
                    <a:pt x="39" y="40"/>
                  </a:lnTo>
                  <a:lnTo>
                    <a:pt x="59" y="23"/>
                  </a:lnTo>
                  <a:lnTo>
                    <a:pt x="83" y="11"/>
                  </a:lnTo>
                  <a:lnTo>
                    <a:pt x="108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8" y="11"/>
                  </a:lnTo>
                  <a:lnTo>
                    <a:pt x="211" y="23"/>
                  </a:lnTo>
                  <a:lnTo>
                    <a:pt x="231" y="40"/>
                  </a:lnTo>
                  <a:lnTo>
                    <a:pt x="248" y="60"/>
                  </a:lnTo>
                  <a:lnTo>
                    <a:pt x="260" y="83"/>
                  </a:lnTo>
                  <a:lnTo>
                    <a:pt x="269" y="109"/>
                  </a:lnTo>
                  <a:lnTo>
                    <a:pt x="271" y="136"/>
                  </a:lnTo>
                  <a:lnTo>
                    <a:pt x="271" y="136"/>
                  </a:lnTo>
                  <a:lnTo>
                    <a:pt x="203" y="136"/>
                  </a:lnTo>
                  <a:lnTo>
                    <a:pt x="203" y="136"/>
                  </a:lnTo>
                  <a:lnTo>
                    <a:pt x="202" y="122"/>
                  </a:lnTo>
                  <a:lnTo>
                    <a:pt x="197" y="109"/>
                  </a:lnTo>
                  <a:lnTo>
                    <a:pt x="191" y="98"/>
                  </a:lnTo>
                  <a:lnTo>
                    <a:pt x="183" y="88"/>
                  </a:lnTo>
                  <a:lnTo>
                    <a:pt x="173" y="80"/>
                  </a:lnTo>
                  <a:lnTo>
                    <a:pt x="162" y="74"/>
                  </a:lnTo>
                  <a:lnTo>
                    <a:pt x="149" y="69"/>
                  </a:lnTo>
                  <a:lnTo>
                    <a:pt x="135" y="68"/>
                  </a:lnTo>
                  <a:lnTo>
                    <a:pt x="121" y="69"/>
                  </a:lnTo>
                  <a:lnTo>
                    <a:pt x="108" y="74"/>
                  </a:lnTo>
                  <a:lnTo>
                    <a:pt x="98" y="80"/>
                  </a:lnTo>
                  <a:lnTo>
                    <a:pt x="87" y="88"/>
                  </a:lnTo>
                  <a:lnTo>
                    <a:pt x="79" y="98"/>
                  </a:lnTo>
                  <a:lnTo>
                    <a:pt x="73" y="109"/>
                  </a:lnTo>
                  <a:lnTo>
                    <a:pt x="69" y="122"/>
                  </a:lnTo>
                  <a:lnTo>
                    <a:pt x="67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035440" y="3754440"/>
              <a:ext cx="72720" cy="36720"/>
            </a:xfrm>
            <a:custGeom>
              <a:avLst/>
              <a:gdLst/>
              <a:ahLst/>
              <a:rect l="l" t="t" r="r" b="b"/>
              <a:pathLst>
                <a:path w="271" h="135">
                  <a:moveTo>
                    <a:pt x="0" y="0"/>
                  </a:moveTo>
                  <a:lnTo>
                    <a:pt x="0" y="0"/>
                  </a:lnTo>
                  <a:lnTo>
                    <a:pt x="2" y="27"/>
                  </a:lnTo>
                  <a:lnTo>
                    <a:pt x="10" y="52"/>
                  </a:lnTo>
                  <a:lnTo>
                    <a:pt x="23" y="76"/>
                  </a:lnTo>
                  <a:lnTo>
                    <a:pt x="39" y="96"/>
                  </a:lnTo>
                  <a:lnTo>
                    <a:pt x="59" y="112"/>
                  </a:lnTo>
                  <a:lnTo>
                    <a:pt x="83" y="125"/>
                  </a:lnTo>
                  <a:lnTo>
                    <a:pt x="108" y="133"/>
                  </a:lnTo>
                  <a:lnTo>
                    <a:pt x="135" y="135"/>
                  </a:lnTo>
                  <a:lnTo>
                    <a:pt x="162" y="133"/>
                  </a:lnTo>
                  <a:lnTo>
                    <a:pt x="188" y="125"/>
                  </a:lnTo>
                  <a:lnTo>
                    <a:pt x="211" y="112"/>
                  </a:lnTo>
                  <a:lnTo>
                    <a:pt x="231" y="96"/>
                  </a:lnTo>
                  <a:lnTo>
                    <a:pt x="248" y="76"/>
                  </a:lnTo>
                  <a:lnTo>
                    <a:pt x="260" y="52"/>
                  </a:lnTo>
                  <a:lnTo>
                    <a:pt x="269" y="27"/>
                  </a:lnTo>
                  <a:lnTo>
                    <a:pt x="271" y="0"/>
                  </a:lnTo>
                  <a:lnTo>
                    <a:pt x="203" y="0"/>
                  </a:lnTo>
                  <a:lnTo>
                    <a:pt x="202" y="14"/>
                  </a:lnTo>
                  <a:lnTo>
                    <a:pt x="197" y="27"/>
                  </a:lnTo>
                  <a:lnTo>
                    <a:pt x="191" y="37"/>
                  </a:lnTo>
                  <a:lnTo>
                    <a:pt x="183" y="48"/>
                  </a:lnTo>
                  <a:lnTo>
                    <a:pt x="173" y="56"/>
                  </a:lnTo>
                  <a:lnTo>
                    <a:pt x="162" y="62"/>
                  </a:lnTo>
                  <a:lnTo>
                    <a:pt x="149" y="66"/>
                  </a:lnTo>
                  <a:lnTo>
                    <a:pt x="135" y="68"/>
                  </a:lnTo>
                  <a:lnTo>
                    <a:pt x="121" y="66"/>
                  </a:lnTo>
                  <a:lnTo>
                    <a:pt x="108" y="62"/>
                  </a:lnTo>
                  <a:lnTo>
                    <a:pt x="98" y="56"/>
                  </a:lnTo>
                  <a:lnTo>
                    <a:pt x="87" y="48"/>
                  </a:lnTo>
                  <a:lnTo>
                    <a:pt x="79" y="37"/>
                  </a:lnTo>
                  <a:lnTo>
                    <a:pt x="73" y="27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052720" y="3735720"/>
              <a:ext cx="36360" cy="367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68"/>
                  </a:moveTo>
                  <a:lnTo>
                    <a:pt x="135" y="54"/>
                  </a:lnTo>
                  <a:lnTo>
                    <a:pt x="130" y="41"/>
                  </a:lnTo>
                  <a:lnTo>
                    <a:pt x="124" y="30"/>
                  </a:lnTo>
                  <a:lnTo>
                    <a:pt x="116" y="20"/>
                  </a:lnTo>
                  <a:lnTo>
                    <a:pt x="106" y="12"/>
                  </a:lnTo>
                  <a:lnTo>
                    <a:pt x="95" y="6"/>
                  </a:lnTo>
                  <a:lnTo>
                    <a:pt x="82" y="1"/>
                  </a:lnTo>
                  <a:lnTo>
                    <a:pt x="68" y="0"/>
                  </a:lnTo>
                  <a:lnTo>
                    <a:pt x="54" y="1"/>
                  </a:lnTo>
                  <a:lnTo>
                    <a:pt x="41" y="6"/>
                  </a:lnTo>
                  <a:lnTo>
                    <a:pt x="31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6" y="41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2" y="82"/>
                  </a:lnTo>
                  <a:lnTo>
                    <a:pt x="6" y="95"/>
                  </a:lnTo>
                  <a:lnTo>
                    <a:pt x="12" y="105"/>
                  </a:lnTo>
                  <a:lnTo>
                    <a:pt x="20" y="116"/>
                  </a:lnTo>
                  <a:lnTo>
                    <a:pt x="31" y="124"/>
                  </a:lnTo>
                  <a:lnTo>
                    <a:pt x="41" y="130"/>
                  </a:lnTo>
                  <a:lnTo>
                    <a:pt x="54" y="134"/>
                  </a:lnTo>
                  <a:lnTo>
                    <a:pt x="68" y="136"/>
                  </a:lnTo>
                  <a:lnTo>
                    <a:pt x="82" y="134"/>
                  </a:lnTo>
                  <a:lnTo>
                    <a:pt x="95" y="130"/>
                  </a:lnTo>
                  <a:lnTo>
                    <a:pt x="106" y="124"/>
                  </a:lnTo>
                  <a:lnTo>
                    <a:pt x="116" y="116"/>
                  </a:lnTo>
                  <a:lnTo>
                    <a:pt x="124" y="105"/>
                  </a:lnTo>
                  <a:lnTo>
                    <a:pt x="130" y="95"/>
                  </a:lnTo>
                  <a:lnTo>
                    <a:pt x="135" y="82"/>
                  </a:lnTo>
                  <a:lnTo>
                    <a:pt x="136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153080" y="3442680"/>
              <a:ext cx="1870920" cy="444960"/>
            </a:xfrm>
            <a:custGeom>
              <a:avLst/>
              <a:gdLst/>
              <a:ahLst/>
              <a:rect l="l" t="t" r="r" b="b"/>
              <a:pathLst>
                <a:path w="6916" h="1634">
                  <a:moveTo>
                    <a:pt x="6774" y="1376"/>
                  </a:moveTo>
                  <a:lnTo>
                    <a:pt x="6834" y="1281"/>
                  </a:lnTo>
                  <a:lnTo>
                    <a:pt x="6876" y="1200"/>
                  </a:lnTo>
                  <a:lnTo>
                    <a:pt x="6903" y="1132"/>
                  </a:lnTo>
                  <a:lnTo>
                    <a:pt x="6916" y="1076"/>
                  </a:lnTo>
                  <a:lnTo>
                    <a:pt x="6916" y="1030"/>
                  </a:lnTo>
                  <a:lnTo>
                    <a:pt x="6904" y="992"/>
                  </a:lnTo>
                  <a:lnTo>
                    <a:pt x="6883" y="963"/>
                  </a:lnTo>
                  <a:lnTo>
                    <a:pt x="6853" y="940"/>
                  </a:lnTo>
                  <a:lnTo>
                    <a:pt x="6815" y="922"/>
                  </a:lnTo>
                  <a:lnTo>
                    <a:pt x="6773" y="909"/>
                  </a:lnTo>
                  <a:lnTo>
                    <a:pt x="6725" y="899"/>
                  </a:lnTo>
                  <a:lnTo>
                    <a:pt x="6675" y="890"/>
                  </a:lnTo>
                  <a:lnTo>
                    <a:pt x="6624" y="882"/>
                  </a:lnTo>
                  <a:lnTo>
                    <a:pt x="6571" y="873"/>
                  </a:lnTo>
                  <a:lnTo>
                    <a:pt x="6521" y="862"/>
                  </a:lnTo>
                  <a:lnTo>
                    <a:pt x="6473" y="848"/>
                  </a:lnTo>
                  <a:lnTo>
                    <a:pt x="6493" y="799"/>
                  </a:lnTo>
                  <a:lnTo>
                    <a:pt x="6508" y="755"/>
                  </a:lnTo>
                  <a:lnTo>
                    <a:pt x="6518" y="714"/>
                  </a:lnTo>
                  <a:lnTo>
                    <a:pt x="6525" y="678"/>
                  </a:lnTo>
                  <a:lnTo>
                    <a:pt x="6529" y="644"/>
                  </a:lnTo>
                  <a:lnTo>
                    <a:pt x="6528" y="613"/>
                  </a:lnTo>
                  <a:lnTo>
                    <a:pt x="6523" y="586"/>
                  </a:lnTo>
                  <a:lnTo>
                    <a:pt x="6515" y="563"/>
                  </a:lnTo>
                  <a:lnTo>
                    <a:pt x="6503" y="542"/>
                  </a:lnTo>
                  <a:lnTo>
                    <a:pt x="6489" y="523"/>
                  </a:lnTo>
                  <a:lnTo>
                    <a:pt x="6472" y="508"/>
                  </a:lnTo>
                  <a:lnTo>
                    <a:pt x="6452" y="494"/>
                  </a:lnTo>
                  <a:lnTo>
                    <a:pt x="6430" y="482"/>
                  </a:lnTo>
                  <a:lnTo>
                    <a:pt x="6404" y="474"/>
                  </a:lnTo>
                  <a:lnTo>
                    <a:pt x="6377" y="467"/>
                  </a:lnTo>
                  <a:lnTo>
                    <a:pt x="6348" y="461"/>
                  </a:lnTo>
                  <a:lnTo>
                    <a:pt x="6316" y="458"/>
                  </a:lnTo>
                  <a:lnTo>
                    <a:pt x="6282" y="454"/>
                  </a:lnTo>
                  <a:lnTo>
                    <a:pt x="6248" y="453"/>
                  </a:lnTo>
                  <a:lnTo>
                    <a:pt x="6212" y="453"/>
                  </a:lnTo>
                  <a:lnTo>
                    <a:pt x="6175" y="454"/>
                  </a:lnTo>
                  <a:lnTo>
                    <a:pt x="6136" y="456"/>
                  </a:lnTo>
                  <a:lnTo>
                    <a:pt x="6097" y="458"/>
                  </a:lnTo>
                  <a:lnTo>
                    <a:pt x="6057" y="461"/>
                  </a:lnTo>
                  <a:lnTo>
                    <a:pt x="6017" y="464"/>
                  </a:lnTo>
                  <a:lnTo>
                    <a:pt x="5976" y="467"/>
                  </a:lnTo>
                  <a:lnTo>
                    <a:pt x="5934" y="471"/>
                  </a:lnTo>
                  <a:lnTo>
                    <a:pt x="5893" y="473"/>
                  </a:lnTo>
                  <a:lnTo>
                    <a:pt x="5852" y="476"/>
                  </a:lnTo>
                  <a:lnTo>
                    <a:pt x="5811" y="478"/>
                  </a:lnTo>
                  <a:lnTo>
                    <a:pt x="5771" y="480"/>
                  </a:lnTo>
                  <a:lnTo>
                    <a:pt x="5731" y="480"/>
                  </a:lnTo>
                  <a:lnTo>
                    <a:pt x="5742" y="449"/>
                  </a:lnTo>
                  <a:lnTo>
                    <a:pt x="5749" y="421"/>
                  </a:lnTo>
                  <a:lnTo>
                    <a:pt x="5751" y="393"/>
                  </a:lnTo>
                  <a:lnTo>
                    <a:pt x="5750" y="366"/>
                  </a:lnTo>
                  <a:lnTo>
                    <a:pt x="5744" y="341"/>
                  </a:lnTo>
                  <a:lnTo>
                    <a:pt x="5735" y="316"/>
                  </a:lnTo>
                  <a:lnTo>
                    <a:pt x="5722" y="293"/>
                  </a:lnTo>
                  <a:lnTo>
                    <a:pt x="5706" y="272"/>
                  </a:lnTo>
                  <a:lnTo>
                    <a:pt x="5686" y="251"/>
                  </a:lnTo>
                  <a:lnTo>
                    <a:pt x="5662" y="232"/>
                  </a:lnTo>
                  <a:lnTo>
                    <a:pt x="5636" y="214"/>
                  </a:lnTo>
                  <a:lnTo>
                    <a:pt x="5606" y="198"/>
                  </a:lnTo>
                  <a:lnTo>
                    <a:pt x="5574" y="183"/>
                  </a:lnTo>
                  <a:lnTo>
                    <a:pt x="5537" y="170"/>
                  </a:lnTo>
                  <a:lnTo>
                    <a:pt x="5500" y="158"/>
                  </a:lnTo>
                  <a:lnTo>
                    <a:pt x="5458" y="149"/>
                  </a:lnTo>
                  <a:lnTo>
                    <a:pt x="5415" y="141"/>
                  </a:lnTo>
                  <a:lnTo>
                    <a:pt x="5368" y="134"/>
                  </a:lnTo>
                  <a:lnTo>
                    <a:pt x="5320" y="129"/>
                  </a:lnTo>
                  <a:lnTo>
                    <a:pt x="5270" y="127"/>
                  </a:lnTo>
                  <a:lnTo>
                    <a:pt x="5216" y="126"/>
                  </a:lnTo>
                  <a:lnTo>
                    <a:pt x="5161" y="127"/>
                  </a:lnTo>
                  <a:lnTo>
                    <a:pt x="5105" y="129"/>
                  </a:lnTo>
                  <a:lnTo>
                    <a:pt x="5045" y="134"/>
                  </a:lnTo>
                  <a:lnTo>
                    <a:pt x="4985" y="141"/>
                  </a:lnTo>
                  <a:lnTo>
                    <a:pt x="4924" y="150"/>
                  </a:lnTo>
                  <a:lnTo>
                    <a:pt x="4860" y="162"/>
                  </a:lnTo>
                  <a:lnTo>
                    <a:pt x="4795" y="175"/>
                  </a:lnTo>
                  <a:lnTo>
                    <a:pt x="4729" y="190"/>
                  </a:lnTo>
                  <a:lnTo>
                    <a:pt x="4662" y="209"/>
                  </a:lnTo>
                  <a:lnTo>
                    <a:pt x="4594" y="228"/>
                  </a:lnTo>
                  <a:lnTo>
                    <a:pt x="4525" y="251"/>
                  </a:lnTo>
                  <a:lnTo>
                    <a:pt x="4494" y="234"/>
                  </a:lnTo>
                  <a:lnTo>
                    <a:pt x="4463" y="219"/>
                  </a:lnTo>
                  <a:lnTo>
                    <a:pt x="4431" y="204"/>
                  </a:lnTo>
                  <a:lnTo>
                    <a:pt x="4399" y="190"/>
                  </a:lnTo>
                  <a:lnTo>
                    <a:pt x="4366" y="176"/>
                  </a:lnTo>
                  <a:lnTo>
                    <a:pt x="4333" y="163"/>
                  </a:lnTo>
                  <a:lnTo>
                    <a:pt x="4300" y="150"/>
                  </a:lnTo>
                  <a:lnTo>
                    <a:pt x="4266" y="138"/>
                  </a:lnTo>
                  <a:lnTo>
                    <a:pt x="4232" y="127"/>
                  </a:lnTo>
                  <a:lnTo>
                    <a:pt x="4199" y="115"/>
                  </a:lnTo>
                  <a:lnTo>
                    <a:pt x="4165" y="104"/>
                  </a:lnTo>
                  <a:lnTo>
                    <a:pt x="4130" y="95"/>
                  </a:lnTo>
                  <a:lnTo>
                    <a:pt x="4096" y="86"/>
                  </a:lnTo>
                  <a:lnTo>
                    <a:pt x="4061" y="76"/>
                  </a:lnTo>
                  <a:lnTo>
                    <a:pt x="4026" y="68"/>
                  </a:lnTo>
                  <a:lnTo>
                    <a:pt x="3992" y="60"/>
                  </a:lnTo>
                  <a:lnTo>
                    <a:pt x="3957" y="53"/>
                  </a:lnTo>
                  <a:lnTo>
                    <a:pt x="3921" y="46"/>
                  </a:lnTo>
                  <a:lnTo>
                    <a:pt x="3888" y="39"/>
                  </a:lnTo>
                  <a:lnTo>
                    <a:pt x="3852" y="33"/>
                  </a:lnTo>
                  <a:lnTo>
                    <a:pt x="3819" y="28"/>
                  </a:lnTo>
                  <a:lnTo>
                    <a:pt x="3785" y="24"/>
                  </a:lnTo>
                  <a:lnTo>
                    <a:pt x="3751" y="19"/>
                  </a:lnTo>
                  <a:lnTo>
                    <a:pt x="3717" y="14"/>
                  </a:lnTo>
                  <a:lnTo>
                    <a:pt x="3683" y="12"/>
                  </a:lnTo>
                  <a:lnTo>
                    <a:pt x="3650" y="9"/>
                  </a:lnTo>
                  <a:lnTo>
                    <a:pt x="3617" y="6"/>
                  </a:lnTo>
                  <a:lnTo>
                    <a:pt x="3585" y="4"/>
                  </a:lnTo>
                  <a:lnTo>
                    <a:pt x="3553" y="3"/>
                  </a:lnTo>
                  <a:lnTo>
                    <a:pt x="3522" y="2"/>
                  </a:lnTo>
                  <a:lnTo>
                    <a:pt x="3490" y="0"/>
                  </a:lnTo>
                  <a:lnTo>
                    <a:pt x="3460" y="0"/>
                  </a:lnTo>
                  <a:lnTo>
                    <a:pt x="3429" y="0"/>
                  </a:lnTo>
                  <a:lnTo>
                    <a:pt x="3398" y="2"/>
                  </a:lnTo>
                  <a:lnTo>
                    <a:pt x="3366" y="3"/>
                  </a:lnTo>
                  <a:lnTo>
                    <a:pt x="3333" y="4"/>
                  </a:lnTo>
                  <a:lnTo>
                    <a:pt x="3302" y="6"/>
                  </a:lnTo>
                  <a:lnTo>
                    <a:pt x="3268" y="9"/>
                  </a:lnTo>
                  <a:lnTo>
                    <a:pt x="3235" y="12"/>
                  </a:lnTo>
                  <a:lnTo>
                    <a:pt x="3201" y="16"/>
                  </a:lnTo>
                  <a:lnTo>
                    <a:pt x="3167" y="19"/>
                  </a:lnTo>
                  <a:lnTo>
                    <a:pt x="3133" y="24"/>
                  </a:lnTo>
                  <a:lnTo>
                    <a:pt x="3099" y="28"/>
                  </a:lnTo>
                  <a:lnTo>
                    <a:pt x="3064" y="34"/>
                  </a:lnTo>
                  <a:lnTo>
                    <a:pt x="3030" y="40"/>
                  </a:lnTo>
                  <a:lnTo>
                    <a:pt x="2995" y="46"/>
                  </a:lnTo>
                  <a:lnTo>
                    <a:pt x="2961" y="53"/>
                  </a:lnTo>
                  <a:lnTo>
                    <a:pt x="2926" y="60"/>
                  </a:lnTo>
                  <a:lnTo>
                    <a:pt x="2891" y="68"/>
                  </a:lnTo>
                  <a:lnTo>
                    <a:pt x="2856" y="76"/>
                  </a:lnTo>
                  <a:lnTo>
                    <a:pt x="2822" y="86"/>
                  </a:lnTo>
                  <a:lnTo>
                    <a:pt x="2787" y="95"/>
                  </a:lnTo>
                  <a:lnTo>
                    <a:pt x="2752" y="106"/>
                  </a:lnTo>
                  <a:lnTo>
                    <a:pt x="2718" y="115"/>
                  </a:lnTo>
                  <a:lnTo>
                    <a:pt x="2684" y="127"/>
                  </a:lnTo>
                  <a:lnTo>
                    <a:pt x="2650" y="138"/>
                  </a:lnTo>
                  <a:lnTo>
                    <a:pt x="2617" y="150"/>
                  </a:lnTo>
                  <a:lnTo>
                    <a:pt x="2584" y="163"/>
                  </a:lnTo>
                  <a:lnTo>
                    <a:pt x="2550" y="176"/>
                  </a:lnTo>
                  <a:lnTo>
                    <a:pt x="2517" y="190"/>
                  </a:lnTo>
                  <a:lnTo>
                    <a:pt x="2486" y="204"/>
                  </a:lnTo>
                  <a:lnTo>
                    <a:pt x="2453" y="218"/>
                  </a:lnTo>
                  <a:lnTo>
                    <a:pt x="2421" y="233"/>
                  </a:lnTo>
                  <a:lnTo>
                    <a:pt x="2391" y="249"/>
                  </a:lnTo>
                  <a:lnTo>
                    <a:pt x="2322" y="227"/>
                  </a:lnTo>
                  <a:lnTo>
                    <a:pt x="2254" y="207"/>
                  </a:lnTo>
                  <a:lnTo>
                    <a:pt x="2186" y="190"/>
                  </a:lnTo>
                  <a:lnTo>
                    <a:pt x="2121" y="173"/>
                  </a:lnTo>
                  <a:lnTo>
                    <a:pt x="2056" y="161"/>
                  </a:lnTo>
                  <a:lnTo>
                    <a:pt x="1993" y="150"/>
                  </a:lnTo>
                  <a:lnTo>
                    <a:pt x="1931" y="141"/>
                  </a:lnTo>
                  <a:lnTo>
                    <a:pt x="1871" y="134"/>
                  </a:lnTo>
                  <a:lnTo>
                    <a:pt x="1812" y="129"/>
                  </a:lnTo>
                  <a:lnTo>
                    <a:pt x="1756" y="126"/>
                  </a:lnTo>
                  <a:lnTo>
                    <a:pt x="1701" y="126"/>
                  </a:lnTo>
                  <a:lnTo>
                    <a:pt x="1647" y="126"/>
                  </a:lnTo>
                  <a:lnTo>
                    <a:pt x="1597" y="129"/>
                  </a:lnTo>
                  <a:lnTo>
                    <a:pt x="1549" y="134"/>
                  </a:lnTo>
                  <a:lnTo>
                    <a:pt x="1502" y="140"/>
                  </a:lnTo>
                  <a:lnTo>
                    <a:pt x="1459" y="148"/>
                  </a:lnTo>
                  <a:lnTo>
                    <a:pt x="1418" y="158"/>
                  </a:lnTo>
                  <a:lnTo>
                    <a:pt x="1379" y="170"/>
                  </a:lnTo>
                  <a:lnTo>
                    <a:pt x="1343" y="183"/>
                  </a:lnTo>
                  <a:lnTo>
                    <a:pt x="1310" y="198"/>
                  </a:lnTo>
                  <a:lnTo>
                    <a:pt x="1281" y="213"/>
                  </a:lnTo>
                  <a:lnTo>
                    <a:pt x="1254" y="231"/>
                  </a:lnTo>
                  <a:lnTo>
                    <a:pt x="1231" y="251"/>
                  </a:lnTo>
                  <a:lnTo>
                    <a:pt x="1211" y="271"/>
                  </a:lnTo>
                  <a:lnTo>
                    <a:pt x="1195" y="293"/>
                  </a:lnTo>
                  <a:lnTo>
                    <a:pt x="1182" y="316"/>
                  </a:lnTo>
                  <a:lnTo>
                    <a:pt x="1172" y="340"/>
                  </a:lnTo>
                  <a:lnTo>
                    <a:pt x="1167" y="365"/>
                  </a:lnTo>
                  <a:lnTo>
                    <a:pt x="1165" y="392"/>
                  </a:lnTo>
                  <a:lnTo>
                    <a:pt x="1168" y="420"/>
                  </a:lnTo>
                  <a:lnTo>
                    <a:pt x="1175" y="448"/>
                  </a:lnTo>
                  <a:lnTo>
                    <a:pt x="1185" y="479"/>
                  </a:lnTo>
                  <a:lnTo>
                    <a:pt x="1146" y="479"/>
                  </a:lnTo>
                  <a:lnTo>
                    <a:pt x="1106" y="476"/>
                  </a:lnTo>
                  <a:lnTo>
                    <a:pt x="1065" y="475"/>
                  </a:lnTo>
                  <a:lnTo>
                    <a:pt x="1024" y="472"/>
                  </a:lnTo>
                  <a:lnTo>
                    <a:pt x="983" y="469"/>
                  </a:lnTo>
                  <a:lnTo>
                    <a:pt x="941" y="466"/>
                  </a:lnTo>
                  <a:lnTo>
                    <a:pt x="900" y="462"/>
                  </a:lnTo>
                  <a:lnTo>
                    <a:pt x="860" y="460"/>
                  </a:lnTo>
                  <a:lnTo>
                    <a:pt x="819" y="456"/>
                  </a:lnTo>
                  <a:lnTo>
                    <a:pt x="781" y="455"/>
                  </a:lnTo>
                  <a:lnTo>
                    <a:pt x="742" y="453"/>
                  </a:lnTo>
                  <a:lnTo>
                    <a:pt x="705" y="452"/>
                  </a:lnTo>
                  <a:lnTo>
                    <a:pt x="668" y="452"/>
                  </a:lnTo>
                  <a:lnTo>
                    <a:pt x="635" y="453"/>
                  </a:lnTo>
                  <a:lnTo>
                    <a:pt x="601" y="456"/>
                  </a:lnTo>
                  <a:lnTo>
                    <a:pt x="570" y="460"/>
                  </a:lnTo>
                  <a:lnTo>
                    <a:pt x="540" y="466"/>
                  </a:lnTo>
                  <a:lnTo>
                    <a:pt x="513" y="473"/>
                  </a:lnTo>
                  <a:lnTo>
                    <a:pt x="487" y="481"/>
                  </a:lnTo>
                  <a:lnTo>
                    <a:pt x="465" y="493"/>
                  </a:lnTo>
                  <a:lnTo>
                    <a:pt x="445" y="507"/>
                  </a:lnTo>
                  <a:lnTo>
                    <a:pt x="428" y="522"/>
                  </a:lnTo>
                  <a:lnTo>
                    <a:pt x="414" y="541"/>
                  </a:lnTo>
                  <a:lnTo>
                    <a:pt x="402" y="562"/>
                  </a:lnTo>
                  <a:lnTo>
                    <a:pt x="395" y="585"/>
                  </a:lnTo>
                  <a:lnTo>
                    <a:pt x="390" y="612"/>
                  </a:lnTo>
                  <a:lnTo>
                    <a:pt x="389" y="642"/>
                  </a:lnTo>
                  <a:lnTo>
                    <a:pt x="393" y="676"/>
                  </a:lnTo>
                  <a:lnTo>
                    <a:pt x="398" y="713"/>
                  </a:lnTo>
                  <a:lnTo>
                    <a:pt x="410" y="754"/>
                  </a:lnTo>
                  <a:lnTo>
                    <a:pt x="425" y="798"/>
                  </a:lnTo>
                  <a:lnTo>
                    <a:pt x="445" y="847"/>
                  </a:lnTo>
                  <a:lnTo>
                    <a:pt x="397" y="861"/>
                  </a:lnTo>
                  <a:lnTo>
                    <a:pt x="347" y="872"/>
                  </a:lnTo>
                  <a:lnTo>
                    <a:pt x="295" y="881"/>
                  </a:lnTo>
                  <a:lnTo>
                    <a:pt x="243" y="888"/>
                  </a:lnTo>
                  <a:lnTo>
                    <a:pt x="193" y="897"/>
                  </a:lnTo>
                  <a:lnTo>
                    <a:pt x="146" y="908"/>
                  </a:lnTo>
                  <a:lnTo>
                    <a:pt x="103" y="921"/>
                  </a:lnTo>
                  <a:lnTo>
                    <a:pt x="65" y="938"/>
                  </a:lnTo>
                  <a:lnTo>
                    <a:pt x="34" y="961"/>
                  </a:lnTo>
                  <a:lnTo>
                    <a:pt x="13" y="990"/>
                  </a:lnTo>
                  <a:lnTo>
                    <a:pt x="1" y="1026"/>
                  </a:lnTo>
                  <a:lnTo>
                    <a:pt x="0" y="1072"/>
                  </a:lnTo>
                  <a:lnTo>
                    <a:pt x="13" y="1128"/>
                  </a:lnTo>
                  <a:lnTo>
                    <a:pt x="38" y="1194"/>
                  </a:lnTo>
                  <a:lnTo>
                    <a:pt x="80" y="1274"/>
                  </a:lnTo>
                  <a:lnTo>
                    <a:pt x="140" y="1368"/>
                  </a:lnTo>
                  <a:lnTo>
                    <a:pt x="160" y="1401"/>
                  </a:lnTo>
                  <a:lnTo>
                    <a:pt x="179" y="1434"/>
                  </a:lnTo>
                  <a:lnTo>
                    <a:pt x="198" y="1468"/>
                  </a:lnTo>
                  <a:lnTo>
                    <a:pt x="218" y="1501"/>
                  </a:lnTo>
                  <a:lnTo>
                    <a:pt x="238" y="1535"/>
                  </a:lnTo>
                  <a:lnTo>
                    <a:pt x="258" y="1568"/>
                  </a:lnTo>
                  <a:lnTo>
                    <a:pt x="278" y="1600"/>
                  </a:lnTo>
                  <a:lnTo>
                    <a:pt x="298" y="1633"/>
                  </a:lnTo>
                  <a:lnTo>
                    <a:pt x="241" y="1562"/>
                  </a:lnTo>
                  <a:lnTo>
                    <a:pt x="200" y="1501"/>
                  </a:lnTo>
                  <a:lnTo>
                    <a:pt x="173" y="1449"/>
                  </a:lnTo>
                  <a:lnTo>
                    <a:pt x="161" y="1406"/>
                  </a:lnTo>
                  <a:lnTo>
                    <a:pt x="160" y="1372"/>
                  </a:lnTo>
                  <a:lnTo>
                    <a:pt x="172" y="1344"/>
                  </a:lnTo>
                  <a:lnTo>
                    <a:pt x="191" y="1322"/>
                  </a:lnTo>
                  <a:lnTo>
                    <a:pt x="219" y="1304"/>
                  </a:lnTo>
                  <a:lnTo>
                    <a:pt x="255" y="1292"/>
                  </a:lnTo>
                  <a:lnTo>
                    <a:pt x="295" y="1282"/>
                  </a:lnTo>
                  <a:lnTo>
                    <a:pt x="341" y="1275"/>
                  </a:lnTo>
                  <a:lnTo>
                    <a:pt x="388" y="1269"/>
                  </a:lnTo>
                  <a:lnTo>
                    <a:pt x="438" y="1263"/>
                  </a:lnTo>
                  <a:lnTo>
                    <a:pt x="487" y="1256"/>
                  </a:lnTo>
                  <a:lnTo>
                    <a:pt x="535" y="1249"/>
                  </a:lnTo>
                  <a:lnTo>
                    <a:pt x="581" y="1239"/>
                  </a:lnTo>
                  <a:lnTo>
                    <a:pt x="562" y="1203"/>
                  </a:lnTo>
                  <a:lnTo>
                    <a:pt x="547" y="1169"/>
                  </a:lnTo>
                  <a:lnTo>
                    <a:pt x="536" y="1138"/>
                  </a:lnTo>
                  <a:lnTo>
                    <a:pt x="529" y="1110"/>
                  </a:lnTo>
                  <a:lnTo>
                    <a:pt x="526" y="1085"/>
                  </a:lnTo>
                  <a:lnTo>
                    <a:pt x="527" y="1062"/>
                  </a:lnTo>
                  <a:lnTo>
                    <a:pt x="532" y="1042"/>
                  </a:lnTo>
                  <a:lnTo>
                    <a:pt x="539" y="1024"/>
                  </a:lnTo>
                  <a:lnTo>
                    <a:pt x="549" y="1009"/>
                  </a:lnTo>
                  <a:lnTo>
                    <a:pt x="563" y="994"/>
                  </a:lnTo>
                  <a:lnTo>
                    <a:pt x="580" y="983"/>
                  </a:lnTo>
                  <a:lnTo>
                    <a:pt x="598" y="972"/>
                  </a:lnTo>
                  <a:lnTo>
                    <a:pt x="621" y="964"/>
                  </a:lnTo>
                  <a:lnTo>
                    <a:pt x="644" y="958"/>
                  </a:lnTo>
                  <a:lnTo>
                    <a:pt x="671" y="952"/>
                  </a:lnTo>
                  <a:lnTo>
                    <a:pt x="699" y="949"/>
                  </a:lnTo>
                  <a:lnTo>
                    <a:pt x="728" y="945"/>
                  </a:lnTo>
                  <a:lnTo>
                    <a:pt x="760" y="944"/>
                  </a:lnTo>
                  <a:lnTo>
                    <a:pt x="794" y="943"/>
                  </a:lnTo>
                  <a:lnTo>
                    <a:pt x="828" y="943"/>
                  </a:lnTo>
                  <a:lnTo>
                    <a:pt x="864" y="944"/>
                  </a:lnTo>
                  <a:lnTo>
                    <a:pt x="900" y="945"/>
                  </a:lnTo>
                  <a:lnTo>
                    <a:pt x="939" y="948"/>
                  </a:lnTo>
                  <a:lnTo>
                    <a:pt x="976" y="949"/>
                  </a:lnTo>
                  <a:lnTo>
                    <a:pt x="1016" y="951"/>
                  </a:lnTo>
                  <a:lnTo>
                    <a:pt x="1054" y="954"/>
                  </a:lnTo>
                  <a:lnTo>
                    <a:pt x="1094" y="957"/>
                  </a:lnTo>
                  <a:lnTo>
                    <a:pt x="1134" y="959"/>
                  </a:lnTo>
                  <a:lnTo>
                    <a:pt x="1172" y="961"/>
                  </a:lnTo>
                  <a:lnTo>
                    <a:pt x="1212" y="963"/>
                  </a:lnTo>
                  <a:lnTo>
                    <a:pt x="1251" y="964"/>
                  </a:lnTo>
                  <a:lnTo>
                    <a:pt x="1288" y="964"/>
                  </a:lnTo>
                  <a:lnTo>
                    <a:pt x="1278" y="942"/>
                  </a:lnTo>
                  <a:lnTo>
                    <a:pt x="1271" y="920"/>
                  </a:lnTo>
                  <a:lnTo>
                    <a:pt x="1268" y="899"/>
                  </a:lnTo>
                  <a:lnTo>
                    <a:pt x="1270" y="879"/>
                  </a:lnTo>
                  <a:lnTo>
                    <a:pt x="1274" y="860"/>
                  </a:lnTo>
                  <a:lnTo>
                    <a:pt x="1284" y="841"/>
                  </a:lnTo>
                  <a:lnTo>
                    <a:pt x="1295" y="824"/>
                  </a:lnTo>
                  <a:lnTo>
                    <a:pt x="1310" y="809"/>
                  </a:lnTo>
                  <a:lnTo>
                    <a:pt x="1329" y="792"/>
                  </a:lnTo>
                  <a:lnTo>
                    <a:pt x="1351" y="778"/>
                  </a:lnTo>
                  <a:lnTo>
                    <a:pt x="1377" y="765"/>
                  </a:lnTo>
                  <a:lnTo>
                    <a:pt x="1405" y="754"/>
                  </a:lnTo>
                  <a:lnTo>
                    <a:pt x="1436" y="743"/>
                  </a:lnTo>
                  <a:lnTo>
                    <a:pt x="1469" y="733"/>
                  </a:lnTo>
                  <a:lnTo>
                    <a:pt x="1507" y="724"/>
                  </a:lnTo>
                  <a:lnTo>
                    <a:pt x="1545" y="717"/>
                  </a:lnTo>
                  <a:lnTo>
                    <a:pt x="1588" y="711"/>
                  </a:lnTo>
                  <a:lnTo>
                    <a:pt x="1631" y="707"/>
                  </a:lnTo>
                  <a:lnTo>
                    <a:pt x="1678" y="703"/>
                  </a:lnTo>
                  <a:lnTo>
                    <a:pt x="1726" y="701"/>
                  </a:lnTo>
                  <a:lnTo>
                    <a:pt x="1776" y="700"/>
                  </a:lnTo>
                  <a:lnTo>
                    <a:pt x="1828" y="701"/>
                  </a:lnTo>
                  <a:lnTo>
                    <a:pt x="1883" y="703"/>
                  </a:lnTo>
                  <a:lnTo>
                    <a:pt x="1940" y="707"/>
                  </a:lnTo>
                  <a:lnTo>
                    <a:pt x="1997" y="713"/>
                  </a:lnTo>
                  <a:lnTo>
                    <a:pt x="2056" y="720"/>
                  </a:lnTo>
                  <a:lnTo>
                    <a:pt x="2116" y="728"/>
                  </a:lnTo>
                  <a:lnTo>
                    <a:pt x="2178" y="737"/>
                  </a:lnTo>
                  <a:lnTo>
                    <a:pt x="2241" y="749"/>
                  </a:lnTo>
                  <a:lnTo>
                    <a:pt x="2305" y="763"/>
                  </a:lnTo>
                  <a:lnTo>
                    <a:pt x="2371" y="778"/>
                  </a:lnTo>
                  <a:lnTo>
                    <a:pt x="2438" y="794"/>
                  </a:lnTo>
                  <a:lnTo>
                    <a:pt x="2467" y="783"/>
                  </a:lnTo>
                  <a:lnTo>
                    <a:pt x="2497" y="771"/>
                  </a:lnTo>
                  <a:lnTo>
                    <a:pt x="2528" y="761"/>
                  </a:lnTo>
                  <a:lnTo>
                    <a:pt x="2559" y="750"/>
                  </a:lnTo>
                  <a:lnTo>
                    <a:pt x="2590" y="741"/>
                  </a:lnTo>
                  <a:lnTo>
                    <a:pt x="2621" y="730"/>
                  </a:lnTo>
                  <a:lnTo>
                    <a:pt x="2654" y="721"/>
                  </a:lnTo>
                  <a:lnTo>
                    <a:pt x="2686" y="713"/>
                  </a:lnTo>
                  <a:lnTo>
                    <a:pt x="2718" y="703"/>
                  </a:lnTo>
                  <a:lnTo>
                    <a:pt x="2751" y="695"/>
                  </a:lnTo>
                  <a:lnTo>
                    <a:pt x="2784" y="688"/>
                  </a:lnTo>
                  <a:lnTo>
                    <a:pt x="2816" y="681"/>
                  </a:lnTo>
                  <a:lnTo>
                    <a:pt x="2849" y="674"/>
                  </a:lnTo>
                  <a:lnTo>
                    <a:pt x="2883" y="667"/>
                  </a:lnTo>
                  <a:lnTo>
                    <a:pt x="2916" y="661"/>
                  </a:lnTo>
                  <a:lnTo>
                    <a:pt x="2950" y="654"/>
                  </a:lnTo>
                  <a:lnTo>
                    <a:pt x="2983" y="649"/>
                  </a:lnTo>
                  <a:lnTo>
                    <a:pt x="3016" y="644"/>
                  </a:lnTo>
                  <a:lnTo>
                    <a:pt x="3049" y="639"/>
                  </a:lnTo>
                  <a:lnTo>
                    <a:pt x="3082" y="635"/>
                  </a:lnTo>
                  <a:lnTo>
                    <a:pt x="3115" y="631"/>
                  </a:lnTo>
                  <a:lnTo>
                    <a:pt x="3147" y="627"/>
                  </a:lnTo>
                  <a:lnTo>
                    <a:pt x="3180" y="624"/>
                  </a:lnTo>
                  <a:lnTo>
                    <a:pt x="3213" y="620"/>
                  </a:lnTo>
                  <a:lnTo>
                    <a:pt x="3244" y="618"/>
                  </a:lnTo>
                  <a:lnTo>
                    <a:pt x="3277" y="616"/>
                  </a:lnTo>
                  <a:lnTo>
                    <a:pt x="3308" y="614"/>
                  </a:lnTo>
                  <a:lnTo>
                    <a:pt x="3339" y="612"/>
                  </a:lnTo>
                  <a:lnTo>
                    <a:pt x="3370" y="611"/>
                  </a:lnTo>
                  <a:lnTo>
                    <a:pt x="3400" y="611"/>
                  </a:lnTo>
                  <a:lnTo>
                    <a:pt x="3430" y="610"/>
                  </a:lnTo>
                  <a:lnTo>
                    <a:pt x="3460" y="610"/>
                  </a:lnTo>
                  <a:lnTo>
                    <a:pt x="3489" y="610"/>
                  </a:lnTo>
                  <a:lnTo>
                    <a:pt x="3518" y="611"/>
                  </a:lnTo>
                  <a:lnTo>
                    <a:pt x="3548" y="611"/>
                  </a:lnTo>
                  <a:lnTo>
                    <a:pt x="3579" y="612"/>
                  </a:lnTo>
                  <a:lnTo>
                    <a:pt x="3610" y="614"/>
                  </a:lnTo>
                  <a:lnTo>
                    <a:pt x="3642" y="616"/>
                  </a:lnTo>
                  <a:lnTo>
                    <a:pt x="3674" y="618"/>
                  </a:lnTo>
                  <a:lnTo>
                    <a:pt x="3705" y="621"/>
                  </a:lnTo>
                  <a:lnTo>
                    <a:pt x="3737" y="624"/>
                  </a:lnTo>
                  <a:lnTo>
                    <a:pt x="3769" y="627"/>
                  </a:lnTo>
                  <a:lnTo>
                    <a:pt x="3802" y="631"/>
                  </a:lnTo>
                  <a:lnTo>
                    <a:pt x="3835" y="635"/>
                  </a:lnTo>
                  <a:lnTo>
                    <a:pt x="3868" y="639"/>
                  </a:lnTo>
                  <a:lnTo>
                    <a:pt x="3902" y="644"/>
                  </a:lnTo>
                  <a:lnTo>
                    <a:pt x="3934" y="649"/>
                  </a:lnTo>
                  <a:lnTo>
                    <a:pt x="3967" y="655"/>
                  </a:lnTo>
                  <a:lnTo>
                    <a:pt x="4001" y="661"/>
                  </a:lnTo>
                  <a:lnTo>
                    <a:pt x="4034" y="667"/>
                  </a:lnTo>
                  <a:lnTo>
                    <a:pt x="4066" y="674"/>
                  </a:lnTo>
                  <a:lnTo>
                    <a:pt x="4099" y="681"/>
                  </a:lnTo>
                  <a:lnTo>
                    <a:pt x="4133" y="688"/>
                  </a:lnTo>
                  <a:lnTo>
                    <a:pt x="4166" y="696"/>
                  </a:lnTo>
                  <a:lnTo>
                    <a:pt x="4197" y="704"/>
                  </a:lnTo>
                  <a:lnTo>
                    <a:pt x="4230" y="713"/>
                  </a:lnTo>
                  <a:lnTo>
                    <a:pt x="4262" y="722"/>
                  </a:lnTo>
                  <a:lnTo>
                    <a:pt x="4294" y="731"/>
                  </a:lnTo>
                  <a:lnTo>
                    <a:pt x="4325" y="741"/>
                  </a:lnTo>
                  <a:lnTo>
                    <a:pt x="4356" y="751"/>
                  </a:lnTo>
                  <a:lnTo>
                    <a:pt x="4387" y="762"/>
                  </a:lnTo>
                  <a:lnTo>
                    <a:pt x="4417" y="772"/>
                  </a:lnTo>
                  <a:lnTo>
                    <a:pt x="4448" y="784"/>
                  </a:lnTo>
                  <a:lnTo>
                    <a:pt x="4477" y="796"/>
                  </a:lnTo>
                  <a:lnTo>
                    <a:pt x="4543" y="779"/>
                  </a:lnTo>
                  <a:lnTo>
                    <a:pt x="4609" y="764"/>
                  </a:lnTo>
                  <a:lnTo>
                    <a:pt x="4673" y="750"/>
                  </a:lnTo>
                  <a:lnTo>
                    <a:pt x="4736" y="738"/>
                  </a:lnTo>
                  <a:lnTo>
                    <a:pt x="4798" y="729"/>
                  </a:lnTo>
                  <a:lnTo>
                    <a:pt x="4859" y="720"/>
                  </a:lnTo>
                  <a:lnTo>
                    <a:pt x="4919" y="713"/>
                  </a:lnTo>
                  <a:lnTo>
                    <a:pt x="4976" y="708"/>
                  </a:lnTo>
                  <a:lnTo>
                    <a:pt x="5032" y="704"/>
                  </a:lnTo>
                  <a:lnTo>
                    <a:pt x="5087" y="702"/>
                  </a:lnTo>
                  <a:lnTo>
                    <a:pt x="5140" y="701"/>
                  </a:lnTo>
                  <a:lnTo>
                    <a:pt x="5190" y="702"/>
                  </a:lnTo>
                  <a:lnTo>
                    <a:pt x="5239" y="703"/>
                  </a:lnTo>
                  <a:lnTo>
                    <a:pt x="5285" y="707"/>
                  </a:lnTo>
                  <a:lnTo>
                    <a:pt x="5329" y="711"/>
                  </a:lnTo>
                  <a:lnTo>
                    <a:pt x="5371" y="717"/>
                  </a:lnTo>
                  <a:lnTo>
                    <a:pt x="5410" y="724"/>
                  </a:lnTo>
                  <a:lnTo>
                    <a:pt x="5447" y="734"/>
                  </a:lnTo>
                  <a:lnTo>
                    <a:pt x="5481" y="743"/>
                  </a:lnTo>
                  <a:lnTo>
                    <a:pt x="5512" y="754"/>
                  </a:lnTo>
                  <a:lnTo>
                    <a:pt x="5540" y="766"/>
                  </a:lnTo>
                  <a:lnTo>
                    <a:pt x="5565" y="779"/>
                  </a:lnTo>
                  <a:lnTo>
                    <a:pt x="5588" y="793"/>
                  </a:lnTo>
                  <a:lnTo>
                    <a:pt x="5606" y="809"/>
                  </a:lnTo>
                  <a:lnTo>
                    <a:pt x="5622" y="825"/>
                  </a:lnTo>
                  <a:lnTo>
                    <a:pt x="5634" y="842"/>
                  </a:lnTo>
                  <a:lnTo>
                    <a:pt x="5643" y="860"/>
                  </a:lnTo>
                  <a:lnTo>
                    <a:pt x="5647" y="879"/>
                  </a:lnTo>
                  <a:lnTo>
                    <a:pt x="5648" y="900"/>
                  </a:lnTo>
                  <a:lnTo>
                    <a:pt x="5646" y="920"/>
                  </a:lnTo>
                  <a:lnTo>
                    <a:pt x="5639" y="942"/>
                  </a:lnTo>
                  <a:lnTo>
                    <a:pt x="5629" y="964"/>
                  </a:lnTo>
                  <a:lnTo>
                    <a:pt x="5666" y="964"/>
                  </a:lnTo>
                  <a:lnTo>
                    <a:pt x="5705" y="963"/>
                  </a:lnTo>
                  <a:lnTo>
                    <a:pt x="5744" y="962"/>
                  </a:lnTo>
                  <a:lnTo>
                    <a:pt x="5783" y="959"/>
                  </a:lnTo>
                  <a:lnTo>
                    <a:pt x="5823" y="957"/>
                  </a:lnTo>
                  <a:lnTo>
                    <a:pt x="5861" y="955"/>
                  </a:lnTo>
                  <a:lnTo>
                    <a:pt x="5901" y="952"/>
                  </a:lnTo>
                  <a:lnTo>
                    <a:pt x="5940" y="950"/>
                  </a:lnTo>
                  <a:lnTo>
                    <a:pt x="5978" y="948"/>
                  </a:lnTo>
                  <a:lnTo>
                    <a:pt x="6016" y="947"/>
                  </a:lnTo>
                  <a:lnTo>
                    <a:pt x="6052" y="944"/>
                  </a:lnTo>
                  <a:lnTo>
                    <a:pt x="6088" y="944"/>
                  </a:lnTo>
                  <a:lnTo>
                    <a:pt x="6122" y="944"/>
                  </a:lnTo>
                  <a:lnTo>
                    <a:pt x="6156" y="945"/>
                  </a:lnTo>
                  <a:lnTo>
                    <a:pt x="6187" y="947"/>
                  </a:lnTo>
                  <a:lnTo>
                    <a:pt x="6217" y="949"/>
                  </a:lnTo>
                  <a:lnTo>
                    <a:pt x="6245" y="954"/>
                  </a:lnTo>
                  <a:lnTo>
                    <a:pt x="6272" y="958"/>
                  </a:lnTo>
                  <a:lnTo>
                    <a:pt x="6295" y="965"/>
                  </a:lnTo>
                  <a:lnTo>
                    <a:pt x="6317" y="973"/>
                  </a:lnTo>
                  <a:lnTo>
                    <a:pt x="6336" y="984"/>
                  </a:lnTo>
                  <a:lnTo>
                    <a:pt x="6352" y="996"/>
                  </a:lnTo>
                  <a:lnTo>
                    <a:pt x="6366" y="1009"/>
                  </a:lnTo>
                  <a:lnTo>
                    <a:pt x="6377" y="1025"/>
                  </a:lnTo>
                  <a:lnTo>
                    <a:pt x="6385" y="1042"/>
                  </a:lnTo>
                  <a:lnTo>
                    <a:pt x="6390" y="1062"/>
                  </a:lnTo>
                  <a:lnTo>
                    <a:pt x="6390" y="1086"/>
                  </a:lnTo>
                  <a:lnTo>
                    <a:pt x="6387" y="1110"/>
                  </a:lnTo>
                  <a:lnTo>
                    <a:pt x="6382" y="1138"/>
                  </a:lnTo>
                  <a:lnTo>
                    <a:pt x="6371" y="1169"/>
                  </a:lnTo>
                  <a:lnTo>
                    <a:pt x="6356" y="1203"/>
                  </a:lnTo>
                  <a:lnTo>
                    <a:pt x="6337" y="1239"/>
                  </a:lnTo>
                  <a:lnTo>
                    <a:pt x="6383" y="1249"/>
                  </a:lnTo>
                  <a:lnTo>
                    <a:pt x="6431" y="1256"/>
                  </a:lnTo>
                  <a:lnTo>
                    <a:pt x="6480" y="1263"/>
                  </a:lnTo>
                  <a:lnTo>
                    <a:pt x="6529" y="1269"/>
                  </a:lnTo>
                  <a:lnTo>
                    <a:pt x="6577" y="1275"/>
                  </a:lnTo>
                  <a:lnTo>
                    <a:pt x="6622" y="1282"/>
                  </a:lnTo>
                  <a:lnTo>
                    <a:pt x="6663" y="1293"/>
                  </a:lnTo>
                  <a:lnTo>
                    <a:pt x="6698" y="1306"/>
                  </a:lnTo>
                  <a:lnTo>
                    <a:pt x="6728" y="1322"/>
                  </a:lnTo>
                  <a:lnTo>
                    <a:pt x="6749" y="1344"/>
                  </a:lnTo>
                  <a:lnTo>
                    <a:pt x="6759" y="1372"/>
                  </a:lnTo>
                  <a:lnTo>
                    <a:pt x="6760" y="1407"/>
                  </a:lnTo>
                  <a:lnTo>
                    <a:pt x="6749" y="1451"/>
                  </a:lnTo>
                  <a:lnTo>
                    <a:pt x="6723" y="1502"/>
                  </a:lnTo>
                  <a:lnTo>
                    <a:pt x="6683" y="1563"/>
                  </a:lnTo>
                  <a:lnTo>
                    <a:pt x="6627" y="1634"/>
                  </a:lnTo>
                  <a:lnTo>
                    <a:pt x="6645" y="1601"/>
                  </a:lnTo>
                  <a:lnTo>
                    <a:pt x="6663" y="1570"/>
                  </a:lnTo>
                  <a:lnTo>
                    <a:pt x="6682" y="1537"/>
                  </a:lnTo>
                  <a:lnTo>
                    <a:pt x="6701" y="1504"/>
                  </a:lnTo>
                  <a:lnTo>
                    <a:pt x="6718" y="1473"/>
                  </a:lnTo>
                  <a:lnTo>
                    <a:pt x="6737" y="1440"/>
                  </a:lnTo>
                  <a:lnTo>
                    <a:pt x="6756" y="1408"/>
                  </a:lnTo>
                  <a:lnTo>
                    <a:pt x="6774" y="1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000080" y="2525040"/>
              <a:ext cx="2181240" cy="2206800"/>
            </a:xfrm>
            <a:custGeom>
              <a:avLst/>
              <a:gdLst/>
              <a:ahLst/>
              <a:rect l="l" t="t" r="r" b="b"/>
              <a:pathLst>
                <a:path w="8063" h="8101">
                  <a:moveTo>
                    <a:pt x="1312" y="0"/>
                  </a:moveTo>
                  <a:lnTo>
                    <a:pt x="1273" y="15"/>
                  </a:lnTo>
                  <a:lnTo>
                    <a:pt x="1236" y="31"/>
                  </a:lnTo>
                  <a:lnTo>
                    <a:pt x="1199" y="49"/>
                  </a:lnTo>
                  <a:lnTo>
                    <a:pt x="1162" y="66"/>
                  </a:lnTo>
                  <a:lnTo>
                    <a:pt x="1126" y="85"/>
                  </a:lnTo>
                  <a:lnTo>
                    <a:pt x="1091" y="105"/>
                  </a:lnTo>
                  <a:lnTo>
                    <a:pt x="1056" y="126"/>
                  </a:lnTo>
                  <a:lnTo>
                    <a:pt x="1022" y="148"/>
                  </a:lnTo>
                  <a:lnTo>
                    <a:pt x="988" y="171"/>
                  </a:lnTo>
                  <a:lnTo>
                    <a:pt x="954" y="194"/>
                  </a:lnTo>
                  <a:lnTo>
                    <a:pt x="921" y="218"/>
                  </a:lnTo>
                  <a:lnTo>
                    <a:pt x="888" y="243"/>
                  </a:lnTo>
                  <a:lnTo>
                    <a:pt x="857" y="269"/>
                  </a:lnTo>
                  <a:lnTo>
                    <a:pt x="825" y="296"/>
                  </a:lnTo>
                  <a:lnTo>
                    <a:pt x="795" y="323"/>
                  </a:lnTo>
                  <a:lnTo>
                    <a:pt x="764" y="352"/>
                  </a:lnTo>
                  <a:lnTo>
                    <a:pt x="735" y="381"/>
                  </a:lnTo>
                  <a:lnTo>
                    <a:pt x="706" y="410"/>
                  </a:lnTo>
                  <a:lnTo>
                    <a:pt x="678" y="442"/>
                  </a:lnTo>
                  <a:lnTo>
                    <a:pt x="650" y="473"/>
                  </a:lnTo>
                  <a:lnTo>
                    <a:pt x="622" y="505"/>
                  </a:lnTo>
                  <a:lnTo>
                    <a:pt x="595" y="539"/>
                  </a:lnTo>
                  <a:lnTo>
                    <a:pt x="569" y="573"/>
                  </a:lnTo>
                  <a:lnTo>
                    <a:pt x="543" y="607"/>
                  </a:lnTo>
                  <a:lnTo>
                    <a:pt x="518" y="643"/>
                  </a:lnTo>
                  <a:lnTo>
                    <a:pt x="493" y="679"/>
                  </a:lnTo>
                  <a:lnTo>
                    <a:pt x="470" y="716"/>
                  </a:lnTo>
                  <a:lnTo>
                    <a:pt x="446" y="754"/>
                  </a:lnTo>
                  <a:lnTo>
                    <a:pt x="423" y="793"/>
                  </a:lnTo>
                  <a:lnTo>
                    <a:pt x="401" y="831"/>
                  </a:lnTo>
                  <a:lnTo>
                    <a:pt x="379" y="871"/>
                  </a:lnTo>
                  <a:lnTo>
                    <a:pt x="358" y="912"/>
                  </a:lnTo>
                  <a:lnTo>
                    <a:pt x="318" y="995"/>
                  </a:lnTo>
                  <a:lnTo>
                    <a:pt x="280" y="1080"/>
                  </a:lnTo>
                  <a:lnTo>
                    <a:pt x="245" y="1169"/>
                  </a:lnTo>
                  <a:lnTo>
                    <a:pt x="213" y="1261"/>
                  </a:lnTo>
                  <a:lnTo>
                    <a:pt x="182" y="1353"/>
                  </a:lnTo>
                  <a:lnTo>
                    <a:pt x="154" y="1449"/>
                  </a:lnTo>
                  <a:lnTo>
                    <a:pt x="128" y="1547"/>
                  </a:lnTo>
                  <a:lnTo>
                    <a:pt x="106" y="1648"/>
                  </a:lnTo>
                  <a:lnTo>
                    <a:pt x="85" y="1751"/>
                  </a:lnTo>
                  <a:lnTo>
                    <a:pt x="66" y="1855"/>
                  </a:lnTo>
                  <a:lnTo>
                    <a:pt x="50" y="1961"/>
                  </a:lnTo>
                  <a:lnTo>
                    <a:pt x="36" y="2070"/>
                  </a:lnTo>
                  <a:lnTo>
                    <a:pt x="24" y="2180"/>
                  </a:lnTo>
                  <a:lnTo>
                    <a:pt x="14" y="2292"/>
                  </a:lnTo>
                  <a:lnTo>
                    <a:pt x="6" y="2406"/>
                  </a:lnTo>
                  <a:lnTo>
                    <a:pt x="0" y="2520"/>
                  </a:lnTo>
                  <a:lnTo>
                    <a:pt x="1" y="2604"/>
                  </a:lnTo>
                  <a:lnTo>
                    <a:pt x="6" y="2691"/>
                  </a:lnTo>
                  <a:lnTo>
                    <a:pt x="14" y="2780"/>
                  </a:lnTo>
                  <a:lnTo>
                    <a:pt x="24" y="2871"/>
                  </a:lnTo>
                  <a:lnTo>
                    <a:pt x="38" y="2963"/>
                  </a:lnTo>
                  <a:lnTo>
                    <a:pt x="55" y="3057"/>
                  </a:lnTo>
                  <a:lnTo>
                    <a:pt x="75" y="3153"/>
                  </a:lnTo>
                  <a:lnTo>
                    <a:pt x="97" y="3249"/>
                  </a:lnTo>
                  <a:lnTo>
                    <a:pt x="123" y="3348"/>
                  </a:lnTo>
                  <a:lnTo>
                    <a:pt x="151" y="3448"/>
                  </a:lnTo>
                  <a:lnTo>
                    <a:pt x="181" y="3548"/>
                  </a:lnTo>
                  <a:lnTo>
                    <a:pt x="215" y="3650"/>
                  </a:lnTo>
                  <a:lnTo>
                    <a:pt x="250" y="3753"/>
                  </a:lnTo>
                  <a:lnTo>
                    <a:pt x="289" y="3857"/>
                  </a:lnTo>
                  <a:lnTo>
                    <a:pt x="329" y="3961"/>
                  </a:lnTo>
                  <a:lnTo>
                    <a:pt x="372" y="4066"/>
                  </a:lnTo>
                  <a:lnTo>
                    <a:pt x="417" y="4172"/>
                  </a:lnTo>
                  <a:lnTo>
                    <a:pt x="464" y="4278"/>
                  </a:lnTo>
                  <a:lnTo>
                    <a:pt x="514" y="4384"/>
                  </a:lnTo>
                  <a:lnTo>
                    <a:pt x="566" y="4492"/>
                  </a:lnTo>
                  <a:lnTo>
                    <a:pt x="618" y="4598"/>
                  </a:lnTo>
                  <a:lnTo>
                    <a:pt x="674" y="4706"/>
                  </a:lnTo>
                  <a:lnTo>
                    <a:pt x="731" y="4812"/>
                  </a:lnTo>
                  <a:lnTo>
                    <a:pt x="790" y="4920"/>
                  </a:lnTo>
                  <a:lnTo>
                    <a:pt x="851" y="5026"/>
                  </a:lnTo>
                  <a:lnTo>
                    <a:pt x="913" y="5133"/>
                  </a:lnTo>
                  <a:lnTo>
                    <a:pt x="977" y="5238"/>
                  </a:lnTo>
                  <a:lnTo>
                    <a:pt x="1043" y="5345"/>
                  </a:lnTo>
                  <a:lnTo>
                    <a:pt x="1109" y="5449"/>
                  </a:lnTo>
                  <a:lnTo>
                    <a:pt x="1177" y="5553"/>
                  </a:lnTo>
                  <a:lnTo>
                    <a:pt x="1246" y="5656"/>
                  </a:lnTo>
                  <a:lnTo>
                    <a:pt x="1318" y="5759"/>
                  </a:lnTo>
                  <a:lnTo>
                    <a:pt x="1388" y="5858"/>
                  </a:lnTo>
                  <a:lnTo>
                    <a:pt x="1459" y="5956"/>
                  </a:lnTo>
                  <a:lnTo>
                    <a:pt x="1530" y="6053"/>
                  </a:lnTo>
                  <a:lnTo>
                    <a:pt x="1602" y="6150"/>
                  </a:lnTo>
                  <a:lnTo>
                    <a:pt x="1673" y="6245"/>
                  </a:lnTo>
                  <a:lnTo>
                    <a:pt x="1745" y="6339"/>
                  </a:lnTo>
                  <a:lnTo>
                    <a:pt x="1817" y="6431"/>
                  </a:lnTo>
                  <a:lnTo>
                    <a:pt x="1889" y="6522"/>
                  </a:lnTo>
                  <a:lnTo>
                    <a:pt x="1962" y="6612"/>
                  </a:lnTo>
                  <a:lnTo>
                    <a:pt x="2033" y="6700"/>
                  </a:lnTo>
                  <a:lnTo>
                    <a:pt x="2106" y="6787"/>
                  </a:lnTo>
                  <a:lnTo>
                    <a:pt x="2177" y="6871"/>
                  </a:lnTo>
                  <a:lnTo>
                    <a:pt x="2248" y="6954"/>
                  </a:lnTo>
                  <a:lnTo>
                    <a:pt x="2320" y="7035"/>
                  </a:lnTo>
                  <a:lnTo>
                    <a:pt x="2390" y="7114"/>
                  </a:lnTo>
                  <a:lnTo>
                    <a:pt x="2460" y="7191"/>
                  </a:lnTo>
                  <a:lnTo>
                    <a:pt x="2529" y="7266"/>
                  </a:lnTo>
                  <a:lnTo>
                    <a:pt x="2597" y="7339"/>
                  </a:lnTo>
                  <a:lnTo>
                    <a:pt x="2665" y="7410"/>
                  </a:lnTo>
                  <a:lnTo>
                    <a:pt x="2732" y="7478"/>
                  </a:lnTo>
                  <a:lnTo>
                    <a:pt x="2798" y="7543"/>
                  </a:lnTo>
                  <a:lnTo>
                    <a:pt x="2862" y="7608"/>
                  </a:lnTo>
                  <a:lnTo>
                    <a:pt x="2926" y="7668"/>
                  </a:lnTo>
                  <a:lnTo>
                    <a:pt x="2990" y="7727"/>
                  </a:lnTo>
                  <a:lnTo>
                    <a:pt x="3050" y="7782"/>
                  </a:lnTo>
                  <a:lnTo>
                    <a:pt x="3111" y="7836"/>
                  </a:lnTo>
                  <a:lnTo>
                    <a:pt x="3170" y="7885"/>
                  </a:lnTo>
                  <a:lnTo>
                    <a:pt x="3227" y="7933"/>
                  </a:lnTo>
                  <a:lnTo>
                    <a:pt x="3283" y="7976"/>
                  </a:lnTo>
                  <a:lnTo>
                    <a:pt x="3337" y="8018"/>
                  </a:lnTo>
                  <a:lnTo>
                    <a:pt x="3389" y="8056"/>
                  </a:lnTo>
                  <a:lnTo>
                    <a:pt x="3441" y="8091"/>
                  </a:lnTo>
                  <a:lnTo>
                    <a:pt x="3478" y="8092"/>
                  </a:lnTo>
                  <a:lnTo>
                    <a:pt x="3516" y="8092"/>
                  </a:lnTo>
                  <a:lnTo>
                    <a:pt x="3553" y="8093"/>
                  </a:lnTo>
                  <a:lnTo>
                    <a:pt x="3592" y="8094"/>
                  </a:lnTo>
                  <a:lnTo>
                    <a:pt x="3629" y="8094"/>
                  </a:lnTo>
                  <a:lnTo>
                    <a:pt x="3667" y="8095"/>
                  </a:lnTo>
                  <a:lnTo>
                    <a:pt x="3705" y="8096"/>
                  </a:lnTo>
                  <a:lnTo>
                    <a:pt x="3743" y="8096"/>
                  </a:lnTo>
                  <a:lnTo>
                    <a:pt x="3781" y="8098"/>
                  </a:lnTo>
                  <a:lnTo>
                    <a:pt x="3819" y="8099"/>
                  </a:lnTo>
                  <a:lnTo>
                    <a:pt x="3857" y="8099"/>
                  </a:lnTo>
                  <a:lnTo>
                    <a:pt x="3895" y="8100"/>
                  </a:lnTo>
                  <a:lnTo>
                    <a:pt x="3933" y="8100"/>
                  </a:lnTo>
                  <a:lnTo>
                    <a:pt x="3971" y="8100"/>
                  </a:lnTo>
                  <a:lnTo>
                    <a:pt x="4009" y="8101"/>
                  </a:lnTo>
                  <a:lnTo>
                    <a:pt x="4047" y="8101"/>
                  </a:lnTo>
                  <a:lnTo>
                    <a:pt x="4084" y="8101"/>
                  </a:lnTo>
                  <a:lnTo>
                    <a:pt x="4121" y="8100"/>
                  </a:lnTo>
                  <a:lnTo>
                    <a:pt x="4159" y="8100"/>
                  </a:lnTo>
                  <a:lnTo>
                    <a:pt x="4196" y="8099"/>
                  </a:lnTo>
                  <a:lnTo>
                    <a:pt x="4234" y="8099"/>
                  </a:lnTo>
                  <a:lnTo>
                    <a:pt x="4271" y="8098"/>
                  </a:lnTo>
                  <a:lnTo>
                    <a:pt x="4310" y="8096"/>
                  </a:lnTo>
                  <a:lnTo>
                    <a:pt x="4347" y="8096"/>
                  </a:lnTo>
                  <a:lnTo>
                    <a:pt x="4385" y="8095"/>
                  </a:lnTo>
                  <a:lnTo>
                    <a:pt x="4423" y="8095"/>
                  </a:lnTo>
                  <a:lnTo>
                    <a:pt x="4461" y="8094"/>
                  </a:lnTo>
                  <a:lnTo>
                    <a:pt x="4498" y="8093"/>
                  </a:lnTo>
                  <a:lnTo>
                    <a:pt x="4537" y="8093"/>
                  </a:lnTo>
                  <a:lnTo>
                    <a:pt x="4574" y="8092"/>
                  </a:lnTo>
                  <a:lnTo>
                    <a:pt x="4613" y="8092"/>
                  </a:lnTo>
                  <a:lnTo>
                    <a:pt x="4650" y="8091"/>
                  </a:lnTo>
                  <a:lnTo>
                    <a:pt x="4700" y="8056"/>
                  </a:lnTo>
                  <a:lnTo>
                    <a:pt x="4752" y="8018"/>
                  </a:lnTo>
                  <a:lnTo>
                    <a:pt x="4805" y="7976"/>
                  </a:lnTo>
                  <a:lnTo>
                    <a:pt x="4860" y="7933"/>
                  </a:lnTo>
                  <a:lnTo>
                    <a:pt x="4918" y="7885"/>
                  </a:lnTo>
                  <a:lnTo>
                    <a:pt x="4975" y="7834"/>
                  </a:lnTo>
                  <a:lnTo>
                    <a:pt x="5035" y="7782"/>
                  </a:lnTo>
                  <a:lnTo>
                    <a:pt x="5095" y="7727"/>
                  </a:lnTo>
                  <a:lnTo>
                    <a:pt x="5157" y="7668"/>
                  </a:lnTo>
                  <a:lnTo>
                    <a:pt x="5221" y="7608"/>
                  </a:lnTo>
                  <a:lnTo>
                    <a:pt x="5285" y="7543"/>
                  </a:lnTo>
                  <a:lnTo>
                    <a:pt x="5349" y="7478"/>
                  </a:lnTo>
                  <a:lnTo>
                    <a:pt x="5416" y="7409"/>
                  </a:lnTo>
                  <a:lnTo>
                    <a:pt x="5482" y="7339"/>
                  </a:lnTo>
                  <a:lnTo>
                    <a:pt x="5550" y="7266"/>
                  </a:lnTo>
                  <a:lnTo>
                    <a:pt x="5618" y="7191"/>
                  </a:lnTo>
                  <a:lnTo>
                    <a:pt x="5687" y="7114"/>
                  </a:lnTo>
                  <a:lnTo>
                    <a:pt x="5757" y="7035"/>
                  </a:lnTo>
                  <a:lnTo>
                    <a:pt x="5826" y="6954"/>
                  </a:lnTo>
                  <a:lnTo>
                    <a:pt x="5898" y="6871"/>
                  </a:lnTo>
                  <a:lnTo>
                    <a:pt x="5968" y="6787"/>
                  </a:lnTo>
                  <a:lnTo>
                    <a:pt x="6039" y="6700"/>
                  </a:lnTo>
                  <a:lnTo>
                    <a:pt x="6110" y="6611"/>
                  </a:lnTo>
                  <a:lnTo>
                    <a:pt x="6182" y="6522"/>
                  </a:lnTo>
                  <a:lnTo>
                    <a:pt x="6252" y="6431"/>
                  </a:lnTo>
                  <a:lnTo>
                    <a:pt x="6323" y="6339"/>
                  </a:lnTo>
                  <a:lnTo>
                    <a:pt x="6395" y="6245"/>
                  </a:lnTo>
                  <a:lnTo>
                    <a:pt x="6466" y="6150"/>
                  </a:lnTo>
                  <a:lnTo>
                    <a:pt x="6536" y="6053"/>
                  </a:lnTo>
                  <a:lnTo>
                    <a:pt x="6607" y="5956"/>
                  </a:lnTo>
                  <a:lnTo>
                    <a:pt x="6677" y="5858"/>
                  </a:lnTo>
                  <a:lnTo>
                    <a:pt x="6746" y="5759"/>
                  </a:lnTo>
                  <a:lnTo>
                    <a:pt x="6817" y="5656"/>
                  </a:lnTo>
                  <a:lnTo>
                    <a:pt x="6886" y="5553"/>
                  </a:lnTo>
                  <a:lnTo>
                    <a:pt x="6953" y="5449"/>
                  </a:lnTo>
                  <a:lnTo>
                    <a:pt x="7020" y="5343"/>
                  </a:lnTo>
                  <a:lnTo>
                    <a:pt x="7086" y="5238"/>
                  </a:lnTo>
                  <a:lnTo>
                    <a:pt x="7149" y="5132"/>
                  </a:lnTo>
                  <a:lnTo>
                    <a:pt x="7211" y="5025"/>
                  </a:lnTo>
                  <a:lnTo>
                    <a:pt x="7271" y="4919"/>
                  </a:lnTo>
                  <a:lnTo>
                    <a:pt x="7330" y="4811"/>
                  </a:lnTo>
                  <a:lnTo>
                    <a:pt x="7387" y="4705"/>
                  </a:lnTo>
                  <a:lnTo>
                    <a:pt x="7443" y="4597"/>
                  </a:lnTo>
                  <a:lnTo>
                    <a:pt x="7496" y="4491"/>
                  </a:lnTo>
                  <a:lnTo>
                    <a:pt x="7547" y="4383"/>
                  </a:lnTo>
                  <a:lnTo>
                    <a:pt x="7598" y="4277"/>
                  </a:lnTo>
                  <a:lnTo>
                    <a:pt x="7644" y="4170"/>
                  </a:lnTo>
                  <a:lnTo>
                    <a:pt x="7690" y="4065"/>
                  </a:lnTo>
                  <a:lnTo>
                    <a:pt x="7733" y="3960"/>
                  </a:lnTo>
                  <a:lnTo>
                    <a:pt x="7773" y="3856"/>
                  </a:lnTo>
                  <a:lnTo>
                    <a:pt x="7812" y="3752"/>
                  </a:lnTo>
                  <a:lnTo>
                    <a:pt x="7848" y="3650"/>
                  </a:lnTo>
                  <a:lnTo>
                    <a:pt x="7881" y="3547"/>
                  </a:lnTo>
                  <a:lnTo>
                    <a:pt x="7912" y="3446"/>
                  </a:lnTo>
                  <a:lnTo>
                    <a:pt x="7940" y="3347"/>
                  </a:lnTo>
                  <a:lnTo>
                    <a:pt x="7966" y="3249"/>
                  </a:lnTo>
                  <a:lnTo>
                    <a:pt x="7988" y="3152"/>
                  </a:lnTo>
                  <a:lnTo>
                    <a:pt x="8008" y="3057"/>
                  </a:lnTo>
                  <a:lnTo>
                    <a:pt x="8025" y="2962"/>
                  </a:lnTo>
                  <a:lnTo>
                    <a:pt x="8039" y="2871"/>
                  </a:lnTo>
                  <a:lnTo>
                    <a:pt x="8050" y="2780"/>
                  </a:lnTo>
                  <a:lnTo>
                    <a:pt x="8057" y="2691"/>
                  </a:lnTo>
                  <a:lnTo>
                    <a:pt x="8062" y="2604"/>
                  </a:lnTo>
                  <a:lnTo>
                    <a:pt x="8063" y="2520"/>
                  </a:lnTo>
                  <a:lnTo>
                    <a:pt x="8057" y="2406"/>
                  </a:lnTo>
                  <a:lnTo>
                    <a:pt x="8049" y="2292"/>
                  </a:lnTo>
                  <a:lnTo>
                    <a:pt x="8039" y="2180"/>
                  </a:lnTo>
                  <a:lnTo>
                    <a:pt x="8027" y="2070"/>
                  </a:lnTo>
                  <a:lnTo>
                    <a:pt x="8013" y="1961"/>
                  </a:lnTo>
                  <a:lnTo>
                    <a:pt x="7995" y="1855"/>
                  </a:lnTo>
                  <a:lnTo>
                    <a:pt x="7977" y="1751"/>
                  </a:lnTo>
                  <a:lnTo>
                    <a:pt x="7957" y="1648"/>
                  </a:lnTo>
                  <a:lnTo>
                    <a:pt x="7933" y="1547"/>
                  </a:lnTo>
                  <a:lnTo>
                    <a:pt x="7908" y="1449"/>
                  </a:lnTo>
                  <a:lnTo>
                    <a:pt x="7880" y="1353"/>
                  </a:lnTo>
                  <a:lnTo>
                    <a:pt x="7849" y="1261"/>
                  </a:lnTo>
                  <a:lnTo>
                    <a:pt x="7818" y="1169"/>
                  </a:lnTo>
                  <a:lnTo>
                    <a:pt x="7782" y="1080"/>
                  </a:lnTo>
                  <a:lnTo>
                    <a:pt x="7745" y="995"/>
                  </a:lnTo>
                  <a:lnTo>
                    <a:pt x="7705" y="912"/>
                  </a:lnTo>
                  <a:lnTo>
                    <a:pt x="7684" y="871"/>
                  </a:lnTo>
                  <a:lnTo>
                    <a:pt x="7663" y="831"/>
                  </a:lnTo>
                  <a:lnTo>
                    <a:pt x="7641" y="793"/>
                  </a:lnTo>
                  <a:lnTo>
                    <a:pt x="7618" y="754"/>
                  </a:lnTo>
                  <a:lnTo>
                    <a:pt x="7594" y="716"/>
                  </a:lnTo>
                  <a:lnTo>
                    <a:pt x="7571" y="679"/>
                  </a:lnTo>
                  <a:lnTo>
                    <a:pt x="7546" y="643"/>
                  </a:lnTo>
                  <a:lnTo>
                    <a:pt x="7522" y="608"/>
                  </a:lnTo>
                  <a:lnTo>
                    <a:pt x="7496" y="573"/>
                  </a:lnTo>
                  <a:lnTo>
                    <a:pt x="7470" y="539"/>
                  </a:lnTo>
                  <a:lnTo>
                    <a:pt x="7443" y="506"/>
                  </a:lnTo>
                  <a:lnTo>
                    <a:pt x="7416" y="473"/>
                  </a:lnTo>
                  <a:lnTo>
                    <a:pt x="7388" y="442"/>
                  </a:lnTo>
                  <a:lnTo>
                    <a:pt x="7360" y="411"/>
                  </a:lnTo>
                  <a:lnTo>
                    <a:pt x="7331" y="381"/>
                  </a:lnTo>
                  <a:lnTo>
                    <a:pt x="7302" y="352"/>
                  </a:lnTo>
                  <a:lnTo>
                    <a:pt x="7273" y="324"/>
                  </a:lnTo>
                  <a:lnTo>
                    <a:pt x="7242" y="297"/>
                  </a:lnTo>
                  <a:lnTo>
                    <a:pt x="7211" y="270"/>
                  </a:lnTo>
                  <a:lnTo>
                    <a:pt x="7179" y="244"/>
                  </a:lnTo>
                  <a:lnTo>
                    <a:pt x="7148" y="218"/>
                  </a:lnTo>
                  <a:lnTo>
                    <a:pt x="7115" y="195"/>
                  </a:lnTo>
                  <a:lnTo>
                    <a:pt x="7081" y="172"/>
                  </a:lnTo>
                  <a:lnTo>
                    <a:pt x="7047" y="148"/>
                  </a:lnTo>
                  <a:lnTo>
                    <a:pt x="7013" y="127"/>
                  </a:lnTo>
                  <a:lnTo>
                    <a:pt x="6978" y="106"/>
                  </a:lnTo>
                  <a:lnTo>
                    <a:pt x="6943" y="86"/>
                  </a:lnTo>
                  <a:lnTo>
                    <a:pt x="6907" y="68"/>
                  </a:lnTo>
                  <a:lnTo>
                    <a:pt x="6870" y="50"/>
                  </a:lnTo>
                  <a:lnTo>
                    <a:pt x="6833" y="33"/>
                  </a:lnTo>
                  <a:lnTo>
                    <a:pt x="6796" y="16"/>
                  </a:lnTo>
                  <a:lnTo>
                    <a:pt x="6757" y="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407600" y="2326320"/>
              <a:ext cx="1365120" cy="2405520"/>
            </a:xfrm>
            <a:custGeom>
              <a:avLst/>
              <a:gdLst/>
              <a:ahLst/>
              <a:rect l="l" t="t" r="r" b="b"/>
              <a:pathLst>
                <a:path w="5042" h="8832">
                  <a:moveTo>
                    <a:pt x="1941" y="131"/>
                  </a:moveTo>
                  <a:lnTo>
                    <a:pt x="1885" y="105"/>
                  </a:lnTo>
                  <a:lnTo>
                    <a:pt x="1830" y="83"/>
                  </a:lnTo>
                  <a:lnTo>
                    <a:pt x="1776" y="63"/>
                  </a:lnTo>
                  <a:lnTo>
                    <a:pt x="1724" y="47"/>
                  </a:lnTo>
                  <a:lnTo>
                    <a:pt x="1671" y="31"/>
                  </a:lnTo>
                  <a:lnTo>
                    <a:pt x="1621" y="21"/>
                  </a:lnTo>
                  <a:lnTo>
                    <a:pt x="1570" y="12"/>
                  </a:lnTo>
                  <a:lnTo>
                    <a:pt x="1521" y="6"/>
                  </a:lnTo>
                  <a:lnTo>
                    <a:pt x="1472" y="2"/>
                  </a:lnTo>
                  <a:lnTo>
                    <a:pt x="1425" y="1"/>
                  </a:lnTo>
                  <a:lnTo>
                    <a:pt x="1379" y="3"/>
                  </a:lnTo>
                  <a:lnTo>
                    <a:pt x="1333" y="7"/>
                  </a:lnTo>
                  <a:lnTo>
                    <a:pt x="1287" y="14"/>
                  </a:lnTo>
                  <a:lnTo>
                    <a:pt x="1243" y="23"/>
                  </a:lnTo>
                  <a:lnTo>
                    <a:pt x="1200" y="35"/>
                  </a:lnTo>
                  <a:lnTo>
                    <a:pt x="1158" y="49"/>
                  </a:lnTo>
                  <a:lnTo>
                    <a:pt x="1116" y="65"/>
                  </a:lnTo>
                  <a:lnTo>
                    <a:pt x="1075" y="85"/>
                  </a:lnTo>
                  <a:lnTo>
                    <a:pt x="1035" y="106"/>
                  </a:lnTo>
                  <a:lnTo>
                    <a:pt x="995" y="130"/>
                  </a:lnTo>
                  <a:lnTo>
                    <a:pt x="957" y="155"/>
                  </a:lnTo>
                  <a:lnTo>
                    <a:pt x="919" y="183"/>
                  </a:lnTo>
                  <a:lnTo>
                    <a:pt x="882" y="214"/>
                  </a:lnTo>
                  <a:lnTo>
                    <a:pt x="845" y="245"/>
                  </a:lnTo>
                  <a:lnTo>
                    <a:pt x="809" y="280"/>
                  </a:lnTo>
                  <a:lnTo>
                    <a:pt x="774" y="317"/>
                  </a:lnTo>
                  <a:lnTo>
                    <a:pt x="740" y="355"/>
                  </a:lnTo>
                  <a:lnTo>
                    <a:pt x="706" y="396"/>
                  </a:lnTo>
                  <a:lnTo>
                    <a:pt x="674" y="440"/>
                  </a:lnTo>
                  <a:lnTo>
                    <a:pt x="641" y="484"/>
                  </a:lnTo>
                  <a:lnTo>
                    <a:pt x="609" y="531"/>
                  </a:lnTo>
                  <a:lnTo>
                    <a:pt x="578" y="580"/>
                  </a:lnTo>
                  <a:lnTo>
                    <a:pt x="517" y="683"/>
                  </a:lnTo>
                  <a:lnTo>
                    <a:pt x="461" y="794"/>
                  </a:lnTo>
                  <a:lnTo>
                    <a:pt x="407" y="912"/>
                  </a:lnTo>
                  <a:lnTo>
                    <a:pt x="356" y="1037"/>
                  </a:lnTo>
                  <a:lnTo>
                    <a:pt x="309" y="1169"/>
                  </a:lnTo>
                  <a:lnTo>
                    <a:pt x="264" y="1307"/>
                  </a:lnTo>
                  <a:lnTo>
                    <a:pt x="223" y="1452"/>
                  </a:lnTo>
                  <a:lnTo>
                    <a:pt x="186" y="1602"/>
                  </a:lnTo>
                  <a:lnTo>
                    <a:pt x="151" y="1759"/>
                  </a:lnTo>
                  <a:lnTo>
                    <a:pt x="121" y="1920"/>
                  </a:lnTo>
                  <a:lnTo>
                    <a:pt x="92" y="2086"/>
                  </a:lnTo>
                  <a:lnTo>
                    <a:pt x="67" y="2257"/>
                  </a:lnTo>
                  <a:lnTo>
                    <a:pt x="46" y="2432"/>
                  </a:lnTo>
                  <a:lnTo>
                    <a:pt x="27" y="2611"/>
                  </a:lnTo>
                  <a:lnTo>
                    <a:pt x="12" y="2795"/>
                  </a:lnTo>
                  <a:lnTo>
                    <a:pt x="0" y="2982"/>
                  </a:lnTo>
                  <a:lnTo>
                    <a:pt x="0" y="3071"/>
                  </a:lnTo>
                  <a:lnTo>
                    <a:pt x="1" y="3161"/>
                  </a:lnTo>
                  <a:lnTo>
                    <a:pt x="5" y="3253"/>
                  </a:lnTo>
                  <a:lnTo>
                    <a:pt x="11" y="3348"/>
                  </a:lnTo>
                  <a:lnTo>
                    <a:pt x="18" y="3444"/>
                  </a:lnTo>
                  <a:lnTo>
                    <a:pt x="27" y="3541"/>
                  </a:lnTo>
                  <a:lnTo>
                    <a:pt x="39" y="3641"/>
                  </a:lnTo>
                  <a:lnTo>
                    <a:pt x="52" y="3741"/>
                  </a:lnTo>
                  <a:lnTo>
                    <a:pt x="67" y="3843"/>
                  </a:lnTo>
                  <a:lnTo>
                    <a:pt x="83" y="3946"/>
                  </a:lnTo>
                  <a:lnTo>
                    <a:pt x="102" y="4050"/>
                  </a:lnTo>
                  <a:lnTo>
                    <a:pt x="122" y="4155"/>
                  </a:lnTo>
                  <a:lnTo>
                    <a:pt x="143" y="4262"/>
                  </a:lnTo>
                  <a:lnTo>
                    <a:pt x="166" y="4368"/>
                  </a:lnTo>
                  <a:lnTo>
                    <a:pt x="191" y="4476"/>
                  </a:lnTo>
                  <a:lnTo>
                    <a:pt x="216" y="4584"/>
                  </a:lnTo>
                  <a:lnTo>
                    <a:pt x="244" y="4693"/>
                  </a:lnTo>
                  <a:lnTo>
                    <a:pt x="274" y="4803"/>
                  </a:lnTo>
                  <a:lnTo>
                    <a:pt x="304" y="4913"/>
                  </a:lnTo>
                  <a:lnTo>
                    <a:pt x="336" y="5023"/>
                  </a:lnTo>
                  <a:lnTo>
                    <a:pt x="368" y="5134"/>
                  </a:lnTo>
                  <a:lnTo>
                    <a:pt x="402" y="5244"/>
                  </a:lnTo>
                  <a:lnTo>
                    <a:pt x="439" y="5355"/>
                  </a:lnTo>
                  <a:lnTo>
                    <a:pt x="475" y="5465"/>
                  </a:lnTo>
                  <a:lnTo>
                    <a:pt x="512" y="5575"/>
                  </a:lnTo>
                  <a:lnTo>
                    <a:pt x="551" y="5685"/>
                  </a:lnTo>
                  <a:lnTo>
                    <a:pt x="592" y="5795"/>
                  </a:lnTo>
                  <a:lnTo>
                    <a:pt x="632" y="5905"/>
                  </a:lnTo>
                  <a:lnTo>
                    <a:pt x="674" y="6014"/>
                  </a:lnTo>
                  <a:lnTo>
                    <a:pt x="717" y="6121"/>
                  </a:lnTo>
                  <a:lnTo>
                    <a:pt x="760" y="6229"/>
                  </a:lnTo>
                  <a:lnTo>
                    <a:pt x="805" y="6335"/>
                  </a:lnTo>
                  <a:lnTo>
                    <a:pt x="849" y="6440"/>
                  </a:lnTo>
                  <a:lnTo>
                    <a:pt x="895" y="6545"/>
                  </a:lnTo>
                  <a:lnTo>
                    <a:pt x="939" y="6647"/>
                  </a:lnTo>
                  <a:lnTo>
                    <a:pt x="985" y="6749"/>
                  </a:lnTo>
                  <a:lnTo>
                    <a:pt x="1030" y="6850"/>
                  </a:lnTo>
                  <a:lnTo>
                    <a:pt x="1077" y="6949"/>
                  </a:lnTo>
                  <a:lnTo>
                    <a:pt x="1123" y="7047"/>
                  </a:lnTo>
                  <a:lnTo>
                    <a:pt x="1168" y="7145"/>
                  </a:lnTo>
                  <a:lnTo>
                    <a:pt x="1215" y="7239"/>
                  </a:lnTo>
                  <a:lnTo>
                    <a:pt x="1261" y="7334"/>
                  </a:lnTo>
                  <a:lnTo>
                    <a:pt x="1306" y="7425"/>
                  </a:lnTo>
                  <a:lnTo>
                    <a:pt x="1352" y="7515"/>
                  </a:lnTo>
                  <a:lnTo>
                    <a:pt x="1397" y="7604"/>
                  </a:lnTo>
                  <a:lnTo>
                    <a:pt x="1443" y="7691"/>
                  </a:lnTo>
                  <a:lnTo>
                    <a:pt x="1487" y="7775"/>
                  </a:lnTo>
                  <a:lnTo>
                    <a:pt x="1532" y="7857"/>
                  </a:lnTo>
                  <a:lnTo>
                    <a:pt x="1576" y="7937"/>
                  </a:lnTo>
                  <a:lnTo>
                    <a:pt x="1620" y="8015"/>
                  </a:lnTo>
                  <a:lnTo>
                    <a:pt x="1663" y="8091"/>
                  </a:lnTo>
                  <a:lnTo>
                    <a:pt x="1706" y="8163"/>
                  </a:lnTo>
                  <a:lnTo>
                    <a:pt x="1747" y="8235"/>
                  </a:lnTo>
                  <a:lnTo>
                    <a:pt x="1789" y="8302"/>
                  </a:lnTo>
                  <a:lnTo>
                    <a:pt x="1830" y="8368"/>
                  </a:lnTo>
                  <a:lnTo>
                    <a:pt x="1870" y="8430"/>
                  </a:lnTo>
                  <a:lnTo>
                    <a:pt x="1910" y="8489"/>
                  </a:lnTo>
                  <a:lnTo>
                    <a:pt x="1947" y="8547"/>
                  </a:lnTo>
                  <a:lnTo>
                    <a:pt x="1984" y="8601"/>
                  </a:lnTo>
                  <a:lnTo>
                    <a:pt x="2022" y="8651"/>
                  </a:lnTo>
                  <a:lnTo>
                    <a:pt x="2057" y="8699"/>
                  </a:lnTo>
                  <a:lnTo>
                    <a:pt x="2092" y="8743"/>
                  </a:lnTo>
                  <a:lnTo>
                    <a:pt x="2125" y="8784"/>
                  </a:lnTo>
                  <a:lnTo>
                    <a:pt x="2157" y="8822"/>
                  </a:lnTo>
                  <a:lnTo>
                    <a:pt x="2181" y="8823"/>
                  </a:lnTo>
                  <a:lnTo>
                    <a:pt x="2204" y="8823"/>
                  </a:lnTo>
                  <a:lnTo>
                    <a:pt x="2228" y="8824"/>
                  </a:lnTo>
                  <a:lnTo>
                    <a:pt x="2252" y="8824"/>
                  </a:lnTo>
                  <a:lnTo>
                    <a:pt x="2276" y="8825"/>
                  </a:lnTo>
                  <a:lnTo>
                    <a:pt x="2299" y="8826"/>
                  </a:lnTo>
                  <a:lnTo>
                    <a:pt x="2323" y="8826"/>
                  </a:lnTo>
                  <a:lnTo>
                    <a:pt x="2347" y="8827"/>
                  </a:lnTo>
                  <a:lnTo>
                    <a:pt x="2370" y="8827"/>
                  </a:lnTo>
                  <a:lnTo>
                    <a:pt x="2395" y="8829"/>
                  </a:lnTo>
                  <a:lnTo>
                    <a:pt x="2418" y="8830"/>
                  </a:lnTo>
                  <a:lnTo>
                    <a:pt x="2443" y="8830"/>
                  </a:lnTo>
                  <a:lnTo>
                    <a:pt x="2466" y="8831"/>
                  </a:lnTo>
                  <a:lnTo>
                    <a:pt x="2491" y="8831"/>
                  </a:lnTo>
                  <a:lnTo>
                    <a:pt x="2514" y="8832"/>
                  </a:lnTo>
                  <a:lnTo>
                    <a:pt x="2539" y="8832"/>
                  </a:lnTo>
                  <a:lnTo>
                    <a:pt x="2562" y="8832"/>
                  </a:lnTo>
                  <a:lnTo>
                    <a:pt x="2585" y="8831"/>
                  </a:lnTo>
                  <a:lnTo>
                    <a:pt x="2609" y="8831"/>
                  </a:lnTo>
                  <a:lnTo>
                    <a:pt x="2632" y="8830"/>
                  </a:lnTo>
                  <a:lnTo>
                    <a:pt x="2656" y="8830"/>
                  </a:lnTo>
                  <a:lnTo>
                    <a:pt x="2680" y="8829"/>
                  </a:lnTo>
                  <a:lnTo>
                    <a:pt x="2703" y="8827"/>
                  </a:lnTo>
                  <a:lnTo>
                    <a:pt x="2727" y="8827"/>
                  </a:lnTo>
                  <a:lnTo>
                    <a:pt x="2750" y="8826"/>
                  </a:lnTo>
                  <a:lnTo>
                    <a:pt x="2774" y="8826"/>
                  </a:lnTo>
                  <a:lnTo>
                    <a:pt x="2798" y="8825"/>
                  </a:lnTo>
                  <a:lnTo>
                    <a:pt x="2822" y="8824"/>
                  </a:lnTo>
                  <a:lnTo>
                    <a:pt x="2845" y="8824"/>
                  </a:lnTo>
                  <a:lnTo>
                    <a:pt x="2870" y="8823"/>
                  </a:lnTo>
                  <a:lnTo>
                    <a:pt x="2893" y="8823"/>
                  </a:lnTo>
                  <a:lnTo>
                    <a:pt x="2917" y="8822"/>
                  </a:lnTo>
                  <a:lnTo>
                    <a:pt x="2949" y="8784"/>
                  </a:lnTo>
                  <a:lnTo>
                    <a:pt x="2982" y="8743"/>
                  </a:lnTo>
                  <a:lnTo>
                    <a:pt x="3016" y="8699"/>
                  </a:lnTo>
                  <a:lnTo>
                    <a:pt x="3051" y="8651"/>
                  </a:lnTo>
                  <a:lnTo>
                    <a:pt x="3086" y="8601"/>
                  </a:lnTo>
                  <a:lnTo>
                    <a:pt x="3122" y="8547"/>
                  </a:lnTo>
                  <a:lnTo>
                    <a:pt x="3161" y="8489"/>
                  </a:lnTo>
                  <a:lnTo>
                    <a:pt x="3198" y="8430"/>
                  </a:lnTo>
                  <a:lnTo>
                    <a:pt x="3238" y="8368"/>
                  </a:lnTo>
                  <a:lnTo>
                    <a:pt x="3278" y="8302"/>
                  </a:lnTo>
                  <a:lnTo>
                    <a:pt x="3317" y="8235"/>
                  </a:lnTo>
                  <a:lnTo>
                    <a:pt x="3359" y="8163"/>
                  </a:lnTo>
                  <a:lnTo>
                    <a:pt x="3400" y="8091"/>
                  </a:lnTo>
                  <a:lnTo>
                    <a:pt x="3442" y="8015"/>
                  </a:lnTo>
                  <a:lnTo>
                    <a:pt x="3486" y="7937"/>
                  </a:lnTo>
                  <a:lnTo>
                    <a:pt x="3529" y="7857"/>
                  </a:lnTo>
                  <a:lnTo>
                    <a:pt x="3572" y="7775"/>
                  </a:lnTo>
                  <a:lnTo>
                    <a:pt x="3617" y="7691"/>
                  </a:lnTo>
                  <a:lnTo>
                    <a:pt x="3661" y="7604"/>
                  </a:lnTo>
                  <a:lnTo>
                    <a:pt x="3706" y="7515"/>
                  </a:lnTo>
                  <a:lnTo>
                    <a:pt x="3750" y="7425"/>
                  </a:lnTo>
                  <a:lnTo>
                    <a:pt x="3794" y="7334"/>
                  </a:lnTo>
                  <a:lnTo>
                    <a:pt x="3840" y="7239"/>
                  </a:lnTo>
                  <a:lnTo>
                    <a:pt x="3884" y="7145"/>
                  </a:lnTo>
                  <a:lnTo>
                    <a:pt x="3930" y="7047"/>
                  </a:lnTo>
                  <a:lnTo>
                    <a:pt x="3976" y="6949"/>
                  </a:lnTo>
                  <a:lnTo>
                    <a:pt x="4020" y="6850"/>
                  </a:lnTo>
                  <a:lnTo>
                    <a:pt x="4065" y="6749"/>
                  </a:lnTo>
                  <a:lnTo>
                    <a:pt x="4110" y="6647"/>
                  </a:lnTo>
                  <a:lnTo>
                    <a:pt x="4155" y="6545"/>
                  </a:lnTo>
                  <a:lnTo>
                    <a:pt x="4198" y="6440"/>
                  </a:lnTo>
                  <a:lnTo>
                    <a:pt x="4242" y="6335"/>
                  </a:lnTo>
                  <a:lnTo>
                    <a:pt x="4286" y="6229"/>
                  </a:lnTo>
                  <a:lnTo>
                    <a:pt x="4329" y="6121"/>
                  </a:lnTo>
                  <a:lnTo>
                    <a:pt x="4371" y="6012"/>
                  </a:lnTo>
                  <a:lnTo>
                    <a:pt x="4412" y="5904"/>
                  </a:lnTo>
                  <a:lnTo>
                    <a:pt x="4453" y="5795"/>
                  </a:lnTo>
                  <a:lnTo>
                    <a:pt x="4491" y="5685"/>
                  </a:lnTo>
                  <a:lnTo>
                    <a:pt x="4530" y="5575"/>
                  </a:lnTo>
                  <a:lnTo>
                    <a:pt x="4567" y="5465"/>
                  </a:lnTo>
                  <a:lnTo>
                    <a:pt x="4604" y="5354"/>
                  </a:lnTo>
                  <a:lnTo>
                    <a:pt x="4639" y="5244"/>
                  </a:lnTo>
                  <a:lnTo>
                    <a:pt x="4673" y="5133"/>
                  </a:lnTo>
                  <a:lnTo>
                    <a:pt x="4705" y="5023"/>
                  </a:lnTo>
                  <a:lnTo>
                    <a:pt x="4737" y="4912"/>
                  </a:lnTo>
                  <a:lnTo>
                    <a:pt x="4767" y="4803"/>
                  </a:lnTo>
                  <a:lnTo>
                    <a:pt x="4796" y="4693"/>
                  </a:lnTo>
                  <a:lnTo>
                    <a:pt x="4823" y="4584"/>
                  </a:lnTo>
                  <a:lnTo>
                    <a:pt x="4850" y="4476"/>
                  </a:lnTo>
                  <a:lnTo>
                    <a:pt x="4875" y="4368"/>
                  </a:lnTo>
                  <a:lnTo>
                    <a:pt x="4897" y="4260"/>
                  </a:lnTo>
                  <a:lnTo>
                    <a:pt x="4919" y="4155"/>
                  </a:lnTo>
                  <a:lnTo>
                    <a:pt x="4939" y="4050"/>
                  </a:lnTo>
                  <a:lnTo>
                    <a:pt x="4958" y="3946"/>
                  </a:lnTo>
                  <a:lnTo>
                    <a:pt x="4974" y="3843"/>
                  </a:lnTo>
                  <a:lnTo>
                    <a:pt x="4989" y="3741"/>
                  </a:lnTo>
                  <a:lnTo>
                    <a:pt x="5002" y="3641"/>
                  </a:lnTo>
                  <a:lnTo>
                    <a:pt x="5014" y="3541"/>
                  </a:lnTo>
                  <a:lnTo>
                    <a:pt x="5023" y="3444"/>
                  </a:lnTo>
                  <a:lnTo>
                    <a:pt x="5032" y="3348"/>
                  </a:lnTo>
                  <a:lnTo>
                    <a:pt x="5036" y="3253"/>
                  </a:lnTo>
                  <a:lnTo>
                    <a:pt x="5041" y="3161"/>
                  </a:lnTo>
                  <a:lnTo>
                    <a:pt x="5042" y="3071"/>
                  </a:lnTo>
                  <a:lnTo>
                    <a:pt x="5042" y="2982"/>
                  </a:lnTo>
                  <a:lnTo>
                    <a:pt x="5032" y="2802"/>
                  </a:lnTo>
                  <a:lnTo>
                    <a:pt x="5017" y="2625"/>
                  </a:lnTo>
                  <a:lnTo>
                    <a:pt x="5001" y="2451"/>
                  </a:lnTo>
                  <a:lnTo>
                    <a:pt x="4981" y="2282"/>
                  </a:lnTo>
                  <a:lnTo>
                    <a:pt x="4959" y="2117"/>
                  </a:lnTo>
                  <a:lnTo>
                    <a:pt x="4933" y="1955"/>
                  </a:lnTo>
                  <a:lnTo>
                    <a:pt x="4905" y="1799"/>
                  </a:lnTo>
                  <a:lnTo>
                    <a:pt x="4874" y="1647"/>
                  </a:lnTo>
                  <a:lnTo>
                    <a:pt x="4839" y="1500"/>
                  </a:lnTo>
                  <a:lnTo>
                    <a:pt x="4801" y="1359"/>
                  </a:lnTo>
                  <a:lnTo>
                    <a:pt x="4761" y="1223"/>
                  </a:lnTo>
                  <a:lnTo>
                    <a:pt x="4717" y="1092"/>
                  </a:lnTo>
                  <a:lnTo>
                    <a:pt x="4670" y="969"/>
                  </a:lnTo>
                  <a:lnTo>
                    <a:pt x="4621" y="851"/>
                  </a:lnTo>
                  <a:lnTo>
                    <a:pt x="4568" y="741"/>
                  </a:lnTo>
                  <a:lnTo>
                    <a:pt x="4512" y="637"/>
                  </a:lnTo>
                  <a:lnTo>
                    <a:pt x="4483" y="588"/>
                  </a:lnTo>
                  <a:lnTo>
                    <a:pt x="4454" y="541"/>
                  </a:lnTo>
                  <a:lnTo>
                    <a:pt x="4423" y="496"/>
                  </a:lnTo>
                  <a:lnTo>
                    <a:pt x="4393" y="451"/>
                  </a:lnTo>
                  <a:lnTo>
                    <a:pt x="4362" y="410"/>
                  </a:lnTo>
                  <a:lnTo>
                    <a:pt x="4330" y="369"/>
                  </a:lnTo>
                  <a:lnTo>
                    <a:pt x="4297" y="332"/>
                  </a:lnTo>
                  <a:lnTo>
                    <a:pt x="4264" y="296"/>
                  </a:lnTo>
                  <a:lnTo>
                    <a:pt x="4231" y="261"/>
                  </a:lnTo>
                  <a:lnTo>
                    <a:pt x="4195" y="229"/>
                  </a:lnTo>
                  <a:lnTo>
                    <a:pt x="4160" y="199"/>
                  </a:lnTo>
                  <a:lnTo>
                    <a:pt x="4125" y="171"/>
                  </a:lnTo>
                  <a:lnTo>
                    <a:pt x="4088" y="144"/>
                  </a:lnTo>
                  <a:lnTo>
                    <a:pt x="4050" y="120"/>
                  </a:lnTo>
                  <a:lnTo>
                    <a:pt x="4013" y="98"/>
                  </a:lnTo>
                  <a:lnTo>
                    <a:pt x="3974" y="78"/>
                  </a:lnTo>
                  <a:lnTo>
                    <a:pt x="3935" y="61"/>
                  </a:lnTo>
                  <a:lnTo>
                    <a:pt x="3895" y="45"/>
                  </a:lnTo>
                  <a:lnTo>
                    <a:pt x="3854" y="31"/>
                  </a:lnTo>
                  <a:lnTo>
                    <a:pt x="3812" y="21"/>
                  </a:lnTo>
                  <a:lnTo>
                    <a:pt x="3770" y="12"/>
                  </a:lnTo>
                  <a:lnTo>
                    <a:pt x="3727" y="6"/>
                  </a:lnTo>
                  <a:lnTo>
                    <a:pt x="3682" y="1"/>
                  </a:lnTo>
                  <a:lnTo>
                    <a:pt x="3638" y="0"/>
                  </a:lnTo>
                  <a:lnTo>
                    <a:pt x="3592" y="1"/>
                  </a:lnTo>
                  <a:lnTo>
                    <a:pt x="3545" y="3"/>
                  </a:lnTo>
                  <a:lnTo>
                    <a:pt x="3499" y="9"/>
                  </a:lnTo>
                  <a:lnTo>
                    <a:pt x="3451" y="17"/>
                  </a:lnTo>
                  <a:lnTo>
                    <a:pt x="3402" y="28"/>
                  </a:lnTo>
                  <a:lnTo>
                    <a:pt x="3351" y="42"/>
                  </a:lnTo>
                  <a:lnTo>
                    <a:pt x="3301" y="57"/>
                  </a:lnTo>
                  <a:lnTo>
                    <a:pt x="3250" y="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094840" y="4725360"/>
              <a:ext cx="48240" cy="9360"/>
            </a:xfrm>
            <a:custGeom>
              <a:avLst/>
              <a:gdLst/>
              <a:ahLst/>
              <a:rect l="l" t="t" r="r" b="b"/>
              <a:pathLst>
                <a:path w="181" h="34">
                  <a:moveTo>
                    <a:pt x="163" y="7"/>
                  </a:moveTo>
                  <a:lnTo>
                    <a:pt x="172" y="0"/>
                  </a:lnTo>
                  <a:lnTo>
                    <a:pt x="151" y="1"/>
                  </a:lnTo>
                  <a:lnTo>
                    <a:pt x="127" y="2"/>
                  </a:lnTo>
                  <a:lnTo>
                    <a:pt x="106" y="5"/>
                  </a:lnTo>
                  <a:lnTo>
                    <a:pt x="85" y="6"/>
                  </a:lnTo>
                  <a:lnTo>
                    <a:pt x="64" y="7"/>
                  </a:lnTo>
                  <a:lnTo>
                    <a:pt x="42" y="8"/>
                  </a:lnTo>
                  <a:lnTo>
                    <a:pt x="21" y="9"/>
                  </a:lnTo>
                  <a:lnTo>
                    <a:pt x="0" y="10"/>
                  </a:lnTo>
                  <a:lnTo>
                    <a:pt x="0" y="34"/>
                  </a:lnTo>
                  <a:lnTo>
                    <a:pt x="21" y="33"/>
                  </a:lnTo>
                  <a:lnTo>
                    <a:pt x="42" y="32"/>
                  </a:lnTo>
                  <a:lnTo>
                    <a:pt x="64" y="30"/>
                  </a:lnTo>
                  <a:lnTo>
                    <a:pt x="85" y="29"/>
                  </a:lnTo>
                  <a:lnTo>
                    <a:pt x="109" y="28"/>
                  </a:lnTo>
                  <a:lnTo>
                    <a:pt x="130" y="26"/>
                  </a:lnTo>
                  <a:lnTo>
                    <a:pt x="151" y="24"/>
                  </a:lnTo>
                  <a:lnTo>
                    <a:pt x="172" y="23"/>
                  </a:lnTo>
                  <a:lnTo>
                    <a:pt x="180" y="16"/>
                  </a:lnTo>
                  <a:lnTo>
                    <a:pt x="172" y="23"/>
                  </a:lnTo>
                  <a:lnTo>
                    <a:pt x="179" y="20"/>
                  </a:lnTo>
                  <a:lnTo>
                    <a:pt x="181" y="12"/>
                  </a:lnTo>
                  <a:lnTo>
                    <a:pt x="179" y="3"/>
                  </a:lnTo>
                  <a:lnTo>
                    <a:pt x="172" y="0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139480" y="4040280"/>
              <a:ext cx="166320" cy="689040"/>
            </a:xfrm>
            <a:custGeom>
              <a:avLst/>
              <a:gdLst/>
              <a:ahLst/>
              <a:rect l="l" t="t" r="r" b="b"/>
              <a:pathLst>
                <a:path w="617" h="2534">
                  <a:moveTo>
                    <a:pt x="598" y="0"/>
                  </a:moveTo>
                  <a:lnTo>
                    <a:pt x="598" y="0"/>
                  </a:lnTo>
                  <a:lnTo>
                    <a:pt x="578" y="106"/>
                  </a:lnTo>
                  <a:lnTo>
                    <a:pt x="558" y="212"/>
                  </a:lnTo>
                  <a:lnTo>
                    <a:pt x="538" y="316"/>
                  </a:lnTo>
                  <a:lnTo>
                    <a:pt x="518" y="420"/>
                  </a:lnTo>
                  <a:lnTo>
                    <a:pt x="497" y="522"/>
                  </a:lnTo>
                  <a:lnTo>
                    <a:pt x="478" y="622"/>
                  </a:lnTo>
                  <a:lnTo>
                    <a:pt x="458" y="722"/>
                  </a:lnTo>
                  <a:lnTo>
                    <a:pt x="437" y="819"/>
                  </a:lnTo>
                  <a:lnTo>
                    <a:pt x="417" y="916"/>
                  </a:lnTo>
                  <a:lnTo>
                    <a:pt x="396" y="1010"/>
                  </a:lnTo>
                  <a:lnTo>
                    <a:pt x="376" y="1104"/>
                  </a:lnTo>
                  <a:lnTo>
                    <a:pt x="356" y="1195"/>
                  </a:lnTo>
                  <a:lnTo>
                    <a:pt x="336" y="1285"/>
                  </a:lnTo>
                  <a:lnTo>
                    <a:pt x="316" y="1373"/>
                  </a:lnTo>
                  <a:lnTo>
                    <a:pt x="296" y="1459"/>
                  </a:lnTo>
                  <a:lnTo>
                    <a:pt x="276" y="1543"/>
                  </a:lnTo>
                  <a:lnTo>
                    <a:pt x="257" y="1624"/>
                  </a:lnTo>
                  <a:lnTo>
                    <a:pt x="238" y="1704"/>
                  </a:lnTo>
                  <a:lnTo>
                    <a:pt x="218" y="1780"/>
                  </a:lnTo>
                  <a:lnTo>
                    <a:pt x="199" y="1855"/>
                  </a:lnTo>
                  <a:lnTo>
                    <a:pt x="181" y="1927"/>
                  </a:lnTo>
                  <a:lnTo>
                    <a:pt x="163" y="1996"/>
                  </a:lnTo>
                  <a:lnTo>
                    <a:pt x="144" y="2063"/>
                  </a:lnTo>
                  <a:lnTo>
                    <a:pt x="127" y="2126"/>
                  </a:lnTo>
                  <a:lnTo>
                    <a:pt x="109" y="2187"/>
                  </a:lnTo>
                  <a:lnTo>
                    <a:pt x="93" y="2245"/>
                  </a:lnTo>
                  <a:lnTo>
                    <a:pt x="76" y="2299"/>
                  </a:lnTo>
                  <a:lnTo>
                    <a:pt x="60" y="2351"/>
                  </a:lnTo>
                  <a:lnTo>
                    <a:pt x="45" y="2400"/>
                  </a:lnTo>
                  <a:lnTo>
                    <a:pt x="30" y="2444"/>
                  </a:lnTo>
                  <a:lnTo>
                    <a:pt x="15" y="2486"/>
                  </a:lnTo>
                  <a:lnTo>
                    <a:pt x="0" y="2525"/>
                  </a:lnTo>
                  <a:lnTo>
                    <a:pt x="17" y="2534"/>
                  </a:lnTo>
                  <a:lnTo>
                    <a:pt x="31" y="2496"/>
                  </a:lnTo>
                  <a:lnTo>
                    <a:pt x="46" y="2454"/>
                  </a:lnTo>
                  <a:lnTo>
                    <a:pt x="61" y="2409"/>
                  </a:lnTo>
                  <a:lnTo>
                    <a:pt x="79" y="2360"/>
                  </a:lnTo>
                  <a:lnTo>
                    <a:pt x="95" y="2309"/>
                  </a:lnTo>
                  <a:lnTo>
                    <a:pt x="112" y="2252"/>
                  </a:lnTo>
                  <a:lnTo>
                    <a:pt x="128" y="2194"/>
                  </a:lnTo>
                  <a:lnTo>
                    <a:pt x="145" y="2133"/>
                  </a:lnTo>
                  <a:lnTo>
                    <a:pt x="163" y="2070"/>
                  </a:lnTo>
                  <a:lnTo>
                    <a:pt x="182" y="2003"/>
                  </a:lnTo>
                  <a:lnTo>
                    <a:pt x="199" y="1934"/>
                  </a:lnTo>
                  <a:lnTo>
                    <a:pt x="218" y="1862"/>
                  </a:lnTo>
                  <a:lnTo>
                    <a:pt x="237" y="1787"/>
                  </a:lnTo>
                  <a:lnTo>
                    <a:pt x="257" y="1711"/>
                  </a:lnTo>
                  <a:lnTo>
                    <a:pt x="275" y="1631"/>
                  </a:lnTo>
                  <a:lnTo>
                    <a:pt x="295" y="1550"/>
                  </a:lnTo>
                  <a:lnTo>
                    <a:pt x="315" y="1467"/>
                  </a:lnTo>
                  <a:lnTo>
                    <a:pt x="335" y="1380"/>
                  </a:lnTo>
                  <a:lnTo>
                    <a:pt x="355" y="1292"/>
                  </a:lnTo>
                  <a:lnTo>
                    <a:pt x="375" y="1202"/>
                  </a:lnTo>
                  <a:lnTo>
                    <a:pt x="395" y="1111"/>
                  </a:lnTo>
                  <a:lnTo>
                    <a:pt x="414" y="1017"/>
                  </a:lnTo>
                  <a:lnTo>
                    <a:pt x="435" y="923"/>
                  </a:lnTo>
                  <a:lnTo>
                    <a:pt x="455" y="826"/>
                  </a:lnTo>
                  <a:lnTo>
                    <a:pt x="476" y="726"/>
                  </a:lnTo>
                  <a:lnTo>
                    <a:pt x="496" y="627"/>
                  </a:lnTo>
                  <a:lnTo>
                    <a:pt x="516" y="526"/>
                  </a:lnTo>
                  <a:lnTo>
                    <a:pt x="537" y="424"/>
                  </a:lnTo>
                  <a:lnTo>
                    <a:pt x="557" y="320"/>
                  </a:lnTo>
                  <a:lnTo>
                    <a:pt x="577" y="216"/>
                  </a:lnTo>
                  <a:lnTo>
                    <a:pt x="597" y="111"/>
                  </a:lnTo>
                  <a:lnTo>
                    <a:pt x="617" y="5"/>
                  </a:lnTo>
                  <a:lnTo>
                    <a:pt x="617" y="5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300400" y="3121560"/>
              <a:ext cx="102600" cy="920160"/>
            </a:xfrm>
            <a:custGeom>
              <a:avLst/>
              <a:gdLst/>
              <a:ahLst/>
              <a:rect l="l" t="t" r="r" b="b"/>
              <a:pathLst>
                <a:path w="378" h="3376">
                  <a:moveTo>
                    <a:pt x="359" y="12"/>
                  </a:moveTo>
                  <a:lnTo>
                    <a:pt x="359" y="12"/>
                  </a:lnTo>
                  <a:lnTo>
                    <a:pt x="359" y="101"/>
                  </a:lnTo>
                  <a:lnTo>
                    <a:pt x="359" y="192"/>
                  </a:lnTo>
                  <a:lnTo>
                    <a:pt x="357" y="286"/>
                  </a:lnTo>
                  <a:lnTo>
                    <a:pt x="354" y="380"/>
                  </a:lnTo>
                  <a:lnTo>
                    <a:pt x="351" y="476"/>
                  </a:lnTo>
                  <a:lnTo>
                    <a:pt x="347" y="573"/>
                  </a:lnTo>
                  <a:lnTo>
                    <a:pt x="341" y="673"/>
                  </a:lnTo>
                  <a:lnTo>
                    <a:pt x="336" y="773"/>
                  </a:lnTo>
                  <a:lnTo>
                    <a:pt x="330" y="875"/>
                  </a:lnTo>
                  <a:lnTo>
                    <a:pt x="322" y="979"/>
                  </a:lnTo>
                  <a:lnTo>
                    <a:pt x="313" y="1083"/>
                  </a:lnTo>
                  <a:lnTo>
                    <a:pt x="305" y="1189"/>
                  </a:lnTo>
                  <a:lnTo>
                    <a:pt x="295" y="1295"/>
                  </a:lnTo>
                  <a:lnTo>
                    <a:pt x="285" y="1401"/>
                  </a:lnTo>
                  <a:lnTo>
                    <a:pt x="274" y="1510"/>
                  </a:lnTo>
                  <a:lnTo>
                    <a:pt x="262" y="1618"/>
                  </a:lnTo>
                  <a:lnTo>
                    <a:pt x="249" y="1728"/>
                  </a:lnTo>
                  <a:lnTo>
                    <a:pt x="236" y="1836"/>
                  </a:lnTo>
                  <a:lnTo>
                    <a:pt x="223" y="1946"/>
                  </a:lnTo>
                  <a:lnTo>
                    <a:pt x="209" y="2056"/>
                  </a:lnTo>
                  <a:lnTo>
                    <a:pt x="194" y="2166"/>
                  </a:lnTo>
                  <a:lnTo>
                    <a:pt x="179" y="2277"/>
                  </a:lnTo>
                  <a:lnTo>
                    <a:pt x="163" y="2387"/>
                  </a:lnTo>
                  <a:lnTo>
                    <a:pt x="146" y="2498"/>
                  </a:lnTo>
                  <a:lnTo>
                    <a:pt x="130" y="2608"/>
                  </a:lnTo>
                  <a:lnTo>
                    <a:pt x="112" y="2719"/>
                  </a:lnTo>
                  <a:lnTo>
                    <a:pt x="95" y="2829"/>
                  </a:lnTo>
                  <a:lnTo>
                    <a:pt x="76" y="2938"/>
                  </a:lnTo>
                  <a:lnTo>
                    <a:pt x="58" y="3047"/>
                  </a:lnTo>
                  <a:lnTo>
                    <a:pt x="39" y="3156"/>
                  </a:lnTo>
                  <a:lnTo>
                    <a:pt x="20" y="3263"/>
                  </a:lnTo>
                  <a:lnTo>
                    <a:pt x="0" y="3371"/>
                  </a:lnTo>
                  <a:lnTo>
                    <a:pt x="19" y="3376"/>
                  </a:lnTo>
                  <a:lnTo>
                    <a:pt x="39" y="3268"/>
                  </a:lnTo>
                  <a:lnTo>
                    <a:pt x="57" y="3160"/>
                  </a:lnTo>
                  <a:lnTo>
                    <a:pt x="77" y="3052"/>
                  </a:lnTo>
                  <a:lnTo>
                    <a:pt x="95" y="2943"/>
                  </a:lnTo>
                  <a:lnTo>
                    <a:pt x="113" y="2834"/>
                  </a:lnTo>
                  <a:lnTo>
                    <a:pt x="131" y="2724"/>
                  </a:lnTo>
                  <a:lnTo>
                    <a:pt x="148" y="2613"/>
                  </a:lnTo>
                  <a:lnTo>
                    <a:pt x="165" y="2503"/>
                  </a:lnTo>
                  <a:lnTo>
                    <a:pt x="181" y="2392"/>
                  </a:lnTo>
                  <a:lnTo>
                    <a:pt x="198" y="2282"/>
                  </a:lnTo>
                  <a:lnTo>
                    <a:pt x="213" y="2171"/>
                  </a:lnTo>
                  <a:lnTo>
                    <a:pt x="228" y="2061"/>
                  </a:lnTo>
                  <a:lnTo>
                    <a:pt x="242" y="1949"/>
                  </a:lnTo>
                  <a:lnTo>
                    <a:pt x="255" y="1839"/>
                  </a:lnTo>
                  <a:lnTo>
                    <a:pt x="268" y="1730"/>
                  </a:lnTo>
                  <a:lnTo>
                    <a:pt x="281" y="1620"/>
                  </a:lnTo>
                  <a:lnTo>
                    <a:pt x="292" y="1513"/>
                  </a:lnTo>
                  <a:lnTo>
                    <a:pt x="304" y="1404"/>
                  </a:lnTo>
                  <a:lnTo>
                    <a:pt x="313" y="1297"/>
                  </a:lnTo>
                  <a:lnTo>
                    <a:pt x="324" y="1191"/>
                  </a:lnTo>
                  <a:lnTo>
                    <a:pt x="332" y="1086"/>
                  </a:lnTo>
                  <a:lnTo>
                    <a:pt x="340" y="982"/>
                  </a:lnTo>
                  <a:lnTo>
                    <a:pt x="348" y="877"/>
                  </a:lnTo>
                  <a:lnTo>
                    <a:pt x="354" y="776"/>
                  </a:lnTo>
                  <a:lnTo>
                    <a:pt x="360" y="675"/>
                  </a:lnTo>
                  <a:lnTo>
                    <a:pt x="366" y="576"/>
                  </a:lnTo>
                  <a:lnTo>
                    <a:pt x="369" y="476"/>
                  </a:lnTo>
                  <a:lnTo>
                    <a:pt x="373" y="380"/>
                  </a:lnTo>
                  <a:lnTo>
                    <a:pt x="375" y="286"/>
                  </a:lnTo>
                  <a:lnTo>
                    <a:pt x="378" y="192"/>
                  </a:lnTo>
                  <a:lnTo>
                    <a:pt x="378" y="101"/>
                  </a:lnTo>
                  <a:lnTo>
                    <a:pt x="378" y="12"/>
                  </a:lnTo>
                  <a:lnTo>
                    <a:pt x="378" y="12"/>
                  </a:lnTo>
                  <a:lnTo>
                    <a:pt x="378" y="12"/>
                  </a:lnTo>
                  <a:lnTo>
                    <a:pt x="375" y="4"/>
                  </a:lnTo>
                  <a:lnTo>
                    <a:pt x="368" y="0"/>
                  </a:lnTo>
                  <a:lnTo>
                    <a:pt x="362" y="4"/>
                  </a:lnTo>
                  <a:lnTo>
                    <a:pt x="35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332800" y="2454480"/>
              <a:ext cx="70200" cy="671040"/>
            </a:xfrm>
            <a:custGeom>
              <a:avLst/>
              <a:gdLst/>
              <a:ahLst/>
              <a:rect l="l" t="t" r="r" b="b"/>
              <a:pathLst>
                <a:path w="261" h="2463">
                  <a:moveTo>
                    <a:pt x="0" y="9"/>
                  </a:moveTo>
                  <a:lnTo>
                    <a:pt x="0" y="9"/>
                  </a:lnTo>
                  <a:lnTo>
                    <a:pt x="14" y="56"/>
                  </a:lnTo>
                  <a:lnTo>
                    <a:pt x="28" y="105"/>
                  </a:lnTo>
                  <a:lnTo>
                    <a:pt x="42" y="157"/>
                  </a:lnTo>
                  <a:lnTo>
                    <a:pt x="55" y="209"/>
                  </a:lnTo>
                  <a:lnTo>
                    <a:pt x="67" y="264"/>
                  </a:lnTo>
                  <a:lnTo>
                    <a:pt x="78" y="320"/>
                  </a:lnTo>
                  <a:lnTo>
                    <a:pt x="90" y="379"/>
                  </a:lnTo>
                  <a:lnTo>
                    <a:pt x="100" y="439"/>
                  </a:lnTo>
                  <a:lnTo>
                    <a:pt x="110" y="502"/>
                  </a:lnTo>
                  <a:lnTo>
                    <a:pt x="120" y="565"/>
                  </a:lnTo>
                  <a:lnTo>
                    <a:pt x="129" y="632"/>
                  </a:lnTo>
                  <a:lnTo>
                    <a:pt x="138" y="699"/>
                  </a:lnTo>
                  <a:lnTo>
                    <a:pt x="146" y="767"/>
                  </a:lnTo>
                  <a:lnTo>
                    <a:pt x="154" y="840"/>
                  </a:lnTo>
                  <a:lnTo>
                    <a:pt x="161" y="912"/>
                  </a:lnTo>
                  <a:lnTo>
                    <a:pt x="168" y="988"/>
                  </a:lnTo>
                  <a:lnTo>
                    <a:pt x="175" y="1065"/>
                  </a:lnTo>
                  <a:lnTo>
                    <a:pt x="182" y="1145"/>
                  </a:lnTo>
                  <a:lnTo>
                    <a:pt x="188" y="1226"/>
                  </a:lnTo>
                  <a:lnTo>
                    <a:pt x="194" y="1309"/>
                  </a:lnTo>
                  <a:lnTo>
                    <a:pt x="199" y="1394"/>
                  </a:lnTo>
                  <a:lnTo>
                    <a:pt x="205" y="1482"/>
                  </a:lnTo>
                  <a:lnTo>
                    <a:pt x="209" y="1571"/>
                  </a:lnTo>
                  <a:lnTo>
                    <a:pt x="214" y="1662"/>
                  </a:lnTo>
                  <a:lnTo>
                    <a:pt x="217" y="1755"/>
                  </a:lnTo>
                  <a:lnTo>
                    <a:pt x="222" y="1850"/>
                  </a:lnTo>
                  <a:lnTo>
                    <a:pt x="226" y="1946"/>
                  </a:lnTo>
                  <a:lnTo>
                    <a:pt x="229" y="2045"/>
                  </a:lnTo>
                  <a:lnTo>
                    <a:pt x="233" y="2147"/>
                  </a:lnTo>
                  <a:lnTo>
                    <a:pt x="236" y="2250"/>
                  </a:lnTo>
                  <a:lnTo>
                    <a:pt x="240" y="2355"/>
                  </a:lnTo>
                  <a:lnTo>
                    <a:pt x="242" y="2463"/>
                  </a:lnTo>
                  <a:lnTo>
                    <a:pt x="261" y="2463"/>
                  </a:lnTo>
                  <a:lnTo>
                    <a:pt x="258" y="2355"/>
                  </a:lnTo>
                  <a:lnTo>
                    <a:pt x="255" y="2250"/>
                  </a:lnTo>
                  <a:lnTo>
                    <a:pt x="251" y="2147"/>
                  </a:lnTo>
                  <a:lnTo>
                    <a:pt x="248" y="2045"/>
                  </a:lnTo>
                  <a:lnTo>
                    <a:pt x="244" y="1946"/>
                  </a:lnTo>
                  <a:lnTo>
                    <a:pt x="241" y="1848"/>
                  </a:lnTo>
                  <a:lnTo>
                    <a:pt x="236" y="1753"/>
                  </a:lnTo>
                  <a:lnTo>
                    <a:pt x="233" y="1660"/>
                  </a:lnTo>
                  <a:lnTo>
                    <a:pt x="228" y="1568"/>
                  </a:lnTo>
                  <a:lnTo>
                    <a:pt x="223" y="1479"/>
                  </a:lnTo>
                  <a:lnTo>
                    <a:pt x="217" y="1392"/>
                  </a:lnTo>
                  <a:lnTo>
                    <a:pt x="213" y="1306"/>
                  </a:lnTo>
                  <a:lnTo>
                    <a:pt x="207" y="1223"/>
                  </a:lnTo>
                  <a:lnTo>
                    <a:pt x="201" y="1143"/>
                  </a:lnTo>
                  <a:lnTo>
                    <a:pt x="194" y="1063"/>
                  </a:lnTo>
                  <a:lnTo>
                    <a:pt x="187" y="986"/>
                  </a:lnTo>
                  <a:lnTo>
                    <a:pt x="180" y="910"/>
                  </a:lnTo>
                  <a:lnTo>
                    <a:pt x="173" y="837"/>
                  </a:lnTo>
                  <a:lnTo>
                    <a:pt x="165" y="765"/>
                  </a:lnTo>
                  <a:lnTo>
                    <a:pt x="157" y="695"/>
                  </a:lnTo>
                  <a:lnTo>
                    <a:pt x="147" y="627"/>
                  </a:lnTo>
                  <a:lnTo>
                    <a:pt x="139" y="560"/>
                  </a:lnTo>
                  <a:lnTo>
                    <a:pt x="129" y="497"/>
                  </a:lnTo>
                  <a:lnTo>
                    <a:pt x="119" y="434"/>
                  </a:lnTo>
                  <a:lnTo>
                    <a:pt x="109" y="374"/>
                  </a:lnTo>
                  <a:lnTo>
                    <a:pt x="97" y="316"/>
                  </a:lnTo>
                  <a:lnTo>
                    <a:pt x="85" y="257"/>
                  </a:lnTo>
                  <a:lnTo>
                    <a:pt x="74" y="202"/>
                  </a:lnTo>
                  <a:lnTo>
                    <a:pt x="61" y="150"/>
                  </a:lnTo>
                  <a:lnTo>
                    <a:pt x="47" y="98"/>
                  </a:lnTo>
                  <a:lnTo>
                    <a:pt x="33" y="4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108520" y="2268000"/>
              <a:ext cx="229680" cy="189000"/>
            </a:xfrm>
            <a:custGeom>
              <a:avLst/>
              <a:gdLst/>
              <a:ahLst/>
              <a:rect l="l" t="t" r="r" b="b"/>
              <a:pathLst>
                <a:path w="849" h="693">
                  <a:moveTo>
                    <a:pt x="0" y="24"/>
                  </a:moveTo>
                  <a:lnTo>
                    <a:pt x="0" y="24"/>
                  </a:lnTo>
                  <a:lnTo>
                    <a:pt x="41" y="23"/>
                  </a:lnTo>
                  <a:lnTo>
                    <a:pt x="80" y="23"/>
                  </a:lnTo>
                  <a:lnTo>
                    <a:pt x="119" y="24"/>
                  </a:lnTo>
                  <a:lnTo>
                    <a:pt x="155" y="28"/>
                  </a:lnTo>
                  <a:lnTo>
                    <a:pt x="191" y="31"/>
                  </a:lnTo>
                  <a:lnTo>
                    <a:pt x="227" y="37"/>
                  </a:lnTo>
                  <a:lnTo>
                    <a:pt x="260" y="44"/>
                  </a:lnTo>
                  <a:lnTo>
                    <a:pt x="292" y="52"/>
                  </a:lnTo>
                  <a:lnTo>
                    <a:pt x="325" y="62"/>
                  </a:lnTo>
                  <a:lnTo>
                    <a:pt x="356" y="72"/>
                  </a:lnTo>
                  <a:lnTo>
                    <a:pt x="384" y="84"/>
                  </a:lnTo>
                  <a:lnTo>
                    <a:pt x="415" y="97"/>
                  </a:lnTo>
                  <a:lnTo>
                    <a:pt x="442" y="112"/>
                  </a:lnTo>
                  <a:lnTo>
                    <a:pt x="469" y="130"/>
                  </a:lnTo>
                  <a:lnTo>
                    <a:pt x="496" y="147"/>
                  </a:lnTo>
                  <a:lnTo>
                    <a:pt x="521" y="166"/>
                  </a:lnTo>
                  <a:lnTo>
                    <a:pt x="545" y="187"/>
                  </a:lnTo>
                  <a:lnTo>
                    <a:pt x="569" y="209"/>
                  </a:lnTo>
                  <a:lnTo>
                    <a:pt x="593" y="233"/>
                  </a:lnTo>
                  <a:lnTo>
                    <a:pt x="614" y="258"/>
                  </a:lnTo>
                  <a:lnTo>
                    <a:pt x="636" y="286"/>
                  </a:lnTo>
                  <a:lnTo>
                    <a:pt x="657" y="316"/>
                  </a:lnTo>
                  <a:lnTo>
                    <a:pt x="677" y="345"/>
                  </a:lnTo>
                  <a:lnTo>
                    <a:pt x="697" y="376"/>
                  </a:lnTo>
                  <a:lnTo>
                    <a:pt x="715" y="410"/>
                  </a:lnTo>
                  <a:lnTo>
                    <a:pt x="733" y="445"/>
                  </a:lnTo>
                  <a:lnTo>
                    <a:pt x="750" y="483"/>
                  </a:lnTo>
                  <a:lnTo>
                    <a:pt x="768" y="521"/>
                  </a:lnTo>
                  <a:lnTo>
                    <a:pt x="784" y="561"/>
                  </a:lnTo>
                  <a:lnTo>
                    <a:pt x="801" y="603"/>
                  </a:lnTo>
                  <a:lnTo>
                    <a:pt x="816" y="648"/>
                  </a:lnTo>
                  <a:lnTo>
                    <a:pt x="830" y="693"/>
                  </a:lnTo>
                  <a:lnTo>
                    <a:pt x="849" y="684"/>
                  </a:lnTo>
                  <a:lnTo>
                    <a:pt x="832" y="638"/>
                  </a:lnTo>
                  <a:lnTo>
                    <a:pt x="817" y="594"/>
                  </a:lnTo>
                  <a:lnTo>
                    <a:pt x="801" y="552"/>
                  </a:lnTo>
                  <a:lnTo>
                    <a:pt x="784" y="510"/>
                  </a:lnTo>
                  <a:lnTo>
                    <a:pt x="767" y="471"/>
                  </a:lnTo>
                  <a:lnTo>
                    <a:pt x="749" y="434"/>
                  </a:lnTo>
                  <a:lnTo>
                    <a:pt x="732" y="396"/>
                  </a:lnTo>
                  <a:lnTo>
                    <a:pt x="711" y="362"/>
                  </a:lnTo>
                  <a:lnTo>
                    <a:pt x="691" y="331"/>
                  </a:lnTo>
                  <a:lnTo>
                    <a:pt x="671" y="299"/>
                  </a:lnTo>
                  <a:lnTo>
                    <a:pt x="650" y="270"/>
                  </a:lnTo>
                  <a:lnTo>
                    <a:pt x="628" y="242"/>
                  </a:lnTo>
                  <a:lnTo>
                    <a:pt x="604" y="216"/>
                  </a:lnTo>
                  <a:lnTo>
                    <a:pt x="581" y="190"/>
                  </a:lnTo>
                  <a:lnTo>
                    <a:pt x="556" y="168"/>
                  </a:lnTo>
                  <a:lnTo>
                    <a:pt x="531" y="147"/>
                  </a:lnTo>
                  <a:lnTo>
                    <a:pt x="505" y="126"/>
                  </a:lnTo>
                  <a:lnTo>
                    <a:pt x="478" y="109"/>
                  </a:lnTo>
                  <a:lnTo>
                    <a:pt x="451" y="91"/>
                  </a:lnTo>
                  <a:lnTo>
                    <a:pt x="422" y="76"/>
                  </a:lnTo>
                  <a:lnTo>
                    <a:pt x="391" y="61"/>
                  </a:lnTo>
                  <a:lnTo>
                    <a:pt x="361" y="49"/>
                  </a:lnTo>
                  <a:lnTo>
                    <a:pt x="329" y="38"/>
                  </a:lnTo>
                  <a:lnTo>
                    <a:pt x="297" y="29"/>
                  </a:lnTo>
                  <a:lnTo>
                    <a:pt x="263" y="21"/>
                  </a:lnTo>
                  <a:lnTo>
                    <a:pt x="229" y="14"/>
                  </a:lnTo>
                  <a:lnTo>
                    <a:pt x="194" y="8"/>
                  </a:lnTo>
                  <a:lnTo>
                    <a:pt x="158" y="4"/>
                  </a:lnTo>
                  <a:lnTo>
                    <a:pt x="119" y="1"/>
                  </a:lnTo>
                  <a:lnTo>
                    <a:pt x="80" y="0"/>
                  </a:lnTo>
                  <a:lnTo>
                    <a:pt x="4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55080" y="2269080"/>
              <a:ext cx="253080" cy="195840"/>
            </a:xfrm>
            <a:custGeom>
              <a:avLst/>
              <a:gdLst/>
              <a:ahLst/>
              <a:rect l="l" t="t" r="r" b="b"/>
              <a:pathLst>
                <a:path w="932" h="724">
                  <a:moveTo>
                    <a:pt x="16" y="724"/>
                  </a:moveTo>
                  <a:lnTo>
                    <a:pt x="16" y="724"/>
                  </a:lnTo>
                  <a:lnTo>
                    <a:pt x="34" y="679"/>
                  </a:lnTo>
                  <a:lnTo>
                    <a:pt x="51" y="637"/>
                  </a:lnTo>
                  <a:lnTo>
                    <a:pt x="70" y="595"/>
                  </a:lnTo>
                  <a:lnTo>
                    <a:pt x="89" y="555"/>
                  </a:lnTo>
                  <a:lnTo>
                    <a:pt x="109" y="518"/>
                  </a:lnTo>
                  <a:lnTo>
                    <a:pt x="130" y="482"/>
                  </a:lnTo>
                  <a:lnTo>
                    <a:pt x="149" y="447"/>
                  </a:lnTo>
                  <a:lnTo>
                    <a:pt x="171" y="413"/>
                  </a:lnTo>
                  <a:lnTo>
                    <a:pt x="193" y="382"/>
                  </a:lnTo>
                  <a:lnTo>
                    <a:pt x="216" y="352"/>
                  </a:lnTo>
                  <a:lnTo>
                    <a:pt x="240" y="323"/>
                  </a:lnTo>
                  <a:lnTo>
                    <a:pt x="263" y="296"/>
                  </a:lnTo>
                  <a:lnTo>
                    <a:pt x="289" y="270"/>
                  </a:lnTo>
                  <a:lnTo>
                    <a:pt x="314" y="246"/>
                  </a:lnTo>
                  <a:lnTo>
                    <a:pt x="341" y="222"/>
                  </a:lnTo>
                  <a:lnTo>
                    <a:pt x="368" y="201"/>
                  </a:lnTo>
                  <a:lnTo>
                    <a:pt x="396" y="180"/>
                  </a:lnTo>
                  <a:lnTo>
                    <a:pt x="425" y="161"/>
                  </a:lnTo>
                  <a:lnTo>
                    <a:pt x="455" y="144"/>
                  </a:lnTo>
                  <a:lnTo>
                    <a:pt x="486" y="126"/>
                  </a:lnTo>
                  <a:lnTo>
                    <a:pt x="518" y="111"/>
                  </a:lnTo>
                  <a:lnTo>
                    <a:pt x="549" y="98"/>
                  </a:lnTo>
                  <a:lnTo>
                    <a:pt x="583" y="85"/>
                  </a:lnTo>
                  <a:lnTo>
                    <a:pt x="618" y="74"/>
                  </a:lnTo>
                  <a:lnTo>
                    <a:pt x="655" y="64"/>
                  </a:lnTo>
                  <a:lnTo>
                    <a:pt x="690" y="55"/>
                  </a:lnTo>
                  <a:lnTo>
                    <a:pt x="728" y="47"/>
                  </a:lnTo>
                  <a:lnTo>
                    <a:pt x="767" y="40"/>
                  </a:lnTo>
                  <a:lnTo>
                    <a:pt x="807" y="34"/>
                  </a:lnTo>
                  <a:lnTo>
                    <a:pt x="848" y="29"/>
                  </a:lnTo>
                  <a:lnTo>
                    <a:pt x="888" y="26"/>
                  </a:lnTo>
                  <a:lnTo>
                    <a:pt x="932" y="23"/>
                  </a:lnTo>
                  <a:lnTo>
                    <a:pt x="932" y="0"/>
                  </a:lnTo>
                  <a:lnTo>
                    <a:pt x="888" y="2"/>
                  </a:lnTo>
                  <a:lnTo>
                    <a:pt x="845" y="6"/>
                  </a:lnTo>
                  <a:lnTo>
                    <a:pt x="804" y="10"/>
                  </a:lnTo>
                  <a:lnTo>
                    <a:pt x="765" y="16"/>
                  </a:lnTo>
                  <a:lnTo>
                    <a:pt x="726" y="23"/>
                  </a:lnTo>
                  <a:lnTo>
                    <a:pt x="687" y="32"/>
                  </a:lnTo>
                  <a:lnTo>
                    <a:pt x="650" y="41"/>
                  </a:lnTo>
                  <a:lnTo>
                    <a:pt x="614" y="50"/>
                  </a:lnTo>
                  <a:lnTo>
                    <a:pt x="579" y="62"/>
                  </a:lnTo>
                  <a:lnTo>
                    <a:pt x="545" y="75"/>
                  </a:lnTo>
                  <a:lnTo>
                    <a:pt x="511" y="90"/>
                  </a:lnTo>
                  <a:lnTo>
                    <a:pt x="479" y="105"/>
                  </a:lnTo>
                  <a:lnTo>
                    <a:pt x="448" y="123"/>
                  </a:lnTo>
                  <a:lnTo>
                    <a:pt x="416" y="140"/>
                  </a:lnTo>
                  <a:lnTo>
                    <a:pt x="387" y="159"/>
                  </a:lnTo>
                  <a:lnTo>
                    <a:pt x="359" y="180"/>
                  </a:lnTo>
                  <a:lnTo>
                    <a:pt x="330" y="203"/>
                  </a:lnTo>
                  <a:lnTo>
                    <a:pt x="303" y="227"/>
                  </a:lnTo>
                  <a:lnTo>
                    <a:pt x="277" y="251"/>
                  </a:lnTo>
                  <a:lnTo>
                    <a:pt x="251" y="277"/>
                  </a:lnTo>
                  <a:lnTo>
                    <a:pt x="225" y="306"/>
                  </a:lnTo>
                  <a:lnTo>
                    <a:pt x="202" y="336"/>
                  </a:lnTo>
                  <a:lnTo>
                    <a:pt x="179" y="366"/>
                  </a:lnTo>
                  <a:lnTo>
                    <a:pt x="156" y="399"/>
                  </a:lnTo>
                  <a:lnTo>
                    <a:pt x="135" y="433"/>
                  </a:lnTo>
                  <a:lnTo>
                    <a:pt x="113" y="468"/>
                  </a:lnTo>
                  <a:lnTo>
                    <a:pt x="92" y="504"/>
                  </a:lnTo>
                  <a:lnTo>
                    <a:pt x="72" y="544"/>
                  </a:lnTo>
                  <a:lnTo>
                    <a:pt x="54" y="584"/>
                  </a:lnTo>
                  <a:lnTo>
                    <a:pt x="35" y="626"/>
                  </a:lnTo>
                  <a:lnTo>
                    <a:pt x="17" y="670"/>
                  </a:lnTo>
                  <a:lnTo>
                    <a:pt x="0" y="715"/>
                  </a:lnTo>
                  <a:lnTo>
                    <a:pt x="0" y="715"/>
                  </a:lnTo>
                  <a:lnTo>
                    <a:pt x="16" y="7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776600" y="2463840"/>
              <a:ext cx="83880" cy="664200"/>
            </a:xfrm>
            <a:custGeom>
              <a:avLst/>
              <a:gdLst/>
              <a:ahLst/>
              <a:rect l="l" t="t" r="r" b="b"/>
              <a:pathLst>
                <a:path w="309" h="2444">
                  <a:moveTo>
                    <a:pt x="19" y="2432"/>
                  </a:moveTo>
                  <a:lnTo>
                    <a:pt x="19" y="2432"/>
                  </a:lnTo>
                  <a:lnTo>
                    <a:pt x="23" y="2325"/>
                  </a:lnTo>
                  <a:lnTo>
                    <a:pt x="26" y="2219"/>
                  </a:lnTo>
                  <a:lnTo>
                    <a:pt x="30" y="2116"/>
                  </a:lnTo>
                  <a:lnTo>
                    <a:pt x="34" y="2017"/>
                  </a:lnTo>
                  <a:lnTo>
                    <a:pt x="39" y="1918"/>
                  </a:lnTo>
                  <a:lnTo>
                    <a:pt x="44" y="1822"/>
                  </a:lnTo>
                  <a:lnTo>
                    <a:pt x="48" y="1727"/>
                  </a:lnTo>
                  <a:lnTo>
                    <a:pt x="53" y="1635"/>
                  </a:lnTo>
                  <a:lnTo>
                    <a:pt x="59" y="1544"/>
                  </a:lnTo>
                  <a:lnTo>
                    <a:pt x="65" y="1456"/>
                  </a:lnTo>
                  <a:lnTo>
                    <a:pt x="72" y="1370"/>
                  </a:lnTo>
                  <a:lnTo>
                    <a:pt x="79" y="1286"/>
                  </a:lnTo>
                  <a:lnTo>
                    <a:pt x="86" y="1204"/>
                  </a:lnTo>
                  <a:lnTo>
                    <a:pt x="93" y="1123"/>
                  </a:lnTo>
                  <a:lnTo>
                    <a:pt x="101" y="1045"/>
                  </a:lnTo>
                  <a:lnTo>
                    <a:pt x="109" y="969"/>
                  </a:lnTo>
                  <a:lnTo>
                    <a:pt x="117" y="895"/>
                  </a:lnTo>
                  <a:lnTo>
                    <a:pt x="127" y="824"/>
                  </a:lnTo>
                  <a:lnTo>
                    <a:pt x="136" y="754"/>
                  </a:lnTo>
                  <a:lnTo>
                    <a:pt x="147" y="685"/>
                  </a:lnTo>
                  <a:lnTo>
                    <a:pt x="157" y="618"/>
                  </a:lnTo>
                  <a:lnTo>
                    <a:pt x="169" y="554"/>
                  </a:lnTo>
                  <a:lnTo>
                    <a:pt x="181" y="491"/>
                  </a:lnTo>
                  <a:lnTo>
                    <a:pt x="192" y="430"/>
                  </a:lnTo>
                  <a:lnTo>
                    <a:pt x="205" y="373"/>
                  </a:lnTo>
                  <a:lnTo>
                    <a:pt x="218" y="315"/>
                  </a:lnTo>
                  <a:lnTo>
                    <a:pt x="232" y="259"/>
                  </a:lnTo>
                  <a:lnTo>
                    <a:pt x="246" y="205"/>
                  </a:lnTo>
                  <a:lnTo>
                    <a:pt x="261" y="155"/>
                  </a:lnTo>
                  <a:lnTo>
                    <a:pt x="276" y="105"/>
                  </a:lnTo>
                  <a:lnTo>
                    <a:pt x="293" y="56"/>
                  </a:lnTo>
                  <a:lnTo>
                    <a:pt x="309" y="9"/>
                  </a:lnTo>
                  <a:lnTo>
                    <a:pt x="293" y="0"/>
                  </a:lnTo>
                  <a:lnTo>
                    <a:pt x="276" y="46"/>
                  </a:lnTo>
                  <a:lnTo>
                    <a:pt x="260" y="95"/>
                  </a:lnTo>
                  <a:lnTo>
                    <a:pt x="243" y="146"/>
                  </a:lnTo>
                  <a:lnTo>
                    <a:pt x="227" y="198"/>
                  </a:lnTo>
                  <a:lnTo>
                    <a:pt x="213" y="252"/>
                  </a:lnTo>
                  <a:lnTo>
                    <a:pt x="199" y="308"/>
                  </a:lnTo>
                  <a:lnTo>
                    <a:pt x="186" y="366"/>
                  </a:lnTo>
                  <a:lnTo>
                    <a:pt x="174" y="425"/>
                  </a:lnTo>
                  <a:lnTo>
                    <a:pt x="162" y="486"/>
                  </a:lnTo>
                  <a:lnTo>
                    <a:pt x="150" y="549"/>
                  </a:lnTo>
                  <a:lnTo>
                    <a:pt x="138" y="614"/>
                  </a:lnTo>
                  <a:lnTo>
                    <a:pt x="128" y="680"/>
                  </a:lnTo>
                  <a:lnTo>
                    <a:pt x="117" y="749"/>
                  </a:lnTo>
                  <a:lnTo>
                    <a:pt x="108" y="819"/>
                  </a:lnTo>
                  <a:lnTo>
                    <a:pt x="99" y="893"/>
                  </a:lnTo>
                  <a:lnTo>
                    <a:pt x="91" y="967"/>
                  </a:lnTo>
                  <a:lnTo>
                    <a:pt x="82" y="1043"/>
                  </a:lnTo>
                  <a:lnTo>
                    <a:pt x="74" y="1121"/>
                  </a:lnTo>
                  <a:lnTo>
                    <a:pt x="67" y="1202"/>
                  </a:lnTo>
                  <a:lnTo>
                    <a:pt x="60" y="1284"/>
                  </a:lnTo>
                  <a:lnTo>
                    <a:pt x="53" y="1368"/>
                  </a:lnTo>
                  <a:lnTo>
                    <a:pt x="46" y="1453"/>
                  </a:lnTo>
                  <a:lnTo>
                    <a:pt x="40" y="1542"/>
                  </a:lnTo>
                  <a:lnTo>
                    <a:pt x="34" y="1632"/>
                  </a:lnTo>
                  <a:lnTo>
                    <a:pt x="30" y="1725"/>
                  </a:lnTo>
                  <a:lnTo>
                    <a:pt x="25" y="1819"/>
                  </a:lnTo>
                  <a:lnTo>
                    <a:pt x="20" y="1915"/>
                  </a:lnTo>
                  <a:lnTo>
                    <a:pt x="16" y="2015"/>
                  </a:lnTo>
                  <a:lnTo>
                    <a:pt x="11" y="2116"/>
                  </a:lnTo>
                  <a:lnTo>
                    <a:pt x="8" y="2219"/>
                  </a:lnTo>
                  <a:lnTo>
                    <a:pt x="4" y="2325"/>
                  </a:lnTo>
                  <a:lnTo>
                    <a:pt x="0" y="2432"/>
                  </a:lnTo>
                  <a:lnTo>
                    <a:pt x="0" y="2432"/>
                  </a:lnTo>
                  <a:lnTo>
                    <a:pt x="0" y="2432"/>
                  </a:lnTo>
                  <a:lnTo>
                    <a:pt x="4" y="2440"/>
                  </a:lnTo>
                  <a:lnTo>
                    <a:pt x="10" y="2444"/>
                  </a:lnTo>
                  <a:lnTo>
                    <a:pt x="17" y="2440"/>
                  </a:lnTo>
                  <a:lnTo>
                    <a:pt x="19" y="2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776600" y="3125520"/>
              <a:ext cx="104040" cy="916200"/>
            </a:xfrm>
            <a:custGeom>
              <a:avLst/>
              <a:gdLst/>
              <a:ahLst/>
              <a:rect l="l" t="t" r="r" b="b"/>
              <a:pathLst>
                <a:path w="385" h="3364">
                  <a:moveTo>
                    <a:pt x="385" y="3359"/>
                  </a:moveTo>
                  <a:lnTo>
                    <a:pt x="385" y="3359"/>
                  </a:lnTo>
                  <a:lnTo>
                    <a:pt x="365" y="3251"/>
                  </a:lnTo>
                  <a:lnTo>
                    <a:pt x="344" y="3144"/>
                  </a:lnTo>
                  <a:lnTo>
                    <a:pt x="326" y="3035"/>
                  </a:lnTo>
                  <a:lnTo>
                    <a:pt x="306" y="2926"/>
                  </a:lnTo>
                  <a:lnTo>
                    <a:pt x="287" y="2816"/>
                  </a:lnTo>
                  <a:lnTo>
                    <a:pt x="269" y="2706"/>
                  </a:lnTo>
                  <a:lnTo>
                    <a:pt x="251" y="2597"/>
                  </a:lnTo>
                  <a:lnTo>
                    <a:pt x="234" y="2485"/>
                  </a:lnTo>
                  <a:lnTo>
                    <a:pt x="217" y="2376"/>
                  </a:lnTo>
                  <a:lnTo>
                    <a:pt x="200" y="2264"/>
                  </a:lnTo>
                  <a:lnTo>
                    <a:pt x="185" y="2153"/>
                  </a:lnTo>
                  <a:lnTo>
                    <a:pt x="170" y="2043"/>
                  </a:lnTo>
                  <a:lnTo>
                    <a:pt x="156" y="1933"/>
                  </a:lnTo>
                  <a:lnTo>
                    <a:pt x="142" y="1825"/>
                  </a:lnTo>
                  <a:lnTo>
                    <a:pt x="129" y="1715"/>
                  </a:lnTo>
                  <a:lnTo>
                    <a:pt x="116" y="1606"/>
                  </a:lnTo>
                  <a:lnTo>
                    <a:pt x="105" y="1497"/>
                  </a:lnTo>
                  <a:lnTo>
                    <a:pt x="93" y="1390"/>
                  </a:lnTo>
                  <a:lnTo>
                    <a:pt x="82" y="1282"/>
                  </a:lnTo>
                  <a:lnTo>
                    <a:pt x="73" y="1176"/>
                  </a:lnTo>
                  <a:lnTo>
                    <a:pt x="64" y="1070"/>
                  </a:lnTo>
                  <a:lnTo>
                    <a:pt x="55" y="966"/>
                  </a:lnTo>
                  <a:lnTo>
                    <a:pt x="48" y="863"/>
                  </a:lnTo>
                  <a:lnTo>
                    <a:pt x="41" y="762"/>
                  </a:lnTo>
                  <a:lnTo>
                    <a:pt x="36" y="661"/>
                  </a:lnTo>
                  <a:lnTo>
                    <a:pt x="31" y="562"/>
                  </a:lnTo>
                  <a:lnTo>
                    <a:pt x="26" y="463"/>
                  </a:lnTo>
                  <a:lnTo>
                    <a:pt x="23" y="369"/>
                  </a:lnTo>
                  <a:lnTo>
                    <a:pt x="20" y="274"/>
                  </a:lnTo>
                  <a:lnTo>
                    <a:pt x="19" y="180"/>
                  </a:lnTo>
                  <a:lnTo>
                    <a:pt x="19" y="8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180"/>
                  </a:lnTo>
                  <a:lnTo>
                    <a:pt x="2" y="274"/>
                  </a:lnTo>
                  <a:lnTo>
                    <a:pt x="4" y="369"/>
                  </a:lnTo>
                  <a:lnTo>
                    <a:pt x="8" y="466"/>
                  </a:lnTo>
                  <a:lnTo>
                    <a:pt x="12" y="564"/>
                  </a:lnTo>
                  <a:lnTo>
                    <a:pt x="17" y="663"/>
                  </a:lnTo>
                  <a:lnTo>
                    <a:pt x="23" y="764"/>
                  </a:lnTo>
                  <a:lnTo>
                    <a:pt x="30" y="866"/>
                  </a:lnTo>
                  <a:lnTo>
                    <a:pt x="37" y="969"/>
                  </a:lnTo>
                  <a:lnTo>
                    <a:pt x="45" y="1073"/>
                  </a:lnTo>
                  <a:lnTo>
                    <a:pt x="54" y="1178"/>
                  </a:lnTo>
                  <a:lnTo>
                    <a:pt x="64" y="1284"/>
                  </a:lnTo>
                  <a:lnTo>
                    <a:pt x="74" y="1392"/>
                  </a:lnTo>
                  <a:lnTo>
                    <a:pt x="86" y="1500"/>
                  </a:lnTo>
                  <a:lnTo>
                    <a:pt x="98" y="1608"/>
                  </a:lnTo>
                  <a:lnTo>
                    <a:pt x="110" y="1717"/>
                  </a:lnTo>
                  <a:lnTo>
                    <a:pt x="123" y="1827"/>
                  </a:lnTo>
                  <a:lnTo>
                    <a:pt x="137" y="1938"/>
                  </a:lnTo>
                  <a:lnTo>
                    <a:pt x="151" y="2048"/>
                  </a:lnTo>
                  <a:lnTo>
                    <a:pt x="167" y="2158"/>
                  </a:lnTo>
                  <a:lnTo>
                    <a:pt x="182" y="2269"/>
                  </a:lnTo>
                  <a:lnTo>
                    <a:pt x="198" y="2380"/>
                  </a:lnTo>
                  <a:lnTo>
                    <a:pt x="216" y="2490"/>
                  </a:lnTo>
                  <a:lnTo>
                    <a:pt x="232" y="2601"/>
                  </a:lnTo>
                  <a:lnTo>
                    <a:pt x="251" y="2711"/>
                  </a:lnTo>
                  <a:lnTo>
                    <a:pt x="268" y="2821"/>
                  </a:lnTo>
                  <a:lnTo>
                    <a:pt x="287" y="2931"/>
                  </a:lnTo>
                  <a:lnTo>
                    <a:pt x="307" y="3040"/>
                  </a:lnTo>
                  <a:lnTo>
                    <a:pt x="326" y="3149"/>
                  </a:lnTo>
                  <a:lnTo>
                    <a:pt x="347" y="3256"/>
                  </a:lnTo>
                  <a:lnTo>
                    <a:pt x="366" y="3364"/>
                  </a:lnTo>
                  <a:lnTo>
                    <a:pt x="366" y="3364"/>
                  </a:lnTo>
                  <a:lnTo>
                    <a:pt x="385" y="3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875600" y="4040280"/>
              <a:ext cx="174240" cy="691560"/>
            </a:xfrm>
            <a:custGeom>
              <a:avLst/>
              <a:gdLst/>
              <a:ahLst/>
              <a:rect l="l" t="t" r="r" b="b"/>
              <a:pathLst>
                <a:path w="646" h="2540">
                  <a:moveTo>
                    <a:pt x="637" y="2517"/>
                  </a:moveTo>
                  <a:lnTo>
                    <a:pt x="645" y="2524"/>
                  </a:lnTo>
                  <a:lnTo>
                    <a:pt x="630" y="2485"/>
                  </a:lnTo>
                  <a:lnTo>
                    <a:pt x="614" y="2443"/>
                  </a:lnTo>
                  <a:lnTo>
                    <a:pt x="598" y="2399"/>
                  </a:lnTo>
                  <a:lnTo>
                    <a:pt x="583" y="2350"/>
                  </a:lnTo>
                  <a:lnTo>
                    <a:pt x="566" y="2298"/>
                  </a:lnTo>
                  <a:lnTo>
                    <a:pt x="549" y="2243"/>
                  </a:lnTo>
                  <a:lnTo>
                    <a:pt x="531" y="2185"/>
                  </a:lnTo>
                  <a:lnTo>
                    <a:pt x="513" y="2125"/>
                  </a:lnTo>
                  <a:lnTo>
                    <a:pt x="495" y="2062"/>
                  </a:lnTo>
                  <a:lnTo>
                    <a:pt x="475" y="1995"/>
                  </a:lnTo>
                  <a:lnTo>
                    <a:pt x="456" y="1926"/>
                  </a:lnTo>
                  <a:lnTo>
                    <a:pt x="437" y="1854"/>
                  </a:lnTo>
                  <a:lnTo>
                    <a:pt x="417" y="1779"/>
                  </a:lnTo>
                  <a:lnTo>
                    <a:pt x="397" y="1703"/>
                  </a:lnTo>
                  <a:lnTo>
                    <a:pt x="377" y="1623"/>
                  </a:lnTo>
                  <a:lnTo>
                    <a:pt x="356" y="1542"/>
                  </a:lnTo>
                  <a:lnTo>
                    <a:pt x="336" y="1458"/>
                  </a:lnTo>
                  <a:lnTo>
                    <a:pt x="315" y="1372"/>
                  </a:lnTo>
                  <a:lnTo>
                    <a:pt x="294" y="1284"/>
                  </a:lnTo>
                  <a:lnTo>
                    <a:pt x="273" y="1195"/>
                  </a:lnTo>
                  <a:lnTo>
                    <a:pt x="252" y="1103"/>
                  </a:lnTo>
                  <a:lnTo>
                    <a:pt x="230" y="1009"/>
                  </a:lnTo>
                  <a:lnTo>
                    <a:pt x="209" y="915"/>
                  </a:lnTo>
                  <a:lnTo>
                    <a:pt x="188" y="819"/>
                  </a:lnTo>
                  <a:lnTo>
                    <a:pt x="167" y="721"/>
                  </a:lnTo>
                  <a:lnTo>
                    <a:pt x="145" y="621"/>
                  </a:lnTo>
                  <a:lnTo>
                    <a:pt x="123" y="519"/>
                  </a:lnTo>
                  <a:lnTo>
                    <a:pt x="102" y="419"/>
                  </a:lnTo>
                  <a:lnTo>
                    <a:pt x="81" y="316"/>
                  </a:lnTo>
                  <a:lnTo>
                    <a:pt x="60" y="212"/>
                  </a:lnTo>
                  <a:lnTo>
                    <a:pt x="40" y="107"/>
                  </a:lnTo>
                  <a:lnTo>
                    <a:pt x="19" y="0"/>
                  </a:lnTo>
                  <a:lnTo>
                    <a:pt x="0" y="5"/>
                  </a:lnTo>
                  <a:lnTo>
                    <a:pt x="22" y="111"/>
                  </a:lnTo>
                  <a:lnTo>
                    <a:pt x="41" y="216"/>
                  </a:lnTo>
                  <a:lnTo>
                    <a:pt x="62" y="321"/>
                  </a:lnTo>
                  <a:lnTo>
                    <a:pt x="83" y="423"/>
                  </a:lnTo>
                  <a:lnTo>
                    <a:pt x="105" y="526"/>
                  </a:lnTo>
                  <a:lnTo>
                    <a:pt x="127" y="628"/>
                  </a:lnTo>
                  <a:lnTo>
                    <a:pt x="148" y="728"/>
                  </a:lnTo>
                  <a:lnTo>
                    <a:pt x="169" y="826"/>
                  </a:lnTo>
                  <a:lnTo>
                    <a:pt x="190" y="922"/>
                  </a:lnTo>
                  <a:lnTo>
                    <a:pt x="211" y="1016"/>
                  </a:lnTo>
                  <a:lnTo>
                    <a:pt x="233" y="1110"/>
                  </a:lnTo>
                  <a:lnTo>
                    <a:pt x="254" y="1202"/>
                  </a:lnTo>
                  <a:lnTo>
                    <a:pt x="275" y="1291"/>
                  </a:lnTo>
                  <a:lnTo>
                    <a:pt x="296" y="1379"/>
                  </a:lnTo>
                  <a:lnTo>
                    <a:pt x="317" y="1466"/>
                  </a:lnTo>
                  <a:lnTo>
                    <a:pt x="337" y="1549"/>
                  </a:lnTo>
                  <a:lnTo>
                    <a:pt x="358" y="1630"/>
                  </a:lnTo>
                  <a:lnTo>
                    <a:pt x="378" y="1710"/>
                  </a:lnTo>
                  <a:lnTo>
                    <a:pt x="398" y="1786"/>
                  </a:lnTo>
                  <a:lnTo>
                    <a:pt x="418" y="1861"/>
                  </a:lnTo>
                  <a:lnTo>
                    <a:pt x="438" y="1933"/>
                  </a:lnTo>
                  <a:lnTo>
                    <a:pt x="456" y="2002"/>
                  </a:lnTo>
                  <a:lnTo>
                    <a:pt x="476" y="2069"/>
                  </a:lnTo>
                  <a:lnTo>
                    <a:pt x="494" y="2132"/>
                  </a:lnTo>
                  <a:lnTo>
                    <a:pt x="513" y="2194"/>
                  </a:lnTo>
                  <a:lnTo>
                    <a:pt x="530" y="2253"/>
                  </a:lnTo>
                  <a:lnTo>
                    <a:pt x="548" y="2308"/>
                  </a:lnTo>
                  <a:lnTo>
                    <a:pt x="564" y="2359"/>
                  </a:lnTo>
                  <a:lnTo>
                    <a:pt x="582" y="2408"/>
                  </a:lnTo>
                  <a:lnTo>
                    <a:pt x="598" y="2453"/>
                  </a:lnTo>
                  <a:lnTo>
                    <a:pt x="613" y="2495"/>
                  </a:lnTo>
                  <a:lnTo>
                    <a:pt x="628" y="2533"/>
                  </a:lnTo>
                  <a:lnTo>
                    <a:pt x="637" y="2540"/>
                  </a:lnTo>
                  <a:lnTo>
                    <a:pt x="628" y="2533"/>
                  </a:lnTo>
                  <a:lnTo>
                    <a:pt x="634" y="2539"/>
                  </a:lnTo>
                  <a:lnTo>
                    <a:pt x="641" y="2539"/>
                  </a:lnTo>
                  <a:lnTo>
                    <a:pt x="646" y="2533"/>
                  </a:lnTo>
                  <a:lnTo>
                    <a:pt x="645" y="2524"/>
                  </a:lnTo>
                  <a:lnTo>
                    <a:pt x="637" y="2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047320" y="4725360"/>
              <a:ext cx="49680" cy="9360"/>
            </a:xfrm>
            <a:custGeom>
              <a:avLst/>
              <a:gdLst/>
              <a:ahLst/>
              <a:rect l="l" t="t" r="r" b="b"/>
              <a:pathLst>
                <a:path w="183" h="34">
                  <a:moveTo>
                    <a:pt x="174" y="10"/>
                  </a:moveTo>
                  <a:lnTo>
                    <a:pt x="174" y="10"/>
                  </a:lnTo>
                  <a:lnTo>
                    <a:pt x="152" y="9"/>
                  </a:lnTo>
                  <a:lnTo>
                    <a:pt x="131" y="8"/>
                  </a:lnTo>
                  <a:lnTo>
                    <a:pt x="108" y="7"/>
                  </a:lnTo>
                  <a:lnTo>
                    <a:pt x="87" y="6"/>
                  </a:lnTo>
                  <a:lnTo>
                    <a:pt x="66" y="5"/>
                  </a:lnTo>
                  <a:lnTo>
                    <a:pt x="44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2" y="24"/>
                  </a:lnTo>
                  <a:lnTo>
                    <a:pt x="42" y="26"/>
                  </a:lnTo>
                  <a:lnTo>
                    <a:pt x="64" y="28"/>
                  </a:lnTo>
                  <a:lnTo>
                    <a:pt x="87" y="29"/>
                  </a:lnTo>
                  <a:lnTo>
                    <a:pt x="108" y="30"/>
                  </a:lnTo>
                  <a:lnTo>
                    <a:pt x="131" y="32"/>
                  </a:lnTo>
                  <a:lnTo>
                    <a:pt x="152" y="33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81" y="30"/>
                  </a:lnTo>
                  <a:lnTo>
                    <a:pt x="183" y="22"/>
                  </a:lnTo>
                  <a:lnTo>
                    <a:pt x="181" y="14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153080" y="2371320"/>
              <a:ext cx="1872360" cy="2360520"/>
            </a:xfrm>
            <a:custGeom>
              <a:avLst/>
              <a:gdLst/>
              <a:ahLst/>
              <a:rect l="l" t="t" r="r" b="b"/>
              <a:pathLst>
                <a:path w="6919" h="8670">
                  <a:moveTo>
                    <a:pt x="1984" y="6"/>
                  </a:moveTo>
                  <a:lnTo>
                    <a:pt x="1928" y="3"/>
                  </a:lnTo>
                  <a:lnTo>
                    <a:pt x="1873" y="0"/>
                  </a:lnTo>
                  <a:lnTo>
                    <a:pt x="1820" y="0"/>
                  </a:lnTo>
                  <a:lnTo>
                    <a:pt x="1766" y="2"/>
                  </a:lnTo>
                  <a:lnTo>
                    <a:pt x="1713" y="5"/>
                  </a:lnTo>
                  <a:lnTo>
                    <a:pt x="1661" y="11"/>
                  </a:lnTo>
                  <a:lnTo>
                    <a:pt x="1610" y="18"/>
                  </a:lnTo>
                  <a:lnTo>
                    <a:pt x="1560" y="27"/>
                  </a:lnTo>
                  <a:lnTo>
                    <a:pt x="1511" y="38"/>
                  </a:lnTo>
                  <a:lnTo>
                    <a:pt x="1462" y="51"/>
                  </a:lnTo>
                  <a:lnTo>
                    <a:pt x="1414" y="65"/>
                  </a:lnTo>
                  <a:lnTo>
                    <a:pt x="1367" y="81"/>
                  </a:lnTo>
                  <a:lnTo>
                    <a:pt x="1320" y="99"/>
                  </a:lnTo>
                  <a:lnTo>
                    <a:pt x="1275" y="118"/>
                  </a:lnTo>
                  <a:lnTo>
                    <a:pt x="1230" y="140"/>
                  </a:lnTo>
                  <a:lnTo>
                    <a:pt x="1186" y="162"/>
                  </a:lnTo>
                  <a:lnTo>
                    <a:pt x="1143" y="186"/>
                  </a:lnTo>
                  <a:lnTo>
                    <a:pt x="1100" y="213"/>
                  </a:lnTo>
                  <a:lnTo>
                    <a:pt x="1058" y="241"/>
                  </a:lnTo>
                  <a:lnTo>
                    <a:pt x="1017" y="271"/>
                  </a:lnTo>
                  <a:lnTo>
                    <a:pt x="977" y="301"/>
                  </a:lnTo>
                  <a:lnTo>
                    <a:pt x="937" y="334"/>
                  </a:lnTo>
                  <a:lnTo>
                    <a:pt x="898" y="368"/>
                  </a:lnTo>
                  <a:lnTo>
                    <a:pt x="860" y="403"/>
                  </a:lnTo>
                  <a:lnTo>
                    <a:pt x="822" y="440"/>
                  </a:lnTo>
                  <a:lnTo>
                    <a:pt x="786" y="479"/>
                  </a:lnTo>
                  <a:lnTo>
                    <a:pt x="750" y="518"/>
                  </a:lnTo>
                  <a:lnTo>
                    <a:pt x="715" y="561"/>
                  </a:lnTo>
                  <a:lnTo>
                    <a:pt x="680" y="603"/>
                  </a:lnTo>
                  <a:lnTo>
                    <a:pt x="646" y="647"/>
                  </a:lnTo>
                  <a:lnTo>
                    <a:pt x="613" y="693"/>
                  </a:lnTo>
                  <a:lnTo>
                    <a:pt x="580" y="740"/>
                  </a:lnTo>
                  <a:lnTo>
                    <a:pt x="518" y="837"/>
                  </a:lnTo>
                  <a:lnTo>
                    <a:pt x="460" y="940"/>
                  </a:lnTo>
                  <a:lnTo>
                    <a:pt x="405" y="1048"/>
                  </a:lnTo>
                  <a:lnTo>
                    <a:pt x="353" y="1162"/>
                  </a:lnTo>
                  <a:lnTo>
                    <a:pt x="305" y="1280"/>
                  </a:lnTo>
                  <a:lnTo>
                    <a:pt x="261" y="1403"/>
                  </a:lnTo>
                  <a:lnTo>
                    <a:pt x="220" y="1530"/>
                  </a:lnTo>
                  <a:lnTo>
                    <a:pt x="181" y="1662"/>
                  </a:lnTo>
                  <a:lnTo>
                    <a:pt x="148" y="1799"/>
                  </a:lnTo>
                  <a:lnTo>
                    <a:pt x="117" y="1938"/>
                  </a:lnTo>
                  <a:lnTo>
                    <a:pt x="89" y="2082"/>
                  </a:lnTo>
                  <a:lnTo>
                    <a:pt x="64" y="2230"/>
                  </a:lnTo>
                  <a:lnTo>
                    <a:pt x="43" y="2380"/>
                  </a:lnTo>
                  <a:lnTo>
                    <a:pt x="26" y="2534"/>
                  </a:lnTo>
                  <a:lnTo>
                    <a:pt x="12" y="2691"/>
                  </a:lnTo>
                  <a:lnTo>
                    <a:pt x="0" y="2851"/>
                  </a:lnTo>
                  <a:lnTo>
                    <a:pt x="0" y="2938"/>
                  </a:lnTo>
                  <a:lnTo>
                    <a:pt x="3" y="3028"/>
                  </a:lnTo>
                  <a:lnTo>
                    <a:pt x="8" y="3121"/>
                  </a:lnTo>
                  <a:lnTo>
                    <a:pt x="17" y="3215"/>
                  </a:lnTo>
                  <a:lnTo>
                    <a:pt x="28" y="3311"/>
                  </a:lnTo>
                  <a:lnTo>
                    <a:pt x="41" y="3408"/>
                  </a:lnTo>
                  <a:lnTo>
                    <a:pt x="57" y="3508"/>
                  </a:lnTo>
                  <a:lnTo>
                    <a:pt x="76" y="3608"/>
                  </a:lnTo>
                  <a:lnTo>
                    <a:pt x="97" y="3710"/>
                  </a:lnTo>
                  <a:lnTo>
                    <a:pt x="119" y="3813"/>
                  </a:lnTo>
                  <a:lnTo>
                    <a:pt x="145" y="3917"/>
                  </a:lnTo>
                  <a:lnTo>
                    <a:pt x="173" y="4024"/>
                  </a:lnTo>
                  <a:lnTo>
                    <a:pt x="204" y="4130"/>
                  </a:lnTo>
                  <a:lnTo>
                    <a:pt x="235" y="4236"/>
                  </a:lnTo>
                  <a:lnTo>
                    <a:pt x="270" y="4345"/>
                  </a:lnTo>
                  <a:lnTo>
                    <a:pt x="307" y="4454"/>
                  </a:lnTo>
                  <a:lnTo>
                    <a:pt x="344" y="4564"/>
                  </a:lnTo>
                  <a:lnTo>
                    <a:pt x="385" y="4674"/>
                  </a:lnTo>
                  <a:lnTo>
                    <a:pt x="427" y="4784"/>
                  </a:lnTo>
                  <a:lnTo>
                    <a:pt x="470" y="4894"/>
                  </a:lnTo>
                  <a:lnTo>
                    <a:pt x="516" y="5005"/>
                  </a:lnTo>
                  <a:lnTo>
                    <a:pt x="563" y="5116"/>
                  </a:lnTo>
                  <a:lnTo>
                    <a:pt x="612" y="5227"/>
                  </a:lnTo>
                  <a:lnTo>
                    <a:pt x="662" y="5338"/>
                  </a:lnTo>
                  <a:lnTo>
                    <a:pt x="713" y="5448"/>
                  </a:lnTo>
                  <a:lnTo>
                    <a:pt x="767" y="5558"/>
                  </a:lnTo>
                  <a:lnTo>
                    <a:pt x="822" y="5668"/>
                  </a:lnTo>
                  <a:lnTo>
                    <a:pt x="878" y="5778"/>
                  </a:lnTo>
                  <a:lnTo>
                    <a:pt x="936" y="5887"/>
                  </a:lnTo>
                  <a:lnTo>
                    <a:pt x="994" y="5994"/>
                  </a:lnTo>
                  <a:lnTo>
                    <a:pt x="1054" y="6102"/>
                  </a:lnTo>
                  <a:lnTo>
                    <a:pt x="1115" y="6208"/>
                  </a:lnTo>
                  <a:lnTo>
                    <a:pt x="1175" y="6312"/>
                  </a:lnTo>
                  <a:lnTo>
                    <a:pt x="1236" y="6415"/>
                  </a:lnTo>
                  <a:lnTo>
                    <a:pt x="1298" y="6517"/>
                  </a:lnTo>
                  <a:lnTo>
                    <a:pt x="1360" y="6618"/>
                  </a:lnTo>
                  <a:lnTo>
                    <a:pt x="1422" y="6717"/>
                  </a:lnTo>
                  <a:lnTo>
                    <a:pt x="1485" y="6815"/>
                  </a:lnTo>
                  <a:lnTo>
                    <a:pt x="1547" y="6912"/>
                  </a:lnTo>
                  <a:lnTo>
                    <a:pt x="1610" y="7008"/>
                  </a:lnTo>
                  <a:lnTo>
                    <a:pt x="1672" y="7102"/>
                  </a:lnTo>
                  <a:lnTo>
                    <a:pt x="1735" y="7194"/>
                  </a:lnTo>
                  <a:lnTo>
                    <a:pt x="1797" y="7285"/>
                  </a:lnTo>
                  <a:lnTo>
                    <a:pt x="1859" y="7374"/>
                  </a:lnTo>
                  <a:lnTo>
                    <a:pt x="1921" y="7461"/>
                  </a:lnTo>
                  <a:lnTo>
                    <a:pt x="1983" y="7546"/>
                  </a:lnTo>
                  <a:lnTo>
                    <a:pt x="2044" y="7629"/>
                  </a:lnTo>
                  <a:lnTo>
                    <a:pt x="2105" y="7710"/>
                  </a:lnTo>
                  <a:lnTo>
                    <a:pt x="2165" y="7789"/>
                  </a:lnTo>
                  <a:lnTo>
                    <a:pt x="2224" y="7866"/>
                  </a:lnTo>
                  <a:lnTo>
                    <a:pt x="2283" y="7940"/>
                  </a:lnTo>
                  <a:lnTo>
                    <a:pt x="2341" y="8012"/>
                  </a:lnTo>
                  <a:lnTo>
                    <a:pt x="2398" y="8082"/>
                  </a:lnTo>
                  <a:lnTo>
                    <a:pt x="2454" y="8149"/>
                  </a:lnTo>
                  <a:lnTo>
                    <a:pt x="2509" y="8213"/>
                  </a:lnTo>
                  <a:lnTo>
                    <a:pt x="2564" y="8275"/>
                  </a:lnTo>
                  <a:lnTo>
                    <a:pt x="2618" y="8333"/>
                  </a:lnTo>
                  <a:lnTo>
                    <a:pt x="2670" y="8389"/>
                  </a:lnTo>
                  <a:lnTo>
                    <a:pt x="2721" y="8442"/>
                  </a:lnTo>
                  <a:lnTo>
                    <a:pt x="2771" y="8492"/>
                  </a:lnTo>
                  <a:lnTo>
                    <a:pt x="2819" y="8539"/>
                  </a:lnTo>
                  <a:lnTo>
                    <a:pt x="2866" y="8582"/>
                  </a:lnTo>
                  <a:lnTo>
                    <a:pt x="2912" y="8622"/>
                  </a:lnTo>
                  <a:lnTo>
                    <a:pt x="2956" y="8660"/>
                  </a:lnTo>
                  <a:lnTo>
                    <a:pt x="2989" y="8661"/>
                  </a:lnTo>
                  <a:lnTo>
                    <a:pt x="3022" y="8661"/>
                  </a:lnTo>
                  <a:lnTo>
                    <a:pt x="3053" y="8662"/>
                  </a:lnTo>
                  <a:lnTo>
                    <a:pt x="3086" y="8662"/>
                  </a:lnTo>
                  <a:lnTo>
                    <a:pt x="3119" y="8663"/>
                  </a:lnTo>
                  <a:lnTo>
                    <a:pt x="3151" y="8664"/>
                  </a:lnTo>
                  <a:lnTo>
                    <a:pt x="3183" y="8664"/>
                  </a:lnTo>
                  <a:lnTo>
                    <a:pt x="3216" y="8665"/>
                  </a:lnTo>
                  <a:lnTo>
                    <a:pt x="3248" y="8665"/>
                  </a:lnTo>
                  <a:lnTo>
                    <a:pt x="3281" y="8667"/>
                  </a:lnTo>
                  <a:lnTo>
                    <a:pt x="3314" y="8668"/>
                  </a:lnTo>
                  <a:lnTo>
                    <a:pt x="3347" y="8668"/>
                  </a:lnTo>
                  <a:lnTo>
                    <a:pt x="3379" y="8669"/>
                  </a:lnTo>
                  <a:lnTo>
                    <a:pt x="3412" y="8669"/>
                  </a:lnTo>
                  <a:lnTo>
                    <a:pt x="3445" y="8670"/>
                  </a:lnTo>
                  <a:lnTo>
                    <a:pt x="3478" y="8670"/>
                  </a:lnTo>
                  <a:lnTo>
                    <a:pt x="3509" y="8670"/>
                  </a:lnTo>
                  <a:lnTo>
                    <a:pt x="3542" y="8669"/>
                  </a:lnTo>
                  <a:lnTo>
                    <a:pt x="3573" y="8669"/>
                  </a:lnTo>
                  <a:lnTo>
                    <a:pt x="3606" y="8668"/>
                  </a:lnTo>
                  <a:lnTo>
                    <a:pt x="3639" y="8668"/>
                  </a:lnTo>
                  <a:lnTo>
                    <a:pt x="3671" y="8667"/>
                  </a:lnTo>
                  <a:lnTo>
                    <a:pt x="3703" y="8665"/>
                  </a:lnTo>
                  <a:lnTo>
                    <a:pt x="3736" y="8665"/>
                  </a:lnTo>
                  <a:lnTo>
                    <a:pt x="3769" y="8664"/>
                  </a:lnTo>
                  <a:lnTo>
                    <a:pt x="3802" y="8664"/>
                  </a:lnTo>
                  <a:lnTo>
                    <a:pt x="3833" y="8663"/>
                  </a:lnTo>
                  <a:lnTo>
                    <a:pt x="3866" y="8662"/>
                  </a:lnTo>
                  <a:lnTo>
                    <a:pt x="3899" y="8662"/>
                  </a:lnTo>
                  <a:lnTo>
                    <a:pt x="3931" y="8661"/>
                  </a:lnTo>
                  <a:lnTo>
                    <a:pt x="3964" y="8661"/>
                  </a:lnTo>
                  <a:lnTo>
                    <a:pt x="3997" y="8660"/>
                  </a:lnTo>
                  <a:lnTo>
                    <a:pt x="4040" y="8623"/>
                  </a:lnTo>
                  <a:lnTo>
                    <a:pt x="4084" y="8582"/>
                  </a:lnTo>
                  <a:lnTo>
                    <a:pt x="4131" y="8539"/>
                  </a:lnTo>
                  <a:lnTo>
                    <a:pt x="4179" y="8492"/>
                  </a:lnTo>
                  <a:lnTo>
                    <a:pt x="4228" y="8443"/>
                  </a:lnTo>
                  <a:lnTo>
                    <a:pt x="4279" y="8389"/>
                  </a:lnTo>
                  <a:lnTo>
                    <a:pt x="4330" y="8334"/>
                  </a:lnTo>
                  <a:lnTo>
                    <a:pt x="4383" y="8275"/>
                  </a:lnTo>
                  <a:lnTo>
                    <a:pt x="4435" y="8214"/>
                  </a:lnTo>
                  <a:lnTo>
                    <a:pt x="4490" y="8150"/>
                  </a:lnTo>
                  <a:lnTo>
                    <a:pt x="4546" y="8083"/>
                  </a:lnTo>
                  <a:lnTo>
                    <a:pt x="4602" y="8013"/>
                  </a:lnTo>
                  <a:lnTo>
                    <a:pt x="4660" y="7942"/>
                  </a:lnTo>
                  <a:lnTo>
                    <a:pt x="4717" y="7867"/>
                  </a:lnTo>
                  <a:lnTo>
                    <a:pt x="4776" y="7791"/>
                  </a:lnTo>
                  <a:lnTo>
                    <a:pt x="4835" y="7711"/>
                  </a:lnTo>
                  <a:lnTo>
                    <a:pt x="4895" y="7630"/>
                  </a:lnTo>
                  <a:lnTo>
                    <a:pt x="4956" y="7547"/>
                  </a:lnTo>
                  <a:lnTo>
                    <a:pt x="5016" y="7462"/>
                  </a:lnTo>
                  <a:lnTo>
                    <a:pt x="5077" y="7374"/>
                  </a:lnTo>
                  <a:lnTo>
                    <a:pt x="5138" y="7285"/>
                  </a:lnTo>
                  <a:lnTo>
                    <a:pt x="5200" y="7195"/>
                  </a:lnTo>
                  <a:lnTo>
                    <a:pt x="5261" y="7103"/>
                  </a:lnTo>
                  <a:lnTo>
                    <a:pt x="5323" y="7008"/>
                  </a:lnTo>
                  <a:lnTo>
                    <a:pt x="5385" y="6912"/>
                  </a:lnTo>
                  <a:lnTo>
                    <a:pt x="5447" y="6816"/>
                  </a:lnTo>
                  <a:lnTo>
                    <a:pt x="5507" y="6717"/>
                  </a:lnTo>
                  <a:lnTo>
                    <a:pt x="5569" y="6618"/>
                  </a:lnTo>
                  <a:lnTo>
                    <a:pt x="5630" y="6517"/>
                  </a:lnTo>
                  <a:lnTo>
                    <a:pt x="5691" y="6415"/>
                  </a:lnTo>
                  <a:lnTo>
                    <a:pt x="5752" y="6312"/>
                  </a:lnTo>
                  <a:lnTo>
                    <a:pt x="5811" y="6208"/>
                  </a:lnTo>
                  <a:lnTo>
                    <a:pt x="5871" y="6102"/>
                  </a:lnTo>
                  <a:lnTo>
                    <a:pt x="5931" y="5994"/>
                  </a:lnTo>
                  <a:lnTo>
                    <a:pt x="5988" y="5887"/>
                  </a:lnTo>
                  <a:lnTo>
                    <a:pt x="6045" y="5778"/>
                  </a:lnTo>
                  <a:lnTo>
                    <a:pt x="6100" y="5668"/>
                  </a:lnTo>
                  <a:lnTo>
                    <a:pt x="6155" y="5558"/>
                  </a:lnTo>
                  <a:lnTo>
                    <a:pt x="6208" y="5448"/>
                  </a:lnTo>
                  <a:lnTo>
                    <a:pt x="6259" y="5338"/>
                  </a:lnTo>
                  <a:lnTo>
                    <a:pt x="6310" y="5227"/>
                  </a:lnTo>
                  <a:lnTo>
                    <a:pt x="6358" y="5116"/>
                  </a:lnTo>
                  <a:lnTo>
                    <a:pt x="6404" y="5005"/>
                  </a:lnTo>
                  <a:lnTo>
                    <a:pt x="6450" y="4894"/>
                  </a:lnTo>
                  <a:lnTo>
                    <a:pt x="6493" y="4784"/>
                  </a:lnTo>
                  <a:lnTo>
                    <a:pt x="6535" y="4674"/>
                  </a:lnTo>
                  <a:lnTo>
                    <a:pt x="6575" y="4564"/>
                  </a:lnTo>
                  <a:lnTo>
                    <a:pt x="6612" y="4454"/>
                  </a:lnTo>
                  <a:lnTo>
                    <a:pt x="6649" y="4345"/>
                  </a:lnTo>
                  <a:lnTo>
                    <a:pt x="6683" y="4236"/>
                  </a:lnTo>
                  <a:lnTo>
                    <a:pt x="6715" y="4130"/>
                  </a:lnTo>
                  <a:lnTo>
                    <a:pt x="6745" y="4024"/>
                  </a:lnTo>
                  <a:lnTo>
                    <a:pt x="6773" y="3917"/>
                  </a:lnTo>
                  <a:lnTo>
                    <a:pt x="6798" y="3813"/>
                  </a:lnTo>
                  <a:lnTo>
                    <a:pt x="6822" y="3710"/>
                  </a:lnTo>
                  <a:lnTo>
                    <a:pt x="6843" y="3608"/>
                  </a:lnTo>
                  <a:lnTo>
                    <a:pt x="6862" y="3508"/>
                  </a:lnTo>
                  <a:lnTo>
                    <a:pt x="6877" y="3408"/>
                  </a:lnTo>
                  <a:lnTo>
                    <a:pt x="6891" y="3311"/>
                  </a:lnTo>
                  <a:lnTo>
                    <a:pt x="6901" y="3215"/>
                  </a:lnTo>
                  <a:lnTo>
                    <a:pt x="6911" y="3121"/>
                  </a:lnTo>
                  <a:lnTo>
                    <a:pt x="6915" y="3028"/>
                  </a:lnTo>
                  <a:lnTo>
                    <a:pt x="6919" y="2938"/>
                  </a:lnTo>
                  <a:lnTo>
                    <a:pt x="6919" y="2851"/>
                  </a:lnTo>
                  <a:lnTo>
                    <a:pt x="6908" y="2697"/>
                  </a:lnTo>
                  <a:lnTo>
                    <a:pt x="6895" y="2548"/>
                  </a:lnTo>
                  <a:lnTo>
                    <a:pt x="6879" y="2399"/>
                  </a:lnTo>
                  <a:lnTo>
                    <a:pt x="6860" y="2254"/>
                  </a:lnTo>
                  <a:lnTo>
                    <a:pt x="6838" y="2113"/>
                  </a:lnTo>
                  <a:lnTo>
                    <a:pt x="6814" y="1975"/>
                  </a:lnTo>
                  <a:lnTo>
                    <a:pt x="6786" y="1839"/>
                  </a:lnTo>
                  <a:lnTo>
                    <a:pt x="6755" y="1707"/>
                  </a:lnTo>
                  <a:lnTo>
                    <a:pt x="6720" y="1579"/>
                  </a:lnTo>
                  <a:lnTo>
                    <a:pt x="6683" y="1455"/>
                  </a:lnTo>
                  <a:lnTo>
                    <a:pt x="6643" y="1335"/>
                  </a:lnTo>
                  <a:lnTo>
                    <a:pt x="6598" y="1219"/>
                  </a:lnTo>
                  <a:lnTo>
                    <a:pt x="6552" y="1108"/>
                  </a:lnTo>
                  <a:lnTo>
                    <a:pt x="6501" y="1000"/>
                  </a:lnTo>
                  <a:lnTo>
                    <a:pt x="6448" y="899"/>
                  </a:lnTo>
                  <a:lnTo>
                    <a:pt x="6390" y="802"/>
                  </a:lnTo>
                  <a:lnTo>
                    <a:pt x="6361" y="755"/>
                  </a:lnTo>
                  <a:lnTo>
                    <a:pt x="6331" y="709"/>
                  </a:lnTo>
                  <a:lnTo>
                    <a:pt x="6299" y="665"/>
                  </a:lnTo>
                  <a:lnTo>
                    <a:pt x="6268" y="621"/>
                  </a:lnTo>
                  <a:lnTo>
                    <a:pt x="6236" y="580"/>
                  </a:lnTo>
                  <a:lnTo>
                    <a:pt x="6203" y="540"/>
                  </a:lnTo>
                  <a:lnTo>
                    <a:pt x="6169" y="501"/>
                  </a:lnTo>
                  <a:lnTo>
                    <a:pt x="6134" y="464"/>
                  </a:lnTo>
                  <a:lnTo>
                    <a:pt x="6099" y="426"/>
                  </a:lnTo>
                  <a:lnTo>
                    <a:pt x="6064" y="392"/>
                  </a:lnTo>
                  <a:lnTo>
                    <a:pt x="6028" y="358"/>
                  </a:lnTo>
                  <a:lnTo>
                    <a:pt x="5990" y="326"/>
                  </a:lnTo>
                  <a:lnTo>
                    <a:pt x="5953" y="295"/>
                  </a:lnTo>
                  <a:lnTo>
                    <a:pt x="5914" y="266"/>
                  </a:lnTo>
                  <a:lnTo>
                    <a:pt x="5875" y="238"/>
                  </a:lnTo>
                  <a:lnTo>
                    <a:pt x="5835" y="211"/>
                  </a:lnTo>
                  <a:lnTo>
                    <a:pt x="5795" y="186"/>
                  </a:lnTo>
                  <a:lnTo>
                    <a:pt x="5753" y="163"/>
                  </a:lnTo>
                  <a:lnTo>
                    <a:pt x="5712" y="141"/>
                  </a:lnTo>
                  <a:lnTo>
                    <a:pt x="5669" y="121"/>
                  </a:lnTo>
                  <a:lnTo>
                    <a:pt x="5626" y="102"/>
                  </a:lnTo>
                  <a:lnTo>
                    <a:pt x="5581" y="85"/>
                  </a:lnTo>
                  <a:lnTo>
                    <a:pt x="5537" y="68"/>
                  </a:lnTo>
                  <a:lnTo>
                    <a:pt x="5491" y="54"/>
                  </a:lnTo>
                  <a:lnTo>
                    <a:pt x="5444" y="42"/>
                  </a:lnTo>
                  <a:lnTo>
                    <a:pt x="5398" y="31"/>
                  </a:lnTo>
                  <a:lnTo>
                    <a:pt x="5350" y="23"/>
                  </a:lnTo>
                  <a:lnTo>
                    <a:pt x="5302" y="14"/>
                  </a:lnTo>
                  <a:lnTo>
                    <a:pt x="5253" y="9"/>
                  </a:lnTo>
                  <a:lnTo>
                    <a:pt x="5202" y="5"/>
                  </a:lnTo>
                  <a:lnTo>
                    <a:pt x="5152" y="3"/>
                  </a:lnTo>
                  <a:lnTo>
                    <a:pt x="510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923120" y="4722840"/>
              <a:ext cx="52560" cy="42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931040" y="4707720"/>
              <a:ext cx="5400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964880" y="4696920"/>
              <a:ext cx="48600" cy="44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033640" y="4686120"/>
              <a:ext cx="27000" cy="45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2214000" y="4722840"/>
              <a:ext cx="52560" cy="42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2204280" y="4707720"/>
              <a:ext cx="5544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2175480" y="4696920"/>
              <a:ext cx="48600" cy="44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H="1">
              <a:off x="2128320" y="4686120"/>
              <a:ext cx="27000" cy="45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966320" y="5200200"/>
              <a:ext cx="34920" cy="5436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84" y="0"/>
                  </a:moveTo>
                  <a:lnTo>
                    <a:pt x="96" y="4"/>
                  </a:lnTo>
                  <a:lnTo>
                    <a:pt x="107" y="11"/>
                  </a:lnTo>
                  <a:lnTo>
                    <a:pt x="117" y="21"/>
                  </a:lnTo>
                  <a:lnTo>
                    <a:pt x="124" y="35"/>
                  </a:lnTo>
                  <a:lnTo>
                    <a:pt x="130" y="50"/>
                  </a:lnTo>
                  <a:lnTo>
                    <a:pt x="133" y="68"/>
                  </a:lnTo>
                  <a:lnTo>
                    <a:pt x="133" y="87"/>
                  </a:lnTo>
                  <a:lnTo>
                    <a:pt x="132" y="106"/>
                  </a:lnTo>
                  <a:lnTo>
                    <a:pt x="130" y="126"/>
                  </a:lnTo>
                  <a:lnTo>
                    <a:pt x="130" y="145"/>
                  </a:lnTo>
                  <a:lnTo>
                    <a:pt x="127" y="163"/>
                  </a:lnTo>
                  <a:lnTo>
                    <a:pt x="124" y="177"/>
                  </a:lnTo>
                  <a:lnTo>
                    <a:pt x="117" y="188"/>
                  </a:lnTo>
                  <a:lnTo>
                    <a:pt x="104" y="195"/>
                  </a:lnTo>
                  <a:lnTo>
                    <a:pt x="85" y="199"/>
                  </a:lnTo>
                  <a:lnTo>
                    <a:pt x="58" y="198"/>
                  </a:lnTo>
                  <a:lnTo>
                    <a:pt x="32" y="192"/>
                  </a:lnTo>
                  <a:lnTo>
                    <a:pt x="15" y="184"/>
                  </a:lnTo>
                  <a:lnTo>
                    <a:pt x="4" y="173"/>
                  </a:lnTo>
                  <a:lnTo>
                    <a:pt x="0" y="160"/>
                  </a:lnTo>
                  <a:lnTo>
                    <a:pt x="0" y="145"/>
                  </a:lnTo>
                  <a:lnTo>
                    <a:pt x="2" y="129"/>
                  </a:lnTo>
                  <a:lnTo>
                    <a:pt x="6" y="110"/>
                  </a:lnTo>
                  <a:lnTo>
                    <a:pt x="9" y="90"/>
                  </a:lnTo>
                  <a:lnTo>
                    <a:pt x="13" y="70"/>
                  </a:lnTo>
                  <a:lnTo>
                    <a:pt x="18" y="53"/>
                  </a:lnTo>
                  <a:lnTo>
                    <a:pt x="27" y="36"/>
                  </a:lnTo>
                  <a:lnTo>
                    <a:pt x="36" y="23"/>
                  </a:lnTo>
                  <a:lnTo>
                    <a:pt x="48" y="12"/>
                  </a:lnTo>
                  <a:lnTo>
                    <a:pt x="59" y="5"/>
                  </a:lnTo>
                  <a:lnTo>
                    <a:pt x="71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e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989360" y="5200200"/>
              <a:ext cx="13320" cy="29880"/>
            </a:xfrm>
            <a:custGeom>
              <a:avLst/>
              <a:gdLst/>
              <a:ahLst/>
              <a:rect l="l" t="t" r="r" b="b"/>
              <a:pathLst>
                <a:path w="54" h="111">
                  <a:moveTo>
                    <a:pt x="53" y="111"/>
                  </a:moveTo>
                  <a:lnTo>
                    <a:pt x="53" y="111"/>
                  </a:lnTo>
                  <a:lnTo>
                    <a:pt x="54" y="90"/>
                  </a:lnTo>
                  <a:lnTo>
                    <a:pt x="54" y="71"/>
                  </a:lnTo>
                  <a:lnTo>
                    <a:pt x="50" y="52"/>
                  </a:lnTo>
                  <a:lnTo>
                    <a:pt x="44" y="37"/>
                  </a:lnTo>
                  <a:lnTo>
                    <a:pt x="37" y="22"/>
                  </a:lnTo>
                  <a:lnTo>
                    <a:pt x="27" y="11"/>
                  </a:lnTo>
                  <a:lnTo>
                    <a:pt x="14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9" y="10"/>
                  </a:lnTo>
                  <a:lnTo>
                    <a:pt x="20" y="16"/>
                  </a:lnTo>
                  <a:lnTo>
                    <a:pt x="28" y="26"/>
                  </a:lnTo>
                  <a:lnTo>
                    <a:pt x="35" y="39"/>
                  </a:lnTo>
                  <a:lnTo>
                    <a:pt x="41" y="55"/>
                  </a:lnTo>
                  <a:lnTo>
                    <a:pt x="44" y="71"/>
                  </a:lnTo>
                  <a:lnTo>
                    <a:pt x="44" y="90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5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981080" y="5229000"/>
              <a:ext cx="21600" cy="2700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96"/>
                  </a:moveTo>
                  <a:lnTo>
                    <a:pt x="0" y="96"/>
                  </a:lnTo>
                  <a:lnTo>
                    <a:pt x="27" y="97"/>
                  </a:lnTo>
                  <a:lnTo>
                    <a:pt x="48" y="94"/>
                  </a:lnTo>
                  <a:lnTo>
                    <a:pt x="62" y="86"/>
                  </a:lnTo>
                  <a:lnTo>
                    <a:pt x="70" y="73"/>
                  </a:lnTo>
                  <a:lnTo>
                    <a:pt x="74" y="59"/>
                  </a:lnTo>
                  <a:lnTo>
                    <a:pt x="76" y="40"/>
                  </a:lnTo>
                  <a:lnTo>
                    <a:pt x="76" y="21"/>
                  </a:lnTo>
                  <a:lnTo>
                    <a:pt x="79" y="3"/>
                  </a:lnTo>
                  <a:lnTo>
                    <a:pt x="69" y="0"/>
                  </a:lnTo>
                  <a:lnTo>
                    <a:pt x="67" y="21"/>
                  </a:lnTo>
                  <a:lnTo>
                    <a:pt x="67" y="40"/>
                  </a:lnTo>
                  <a:lnTo>
                    <a:pt x="64" y="56"/>
                  </a:lnTo>
                  <a:lnTo>
                    <a:pt x="61" y="70"/>
                  </a:lnTo>
                  <a:lnTo>
                    <a:pt x="55" y="81"/>
                  </a:lnTo>
                  <a:lnTo>
                    <a:pt x="43" y="87"/>
                  </a:lnTo>
                  <a:lnTo>
                    <a:pt x="27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964880" y="5225040"/>
              <a:ext cx="16200" cy="3096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9" y="0"/>
                  </a:moveTo>
                  <a:lnTo>
                    <a:pt x="9" y="0"/>
                  </a:lnTo>
                  <a:lnTo>
                    <a:pt x="6" y="20"/>
                  </a:lnTo>
                  <a:lnTo>
                    <a:pt x="2" y="39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5" y="86"/>
                  </a:lnTo>
                  <a:lnTo>
                    <a:pt x="18" y="98"/>
                  </a:lnTo>
                  <a:lnTo>
                    <a:pt x="36" y="106"/>
                  </a:lnTo>
                  <a:lnTo>
                    <a:pt x="63" y="112"/>
                  </a:lnTo>
                  <a:lnTo>
                    <a:pt x="63" y="105"/>
                  </a:lnTo>
                  <a:lnTo>
                    <a:pt x="39" y="99"/>
                  </a:lnTo>
                  <a:lnTo>
                    <a:pt x="22" y="91"/>
                  </a:lnTo>
                  <a:lnTo>
                    <a:pt x="14" y="82"/>
                  </a:lnTo>
                  <a:lnTo>
                    <a:pt x="9" y="71"/>
                  </a:lnTo>
                  <a:lnTo>
                    <a:pt x="9" y="56"/>
                  </a:lnTo>
                  <a:lnTo>
                    <a:pt x="12" y="41"/>
                  </a:lnTo>
                  <a:lnTo>
                    <a:pt x="15" y="2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967400" y="5200200"/>
              <a:ext cx="21600" cy="259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0"/>
                  </a:moveTo>
                  <a:lnTo>
                    <a:pt x="80" y="0"/>
                  </a:lnTo>
                  <a:lnTo>
                    <a:pt x="66" y="0"/>
                  </a:lnTo>
                  <a:lnTo>
                    <a:pt x="53" y="4"/>
                  </a:lnTo>
                  <a:lnTo>
                    <a:pt x="40" y="11"/>
                  </a:lnTo>
                  <a:lnTo>
                    <a:pt x="28" y="24"/>
                  </a:lnTo>
                  <a:lnTo>
                    <a:pt x="18" y="37"/>
                  </a:lnTo>
                  <a:lnTo>
                    <a:pt x="10" y="55"/>
                  </a:lnTo>
                  <a:lnTo>
                    <a:pt x="4" y="72"/>
                  </a:lnTo>
                  <a:lnTo>
                    <a:pt x="0" y="92"/>
                  </a:lnTo>
                  <a:lnTo>
                    <a:pt x="10" y="94"/>
                  </a:lnTo>
                  <a:lnTo>
                    <a:pt x="13" y="74"/>
                  </a:lnTo>
                  <a:lnTo>
                    <a:pt x="19" y="57"/>
                  </a:lnTo>
                  <a:lnTo>
                    <a:pt x="27" y="42"/>
                  </a:lnTo>
                  <a:lnTo>
                    <a:pt x="35" y="29"/>
                  </a:lnTo>
                  <a:lnTo>
                    <a:pt x="47" y="18"/>
                  </a:lnTo>
                  <a:lnTo>
                    <a:pt x="58" y="11"/>
                  </a:lnTo>
                  <a:lnTo>
                    <a:pt x="68" y="7"/>
                  </a:lnTo>
                  <a:lnTo>
                    <a:pt x="80" y="7"/>
                  </a:lnTo>
                  <a:lnTo>
                    <a:pt x="80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029680" y="5189400"/>
              <a:ext cx="44640" cy="69120"/>
            </a:xfrm>
            <a:custGeom>
              <a:avLst/>
              <a:gdLst/>
              <a:ahLst/>
              <a:rect l="l" t="t" r="r" b="b"/>
              <a:pathLst>
                <a:path w="166" h="256">
                  <a:moveTo>
                    <a:pt x="83" y="0"/>
                  </a:moveTo>
                  <a:lnTo>
                    <a:pt x="99" y="2"/>
                  </a:lnTo>
                  <a:lnTo>
                    <a:pt x="113" y="10"/>
                  </a:lnTo>
                  <a:lnTo>
                    <a:pt x="127" y="22"/>
                  </a:lnTo>
                  <a:lnTo>
                    <a:pt x="139" y="37"/>
                  </a:lnTo>
                  <a:lnTo>
                    <a:pt x="148" y="56"/>
                  </a:lnTo>
                  <a:lnTo>
                    <a:pt x="157" y="78"/>
                  </a:lnTo>
                  <a:lnTo>
                    <a:pt x="161" y="103"/>
                  </a:lnTo>
                  <a:lnTo>
                    <a:pt x="162" y="128"/>
                  </a:lnTo>
                  <a:lnTo>
                    <a:pt x="164" y="154"/>
                  </a:lnTo>
                  <a:lnTo>
                    <a:pt x="165" y="179"/>
                  </a:lnTo>
                  <a:lnTo>
                    <a:pt x="166" y="200"/>
                  </a:lnTo>
                  <a:lnTo>
                    <a:pt x="164" y="218"/>
                  </a:lnTo>
                  <a:lnTo>
                    <a:pt x="155" y="235"/>
                  </a:lnTo>
                  <a:lnTo>
                    <a:pt x="140" y="246"/>
                  </a:lnTo>
                  <a:lnTo>
                    <a:pt x="117" y="253"/>
                  </a:lnTo>
                  <a:lnTo>
                    <a:pt x="83" y="256"/>
                  </a:lnTo>
                  <a:lnTo>
                    <a:pt x="49" y="253"/>
                  </a:lnTo>
                  <a:lnTo>
                    <a:pt x="26" y="246"/>
                  </a:lnTo>
                  <a:lnTo>
                    <a:pt x="10" y="235"/>
                  </a:lnTo>
                  <a:lnTo>
                    <a:pt x="3" y="218"/>
                  </a:lnTo>
                  <a:lnTo>
                    <a:pt x="0" y="200"/>
                  </a:lnTo>
                  <a:lnTo>
                    <a:pt x="1" y="179"/>
                  </a:lnTo>
                  <a:lnTo>
                    <a:pt x="2" y="154"/>
                  </a:lnTo>
                  <a:lnTo>
                    <a:pt x="3" y="128"/>
                  </a:lnTo>
                  <a:lnTo>
                    <a:pt x="5" y="103"/>
                  </a:lnTo>
                  <a:lnTo>
                    <a:pt x="9" y="78"/>
                  </a:lnTo>
                  <a:lnTo>
                    <a:pt x="17" y="56"/>
                  </a:lnTo>
                  <a:lnTo>
                    <a:pt x="27" y="37"/>
                  </a:lnTo>
                  <a:lnTo>
                    <a:pt x="38" y="22"/>
                  </a:lnTo>
                  <a:lnTo>
                    <a:pt x="53" y="10"/>
                  </a:lnTo>
                  <a:lnTo>
                    <a:pt x="67" y="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e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052720" y="5186880"/>
              <a:ext cx="22680" cy="36720"/>
            </a:xfrm>
            <a:custGeom>
              <a:avLst/>
              <a:gdLst/>
              <a:ahLst/>
              <a:rect l="l" t="t" r="r" b="b"/>
              <a:pathLst>
                <a:path w="86" h="134">
                  <a:moveTo>
                    <a:pt x="86" y="134"/>
                  </a:moveTo>
                  <a:lnTo>
                    <a:pt x="86" y="134"/>
                  </a:lnTo>
                  <a:lnTo>
                    <a:pt x="85" y="109"/>
                  </a:lnTo>
                  <a:lnTo>
                    <a:pt x="79" y="83"/>
                  </a:lnTo>
                  <a:lnTo>
                    <a:pt x="71" y="59"/>
                  </a:lnTo>
                  <a:lnTo>
                    <a:pt x="62" y="41"/>
                  </a:lnTo>
                  <a:lnTo>
                    <a:pt x="49" y="24"/>
                  </a:lnTo>
                  <a:lnTo>
                    <a:pt x="35" y="11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4" y="13"/>
                  </a:lnTo>
                  <a:lnTo>
                    <a:pt x="26" y="21"/>
                  </a:lnTo>
                  <a:lnTo>
                    <a:pt x="40" y="31"/>
                  </a:lnTo>
                  <a:lnTo>
                    <a:pt x="50" y="45"/>
                  </a:lnTo>
                  <a:lnTo>
                    <a:pt x="60" y="64"/>
                  </a:lnTo>
                  <a:lnTo>
                    <a:pt x="68" y="85"/>
                  </a:lnTo>
                  <a:lnTo>
                    <a:pt x="71" y="109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86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052720" y="5223600"/>
              <a:ext cx="24120" cy="3672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0" y="134"/>
                  </a:moveTo>
                  <a:lnTo>
                    <a:pt x="0" y="134"/>
                  </a:lnTo>
                  <a:lnTo>
                    <a:pt x="35" y="131"/>
                  </a:lnTo>
                  <a:lnTo>
                    <a:pt x="61" y="123"/>
                  </a:lnTo>
                  <a:lnTo>
                    <a:pt x="78" y="110"/>
                  </a:lnTo>
                  <a:lnTo>
                    <a:pt x="86" y="91"/>
                  </a:lnTo>
                  <a:lnTo>
                    <a:pt x="90" y="72"/>
                  </a:lnTo>
                  <a:lnTo>
                    <a:pt x="89" y="51"/>
                  </a:lnTo>
                  <a:lnTo>
                    <a:pt x="88" y="26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74" y="26"/>
                  </a:lnTo>
                  <a:lnTo>
                    <a:pt x="75" y="51"/>
                  </a:lnTo>
                  <a:lnTo>
                    <a:pt x="76" y="72"/>
                  </a:lnTo>
                  <a:lnTo>
                    <a:pt x="75" y="89"/>
                  </a:lnTo>
                  <a:lnTo>
                    <a:pt x="67" y="103"/>
                  </a:lnTo>
                  <a:lnTo>
                    <a:pt x="54" y="114"/>
                  </a:lnTo>
                  <a:lnTo>
                    <a:pt x="33" y="12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028600" y="5223600"/>
              <a:ext cx="24120" cy="3672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3" y="0"/>
                  </a:moveTo>
                  <a:lnTo>
                    <a:pt x="3" y="0"/>
                  </a:lnTo>
                  <a:lnTo>
                    <a:pt x="2" y="26"/>
                  </a:lnTo>
                  <a:lnTo>
                    <a:pt x="1" y="51"/>
                  </a:lnTo>
                  <a:lnTo>
                    <a:pt x="0" y="72"/>
                  </a:lnTo>
                  <a:lnTo>
                    <a:pt x="5" y="91"/>
                  </a:lnTo>
                  <a:lnTo>
                    <a:pt x="12" y="110"/>
                  </a:lnTo>
                  <a:lnTo>
                    <a:pt x="29" y="123"/>
                  </a:lnTo>
                  <a:lnTo>
                    <a:pt x="55" y="131"/>
                  </a:lnTo>
                  <a:lnTo>
                    <a:pt x="90" y="134"/>
                  </a:lnTo>
                  <a:lnTo>
                    <a:pt x="90" y="122"/>
                  </a:lnTo>
                  <a:lnTo>
                    <a:pt x="57" y="120"/>
                  </a:lnTo>
                  <a:lnTo>
                    <a:pt x="36" y="114"/>
                  </a:lnTo>
                  <a:lnTo>
                    <a:pt x="23" y="103"/>
                  </a:lnTo>
                  <a:lnTo>
                    <a:pt x="16" y="89"/>
                  </a:lnTo>
                  <a:lnTo>
                    <a:pt x="14" y="72"/>
                  </a:lnTo>
                  <a:lnTo>
                    <a:pt x="15" y="51"/>
                  </a:lnTo>
                  <a:lnTo>
                    <a:pt x="16" y="2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028600" y="5186880"/>
              <a:ext cx="24120" cy="36720"/>
            </a:xfrm>
            <a:custGeom>
              <a:avLst/>
              <a:gdLst/>
              <a:ahLst/>
              <a:rect l="l" t="t" r="r" b="b"/>
              <a:pathLst>
                <a:path w="87" h="134">
                  <a:moveTo>
                    <a:pt x="87" y="0"/>
                  </a:moveTo>
                  <a:lnTo>
                    <a:pt x="87" y="0"/>
                  </a:lnTo>
                  <a:lnTo>
                    <a:pt x="68" y="3"/>
                  </a:lnTo>
                  <a:lnTo>
                    <a:pt x="52" y="11"/>
                  </a:lnTo>
                  <a:lnTo>
                    <a:pt x="38" y="24"/>
                  </a:lnTo>
                  <a:lnTo>
                    <a:pt x="25" y="41"/>
                  </a:lnTo>
                  <a:lnTo>
                    <a:pt x="16" y="59"/>
                  </a:lnTo>
                  <a:lnTo>
                    <a:pt x="7" y="83"/>
                  </a:lnTo>
                  <a:lnTo>
                    <a:pt x="2" y="109"/>
                  </a:lnTo>
                  <a:lnTo>
                    <a:pt x="0" y="134"/>
                  </a:lnTo>
                  <a:lnTo>
                    <a:pt x="14" y="134"/>
                  </a:lnTo>
                  <a:lnTo>
                    <a:pt x="16" y="109"/>
                  </a:lnTo>
                  <a:lnTo>
                    <a:pt x="19" y="85"/>
                  </a:lnTo>
                  <a:lnTo>
                    <a:pt x="27" y="64"/>
                  </a:lnTo>
                  <a:lnTo>
                    <a:pt x="37" y="45"/>
                  </a:lnTo>
                  <a:lnTo>
                    <a:pt x="47" y="31"/>
                  </a:lnTo>
                  <a:lnTo>
                    <a:pt x="61" y="21"/>
                  </a:lnTo>
                  <a:lnTo>
                    <a:pt x="73" y="13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175840" y="5204520"/>
              <a:ext cx="35280" cy="5292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53" y="0"/>
                  </a:moveTo>
                  <a:lnTo>
                    <a:pt x="41" y="3"/>
                  </a:lnTo>
                  <a:lnTo>
                    <a:pt x="29" y="10"/>
                  </a:lnTo>
                  <a:lnTo>
                    <a:pt x="20" y="19"/>
                  </a:lnTo>
                  <a:lnTo>
                    <a:pt x="12" y="32"/>
                  </a:lnTo>
                  <a:lnTo>
                    <a:pt x="6" y="49"/>
                  </a:lnTo>
                  <a:lnTo>
                    <a:pt x="1" y="66"/>
                  </a:lnTo>
                  <a:lnTo>
                    <a:pt x="0" y="85"/>
                  </a:lnTo>
                  <a:lnTo>
                    <a:pt x="0" y="105"/>
                  </a:lnTo>
                  <a:lnTo>
                    <a:pt x="1" y="125"/>
                  </a:lnTo>
                  <a:lnTo>
                    <a:pt x="2" y="143"/>
                  </a:lnTo>
                  <a:lnTo>
                    <a:pt x="3" y="160"/>
                  </a:lnTo>
                  <a:lnTo>
                    <a:pt x="7" y="175"/>
                  </a:lnTo>
                  <a:lnTo>
                    <a:pt x="14" y="186"/>
                  </a:lnTo>
                  <a:lnTo>
                    <a:pt x="26" y="194"/>
                  </a:lnTo>
                  <a:lnTo>
                    <a:pt x="44" y="198"/>
                  </a:lnTo>
                  <a:lnTo>
                    <a:pt x="71" y="197"/>
                  </a:lnTo>
                  <a:lnTo>
                    <a:pt x="98" y="193"/>
                  </a:lnTo>
                  <a:lnTo>
                    <a:pt x="116" y="186"/>
                  </a:lnTo>
                  <a:lnTo>
                    <a:pt x="126" y="175"/>
                  </a:lnTo>
                  <a:lnTo>
                    <a:pt x="131" y="162"/>
                  </a:lnTo>
                  <a:lnTo>
                    <a:pt x="132" y="148"/>
                  </a:lnTo>
                  <a:lnTo>
                    <a:pt x="130" y="131"/>
                  </a:lnTo>
                  <a:lnTo>
                    <a:pt x="126" y="113"/>
                  </a:lnTo>
                  <a:lnTo>
                    <a:pt x="124" y="93"/>
                  </a:lnTo>
                  <a:lnTo>
                    <a:pt x="120" y="73"/>
                  </a:lnTo>
                  <a:lnTo>
                    <a:pt x="115" y="55"/>
                  </a:lnTo>
                  <a:lnTo>
                    <a:pt x="108" y="38"/>
                  </a:lnTo>
                  <a:lnTo>
                    <a:pt x="99" y="24"/>
                  </a:lnTo>
                  <a:lnTo>
                    <a:pt x="89" y="14"/>
                  </a:lnTo>
                  <a:lnTo>
                    <a:pt x="77" y="5"/>
                  </a:lnTo>
                  <a:lnTo>
                    <a:pt x="65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e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174760" y="5203080"/>
              <a:ext cx="14400" cy="298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0" y="109"/>
                  </a:moveTo>
                  <a:lnTo>
                    <a:pt x="0" y="109"/>
                  </a:lnTo>
                  <a:lnTo>
                    <a:pt x="0" y="89"/>
                  </a:lnTo>
                  <a:lnTo>
                    <a:pt x="1" y="70"/>
                  </a:lnTo>
                  <a:lnTo>
                    <a:pt x="6" y="52"/>
                  </a:lnTo>
                  <a:lnTo>
                    <a:pt x="12" y="35"/>
                  </a:lnTo>
                  <a:lnTo>
                    <a:pt x="21" y="21"/>
                  </a:lnTo>
                  <a:lnTo>
                    <a:pt x="31" y="11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58" y="7"/>
                  </a:lnTo>
                  <a:lnTo>
                    <a:pt x="48" y="11"/>
                  </a:lnTo>
                  <a:lnTo>
                    <a:pt x="38" y="18"/>
                  </a:lnTo>
                  <a:lnTo>
                    <a:pt x="28" y="26"/>
                  </a:lnTo>
                  <a:lnTo>
                    <a:pt x="21" y="37"/>
                  </a:lnTo>
                  <a:lnTo>
                    <a:pt x="15" y="54"/>
                  </a:lnTo>
                  <a:lnTo>
                    <a:pt x="11" y="70"/>
                  </a:lnTo>
                  <a:lnTo>
                    <a:pt x="10" y="89"/>
                  </a:lnTo>
                  <a:lnTo>
                    <a:pt x="10" y="109"/>
                  </a:lnTo>
                  <a:lnTo>
                    <a:pt x="1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174760" y="5232960"/>
              <a:ext cx="20160" cy="2592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76" y="96"/>
                  </a:moveTo>
                  <a:lnTo>
                    <a:pt x="76" y="96"/>
                  </a:lnTo>
                  <a:lnTo>
                    <a:pt x="48" y="97"/>
                  </a:lnTo>
                  <a:lnTo>
                    <a:pt x="28" y="92"/>
                  </a:lnTo>
                  <a:lnTo>
                    <a:pt x="15" y="83"/>
                  </a:lnTo>
                  <a:lnTo>
                    <a:pt x="7" y="71"/>
                  </a:lnTo>
                  <a:lnTo>
                    <a:pt x="4" y="56"/>
                  </a:lnTo>
                  <a:lnTo>
                    <a:pt x="3" y="38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1" y="20"/>
                  </a:lnTo>
                  <a:lnTo>
                    <a:pt x="12" y="38"/>
                  </a:lnTo>
                  <a:lnTo>
                    <a:pt x="13" y="54"/>
                  </a:lnTo>
                  <a:lnTo>
                    <a:pt x="17" y="69"/>
                  </a:lnTo>
                  <a:lnTo>
                    <a:pt x="22" y="78"/>
                  </a:lnTo>
                  <a:lnTo>
                    <a:pt x="33" y="85"/>
                  </a:lnTo>
                  <a:lnTo>
                    <a:pt x="51" y="90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7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194920" y="5229000"/>
              <a:ext cx="17280" cy="2988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58" y="0"/>
                  </a:moveTo>
                  <a:lnTo>
                    <a:pt x="58" y="0"/>
                  </a:lnTo>
                  <a:lnTo>
                    <a:pt x="60" y="19"/>
                  </a:lnTo>
                  <a:lnTo>
                    <a:pt x="63" y="36"/>
                  </a:lnTo>
                  <a:lnTo>
                    <a:pt x="66" y="55"/>
                  </a:lnTo>
                  <a:lnTo>
                    <a:pt x="65" y="70"/>
                  </a:lnTo>
                  <a:lnTo>
                    <a:pt x="60" y="84"/>
                  </a:lnTo>
                  <a:lnTo>
                    <a:pt x="47" y="96"/>
                  </a:lnTo>
                  <a:lnTo>
                    <a:pt x="28" y="103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6" y="96"/>
                  </a:lnTo>
                  <a:lnTo>
                    <a:pt x="42" y="89"/>
                  </a:lnTo>
                  <a:lnTo>
                    <a:pt x="51" y="80"/>
                  </a:lnTo>
                  <a:lnTo>
                    <a:pt x="55" y="68"/>
                  </a:lnTo>
                  <a:lnTo>
                    <a:pt x="56" y="55"/>
                  </a:lnTo>
                  <a:lnTo>
                    <a:pt x="54" y="39"/>
                  </a:lnTo>
                  <a:lnTo>
                    <a:pt x="51" y="2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189520" y="5203080"/>
              <a:ext cx="21600" cy="2592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0"/>
                  </a:moveTo>
                  <a:lnTo>
                    <a:pt x="0" y="0"/>
                  </a:lnTo>
                  <a:lnTo>
                    <a:pt x="14" y="1"/>
                  </a:lnTo>
                  <a:lnTo>
                    <a:pt x="26" y="6"/>
                  </a:lnTo>
                  <a:lnTo>
                    <a:pt x="39" y="14"/>
                  </a:lnTo>
                  <a:lnTo>
                    <a:pt x="50" y="26"/>
                  </a:lnTo>
                  <a:lnTo>
                    <a:pt x="59" y="41"/>
                  </a:lnTo>
                  <a:lnTo>
                    <a:pt x="66" y="57"/>
                  </a:lnTo>
                  <a:lnTo>
                    <a:pt x="72" y="76"/>
                  </a:lnTo>
                  <a:lnTo>
                    <a:pt x="76" y="97"/>
                  </a:lnTo>
                  <a:lnTo>
                    <a:pt x="66" y="97"/>
                  </a:lnTo>
                  <a:lnTo>
                    <a:pt x="63" y="78"/>
                  </a:lnTo>
                  <a:lnTo>
                    <a:pt x="57" y="60"/>
                  </a:lnTo>
                  <a:lnTo>
                    <a:pt x="50" y="43"/>
                  </a:lnTo>
                  <a:lnTo>
                    <a:pt x="43" y="30"/>
                  </a:lnTo>
                  <a:lnTo>
                    <a:pt x="32" y="21"/>
                  </a:lnTo>
                  <a:lnTo>
                    <a:pt x="22" y="13"/>
                  </a:lnTo>
                  <a:lnTo>
                    <a:pt x="1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105640" y="5192280"/>
              <a:ext cx="44280" cy="70560"/>
            </a:xfrm>
            <a:custGeom>
              <a:avLst/>
              <a:gdLst/>
              <a:ahLst/>
              <a:rect l="l" t="t" r="r" b="b"/>
              <a:pathLst>
                <a:path w="166" h="256">
                  <a:moveTo>
                    <a:pt x="83" y="0"/>
                  </a:moveTo>
                  <a:lnTo>
                    <a:pt x="67" y="2"/>
                  </a:lnTo>
                  <a:lnTo>
                    <a:pt x="53" y="10"/>
                  </a:lnTo>
                  <a:lnTo>
                    <a:pt x="39" y="22"/>
                  </a:lnTo>
                  <a:lnTo>
                    <a:pt x="27" y="37"/>
                  </a:lnTo>
                  <a:lnTo>
                    <a:pt x="18" y="56"/>
                  </a:lnTo>
                  <a:lnTo>
                    <a:pt x="10" y="78"/>
                  </a:lnTo>
                  <a:lnTo>
                    <a:pt x="5" y="103"/>
                  </a:lnTo>
                  <a:lnTo>
                    <a:pt x="4" y="128"/>
                  </a:lnTo>
                  <a:lnTo>
                    <a:pt x="3" y="154"/>
                  </a:lnTo>
                  <a:lnTo>
                    <a:pt x="1" y="179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11" y="235"/>
                  </a:lnTo>
                  <a:lnTo>
                    <a:pt x="26" y="246"/>
                  </a:lnTo>
                  <a:lnTo>
                    <a:pt x="49" y="253"/>
                  </a:lnTo>
                  <a:lnTo>
                    <a:pt x="83" y="256"/>
                  </a:lnTo>
                  <a:lnTo>
                    <a:pt x="117" y="253"/>
                  </a:lnTo>
                  <a:lnTo>
                    <a:pt x="141" y="246"/>
                  </a:lnTo>
                  <a:lnTo>
                    <a:pt x="156" y="235"/>
                  </a:lnTo>
                  <a:lnTo>
                    <a:pt x="164" y="218"/>
                  </a:lnTo>
                  <a:lnTo>
                    <a:pt x="166" y="200"/>
                  </a:lnTo>
                  <a:lnTo>
                    <a:pt x="165" y="179"/>
                  </a:lnTo>
                  <a:lnTo>
                    <a:pt x="164" y="154"/>
                  </a:lnTo>
                  <a:lnTo>
                    <a:pt x="163" y="128"/>
                  </a:lnTo>
                  <a:lnTo>
                    <a:pt x="162" y="103"/>
                  </a:lnTo>
                  <a:lnTo>
                    <a:pt x="157" y="78"/>
                  </a:lnTo>
                  <a:lnTo>
                    <a:pt x="149" y="56"/>
                  </a:lnTo>
                  <a:lnTo>
                    <a:pt x="139" y="37"/>
                  </a:lnTo>
                  <a:lnTo>
                    <a:pt x="128" y="22"/>
                  </a:lnTo>
                  <a:lnTo>
                    <a:pt x="114" y="10"/>
                  </a:lnTo>
                  <a:lnTo>
                    <a:pt x="100" y="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ee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104560" y="5191200"/>
              <a:ext cx="22680" cy="36720"/>
            </a:xfrm>
            <a:custGeom>
              <a:avLst/>
              <a:gdLst/>
              <a:ahLst/>
              <a:rect l="l" t="t" r="r" b="b"/>
              <a:pathLst>
                <a:path w="86" h="134">
                  <a:moveTo>
                    <a:pt x="0" y="134"/>
                  </a:moveTo>
                  <a:lnTo>
                    <a:pt x="0" y="134"/>
                  </a:lnTo>
                  <a:lnTo>
                    <a:pt x="1" y="109"/>
                  </a:lnTo>
                  <a:lnTo>
                    <a:pt x="7" y="83"/>
                  </a:lnTo>
                  <a:lnTo>
                    <a:pt x="15" y="59"/>
                  </a:lnTo>
                  <a:lnTo>
                    <a:pt x="24" y="41"/>
                  </a:lnTo>
                  <a:lnTo>
                    <a:pt x="37" y="24"/>
                  </a:lnTo>
                  <a:lnTo>
                    <a:pt x="51" y="11"/>
                  </a:lnTo>
                  <a:lnTo>
                    <a:pt x="68" y="3"/>
                  </a:lnTo>
                  <a:lnTo>
                    <a:pt x="86" y="0"/>
                  </a:lnTo>
                  <a:lnTo>
                    <a:pt x="86" y="11"/>
                  </a:lnTo>
                  <a:lnTo>
                    <a:pt x="72" y="13"/>
                  </a:lnTo>
                  <a:lnTo>
                    <a:pt x="60" y="21"/>
                  </a:lnTo>
                  <a:lnTo>
                    <a:pt x="46" y="31"/>
                  </a:lnTo>
                  <a:lnTo>
                    <a:pt x="36" y="45"/>
                  </a:lnTo>
                  <a:lnTo>
                    <a:pt x="27" y="64"/>
                  </a:lnTo>
                  <a:lnTo>
                    <a:pt x="18" y="85"/>
                  </a:lnTo>
                  <a:lnTo>
                    <a:pt x="15" y="109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102760" y="5227920"/>
              <a:ext cx="24480" cy="3672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90" y="134"/>
                  </a:moveTo>
                  <a:lnTo>
                    <a:pt x="90" y="134"/>
                  </a:lnTo>
                  <a:lnTo>
                    <a:pt x="55" y="131"/>
                  </a:lnTo>
                  <a:lnTo>
                    <a:pt x="29" y="123"/>
                  </a:lnTo>
                  <a:lnTo>
                    <a:pt x="12" y="110"/>
                  </a:lnTo>
                  <a:lnTo>
                    <a:pt x="5" y="92"/>
                  </a:lnTo>
                  <a:lnTo>
                    <a:pt x="0" y="72"/>
                  </a:lnTo>
                  <a:lnTo>
                    <a:pt x="1" y="51"/>
                  </a:lnTo>
                  <a:lnTo>
                    <a:pt x="3" y="26"/>
                  </a:lnTo>
                  <a:lnTo>
                    <a:pt x="4" y="0"/>
                  </a:lnTo>
                  <a:lnTo>
                    <a:pt x="18" y="0"/>
                  </a:lnTo>
                  <a:lnTo>
                    <a:pt x="17" y="26"/>
                  </a:lnTo>
                  <a:lnTo>
                    <a:pt x="15" y="51"/>
                  </a:lnTo>
                  <a:lnTo>
                    <a:pt x="14" y="72"/>
                  </a:lnTo>
                  <a:lnTo>
                    <a:pt x="17" y="89"/>
                  </a:lnTo>
                  <a:lnTo>
                    <a:pt x="24" y="103"/>
                  </a:lnTo>
                  <a:lnTo>
                    <a:pt x="36" y="114"/>
                  </a:lnTo>
                  <a:lnTo>
                    <a:pt x="57" y="120"/>
                  </a:lnTo>
                  <a:lnTo>
                    <a:pt x="90" y="122"/>
                  </a:lnTo>
                  <a:lnTo>
                    <a:pt x="90" y="122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127240" y="5227920"/>
              <a:ext cx="24120" cy="3672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87" y="0"/>
                  </a:moveTo>
                  <a:lnTo>
                    <a:pt x="87" y="0"/>
                  </a:lnTo>
                  <a:lnTo>
                    <a:pt x="88" y="26"/>
                  </a:lnTo>
                  <a:lnTo>
                    <a:pt x="89" y="51"/>
                  </a:lnTo>
                  <a:lnTo>
                    <a:pt x="90" y="72"/>
                  </a:lnTo>
                  <a:lnTo>
                    <a:pt x="87" y="92"/>
                  </a:lnTo>
                  <a:lnTo>
                    <a:pt x="79" y="110"/>
                  </a:lnTo>
                  <a:lnTo>
                    <a:pt x="61" y="123"/>
                  </a:lnTo>
                  <a:lnTo>
                    <a:pt x="35" y="131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33" y="120"/>
                  </a:lnTo>
                  <a:lnTo>
                    <a:pt x="54" y="114"/>
                  </a:lnTo>
                  <a:lnTo>
                    <a:pt x="67" y="103"/>
                  </a:lnTo>
                  <a:lnTo>
                    <a:pt x="75" y="89"/>
                  </a:lnTo>
                  <a:lnTo>
                    <a:pt x="76" y="72"/>
                  </a:lnTo>
                  <a:lnTo>
                    <a:pt x="75" y="51"/>
                  </a:lnTo>
                  <a:lnTo>
                    <a:pt x="74" y="26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127240" y="5191200"/>
              <a:ext cx="24120" cy="36720"/>
            </a:xfrm>
            <a:custGeom>
              <a:avLst/>
              <a:gdLst/>
              <a:ahLst/>
              <a:rect l="l" t="t" r="r" b="b"/>
              <a:pathLst>
                <a:path w="87" h="134">
                  <a:moveTo>
                    <a:pt x="0" y="0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35" y="11"/>
                  </a:lnTo>
                  <a:lnTo>
                    <a:pt x="49" y="24"/>
                  </a:lnTo>
                  <a:lnTo>
                    <a:pt x="62" y="41"/>
                  </a:lnTo>
                  <a:lnTo>
                    <a:pt x="72" y="59"/>
                  </a:lnTo>
                  <a:lnTo>
                    <a:pt x="80" y="83"/>
                  </a:lnTo>
                  <a:lnTo>
                    <a:pt x="86" y="109"/>
                  </a:lnTo>
                  <a:lnTo>
                    <a:pt x="87" y="134"/>
                  </a:lnTo>
                  <a:lnTo>
                    <a:pt x="73" y="134"/>
                  </a:lnTo>
                  <a:lnTo>
                    <a:pt x="72" y="109"/>
                  </a:lnTo>
                  <a:lnTo>
                    <a:pt x="68" y="85"/>
                  </a:lnTo>
                  <a:lnTo>
                    <a:pt x="60" y="64"/>
                  </a:lnTo>
                  <a:lnTo>
                    <a:pt x="51" y="45"/>
                  </a:lnTo>
                  <a:lnTo>
                    <a:pt x="40" y="31"/>
                  </a:lnTo>
                  <a:lnTo>
                    <a:pt x="26" y="21"/>
                  </a:lnTo>
                  <a:lnTo>
                    <a:pt x="1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1990080" y="5144760"/>
              <a:ext cx="54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050200" y="5139360"/>
              <a:ext cx="1440" cy="5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129760" y="5139360"/>
              <a:ext cx="144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177280" y="5140440"/>
              <a:ext cx="11880" cy="6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923120" y="4687200"/>
              <a:ext cx="342000" cy="63720"/>
            </a:xfrm>
            <a:custGeom>
              <a:avLst/>
              <a:gdLst/>
              <a:ahLst/>
              <a:rect l="l" t="t" r="r" b="b"/>
              <a:pathLst>
                <a:path w="1264" h="234">
                  <a:moveTo>
                    <a:pt x="631" y="0"/>
                  </a:moveTo>
                  <a:lnTo>
                    <a:pt x="696" y="2"/>
                  </a:lnTo>
                  <a:lnTo>
                    <a:pt x="759" y="3"/>
                  </a:lnTo>
                  <a:lnTo>
                    <a:pt x="820" y="6"/>
                  </a:lnTo>
                  <a:lnTo>
                    <a:pt x="877" y="10"/>
                  </a:lnTo>
                  <a:lnTo>
                    <a:pt x="933" y="14"/>
                  </a:lnTo>
                  <a:lnTo>
                    <a:pt x="984" y="20"/>
                  </a:lnTo>
                  <a:lnTo>
                    <a:pt x="1034" y="27"/>
                  </a:lnTo>
                  <a:lnTo>
                    <a:pt x="1078" y="34"/>
                  </a:lnTo>
                  <a:lnTo>
                    <a:pt x="1119" y="43"/>
                  </a:lnTo>
                  <a:lnTo>
                    <a:pt x="1155" y="52"/>
                  </a:lnTo>
                  <a:lnTo>
                    <a:pt x="1188" y="61"/>
                  </a:lnTo>
                  <a:lnTo>
                    <a:pt x="1214" y="72"/>
                  </a:lnTo>
                  <a:lnTo>
                    <a:pt x="1236" y="82"/>
                  </a:lnTo>
                  <a:lnTo>
                    <a:pt x="1251" y="94"/>
                  </a:lnTo>
                  <a:lnTo>
                    <a:pt x="1260" y="106"/>
                  </a:lnTo>
                  <a:lnTo>
                    <a:pt x="1264" y="117"/>
                  </a:lnTo>
                  <a:lnTo>
                    <a:pt x="1260" y="129"/>
                  </a:lnTo>
                  <a:lnTo>
                    <a:pt x="1251" y="141"/>
                  </a:lnTo>
                  <a:lnTo>
                    <a:pt x="1236" y="152"/>
                  </a:lnTo>
                  <a:lnTo>
                    <a:pt x="1214" y="163"/>
                  </a:lnTo>
                  <a:lnTo>
                    <a:pt x="1188" y="174"/>
                  </a:lnTo>
                  <a:lnTo>
                    <a:pt x="1155" y="183"/>
                  </a:lnTo>
                  <a:lnTo>
                    <a:pt x="1119" y="192"/>
                  </a:lnTo>
                  <a:lnTo>
                    <a:pt x="1078" y="200"/>
                  </a:lnTo>
                  <a:lnTo>
                    <a:pt x="1034" y="207"/>
                  </a:lnTo>
                  <a:lnTo>
                    <a:pt x="984" y="214"/>
                  </a:lnTo>
                  <a:lnTo>
                    <a:pt x="933" y="220"/>
                  </a:lnTo>
                  <a:lnTo>
                    <a:pt x="877" y="225"/>
                  </a:lnTo>
                  <a:lnTo>
                    <a:pt x="820" y="228"/>
                  </a:lnTo>
                  <a:lnTo>
                    <a:pt x="759" y="232"/>
                  </a:lnTo>
                  <a:lnTo>
                    <a:pt x="696" y="233"/>
                  </a:lnTo>
                  <a:lnTo>
                    <a:pt x="631" y="234"/>
                  </a:lnTo>
                  <a:lnTo>
                    <a:pt x="567" y="233"/>
                  </a:lnTo>
                  <a:lnTo>
                    <a:pt x="504" y="232"/>
                  </a:lnTo>
                  <a:lnTo>
                    <a:pt x="444" y="228"/>
                  </a:lnTo>
                  <a:lnTo>
                    <a:pt x="386" y="225"/>
                  </a:lnTo>
                  <a:lnTo>
                    <a:pt x="331" y="220"/>
                  </a:lnTo>
                  <a:lnTo>
                    <a:pt x="278" y="214"/>
                  </a:lnTo>
                  <a:lnTo>
                    <a:pt x="230" y="207"/>
                  </a:lnTo>
                  <a:lnTo>
                    <a:pt x="185" y="200"/>
                  </a:lnTo>
                  <a:lnTo>
                    <a:pt x="144" y="192"/>
                  </a:lnTo>
                  <a:lnTo>
                    <a:pt x="107" y="183"/>
                  </a:lnTo>
                  <a:lnTo>
                    <a:pt x="76" y="174"/>
                  </a:lnTo>
                  <a:lnTo>
                    <a:pt x="49" y="163"/>
                  </a:lnTo>
                  <a:lnTo>
                    <a:pt x="28" y="152"/>
                  </a:lnTo>
                  <a:lnTo>
                    <a:pt x="13" y="141"/>
                  </a:lnTo>
                  <a:lnTo>
                    <a:pt x="3" y="129"/>
                  </a:lnTo>
                  <a:lnTo>
                    <a:pt x="0" y="117"/>
                  </a:lnTo>
                  <a:lnTo>
                    <a:pt x="3" y="106"/>
                  </a:lnTo>
                  <a:lnTo>
                    <a:pt x="13" y="94"/>
                  </a:lnTo>
                  <a:lnTo>
                    <a:pt x="28" y="82"/>
                  </a:lnTo>
                  <a:lnTo>
                    <a:pt x="49" y="72"/>
                  </a:lnTo>
                  <a:lnTo>
                    <a:pt x="76" y="61"/>
                  </a:lnTo>
                  <a:lnTo>
                    <a:pt x="107" y="52"/>
                  </a:lnTo>
                  <a:lnTo>
                    <a:pt x="144" y="43"/>
                  </a:lnTo>
                  <a:lnTo>
                    <a:pt x="185" y="34"/>
                  </a:lnTo>
                  <a:lnTo>
                    <a:pt x="230" y="27"/>
                  </a:lnTo>
                  <a:lnTo>
                    <a:pt x="278" y="20"/>
                  </a:lnTo>
                  <a:lnTo>
                    <a:pt x="331" y="14"/>
                  </a:lnTo>
                  <a:lnTo>
                    <a:pt x="386" y="10"/>
                  </a:lnTo>
                  <a:lnTo>
                    <a:pt x="444" y="6"/>
                  </a:lnTo>
                  <a:lnTo>
                    <a:pt x="504" y="3"/>
                  </a:lnTo>
                  <a:lnTo>
                    <a:pt x="567" y="2"/>
                  </a:lnTo>
                  <a:lnTo>
                    <a:pt x="6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4" name=""/>
          <p:cNvSpPr/>
          <p:nvPr/>
        </p:nvSpPr>
        <p:spPr>
          <a:xfrm>
            <a:off x="4876920" y="838080"/>
            <a:ext cx="293184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5" name="DOLPHIN" descr=""/>
          <p:cNvPicPr/>
          <p:nvPr/>
        </p:nvPicPr>
        <p:blipFill>
          <a:blip r:embed="rId1"/>
          <a:stretch/>
        </p:blipFill>
        <p:spPr>
          <a:xfrm>
            <a:off x="5029200" y="3166920"/>
            <a:ext cx="3586320" cy="1285920"/>
          </a:xfrm>
          <a:prstGeom prst="rect">
            <a:avLst/>
          </a:prstGeom>
          <a:ln w="0">
            <a:noFill/>
          </a:ln>
        </p:spPr>
      </p:pic>
      <p:sp>
        <p:nvSpPr>
          <p:cNvPr id="4116" name=""/>
          <p:cNvSpPr/>
          <p:nvPr/>
        </p:nvSpPr>
        <p:spPr>
          <a:xfrm>
            <a:off x="190692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701208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8" name=""/>
          <p:cNvGrpSpPr/>
          <p:nvPr/>
        </p:nvGrpSpPr>
        <p:grpSpPr>
          <a:xfrm>
            <a:off x="5996880" y="2984760"/>
            <a:ext cx="2267280" cy="1649880"/>
            <a:chOff x="5996880" y="2984760"/>
            <a:chExt cx="2267280" cy="1649880"/>
          </a:xfrm>
        </p:grpSpPr>
        <p:sp>
          <p:nvSpPr>
            <p:cNvPr id="4119" name=""/>
            <p:cNvSpPr/>
            <p:nvPr/>
          </p:nvSpPr>
          <p:spPr>
            <a:xfrm flipH="1" flipV="1" rot="20995800">
              <a:off x="6095160" y="3156120"/>
              <a:ext cx="2070360" cy="1307880"/>
            </a:xfrm>
            <a:custGeom>
              <a:avLst/>
              <a:gdLst/>
              <a:ahLst/>
              <a:rect l="l" t="t" r="r" b="b"/>
              <a:pathLst>
                <a:path w="3487" h="2452">
                  <a:moveTo>
                    <a:pt x="1325" y="93"/>
                  </a:moveTo>
                  <a:lnTo>
                    <a:pt x="1337" y="87"/>
                  </a:lnTo>
                  <a:lnTo>
                    <a:pt x="1350" y="84"/>
                  </a:lnTo>
                  <a:lnTo>
                    <a:pt x="1363" y="80"/>
                  </a:lnTo>
                  <a:lnTo>
                    <a:pt x="1377" y="76"/>
                  </a:lnTo>
                  <a:lnTo>
                    <a:pt x="1390" y="72"/>
                  </a:lnTo>
                  <a:lnTo>
                    <a:pt x="1403" y="68"/>
                  </a:lnTo>
                  <a:lnTo>
                    <a:pt x="1417" y="65"/>
                  </a:lnTo>
                  <a:lnTo>
                    <a:pt x="1430" y="63"/>
                  </a:lnTo>
                  <a:lnTo>
                    <a:pt x="1441" y="59"/>
                  </a:lnTo>
                  <a:lnTo>
                    <a:pt x="1455" y="55"/>
                  </a:lnTo>
                  <a:lnTo>
                    <a:pt x="1468" y="53"/>
                  </a:lnTo>
                  <a:lnTo>
                    <a:pt x="1481" y="51"/>
                  </a:lnTo>
                  <a:lnTo>
                    <a:pt x="1493" y="48"/>
                  </a:lnTo>
                  <a:lnTo>
                    <a:pt x="1506" y="46"/>
                  </a:lnTo>
                  <a:lnTo>
                    <a:pt x="1519" y="42"/>
                  </a:lnTo>
                  <a:lnTo>
                    <a:pt x="1533" y="42"/>
                  </a:lnTo>
                  <a:lnTo>
                    <a:pt x="1544" y="38"/>
                  </a:lnTo>
                  <a:lnTo>
                    <a:pt x="1557" y="36"/>
                  </a:lnTo>
                  <a:lnTo>
                    <a:pt x="1569" y="34"/>
                  </a:lnTo>
                  <a:lnTo>
                    <a:pt x="1582" y="32"/>
                  </a:lnTo>
                  <a:lnTo>
                    <a:pt x="1595" y="30"/>
                  </a:lnTo>
                  <a:lnTo>
                    <a:pt x="1609" y="29"/>
                  </a:lnTo>
                  <a:lnTo>
                    <a:pt x="1620" y="27"/>
                  </a:lnTo>
                  <a:lnTo>
                    <a:pt x="1635" y="27"/>
                  </a:lnTo>
                  <a:lnTo>
                    <a:pt x="1649" y="25"/>
                  </a:lnTo>
                  <a:lnTo>
                    <a:pt x="1662" y="23"/>
                  </a:lnTo>
                  <a:lnTo>
                    <a:pt x="1675" y="23"/>
                  </a:lnTo>
                  <a:lnTo>
                    <a:pt x="1688" y="23"/>
                  </a:lnTo>
                  <a:lnTo>
                    <a:pt x="1702" y="21"/>
                  </a:lnTo>
                  <a:lnTo>
                    <a:pt x="1717" y="19"/>
                  </a:lnTo>
                  <a:lnTo>
                    <a:pt x="1730" y="19"/>
                  </a:lnTo>
                  <a:lnTo>
                    <a:pt x="1745" y="19"/>
                  </a:lnTo>
                  <a:lnTo>
                    <a:pt x="1759" y="19"/>
                  </a:lnTo>
                  <a:lnTo>
                    <a:pt x="1772" y="17"/>
                  </a:lnTo>
                  <a:lnTo>
                    <a:pt x="1787" y="17"/>
                  </a:lnTo>
                  <a:lnTo>
                    <a:pt x="1801" y="17"/>
                  </a:lnTo>
                  <a:lnTo>
                    <a:pt x="1816" y="15"/>
                  </a:lnTo>
                  <a:lnTo>
                    <a:pt x="1829" y="13"/>
                  </a:lnTo>
                  <a:lnTo>
                    <a:pt x="1846" y="13"/>
                  </a:lnTo>
                  <a:lnTo>
                    <a:pt x="1861" y="13"/>
                  </a:lnTo>
                  <a:lnTo>
                    <a:pt x="1877" y="13"/>
                  </a:lnTo>
                  <a:lnTo>
                    <a:pt x="1892" y="13"/>
                  </a:lnTo>
                  <a:lnTo>
                    <a:pt x="1907" y="11"/>
                  </a:lnTo>
                  <a:lnTo>
                    <a:pt x="1926" y="11"/>
                  </a:lnTo>
                  <a:lnTo>
                    <a:pt x="1941" y="10"/>
                  </a:lnTo>
                  <a:lnTo>
                    <a:pt x="1958" y="10"/>
                  </a:lnTo>
                  <a:lnTo>
                    <a:pt x="1977" y="10"/>
                  </a:lnTo>
                  <a:lnTo>
                    <a:pt x="1995" y="10"/>
                  </a:lnTo>
                  <a:lnTo>
                    <a:pt x="2012" y="10"/>
                  </a:lnTo>
                  <a:lnTo>
                    <a:pt x="2029" y="10"/>
                  </a:lnTo>
                  <a:lnTo>
                    <a:pt x="2048" y="8"/>
                  </a:lnTo>
                  <a:lnTo>
                    <a:pt x="2067" y="8"/>
                  </a:lnTo>
                  <a:lnTo>
                    <a:pt x="2086" y="8"/>
                  </a:lnTo>
                  <a:lnTo>
                    <a:pt x="2107" y="8"/>
                  </a:lnTo>
                  <a:lnTo>
                    <a:pt x="2126" y="6"/>
                  </a:lnTo>
                  <a:lnTo>
                    <a:pt x="2147" y="6"/>
                  </a:lnTo>
                  <a:lnTo>
                    <a:pt x="2168" y="4"/>
                  </a:lnTo>
                  <a:lnTo>
                    <a:pt x="2187" y="4"/>
                  </a:lnTo>
                  <a:lnTo>
                    <a:pt x="2209" y="4"/>
                  </a:lnTo>
                  <a:lnTo>
                    <a:pt x="2232" y="4"/>
                  </a:lnTo>
                  <a:lnTo>
                    <a:pt x="2253" y="2"/>
                  </a:lnTo>
                  <a:lnTo>
                    <a:pt x="2276" y="2"/>
                  </a:lnTo>
                  <a:lnTo>
                    <a:pt x="2299" y="2"/>
                  </a:lnTo>
                  <a:lnTo>
                    <a:pt x="2323" y="2"/>
                  </a:lnTo>
                  <a:lnTo>
                    <a:pt x="2346" y="0"/>
                  </a:lnTo>
                  <a:lnTo>
                    <a:pt x="2369" y="0"/>
                  </a:lnTo>
                  <a:lnTo>
                    <a:pt x="2392" y="0"/>
                  </a:lnTo>
                  <a:lnTo>
                    <a:pt x="2417" y="0"/>
                  </a:lnTo>
                  <a:lnTo>
                    <a:pt x="2438" y="0"/>
                  </a:lnTo>
                  <a:lnTo>
                    <a:pt x="2460" y="0"/>
                  </a:lnTo>
                  <a:lnTo>
                    <a:pt x="2483" y="2"/>
                  </a:lnTo>
                  <a:lnTo>
                    <a:pt x="2506" y="4"/>
                  </a:lnTo>
                  <a:lnTo>
                    <a:pt x="2527" y="4"/>
                  </a:lnTo>
                  <a:lnTo>
                    <a:pt x="2550" y="8"/>
                  </a:lnTo>
                  <a:lnTo>
                    <a:pt x="2571" y="10"/>
                  </a:lnTo>
                  <a:lnTo>
                    <a:pt x="2593" y="13"/>
                  </a:lnTo>
                  <a:lnTo>
                    <a:pt x="2614" y="15"/>
                  </a:lnTo>
                  <a:lnTo>
                    <a:pt x="2635" y="19"/>
                  </a:lnTo>
                  <a:lnTo>
                    <a:pt x="2656" y="23"/>
                  </a:lnTo>
                  <a:lnTo>
                    <a:pt x="2679" y="27"/>
                  </a:lnTo>
                  <a:lnTo>
                    <a:pt x="2698" y="30"/>
                  </a:lnTo>
                  <a:lnTo>
                    <a:pt x="2717" y="34"/>
                  </a:lnTo>
                  <a:lnTo>
                    <a:pt x="2738" y="40"/>
                  </a:lnTo>
                  <a:lnTo>
                    <a:pt x="2759" y="46"/>
                  </a:lnTo>
                  <a:lnTo>
                    <a:pt x="2778" y="49"/>
                  </a:lnTo>
                  <a:lnTo>
                    <a:pt x="2797" y="55"/>
                  </a:lnTo>
                  <a:lnTo>
                    <a:pt x="2816" y="61"/>
                  </a:lnTo>
                  <a:lnTo>
                    <a:pt x="2837" y="68"/>
                  </a:lnTo>
                  <a:lnTo>
                    <a:pt x="2854" y="74"/>
                  </a:lnTo>
                  <a:lnTo>
                    <a:pt x="2873" y="80"/>
                  </a:lnTo>
                  <a:lnTo>
                    <a:pt x="2892" y="87"/>
                  </a:lnTo>
                  <a:lnTo>
                    <a:pt x="2911" y="95"/>
                  </a:lnTo>
                  <a:lnTo>
                    <a:pt x="2926" y="103"/>
                  </a:lnTo>
                  <a:lnTo>
                    <a:pt x="2945" y="110"/>
                  </a:lnTo>
                  <a:lnTo>
                    <a:pt x="2962" y="118"/>
                  </a:lnTo>
                  <a:lnTo>
                    <a:pt x="2981" y="127"/>
                  </a:lnTo>
                  <a:lnTo>
                    <a:pt x="2996" y="135"/>
                  </a:lnTo>
                  <a:lnTo>
                    <a:pt x="3014" y="144"/>
                  </a:lnTo>
                  <a:lnTo>
                    <a:pt x="3029" y="152"/>
                  </a:lnTo>
                  <a:lnTo>
                    <a:pt x="3046" y="163"/>
                  </a:lnTo>
                  <a:lnTo>
                    <a:pt x="3061" y="171"/>
                  </a:lnTo>
                  <a:lnTo>
                    <a:pt x="3078" y="181"/>
                  </a:lnTo>
                  <a:lnTo>
                    <a:pt x="3092" y="192"/>
                  </a:lnTo>
                  <a:lnTo>
                    <a:pt x="3109" y="203"/>
                  </a:lnTo>
                  <a:lnTo>
                    <a:pt x="3122" y="213"/>
                  </a:lnTo>
                  <a:lnTo>
                    <a:pt x="3135" y="224"/>
                  </a:lnTo>
                  <a:lnTo>
                    <a:pt x="3150" y="236"/>
                  </a:lnTo>
                  <a:lnTo>
                    <a:pt x="3164" y="247"/>
                  </a:lnTo>
                  <a:lnTo>
                    <a:pt x="3177" y="259"/>
                  </a:lnTo>
                  <a:lnTo>
                    <a:pt x="3192" y="270"/>
                  </a:lnTo>
                  <a:lnTo>
                    <a:pt x="3206" y="281"/>
                  </a:lnTo>
                  <a:lnTo>
                    <a:pt x="3219" y="295"/>
                  </a:lnTo>
                  <a:lnTo>
                    <a:pt x="3230" y="306"/>
                  </a:lnTo>
                  <a:lnTo>
                    <a:pt x="3242" y="319"/>
                  </a:lnTo>
                  <a:lnTo>
                    <a:pt x="3255" y="333"/>
                  </a:lnTo>
                  <a:lnTo>
                    <a:pt x="3266" y="346"/>
                  </a:lnTo>
                  <a:lnTo>
                    <a:pt x="3276" y="359"/>
                  </a:lnTo>
                  <a:lnTo>
                    <a:pt x="3287" y="373"/>
                  </a:lnTo>
                  <a:lnTo>
                    <a:pt x="3299" y="388"/>
                  </a:lnTo>
                  <a:lnTo>
                    <a:pt x="3310" y="401"/>
                  </a:lnTo>
                  <a:lnTo>
                    <a:pt x="3320" y="416"/>
                  </a:lnTo>
                  <a:lnTo>
                    <a:pt x="3331" y="430"/>
                  </a:lnTo>
                  <a:lnTo>
                    <a:pt x="3341" y="445"/>
                  </a:lnTo>
                  <a:lnTo>
                    <a:pt x="3350" y="460"/>
                  </a:lnTo>
                  <a:lnTo>
                    <a:pt x="3358" y="475"/>
                  </a:lnTo>
                  <a:lnTo>
                    <a:pt x="3367" y="490"/>
                  </a:lnTo>
                  <a:lnTo>
                    <a:pt x="3375" y="508"/>
                  </a:lnTo>
                  <a:lnTo>
                    <a:pt x="3384" y="523"/>
                  </a:lnTo>
                  <a:lnTo>
                    <a:pt x="3390" y="538"/>
                  </a:lnTo>
                  <a:lnTo>
                    <a:pt x="3398" y="555"/>
                  </a:lnTo>
                  <a:lnTo>
                    <a:pt x="3405" y="570"/>
                  </a:lnTo>
                  <a:lnTo>
                    <a:pt x="3413" y="587"/>
                  </a:lnTo>
                  <a:lnTo>
                    <a:pt x="3419" y="604"/>
                  </a:lnTo>
                  <a:lnTo>
                    <a:pt x="3424" y="620"/>
                  </a:lnTo>
                  <a:lnTo>
                    <a:pt x="3430" y="637"/>
                  </a:lnTo>
                  <a:lnTo>
                    <a:pt x="3436" y="656"/>
                  </a:lnTo>
                  <a:lnTo>
                    <a:pt x="3441" y="671"/>
                  </a:lnTo>
                  <a:lnTo>
                    <a:pt x="3445" y="688"/>
                  </a:lnTo>
                  <a:lnTo>
                    <a:pt x="3449" y="707"/>
                  </a:lnTo>
                  <a:lnTo>
                    <a:pt x="3455" y="724"/>
                  </a:lnTo>
                  <a:lnTo>
                    <a:pt x="3457" y="743"/>
                  </a:lnTo>
                  <a:lnTo>
                    <a:pt x="3460" y="760"/>
                  </a:lnTo>
                  <a:lnTo>
                    <a:pt x="3464" y="777"/>
                  </a:lnTo>
                  <a:lnTo>
                    <a:pt x="3470" y="796"/>
                  </a:lnTo>
                  <a:lnTo>
                    <a:pt x="3472" y="815"/>
                  </a:lnTo>
                  <a:lnTo>
                    <a:pt x="3474" y="833"/>
                  </a:lnTo>
                  <a:lnTo>
                    <a:pt x="3477" y="852"/>
                  </a:lnTo>
                  <a:lnTo>
                    <a:pt x="3479" y="871"/>
                  </a:lnTo>
                  <a:lnTo>
                    <a:pt x="3479" y="888"/>
                  </a:lnTo>
                  <a:lnTo>
                    <a:pt x="3481" y="907"/>
                  </a:lnTo>
                  <a:lnTo>
                    <a:pt x="3483" y="926"/>
                  </a:lnTo>
                  <a:lnTo>
                    <a:pt x="3485" y="947"/>
                  </a:lnTo>
                  <a:lnTo>
                    <a:pt x="3485" y="966"/>
                  </a:lnTo>
                  <a:lnTo>
                    <a:pt x="3485" y="985"/>
                  </a:lnTo>
                  <a:lnTo>
                    <a:pt x="3485" y="1004"/>
                  </a:lnTo>
                  <a:lnTo>
                    <a:pt x="3487" y="1023"/>
                  </a:lnTo>
                  <a:lnTo>
                    <a:pt x="3485" y="1042"/>
                  </a:lnTo>
                  <a:lnTo>
                    <a:pt x="3485" y="1061"/>
                  </a:lnTo>
                  <a:lnTo>
                    <a:pt x="3483" y="1080"/>
                  </a:lnTo>
                  <a:lnTo>
                    <a:pt x="3483" y="1101"/>
                  </a:lnTo>
                  <a:lnTo>
                    <a:pt x="3481" y="1118"/>
                  </a:lnTo>
                  <a:lnTo>
                    <a:pt x="3479" y="1137"/>
                  </a:lnTo>
                  <a:lnTo>
                    <a:pt x="3477" y="1156"/>
                  </a:lnTo>
                  <a:lnTo>
                    <a:pt x="3477" y="1175"/>
                  </a:lnTo>
                  <a:lnTo>
                    <a:pt x="3474" y="1194"/>
                  </a:lnTo>
                  <a:lnTo>
                    <a:pt x="3472" y="1213"/>
                  </a:lnTo>
                  <a:lnTo>
                    <a:pt x="3468" y="1232"/>
                  </a:lnTo>
                  <a:lnTo>
                    <a:pt x="3466" y="1253"/>
                  </a:lnTo>
                  <a:lnTo>
                    <a:pt x="3464" y="1270"/>
                  </a:lnTo>
                  <a:lnTo>
                    <a:pt x="3460" y="1289"/>
                  </a:lnTo>
                  <a:lnTo>
                    <a:pt x="3457" y="1308"/>
                  </a:lnTo>
                  <a:lnTo>
                    <a:pt x="3453" y="1327"/>
                  </a:lnTo>
                  <a:lnTo>
                    <a:pt x="3447" y="1346"/>
                  </a:lnTo>
                  <a:lnTo>
                    <a:pt x="3443" y="1365"/>
                  </a:lnTo>
                  <a:lnTo>
                    <a:pt x="3439" y="1384"/>
                  </a:lnTo>
                  <a:lnTo>
                    <a:pt x="3436" y="1403"/>
                  </a:lnTo>
                  <a:lnTo>
                    <a:pt x="3430" y="1422"/>
                  </a:lnTo>
                  <a:lnTo>
                    <a:pt x="3424" y="1439"/>
                  </a:lnTo>
                  <a:lnTo>
                    <a:pt x="3419" y="1458"/>
                  </a:lnTo>
                  <a:lnTo>
                    <a:pt x="3415" y="1477"/>
                  </a:lnTo>
                  <a:lnTo>
                    <a:pt x="3409" y="1494"/>
                  </a:lnTo>
                  <a:lnTo>
                    <a:pt x="3403" y="1513"/>
                  </a:lnTo>
                  <a:lnTo>
                    <a:pt x="3396" y="1530"/>
                  </a:lnTo>
                  <a:lnTo>
                    <a:pt x="3390" y="1549"/>
                  </a:lnTo>
                  <a:lnTo>
                    <a:pt x="3382" y="1566"/>
                  </a:lnTo>
                  <a:lnTo>
                    <a:pt x="3377" y="1585"/>
                  </a:lnTo>
                  <a:lnTo>
                    <a:pt x="3371" y="1602"/>
                  </a:lnTo>
                  <a:lnTo>
                    <a:pt x="3363" y="1619"/>
                  </a:lnTo>
                  <a:lnTo>
                    <a:pt x="3358" y="1637"/>
                  </a:lnTo>
                  <a:lnTo>
                    <a:pt x="3350" y="1654"/>
                  </a:lnTo>
                  <a:lnTo>
                    <a:pt x="3342" y="1671"/>
                  </a:lnTo>
                  <a:lnTo>
                    <a:pt x="3335" y="1688"/>
                  </a:lnTo>
                  <a:lnTo>
                    <a:pt x="3327" y="1703"/>
                  </a:lnTo>
                  <a:lnTo>
                    <a:pt x="3320" y="1720"/>
                  </a:lnTo>
                  <a:lnTo>
                    <a:pt x="3310" y="1735"/>
                  </a:lnTo>
                  <a:lnTo>
                    <a:pt x="3303" y="1751"/>
                  </a:lnTo>
                  <a:lnTo>
                    <a:pt x="3295" y="1764"/>
                  </a:lnTo>
                  <a:lnTo>
                    <a:pt x="3287" y="1779"/>
                  </a:lnTo>
                  <a:lnTo>
                    <a:pt x="3278" y="1794"/>
                  </a:lnTo>
                  <a:lnTo>
                    <a:pt x="3270" y="1808"/>
                  </a:lnTo>
                  <a:lnTo>
                    <a:pt x="3261" y="1821"/>
                  </a:lnTo>
                  <a:lnTo>
                    <a:pt x="3253" y="1834"/>
                  </a:lnTo>
                  <a:lnTo>
                    <a:pt x="3246" y="1848"/>
                  </a:lnTo>
                  <a:lnTo>
                    <a:pt x="3236" y="1861"/>
                  </a:lnTo>
                  <a:lnTo>
                    <a:pt x="3227" y="1872"/>
                  </a:lnTo>
                  <a:lnTo>
                    <a:pt x="3219" y="1886"/>
                  </a:lnTo>
                  <a:lnTo>
                    <a:pt x="3209" y="1897"/>
                  </a:lnTo>
                  <a:lnTo>
                    <a:pt x="3200" y="1910"/>
                  </a:lnTo>
                  <a:lnTo>
                    <a:pt x="3190" y="1922"/>
                  </a:lnTo>
                  <a:lnTo>
                    <a:pt x="3181" y="1933"/>
                  </a:lnTo>
                  <a:lnTo>
                    <a:pt x="3171" y="1943"/>
                  </a:lnTo>
                  <a:lnTo>
                    <a:pt x="3162" y="1956"/>
                  </a:lnTo>
                  <a:lnTo>
                    <a:pt x="3152" y="1965"/>
                  </a:lnTo>
                  <a:lnTo>
                    <a:pt x="3143" y="1977"/>
                  </a:lnTo>
                  <a:lnTo>
                    <a:pt x="3131" y="1988"/>
                  </a:lnTo>
                  <a:lnTo>
                    <a:pt x="3122" y="1998"/>
                  </a:lnTo>
                  <a:lnTo>
                    <a:pt x="3112" y="2007"/>
                  </a:lnTo>
                  <a:lnTo>
                    <a:pt x="3101" y="2017"/>
                  </a:lnTo>
                  <a:lnTo>
                    <a:pt x="3090" y="2026"/>
                  </a:lnTo>
                  <a:lnTo>
                    <a:pt x="3080" y="2036"/>
                  </a:lnTo>
                  <a:lnTo>
                    <a:pt x="3069" y="2045"/>
                  </a:lnTo>
                  <a:lnTo>
                    <a:pt x="3059" y="2055"/>
                  </a:lnTo>
                  <a:lnTo>
                    <a:pt x="3048" y="2062"/>
                  </a:lnTo>
                  <a:lnTo>
                    <a:pt x="3036" y="2072"/>
                  </a:lnTo>
                  <a:lnTo>
                    <a:pt x="3023" y="2079"/>
                  </a:lnTo>
                  <a:lnTo>
                    <a:pt x="3014" y="2087"/>
                  </a:lnTo>
                  <a:lnTo>
                    <a:pt x="3000" y="2097"/>
                  </a:lnTo>
                  <a:lnTo>
                    <a:pt x="2989" y="2104"/>
                  </a:lnTo>
                  <a:lnTo>
                    <a:pt x="2976" y="2112"/>
                  </a:lnTo>
                  <a:lnTo>
                    <a:pt x="2964" y="2119"/>
                  </a:lnTo>
                  <a:lnTo>
                    <a:pt x="2953" y="2127"/>
                  </a:lnTo>
                  <a:lnTo>
                    <a:pt x="2939" y="2136"/>
                  </a:lnTo>
                  <a:lnTo>
                    <a:pt x="2926" y="2142"/>
                  </a:lnTo>
                  <a:lnTo>
                    <a:pt x="2913" y="2148"/>
                  </a:lnTo>
                  <a:lnTo>
                    <a:pt x="2901" y="2155"/>
                  </a:lnTo>
                  <a:lnTo>
                    <a:pt x="2888" y="2163"/>
                  </a:lnTo>
                  <a:lnTo>
                    <a:pt x="2875" y="2171"/>
                  </a:lnTo>
                  <a:lnTo>
                    <a:pt x="2861" y="2178"/>
                  </a:lnTo>
                  <a:lnTo>
                    <a:pt x="2848" y="2184"/>
                  </a:lnTo>
                  <a:lnTo>
                    <a:pt x="2835" y="2192"/>
                  </a:lnTo>
                  <a:lnTo>
                    <a:pt x="2820" y="2197"/>
                  </a:lnTo>
                  <a:lnTo>
                    <a:pt x="2804" y="2203"/>
                  </a:lnTo>
                  <a:lnTo>
                    <a:pt x="2791" y="2211"/>
                  </a:lnTo>
                  <a:lnTo>
                    <a:pt x="2776" y="2216"/>
                  </a:lnTo>
                  <a:lnTo>
                    <a:pt x="2761" y="2224"/>
                  </a:lnTo>
                  <a:lnTo>
                    <a:pt x="2746" y="2230"/>
                  </a:lnTo>
                  <a:lnTo>
                    <a:pt x="2730" y="2235"/>
                  </a:lnTo>
                  <a:lnTo>
                    <a:pt x="2715" y="2243"/>
                  </a:lnTo>
                  <a:lnTo>
                    <a:pt x="2698" y="2249"/>
                  </a:lnTo>
                  <a:lnTo>
                    <a:pt x="2683" y="2254"/>
                  </a:lnTo>
                  <a:lnTo>
                    <a:pt x="2668" y="2262"/>
                  </a:lnTo>
                  <a:lnTo>
                    <a:pt x="2652" y="2270"/>
                  </a:lnTo>
                  <a:lnTo>
                    <a:pt x="2635" y="2275"/>
                  </a:lnTo>
                  <a:lnTo>
                    <a:pt x="2618" y="2281"/>
                  </a:lnTo>
                  <a:lnTo>
                    <a:pt x="2601" y="2289"/>
                  </a:lnTo>
                  <a:lnTo>
                    <a:pt x="2586" y="2296"/>
                  </a:lnTo>
                  <a:lnTo>
                    <a:pt x="2569" y="2300"/>
                  </a:lnTo>
                  <a:lnTo>
                    <a:pt x="2550" y="2308"/>
                  </a:lnTo>
                  <a:lnTo>
                    <a:pt x="2533" y="2313"/>
                  </a:lnTo>
                  <a:lnTo>
                    <a:pt x="2515" y="2319"/>
                  </a:lnTo>
                  <a:lnTo>
                    <a:pt x="2498" y="2325"/>
                  </a:lnTo>
                  <a:lnTo>
                    <a:pt x="2479" y="2330"/>
                  </a:lnTo>
                  <a:lnTo>
                    <a:pt x="2462" y="2336"/>
                  </a:lnTo>
                  <a:lnTo>
                    <a:pt x="2445" y="2342"/>
                  </a:lnTo>
                  <a:lnTo>
                    <a:pt x="2428" y="2347"/>
                  </a:lnTo>
                  <a:lnTo>
                    <a:pt x="2409" y="2351"/>
                  </a:lnTo>
                  <a:lnTo>
                    <a:pt x="2392" y="2357"/>
                  </a:lnTo>
                  <a:lnTo>
                    <a:pt x="2373" y="2363"/>
                  </a:lnTo>
                  <a:lnTo>
                    <a:pt x="2356" y="2366"/>
                  </a:lnTo>
                  <a:lnTo>
                    <a:pt x="2339" y="2372"/>
                  </a:lnTo>
                  <a:lnTo>
                    <a:pt x="2320" y="2376"/>
                  </a:lnTo>
                  <a:lnTo>
                    <a:pt x="2303" y="2382"/>
                  </a:lnTo>
                  <a:lnTo>
                    <a:pt x="2284" y="2385"/>
                  </a:lnTo>
                  <a:lnTo>
                    <a:pt x="2266" y="2391"/>
                  </a:lnTo>
                  <a:lnTo>
                    <a:pt x="2247" y="2393"/>
                  </a:lnTo>
                  <a:lnTo>
                    <a:pt x="2230" y="2399"/>
                  </a:lnTo>
                  <a:lnTo>
                    <a:pt x="2213" y="2403"/>
                  </a:lnTo>
                  <a:lnTo>
                    <a:pt x="2194" y="2406"/>
                  </a:lnTo>
                  <a:lnTo>
                    <a:pt x="2177" y="2410"/>
                  </a:lnTo>
                  <a:lnTo>
                    <a:pt x="2160" y="2414"/>
                  </a:lnTo>
                  <a:lnTo>
                    <a:pt x="2141" y="2416"/>
                  </a:lnTo>
                  <a:lnTo>
                    <a:pt x="2124" y="2420"/>
                  </a:lnTo>
                  <a:lnTo>
                    <a:pt x="2107" y="2423"/>
                  </a:lnTo>
                  <a:lnTo>
                    <a:pt x="2090" y="2425"/>
                  </a:lnTo>
                  <a:lnTo>
                    <a:pt x="2071" y="2429"/>
                  </a:lnTo>
                  <a:lnTo>
                    <a:pt x="2055" y="2433"/>
                  </a:lnTo>
                  <a:lnTo>
                    <a:pt x="2038" y="2435"/>
                  </a:lnTo>
                  <a:lnTo>
                    <a:pt x="2021" y="2439"/>
                  </a:lnTo>
                  <a:lnTo>
                    <a:pt x="2004" y="2439"/>
                  </a:lnTo>
                  <a:lnTo>
                    <a:pt x="1987" y="2442"/>
                  </a:lnTo>
                  <a:lnTo>
                    <a:pt x="1970" y="2442"/>
                  </a:lnTo>
                  <a:lnTo>
                    <a:pt x="1953" y="2446"/>
                  </a:lnTo>
                  <a:lnTo>
                    <a:pt x="1936" y="2446"/>
                  </a:lnTo>
                  <a:lnTo>
                    <a:pt x="1920" y="2448"/>
                  </a:lnTo>
                  <a:lnTo>
                    <a:pt x="1903" y="2448"/>
                  </a:lnTo>
                  <a:lnTo>
                    <a:pt x="1888" y="2450"/>
                  </a:lnTo>
                  <a:lnTo>
                    <a:pt x="1871" y="2450"/>
                  </a:lnTo>
                  <a:lnTo>
                    <a:pt x="1856" y="2452"/>
                  </a:lnTo>
                  <a:lnTo>
                    <a:pt x="1839" y="2452"/>
                  </a:lnTo>
                  <a:lnTo>
                    <a:pt x="1823" y="2452"/>
                  </a:lnTo>
                  <a:lnTo>
                    <a:pt x="1808" y="2452"/>
                  </a:lnTo>
                  <a:lnTo>
                    <a:pt x="1795" y="2452"/>
                  </a:lnTo>
                  <a:lnTo>
                    <a:pt x="1780" y="2452"/>
                  </a:lnTo>
                  <a:lnTo>
                    <a:pt x="1765" y="2452"/>
                  </a:lnTo>
                  <a:lnTo>
                    <a:pt x="1751" y="2452"/>
                  </a:lnTo>
                  <a:lnTo>
                    <a:pt x="1736" y="2450"/>
                  </a:lnTo>
                  <a:lnTo>
                    <a:pt x="1723" y="2448"/>
                  </a:lnTo>
                  <a:lnTo>
                    <a:pt x="1709" y="2448"/>
                  </a:lnTo>
                  <a:lnTo>
                    <a:pt x="1694" y="2446"/>
                  </a:lnTo>
                  <a:lnTo>
                    <a:pt x="1681" y="2446"/>
                  </a:lnTo>
                  <a:lnTo>
                    <a:pt x="1669" y="2442"/>
                  </a:lnTo>
                  <a:lnTo>
                    <a:pt x="1656" y="2442"/>
                  </a:lnTo>
                  <a:lnTo>
                    <a:pt x="1643" y="2439"/>
                  </a:lnTo>
                  <a:lnTo>
                    <a:pt x="1631" y="2437"/>
                  </a:lnTo>
                  <a:lnTo>
                    <a:pt x="1618" y="2435"/>
                  </a:lnTo>
                  <a:lnTo>
                    <a:pt x="1609" y="2433"/>
                  </a:lnTo>
                  <a:lnTo>
                    <a:pt x="1595" y="2429"/>
                  </a:lnTo>
                  <a:lnTo>
                    <a:pt x="1586" y="2425"/>
                  </a:lnTo>
                  <a:lnTo>
                    <a:pt x="1574" y="2423"/>
                  </a:lnTo>
                  <a:lnTo>
                    <a:pt x="1565" y="2420"/>
                  </a:lnTo>
                  <a:lnTo>
                    <a:pt x="1553" y="2416"/>
                  </a:lnTo>
                  <a:lnTo>
                    <a:pt x="1544" y="2410"/>
                  </a:lnTo>
                  <a:lnTo>
                    <a:pt x="1533" y="2406"/>
                  </a:lnTo>
                  <a:lnTo>
                    <a:pt x="1525" y="2403"/>
                  </a:lnTo>
                  <a:lnTo>
                    <a:pt x="1514" y="2397"/>
                  </a:lnTo>
                  <a:lnTo>
                    <a:pt x="1504" y="2393"/>
                  </a:lnTo>
                  <a:lnTo>
                    <a:pt x="1495" y="2389"/>
                  </a:lnTo>
                  <a:lnTo>
                    <a:pt x="1487" y="2385"/>
                  </a:lnTo>
                  <a:lnTo>
                    <a:pt x="1477" y="2382"/>
                  </a:lnTo>
                  <a:lnTo>
                    <a:pt x="1470" y="2376"/>
                  </a:lnTo>
                  <a:lnTo>
                    <a:pt x="1460" y="2372"/>
                  </a:lnTo>
                  <a:lnTo>
                    <a:pt x="1453" y="2368"/>
                  </a:lnTo>
                  <a:lnTo>
                    <a:pt x="1445" y="2363"/>
                  </a:lnTo>
                  <a:lnTo>
                    <a:pt x="1438" y="2359"/>
                  </a:lnTo>
                  <a:lnTo>
                    <a:pt x="1430" y="2353"/>
                  </a:lnTo>
                  <a:lnTo>
                    <a:pt x="1424" y="2349"/>
                  </a:lnTo>
                  <a:lnTo>
                    <a:pt x="1415" y="2344"/>
                  </a:lnTo>
                  <a:lnTo>
                    <a:pt x="1409" y="2340"/>
                  </a:lnTo>
                  <a:lnTo>
                    <a:pt x="1401" y="2332"/>
                  </a:lnTo>
                  <a:lnTo>
                    <a:pt x="1396" y="2328"/>
                  </a:lnTo>
                  <a:lnTo>
                    <a:pt x="1388" y="2323"/>
                  </a:lnTo>
                  <a:lnTo>
                    <a:pt x="1380" y="2317"/>
                  </a:lnTo>
                  <a:lnTo>
                    <a:pt x="1375" y="2313"/>
                  </a:lnTo>
                  <a:lnTo>
                    <a:pt x="1369" y="2308"/>
                  </a:lnTo>
                  <a:lnTo>
                    <a:pt x="1358" y="2296"/>
                  </a:lnTo>
                  <a:lnTo>
                    <a:pt x="1346" y="2287"/>
                  </a:lnTo>
                  <a:lnTo>
                    <a:pt x="1337" y="2275"/>
                  </a:lnTo>
                  <a:lnTo>
                    <a:pt x="1327" y="2264"/>
                  </a:lnTo>
                  <a:lnTo>
                    <a:pt x="1316" y="2252"/>
                  </a:lnTo>
                  <a:lnTo>
                    <a:pt x="1308" y="2241"/>
                  </a:lnTo>
                  <a:lnTo>
                    <a:pt x="1299" y="2230"/>
                  </a:lnTo>
                  <a:lnTo>
                    <a:pt x="1291" y="2218"/>
                  </a:lnTo>
                  <a:lnTo>
                    <a:pt x="1284" y="2205"/>
                  </a:lnTo>
                  <a:lnTo>
                    <a:pt x="1276" y="2193"/>
                  </a:lnTo>
                  <a:lnTo>
                    <a:pt x="1268" y="2180"/>
                  </a:lnTo>
                  <a:lnTo>
                    <a:pt x="1263" y="2169"/>
                  </a:lnTo>
                  <a:lnTo>
                    <a:pt x="1259" y="2161"/>
                  </a:lnTo>
                  <a:lnTo>
                    <a:pt x="1255" y="2155"/>
                  </a:lnTo>
                  <a:lnTo>
                    <a:pt x="1251" y="2148"/>
                  </a:lnTo>
                  <a:lnTo>
                    <a:pt x="1249" y="2142"/>
                  </a:lnTo>
                  <a:lnTo>
                    <a:pt x="1245" y="2136"/>
                  </a:lnTo>
                  <a:lnTo>
                    <a:pt x="1244" y="2129"/>
                  </a:lnTo>
                  <a:lnTo>
                    <a:pt x="1242" y="2123"/>
                  </a:lnTo>
                  <a:lnTo>
                    <a:pt x="1240" y="2116"/>
                  </a:lnTo>
                  <a:lnTo>
                    <a:pt x="1236" y="2110"/>
                  </a:lnTo>
                  <a:lnTo>
                    <a:pt x="1234" y="2104"/>
                  </a:lnTo>
                  <a:lnTo>
                    <a:pt x="1232" y="2097"/>
                  </a:lnTo>
                  <a:lnTo>
                    <a:pt x="1228" y="2091"/>
                  </a:lnTo>
                  <a:lnTo>
                    <a:pt x="1226" y="2083"/>
                  </a:lnTo>
                  <a:lnTo>
                    <a:pt x="1225" y="2078"/>
                  </a:lnTo>
                  <a:lnTo>
                    <a:pt x="1223" y="2070"/>
                  </a:lnTo>
                  <a:lnTo>
                    <a:pt x="1221" y="2064"/>
                  </a:lnTo>
                  <a:lnTo>
                    <a:pt x="1217" y="2057"/>
                  </a:lnTo>
                  <a:lnTo>
                    <a:pt x="1215" y="2049"/>
                  </a:lnTo>
                  <a:lnTo>
                    <a:pt x="1213" y="2041"/>
                  </a:lnTo>
                  <a:lnTo>
                    <a:pt x="1209" y="2036"/>
                  </a:lnTo>
                  <a:lnTo>
                    <a:pt x="1206" y="2022"/>
                  </a:lnTo>
                  <a:lnTo>
                    <a:pt x="1200" y="2011"/>
                  </a:lnTo>
                  <a:lnTo>
                    <a:pt x="1194" y="2000"/>
                  </a:lnTo>
                  <a:lnTo>
                    <a:pt x="1188" y="1988"/>
                  </a:lnTo>
                  <a:lnTo>
                    <a:pt x="1181" y="1977"/>
                  </a:lnTo>
                  <a:lnTo>
                    <a:pt x="1175" y="1967"/>
                  </a:lnTo>
                  <a:lnTo>
                    <a:pt x="1168" y="1956"/>
                  </a:lnTo>
                  <a:lnTo>
                    <a:pt x="1160" y="1946"/>
                  </a:lnTo>
                  <a:lnTo>
                    <a:pt x="1152" y="1935"/>
                  </a:lnTo>
                  <a:lnTo>
                    <a:pt x="1145" y="1927"/>
                  </a:lnTo>
                  <a:lnTo>
                    <a:pt x="1135" y="1920"/>
                  </a:lnTo>
                  <a:lnTo>
                    <a:pt x="1126" y="1912"/>
                  </a:lnTo>
                  <a:lnTo>
                    <a:pt x="1116" y="1905"/>
                  </a:lnTo>
                  <a:lnTo>
                    <a:pt x="1109" y="1899"/>
                  </a:lnTo>
                  <a:lnTo>
                    <a:pt x="1097" y="1891"/>
                  </a:lnTo>
                  <a:lnTo>
                    <a:pt x="1088" y="1887"/>
                  </a:lnTo>
                  <a:lnTo>
                    <a:pt x="1076" y="1882"/>
                  </a:lnTo>
                  <a:lnTo>
                    <a:pt x="1065" y="1878"/>
                  </a:lnTo>
                  <a:lnTo>
                    <a:pt x="1053" y="1874"/>
                  </a:lnTo>
                  <a:lnTo>
                    <a:pt x="1042" y="1872"/>
                  </a:lnTo>
                  <a:lnTo>
                    <a:pt x="1029" y="1868"/>
                  </a:lnTo>
                  <a:lnTo>
                    <a:pt x="1017" y="1868"/>
                  </a:lnTo>
                  <a:lnTo>
                    <a:pt x="1010" y="1868"/>
                  </a:lnTo>
                  <a:lnTo>
                    <a:pt x="1004" y="1868"/>
                  </a:lnTo>
                  <a:lnTo>
                    <a:pt x="996" y="1868"/>
                  </a:lnTo>
                  <a:lnTo>
                    <a:pt x="991" y="1868"/>
                  </a:lnTo>
                  <a:lnTo>
                    <a:pt x="985" y="1868"/>
                  </a:lnTo>
                  <a:lnTo>
                    <a:pt x="977" y="1868"/>
                  </a:lnTo>
                  <a:lnTo>
                    <a:pt x="970" y="1868"/>
                  </a:lnTo>
                  <a:lnTo>
                    <a:pt x="964" y="1872"/>
                  </a:lnTo>
                  <a:lnTo>
                    <a:pt x="955" y="1872"/>
                  </a:lnTo>
                  <a:lnTo>
                    <a:pt x="949" y="1874"/>
                  </a:lnTo>
                  <a:lnTo>
                    <a:pt x="941" y="1874"/>
                  </a:lnTo>
                  <a:lnTo>
                    <a:pt x="934" y="1878"/>
                  </a:lnTo>
                  <a:lnTo>
                    <a:pt x="926" y="1880"/>
                  </a:lnTo>
                  <a:lnTo>
                    <a:pt x="918" y="1882"/>
                  </a:lnTo>
                  <a:lnTo>
                    <a:pt x="911" y="1886"/>
                  </a:lnTo>
                  <a:lnTo>
                    <a:pt x="903" y="1889"/>
                  </a:lnTo>
                  <a:lnTo>
                    <a:pt x="894" y="1891"/>
                  </a:lnTo>
                  <a:lnTo>
                    <a:pt x="886" y="1895"/>
                  </a:lnTo>
                  <a:lnTo>
                    <a:pt x="879" y="1897"/>
                  </a:lnTo>
                  <a:lnTo>
                    <a:pt x="869" y="1901"/>
                  </a:lnTo>
                  <a:lnTo>
                    <a:pt x="858" y="1905"/>
                  </a:lnTo>
                  <a:lnTo>
                    <a:pt x="850" y="1908"/>
                  </a:lnTo>
                  <a:lnTo>
                    <a:pt x="839" y="1912"/>
                  </a:lnTo>
                  <a:lnTo>
                    <a:pt x="831" y="1916"/>
                  </a:lnTo>
                  <a:lnTo>
                    <a:pt x="820" y="1918"/>
                  </a:lnTo>
                  <a:lnTo>
                    <a:pt x="810" y="1922"/>
                  </a:lnTo>
                  <a:lnTo>
                    <a:pt x="801" y="1925"/>
                  </a:lnTo>
                  <a:lnTo>
                    <a:pt x="791" y="1929"/>
                  </a:lnTo>
                  <a:lnTo>
                    <a:pt x="780" y="1931"/>
                  </a:lnTo>
                  <a:lnTo>
                    <a:pt x="768" y="1935"/>
                  </a:lnTo>
                  <a:lnTo>
                    <a:pt x="759" y="1939"/>
                  </a:lnTo>
                  <a:lnTo>
                    <a:pt x="747" y="1943"/>
                  </a:lnTo>
                  <a:lnTo>
                    <a:pt x="736" y="1944"/>
                  </a:lnTo>
                  <a:lnTo>
                    <a:pt x="725" y="1946"/>
                  </a:lnTo>
                  <a:lnTo>
                    <a:pt x="711" y="1948"/>
                  </a:lnTo>
                  <a:lnTo>
                    <a:pt x="702" y="1952"/>
                  </a:lnTo>
                  <a:lnTo>
                    <a:pt x="688" y="1956"/>
                  </a:lnTo>
                  <a:lnTo>
                    <a:pt x="677" y="1958"/>
                  </a:lnTo>
                  <a:lnTo>
                    <a:pt x="664" y="1960"/>
                  </a:lnTo>
                  <a:lnTo>
                    <a:pt x="652" y="1963"/>
                  </a:lnTo>
                  <a:lnTo>
                    <a:pt x="641" y="1965"/>
                  </a:lnTo>
                  <a:lnTo>
                    <a:pt x="628" y="1967"/>
                  </a:lnTo>
                  <a:lnTo>
                    <a:pt x="616" y="1969"/>
                  </a:lnTo>
                  <a:lnTo>
                    <a:pt x="605" y="1971"/>
                  </a:lnTo>
                  <a:lnTo>
                    <a:pt x="591" y="1973"/>
                  </a:lnTo>
                  <a:lnTo>
                    <a:pt x="578" y="1975"/>
                  </a:lnTo>
                  <a:lnTo>
                    <a:pt x="567" y="1977"/>
                  </a:lnTo>
                  <a:lnTo>
                    <a:pt x="555" y="1979"/>
                  </a:lnTo>
                  <a:lnTo>
                    <a:pt x="542" y="1979"/>
                  </a:lnTo>
                  <a:lnTo>
                    <a:pt x="529" y="1981"/>
                  </a:lnTo>
                  <a:lnTo>
                    <a:pt x="515" y="1981"/>
                  </a:lnTo>
                  <a:lnTo>
                    <a:pt x="504" y="1981"/>
                  </a:lnTo>
                  <a:lnTo>
                    <a:pt x="491" y="1981"/>
                  </a:lnTo>
                  <a:lnTo>
                    <a:pt x="479" y="1981"/>
                  </a:lnTo>
                  <a:lnTo>
                    <a:pt x="466" y="1981"/>
                  </a:lnTo>
                  <a:lnTo>
                    <a:pt x="453" y="1981"/>
                  </a:lnTo>
                  <a:lnTo>
                    <a:pt x="439" y="1981"/>
                  </a:lnTo>
                  <a:lnTo>
                    <a:pt x="428" y="1979"/>
                  </a:lnTo>
                  <a:lnTo>
                    <a:pt x="415" y="1979"/>
                  </a:lnTo>
                  <a:lnTo>
                    <a:pt x="403" y="1977"/>
                  </a:lnTo>
                  <a:lnTo>
                    <a:pt x="390" y="1975"/>
                  </a:lnTo>
                  <a:lnTo>
                    <a:pt x="379" y="1973"/>
                  </a:lnTo>
                  <a:lnTo>
                    <a:pt x="367" y="1971"/>
                  </a:lnTo>
                  <a:lnTo>
                    <a:pt x="356" y="1969"/>
                  </a:lnTo>
                  <a:lnTo>
                    <a:pt x="342" y="1965"/>
                  </a:lnTo>
                  <a:lnTo>
                    <a:pt x="331" y="1962"/>
                  </a:lnTo>
                  <a:lnTo>
                    <a:pt x="318" y="1958"/>
                  </a:lnTo>
                  <a:lnTo>
                    <a:pt x="306" y="1956"/>
                  </a:lnTo>
                  <a:lnTo>
                    <a:pt x="295" y="1950"/>
                  </a:lnTo>
                  <a:lnTo>
                    <a:pt x="283" y="1946"/>
                  </a:lnTo>
                  <a:lnTo>
                    <a:pt x="272" y="1943"/>
                  </a:lnTo>
                  <a:lnTo>
                    <a:pt x="261" y="1937"/>
                  </a:lnTo>
                  <a:lnTo>
                    <a:pt x="249" y="1931"/>
                  </a:lnTo>
                  <a:lnTo>
                    <a:pt x="238" y="1925"/>
                  </a:lnTo>
                  <a:lnTo>
                    <a:pt x="228" y="1918"/>
                  </a:lnTo>
                  <a:lnTo>
                    <a:pt x="217" y="1912"/>
                  </a:lnTo>
                  <a:lnTo>
                    <a:pt x="206" y="1905"/>
                  </a:lnTo>
                  <a:lnTo>
                    <a:pt x="196" y="1897"/>
                  </a:lnTo>
                  <a:lnTo>
                    <a:pt x="187" y="1891"/>
                  </a:lnTo>
                  <a:lnTo>
                    <a:pt x="177" y="1884"/>
                  </a:lnTo>
                  <a:lnTo>
                    <a:pt x="168" y="1874"/>
                  </a:lnTo>
                  <a:lnTo>
                    <a:pt x="158" y="1865"/>
                  </a:lnTo>
                  <a:lnTo>
                    <a:pt x="149" y="1855"/>
                  </a:lnTo>
                  <a:lnTo>
                    <a:pt x="141" y="1848"/>
                  </a:lnTo>
                  <a:lnTo>
                    <a:pt x="131" y="1838"/>
                  </a:lnTo>
                  <a:lnTo>
                    <a:pt x="122" y="1829"/>
                  </a:lnTo>
                  <a:lnTo>
                    <a:pt x="116" y="1819"/>
                  </a:lnTo>
                  <a:lnTo>
                    <a:pt x="109" y="1810"/>
                  </a:lnTo>
                  <a:lnTo>
                    <a:pt x="101" y="1800"/>
                  </a:lnTo>
                  <a:lnTo>
                    <a:pt x="93" y="1791"/>
                  </a:lnTo>
                  <a:lnTo>
                    <a:pt x="86" y="1781"/>
                  </a:lnTo>
                  <a:lnTo>
                    <a:pt x="80" y="1772"/>
                  </a:lnTo>
                  <a:lnTo>
                    <a:pt x="74" y="1760"/>
                  </a:lnTo>
                  <a:lnTo>
                    <a:pt x="69" y="1751"/>
                  </a:lnTo>
                  <a:lnTo>
                    <a:pt x="63" y="1741"/>
                  </a:lnTo>
                  <a:lnTo>
                    <a:pt x="59" y="1732"/>
                  </a:lnTo>
                  <a:lnTo>
                    <a:pt x="53" y="1720"/>
                  </a:lnTo>
                  <a:lnTo>
                    <a:pt x="48" y="1709"/>
                  </a:lnTo>
                  <a:lnTo>
                    <a:pt x="44" y="1697"/>
                  </a:lnTo>
                  <a:lnTo>
                    <a:pt x="40" y="1688"/>
                  </a:lnTo>
                  <a:lnTo>
                    <a:pt x="34" y="1675"/>
                  </a:lnTo>
                  <a:lnTo>
                    <a:pt x="33" y="1665"/>
                  </a:lnTo>
                  <a:lnTo>
                    <a:pt x="29" y="1654"/>
                  </a:lnTo>
                  <a:lnTo>
                    <a:pt x="25" y="1642"/>
                  </a:lnTo>
                  <a:lnTo>
                    <a:pt x="23" y="1631"/>
                  </a:lnTo>
                  <a:lnTo>
                    <a:pt x="19" y="1619"/>
                  </a:lnTo>
                  <a:lnTo>
                    <a:pt x="15" y="1606"/>
                  </a:lnTo>
                  <a:lnTo>
                    <a:pt x="15" y="1597"/>
                  </a:lnTo>
                  <a:lnTo>
                    <a:pt x="12" y="1583"/>
                  </a:lnTo>
                  <a:lnTo>
                    <a:pt x="10" y="1572"/>
                  </a:lnTo>
                  <a:lnTo>
                    <a:pt x="8" y="1559"/>
                  </a:lnTo>
                  <a:lnTo>
                    <a:pt x="8" y="1549"/>
                  </a:lnTo>
                  <a:lnTo>
                    <a:pt x="6" y="1536"/>
                  </a:lnTo>
                  <a:lnTo>
                    <a:pt x="4" y="1523"/>
                  </a:lnTo>
                  <a:lnTo>
                    <a:pt x="2" y="1509"/>
                  </a:lnTo>
                  <a:lnTo>
                    <a:pt x="2" y="1498"/>
                  </a:lnTo>
                  <a:lnTo>
                    <a:pt x="0" y="1485"/>
                  </a:lnTo>
                  <a:lnTo>
                    <a:pt x="0" y="1471"/>
                  </a:lnTo>
                  <a:lnTo>
                    <a:pt x="0" y="1458"/>
                  </a:lnTo>
                  <a:lnTo>
                    <a:pt x="0" y="1445"/>
                  </a:lnTo>
                  <a:lnTo>
                    <a:pt x="0" y="1431"/>
                  </a:lnTo>
                  <a:lnTo>
                    <a:pt x="0" y="1418"/>
                  </a:lnTo>
                  <a:lnTo>
                    <a:pt x="0" y="1403"/>
                  </a:lnTo>
                  <a:lnTo>
                    <a:pt x="0" y="1391"/>
                  </a:lnTo>
                  <a:lnTo>
                    <a:pt x="0" y="1376"/>
                  </a:lnTo>
                  <a:lnTo>
                    <a:pt x="2" y="1363"/>
                  </a:lnTo>
                  <a:lnTo>
                    <a:pt x="4" y="1350"/>
                  </a:lnTo>
                  <a:lnTo>
                    <a:pt x="6" y="1336"/>
                  </a:lnTo>
                  <a:lnTo>
                    <a:pt x="6" y="1319"/>
                  </a:lnTo>
                  <a:lnTo>
                    <a:pt x="6" y="1306"/>
                  </a:lnTo>
                  <a:lnTo>
                    <a:pt x="8" y="1291"/>
                  </a:lnTo>
                  <a:lnTo>
                    <a:pt x="10" y="1277"/>
                  </a:lnTo>
                  <a:lnTo>
                    <a:pt x="10" y="1262"/>
                  </a:lnTo>
                  <a:lnTo>
                    <a:pt x="12" y="1247"/>
                  </a:lnTo>
                  <a:lnTo>
                    <a:pt x="14" y="1234"/>
                  </a:lnTo>
                  <a:lnTo>
                    <a:pt x="15" y="1218"/>
                  </a:lnTo>
                  <a:lnTo>
                    <a:pt x="15" y="1203"/>
                  </a:lnTo>
                  <a:lnTo>
                    <a:pt x="19" y="1188"/>
                  </a:lnTo>
                  <a:lnTo>
                    <a:pt x="19" y="1171"/>
                  </a:lnTo>
                  <a:lnTo>
                    <a:pt x="23" y="1158"/>
                  </a:lnTo>
                  <a:lnTo>
                    <a:pt x="23" y="1142"/>
                  </a:lnTo>
                  <a:lnTo>
                    <a:pt x="27" y="1127"/>
                  </a:lnTo>
                  <a:lnTo>
                    <a:pt x="29" y="1110"/>
                  </a:lnTo>
                  <a:lnTo>
                    <a:pt x="33" y="1097"/>
                  </a:lnTo>
                  <a:lnTo>
                    <a:pt x="33" y="1080"/>
                  </a:lnTo>
                  <a:lnTo>
                    <a:pt x="34" y="1064"/>
                  </a:lnTo>
                  <a:lnTo>
                    <a:pt x="38" y="1049"/>
                  </a:lnTo>
                  <a:lnTo>
                    <a:pt x="42" y="1036"/>
                  </a:lnTo>
                  <a:lnTo>
                    <a:pt x="44" y="1019"/>
                  </a:lnTo>
                  <a:lnTo>
                    <a:pt x="48" y="1006"/>
                  </a:lnTo>
                  <a:lnTo>
                    <a:pt x="52" y="992"/>
                  </a:lnTo>
                  <a:lnTo>
                    <a:pt x="55" y="979"/>
                  </a:lnTo>
                  <a:lnTo>
                    <a:pt x="57" y="966"/>
                  </a:lnTo>
                  <a:lnTo>
                    <a:pt x="61" y="950"/>
                  </a:lnTo>
                  <a:lnTo>
                    <a:pt x="65" y="937"/>
                  </a:lnTo>
                  <a:lnTo>
                    <a:pt x="71" y="926"/>
                  </a:lnTo>
                  <a:lnTo>
                    <a:pt x="74" y="912"/>
                  </a:lnTo>
                  <a:lnTo>
                    <a:pt x="80" y="901"/>
                  </a:lnTo>
                  <a:lnTo>
                    <a:pt x="86" y="888"/>
                  </a:lnTo>
                  <a:lnTo>
                    <a:pt x="91" y="876"/>
                  </a:lnTo>
                  <a:lnTo>
                    <a:pt x="97" y="863"/>
                  </a:lnTo>
                  <a:lnTo>
                    <a:pt x="103" y="852"/>
                  </a:lnTo>
                  <a:lnTo>
                    <a:pt x="107" y="838"/>
                  </a:lnTo>
                  <a:lnTo>
                    <a:pt x="114" y="829"/>
                  </a:lnTo>
                  <a:lnTo>
                    <a:pt x="120" y="815"/>
                  </a:lnTo>
                  <a:lnTo>
                    <a:pt x="126" y="806"/>
                  </a:lnTo>
                  <a:lnTo>
                    <a:pt x="133" y="795"/>
                  </a:lnTo>
                  <a:lnTo>
                    <a:pt x="141" y="785"/>
                  </a:lnTo>
                  <a:lnTo>
                    <a:pt x="149" y="774"/>
                  </a:lnTo>
                  <a:lnTo>
                    <a:pt x="154" y="762"/>
                  </a:lnTo>
                  <a:lnTo>
                    <a:pt x="162" y="753"/>
                  </a:lnTo>
                  <a:lnTo>
                    <a:pt x="169" y="743"/>
                  </a:lnTo>
                  <a:lnTo>
                    <a:pt x="177" y="732"/>
                  </a:lnTo>
                  <a:lnTo>
                    <a:pt x="187" y="722"/>
                  </a:lnTo>
                  <a:lnTo>
                    <a:pt x="194" y="713"/>
                  </a:lnTo>
                  <a:lnTo>
                    <a:pt x="204" y="703"/>
                  </a:lnTo>
                  <a:lnTo>
                    <a:pt x="211" y="692"/>
                  </a:lnTo>
                  <a:lnTo>
                    <a:pt x="221" y="680"/>
                  </a:lnTo>
                  <a:lnTo>
                    <a:pt x="228" y="671"/>
                  </a:lnTo>
                  <a:lnTo>
                    <a:pt x="238" y="661"/>
                  </a:lnTo>
                  <a:lnTo>
                    <a:pt x="247" y="652"/>
                  </a:lnTo>
                  <a:lnTo>
                    <a:pt x="257" y="642"/>
                  </a:lnTo>
                  <a:lnTo>
                    <a:pt x="266" y="633"/>
                  </a:lnTo>
                  <a:lnTo>
                    <a:pt x="276" y="623"/>
                  </a:lnTo>
                  <a:lnTo>
                    <a:pt x="285" y="614"/>
                  </a:lnTo>
                  <a:lnTo>
                    <a:pt x="295" y="604"/>
                  </a:lnTo>
                  <a:lnTo>
                    <a:pt x="306" y="593"/>
                  </a:lnTo>
                  <a:lnTo>
                    <a:pt x="318" y="585"/>
                  </a:lnTo>
                  <a:lnTo>
                    <a:pt x="327" y="576"/>
                  </a:lnTo>
                  <a:lnTo>
                    <a:pt x="339" y="566"/>
                  </a:lnTo>
                  <a:lnTo>
                    <a:pt x="350" y="557"/>
                  </a:lnTo>
                  <a:lnTo>
                    <a:pt x="361" y="549"/>
                  </a:lnTo>
                  <a:lnTo>
                    <a:pt x="373" y="538"/>
                  </a:lnTo>
                  <a:lnTo>
                    <a:pt x="382" y="528"/>
                  </a:lnTo>
                  <a:lnTo>
                    <a:pt x="396" y="519"/>
                  </a:lnTo>
                  <a:lnTo>
                    <a:pt x="407" y="509"/>
                  </a:lnTo>
                  <a:lnTo>
                    <a:pt x="418" y="500"/>
                  </a:lnTo>
                  <a:lnTo>
                    <a:pt x="430" y="490"/>
                  </a:lnTo>
                  <a:lnTo>
                    <a:pt x="443" y="481"/>
                  </a:lnTo>
                  <a:lnTo>
                    <a:pt x="456" y="471"/>
                  </a:lnTo>
                  <a:lnTo>
                    <a:pt x="468" y="462"/>
                  </a:lnTo>
                  <a:lnTo>
                    <a:pt x="481" y="452"/>
                  </a:lnTo>
                  <a:lnTo>
                    <a:pt x="493" y="441"/>
                  </a:lnTo>
                  <a:lnTo>
                    <a:pt x="508" y="431"/>
                  </a:lnTo>
                  <a:lnTo>
                    <a:pt x="521" y="420"/>
                  </a:lnTo>
                  <a:lnTo>
                    <a:pt x="534" y="411"/>
                  </a:lnTo>
                  <a:lnTo>
                    <a:pt x="548" y="401"/>
                  </a:lnTo>
                  <a:lnTo>
                    <a:pt x="563" y="392"/>
                  </a:lnTo>
                  <a:lnTo>
                    <a:pt x="574" y="382"/>
                  </a:lnTo>
                  <a:lnTo>
                    <a:pt x="588" y="371"/>
                  </a:lnTo>
                  <a:lnTo>
                    <a:pt x="601" y="359"/>
                  </a:lnTo>
                  <a:lnTo>
                    <a:pt x="614" y="352"/>
                  </a:lnTo>
                  <a:lnTo>
                    <a:pt x="626" y="340"/>
                  </a:lnTo>
                  <a:lnTo>
                    <a:pt x="639" y="333"/>
                  </a:lnTo>
                  <a:lnTo>
                    <a:pt x="652" y="323"/>
                  </a:lnTo>
                  <a:lnTo>
                    <a:pt x="666" y="316"/>
                  </a:lnTo>
                  <a:lnTo>
                    <a:pt x="677" y="308"/>
                  </a:lnTo>
                  <a:lnTo>
                    <a:pt x="688" y="300"/>
                  </a:lnTo>
                  <a:lnTo>
                    <a:pt x="702" y="293"/>
                  </a:lnTo>
                  <a:lnTo>
                    <a:pt x="713" y="287"/>
                  </a:lnTo>
                  <a:lnTo>
                    <a:pt x="725" y="279"/>
                  </a:lnTo>
                  <a:lnTo>
                    <a:pt x="736" y="272"/>
                  </a:lnTo>
                  <a:lnTo>
                    <a:pt x="749" y="266"/>
                  </a:lnTo>
                  <a:lnTo>
                    <a:pt x="761" y="262"/>
                  </a:lnTo>
                  <a:lnTo>
                    <a:pt x="772" y="255"/>
                  </a:lnTo>
                  <a:lnTo>
                    <a:pt x="783" y="249"/>
                  </a:lnTo>
                  <a:lnTo>
                    <a:pt x="795" y="243"/>
                  </a:lnTo>
                  <a:lnTo>
                    <a:pt x="806" y="240"/>
                  </a:lnTo>
                  <a:lnTo>
                    <a:pt x="818" y="234"/>
                  </a:lnTo>
                  <a:lnTo>
                    <a:pt x="829" y="230"/>
                  </a:lnTo>
                  <a:lnTo>
                    <a:pt x="839" y="224"/>
                  </a:lnTo>
                  <a:lnTo>
                    <a:pt x="852" y="221"/>
                  </a:lnTo>
                  <a:lnTo>
                    <a:pt x="861" y="217"/>
                  </a:lnTo>
                  <a:lnTo>
                    <a:pt x="873" y="213"/>
                  </a:lnTo>
                  <a:lnTo>
                    <a:pt x="884" y="209"/>
                  </a:lnTo>
                  <a:lnTo>
                    <a:pt x="896" y="205"/>
                  </a:lnTo>
                  <a:lnTo>
                    <a:pt x="907" y="201"/>
                  </a:lnTo>
                  <a:lnTo>
                    <a:pt x="917" y="198"/>
                  </a:lnTo>
                  <a:lnTo>
                    <a:pt x="928" y="194"/>
                  </a:lnTo>
                  <a:lnTo>
                    <a:pt x="939" y="192"/>
                  </a:lnTo>
                  <a:lnTo>
                    <a:pt x="951" y="188"/>
                  </a:lnTo>
                  <a:lnTo>
                    <a:pt x="962" y="184"/>
                  </a:lnTo>
                  <a:lnTo>
                    <a:pt x="972" y="181"/>
                  </a:lnTo>
                  <a:lnTo>
                    <a:pt x="983" y="179"/>
                  </a:lnTo>
                  <a:lnTo>
                    <a:pt x="995" y="175"/>
                  </a:lnTo>
                  <a:lnTo>
                    <a:pt x="1006" y="171"/>
                  </a:lnTo>
                  <a:lnTo>
                    <a:pt x="1015" y="169"/>
                  </a:lnTo>
                  <a:lnTo>
                    <a:pt x="1029" y="167"/>
                  </a:lnTo>
                  <a:lnTo>
                    <a:pt x="1038" y="163"/>
                  </a:lnTo>
                  <a:lnTo>
                    <a:pt x="1050" y="162"/>
                  </a:lnTo>
                  <a:lnTo>
                    <a:pt x="1061" y="158"/>
                  </a:lnTo>
                  <a:lnTo>
                    <a:pt x="1074" y="156"/>
                  </a:lnTo>
                  <a:lnTo>
                    <a:pt x="1084" y="152"/>
                  </a:lnTo>
                  <a:lnTo>
                    <a:pt x="1097" y="152"/>
                  </a:lnTo>
                  <a:lnTo>
                    <a:pt x="1109" y="148"/>
                  </a:lnTo>
                  <a:lnTo>
                    <a:pt x="1120" y="146"/>
                  </a:lnTo>
                  <a:lnTo>
                    <a:pt x="1131" y="143"/>
                  </a:lnTo>
                  <a:lnTo>
                    <a:pt x="1143" y="141"/>
                  </a:lnTo>
                  <a:lnTo>
                    <a:pt x="1154" y="137"/>
                  </a:lnTo>
                  <a:lnTo>
                    <a:pt x="1168" y="135"/>
                  </a:lnTo>
                  <a:lnTo>
                    <a:pt x="1179" y="131"/>
                  </a:lnTo>
                  <a:lnTo>
                    <a:pt x="1192" y="129"/>
                  </a:lnTo>
                  <a:lnTo>
                    <a:pt x="1204" y="125"/>
                  </a:lnTo>
                  <a:lnTo>
                    <a:pt x="1219" y="124"/>
                  </a:lnTo>
                  <a:lnTo>
                    <a:pt x="1230" y="118"/>
                  </a:lnTo>
                  <a:lnTo>
                    <a:pt x="1244" y="114"/>
                  </a:lnTo>
                  <a:lnTo>
                    <a:pt x="1255" y="110"/>
                  </a:lnTo>
                  <a:lnTo>
                    <a:pt x="1270" y="106"/>
                  </a:lnTo>
                  <a:lnTo>
                    <a:pt x="1284" y="103"/>
                  </a:lnTo>
                  <a:lnTo>
                    <a:pt x="1297" y="101"/>
                  </a:lnTo>
                  <a:lnTo>
                    <a:pt x="1310" y="97"/>
                  </a:lnTo>
                  <a:lnTo>
                    <a:pt x="1325" y="93"/>
                  </a:lnTo>
                  <a:lnTo>
                    <a:pt x="132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 rot="20995800">
              <a:off x="6133680" y="3231000"/>
              <a:ext cx="1966680" cy="1152720"/>
            </a:xfrm>
            <a:custGeom>
              <a:avLst/>
              <a:gdLst/>
              <a:ahLst/>
              <a:rect l="l" t="t" r="r" b="b"/>
              <a:pathLst>
                <a:path w="2992" h="1997">
                  <a:moveTo>
                    <a:pt x="1137" y="76"/>
                  </a:moveTo>
                  <a:lnTo>
                    <a:pt x="1148" y="72"/>
                  </a:lnTo>
                  <a:lnTo>
                    <a:pt x="1160" y="68"/>
                  </a:lnTo>
                  <a:lnTo>
                    <a:pt x="1171" y="64"/>
                  </a:lnTo>
                  <a:lnTo>
                    <a:pt x="1182" y="62"/>
                  </a:lnTo>
                  <a:lnTo>
                    <a:pt x="1194" y="59"/>
                  </a:lnTo>
                  <a:lnTo>
                    <a:pt x="1205" y="55"/>
                  </a:lnTo>
                  <a:lnTo>
                    <a:pt x="1217" y="53"/>
                  </a:lnTo>
                  <a:lnTo>
                    <a:pt x="1228" y="51"/>
                  </a:lnTo>
                  <a:lnTo>
                    <a:pt x="1239" y="47"/>
                  </a:lnTo>
                  <a:lnTo>
                    <a:pt x="1251" y="45"/>
                  </a:lnTo>
                  <a:lnTo>
                    <a:pt x="1260" y="43"/>
                  </a:lnTo>
                  <a:lnTo>
                    <a:pt x="1274" y="41"/>
                  </a:lnTo>
                  <a:lnTo>
                    <a:pt x="1283" y="40"/>
                  </a:lnTo>
                  <a:lnTo>
                    <a:pt x="1295" y="38"/>
                  </a:lnTo>
                  <a:lnTo>
                    <a:pt x="1306" y="36"/>
                  </a:lnTo>
                  <a:lnTo>
                    <a:pt x="1317" y="36"/>
                  </a:lnTo>
                  <a:lnTo>
                    <a:pt x="1329" y="32"/>
                  </a:lnTo>
                  <a:lnTo>
                    <a:pt x="1338" y="32"/>
                  </a:lnTo>
                  <a:lnTo>
                    <a:pt x="1350" y="30"/>
                  </a:lnTo>
                  <a:lnTo>
                    <a:pt x="1361" y="28"/>
                  </a:lnTo>
                  <a:lnTo>
                    <a:pt x="1371" y="26"/>
                  </a:lnTo>
                  <a:lnTo>
                    <a:pt x="1382" y="26"/>
                  </a:lnTo>
                  <a:lnTo>
                    <a:pt x="1393" y="22"/>
                  </a:lnTo>
                  <a:lnTo>
                    <a:pt x="1405" y="22"/>
                  </a:lnTo>
                  <a:lnTo>
                    <a:pt x="1414" y="22"/>
                  </a:lnTo>
                  <a:lnTo>
                    <a:pt x="1426" y="21"/>
                  </a:lnTo>
                  <a:lnTo>
                    <a:pt x="1437" y="21"/>
                  </a:lnTo>
                  <a:lnTo>
                    <a:pt x="1450" y="21"/>
                  </a:lnTo>
                  <a:lnTo>
                    <a:pt x="1460" y="19"/>
                  </a:lnTo>
                  <a:lnTo>
                    <a:pt x="1473" y="17"/>
                  </a:lnTo>
                  <a:lnTo>
                    <a:pt x="1485" y="17"/>
                  </a:lnTo>
                  <a:lnTo>
                    <a:pt x="1498" y="17"/>
                  </a:lnTo>
                  <a:lnTo>
                    <a:pt x="1509" y="17"/>
                  </a:lnTo>
                  <a:lnTo>
                    <a:pt x="1521" y="15"/>
                  </a:lnTo>
                  <a:lnTo>
                    <a:pt x="1534" y="13"/>
                  </a:lnTo>
                  <a:lnTo>
                    <a:pt x="1547" y="13"/>
                  </a:lnTo>
                  <a:lnTo>
                    <a:pt x="1559" y="13"/>
                  </a:lnTo>
                  <a:lnTo>
                    <a:pt x="1572" y="13"/>
                  </a:lnTo>
                  <a:lnTo>
                    <a:pt x="1584" y="13"/>
                  </a:lnTo>
                  <a:lnTo>
                    <a:pt x="1599" y="13"/>
                  </a:lnTo>
                  <a:lnTo>
                    <a:pt x="1612" y="11"/>
                  </a:lnTo>
                  <a:lnTo>
                    <a:pt x="1625" y="11"/>
                  </a:lnTo>
                  <a:lnTo>
                    <a:pt x="1639" y="9"/>
                  </a:lnTo>
                  <a:lnTo>
                    <a:pt x="1654" y="9"/>
                  </a:lnTo>
                  <a:lnTo>
                    <a:pt x="1667" y="9"/>
                  </a:lnTo>
                  <a:lnTo>
                    <a:pt x="1682" y="9"/>
                  </a:lnTo>
                  <a:lnTo>
                    <a:pt x="1698" y="9"/>
                  </a:lnTo>
                  <a:lnTo>
                    <a:pt x="1713" y="9"/>
                  </a:lnTo>
                  <a:lnTo>
                    <a:pt x="1728" y="9"/>
                  </a:lnTo>
                  <a:lnTo>
                    <a:pt x="1743" y="9"/>
                  </a:lnTo>
                  <a:lnTo>
                    <a:pt x="1758" y="7"/>
                  </a:lnTo>
                  <a:lnTo>
                    <a:pt x="1776" y="7"/>
                  </a:lnTo>
                  <a:lnTo>
                    <a:pt x="1791" y="7"/>
                  </a:lnTo>
                  <a:lnTo>
                    <a:pt x="1808" y="7"/>
                  </a:lnTo>
                  <a:lnTo>
                    <a:pt x="1825" y="7"/>
                  </a:lnTo>
                  <a:lnTo>
                    <a:pt x="1844" y="7"/>
                  </a:lnTo>
                  <a:lnTo>
                    <a:pt x="1859" y="5"/>
                  </a:lnTo>
                  <a:lnTo>
                    <a:pt x="1878" y="5"/>
                  </a:lnTo>
                  <a:lnTo>
                    <a:pt x="1897" y="3"/>
                  </a:lnTo>
                  <a:lnTo>
                    <a:pt x="1916" y="3"/>
                  </a:lnTo>
                  <a:lnTo>
                    <a:pt x="1933" y="3"/>
                  </a:lnTo>
                  <a:lnTo>
                    <a:pt x="1954" y="3"/>
                  </a:lnTo>
                  <a:lnTo>
                    <a:pt x="1975" y="3"/>
                  </a:lnTo>
                  <a:lnTo>
                    <a:pt x="1996" y="3"/>
                  </a:lnTo>
                  <a:lnTo>
                    <a:pt x="2015" y="1"/>
                  </a:lnTo>
                  <a:lnTo>
                    <a:pt x="2036" y="0"/>
                  </a:lnTo>
                  <a:lnTo>
                    <a:pt x="2055" y="0"/>
                  </a:lnTo>
                  <a:lnTo>
                    <a:pt x="2074" y="0"/>
                  </a:lnTo>
                  <a:lnTo>
                    <a:pt x="2093" y="0"/>
                  </a:lnTo>
                  <a:lnTo>
                    <a:pt x="2114" y="0"/>
                  </a:lnTo>
                  <a:lnTo>
                    <a:pt x="2133" y="1"/>
                  </a:lnTo>
                  <a:lnTo>
                    <a:pt x="2154" y="3"/>
                  </a:lnTo>
                  <a:lnTo>
                    <a:pt x="2171" y="3"/>
                  </a:lnTo>
                  <a:lnTo>
                    <a:pt x="2190" y="7"/>
                  </a:lnTo>
                  <a:lnTo>
                    <a:pt x="2209" y="7"/>
                  </a:lnTo>
                  <a:lnTo>
                    <a:pt x="2228" y="11"/>
                  </a:lnTo>
                  <a:lnTo>
                    <a:pt x="2245" y="13"/>
                  </a:lnTo>
                  <a:lnTo>
                    <a:pt x="2264" y="15"/>
                  </a:lnTo>
                  <a:lnTo>
                    <a:pt x="2281" y="19"/>
                  </a:lnTo>
                  <a:lnTo>
                    <a:pt x="2300" y="22"/>
                  </a:lnTo>
                  <a:lnTo>
                    <a:pt x="2317" y="24"/>
                  </a:lnTo>
                  <a:lnTo>
                    <a:pt x="2335" y="28"/>
                  </a:lnTo>
                  <a:lnTo>
                    <a:pt x="2352" y="32"/>
                  </a:lnTo>
                  <a:lnTo>
                    <a:pt x="2369" y="36"/>
                  </a:lnTo>
                  <a:lnTo>
                    <a:pt x="2386" y="40"/>
                  </a:lnTo>
                  <a:lnTo>
                    <a:pt x="2403" y="43"/>
                  </a:lnTo>
                  <a:lnTo>
                    <a:pt x="2418" y="49"/>
                  </a:lnTo>
                  <a:lnTo>
                    <a:pt x="2435" y="55"/>
                  </a:lnTo>
                  <a:lnTo>
                    <a:pt x="2451" y="59"/>
                  </a:lnTo>
                  <a:lnTo>
                    <a:pt x="2468" y="64"/>
                  </a:lnTo>
                  <a:lnTo>
                    <a:pt x="2483" y="68"/>
                  </a:lnTo>
                  <a:lnTo>
                    <a:pt x="2498" y="76"/>
                  </a:lnTo>
                  <a:lnTo>
                    <a:pt x="2511" y="81"/>
                  </a:lnTo>
                  <a:lnTo>
                    <a:pt x="2528" y="87"/>
                  </a:lnTo>
                  <a:lnTo>
                    <a:pt x="2544" y="95"/>
                  </a:lnTo>
                  <a:lnTo>
                    <a:pt x="2559" y="102"/>
                  </a:lnTo>
                  <a:lnTo>
                    <a:pt x="2572" y="108"/>
                  </a:lnTo>
                  <a:lnTo>
                    <a:pt x="2585" y="114"/>
                  </a:lnTo>
                  <a:lnTo>
                    <a:pt x="2601" y="121"/>
                  </a:lnTo>
                  <a:lnTo>
                    <a:pt x="2616" y="129"/>
                  </a:lnTo>
                  <a:lnTo>
                    <a:pt x="2627" y="136"/>
                  </a:lnTo>
                  <a:lnTo>
                    <a:pt x="2641" y="144"/>
                  </a:lnTo>
                  <a:lnTo>
                    <a:pt x="2654" y="152"/>
                  </a:lnTo>
                  <a:lnTo>
                    <a:pt x="2667" y="161"/>
                  </a:lnTo>
                  <a:lnTo>
                    <a:pt x="2679" y="169"/>
                  </a:lnTo>
                  <a:lnTo>
                    <a:pt x="2692" y="176"/>
                  </a:lnTo>
                  <a:lnTo>
                    <a:pt x="2703" y="184"/>
                  </a:lnTo>
                  <a:lnTo>
                    <a:pt x="2717" y="195"/>
                  </a:lnTo>
                  <a:lnTo>
                    <a:pt x="2728" y="203"/>
                  </a:lnTo>
                  <a:lnTo>
                    <a:pt x="2739" y="212"/>
                  </a:lnTo>
                  <a:lnTo>
                    <a:pt x="2751" y="222"/>
                  </a:lnTo>
                  <a:lnTo>
                    <a:pt x="2762" y="233"/>
                  </a:lnTo>
                  <a:lnTo>
                    <a:pt x="2772" y="243"/>
                  </a:lnTo>
                  <a:lnTo>
                    <a:pt x="2783" y="252"/>
                  </a:lnTo>
                  <a:lnTo>
                    <a:pt x="2793" y="264"/>
                  </a:lnTo>
                  <a:lnTo>
                    <a:pt x="2802" y="275"/>
                  </a:lnTo>
                  <a:lnTo>
                    <a:pt x="2812" y="285"/>
                  </a:lnTo>
                  <a:lnTo>
                    <a:pt x="2821" y="294"/>
                  </a:lnTo>
                  <a:lnTo>
                    <a:pt x="2831" y="308"/>
                  </a:lnTo>
                  <a:lnTo>
                    <a:pt x="2840" y="319"/>
                  </a:lnTo>
                  <a:lnTo>
                    <a:pt x="2850" y="328"/>
                  </a:lnTo>
                  <a:lnTo>
                    <a:pt x="2857" y="340"/>
                  </a:lnTo>
                  <a:lnTo>
                    <a:pt x="2867" y="351"/>
                  </a:lnTo>
                  <a:lnTo>
                    <a:pt x="2874" y="365"/>
                  </a:lnTo>
                  <a:lnTo>
                    <a:pt x="2882" y="376"/>
                  </a:lnTo>
                  <a:lnTo>
                    <a:pt x="2888" y="389"/>
                  </a:lnTo>
                  <a:lnTo>
                    <a:pt x="2895" y="401"/>
                  </a:lnTo>
                  <a:lnTo>
                    <a:pt x="2905" y="414"/>
                  </a:lnTo>
                  <a:lnTo>
                    <a:pt x="2911" y="427"/>
                  </a:lnTo>
                  <a:lnTo>
                    <a:pt x="2916" y="439"/>
                  </a:lnTo>
                  <a:lnTo>
                    <a:pt x="2922" y="452"/>
                  </a:lnTo>
                  <a:lnTo>
                    <a:pt x="2928" y="465"/>
                  </a:lnTo>
                  <a:lnTo>
                    <a:pt x="2933" y="477"/>
                  </a:lnTo>
                  <a:lnTo>
                    <a:pt x="2939" y="490"/>
                  </a:lnTo>
                  <a:lnTo>
                    <a:pt x="2943" y="503"/>
                  </a:lnTo>
                  <a:lnTo>
                    <a:pt x="2951" y="518"/>
                  </a:lnTo>
                  <a:lnTo>
                    <a:pt x="2952" y="532"/>
                  </a:lnTo>
                  <a:lnTo>
                    <a:pt x="2956" y="545"/>
                  </a:lnTo>
                  <a:lnTo>
                    <a:pt x="2960" y="558"/>
                  </a:lnTo>
                  <a:lnTo>
                    <a:pt x="2966" y="574"/>
                  </a:lnTo>
                  <a:lnTo>
                    <a:pt x="2968" y="587"/>
                  </a:lnTo>
                  <a:lnTo>
                    <a:pt x="2971" y="602"/>
                  </a:lnTo>
                  <a:lnTo>
                    <a:pt x="2975" y="615"/>
                  </a:lnTo>
                  <a:lnTo>
                    <a:pt x="2979" y="631"/>
                  </a:lnTo>
                  <a:lnTo>
                    <a:pt x="2979" y="646"/>
                  </a:lnTo>
                  <a:lnTo>
                    <a:pt x="2981" y="659"/>
                  </a:lnTo>
                  <a:lnTo>
                    <a:pt x="2985" y="674"/>
                  </a:lnTo>
                  <a:lnTo>
                    <a:pt x="2987" y="688"/>
                  </a:lnTo>
                  <a:lnTo>
                    <a:pt x="2987" y="703"/>
                  </a:lnTo>
                  <a:lnTo>
                    <a:pt x="2989" y="718"/>
                  </a:lnTo>
                  <a:lnTo>
                    <a:pt x="2989" y="733"/>
                  </a:lnTo>
                  <a:lnTo>
                    <a:pt x="2990" y="748"/>
                  </a:lnTo>
                  <a:lnTo>
                    <a:pt x="2990" y="762"/>
                  </a:lnTo>
                  <a:lnTo>
                    <a:pt x="2990" y="777"/>
                  </a:lnTo>
                  <a:lnTo>
                    <a:pt x="2990" y="794"/>
                  </a:lnTo>
                  <a:lnTo>
                    <a:pt x="2992" y="809"/>
                  </a:lnTo>
                  <a:lnTo>
                    <a:pt x="2990" y="823"/>
                  </a:lnTo>
                  <a:lnTo>
                    <a:pt x="2990" y="840"/>
                  </a:lnTo>
                  <a:lnTo>
                    <a:pt x="2990" y="855"/>
                  </a:lnTo>
                  <a:lnTo>
                    <a:pt x="2990" y="870"/>
                  </a:lnTo>
                  <a:lnTo>
                    <a:pt x="2989" y="883"/>
                  </a:lnTo>
                  <a:lnTo>
                    <a:pt x="2989" y="901"/>
                  </a:lnTo>
                  <a:lnTo>
                    <a:pt x="2985" y="914"/>
                  </a:lnTo>
                  <a:lnTo>
                    <a:pt x="2985" y="929"/>
                  </a:lnTo>
                  <a:lnTo>
                    <a:pt x="2981" y="944"/>
                  </a:lnTo>
                  <a:lnTo>
                    <a:pt x="2979" y="959"/>
                  </a:lnTo>
                  <a:lnTo>
                    <a:pt x="2977" y="975"/>
                  </a:lnTo>
                  <a:lnTo>
                    <a:pt x="2975" y="990"/>
                  </a:lnTo>
                  <a:lnTo>
                    <a:pt x="2971" y="1005"/>
                  </a:lnTo>
                  <a:lnTo>
                    <a:pt x="2970" y="1020"/>
                  </a:lnTo>
                  <a:lnTo>
                    <a:pt x="2966" y="1036"/>
                  </a:lnTo>
                  <a:lnTo>
                    <a:pt x="2964" y="1051"/>
                  </a:lnTo>
                  <a:lnTo>
                    <a:pt x="2960" y="1064"/>
                  </a:lnTo>
                  <a:lnTo>
                    <a:pt x="2956" y="1081"/>
                  </a:lnTo>
                  <a:lnTo>
                    <a:pt x="2952" y="1094"/>
                  </a:lnTo>
                  <a:lnTo>
                    <a:pt x="2951" y="1110"/>
                  </a:lnTo>
                  <a:lnTo>
                    <a:pt x="2945" y="1125"/>
                  </a:lnTo>
                  <a:lnTo>
                    <a:pt x="2939" y="1140"/>
                  </a:lnTo>
                  <a:lnTo>
                    <a:pt x="2935" y="1153"/>
                  </a:lnTo>
                  <a:lnTo>
                    <a:pt x="2932" y="1169"/>
                  </a:lnTo>
                  <a:lnTo>
                    <a:pt x="2926" y="1182"/>
                  </a:lnTo>
                  <a:lnTo>
                    <a:pt x="2920" y="1197"/>
                  </a:lnTo>
                  <a:lnTo>
                    <a:pt x="2916" y="1210"/>
                  </a:lnTo>
                  <a:lnTo>
                    <a:pt x="2911" y="1226"/>
                  </a:lnTo>
                  <a:lnTo>
                    <a:pt x="2905" y="1239"/>
                  </a:lnTo>
                  <a:lnTo>
                    <a:pt x="2899" y="1254"/>
                  </a:lnTo>
                  <a:lnTo>
                    <a:pt x="2893" y="1267"/>
                  </a:lnTo>
                  <a:lnTo>
                    <a:pt x="2888" y="1281"/>
                  </a:lnTo>
                  <a:lnTo>
                    <a:pt x="2882" y="1294"/>
                  </a:lnTo>
                  <a:lnTo>
                    <a:pt x="2876" y="1309"/>
                  </a:lnTo>
                  <a:lnTo>
                    <a:pt x="2869" y="1323"/>
                  </a:lnTo>
                  <a:lnTo>
                    <a:pt x="2865" y="1336"/>
                  </a:lnTo>
                  <a:lnTo>
                    <a:pt x="2857" y="1349"/>
                  </a:lnTo>
                  <a:lnTo>
                    <a:pt x="2850" y="1362"/>
                  </a:lnTo>
                  <a:lnTo>
                    <a:pt x="2844" y="1374"/>
                  </a:lnTo>
                  <a:lnTo>
                    <a:pt x="2836" y="1387"/>
                  </a:lnTo>
                  <a:lnTo>
                    <a:pt x="2827" y="1399"/>
                  </a:lnTo>
                  <a:lnTo>
                    <a:pt x="2821" y="1410"/>
                  </a:lnTo>
                  <a:lnTo>
                    <a:pt x="2814" y="1423"/>
                  </a:lnTo>
                  <a:lnTo>
                    <a:pt x="2806" y="1437"/>
                  </a:lnTo>
                  <a:lnTo>
                    <a:pt x="2798" y="1446"/>
                  </a:lnTo>
                  <a:lnTo>
                    <a:pt x="2789" y="1457"/>
                  </a:lnTo>
                  <a:lnTo>
                    <a:pt x="2781" y="1469"/>
                  </a:lnTo>
                  <a:lnTo>
                    <a:pt x="2774" y="1480"/>
                  </a:lnTo>
                  <a:lnTo>
                    <a:pt x="2764" y="1492"/>
                  </a:lnTo>
                  <a:lnTo>
                    <a:pt x="2757" y="1503"/>
                  </a:lnTo>
                  <a:lnTo>
                    <a:pt x="2747" y="1514"/>
                  </a:lnTo>
                  <a:lnTo>
                    <a:pt x="2739" y="1526"/>
                  </a:lnTo>
                  <a:lnTo>
                    <a:pt x="2730" y="1535"/>
                  </a:lnTo>
                  <a:lnTo>
                    <a:pt x="2720" y="1547"/>
                  </a:lnTo>
                  <a:lnTo>
                    <a:pt x="2711" y="1558"/>
                  </a:lnTo>
                  <a:lnTo>
                    <a:pt x="2703" y="1568"/>
                  </a:lnTo>
                  <a:lnTo>
                    <a:pt x="2692" y="1577"/>
                  </a:lnTo>
                  <a:lnTo>
                    <a:pt x="2682" y="1587"/>
                  </a:lnTo>
                  <a:lnTo>
                    <a:pt x="2673" y="1596"/>
                  </a:lnTo>
                  <a:lnTo>
                    <a:pt x="2663" y="1608"/>
                  </a:lnTo>
                  <a:lnTo>
                    <a:pt x="2654" y="1617"/>
                  </a:lnTo>
                  <a:lnTo>
                    <a:pt x="2644" y="1627"/>
                  </a:lnTo>
                  <a:lnTo>
                    <a:pt x="2633" y="1636"/>
                  </a:lnTo>
                  <a:lnTo>
                    <a:pt x="2624" y="1646"/>
                  </a:lnTo>
                  <a:lnTo>
                    <a:pt x="2612" y="1655"/>
                  </a:lnTo>
                  <a:lnTo>
                    <a:pt x="2603" y="1665"/>
                  </a:lnTo>
                  <a:lnTo>
                    <a:pt x="2591" y="1674"/>
                  </a:lnTo>
                  <a:lnTo>
                    <a:pt x="2582" y="1684"/>
                  </a:lnTo>
                  <a:lnTo>
                    <a:pt x="2570" y="1691"/>
                  </a:lnTo>
                  <a:lnTo>
                    <a:pt x="2557" y="1701"/>
                  </a:lnTo>
                  <a:lnTo>
                    <a:pt x="2546" y="1706"/>
                  </a:lnTo>
                  <a:lnTo>
                    <a:pt x="2534" y="1716"/>
                  </a:lnTo>
                  <a:lnTo>
                    <a:pt x="2523" y="1724"/>
                  </a:lnTo>
                  <a:lnTo>
                    <a:pt x="2511" y="1733"/>
                  </a:lnTo>
                  <a:lnTo>
                    <a:pt x="2500" y="1741"/>
                  </a:lnTo>
                  <a:lnTo>
                    <a:pt x="2489" y="1748"/>
                  </a:lnTo>
                  <a:lnTo>
                    <a:pt x="2475" y="1756"/>
                  </a:lnTo>
                  <a:lnTo>
                    <a:pt x="2464" y="1763"/>
                  </a:lnTo>
                  <a:lnTo>
                    <a:pt x="2451" y="1771"/>
                  </a:lnTo>
                  <a:lnTo>
                    <a:pt x="2439" y="1779"/>
                  </a:lnTo>
                  <a:lnTo>
                    <a:pt x="2426" y="1786"/>
                  </a:lnTo>
                  <a:lnTo>
                    <a:pt x="2414" y="1794"/>
                  </a:lnTo>
                  <a:lnTo>
                    <a:pt x="2401" y="1800"/>
                  </a:lnTo>
                  <a:lnTo>
                    <a:pt x="2390" y="1807"/>
                  </a:lnTo>
                  <a:lnTo>
                    <a:pt x="2374" y="1813"/>
                  </a:lnTo>
                  <a:lnTo>
                    <a:pt x="2361" y="1819"/>
                  </a:lnTo>
                  <a:lnTo>
                    <a:pt x="2348" y="1826"/>
                  </a:lnTo>
                  <a:lnTo>
                    <a:pt x="2335" y="1832"/>
                  </a:lnTo>
                  <a:lnTo>
                    <a:pt x="2321" y="1840"/>
                  </a:lnTo>
                  <a:lnTo>
                    <a:pt x="2310" y="1845"/>
                  </a:lnTo>
                  <a:lnTo>
                    <a:pt x="2297" y="1853"/>
                  </a:lnTo>
                  <a:lnTo>
                    <a:pt x="2283" y="1859"/>
                  </a:lnTo>
                  <a:lnTo>
                    <a:pt x="2268" y="1864"/>
                  </a:lnTo>
                  <a:lnTo>
                    <a:pt x="2255" y="1870"/>
                  </a:lnTo>
                  <a:lnTo>
                    <a:pt x="2239" y="1874"/>
                  </a:lnTo>
                  <a:lnTo>
                    <a:pt x="2226" y="1881"/>
                  </a:lnTo>
                  <a:lnTo>
                    <a:pt x="2211" y="1885"/>
                  </a:lnTo>
                  <a:lnTo>
                    <a:pt x="2198" y="1891"/>
                  </a:lnTo>
                  <a:lnTo>
                    <a:pt x="2182" y="1897"/>
                  </a:lnTo>
                  <a:lnTo>
                    <a:pt x="2169" y="1904"/>
                  </a:lnTo>
                  <a:lnTo>
                    <a:pt x="2154" y="1906"/>
                  </a:lnTo>
                  <a:lnTo>
                    <a:pt x="2139" y="1912"/>
                  </a:lnTo>
                  <a:lnTo>
                    <a:pt x="2124" y="1916"/>
                  </a:lnTo>
                  <a:lnTo>
                    <a:pt x="2110" y="1919"/>
                  </a:lnTo>
                  <a:lnTo>
                    <a:pt x="2093" y="1923"/>
                  </a:lnTo>
                  <a:lnTo>
                    <a:pt x="2080" y="1929"/>
                  </a:lnTo>
                  <a:lnTo>
                    <a:pt x="2065" y="1933"/>
                  </a:lnTo>
                  <a:lnTo>
                    <a:pt x="2051" y="1936"/>
                  </a:lnTo>
                  <a:lnTo>
                    <a:pt x="2036" y="1940"/>
                  </a:lnTo>
                  <a:lnTo>
                    <a:pt x="2021" y="1944"/>
                  </a:lnTo>
                  <a:lnTo>
                    <a:pt x="2006" y="1948"/>
                  </a:lnTo>
                  <a:lnTo>
                    <a:pt x="1990" y="1952"/>
                  </a:lnTo>
                  <a:lnTo>
                    <a:pt x="1977" y="1954"/>
                  </a:lnTo>
                  <a:lnTo>
                    <a:pt x="1962" y="1957"/>
                  </a:lnTo>
                  <a:lnTo>
                    <a:pt x="1949" y="1961"/>
                  </a:lnTo>
                  <a:lnTo>
                    <a:pt x="1933" y="1965"/>
                  </a:lnTo>
                  <a:lnTo>
                    <a:pt x="1920" y="1965"/>
                  </a:lnTo>
                  <a:lnTo>
                    <a:pt x="1905" y="1969"/>
                  </a:lnTo>
                  <a:lnTo>
                    <a:pt x="1892" y="1971"/>
                  </a:lnTo>
                  <a:lnTo>
                    <a:pt x="1876" y="1974"/>
                  </a:lnTo>
                  <a:lnTo>
                    <a:pt x="1863" y="1974"/>
                  </a:lnTo>
                  <a:lnTo>
                    <a:pt x="1848" y="1978"/>
                  </a:lnTo>
                  <a:lnTo>
                    <a:pt x="1833" y="1980"/>
                  </a:lnTo>
                  <a:lnTo>
                    <a:pt x="1821" y="1982"/>
                  </a:lnTo>
                  <a:lnTo>
                    <a:pt x="1806" y="1984"/>
                  </a:lnTo>
                  <a:lnTo>
                    <a:pt x="1793" y="1986"/>
                  </a:lnTo>
                  <a:lnTo>
                    <a:pt x="1777" y="1988"/>
                  </a:lnTo>
                  <a:lnTo>
                    <a:pt x="1764" y="1990"/>
                  </a:lnTo>
                  <a:lnTo>
                    <a:pt x="1749" y="1990"/>
                  </a:lnTo>
                  <a:lnTo>
                    <a:pt x="1738" y="1992"/>
                  </a:lnTo>
                  <a:lnTo>
                    <a:pt x="1724" y="1992"/>
                  </a:lnTo>
                  <a:lnTo>
                    <a:pt x="1711" y="1993"/>
                  </a:lnTo>
                  <a:lnTo>
                    <a:pt x="1696" y="1993"/>
                  </a:lnTo>
                  <a:lnTo>
                    <a:pt x="1682" y="1993"/>
                  </a:lnTo>
                  <a:lnTo>
                    <a:pt x="1669" y="1993"/>
                  </a:lnTo>
                  <a:lnTo>
                    <a:pt x="1656" y="1995"/>
                  </a:lnTo>
                  <a:lnTo>
                    <a:pt x="1643" y="1995"/>
                  </a:lnTo>
                  <a:lnTo>
                    <a:pt x="1631" y="1995"/>
                  </a:lnTo>
                  <a:lnTo>
                    <a:pt x="1618" y="1995"/>
                  </a:lnTo>
                  <a:lnTo>
                    <a:pt x="1604" y="1997"/>
                  </a:lnTo>
                  <a:lnTo>
                    <a:pt x="1593" y="1995"/>
                  </a:lnTo>
                  <a:lnTo>
                    <a:pt x="1580" y="1995"/>
                  </a:lnTo>
                  <a:lnTo>
                    <a:pt x="1566" y="1995"/>
                  </a:lnTo>
                  <a:lnTo>
                    <a:pt x="1555" y="1995"/>
                  </a:lnTo>
                  <a:lnTo>
                    <a:pt x="1544" y="1993"/>
                  </a:lnTo>
                  <a:lnTo>
                    <a:pt x="1532" y="1993"/>
                  </a:lnTo>
                  <a:lnTo>
                    <a:pt x="1519" y="1993"/>
                  </a:lnTo>
                  <a:lnTo>
                    <a:pt x="1509" y="1993"/>
                  </a:lnTo>
                  <a:lnTo>
                    <a:pt x="1496" y="1992"/>
                  </a:lnTo>
                  <a:lnTo>
                    <a:pt x="1485" y="1990"/>
                  </a:lnTo>
                  <a:lnTo>
                    <a:pt x="1473" y="1988"/>
                  </a:lnTo>
                  <a:lnTo>
                    <a:pt x="1462" y="1988"/>
                  </a:lnTo>
                  <a:lnTo>
                    <a:pt x="1450" y="1984"/>
                  </a:lnTo>
                  <a:lnTo>
                    <a:pt x="1441" y="1984"/>
                  </a:lnTo>
                  <a:lnTo>
                    <a:pt x="1430" y="1980"/>
                  </a:lnTo>
                  <a:lnTo>
                    <a:pt x="1420" y="1980"/>
                  </a:lnTo>
                  <a:lnTo>
                    <a:pt x="1409" y="1978"/>
                  </a:lnTo>
                  <a:lnTo>
                    <a:pt x="1399" y="1974"/>
                  </a:lnTo>
                  <a:lnTo>
                    <a:pt x="1390" y="1973"/>
                  </a:lnTo>
                  <a:lnTo>
                    <a:pt x="1380" y="1971"/>
                  </a:lnTo>
                  <a:lnTo>
                    <a:pt x="1371" y="1969"/>
                  </a:lnTo>
                  <a:lnTo>
                    <a:pt x="1361" y="1965"/>
                  </a:lnTo>
                  <a:lnTo>
                    <a:pt x="1352" y="1963"/>
                  </a:lnTo>
                  <a:lnTo>
                    <a:pt x="1344" y="1961"/>
                  </a:lnTo>
                  <a:lnTo>
                    <a:pt x="1333" y="1957"/>
                  </a:lnTo>
                  <a:lnTo>
                    <a:pt x="1325" y="1954"/>
                  </a:lnTo>
                  <a:lnTo>
                    <a:pt x="1315" y="1950"/>
                  </a:lnTo>
                  <a:lnTo>
                    <a:pt x="1308" y="1946"/>
                  </a:lnTo>
                  <a:lnTo>
                    <a:pt x="1300" y="1942"/>
                  </a:lnTo>
                  <a:lnTo>
                    <a:pt x="1291" y="1938"/>
                  </a:lnTo>
                  <a:lnTo>
                    <a:pt x="1283" y="1936"/>
                  </a:lnTo>
                  <a:lnTo>
                    <a:pt x="1277" y="1933"/>
                  </a:lnTo>
                  <a:lnTo>
                    <a:pt x="1268" y="1927"/>
                  </a:lnTo>
                  <a:lnTo>
                    <a:pt x="1260" y="1923"/>
                  </a:lnTo>
                  <a:lnTo>
                    <a:pt x="1255" y="1919"/>
                  </a:lnTo>
                  <a:lnTo>
                    <a:pt x="1247" y="1916"/>
                  </a:lnTo>
                  <a:lnTo>
                    <a:pt x="1239" y="1910"/>
                  </a:lnTo>
                  <a:lnTo>
                    <a:pt x="1232" y="1906"/>
                  </a:lnTo>
                  <a:lnTo>
                    <a:pt x="1226" y="1902"/>
                  </a:lnTo>
                  <a:lnTo>
                    <a:pt x="1220" y="1898"/>
                  </a:lnTo>
                  <a:lnTo>
                    <a:pt x="1207" y="1887"/>
                  </a:lnTo>
                  <a:lnTo>
                    <a:pt x="1196" y="1878"/>
                  </a:lnTo>
                  <a:lnTo>
                    <a:pt x="1184" y="1868"/>
                  </a:lnTo>
                  <a:lnTo>
                    <a:pt x="1175" y="1859"/>
                  </a:lnTo>
                  <a:lnTo>
                    <a:pt x="1165" y="1849"/>
                  </a:lnTo>
                  <a:lnTo>
                    <a:pt x="1154" y="1838"/>
                  </a:lnTo>
                  <a:lnTo>
                    <a:pt x="1144" y="1826"/>
                  </a:lnTo>
                  <a:lnTo>
                    <a:pt x="1139" y="1817"/>
                  </a:lnTo>
                  <a:lnTo>
                    <a:pt x="1129" y="1803"/>
                  </a:lnTo>
                  <a:lnTo>
                    <a:pt x="1122" y="1792"/>
                  </a:lnTo>
                  <a:lnTo>
                    <a:pt x="1114" y="1781"/>
                  </a:lnTo>
                  <a:lnTo>
                    <a:pt x="1106" y="1769"/>
                  </a:lnTo>
                  <a:lnTo>
                    <a:pt x="1101" y="1758"/>
                  </a:lnTo>
                  <a:lnTo>
                    <a:pt x="1093" y="1746"/>
                  </a:lnTo>
                  <a:lnTo>
                    <a:pt x="1087" y="1733"/>
                  </a:lnTo>
                  <a:lnTo>
                    <a:pt x="1084" y="1724"/>
                  </a:lnTo>
                  <a:lnTo>
                    <a:pt x="1078" y="1710"/>
                  </a:lnTo>
                  <a:lnTo>
                    <a:pt x="1072" y="1699"/>
                  </a:lnTo>
                  <a:lnTo>
                    <a:pt x="1068" y="1687"/>
                  </a:lnTo>
                  <a:lnTo>
                    <a:pt x="1065" y="1676"/>
                  </a:lnTo>
                  <a:lnTo>
                    <a:pt x="1059" y="1665"/>
                  </a:lnTo>
                  <a:lnTo>
                    <a:pt x="1055" y="1653"/>
                  </a:lnTo>
                  <a:lnTo>
                    <a:pt x="1051" y="1642"/>
                  </a:lnTo>
                  <a:lnTo>
                    <a:pt x="1049" y="1632"/>
                  </a:lnTo>
                  <a:lnTo>
                    <a:pt x="1044" y="1619"/>
                  </a:lnTo>
                  <a:lnTo>
                    <a:pt x="1040" y="1610"/>
                  </a:lnTo>
                  <a:lnTo>
                    <a:pt x="1034" y="1598"/>
                  </a:lnTo>
                  <a:lnTo>
                    <a:pt x="1030" y="1589"/>
                  </a:lnTo>
                  <a:lnTo>
                    <a:pt x="1025" y="1577"/>
                  </a:lnTo>
                  <a:lnTo>
                    <a:pt x="1021" y="1570"/>
                  </a:lnTo>
                  <a:lnTo>
                    <a:pt x="1013" y="1560"/>
                  </a:lnTo>
                  <a:lnTo>
                    <a:pt x="1009" y="1553"/>
                  </a:lnTo>
                  <a:lnTo>
                    <a:pt x="1002" y="1545"/>
                  </a:lnTo>
                  <a:lnTo>
                    <a:pt x="994" y="1535"/>
                  </a:lnTo>
                  <a:lnTo>
                    <a:pt x="988" y="1530"/>
                  </a:lnTo>
                  <a:lnTo>
                    <a:pt x="981" y="1524"/>
                  </a:lnTo>
                  <a:lnTo>
                    <a:pt x="973" y="1516"/>
                  </a:lnTo>
                  <a:lnTo>
                    <a:pt x="966" y="1511"/>
                  </a:lnTo>
                  <a:lnTo>
                    <a:pt x="958" y="1503"/>
                  </a:lnTo>
                  <a:lnTo>
                    <a:pt x="952" y="1501"/>
                  </a:lnTo>
                  <a:lnTo>
                    <a:pt x="943" y="1494"/>
                  </a:lnTo>
                  <a:lnTo>
                    <a:pt x="933" y="1490"/>
                  </a:lnTo>
                  <a:lnTo>
                    <a:pt x="924" y="1488"/>
                  </a:lnTo>
                  <a:lnTo>
                    <a:pt x="914" y="1484"/>
                  </a:lnTo>
                  <a:lnTo>
                    <a:pt x="905" y="1480"/>
                  </a:lnTo>
                  <a:lnTo>
                    <a:pt x="895" y="1478"/>
                  </a:lnTo>
                  <a:lnTo>
                    <a:pt x="886" y="1478"/>
                  </a:lnTo>
                  <a:lnTo>
                    <a:pt x="876" y="1478"/>
                  </a:lnTo>
                  <a:lnTo>
                    <a:pt x="863" y="1476"/>
                  </a:lnTo>
                  <a:lnTo>
                    <a:pt x="852" y="1476"/>
                  </a:lnTo>
                  <a:lnTo>
                    <a:pt x="840" y="1476"/>
                  </a:lnTo>
                  <a:lnTo>
                    <a:pt x="827" y="1480"/>
                  </a:lnTo>
                  <a:lnTo>
                    <a:pt x="814" y="1480"/>
                  </a:lnTo>
                  <a:lnTo>
                    <a:pt x="802" y="1484"/>
                  </a:lnTo>
                  <a:lnTo>
                    <a:pt x="789" y="1488"/>
                  </a:lnTo>
                  <a:lnTo>
                    <a:pt x="777" y="1494"/>
                  </a:lnTo>
                  <a:lnTo>
                    <a:pt x="770" y="1495"/>
                  </a:lnTo>
                  <a:lnTo>
                    <a:pt x="762" y="1497"/>
                  </a:lnTo>
                  <a:lnTo>
                    <a:pt x="755" y="1501"/>
                  </a:lnTo>
                  <a:lnTo>
                    <a:pt x="747" y="1503"/>
                  </a:lnTo>
                  <a:lnTo>
                    <a:pt x="739" y="1507"/>
                  </a:lnTo>
                  <a:lnTo>
                    <a:pt x="730" y="1509"/>
                  </a:lnTo>
                  <a:lnTo>
                    <a:pt x="722" y="1513"/>
                  </a:lnTo>
                  <a:lnTo>
                    <a:pt x="715" y="1516"/>
                  </a:lnTo>
                  <a:lnTo>
                    <a:pt x="705" y="1518"/>
                  </a:lnTo>
                  <a:lnTo>
                    <a:pt x="698" y="1522"/>
                  </a:lnTo>
                  <a:lnTo>
                    <a:pt x="688" y="1524"/>
                  </a:lnTo>
                  <a:lnTo>
                    <a:pt x="681" y="1528"/>
                  </a:lnTo>
                  <a:lnTo>
                    <a:pt x="671" y="1532"/>
                  </a:lnTo>
                  <a:lnTo>
                    <a:pt x="663" y="1535"/>
                  </a:lnTo>
                  <a:lnTo>
                    <a:pt x="654" y="1539"/>
                  </a:lnTo>
                  <a:lnTo>
                    <a:pt x="646" y="1543"/>
                  </a:lnTo>
                  <a:lnTo>
                    <a:pt x="635" y="1545"/>
                  </a:lnTo>
                  <a:lnTo>
                    <a:pt x="627" y="1549"/>
                  </a:lnTo>
                  <a:lnTo>
                    <a:pt x="616" y="1551"/>
                  </a:lnTo>
                  <a:lnTo>
                    <a:pt x="608" y="1554"/>
                  </a:lnTo>
                  <a:lnTo>
                    <a:pt x="597" y="1556"/>
                  </a:lnTo>
                  <a:lnTo>
                    <a:pt x="587" y="1560"/>
                  </a:lnTo>
                  <a:lnTo>
                    <a:pt x="578" y="1562"/>
                  </a:lnTo>
                  <a:lnTo>
                    <a:pt x="568" y="1566"/>
                  </a:lnTo>
                  <a:lnTo>
                    <a:pt x="557" y="1568"/>
                  </a:lnTo>
                  <a:lnTo>
                    <a:pt x="547" y="1572"/>
                  </a:lnTo>
                  <a:lnTo>
                    <a:pt x="538" y="1573"/>
                  </a:lnTo>
                  <a:lnTo>
                    <a:pt x="528" y="1575"/>
                  </a:lnTo>
                  <a:lnTo>
                    <a:pt x="517" y="1577"/>
                  </a:lnTo>
                  <a:lnTo>
                    <a:pt x="507" y="1581"/>
                  </a:lnTo>
                  <a:lnTo>
                    <a:pt x="498" y="1583"/>
                  </a:lnTo>
                  <a:lnTo>
                    <a:pt x="488" y="1587"/>
                  </a:lnTo>
                  <a:lnTo>
                    <a:pt x="477" y="1587"/>
                  </a:lnTo>
                  <a:lnTo>
                    <a:pt x="468" y="1589"/>
                  </a:lnTo>
                  <a:lnTo>
                    <a:pt x="456" y="1591"/>
                  </a:lnTo>
                  <a:lnTo>
                    <a:pt x="447" y="1592"/>
                  </a:lnTo>
                  <a:lnTo>
                    <a:pt x="435" y="1592"/>
                  </a:lnTo>
                  <a:lnTo>
                    <a:pt x="426" y="1594"/>
                  </a:lnTo>
                  <a:lnTo>
                    <a:pt x="414" y="1594"/>
                  </a:lnTo>
                  <a:lnTo>
                    <a:pt x="405" y="1596"/>
                  </a:lnTo>
                  <a:lnTo>
                    <a:pt x="393" y="1596"/>
                  </a:lnTo>
                  <a:lnTo>
                    <a:pt x="384" y="1596"/>
                  </a:lnTo>
                  <a:lnTo>
                    <a:pt x="373" y="1596"/>
                  </a:lnTo>
                  <a:lnTo>
                    <a:pt x="363" y="1596"/>
                  </a:lnTo>
                  <a:lnTo>
                    <a:pt x="352" y="1594"/>
                  </a:lnTo>
                  <a:lnTo>
                    <a:pt x="342" y="1594"/>
                  </a:lnTo>
                  <a:lnTo>
                    <a:pt x="333" y="1592"/>
                  </a:lnTo>
                  <a:lnTo>
                    <a:pt x="323" y="1592"/>
                  </a:lnTo>
                  <a:lnTo>
                    <a:pt x="312" y="1591"/>
                  </a:lnTo>
                  <a:lnTo>
                    <a:pt x="302" y="1587"/>
                  </a:lnTo>
                  <a:lnTo>
                    <a:pt x="293" y="1585"/>
                  </a:lnTo>
                  <a:lnTo>
                    <a:pt x="283" y="1585"/>
                  </a:lnTo>
                  <a:lnTo>
                    <a:pt x="272" y="1581"/>
                  </a:lnTo>
                  <a:lnTo>
                    <a:pt x="262" y="1577"/>
                  </a:lnTo>
                  <a:lnTo>
                    <a:pt x="253" y="1573"/>
                  </a:lnTo>
                  <a:lnTo>
                    <a:pt x="245" y="1572"/>
                  </a:lnTo>
                  <a:lnTo>
                    <a:pt x="234" y="1568"/>
                  </a:lnTo>
                  <a:lnTo>
                    <a:pt x="226" y="1564"/>
                  </a:lnTo>
                  <a:lnTo>
                    <a:pt x="217" y="1558"/>
                  </a:lnTo>
                  <a:lnTo>
                    <a:pt x="207" y="1554"/>
                  </a:lnTo>
                  <a:lnTo>
                    <a:pt x="198" y="1549"/>
                  </a:lnTo>
                  <a:lnTo>
                    <a:pt x="190" y="1543"/>
                  </a:lnTo>
                  <a:lnTo>
                    <a:pt x="180" y="1537"/>
                  </a:lnTo>
                  <a:lnTo>
                    <a:pt x="173" y="1532"/>
                  </a:lnTo>
                  <a:lnTo>
                    <a:pt x="163" y="1524"/>
                  </a:lnTo>
                  <a:lnTo>
                    <a:pt x="154" y="1516"/>
                  </a:lnTo>
                  <a:lnTo>
                    <a:pt x="148" y="1511"/>
                  </a:lnTo>
                  <a:lnTo>
                    <a:pt x="141" y="1503"/>
                  </a:lnTo>
                  <a:lnTo>
                    <a:pt x="133" y="1497"/>
                  </a:lnTo>
                  <a:lnTo>
                    <a:pt x="125" y="1490"/>
                  </a:lnTo>
                  <a:lnTo>
                    <a:pt x="118" y="1482"/>
                  </a:lnTo>
                  <a:lnTo>
                    <a:pt x="112" y="1476"/>
                  </a:lnTo>
                  <a:lnTo>
                    <a:pt x="104" y="1469"/>
                  </a:lnTo>
                  <a:lnTo>
                    <a:pt x="99" y="1461"/>
                  </a:lnTo>
                  <a:lnTo>
                    <a:pt x="93" y="1456"/>
                  </a:lnTo>
                  <a:lnTo>
                    <a:pt x="87" y="1448"/>
                  </a:lnTo>
                  <a:lnTo>
                    <a:pt x="80" y="1442"/>
                  </a:lnTo>
                  <a:lnTo>
                    <a:pt x="76" y="1437"/>
                  </a:lnTo>
                  <a:lnTo>
                    <a:pt x="70" y="1429"/>
                  </a:lnTo>
                  <a:lnTo>
                    <a:pt x="68" y="1423"/>
                  </a:lnTo>
                  <a:lnTo>
                    <a:pt x="61" y="1414"/>
                  </a:lnTo>
                  <a:lnTo>
                    <a:pt x="57" y="1406"/>
                  </a:lnTo>
                  <a:lnTo>
                    <a:pt x="51" y="1400"/>
                  </a:lnTo>
                  <a:lnTo>
                    <a:pt x="49" y="1393"/>
                  </a:lnTo>
                  <a:lnTo>
                    <a:pt x="46" y="1385"/>
                  </a:lnTo>
                  <a:lnTo>
                    <a:pt x="42" y="1378"/>
                  </a:lnTo>
                  <a:lnTo>
                    <a:pt x="38" y="1372"/>
                  </a:lnTo>
                  <a:lnTo>
                    <a:pt x="34" y="1364"/>
                  </a:lnTo>
                  <a:lnTo>
                    <a:pt x="30" y="1355"/>
                  </a:lnTo>
                  <a:lnTo>
                    <a:pt x="26" y="1349"/>
                  </a:lnTo>
                  <a:lnTo>
                    <a:pt x="25" y="1342"/>
                  </a:lnTo>
                  <a:lnTo>
                    <a:pt x="23" y="1334"/>
                  </a:lnTo>
                  <a:lnTo>
                    <a:pt x="19" y="1326"/>
                  </a:lnTo>
                  <a:lnTo>
                    <a:pt x="17" y="1319"/>
                  </a:lnTo>
                  <a:lnTo>
                    <a:pt x="15" y="1309"/>
                  </a:lnTo>
                  <a:lnTo>
                    <a:pt x="13" y="1304"/>
                  </a:lnTo>
                  <a:lnTo>
                    <a:pt x="9" y="1294"/>
                  </a:lnTo>
                  <a:lnTo>
                    <a:pt x="9" y="1286"/>
                  </a:lnTo>
                  <a:lnTo>
                    <a:pt x="7" y="1277"/>
                  </a:lnTo>
                  <a:lnTo>
                    <a:pt x="6" y="1269"/>
                  </a:lnTo>
                  <a:lnTo>
                    <a:pt x="4" y="1260"/>
                  </a:lnTo>
                  <a:lnTo>
                    <a:pt x="4" y="1252"/>
                  </a:lnTo>
                  <a:lnTo>
                    <a:pt x="2" y="1243"/>
                  </a:lnTo>
                  <a:lnTo>
                    <a:pt x="2" y="1235"/>
                  </a:lnTo>
                  <a:lnTo>
                    <a:pt x="0" y="1226"/>
                  </a:lnTo>
                  <a:lnTo>
                    <a:pt x="0" y="1216"/>
                  </a:lnTo>
                  <a:lnTo>
                    <a:pt x="0" y="1207"/>
                  </a:lnTo>
                  <a:lnTo>
                    <a:pt x="0" y="1197"/>
                  </a:lnTo>
                  <a:lnTo>
                    <a:pt x="0" y="1188"/>
                  </a:lnTo>
                  <a:lnTo>
                    <a:pt x="0" y="1178"/>
                  </a:lnTo>
                  <a:lnTo>
                    <a:pt x="0" y="1169"/>
                  </a:lnTo>
                  <a:lnTo>
                    <a:pt x="2" y="1159"/>
                  </a:lnTo>
                  <a:lnTo>
                    <a:pt x="2" y="1150"/>
                  </a:lnTo>
                  <a:lnTo>
                    <a:pt x="2" y="1138"/>
                  </a:lnTo>
                  <a:lnTo>
                    <a:pt x="2" y="1127"/>
                  </a:lnTo>
                  <a:lnTo>
                    <a:pt x="4" y="1117"/>
                  </a:lnTo>
                  <a:lnTo>
                    <a:pt x="4" y="1106"/>
                  </a:lnTo>
                  <a:lnTo>
                    <a:pt x="4" y="1096"/>
                  </a:lnTo>
                  <a:lnTo>
                    <a:pt x="6" y="1085"/>
                  </a:lnTo>
                  <a:lnTo>
                    <a:pt x="7" y="1075"/>
                  </a:lnTo>
                  <a:lnTo>
                    <a:pt x="7" y="1064"/>
                  </a:lnTo>
                  <a:lnTo>
                    <a:pt x="9" y="1053"/>
                  </a:lnTo>
                  <a:lnTo>
                    <a:pt x="9" y="1039"/>
                  </a:lnTo>
                  <a:lnTo>
                    <a:pt x="13" y="1030"/>
                  </a:lnTo>
                  <a:lnTo>
                    <a:pt x="13" y="1016"/>
                  </a:lnTo>
                  <a:lnTo>
                    <a:pt x="17" y="1005"/>
                  </a:lnTo>
                  <a:lnTo>
                    <a:pt x="17" y="994"/>
                  </a:lnTo>
                  <a:lnTo>
                    <a:pt x="21" y="982"/>
                  </a:lnTo>
                  <a:lnTo>
                    <a:pt x="23" y="969"/>
                  </a:lnTo>
                  <a:lnTo>
                    <a:pt x="25" y="958"/>
                  </a:lnTo>
                  <a:lnTo>
                    <a:pt x="26" y="944"/>
                  </a:lnTo>
                  <a:lnTo>
                    <a:pt x="28" y="933"/>
                  </a:lnTo>
                  <a:lnTo>
                    <a:pt x="30" y="920"/>
                  </a:lnTo>
                  <a:lnTo>
                    <a:pt x="32" y="908"/>
                  </a:lnTo>
                  <a:lnTo>
                    <a:pt x="36" y="897"/>
                  </a:lnTo>
                  <a:lnTo>
                    <a:pt x="40" y="885"/>
                  </a:lnTo>
                  <a:lnTo>
                    <a:pt x="42" y="874"/>
                  </a:lnTo>
                  <a:lnTo>
                    <a:pt x="46" y="861"/>
                  </a:lnTo>
                  <a:lnTo>
                    <a:pt x="49" y="851"/>
                  </a:lnTo>
                  <a:lnTo>
                    <a:pt x="53" y="840"/>
                  </a:lnTo>
                  <a:lnTo>
                    <a:pt x="57" y="828"/>
                  </a:lnTo>
                  <a:lnTo>
                    <a:pt x="61" y="819"/>
                  </a:lnTo>
                  <a:lnTo>
                    <a:pt x="65" y="807"/>
                  </a:lnTo>
                  <a:lnTo>
                    <a:pt x="70" y="798"/>
                  </a:lnTo>
                  <a:lnTo>
                    <a:pt x="74" y="787"/>
                  </a:lnTo>
                  <a:lnTo>
                    <a:pt x="78" y="775"/>
                  </a:lnTo>
                  <a:lnTo>
                    <a:pt x="84" y="766"/>
                  </a:lnTo>
                  <a:lnTo>
                    <a:pt x="87" y="754"/>
                  </a:lnTo>
                  <a:lnTo>
                    <a:pt x="93" y="743"/>
                  </a:lnTo>
                  <a:lnTo>
                    <a:pt x="99" y="733"/>
                  </a:lnTo>
                  <a:lnTo>
                    <a:pt x="103" y="722"/>
                  </a:lnTo>
                  <a:lnTo>
                    <a:pt x="110" y="712"/>
                  </a:lnTo>
                  <a:lnTo>
                    <a:pt x="114" y="703"/>
                  </a:lnTo>
                  <a:lnTo>
                    <a:pt x="120" y="693"/>
                  </a:lnTo>
                  <a:lnTo>
                    <a:pt x="125" y="684"/>
                  </a:lnTo>
                  <a:lnTo>
                    <a:pt x="133" y="674"/>
                  </a:lnTo>
                  <a:lnTo>
                    <a:pt x="139" y="665"/>
                  </a:lnTo>
                  <a:lnTo>
                    <a:pt x="146" y="655"/>
                  </a:lnTo>
                  <a:lnTo>
                    <a:pt x="154" y="646"/>
                  </a:lnTo>
                  <a:lnTo>
                    <a:pt x="161" y="636"/>
                  </a:lnTo>
                  <a:lnTo>
                    <a:pt x="167" y="627"/>
                  </a:lnTo>
                  <a:lnTo>
                    <a:pt x="175" y="617"/>
                  </a:lnTo>
                  <a:lnTo>
                    <a:pt x="180" y="606"/>
                  </a:lnTo>
                  <a:lnTo>
                    <a:pt x="188" y="598"/>
                  </a:lnTo>
                  <a:lnTo>
                    <a:pt x="196" y="589"/>
                  </a:lnTo>
                  <a:lnTo>
                    <a:pt x="203" y="581"/>
                  </a:lnTo>
                  <a:lnTo>
                    <a:pt x="213" y="572"/>
                  </a:lnTo>
                  <a:lnTo>
                    <a:pt x="220" y="562"/>
                  </a:lnTo>
                  <a:lnTo>
                    <a:pt x="228" y="553"/>
                  </a:lnTo>
                  <a:lnTo>
                    <a:pt x="236" y="545"/>
                  </a:lnTo>
                  <a:lnTo>
                    <a:pt x="245" y="536"/>
                  </a:lnTo>
                  <a:lnTo>
                    <a:pt x="253" y="526"/>
                  </a:lnTo>
                  <a:lnTo>
                    <a:pt x="260" y="517"/>
                  </a:lnTo>
                  <a:lnTo>
                    <a:pt x="270" y="511"/>
                  </a:lnTo>
                  <a:lnTo>
                    <a:pt x="279" y="499"/>
                  </a:lnTo>
                  <a:lnTo>
                    <a:pt x="291" y="494"/>
                  </a:lnTo>
                  <a:lnTo>
                    <a:pt x="298" y="484"/>
                  </a:lnTo>
                  <a:lnTo>
                    <a:pt x="308" y="475"/>
                  </a:lnTo>
                  <a:lnTo>
                    <a:pt x="317" y="467"/>
                  </a:lnTo>
                  <a:lnTo>
                    <a:pt x="329" y="458"/>
                  </a:lnTo>
                  <a:lnTo>
                    <a:pt x="338" y="448"/>
                  </a:lnTo>
                  <a:lnTo>
                    <a:pt x="348" y="442"/>
                  </a:lnTo>
                  <a:lnTo>
                    <a:pt x="357" y="433"/>
                  </a:lnTo>
                  <a:lnTo>
                    <a:pt x="369" y="425"/>
                  </a:lnTo>
                  <a:lnTo>
                    <a:pt x="380" y="416"/>
                  </a:lnTo>
                  <a:lnTo>
                    <a:pt x="390" y="408"/>
                  </a:lnTo>
                  <a:lnTo>
                    <a:pt x="401" y="399"/>
                  </a:lnTo>
                  <a:lnTo>
                    <a:pt x="412" y="391"/>
                  </a:lnTo>
                  <a:lnTo>
                    <a:pt x="422" y="384"/>
                  </a:lnTo>
                  <a:lnTo>
                    <a:pt x="435" y="374"/>
                  </a:lnTo>
                  <a:lnTo>
                    <a:pt x="447" y="366"/>
                  </a:lnTo>
                  <a:lnTo>
                    <a:pt x="460" y="359"/>
                  </a:lnTo>
                  <a:lnTo>
                    <a:pt x="469" y="349"/>
                  </a:lnTo>
                  <a:lnTo>
                    <a:pt x="483" y="342"/>
                  </a:lnTo>
                  <a:lnTo>
                    <a:pt x="492" y="332"/>
                  </a:lnTo>
                  <a:lnTo>
                    <a:pt x="506" y="327"/>
                  </a:lnTo>
                  <a:lnTo>
                    <a:pt x="515" y="319"/>
                  </a:lnTo>
                  <a:lnTo>
                    <a:pt x="527" y="311"/>
                  </a:lnTo>
                  <a:lnTo>
                    <a:pt x="538" y="304"/>
                  </a:lnTo>
                  <a:lnTo>
                    <a:pt x="549" y="298"/>
                  </a:lnTo>
                  <a:lnTo>
                    <a:pt x="559" y="290"/>
                  </a:lnTo>
                  <a:lnTo>
                    <a:pt x="570" y="283"/>
                  </a:lnTo>
                  <a:lnTo>
                    <a:pt x="580" y="277"/>
                  </a:lnTo>
                  <a:lnTo>
                    <a:pt x="591" y="271"/>
                  </a:lnTo>
                  <a:lnTo>
                    <a:pt x="603" y="266"/>
                  </a:lnTo>
                  <a:lnTo>
                    <a:pt x="612" y="260"/>
                  </a:lnTo>
                  <a:lnTo>
                    <a:pt x="623" y="254"/>
                  </a:lnTo>
                  <a:lnTo>
                    <a:pt x="635" y="249"/>
                  </a:lnTo>
                  <a:lnTo>
                    <a:pt x="644" y="243"/>
                  </a:lnTo>
                  <a:lnTo>
                    <a:pt x="654" y="237"/>
                  </a:lnTo>
                  <a:lnTo>
                    <a:pt x="663" y="231"/>
                  </a:lnTo>
                  <a:lnTo>
                    <a:pt x="675" y="226"/>
                  </a:lnTo>
                  <a:lnTo>
                    <a:pt x="684" y="222"/>
                  </a:lnTo>
                  <a:lnTo>
                    <a:pt x="696" y="216"/>
                  </a:lnTo>
                  <a:lnTo>
                    <a:pt x="705" y="212"/>
                  </a:lnTo>
                  <a:lnTo>
                    <a:pt x="715" y="209"/>
                  </a:lnTo>
                  <a:lnTo>
                    <a:pt x="724" y="203"/>
                  </a:lnTo>
                  <a:lnTo>
                    <a:pt x="734" y="199"/>
                  </a:lnTo>
                  <a:lnTo>
                    <a:pt x="745" y="195"/>
                  </a:lnTo>
                  <a:lnTo>
                    <a:pt x="757" y="192"/>
                  </a:lnTo>
                  <a:lnTo>
                    <a:pt x="766" y="188"/>
                  </a:lnTo>
                  <a:lnTo>
                    <a:pt x="776" y="184"/>
                  </a:lnTo>
                  <a:lnTo>
                    <a:pt x="785" y="182"/>
                  </a:lnTo>
                  <a:lnTo>
                    <a:pt x="796" y="178"/>
                  </a:lnTo>
                  <a:lnTo>
                    <a:pt x="806" y="173"/>
                  </a:lnTo>
                  <a:lnTo>
                    <a:pt x="815" y="169"/>
                  </a:lnTo>
                  <a:lnTo>
                    <a:pt x="825" y="165"/>
                  </a:lnTo>
                  <a:lnTo>
                    <a:pt x="836" y="161"/>
                  </a:lnTo>
                  <a:lnTo>
                    <a:pt x="846" y="159"/>
                  </a:lnTo>
                  <a:lnTo>
                    <a:pt x="855" y="155"/>
                  </a:lnTo>
                  <a:lnTo>
                    <a:pt x="865" y="152"/>
                  </a:lnTo>
                  <a:lnTo>
                    <a:pt x="876" y="148"/>
                  </a:lnTo>
                  <a:lnTo>
                    <a:pt x="886" y="146"/>
                  </a:lnTo>
                  <a:lnTo>
                    <a:pt x="895" y="142"/>
                  </a:lnTo>
                  <a:lnTo>
                    <a:pt x="905" y="138"/>
                  </a:lnTo>
                  <a:lnTo>
                    <a:pt x="916" y="136"/>
                  </a:lnTo>
                  <a:lnTo>
                    <a:pt x="926" y="133"/>
                  </a:lnTo>
                  <a:lnTo>
                    <a:pt x="937" y="129"/>
                  </a:lnTo>
                  <a:lnTo>
                    <a:pt x="949" y="127"/>
                  </a:lnTo>
                  <a:lnTo>
                    <a:pt x="958" y="125"/>
                  </a:lnTo>
                  <a:lnTo>
                    <a:pt x="969" y="121"/>
                  </a:lnTo>
                  <a:lnTo>
                    <a:pt x="979" y="117"/>
                  </a:lnTo>
                  <a:lnTo>
                    <a:pt x="990" y="116"/>
                  </a:lnTo>
                  <a:lnTo>
                    <a:pt x="1000" y="114"/>
                  </a:lnTo>
                  <a:lnTo>
                    <a:pt x="1011" y="110"/>
                  </a:lnTo>
                  <a:lnTo>
                    <a:pt x="1023" y="106"/>
                  </a:lnTo>
                  <a:lnTo>
                    <a:pt x="1032" y="104"/>
                  </a:lnTo>
                  <a:lnTo>
                    <a:pt x="1046" y="100"/>
                  </a:lnTo>
                  <a:lnTo>
                    <a:pt x="1055" y="97"/>
                  </a:lnTo>
                  <a:lnTo>
                    <a:pt x="1066" y="95"/>
                  </a:lnTo>
                  <a:lnTo>
                    <a:pt x="1078" y="91"/>
                  </a:lnTo>
                  <a:lnTo>
                    <a:pt x="1089" y="87"/>
                  </a:lnTo>
                  <a:lnTo>
                    <a:pt x="1101" y="85"/>
                  </a:lnTo>
                  <a:lnTo>
                    <a:pt x="1112" y="81"/>
                  </a:lnTo>
                  <a:lnTo>
                    <a:pt x="1123" y="78"/>
                  </a:lnTo>
                  <a:lnTo>
                    <a:pt x="1137" y="76"/>
                  </a:lnTo>
                  <a:lnTo>
                    <a:pt x="1137" y="76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 flipV="1" rot="20995800">
              <a:off x="6881040" y="3333960"/>
              <a:ext cx="409680" cy="284760"/>
            </a:xfrm>
            <a:custGeom>
              <a:avLst/>
              <a:gdLst/>
              <a:ahLst/>
              <a:rect l="l" t="t" r="r" b="b"/>
              <a:pathLst>
                <a:path w="626" h="495">
                  <a:moveTo>
                    <a:pt x="219" y="424"/>
                  </a:moveTo>
                  <a:lnTo>
                    <a:pt x="227" y="428"/>
                  </a:lnTo>
                  <a:lnTo>
                    <a:pt x="234" y="432"/>
                  </a:lnTo>
                  <a:lnTo>
                    <a:pt x="242" y="436"/>
                  </a:lnTo>
                  <a:lnTo>
                    <a:pt x="250" y="439"/>
                  </a:lnTo>
                  <a:lnTo>
                    <a:pt x="257" y="443"/>
                  </a:lnTo>
                  <a:lnTo>
                    <a:pt x="265" y="447"/>
                  </a:lnTo>
                  <a:lnTo>
                    <a:pt x="272" y="451"/>
                  </a:lnTo>
                  <a:lnTo>
                    <a:pt x="280" y="455"/>
                  </a:lnTo>
                  <a:lnTo>
                    <a:pt x="288" y="458"/>
                  </a:lnTo>
                  <a:lnTo>
                    <a:pt x="295" y="460"/>
                  </a:lnTo>
                  <a:lnTo>
                    <a:pt x="303" y="462"/>
                  </a:lnTo>
                  <a:lnTo>
                    <a:pt x="312" y="466"/>
                  </a:lnTo>
                  <a:lnTo>
                    <a:pt x="318" y="468"/>
                  </a:lnTo>
                  <a:lnTo>
                    <a:pt x="326" y="472"/>
                  </a:lnTo>
                  <a:lnTo>
                    <a:pt x="335" y="474"/>
                  </a:lnTo>
                  <a:lnTo>
                    <a:pt x="343" y="477"/>
                  </a:lnTo>
                  <a:lnTo>
                    <a:pt x="350" y="477"/>
                  </a:lnTo>
                  <a:lnTo>
                    <a:pt x="356" y="481"/>
                  </a:lnTo>
                  <a:lnTo>
                    <a:pt x="364" y="481"/>
                  </a:lnTo>
                  <a:lnTo>
                    <a:pt x="373" y="483"/>
                  </a:lnTo>
                  <a:lnTo>
                    <a:pt x="379" y="485"/>
                  </a:lnTo>
                  <a:lnTo>
                    <a:pt x="386" y="487"/>
                  </a:lnTo>
                  <a:lnTo>
                    <a:pt x="394" y="487"/>
                  </a:lnTo>
                  <a:lnTo>
                    <a:pt x="402" y="491"/>
                  </a:lnTo>
                  <a:lnTo>
                    <a:pt x="409" y="491"/>
                  </a:lnTo>
                  <a:lnTo>
                    <a:pt x="415" y="491"/>
                  </a:lnTo>
                  <a:lnTo>
                    <a:pt x="423" y="491"/>
                  </a:lnTo>
                  <a:lnTo>
                    <a:pt x="430" y="493"/>
                  </a:lnTo>
                  <a:lnTo>
                    <a:pt x="438" y="493"/>
                  </a:lnTo>
                  <a:lnTo>
                    <a:pt x="443" y="493"/>
                  </a:lnTo>
                  <a:lnTo>
                    <a:pt x="451" y="493"/>
                  </a:lnTo>
                  <a:lnTo>
                    <a:pt x="459" y="495"/>
                  </a:lnTo>
                  <a:lnTo>
                    <a:pt x="470" y="493"/>
                  </a:lnTo>
                  <a:lnTo>
                    <a:pt x="483" y="493"/>
                  </a:lnTo>
                  <a:lnTo>
                    <a:pt x="495" y="491"/>
                  </a:lnTo>
                  <a:lnTo>
                    <a:pt x="508" y="491"/>
                  </a:lnTo>
                  <a:lnTo>
                    <a:pt x="518" y="487"/>
                  </a:lnTo>
                  <a:lnTo>
                    <a:pt x="531" y="483"/>
                  </a:lnTo>
                  <a:lnTo>
                    <a:pt x="540" y="479"/>
                  </a:lnTo>
                  <a:lnTo>
                    <a:pt x="552" y="476"/>
                  </a:lnTo>
                  <a:lnTo>
                    <a:pt x="559" y="470"/>
                  </a:lnTo>
                  <a:lnTo>
                    <a:pt x="569" y="464"/>
                  </a:lnTo>
                  <a:lnTo>
                    <a:pt x="578" y="458"/>
                  </a:lnTo>
                  <a:lnTo>
                    <a:pt x="586" y="453"/>
                  </a:lnTo>
                  <a:lnTo>
                    <a:pt x="594" y="445"/>
                  </a:lnTo>
                  <a:lnTo>
                    <a:pt x="601" y="437"/>
                  </a:lnTo>
                  <a:lnTo>
                    <a:pt x="607" y="430"/>
                  </a:lnTo>
                  <a:lnTo>
                    <a:pt x="613" y="422"/>
                  </a:lnTo>
                  <a:lnTo>
                    <a:pt x="616" y="413"/>
                  </a:lnTo>
                  <a:lnTo>
                    <a:pt x="620" y="403"/>
                  </a:lnTo>
                  <a:lnTo>
                    <a:pt x="622" y="392"/>
                  </a:lnTo>
                  <a:lnTo>
                    <a:pt x="624" y="382"/>
                  </a:lnTo>
                  <a:lnTo>
                    <a:pt x="624" y="371"/>
                  </a:lnTo>
                  <a:lnTo>
                    <a:pt x="626" y="361"/>
                  </a:lnTo>
                  <a:lnTo>
                    <a:pt x="624" y="350"/>
                  </a:lnTo>
                  <a:lnTo>
                    <a:pt x="624" y="339"/>
                  </a:lnTo>
                  <a:lnTo>
                    <a:pt x="622" y="327"/>
                  </a:lnTo>
                  <a:lnTo>
                    <a:pt x="620" y="316"/>
                  </a:lnTo>
                  <a:lnTo>
                    <a:pt x="616" y="304"/>
                  </a:lnTo>
                  <a:lnTo>
                    <a:pt x="613" y="293"/>
                  </a:lnTo>
                  <a:lnTo>
                    <a:pt x="607" y="282"/>
                  </a:lnTo>
                  <a:lnTo>
                    <a:pt x="601" y="270"/>
                  </a:lnTo>
                  <a:lnTo>
                    <a:pt x="596" y="259"/>
                  </a:lnTo>
                  <a:lnTo>
                    <a:pt x="592" y="247"/>
                  </a:lnTo>
                  <a:lnTo>
                    <a:pt x="582" y="234"/>
                  </a:lnTo>
                  <a:lnTo>
                    <a:pt x="575" y="223"/>
                  </a:lnTo>
                  <a:lnTo>
                    <a:pt x="567" y="209"/>
                  </a:lnTo>
                  <a:lnTo>
                    <a:pt x="558" y="198"/>
                  </a:lnTo>
                  <a:lnTo>
                    <a:pt x="546" y="187"/>
                  </a:lnTo>
                  <a:lnTo>
                    <a:pt x="537" y="175"/>
                  </a:lnTo>
                  <a:lnTo>
                    <a:pt x="527" y="164"/>
                  </a:lnTo>
                  <a:lnTo>
                    <a:pt x="516" y="152"/>
                  </a:lnTo>
                  <a:lnTo>
                    <a:pt x="502" y="141"/>
                  </a:lnTo>
                  <a:lnTo>
                    <a:pt x="491" y="130"/>
                  </a:lnTo>
                  <a:lnTo>
                    <a:pt x="478" y="120"/>
                  </a:lnTo>
                  <a:lnTo>
                    <a:pt x="466" y="111"/>
                  </a:lnTo>
                  <a:lnTo>
                    <a:pt x="459" y="103"/>
                  </a:lnTo>
                  <a:lnTo>
                    <a:pt x="451" y="99"/>
                  </a:lnTo>
                  <a:lnTo>
                    <a:pt x="443" y="93"/>
                  </a:lnTo>
                  <a:lnTo>
                    <a:pt x="438" y="90"/>
                  </a:lnTo>
                  <a:lnTo>
                    <a:pt x="430" y="84"/>
                  </a:lnTo>
                  <a:lnTo>
                    <a:pt x="423" y="80"/>
                  </a:lnTo>
                  <a:lnTo>
                    <a:pt x="415" y="74"/>
                  </a:lnTo>
                  <a:lnTo>
                    <a:pt x="409" y="71"/>
                  </a:lnTo>
                  <a:lnTo>
                    <a:pt x="400" y="67"/>
                  </a:lnTo>
                  <a:lnTo>
                    <a:pt x="392" y="61"/>
                  </a:lnTo>
                  <a:lnTo>
                    <a:pt x="383" y="57"/>
                  </a:lnTo>
                  <a:lnTo>
                    <a:pt x="377" y="54"/>
                  </a:lnTo>
                  <a:lnTo>
                    <a:pt x="367" y="50"/>
                  </a:lnTo>
                  <a:lnTo>
                    <a:pt x="360" y="46"/>
                  </a:lnTo>
                  <a:lnTo>
                    <a:pt x="352" y="42"/>
                  </a:lnTo>
                  <a:lnTo>
                    <a:pt x="345" y="38"/>
                  </a:lnTo>
                  <a:lnTo>
                    <a:pt x="337" y="36"/>
                  </a:lnTo>
                  <a:lnTo>
                    <a:pt x="329" y="33"/>
                  </a:lnTo>
                  <a:lnTo>
                    <a:pt x="322" y="29"/>
                  </a:lnTo>
                  <a:lnTo>
                    <a:pt x="314" y="27"/>
                  </a:lnTo>
                  <a:lnTo>
                    <a:pt x="307" y="23"/>
                  </a:lnTo>
                  <a:lnTo>
                    <a:pt x="299" y="21"/>
                  </a:lnTo>
                  <a:lnTo>
                    <a:pt x="291" y="19"/>
                  </a:lnTo>
                  <a:lnTo>
                    <a:pt x="284" y="17"/>
                  </a:lnTo>
                  <a:lnTo>
                    <a:pt x="276" y="14"/>
                  </a:lnTo>
                  <a:lnTo>
                    <a:pt x="269" y="14"/>
                  </a:lnTo>
                  <a:lnTo>
                    <a:pt x="261" y="10"/>
                  </a:lnTo>
                  <a:lnTo>
                    <a:pt x="253" y="10"/>
                  </a:lnTo>
                  <a:lnTo>
                    <a:pt x="246" y="6"/>
                  </a:lnTo>
                  <a:lnTo>
                    <a:pt x="238" y="6"/>
                  </a:lnTo>
                  <a:lnTo>
                    <a:pt x="232" y="2"/>
                  </a:lnTo>
                  <a:lnTo>
                    <a:pt x="225" y="2"/>
                  </a:lnTo>
                  <a:lnTo>
                    <a:pt x="217" y="2"/>
                  </a:lnTo>
                  <a:lnTo>
                    <a:pt x="210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28" y="0"/>
                  </a:lnTo>
                  <a:lnTo>
                    <a:pt x="118" y="2"/>
                  </a:lnTo>
                  <a:lnTo>
                    <a:pt x="107" y="6"/>
                  </a:lnTo>
                  <a:lnTo>
                    <a:pt x="96" y="10"/>
                  </a:lnTo>
                  <a:lnTo>
                    <a:pt x="84" y="14"/>
                  </a:lnTo>
                  <a:lnTo>
                    <a:pt x="75" y="17"/>
                  </a:lnTo>
                  <a:lnTo>
                    <a:pt x="65" y="21"/>
                  </a:lnTo>
                  <a:lnTo>
                    <a:pt x="56" y="27"/>
                  </a:lnTo>
                  <a:lnTo>
                    <a:pt x="46" y="33"/>
                  </a:lnTo>
                  <a:lnTo>
                    <a:pt x="39" y="40"/>
                  </a:lnTo>
                  <a:lnTo>
                    <a:pt x="33" y="48"/>
                  </a:lnTo>
                  <a:lnTo>
                    <a:pt x="25" y="55"/>
                  </a:lnTo>
                  <a:lnTo>
                    <a:pt x="20" y="63"/>
                  </a:lnTo>
                  <a:lnTo>
                    <a:pt x="16" y="74"/>
                  </a:lnTo>
                  <a:lnTo>
                    <a:pt x="10" y="80"/>
                  </a:lnTo>
                  <a:lnTo>
                    <a:pt x="6" y="90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2" y="154"/>
                  </a:lnTo>
                  <a:lnTo>
                    <a:pt x="2" y="164"/>
                  </a:lnTo>
                  <a:lnTo>
                    <a:pt x="6" y="175"/>
                  </a:lnTo>
                  <a:lnTo>
                    <a:pt x="8" y="187"/>
                  </a:lnTo>
                  <a:lnTo>
                    <a:pt x="12" y="200"/>
                  </a:lnTo>
                  <a:lnTo>
                    <a:pt x="16" y="209"/>
                  </a:lnTo>
                  <a:lnTo>
                    <a:pt x="23" y="223"/>
                  </a:lnTo>
                  <a:lnTo>
                    <a:pt x="29" y="234"/>
                  </a:lnTo>
                  <a:lnTo>
                    <a:pt x="37" y="247"/>
                  </a:lnTo>
                  <a:lnTo>
                    <a:pt x="42" y="259"/>
                  </a:lnTo>
                  <a:lnTo>
                    <a:pt x="50" y="270"/>
                  </a:lnTo>
                  <a:lnTo>
                    <a:pt x="58" y="282"/>
                  </a:lnTo>
                  <a:lnTo>
                    <a:pt x="67" y="293"/>
                  </a:lnTo>
                  <a:lnTo>
                    <a:pt x="77" y="304"/>
                  </a:lnTo>
                  <a:lnTo>
                    <a:pt x="88" y="316"/>
                  </a:lnTo>
                  <a:lnTo>
                    <a:pt x="99" y="329"/>
                  </a:lnTo>
                  <a:lnTo>
                    <a:pt x="111" y="341"/>
                  </a:lnTo>
                  <a:lnTo>
                    <a:pt x="122" y="352"/>
                  </a:lnTo>
                  <a:lnTo>
                    <a:pt x="135" y="361"/>
                  </a:lnTo>
                  <a:lnTo>
                    <a:pt x="141" y="367"/>
                  </a:lnTo>
                  <a:lnTo>
                    <a:pt x="147" y="373"/>
                  </a:lnTo>
                  <a:lnTo>
                    <a:pt x="154" y="377"/>
                  </a:lnTo>
                  <a:lnTo>
                    <a:pt x="160" y="384"/>
                  </a:lnTo>
                  <a:lnTo>
                    <a:pt x="168" y="388"/>
                  </a:lnTo>
                  <a:lnTo>
                    <a:pt x="173" y="394"/>
                  </a:lnTo>
                  <a:lnTo>
                    <a:pt x="181" y="398"/>
                  </a:lnTo>
                  <a:lnTo>
                    <a:pt x="189" y="403"/>
                  </a:lnTo>
                  <a:lnTo>
                    <a:pt x="196" y="409"/>
                  </a:lnTo>
                  <a:lnTo>
                    <a:pt x="202" y="413"/>
                  </a:lnTo>
                  <a:lnTo>
                    <a:pt x="212" y="418"/>
                  </a:lnTo>
                  <a:lnTo>
                    <a:pt x="219" y="424"/>
                  </a:lnTo>
                  <a:lnTo>
                    <a:pt x="219" y="424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 flipH="1" flipV="1" rot="20995800">
              <a:off x="7463880" y="3753360"/>
              <a:ext cx="424080" cy="334800"/>
            </a:xfrm>
            <a:custGeom>
              <a:avLst/>
              <a:gdLst/>
              <a:ahLst/>
              <a:rect l="l" t="t" r="r" b="b"/>
              <a:pathLst>
                <a:path w="646" h="579">
                  <a:moveTo>
                    <a:pt x="450" y="7"/>
                  </a:moveTo>
                  <a:lnTo>
                    <a:pt x="447" y="5"/>
                  </a:lnTo>
                  <a:lnTo>
                    <a:pt x="445" y="5"/>
                  </a:lnTo>
                  <a:lnTo>
                    <a:pt x="441" y="5"/>
                  </a:lnTo>
                  <a:lnTo>
                    <a:pt x="435" y="3"/>
                  </a:lnTo>
                  <a:lnTo>
                    <a:pt x="426" y="3"/>
                  </a:lnTo>
                  <a:lnTo>
                    <a:pt x="418" y="1"/>
                  </a:lnTo>
                  <a:lnTo>
                    <a:pt x="407" y="1"/>
                  </a:lnTo>
                  <a:lnTo>
                    <a:pt x="397" y="1"/>
                  </a:lnTo>
                  <a:lnTo>
                    <a:pt x="386" y="0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52" y="1"/>
                  </a:lnTo>
                  <a:lnTo>
                    <a:pt x="342" y="1"/>
                  </a:lnTo>
                  <a:lnTo>
                    <a:pt x="331" y="3"/>
                  </a:lnTo>
                  <a:lnTo>
                    <a:pt x="321" y="7"/>
                  </a:lnTo>
                  <a:lnTo>
                    <a:pt x="315" y="11"/>
                  </a:lnTo>
                  <a:lnTo>
                    <a:pt x="306" y="15"/>
                  </a:lnTo>
                  <a:lnTo>
                    <a:pt x="298" y="19"/>
                  </a:lnTo>
                  <a:lnTo>
                    <a:pt x="291" y="22"/>
                  </a:lnTo>
                  <a:lnTo>
                    <a:pt x="285" y="28"/>
                  </a:lnTo>
                  <a:lnTo>
                    <a:pt x="277" y="32"/>
                  </a:lnTo>
                  <a:lnTo>
                    <a:pt x="270" y="38"/>
                  </a:lnTo>
                  <a:lnTo>
                    <a:pt x="264" y="41"/>
                  </a:lnTo>
                  <a:lnTo>
                    <a:pt x="258" y="47"/>
                  </a:lnTo>
                  <a:lnTo>
                    <a:pt x="247" y="57"/>
                  </a:lnTo>
                  <a:lnTo>
                    <a:pt x="236" y="66"/>
                  </a:lnTo>
                  <a:lnTo>
                    <a:pt x="226" y="74"/>
                  </a:lnTo>
                  <a:lnTo>
                    <a:pt x="218" y="81"/>
                  </a:lnTo>
                  <a:lnTo>
                    <a:pt x="207" y="83"/>
                  </a:lnTo>
                  <a:lnTo>
                    <a:pt x="196" y="87"/>
                  </a:lnTo>
                  <a:lnTo>
                    <a:pt x="190" y="87"/>
                  </a:lnTo>
                  <a:lnTo>
                    <a:pt x="184" y="89"/>
                  </a:lnTo>
                  <a:lnTo>
                    <a:pt x="177" y="91"/>
                  </a:lnTo>
                  <a:lnTo>
                    <a:pt x="169" y="93"/>
                  </a:lnTo>
                  <a:lnTo>
                    <a:pt x="161" y="93"/>
                  </a:lnTo>
                  <a:lnTo>
                    <a:pt x="152" y="95"/>
                  </a:lnTo>
                  <a:lnTo>
                    <a:pt x="142" y="96"/>
                  </a:lnTo>
                  <a:lnTo>
                    <a:pt x="135" y="98"/>
                  </a:lnTo>
                  <a:lnTo>
                    <a:pt x="125" y="100"/>
                  </a:lnTo>
                  <a:lnTo>
                    <a:pt x="116" y="102"/>
                  </a:lnTo>
                  <a:lnTo>
                    <a:pt x="106" y="106"/>
                  </a:lnTo>
                  <a:lnTo>
                    <a:pt x="97" y="112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64" y="127"/>
                  </a:lnTo>
                  <a:lnTo>
                    <a:pt x="59" y="134"/>
                  </a:lnTo>
                  <a:lnTo>
                    <a:pt x="49" y="142"/>
                  </a:lnTo>
                  <a:lnTo>
                    <a:pt x="42" y="153"/>
                  </a:lnTo>
                  <a:lnTo>
                    <a:pt x="36" y="163"/>
                  </a:lnTo>
                  <a:lnTo>
                    <a:pt x="30" y="174"/>
                  </a:lnTo>
                  <a:lnTo>
                    <a:pt x="26" y="180"/>
                  </a:lnTo>
                  <a:lnTo>
                    <a:pt x="25" y="186"/>
                  </a:lnTo>
                  <a:lnTo>
                    <a:pt x="23" y="192"/>
                  </a:lnTo>
                  <a:lnTo>
                    <a:pt x="19" y="199"/>
                  </a:lnTo>
                  <a:lnTo>
                    <a:pt x="17" y="205"/>
                  </a:lnTo>
                  <a:lnTo>
                    <a:pt x="17" y="212"/>
                  </a:lnTo>
                  <a:lnTo>
                    <a:pt x="13" y="218"/>
                  </a:lnTo>
                  <a:lnTo>
                    <a:pt x="13" y="226"/>
                  </a:lnTo>
                  <a:lnTo>
                    <a:pt x="9" y="233"/>
                  </a:lnTo>
                  <a:lnTo>
                    <a:pt x="9" y="241"/>
                  </a:lnTo>
                  <a:lnTo>
                    <a:pt x="7" y="249"/>
                  </a:lnTo>
                  <a:lnTo>
                    <a:pt x="6" y="254"/>
                  </a:lnTo>
                  <a:lnTo>
                    <a:pt x="4" y="262"/>
                  </a:lnTo>
                  <a:lnTo>
                    <a:pt x="4" y="269"/>
                  </a:lnTo>
                  <a:lnTo>
                    <a:pt x="2" y="279"/>
                  </a:lnTo>
                  <a:lnTo>
                    <a:pt x="2" y="288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0" y="313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338"/>
                  </a:lnTo>
                  <a:lnTo>
                    <a:pt x="0" y="345"/>
                  </a:lnTo>
                  <a:lnTo>
                    <a:pt x="2" y="355"/>
                  </a:lnTo>
                  <a:lnTo>
                    <a:pt x="2" y="363"/>
                  </a:lnTo>
                  <a:lnTo>
                    <a:pt x="4" y="372"/>
                  </a:lnTo>
                  <a:lnTo>
                    <a:pt x="4" y="380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9" y="406"/>
                  </a:lnTo>
                  <a:lnTo>
                    <a:pt x="13" y="412"/>
                  </a:lnTo>
                  <a:lnTo>
                    <a:pt x="17" y="421"/>
                  </a:lnTo>
                  <a:lnTo>
                    <a:pt x="19" y="429"/>
                  </a:lnTo>
                  <a:lnTo>
                    <a:pt x="21" y="439"/>
                  </a:lnTo>
                  <a:lnTo>
                    <a:pt x="23" y="444"/>
                  </a:lnTo>
                  <a:lnTo>
                    <a:pt x="26" y="454"/>
                  </a:lnTo>
                  <a:lnTo>
                    <a:pt x="30" y="461"/>
                  </a:lnTo>
                  <a:lnTo>
                    <a:pt x="34" y="467"/>
                  </a:lnTo>
                  <a:lnTo>
                    <a:pt x="38" y="475"/>
                  </a:lnTo>
                  <a:lnTo>
                    <a:pt x="42" y="482"/>
                  </a:lnTo>
                  <a:lnTo>
                    <a:pt x="45" y="488"/>
                  </a:lnTo>
                  <a:lnTo>
                    <a:pt x="51" y="496"/>
                  </a:lnTo>
                  <a:lnTo>
                    <a:pt x="55" y="501"/>
                  </a:lnTo>
                  <a:lnTo>
                    <a:pt x="61" y="509"/>
                  </a:lnTo>
                  <a:lnTo>
                    <a:pt x="70" y="520"/>
                  </a:lnTo>
                  <a:lnTo>
                    <a:pt x="82" y="532"/>
                  </a:lnTo>
                  <a:lnTo>
                    <a:pt x="91" y="541"/>
                  </a:lnTo>
                  <a:lnTo>
                    <a:pt x="102" y="551"/>
                  </a:lnTo>
                  <a:lnTo>
                    <a:pt x="114" y="558"/>
                  </a:lnTo>
                  <a:lnTo>
                    <a:pt x="127" y="564"/>
                  </a:lnTo>
                  <a:lnTo>
                    <a:pt x="139" y="568"/>
                  </a:lnTo>
                  <a:lnTo>
                    <a:pt x="152" y="574"/>
                  </a:lnTo>
                  <a:lnTo>
                    <a:pt x="158" y="574"/>
                  </a:lnTo>
                  <a:lnTo>
                    <a:pt x="163" y="575"/>
                  </a:lnTo>
                  <a:lnTo>
                    <a:pt x="171" y="577"/>
                  </a:lnTo>
                  <a:lnTo>
                    <a:pt x="177" y="579"/>
                  </a:lnTo>
                  <a:lnTo>
                    <a:pt x="190" y="577"/>
                  </a:lnTo>
                  <a:lnTo>
                    <a:pt x="201" y="577"/>
                  </a:lnTo>
                  <a:lnTo>
                    <a:pt x="213" y="577"/>
                  </a:lnTo>
                  <a:lnTo>
                    <a:pt x="226" y="574"/>
                  </a:lnTo>
                  <a:lnTo>
                    <a:pt x="237" y="570"/>
                  </a:lnTo>
                  <a:lnTo>
                    <a:pt x="247" y="564"/>
                  </a:lnTo>
                  <a:lnTo>
                    <a:pt x="258" y="556"/>
                  </a:lnTo>
                  <a:lnTo>
                    <a:pt x="270" y="551"/>
                  </a:lnTo>
                  <a:lnTo>
                    <a:pt x="277" y="539"/>
                  </a:lnTo>
                  <a:lnTo>
                    <a:pt x="285" y="532"/>
                  </a:lnTo>
                  <a:lnTo>
                    <a:pt x="293" y="520"/>
                  </a:lnTo>
                  <a:lnTo>
                    <a:pt x="298" y="513"/>
                  </a:lnTo>
                  <a:lnTo>
                    <a:pt x="306" y="503"/>
                  </a:lnTo>
                  <a:lnTo>
                    <a:pt x="312" y="494"/>
                  </a:lnTo>
                  <a:lnTo>
                    <a:pt x="317" y="482"/>
                  </a:lnTo>
                  <a:lnTo>
                    <a:pt x="323" y="475"/>
                  </a:lnTo>
                  <a:lnTo>
                    <a:pt x="327" y="465"/>
                  </a:lnTo>
                  <a:lnTo>
                    <a:pt x="331" y="458"/>
                  </a:lnTo>
                  <a:lnTo>
                    <a:pt x="336" y="448"/>
                  </a:lnTo>
                  <a:lnTo>
                    <a:pt x="342" y="441"/>
                  </a:lnTo>
                  <a:lnTo>
                    <a:pt x="344" y="431"/>
                  </a:lnTo>
                  <a:lnTo>
                    <a:pt x="350" y="423"/>
                  </a:lnTo>
                  <a:lnTo>
                    <a:pt x="353" y="416"/>
                  </a:lnTo>
                  <a:lnTo>
                    <a:pt x="357" y="410"/>
                  </a:lnTo>
                  <a:lnTo>
                    <a:pt x="361" y="402"/>
                  </a:lnTo>
                  <a:lnTo>
                    <a:pt x="367" y="397"/>
                  </a:lnTo>
                  <a:lnTo>
                    <a:pt x="371" y="393"/>
                  </a:lnTo>
                  <a:lnTo>
                    <a:pt x="376" y="389"/>
                  </a:lnTo>
                  <a:lnTo>
                    <a:pt x="382" y="385"/>
                  </a:lnTo>
                  <a:lnTo>
                    <a:pt x="388" y="383"/>
                  </a:lnTo>
                  <a:lnTo>
                    <a:pt x="395" y="380"/>
                  </a:lnTo>
                  <a:lnTo>
                    <a:pt x="403" y="380"/>
                  </a:lnTo>
                  <a:lnTo>
                    <a:pt x="409" y="376"/>
                  </a:lnTo>
                  <a:lnTo>
                    <a:pt x="414" y="376"/>
                  </a:lnTo>
                  <a:lnTo>
                    <a:pt x="424" y="376"/>
                  </a:lnTo>
                  <a:lnTo>
                    <a:pt x="431" y="376"/>
                  </a:lnTo>
                  <a:lnTo>
                    <a:pt x="441" y="374"/>
                  </a:lnTo>
                  <a:lnTo>
                    <a:pt x="450" y="374"/>
                  </a:lnTo>
                  <a:lnTo>
                    <a:pt x="462" y="374"/>
                  </a:lnTo>
                  <a:lnTo>
                    <a:pt x="473" y="374"/>
                  </a:lnTo>
                  <a:lnTo>
                    <a:pt x="485" y="370"/>
                  </a:lnTo>
                  <a:lnTo>
                    <a:pt x="498" y="366"/>
                  </a:lnTo>
                  <a:lnTo>
                    <a:pt x="509" y="363"/>
                  </a:lnTo>
                  <a:lnTo>
                    <a:pt x="521" y="359"/>
                  </a:lnTo>
                  <a:lnTo>
                    <a:pt x="534" y="351"/>
                  </a:lnTo>
                  <a:lnTo>
                    <a:pt x="545" y="345"/>
                  </a:lnTo>
                  <a:lnTo>
                    <a:pt x="557" y="338"/>
                  </a:lnTo>
                  <a:lnTo>
                    <a:pt x="568" y="332"/>
                  </a:lnTo>
                  <a:lnTo>
                    <a:pt x="578" y="323"/>
                  </a:lnTo>
                  <a:lnTo>
                    <a:pt x="589" y="313"/>
                  </a:lnTo>
                  <a:lnTo>
                    <a:pt x="597" y="302"/>
                  </a:lnTo>
                  <a:lnTo>
                    <a:pt x="606" y="292"/>
                  </a:lnTo>
                  <a:lnTo>
                    <a:pt x="614" y="281"/>
                  </a:lnTo>
                  <a:lnTo>
                    <a:pt x="621" y="269"/>
                  </a:lnTo>
                  <a:lnTo>
                    <a:pt x="627" y="258"/>
                  </a:lnTo>
                  <a:lnTo>
                    <a:pt x="635" y="245"/>
                  </a:lnTo>
                  <a:lnTo>
                    <a:pt x="637" y="239"/>
                  </a:lnTo>
                  <a:lnTo>
                    <a:pt x="639" y="231"/>
                  </a:lnTo>
                  <a:lnTo>
                    <a:pt x="641" y="226"/>
                  </a:lnTo>
                  <a:lnTo>
                    <a:pt x="642" y="218"/>
                  </a:lnTo>
                  <a:lnTo>
                    <a:pt x="642" y="212"/>
                  </a:lnTo>
                  <a:lnTo>
                    <a:pt x="642" y="205"/>
                  </a:lnTo>
                  <a:lnTo>
                    <a:pt x="644" y="197"/>
                  </a:lnTo>
                  <a:lnTo>
                    <a:pt x="646" y="192"/>
                  </a:lnTo>
                  <a:lnTo>
                    <a:pt x="646" y="184"/>
                  </a:lnTo>
                  <a:lnTo>
                    <a:pt x="646" y="176"/>
                  </a:lnTo>
                  <a:lnTo>
                    <a:pt x="646" y="171"/>
                  </a:lnTo>
                  <a:lnTo>
                    <a:pt x="646" y="163"/>
                  </a:lnTo>
                  <a:lnTo>
                    <a:pt x="644" y="155"/>
                  </a:lnTo>
                  <a:lnTo>
                    <a:pt x="642" y="148"/>
                  </a:lnTo>
                  <a:lnTo>
                    <a:pt x="642" y="142"/>
                  </a:lnTo>
                  <a:lnTo>
                    <a:pt x="642" y="134"/>
                  </a:lnTo>
                  <a:lnTo>
                    <a:pt x="641" y="129"/>
                  </a:lnTo>
                  <a:lnTo>
                    <a:pt x="637" y="121"/>
                  </a:lnTo>
                  <a:lnTo>
                    <a:pt x="635" y="114"/>
                  </a:lnTo>
                  <a:lnTo>
                    <a:pt x="633" y="106"/>
                  </a:lnTo>
                  <a:lnTo>
                    <a:pt x="627" y="93"/>
                  </a:lnTo>
                  <a:lnTo>
                    <a:pt x="621" y="83"/>
                  </a:lnTo>
                  <a:lnTo>
                    <a:pt x="612" y="70"/>
                  </a:lnTo>
                  <a:lnTo>
                    <a:pt x="604" y="60"/>
                  </a:lnTo>
                  <a:lnTo>
                    <a:pt x="595" y="51"/>
                  </a:lnTo>
                  <a:lnTo>
                    <a:pt x="585" y="45"/>
                  </a:lnTo>
                  <a:lnTo>
                    <a:pt x="574" y="36"/>
                  </a:lnTo>
                  <a:lnTo>
                    <a:pt x="563" y="30"/>
                  </a:lnTo>
                  <a:lnTo>
                    <a:pt x="549" y="24"/>
                  </a:lnTo>
                  <a:lnTo>
                    <a:pt x="540" y="20"/>
                  </a:lnTo>
                  <a:lnTo>
                    <a:pt x="528" y="17"/>
                  </a:lnTo>
                  <a:lnTo>
                    <a:pt x="517" y="13"/>
                  </a:lnTo>
                  <a:lnTo>
                    <a:pt x="506" y="11"/>
                  </a:lnTo>
                  <a:lnTo>
                    <a:pt x="496" y="11"/>
                  </a:lnTo>
                  <a:lnTo>
                    <a:pt x="487" y="9"/>
                  </a:lnTo>
                  <a:lnTo>
                    <a:pt x="475" y="7"/>
                  </a:lnTo>
                  <a:lnTo>
                    <a:pt x="467" y="7"/>
                  </a:lnTo>
                  <a:lnTo>
                    <a:pt x="462" y="7"/>
                  </a:lnTo>
                  <a:lnTo>
                    <a:pt x="452" y="5"/>
                  </a:lnTo>
                  <a:lnTo>
                    <a:pt x="450" y="7"/>
                  </a:lnTo>
                  <a:lnTo>
                    <a:pt x="450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 flipV="1" rot="20995800">
              <a:off x="6991560" y="4057920"/>
              <a:ext cx="479520" cy="258480"/>
            </a:xfrm>
            <a:custGeom>
              <a:avLst/>
              <a:gdLst/>
              <a:ahLst/>
              <a:rect l="l" t="t" r="r" b="b"/>
              <a:pathLst>
                <a:path w="730" h="446">
                  <a:moveTo>
                    <a:pt x="36" y="382"/>
                  </a:moveTo>
                  <a:lnTo>
                    <a:pt x="34" y="380"/>
                  </a:lnTo>
                  <a:lnTo>
                    <a:pt x="32" y="376"/>
                  </a:lnTo>
                  <a:lnTo>
                    <a:pt x="30" y="368"/>
                  </a:lnTo>
                  <a:lnTo>
                    <a:pt x="28" y="363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19" y="334"/>
                  </a:lnTo>
                  <a:lnTo>
                    <a:pt x="17" y="327"/>
                  </a:lnTo>
                  <a:lnTo>
                    <a:pt x="15" y="321"/>
                  </a:lnTo>
                  <a:lnTo>
                    <a:pt x="13" y="313"/>
                  </a:lnTo>
                  <a:lnTo>
                    <a:pt x="11" y="306"/>
                  </a:lnTo>
                  <a:lnTo>
                    <a:pt x="9" y="298"/>
                  </a:lnTo>
                  <a:lnTo>
                    <a:pt x="7" y="289"/>
                  </a:lnTo>
                  <a:lnTo>
                    <a:pt x="7" y="281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0" y="237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2" y="196"/>
                  </a:lnTo>
                  <a:lnTo>
                    <a:pt x="4" y="184"/>
                  </a:lnTo>
                  <a:lnTo>
                    <a:pt x="5" y="178"/>
                  </a:lnTo>
                  <a:lnTo>
                    <a:pt x="5" y="169"/>
                  </a:lnTo>
                  <a:lnTo>
                    <a:pt x="7" y="159"/>
                  </a:lnTo>
                  <a:lnTo>
                    <a:pt x="11" y="152"/>
                  </a:lnTo>
                  <a:lnTo>
                    <a:pt x="15" y="146"/>
                  </a:lnTo>
                  <a:lnTo>
                    <a:pt x="17" y="138"/>
                  </a:lnTo>
                  <a:lnTo>
                    <a:pt x="21" y="131"/>
                  </a:lnTo>
                  <a:lnTo>
                    <a:pt x="26" y="125"/>
                  </a:lnTo>
                  <a:lnTo>
                    <a:pt x="32" y="119"/>
                  </a:lnTo>
                  <a:lnTo>
                    <a:pt x="42" y="108"/>
                  </a:lnTo>
                  <a:lnTo>
                    <a:pt x="55" y="99"/>
                  </a:lnTo>
                  <a:lnTo>
                    <a:pt x="61" y="93"/>
                  </a:lnTo>
                  <a:lnTo>
                    <a:pt x="68" y="89"/>
                  </a:lnTo>
                  <a:lnTo>
                    <a:pt x="74" y="85"/>
                  </a:lnTo>
                  <a:lnTo>
                    <a:pt x="83" y="81"/>
                  </a:lnTo>
                  <a:lnTo>
                    <a:pt x="91" y="78"/>
                  </a:lnTo>
                  <a:lnTo>
                    <a:pt x="97" y="74"/>
                  </a:lnTo>
                  <a:lnTo>
                    <a:pt x="104" y="70"/>
                  </a:lnTo>
                  <a:lnTo>
                    <a:pt x="114" y="66"/>
                  </a:lnTo>
                  <a:lnTo>
                    <a:pt x="121" y="62"/>
                  </a:lnTo>
                  <a:lnTo>
                    <a:pt x="129" y="59"/>
                  </a:lnTo>
                  <a:lnTo>
                    <a:pt x="139" y="57"/>
                  </a:lnTo>
                  <a:lnTo>
                    <a:pt x="148" y="55"/>
                  </a:lnTo>
                  <a:lnTo>
                    <a:pt x="156" y="51"/>
                  </a:lnTo>
                  <a:lnTo>
                    <a:pt x="165" y="49"/>
                  </a:lnTo>
                  <a:lnTo>
                    <a:pt x="171" y="45"/>
                  </a:lnTo>
                  <a:lnTo>
                    <a:pt x="180" y="43"/>
                  </a:lnTo>
                  <a:lnTo>
                    <a:pt x="190" y="40"/>
                  </a:lnTo>
                  <a:lnTo>
                    <a:pt x="197" y="38"/>
                  </a:lnTo>
                  <a:lnTo>
                    <a:pt x="207" y="36"/>
                  </a:lnTo>
                  <a:lnTo>
                    <a:pt x="216" y="34"/>
                  </a:lnTo>
                  <a:lnTo>
                    <a:pt x="222" y="30"/>
                  </a:lnTo>
                  <a:lnTo>
                    <a:pt x="232" y="30"/>
                  </a:lnTo>
                  <a:lnTo>
                    <a:pt x="239" y="26"/>
                  </a:lnTo>
                  <a:lnTo>
                    <a:pt x="249" y="24"/>
                  </a:lnTo>
                  <a:lnTo>
                    <a:pt x="254" y="23"/>
                  </a:lnTo>
                  <a:lnTo>
                    <a:pt x="264" y="21"/>
                  </a:lnTo>
                  <a:lnTo>
                    <a:pt x="272" y="19"/>
                  </a:lnTo>
                  <a:lnTo>
                    <a:pt x="281" y="19"/>
                  </a:lnTo>
                  <a:lnTo>
                    <a:pt x="289" y="17"/>
                  </a:lnTo>
                  <a:lnTo>
                    <a:pt x="296" y="15"/>
                  </a:lnTo>
                  <a:lnTo>
                    <a:pt x="306" y="13"/>
                  </a:lnTo>
                  <a:lnTo>
                    <a:pt x="313" y="13"/>
                  </a:lnTo>
                  <a:lnTo>
                    <a:pt x="321" y="11"/>
                  </a:lnTo>
                  <a:lnTo>
                    <a:pt x="331" y="11"/>
                  </a:lnTo>
                  <a:lnTo>
                    <a:pt x="338" y="9"/>
                  </a:lnTo>
                  <a:lnTo>
                    <a:pt x="348" y="9"/>
                  </a:lnTo>
                  <a:lnTo>
                    <a:pt x="353" y="7"/>
                  </a:lnTo>
                  <a:lnTo>
                    <a:pt x="363" y="7"/>
                  </a:lnTo>
                  <a:lnTo>
                    <a:pt x="370" y="5"/>
                  </a:lnTo>
                  <a:lnTo>
                    <a:pt x="378" y="5"/>
                  </a:lnTo>
                  <a:lnTo>
                    <a:pt x="386" y="4"/>
                  </a:lnTo>
                  <a:lnTo>
                    <a:pt x="393" y="4"/>
                  </a:lnTo>
                  <a:lnTo>
                    <a:pt x="403" y="4"/>
                  </a:lnTo>
                  <a:lnTo>
                    <a:pt x="410" y="4"/>
                  </a:lnTo>
                  <a:lnTo>
                    <a:pt x="418" y="2"/>
                  </a:lnTo>
                  <a:lnTo>
                    <a:pt x="426" y="2"/>
                  </a:lnTo>
                  <a:lnTo>
                    <a:pt x="435" y="2"/>
                  </a:lnTo>
                  <a:lnTo>
                    <a:pt x="443" y="2"/>
                  </a:lnTo>
                  <a:lnTo>
                    <a:pt x="450" y="2"/>
                  </a:lnTo>
                  <a:lnTo>
                    <a:pt x="458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11" y="0"/>
                  </a:lnTo>
                  <a:lnTo>
                    <a:pt x="519" y="0"/>
                  </a:lnTo>
                  <a:lnTo>
                    <a:pt x="524" y="0"/>
                  </a:lnTo>
                  <a:lnTo>
                    <a:pt x="534" y="2"/>
                  </a:lnTo>
                  <a:lnTo>
                    <a:pt x="542" y="2"/>
                  </a:lnTo>
                  <a:lnTo>
                    <a:pt x="547" y="2"/>
                  </a:lnTo>
                  <a:lnTo>
                    <a:pt x="555" y="2"/>
                  </a:lnTo>
                  <a:lnTo>
                    <a:pt x="562" y="4"/>
                  </a:lnTo>
                  <a:lnTo>
                    <a:pt x="568" y="4"/>
                  </a:lnTo>
                  <a:lnTo>
                    <a:pt x="576" y="5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2" y="13"/>
                  </a:lnTo>
                  <a:lnTo>
                    <a:pt x="616" y="17"/>
                  </a:lnTo>
                  <a:lnTo>
                    <a:pt x="627" y="23"/>
                  </a:lnTo>
                  <a:lnTo>
                    <a:pt x="640" y="30"/>
                  </a:lnTo>
                  <a:lnTo>
                    <a:pt x="650" y="36"/>
                  </a:lnTo>
                  <a:lnTo>
                    <a:pt x="663" y="45"/>
                  </a:lnTo>
                  <a:lnTo>
                    <a:pt x="673" y="57"/>
                  </a:lnTo>
                  <a:lnTo>
                    <a:pt x="686" y="68"/>
                  </a:lnTo>
                  <a:lnTo>
                    <a:pt x="694" y="80"/>
                  </a:lnTo>
                  <a:lnTo>
                    <a:pt x="701" y="93"/>
                  </a:lnTo>
                  <a:lnTo>
                    <a:pt x="705" y="99"/>
                  </a:lnTo>
                  <a:lnTo>
                    <a:pt x="709" y="106"/>
                  </a:lnTo>
                  <a:lnTo>
                    <a:pt x="713" y="114"/>
                  </a:lnTo>
                  <a:lnTo>
                    <a:pt x="716" y="119"/>
                  </a:lnTo>
                  <a:lnTo>
                    <a:pt x="718" y="127"/>
                  </a:lnTo>
                  <a:lnTo>
                    <a:pt x="720" y="135"/>
                  </a:lnTo>
                  <a:lnTo>
                    <a:pt x="722" y="142"/>
                  </a:lnTo>
                  <a:lnTo>
                    <a:pt x="724" y="150"/>
                  </a:lnTo>
                  <a:lnTo>
                    <a:pt x="724" y="156"/>
                  </a:lnTo>
                  <a:lnTo>
                    <a:pt x="728" y="165"/>
                  </a:lnTo>
                  <a:lnTo>
                    <a:pt x="728" y="173"/>
                  </a:lnTo>
                  <a:lnTo>
                    <a:pt x="730" y="180"/>
                  </a:lnTo>
                  <a:lnTo>
                    <a:pt x="730" y="188"/>
                  </a:lnTo>
                  <a:lnTo>
                    <a:pt x="730" y="196"/>
                  </a:lnTo>
                  <a:lnTo>
                    <a:pt x="730" y="203"/>
                  </a:lnTo>
                  <a:lnTo>
                    <a:pt x="730" y="211"/>
                  </a:lnTo>
                  <a:lnTo>
                    <a:pt x="728" y="218"/>
                  </a:lnTo>
                  <a:lnTo>
                    <a:pt x="728" y="226"/>
                  </a:lnTo>
                  <a:lnTo>
                    <a:pt x="726" y="234"/>
                  </a:lnTo>
                  <a:lnTo>
                    <a:pt x="726" y="243"/>
                  </a:lnTo>
                  <a:lnTo>
                    <a:pt x="724" y="249"/>
                  </a:lnTo>
                  <a:lnTo>
                    <a:pt x="722" y="258"/>
                  </a:lnTo>
                  <a:lnTo>
                    <a:pt x="720" y="266"/>
                  </a:lnTo>
                  <a:lnTo>
                    <a:pt x="718" y="273"/>
                  </a:lnTo>
                  <a:lnTo>
                    <a:pt x="715" y="281"/>
                  </a:lnTo>
                  <a:lnTo>
                    <a:pt x="715" y="289"/>
                  </a:lnTo>
                  <a:lnTo>
                    <a:pt x="711" y="294"/>
                  </a:lnTo>
                  <a:lnTo>
                    <a:pt x="709" y="304"/>
                  </a:lnTo>
                  <a:lnTo>
                    <a:pt x="705" y="310"/>
                  </a:lnTo>
                  <a:lnTo>
                    <a:pt x="701" y="317"/>
                  </a:lnTo>
                  <a:lnTo>
                    <a:pt x="696" y="323"/>
                  </a:lnTo>
                  <a:lnTo>
                    <a:pt x="692" y="330"/>
                  </a:lnTo>
                  <a:lnTo>
                    <a:pt x="686" y="336"/>
                  </a:lnTo>
                  <a:lnTo>
                    <a:pt x="680" y="344"/>
                  </a:lnTo>
                  <a:lnTo>
                    <a:pt x="673" y="351"/>
                  </a:lnTo>
                  <a:lnTo>
                    <a:pt x="667" y="359"/>
                  </a:lnTo>
                  <a:lnTo>
                    <a:pt x="659" y="365"/>
                  </a:lnTo>
                  <a:lnTo>
                    <a:pt x="652" y="372"/>
                  </a:lnTo>
                  <a:lnTo>
                    <a:pt x="644" y="378"/>
                  </a:lnTo>
                  <a:lnTo>
                    <a:pt x="635" y="384"/>
                  </a:lnTo>
                  <a:lnTo>
                    <a:pt x="625" y="391"/>
                  </a:lnTo>
                  <a:lnTo>
                    <a:pt x="618" y="397"/>
                  </a:lnTo>
                  <a:lnTo>
                    <a:pt x="608" y="403"/>
                  </a:lnTo>
                  <a:lnTo>
                    <a:pt x="601" y="408"/>
                  </a:lnTo>
                  <a:lnTo>
                    <a:pt x="589" y="414"/>
                  </a:lnTo>
                  <a:lnTo>
                    <a:pt x="582" y="418"/>
                  </a:lnTo>
                  <a:lnTo>
                    <a:pt x="570" y="422"/>
                  </a:lnTo>
                  <a:lnTo>
                    <a:pt x="562" y="427"/>
                  </a:lnTo>
                  <a:lnTo>
                    <a:pt x="553" y="429"/>
                  </a:lnTo>
                  <a:lnTo>
                    <a:pt x="543" y="433"/>
                  </a:lnTo>
                  <a:lnTo>
                    <a:pt x="534" y="437"/>
                  </a:lnTo>
                  <a:lnTo>
                    <a:pt x="526" y="441"/>
                  </a:lnTo>
                  <a:lnTo>
                    <a:pt x="517" y="443"/>
                  </a:lnTo>
                  <a:lnTo>
                    <a:pt x="509" y="445"/>
                  </a:lnTo>
                  <a:lnTo>
                    <a:pt x="500" y="446"/>
                  </a:lnTo>
                  <a:lnTo>
                    <a:pt x="492" y="446"/>
                  </a:lnTo>
                  <a:lnTo>
                    <a:pt x="486" y="446"/>
                  </a:lnTo>
                  <a:lnTo>
                    <a:pt x="479" y="446"/>
                  </a:lnTo>
                  <a:lnTo>
                    <a:pt x="471" y="446"/>
                  </a:lnTo>
                  <a:lnTo>
                    <a:pt x="466" y="446"/>
                  </a:lnTo>
                  <a:lnTo>
                    <a:pt x="452" y="443"/>
                  </a:lnTo>
                  <a:lnTo>
                    <a:pt x="441" y="437"/>
                  </a:lnTo>
                  <a:lnTo>
                    <a:pt x="429" y="431"/>
                  </a:lnTo>
                  <a:lnTo>
                    <a:pt x="420" y="427"/>
                  </a:lnTo>
                  <a:lnTo>
                    <a:pt x="408" y="420"/>
                  </a:lnTo>
                  <a:lnTo>
                    <a:pt x="399" y="414"/>
                  </a:lnTo>
                  <a:lnTo>
                    <a:pt x="389" y="406"/>
                  </a:lnTo>
                  <a:lnTo>
                    <a:pt x="384" y="403"/>
                  </a:lnTo>
                  <a:lnTo>
                    <a:pt x="374" y="395"/>
                  </a:lnTo>
                  <a:lnTo>
                    <a:pt x="365" y="391"/>
                  </a:lnTo>
                  <a:lnTo>
                    <a:pt x="357" y="386"/>
                  </a:lnTo>
                  <a:lnTo>
                    <a:pt x="350" y="382"/>
                  </a:lnTo>
                  <a:lnTo>
                    <a:pt x="342" y="378"/>
                  </a:lnTo>
                  <a:lnTo>
                    <a:pt x="334" y="376"/>
                  </a:lnTo>
                  <a:lnTo>
                    <a:pt x="327" y="374"/>
                  </a:lnTo>
                  <a:lnTo>
                    <a:pt x="319" y="376"/>
                  </a:lnTo>
                  <a:lnTo>
                    <a:pt x="310" y="376"/>
                  </a:lnTo>
                  <a:lnTo>
                    <a:pt x="304" y="378"/>
                  </a:lnTo>
                  <a:lnTo>
                    <a:pt x="296" y="382"/>
                  </a:lnTo>
                  <a:lnTo>
                    <a:pt x="291" y="386"/>
                  </a:lnTo>
                  <a:lnTo>
                    <a:pt x="277" y="393"/>
                  </a:lnTo>
                  <a:lnTo>
                    <a:pt x="264" y="405"/>
                  </a:lnTo>
                  <a:lnTo>
                    <a:pt x="258" y="406"/>
                  </a:lnTo>
                  <a:lnTo>
                    <a:pt x="251" y="414"/>
                  </a:lnTo>
                  <a:lnTo>
                    <a:pt x="241" y="418"/>
                  </a:lnTo>
                  <a:lnTo>
                    <a:pt x="235" y="424"/>
                  </a:lnTo>
                  <a:lnTo>
                    <a:pt x="224" y="429"/>
                  </a:lnTo>
                  <a:lnTo>
                    <a:pt x="215" y="433"/>
                  </a:lnTo>
                  <a:lnTo>
                    <a:pt x="203" y="439"/>
                  </a:lnTo>
                  <a:lnTo>
                    <a:pt x="190" y="443"/>
                  </a:lnTo>
                  <a:lnTo>
                    <a:pt x="184" y="445"/>
                  </a:lnTo>
                  <a:lnTo>
                    <a:pt x="177" y="446"/>
                  </a:lnTo>
                  <a:lnTo>
                    <a:pt x="169" y="446"/>
                  </a:lnTo>
                  <a:lnTo>
                    <a:pt x="163" y="446"/>
                  </a:lnTo>
                  <a:lnTo>
                    <a:pt x="156" y="446"/>
                  </a:lnTo>
                  <a:lnTo>
                    <a:pt x="150" y="446"/>
                  </a:lnTo>
                  <a:lnTo>
                    <a:pt x="142" y="445"/>
                  </a:lnTo>
                  <a:lnTo>
                    <a:pt x="137" y="443"/>
                  </a:lnTo>
                  <a:lnTo>
                    <a:pt x="129" y="441"/>
                  </a:lnTo>
                  <a:lnTo>
                    <a:pt x="123" y="439"/>
                  </a:lnTo>
                  <a:lnTo>
                    <a:pt x="116" y="437"/>
                  </a:lnTo>
                  <a:lnTo>
                    <a:pt x="110" y="433"/>
                  </a:lnTo>
                  <a:lnTo>
                    <a:pt x="97" y="427"/>
                  </a:lnTo>
                  <a:lnTo>
                    <a:pt x="87" y="422"/>
                  </a:lnTo>
                  <a:lnTo>
                    <a:pt x="74" y="414"/>
                  </a:lnTo>
                  <a:lnTo>
                    <a:pt x="64" y="406"/>
                  </a:lnTo>
                  <a:lnTo>
                    <a:pt x="55" y="401"/>
                  </a:lnTo>
                  <a:lnTo>
                    <a:pt x="49" y="395"/>
                  </a:lnTo>
                  <a:lnTo>
                    <a:pt x="43" y="387"/>
                  </a:lnTo>
                  <a:lnTo>
                    <a:pt x="40" y="384"/>
                  </a:lnTo>
                  <a:lnTo>
                    <a:pt x="36" y="382"/>
                  </a:lnTo>
                  <a:lnTo>
                    <a:pt x="36" y="382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H="1" flipV="1" rot="20995800">
              <a:off x="6460200" y="4121280"/>
              <a:ext cx="472680" cy="286200"/>
            </a:xfrm>
            <a:custGeom>
              <a:avLst/>
              <a:gdLst/>
              <a:ahLst/>
              <a:rect l="l" t="t" r="r" b="b"/>
              <a:pathLst>
                <a:path w="718" h="497">
                  <a:moveTo>
                    <a:pt x="304" y="54"/>
                  </a:moveTo>
                  <a:lnTo>
                    <a:pt x="302" y="54"/>
                  </a:lnTo>
                  <a:lnTo>
                    <a:pt x="300" y="52"/>
                  </a:lnTo>
                  <a:lnTo>
                    <a:pt x="294" y="48"/>
                  </a:lnTo>
                  <a:lnTo>
                    <a:pt x="287" y="46"/>
                  </a:lnTo>
                  <a:lnTo>
                    <a:pt x="277" y="40"/>
                  </a:lnTo>
                  <a:lnTo>
                    <a:pt x="270" y="37"/>
                  </a:lnTo>
                  <a:lnTo>
                    <a:pt x="258" y="31"/>
                  </a:lnTo>
                  <a:lnTo>
                    <a:pt x="249" y="29"/>
                  </a:lnTo>
                  <a:lnTo>
                    <a:pt x="235" y="21"/>
                  </a:lnTo>
                  <a:lnTo>
                    <a:pt x="224" y="18"/>
                  </a:lnTo>
                  <a:lnTo>
                    <a:pt x="211" y="12"/>
                  </a:lnTo>
                  <a:lnTo>
                    <a:pt x="197" y="8"/>
                  </a:lnTo>
                  <a:lnTo>
                    <a:pt x="184" y="6"/>
                  </a:lnTo>
                  <a:lnTo>
                    <a:pt x="173" y="2"/>
                  </a:lnTo>
                  <a:lnTo>
                    <a:pt x="161" y="2"/>
                  </a:lnTo>
                  <a:lnTo>
                    <a:pt x="152" y="2"/>
                  </a:lnTo>
                  <a:lnTo>
                    <a:pt x="140" y="0"/>
                  </a:lnTo>
                  <a:lnTo>
                    <a:pt x="133" y="2"/>
                  </a:lnTo>
                  <a:lnTo>
                    <a:pt x="123" y="4"/>
                  </a:lnTo>
                  <a:lnTo>
                    <a:pt x="118" y="8"/>
                  </a:lnTo>
                  <a:lnTo>
                    <a:pt x="110" y="12"/>
                  </a:lnTo>
                  <a:lnTo>
                    <a:pt x="104" y="18"/>
                  </a:lnTo>
                  <a:lnTo>
                    <a:pt x="99" y="23"/>
                  </a:lnTo>
                  <a:lnTo>
                    <a:pt x="95" y="31"/>
                  </a:lnTo>
                  <a:lnTo>
                    <a:pt x="89" y="38"/>
                  </a:lnTo>
                  <a:lnTo>
                    <a:pt x="85" y="44"/>
                  </a:lnTo>
                  <a:lnTo>
                    <a:pt x="80" y="54"/>
                  </a:lnTo>
                  <a:lnTo>
                    <a:pt x="76" y="63"/>
                  </a:lnTo>
                  <a:lnTo>
                    <a:pt x="72" y="73"/>
                  </a:lnTo>
                  <a:lnTo>
                    <a:pt x="68" y="84"/>
                  </a:lnTo>
                  <a:lnTo>
                    <a:pt x="64" y="95"/>
                  </a:lnTo>
                  <a:lnTo>
                    <a:pt x="60" y="105"/>
                  </a:lnTo>
                  <a:lnTo>
                    <a:pt x="55" y="116"/>
                  </a:lnTo>
                  <a:lnTo>
                    <a:pt x="49" y="128"/>
                  </a:lnTo>
                  <a:lnTo>
                    <a:pt x="43" y="137"/>
                  </a:lnTo>
                  <a:lnTo>
                    <a:pt x="38" y="151"/>
                  </a:lnTo>
                  <a:lnTo>
                    <a:pt x="30" y="160"/>
                  </a:lnTo>
                  <a:lnTo>
                    <a:pt x="26" y="173"/>
                  </a:lnTo>
                  <a:lnTo>
                    <a:pt x="21" y="185"/>
                  </a:lnTo>
                  <a:lnTo>
                    <a:pt x="17" y="198"/>
                  </a:lnTo>
                  <a:lnTo>
                    <a:pt x="11" y="210"/>
                  </a:lnTo>
                  <a:lnTo>
                    <a:pt x="7" y="223"/>
                  </a:lnTo>
                  <a:lnTo>
                    <a:pt x="5" y="234"/>
                  </a:lnTo>
                  <a:lnTo>
                    <a:pt x="2" y="248"/>
                  </a:lnTo>
                  <a:lnTo>
                    <a:pt x="0" y="261"/>
                  </a:lnTo>
                  <a:lnTo>
                    <a:pt x="0" y="272"/>
                  </a:lnTo>
                  <a:lnTo>
                    <a:pt x="0" y="286"/>
                  </a:lnTo>
                  <a:lnTo>
                    <a:pt x="2" y="299"/>
                  </a:lnTo>
                  <a:lnTo>
                    <a:pt x="3" y="310"/>
                  </a:lnTo>
                  <a:lnTo>
                    <a:pt x="7" y="322"/>
                  </a:lnTo>
                  <a:lnTo>
                    <a:pt x="11" y="335"/>
                  </a:lnTo>
                  <a:lnTo>
                    <a:pt x="17" y="348"/>
                  </a:lnTo>
                  <a:lnTo>
                    <a:pt x="22" y="360"/>
                  </a:lnTo>
                  <a:lnTo>
                    <a:pt x="30" y="371"/>
                  </a:lnTo>
                  <a:lnTo>
                    <a:pt x="38" y="382"/>
                  </a:lnTo>
                  <a:lnTo>
                    <a:pt x="47" y="394"/>
                  </a:lnTo>
                  <a:lnTo>
                    <a:pt x="57" y="403"/>
                  </a:lnTo>
                  <a:lnTo>
                    <a:pt x="66" y="415"/>
                  </a:lnTo>
                  <a:lnTo>
                    <a:pt x="76" y="424"/>
                  </a:lnTo>
                  <a:lnTo>
                    <a:pt x="89" y="434"/>
                  </a:lnTo>
                  <a:lnTo>
                    <a:pt x="99" y="443"/>
                  </a:lnTo>
                  <a:lnTo>
                    <a:pt x="110" y="453"/>
                  </a:lnTo>
                  <a:lnTo>
                    <a:pt x="123" y="460"/>
                  </a:lnTo>
                  <a:lnTo>
                    <a:pt x="137" y="470"/>
                  </a:lnTo>
                  <a:lnTo>
                    <a:pt x="148" y="474"/>
                  </a:lnTo>
                  <a:lnTo>
                    <a:pt x="161" y="479"/>
                  </a:lnTo>
                  <a:lnTo>
                    <a:pt x="167" y="481"/>
                  </a:lnTo>
                  <a:lnTo>
                    <a:pt x="175" y="483"/>
                  </a:lnTo>
                  <a:lnTo>
                    <a:pt x="182" y="487"/>
                  </a:lnTo>
                  <a:lnTo>
                    <a:pt x="188" y="489"/>
                  </a:lnTo>
                  <a:lnTo>
                    <a:pt x="194" y="489"/>
                  </a:lnTo>
                  <a:lnTo>
                    <a:pt x="201" y="491"/>
                  </a:lnTo>
                  <a:lnTo>
                    <a:pt x="207" y="493"/>
                  </a:lnTo>
                  <a:lnTo>
                    <a:pt x="214" y="493"/>
                  </a:lnTo>
                  <a:lnTo>
                    <a:pt x="220" y="493"/>
                  </a:lnTo>
                  <a:lnTo>
                    <a:pt x="228" y="495"/>
                  </a:lnTo>
                  <a:lnTo>
                    <a:pt x="234" y="497"/>
                  </a:lnTo>
                  <a:lnTo>
                    <a:pt x="241" y="497"/>
                  </a:lnTo>
                  <a:lnTo>
                    <a:pt x="253" y="497"/>
                  </a:lnTo>
                  <a:lnTo>
                    <a:pt x="266" y="497"/>
                  </a:lnTo>
                  <a:lnTo>
                    <a:pt x="275" y="493"/>
                  </a:lnTo>
                  <a:lnTo>
                    <a:pt x="287" y="493"/>
                  </a:lnTo>
                  <a:lnTo>
                    <a:pt x="298" y="489"/>
                  </a:lnTo>
                  <a:lnTo>
                    <a:pt x="308" y="485"/>
                  </a:lnTo>
                  <a:lnTo>
                    <a:pt x="315" y="481"/>
                  </a:lnTo>
                  <a:lnTo>
                    <a:pt x="325" y="478"/>
                  </a:lnTo>
                  <a:lnTo>
                    <a:pt x="330" y="470"/>
                  </a:lnTo>
                  <a:lnTo>
                    <a:pt x="336" y="464"/>
                  </a:lnTo>
                  <a:lnTo>
                    <a:pt x="342" y="457"/>
                  </a:lnTo>
                  <a:lnTo>
                    <a:pt x="348" y="451"/>
                  </a:lnTo>
                  <a:lnTo>
                    <a:pt x="351" y="445"/>
                  </a:lnTo>
                  <a:lnTo>
                    <a:pt x="355" y="438"/>
                  </a:lnTo>
                  <a:lnTo>
                    <a:pt x="359" y="430"/>
                  </a:lnTo>
                  <a:lnTo>
                    <a:pt x="365" y="424"/>
                  </a:lnTo>
                  <a:lnTo>
                    <a:pt x="368" y="417"/>
                  </a:lnTo>
                  <a:lnTo>
                    <a:pt x="370" y="409"/>
                  </a:lnTo>
                  <a:lnTo>
                    <a:pt x="374" y="403"/>
                  </a:lnTo>
                  <a:lnTo>
                    <a:pt x="382" y="400"/>
                  </a:lnTo>
                  <a:lnTo>
                    <a:pt x="384" y="396"/>
                  </a:lnTo>
                  <a:lnTo>
                    <a:pt x="391" y="392"/>
                  </a:lnTo>
                  <a:lnTo>
                    <a:pt x="397" y="390"/>
                  </a:lnTo>
                  <a:lnTo>
                    <a:pt x="405" y="390"/>
                  </a:lnTo>
                  <a:lnTo>
                    <a:pt x="412" y="388"/>
                  </a:lnTo>
                  <a:lnTo>
                    <a:pt x="422" y="390"/>
                  </a:lnTo>
                  <a:lnTo>
                    <a:pt x="431" y="392"/>
                  </a:lnTo>
                  <a:lnTo>
                    <a:pt x="443" y="396"/>
                  </a:lnTo>
                  <a:lnTo>
                    <a:pt x="454" y="400"/>
                  </a:lnTo>
                  <a:lnTo>
                    <a:pt x="465" y="405"/>
                  </a:lnTo>
                  <a:lnTo>
                    <a:pt x="477" y="409"/>
                  </a:lnTo>
                  <a:lnTo>
                    <a:pt x="488" y="415"/>
                  </a:lnTo>
                  <a:lnTo>
                    <a:pt x="500" y="420"/>
                  </a:lnTo>
                  <a:lnTo>
                    <a:pt x="511" y="424"/>
                  </a:lnTo>
                  <a:lnTo>
                    <a:pt x="522" y="430"/>
                  </a:lnTo>
                  <a:lnTo>
                    <a:pt x="536" y="436"/>
                  </a:lnTo>
                  <a:lnTo>
                    <a:pt x="545" y="440"/>
                  </a:lnTo>
                  <a:lnTo>
                    <a:pt x="557" y="445"/>
                  </a:lnTo>
                  <a:lnTo>
                    <a:pt x="568" y="447"/>
                  </a:lnTo>
                  <a:lnTo>
                    <a:pt x="578" y="451"/>
                  </a:lnTo>
                  <a:lnTo>
                    <a:pt x="585" y="451"/>
                  </a:lnTo>
                  <a:lnTo>
                    <a:pt x="593" y="451"/>
                  </a:lnTo>
                  <a:lnTo>
                    <a:pt x="599" y="447"/>
                  </a:lnTo>
                  <a:lnTo>
                    <a:pt x="606" y="447"/>
                  </a:lnTo>
                  <a:lnTo>
                    <a:pt x="616" y="440"/>
                  </a:lnTo>
                  <a:lnTo>
                    <a:pt x="625" y="432"/>
                  </a:lnTo>
                  <a:lnTo>
                    <a:pt x="629" y="424"/>
                  </a:lnTo>
                  <a:lnTo>
                    <a:pt x="633" y="417"/>
                  </a:lnTo>
                  <a:lnTo>
                    <a:pt x="635" y="409"/>
                  </a:lnTo>
                  <a:lnTo>
                    <a:pt x="640" y="401"/>
                  </a:lnTo>
                  <a:lnTo>
                    <a:pt x="644" y="392"/>
                  </a:lnTo>
                  <a:lnTo>
                    <a:pt x="648" y="384"/>
                  </a:lnTo>
                  <a:lnTo>
                    <a:pt x="652" y="375"/>
                  </a:lnTo>
                  <a:lnTo>
                    <a:pt x="657" y="365"/>
                  </a:lnTo>
                  <a:lnTo>
                    <a:pt x="661" y="354"/>
                  </a:lnTo>
                  <a:lnTo>
                    <a:pt x="667" y="344"/>
                  </a:lnTo>
                  <a:lnTo>
                    <a:pt x="671" y="333"/>
                  </a:lnTo>
                  <a:lnTo>
                    <a:pt x="676" y="324"/>
                  </a:lnTo>
                  <a:lnTo>
                    <a:pt x="682" y="312"/>
                  </a:lnTo>
                  <a:lnTo>
                    <a:pt x="686" y="301"/>
                  </a:lnTo>
                  <a:lnTo>
                    <a:pt x="692" y="289"/>
                  </a:lnTo>
                  <a:lnTo>
                    <a:pt x="697" y="280"/>
                  </a:lnTo>
                  <a:lnTo>
                    <a:pt x="701" y="267"/>
                  </a:lnTo>
                  <a:lnTo>
                    <a:pt x="705" y="257"/>
                  </a:lnTo>
                  <a:lnTo>
                    <a:pt x="709" y="244"/>
                  </a:lnTo>
                  <a:lnTo>
                    <a:pt x="713" y="234"/>
                  </a:lnTo>
                  <a:lnTo>
                    <a:pt x="714" y="223"/>
                  </a:lnTo>
                  <a:lnTo>
                    <a:pt x="716" y="211"/>
                  </a:lnTo>
                  <a:lnTo>
                    <a:pt x="718" y="202"/>
                  </a:lnTo>
                  <a:lnTo>
                    <a:pt x="718" y="192"/>
                  </a:lnTo>
                  <a:lnTo>
                    <a:pt x="716" y="181"/>
                  </a:lnTo>
                  <a:lnTo>
                    <a:pt x="716" y="170"/>
                  </a:lnTo>
                  <a:lnTo>
                    <a:pt x="713" y="160"/>
                  </a:lnTo>
                  <a:lnTo>
                    <a:pt x="709" y="152"/>
                  </a:lnTo>
                  <a:lnTo>
                    <a:pt x="705" y="141"/>
                  </a:lnTo>
                  <a:lnTo>
                    <a:pt x="699" y="133"/>
                  </a:lnTo>
                  <a:lnTo>
                    <a:pt x="694" y="124"/>
                  </a:lnTo>
                  <a:lnTo>
                    <a:pt x="690" y="118"/>
                  </a:lnTo>
                  <a:lnTo>
                    <a:pt x="682" y="109"/>
                  </a:lnTo>
                  <a:lnTo>
                    <a:pt x="675" y="101"/>
                  </a:lnTo>
                  <a:lnTo>
                    <a:pt x="667" y="94"/>
                  </a:lnTo>
                  <a:lnTo>
                    <a:pt x="661" y="88"/>
                  </a:lnTo>
                  <a:lnTo>
                    <a:pt x="652" y="80"/>
                  </a:lnTo>
                  <a:lnTo>
                    <a:pt x="644" y="75"/>
                  </a:lnTo>
                  <a:lnTo>
                    <a:pt x="635" y="69"/>
                  </a:lnTo>
                  <a:lnTo>
                    <a:pt x="627" y="63"/>
                  </a:lnTo>
                  <a:lnTo>
                    <a:pt x="616" y="57"/>
                  </a:lnTo>
                  <a:lnTo>
                    <a:pt x="606" y="54"/>
                  </a:lnTo>
                  <a:lnTo>
                    <a:pt x="597" y="48"/>
                  </a:lnTo>
                  <a:lnTo>
                    <a:pt x="589" y="44"/>
                  </a:lnTo>
                  <a:lnTo>
                    <a:pt x="578" y="40"/>
                  </a:lnTo>
                  <a:lnTo>
                    <a:pt x="570" y="37"/>
                  </a:lnTo>
                  <a:lnTo>
                    <a:pt x="561" y="33"/>
                  </a:lnTo>
                  <a:lnTo>
                    <a:pt x="553" y="31"/>
                  </a:lnTo>
                  <a:lnTo>
                    <a:pt x="543" y="27"/>
                  </a:lnTo>
                  <a:lnTo>
                    <a:pt x="536" y="23"/>
                  </a:lnTo>
                  <a:lnTo>
                    <a:pt x="526" y="21"/>
                  </a:lnTo>
                  <a:lnTo>
                    <a:pt x="519" y="18"/>
                  </a:lnTo>
                  <a:lnTo>
                    <a:pt x="511" y="16"/>
                  </a:lnTo>
                  <a:lnTo>
                    <a:pt x="503" y="16"/>
                  </a:lnTo>
                  <a:lnTo>
                    <a:pt x="498" y="12"/>
                  </a:lnTo>
                  <a:lnTo>
                    <a:pt x="494" y="12"/>
                  </a:lnTo>
                  <a:lnTo>
                    <a:pt x="481" y="8"/>
                  </a:lnTo>
                  <a:lnTo>
                    <a:pt x="471" y="8"/>
                  </a:lnTo>
                  <a:lnTo>
                    <a:pt x="462" y="8"/>
                  </a:lnTo>
                  <a:lnTo>
                    <a:pt x="452" y="10"/>
                  </a:lnTo>
                  <a:lnTo>
                    <a:pt x="443" y="12"/>
                  </a:lnTo>
                  <a:lnTo>
                    <a:pt x="433" y="16"/>
                  </a:lnTo>
                  <a:lnTo>
                    <a:pt x="422" y="18"/>
                  </a:lnTo>
                  <a:lnTo>
                    <a:pt x="410" y="23"/>
                  </a:lnTo>
                  <a:lnTo>
                    <a:pt x="401" y="25"/>
                  </a:lnTo>
                  <a:lnTo>
                    <a:pt x="393" y="27"/>
                  </a:lnTo>
                  <a:lnTo>
                    <a:pt x="384" y="29"/>
                  </a:lnTo>
                  <a:lnTo>
                    <a:pt x="376" y="31"/>
                  </a:lnTo>
                  <a:lnTo>
                    <a:pt x="367" y="35"/>
                  </a:lnTo>
                  <a:lnTo>
                    <a:pt x="359" y="37"/>
                  </a:lnTo>
                  <a:lnTo>
                    <a:pt x="349" y="38"/>
                  </a:lnTo>
                  <a:lnTo>
                    <a:pt x="342" y="42"/>
                  </a:lnTo>
                  <a:lnTo>
                    <a:pt x="334" y="44"/>
                  </a:lnTo>
                  <a:lnTo>
                    <a:pt x="327" y="46"/>
                  </a:lnTo>
                  <a:lnTo>
                    <a:pt x="319" y="48"/>
                  </a:lnTo>
                  <a:lnTo>
                    <a:pt x="315" y="50"/>
                  </a:lnTo>
                  <a:lnTo>
                    <a:pt x="308" y="52"/>
                  </a:lnTo>
                  <a:lnTo>
                    <a:pt x="304" y="54"/>
                  </a:lnTo>
                  <a:lnTo>
                    <a:pt x="304" y="54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H="1" flipV="1" rot="20995800">
              <a:off x="6608520" y="3707280"/>
              <a:ext cx="439920" cy="368640"/>
            </a:xfrm>
            <a:custGeom>
              <a:avLst/>
              <a:gdLst/>
              <a:ahLst/>
              <a:rect l="l" t="t" r="r" b="b"/>
              <a:pathLst>
                <a:path w="669" h="639">
                  <a:moveTo>
                    <a:pt x="36" y="333"/>
                  </a:moveTo>
                  <a:lnTo>
                    <a:pt x="26" y="327"/>
                  </a:lnTo>
                  <a:lnTo>
                    <a:pt x="19" y="323"/>
                  </a:lnTo>
                  <a:lnTo>
                    <a:pt x="13" y="317"/>
                  </a:lnTo>
                  <a:lnTo>
                    <a:pt x="9" y="314"/>
                  </a:lnTo>
                  <a:lnTo>
                    <a:pt x="5" y="306"/>
                  </a:lnTo>
                  <a:lnTo>
                    <a:pt x="4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2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4" y="165"/>
                  </a:lnTo>
                  <a:lnTo>
                    <a:pt x="7" y="154"/>
                  </a:lnTo>
                  <a:lnTo>
                    <a:pt x="7" y="146"/>
                  </a:lnTo>
                  <a:lnTo>
                    <a:pt x="9" y="139"/>
                  </a:lnTo>
                  <a:lnTo>
                    <a:pt x="11" y="133"/>
                  </a:lnTo>
                  <a:lnTo>
                    <a:pt x="15" y="127"/>
                  </a:lnTo>
                  <a:lnTo>
                    <a:pt x="21" y="116"/>
                  </a:lnTo>
                  <a:lnTo>
                    <a:pt x="28" y="105"/>
                  </a:lnTo>
                  <a:lnTo>
                    <a:pt x="36" y="93"/>
                  </a:lnTo>
                  <a:lnTo>
                    <a:pt x="42" y="82"/>
                  </a:lnTo>
                  <a:lnTo>
                    <a:pt x="51" y="70"/>
                  </a:lnTo>
                  <a:lnTo>
                    <a:pt x="61" y="61"/>
                  </a:lnTo>
                  <a:lnTo>
                    <a:pt x="70" y="51"/>
                  </a:lnTo>
                  <a:lnTo>
                    <a:pt x="82" y="44"/>
                  </a:lnTo>
                  <a:lnTo>
                    <a:pt x="93" y="36"/>
                  </a:lnTo>
                  <a:lnTo>
                    <a:pt x="102" y="29"/>
                  </a:lnTo>
                  <a:lnTo>
                    <a:pt x="114" y="23"/>
                  </a:lnTo>
                  <a:lnTo>
                    <a:pt x="125" y="17"/>
                  </a:lnTo>
                  <a:lnTo>
                    <a:pt x="135" y="13"/>
                  </a:lnTo>
                  <a:lnTo>
                    <a:pt x="148" y="10"/>
                  </a:lnTo>
                  <a:lnTo>
                    <a:pt x="158" y="6"/>
                  </a:lnTo>
                  <a:lnTo>
                    <a:pt x="171" y="4"/>
                  </a:lnTo>
                  <a:lnTo>
                    <a:pt x="182" y="2"/>
                  </a:lnTo>
                  <a:lnTo>
                    <a:pt x="194" y="2"/>
                  </a:lnTo>
                  <a:lnTo>
                    <a:pt x="205" y="0"/>
                  </a:lnTo>
                  <a:lnTo>
                    <a:pt x="215" y="2"/>
                  </a:lnTo>
                  <a:lnTo>
                    <a:pt x="226" y="2"/>
                  </a:lnTo>
                  <a:lnTo>
                    <a:pt x="237" y="6"/>
                  </a:lnTo>
                  <a:lnTo>
                    <a:pt x="247" y="8"/>
                  </a:lnTo>
                  <a:lnTo>
                    <a:pt x="258" y="13"/>
                  </a:lnTo>
                  <a:lnTo>
                    <a:pt x="270" y="15"/>
                  </a:lnTo>
                  <a:lnTo>
                    <a:pt x="279" y="23"/>
                  </a:lnTo>
                  <a:lnTo>
                    <a:pt x="289" y="29"/>
                  </a:lnTo>
                  <a:lnTo>
                    <a:pt x="296" y="36"/>
                  </a:lnTo>
                  <a:lnTo>
                    <a:pt x="306" y="42"/>
                  </a:lnTo>
                  <a:lnTo>
                    <a:pt x="313" y="51"/>
                  </a:lnTo>
                  <a:lnTo>
                    <a:pt x="321" y="59"/>
                  </a:lnTo>
                  <a:lnTo>
                    <a:pt x="329" y="68"/>
                  </a:lnTo>
                  <a:lnTo>
                    <a:pt x="336" y="74"/>
                  </a:lnTo>
                  <a:lnTo>
                    <a:pt x="344" y="84"/>
                  </a:lnTo>
                  <a:lnTo>
                    <a:pt x="352" y="91"/>
                  </a:lnTo>
                  <a:lnTo>
                    <a:pt x="357" y="99"/>
                  </a:lnTo>
                  <a:lnTo>
                    <a:pt x="365" y="106"/>
                  </a:lnTo>
                  <a:lnTo>
                    <a:pt x="372" y="112"/>
                  </a:lnTo>
                  <a:lnTo>
                    <a:pt x="380" y="118"/>
                  </a:lnTo>
                  <a:lnTo>
                    <a:pt x="386" y="122"/>
                  </a:lnTo>
                  <a:lnTo>
                    <a:pt x="393" y="125"/>
                  </a:lnTo>
                  <a:lnTo>
                    <a:pt x="403" y="129"/>
                  </a:lnTo>
                  <a:lnTo>
                    <a:pt x="409" y="129"/>
                  </a:lnTo>
                  <a:lnTo>
                    <a:pt x="416" y="131"/>
                  </a:lnTo>
                  <a:lnTo>
                    <a:pt x="424" y="129"/>
                  </a:lnTo>
                  <a:lnTo>
                    <a:pt x="431" y="129"/>
                  </a:lnTo>
                  <a:lnTo>
                    <a:pt x="439" y="125"/>
                  </a:lnTo>
                  <a:lnTo>
                    <a:pt x="447" y="122"/>
                  </a:lnTo>
                  <a:lnTo>
                    <a:pt x="454" y="120"/>
                  </a:lnTo>
                  <a:lnTo>
                    <a:pt x="464" y="116"/>
                  </a:lnTo>
                  <a:lnTo>
                    <a:pt x="469" y="112"/>
                  </a:lnTo>
                  <a:lnTo>
                    <a:pt x="479" y="106"/>
                  </a:lnTo>
                  <a:lnTo>
                    <a:pt x="486" y="103"/>
                  </a:lnTo>
                  <a:lnTo>
                    <a:pt x="494" y="99"/>
                  </a:lnTo>
                  <a:lnTo>
                    <a:pt x="500" y="95"/>
                  </a:lnTo>
                  <a:lnTo>
                    <a:pt x="507" y="91"/>
                  </a:lnTo>
                  <a:lnTo>
                    <a:pt x="515" y="87"/>
                  </a:lnTo>
                  <a:lnTo>
                    <a:pt x="521" y="87"/>
                  </a:lnTo>
                  <a:lnTo>
                    <a:pt x="534" y="86"/>
                  </a:lnTo>
                  <a:lnTo>
                    <a:pt x="545" y="87"/>
                  </a:lnTo>
                  <a:lnTo>
                    <a:pt x="557" y="91"/>
                  </a:lnTo>
                  <a:lnTo>
                    <a:pt x="566" y="99"/>
                  </a:lnTo>
                  <a:lnTo>
                    <a:pt x="572" y="103"/>
                  </a:lnTo>
                  <a:lnTo>
                    <a:pt x="576" y="110"/>
                  </a:lnTo>
                  <a:lnTo>
                    <a:pt x="582" y="118"/>
                  </a:lnTo>
                  <a:lnTo>
                    <a:pt x="587" y="125"/>
                  </a:lnTo>
                  <a:lnTo>
                    <a:pt x="591" y="135"/>
                  </a:lnTo>
                  <a:lnTo>
                    <a:pt x="599" y="144"/>
                  </a:lnTo>
                  <a:lnTo>
                    <a:pt x="601" y="150"/>
                  </a:lnTo>
                  <a:lnTo>
                    <a:pt x="602" y="156"/>
                  </a:lnTo>
                  <a:lnTo>
                    <a:pt x="606" y="164"/>
                  </a:lnTo>
                  <a:lnTo>
                    <a:pt x="610" y="171"/>
                  </a:lnTo>
                  <a:lnTo>
                    <a:pt x="616" y="181"/>
                  </a:lnTo>
                  <a:lnTo>
                    <a:pt x="621" y="194"/>
                  </a:lnTo>
                  <a:lnTo>
                    <a:pt x="623" y="202"/>
                  </a:lnTo>
                  <a:lnTo>
                    <a:pt x="627" y="209"/>
                  </a:lnTo>
                  <a:lnTo>
                    <a:pt x="631" y="217"/>
                  </a:lnTo>
                  <a:lnTo>
                    <a:pt x="635" y="222"/>
                  </a:lnTo>
                  <a:lnTo>
                    <a:pt x="637" y="230"/>
                  </a:lnTo>
                  <a:lnTo>
                    <a:pt x="640" y="238"/>
                  </a:lnTo>
                  <a:lnTo>
                    <a:pt x="642" y="245"/>
                  </a:lnTo>
                  <a:lnTo>
                    <a:pt x="646" y="251"/>
                  </a:lnTo>
                  <a:lnTo>
                    <a:pt x="648" y="259"/>
                  </a:lnTo>
                  <a:lnTo>
                    <a:pt x="650" y="268"/>
                  </a:lnTo>
                  <a:lnTo>
                    <a:pt x="654" y="276"/>
                  </a:lnTo>
                  <a:lnTo>
                    <a:pt x="656" y="283"/>
                  </a:lnTo>
                  <a:lnTo>
                    <a:pt x="658" y="291"/>
                  </a:lnTo>
                  <a:lnTo>
                    <a:pt x="659" y="298"/>
                  </a:lnTo>
                  <a:lnTo>
                    <a:pt x="661" y="306"/>
                  </a:lnTo>
                  <a:lnTo>
                    <a:pt x="663" y="314"/>
                  </a:lnTo>
                  <a:lnTo>
                    <a:pt x="663" y="321"/>
                  </a:lnTo>
                  <a:lnTo>
                    <a:pt x="665" y="329"/>
                  </a:lnTo>
                  <a:lnTo>
                    <a:pt x="665" y="335"/>
                  </a:lnTo>
                  <a:lnTo>
                    <a:pt x="669" y="344"/>
                  </a:lnTo>
                  <a:lnTo>
                    <a:pt x="669" y="352"/>
                  </a:lnTo>
                  <a:lnTo>
                    <a:pt x="669" y="357"/>
                  </a:lnTo>
                  <a:lnTo>
                    <a:pt x="669" y="365"/>
                  </a:lnTo>
                  <a:lnTo>
                    <a:pt x="669" y="373"/>
                  </a:lnTo>
                  <a:lnTo>
                    <a:pt x="669" y="378"/>
                  </a:lnTo>
                  <a:lnTo>
                    <a:pt x="669" y="386"/>
                  </a:lnTo>
                  <a:lnTo>
                    <a:pt x="667" y="392"/>
                  </a:lnTo>
                  <a:lnTo>
                    <a:pt x="667" y="399"/>
                  </a:lnTo>
                  <a:lnTo>
                    <a:pt x="665" y="403"/>
                  </a:lnTo>
                  <a:lnTo>
                    <a:pt x="663" y="411"/>
                  </a:lnTo>
                  <a:lnTo>
                    <a:pt x="661" y="416"/>
                  </a:lnTo>
                  <a:lnTo>
                    <a:pt x="661" y="424"/>
                  </a:lnTo>
                  <a:lnTo>
                    <a:pt x="659" y="430"/>
                  </a:lnTo>
                  <a:lnTo>
                    <a:pt x="659" y="437"/>
                  </a:lnTo>
                  <a:lnTo>
                    <a:pt x="658" y="445"/>
                  </a:lnTo>
                  <a:lnTo>
                    <a:pt x="658" y="452"/>
                  </a:lnTo>
                  <a:lnTo>
                    <a:pt x="656" y="460"/>
                  </a:lnTo>
                  <a:lnTo>
                    <a:pt x="656" y="468"/>
                  </a:lnTo>
                  <a:lnTo>
                    <a:pt x="654" y="473"/>
                  </a:lnTo>
                  <a:lnTo>
                    <a:pt x="654" y="483"/>
                  </a:lnTo>
                  <a:lnTo>
                    <a:pt x="652" y="490"/>
                  </a:lnTo>
                  <a:lnTo>
                    <a:pt x="650" y="496"/>
                  </a:lnTo>
                  <a:lnTo>
                    <a:pt x="650" y="506"/>
                  </a:lnTo>
                  <a:lnTo>
                    <a:pt x="648" y="513"/>
                  </a:lnTo>
                  <a:lnTo>
                    <a:pt x="646" y="521"/>
                  </a:lnTo>
                  <a:lnTo>
                    <a:pt x="642" y="528"/>
                  </a:lnTo>
                  <a:lnTo>
                    <a:pt x="640" y="536"/>
                  </a:lnTo>
                  <a:lnTo>
                    <a:pt x="639" y="542"/>
                  </a:lnTo>
                  <a:lnTo>
                    <a:pt x="635" y="549"/>
                  </a:lnTo>
                  <a:lnTo>
                    <a:pt x="631" y="555"/>
                  </a:lnTo>
                  <a:lnTo>
                    <a:pt x="627" y="563"/>
                  </a:lnTo>
                  <a:lnTo>
                    <a:pt x="623" y="570"/>
                  </a:lnTo>
                  <a:lnTo>
                    <a:pt x="614" y="580"/>
                  </a:lnTo>
                  <a:lnTo>
                    <a:pt x="604" y="593"/>
                  </a:lnTo>
                  <a:lnTo>
                    <a:pt x="597" y="597"/>
                  </a:lnTo>
                  <a:lnTo>
                    <a:pt x="591" y="603"/>
                  </a:lnTo>
                  <a:lnTo>
                    <a:pt x="583" y="606"/>
                  </a:lnTo>
                  <a:lnTo>
                    <a:pt x="576" y="612"/>
                  </a:lnTo>
                  <a:lnTo>
                    <a:pt x="566" y="614"/>
                  </a:lnTo>
                  <a:lnTo>
                    <a:pt x="557" y="616"/>
                  </a:lnTo>
                  <a:lnTo>
                    <a:pt x="547" y="620"/>
                  </a:lnTo>
                  <a:lnTo>
                    <a:pt x="540" y="622"/>
                  </a:lnTo>
                  <a:lnTo>
                    <a:pt x="528" y="625"/>
                  </a:lnTo>
                  <a:lnTo>
                    <a:pt x="519" y="627"/>
                  </a:lnTo>
                  <a:lnTo>
                    <a:pt x="509" y="629"/>
                  </a:lnTo>
                  <a:lnTo>
                    <a:pt x="500" y="633"/>
                  </a:lnTo>
                  <a:lnTo>
                    <a:pt x="488" y="633"/>
                  </a:lnTo>
                  <a:lnTo>
                    <a:pt x="479" y="635"/>
                  </a:lnTo>
                  <a:lnTo>
                    <a:pt x="467" y="635"/>
                  </a:lnTo>
                  <a:lnTo>
                    <a:pt x="458" y="637"/>
                  </a:lnTo>
                  <a:lnTo>
                    <a:pt x="447" y="637"/>
                  </a:lnTo>
                  <a:lnTo>
                    <a:pt x="437" y="639"/>
                  </a:lnTo>
                  <a:lnTo>
                    <a:pt x="428" y="639"/>
                  </a:lnTo>
                  <a:lnTo>
                    <a:pt x="418" y="639"/>
                  </a:lnTo>
                  <a:lnTo>
                    <a:pt x="407" y="639"/>
                  </a:lnTo>
                  <a:lnTo>
                    <a:pt x="397" y="639"/>
                  </a:lnTo>
                  <a:lnTo>
                    <a:pt x="388" y="637"/>
                  </a:lnTo>
                  <a:lnTo>
                    <a:pt x="380" y="637"/>
                  </a:lnTo>
                  <a:lnTo>
                    <a:pt x="371" y="635"/>
                  </a:lnTo>
                  <a:lnTo>
                    <a:pt x="361" y="635"/>
                  </a:lnTo>
                  <a:lnTo>
                    <a:pt x="353" y="633"/>
                  </a:lnTo>
                  <a:lnTo>
                    <a:pt x="346" y="633"/>
                  </a:lnTo>
                  <a:lnTo>
                    <a:pt x="338" y="629"/>
                  </a:lnTo>
                  <a:lnTo>
                    <a:pt x="331" y="627"/>
                  </a:lnTo>
                  <a:lnTo>
                    <a:pt x="325" y="625"/>
                  </a:lnTo>
                  <a:lnTo>
                    <a:pt x="319" y="622"/>
                  </a:lnTo>
                  <a:lnTo>
                    <a:pt x="308" y="616"/>
                  </a:lnTo>
                  <a:lnTo>
                    <a:pt x="302" y="612"/>
                  </a:lnTo>
                  <a:lnTo>
                    <a:pt x="294" y="603"/>
                  </a:lnTo>
                  <a:lnTo>
                    <a:pt x="289" y="593"/>
                  </a:lnTo>
                  <a:lnTo>
                    <a:pt x="285" y="585"/>
                  </a:lnTo>
                  <a:lnTo>
                    <a:pt x="283" y="580"/>
                  </a:lnTo>
                  <a:lnTo>
                    <a:pt x="279" y="572"/>
                  </a:lnTo>
                  <a:lnTo>
                    <a:pt x="277" y="566"/>
                  </a:lnTo>
                  <a:lnTo>
                    <a:pt x="274" y="559"/>
                  </a:lnTo>
                  <a:lnTo>
                    <a:pt x="274" y="549"/>
                  </a:lnTo>
                  <a:lnTo>
                    <a:pt x="270" y="542"/>
                  </a:lnTo>
                  <a:lnTo>
                    <a:pt x="270" y="532"/>
                  </a:lnTo>
                  <a:lnTo>
                    <a:pt x="268" y="523"/>
                  </a:lnTo>
                  <a:lnTo>
                    <a:pt x="266" y="515"/>
                  </a:lnTo>
                  <a:lnTo>
                    <a:pt x="264" y="506"/>
                  </a:lnTo>
                  <a:lnTo>
                    <a:pt x="262" y="496"/>
                  </a:lnTo>
                  <a:lnTo>
                    <a:pt x="258" y="487"/>
                  </a:lnTo>
                  <a:lnTo>
                    <a:pt x="258" y="477"/>
                  </a:lnTo>
                  <a:lnTo>
                    <a:pt x="255" y="468"/>
                  </a:lnTo>
                  <a:lnTo>
                    <a:pt x="253" y="458"/>
                  </a:lnTo>
                  <a:lnTo>
                    <a:pt x="251" y="449"/>
                  </a:lnTo>
                  <a:lnTo>
                    <a:pt x="247" y="441"/>
                  </a:lnTo>
                  <a:lnTo>
                    <a:pt x="245" y="432"/>
                  </a:lnTo>
                  <a:lnTo>
                    <a:pt x="245" y="426"/>
                  </a:lnTo>
                  <a:lnTo>
                    <a:pt x="241" y="416"/>
                  </a:lnTo>
                  <a:lnTo>
                    <a:pt x="237" y="409"/>
                  </a:lnTo>
                  <a:lnTo>
                    <a:pt x="236" y="401"/>
                  </a:lnTo>
                  <a:lnTo>
                    <a:pt x="232" y="395"/>
                  </a:lnTo>
                  <a:lnTo>
                    <a:pt x="228" y="388"/>
                  </a:lnTo>
                  <a:lnTo>
                    <a:pt x="226" y="382"/>
                  </a:lnTo>
                  <a:lnTo>
                    <a:pt x="222" y="376"/>
                  </a:lnTo>
                  <a:lnTo>
                    <a:pt x="218" y="374"/>
                  </a:lnTo>
                  <a:lnTo>
                    <a:pt x="209" y="365"/>
                  </a:lnTo>
                  <a:lnTo>
                    <a:pt x="199" y="357"/>
                  </a:lnTo>
                  <a:lnTo>
                    <a:pt x="190" y="352"/>
                  </a:lnTo>
                  <a:lnTo>
                    <a:pt x="178" y="348"/>
                  </a:lnTo>
                  <a:lnTo>
                    <a:pt x="165" y="344"/>
                  </a:lnTo>
                  <a:lnTo>
                    <a:pt x="154" y="344"/>
                  </a:lnTo>
                  <a:lnTo>
                    <a:pt x="142" y="342"/>
                  </a:lnTo>
                  <a:lnTo>
                    <a:pt x="129" y="342"/>
                  </a:lnTo>
                  <a:lnTo>
                    <a:pt x="121" y="342"/>
                  </a:lnTo>
                  <a:lnTo>
                    <a:pt x="116" y="342"/>
                  </a:lnTo>
                  <a:lnTo>
                    <a:pt x="110" y="342"/>
                  </a:lnTo>
                  <a:lnTo>
                    <a:pt x="102" y="342"/>
                  </a:lnTo>
                  <a:lnTo>
                    <a:pt x="91" y="340"/>
                  </a:lnTo>
                  <a:lnTo>
                    <a:pt x="78" y="340"/>
                  </a:lnTo>
                  <a:lnTo>
                    <a:pt x="66" y="338"/>
                  </a:lnTo>
                  <a:lnTo>
                    <a:pt x="55" y="336"/>
                  </a:lnTo>
                  <a:lnTo>
                    <a:pt x="45" y="335"/>
                  </a:lnTo>
                  <a:lnTo>
                    <a:pt x="36" y="333"/>
                  </a:lnTo>
                  <a:lnTo>
                    <a:pt x="36" y="333"/>
                  </a:lnTo>
                  <a:close/>
                </a:path>
              </a:pathLst>
            </a:custGeom>
            <a:solidFill>
              <a:srgbClr val="ff4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 flipV="1" rot="20995800">
              <a:off x="6188040" y="3750120"/>
              <a:ext cx="384840" cy="408600"/>
            </a:xfrm>
            <a:custGeom>
              <a:avLst/>
              <a:gdLst/>
              <a:ahLst/>
              <a:rect l="l" t="t" r="r" b="b"/>
              <a:pathLst>
                <a:path w="585" h="709">
                  <a:moveTo>
                    <a:pt x="496" y="44"/>
                  </a:moveTo>
                  <a:lnTo>
                    <a:pt x="492" y="40"/>
                  </a:lnTo>
                  <a:lnTo>
                    <a:pt x="483" y="37"/>
                  </a:lnTo>
                  <a:lnTo>
                    <a:pt x="473" y="33"/>
                  </a:lnTo>
                  <a:lnTo>
                    <a:pt x="466" y="29"/>
                  </a:lnTo>
                  <a:lnTo>
                    <a:pt x="456" y="25"/>
                  </a:lnTo>
                  <a:lnTo>
                    <a:pt x="449" y="21"/>
                  </a:lnTo>
                  <a:lnTo>
                    <a:pt x="437" y="18"/>
                  </a:lnTo>
                  <a:lnTo>
                    <a:pt x="426" y="14"/>
                  </a:lnTo>
                  <a:lnTo>
                    <a:pt x="412" y="10"/>
                  </a:lnTo>
                  <a:lnTo>
                    <a:pt x="401" y="8"/>
                  </a:lnTo>
                  <a:lnTo>
                    <a:pt x="393" y="4"/>
                  </a:lnTo>
                  <a:lnTo>
                    <a:pt x="386" y="4"/>
                  </a:lnTo>
                  <a:lnTo>
                    <a:pt x="380" y="2"/>
                  </a:lnTo>
                  <a:lnTo>
                    <a:pt x="372" y="2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31" y="0"/>
                  </a:lnTo>
                  <a:lnTo>
                    <a:pt x="325" y="0"/>
                  </a:lnTo>
                  <a:lnTo>
                    <a:pt x="317" y="4"/>
                  </a:lnTo>
                  <a:lnTo>
                    <a:pt x="310" y="4"/>
                  </a:lnTo>
                  <a:lnTo>
                    <a:pt x="302" y="6"/>
                  </a:lnTo>
                  <a:lnTo>
                    <a:pt x="296" y="8"/>
                  </a:lnTo>
                  <a:lnTo>
                    <a:pt x="289" y="10"/>
                  </a:lnTo>
                  <a:lnTo>
                    <a:pt x="283" y="12"/>
                  </a:lnTo>
                  <a:lnTo>
                    <a:pt x="276" y="14"/>
                  </a:lnTo>
                  <a:lnTo>
                    <a:pt x="268" y="14"/>
                  </a:lnTo>
                  <a:lnTo>
                    <a:pt x="262" y="18"/>
                  </a:lnTo>
                  <a:lnTo>
                    <a:pt x="255" y="18"/>
                  </a:lnTo>
                  <a:lnTo>
                    <a:pt x="247" y="21"/>
                  </a:lnTo>
                  <a:lnTo>
                    <a:pt x="241" y="23"/>
                  </a:lnTo>
                  <a:lnTo>
                    <a:pt x="236" y="27"/>
                  </a:lnTo>
                  <a:lnTo>
                    <a:pt x="228" y="27"/>
                  </a:lnTo>
                  <a:lnTo>
                    <a:pt x="220" y="31"/>
                  </a:lnTo>
                  <a:lnTo>
                    <a:pt x="213" y="33"/>
                  </a:lnTo>
                  <a:lnTo>
                    <a:pt x="207" y="37"/>
                  </a:lnTo>
                  <a:lnTo>
                    <a:pt x="199" y="37"/>
                  </a:lnTo>
                  <a:lnTo>
                    <a:pt x="194" y="40"/>
                  </a:lnTo>
                  <a:lnTo>
                    <a:pt x="186" y="42"/>
                  </a:lnTo>
                  <a:lnTo>
                    <a:pt x="180" y="46"/>
                  </a:lnTo>
                  <a:lnTo>
                    <a:pt x="167" y="50"/>
                  </a:lnTo>
                  <a:lnTo>
                    <a:pt x="156" y="54"/>
                  </a:lnTo>
                  <a:lnTo>
                    <a:pt x="142" y="56"/>
                  </a:lnTo>
                  <a:lnTo>
                    <a:pt x="131" y="59"/>
                  </a:lnTo>
                  <a:lnTo>
                    <a:pt x="120" y="59"/>
                  </a:lnTo>
                  <a:lnTo>
                    <a:pt x="108" y="63"/>
                  </a:lnTo>
                  <a:lnTo>
                    <a:pt x="97" y="67"/>
                  </a:lnTo>
                  <a:lnTo>
                    <a:pt x="87" y="73"/>
                  </a:lnTo>
                  <a:lnTo>
                    <a:pt x="78" y="78"/>
                  </a:lnTo>
                  <a:lnTo>
                    <a:pt x="70" y="86"/>
                  </a:lnTo>
                  <a:lnTo>
                    <a:pt x="61" y="94"/>
                  </a:lnTo>
                  <a:lnTo>
                    <a:pt x="55" y="101"/>
                  </a:lnTo>
                  <a:lnTo>
                    <a:pt x="45" y="109"/>
                  </a:lnTo>
                  <a:lnTo>
                    <a:pt x="38" y="118"/>
                  </a:lnTo>
                  <a:lnTo>
                    <a:pt x="32" y="128"/>
                  </a:lnTo>
                  <a:lnTo>
                    <a:pt x="28" y="139"/>
                  </a:lnTo>
                  <a:lnTo>
                    <a:pt x="23" y="149"/>
                  </a:lnTo>
                  <a:lnTo>
                    <a:pt x="17" y="160"/>
                  </a:lnTo>
                  <a:lnTo>
                    <a:pt x="13" y="170"/>
                  </a:lnTo>
                  <a:lnTo>
                    <a:pt x="9" y="181"/>
                  </a:lnTo>
                  <a:lnTo>
                    <a:pt x="7" y="191"/>
                  </a:lnTo>
                  <a:lnTo>
                    <a:pt x="6" y="200"/>
                  </a:lnTo>
                  <a:lnTo>
                    <a:pt x="4" y="210"/>
                  </a:lnTo>
                  <a:lnTo>
                    <a:pt x="2" y="221"/>
                  </a:lnTo>
                  <a:lnTo>
                    <a:pt x="0" y="230"/>
                  </a:lnTo>
                  <a:lnTo>
                    <a:pt x="0" y="240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80"/>
                  </a:lnTo>
                  <a:lnTo>
                    <a:pt x="2" y="289"/>
                  </a:lnTo>
                  <a:lnTo>
                    <a:pt x="4" y="299"/>
                  </a:lnTo>
                  <a:lnTo>
                    <a:pt x="4" y="308"/>
                  </a:lnTo>
                  <a:lnTo>
                    <a:pt x="4" y="318"/>
                  </a:lnTo>
                  <a:lnTo>
                    <a:pt x="6" y="329"/>
                  </a:lnTo>
                  <a:lnTo>
                    <a:pt x="7" y="341"/>
                  </a:lnTo>
                  <a:lnTo>
                    <a:pt x="7" y="350"/>
                  </a:lnTo>
                  <a:lnTo>
                    <a:pt x="9" y="360"/>
                  </a:lnTo>
                  <a:lnTo>
                    <a:pt x="9" y="369"/>
                  </a:lnTo>
                  <a:lnTo>
                    <a:pt x="9" y="381"/>
                  </a:lnTo>
                  <a:lnTo>
                    <a:pt x="11" y="390"/>
                  </a:lnTo>
                  <a:lnTo>
                    <a:pt x="13" y="401"/>
                  </a:lnTo>
                  <a:lnTo>
                    <a:pt x="13" y="411"/>
                  </a:lnTo>
                  <a:lnTo>
                    <a:pt x="17" y="421"/>
                  </a:lnTo>
                  <a:lnTo>
                    <a:pt x="19" y="428"/>
                  </a:lnTo>
                  <a:lnTo>
                    <a:pt x="21" y="438"/>
                  </a:lnTo>
                  <a:lnTo>
                    <a:pt x="25" y="443"/>
                  </a:lnTo>
                  <a:lnTo>
                    <a:pt x="28" y="453"/>
                  </a:lnTo>
                  <a:lnTo>
                    <a:pt x="32" y="459"/>
                  </a:lnTo>
                  <a:lnTo>
                    <a:pt x="38" y="464"/>
                  </a:lnTo>
                  <a:lnTo>
                    <a:pt x="44" y="470"/>
                  </a:lnTo>
                  <a:lnTo>
                    <a:pt x="51" y="474"/>
                  </a:lnTo>
                  <a:lnTo>
                    <a:pt x="57" y="476"/>
                  </a:lnTo>
                  <a:lnTo>
                    <a:pt x="64" y="478"/>
                  </a:lnTo>
                  <a:lnTo>
                    <a:pt x="72" y="478"/>
                  </a:lnTo>
                  <a:lnTo>
                    <a:pt x="82" y="479"/>
                  </a:lnTo>
                  <a:lnTo>
                    <a:pt x="91" y="478"/>
                  </a:lnTo>
                  <a:lnTo>
                    <a:pt x="101" y="478"/>
                  </a:lnTo>
                  <a:lnTo>
                    <a:pt x="110" y="476"/>
                  </a:lnTo>
                  <a:lnTo>
                    <a:pt x="122" y="476"/>
                  </a:lnTo>
                  <a:lnTo>
                    <a:pt x="129" y="476"/>
                  </a:lnTo>
                  <a:lnTo>
                    <a:pt x="139" y="476"/>
                  </a:lnTo>
                  <a:lnTo>
                    <a:pt x="148" y="476"/>
                  </a:lnTo>
                  <a:lnTo>
                    <a:pt x="158" y="476"/>
                  </a:lnTo>
                  <a:lnTo>
                    <a:pt x="163" y="478"/>
                  </a:lnTo>
                  <a:lnTo>
                    <a:pt x="171" y="481"/>
                  </a:lnTo>
                  <a:lnTo>
                    <a:pt x="177" y="483"/>
                  </a:lnTo>
                  <a:lnTo>
                    <a:pt x="184" y="489"/>
                  </a:lnTo>
                  <a:lnTo>
                    <a:pt x="186" y="495"/>
                  </a:lnTo>
                  <a:lnTo>
                    <a:pt x="190" y="502"/>
                  </a:lnTo>
                  <a:lnTo>
                    <a:pt x="192" y="510"/>
                  </a:lnTo>
                  <a:lnTo>
                    <a:pt x="194" y="519"/>
                  </a:lnTo>
                  <a:lnTo>
                    <a:pt x="194" y="529"/>
                  </a:lnTo>
                  <a:lnTo>
                    <a:pt x="196" y="540"/>
                  </a:lnTo>
                  <a:lnTo>
                    <a:pt x="196" y="550"/>
                  </a:lnTo>
                  <a:lnTo>
                    <a:pt x="198" y="563"/>
                  </a:lnTo>
                  <a:lnTo>
                    <a:pt x="198" y="573"/>
                  </a:lnTo>
                  <a:lnTo>
                    <a:pt x="199" y="586"/>
                  </a:lnTo>
                  <a:lnTo>
                    <a:pt x="199" y="595"/>
                  </a:lnTo>
                  <a:lnTo>
                    <a:pt x="203" y="609"/>
                  </a:lnTo>
                  <a:lnTo>
                    <a:pt x="203" y="618"/>
                  </a:lnTo>
                  <a:lnTo>
                    <a:pt x="207" y="630"/>
                  </a:lnTo>
                  <a:lnTo>
                    <a:pt x="211" y="641"/>
                  </a:lnTo>
                  <a:lnTo>
                    <a:pt x="218" y="650"/>
                  </a:lnTo>
                  <a:lnTo>
                    <a:pt x="222" y="660"/>
                  </a:lnTo>
                  <a:lnTo>
                    <a:pt x="230" y="668"/>
                  </a:lnTo>
                  <a:lnTo>
                    <a:pt x="237" y="675"/>
                  </a:lnTo>
                  <a:lnTo>
                    <a:pt x="247" y="683"/>
                  </a:lnTo>
                  <a:lnTo>
                    <a:pt x="255" y="689"/>
                  </a:lnTo>
                  <a:lnTo>
                    <a:pt x="266" y="694"/>
                  </a:lnTo>
                  <a:lnTo>
                    <a:pt x="277" y="698"/>
                  </a:lnTo>
                  <a:lnTo>
                    <a:pt x="289" y="702"/>
                  </a:lnTo>
                  <a:lnTo>
                    <a:pt x="300" y="704"/>
                  </a:lnTo>
                  <a:lnTo>
                    <a:pt x="312" y="708"/>
                  </a:lnTo>
                  <a:lnTo>
                    <a:pt x="325" y="708"/>
                  </a:lnTo>
                  <a:lnTo>
                    <a:pt x="338" y="709"/>
                  </a:lnTo>
                  <a:lnTo>
                    <a:pt x="348" y="708"/>
                  </a:lnTo>
                  <a:lnTo>
                    <a:pt x="361" y="708"/>
                  </a:lnTo>
                  <a:lnTo>
                    <a:pt x="371" y="704"/>
                  </a:lnTo>
                  <a:lnTo>
                    <a:pt x="382" y="702"/>
                  </a:lnTo>
                  <a:lnTo>
                    <a:pt x="391" y="698"/>
                  </a:lnTo>
                  <a:lnTo>
                    <a:pt x="401" y="694"/>
                  </a:lnTo>
                  <a:lnTo>
                    <a:pt x="409" y="689"/>
                  </a:lnTo>
                  <a:lnTo>
                    <a:pt x="418" y="683"/>
                  </a:lnTo>
                  <a:lnTo>
                    <a:pt x="428" y="675"/>
                  </a:lnTo>
                  <a:lnTo>
                    <a:pt x="435" y="670"/>
                  </a:lnTo>
                  <a:lnTo>
                    <a:pt x="443" y="660"/>
                  </a:lnTo>
                  <a:lnTo>
                    <a:pt x="450" y="652"/>
                  </a:lnTo>
                  <a:lnTo>
                    <a:pt x="456" y="641"/>
                  </a:lnTo>
                  <a:lnTo>
                    <a:pt x="464" y="631"/>
                  </a:lnTo>
                  <a:lnTo>
                    <a:pt x="469" y="620"/>
                  </a:lnTo>
                  <a:lnTo>
                    <a:pt x="477" y="611"/>
                  </a:lnTo>
                  <a:lnTo>
                    <a:pt x="483" y="597"/>
                  </a:lnTo>
                  <a:lnTo>
                    <a:pt x="488" y="586"/>
                  </a:lnTo>
                  <a:lnTo>
                    <a:pt x="494" y="574"/>
                  </a:lnTo>
                  <a:lnTo>
                    <a:pt x="502" y="563"/>
                  </a:lnTo>
                  <a:lnTo>
                    <a:pt x="504" y="555"/>
                  </a:lnTo>
                  <a:lnTo>
                    <a:pt x="507" y="550"/>
                  </a:lnTo>
                  <a:lnTo>
                    <a:pt x="509" y="542"/>
                  </a:lnTo>
                  <a:lnTo>
                    <a:pt x="513" y="536"/>
                  </a:lnTo>
                  <a:lnTo>
                    <a:pt x="515" y="529"/>
                  </a:lnTo>
                  <a:lnTo>
                    <a:pt x="519" y="521"/>
                  </a:lnTo>
                  <a:lnTo>
                    <a:pt x="521" y="514"/>
                  </a:lnTo>
                  <a:lnTo>
                    <a:pt x="525" y="508"/>
                  </a:lnTo>
                  <a:lnTo>
                    <a:pt x="528" y="500"/>
                  </a:lnTo>
                  <a:lnTo>
                    <a:pt x="530" y="493"/>
                  </a:lnTo>
                  <a:lnTo>
                    <a:pt x="532" y="485"/>
                  </a:lnTo>
                  <a:lnTo>
                    <a:pt x="536" y="479"/>
                  </a:lnTo>
                  <a:lnTo>
                    <a:pt x="538" y="472"/>
                  </a:lnTo>
                  <a:lnTo>
                    <a:pt x="542" y="464"/>
                  </a:lnTo>
                  <a:lnTo>
                    <a:pt x="544" y="457"/>
                  </a:lnTo>
                  <a:lnTo>
                    <a:pt x="547" y="449"/>
                  </a:lnTo>
                  <a:lnTo>
                    <a:pt x="549" y="441"/>
                  </a:lnTo>
                  <a:lnTo>
                    <a:pt x="553" y="434"/>
                  </a:lnTo>
                  <a:lnTo>
                    <a:pt x="553" y="426"/>
                  </a:lnTo>
                  <a:lnTo>
                    <a:pt x="557" y="419"/>
                  </a:lnTo>
                  <a:lnTo>
                    <a:pt x="559" y="411"/>
                  </a:lnTo>
                  <a:lnTo>
                    <a:pt x="563" y="403"/>
                  </a:lnTo>
                  <a:lnTo>
                    <a:pt x="563" y="396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68" y="373"/>
                  </a:lnTo>
                  <a:lnTo>
                    <a:pt x="570" y="365"/>
                  </a:lnTo>
                  <a:lnTo>
                    <a:pt x="572" y="358"/>
                  </a:lnTo>
                  <a:lnTo>
                    <a:pt x="574" y="350"/>
                  </a:lnTo>
                  <a:lnTo>
                    <a:pt x="576" y="343"/>
                  </a:lnTo>
                  <a:lnTo>
                    <a:pt x="578" y="335"/>
                  </a:lnTo>
                  <a:lnTo>
                    <a:pt x="580" y="327"/>
                  </a:lnTo>
                  <a:lnTo>
                    <a:pt x="580" y="320"/>
                  </a:lnTo>
                  <a:lnTo>
                    <a:pt x="582" y="312"/>
                  </a:lnTo>
                  <a:lnTo>
                    <a:pt x="582" y="303"/>
                  </a:lnTo>
                  <a:lnTo>
                    <a:pt x="582" y="295"/>
                  </a:lnTo>
                  <a:lnTo>
                    <a:pt x="582" y="287"/>
                  </a:lnTo>
                  <a:lnTo>
                    <a:pt x="584" y="280"/>
                  </a:lnTo>
                  <a:lnTo>
                    <a:pt x="584" y="272"/>
                  </a:lnTo>
                  <a:lnTo>
                    <a:pt x="585" y="267"/>
                  </a:lnTo>
                  <a:lnTo>
                    <a:pt x="585" y="259"/>
                  </a:lnTo>
                  <a:lnTo>
                    <a:pt x="585" y="251"/>
                  </a:lnTo>
                  <a:lnTo>
                    <a:pt x="585" y="244"/>
                  </a:lnTo>
                  <a:lnTo>
                    <a:pt x="585" y="236"/>
                  </a:lnTo>
                  <a:lnTo>
                    <a:pt x="585" y="230"/>
                  </a:lnTo>
                  <a:lnTo>
                    <a:pt x="585" y="223"/>
                  </a:lnTo>
                  <a:lnTo>
                    <a:pt x="585" y="215"/>
                  </a:lnTo>
                  <a:lnTo>
                    <a:pt x="585" y="210"/>
                  </a:lnTo>
                  <a:lnTo>
                    <a:pt x="584" y="202"/>
                  </a:lnTo>
                  <a:lnTo>
                    <a:pt x="582" y="194"/>
                  </a:lnTo>
                  <a:lnTo>
                    <a:pt x="582" y="189"/>
                  </a:lnTo>
                  <a:lnTo>
                    <a:pt x="580" y="183"/>
                  </a:lnTo>
                  <a:lnTo>
                    <a:pt x="578" y="170"/>
                  </a:lnTo>
                  <a:lnTo>
                    <a:pt x="576" y="156"/>
                  </a:lnTo>
                  <a:lnTo>
                    <a:pt x="572" y="145"/>
                  </a:lnTo>
                  <a:lnTo>
                    <a:pt x="568" y="133"/>
                  </a:lnTo>
                  <a:lnTo>
                    <a:pt x="566" y="124"/>
                  </a:lnTo>
                  <a:lnTo>
                    <a:pt x="563" y="116"/>
                  </a:lnTo>
                  <a:lnTo>
                    <a:pt x="557" y="105"/>
                  </a:lnTo>
                  <a:lnTo>
                    <a:pt x="551" y="97"/>
                  </a:lnTo>
                  <a:lnTo>
                    <a:pt x="545" y="88"/>
                  </a:lnTo>
                  <a:lnTo>
                    <a:pt x="540" y="82"/>
                  </a:lnTo>
                  <a:lnTo>
                    <a:pt x="534" y="76"/>
                  </a:lnTo>
                  <a:lnTo>
                    <a:pt x="530" y="69"/>
                  </a:lnTo>
                  <a:lnTo>
                    <a:pt x="525" y="63"/>
                  </a:lnTo>
                  <a:lnTo>
                    <a:pt x="519" y="59"/>
                  </a:lnTo>
                  <a:lnTo>
                    <a:pt x="507" y="52"/>
                  </a:lnTo>
                  <a:lnTo>
                    <a:pt x="502" y="46"/>
                  </a:lnTo>
                  <a:lnTo>
                    <a:pt x="496" y="44"/>
                  </a:lnTo>
                  <a:lnTo>
                    <a:pt x="496" y="44"/>
                  </a:lnTo>
                  <a:lnTo>
                    <a:pt x="496" y="4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H="1" flipV="1" rot="20995800">
              <a:off x="7495560" y="3899520"/>
              <a:ext cx="217800" cy="187920"/>
            </a:xfrm>
            <a:custGeom>
              <a:avLst/>
              <a:gdLst/>
              <a:ahLst/>
              <a:rect l="l" t="t" r="r" b="b"/>
              <a:pathLst>
                <a:path w="333" h="325">
                  <a:moveTo>
                    <a:pt x="0" y="40"/>
                  </a:moveTo>
                  <a:lnTo>
                    <a:pt x="2" y="38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9" y="23"/>
                  </a:lnTo>
                  <a:lnTo>
                    <a:pt x="34" y="19"/>
                  </a:lnTo>
                  <a:lnTo>
                    <a:pt x="44" y="15"/>
                  </a:lnTo>
                  <a:lnTo>
                    <a:pt x="50" y="12"/>
                  </a:lnTo>
                  <a:lnTo>
                    <a:pt x="61" y="10"/>
                  </a:lnTo>
                  <a:lnTo>
                    <a:pt x="71" y="6"/>
                  </a:lnTo>
                  <a:lnTo>
                    <a:pt x="82" y="6"/>
                  </a:lnTo>
                  <a:lnTo>
                    <a:pt x="91" y="2"/>
                  </a:lnTo>
                  <a:lnTo>
                    <a:pt x="105" y="2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3" y="6"/>
                  </a:lnTo>
                  <a:lnTo>
                    <a:pt x="185" y="10"/>
                  </a:lnTo>
                  <a:lnTo>
                    <a:pt x="198" y="12"/>
                  </a:lnTo>
                  <a:lnTo>
                    <a:pt x="207" y="15"/>
                  </a:lnTo>
                  <a:lnTo>
                    <a:pt x="219" y="19"/>
                  </a:lnTo>
                  <a:lnTo>
                    <a:pt x="230" y="23"/>
                  </a:lnTo>
                  <a:lnTo>
                    <a:pt x="240" y="29"/>
                  </a:lnTo>
                  <a:lnTo>
                    <a:pt x="249" y="32"/>
                  </a:lnTo>
                  <a:lnTo>
                    <a:pt x="259" y="38"/>
                  </a:lnTo>
                  <a:lnTo>
                    <a:pt x="268" y="44"/>
                  </a:lnTo>
                  <a:lnTo>
                    <a:pt x="278" y="51"/>
                  </a:lnTo>
                  <a:lnTo>
                    <a:pt x="285" y="57"/>
                  </a:lnTo>
                  <a:lnTo>
                    <a:pt x="291" y="65"/>
                  </a:lnTo>
                  <a:lnTo>
                    <a:pt x="299" y="70"/>
                  </a:lnTo>
                  <a:lnTo>
                    <a:pt x="304" y="80"/>
                  </a:lnTo>
                  <a:lnTo>
                    <a:pt x="308" y="86"/>
                  </a:lnTo>
                  <a:lnTo>
                    <a:pt x="312" y="93"/>
                  </a:lnTo>
                  <a:lnTo>
                    <a:pt x="316" y="103"/>
                  </a:lnTo>
                  <a:lnTo>
                    <a:pt x="320" y="110"/>
                  </a:lnTo>
                  <a:lnTo>
                    <a:pt x="321" y="118"/>
                  </a:lnTo>
                  <a:lnTo>
                    <a:pt x="323" y="126"/>
                  </a:lnTo>
                  <a:lnTo>
                    <a:pt x="325" y="135"/>
                  </a:lnTo>
                  <a:lnTo>
                    <a:pt x="327" y="143"/>
                  </a:lnTo>
                  <a:lnTo>
                    <a:pt x="329" y="150"/>
                  </a:lnTo>
                  <a:lnTo>
                    <a:pt x="331" y="160"/>
                  </a:lnTo>
                  <a:lnTo>
                    <a:pt x="331" y="167"/>
                  </a:lnTo>
                  <a:lnTo>
                    <a:pt x="333" y="177"/>
                  </a:lnTo>
                  <a:lnTo>
                    <a:pt x="333" y="183"/>
                  </a:lnTo>
                  <a:lnTo>
                    <a:pt x="333" y="192"/>
                  </a:lnTo>
                  <a:lnTo>
                    <a:pt x="333" y="200"/>
                  </a:lnTo>
                  <a:lnTo>
                    <a:pt x="333" y="209"/>
                  </a:lnTo>
                  <a:lnTo>
                    <a:pt x="331" y="215"/>
                  </a:lnTo>
                  <a:lnTo>
                    <a:pt x="331" y="223"/>
                  </a:lnTo>
                  <a:lnTo>
                    <a:pt x="329" y="230"/>
                  </a:lnTo>
                  <a:lnTo>
                    <a:pt x="327" y="238"/>
                  </a:lnTo>
                  <a:lnTo>
                    <a:pt x="321" y="251"/>
                  </a:lnTo>
                  <a:lnTo>
                    <a:pt x="312" y="264"/>
                  </a:lnTo>
                  <a:lnTo>
                    <a:pt x="306" y="268"/>
                  </a:lnTo>
                  <a:lnTo>
                    <a:pt x="301" y="274"/>
                  </a:lnTo>
                  <a:lnTo>
                    <a:pt x="291" y="280"/>
                  </a:lnTo>
                  <a:lnTo>
                    <a:pt x="285" y="287"/>
                  </a:lnTo>
                  <a:lnTo>
                    <a:pt x="272" y="289"/>
                  </a:lnTo>
                  <a:lnTo>
                    <a:pt x="263" y="293"/>
                  </a:lnTo>
                  <a:lnTo>
                    <a:pt x="249" y="297"/>
                  </a:lnTo>
                  <a:lnTo>
                    <a:pt x="240" y="302"/>
                  </a:lnTo>
                  <a:lnTo>
                    <a:pt x="226" y="304"/>
                  </a:lnTo>
                  <a:lnTo>
                    <a:pt x="215" y="308"/>
                  </a:lnTo>
                  <a:lnTo>
                    <a:pt x="202" y="312"/>
                  </a:lnTo>
                  <a:lnTo>
                    <a:pt x="192" y="316"/>
                  </a:lnTo>
                  <a:lnTo>
                    <a:pt x="179" y="316"/>
                  </a:lnTo>
                  <a:lnTo>
                    <a:pt x="169" y="319"/>
                  </a:lnTo>
                  <a:lnTo>
                    <a:pt x="160" y="319"/>
                  </a:lnTo>
                  <a:lnTo>
                    <a:pt x="152" y="321"/>
                  </a:lnTo>
                  <a:lnTo>
                    <a:pt x="145" y="323"/>
                  </a:lnTo>
                  <a:lnTo>
                    <a:pt x="137" y="325"/>
                  </a:lnTo>
                  <a:lnTo>
                    <a:pt x="139" y="323"/>
                  </a:lnTo>
                  <a:lnTo>
                    <a:pt x="145" y="318"/>
                  </a:lnTo>
                  <a:lnTo>
                    <a:pt x="150" y="308"/>
                  </a:lnTo>
                  <a:lnTo>
                    <a:pt x="160" y="297"/>
                  </a:lnTo>
                  <a:lnTo>
                    <a:pt x="171" y="283"/>
                  </a:lnTo>
                  <a:lnTo>
                    <a:pt x="183" y="272"/>
                  </a:lnTo>
                  <a:lnTo>
                    <a:pt x="188" y="264"/>
                  </a:lnTo>
                  <a:lnTo>
                    <a:pt x="194" y="257"/>
                  </a:lnTo>
                  <a:lnTo>
                    <a:pt x="202" y="251"/>
                  </a:lnTo>
                  <a:lnTo>
                    <a:pt x="207" y="247"/>
                  </a:lnTo>
                  <a:lnTo>
                    <a:pt x="215" y="234"/>
                  </a:lnTo>
                  <a:lnTo>
                    <a:pt x="221" y="224"/>
                  </a:lnTo>
                  <a:lnTo>
                    <a:pt x="221" y="213"/>
                  </a:lnTo>
                  <a:lnTo>
                    <a:pt x="221" y="202"/>
                  </a:lnTo>
                  <a:lnTo>
                    <a:pt x="219" y="194"/>
                  </a:lnTo>
                  <a:lnTo>
                    <a:pt x="217" y="188"/>
                  </a:lnTo>
                  <a:lnTo>
                    <a:pt x="217" y="181"/>
                  </a:lnTo>
                  <a:lnTo>
                    <a:pt x="215" y="175"/>
                  </a:lnTo>
                  <a:lnTo>
                    <a:pt x="213" y="167"/>
                  </a:lnTo>
                  <a:lnTo>
                    <a:pt x="211" y="162"/>
                  </a:lnTo>
                  <a:lnTo>
                    <a:pt x="211" y="154"/>
                  </a:lnTo>
                  <a:lnTo>
                    <a:pt x="211" y="148"/>
                  </a:lnTo>
                  <a:lnTo>
                    <a:pt x="207" y="135"/>
                  </a:lnTo>
                  <a:lnTo>
                    <a:pt x="204" y="124"/>
                  </a:lnTo>
                  <a:lnTo>
                    <a:pt x="196" y="112"/>
                  </a:lnTo>
                  <a:lnTo>
                    <a:pt x="190" y="103"/>
                  </a:lnTo>
                  <a:lnTo>
                    <a:pt x="181" y="93"/>
                  </a:lnTo>
                  <a:lnTo>
                    <a:pt x="171" y="84"/>
                  </a:lnTo>
                  <a:lnTo>
                    <a:pt x="160" y="76"/>
                  </a:lnTo>
                  <a:lnTo>
                    <a:pt x="150" y="70"/>
                  </a:lnTo>
                  <a:lnTo>
                    <a:pt x="139" y="63"/>
                  </a:lnTo>
                  <a:lnTo>
                    <a:pt x="131" y="57"/>
                  </a:lnTo>
                  <a:lnTo>
                    <a:pt x="124" y="55"/>
                  </a:lnTo>
                  <a:lnTo>
                    <a:pt x="118" y="53"/>
                  </a:lnTo>
                  <a:lnTo>
                    <a:pt x="110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90" y="48"/>
                  </a:lnTo>
                  <a:lnTo>
                    <a:pt x="82" y="48"/>
                  </a:lnTo>
                  <a:lnTo>
                    <a:pt x="74" y="48"/>
                  </a:lnTo>
                  <a:lnTo>
                    <a:pt x="65" y="46"/>
                  </a:lnTo>
                  <a:lnTo>
                    <a:pt x="57" y="44"/>
                  </a:lnTo>
                  <a:lnTo>
                    <a:pt x="50" y="44"/>
                  </a:lnTo>
                  <a:lnTo>
                    <a:pt x="42" y="44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0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flipH="1" flipV="1" rot="20995800">
              <a:off x="7008480" y="4090680"/>
              <a:ext cx="288720" cy="227160"/>
            </a:xfrm>
            <a:custGeom>
              <a:avLst/>
              <a:gdLst/>
              <a:ahLst/>
              <a:rect l="l" t="t" r="r" b="b"/>
              <a:pathLst>
                <a:path w="441" h="395">
                  <a:moveTo>
                    <a:pt x="0" y="34"/>
                  </a:moveTo>
                  <a:lnTo>
                    <a:pt x="0" y="34"/>
                  </a:lnTo>
                  <a:lnTo>
                    <a:pt x="6" y="32"/>
                  </a:lnTo>
                  <a:lnTo>
                    <a:pt x="13" y="30"/>
                  </a:lnTo>
                  <a:lnTo>
                    <a:pt x="23" y="28"/>
                  </a:lnTo>
                  <a:lnTo>
                    <a:pt x="28" y="24"/>
                  </a:lnTo>
                  <a:lnTo>
                    <a:pt x="36" y="24"/>
                  </a:lnTo>
                  <a:lnTo>
                    <a:pt x="42" y="22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6" y="19"/>
                  </a:lnTo>
                  <a:lnTo>
                    <a:pt x="74" y="15"/>
                  </a:lnTo>
                  <a:lnTo>
                    <a:pt x="85" y="15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12" y="9"/>
                  </a:lnTo>
                  <a:lnTo>
                    <a:pt x="123" y="9"/>
                  </a:lnTo>
                  <a:lnTo>
                    <a:pt x="133" y="5"/>
                  </a:lnTo>
                  <a:lnTo>
                    <a:pt x="144" y="5"/>
                  </a:lnTo>
                  <a:lnTo>
                    <a:pt x="154" y="2"/>
                  </a:lnTo>
                  <a:lnTo>
                    <a:pt x="165" y="2"/>
                  </a:lnTo>
                  <a:lnTo>
                    <a:pt x="175" y="2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2"/>
                  </a:lnTo>
                  <a:lnTo>
                    <a:pt x="255" y="2"/>
                  </a:lnTo>
                  <a:lnTo>
                    <a:pt x="264" y="2"/>
                  </a:lnTo>
                  <a:lnTo>
                    <a:pt x="272" y="2"/>
                  </a:lnTo>
                  <a:lnTo>
                    <a:pt x="281" y="3"/>
                  </a:lnTo>
                  <a:lnTo>
                    <a:pt x="289" y="3"/>
                  </a:lnTo>
                  <a:lnTo>
                    <a:pt x="296" y="5"/>
                  </a:lnTo>
                  <a:lnTo>
                    <a:pt x="304" y="7"/>
                  </a:lnTo>
                  <a:lnTo>
                    <a:pt x="312" y="11"/>
                  </a:lnTo>
                  <a:lnTo>
                    <a:pt x="317" y="13"/>
                  </a:lnTo>
                  <a:lnTo>
                    <a:pt x="325" y="15"/>
                  </a:lnTo>
                  <a:lnTo>
                    <a:pt x="333" y="19"/>
                  </a:lnTo>
                  <a:lnTo>
                    <a:pt x="340" y="22"/>
                  </a:lnTo>
                  <a:lnTo>
                    <a:pt x="352" y="28"/>
                  </a:lnTo>
                  <a:lnTo>
                    <a:pt x="365" y="36"/>
                  </a:lnTo>
                  <a:lnTo>
                    <a:pt x="374" y="43"/>
                  </a:lnTo>
                  <a:lnTo>
                    <a:pt x="384" y="51"/>
                  </a:lnTo>
                  <a:lnTo>
                    <a:pt x="391" y="59"/>
                  </a:lnTo>
                  <a:lnTo>
                    <a:pt x="401" y="70"/>
                  </a:lnTo>
                  <a:lnTo>
                    <a:pt x="409" y="79"/>
                  </a:lnTo>
                  <a:lnTo>
                    <a:pt x="414" y="89"/>
                  </a:lnTo>
                  <a:lnTo>
                    <a:pt x="420" y="100"/>
                  </a:lnTo>
                  <a:lnTo>
                    <a:pt x="426" y="112"/>
                  </a:lnTo>
                  <a:lnTo>
                    <a:pt x="429" y="121"/>
                  </a:lnTo>
                  <a:lnTo>
                    <a:pt x="433" y="131"/>
                  </a:lnTo>
                  <a:lnTo>
                    <a:pt x="435" y="142"/>
                  </a:lnTo>
                  <a:lnTo>
                    <a:pt x="439" y="154"/>
                  </a:lnTo>
                  <a:lnTo>
                    <a:pt x="441" y="163"/>
                  </a:lnTo>
                  <a:lnTo>
                    <a:pt x="441" y="175"/>
                  </a:lnTo>
                  <a:lnTo>
                    <a:pt x="441" y="186"/>
                  </a:lnTo>
                  <a:lnTo>
                    <a:pt x="441" y="197"/>
                  </a:lnTo>
                  <a:lnTo>
                    <a:pt x="439" y="209"/>
                  </a:lnTo>
                  <a:lnTo>
                    <a:pt x="437" y="218"/>
                  </a:lnTo>
                  <a:lnTo>
                    <a:pt x="433" y="230"/>
                  </a:lnTo>
                  <a:lnTo>
                    <a:pt x="429" y="241"/>
                  </a:lnTo>
                  <a:lnTo>
                    <a:pt x="424" y="252"/>
                  </a:lnTo>
                  <a:lnTo>
                    <a:pt x="418" y="264"/>
                  </a:lnTo>
                  <a:lnTo>
                    <a:pt x="410" y="273"/>
                  </a:lnTo>
                  <a:lnTo>
                    <a:pt x="405" y="285"/>
                  </a:lnTo>
                  <a:lnTo>
                    <a:pt x="395" y="292"/>
                  </a:lnTo>
                  <a:lnTo>
                    <a:pt x="386" y="302"/>
                  </a:lnTo>
                  <a:lnTo>
                    <a:pt x="374" y="313"/>
                  </a:lnTo>
                  <a:lnTo>
                    <a:pt x="363" y="323"/>
                  </a:lnTo>
                  <a:lnTo>
                    <a:pt x="352" y="330"/>
                  </a:lnTo>
                  <a:lnTo>
                    <a:pt x="340" y="338"/>
                  </a:lnTo>
                  <a:lnTo>
                    <a:pt x="331" y="346"/>
                  </a:lnTo>
                  <a:lnTo>
                    <a:pt x="319" y="353"/>
                  </a:lnTo>
                  <a:lnTo>
                    <a:pt x="308" y="361"/>
                  </a:lnTo>
                  <a:lnTo>
                    <a:pt x="296" y="366"/>
                  </a:lnTo>
                  <a:lnTo>
                    <a:pt x="287" y="372"/>
                  </a:lnTo>
                  <a:lnTo>
                    <a:pt x="275" y="378"/>
                  </a:lnTo>
                  <a:lnTo>
                    <a:pt x="266" y="384"/>
                  </a:lnTo>
                  <a:lnTo>
                    <a:pt x="260" y="387"/>
                  </a:lnTo>
                  <a:lnTo>
                    <a:pt x="251" y="391"/>
                  </a:lnTo>
                  <a:lnTo>
                    <a:pt x="247" y="395"/>
                  </a:lnTo>
                  <a:lnTo>
                    <a:pt x="247" y="389"/>
                  </a:lnTo>
                  <a:lnTo>
                    <a:pt x="249" y="380"/>
                  </a:lnTo>
                  <a:lnTo>
                    <a:pt x="251" y="374"/>
                  </a:lnTo>
                  <a:lnTo>
                    <a:pt x="253" y="366"/>
                  </a:lnTo>
                  <a:lnTo>
                    <a:pt x="255" y="357"/>
                  </a:lnTo>
                  <a:lnTo>
                    <a:pt x="258" y="347"/>
                  </a:lnTo>
                  <a:lnTo>
                    <a:pt x="260" y="336"/>
                  </a:lnTo>
                  <a:lnTo>
                    <a:pt x="264" y="325"/>
                  </a:lnTo>
                  <a:lnTo>
                    <a:pt x="268" y="313"/>
                  </a:lnTo>
                  <a:lnTo>
                    <a:pt x="272" y="302"/>
                  </a:lnTo>
                  <a:lnTo>
                    <a:pt x="275" y="290"/>
                  </a:lnTo>
                  <a:lnTo>
                    <a:pt x="279" y="279"/>
                  </a:lnTo>
                  <a:lnTo>
                    <a:pt x="283" y="270"/>
                  </a:lnTo>
                  <a:lnTo>
                    <a:pt x="287" y="258"/>
                  </a:lnTo>
                  <a:lnTo>
                    <a:pt x="289" y="247"/>
                  </a:lnTo>
                  <a:lnTo>
                    <a:pt x="291" y="235"/>
                  </a:lnTo>
                  <a:lnTo>
                    <a:pt x="293" y="226"/>
                  </a:lnTo>
                  <a:lnTo>
                    <a:pt x="294" y="218"/>
                  </a:lnTo>
                  <a:lnTo>
                    <a:pt x="294" y="209"/>
                  </a:lnTo>
                  <a:lnTo>
                    <a:pt x="294" y="199"/>
                  </a:lnTo>
                  <a:lnTo>
                    <a:pt x="293" y="194"/>
                  </a:lnTo>
                  <a:lnTo>
                    <a:pt x="293" y="186"/>
                  </a:lnTo>
                  <a:lnTo>
                    <a:pt x="289" y="178"/>
                  </a:lnTo>
                  <a:lnTo>
                    <a:pt x="287" y="171"/>
                  </a:lnTo>
                  <a:lnTo>
                    <a:pt x="283" y="165"/>
                  </a:lnTo>
                  <a:lnTo>
                    <a:pt x="281" y="161"/>
                  </a:lnTo>
                  <a:lnTo>
                    <a:pt x="275" y="150"/>
                  </a:lnTo>
                  <a:lnTo>
                    <a:pt x="270" y="142"/>
                  </a:lnTo>
                  <a:lnTo>
                    <a:pt x="264" y="135"/>
                  </a:lnTo>
                  <a:lnTo>
                    <a:pt x="256" y="127"/>
                  </a:lnTo>
                  <a:lnTo>
                    <a:pt x="251" y="121"/>
                  </a:lnTo>
                  <a:lnTo>
                    <a:pt x="243" y="116"/>
                  </a:lnTo>
                  <a:lnTo>
                    <a:pt x="237" y="112"/>
                  </a:lnTo>
                  <a:lnTo>
                    <a:pt x="232" y="108"/>
                  </a:lnTo>
                  <a:lnTo>
                    <a:pt x="224" y="106"/>
                  </a:lnTo>
                  <a:lnTo>
                    <a:pt x="218" y="102"/>
                  </a:lnTo>
                  <a:lnTo>
                    <a:pt x="209" y="98"/>
                  </a:lnTo>
                  <a:lnTo>
                    <a:pt x="199" y="97"/>
                  </a:lnTo>
                  <a:lnTo>
                    <a:pt x="188" y="93"/>
                  </a:lnTo>
                  <a:lnTo>
                    <a:pt x="177" y="89"/>
                  </a:lnTo>
                  <a:lnTo>
                    <a:pt x="167" y="87"/>
                  </a:lnTo>
                  <a:lnTo>
                    <a:pt x="160" y="85"/>
                  </a:lnTo>
                  <a:lnTo>
                    <a:pt x="154" y="81"/>
                  </a:lnTo>
                  <a:lnTo>
                    <a:pt x="146" y="79"/>
                  </a:lnTo>
                  <a:lnTo>
                    <a:pt x="139" y="78"/>
                  </a:lnTo>
                  <a:lnTo>
                    <a:pt x="131" y="76"/>
                  </a:lnTo>
                  <a:lnTo>
                    <a:pt x="123" y="74"/>
                  </a:lnTo>
                  <a:lnTo>
                    <a:pt x="116" y="72"/>
                  </a:lnTo>
                  <a:lnTo>
                    <a:pt x="108" y="68"/>
                  </a:lnTo>
                  <a:lnTo>
                    <a:pt x="101" y="66"/>
                  </a:lnTo>
                  <a:lnTo>
                    <a:pt x="93" y="64"/>
                  </a:lnTo>
                  <a:lnTo>
                    <a:pt x="85" y="60"/>
                  </a:lnTo>
                  <a:lnTo>
                    <a:pt x="80" y="59"/>
                  </a:lnTo>
                  <a:lnTo>
                    <a:pt x="72" y="57"/>
                  </a:lnTo>
                  <a:lnTo>
                    <a:pt x="66" y="55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5" y="49"/>
                  </a:lnTo>
                  <a:lnTo>
                    <a:pt x="40" y="47"/>
                  </a:lnTo>
                  <a:lnTo>
                    <a:pt x="36" y="45"/>
                  </a:lnTo>
                  <a:lnTo>
                    <a:pt x="25" y="41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H="1" flipV="1" rot="20995800">
              <a:off x="6487560" y="4201920"/>
              <a:ext cx="227160" cy="198360"/>
            </a:xfrm>
            <a:custGeom>
              <a:avLst/>
              <a:gdLst/>
              <a:ahLst/>
              <a:rect l="l" t="t" r="r" b="b"/>
              <a:pathLst>
                <a:path w="344" h="344">
                  <a:moveTo>
                    <a:pt x="0" y="29"/>
                  </a:moveTo>
                  <a:lnTo>
                    <a:pt x="2" y="25"/>
                  </a:lnTo>
                  <a:lnTo>
                    <a:pt x="9" y="23"/>
                  </a:lnTo>
                  <a:lnTo>
                    <a:pt x="13" y="21"/>
                  </a:lnTo>
                  <a:lnTo>
                    <a:pt x="21" y="19"/>
                  </a:lnTo>
                  <a:lnTo>
                    <a:pt x="28" y="15"/>
                  </a:lnTo>
                  <a:lnTo>
                    <a:pt x="38" y="14"/>
                  </a:lnTo>
                  <a:lnTo>
                    <a:pt x="44" y="10"/>
                  </a:lnTo>
                  <a:lnTo>
                    <a:pt x="53" y="8"/>
                  </a:lnTo>
                  <a:lnTo>
                    <a:pt x="65" y="6"/>
                  </a:lnTo>
                  <a:lnTo>
                    <a:pt x="76" y="4"/>
                  </a:lnTo>
                  <a:lnTo>
                    <a:pt x="86" y="2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9" y="0"/>
                  </a:lnTo>
                  <a:lnTo>
                    <a:pt x="141" y="0"/>
                  </a:lnTo>
                  <a:lnTo>
                    <a:pt x="150" y="2"/>
                  </a:lnTo>
                  <a:lnTo>
                    <a:pt x="160" y="6"/>
                  </a:lnTo>
                  <a:lnTo>
                    <a:pt x="169" y="6"/>
                  </a:lnTo>
                  <a:lnTo>
                    <a:pt x="179" y="10"/>
                  </a:lnTo>
                  <a:lnTo>
                    <a:pt x="188" y="14"/>
                  </a:lnTo>
                  <a:lnTo>
                    <a:pt x="200" y="19"/>
                  </a:lnTo>
                  <a:lnTo>
                    <a:pt x="209" y="21"/>
                  </a:lnTo>
                  <a:lnTo>
                    <a:pt x="217" y="25"/>
                  </a:lnTo>
                  <a:lnTo>
                    <a:pt x="224" y="31"/>
                  </a:lnTo>
                  <a:lnTo>
                    <a:pt x="234" y="34"/>
                  </a:lnTo>
                  <a:lnTo>
                    <a:pt x="243" y="40"/>
                  </a:lnTo>
                  <a:lnTo>
                    <a:pt x="251" y="44"/>
                  </a:lnTo>
                  <a:lnTo>
                    <a:pt x="259" y="50"/>
                  </a:lnTo>
                  <a:lnTo>
                    <a:pt x="270" y="55"/>
                  </a:lnTo>
                  <a:lnTo>
                    <a:pt x="276" y="59"/>
                  </a:lnTo>
                  <a:lnTo>
                    <a:pt x="281" y="65"/>
                  </a:lnTo>
                  <a:lnTo>
                    <a:pt x="289" y="69"/>
                  </a:lnTo>
                  <a:lnTo>
                    <a:pt x="297" y="74"/>
                  </a:lnTo>
                  <a:lnTo>
                    <a:pt x="308" y="86"/>
                  </a:lnTo>
                  <a:lnTo>
                    <a:pt x="321" y="97"/>
                  </a:lnTo>
                  <a:lnTo>
                    <a:pt x="329" y="109"/>
                  </a:lnTo>
                  <a:lnTo>
                    <a:pt x="336" y="122"/>
                  </a:lnTo>
                  <a:lnTo>
                    <a:pt x="338" y="128"/>
                  </a:lnTo>
                  <a:lnTo>
                    <a:pt x="340" y="135"/>
                  </a:lnTo>
                  <a:lnTo>
                    <a:pt x="342" y="141"/>
                  </a:lnTo>
                  <a:lnTo>
                    <a:pt x="344" y="150"/>
                  </a:lnTo>
                  <a:lnTo>
                    <a:pt x="342" y="158"/>
                  </a:lnTo>
                  <a:lnTo>
                    <a:pt x="342" y="164"/>
                  </a:lnTo>
                  <a:lnTo>
                    <a:pt x="342" y="171"/>
                  </a:lnTo>
                  <a:lnTo>
                    <a:pt x="340" y="181"/>
                  </a:lnTo>
                  <a:lnTo>
                    <a:pt x="336" y="188"/>
                  </a:lnTo>
                  <a:lnTo>
                    <a:pt x="335" y="198"/>
                  </a:lnTo>
                  <a:lnTo>
                    <a:pt x="331" y="206"/>
                  </a:lnTo>
                  <a:lnTo>
                    <a:pt x="329" y="215"/>
                  </a:lnTo>
                  <a:lnTo>
                    <a:pt x="323" y="225"/>
                  </a:lnTo>
                  <a:lnTo>
                    <a:pt x="321" y="234"/>
                  </a:lnTo>
                  <a:lnTo>
                    <a:pt x="316" y="242"/>
                  </a:lnTo>
                  <a:lnTo>
                    <a:pt x="312" y="251"/>
                  </a:lnTo>
                  <a:lnTo>
                    <a:pt x="308" y="261"/>
                  </a:lnTo>
                  <a:lnTo>
                    <a:pt x="304" y="270"/>
                  </a:lnTo>
                  <a:lnTo>
                    <a:pt x="300" y="280"/>
                  </a:lnTo>
                  <a:lnTo>
                    <a:pt x="297" y="289"/>
                  </a:lnTo>
                  <a:lnTo>
                    <a:pt x="293" y="297"/>
                  </a:lnTo>
                  <a:lnTo>
                    <a:pt x="289" y="306"/>
                  </a:lnTo>
                  <a:lnTo>
                    <a:pt x="285" y="312"/>
                  </a:lnTo>
                  <a:lnTo>
                    <a:pt x="281" y="318"/>
                  </a:lnTo>
                  <a:lnTo>
                    <a:pt x="272" y="329"/>
                  </a:lnTo>
                  <a:lnTo>
                    <a:pt x="262" y="337"/>
                  </a:lnTo>
                  <a:lnTo>
                    <a:pt x="253" y="340"/>
                  </a:lnTo>
                  <a:lnTo>
                    <a:pt x="241" y="344"/>
                  </a:lnTo>
                  <a:lnTo>
                    <a:pt x="236" y="344"/>
                  </a:lnTo>
                  <a:lnTo>
                    <a:pt x="230" y="344"/>
                  </a:lnTo>
                  <a:lnTo>
                    <a:pt x="222" y="344"/>
                  </a:lnTo>
                  <a:lnTo>
                    <a:pt x="217" y="344"/>
                  </a:lnTo>
                  <a:lnTo>
                    <a:pt x="209" y="342"/>
                  </a:lnTo>
                  <a:lnTo>
                    <a:pt x="200" y="340"/>
                  </a:lnTo>
                  <a:lnTo>
                    <a:pt x="192" y="339"/>
                  </a:lnTo>
                  <a:lnTo>
                    <a:pt x="182" y="337"/>
                  </a:lnTo>
                  <a:lnTo>
                    <a:pt x="173" y="335"/>
                  </a:lnTo>
                  <a:lnTo>
                    <a:pt x="165" y="331"/>
                  </a:lnTo>
                  <a:lnTo>
                    <a:pt x="156" y="329"/>
                  </a:lnTo>
                  <a:lnTo>
                    <a:pt x="150" y="327"/>
                  </a:lnTo>
                  <a:lnTo>
                    <a:pt x="141" y="323"/>
                  </a:lnTo>
                  <a:lnTo>
                    <a:pt x="135" y="321"/>
                  </a:lnTo>
                  <a:lnTo>
                    <a:pt x="127" y="318"/>
                  </a:lnTo>
                  <a:lnTo>
                    <a:pt x="124" y="318"/>
                  </a:lnTo>
                  <a:lnTo>
                    <a:pt x="116" y="314"/>
                  </a:lnTo>
                  <a:lnTo>
                    <a:pt x="114" y="314"/>
                  </a:lnTo>
                  <a:lnTo>
                    <a:pt x="114" y="312"/>
                  </a:lnTo>
                  <a:lnTo>
                    <a:pt x="122" y="306"/>
                  </a:lnTo>
                  <a:lnTo>
                    <a:pt x="127" y="297"/>
                  </a:lnTo>
                  <a:lnTo>
                    <a:pt x="141" y="287"/>
                  </a:lnTo>
                  <a:lnTo>
                    <a:pt x="146" y="280"/>
                  </a:lnTo>
                  <a:lnTo>
                    <a:pt x="152" y="274"/>
                  </a:lnTo>
                  <a:lnTo>
                    <a:pt x="160" y="268"/>
                  </a:lnTo>
                  <a:lnTo>
                    <a:pt x="165" y="263"/>
                  </a:lnTo>
                  <a:lnTo>
                    <a:pt x="173" y="255"/>
                  </a:lnTo>
                  <a:lnTo>
                    <a:pt x="181" y="249"/>
                  </a:lnTo>
                  <a:lnTo>
                    <a:pt x="188" y="244"/>
                  </a:lnTo>
                  <a:lnTo>
                    <a:pt x="196" y="238"/>
                  </a:lnTo>
                  <a:lnTo>
                    <a:pt x="205" y="226"/>
                  </a:lnTo>
                  <a:lnTo>
                    <a:pt x="215" y="215"/>
                  </a:lnTo>
                  <a:lnTo>
                    <a:pt x="221" y="202"/>
                  </a:lnTo>
                  <a:lnTo>
                    <a:pt x="224" y="190"/>
                  </a:lnTo>
                  <a:lnTo>
                    <a:pt x="224" y="177"/>
                  </a:lnTo>
                  <a:lnTo>
                    <a:pt x="221" y="168"/>
                  </a:lnTo>
                  <a:lnTo>
                    <a:pt x="215" y="154"/>
                  </a:lnTo>
                  <a:lnTo>
                    <a:pt x="209" y="147"/>
                  </a:lnTo>
                  <a:lnTo>
                    <a:pt x="198" y="137"/>
                  </a:lnTo>
                  <a:lnTo>
                    <a:pt x="192" y="131"/>
                  </a:lnTo>
                  <a:lnTo>
                    <a:pt x="186" y="128"/>
                  </a:lnTo>
                  <a:lnTo>
                    <a:pt x="181" y="126"/>
                  </a:lnTo>
                  <a:lnTo>
                    <a:pt x="173" y="120"/>
                  </a:lnTo>
                  <a:lnTo>
                    <a:pt x="163" y="116"/>
                  </a:lnTo>
                  <a:lnTo>
                    <a:pt x="156" y="112"/>
                  </a:lnTo>
                  <a:lnTo>
                    <a:pt x="150" y="109"/>
                  </a:lnTo>
                  <a:lnTo>
                    <a:pt x="143" y="105"/>
                  </a:lnTo>
                  <a:lnTo>
                    <a:pt x="135" y="101"/>
                  </a:lnTo>
                  <a:lnTo>
                    <a:pt x="124" y="93"/>
                  </a:lnTo>
                  <a:lnTo>
                    <a:pt x="112" y="88"/>
                  </a:lnTo>
                  <a:lnTo>
                    <a:pt x="101" y="82"/>
                  </a:lnTo>
                  <a:lnTo>
                    <a:pt x="89" y="76"/>
                  </a:lnTo>
                  <a:lnTo>
                    <a:pt x="78" y="69"/>
                  </a:lnTo>
                  <a:lnTo>
                    <a:pt x="67" y="63"/>
                  </a:lnTo>
                  <a:lnTo>
                    <a:pt x="57" y="57"/>
                  </a:lnTo>
                  <a:lnTo>
                    <a:pt x="47" y="52"/>
                  </a:lnTo>
                  <a:lnTo>
                    <a:pt x="36" y="46"/>
                  </a:lnTo>
                  <a:lnTo>
                    <a:pt x="28" y="42"/>
                  </a:lnTo>
                  <a:lnTo>
                    <a:pt x="19" y="38"/>
                  </a:lnTo>
                  <a:lnTo>
                    <a:pt x="13" y="34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flipH="1" flipV="1" rot="20995800">
              <a:off x="6205680" y="3775320"/>
              <a:ext cx="240120" cy="371520"/>
            </a:xfrm>
            <a:custGeom>
              <a:avLst/>
              <a:gdLst/>
              <a:ahLst/>
              <a:rect l="l" t="t" r="r" b="b"/>
              <a:pathLst>
                <a:path w="365" h="645">
                  <a:moveTo>
                    <a:pt x="0" y="31"/>
                  </a:moveTo>
                  <a:lnTo>
                    <a:pt x="0" y="29"/>
                  </a:lnTo>
                  <a:lnTo>
                    <a:pt x="4" y="29"/>
                  </a:lnTo>
                  <a:lnTo>
                    <a:pt x="9" y="25"/>
                  </a:lnTo>
                  <a:lnTo>
                    <a:pt x="19" y="25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43" y="16"/>
                  </a:lnTo>
                  <a:lnTo>
                    <a:pt x="51" y="16"/>
                  </a:lnTo>
                  <a:lnTo>
                    <a:pt x="59" y="14"/>
                  </a:lnTo>
                  <a:lnTo>
                    <a:pt x="66" y="14"/>
                  </a:lnTo>
                  <a:lnTo>
                    <a:pt x="74" y="12"/>
                  </a:lnTo>
                  <a:lnTo>
                    <a:pt x="80" y="10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6"/>
                  </a:lnTo>
                  <a:lnTo>
                    <a:pt x="112" y="6"/>
                  </a:lnTo>
                  <a:lnTo>
                    <a:pt x="120" y="4"/>
                  </a:lnTo>
                  <a:lnTo>
                    <a:pt x="129" y="4"/>
                  </a:lnTo>
                  <a:lnTo>
                    <a:pt x="137" y="2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3" y="2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6" y="2"/>
                  </a:lnTo>
                  <a:lnTo>
                    <a:pt x="196" y="2"/>
                  </a:lnTo>
                  <a:lnTo>
                    <a:pt x="201" y="2"/>
                  </a:lnTo>
                  <a:lnTo>
                    <a:pt x="209" y="2"/>
                  </a:lnTo>
                  <a:lnTo>
                    <a:pt x="216" y="2"/>
                  </a:lnTo>
                  <a:lnTo>
                    <a:pt x="224" y="6"/>
                  </a:lnTo>
                  <a:lnTo>
                    <a:pt x="236" y="8"/>
                  </a:lnTo>
                  <a:lnTo>
                    <a:pt x="249" y="12"/>
                  </a:lnTo>
                  <a:lnTo>
                    <a:pt x="260" y="16"/>
                  </a:lnTo>
                  <a:lnTo>
                    <a:pt x="270" y="21"/>
                  </a:lnTo>
                  <a:lnTo>
                    <a:pt x="279" y="29"/>
                  </a:lnTo>
                  <a:lnTo>
                    <a:pt x="291" y="35"/>
                  </a:lnTo>
                  <a:lnTo>
                    <a:pt x="298" y="42"/>
                  </a:lnTo>
                  <a:lnTo>
                    <a:pt x="306" y="50"/>
                  </a:lnTo>
                  <a:lnTo>
                    <a:pt x="313" y="59"/>
                  </a:lnTo>
                  <a:lnTo>
                    <a:pt x="321" y="69"/>
                  </a:lnTo>
                  <a:lnTo>
                    <a:pt x="327" y="80"/>
                  </a:lnTo>
                  <a:lnTo>
                    <a:pt x="332" y="92"/>
                  </a:lnTo>
                  <a:lnTo>
                    <a:pt x="338" y="103"/>
                  </a:lnTo>
                  <a:lnTo>
                    <a:pt x="344" y="114"/>
                  </a:lnTo>
                  <a:lnTo>
                    <a:pt x="348" y="128"/>
                  </a:lnTo>
                  <a:lnTo>
                    <a:pt x="351" y="141"/>
                  </a:lnTo>
                  <a:lnTo>
                    <a:pt x="353" y="147"/>
                  </a:lnTo>
                  <a:lnTo>
                    <a:pt x="353" y="154"/>
                  </a:lnTo>
                  <a:lnTo>
                    <a:pt x="355" y="160"/>
                  </a:lnTo>
                  <a:lnTo>
                    <a:pt x="357" y="168"/>
                  </a:lnTo>
                  <a:lnTo>
                    <a:pt x="357" y="175"/>
                  </a:lnTo>
                  <a:lnTo>
                    <a:pt x="359" y="183"/>
                  </a:lnTo>
                  <a:lnTo>
                    <a:pt x="359" y="189"/>
                  </a:lnTo>
                  <a:lnTo>
                    <a:pt x="361" y="196"/>
                  </a:lnTo>
                  <a:lnTo>
                    <a:pt x="361" y="204"/>
                  </a:lnTo>
                  <a:lnTo>
                    <a:pt x="363" y="211"/>
                  </a:lnTo>
                  <a:lnTo>
                    <a:pt x="363" y="219"/>
                  </a:lnTo>
                  <a:lnTo>
                    <a:pt x="365" y="229"/>
                  </a:lnTo>
                  <a:lnTo>
                    <a:pt x="365" y="234"/>
                  </a:lnTo>
                  <a:lnTo>
                    <a:pt x="365" y="242"/>
                  </a:lnTo>
                  <a:lnTo>
                    <a:pt x="365" y="251"/>
                  </a:lnTo>
                  <a:lnTo>
                    <a:pt x="365" y="259"/>
                  </a:lnTo>
                  <a:lnTo>
                    <a:pt x="363" y="267"/>
                  </a:lnTo>
                  <a:lnTo>
                    <a:pt x="363" y="274"/>
                  </a:lnTo>
                  <a:lnTo>
                    <a:pt x="363" y="284"/>
                  </a:lnTo>
                  <a:lnTo>
                    <a:pt x="363" y="293"/>
                  </a:lnTo>
                  <a:lnTo>
                    <a:pt x="361" y="299"/>
                  </a:lnTo>
                  <a:lnTo>
                    <a:pt x="361" y="308"/>
                  </a:lnTo>
                  <a:lnTo>
                    <a:pt x="359" y="318"/>
                  </a:lnTo>
                  <a:lnTo>
                    <a:pt x="359" y="327"/>
                  </a:lnTo>
                  <a:lnTo>
                    <a:pt x="355" y="335"/>
                  </a:lnTo>
                  <a:lnTo>
                    <a:pt x="355" y="346"/>
                  </a:lnTo>
                  <a:lnTo>
                    <a:pt x="353" y="354"/>
                  </a:lnTo>
                  <a:lnTo>
                    <a:pt x="353" y="365"/>
                  </a:lnTo>
                  <a:lnTo>
                    <a:pt x="350" y="373"/>
                  </a:lnTo>
                  <a:lnTo>
                    <a:pt x="346" y="383"/>
                  </a:lnTo>
                  <a:lnTo>
                    <a:pt x="344" y="392"/>
                  </a:lnTo>
                  <a:lnTo>
                    <a:pt x="342" y="402"/>
                  </a:lnTo>
                  <a:lnTo>
                    <a:pt x="338" y="409"/>
                  </a:lnTo>
                  <a:lnTo>
                    <a:pt x="336" y="421"/>
                  </a:lnTo>
                  <a:lnTo>
                    <a:pt x="332" y="428"/>
                  </a:lnTo>
                  <a:lnTo>
                    <a:pt x="331" y="440"/>
                  </a:lnTo>
                  <a:lnTo>
                    <a:pt x="327" y="447"/>
                  </a:lnTo>
                  <a:lnTo>
                    <a:pt x="323" y="457"/>
                  </a:lnTo>
                  <a:lnTo>
                    <a:pt x="319" y="466"/>
                  </a:lnTo>
                  <a:lnTo>
                    <a:pt x="315" y="476"/>
                  </a:lnTo>
                  <a:lnTo>
                    <a:pt x="312" y="485"/>
                  </a:lnTo>
                  <a:lnTo>
                    <a:pt x="308" y="495"/>
                  </a:lnTo>
                  <a:lnTo>
                    <a:pt x="302" y="502"/>
                  </a:lnTo>
                  <a:lnTo>
                    <a:pt x="298" y="512"/>
                  </a:lnTo>
                  <a:lnTo>
                    <a:pt x="293" y="519"/>
                  </a:lnTo>
                  <a:lnTo>
                    <a:pt x="289" y="529"/>
                  </a:lnTo>
                  <a:lnTo>
                    <a:pt x="283" y="536"/>
                  </a:lnTo>
                  <a:lnTo>
                    <a:pt x="279" y="544"/>
                  </a:lnTo>
                  <a:lnTo>
                    <a:pt x="274" y="552"/>
                  </a:lnTo>
                  <a:lnTo>
                    <a:pt x="270" y="559"/>
                  </a:lnTo>
                  <a:lnTo>
                    <a:pt x="264" y="567"/>
                  </a:lnTo>
                  <a:lnTo>
                    <a:pt x="260" y="576"/>
                  </a:lnTo>
                  <a:lnTo>
                    <a:pt x="251" y="588"/>
                  </a:lnTo>
                  <a:lnTo>
                    <a:pt x="239" y="601"/>
                  </a:lnTo>
                  <a:lnTo>
                    <a:pt x="228" y="612"/>
                  </a:lnTo>
                  <a:lnTo>
                    <a:pt x="218" y="622"/>
                  </a:lnTo>
                  <a:lnTo>
                    <a:pt x="207" y="628"/>
                  </a:lnTo>
                  <a:lnTo>
                    <a:pt x="196" y="633"/>
                  </a:lnTo>
                  <a:lnTo>
                    <a:pt x="186" y="637"/>
                  </a:lnTo>
                  <a:lnTo>
                    <a:pt x="177" y="641"/>
                  </a:lnTo>
                  <a:lnTo>
                    <a:pt x="165" y="643"/>
                  </a:lnTo>
                  <a:lnTo>
                    <a:pt x="154" y="645"/>
                  </a:lnTo>
                  <a:lnTo>
                    <a:pt x="144" y="645"/>
                  </a:lnTo>
                  <a:lnTo>
                    <a:pt x="137" y="645"/>
                  </a:lnTo>
                  <a:lnTo>
                    <a:pt x="127" y="643"/>
                  </a:lnTo>
                  <a:lnTo>
                    <a:pt x="121" y="641"/>
                  </a:lnTo>
                  <a:lnTo>
                    <a:pt x="114" y="641"/>
                  </a:lnTo>
                  <a:lnTo>
                    <a:pt x="110" y="639"/>
                  </a:lnTo>
                  <a:lnTo>
                    <a:pt x="102" y="637"/>
                  </a:lnTo>
                  <a:lnTo>
                    <a:pt x="101" y="637"/>
                  </a:lnTo>
                  <a:lnTo>
                    <a:pt x="102" y="635"/>
                  </a:lnTo>
                  <a:lnTo>
                    <a:pt x="112" y="628"/>
                  </a:lnTo>
                  <a:lnTo>
                    <a:pt x="116" y="622"/>
                  </a:lnTo>
                  <a:lnTo>
                    <a:pt x="123" y="618"/>
                  </a:lnTo>
                  <a:lnTo>
                    <a:pt x="131" y="612"/>
                  </a:lnTo>
                  <a:lnTo>
                    <a:pt x="139" y="605"/>
                  </a:lnTo>
                  <a:lnTo>
                    <a:pt x="146" y="597"/>
                  </a:lnTo>
                  <a:lnTo>
                    <a:pt x="156" y="590"/>
                  </a:lnTo>
                  <a:lnTo>
                    <a:pt x="163" y="580"/>
                  </a:lnTo>
                  <a:lnTo>
                    <a:pt x="173" y="571"/>
                  </a:lnTo>
                  <a:lnTo>
                    <a:pt x="180" y="559"/>
                  </a:lnTo>
                  <a:lnTo>
                    <a:pt x="188" y="550"/>
                  </a:lnTo>
                  <a:lnTo>
                    <a:pt x="196" y="538"/>
                  </a:lnTo>
                  <a:lnTo>
                    <a:pt x="203" y="527"/>
                  </a:lnTo>
                  <a:lnTo>
                    <a:pt x="205" y="519"/>
                  </a:lnTo>
                  <a:lnTo>
                    <a:pt x="209" y="514"/>
                  </a:lnTo>
                  <a:lnTo>
                    <a:pt x="211" y="506"/>
                  </a:lnTo>
                  <a:lnTo>
                    <a:pt x="213" y="500"/>
                  </a:lnTo>
                  <a:lnTo>
                    <a:pt x="216" y="487"/>
                  </a:lnTo>
                  <a:lnTo>
                    <a:pt x="220" y="476"/>
                  </a:lnTo>
                  <a:lnTo>
                    <a:pt x="220" y="468"/>
                  </a:lnTo>
                  <a:lnTo>
                    <a:pt x="222" y="460"/>
                  </a:lnTo>
                  <a:lnTo>
                    <a:pt x="224" y="453"/>
                  </a:lnTo>
                  <a:lnTo>
                    <a:pt x="224" y="447"/>
                  </a:lnTo>
                  <a:lnTo>
                    <a:pt x="226" y="441"/>
                  </a:lnTo>
                  <a:lnTo>
                    <a:pt x="228" y="434"/>
                  </a:lnTo>
                  <a:lnTo>
                    <a:pt x="228" y="426"/>
                  </a:lnTo>
                  <a:lnTo>
                    <a:pt x="230" y="421"/>
                  </a:lnTo>
                  <a:lnTo>
                    <a:pt x="230" y="413"/>
                  </a:lnTo>
                  <a:lnTo>
                    <a:pt x="230" y="405"/>
                  </a:lnTo>
                  <a:lnTo>
                    <a:pt x="230" y="400"/>
                  </a:lnTo>
                  <a:lnTo>
                    <a:pt x="230" y="392"/>
                  </a:lnTo>
                  <a:lnTo>
                    <a:pt x="230" y="384"/>
                  </a:lnTo>
                  <a:lnTo>
                    <a:pt x="230" y="377"/>
                  </a:lnTo>
                  <a:lnTo>
                    <a:pt x="230" y="369"/>
                  </a:lnTo>
                  <a:lnTo>
                    <a:pt x="232" y="363"/>
                  </a:lnTo>
                  <a:lnTo>
                    <a:pt x="232" y="358"/>
                  </a:lnTo>
                  <a:lnTo>
                    <a:pt x="232" y="350"/>
                  </a:lnTo>
                  <a:lnTo>
                    <a:pt x="232" y="344"/>
                  </a:lnTo>
                  <a:lnTo>
                    <a:pt x="232" y="337"/>
                  </a:lnTo>
                  <a:lnTo>
                    <a:pt x="234" y="325"/>
                  </a:lnTo>
                  <a:lnTo>
                    <a:pt x="234" y="314"/>
                  </a:lnTo>
                  <a:lnTo>
                    <a:pt x="234" y="301"/>
                  </a:lnTo>
                  <a:lnTo>
                    <a:pt x="234" y="289"/>
                  </a:lnTo>
                  <a:lnTo>
                    <a:pt x="234" y="280"/>
                  </a:lnTo>
                  <a:lnTo>
                    <a:pt x="236" y="268"/>
                  </a:lnTo>
                  <a:lnTo>
                    <a:pt x="234" y="257"/>
                  </a:lnTo>
                  <a:lnTo>
                    <a:pt x="234" y="248"/>
                  </a:lnTo>
                  <a:lnTo>
                    <a:pt x="234" y="238"/>
                  </a:lnTo>
                  <a:lnTo>
                    <a:pt x="234" y="230"/>
                  </a:lnTo>
                  <a:lnTo>
                    <a:pt x="232" y="219"/>
                  </a:lnTo>
                  <a:lnTo>
                    <a:pt x="230" y="211"/>
                  </a:lnTo>
                  <a:lnTo>
                    <a:pt x="224" y="202"/>
                  </a:lnTo>
                  <a:lnTo>
                    <a:pt x="220" y="192"/>
                  </a:lnTo>
                  <a:lnTo>
                    <a:pt x="215" y="183"/>
                  </a:lnTo>
                  <a:lnTo>
                    <a:pt x="207" y="173"/>
                  </a:lnTo>
                  <a:lnTo>
                    <a:pt x="197" y="164"/>
                  </a:lnTo>
                  <a:lnTo>
                    <a:pt x="188" y="154"/>
                  </a:lnTo>
                  <a:lnTo>
                    <a:pt x="182" y="149"/>
                  </a:lnTo>
                  <a:lnTo>
                    <a:pt x="177" y="145"/>
                  </a:lnTo>
                  <a:lnTo>
                    <a:pt x="169" y="137"/>
                  </a:lnTo>
                  <a:lnTo>
                    <a:pt x="163" y="134"/>
                  </a:lnTo>
                  <a:lnTo>
                    <a:pt x="156" y="128"/>
                  </a:lnTo>
                  <a:lnTo>
                    <a:pt x="148" y="122"/>
                  </a:lnTo>
                  <a:lnTo>
                    <a:pt x="140" y="116"/>
                  </a:lnTo>
                  <a:lnTo>
                    <a:pt x="135" y="113"/>
                  </a:lnTo>
                  <a:lnTo>
                    <a:pt x="125" y="105"/>
                  </a:lnTo>
                  <a:lnTo>
                    <a:pt x="118" y="101"/>
                  </a:lnTo>
                  <a:lnTo>
                    <a:pt x="108" y="95"/>
                  </a:lnTo>
                  <a:lnTo>
                    <a:pt x="102" y="90"/>
                  </a:lnTo>
                  <a:lnTo>
                    <a:pt x="93" y="84"/>
                  </a:lnTo>
                  <a:lnTo>
                    <a:pt x="85" y="80"/>
                  </a:lnTo>
                  <a:lnTo>
                    <a:pt x="80" y="75"/>
                  </a:lnTo>
                  <a:lnTo>
                    <a:pt x="72" y="71"/>
                  </a:lnTo>
                  <a:lnTo>
                    <a:pt x="64" y="67"/>
                  </a:lnTo>
                  <a:lnTo>
                    <a:pt x="57" y="61"/>
                  </a:lnTo>
                  <a:lnTo>
                    <a:pt x="49" y="57"/>
                  </a:lnTo>
                  <a:lnTo>
                    <a:pt x="42" y="54"/>
                  </a:lnTo>
                  <a:lnTo>
                    <a:pt x="28" y="46"/>
                  </a:lnTo>
                  <a:lnTo>
                    <a:pt x="19" y="40"/>
                  </a:lnTo>
                  <a:lnTo>
                    <a:pt x="9" y="35"/>
                  </a:lnTo>
                  <a:lnTo>
                    <a:pt x="4" y="3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flipH="1" flipV="1" rot="20995800">
              <a:off x="6626160" y="3736080"/>
              <a:ext cx="309960" cy="334800"/>
            </a:xfrm>
            <a:custGeom>
              <a:avLst/>
              <a:gdLst/>
              <a:ahLst/>
              <a:rect l="l" t="t" r="r" b="b"/>
              <a:pathLst>
                <a:path w="471" h="580">
                  <a:moveTo>
                    <a:pt x="0" y="4"/>
                  </a:moveTo>
                  <a:lnTo>
                    <a:pt x="0" y="4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0" y="6"/>
                  </a:lnTo>
                  <a:lnTo>
                    <a:pt x="78" y="7"/>
                  </a:lnTo>
                  <a:lnTo>
                    <a:pt x="85" y="13"/>
                  </a:lnTo>
                  <a:lnTo>
                    <a:pt x="97" y="19"/>
                  </a:lnTo>
                  <a:lnTo>
                    <a:pt x="106" y="32"/>
                  </a:lnTo>
                  <a:lnTo>
                    <a:pt x="112" y="36"/>
                  </a:lnTo>
                  <a:lnTo>
                    <a:pt x="116" y="44"/>
                  </a:lnTo>
                  <a:lnTo>
                    <a:pt x="122" y="51"/>
                  </a:lnTo>
                  <a:lnTo>
                    <a:pt x="125" y="57"/>
                  </a:lnTo>
                  <a:lnTo>
                    <a:pt x="129" y="64"/>
                  </a:lnTo>
                  <a:lnTo>
                    <a:pt x="135" y="70"/>
                  </a:lnTo>
                  <a:lnTo>
                    <a:pt x="139" y="78"/>
                  </a:lnTo>
                  <a:lnTo>
                    <a:pt x="144" y="85"/>
                  </a:lnTo>
                  <a:lnTo>
                    <a:pt x="148" y="91"/>
                  </a:lnTo>
                  <a:lnTo>
                    <a:pt x="154" y="99"/>
                  </a:lnTo>
                  <a:lnTo>
                    <a:pt x="158" y="104"/>
                  </a:lnTo>
                  <a:lnTo>
                    <a:pt x="163" y="110"/>
                  </a:lnTo>
                  <a:lnTo>
                    <a:pt x="175" y="120"/>
                  </a:lnTo>
                  <a:lnTo>
                    <a:pt x="188" y="129"/>
                  </a:lnTo>
                  <a:lnTo>
                    <a:pt x="194" y="131"/>
                  </a:lnTo>
                  <a:lnTo>
                    <a:pt x="201" y="135"/>
                  </a:lnTo>
                  <a:lnTo>
                    <a:pt x="209" y="137"/>
                  </a:lnTo>
                  <a:lnTo>
                    <a:pt x="215" y="139"/>
                  </a:lnTo>
                  <a:lnTo>
                    <a:pt x="220" y="141"/>
                  </a:lnTo>
                  <a:lnTo>
                    <a:pt x="228" y="142"/>
                  </a:lnTo>
                  <a:lnTo>
                    <a:pt x="236" y="142"/>
                  </a:lnTo>
                  <a:lnTo>
                    <a:pt x="243" y="142"/>
                  </a:lnTo>
                  <a:lnTo>
                    <a:pt x="249" y="142"/>
                  </a:lnTo>
                  <a:lnTo>
                    <a:pt x="257" y="142"/>
                  </a:lnTo>
                  <a:lnTo>
                    <a:pt x="264" y="142"/>
                  </a:lnTo>
                  <a:lnTo>
                    <a:pt x="270" y="141"/>
                  </a:lnTo>
                  <a:lnTo>
                    <a:pt x="281" y="135"/>
                  </a:lnTo>
                  <a:lnTo>
                    <a:pt x="293" y="131"/>
                  </a:lnTo>
                  <a:lnTo>
                    <a:pt x="304" y="127"/>
                  </a:lnTo>
                  <a:lnTo>
                    <a:pt x="315" y="123"/>
                  </a:lnTo>
                  <a:lnTo>
                    <a:pt x="325" y="120"/>
                  </a:lnTo>
                  <a:lnTo>
                    <a:pt x="335" y="116"/>
                  </a:lnTo>
                  <a:lnTo>
                    <a:pt x="344" y="112"/>
                  </a:lnTo>
                  <a:lnTo>
                    <a:pt x="354" y="110"/>
                  </a:lnTo>
                  <a:lnTo>
                    <a:pt x="359" y="110"/>
                  </a:lnTo>
                  <a:lnTo>
                    <a:pt x="365" y="110"/>
                  </a:lnTo>
                  <a:lnTo>
                    <a:pt x="371" y="112"/>
                  </a:lnTo>
                  <a:lnTo>
                    <a:pt x="376" y="120"/>
                  </a:lnTo>
                  <a:lnTo>
                    <a:pt x="382" y="125"/>
                  </a:lnTo>
                  <a:lnTo>
                    <a:pt x="388" y="131"/>
                  </a:lnTo>
                  <a:lnTo>
                    <a:pt x="395" y="142"/>
                  </a:lnTo>
                  <a:lnTo>
                    <a:pt x="401" y="154"/>
                  </a:lnTo>
                  <a:lnTo>
                    <a:pt x="405" y="160"/>
                  </a:lnTo>
                  <a:lnTo>
                    <a:pt x="407" y="165"/>
                  </a:lnTo>
                  <a:lnTo>
                    <a:pt x="411" y="173"/>
                  </a:lnTo>
                  <a:lnTo>
                    <a:pt x="414" y="180"/>
                  </a:lnTo>
                  <a:lnTo>
                    <a:pt x="416" y="186"/>
                  </a:lnTo>
                  <a:lnTo>
                    <a:pt x="420" y="196"/>
                  </a:lnTo>
                  <a:lnTo>
                    <a:pt x="424" y="203"/>
                  </a:lnTo>
                  <a:lnTo>
                    <a:pt x="428" y="211"/>
                  </a:lnTo>
                  <a:lnTo>
                    <a:pt x="430" y="218"/>
                  </a:lnTo>
                  <a:lnTo>
                    <a:pt x="433" y="226"/>
                  </a:lnTo>
                  <a:lnTo>
                    <a:pt x="437" y="236"/>
                  </a:lnTo>
                  <a:lnTo>
                    <a:pt x="441" y="243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7" y="268"/>
                  </a:lnTo>
                  <a:lnTo>
                    <a:pt x="450" y="275"/>
                  </a:lnTo>
                  <a:lnTo>
                    <a:pt x="452" y="281"/>
                  </a:lnTo>
                  <a:lnTo>
                    <a:pt x="456" y="289"/>
                  </a:lnTo>
                  <a:lnTo>
                    <a:pt x="458" y="296"/>
                  </a:lnTo>
                  <a:lnTo>
                    <a:pt x="460" y="302"/>
                  </a:lnTo>
                  <a:lnTo>
                    <a:pt x="464" y="315"/>
                  </a:lnTo>
                  <a:lnTo>
                    <a:pt x="469" y="329"/>
                  </a:lnTo>
                  <a:lnTo>
                    <a:pt x="469" y="340"/>
                  </a:lnTo>
                  <a:lnTo>
                    <a:pt x="471" y="351"/>
                  </a:lnTo>
                  <a:lnTo>
                    <a:pt x="469" y="365"/>
                  </a:lnTo>
                  <a:lnTo>
                    <a:pt x="466" y="376"/>
                  </a:lnTo>
                  <a:lnTo>
                    <a:pt x="462" y="382"/>
                  </a:lnTo>
                  <a:lnTo>
                    <a:pt x="460" y="391"/>
                  </a:lnTo>
                  <a:lnTo>
                    <a:pt x="456" y="401"/>
                  </a:lnTo>
                  <a:lnTo>
                    <a:pt x="454" y="412"/>
                  </a:lnTo>
                  <a:lnTo>
                    <a:pt x="450" y="422"/>
                  </a:lnTo>
                  <a:lnTo>
                    <a:pt x="447" y="435"/>
                  </a:lnTo>
                  <a:lnTo>
                    <a:pt x="443" y="441"/>
                  </a:lnTo>
                  <a:lnTo>
                    <a:pt x="441" y="448"/>
                  </a:lnTo>
                  <a:lnTo>
                    <a:pt x="439" y="456"/>
                  </a:lnTo>
                  <a:lnTo>
                    <a:pt x="437" y="464"/>
                  </a:lnTo>
                  <a:lnTo>
                    <a:pt x="431" y="475"/>
                  </a:lnTo>
                  <a:lnTo>
                    <a:pt x="426" y="488"/>
                  </a:lnTo>
                  <a:lnTo>
                    <a:pt x="418" y="500"/>
                  </a:lnTo>
                  <a:lnTo>
                    <a:pt x="411" y="513"/>
                  </a:lnTo>
                  <a:lnTo>
                    <a:pt x="403" y="523"/>
                  </a:lnTo>
                  <a:lnTo>
                    <a:pt x="395" y="532"/>
                  </a:lnTo>
                  <a:lnTo>
                    <a:pt x="384" y="540"/>
                  </a:lnTo>
                  <a:lnTo>
                    <a:pt x="374" y="547"/>
                  </a:lnTo>
                  <a:lnTo>
                    <a:pt x="367" y="547"/>
                  </a:lnTo>
                  <a:lnTo>
                    <a:pt x="361" y="551"/>
                  </a:lnTo>
                  <a:lnTo>
                    <a:pt x="354" y="553"/>
                  </a:lnTo>
                  <a:lnTo>
                    <a:pt x="348" y="555"/>
                  </a:lnTo>
                  <a:lnTo>
                    <a:pt x="338" y="557"/>
                  </a:lnTo>
                  <a:lnTo>
                    <a:pt x="331" y="559"/>
                  </a:lnTo>
                  <a:lnTo>
                    <a:pt x="325" y="561"/>
                  </a:lnTo>
                  <a:lnTo>
                    <a:pt x="317" y="562"/>
                  </a:lnTo>
                  <a:lnTo>
                    <a:pt x="308" y="564"/>
                  </a:lnTo>
                  <a:lnTo>
                    <a:pt x="300" y="564"/>
                  </a:lnTo>
                  <a:lnTo>
                    <a:pt x="291" y="566"/>
                  </a:lnTo>
                  <a:lnTo>
                    <a:pt x="283" y="568"/>
                  </a:lnTo>
                  <a:lnTo>
                    <a:pt x="276" y="568"/>
                  </a:lnTo>
                  <a:lnTo>
                    <a:pt x="266" y="570"/>
                  </a:lnTo>
                  <a:lnTo>
                    <a:pt x="258" y="570"/>
                  </a:lnTo>
                  <a:lnTo>
                    <a:pt x="251" y="574"/>
                  </a:lnTo>
                  <a:lnTo>
                    <a:pt x="243" y="574"/>
                  </a:lnTo>
                  <a:lnTo>
                    <a:pt x="234" y="574"/>
                  </a:lnTo>
                  <a:lnTo>
                    <a:pt x="228" y="574"/>
                  </a:lnTo>
                  <a:lnTo>
                    <a:pt x="220" y="576"/>
                  </a:lnTo>
                  <a:lnTo>
                    <a:pt x="207" y="578"/>
                  </a:lnTo>
                  <a:lnTo>
                    <a:pt x="198" y="578"/>
                  </a:lnTo>
                  <a:lnTo>
                    <a:pt x="188" y="578"/>
                  </a:lnTo>
                  <a:lnTo>
                    <a:pt x="181" y="580"/>
                  </a:lnTo>
                  <a:lnTo>
                    <a:pt x="177" y="580"/>
                  </a:lnTo>
                  <a:lnTo>
                    <a:pt x="177" y="580"/>
                  </a:lnTo>
                  <a:lnTo>
                    <a:pt x="177" y="578"/>
                  </a:lnTo>
                  <a:lnTo>
                    <a:pt x="179" y="574"/>
                  </a:lnTo>
                  <a:lnTo>
                    <a:pt x="182" y="566"/>
                  </a:lnTo>
                  <a:lnTo>
                    <a:pt x="190" y="561"/>
                  </a:lnTo>
                  <a:lnTo>
                    <a:pt x="196" y="549"/>
                  </a:lnTo>
                  <a:lnTo>
                    <a:pt x="203" y="538"/>
                  </a:lnTo>
                  <a:lnTo>
                    <a:pt x="211" y="526"/>
                  </a:lnTo>
                  <a:lnTo>
                    <a:pt x="222" y="513"/>
                  </a:lnTo>
                  <a:lnTo>
                    <a:pt x="226" y="505"/>
                  </a:lnTo>
                  <a:lnTo>
                    <a:pt x="232" y="500"/>
                  </a:lnTo>
                  <a:lnTo>
                    <a:pt x="236" y="492"/>
                  </a:lnTo>
                  <a:lnTo>
                    <a:pt x="241" y="485"/>
                  </a:lnTo>
                  <a:lnTo>
                    <a:pt x="243" y="477"/>
                  </a:lnTo>
                  <a:lnTo>
                    <a:pt x="249" y="471"/>
                  </a:lnTo>
                  <a:lnTo>
                    <a:pt x="255" y="464"/>
                  </a:lnTo>
                  <a:lnTo>
                    <a:pt x="258" y="458"/>
                  </a:lnTo>
                  <a:lnTo>
                    <a:pt x="262" y="450"/>
                  </a:lnTo>
                  <a:lnTo>
                    <a:pt x="266" y="443"/>
                  </a:lnTo>
                  <a:lnTo>
                    <a:pt x="270" y="435"/>
                  </a:lnTo>
                  <a:lnTo>
                    <a:pt x="274" y="429"/>
                  </a:lnTo>
                  <a:lnTo>
                    <a:pt x="279" y="418"/>
                  </a:lnTo>
                  <a:lnTo>
                    <a:pt x="283" y="409"/>
                  </a:lnTo>
                  <a:lnTo>
                    <a:pt x="285" y="399"/>
                  </a:lnTo>
                  <a:lnTo>
                    <a:pt x="287" y="390"/>
                  </a:lnTo>
                  <a:lnTo>
                    <a:pt x="287" y="378"/>
                  </a:lnTo>
                  <a:lnTo>
                    <a:pt x="289" y="369"/>
                  </a:lnTo>
                  <a:lnTo>
                    <a:pt x="287" y="357"/>
                  </a:lnTo>
                  <a:lnTo>
                    <a:pt x="285" y="348"/>
                  </a:lnTo>
                  <a:lnTo>
                    <a:pt x="283" y="338"/>
                  </a:lnTo>
                  <a:lnTo>
                    <a:pt x="281" y="331"/>
                  </a:lnTo>
                  <a:lnTo>
                    <a:pt x="276" y="319"/>
                  </a:lnTo>
                  <a:lnTo>
                    <a:pt x="274" y="310"/>
                  </a:lnTo>
                  <a:lnTo>
                    <a:pt x="266" y="300"/>
                  </a:lnTo>
                  <a:lnTo>
                    <a:pt x="262" y="293"/>
                  </a:lnTo>
                  <a:lnTo>
                    <a:pt x="257" y="283"/>
                  </a:lnTo>
                  <a:lnTo>
                    <a:pt x="251" y="275"/>
                  </a:lnTo>
                  <a:lnTo>
                    <a:pt x="243" y="268"/>
                  </a:lnTo>
                  <a:lnTo>
                    <a:pt x="238" y="262"/>
                  </a:lnTo>
                  <a:lnTo>
                    <a:pt x="228" y="255"/>
                  </a:lnTo>
                  <a:lnTo>
                    <a:pt x="219" y="251"/>
                  </a:lnTo>
                  <a:lnTo>
                    <a:pt x="211" y="245"/>
                  </a:lnTo>
                  <a:lnTo>
                    <a:pt x="201" y="241"/>
                  </a:lnTo>
                  <a:lnTo>
                    <a:pt x="192" y="236"/>
                  </a:lnTo>
                  <a:lnTo>
                    <a:pt x="182" y="232"/>
                  </a:lnTo>
                  <a:lnTo>
                    <a:pt x="173" y="228"/>
                  </a:lnTo>
                  <a:lnTo>
                    <a:pt x="165" y="226"/>
                  </a:lnTo>
                  <a:lnTo>
                    <a:pt x="156" y="222"/>
                  </a:lnTo>
                  <a:lnTo>
                    <a:pt x="148" y="218"/>
                  </a:lnTo>
                  <a:lnTo>
                    <a:pt x="139" y="215"/>
                  </a:lnTo>
                  <a:lnTo>
                    <a:pt x="131" y="213"/>
                  </a:lnTo>
                  <a:lnTo>
                    <a:pt x="122" y="209"/>
                  </a:lnTo>
                  <a:lnTo>
                    <a:pt x="116" y="205"/>
                  </a:lnTo>
                  <a:lnTo>
                    <a:pt x="108" y="201"/>
                  </a:lnTo>
                  <a:lnTo>
                    <a:pt x="103" y="199"/>
                  </a:lnTo>
                  <a:lnTo>
                    <a:pt x="93" y="190"/>
                  </a:lnTo>
                  <a:lnTo>
                    <a:pt x="87" y="180"/>
                  </a:lnTo>
                  <a:lnTo>
                    <a:pt x="82" y="171"/>
                  </a:lnTo>
                  <a:lnTo>
                    <a:pt x="78" y="161"/>
                  </a:lnTo>
                  <a:lnTo>
                    <a:pt x="76" y="154"/>
                  </a:lnTo>
                  <a:lnTo>
                    <a:pt x="74" y="148"/>
                  </a:lnTo>
                  <a:lnTo>
                    <a:pt x="72" y="141"/>
                  </a:lnTo>
                  <a:lnTo>
                    <a:pt x="70" y="135"/>
                  </a:lnTo>
                  <a:lnTo>
                    <a:pt x="66" y="125"/>
                  </a:lnTo>
                  <a:lnTo>
                    <a:pt x="65" y="120"/>
                  </a:lnTo>
                  <a:lnTo>
                    <a:pt x="63" y="112"/>
                  </a:lnTo>
                  <a:lnTo>
                    <a:pt x="61" y="104"/>
                  </a:lnTo>
                  <a:lnTo>
                    <a:pt x="55" y="95"/>
                  </a:lnTo>
                  <a:lnTo>
                    <a:pt x="51" y="87"/>
                  </a:lnTo>
                  <a:lnTo>
                    <a:pt x="46" y="78"/>
                  </a:lnTo>
                  <a:lnTo>
                    <a:pt x="42" y="70"/>
                  </a:lnTo>
                  <a:lnTo>
                    <a:pt x="36" y="61"/>
                  </a:lnTo>
                  <a:lnTo>
                    <a:pt x="32" y="53"/>
                  </a:lnTo>
                  <a:lnTo>
                    <a:pt x="25" y="45"/>
                  </a:lnTo>
                  <a:lnTo>
                    <a:pt x="23" y="38"/>
                  </a:lnTo>
                  <a:lnTo>
                    <a:pt x="17" y="30"/>
                  </a:lnTo>
                  <a:lnTo>
                    <a:pt x="13" y="23"/>
                  </a:lnTo>
                  <a:lnTo>
                    <a:pt x="9" y="17"/>
                  </a:lnTo>
                  <a:lnTo>
                    <a:pt x="6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890640" y="2637360"/>
            <a:ext cx="2623680" cy="2360880"/>
            <a:chOff x="890640" y="2637360"/>
            <a:chExt cx="2623680" cy="2360880"/>
          </a:xfrm>
        </p:grpSpPr>
        <p:sp>
          <p:nvSpPr>
            <p:cNvPr id="4133" name=""/>
            <p:cNvSpPr/>
            <p:nvPr/>
          </p:nvSpPr>
          <p:spPr>
            <a:xfrm rot="8868000">
              <a:off x="1252080" y="3754800"/>
              <a:ext cx="2226960" cy="704160"/>
            </a:xfrm>
            <a:custGeom>
              <a:avLst/>
              <a:gdLst/>
              <a:ahLst/>
              <a:rect l="l" t="t" r="r" b="b"/>
              <a:pathLst>
                <a:path w="3951" h="1725">
                  <a:moveTo>
                    <a:pt x="653" y="1725"/>
                  </a:moveTo>
                  <a:lnTo>
                    <a:pt x="643" y="1704"/>
                  </a:lnTo>
                  <a:lnTo>
                    <a:pt x="628" y="1683"/>
                  </a:lnTo>
                  <a:lnTo>
                    <a:pt x="575" y="1632"/>
                  </a:lnTo>
                  <a:lnTo>
                    <a:pt x="518" y="1584"/>
                  </a:lnTo>
                  <a:lnTo>
                    <a:pt x="457" y="1539"/>
                  </a:lnTo>
                  <a:lnTo>
                    <a:pt x="394" y="1495"/>
                  </a:lnTo>
                  <a:lnTo>
                    <a:pt x="331" y="1451"/>
                  </a:lnTo>
                  <a:lnTo>
                    <a:pt x="270" y="1408"/>
                  </a:lnTo>
                  <a:lnTo>
                    <a:pt x="211" y="1362"/>
                  </a:lnTo>
                  <a:lnTo>
                    <a:pt x="156" y="1314"/>
                  </a:lnTo>
                  <a:lnTo>
                    <a:pt x="108" y="1265"/>
                  </a:lnTo>
                  <a:lnTo>
                    <a:pt x="66" y="1212"/>
                  </a:lnTo>
                  <a:lnTo>
                    <a:pt x="34" y="1155"/>
                  </a:lnTo>
                  <a:lnTo>
                    <a:pt x="11" y="1092"/>
                  </a:lnTo>
                  <a:lnTo>
                    <a:pt x="0" y="1025"/>
                  </a:lnTo>
                  <a:lnTo>
                    <a:pt x="2" y="949"/>
                  </a:lnTo>
                  <a:lnTo>
                    <a:pt x="17" y="867"/>
                  </a:lnTo>
                  <a:lnTo>
                    <a:pt x="49" y="776"/>
                  </a:lnTo>
                  <a:lnTo>
                    <a:pt x="76" y="717"/>
                  </a:lnTo>
                  <a:lnTo>
                    <a:pt x="110" y="660"/>
                  </a:lnTo>
                  <a:lnTo>
                    <a:pt x="148" y="603"/>
                  </a:lnTo>
                  <a:lnTo>
                    <a:pt x="190" y="546"/>
                  </a:lnTo>
                  <a:lnTo>
                    <a:pt x="238" y="493"/>
                  </a:lnTo>
                  <a:lnTo>
                    <a:pt x="287" y="439"/>
                  </a:lnTo>
                  <a:lnTo>
                    <a:pt x="342" y="390"/>
                  </a:lnTo>
                  <a:lnTo>
                    <a:pt x="400" y="342"/>
                  </a:lnTo>
                  <a:lnTo>
                    <a:pt x="457" y="297"/>
                  </a:lnTo>
                  <a:lnTo>
                    <a:pt x="518" y="253"/>
                  </a:lnTo>
                  <a:lnTo>
                    <a:pt x="580" y="215"/>
                  </a:lnTo>
                  <a:lnTo>
                    <a:pt x="643" y="179"/>
                  </a:lnTo>
                  <a:lnTo>
                    <a:pt x="706" y="146"/>
                  </a:lnTo>
                  <a:lnTo>
                    <a:pt x="769" y="118"/>
                  </a:lnTo>
                  <a:lnTo>
                    <a:pt x="830" y="93"/>
                  </a:lnTo>
                  <a:lnTo>
                    <a:pt x="891" y="74"/>
                  </a:lnTo>
                  <a:lnTo>
                    <a:pt x="976" y="53"/>
                  </a:lnTo>
                  <a:lnTo>
                    <a:pt x="1064" y="36"/>
                  </a:lnTo>
                  <a:lnTo>
                    <a:pt x="1151" y="21"/>
                  </a:lnTo>
                  <a:lnTo>
                    <a:pt x="1241" y="11"/>
                  </a:lnTo>
                  <a:lnTo>
                    <a:pt x="1332" y="4"/>
                  </a:lnTo>
                  <a:lnTo>
                    <a:pt x="1424" y="0"/>
                  </a:lnTo>
                  <a:lnTo>
                    <a:pt x="1515" y="0"/>
                  </a:lnTo>
                  <a:lnTo>
                    <a:pt x="1608" y="4"/>
                  </a:lnTo>
                  <a:lnTo>
                    <a:pt x="1701" y="9"/>
                  </a:lnTo>
                  <a:lnTo>
                    <a:pt x="1797" y="19"/>
                  </a:lnTo>
                  <a:lnTo>
                    <a:pt x="1890" y="30"/>
                  </a:lnTo>
                  <a:lnTo>
                    <a:pt x="1983" y="47"/>
                  </a:lnTo>
                  <a:lnTo>
                    <a:pt x="2078" y="65"/>
                  </a:lnTo>
                  <a:lnTo>
                    <a:pt x="2172" y="86"/>
                  </a:lnTo>
                  <a:lnTo>
                    <a:pt x="2265" y="110"/>
                  </a:lnTo>
                  <a:lnTo>
                    <a:pt x="2356" y="137"/>
                  </a:lnTo>
                  <a:lnTo>
                    <a:pt x="2447" y="167"/>
                  </a:lnTo>
                  <a:lnTo>
                    <a:pt x="2539" y="198"/>
                  </a:lnTo>
                  <a:lnTo>
                    <a:pt x="2628" y="234"/>
                  </a:lnTo>
                  <a:lnTo>
                    <a:pt x="2716" y="270"/>
                  </a:lnTo>
                  <a:lnTo>
                    <a:pt x="2803" y="310"/>
                  </a:lnTo>
                  <a:lnTo>
                    <a:pt x="2889" y="352"/>
                  </a:lnTo>
                  <a:lnTo>
                    <a:pt x="2973" y="396"/>
                  </a:lnTo>
                  <a:lnTo>
                    <a:pt x="3055" y="441"/>
                  </a:lnTo>
                  <a:lnTo>
                    <a:pt x="3135" y="489"/>
                  </a:lnTo>
                  <a:lnTo>
                    <a:pt x="3213" y="540"/>
                  </a:lnTo>
                  <a:lnTo>
                    <a:pt x="3287" y="592"/>
                  </a:lnTo>
                  <a:lnTo>
                    <a:pt x="3361" y="647"/>
                  </a:lnTo>
                  <a:lnTo>
                    <a:pt x="3430" y="702"/>
                  </a:lnTo>
                  <a:lnTo>
                    <a:pt x="3498" y="761"/>
                  </a:lnTo>
                  <a:lnTo>
                    <a:pt x="3563" y="820"/>
                  </a:lnTo>
                  <a:lnTo>
                    <a:pt x="3624" y="881"/>
                  </a:lnTo>
                  <a:lnTo>
                    <a:pt x="3690" y="955"/>
                  </a:lnTo>
                  <a:lnTo>
                    <a:pt x="3751" y="1031"/>
                  </a:lnTo>
                  <a:lnTo>
                    <a:pt x="3803" y="1107"/>
                  </a:lnTo>
                  <a:lnTo>
                    <a:pt x="3846" y="1183"/>
                  </a:lnTo>
                  <a:lnTo>
                    <a:pt x="3883" y="1261"/>
                  </a:lnTo>
                  <a:lnTo>
                    <a:pt x="3911" y="1339"/>
                  </a:lnTo>
                  <a:lnTo>
                    <a:pt x="3932" y="1419"/>
                  </a:lnTo>
                  <a:lnTo>
                    <a:pt x="3945" y="1499"/>
                  </a:lnTo>
                  <a:lnTo>
                    <a:pt x="3951" y="1579"/>
                  </a:lnTo>
                  <a:lnTo>
                    <a:pt x="3951" y="1661"/>
                  </a:lnTo>
                  <a:lnTo>
                    <a:pt x="3943" y="1725"/>
                  </a:lnTo>
                  <a:lnTo>
                    <a:pt x="1709" y="1725"/>
                  </a:lnTo>
                  <a:lnTo>
                    <a:pt x="1715" y="1716"/>
                  </a:lnTo>
                  <a:lnTo>
                    <a:pt x="1722" y="1695"/>
                  </a:lnTo>
                  <a:lnTo>
                    <a:pt x="1726" y="1674"/>
                  </a:lnTo>
                  <a:lnTo>
                    <a:pt x="1728" y="1653"/>
                  </a:lnTo>
                  <a:lnTo>
                    <a:pt x="1724" y="1632"/>
                  </a:lnTo>
                  <a:lnTo>
                    <a:pt x="1717" y="1613"/>
                  </a:lnTo>
                  <a:lnTo>
                    <a:pt x="1707" y="1594"/>
                  </a:lnTo>
                  <a:lnTo>
                    <a:pt x="1694" y="1579"/>
                  </a:lnTo>
                  <a:lnTo>
                    <a:pt x="1677" y="1564"/>
                  </a:lnTo>
                  <a:lnTo>
                    <a:pt x="1656" y="1550"/>
                  </a:lnTo>
                  <a:lnTo>
                    <a:pt x="1635" y="1539"/>
                  </a:lnTo>
                  <a:lnTo>
                    <a:pt x="1608" y="1529"/>
                  </a:lnTo>
                  <a:lnTo>
                    <a:pt x="1581" y="1520"/>
                  </a:lnTo>
                  <a:lnTo>
                    <a:pt x="1553" y="1514"/>
                  </a:lnTo>
                  <a:lnTo>
                    <a:pt x="1521" y="1510"/>
                  </a:lnTo>
                  <a:lnTo>
                    <a:pt x="1488" y="1506"/>
                  </a:lnTo>
                  <a:lnTo>
                    <a:pt x="1454" y="1506"/>
                  </a:lnTo>
                  <a:lnTo>
                    <a:pt x="1418" y="1508"/>
                  </a:lnTo>
                  <a:lnTo>
                    <a:pt x="1382" y="1512"/>
                  </a:lnTo>
                  <a:lnTo>
                    <a:pt x="1345" y="1518"/>
                  </a:lnTo>
                  <a:lnTo>
                    <a:pt x="1307" y="1525"/>
                  </a:lnTo>
                  <a:lnTo>
                    <a:pt x="1271" y="1537"/>
                  </a:lnTo>
                  <a:lnTo>
                    <a:pt x="1235" y="1548"/>
                  </a:lnTo>
                  <a:lnTo>
                    <a:pt x="1201" y="1562"/>
                  </a:lnTo>
                  <a:lnTo>
                    <a:pt x="1168" y="1577"/>
                  </a:lnTo>
                  <a:lnTo>
                    <a:pt x="1138" y="1594"/>
                  </a:lnTo>
                  <a:lnTo>
                    <a:pt x="1111" y="1611"/>
                  </a:lnTo>
                  <a:lnTo>
                    <a:pt x="1087" y="1630"/>
                  </a:lnTo>
                  <a:lnTo>
                    <a:pt x="1064" y="1649"/>
                  </a:lnTo>
                  <a:lnTo>
                    <a:pt x="1043" y="1670"/>
                  </a:lnTo>
                  <a:lnTo>
                    <a:pt x="1026" y="1691"/>
                  </a:lnTo>
                  <a:lnTo>
                    <a:pt x="1011" y="1712"/>
                  </a:lnTo>
                  <a:lnTo>
                    <a:pt x="1003" y="1725"/>
                  </a:lnTo>
                  <a:lnTo>
                    <a:pt x="653" y="1725"/>
                  </a:lnTo>
                  <a:close/>
                </a:path>
              </a:pathLst>
            </a:custGeom>
            <a:solidFill>
              <a:srgbClr val="45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rot="8868000">
              <a:off x="2228760" y="3456720"/>
              <a:ext cx="430920" cy="209880"/>
            </a:xfrm>
            <a:custGeom>
              <a:avLst/>
              <a:gdLst/>
              <a:ahLst/>
              <a:rect l="l" t="t" r="r" b="b"/>
              <a:pathLst>
                <a:path w="742" h="436">
                  <a:moveTo>
                    <a:pt x="4" y="310"/>
                  </a:moveTo>
                  <a:lnTo>
                    <a:pt x="11" y="330"/>
                  </a:lnTo>
                  <a:lnTo>
                    <a:pt x="21" y="349"/>
                  </a:lnTo>
                  <a:lnTo>
                    <a:pt x="34" y="364"/>
                  </a:lnTo>
                  <a:lnTo>
                    <a:pt x="51" y="379"/>
                  </a:lnTo>
                  <a:lnTo>
                    <a:pt x="72" y="392"/>
                  </a:lnTo>
                  <a:lnTo>
                    <a:pt x="93" y="404"/>
                  </a:lnTo>
                  <a:lnTo>
                    <a:pt x="120" y="413"/>
                  </a:lnTo>
                  <a:lnTo>
                    <a:pt x="146" y="423"/>
                  </a:lnTo>
                  <a:lnTo>
                    <a:pt x="175" y="428"/>
                  </a:lnTo>
                  <a:lnTo>
                    <a:pt x="207" y="432"/>
                  </a:lnTo>
                  <a:lnTo>
                    <a:pt x="240" y="436"/>
                  </a:lnTo>
                  <a:lnTo>
                    <a:pt x="274" y="436"/>
                  </a:lnTo>
                  <a:lnTo>
                    <a:pt x="310" y="434"/>
                  </a:lnTo>
                  <a:lnTo>
                    <a:pt x="346" y="430"/>
                  </a:lnTo>
                  <a:lnTo>
                    <a:pt x="382" y="425"/>
                  </a:lnTo>
                  <a:lnTo>
                    <a:pt x="420" y="417"/>
                  </a:lnTo>
                  <a:lnTo>
                    <a:pt x="457" y="406"/>
                  </a:lnTo>
                  <a:lnTo>
                    <a:pt x="493" y="394"/>
                  </a:lnTo>
                  <a:lnTo>
                    <a:pt x="527" y="381"/>
                  </a:lnTo>
                  <a:lnTo>
                    <a:pt x="559" y="366"/>
                  </a:lnTo>
                  <a:lnTo>
                    <a:pt x="590" y="349"/>
                  </a:lnTo>
                  <a:lnTo>
                    <a:pt x="616" y="331"/>
                  </a:lnTo>
                  <a:lnTo>
                    <a:pt x="641" y="312"/>
                  </a:lnTo>
                  <a:lnTo>
                    <a:pt x="666" y="293"/>
                  </a:lnTo>
                  <a:lnTo>
                    <a:pt x="685" y="272"/>
                  </a:lnTo>
                  <a:lnTo>
                    <a:pt x="702" y="252"/>
                  </a:lnTo>
                  <a:lnTo>
                    <a:pt x="717" y="231"/>
                  </a:lnTo>
                  <a:lnTo>
                    <a:pt x="729" y="210"/>
                  </a:lnTo>
                  <a:lnTo>
                    <a:pt x="736" y="189"/>
                  </a:lnTo>
                  <a:lnTo>
                    <a:pt x="740" y="168"/>
                  </a:lnTo>
                  <a:lnTo>
                    <a:pt x="742" y="147"/>
                  </a:lnTo>
                  <a:lnTo>
                    <a:pt x="738" y="126"/>
                  </a:lnTo>
                  <a:lnTo>
                    <a:pt x="731" y="107"/>
                  </a:lnTo>
                  <a:lnTo>
                    <a:pt x="721" y="88"/>
                  </a:lnTo>
                  <a:lnTo>
                    <a:pt x="708" y="73"/>
                  </a:lnTo>
                  <a:lnTo>
                    <a:pt x="691" y="58"/>
                  </a:lnTo>
                  <a:lnTo>
                    <a:pt x="670" y="44"/>
                  </a:lnTo>
                  <a:lnTo>
                    <a:pt x="649" y="33"/>
                  </a:lnTo>
                  <a:lnTo>
                    <a:pt x="622" y="23"/>
                  </a:lnTo>
                  <a:lnTo>
                    <a:pt x="595" y="14"/>
                  </a:lnTo>
                  <a:lnTo>
                    <a:pt x="567" y="8"/>
                  </a:lnTo>
                  <a:lnTo>
                    <a:pt x="535" y="4"/>
                  </a:lnTo>
                  <a:lnTo>
                    <a:pt x="502" y="0"/>
                  </a:lnTo>
                  <a:lnTo>
                    <a:pt x="468" y="0"/>
                  </a:lnTo>
                  <a:lnTo>
                    <a:pt x="432" y="2"/>
                  </a:lnTo>
                  <a:lnTo>
                    <a:pt x="396" y="6"/>
                  </a:lnTo>
                  <a:lnTo>
                    <a:pt x="359" y="12"/>
                  </a:lnTo>
                  <a:lnTo>
                    <a:pt x="321" y="19"/>
                  </a:lnTo>
                  <a:lnTo>
                    <a:pt x="285" y="31"/>
                  </a:lnTo>
                  <a:lnTo>
                    <a:pt x="249" y="42"/>
                  </a:lnTo>
                  <a:lnTo>
                    <a:pt x="215" y="56"/>
                  </a:lnTo>
                  <a:lnTo>
                    <a:pt x="182" y="71"/>
                  </a:lnTo>
                  <a:lnTo>
                    <a:pt x="152" y="88"/>
                  </a:lnTo>
                  <a:lnTo>
                    <a:pt x="125" y="105"/>
                  </a:lnTo>
                  <a:lnTo>
                    <a:pt x="101" y="124"/>
                  </a:lnTo>
                  <a:lnTo>
                    <a:pt x="78" y="143"/>
                  </a:lnTo>
                  <a:lnTo>
                    <a:pt x="57" y="164"/>
                  </a:lnTo>
                  <a:lnTo>
                    <a:pt x="40" y="185"/>
                  </a:lnTo>
                  <a:lnTo>
                    <a:pt x="25" y="206"/>
                  </a:lnTo>
                  <a:lnTo>
                    <a:pt x="13" y="227"/>
                  </a:lnTo>
                  <a:lnTo>
                    <a:pt x="5" y="248"/>
                  </a:lnTo>
                  <a:lnTo>
                    <a:pt x="2" y="269"/>
                  </a:lnTo>
                  <a:lnTo>
                    <a:pt x="0" y="290"/>
                  </a:lnTo>
                  <a:lnTo>
                    <a:pt x="4" y="310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rot="8868000">
              <a:off x="913680" y="3185280"/>
              <a:ext cx="2242440" cy="642240"/>
            </a:xfrm>
            <a:custGeom>
              <a:avLst/>
              <a:gdLst/>
              <a:ahLst/>
              <a:rect l="l" t="t" r="r" b="b"/>
              <a:pathLst>
                <a:path w="3871" h="1621">
                  <a:moveTo>
                    <a:pt x="725" y="0"/>
                  </a:moveTo>
                  <a:lnTo>
                    <a:pt x="727" y="6"/>
                  </a:lnTo>
                  <a:lnTo>
                    <a:pt x="739" y="38"/>
                  </a:lnTo>
                  <a:lnTo>
                    <a:pt x="748" y="73"/>
                  </a:lnTo>
                  <a:lnTo>
                    <a:pt x="752" y="109"/>
                  </a:lnTo>
                  <a:lnTo>
                    <a:pt x="754" y="139"/>
                  </a:lnTo>
                  <a:lnTo>
                    <a:pt x="748" y="168"/>
                  </a:lnTo>
                  <a:lnTo>
                    <a:pt x="737" y="187"/>
                  </a:lnTo>
                  <a:lnTo>
                    <a:pt x="710" y="217"/>
                  </a:lnTo>
                  <a:lnTo>
                    <a:pt x="676" y="250"/>
                  </a:lnTo>
                  <a:lnTo>
                    <a:pt x="636" y="284"/>
                  </a:lnTo>
                  <a:lnTo>
                    <a:pt x="594" y="316"/>
                  </a:lnTo>
                  <a:lnTo>
                    <a:pt x="550" y="347"/>
                  </a:lnTo>
                  <a:lnTo>
                    <a:pt x="508" y="375"/>
                  </a:lnTo>
                  <a:lnTo>
                    <a:pt x="472" y="400"/>
                  </a:lnTo>
                  <a:lnTo>
                    <a:pt x="442" y="417"/>
                  </a:lnTo>
                  <a:lnTo>
                    <a:pt x="371" y="451"/>
                  </a:lnTo>
                  <a:lnTo>
                    <a:pt x="303" y="489"/>
                  </a:lnTo>
                  <a:lnTo>
                    <a:pt x="240" y="531"/>
                  </a:lnTo>
                  <a:lnTo>
                    <a:pt x="181" y="577"/>
                  </a:lnTo>
                  <a:lnTo>
                    <a:pt x="130" y="626"/>
                  </a:lnTo>
                  <a:lnTo>
                    <a:pt x="86" y="678"/>
                  </a:lnTo>
                  <a:lnTo>
                    <a:pt x="50" y="733"/>
                  </a:lnTo>
                  <a:lnTo>
                    <a:pt x="23" y="790"/>
                  </a:lnTo>
                  <a:lnTo>
                    <a:pt x="6" y="849"/>
                  </a:lnTo>
                  <a:lnTo>
                    <a:pt x="0" y="908"/>
                  </a:lnTo>
                  <a:lnTo>
                    <a:pt x="8" y="969"/>
                  </a:lnTo>
                  <a:lnTo>
                    <a:pt x="27" y="1030"/>
                  </a:lnTo>
                  <a:lnTo>
                    <a:pt x="61" y="1092"/>
                  </a:lnTo>
                  <a:lnTo>
                    <a:pt x="109" y="1153"/>
                  </a:lnTo>
                  <a:lnTo>
                    <a:pt x="173" y="1214"/>
                  </a:lnTo>
                  <a:lnTo>
                    <a:pt x="255" y="1273"/>
                  </a:lnTo>
                  <a:lnTo>
                    <a:pt x="289" y="1294"/>
                  </a:lnTo>
                  <a:lnTo>
                    <a:pt x="324" y="1315"/>
                  </a:lnTo>
                  <a:lnTo>
                    <a:pt x="358" y="1336"/>
                  </a:lnTo>
                  <a:lnTo>
                    <a:pt x="394" y="1357"/>
                  </a:lnTo>
                  <a:lnTo>
                    <a:pt x="430" y="1376"/>
                  </a:lnTo>
                  <a:lnTo>
                    <a:pt x="468" y="1395"/>
                  </a:lnTo>
                  <a:lnTo>
                    <a:pt x="506" y="1414"/>
                  </a:lnTo>
                  <a:lnTo>
                    <a:pt x="544" y="1433"/>
                  </a:lnTo>
                  <a:lnTo>
                    <a:pt x="584" y="1450"/>
                  </a:lnTo>
                  <a:lnTo>
                    <a:pt x="624" y="1467"/>
                  </a:lnTo>
                  <a:lnTo>
                    <a:pt x="666" y="1484"/>
                  </a:lnTo>
                  <a:lnTo>
                    <a:pt x="708" y="1499"/>
                  </a:lnTo>
                  <a:lnTo>
                    <a:pt x="752" y="1515"/>
                  </a:lnTo>
                  <a:lnTo>
                    <a:pt x="796" y="1528"/>
                  </a:lnTo>
                  <a:lnTo>
                    <a:pt x="841" y="1541"/>
                  </a:lnTo>
                  <a:lnTo>
                    <a:pt x="887" y="1555"/>
                  </a:lnTo>
                  <a:lnTo>
                    <a:pt x="933" y="1566"/>
                  </a:lnTo>
                  <a:lnTo>
                    <a:pt x="980" y="1575"/>
                  </a:lnTo>
                  <a:lnTo>
                    <a:pt x="1030" y="1585"/>
                  </a:lnTo>
                  <a:lnTo>
                    <a:pt x="1079" y="1594"/>
                  </a:lnTo>
                  <a:lnTo>
                    <a:pt x="1129" y="1602"/>
                  </a:lnTo>
                  <a:lnTo>
                    <a:pt x="1180" y="1608"/>
                  </a:lnTo>
                  <a:lnTo>
                    <a:pt x="1232" y="1613"/>
                  </a:lnTo>
                  <a:lnTo>
                    <a:pt x="1285" y="1617"/>
                  </a:lnTo>
                  <a:lnTo>
                    <a:pt x="1338" y="1619"/>
                  </a:lnTo>
                  <a:lnTo>
                    <a:pt x="1393" y="1621"/>
                  </a:lnTo>
                  <a:lnTo>
                    <a:pt x="1449" y="1621"/>
                  </a:lnTo>
                  <a:lnTo>
                    <a:pt x="1504" y="1621"/>
                  </a:lnTo>
                  <a:lnTo>
                    <a:pt x="1563" y="1619"/>
                  </a:lnTo>
                  <a:lnTo>
                    <a:pt x="1620" y="1613"/>
                  </a:lnTo>
                  <a:lnTo>
                    <a:pt x="1679" y="1610"/>
                  </a:lnTo>
                  <a:lnTo>
                    <a:pt x="1740" y="1602"/>
                  </a:lnTo>
                  <a:lnTo>
                    <a:pt x="1801" y="1593"/>
                  </a:lnTo>
                  <a:lnTo>
                    <a:pt x="1865" y="1583"/>
                  </a:lnTo>
                  <a:lnTo>
                    <a:pt x="1930" y="1572"/>
                  </a:lnTo>
                  <a:lnTo>
                    <a:pt x="1995" y="1556"/>
                  </a:lnTo>
                  <a:lnTo>
                    <a:pt x="2061" y="1541"/>
                  </a:lnTo>
                  <a:lnTo>
                    <a:pt x="2130" y="1522"/>
                  </a:lnTo>
                  <a:lnTo>
                    <a:pt x="2198" y="1503"/>
                  </a:lnTo>
                  <a:lnTo>
                    <a:pt x="2267" y="1482"/>
                  </a:lnTo>
                  <a:lnTo>
                    <a:pt x="2337" y="1458"/>
                  </a:lnTo>
                  <a:lnTo>
                    <a:pt x="2408" y="1433"/>
                  </a:lnTo>
                  <a:lnTo>
                    <a:pt x="2478" y="1406"/>
                  </a:lnTo>
                  <a:lnTo>
                    <a:pt x="2549" y="1378"/>
                  </a:lnTo>
                  <a:lnTo>
                    <a:pt x="2619" y="1347"/>
                  </a:lnTo>
                  <a:lnTo>
                    <a:pt x="2689" y="1315"/>
                  </a:lnTo>
                  <a:lnTo>
                    <a:pt x="2758" y="1279"/>
                  </a:lnTo>
                  <a:lnTo>
                    <a:pt x="2826" y="1243"/>
                  </a:lnTo>
                  <a:lnTo>
                    <a:pt x="2895" y="1205"/>
                  </a:lnTo>
                  <a:lnTo>
                    <a:pt x="2962" y="1165"/>
                  </a:lnTo>
                  <a:lnTo>
                    <a:pt x="3028" y="1123"/>
                  </a:lnTo>
                  <a:lnTo>
                    <a:pt x="3095" y="1079"/>
                  </a:lnTo>
                  <a:lnTo>
                    <a:pt x="3158" y="1033"/>
                  </a:lnTo>
                  <a:lnTo>
                    <a:pt x="3220" y="986"/>
                  </a:lnTo>
                  <a:lnTo>
                    <a:pt x="3281" y="936"/>
                  </a:lnTo>
                  <a:lnTo>
                    <a:pt x="3340" y="887"/>
                  </a:lnTo>
                  <a:lnTo>
                    <a:pt x="3397" y="834"/>
                  </a:lnTo>
                  <a:lnTo>
                    <a:pt x="3451" y="778"/>
                  </a:lnTo>
                  <a:lnTo>
                    <a:pt x="3504" y="721"/>
                  </a:lnTo>
                  <a:lnTo>
                    <a:pt x="3555" y="662"/>
                  </a:lnTo>
                  <a:lnTo>
                    <a:pt x="3603" y="602"/>
                  </a:lnTo>
                  <a:lnTo>
                    <a:pt x="3647" y="541"/>
                  </a:lnTo>
                  <a:lnTo>
                    <a:pt x="3689" y="476"/>
                  </a:lnTo>
                  <a:lnTo>
                    <a:pt x="3729" y="409"/>
                  </a:lnTo>
                  <a:lnTo>
                    <a:pt x="3771" y="331"/>
                  </a:lnTo>
                  <a:lnTo>
                    <a:pt x="3805" y="252"/>
                  </a:lnTo>
                  <a:lnTo>
                    <a:pt x="3833" y="174"/>
                  </a:lnTo>
                  <a:lnTo>
                    <a:pt x="3854" y="96"/>
                  </a:lnTo>
                  <a:lnTo>
                    <a:pt x="3869" y="18"/>
                  </a:lnTo>
                  <a:lnTo>
                    <a:pt x="3871" y="0"/>
                  </a:lnTo>
                  <a:lnTo>
                    <a:pt x="1734" y="0"/>
                  </a:lnTo>
                  <a:lnTo>
                    <a:pt x="1728" y="12"/>
                  </a:lnTo>
                  <a:lnTo>
                    <a:pt x="1715" y="33"/>
                  </a:lnTo>
                  <a:lnTo>
                    <a:pt x="1698" y="52"/>
                  </a:lnTo>
                  <a:lnTo>
                    <a:pt x="1679" y="71"/>
                  </a:lnTo>
                  <a:lnTo>
                    <a:pt x="1658" y="90"/>
                  </a:lnTo>
                  <a:lnTo>
                    <a:pt x="1633" y="107"/>
                  </a:lnTo>
                  <a:lnTo>
                    <a:pt x="1606" y="124"/>
                  </a:lnTo>
                  <a:lnTo>
                    <a:pt x="1578" y="139"/>
                  </a:lnTo>
                  <a:lnTo>
                    <a:pt x="1547" y="155"/>
                  </a:lnTo>
                  <a:lnTo>
                    <a:pt x="1515" y="168"/>
                  </a:lnTo>
                  <a:lnTo>
                    <a:pt x="1481" y="179"/>
                  </a:lnTo>
                  <a:lnTo>
                    <a:pt x="1445" y="189"/>
                  </a:lnTo>
                  <a:lnTo>
                    <a:pt x="1409" y="196"/>
                  </a:lnTo>
                  <a:lnTo>
                    <a:pt x="1374" y="202"/>
                  </a:lnTo>
                  <a:lnTo>
                    <a:pt x="1338" y="206"/>
                  </a:lnTo>
                  <a:lnTo>
                    <a:pt x="1306" y="208"/>
                  </a:lnTo>
                  <a:lnTo>
                    <a:pt x="1272" y="208"/>
                  </a:lnTo>
                  <a:lnTo>
                    <a:pt x="1241" y="206"/>
                  </a:lnTo>
                  <a:lnTo>
                    <a:pt x="1211" y="202"/>
                  </a:lnTo>
                  <a:lnTo>
                    <a:pt x="1184" y="194"/>
                  </a:lnTo>
                  <a:lnTo>
                    <a:pt x="1157" y="187"/>
                  </a:lnTo>
                  <a:lnTo>
                    <a:pt x="1133" y="177"/>
                  </a:lnTo>
                  <a:lnTo>
                    <a:pt x="1112" y="166"/>
                  </a:lnTo>
                  <a:lnTo>
                    <a:pt x="1093" y="153"/>
                  </a:lnTo>
                  <a:lnTo>
                    <a:pt x="1075" y="139"/>
                  </a:lnTo>
                  <a:lnTo>
                    <a:pt x="1064" y="122"/>
                  </a:lnTo>
                  <a:lnTo>
                    <a:pt x="1053" y="105"/>
                  </a:lnTo>
                  <a:lnTo>
                    <a:pt x="1047" y="86"/>
                  </a:lnTo>
                  <a:lnTo>
                    <a:pt x="1043" y="67"/>
                  </a:lnTo>
                  <a:lnTo>
                    <a:pt x="1045" y="46"/>
                  </a:lnTo>
                  <a:lnTo>
                    <a:pt x="1049" y="27"/>
                  </a:lnTo>
                  <a:lnTo>
                    <a:pt x="1056" y="6"/>
                  </a:lnTo>
                  <a:lnTo>
                    <a:pt x="1058" y="0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e6d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rot="8868000">
              <a:off x="1078920" y="3132000"/>
              <a:ext cx="2246760" cy="1355760"/>
            </a:xfrm>
            <a:custGeom>
              <a:avLst/>
              <a:gdLst/>
              <a:ahLst/>
              <a:rect l="l" t="t" r="r" b="b"/>
              <a:pathLst>
                <a:path w="3879" h="3270">
                  <a:moveTo>
                    <a:pt x="3565" y="843"/>
                  </a:moveTo>
                  <a:lnTo>
                    <a:pt x="3506" y="784"/>
                  </a:lnTo>
                  <a:lnTo>
                    <a:pt x="3445" y="727"/>
                  </a:lnTo>
                  <a:lnTo>
                    <a:pt x="3380" y="672"/>
                  </a:lnTo>
                  <a:lnTo>
                    <a:pt x="3314" y="618"/>
                  </a:lnTo>
                  <a:lnTo>
                    <a:pt x="3243" y="567"/>
                  </a:lnTo>
                  <a:lnTo>
                    <a:pt x="3171" y="518"/>
                  </a:lnTo>
                  <a:lnTo>
                    <a:pt x="3097" y="468"/>
                  </a:lnTo>
                  <a:lnTo>
                    <a:pt x="3021" y="423"/>
                  </a:lnTo>
                  <a:lnTo>
                    <a:pt x="2943" y="379"/>
                  </a:lnTo>
                  <a:lnTo>
                    <a:pt x="2863" y="337"/>
                  </a:lnTo>
                  <a:lnTo>
                    <a:pt x="2781" y="297"/>
                  </a:lnTo>
                  <a:lnTo>
                    <a:pt x="2697" y="259"/>
                  </a:lnTo>
                  <a:lnTo>
                    <a:pt x="2613" y="223"/>
                  </a:lnTo>
                  <a:lnTo>
                    <a:pt x="2528" y="190"/>
                  </a:lnTo>
                  <a:lnTo>
                    <a:pt x="2440" y="160"/>
                  </a:lnTo>
                  <a:lnTo>
                    <a:pt x="2353" y="132"/>
                  </a:lnTo>
                  <a:lnTo>
                    <a:pt x="2265" y="107"/>
                  </a:lnTo>
                  <a:lnTo>
                    <a:pt x="2176" y="82"/>
                  </a:lnTo>
                  <a:lnTo>
                    <a:pt x="2086" y="63"/>
                  </a:lnTo>
                  <a:lnTo>
                    <a:pt x="1997" y="44"/>
                  </a:lnTo>
                  <a:lnTo>
                    <a:pt x="1907" y="31"/>
                  </a:lnTo>
                  <a:lnTo>
                    <a:pt x="1816" y="17"/>
                  </a:lnTo>
                  <a:lnTo>
                    <a:pt x="1726" y="10"/>
                  </a:lnTo>
                  <a:lnTo>
                    <a:pt x="1637" y="2"/>
                  </a:lnTo>
                  <a:lnTo>
                    <a:pt x="1547" y="0"/>
                  </a:lnTo>
                  <a:lnTo>
                    <a:pt x="1460" y="0"/>
                  </a:lnTo>
                  <a:lnTo>
                    <a:pt x="1372" y="4"/>
                  </a:lnTo>
                  <a:lnTo>
                    <a:pt x="1285" y="10"/>
                  </a:lnTo>
                  <a:lnTo>
                    <a:pt x="1199" y="19"/>
                  </a:lnTo>
                  <a:lnTo>
                    <a:pt x="1115" y="33"/>
                  </a:lnTo>
                  <a:lnTo>
                    <a:pt x="1032" y="50"/>
                  </a:lnTo>
                  <a:lnTo>
                    <a:pt x="950" y="71"/>
                  </a:lnTo>
                  <a:lnTo>
                    <a:pt x="893" y="90"/>
                  </a:lnTo>
                  <a:lnTo>
                    <a:pt x="834" y="113"/>
                  </a:lnTo>
                  <a:lnTo>
                    <a:pt x="773" y="139"/>
                  </a:lnTo>
                  <a:lnTo>
                    <a:pt x="714" y="170"/>
                  </a:lnTo>
                  <a:lnTo>
                    <a:pt x="655" y="204"/>
                  </a:lnTo>
                  <a:lnTo>
                    <a:pt x="596" y="242"/>
                  </a:lnTo>
                  <a:lnTo>
                    <a:pt x="537" y="284"/>
                  </a:lnTo>
                  <a:lnTo>
                    <a:pt x="482" y="326"/>
                  </a:lnTo>
                  <a:lnTo>
                    <a:pt x="426" y="373"/>
                  </a:lnTo>
                  <a:lnTo>
                    <a:pt x="375" y="421"/>
                  </a:lnTo>
                  <a:lnTo>
                    <a:pt x="327" y="470"/>
                  </a:lnTo>
                  <a:lnTo>
                    <a:pt x="282" y="523"/>
                  </a:lnTo>
                  <a:lnTo>
                    <a:pt x="242" y="577"/>
                  </a:lnTo>
                  <a:lnTo>
                    <a:pt x="206" y="630"/>
                  </a:lnTo>
                  <a:lnTo>
                    <a:pt x="173" y="687"/>
                  </a:lnTo>
                  <a:lnTo>
                    <a:pt x="147" y="742"/>
                  </a:lnTo>
                  <a:lnTo>
                    <a:pt x="116" y="830"/>
                  </a:lnTo>
                  <a:lnTo>
                    <a:pt x="101" y="908"/>
                  </a:lnTo>
                  <a:lnTo>
                    <a:pt x="99" y="980"/>
                  </a:lnTo>
                  <a:lnTo>
                    <a:pt x="111" y="1045"/>
                  </a:lnTo>
                  <a:lnTo>
                    <a:pt x="131" y="1104"/>
                  </a:lnTo>
                  <a:lnTo>
                    <a:pt x="164" y="1159"/>
                  </a:lnTo>
                  <a:lnTo>
                    <a:pt x="204" y="1210"/>
                  </a:lnTo>
                  <a:lnTo>
                    <a:pt x="249" y="1258"/>
                  </a:lnTo>
                  <a:lnTo>
                    <a:pt x="301" y="1301"/>
                  </a:lnTo>
                  <a:lnTo>
                    <a:pt x="358" y="1345"/>
                  </a:lnTo>
                  <a:lnTo>
                    <a:pt x="415" y="1387"/>
                  </a:lnTo>
                  <a:lnTo>
                    <a:pt x="476" y="1429"/>
                  </a:lnTo>
                  <a:lnTo>
                    <a:pt x="535" y="1471"/>
                  </a:lnTo>
                  <a:lnTo>
                    <a:pt x="594" y="1514"/>
                  </a:lnTo>
                  <a:lnTo>
                    <a:pt x="649" y="1560"/>
                  </a:lnTo>
                  <a:lnTo>
                    <a:pt x="701" y="1610"/>
                  </a:lnTo>
                  <a:lnTo>
                    <a:pt x="714" y="1629"/>
                  </a:lnTo>
                  <a:lnTo>
                    <a:pt x="727" y="1655"/>
                  </a:lnTo>
                  <a:lnTo>
                    <a:pt x="739" y="1687"/>
                  </a:lnTo>
                  <a:lnTo>
                    <a:pt x="748" y="1722"/>
                  </a:lnTo>
                  <a:lnTo>
                    <a:pt x="752" y="1758"/>
                  </a:lnTo>
                  <a:lnTo>
                    <a:pt x="754" y="1788"/>
                  </a:lnTo>
                  <a:lnTo>
                    <a:pt x="748" y="1817"/>
                  </a:lnTo>
                  <a:lnTo>
                    <a:pt x="737" y="1836"/>
                  </a:lnTo>
                  <a:lnTo>
                    <a:pt x="710" y="1866"/>
                  </a:lnTo>
                  <a:lnTo>
                    <a:pt x="676" y="1899"/>
                  </a:lnTo>
                  <a:lnTo>
                    <a:pt x="636" y="1933"/>
                  </a:lnTo>
                  <a:lnTo>
                    <a:pt x="594" y="1965"/>
                  </a:lnTo>
                  <a:lnTo>
                    <a:pt x="550" y="1996"/>
                  </a:lnTo>
                  <a:lnTo>
                    <a:pt x="508" y="2024"/>
                  </a:lnTo>
                  <a:lnTo>
                    <a:pt x="472" y="2049"/>
                  </a:lnTo>
                  <a:lnTo>
                    <a:pt x="442" y="2066"/>
                  </a:lnTo>
                  <a:lnTo>
                    <a:pt x="371" y="2100"/>
                  </a:lnTo>
                  <a:lnTo>
                    <a:pt x="303" y="2138"/>
                  </a:lnTo>
                  <a:lnTo>
                    <a:pt x="240" y="2180"/>
                  </a:lnTo>
                  <a:lnTo>
                    <a:pt x="181" y="2226"/>
                  </a:lnTo>
                  <a:lnTo>
                    <a:pt x="130" y="2275"/>
                  </a:lnTo>
                  <a:lnTo>
                    <a:pt x="86" y="2327"/>
                  </a:lnTo>
                  <a:lnTo>
                    <a:pt x="50" y="2382"/>
                  </a:lnTo>
                  <a:lnTo>
                    <a:pt x="23" y="2439"/>
                  </a:lnTo>
                  <a:lnTo>
                    <a:pt x="6" y="2498"/>
                  </a:lnTo>
                  <a:lnTo>
                    <a:pt x="0" y="2557"/>
                  </a:lnTo>
                  <a:lnTo>
                    <a:pt x="8" y="2618"/>
                  </a:lnTo>
                  <a:lnTo>
                    <a:pt x="27" y="2679"/>
                  </a:lnTo>
                  <a:lnTo>
                    <a:pt x="61" y="2741"/>
                  </a:lnTo>
                  <a:lnTo>
                    <a:pt x="109" y="2802"/>
                  </a:lnTo>
                  <a:lnTo>
                    <a:pt x="173" y="2863"/>
                  </a:lnTo>
                  <a:lnTo>
                    <a:pt x="255" y="2922"/>
                  </a:lnTo>
                  <a:lnTo>
                    <a:pt x="289" y="2943"/>
                  </a:lnTo>
                  <a:lnTo>
                    <a:pt x="324" y="2964"/>
                  </a:lnTo>
                  <a:lnTo>
                    <a:pt x="358" y="2985"/>
                  </a:lnTo>
                  <a:lnTo>
                    <a:pt x="394" y="3006"/>
                  </a:lnTo>
                  <a:lnTo>
                    <a:pt x="430" y="3025"/>
                  </a:lnTo>
                  <a:lnTo>
                    <a:pt x="468" y="3044"/>
                  </a:lnTo>
                  <a:lnTo>
                    <a:pt x="506" y="3063"/>
                  </a:lnTo>
                  <a:lnTo>
                    <a:pt x="544" y="3082"/>
                  </a:lnTo>
                  <a:lnTo>
                    <a:pt x="584" y="3099"/>
                  </a:lnTo>
                  <a:lnTo>
                    <a:pt x="624" y="3116"/>
                  </a:lnTo>
                  <a:lnTo>
                    <a:pt x="666" y="3133"/>
                  </a:lnTo>
                  <a:lnTo>
                    <a:pt x="708" y="3148"/>
                  </a:lnTo>
                  <a:lnTo>
                    <a:pt x="752" y="3164"/>
                  </a:lnTo>
                  <a:lnTo>
                    <a:pt x="796" y="3177"/>
                  </a:lnTo>
                  <a:lnTo>
                    <a:pt x="841" y="3190"/>
                  </a:lnTo>
                  <a:lnTo>
                    <a:pt x="887" y="3204"/>
                  </a:lnTo>
                  <a:lnTo>
                    <a:pt x="933" y="3215"/>
                  </a:lnTo>
                  <a:lnTo>
                    <a:pt x="980" y="3224"/>
                  </a:lnTo>
                  <a:lnTo>
                    <a:pt x="1030" y="3234"/>
                  </a:lnTo>
                  <a:lnTo>
                    <a:pt x="1079" y="3243"/>
                  </a:lnTo>
                  <a:lnTo>
                    <a:pt x="1129" y="3251"/>
                  </a:lnTo>
                  <a:lnTo>
                    <a:pt x="1180" y="3257"/>
                  </a:lnTo>
                  <a:lnTo>
                    <a:pt x="1232" y="3262"/>
                  </a:lnTo>
                  <a:lnTo>
                    <a:pt x="1285" y="3266"/>
                  </a:lnTo>
                  <a:lnTo>
                    <a:pt x="1338" y="3268"/>
                  </a:lnTo>
                  <a:lnTo>
                    <a:pt x="1393" y="3270"/>
                  </a:lnTo>
                  <a:lnTo>
                    <a:pt x="1449" y="3270"/>
                  </a:lnTo>
                  <a:lnTo>
                    <a:pt x="1504" y="3270"/>
                  </a:lnTo>
                  <a:lnTo>
                    <a:pt x="1563" y="3268"/>
                  </a:lnTo>
                  <a:lnTo>
                    <a:pt x="1620" y="3262"/>
                  </a:lnTo>
                  <a:lnTo>
                    <a:pt x="1679" y="3259"/>
                  </a:lnTo>
                  <a:lnTo>
                    <a:pt x="1740" y="3251"/>
                  </a:lnTo>
                  <a:lnTo>
                    <a:pt x="1801" y="3242"/>
                  </a:lnTo>
                  <a:lnTo>
                    <a:pt x="1865" y="3232"/>
                  </a:lnTo>
                  <a:lnTo>
                    <a:pt x="1930" y="3221"/>
                  </a:lnTo>
                  <a:lnTo>
                    <a:pt x="1995" y="3205"/>
                  </a:lnTo>
                  <a:lnTo>
                    <a:pt x="2061" y="3190"/>
                  </a:lnTo>
                  <a:lnTo>
                    <a:pt x="2130" y="3171"/>
                  </a:lnTo>
                  <a:lnTo>
                    <a:pt x="2198" y="3152"/>
                  </a:lnTo>
                  <a:lnTo>
                    <a:pt x="2267" y="3131"/>
                  </a:lnTo>
                  <a:lnTo>
                    <a:pt x="2337" y="3107"/>
                  </a:lnTo>
                  <a:lnTo>
                    <a:pt x="2408" y="3082"/>
                  </a:lnTo>
                  <a:lnTo>
                    <a:pt x="2478" y="3055"/>
                  </a:lnTo>
                  <a:lnTo>
                    <a:pt x="2549" y="3027"/>
                  </a:lnTo>
                  <a:lnTo>
                    <a:pt x="2619" y="2996"/>
                  </a:lnTo>
                  <a:lnTo>
                    <a:pt x="2689" y="2964"/>
                  </a:lnTo>
                  <a:lnTo>
                    <a:pt x="2758" y="2928"/>
                  </a:lnTo>
                  <a:lnTo>
                    <a:pt x="2826" y="2892"/>
                  </a:lnTo>
                  <a:lnTo>
                    <a:pt x="2895" y="2854"/>
                  </a:lnTo>
                  <a:lnTo>
                    <a:pt x="2962" y="2814"/>
                  </a:lnTo>
                  <a:lnTo>
                    <a:pt x="3028" y="2772"/>
                  </a:lnTo>
                  <a:lnTo>
                    <a:pt x="3095" y="2728"/>
                  </a:lnTo>
                  <a:lnTo>
                    <a:pt x="3158" y="2682"/>
                  </a:lnTo>
                  <a:lnTo>
                    <a:pt x="3220" y="2635"/>
                  </a:lnTo>
                  <a:lnTo>
                    <a:pt x="3281" y="2585"/>
                  </a:lnTo>
                  <a:lnTo>
                    <a:pt x="3340" y="2536"/>
                  </a:lnTo>
                  <a:lnTo>
                    <a:pt x="3397" y="2483"/>
                  </a:lnTo>
                  <a:lnTo>
                    <a:pt x="3451" y="2427"/>
                  </a:lnTo>
                  <a:lnTo>
                    <a:pt x="3504" y="2370"/>
                  </a:lnTo>
                  <a:lnTo>
                    <a:pt x="3555" y="2311"/>
                  </a:lnTo>
                  <a:lnTo>
                    <a:pt x="3603" y="2251"/>
                  </a:lnTo>
                  <a:lnTo>
                    <a:pt x="3647" y="2190"/>
                  </a:lnTo>
                  <a:lnTo>
                    <a:pt x="3689" y="2125"/>
                  </a:lnTo>
                  <a:lnTo>
                    <a:pt x="3729" y="2058"/>
                  </a:lnTo>
                  <a:lnTo>
                    <a:pt x="3771" y="1980"/>
                  </a:lnTo>
                  <a:lnTo>
                    <a:pt x="3805" y="1901"/>
                  </a:lnTo>
                  <a:lnTo>
                    <a:pt x="3833" y="1823"/>
                  </a:lnTo>
                  <a:lnTo>
                    <a:pt x="3854" y="1745"/>
                  </a:lnTo>
                  <a:lnTo>
                    <a:pt x="3869" y="1667"/>
                  </a:lnTo>
                  <a:lnTo>
                    <a:pt x="3877" y="1589"/>
                  </a:lnTo>
                  <a:lnTo>
                    <a:pt x="3879" y="1511"/>
                  </a:lnTo>
                  <a:lnTo>
                    <a:pt x="3873" y="1433"/>
                  </a:lnTo>
                  <a:lnTo>
                    <a:pt x="3860" y="1357"/>
                  </a:lnTo>
                  <a:lnTo>
                    <a:pt x="3839" y="1280"/>
                  </a:lnTo>
                  <a:lnTo>
                    <a:pt x="3812" y="1206"/>
                  </a:lnTo>
                  <a:lnTo>
                    <a:pt x="3778" y="1132"/>
                  </a:lnTo>
                  <a:lnTo>
                    <a:pt x="3736" y="1058"/>
                  </a:lnTo>
                  <a:lnTo>
                    <a:pt x="3687" y="986"/>
                  </a:lnTo>
                  <a:lnTo>
                    <a:pt x="3630" y="913"/>
                  </a:lnTo>
                  <a:lnTo>
                    <a:pt x="3565" y="843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rot="8868000">
              <a:off x="1223280" y="3746520"/>
              <a:ext cx="2188440" cy="654840"/>
            </a:xfrm>
            <a:custGeom>
              <a:avLst/>
              <a:gdLst/>
              <a:ahLst/>
              <a:rect l="l" t="t" r="r" b="b"/>
              <a:pathLst>
                <a:path w="3780" h="1649">
                  <a:moveTo>
                    <a:pt x="626" y="1649"/>
                  </a:moveTo>
                  <a:lnTo>
                    <a:pt x="615" y="1629"/>
                  </a:lnTo>
                  <a:lnTo>
                    <a:pt x="602" y="1610"/>
                  </a:lnTo>
                  <a:lnTo>
                    <a:pt x="550" y="1560"/>
                  </a:lnTo>
                  <a:lnTo>
                    <a:pt x="495" y="1514"/>
                  </a:lnTo>
                  <a:lnTo>
                    <a:pt x="436" y="1471"/>
                  </a:lnTo>
                  <a:lnTo>
                    <a:pt x="377" y="1429"/>
                  </a:lnTo>
                  <a:lnTo>
                    <a:pt x="316" y="1387"/>
                  </a:lnTo>
                  <a:lnTo>
                    <a:pt x="259" y="1345"/>
                  </a:lnTo>
                  <a:lnTo>
                    <a:pt x="202" y="1301"/>
                  </a:lnTo>
                  <a:lnTo>
                    <a:pt x="150" y="1258"/>
                  </a:lnTo>
                  <a:lnTo>
                    <a:pt x="105" y="1210"/>
                  </a:lnTo>
                  <a:lnTo>
                    <a:pt x="65" y="1159"/>
                  </a:lnTo>
                  <a:lnTo>
                    <a:pt x="32" y="1104"/>
                  </a:lnTo>
                  <a:lnTo>
                    <a:pt x="12" y="1045"/>
                  </a:lnTo>
                  <a:lnTo>
                    <a:pt x="0" y="980"/>
                  </a:lnTo>
                  <a:lnTo>
                    <a:pt x="2" y="908"/>
                  </a:lnTo>
                  <a:lnTo>
                    <a:pt x="17" y="830"/>
                  </a:lnTo>
                  <a:lnTo>
                    <a:pt x="48" y="742"/>
                  </a:lnTo>
                  <a:lnTo>
                    <a:pt x="74" y="687"/>
                  </a:lnTo>
                  <a:lnTo>
                    <a:pt x="107" y="630"/>
                  </a:lnTo>
                  <a:lnTo>
                    <a:pt x="143" y="577"/>
                  </a:lnTo>
                  <a:lnTo>
                    <a:pt x="183" y="523"/>
                  </a:lnTo>
                  <a:lnTo>
                    <a:pt x="228" y="470"/>
                  </a:lnTo>
                  <a:lnTo>
                    <a:pt x="276" y="421"/>
                  </a:lnTo>
                  <a:lnTo>
                    <a:pt x="327" y="373"/>
                  </a:lnTo>
                  <a:lnTo>
                    <a:pt x="383" y="326"/>
                  </a:lnTo>
                  <a:lnTo>
                    <a:pt x="438" y="284"/>
                  </a:lnTo>
                  <a:lnTo>
                    <a:pt x="497" y="242"/>
                  </a:lnTo>
                  <a:lnTo>
                    <a:pt x="556" y="204"/>
                  </a:lnTo>
                  <a:lnTo>
                    <a:pt x="615" y="170"/>
                  </a:lnTo>
                  <a:lnTo>
                    <a:pt x="674" y="139"/>
                  </a:lnTo>
                  <a:lnTo>
                    <a:pt x="735" y="113"/>
                  </a:lnTo>
                  <a:lnTo>
                    <a:pt x="794" y="90"/>
                  </a:lnTo>
                  <a:lnTo>
                    <a:pt x="851" y="71"/>
                  </a:lnTo>
                  <a:lnTo>
                    <a:pt x="933" y="50"/>
                  </a:lnTo>
                  <a:lnTo>
                    <a:pt x="1016" y="33"/>
                  </a:lnTo>
                  <a:lnTo>
                    <a:pt x="1100" y="19"/>
                  </a:lnTo>
                  <a:lnTo>
                    <a:pt x="1186" y="10"/>
                  </a:lnTo>
                  <a:lnTo>
                    <a:pt x="1273" y="4"/>
                  </a:lnTo>
                  <a:lnTo>
                    <a:pt x="1361" y="0"/>
                  </a:lnTo>
                  <a:lnTo>
                    <a:pt x="1448" y="0"/>
                  </a:lnTo>
                  <a:lnTo>
                    <a:pt x="1538" y="2"/>
                  </a:lnTo>
                  <a:lnTo>
                    <a:pt x="1627" y="10"/>
                  </a:lnTo>
                  <a:lnTo>
                    <a:pt x="1717" y="17"/>
                  </a:lnTo>
                  <a:lnTo>
                    <a:pt x="1808" y="31"/>
                  </a:lnTo>
                  <a:lnTo>
                    <a:pt x="1898" y="44"/>
                  </a:lnTo>
                  <a:lnTo>
                    <a:pt x="1987" y="63"/>
                  </a:lnTo>
                  <a:lnTo>
                    <a:pt x="2077" y="82"/>
                  </a:lnTo>
                  <a:lnTo>
                    <a:pt x="2166" y="107"/>
                  </a:lnTo>
                  <a:lnTo>
                    <a:pt x="2254" y="132"/>
                  </a:lnTo>
                  <a:lnTo>
                    <a:pt x="2341" y="160"/>
                  </a:lnTo>
                  <a:lnTo>
                    <a:pt x="2429" y="190"/>
                  </a:lnTo>
                  <a:lnTo>
                    <a:pt x="2514" y="223"/>
                  </a:lnTo>
                  <a:lnTo>
                    <a:pt x="2598" y="259"/>
                  </a:lnTo>
                  <a:lnTo>
                    <a:pt x="2682" y="297"/>
                  </a:lnTo>
                  <a:lnTo>
                    <a:pt x="2764" y="337"/>
                  </a:lnTo>
                  <a:lnTo>
                    <a:pt x="2844" y="379"/>
                  </a:lnTo>
                  <a:lnTo>
                    <a:pt x="2922" y="423"/>
                  </a:lnTo>
                  <a:lnTo>
                    <a:pt x="2998" y="468"/>
                  </a:lnTo>
                  <a:lnTo>
                    <a:pt x="3072" y="518"/>
                  </a:lnTo>
                  <a:lnTo>
                    <a:pt x="3144" y="567"/>
                  </a:lnTo>
                  <a:lnTo>
                    <a:pt x="3215" y="618"/>
                  </a:lnTo>
                  <a:lnTo>
                    <a:pt x="3281" y="672"/>
                  </a:lnTo>
                  <a:lnTo>
                    <a:pt x="3346" y="727"/>
                  </a:lnTo>
                  <a:lnTo>
                    <a:pt x="3407" y="784"/>
                  </a:lnTo>
                  <a:lnTo>
                    <a:pt x="3466" y="843"/>
                  </a:lnTo>
                  <a:lnTo>
                    <a:pt x="3531" y="913"/>
                  </a:lnTo>
                  <a:lnTo>
                    <a:pt x="3588" y="986"/>
                  </a:lnTo>
                  <a:lnTo>
                    <a:pt x="3637" y="1058"/>
                  </a:lnTo>
                  <a:lnTo>
                    <a:pt x="3679" y="1132"/>
                  </a:lnTo>
                  <a:lnTo>
                    <a:pt x="3713" y="1206"/>
                  </a:lnTo>
                  <a:lnTo>
                    <a:pt x="3740" y="1280"/>
                  </a:lnTo>
                  <a:lnTo>
                    <a:pt x="3761" y="1357"/>
                  </a:lnTo>
                  <a:lnTo>
                    <a:pt x="3774" y="1433"/>
                  </a:lnTo>
                  <a:lnTo>
                    <a:pt x="3780" y="1511"/>
                  </a:lnTo>
                  <a:lnTo>
                    <a:pt x="3778" y="1589"/>
                  </a:lnTo>
                  <a:lnTo>
                    <a:pt x="3772" y="1649"/>
                  </a:lnTo>
                  <a:lnTo>
                    <a:pt x="1635" y="1649"/>
                  </a:lnTo>
                  <a:lnTo>
                    <a:pt x="1641" y="1640"/>
                  </a:lnTo>
                  <a:lnTo>
                    <a:pt x="1648" y="1621"/>
                  </a:lnTo>
                  <a:lnTo>
                    <a:pt x="1652" y="1600"/>
                  </a:lnTo>
                  <a:lnTo>
                    <a:pt x="1652" y="1579"/>
                  </a:lnTo>
                  <a:lnTo>
                    <a:pt x="1650" y="1560"/>
                  </a:lnTo>
                  <a:lnTo>
                    <a:pt x="1643" y="1541"/>
                  </a:lnTo>
                  <a:lnTo>
                    <a:pt x="1633" y="1524"/>
                  </a:lnTo>
                  <a:lnTo>
                    <a:pt x="1620" y="1509"/>
                  </a:lnTo>
                  <a:lnTo>
                    <a:pt x="1605" y="1493"/>
                  </a:lnTo>
                  <a:lnTo>
                    <a:pt x="1586" y="1482"/>
                  </a:lnTo>
                  <a:lnTo>
                    <a:pt x="1563" y="1471"/>
                  </a:lnTo>
                  <a:lnTo>
                    <a:pt x="1540" y="1461"/>
                  </a:lnTo>
                  <a:lnTo>
                    <a:pt x="1513" y="1454"/>
                  </a:lnTo>
                  <a:lnTo>
                    <a:pt x="1485" y="1448"/>
                  </a:lnTo>
                  <a:lnTo>
                    <a:pt x="1456" y="1444"/>
                  </a:lnTo>
                  <a:lnTo>
                    <a:pt x="1424" y="1440"/>
                  </a:lnTo>
                  <a:lnTo>
                    <a:pt x="1391" y="1440"/>
                  </a:lnTo>
                  <a:lnTo>
                    <a:pt x="1357" y="1442"/>
                  </a:lnTo>
                  <a:lnTo>
                    <a:pt x="1323" y="1446"/>
                  </a:lnTo>
                  <a:lnTo>
                    <a:pt x="1287" y="1452"/>
                  </a:lnTo>
                  <a:lnTo>
                    <a:pt x="1251" y="1459"/>
                  </a:lnTo>
                  <a:lnTo>
                    <a:pt x="1214" y="1469"/>
                  </a:lnTo>
                  <a:lnTo>
                    <a:pt x="1182" y="1480"/>
                  </a:lnTo>
                  <a:lnTo>
                    <a:pt x="1150" y="1493"/>
                  </a:lnTo>
                  <a:lnTo>
                    <a:pt x="1119" y="1509"/>
                  </a:lnTo>
                  <a:lnTo>
                    <a:pt x="1091" y="1524"/>
                  </a:lnTo>
                  <a:lnTo>
                    <a:pt x="1064" y="1541"/>
                  </a:lnTo>
                  <a:lnTo>
                    <a:pt x="1039" y="1558"/>
                  </a:lnTo>
                  <a:lnTo>
                    <a:pt x="1016" y="1577"/>
                  </a:lnTo>
                  <a:lnTo>
                    <a:pt x="997" y="1596"/>
                  </a:lnTo>
                  <a:lnTo>
                    <a:pt x="982" y="1615"/>
                  </a:lnTo>
                  <a:lnTo>
                    <a:pt x="967" y="1636"/>
                  </a:lnTo>
                  <a:lnTo>
                    <a:pt x="959" y="1649"/>
                  </a:lnTo>
                  <a:lnTo>
                    <a:pt x="626" y="1649"/>
                  </a:lnTo>
                  <a:close/>
                </a:path>
              </a:pathLst>
            </a:custGeom>
            <a:solidFill>
              <a:srgbClr val="e6d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rot="8868000">
              <a:off x="2247120" y="3512160"/>
              <a:ext cx="409320" cy="164160"/>
            </a:xfrm>
            <a:custGeom>
              <a:avLst/>
              <a:gdLst/>
              <a:ahLst/>
              <a:rect l="l" t="t" r="r" b="b"/>
              <a:pathLst>
                <a:path w="708" h="417">
                  <a:moveTo>
                    <a:pt x="4" y="295"/>
                  </a:moveTo>
                  <a:lnTo>
                    <a:pt x="10" y="314"/>
                  </a:lnTo>
                  <a:lnTo>
                    <a:pt x="21" y="331"/>
                  </a:lnTo>
                  <a:lnTo>
                    <a:pt x="32" y="348"/>
                  </a:lnTo>
                  <a:lnTo>
                    <a:pt x="50" y="362"/>
                  </a:lnTo>
                  <a:lnTo>
                    <a:pt x="69" y="375"/>
                  </a:lnTo>
                  <a:lnTo>
                    <a:pt x="90" y="386"/>
                  </a:lnTo>
                  <a:lnTo>
                    <a:pt x="114" y="396"/>
                  </a:lnTo>
                  <a:lnTo>
                    <a:pt x="141" y="403"/>
                  </a:lnTo>
                  <a:lnTo>
                    <a:pt x="168" y="411"/>
                  </a:lnTo>
                  <a:lnTo>
                    <a:pt x="198" y="415"/>
                  </a:lnTo>
                  <a:lnTo>
                    <a:pt x="229" y="417"/>
                  </a:lnTo>
                  <a:lnTo>
                    <a:pt x="263" y="417"/>
                  </a:lnTo>
                  <a:lnTo>
                    <a:pt x="295" y="415"/>
                  </a:lnTo>
                  <a:lnTo>
                    <a:pt x="331" y="411"/>
                  </a:lnTo>
                  <a:lnTo>
                    <a:pt x="366" y="405"/>
                  </a:lnTo>
                  <a:lnTo>
                    <a:pt x="402" y="398"/>
                  </a:lnTo>
                  <a:lnTo>
                    <a:pt x="438" y="388"/>
                  </a:lnTo>
                  <a:lnTo>
                    <a:pt x="472" y="377"/>
                  </a:lnTo>
                  <a:lnTo>
                    <a:pt x="504" y="364"/>
                  </a:lnTo>
                  <a:lnTo>
                    <a:pt x="535" y="348"/>
                  </a:lnTo>
                  <a:lnTo>
                    <a:pt x="563" y="333"/>
                  </a:lnTo>
                  <a:lnTo>
                    <a:pt x="590" y="316"/>
                  </a:lnTo>
                  <a:lnTo>
                    <a:pt x="615" y="299"/>
                  </a:lnTo>
                  <a:lnTo>
                    <a:pt x="636" y="280"/>
                  </a:lnTo>
                  <a:lnTo>
                    <a:pt x="655" y="261"/>
                  </a:lnTo>
                  <a:lnTo>
                    <a:pt x="672" y="242"/>
                  </a:lnTo>
                  <a:lnTo>
                    <a:pt x="685" y="221"/>
                  </a:lnTo>
                  <a:lnTo>
                    <a:pt x="697" y="200"/>
                  </a:lnTo>
                  <a:lnTo>
                    <a:pt x="704" y="181"/>
                  </a:lnTo>
                  <a:lnTo>
                    <a:pt x="708" y="160"/>
                  </a:lnTo>
                  <a:lnTo>
                    <a:pt x="708" y="139"/>
                  </a:lnTo>
                  <a:lnTo>
                    <a:pt x="706" y="120"/>
                  </a:lnTo>
                  <a:lnTo>
                    <a:pt x="699" y="101"/>
                  </a:lnTo>
                  <a:lnTo>
                    <a:pt x="689" y="84"/>
                  </a:lnTo>
                  <a:lnTo>
                    <a:pt x="676" y="69"/>
                  </a:lnTo>
                  <a:lnTo>
                    <a:pt x="661" y="53"/>
                  </a:lnTo>
                  <a:lnTo>
                    <a:pt x="642" y="42"/>
                  </a:lnTo>
                  <a:lnTo>
                    <a:pt x="619" y="31"/>
                  </a:lnTo>
                  <a:lnTo>
                    <a:pt x="596" y="21"/>
                  </a:lnTo>
                  <a:lnTo>
                    <a:pt x="569" y="14"/>
                  </a:lnTo>
                  <a:lnTo>
                    <a:pt x="541" y="8"/>
                  </a:lnTo>
                  <a:lnTo>
                    <a:pt x="512" y="4"/>
                  </a:lnTo>
                  <a:lnTo>
                    <a:pt x="480" y="0"/>
                  </a:lnTo>
                  <a:lnTo>
                    <a:pt x="447" y="0"/>
                  </a:lnTo>
                  <a:lnTo>
                    <a:pt x="413" y="2"/>
                  </a:lnTo>
                  <a:lnTo>
                    <a:pt x="379" y="6"/>
                  </a:lnTo>
                  <a:lnTo>
                    <a:pt x="343" y="12"/>
                  </a:lnTo>
                  <a:lnTo>
                    <a:pt x="307" y="19"/>
                  </a:lnTo>
                  <a:lnTo>
                    <a:pt x="270" y="29"/>
                  </a:lnTo>
                  <a:lnTo>
                    <a:pt x="238" y="40"/>
                  </a:lnTo>
                  <a:lnTo>
                    <a:pt x="206" y="53"/>
                  </a:lnTo>
                  <a:lnTo>
                    <a:pt x="175" y="69"/>
                  </a:lnTo>
                  <a:lnTo>
                    <a:pt x="147" y="84"/>
                  </a:lnTo>
                  <a:lnTo>
                    <a:pt x="120" y="101"/>
                  </a:lnTo>
                  <a:lnTo>
                    <a:pt x="95" y="118"/>
                  </a:lnTo>
                  <a:lnTo>
                    <a:pt x="72" y="137"/>
                  </a:lnTo>
                  <a:lnTo>
                    <a:pt x="53" y="156"/>
                  </a:lnTo>
                  <a:lnTo>
                    <a:pt x="38" y="175"/>
                  </a:lnTo>
                  <a:lnTo>
                    <a:pt x="23" y="196"/>
                  </a:lnTo>
                  <a:lnTo>
                    <a:pt x="13" y="215"/>
                  </a:lnTo>
                  <a:lnTo>
                    <a:pt x="6" y="236"/>
                  </a:lnTo>
                  <a:lnTo>
                    <a:pt x="2" y="255"/>
                  </a:lnTo>
                  <a:lnTo>
                    <a:pt x="0" y="276"/>
                  </a:lnTo>
                  <a:lnTo>
                    <a:pt x="4" y="295"/>
                  </a:lnTo>
                  <a:close/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rot="8868000">
              <a:off x="2215800" y="4053600"/>
              <a:ext cx="319680" cy="194040"/>
            </a:xfrm>
            <a:custGeom>
              <a:avLst/>
              <a:gdLst/>
              <a:ahLst/>
              <a:rect l="l" t="t" r="r" b="b"/>
              <a:pathLst>
                <a:path w="552" h="308">
                  <a:moveTo>
                    <a:pt x="0" y="196"/>
                  </a:moveTo>
                  <a:lnTo>
                    <a:pt x="7" y="224"/>
                  </a:lnTo>
                  <a:lnTo>
                    <a:pt x="26" y="251"/>
                  </a:lnTo>
                  <a:lnTo>
                    <a:pt x="53" y="272"/>
                  </a:lnTo>
                  <a:lnTo>
                    <a:pt x="89" y="289"/>
                  </a:lnTo>
                  <a:lnTo>
                    <a:pt x="131" y="301"/>
                  </a:lnTo>
                  <a:lnTo>
                    <a:pt x="179" y="306"/>
                  </a:lnTo>
                  <a:lnTo>
                    <a:pt x="232" y="308"/>
                  </a:lnTo>
                  <a:lnTo>
                    <a:pt x="287" y="302"/>
                  </a:lnTo>
                  <a:lnTo>
                    <a:pt x="342" y="291"/>
                  </a:lnTo>
                  <a:lnTo>
                    <a:pt x="394" y="274"/>
                  </a:lnTo>
                  <a:lnTo>
                    <a:pt x="439" y="253"/>
                  </a:lnTo>
                  <a:lnTo>
                    <a:pt x="479" y="230"/>
                  </a:lnTo>
                  <a:lnTo>
                    <a:pt x="510" y="202"/>
                  </a:lnTo>
                  <a:lnTo>
                    <a:pt x="535" y="173"/>
                  </a:lnTo>
                  <a:lnTo>
                    <a:pt x="548" y="143"/>
                  </a:lnTo>
                  <a:lnTo>
                    <a:pt x="552" y="112"/>
                  </a:lnTo>
                  <a:lnTo>
                    <a:pt x="544" y="84"/>
                  </a:lnTo>
                  <a:lnTo>
                    <a:pt x="525" y="57"/>
                  </a:lnTo>
                  <a:lnTo>
                    <a:pt x="498" y="36"/>
                  </a:lnTo>
                  <a:lnTo>
                    <a:pt x="462" y="19"/>
                  </a:lnTo>
                  <a:lnTo>
                    <a:pt x="420" y="8"/>
                  </a:lnTo>
                  <a:lnTo>
                    <a:pt x="373" y="2"/>
                  </a:lnTo>
                  <a:lnTo>
                    <a:pt x="319" y="0"/>
                  </a:lnTo>
                  <a:lnTo>
                    <a:pt x="264" y="6"/>
                  </a:lnTo>
                  <a:lnTo>
                    <a:pt x="209" y="17"/>
                  </a:lnTo>
                  <a:lnTo>
                    <a:pt x="158" y="34"/>
                  </a:lnTo>
                  <a:lnTo>
                    <a:pt x="112" y="55"/>
                  </a:lnTo>
                  <a:lnTo>
                    <a:pt x="72" y="78"/>
                  </a:lnTo>
                  <a:lnTo>
                    <a:pt x="42" y="107"/>
                  </a:lnTo>
                  <a:lnTo>
                    <a:pt x="17" y="135"/>
                  </a:lnTo>
                  <a:lnTo>
                    <a:pt x="4" y="16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rot="8868000">
              <a:off x="2558520" y="3780000"/>
              <a:ext cx="275040" cy="199440"/>
            </a:xfrm>
            <a:custGeom>
              <a:avLst/>
              <a:gdLst/>
              <a:ahLst/>
              <a:rect l="l" t="t" r="r" b="b"/>
              <a:pathLst>
                <a:path w="476" h="266">
                  <a:moveTo>
                    <a:pt x="0" y="169"/>
                  </a:moveTo>
                  <a:lnTo>
                    <a:pt x="6" y="194"/>
                  </a:lnTo>
                  <a:lnTo>
                    <a:pt x="21" y="217"/>
                  </a:lnTo>
                  <a:lnTo>
                    <a:pt x="46" y="234"/>
                  </a:lnTo>
                  <a:lnTo>
                    <a:pt x="76" y="249"/>
                  </a:lnTo>
                  <a:lnTo>
                    <a:pt x="112" y="259"/>
                  </a:lnTo>
                  <a:lnTo>
                    <a:pt x="154" y="264"/>
                  </a:lnTo>
                  <a:lnTo>
                    <a:pt x="200" y="266"/>
                  </a:lnTo>
                  <a:lnTo>
                    <a:pt x="247" y="260"/>
                  </a:lnTo>
                  <a:lnTo>
                    <a:pt x="295" y="251"/>
                  </a:lnTo>
                  <a:lnTo>
                    <a:pt x="339" y="238"/>
                  </a:lnTo>
                  <a:lnTo>
                    <a:pt x="379" y="219"/>
                  </a:lnTo>
                  <a:lnTo>
                    <a:pt x="413" y="198"/>
                  </a:lnTo>
                  <a:lnTo>
                    <a:pt x="441" y="175"/>
                  </a:lnTo>
                  <a:lnTo>
                    <a:pt x="460" y="150"/>
                  </a:lnTo>
                  <a:lnTo>
                    <a:pt x="474" y="124"/>
                  </a:lnTo>
                  <a:lnTo>
                    <a:pt x="476" y="97"/>
                  </a:lnTo>
                  <a:lnTo>
                    <a:pt x="470" y="72"/>
                  </a:lnTo>
                  <a:lnTo>
                    <a:pt x="455" y="49"/>
                  </a:lnTo>
                  <a:lnTo>
                    <a:pt x="430" y="32"/>
                  </a:lnTo>
                  <a:lnTo>
                    <a:pt x="400" y="17"/>
                  </a:lnTo>
                  <a:lnTo>
                    <a:pt x="363" y="7"/>
                  </a:lnTo>
                  <a:lnTo>
                    <a:pt x="322" y="2"/>
                  </a:lnTo>
                  <a:lnTo>
                    <a:pt x="276" y="0"/>
                  </a:lnTo>
                  <a:lnTo>
                    <a:pt x="228" y="6"/>
                  </a:lnTo>
                  <a:lnTo>
                    <a:pt x="181" y="15"/>
                  </a:lnTo>
                  <a:lnTo>
                    <a:pt x="137" y="28"/>
                  </a:lnTo>
                  <a:lnTo>
                    <a:pt x="97" y="47"/>
                  </a:lnTo>
                  <a:lnTo>
                    <a:pt x="63" y="68"/>
                  </a:lnTo>
                  <a:lnTo>
                    <a:pt x="34" y="91"/>
                  </a:lnTo>
                  <a:lnTo>
                    <a:pt x="15" y="116"/>
                  </a:lnTo>
                  <a:lnTo>
                    <a:pt x="2" y="143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rot="8868000">
              <a:off x="2150280" y="4239000"/>
              <a:ext cx="150480" cy="78480"/>
            </a:xfrm>
            <a:custGeom>
              <a:avLst/>
              <a:gdLst/>
              <a:ahLst/>
              <a:rect l="l" t="t" r="r" b="b"/>
              <a:pathLst>
                <a:path w="261" h="198">
                  <a:moveTo>
                    <a:pt x="253" y="0"/>
                  </a:moveTo>
                  <a:lnTo>
                    <a:pt x="261" y="36"/>
                  </a:lnTo>
                  <a:lnTo>
                    <a:pt x="251" y="71"/>
                  </a:lnTo>
                  <a:lnTo>
                    <a:pt x="229" y="103"/>
                  </a:lnTo>
                  <a:lnTo>
                    <a:pt x="192" y="132"/>
                  </a:lnTo>
                  <a:lnTo>
                    <a:pt x="149" y="158"/>
                  </a:lnTo>
                  <a:lnTo>
                    <a:pt x="101" y="177"/>
                  </a:lnTo>
                  <a:lnTo>
                    <a:pt x="50" y="190"/>
                  </a:lnTo>
                  <a:lnTo>
                    <a:pt x="0" y="198"/>
                  </a:lnTo>
                  <a:lnTo>
                    <a:pt x="29" y="190"/>
                  </a:lnTo>
                  <a:lnTo>
                    <a:pt x="53" y="185"/>
                  </a:lnTo>
                  <a:lnTo>
                    <a:pt x="71" y="179"/>
                  </a:lnTo>
                  <a:lnTo>
                    <a:pt x="86" y="175"/>
                  </a:lnTo>
                  <a:lnTo>
                    <a:pt x="95" y="171"/>
                  </a:lnTo>
                  <a:lnTo>
                    <a:pt x="103" y="170"/>
                  </a:lnTo>
                  <a:lnTo>
                    <a:pt x="109" y="168"/>
                  </a:lnTo>
                  <a:lnTo>
                    <a:pt x="112" y="166"/>
                  </a:lnTo>
                  <a:lnTo>
                    <a:pt x="137" y="156"/>
                  </a:lnTo>
                  <a:lnTo>
                    <a:pt x="162" y="145"/>
                  </a:lnTo>
                  <a:lnTo>
                    <a:pt x="183" y="132"/>
                  </a:lnTo>
                  <a:lnTo>
                    <a:pt x="202" y="116"/>
                  </a:lnTo>
                  <a:lnTo>
                    <a:pt x="219" y="101"/>
                  </a:lnTo>
                  <a:lnTo>
                    <a:pt x="234" y="84"/>
                  </a:lnTo>
                  <a:lnTo>
                    <a:pt x="246" y="65"/>
                  </a:lnTo>
                  <a:lnTo>
                    <a:pt x="255" y="46"/>
                  </a:lnTo>
                  <a:lnTo>
                    <a:pt x="257" y="36"/>
                  </a:lnTo>
                  <a:lnTo>
                    <a:pt x="257" y="25"/>
                  </a:lnTo>
                  <a:lnTo>
                    <a:pt x="255" y="14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 rot="8868000">
              <a:off x="1755000" y="4287960"/>
              <a:ext cx="361800" cy="133200"/>
            </a:xfrm>
            <a:custGeom>
              <a:avLst/>
              <a:gdLst/>
              <a:ahLst/>
              <a:rect l="l" t="t" r="r" b="b"/>
              <a:pathLst>
                <a:path w="624" h="334">
                  <a:moveTo>
                    <a:pt x="0" y="186"/>
                  </a:moveTo>
                  <a:lnTo>
                    <a:pt x="2" y="203"/>
                  </a:lnTo>
                  <a:lnTo>
                    <a:pt x="6" y="218"/>
                  </a:lnTo>
                  <a:lnTo>
                    <a:pt x="13" y="234"/>
                  </a:lnTo>
                  <a:lnTo>
                    <a:pt x="23" y="249"/>
                  </a:lnTo>
                  <a:lnTo>
                    <a:pt x="36" y="262"/>
                  </a:lnTo>
                  <a:lnTo>
                    <a:pt x="51" y="276"/>
                  </a:lnTo>
                  <a:lnTo>
                    <a:pt x="68" y="287"/>
                  </a:lnTo>
                  <a:lnTo>
                    <a:pt x="89" y="298"/>
                  </a:lnTo>
                  <a:lnTo>
                    <a:pt x="112" y="308"/>
                  </a:lnTo>
                  <a:lnTo>
                    <a:pt x="135" y="315"/>
                  </a:lnTo>
                  <a:lnTo>
                    <a:pt x="162" y="323"/>
                  </a:lnTo>
                  <a:lnTo>
                    <a:pt x="188" y="329"/>
                  </a:lnTo>
                  <a:lnTo>
                    <a:pt x="217" y="333"/>
                  </a:lnTo>
                  <a:lnTo>
                    <a:pt x="247" y="334"/>
                  </a:lnTo>
                  <a:lnTo>
                    <a:pt x="278" y="334"/>
                  </a:lnTo>
                  <a:lnTo>
                    <a:pt x="310" y="334"/>
                  </a:lnTo>
                  <a:lnTo>
                    <a:pt x="342" y="331"/>
                  </a:lnTo>
                  <a:lnTo>
                    <a:pt x="373" y="327"/>
                  </a:lnTo>
                  <a:lnTo>
                    <a:pt x="403" y="321"/>
                  </a:lnTo>
                  <a:lnTo>
                    <a:pt x="432" y="314"/>
                  </a:lnTo>
                  <a:lnTo>
                    <a:pt x="459" y="304"/>
                  </a:lnTo>
                  <a:lnTo>
                    <a:pt x="483" y="295"/>
                  </a:lnTo>
                  <a:lnTo>
                    <a:pt x="508" y="283"/>
                  </a:lnTo>
                  <a:lnTo>
                    <a:pt x="531" y="272"/>
                  </a:lnTo>
                  <a:lnTo>
                    <a:pt x="552" y="258"/>
                  </a:lnTo>
                  <a:lnTo>
                    <a:pt x="569" y="245"/>
                  </a:lnTo>
                  <a:lnTo>
                    <a:pt x="584" y="230"/>
                  </a:lnTo>
                  <a:lnTo>
                    <a:pt x="597" y="215"/>
                  </a:lnTo>
                  <a:lnTo>
                    <a:pt x="609" y="198"/>
                  </a:lnTo>
                  <a:lnTo>
                    <a:pt x="617" y="182"/>
                  </a:lnTo>
                  <a:lnTo>
                    <a:pt x="622" y="165"/>
                  </a:lnTo>
                  <a:lnTo>
                    <a:pt x="624" y="148"/>
                  </a:lnTo>
                  <a:lnTo>
                    <a:pt x="622" y="131"/>
                  </a:lnTo>
                  <a:lnTo>
                    <a:pt x="618" y="116"/>
                  </a:lnTo>
                  <a:lnTo>
                    <a:pt x="611" y="101"/>
                  </a:lnTo>
                  <a:lnTo>
                    <a:pt x="601" y="85"/>
                  </a:lnTo>
                  <a:lnTo>
                    <a:pt x="588" y="72"/>
                  </a:lnTo>
                  <a:lnTo>
                    <a:pt x="573" y="59"/>
                  </a:lnTo>
                  <a:lnTo>
                    <a:pt x="556" y="47"/>
                  </a:lnTo>
                  <a:lnTo>
                    <a:pt x="535" y="36"/>
                  </a:lnTo>
                  <a:lnTo>
                    <a:pt x="512" y="26"/>
                  </a:lnTo>
                  <a:lnTo>
                    <a:pt x="489" y="19"/>
                  </a:lnTo>
                  <a:lnTo>
                    <a:pt x="462" y="11"/>
                  </a:lnTo>
                  <a:lnTo>
                    <a:pt x="436" y="5"/>
                  </a:lnTo>
                  <a:lnTo>
                    <a:pt x="407" y="2"/>
                  </a:lnTo>
                  <a:lnTo>
                    <a:pt x="377" y="0"/>
                  </a:lnTo>
                  <a:lnTo>
                    <a:pt x="346" y="0"/>
                  </a:lnTo>
                  <a:lnTo>
                    <a:pt x="314" y="0"/>
                  </a:lnTo>
                  <a:lnTo>
                    <a:pt x="282" y="4"/>
                  </a:lnTo>
                  <a:lnTo>
                    <a:pt x="251" y="7"/>
                  </a:lnTo>
                  <a:lnTo>
                    <a:pt x="221" y="13"/>
                  </a:lnTo>
                  <a:lnTo>
                    <a:pt x="192" y="21"/>
                  </a:lnTo>
                  <a:lnTo>
                    <a:pt x="165" y="30"/>
                  </a:lnTo>
                  <a:lnTo>
                    <a:pt x="141" y="40"/>
                  </a:lnTo>
                  <a:lnTo>
                    <a:pt x="116" y="51"/>
                  </a:lnTo>
                  <a:lnTo>
                    <a:pt x="93" y="62"/>
                  </a:lnTo>
                  <a:lnTo>
                    <a:pt x="72" y="76"/>
                  </a:lnTo>
                  <a:lnTo>
                    <a:pt x="55" y="89"/>
                  </a:lnTo>
                  <a:lnTo>
                    <a:pt x="40" y="104"/>
                  </a:lnTo>
                  <a:lnTo>
                    <a:pt x="27" y="120"/>
                  </a:lnTo>
                  <a:lnTo>
                    <a:pt x="15" y="137"/>
                  </a:lnTo>
                  <a:lnTo>
                    <a:pt x="7" y="152"/>
                  </a:lnTo>
                  <a:lnTo>
                    <a:pt x="2" y="16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rot="8868000">
              <a:off x="1454760" y="4293360"/>
              <a:ext cx="387000" cy="142560"/>
            </a:xfrm>
            <a:custGeom>
              <a:avLst/>
              <a:gdLst/>
              <a:ahLst/>
              <a:rect l="l" t="t" r="r" b="b"/>
              <a:pathLst>
                <a:path w="670" h="362">
                  <a:moveTo>
                    <a:pt x="0" y="202"/>
                  </a:moveTo>
                  <a:lnTo>
                    <a:pt x="2" y="221"/>
                  </a:lnTo>
                  <a:lnTo>
                    <a:pt x="6" y="238"/>
                  </a:lnTo>
                  <a:lnTo>
                    <a:pt x="13" y="253"/>
                  </a:lnTo>
                  <a:lnTo>
                    <a:pt x="25" y="270"/>
                  </a:lnTo>
                  <a:lnTo>
                    <a:pt x="38" y="286"/>
                  </a:lnTo>
                  <a:lnTo>
                    <a:pt x="55" y="299"/>
                  </a:lnTo>
                  <a:lnTo>
                    <a:pt x="74" y="310"/>
                  </a:lnTo>
                  <a:lnTo>
                    <a:pt x="95" y="322"/>
                  </a:lnTo>
                  <a:lnTo>
                    <a:pt x="120" y="333"/>
                  </a:lnTo>
                  <a:lnTo>
                    <a:pt x="145" y="341"/>
                  </a:lnTo>
                  <a:lnTo>
                    <a:pt x="173" y="348"/>
                  </a:lnTo>
                  <a:lnTo>
                    <a:pt x="202" y="354"/>
                  </a:lnTo>
                  <a:lnTo>
                    <a:pt x="232" y="358"/>
                  </a:lnTo>
                  <a:lnTo>
                    <a:pt x="265" y="360"/>
                  </a:lnTo>
                  <a:lnTo>
                    <a:pt x="299" y="362"/>
                  </a:lnTo>
                  <a:lnTo>
                    <a:pt x="333" y="360"/>
                  </a:lnTo>
                  <a:lnTo>
                    <a:pt x="368" y="356"/>
                  </a:lnTo>
                  <a:lnTo>
                    <a:pt x="400" y="352"/>
                  </a:lnTo>
                  <a:lnTo>
                    <a:pt x="432" y="346"/>
                  </a:lnTo>
                  <a:lnTo>
                    <a:pt x="465" y="337"/>
                  </a:lnTo>
                  <a:lnTo>
                    <a:pt x="493" y="327"/>
                  </a:lnTo>
                  <a:lnTo>
                    <a:pt x="522" y="318"/>
                  </a:lnTo>
                  <a:lnTo>
                    <a:pt x="546" y="306"/>
                  </a:lnTo>
                  <a:lnTo>
                    <a:pt x="571" y="293"/>
                  </a:lnTo>
                  <a:lnTo>
                    <a:pt x="592" y="278"/>
                  </a:lnTo>
                  <a:lnTo>
                    <a:pt x="613" y="263"/>
                  </a:lnTo>
                  <a:lnTo>
                    <a:pt x="628" y="248"/>
                  </a:lnTo>
                  <a:lnTo>
                    <a:pt x="643" y="230"/>
                  </a:lnTo>
                  <a:lnTo>
                    <a:pt x="655" y="213"/>
                  </a:lnTo>
                  <a:lnTo>
                    <a:pt x="663" y="196"/>
                  </a:lnTo>
                  <a:lnTo>
                    <a:pt x="668" y="179"/>
                  </a:lnTo>
                  <a:lnTo>
                    <a:pt x="670" y="160"/>
                  </a:lnTo>
                  <a:lnTo>
                    <a:pt x="668" y="141"/>
                  </a:lnTo>
                  <a:lnTo>
                    <a:pt x="664" y="124"/>
                  </a:lnTo>
                  <a:lnTo>
                    <a:pt x="657" y="109"/>
                  </a:lnTo>
                  <a:lnTo>
                    <a:pt x="645" y="92"/>
                  </a:lnTo>
                  <a:lnTo>
                    <a:pt x="632" y="76"/>
                  </a:lnTo>
                  <a:lnTo>
                    <a:pt x="615" y="63"/>
                  </a:lnTo>
                  <a:lnTo>
                    <a:pt x="596" y="52"/>
                  </a:lnTo>
                  <a:lnTo>
                    <a:pt x="575" y="40"/>
                  </a:lnTo>
                  <a:lnTo>
                    <a:pt x="550" y="29"/>
                  </a:lnTo>
                  <a:lnTo>
                    <a:pt x="525" y="21"/>
                  </a:lnTo>
                  <a:lnTo>
                    <a:pt x="497" y="14"/>
                  </a:lnTo>
                  <a:lnTo>
                    <a:pt x="468" y="8"/>
                  </a:lnTo>
                  <a:lnTo>
                    <a:pt x="438" y="4"/>
                  </a:lnTo>
                  <a:lnTo>
                    <a:pt x="406" y="2"/>
                  </a:lnTo>
                  <a:lnTo>
                    <a:pt x="371" y="0"/>
                  </a:lnTo>
                  <a:lnTo>
                    <a:pt x="337" y="2"/>
                  </a:lnTo>
                  <a:lnTo>
                    <a:pt x="303" y="6"/>
                  </a:lnTo>
                  <a:lnTo>
                    <a:pt x="270" y="10"/>
                  </a:lnTo>
                  <a:lnTo>
                    <a:pt x="238" y="15"/>
                  </a:lnTo>
                  <a:lnTo>
                    <a:pt x="206" y="25"/>
                  </a:lnTo>
                  <a:lnTo>
                    <a:pt x="177" y="34"/>
                  </a:lnTo>
                  <a:lnTo>
                    <a:pt x="149" y="44"/>
                  </a:lnTo>
                  <a:lnTo>
                    <a:pt x="124" y="55"/>
                  </a:lnTo>
                  <a:lnTo>
                    <a:pt x="99" y="69"/>
                  </a:lnTo>
                  <a:lnTo>
                    <a:pt x="78" y="84"/>
                  </a:lnTo>
                  <a:lnTo>
                    <a:pt x="57" y="99"/>
                  </a:lnTo>
                  <a:lnTo>
                    <a:pt x="42" y="114"/>
                  </a:lnTo>
                  <a:lnTo>
                    <a:pt x="27" y="130"/>
                  </a:lnTo>
                  <a:lnTo>
                    <a:pt x="15" y="149"/>
                  </a:lnTo>
                  <a:lnTo>
                    <a:pt x="8" y="166"/>
                  </a:lnTo>
                  <a:lnTo>
                    <a:pt x="2" y="183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570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rot="8868000">
              <a:off x="1283400" y="4158000"/>
              <a:ext cx="432000" cy="172080"/>
            </a:xfrm>
            <a:custGeom>
              <a:avLst/>
              <a:gdLst/>
              <a:ahLst/>
              <a:rect l="l" t="t" r="r" b="b"/>
              <a:pathLst>
                <a:path w="746" h="434">
                  <a:moveTo>
                    <a:pt x="0" y="198"/>
                  </a:moveTo>
                  <a:lnTo>
                    <a:pt x="0" y="221"/>
                  </a:lnTo>
                  <a:lnTo>
                    <a:pt x="2" y="242"/>
                  </a:lnTo>
                  <a:lnTo>
                    <a:pt x="10" y="263"/>
                  </a:lnTo>
                  <a:lnTo>
                    <a:pt x="19" y="284"/>
                  </a:lnTo>
                  <a:lnTo>
                    <a:pt x="32" y="303"/>
                  </a:lnTo>
                  <a:lnTo>
                    <a:pt x="50" y="322"/>
                  </a:lnTo>
                  <a:lnTo>
                    <a:pt x="69" y="339"/>
                  </a:lnTo>
                  <a:lnTo>
                    <a:pt x="91" y="354"/>
                  </a:lnTo>
                  <a:lnTo>
                    <a:pt x="116" y="371"/>
                  </a:lnTo>
                  <a:lnTo>
                    <a:pt x="143" y="385"/>
                  </a:lnTo>
                  <a:lnTo>
                    <a:pt x="173" y="396"/>
                  </a:lnTo>
                  <a:lnTo>
                    <a:pt x="204" y="407"/>
                  </a:lnTo>
                  <a:lnTo>
                    <a:pt x="236" y="417"/>
                  </a:lnTo>
                  <a:lnTo>
                    <a:pt x="272" y="425"/>
                  </a:lnTo>
                  <a:lnTo>
                    <a:pt x="308" y="428"/>
                  </a:lnTo>
                  <a:lnTo>
                    <a:pt x="347" y="432"/>
                  </a:lnTo>
                  <a:lnTo>
                    <a:pt x="385" y="434"/>
                  </a:lnTo>
                  <a:lnTo>
                    <a:pt x="423" y="432"/>
                  </a:lnTo>
                  <a:lnTo>
                    <a:pt x="459" y="428"/>
                  </a:lnTo>
                  <a:lnTo>
                    <a:pt x="493" y="423"/>
                  </a:lnTo>
                  <a:lnTo>
                    <a:pt x="527" y="415"/>
                  </a:lnTo>
                  <a:lnTo>
                    <a:pt x="560" y="407"/>
                  </a:lnTo>
                  <a:lnTo>
                    <a:pt x="590" y="396"/>
                  </a:lnTo>
                  <a:lnTo>
                    <a:pt x="619" y="383"/>
                  </a:lnTo>
                  <a:lnTo>
                    <a:pt x="643" y="369"/>
                  </a:lnTo>
                  <a:lnTo>
                    <a:pt x="668" y="354"/>
                  </a:lnTo>
                  <a:lnTo>
                    <a:pt x="689" y="337"/>
                  </a:lnTo>
                  <a:lnTo>
                    <a:pt x="706" y="320"/>
                  </a:lnTo>
                  <a:lnTo>
                    <a:pt x="721" y="299"/>
                  </a:lnTo>
                  <a:lnTo>
                    <a:pt x="733" y="280"/>
                  </a:lnTo>
                  <a:lnTo>
                    <a:pt x="742" y="259"/>
                  </a:lnTo>
                  <a:lnTo>
                    <a:pt x="746" y="236"/>
                  </a:lnTo>
                  <a:lnTo>
                    <a:pt x="746" y="213"/>
                  </a:lnTo>
                  <a:lnTo>
                    <a:pt x="744" y="192"/>
                  </a:lnTo>
                  <a:lnTo>
                    <a:pt x="737" y="172"/>
                  </a:lnTo>
                  <a:lnTo>
                    <a:pt x="727" y="151"/>
                  </a:lnTo>
                  <a:lnTo>
                    <a:pt x="714" y="132"/>
                  </a:lnTo>
                  <a:lnTo>
                    <a:pt x="697" y="113"/>
                  </a:lnTo>
                  <a:lnTo>
                    <a:pt x="678" y="95"/>
                  </a:lnTo>
                  <a:lnTo>
                    <a:pt x="655" y="78"/>
                  </a:lnTo>
                  <a:lnTo>
                    <a:pt x="630" y="63"/>
                  </a:lnTo>
                  <a:lnTo>
                    <a:pt x="603" y="50"/>
                  </a:lnTo>
                  <a:lnTo>
                    <a:pt x="573" y="38"/>
                  </a:lnTo>
                  <a:lnTo>
                    <a:pt x="543" y="27"/>
                  </a:lnTo>
                  <a:lnTo>
                    <a:pt x="510" y="17"/>
                  </a:lnTo>
                  <a:lnTo>
                    <a:pt x="474" y="10"/>
                  </a:lnTo>
                  <a:lnTo>
                    <a:pt x="438" y="6"/>
                  </a:lnTo>
                  <a:lnTo>
                    <a:pt x="400" y="2"/>
                  </a:lnTo>
                  <a:lnTo>
                    <a:pt x="362" y="0"/>
                  </a:lnTo>
                  <a:lnTo>
                    <a:pt x="324" y="2"/>
                  </a:lnTo>
                  <a:lnTo>
                    <a:pt x="288" y="6"/>
                  </a:lnTo>
                  <a:lnTo>
                    <a:pt x="253" y="12"/>
                  </a:lnTo>
                  <a:lnTo>
                    <a:pt x="219" y="19"/>
                  </a:lnTo>
                  <a:lnTo>
                    <a:pt x="187" y="27"/>
                  </a:lnTo>
                  <a:lnTo>
                    <a:pt x="156" y="38"/>
                  </a:lnTo>
                  <a:lnTo>
                    <a:pt x="130" y="52"/>
                  </a:lnTo>
                  <a:lnTo>
                    <a:pt x="103" y="65"/>
                  </a:lnTo>
                  <a:lnTo>
                    <a:pt x="78" y="80"/>
                  </a:lnTo>
                  <a:lnTo>
                    <a:pt x="57" y="97"/>
                  </a:lnTo>
                  <a:lnTo>
                    <a:pt x="40" y="114"/>
                  </a:lnTo>
                  <a:lnTo>
                    <a:pt x="25" y="135"/>
                  </a:lnTo>
                  <a:lnTo>
                    <a:pt x="13" y="154"/>
                  </a:lnTo>
                  <a:lnTo>
                    <a:pt x="4" y="175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d7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rot="8868000">
              <a:off x="1377360" y="3794400"/>
              <a:ext cx="480960" cy="204120"/>
            </a:xfrm>
            <a:custGeom>
              <a:avLst/>
              <a:gdLst/>
              <a:ahLst/>
              <a:rect l="l" t="t" r="r" b="b"/>
              <a:pathLst>
                <a:path w="829" h="513">
                  <a:moveTo>
                    <a:pt x="1" y="218"/>
                  </a:moveTo>
                  <a:lnTo>
                    <a:pt x="0" y="245"/>
                  </a:lnTo>
                  <a:lnTo>
                    <a:pt x="1" y="270"/>
                  </a:lnTo>
                  <a:lnTo>
                    <a:pt x="9" y="296"/>
                  </a:lnTo>
                  <a:lnTo>
                    <a:pt x="19" y="321"/>
                  </a:lnTo>
                  <a:lnTo>
                    <a:pt x="34" y="344"/>
                  </a:lnTo>
                  <a:lnTo>
                    <a:pt x="51" y="367"/>
                  </a:lnTo>
                  <a:lnTo>
                    <a:pt x="72" y="389"/>
                  </a:lnTo>
                  <a:lnTo>
                    <a:pt x="95" y="410"/>
                  </a:lnTo>
                  <a:lnTo>
                    <a:pt x="121" y="429"/>
                  </a:lnTo>
                  <a:lnTo>
                    <a:pt x="152" y="447"/>
                  </a:lnTo>
                  <a:lnTo>
                    <a:pt x="184" y="462"/>
                  </a:lnTo>
                  <a:lnTo>
                    <a:pt x="218" y="477"/>
                  </a:lnTo>
                  <a:lnTo>
                    <a:pt x="255" y="488"/>
                  </a:lnTo>
                  <a:lnTo>
                    <a:pt x="295" y="498"/>
                  </a:lnTo>
                  <a:lnTo>
                    <a:pt x="335" y="506"/>
                  </a:lnTo>
                  <a:lnTo>
                    <a:pt x="376" y="511"/>
                  </a:lnTo>
                  <a:lnTo>
                    <a:pt x="418" y="513"/>
                  </a:lnTo>
                  <a:lnTo>
                    <a:pt x="460" y="513"/>
                  </a:lnTo>
                  <a:lnTo>
                    <a:pt x="500" y="511"/>
                  </a:lnTo>
                  <a:lnTo>
                    <a:pt x="540" y="506"/>
                  </a:lnTo>
                  <a:lnTo>
                    <a:pt x="576" y="498"/>
                  </a:lnTo>
                  <a:lnTo>
                    <a:pt x="612" y="488"/>
                  </a:lnTo>
                  <a:lnTo>
                    <a:pt x="647" y="477"/>
                  </a:lnTo>
                  <a:lnTo>
                    <a:pt x="679" y="464"/>
                  </a:lnTo>
                  <a:lnTo>
                    <a:pt x="708" y="448"/>
                  </a:lnTo>
                  <a:lnTo>
                    <a:pt x="736" y="429"/>
                  </a:lnTo>
                  <a:lnTo>
                    <a:pt x="759" y="410"/>
                  </a:lnTo>
                  <a:lnTo>
                    <a:pt x="780" y="391"/>
                  </a:lnTo>
                  <a:lnTo>
                    <a:pt x="797" y="369"/>
                  </a:lnTo>
                  <a:lnTo>
                    <a:pt x="812" y="346"/>
                  </a:lnTo>
                  <a:lnTo>
                    <a:pt x="822" y="321"/>
                  </a:lnTo>
                  <a:lnTo>
                    <a:pt x="827" y="294"/>
                  </a:lnTo>
                  <a:lnTo>
                    <a:pt x="829" y="268"/>
                  </a:lnTo>
                  <a:lnTo>
                    <a:pt x="827" y="243"/>
                  </a:lnTo>
                  <a:lnTo>
                    <a:pt x="820" y="216"/>
                  </a:lnTo>
                  <a:lnTo>
                    <a:pt x="810" y="192"/>
                  </a:lnTo>
                  <a:lnTo>
                    <a:pt x="795" y="169"/>
                  </a:lnTo>
                  <a:lnTo>
                    <a:pt x="778" y="146"/>
                  </a:lnTo>
                  <a:lnTo>
                    <a:pt x="757" y="123"/>
                  </a:lnTo>
                  <a:lnTo>
                    <a:pt x="734" y="102"/>
                  </a:lnTo>
                  <a:lnTo>
                    <a:pt x="708" y="83"/>
                  </a:lnTo>
                  <a:lnTo>
                    <a:pt x="677" y="66"/>
                  </a:lnTo>
                  <a:lnTo>
                    <a:pt x="645" y="51"/>
                  </a:lnTo>
                  <a:lnTo>
                    <a:pt x="610" y="36"/>
                  </a:lnTo>
                  <a:lnTo>
                    <a:pt x="574" y="24"/>
                  </a:lnTo>
                  <a:lnTo>
                    <a:pt x="534" y="15"/>
                  </a:lnTo>
                  <a:lnTo>
                    <a:pt x="494" y="7"/>
                  </a:lnTo>
                  <a:lnTo>
                    <a:pt x="453" y="1"/>
                  </a:lnTo>
                  <a:lnTo>
                    <a:pt x="411" y="0"/>
                  </a:lnTo>
                  <a:lnTo>
                    <a:pt x="369" y="0"/>
                  </a:lnTo>
                  <a:lnTo>
                    <a:pt x="329" y="1"/>
                  </a:lnTo>
                  <a:lnTo>
                    <a:pt x="289" y="7"/>
                  </a:lnTo>
                  <a:lnTo>
                    <a:pt x="253" y="15"/>
                  </a:lnTo>
                  <a:lnTo>
                    <a:pt x="217" y="24"/>
                  </a:lnTo>
                  <a:lnTo>
                    <a:pt x="182" y="36"/>
                  </a:lnTo>
                  <a:lnTo>
                    <a:pt x="150" y="49"/>
                  </a:lnTo>
                  <a:lnTo>
                    <a:pt x="121" y="64"/>
                  </a:lnTo>
                  <a:lnTo>
                    <a:pt x="93" y="83"/>
                  </a:lnTo>
                  <a:lnTo>
                    <a:pt x="70" y="102"/>
                  </a:lnTo>
                  <a:lnTo>
                    <a:pt x="49" y="121"/>
                  </a:lnTo>
                  <a:lnTo>
                    <a:pt x="32" y="144"/>
                  </a:lnTo>
                  <a:lnTo>
                    <a:pt x="17" y="167"/>
                  </a:lnTo>
                  <a:lnTo>
                    <a:pt x="7" y="192"/>
                  </a:lnTo>
                  <a:lnTo>
                    <a:pt x="1" y="218"/>
                  </a:lnTo>
                  <a:close/>
                </a:path>
              </a:pathLst>
            </a:custGeom>
            <a:solidFill>
              <a:srgbClr val="b0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 rot="8868000">
              <a:off x="1685160" y="3311640"/>
              <a:ext cx="537840" cy="232920"/>
            </a:xfrm>
            <a:custGeom>
              <a:avLst/>
              <a:gdLst/>
              <a:ahLst/>
              <a:rect l="l" t="t" r="r" b="b"/>
              <a:pathLst>
                <a:path w="928" h="586">
                  <a:moveTo>
                    <a:pt x="11" y="199"/>
                  </a:moveTo>
                  <a:lnTo>
                    <a:pt x="3" y="228"/>
                  </a:lnTo>
                  <a:lnTo>
                    <a:pt x="0" y="258"/>
                  </a:lnTo>
                  <a:lnTo>
                    <a:pt x="1" y="287"/>
                  </a:lnTo>
                  <a:lnTo>
                    <a:pt x="7" y="316"/>
                  </a:lnTo>
                  <a:lnTo>
                    <a:pt x="19" y="344"/>
                  </a:lnTo>
                  <a:lnTo>
                    <a:pt x="32" y="371"/>
                  </a:lnTo>
                  <a:lnTo>
                    <a:pt x="51" y="397"/>
                  </a:lnTo>
                  <a:lnTo>
                    <a:pt x="74" y="424"/>
                  </a:lnTo>
                  <a:lnTo>
                    <a:pt x="99" y="449"/>
                  </a:lnTo>
                  <a:lnTo>
                    <a:pt x="127" y="472"/>
                  </a:lnTo>
                  <a:lnTo>
                    <a:pt x="159" y="492"/>
                  </a:lnTo>
                  <a:lnTo>
                    <a:pt x="196" y="513"/>
                  </a:lnTo>
                  <a:lnTo>
                    <a:pt x="234" y="530"/>
                  </a:lnTo>
                  <a:lnTo>
                    <a:pt x="274" y="546"/>
                  </a:lnTo>
                  <a:lnTo>
                    <a:pt x="317" y="559"/>
                  </a:lnTo>
                  <a:lnTo>
                    <a:pt x="363" y="570"/>
                  </a:lnTo>
                  <a:lnTo>
                    <a:pt x="411" y="578"/>
                  </a:lnTo>
                  <a:lnTo>
                    <a:pt x="456" y="584"/>
                  </a:lnTo>
                  <a:lnTo>
                    <a:pt x="502" y="586"/>
                  </a:lnTo>
                  <a:lnTo>
                    <a:pt x="548" y="584"/>
                  </a:lnTo>
                  <a:lnTo>
                    <a:pt x="590" y="582"/>
                  </a:lnTo>
                  <a:lnTo>
                    <a:pt x="633" y="574"/>
                  </a:lnTo>
                  <a:lnTo>
                    <a:pt x="673" y="567"/>
                  </a:lnTo>
                  <a:lnTo>
                    <a:pt x="711" y="555"/>
                  </a:lnTo>
                  <a:lnTo>
                    <a:pt x="748" y="540"/>
                  </a:lnTo>
                  <a:lnTo>
                    <a:pt x="782" y="525"/>
                  </a:lnTo>
                  <a:lnTo>
                    <a:pt x="814" y="506"/>
                  </a:lnTo>
                  <a:lnTo>
                    <a:pt x="841" y="487"/>
                  </a:lnTo>
                  <a:lnTo>
                    <a:pt x="866" y="464"/>
                  </a:lnTo>
                  <a:lnTo>
                    <a:pt x="886" y="439"/>
                  </a:lnTo>
                  <a:lnTo>
                    <a:pt x="904" y="414"/>
                  </a:lnTo>
                  <a:lnTo>
                    <a:pt x="917" y="386"/>
                  </a:lnTo>
                  <a:lnTo>
                    <a:pt x="925" y="357"/>
                  </a:lnTo>
                  <a:lnTo>
                    <a:pt x="928" y="327"/>
                  </a:lnTo>
                  <a:lnTo>
                    <a:pt x="926" y="298"/>
                  </a:lnTo>
                  <a:lnTo>
                    <a:pt x="921" y="270"/>
                  </a:lnTo>
                  <a:lnTo>
                    <a:pt x="909" y="241"/>
                  </a:lnTo>
                  <a:lnTo>
                    <a:pt x="896" y="215"/>
                  </a:lnTo>
                  <a:lnTo>
                    <a:pt x="877" y="188"/>
                  </a:lnTo>
                  <a:lnTo>
                    <a:pt x="856" y="161"/>
                  </a:lnTo>
                  <a:lnTo>
                    <a:pt x="829" y="137"/>
                  </a:lnTo>
                  <a:lnTo>
                    <a:pt x="801" y="114"/>
                  </a:lnTo>
                  <a:lnTo>
                    <a:pt x="768" y="93"/>
                  </a:lnTo>
                  <a:lnTo>
                    <a:pt x="732" y="72"/>
                  </a:lnTo>
                  <a:lnTo>
                    <a:pt x="694" y="55"/>
                  </a:lnTo>
                  <a:lnTo>
                    <a:pt x="654" y="40"/>
                  </a:lnTo>
                  <a:lnTo>
                    <a:pt x="611" y="26"/>
                  </a:lnTo>
                  <a:lnTo>
                    <a:pt x="565" y="15"/>
                  </a:lnTo>
                  <a:lnTo>
                    <a:pt x="517" y="7"/>
                  </a:lnTo>
                  <a:lnTo>
                    <a:pt x="472" y="2"/>
                  </a:lnTo>
                  <a:lnTo>
                    <a:pt x="426" y="0"/>
                  </a:lnTo>
                  <a:lnTo>
                    <a:pt x="380" y="2"/>
                  </a:lnTo>
                  <a:lnTo>
                    <a:pt x="338" y="4"/>
                  </a:lnTo>
                  <a:lnTo>
                    <a:pt x="295" y="11"/>
                  </a:lnTo>
                  <a:lnTo>
                    <a:pt x="255" y="19"/>
                  </a:lnTo>
                  <a:lnTo>
                    <a:pt x="217" y="30"/>
                  </a:lnTo>
                  <a:lnTo>
                    <a:pt x="180" y="45"/>
                  </a:lnTo>
                  <a:lnTo>
                    <a:pt x="146" y="61"/>
                  </a:lnTo>
                  <a:lnTo>
                    <a:pt x="114" y="80"/>
                  </a:lnTo>
                  <a:lnTo>
                    <a:pt x="87" y="99"/>
                  </a:lnTo>
                  <a:lnTo>
                    <a:pt x="62" y="122"/>
                  </a:lnTo>
                  <a:lnTo>
                    <a:pt x="41" y="146"/>
                  </a:lnTo>
                  <a:lnTo>
                    <a:pt x="24" y="171"/>
                  </a:lnTo>
                  <a:lnTo>
                    <a:pt x="11" y="199"/>
                  </a:lnTo>
                  <a:close/>
                </a:path>
              </a:pathLst>
            </a:custGeom>
            <a:solidFill>
              <a:srgbClr val="d2d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 rot="8868000">
              <a:off x="1801800" y="4297320"/>
              <a:ext cx="313560" cy="187920"/>
            </a:xfrm>
            <a:custGeom>
              <a:avLst/>
              <a:gdLst/>
              <a:ahLst/>
              <a:rect l="l" t="t" r="r" b="b"/>
              <a:pathLst>
                <a:path w="540" h="289">
                  <a:moveTo>
                    <a:pt x="0" y="161"/>
                  </a:moveTo>
                  <a:lnTo>
                    <a:pt x="6" y="190"/>
                  </a:lnTo>
                  <a:lnTo>
                    <a:pt x="21" y="214"/>
                  </a:lnTo>
                  <a:lnTo>
                    <a:pt x="46" y="237"/>
                  </a:lnTo>
                  <a:lnTo>
                    <a:pt x="78" y="256"/>
                  </a:lnTo>
                  <a:lnTo>
                    <a:pt x="118" y="272"/>
                  </a:lnTo>
                  <a:lnTo>
                    <a:pt x="164" y="283"/>
                  </a:lnTo>
                  <a:lnTo>
                    <a:pt x="215" y="289"/>
                  </a:lnTo>
                  <a:lnTo>
                    <a:pt x="268" y="289"/>
                  </a:lnTo>
                  <a:lnTo>
                    <a:pt x="321" y="283"/>
                  </a:lnTo>
                  <a:lnTo>
                    <a:pt x="373" y="272"/>
                  </a:lnTo>
                  <a:lnTo>
                    <a:pt x="419" y="254"/>
                  </a:lnTo>
                  <a:lnTo>
                    <a:pt x="459" y="233"/>
                  </a:lnTo>
                  <a:lnTo>
                    <a:pt x="493" y="211"/>
                  </a:lnTo>
                  <a:lnTo>
                    <a:pt x="518" y="184"/>
                  </a:lnTo>
                  <a:lnTo>
                    <a:pt x="535" y="157"/>
                  </a:lnTo>
                  <a:lnTo>
                    <a:pt x="540" y="127"/>
                  </a:lnTo>
                  <a:lnTo>
                    <a:pt x="535" y="98"/>
                  </a:lnTo>
                  <a:lnTo>
                    <a:pt x="519" y="74"/>
                  </a:lnTo>
                  <a:lnTo>
                    <a:pt x="495" y="51"/>
                  </a:lnTo>
                  <a:lnTo>
                    <a:pt x="462" y="32"/>
                  </a:lnTo>
                  <a:lnTo>
                    <a:pt x="422" y="17"/>
                  </a:lnTo>
                  <a:lnTo>
                    <a:pt x="377" y="5"/>
                  </a:lnTo>
                  <a:lnTo>
                    <a:pt x="325" y="0"/>
                  </a:lnTo>
                  <a:lnTo>
                    <a:pt x="272" y="0"/>
                  </a:lnTo>
                  <a:lnTo>
                    <a:pt x="219" y="5"/>
                  </a:lnTo>
                  <a:lnTo>
                    <a:pt x="167" y="17"/>
                  </a:lnTo>
                  <a:lnTo>
                    <a:pt x="122" y="34"/>
                  </a:lnTo>
                  <a:lnTo>
                    <a:pt x="82" y="55"/>
                  </a:lnTo>
                  <a:lnTo>
                    <a:pt x="47" y="77"/>
                  </a:lnTo>
                  <a:lnTo>
                    <a:pt x="23" y="104"/>
                  </a:lnTo>
                  <a:lnTo>
                    <a:pt x="6" y="13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75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 rot="8868000">
              <a:off x="1498680" y="4305600"/>
              <a:ext cx="334080" cy="181080"/>
            </a:xfrm>
            <a:custGeom>
              <a:avLst/>
              <a:gdLst/>
              <a:ahLst/>
              <a:rect l="l" t="t" r="r" b="b"/>
              <a:pathLst>
                <a:path w="578" h="308">
                  <a:moveTo>
                    <a:pt x="0" y="171"/>
                  </a:moveTo>
                  <a:lnTo>
                    <a:pt x="6" y="202"/>
                  </a:lnTo>
                  <a:lnTo>
                    <a:pt x="21" y="230"/>
                  </a:lnTo>
                  <a:lnTo>
                    <a:pt x="47" y="255"/>
                  </a:lnTo>
                  <a:lnTo>
                    <a:pt x="84" y="276"/>
                  </a:lnTo>
                  <a:lnTo>
                    <a:pt x="125" y="291"/>
                  </a:lnTo>
                  <a:lnTo>
                    <a:pt x="175" y="302"/>
                  </a:lnTo>
                  <a:lnTo>
                    <a:pt x="228" y="308"/>
                  </a:lnTo>
                  <a:lnTo>
                    <a:pt x="287" y="308"/>
                  </a:lnTo>
                  <a:lnTo>
                    <a:pt x="346" y="302"/>
                  </a:lnTo>
                  <a:lnTo>
                    <a:pt x="400" y="289"/>
                  </a:lnTo>
                  <a:lnTo>
                    <a:pt x="449" y="272"/>
                  </a:lnTo>
                  <a:lnTo>
                    <a:pt x="493" y="251"/>
                  </a:lnTo>
                  <a:lnTo>
                    <a:pt x="527" y="224"/>
                  </a:lnTo>
                  <a:lnTo>
                    <a:pt x="554" y="198"/>
                  </a:lnTo>
                  <a:lnTo>
                    <a:pt x="573" y="167"/>
                  </a:lnTo>
                  <a:lnTo>
                    <a:pt x="578" y="137"/>
                  </a:lnTo>
                  <a:lnTo>
                    <a:pt x="573" y="106"/>
                  </a:lnTo>
                  <a:lnTo>
                    <a:pt x="558" y="78"/>
                  </a:lnTo>
                  <a:lnTo>
                    <a:pt x="531" y="53"/>
                  </a:lnTo>
                  <a:lnTo>
                    <a:pt x="495" y="32"/>
                  </a:lnTo>
                  <a:lnTo>
                    <a:pt x="453" y="17"/>
                  </a:lnTo>
                  <a:lnTo>
                    <a:pt x="403" y="6"/>
                  </a:lnTo>
                  <a:lnTo>
                    <a:pt x="350" y="0"/>
                  </a:lnTo>
                  <a:lnTo>
                    <a:pt x="291" y="0"/>
                  </a:lnTo>
                  <a:lnTo>
                    <a:pt x="232" y="6"/>
                  </a:lnTo>
                  <a:lnTo>
                    <a:pt x="179" y="19"/>
                  </a:lnTo>
                  <a:lnTo>
                    <a:pt x="129" y="36"/>
                  </a:lnTo>
                  <a:lnTo>
                    <a:pt x="85" y="57"/>
                  </a:lnTo>
                  <a:lnTo>
                    <a:pt x="51" y="84"/>
                  </a:lnTo>
                  <a:lnTo>
                    <a:pt x="25" y="110"/>
                  </a:lnTo>
                  <a:lnTo>
                    <a:pt x="6" y="14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830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rot="8868000">
              <a:off x="1297440" y="4113000"/>
              <a:ext cx="371880" cy="219960"/>
            </a:xfrm>
            <a:custGeom>
              <a:avLst/>
              <a:gdLst/>
              <a:ahLst/>
              <a:rect l="l" t="t" r="r" b="b"/>
              <a:pathLst>
                <a:path w="644" h="373">
                  <a:moveTo>
                    <a:pt x="0" y="169"/>
                  </a:moveTo>
                  <a:lnTo>
                    <a:pt x="0" y="188"/>
                  </a:lnTo>
                  <a:lnTo>
                    <a:pt x="2" y="207"/>
                  </a:lnTo>
                  <a:lnTo>
                    <a:pt x="8" y="225"/>
                  </a:lnTo>
                  <a:lnTo>
                    <a:pt x="17" y="244"/>
                  </a:lnTo>
                  <a:lnTo>
                    <a:pt x="29" y="261"/>
                  </a:lnTo>
                  <a:lnTo>
                    <a:pt x="42" y="276"/>
                  </a:lnTo>
                  <a:lnTo>
                    <a:pt x="59" y="291"/>
                  </a:lnTo>
                  <a:lnTo>
                    <a:pt x="78" y="306"/>
                  </a:lnTo>
                  <a:lnTo>
                    <a:pt x="99" y="320"/>
                  </a:lnTo>
                  <a:lnTo>
                    <a:pt x="124" y="331"/>
                  </a:lnTo>
                  <a:lnTo>
                    <a:pt x="149" y="342"/>
                  </a:lnTo>
                  <a:lnTo>
                    <a:pt x="175" y="352"/>
                  </a:lnTo>
                  <a:lnTo>
                    <a:pt x="204" y="360"/>
                  </a:lnTo>
                  <a:lnTo>
                    <a:pt x="234" y="365"/>
                  </a:lnTo>
                  <a:lnTo>
                    <a:pt x="267" y="371"/>
                  </a:lnTo>
                  <a:lnTo>
                    <a:pt x="299" y="373"/>
                  </a:lnTo>
                  <a:lnTo>
                    <a:pt x="331" y="373"/>
                  </a:lnTo>
                  <a:lnTo>
                    <a:pt x="364" y="373"/>
                  </a:lnTo>
                  <a:lnTo>
                    <a:pt x="396" y="369"/>
                  </a:lnTo>
                  <a:lnTo>
                    <a:pt x="427" y="365"/>
                  </a:lnTo>
                  <a:lnTo>
                    <a:pt x="455" y="358"/>
                  </a:lnTo>
                  <a:lnTo>
                    <a:pt x="482" y="350"/>
                  </a:lnTo>
                  <a:lnTo>
                    <a:pt x="508" y="341"/>
                  </a:lnTo>
                  <a:lnTo>
                    <a:pt x="533" y="331"/>
                  </a:lnTo>
                  <a:lnTo>
                    <a:pt x="556" y="318"/>
                  </a:lnTo>
                  <a:lnTo>
                    <a:pt x="575" y="304"/>
                  </a:lnTo>
                  <a:lnTo>
                    <a:pt x="594" y="291"/>
                  </a:lnTo>
                  <a:lnTo>
                    <a:pt x="609" y="274"/>
                  </a:lnTo>
                  <a:lnTo>
                    <a:pt x="623" y="259"/>
                  </a:lnTo>
                  <a:lnTo>
                    <a:pt x="632" y="242"/>
                  </a:lnTo>
                  <a:lnTo>
                    <a:pt x="640" y="223"/>
                  </a:lnTo>
                  <a:lnTo>
                    <a:pt x="644" y="204"/>
                  </a:lnTo>
                  <a:lnTo>
                    <a:pt x="644" y="185"/>
                  </a:lnTo>
                  <a:lnTo>
                    <a:pt x="642" y="166"/>
                  </a:lnTo>
                  <a:lnTo>
                    <a:pt x="636" y="148"/>
                  </a:lnTo>
                  <a:lnTo>
                    <a:pt x="628" y="129"/>
                  </a:lnTo>
                  <a:lnTo>
                    <a:pt x="615" y="112"/>
                  </a:lnTo>
                  <a:lnTo>
                    <a:pt x="602" y="97"/>
                  </a:lnTo>
                  <a:lnTo>
                    <a:pt x="585" y="82"/>
                  </a:lnTo>
                  <a:lnTo>
                    <a:pt x="566" y="67"/>
                  </a:lnTo>
                  <a:lnTo>
                    <a:pt x="545" y="53"/>
                  </a:lnTo>
                  <a:lnTo>
                    <a:pt x="520" y="42"/>
                  </a:lnTo>
                  <a:lnTo>
                    <a:pt x="495" y="30"/>
                  </a:lnTo>
                  <a:lnTo>
                    <a:pt x="469" y="21"/>
                  </a:lnTo>
                  <a:lnTo>
                    <a:pt x="440" y="13"/>
                  </a:lnTo>
                  <a:lnTo>
                    <a:pt x="410" y="8"/>
                  </a:lnTo>
                  <a:lnTo>
                    <a:pt x="377" y="2"/>
                  </a:lnTo>
                  <a:lnTo>
                    <a:pt x="345" y="0"/>
                  </a:lnTo>
                  <a:lnTo>
                    <a:pt x="312" y="0"/>
                  </a:lnTo>
                  <a:lnTo>
                    <a:pt x="280" y="0"/>
                  </a:lnTo>
                  <a:lnTo>
                    <a:pt x="248" y="4"/>
                  </a:lnTo>
                  <a:lnTo>
                    <a:pt x="217" y="8"/>
                  </a:lnTo>
                  <a:lnTo>
                    <a:pt x="189" y="15"/>
                  </a:lnTo>
                  <a:lnTo>
                    <a:pt x="162" y="23"/>
                  </a:lnTo>
                  <a:lnTo>
                    <a:pt x="135" y="32"/>
                  </a:lnTo>
                  <a:lnTo>
                    <a:pt x="111" y="42"/>
                  </a:lnTo>
                  <a:lnTo>
                    <a:pt x="88" y="55"/>
                  </a:lnTo>
                  <a:lnTo>
                    <a:pt x="69" y="69"/>
                  </a:lnTo>
                  <a:lnTo>
                    <a:pt x="50" y="82"/>
                  </a:lnTo>
                  <a:lnTo>
                    <a:pt x="35" y="99"/>
                  </a:lnTo>
                  <a:lnTo>
                    <a:pt x="21" y="114"/>
                  </a:lnTo>
                  <a:lnTo>
                    <a:pt x="12" y="131"/>
                  </a:lnTo>
                  <a:lnTo>
                    <a:pt x="4" y="15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62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 rot="8868000">
              <a:off x="1390680" y="3731760"/>
              <a:ext cx="414720" cy="271440"/>
            </a:xfrm>
            <a:custGeom>
              <a:avLst/>
              <a:gdLst/>
              <a:ahLst/>
              <a:rect l="l" t="t" r="r" b="b"/>
              <a:pathLst>
                <a:path w="716" h="445">
                  <a:moveTo>
                    <a:pt x="2" y="191"/>
                  </a:moveTo>
                  <a:lnTo>
                    <a:pt x="0" y="213"/>
                  </a:lnTo>
                  <a:lnTo>
                    <a:pt x="2" y="236"/>
                  </a:lnTo>
                  <a:lnTo>
                    <a:pt x="8" y="257"/>
                  </a:lnTo>
                  <a:lnTo>
                    <a:pt x="18" y="278"/>
                  </a:lnTo>
                  <a:lnTo>
                    <a:pt x="29" y="299"/>
                  </a:lnTo>
                  <a:lnTo>
                    <a:pt x="44" y="320"/>
                  </a:lnTo>
                  <a:lnTo>
                    <a:pt x="61" y="337"/>
                  </a:lnTo>
                  <a:lnTo>
                    <a:pt x="82" y="356"/>
                  </a:lnTo>
                  <a:lnTo>
                    <a:pt x="105" y="371"/>
                  </a:lnTo>
                  <a:lnTo>
                    <a:pt x="132" y="386"/>
                  </a:lnTo>
                  <a:lnTo>
                    <a:pt x="158" y="402"/>
                  </a:lnTo>
                  <a:lnTo>
                    <a:pt x="189" y="413"/>
                  </a:lnTo>
                  <a:lnTo>
                    <a:pt x="221" y="423"/>
                  </a:lnTo>
                  <a:lnTo>
                    <a:pt x="254" y="432"/>
                  </a:lnTo>
                  <a:lnTo>
                    <a:pt x="290" y="440"/>
                  </a:lnTo>
                  <a:lnTo>
                    <a:pt x="326" y="444"/>
                  </a:lnTo>
                  <a:lnTo>
                    <a:pt x="362" y="445"/>
                  </a:lnTo>
                  <a:lnTo>
                    <a:pt x="398" y="445"/>
                  </a:lnTo>
                  <a:lnTo>
                    <a:pt x="432" y="444"/>
                  </a:lnTo>
                  <a:lnTo>
                    <a:pt x="467" y="438"/>
                  </a:lnTo>
                  <a:lnTo>
                    <a:pt x="499" y="432"/>
                  </a:lnTo>
                  <a:lnTo>
                    <a:pt x="530" y="425"/>
                  </a:lnTo>
                  <a:lnTo>
                    <a:pt x="560" y="413"/>
                  </a:lnTo>
                  <a:lnTo>
                    <a:pt x="587" y="402"/>
                  </a:lnTo>
                  <a:lnTo>
                    <a:pt x="613" y="388"/>
                  </a:lnTo>
                  <a:lnTo>
                    <a:pt x="636" y="373"/>
                  </a:lnTo>
                  <a:lnTo>
                    <a:pt x="655" y="356"/>
                  </a:lnTo>
                  <a:lnTo>
                    <a:pt x="674" y="339"/>
                  </a:lnTo>
                  <a:lnTo>
                    <a:pt x="689" y="320"/>
                  </a:lnTo>
                  <a:lnTo>
                    <a:pt x="701" y="299"/>
                  </a:lnTo>
                  <a:lnTo>
                    <a:pt x="708" y="278"/>
                  </a:lnTo>
                  <a:lnTo>
                    <a:pt x="714" y="255"/>
                  </a:lnTo>
                  <a:lnTo>
                    <a:pt x="716" y="232"/>
                  </a:lnTo>
                  <a:lnTo>
                    <a:pt x="714" y="210"/>
                  </a:lnTo>
                  <a:lnTo>
                    <a:pt x="708" y="189"/>
                  </a:lnTo>
                  <a:lnTo>
                    <a:pt x="699" y="168"/>
                  </a:lnTo>
                  <a:lnTo>
                    <a:pt x="688" y="147"/>
                  </a:lnTo>
                  <a:lnTo>
                    <a:pt x="672" y="126"/>
                  </a:lnTo>
                  <a:lnTo>
                    <a:pt x="655" y="109"/>
                  </a:lnTo>
                  <a:lnTo>
                    <a:pt x="634" y="90"/>
                  </a:lnTo>
                  <a:lnTo>
                    <a:pt x="611" y="75"/>
                  </a:lnTo>
                  <a:lnTo>
                    <a:pt x="585" y="59"/>
                  </a:lnTo>
                  <a:lnTo>
                    <a:pt x="558" y="44"/>
                  </a:lnTo>
                  <a:lnTo>
                    <a:pt x="528" y="33"/>
                  </a:lnTo>
                  <a:lnTo>
                    <a:pt x="495" y="23"/>
                  </a:lnTo>
                  <a:lnTo>
                    <a:pt x="463" y="14"/>
                  </a:lnTo>
                  <a:lnTo>
                    <a:pt x="427" y="6"/>
                  </a:lnTo>
                  <a:lnTo>
                    <a:pt x="391" y="2"/>
                  </a:lnTo>
                  <a:lnTo>
                    <a:pt x="354" y="0"/>
                  </a:lnTo>
                  <a:lnTo>
                    <a:pt x="318" y="0"/>
                  </a:lnTo>
                  <a:lnTo>
                    <a:pt x="284" y="2"/>
                  </a:lnTo>
                  <a:lnTo>
                    <a:pt x="250" y="8"/>
                  </a:lnTo>
                  <a:lnTo>
                    <a:pt x="217" y="14"/>
                  </a:lnTo>
                  <a:lnTo>
                    <a:pt x="187" y="21"/>
                  </a:lnTo>
                  <a:lnTo>
                    <a:pt x="157" y="33"/>
                  </a:lnTo>
                  <a:lnTo>
                    <a:pt x="130" y="44"/>
                  </a:lnTo>
                  <a:lnTo>
                    <a:pt x="103" y="57"/>
                  </a:lnTo>
                  <a:lnTo>
                    <a:pt x="80" y="73"/>
                  </a:lnTo>
                  <a:lnTo>
                    <a:pt x="61" y="90"/>
                  </a:lnTo>
                  <a:lnTo>
                    <a:pt x="42" y="107"/>
                  </a:lnTo>
                  <a:lnTo>
                    <a:pt x="27" y="126"/>
                  </a:lnTo>
                  <a:lnTo>
                    <a:pt x="16" y="147"/>
                  </a:lnTo>
                  <a:lnTo>
                    <a:pt x="8" y="168"/>
                  </a:lnTo>
                  <a:lnTo>
                    <a:pt x="2" y="191"/>
                  </a:lnTo>
                  <a:close/>
                </a:path>
              </a:pathLst>
            </a:custGeom>
            <a:solidFill>
              <a:srgbClr val="ff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rot="8868000">
              <a:off x="1736280" y="3347640"/>
              <a:ext cx="462240" cy="216720"/>
            </a:xfrm>
            <a:custGeom>
              <a:avLst/>
              <a:gdLst/>
              <a:ahLst/>
              <a:rect l="l" t="t" r="r" b="b"/>
              <a:pathLst>
                <a:path w="799" h="506">
                  <a:moveTo>
                    <a:pt x="10" y="173"/>
                  </a:moveTo>
                  <a:lnTo>
                    <a:pt x="2" y="198"/>
                  </a:lnTo>
                  <a:lnTo>
                    <a:pt x="0" y="223"/>
                  </a:lnTo>
                  <a:lnTo>
                    <a:pt x="2" y="247"/>
                  </a:lnTo>
                  <a:lnTo>
                    <a:pt x="6" y="272"/>
                  </a:lnTo>
                  <a:lnTo>
                    <a:pt x="15" y="297"/>
                  </a:lnTo>
                  <a:lnTo>
                    <a:pt x="29" y="320"/>
                  </a:lnTo>
                  <a:lnTo>
                    <a:pt x="44" y="344"/>
                  </a:lnTo>
                  <a:lnTo>
                    <a:pt x="63" y="365"/>
                  </a:lnTo>
                  <a:lnTo>
                    <a:pt x="84" y="386"/>
                  </a:lnTo>
                  <a:lnTo>
                    <a:pt x="109" y="407"/>
                  </a:lnTo>
                  <a:lnTo>
                    <a:pt x="137" y="426"/>
                  </a:lnTo>
                  <a:lnTo>
                    <a:pt x="168" y="443"/>
                  </a:lnTo>
                  <a:lnTo>
                    <a:pt x="200" y="458"/>
                  </a:lnTo>
                  <a:lnTo>
                    <a:pt x="236" y="472"/>
                  </a:lnTo>
                  <a:lnTo>
                    <a:pt x="272" y="483"/>
                  </a:lnTo>
                  <a:lnTo>
                    <a:pt x="312" y="493"/>
                  </a:lnTo>
                  <a:lnTo>
                    <a:pt x="352" y="500"/>
                  </a:lnTo>
                  <a:lnTo>
                    <a:pt x="392" y="504"/>
                  </a:lnTo>
                  <a:lnTo>
                    <a:pt x="432" y="506"/>
                  </a:lnTo>
                  <a:lnTo>
                    <a:pt x="470" y="504"/>
                  </a:lnTo>
                  <a:lnTo>
                    <a:pt x="508" y="502"/>
                  </a:lnTo>
                  <a:lnTo>
                    <a:pt x="544" y="497"/>
                  </a:lnTo>
                  <a:lnTo>
                    <a:pt x="581" y="489"/>
                  </a:lnTo>
                  <a:lnTo>
                    <a:pt x="615" y="477"/>
                  </a:lnTo>
                  <a:lnTo>
                    <a:pt x="645" y="466"/>
                  </a:lnTo>
                  <a:lnTo>
                    <a:pt x="674" y="453"/>
                  </a:lnTo>
                  <a:lnTo>
                    <a:pt x="700" y="438"/>
                  </a:lnTo>
                  <a:lnTo>
                    <a:pt x="725" y="419"/>
                  </a:lnTo>
                  <a:lnTo>
                    <a:pt x="746" y="399"/>
                  </a:lnTo>
                  <a:lnTo>
                    <a:pt x="765" y="379"/>
                  </a:lnTo>
                  <a:lnTo>
                    <a:pt x="779" y="358"/>
                  </a:lnTo>
                  <a:lnTo>
                    <a:pt x="790" y="333"/>
                  </a:lnTo>
                  <a:lnTo>
                    <a:pt x="798" y="308"/>
                  </a:lnTo>
                  <a:lnTo>
                    <a:pt x="799" y="283"/>
                  </a:lnTo>
                  <a:lnTo>
                    <a:pt x="798" y="259"/>
                  </a:lnTo>
                  <a:lnTo>
                    <a:pt x="794" y="234"/>
                  </a:lnTo>
                  <a:lnTo>
                    <a:pt x="784" y="209"/>
                  </a:lnTo>
                  <a:lnTo>
                    <a:pt x="771" y="186"/>
                  </a:lnTo>
                  <a:lnTo>
                    <a:pt x="756" y="162"/>
                  </a:lnTo>
                  <a:lnTo>
                    <a:pt x="737" y="141"/>
                  </a:lnTo>
                  <a:lnTo>
                    <a:pt x="716" y="120"/>
                  </a:lnTo>
                  <a:lnTo>
                    <a:pt x="691" y="99"/>
                  </a:lnTo>
                  <a:lnTo>
                    <a:pt x="662" y="80"/>
                  </a:lnTo>
                  <a:lnTo>
                    <a:pt x="632" y="63"/>
                  </a:lnTo>
                  <a:lnTo>
                    <a:pt x="600" y="48"/>
                  </a:lnTo>
                  <a:lnTo>
                    <a:pt x="563" y="34"/>
                  </a:lnTo>
                  <a:lnTo>
                    <a:pt x="527" y="23"/>
                  </a:lnTo>
                  <a:lnTo>
                    <a:pt x="487" y="13"/>
                  </a:lnTo>
                  <a:lnTo>
                    <a:pt x="447" y="6"/>
                  </a:lnTo>
                  <a:lnTo>
                    <a:pt x="407" y="2"/>
                  </a:lnTo>
                  <a:lnTo>
                    <a:pt x="367" y="0"/>
                  </a:lnTo>
                  <a:lnTo>
                    <a:pt x="329" y="2"/>
                  </a:lnTo>
                  <a:lnTo>
                    <a:pt x="291" y="4"/>
                  </a:lnTo>
                  <a:lnTo>
                    <a:pt x="255" y="10"/>
                  </a:lnTo>
                  <a:lnTo>
                    <a:pt x="219" y="17"/>
                  </a:lnTo>
                  <a:lnTo>
                    <a:pt x="187" y="27"/>
                  </a:lnTo>
                  <a:lnTo>
                    <a:pt x="154" y="40"/>
                  </a:lnTo>
                  <a:lnTo>
                    <a:pt x="126" y="53"/>
                  </a:lnTo>
                  <a:lnTo>
                    <a:pt x="99" y="69"/>
                  </a:lnTo>
                  <a:lnTo>
                    <a:pt x="74" y="88"/>
                  </a:lnTo>
                  <a:lnTo>
                    <a:pt x="53" y="107"/>
                  </a:lnTo>
                  <a:lnTo>
                    <a:pt x="34" y="127"/>
                  </a:lnTo>
                  <a:lnTo>
                    <a:pt x="21" y="148"/>
                  </a:lnTo>
                  <a:lnTo>
                    <a:pt x="10" y="173"/>
                  </a:lnTo>
                  <a:close/>
                </a:path>
              </a:pathLst>
            </a:custGeom>
            <a:solidFill>
              <a:srgbClr val="fa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rot="8868000">
              <a:off x="1789200" y="4343040"/>
              <a:ext cx="177120" cy="77400"/>
            </a:xfrm>
            <a:custGeom>
              <a:avLst/>
              <a:gdLst/>
              <a:ahLst/>
              <a:rect l="l" t="t" r="r" b="b"/>
              <a:pathLst>
                <a:path w="307" h="196">
                  <a:moveTo>
                    <a:pt x="301" y="0"/>
                  </a:moveTo>
                  <a:lnTo>
                    <a:pt x="307" y="21"/>
                  </a:lnTo>
                  <a:lnTo>
                    <a:pt x="307" y="40"/>
                  </a:lnTo>
                  <a:lnTo>
                    <a:pt x="303" y="59"/>
                  </a:lnTo>
                  <a:lnTo>
                    <a:pt x="293" y="78"/>
                  </a:lnTo>
                  <a:lnTo>
                    <a:pt x="280" y="95"/>
                  </a:lnTo>
                  <a:lnTo>
                    <a:pt x="263" y="112"/>
                  </a:lnTo>
                  <a:lnTo>
                    <a:pt x="244" y="127"/>
                  </a:lnTo>
                  <a:lnTo>
                    <a:pt x="221" y="140"/>
                  </a:lnTo>
                  <a:lnTo>
                    <a:pt x="196" y="154"/>
                  </a:lnTo>
                  <a:lnTo>
                    <a:pt x="170" y="165"/>
                  </a:lnTo>
                  <a:lnTo>
                    <a:pt x="141" y="175"/>
                  </a:lnTo>
                  <a:lnTo>
                    <a:pt x="113" y="182"/>
                  </a:lnTo>
                  <a:lnTo>
                    <a:pt x="84" y="188"/>
                  </a:lnTo>
                  <a:lnTo>
                    <a:pt x="55" y="194"/>
                  </a:lnTo>
                  <a:lnTo>
                    <a:pt x="27" y="196"/>
                  </a:lnTo>
                  <a:lnTo>
                    <a:pt x="0" y="196"/>
                  </a:lnTo>
                  <a:lnTo>
                    <a:pt x="33" y="190"/>
                  </a:lnTo>
                  <a:lnTo>
                    <a:pt x="59" y="186"/>
                  </a:lnTo>
                  <a:lnTo>
                    <a:pt x="80" y="182"/>
                  </a:lnTo>
                  <a:lnTo>
                    <a:pt x="97" y="178"/>
                  </a:lnTo>
                  <a:lnTo>
                    <a:pt x="109" y="175"/>
                  </a:lnTo>
                  <a:lnTo>
                    <a:pt x="118" y="173"/>
                  </a:lnTo>
                  <a:lnTo>
                    <a:pt x="124" y="173"/>
                  </a:lnTo>
                  <a:lnTo>
                    <a:pt x="128" y="171"/>
                  </a:lnTo>
                  <a:lnTo>
                    <a:pt x="158" y="163"/>
                  </a:lnTo>
                  <a:lnTo>
                    <a:pt x="185" y="152"/>
                  </a:lnTo>
                  <a:lnTo>
                    <a:pt x="210" y="140"/>
                  </a:lnTo>
                  <a:lnTo>
                    <a:pt x="234" y="125"/>
                  </a:lnTo>
                  <a:lnTo>
                    <a:pt x="253" y="108"/>
                  </a:lnTo>
                  <a:lnTo>
                    <a:pt x="272" y="91"/>
                  </a:lnTo>
                  <a:lnTo>
                    <a:pt x="288" y="70"/>
                  </a:lnTo>
                  <a:lnTo>
                    <a:pt x="299" y="49"/>
                  </a:lnTo>
                  <a:lnTo>
                    <a:pt x="303" y="40"/>
                  </a:lnTo>
                  <a:lnTo>
                    <a:pt x="303" y="26"/>
                  </a:lnTo>
                  <a:lnTo>
                    <a:pt x="303" y="1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 rot="8868000">
              <a:off x="1488600" y="4352760"/>
              <a:ext cx="191520" cy="83160"/>
            </a:xfrm>
            <a:custGeom>
              <a:avLst/>
              <a:gdLst/>
              <a:ahLst/>
              <a:rect l="l" t="t" r="r" b="b"/>
              <a:pathLst>
                <a:path w="331" h="209">
                  <a:moveTo>
                    <a:pt x="325" y="0"/>
                  </a:moveTo>
                  <a:lnTo>
                    <a:pt x="331" y="21"/>
                  </a:lnTo>
                  <a:lnTo>
                    <a:pt x="331" y="42"/>
                  </a:lnTo>
                  <a:lnTo>
                    <a:pt x="325" y="62"/>
                  </a:lnTo>
                  <a:lnTo>
                    <a:pt x="316" y="81"/>
                  </a:lnTo>
                  <a:lnTo>
                    <a:pt x="302" y="100"/>
                  </a:lnTo>
                  <a:lnTo>
                    <a:pt x="283" y="118"/>
                  </a:lnTo>
                  <a:lnTo>
                    <a:pt x="262" y="135"/>
                  </a:lnTo>
                  <a:lnTo>
                    <a:pt x="237" y="150"/>
                  </a:lnTo>
                  <a:lnTo>
                    <a:pt x="211" y="163"/>
                  </a:lnTo>
                  <a:lnTo>
                    <a:pt x="182" y="175"/>
                  </a:lnTo>
                  <a:lnTo>
                    <a:pt x="154" y="186"/>
                  </a:lnTo>
                  <a:lnTo>
                    <a:pt x="121" y="194"/>
                  </a:lnTo>
                  <a:lnTo>
                    <a:pt x="91" y="201"/>
                  </a:lnTo>
                  <a:lnTo>
                    <a:pt x="60" y="205"/>
                  </a:lnTo>
                  <a:lnTo>
                    <a:pt x="30" y="209"/>
                  </a:lnTo>
                  <a:lnTo>
                    <a:pt x="0" y="209"/>
                  </a:lnTo>
                  <a:lnTo>
                    <a:pt x="36" y="203"/>
                  </a:lnTo>
                  <a:lnTo>
                    <a:pt x="64" y="197"/>
                  </a:lnTo>
                  <a:lnTo>
                    <a:pt x="87" y="194"/>
                  </a:lnTo>
                  <a:lnTo>
                    <a:pt x="104" y="190"/>
                  </a:lnTo>
                  <a:lnTo>
                    <a:pt x="118" y="186"/>
                  </a:lnTo>
                  <a:lnTo>
                    <a:pt x="127" y="184"/>
                  </a:lnTo>
                  <a:lnTo>
                    <a:pt x="135" y="184"/>
                  </a:lnTo>
                  <a:lnTo>
                    <a:pt x="140" y="182"/>
                  </a:lnTo>
                  <a:lnTo>
                    <a:pt x="171" y="173"/>
                  </a:lnTo>
                  <a:lnTo>
                    <a:pt x="201" y="161"/>
                  </a:lnTo>
                  <a:lnTo>
                    <a:pt x="228" y="148"/>
                  </a:lnTo>
                  <a:lnTo>
                    <a:pt x="251" y="133"/>
                  </a:lnTo>
                  <a:lnTo>
                    <a:pt x="274" y="116"/>
                  </a:lnTo>
                  <a:lnTo>
                    <a:pt x="293" y="97"/>
                  </a:lnTo>
                  <a:lnTo>
                    <a:pt x="308" y="76"/>
                  </a:lnTo>
                  <a:lnTo>
                    <a:pt x="321" y="53"/>
                  </a:lnTo>
                  <a:lnTo>
                    <a:pt x="325" y="42"/>
                  </a:lnTo>
                  <a:lnTo>
                    <a:pt x="327" y="28"/>
                  </a:lnTo>
                  <a:lnTo>
                    <a:pt x="327" y="15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 rot="8868000">
              <a:off x="1315440" y="4227120"/>
              <a:ext cx="223920" cy="84240"/>
            </a:xfrm>
            <a:custGeom>
              <a:avLst/>
              <a:gdLst/>
              <a:ahLst/>
              <a:rect l="l" t="t" r="r" b="b"/>
              <a:pathLst>
                <a:path w="388" h="213">
                  <a:moveTo>
                    <a:pt x="384" y="0"/>
                  </a:moveTo>
                  <a:lnTo>
                    <a:pt x="388" y="26"/>
                  </a:lnTo>
                  <a:lnTo>
                    <a:pt x="384" y="53"/>
                  </a:lnTo>
                  <a:lnTo>
                    <a:pt x="376" y="76"/>
                  </a:lnTo>
                  <a:lnTo>
                    <a:pt x="363" y="99"/>
                  </a:lnTo>
                  <a:lnTo>
                    <a:pt x="344" y="120"/>
                  </a:lnTo>
                  <a:lnTo>
                    <a:pt x="323" y="139"/>
                  </a:lnTo>
                  <a:lnTo>
                    <a:pt x="296" y="156"/>
                  </a:lnTo>
                  <a:lnTo>
                    <a:pt x="268" y="169"/>
                  </a:lnTo>
                  <a:lnTo>
                    <a:pt x="237" y="182"/>
                  </a:lnTo>
                  <a:lnTo>
                    <a:pt x="205" y="194"/>
                  </a:lnTo>
                  <a:lnTo>
                    <a:pt x="171" y="201"/>
                  </a:lnTo>
                  <a:lnTo>
                    <a:pt x="135" y="209"/>
                  </a:lnTo>
                  <a:lnTo>
                    <a:pt x="100" y="213"/>
                  </a:lnTo>
                  <a:lnTo>
                    <a:pt x="66" y="213"/>
                  </a:lnTo>
                  <a:lnTo>
                    <a:pt x="32" y="213"/>
                  </a:lnTo>
                  <a:lnTo>
                    <a:pt x="0" y="209"/>
                  </a:lnTo>
                  <a:lnTo>
                    <a:pt x="40" y="207"/>
                  </a:lnTo>
                  <a:lnTo>
                    <a:pt x="72" y="205"/>
                  </a:lnTo>
                  <a:lnTo>
                    <a:pt x="97" y="203"/>
                  </a:lnTo>
                  <a:lnTo>
                    <a:pt x="118" y="201"/>
                  </a:lnTo>
                  <a:lnTo>
                    <a:pt x="131" y="200"/>
                  </a:lnTo>
                  <a:lnTo>
                    <a:pt x="142" y="198"/>
                  </a:lnTo>
                  <a:lnTo>
                    <a:pt x="150" y="196"/>
                  </a:lnTo>
                  <a:lnTo>
                    <a:pt x="156" y="196"/>
                  </a:lnTo>
                  <a:lnTo>
                    <a:pt x="192" y="190"/>
                  </a:lnTo>
                  <a:lnTo>
                    <a:pt x="224" y="179"/>
                  </a:lnTo>
                  <a:lnTo>
                    <a:pt x="256" y="167"/>
                  </a:lnTo>
                  <a:lnTo>
                    <a:pt x="285" y="152"/>
                  </a:lnTo>
                  <a:lnTo>
                    <a:pt x="312" y="133"/>
                  </a:lnTo>
                  <a:lnTo>
                    <a:pt x="336" y="112"/>
                  </a:lnTo>
                  <a:lnTo>
                    <a:pt x="355" y="89"/>
                  </a:lnTo>
                  <a:lnTo>
                    <a:pt x="373" y="63"/>
                  </a:lnTo>
                  <a:lnTo>
                    <a:pt x="378" y="51"/>
                  </a:lnTo>
                  <a:lnTo>
                    <a:pt x="382" y="36"/>
                  </a:lnTo>
                  <a:lnTo>
                    <a:pt x="384" y="19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rot="8868000">
              <a:off x="1412280" y="3872520"/>
              <a:ext cx="252720" cy="95760"/>
            </a:xfrm>
            <a:custGeom>
              <a:avLst/>
              <a:gdLst/>
              <a:ahLst/>
              <a:rect l="l" t="t" r="r" b="b"/>
              <a:pathLst>
                <a:path w="437" h="241">
                  <a:moveTo>
                    <a:pt x="434" y="0"/>
                  </a:moveTo>
                  <a:lnTo>
                    <a:pt x="437" y="32"/>
                  </a:lnTo>
                  <a:lnTo>
                    <a:pt x="434" y="63"/>
                  </a:lnTo>
                  <a:lnTo>
                    <a:pt x="422" y="91"/>
                  </a:lnTo>
                  <a:lnTo>
                    <a:pt x="407" y="116"/>
                  </a:lnTo>
                  <a:lnTo>
                    <a:pt x="386" y="141"/>
                  </a:lnTo>
                  <a:lnTo>
                    <a:pt x="361" y="161"/>
                  </a:lnTo>
                  <a:lnTo>
                    <a:pt x="331" y="180"/>
                  </a:lnTo>
                  <a:lnTo>
                    <a:pt x="300" y="198"/>
                  </a:lnTo>
                  <a:lnTo>
                    <a:pt x="264" y="211"/>
                  </a:lnTo>
                  <a:lnTo>
                    <a:pt x="228" y="222"/>
                  </a:lnTo>
                  <a:lnTo>
                    <a:pt x="190" y="232"/>
                  </a:lnTo>
                  <a:lnTo>
                    <a:pt x="150" y="238"/>
                  </a:lnTo>
                  <a:lnTo>
                    <a:pt x="112" y="241"/>
                  </a:lnTo>
                  <a:lnTo>
                    <a:pt x="72" y="241"/>
                  </a:lnTo>
                  <a:lnTo>
                    <a:pt x="36" y="238"/>
                  </a:lnTo>
                  <a:lnTo>
                    <a:pt x="0" y="232"/>
                  </a:lnTo>
                  <a:lnTo>
                    <a:pt x="43" y="232"/>
                  </a:lnTo>
                  <a:lnTo>
                    <a:pt x="80" y="230"/>
                  </a:lnTo>
                  <a:lnTo>
                    <a:pt x="108" y="230"/>
                  </a:lnTo>
                  <a:lnTo>
                    <a:pt x="129" y="228"/>
                  </a:lnTo>
                  <a:lnTo>
                    <a:pt x="146" y="226"/>
                  </a:lnTo>
                  <a:lnTo>
                    <a:pt x="158" y="226"/>
                  </a:lnTo>
                  <a:lnTo>
                    <a:pt x="167" y="224"/>
                  </a:lnTo>
                  <a:lnTo>
                    <a:pt x="173" y="224"/>
                  </a:lnTo>
                  <a:lnTo>
                    <a:pt x="213" y="219"/>
                  </a:lnTo>
                  <a:lnTo>
                    <a:pt x="251" y="207"/>
                  </a:lnTo>
                  <a:lnTo>
                    <a:pt x="285" y="194"/>
                  </a:lnTo>
                  <a:lnTo>
                    <a:pt x="319" y="177"/>
                  </a:lnTo>
                  <a:lnTo>
                    <a:pt x="348" y="156"/>
                  </a:lnTo>
                  <a:lnTo>
                    <a:pt x="376" y="131"/>
                  </a:lnTo>
                  <a:lnTo>
                    <a:pt x="399" y="104"/>
                  </a:lnTo>
                  <a:lnTo>
                    <a:pt x="420" y="74"/>
                  </a:lnTo>
                  <a:lnTo>
                    <a:pt x="428" y="59"/>
                  </a:lnTo>
                  <a:lnTo>
                    <a:pt x="432" y="42"/>
                  </a:lnTo>
                  <a:lnTo>
                    <a:pt x="434" y="23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rot="8868000">
              <a:off x="1718280" y="3403800"/>
              <a:ext cx="312840" cy="91080"/>
            </a:xfrm>
            <a:custGeom>
              <a:avLst/>
              <a:gdLst/>
              <a:ahLst/>
              <a:rect l="l" t="t" r="r" b="b"/>
              <a:pathLst>
                <a:path w="541" h="228">
                  <a:moveTo>
                    <a:pt x="541" y="0"/>
                  </a:moveTo>
                  <a:lnTo>
                    <a:pt x="537" y="36"/>
                  </a:lnTo>
                  <a:lnTo>
                    <a:pt x="525" y="68"/>
                  </a:lnTo>
                  <a:lnTo>
                    <a:pt x="506" y="99"/>
                  </a:lnTo>
                  <a:lnTo>
                    <a:pt x="483" y="125"/>
                  </a:lnTo>
                  <a:lnTo>
                    <a:pt x="455" y="148"/>
                  </a:lnTo>
                  <a:lnTo>
                    <a:pt x="421" y="169"/>
                  </a:lnTo>
                  <a:lnTo>
                    <a:pt x="384" y="186"/>
                  </a:lnTo>
                  <a:lnTo>
                    <a:pt x="345" y="202"/>
                  </a:lnTo>
                  <a:lnTo>
                    <a:pt x="301" y="213"/>
                  </a:lnTo>
                  <a:lnTo>
                    <a:pt x="257" y="221"/>
                  </a:lnTo>
                  <a:lnTo>
                    <a:pt x="213" y="226"/>
                  </a:lnTo>
                  <a:lnTo>
                    <a:pt x="167" y="228"/>
                  </a:lnTo>
                  <a:lnTo>
                    <a:pt x="124" y="226"/>
                  </a:lnTo>
                  <a:lnTo>
                    <a:pt x="80" y="223"/>
                  </a:lnTo>
                  <a:lnTo>
                    <a:pt x="38" y="215"/>
                  </a:lnTo>
                  <a:lnTo>
                    <a:pt x="0" y="205"/>
                  </a:lnTo>
                  <a:lnTo>
                    <a:pt x="49" y="209"/>
                  </a:lnTo>
                  <a:lnTo>
                    <a:pt x="89" y="213"/>
                  </a:lnTo>
                  <a:lnTo>
                    <a:pt x="122" y="215"/>
                  </a:lnTo>
                  <a:lnTo>
                    <a:pt x="147" y="215"/>
                  </a:lnTo>
                  <a:lnTo>
                    <a:pt x="166" y="217"/>
                  </a:lnTo>
                  <a:lnTo>
                    <a:pt x="179" y="217"/>
                  </a:lnTo>
                  <a:lnTo>
                    <a:pt x="188" y="217"/>
                  </a:lnTo>
                  <a:lnTo>
                    <a:pt x="196" y="217"/>
                  </a:lnTo>
                  <a:lnTo>
                    <a:pt x="219" y="217"/>
                  </a:lnTo>
                  <a:lnTo>
                    <a:pt x="242" y="215"/>
                  </a:lnTo>
                  <a:lnTo>
                    <a:pt x="265" y="211"/>
                  </a:lnTo>
                  <a:lnTo>
                    <a:pt x="287" y="207"/>
                  </a:lnTo>
                  <a:lnTo>
                    <a:pt x="308" y="202"/>
                  </a:lnTo>
                  <a:lnTo>
                    <a:pt x="331" y="196"/>
                  </a:lnTo>
                  <a:lnTo>
                    <a:pt x="352" y="188"/>
                  </a:lnTo>
                  <a:lnTo>
                    <a:pt x="371" y="181"/>
                  </a:lnTo>
                  <a:lnTo>
                    <a:pt x="390" y="171"/>
                  </a:lnTo>
                  <a:lnTo>
                    <a:pt x="409" y="162"/>
                  </a:lnTo>
                  <a:lnTo>
                    <a:pt x="428" y="150"/>
                  </a:lnTo>
                  <a:lnTo>
                    <a:pt x="445" y="139"/>
                  </a:lnTo>
                  <a:lnTo>
                    <a:pt x="463" y="125"/>
                  </a:lnTo>
                  <a:lnTo>
                    <a:pt x="478" y="112"/>
                  </a:lnTo>
                  <a:lnTo>
                    <a:pt x="493" y="97"/>
                  </a:lnTo>
                  <a:lnTo>
                    <a:pt x="508" y="82"/>
                  </a:lnTo>
                  <a:lnTo>
                    <a:pt x="518" y="67"/>
                  </a:lnTo>
                  <a:lnTo>
                    <a:pt x="527" y="48"/>
                  </a:lnTo>
                  <a:lnTo>
                    <a:pt x="533" y="27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7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"/>
          <p:cNvSpPr/>
          <p:nvPr/>
        </p:nvSpPr>
        <p:spPr>
          <a:xfrm>
            <a:off x="4676760" y="4654440"/>
            <a:ext cx="33480" cy="50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0"/>
                </a:moveTo>
                <a:lnTo>
                  <a:pt x="63" y="3"/>
                </a:lnTo>
                <a:lnTo>
                  <a:pt x="55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1219320" y="3002040"/>
            <a:ext cx="1863720" cy="1616040"/>
            <a:chOff x="1219320" y="3002040"/>
            <a:chExt cx="1863720" cy="1616040"/>
          </a:xfrm>
        </p:grpSpPr>
        <p:sp>
          <p:nvSpPr>
            <p:cNvPr id="4161" name=""/>
            <p:cNvSpPr/>
            <p:nvPr/>
          </p:nvSpPr>
          <p:spPr>
            <a:xfrm>
              <a:off x="1219320" y="3002040"/>
              <a:ext cx="1792440" cy="1616040"/>
            </a:xfrm>
            <a:custGeom>
              <a:avLst/>
              <a:gdLst/>
              <a:ahLst/>
              <a:rect l="l" t="t" r="r" b="b"/>
              <a:pathLst>
                <a:path w="6775" h="6109">
                  <a:moveTo>
                    <a:pt x="3521" y="3762"/>
                  </a:moveTo>
                  <a:lnTo>
                    <a:pt x="3521" y="0"/>
                  </a:lnTo>
                  <a:lnTo>
                    <a:pt x="4058" y="0"/>
                  </a:lnTo>
                  <a:lnTo>
                    <a:pt x="4917" y="2957"/>
                  </a:lnTo>
                  <a:lnTo>
                    <a:pt x="3521" y="3762"/>
                  </a:lnTo>
                  <a:lnTo>
                    <a:pt x="6775" y="5643"/>
                  </a:lnTo>
                  <a:lnTo>
                    <a:pt x="6506" y="6109"/>
                  </a:lnTo>
                  <a:lnTo>
                    <a:pt x="3521" y="5374"/>
                  </a:lnTo>
                  <a:lnTo>
                    <a:pt x="3521" y="3762"/>
                  </a:lnTo>
                  <a:lnTo>
                    <a:pt x="269" y="5643"/>
                  </a:lnTo>
                  <a:lnTo>
                    <a:pt x="0" y="5178"/>
                  </a:lnTo>
                  <a:lnTo>
                    <a:pt x="2127" y="2957"/>
                  </a:lnTo>
                  <a:lnTo>
                    <a:pt x="3521" y="376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219320" y="3002040"/>
              <a:ext cx="1792440" cy="1616040"/>
            </a:xfrm>
            <a:custGeom>
              <a:avLst/>
              <a:gdLst/>
              <a:ahLst/>
              <a:rect l="l" t="t" r="r" b="b"/>
              <a:pathLst>
                <a:path w="6775" h="6109">
                  <a:moveTo>
                    <a:pt x="3521" y="3762"/>
                  </a:moveTo>
                  <a:lnTo>
                    <a:pt x="3521" y="0"/>
                  </a:lnTo>
                  <a:lnTo>
                    <a:pt x="4058" y="0"/>
                  </a:lnTo>
                  <a:lnTo>
                    <a:pt x="4917" y="2957"/>
                  </a:lnTo>
                  <a:lnTo>
                    <a:pt x="3521" y="3762"/>
                  </a:lnTo>
                  <a:lnTo>
                    <a:pt x="6775" y="5643"/>
                  </a:lnTo>
                  <a:lnTo>
                    <a:pt x="6506" y="6109"/>
                  </a:lnTo>
                  <a:lnTo>
                    <a:pt x="3521" y="5374"/>
                  </a:lnTo>
                  <a:lnTo>
                    <a:pt x="3521" y="3762"/>
                  </a:lnTo>
                  <a:lnTo>
                    <a:pt x="269" y="5643"/>
                  </a:lnTo>
                  <a:lnTo>
                    <a:pt x="0" y="5178"/>
                  </a:lnTo>
                  <a:lnTo>
                    <a:pt x="2127" y="2957"/>
                  </a:lnTo>
                  <a:lnTo>
                    <a:pt x="3521" y="376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519640" y="3784320"/>
              <a:ext cx="563400" cy="709560"/>
            </a:xfrm>
            <a:custGeom>
              <a:avLst/>
              <a:gdLst/>
              <a:ahLst/>
              <a:rect l="l" t="t" r="r" b="b"/>
              <a:pathLst>
                <a:path w="2126" h="2686">
                  <a:moveTo>
                    <a:pt x="0" y="0"/>
                  </a:moveTo>
                  <a:lnTo>
                    <a:pt x="2126" y="2221"/>
                  </a:lnTo>
                  <a:lnTo>
                    <a:pt x="1858" y="2686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290960" y="4424400"/>
              <a:ext cx="860400" cy="193320"/>
            </a:xfrm>
            <a:custGeom>
              <a:avLst/>
              <a:gdLst/>
              <a:ahLst/>
              <a:rect l="l" t="t" r="r" b="b"/>
              <a:pathLst>
                <a:path w="3252" h="735">
                  <a:moveTo>
                    <a:pt x="3252" y="0"/>
                  </a:moveTo>
                  <a:lnTo>
                    <a:pt x="268" y="735"/>
                  </a:lnTo>
                  <a:lnTo>
                    <a:pt x="0" y="269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783080" y="3002040"/>
              <a:ext cx="368280" cy="782280"/>
            </a:xfrm>
            <a:custGeom>
              <a:avLst/>
              <a:gdLst/>
              <a:ahLst/>
              <a:rect l="l" t="t" r="r" b="b"/>
              <a:pathLst>
                <a:path w="1394" h="2957">
                  <a:moveTo>
                    <a:pt x="0" y="2957"/>
                  </a:moveTo>
                  <a:lnTo>
                    <a:pt x="858" y="0"/>
                  </a:lnTo>
                  <a:lnTo>
                    <a:pt x="1394" y="0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6" name=""/>
          <p:cNvGrpSpPr/>
          <p:nvPr/>
        </p:nvGrpSpPr>
        <p:grpSpPr>
          <a:xfrm>
            <a:off x="5638680" y="2725560"/>
            <a:ext cx="2198880" cy="2168640"/>
            <a:chOff x="5638680" y="2725560"/>
            <a:chExt cx="2198880" cy="2168640"/>
          </a:xfrm>
        </p:grpSpPr>
        <p:sp>
          <p:nvSpPr>
            <p:cNvPr id="4167" name=""/>
            <p:cNvSpPr/>
            <p:nvPr/>
          </p:nvSpPr>
          <p:spPr>
            <a:xfrm>
              <a:off x="5638680" y="2725560"/>
              <a:ext cx="2198880" cy="2168640"/>
            </a:xfrm>
            <a:custGeom>
              <a:avLst/>
              <a:gdLst/>
              <a:ahLst/>
              <a:rect l="l" t="t" r="r" b="b"/>
              <a:pathLst>
                <a:path w="4155" h="4098">
                  <a:moveTo>
                    <a:pt x="2081" y="0"/>
                  </a:moveTo>
                  <a:lnTo>
                    <a:pt x="2820" y="1294"/>
                  </a:lnTo>
                  <a:lnTo>
                    <a:pt x="4155" y="2024"/>
                  </a:lnTo>
                  <a:lnTo>
                    <a:pt x="2820" y="2746"/>
                  </a:lnTo>
                  <a:lnTo>
                    <a:pt x="2082" y="4098"/>
                  </a:lnTo>
                  <a:lnTo>
                    <a:pt x="1351" y="2747"/>
                  </a:lnTo>
                  <a:lnTo>
                    <a:pt x="0" y="2023"/>
                  </a:lnTo>
                  <a:lnTo>
                    <a:pt x="1351" y="1294"/>
                  </a:lnTo>
                  <a:lnTo>
                    <a:pt x="2081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353280" y="3409920"/>
              <a:ext cx="174600" cy="123840"/>
            </a:xfrm>
            <a:custGeom>
              <a:avLst/>
              <a:gdLst/>
              <a:ahLst/>
              <a:rect l="l" t="t" r="r" b="b"/>
              <a:pathLst>
                <a:path w="330" h="232">
                  <a:moveTo>
                    <a:pt x="170" y="232"/>
                  </a:moveTo>
                  <a:lnTo>
                    <a:pt x="0" y="0"/>
                  </a:lnTo>
                  <a:lnTo>
                    <a:pt x="330" y="232"/>
                  </a:lnTo>
                  <a:lnTo>
                    <a:pt x="170" y="232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649920" y="2725560"/>
              <a:ext cx="174600" cy="808200"/>
            </a:xfrm>
            <a:custGeom>
              <a:avLst/>
              <a:gdLst/>
              <a:ahLst/>
              <a:rect l="l" t="t" r="r" b="b"/>
              <a:pathLst>
                <a:path w="331" h="1526">
                  <a:moveTo>
                    <a:pt x="116" y="1526"/>
                  </a:moveTo>
                  <a:lnTo>
                    <a:pt x="0" y="1036"/>
                  </a:lnTo>
                  <a:lnTo>
                    <a:pt x="170" y="0"/>
                  </a:lnTo>
                  <a:lnTo>
                    <a:pt x="331" y="1036"/>
                  </a:lnTo>
                  <a:lnTo>
                    <a:pt x="221" y="1526"/>
                  </a:lnTo>
                  <a:lnTo>
                    <a:pt x="116" y="1526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953400" y="3409920"/>
              <a:ext cx="177480" cy="12384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232"/>
                  </a:moveTo>
                  <a:lnTo>
                    <a:pt x="337" y="0"/>
                  </a:lnTo>
                  <a:lnTo>
                    <a:pt x="161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93000" y="3706920"/>
              <a:ext cx="166680" cy="15840"/>
            </a:xfrm>
            <a:custGeom>
              <a:avLst/>
              <a:gdLst/>
              <a:ahLst/>
              <a:rect l="l" t="t" r="r" b="b"/>
              <a:pathLst>
                <a:path w="317" h="30">
                  <a:moveTo>
                    <a:pt x="0" y="30"/>
                  </a:moveTo>
                  <a:lnTo>
                    <a:pt x="188" y="0"/>
                  </a:lnTo>
                  <a:lnTo>
                    <a:pt x="31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443640" y="3533760"/>
              <a:ext cx="228600" cy="189000"/>
            </a:xfrm>
            <a:custGeom>
              <a:avLst/>
              <a:gdLst/>
              <a:ahLst/>
              <a:rect l="l" t="t" r="r" b="b"/>
              <a:pathLst>
                <a:path w="432" h="359">
                  <a:moveTo>
                    <a:pt x="405" y="359"/>
                  </a:moveTo>
                  <a:lnTo>
                    <a:pt x="136" y="184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254" y="66"/>
                  </a:lnTo>
                  <a:lnTo>
                    <a:pt x="432" y="359"/>
                  </a:lnTo>
                  <a:lnTo>
                    <a:pt x="405" y="359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807240" y="3533760"/>
              <a:ext cx="230040" cy="189000"/>
            </a:xfrm>
            <a:custGeom>
              <a:avLst/>
              <a:gdLst/>
              <a:ahLst/>
              <a:rect l="l" t="t" r="r" b="b"/>
              <a:pathLst>
                <a:path w="435" h="359">
                  <a:moveTo>
                    <a:pt x="0" y="359"/>
                  </a:moveTo>
                  <a:lnTo>
                    <a:pt x="178" y="66"/>
                  </a:lnTo>
                  <a:lnTo>
                    <a:pt x="274" y="0"/>
                  </a:lnTo>
                  <a:lnTo>
                    <a:pt x="435" y="0"/>
                  </a:lnTo>
                  <a:lnTo>
                    <a:pt x="296" y="184"/>
                  </a:lnTo>
                  <a:lnTo>
                    <a:pt x="27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7221600" y="3706920"/>
              <a:ext cx="164880" cy="15840"/>
            </a:xfrm>
            <a:custGeom>
              <a:avLst/>
              <a:gdLst/>
              <a:ahLst/>
              <a:rect l="l" t="t" r="r" b="b"/>
              <a:pathLst>
                <a:path w="313" h="30">
                  <a:moveTo>
                    <a:pt x="0" y="30"/>
                  </a:moveTo>
                  <a:lnTo>
                    <a:pt x="128" y="0"/>
                  </a:lnTo>
                  <a:lnTo>
                    <a:pt x="3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710400" y="3533760"/>
              <a:ext cx="55440" cy="122400"/>
            </a:xfrm>
            <a:custGeom>
              <a:avLst/>
              <a:gdLst/>
              <a:ahLst/>
              <a:rect l="l" t="t" r="r" b="b"/>
              <a:pathLst>
                <a:path w="105" h="232">
                  <a:moveTo>
                    <a:pt x="0" y="0"/>
                  </a:moveTo>
                  <a:lnTo>
                    <a:pt x="54" y="23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638680" y="3722760"/>
              <a:ext cx="935280" cy="87120"/>
            </a:xfrm>
            <a:custGeom>
              <a:avLst/>
              <a:gdLst/>
              <a:ahLst/>
              <a:rect l="l" t="t" r="r" b="b"/>
              <a:pathLst>
                <a:path w="1767" h="165">
                  <a:moveTo>
                    <a:pt x="162" y="165"/>
                  </a:moveTo>
                  <a:lnTo>
                    <a:pt x="0" y="139"/>
                  </a:lnTo>
                  <a:lnTo>
                    <a:pt x="857" y="0"/>
                  </a:lnTo>
                  <a:lnTo>
                    <a:pt x="1174" y="0"/>
                  </a:lnTo>
                  <a:lnTo>
                    <a:pt x="1767" y="139"/>
                  </a:lnTo>
                  <a:lnTo>
                    <a:pt x="1655" y="165"/>
                  </a:lnTo>
                  <a:lnTo>
                    <a:pt x="162" y="165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6910560" y="3722760"/>
              <a:ext cx="927000" cy="87120"/>
            </a:xfrm>
            <a:custGeom>
              <a:avLst/>
              <a:gdLst/>
              <a:ahLst/>
              <a:rect l="l" t="t" r="r" b="b"/>
              <a:pathLst>
                <a:path w="1750" h="165">
                  <a:moveTo>
                    <a:pt x="111" y="165"/>
                  </a:moveTo>
                  <a:lnTo>
                    <a:pt x="0" y="139"/>
                  </a:lnTo>
                  <a:lnTo>
                    <a:pt x="586" y="0"/>
                  </a:lnTo>
                  <a:lnTo>
                    <a:pt x="899" y="0"/>
                  </a:lnTo>
                  <a:lnTo>
                    <a:pt x="1750" y="139"/>
                  </a:lnTo>
                  <a:lnTo>
                    <a:pt x="1590" y="165"/>
                  </a:lnTo>
                  <a:lnTo>
                    <a:pt x="111" y="165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657840" y="3722760"/>
              <a:ext cx="24120" cy="1584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0" y="0"/>
                  </a:moveTo>
                  <a:lnTo>
                    <a:pt x="45" y="3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797520" y="3722760"/>
              <a:ext cx="24120" cy="1584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18" y="0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724360" y="3809880"/>
              <a:ext cx="790920" cy="55800"/>
            </a:xfrm>
            <a:custGeom>
              <a:avLst/>
              <a:gdLst/>
              <a:ahLst/>
              <a:rect l="l" t="t" r="r" b="b"/>
              <a:pathLst>
                <a:path w="1493" h="105">
                  <a:moveTo>
                    <a:pt x="687" y="105"/>
                  </a:moveTo>
                  <a:lnTo>
                    <a:pt x="0" y="0"/>
                  </a:lnTo>
                  <a:lnTo>
                    <a:pt x="1493" y="0"/>
                  </a:lnTo>
                  <a:lnTo>
                    <a:pt x="1017" y="105"/>
                  </a:lnTo>
                  <a:lnTo>
                    <a:pt x="687" y="105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657840" y="3851280"/>
              <a:ext cx="24120" cy="1440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29"/>
                  </a:moveTo>
                  <a:lnTo>
                    <a:pt x="45" y="0"/>
                  </a:lnTo>
                  <a:lnTo>
                    <a:pt x="27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797520" y="3851280"/>
              <a:ext cx="24120" cy="1440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8" y="29"/>
                  </a:moveTo>
                  <a:lnTo>
                    <a:pt x="0" y="0"/>
                  </a:lnTo>
                  <a:lnTo>
                    <a:pt x="45" y="29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969240" y="3809880"/>
              <a:ext cx="782640" cy="55800"/>
            </a:xfrm>
            <a:custGeom>
              <a:avLst/>
              <a:gdLst/>
              <a:ahLst/>
              <a:rect l="l" t="t" r="r" b="b"/>
              <a:pathLst>
                <a:path w="1479" h="105">
                  <a:moveTo>
                    <a:pt x="469" y="105"/>
                  </a:moveTo>
                  <a:lnTo>
                    <a:pt x="0" y="0"/>
                  </a:lnTo>
                  <a:lnTo>
                    <a:pt x="1479" y="0"/>
                  </a:lnTo>
                  <a:lnTo>
                    <a:pt x="796" y="105"/>
                  </a:lnTo>
                  <a:lnTo>
                    <a:pt x="469" y="105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432480" y="3865680"/>
              <a:ext cx="239760" cy="204840"/>
            </a:xfrm>
            <a:custGeom>
              <a:avLst/>
              <a:gdLst/>
              <a:ahLst/>
              <a:rect l="l" t="t" r="r" b="b"/>
              <a:pathLst>
                <a:path w="452" h="387">
                  <a:moveTo>
                    <a:pt x="0" y="387"/>
                  </a:moveTo>
                  <a:lnTo>
                    <a:pt x="156" y="175"/>
                  </a:lnTo>
                  <a:lnTo>
                    <a:pt x="425" y="0"/>
                  </a:lnTo>
                  <a:lnTo>
                    <a:pt x="452" y="0"/>
                  </a:lnTo>
                  <a:lnTo>
                    <a:pt x="274" y="294"/>
                  </a:lnTo>
                  <a:lnTo>
                    <a:pt x="142" y="387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715080" y="3962520"/>
              <a:ext cx="49320" cy="108000"/>
            </a:xfrm>
            <a:custGeom>
              <a:avLst/>
              <a:gdLst/>
              <a:ahLst/>
              <a:rect l="l" t="t" r="r" b="b"/>
              <a:pathLst>
                <a:path w="92" h="204">
                  <a:moveTo>
                    <a:pt x="0" y="204"/>
                  </a:moveTo>
                  <a:lnTo>
                    <a:pt x="47" y="0"/>
                  </a:lnTo>
                  <a:lnTo>
                    <a:pt x="92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807240" y="3865680"/>
              <a:ext cx="243000" cy="204840"/>
            </a:xfrm>
            <a:custGeom>
              <a:avLst/>
              <a:gdLst/>
              <a:ahLst/>
              <a:rect l="l" t="t" r="r" b="b"/>
              <a:pathLst>
                <a:path w="457" h="387">
                  <a:moveTo>
                    <a:pt x="314" y="387"/>
                  </a:moveTo>
                  <a:lnTo>
                    <a:pt x="178" y="294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96" y="175"/>
                  </a:lnTo>
                  <a:lnTo>
                    <a:pt x="457" y="387"/>
                  </a:lnTo>
                  <a:lnTo>
                    <a:pt x="314" y="387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087960" y="3865680"/>
              <a:ext cx="174600" cy="15840"/>
            </a:xfrm>
            <a:custGeom>
              <a:avLst/>
              <a:gdLst/>
              <a:ahLst/>
              <a:rect l="l" t="t" r="r" b="b"/>
              <a:pathLst>
                <a:path w="330" h="30">
                  <a:moveTo>
                    <a:pt x="0" y="0"/>
                  </a:moveTo>
                  <a:lnTo>
                    <a:pt x="196" y="30"/>
                  </a:lnTo>
                  <a:lnTo>
                    <a:pt x="3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7218360" y="3865680"/>
              <a:ext cx="173160" cy="15840"/>
            </a:xfrm>
            <a:custGeom>
              <a:avLst/>
              <a:gdLst/>
              <a:ahLst/>
              <a:rect l="l" t="t" r="r" b="b"/>
              <a:pathLst>
                <a:path w="327" h="30">
                  <a:moveTo>
                    <a:pt x="0" y="0"/>
                  </a:moveTo>
                  <a:lnTo>
                    <a:pt x="134" y="30"/>
                  </a:lnTo>
                  <a:lnTo>
                    <a:pt x="3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353280" y="4070520"/>
              <a:ext cx="155520" cy="107640"/>
            </a:xfrm>
            <a:custGeom>
              <a:avLst/>
              <a:gdLst/>
              <a:ahLst/>
              <a:rect l="l" t="t" r="r" b="b"/>
              <a:pathLst>
                <a:path w="292" h="204">
                  <a:moveTo>
                    <a:pt x="150" y="0"/>
                  </a:moveTo>
                  <a:lnTo>
                    <a:pt x="0" y="204"/>
                  </a:lnTo>
                  <a:lnTo>
                    <a:pt x="292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649920" y="4070520"/>
              <a:ext cx="174600" cy="823680"/>
            </a:xfrm>
            <a:custGeom>
              <a:avLst/>
              <a:gdLst/>
              <a:ahLst/>
              <a:rect l="l" t="t" r="r" b="b"/>
              <a:pathLst>
                <a:path w="331" h="1555">
                  <a:moveTo>
                    <a:pt x="123" y="0"/>
                  </a:moveTo>
                  <a:lnTo>
                    <a:pt x="0" y="518"/>
                  </a:lnTo>
                  <a:lnTo>
                    <a:pt x="170" y="1555"/>
                  </a:lnTo>
                  <a:lnTo>
                    <a:pt x="331" y="518"/>
                  </a:lnTo>
                  <a:lnTo>
                    <a:pt x="215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973920" y="4070520"/>
              <a:ext cx="156960" cy="107640"/>
            </a:xfrm>
            <a:custGeom>
              <a:avLst/>
              <a:gdLst/>
              <a:ahLst/>
              <a:rect l="l" t="t" r="r" b="b"/>
              <a:pathLst>
                <a:path w="297" h="204">
                  <a:moveTo>
                    <a:pt x="0" y="0"/>
                  </a:moveTo>
                  <a:lnTo>
                    <a:pt x="297" y="204"/>
                  </a:lnTo>
                  <a:lnTo>
                    <a:pt x="1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2" name=""/>
          <p:cNvSpPr/>
          <p:nvPr/>
        </p:nvSpPr>
        <p:spPr>
          <a:xfrm>
            <a:off x="19069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554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4" name=""/>
          <p:cNvGrpSpPr/>
          <p:nvPr/>
        </p:nvGrpSpPr>
        <p:grpSpPr>
          <a:xfrm>
            <a:off x="5715000" y="3176640"/>
            <a:ext cx="2844720" cy="1264680"/>
            <a:chOff x="5715000" y="3176640"/>
            <a:chExt cx="2844720" cy="1264680"/>
          </a:xfrm>
        </p:grpSpPr>
        <p:sp>
          <p:nvSpPr>
            <p:cNvPr id="4195" name=""/>
            <p:cNvSpPr/>
            <p:nvPr/>
          </p:nvSpPr>
          <p:spPr>
            <a:xfrm>
              <a:off x="5715000" y="3597120"/>
              <a:ext cx="2844720" cy="844200"/>
            </a:xfrm>
            <a:custGeom>
              <a:avLst/>
              <a:gdLst/>
              <a:ahLst/>
              <a:rect l="l" t="t" r="r" b="b"/>
              <a:pathLst>
                <a:path w="5378" h="1596">
                  <a:moveTo>
                    <a:pt x="2690" y="1596"/>
                  </a:moveTo>
                  <a:lnTo>
                    <a:pt x="4677" y="1596"/>
                  </a:lnTo>
                  <a:lnTo>
                    <a:pt x="4688" y="1595"/>
                  </a:lnTo>
                  <a:lnTo>
                    <a:pt x="4717" y="1589"/>
                  </a:lnTo>
                  <a:lnTo>
                    <a:pt x="4762" y="1582"/>
                  </a:lnTo>
                  <a:lnTo>
                    <a:pt x="4819" y="1568"/>
                  </a:lnTo>
                  <a:lnTo>
                    <a:pt x="4886" y="1552"/>
                  </a:lnTo>
                  <a:lnTo>
                    <a:pt x="4958" y="1530"/>
                  </a:lnTo>
                  <a:lnTo>
                    <a:pt x="5032" y="1502"/>
                  </a:lnTo>
                  <a:lnTo>
                    <a:pt x="5107" y="1470"/>
                  </a:lnTo>
                  <a:lnTo>
                    <a:pt x="5175" y="1432"/>
                  </a:lnTo>
                  <a:lnTo>
                    <a:pt x="5238" y="1386"/>
                  </a:lnTo>
                  <a:lnTo>
                    <a:pt x="5291" y="1336"/>
                  </a:lnTo>
                  <a:lnTo>
                    <a:pt x="5329" y="1277"/>
                  </a:lnTo>
                  <a:lnTo>
                    <a:pt x="5349" y="1212"/>
                  </a:lnTo>
                  <a:lnTo>
                    <a:pt x="5352" y="1139"/>
                  </a:lnTo>
                  <a:lnTo>
                    <a:pt x="5329" y="1057"/>
                  </a:lnTo>
                  <a:lnTo>
                    <a:pt x="5280" y="967"/>
                  </a:lnTo>
                  <a:lnTo>
                    <a:pt x="5140" y="739"/>
                  </a:lnTo>
                  <a:lnTo>
                    <a:pt x="5062" y="557"/>
                  </a:lnTo>
                  <a:lnTo>
                    <a:pt x="5034" y="414"/>
                  </a:lnTo>
                  <a:lnTo>
                    <a:pt x="5044" y="311"/>
                  </a:lnTo>
                  <a:lnTo>
                    <a:pt x="5083" y="236"/>
                  </a:lnTo>
                  <a:lnTo>
                    <a:pt x="5137" y="190"/>
                  </a:lnTo>
                  <a:lnTo>
                    <a:pt x="5198" y="166"/>
                  </a:lnTo>
                  <a:lnTo>
                    <a:pt x="5253" y="158"/>
                  </a:lnTo>
                  <a:lnTo>
                    <a:pt x="5299" y="152"/>
                  </a:lnTo>
                  <a:lnTo>
                    <a:pt x="5336" y="133"/>
                  </a:lnTo>
                  <a:lnTo>
                    <a:pt x="5365" y="107"/>
                  </a:lnTo>
                  <a:lnTo>
                    <a:pt x="5378" y="79"/>
                  </a:lnTo>
                  <a:lnTo>
                    <a:pt x="5373" y="49"/>
                  </a:lnTo>
                  <a:lnTo>
                    <a:pt x="5348" y="24"/>
                  </a:lnTo>
                  <a:lnTo>
                    <a:pt x="5301" y="6"/>
                  </a:lnTo>
                  <a:lnTo>
                    <a:pt x="5227" y="0"/>
                  </a:lnTo>
                  <a:lnTo>
                    <a:pt x="2690" y="0"/>
                  </a:lnTo>
                  <a:lnTo>
                    <a:pt x="150" y="0"/>
                  </a:lnTo>
                  <a:lnTo>
                    <a:pt x="77" y="6"/>
                  </a:lnTo>
                  <a:lnTo>
                    <a:pt x="27" y="24"/>
                  </a:lnTo>
                  <a:lnTo>
                    <a:pt x="5" y="49"/>
                  </a:lnTo>
                  <a:lnTo>
                    <a:pt x="0" y="79"/>
                  </a:lnTo>
                  <a:lnTo>
                    <a:pt x="13" y="107"/>
                  </a:lnTo>
                  <a:lnTo>
                    <a:pt x="41" y="133"/>
                  </a:lnTo>
                  <a:lnTo>
                    <a:pt x="79" y="152"/>
                  </a:lnTo>
                  <a:lnTo>
                    <a:pt x="123" y="158"/>
                  </a:lnTo>
                  <a:lnTo>
                    <a:pt x="180" y="166"/>
                  </a:lnTo>
                  <a:lnTo>
                    <a:pt x="240" y="190"/>
                  </a:lnTo>
                  <a:lnTo>
                    <a:pt x="296" y="236"/>
                  </a:lnTo>
                  <a:lnTo>
                    <a:pt x="334" y="311"/>
                  </a:lnTo>
                  <a:lnTo>
                    <a:pt x="343" y="414"/>
                  </a:lnTo>
                  <a:lnTo>
                    <a:pt x="314" y="557"/>
                  </a:lnTo>
                  <a:lnTo>
                    <a:pt x="236" y="739"/>
                  </a:lnTo>
                  <a:lnTo>
                    <a:pt x="97" y="967"/>
                  </a:lnTo>
                  <a:lnTo>
                    <a:pt x="49" y="1057"/>
                  </a:lnTo>
                  <a:lnTo>
                    <a:pt x="25" y="1139"/>
                  </a:lnTo>
                  <a:lnTo>
                    <a:pt x="27" y="1212"/>
                  </a:lnTo>
                  <a:lnTo>
                    <a:pt x="49" y="1277"/>
                  </a:lnTo>
                  <a:lnTo>
                    <a:pt x="86" y="1336"/>
                  </a:lnTo>
                  <a:lnTo>
                    <a:pt x="139" y="1386"/>
                  </a:lnTo>
                  <a:lnTo>
                    <a:pt x="203" y="1432"/>
                  </a:lnTo>
                  <a:lnTo>
                    <a:pt x="272" y="1470"/>
                  </a:lnTo>
                  <a:lnTo>
                    <a:pt x="346" y="1502"/>
                  </a:lnTo>
                  <a:lnTo>
                    <a:pt x="420" y="1530"/>
                  </a:lnTo>
                  <a:lnTo>
                    <a:pt x="492" y="1552"/>
                  </a:lnTo>
                  <a:lnTo>
                    <a:pt x="559" y="1568"/>
                  </a:lnTo>
                  <a:lnTo>
                    <a:pt x="617" y="1582"/>
                  </a:lnTo>
                  <a:lnTo>
                    <a:pt x="661" y="1589"/>
                  </a:lnTo>
                  <a:lnTo>
                    <a:pt x="690" y="1595"/>
                  </a:lnTo>
                  <a:lnTo>
                    <a:pt x="701" y="1596"/>
                  </a:lnTo>
                  <a:lnTo>
                    <a:pt x="2690" y="1596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6" name=""/>
            <p:cNvGrpSpPr/>
            <p:nvPr/>
          </p:nvGrpSpPr>
          <p:grpSpPr>
            <a:xfrm>
              <a:off x="5743440" y="3176640"/>
              <a:ext cx="2773440" cy="421560"/>
              <a:chOff x="5743440" y="3176640"/>
              <a:chExt cx="2773440" cy="421560"/>
            </a:xfrm>
          </p:grpSpPr>
          <p:sp>
            <p:nvSpPr>
              <p:cNvPr id="4197" name=""/>
              <p:cNvSpPr/>
              <p:nvPr/>
            </p:nvSpPr>
            <p:spPr>
              <a:xfrm>
                <a:off x="5743440" y="3336480"/>
                <a:ext cx="2773440" cy="261720"/>
              </a:xfrm>
              <a:custGeom>
                <a:avLst/>
                <a:gdLst/>
                <a:ahLst/>
                <a:rect l="l" t="t" r="r" b="b"/>
                <a:pathLst>
                  <a:path w="5241" h="497">
                    <a:moveTo>
                      <a:pt x="2620" y="497"/>
                    </a:moveTo>
                    <a:lnTo>
                      <a:pt x="5053" y="497"/>
                    </a:lnTo>
                    <a:lnTo>
                      <a:pt x="5131" y="490"/>
                    </a:lnTo>
                    <a:lnTo>
                      <a:pt x="5189" y="472"/>
                    </a:lnTo>
                    <a:lnTo>
                      <a:pt x="5225" y="446"/>
                    </a:lnTo>
                    <a:lnTo>
                      <a:pt x="5241" y="418"/>
                    </a:lnTo>
                    <a:lnTo>
                      <a:pt x="5231" y="389"/>
                    </a:lnTo>
                    <a:lnTo>
                      <a:pt x="5197" y="364"/>
                    </a:lnTo>
                    <a:lnTo>
                      <a:pt x="5137" y="347"/>
                    </a:lnTo>
                    <a:lnTo>
                      <a:pt x="5053" y="340"/>
                    </a:lnTo>
                    <a:lnTo>
                      <a:pt x="5010" y="336"/>
                    </a:lnTo>
                    <a:lnTo>
                      <a:pt x="4976" y="326"/>
                    </a:lnTo>
                    <a:lnTo>
                      <a:pt x="4944" y="308"/>
                    </a:lnTo>
                    <a:lnTo>
                      <a:pt x="4913" y="287"/>
                    </a:lnTo>
                    <a:lnTo>
                      <a:pt x="4876" y="262"/>
                    </a:lnTo>
                    <a:lnTo>
                      <a:pt x="4828" y="232"/>
                    </a:lnTo>
                    <a:lnTo>
                      <a:pt x="4766" y="202"/>
                    </a:lnTo>
                    <a:lnTo>
                      <a:pt x="4686" y="170"/>
                    </a:lnTo>
                    <a:lnTo>
                      <a:pt x="4584" y="139"/>
                    </a:lnTo>
                    <a:lnTo>
                      <a:pt x="4456" y="108"/>
                    </a:lnTo>
                    <a:lnTo>
                      <a:pt x="4295" y="79"/>
                    </a:lnTo>
                    <a:lnTo>
                      <a:pt x="4099" y="54"/>
                    </a:lnTo>
                    <a:lnTo>
                      <a:pt x="3864" y="31"/>
                    </a:lnTo>
                    <a:lnTo>
                      <a:pt x="3584" y="14"/>
                    </a:lnTo>
                    <a:lnTo>
                      <a:pt x="3258" y="5"/>
                    </a:lnTo>
                    <a:lnTo>
                      <a:pt x="2877" y="0"/>
                    </a:lnTo>
                    <a:lnTo>
                      <a:pt x="2620" y="0"/>
                    </a:lnTo>
                    <a:lnTo>
                      <a:pt x="2334" y="0"/>
                    </a:lnTo>
                    <a:lnTo>
                      <a:pt x="1953" y="5"/>
                    </a:lnTo>
                    <a:lnTo>
                      <a:pt x="1624" y="14"/>
                    </a:lnTo>
                    <a:lnTo>
                      <a:pt x="1347" y="31"/>
                    </a:lnTo>
                    <a:lnTo>
                      <a:pt x="1113" y="54"/>
                    </a:lnTo>
                    <a:lnTo>
                      <a:pt x="920" y="79"/>
                    </a:lnTo>
                    <a:lnTo>
                      <a:pt x="762" y="108"/>
                    </a:lnTo>
                    <a:lnTo>
                      <a:pt x="636" y="139"/>
                    </a:lnTo>
                    <a:lnTo>
                      <a:pt x="537" y="170"/>
                    </a:lnTo>
                    <a:lnTo>
                      <a:pt x="460" y="202"/>
                    </a:lnTo>
                    <a:lnTo>
                      <a:pt x="401" y="232"/>
                    </a:lnTo>
                    <a:lnTo>
                      <a:pt x="357" y="262"/>
                    </a:lnTo>
                    <a:lnTo>
                      <a:pt x="322" y="287"/>
                    </a:lnTo>
                    <a:lnTo>
                      <a:pt x="292" y="308"/>
                    </a:lnTo>
                    <a:lnTo>
                      <a:pt x="262" y="326"/>
                    </a:lnTo>
                    <a:lnTo>
                      <a:pt x="230" y="336"/>
                    </a:lnTo>
                    <a:lnTo>
                      <a:pt x="188" y="340"/>
                    </a:lnTo>
                    <a:lnTo>
                      <a:pt x="103" y="347"/>
                    </a:lnTo>
                    <a:lnTo>
                      <a:pt x="45" y="364"/>
                    </a:lnTo>
                    <a:lnTo>
                      <a:pt x="11" y="389"/>
                    </a:lnTo>
                    <a:lnTo>
                      <a:pt x="0" y="418"/>
                    </a:lnTo>
                    <a:lnTo>
                      <a:pt x="16" y="446"/>
                    </a:lnTo>
                    <a:lnTo>
                      <a:pt x="51" y="472"/>
                    </a:lnTo>
                    <a:lnTo>
                      <a:pt x="109" y="490"/>
                    </a:lnTo>
                    <a:lnTo>
                      <a:pt x="188" y="497"/>
                    </a:lnTo>
                    <a:lnTo>
                      <a:pt x="2620" y="49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935760" y="3176640"/>
                <a:ext cx="376200" cy="159840"/>
              </a:xfrm>
              <a:custGeom>
                <a:avLst/>
                <a:gdLst/>
                <a:ahLst/>
                <a:rect l="l" t="t" r="r" b="b"/>
                <a:pathLst>
                  <a:path w="709" h="301">
                    <a:moveTo>
                      <a:pt x="625" y="301"/>
                    </a:moveTo>
                    <a:lnTo>
                      <a:pt x="589" y="286"/>
                    </a:lnTo>
                    <a:lnTo>
                      <a:pt x="557" y="265"/>
                    </a:lnTo>
                    <a:lnTo>
                      <a:pt x="537" y="236"/>
                    </a:lnTo>
                    <a:lnTo>
                      <a:pt x="527" y="202"/>
                    </a:lnTo>
                    <a:lnTo>
                      <a:pt x="532" y="164"/>
                    </a:lnTo>
                    <a:lnTo>
                      <a:pt x="549" y="128"/>
                    </a:lnTo>
                    <a:lnTo>
                      <a:pt x="583" y="102"/>
                    </a:lnTo>
                    <a:lnTo>
                      <a:pt x="639" y="91"/>
                    </a:lnTo>
                    <a:lnTo>
                      <a:pt x="690" y="78"/>
                    </a:lnTo>
                    <a:lnTo>
                      <a:pt x="709" y="45"/>
                    </a:lnTo>
                    <a:lnTo>
                      <a:pt x="690" y="14"/>
                    </a:lnTo>
                    <a:lnTo>
                      <a:pt x="639" y="0"/>
                    </a:lnTo>
                    <a:lnTo>
                      <a:pt x="353" y="0"/>
                    </a:lnTo>
                    <a:lnTo>
                      <a:pt x="70" y="0"/>
                    </a:lnTo>
                    <a:lnTo>
                      <a:pt x="18" y="14"/>
                    </a:lnTo>
                    <a:lnTo>
                      <a:pt x="0" y="45"/>
                    </a:lnTo>
                    <a:lnTo>
                      <a:pt x="18" y="78"/>
                    </a:lnTo>
                    <a:lnTo>
                      <a:pt x="70" y="91"/>
                    </a:lnTo>
                    <a:lnTo>
                      <a:pt x="125" y="102"/>
                    </a:lnTo>
                    <a:lnTo>
                      <a:pt x="159" y="128"/>
                    </a:lnTo>
                    <a:lnTo>
                      <a:pt x="175" y="164"/>
                    </a:lnTo>
                    <a:lnTo>
                      <a:pt x="180" y="202"/>
                    </a:lnTo>
                    <a:lnTo>
                      <a:pt x="172" y="236"/>
                    </a:lnTo>
                    <a:lnTo>
                      <a:pt x="148" y="262"/>
                    </a:lnTo>
                    <a:lnTo>
                      <a:pt x="115" y="283"/>
                    </a:lnTo>
                    <a:lnTo>
                      <a:pt x="81" y="301"/>
                    </a:lnTo>
                    <a:lnTo>
                      <a:pt x="625" y="30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5810040" y="3376080"/>
                <a:ext cx="1379520" cy="174240"/>
              </a:xfrm>
              <a:custGeom>
                <a:avLst/>
                <a:gdLst/>
                <a:ahLst/>
                <a:rect l="l" t="t" r="r" b="b"/>
                <a:pathLst>
                  <a:path w="2607" h="329">
                    <a:moveTo>
                      <a:pt x="2221" y="0"/>
                    </a:moveTo>
                    <a:lnTo>
                      <a:pt x="2023" y="0"/>
                    </a:lnTo>
                    <a:lnTo>
                      <a:pt x="1837" y="3"/>
                    </a:lnTo>
                    <a:lnTo>
                      <a:pt x="1664" y="8"/>
                    </a:lnTo>
                    <a:lnTo>
                      <a:pt x="1502" y="17"/>
                    </a:lnTo>
                    <a:lnTo>
                      <a:pt x="1349" y="26"/>
                    </a:lnTo>
                    <a:lnTo>
                      <a:pt x="1209" y="39"/>
                    </a:lnTo>
                    <a:lnTo>
                      <a:pt x="1077" y="55"/>
                    </a:lnTo>
                    <a:lnTo>
                      <a:pt x="956" y="72"/>
                    </a:lnTo>
                    <a:lnTo>
                      <a:pt x="842" y="91"/>
                    </a:lnTo>
                    <a:lnTo>
                      <a:pt x="736" y="114"/>
                    </a:lnTo>
                    <a:lnTo>
                      <a:pt x="638" y="138"/>
                    </a:lnTo>
                    <a:lnTo>
                      <a:pt x="545" y="164"/>
                    </a:lnTo>
                    <a:lnTo>
                      <a:pt x="459" y="192"/>
                    </a:lnTo>
                    <a:lnTo>
                      <a:pt x="378" y="221"/>
                    </a:lnTo>
                    <a:lnTo>
                      <a:pt x="303" y="253"/>
                    </a:lnTo>
                    <a:lnTo>
                      <a:pt x="232" y="287"/>
                    </a:lnTo>
                    <a:lnTo>
                      <a:pt x="212" y="294"/>
                    </a:lnTo>
                    <a:lnTo>
                      <a:pt x="184" y="297"/>
                    </a:lnTo>
                    <a:lnTo>
                      <a:pt x="152" y="300"/>
                    </a:lnTo>
                    <a:lnTo>
                      <a:pt x="114" y="300"/>
                    </a:lnTo>
                    <a:lnTo>
                      <a:pt x="80" y="301"/>
                    </a:lnTo>
                    <a:lnTo>
                      <a:pt x="46" y="301"/>
                    </a:lnTo>
                    <a:lnTo>
                      <a:pt x="19" y="303"/>
                    </a:lnTo>
                    <a:lnTo>
                      <a:pt x="1" y="308"/>
                    </a:lnTo>
                    <a:lnTo>
                      <a:pt x="0" y="312"/>
                    </a:lnTo>
                    <a:lnTo>
                      <a:pt x="11" y="312"/>
                    </a:lnTo>
                    <a:lnTo>
                      <a:pt x="32" y="315"/>
                    </a:lnTo>
                    <a:lnTo>
                      <a:pt x="58" y="317"/>
                    </a:lnTo>
                    <a:lnTo>
                      <a:pt x="94" y="319"/>
                    </a:lnTo>
                    <a:lnTo>
                      <a:pt x="136" y="323"/>
                    </a:lnTo>
                    <a:lnTo>
                      <a:pt x="185" y="324"/>
                    </a:lnTo>
                    <a:lnTo>
                      <a:pt x="239" y="324"/>
                    </a:lnTo>
                    <a:lnTo>
                      <a:pt x="296" y="326"/>
                    </a:lnTo>
                    <a:lnTo>
                      <a:pt x="356" y="327"/>
                    </a:lnTo>
                    <a:lnTo>
                      <a:pt x="418" y="329"/>
                    </a:lnTo>
                    <a:lnTo>
                      <a:pt x="482" y="329"/>
                    </a:lnTo>
                    <a:lnTo>
                      <a:pt x="546" y="329"/>
                    </a:lnTo>
                    <a:lnTo>
                      <a:pt x="609" y="329"/>
                    </a:lnTo>
                    <a:lnTo>
                      <a:pt x="671" y="327"/>
                    </a:lnTo>
                    <a:lnTo>
                      <a:pt x="730" y="326"/>
                    </a:lnTo>
                    <a:lnTo>
                      <a:pt x="783" y="323"/>
                    </a:lnTo>
                    <a:lnTo>
                      <a:pt x="827" y="313"/>
                    </a:lnTo>
                    <a:lnTo>
                      <a:pt x="867" y="300"/>
                    </a:lnTo>
                    <a:lnTo>
                      <a:pt x="904" y="282"/>
                    </a:lnTo>
                    <a:lnTo>
                      <a:pt x="941" y="260"/>
                    </a:lnTo>
                    <a:lnTo>
                      <a:pt x="980" y="236"/>
                    </a:lnTo>
                    <a:lnTo>
                      <a:pt x="1023" y="212"/>
                    </a:lnTo>
                    <a:lnTo>
                      <a:pt x="1073" y="186"/>
                    </a:lnTo>
                    <a:lnTo>
                      <a:pt x="1135" y="162"/>
                    </a:lnTo>
                    <a:lnTo>
                      <a:pt x="1209" y="137"/>
                    </a:lnTo>
                    <a:lnTo>
                      <a:pt x="1297" y="114"/>
                    </a:lnTo>
                    <a:lnTo>
                      <a:pt x="1402" y="93"/>
                    </a:lnTo>
                    <a:lnTo>
                      <a:pt x="1528" y="75"/>
                    </a:lnTo>
                    <a:lnTo>
                      <a:pt x="1677" y="62"/>
                    </a:lnTo>
                    <a:lnTo>
                      <a:pt x="1851" y="54"/>
                    </a:lnTo>
                    <a:lnTo>
                      <a:pt x="2053" y="51"/>
                    </a:lnTo>
                    <a:lnTo>
                      <a:pt x="2244" y="50"/>
                    </a:lnTo>
                    <a:lnTo>
                      <a:pt x="2390" y="49"/>
                    </a:lnTo>
                    <a:lnTo>
                      <a:pt x="2493" y="47"/>
                    </a:lnTo>
                    <a:lnTo>
                      <a:pt x="2560" y="43"/>
                    </a:lnTo>
                    <a:lnTo>
                      <a:pt x="2598" y="39"/>
                    </a:lnTo>
                    <a:lnTo>
                      <a:pt x="2607" y="36"/>
                    </a:lnTo>
                    <a:lnTo>
                      <a:pt x="2594" y="31"/>
                    </a:lnTo>
                    <a:lnTo>
                      <a:pt x="2565" y="26"/>
                    </a:lnTo>
                    <a:lnTo>
                      <a:pt x="2521" y="20"/>
                    </a:lnTo>
                    <a:lnTo>
                      <a:pt x="2470" y="17"/>
                    </a:lnTo>
                    <a:lnTo>
                      <a:pt x="2414" y="13"/>
                    </a:lnTo>
                    <a:lnTo>
                      <a:pt x="2356" y="7"/>
                    </a:lnTo>
                    <a:lnTo>
                      <a:pt x="2304" y="5"/>
                    </a:lnTo>
                    <a:lnTo>
                      <a:pt x="2260" y="2"/>
                    </a:lnTo>
                    <a:lnTo>
                      <a:pt x="2232" y="1"/>
                    </a:lnTo>
                    <a:lnTo>
                      <a:pt x="222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0" name=""/>
            <p:cNvSpPr/>
            <p:nvPr/>
          </p:nvSpPr>
          <p:spPr>
            <a:xfrm>
              <a:off x="5808600" y="3671640"/>
              <a:ext cx="2602080" cy="734760"/>
            </a:xfrm>
            <a:custGeom>
              <a:avLst/>
              <a:gdLst/>
              <a:ahLst/>
              <a:rect l="l" t="t" r="r" b="b"/>
              <a:pathLst>
                <a:path w="4917" h="1387">
                  <a:moveTo>
                    <a:pt x="155" y="0"/>
                  </a:moveTo>
                  <a:lnTo>
                    <a:pt x="4917" y="0"/>
                  </a:lnTo>
                  <a:lnTo>
                    <a:pt x="4863" y="13"/>
                  </a:lnTo>
                  <a:lnTo>
                    <a:pt x="4732" y="24"/>
                  </a:lnTo>
                  <a:lnTo>
                    <a:pt x="4538" y="33"/>
                  </a:lnTo>
                  <a:lnTo>
                    <a:pt x="4291" y="43"/>
                  </a:lnTo>
                  <a:lnTo>
                    <a:pt x="3999" y="51"/>
                  </a:lnTo>
                  <a:lnTo>
                    <a:pt x="3672" y="60"/>
                  </a:lnTo>
                  <a:lnTo>
                    <a:pt x="3324" y="68"/>
                  </a:lnTo>
                  <a:lnTo>
                    <a:pt x="2962" y="77"/>
                  </a:lnTo>
                  <a:lnTo>
                    <a:pt x="2597" y="89"/>
                  </a:lnTo>
                  <a:lnTo>
                    <a:pt x="2239" y="103"/>
                  </a:lnTo>
                  <a:lnTo>
                    <a:pt x="1900" y="120"/>
                  </a:lnTo>
                  <a:lnTo>
                    <a:pt x="1586" y="139"/>
                  </a:lnTo>
                  <a:lnTo>
                    <a:pt x="1310" y="163"/>
                  </a:lnTo>
                  <a:lnTo>
                    <a:pt x="1081" y="189"/>
                  </a:lnTo>
                  <a:lnTo>
                    <a:pt x="911" y="221"/>
                  </a:lnTo>
                  <a:lnTo>
                    <a:pt x="809" y="259"/>
                  </a:lnTo>
                  <a:lnTo>
                    <a:pt x="693" y="338"/>
                  </a:lnTo>
                  <a:lnTo>
                    <a:pt x="585" y="425"/>
                  </a:lnTo>
                  <a:lnTo>
                    <a:pt x="489" y="517"/>
                  </a:lnTo>
                  <a:lnTo>
                    <a:pt x="410" y="611"/>
                  </a:lnTo>
                  <a:lnTo>
                    <a:pt x="351" y="706"/>
                  </a:lnTo>
                  <a:lnTo>
                    <a:pt x="317" y="796"/>
                  </a:lnTo>
                  <a:lnTo>
                    <a:pt x="311" y="880"/>
                  </a:lnTo>
                  <a:lnTo>
                    <a:pt x="337" y="953"/>
                  </a:lnTo>
                  <a:lnTo>
                    <a:pt x="359" y="988"/>
                  </a:lnTo>
                  <a:lnTo>
                    <a:pt x="381" y="1024"/>
                  </a:lnTo>
                  <a:lnTo>
                    <a:pt x="405" y="1058"/>
                  </a:lnTo>
                  <a:lnTo>
                    <a:pt x="428" y="1093"/>
                  </a:lnTo>
                  <a:lnTo>
                    <a:pt x="457" y="1128"/>
                  </a:lnTo>
                  <a:lnTo>
                    <a:pt x="487" y="1159"/>
                  </a:lnTo>
                  <a:lnTo>
                    <a:pt x="521" y="1191"/>
                  </a:lnTo>
                  <a:lnTo>
                    <a:pt x="560" y="1221"/>
                  </a:lnTo>
                  <a:lnTo>
                    <a:pt x="602" y="1247"/>
                  </a:lnTo>
                  <a:lnTo>
                    <a:pt x="651" y="1272"/>
                  </a:lnTo>
                  <a:lnTo>
                    <a:pt x="707" y="1295"/>
                  </a:lnTo>
                  <a:lnTo>
                    <a:pt x="769" y="1312"/>
                  </a:lnTo>
                  <a:lnTo>
                    <a:pt x="837" y="1329"/>
                  </a:lnTo>
                  <a:lnTo>
                    <a:pt x="914" y="1339"/>
                  </a:lnTo>
                  <a:lnTo>
                    <a:pt x="1002" y="1345"/>
                  </a:lnTo>
                  <a:lnTo>
                    <a:pt x="1098" y="1349"/>
                  </a:lnTo>
                  <a:lnTo>
                    <a:pt x="1250" y="1350"/>
                  </a:lnTo>
                  <a:lnTo>
                    <a:pt x="1321" y="1355"/>
                  </a:lnTo>
                  <a:lnTo>
                    <a:pt x="1328" y="1361"/>
                  </a:lnTo>
                  <a:lnTo>
                    <a:pt x="1292" y="1368"/>
                  </a:lnTo>
                  <a:lnTo>
                    <a:pt x="1230" y="1375"/>
                  </a:lnTo>
                  <a:lnTo>
                    <a:pt x="1162" y="1381"/>
                  </a:lnTo>
                  <a:lnTo>
                    <a:pt x="1108" y="1386"/>
                  </a:lnTo>
                  <a:lnTo>
                    <a:pt x="1085" y="1387"/>
                  </a:lnTo>
                  <a:lnTo>
                    <a:pt x="942" y="1384"/>
                  </a:lnTo>
                  <a:lnTo>
                    <a:pt x="807" y="1378"/>
                  </a:lnTo>
                  <a:lnTo>
                    <a:pt x="684" y="1368"/>
                  </a:lnTo>
                  <a:lnTo>
                    <a:pt x="569" y="1355"/>
                  </a:lnTo>
                  <a:lnTo>
                    <a:pt x="463" y="1341"/>
                  </a:lnTo>
                  <a:lnTo>
                    <a:pt x="369" y="1323"/>
                  </a:lnTo>
                  <a:lnTo>
                    <a:pt x="284" y="1300"/>
                  </a:lnTo>
                  <a:lnTo>
                    <a:pt x="210" y="1277"/>
                  </a:lnTo>
                  <a:lnTo>
                    <a:pt x="147" y="1248"/>
                  </a:lnTo>
                  <a:lnTo>
                    <a:pt x="96" y="1218"/>
                  </a:lnTo>
                  <a:lnTo>
                    <a:pt x="55" y="1185"/>
                  </a:lnTo>
                  <a:lnTo>
                    <a:pt x="24" y="1147"/>
                  </a:lnTo>
                  <a:lnTo>
                    <a:pt x="6" y="1106"/>
                  </a:lnTo>
                  <a:lnTo>
                    <a:pt x="0" y="1062"/>
                  </a:lnTo>
                  <a:lnTo>
                    <a:pt x="6" y="1016"/>
                  </a:lnTo>
                  <a:lnTo>
                    <a:pt x="24" y="966"/>
                  </a:lnTo>
                  <a:lnTo>
                    <a:pt x="81" y="853"/>
                  </a:lnTo>
                  <a:lnTo>
                    <a:pt x="147" y="722"/>
                  </a:lnTo>
                  <a:lnTo>
                    <a:pt x="212" y="584"/>
                  </a:lnTo>
                  <a:lnTo>
                    <a:pt x="266" y="443"/>
                  </a:lnTo>
                  <a:lnTo>
                    <a:pt x="295" y="307"/>
                  </a:lnTo>
                  <a:lnTo>
                    <a:pt x="295" y="183"/>
                  </a:lnTo>
                  <a:lnTo>
                    <a:pt x="251" y="7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1" name=""/>
          <p:cNvGrpSpPr/>
          <p:nvPr/>
        </p:nvGrpSpPr>
        <p:grpSpPr>
          <a:xfrm>
            <a:off x="838080" y="3129120"/>
            <a:ext cx="2844720" cy="1361520"/>
            <a:chOff x="838080" y="3129120"/>
            <a:chExt cx="2844720" cy="1361520"/>
          </a:xfrm>
        </p:grpSpPr>
        <p:sp>
          <p:nvSpPr>
            <p:cNvPr id="4202" name=""/>
            <p:cNvSpPr/>
            <p:nvPr/>
          </p:nvSpPr>
          <p:spPr>
            <a:xfrm>
              <a:off x="1073160" y="3332160"/>
              <a:ext cx="2377800" cy="1158480"/>
            </a:xfrm>
            <a:custGeom>
              <a:avLst/>
              <a:gdLst/>
              <a:ahLst/>
              <a:rect l="l" t="t" r="r" b="b"/>
              <a:pathLst>
                <a:path w="4496" h="2190">
                  <a:moveTo>
                    <a:pt x="2246" y="2190"/>
                  </a:moveTo>
                  <a:lnTo>
                    <a:pt x="4252" y="2190"/>
                  </a:lnTo>
                  <a:lnTo>
                    <a:pt x="4285" y="2187"/>
                  </a:lnTo>
                  <a:lnTo>
                    <a:pt x="4317" y="2175"/>
                  </a:lnTo>
                  <a:lnTo>
                    <a:pt x="4345" y="2158"/>
                  </a:lnTo>
                  <a:lnTo>
                    <a:pt x="4370" y="2138"/>
                  </a:lnTo>
                  <a:lnTo>
                    <a:pt x="4392" y="2113"/>
                  </a:lnTo>
                  <a:lnTo>
                    <a:pt x="4405" y="2084"/>
                  </a:lnTo>
                  <a:lnTo>
                    <a:pt x="4416" y="2054"/>
                  </a:lnTo>
                  <a:lnTo>
                    <a:pt x="4420" y="2022"/>
                  </a:lnTo>
                  <a:lnTo>
                    <a:pt x="4420" y="618"/>
                  </a:lnTo>
                  <a:lnTo>
                    <a:pt x="4471" y="606"/>
                  </a:lnTo>
                  <a:lnTo>
                    <a:pt x="4486" y="577"/>
                  </a:lnTo>
                  <a:lnTo>
                    <a:pt x="4471" y="550"/>
                  </a:lnTo>
                  <a:lnTo>
                    <a:pt x="4420" y="540"/>
                  </a:lnTo>
                  <a:lnTo>
                    <a:pt x="4476" y="524"/>
                  </a:lnTo>
                  <a:lnTo>
                    <a:pt x="4496" y="496"/>
                  </a:lnTo>
                  <a:lnTo>
                    <a:pt x="4478" y="466"/>
                  </a:lnTo>
                  <a:lnTo>
                    <a:pt x="4424" y="454"/>
                  </a:lnTo>
                  <a:lnTo>
                    <a:pt x="4400" y="450"/>
                  </a:lnTo>
                  <a:lnTo>
                    <a:pt x="4357" y="435"/>
                  </a:lnTo>
                  <a:lnTo>
                    <a:pt x="4297" y="415"/>
                  </a:lnTo>
                  <a:lnTo>
                    <a:pt x="4221" y="388"/>
                  </a:lnTo>
                  <a:lnTo>
                    <a:pt x="4132" y="356"/>
                  </a:lnTo>
                  <a:lnTo>
                    <a:pt x="4027" y="320"/>
                  </a:lnTo>
                  <a:lnTo>
                    <a:pt x="3910" y="282"/>
                  </a:lnTo>
                  <a:lnTo>
                    <a:pt x="3782" y="241"/>
                  </a:lnTo>
                  <a:lnTo>
                    <a:pt x="3641" y="202"/>
                  </a:lnTo>
                  <a:lnTo>
                    <a:pt x="3490" y="163"/>
                  </a:lnTo>
                  <a:lnTo>
                    <a:pt x="3329" y="124"/>
                  </a:lnTo>
                  <a:lnTo>
                    <a:pt x="3159" y="90"/>
                  </a:lnTo>
                  <a:lnTo>
                    <a:pt x="2981" y="60"/>
                  </a:lnTo>
                  <a:lnTo>
                    <a:pt x="2798" y="33"/>
                  </a:lnTo>
                  <a:lnTo>
                    <a:pt x="2606" y="16"/>
                  </a:lnTo>
                  <a:lnTo>
                    <a:pt x="2409" y="7"/>
                  </a:lnTo>
                  <a:lnTo>
                    <a:pt x="2246" y="0"/>
                  </a:lnTo>
                  <a:lnTo>
                    <a:pt x="2087" y="7"/>
                  </a:lnTo>
                  <a:lnTo>
                    <a:pt x="1889" y="16"/>
                  </a:lnTo>
                  <a:lnTo>
                    <a:pt x="1699" y="33"/>
                  </a:lnTo>
                  <a:lnTo>
                    <a:pt x="1515" y="60"/>
                  </a:lnTo>
                  <a:lnTo>
                    <a:pt x="1338" y="90"/>
                  </a:lnTo>
                  <a:lnTo>
                    <a:pt x="1169" y="124"/>
                  </a:lnTo>
                  <a:lnTo>
                    <a:pt x="1007" y="163"/>
                  </a:lnTo>
                  <a:lnTo>
                    <a:pt x="856" y="202"/>
                  </a:lnTo>
                  <a:lnTo>
                    <a:pt x="715" y="241"/>
                  </a:lnTo>
                  <a:lnTo>
                    <a:pt x="584" y="282"/>
                  </a:lnTo>
                  <a:lnTo>
                    <a:pt x="469" y="320"/>
                  </a:lnTo>
                  <a:lnTo>
                    <a:pt x="365" y="356"/>
                  </a:lnTo>
                  <a:lnTo>
                    <a:pt x="274" y="388"/>
                  </a:lnTo>
                  <a:lnTo>
                    <a:pt x="198" y="415"/>
                  </a:lnTo>
                  <a:lnTo>
                    <a:pt x="138" y="435"/>
                  </a:lnTo>
                  <a:lnTo>
                    <a:pt x="95" y="450"/>
                  </a:lnTo>
                  <a:lnTo>
                    <a:pt x="70" y="454"/>
                  </a:lnTo>
                  <a:lnTo>
                    <a:pt x="16" y="466"/>
                  </a:lnTo>
                  <a:lnTo>
                    <a:pt x="0" y="496"/>
                  </a:lnTo>
                  <a:lnTo>
                    <a:pt x="20" y="524"/>
                  </a:lnTo>
                  <a:lnTo>
                    <a:pt x="74" y="540"/>
                  </a:lnTo>
                  <a:lnTo>
                    <a:pt x="24" y="550"/>
                  </a:lnTo>
                  <a:lnTo>
                    <a:pt x="8" y="577"/>
                  </a:lnTo>
                  <a:lnTo>
                    <a:pt x="24" y="606"/>
                  </a:lnTo>
                  <a:lnTo>
                    <a:pt x="74" y="618"/>
                  </a:lnTo>
                  <a:lnTo>
                    <a:pt x="74" y="2022"/>
                  </a:lnTo>
                  <a:lnTo>
                    <a:pt x="79" y="2054"/>
                  </a:lnTo>
                  <a:lnTo>
                    <a:pt x="89" y="2084"/>
                  </a:lnTo>
                  <a:lnTo>
                    <a:pt x="104" y="2113"/>
                  </a:lnTo>
                  <a:lnTo>
                    <a:pt x="125" y="2138"/>
                  </a:lnTo>
                  <a:lnTo>
                    <a:pt x="150" y="2158"/>
                  </a:lnTo>
                  <a:lnTo>
                    <a:pt x="179" y="2175"/>
                  </a:lnTo>
                  <a:lnTo>
                    <a:pt x="209" y="2187"/>
                  </a:lnTo>
                  <a:lnTo>
                    <a:pt x="244" y="2190"/>
                  </a:lnTo>
                  <a:lnTo>
                    <a:pt x="2246" y="2190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178000" y="3129120"/>
              <a:ext cx="169920" cy="205920"/>
            </a:xfrm>
            <a:custGeom>
              <a:avLst/>
              <a:gdLst/>
              <a:ahLst/>
              <a:rect l="l" t="t" r="r" b="b"/>
              <a:pathLst>
                <a:path w="320" h="390">
                  <a:moveTo>
                    <a:pt x="241" y="344"/>
                  </a:moveTo>
                  <a:lnTo>
                    <a:pt x="320" y="344"/>
                  </a:lnTo>
                  <a:lnTo>
                    <a:pt x="320" y="390"/>
                  </a:lnTo>
                  <a:lnTo>
                    <a:pt x="156" y="386"/>
                  </a:lnTo>
                  <a:lnTo>
                    <a:pt x="0" y="390"/>
                  </a:lnTo>
                  <a:lnTo>
                    <a:pt x="0" y="344"/>
                  </a:lnTo>
                  <a:lnTo>
                    <a:pt x="75" y="344"/>
                  </a:lnTo>
                  <a:lnTo>
                    <a:pt x="74" y="298"/>
                  </a:lnTo>
                  <a:lnTo>
                    <a:pt x="43" y="273"/>
                  </a:lnTo>
                  <a:lnTo>
                    <a:pt x="19" y="239"/>
                  </a:lnTo>
                  <a:lnTo>
                    <a:pt x="4" y="202"/>
                  </a:lnTo>
                  <a:lnTo>
                    <a:pt x="0" y="161"/>
                  </a:lnTo>
                  <a:lnTo>
                    <a:pt x="2" y="130"/>
                  </a:lnTo>
                  <a:lnTo>
                    <a:pt x="12" y="99"/>
                  </a:lnTo>
                  <a:lnTo>
                    <a:pt x="26" y="71"/>
                  </a:lnTo>
                  <a:lnTo>
                    <a:pt x="46" y="46"/>
                  </a:lnTo>
                  <a:lnTo>
                    <a:pt x="70" y="27"/>
                  </a:lnTo>
                  <a:lnTo>
                    <a:pt x="97" y="12"/>
                  </a:lnTo>
                  <a:lnTo>
                    <a:pt x="128" y="4"/>
                  </a:lnTo>
                  <a:lnTo>
                    <a:pt x="156" y="0"/>
                  </a:lnTo>
                  <a:lnTo>
                    <a:pt x="189" y="4"/>
                  </a:lnTo>
                  <a:lnTo>
                    <a:pt x="219" y="12"/>
                  </a:lnTo>
                  <a:lnTo>
                    <a:pt x="247" y="27"/>
                  </a:lnTo>
                  <a:lnTo>
                    <a:pt x="271" y="46"/>
                  </a:lnTo>
                  <a:lnTo>
                    <a:pt x="291" y="71"/>
                  </a:lnTo>
                  <a:lnTo>
                    <a:pt x="306" y="99"/>
                  </a:lnTo>
                  <a:lnTo>
                    <a:pt x="315" y="130"/>
                  </a:lnTo>
                  <a:lnTo>
                    <a:pt x="319" y="161"/>
                  </a:lnTo>
                  <a:lnTo>
                    <a:pt x="313" y="203"/>
                  </a:lnTo>
                  <a:lnTo>
                    <a:pt x="297" y="240"/>
                  </a:lnTo>
                  <a:lnTo>
                    <a:pt x="271" y="274"/>
                  </a:lnTo>
                  <a:lnTo>
                    <a:pt x="241" y="299"/>
                  </a:lnTo>
                  <a:lnTo>
                    <a:pt x="241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365280" y="3719520"/>
              <a:ext cx="317520" cy="16920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287" y="212"/>
                  </a:moveTo>
                  <a:lnTo>
                    <a:pt x="296" y="236"/>
                  </a:lnTo>
                  <a:lnTo>
                    <a:pt x="311" y="255"/>
                  </a:lnTo>
                  <a:lnTo>
                    <a:pt x="329" y="274"/>
                  </a:lnTo>
                  <a:lnTo>
                    <a:pt x="347" y="289"/>
                  </a:lnTo>
                  <a:lnTo>
                    <a:pt x="368" y="303"/>
                  </a:lnTo>
                  <a:lnTo>
                    <a:pt x="391" y="313"/>
                  </a:lnTo>
                  <a:lnTo>
                    <a:pt x="415" y="319"/>
                  </a:lnTo>
                  <a:lnTo>
                    <a:pt x="440" y="320"/>
                  </a:lnTo>
                  <a:lnTo>
                    <a:pt x="472" y="316"/>
                  </a:lnTo>
                  <a:lnTo>
                    <a:pt x="503" y="307"/>
                  </a:lnTo>
                  <a:lnTo>
                    <a:pt x="530" y="294"/>
                  </a:lnTo>
                  <a:lnTo>
                    <a:pt x="554" y="274"/>
                  </a:lnTo>
                  <a:lnTo>
                    <a:pt x="574" y="250"/>
                  </a:lnTo>
                  <a:lnTo>
                    <a:pt x="589" y="222"/>
                  </a:lnTo>
                  <a:lnTo>
                    <a:pt x="599" y="192"/>
                  </a:lnTo>
                  <a:lnTo>
                    <a:pt x="601" y="160"/>
                  </a:lnTo>
                  <a:lnTo>
                    <a:pt x="599" y="128"/>
                  </a:lnTo>
                  <a:lnTo>
                    <a:pt x="589" y="97"/>
                  </a:lnTo>
                  <a:lnTo>
                    <a:pt x="574" y="70"/>
                  </a:lnTo>
                  <a:lnTo>
                    <a:pt x="554" y="46"/>
                  </a:lnTo>
                  <a:lnTo>
                    <a:pt x="530" y="27"/>
                  </a:lnTo>
                  <a:lnTo>
                    <a:pt x="503" y="12"/>
                  </a:lnTo>
                  <a:lnTo>
                    <a:pt x="472" y="3"/>
                  </a:lnTo>
                  <a:lnTo>
                    <a:pt x="440" y="0"/>
                  </a:lnTo>
                  <a:lnTo>
                    <a:pt x="415" y="1"/>
                  </a:lnTo>
                  <a:lnTo>
                    <a:pt x="391" y="7"/>
                  </a:lnTo>
                  <a:lnTo>
                    <a:pt x="368" y="18"/>
                  </a:lnTo>
                  <a:lnTo>
                    <a:pt x="347" y="30"/>
                  </a:lnTo>
                  <a:lnTo>
                    <a:pt x="329" y="45"/>
                  </a:lnTo>
                  <a:lnTo>
                    <a:pt x="312" y="63"/>
                  </a:lnTo>
                  <a:lnTo>
                    <a:pt x="297" y="82"/>
                  </a:lnTo>
                  <a:lnTo>
                    <a:pt x="287" y="106"/>
                  </a:lnTo>
                  <a:lnTo>
                    <a:pt x="0" y="106"/>
                  </a:lnTo>
                  <a:lnTo>
                    <a:pt x="0" y="212"/>
                  </a:lnTo>
                  <a:lnTo>
                    <a:pt x="287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108080" y="3571920"/>
              <a:ext cx="23065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110960" y="3659040"/>
              <a:ext cx="2300400" cy="26640"/>
            </a:xfrm>
            <a:custGeom>
              <a:avLst/>
              <a:gdLst/>
              <a:ahLst/>
              <a:rect l="l" t="t" r="r" b="b"/>
              <a:pathLst>
                <a:path w="4345" h="49">
                  <a:moveTo>
                    <a:pt x="4345" y="25"/>
                  </a:moveTo>
                  <a:lnTo>
                    <a:pt x="4345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4345" y="49"/>
                  </a:lnTo>
                  <a:lnTo>
                    <a:pt x="4345" y="2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110960" y="3609720"/>
              <a:ext cx="2300400" cy="12600"/>
            </a:xfrm>
            <a:custGeom>
              <a:avLst/>
              <a:gdLst/>
              <a:ahLst/>
              <a:rect l="l" t="t" r="r" b="b"/>
              <a:pathLst>
                <a:path w="4345" h="24">
                  <a:moveTo>
                    <a:pt x="4345" y="12"/>
                  </a:moveTo>
                  <a:lnTo>
                    <a:pt x="434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345" y="24"/>
                  </a:lnTo>
                  <a:lnTo>
                    <a:pt x="4345" y="1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260360" y="3695760"/>
              <a:ext cx="79200" cy="793080"/>
            </a:xfrm>
            <a:custGeom>
              <a:avLst/>
              <a:gdLst/>
              <a:ahLst/>
              <a:rect l="l" t="t" r="r" b="b"/>
              <a:pathLst>
                <a:path w="151" h="1501">
                  <a:moveTo>
                    <a:pt x="76" y="1501"/>
                  </a:moveTo>
                  <a:lnTo>
                    <a:pt x="151" y="1501"/>
                  </a:lnTo>
                  <a:lnTo>
                    <a:pt x="151" y="0"/>
                  </a:lnTo>
                  <a:lnTo>
                    <a:pt x="0" y="0"/>
                  </a:lnTo>
                  <a:lnTo>
                    <a:pt x="0" y="1501"/>
                  </a:lnTo>
                  <a:lnTo>
                    <a:pt x="76" y="1501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465200" y="3695760"/>
              <a:ext cx="39600" cy="793080"/>
            </a:xfrm>
            <a:custGeom>
              <a:avLst/>
              <a:gdLst/>
              <a:ahLst/>
              <a:rect l="l" t="t" r="r" b="b"/>
              <a:pathLst>
                <a:path w="75" h="1501">
                  <a:moveTo>
                    <a:pt x="38" y="1501"/>
                  </a:moveTo>
                  <a:lnTo>
                    <a:pt x="75" y="1501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1501"/>
                  </a:lnTo>
                  <a:lnTo>
                    <a:pt x="38" y="1501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226880" y="3360600"/>
              <a:ext cx="978120" cy="210960"/>
            </a:xfrm>
            <a:custGeom>
              <a:avLst/>
              <a:gdLst/>
              <a:ahLst/>
              <a:rect l="l" t="t" r="r" b="b"/>
              <a:pathLst>
                <a:path w="1848" h="401">
                  <a:moveTo>
                    <a:pt x="0" y="401"/>
                  </a:moveTo>
                  <a:lnTo>
                    <a:pt x="308" y="401"/>
                  </a:lnTo>
                  <a:lnTo>
                    <a:pt x="317" y="396"/>
                  </a:lnTo>
                  <a:lnTo>
                    <a:pt x="339" y="384"/>
                  </a:lnTo>
                  <a:lnTo>
                    <a:pt x="378" y="366"/>
                  </a:lnTo>
                  <a:lnTo>
                    <a:pt x="431" y="341"/>
                  </a:lnTo>
                  <a:lnTo>
                    <a:pt x="494" y="314"/>
                  </a:lnTo>
                  <a:lnTo>
                    <a:pt x="572" y="281"/>
                  </a:lnTo>
                  <a:lnTo>
                    <a:pt x="659" y="246"/>
                  </a:lnTo>
                  <a:lnTo>
                    <a:pt x="755" y="210"/>
                  </a:lnTo>
                  <a:lnTo>
                    <a:pt x="860" y="176"/>
                  </a:lnTo>
                  <a:lnTo>
                    <a:pt x="973" y="141"/>
                  </a:lnTo>
                  <a:lnTo>
                    <a:pt x="1093" y="110"/>
                  </a:lnTo>
                  <a:lnTo>
                    <a:pt x="1219" y="81"/>
                  </a:lnTo>
                  <a:lnTo>
                    <a:pt x="1346" y="56"/>
                  </a:lnTo>
                  <a:lnTo>
                    <a:pt x="1481" y="38"/>
                  </a:lnTo>
                  <a:lnTo>
                    <a:pt x="1617" y="27"/>
                  </a:lnTo>
                  <a:lnTo>
                    <a:pt x="1756" y="22"/>
                  </a:lnTo>
                  <a:lnTo>
                    <a:pt x="1811" y="20"/>
                  </a:lnTo>
                  <a:lnTo>
                    <a:pt x="1841" y="16"/>
                  </a:lnTo>
                  <a:lnTo>
                    <a:pt x="1848" y="11"/>
                  </a:lnTo>
                  <a:lnTo>
                    <a:pt x="1834" y="5"/>
                  </a:lnTo>
                  <a:lnTo>
                    <a:pt x="1797" y="0"/>
                  </a:lnTo>
                  <a:lnTo>
                    <a:pt x="1737" y="0"/>
                  </a:lnTo>
                  <a:lnTo>
                    <a:pt x="1657" y="2"/>
                  </a:lnTo>
                  <a:lnTo>
                    <a:pt x="1554" y="9"/>
                  </a:lnTo>
                  <a:lnTo>
                    <a:pt x="1430" y="22"/>
                  </a:lnTo>
                  <a:lnTo>
                    <a:pt x="1286" y="44"/>
                  </a:lnTo>
                  <a:lnTo>
                    <a:pt x="1123" y="74"/>
                  </a:lnTo>
                  <a:lnTo>
                    <a:pt x="938" y="113"/>
                  </a:lnTo>
                  <a:lnTo>
                    <a:pt x="733" y="166"/>
                  </a:lnTo>
                  <a:lnTo>
                    <a:pt x="509" y="230"/>
                  </a:lnTo>
                  <a:lnTo>
                    <a:pt x="265" y="306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461960" y="3414600"/>
              <a:ext cx="569880" cy="155160"/>
            </a:xfrm>
            <a:custGeom>
              <a:avLst/>
              <a:gdLst/>
              <a:ahLst/>
              <a:rect l="l" t="t" r="r" b="b"/>
              <a:pathLst>
                <a:path w="1078" h="294">
                  <a:moveTo>
                    <a:pt x="0" y="294"/>
                  </a:moveTo>
                  <a:lnTo>
                    <a:pt x="164" y="294"/>
                  </a:lnTo>
                  <a:lnTo>
                    <a:pt x="194" y="276"/>
                  </a:lnTo>
                  <a:lnTo>
                    <a:pt x="233" y="258"/>
                  </a:lnTo>
                  <a:lnTo>
                    <a:pt x="278" y="237"/>
                  </a:lnTo>
                  <a:lnTo>
                    <a:pt x="331" y="217"/>
                  </a:lnTo>
                  <a:lnTo>
                    <a:pt x="390" y="195"/>
                  </a:lnTo>
                  <a:lnTo>
                    <a:pt x="450" y="174"/>
                  </a:lnTo>
                  <a:lnTo>
                    <a:pt x="515" y="151"/>
                  </a:lnTo>
                  <a:lnTo>
                    <a:pt x="581" y="129"/>
                  </a:lnTo>
                  <a:lnTo>
                    <a:pt x="648" y="109"/>
                  </a:lnTo>
                  <a:lnTo>
                    <a:pt x="716" y="88"/>
                  </a:lnTo>
                  <a:lnTo>
                    <a:pt x="783" y="70"/>
                  </a:lnTo>
                  <a:lnTo>
                    <a:pt x="849" y="51"/>
                  </a:lnTo>
                  <a:lnTo>
                    <a:pt x="912" y="36"/>
                  </a:lnTo>
                  <a:lnTo>
                    <a:pt x="972" y="21"/>
                  </a:lnTo>
                  <a:lnTo>
                    <a:pt x="1028" y="9"/>
                  </a:lnTo>
                  <a:lnTo>
                    <a:pt x="1078" y="0"/>
                  </a:lnTo>
                  <a:lnTo>
                    <a:pt x="1070" y="2"/>
                  </a:lnTo>
                  <a:lnTo>
                    <a:pt x="1046" y="6"/>
                  </a:lnTo>
                  <a:lnTo>
                    <a:pt x="1007" y="9"/>
                  </a:lnTo>
                  <a:lnTo>
                    <a:pt x="957" y="18"/>
                  </a:lnTo>
                  <a:lnTo>
                    <a:pt x="895" y="28"/>
                  </a:lnTo>
                  <a:lnTo>
                    <a:pt x="827" y="39"/>
                  </a:lnTo>
                  <a:lnTo>
                    <a:pt x="749" y="52"/>
                  </a:lnTo>
                  <a:lnTo>
                    <a:pt x="665" y="70"/>
                  </a:lnTo>
                  <a:lnTo>
                    <a:pt x="577" y="88"/>
                  </a:lnTo>
                  <a:lnTo>
                    <a:pt x="487" y="109"/>
                  </a:lnTo>
                  <a:lnTo>
                    <a:pt x="397" y="135"/>
                  </a:lnTo>
                  <a:lnTo>
                    <a:pt x="308" y="160"/>
                  </a:lnTo>
                  <a:lnTo>
                    <a:pt x="222" y="190"/>
                  </a:lnTo>
                  <a:lnTo>
                    <a:pt x="143" y="222"/>
                  </a:lnTo>
                  <a:lnTo>
                    <a:pt x="66" y="256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838080" y="3719520"/>
              <a:ext cx="317520" cy="16920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316" y="212"/>
                  </a:moveTo>
                  <a:lnTo>
                    <a:pt x="304" y="236"/>
                  </a:lnTo>
                  <a:lnTo>
                    <a:pt x="292" y="255"/>
                  </a:lnTo>
                  <a:lnTo>
                    <a:pt x="274" y="274"/>
                  </a:lnTo>
                  <a:lnTo>
                    <a:pt x="256" y="289"/>
                  </a:lnTo>
                  <a:lnTo>
                    <a:pt x="234" y="303"/>
                  </a:lnTo>
                  <a:lnTo>
                    <a:pt x="211" y="313"/>
                  </a:lnTo>
                  <a:lnTo>
                    <a:pt x="186" y="319"/>
                  </a:lnTo>
                  <a:lnTo>
                    <a:pt x="162" y="320"/>
                  </a:lnTo>
                  <a:lnTo>
                    <a:pt x="131" y="316"/>
                  </a:lnTo>
                  <a:lnTo>
                    <a:pt x="98" y="307"/>
                  </a:lnTo>
                  <a:lnTo>
                    <a:pt x="72" y="294"/>
                  </a:lnTo>
                  <a:lnTo>
                    <a:pt x="49" y="274"/>
                  </a:lnTo>
                  <a:lnTo>
                    <a:pt x="27" y="250"/>
                  </a:lnTo>
                  <a:lnTo>
                    <a:pt x="13" y="222"/>
                  </a:lnTo>
                  <a:lnTo>
                    <a:pt x="5" y="192"/>
                  </a:lnTo>
                  <a:lnTo>
                    <a:pt x="0" y="160"/>
                  </a:lnTo>
                  <a:lnTo>
                    <a:pt x="5" y="128"/>
                  </a:lnTo>
                  <a:lnTo>
                    <a:pt x="13" y="97"/>
                  </a:lnTo>
                  <a:lnTo>
                    <a:pt x="27" y="70"/>
                  </a:lnTo>
                  <a:lnTo>
                    <a:pt x="49" y="46"/>
                  </a:lnTo>
                  <a:lnTo>
                    <a:pt x="72" y="27"/>
                  </a:lnTo>
                  <a:lnTo>
                    <a:pt x="98" y="12"/>
                  </a:lnTo>
                  <a:lnTo>
                    <a:pt x="131" y="3"/>
                  </a:lnTo>
                  <a:lnTo>
                    <a:pt x="162" y="0"/>
                  </a:lnTo>
                  <a:lnTo>
                    <a:pt x="186" y="1"/>
                  </a:lnTo>
                  <a:lnTo>
                    <a:pt x="211" y="7"/>
                  </a:lnTo>
                  <a:lnTo>
                    <a:pt x="234" y="18"/>
                  </a:lnTo>
                  <a:lnTo>
                    <a:pt x="256" y="30"/>
                  </a:lnTo>
                  <a:lnTo>
                    <a:pt x="272" y="45"/>
                  </a:lnTo>
                  <a:lnTo>
                    <a:pt x="289" y="63"/>
                  </a:lnTo>
                  <a:lnTo>
                    <a:pt x="302" y="82"/>
                  </a:lnTo>
                  <a:lnTo>
                    <a:pt x="316" y="106"/>
                  </a:lnTo>
                  <a:lnTo>
                    <a:pt x="601" y="106"/>
                  </a:lnTo>
                  <a:lnTo>
                    <a:pt x="601" y="212"/>
                  </a:lnTo>
                  <a:lnTo>
                    <a:pt x="316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3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0884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5" name="COFFEE" descr=""/>
          <p:cNvPicPr/>
          <p:nvPr/>
        </p:nvPicPr>
        <p:blipFill>
          <a:blip r:embed="rId1"/>
          <a:stretch/>
        </p:blipFill>
        <p:spPr>
          <a:xfrm>
            <a:off x="1295280" y="2724120"/>
            <a:ext cx="1944720" cy="2171880"/>
          </a:xfrm>
          <a:prstGeom prst="rect">
            <a:avLst/>
          </a:prstGeom>
          <a:ln w="0">
            <a:noFill/>
          </a:ln>
        </p:spPr>
      </p:pic>
      <p:pic>
        <p:nvPicPr>
          <p:cNvPr id="4216" name="SHEEPDOG" descr=""/>
          <p:cNvPicPr/>
          <p:nvPr/>
        </p:nvPicPr>
        <p:blipFill>
          <a:blip r:embed="rId2"/>
          <a:stretch/>
        </p:blipFill>
        <p:spPr>
          <a:xfrm>
            <a:off x="5943600" y="2825640"/>
            <a:ext cx="2209680" cy="1968480"/>
          </a:xfrm>
          <a:prstGeom prst="rect">
            <a:avLst/>
          </a:prstGeom>
          <a:ln w="0">
            <a:noFill/>
          </a:ln>
        </p:spPr>
      </p:pic>
      <p:sp>
        <p:nvSpPr>
          <p:cNvPr id="4217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85920" y="1814400"/>
            <a:ext cx="1800" cy="1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46400" y="3681360"/>
            <a:ext cx="648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55680" y="3681360"/>
            <a:ext cx="648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3280" y="3681360"/>
            <a:ext cx="468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4680" y="3681360"/>
            <a:ext cx="612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71680" y="3100320"/>
            <a:ext cx="2600280" cy="1417680"/>
            <a:chOff x="3271680" y="3100320"/>
            <a:chExt cx="2600280" cy="1417680"/>
          </a:xfrm>
        </p:grpSpPr>
        <p:sp>
          <p:nvSpPr>
            <p:cNvPr id="63" name=""/>
            <p:cNvSpPr/>
            <p:nvPr/>
          </p:nvSpPr>
          <p:spPr>
            <a:xfrm>
              <a:off x="3271680" y="3100320"/>
              <a:ext cx="260028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4920" y="3587760"/>
              <a:ext cx="27000" cy="585720"/>
            </a:xfrm>
            <a:custGeom>
              <a:avLst/>
              <a:gdLst/>
              <a:ahLst/>
              <a:rect l="l" t="t" r="r" b="b"/>
              <a:pathLst>
                <a:path w="49" h="1107">
                  <a:moveTo>
                    <a:pt x="0" y="0"/>
                  </a:moveTo>
                  <a:lnTo>
                    <a:pt x="16" y="72"/>
                  </a:lnTo>
                  <a:lnTo>
                    <a:pt x="35" y="123"/>
                  </a:lnTo>
                  <a:lnTo>
                    <a:pt x="49" y="173"/>
                  </a:lnTo>
                  <a:lnTo>
                    <a:pt x="49" y="110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3080" y="3584520"/>
              <a:ext cx="2000160" cy="8064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35200" y="3252600"/>
              <a:ext cx="2124360" cy="338040"/>
            </a:xfrm>
            <a:custGeom>
              <a:avLst/>
              <a:gdLst/>
              <a:ahLst/>
              <a:rect l="l" t="t" r="r" b="b"/>
              <a:pathLst>
                <a:path w="4016" h="640">
                  <a:moveTo>
                    <a:pt x="4016" y="640"/>
                  </a:moveTo>
                  <a:lnTo>
                    <a:pt x="3688" y="0"/>
                  </a:lnTo>
                  <a:lnTo>
                    <a:pt x="309" y="10"/>
                  </a:lnTo>
                  <a:lnTo>
                    <a:pt x="0" y="630"/>
                  </a:lnTo>
                  <a:lnTo>
                    <a:pt x="4016" y="64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0720" y="3830400"/>
              <a:ext cx="3189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92640" y="3886200"/>
              <a:ext cx="193680" cy="436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0600" y="4035240"/>
              <a:ext cx="10008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97640" y="3590640"/>
              <a:ext cx="29880" cy="801720"/>
            </a:xfrm>
            <a:custGeom>
              <a:avLst/>
              <a:gdLst/>
              <a:ahLst/>
              <a:rect l="l" t="t" r="r" b="b"/>
              <a:pathLst>
                <a:path w="56" h="1514">
                  <a:moveTo>
                    <a:pt x="56" y="0"/>
                  </a:moveTo>
                  <a:lnTo>
                    <a:pt x="38" y="76"/>
                  </a:lnTo>
                  <a:lnTo>
                    <a:pt x="1" y="154"/>
                  </a:lnTo>
                  <a:lnTo>
                    <a:pt x="0" y="151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691080" y="3274920"/>
              <a:ext cx="180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3672000" y="3313080"/>
              <a:ext cx="184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649320" y="3357360"/>
              <a:ext cx="1887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3630600" y="3396600"/>
              <a:ext cx="1928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3610080" y="3436920"/>
              <a:ext cx="1969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587760" y="3479760"/>
              <a:ext cx="2014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3571920" y="3514680"/>
              <a:ext cx="2047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551040" y="3554280"/>
              <a:ext cx="208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548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364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748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572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07120" y="3666960"/>
              <a:ext cx="612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364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748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7480" y="3657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9748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97480" y="3673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97480" y="3681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9748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7480" y="3697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97480" y="3705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9748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7480" y="372888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9748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97480" y="374472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7480" y="3752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748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97480" y="376848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3548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3548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3548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3548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3548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3548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548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548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3548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3548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3548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548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3548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548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548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548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3548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9400" y="3638520"/>
              <a:ext cx="19224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2756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4960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1964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5320" y="3666960"/>
              <a:ext cx="46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2756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49600" y="364968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49600" y="36576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49600" y="36655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49600" y="367344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49600" y="368136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9600" y="368928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49600" y="36972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49600" y="37051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9600" y="37116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49600" y="37195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49600" y="372888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49600" y="373536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49600" y="374472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49600" y="375264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9600" y="37591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49600" y="376848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8940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8940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8940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8940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8940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940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8940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940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940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8940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940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8940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8940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8940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940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940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9400" y="3776400"/>
              <a:ext cx="192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520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480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6720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688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21120" y="3666960"/>
              <a:ext cx="64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4480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720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7200" y="3657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720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67200" y="3673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7200" y="3681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720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7200" y="3697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7200" y="3705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720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720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7200" y="37288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720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0" y="374472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7200" y="3752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720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67200" y="37684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520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5200" y="365580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520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5200" y="3671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5200" y="367956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520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5200" y="36957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5200" y="3703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520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520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5200" y="3727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520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5200" y="3743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5200" y="3751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520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5200" y="37670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520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0376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43360" y="3666960"/>
              <a:ext cx="11448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396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3400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75040" y="3666960"/>
              <a:ext cx="64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43360" y="3708360"/>
              <a:ext cx="11448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6396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63960" y="3657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6396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63960" y="3673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63960" y="3681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6396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3960" y="3697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3705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396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6396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3960" y="37288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396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63960" y="374472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63960" y="3752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6396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63960" y="37684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0376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0376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0376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376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376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0376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0376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0376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0376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376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376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376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376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376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0376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0376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0376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6400" y="3870360"/>
              <a:ext cx="21276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4560" y="3913200"/>
              <a:ext cx="13500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19800" y="3897360"/>
              <a:ext cx="75960" cy="290520"/>
            </a:xfrm>
            <a:custGeom>
              <a:avLst/>
              <a:gdLst/>
              <a:ahLst/>
              <a:rect l="l" t="t" r="r" b="b"/>
              <a:pathLst>
                <a:path w="145" h="548">
                  <a:moveTo>
                    <a:pt x="0" y="0"/>
                  </a:moveTo>
                  <a:lnTo>
                    <a:pt x="145" y="7"/>
                  </a:lnTo>
                  <a:lnTo>
                    <a:pt x="145" y="548"/>
                  </a:lnTo>
                  <a:lnTo>
                    <a:pt x="0" y="5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5430600" y="390492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430600" y="391428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430600" y="392400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5430600" y="393336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30600" y="3943080"/>
              <a:ext cx="536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430600" y="395244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30600" y="3962160"/>
              <a:ext cx="536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430600" y="3972960"/>
              <a:ext cx="536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5430600" y="398268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5430600" y="399204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5430600" y="4002120"/>
              <a:ext cx="536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430600" y="401112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5459400" y="405072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5459400" y="405864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459400" y="406836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459400" y="407772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5459400" y="408888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59400" y="409680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797280" y="3857400"/>
              <a:ext cx="1687320" cy="335160"/>
              <a:chOff x="3797280" y="3857400"/>
              <a:chExt cx="1687320" cy="335160"/>
            </a:xfrm>
          </p:grpSpPr>
          <p:sp>
            <p:nvSpPr>
              <p:cNvPr id="257" name=""/>
              <p:cNvSpPr/>
              <p:nvPr/>
            </p:nvSpPr>
            <p:spPr>
              <a:xfrm flipH="1" flipV="1">
                <a:off x="5459400" y="410688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459400" y="411804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5459400" y="41259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5459400" y="4134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5459400" y="41443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5459400" y="4154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5459400" y="41634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5459400" y="4173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5427720" y="40474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5427720" y="40575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5427720" y="4065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5427720" y="4076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427720" y="4085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5427720" y="409572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5427720" y="410472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5427720" y="4114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5427720" y="412380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5427720" y="4133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427720" y="41432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5427720" y="4150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5427720" y="4160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5427720" y="417132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51240" y="3898800"/>
                <a:ext cx="76320" cy="290520"/>
              </a:xfrm>
              <a:custGeom>
                <a:avLst/>
                <a:gdLst/>
                <a:ahLst/>
                <a:rect l="l" t="t" r="r" b="b"/>
                <a:pathLst>
                  <a:path w="144" h="550">
                    <a:moveTo>
                      <a:pt x="144" y="0"/>
                    </a:moveTo>
                    <a:lnTo>
                      <a:pt x="0" y="7"/>
                    </a:lnTo>
                    <a:lnTo>
                      <a:pt x="0" y="550"/>
                    </a:lnTo>
                    <a:lnTo>
                      <a:pt x="144" y="543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162400" y="390636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162400" y="3915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162400" y="3925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162400" y="393516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162400" y="39445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162400" y="3954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5162400" y="3963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162400" y="39729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162400" y="398268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162400" y="3994200"/>
                <a:ext cx="540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162400" y="4003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162400" y="401256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5162400" y="40507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162400" y="40604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162400" y="40698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162400" y="407988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162400" y="408888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162400" y="409896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162400" y="41079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162400" y="411804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162400" y="41270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162400" y="4136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162400" y="41461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162400" y="415548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162400" y="416556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162400" y="41745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5192640" y="4049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5192640" y="4058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5192640" y="40683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5192640" y="40777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5192640" y="4087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192640" y="4096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192640" y="4106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5192640" y="41158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192640" y="412596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5192640" y="4134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192640" y="41443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192640" y="415440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5192640" y="4163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192640" y="4173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89480" y="3902040"/>
                <a:ext cx="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40240" y="3902040"/>
                <a:ext cx="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8080" y="3967200"/>
                <a:ext cx="1479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48080" y="4037040"/>
                <a:ext cx="1479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248080" y="4106880"/>
                <a:ext cx="1479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95880" y="3863880"/>
                <a:ext cx="2491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95880" y="3863880"/>
                <a:ext cx="249120" cy="22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95840" y="3865320"/>
                <a:ext cx="21096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34000" y="3906720"/>
                <a:ext cx="1350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87720" y="3892320"/>
                <a:ext cx="76320" cy="292320"/>
              </a:xfrm>
              <a:custGeom>
                <a:avLst/>
                <a:gdLst/>
                <a:ahLst/>
                <a:rect l="l" t="t" r="r" b="b"/>
                <a:pathLst>
                  <a:path w="143" h="550">
                    <a:moveTo>
                      <a:pt x="0" y="0"/>
                    </a:moveTo>
                    <a:lnTo>
                      <a:pt x="143" y="7"/>
                    </a:lnTo>
                    <a:lnTo>
                      <a:pt x="143" y="550"/>
                    </a:lnTo>
                    <a:lnTo>
                      <a:pt x="0" y="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898880" y="3900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898880" y="3909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4898880" y="391932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898880" y="39301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898880" y="39380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4898880" y="3949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4898880" y="39571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4898880" y="3966840"/>
                <a:ext cx="5400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4898880" y="397764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898880" y="39873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4898880" y="3996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898880" y="4006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4927680" y="404496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4927680" y="4053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4927680" y="406404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4927680" y="4073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4927680" y="40845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927680" y="4092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4927680" y="41014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927680" y="41112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927680" y="41205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4927680" y="41302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4927680" y="41418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4927680" y="41493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4927680" y="41587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927680" y="416880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895280" y="404280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4895280" y="405288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4895280" y="40604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4895280" y="407196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4895280" y="40809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4895280" y="409104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4895280" y="410040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4895280" y="4109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4895280" y="411948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4895280" y="412848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4895280" y="4136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4895280" y="41461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895280" y="415548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4895280" y="416664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37160" y="3892320"/>
                <a:ext cx="74520" cy="289080"/>
              </a:xfrm>
              <a:custGeom>
                <a:avLst/>
                <a:gdLst/>
                <a:ahLst/>
                <a:rect l="l" t="t" r="r" b="b"/>
                <a:pathLst>
                  <a:path w="143" h="548">
                    <a:moveTo>
                      <a:pt x="143" y="0"/>
                    </a:moveTo>
                    <a:lnTo>
                      <a:pt x="0" y="7"/>
                    </a:lnTo>
                    <a:lnTo>
                      <a:pt x="0" y="548"/>
                    </a:lnTo>
                    <a:lnTo>
                      <a:pt x="143" y="54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648320" y="389844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648320" y="390816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648320" y="3918960"/>
                <a:ext cx="5364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648320" y="392724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4648320" y="3938040"/>
                <a:ext cx="5364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648320" y="3948120"/>
                <a:ext cx="5364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4648320" y="395712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648320" y="396684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4648320" y="397620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4648320" y="398592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648320" y="399528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4648320" y="400500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4648320" y="4042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648320" y="4053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4648320" y="40640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48320" y="407196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648320" y="4082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48320" y="409104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648320" y="410148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648320" y="41115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4648320" y="41205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4648320" y="41306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4648320" y="4139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4648320" y="414972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648320" y="4157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648320" y="416880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4678200" y="404280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4678200" y="405288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678200" y="4060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4678200" y="40719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678200" y="4080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678200" y="40910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678200" y="410040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678200" y="4109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4678200" y="411948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4678200" y="412848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4678200" y="4136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678200" y="4146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678200" y="41554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678200" y="416664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70360" y="3895560"/>
                <a:ext cx="972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19680" y="3895560"/>
                <a:ext cx="1116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27520" y="3962160"/>
                <a:ext cx="1476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27520" y="4030560"/>
                <a:ext cx="1476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27520" y="4100400"/>
                <a:ext cx="1476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75320" y="3857400"/>
                <a:ext cx="2491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75320" y="3857400"/>
                <a:ext cx="249120" cy="22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97280" y="3865320"/>
                <a:ext cx="21276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35440" y="3906720"/>
                <a:ext cx="1350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89520" y="3892320"/>
                <a:ext cx="77760" cy="292320"/>
              </a:xfrm>
              <a:custGeom>
                <a:avLst/>
                <a:gdLst/>
                <a:ahLst/>
                <a:rect l="l" t="t" r="r" b="b"/>
                <a:pathLst>
                  <a:path w="145" h="550">
                    <a:moveTo>
                      <a:pt x="0" y="0"/>
                    </a:moveTo>
                    <a:lnTo>
                      <a:pt x="145" y="7"/>
                    </a:lnTo>
                    <a:lnTo>
                      <a:pt x="145" y="550"/>
                    </a:lnTo>
                    <a:lnTo>
                      <a:pt x="0" y="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4000320" y="3900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000320" y="3909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4000320" y="391932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000320" y="39301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4000320" y="39380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4000320" y="3949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4000320" y="39571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4000320" y="3966840"/>
                <a:ext cx="5400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4000320" y="397764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4000320" y="39873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>
                <a:off x="4000320" y="3996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4000320" y="4006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4029120" y="404496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4029120" y="4053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>
                <a:off x="4029120" y="406404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4029120" y="4073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4029120" y="40845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4029120" y="4092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4029120" y="41014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4029120" y="41112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4029120" y="41205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4029120" y="41302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4029120" y="41418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4029120" y="41493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4029120" y="41587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4029120" y="416880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3997440" y="4042800"/>
                <a:ext cx="252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3997440" y="405288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3997440" y="40604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3997440" y="40719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3997440" y="4080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3997440" y="409104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3997440" y="41004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3997440" y="41094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3997440" y="411948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3997440" y="4128480"/>
                <a:ext cx="252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flipH="1" flipV="1">
              <a:off x="3997440" y="413640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997440" y="414612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3997440" y="415548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3997440" y="416664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38600" y="3892320"/>
              <a:ext cx="75960" cy="289080"/>
            </a:xfrm>
            <a:custGeom>
              <a:avLst/>
              <a:gdLst/>
              <a:ahLst/>
              <a:rect l="l" t="t" r="r" b="b"/>
              <a:pathLst>
                <a:path w="144" h="548">
                  <a:moveTo>
                    <a:pt x="144" y="0"/>
                  </a:moveTo>
                  <a:lnTo>
                    <a:pt x="0" y="7"/>
                  </a:lnTo>
                  <a:lnTo>
                    <a:pt x="0" y="548"/>
                  </a:lnTo>
                  <a:lnTo>
                    <a:pt x="144" y="54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749760" y="389844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749760" y="390816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749760" y="3918960"/>
              <a:ext cx="52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749760" y="392724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749760" y="3938040"/>
              <a:ext cx="52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749760" y="3948120"/>
              <a:ext cx="52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749760" y="395712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749760" y="396684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749760" y="397620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749760" y="398592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749760" y="399528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749760" y="400500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749760" y="404280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749760" y="405396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749760" y="4064040"/>
              <a:ext cx="23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749760" y="4071960"/>
              <a:ext cx="23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749760" y="408240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749760" y="4091040"/>
              <a:ext cx="23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779640" y="404280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779640" y="405288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779640" y="406044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779640" y="407196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779640" y="408096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779640" y="409104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779640" y="410040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779640" y="410940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79640" y="411948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779640" y="412848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779640" y="413640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779640" y="414612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779640" y="415548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779640" y="416664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71800" y="3895560"/>
              <a:ext cx="972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21120" y="3895560"/>
              <a:ext cx="1116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28960" y="3962160"/>
              <a:ext cx="1476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28960" y="4030560"/>
              <a:ext cx="1476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28960" y="4100400"/>
              <a:ext cx="1476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76760" y="3857400"/>
              <a:ext cx="249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76760" y="3857400"/>
              <a:ext cx="249120" cy="22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24240" y="3816360"/>
              <a:ext cx="33192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4240" y="3816360"/>
              <a:ext cx="33192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38640" y="3846240"/>
              <a:ext cx="4932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89560" y="3846240"/>
              <a:ext cx="4896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7960" y="3868560"/>
              <a:ext cx="19836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9640" y="3908160"/>
              <a:ext cx="142920" cy="29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02000" y="4092480"/>
              <a:ext cx="17136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02000" y="4114800"/>
              <a:ext cx="17136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08480" y="4224240"/>
              <a:ext cx="158760" cy="74520"/>
            </a:xfrm>
            <a:prstGeom prst="rect">
              <a:avLst/>
            </a:prstGeom>
            <a:noFill/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13080" y="4346640"/>
              <a:ext cx="354240" cy="31680"/>
            </a:xfrm>
            <a:custGeom>
              <a:avLst/>
              <a:gdLst/>
              <a:ahLst/>
              <a:rect l="l" t="t" r="r" b="b"/>
              <a:pathLst>
                <a:path w="668" h="61">
                  <a:moveTo>
                    <a:pt x="630" y="0"/>
                  </a:moveTo>
                  <a:lnTo>
                    <a:pt x="668" y="61"/>
                  </a:lnTo>
                  <a:lnTo>
                    <a:pt x="0" y="61"/>
                  </a:lnTo>
                  <a:lnTo>
                    <a:pt x="37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14880" y="4378320"/>
              <a:ext cx="35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30600" y="4025880"/>
              <a:ext cx="100080" cy="15840"/>
            </a:xfrm>
            <a:custGeom>
              <a:avLst/>
              <a:gdLst/>
              <a:ahLst/>
              <a:rect l="l" t="t" r="r" b="b"/>
              <a:pathLst>
                <a:path w="189" h="30">
                  <a:moveTo>
                    <a:pt x="189" y="30"/>
                  </a:moveTo>
                  <a:lnTo>
                    <a:pt x="0" y="30"/>
                  </a:lnTo>
                  <a:lnTo>
                    <a:pt x="4" y="0"/>
                  </a:lnTo>
                  <a:lnTo>
                    <a:pt x="184" y="0"/>
                  </a:lnTo>
                  <a:lnTo>
                    <a:pt x="189" y="30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35200" y="3252600"/>
              <a:ext cx="2124360" cy="338040"/>
            </a:xfrm>
            <a:custGeom>
              <a:avLst/>
              <a:gdLst/>
              <a:ahLst/>
              <a:rect l="l" t="t" r="r" b="b"/>
              <a:pathLst>
                <a:path w="4016" h="640">
                  <a:moveTo>
                    <a:pt x="4016" y="640"/>
                  </a:moveTo>
                  <a:lnTo>
                    <a:pt x="3688" y="0"/>
                  </a:lnTo>
                  <a:lnTo>
                    <a:pt x="309" y="10"/>
                  </a:lnTo>
                  <a:lnTo>
                    <a:pt x="0" y="630"/>
                  </a:lnTo>
                  <a:lnTo>
                    <a:pt x="4016" y="640"/>
                  </a:lnTo>
                  <a:close/>
                </a:path>
              </a:pathLst>
            </a:custGeom>
            <a:noFill/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1520" y="3106800"/>
              <a:ext cx="64800" cy="410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76760" y="3106800"/>
              <a:ext cx="64800" cy="410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3040" y="3274920"/>
              <a:ext cx="281160" cy="46080"/>
            </a:xfrm>
            <a:custGeom>
              <a:avLst/>
              <a:gdLst/>
              <a:ahLst/>
              <a:rect l="l" t="t" r="r" b="b"/>
              <a:pathLst>
                <a:path w="531" h="87">
                  <a:moveTo>
                    <a:pt x="531" y="0"/>
                  </a:moveTo>
                  <a:lnTo>
                    <a:pt x="515" y="87"/>
                  </a:lnTo>
                  <a:lnTo>
                    <a:pt x="0" y="87"/>
                  </a:lnTo>
                  <a:lnTo>
                    <a:pt x="38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54440" y="3133440"/>
              <a:ext cx="201600" cy="163800"/>
            </a:xfrm>
            <a:prstGeom prst="rect">
              <a:avLst/>
            </a:prstGeom>
            <a:solidFill>
              <a:srgbClr val="cc6633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754440" y="313344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754440" y="3146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754440" y="31590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754440" y="317160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754440" y="318276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754440" y="319536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754440" y="320832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754440" y="32194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754440" y="32320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754440" y="324468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754440" y="325728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3754440" y="327024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3754440" y="3281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754440" y="32940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4632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0996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7360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3688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052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380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7496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988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8296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1788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5604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4632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0996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7360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3688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052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6380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7496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988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4480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8296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2112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5604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4632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0996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7360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3688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052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6380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74960" y="319536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0844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4336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8296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5604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2112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6380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0520" y="3208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3688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7180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09960" y="3208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4632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5604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1968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4400" y="32209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4336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520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74960" y="32209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6380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052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3688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7180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0852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4488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5604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1968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8620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44800" y="324648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520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77352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6380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52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3688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7180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0852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4488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5460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1968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8620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44800" y="3270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0520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7352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380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052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3688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7180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0852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4488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30520" y="3584520"/>
              <a:ext cx="2130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24280" y="3024360"/>
            <a:ext cx="310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9" name=""/>
          <p:cNvGrpSpPr/>
          <p:nvPr/>
        </p:nvGrpSpPr>
        <p:grpSpPr>
          <a:xfrm>
            <a:off x="6095880" y="2873520"/>
            <a:ext cx="2078280" cy="1873080"/>
            <a:chOff x="6095880" y="2873520"/>
            <a:chExt cx="2078280" cy="1873080"/>
          </a:xfrm>
        </p:grpSpPr>
        <p:sp>
          <p:nvSpPr>
            <p:cNvPr id="4220" name=""/>
            <p:cNvSpPr/>
            <p:nvPr/>
          </p:nvSpPr>
          <p:spPr>
            <a:xfrm>
              <a:off x="6095880" y="2873520"/>
              <a:ext cx="2078280" cy="1873080"/>
            </a:xfrm>
            <a:custGeom>
              <a:avLst/>
              <a:gdLst/>
              <a:ahLst/>
              <a:rect l="l" t="t" r="r" b="b"/>
              <a:pathLst>
                <a:path w="1453" h="1304">
                  <a:moveTo>
                    <a:pt x="981" y="169"/>
                  </a:moveTo>
                  <a:lnTo>
                    <a:pt x="981" y="167"/>
                  </a:lnTo>
                  <a:lnTo>
                    <a:pt x="973" y="169"/>
                  </a:lnTo>
                  <a:lnTo>
                    <a:pt x="967" y="171"/>
                  </a:lnTo>
                  <a:lnTo>
                    <a:pt x="962" y="173"/>
                  </a:lnTo>
                  <a:lnTo>
                    <a:pt x="962" y="173"/>
                  </a:lnTo>
                  <a:lnTo>
                    <a:pt x="962" y="175"/>
                  </a:lnTo>
                  <a:lnTo>
                    <a:pt x="937" y="171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16" y="165"/>
                  </a:lnTo>
                  <a:lnTo>
                    <a:pt x="896" y="159"/>
                  </a:lnTo>
                  <a:lnTo>
                    <a:pt x="879" y="154"/>
                  </a:lnTo>
                  <a:lnTo>
                    <a:pt x="879" y="154"/>
                  </a:lnTo>
                  <a:lnTo>
                    <a:pt x="868" y="148"/>
                  </a:lnTo>
                  <a:lnTo>
                    <a:pt x="862" y="136"/>
                  </a:lnTo>
                  <a:lnTo>
                    <a:pt x="852" y="131"/>
                  </a:lnTo>
                  <a:lnTo>
                    <a:pt x="852" y="131"/>
                  </a:lnTo>
                  <a:lnTo>
                    <a:pt x="829" y="121"/>
                  </a:lnTo>
                  <a:lnTo>
                    <a:pt x="806" y="113"/>
                  </a:lnTo>
                  <a:lnTo>
                    <a:pt x="783" y="106"/>
                  </a:lnTo>
                  <a:lnTo>
                    <a:pt x="758" y="100"/>
                  </a:lnTo>
                  <a:lnTo>
                    <a:pt x="733" y="96"/>
                  </a:lnTo>
                  <a:lnTo>
                    <a:pt x="708" y="92"/>
                  </a:lnTo>
                  <a:lnTo>
                    <a:pt x="683" y="88"/>
                  </a:lnTo>
                  <a:lnTo>
                    <a:pt x="658" y="88"/>
                  </a:lnTo>
                  <a:lnTo>
                    <a:pt x="633" y="88"/>
                  </a:lnTo>
                  <a:lnTo>
                    <a:pt x="608" y="88"/>
                  </a:lnTo>
                  <a:lnTo>
                    <a:pt x="584" y="90"/>
                  </a:lnTo>
                  <a:lnTo>
                    <a:pt x="584" y="90"/>
                  </a:lnTo>
                  <a:lnTo>
                    <a:pt x="562" y="100"/>
                  </a:lnTo>
                  <a:lnTo>
                    <a:pt x="541" y="104"/>
                  </a:lnTo>
                  <a:lnTo>
                    <a:pt x="518" y="104"/>
                  </a:lnTo>
                  <a:lnTo>
                    <a:pt x="518" y="104"/>
                  </a:lnTo>
                  <a:lnTo>
                    <a:pt x="518" y="104"/>
                  </a:lnTo>
                  <a:lnTo>
                    <a:pt x="499" y="108"/>
                  </a:lnTo>
                  <a:lnTo>
                    <a:pt x="499" y="108"/>
                  </a:lnTo>
                  <a:lnTo>
                    <a:pt x="491" y="109"/>
                  </a:lnTo>
                  <a:lnTo>
                    <a:pt x="482" y="109"/>
                  </a:lnTo>
                  <a:lnTo>
                    <a:pt x="474" y="109"/>
                  </a:lnTo>
                  <a:lnTo>
                    <a:pt x="474" y="109"/>
                  </a:lnTo>
                  <a:lnTo>
                    <a:pt x="472" y="111"/>
                  </a:lnTo>
                  <a:lnTo>
                    <a:pt x="499" y="115"/>
                  </a:lnTo>
                  <a:lnTo>
                    <a:pt x="499" y="108"/>
                  </a:lnTo>
                  <a:lnTo>
                    <a:pt x="518" y="104"/>
                  </a:lnTo>
                  <a:lnTo>
                    <a:pt x="516" y="119"/>
                  </a:lnTo>
                  <a:lnTo>
                    <a:pt x="520" y="119"/>
                  </a:lnTo>
                  <a:lnTo>
                    <a:pt x="522" y="121"/>
                  </a:lnTo>
                  <a:lnTo>
                    <a:pt x="524" y="121"/>
                  </a:lnTo>
                  <a:lnTo>
                    <a:pt x="524" y="121"/>
                  </a:lnTo>
                  <a:lnTo>
                    <a:pt x="576" y="129"/>
                  </a:lnTo>
                  <a:lnTo>
                    <a:pt x="628" y="136"/>
                  </a:lnTo>
                  <a:lnTo>
                    <a:pt x="678" y="142"/>
                  </a:lnTo>
                  <a:lnTo>
                    <a:pt x="729" y="150"/>
                  </a:lnTo>
                  <a:lnTo>
                    <a:pt x="781" y="156"/>
                  </a:lnTo>
                  <a:lnTo>
                    <a:pt x="833" y="163"/>
                  </a:lnTo>
                  <a:lnTo>
                    <a:pt x="885" y="169"/>
                  </a:lnTo>
                  <a:lnTo>
                    <a:pt x="937" y="175"/>
                  </a:lnTo>
                  <a:lnTo>
                    <a:pt x="937" y="175"/>
                  </a:lnTo>
                  <a:lnTo>
                    <a:pt x="937" y="173"/>
                  </a:lnTo>
                  <a:lnTo>
                    <a:pt x="937" y="171"/>
                  </a:lnTo>
                  <a:lnTo>
                    <a:pt x="937" y="171"/>
                  </a:lnTo>
                  <a:lnTo>
                    <a:pt x="937" y="171"/>
                  </a:lnTo>
                  <a:lnTo>
                    <a:pt x="962" y="175"/>
                  </a:lnTo>
                  <a:lnTo>
                    <a:pt x="962" y="175"/>
                  </a:lnTo>
                  <a:lnTo>
                    <a:pt x="967" y="177"/>
                  </a:lnTo>
                  <a:lnTo>
                    <a:pt x="973" y="179"/>
                  </a:lnTo>
                  <a:lnTo>
                    <a:pt x="981" y="179"/>
                  </a:lnTo>
                  <a:lnTo>
                    <a:pt x="981" y="179"/>
                  </a:lnTo>
                  <a:lnTo>
                    <a:pt x="981" y="169"/>
                  </a:lnTo>
                  <a:lnTo>
                    <a:pt x="1002" y="156"/>
                  </a:lnTo>
                  <a:lnTo>
                    <a:pt x="1000" y="181"/>
                  </a:lnTo>
                  <a:lnTo>
                    <a:pt x="1083" y="192"/>
                  </a:lnTo>
                  <a:lnTo>
                    <a:pt x="1165" y="202"/>
                  </a:lnTo>
                  <a:lnTo>
                    <a:pt x="1246" y="215"/>
                  </a:lnTo>
                  <a:lnTo>
                    <a:pt x="1246" y="215"/>
                  </a:lnTo>
                  <a:lnTo>
                    <a:pt x="1409" y="242"/>
                  </a:lnTo>
                  <a:lnTo>
                    <a:pt x="1417" y="246"/>
                  </a:lnTo>
                  <a:lnTo>
                    <a:pt x="1426" y="250"/>
                  </a:lnTo>
                  <a:lnTo>
                    <a:pt x="1432" y="255"/>
                  </a:lnTo>
                  <a:lnTo>
                    <a:pt x="1432" y="255"/>
                  </a:lnTo>
                  <a:lnTo>
                    <a:pt x="1440" y="278"/>
                  </a:lnTo>
                  <a:lnTo>
                    <a:pt x="1441" y="378"/>
                  </a:lnTo>
                  <a:lnTo>
                    <a:pt x="1443" y="480"/>
                  </a:lnTo>
                  <a:lnTo>
                    <a:pt x="1445" y="582"/>
                  </a:lnTo>
                  <a:lnTo>
                    <a:pt x="1445" y="582"/>
                  </a:lnTo>
                  <a:lnTo>
                    <a:pt x="1449" y="770"/>
                  </a:lnTo>
                  <a:lnTo>
                    <a:pt x="1449" y="860"/>
                  </a:lnTo>
                  <a:lnTo>
                    <a:pt x="1451" y="1081"/>
                  </a:lnTo>
                  <a:lnTo>
                    <a:pt x="1453" y="1129"/>
                  </a:lnTo>
                  <a:lnTo>
                    <a:pt x="1453" y="1177"/>
                  </a:lnTo>
                  <a:lnTo>
                    <a:pt x="1453" y="1225"/>
                  </a:lnTo>
                  <a:lnTo>
                    <a:pt x="1453" y="1225"/>
                  </a:lnTo>
                  <a:lnTo>
                    <a:pt x="1441" y="1227"/>
                  </a:lnTo>
                  <a:lnTo>
                    <a:pt x="1430" y="1225"/>
                  </a:lnTo>
                  <a:lnTo>
                    <a:pt x="1418" y="1223"/>
                  </a:lnTo>
                  <a:lnTo>
                    <a:pt x="1418" y="1223"/>
                  </a:lnTo>
                  <a:lnTo>
                    <a:pt x="1409" y="1229"/>
                  </a:lnTo>
                  <a:lnTo>
                    <a:pt x="1401" y="1235"/>
                  </a:lnTo>
                  <a:lnTo>
                    <a:pt x="1393" y="1243"/>
                  </a:lnTo>
                  <a:lnTo>
                    <a:pt x="1386" y="1250"/>
                  </a:lnTo>
                  <a:lnTo>
                    <a:pt x="1380" y="1258"/>
                  </a:lnTo>
                  <a:lnTo>
                    <a:pt x="1374" y="1266"/>
                  </a:lnTo>
                  <a:lnTo>
                    <a:pt x="1374" y="1266"/>
                  </a:lnTo>
                  <a:lnTo>
                    <a:pt x="1372" y="1279"/>
                  </a:lnTo>
                  <a:lnTo>
                    <a:pt x="1372" y="1291"/>
                  </a:lnTo>
                  <a:lnTo>
                    <a:pt x="1372" y="1304"/>
                  </a:lnTo>
                  <a:lnTo>
                    <a:pt x="1372" y="1304"/>
                  </a:lnTo>
                  <a:lnTo>
                    <a:pt x="1357" y="1300"/>
                  </a:lnTo>
                  <a:lnTo>
                    <a:pt x="1342" y="1296"/>
                  </a:lnTo>
                  <a:lnTo>
                    <a:pt x="1326" y="1294"/>
                  </a:lnTo>
                  <a:lnTo>
                    <a:pt x="1326" y="1294"/>
                  </a:lnTo>
                  <a:lnTo>
                    <a:pt x="845" y="1200"/>
                  </a:lnTo>
                  <a:lnTo>
                    <a:pt x="739" y="1181"/>
                  </a:lnTo>
                  <a:lnTo>
                    <a:pt x="250" y="1085"/>
                  </a:lnTo>
                  <a:lnTo>
                    <a:pt x="2" y="1037"/>
                  </a:lnTo>
                  <a:lnTo>
                    <a:pt x="2" y="1006"/>
                  </a:lnTo>
                  <a:lnTo>
                    <a:pt x="2" y="484"/>
                  </a:lnTo>
                  <a:lnTo>
                    <a:pt x="2" y="378"/>
                  </a:lnTo>
                  <a:lnTo>
                    <a:pt x="0" y="273"/>
                  </a:lnTo>
                  <a:lnTo>
                    <a:pt x="2" y="165"/>
                  </a:lnTo>
                  <a:lnTo>
                    <a:pt x="2" y="165"/>
                  </a:lnTo>
                  <a:lnTo>
                    <a:pt x="4" y="146"/>
                  </a:lnTo>
                  <a:lnTo>
                    <a:pt x="8" y="127"/>
                  </a:lnTo>
                  <a:lnTo>
                    <a:pt x="19" y="109"/>
                  </a:lnTo>
                  <a:lnTo>
                    <a:pt x="19" y="109"/>
                  </a:lnTo>
                  <a:lnTo>
                    <a:pt x="36" y="98"/>
                  </a:lnTo>
                  <a:lnTo>
                    <a:pt x="56" y="90"/>
                  </a:lnTo>
                  <a:lnTo>
                    <a:pt x="75" y="83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9" y="73"/>
                  </a:lnTo>
                  <a:lnTo>
                    <a:pt x="144" y="75"/>
                  </a:lnTo>
                  <a:lnTo>
                    <a:pt x="169" y="79"/>
                  </a:lnTo>
                  <a:lnTo>
                    <a:pt x="194" y="81"/>
                  </a:lnTo>
                  <a:lnTo>
                    <a:pt x="194" y="81"/>
                  </a:lnTo>
                  <a:lnTo>
                    <a:pt x="280" y="90"/>
                  </a:lnTo>
                  <a:lnTo>
                    <a:pt x="365" y="100"/>
                  </a:lnTo>
                  <a:lnTo>
                    <a:pt x="451" y="109"/>
                  </a:lnTo>
                  <a:lnTo>
                    <a:pt x="451" y="109"/>
                  </a:lnTo>
                  <a:lnTo>
                    <a:pt x="451" y="102"/>
                  </a:lnTo>
                  <a:lnTo>
                    <a:pt x="447" y="94"/>
                  </a:lnTo>
                  <a:lnTo>
                    <a:pt x="443" y="86"/>
                  </a:lnTo>
                  <a:lnTo>
                    <a:pt x="443" y="86"/>
                  </a:lnTo>
                  <a:lnTo>
                    <a:pt x="441" y="79"/>
                  </a:lnTo>
                  <a:lnTo>
                    <a:pt x="441" y="69"/>
                  </a:lnTo>
                  <a:lnTo>
                    <a:pt x="441" y="60"/>
                  </a:lnTo>
                  <a:lnTo>
                    <a:pt x="441" y="60"/>
                  </a:lnTo>
                  <a:lnTo>
                    <a:pt x="449" y="52"/>
                  </a:lnTo>
                  <a:lnTo>
                    <a:pt x="455" y="42"/>
                  </a:lnTo>
                  <a:lnTo>
                    <a:pt x="463" y="35"/>
                  </a:lnTo>
                  <a:lnTo>
                    <a:pt x="470" y="27"/>
                  </a:lnTo>
                  <a:lnTo>
                    <a:pt x="478" y="21"/>
                  </a:lnTo>
                  <a:lnTo>
                    <a:pt x="488" y="17"/>
                  </a:lnTo>
                  <a:lnTo>
                    <a:pt x="497" y="13"/>
                  </a:lnTo>
                  <a:lnTo>
                    <a:pt x="497" y="13"/>
                  </a:lnTo>
                  <a:lnTo>
                    <a:pt x="511" y="13"/>
                  </a:lnTo>
                  <a:lnTo>
                    <a:pt x="524" y="12"/>
                  </a:lnTo>
                  <a:lnTo>
                    <a:pt x="537" y="6"/>
                  </a:lnTo>
                  <a:lnTo>
                    <a:pt x="537" y="6"/>
                  </a:lnTo>
                  <a:lnTo>
                    <a:pt x="557" y="4"/>
                  </a:lnTo>
                  <a:lnTo>
                    <a:pt x="576" y="2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597" y="2"/>
                  </a:lnTo>
                  <a:lnTo>
                    <a:pt x="601" y="4"/>
                  </a:lnTo>
                  <a:lnTo>
                    <a:pt x="603" y="6"/>
                  </a:lnTo>
                  <a:lnTo>
                    <a:pt x="603" y="6"/>
                  </a:lnTo>
                  <a:lnTo>
                    <a:pt x="681" y="6"/>
                  </a:lnTo>
                  <a:lnTo>
                    <a:pt x="760" y="13"/>
                  </a:lnTo>
                  <a:lnTo>
                    <a:pt x="835" y="33"/>
                  </a:lnTo>
                  <a:lnTo>
                    <a:pt x="835" y="33"/>
                  </a:lnTo>
                  <a:lnTo>
                    <a:pt x="841" y="33"/>
                  </a:lnTo>
                  <a:lnTo>
                    <a:pt x="866" y="42"/>
                  </a:lnTo>
                  <a:lnTo>
                    <a:pt x="893" y="50"/>
                  </a:lnTo>
                  <a:lnTo>
                    <a:pt x="917" y="58"/>
                  </a:lnTo>
                  <a:lnTo>
                    <a:pt x="917" y="58"/>
                  </a:lnTo>
                  <a:lnTo>
                    <a:pt x="933" y="58"/>
                  </a:lnTo>
                  <a:lnTo>
                    <a:pt x="946" y="61"/>
                  </a:lnTo>
                  <a:lnTo>
                    <a:pt x="962" y="67"/>
                  </a:lnTo>
                  <a:lnTo>
                    <a:pt x="975" y="75"/>
                  </a:lnTo>
                  <a:lnTo>
                    <a:pt x="975" y="75"/>
                  </a:lnTo>
                  <a:lnTo>
                    <a:pt x="979" y="77"/>
                  </a:lnTo>
                  <a:lnTo>
                    <a:pt x="981" y="81"/>
                  </a:lnTo>
                  <a:lnTo>
                    <a:pt x="983" y="86"/>
                  </a:lnTo>
                  <a:lnTo>
                    <a:pt x="983" y="86"/>
                  </a:lnTo>
                  <a:lnTo>
                    <a:pt x="992" y="92"/>
                  </a:lnTo>
                  <a:lnTo>
                    <a:pt x="1002" y="102"/>
                  </a:lnTo>
                  <a:lnTo>
                    <a:pt x="1008" y="111"/>
                  </a:lnTo>
                  <a:lnTo>
                    <a:pt x="1010" y="123"/>
                  </a:lnTo>
                  <a:lnTo>
                    <a:pt x="1010" y="123"/>
                  </a:lnTo>
                  <a:lnTo>
                    <a:pt x="1008" y="134"/>
                  </a:lnTo>
                  <a:lnTo>
                    <a:pt x="1006" y="144"/>
                  </a:lnTo>
                  <a:lnTo>
                    <a:pt x="1002" y="154"/>
                  </a:lnTo>
                  <a:lnTo>
                    <a:pt x="1002" y="154"/>
                  </a:lnTo>
                  <a:lnTo>
                    <a:pt x="1002" y="156"/>
                  </a:lnTo>
                  <a:lnTo>
                    <a:pt x="981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96520" y="2887560"/>
              <a:ext cx="450360" cy="99000"/>
            </a:xfrm>
            <a:custGeom>
              <a:avLst/>
              <a:gdLst/>
              <a:ahLst/>
              <a:rect l="l" t="t" r="r" b="b"/>
              <a:pathLst>
                <a:path w="315" h="69">
                  <a:moveTo>
                    <a:pt x="112" y="3"/>
                  </a:moveTo>
                  <a:lnTo>
                    <a:pt x="108" y="3"/>
                  </a:lnTo>
                  <a:lnTo>
                    <a:pt x="104" y="3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54" y="15"/>
                  </a:lnTo>
                  <a:lnTo>
                    <a:pt x="204" y="26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67" y="48"/>
                  </a:lnTo>
                  <a:lnTo>
                    <a:pt x="283" y="55"/>
                  </a:lnTo>
                  <a:lnTo>
                    <a:pt x="298" y="61"/>
                  </a:lnTo>
                  <a:lnTo>
                    <a:pt x="315" y="67"/>
                  </a:lnTo>
                  <a:lnTo>
                    <a:pt x="315" y="67"/>
                  </a:lnTo>
                  <a:lnTo>
                    <a:pt x="313" y="69"/>
                  </a:lnTo>
                  <a:lnTo>
                    <a:pt x="292" y="63"/>
                  </a:lnTo>
                  <a:lnTo>
                    <a:pt x="271" y="55"/>
                  </a:lnTo>
                  <a:lnTo>
                    <a:pt x="250" y="50"/>
                  </a:lnTo>
                  <a:lnTo>
                    <a:pt x="227" y="42"/>
                  </a:lnTo>
                  <a:lnTo>
                    <a:pt x="206" y="36"/>
                  </a:lnTo>
                  <a:lnTo>
                    <a:pt x="183" y="32"/>
                  </a:lnTo>
                  <a:lnTo>
                    <a:pt x="160" y="28"/>
                  </a:lnTo>
                  <a:lnTo>
                    <a:pt x="135" y="26"/>
                  </a:lnTo>
                  <a:lnTo>
                    <a:pt x="135" y="26"/>
                  </a:lnTo>
                  <a:lnTo>
                    <a:pt x="91" y="25"/>
                  </a:lnTo>
                  <a:lnTo>
                    <a:pt x="45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29" y="5"/>
                  </a:lnTo>
                  <a:lnTo>
                    <a:pt x="52" y="3"/>
                  </a:lnTo>
                  <a:lnTo>
                    <a:pt x="75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89320" y="2881800"/>
              <a:ext cx="48600" cy="1584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5" y="2"/>
                  </a:lnTo>
                  <a:lnTo>
                    <a:pt x="15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863760" y="2887560"/>
              <a:ext cx="2268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847920" y="28947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734880" y="2894760"/>
              <a:ext cx="101520" cy="11340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71" y="0"/>
                  </a:moveTo>
                  <a:lnTo>
                    <a:pt x="60" y="8"/>
                  </a:lnTo>
                  <a:lnTo>
                    <a:pt x="46" y="1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1" y="23"/>
                  </a:lnTo>
                  <a:lnTo>
                    <a:pt x="27" y="25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39" y="33"/>
                  </a:lnTo>
                  <a:lnTo>
                    <a:pt x="21" y="43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79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25" y="18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58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827760" y="2909160"/>
              <a:ext cx="1152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973920" y="2930760"/>
              <a:ext cx="348840" cy="61560"/>
            </a:xfrm>
            <a:custGeom>
              <a:avLst/>
              <a:gdLst/>
              <a:ahLst/>
              <a:rect l="l" t="t" r="r" b="b"/>
              <a:pathLst>
                <a:path w="244" h="43">
                  <a:moveTo>
                    <a:pt x="244" y="41"/>
                  </a:moveTo>
                  <a:lnTo>
                    <a:pt x="242" y="43"/>
                  </a:lnTo>
                  <a:lnTo>
                    <a:pt x="236" y="43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21" y="37"/>
                  </a:lnTo>
                  <a:lnTo>
                    <a:pt x="208" y="33"/>
                  </a:lnTo>
                  <a:lnTo>
                    <a:pt x="196" y="31"/>
                  </a:lnTo>
                  <a:lnTo>
                    <a:pt x="196" y="31"/>
                  </a:lnTo>
                  <a:lnTo>
                    <a:pt x="163" y="20"/>
                  </a:lnTo>
                  <a:lnTo>
                    <a:pt x="127" y="14"/>
                  </a:lnTo>
                  <a:lnTo>
                    <a:pt x="9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37" y="0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0"/>
                  </a:lnTo>
                  <a:lnTo>
                    <a:pt x="100" y="2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81" y="20"/>
                  </a:lnTo>
                  <a:lnTo>
                    <a:pt x="211" y="29"/>
                  </a:lnTo>
                  <a:lnTo>
                    <a:pt x="244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7418880" y="2963880"/>
              <a:ext cx="32760" cy="828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4"/>
                  </a:move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818040" y="2921040"/>
              <a:ext cx="68400" cy="900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44" y="0"/>
                  </a:move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8" y="2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6" y="17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8" y="13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34" y="32"/>
                  </a:lnTo>
                  <a:lnTo>
                    <a:pt x="29" y="28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9" y="44"/>
                  </a:lnTo>
                  <a:lnTo>
                    <a:pt x="15" y="5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5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5"/>
                  </a:lnTo>
                  <a:lnTo>
                    <a:pt x="11" y="52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7403040" y="2966760"/>
              <a:ext cx="396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7466040" y="2975400"/>
              <a:ext cx="288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895440" y="2933640"/>
              <a:ext cx="21240" cy="576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2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895440" y="2950920"/>
              <a:ext cx="412920" cy="54720"/>
            </a:xfrm>
            <a:custGeom>
              <a:avLst/>
              <a:gdLst/>
              <a:ahLst/>
              <a:rect l="l" t="t" r="r" b="b"/>
              <a:pathLst>
                <a:path w="289" h="38">
                  <a:moveTo>
                    <a:pt x="207" y="13"/>
                  </a:moveTo>
                  <a:lnTo>
                    <a:pt x="234" y="21"/>
                  </a:lnTo>
                  <a:lnTo>
                    <a:pt x="263" y="29"/>
                  </a:lnTo>
                  <a:lnTo>
                    <a:pt x="289" y="38"/>
                  </a:lnTo>
                  <a:lnTo>
                    <a:pt x="289" y="38"/>
                  </a:lnTo>
                  <a:lnTo>
                    <a:pt x="255" y="29"/>
                  </a:lnTo>
                  <a:lnTo>
                    <a:pt x="222" y="21"/>
                  </a:lnTo>
                  <a:lnTo>
                    <a:pt x="190" y="13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03" y="6"/>
                  </a:lnTo>
                  <a:lnTo>
                    <a:pt x="49" y="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51" y="4"/>
                  </a:lnTo>
                  <a:lnTo>
                    <a:pt x="180" y="7"/>
                  </a:lnTo>
                  <a:lnTo>
                    <a:pt x="20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341480" y="2978280"/>
              <a:ext cx="94320" cy="1202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52" y="8"/>
                  </a:moveTo>
                  <a:lnTo>
                    <a:pt x="52" y="12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8" y="12"/>
                  </a:lnTo>
                  <a:lnTo>
                    <a:pt x="52" y="19"/>
                  </a:lnTo>
                  <a:lnTo>
                    <a:pt x="50" y="27"/>
                  </a:lnTo>
                  <a:lnTo>
                    <a:pt x="48" y="35"/>
                  </a:lnTo>
                  <a:lnTo>
                    <a:pt x="48" y="44"/>
                  </a:lnTo>
                  <a:lnTo>
                    <a:pt x="48" y="5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8" y="84"/>
                  </a:lnTo>
                  <a:lnTo>
                    <a:pt x="48" y="81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37" y="65"/>
                  </a:lnTo>
                  <a:lnTo>
                    <a:pt x="33" y="5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0" y="38"/>
                  </a:lnTo>
                  <a:lnTo>
                    <a:pt x="14" y="33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45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424280" y="2992680"/>
              <a:ext cx="107280" cy="1047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3" y="28"/>
                  </a:moveTo>
                  <a:lnTo>
                    <a:pt x="73" y="32"/>
                  </a:lnTo>
                  <a:lnTo>
                    <a:pt x="73" y="36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65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6" y="38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8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2" y="65"/>
                  </a:lnTo>
                  <a:lnTo>
                    <a:pt x="38" y="69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40" y="5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1" y="36"/>
                  </a:lnTo>
                  <a:lnTo>
                    <a:pt x="21" y="2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3" y="19"/>
                  </a:lnTo>
                  <a:lnTo>
                    <a:pt x="27" y="2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60" y="32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3" y="26"/>
                  </a:lnTo>
                  <a:lnTo>
                    <a:pt x="38" y="28"/>
                  </a:lnTo>
                  <a:lnTo>
                    <a:pt x="10" y="7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4" y="9"/>
                  </a:lnTo>
                  <a:lnTo>
                    <a:pt x="65" y="17"/>
                  </a:lnTo>
                  <a:lnTo>
                    <a:pt x="7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878160" y="295380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7407000" y="299988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899400" y="2975400"/>
              <a:ext cx="432000" cy="7740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142" y="6"/>
                  </a:moveTo>
                  <a:lnTo>
                    <a:pt x="173" y="10"/>
                  </a:lnTo>
                  <a:lnTo>
                    <a:pt x="204" y="15"/>
                  </a:lnTo>
                  <a:lnTo>
                    <a:pt x="233" y="25"/>
                  </a:lnTo>
                  <a:lnTo>
                    <a:pt x="233" y="25"/>
                  </a:lnTo>
                  <a:lnTo>
                    <a:pt x="256" y="31"/>
                  </a:lnTo>
                  <a:lnTo>
                    <a:pt x="279" y="38"/>
                  </a:lnTo>
                  <a:lnTo>
                    <a:pt x="300" y="46"/>
                  </a:lnTo>
                  <a:lnTo>
                    <a:pt x="300" y="46"/>
                  </a:lnTo>
                  <a:lnTo>
                    <a:pt x="300" y="48"/>
                  </a:lnTo>
                  <a:lnTo>
                    <a:pt x="300" y="52"/>
                  </a:lnTo>
                  <a:lnTo>
                    <a:pt x="302" y="54"/>
                  </a:lnTo>
                  <a:lnTo>
                    <a:pt x="302" y="54"/>
                  </a:lnTo>
                  <a:lnTo>
                    <a:pt x="281" y="46"/>
                  </a:lnTo>
                  <a:lnTo>
                    <a:pt x="258" y="38"/>
                  </a:lnTo>
                  <a:lnTo>
                    <a:pt x="235" y="31"/>
                  </a:lnTo>
                  <a:lnTo>
                    <a:pt x="212" y="25"/>
                  </a:lnTo>
                  <a:lnTo>
                    <a:pt x="188" y="19"/>
                  </a:lnTo>
                  <a:lnTo>
                    <a:pt x="164" y="15"/>
                  </a:lnTo>
                  <a:lnTo>
                    <a:pt x="141" y="14"/>
                  </a:lnTo>
                  <a:lnTo>
                    <a:pt x="116" y="12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89" y="6"/>
                  </a:lnTo>
                  <a:lnTo>
                    <a:pt x="60" y="6"/>
                  </a:lnTo>
                  <a:lnTo>
                    <a:pt x="33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33" y="4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6" y="2"/>
                  </a:lnTo>
                  <a:lnTo>
                    <a:pt x="129" y="4"/>
                  </a:lnTo>
                  <a:lnTo>
                    <a:pt x="14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795000" y="2959560"/>
              <a:ext cx="14040" cy="126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7314480" y="30085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7403040" y="3020040"/>
              <a:ext cx="3960" cy="12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746400" y="2969280"/>
              <a:ext cx="32760" cy="1162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9" y="29"/>
                  </a:moveTo>
                  <a:lnTo>
                    <a:pt x="4" y="75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1" y="18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424280" y="3028320"/>
              <a:ext cx="32760" cy="24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1" y="17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5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403040" y="3041280"/>
              <a:ext cx="396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776640" y="3002760"/>
              <a:ext cx="43920" cy="201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31" y="6"/>
                  </a:moveTo>
                  <a:lnTo>
                    <a:pt x="29" y="10"/>
                  </a:lnTo>
                  <a:lnTo>
                    <a:pt x="23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445880" y="3058560"/>
              <a:ext cx="25920" cy="13752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18" y="4"/>
                  </a:moveTo>
                  <a:lnTo>
                    <a:pt x="12" y="21"/>
                  </a:lnTo>
                  <a:lnTo>
                    <a:pt x="10" y="38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69"/>
                  </a:lnTo>
                  <a:lnTo>
                    <a:pt x="8" y="80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2" y="94"/>
                  </a:lnTo>
                  <a:lnTo>
                    <a:pt x="10" y="94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4" y="92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403040" y="3065760"/>
              <a:ext cx="3960" cy="201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421400" y="3065760"/>
              <a:ext cx="16920" cy="356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14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815160" y="3030120"/>
              <a:ext cx="11160" cy="25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235920" y="298404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8" y="0"/>
                  </a:lnTo>
                  <a:lnTo>
                    <a:pt x="9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317280" y="2992680"/>
              <a:ext cx="104400" cy="100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7"/>
                  </a:moveTo>
                  <a:lnTo>
                    <a:pt x="48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"/>
                  </a:lnTo>
                  <a:lnTo>
                    <a:pt x="48" y="3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686280" y="3032640"/>
              <a:ext cx="54000" cy="864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6"/>
                  </a:moveTo>
                  <a:lnTo>
                    <a:pt x="27" y="6"/>
                  </a:lnTo>
                  <a:lnTo>
                    <a:pt x="1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770880" y="3044520"/>
              <a:ext cx="35640" cy="540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25" y="4"/>
                  </a:moveTo>
                  <a:lnTo>
                    <a:pt x="2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507440" y="3107520"/>
              <a:ext cx="9720" cy="4140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7" y="29"/>
                  </a:moveTo>
                  <a:lnTo>
                    <a:pt x="2" y="29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833520" y="3055680"/>
              <a:ext cx="164160" cy="2412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115" y="17"/>
                  </a:moveTo>
                  <a:lnTo>
                    <a:pt x="79" y="13"/>
                  </a:lnTo>
                  <a:lnTo>
                    <a:pt x="41" y="9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397280" y="3643560"/>
              <a:ext cx="244440" cy="3852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71" y="0"/>
                  </a:moveTo>
                  <a:lnTo>
                    <a:pt x="167" y="9"/>
                  </a:lnTo>
                  <a:lnTo>
                    <a:pt x="163" y="17"/>
                  </a:lnTo>
                  <a:lnTo>
                    <a:pt x="159" y="27"/>
                  </a:lnTo>
                  <a:lnTo>
                    <a:pt x="159" y="27"/>
                  </a:lnTo>
                  <a:lnTo>
                    <a:pt x="159" y="27"/>
                  </a:lnTo>
                  <a:lnTo>
                    <a:pt x="150" y="27"/>
                  </a:lnTo>
                  <a:lnTo>
                    <a:pt x="150" y="25"/>
                  </a:lnTo>
                  <a:lnTo>
                    <a:pt x="151" y="25"/>
                  </a:lnTo>
                  <a:lnTo>
                    <a:pt x="151" y="25"/>
                  </a:lnTo>
                  <a:lnTo>
                    <a:pt x="153" y="23"/>
                  </a:lnTo>
                  <a:lnTo>
                    <a:pt x="153" y="23"/>
                  </a:lnTo>
                  <a:lnTo>
                    <a:pt x="151" y="21"/>
                  </a:lnTo>
                  <a:lnTo>
                    <a:pt x="148" y="21"/>
                  </a:lnTo>
                  <a:lnTo>
                    <a:pt x="146" y="19"/>
                  </a:lnTo>
                  <a:lnTo>
                    <a:pt x="146" y="19"/>
                  </a:lnTo>
                  <a:lnTo>
                    <a:pt x="144" y="23"/>
                  </a:lnTo>
                  <a:lnTo>
                    <a:pt x="142" y="25"/>
                  </a:lnTo>
                  <a:lnTo>
                    <a:pt x="138" y="23"/>
                  </a:lnTo>
                  <a:lnTo>
                    <a:pt x="138" y="23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2" y="19"/>
                  </a:lnTo>
                  <a:lnTo>
                    <a:pt x="128" y="19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88" y="15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0" y="11"/>
                  </a:lnTo>
                  <a:lnTo>
                    <a:pt x="88" y="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79" y="13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0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633440" y="3643560"/>
              <a:ext cx="38520" cy="4104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7" y="0"/>
                  </a:moveTo>
                  <a:lnTo>
                    <a:pt x="19" y="7"/>
                  </a:lnTo>
                  <a:lnTo>
                    <a:pt x="13" y="1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8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803720" y="3643560"/>
              <a:ext cx="238680" cy="239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67" y="0"/>
                  </a:moveTo>
                  <a:lnTo>
                    <a:pt x="163" y="32"/>
                  </a:lnTo>
                  <a:lnTo>
                    <a:pt x="155" y="65"/>
                  </a:lnTo>
                  <a:lnTo>
                    <a:pt x="148" y="98"/>
                  </a:lnTo>
                  <a:lnTo>
                    <a:pt x="148" y="98"/>
                  </a:lnTo>
                  <a:lnTo>
                    <a:pt x="142" y="105"/>
                  </a:lnTo>
                  <a:lnTo>
                    <a:pt x="138" y="113"/>
                  </a:lnTo>
                  <a:lnTo>
                    <a:pt x="132" y="119"/>
                  </a:lnTo>
                  <a:lnTo>
                    <a:pt x="127" y="125"/>
                  </a:lnTo>
                  <a:lnTo>
                    <a:pt x="121" y="130"/>
                  </a:lnTo>
                  <a:lnTo>
                    <a:pt x="113" y="136"/>
                  </a:lnTo>
                  <a:lnTo>
                    <a:pt x="107" y="142"/>
                  </a:lnTo>
                  <a:lnTo>
                    <a:pt x="100" y="148"/>
                  </a:lnTo>
                  <a:lnTo>
                    <a:pt x="92" y="152"/>
                  </a:lnTo>
                  <a:lnTo>
                    <a:pt x="84" y="155"/>
                  </a:lnTo>
                  <a:lnTo>
                    <a:pt x="77" y="159"/>
                  </a:lnTo>
                  <a:lnTo>
                    <a:pt x="67" y="161"/>
                  </a:lnTo>
                  <a:lnTo>
                    <a:pt x="59" y="163"/>
                  </a:lnTo>
                  <a:lnTo>
                    <a:pt x="52" y="165"/>
                  </a:lnTo>
                  <a:lnTo>
                    <a:pt x="42" y="167"/>
                  </a:lnTo>
                  <a:lnTo>
                    <a:pt x="34" y="167"/>
                  </a:lnTo>
                  <a:lnTo>
                    <a:pt x="27" y="167"/>
                  </a:lnTo>
                  <a:lnTo>
                    <a:pt x="27" y="167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2" y="163"/>
                  </a:lnTo>
                  <a:lnTo>
                    <a:pt x="4" y="163"/>
                  </a:lnTo>
                  <a:lnTo>
                    <a:pt x="4" y="163"/>
                  </a:lnTo>
                  <a:lnTo>
                    <a:pt x="0" y="159"/>
                  </a:lnTo>
                  <a:lnTo>
                    <a:pt x="2" y="159"/>
                  </a:lnTo>
                  <a:lnTo>
                    <a:pt x="4" y="157"/>
                  </a:lnTo>
                  <a:lnTo>
                    <a:pt x="6" y="159"/>
                  </a:lnTo>
                  <a:lnTo>
                    <a:pt x="6" y="159"/>
                  </a:lnTo>
                  <a:lnTo>
                    <a:pt x="8" y="161"/>
                  </a:lnTo>
                  <a:lnTo>
                    <a:pt x="9" y="163"/>
                  </a:lnTo>
                  <a:lnTo>
                    <a:pt x="11" y="163"/>
                  </a:lnTo>
                  <a:lnTo>
                    <a:pt x="11" y="163"/>
                  </a:lnTo>
                  <a:lnTo>
                    <a:pt x="19" y="159"/>
                  </a:lnTo>
                  <a:lnTo>
                    <a:pt x="27" y="159"/>
                  </a:lnTo>
                  <a:lnTo>
                    <a:pt x="36" y="161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44" y="157"/>
                  </a:lnTo>
                  <a:lnTo>
                    <a:pt x="44" y="157"/>
                  </a:lnTo>
                  <a:lnTo>
                    <a:pt x="46" y="157"/>
                  </a:lnTo>
                  <a:lnTo>
                    <a:pt x="46" y="157"/>
                  </a:lnTo>
                  <a:lnTo>
                    <a:pt x="46" y="159"/>
                  </a:lnTo>
                  <a:lnTo>
                    <a:pt x="50" y="159"/>
                  </a:lnTo>
                  <a:lnTo>
                    <a:pt x="52" y="159"/>
                  </a:lnTo>
                  <a:lnTo>
                    <a:pt x="52" y="159"/>
                  </a:lnTo>
                  <a:lnTo>
                    <a:pt x="54" y="157"/>
                  </a:lnTo>
                  <a:lnTo>
                    <a:pt x="54" y="155"/>
                  </a:lnTo>
                  <a:lnTo>
                    <a:pt x="54" y="153"/>
                  </a:lnTo>
                  <a:lnTo>
                    <a:pt x="54" y="153"/>
                  </a:lnTo>
                  <a:lnTo>
                    <a:pt x="77" y="144"/>
                  </a:lnTo>
                  <a:lnTo>
                    <a:pt x="100" y="132"/>
                  </a:lnTo>
                  <a:lnTo>
                    <a:pt x="121" y="115"/>
                  </a:lnTo>
                  <a:lnTo>
                    <a:pt x="121" y="115"/>
                  </a:lnTo>
                  <a:lnTo>
                    <a:pt x="123" y="117"/>
                  </a:lnTo>
                  <a:lnTo>
                    <a:pt x="127" y="115"/>
                  </a:lnTo>
                  <a:lnTo>
                    <a:pt x="128" y="113"/>
                  </a:lnTo>
                  <a:lnTo>
                    <a:pt x="128" y="113"/>
                  </a:lnTo>
                  <a:lnTo>
                    <a:pt x="128" y="107"/>
                  </a:lnTo>
                  <a:lnTo>
                    <a:pt x="134" y="104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38" y="92"/>
                  </a:lnTo>
                  <a:lnTo>
                    <a:pt x="142" y="86"/>
                  </a:lnTo>
                  <a:lnTo>
                    <a:pt x="144" y="79"/>
                  </a:lnTo>
                  <a:lnTo>
                    <a:pt x="144" y="79"/>
                  </a:lnTo>
                  <a:lnTo>
                    <a:pt x="150" y="67"/>
                  </a:lnTo>
                  <a:lnTo>
                    <a:pt x="152" y="54"/>
                  </a:lnTo>
                  <a:lnTo>
                    <a:pt x="155" y="40"/>
                  </a:lnTo>
                  <a:lnTo>
                    <a:pt x="155" y="40"/>
                  </a:lnTo>
                  <a:lnTo>
                    <a:pt x="157" y="38"/>
                  </a:lnTo>
                  <a:lnTo>
                    <a:pt x="157" y="32"/>
                  </a:lnTo>
                  <a:lnTo>
                    <a:pt x="159" y="29"/>
                  </a:lnTo>
                  <a:lnTo>
                    <a:pt x="159" y="29"/>
                  </a:lnTo>
                  <a:lnTo>
                    <a:pt x="159" y="19"/>
                  </a:lnTo>
                  <a:lnTo>
                    <a:pt x="161" y="9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8143920" y="3643560"/>
              <a:ext cx="18720" cy="636120"/>
            </a:xfrm>
            <a:custGeom>
              <a:avLst/>
              <a:gdLst/>
              <a:ahLst/>
              <a:rect l="l" t="t" r="r" b="b"/>
              <a:pathLst>
                <a:path w="13" h="443">
                  <a:moveTo>
                    <a:pt x="8" y="0"/>
                  </a:moveTo>
                  <a:lnTo>
                    <a:pt x="9" y="54"/>
                  </a:lnTo>
                  <a:lnTo>
                    <a:pt x="9" y="109"/>
                  </a:lnTo>
                  <a:lnTo>
                    <a:pt x="9" y="163"/>
                  </a:lnTo>
                  <a:lnTo>
                    <a:pt x="9" y="163"/>
                  </a:lnTo>
                  <a:lnTo>
                    <a:pt x="11" y="309"/>
                  </a:lnTo>
                  <a:lnTo>
                    <a:pt x="13" y="353"/>
                  </a:lnTo>
                  <a:lnTo>
                    <a:pt x="13" y="399"/>
                  </a:lnTo>
                  <a:lnTo>
                    <a:pt x="13" y="443"/>
                  </a:lnTo>
                  <a:lnTo>
                    <a:pt x="13" y="443"/>
                  </a:lnTo>
                  <a:lnTo>
                    <a:pt x="9" y="443"/>
                  </a:lnTo>
                  <a:lnTo>
                    <a:pt x="9" y="413"/>
                  </a:lnTo>
                  <a:lnTo>
                    <a:pt x="8" y="382"/>
                  </a:lnTo>
                  <a:lnTo>
                    <a:pt x="4" y="353"/>
                  </a:lnTo>
                  <a:lnTo>
                    <a:pt x="4" y="353"/>
                  </a:lnTo>
                  <a:lnTo>
                    <a:pt x="0" y="188"/>
                  </a:lnTo>
                  <a:lnTo>
                    <a:pt x="2" y="125"/>
                  </a:lnTo>
                  <a:lnTo>
                    <a:pt x="2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107040" y="3005640"/>
              <a:ext cx="2048400" cy="637560"/>
            </a:xfrm>
            <a:custGeom>
              <a:avLst/>
              <a:gdLst/>
              <a:ahLst/>
              <a:rect l="l" t="t" r="r" b="b"/>
              <a:pathLst>
                <a:path w="1432" h="444">
                  <a:moveTo>
                    <a:pt x="902" y="444"/>
                  </a:moveTo>
                  <a:lnTo>
                    <a:pt x="742" y="417"/>
                  </a:lnTo>
                  <a:lnTo>
                    <a:pt x="691" y="407"/>
                  </a:lnTo>
                  <a:lnTo>
                    <a:pt x="528" y="380"/>
                  </a:lnTo>
                  <a:lnTo>
                    <a:pt x="251" y="334"/>
                  </a:lnTo>
                  <a:lnTo>
                    <a:pt x="247" y="334"/>
                  </a:lnTo>
                  <a:lnTo>
                    <a:pt x="243" y="323"/>
                  </a:lnTo>
                  <a:lnTo>
                    <a:pt x="242" y="309"/>
                  </a:lnTo>
                  <a:lnTo>
                    <a:pt x="238" y="298"/>
                  </a:lnTo>
                  <a:lnTo>
                    <a:pt x="234" y="286"/>
                  </a:lnTo>
                  <a:lnTo>
                    <a:pt x="230" y="275"/>
                  </a:lnTo>
                  <a:lnTo>
                    <a:pt x="224" y="265"/>
                  </a:lnTo>
                  <a:lnTo>
                    <a:pt x="218" y="254"/>
                  </a:lnTo>
                  <a:lnTo>
                    <a:pt x="213" y="242"/>
                  </a:lnTo>
                  <a:lnTo>
                    <a:pt x="205" y="231"/>
                  </a:lnTo>
                  <a:lnTo>
                    <a:pt x="199" y="221"/>
                  </a:lnTo>
                  <a:lnTo>
                    <a:pt x="192" y="210"/>
                  </a:lnTo>
                  <a:lnTo>
                    <a:pt x="182" y="200"/>
                  </a:lnTo>
                  <a:lnTo>
                    <a:pt x="174" y="190"/>
                  </a:lnTo>
                  <a:lnTo>
                    <a:pt x="167" y="181"/>
                  </a:lnTo>
                  <a:lnTo>
                    <a:pt x="157" y="171"/>
                  </a:lnTo>
                  <a:lnTo>
                    <a:pt x="147" y="163"/>
                  </a:lnTo>
                  <a:lnTo>
                    <a:pt x="138" y="154"/>
                  </a:lnTo>
                  <a:lnTo>
                    <a:pt x="128" y="146"/>
                  </a:lnTo>
                  <a:lnTo>
                    <a:pt x="119" y="138"/>
                  </a:lnTo>
                  <a:lnTo>
                    <a:pt x="107" y="133"/>
                  </a:lnTo>
                  <a:lnTo>
                    <a:pt x="98" y="125"/>
                  </a:lnTo>
                  <a:lnTo>
                    <a:pt x="86" y="119"/>
                  </a:lnTo>
                  <a:lnTo>
                    <a:pt x="76" y="113"/>
                  </a:lnTo>
                  <a:lnTo>
                    <a:pt x="65" y="108"/>
                  </a:lnTo>
                  <a:lnTo>
                    <a:pt x="53" y="104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28" y="96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5" y="81"/>
                  </a:lnTo>
                  <a:lnTo>
                    <a:pt x="5" y="75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9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2" y="56"/>
                  </a:lnTo>
                  <a:lnTo>
                    <a:pt x="7" y="3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38" y="10"/>
                  </a:lnTo>
                  <a:lnTo>
                    <a:pt x="52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7" y="6"/>
                  </a:lnTo>
                  <a:lnTo>
                    <a:pt x="50" y="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69" y="23"/>
                  </a:lnTo>
                  <a:lnTo>
                    <a:pt x="92" y="25"/>
                  </a:lnTo>
                  <a:lnTo>
                    <a:pt x="117" y="27"/>
                  </a:lnTo>
                  <a:lnTo>
                    <a:pt x="140" y="27"/>
                  </a:lnTo>
                  <a:lnTo>
                    <a:pt x="140" y="27"/>
                  </a:lnTo>
                  <a:lnTo>
                    <a:pt x="345" y="44"/>
                  </a:lnTo>
                  <a:lnTo>
                    <a:pt x="347" y="41"/>
                  </a:lnTo>
                  <a:lnTo>
                    <a:pt x="351" y="39"/>
                  </a:lnTo>
                  <a:lnTo>
                    <a:pt x="355" y="37"/>
                  </a:lnTo>
                  <a:lnTo>
                    <a:pt x="355" y="37"/>
                  </a:lnTo>
                  <a:lnTo>
                    <a:pt x="362" y="39"/>
                  </a:lnTo>
                  <a:lnTo>
                    <a:pt x="359" y="42"/>
                  </a:lnTo>
                  <a:lnTo>
                    <a:pt x="355" y="46"/>
                  </a:lnTo>
                  <a:lnTo>
                    <a:pt x="353" y="52"/>
                  </a:lnTo>
                  <a:lnTo>
                    <a:pt x="353" y="52"/>
                  </a:lnTo>
                  <a:lnTo>
                    <a:pt x="355" y="56"/>
                  </a:lnTo>
                  <a:lnTo>
                    <a:pt x="393" y="60"/>
                  </a:lnTo>
                  <a:lnTo>
                    <a:pt x="430" y="65"/>
                  </a:lnTo>
                  <a:lnTo>
                    <a:pt x="470" y="71"/>
                  </a:lnTo>
                  <a:lnTo>
                    <a:pt x="470" y="71"/>
                  </a:lnTo>
                  <a:lnTo>
                    <a:pt x="470" y="69"/>
                  </a:lnTo>
                  <a:lnTo>
                    <a:pt x="472" y="69"/>
                  </a:lnTo>
                  <a:lnTo>
                    <a:pt x="474" y="69"/>
                  </a:lnTo>
                  <a:lnTo>
                    <a:pt x="474" y="69"/>
                  </a:lnTo>
                  <a:lnTo>
                    <a:pt x="472" y="71"/>
                  </a:lnTo>
                  <a:lnTo>
                    <a:pt x="474" y="75"/>
                  </a:lnTo>
                  <a:lnTo>
                    <a:pt x="474" y="77"/>
                  </a:lnTo>
                  <a:lnTo>
                    <a:pt x="474" y="77"/>
                  </a:lnTo>
                  <a:lnTo>
                    <a:pt x="476" y="79"/>
                  </a:lnTo>
                  <a:lnTo>
                    <a:pt x="512" y="87"/>
                  </a:lnTo>
                  <a:lnTo>
                    <a:pt x="551" y="92"/>
                  </a:lnTo>
                  <a:lnTo>
                    <a:pt x="589" y="96"/>
                  </a:lnTo>
                  <a:lnTo>
                    <a:pt x="589" y="96"/>
                  </a:lnTo>
                  <a:lnTo>
                    <a:pt x="671" y="104"/>
                  </a:lnTo>
                  <a:lnTo>
                    <a:pt x="754" y="112"/>
                  </a:lnTo>
                  <a:lnTo>
                    <a:pt x="838" y="123"/>
                  </a:lnTo>
                  <a:lnTo>
                    <a:pt x="921" y="133"/>
                  </a:lnTo>
                  <a:lnTo>
                    <a:pt x="921" y="133"/>
                  </a:lnTo>
                  <a:lnTo>
                    <a:pt x="921" y="135"/>
                  </a:lnTo>
                  <a:lnTo>
                    <a:pt x="923" y="137"/>
                  </a:lnTo>
                  <a:lnTo>
                    <a:pt x="925" y="138"/>
                  </a:lnTo>
                  <a:lnTo>
                    <a:pt x="925" y="138"/>
                  </a:lnTo>
                  <a:lnTo>
                    <a:pt x="963" y="142"/>
                  </a:lnTo>
                  <a:lnTo>
                    <a:pt x="1002" y="148"/>
                  </a:lnTo>
                  <a:lnTo>
                    <a:pt x="1040" y="154"/>
                  </a:lnTo>
                  <a:lnTo>
                    <a:pt x="1040" y="154"/>
                  </a:lnTo>
                  <a:lnTo>
                    <a:pt x="1044" y="158"/>
                  </a:lnTo>
                  <a:lnTo>
                    <a:pt x="1088" y="162"/>
                  </a:lnTo>
                  <a:lnTo>
                    <a:pt x="1130" y="169"/>
                  </a:lnTo>
                  <a:lnTo>
                    <a:pt x="1174" y="179"/>
                  </a:lnTo>
                  <a:lnTo>
                    <a:pt x="1174" y="179"/>
                  </a:lnTo>
                  <a:lnTo>
                    <a:pt x="1178" y="181"/>
                  </a:lnTo>
                  <a:lnTo>
                    <a:pt x="1226" y="190"/>
                  </a:lnTo>
                  <a:lnTo>
                    <a:pt x="1274" y="196"/>
                  </a:lnTo>
                  <a:lnTo>
                    <a:pt x="1322" y="206"/>
                  </a:lnTo>
                  <a:lnTo>
                    <a:pt x="1322" y="206"/>
                  </a:lnTo>
                  <a:lnTo>
                    <a:pt x="1328" y="206"/>
                  </a:lnTo>
                  <a:lnTo>
                    <a:pt x="1336" y="208"/>
                  </a:lnTo>
                  <a:lnTo>
                    <a:pt x="1339" y="204"/>
                  </a:lnTo>
                  <a:lnTo>
                    <a:pt x="1339" y="204"/>
                  </a:lnTo>
                  <a:lnTo>
                    <a:pt x="1336" y="194"/>
                  </a:lnTo>
                  <a:lnTo>
                    <a:pt x="1322" y="192"/>
                  </a:lnTo>
                  <a:lnTo>
                    <a:pt x="1309" y="190"/>
                  </a:lnTo>
                  <a:lnTo>
                    <a:pt x="1295" y="185"/>
                  </a:lnTo>
                  <a:lnTo>
                    <a:pt x="1295" y="185"/>
                  </a:lnTo>
                  <a:lnTo>
                    <a:pt x="1276" y="183"/>
                  </a:lnTo>
                  <a:lnTo>
                    <a:pt x="1303" y="183"/>
                  </a:lnTo>
                  <a:lnTo>
                    <a:pt x="1332" y="185"/>
                  </a:lnTo>
                  <a:lnTo>
                    <a:pt x="1361" y="188"/>
                  </a:lnTo>
                  <a:lnTo>
                    <a:pt x="1361" y="188"/>
                  </a:lnTo>
                  <a:lnTo>
                    <a:pt x="1366" y="188"/>
                  </a:lnTo>
                  <a:lnTo>
                    <a:pt x="1372" y="186"/>
                  </a:lnTo>
                  <a:lnTo>
                    <a:pt x="1378" y="186"/>
                  </a:lnTo>
                  <a:lnTo>
                    <a:pt x="1378" y="186"/>
                  </a:lnTo>
                  <a:lnTo>
                    <a:pt x="1385" y="181"/>
                  </a:lnTo>
                  <a:lnTo>
                    <a:pt x="1393" y="173"/>
                  </a:lnTo>
                  <a:lnTo>
                    <a:pt x="1405" y="169"/>
                  </a:lnTo>
                  <a:lnTo>
                    <a:pt x="1405" y="169"/>
                  </a:lnTo>
                  <a:lnTo>
                    <a:pt x="1407" y="167"/>
                  </a:lnTo>
                  <a:lnTo>
                    <a:pt x="1407" y="163"/>
                  </a:lnTo>
                  <a:lnTo>
                    <a:pt x="1407" y="160"/>
                  </a:lnTo>
                  <a:lnTo>
                    <a:pt x="1407" y="160"/>
                  </a:lnTo>
                  <a:lnTo>
                    <a:pt x="1414" y="163"/>
                  </a:lnTo>
                  <a:lnTo>
                    <a:pt x="1420" y="169"/>
                  </a:lnTo>
                  <a:lnTo>
                    <a:pt x="1424" y="179"/>
                  </a:lnTo>
                  <a:lnTo>
                    <a:pt x="1424" y="179"/>
                  </a:lnTo>
                  <a:lnTo>
                    <a:pt x="1426" y="190"/>
                  </a:lnTo>
                  <a:lnTo>
                    <a:pt x="1426" y="204"/>
                  </a:lnTo>
                  <a:lnTo>
                    <a:pt x="1426" y="215"/>
                  </a:lnTo>
                  <a:lnTo>
                    <a:pt x="1426" y="215"/>
                  </a:lnTo>
                  <a:lnTo>
                    <a:pt x="1428" y="290"/>
                  </a:lnTo>
                  <a:lnTo>
                    <a:pt x="1430" y="367"/>
                  </a:lnTo>
                  <a:lnTo>
                    <a:pt x="1432" y="444"/>
                  </a:lnTo>
                  <a:lnTo>
                    <a:pt x="1432" y="444"/>
                  </a:lnTo>
                  <a:lnTo>
                    <a:pt x="1424" y="444"/>
                  </a:lnTo>
                  <a:lnTo>
                    <a:pt x="1424" y="438"/>
                  </a:lnTo>
                  <a:lnTo>
                    <a:pt x="1424" y="430"/>
                  </a:lnTo>
                  <a:lnTo>
                    <a:pt x="1424" y="425"/>
                  </a:lnTo>
                  <a:lnTo>
                    <a:pt x="1424" y="425"/>
                  </a:lnTo>
                  <a:lnTo>
                    <a:pt x="1426" y="382"/>
                  </a:lnTo>
                  <a:lnTo>
                    <a:pt x="1424" y="340"/>
                  </a:lnTo>
                  <a:lnTo>
                    <a:pt x="1424" y="296"/>
                  </a:lnTo>
                  <a:lnTo>
                    <a:pt x="1424" y="296"/>
                  </a:lnTo>
                  <a:lnTo>
                    <a:pt x="1422" y="261"/>
                  </a:lnTo>
                  <a:lnTo>
                    <a:pt x="1420" y="227"/>
                  </a:lnTo>
                  <a:lnTo>
                    <a:pt x="1416" y="194"/>
                  </a:lnTo>
                  <a:lnTo>
                    <a:pt x="1416" y="194"/>
                  </a:lnTo>
                  <a:lnTo>
                    <a:pt x="1416" y="194"/>
                  </a:lnTo>
                  <a:lnTo>
                    <a:pt x="1418" y="194"/>
                  </a:lnTo>
                  <a:lnTo>
                    <a:pt x="1418" y="194"/>
                  </a:lnTo>
                  <a:lnTo>
                    <a:pt x="1418" y="194"/>
                  </a:lnTo>
                  <a:lnTo>
                    <a:pt x="1418" y="186"/>
                  </a:lnTo>
                  <a:lnTo>
                    <a:pt x="1416" y="183"/>
                  </a:lnTo>
                  <a:lnTo>
                    <a:pt x="1410" y="179"/>
                  </a:lnTo>
                  <a:lnTo>
                    <a:pt x="1410" y="179"/>
                  </a:lnTo>
                  <a:lnTo>
                    <a:pt x="1414" y="175"/>
                  </a:lnTo>
                  <a:lnTo>
                    <a:pt x="1416" y="173"/>
                  </a:lnTo>
                  <a:lnTo>
                    <a:pt x="1416" y="169"/>
                  </a:lnTo>
                  <a:lnTo>
                    <a:pt x="1416" y="169"/>
                  </a:lnTo>
                  <a:lnTo>
                    <a:pt x="1412" y="167"/>
                  </a:lnTo>
                  <a:lnTo>
                    <a:pt x="1407" y="169"/>
                  </a:lnTo>
                  <a:lnTo>
                    <a:pt x="1403" y="171"/>
                  </a:lnTo>
                  <a:lnTo>
                    <a:pt x="1403" y="171"/>
                  </a:lnTo>
                  <a:lnTo>
                    <a:pt x="1395" y="177"/>
                  </a:lnTo>
                  <a:lnTo>
                    <a:pt x="1387" y="185"/>
                  </a:lnTo>
                  <a:lnTo>
                    <a:pt x="1382" y="192"/>
                  </a:lnTo>
                  <a:lnTo>
                    <a:pt x="1374" y="200"/>
                  </a:lnTo>
                  <a:lnTo>
                    <a:pt x="1368" y="208"/>
                  </a:lnTo>
                  <a:lnTo>
                    <a:pt x="1364" y="215"/>
                  </a:lnTo>
                  <a:lnTo>
                    <a:pt x="1364" y="215"/>
                  </a:lnTo>
                  <a:lnTo>
                    <a:pt x="1362" y="238"/>
                  </a:lnTo>
                  <a:lnTo>
                    <a:pt x="1364" y="261"/>
                  </a:lnTo>
                  <a:lnTo>
                    <a:pt x="1362" y="282"/>
                  </a:lnTo>
                  <a:lnTo>
                    <a:pt x="1362" y="282"/>
                  </a:lnTo>
                  <a:lnTo>
                    <a:pt x="1359" y="286"/>
                  </a:lnTo>
                  <a:lnTo>
                    <a:pt x="1362" y="290"/>
                  </a:lnTo>
                  <a:lnTo>
                    <a:pt x="1361" y="342"/>
                  </a:lnTo>
                  <a:lnTo>
                    <a:pt x="1359" y="392"/>
                  </a:lnTo>
                  <a:lnTo>
                    <a:pt x="1353" y="444"/>
                  </a:lnTo>
                  <a:lnTo>
                    <a:pt x="1353" y="444"/>
                  </a:lnTo>
                  <a:lnTo>
                    <a:pt x="1347" y="444"/>
                  </a:lnTo>
                  <a:lnTo>
                    <a:pt x="1351" y="407"/>
                  </a:lnTo>
                  <a:lnTo>
                    <a:pt x="1355" y="373"/>
                  </a:lnTo>
                  <a:lnTo>
                    <a:pt x="1357" y="336"/>
                  </a:lnTo>
                  <a:lnTo>
                    <a:pt x="1357" y="336"/>
                  </a:lnTo>
                  <a:lnTo>
                    <a:pt x="1355" y="336"/>
                  </a:lnTo>
                  <a:lnTo>
                    <a:pt x="1353" y="334"/>
                  </a:lnTo>
                  <a:lnTo>
                    <a:pt x="1353" y="332"/>
                  </a:lnTo>
                  <a:lnTo>
                    <a:pt x="1353" y="332"/>
                  </a:lnTo>
                  <a:lnTo>
                    <a:pt x="1355" y="331"/>
                  </a:lnTo>
                  <a:lnTo>
                    <a:pt x="1357" y="331"/>
                  </a:lnTo>
                  <a:lnTo>
                    <a:pt x="1359" y="329"/>
                  </a:lnTo>
                  <a:lnTo>
                    <a:pt x="1359" y="329"/>
                  </a:lnTo>
                  <a:lnTo>
                    <a:pt x="1357" y="325"/>
                  </a:lnTo>
                  <a:lnTo>
                    <a:pt x="1355" y="321"/>
                  </a:lnTo>
                  <a:lnTo>
                    <a:pt x="1351" y="321"/>
                  </a:lnTo>
                  <a:lnTo>
                    <a:pt x="1351" y="321"/>
                  </a:lnTo>
                  <a:lnTo>
                    <a:pt x="1349" y="321"/>
                  </a:lnTo>
                  <a:lnTo>
                    <a:pt x="1349" y="319"/>
                  </a:lnTo>
                  <a:lnTo>
                    <a:pt x="1349" y="317"/>
                  </a:lnTo>
                  <a:lnTo>
                    <a:pt x="1347" y="315"/>
                  </a:lnTo>
                  <a:lnTo>
                    <a:pt x="1347" y="315"/>
                  </a:lnTo>
                  <a:lnTo>
                    <a:pt x="1345" y="315"/>
                  </a:lnTo>
                  <a:lnTo>
                    <a:pt x="1343" y="317"/>
                  </a:lnTo>
                  <a:lnTo>
                    <a:pt x="1341" y="319"/>
                  </a:lnTo>
                  <a:lnTo>
                    <a:pt x="1341" y="319"/>
                  </a:lnTo>
                  <a:lnTo>
                    <a:pt x="1338" y="317"/>
                  </a:lnTo>
                  <a:lnTo>
                    <a:pt x="1332" y="317"/>
                  </a:lnTo>
                  <a:lnTo>
                    <a:pt x="1328" y="319"/>
                  </a:lnTo>
                  <a:lnTo>
                    <a:pt x="1328" y="319"/>
                  </a:lnTo>
                  <a:lnTo>
                    <a:pt x="1309" y="325"/>
                  </a:lnTo>
                  <a:lnTo>
                    <a:pt x="1291" y="332"/>
                  </a:lnTo>
                  <a:lnTo>
                    <a:pt x="1274" y="342"/>
                  </a:lnTo>
                  <a:lnTo>
                    <a:pt x="1274" y="342"/>
                  </a:lnTo>
                  <a:lnTo>
                    <a:pt x="1272" y="332"/>
                  </a:lnTo>
                  <a:lnTo>
                    <a:pt x="1272" y="325"/>
                  </a:lnTo>
                  <a:lnTo>
                    <a:pt x="1272" y="315"/>
                  </a:lnTo>
                  <a:lnTo>
                    <a:pt x="1272" y="315"/>
                  </a:lnTo>
                  <a:lnTo>
                    <a:pt x="1268" y="315"/>
                  </a:lnTo>
                  <a:lnTo>
                    <a:pt x="1266" y="315"/>
                  </a:lnTo>
                  <a:lnTo>
                    <a:pt x="1265" y="313"/>
                  </a:lnTo>
                  <a:lnTo>
                    <a:pt x="1265" y="313"/>
                  </a:lnTo>
                  <a:lnTo>
                    <a:pt x="1251" y="317"/>
                  </a:lnTo>
                  <a:lnTo>
                    <a:pt x="1238" y="323"/>
                  </a:lnTo>
                  <a:lnTo>
                    <a:pt x="1226" y="327"/>
                  </a:lnTo>
                  <a:lnTo>
                    <a:pt x="1213" y="332"/>
                  </a:lnTo>
                  <a:lnTo>
                    <a:pt x="1201" y="340"/>
                  </a:lnTo>
                  <a:lnTo>
                    <a:pt x="1190" y="348"/>
                  </a:lnTo>
                  <a:lnTo>
                    <a:pt x="1176" y="355"/>
                  </a:lnTo>
                  <a:lnTo>
                    <a:pt x="1165" y="363"/>
                  </a:lnTo>
                  <a:lnTo>
                    <a:pt x="1155" y="373"/>
                  </a:lnTo>
                  <a:lnTo>
                    <a:pt x="1144" y="382"/>
                  </a:lnTo>
                  <a:lnTo>
                    <a:pt x="1134" y="392"/>
                  </a:lnTo>
                  <a:lnTo>
                    <a:pt x="1124" y="402"/>
                  </a:lnTo>
                  <a:lnTo>
                    <a:pt x="1115" y="413"/>
                  </a:lnTo>
                  <a:lnTo>
                    <a:pt x="1107" y="423"/>
                  </a:lnTo>
                  <a:lnTo>
                    <a:pt x="1100" y="434"/>
                  </a:lnTo>
                  <a:lnTo>
                    <a:pt x="1100" y="434"/>
                  </a:lnTo>
                  <a:lnTo>
                    <a:pt x="1098" y="438"/>
                  </a:lnTo>
                  <a:lnTo>
                    <a:pt x="1096" y="440"/>
                  </a:lnTo>
                  <a:lnTo>
                    <a:pt x="1094" y="444"/>
                  </a:lnTo>
                  <a:lnTo>
                    <a:pt x="1094" y="444"/>
                  </a:lnTo>
                  <a:lnTo>
                    <a:pt x="1078" y="444"/>
                  </a:lnTo>
                  <a:lnTo>
                    <a:pt x="1082" y="436"/>
                  </a:lnTo>
                  <a:lnTo>
                    <a:pt x="1088" y="428"/>
                  </a:lnTo>
                  <a:lnTo>
                    <a:pt x="1092" y="423"/>
                  </a:lnTo>
                  <a:lnTo>
                    <a:pt x="1096" y="415"/>
                  </a:lnTo>
                  <a:lnTo>
                    <a:pt x="1101" y="407"/>
                  </a:lnTo>
                  <a:lnTo>
                    <a:pt x="1107" y="402"/>
                  </a:lnTo>
                  <a:lnTo>
                    <a:pt x="1111" y="396"/>
                  </a:lnTo>
                  <a:lnTo>
                    <a:pt x="1117" y="388"/>
                  </a:lnTo>
                  <a:lnTo>
                    <a:pt x="1123" y="382"/>
                  </a:lnTo>
                  <a:lnTo>
                    <a:pt x="1130" y="377"/>
                  </a:lnTo>
                  <a:lnTo>
                    <a:pt x="1136" y="371"/>
                  </a:lnTo>
                  <a:lnTo>
                    <a:pt x="1142" y="365"/>
                  </a:lnTo>
                  <a:lnTo>
                    <a:pt x="1149" y="359"/>
                  </a:lnTo>
                  <a:lnTo>
                    <a:pt x="1155" y="354"/>
                  </a:lnTo>
                  <a:lnTo>
                    <a:pt x="1163" y="348"/>
                  </a:lnTo>
                  <a:lnTo>
                    <a:pt x="1169" y="344"/>
                  </a:lnTo>
                  <a:lnTo>
                    <a:pt x="1176" y="338"/>
                  </a:lnTo>
                  <a:lnTo>
                    <a:pt x="1184" y="334"/>
                  </a:lnTo>
                  <a:lnTo>
                    <a:pt x="1192" y="329"/>
                  </a:lnTo>
                  <a:lnTo>
                    <a:pt x="1199" y="325"/>
                  </a:lnTo>
                  <a:lnTo>
                    <a:pt x="1207" y="321"/>
                  </a:lnTo>
                  <a:lnTo>
                    <a:pt x="1215" y="317"/>
                  </a:lnTo>
                  <a:lnTo>
                    <a:pt x="1222" y="315"/>
                  </a:lnTo>
                  <a:lnTo>
                    <a:pt x="1230" y="311"/>
                  </a:lnTo>
                  <a:lnTo>
                    <a:pt x="1238" y="307"/>
                  </a:lnTo>
                  <a:lnTo>
                    <a:pt x="1245" y="306"/>
                  </a:lnTo>
                  <a:lnTo>
                    <a:pt x="1255" y="304"/>
                  </a:lnTo>
                  <a:lnTo>
                    <a:pt x="1263" y="302"/>
                  </a:lnTo>
                  <a:lnTo>
                    <a:pt x="1270" y="300"/>
                  </a:lnTo>
                  <a:lnTo>
                    <a:pt x="1278" y="298"/>
                  </a:lnTo>
                  <a:lnTo>
                    <a:pt x="1286" y="296"/>
                  </a:lnTo>
                  <a:lnTo>
                    <a:pt x="1295" y="296"/>
                  </a:lnTo>
                  <a:lnTo>
                    <a:pt x="1295" y="296"/>
                  </a:lnTo>
                  <a:lnTo>
                    <a:pt x="1303" y="296"/>
                  </a:lnTo>
                  <a:lnTo>
                    <a:pt x="1313" y="296"/>
                  </a:lnTo>
                  <a:lnTo>
                    <a:pt x="1320" y="294"/>
                  </a:lnTo>
                  <a:lnTo>
                    <a:pt x="1320" y="294"/>
                  </a:lnTo>
                  <a:lnTo>
                    <a:pt x="1332" y="294"/>
                  </a:lnTo>
                  <a:lnTo>
                    <a:pt x="1343" y="294"/>
                  </a:lnTo>
                  <a:lnTo>
                    <a:pt x="1353" y="294"/>
                  </a:lnTo>
                  <a:lnTo>
                    <a:pt x="1353" y="294"/>
                  </a:lnTo>
                  <a:lnTo>
                    <a:pt x="1353" y="298"/>
                  </a:lnTo>
                  <a:lnTo>
                    <a:pt x="1353" y="300"/>
                  </a:lnTo>
                  <a:lnTo>
                    <a:pt x="1355" y="302"/>
                  </a:lnTo>
                  <a:lnTo>
                    <a:pt x="1355" y="302"/>
                  </a:lnTo>
                  <a:lnTo>
                    <a:pt x="1359" y="300"/>
                  </a:lnTo>
                  <a:lnTo>
                    <a:pt x="1359" y="296"/>
                  </a:lnTo>
                  <a:lnTo>
                    <a:pt x="1362" y="294"/>
                  </a:lnTo>
                  <a:lnTo>
                    <a:pt x="1362" y="294"/>
                  </a:lnTo>
                  <a:lnTo>
                    <a:pt x="1362" y="292"/>
                  </a:lnTo>
                  <a:lnTo>
                    <a:pt x="1362" y="290"/>
                  </a:lnTo>
                  <a:lnTo>
                    <a:pt x="1361" y="290"/>
                  </a:lnTo>
                  <a:lnTo>
                    <a:pt x="1361" y="290"/>
                  </a:lnTo>
                  <a:lnTo>
                    <a:pt x="1355" y="288"/>
                  </a:lnTo>
                  <a:lnTo>
                    <a:pt x="1359" y="286"/>
                  </a:lnTo>
                  <a:lnTo>
                    <a:pt x="1359" y="284"/>
                  </a:lnTo>
                  <a:lnTo>
                    <a:pt x="1359" y="281"/>
                  </a:lnTo>
                  <a:lnTo>
                    <a:pt x="1359" y="281"/>
                  </a:lnTo>
                  <a:lnTo>
                    <a:pt x="1355" y="281"/>
                  </a:lnTo>
                  <a:lnTo>
                    <a:pt x="1351" y="282"/>
                  </a:lnTo>
                  <a:lnTo>
                    <a:pt x="1347" y="284"/>
                  </a:lnTo>
                  <a:lnTo>
                    <a:pt x="1347" y="284"/>
                  </a:lnTo>
                  <a:lnTo>
                    <a:pt x="1349" y="286"/>
                  </a:lnTo>
                  <a:lnTo>
                    <a:pt x="1351" y="288"/>
                  </a:lnTo>
                  <a:lnTo>
                    <a:pt x="1355" y="288"/>
                  </a:lnTo>
                  <a:lnTo>
                    <a:pt x="1355" y="288"/>
                  </a:lnTo>
                  <a:lnTo>
                    <a:pt x="1338" y="288"/>
                  </a:lnTo>
                  <a:lnTo>
                    <a:pt x="1339" y="286"/>
                  </a:lnTo>
                  <a:lnTo>
                    <a:pt x="1343" y="286"/>
                  </a:lnTo>
                  <a:lnTo>
                    <a:pt x="1345" y="286"/>
                  </a:lnTo>
                  <a:lnTo>
                    <a:pt x="1345" y="286"/>
                  </a:lnTo>
                  <a:lnTo>
                    <a:pt x="1345" y="284"/>
                  </a:lnTo>
                  <a:lnTo>
                    <a:pt x="1343" y="282"/>
                  </a:lnTo>
                  <a:lnTo>
                    <a:pt x="1343" y="282"/>
                  </a:lnTo>
                  <a:lnTo>
                    <a:pt x="1343" y="282"/>
                  </a:lnTo>
                  <a:lnTo>
                    <a:pt x="1341" y="275"/>
                  </a:lnTo>
                  <a:lnTo>
                    <a:pt x="1341" y="269"/>
                  </a:lnTo>
                  <a:lnTo>
                    <a:pt x="1338" y="263"/>
                  </a:lnTo>
                  <a:lnTo>
                    <a:pt x="1338" y="263"/>
                  </a:lnTo>
                  <a:lnTo>
                    <a:pt x="1297" y="252"/>
                  </a:lnTo>
                  <a:lnTo>
                    <a:pt x="1253" y="244"/>
                  </a:lnTo>
                  <a:lnTo>
                    <a:pt x="1211" y="238"/>
                  </a:lnTo>
                  <a:lnTo>
                    <a:pt x="1167" y="233"/>
                  </a:lnTo>
                  <a:lnTo>
                    <a:pt x="1167" y="233"/>
                  </a:lnTo>
                  <a:lnTo>
                    <a:pt x="1082" y="227"/>
                  </a:lnTo>
                  <a:lnTo>
                    <a:pt x="996" y="225"/>
                  </a:lnTo>
                  <a:lnTo>
                    <a:pt x="911" y="227"/>
                  </a:lnTo>
                  <a:lnTo>
                    <a:pt x="911" y="227"/>
                  </a:lnTo>
                  <a:lnTo>
                    <a:pt x="906" y="231"/>
                  </a:lnTo>
                  <a:lnTo>
                    <a:pt x="906" y="234"/>
                  </a:lnTo>
                  <a:lnTo>
                    <a:pt x="904" y="240"/>
                  </a:lnTo>
                  <a:lnTo>
                    <a:pt x="904" y="240"/>
                  </a:lnTo>
                  <a:lnTo>
                    <a:pt x="902" y="256"/>
                  </a:lnTo>
                  <a:lnTo>
                    <a:pt x="904" y="269"/>
                  </a:lnTo>
                  <a:lnTo>
                    <a:pt x="911" y="281"/>
                  </a:lnTo>
                  <a:lnTo>
                    <a:pt x="911" y="281"/>
                  </a:lnTo>
                  <a:lnTo>
                    <a:pt x="921" y="286"/>
                  </a:lnTo>
                  <a:lnTo>
                    <a:pt x="956" y="290"/>
                  </a:lnTo>
                  <a:lnTo>
                    <a:pt x="992" y="292"/>
                  </a:lnTo>
                  <a:lnTo>
                    <a:pt x="1028" y="294"/>
                  </a:lnTo>
                  <a:lnTo>
                    <a:pt x="1028" y="294"/>
                  </a:lnTo>
                  <a:lnTo>
                    <a:pt x="1013" y="300"/>
                  </a:lnTo>
                  <a:lnTo>
                    <a:pt x="998" y="304"/>
                  </a:lnTo>
                  <a:lnTo>
                    <a:pt x="982" y="306"/>
                  </a:lnTo>
                  <a:lnTo>
                    <a:pt x="982" y="306"/>
                  </a:lnTo>
                  <a:lnTo>
                    <a:pt x="981" y="315"/>
                  </a:lnTo>
                  <a:lnTo>
                    <a:pt x="982" y="323"/>
                  </a:lnTo>
                  <a:lnTo>
                    <a:pt x="981" y="331"/>
                  </a:lnTo>
                  <a:lnTo>
                    <a:pt x="981" y="331"/>
                  </a:lnTo>
                  <a:lnTo>
                    <a:pt x="954" y="340"/>
                  </a:lnTo>
                  <a:lnTo>
                    <a:pt x="929" y="348"/>
                  </a:lnTo>
                  <a:lnTo>
                    <a:pt x="904" y="357"/>
                  </a:lnTo>
                  <a:lnTo>
                    <a:pt x="904" y="357"/>
                  </a:lnTo>
                  <a:lnTo>
                    <a:pt x="902" y="369"/>
                  </a:lnTo>
                  <a:lnTo>
                    <a:pt x="896" y="371"/>
                  </a:lnTo>
                  <a:lnTo>
                    <a:pt x="890" y="371"/>
                  </a:lnTo>
                  <a:lnTo>
                    <a:pt x="886" y="373"/>
                  </a:lnTo>
                  <a:lnTo>
                    <a:pt x="886" y="373"/>
                  </a:lnTo>
                  <a:lnTo>
                    <a:pt x="879" y="388"/>
                  </a:lnTo>
                  <a:lnTo>
                    <a:pt x="875" y="403"/>
                  </a:lnTo>
                  <a:lnTo>
                    <a:pt x="875" y="421"/>
                  </a:lnTo>
                  <a:lnTo>
                    <a:pt x="875" y="421"/>
                  </a:lnTo>
                  <a:lnTo>
                    <a:pt x="885" y="430"/>
                  </a:lnTo>
                  <a:lnTo>
                    <a:pt x="894" y="434"/>
                  </a:lnTo>
                  <a:lnTo>
                    <a:pt x="906" y="434"/>
                  </a:lnTo>
                  <a:lnTo>
                    <a:pt x="906" y="434"/>
                  </a:lnTo>
                  <a:lnTo>
                    <a:pt x="917" y="434"/>
                  </a:lnTo>
                  <a:lnTo>
                    <a:pt x="929" y="432"/>
                  </a:lnTo>
                  <a:lnTo>
                    <a:pt x="938" y="430"/>
                  </a:lnTo>
                  <a:lnTo>
                    <a:pt x="938" y="430"/>
                  </a:lnTo>
                  <a:lnTo>
                    <a:pt x="963" y="428"/>
                  </a:lnTo>
                  <a:lnTo>
                    <a:pt x="986" y="423"/>
                  </a:lnTo>
                  <a:lnTo>
                    <a:pt x="1009" y="415"/>
                  </a:lnTo>
                  <a:lnTo>
                    <a:pt x="1032" y="405"/>
                  </a:lnTo>
                  <a:lnTo>
                    <a:pt x="1053" y="394"/>
                  </a:lnTo>
                  <a:lnTo>
                    <a:pt x="1075" y="380"/>
                  </a:lnTo>
                  <a:lnTo>
                    <a:pt x="1096" y="367"/>
                  </a:lnTo>
                  <a:lnTo>
                    <a:pt x="1115" y="350"/>
                  </a:lnTo>
                  <a:lnTo>
                    <a:pt x="1115" y="350"/>
                  </a:lnTo>
                  <a:lnTo>
                    <a:pt x="1134" y="340"/>
                  </a:lnTo>
                  <a:lnTo>
                    <a:pt x="1153" y="332"/>
                  </a:lnTo>
                  <a:lnTo>
                    <a:pt x="1172" y="325"/>
                  </a:lnTo>
                  <a:lnTo>
                    <a:pt x="1190" y="317"/>
                  </a:lnTo>
                  <a:lnTo>
                    <a:pt x="1190" y="317"/>
                  </a:lnTo>
                  <a:lnTo>
                    <a:pt x="1190" y="317"/>
                  </a:lnTo>
                  <a:lnTo>
                    <a:pt x="1188" y="319"/>
                  </a:lnTo>
                  <a:lnTo>
                    <a:pt x="1188" y="321"/>
                  </a:lnTo>
                  <a:lnTo>
                    <a:pt x="1188" y="321"/>
                  </a:lnTo>
                  <a:lnTo>
                    <a:pt x="1190" y="323"/>
                  </a:lnTo>
                  <a:lnTo>
                    <a:pt x="1192" y="321"/>
                  </a:lnTo>
                  <a:lnTo>
                    <a:pt x="1195" y="321"/>
                  </a:lnTo>
                  <a:lnTo>
                    <a:pt x="1195" y="321"/>
                  </a:lnTo>
                  <a:lnTo>
                    <a:pt x="1197" y="319"/>
                  </a:lnTo>
                  <a:lnTo>
                    <a:pt x="1197" y="317"/>
                  </a:lnTo>
                  <a:lnTo>
                    <a:pt x="1197" y="317"/>
                  </a:lnTo>
                  <a:lnTo>
                    <a:pt x="1197" y="317"/>
                  </a:lnTo>
                  <a:lnTo>
                    <a:pt x="1197" y="315"/>
                  </a:lnTo>
                  <a:lnTo>
                    <a:pt x="1201" y="315"/>
                  </a:lnTo>
                  <a:lnTo>
                    <a:pt x="1205" y="315"/>
                  </a:lnTo>
                  <a:lnTo>
                    <a:pt x="1209" y="313"/>
                  </a:lnTo>
                  <a:lnTo>
                    <a:pt x="1209" y="313"/>
                  </a:lnTo>
                  <a:lnTo>
                    <a:pt x="1215" y="309"/>
                  </a:lnTo>
                  <a:lnTo>
                    <a:pt x="1222" y="307"/>
                  </a:lnTo>
                  <a:lnTo>
                    <a:pt x="1228" y="306"/>
                  </a:lnTo>
                  <a:lnTo>
                    <a:pt x="1228" y="306"/>
                  </a:lnTo>
                  <a:lnTo>
                    <a:pt x="1213" y="313"/>
                  </a:lnTo>
                  <a:lnTo>
                    <a:pt x="1199" y="319"/>
                  </a:lnTo>
                  <a:lnTo>
                    <a:pt x="1184" y="329"/>
                  </a:lnTo>
                  <a:lnTo>
                    <a:pt x="1184" y="329"/>
                  </a:lnTo>
                  <a:lnTo>
                    <a:pt x="1184" y="327"/>
                  </a:lnTo>
                  <a:lnTo>
                    <a:pt x="1186" y="325"/>
                  </a:lnTo>
                  <a:lnTo>
                    <a:pt x="1184" y="323"/>
                  </a:lnTo>
                  <a:lnTo>
                    <a:pt x="1184" y="323"/>
                  </a:lnTo>
                  <a:lnTo>
                    <a:pt x="1182" y="323"/>
                  </a:lnTo>
                  <a:lnTo>
                    <a:pt x="1178" y="325"/>
                  </a:lnTo>
                  <a:lnTo>
                    <a:pt x="1176" y="327"/>
                  </a:lnTo>
                  <a:lnTo>
                    <a:pt x="1176" y="327"/>
                  </a:lnTo>
                  <a:lnTo>
                    <a:pt x="1176" y="329"/>
                  </a:lnTo>
                  <a:lnTo>
                    <a:pt x="1176" y="329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8" y="331"/>
                  </a:lnTo>
                  <a:lnTo>
                    <a:pt x="1174" y="332"/>
                  </a:lnTo>
                  <a:lnTo>
                    <a:pt x="1176" y="332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4" y="329"/>
                  </a:lnTo>
                  <a:lnTo>
                    <a:pt x="1172" y="329"/>
                  </a:lnTo>
                  <a:lnTo>
                    <a:pt x="1171" y="331"/>
                  </a:lnTo>
                  <a:lnTo>
                    <a:pt x="1171" y="331"/>
                  </a:lnTo>
                  <a:lnTo>
                    <a:pt x="1169" y="332"/>
                  </a:lnTo>
                  <a:lnTo>
                    <a:pt x="1167" y="332"/>
                  </a:lnTo>
                  <a:lnTo>
                    <a:pt x="1167" y="336"/>
                  </a:lnTo>
                  <a:lnTo>
                    <a:pt x="1167" y="336"/>
                  </a:lnTo>
                  <a:lnTo>
                    <a:pt x="1167" y="336"/>
                  </a:lnTo>
                  <a:lnTo>
                    <a:pt x="1169" y="336"/>
                  </a:lnTo>
                  <a:lnTo>
                    <a:pt x="1169" y="336"/>
                  </a:lnTo>
                  <a:lnTo>
                    <a:pt x="1169" y="336"/>
                  </a:lnTo>
                  <a:lnTo>
                    <a:pt x="1171" y="336"/>
                  </a:lnTo>
                  <a:lnTo>
                    <a:pt x="1161" y="342"/>
                  </a:lnTo>
                  <a:lnTo>
                    <a:pt x="1153" y="348"/>
                  </a:lnTo>
                  <a:lnTo>
                    <a:pt x="1146" y="354"/>
                  </a:lnTo>
                  <a:lnTo>
                    <a:pt x="1138" y="361"/>
                  </a:lnTo>
                  <a:lnTo>
                    <a:pt x="1130" y="367"/>
                  </a:lnTo>
                  <a:lnTo>
                    <a:pt x="1124" y="375"/>
                  </a:lnTo>
                  <a:lnTo>
                    <a:pt x="1117" y="380"/>
                  </a:lnTo>
                  <a:lnTo>
                    <a:pt x="1111" y="388"/>
                  </a:lnTo>
                  <a:lnTo>
                    <a:pt x="1105" y="396"/>
                  </a:lnTo>
                  <a:lnTo>
                    <a:pt x="1100" y="403"/>
                  </a:lnTo>
                  <a:lnTo>
                    <a:pt x="1094" y="411"/>
                  </a:lnTo>
                  <a:lnTo>
                    <a:pt x="1088" y="419"/>
                  </a:lnTo>
                  <a:lnTo>
                    <a:pt x="1082" y="427"/>
                  </a:lnTo>
                  <a:lnTo>
                    <a:pt x="1078" y="436"/>
                  </a:lnTo>
                  <a:lnTo>
                    <a:pt x="1073" y="444"/>
                  </a:lnTo>
                  <a:lnTo>
                    <a:pt x="1073" y="444"/>
                  </a:lnTo>
                  <a:lnTo>
                    <a:pt x="902" y="4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200280" y="3011040"/>
              <a:ext cx="828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764760" y="3058560"/>
              <a:ext cx="41400" cy="18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9" y="2"/>
                  </a:moveTo>
                  <a:lnTo>
                    <a:pt x="20" y="7"/>
                  </a:lnTo>
                  <a:lnTo>
                    <a:pt x="12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5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647760" y="3058560"/>
              <a:ext cx="51480" cy="1008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7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21" y="4"/>
                  </a:lnTo>
                  <a:lnTo>
                    <a:pt x="29" y="5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779520" y="3077280"/>
              <a:ext cx="29520" cy="169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0"/>
                  </a:moveTo>
                  <a:lnTo>
                    <a:pt x="15" y="6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624720" y="3068640"/>
              <a:ext cx="101520" cy="2268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71" y="10"/>
                  </a:moveTo>
                  <a:lnTo>
                    <a:pt x="66" y="1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9" y="2"/>
                  </a:lnTo>
                  <a:lnTo>
                    <a:pt x="50" y="6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468920" y="3137400"/>
              <a:ext cx="27000" cy="169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6"/>
                  </a:moveTo>
                  <a:lnTo>
                    <a:pt x="13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528680" y="3143520"/>
              <a:ext cx="54360" cy="1692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7" y="10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139800" y="3032640"/>
              <a:ext cx="972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759360" y="308592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6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7594560" y="316080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149880" y="3044520"/>
              <a:ext cx="1892160" cy="333000"/>
            </a:xfrm>
            <a:custGeom>
              <a:avLst/>
              <a:gdLst/>
              <a:ahLst/>
              <a:rect l="l" t="t" r="r" b="b"/>
              <a:pathLst>
                <a:path w="1323" h="232">
                  <a:moveTo>
                    <a:pt x="146" y="25"/>
                  </a:moveTo>
                  <a:lnTo>
                    <a:pt x="296" y="48"/>
                  </a:lnTo>
                  <a:lnTo>
                    <a:pt x="346" y="54"/>
                  </a:lnTo>
                  <a:lnTo>
                    <a:pt x="396" y="62"/>
                  </a:lnTo>
                  <a:lnTo>
                    <a:pt x="446" y="69"/>
                  </a:lnTo>
                  <a:lnTo>
                    <a:pt x="496" y="75"/>
                  </a:lnTo>
                  <a:lnTo>
                    <a:pt x="546" y="81"/>
                  </a:lnTo>
                  <a:lnTo>
                    <a:pt x="546" y="81"/>
                  </a:lnTo>
                  <a:lnTo>
                    <a:pt x="597" y="86"/>
                  </a:lnTo>
                  <a:lnTo>
                    <a:pt x="647" y="94"/>
                  </a:lnTo>
                  <a:lnTo>
                    <a:pt x="699" y="102"/>
                  </a:lnTo>
                  <a:lnTo>
                    <a:pt x="749" y="110"/>
                  </a:lnTo>
                  <a:lnTo>
                    <a:pt x="801" y="117"/>
                  </a:lnTo>
                  <a:lnTo>
                    <a:pt x="853" y="123"/>
                  </a:lnTo>
                  <a:lnTo>
                    <a:pt x="853" y="123"/>
                  </a:lnTo>
                  <a:lnTo>
                    <a:pt x="943" y="136"/>
                  </a:lnTo>
                  <a:lnTo>
                    <a:pt x="1083" y="158"/>
                  </a:lnTo>
                  <a:lnTo>
                    <a:pt x="1125" y="165"/>
                  </a:lnTo>
                  <a:lnTo>
                    <a:pt x="1165" y="171"/>
                  </a:lnTo>
                  <a:lnTo>
                    <a:pt x="1208" y="179"/>
                  </a:lnTo>
                  <a:lnTo>
                    <a:pt x="1250" y="184"/>
                  </a:lnTo>
                  <a:lnTo>
                    <a:pt x="1292" y="190"/>
                  </a:lnTo>
                  <a:lnTo>
                    <a:pt x="1292" y="190"/>
                  </a:lnTo>
                  <a:lnTo>
                    <a:pt x="1302" y="192"/>
                  </a:lnTo>
                  <a:lnTo>
                    <a:pt x="1309" y="196"/>
                  </a:lnTo>
                  <a:lnTo>
                    <a:pt x="1317" y="204"/>
                  </a:lnTo>
                  <a:lnTo>
                    <a:pt x="1317" y="204"/>
                  </a:lnTo>
                  <a:lnTo>
                    <a:pt x="1317" y="213"/>
                  </a:lnTo>
                  <a:lnTo>
                    <a:pt x="1321" y="223"/>
                  </a:lnTo>
                  <a:lnTo>
                    <a:pt x="1323" y="231"/>
                  </a:lnTo>
                  <a:lnTo>
                    <a:pt x="1323" y="231"/>
                  </a:lnTo>
                  <a:lnTo>
                    <a:pt x="1319" y="232"/>
                  </a:lnTo>
                  <a:lnTo>
                    <a:pt x="1313" y="231"/>
                  </a:lnTo>
                  <a:lnTo>
                    <a:pt x="1308" y="229"/>
                  </a:lnTo>
                  <a:lnTo>
                    <a:pt x="1308" y="229"/>
                  </a:lnTo>
                  <a:lnTo>
                    <a:pt x="1269" y="219"/>
                  </a:lnTo>
                  <a:lnTo>
                    <a:pt x="1229" y="211"/>
                  </a:lnTo>
                  <a:lnTo>
                    <a:pt x="1189" y="206"/>
                  </a:lnTo>
                  <a:lnTo>
                    <a:pt x="1148" y="198"/>
                  </a:lnTo>
                  <a:lnTo>
                    <a:pt x="1108" y="192"/>
                  </a:lnTo>
                  <a:lnTo>
                    <a:pt x="1108" y="192"/>
                  </a:lnTo>
                  <a:lnTo>
                    <a:pt x="1106" y="194"/>
                  </a:lnTo>
                  <a:lnTo>
                    <a:pt x="1045" y="186"/>
                  </a:lnTo>
                  <a:lnTo>
                    <a:pt x="981" y="183"/>
                  </a:lnTo>
                  <a:lnTo>
                    <a:pt x="920" y="175"/>
                  </a:lnTo>
                  <a:lnTo>
                    <a:pt x="920" y="175"/>
                  </a:lnTo>
                  <a:lnTo>
                    <a:pt x="874" y="167"/>
                  </a:lnTo>
                  <a:lnTo>
                    <a:pt x="828" y="159"/>
                  </a:lnTo>
                  <a:lnTo>
                    <a:pt x="780" y="154"/>
                  </a:lnTo>
                  <a:lnTo>
                    <a:pt x="734" y="146"/>
                  </a:lnTo>
                  <a:lnTo>
                    <a:pt x="686" y="142"/>
                  </a:lnTo>
                  <a:lnTo>
                    <a:pt x="686" y="142"/>
                  </a:lnTo>
                  <a:lnTo>
                    <a:pt x="647" y="131"/>
                  </a:lnTo>
                  <a:lnTo>
                    <a:pt x="607" y="121"/>
                  </a:lnTo>
                  <a:lnTo>
                    <a:pt x="567" y="111"/>
                  </a:lnTo>
                  <a:lnTo>
                    <a:pt x="567" y="111"/>
                  </a:lnTo>
                  <a:lnTo>
                    <a:pt x="499" y="104"/>
                  </a:lnTo>
                  <a:lnTo>
                    <a:pt x="432" y="94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36" y="77"/>
                  </a:lnTo>
                  <a:lnTo>
                    <a:pt x="307" y="71"/>
                  </a:lnTo>
                  <a:lnTo>
                    <a:pt x="281" y="63"/>
                  </a:lnTo>
                  <a:lnTo>
                    <a:pt x="252" y="58"/>
                  </a:lnTo>
                  <a:lnTo>
                    <a:pt x="223" y="54"/>
                  </a:lnTo>
                  <a:lnTo>
                    <a:pt x="223" y="54"/>
                  </a:lnTo>
                  <a:lnTo>
                    <a:pt x="206" y="50"/>
                  </a:lnTo>
                  <a:lnTo>
                    <a:pt x="188" y="48"/>
                  </a:lnTo>
                  <a:lnTo>
                    <a:pt x="173" y="46"/>
                  </a:lnTo>
                  <a:lnTo>
                    <a:pt x="173" y="46"/>
                  </a:lnTo>
                  <a:lnTo>
                    <a:pt x="125" y="35"/>
                  </a:lnTo>
                  <a:lnTo>
                    <a:pt x="77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18" y="14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6"/>
                  </a:lnTo>
                  <a:lnTo>
                    <a:pt x="96" y="1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7487280" y="3154680"/>
              <a:ext cx="1152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510320" y="3160800"/>
              <a:ext cx="12960" cy="10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7525800" y="3160800"/>
              <a:ext cx="5760" cy="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7534800" y="3163680"/>
              <a:ext cx="56880" cy="684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40" y="3"/>
                  </a:moveTo>
                  <a:lnTo>
                    <a:pt x="4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3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7468920" y="3160800"/>
              <a:ext cx="147240" cy="51480"/>
            </a:xfrm>
            <a:custGeom>
              <a:avLst/>
              <a:gdLst/>
              <a:ahLst/>
              <a:rect l="l" t="t" r="r" b="b"/>
              <a:pathLst>
                <a:path w="103" h="36">
                  <a:moveTo>
                    <a:pt x="11" y="4"/>
                  </a:moveTo>
                  <a:lnTo>
                    <a:pt x="88" y="13"/>
                  </a:lnTo>
                  <a:lnTo>
                    <a:pt x="90" y="13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6" y="7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8" y="11"/>
                  </a:lnTo>
                  <a:lnTo>
                    <a:pt x="90" y="17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88" y="25"/>
                  </a:lnTo>
                  <a:lnTo>
                    <a:pt x="92" y="29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8" y="29"/>
                  </a:lnTo>
                  <a:lnTo>
                    <a:pt x="80" y="25"/>
                  </a:lnTo>
                  <a:lnTo>
                    <a:pt x="82" y="17"/>
                  </a:lnTo>
                  <a:lnTo>
                    <a:pt x="82" y="17"/>
                  </a:lnTo>
                  <a:lnTo>
                    <a:pt x="80" y="1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6120000" y="3049920"/>
              <a:ext cx="8280" cy="158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139800" y="3068640"/>
              <a:ext cx="455040" cy="307080"/>
            </a:xfrm>
            <a:custGeom>
              <a:avLst/>
              <a:gdLst/>
              <a:ahLst/>
              <a:rect l="l" t="t" r="r" b="b"/>
              <a:pathLst>
                <a:path w="318" h="214">
                  <a:moveTo>
                    <a:pt x="128" y="27"/>
                  </a:moveTo>
                  <a:lnTo>
                    <a:pt x="159" y="37"/>
                  </a:lnTo>
                  <a:lnTo>
                    <a:pt x="190" y="46"/>
                  </a:lnTo>
                  <a:lnTo>
                    <a:pt x="220" y="54"/>
                  </a:lnTo>
                  <a:lnTo>
                    <a:pt x="251" y="64"/>
                  </a:lnTo>
                  <a:lnTo>
                    <a:pt x="282" y="73"/>
                  </a:lnTo>
                  <a:lnTo>
                    <a:pt x="311" y="85"/>
                  </a:lnTo>
                  <a:lnTo>
                    <a:pt x="311" y="85"/>
                  </a:lnTo>
                  <a:lnTo>
                    <a:pt x="314" y="96"/>
                  </a:lnTo>
                  <a:lnTo>
                    <a:pt x="316" y="108"/>
                  </a:lnTo>
                  <a:lnTo>
                    <a:pt x="318" y="119"/>
                  </a:lnTo>
                  <a:lnTo>
                    <a:pt x="318" y="119"/>
                  </a:lnTo>
                  <a:lnTo>
                    <a:pt x="314" y="129"/>
                  </a:lnTo>
                  <a:lnTo>
                    <a:pt x="313" y="137"/>
                  </a:lnTo>
                  <a:lnTo>
                    <a:pt x="305" y="142"/>
                  </a:lnTo>
                  <a:lnTo>
                    <a:pt x="305" y="142"/>
                  </a:lnTo>
                  <a:lnTo>
                    <a:pt x="295" y="139"/>
                  </a:lnTo>
                  <a:lnTo>
                    <a:pt x="286" y="135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76" y="150"/>
                  </a:lnTo>
                  <a:lnTo>
                    <a:pt x="282" y="167"/>
                  </a:lnTo>
                  <a:lnTo>
                    <a:pt x="284" y="185"/>
                  </a:lnTo>
                  <a:lnTo>
                    <a:pt x="284" y="185"/>
                  </a:lnTo>
                  <a:lnTo>
                    <a:pt x="288" y="194"/>
                  </a:lnTo>
                  <a:lnTo>
                    <a:pt x="286" y="204"/>
                  </a:lnTo>
                  <a:lnTo>
                    <a:pt x="282" y="214"/>
                  </a:lnTo>
                  <a:lnTo>
                    <a:pt x="282" y="214"/>
                  </a:lnTo>
                  <a:lnTo>
                    <a:pt x="276" y="210"/>
                  </a:lnTo>
                  <a:lnTo>
                    <a:pt x="268" y="206"/>
                  </a:lnTo>
                  <a:lnTo>
                    <a:pt x="263" y="202"/>
                  </a:lnTo>
                  <a:lnTo>
                    <a:pt x="263" y="202"/>
                  </a:lnTo>
                  <a:lnTo>
                    <a:pt x="255" y="194"/>
                  </a:lnTo>
                  <a:lnTo>
                    <a:pt x="245" y="187"/>
                  </a:lnTo>
                  <a:lnTo>
                    <a:pt x="238" y="179"/>
                  </a:lnTo>
                  <a:lnTo>
                    <a:pt x="228" y="173"/>
                  </a:lnTo>
                  <a:lnTo>
                    <a:pt x="220" y="166"/>
                  </a:lnTo>
                  <a:lnTo>
                    <a:pt x="211" y="160"/>
                  </a:lnTo>
                  <a:lnTo>
                    <a:pt x="203" y="154"/>
                  </a:lnTo>
                  <a:lnTo>
                    <a:pt x="194" y="146"/>
                  </a:lnTo>
                  <a:lnTo>
                    <a:pt x="184" y="141"/>
                  </a:lnTo>
                  <a:lnTo>
                    <a:pt x="176" y="133"/>
                  </a:lnTo>
                  <a:lnTo>
                    <a:pt x="167" y="127"/>
                  </a:lnTo>
                  <a:lnTo>
                    <a:pt x="159" y="119"/>
                  </a:lnTo>
                  <a:lnTo>
                    <a:pt x="159" y="119"/>
                  </a:lnTo>
                  <a:lnTo>
                    <a:pt x="148" y="114"/>
                  </a:lnTo>
                  <a:lnTo>
                    <a:pt x="138" y="106"/>
                  </a:lnTo>
                  <a:lnTo>
                    <a:pt x="126" y="98"/>
                  </a:lnTo>
                  <a:lnTo>
                    <a:pt x="117" y="93"/>
                  </a:lnTo>
                  <a:lnTo>
                    <a:pt x="105" y="85"/>
                  </a:lnTo>
                  <a:lnTo>
                    <a:pt x="94" y="81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82" y="79"/>
                  </a:lnTo>
                  <a:lnTo>
                    <a:pt x="78" y="79"/>
                  </a:lnTo>
                  <a:lnTo>
                    <a:pt x="76" y="77"/>
                  </a:lnTo>
                  <a:lnTo>
                    <a:pt x="76" y="77"/>
                  </a:lnTo>
                  <a:lnTo>
                    <a:pt x="75" y="77"/>
                  </a:lnTo>
                  <a:lnTo>
                    <a:pt x="73" y="75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1"/>
                  </a:lnTo>
                  <a:lnTo>
                    <a:pt x="71" y="69"/>
                  </a:lnTo>
                  <a:lnTo>
                    <a:pt x="69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57" y="66"/>
                  </a:lnTo>
                  <a:lnTo>
                    <a:pt x="48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0" y="52"/>
                  </a:lnTo>
                  <a:lnTo>
                    <a:pt x="21" y="4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7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5" y="41"/>
                  </a:lnTo>
                  <a:lnTo>
                    <a:pt x="9" y="39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48" y="8"/>
                  </a:lnTo>
                  <a:lnTo>
                    <a:pt x="75" y="16"/>
                  </a:lnTo>
                  <a:lnTo>
                    <a:pt x="101" y="21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7611840" y="3191040"/>
              <a:ext cx="6840" cy="111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114240" y="3074400"/>
              <a:ext cx="5760" cy="11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7479000" y="3188160"/>
              <a:ext cx="112680" cy="273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68" y="10"/>
                  </a:moveTo>
                  <a:lnTo>
                    <a:pt x="71" y="11"/>
                  </a:lnTo>
                  <a:lnTo>
                    <a:pt x="75" y="15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8" y="10"/>
                  </a:ln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112800" y="3094560"/>
              <a:ext cx="396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8099640" y="3278520"/>
              <a:ext cx="29520" cy="169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4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0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8063640" y="3272760"/>
              <a:ext cx="1152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122520" y="3121920"/>
              <a:ext cx="1440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4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8053920" y="3292920"/>
              <a:ext cx="3960" cy="11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104160" y="3140640"/>
              <a:ext cx="1511640" cy="817200"/>
            </a:xfrm>
            <a:custGeom>
              <a:avLst/>
              <a:gdLst/>
              <a:ahLst/>
              <a:rect l="l" t="t" r="r" b="b"/>
              <a:pathLst>
                <a:path w="1057" h="569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42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75" y="23"/>
                  </a:lnTo>
                  <a:lnTo>
                    <a:pt x="86" y="29"/>
                  </a:lnTo>
                  <a:lnTo>
                    <a:pt x="96" y="35"/>
                  </a:lnTo>
                  <a:lnTo>
                    <a:pt x="105" y="41"/>
                  </a:lnTo>
                  <a:lnTo>
                    <a:pt x="117" y="48"/>
                  </a:lnTo>
                  <a:lnTo>
                    <a:pt x="126" y="54"/>
                  </a:lnTo>
                  <a:lnTo>
                    <a:pt x="136" y="62"/>
                  </a:lnTo>
                  <a:lnTo>
                    <a:pt x="146" y="69"/>
                  </a:lnTo>
                  <a:lnTo>
                    <a:pt x="153" y="79"/>
                  </a:lnTo>
                  <a:lnTo>
                    <a:pt x="163" y="87"/>
                  </a:lnTo>
                  <a:lnTo>
                    <a:pt x="171" y="96"/>
                  </a:lnTo>
                  <a:lnTo>
                    <a:pt x="178" y="106"/>
                  </a:lnTo>
                  <a:lnTo>
                    <a:pt x="186" y="114"/>
                  </a:lnTo>
                  <a:lnTo>
                    <a:pt x="194" y="123"/>
                  </a:lnTo>
                  <a:lnTo>
                    <a:pt x="199" y="135"/>
                  </a:lnTo>
                  <a:lnTo>
                    <a:pt x="207" y="144"/>
                  </a:lnTo>
                  <a:lnTo>
                    <a:pt x="213" y="154"/>
                  </a:lnTo>
                  <a:lnTo>
                    <a:pt x="219" y="165"/>
                  </a:lnTo>
                  <a:lnTo>
                    <a:pt x="224" y="175"/>
                  </a:lnTo>
                  <a:lnTo>
                    <a:pt x="228" y="187"/>
                  </a:lnTo>
                  <a:lnTo>
                    <a:pt x="232" y="196"/>
                  </a:lnTo>
                  <a:lnTo>
                    <a:pt x="236" y="208"/>
                  </a:lnTo>
                  <a:lnTo>
                    <a:pt x="240" y="219"/>
                  </a:lnTo>
                  <a:lnTo>
                    <a:pt x="240" y="219"/>
                  </a:lnTo>
                  <a:lnTo>
                    <a:pt x="242" y="227"/>
                  </a:lnTo>
                  <a:lnTo>
                    <a:pt x="242" y="237"/>
                  </a:lnTo>
                  <a:lnTo>
                    <a:pt x="244" y="244"/>
                  </a:lnTo>
                  <a:lnTo>
                    <a:pt x="244" y="244"/>
                  </a:lnTo>
                  <a:lnTo>
                    <a:pt x="278" y="250"/>
                  </a:lnTo>
                  <a:lnTo>
                    <a:pt x="311" y="256"/>
                  </a:lnTo>
                  <a:lnTo>
                    <a:pt x="345" y="261"/>
                  </a:lnTo>
                  <a:lnTo>
                    <a:pt x="345" y="261"/>
                  </a:lnTo>
                  <a:lnTo>
                    <a:pt x="530" y="292"/>
                  </a:lnTo>
                  <a:lnTo>
                    <a:pt x="758" y="331"/>
                  </a:lnTo>
                  <a:lnTo>
                    <a:pt x="1057" y="382"/>
                  </a:lnTo>
                  <a:lnTo>
                    <a:pt x="1054" y="384"/>
                  </a:lnTo>
                  <a:lnTo>
                    <a:pt x="944" y="382"/>
                  </a:lnTo>
                  <a:lnTo>
                    <a:pt x="835" y="373"/>
                  </a:lnTo>
                  <a:lnTo>
                    <a:pt x="729" y="354"/>
                  </a:lnTo>
                  <a:lnTo>
                    <a:pt x="729" y="354"/>
                  </a:lnTo>
                  <a:lnTo>
                    <a:pt x="685" y="348"/>
                  </a:lnTo>
                  <a:lnTo>
                    <a:pt x="639" y="342"/>
                  </a:lnTo>
                  <a:lnTo>
                    <a:pt x="595" y="344"/>
                  </a:lnTo>
                  <a:lnTo>
                    <a:pt x="595" y="344"/>
                  </a:lnTo>
                  <a:lnTo>
                    <a:pt x="589" y="350"/>
                  </a:lnTo>
                  <a:lnTo>
                    <a:pt x="587" y="357"/>
                  </a:lnTo>
                  <a:lnTo>
                    <a:pt x="589" y="363"/>
                  </a:lnTo>
                  <a:lnTo>
                    <a:pt x="591" y="371"/>
                  </a:lnTo>
                  <a:lnTo>
                    <a:pt x="593" y="379"/>
                  </a:lnTo>
                  <a:lnTo>
                    <a:pt x="597" y="384"/>
                  </a:lnTo>
                  <a:lnTo>
                    <a:pt x="601" y="392"/>
                  </a:lnTo>
                  <a:lnTo>
                    <a:pt x="601" y="392"/>
                  </a:lnTo>
                  <a:lnTo>
                    <a:pt x="601" y="394"/>
                  </a:lnTo>
                  <a:lnTo>
                    <a:pt x="602" y="394"/>
                  </a:lnTo>
                  <a:lnTo>
                    <a:pt x="604" y="394"/>
                  </a:lnTo>
                  <a:lnTo>
                    <a:pt x="604" y="394"/>
                  </a:lnTo>
                  <a:lnTo>
                    <a:pt x="606" y="392"/>
                  </a:lnTo>
                  <a:lnTo>
                    <a:pt x="604" y="388"/>
                  </a:lnTo>
                  <a:lnTo>
                    <a:pt x="604" y="384"/>
                  </a:lnTo>
                  <a:lnTo>
                    <a:pt x="604" y="384"/>
                  </a:lnTo>
                  <a:lnTo>
                    <a:pt x="599" y="373"/>
                  </a:lnTo>
                  <a:lnTo>
                    <a:pt x="593" y="363"/>
                  </a:lnTo>
                  <a:lnTo>
                    <a:pt x="597" y="350"/>
                  </a:lnTo>
                  <a:lnTo>
                    <a:pt x="597" y="350"/>
                  </a:lnTo>
                  <a:lnTo>
                    <a:pt x="631" y="348"/>
                  </a:lnTo>
                  <a:lnTo>
                    <a:pt x="666" y="350"/>
                  </a:lnTo>
                  <a:lnTo>
                    <a:pt x="698" y="359"/>
                  </a:lnTo>
                  <a:lnTo>
                    <a:pt x="729" y="371"/>
                  </a:lnTo>
                  <a:lnTo>
                    <a:pt x="729" y="371"/>
                  </a:lnTo>
                  <a:lnTo>
                    <a:pt x="731" y="379"/>
                  </a:lnTo>
                  <a:lnTo>
                    <a:pt x="727" y="386"/>
                  </a:lnTo>
                  <a:lnTo>
                    <a:pt x="721" y="392"/>
                  </a:lnTo>
                  <a:lnTo>
                    <a:pt x="721" y="392"/>
                  </a:lnTo>
                  <a:lnTo>
                    <a:pt x="700" y="427"/>
                  </a:lnTo>
                  <a:lnTo>
                    <a:pt x="693" y="425"/>
                  </a:lnTo>
                  <a:lnTo>
                    <a:pt x="685" y="425"/>
                  </a:lnTo>
                  <a:lnTo>
                    <a:pt x="679" y="427"/>
                  </a:lnTo>
                  <a:lnTo>
                    <a:pt x="679" y="427"/>
                  </a:lnTo>
                  <a:lnTo>
                    <a:pt x="618" y="415"/>
                  </a:lnTo>
                  <a:lnTo>
                    <a:pt x="616" y="415"/>
                  </a:lnTo>
                  <a:lnTo>
                    <a:pt x="616" y="417"/>
                  </a:lnTo>
                  <a:lnTo>
                    <a:pt x="616" y="419"/>
                  </a:lnTo>
                  <a:lnTo>
                    <a:pt x="616" y="419"/>
                  </a:lnTo>
                  <a:lnTo>
                    <a:pt x="618" y="421"/>
                  </a:lnTo>
                  <a:lnTo>
                    <a:pt x="652" y="427"/>
                  </a:lnTo>
                  <a:lnTo>
                    <a:pt x="685" y="432"/>
                  </a:lnTo>
                  <a:lnTo>
                    <a:pt x="716" y="440"/>
                  </a:lnTo>
                  <a:lnTo>
                    <a:pt x="716" y="440"/>
                  </a:lnTo>
                  <a:lnTo>
                    <a:pt x="716" y="482"/>
                  </a:lnTo>
                  <a:lnTo>
                    <a:pt x="714" y="526"/>
                  </a:lnTo>
                  <a:lnTo>
                    <a:pt x="712" y="569"/>
                  </a:lnTo>
                  <a:lnTo>
                    <a:pt x="712" y="569"/>
                  </a:lnTo>
                  <a:lnTo>
                    <a:pt x="675" y="565"/>
                  </a:lnTo>
                  <a:lnTo>
                    <a:pt x="641" y="559"/>
                  </a:lnTo>
                  <a:lnTo>
                    <a:pt x="606" y="551"/>
                  </a:lnTo>
                  <a:lnTo>
                    <a:pt x="606" y="551"/>
                  </a:lnTo>
                  <a:lnTo>
                    <a:pt x="604" y="550"/>
                  </a:lnTo>
                  <a:lnTo>
                    <a:pt x="604" y="502"/>
                  </a:lnTo>
                  <a:lnTo>
                    <a:pt x="604" y="454"/>
                  </a:lnTo>
                  <a:lnTo>
                    <a:pt x="606" y="407"/>
                  </a:lnTo>
                  <a:lnTo>
                    <a:pt x="606" y="407"/>
                  </a:lnTo>
                  <a:lnTo>
                    <a:pt x="612" y="396"/>
                  </a:lnTo>
                  <a:lnTo>
                    <a:pt x="643" y="400"/>
                  </a:lnTo>
                  <a:lnTo>
                    <a:pt x="673" y="406"/>
                  </a:lnTo>
                  <a:lnTo>
                    <a:pt x="704" y="411"/>
                  </a:lnTo>
                  <a:lnTo>
                    <a:pt x="704" y="411"/>
                  </a:lnTo>
                  <a:lnTo>
                    <a:pt x="708" y="398"/>
                  </a:lnTo>
                  <a:lnTo>
                    <a:pt x="716" y="386"/>
                  </a:lnTo>
                  <a:lnTo>
                    <a:pt x="723" y="373"/>
                  </a:lnTo>
                  <a:lnTo>
                    <a:pt x="723" y="373"/>
                  </a:lnTo>
                  <a:lnTo>
                    <a:pt x="702" y="361"/>
                  </a:lnTo>
                  <a:lnTo>
                    <a:pt x="677" y="356"/>
                  </a:lnTo>
                  <a:lnTo>
                    <a:pt x="652" y="352"/>
                  </a:lnTo>
                  <a:lnTo>
                    <a:pt x="625" y="350"/>
                  </a:lnTo>
                  <a:lnTo>
                    <a:pt x="625" y="350"/>
                  </a:lnTo>
                  <a:lnTo>
                    <a:pt x="618" y="352"/>
                  </a:lnTo>
                  <a:lnTo>
                    <a:pt x="610" y="354"/>
                  </a:lnTo>
                  <a:lnTo>
                    <a:pt x="606" y="359"/>
                  </a:lnTo>
                  <a:lnTo>
                    <a:pt x="606" y="359"/>
                  </a:lnTo>
                  <a:lnTo>
                    <a:pt x="604" y="369"/>
                  </a:lnTo>
                  <a:lnTo>
                    <a:pt x="604" y="377"/>
                  </a:lnTo>
                  <a:lnTo>
                    <a:pt x="604" y="386"/>
                  </a:lnTo>
                  <a:lnTo>
                    <a:pt x="604" y="386"/>
                  </a:lnTo>
                  <a:lnTo>
                    <a:pt x="606" y="392"/>
                  </a:lnTo>
                  <a:lnTo>
                    <a:pt x="604" y="398"/>
                  </a:lnTo>
                  <a:lnTo>
                    <a:pt x="601" y="404"/>
                  </a:lnTo>
                  <a:lnTo>
                    <a:pt x="601" y="404"/>
                  </a:lnTo>
                  <a:lnTo>
                    <a:pt x="599" y="404"/>
                  </a:lnTo>
                  <a:lnTo>
                    <a:pt x="595" y="404"/>
                  </a:lnTo>
                  <a:lnTo>
                    <a:pt x="593" y="406"/>
                  </a:lnTo>
                  <a:lnTo>
                    <a:pt x="593" y="406"/>
                  </a:lnTo>
                  <a:lnTo>
                    <a:pt x="595" y="407"/>
                  </a:lnTo>
                  <a:lnTo>
                    <a:pt x="597" y="407"/>
                  </a:lnTo>
                  <a:lnTo>
                    <a:pt x="601" y="407"/>
                  </a:lnTo>
                  <a:lnTo>
                    <a:pt x="601" y="407"/>
                  </a:lnTo>
                  <a:lnTo>
                    <a:pt x="601" y="409"/>
                  </a:lnTo>
                  <a:lnTo>
                    <a:pt x="601" y="413"/>
                  </a:lnTo>
                  <a:lnTo>
                    <a:pt x="601" y="415"/>
                  </a:lnTo>
                  <a:lnTo>
                    <a:pt x="601" y="415"/>
                  </a:lnTo>
                  <a:lnTo>
                    <a:pt x="445" y="384"/>
                  </a:lnTo>
                  <a:lnTo>
                    <a:pt x="278" y="356"/>
                  </a:lnTo>
                  <a:lnTo>
                    <a:pt x="109" y="329"/>
                  </a:lnTo>
                  <a:lnTo>
                    <a:pt x="98" y="329"/>
                  </a:lnTo>
                  <a:lnTo>
                    <a:pt x="88" y="325"/>
                  </a:lnTo>
                  <a:lnTo>
                    <a:pt x="78" y="321"/>
                  </a:lnTo>
                  <a:lnTo>
                    <a:pt x="69" y="315"/>
                  </a:lnTo>
                  <a:lnTo>
                    <a:pt x="61" y="309"/>
                  </a:lnTo>
                  <a:lnTo>
                    <a:pt x="54" y="302"/>
                  </a:lnTo>
                  <a:lnTo>
                    <a:pt x="46" y="294"/>
                  </a:lnTo>
                  <a:lnTo>
                    <a:pt x="40" y="286"/>
                  </a:lnTo>
                  <a:lnTo>
                    <a:pt x="34" y="277"/>
                  </a:lnTo>
                  <a:lnTo>
                    <a:pt x="29" y="267"/>
                  </a:lnTo>
                  <a:lnTo>
                    <a:pt x="23" y="258"/>
                  </a:lnTo>
                  <a:lnTo>
                    <a:pt x="17" y="248"/>
                  </a:lnTo>
                  <a:lnTo>
                    <a:pt x="13" y="240"/>
                  </a:lnTo>
                  <a:lnTo>
                    <a:pt x="9" y="231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0" y="171"/>
                  </a:lnTo>
                  <a:lnTo>
                    <a:pt x="0" y="11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8058240" y="3307320"/>
              <a:ext cx="32760" cy="495360"/>
            </a:xfrm>
            <a:custGeom>
              <a:avLst/>
              <a:gdLst/>
              <a:ahLst/>
              <a:rect l="l" t="t" r="r" b="b"/>
              <a:pathLst>
                <a:path w="23" h="345">
                  <a:moveTo>
                    <a:pt x="23" y="5"/>
                  </a:moveTo>
                  <a:lnTo>
                    <a:pt x="23" y="7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4" y="11"/>
                  </a:lnTo>
                  <a:lnTo>
                    <a:pt x="18" y="19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2" y="288"/>
                  </a:lnTo>
                  <a:lnTo>
                    <a:pt x="12" y="345"/>
                  </a:lnTo>
                  <a:lnTo>
                    <a:pt x="10" y="324"/>
                  </a:lnTo>
                  <a:lnTo>
                    <a:pt x="8" y="303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28"/>
                  </a:lnTo>
                  <a:lnTo>
                    <a:pt x="4" y="174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4" y="86"/>
                  </a:lnTo>
                  <a:lnTo>
                    <a:pt x="6" y="5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10" y="9"/>
                  </a:lnTo>
                  <a:lnTo>
                    <a:pt x="14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8045280" y="330840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112800" y="3151800"/>
              <a:ext cx="1080" cy="86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8045280" y="33289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112800" y="3173760"/>
              <a:ext cx="1080" cy="82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260040" y="318492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282720" y="3199320"/>
              <a:ext cx="1296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5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8042400" y="335016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4"/>
                  </a:move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8105400" y="3356280"/>
              <a:ext cx="21240" cy="356040"/>
            </a:xfrm>
            <a:custGeom>
              <a:avLst/>
              <a:gdLst/>
              <a:ahLst/>
              <a:rect l="l" t="t" r="r" b="b"/>
              <a:pathLst>
                <a:path w="15" h="248">
                  <a:moveTo>
                    <a:pt x="12" y="42"/>
                  </a:moveTo>
                  <a:lnTo>
                    <a:pt x="13" y="83"/>
                  </a:lnTo>
                  <a:lnTo>
                    <a:pt x="13" y="125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2" y="171"/>
                  </a:lnTo>
                  <a:lnTo>
                    <a:pt x="8" y="198"/>
                  </a:lnTo>
                  <a:lnTo>
                    <a:pt x="6" y="223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46"/>
                  </a:lnTo>
                  <a:lnTo>
                    <a:pt x="2" y="0"/>
                  </a:lnTo>
                  <a:lnTo>
                    <a:pt x="4" y="15"/>
                  </a:lnTo>
                  <a:lnTo>
                    <a:pt x="6" y="29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304320" y="3218040"/>
              <a:ext cx="1152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109920" y="32065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317280" y="3229560"/>
              <a:ext cx="11160" cy="9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7"/>
                  </a:moveTo>
                  <a:lnTo>
                    <a:pt x="6" y="7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8048160" y="3373560"/>
              <a:ext cx="288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109920" y="3226680"/>
              <a:ext cx="2880" cy="8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334560" y="324252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8045280" y="338904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348600" y="3262680"/>
              <a:ext cx="12960" cy="100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6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112800" y="3242520"/>
              <a:ext cx="1080" cy="11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364440" y="327564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6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109920" y="326268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6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78840" y="3292920"/>
              <a:ext cx="9720" cy="11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6"/>
                  </a:moveTo>
                  <a:lnTo>
                    <a:pt x="7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109920" y="32785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391440" y="3311640"/>
              <a:ext cx="1152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8042400" y="3446280"/>
              <a:ext cx="5760" cy="144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8099640" y="3461040"/>
              <a:ext cx="1080" cy="82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406200" y="3331800"/>
              <a:ext cx="828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7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418800" y="3353040"/>
              <a:ext cx="864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109920" y="333720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427440" y="3370320"/>
              <a:ext cx="828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761960" y="3488040"/>
              <a:ext cx="1116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747920" y="349668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436080" y="3391920"/>
              <a:ext cx="864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734960" y="3505320"/>
              <a:ext cx="1116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109920" y="337608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158520" y="3391920"/>
              <a:ext cx="455760" cy="218160"/>
            </a:xfrm>
            <a:custGeom>
              <a:avLst/>
              <a:gdLst/>
              <a:ahLst/>
              <a:rect l="l" t="t" r="r" b="b"/>
              <a:pathLst>
                <a:path w="319" h="152">
                  <a:moveTo>
                    <a:pt x="161" y="92"/>
                  </a:moveTo>
                  <a:lnTo>
                    <a:pt x="207" y="104"/>
                  </a:lnTo>
                  <a:lnTo>
                    <a:pt x="254" y="113"/>
                  </a:lnTo>
                  <a:lnTo>
                    <a:pt x="300" y="123"/>
                  </a:lnTo>
                  <a:lnTo>
                    <a:pt x="300" y="123"/>
                  </a:lnTo>
                  <a:lnTo>
                    <a:pt x="307" y="123"/>
                  </a:lnTo>
                  <a:lnTo>
                    <a:pt x="313" y="123"/>
                  </a:lnTo>
                  <a:lnTo>
                    <a:pt x="319" y="127"/>
                  </a:lnTo>
                  <a:lnTo>
                    <a:pt x="319" y="127"/>
                  </a:lnTo>
                  <a:lnTo>
                    <a:pt x="319" y="134"/>
                  </a:lnTo>
                  <a:lnTo>
                    <a:pt x="317" y="14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01" y="152"/>
                  </a:lnTo>
                  <a:lnTo>
                    <a:pt x="290" y="148"/>
                  </a:lnTo>
                  <a:lnTo>
                    <a:pt x="278" y="146"/>
                  </a:lnTo>
                  <a:lnTo>
                    <a:pt x="278" y="146"/>
                  </a:lnTo>
                  <a:lnTo>
                    <a:pt x="219" y="140"/>
                  </a:lnTo>
                  <a:lnTo>
                    <a:pt x="159" y="136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83" y="125"/>
                  </a:lnTo>
                  <a:lnTo>
                    <a:pt x="65" y="117"/>
                  </a:lnTo>
                  <a:lnTo>
                    <a:pt x="50" y="108"/>
                  </a:lnTo>
                  <a:lnTo>
                    <a:pt x="33" y="100"/>
                  </a:lnTo>
                  <a:lnTo>
                    <a:pt x="33" y="100"/>
                  </a:lnTo>
                  <a:lnTo>
                    <a:pt x="23" y="92"/>
                  </a:lnTo>
                  <a:lnTo>
                    <a:pt x="16" y="85"/>
                  </a:lnTo>
                  <a:lnTo>
                    <a:pt x="8" y="75"/>
                  </a:lnTo>
                  <a:lnTo>
                    <a:pt x="2" y="65"/>
                  </a:lnTo>
                  <a:lnTo>
                    <a:pt x="2" y="65"/>
                  </a:lnTo>
                  <a:lnTo>
                    <a:pt x="0" y="44"/>
                  </a:lnTo>
                  <a:lnTo>
                    <a:pt x="0" y="21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9" y="23"/>
                  </a:lnTo>
                  <a:lnTo>
                    <a:pt x="48" y="31"/>
                  </a:lnTo>
                  <a:lnTo>
                    <a:pt x="56" y="38"/>
                  </a:lnTo>
                  <a:lnTo>
                    <a:pt x="65" y="44"/>
                  </a:lnTo>
                  <a:lnTo>
                    <a:pt x="75" y="50"/>
                  </a:lnTo>
                  <a:lnTo>
                    <a:pt x="83" y="56"/>
                  </a:lnTo>
                  <a:lnTo>
                    <a:pt x="92" y="60"/>
                  </a:lnTo>
                  <a:lnTo>
                    <a:pt x="102" y="65"/>
                  </a:lnTo>
                  <a:lnTo>
                    <a:pt x="113" y="69"/>
                  </a:lnTo>
                  <a:lnTo>
                    <a:pt x="123" y="73"/>
                  </a:lnTo>
                  <a:lnTo>
                    <a:pt x="133" y="79"/>
                  </a:lnTo>
                  <a:lnTo>
                    <a:pt x="142" y="83"/>
                  </a:lnTo>
                  <a:lnTo>
                    <a:pt x="152" y="86"/>
                  </a:lnTo>
                  <a:lnTo>
                    <a:pt x="16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7720560" y="3521160"/>
              <a:ext cx="11160" cy="82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447240" y="341640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7710480" y="3532680"/>
              <a:ext cx="6840" cy="86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109920" y="3400560"/>
              <a:ext cx="3960" cy="129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454800" y="3439080"/>
              <a:ext cx="5400" cy="158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9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7696080" y="3544200"/>
              <a:ext cx="1116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6" y="4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112800" y="3427920"/>
              <a:ext cx="3960" cy="86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7684920" y="3557160"/>
              <a:ext cx="828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2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8099640" y="3596040"/>
              <a:ext cx="2880" cy="86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457320" y="3461040"/>
              <a:ext cx="36000" cy="24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6" y="1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15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117120" y="3445200"/>
              <a:ext cx="2880" cy="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3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7671960" y="3574440"/>
              <a:ext cx="8640" cy="100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01960" y="348264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526080" y="34855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551640" y="3488040"/>
              <a:ext cx="12960" cy="8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9" y="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576120" y="349380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597360" y="349992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627600" y="350244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656400" y="35053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11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122520" y="346104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4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7660440" y="3589920"/>
              <a:ext cx="828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683400" y="3511080"/>
              <a:ext cx="15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3"/>
                  </a:moveTo>
                  <a:lnTo>
                    <a:pt x="7" y="5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707880" y="3515400"/>
              <a:ext cx="21240" cy="86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6"/>
                  </a:moveTo>
                  <a:lnTo>
                    <a:pt x="10" y="6"/>
                  </a:lnTo>
                  <a:lnTo>
                    <a:pt x="6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734880" y="352116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757920" y="35269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7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782040" y="352980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128640" y="3477960"/>
              <a:ext cx="5760" cy="100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803640" y="353556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649280" y="3604680"/>
              <a:ext cx="828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833520" y="354132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856560" y="3547080"/>
              <a:ext cx="1260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2"/>
                  </a:moveTo>
                  <a:lnTo>
                    <a:pt x="7" y="3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878160" y="3549960"/>
              <a:ext cx="18360" cy="39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1"/>
                  </a:moveTo>
                  <a:lnTo>
                    <a:pt x="13" y="3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908040" y="355140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932160" y="3557160"/>
              <a:ext cx="19800" cy="576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2"/>
                  </a:moveTo>
                  <a:lnTo>
                    <a:pt x="14" y="4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963840" y="3560040"/>
              <a:ext cx="1584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8096760" y="3653280"/>
              <a:ext cx="2880" cy="259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2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990840" y="356544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139800" y="3496680"/>
              <a:ext cx="2880" cy="54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012440" y="356868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642080" y="3620160"/>
              <a:ext cx="396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3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109920" y="3496680"/>
              <a:ext cx="1803240" cy="1210680"/>
            </a:xfrm>
            <a:custGeom>
              <a:avLst/>
              <a:gdLst/>
              <a:ahLst/>
              <a:rect l="l" t="t" r="r" b="b"/>
              <a:pathLst>
                <a:path w="1261" h="843">
                  <a:moveTo>
                    <a:pt x="7" y="25"/>
                  </a:moveTo>
                  <a:lnTo>
                    <a:pt x="7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7" y="44"/>
                  </a:lnTo>
                  <a:lnTo>
                    <a:pt x="23" y="58"/>
                  </a:lnTo>
                  <a:lnTo>
                    <a:pt x="32" y="71"/>
                  </a:lnTo>
                  <a:lnTo>
                    <a:pt x="42" y="83"/>
                  </a:lnTo>
                  <a:lnTo>
                    <a:pt x="53" y="94"/>
                  </a:lnTo>
                  <a:lnTo>
                    <a:pt x="65" y="104"/>
                  </a:lnTo>
                  <a:lnTo>
                    <a:pt x="65" y="104"/>
                  </a:lnTo>
                  <a:lnTo>
                    <a:pt x="101" y="113"/>
                  </a:lnTo>
                  <a:lnTo>
                    <a:pt x="138" y="121"/>
                  </a:lnTo>
                  <a:lnTo>
                    <a:pt x="176" y="127"/>
                  </a:lnTo>
                  <a:lnTo>
                    <a:pt x="176" y="127"/>
                  </a:lnTo>
                  <a:lnTo>
                    <a:pt x="178" y="127"/>
                  </a:lnTo>
                  <a:lnTo>
                    <a:pt x="145" y="127"/>
                  </a:lnTo>
                  <a:lnTo>
                    <a:pt x="113" y="127"/>
                  </a:lnTo>
                  <a:lnTo>
                    <a:pt x="80" y="129"/>
                  </a:lnTo>
                  <a:lnTo>
                    <a:pt x="80" y="129"/>
                  </a:lnTo>
                  <a:lnTo>
                    <a:pt x="78" y="133"/>
                  </a:lnTo>
                  <a:lnTo>
                    <a:pt x="78" y="13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3" y="140"/>
                  </a:lnTo>
                  <a:lnTo>
                    <a:pt x="67" y="140"/>
                  </a:lnTo>
                  <a:lnTo>
                    <a:pt x="63" y="144"/>
                  </a:lnTo>
                  <a:lnTo>
                    <a:pt x="63" y="144"/>
                  </a:lnTo>
                  <a:lnTo>
                    <a:pt x="65" y="154"/>
                  </a:lnTo>
                  <a:lnTo>
                    <a:pt x="65" y="163"/>
                  </a:lnTo>
                  <a:lnTo>
                    <a:pt x="73" y="169"/>
                  </a:lnTo>
                  <a:lnTo>
                    <a:pt x="73" y="169"/>
                  </a:lnTo>
                  <a:lnTo>
                    <a:pt x="115" y="175"/>
                  </a:lnTo>
                  <a:lnTo>
                    <a:pt x="157" y="182"/>
                  </a:lnTo>
                  <a:lnTo>
                    <a:pt x="199" y="188"/>
                  </a:lnTo>
                  <a:lnTo>
                    <a:pt x="241" y="196"/>
                  </a:lnTo>
                  <a:lnTo>
                    <a:pt x="284" y="204"/>
                  </a:lnTo>
                  <a:lnTo>
                    <a:pt x="326" y="209"/>
                  </a:lnTo>
                  <a:lnTo>
                    <a:pt x="368" y="217"/>
                  </a:lnTo>
                  <a:lnTo>
                    <a:pt x="410" y="223"/>
                  </a:lnTo>
                  <a:lnTo>
                    <a:pt x="453" y="230"/>
                  </a:lnTo>
                  <a:lnTo>
                    <a:pt x="495" y="238"/>
                  </a:lnTo>
                  <a:lnTo>
                    <a:pt x="495" y="238"/>
                  </a:lnTo>
                  <a:lnTo>
                    <a:pt x="522" y="242"/>
                  </a:lnTo>
                  <a:lnTo>
                    <a:pt x="549" y="246"/>
                  </a:lnTo>
                  <a:lnTo>
                    <a:pt x="575" y="250"/>
                  </a:lnTo>
                  <a:lnTo>
                    <a:pt x="575" y="250"/>
                  </a:lnTo>
                  <a:lnTo>
                    <a:pt x="579" y="255"/>
                  </a:lnTo>
                  <a:lnTo>
                    <a:pt x="579" y="277"/>
                  </a:lnTo>
                  <a:lnTo>
                    <a:pt x="579" y="298"/>
                  </a:lnTo>
                  <a:lnTo>
                    <a:pt x="579" y="319"/>
                  </a:lnTo>
                  <a:lnTo>
                    <a:pt x="579" y="319"/>
                  </a:lnTo>
                  <a:lnTo>
                    <a:pt x="597" y="323"/>
                  </a:lnTo>
                  <a:lnTo>
                    <a:pt x="614" y="327"/>
                  </a:lnTo>
                  <a:lnTo>
                    <a:pt x="633" y="328"/>
                  </a:lnTo>
                  <a:lnTo>
                    <a:pt x="633" y="328"/>
                  </a:lnTo>
                  <a:lnTo>
                    <a:pt x="733" y="348"/>
                  </a:lnTo>
                  <a:lnTo>
                    <a:pt x="735" y="346"/>
                  </a:lnTo>
                  <a:lnTo>
                    <a:pt x="735" y="344"/>
                  </a:lnTo>
                  <a:lnTo>
                    <a:pt x="735" y="342"/>
                  </a:lnTo>
                  <a:lnTo>
                    <a:pt x="735" y="342"/>
                  </a:lnTo>
                  <a:lnTo>
                    <a:pt x="737" y="284"/>
                  </a:lnTo>
                  <a:lnTo>
                    <a:pt x="739" y="284"/>
                  </a:lnTo>
                  <a:lnTo>
                    <a:pt x="769" y="288"/>
                  </a:lnTo>
                  <a:lnTo>
                    <a:pt x="798" y="298"/>
                  </a:lnTo>
                  <a:lnTo>
                    <a:pt x="829" y="307"/>
                  </a:lnTo>
                  <a:lnTo>
                    <a:pt x="858" y="317"/>
                  </a:lnTo>
                  <a:lnTo>
                    <a:pt x="858" y="317"/>
                  </a:lnTo>
                  <a:lnTo>
                    <a:pt x="875" y="325"/>
                  </a:lnTo>
                  <a:lnTo>
                    <a:pt x="892" y="330"/>
                  </a:lnTo>
                  <a:lnTo>
                    <a:pt x="911" y="336"/>
                  </a:lnTo>
                  <a:lnTo>
                    <a:pt x="911" y="336"/>
                  </a:lnTo>
                  <a:lnTo>
                    <a:pt x="913" y="340"/>
                  </a:lnTo>
                  <a:lnTo>
                    <a:pt x="919" y="336"/>
                  </a:lnTo>
                  <a:lnTo>
                    <a:pt x="925" y="330"/>
                  </a:lnTo>
                  <a:lnTo>
                    <a:pt x="929" y="323"/>
                  </a:lnTo>
                  <a:lnTo>
                    <a:pt x="929" y="323"/>
                  </a:lnTo>
                  <a:lnTo>
                    <a:pt x="927" y="319"/>
                  </a:lnTo>
                  <a:lnTo>
                    <a:pt x="927" y="315"/>
                  </a:lnTo>
                  <a:lnTo>
                    <a:pt x="927" y="313"/>
                  </a:lnTo>
                  <a:lnTo>
                    <a:pt x="927" y="313"/>
                  </a:lnTo>
                  <a:lnTo>
                    <a:pt x="925" y="313"/>
                  </a:lnTo>
                  <a:lnTo>
                    <a:pt x="913" y="303"/>
                  </a:lnTo>
                  <a:lnTo>
                    <a:pt x="896" y="296"/>
                  </a:lnTo>
                  <a:lnTo>
                    <a:pt x="879" y="288"/>
                  </a:lnTo>
                  <a:lnTo>
                    <a:pt x="861" y="280"/>
                  </a:lnTo>
                  <a:lnTo>
                    <a:pt x="844" y="275"/>
                  </a:lnTo>
                  <a:lnTo>
                    <a:pt x="827" y="267"/>
                  </a:lnTo>
                  <a:lnTo>
                    <a:pt x="810" y="261"/>
                  </a:lnTo>
                  <a:lnTo>
                    <a:pt x="792" y="255"/>
                  </a:lnTo>
                  <a:lnTo>
                    <a:pt x="775" y="250"/>
                  </a:lnTo>
                  <a:lnTo>
                    <a:pt x="756" y="244"/>
                  </a:lnTo>
                  <a:lnTo>
                    <a:pt x="739" y="238"/>
                  </a:lnTo>
                  <a:lnTo>
                    <a:pt x="739" y="238"/>
                  </a:lnTo>
                  <a:lnTo>
                    <a:pt x="764" y="244"/>
                  </a:lnTo>
                  <a:lnTo>
                    <a:pt x="788" y="250"/>
                  </a:lnTo>
                  <a:lnTo>
                    <a:pt x="812" y="257"/>
                  </a:lnTo>
                  <a:lnTo>
                    <a:pt x="835" y="265"/>
                  </a:lnTo>
                  <a:lnTo>
                    <a:pt x="859" y="273"/>
                  </a:lnTo>
                  <a:lnTo>
                    <a:pt x="883" y="282"/>
                  </a:lnTo>
                  <a:lnTo>
                    <a:pt x="904" y="292"/>
                  </a:lnTo>
                  <a:lnTo>
                    <a:pt x="927" y="303"/>
                  </a:lnTo>
                  <a:lnTo>
                    <a:pt x="948" y="317"/>
                  </a:lnTo>
                  <a:lnTo>
                    <a:pt x="969" y="330"/>
                  </a:lnTo>
                  <a:lnTo>
                    <a:pt x="988" y="346"/>
                  </a:lnTo>
                  <a:lnTo>
                    <a:pt x="988" y="346"/>
                  </a:lnTo>
                  <a:lnTo>
                    <a:pt x="996" y="353"/>
                  </a:lnTo>
                  <a:lnTo>
                    <a:pt x="1003" y="361"/>
                  </a:lnTo>
                  <a:lnTo>
                    <a:pt x="1011" y="369"/>
                  </a:lnTo>
                  <a:lnTo>
                    <a:pt x="1021" y="375"/>
                  </a:lnTo>
                  <a:lnTo>
                    <a:pt x="1028" y="382"/>
                  </a:lnTo>
                  <a:lnTo>
                    <a:pt x="1036" y="388"/>
                  </a:lnTo>
                  <a:lnTo>
                    <a:pt x="1044" y="396"/>
                  </a:lnTo>
                  <a:lnTo>
                    <a:pt x="1053" y="401"/>
                  </a:lnTo>
                  <a:lnTo>
                    <a:pt x="1061" y="409"/>
                  </a:lnTo>
                  <a:lnTo>
                    <a:pt x="1069" y="415"/>
                  </a:lnTo>
                  <a:lnTo>
                    <a:pt x="1078" y="423"/>
                  </a:lnTo>
                  <a:lnTo>
                    <a:pt x="1086" y="430"/>
                  </a:lnTo>
                  <a:lnTo>
                    <a:pt x="1094" y="438"/>
                  </a:lnTo>
                  <a:lnTo>
                    <a:pt x="1099" y="446"/>
                  </a:lnTo>
                  <a:lnTo>
                    <a:pt x="1099" y="446"/>
                  </a:lnTo>
                  <a:lnTo>
                    <a:pt x="1107" y="453"/>
                  </a:lnTo>
                  <a:lnTo>
                    <a:pt x="1113" y="461"/>
                  </a:lnTo>
                  <a:lnTo>
                    <a:pt x="1119" y="469"/>
                  </a:lnTo>
                  <a:lnTo>
                    <a:pt x="1124" y="474"/>
                  </a:lnTo>
                  <a:lnTo>
                    <a:pt x="1130" y="482"/>
                  </a:lnTo>
                  <a:lnTo>
                    <a:pt x="1136" y="490"/>
                  </a:lnTo>
                  <a:lnTo>
                    <a:pt x="1144" y="497"/>
                  </a:lnTo>
                  <a:lnTo>
                    <a:pt x="1149" y="505"/>
                  </a:lnTo>
                  <a:lnTo>
                    <a:pt x="1155" y="513"/>
                  </a:lnTo>
                  <a:lnTo>
                    <a:pt x="1161" y="520"/>
                  </a:lnTo>
                  <a:lnTo>
                    <a:pt x="1167" y="528"/>
                  </a:lnTo>
                  <a:lnTo>
                    <a:pt x="1172" y="536"/>
                  </a:lnTo>
                  <a:lnTo>
                    <a:pt x="1178" y="544"/>
                  </a:lnTo>
                  <a:lnTo>
                    <a:pt x="1184" y="551"/>
                  </a:lnTo>
                  <a:lnTo>
                    <a:pt x="1190" y="559"/>
                  </a:lnTo>
                  <a:lnTo>
                    <a:pt x="1193" y="567"/>
                  </a:lnTo>
                  <a:lnTo>
                    <a:pt x="1199" y="574"/>
                  </a:lnTo>
                  <a:lnTo>
                    <a:pt x="1205" y="582"/>
                  </a:lnTo>
                  <a:lnTo>
                    <a:pt x="1209" y="590"/>
                  </a:lnTo>
                  <a:lnTo>
                    <a:pt x="1215" y="597"/>
                  </a:lnTo>
                  <a:lnTo>
                    <a:pt x="1218" y="607"/>
                  </a:lnTo>
                  <a:lnTo>
                    <a:pt x="1224" y="615"/>
                  </a:lnTo>
                  <a:lnTo>
                    <a:pt x="1228" y="622"/>
                  </a:lnTo>
                  <a:lnTo>
                    <a:pt x="1228" y="622"/>
                  </a:lnTo>
                  <a:lnTo>
                    <a:pt x="1232" y="628"/>
                  </a:lnTo>
                  <a:lnTo>
                    <a:pt x="1236" y="634"/>
                  </a:lnTo>
                  <a:lnTo>
                    <a:pt x="1240" y="641"/>
                  </a:lnTo>
                  <a:lnTo>
                    <a:pt x="1240" y="641"/>
                  </a:lnTo>
                  <a:lnTo>
                    <a:pt x="1232" y="634"/>
                  </a:lnTo>
                  <a:lnTo>
                    <a:pt x="1224" y="624"/>
                  </a:lnTo>
                  <a:lnTo>
                    <a:pt x="1217" y="616"/>
                  </a:lnTo>
                  <a:lnTo>
                    <a:pt x="1211" y="607"/>
                  </a:lnTo>
                  <a:lnTo>
                    <a:pt x="1203" y="597"/>
                  </a:lnTo>
                  <a:lnTo>
                    <a:pt x="1197" y="588"/>
                  </a:lnTo>
                  <a:lnTo>
                    <a:pt x="1190" y="580"/>
                  </a:lnTo>
                  <a:lnTo>
                    <a:pt x="1182" y="570"/>
                  </a:lnTo>
                  <a:lnTo>
                    <a:pt x="1176" y="563"/>
                  </a:lnTo>
                  <a:lnTo>
                    <a:pt x="1169" y="555"/>
                  </a:lnTo>
                  <a:lnTo>
                    <a:pt x="1161" y="547"/>
                  </a:lnTo>
                  <a:lnTo>
                    <a:pt x="1151" y="540"/>
                  </a:lnTo>
                  <a:lnTo>
                    <a:pt x="1144" y="534"/>
                  </a:lnTo>
                  <a:lnTo>
                    <a:pt x="1134" y="528"/>
                  </a:lnTo>
                  <a:lnTo>
                    <a:pt x="1124" y="524"/>
                  </a:lnTo>
                  <a:lnTo>
                    <a:pt x="1115" y="520"/>
                  </a:lnTo>
                  <a:lnTo>
                    <a:pt x="1103" y="519"/>
                  </a:lnTo>
                  <a:lnTo>
                    <a:pt x="1103" y="519"/>
                  </a:lnTo>
                  <a:lnTo>
                    <a:pt x="1096" y="520"/>
                  </a:lnTo>
                  <a:lnTo>
                    <a:pt x="1090" y="524"/>
                  </a:lnTo>
                  <a:lnTo>
                    <a:pt x="1086" y="530"/>
                  </a:lnTo>
                  <a:lnTo>
                    <a:pt x="1086" y="530"/>
                  </a:lnTo>
                  <a:lnTo>
                    <a:pt x="1086" y="534"/>
                  </a:lnTo>
                  <a:lnTo>
                    <a:pt x="1094" y="544"/>
                  </a:lnTo>
                  <a:lnTo>
                    <a:pt x="1101" y="551"/>
                  </a:lnTo>
                  <a:lnTo>
                    <a:pt x="1109" y="561"/>
                  </a:lnTo>
                  <a:lnTo>
                    <a:pt x="1117" y="570"/>
                  </a:lnTo>
                  <a:lnTo>
                    <a:pt x="1124" y="580"/>
                  </a:lnTo>
                  <a:lnTo>
                    <a:pt x="1130" y="590"/>
                  </a:lnTo>
                  <a:lnTo>
                    <a:pt x="1138" y="599"/>
                  </a:lnTo>
                  <a:lnTo>
                    <a:pt x="1144" y="609"/>
                  </a:lnTo>
                  <a:lnTo>
                    <a:pt x="1149" y="618"/>
                  </a:lnTo>
                  <a:lnTo>
                    <a:pt x="1155" y="628"/>
                  </a:lnTo>
                  <a:lnTo>
                    <a:pt x="1161" y="640"/>
                  </a:lnTo>
                  <a:lnTo>
                    <a:pt x="1165" y="649"/>
                  </a:lnTo>
                  <a:lnTo>
                    <a:pt x="1170" y="659"/>
                  </a:lnTo>
                  <a:lnTo>
                    <a:pt x="1176" y="670"/>
                  </a:lnTo>
                  <a:lnTo>
                    <a:pt x="1180" y="680"/>
                  </a:lnTo>
                  <a:lnTo>
                    <a:pt x="1184" y="689"/>
                  </a:lnTo>
                  <a:lnTo>
                    <a:pt x="1190" y="701"/>
                  </a:lnTo>
                  <a:lnTo>
                    <a:pt x="1193" y="711"/>
                  </a:lnTo>
                  <a:lnTo>
                    <a:pt x="1197" y="722"/>
                  </a:lnTo>
                  <a:lnTo>
                    <a:pt x="1203" y="732"/>
                  </a:lnTo>
                  <a:lnTo>
                    <a:pt x="1207" y="741"/>
                  </a:lnTo>
                  <a:lnTo>
                    <a:pt x="1211" y="753"/>
                  </a:lnTo>
                  <a:lnTo>
                    <a:pt x="1211" y="753"/>
                  </a:lnTo>
                  <a:lnTo>
                    <a:pt x="1217" y="774"/>
                  </a:lnTo>
                  <a:lnTo>
                    <a:pt x="1222" y="795"/>
                  </a:lnTo>
                  <a:lnTo>
                    <a:pt x="1226" y="816"/>
                  </a:lnTo>
                  <a:lnTo>
                    <a:pt x="1226" y="816"/>
                  </a:lnTo>
                  <a:lnTo>
                    <a:pt x="1222" y="816"/>
                  </a:lnTo>
                  <a:lnTo>
                    <a:pt x="1217" y="816"/>
                  </a:lnTo>
                  <a:lnTo>
                    <a:pt x="1215" y="818"/>
                  </a:lnTo>
                  <a:lnTo>
                    <a:pt x="1215" y="818"/>
                  </a:lnTo>
                  <a:lnTo>
                    <a:pt x="1218" y="820"/>
                  </a:lnTo>
                  <a:lnTo>
                    <a:pt x="1224" y="820"/>
                  </a:lnTo>
                  <a:lnTo>
                    <a:pt x="1228" y="822"/>
                  </a:lnTo>
                  <a:lnTo>
                    <a:pt x="1228" y="822"/>
                  </a:lnTo>
                  <a:lnTo>
                    <a:pt x="1234" y="830"/>
                  </a:lnTo>
                  <a:lnTo>
                    <a:pt x="1241" y="837"/>
                  </a:lnTo>
                  <a:lnTo>
                    <a:pt x="1251" y="839"/>
                  </a:lnTo>
                  <a:lnTo>
                    <a:pt x="1251" y="839"/>
                  </a:lnTo>
                  <a:lnTo>
                    <a:pt x="1261" y="839"/>
                  </a:lnTo>
                  <a:lnTo>
                    <a:pt x="1261" y="843"/>
                  </a:lnTo>
                  <a:lnTo>
                    <a:pt x="1132" y="818"/>
                  </a:lnTo>
                  <a:lnTo>
                    <a:pt x="984" y="789"/>
                  </a:lnTo>
                  <a:lnTo>
                    <a:pt x="393" y="674"/>
                  </a:lnTo>
                  <a:lnTo>
                    <a:pt x="84" y="615"/>
                  </a:lnTo>
                  <a:lnTo>
                    <a:pt x="82" y="605"/>
                  </a:lnTo>
                  <a:lnTo>
                    <a:pt x="80" y="595"/>
                  </a:lnTo>
                  <a:lnTo>
                    <a:pt x="76" y="588"/>
                  </a:lnTo>
                  <a:lnTo>
                    <a:pt x="76" y="588"/>
                  </a:lnTo>
                  <a:lnTo>
                    <a:pt x="59" y="582"/>
                  </a:lnTo>
                  <a:lnTo>
                    <a:pt x="42" y="578"/>
                  </a:lnTo>
                  <a:lnTo>
                    <a:pt x="25" y="574"/>
                  </a:lnTo>
                  <a:lnTo>
                    <a:pt x="25" y="574"/>
                  </a:lnTo>
                  <a:lnTo>
                    <a:pt x="25" y="551"/>
                  </a:lnTo>
                  <a:lnTo>
                    <a:pt x="25" y="526"/>
                  </a:lnTo>
                  <a:lnTo>
                    <a:pt x="13" y="507"/>
                  </a:lnTo>
                  <a:lnTo>
                    <a:pt x="13" y="507"/>
                  </a:lnTo>
                  <a:lnTo>
                    <a:pt x="13" y="505"/>
                  </a:lnTo>
                  <a:lnTo>
                    <a:pt x="13" y="503"/>
                  </a:lnTo>
                  <a:lnTo>
                    <a:pt x="11" y="501"/>
                  </a:lnTo>
                  <a:lnTo>
                    <a:pt x="11" y="501"/>
                  </a:lnTo>
                  <a:lnTo>
                    <a:pt x="9" y="505"/>
                  </a:lnTo>
                  <a:lnTo>
                    <a:pt x="3" y="505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3" y="8"/>
                  </a:lnTo>
                  <a:lnTo>
                    <a:pt x="7" y="1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036560" y="3574440"/>
              <a:ext cx="19800" cy="82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4"/>
                  </a:moveTo>
                  <a:lnTo>
                    <a:pt x="10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7065360" y="3580200"/>
              <a:ext cx="18720" cy="39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7092360" y="3582720"/>
              <a:ext cx="15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3"/>
                  </a:moveTo>
                  <a:lnTo>
                    <a:pt x="7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116840" y="35874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135560" y="3589920"/>
              <a:ext cx="1656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147000" y="3511080"/>
              <a:ext cx="8640" cy="12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3"/>
                  </a:lnTo>
                  <a:lnTo>
                    <a:pt x="4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161120" y="359604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7182720" y="3598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203960" y="36018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7224120" y="360468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630200" y="3640680"/>
              <a:ext cx="5760" cy="12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248600" y="3610080"/>
              <a:ext cx="16920" cy="8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4"/>
                  </a:moveTo>
                  <a:lnTo>
                    <a:pt x="12" y="6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275960" y="3616200"/>
              <a:ext cx="14040" cy="39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2"/>
                  </a:moveTo>
                  <a:lnTo>
                    <a:pt x="1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301520" y="362016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325640" y="36234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7344360" y="362916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2"/>
                  </a:move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161400" y="353268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367400" y="3631680"/>
              <a:ext cx="1548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9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391520" y="363744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1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410240" y="36406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619040" y="3659040"/>
              <a:ext cx="8280" cy="169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10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433280" y="364356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479000" y="365184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120000" y="3544200"/>
              <a:ext cx="5400" cy="158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7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8088120" y="3706560"/>
              <a:ext cx="14400" cy="730800"/>
            </a:xfrm>
            <a:custGeom>
              <a:avLst/>
              <a:gdLst/>
              <a:ahLst/>
              <a:rect l="l" t="t" r="r" b="b"/>
              <a:pathLst>
                <a:path w="10" h="509">
                  <a:moveTo>
                    <a:pt x="6" y="58"/>
                  </a:moveTo>
                  <a:lnTo>
                    <a:pt x="6" y="192"/>
                  </a:lnTo>
                  <a:lnTo>
                    <a:pt x="4" y="376"/>
                  </a:lnTo>
                  <a:lnTo>
                    <a:pt x="6" y="378"/>
                  </a:lnTo>
                  <a:lnTo>
                    <a:pt x="10" y="344"/>
                  </a:lnTo>
                  <a:lnTo>
                    <a:pt x="10" y="399"/>
                  </a:lnTo>
                  <a:lnTo>
                    <a:pt x="6" y="453"/>
                  </a:lnTo>
                  <a:lnTo>
                    <a:pt x="6" y="507"/>
                  </a:lnTo>
                  <a:lnTo>
                    <a:pt x="6" y="507"/>
                  </a:lnTo>
                  <a:lnTo>
                    <a:pt x="4" y="507"/>
                  </a:lnTo>
                  <a:lnTo>
                    <a:pt x="4" y="509"/>
                  </a:lnTo>
                  <a:lnTo>
                    <a:pt x="2" y="509"/>
                  </a:lnTo>
                  <a:lnTo>
                    <a:pt x="2" y="509"/>
                  </a:lnTo>
                  <a:lnTo>
                    <a:pt x="0" y="505"/>
                  </a:lnTo>
                  <a:lnTo>
                    <a:pt x="0" y="442"/>
                  </a:lnTo>
                  <a:lnTo>
                    <a:pt x="4" y="380"/>
                  </a:lnTo>
                  <a:lnTo>
                    <a:pt x="4" y="317"/>
                  </a:lnTo>
                  <a:lnTo>
                    <a:pt x="4" y="317"/>
                  </a:lnTo>
                  <a:lnTo>
                    <a:pt x="4" y="267"/>
                  </a:lnTo>
                  <a:lnTo>
                    <a:pt x="6" y="215"/>
                  </a:lnTo>
                  <a:lnTo>
                    <a:pt x="6" y="165"/>
                  </a:lnTo>
                  <a:lnTo>
                    <a:pt x="6" y="165"/>
                  </a:lnTo>
                  <a:lnTo>
                    <a:pt x="4" y="163"/>
                  </a:lnTo>
                  <a:lnTo>
                    <a:pt x="6" y="146"/>
                  </a:lnTo>
                  <a:lnTo>
                    <a:pt x="6" y="129"/>
                  </a:lnTo>
                  <a:lnTo>
                    <a:pt x="4" y="113"/>
                  </a:lnTo>
                  <a:lnTo>
                    <a:pt x="4" y="113"/>
                  </a:lnTo>
                  <a:lnTo>
                    <a:pt x="4" y="75"/>
                  </a:lnTo>
                  <a:lnTo>
                    <a:pt x="6" y="3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9"/>
                  </a:lnTo>
                  <a:lnTo>
                    <a:pt x="8" y="36"/>
                  </a:lnTo>
                  <a:lnTo>
                    <a:pt x="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178320" y="3549960"/>
              <a:ext cx="432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43080" y="366192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558920" y="36648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188400" y="3565440"/>
              <a:ext cx="864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4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122520" y="35629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205680" y="3580200"/>
              <a:ext cx="12960" cy="97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5"/>
                  </a:moveTo>
                  <a:lnTo>
                    <a:pt x="6" y="7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985440" y="3651840"/>
              <a:ext cx="104040" cy="2412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73" y="17"/>
                  </a:moveTo>
                  <a:lnTo>
                    <a:pt x="15" y="7"/>
                  </a:lnTo>
                  <a:lnTo>
                    <a:pt x="11" y="3"/>
                  </a:lnTo>
                  <a:lnTo>
                    <a:pt x="6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9" y="0"/>
                  </a:lnTo>
                  <a:lnTo>
                    <a:pt x="34" y="5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230160" y="35928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122520" y="358740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254280" y="35989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976800" y="3659040"/>
              <a:ext cx="5760" cy="86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4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277320" y="3601800"/>
              <a:ext cx="9720" cy="82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2"/>
                  </a:moveTo>
                  <a:lnTo>
                    <a:pt x="5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295680" y="360720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320160" y="3610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340320" y="361620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2360" y="3676320"/>
              <a:ext cx="21240" cy="82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2" y="0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361560" y="3619080"/>
              <a:ext cx="11160" cy="108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381720" y="36201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018200" y="3673440"/>
              <a:ext cx="27000" cy="5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0" y="0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414480" y="362628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430320" y="3629160"/>
              <a:ext cx="828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444720" y="36291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457320" y="36316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477480" y="36345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976800" y="3676320"/>
              <a:ext cx="112680" cy="3276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9" y="11"/>
                  </a:moveTo>
                  <a:lnTo>
                    <a:pt x="73" y="17"/>
                  </a:lnTo>
                  <a:lnTo>
                    <a:pt x="67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2" y="21"/>
                  </a:lnTo>
                  <a:lnTo>
                    <a:pt x="44" y="1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499080" y="36406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518880" y="364356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531840" y="364356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979680" y="3682080"/>
              <a:ext cx="65520" cy="126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46" y="7"/>
                  </a:moveTo>
                  <a:lnTo>
                    <a:pt x="46" y="9"/>
                  </a:lnTo>
                  <a:lnTo>
                    <a:pt x="31" y="9"/>
                  </a:lnTo>
                  <a:lnTo>
                    <a:pt x="15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7" y="2"/>
                  </a:lnTo>
                  <a:lnTo>
                    <a:pt x="33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554880" y="36460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122520" y="361296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573600" y="365184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946560" y="3697920"/>
              <a:ext cx="570600" cy="28728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179" y="16"/>
                  </a:moveTo>
                  <a:lnTo>
                    <a:pt x="180" y="23"/>
                  </a:lnTo>
                  <a:lnTo>
                    <a:pt x="182" y="31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205" y="42"/>
                  </a:lnTo>
                  <a:lnTo>
                    <a:pt x="228" y="44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76" y="52"/>
                  </a:lnTo>
                  <a:lnTo>
                    <a:pt x="301" y="58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71"/>
                  </a:lnTo>
                  <a:lnTo>
                    <a:pt x="332" y="75"/>
                  </a:lnTo>
                  <a:lnTo>
                    <a:pt x="336" y="75"/>
                  </a:lnTo>
                  <a:lnTo>
                    <a:pt x="336" y="75"/>
                  </a:lnTo>
                  <a:lnTo>
                    <a:pt x="338" y="75"/>
                  </a:lnTo>
                  <a:lnTo>
                    <a:pt x="338" y="77"/>
                  </a:lnTo>
                  <a:lnTo>
                    <a:pt x="340" y="77"/>
                  </a:lnTo>
                  <a:lnTo>
                    <a:pt x="340" y="77"/>
                  </a:lnTo>
                  <a:lnTo>
                    <a:pt x="332" y="77"/>
                  </a:lnTo>
                  <a:lnTo>
                    <a:pt x="332" y="79"/>
                  </a:lnTo>
                  <a:lnTo>
                    <a:pt x="334" y="79"/>
                  </a:lnTo>
                  <a:lnTo>
                    <a:pt x="334" y="81"/>
                  </a:lnTo>
                  <a:lnTo>
                    <a:pt x="334" y="81"/>
                  </a:lnTo>
                  <a:lnTo>
                    <a:pt x="342" y="81"/>
                  </a:lnTo>
                  <a:lnTo>
                    <a:pt x="346" y="77"/>
                  </a:lnTo>
                  <a:lnTo>
                    <a:pt x="351" y="79"/>
                  </a:lnTo>
                  <a:lnTo>
                    <a:pt x="351" y="79"/>
                  </a:lnTo>
                  <a:lnTo>
                    <a:pt x="344" y="79"/>
                  </a:lnTo>
                  <a:lnTo>
                    <a:pt x="349" y="83"/>
                  </a:lnTo>
                  <a:lnTo>
                    <a:pt x="357" y="85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74" y="87"/>
                  </a:lnTo>
                  <a:lnTo>
                    <a:pt x="388" y="87"/>
                  </a:lnTo>
                  <a:lnTo>
                    <a:pt x="399" y="92"/>
                  </a:lnTo>
                  <a:lnTo>
                    <a:pt x="399" y="92"/>
                  </a:lnTo>
                  <a:lnTo>
                    <a:pt x="370" y="89"/>
                  </a:lnTo>
                  <a:lnTo>
                    <a:pt x="173" y="54"/>
                  </a:lnTo>
                  <a:lnTo>
                    <a:pt x="165" y="52"/>
                  </a:lnTo>
                  <a:lnTo>
                    <a:pt x="155" y="50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8" y="100"/>
                  </a:lnTo>
                  <a:lnTo>
                    <a:pt x="146" y="150"/>
                  </a:lnTo>
                  <a:lnTo>
                    <a:pt x="144" y="200"/>
                  </a:lnTo>
                  <a:lnTo>
                    <a:pt x="144" y="200"/>
                  </a:lnTo>
                  <a:lnTo>
                    <a:pt x="96" y="192"/>
                  </a:lnTo>
                  <a:lnTo>
                    <a:pt x="48" y="185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27"/>
                  </a:lnTo>
                  <a:lnTo>
                    <a:pt x="2" y="8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2" y="35"/>
                  </a:lnTo>
                  <a:lnTo>
                    <a:pt x="10" y="79"/>
                  </a:lnTo>
                  <a:lnTo>
                    <a:pt x="10" y="123"/>
                  </a:lnTo>
                  <a:lnTo>
                    <a:pt x="10" y="167"/>
                  </a:lnTo>
                  <a:lnTo>
                    <a:pt x="10" y="167"/>
                  </a:lnTo>
                  <a:lnTo>
                    <a:pt x="50" y="175"/>
                  </a:lnTo>
                  <a:lnTo>
                    <a:pt x="90" y="183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31" y="188"/>
                  </a:lnTo>
                  <a:lnTo>
                    <a:pt x="132" y="188"/>
                  </a:lnTo>
                  <a:lnTo>
                    <a:pt x="132" y="187"/>
                  </a:lnTo>
                  <a:lnTo>
                    <a:pt x="132" y="187"/>
                  </a:lnTo>
                  <a:lnTo>
                    <a:pt x="134" y="140"/>
                  </a:lnTo>
                  <a:lnTo>
                    <a:pt x="136" y="94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34" y="46"/>
                  </a:lnTo>
                  <a:lnTo>
                    <a:pt x="127" y="44"/>
                  </a:lnTo>
                  <a:lnTo>
                    <a:pt x="119" y="41"/>
                  </a:lnTo>
                  <a:lnTo>
                    <a:pt x="119" y="41"/>
                  </a:lnTo>
                  <a:lnTo>
                    <a:pt x="121" y="37"/>
                  </a:lnTo>
                  <a:lnTo>
                    <a:pt x="123" y="39"/>
                  </a:lnTo>
                  <a:lnTo>
                    <a:pt x="127" y="39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32" y="39"/>
                  </a:lnTo>
                  <a:lnTo>
                    <a:pt x="131" y="35"/>
                  </a:lnTo>
                  <a:lnTo>
                    <a:pt x="127" y="35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31" y="23"/>
                  </a:lnTo>
                  <a:lnTo>
                    <a:pt x="136" y="1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4" y="8"/>
                  </a:lnTo>
                  <a:lnTo>
                    <a:pt x="165" y="14"/>
                  </a:lnTo>
                  <a:lnTo>
                    <a:pt x="179" y="1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591960" y="365328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609240" y="36561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624720" y="366192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644880" y="3661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666120" y="36680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692400" y="367056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707880" y="36734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729120" y="36763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749280" y="367920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762240" y="3684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2040" y="3687840"/>
              <a:ext cx="1152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795000" y="36892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812280" y="36921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122520" y="363744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826680" y="36979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842520" y="37008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862320" y="3706560"/>
              <a:ext cx="684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875280" y="3709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889320" y="37123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905520" y="37152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922080" y="371808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935040" y="372096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7962120" y="3814200"/>
              <a:ext cx="11520" cy="11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122520" y="366480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141320" y="3753720"/>
              <a:ext cx="16920" cy="39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2"/>
                  </a:moveTo>
                  <a:lnTo>
                    <a:pt x="8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7167240" y="375804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182720" y="3760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00000" y="37638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949520" y="3827160"/>
              <a:ext cx="972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5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7215480" y="37670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30240" y="376992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7248600" y="377244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7268760" y="377820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84240" y="37810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7304400" y="378108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lnTo>
                    <a:pt x="3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7319880" y="378720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337160" y="3789720"/>
              <a:ext cx="9720" cy="43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2"/>
                  </a:move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7355880" y="379260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7935120" y="38415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373160" y="3794400"/>
              <a:ext cx="1260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122520" y="36921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7388640" y="3796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405920" y="37998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5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976800" y="3772440"/>
              <a:ext cx="142920" cy="143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2" y="25"/>
                  </a:moveTo>
                  <a:lnTo>
                    <a:pt x="100" y="40"/>
                  </a:lnTo>
                  <a:lnTo>
                    <a:pt x="100" y="58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87" y="85"/>
                  </a:lnTo>
                  <a:lnTo>
                    <a:pt x="77" y="92"/>
                  </a:lnTo>
                  <a:lnTo>
                    <a:pt x="65" y="98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39" y="98"/>
                  </a:lnTo>
                  <a:lnTo>
                    <a:pt x="23" y="92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4" y="67"/>
                  </a:lnTo>
                  <a:lnTo>
                    <a:pt x="0" y="52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8" y="23"/>
                  </a:lnTo>
                  <a:lnTo>
                    <a:pt x="15" y="14"/>
                  </a:lnTo>
                  <a:lnTo>
                    <a:pt x="27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62" y="0"/>
                  </a:lnTo>
                  <a:lnTo>
                    <a:pt x="79" y="10"/>
                  </a:lnTo>
                  <a:lnTo>
                    <a:pt x="9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460280" y="380844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998120" y="3861720"/>
              <a:ext cx="74160" cy="725400"/>
            </a:xfrm>
            <a:custGeom>
              <a:avLst/>
              <a:gdLst/>
              <a:ahLst/>
              <a:rect l="l" t="t" r="r" b="b"/>
              <a:pathLst>
                <a:path w="52" h="505">
                  <a:moveTo>
                    <a:pt x="42" y="372"/>
                  </a:moveTo>
                  <a:lnTo>
                    <a:pt x="39" y="505"/>
                  </a:lnTo>
                  <a:lnTo>
                    <a:pt x="37" y="505"/>
                  </a:lnTo>
                  <a:lnTo>
                    <a:pt x="35" y="505"/>
                  </a:lnTo>
                  <a:lnTo>
                    <a:pt x="31" y="505"/>
                  </a:lnTo>
                  <a:lnTo>
                    <a:pt x="31" y="505"/>
                  </a:lnTo>
                  <a:lnTo>
                    <a:pt x="37" y="487"/>
                  </a:lnTo>
                  <a:lnTo>
                    <a:pt x="33" y="466"/>
                  </a:lnTo>
                  <a:lnTo>
                    <a:pt x="31" y="447"/>
                  </a:lnTo>
                  <a:lnTo>
                    <a:pt x="31" y="447"/>
                  </a:lnTo>
                  <a:lnTo>
                    <a:pt x="27" y="432"/>
                  </a:lnTo>
                  <a:lnTo>
                    <a:pt x="25" y="418"/>
                  </a:lnTo>
                  <a:lnTo>
                    <a:pt x="23" y="403"/>
                  </a:lnTo>
                  <a:lnTo>
                    <a:pt x="23" y="403"/>
                  </a:lnTo>
                  <a:lnTo>
                    <a:pt x="23" y="403"/>
                  </a:lnTo>
                  <a:lnTo>
                    <a:pt x="25" y="401"/>
                  </a:lnTo>
                  <a:lnTo>
                    <a:pt x="25" y="401"/>
                  </a:lnTo>
                  <a:lnTo>
                    <a:pt x="25" y="401"/>
                  </a:lnTo>
                  <a:lnTo>
                    <a:pt x="25" y="395"/>
                  </a:lnTo>
                  <a:lnTo>
                    <a:pt x="27" y="391"/>
                  </a:lnTo>
                  <a:lnTo>
                    <a:pt x="25" y="387"/>
                  </a:lnTo>
                  <a:lnTo>
                    <a:pt x="25" y="387"/>
                  </a:lnTo>
                  <a:lnTo>
                    <a:pt x="23" y="387"/>
                  </a:lnTo>
                  <a:lnTo>
                    <a:pt x="23" y="387"/>
                  </a:lnTo>
                  <a:lnTo>
                    <a:pt x="21" y="389"/>
                  </a:lnTo>
                  <a:lnTo>
                    <a:pt x="21" y="389"/>
                  </a:lnTo>
                  <a:lnTo>
                    <a:pt x="21" y="391"/>
                  </a:lnTo>
                  <a:lnTo>
                    <a:pt x="16" y="347"/>
                  </a:lnTo>
                  <a:lnTo>
                    <a:pt x="8" y="301"/>
                  </a:lnTo>
                  <a:lnTo>
                    <a:pt x="0" y="257"/>
                  </a:lnTo>
                  <a:lnTo>
                    <a:pt x="0" y="257"/>
                  </a:lnTo>
                  <a:lnTo>
                    <a:pt x="6" y="257"/>
                  </a:lnTo>
                  <a:lnTo>
                    <a:pt x="14" y="261"/>
                  </a:lnTo>
                  <a:lnTo>
                    <a:pt x="19" y="257"/>
                  </a:lnTo>
                  <a:lnTo>
                    <a:pt x="19" y="257"/>
                  </a:lnTo>
                  <a:lnTo>
                    <a:pt x="23" y="257"/>
                  </a:lnTo>
                  <a:lnTo>
                    <a:pt x="25" y="257"/>
                  </a:lnTo>
                  <a:lnTo>
                    <a:pt x="27" y="259"/>
                  </a:lnTo>
                  <a:lnTo>
                    <a:pt x="27" y="259"/>
                  </a:lnTo>
                  <a:lnTo>
                    <a:pt x="27" y="261"/>
                  </a:lnTo>
                  <a:lnTo>
                    <a:pt x="29" y="261"/>
                  </a:lnTo>
                  <a:lnTo>
                    <a:pt x="31" y="261"/>
                  </a:lnTo>
                  <a:lnTo>
                    <a:pt x="31" y="261"/>
                  </a:lnTo>
                  <a:lnTo>
                    <a:pt x="31" y="251"/>
                  </a:lnTo>
                  <a:lnTo>
                    <a:pt x="33" y="243"/>
                  </a:lnTo>
                  <a:lnTo>
                    <a:pt x="33" y="236"/>
                  </a:lnTo>
                  <a:lnTo>
                    <a:pt x="33" y="236"/>
                  </a:lnTo>
                  <a:lnTo>
                    <a:pt x="35" y="178"/>
                  </a:lnTo>
                  <a:lnTo>
                    <a:pt x="39" y="11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40"/>
                  </a:lnTo>
                  <a:lnTo>
                    <a:pt x="50" y="1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205"/>
                  </a:lnTo>
                  <a:lnTo>
                    <a:pt x="42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476120" y="38116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7920720" y="3850200"/>
              <a:ext cx="864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498800" y="38170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517520" y="3819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7556040" y="382572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6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905240" y="385596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577640" y="3830040"/>
              <a:ext cx="864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6985440" y="3784320"/>
              <a:ext cx="104040" cy="12312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9" y="32"/>
                  </a:moveTo>
                  <a:lnTo>
                    <a:pt x="9" y="42"/>
                  </a:lnTo>
                  <a:lnTo>
                    <a:pt x="13" y="52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15" y="61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23" y="75"/>
                  </a:lnTo>
                  <a:lnTo>
                    <a:pt x="34" y="77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57" y="71"/>
                  </a:lnTo>
                  <a:lnTo>
                    <a:pt x="67" y="61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69" y="63"/>
                  </a:lnTo>
                  <a:lnTo>
                    <a:pt x="61" y="75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86"/>
                  </a:lnTo>
                  <a:lnTo>
                    <a:pt x="36" y="86"/>
                  </a:lnTo>
                  <a:lnTo>
                    <a:pt x="23" y="82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4" y="61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3" y="1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9" y="0"/>
                  </a:lnTo>
                  <a:lnTo>
                    <a:pt x="19" y="9"/>
                  </a:lnTo>
                  <a:lnTo>
                    <a:pt x="11" y="19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007040" y="3789720"/>
              <a:ext cx="77040" cy="7596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2" y="17"/>
                  </a:moveTo>
                  <a:lnTo>
                    <a:pt x="54" y="25"/>
                  </a:lnTo>
                  <a:lnTo>
                    <a:pt x="54" y="34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4" y="48"/>
                  </a:lnTo>
                  <a:lnTo>
                    <a:pt x="39" y="51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3" y="53"/>
                  </a:lnTo>
                  <a:lnTo>
                    <a:pt x="16" y="51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4" y="5"/>
                  </a:lnTo>
                  <a:lnTo>
                    <a:pt x="5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7597440" y="383292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7621920" y="3835800"/>
              <a:ext cx="111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887960" y="3861720"/>
              <a:ext cx="864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1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651800" y="384156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7671960" y="384444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012440" y="3794400"/>
              <a:ext cx="47160" cy="442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4"/>
                  </a:moveTo>
                  <a:lnTo>
                    <a:pt x="25" y="6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8" y="23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7690680" y="384732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14800" y="385272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34960" y="3858840"/>
              <a:ext cx="1296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6122520" y="37252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7023960" y="3802680"/>
              <a:ext cx="54000" cy="558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12"/>
                  </a:moveTo>
                  <a:lnTo>
                    <a:pt x="38" y="19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27" y="37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9" y="37"/>
                  </a:lnTo>
                  <a:lnTo>
                    <a:pt x="4" y="35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6" y="33"/>
                  </a:lnTo>
                  <a:lnTo>
                    <a:pt x="13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7" y="31"/>
                  </a:lnTo>
                  <a:lnTo>
                    <a:pt x="32" y="25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759080" y="386316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7036560" y="3805560"/>
              <a:ext cx="22680" cy="4428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14"/>
                  </a:moveTo>
                  <a:lnTo>
                    <a:pt x="16" y="17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7782120" y="3866040"/>
              <a:ext cx="1260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6122520" y="375372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6122520" y="378108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7092360" y="3863160"/>
              <a:ext cx="15840" cy="284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lnTo>
                    <a:pt x="4" y="14"/>
                  </a:lnTo>
                  <a:lnTo>
                    <a:pt x="7" y="8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9" y="8"/>
                  </a:lnTo>
                  <a:lnTo>
                    <a:pt x="6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131240" y="3868920"/>
              <a:ext cx="2880" cy="50040"/>
            </a:xfrm>
            <a:custGeom>
              <a:avLst/>
              <a:gdLst/>
              <a:ahLst/>
              <a:rect l="l" t="t" r="r" b="b"/>
              <a:pathLst>
                <a:path w="2" h="35">
                  <a:moveTo>
                    <a:pt x="2" y="0"/>
                  </a:moveTo>
                  <a:lnTo>
                    <a:pt x="2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122520" y="380844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122520" y="38329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0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8102520" y="3999600"/>
              <a:ext cx="2520" cy="156600"/>
            </a:xfrm>
            <a:custGeom>
              <a:avLst/>
              <a:gdLst/>
              <a:ahLst/>
              <a:rect l="l" t="t" r="r" b="b"/>
              <a:pathLst>
                <a:path w="2" h="109">
                  <a:moveTo>
                    <a:pt x="0" y="107"/>
                  </a:moveTo>
                  <a:lnTo>
                    <a:pt x="0" y="109"/>
                  </a:lnTo>
                  <a:lnTo>
                    <a:pt x="2" y="0"/>
                  </a:lnTo>
                  <a:lnTo>
                    <a:pt x="2" y="36"/>
                  </a:lnTo>
                  <a:lnTo>
                    <a:pt x="2" y="71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6122520" y="385884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6142680" y="3874680"/>
              <a:ext cx="1099800" cy="653400"/>
            </a:xfrm>
            <a:custGeom>
              <a:avLst/>
              <a:gdLst/>
              <a:ahLst/>
              <a:rect l="l" t="t" r="r" b="b"/>
              <a:pathLst>
                <a:path w="769" h="455">
                  <a:moveTo>
                    <a:pt x="9" y="0"/>
                  </a:moveTo>
                  <a:lnTo>
                    <a:pt x="15" y="21"/>
                  </a:lnTo>
                  <a:lnTo>
                    <a:pt x="23" y="40"/>
                  </a:lnTo>
                  <a:lnTo>
                    <a:pt x="27" y="60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40" y="106"/>
                  </a:lnTo>
                  <a:lnTo>
                    <a:pt x="50" y="131"/>
                  </a:lnTo>
                  <a:lnTo>
                    <a:pt x="61" y="154"/>
                  </a:lnTo>
                  <a:lnTo>
                    <a:pt x="80" y="175"/>
                  </a:lnTo>
                  <a:lnTo>
                    <a:pt x="80" y="175"/>
                  </a:lnTo>
                  <a:lnTo>
                    <a:pt x="92" y="184"/>
                  </a:lnTo>
                  <a:lnTo>
                    <a:pt x="103" y="192"/>
                  </a:lnTo>
                  <a:lnTo>
                    <a:pt x="115" y="202"/>
                  </a:lnTo>
                  <a:lnTo>
                    <a:pt x="128" y="209"/>
                  </a:lnTo>
                  <a:lnTo>
                    <a:pt x="140" y="217"/>
                  </a:lnTo>
                  <a:lnTo>
                    <a:pt x="153" y="225"/>
                  </a:lnTo>
                  <a:lnTo>
                    <a:pt x="165" y="233"/>
                  </a:lnTo>
                  <a:lnTo>
                    <a:pt x="178" y="238"/>
                  </a:lnTo>
                  <a:lnTo>
                    <a:pt x="192" y="244"/>
                  </a:lnTo>
                  <a:lnTo>
                    <a:pt x="205" y="252"/>
                  </a:lnTo>
                  <a:lnTo>
                    <a:pt x="218" y="257"/>
                  </a:lnTo>
                  <a:lnTo>
                    <a:pt x="232" y="263"/>
                  </a:lnTo>
                  <a:lnTo>
                    <a:pt x="245" y="267"/>
                  </a:lnTo>
                  <a:lnTo>
                    <a:pt x="259" y="273"/>
                  </a:lnTo>
                  <a:lnTo>
                    <a:pt x="272" y="279"/>
                  </a:lnTo>
                  <a:lnTo>
                    <a:pt x="286" y="282"/>
                  </a:lnTo>
                  <a:lnTo>
                    <a:pt x="301" y="286"/>
                  </a:lnTo>
                  <a:lnTo>
                    <a:pt x="314" y="292"/>
                  </a:lnTo>
                  <a:lnTo>
                    <a:pt x="328" y="296"/>
                  </a:lnTo>
                  <a:lnTo>
                    <a:pt x="343" y="300"/>
                  </a:lnTo>
                  <a:lnTo>
                    <a:pt x="357" y="304"/>
                  </a:lnTo>
                  <a:lnTo>
                    <a:pt x="372" y="307"/>
                  </a:lnTo>
                  <a:lnTo>
                    <a:pt x="385" y="311"/>
                  </a:lnTo>
                  <a:lnTo>
                    <a:pt x="401" y="315"/>
                  </a:lnTo>
                  <a:lnTo>
                    <a:pt x="414" y="319"/>
                  </a:lnTo>
                  <a:lnTo>
                    <a:pt x="430" y="323"/>
                  </a:lnTo>
                  <a:lnTo>
                    <a:pt x="443" y="327"/>
                  </a:lnTo>
                  <a:lnTo>
                    <a:pt x="458" y="330"/>
                  </a:lnTo>
                  <a:lnTo>
                    <a:pt x="472" y="334"/>
                  </a:lnTo>
                  <a:lnTo>
                    <a:pt x="487" y="338"/>
                  </a:lnTo>
                  <a:lnTo>
                    <a:pt x="501" y="342"/>
                  </a:lnTo>
                  <a:lnTo>
                    <a:pt x="516" y="346"/>
                  </a:lnTo>
                  <a:lnTo>
                    <a:pt x="516" y="346"/>
                  </a:lnTo>
                  <a:lnTo>
                    <a:pt x="547" y="352"/>
                  </a:lnTo>
                  <a:lnTo>
                    <a:pt x="575" y="357"/>
                  </a:lnTo>
                  <a:lnTo>
                    <a:pt x="604" y="367"/>
                  </a:lnTo>
                  <a:lnTo>
                    <a:pt x="604" y="367"/>
                  </a:lnTo>
                  <a:lnTo>
                    <a:pt x="614" y="377"/>
                  </a:lnTo>
                  <a:lnTo>
                    <a:pt x="620" y="390"/>
                  </a:lnTo>
                  <a:lnTo>
                    <a:pt x="633" y="394"/>
                  </a:lnTo>
                  <a:lnTo>
                    <a:pt x="633" y="394"/>
                  </a:lnTo>
                  <a:lnTo>
                    <a:pt x="752" y="417"/>
                  </a:lnTo>
                  <a:lnTo>
                    <a:pt x="760" y="428"/>
                  </a:lnTo>
                  <a:lnTo>
                    <a:pt x="765" y="440"/>
                  </a:lnTo>
                  <a:lnTo>
                    <a:pt x="769" y="453"/>
                  </a:lnTo>
                  <a:lnTo>
                    <a:pt x="769" y="453"/>
                  </a:lnTo>
                  <a:lnTo>
                    <a:pt x="765" y="453"/>
                  </a:lnTo>
                  <a:lnTo>
                    <a:pt x="760" y="453"/>
                  </a:lnTo>
                  <a:lnTo>
                    <a:pt x="756" y="455"/>
                  </a:lnTo>
                  <a:lnTo>
                    <a:pt x="756" y="455"/>
                  </a:lnTo>
                  <a:lnTo>
                    <a:pt x="714" y="444"/>
                  </a:lnTo>
                  <a:lnTo>
                    <a:pt x="671" y="438"/>
                  </a:lnTo>
                  <a:lnTo>
                    <a:pt x="627" y="432"/>
                  </a:lnTo>
                  <a:lnTo>
                    <a:pt x="585" y="428"/>
                  </a:lnTo>
                  <a:lnTo>
                    <a:pt x="541" y="421"/>
                  </a:lnTo>
                  <a:lnTo>
                    <a:pt x="541" y="421"/>
                  </a:lnTo>
                  <a:lnTo>
                    <a:pt x="526" y="419"/>
                  </a:lnTo>
                  <a:lnTo>
                    <a:pt x="508" y="417"/>
                  </a:lnTo>
                  <a:lnTo>
                    <a:pt x="491" y="417"/>
                  </a:lnTo>
                  <a:lnTo>
                    <a:pt x="491" y="417"/>
                  </a:lnTo>
                  <a:lnTo>
                    <a:pt x="493" y="419"/>
                  </a:lnTo>
                  <a:lnTo>
                    <a:pt x="497" y="419"/>
                  </a:lnTo>
                  <a:lnTo>
                    <a:pt x="499" y="419"/>
                  </a:lnTo>
                  <a:lnTo>
                    <a:pt x="499" y="419"/>
                  </a:lnTo>
                  <a:lnTo>
                    <a:pt x="499" y="423"/>
                  </a:lnTo>
                  <a:lnTo>
                    <a:pt x="487" y="421"/>
                  </a:lnTo>
                  <a:lnTo>
                    <a:pt x="487" y="419"/>
                  </a:lnTo>
                  <a:lnTo>
                    <a:pt x="487" y="417"/>
                  </a:lnTo>
                  <a:lnTo>
                    <a:pt x="489" y="417"/>
                  </a:lnTo>
                  <a:lnTo>
                    <a:pt x="489" y="417"/>
                  </a:lnTo>
                  <a:lnTo>
                    <a:pt x="485" y="415"/>
                  </a:lnTo>
                  <a:lnTo>
                    <a:pt x="483" y="415"/>
                  </a:lnTo>
                  <a:lnTo>
                    <a:pt x="481" y="415"/>
                  </a:lnTo>
                  <a:lnTo>
                    <a:pt x="481" y="415"/>
                  </a:lnTo>
                  <a:lnTo>
                    <a:pt x="479" y="419"/>
                  </a:lnTo>
                  <a:lnTo>
                    <a:pt x="476" y="419"/>
                  </a:lnTo>
                  <a:lnTo>
                    <a:pt x="472" y="417"/>
                  </a:lnTo>
                  <a:lnTo>
                    <a:pt x="472" y="417"/>
                  </a:lnTo>
                  <a:lnTo>
                    <a:pt x="472" y="415"/>
                  </a:lnTo>
                  <a:lnTo>
                    <a:pt x="470" y="413"/>
                  </a:lnTo>
                  <a:lnTo>
                    <a:pt x="470" y="413"/>
                  </a:lnTo>
                  <a:lnTo>
                    <a:pt x="470" y="413"/>
                  </a:lnTo>
                  <a:lnTo>
                    <a:pt x="466" y="413"/>
                  </a:lnTo>
                  <a:lnTo>
                    <a:pt x="464" y="413"/>
                  </a:lnTo>
                  <a:lnTo>
                    <a:pt x="462" y="415"/>
                  </a:lnTo>
                  <a:lnTo>
                    <a:pt x="462" y="415"/>
                  </a:lnTo>
                  <a:lnTo>
                    <a:pt x="458" y="415"/>
                  </a:lnTo>
                  <a:lnTo>
                    <a:pt x="455" y="415"/>
                  </a:lnTo>
                  <a:lnTo>
                    <a:pt x="453" y="411"/>
                  </a:lnTo>
                  <a:lnTo>
                    <a:pt x="453" y="411"/>
                  </a:lnTo>
                  <a:lnTo>
                    <a:pt x="451" y="409"/>
                  </a:lnTo>
                  <a:lnTo>
                    <a:pt x="449" y="409"/>
                  </a:lnTo>
                  <a:lnTo>
                    <a:pt x="447" y="409"/>
                  </a:lnTo>
                  <a:lnTo>
                    <a:pt x="447" y="409"/>
                  </a:lnTo>
                  <a:lnTo>
                    <a:pt x="443" y="411"/>
                  </a:lnTo>
                  <a:lnTo>
                    <a:pt x="439" y="411"/>
                  </a:lnTo>
                  <a:lnTo>
                    <a:pt x="435" y="409"/>
                  </a:lnTo>
                  <a:lnTo>
                    <a:pt x="435" y="409"/>
                  </a:lnTo>
                  <a:lnTo>
                    <a:pt x="431" y="407"/>
                  </a:lnTo>
                  <a:lnTo>
                    <a:pt x="428" y="407"/>
                  </a:lnTo>
                  <a:lnTo>
                    <a:pt x="422" y="407"/>
                  </a:lnTo>
                  <a:lnTo>
                    <a:pt x="422" y="407"/>
                  </a:lnTo>
                  <a:lnTo>
                    <a:pt x="418" y="405"/>
                  </a:lnTo>
                  <a:lnTo>
                    <a:pt x="414" y="403"/>
                  </a:lnTo>
                  <a:lnTo>
                    <a:pt x="408" y="403"/>
                  </a:lnTo>
                  <a:lnTo>
                    <a:pt x="408" y="403"/>
                  </a:lnTo>
                  <a:lnTo>
                    <a:pt x="401" y="403"/>
                  </a:lnTo>
                  <a:lnTo>
                    <a:pt x="395" y="402"/>
                  </a:lnTo>
                  <a:lnTo>
                    <a:pt x="391" y="398"/>
                  </a:lnTo>
                  <a:lnTo>
                    <a:pt x="391" y="398"/>
                  </a:lnTo>
                  <a:lnTo>
                    <a:pt x="387" y="400"/>
                  </a:lnTo>
                  <a:lnTo>
                    <a:pt x="384" y="400"/>
                  </a:lnTo>
                  <a:lnTo>
                    <a:pt x="380" y="400"/>
                  </a:lnTo>
                  <a:lnTo>
                    <a:pt x="380" y="400"/>
                  </a:lnTo>
                  <a:lnTo>
                    <a:pt x="380" y="396"/>
                  </a:lnTo>
                  <a:lnTo>
                    <a:pt x="378" y="396"/>
                  </a:lnTo>
                  <a:lnTo>
                    <a:pt x="376" y="394"/>
                  </a:lnTo>
                  <a:lnTo>
                    <a:pt x="376" y="394"/>
                  </a:lnTo>
                  <a:lnTo>
                    <a:pt x="374" y="398"/>
                  </a:lnTo>
                  <a:lnTo>
                    <a:pt x="370" y="398"/>
                  </a:lnTo>
                  <a:lnTo>
                    <a:pt x="366" y="396"/>
                  </a:lnTo>
                  <a:lnTo>
                    <a:pt x="366" y="396"/>
                  </a:lnTo>
                  <a:lnTo>
                    <a:pt x="364" y="396"/>
                  </a:lnTo>
                  <a:lnTo>
                    <a:pt x="364" y="394"/>
                  </a:lnTo>
                  <a:lnTo>
                    <a:pt x="364" y="394"/>
                  </a:lnTo>
                  <a:lnTo>
                    <a:pt x="364" y="394"/>
                  </a:lnTo>
                  <a:lnTo>
                    <a:pt x="366" y="394"/>
                  </a:lnTo>
                  <a:lnTo>
                    <a:pt x="366" y="394"/>
                  </a:lnTo>
                  <a:lnTo>
                    <a:pt x="368" y="392"/>
                  </a:lnTo>
                  <a:lnTo>
                    <a:pt x="368" y="392"/>
                  </a:lnTo>
                  <a:lnTo>
                    <a:pt x="347" y="388"/>
                  </a:lnTo>
                  <a:lnTo>
                    <a:pt x="326" y="382"/>
                  </a:lnTo>
                  <a:lnTo>
                    <a:pt x="305" y="378"/>
                  </a:lnTo>
                  <a:lnTo>
                    <a:pt x="305" y="378"/>
                  </a:lnTo>
                  <a:lnTo>
                    <a:pt x="272" y="371"/>
                  </a:lnTo>
                  <a:lnTo>
                    <a:pt x="241" y="361"/>
                  </a:lnTo>
                  <a:lnTo>
                    <a:pt x="209" y="353"/>
                  </a:lnTo>
                  <a:lnTo>
                    <a:pt x="209" y="353"/>
                  </a:lnTo>
                  <a:lnTo>
                    <a:pt x="180" y="346"/>
                  </a:lnTo>
                  <a:lnTo>
                    <a:pt x="153" y="338"/>
                  </a:lnTo>
                  <a:lnTo>
                    <a:pt x="126" y="330"/>
                  </a:lnTo>
                  <a:lnTo>
                    <a:pt x="99" y="321"/>
                  </a:lnTo>
                  <a:lnTo>
                    <a:pt x="73" y="309"/>
                  </a:lnTo>
                  <a:lnTo>
                    <a:pt x="48" y="298"/>
                  </a:lnTo>
                  <a:lnTo>
                    <a:pt x="23" y="284"/>
                  </a:lnTo>
                  <a:lnTo>
                    <a:pt x="23" y="284"/>
                  </a:lnTo>
                  <a:lnTo>
                    <a:pt x="17" y="271"/>
                  </a:lnTo>
                  <a:lnTo>
                    <a:pt x="11" y="259"/>
                  </a:lnTo>
                  <a:lnTo>
                    <a:pt x="5" y="248"/>
                  </a:lnTo>
                  <a:lnTo>
                    <a:pt x="3" y="234"/>
                  </a:lnTo>
                  <a:lnTo>
                    <a:pt x="3" y="234"/>
                  </a:lnTo>
                  <a:lnTo>
                    <a:pt x="2" y="160"/>
                  </a:lnTo>
                  <a:lnTo>
                    <a:pt x="2" y="8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8086680" y="4042800"/>
              <a:ext cx="1080" cy="140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6122520" y="388332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8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8086680" y="4059720"/>
              <a:ext cx="1080" cy="216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1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122520" y="39016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8126640" y="4072680"/>
              <a:ext cx="14400" cy="532800"/>
            </a:xfrm>
            <a:custGeom>
              <a:avLst/>
              <a:gdLst/>
              <a:ahLst/>
              <a:rect l="l" t="t" r="r" b="b"/>
              <a:pathLst>
                <a:path w="10" h="371">
                  <a:moveTo>
                    <a:pt x="6" y="204"/>
                  </a:moveTo>
                  <a:lnTo>
                    <a:pt x="8" y="260"/>
                  </a:lnTo>
                  <a:lnTo>
                    <a:pt x="10" y="315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2" y="365"/>
                  </a:lnTo>
                  <a:lnTo>
                    <a:pt x="2" y="360"/>
                  </a:lnTo>
                  <a:lnTo>
                    <a:pt x="4" y="354"/>
                  </a:lnTo>
                  <a:lnTo>
                    <a:pt x="4" y="354"/>
                  </a:lnTo>
                  <a:lnTo>
                    <a:pt x="4" y="315"/>
                  </a:lnTo>
                  <a:lnTo>
                    <a:pt x="2" y="277"/>
                  </a:lnTo>
                  <a:lnTo>
                    <a:pt x="6" y="235"/>
                  </a:lnTo>
                  <a:lnTo>
                    <a:pt x="6" y="235"/>
                  </a:lnTo>
                  <a:lnTo>
                    <a:pt x="4" y="204"/>
                  </a:lnTo>
                  <a:lnTo>
                    <a:pt x="6" y="171"/>
                  </a:lnTo>
                  <a:lnTo>
                    <a:pt x="6" y="139"/>
                  </a:lnTo>
                  <a:lnTo>
                    <a:pt x="6" y="139"/>
                  </a:lnTo>
                  <a:lnTo>
                    <a:pt x="6" y="93"/>
                  </a:lnTo>
                  <a:lnTo>
                    <a:pt x="6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70"/>
                  </a:lnTo>
                  <a:lnTo>
                    <a:pt x="10" y="137"/>
                  </a:lnTo>
                  <a:lnTo>
                    <a:pt x="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8086680" y="4084200"/>
              <a:ext cx="1080" cy="86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122520" y="3927960"/>
              <a:ext cx="2880" cy="126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8086680" y="4096080"/>
              <a:ext cx="1080" cy="100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8083800" y="4108680"/>
              <a:ext cx="2880" cy="209520"/>
            </a:xfrm>
            <a:custGeom>
              <a:avLst/>
              <a:gdLst/>
              <a:ahLst/>
              <a:rect l="l" t="t" r="r" b="b"/>
              <a:pathLst>
                <a:path w="2" h="146">
                  <a:moveTo>
                    <a:pt x="0" y="146"/>
                  </a:moveTo>
                  <a:lnTo>
                    <a:pt x="2" y="9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122520" y="39520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122520" y="397656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122520" y="399960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122520" y="402696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122520" y="405144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122520" y="407268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2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8036640" y="4243680"/>
              <a:ext cx="252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122520" y="410148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7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8033760" y="4278240"/>
              <a:ext cx="5400" cy="18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7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6120000" y="4120200"/>
              <a:ext cx="540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6122520" y="41475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8033760" y="4308480"/>
              <a:ext cx="540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13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9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122520" y="417492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8030880" y="433872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122520" y="4197960"/>
              <a:ext cx="2880" cy="126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8061120" y="4359960"/>
              <a:ext cx="49680" cy="295560"/>
            </a:xfrm>
            <a:custGeom>
              <a:avLst/>
              <a:gdLst/>
              <a:ahLst/>
              <a:rect l="l" t="t" r="r" b="b"/>
              <a:pathLst>
                <a:path w="35" h="206">
                  <a:moveTo>
                    <a:pt x="14" y="106"/>
                  </a:moveTo>
                  <a:lnTo>
                    <a:pt x="19" y="119"/>
                  </a:lnTo>
                  <a:lnTo>
                    <a:pt x="25" y="131"/>
                  </a:lnTo>
                  <a:lnTo>
                    <a:pt x="31" y="142"/>
                  </a:lnTo>
                  <a:lnTo>
                    <a:pt x="35" y="154"/>
                  </a:lnTo>
                  <a:lnTo>
                    <a:pt x="35" y="167"/>
                  </a:lnTo>
                  <a:lnTo>
                    <a:pt x="35" y="167"/>
                  </a:lnTo>
                  <a:lnTo>
                    <a:pt x="31" y="171"/>
                  </a:lnTo>
                  <a:lnTo>
                    <a:pt x="31" y="175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35" y="184"/>
                  </a:lnTo>
                  <a:lnTo>
                    <a:pt x="10" y="206"/>
                  </a:lnTo>
                  <a:lnTo>
                    <a:pt x="10" y="194"/>
                  </a:lnTo>
                  <a:lnTo>
                    <a:pt x="14" y="184"/>
                  </a:lnTo>
                  <a:lnTo>
                    <a:pt x="18" y="175"/>
                  </a:lnTo>
                  <a:lnTo>
                    <a:pt x="18" y="175"/>
                  </a:lnTo>
                  <a:lnTo>
                    <a:pt x="18" y="179"/>
                  </a:lnTo>
                  <a:lnTo>
                    <a:pt x="16" y="184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21" y="173"/>
                  </a:lnTo>
                  <a:lnTo>
                    <a:pt x="23" y="158"/>
                  </a:lnTo>
                  <a:lnTo>
                    <a:pt x="23" y="142"/>
                  </a:lnTo>
                  <a:lnTo>
                    <a:pt x="23" y="142"/>
                  </a:lnTo>
                  <a:lnTo>
                    <a:pt x="21" y="133"/>
                  </a:lnTo>
                  <a:lnTo>
                    <a:pt x="19" y="123"/>
                  </a:lnTo>
                  <a:lnTo>
                    <a:pt x="14" y="117"/>
                  </a:lnTo>
                  <a:lnTo>
                    <a:pt x="14" y="117"/>
                  </a:lnTo>
                  <a:lnTo>
                    <a:pt x="10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8" y="127"/>
                  </a:lnTo>
                  <a:lnTo>
                    <a:pt x="12" y="135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4" y="163"/>
                  </a:lnTo>
                  <a:lnTo>
                    <a:pt x="8" y="18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08"/>
                  </a:lnTo>
                  <a:lnTo>
                    <a:pt x="4" y="110"/>
                  </a:lnTo>
                  <a:lnTo>
                    <a:pt x="6" y="112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2" y="110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6" y="0"/>
                  </a:lnTo>
                  <a:lnTo>
                    <a:pt x="1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8030880" y="4359960"/>
              <a:ext cx="5760" cy="21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107040" y="4230720"/>
              <a:ext cx="114480" cy="143640"/>
            </a:xfrm>
            <a:custGeom>
              <a:avLst/>
              <a:gdLst/>
              <a:ahLst/>
              <a:rect l="l" t="t" r="r" b="b"/>
              <a:pathLst>
                <a:path w="80" h="100">
                  <a:moveTo>
                    <a:pt x="19" y="13"/>
                  </a:moveTo>
                  <a:lnTo>
                    <a:pt x="21" y="31"/>
                  </a:lnTo>
                  <a:lnTo>
                    <a:pt x="21" y="48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5" y="69"/>
                  </a:lnTo>
                  <a:lnTo>
                    <a:pt x="71" y="79"/>
                  </a:lnTo>
                  <a:lnTo>
                    <a:pt x="76" y="84"/>
                  </a:lnTo>
                  <a:lnTo>
                    <a:pt x="78" y="92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53" y="96"/>
                  </a:lnTo>
                  <a:lnTo>
                    <a:pt x="28" y="9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73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0"/>
                  </a:lnTo>
                  <a:lnTo>
                    <a:pt x="9" y="2"/>
                  </a:lnTo>
                  <a:lnTo>
                    <a:pt x="15" y="8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8030880" y="4393080"/>
              <a:ext cx="576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8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8132400" y="4479480"/>
              <a:ext cx="32760" cy="1476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23" y="7"/>
                  </a:moveTo>
                  <a:lnTo>
                    <a:pt x="23" y="38"/>
                  </a:lnTo>
                  <a:lnTo>
                    <a:pt x="23" y="71"/>
                  </a:lnTo>
                  <a:lnTo>
                    <a:pt x="21" y="101"/>
                  </a:lnTo>
                  <a:lnTo>
                    <a:pt x="21" y="101"/>
                  </a:lnTo>
                  <a:lnTo>
                    <a:pt x="16" y="103"/>
                  </a:lnTo>
                  <a:lnTo>
                    <a:pt x="8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82"/>
                  </a:lnTo>
                  <a:lnTo>
                    <a:pt x="10" y="65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32"/>
                  </a:lnTo>
                  <a:lnTo>
                    <a:pt x="12" y="17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226920" y="435168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247080" y="435708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6265800" y="4359960"/>
              <a:ext cx="1152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287400" y="43660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307200" y="436896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328440" y="4374360"/>
              <a:ext cx="1440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351480" y="4377240"/>
              <a:ext cx="21240" cy="68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3"/>
                  </a:moveTo>
                  <a:lnTo>
                    <a:pt x="11" y="5"/>
                  </a:lnTo>
                  <a:lnTo>
                    <a:pt x="5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6378840" y="43815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394320" y="438444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421680" y="439056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447240" y="4395960"/>
              <a:ext cx="18720" cy="86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471720" y="4401720"/>
              <a:ext cx="1440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6493320" y="44078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518880" y="4413240"/>
              <a:ext cx="15480" cy="3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2"/>
                  </a:moveTo>
                  <a:lnTo>
                    <a:pt x="7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546240" y="4416120"/>
              <a:ext cx="1260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9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6570720" y="442044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6594840" y="442620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617520" y="442908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639120" y="44348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6863760" y="44794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886440" y="4485240"/>
              <a:ext cx="972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1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908040" y="44863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932160" y="44924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952320" y="449532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979680" y="45007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7000920" y="45068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7923600" y="4594320"/>
              <a:ext cx="130320" cy="1375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91" y="0"/>
                  </a:moveTo>
                  <a:lnTo>
                    <a:pt x="91" y="33"/>
                  </a:lnTo>
                  <a:lnTo>
                    <a:pt x="89" y="64"/>
                  </a:lnTo>
                  <a:lnTo>
                    <a:pt x="89" y="96"/>
                  </a:lnTo>
                  <a:lnTo>
                    <a:pt x="89" y="96"/>
                  </a:lnTo>
                  <a:lnTo>
                    <a:pt x="60" y="93"/>
                  </a:lnTo>
                  <a:lnTo>
                    <a:pt x="31" y="87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6" y="70"/>
                  </a:lnTo>
                  <a:lnTo>
                    <a:pt x="10" y="66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4" y="71"/>
                  </a:lnTo>
                  <a:lnTo>
                    <a:pt x="66" y="68"/>
                  </a:lnTo>
                  <a:lnTo>
                    <a:pt x="68" y="48"/>
                  </a:lnTo>
                  <a:lnTo>
                    <a:pt x="68" y="27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5" y="2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7023960" y="4509720"/>
              <a:ext cx="15480" cy="54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7048440" y="45151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7072560" y="4520880"/>
              <a:ext cx="14040" cy="39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1"/>
                  </a:moveTo>
                  <a:lnTo>
                    <a:pt x="10" y="3"/>
                  </a:ln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7092360" y="4522320"/>
              <a:ext cx="18720" cy="576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7119720" y="452808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7138440" y="4530960"/>
              <a:ext cx="57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155360" y="45367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7200000" y="4545360"/>
              <a:ext cx="1548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7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7221240" y="45482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7239960" y="4551480"/>
              <a:ext cx="16920" cy="39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7263000" y="45554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7268760" y="455544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295760" y="45612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7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7308720" y="4564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325640" y="456696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347240" y="457272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377480" y="45784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7405920" y="458424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7427160" y="4590000"/>
              <a:ext cx="1404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454520" y="45914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474680" y="4597200"/>
              <a:ext cx="68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7495920" y="45997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7523280" y="460584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537680" y="460872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556040" y="4614480"/>
              <a:ext cx="111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577640" y="461700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7608960" y="4623120"/>
              <a:ext cx="1296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7627320" y="46242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7639200" y="4627080"/>
              <a:ext cx="1260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7654680" y="4630320"/>
              <a:ext cx="1152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7677720" y="463608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7702200" y="46414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7726320" y="46443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7740720" y="464760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7767720" y="465336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7789320" y="4658760"/>
              <a:ext cx="22680" cy="43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0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7816680" y="466344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7824960" y="4665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4" name="FOOTBA11" descr=""/>
          <p:cNvPicPr/>
          <p:nvPr/>
        </p:nvPicPr>
        <p:blipFill>
          <a:blip r:embed="rId1"/>
          <a:stretch/>
        </p:blipFill>
        <p:spPr>
          <a:xfrm>
            <a:off x="1066680" y="2863800"/>
            <a:ext cx="2210040" cy="1892520"/>
          </a:xfrm>
          <a:prstGeom prst="rect">
            <a:avLst/>
          </a:prstGeom>
          <a:ln w="0">
            <a:noFill/>
          </a:ln>
        </p:spPr>
      </p:pic>
      <p:sp>
        <p:nvSpPr>
          <p:cNvPr id="4595" name=""/>
          <p:cNvSpPr/>
          <p:nvPr/>
        </p:nvSpPr>
        <p:spPr>
          <a:xfrm>
            <a:off x="2287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7" name=""/>
          <p:cNvGrpSpPr/>
          <p:nvPr/>
        </p:nvGrpSpPr>
        <p:grpSpPr>
          <a:xfrm>
            <a:off x="5715000" y="2409840"/>
            <a:ext cx="1595520" cy="2800440"/>
            <a:chOff x="5715000" y="2409840"/>
            <a:chExt cx="1595520" cy="2800440"/>
          </a:xfrm>
        </p:grpSpPr>
        <p:sp>
          <p:nvSpPr>
            <p:cNvPr id="4598" name=""/>
            <p:cNvSpPr/>
            <p:nvPr/>
          </p:nvSpPr>
          <p:spPr>
            <a:xfrm>
              <a:off x="5715000" y="2409840"/>
              <a:ext cx="159552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846840" y="5040360"/>
              <a:ext cx="169920" cy="158760"/>
            </a:xfrm>
            <a:custGeom>
              <a:avLst/>
              <a:gdLst/>
              <a:ahLst/>
              <a:rect l="l" t="t" r="r" b="b"/>
              <a:pathLst>
                <a:path w="1283" h="1193">
                  <a:moveTo>
                    <a:pt x="0" y="279"/>
                  </a:moveTo>
                  <a:lnTo>
                    <a:pt x="29" y="0"/>
                  </a:lnTo>
                  <a:lnTo>
                    <a:pt x="562" y="0"/>
                  </a:lnTo>
                  <a:lnTo>
                    <a:pt x="685" y="4"/>
                  </a:lnTo>
                  <a:lnTo>
                    <a:pt x="797" y="28"/>
                  </a:lnTo>
                  <a:lnTo>
                    <a:pt x="906" y="68"/>
                  </a:lnTo>
                  <a:lnTo>
                    <a:pt x="1012" y="129"/>
                  </a:lnTo>
                  <a:lnTo>
                    <a:pt x="1093" y="206"/>
                  </a:lnTo>
                  <a:lnTo>
                    <a:pt x="1169" y="299"/>
                  </a:lnTo>
                  <a:lnTo>
                    <a:pt x="1226" y="408"/>
                  </a:lnTo>
                  <a:lnTo>
                    <a:pt x="1266" y="530"/>
                  </a:lnTo>
                  <a:lnTo>
                    <a:pt x="1283" y="651"/>
                  </a:lnTo>
                  <a:lnTo>
                    <a:pt x="1283" y="870"/>
                  </a:lnTo>
                  <a:lnTo>
                    <a:pt x="1239" y="967"/>
                  </a:lnTo>
                  <a:lnTo>
                    <a:pt x="1177" y="1048"/>
                  </a:lnTo>
                  <a:lnTo>
                    <a:pt x="1069" y="1112"/>
                  </a:lnTo>
                  <a:lnTo>
                    <a:pt x="959" y="1157"/>
                  </a:lnTo>
                  <a:lnTo>
                    <a:pt x="789" y="1185"/>
                  </a:lnTo>
                  <a:lnTo>
                    <a:pt x="623" y="1193"/>
                  </a:lnTo>
                  <a:lnTo>
                    <a:pt x="477" y="1189"/>
                  </a:lnTo>
                  <a:lnTo>
                    <a:pt x="381" y="1169"/>
                  </a:lnTo>
                  <a:lnTo>
                    <a:pt x="280" y="1133"/>
                  </a:lnTo>
                  <a:lnTo>
                    <a:pt x="191" y="1088"/>
                  </a:lnTo>
                  <a:lnTo>
                    <a:pt x="102" y="1023"/>
                  </a:lnTo>
                  <a:lnTo>
                    <a:pt x="40" y="926"/>
                  </a:lnTo>
                  <a:lnTo>
                    <a:pt x="21" y="862"/>
                  </a:lnTo>
                  <a:lnTo>
                    <a:pt x="4" y="753"/>
                  </a:lnTo>
                  <a:lnTo>
                    <a:pt x="0" y="684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916680" y="5049720"/>
              <a:ext cx="88920" cy="58680"/>
            </a:xfrm>
            <a:custGeom>
              <a:avLst/>
              <a:gdLst/>
              <a:ahLst/>
              <a:rect l="l" t="t" r="r" b="b"/>
              <a:pathLst>
                <a:path w="664" h="437">
                  <a:moveTo>
                    <a:pt x="102" y="187"/>
                  </a:moveTo>
                  <a:lnTo>
                    <a:pt x="263" y="178"/>
                  </a:lnTo>
                  <a:lnTo>
                    <a:pt x="425" y="219"/>
                  </a:lnTo>
                  <a:lnTo>
                    <a:pt x="563" y="308"/>
                  </a:lnTo>
                  <a:lnTo>
                    <a:pt x="664" y="437"/>
                  </a:lnTo>
                  <a:lnTo>
                    <a:pt x="619" y="284"/>
                  </a:lnTo>
                  <a:lnTo>
                    <a:pt x="530" y="155"/>
                  </a:lnTo>
                  <a:lnTo>
                    <a:pt x="397" y="49"/>
                  </a:lnTo>
                  <a:lnTo>
                    <a:pt x="348" y="25"/>
                  </a:lnTo>
                  <a:lnTo>
                    <a:pt x="227" y="0"/>
                  </a:lnTo>
                  <a:lnTo>
                    <a:pt x="162" y="9"/>
                  </a:lnTo>
                  <a:lnTo>
                    <a:pt x="114" y="45"/>
                  </a:lnTo>
                  <a:lnTo>
                    <a:pt x="114" y="85"/>
                  </a:lnTo>
                  <a:lnTo>
                    <a:pt x="102" y="123"/>
                  </a:lnTo>
                  <a:lnTo>
                    <a:pt x="77" y="159"/>
                  </a:lnTo>
                  <a:lnTo>
                    <a:pt x="0" y="227"/>
                  </a:lnTo>
                  <a:lnTo>
                    <a:pt x="102" y="187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7148520" y="4765680"/>
              <a:ext cx="155520" cy="138240"/>
            </a:xfrm>
            <a:custGeom>
              <a:avLst/>
              <a:gdLst/>
              <a:ahLst/>
              <a:rect l="l" t="t" r="r" b="b"/>
              <a:pathLst>
                <a:path w="1169" h="1044">
                  <a:moveTo>
                    <a:pt x="0" y="243"/>
                  </a:moveTo>
                  <a:lnTo>
                    <a:pt x="24" y="0"/>
                  </a:lnTo>
                  <a:lnTo>
                    <a:pt x="514" y="0"/>
                  </a:lnTo>
                  <a:lnTo>
                    <a:pt x="623" y="4"/>
                  </a:lnTo>
                  <a:lnTo>
                    <a:pt x="728" y="25"/>
                  </a:lnTo>
                  <a:lnTo>
                    <a:pt x="829" y="61"/>
                  </a:lnTo>
                  <a:lnTo>
                    <a:pt x="922" y="114"/>
                  </a:lnTo>
                  <a:lnTo>
                    <a:pt x="999" y="178"/>
                  </a:lnTo>
                  <a:lnTo>
                    <a:pt x="1072" y="263"/>
                  </a:lnTo>
                  <a:lnTo>
                    <a:pt x="1121" y="360"/>
                  </a:lnTo>
                  <a:lnTo>
                    <a:pt x="1153" y="465"/>
                  </a:lnTo>
                  <a:lnTo>
                    <a:pt x="1169" y="571"/>
                  </a:lnTo>
                  <a:lnTo>
                    <a:pt x="1169" y="761"/>
                  </a:lnTo>
                  <a:lnTo>
                    <a:pt x="1132" y="846"/>
                  </a:lnTo>
                  <a:lnTo>
                    <a:pt x="1076" y="919"/>
                  </a:lnTo>
                  <a:lnTo>
                    <a:pt x="975" y="976"/>
                  </a:lnTo>
                  <a:lnTo>
                    <a:pt x="877" y="1012"/>
                  </a:lnTo>
                  <a:lnTo>
                    <a:pt x="720" y="1040"/>
                  </a:lnTo>
                  <a:lnTo>
                    <a:pt x="567" y="1044"/>
                  </a:lnTo>
                  <a:lnTo>
                    <a:pt x="433" y="1040"/>
                  </a:lnTo>
                  <a:lnTo>
                    <a:pt x="348" y="1027"/>
                  </a:lnTo>
                  <a:lnTo>
                    <a:pt x="255" y="991"/>
                  </a:lnTo>
                  <a:lnTo>
                    <a:pt x="174" y="951"/>
                  </a:lnTo>
                  <a:lnTo>
                    <a:pt x="92" y="895"/>
                  </a:lnTo>
                  <a:lnTo>
                    <a:pt x="37" y="813"/>
                  </a:lnTo>
                  <a:lnTo>
                    <a:pt x="16" y="757"/>
                  </a:lnTo>
                  <a:lnTo>
                    <a:pt x="4" y="656"/>
                  </a:lnTo>
                  <a:lnTo>
                    <a:pt x="0" y="599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7213680" y="4773600"/>
              <a:ext cx="79200" cy="49320"/>
            </a:xfrm>
            <a:custGeom>
              <a:avLst/>
              <a:gdLst/>
              <a:ahLst/>
              <a:rect l="l" t="t" r="r" b="b"/>
              <a:pathLst>
                <a:path w="602" h="380">
                  <a:moveTo>
                    <a:pt x="93" y="166"/>
                  </a:moveTo>
                  <a:lnTo>
                    <a:pt x="239" y="158"/>
                  </a:lnTo>
                  <a:lnTo>
                    <a:pt x="388" y="190"/>
                  </a:lnTo>
                  <a:lnTo>
                    <a:pt x="510" y="272"/>
                  </a:lnTo>
                  <a:lnTo>
                    <a:pt x="602" y="380"/>
                  </a:lnTo>
                  <a:lnTo>
                    <a:pt x="562" y="243"/>
                  </a:lnTo>
                  <a:lnTo>
                    <a:pt x="481" y="134"/>
                  </a:lnTo>
                  <a:lnTo>
                    <a:pt x="360" y="41"/>
                  </a:lnTo>
                  <a:lnTo>
                    <a:pt x="316" y="24"/>
                  </a:lnTo>
                  <a:lnTo>
                    <a:pt x="203" y="0"/>
                  </a:lnTo>
                  <a:lnTo>
                    <a:pt x="146" y="8"/>
                  </a:lnTo>
                  <a:lnTo>
                    <a:pt x="101" y="41"/>
                  </a:lnTo>
                  <a:lnTo>
                    <a:pt x="101" y="73"/>
                  </a:lnTo>
                  <a:lnTo>
                    <a:pt x="93" y="109"/>
                  </a:lnTo>
                  <a:lnTo>
                    <a:pt x="65" y="138"/>
                  </a:lnTo>
                  <a:lnTo>
                    <a:pt x="0" y="198"/>
                  </a:lnTo>
                  <a:lnTo>
                    <a:pt x="93" y="166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5791320" y="4740120"/>
              <a:ext cx="150840" cy="136800"/>
            </a:xfrm>
            <a:custGeom>
              <a:avLst/>
              <a:gdLst/>
              <a:ahLst/>
              <a:rect l="l" t="t" r="r" b="b"/>
              <a:pathLst>
                <a:path w="1141" h="1027">
                  <a:moveTo>
                    <a:pt x="1141" y="238"/>
                  </a:moveTo>
                  <a:lnTo>
                    <a:pt x="1112" y="0"/>
                  </a:lnTo>
                  <a:lnTo>
                    <a:pt x="634" y="0"/>
                  </a:lnTo>
                  <a:lnTo>
                    <a:pt x="526" y="3"/>
                  </a:lnTo>
                  <a:lnTo>
                    <a:pt x="433" y="19"/>
                  </a:lnTo>
                  <a:lnTo>
                    <a:pt x="324" y="60"/>
                  </a:lnTo>
                  <a:lnTo>
                    <a:pt x="239" y="113"/>
                  </a:lnTo>
                  <a:lnTo>
                    <a:pt x="161" y="173"/>
                  </a:lnTo>
                  <a:lnTo>
                    <a:pt x="97" y="259"/>
                  </a:lnTo>
                  <a:lnTo>
                    <a:pt x="40" y="351"/>
                  </a:lnTo>
                  <a:lnTo>
                    <a:pt x="8" y="456"/>
                  </a:lnTo>
                  <a:lnTo>
                    <a:pt x="0" y="558"/>
                  </a:lnTo>
                  <a:lnTo>
                    <a:pt x="0" y="747"/>
                  </a:lnTo>
                  <a:lnTo>
                    <a:pt x="28" y="828"/>
                  </a:lnTo>
                  <a:lnTo>
                    <a:pt x="89" y="902"/>
                  </a:lnTo>
                  <a:lnTo>
                    <a:pt x="182" y="958"/>
                  </a:lnTo>
                  <a:lnTo>
                    <a:pt x="283" y="991"/>
                  </a:lnTo>
                  <a:lnTo>
                    <a:pt x="433" y="1019"/>
                  </a:lnTo>
                  <a:lnTo>
                    <a:pt x="587" y="1027"/>
                  </a:lnTo>
                  <a:lnTo>
                    <a:pt x="716" y="1023"/>
                  </a:lnTo>
                  <a:lnTo>
                    <a:pt x="797" y="1006"/>
                  </a:lnTo>
                  <a:lnTo>
                    <a:pt x="890" y="974"/>
                  </a:lnTo>
                  <a:lnTo>
                    <a:pt x="971" y="934"/>
                  </a:lnTo>
                  <a:lnTo>
                    <a:pt x="1048" y="877"/>
                  </a:lnTo>
                  <a:lnTo>
                    <a:pt x="1100" y="796"/>
                  </a:lnTo>
                  <a:lnTo>
                    <a:pt x="1120" y="743"/>
                  </a:lnTo>
                  <a:lnTo>
                    <a:pt x="1132" y="643"/>
                  </a:lnTo>
                  <a:lnTo>
                    <a:pt x="1141" y="586"/>
                  </a:lnTo>
                  <a:lnTo>
                    <a:pt x="1141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5800680" y="4748040"/>
              <a:ext cx="79560" cy="49320"/>
            </a:xfrm>
            <a:custGeom>
              <a:avLst/>
              <a:gdLst/>
              <a:ahLst/>
              <a:rect l="l" t="t" r="r" b="b"/>
              <a:pathLst>
                <a:path w="592" h="373">
                  <a:moveTo>
                    <a:pt x="498" y="157"/>
                  </a:moveTo>
                  <a:lnTo>
                    <a:pt x="357" y="154"/>
                  </a:lnTo>
                  <a:lnTo>
                    <a:pt x="215" y="186"/>
                  </a:lnTo>
                  <a:lnTo>
                    <a:pt x="85" y="267"/>
                  </a:lnTo>
                  <a:lnTo>
                    <a:pt x="0" y="373"/>
                  </a:lnTo>
                  <a:lnTo>
                    <a:pt x="41" y="239"/>
                  </a:lnTo>
                  <a:lnTo>
                    <a:pt x="114" y="129"/>
                  </a:lnTo>
                  <a:lnTo>
                    <a:pt x="235" y="40"/>
                  </a:lnTo>
                  <a:lnTo>
                    <a:pt x="284" y="25"/>
                  </a:lnTo>
                  <a:lnTo>
                    <a:pt x="389" y="0"/>
                  </a:lnTo>
                  <a:lnTo>
                    <a:pt x="446" y="8"/>
                  </a:lnTo>
                  <a:lnTo>
                    <a:pt x="490" y="36"/>
                  </a:lnTo>
                  <a:lnTo>
                    <a:pt x="490" y="69"/>
                  </a:lnTo>
                  <a:lnTo>
                    <a:pt x="498" y="101"/>
                  </a:lnTo>
                  <a:lnTo>
                    <a:pt x="526" y="133"/>
                  </a:lnTo>
                  <a:lnTo>
                    <a:pt x="592" y="194"/>
                  </a:lnTo>
                  <a:lnTo>
                    <a:pt x="498" y="157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5870520" y="5011560"/>
              <a:ext cx="163440" cy="146160"/>
            </a:xfrm>
            <a:custGeom>
              <a:avLst/>
              <a:gdLst/>
              <a:ahLst/>
              <a:rect l="l" t="t" r="r" b="b"/>
              <a:pathLst>
                <a:path w="1235" h="1104">
                  <a:moveTo>
                    <a:pt x="1235" y="255"/>
                  </a:moveTo>
                  <a:lnTo>
                    <a:pt x="1202" y="0"/>
                  </a:lnTo>
                  <a:lnTo>
                    <a:pt x="688" y="0"/>
                  </a:lnTo>
                  <a:lnTo>
                    <a:pt x="575" y="0"/>
                  </a:lnTo>
                  <a:lnTo>
                    <a:pt x="465" y="24"/>
                  </a:lnTo>
                  <a:lnTo>
                    <a:pt x="361" y="62"/>
                  </a:lnTo>
                  <a:lnTo>
                    <a:pt x="259" y="117"/>
                  </a:lnTo>
                  <a:lnTo>
                    <a:pt x="179" y="191"/>
                  </a:lnTo>
                  <a:lnTo>
                    <a:pt x="102" y="280"/>
                  </a:lnTo>
                  <a:lnTo>
                    <a:pt x="49" y="381"/>
                  </a:lnTo>
                  <a:lnTo>
                    <a:pt x="17" y="490"/>
                  </a:lnTo>
                  <a:lnTo>
                    <a:pt x="0" y="603"/>
                  </a:lnTo>
                  <a:lnTo>
                    <a:pt x="0" y="805"/>
                  </a:lnTo>
                  <a:lnTo>
                    <a:pt x="37" y="898"/>
                  </a:lnTo>
                  <a:lnTo>
                    <a:pt x="98" y="972"/>
                  </a:lnTo>
                  <a:lnTo>
                    <a:pt x="202" y="1032"/>
                  </a:lnTo>
                  <a:lnTo>
                    <a:pt x="304" y="1068"/>
                  </a:lnTo>
                  <a:lnTo>
                    <a:pt x="474" y="1101"/>
                  </a:lnTo>
                  <a:lnTo>
                    <a:pt x="628" y="1104"/>
                  </a:lnTo>
                  <a:lnTo>
                    <a:pt x="769" y="1101"/>
                  </a:lnTo>
                  <a:lnTo>
                    <a:pt x="866" y="1085"/>
                  </a:lnTo>
                  <a:lnTo>
                    <a:pt x="968" y="1053"/>
                  </a:lnTo>
                  <a:lnTo>
                    <a:pt x="1048" y="1004"/>
                  </a:lnTo>
                  <a:lnTo>
                    <a:pt x="1133" y="947"/>
                  </a:lnTo>
                  <a:lnTo>
                    <a:pt x="1194" y="858"/>
                  </a:lnTo>
                  <a:lnTo>
                    <a:pt x="1214" y="798"/>
                  </a:lnTo>
                  <a:lnTo>
                    <a:pt x="1231" y="696"/>
                  </a:lnTo>
                  <a:lnTo>
                    <a:pt x="1235" y="631"/>
                  </a:lnTo>
                  <a:lnTo>
                    <a:pt x="1235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5881680" y="5019840"/>
              <a:ext cx="84240" cy="53640"/>
            </a:xfrm>
            <a:custGeom>
              <a:avLst/>
              <a:gdLst/>
              <a:ahLst/>
              <a:rect l="l" t="t" r="r" b="b"/>
              <a:pathLst>
                <a:path w="639" h="408">
                  <a:moveTo>
                    <a:pt x="543" y="177"/>
                  </a:moveTo>
                  <a:lnTo>
                    <a:pt x="384" y="169"/>
                  </a:lnTo>
                  <a:lnTo>
                    <a:pt x="231" y="202"/>
                  </a:lnTo>
                  <a:lnTo>
                    <a:pt x="102" y="286"/>
                  </a:lnTo>
                  <a:lnTo>
                    <a:pt x="0" y="408"/>
                  </a:lnTo>
                  <a:lnTo>
                    <a:pt x="49" y="262"/>
                  </a:lnTo>
                  <a:lnTo>
                    <a:pt x="130" y="140"/>
                  </a:lnTo>
                  <a:lnTo>
                    <a:pt x="259" y="47"/>
                  </a:lnTo>
                  <a:lnTo>
                    <a:pt x="304" y="28"/>
                  </a:lnTo>
                  <a:lnTo>
                    <a:pt x="425" y="0"/>
                  </a:lnTo>
                  <a:lnTo>
                    <a:pt x="486" y="7"/>
                  </a:lnTo>
                  <a:lnTo>
                    <a:pt x="535" y="44"/>
                  </a:lnTo>
                  <a:lnTo>
                    <a:pt x="535" y="80"/>
                  </a:lnTo>
                  <a:lnTo>
                    <a:pt x="543" y="117"/>
                  </a:lnTo>
                  <a:lnTo>
                    <a:pt x="567" y="145"/>
                  </a:lnTo>
                  <a:lnTo>
                    <a:pt x="639" y="214"/>
                  </a:lnTo>
                  <a:lnTo>
                    <a:pt x="543" y="177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751360" y="2424240"/>
              <a:ext cx="1440000" cy="2628720"/>
            </a:xfrm>
            <a:custGeom>
              <a:avLst/>
              <a:gdLst/>
              <a:ahLst/>
              <a:rect l="l" t="t" r="r" b="b"/>
              <a:pathLst>
                <a:path w="10893" h="19880">
                  <a:moveTo>
                    <a:pt x="9571" y="0"/>
                  </a:moveTo>
                  <a:lnTo>
                    <a:pt x="9749" y="19"/>
                  </a:lnTo>
                  <a:lnTo>
                    <a:pt x="9874" y="64"/>
                  </a:lnTo>
                  <a:lnTo>
                    <a:pt x="9983" y="178"/>
                  </a:lnTo>
                  <a:lnTo>
                    <a:pt x="10117" y="403"/>
                  </a:lnTo>
                  <a:lnTo>
                    <a:pt x="10186" y="626"/>
                  </a:lnTo>
                  <a:lnTo>
                    <a:pt x="10278" y="1120"/>
                  </a:lnTo>
                  <a:lnTo>
                    <a:pt x="10319" y="1969"/>
                  </a:lnTo>
                  <a:lnTo>
                    <a:pt x="10299" y="2843"/>
                  </a:lnTo>
                  <a:lnTo>
                    <a:pt x="10254" y="3563"/>
                  </a:lnTo>
                  <a:lnTo>
                    <a:pt x="10186" y="4705"/>
                  </a:lnTo>
                  <a:lnTo>
                    <a:pt x="10186" y="5376"/>
                  </a:lnTo>
                  <a:lnTo>
                    <a:pt x="10259" y="5671"/>
                  </a:lnTo>
                  <a:lnTo>
                    <a:pt x="10367" y="5938"/>
                  </a:lnTo>
                  <a:lnTo>
                    <a:pt x="10570" y="6209"/>
                  </a:lnTo>
                  <a:lnTo>
                    <a:pt x="10748" y="6388"/>
                  </a:lnTo>
                  <a:lnTo>
                    <a:pt x="10792" y="6432"/>
                  </a:lnTo>
                  <a:lnTo>
                    <a:pt x="10817" y="6545"/>
                  </a:lnTo>
                  <a:lnTo>
                    <a:pt x="10586" y="8508"/>
                  </a:lnTo>
                  <a:lnTo>
                    <a:pt x="10513" y="8669"/>
                  </a:lnTo>
                  <a:lnTo>
                    <a:pt x="10392" y="8911"/>
                  </a:lnTo>
                  <a:lnTo>
                    <a:pt x="10165" y="9159"/>
                  </a:lnTo>
                  <a:lnTo>
                    <a:pt x="9902" y="9341"/>
                  </a:lnTo>
                  <a:lnTo>
                    <a:pt x="9571" y="9518"/>
                  </a:lnTo>
                  <a:lnTo>
                    <a:pt x="9291" y="9588"/>
                  </a:lnTo>
                  <a:lnTo>
                    <a:pt x="8992" y="9632"/>
                  </a:lnTo>
                  <a:lnTo>
                    <a:pt x="8992" y="10607"/>
                  </a:lnTo>
                  <a:lnTo>
                    <a:pt x="9971" y="11290"/>
                  </a:lnTo>
                  <a:lnTo>
                    <a:pt x="9919" y="11647"/>
                  </a:lnTo>
                  <a:lnTo>
                    <a:pt x="9919" y="11647"/>
                  </a:lnTo>
                  <a:lnTo>
                    <a:pt x="9907" y="11704"/>
                  </a:lnTo>
                  <a:lnTo>
                    <a:pt x="9813" y="11890"/>
                  </a:lnTo>
                  <a:lnTo>
                    <a:pt x="9680" y="12043"/>
                  </a:lnTo>
                  <a:lnTo>
                    <a:pt x="9514" y="12160"/>
                  </a:lnTo>
                  <a:lnTo>
                    <a:pt x="8944" y="12315"/>
                  </a:lnTo>
                  <a:lnTo>
                    <a:pt x="8891" y="12423"/>
                  </a:lnTo>
                  <a:lnTo>
                    <a:pt x="8733" y="12642"/>
                  </a:lnTo>
                  <a:lnTo>
                    <a:pt x="8544" y="12832"/>
                  </a:lnTo>
                  <a:lnTo>
                    <a:pt x="8317" y="12977"/>
                  </a:lnTo>
                  <a:lnTo>
                    <a:pt x="8070" y="13083"/>
                  </a:lnTo>
                  <a:lnTo>
                    <a:pt x="7973" y="13124"/>
                  </a:lnTo>
                  <a:lnTo>
                    <a:pt x="7605" y="13079"/>
                  </a:lnTo>
                  <a:lnTo>
                    <a:pt x="7399" y="13387"/>
                  </a:lnTo>
                  <a:lnTo>
                    <a:pt x="7140" y="13334"/>
                  </a:lnTo>
                  <a:lnTo>
                    <a:pt x="7091" y="13387"/>
                  </a:lnTo>
                  <a:lnTo>
                    <a:pt x="6953" y="13419"/>
                  </a:lnTo>
                  <a:lnTo>
                    <a:pt x="7038" y="13439"/>
                  </a:lnTo>
                  <a:lnTo>
                    <a:pt x="7038" y="13439"/>
                  </a:lnTo>
                  <a:lnTo>
                    <a:pt x="7067" y="13431"/>
                  </a:lnTo>
                  <a:lnTo>
                    <a:pt x="7099" y="13439"/>
                  </a:lnTo>
                  <a:lnTo>
                    <a:pt x="7116" y="13463"/>
                  </a:lnTo>
                  <a:lnTo>
                    <a:pt x="7119" y="13492"/>
                  </a:lnTo>
                  <a:lnTo>
                    <a:pt x="7112" y="13520"/>
                  </a:lnTo>
                  <a:lnTo>
                    <a:pt x="7091" y="13540"/>
                  </a:lnTo>
                  <a:lnTo>
                    <a:pt x="7091" y="13540"/>
                  </a:lnTo>
                  <a:lnTo>
                    <a:pt x="6942" y="13662"/>
                  </a:lnTo>
                  <a:lnTo>
                    <a:pt x="6760" y="13739"/>
                  </a:lnTo>
                  <a:lnTo>
                    <a:pt x="6565" y="13767"/>
                  </a:lnTo>
                  <a:lnTo>
                    <a:pt x="6367" y="13747"/>
                  </a:lnTo>
                  <a:lnTo>
                    <a:pt x="6367" y="13747"/>
                  </a:lnTo>
                  <a:lnTo>
                    <a:pt x="6363" y="13747"/>
                  </a:lnTo>
                  <a:lnTo>
                    <a:pt x="6319" y="13747"/>
                  </a:lnTo>
                  <a:lnTo>
                    <a:pt x="6287" y="13718"/>
                  </a:lnTo>
                  <a:lnTo>
                    <a:pt x="6266" y="13686"/>
                  </a:lnTo>
                  <a:lnTo>
                    <a:pt x="6270" y="13637"/>
                  </a:lnTo>
                  <a:lnTo>
                    <a:pt x="6387" y="13540"/>
                  </a:lnTo>
                  <a:lnTo>
                    <a:pt x="6165" y="13589"/>
                  </a:lnTo>
                  <a:lnTo>
                    <a:pt x="6169" y="13601"/>
                  </a:lnTo>
                  <a:lnTo>
                    <a:pt x="6270" y="14980"/>
                  </a:lnTo>
                  <a:lnTo>
                    <a:pt x="6270" y="16292"/>
                  </a:lnTo>
                  <a:lnTo>
                    <a:pt x="6270" y="16292"/>
                  </a:lnTo>
                  <a:lnTo>
                    <a:pt x="6541" y="16296"/>
                  </a:lnTo>
                  <a:lnTo>
                    <a:pt x="6537" y="16559"/>
                  </a:lnTo>
                  <a:lnTo>
                    <a:pt x="6295" y="17391"/>
                  </a:lnTo>
                  <a:lnTo>
                    <a:pt x="10893" y="17291"/>
                  </a:lnTo>
                  <a:lnTo>
                    <a:pt x="10893" y="17776"/>
                  </a:lnTo>
                  <a:lnTo>
                    <a:pt x="7144" y="18164"/>
                  </a:lnTo>
                  <a:lnTo>
                    <a:pt x="8317" y="19237"/>
                  </a:lnTo>
                  <a:lnTo>
                    <a:pt x="8366" y="19880"/>
                  </a:lnTo>
                  <a:lnTo>
                    <a:pt x="6108" y="18618"/>
                  </a:lnTo>
                  <a:lnTo>
                    <a:pt x="5862" y="18541"/>
                  </a:lnTo>
                  <a:lnTo>
                    <a:pt x="5603" y="18520"/>
                  </a:lnTo>
                  <a:lnTo>
                    <a:pt x="5340" y="18541"/>
                  </a:lnTo>
                  <a:lnTo>
                    <a:pt x="5085" y="18618"/>
                  </a:lnTo>
                  <a:lnTo>
                    <a:pt x="1893" y="19633"/>
                  </a:lnTo>
                  <a:lnTo>
                    <a:pt x="1893" y="19010"/>
                  </a:lnTo>
                  <a:lnTo>
                    <a:pt x="4021" y="18068"/>
                  </a:lnTo>
                  <a:lnTo>
                    <a:pt x="910" y="17561"/>
                  </a:lnTo>
                  <a:lnTo>
                    <a:pt x="919" y="17157"/>
                  </a:lnTo>
                  <a:lnTo>
                    <a:pt x="5141" y="17331"/>
                  </a:lnTo>
                  <a:lnTo>
                    <a:pt x="5190" y="16926"/>
                  </a:lnTo>
                  <a:lnTo>
                    <a:pt x="5190" y="16926"/>
                  </a:lnTo>
                  <a:lnTo>
                    <a:pt x="5190" y="14923"/>
                  </a:lnTo>
                  <a:lnTo>
                    <a:pt x="5243" y="13524"/>
                  </a:lnTo>
                  <a:lnTo>
                    <a:pt x="4191" y="12954"/>
                  </a:lnTo>
                  <a:lnTo>
                    <a:pt x="3641" y="12994"/>
                  </a:lnTo>
                  <a:lnTo>
                    <a:pt x="3087" y="12990"/>
                  </a:lnTo>
                  <a:lnTo>
                    <a:pt x="2544" y="12930"/>
                  </a:lnTo>
                  <a:lnTo>
                    <a:pt x="2003" y="12828"/>
                  </a:lnTo>
                  <a:lnTo>
                    <a:pt x="2003" y="12828"/>
                  </a:lnTo>
                  <a:lnTo>
                    <a:pt x="1780" y="12800"/>
                  </a:lnTo>
                  <a:lnTo>
                    <a:pt x="1384" y="12711"/>
                  </a:lnTo>
                  <a:lnTo>
                    <a:pt x="1000" y="12578"/>
                  </a:lnTo>
                  <a:lnTo>
                    <a:pt x="635" y="12395"/>
                  </a:lnTo>
                  <a:lnTo>
                    <a:pt x="304" y="12169"/>
                  </a:lnTo>
                  <a:lnTo>
                    <a:pt x="0" y="11901"/>
                  </a:lnTo>
                  <a:lnTo>
                    <a:pt x="7197" y="10551"/>
                  </a:lnTo>
                  <a:lnTo>
                    <a:pt x="7350" y="9478"/>
                  </a:lnTo>
                  <a:lnTo>
                    <a:pt x="9571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6386400" y="2422440"/>
              <a:ext cx="750960" cy="1265400"/>
            </a:xfrm>
            <a:custGeom>
              <a:avLst/>
              <a:gdLst/>
              <a:ahLst/>
              <a:rect l="l" t="t" r="r" b="b"/>
              <a:pathLst>
                <a:path w="5679" h="9568">
                  <a:moveTo>
                    <a:pt x="4559" y="0"/>
                  </a:moveTo>
                  <a:lnTo>
                    <a:pt x="4712" y="20"/>
                  </a:lnTo>
                  <a:lnTo>
                    <a:pt x="4825" y="65"/>
                  </a:lnTo>
                  <a:lnTo>
                    <a:pt x="4939" y="183"/>
                  </a:lnTo>
                  <a:lnTo>
                    <a:pt x="5072" y="404"/>
                  </a:lnTo>
                  <a:lnTo>
                    <a:pt x="5141" y="623"/>
                  </a:lnTo>
                  <a:lnTo>
                    <a:pt x="5210" y="1121"/>
                  </a:lnTo>
                  <a:lnTo>
                    <a:pt x="5251" y="1966"/>
                  </a:lnTo>
                  <a:lnTo>
                    <a:pt x="5210" y="2821"/>
                  </a:lnTo>
                  <a:lnTo>
                    <a:pt x="5166" y="3532"/>
                  </a:lnTo>
                  <a:lnTo>
                    <a:pt x="5096" y="4673"/>
                  </a:lnTo>
                  <a:lnTo>
                    <a:pt x="5096" y="5340"/>
                  </a:lnTo>
                  <a:lnTo>
                    <a:pt x="5166" y="5635"/>
                  </a:lnTo>
                  <a:lnTo>
                    <a:pt x="5274" y="5903"/>
                  </a:lnTo>
                  <a:lnTo>
                    <a:pt x="5452" y="6170"/>
                  </a:lnTo>
                  <a:lnTo>
                    <a:pt x="5610" y="6352"/>
                  </a:lnTo>
                  <a:lnTo>
                    <a:pt x="5654" y="6393"/>
                  </a:lnTo>
                  <a:lnTo>
                    <a:pt x="5679" y="6510"/>
                  </a:lnTo>
                  <a:lnTo>
                    <a:pt x="5452" y="8451"/>
                  </a:lnTo>
                  <a:lnTo>
                    <a:pt x="5384" y="8610"/>
                  </a:lnTo>
                  <a:lnTo>
                    <a:pt x="5274" y="8852"/>
                  </a:lnTo>
                  <a:lnTo>
                    <a:pt x="5072" y="9099"/>
                  </a:lnTo>
                  <a:lnTo>
                    <a:pt x="4846" y="9281"/>
                  </a:lnTo>
                  <a:lnTo>
                    <a:pt x="4559" y="9459"/>
                  </a:lnTo>
                  <a:lnTo>
                    <a:pt x="4307" y="9523"/>
                  </a:lnTo>
                  <a:lnTo>
                    <a:pt x="3681" y="9568"/>
                  </a:lnTo>
                  <a:lnTo>
                    <a:pt x="3057" y="9548"/>
                  </a:lnTo>
                  <a:lnTo>
                    <a:pt x="2382" y="9459"/>
                  </a:lnTo>
                  <a:lnTo>
                    <a:pt x="1714" y="9317"/>
                  </a:lnTo>
                  <a:lnTo>
                    <a:pt x="1056" y="9128"/>
                  </a:lnTo>
                  <a:lnTo>
                    <a:pt x="918" y="9043"/>
                  </a:lnTo>
                  <a:lnTo>
                    <a:pt x="663" y="8852"/>
                  </a:lnTo>
                  <a:lnTo>
                    <a:pt x="437" y="8613"/>
                  </a:lnTo>
                  <a:lnTo>
                    <a:pt x="384" y="8528"/>
                  </a:lnTo>
                  <a:lnTo>
                    <a:pt x="218" y="8213"/>
                  </a:lnTo>
                  <a:lnTo>
                    <a:pt x="93" y="7878"/>
                  </a:lnTo>
                  <a:lnTo>
                    <a:pt x="25" y="7533"/>
                  </a:lnTo>
                  <a:lnTo>
                    <a:pt x="0" y="7178"/>
                  </a:lnTo>
                  <a:lnTo>
                    <a:pt x="28" y="6817"/>
                  </a:lnTo>
                  <a:lnTo>
                    <a:pt x="36" y="6797"/>
                  </a:lnTo>
                  <a:lnTo>
                    <a:pt x="142" y="6530"/>
                  </a:lnTo>
                  <a:lnTo>
                    <a:pt x="287" y="6283"/>
                  </a:lnTo>
                  <a:lnTo>
                    <a:pt x="473" y="6073"/>
                  </a:lnTo>
                  <a:lnTo>
                    <a:pt x="696" y="5899"/>
                  </a:lnTo>
                  <a:lnTo>
                    <a:pt x="991" y="5551"/>
                  </a:lnTo>
                  <a:lnTo>
                    <a:pt x="1237" y="5179"/>
                  </a:lnTo>
                  <a:lnTo>
                    <a:pt x="1448" y="4778"/>
                  </a:lnTo>
                  <a:lnTo>
                    <a:pt x="1625" y="4309"/>
                  </a:lnTo>
                  <a:lnTo>
                    <a:pt x="1869" y="3139"/>
                  </a:lnTo>
                  <a:lnTo>
                    <a:pt x="2062" y="1962"/>
                  </a:lnTo>
                  <a:lnTo>
                    <a:pt x="2188" y="979"/>
                  </a:lnTo>
                  <a:lnTo>
                    <a:pt x="2188" y="979"/>
                  </a:lnTo>
                  <a:lnTo>
                    <a:pt x="2204" y="890"/>
                  </a:lnTo>
                  <a:lnTo>
                    <a:pt x="2277" y="672"/>
                  </a:lnTo>
                  <a:lnTo>
                    <a:pt x="2395" y="478"/>
                  </a:lnTo>
                  <a:lnTo>
                    <a:pt x="2556" y="312"/>
                  </a:lnTo>
                  <a:lnTo>
                    <a:pt x="2747" y="186"/>
                  </a:lnTo>
                  <a:lnTo>
                    <a:pt x="2968" y="113"/>
                  </a:lnTo>
                  <a:lnTo>
                    <a:pt x="4559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5721480" y="3745080"/>
              <a:ext cx="1101600" cy="353880"/>
            </a:xfrm>
            <a:custGeom>
              <a:avLst/>
              <a:gdLst/>
              <a:ahLst/>
              <a:rect l="l" t="t" r="r" b="b"/>
              <a:pathLst>
                <a:path w="8329" h="2687">
                  <a:moveTo>
                    <a:pt x="222" y="1185"/>
                  </a:moveTo>
                  <a:lnTo>
                    <a:pt x="299" y="1141"/>
                  </a:lnTo>
                  <a:lnTo>
                    <a:pt x="748" y="890"/>
                  </a:lnTo>
                  <a:lnTo>
                    <a:pt x="1222" y="684"/>
                  </a:lnTo>
                  <a:lnTo>
                    <a:pt x="1720" y="530"/>
                  </a:lnTo>
                  <a:lnTo>
                    <a:pt x="2702" y="239"/>
                  </a:lnTo>
                  <a:lnTo>
                    <a:pt x="3184" y="109"/>
                  </a:lnTo>
                  <a:lnTo>
                    <a:pt x="3681" y="28"/>
                  </a:lnTo>
                  <a:lnTo>
                    <a:pt x="4179" y="0"/>
                  </a:lnTo>
                  <a:lnTo>
                    <a:pt x="4684" y="20"/>
                  </a:lnTo>
                  <a:lnTo>
                    <a:pt x="5181" y="94"/>
                  </a:lnTo>
                  <a:lnTo>
                    <a:pt x="5671" y="215"/>
                  </a:lnTo>
                  <a:lnTo>
                    <a:pt x="8329" y="894"/>
                  </a:lnTo>
                  <a:lnTo>
                    <a:pt x="7249" y="1869"/>
                  </a:lnTo>
                  <a:lnTo>
                    <a:pt x="4486" y="2520"/>
                  </a:lnTo>
                  <a:lnTo>
                    <a:pt x="4368" y="2553"/>
                  </a:lnTo>
                  <a:lnTo>
                    <a:pt x="3899" y="2645"/>
                  </a:lnTo>
                  <a:lnTo>
                    <a:pt x="3422" y="2687"/>
                  </a:lnTo>
                  <a:lnTo>
                    <a:pt x="2949" y="2674"/>
                  </a:lnTo>
                  <a:lnTo>
                    <a:pt x="2758" y="2650"/>
                  </a:lnTo>
                  <a:lnTo>
                    <a:pt x="2075" y="2541"/>
                  </a:lnTo>
                  <a:lnTo>
                    <a:pt x="1404" y="2379"/>
                  </a:lnTo>
                  <a:lnTo>
                    <a:pt x="757" y="2165"/>
                  </a:lnTo>
                  <a:lnTo>
                    <a:pt x="97" y="1885"/>
                  </a:lnTo>
                  <a:lnTo>
                    <a:pt x="29" y="1743"/>
                  </a:lnTo>
                  <a:lnTo>
                    <a:pt x="0" y="1586"/>
                  </a:lnTo>
                  <a:lnTo>
                    <a:pt x="29" y="1436"/>
                  </a:lnTo>
                  <a:lnTo>
                    <a:pt x="101" y="1299"/>
                  </a:lnTo>
                  <a:lnTo>
                    <a:pt x="222" y="1185"/>
                  </a:lnTo>
                  <a:close/>
                </a:path>
              </a:pathLst>
            </a:custGeom>
            <a:solidFill>
              <a:srgbClr val="339933"/>
            </a:solidFill>
            <a:ln w="0">
              <a:solidFill>
                <a:srgbClr val="00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5783400" y="3765600"/>
              <a:ext cx="1274760" cy="293760"/>
            </a:xfrm>
            <a:custGeom>
              <a:avLst/>
              <a:gdLst/>
              <a:ahLst/>
              <a:rect l="l" t="t" r="r" b="b"/>
              <a:pathLst>
                <a:path w="9628" h="2209">
                  <a:moveTo>
                    <a:pt x="4737" y="2205"/>
                  </a:moveTo>
                  <a:lnTo>
                    <a:pt x="4531" y="2209"/>
                  </a:lnTo>
                  <a:lnTo>
                    <a:pt x="3762" y="2209"/>
                  </a:lnTo>
                  <a:lnTo>
                    <a:pt x="2993" y="2148"/>
                  </a:lnTo>
                  <a:lnTo>
                    <a:pt x="2229" y="2047"/>
                  </a:lnTo>
                  <a:lnTo>
                    <a:pt x="1476" y="1889"/>
                  </a:lnTo>
                  <a:lnTo>
                    <a:pt x="729" y="1687"/>
                  </a:lnTo>
                  <a:lnTo>
                    <a:pt x="0" y="1432"/>
                  </a:lnTo>
                  <a:lnTo>
                    <a:pt x="736" y="1602"/>
                  </a:lnTo>
                  <a:lnTo>
                    <a:pt x="1481" y="1715"/>
                  </a:lnTo>
                  <a:lnTo>
                    <a:pt x="2225" y="1785"/>
                  </a:lnTo>
                  <a:lnTo>
                    <a:pt x="2974" y="1800"/>
                  </a:lnTo>
                  <a:lnTo>
                    <a:pt x="3721" y="1764"/>
                  </a:lnTo>
                  <a:lnTo>
                    <a:pt x="3965" y="1744"/>
                  </a:lnTo>
                  <a:lnTo>
                    <a:pt x="5679" y="1295"/>
                  </a:lnTo>
                  <a:lnTo>
                    <a:pt x="7386" y="801"/>
                  </a:lnTo>
                  <a:lnTo>
                    <a:pt x="7819" y="667"/>
                  </a:lnTo>
                  <a:lnTo>
                    <a:pt x="7334" y="732"/>
                  </a:lnTo>
                  <a:lnTo>
                    <a:pt x="6946" y="817"/>
                  </a:lnTo>
                  <a:lnTo>
                    <a:pt x="6528" y="781"/>
                  </a:lnTo>
                  <a:lnTo>
                    <a:pt x="5473" y="643"/>
                  </a:lnTo>
                  <a:lnTo>
                    <a:pt x="4430" y="461"/>
                  </a:lnTo>
                  <a:lnTo>
                    <a:pt x="3669" y="340"/>
                  </a:lnTo>
                  <a:lnTo>
                    <a:pt x="2900" y="267"/>
                  </a:lnTo>
                  <a:lnTo>
                    <a:pt x="2265" y="255"/>
                  </a:lnTo>
                  <a:lnTo>
                    <a:pt x="2690" y="145"/>
                  </a:lnTo>
                  <a:lnTo>
                    <a:pt x="3269" y="49"/>
                  </a:lnTo>
                  <a:lnTo>
                    <a:pt x="3855" y="0"/>
                  </a:lnTo>
                  <a:lnTo>
                    <a:pt x="4442" y="0"/>
                  </a:lnTo>
                  <a:lnTo>
                    <a:pt x="5028" y="53"/>
                  </a:lnTo>
                  <a:lnTo>
                    <a:pt x="5607" y="153"/>
                  </a:lnTo>
                  <a:lnTo>
                    <a:pt x="6176" y="308"/>
                  </a:lnTo>
                  <a:lnTo>
                    <a:pt x="6448" y="388"/>
                  </a:lnTo>
                  <a:lnTo>
                    <a:pt x="7083" y="478"/>
                  </a:lnTo>
                  <a:lnTo>
                    <a:pt x="7722" y="522"/>
                  </a:lnTo>
                  <a:lnTo>
                    <a:pt x="8244" y="518"/>
                  </a:lnTo>
                  <a:lnTo>
                    <a:pt x="8514" y="473"/>
                  </a:lnTo>
                  <a:lnTo>
                    <a:pt x="8843" y="469"/>
                  </a:lnTo>
                  <a:lnTo>
                    <a:pt x="9166" y="518"/>
                  </a:lnTo>
                  <a:lnTo>
                    <a:pt x="9336" y="607"/>
                  </a:lnTo>
                  <a:lnTo>
                    <a:pt x="9502" y="749"/>
                  </a:lnTo>
                  <a:lnTo>
                    <a:pt x="9628" y="926"/>
                  </a:lnTo>
                  <a:lnTo>
                    <a:pt x="9628" y="926"/>
                  </a:lnTo>
                  <a:lnTo>
                    <a:pt x="9628" y="1234"/>
                  </a:lnTo>
                  <a:lnTo>
                    <a:pt x="8673" y="1339"/>
                  </a:lnTo>
                  <a:lnTo>
                    <a:pt x="7726" y="1497"/>
                  </a:lnTo>
                  <a:lnTo>
                    <a:pt x="6783" y="1707"/>
                  </a:lnTo>
                  <a:lnTo>
                    <a:pt x="6080" y="1897"/>
                  </a:lnTo>
                  <a:lnTo>
                    <a:pt x="4737" y="2205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464160" y="2421000"/>
              <a:ext cx="611280" cy="853920"/>
            </a:xfrm>
            <a:custGeom>
              <a:avLst/>
              <a:gdLst/>
              <a:ahLst/>
              <a:rect l="l" t="t" r="r" b="b"/>
              <a:pathLst>
                <a:path w="4612" h="6449">
                  <a:moveTo>
                    <a:pt x="2379" y="106"/>
                  </a:moveTo>
                  <a:lnTo>
                    <a:pt x="2164" y="182"/>
                  </a:lnTo>
                  <a:lnTo>
                    <a:pt x="1971" y="299"/>
                  </a:lnTo>
                  <a:lnTo>
                    <a:pt x="1894" y="360"/>
                  </a:lnTo>
                  <a:lnTo>
                    <a:pt x="1788" y="498"/>
                  </a:lnTo>
                  <a:lnTo>
                    <a:pt x="1857" y="469"/>
                  </a:lnTo>
                  <a:lnTo>
                    <a:pt x="1901" y="461"/>
                  </a:lnTo>
                  <a:lnTo>
                    <a:pt x="1975" y="498"/>
                  </a:lnTo>
                  <a:lnTo>
                    <a:pt x="2015" y="615"/>
                  </a:lnTo>
                  <a:lnTo>
                    <a:pt x="2043" y="995"/>
                  </a:lnTo>
                  <a:lnTo>
                    <a:pt x="2039" y="1574"/>
                  </a:lnTo>
                  <a:lnTo>
                    <a:pt x="1994" y="2188"/>
                  </a:lnTo>
                  <a:lnTo>
                    <a:pt x="1905" y="2784"/>
                  </a:lnTo>
                  <a:lnTo>
                    <a:pt x="1873" y="2982"/>
                  </a:lnTo>
                  <a:lnTo>
                    <a:pt x="1591" y="4175"/>
                  </a:lnTo>
                  <a:lnTo>
                    <a:pt x="1198" y="5478"/>
                  </a:lnTo>
                  <a:lnTo>
                    <a:pt x="1031" y="5729"/>
                  </a:lnTo>
                  <a:lnTo>
                    <a:pt x="834" y="5940"/>
                  </a:lnTo>
                  <a:lnTo>
                    <a:pt x="599" y="6105"/>
                  </a:lnTo>
                  <a:lnTo>
                    <a:pt x="352" y="6235"/>
                  </a:lnTo>
                  <a:lnTo>
                    <a:pt x="0" y="6315"/>
                  </a:lnTo>
                  <a:lnTo>
                    <a:pt x="53" y="6315"/>
                  </a:lnTo>
                  <a:lnTo>
                    <a:pt x="284" y="6328"/>
                  </a:lnTo>
                  <a:lnTo>
                    <a:pt x="506" y="6283"/>
                  </a:lnTo>
                  <a:lnTo>
                    <a:pt x="721" y="6198"/>
                  </a:lnTo>
                  <a:lnTo>
                    <a:pt x="902" y="6065"/>
                  </a:lnTo>
                  <a:lnTo>
                    <a:pt x="1056" y="5891"/>
                  </a:lnTo>
                  <a:lnTo>
                    <a:pt x="1177" y="5692"/>
                  </a:lnTo>
                  <a:lnTo>
                    <a:pt x="1311" y="5333"/>
                  </a:lnTo>
                  <a:lnTo>
                    <a:pt x="1638" y="4159"/>
                  </a:lnTo>
                  <a:lnTo>
                    <a:pt x="1918" y="2973"/>
                  </a:lnTo>
                  <a:lnTo>
                    <a:pt x="2149" y="1772"/>
                  </a:lnTo>
                  <a:lnTo>
                    <a:pt x="2327" y="562"/>
                  </a:lnTo>
                  <a:lnTo>
                    <a:pt x="2391" y="365"/>
                  </a:lnTo>
                  <a:lnTo>
                    <a:pt x="2484" y="255"/>
                  </a:lnTo>
                  <a:lnTo>
                    <a:pt x="2618" y="166"/>
                  </a:lnTo>
                  <a:lnTo>
                    <a:pt x="2788" y="138"/>
                  </a:lnTo>
                  <a:lnTo>
                    <a:pt x="3046" y="121"/>
                  </a:lnTo>
                  <a:lnTo>
                    <a:pt x="3350" y="134"/>
                  </a:lnTo>
                  <a:lnTo>
                    <a:pt x="3548" y="157"/>
                  </a:lnTo>
                  <a:lnTo>
                    <a:pt x="3694" y="239"/>
                  </a:lnTo>
                  <a:lnTo>
                    <a:pt x="3694" y="246"/>
                  </a:lnTo>
                  <a:lnTo>
                    <a:pt x="3783" y="365"/>
                  </a:lnTo>
                  <a:lnTo>
                    <a:pt x="3835" y="486"/>
                  </a:lnTo>
                  <a:lnTo>
                    <a:pt x="3863" y="671"/>
                  </a:lnTo>
                  <a:lnTo>
                    <a:pt x="3795" y="1825"/>
                  </a:lnTo>
                  <a:lnTo>
                    <a:pt x="3713" y="2941"/>
                  </a:lnTo>
                  <a:lnTo>
                    <a:pt x="3637" y="4087"/>
                  </a:lnTo>
                  <a:lnTo>
                    <a:pt x="3592" y="5227"/>
                  </a:lnTo>
                  <a:lnTo>
                    <a:pt x="3617" y="5587"/>
                  </a:lnTo>
                  <a:lnTo>
                    <a:pt x="3666" y="5793"/>
                  </a:lnTo>
                  <a:lnTo>
                    <a:pt x="3746" y="5984"/>
                  </a:lnTo>
                  <a:lnTo>
                    <a:pt x="3868" y="6146"/>
                  </a:lnTo>
                  <a:lnTo>
                    <a:pt x="4025" y="6291"/>
                  </a:lnTo>
                  <a:lnTo>
                    <a:pt x="4191" y="6392"/>
                  </a:lnTo>
                  <a:lnTo>
                    <a:pt x="4385" y="6445"/>
                  </a:lnTo>
                  <a:lnTo>
                    <a:pt x="4478" y="6449"/>
                  </a:lnTo>
                  <a:lnTo>
                    <a:pt x="4207" y="6291"/>
                  </a:lnTo>
                  <a:lnTo>
                    <a:pt x="4025" y="6109"/>
                  </a:lnTo>
                  <a:lnTo>
                    <a:pt x="3887" y="5906"/>
                  </a:lnTo>
                  <a:lnTo>
                    <a:pt x="3774" y="5660"/>
                  </a:lnTo>
                  <a:lnTo>
                    <a:pt x="3685" y="5389"/>
                  </a:lnTo>
                  <a:lnTo>
                    <a:pt x="3730" y="4119"/>
                  </a:lnTo>
                  <a:lnTo>
                    <a:pt x="3823" y="2784"/>
                  </a:lnTo>
                  <a:lnTo>
                    <a:pt x="3883" y="1865"/>
                  </a:lnTo>
                  <a:lnTo>
                    <a:pt x="3961" y="745"/>
                  </a:lnTo>
                  <a:lnTo>
                    <a:pt x="3912" y="498"/>
                  </a:lnTo>
                  <a:lnTo>
                    <a:pt x="3868" y="384"/>
                  </a:lnTo>
                  <a:lnTo>
                    <a:pt x="3774" y="227"/>
                  </a:lnTo>
                  <a:lnTo>
                    <a:pt x="3787" y="198"/>
                  </a:lnTo>
                  <a:lnTo>
                    <a:pt x="3840" y="195"/>
                  </a:lnTo>
                  <a:lnTo>
                    <a:pt x="3961" y="235"/>
                  </a:lnTo>
                  <a:lnTo>
                    <a:pt x="4078" y="295"/>
                  </a:lnTo>
                  <a:lnTo>
                    <a:pt x="4179" y="365"/>
                  </a:lnTo>
                  <a:lnTo>
                    <a:pt x="4275" y="441"/>
                  </a:lnTo>
                  <a:lnTo>
                    <a:pt x="4357" y="522"/>
                  </a:lnTo>
                  <a:lnTo>
                    <a:pt x="4430" y="635"/>
                  </a:lnTo>
                  <a:lnTo>
                    <a:pt x="4523" y="857"/>
                  </a:lnTo>
                  <a:lnTo>
                    <a:pt x="4612" y="1093"/>
                  </a:lnTo>
                  <a:lnTo>
                    <a:pt x="4555" y="635"/>
                  </a:lnTo>
                  <a:lnTo>
                    <a:pt x="4487" y="416"/>
                  </a:lnTo>
                  <a:lnTo>
                    <a:pt x="4357" y="195"/>
                  </a:lnTo>
                  <a:lnTo>
                    <a:pt x="4239" y="77"/>
                  </a:lnTo>
                  <a:lnTo>
                    <a:pt x="4131" y="28"/>
                  </a:lnTo>
                  <a:lnTo>
                    <a:pt x="3976" y="0"/>
                  </a:lnTo>
                  <a:lnTo>
                    <a:pt x="2379" y="106"/>
                  </a:lnTo>
                  <a:close/>
                </a:path>
              </a:pathLst>
            </a:custGeom>
            <a:solidFill>
              <a:srgbClr val="339933"/>
            </a:solidFill>
            <a:ln w="0">
              <a:solidFill>
                <a:srgbClr val="00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761160" y="4076640"/>
              <a:ext cx="36360" cy="49320"/>
            </a:xfrm>
            <a:custGeom>
              <a:avLst/>
              <a:gdLst/>
              <a:ahLst/>
              <a:rect l="l" t="t" r="r" b="b"/>
              <a:pathLst>
                <a:path w="275" h="376">
                  <a:moveTo>
                    <a:pt x="275" y="0"/>
                  </a:moveTo>
                  <a:lnTo>
                    <a:pt x="275" y="323"/>
                  </a:lnTo>
                  <a:lnTo>
                    <a:pt x="275" y="323"/>
                  </a:lnTo>
                  <a:lnTo>
                    <a:pt x="0" y="376"/>
                  </a:lnTo>
                </a:path>
              </a:pathLst>
            </a:cu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6207120" y="4043520"/>
              <a:ext cx="760320" cy="190440"/>
            </a:xfrm>
            <a:custGeom>
              <a:avLst/>
              <a:gdLst/>
              <a:ahLst/>
              <a:rect l="l" t="t" r="r" b="b"/>
              <a:pathLst>
                <a:path w="5756" h="1433">
                  <a:moveTo>
                    <a:pt x="0" y="781"/>
                  </a:moveTo>
                  <a:lnTo>
                    <a:pt x="770" y="1121"/>
                  </a:lnTo>
                  <a:lnTo>
                    <a:pt x="2412" y="1433"/>
                  </a:lnTo>
                  <a:lnTo>
                    <a:pt x="923" y="798"/>
                  </a:lnTo>
                  <a:lnTo>
                    <a:pt x="1198" y="762"/>
                  </a:lnTo>
                  <a:lnTo>
                    <a:pt x="1890" y="660"/>
                  </a:lnTo>
                  <a:lnTo>
                    <a:pt x="2586" y="611"/>
                  </a:lnTo>
                  <a:lnTo>
                    <a:pt x="3285" y="611"/>
                  </a:lnTo>
                  <a:lnTo>
                    <a:pt x="3285" y="866"/>
                  </a:lnTo>
                  <a:lnTo>
                    <a:pt x="4212" y="717"/>
                  </a:lnTo>
                  <a:lnTo>
                    <a:pt x="4207" y="624"/>
                  </a:lnTo>
                  <a:lnTo>
                    <a:pt x="3386" y="762"/>
                  </a:lnTo>
                  <a:lnTo>
                    <a:pt x="3386" y="773"/>
                  </a:lnTo>
                  <a:lnTo>
                    <a:pt x="3386" y="393"/>
                  </a:lnTo>
                  <a:lnTo>
                    <a:pt x="4475" y="244"/>
                  </a:lnTo>
                  <a:lnTo>
                    <a:pt x="4475" y="373"/>
                  </a:lnTo>
                  <a:lnTo>
                    <a:pt x="5397" y="206"/>
                  </a:lnTo>
                  <a:lnTo>
                    <a:pt x="5756" y="0"/>
                  </a:lnTo>
                  <a:lnTo>
                    <a:pt x="4523" y="159"/>
                  </a:lnTo>
                  <a:lnTo>
                    <a:pt x="1436" y="620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526080" y="4187880"/>
              <a:ext cx="168480" cy="47520"/>
            </a:xfrm>
            <a:custGeom>
              <a:avLst/>
              <a:gdLst/>
              <a:ahLst/>
              <a:rect l="l" t="t" r="r" b="b"/>
              <a:pathLst>
                <a:path w="1274" h="356">
                  <a:moveTo>
                    <a:pt x="0" y="356"/>
                  </a:moveTo>
                  <a:lnTo>
                    <a:pt x="1274" y="0"/>
                  </a:lnTo>
                  <a:lnTo>
                    <a:pt x="1242" y="49"/>
                  </a:lnTo>
                  <a:lnTo>
                    <a:pt x="315" y="320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757920" y="3819600"/>
              <a:ext cx="60480" cy="14040"/>
            </a:xfrm>
            <a:custGeom>
              <a:avLst/>
              <a:gdLst/>
              <a:ahLst/>
              <a:rect l="l" t="t" r="r" b="b"/>
              <a:pathLst>
                <a:path w="461" h="106">
                  <a:moveTo>
                    <a:pt x="0" y="0"/>
                  </a:moveTo>
                  <a:lnTo>
                    <a:pt x="461" y="57"/>
                  </a:lnTo>
                  <a:lnTo>
                    <a:pt x="409" y="106"/>
                  </a:lnTo>
                </a:path>
              </a:pathLst>
            </a:cu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V="1">
              <a:off x="6886440" y="3697200"/>
              <a:ext cx="6480" cy="122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697800" y="4145040"/>
              <a:ext cx="21960" cy="42840"/>
            </a:xfrm>
            <a:custGeom>
              <a:avLst/>
              <a:gdLst/>
              <a:ahLst/>
              <a:rect l="l" t="t" r="r" b="b"/>
              <a:pathLst>
                <a:path w="170" h="331">
                  <a:moveTo>
                    <a:pt x="73" y="23"/>
                  </a:moveTo>
                  <a:lnTo>
                    <a:pt x="0" y="331"/>
                  </a:lnTo>
                  <a:lnTo>
                    <a:pt x="49" y="286"/>
                  </a:lnTo>
                  <a:lnTo>
                    <a:pt x="170" y="0"/>
                  </a:lnTo>
                  <a:lnTo>
                    <a:pt x="73" y="2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940440" y="3524400"/>
              <a:ext cx="208080" cy="172800"/>
            </a:xfrm>
            <a:custGeom>
              <a:avLst/>
              <a:gdLst/>
              <a:ahLst/>
              <a:rect l="l" t="t" r="r" b="b"/>
              <a:pathLst>
                <a:path w="1578" h="1315">
                  <a:moveTo>
                    <a:pt x="1578" y="203"/>
                  </a:moveTo>
                  <a:lnTo>
                    <a:pt x="1517" y="356"/>
                  </a:lnTo>
                  <a:lnTo>
                    <a:pt x="1396" y="599"/>
                  </a:lnTo>
                  <a:lnTo>
                    <a:pt x="1169" y="846"/>
                  </a:lnTo>
                  <a:lnTo>
                    <a:pt x="906" y="1024"/>
                  </a:lnTo>
                  <a:lnTo>
                    <a:pt x="579" y="1205"/>
                  </a:lnTo>
                  <a:lnTo>
                    <a:pt x="295" y="1275"/>
                  </a:lnTo>
                  <a:lnTo>
                    <a:pt x="0" y="1315"/>
                  </a:lnTo>
                  <a:lnTo>
                    <a:pt x="235" y="1279"/>
                  </a:lnTo>
                  <a:lnTo>
                    <a:pt x="478" y="1210"/>
                  </a:lnTo>
                  <a:lnTo>
                    <a:pt x="769" y="1020"/>
                  </a:lnTo>
                  <a:lnTo>
                    <a:pt x="995" y="830"/>
                  </a:lnTo>
                  <a:lnTo>
                    <a:pt x="1194" y="566"/>
                  </a:lnTo>
                  <a:lnTo>
                    <a:pt x="1307" y="308"/>
                  </a:lnTo>
                  <a:lnTo>
                    <a:pt x="1396" y="0"/>
                  </a:lnTo>
                  <a:lnTo>
                    <a:pt x="1578" y="20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7004160" y="2424240"/>
              <a:ext cx="118800" cy="423720"/>
            </a:xfrm>
            <a:custGeom>
              <a:avLst/>
              <a:gdLst/>
              <a:ahLst/>
              <a:rect l="l" t="t" r="r" b="b"/>
              <a:pathLst>
                <a:path w="897" h="3203">
                  <a:moveTo>
                    <a:pt x="825" y="3203"/>
                  </a:moveTo>
                  <a:lnTo>
                    <a:pt x="842" y="2835"/>
                  </a:lnTo>
                  <a:lnTo>
                    <a:pt x="897" y="1974"/>
                  </a:lnTo>
                  <a:lnTo>
                    <a:pt x="842" y="1124"/>
                  </a:lnTo>
                  <a:lnTo>
                    <a:pt x="768" y="626"/>
                  </a:lnTo>
                  <a:lnTo>
                    <a:pt x="691" y="404"/>
                  </a:lnTo>
                  <a:lnTo>
                    <a:pt x="538" y="177"/>
                  </a:lnTo>
                  <a:lnTo>
                    <a:pt x="405" y="64"/>
                  </a:lnTo>
                  <a:lnTo>
                    <a:pt x="279" y="15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161" y="15"/>
                  </a:lnTo>
                  <a:lnTo>
                    <a:pt x="271" y="64"/>
                  </a:lnTo>
                  <a:lnTo>
                    <a:pt x="380" y="177"/>
                  </a:lnTo>
                  <a:lnTo>
                    <a:pt x="517" y="404"/>
                  </a:lnTo>
                  <a:lnTo>
                    <a:pt x="586" y="622"/>
                  </a:lnTo>
                  <a:lnTo>
                    <a:pt x="651" y="1116"/>
                  </a:lnTo>
                  <a:lnTo>
                    <a:pt x="700" y="1965"/>
                  </a:lnTo>
                  <a:lnTo>
                    <a:pt x="651" y="2819"/>
                  </a:lnTo>
                  <a:lnTo>
                    <a:pt x="825" y="320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7097760" y="3135240"/>
              <a:ext cx="84240" cy="139680"/>
            </a:xfrm>
            <a:custGeom>
              <a:avLst/>
              <a:gdLst/>
              <a:ahLst/>
              <a:rect l="l" t="t" r="r" b="b"/>
              <a:pathLst>
                <a:path w="635" h="1064">
                  <a:moveTo>
                    <a:pt x="0" y="0"/>
                  </a:moveTo>
                  <a:lnTo>
                    <a:pt x="77" y="295"/>
                  </a:lnTo>
                  <a:lnTo>
                    <a:pt x="206" y="562"/>
                  </a:lnTo>
                  <a:lnTo>
                    <a:pt x="404" y="829"/>
                  </a:lnTo>
                  <a:lnTo>
                    <a:pt x="590" y="1016"/>
                  </a:lnTo>
                  <a:lnTo>
                    <a:pt x="635" y="1064"/>
                  </a:lnTo>
                  <a:lnTo>
                    <a:pt x="384" y="1031"/>
                  </a:lnTo>
                  <a:lnTo>
                    <a:pt x="340" y="987"/>
                  </a:lnTo>
                  <a:lnTo>
                    <a:pt x="181" y="805"/>
                  </a:lnTo>
                  <a:lnTo>
                    <a:pt x="0" y="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962760" y="2446200"/>
              <a:ext cx="181080" cy="1236960"/>
            </a:xfrm>
            <a:custGeom>
              <a:avLst/>
              <a:gdLst/>
              <a:ahLst/>
              <a:rect l="l" t="t" r="r" b="b"/>
              <a:pathLst>
                <a:path w="1367" h="9344">
                  <a:moveTo>
                    <a:pt x="628" y="0"/>
                  </a:moveTo>
                  <a:lnTo>
                    <a:pt x="764" y="225"/>
                  </a:lnTo>
                  <a:lnTo>
                    <a:pt x="830" y="444"/>
                  </a:lnTo>
                  <a:lnTo>
                    <a:pt x="898" y="938"/>
                  </a:lnTo>
                  <a:lnTo>
                    <a:pt x="942" y="1787"/>
                  </a:lnTo>
                  <a:lnTo>
                    <a:pt x="898" y="2641"/>
                  </a:lnTo>
                  <a:lnTo>
                    <a:pt x="853" y="3353"/>
                  </a:lnTo>
                  <a:lnTo>
                    <a:pt x="785" y="4494"/>
                  </a:lnTo>
                  <a:lnTo>
                    <a:pt x="785" y="5161"/>
                  </a:lnTo>
                  <a:lnTo>
                    <a:pt x="853" y="5457"/>
                  </a:lnTo>
                  <a:lnTo>
                    <a:pt x="963" y="5724"/>
                  </a:lnTo>
                  <a:lnTo>
                    <a:pt x="1145" y="5991"/>
                  </a:lnTo>
                  <a:lnTo>
                    <a:pt x="1303" y="6173"/>
                  </a:lnTo>
                  <a:lnTo>
                    <a:pt x="1347" y="6214"/>
                  </a:lnTo>
                  <a:lnTo>
                    <a:pt x="1367" y="6327"/>
                  </a:lnTo>
                  <a:lnTo>
                    <a:pt x="1145" y="8273"/>
                  </a:lnTo>
                  <a:lnTo>
                    <a:pt x="1076" y="8427"/>
                  </a:lnTo>
                  <a:lnTo>
                    <a:pt x="963" y="8673"/>
                  </a:lnTo>
                  <a:lnTo>
                    <a:pt x="764" y="8920"/>
                  </a:lnTo>
                  <a:lnTo>
                    <a:pt x="539" y="9098"/>
                  </a:lnTo>
                  <a:lnTo>
                    <a:pt x="247" y="9280"/>
                  </a:lnTo>
                  <a:lnTo>
                    <a:pt x="0" y="934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434280" y="4216320"/>
              <a:ext cx="29880" cy="503280"/>
            </a:xfrm>
            <a:custGeom>
              <a:avLst/>
              <a:gdLst/>
              <a:ahLst/>
              <a:rect l="l" t="t" r="r" b="b"/>
              <a:pathLst>
                <a:path w="222" h="3807">
                  <a:moveTo>
                    <a:pt x="222" y="3779"/>
                  </a:moveTo>
                  <a:lnTo>
                    <a:pt x="0" y="3807"/>
                  </a:lnTo>
                  <a:lnTo>
                    <a:pt x="52" y="3399"/>
                  </a:lnTo>
                  <a:lnTo>
                    <a:pt x="52" y="3399"/>
                  </a:lnTo>
                  <a:lnTo>
                    <a:pt x="52" y="1400"/>
                  </a:lnTo>
                  <a:lnTo>
                    <a:pt x="105" y="0"/>
                  </a:lnTo>
                  <a:lnTo>
                    <a:pt x="222" y="3779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859360" y="4559400"/>
              <a:ext cx="1371600" cy="501480"/>
            </a:xfrm>
            <a:custGeom>
              <a:avLst/>
              <a:gdLst/>
              <a:ahLst/>
              <a:rect l="l" t="t" r="r" b="b"/>
              <a:pathLst>
                <a:path w="10371" h="3795">
                  <a:moveTo>
                    <a:pt x="5461" y="13"/>
                  </a:moveTo>
                  <a:lnTo>
                    <a:pt x="5570" y="0"/>
                  </a:lnTo>
                  <a:lnTo>
                    <a:pt x="5676" y="33"/>
                  </a:lnTo>
                  <a:lnTo>
                    <a:pt x="5777" y="110"/>
                  </a:lnTo>
                  <a:lnTo>
                    <a:pt x="5801" y="207"/>
                  </a:lnTo>
                  <a:lnTo>
                    <a:pt x="5801" y="259"/>
                  </a:lnTo>
                  <a:lnTo>
                    <a:pt x="5822" y="333"/>
                  </a:lnTo>
                  <a:lnTo>
                    <a:pt x="5748" y="433"/>
                  </a:lnTo>
                  <a:lnTo>
                    <a:pt x="5748" y="308"/>
                  </a:lnTo>
                  <a:lnTo>
                    <a:pt x="5712" y="259"/>
                  </a:lnTo>
                  <a:lnTo>
                    <a:pt x="5574" y="1057"/>
                  </a:lnTo>
                  <a:lnTo>
                    <a:pt x="5627" y="1129"/>
                  </a:lnTo>
                  <a:lnTo>
                    <a:pt x="5801" y="1202"/>
                  </a:lnTo>
                  <a:lnTo>
                    <a:pt x="9955" y="1028"/>
                  </a:lnTo>
                  <a:lnTo>
                    <a:pt x="10089" y="1044"/>
                  </a:lnTo>
                  <a:lnTo>
                    <a:pt x="10210" y="1110"/>
                  </a:lnTo>
                  <a:lnTo>
                    <a:pt x="10295" y="1206"/>
                  </a:lnTo>
                  <a:lnTo>
                    <a:pt x="10339" y="1335"/>
                  </a:lnTo>
                  <a:lnTo>
                    <a:pt x="10371" y="1627"/>
                  </a:lnTo>
                  <a:lnTo>
                    <a:pt x="10080" y="1643"/>
                  </a:lnTo>
                  <a:lnTo>
                    <a:pt x="10064" y="1433"/>
                  </a:lnTo>
                  <a:lnTo>
                    <a:pt x="9987" y="1356"/>
                  </a:lnTo>
                  <a:lnTo>
                    <a:pt x="9887" y="1320"/>
                  </a:lnTo>
                  <a:lnTo>
                    <a:pt x="6007" y="1502"/>
                  </a:lnTo>
                  <a:lnTo>
                    <a:pt x="5866" y="1543"/>
                  </a:lnTo>
                  <a:lnTo>
                    <a:pt x="5866" y="1543"/>
                  </a:lnTo>
                  <a:lnTo>
                    <a:pt x="5822" y="1590"/>
                  </a:lnTo>
                  <a:lnTo>
                    <a:pt x="5817" y="1660"/>
                  </a:lnTo>
                  <a:lnTo>
                    <a:pt x="5837" y="1720"/>
                  </a:lnTo>
                  <a:lnTo>
                    <a:pt x="5866" y="1745"/>
                  </a:lnTo>
                  <a:lnTo>
                    <a:pt x="7921" y="3079"/>
                  </a:lnTo>
                  <a:lnTo>
                    <a:pt x="8046" y="3201"/>
                  </a:lnTo>
                  <a:lnTo>
                    <a:pt x="8122" y="3399"/>
                  </a:lnTo>
                  <a:lnTo>
                    <a:pt x="8122" y="3674"/>
                  </a:lnTo>
                  <a:lnTo>
                    <a:pt x="8122" y="3674"/>
                  </a:lnTo>
                  <a:lnTo>
                    <a:pt x="8001" y="3743"/>
                  </a:lnTo>
                  <a:lnTo>
                    <a:pt x="7852" y="3795"/>
                  </a:lnTo>
                  <a:lnTo>
                    <a:pt x="7678" y="3795"/>
                  </a:lnTo>
                  <a:lnTo>
                    <a:pt x="7500" y="3743"/>
                  </a:lnTo>
                  <a:lnTo>
                    <a:pt x="7471" y="3480"/>
                  </a:lnTo>
                  <a:lnTo>
                    <a:pt x="7386" y="3281"/>
                  </a:lnTo>
                  <a:lnTo>
                    <a:pt x="7358" y="3233"/>
                  </a:lnTo>
                  <a:lnTo>
                    <a:pt x="5300" y="1898"/>
                  </a:lnTo>
                  <a:lnTo>
                    <a:pt x="5052" y="1821"/>
                  </a:lnTo>
                  <a:lnTo>
                    <a:pt x="4789" y="1797"/>
                  </a:lnTo>
                  <a:lnTo>
                    <a:pt x="4530" y="1821"/>
                  </a:lnTo>
                  <a:lnTo>
                    <a:pt x="4272" y="1898"/>
                  </a:lnTo>
                  <a:lnTo>
                    <a:pt x="1339" y="3079"/>
                  </a:lnTo>
                  <a:lnTo>
                    <a:pt x="1226" y="3136"/>
                  </a:lnTo>
                  <a:lnTo>
                    <a:pt x="1145" y="3237"/>
                  </a:lnTo>
                  <a:lnTo>
                    <a:pt x="1116" y="3355"/>
                  </a:lnTo>
                  <a:lnTo>
                    <a:pt x="1125" y="3480"/>
                  </a:lnTo>
                  <a:lnTo>
                    <a:pt x="1133" y="3489"/>
                  </a:lnTo>
                  <a:lnTo>
                    <a:pt x="976" y="3536"/>
                  </a:lnTo>
                  <a:lnTo>
                    <a:pt x="793" y="3540"/>
                  </a:lnTo>
                  <a:lnTo>
                    <a:pt x="619" y="3489"/>
                  </a:lnTo>
                  <a:lnTo>
                    <a:pt x="619" y="3489"/>
                  </a:lnTo>
                  <a:lnTo>
                    <a:pt x="619" y="3181"/>
                  </a:lnTo>
                  <a:lnTo>
                    <a:pt x="628" y="3136"/>
                  </a:lnTo>
                  <a:lnTo>
                    <a:pt x="681" y="3011"/>
                  </a:lnTo>
                  <a:lnTo>
                    <a:pt x="777" y="2926"/>
                  </a:lnTo>
                  <a:lnTo>
                    <a:pt x="3754" y="1696"/>
                  </a:lnTo>
                  <a:lnTo>
                    <a:pt x="3827" y="1647"/>
                  </a:lnTo>
                  <a:lnTo>
                    <a:pt x="3868" y="1575"/>
                  </a:lnTo>
                  <a:lnTo>
                    <a:pt x="3864" y="1490"/>
                  </a:lnTo>
                  <a:lnTo>
                    <a:pt x="3864" y="1490"/>
                  </a:lnTo>
                  <a:lnTo>
                    <a:pt x="3673" y="1405"/>
                  </a:lnTo>
                  <a:lnTo>
                    <a:pt x="3495" y="1388"/>
                  </a:lnTo>
                  <a:lnTo>
                    <a:pt x="324" y="1150"/>
                  </a:lnTo>
                  <a:lnTo>
                    <a:pt x="231" y="1170"/>
                  </a:lnTo>
                  <a:lnTo>
                    <a:pt x="155" y="1235"/>
                  </a:lnTo>
                  <a:lnTo>
                    <a:pt x="155" y="1437"/>
                  </a:lnTo>
                  <a:lnTo>
                    <a:pt x="0" y="1429"/>
                  </a:lnTo>
                  <a:lnTo>
                    <a:pt x="0" y="1129"/>
                  </a:lnTo>
                  <a:lnTo>
                    <a:pt x="29" y="1081"/>
                  </a:lnTo>
                  <a:lnTo>
                    <a:pt x="53" y="983"/>
                  </a:lnTo>
                  <a:lnTo>
                    <a:pt x="155" y="932"/>
                  </a:lnTo>
                  <a:lnTo>
                    <a:pt x="223" y="907"/>
                  </a:lnTo>
                  <a:lnTo>
                    <a:pt x="4320" y="1138"/>
                  </a:lnTo>
                  <a:lnTo>
                    <a:pt x="4356" y="769"/>
                  </a:lnTo>
                  <a:lnTo>
                    <a:pt x="4624" y="847"/>
                  </a:lnTo>
                  <a:lnTo>
                    <a:pt x="4878" y="875"/>
                  </a:lnTo>
                  <a:lnTo>
                    <a:pt x="5141" y="851"/>
                  </a:lnTo>
                  <a:lnTo>
                    <a:pt x="5389" y="777"/>
                  </a:lnTo>
                  <a:lnTo>
                    <a:pt x="5461" y="721"/>
                  </a:lnTo>
                  <a:lnTo>
                    <a:pt x="5461" y="13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6443640" y="4681440"/>
              <a:ext cx="115920" cy="74880"/>
            </a:xfrm>
            <a:custGeom>
              <a:avLst/>
              <a:gdLst/>
              <a:ahLst/>
              <a:rect l="l" t="t" r="r" b="b"/>
              <a:pathLst>
                <a:path w="878" h="567">
                  <a:moveTo>
                    <a:pt x="465" y="0"/>
                  </a:moveTo>
                  <a:lnTo>
                    <a:pt x="416" y="206"/>
                  </a:lnTo>
                  <a:lnTo>
                    <a:pt x="364" y="263"/>
                  </a:lnTo>
                  <a:lnTo>
                    <a:pt x="174" y="279"/>
                  </a:lnTo>
                  <a:lnTo>
                    <a:pt x="80" y="336"/>
                  </a:lnTo>
                  <a:lnTo>
                    <a:pt x="0" y="412"/>
                  </a:lnTo>
                  <a:lnTo>
                    <a:pt x="157" y="352"/>
                  </a:lnTo>
                  <a:lnTo>
                    <a:pt x="259" y="352"/>
                  </a:lnTo>
                  <a:lnTo>
                    <a:pt x="409" y="397"/>
                  </a:lnTo>
                  <a:lnTo>
                    <a:pt x="465" y="514"/>
                  </a:lnTo>
                  <a:lnTo>
                    <a:pt x="465" y="567"/>
                  </a:lnTo>
                  <a:lnTo>
                    <a:pt x="513" y="412"/>
                  </a:lnTo>
                  <a:lnTo>
                    <a:pt x="615" y="352"/>
                  </a:lnTo>
                  <a:lnTo>
                    <a:pt x="719" y="336"/>
                  </a:lnTo>
                  <a:lnTo>
                    <a:pt x="878" y="312"/>
                  </a:lnTo>
                  <a:lnTo>
                    <a:pt x="723" y="312"/>
                  </a:lnTo>
                  <a:lnTo>
                    <a:pt x="671" y="263"/>
                  </a:lnTo>
                  <a:lnTo>
                    <a:pt x="619" y="158"/>
                  </a:lnTo>
                  <a:lnTo>
                    <a:pt x="619" y="105"/>
                  </a:lnTo>
                  <a:lnTo>
                    <a:pt x="574" y="9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6496200" y="4761000"/>
              <a:ext cx="309240" cy="198360"/>
            </a:xfrm>
            <a:custGeom>
              <a:avLst/>
              <a:gdLst/>
              <a:ahLst/>
              <a:rect l="l" t="t" r="r" b="b"/>
              <a:pathLst>
                <a:path w="2342" h="1505">
                  <a:moveTo>
                    <a:pt x="279" y="162"/>
                  </a:moveTo>
                  <a:lnTo>
                    <a:pt x="534" y="280"/>
                  </a:lnTo>
                  <a:lnTo>
                    <a:pt x="2342" y="1505"/>
                  </a:lnTo>
                  <a:lnTo>
                    <a:pt x="740" y="352"/>
                  </a:lnTo>
                  <a:lnTo>
                    <a:pt x="473" y="194"/>
                  </a:lnTo>
                  <a:lnTo>
                    <a:pt x="279" y="64"/>
                  </a:lnTo>
                  <a:lnTo>
                    <a:pt x="401" y="61"/>
                  </a:lnTo>
                  <a:lnTo>
                    <a:pt x="643" y="64"/>
                  </a:lnTo>
                  <a:lnTo>
                    <a:pt x="295" y="28"/>
                  </a:lnTo>
                  <a:lnTo>
                    <a:pt x="121" y="0"/>
                  </a:lnTo>
                  <a:lnTo>
                    <a:pt x="89" y="45"/>
                  </a:lnTo>
                  <a:lnTo>
                    <a:pt x="0" y="72"/>
                  </a:lnTo>
                  <a:lnTo>
                    <a:pt x="27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451560" y="4770360"/>
              <a:ext cx="47520" cy="19080"/>
            </a:xfrm>
            <a:custGeom>
              <a:avLst/>
              <a:gdLst/>
              <a:ahLst/>
              <a:rect l="l" t="t" r="r" b="b"/>
              <a:pathLst>
                <a:path w="359" h="151">
                  <a:moveTo>
                    <a:pt x="359" y="98"/>
                  </a:moveTo>
                  <a:lnTo>
                    <a:pt x="218" y="62"/>
                  </a:lnTo>
                  <a:lnTo>
                    <a:pt x="174" y="0"/>
                  </a:lnTo>
                  <a:lnTo>
                    <a:pt x="100" y="74"/>
                  </a:lnTo>
                  <a:lnTo>
                    <a:pt x="0" y="98"/>
                  </a:lnTo>
                  <a:lnTo>
                    <a:pt x="100" y="106"/>
                  </a:lnTo>
                  <a:lnTo>
                    <a:pt x="202" y="151"/>
                  </a:lnTo>
                  <a:lnTo>
                    <a:pt x="250" y="106"/>
                  </a:lnTo>
                  <a:lnTo>
                    <a:pt x="359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V="1">
              <a:off x="6669000" y="4729320"/>
              <a:ext cx="50328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6757920" y="4876920"/>
              <a:ext cx="139680" cy="88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V="1">
              <a:off x="6904080" y="4701960"/>
              <a:ext cx="2872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5921280" y="4689360"/>
              <a:ext cx="176400" cy="5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6880320" y="4991040"/>
              <a:ext cx="31680" cy="69840"/>
            </a:xfrm>
            <a:custGeom>
              <a:avLst/>
              <a:gdLst/>
              <a:ahLst/>
              <a:rect l="l" t="t" r="r" b="b"/>
              <a:pathLst>
                <a:path w="238" h="533">
                  <a:moveTo>
                    <a:pt x="189" y="514"/>
                  </a:moveTo>
                  <a:lnTo>
                    <a:pt x="165" y="518"/>
                  </a:lnTo>
                  <a:lnTo>
                    <a:pt x="44" y="533"/>
                  </a:lnTo>
                  <a:lnTo>
                    <a:pt x="44" y="263"/>
                  </a:lnTo>
                  <a:lnTo>
                    <a:pt x="64" y="194"/>
                  </a:lnTo>
                  <a:lnTo>
                    <a:pt x="28" y="166"/>
                  </a:lnTo>
                  <a:lnTo>
                    <a:pt x="0" y="129"/>
                  </a:lnTo>
                  <a:lnTo>
                    <a:pt x="0" y="85"/>
                  </a:lnTo>
                  <a:lnTo>
                    <a:pt x="19" y="49"/>
                  </a:lnTo>
                  <a:lnTo>
                    <a:pt x="56" y="11"/>
                  </a:lnTo>
                  <a:lnTo>
                    <a:pt x="104" y="0"/>
                  </a:lnTo>
                  <a:lnTo>
                    <a:pt x="153" y="4"/>
                  </a:lnTo>
                  <a:lnTo>
                    <a:pt x="193" y="24"/>
                  </a:lnTo>
                  <a:lnTo>
                    <a:pt x="229" y="60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29" y="138"/>
                  </a:lnTo>
                  <a:lnTo>
                    <a:pt x="206" y="174"/>
                  </a:lnTo>
                  <a:lnTo>
                    <a:pt x="165" y="202"/>
                  </a:lnTo>
                  <a:lnTo>
                    <a:pt x="189" y="263"/>
                  </a:lnTo>
                  <a:lnTo>
                    <a:pt x="189" y="404"/>
                  </a:lnTo>
                  <a:lnTo>
                    <a:pt x="189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5975280" y="4973760"/>
              <a:ext cx="23760" cy="52200"/>
            </a:xfrm>
            <a:custGeom>
              <a:avLst/>
              <a:gdLst/>
              <a:ahLst/>
              <a:rect l="l" t="t" r="r" b="b"/>
              <a:pathLst>
                <a:path w="183" h="400">
                  <a:moveTo>
                    <a:pt x="146" y="376"/>
                  </a:moveTo>
                  <a:lnTo>
                    <a:pt x="126" y="389"/>
                  </a:lnTo>
                  <a:lnTo>
                    <a:pt x="37" y="400"/>
                  </a:lnTo>
                  <a:lnTo>
                    <a:pt x="37" y="198"/>
                  </a:lnTo>
                  <a:lnTo>
                    <a:pt x="45" y="141"/>
                  </a:lnTo>
                  <a:lnTo>
                    <a:pt x="20" y="126"/>
                  </a:lnTo>
                  <a:lnTo>
                    <a:pt x="0" y="97"/>
                  </a:lnTo>
                  <a:lnTo>
                    <a:pt x="0" y="65"/>
                  </a:lnTo>
                  <a:lnTo>
                    <a:pt x="17" y="37"/>
                  </a:lnTo>
                  <a:lnTo>
                    <a:pt x="45" y="9"/>
                  </a:lnTo>
                  <a:lnTo>
                    <a:pt x="77" y="0"/>
                  </a:lnTo>
                  <a:lnTo>
                    <a:pt x="117" y="0"/>
                  </a:lnTo>
                  <a:lnTo>
                    <a:pt x="146" y="20"/>
                  </a:lnTo>
                  <a:lnTo>
                    <a:pt x="174" y="45"/>
                  </a:lnTo>
                  <a:lnTo>
                    <a:pt x="183" y="77"/>
                  </a:lnTo>
                  <a:lnTo>
                    <a:pt x="183" y="77"/>
                  </a:lnTo>
                  <a:lnTo>
                    <a:pt x="178" y="101"/>
                  </a:lnTo>
                  <a:lnTo>
                    <a:pt x="158" y="134"/>
                  </a:lnTo>
                  <a:lnTo>
                    <a:pt x="126" y="150"/>
                  </a:lnTo>
                  <a:lnTo>
                    <a:pt x="146" y="198"/>
                  </a:lnTo>
                  <a:lnTo>
                    <a:pt x="146" y="300"/>
                  </a:lnTo>
                  <a:lnTo>
                    <a:pt x="146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3" name=""/>
          <p:cNvSpPr/>
          <p:nvPr/>
        </p:nvSpPr>
        <p:spPr>
          <a:xfrm>
            <a:off x="2364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6250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5" name=""/>
          <p:cNvGrpSpPr/>
          <p:nvPr/>
        </p:nvGrpSpPr>
        <p:grpSpPr>
          <a:xfrm>
            <a:off x="1447920" y="2494080"/>
            <a:ext cx="1639800" cy="2631960"/>
            <a:chOff x="1447920" y="2494080"/>
            <a:chExt cx="1639800" cy="2631960"/>
          </a:xfrm>
        </p:grpSpPr>
        <p:sp>
          <p:nvSpPr>
            <p:cNvPr id="4636" name=""/>
            <p:cNvSpPr/>
            <p:nvPr/>
          </p:nvSpPr>
          <p:spPr>
            <a:xfrm>
              <a:off x="1447920" y="2494080"/>
              <a:ext cx="1639800" cy="26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812960" y="2944800"/>
              <a:ext cx="765000" cy="422280"/>
            </a:xfrm>
            <a:custGeom>
              <a:avLst/>
              <a:gdLst/>
              <a:ahLst/>
              <a:rect l="l" t="t" r="r" b="b"/>
              <a:pathLst>
                <a:path w="4343" h="2394">
                  <a:moveTo>
                    <a:pt x="0" y="2365"/>
                  </a:moveTo>
                  <a:lnTo>
                    <a:pt x="0" y="2170"/>
                  </a:lnTo>
                  <a:lnTo>
                    <a:pt x="523" y="406"/>
                  </a:lnTo>
                  <a:lnTo>
                    <a:pt x="621" y="243"/>
                  </a:lnTo>
                  <a:lnTo>
                    <a:pt x="771" y="98"/>
                  </a:lnTo>
                  <a:lnTo>
                    <a:pt x="970" y="24"/>
                  </a:lnTo>
                  <a:lnTo>
                    <a:pt x="1290" y="0"/>
                  </a:lnTo>
                  <a:lnTo>
                    <a:pt x="3872" y="394"/>
                  </a:lnTo>
                  <a:lnTo>
                    <a:pt x="4343" y="617"/>
                  </a:lnTo>
                  <a:lnTo>
                    <a:pt x="4196" y="994"/>
                  </a:lnTo>
                  <a:lnTo>
                    <a:pt x="3799" y="840"/>
                  </a:lnTo>
                  <a:lnTo>
                    <a:pt x="1368" y="443"/>
                  </a:lnTo>
                  <a:lnTo>
                    <a:pt x="1168" y="467"/>
                  </a:lnTo>
                  <a:lnTo>
                    <a:pt x="1019" y="568"/>
                  </a:lnTo>
                  <a:lnTo>
                    <a:pt x="921" y="762"/>
                  </a:lnTo>
                  <a:lnTo>
                    <a:pt x="398" y="2247"/>
                  </a:lnTo>
                  <a:lnTo>
                    <a:pt x="398" y="2394"/>
                  </a:lnTo>
                  <a:lnTo>
                    <a:pt x="0" y="2365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906560" y="4175280"/>
              <a:ext cx="98280" cy="102960"/>
            </a:xfrm>
            <a:custGeom>
              <a:avLst/>
              <a:gdLst/>
              <a:ahLst/>
              <a:rect l="l" t="t" r="r" b="b"/>
              <a:pathLst>
                <a:path w="560" h="580">
                  <a:moveTo>
                    <a:pt x="527" y="85"/>
                  </a:moveTo>
                  <a:lnTo>
                    <a:pt x="560" y="85"/>
                  </a:lnTo>
                  <a:lnTo>
                    <a:pt x="560" y="381"/>
                  </a:lnTo>
                  <a:lnTo>
                    <a:pt x="446" y="491"/>
                  </a:lnTo>
                  <a:lnTo>
                    <a:pt x="162" y="580"/>
                  </a:lnTo>
                  <a:lnTo>
                    <a:pt x="61" y="417"/>
                  </a:lnTo>
                  <a:lnTo>
                    <a:pt x="32" y="381"/>
                  </a:lnTo>
                  <a:lnTo>
                    <a:pt x="16" y="345"/>
                  </a:lnTo>
                  <a:lnTo>
                    <a:pt x="8" y="300"/>
                  </a:lnTo>
                  <a:lnTo>
                    <a:pt x="0" y="260"/>
                  </a:lnTo>
                  <a:lnTo>
                    <a:pt x="8" y="211"/>
                  </a:lnTo>
                  <a:lnTo>
                    <a:pt x="16" y="174"/>
                  </a:lnTo>
                  <a:lnTo>
                    <a:pt x="36" y="130"/>
                  </a:lnTo>
                  <a:lnTo>
                    <a:pt x="61" y="98"/>
                  </a:lnTo>
                  <a:lnTo>
                    <a:pt x="89" y="65"/>
                  </a:lnTo>
                  <a:lnTo>
                    <a:pt x="125" y="36"/>
                  </a:lnTo>
                  <a:lnTo>
                    <a:pt x="162" y="21"/>
                  </a:lnTo>
                  <a:lnTo>
                    <a:pt x="206" y="4"/>
                  </a:lnTo>
                  <a:lnTo>
                    <a:pt x="251" y="0"/>
                  </a:lnTo>
                  <a:lnTo>
                    <a:pt x="287" y="0"/>
                  </a:lnTo>
                  <a:lnTo>
                    <a:pt x="336" y="8"/>
                  </a:lnTo>
                  <a:lnTo>
                    <a:pt x="527" y="8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919160" y="4191120"/>
              <a:ext cx="85680" cy="95040"/>
            </a:xfrm>
            <a:custGeom>
              <a:avLst/>
              <a:gdLst/>
              <a:ahLst/>
              <a:rect l="l" t="t" r="r" b="b"/>
              <a:pathLst>
                <a:path w="488" h="536">
                  <a:moveTo>
                    <a:pt x="488" y="272"/>
                  </a:moveTo>
                  <a:lnTo>
                    <a:pt x="483" y="228"/>
                  </a:lnTo>
                  <a:lnTo>
                    <a:pt x="475" y="183"/>
                  </a:lnTo>
                  <a:lnTo>
                    <a:pt x="460" y="143"/>
                  </a:lnTo>
                  <a:lnTo>
                    <a:pt x="439" y="102"/>
                  </a:lnTo>
                  <a:lnTo>
                    <a:pt x="407" y="65"/>
                  </a:lnTo>
                  <a:lnTo>
                    <a:pt x="382" y="45"/>
                  </a:lnTo>
                  <a:lnTo>
                    <a:pt x="341" y="20"/>
                  </a:lnTo>
                  <a:lnTo>
                    <a:pt x="305" y="9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83" y="9"/>
                  </a:lnTo>
                  <a:lnTo>
                    <a:pt x="147" y="20"/>
                  </a:lnTo>
                  <a:lnTo>
                    <a:pt x="115" y="45"/>
                  </a:lnTo>
                  <a:lnTo>
                    <a:pt x="81" y="65"/>
                  </a:lnTo>
                  <a:lnTo>
                    <a:pt x="57" y="102"/>
                  </a:lnTo>
                  <a:lnTo>
                    <a:pt x="34" y="143"/>
                  </a:lnTo>
                  <a:lnTo>
                    <a:pt x="17" y="183"/>
                  </a:lnTo>
                  <a:lnTo>
                    <a:pt x="4" y="228"/>
                  </a:lnTo>
                  <a:lnTo>
                    <a:pt x="0" y="272"/>
                  </a:lnTo>
                  <a:lnTo>
                    <a:pt x="4" y="313"/>
                  </a:lnTo>
                  <a:lnTo>
                    <a:pt x="17" y="358"/>
                  </a:lnTo>
                  <a:lnTo>
                    <a:pt x="34" y="394"/>
                  </a:lnTo>
                  <a:lnTo>
                    <a:pt x="57" y="439"/>
                  </a:lnTo>
                  <a:lnTo>
                    <a:pt x="81" y="471"/>
                  </a:lnTo>
                  <a:lnTo>
                    <a:pt x="115" y="499"/>
                  </a:lnTo>
                  <a:lnTo>
                    <a:pt x="147" y="515"/>
                  </a:lnTo>
                  <a:lnTo>
                    <a:pt x="187" y="532"/>
                  </a:lnTo>
                  <a:lnTo>
                    <a:pt x="228" y="536"/>
                  </a:lnTo>
                  <a:lnTo>
                    <a:pt x="264" y="536"/>
                  </a:lnTo>
                  <a:lnTo>
                    <a:pt x="305" y="532"/>
                  </a:lnTo>
                  <a:lnTo>
                    <a:pt x="341" y="515"/>
                  </a:lnTo>
                  <a:lnTo>
                    <a:pt x="382" y="495"/>
                  </a:lnTo>
                  <a:lnTo>
                    <a:pt x="407" y="471"/>
                  </a:lnTo>
                  <a:lnTo>
                    <a:pt x="439" y="434"/>
                  </a:lnTo>
                  <a:lnTo>
                    <a:pt x="460" y="394"/>
                  </a:lnTo>
                  <a:lnTo>
                    <a:pt x="475" y="358"/>
                  </a:lnTo>
                  <a:lnTo>
                    <a:pt x="483" y="313"/>
                  </a:lnTo>
                  <a:lnTo>
                    <a:pt x="488" y="27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690640" y="4344840"/>
              <a:ext cx="122400" cy="127080"/>
            </a:xfrm>
            <a:custGeom>
              <a:avLst/>
              <a:gdLst/>
              <a:ahLst/>
              <a:rect l="l" t="t" r="r" b="b"/>
              <a:pathLst>
                <a:path w="690" h="717">
                  <a:moveTo>
                    <a:pt x="649" y="105"/>
                  </a:moveTo>
                  <a:lnTo>
                    <a:pt x="690" y="105"/>
                  </a:lnTo>
                  <a:lnTo>
                    <a:pt x="690" y="470"/>
                  </a:lnTo>
                  <a:lnTo>
                    <a:pt x="552" y="608"/>
                  </a:lnTo>
                  <a:lnTo>
                    <a:pt x="199" y="717"/>
                  </a:lnTo>
                  <a:lnTo>
                    <a:pt x="73" y="519"/>
                  </a:lnTo>
                  <a:lnTo>
                    <a:pt x="40" y="474"/>
                  </a:lnTo>
                  <a:lnTo>
                    <a:pt x="20" y="425"/>
                  </a:lnTo>
                  <a:lnTo>
                    <a:pt x="8" y="372"/>
                  </a:lnTo>
                  <a:lnTo>
                    <a:pt x="0" y="319"/>
                  </a:lnTo>
                  <a:lnTo>
                    <a:pt x="8" y="263"/>
                  </a:lnTo>
                  <a:lnTo>
                    <a:pt x="20" y="215"/>
                  </a:lnTo>
                  <a:lnTo>
                    <a:pt x="44" y="162"/>
                  </a:lnTo>
                  <a:lnTo>
                    <a:pt x="73" y="121"/>
                  </a:lnTo>
                  <a:lnTo>
                    <a:pt x="110" y="81"/>
                  </a:lnTo>
                  <a:lnTo>
                    <a:pt x="154" y="48"/>
                  </a:lnTo>
                  <a:lnTo>
                    <a:pt x="199" y="24"/>
                  </a:lnTo>
                  <a:lnTo>
                    <a:pt x="255" y="8"/>
                  </a:lnTo>
                  <a:lnTo>
                    <a:pt x="308" y="0"/>
                  </a:lnTo>
                  <a:lnTo>
                    <a:pt x="357" y="0"/>
                  </a:lnTo>
                  <a:lnTo>
                    <a:pt x="414" y="12"/>
                  </a:lnTo>
                  <a:lnTo>
                    <a:pt x="649" y="10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706840" y="4365720"/>
              <a:ext cx="106200" cy="117360"/>
            </a:xfrm>
            <a:custGeom>
              <a:avLst/>
              <a:gdLst/>
              <a:ahLst/>
              <a:rect l="l" t="t" r="r" b="b"/>
              <a:pathLst>
                <a:path w="601" h="661">
                  <a:moveTo>
                    <a:pt x="601" y="332"/>
                  </a:moveTo>
                  <a:lnTo>
                    <a:pt x="597" y="280"/>
                  </a:lnTo>
                  <a:lnTo>
                    <a:pt x="589" y="223"/>
                  </a:lnTo>
                  <a:lnTo>
                    <a:pt x="564" y="174"/>
                  </a:lnTo>
                  <a:lnTo>
                    <a:pt x="540" y="126"/>
                  </a:lnTo>
                  <a:lnTo>
                    <a:pt x="504" y="81"/>
                  </a:lnTo>
                  <a:lnTo>
                    <a:pt x="471" y="53"/>
                  </a:lnTo>
                  <a:lnTo>
                    <a:pt x="423" y="25"/>
                  </a:lnTo>
                  <a:lnTo>
                    <a:pt x="378" y="8"/>
                  </a:lnTo>
                  <a:lnTo>
                    <a:pt x="329" y="0"/>
                  </a:lnTo>
                  <a:lnTo>
                    <a:pt x="281" y="0"/>
                  </a:lnTo>
                  <a:lnTo>
                    <a:pt x="228" y="8"/>
                  </a:lnTo>
                  <a:lnTo>
                    <a:pt x="183" y="25"/>
                  </a:lnTo>
                  <a:lnTo>
                    <a:pt x="142" y="53"/>
                  </a:lnTo>
                  <a:lnTo>
                    <a:pt x="102" y="81"/>
                  </a:lnTo>
                  <a:lnTo>
                    <a:pt x="70" y="126"/>
                  </a:lnTo>
                  <a:lnTo>
                    <a:pt x="41" y="174"/>
                  </a:lnTo>
                  <a:lnTo>
                    <a:pt x="21" y="223"/>
                  </a:lnTo>
                  <a:lnTo>
                    <a:pt x="8" y="280"/>
                  </a:lnTo>
                  <a:lnTo>
                    <a:pt x="0" y="332"/>
                  </a:lnTo>
                  <a:lnTo>
                    <a:pt x="8" y="385"/>
                  </a:lnTo>
                  <a:lnTo>
                    <a:pt x="21" y="442"/>
                  </a:lnTo>
                  <a:lnTo>
                    <a:pt x="41" y="487"/>
                  </a:lnTo>
                  <a:lnTo>
                    <a:pt x="70" y="540"/>
                  </a:lnTo>
                  <a:lnTo>
                    <a:pt x="102" y="580"/>
                  </a:lnTo>
                  <a:lnTo>
                    <a:pt x="142" y="617"/>
                  </a:lnTo>
                  <a:lnTo>
                    <a:pt x="183" y="636"/>
                  </a:lnTo>
                  <a:lnTo>
                    <a:pt x="232" y="657"/>
                  </a:lnTo>
                  <a:lnTo>
                    <a:pt x="281" y="661"/>
                  </a:lnTo>
                  <a:lnTo>
                    <a:pt x="329" y="661"/>
                  </a:lnTo>
                  <a:lnTo>
                    <a:pt x="378" y="657"/>
                  </a:lnTo>
                  <a:lnTo>
                    <a:pt x="423" y="636"/>
                  </a:lnTo>
                  <a:lnTo>
                    <a:pt x="471" y="613"/>
                  </a:lnTo>
                  <a:lnTo>
                    <a:pt x="504" y="580"/>
                  </a:lnTo>
                  <a:lnTo>
                    <a:pt x="540" y="536"/>
                  </a:lnTo>
                  <a:lnTo>
                    <a:pt x="564" y="487"/>
                  </a:lnTo>
                  <a:lnTo>
                    <a:pt x="589" y="438"/>
                  </a:lnTo>
                  <a:lnTo>
                    <a:pt x="597" y="385"/>
                  </a:lnTo>
                  <a:lnTo>
                    <a:pt x="601" y="33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474920" y="4513320"/>
              <a:ext cx="137880" cy="141120"/>
            </a:xfrm>
            <a:custGeom>
              <a:avLst/>
              <a:gdLst/>
              <a:ahLst/>
              <a:rect l="l" t="t" r="r" b="b"/>
              <a:pathLst>
                <a:path w="783" h="802">
                  <a:moveTo>
                    <a:pt x="734" y="117"/>
                  </a:moveTo>
                  <a:lnTo>
                    <a:pt x="783" y="117"/>
                  </a:lnTo>
                  <a:lnTo>
                    <a:pt x="783" y="527"/>
                  </a:lnTo>
                  <a:lnTo>
                    <a:pt x="625" y="681"/>
                  </a:lnTo>
                  <a:lnTo>
                    <a:pt x="223" y="802"/>
                  </a:lnTo>
                  <a:lnTo>
                    <a:pt x="81" y="579"/>
                  </a:lnTo>
                  <a:lnTo>
                    <a:pt x="44" y="531"/>
                  </a:lnTo>
                  <a:lnTo>
                    <a:pt x="21" y="474"/>
                  </a:lnTo>
                  <a:lnTo>
                    <a:pt x="8" y="417"/>
                  </a:lnTo>
                  <a:lnTo>
                    <a:pt x="0" y="357"/>
                  </a:lnTo>
                  <a:lnTo>
                    <a:pt x="8" y="296"/>
                  </a:lnTo>
                  <a:lnTo>
                    <a:pt x="21" y="239"/>
                  </a:lnTo>
                  <a:lnTo>
                    <a:pt x="49" y="183"/>
                  </a:lnTo>
                  <a:lnTo>
                    <a:pt x="81" y="134"/>
                  </a:lnTo>
                  <a:lnTo>
                    <a:pt x="122" y="89"/>
                  </a:lnTo>
                  <a:lnTo>
                    <a:pt x="174" y="53"/>
                  </a:lnTo>
                  <a:lnTo>
                    <a:pt x="223" y="24"/>
                  </a:lnTo>
                  <a:lnTo>
                    <a:pt x="289" y="8"/>
                  </a:lnTo>
                  <a:lnTo>
                    <a:pt x="349" y="0"/>
                  </a:lnTo>
                  <a:lnTo>
                    <a:pt x="406" y="0"/>
                  </a:lnTo>
                  <a:lnTo>
                    <a:pt x="470" y="12"/>
                  </a:lnTo>
                  <a:lnTo>
                    <a:pt x="734" y="117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494000" y="4537080"/>
              <a:ext cx="118800" cy="130320"/>
            </a:xfrm>
            <a:custGeom>
              <a:avLst/>
              <a:gdLst/>
              <a:ahLst/>
              <a:rect l="l" t="t" r="r" b="b"/>
              <a:pathLst>
                <a:path w="681" h="742">
                  <a:moveTo>
                    <a:pt x="681" y="372"/>
                  </a:moveTo>
                  <a:lnTo>
                    <a:pt x="677" y="312"/>
                  </a:lnTo>
                  <a:lnTo>
                    <a:pt x="666" y="251"/>
                  </a:lnTo>
                  <a:lnTo>
                    <a:pt x="641" y="194"/>
                  </a:lnTo>
                  <a:lnTo>
                    <a:pt x="613" y="142"/>
                  </a:lnTo>
                  <a:lnTo>
                    <a:pt x="572" y="93"/>
                  </a:lnTo>
                  <a:lnTo>
                    <a:pt x="532" y="60"/>
                  </a:lnTo>
                  <a:lnTo>
                    <a:pt x="479" y="28"/>
                  </a:lnTo>
                  <a:lnTo>
                    <a:pt x="426" y="8"/>
                  </a:lnTo>
                  <a:lnTo>
                    <a:pt x="373" y="0"/>
                  </a:lnTo>
                  <a:lnTo>
                    <a:pt x="317" y="0"/>
                  </a:lnTo>
                  <a:lnTo>
                    <a:pt x="255" y="8"/>
                  </a:lnTo>
                  <a:lnTo>
                    <a:pt x="206" y="28"/>
                  </a:lnTo>
                  <a:lnTo>
                    <a:pt x="158" y="60"/>
                  </a:lnTo>
                  <a:lnTo>
                    <a:pt x="113" y="93"/>
                  </a:lnTo>
                  <a:lnTo>
                    <a:pt x="77" y="142"/>
                  </a:lnTo>
                  <a:lnTo>
                    <a:pt x="44" y="194"/>
                  </a:lnTo>
                  <a:lnTo>
                    <a:pt x="20" y="251"/>
                  </a:lnTo>
                  <a:lnTo>
                    <a:pt x="8" y="312"/>
                  </a:lnTo>
                  <a:lnTo>
                    <a:pt x="0" y="372"/>
                  </a:lnTo>
                  <a:lnTo>
                    <a:pt x="8" y="434"/>
                  </a:lnTo>
                  <a:lnTo>
                    <a:pt x="20" y="494"/>
                  </a:lnTo>
                  <a:lnTo>
                    <a:pt x="44" y="547"/>
                  </a:lnTo>
                  <a:lnTo>
                    <a:pt x="77" y="604"/>
                  </a:lnTo>
                  <a:lnTo>
                    <a:pt x="113" y="649"/>
                  </a:lnTo>
                  <a:lnTo>
                    <a:pt x="158" y="689"/>
                  </a:lnTo>
                  <a:lnTo>
                    <a:pt x="206" y="713"/>
                  </a:lnTo>
                  <a:lnTo>
                    <a:pt x="259" y="734"/>
                  </a:lnTo>
                  <a:lnTo>
                    <a:pt x="317" y="742"/>
                  </a:lnTo>
                  <a:lnTo>
                    <a:pt x="373" y="742"/>
                  </a:lnTo>
                  <a:lnTo>
                    <a:pt x="426" y="734"/>
                  </a:lnTo>
                  <a:lnTo>
                    <a:pt x="479" y="713"/>
                  </a:lnTo>
                  <a:lnTo>
                    <a:pt x="532" y="685"/>
                  </a:lnTo>
                  <a:lnTo>
                    <a:pt x="572" y="649"/>
                  </a:lnTo>
                  <a:lnTo>
                    <a:pt x="613" y="600"/>
                  </a:lnTo>
                  <a:lnTo>
                    <a:pt x="641" y="547"/>
                  </a:lnTo>
                  <a:lnTo>
                    <a:pt x="666" y="490"/>
                  </a:lnTo>
                  <a:lnTo>
                    <a:pt x="677" y="434"/>
                  </a:lnTo>
                  <a:lnTo>
                    <a:pt x="681" y="37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820960" y="4794120"/>
              <a:ext cx="150840" cy="157320"/>
            </a:xfrm>
            <a:custGeom>
              <a:avLst/>
              <a:gdLst/>
              <a:ahLst/>
              <a:rect l="l" t="t" r="r" b="b"/>
              <a:pathLst>
                <a:path w="861" h="888">
                  <a:moveTo>
                    <a:pt x="804" y="129"/>
                  </a:moveTo>
                  <a:lnTo>
                    <a:pt x="861" y="129"/>
                  </a:lnTo>
                  <a:lnTo>
                    <a:pt x="861" y="584"/>
                  </a:lnTo>
                  <a:lnTo>
                    <a:pt x="687" y="754"/>
                  </a:lnTo>
                  <a:lnTo>
                    <a:pt x="248" y="888"/>
                  </a:lnTo>
                  <a:lnTo>
                    <a:pt x="89" y="640"/>
                  </a:lnTo>
                  <a:lnTo>
                    <a:pt x="49" y="588"/>
                  </a:lnTo>
                  <a:lnTo>
                    <a:pt x="25" y="523"/>
                  </a:lnTo>
                  <a:lnTo>
                    <a:pt x="8" y="462"/>
                  </a:lnTo>
                  <a:lnTo>
                    <a:pt x="0" y="393"/>
                  </a:lnTo>
                  <a:lnTo>
                    <a:pt x="8" y="329"/>
                  </a:lnTo>
                  <a:lnTo>
                    <a:pt x="25" y="263"/>
                  </a:lnTo>
                  <a:lnTo>
                    <a:pt x="53" y="202"/>
                  </a:lnTo>
                  <a:lnTo>
                    <a:pt x="89" y="146"/>
                  </a:lnTo>
                  <a:lnTo>
                    <a:pt x="134" y="97"/>
                  </a:lnTo>
                  <a:lnTo>
                    <a:pt x="191" y="57"/>
                  </a:lnTo>
                  <a:lnTo>
                    <a:pt x="248" y="28"/>
                  </a:lnTo>
                  <a:lnTo>
                    <a:pt x="317" y="8"/>
                  </a:lnTo>
                  <a:lnTo>
                    <a:pt x="382" y="0"/>
                  </a:lnTo>
                  <a:lnTo>
                    <a:pt x="447" y="0"/>
                  </a:lnTo>
                  <a:lnTo>
                    <a:pt x="516" y="12"/>
                  </a:lnTo>
                  <a:lnTo>
                    <a:pt x="804" y="129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840040" y="4819680"/>
              <a:ext cx="131760" cy="144360"/>
            </a:xfrm>
            <a:custGeom>
              <a:avLst/>
              <a:gdLst/>
              <a:ahLst/>
              <a:rect l="l" t="t" r="r" b="b"/>
              <a:pathLst>
                <a:path w="747" h="823">
                  <a:moveTo>
                    <a:pt x="747" y="413"/>
                  </a:moveTo>
                  <a:lnTo>
                    <a:pt x="743" y="345"/>
                  </a:lnTo>
                  <a:lnTo>
                    <a:pt x="727" y="279"/>
                  </a:lnTo>
                  <a:lnTo>
                    <a:pt x="703" y="215"/>
                  </a:lnTo>
                  <a:lnTo>
                    <a:pt x="670" y="158"/>
                  </a:lnTo>
                  <a:lnTo>
                    <a:pt x="625" y="105"/>
                  </a:lnTo>
                  <a:lnTo>
                    <a:pt x="580" y="68"/>
                  </a:lnTo>
                  <a:lnTo>
                    <a:pt x="524" y="32"/>
                  </a:lnTo>
                  <a:lnTo>
                    <a:pt x="467" y="12"/>
                  </a:lnTo>
                  <a:lnTo>
                    <a:pt x="406" y="0"/>
                  </a:lnTo>
                  <a:lnTo>
                    <a:pt x="345" y="0"/>
                  </a:lnTo>
                  <a:lnTo>
                    <a:pt x="280" y="12"/>
                  </a:lnTo>
                  <a:lnTo>
                    <a:pt x="224" y="32"/>
                  </a:lnTo>
                  <a:lnTo>
                    <a:pt x="171" y="68"/>
                  </a:lnTo>
                  <a:lnTo>
                    <a:pt x="122" y="105"/>
                  </a:lnTo>
                  <a:lnTo>
                    <a:pt x="81" y="158"/>
                  </a:lnTo>
                  <a:lnTo>
                    <a:pt x="49" y="215"/>
                  </a:lnTo>
                  <a:lnTo>
                    <a:pt x="20" y="279"/>
                  </a:lnTo>
                  <a:lnTo>
                    <a:pt x="9" y="345"/>
                  </a:lnTo>
                  <a:lnTo>
                    <a:pt x="0" y="413"/>
                  </a:lnTo>
                  <a:lnTo>
                    <a:pt x="9" y="483"/>
                  </a:lnTo>
                  <a:lnTo>
                    <a:pt x="20" y="547"/>
                  </a:lnTo>
                  <a:lnTo>
                    <a:pt x="49" y="608"/>
                  </a:lnTo>
                  <a:lnTo>
                    <a:pt x="81" y="668"/>
                  </a:lnTo>
                  <a:lnTo>
                    <a:pt x="122" y="717"/>
                  </a:lnTo>
                  <a:lnTo>
                    <a:pt x="171" y="762"/>
                  </a:lnTo>
                  <a:lnTo>
                    <a:pt x="224" y="791"/>
                  </a:lnTo>
                  <a:lnTo>
                    <a:pt x="284" y="815"/>
                  </a:lnTo>
                  <a:lnTo>
                    <a:pt x="345" y="823"/>
                  </a:lnTo>
                  <a:lnTo>
                    <a:pt x="406" y="823"/>
                  </a:lnTo>
                  <a:lnTo>
                    <a:pt x="467" y="815"/>
                  </a:lnTo>
                  <a:lnTo>
                    <a:pt x="524" y="791"/>
                  </a:lnTo>
                  <a:lnTo>
                    <a:pt x="580" y="758"/>
                  </a:lnTo>
                  <a:lnTo>
                    <a:pt x="625" y="717"/>
                  </a:lnTo>
                  <a:lnTo>
                    <a:pt x="670" y="664"/>
                  </a:lnTo>
                  <a:lnTo>
                    <a:pt x="703" y="608"/>
                  </a:lnTo>
                  <a:lnTo>
                    <a:pt x="727" y="543"/>
                  </a:lnTo>
                  <a:lnTo>
                    <a:pt x="743" y="483"/>
                  </a:lnTo>
                  <a:lnTo>
                    <a:pt x="747" y="413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996920" y="4919760"/>
              <a:ext cx="174960" cy="179280"/>
            </a:xfrm>
            <a:custGeom>
              <a:avLst/>
              <a:gdLst/>
              <a:ahLst/>
              <a:rect l="l" t="t" r="r" b="b"/>
              <a:pathLst>
                <a:path w="982" h="1021">
                  <a:moveTo>
                    <a:pt x="917" y="149"/>
                  </a:moveTo>
                  <a:lnTo>
                    <a:pt x="982" y="149"/>
                  </a:lnTo>
                  <a:lnTo>
                    <a:pt x="982" y="673"/>
                  </a:lnTo>
                  <a:lnTo>
                    <a:pt x="783" y="868"/>
                  </a:lnTo>
                  <a:lnTo>
                    <a:pt x="281" y="1021"/>
                  </a:lnTo>
                  <a:lnTo>
                    <a:pt x="102" y="738"/>
                  </a:lnTo>
                  <a:lnTo>
                    <a:pt x="57" y="677"/>
                  </a:lnTo>
                  <a:lnTo>
                    <a:pt x="28" y="604"/>
                  </a:lnTo>
                  <a:lnTo>
                    <a:pt x="8" y="530"/>
                  </a:lnTo>
                  <a:lnTo>
                    <a:pt x="0" y="454"/>
                  </a:lnTo>
                  <a:lnTo>
                    <a:pt x="8" y="377"/>
                  </a:lnTo>
                  <a:lnTo>
                    <a:pt x="28" y="304"/>
                  </a:lnTo>
                  <a:lnTo>
                    <a:pt x="61" y="234"/>
                  </a:lnTo>
                  <a:lnTo>
                    <a:pt x="102" y="170"/>
                  </a:lnTo>
                  <a:lnTo>
                    <a:pt x="154" y="113"/>
                  </a:lnTo>
                  <a:lnTo>
                    <a:pt x="219" y="68"/>
                  </a:lnTo>
                  <a:lnTo>
                    <a:pt x="284" y="32"/>
                  </a:lnTo>
                  <a:lnTo>
                    <a:pt x="362" y="11"/>
                  </a:lnTo>
                  <a:lnTo>
                    <a:pt x="434" y="0"/>
                  </a:lnTo>
                  <a:lnTo>
                    <a:pt x="511" y="4"/>
                  </a:lnTo>
                  <a:lnTo>
                    <a:pt x="588" y="15"/>
                  </a:lnTo>
                  <a:lnTo>
                    <a:pt x="917" y="149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021040" y="4948200"/>
              <a:ext cx="150840" cy="166680"/>
            </a:xfrm>
            <a:custGeom>
              <a:avLst/>
              <a:gdLst/>
              <a:ahLst/>
              <a:rect l="l" t="t" r="r" b="b"/>
              <a:pathLst>
                <a:path w="852" h="945">
                  <a:moveTo>
                    <a:pt x="852" y="474"/>
                  </a:moveTo>
                  <a:lnTo>
                    <a:pt x="848" y="393"/>
                  </a:lnTo>
                  <a:lnTo>
                    <a:pt x="828" y="321"/>
                  </a:lnTo>
                  <a:lnTo>
                    <a:pt x="800" y="247"/>
                  </a:lnTo>
                  <a:lnTo>
                    <a:pt x="763" y="183"/>
                  </a:lnTo>
                  <a:lnTo>
                    <a:pt x="715" y="121"/>
                  </a:lnTo>
                  <a:lnTo>
                    <a:pt x="662" y="77"/>
                  </a:lnTo>
                  <a:lnTo>
                    <a:pt x="596" y="36"/>
                  </a:lnTo>
                  <a:lnTo>
                    <a:pt x="532" y="12"/>
                  </a:lnTo>
                  <a:lnTo>
                    <a:pt x="462" y="0"/>
                  </a:lnTo>
                  <a:lnTo>
                    <a:pt x="394" y="0"/>
                  </a:lnTo>
                  <a:lnTo>
                    <a:pt x="321" y="12"/>
                  </a:lnTo>
                  <a:lnTo>
                    <a:pt x="256" y="36"/>
                  </a:lnTo>
                  <a:lnTo>
                    <a:pt x="195" y="77"/>
                  </a:lnTo>
                  <a:lnTo>
                    <a:pt x="138" y="121"/>
                  </a:lnTo>
                  <a:lnTo>
                    <a:pt x="93" y="183"/>
                  </a:lnTo>
                  <a:lnTo>
                    <a:pt x="53" y="247"/>
                  </a:lnTo>
                  <a:lnTo>
                    <a:pt x="24" y="321"/>
                  </a:lnTo>
                  <a:lnTo>
                    <a:pt x="8" y="393"/>
                  </a:lnTo>
                  <a:lnTo>
                    <a:pt x="0" y="474"/>
                  </a:lnTo>
                  <a:lnTo>
                    <a:pt x="8" y="551"/>
                  </a:lnTo>
                  <a:lnTo>
                    <a:pt x="24" y="628"/>
                  </a:lnTo>
                  <a:lnTo>
                    <a:pt x="53" y="698"/>
                  </a:lnTo>
                  <a:lnTo>
                    <a:pt x="93" y="766"/>
                  </a:lnTo>
                  <a:lnTo>
                    <a:pt x="138" y="823"/>
                  </a:lnTo>
                  <a:lnTo>
                    <a:pt x="195" y="872"/>
                  </a:lnTo>
                  <a:lnTo>
                    <a:pt x="256" y="908"/>
                  </a:lnTo>
                  <a:lnTo>
                    <a:pt x="325" y="932"/>
                  </a:lnTo>
                  <a:lnTo>
                    <a:pt x="394" y="945"/>
                  </a:lnTo>
                  <a:lnTo>
                    <a:pt x="462" y="945"/>
                  </a:lnTo>
                  <a:lnTo>
                    <a:pt x="532" y="932"/>
                  </a:lnTo>
                  <a:lnTo>
                    <a:pt x="596" y="908"/>
                  </a:lnTo>
                  <a:lnTo>
                    <a:pt x="662" y="868"/>
                  </a:lnTo>
                  <a:lnTo>
                    <a:pt x="715" y="823"/>
                  </a:lnTo>
                  <a:lnTo>
                    <a:pt x="763" y="762"/>
                  </a:lnTo>
                  <a:lnTo>
                    <a:pt x="800" y="698"/>
                  </a:lnTo>
                  <a:lnTo>
                    <a:pt x="828" y="624"/>
                  </a:lnTo>
                  <a:lnTo>
                    <a:pt x="848" y="551"/>
                  </a:lnTo>
                  <a:lnTo>
                    <a:pt x="852" y="474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535040" y="4133880"/>
              <a:ext cx="1433520" cy="819000"/>
            </a:xfrm>
            <a:custGeom>
              <a:avLst/>
              <a:gdLst/>
              <a:ahLst/>
              <a:rect l="l" t="t" r="r" b="b"/>
              <a:pathLst>
                <a:path w="8134" h="4641">
                  <a:moveTo>
                    <a:pt x="3872" y="66"/>
                  </a:moveTo>
                  <a:lnTo>
                    <a:pt x="3872" y="1440"/>
                  </a:lnTo>
                  <a:lnTo>
                    <a:pt x="2557" y="0"/>
                  </a:lnTo>
                  <a:lnTo>
                    <a:pt x="2419" y="4"/>
                  </a:lnTo>
                  <a:lnTo>
                    <a:pt x="2366" y="82"/>
                  </a:lnTo>
                  <a:lnTo>
                    <a:pt x="2366" y="172"/>
                  </a:lnTo>
                  <a:lnTo>
                    <a:pt x="2362" y="329"/>
                  </a:lnTo>
                  <a:lnTo>
                    <a:pt x="3478" y="1765"/>
                  </a:lnTo>
                  <a:lnTo>
                    <a:pt x="3373" y="1810"/>
                  </a:lnTo>
                  <a:lnTo>
                    <a:pt x="3280" y="1830"/>
                  </a:lnTo>
                  <a:lnTo>
                    <a:pt x="1766" y="1793"/>
                  </a:lnTo>
                  <a:lnTo>
                    <a:pt x="263" y="1765"/>
                  </a:lnTo>
                  <a:lnTo>
                    <a:pt x="158" y="1810"/>
                  </a:lnTo>
                  <a:lnTo>
                    <a:pt x="65" y="1895"/>
                  </a:lnTo>
                  <a:lnTo>
                    <a:pt x="0" y="2223"/>
                  </a:lnTo>
                  <a:lnTo>
                    <a:pt x="288" y="2297"/>
                  </a:lnTo>
                  <a:lnTo>
                    <a:pt x="422" y="2276"/>
                  </a:lnTo>
                  <a:lnTo>
                    <a:pt x="459" y="2223"/>
                  </a:lnTo>
                  <a:lnTo>
                    <a:pt x="3356" y="2370"/>
                  </a:lnTo>
                  <a:lnTo>
                    <a:pt x="3559" y="2442"/>
                  </a:lnTo>
                  <a:lnTo>
                    <a:pt x="3637" y="2536"/>
                  </a:lnTo>
                  <a:lnTo>
                    <a:pt x="3653" y="2629"/>
                  </a:lnTo>
                  <a:lnTo>
                    <a:pt x="3150" y="4248"/>
                  </a:lnTo>
                  <a:lnTo>
                    <a:pt x="3150" y="4576"/>
                  </a:lnTo>
                  <a:lnTo>
                    <a:pt x="3263" y="4621"/>
                  </a:lnTo>
                  <a:lnTo>
                    <a:pt x="3409" y="4641"/>
                  </a:lnTo>
                  <a:lnTo>
                    <a:pt x="3507" y="4621"/>
                  </a:lnTo>
                  <a:lnTo>
                    <a:pt x="3608" y="4576"/>
                  </a:lnTo>
                  <a:lnTo>
                    <a:pt x="3608" y="4378"/>
                  </a:lnTo>
                  <a:lnTo>
                    <a:pt x="4197" y="2747"/>
                  </a:lnTo>
                  <a:lnTo>
                    <a:pt x="4367" y="2686"/>
                  </a:lnTo>
                  <a:lnTo>
                    <a:pt x="4534" y="2649"/>
                  </a:lnTo>
                  <a:lnTo>
                    <a:pt x="4855" y="2617"/>
                  </a:lnTo>
                  <a:lnTo>
                    <a:pt x="7610" y="3725"/>
                  </a:lnTo>
                  <a:lnTo>
                    <a:pt x="7676" y="3789"/>
                  </a:lnTo>
                  <a:lnTo>
                    <a:pt x="7842" y="3878"/>
                  </a:lnTo>
                  <a:lnTo>
                    <a:pt x="8004" y="3923"/>
                  </a:lnTo>
                  <a:lnTo>
                    <a:pt x="8069" y="3915"/>
                  </a:lnTo>
                  <a:lnTo>
                    <a:pt x="8134" y="3858"/>
                  </a:lnTo>
                  <a:lnTo>
                    <a:pt x="8134" y="3595"/>
                  </a:lnTo>
                  <a:lnTo>
                    <a:pt x="8121" y="3525"/>
                  </a:lnTo>
                  <a:lnTo>
                    <a:pt x="8069" y="3465"/>
                  </a:lnTo>
                  <a:lnTo>
                    <a:pt x="5119" y="2223"/>
                  </a:lnTo>
                  <a:lnTo>
                    <a:pt x="5119" y="2159"/>
                  </a:lnTo>
                  <a:lnTo>
                    <a:pt x="7018" y="1307"/>
                  </a:lnTo>
                  <a:lnTo>
                    <a:pt x="7225" y="1307"/>
                  </a:lnTo>
                  <a:lnTo>
                    <a:pt x="7225" y="1140"/>
                  </a:lnTo>
                  <a:lnTo>
                    <a:pt x="7225" y="991"/>
                  </a:lnTo>
                  <a:lnTo>
                    <a:pt x="7152" y="917"/>
                  </a:lnTo>
                  <a:lnTo>
                    <a:pt x="7074" y="881"/>
                  </a:lnTo>
                  <a:lnTo>
                    <a:pt x="6952" y="853"/>
                  </a:lnTo>
                  <a:lnTo>
                    <a:pt x="4655" y="1636"/>
                  </a:lnTo>
                  <a:lnTo>
                    <a:pt x="4525" y="1570"/>
                  </a:lnTo>
                  <a:lnTo>
                    <a:pt x="4461" y="66"/>
                  </a:lnTo>
                  <a:lnTo>
                    <a:pt x="3872" y="66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568520" y="4433760"/>
              <a:ext cx="846000" cy="449280"/>
            </a:xfrm>
            <a:custGeom>
              <a:avLst/>
              <a:gdLst/>
              <a:ahLst/>
              <a:rect l="l" t="t" r="r" b="b"/>
              <a:pathLst>
                <a:path w="4790" h="2548">
                  <a:moveTo>
                    <a:pt x="0" y="333"/>
                  </a:moveTo>
                  <a:lnTo>
                    <a:pt x="2788" y="426"/>
                  </a:lnTo>
                  <a:lnTo>
                    <a:pt x="3019" y="459"/>
                  </a:lnTo>
                  <a:lnTo>
                    <a:pt x="3291" y="540"/>
                  </a:lnTo>
                  <a:lnTo>
                    <a:pt x="3421" y="576"/>
                  </a:lnTo>
                  <a:lnTo>
                    <a:pt x="3536" y="653"/>
                  </a:lnTo>
                  <a:lnTo>
                    <a:pt x="3592" y="742"/>
                  </a:lnTo>
                  <a:lnTo>
                    <a:pt x="3592" y="857"/>
                  </a:lnTo>
                  <a:lnTo>
                    <a:pt x="3019" y="2548"/>
                  </a:lnTo>
                  <a:lnTo>
                    <a:pt x="3085" y="2532"/>
                  </a:lnTo>
                  <a:lnTo>
                    <a:pt x="3149" y="2548"/>
                  </a:lnTo>
                  <a:lnTo>
                    <a:pt x="3872" y="719"/>
                  </a:lnTo>
                  <a:lnTo>
                    <a:pt x="4002" y="523"/>
                  </a:lnTo>
                  <a:lnTo>
                    <a:pt x="4172" y="467"/>
                  </a:lnTo>
                  <a:lnTo>
                    <a:pt x="4330" y="459"/>
                  </a:lnTo>
                  <a:lnTo>
                    <a:pt x="4790" y="459"/>
                  </a:lnTo>
                  <a:lnTo>
                    <a:pt x="4692" y="353"/>
                  </a:lnTo>
                  <a:lnTo>
                    <a:pt x="4594" y="260"/>
                  </a:lnTo>
                  <a:lnTo>
                    <a:pt x="4582" y="130"/>
                  </a:lnTo>
                  <a:lnTo>
                    <a:pt x="4660" y="0"/>
                  </a:lnTo>
                  <a:lnTo>
                    <a:pt x="4396" y="65"/>
                  </a:lnTo>
                  <a:lnTo>
                    <a:pt x="4469" y="204"/>
                  </a:lnTo>
                  <a:lnTo>
                    <a:pt x="4452" y="333"/>
                  </a:lnTo>
                  <a:lnTo>
                    <a:pt x="4266" y="410"/>
                  </a:lnTo>
                  <a:lnTo>
                    <a:pt x="3872" y="426"/>
                  </a:lnTo>
                  <a:lnTo>
                    <a:pt x="3779" y="410"/>
                  </a:lnTo>
                  <a:lnTo>
                    <a:pt x="3677" y="329"/>
                  </a:lnTo>
                  <a:lnTo>
                    <a:pt x="3628" y="223"/>
                  </a:lnTo>
                  <a:lnTo>
                    <a:pt x="3608" y="130"/>
                  </a:lnTo>
                  <a:lnTo>
                    <a:pt x="3608" y="0"/>
                  </a:lnTo>
                  <a:lnTo>
                    <a:pt x="3458" y="110"/>
                  </a:lnTo>
                  <a:lnTo>
                    <a:pt x="3328" y="187"/>
                  </a:lnTo>
                  <a:lnTo>
                    <a:pt x="3085" y="244"/>
                  </a:lnTo>
                  <a:lnTo>
                    <a:pt x="2756" y="260"/>
                  </a:lnTo>
                  <a:lnTo>
                    <a:pt x="198" y="130"/>
                  </a:lnTo>
                  <a:lnTo>
                    <a:pt x="40" y="22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390760" y="4292640"/>
              <a:ext cx="395280" cy="163440"/>
            </a:xfrm>
            <a:custGeom>
              <a:avLst/>
              <a:gdLst/>
              <a:ahLst/>
              <a:rect l="l" t="t" r="r" b="b"/>
              <a:pathLst>
                <a:path w="2240" h="928">
                  <a:moveTo>
                    <a:pt x="182" y="928"/>
                  </a:moveTo>
                  <a:lnTo>
                    <a:pt x="2240" y="51"/>
                  </a:lnTo>
                  <a:lnTo>
                    <a:pt x="2183" y="0"/>
                  </a:lnTo>
                  <a:lnTo>
                    <a:pt x="0" y="798"/>
                  </a:lnTo>
                  <a:lnTo>
                    <a:pt x="182" y="92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274840" y="4529160"/>
              <a:ext cx="649440" cy="268200"/>
            </a:xfrm>
            <a:custGeom>
              <a:avLst/>
              <a:gdLst/>
              <a:ahLst/>
              <a:rect l="l" t="t" r="r" b="b"/>
              <a:pathLst>
                <a:path w="3681" h="1525">
                  <a:moveTo>
                    <a:pt x="0" y="187"/>
                  </a:moveTo>
                  <a:lnTo>
                    <a:pt x="130" y="73"/>
                  </a:lnTo>
                  <a:lnTo>
                    <a:pt x="280" y="20"/>
                  </a:lnTo>
                  <a:lnTo>
                    <a:pt x="467" y="0"/>
                  </a:lnTo>
                  <a:lnTo>
                    <a:pt x="654" y="36"/>
                  </a:lnTo>
                  <a:lnTo>
                    <a:pt x="917" y="130"/>
                  </a:lnTo>
                  <a:lnTo>
                    <a:pt x="3681" y="1266"/>
                  </a:lnTo>
                  <a:lnTo>
                    <a:pt x="3665" y="1396"/>
                  </a:lnTo>
                  <a:lnTo>
                    <a:pt x="3665" y="1525"/>
                  </a:lnTo>
                  <a:lnTo>
                    <a:pt x="654" y="296"/>
                  </a:lnTo>
                  <a:lnTo>
                    <a:pt x="524" y="166"/>
                  </a:lnTo>
                  <a:lnTo>
                    <a:pt x="280" y="113"/>
                  </a:lnTo>
                  <a:lnTo>
                    <a:pt x="73" y="13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133720" y="4572000"/>
              <a:ext cx="125280" cy="311040"/>
            </a:xfrm>
            <a:custGeom>
              <a:avLst/>
              <a:gdLst/>
              <a:ahLst/>
              <a:rect l="l" t="t" r="r" b="b"/>
              <a:pathLst>
                <a:path w="711" h="1768">
                  <a:moveTo>
                    <a:pt x="711" y="0"/>
                  </a:moveTo>
                  <a:lnTo>
                    <a:pt x="0" y="1768"/>
                  </a:lnTo>
                  <a:lnTo>
                    <a:pt x="85" y="1700"/>
                  </a:lnTo>
                  <a:lnTo>
                    <a:pt x="674" y="134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984320" y="4133880"/>
              <a:ext cx="231840" cy="245880"/>
            </a:xfrm>
            <a:custGeom>
              <a:avLst/>
              <a:gdLst/>
              <a:ahLst/>
              <a:rect l="l" t="t" r="r" b="b"/>
              <a:pathLst>
                <a:path w="1307" h="1396">
                  <a:moveTo>
                    <a:pt x="1307" y="1396"/>
                  </a:moveTo>
                  <a:lnTo>
                    <a:pt x="203" y="151"/>
                  </a:lnTo>
                  <a:lnTo>
                    <a:pt x="150" y="94"/>
                  </a:lnTo>
                  <a:lnTo>
                    <a:pt x="94" y="38"/>
                  </a:lnTo>
                  <a:lnTo>
                    <a:pt x="0" y="0"/>
                  </a:lnTo>
                  <a:lnTo>
                    <a:pt x="1185" y="1372"/>
                  </a:lnTo>
                  <a:lnTo>
                    <a:pt x="1307" y="13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959120" y="4133880"/>
              <a:ext cx="234720" cy="297000"/>
            </a:xfrm>
            <a:custGeom>
              <a:avLst/>
              <a:gdLst/>
              <a:ahLst/>
              <a:rect l="l" t="t" r="r" b="b"/>
              <a:pathLst>
                <a:path w="1335" h="1680">
                  <a:moveTo>
                    <a:pt x="0" y="134"/>
                  </a:moveTo>
                  <a:lnTo>
                    <a:pt x="0" y="42"/>
                  </a:lnTo>
                  <a:lnTo>
                    <a:pt x="89" y="0"/>
                  </a:lnTo>
                  <a:lnTo>
                    <a:pt x="1335" y="1440"/>
                  </a:lnTo>
                  <a:lnTo>
                    <a:pt x="1328" y="1551"/>
                  </a:lnTo>
                  <a:lnTo>
                    <a:pt x="1213" y="168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427120" y="4305240"/>
              <a:ext cx="371520" cy="187560"/>
            </a:xfrm>
            <a:custGeom>
              <a:avLst/>
              <a:gdLst/>
              <a:ahLst/>
              <a:rect l="l" t="t" r="r" b="b"/>
              <a:pathLst>
                <a:path w="2111" h="1059">
                  <a:moveTo>
                    <a:pt x="0" y="819"/>
                  </a:moveTo>
                  <a:lnTo>
                    <a:pt x="2058" y="0"/>
                  </a:lnTo>
                  <a:lnTo>
                    <a:pt x="2111" y="57"/>
                  </a:lnTo>
                  <a:lnTo>
                    <a:pt x="0" y="1059"/>
                  </a:lnTo>
                  <a:lnTo>
                    <a:pt x="0" y="8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384280" y="4479840"/>
              <a:ext cx="560520" cy="268200"/>
            </a:xfrm>
            <a:custGeom>
              <a:avLst/>
              <a:gdLst/>
              <a:ahLst/>
              <a:rect l="l" t="t" r="r" b="b"/>
              <a:pathLst>
                <a:path w="3177" h="1525">
                  <a:moveTo>
                    <a:pt x="130" y="129"/>
                  </a:moveTo>
                  <a:lnTo>
                    <a:pt x="300" y="259"/>
                  </a:lnTo>
                  <a:lnTo>
                    <a:pt x="3177" y="1489"/>
                  </a:lnTo>
                  <a:lnTo>
                    <a:pt x="3048" y="1525"/>
                  </a:lnTo>
                  <a:lnTo>
                    <a:pt x="150" y="280"/>
                  </a:lnTo>
                  <a:lnTo>
                    <a:pt x="0" y="73"/>
                  </a:lnTo>
                  <a:lnTo>
                    <a:pt x="41" y="0"/>
                  </a:lnTo>
                  <a:lnTo>
                    <a:pt x="13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228760" y="4157640"/>
              <a:ext cx="34920" cy="322200"/>
            </a:xfrm>
            <a:custGeom>
              <a:avLst/>
              <a:gdLst/>
              <a:ahLst/>
              <a:rect l="l" t="t" r="r" b="b"/>
              <a:pathLst>
                <a:path w="195" h="1826">
                  <a:moveTo>
                    <a:pt x="0" y="0"/>
                  </a:moveTo>
                  <a:lnTo>
                    <a:pt x="0" y="1696"/>
                  </a:lnTo>
                  <a:lnTo>
                    <a:pt x="0" y="1761"/>
                  </a:lnTo>
                  <a:lnTo>
                    <a:pt x="195" y="1826"/>
                  </a:lnTo>
                  <a:lnTo>
                    <a:pt x="195" y="1761"/>
                  </a:lnTo>
                  <a:lnTo>
                    <a:pt x="195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228760" y="4191120"/>
              <a:ext cx="42840" cy="301680"/>
            </a:xfrm>
            <a:custGeom>
              <a:avLst/>
              <a:gdLst/>
              <a:ahLst/>
              <a:rect l="l" t="t" r="r" b="b"/>
              <a:pathLst>
                <a:path w="239" h="1704">
                  <a:moveTo>
                    <a:pt x="195" y="0"/>
                  </a:moveTo>
                  <a:lnTo>
                    <a:pt x="130" y="1501"/>
                  </a:lnTo>
                  <a:lnTo>
                    <a:pt x="73" y="1522"/>
                  </a:lnTo>
                  <a:lnTo>
                    <a:pt x="0" y="1522"/>
                  </a:lnTo>
                  <a:lnTo>
                    <a:pt x="0" y="1566"/>
                  </a:lnTo>
                  <a:lnTo>
                    <a:pt x="37" y="1631"/>
                  </a:lnTo>
                  <a:lnTo>
                    <a:pt x="94" y="1688"/>
                  </a:lnTo>
                  <a:lnTo>
                    <a:pt x="186" y="1704"/>
                  </a:lnTo>
                  <a:lnTo>
                    <a:pt x="239" y="155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274840" y="4168800"/>
              <a:ext cx="69840" cy="330120"/>
            </a:xfrm>
            <a:custGeom>
              <a:avLst/>
              <a:gdLst/>
              <a:ahLst/>
              <a:rect l="l" t="t" r="r" b="b"/>
              <a:pathLst>
                <a:path w="394" h="1874">
                  <a:moveTo>
                    <a:pt x="198" y="0"/>
                  </a:moveTo>
                  <a:lnTo>
                    <a:pt x="264" y="1630"/>
                  </a:lnTo>
                  <a:lnTo>
                    <a:pt x="280" y="1651"/>
                  </a:lnTo>
                  <a:lnTo>
                    <a:pt x="394" y="1695"/>
                  </a:lnTo>
                  <a:lnTo>
                    <a:pt x="394" y="1760"/>
                  </a:lnTo>
                  <a:lnTo>
                    <a:pt x="337" y="1833"/>
                  </a:lnTo>
                  <a:lnTo>
                    <a:pt x="223" y="1874"/>
                  </a:lnTo>
                  <a:lnTo>
                    <a:pt x="56" y="1853"/>
                  </a:lnTo>
                  <a:lnTo>
                    <a:pt x="0" y="1796"/>
                  </a:lnTo>
                  <a:lnTo>
                    <a:pt x="73" y="1760"/>
                  </a:lnTo>
                  <a:lnTo>
                    <a:pt x="94" y="1687"/>
                  </a:lnTo>
                  <a:lnTo>
                    <a:pt x="134" y="6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217600" y="4111560"/>
              <a:ext cx="103320" cy="68400"/>
            </a:xfrm>
            <a:custGeom>
              <a:avLst/>
              <a:gdLst/>
              <a:ahLst/>
              <a:rect l="l" t="t" r="r" b="b"/>
              <a:pathLst>
                <a:path w="589" h="389">
                  <a:moveTo>
                    <a:pt x="232" y="0"/>
                  </a:moveTo>
                  <a:lnTo>
                    <a:pt x="138" y="37"/>
                  </a:lnTo>
                  <a:lnTo>
                    <a:pt x="8" y="129"/>
                  </a:lnTo>
                  <a:lnTo>
                    <a:pt x="8" y="207"/>
                  </a:lnTo>
                  <a:lnTo>
                    <a:pt x="0" y="259"/>
                  </a:lnTo>
                  <a:lnTo>
                    <a:pt x="65" y="316"/>
                  </a:lnTo>
                  <a:lnTo>
                    <a:pt x="195" y="389"/>
                  </a:lnTo>
                  <a:lnTo>
                    <a:pt x="289" y="389"/>
                  </a:lnTo>
                  <a:lnTo>
                    <a:pt x="398" y="389"/>
                  </a:lnTo>
                  <a:lnTo>
                    <a:pt x="455" y="373"/>
                  </a:lnTo>
                  <a:lnTo>
                    <a:pt x="532" y="316"/>
                  </a:lnTo>
                  <a:lnTo>
                    <a:pt x="589" y="259"/>
                  </a:lnTo>
                  <a:lnTo>
                    <a:pt x="589" y="167"/>
                  </a:lnTo>
                  <a:lnTo>
                    <a:pt x="532" y="93"/>
                  </a:lnTo>
                  <a:lnTo>
                    <a:pt x="455" y="57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239920" y="4052880"/>
              <a:ext cx="34920" cy="114480"/>
            </a:xfrm>
            <a:custGeom>
              <a:avLst/>
              <a:gdLst/>
              <a:ahLst/>
              <a:rect l="l" t="t" r="r" b="b"/>
              <a:pathLst>
                <a:path w="195" h="653">
                  <a:moveTo>
                    <a:pt x="8" y="0"/>
                  </a:moveTo>
                  <a:lnTo>
                    <a:pt x="0" y="462"/>
                  </a:lnTo>
                  <a:lnTo>
                    <a:pt x="29" y="581"/>
                  </a:lnTo>
                  <a:lnTo>
                    <a:pt x="65" y="617"/>
                  </a:lnTo>
                  <a:lnTo>
                    <a:pt x="159" y="653"/>
                  </a:lnTo>
                  <a:lnTo>
                    <a:pt x="195" y="596"/>
                  </a:lnTo>
                  <a:lnTo>
                    <a:pt x="195" y="1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263680" y="4065480"/>
              <a:ext cx="34920" cy="101880"/>
            </a:xfrm>
            <a:custGeom>
              <a:avLst/>
              <a:gdLst/>
              <a:ahLst/>
              <a:rect l="l" t="t" r="r" b="b"/>
              <a:pathLst>
                <a:path w="199" h="580">
                  <a:moveTo>
                    <a:pt x="199" y="0"/>
                  </a:moveTo>
                  <a:lnTo>
                    <a:pt x="199" y="455"/>
                  </a:lnTo>
                  <a:lnTo>
                    <a:pt x="195" y="487"/>
                  </a:lnTo>
                  <a:lnTo>
                    <a:pt x="195" y="544"/>
                  </a:lnTo>
                  <a:lnTo>
                    <a:pt x="8" y="580"/>
                  </a:lnTo>
                  <a:lnTo>
                    <a:pt x="0" y="455"/>
                  </a:lnTo>
                  <a:lnTo>
                    <a:pt x="0" y="19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219400" y="4145040"/>
              <a:ext cx="1440" cy="315720"/>
            </a:xfrm>
            <a:custGeom>
              <a:avLst/>
              <a:gdLst/>
              <a:ahLst/>
              <a:rect l="l" t="t" r="r" b="b"/>
              <a:pathLst>
                <a:path w="0" h="1789">
                  <a:moveTo>
                    <a:pt x="0" y="0"/>
                  </a:moveTo>
                  <a:lnTo>
                    <a:pt x="0" y="1378"/>
                  </a:lnTo>
                  <a:lnTo>
                    <a:pt x="0" y="1789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952640" y="4148280"/>
              <a:ext cx="196920" cy="296640"/>
            </a:xfrm>
            <a:custGeom>
              <a:avLst/>
              <a:gdLst/>
              <a:ahLst/>
              <a:rect l="l" t="t" r="r" b="b"/>
              <a:pathLst>
                <a:path w="1116" h="1683">
                  <a:moveTo>
                    <a:pt x="5" y="0"/>
                  </a:moveTo>
                  <a:lnTo>
                    <a:pt x="5" y="90"/>
                  </a:lnTo>
                  <a:lnTo>
                    <a:pt x="0" y="247"/>
                  </a:lnTo>
                  <a:lnTo>
                    <a:pt x="1116" y="1683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536840" y="4525920"/>
              <a:ext cx="642960" cy="71640"/>
            </a:xfrm>
            <a:custGeom>
              <a:avLst/>
              <a:gdLst/>
              <a:ahLst/>
              <a:rect l="l" t="t" r="r" b="b"/>
              <a:pathLst>
                <a:path w="3653" h="406">
                  <a:moveTo>
                    <a:pt x="0" y="0"/>
                  </a:moveTo>
                  <a:lnTo>
                    <a:pt x="289" y="74"/>
                  </a:lnTo>
                  <a:lnTo>
                    <a:pt x="423" y="53"/>
                  </a:lnTo>
                  <a:lnTo>
                    <a:pt x="459" y="0"/>
                  </a:lnTo>
                  <a:lnTo>
                    <a:pt x="3357" y="147"/>
                  </a:lnTo>
                  <a:lnTo>
                    <a:pt x="3559" y="219"/>
                  </a:lnTo>
                  <a:lnTo>
                    <a:pt x="3637" y="313"/>
                  </a:lnTo>
                  <a:lnTo>
                    <a:pt x="3653" y="406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136600" y="4595760"/>
              <a:ext cx="811440" cy="357120"/>
            </a:xfrm>
            <a:custGeom>
              <a:avLst/>
              <a:gdLst/>
              <a:ahLst/>
              <a:rect l="l" t="t" r="r" b="b"/>
              <a:pathLst>
                <a:path w="4594" h="2024">
                  <a:moveTo>
                    <a:pt x="0" y="2024"/>
                  </a:moveTo>
                  <a:lnTo>
                    <a:pt x="97" y="2004"/>
                  </a:lnTo>
                  <a:lnTo>
                    <a:pt x="198" y="1959"/>
                  </a:lnTo>
                  <a:lnTo>
                    <a:pt x="198" y="1761"/>
                  </a:lnTo>
                  <a:lnTo>
                    <a:pt x="787" y="130"/>
                  </a:lnTo>
                  <a:lnTo>
                    <a:pt x="958" y="69"/>
                  </a:lnTo>
                  <a:lnTo>
                    <a:pt x="1124" y="32"/>
                  </a:lnTo>
                  <a:lnTo>
                    <a:pt x="1444" y="0"/>
                  </a:lnTo>
                  <a:lnTo>
                    <a:pt x="4200" y="1108"/>
                  </a:lnTo>
                  <a:lnTo>
                    <a:pt x="4265" y="1172"/>
                  </a:lnTo>
                  <a:lnTo>
                    <a:pt x="4432" y="1261"/>
                  </a:lnTo>
                  <a:lnTo>
                    <a:pt x="4594" y="1306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438280" y="4363920"/>
              <a:ext cx="371520" cy="150840"/>
            </a:xfrm>
            <a:custGeom>
              <a:avLst/>
              <a:gdLst/>
              <a:ahLst/>
              <a:rect l="l" t="t" r="r" b="b"/>
              <a:pathLst>
                <a:path w="2107" h="852">
                  <a:moveTo>
                    <a:pt x="0" y="852"/>
                  </a:moveTo>
                  <a:lnTo>
                    <a:pt x="1900" y="0"/>
                  </a:lnTo>
                  <a:lnTo>
                    <a:pt x="2107" y="0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241720" y="4052880"/>
              <a:ext cx="10800" cy="108000"/>
            </a:xfrm>
            <a:custGeom>
              <a:avLst/>
              <a:gdLst/>
              <a:ahLst/>
              <a:rect l="l" t="t" r="r" b="b"/>
              <a:pathLst>
                <a:path w="65" h="617">
                  <a:moveTo>
                    <a:pt x="8" y="0"/>
                  </a:moveTo>
                  <a:lnTo>
                    <a:pt x="0" y="462"/>
                  </a:lnTo>
                  <a:lnTo>
                    <a:pt x="28" y="581"/>
                  </a:lnTo>
                  <a:lnTo>
                    <a:pt x="65" y="617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1465200" y="2505240"/>
              <a:ext cx="1584360" cy="1582560"/>
            </a:xfrm>
            <a:custGeom>
              <a:avLst/>
              <a:gdLst/>
              <a:ahLst/>
              <a:rect l="l" t="t" r="r" b="b"/>
              <a:pathLst>
                <a:path w="8985" h="8976">
                  <a:moveTo>
                    <a:pt x="5512" y="8976"/>
                  </a:moveTo>
                  <a:lnTo>
                    <a:pt x="2293" y="8741"/>
                  </a:lnTo>
                  <a:lnTo>
                    <a:pt x="1054" y="8620"/>
                  </a:lnTo>
                  <a:lnTo>
                    <a:pt x="584" y="8469"/>
                  </a:lnTo>
                  <a:lnTo>
                    <a:pt x="308" y="8271"/>
                  </a:lnTo>
                  <a:lnTo>
                    <a:pt x="194" y="8060"/>
                  </a:lnTo>
                  <a:lnTo>
                    <a:pt x="60" y="7703"/>
                  </a:lnTo>
                  <a:lnTo>
                    <a:pt x="0" y="7341"/>
                  </a:lnTo>
                  <a:lnTo>
                    <a:pt x="0" y="6494"/>
                  </a:lnTo>
                  <a:lnTo>
                    <a:pt x="194" y="5646"/>
                  </a:lnTo>
                  <a:lnTo>
                    <a:pt x="482" y="5285"/>
                  </a:lnTo>
                  <a:lnTo>
                    <a:pt x="730" y="5086"/>
                  </a:lnTo>
                  <a:lnTo>
                    <a:pt x="929" y="4960"/>
                  </a:lnTo>
                  <a:lnTo>
                    <a:pt x="1128" y="4863"/>
                  </a:lnTo>
                  <a:lnTo>
                    <a:pt x="1424" y="4790"/>
                  </a:lnTo>
                  <a:lnTo>
                    <a:pt x="1700" y="4766"/>
                  </a:lnTo>
                  <a:lnTo>
                    <a:pt x="2195" y="4766"/>
                  </a:lnTo>
                  <a:lnTo>
                    <a:pt x="2666" y="4815"/>
                  </a:lnTo>
                  <a:lnTo>
                    <a:pt x="3936" y="4993"/>
                  </a:lnTo>
                  <a:lnTo>
                    <a:pt x="5706" y="5252"/>
                  </a:lnTo>
                  <a:lnTo>
                    <a:pt x="5576" y="4729"/>
                  </a:lnTo>
                  <a:lnTo>
                    <a:pt x="5836" y="3947"/>
                  </a:lnTo>
                  <a:lnTo>
                    <a:pt x="6493" y="1922"/>
                  </a:lnTo>
                  <a:lnTo>
                    <a:pt x="6757" y="1399"/>
                  </a:lnTo>
                  <a:lnTo>
                    <a:pt x="7151" y="352"/>
                  </a:lnTo>
                  <a:lnTo>
                    <a:pt x="7228" y="219"/>
                  </a:lnTo>
                  <a:lnTo>
                    <a:pt x="7301" y="122"/>
                  </a:lnTo>
                  <a:lnTo>
                    <a:pt x="7475" y="28"/>
                  </a:lnTo>
                  <a:lnTo>
                    <a:pt x="7724" y="0"/>
                  </a:lnTo>
                  <a:lnTo>
                    <a:pt x="8072" y="0"/>
                  </a:lnTo>
                  <a:lnTo>
                    <a:pt x="8271" y="48"/>
                  </a:lnTo>
                  <a:lnTo>
                    <a:pt x="8462" y="93"/>
                  </a:lnTo>
                  <a:lnTo>
                    <a:pt x="8985" y="552"/>
                  </a:lnTo>
                  <a:lnTo>
                    <a:pt x="8985" y="1269"/>
                  </a:lnTo>
                  <a:lnTo>
                    <a:pt x="7082" y="8583"/>
                  </a:lnTo>
                  <a:lnTo>
                    <a:pt x="6757" y="8976"/>
                  </a:lnTo>
                  <a:lnTo>
                    <a:pt x="5512" y="8976"/>
                  </a:lnTo>
                  <a:close/>
                </a:path>
              </a:pathLst>
            </a:custGeom>
            <a:solidFill>
              <a:srgbClr val="5ffb6a"/>
            </a:solidFill>
            <a:ln w="0">
              <a:solidFill>
                <a:srgbClr val="5ffb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1646280" y="2577960"/>
              <a:ext cx="1125360" cy="1476360"/>
            </a:xfrm>
            <a:custGeom>
              <a:avLst/>
              <a:gdLst/>
              <a:ahLst/>
              <a:rect l="l" t="t" r="r" b="b"/>
              <a:pathLst>
                <a:path w="6373" h="8372">
                  <a:moveTo>
                    <a:pt x="4932" y="8372"/>
                  </a:moveTo>
                  <a:lnTo>
                    <a:pt x="4984" y="8172"/>
                  </a:lnTo>
                  <a:lnTo>
                    <a:pt x="5004" y="7970"/>
                  </a:lnTo>
                  <a:lnTo>
                    <a:pt x="5008" y="7779"/>
                  </a:lnTo>
                  <a:lnTo>
                    <a:pt x="4932" y="7581"/>
                  </a:lnTo>
                  <a:lnTo>
                    <a:pt x="4635" y="7260"/>
                  </a:lnTo>
                  <a:lnTo>
                    <a:pt x="4152" y="6923"/>
                  </a:lnTo>
                  <a:lnTo>
                    <a:pt x="3235" y="6404"/>
                  </a:lnTo>
                  <a:lnTo>
                    <a:pt x="2577" y="5946"/>
                  </a:lnTo>
                  <a:lnTo>
                    <a:pt x="1855" y="5358"/>
                  </a:lnTo>
                  <a:lnTo>
                    <a:pt x="1559" y="5138"/>
                  </a:lnTo>
                  <a:lnTo>
                    <a:pt x="1267" y="5029"/>
                  </a:lnTo>
                  <a:lnTo>
                    <a:pt x="865" y="4989"/>
                  </a:lnTo>
                  <a:lnTo>
                    <a:pt x="618" y="4989"/>
                  </a:lnTo>
                  <a:lnTo>
                    <a:pt x="394" y="5062"/>
                  </a:lnTo>
                  <a:lnTo>
                    <a:pt x="320" y="5163"/>
                  </a:lnTo>
                  <a:lnTo>
                    <a:pt x="150" y="5617"/>
                  </a:lnTo>
                  <a:lnTo>
                    <a:pt x="98" y="5804"/>
                  </a:lnTo>
                  <a:lnTo>
                    <a:pt x="73" y="6198"/>
                  </a:lnTo>
                  <a:lnTo>
                    <a:pt x="0" y="5828"/>
                  </a:lnTo>
                  <a:lnTo>
                    <a:pt x="24" y="5483"/>
                  </a:lnTo>
                  <a:lnTo>
                    <a:pt x="86" y="5163"/>
                  </a:lnTo>
                  <a:lnTo>
                    <a:pt x="195" y="4940"/>
                  </a:lnTo>
                  <a:lnTo>
                    <a:pt x="369" y="4766"/>
                  </a:lnTo>
                  <a:lnTo>
                    <a:pt x="520" y="4693"/>
                  </a:lnTo>
                  <a:lnTo>
                    <a:pt x="743" y="4570"/>
                  </a:lnTo>
                  <a:lnTo>
                    <a:pt x="942" y="4519"/>
                  </a:lnTo>
                  <a:lnTo>
                    <a:pt x="1238" y="4445"/>
                  </a:lnTo>
                  <a:lnTo>
                    <a:pt x="1661" y="4441"/>
                  </a:lnTo>
                  <a:lnTo>
                    <a:pt x="2180" y="4470"/>
                  </a:lnTo>
                  <a:lnTo>
                    <a:pt x="4282" y="4770"/>
                  </a:lnTo>
                  <a:lnTo>
                    <a:pt x="4708" y="4838"/>
                  </a:lnTo>
                  <a:lnTo>
                    <a:pt x="4563" y="4542"/>
                  </a:lnTo>
                  <a:lnTo>
                    <a:pt x="4538" y="4323"/>
                  </a:lnTo>
                  <a:lnTo>
                    <a:pt x="4538" y="4076"/>
                  </a:lnTo>
                  <a:lnTo>
                    <a:pt x="4587" y="3829"/>
                  </a:lnTo>
                  <a:lnTo>
                    <a:pt x="4708" y="3334"/>
                  </a:lnTo>
                  <a:lnTo>
                    <a:pt x="4859" y="2838"/>
                  </a:lnTo>
                  <a:lnTo>
                    <a:pt x="5008" y="2348"/>
                  </a:lnTo>
                  <a:lnTo>
                    <a:pt x="5334" y="1504"/>
                  </a:lnTo>
                  <a:lnTo>
                    <a:pt x="5630" y="840"/>
                  </a:lnTo>
                  <a:lnTo>
                    <a:pt x="6100" y="0"/>
                  </a:lnTo>
                  <a:lnTo>
                    <a:pt x="6125" y="791"/>
                  </a:lnTo>
                  <a:lnTo>
                    <a:pt x="6348" y="1480"/>
                  </a:lnTo>
                  <a:lnTo>
                    <a:pt x="6373" y="2372"/>
                  </a:lnTo>
                  <a:lnTo>
                    <a:pt x="6271" y="2791"/>
                  </a:lnTo>
                  <a:lnTo>
                    <a:pt x="6023" y="3459"/>
                  </a:lnTo>
                  <a:lnTo>
                    <a:pt x="5751" y="4246"/>
                  </a:lnTo>
                  <a:lnTo>
                    <a:pt x="5398" y="5553"/>
                  </a:lnTo>
                  <a:lnTo>
                    <a:pt x="5268" y="6664"/>
                  </a:lnTo>
                  <a:lnTo>
                    <a:pt x="5306" y="7309"/>
                  </a:lnTo>
                  <a:lnTo>
                    <a:pt x="5334" y="7776"/>
                  </a:lnTo>
                  <a:lnTo>
                    <a:pt x="5268" y="8100"/>
                  </a:lnTo>
                  <a:lnTo>
                    <a:pt x="5134" y="8298"/>
                  </a:lnTo>
                  <a:lnTo>
                    <a:pt x="4932" y="8372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1454040" y="3384720"/>
              <a:ext cx="214560" cy="644400"/>
            </a:xfrm>
            <a:custGeom>
              <a:avLst/>
              <a:gdLst/>
              <a:ahLst/>
              <a:rect l="l" t="t" r="r" b="b"/>
              <a:pathLst>
                <a:path w="1214" h="3655">
                  <a:moveTo>
                    <a:pt x="918" y="0"/>
                  </a:moveTo>
                  <a:lnTo>
                    <a:pt x="694" y="394"/>
                  </a:lnTo>
                  <a:lnTo>
                    <a:pt x="569" y="913"/>
                  </a:lnTo>
                  <a:lnTo>
                    <a:pt x="520" y="1376"/>
                  </a:lnTo>
                  <a:lnTo>
                    <a:pt x="520" y="1766"/>
                  </a:lnTo>
                  <a:lnTo>
                    <a:pt x="585" y="2094"/>
                  </a:lnTo>
                  <a:lnTo>
                    <a:pt x="718" y="2289"/>
                  </a:lnTo>
                  <a:lnTo>
                    <a:pt x="914" y="2487"/>
                  </a:lnTo>
                  <a:lnTo>
                    <a:pt x="1112" y="2553"/>
                  </a:lnTo>
                  <a:lnTo>
                    <a:pt x="1214" y="2617"/>
                  </a:lnTo>
                  <a:lnTo>
                    <a:pt x="1092" y="2666"/>
                  </a:lnTo>
                  <a:lnTo>
                    <a:pt x="967" y="2763"/>
                  </a:lnTo>
                  <a:lnTo>
                    <a:pt x="893" y="2840"/>
                  </a:lnTo>
                  <a:lnTo>
                    <a:pt x="841" y="2987"/>
                  </a:lnTo>
                  <a:lnTo>
                    <a:pt x="848" y="3206"/>
                  </a:lnTo>
                  <a:lnTo>
                    <a:pt x="893" y="3307"/>
                  </a:lnTo>
                  <a:lnTo>
                    <a:pt x="942" y="3408"/>
                  </a:lnTo>
                  <a:lnTo>
                    <a:pt x="1064" y="3530"/>
                  </a:lnTo>
                  <a:lnTo>
                    <a:pt x="1190" y="3655"/>
                  </a:lnTo>
                  <a:lnTo>
                    <a:pt x="967" y="3579"/>
                  </a:lnTo>
                  <a:lnTo>
                    <a:pt x="743" y="3530"/>
                  </a:lnTo>
                  <a:lnTo>
                    <a:pt x="544" y="3432"/>
                  </a:lnTo>
                  <a:lnTo>
                    <a:pt x="321" y="3234"/>
                  </a:lnTo>
                  <a:lnTo>
                    <a:pt x="199" y="3064"/>
                  </a:lnTo>
                  <a:lnTo>
                    <a:pt x="122" y="2889"/>
                  </a:lnTo>
                  <a:lnTo>
                    <a:pt x="24" y="2491"/>
                  </a:lnTo>
                  <a:lnTo>
                    <a:pt x="0" y="2098"/>
                  </a:lnTo>
                  <a:lnTo>
                    <a:pt x="0" y="1628"/>
                  </a:lnTo>
                  <a:lnTo>
                    <a:pt x="49" y="1258"/>
                  </a:lnTo>
                  <a:lnTo>
                    <a:pt x="122" y="913"/>
                  </a:lnTo>
                  <a:lnTo>
                    <a:pt x="199" y="715"/>
                  </a:lnTo>
                  <a:lnTo>
                    <a:pt x="321" y="517"/>
                  </a:lnTo>
                  <a:lnTo>
                    <a:pt x="496" y="297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622600" y="2508120"/>
              <a:ext cx="426960" cy="1648080"/>
            </a:xfrm>
            <a:custGeom>
              <a:avLst/>
              <a:gdLst/>
              <a:ahLst/>
              <a:rect l="l" t="t" r="r" b="b"/>
              <a:pathLst>
                <a:path w="2427" h="9334">
                  <a:moveTo>
                    <a:pt x="2111" y="195"/>
                  </a:moveTo>
                  <a:lnTo>
                    <a:pt x="2427" y="528"/>
                  </a:lnTo>
                  <a:lnTo>
                    <a:pt x="2363" y="1440"/>
                  </a:lnTo>
                  <a:lnTo>
                    <a:pt x="723" y="8624"/>
                  </a:lnTo>
                  <a:lnTo>
                    <a:pt x="199" y="9334"/>
                  </a:lnTo>
                  <a:lnTo>
                    <a:pt x="0" y="9309"/>
                  </a:lnTo>
                  <a:lnTo>
                    <a:pt x="89" y="8887"/>
                  </a:lnTo>
                  <a:lnTo>
                    <a:pt x="1445" y="3075"/>
                  </a:lnTo>
                  <a:lnTo>
                    <a:pt x="1445" y="3075"/>
                  </a:lnTo>
                  <a:lnTo>
                    <a:pt x="1543" y="2613"/>
                  </a:lnTo>
                  <a:lnTo>
                    <a:pt x="1697" y="2113"/>
                  </a:lnTo>
                  <a:lnTo>
                    <a:pt x="1904" y="1634"/>
                  </a:lnTo>
                  <a:lnTo>
                    <a:pt x="2115" y="1383"/>
                  </a:lnTo>
                  <a:lnTo>
                    <a:pt x="2164" y="1286"/>
                  </a:lnTo>
                  <a:lnTo>
                    <a:pt x="2241" y="962"/>
                  </a:lnTo>
                  <a:lnTo>
                    <a:pt x="2237" y="852"/>
                  </a:lnTo>
                  <a:lnTo>
                    <a:pt x="2196" y="637"/>
                  </a:lnTo>
                  <a:lnTo>
                    <a:pt x="2160" y="532"/>
                  </a:lnTo>
                  <a:lnTo>
                    <a:pt x="2034" y="321"/>
                  </a:lnTo>
                  <a:lnTo>
                    <a:pt x="1888" y="170"/>
                  </a:lnTo>
                  <a:lnTo>
                    <a:pt x="1688" y="0"/>
                  </a:lnTo>
                  <a:lnTo>
                    <a:pt x="2111" y="19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657520" y="2517840"/>
              <a:ext cx="423720" cy="1639800"/>
            </a:xfrm>
            <a:custGeom>
              <a:avLst/>
              <a:gdLst/>
              <a:ahLst/>
              <a:rect l="l" t="t" r="r" b="b"/>
              <a:pathLst>
                <a:path w="2403" h="9296">
                  <a:moveTo>
                    <a:pt x="1936" y="98"/>
                  </a:moveTo>
                  <a:lnTo>
                    <a:pt x="2034" y="170"/>
                  </a:lnTo>
                  <a:lnTo>
                    <a:pt x="2192" y="357"/>
                  </a:lnTo>
                  <a:lnTo>
                    <a:pt x="2310" y="576"/>
                  </a:lnTo>
                  <a:lnTo>
                    <a:pt x="2379" y="815"/>
                  </a:lnTo>
                  <a:lnTo>
                    <a:pt x="2403" y="1062"/>
                  </a:lnTo>
                  <a:lnTo>
                    <a:pt x="2370" y="1306"/>
                  </a:lnTo>
                  <a:lnTo>
                    <a:pt x="2289" y="1541"/>
                  </a:lnTo>
                  <a:lnTo>
                    <a:pt x="2228" y="1651"/>
                  </a:lnTo>
                  <a:lnTo>
                    <a:pt x="918" y="7727"/>
                  </a:lnTo>
                  <a:lnTo>
                    <a:pt x="848" y="7983"/>
                  </a:lnTo>
                  <a:lnTo>
                    <a:pt x="703" y="8351"/>
                  </a:lnTo>
                  <a:lnTo>
                    <a:pt x="613" y="8526"/>
                  </a:lnTo>
                  <a:lnTo>
                    <a:pt x="398" y="8859"/>
                  </a:lnTo>
                  <a:lnTo>
                    <a:pt x="273" y="9013"/>
                  </a:lnTo>
                  <a:lnTo>
                    <a:pt x="0" y="9296"/>
                  </a:lnTo>
                  <a:lnTo>
                    <a:pt x="0" y="9296"/>
                  </a:lnTo>
                  <a:lnTo>
                    <a:pt x="309" y="8047"/>
                  </a:lnTo>
                  <a:lnTo>
                    <a:pt x="601" y="6802"/>
                  </a:lnTo>
                  <a:lnTo>
                    <a:pt x="1157" y="4296"/>
                  </a:lnTo>
                  <a:lnTo>
                    <a:pt x="1412" y="3038"/>
                  </a:lnTo>
                  <a:lnTo>
                    <a:pt x="1441" y="2892"/>
                  </a:lnTo>
                  <a:lnTo>
                    <a:pt x="1465" y="2815"/>
                  </a:lnTo>
                  <a:lnTo>
                    <a:pt x="1567" y="2507"/>
                  </a:lnTo>
                  <a:lnTo>
                    <a:pt x="1810" y="1906"/>
                  </a:lnTo>
                  <a:lnTo>
                    <a:pt x="2098" y="1326"/>
                  </a:lnTo>
                  <a:lnTo>
                    <a:pt x="2131" y="1217"/>
                  </a:lnTo>
                  <a:lnTo>
                    <a:pt x="2164" y="989"/>
                  </a:lnTo>
                  <a:lnTo>
                    <a:pt x="2159" y="876"/>
                  </a:lnTo>
                  <a:lnTo>
                    <a:pt x="2115" y="653"/>
                  </a:lnTo>
                  <a:lnTo>
                    <a:pt x="1961" y="321"/>
                  </a:lnTo>
                  <a:lnTo>
                    <a:pt x="1883" y="223"/>
                  </a:lnTo>
                  <a:lnTo>
                    <a:pt x="1786" y="121"/>
                  </a:lnTo>
                  <a:lnTo>
                    <a:pt x="1661" y="0"/>
                  </a:lnTo>
                  <a:lnTo>
                    <a:pt x="1936" y="98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603440" y="3819600"/>
              <a:ext cx="952560" cy="144360"/>
            </a:xfrm>
            <a:custGeom>
              <a:avLst/>
              <a:gdLst/>
              <a:ahLst/>
              <a:rect l="l" t="t" r="r" b="b"/>
              <a:pathLst>
                <a:path w="5406" h="815">
                  <a:moveTo>
                    <a:pt x="28" y="815"/>
                  </a:moveTo>
                  <a:lnTo>
                    <a:pt x="0" y="693"/>
                  </a:lnTo>
                  <a:lnTo>
                    <a:pt x="28" y="494"/>
                  </a:lnTo>
                  <a:lnTo>
                    <a:pt x="150" y="295"/>
                  </a:lnTo>
                  <a:lnTo>
                    <a:pt x="251" y="149"/>
                  </a:lnTo>
                  <a:lnTo>
                    <a:pt x="446" y="76"/>
                  </a:lnTo>
                  <a:lnTo>
                    <a:pt x="669" y="0"/>
                  </a:lnTo>
                  <a:lnTo>
                    <a:pt x="1091" y="0"/>
                  </a:lnTo>
                  <a:lnTo>
                    <a:pt x="1489" y="51"/>
                  </a:lnTo>
                  <a:lnTo>
                    <a:pt x="1712" y="76"/>
                  </a:lnTo>
                  <a:lnTo>
                    <a:pt x="2008" y="125"/>
                  </a:lnTo>
                  <a:lnTo>
                    <a:pt x="2334" y="174"/>
                  </a:lnTo>
                  <a:lnTo>
                    <a:pt x="2581" y="198"/>
                  </a:lnTo>
                  <a:lnTo>
                    <a:pt x="2804" y="222"/>
                  </a:lnTo>
                  <a:lnTo>
                    <a:pt x="3100" y="271"/>
                  </a:lnTo>
                  <a:lnTo>
                    <a:pt x="3474" y="372"/>
                  </a:lnTo>
                  <a:lnTo>
                    <a:pt x="3722" y="421"/>
                  </a:lnTo>
                  <a:lnTo>
                    <a:pt x="4541" y="566"/>
                  </a:lnTo>
                  <a:lnTo>
                    <a:pt x="4959" y="644"/>
                  </a:lnTo>
                  <a:lnTo>
                    <a:pt x="5211" y="717"/>
                  </a:lnTo>
                  <a:lnTo>
                    <a:pt x="5406" y="8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63560" y="3427560"/>
              <a:ext cx="871560" cy="431640"/>
            </a:xfrm>
            <a:custGeom>
              <a:avLst/>
              <a:gdLst/>
              <a:ahLst/>
              <a:rect l="l" t="t" r="r" b="b"/>
              <a:pathLst>
                <a:path w="4935" h="2446">
                  <a:moveTo>
                    <a:pt x="1810" y="175"/>
                  </a:moveTo>
                  <a:lnTo>
                    <a:pt x="1489" y="102"/>
                  </a:lnTo>
                  <a:lnTo>
                    <a:pt x="1339" y="53"/>
                  </a:lnTo>
                  <a:lnTo>
                    <a:pt x="1189" y="24"/>
                  </a:lnTo>
                  <a:lnTo>
                    <a:pt x="1043" y="0"/>
                  </a:lnTo>
                  <a:lnTo>
                    <a:pt x="869" y="0"/>
                  </a:lnTo>
                  <a:lnTo>
                    <a:pt x="791" y="0"/>
                  </a:lnTo>
                  <a:lnTo>
                    <a:pt x="620" y="0"/>
                  </a:lnTo>
                  <a:lnTo>
                    <a:pt x="495" y="53"/>
                  </a:lnTo>
                  <a:lnTo>
                    <a:pt x="397" y="102"/>
                  </a:lnTo>
                  <a:lnTo>
                    <a:pt x="271" y="175"/>
                  </a:lnTo>
                  <a:lnTo>
                    <a:pt x="150" y="273"/>
                  </a:lnTo>
                  <a:lnTo>
                    <a:pt x="48" y="471"/>
                  </a:lnTo>
                  <a:lnTo>
                    <a:pt x="0" y="839"/>
                  </a:lnTo>
                  <a:lnTo>
                    <a:pt x="0" y="1335"/>
                  </a:lnTo>
                  <a:lnTo>
                    <a:pt x="48" y="1679"/>
                  </a:lnTo>
                  <a:lnTo>
                    <a:pt x="126" y="1781"/>
                  </a:lnTo>
                  <a:lnTo>
                    <a:pt x="271" y="1854"/>
                  </a:lnTo>
                  <a:lnTo>
                    <a:pt x="543" y="1879"/>
                  </a:lnTo>
                  <a:lnTo>
                    <a:pt x="941" y="1879"/>
                  </a:lnTo>
                  <a:lnTo>
                    <a:pt x="1563" y="1879"/>
                  </a:lnTo>
                  <a:lnTo>
                    <a:pt x="1960" y="1879"/>
                  </a:lnTo>
                  <a:lnTo>
                    <a:pt x="2382" y="1879"/>
                  </a:lnTo>
                  <a:lnTo>
                    <a:pt x="2853" y="1927"/>
                  </a:lnTo>
                  <a:lnTo>
                    <a:pt x="3198" y="1975"/>
                  </a:lnTo>
                  <a:lnTo>
                    <a:pt x="3470" y="2077"/>
                  </a:lnTo>
                  <a:lnTo>
                    <a:pt x="3819" y="2175"/>
                  </a:lnTo>
                  <a:lnTo>
                    <a:pt x="4314" y="2224"/>
                  </a:lnTo>
                  <a:lnTo>
                    <a:pt x="4610" y="2300"/>
                  </a:lnTo>
                  <a:lnTo>
                    <a:pt x="4834" y="2398"/>
                  </a:lnTo>
                  <a:lnTo>
                    <a:pt x="4935" y="24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577960" y="2513160"/>
              <a:ext cx="376200" cy="1428480"/>
            </a:xfrm>
            <a:custGeom>
              <a:avLst/>
              <a:gdLst/>
              <a:ahLst/>
              <a:rect l="l" t="t" r="r" b="b"/>
              <a:pathLst>
                <a:path w="2135" h="8101">
                  <a:moveTo>
                    <a:pt x="1189" y="0"/>
                  </a:moveTo>
                  <a:lnTo>
                    <a:pt x="1413" y="0"/>
                  </a:lnTo>
                  <a:lnTo>
                    <a:pt x="1635" y="74"/>
                  </a:lnTo>
                  <a:lnTo>
                    <a:pt x="1810" y="146"/>
                  </a:lnTo>
                  <a:lnTo>
                    <a:pt x="1911" y="248"/>
                  </a:lnTo>
                  <a:lnTo>
                    <a:pt x="2082" y="544"/>
                  </a:lnTo>
                  <a:lnTo>
                    <a:pt x="2135" y="691"/>
                  </a:lnTo>
                  <a:lnTo>
                    <a:pt x="2107" y="913"/>
                  </a:lnTo>
                  <a:lnTo>
                    <a:pt x="2033" y="1087"/>
                  </a:lnTo>
                  <a:lnTo>
                    <a:pt x="1883" y="1234"/>
                  </a:lnTo>
                  <a:lnTo>
                    <a:pt x="1587" y="1704"/>
                  </a:lnTo>
                  <a:lnTo>
                    <a:pt x="1364" y="2074"/>
                  </a:lnTo>
                  <a:lnTo>
                    <a:pt x="1115" y="2642"/>
                  </a:lnTo>
                  <a:lnTo>
                    <a:pt x="966" y="3233"/>
                  </a:lnTo>
                  <a:lnTo>
                    <a:pt x="795" y="3753"/>
                  </a:lnTo>
                  <a:lnTo>
                    <a:pt x="645" y="4321"/>
                  </a:lnTo>
                  <a:lnTo>
                    <a:pt x="446" y="4815"/>
                  </a:lnTo>
                  <a:lnTo>
                    <a:pt x="321" y="5261"/>
                  </a:lnTo>
                  <a:lnTo>
                    <a:pt x="174" y="5752"/>
                  </a:lnTo>
                  <a:lnTo>
                    <a:pt x="48" y="6320"/>
                  </a:lnTo>
                  <a:lnTo>
                    <a:pt x="25" y="6669"/>
                  </a:lnTo>
                  <a:lnTo>
                    <a:pt x="0" y="7261"/>
                  </a:lnTo>
                  <a:lnTo>
                    <a:pt x="25" y="7878"/>
                  </a:lnTo>
                  <a:lnTo>
                    <a:pt x="25" y="8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8360" y="2625840"/>
              <a:ext cx="228600" cy="1176120"/>
            </a:xfrm>
            <a:custGeom>
              <a:avLst/>
              <a:gdLst/>
              <a:ahLst/>
              <a:rect l="l" t="t" r="r" b="b"/>
              <a:pathLst>
                <a:path w="1291" h="6668">
                  <a:moveTo>
                    <a:pt x="1043" y="0"/>
                  </a:moveTo>
                  <a:lnTo>
                    <a:pt x="1092" y="592"/>
                  </a:lnTo>
                  <a:lnTo>
                    <a:pt x="1165" y="912"/>
                  </a:lnTo>
                  <a:lnTo>
                    <a:pt x="1243" y="1135"/>
                  </a:lnTo>
                  <a:lnTo>
                    <a:pt x="1291" y="1432"/>
                  </a:lnTo>
                  <a:lnTo>
                    <a:pt x="1291" y="1703"/>
                  </a:lnTo>
                  <a:lnTo>
                    <a:pt x="1243" y="2076"/>
                  </a:lnTo>
                  <a:lnTo>
                    <a:pt x="1043" y="2519"/>
                  </a:lnTo>
                  <a:lnTo>
                    <a:pt x="869" y="2815"/>
                  </a:lnTo>
                  <a:lnTo>
                    <a:pt x="545" y="3260"/>
                  </a:lnTo>
                  <a:lnTo>
                    <a:pt x="374" y="3605"/>
                  </a:lnTo>
                  <a:lnTo>
                    <a:pt x="200" y="4173"/>
                  </a:lnTo>
                  <a:lnTo>
                    <a:pt x="98" y="4790"/>
                  </a:lnTo>
                  <a:lnTo>
                    <a:pt x="49" y="5309"/>
                  </a:lnTo>
                  <a:lnTo>
                    <a:pt x="0" y="5902"/>
                  </a:lnTo>
                  <a:lnTo>
                    <a:pt x="74" y="6396"/>
                  </a:lnTo>
                  <a:lnTo>
                    <a:pt x="126" y="66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503440" y="2735280"/>
              <a:ext cx="223920" cy="849240"/>
            </a:xfrm>
            <a:custGeom>
              <a:avLst/>
              <a:gdLst/>
              <a:ahLst/>
              <a:rect l="l" t="t" r="r" b="b"/>
              <a:pathLst>
                <a:path w="1266" h="4819">
                  <a:moveTo>
                    <a:pt x="1241" y="0"/>
                  </a:moveTo>
                  <a:lnTo>
                    <a:pt x="1266" y="200"/>
                  </a:lnTo>
                  <a:lnTo>
                    <a:pt x="1266" y="374"/>
                  </a:lnTo>
                  <a:lnTo>
                    <a:pt x="1217" y="568"/>
                  </a:lnTo>
                  <a:lnTo>
                    <a:pt x="1092" y="817"/>
                  </a:lnTo>
                  <a:lnTo>
                    <a:pt x="892" y="1064"/>
                  </a:lnTo>
                  <a:lnTo>
                    <a:pt x="694" y="1336"/>
                  </a:lnTo>
                  <a:lnTo>
                    <a:pt x="572" y="1607"/>
                  </a:lnTo>
                  <a:lnTo>
                    <a:pt x="470" y="1830"/>
                  </a:lnTo>
                  <a:lnTo>
                    <a:pt x="349" y="2151"/>
                  </a:lnTo>
                  <a:lnTo>
                    <a:pt x="223" y="2496"/>
                  </a:lnTo>
                  <a:lnTo>
                    <a:pt x="149" y="2840"/>
                  </a:lnTo>
                  <a:lnTo>
                    <a:pt x="73" y="3238"/>
                  </a:lnTo>
                  <a:lnTo>
                    <a:pt x="49" y="3583"/>
                  </a:lnTo>
                  <a:lnTo>
                    <a:pt x="24" y="3830"/>
                  </a:lnTo>
                  <a:lnTo>
                    <a:pt x="0" y="4126"/>
                  </a:lnTo>
                  <a:lnTo>
                    <a:pt x="24" y="4572"/>
                  </a:lnTo>
                  <a:lnTo>
                    <a:pt x="125" y="48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785960" y="3454560"/>
              <a:ext cx="941400" cy="701640"/>
            </a:xfrm>
            <a:custGeom>
              <a:avLst/>
              <a:gdLst/>
              <a:ahLst/>
              <a:rect l="l" t="t" r="r" b="b"/>
              <a:pathLst>
                <a:path w="5333" h="3976">
                  <a:moveTo>
                    <a:pt x="4663" y="3976"/>
                  </a:moveTo>
                  <a:lnTo>
                    <a:pt x="669" y="3400"/>
                  </a:lnTo>
                  <a:lnTo>
                    <a:pt x="446" y="3359"/>
                  </a:lnTo>
                  <a:lnTo>
                    <a:pt x="175" y="3208"/>
                  </a:lnTo>
                  <a:lnTo>
                    <a:pt x="48" y="3038"/>
                  </a:lnTo>
                  <a:lnTo>
                    <a:pt x="0" y="2864"/>
                  </a:lnTo>
                  <a:lnTo>
                    <a:pt x="0" y="2617"/>
                  </a:lnTo>
                  <a:lnTo>
                    <a:pt x="48" y="2495"/>
                  </a:lnTo>
                  <a:lnTo>
                    <a:pt x="97" y="2321"/>
                  </a:lnTo>
                  <a:lnTo>
                    <a:pt x="669" y="523"/>
                  </a:lnTo>
                  <a:lnTo>
                    <a:pt x="893" y="146"/>
                  </a:lnTo>
                  <a:lnTo>
                    <a:pt x="1067" y="49"/>
                  </a:lnTo>
                  <a:lnTo>
                    <a:pt x="1263" y="0"/>
                  </a:lnTo>
                  <a:lnTo>
                    <a:pt x="1392" y="0"/>
                  </a:lnTo>
                  <a:lnTo>
                    <a:pt x="4537" y="495"/>
                  </a:lnTo>
                  <a:lnTo>
                    <a:pt x="4838" y="593"/>
                  </a:lnTo>
                  <a:lnTo>
                    <a:pt x="5008" y="666"/>
                  </a:lnTo>
                  <a:lnTo>
                    <a:pt x="5159" y="767"/>
                  </a:lnTo>
                  <a:lnTo>
                    <a:pt x="5231" y="864"/>
                  </a:lnTo>
                  <a:lnTo>
                    <a:pt x="5308" y="986"/>
                  </a:lnTo>
                  <a:lnTo>
                    <a:pt x="5333" y="1257"/>
                  </a:lnTo>
                  <a:lnTo>
                    <a:pt x="5308" y="1582"/>
                  </a:lnTo>
                  <a:lnTo>
                    <a:pt x="4870" y="3529"/>
                  </a:lnTo>
                  <a:lnTo>
                    <a:pt x="4342" y="3334"/>
                  </a:lnTo>
                  <a:lnTo>
                    <a:pt x="4785" y="1631"/>
                  </a:lnTo>
                  <a:lnTo>
                    <a:pt x="4810" y="1457"/>
                  </a:lnTo>
                  <a:lnTo>
                    <a:pt x="4785" y="1286"/>
                  </a:lnTo>
                  <a:lnTo>
                    <a:pt x="4663" y="1161"/>
                  </a:lnTo>
                  <a:lnTo>
                    <a:pt x="4542" y="1112"/>
                  </a:lnTo>
                  <a:lnTo>
                    <a:pt x="1436" y="568"/>
                  </a:lnTo>
                  <a:lnTo>
                    <a:pt x="1242" y="617"/>
                  </a:lnTo>
                  <a:lnTo>
                    <a:pt x="1063" y="852"/>
                  </a:lnTo>
                  <a:lnTo>
                    <a:pt x="471" y="2718"/>
                  </a:lnTo>
                  <a:lnTo>
                    <a:pt x="495" y="2864"/>
                  </a:lnTo>
                  <a:lnTo>
                    <a:pt x="669" y="2937"/>
                  </a:lnTo>
                  <a:lnTo>
                    <a:pt x="3892" y="3432"/>
                  </a:lnTo>
                  <a:lnTo>
                    <a:pt x="4663" y="3976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2478240" y="4038480"/>
              <a:ext cx="169560" cy="108000"/>
            </a:xfrm>
            <a:custGeom>
              <a:avLst/>
              <a:gdLst/>
              <a:ahLst/>
              <a:rect l="l" t="t" r="r" b="b"/>
              <a:pathLst>
                <a:path w="971" h="617">
                  <a:moveTo>
                    <a:pt x="0" y="122"/>
                  </a:moveTo>
                  <a:lnTo>
                    <a:pt x="224" y="147"/>
                  </a:lnTo>
                  <a:lnTo>
                    <a:pt x="374" y="98"/>
                  </a:lnTo>
                  <a:lnTo>
                    <a:pt x="423" y="0"/>
                  </a:lnTo>
                  <a:lnTo>
                    <a:pt x="971" y="98"/>
                  </a:lnTo>
                  <a:lnTo>
                    <a:pt x="869" y="466"/>
                  </a:lnTo>
                  <a:lnTo>
                    <a:pt x="772" y="568"/>
                  </a:lnTo>
                  <a:lnTo>
                    <a:pt x="698" y="617"/>
                  </a:lnTo>
                  <a:lnTo>
                    <a:pt x="29" y="56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101680" y="3532320"/>
              <a:ext cx="608040" cy="231480"/>
            </a:xfrm>
            <a:custGeom>
              <a:avLst/>
              <a:gdLst/>
              <a:ahLst/>
              <a:rect l="l" t="t" r="r" b="b"/>
              <a:pathLst>
                <a:path w="3446" h="1307">
                  <a:moveTo>
                    <a:pt x="0" y="0"/>
                  </a:moveTo>
                  <a:lnTo>
                    <a:pt x="2878" y="492"/>
                  </a:lnTo>
                  <a:lnTo>
                    <a:pt x="3077" y="641"/>
                  </a:lnTo>
                  <a:lnTo>
                    <a:pt x="3174" y="788"/>
                  </a:lnTo>
                  <a:lnTo>
                    <a:pt x="3223" y="986"/>
                  </a:lnTo>
                  <a:lnTo>
                    <a:pt x="3174" y="1307"/>
                  </a:lnTo>
                  <a:lnTo>
                    <a:pt x="3349" y="1185"/>
                  </a:lnTo>
                  <a:lnTo>
                    <a:pt x="3446" y="937"/>
                  </a:lnTo>
                  <a:lnTo>
                    <a:pt x="3410" y="666"/>
                  </a:lnTo>
                  <a:lnTo>
                    <a:pt x="3248" y="443"/>
                  </a:lnTo>
                  <a:lnTo>
                    <a:pt x="3077" y="321"/>
                  </a:lnTo>
                  <a:lnTo>
                    <a:pt x="2903" y="273"/>
                  </a:lnTo>
                  <a:lnTo>
                    <a:pt x="2209" y="171"/>
                  </a:lnTo>
                  <a:lnTo>
                    <a:pt x="134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857240" y="3933720"/>
              <a:ext cx="95400" cy="85680"/>
            </a:xfrm>
            <a:custGeom>
              <a:avLst/>
              <a:gdLst/>
              <a:ahLst/>
              <a:rect l="l" t="t" r="r" b="b"/>
              <a:pathLst>
                <a:path w="544" h="490">
                  <a:moveTo>
                    <a:pt x="25" y="195"/>
                  </a:moveTo>
                  <a:lnTo>
                    <a:pt x="74" y="0"/>
                  </a:lnTo>
                  <a:lnTo>
                    <a:pt x="78" y="94"/>
                  </a:lnTo>
                  <a:lnTo>
                    <a:pt x="147" y="247"/>
                  </a:lnTo>
                  <a:lnTo>
                    <a:pt x="272" y="369"/>
                  </a:lnTo>
                  <a:lnTo>
                    <a:pt x="544" y="490"/>
                  </a:lnTo>
                  <a:lnTo>
                    <a:pt x="338" y="483"/>
                  </a:lnTo>
                  <a:lnTo>
                    <a:pt x="98" y="442"/>
                  </a:lnTo>
                  <a:lnTo>
                    <a:pt x="25" y="418"/>
                  </a:lnTo>
                  <a:lnTo>
                    <a:pt x="0" y="345"/>
                  </a:lnTo>
                  <a:lnTo>
                    <a:pt x="25" y="195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3" name=""/>
          <p:cNvGrpSpPr/>
          <p:nvPr/>
        </p:nvGrpSpPr>
        <p:grpSpPr>
          <a:xfrm>
            <a:off x="5715000" y="2808360"/>
            <a:ext cx="2400120" cy="2001600"/>
            <a:chOff x="5715000" y="2808360"/>
            <a:chExt cx="2400120" cy="2001600"/>
          </a:xfrm>
        </p:grpSpPr>
        <p:sp>
          <p:nvSpPr>
            <p:cNvPr id="4684" name=""/>
            <p:cNvSpPr/>
            <p:nvPr/>
          </p:nvSpPr>
          <p:spPr>
            <a:xfrm>
              <a:off x="5715000" y="2808360"/>
              <a:ext cx="240012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5724360" y="2815920"/>
              <a:ext cx="2381400" cy="1985760"/>
            </a:xfrm>
            <a:custGeom>
              <a:avLst/>
              <a:gdLst/>
              <a:ahLst/>
              <a:rect l="l" t="t" r="r" b="b"/>
              <a:pathLst>
                <a:path w="5999" h="5003">
                  <a:moveTo>
                    <a:pt x="761" y="1629"/>
                  </a:moveTo>
                  <a:lnTo>
                    <a:pt x="723" y="821"/>
                  </a:lnTo>
                  <a:lnTo>
                    <a:pt x="693" y="756"/>
                  </a:lnTo>
                  <a:lnTo>
                    <a:pt x="526" y="624"/>
                  </a:lnTo>
                  <a:lnTo>
                    <a:pt x="459" y="595"/>
                  </a:lnTo>
                  <a:lnTo>
                    <a:pt x="435" y="563"/>
                  </a:lnTo>
                  <a:lnTo>
                    <a:pt x="416" y="550"/>
                  </a:lnTo>
                  <a:lnTo>
                    <a:pt x="398" y="539"/>
                  </a:lnTo>
                  <a:lnTo>
                    <a:pt x="383" y="530"/>
                  </a:lnTo>
                  <a:lnTo>
                    <a:pt x="368" y="521"/>
                  </a:lnTo>
                  <a:lnTo>
                    <a:pt x="354" y="513"/>
                  </a:lnTo>
                  <a:lnTo>
                    <a:pt x="341" y="505"/>
                  </a:lnTo>
                  <a:lnTo>
                    <a:pt x="328" y="497"/>
                  </a:lnTo>
                  <a:lnTo>
                    <a:pt x="317" y="489"/>
                  </a:lnTo>
                  <a:lnTo>
                    <a:pt x="305" y="480"/>
                  </a:lnTo>
                  <a:lnTo>
                    <a:pt x="294" y="470"/>
                  </a:lnTo>
                  <a:lnTo>
                    <a:pt x="282" y="460"/>
                  </a:lnTo>
                  <a:lnTo>
                    <a:pt x="271" y="448"/>
                  </a:lnTo>
                  <a:lnTo>
                    <a:pt x="260" y="434"/>
                  </a:lnTo>
                  <a:lnTo>
                    <a:pt x="249" y="417"/>
                  </a:lnTo>
                  <a:lnTo>
                    <a:pt x="238" y="399"/>
                  </a:lnTo>
                  <a:lnTo>
                    <a:pt x="226" y="379"/>
                  </a:lnTo>
                  <a:lnTo>
                    <a:pt x="33" y="233"/>
                  </a:lnTo>
                  <a:lnTo>
                    <a:pt x="0" y="29"/>
                  </a:lnTo>
                  <a:lnTo>
                    <a:pt x="48" y="0"/>
                  </a:lnTo>
                  <a:lnTo>
                    <a:pt x="138" y="25"/>
                  </a:lnTo>
                  <a:lnTo>
                    <a:pt x="152" y="37"/>
                  </a:lnTo>
                  <a:lnTo>
                    <a:pt x="167" y="49"/>
                  </a:lnTo>
                  <a:lnTo>
                    <a:pt x="181" y="60"/>
                  </a:lnTo>
                  <a:lnTo>
                    <a:pt x="195" y="71"/>
                  </a:lnTo>
                  <a:lnTo>
                    <a:pt x="209" y="81"/>
                  </a:lnTo>
                  <a:lnTo>
                    <a:pt x="223" y="91"/>
                  </a:lnTo>
                  <a:lnTo>
                    <a:pt x="238" y="100"/>
                  </a:lnTo>
                  <a:lnTo>
                    <a:pt x="252" y="109"/>
                  </a:lnTo>
                  <a:lnTo>
                    <a:pt x="267" y="118"/>
                  </a:lnTo>
                  <a:lnTo>
                    <a:pt x="282" y="127"/>
                  </a:lnTo>
                  <a:lnTo>
                    <a:pt x="298" y="136"/>
                  </a:lnTo>
                  <a:lnTo>
                    <a:pt x="313" y="144"/>
                  </a:lnTo>
                  <a:lnTo>
                    <a:pt x="329" y="152"/>
                  </a:lnTo>
                  <a:lnTo>
                    <a:pt x="344" y="161"/>
                  </a:lnTo>
                  <a:lnTo>
                    <a:pt x="360" y="169"/>
                  </a:lnTo>
                  <a:lnTo>
                    <a:pt x="376" y="178"/>
                  </a:lnTo>
                  <a:lnTo>
                    <a:pt x="453" y="229"/>
                  </a:lnTo>
                  <a:lnTo>
                    <a:pt x="466" y="235"/>
                  </a:lnTo>
                  <a:lnTo>
                    <a:pt x="483" y="244"/>
                  </a:lnTo>
                  <a:lnTo>
                    <a:pt x="503" y="256"/>
                  </a:lnTo>
                  <a:lnTo>
                    <a:pt x="525" y="271"/>
                  </a:lnTo>
                  <a:lnTo>
                    <a:pt x="551" y="288"/>
                  </a:lnTo>
                  <a:lnTo>
                    <a:pt x="577" y="308"/>
                  </a:lnTo>
                  <a:lnTo>
                    <a:pt x="605" y="328"/>
                  </a:lnTo>
                  <a:lnTo>
                    <a:pt x="633" y="348"/>
                  </a:lnTo>
                  <a:lnTo>
                    <a:pt x="661" y="369"/>
                  </a:lnTo>
                  <a:lnTo>
                    <a:pt x="689" y="390"/>
                  </a:lnTo>
                  <a:lnTo>
                    <a:pt x="716" y="410"/>
                  </a:lnTo>
                  <a:lnTo>
                    <a:pt x="741" y="429"/>
                  </a:lnTo>
                  <a:lnTo>
                    <a:pt x="765" y="448"/>
                  </a:lnTo>
                  <a:lnTo>
                    <a:pt x="786" y="463"/>
                  </a:lnTo>
                  <a:lnTo>
                    <a:pt x="805" y="476"/>
                  </a:lnTo>
                  <a:lnTo>
                    <a:pt x="820" y="486"/>
                  </a:lnTo>
                  <a:lnTo>
                    <a:pt x="914" y="456"/>
                  </a:lnTo>
                  <a:lnTo>
                    <a:pt x="1016" y="430"/>
                  </a:lnTo>
                  <a:lnTo>
                    <a:pt x="1126" y="411"/>
                  </a:lnTo>
                  <a:lnTo>
                    <a:pt x="1241" y="398"/>
                  </a:lnTo>
                  <a:lnTo>
                    <a:pt x="1362" y="389"/>
                  </a:lnTo>
                  <a:lnTo>
                    <a:pt x="1489" y="386"/>
                  </a:lnTo>
                  <a:lnTo>
                    <a:pt x="1619" y="388"/>
                  </a:lnTo>
                  <a:lnTo>
                    <a:pt x="1754" y="394"/>
                  </a:lnTo>
                  <a:lnTo>
                    <a:pt x="1893" y="405"/>
                  </a:lnTo>
                  <a:lnTo>
                    <a:pt x="2034" y="421"/>
                  </a:lnTo>
                  <a:lnTo>
                    <a:pt x="2177" y="441"/>
                  </a:lnTo>
                  <a:lnTo>
                    <a:pt x="2324" y="465"/>
                  </a:lnTo>
                  <a:lnTo>
                    <a:pt x="2470" y="493"/>
                  </a:lnTo>
                  <a:lnTo>
                    <a:pt x="2617" y="525"/>
                  </a:lnTo>
                  <a:lnTo>
                    <a:pt x="2765" y="560"/>
                  </a:lnTo>
                  <a:lnTo>
                    <a:pt x="2912" y="600"/>
                  </a:lnTo>
                  <a:lnTo>
                    <a:pt x="3058" y="642"/>
                  </a:lnTo>
                  <a:lnTo>
                    <a:pt x="3203" y="688"/>
                  </a:lnTo>
                  <a:lnTo>
                    <a:pt x="3345" y="737"/>
                  </a:lnTo>
                  <a:lnTo>
                    <a:pt x="3485" y="789"/>
                  </a:lnTo>
                  <a:lnTo>
                    <a:pt x="3621" y="844"/>
                  </a:lnTo>
                  <a:lnTo>
                    <a:pt x="3754" y="900"/>
                  </a:lnTo>
                  <a:lnTo>
                    <a:pt x="3882" y="960"/>
                  </a:lnTo>
                  <a:lnTo>
                    <a:pt x="4005" y="1022"/>
                  </a:lnTo>
                  <a:lnTo>
                    <a:pt x="4123" y="1086"/>
                  </a:lnTo>
                  <a:lnTo>
                    <a:pt x="4235" y="1151"/>
                  </a:lnTo>
                  <a:lnTo>
                    <a:pt x="4340" y="1219"/>
                  </a:lnTo>
                  <a:lnTo>
                    <a:pt x="4437" y="1288"/>
                  </a:lnTo>
                  <a:lnTo>
                    <a:pt x="4527" y="1359"/>
                  </a:lnTo>
                  <a:lnTo>
                    <a:pt x="4610" y="1430"/>
                  </a:lnTo>
                  <a:lnTo>
                    <a:pt x="4682" y="1504"/>
                  </a:lnTo>
                  <a:lnTo>
                    <a:pt x="4746" y="1577"/>
                  </a:lnTo>
                  <a:lnTo>
                    <a:pt x="4815" y="1650"/>
                  </a:lnTo>
                  <a:lnTo>
                    <a:pt x="4882" y="1724"/>
                  </a:lnTo>
                  <a:lnTo>
                    <a:pt x="4945" y="1801"/>
                  </a:lnTo>
                  <a:lnTo>
                    <a:pt x="5008" y="1880"/>
                  </a:lnTo>
                  <a:lnTo>
                    <a:pt x="5067" y="1960"/>
                  </a:lnTo>
                  <a:lnTo>
                    <a:pt x="5124" y="2042"/>
                  </a:lnTo>
                  <a:lnTo>
                    <a:pt x="5179" y="2126"/>
                  </a:lnTo>
                  <a:lnTo>
                    <a:pt x="5232" y="2211"/>
                  </a:lnTo>
                  <a:lnTo>
                    <a:pt x="5282" y="2298"/>
                  </a:lnTo>
                  <a:lnTo>
                    <a:pt x="5330" y="2386"/>
                  </a:lnTo>
                  <a:lnTo>
                    <a:pt x="5376" y="2475"/>
                  </a:lnTo>
                  <a:lnTo>
                    <a:pt x="5420" y="2566"/>
                  </a:lnTo>
                  <a:lnTo>
                    <a:pt x="5463" y="2659"/>
                  </a:lnTo>
                  <a:lnTo>
                    <a:pt x="5503" y="2751"/>
                  </a:lnTo>
                  <a:lnTo>
                    <a:pt x="5540" y="2845"/>
                  </a:lnTo>
                  <a:lnTo>
                    <a:pt x="5576" y="2941"/>
                  </a:lnTo>
                  <a:lnTo>
                    <a:pt x="5612" y="3037"/>
                  </a:lnTo>
                  <a:lnTo>
                    <a:pt x="5644" y="3133"/>
                  </a:lnTo>
                  <a:lnTo>
                    <a:pt x="5675" y="3230"/>
                  </a:lnTo>
                  <a:lnTo>
                    <a:pt x="5704" y="3329"/>
                  </a:lnTo>
                  <a:lnTo>
                    <a:pt x="5732" y="3427"/>
                  </a:lnTo>
                  <a:lnTo>
                    <a:pt x="5758" y="3526"/>
                  </a:lnTo>
                  <a:lnTo>
                    <a:pt x="5782" y="3625"/>
                  </a:lnTo>
                  <a:lnTo>
                    <a:pt x="5805" y="3725"/>
                  </a:lnTo>
                  <a:lnTo>
                    <a:pt x="5826" y="3825"/>
                  </a:lnTo>
                  <a:lnTo>
                    <a:pt x="5847" y="3925"/>
                  </a:lnTo>
                  <a:lnTo>
                    <a:pt x="5865" y="4025"/>
                  </a:lnTo>
                  <a:lnTo>
                    <a:pt x="5882" y="4125"/>
                  </a:lnTo>
                  <a:lnTo>
                    <a:pt x="5898" y="4225"/>
                  </a:lnTo>
                  <a:lnTo>
                    <a:pt x="5912" y="4325"/>
                  </a:lnTo>
                  <a:lnTo>
                    <a:pt x="5926" y="4424"/>
                  </a:lnTo>
                  <a:lnTo>
                    <a:pt x="5938" y="4523"/>
                  </a:lnTo>
                  <a:lnTo>
                    <a:pt x="5957" y="4786"/>
                  </a:lnTo>
                  <a:lnTo>
                    <a:pt x="5985" y="4808"/>
                  </a:lnTo>
                  <a:lnTo>
                    <a:pt x="5999" y="4820"/>
                  </a:lnTo>
                  <a:lnTo>
                    <a:pt x="5998" y="4873"/>
                  </a:lnTo>
                  <a:lnTo>
                    <a:pt x="5973" y="4894"/>
                  </a:lnTo>
                  <a:lnTo>
                    <a:pt x="5832" y="4905"/>
                  </a:lnTo>
                  <a:lnTo>
                    <a:pt x="5697" y="4916"/>
                  </a:lnTo>
                  <a:lnTo>
                    <a:pt x="5566" y="4928"/>
                  </a:lnTo>
                  <a:lnTo>
                    <a:pt x="5439" y="4940"/>
                  </a:lnTo>
                  <a:lnTo>
                    <a:pt x="5315" y="4952"/>
                  </a:lnTo>
                  <a:lnTo>
                    <a:pt x="5195" y="4964"/>
                  </a:lnTo>
                  <a:lnTo>
                    <a:pt x="5077" y="4974"/>
                  </a:lnTo>
                  <a:lnTo>
                    <a:pt x="4963" y="4983"/>
                  </a:lnTo>
                  <a:lnTo>
                    <a:pt x="4849" y="4991"/>
                  </a:lnTo>
                  <a:lnTo>
                    <a:pt x="4738" y="4997"/>
                  </a:lnTo>
                  <a:lnTo>
                    <a:pt x="4627" y="5001"/>
                  </a:lnTo>
                  <a:lnTo>
                    <a:pt x="4518" y="5003"/>
                  </a:lnTo>
                  <a:lnTo>
                    <a:pt x="4409" y="5002"/>
                  </a:lnTo>
                  <a:lnTo>
                    <a:pt x="4300" y="4998"/>
                  </a:lnTo>
                  <a:lnTo>
                    <a:pt x="4191" y="4991"/>
                  </a:lnTo>
                  <a:lnTo>
                    <a:pt x="4083" y="4980"/>
                  </a:lnTo>
                  <a:lnTo>
                    <a:pt x="3972" y="4966"/>
                  </a:lnTo>
                  <a:lnTo>
                    <a:pt x="3860" y="4946"/>
                  </a:lnTo>
                  <a:lnTo>
                    <a:pt x="3747" y="4923"/>
                  </a:lnTo>
                  <a:lnTo>
                    <a:pt x="3632" y="4896"/>
                  </a:lnTo>
                  <a:lnTo>
                    <a:pt x="3514" y="4863"/>
                  </a:lnTo>
                  <a:lnTo>
                    <a:pt x="3393" y="4824"/>
                  </a:lnTo>
                  <a:lnTo>
                    <a:pt x="3269" y="4780"/>
                  </a:lnTo>
                  <a:lnTo>
                    <a:pt x="3141" y="4730"/>
                  </a:lnTo>
                  <a:lnTo>
                    <a:pt x="3010" y="4673"/>
                  </a:lnTo>
                  <a:lnTo>
                    <a:pt x="2874" y="4611"/>
                  </a:lnTo>
                  <a:lnTo>
                    <a:pt x="2734" y="4540"/>
                  </a:lnTo>
                  <a:lnTo>
                    <a:pt x="2589" y="4464"/>
                  </a:lnTo>
                  <a:lnTo>
                    <a:pt x="2438" y="4379"/>
                  </a:lnTo>
                  <a:lnTo>
                    <a:pt x="2281" y="4286"/>
                  </a:lnTo>
                  <a:lnTo>
                    <a:pt x="2118" y="4186"/>
                  </a:lnTo>
                  <a:lnTo>
                    <a:pt x="1949" y="4077"/>
                  </a:lnTo>
                  <a:lnTo>
                    <a:pt x="1884" y="3996"/>
                  </a:lnTo>
                  <a:lnTo>
                    <a:pt x="1822" y="3917"/>
                  </a:lnTo>
                  <a:lnTo>
                    <a:pt x="1763" y="3841"/>
                  </a:lnTo>
                  <a:lnTo>
                    <a:pt x="1707" y="3766"/>
                  </a:lnTo>
                  <a:lnTo>
                    <a:pt x="1653" y="3693"/>
                  </a:lnTo>
                  <a:lnTo>
                    <a:pt x="1602" y="3621"/>
                  </a:lnTo>
                  <a:lnTo>
                    <a:pt x="1554" y="3552"/>
                  </a:lnTo>
                  <a:lnTo>
                    <a:pt x="1507" y="3483"/>
                  </a:lnTo>
                  <a:lnTo>
                    <a:pt x="1463" y="3415"/>
                  </a:lnTo>
                  <a:lnTo>
                    <a:pt x="1420" y="3347"/>
                  </a:lnTo>
                  <a:lnTo>
                    <a:pt x="1380" y="3281"/>
                  </a:lnTo>
                  <a:lnTo>
                    <a:pt x="1342" y="3214"/>
                  </a:lnTo>
                  <a:lnTo>
                    <a:pt x="1305" y="3147"/>
                  </a:lnTo>
                  <a:lnTo>
                    <a:pt x="1269" y="3081"/>
                  </a:lnTo>
                  <a:lnTo>
                    <a:pt x="1236" y="3014"/>
                  </a:lnTo>
                  <a:lnTo>
                    <a:pt x="1203" y="2947"/>
                  </a:lnTo>
                  <a:lnTo>
                    <a:pt x="1171" y="2879"/>
                  </a:lnTo>
                  <a:lnTo>
                    <a:pt x="1141" y="2810"/>
                  </a:lnTo>
                  <a:lnTo>
                    <a:pt x="1112" y="2740"/>
                  </a:lnTo>
                  <a:lnTo>
                    <a:pt x="1083" y="2669"/>
                  </a:lnTo>
                  <a:lnTo>
                    <a:pt x="1056" y="2595"/>
                  </a:lnTo>
                  <a:lnTo>
                    <a:pt x="1028" y="2521"/>
                  </a:lnTo>
                  <a:lnTo>
                    <a:pt x="1001" y="2443"/>
                  </a:lnTo>
                  <a:lnTo>
                    <a:pt x="975" y="2364"/>
                  </a:lnTo>
                  <a:lnTo>
                    <a:pt x="949" y="2283"/>
                  </a:lnTo>
                  <a:lnTo>
                    <a:pt x="923" y="2199"/>
                  </a:lnTo>
                  <a:lnTo>
                    <a:pt x="896" y="2112"/>
                  </a:lnTo>
                  <a:lnTo>
                    <a:pt x="870" y="2022"/>
                  </a:lnTo>
                  <a:lnTo>
                    <a:pt x="844" y="1929"/>
                  </a:lnTo>
                  <a:lnTo>
                    <a:pt x="817" y="1832"/>
                  </a:lnTo>
                  <a:lnTo>
                    <a:pt x="789" y="1733"/>
                  </a:lnTo>
                  <a:lnTo>
                    <a:pt x="761" y="1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121440" y="3261960"/>
              <a:ext cx="284040" cy="850680"/>
            </a:xfrm>
            <a:custGeom>
              <a:avLst/>
              <a:gdLst/>
              <a:ahLst/>
              <a:rect l="l" t="t" r="r" b="b"/>
              <a:pathLst>
                <a:path w="717" h="2143">
                  <a:moveTo>
                    <a:pt x="425" y="1805"/>
                  </a:moveTo>
                  <a:lnTo>
                    <a:pt x="390" y="1716"/>
                  </a:lnTo>
                  <a:lnTo>
                    <a:pt x="356" y="1639"/>
                  </a:lnTo>
                  <a:lnTo>
                    <a:pt x="324" y="1561"/>
                  </a:lnTo>
                  <a:lnTo>
                    <a:pt x="291" y="1482"/>
                  </a:lnTo>
                  <a:lnTo>
                    <a:pt x="261" y="1403"/>
                  </a:lnTo>
                  <a:lnTo>
                    <a:pt x="232" y="1324"/>
                  </a:lnTo>
                  <a:lnTo>
                    <a:pt x="205" y="1243"/>
                  </a:lnTo>
                  <a:lnTo>
                    <a:pt x="180" y="1163"/>
                  </a:lnTo>
                  <a:lnTo>
                    <a:pt x="155" y="1081"/>
                  </a:lnTo>
                  <a:lnTo>
                    <a:pt x="132" y="999"/>
                  </a:lnTo>
                  <a:lnTo>
                    <a:pt x="112" y="916"/>
                  </a:lnTo>
                  <a:lnTo>
                    <a:pt x="93" y="831"/>
                  </a:lnTo>
                  <a:lnTo>
                    <a:pt x="77" y="746"/>
                  </a:lnTo>
                  <a:lnTo>
                    <a:pt x="62" y="660"/>
                  </a:lnTo>
                  <a:lnTo>
                    <a:pt x="50" y="572"/>
                  </a:lnTo>
                  <a:lnTo>
                    <a:pt x="39" y="484"/>
                  </a:lnTo>
                  <a:lnTo>
                    <a:pt x="31" y="394"/>
                  </a:lnTo>
                  <a:lnTo>
                    <a:pt x="0" y="103"/>
                  </a:lnTo>
                  <a:lnTo>
                    <a:pt x="37" y="14"/>
                  </a:lnTo>
                  <a:lnTo>
                    <a:pt x="49" y="0"/>
                  </a:lnTo>
                  <a:lnTo>
                    <a:pt x="215" y="18"/>
                  </a:lnTo>
                  <a:lnTo>
                    <a:pt x="234" y="30"/>
                  </a:lnTo>
                  <a:lnTo>
                    <a:pt x="253" y="42"/>
                  </a:lnTo>
                  <a:lnTo>
                    <a:pt x="272" y="55"/>
                  </a:lnTo>
                  <a:lnTo>
                    <a:pt x="291" y="68"/>
                  </a:lnTo>
                  <a:lnTo>
                    <a:pt x="311" y="81"/>
                  </a:lnTo>
                  <a:lnTo>
                    <a:pt x="330" y="95"/>
                  </a:lnTo>
                  <a:lnTo>
                    <a:pt x="349" y="108"/>
                  </a:lnTo>
                  <a:lnTo>
                    <a:pt x="368" y="121"/>
                  </a:lnTo>
                  <a:lnTo>
                    <a:pt x="487" y="224"/>
                  </a:lnTo>
                  <a:lnTo>
                    <a:pt x="493" y="234"/>
                  </a:lnTo>
                  <a:lnTo>
                    <a:pt x="499" y="244"/>
                  </a:lnTo>
                  <a:lnTo>
                    <a:pt x="506" y="253"/>
                  </a:lnTo>
                  <a:lnTo>
                    <a:pt x="514" y="262"/>
                  </a:lnTo>
                  <a:lnTo>
                    <a:pt x="523" y="270"/>
                  </a:lnTo>
                  <a:lnTo>
                    <a:pt x="532" y="277"/>
                  </a:lnTo>
                  <a:lnTo>
                    <a:pt x="542" y="284"/>
                  </a:lnTo>
                  <a:lnTo>
                    <a:pt x="554" y="290"/>
                  </a:lnTo>
                  <a:lnTo>
                    <a:pt x="565" y="295"/>
                  </a:lnTo>
                  <a:lnTo>
                    <a:pt x="577" y="300"/>
                  </a:lnTo>
                  <a:lnTo>
                    <a:pt x="589" y="305"/>
                  </a:lnTo>
                  <a:lnTo>
                    <a:pt x="601" y="309"/>
                  </a:lnTo>
                  <a:lnTo>
                    <a:pt x="614" y="312"/>
                  </a:lnTo>
                  <a:lnTo>
                    <a:pt x="628" y="315"/>
                  </a:lnTo>
                  <a:lnTo>
                    <a:pt x="641" y="317"/>
                  </a:lnTo>
                  <a:lnTo>
                    <a:pt x="655" y="319"/>
                  </a:lnTo>
                  <a:lnTo>
                    <a:pt x="686" y="349"/>
                  </a:lnTo>
                  <a:lnTo>
                    <a:pt x="709" y="439"/>
                  </a:lnTo>
                  <a:lnTo>
                    <a:pt x="717" y="537"/>
                  </a:lnTo>
                  <a:lnTo>
                    <a:pt x="714" y="639"/>
                  </a:lnTo>
                  <a:lnTo>
                    <a:pt x="704" y="744"/>
                  </a:lnTo>
                  <a:lnTo>
                    <a:pt x="691" y="850"/>
                  </a:lnTo>
                  <a:lnTo>
                    <a:pt x="678" y="957"/>
                  </a:lnTo>
                  <a:lnTo>
                    <a:pt x="668" y="1063"/>
                  </a:lnTo>
                  <a:lnTo>
                    <a:pt x="667" y="1165"/>
                  </a:lnTo>
                  <a:lnTo>
                    <a:pt x="669" y="1971"/>
                  </a:lnTo>
                  <a:lnTo>
                    <a:pt x="643" y="2141"/>
                  </a:lnTo>
                  <a:lnTo>
                    <a:pt x="618" y="2143"/>
                  </a:lnTo>
                  <a:lnTo>
                    <a:pt x="462" y="1885"/>
                  </a:lnTo>
                  <a:lnTo>
                    <a:pt x="442" y="1840"/>
                  </a:lnTo>
                  <a:lnTo>
                    <a:pt x="425" y="180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6418080" y="3433680"/>
              <a:ext cx="354240" cy="1005840"/>
            </a:xfrm>
            <a:custGeom>
              <a:avLst/>
              <a:gdLst/>
              <a:ahLst/>
              <a:rect l="l" t="t" r="r" b="b"/>
              <a:pathLst>
                <a:path w="892" h="2538">
                  <a:moveTo>
                    <a:pt x="0" y="1896"/>
                  </a:moveTo>
                  <a:lnTo>
                    <a:pt x="35" y="1879"/>
                  </a:lnTo>
                  <a:lnTo>
                    <a:pt x="63" y="1490"/>
                  </a:lnTo>
                  <a:lnTo>
                    <a:pt x="52" y="1327"/>
                  </a:lnTo>
                  <a:lnTo>
                    <a:pt x="51" y="1161"/>
                  </a:lnTo>
                  <a:lnTo>
                    <a:pt x="59" y="992"/>
                  </a:lnTo>
                  <a:lnTo>
                    <a:pt x="73" y="819"/>
                  </a:lnTo>
                  <a:lnTo>
                    <a:pt x="90" y="645"/>
                  </a:lnTo>
                  <a:lnTo>
                    <a:pt x="109" y="469"/>
                  </a:lnTo>
                  <a:lnTo>
                    <a:pt x="128" y="293"/>
                  </a:lnTo>
                  <a:lnTo>
                    <a:pt x="145" y="118"/>
                  </a:lnTo>
                  <a:lnTo>
                    <a:pt x="147" y="29"/>
                  </a:lnTo>
                  <a:lnTo>
                    <a:pt x="169" y="0"/>
                  </a:lnTo>
                  <a:lnTo>
                    <a:pt x="226" y="9"/>
                  </a:lnTo>
                  <a:lnTo>
                    <a:pt x="253" y="31"/>
                  </a:lnTo>
                  <a:lnTo>
                    <a:pt x="278" y="64"/>
                  </a:lnTo>
                  <a:lnTo>
                    <a:pt x="416" y="175"/>
                  </a:lnTo>
                  <a:lnTo>
                    <a:pt x="462" y="196"/>
                  </a:lnTo>
                  <a:lnTo>
                    <a:pt x="501" y="258"/>
                  </a:lnTo>
                  <a:lnTo>
                    <a:pt x="581" y="316"/>
                  </a:lnTo>
                  <a:lnTo>
                    <a:pt x="644" y="392"/>
                  </a:lnTo>
                  <a:lnTo>
                    <a:pt x="674" y="421"/>
                  </a:lnTo>
                  <a:lnTo>
                    <a:pt x="698" y="437"/>
                  </a:lnTo>
                  <a:lnTo>
                    <a:pt x="751" y="509"/>
                  </a:lnTo>
                  <a:lnTo>
                    <a:pt x="785" y="526"/>
                  </a:lnTo>
                  <a:lnTo>
                    <a:pt x="825" y="553"/>
                  </a:lnTo>
                  <a:lnTo>
                    <a:pt x="841" y="572"/>
                  </a:lnTo>
                  <a:lnTo>
                    <a:pt x="878" y="667"/>
                  </a:lnTo>
                  <a:lnTo>
                    <a:pt x="872" y="732"/>
                  </a:lnTo>
                  <a:lnTo>
                    <a:pt x="886" y="821"/>
                  </a:lnTo>
                  <a:lnTo>
                    <a:pt x="892" y="911"/>
                  </a:lnTo>
                  <a:lnTo>
                    <a:pt x="892" y="1003"/>
                  </a:lnTo>
                  <a:lnTo>
                    <a:pt x="888" y="1098"/>
                  </a:lnTo>
                  <a:lnTo>
                    <a:pt x="882" y="1192"/>
                  </a:lnTo>
                  <a:lnTo>
                    <a:pt x="875" y="1288"/>
                  </a:lnTo>
                  <a:lnTo>
                    <a:pt x="869" y="1384"/>
                  </a:lnTo>
                  <a:lnTo>
                    <a:pt x="866" y="1480"/>
                  </a:lnTo>
                  <a:lnTo>
                    <a:pt x="801" y="2088"/>
                  </a:lnTo>
                  <a:lnTo>
                    <a:pt x="808" y="2235"/>
                  </a:lnTo>
                  <a:lnTo>
                    <a:pt x="799" y="2292"/>
                  </a:lnTo>
                  <a:lnTo>
                    <a:pt x="762" y="2528"/>
                  </a:lnTo>
                  <a:lnTo>
                    <a:pt x="705" y="2538"/>
                  </a:lnTo>
                  <a:lnTo>
                    <a:pt x="583" y="2464"/>
                  </a:lnTo>
                  <a:lnTo>
                    <a:pt x="244" y="2175"/>
                  </a:lnTo>
                  <a:lnTo>
                    <a:pt x="222" y="2143"/>
                  </a:lnTo>
                  <a:lnTo>
                    <a:pt x="187" y="2124"/>
                  </a:lnTo>
                  <a:lnTo>
                    <a:pt x="107" y="2030"/>
                  </a:lnTo>
                  <a:lnTo>
                    <a:pt x="83" y="2015"/>
                  </a:lnTo>
                  <a:lnTo>
                    <a:pt x="0" y="189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6757920" y="3754080"/>
              <a:ext cx="366840" cy="865080"/>
            </a:xfrm>
            <a:custGeom>
              <a:avLst/>
              <a:gdLst/>
              <a:ahLst/>
              <a:rect l="l" t="t" r="r" b="b"/>
              <a:pathLst>
                <a:path w="921" h="2178">
                  <a:moveTo>
                    <a:pt x="0" y="1806"/>
                  </a:moveTo>
                  <a:lnTo>
                    <a:pt x="54" y="1491"/>
                  </a:lnTo>
                  <a:lnTo>
                    <a:pt x="217" y="14"/>
                  </a:lnTo>
                  <a:lnTo>
                    <a:pt x="229" y="0"/>
                  </a:lnTo>
                  <a:lnTo>
                    <a:pt x="322" y="17"/>
                  </a:lnTo>
                  <a:lnTo>
                    <a:pt x="837" y="475"/>
                  </a:lnTo>
                  <a:lnTo>
                    <a:pt x="915" y="974"/>
                  </a:lnTo>
                  <a:lnTo>
                    <a:pt x="913" y="1027"/>
                  </a:lnTo>
                  <a:lnTo>
                    <a:pt x="913" y="1062"/>
                  </a:lnTo>
                  <a:lnTo>
                    <a:pt x="905" y="1215"/>
                  </a:lnTo>
                  <a:lnTo>
                    <a:pt x="904" y="1331"/>
                  </a:lnTo>
                  <a:lnTo>
                    <a:pt x="907" y="1444"/>
                  </a:lnTo>
                  <a:lnTo>
                    <a:pt x="913" y="1556"/>
                  </a:lnTo>
                  <a:lnTo>
                    <a:pt x="918" y="1668"/>
                  </a:lnTo>
                  <a:lnTo>
                    <a:pt x="921" y="1782"/>
                  </a:lnTo>
                  <a:lnTo>
                    <a:pt x="920" y="1898"/>
                  </a:lnTo>
                  <a:lnTo>
                    <a:pt x="912" y="2018"/>
                  </a:lnTo>
                  <a:lnTo>
                    <a:pt x="894" y="2141"/>
                  </a:lnTo>
                  <a:lnTo>
                    <a:pt x="878" y="2165"/>
                  </a:lnTo>
                  <a:lnTo>
                    <a:pt x="851" y="2178"/>
                  </a:lnTo>
                  <a:lnTo>
                    <a:pt x="687" y="2150"/>
                  </a:lnTo>
                  <a:lnTo>
                    <a:pt x="663" y="2141"/>
                  </a:lnTo>
                  <a:lnTo>
                    <a:pt x="640" y="2132"/>
                  </a:lnTo>
                  <a:lnTo>
                    <a:pt x="616" y="2123"/>
                  </a:lnTo>
                  <a:lnTo>
                    <a:pt x="593" y="2113"/>
                  </a:lnTo>
                  <a:lnTo>
                    <a:pt x="569" y="2104"/>
                  </a:lnTo>
                  <a:lnTo>
                    <a:pt x="546" y="2095"/>
                  </a:lnTo>
                  <a:lnTo>
                    <a:pt x="524" y="2085"/>
                  </a:lnTo>
                  <a:lnTo>
                    <a:pt x="501" y="2075"/>
                  </a:lnTo>
                  <a:lnTo>
                    <a:pt x="479" y="2065"/>
                  </a:lnTo>
                  <a:lnTo>
                    <a:pt x="456" y="2056"/>
                  </a:lnTo>
                  <a:lnTo>
                    <a:pt x="434" y="2046"/>
                  </a:lnTo>
                  <a:lnTo>
                    <a:pt x="412" y="2036"/>
                  </a:lnTo>
                  <a:lnTo>
                    <a:pt x="390" y="2026"/>
                  </a:lnTo>
                  <a:lnTo>
                    <a:pt x="369" y="2016"/>
                  </a:lnTo>
                  <a:lnTo>
                    <a:pt x="348" y="2007"/>
                  </a:lnTo>
                  <a:lnTo>
                    <a:pt x="326" y="1996"/>
                  </a:lnTo>
                  <a:lnTo>
                    <a:pt x="305" y="1986"/>
                  </a:lnTo>
                  <a:lnTo>
                    <a:pt x="284" y="1976"/>
                  </a:lnTo>
                  <a:lnTo>
                    <a:pt x="263" y="1966"/>
                  </a:lnTo>
                  <a:lnTo>
                    <a:pt x="243" y="1956"/>
                  </a:lnTo>
                  <a:lnTo>
                    <a:pt x="222" y="1944"/>
                  </a:lnTo>
                  <a:lnTo>
                    <a:pt x="201" y="1933"/>
                  </a:lnTo>
                  <a:lnTo>
                    <a:pt x="181" y="1923"/>
                  </a:lnTo>
                  <a:lnTo>
                    <a:pt x="161" y="1912"/>
                  </a:lnTo>
                  <a:lnTo>
                    <a:pt x="142" y="1901"/>
                  </a:lnTo>
                  <a:lnTo>
                    <a:pt x="122" y="1890"/>
                  </a:lnTo>
                  <a:lnTo>
                    <a:pt x="103" y="1879"/>
                  </a:lnTo>
                  <a:lnTo>
                    <a:pt x="83" y="1868"/>
                  </a:lnTo>
                  <a:lnTo>
                    <a:pt x="63" y="1857"/>
                  </a:lnTo>
                  <a:lnTo>
                    <a:pt x="44" y="1845"/>
                  </a:lnTo>
                  <a:lnTo>
                    <a:pt x="26" y="1834"/>
                  </a:lnTo>
                  <a:lnTo>
                    <a:pt x="7" y="1822"/>
                  </a:lnTo>
                  <a:lnTo>
                    <a:pt x="0" y="180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254640" y="3103200"/>
              <a:ext cx="819000" cy="185400"/>
            </a:xfrm>
            <a:custGeom>
              <a:avLst/>
              <a:gdLst/>
              <a:ahLst/>
              <a:rect l="l" t="t" r="r" b="b"/>
              <a:pathLst>
                <a:path w="2063" h="466">
                  <a:moveTo>
                    <a:pt x="6" y="112"/>
                  </a:moveTo>
                  <a:lnTo>
                    <a:pt x="0" y="98"/>
                  </a:lnTo>
                  <a:lnTo>
                    <a:pt x="29" y="74"/>
                  </a:lnTo>
                  <a:lnTo>
                    <a:pt x="60" y="55"/>
                  </a:lnTo>
                  <a:lnTo>
                    <a:pt x="93" y="39"/>
                  </a:lnTo>
                  <a:lnTo>
                    <a:pt x="126" y="27"/>
                  </a:lnTo>
                  <a:lnTo>
                    <a:pt x="160" y="17"/>
                  </a:lnTo>
                  <a:lnTo>
                    <a:pt x="195" y="10"/>
                  </a:lnTo>
                  <a:lnTo>
                    <a:pt x="232" y="6"/>
                  </a:lnTo>
                  <a:lnTo>
                    <a:pt x="269" y="2"/>
                  </a:lnTo>
                  <a:lnTo>
                    <a:pt x="306" y="1"/>
                  </a:lnTo>
                  <a:lnTo>
                    <a:pt x="345" y="0"/>
                  </a:lnTo>
                  <a:lnTo>
                    <a:pt x="383" y="1"/>
                  </a:lnTo>
                  <a:lnTo>
                    <a:pt x="421" y="1"/>
                  </a:lnTo>
                  <a:lnTo>
                    <a:pt x="460" y="2"/>
                  </a:lnTo>
                  <a:lnTo>
                    <a:pt x="499" y="2"/>
                  </a:lnTo>
                  <a:lnTo>
                    <a:pt x="538" y="2"/>
                  </a:lnTo>
                  <a:lnTo>
                    <a:pt x="576" y="1"/>
                  </a:lnTo>
                  <a:lnTo>
                    <a:pt x="927" y="4"/>
                  </a:lnTo>
                  <a:lnTo>
                    <a:pt x="1019" y="29"/>
                  </a:lnTo>
                  <a:lnTo>
                    <a:pt x="1211" y="106"/>
                  </a:lnTo>
                  <a:lnTo>
                    <a:pt x="1784" y="241"/>
                  </a:lnTo>
                  <a:lnTo>
                    <a:pt x="2056" y="280"/>
                  </a:lnTo>
                  <a:lnTo>
                    <a:pt x="2063" y="310"/>
                  </a:lnTo>
                  <a:lnTo>
                    <a:pt x="951" y="465"/>
                  </a:lnTo>
                  <a:lnTo>
                    <a:pt x="542" y="466"/>
                  </a:lnTo>
                  <a:lnTo>
                    <a:pt x="318" y="405"/>
                  </a:lnTo>
                  <a:lnTo>
                    <a:pt x="239" y="327"/>
                  </a:lnTo>
                  <a:lnTo>
                    <a:pt x="193" y="305"/>
                  </a:lnTo>
                  <a:lnTo>
                    <a:pt x="85" y="225"/>
                  </a:lnTo>
                  <a:lnTo>
                    <a:pt x="6" y="1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154640" y="4024080"/>
              <a:ext cx="217440" cy="657000"/>
            </a:xfrm>
            <a:custGeom>
              <a:avLst/>
              <a:gdLst/>
              <a:ahLst/>
              <a:rect l="l" t="t" r="r" b="b"/>
              <a:pathLst>
                <a:path w="549" h="1652">
                  <a:moveTo>
                    <a:pt x="2" y="1532"/>
                  </a:moveTo>
                  <a:lnTo>
                    <a:pt x="0" y="1349"/>
                  </a:lnTo>
                  <a:lnTo>
                    <a:pt x="3" y="1163"/>
                  </a:lnTo>
                  <a:lnTo>
                    <a:pt x="10" y="975"/>
                  </a:lnTo>
                  <a:lnTo>
                    <a:pt x="20" y="786"/>
                  </a:lnTo>
                  <a:lnTo>
                    <a:pt x="29" y="596"/>
                  </a:lnTo>
                  <a:lnTo>
                    <a:pt x="37" y="407"/>
                  </a:lnTo>
                  <a:lnTo>
                    <a:pt x="41" y="218"/>
                  </a:lnTo>
                  <a:lnTo>
                    <a:pt x="40" y="32"/>
                  </a:lnTo>
                  <a:lnTo>
                    <a:pt x="52" y="0"/>
                  </a:lnTo>
                  <a:lnTo>
                    <a:pt x="157" y="39"/>
                  </a:lnTo>
                  <a:lnTo>
                    <a:pt x="208" y="93"/>
                  </a:lnTo>
                  <a:lnTo>
                    <a:pt x="234" y="125"/>
                  </a:lnTo>
                  <a:lnTo>
                    <a:pt x="331" y="202"/>
                  </a:lnTo>
                  <a:lnTo>
                    <a:pt x="367" y="240"/>
                  </a:lnTo>
                  <a:lnTo>
                    <a:pt x="390" y="255"/>
                  </a:lnTo>
                  <a:lnTo>
                    <a:pt x="430" y="322"/>
                  </a:lnTo>
                  <a:lnTo>
                    <a:pt x="466" y="404"/>
                  </a:lnTo>
                  <a:lnTo>
                    <a:pt x="492" y="492"/>
                  </a:lnTo>
                  <a:lnTo>
                    <a:pt x="508" y="583"/>
                  </a:lnTo>
                  <a:lnTo>
                    <a:pt x="517" y="677"/>
                  </a:lnTo>
                  <a:lnTo>
                    <a:pt x="523" y="774"/>
                  </a:lnTo>
                  <a:lnTo>
                    <a:pt x="529" y="869"/>
                  </a:lnTo>
                  <a:lnTo>
                    <a:pt x="536" y="964"/>
                  </a:lnTo>
                  <a:lnTo>
                    <a:pt x="549" y="1057"/>
                  </a:lnTo>
                  <a:lnTo>
                    <a:pt x="532" y="1318"/>
                  </a:lnTo>
                  <a:lnTo>
                    <a:pt x="491" y="1531"/>
                  </a:lnTo>
                  <a:lnTo>
                    <a:pt x="494" y="1608"/>
                  </a:lnTo>
                  <a:lnTo>
                    <a:pt x="467" y="1629"/>
                  </a:lnTo>
                  <a:lnTo>
                    <a:pt x="435" y="1652"/>
                  </a:lnTo>
                  <a:lnTo>
                    <a:pt x="294" y="1632"/>
                  </a:lnTo>
                  <a:lnTo>
                    <a:pt x="2" y="1532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6591240" y="3295440"/>
              <a:ext cx="1019160" cy="597960"/>
            </a:xfrm>
            <a:custGeom>
              <a:avLst/>
              <a:gdLst/>
              <a:ahLst/>
              <a:rect l="l" t="t" r="r" b="b"/>
              <a:pathLst>
                <a:path w="2567" h="1507">
                  <a:moveTo>
                    <a:pt x="0" y="277"/>
                  </a:moveTo>
                  <a:lnTo>
                    <a:pt x="4" y="247"/>
                  </a:lnTo>
                  <a:lnTo>
                    <a:pt x="1030" y="28"/>
                  </a:lnTo>
                  <a:lnTo>
                    <a:pt x="1631" y="0"/>
                  </a:lnTo>
                  <a:lnTo>
                    <a:pt x="1712" y="59"/>
                  </a:lnTo>
                  <a:lnTo>
                    <a:pt x="1750" y="83"/>
                  </a:lnTo>
                  <a:lnTo>
                    <a:pt x="1789" y="111"/>
                  </a:lnTo>
                  <a:lnTo>
                    <a:pt x="1816" y="130"/>
                  </a:lnTo>
                  <a:lnTo>
                    <a:pt x="1842" y="148"/>
                  </a:lnTo>
                  <a:lnTo>
                    <a:pt x="1868" y="166"/>
                  </a:lnTo>
                  <a:lnTo>
                    <a:pt x="1894" y="184"/>
                  </a:lnTo>
                  <a:lnTo>
                    <a:pt x="1920" y="202"/>
                  </a:lnTo>
                  <a:lnTo>
                    <a:pt x="1945" y="221"/>
                  </a:lnTo>
                  <a:lnTo>
                    <a:pt x="1970" y="239"/>
                  </a:lnTo>
                  <a:lnTo>
                    <a:pt x="1994" y="259"/>
                  </a:lnTo>
                  <a:lnTo>
                    <a:pt x="2020" y="277"/>
                  </a:lnTo>
                  <a:lnTo>
                    <a:pt x="2043" y="296"/>
                  </a:lnTo>
                  <a:lnTo>
                    <a:pt x="2067" y="316"/>
                  </a:lnTo>
                  <a:lnTo>
                    <a:pt x="2090" y="335"/>
                  </a:lnTo>
                  <a:lnTo>
                    <a:pt x="2112" y="355"/>
                  </a:lnTo>
                  <a:lnTo>
                    <a:pt x="2135" y="375"/>
                  </a:lnTo>
                  <a:lnTo>
                    <a:pt x="2158" y="397"/>
                  </a:lnTo>
                  <a:lnTo>
                    <a:pt x="2179" y="418"/>
                  </a:lnTo>
                  <a:lnTo>
                    <a:pt x="2235" y="479"/>
                  </a:lnTo>
                  <a:lnTo>
                    <a:pt x="2305" y="552"/>
                  </a:lnTo>
                  <a:lnTo>
                    <a:pt x="2342" y="596"/>
                  </a:lnTo>
                  <a:lnTo>
                    <a:pt x="2562" y="876"/>
                  </a:lnTo>
                  <a:lnTo>
                    <a:pt x="2567" y="927"/>
                  </a:lnTo>
                  <a:lnTo>
                    <a:pt x="2258" y="1088"/>
                  </a:lnTo>
                  <a:lnTo>
                    <a:pt x="1683" y="1359"/>
                  </a:lnTo>
                  <a:lnTo>
                    <a:pt x="1645" y="1369"/>
                  </a:lnTo>
                  <a:lnTo>
                    <a:pt x="1586" y="1397"/>
                  </a:lnTo>
                  <a:lnTo>
                    <a:pt x="1507" y="1434"/>
                  </a:lnTo>
                  <a:lnTo>
                    <a:pt x="1332" y="1507"/>
                  </a:lnTo>
                  <a:lnTo>
                    <a:pt x="1268" y="1502"/>
                  </a:lnTo>
                  <a:lnTo>
                    <a:pt x="1172" y="1426"/>
                  </a:lnTo>
                  <a:lnTo>
                    <a:pt x="1148" y="1395"/>
                  </a:lnTo>
                  <a:lnTo>
                    <a:pt x="841" y="1099"/>
                  </a:lnTo>
                  <a:lnTo>
                    <a:pt x="811" y="1070"/>
                  </a:lnTo>
                  <a:lnTo>
                    <a:pt x="777" y="1034"/>
                  </a:lnTo>
                  <a:lnTo>
                    <a:pt x="671" y="960"/>
                  </a:lnTo>
                  <a:lnTo>
                    <a:pt x="658" y="949"/>
                  </a:lnTo>
                  <a:lnTo>
                    <a:pt x="665" y="911"/>
                  </a:lnTo>
                  <a:lnTo>
                    <a:pt x="693" y="894"/>
                  </a:lnTo>
                  <a:lnTo>
                    <a:pt x="721" y="879"/>
                  </a:lnTo>
                  <a:lnTo>
                    <a:pt x="750" y="866"/>
                  </a:lnTo>
                  <a:lnTo>
                    <a:pt x="780" y="853"/>
                  </a:lnTo>
                  <a:lnTo>
                    <a:pt x="810" y="842"/>
                  </a:lnTo>
                  <a:lnTo>
                    <a:pt x="841" y="832"/>
                  </a:lnTo>
                  <a:lnTo>
                    <a:pt x="872" y="823"/>
                  </a:lnTo>
                  <a:lnTo>
                    <a:pt x="904" y="814"/>
                  </a:lnTo>
                  <a:lnTo>
                    <a:pt x="936" y="806"/>
                  </a:lnTo>
                  <a:lnTo>
                    <a:pt x="968" y="799"/>
                  </a:lnTo>
                  <a:lnTo>
                    <a:pt x="1000" y="792"/>
                  </a:lnTo>
                  <a:lnTo>
                    <a:pt x="1034" y="786"/>
                  </a:lnTo>
                  <a:lnTo>
                    <a:pt x="1067" y="780"/>
                  </a:lnTo>
                  <a:lnTo>
                    <a:pt x="1100" y="773"/>
                  </a:lnTo>
                  <a:lnTo>
                    <a:pt x="1133" y="768"/>
                  </a:lnTo>
                  <a:lnTo>
                    <a:pt x="1166" y="762"/>
                  </a:lnTo>
                  <a:lnTo>
                    <a:pt x="1199" y="756"/>
                  </a:lnTo>
                  <a:lnTo>
                    <a:pt x="1232" y="750"/>
                  </a:lnTo>
                  <a:lnTo>
                    <a:pt x="1265" y="744"/>
                  </a:lnTo>
                  <a:lnTo>
                    <a:pt x="1298" y="738"/>
                  </a:lnTo>
                  <a:lnTo>
                    <a:pt x="1330" y="731"/>
                  </a:lnTo>
                  <a:lnTo>
                    <a:pt x="1362" y="723"/>
                  </a:lnTo>
                  <a:lnTo>
                    <a:pt x="1394" y="715"/>
                  </a:lnTo>
                  <a:lnTo>
                    <a:pt x="1426" y="706"/>
                  </a:lnTo>
                  <a:lnTo>
                    <a:pt x="1456" y="696"/>
                  </a:lnTo>
                  <a:lnTo>
                    <a:pt x="1487" y="685"/>
                  </a:lnTo>
                  <a:lnTo>
                    <a:pt x="1517" y="673"/>
                  </a:lnTo>
                  <a:lnTo>
                    <a:pt x="1546" y="660"/>
                  </a:lnTo>
                  <a:lnTo>
                    <a:pt x="1575" y="646"/>
                  </a:lnTo>
                  <a:lnTo>
                    <a:pt x="1603" y="629"/>
                  </a:lnTo>
                  <a:lnTo>
                    <a:pt x="1630" y="612"/>
                  </a:lnTo>
                  <a:lnTo>
                    <a:pt x="1657" y="593"/>
                  </a:lnTo>
                  <a:lnTo>
                    <a:pt x="1675" y="575"/>
                  </a:lnTo>
                  <a:lnTo>
                    <a:pt x="1683" y="555"/>
                  </a:lnTo>
                  <a:lnTo>
                    <a:pt x="1675" y="540"/>
                  </a:lnTo>
                  <a:lnTo>
                    <a:pt x="1636" y="546"/>
                  </a:lnTo>
                  <a:lnTo>
                    <a:pt x="1596" y="552"/>
                  </a:lnTo>
                  <a:lnTo>
                    <a:pt x="1558" y="558"/>
                  </a:lnTo>
                  <a:lnTo>
                    <a:pt x="1520" y="564"/>
                  </a:lnTo>
                  <a:lnTo>
                    <a:pt x="1480" y="571"/>
                  </a:lnTo>
                  <a:lnTo>
                    <a:pt x="1442" y="578"/>
                  </a:lnTo>
                  <a:lnTo>
                    <a:pt x="1404" y="585"/>
                  </a:lnTo>
                  <a:lnTo>
                    <a:pt x="1365" y="592"/>
                  </a:lnTo>
                  <a:lnTo>
                    <a:pt x="1327" y="599"/>
                  </a:lnTo>
                  <a:lnTo>
                    <a:pt x="1289" y="607"/>
                  </a:lnTo>
                  <a:lnTo>
                    <a:pt x="1251" y="614"/>
                  </a:lnTo>
                  <a:lnTo>
                    <a:pt x="1213" y="621"/>
                  </a:lnTo>
                  <a:lnTo>
                    <a:pt x="1175" y="628"/>
                  </a:lnTo>
                  <a:lnTo>
                    <a:pt x="1137" y="634"/>
                  </a:lnTo>
                  <a:lnTo>
                    <a:pt x="1097" y="641"/>
                  </a:lnTo>
                  <a:lnTo>
                    <a:pt x="1059" y="648"/>
                  </a:lnTo>
                  <a:lnTo>
                    <a:pt x="1021" y="654"/>
                  </a:lnTo>
                  <a:lnTo>
                    <a:pt x="981" y="659"/>
                  </a:lnTo>
                  <a:lnTo>
                    <a:pt x="942" y="665"/>
                  </a:lnTo>
                  <a:lnTo>
                    <a:pt x="903" y="669"/>
                  </a:lnTo>
                  <a:lnTo>
                    <a:pt x="863" y="673"/>
                  </a:lnTo>
                  <a:lnTo>
                    <a:pt x="823" y="677"/>
                  </a:lnTo>
                  <a:lnTo>
                    <a:pt x="784" y="680"/>
                  </a:lnTo>
                  <a:lnTo>
                    <a:pt x="742" y="682"/>
                  </a:lnTo>
                  <a:lnTo>
                    <a:pt x="702" y="684"/>
                  </a:lnTo>
                  <a:lnTo>
                    <a:pt x="661" y="685"/>
                  </a:lnTo>
                  <a:lnTo>
                    <a:pt x="619" y="686"/>
                  </a:lnTo>
                  <a:lnTo>
                    <a:pt x="577" y="685"/>
                  </a:lnTo>
                  <a:lnTo>
                    <a:pt x="535" y="684"/>
                  </a:lnTo>
                  <a:lnTo>
                    <a:pt x="492" y="681"/>
                  </a:lnTo>
                  <a:lnTo>
                    <a:pt x="449" y="678"/>
                  </a:lnTo>
                  <a:lnTo>
                    <a:pt x="405" y="674"/>
                  </a:lnTo>
                  <a:lnTo>
                    <a:pt x="353" y="601"/>
                  </a:lnTo>
                  <a:lnTo>
                    <a:pt x="141" y="446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386480" y="4216320"/>
              <a:ext cx="241200" cy="491760"/>
            </a:xfrm>
            <a:custGeom>
              <a:avLst/>
              <a:gdLst/>
              <a:ahLst/>
              <a:rect l="l" t="t" r="r" b="b"/>
              <a:pathLst>
                <a:path w="611" h="1241">
                  <a:moveTo>
                    <a:pt x="0" y="1174"/>
                  </a:moveTo>
                  <a:lnTo>
                    <a:pt x="10" y="1048"/>
                  </a:lnTo>
                  <a:lnTo>
                    <a:pt x="17" y="921"/>
                  </a:lnTo>
                  <a:lnTo>
                    <a:pt x="20" y="795"/>
                  </a:lnTo>
                  <a:lnTo>
                    <a:pt x="21" y="668"/>
                  </a:lnTo>
                  <a:lnTo>
                    <a:pt x="21" y="542"/>
                  </a:lnTo>
                  <a:lnTo>
                    <a:pt x="23" y="415"/>
                  </a:lnTo>
                  <a:lnTo>
                    <a:pt x="26" y="288"/>
                  </a:lnTo>
                  <a:lnTo>
                    <a:pt x="32" y="159"/>
                  </a:lnTo>
                  <a:lnTo>
                    <a:pt x="21" y="25"/>
                  </a:lnTo>
                  <a:lnTo>
                    <a:pt x="72" y="0"/>
                  </a:lnTo>
                  <a:lnTo>
                    <a:pt x="156" y="67"/>
                  </a:lnTo>
                  <a:lnTo>
                    <a:pt x="179" y="99"/>
                  </a:lnTo>
                  <a:lnTo>
                    <a:pt x="202" y="119"/>
                  </a:lnTo>
                  <a:lnTo>
                    <a:pt x="226" y="139"/>
                  </a:lnTo>
                  <a:lnTo>
                    <a:pt x="250" y="160"/>
                  </a:lnTo>
                  <a:lnTo>
                    <a:pt x="274" y="180"/>
                  </a:lnTo>
                  <a:lnTo>
                    <a:pt x="298" y="199"/>
                  </a:lnTo>
                  <a:lnTo>
                    <a:pt x="322" y="219"/>
                  </a:lnTo>
                  <a:lnTo>
                    <a:pt x="347" y="239"/>
                  </a:lnTo>
                  <a:lnTo>
                    <a:pt x="371" y="258"/>
                  </a:lnTo>
                  <a:lnTo>
                    <a:pt x="396" y="279"/>
                  </a:lnTo>
                  <a:lnTo>
                    <a:pt x="420" y="298"/>
                  </a:lnTo>
                  <a:lnTo>
                    <a:pt x="444" y="318"/>
                  </a:lnTo>
                  <a:lnTo>
                    <a:pt x="468" y="338"/>
                  </a:lnTo>
                  <a:lnTo>
                    <a:pt x="492" y="357"/>
                  </a:lnTo>
                  <a:lnTo>
                    <a:pt x="517" y="377"/>
                  </a:lnTo>
                  <a:lnTo>
                    <a:pt x="541" y="396"/>
                  </a:lnTo>
                  <a:lnTo>
                    <a:pt x="565" y="417"/>
                  </a:lnTo>
                  <a:lnTo>
                    <a:pt x="593" y="492"/>
                  </a:lnTo>
                  <a:lnTo>
                    <a:pt x="576" y="589"/>
                  </a:lnTo>
                  <a:lnTo>
                    <a:pt x="590" y="637"/>
                  </a:lnTo>
                  <a:lnTo>
                    <a:pt x="600" y="687"/>
                  </a:lnTo>
                  <a:lnTo>
                    <a:pt x="606" y="738"/>
                  </a:lnTo>
                  <a:lnTo>
                    <a:pt x="610" y="791"/>
                  </a:lnTo>
                  <a:lnTo>
                    <a:pt x="611" y="845"/>
                  </a:lnTo>
                  <a:lnTo>
                    <a:pt x="609" y="900"/>
                  </a:lnTo>
                  <a:lnTo>
                    <a:pt x="606" y="957"/>
                  </a:lnTo>
                  <a:lnTo>
                    <a:pt x="601" y="1014"/>
                  </a:lnTo>
                  <a:lnTo>
                    <a:pt x="570" y="1117"/>
                  </a:lnTo>
                  <a:lnTo>
                    <a:pt x="549" y="1223"/>
                  </a:lnTo>
                  <a:lnTo>
                    <a:pt x="539" y="1236"/>
                  </a:lnTo>
                  <a:lnTo>
                    <a:pt x="453" y="1241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142040" y="3730320"/>
              <a:ext cx="649440" cy="377640"/>
            </a:xfrm>
            <a:custGeom>
              <a:avLst/>
              <a:gdLst/>
              <a:ahLst/>
              <a:rect l="l" t="t" r="r" b="b"/>
              <a:pathLst>
                <a:path w="1635" h="953">
                  <a:moveTo>
                    <a:pt x="0" y="494"/>
                  </a:moveTo>
                  <a:lnTo>
                    <a:pt x="405" y="311"/>
                  </a:lnTo>
                  <a:lnTo>
                    <a:pt x="494" y="277"/>
                  </a:lnTo>
                  <a:lnTo>
                    <a:pt x="1226" y="5"/>
                  </a:lnTo>
                  <a:lnTo>
                    <a:pt x="1311" y="0"/>
                  </a:lnTo>
                  <a:lnTo>
                    <a:pt x="1322" y="39"/>
                  </a:lnTo>
                  <a:lnTo>
                    <a:pt x="1427" y="209"/>
                  </a:lnTo>
                  <a:lnTo>
                    <a:pt x="1596" y="531"/>
                  </a:lnTo>
                  <a:lnTo>
                    <a:pt x="1613" y="567"/>
                  </a:lnTo>
                  <a:lnTo>
                    <a:pt x="1635" y="593"/>
                  </a:lnTo>
                  <a:lnTo>
                    <a:pt x="1111" y="768"/>
                  </a:lnTo>
                  <a:lnTo>
                    <a:pt x="515" y="953"/>
                  </a:lnTo>
                  <a:lnTo>
                    <a:pt x="438" y="884"/>
                  </a:lnTo>
                  <a:lnTo>
                    <a:pt x="322" y="789"/>
                  </a:lnTo>
                  <a:lnTo>
                    <a:pt x="31" y="54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437240" y="4033440"/>
              <a:ext cx="581040" cy="601560"/>
            </a:xfrm>
            <a:custGeom>
              <a:avLst/>
              <a:gdLst/>
              <a:ahLst/>
              <a:rect l="l" t="t" r="r" b="b"/>
              <a:pathLst>
                <a:path w="1462" h="1519">
                  <a:moveTo>
                    <a:pt x="0" y="380"/>
                  </a:moveTo>
                  <a:lnTo>
                    <a:pt x="8" y="359"/>
                  </a:lnTo>
                  <a:lnTo>
                    <a:pt x="35" y="343"/>
                  </a:lnTo>
                  <a:lnTo>
                    <a:pt x="62" y="327"/>
                  </a:lnTo>
                  <a:lnTo>
                    <a:pt x="89" y="311"/>
                  </a:lnTo>
                  <a:lnTo>
                    <a:pt x="116" y="296"/>
                  </a:lnTo>
                  <a:lnTo>
                    <a:pt x="144" y="282"/>
                  </a:lnTo>
                  <a:lnTo>
                    <a:pt x="171" y="267"/>
                  </a:lnTo>
                  <a:lnTo>
                    <a:pt x="199" y="253"/>
                  </a:lnTo>
                  <a:lnTo>
                    <a:pt x="226" y="240"/>
                  </a:lnTo>
                  <a:lnTo>
                    <a:pt x="254" y="226"/>
                  </a:lnTo>
                  <a:lnTo>
                    <a:pt x="283" y="213"/>
                  </a:lnTo>
                  <a:lnTo>
                    <a:pt x="311" y="199"/>
                  </a:lnTo>
                  <a:lnTo>
                    <a:pt x="339" y="186"/>
                  </a:lnTo>
                  <a:lnTo>
                    <a:pt x="367" y="174"/>
                  </a:lnTo>
                  <a:lnTo>
                    <a:pt x="396" y="162"/>
                  </a:lnTo>
                  <a:lnTo>
                    <a:pt x="424" y="150"/>
                  </a:lnTo>
                  <a:lnTo>
                    <a:pt x="453" y="139"/>
                  </a:lnTo>
                  <a:lnTo>
                    <a:pt x="481" y="128"/>
                  </a:lnTo>
                  <a:lnTo>
                    <a:pt x="510" y="117"/>
                  </a:lnTo>
                  <a:lnTo>
                    <a:pt x="540" y="107"/>
                  </a:lnTo>
                  <a:lnTo>
                    <a:pt x="569" y="97"/>
                  </a:lnTo>
                  <a:lnTo>
                    <a:pt x="599" y="87"/>
                  </a:lnTo>
                  <a:lnTo>
                    <a:pt x="628" y="76"/>
                  </a:lnTo>
                  <a:lnTo>
                    <a:pt x="659" y="67"/>
                  </a:lnTo>
                  <a:lnTo>
                    <a:pt x="689" y="58"/>
                  </a:lnTo>
                  <a:lnTo>
                    <a:pt x="719" y="50"/>
                  </a:lnTo>
                  <a:lnTo>
                    <a:pt x="749" y="42"/>
                  </a:lnTo>
                  <a:lnTo>
                    <a:pt x="780" y="34"/>
                  </a:lnTo>
                  <a:lnTo>
                    <a:pt x="811" y="26"/>
                  </a:lnTo>
                  <a:lnTo>
                    <a:pt x="841" y="19"/>
                  </a:lnTo>
                  <a:lnTo>
                    <a:pt x="872" y="13"/>
                  </a:lnTo>
                  <a:lnTo>
                    <a:pt x="905" y="6"/>
                  </a:lnTo>
                  <a:lnTo>
                    <a:pt x="936" y="0"/>
                  </a:lnTo>
                  <a:lnTo>
                    <a:pt x="1021" y="145"/>
                  </a:lnTo>
                  <a:lnTo>
                    <a:pt x="1134" y="458"/>
                  </a:lnTo>
                  <a:lnTo>
                    <a:pt x="1140" y="492"/>
                  </a:lnTo>
                  <a:lnTo>
                    <a:pt x="1266" y="836"/>
                  </a:lnTo>
                  <a:lnTo>
                    <a:pt x="1373" y="1190"/>
                  </a:lnTo>
                  <a:lnTo>
                    <a:pt x="1462" y="1473"/>
                  </a:lnTo>
                  <a:lnTo>
                    <a:pt x="1457" y="1519"/>
                  </a:lnTo>
                  <a:lnTo>
                    <a:pt x="1423" y="1518"/>
                  </a:lnTo>
                  <a:lnTo>
                    <a:pt x="1396" y="1478"/>
                  </a:lnTo>
                  <a:lnTo>
                    <a:pt x="1307" y="1439"/>
                  </a:lnTo>
                  <a:lnTo>
                    <a:pt x="1289" y="1421"/>
                  </a:lnTo>
                  <a:lnTo>
                    <a:pt x="1156" y="1362"/>
                  </a:lnTo>
                  <a:lnTo>
                    <a:pt x="1024" y="1250"/>
                  </a:lnTo>
                  <a:lnTo>
                    <a:pt x="985" y="1222"/>
                  </a:lnTo>
                  <a:lnTo>
                    <a:pt x="717" y="1008"/>
                  </a:lnTo>
                  <a:lnTo>
                    <a:pt x="721" y="962"/>
                  </a:lnTo>
                  <a:lnTo>
                    <a:pt x="854" y="890"/>
                  </a:lnTo>
                  <a:lnTo>
                    <a:pt x="1170" y="777"/>
                  </a:lnTo>
                  <a:lnTo>
                    <a:pt x="1119" y="704"/>
                  </a:lnTo>
                  <a:lnTo>
                    <a:pt x="810" y="814"/>
                  </a:lnTo>
                  <a:lnTo>
                    <a:pt x="574" y="890"/>
                  </a:lnTo>
                  <a:lnTo>
                    <a:pt x="501" y="828"/>
                  </a:lnTo>
                  <a:lnTo>
                    <a:pt x="475" y="795"/>
                  </a:lnTo>
                  <a:lnTo>
                    <a:pt x="247" y="606"/>
                  </a:lnTo>
                  <a:lnTo>
                    <a:pt x="222" y="572"/>
                  </a:lnTo>
                  <a:lnTo>
                    <a:pt x="122" y="507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675560" y="4505040"/>
              <a:ext cx="204840" cy="201240"/>
            </a:xfrm>
            <a:custGeom>
              <a:avLst/>
              <a:gdLst/>
              <a:ahLst/>
              <a:rect l="l" t="t" r="r" b="b"/>
              <a:pathLst>
                <a:path w="515" h="506">
                  <a:moveTo>
                    <a:pt x="0" y="468"/>
                  </a:moveTo>
                  <a:lnTo>
                    <a:pt x="21" y="176"/>
                  </a:lnTo>
                  <a:lnTo>
                    <a:pt x="32" y="13"/>
                  </a:lnTo>
                  <a:lnTo>
                    <a:pt x="43" y="0"/>
                  </a:lnTo>
                  <a:lnTo>
                    <a:pt x="96" y="1"/>
                  </a:lnTo>
                  <a:lnTo>
                    <a:pt x="123" y="22"/>
                  </a:lnTo>
                  <a:lnTo>
                    <a:pt x="171" y="45"/>
                  </a:lnTo>
                  <a:lnTo>
                    <a:pt x="184" y="73"/>
                  </a:lnTo>
                  <a:lnTo>
                    <a:pt x="233" y="102"/>
                  </a:lnTo>
                  <a:lnTo>
                    <a:pt x="298" y="169"/>
                  </a:lnTo>
                  <a:lnTo>
                    <a:pt x="367" y="242"/>
                  </a:lnTo>
                  <a:lnTo>
                    <a:pt x="415" y="306"/>
                  </a:lnTo>
                  <a:lnTo>
                    <a:pt x="496" y="383"/>
                  </a:lnTo>
                  <a:lnTo>
                    <a:pt x="509" y="395"/>
                  </a:lnTo>
                  <a:lnTo>
                    <a:pt x="515" y="445"/>
                  </a:lnTo>
                  <a:lnTo>
                    <a:pt x="400" y="499"/>
                  </a:lnTo>
                  <a:lnTo>
                    <a:pt x="9" y="506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6" name=""/>
          <p:cNvGrpSpPr/>
          <p:nvPr/>
        </p:nvGrpSpPr>
        <p:grpSpPr>
          <a:xfrm>
            <a:off x="1600200" y="2793960"/>
            <a:ext cx="1793880" cy="2030400"/>
            <a:chOff x="1600200" y="2793960"/>
            <a:chExt cx="1793880" cy="2030400"/>
          </a:xfrm>
        </p:grpSpPr>
        <p:sp>
          <p:nvSpPr>
            <p:cNvPr id="4697" name=""/>
            <p:cNvSpPr/>
            <p:nvPr/>
          </p:nvSpPr>
          <p:spPr>
            <a:xfrm>
              <a:off x="1600200" y="2793960"/>
              <a:ext cx="1793880" cy="2030400"/>
            </a:xfrm>
            <a:custGeom>
              <a:avLst/>
              <a:gdLst/>
              <a:ahLst/>
              <a:rect l="l" t="t" r="r" b="b"/>
              <a:pathLst>
                <a:path w="7907" h="8951">
                  <a:moveTo>
                    <a:pt x="1419" y="1429"/>
                  </a:moveTo>
                  <a:lnTo>
                    <a:pt x="1375" y="1415"/>
                  </a:lnTo>
                  <a:lnTo>
                    <a:pt x="1325" y="1393"/>
                  </a:lnTo>
                  <a:lnTo>
                    <a:pt x="1270" y="1365"/>
                  </a:lnTo>
                  <a:lnTo>
                    <a:pt x="1212" y="1332"/>
                  </a:lnTo>
                  <a:lnTo>
                    <a:pt x="1150" y="1289"/>
                  </a:lnTo>
                  <a:lnTo>
                    <a:pt x="1086" y="1245"/>
                  </a:lnTo>
                  <a:lnTo>
                    <a:pt x="1024" y="1195"/>
                  </a:lnTo>
                  <a:lnTo>
                    <a:pt x="960" y="1143"/>
                  </a:lnTo>
                  <a:lnTo>
                    <a:pt x="1064" y="2165"/>
                  </a:lnTo>
                  <a:lnTo>
                    <a:pt x="934" y="2187"/>
                  </a:lnTo>
                  <a:lnTo>
                    <a:pt x="807" y="2189"/>
                  </a:lnTo>
                  <a:lnTo>
                    <a:pt x="677" y="2172"/>
                  </a:lnTo>
                  <a:lnTo>
                    <a:pt x="547" y="2141"/>
                  </a:lnTo>
                  <a:lnTo>
                    <a:pt x="416" y="2099"/>
                  </a:lnTo>
                  <a:lnTo>
                    <a:pt x="282" y="2047"/>
                  </a:lnTo>
                  <a:lnTo>
                    <a:pt x="142" y="1992"/>
                  </a:lnTo>
                  <a:lnTo>
                    <a:pt x="0" y="1933"/>
                  </a:lnTo>
                  <a:lnTo>
                    <a:pt x="104" y="2231"/>
                  </a:lnTo>
                  <a:lnTo>
                    <a:pt x="228" y="2515"/>
                  </a:lnTo>
                  <a:lnTo>
                    <a:pt x="369" y="2782"/>
                  </a:lnTo>
                  <a:lnTo>
                    <a:pt x="530" y="3035"/>
                  </a:lnTo>
                  <a:lnTo>
                    <a:pt x="709" y="3275"/>
                  </a:lnTo>
                  <a:lnTo>
                    <a:pt x="911" y="3502"/>
                  </a:lnTo>
                  <a:lnTo>
                    <a:pt x="1132" y="3717"/>
                  </a:lnTo>
                  <a:lnTo>
                    <a:pt x="1375" y="3921"/>
                  </a:lnTo>
                  <a:lnTo>
                    <a:pt x="1393" y="3897"/>
                  </a:lnTo>
                  <a:lnTo>
                    <a:pt x="1375" y="3890"/>
                  </a:lnTo>
                  <a:lnTo>
                    <a:pt x="1325" y="3901"/>
                  </a:lnTo>
                  <a:lnTo>
                    <a:pt x="1247" y="3927"/>
                  </a:lnTo>
                  <a:lnTo>
                    <a:pt x="1148" y="3963"/>
                  </a:lnTo>
                  <a:lnTo>
                    <a:pt x="1032" y="4009"/>
                  </a:lnTo>
                  <a:lnTo>
                    <a:pt x="902" y="4057"/>
                  </a:lnTo>
                  <a:lnTo>
                    <a:pt x="767" y="4110"/>
                  </a:lnTo>
                  <a:lnTo>
                    <a:pt x="629" y="4162"/>
                  </a:lnTo>
                  <a:lnTo>
                    <a:pt x="495" y="4212"/>
                  </a:lnTo>
                  <a:lnTo>
                    <a:pt x="369" y="4252"/>
                  </a:lnTo>
                  <a:lnTo>
                    <a:pt x="258" y="4287"/>
                  </a:lnTo>
                  <a:lnTo>
                    <a:pt x="166" y="4309"/>
                  </a:lnTo>
                  <a:lnTo>
                    <a:pt x="97" y="4316"/>
                  </a:lnTo>
                  <a:lnTo>
                    <a:pt x="57" y="4304"/>
                  </a:lnTo>
                  <a:lnTo>
                    <a:pt x="50" y="4273"/>
                  </a:lnTo>
                  <a:lnTo>
                    <a:pt x="180" y="4500"/>
                  </a:lnTo>
                  <a:lnTo>
                    <a:pt x="324" y="4702"/>
                  </a:lnTo>
                  <a:lnTo>
                    <a:pt x="483" y="4881"/>
                  </a:lnTo>
                  <a:lnTo>
                    <a:pt x="655" y="5045"/>
                  </a:lnTo>
                  <a:lnTo>
                    <a:pt x="837" y="5196"/>
                  </a:lnTo>
                  <a:lnTo>
                    <a:pt x="1034" y="5338"/>
                  </a:lnTo>
                  <a:lnTo>
                    <a:pt x="1240" y="5476"/>
                  </a:lnTo>
                  <a:lnTo>
                    <a:pt x="1457" y="5610"/>
                  </a:lnTo>
                  <a:lnTo>
                    <a:pt x="1379" y="5655"/>
                  </a:lnTo>
                  <a:lnTo>
                    <a:pt x="1301" y="5693"/>
                  </a:lnTo>
                  <a:lnTo>
                    <a:pt x="1221" y="5724"/>
                  </a:lnTo>
                  <a:lnTo>
                    <a:pt x="1136" y="5752"/>
                  </a:lnTo>
                  <a:lnTo>
                    <a:pt x="1041" y="5778"/>
                  </a:lnTo>
                  <a:lnTo>
                    <a:pt x="934" y="5804"/>
                  </a:lnTo>
                  <a:lnTo>
                    <a:pt x="814" y="5830"/>
                  </a:lnTo>
                  <a:lnTo>
                    <a:pt x="675" y="5859"/>
                  </a:lnTo>
                  <a:lnTo>
                    <a:pt x="705" y="5879"/>
                  </a:lnTo>
                  <a:lnTo>
                    <a:pt x="773" y="5917"/>
                  </a:lnTo>
                  <a:lnTo>
                    <a:pt x="871" y="5963"/>
                  </a:lnTo>
                  <a:lnTo>
                    <a:pt x="980" y="6013"/>
                  </a:lnTo>
                  <a:lnTo>
                    <a:pt x="1086" y="6062"/>
                  </a:lnTo>
                  <a:lnTo>
                    <a:pt x="1178" y="6107"/>
                  </a:lnTo>
                  <a:lnTo>
                    <a:pt x="1240" y="6140"/>
                  </a:lnTo>
                  <a:lnTo>
                    <a:pt x="1261" y="6159"/>
                  </a:lnTo>
                  <a:lnTo>
                    <a:pt x="1094" y="6275"/>
                  </a:lnTo>
                  <a:lnTo>
                    <a:pt x="946" y="6402"/>
                  </a:lnTo>
                  <a:lnTo>
                    <a:pt x="816" y="6540"/>
                  </a:lnTo>
                  <a:lnTo>
                    <a:pt x="693" y="6682"/>
                  </a:lnTo>
                  <a:lnTo>
                    <a:pt x="571" y="6827"/>
                  </a:lnTo>
                  <a:lnTo>
                    <a:pt x="438" y="6969"/>
                  </a:lnTo>
                  <a:lnTo>
                    <a:pt x="291" y="7106"/>
                  </a:lnTo>
                  <a:lnTo>
                    <a:pt x="118" y="7234"/>
                  </a:lnTo>
                  <a:lnTo>
                    <a:pt x="291" y="7268"/>
                  </a:lnTo>
                  <a:lnTo>
                    <a:pt x="459" y="7318"/>
                  </a:lnTo>
                  <a:lnTo>
                    <a:pt x="627" y="7380"/>
                  </a:lnTo>
                  <a:lnTo>
                    <a:pt x="795" y="7448"/>
                  </a:lnTo>
                  <a:lnTo>
                    <a:pt x="960" y="7524"/>
                  </a:lnTo>
                  <a:lnTo>
                    <a:pt x="1128" y="7602"/>
                  </a:lnTo>
                  <a:lnTo>
                    <a:pt x="1294" y="7681"/>
                  </a:lnTo>
                  <a:lnTo>
                    <a:pt x="1460" y="7753"/>
                  </a:lnTo>
                  <a:lnTo>
                    <a:pt x="1627" y="7825"/>
                  </a:lnTo>
                  <a:lnTo>
                    <a:pt x="1798" y="7887"/>
                  </a:lnTo>
                  <a:lnTo>
                    <a:pt x="1968" y="7936"/>
                  </a:lnTo>
                  <a:lnTo>
                    <a:pt x="2144" y="7974"/>
                  </a:lnTo>
                  <a:lnTo>
                    <a:pt x="2321" y="7995"/>
                  </a:lnTo>
                  <a:lnTo>
                    <a:pt x="2501" y="7997"/>
                  </a:lnTo>
                  <a:lnTo>
                    <a:pt x="2685" y="7979"/>
                  </a:lnTo>
                  <a:lnTo>
                    <a:pt x="2872" y="7933"/>
                  </a:lnTo>
                  <a:lnTo>
                    <a:pt x="2908" y="7943"/>
                  </a:lnTo>
                  <a:lnTo>
                    <a:pt x="2924" y="7950"/>
                  </a:lnTo>
                  <a:lnTo>
                    <a:pt x="2738" y="8589"/>
                  </a:lnTo>
                  <a:lnTo>
                    <a:pt x="2854" y="8504"/>
                  </a:lnTo>
                  <a:lnTo>
                    <a:pt x="2968" y="8419"/>
                  </a:lnTo>
                  <a:lnTo>
                    <a:pt x="3086" y="8340"/>
                  </a:lnTo>
                  <a:lnTo>
                    <a:pt x="3204" y="8264"/>
                  </a:lnTo>
                  <a:lnTo>
                    <a:pt x="3325" y="8192"/>
                  </a:lnTo>
                  <a:lnTo>
                    <a:pt x="3445" y="8123"/>
                  </a:lnTo>
                  <a:lnTo>
                    <a:pt x="3570" y="8059"/>
                  </a:lnTo>
                  <a:lnTo>
                    <a:pt x="3696" y="8000"/>
                  </a:lnTo>
                  <a:lnTo>
                    <a:pt x="3826" y="7945"/>
                  </a:lnTo>
                  <a:lnTo>
                    <a:pt x="3958" y="7893"/>
                  </a:lnTo>
                  <a:lnTo>
                    <a:pt x="4093" y="7849"/>
                  </a:lnTo>
                  <a:lnTo>
                    <a:pt x="4233" y="7809"/>
                  </a:lnTo>
                  <a:lnTo>
                    <a:pt x="4375" y="7773"/>
                  </a:lnTo>
                  <a:lnTo>
                    <a:pt x="4521" y="7745"/>
                  </a:lnTo>
                  <a:lnTo>
                    <a:pt x="4673" y="7721"/>
                  </a:lnTo>
                  <a:lnTo>
                    <a:pt x="4829" y="7701"/>
                  </a:lnTo>
                  <a:lnTo>
                    <a:pt x="4870" y="7695"/>
                  </a:lnTo>
                  <a:lnTo>
                    <a:pt x="4900" y="7690"/>
                  </a:lnTo>
                  <a:lnTo>
                    <a:pt x="4931" y="7685"/>
                  </a:lnTo>
                  <a:lnTo>
                    <a:pt x="4971" y="7676"/>
                  </a:lnTo>
                  <a:lnTo>
                    <a:pt x="5030" y="7727"/>
                  </a:lnTo>
                  <a:lnTo>
                    <a:pt x="5111" y="7797"/>
                  </a:lnTo>
                  <a:lnTo>
                    <a:pt x="5207" y="7879"/>
                  </a:lnTo>
                  <a:lnTo>
                    <a:pt x="5321" y="7974"/>
                  </a:lnTo>
                  <a:lnTo>
                    <a:pt x="5451" y="8078"/>
                  </a:lnTo>
                  <a:lnTo>
                    <a:pt x="5596" y="8187"/>
                  </a:lnTo>
                  <a:lnTo>
                    <a:pt x="5752" y="8298"/>
                  </a:lnTo>
                  <a:lnTo>
                    <a:pt x="5920" y="8410"/>
                  </a:lnTo>
                  <a:lnTo>
                    <a:pt x="6099" y="8518"/>
                  </a:lnTo>
                  <a:lnTo>
                    <a:pt x="6287" y="8620"/>
                  </a:lnTo>
                  <a:lnTo>
                    <a:pt x="6483" y="8715"/>
                  </a:lnTo>
                  <a:lnTo>
                    <a:pt x="6684" y="8795"/>
                  </a:lnTo>
                  <a:lnTo>
                    <a:pt x="6892" y="8863"/>
                  </a:lnTo>
                  <a:lnTo>
                    <a:pt x="7103" y="8913"/>
                  </a:lnTo>
                  <a:lnTo>
                    <a:pt x="7316" y="8944"/>
                  </a:lnTo>
                  <a:lnTo>
                    <a:pt x="7532" y="8951"/>
                  </a:lnTo>
                  <a:lnTo>
                    <a:pt x="7907" y="8362"/>
                  </a:lnTo>
                  <a:lnTo>
                    <a:pt x="7753" y="8372"/>
                  </a:lnTo>
                  <a:lnTo>
                    <a:pt x="7592" y="8369"/>
                  </a:lnTo>
                  <a:lnTo>
                    <a:pt x="7427" y="8360"/>
                  </a:lnTo>
                  <a:lnTo>
                    <a:pt x="7261" y="8343"/>
                  </a:lnTo>
                  <a:lnTo>
                    <a:pt x="7091" y="8318"/>
                  </a:lnTo>
                  <a:lnTo>
                    <a:pt x="6921" y="8282"/>
                  </a:lnTo>
                  <a:lnTo>
                    <a:pt x="6750" y="8242"/>
                  </a:lnTo>
                  <a:lnTo>
                    <a:pt x="6582" y="8192"/>
                  </a:lnTo>
                  <a:lnTo>
                    <a:pt x="6417" y="8135"/>
                  </a:lnTo>
                  <a:lnTo>
                    <a:pt x="6256" y="8071"/>
                  </a:lnTo>
                  <a:lnTo>
                    <a:pt x="6099" y="8000"/>
                  </a:lnTo>
                  <a:lnTo>
                    <a:pt x="5948" y="7922"/>
                  </a:lnTo>
                  <a:lnTo>
                    <a:pt x="5804" y="7839"/>
                  </a:lnTo>
                  <a:lnTo>
                    <a:pt x="5668" y="7749"/>
                  </a:lnTo>
                  <a:lnTo>
                    <a:pt x="5544" y="7652"/>
                  </a:lnTo>
                  <a:lnTo>
                    <a:pt x="5430" y="7550"/>
                  </a:lnTo>
                  <a:lnTo>
                    <a:pt x="5520" y="7470"/>
                  </a:lnTo>
                  <a:lnTo>
                    <a:pt x="5612" y="7392"/>
                  </a:lnTo>
                  <a:lnTo>
                    <a:pt x="5704" y="7318"/>
                  </a:lnTo>
                  <a:lnTo>
                    <a:pt x="5799" y="7250"/>
                  </a:lnTo>
                  <a:lnTo>
                    <a:pt x="5896" y="7184"/>
                  </a:lnTo>
                  <a:lnTo>
                    <a:pt x="5995" y="7124"/>
                  </a:lnTo>
                  <a:lnTo>
                    <a:pt x="6097" y="7065"/>
                  </a:lnTo>
                  <a:lnTo>
                    <a:pt x="6199" y="7011"/>
                  </a:lnTo>
                  <a:lnTo>
                    <a:pt x="6305" y="6961"/>
                  </a:lnTo>
                  <a:lnTo>
                    <a:pt x="6412" y="6917"/>
                  </a:lnTo>
                  <a:lnTo>
                    <a:pt x="6520" y="6873"/>
                  </a:lnTo>
                  <a:lnTo>
                    <a:pt x="6632" y="6833"/>
                  </a:lnTo>
                  <a:lnTo>
                    <a:pt x="6746" y="6797"/>
                  </a:lnTo>
                  <a:lnTo>
                    <a:pt x="6859" y="6765"/>
                  </a:lnTo>
                  <a:lnTo>
                    <a:pt x="6977" y="6734"/>
                  </a:lnTo>
                  <a:lnTo>
                    <a:pt x="7095" y="6708"/>
                  </a:lnTo>
                  <a:lnTo>
                    <a:pt x="7037" y="6691"/>
                  </a:lnTo>
                  <a:lnTo>
                    <a:pt x="6973" y="6677"/>
                  </a:lnTo>
                  <a:lnTo>
                    <a:pt x="6902" y="6663"/>
                  </a:lnTo>
                  <a:lnTo>
                    <a:pt x="6816" y="6654"/>
                  </a:lnTo>
                  <a:lnTo>
                    <a:pt x="6715" y="6644"/>
                  </a:lnTo>
                  <a:lnTo>
                    <a:pt x="6586" y="6637"/>
                  </a:lnTo>
                  <a:lnTo>
                    <a:pt x="6433" y="6630"/>
                  </a:lnTo>
                  <a:lnTo>
                    <a:pt x="6244" y="6623"/>
                  </a:lnTo>
                  <a:lnTo>
                    <a:pt x="6341" y="6428"/>
                  </a:lnTo>
                  <a:lnTo>
                    <a:pt x="6474" y="6240"/>
                  </a:lnTo>
                  <a:lnTo>
                    <a:pt x="6628" y="6055"/>
                  </a:lnTo>
                  <a:lnTo>
                    <a:pt x="6790" y="5871"/>
                  </a:lnTo>
                  <a:lnTo>
                    <a:pt x="6956" y="5683"/>
                  </a:lnTo>
                  <a:lnTo>
                    <a:pt x="7110" y="5488"/>
                  </a:lnTo>
                  <a:lnTo>
                    <a:pt x="7240" y="5279"/>
                  </a:lnTo>
                  <a:lnTo>
                    <a:pt x="7340" y="5057"/>
                  </a:lnTo>
                  <a:lnTo>
                    <a:pt x="7264" y="5144"/>
                  </a:lnTo>
                  <a:lnTo>
                    <a:pt x="7183" y="5208"/>
                  </a:lnTo>
                  <a:lnTo>
                    <a:pt x="7093" y="5253"/>
                  </a:lnTo>
                  <a:lnTo>
                    <a:pt x="7003" y="5286"/>
                  </a:lnTo>
                  <a:lnTo>
                    <a:pt x="6909" y="5312"/>
                  </a:lnTo>
                  <a:lnTo>
                    <a:pt x="6816" y="5334"/>
                  </a:lnTo>
                  <a:lnTo>
                    <a:pt x="6724" y="5357"/>
                  </a:lnTo>
                  <a:lnTo>
                    <a:pt x="6640" y="5386"/>
                  </a:lnTo>
                  <a:lnTo>
                    <a:pt x="6774" y="4929"/>
                  </a:lnTo>
                  <a:lnTo>
                    <a:pt x="6878" y="4482"/>
                  </a:lnTo>
                  <a:lnTo>
                    <a:pt x="6933" y="3999"/>
                  </a:lnTo>
                  <a:lnTo>
                    <a:pt x="6923" y="3442"/>
                  </a:lnTo>
                  <a:lnTo>
                    <a:pt x="6523" y="3788"/>
                  </a:lnTo>
                  <a:lnTo>
                    <a:pt x="6509" y="3538"/>
                  </a:lnTo>
                  <a:lnTo>
                    <a:pt x="6483" y="3287"/>
                  </a:lnTo>
                  <a:lnTo>
                    <a:pt x="6448" y="3035"/>
                  </a:lnTo>
                  <a:lnTo>
                    <a:pt x="6400" y="2782"/>
                  </a:lnTo>
                  <a:lnTo>
                    <a:pt x="6339" y="2532"/>
                  </a:lnTo>
                  <a:lnTo>
                    <a:pt x="6263" y="2283"/>
                  </a:lnTo>
                  <a:lnTo>
                    <a:pt x="6171" y="2035"/>
                  </a:lnTo>
                  <a:lnTo>
                    <a:pt x="6061" y="1791"/>
                  </a:lnTo>
                  <a:lnTo>
                    <a:pt x="5632" y="3253"/>
                  </a:lnTo>
                  <a:lnTo>
                    <a:pt x="5183" y="2650"/>
                  </a:lnTo>
                  <a:lnTo>
                    <a:pt x="5117" y="2919"/>
                  </a:lnTo>
                  <a:lnTo>
                    <a:pt x="5033" y="3249"/>
                  </a:lnTo>
                  <a:lnTo>
                    <a:pt x="4971" y="3502"/>
                  </a:lnTo>
                  <a:lnTo>
                    <a:pt x="4971" y="3546"/>
                  </a:lnTo>
                  <a:lnTo>
                    <a:pt x="4832" y="3381"/>
                  </a:lnTo>
                  <a:lnTo>
                    <a:pt x="4744" y="3187"/>
                  </a:lnTo>
                  <a:lnTo>
                    <a:pt x="4696" y="2969"/>
                  </a:lnTo>
                  <a:lnTo>
                    <a:pt x="4676" y="2735"/>
                  </a:lnTo>
                  <a:lnTo>
                    <a:pt x="4658" y="2489"/>
                  </a:lnTo>
                  <a:lnTo>
                    <a:pt x="4638" y="2239"/>
                  </a:lnTo>
                  <a:lnTo>
                    <a:pt x="4592" y="1985"/>
                  </a:lnTo>
                  <a:lnTo>
                    <a:pt x="4512" y="1739"/>
                  </a:lnTo>
                  <a:lnTo>
                    <a:pt x="4122" y="2113"/>
                  </a:lnTo>
                  <a:lnTo>
                    <a:pt x="3712" y="1351"/>
                  </a:lnTo>
                  <a:lnTo>
                    <a:pt x="3703" y="1588"/>
                  </a:lnTo>
                  <a:lnTo>
                    <a:pt x="3686" y="1800"/>
                  </a:lnTo>
                  <a:lnTo>
                    <a:pt x="3656" y="1997"/>
                  </a:lnTo>
                  <a:lnTo>
                    <a:pt x="3611" y="2172"/>
                  </a:lnTo>
                  <a:lnTo>
                    <a:pt x="3545" y="2333"/>
                  </a:lnTo>
                  <a:lnTo>
                    <a:pt x="3449" y="2482"/>
                  </a:lnTo>
                  <a:lnTo>
                    <a:pt x="3327" y="2620"/>
                  </a:lnTo>
                  <a:lnTo>
                    <a:pt x="3166" y="2747"/>
                  </a:lnTo>
                  <a:lnTo>
                    <a:pt x="2525" y="854"/>
                  </a:lnTo>
                  <a:lnTo>
                    <a:pt x="2337" y="1325"/>
                  </a:lnTo>
                  <a:lnTo>
                    <a:pt x="2174" y="1119"/>
                  </a:lnTo>
                  <a:lnTo>
                    <a:pt x="2038" y="925"/>
                  </a:lnTo>
                  <a:lnTo>
                    <a:pt x="1924" y="742"/>
                  </a:lnTo>
                  <a:lnTo>
                    <a:pt x="1834" y="572"/>
                  </a:lnTo>
                  <a:lnTo>
                    <a:pt x="1763" y="414"/>
                  </a:lnTo>
                  <a:lnTo>
                    <a:pt x="1711" y="265"/>
                  </a:lnTo>
                  <a:lnTo>
                    <a:pt x="1677" y="127"/>
                  </a:lnTo>
                  <a:lnTo>
                    <a:pt x="1659" y="0"/>
                  </a:lnTo>
                  <a:lnTo>
                    <a:pt x="1545" y="295"/>
                  </a:lnTo>
                  <a:lnTo>
                    <a:pt x="1481" y="722"/>
                  </a:lnTo>
                  <a:lnTo>
                    <a:pt x="1445" y="1145"/>
                  </a:lnTo>
                  <a:lnTo>
                    <a:pt x="1419" y="142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888920" y="3235320"/>
              <a:ext cx="1433520" cy="1548000"/>
            </a:xfrm>
            <a:custGeom>
              <a:avLst/>
              <a:gdLst/>
              <a:ahLst/>
              <a:rect l="l" t="t" r="r" b="b"/>
              <a:pathLst>
                <a:path w="6320" h="6820">
                  <a:moveTo>
                    <a:pt x="768" y="0"/>
                  </a:moveTo>
                  <a:lnTo>
                    <a:pt x="800" y="248"/>
                  </a:lnTo>
                  <a:lnTo>
                    <a:pt x="852" y="487"/>
                  </a:lnTo>
                  <a:lnTo>
                    <a:pt x="926" y="722"/>
                  </a:lnTo>
                  <a:lnTo>
                    <a:pt x="1016" y="949"/>
                  </a:lnTo>
                  <a:lnTo>
                    <a:pt x="1122" y="1172"/>
                  </a:lnTo>
                  <a:lnTo>
                    <a:pt x="1241" y="1391"/>
                  </a:lnTo>
                  <a:lnTo>
                    <a:pt x="1371" y="1611"/>
                  </a:lnTo>
                  <a:lnTo>
                    <a:pt x="1512" y="1829"/>
                  </a:lnTo>
                  <a:lnTo>
                    <a:pt x="0" y="1080"/>
                  </a:lnTo>
                  <a:lnTo>
                    <a:pt x="175" y="1184"/>
                  </a:lnTo>
                  <a:lnTo>
                    <a:pt x="353" y="1288"/>
                  </a:lnTo>
                  <a:lnTo>
                    <a:pt x="528" y="1391"/>
                  </a:lnTo>
                  <a:lnTo>
                    <a:pt x="704" y="1493"/>
                  </a:lnTo>
                  <a:lnTo>
                    <a:pt x="878" y="1599"/>
                  </a:lnTo>
                  <a:lnTo>
                    <a:pt x="1046" y="1707"/>
                  </a:lnTo>
                  <a:lnTo>
                    <a:pt x="1209" y="1820"/>
                  </a:lnTo>
                  <a:lnTo>
                    <a:pt x="1368" y="1936"/>
                  </a:lnTo>
                  <a:lnTo>
                    <a:pt x="1517" y="2058"/>
                  </a:lnTo>
                  <a:lnTo>
                    <a:pt x="1660" y="2186"/>
                  </a:lnTo>
                  <a:lnTo>
                    <a:pt x="1790" y="2324"/>
                  </a:lnTo>
                  <a:lnTo>
                    <a:pt x="1908" y="2471"/>
                  </a:lnTo>
                  <a:lnTo>
                    <a:pt x="2011" y="2627"/>
                  </a:lnTo>
                  <a:lnTo>
                    <a:pt x="2103" y="2795"/>
                  </a:lnTo>
                  <a:lnTo>
                    <a:pt x="2177" y="2974"/>
                  </a:lnTo>
                  <a:lnTo>
                    <a:pt x="2237" y="3166"/>
                  </a:lnTo>
                  <a:lnTo>
                    <a:pt x="2267" y="3221"/>
                  </a:lnTo>
                  <a:lnTo>
                    <a:pt x="2291" y="3263"/>
                  </a:lnTo>
                  <a:lnTo>
                    <a:pt x="2307" y="3306"/>
                  </a:lnTo>
                  <a:lnTo>
                    <a:pt x="2317" y="3355"/>
                  </a:lnTo>
                  <a:lnTo>
                    <a:pt x="2225" y="3308"/>
                  </a:lnTo>
                  <a:lnTo>
                    <a:pt x="2133" y="3263"/>
                  </a:lnTo>
                  <a:lnTo>
                    <a:pt x="2035" y="3218"/>
                  </a:lnTo>
                  <a:lnTo>
                    <a:pt x="1938" y="3173"/>
                  </a:lnTo>
                  <a:lnTo>
                    <a:pt x="1839" y="3130"/>
                  </a:lnTo>
                  <a:lnTo>
                    <a:pt x="1738" y="3088"/>
                  </a:lnTo>
                  <a:lnTo>
                    <a:pt x="1634" y="3048"/>
                  </a:lnTo>
                  <a:lnTo>
                    <a:pt x="1532" y="3010"/>
                  </a:lnTo>
                  <a:lnTo>
                    <a:pt x="1425" y="2974"/>
                  </a:lnTo>
                  <a:lnTo>
                    <a:pt x="1321" y="2939"/>
                  </a:lnTo>
                  <a:lnTo>
                    <a:pt x="1215" y="2908"/>
                  </a:lnTo>
                  <a:lnTo>
                    <a:pt x="1111" y="2878"/>
                  </a:lnTo>
                  <a:lnTo>
                    <a:pt x="1004" y="2852"/>
                  </a:lnTo>
                  <a:lnTo>
                    <a:pt x="898" y="2828"/>
                  </a:lnTo>
                  <a:lnTo>
                    <a:pt x="794" y="2806"/>
                  </a:lnTo>
                  <a:lnTo>
                    <a:pt x="689" y="2790"/>
                  </a:lnTo>
                  <a:lnTo>
                    <a:pt x="834" y="2832"/>
                  </a:lnTo>
                  <a:lnTo>
                    <a:pt x="980" y="2880"/>
                  </a:lnTo>
                  <a:lnTo>
                    <a:pt x="1125" y="2930"/>
                  </a:lnTo>
                  <a:lnTo>
                    <a:pt x="1271" y="2984"/>
                  </a:lnTo>
                  <a:lnTo>
                    <a:pt x="1413" y="3040"/>
                  </a:lnTo>
                  <a:lnTo>
                    <a:pt x="1555" y="3102"/>
                  </a:lnTo>
                  <a:lnTo>
                    <a:pt x="1692" y="3166"/>
                  </a:lnTo>
                  <a:lnTo>
                    <a:pt x="1830" y="3237"/>
                  </a:lnTo>
                  <a:lnTo>
                    <a:pt x="1959" y="3313"/>
                  </a:lnTo>
                  <a:lnTo>
                    <a:pt x="2085" y="3393"/>
                  </a:lnTo>
                  <a:lnTo>
                    <a:pt x="2208" y="3479"/>
                  </a:lnTo>
                  <a:lnTo>
                    <a:pt x="2322" y="3571"/>
                  </a:lnTo>
                  <a:lnTo>
                    <a:pt x="2430" y="3668"/>
                  </a:lnTo>
                  <a:lnTo>
                    <a:pt x="2532" y="3772"/>
                  </a:lnTo>
                  <a:lnTo>
                    <a:pt x="2626" y="3880"/>
                  </a:lnTo>
                  <a:lnTo>
                    <a:pt x="2712" y="4000"/>
                  </a:lnTo>
                  <a:lnTo>
                    <a:pt x="2750" y="4060"/>
                  </a:lnTo>
                  <a:lnTo>
                    <a:pt x="2849" y="4250"/>
                  </a:lnTo>
                  <a:lnTo>
                    <a:pt x="2944" y="4459"/>
                  </a:lnTo>
                  <a:lnTo>
                    <a:pt x="2970" y="4579"/>
                  </a:lnTo>
                  <a:lnTo>
                    <a:pt x="2807" y="4569"/>
                  </a:lnTo>
                  <a:lnTo>
                    <a:pt x="2636" y="4553"/>
                  </a:lnTo>
                  <a:lnTo>
                    <a:pt x="2459" y="4534"/>
                  </a:lnTo>
                  <a:lnTo>
                    <a:pt x="2275" y="4515"/>
                  </a:lnTo>
                  <a:lnTo>
                    <a:pt x="2085" y="4493"/>
                  </a:lnTo>
                  <a:lnTo>
                    <a:pt x="1893" y="4477"/>
                  </a:lnTo>
                  <a:lnTo>
                    <a:pt x="1700" y="4463"/>
                  </a:lnTo>
                  <a:lnTo>
                    <a:pt x="1505" y="4455"/>
                  </a:lnTo>
                  <a:lnTo>
                    <a:pt x="1311" y="4459"/>
                  </a:lnTo>
                  <a:lnTo>
                    <a:pt x="1117" y="4467"/>
                  </a:lnTo>
                  <a:lnTo>
                    <a:pt x="930" y="4491"/>
                  </a:lnTo>
                  <a:lnTo>
                    <a:pt x="746" y="4527"/>
                  </a:lnTo>
                  <a:lnTo>
                    <a:pt x="566" y="4579"/>
                  </a:lnTo>
                  <a:lnTo>
                    <a:pt x="395" y="4647"/>
                  </a:lnTo>
                  <a:lnTo>
                    <a:pt x="235" y="4737"/>
                  </a:lnTo>
                  <a:lnTo>
                    <a:pt x="81" y="4846"/>
                  </a:lnTo>
                  <a:lnTo>
                    <a:pt x="230" y="4754"/>
                  </a:lnTo>
                  <a:lnTo>
                    <a:pt x="384" y="4678"/>
                  </a:lnTo>
                  <a:lnTo>
                    <a:pt x="542" y="4619"/>
                  </a:lnTo>
                  <a:lnTo>
                    <a:pt x="708" y="4571"/>
                  </a:lnTo>
                  <a:lnTo>
                    <a:pt x="878" y="4541"/>
                  </a:lnTo>
                  <a:lnTo>
                    <a:pt x="1053" y="4519"/>
                  </a:lnTo>
                  <a:lnTo>
                    <a:pt x="1235" y="4513"/>
                  </a:lnTo>
                  <a:lnTo>
                    <a:pt x="1423" y="4515"/>
                  </a:lnTo>
                  <a:lnTo>
                    <a:pt x="1616" y="4529"/>
                  </a:lnTo>
                  <a:lnTo>
                    <a:pt x="1818" y="4551"/>
                  </a:lnTo>
                  <a:lnTo>
                    <a:pt x="2021" y="4581"/>
                  </a:lnTo>
                  <a:lnTo>
                    <a:pt x="2234" y="4619"/>
                  </a:lnTo>
                  <a:lnTo>
                    <a:pt x="2452" y="4664"/>
                  </a:lnTo>
                  <a:lnTo>
                    <a:pt x="2674" y="4714"/>
                  </a:lnTo>
                  <a:lnTo>
                    <a:pt x="2903" y="4768"/>
                  </a:lnTo>
                  <a:lnTo>
                    <a:pt x="3141" y="4828"/>
                  </a:lnTo>
                  <a:lnTo>
                    <a:pt x="3304" y="5064"/>
                  </a:lnTo>
                  <a:lnTo>
                    <a:pt x="3478" y="5284"/>
                  </a:lnTo>
                  <a:lnTo>
                    <a:pt x="3663" y="5492"/>
                  </a:lnTo>
                  <a:lnTo>
                    <a:pt x="3853" y="5686"/>
                  </a:lnTo>
                  <a:lnTo>
                    <a:pt x="4049" y="5864"/>
                  </a:lnTo>
                  <a:lnTo>
                    <a:pt x="4248" y="6029"/>
                  </a:lnTo>
                  <a:lnTo>
                    <a:pt x="4448" y="6179"/>
                  </a:lnTo>
                  <a:lnTo>
                    <a:pt x="4652" y="6311"/>
                  </a:lnTo>
                  <a:lnTo>
                    <a:pt x="4855" y="6429"/>
                  </a:lnTo>
                  <a:lnTo>
                    <a:pt x="5055" y="6533"/>
                  </a:lnTo>
                  <a:lnTo>
                    <a:pt x="5253" y="6621"/>
                  </a:lnTo>
                  <a:lnTo>
                    <a:pt x="5445" y="6694"/>
                  </a:lnTo>
                  <a:lnTo>
                    <a:pt x="5629" y="6748"/>
                  </a:lnTo>
                  <a:lnTo>
                    <a:pt x="5807" y="6788"/>
                  </a:lnTo>
                  <a:lnTo>
                    <a:pt x="5975" y="6812"/>
                  </a:lnTo>
                  <a:lnTo>
                    <a:pt x="6131" y="6820"/>
                  </a:lnTo>
                  <a:lnTo>
                    <a:pt x="6320" y="6526"/>
                  </a:lnTo>
                  <a:lnTo>
                    <a:pt x="6053" y="6509"/>
                  </a:lnTo>
                  <a:lnTo>
                    <a:pt x="5803" y="6481"/>
                  </a:lnTo>
                  <a:lnTo>
                    <a:pt x="5568" y="6441"/>
                  </a:lnTo>
                  <a:lnTo>
                    <a:pt x="5348" y="6391"/>
                  </a:lnTo>
                  <a:lnTo>
                    <a:pt x="5144" y="6329"/>
                  </a:lnTo>
                  <a:lnTo>
                    <a:pt x="4953" y="6259"/>
                  </a:lnTo>
                  <a:lnTo>
                    <a:pt x="4771" y="6179"/>
                  </a:lnTo>
                  <a:lnTo>
                    <a:pt x="4602" y="6088"/>
                  </a:lnTo>
                  <a:lnTo>
                    <a:pt x="4444" y="5989"/>
                  </a:lnTo>
                  <a:lnTo>
                    <a:pt x="4292" y="5882"/>
                  </a:lnTo>
                  <a:lnTo>
                    <a:pt x="4148" y="5766"/>
                  </a:lnTo>
                  <a:lnTo>
                    <a:pt x="4011" y="5644"/>
                  </a:lnTo>
                  <a:lnTo>
                    <a:pt x="3879" y="5513"/>
                  </a:lnTo>
                  <a:lnTo>
                    <a:pt x="3751" y="5379"/>
                  </a:lnTo>
                  <a:lnTo>
                    <a:pt x="3626" y="5237"/>
                  </a:lnTo>
                  <a:lnTo>
                    <a:pt x="3502" y="5088"/>
                  </a:lnTo>
                  <a:lnTo>
                    <a:pt x="3536" y="4926"/>
                  </a:lnTo>
                  <a:lnTo>
                    <a:pt x="3592" y="4782"/>
                  </a:lnTo>
                  <a:lnTo>
                    <a:pt x="3666" y="4652"/>
                  </a:lnTo>
                  <a:lnTo>
                    <a:pt x="3755" y="4537"/>
                  </a:lnTo>
                  <a:lnTo>
                    <a:pt x="3859" y="4427"/>
                  </a:lnTo>
                  <a:lnTo>
                    <a:pt x="3975" y="4328"/>
                  </a:lnTo>
                  <a:lnTo>
                    <a:pt x="4101" y="4236"/>
                  </a:lnTo>
                  <a:lnTo>
                    <a:pt x="4231" y="4144"/>
                  </a:lnTo>
                  <a:lnTo>
                    <a:pt x="4330" y="4092"/>
                  </a:lnTo>
                  <a:lnTo>
                    <a:pt x="4426" y="4028"/>
                  </a:lnTo>
                  <a:lnTo>
                    <a:pt x="4518" y="3958"/>
                  </a:lnTo>
                  <a:lnTo>
                    <a:pt x="4605" y="3890"/>
                  </a:lnTo>
                  <a:lnTo>
                    <a:pt x="3841" y="4231"/>
                  </a:lnTo>
                  <a:lnTo>
                    <a:pt x="4492" y="2068"/>
                  </a:lnTo>
                  <a:lnTo>
                    <a:pt x="4362" y="2416"/>
                  </a:lnTo>
                  <a:lnTo>
                    <a:pt x="4229" y="2759"/>
                  </a:lnTo>
                  <a:lnTo>
                    <a:pt x="4094" y="3102"/>
                  </a:lnTo>
                  <a:lnTo>
                    <a:pt x="3957" y="3441"/>
                  </a:lnTo>
                  <a:lnTo>
                    <a:pt x="3819" y="3781"/>
                  </a:lnTo>
                  <a:lnTo>
                    <a:pt x="3682" y="4122"/>
                  </a:lnTo>
                  <a:lnTo>
                    <a:pt x="3544" y="4465"/>
                  </a:lnTo>
                  <a:lnTo>
                    <a:pt x="3412" y="4810"/>
                  </a:lnTo>
                  <a:lnTo>
                    <a:pt x="3287" y="4635"/>
                  </a:lnTo>
                  <a:lnTo>
                    <a:pt x="3171" y="4455"/>
                  </a:lnTo>
                  <a:lnTo>
                    <a:pt x="3059" y="4269"/>
                  </a:lnTo>
                  <a:lnTo>
                    <a:pt x="2953" y="4077"/>
                  </a:lnTo>
                  <a:lnTo>
                    <a:pt x="2849" y="3880"/>
                  </a:lnTo>
                  <a:lnTo>
                    <a:pt x="2748" y="3682"/>
                  </a:lnTo>
                  <a:lnTo>
                    <a:pt x="2641" y="3481"/>
                  </a:lnTo>
                  <a:lnTo>
                    <a:pt x="2532" y="3275"/>
                  </a:lnTo>
                  <a:lnTo>
                    <a:pt x="2459" y="2700"/>
                  </a:lnTo>
                  <a:lnTo>
                    <a:pt x="2407" y="2134"/>
                  </a:lnTo>
                  <a:lnTo>
                    <a:pt x="2409" y="1581"/>
                  </a:lnTo>
                  <a:lnTo>
                    <a:pt x="2502" y="1039"/>
                  </a:lnTo>
                  <a:lnTo>
                    <a:pt x="2393" y="1513"/>
                  </a:lnTo>
                  <a:lnTo>
                    <a:pt x="2326" y="1992"/>
                  </a:lnTo>
                  <a:lnTo>
                    <a:pt x="2305" y="2480"/>
                  </a:lnTo>
                  <a:lnTo>
                    <a:pt x="2333" y="2980"/>
                  </a:lnTo>
                  <a:lnTo>
                    <a:pt x="2215" y="2731"/>
                  </a:lnTo>
                  <a:lnTo>
                    <a:pt x="2099" y="2506"/>
                  </a:lnTo>
                  <a:lnTo>
                    <a:pt x="1983" y="2298"/>
                  </a:lnTo>
                  <a:lnTo>
                    <a:pt x="1870" y="2108"/>
                  </a:lnTo>
                  <a:lnTo>
                    <a:pt x="1758" y="1931"/>
                  </a:lnTo>
                  <a:lnTo>
                    <a:pt x="1650" y="1763"/>
                  </a:lnTo>
                  <a:lnTo>
                    <a:pt x="1543" y="1603"/>
                  </a:lnTo>
                  <a:lnTo>
                    <a:pt x="1439" y="1446"/>
                  </a:lnTo>
                  <a:lnTo>
                    <a:pt x="1340" y="1292"/>
                  </a:lnTo>
                  <a:lnTo>
                    <a:pt x="1243" y="1136"/>
                  </a:lnTo>
                  <a:lnTo>
                    <a:pt x="1153" y="975"/>
                  </a:lnTo>
                  <a:lnTo>
                    <a:pt x="1065" y="807"/>
                  </a:lnTo>
                  <a:lnTo>
                    <a:pt x="982" y="629"/>
                  </a:lnTo>
                  <a:lnTo>
                    <a:pt x="904" y="438"/>
                  </a:lnTo>
                  <a:lnTo>
                    <a:pt x="834" y="22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8041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9" name=""/>
          <p:cNvSpPr/>
          <p:nvPr/>
        </p:nvSpPr>
        <p:spPr>
          <a:xfrm>
            <a:off x="27450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72406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1" name=""/>
          <p:cNvGrpSpPr/>
          <p:nvPr/>
        </p:nvGrpSpPr>
        <p:grpSpPr>
          <a:xfrm>
            <a:off x="1219320" y="3297240"/>
            <a:ext cx="1775520" cy="1024920"/>
            <a:chOff x="1219320" y="3297240"/>
            <a:chExt cx="1775520" cy="1024920"/>
          </a:xfrm>
        </p:grpSpPr>
        <p:sp>
          <p:nvSpPr>
            <p:cNvPr id="4702" name=""/>
            <p:cNvSpPr/>
            <p:nvPr/>
          </p:nvSpPr>
          <p:spPr>
            <a:xfrm>
              <a:off x="1955520" y="4138560"/>
              <a:ext cx="154080" cy="1771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101"/>
                  </a:moveTo>
                  <a:lnTo>
                    <a:pt x="101" y="0"/>
                  </a:lnTo>
                  <a:lnTo>
                    <a:pt x="89" y="0"/>
                  </a:lnTo>
                  <a:lnTo>
                    <a:pt x="78" y="4"/>
                  </a:lnTo>
                  <a:lnTo>
                    <a:pt x="64" y="8"/>
                  </a:lnTo>
                  <a:lnTo>
                    <a:pt x="53" y="12"/>
                  </a:lnTo>
                  <a:lnTo>
                    <a:pt x="43" y="20"/>
                  </a:lnTo>
                  <a:lnTo>
                    <a:pt x="33" y="27"/>
                  </a:lnTo>
                  <a:lnTo>
                    <a:pt x="25" y="35"/>
                  </a:lnTo>
                  <a:lnTo>
                    <a:pt x="18" y="47"/>
                  </a:lnTo>
                  <a:lnTo>
                    <a:pt x="12" y="60"/>
                  </a:lnTo>
                  <a:lnTo>
                    <a:pt x="6" y="72"/>
                  </a:lnTo>
                  <a:lnTo>
                    <a:pt x="4" y="84"/>
                  </a:lnTo>
                  <a:lnTo>
                    <a:pt x="4" y="97"/>
                  </a:lnTo>
                  <a:lnTo>
                    <a:pt x="0" y="101"/>
                  </a:lnTo>
                  <a:lnTo>
                    <a:pt x="101" y="101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773360" y="3937320"/>
              <a:ext cx="330840" cy="384840"/>
            </a:xfrm>
            <a:custGeom>
              <a:avLst/>
              <a:gdLst/>
              <a:ahLst/>
              <a:rect l="l" t="t" r="r" b="b"/>
              <a:pathLst>
                <a:path w="213" h="217">
                  <a:moveTo>
                    <a:pt x="95" y="217"/>
                  </a:moveTo>
                  <a:lnTo>
                    <a:pt x="95" y="205"/>
                  </a:lnTo>
                  <a:lnTo>
                    <a:pt x="95" y="194"/>
                  </a:lnTo>
                  <a:lnTo>
                    <a:pt x="99" y="178"/>
                  </a:lnTo>
                  <a:lnTo>
                    <a:pt x="105" y="165"/>
                  </a:lnTo>
                  <a:lnTo>
                    <a:pt x="110" y="153"/>
                  </a:lnTo>
                  <a:lnTo>
                    <a:pt x="120" y="139"/>
                  </a:lnTo>
                  <a:lnTo>
                    <a:pt x="128" y="130"/>
                  </a:lnTo>
                  <a:lnTo>
                    <a:pt x="141" y="122"/>
                  </a:lnTo>
                  <a:lnTo>
                    <a:pt x="151" y="112"/>
                  </a:lnTo>
                  <a:lnTo>
                    <a:pt x="165" y="106"/>
                  </a:lnTo>
                  <a:lnTo>
                    <a:pt x="178" y="103"/>
                  </a:lnTo>
                  <a:lnTo>
                    <a:pt x="190" y="97"/>
                  </a:lnTo>
                  <a:lnTo>
                    <a:pt x="205" y="95"/>
                  </a:lnTo>
                  <a:lnTo>
                    <a:pt x="213" y="95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192" y="0"/>
                  </a:lnTo>
                  <a:lnTo>
                    <a:pt x="171" y="2"/>
                  </a:lnTo>
                  <a:lnTo>
                    <a:pt x="155" y="9"/>
                  </a:lnTo>
                  <a:lnTo>
                    <a:pt x="136" y="15"/>
                  </a:lnTo>
                  <a:lnTo>
                    <a:pt x="120" y="21"/>
                  </a:lnTo>
                  <a:lnTo>
                    <a:pt x="105" y="31"/>
                  </a:lnTo>
                  <a:lnTo>
                    <a:pt x="87" y="40"/>
                  </a:lnTo>
                  <a:lnTo>
                    <a:pt x="74" y="54"/>
                  </a:lnTo>
                  <a:lnTo>
                    <a:pt x="58" y="66"/>
                  </a:lnTo>
                  <a:lnTo>
                    <a:pt x="46" y="81"/>
                  </a:lnTo>
                  <a:lnTo>
                    <a:pt x="35" y="97"/>
                  </a:lnTo>
                  <a:lnTo>
                    <a:pt x="25" y="112"/>
                  </a:lnTo>
                  <a:lnTo>
                    <a:pt x="17" y="128"/>
                  </a:lnTo>
                  <a:lnTo>
                    <a:pt x="10" y="147"/>
                  </a:lnTo>
                  <a:lnTo>
                    <a:pt x="4" y="167"/>
                  </a:lnTo>
                  <a:lnTo>
                    <a:pt x="2" y="184"/>
                  </a:lnTo>
                  <a:lnTo>
                    <a:pt x="0" y="203"/>
                  </a:lnTo>
                  <a:lnTo>
                    <a:pt x="0" y="217"/>
                  </a:lnTo>
                  <a:lnTo>
                    <a:pt x="95" y="217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1590840" y="3728520"/>
              <a:ext cx="513360" cy="593280"/>
            </a:xfrm>
            <a:custGeom>
              <a:avLst/>
              <a:gdLst/>
              <a:ahLst/>
              <a:rect l="l" t="t" r="r" b="b"/>
              <a:pathLst>
                <a:path w="331" h="336">
                  <a:moveTo>
                    <a:pt x="95" y="336"/>
                  </a:moveTo>
                  <a:lnTo>
                    <a:pt x="95" y="324"/>
                  </a:lnTo>
                  <a:lnTo>
                    <a:pt x="97" y="305"/>
                  </a:lnTo>
                  <a:lnTo>
                    <a:pt x="100" y="286"/>
                  </a:lnTo>
                  <a:lnTo>
                    <a:pt x="102" y="266"/>
                  </a:lnTo>
                  <a:lnTo>
                    <a:pt x="112" y="247"/>
                  </a:lnTo>
                  <a:lnTo>
                    <a:pt x="120" y="229"/>
                  </a:lnTo>
                  <a:lnTo>
                    <a:pt x="129" y="212"/>
                  </a:lnTo>
                  <a:lnTo>
                    <a:pt x="139" y="194"/>
                  </a:lnTo>
                  <a:lnTo>
                    <a:pt x="151" y="181"/>
                  </a:lnTo>
                  <a:lnTo>
                    <a:pt x="166" y="165"/>
                  </a:lnTo>
                  <a:lnTo>
                    <a:pt x="180" y="152"/>
                  </a:lnTo>
                  <a:lnTo>
                    <a:pt x="195" y="138"/>
                  </a:lnTo>
                  <a:lnTo>
                    <a:pt x="213" y="128"/>
                  </a:lnTo>
                  <a:lnTo>
                    <a:pt x="230" y="119"/>
                  </a:lnTo>
                  <a:lnTo>
                    <a:pt x="250" y="111"/>
                  </a:lnTo>
                  <a:lnTo>
                    <a:pt x="269" y="103"/>
                  </a:lnTo>
                  <a:lnTo>
                    <a:pt x="287" y="101"/>
                  </a:lnTo>
                  <a:lnTo>
                    <a:pt x="306" y="99"/>
                  </a:lnTo>
                  <a:lnTo>
                    <a:pt x="325" y="97"/>
                  </a:lnTo>
                  <a:lnTo>
                    <a:pt x="331" y="97"/>
                  </a:lnTo>
                  <a:lnTo>
                    <a:pt x="331" y="0"/>
                  </a:lnTo>
                  <a:lnTo>
                    <a:pt x="314" y="0"/>
                  </a:lnTo>
                  <a:lnTo>
                    <a:pt x="289" y="2"/>
                  </a:lnTo>
                  <a:lnTo>
                    <a:pt x="267" y="8"/>
                  </a:lnTo>
                  <a:lnTo>
                    <a:pt x="242" y="12"/>
                  </a:lnTo>
                  <a:lnTo>
                    <a:pt x="223" y="18"/>
                  </a:lnTo>
                  <a:lnTo>
                    <a:pt x="199" y="28"/>
                  </a:lnTo>
                  <a:lnTo>
                    <a:pt x="178" y="37"/>
                  </a:lnTo>
                  <a:lnTo>
                    <a:pt x="157" y="49"/>
                  </a:lnTo>
                  <a:lnTo>
                    <a:pt x="139" y="62"/>
                  </a:lnTo>
                  <a:lnTo>
                    <a:pt x="120" y="76"/>
                  </a:lnTo>
                  <a:lnTo>
                    <a:pt x="102" y="92"/>
                  </a:lnTo>
                  <a:lnTo>
                    <a:pt x="85" y="111"/>
                  </a:lnTo>
                  <a:lnTo>
                    <a:pt x="71" y="128"/>
                  </a:lnTo>
                  <a:lnTo>
                    <a:pt x="56" y="146"/>
                  </a:lnTo>
                  <a:lnTo>
                    <a:pt x="42" y="165"/>
                  </a:lnTo>
                  <a:lnTo>
                    <a:pt x="33" y="187"/>
                  </a:lnTo>
                  <a:lnTo>
                    <a:pt x="21" y="210"/>
                  </a:lnTo>
                  <a:lnTo>
                    <a:pt x="15" y="231"/>
                  </a:lnTo>
                  <a:lnTo>
                    <a:pt x="9" y="253"/>
                  </a:lnTo>
                  <a:lnTo>
                    <a:pt x="3" y="276"/>
                  </a:lnTo>
                  <a:lnTo>
                    <a:pt x="0" y="301"/>
                  </a:lnTo>
                  <a:lnTo>
                    <a:pt x="0" y="322"/>
                  </a:lnTo>
                  <a:lnTo>
                    <a:pt x="0" y="336"/>
                  </a:lnTo>
                  <a:lnTo>
                    <a:pt x="95" y="336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1405080" y="3516120"/>
              <a:ext cx="699120" cy="806040"/>
            </a:xfrm>
            <a:custGeom>
              <a:avLst/>
              <a:gdLst/>
              <a:ahLst/>
              <a:rect l="l" t="t" r="r" b="b"/>
              <a:pathLst>
                <a:path w="452" h="456">
                  <a:moveTo>
                    <a:pt x="95" y="456"/>
                  </a:moveTo>
                  <a:lnTo>
                    <a:pt x="97" y="433"/>
                  </a:lnTo>
                  <a:lnTo>
                    <a:pt x="99" y="408"/>
                  </a:lnTo>
                  <a:lnTo>
                    <a:pt x="105" y="382"/>
                  </a:lnTo>
                  <a:lnTo>
                    <a:pt x="111" y="359"/>
                  </a:lnTo>
                  <a:lnTo>
                    <a:pt x="115" y="336"/>
                  </a:lnTo>
                  <a:lnTo>
                    <a:pt x="126" y="312"/>
                  </a:lnTo>
                  <a:lnTo>
                    <a:pt x="136" y="291"/>
                  </a:lnTo>
                  <a:lnTo>
                    <a:pt x="148" y="270"/>
                  </a:lnTo>
                  <a:lnTo>
                    <a:pt x="161" y="248"/>
                  </a:lnTo>
                  <a:lnTo>
                    <a:pt x="175" y="231"/>
                  </a:lnTo>
                  <a:lnTo>
                    <a:pt x="192" y="212"/>
                  </a:lnTo>
                  <a:lnTo>
                    <a:pt x="208" y="194"/>
                  </a:lnTo>
                  <a:lnTo>
                    <a:pt x="229" y="177"/>
                  </a:lnTo>
                  <a:lnTo>
                    <a:pt x="247" y="163"/>
                  </a:lnTo>
                  <a:lnTo>
                    <a:pt x="266" y="148"/>
                  </a:lnTo>
                  <a:lnTo>
                    <a:pt x="287" y="138"/>
                  </a:lnTo>
                  <a:lnTo>
                    <a:pt x="311" y="128"/>
                  </a:lnTo>
                  <a:lnTo>
                    <a:pt x="334" y="118"/>
                  </a:lnTo>
                  <a:lnTo>
                    <a:pt x="355" y="111"/>
                  </a:lnTo>
                  <a:lnTo>
                    <a:pt x="380" y="103"/>
                  </a:lnTo>
                  <a:lnTo>
                    <a:pt x="404" y="101"/>
                  </a:lnTo>
                  <a:lnTo>
                    <a:pt x="427" y="97"/>
                  </a:lnTo>
                  <a:lnTo>
                    <a:pt x="452" y="97"/>
                  </a:lnTo>
                  <a:lnTo>
                    <a:pt x="452" y="0"/>
                  </a:lnTo>
                  <a:lnTo>
                    <a:pt x="421" y="0"/>
                  </a:lnTo>
                  <a:lnTo>
                    <a:pt x="396" y="4"/>
                  </a:lnTo>
                  <a:lnTo>
                    <a:pt x="367" y="10"/>
                  </a:lnTo>
                  <a:lnTo>
                    <a:pt x="342" y="14"/>
                  </a:lnTo>
                  <a:lnTo>
                    <a:pt x="314" y="21"/>
                  </a:lnTo>
                  <a:lnTo>
                    <a:pt x="287" y="31"/>
                  </a:lnTo>
                  <a:lnTo>
                    <a:pt x="264" y="43"/>
                  </a:lnTo>
                  <a:lnTo>
                    <a:pt x="239" y="56"/>
                  </a:lnTo>
                  <a:lnTo>
                    <a:pt x="216" y="68"/>
                  </a:lnTo>
                  <a:lnTo>
                    <a:pt x="192" y="84"/>
                  </a:lnTo>
                  <a:lnTo>
                    <a:pt x="171" y="101"/>
                  </a:lnTo>
                  <a:lnTo>
                    <a:pt x="150" y="118"/>
                  </a:lnTo>
                  <a:lnTo>
                    <a:pt x="130" y="138"/>
                  </a:lnTo>
                  <a:lnTo>
                    <a:pt x="111" y="157"/>
                  </a:lnTo>
                  <a:lnTo>
                    <a:pt x="93" y="179"/>
                  </a:lnTo>
                  <a:lnTo>
                    <a:pt x="78" y="202"/>
                  </a:lnTo>
                  <a:lnTo>
                    <a:pt x="64" y="223"/>
                  </a:lnTo>
                  <a:lnTo>
                    <a:pt x="49" y="248"/>
                  </a:lnTo>
                  <a:lnTo>
                    <a:pt x="37" y="274"/>
                  </a:lnTo>
                  <a:lnTo>
                    <a:pt x="27" y="301"/>
                  </a:lnTo>
                  <a:lnTo>
                    <a:pt x="20" y="326"/>
                  </a:lnTo>
                  <a:lnTo>
                    <a:pt x="10" y="351"/>
                  </a:lnTo>
                  <a:lnTo>
                    <a:pt x="6" y="378"/>
                  </a:lnTo>
                  <a:lnTo>
                    <a:pt x="2" y="408"/>
                  </a:lnTo>
                  <a:lnTo>
                    <a:pt x="0" y="435"/>
                  </a:lnTo>
                  <a:lnTo>
                    <a:pt x="0" y="456"/>
                  </a:lnTo>
                  <a:lnTo>
                    <a:pt x="95" y="456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1219320" y="3303360"/>
              <a:ext cx="884880" cy="1018440"/>
            </a:xfrm>
            <a:custGeom>
              <a:avLst/>
              <a:gdLst/>
              <a:ahLst/>
              <a:rect l="l" t="t" r="r" b="b"/>
              <a:pathLst>
                <a:path w="572" h="576">
                  <a:moveTo>
                    <a:pt x="572" y="101"/>
                  </a:moveTo>
                  <a:lnTo>
                    <a:pt x="557" y="101"/>
                  </a:lnTo>
                  <a:lnTo>
                    <a:pt x="530" y="103"/>
                  </a:lnTo>
                  <a:lnTo>
                    <a:pt x="500" y="105"/>
                  </a:lnTo>
                  <a:lnTo>
                    <a:pt x="473" y="110"/>
                  </a:lnTo>
                  <a:lnTo>
                    <a:pt x="448" y="116"/>
                  </a:lnTo>
                  <a:lnTo>
                    <a:pt x="419" y="126"/>
                  </a:lnTo>
                  <a:lnTo>
                    <a:pt x="394" y="136"/>
                  </a:lnTo>
                  <a:lnTo>
                    <a:pt x="369" y="147"/>
                  </a:lnTo>
                  <a:lnTo>
                    <a:pt x="343" y="159"/>
                  </a:lnTo>
                  <a:lnTo>
                    <a:pt x="318" y="176"/>
                  </a:lnTo>
                  <a:lnTo>
                    <a:pt x="297" y="190"/>
                  </a:lnTo>
                  <a:lnTo>
                    <a:pt x="274" y="207"/>
                  </a:lnTo>
                  <a:lnTo>
                    <a:pt x="250" y="225"/>
                  </a:lnTo>
                  <a:lnTo>
                    <a:pt x="233" y="244"/>
                  </a:lnTo>
                  <a:lnTo>
                    <a:pt x="213" y="268"/>
                  </a:lnTo>
                  <a:lnTo>
                    <a:pt x="196" y="289"/>
                  </a:lnTo>
                  <a:lnTo>
                    <a:pt x="180" y="312"/>
                  </a:lnTo>
                  <a:lnTo>
                    <a:pt x="165" y="335"/>
                  </a:lnTo>
                  <a:lnTo>
                    <a:pt x="151" y="359"/>
                  </a:lnTo>
                  <a:lnTo>
                    <a:pt x="140" y="386"/>
                  </a:lnTo>
                  <a:lnTo>
                    <a:pt x="128" y="411"/>
                  </a:lnTo>
                  <a:lnTo>
                    <a:pt x="120" y="438"/>
                  </a:lnTo>
                  <a:lnTo>
                    <a:pt x="113" y="467"/>
                  </a:lnTo>
                  <a:lnTo>
                    <a:pt x="107" y="493"/>
                  </a:lnTo>
                  <a:lnTo>
                    <a:pt x="103" y="522"/>
                  </a:lnTo>
                  <a:lnTo>
                    <a:pt x="101" y="549"/>
                  </a:lnTo>
                  <a:lnTo>
                    <a:pt x="101" y="576"/>
                  </a:lnTo>
                  <a:lnTo>
                    <a:pt x="0" y="576"/>
                  </a:lnTo>
                  <a:lnTo>
                    <a:pt x="2" y="537"/>
                  </a:lnTo>
                  <a:lnTo>
                    <a:pt x="6" y="506"/>
                  </a:lnTo>
                  <a:lnTo>
                    <a:pt x="10" y="477"/>
                  </a:lnTo>
                  <a:lnTo>
                    <a:pt x="16" y="446"/>
                  </a:lnTo>
                  <a:lnTo>
                    <a:pt x="23" y="415"/>
                  </a:lnTo>
                  <a:lnTo>
                    <a:pt x="33" y="386"/>
                  </a:lnTo>
                  <a:lnTo>
                    <a:pt x="43" y="357"/>
                  </a:lnTo>
                  <a:lnTo>
                    <a:pt x="56" y="330"/>
                  </a:lnTo>
                  <a:lnTo>
                    <a:pt x="70" y="301"/>
                  </a:lnTo>
                  <a:lnTo>
                    <a:pt x="85" y="273"/>
                  </a:lnTo>
                  <a:lnTo>
                    <a:pt x="103" y="248"/>
                  </a:lnTo>
                  <a:lnTo>
                    <a:pt x="120" y="223"/>
                  </a:lnTo>
                  <a:lnTo>
                    <a:pt x="140" y="200"/>
                  </a:lnTo>
                  <a:lnTo>
                    <a:pt x="159" y="176"/>
                  </a:lnTo>
                  <a:lnTo>
                    <a:pt x="184" y="155"/>
                  </a:lnTo>
                  <a:lnTo>
                    <a:pt x="206" y="134"/>
                  </a:lnTo>
                  <a:lnTo>
                    <a:pt x="231" y="114"/>
                  </a:lnTo>
                  <a:lnTo>
                    <a:pt x="256" y="97"/>
                  </a:lnTo>
                  <a:lnTo>
                    <a:pt x="281" y="79"/>
                  </a:lnTo>
                  <a:lnTo>
                    <a:pt x="306" y="66"/>
                  </a:lnTo>
                  <a:lnTo>
                    <a:pt x="336" y="52"/>
                  </a:lnTo>
                  <a:lnTo>
                    <a:pt x="365" y="39"/>
                  </a:lnTo>
                  <a:lnTo>
                    <a:pt x="394" y="29"/>
                  </a:lnTo>
                  <a:lnTo>
                    <a:pt x="423" y="19"/>
                  </a:lnTo>
                  <a:lnTo>
                    <a:pt x="454" y="12"/>
                  </a:lnTo>
                  <a:lnTo>
                    <a:pt x="483" y="8"/>
                  </a:lnTo>
                  <a:lnTo>
                    <a:pt x="516" y="4"/>
                  </a:lnTo>
                  <a:lnTo>
                    <a:pt x="545" y="0"/>
                  </a:lnTo>
                  <a:lnTo>
                    <a:pt x="572" y="0"/>
                  </a:lnTo>
                  <a:lnTo>
                    <a:pt x="572" y="101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109960" y="4138560"/>
              <a:ext cx="151920" cy="17712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0" y="10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3" y="4"/>
                  </a:lnTo>
                  <a:lnTo>
                    <a:pt x="35" y="8"/>
                  </a:lnTo>
                  <a:lnTo>
                    <a:pt x="45" y="14"/>
                  </a:lnTo>
                  <a:lnTo>
                    <a:pt x="58" y="20"/>
                  </a:lnTo>
                  <a:lnTo>
                    <a:pt x="68" y="27"/>
                  </a:lnTo>
                  <a:lnTo>
                    <a:pt x="76" y="35"/>
                  </a:lnTo>
                  <a:lnTo>
                    <a:pt x="83" y="49"/>
                  </a:lnTo>
                  <a:lnTo>
                    <a:pt x="89" y="60"/>
                  </a:lnTo>
                  <a:lnTo>
                    <a:pt x="95" y="72"/>
                  </a:lnTo>
                  <a:lnTo>
                    <a:pt x="97" y="84"/>
                  </a:lnTo>
                  <a:lnTo>
                    <a:pt x="99" y="97"/>
                  </a:lnTo>
                  <a:lnTo>
                    <a:pt x="9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109960" y="3930120"/>
              <a:ext cx="330840" cy="385560"/>
            </a:xfrm>
            <a:custGeom>
              <a:avLst/>
              <a:gdLst/>
              <a:ahLst/>
              <a:rect l="l" t="t" r="r" b="b"/>
              <a:pathLst>
                <a:path w="213" h="217">
                  <a:moveTo>
                    <a:pt x="118" y="217"/>
                  </a:moveTo>
                  <a:lnTo>
                    <a:pt x="118" y="207"/>
                  </a:lnTo>
                  <a:lnTo>
                    <a:pt x="116" y="192"/>
                  </a:lnTo>
                  <a:lnTo>
                    <a:pt x="114" y="180"/>
                  </a:lnTo>
                  <a:lnTo>
                    <a:pt x="109" y="167"/>
                  </a:lnTo>
                  <a:lnTo>
                    <a:pt x="101" y="151"/>
                  </a:lnTo>
                  <a:lnTo>
                    <a:pt x="93" y="141"/>
                  </a:lnTo>
                  <a:lnTo>
                    <a:pt x="83" y="132"/>
                  </a:lnTo>
                  <a:lnTo>
                    <a:pt x="74" y="122"/>
                  </a:lnTo>
                  <a:lnTo>
                    <a:pt x="62" y="112"/>
                  </a:lnTo>
                  <a:lnTo>
                    <a:pt x="49" y="107"/>
                  </a:lnTo>
                  <a:lnTo>
                    <a:pt x="37" y="103"/>
                  </a:lnTo>
                  <a:lnTo>
                    <a:pt x="21" y="99"/>
                  </a:lnTo>
                  <a:lnTo>
                    <a:pt x="8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9" y="2"/>
                  </a:lnTo>
                  <a:lnTo>
                    <a:pt x="39" y="4"/>
                  </a:lnTo>
                  <a:lnTo>
                    <a:pt x="58" y="10"/>
                  </a:lnTo>
                  <a:lnTo>
                    <a:pt x="76" y="13"/>
                  </a:lnTo>
                  <a:lnTo>
                    <a:pt x="93" y="23"/>
                  </a:lnTo>
                  <a:lnTo>
                    <a:pt x="109" y="33"/>
                  </a:lnTo>
                  <a:lnTo>
                    <a:pt x="126" y="43"/>
                  </a:lnTo>
                  <a:lnTo>
                    <a:pt x="140" y="56"/>
                  </a:lnTo>
                  <a:lnTo>
                    <a:pt x="155" y="68"/>
                  </a:lnTo>
                  <a:lnTo>
                    <a:pt x="167" y="81"/>
                  </a:lnTo>
                  <a:lnTo>
                    <a:pt x="177" y="97"/>
                  </a:lnTo>
                  <a:lnTo>
                    <a:pt x="188" y="112"/>
                  </a:lnTo>
                  <a:lnTo>
                    <a:pt x="196" y="130"/>
                  </a:lnTo>
                  <a:lnTo>
                    <a:pt x="202" y="147"/>
                  </a:lnTo>
                  <a:lnTo>
                    <a:pt x="210" y="167"/>
                  </a:lnTo>
                  <a:lnTo>
                    <a:pt x="211" y="184"/>
                  </a:lnTo>
                  <a:lnTo>
                    <a:pt x="213" y="205"/>
                  </a:lnTo>
                  <a:lnTo>
                    <a:pt x="213" y="217"/>
                  </a:lnTo>
                  <a:lnTo>
                    <a:pt x="118" y="217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109960" y="3721320"/>
              <a:ext cx="513360" cy="594360"/>
            </a:xfrm>
            <a:custGeom>
              <a:avLst/>
              <a:gdLst/>
              <a:ahLst/>
              <a:rect l="l" t="t" r="r" b="b"/>
              <a:pathLst>
                <a:path w="332" h="335">
                  <a:moveTo>
                    <a:pt x="237" y="335"/>
                  </a:moveTo>
                  <a:lnTo>
                    <a:pt x="237" y="325"/>
                  </a:lnTo>
                  <a:lnTo>
                    <a:pt x="235" y="306"/>
                  </a:lnTo>
                  <a:lnTo>
                    <a:pt x="229" y="287"/>
                  </a:lnTo>
                  <a:lnTo>
                    <a:pt x="225" y="265"/>
                  </a:lnTo>
                  <a:lnTo>
                    <a:pt x="219" y="248"/>
                  </a:lnTo>
                  <a:lnTo>
                    <a:pt x="211" y="230"/>
                  </a:lnTo>
                  <a:lnTo>
                    <a:pt x="202" y="213"/>
                  </a:lnTo>
                  <a:lnTo>
                    <a:pt x="192" y="195"/>
                  </a:lnTo>
                  <a:lnTo>
                    <a:pt x="178" y="178"/>
                  </a:lnTo>
                  <a:lnTo>
                    <a:pt x="165" y="164"/>
                  </a:lnTo>
                  <a:lnTo>
                    <a:pt x="151" y="151"/>
                  </a:lnTo>
                  <a:lnTo>
                    <a:pt x="136" y="139"/>
                  </a:lnTo>
                  <a:lnTo>
                    <a:pt x="118" y="128"/>
                  </a:lnTo>
                  <a:lnTo>
                    <a:pt x="101" y="118"/>
                  </a:lnTo>
                  <a:lnTo>
                    <a:pt x="82" y="114"/>
                  </a:lnTo>
                  <a:lnTo>
                    <a:pt x="62" y="104"/>
                  </a:lnTo>
                  <a:lnTo>
                    <a:pt x="43" y="102"/>
                  </a:lnTo>
                  <a:lnTo>
                    <a:pt x="25" y="97"/>
                  </a:lnTo>
                  <a:lnTo>
                    <a:pt x="4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1" y="1"/>
                  </a:lnTo>
                  <a:lnTo>
                    <a:pt x="64" y="5"/>
                  </a:lnTo>
                  <a:lnTo>
                    <a:pt x="85" y="11"/>
                  </a:lnTo>
                  <a:lnTo>
                    <a:pt x="109" y="19"/>
                  </a:lnTo>
                  <a:lnTo>
                    <a:pt x="130" y="27"/>
                  </a:lnTo>
                  <a:lnTo>
                    <a:pt x="151" y="36"/>
                  </a:lnTo>
                  <a:lnTo>
                    <a:pt x="173" y="50"/>
                  </a:lnTo>
                  <a:lnTo>
                    <a:pt x="192" y="62"/>
                  </a:lnTo>
                  <a:lnTo>
                    <a:pt x="211" y="77"/>
                  </a:lnTo>
                  <a:lnTo>
                    <a:pt x="229" y="93"/>
                  </a:lnTo>
                  <a:lnTo>
                    <a:pt x="244" y="110"/>
                  </a:lnTo>
                  <a:lnTo>
                    <a:pt x="260" y="128"/>
                  </a:lnTo>
                  <a:lnTo>
                    <a:pt x="275" y="147"/>
                  </a:lnTo>
                  <a:lnTo>
                    <a:pt x="285" y="166"/>
                  </a:lnTo>
                  <a:lnTo>
                    <a:pt x="297" y="188"/>
                  </a:lnTo>
                  <a:lnTo>
                    <a:pt x="306" y="209"/>
                  </a:lnTo>
                  <a:lnTo>
                    <a:pt x="316" y="230"/>
                  </a:lnTo>
                  <a:lnTo>
                    <a:pt x="322" y="254"/>
                  </a:lnTo>
                  <a:lnTo>
                    <a:pt x="328" y="277"/>
                  </a:lnTo>
                  <a:lnTo>
                    <a:pt x="332" y="300"/>
                  </a:lnTo>
                  <a:lnTo>
                    <a:pt x="332" y="325"/>
                  </a:lnTo>
                  <a:lnTo>
                    <a:pt x="332" y="335"/>
                  </a:lnTo>
                  <a:lnTo>
                    <a:pt x="237" y="335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109960" y="3512880"/>
              <a:ext cx="699120" cy="802800"/>
            </a:xfrm>
            <a:custGeom>
              <a:avLst/>
              <a:gdLst/>
              <a:ahLst/>
              <a:rect l="l" t="t" r="r" b="b"/>
              <a:pathLst>
                <a:path w="452" h="454">
                  <a:moveTo>
                    <a:pt x="355" y="454"/>
                  </a:moveTo>
                  <a:lnTo>
                    <a:pt x="355" y="429"/>
                  </a:lnTo>
                  <a:lnTo>
                    <a:pt x="351" y="406"/>
                  </a:lnTo>
                  <a:lnTo>
                    <a:pt x="349" y="380"/>
                  </a:lnTo>
                  <a:lnTo>
                    <a:pt x="343" y="359"/>
                  </a:lnTo>
                  <a:lnTo>
                    <a:pt x="334" y="334"/>
                  </a:lnTo>
                  <a:lnTo>
                    <a:pt x="328" y="313"/>
                  </a:lnTo>
                  <a:lnTo>
                    <a:pt x="316" y="289"/>
                  </a:lnTo>
                  <a:lnTo>
                    <a:pt x="305" y="268"/>
                  </a:lnTo>
                  <a:lnTo>
                    <a:pt x="291" y="247"/>
                  </a:lnTo>
                  <a:lnTo>
                    <a:pt x="275" y="229"/>
                  </a:lnTo>
                  <a:lnTo>
                    <a:pt x="260" y="212"/>
                  </a:lnTo>
                  <a:lnTo>
                    <a:pt x="242" y="192"/>
                  </a:lnTo>
                  <a:lnTo>
                    <a:pt x="223" y="177"/>
                  </a:lnTo>
                  <a:lnTo>
                    <a:pt x="204" y="161"/>
                  </a:lnTo>
                  <a:lnTo>
                    <a:pt x="184" y="150"/>
                  </a:lnTo>
                  <a:lnTo>
                    <a:pt x="163" y="136"/>
                  </a:lnTo>
                  <a:lnTo>
                    <a:pt x="142" y="124"/>
                  </a:lnTo>
                  <a:lnTo>
                    <a:pt x="118" y="117"/>
                  </a:lnTo>
                  <a:lnTo>
                    <a:pt x="95" y="109"/>
                  </a:lnTo>
                  <a:lnTo>
                    <a:pt x="72" y="103"/>
                  </a:lnTo>
                  <a:lnTo>
                    <a:pt x="47" y="99"/>
                  </a:lnTo>
                  <a:lnTo>
                    <a:pt x="25" y="97"/>
                  </a:lnTo>
                  <a:lnTo>
                    <a:pt x="0" y="95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8" y="2"/>
                  </a:lnTo>
                  <a:lnTo>
                    <a:pt x="83" y="8"/>
                  </a:lnTo>
                  <a:lnTo>
                    <a:pt x="109" y="12"/>
                  </a:lnTo>
                  <a:lnTo>
                    <a:pt x="138" y="22"/>
                  </a:lnTo>
                  <a:lnTo>
                    <a:pt x="163" y="29"/>
                  </a:lnTo>
                  <a:lnTo>
                    <a:pt x="188" y="41"/>
                  </a:lnTo>
                  <a:lnTo>
                    <a:pt x="211" y="55"/>
                  </a:lnTo>
                  <a:lnTo>
                    <a:pt x="237" y="68"/>
                  </a:lnTo>
                  <a:lnTo>
                    <a:pt x="260" y="84"/>
                  </a:lnTo>
                  <a:lnTo>
                    <a:pt x="281" y="99"/>
                  </a:lnTo>
                  <a:lnTo>
                    <a:pt x="303" y="117"/>
                  </a:lnTo>
                  <a:lnTo>
                    <a:pt x="322" y="136"/>
                  </a:lnTo>
                  <a:lnTo>
                    <a:pt x="341" y="155"/>
                  </a:lnTo>
                  <a:lnTo>
                    <a:pt x="359" y="179"/>
                  </a:lnTo>
                  <a:lnTo>
                    <a:pt x="374" y="202"/>
                  </a:lnTo>
                  <a:lnTo>
                    <a:pt x="388" y="223"/>
                  </a:lnTo>
                  <a:lnTo>
                    <a:pt x="402" y="247"/>
                  </a:lnTo>
                  <a:lnTo>
                    <a:pt x="413" y="272"/>
                  </a:lnTo>
                  <a:lnTo>
                    <a:pt x="425" y="297"/>
                  </a:lnTo>
                  <a:lnTo>
                    <a:pt x="433" y="324"/>
                  </a:lnTo>
                  <a:lnTo>
                    <a:pt x="440" y="353"/>
                  </a:lnTo>
                  <a:lnTo>
                    <a:pt x="444" y="378"/>
                  </a:lnTo>
                  <a:lnTo>
                    <a:pt x="448" y="406"/>
                  </a:lnTo>
                  <a:lnTo>
                    <a:pt x="452" y="435"/>
                  </a:lnTo>
                  <a:lnTo>
                    <a:pt x="452" y="454"/>
                  </a:lnTo>
                  <a:lnTo>
                    <a:pt x="355" y="454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109960" y="3297240"/>
              <a:ext cx="884880" cy="1018440"/>
            </a:xfrm>
            <a:custGeom>
              <a:avLst/>
              <a:gdLst/>
              <a:ahLst/>
              <a:rect l="l" t="t" r="r" b="b"/>
              <a:pathLst>
                <a:path w="572" h="576">
                  <a:moveTo>
                    <a:pt x="0" y="101"/>
                  </a:moveTo>
                  <a:lnTo>
                    <a:pt x="16" y="101"/>
                  </a:lnTo>
                  <a:lnTo>
                    <a:pt x="41" y="105"/>
                  </a:lnTo>
                  <a:lnTo>
                    <a:pt x="70" y="107"/>
                  </a:lnTo>
                  <a:lnTo>
                    <a:pt x="99" y="113"/>
                  </a:lnTo>
                  <a:lnTo>
                    <a:pt x="126" y="118"/>
                  </a:lnTo>
                  <a:lnTo>
                    <a:pt x="151" y="124"/>
                  </a:lnTo>
                  <a:lnTo>
                    <a:pt x="177" y="136"/>
                  </a:lnTo>
                  <a:lnTo>
                    <a:pt x="202" y="147"/>
                  </a:lnTo>
                  <a:lnTo>
                    <a:pt x="229" y="161"/>
                  </a:lnTo>
                  <a:lnTo>
                    <a:pt x="254" y="175"/>
                  </a:lnTo>
                  <a:lnTo>
                    <a:pt x="275" y="190"/>
                  </a:lnTo>
                  <a:lnTo>
                    <a:pt x="297" y="208"/>
                  </a:lnTo>
                  <a:lnTo>
                    <a:pt x="318" y="227"/>
                  </a:lnTo>
                  <a:lnTo>
                    <a:pt x="339" y="246"/>
                  </a:lnTo>
                  <a:lnTo>
                    <a:pt x="359" y="268"/>
                  </a:lnTo>
                  <a:lnTo>
                    <a:pt x="376" y="289"/>
                  </a:lnTo>
                  <a:lnTo>
                    <a:pt x="392" y="312"/>
                  </a:lnTo>
                  <a:lnTo>
                    <a:pt x="405" y="336"/>
                  </a:lnTo>
                  <a:lnTo>
                    <a:pt x="421" y="361"/>
                  </a:lnTo>
                  <a:lnTo>
                    <a:pt x="433" y="384"/>
                  </a:lnTo>
                  <a:lnTo>
                    <a:pt x="442" y="411"/>
                  </a:lnTo>
                  <a:lnTo>
                    <a:pt x="452" y="438"/>
                  </a:lnTo>
                  <a:lnTo>
                    <a:pt x="460" y="466"/>
                  </a:lnTo>
                  <a:lnTo>
                    <a:pt x="464" y="493"/>
                  </a:lnTo>
                  <a:lnTo>
                    <a:pt x="469" y="522"/>
                  </a:lnTo>
                  <a:lnTo>
                    <a:pt x="469" y="551"/>
                  </a:lnTo>
                  <a:lnTo>
                    <a:pt x="471" y="576"/>
                  </a:lnTo>
                  <a:lnTo>
                    <a:pt x="572" y="576"/>
                  </a:lnTo>
                  <a:lnTo>
                    <a:pt x="570" y="539"/>
                  </a:lnTo>
                  <a:lnTo>
                    <a:pt x="566" y="506"/>
                  </a:lnTo>
                  <a:lnTo>
                    <a:pt x="562" y="475"/>
                  </a:lnTo>
                  <a:lnTo>
                    <a:pt x="555" y="446"/>
                  </a:lnTo>
                  <a:lnTo>
                    <a:pt x="547" y="417"/>
                  </a:lnTo>
                  <a:lnTo>
                    <a:pt x="539" y="386"/>
                  </a:lnTo>
                  <a:lnTo>
                    <a:pt x="530" y="357"/>
                  </a:lnTo>
                  <a:lnTo>
                    <a:pt x="516" y="328"/>
                  </a:lnTo>
                  <a:lnTo>
                    <a:pt x="502" y="303"/>
                  </a:lnTo>
                  <a:lnTo>
                    <a:pt x="487" y="275"/>
                  </a:lnTo>
                  <a:lnTo>
                    <a:pt x="469" y="248"/>
                  </a:lnTo>
                  <a:lnTo>
                    <a:pt x="452" y="225"/>
                  </a:lnTo>
                  <a:lnTo>
                    <a:pt x="433" y="200"/>
                  </a:lnTo>
                  <a:lnTo>
                    <a:pt x="411" y="178"/>
                  </a:lnTo>
                  <a:lnTo>
                    <a:pt x="388" y="155"/>
                  </a:lnTo>
                  <a:lnTo>
                    <a:pt x="367" y="134"/>
                  </a:lnTo>
                  <a:lnTo>
                    <a:pt x="341" y="114"/>
                  </a:lnTo>
                  <a:lnTo>
                    <a:pt x="316" y="97"/>
                  </a:lnTo>
                  <a:lnTo>
                    <a:pt x="291" y="81"/>
                  </a:lnTo>
                  <a:lnTo>
                    <a:pt x="264" y="66"/>
                  </a:lnTo>
                  <a:lnTo>
                    <a:pt x="235" y="52"/>
                  </a:lnTo>
                  <a:lnTo>
                    <a:pt x="208" y="41"/>
                  </a:lnTo>
                  <a:lnTo>
                    <a:pt x="177" y="29"/>
                  </a:lnTo>
                  <a:lnTo>
                    <a:pt x="147" y="21"/>
                  </a:lnTo>
                  <a:lnTo>
                    <a:pt x="118" y="14"/>
                  </a:lnTo>
                  <a:lnTo>
                    <a:pt x="89" y="8"/>
                  </a:lnTo>
                  <a:lnTo>
                    <a:pt x="58" y="4"/>
                  </a:lnTo>
                  <a:lnTo>
                    <a:pt x="25" y="2"/>
                  </a:lnTo>
                  <a:lnTo>
                    <a:pt x="0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800180"/>
            </a:solidFill>
            <a:ln w="1440">
              <a:solidFill>
                <a:srgbClr val="80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6324480" y="3182760"/>
            <a:ext cx="1217880" cy="1252800"/>
            <a:chOff x="6324480" y="3182760"/>
            <a:chExt cx="1217880" cy="1252800"/>
          </a:xfrm>
        </p:grpSpPr>
        <p:sp>
          <p:nvSpPr>
            <p:cNvPr id="4713" name=""/>
            <p:cNvSpPr/>
            <p:nvPr/>
          </p:nvSpPr>
          <p:spPr>
            <a:xfrm>
              <a:off x="6324480" y="3194640"/>
              <a:ext cx="483840" cy="56808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0" y="86"/>
                  </a:moveTo>
                  <a:lnTo>
                    <a:pt x="2" y="73"/>
                  </a:lnTo>
                  <a:lnTo>
                    <a:pt x="4" y="67"/>
                  </a:lnTo>
                  <a:lnTo>
                    <a:pt x="8" y="54"/>
                  </a:lnTo>
                  <a:lnTo>
                    <a:pt x="15" y="40"/>
                  </a:lnTo>
                  <a:lnTo>
                    <a:pt x="25" y="29"/>
                  </a:lnTo>
                  <a:lnTo>
                    <a:pt x="36" y="17"/>
                  </a:lnTo>
                  <a:lnTo>
                    <a:pt x="48" y="9"/>
                  </a:lnTo>
                  <a:lnTo>
                    <a:pt x="63" y="2"/>
                  </a:lnTo>
                  <a:lnTo>
                    <a:pt x="75" y="0"/>
                  </a:lnTo>
                  <a:lnTo>
                    <a:pt x="67" y="9"/>
                  </a:lnTo>
                  <a:lnTo>
                    <a:pt x="55" y="23"/>
                  </a:lnTo>
                  <a:lnTo>
                    <a:pt x="46" y="40"/>
                  </a:lnTo>
                  <a:lnTo>
                    <a:pt x="40" y="56"/>
                  </a:lnTo>
                  <a:lnTo>
                    <a:pt x="36" y="73"/>
                  </a:lnTo>
                  <a:lnTo>
                    <a:pt x="36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6324480" y="3841920"/>
              <a:ext cx="502920" cy="5799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0"/>
                  </a:moveTo>
                  <a:lnTo>
                    <a:pt x="2" y="17"/>
                  </a:lnTo>
                  <a:lnTo>
                    <a:pt x="8" y="30"/>
                  </a:lnTo>
                  <a:lnTo>
                    <a:pt x="15" y="46"/>
                  </a:lnTo>
                  <a:lnTo>
                    <a:pt x="23" y="57"/>
                  </a:lnTo>
                  <a:lnTo>
                    <a:pt x="34" y="69"/>
                  </a:lnTo>
                  <a:lnTo>
                    <a:pt x="46" y="78"/>
                  </a:lnTo>
                  <a:lnTo>
                    <a:pt x="59" y="84"/>
                  </a:lnTo>
                  <a:lnTo>
                    <a:pt x="67" y="86"/>
                  </a:lnTo>
                  <a:lnTo>
                    <a:pt x="75" y="88"/>
                  </a:lnTo>
                  <a:lnTo>
                    <a:pt x="78" y="88"/>
                  </a:lnTo>
                  <a:lnTo>
                    <a:pt x="67" y="75"/>
                  </a:lnTo>
                  <a:lnTo>
                    <a:pt x="55" y="61"/>
                  </a:lnTo>
                  <a:lnTo>
                    <a:pt x="46" y="46"/>
                  </a:lnTo>
                  <a:lnTo>
                    <a:pt x="40" y="29"/>
                  </a:lnTo>
                  <a:lnTo>
                    <a:pt x="36" y="11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645960" y="3182760"/>
              <a:ext cx="258840" cy="579960"/>
            </a:xfrm>
            <a:custGeom>
              <a:avLst/>
              <a:gdLst/>
              <a:ahLst/>
              <a:rect l="l" t="t" r="r" b="b"/>
              <a:pathLst>
                <a:path w="40" h="88">
                  <a:moveTo>
                    <a:pt x="40" y="0"/>
                  </a:moveTo>
                  <a:lnTo>
                    <a:pt x="28" y="11"/>
                  </a:lnTo>
                  <a:lnTo>
                    <a:pt x="19" y="25"/>
                  </a:lnTo>
                  <a:lnTo>
                    <a:pt x="9" y="42"/>
                  </a:lnTo>
                  <a:lnTo>
                    <a:pt x="3" y="58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40" y="8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634440" y="3841920"/>
              <a:ext cx="257040" cy="579960"/>
            </a:xfrm>
            <a:custGeom>
              <a:avLst/>
              <a:gdLst/>
              <a:ahLst/>
              <a:rect l="l" t="t" r="r" b="b"/>
              <a:pathLst>
                <a:path w="40" h="88">
                  <a:moveTo>
                    <a:pt x="4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5" y="29"/>
                  </a:lnTo>
                  <a:lnTo>
                    <a:pt x="11" y="46"/>
                  </a:lnTo>
                  <a:lnTo>
                    <a:pt x="21" y="61"/>
                  </a:lnTo>
                  <a:lnTo>
                    <a:pt x="30" y="78"/>
                  </a:lnTo>
                  <a:lnTo>
                    <a:pt x="40" y="8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975000" y="3841920"/>
              <a:ext cx="264600" cy="59364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0" y="90"/>
                  </a:moveTo>
                  <a:lnTo>
                    <a:pt x="10" y="78"/>
                  </a:lnTo>
                  <a:lnTo>
                    <a:pt x="21" y="65"/>
                  </a:lnTo>
                  <a:lnTo>
                    <a:pt x="29" y="48"/>
                  </a:lnTo>
                  <a:lnTo>
                    <a:pt x="35" y="30"/>
                  </a:lnTo>
                  <a:lnTo>
                    <a:pt x="39" y="1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975000" y="3182760"/>
              <a:ext cx="264600" cy="57996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88"/>
                  </a:moveTo>
                  <a:lnTo>
                    <a:pt x="41" y="88"/>
                  </a:lnTo>
                  <a:lnTo>
                    <a:pt x="39" y="79"/>
                  </a:lnTo>
                  <a:lnTo>
                    <a:pt x="35" y="59"/>
                  </a:lnTo>
                  <a:lnTo>
                    <a:pt x="29" y="44"/>
                  </a:lnTo>
                  <a:lnTo>
                    <a:pt x="21" y="27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052760" y="3841920"/>
              <a:ext cx="489600" cy="57996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76" y="0"/>
                  </a:moveTo>
                  <a:lnTo>
                    <a:pt x="76" y="13"/>
                  </a:lnTo>
                  <a:lnTo>
                    <a:pt x="73" y="21"/>
                  </a:lnTo>
                  <a:lnTo>
                    <a:pt x="69" y="32"/>
                  </a:lnTo>
                  <a:lnTo>
                    <a:pt x="63" y="46"/>
                  </a:lnTo>
                  <a:lnTo>
                    <a:pt x="51" y="59"/>
                  </a:lnTo>
                  <a:lnTo>
                    <a:pt x="40" y="71"/>
                  </a:lnTo>
                  <a:lnTo>
                    <a:pt x="29" y="78"/>
                  </a:lnTo>
                  <a:lnTo>
                    <a:pt x="13" y="84"/>
                  </a:lnTo>
                  <a:lnTo>
                    <a:pt x="0" y="88"/>
                  </a:lnTo>
                  <a:lnTo>
                    <a:pt x="9" y="78"/>
                  </a:lnTo>
                  <a:lnTo>
                    <a:pt x="21" y="65"/>
                  </a:lnTo>
                  <a:lnTo>
                    <a:pt x="30" y="48"/>
                  </a:lnTo>
                  <a:lnTo>
                    <a:pt x="36" y="30"/>
                  </a:lnTo>
                  <a:lnTo>
                    <a:pt x="38" y="13"/>
                  </a:lnTo>
                  <a:lnTo>
                    <a:pt x="4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039440" y="3182760"/>
              <a:ext cx="502920" cy="5799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8" y="88"/>
                  </a:moveTo>
                  <a:lnTo>
                    <a:pt x="76" y="73"/>
                  </a:lnTo>
                  <a:lnTo>
                    <a:pt x="73" y="58"/>
                  </a:lnTo>
                  <a:lnTo>
                    <a:pt x="65" y="44"/>
                  </a:lnTo>
                  <a:lnTo>
                    <a:pt x="55" y="33"/>
                  </a:lnTo>
                  <a:lnTo>
                    <a:pt x="46" y="21"/>
                  </a:lnTo>
                  <a:lnTo>
                    <a:pt x="32" y="11"/>
                  </a:lnTo>
                  <a:lnTo>
                    <a:pt x="19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11" y="13"/>
                  </a:lnTo>
                  <a:lnTo>
                    <a:pt x="23" y="27"/>
                  </a:lnTo>
                  <a:lnTo>
                    <a:pt x="32" y="44"/>
                  </a:lnTo>
                  <a:lnTo>
                    <a:pt x="38" y="59"/>
                  </a:lnTo>
                  <a:lnTo>
                    <a:pt x="40" y="79"/>
                  </a:lnTo>
                  <a:lnTo>
                    <a:pt x="42" y="88"/>
                  </a:lnTo>
                  <a:lnTo>
                    <a:pt x="78" y="88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1" name=""/>
          <p:cNvSpPr/>
          <p:nvPr/>
        </p:nvSpPr>
        <p:spPr>
          <a:xfrm>
            <a:off x="19069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"/>
          <p:cNvSpPr/>
          <p:nvPr/>
        </p:nvSpPr>
        <p:spPr>
          <a:xfrm flipH="1">
            <a:off x="7493040" y="2519280"/>
            <a:ext cx="1440" cy="180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>
            <a:off x="7719120" y="1851120"/>
            <a:ext cx="32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0" y="5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ed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 flipH="1">
            <a:off x="7716960" y="1847880"/>
            <a:ext cx="144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0" y="3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f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 flipH="1">
            <a:off x="7718400" y="185436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ef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 flipH="1">
            <a:off x="7713720" y="185112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efd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 flipH="1">
            <a:off x="7705800" y="1836720"/>
            <a:ext cx="1440" cy="1440"/>
          </a:xfrm>
          <a:prstGeom prst="rect">
            <a:avLst/>
          </a:prstGeom>
          <a:solidFill>
            <a:srgbClr val="f2d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 flipH="1">
            <a:off x="7706520" y="184788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2d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 flipH="1">
            <a:off x="7698600" y="1832040"/>
            <a:ext cx="1800" cy="1440"/>
          </a:xfrm>
          <a:prstGeom prst="rect">
            <a:avLst/>
          </a:pr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 flipH="1">
            <a:off x="7698600" y="1843200"/>
            <a:ext cx="1800" cy="1440"/>
          </a:xfrm>
          <a:prstGeom prst="rect">
            <a:avLst/>
          </a:pr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 flipH="1">
            <a:off x="7725600" y="182880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 flipH="1">
            <a:off x="7716960" y="1819440"/>
            <a:ext cx="1440" cy="28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4d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 flipH="1">
            <a:off x="7717680" y="1825560"/>
            <a:ext cx="324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4"/>
                </a:moveTo>
                <a:lnTo>
                  <a:pt x="5" y="0"/>
                </a:lnTo>
                <a:lnTo>
                  <a:pt x="0" y="2"/>
                </a:lnTo>
                <a:lnTo>
                  <a:pt x="5" y="4"/>
                </a:lnTo>
                <a:close/>
              </a:path>
            </a:pathLst>
          </a:custGeom>
          <a:solidFill>
            <a:srgbClr val="f4d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 flipH="1">
            <a:off x="7713720" y="1812960"/>
            <a:ext cx="1440" cy="46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5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4d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 flipH="1">
            <a:off x="7695360" y="1800360"/>
            <a:ext cx="1800" cy="14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0" y="3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7d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 flipH="1">
            <a:off x="7687440" y="1805040"/>
            <a:ext cx="1800" cy="1440"/>
          </a:xfrm>
          <a:prstGeom prst="rect">
            <a:avLst/>
          </a:prstGeom>
          <a:solidFill>
            <a:srgbClr val="f7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8" name=""/>
          <p:cNvGrpSpPr/>
          <p:nvPr/>
        </p:nvGrpSpPr>
        <p:grpSpPr>
          <a:xfrm>
            <a:off x="1600200" y="2854440"/>
            <a:ext cx="1201680" cy="1911240"/>
            <a:chOff x="1600200" y="2854440"/>
            <a:chExt cx="1201680" cy="1911240"/>
          </a:xfrm>
        </p:grpSpPr>
        <p:sp>
          <p:nvSpPr>
            <p:cNvPr id="4739" name=""/>
            <p:cNvSpPr/>
            <p:nvPr/>
          </p:nvSpPr>
          <p:spPr>
            <a:xfrm flipH="1">
              <a:off x="1600200" y="2854440"/>
              <a:ext cx="1201680" cy="1911240"/>
            </a:xfrm>
            <a:custGeom>
              <a:avLst/>
              <a:gdLst/>
              <a:ahLst/>
              <a:rect l="l" t="t" r="r" b="b"/>
              <a:pathLst>
                <a:path w="1513" h="2407">
                  <a:moveTo>
                    <a:pt x="301" y="2382"/>
                  </a:moveTo>
                  <a:lnTo>
                    <a:pt x="271" y="2347"/>
                  </a:lnTo>
                  <a:lnTo>
                    <a:pt x="259" y="2322"/>
                  </a:lnTo>
                  <a:lnTo>
                    <a:pt x="262" y="2304"/>
                  </a:lnTo>
                  <a:lnTo>
                    <a:pt x="273" y="2289"/>
                  </a:lnTo>
                  <a:lnTo>
                    <a:pt x="288" y="2274"/>
                  </a:lnTo>
                  <a:lnTo>
                    <a:pt x="304" y="2256"/>
                  </a:lnTo>
                  <a:lnTo>
                    <a:pt x="316" y="2234"/>
                  </a:lnTo>
                  <a:lnTo>
                    <a:pt x="318" y="2203"/>
                  </a:lnTo>
                  <a:lnTo>
                    <a:pt x="322" y="2194"/>
                  </a:lnTo>
                  <a:lnTo>
                    <a:pt x="324" y="2185"/>
                  </a:lnTo>
                  <a:lnTo>
                    <a:pt x="325" y="2176"/>
                  </a:lnTo>
                  <a:lnTo>
                    <a:pt x="327" y="2165"/>
                  </a:lnTo>
                  <a:lnTo>
                    <a:pt x="334" y="2165"/>
                  </a:lnTo>
                  <a:lnTo>
                    <a:pt x="342" y="2165"/>
                  </a:lnTo>
                  <a:lnTo>
                    <a:pt x="349" y="2164"/>
                  </a:lnTo>
                  <a:lnTo>
                    <a:pt x="356" y="2163"/>
                  </a:lnTo>
                  <a:lnTo>
                    <a:pt x="350" y="2104"/>
                  </a:lnTo>
                  <a:lnTo>
                    <a:pt x="342" y="2027"/>
                  </a:lnTo>
                  <a:lnTo>
                    <a:pt x="338" y="1950"/>
                  </a:lnTo>
                  <a:lnTo>
                    <a:pt x="345" y="1896"/>
                  </a:lnTo>
                  <a:lnTo>
                    <a:pt x="350" y="1896"/>
                  </a:lnTo>
                  <a:lnTo>
                    <a:pt x="356" y="1896"/>
                  </a:lnTo>
                  <a:lnTo>
                    <a:pt x="361" y="1896"/>
                  </a:lnTo>
                  <a:lnTo>
                    <a:pt x="365" y="1897"/>
                  </a:lnTo>
                  <a:lnTo>
                    <a:pt x="370" y="1898"/>
                  </a:lnTo>
                  <a:lnTo>
                    <a:pt x="373" y="1899"/>
                  </a:lnTo>
                  <a:lnTo>
                    <a:pt x="379" y="1901"/>
                  </a:lnTo>
                  <a:lnTo>
                    <a:pt x="385" y="1904"/>
                  </a:lnTo>
                  <a:lnTo>
                    <a:pt x="377" y="1877"/>
                  </a:lnTo>
                  <a:lnTo>
                    <a:pt x="373" y="1844"/>
                  </a:lnTo>
                  <a:lnTo>
                    <a:pt x="373" y="1805"/>
                  </a:lnTo>
                  <a:lnTo>
                    <a:pt x="376" y="1763"/>
                  </a:lnTo>
                  <a:lnTo>
                    <a:pt x="380" y="1722"/>
                  </a:lnTo>
                  <a:lnTo>
                    <a:pt x="385" y="1681"/>
                  </a:lnTo>
                  <a:lnTo>
                    <a:pt x="390" y="1647"/>
                  </a:lnTo>
                  <a:lnTo>
                    <a:pt x="394" y="1619"/>
                  </a:lnTo>
                  <a:lnTo>
                    <a:pt x="401" y="1619"/>
                  </a:lnTo>
                  <a:lnTo>
                    <a:pt x="407" y="1618"/>
                  </a:lnTo>
                  <a:lnTo>
                    <a:pt x="413" y="1617"/>
                  </a:lnTo>
                  <a:lnTo>
                    <a:pt x="418" y="1617"/>
                  </a:lnTo>
                  <a:lnTo>
                    <a:pt x="425" y="1546"/>
                  </a:lnTo>
                  <a:lnTo>
                    <a:pt x="431" y="1475"/>
                  </a:lnTo>
                  <a:lnTo>
                    <a:pt x="439" y="1401"/>
                  </a:lnTo>
                  <a:lnTo>
                    <a:pt x="448" y="1329"/>
                  </a:lnTo>
                  <a:lnTo>
                    <a:pt x="461" y="1256"/>
                  </a:lnTo>
                  <a:lnTo>
                    <a:pt x="477" y="1185"/>
                  </a:lnTo>
                  <a:lnTo>
                    <a:pt x="498" y="1114"/>
                  </a:lnTo>
                  <a:lnTo>
                    <a:pt x="526" y="1049"/>
                  </a:lnTo>
                  <a:lnTo>
                    <a:pt x="505" y="1038"/>
                  </a:lnTo>
                  <a:lnTo>
                    <a:pt x="481" y="1027"/>
                  </a:lnTo>
                  <a:lnTo>
                    <a:pt x="453" y="1016"/>
                  </a:lnTo>
                  <a:lnTo>
                    <a:pt x="424" y="1006"/>
                  </a:lnTo>
                  <a:lnTo>
                    <a:pt x="393" y="994"/>
                  </a:lnTo>
                  <a:lnTo>
                    <a:pt x="362" y="984"/>
                  </a:lnTo>
                  <a:lnTo>
                    <a:pt x="330" y="971"/>
                  </a:lnTo>
                  <a:lnTo>
                    <a:pt x="299" y="960"/>
                  </a:lnTo>
                  <a:lnTo>
                    <a:pt x="267" y="946"/>
                  </a:lnTo>
                  <a:lnTo>
                    <a:pt x="237" y="932"/>
                  </a:lnTo>
                  <a:lnTo>
                    <a:pt x="210" y="917"/>
                  </a:lnTo>
                  <a:lnTo>
                    <a:pt x="184" y="901"/>
                  </a:lnTo>
                  <a:lnTo>
                    <a:pt x="163" y="883"/>
                  </a:lnTo>
                  <a:lnTo>
                    <a:pt x="145" y="864"/>
                  </a:lnTo>
                  <a:lnTo>
                    <a:pt x="131" y="844"/>
                  </a:lnTo>
                  <a:lnTo>
                    <a:pt x="122" y="820"/>
                  </a:lnTo>
                  <a:lnTo>
                    <a:pt x="88" y="777"/>
                  </a:lnTo>
                  <a:lnTo>
                    <a:pt x="59" y="729"/>
                  </a:lnTo>
                  <a:lnTo>
                    <a:pt x="36" y="681"/>
                  </a:lnTo>
                  <a:lnTo>
                    <a:pt x="19" y="631"/>
                  </a:lnTo>
                  <a:lnTo>
                    <a:pt x="7" y="581"/>
                  </a:lnTo>
                  <a:lnTo>
                    <a:pt x="1" y="528"/>
                  </a:lnTo>
                  <a:lnTo>
                    <a:pt x="0" y="475"/>
                  </a:lnTo>
                  <a:lnTo>
                    <a:pt x="6" y="422"/>
                  </a:lnTo>
                  <a:lnTo>
                    <a:pt x="24" y="407"/>
                  </a:lnTo>
                  <a:lnTo>
                    <a:pt x="38" y="389"/>
                  </a:lnTo>
                  <a:lnTo>
                    <a:pt x="49" y="371"/>
                  </a:lnTo>
                  <a:lnTo>
                    <a:pt x="59" y="351"/>
                  </a:lnTo>
                  <a:lnTo>
                    <a:pt x="69" y="333"/>
                  </a:lnTo>
                  <a:lnTo>
                    <a:pt x="83" y="316"/>
                  </a:lnTo>
                  <a:lnTo>
                    <a:pt x="99" y="301"/>
                  </a:lnTo>
                  <a:lnTo>
                    <a:pt x="122" y="289"/>
                  </a:lnTo>
                  <a:lnTo>
                    <a:pt x="140" y="281"/>
                  </a:lnTo>
                  <a:lnTo>
                    <a:pt x="153" y="271"/>
                  </a:lnTo>
                  <a:lnTo>
                    <a:pt x="166" y="258"/>
                  </a:lnTo>
                  <a:lnTo>
                    <a:pt x="178" y="244"/>
                  </a:lnTo>
                  <a:lnTo>
                    <a:pt x="187" y="229"/>
                  </a:lnTo>
                  <a:lnTo>
                    <a:pt x="196" y="213"/>
                  </a:lnTo>
                  <a:lnTo>
                    <a:pt x="204" y="197"/>
                  </a:lnTo>
                  <a:lnTo>
                    <a:pt x="211" y="182"/>
                  </a:lnTo>
                  <a:lnTo>
                    <a:pt x="217" y="181"/>
                  </a:lnTo>
                  <a:lnTo>
                    <a:pt x="224" y="180"/>
                  </a:lnTo>
                  <a:lnTo>
                    <a:pt x="229" y="179"/>
                  </a:lnTo>
                  <a:lnTo>
                    <a:pt x="236" y="177"/>
                  </a:lnTo>
                  <a:lnTo>
                    <a:pt x="242" y="176"/>
                  </a:lnTo>
                  <a:lnTo>
                    <a:pt x="248" y="176"/>
                  </a:lnTo>
                  <a:lnTo>
                    <a:pt x="255" y="175"/>
                  </a:lnTo>
                  <a:lnTo>
                    <a:pt x="261" y="174"/>
                  </a:lnTo>
                  <a:lnTo>
                    <a:pt x="264" y="176"/>
                  </a:lnTo>
                  <a:lnTo>
                    <a:pt x="266" y="179"/>
                  </a:lnTo>
                  <a:lnTo>
                    <a:pt x="270" y="182"/>
                  </a:lnTo>
                  <a:lnTo>
                    <a:pt x="273" y="184"/>
                  </a:lnTo>
                  <a:lnTo>
                    <a:pt x="279" y="179"/>
                  </a:lnTo>
                  <a:lnTo>
                    <a:pt x="284" y="172"/>
                  </a:lnTo>
                  <a:lnTo>
                    <a:pt x="286" y="164"/>
                  </a:lnTo>
                  <a:lnTo>
                    <a:pt x="289" y="156"/>
                  </a:lnTo>
                  <a:lnTo>
                    <a:pt x="299" y="146"/>
                  </a:lnTo>
                  <a:lnTo>
                    <a:pt x="310" y="138"/>
                  </a:lnTo>
                  <a:lnTo>
                    <a:pt x="323" y="130"/>
                  </a:lnTo>
                  <a:lnTo>
                    <a:pt x="338" y="122"/>
                  </a:lnTo>
                  <a:lnTo>
                    <a:pt x="354" y="115"/>
                  </a:lnTo>
                  <a:lnTo>
                    <a:pt x="371" y="108"/>
                  </a:lnTo>
                  <a:lnTo>
                    <a:pt x="388" y="103"/>
                  </a:lnTo>
                  <a:lnTo>
                    <a:pt x="406" y="96"/>
                  </a:lnTo>
                  <a:lnTo>
                    <a:pt x="423" y="90"/>
                  </a:lnTo>
                  <a:lnTo>
                    <a:pt x="439" y="83"/>
                  </a:lnTo>
                  <a:lnTo>
                    <a:pt x="454" y="76"/>
                  </a:lnTo>
                  <a:lnTo>
                    <a:pt x="467" y="69"/>
                  </a:lnTo>
                  <a:lnTo>
                    <a:pt x="478" y="62"/>
                  </a:lnTo>
                  <a:lnTo>
                    <a:pt x="488" y="55"/>
                  </a:lnTo>
                  <a:lnTo>
                    <a:pt x="493" y="47"/>
                  </a:lnTo>
                  <a:lnTo>
                    <a:pt x="497" y="38"/>
                  </a:lnTo>
                  <a:lnTo>
                    <a:pt x="520" y="30"/>
                  </a:lnTo>
                  <a:lnTo>
                    <a:pt x="541" y="28"/>
                  </a:lnTo>
                  <a:lnTo>
                    <a:pt x="559" y="28"/>
                  </a:lnTo>
                  <a:lnTo>
                    <a:pt x="577" y="29"/>
                  </a:lnTo>
                  <a:lnTo>
                    <a:pt x="596" y="32"/>
                  </a:lnTo>
                  <a:lnTo>
                    <a:pt x="615" y="35"/>
                  </a:lnTo>
                  <a:lnTo>
                    <a:pt x="635" y="36"/>
                  </a:lnTo>
                  <a:lnTo>
                    <a:pt x="658" y="33"/>
                  </a:lnTo>
                  <a:lnTo>
                    <a:pt x="668" y="23"/>
                  </a:lnTo>
                  <a:lnTo>
                    <a:pt x="678" y="16"/>
                  </a:lnTo>
                  <a:lnTo>
                    <a:pt x="685" y="10"/>
                  </a:lnTo>
                  <a:lnTo>
                    <a:pt x="691" y="7"/>
                  </a:lnTo>
                  <a:lnTo>
                    <a:pt x="700" y="5"/>
                  </a:lnTo>
                  <a:lnTo>
                    <a:pt x="709" y="3"/>
                  </a:lnTo>
                  <a:lnTo>
                    <a:pt x="720" y="2"/>
                  </a:lnTo>
                  <a:lnTo>
                    <a:pt x="735" y="0"/>
                  </a:lnTo>
                  <a:lnTo>
                    <a:pt x="754" y="18"/>
                  </a:lnTo>
                  <a:lnTo>
                    <a:pt x="772" y="30"/>
                  </a:lnTo>
                  <a:lnTo>
                    <a:pt x="793" y="37"/>
                  </a:lnTo>
                  <a:lnTo>
                    <a:pt x="814" y="40"/>
                  </a:lnTo>
                  <a:lnTo>
                    <a:pt x="837" y="43"/>
                  </a:lnTo>
                  <a:lnTo>
                    <a:pt x="860" y="45"/>
                  </a:lnTo>
                  <a:lnTo>
                    <a:pt x="884" y="47"/>
                  </a:lnTo>
                  <a:lnTo>
                    <a:pt x="909" y="53"/>
                  </a:lnTo>
                  <a:lnTo>
                    <a:pt x="909" y="56"/>
                  </a:lnTo>
                  <a:lnTo>
                    <a:pt x="909" y="60"/>
                  </a:lnTo>
                  <a:lnTo>
                    <a:pt x="909" y="63"/>
                  </a:lnTo>
                  <a:lnTo>
                    <a:pt x="909" y="67"/>
                  </a:lnTo>
                  <a:lnTo>
                    <a:pt x="922" y="73"/>
                  </a:lnTo>
                  <a:lnTo>
                    <a:pt x="933" y="77"/>
                  </a:lnTo>
                  <a:lnTo>
                    <a:pt x="945" y="83"/>
                  </a:lnTo>
                  <a:lnTo>
                    <a:pt x="955" y="86"/>
                  </a:lnTo>
                  <a:lnTo>
                    <a:pt x="966" y="88"/>
                  </a:lnTo>
                  <a:lnTo>
                    <a:pt x="977" y="89"/>
                  </a:lnTo>
                  <a:lnTo>
                    <a:pt x="989" y="86"/>
                  </a:lnTo>
                  <a:lnTo>
                    <a:pt x="1001" y="82"/>
                  </a:lnTo>
                  <a:lnTo>
                    <a:pt x="1024" y="96"/>
                  </a:lnTo>
                  <a:lnTo>
                    <a:pt x="1048" y="111"/>
                  </a:lnTo>
                  <a:lnTo>
                    <a:pt x="1069" y="126"/>
                  </a:lnTo>
                  <a:lnTo>
                    <a:pt x="1092" y="139"/>
                  </a:lnTo>
                  <a:lnTo>
                    <a:pt x="1114" y="154"/>
                  </a:lnTo>
                  <a:lnTo>
                    <a:pt x="1137" y="168"/>
                  </a:lnTo>
                  <a:lnTo>
                    <a:pt x="1159" y="182"/>
                  </a:lnTo>
                  <a:lnTo>
                    <a:pt x="1182" y="196"/>
                  </a:lnTo>
                  <a:lnTo>
                    <a:pt x="1182" y="197"/>
                  </a:lnTo>
                  <a:lnTo>
                    <a:pt x="1182" y="199"/>
                  </a:lnTo>
                  <a:lnTo>
                    <a:pt x="1181" y="201"/>
                  </a:lnTo>
                  <a:lnTo>
                    <a:pt x="1180" y="203"/>
                  </a:lnTo>
                  <a:lnTo>
                    <a:pt x="1188" y="209"/>
                  </a:lnTo>
                  <a:lnTo>
                    <a:pt x="1197" y="214"/>
                  </a:lnTo>
                  <a:lnTo>
                    <a:pt x="1207" y="220"/>
                  </a:lnTo>
                  <a:lnTo>
                    <a:pt x="1216" y="225"/>
                  </a:lnTo>
                  <a:lnTo>
                    <a:pt x="1225" y="229"/>
                  </a:lnTo>
                  <a:lnTo>
                    <a:pt x="1234" y="234"/>
                  </a:lnTo>
                  <a:lnTo>
                    <a:pt x="1242" y="237"/>
                  </a:lnTo>
                  <a:lnTo>
                    <a:pt x="1251" y="241"/>
                  </a:lnTo>
                  <a:lnTo>
                    <a:pt x="1250" y="244"/>
                  </a:lnTo>
                  <a:lnTo>
                    <a:pt x="1248" y="249"/>
                  </a:lnTo>
                  <a:lnTo>
                    <a:pt x="1247" y="255"/>
                  </a:lnTo>
                  <a:lnTo>
                    <a:pt x="1245" y="258"/>
                  </a:lnTo>
                  <a:lnTo>
                    <a:pt x="1257" y="264"/>
                  </a:lnTo>
                  <a:lnTo>
                    <a:pt x="1271" y="270"/>
                  </a:lnTo>
                  <a:lnTo>
                    <a:pt x="1284" y="277"/>
                  </a:lnTo>
                  <a:lnTo>
                    <a:pt x="1296" y="285"/>
                  </a:lnTo>
                  <a:lnTo>
                    <a:pt x="1308" y="293"/>
                  </a:lnTo>
                  <a:lnTo>
                    <a:pt x="1321" y="302"/>
                  </a:lnTo>
                  <a:lnTo>
                    <a:pt x="1332" y="311"/>
                  </a:lnTo>
                  <a:lnTo>
                    <a:pt x="1345" y="322"/>
                  </a:lnTo>
                  <a:lnTo>
                    <a:pt x="1357" y="332"/>
                  </a:lnTo>
                  <a:lnTo>
                    <a:pt x="1369" y="341"/>
                  </a:lnTo>
                  <a:lnTo>
                    <a:pt x="1382" y="351"/>
                  </a:lnTo>
                  <a:lnTo>
                    <a:pt x="1393" y="362"/>
                  </a:lnTo>
                  <a:lnTo>
                    <a:pt x="1406" y="372"/>
                  </a:lnTo>
                  <a:lnTo>
                    <a:pt x="1419" y="381"/>
                  </a:lnTo>
                  <a:lnTo>
                    <a:pt x="1432" y="391"/>
                  </a:lnTo>
                  <a:lnTo>
                    <a:pt x="1445" y="399"/>
                  </a:lnTo>
                  <a:lnTo>
                    <a:pt x="1446" y="411"/>
                  </a:lnTo>
                  <a:lnTo>
                    <a:pt x="1447" y="423"/>
                  </a:lnTo>
                  <a:lnTo>
                    <a:pt x="1450" y="434"/>
                  </a:lnTo>
                  <a:lnTo>
                    <a:pt x="1452" y="446"/>
                  </a:lnTo>
                  <a:lnTo>
                    <a:pt x="1476" y="477"/>
                  </a:lnTo>
                  <a:lnTo>
                    <a:pt x="1495" y="502"/>
                  </a:lnTo>
                  <a:lnTo>
                    <a:pt x="1506" y="527"/>
                  </a:lnTo>
                  <a:lnTo>
                    <a:pt x="1512" y="549"/>
                  </a:lnTo>
                  <a:lnTo>
                    <a:pt x="1513" y="573"/>
                  </a:lnTo>
                  <a:lnTo>
                    <a:pt x="1511" y="599"/>
                  </a:lnTo>
                  <a:lnTo>
                    <a:pt x="1505" y="633"/>
                  </a:lnTo>
                  <a:lnTo>
                    <a:pt x="1497" y="673"/>
                  </a:lnTo>
                  <a:lnTo>
                    <a:pt x="1499" y="674"/>
                  </a:lnTo>
                  <a:lnTo>
                    <a:pt x="1503" y="676"/>
                  </a:lnTo>
                  <a:lnTo>
                    <a:pt x="1506" y="678"/>
                  </a:lnTo>
                  <a:lnTo>
                    <a:pt x="1510" y="678"/>
                  </a:lnTo>
                  <a:lnTo>
                    <a:pt x="1505" y="689"/>
                  </a:lnTo>
                  <a:lnTo>
                    <a:pt x="1499" y="701"/>
                  </a:lnTo>
                  <a:lnTo>
                    <a:pt x="1493" y="712"/>
                  </a:lnTo>
                  <a:lnTo>
                    <a:pt x="1488" y="724"/>
                  </a:lnTo>
                  <a:lnTo>
                    <a:pt x="1485" y="735"/>
                  </a:lnTo>
                  <a:lnTo>
                    <a:pt x="1485" y="747"/>
                  </a:lnTo>
                  <a:lnTo>
                    <a:pt x="1490" y="757"/>
                  </a:lnTo>
                  <a:lnTo>
                    <a:pt x="1499" y="767"/>
                  </a:lnTo>
                  <a:lnTo>
                    <a:pt x="1491" y="785"/>
                  </a:lnTo>
                  <a:lnTo>
                    <a:pt x="1488" y="801"/>
                  </a:lnTo>
                  <a:lnTo>
                    <a:pt x="1485" y="815"/>
                  </a:lnTo>
                  <a:lnTo>
                    <a:pt x="1483" y="826"/>
                  </a:lnTo>
                  <a:lnTo>
                    <a:pt x="1478" y="838"/>
                  </a:lnTo>
                  <a:lnTo>
                    <a:pt x="1470" y="847"/>
                  </a:lnTo>
                  <a:lnTo>
                    <a:pt x="1455" y="855"/>
                  </a:lnTo>
                  <a:lnTo>
                    <a:pt x="1434" y="861"/>
                  </a:lnTo>
                  <a:lnTo>
                    <a:pt x="1416" y="873"/>
                  </a:lnTo>
                  <a:lnTo>
                    <a:pt x="1398" y="884"/>
                  </a:lnTo>
                  <a:lnTo>
                    <a:pt x="1378" y="894"/>
                  </a:lnTo>
                  <a:lnTo>
                    <a:pt x="1359" y="903"/>
                  </a:lnTo>
                  <a:lnTo>
                    <a:pt x="1338" y="911"/>
                  </a:lnTo>
                  <a:lnTo>
                    <a:pt x="1318" y="918"/>
                  </a:lnTo>
                  <a:lnTo>
                    <a:pt x="1298" y="926"/>
                  </a:lnTo>
                  <a:lnTo>
                    <a:pt x="1277" y="932"/>
                  </a:lnTo>
                  <a:lnTo>
                    <a:pt x="1257" y="939"/>
                  </a:lnTo>
                  <a:lnTo>
                    <a:pt x="1238" y="946"/>
                  </a:lnTo>
                  <a:lnTo>
                    <a:pt x="1219" y="953"/>
                  </a:lnTo>
                  <a:lnTo>
                    <a:pt x="1202" y="960"/>
                  </a:lnTo>
                  <a:lnTo>
                    <a:pt x="1186" y="968"/>
                  </a:lnTo>
                  <a:lnTo>
                    <a:pt x="1170" y="976"/>
                  </a:lnTo>
                  <a:lnTo>
                    <a:pt x="1157" y="984"/>
                  </a:lnTo>
                  <a:lnTo>
                    <a:pt x="1144" y="994"/>
                  </a:lnTo>
                  <a:lnTo>
                    <a:pt x="1137" y="994"/>
                  </a:lnTo>
                  <a:lnTo>
                    <a:pt x="1130" y="994"/>
                  </a:lnTo>
                  <a:lnTo>
                    <a:pt x="1124" y="993"/>
                  </a:lnTo>
                  <a:lnTo>
                    <a:pt x="1118" y="993"/>
                  </a:lnTo>
                  <a:lnTo>
                    <a:pt x="1111" y="992"/>
                  </a:lnTo>
                  <a:lnTo>
                    <a:pt x="1104" y="991"/>
                  </a:lnTo>
                  <a:lnTo>
                    <a:pt x="1097" y="991"/>
                  </a:lnTo>
                  <a:lnTo>
                    <a:pt x="1090" y="990"/>
                  </a:lnTo>
                  <a:lnTo>
                    <a:pt x="1087" y="994"/>
                  </a:lnTo>
                  <a:lnTo>
                    <a:pt x="1083" y="999"/>
                  </a:lnTo>
                  <a:lnTo>
                    <a:pt x="1079" y="1004"/>
                  </a:lnTo>
                  <a:lnTo>
                    <a:pt x="1075" y="1008"/>
                  </a:lnTo>
                  <a:lnTo>
                    <a:pt x="1053" y="1008"/>
                  </a:lnTo>
                  <a:lnTo>
                    <a:pt x="1033" y="1006"/>
                  </a:lnTo>
                  <a:lnTo>
                    <a:pt x="1012" y="1005"/>
                  </a:lnTo>
                  <a:lnTo>
                    <a:pt x="992" y="1004"/>
                  </a:lnTo>
                  <a:lnTo>
                    <a:pt x="973" y="1005"/>
                  </a:lnTo>
                  <a:lnTo>
                    <a:pt x="954" y="1009"/>
                  </a:lnTo>
                  <a:lnTo>
                    <a:pt x="936" y="1019"/>
                  </a:lnTo>
                  <a:lnTo>
                    <a:pt x="918" y="1035"/>
                  </a:lnTo>
                  <a:lnTo>
                    <a:pt x="912" y="1036"/>
                  </a:lnTo>
                  <a:lnTo>
                    <a:pt x="906" y="1035"/>
                  </a:lnTo>
                  <a:lnTo>
                    <a:pt x="901" y="1032"/>
                  </a:lnTo>
                  <a:lnTo>
                    <a:pt x="898" y="1029"/>
                  </a:lnTo>
                  <a:lnTo>
                    <a:pt x="894" y="1026"/>
                  </a:lnTo>
                  <a:lnTo>
                    <a:pt x="891" y="1022"/>
                  </a:lnTo>
                  <a:lnTo>
                    <a:pt x="887" y="1019"/>
                  </a:lnTo>
                  <a:lnTo>
                    <a:pt x="883" y="1018"/>
                  </a:lnTo>
                  <a:lnTo>
                    <a:pt x="882" y="1019"/>
                  </a:lnTo>
                  <a:lnTo>
                    <a:pt x="879" y="1021"/>
                  </a:lnTo>
                  <a:lnTo>
                    <a:pt x="878" y="1022"/>
                  </a:lnTo>
                  <a:lnTo>
                    <a:pt x="876" y="1022"/>
                  </a:lnTo>
                  <a:lnTo>
                    <a:pt x="872" y="1022"/>
                  </a:lnTo>
                  <a:lnTo>
                    <a:pt x="870" y="1022"/>
                  </a:lnTo>
                  <a:lnTo>
                    <a:pt x="868" y="1022"/>
                  </a:lnTo>
                  <a:lnTo>
                    <a:pt x="865" y="1022"/>
                  </a:lnTo>
                  <a:lnTo>
                    <a:pt x="839" y="1117"/>
                  </a:lnTo>
                  <a:lnTo>
                    <a:pt x="818" y="1202"/>
                  </a:lnTo>
                  <a:lnTo>
                    <a:pt x="802" y="1280"/>
                  </a:lnTo>
                  <a:lnTo>
                    <a:pt x="791" y="1356"/>
                  </a:lnTo>
                  <a:lnTo>
                    <a:pt x="781" y="1432"/>
                  </a:lnTo>
                  <a:lnTo>
                    <a:pt x="774" y="1513"/>
                  </a:lnTo>
                  <a:lnTo>
                    <a:pt x="769" y="1602"/>
                  </a:lnTo>
                  <a:lnTo>
                    <a:pt x="763" y="1701"/>
                  </a:lnTo>
                  <a:lnTo>
                    <a:pt x="768" y="1702"/>
                  </a:lnTo>
                  <a:lnTo>
                    <a:pt x="772" y="1703"/>
                  </a:lnTo>
                  <a:lnTo>
                    <a:pt x="777" y="1704"/>
                  </a:lnTo>
                  <a:lnTo>
                    <a:pt x="780" y="1705"/>
                  </a:lnTo>
                  <a:lnTo>
                    <a:pt x="780" y="1729"/>
                  </a:lnTo>
                  <a:lnTo>
                    <a:pt x="777" y="1755"/>
                  </a:lnTo>
                  <a:lnTo>
                    <a:pt x="770" y="1783"/>
                  </a:lnTo>
                  <a:lnTo>
                    <a:pt x="762" y="1811"/>
                  </a:lnTo>
                  <a:lnTo>
                    <a:pt x="753" y="1840"/>
                  </a:lnTo>
                  <a:lnTo>
                    <a:pt x="743" y="1869"/>
                  </a:lnTo>
                  <a:lnTo>
                    <a:pt x="734" y="1896"/>
                  </a:lnTo>
                  <a:lnTo>
                    <a:pt x="727" y="1920"/>
                  </a:lnTo>
                  <a:lnTo>
                    <a:pt x="732" y="1921"/>
                  </a:lnTo>
                  <a:lnTo>
                    <a:pt x="736" y="1923"/>
                  </a:lnTo>
                  <a:lnTo>
                    <a:pt x="742" y="1924"/>
                  </a:lnTo>
                  <a:lnTo>
                    <a:pt x="747" y="1927"/>
                  </a:lnTo>
                  <a:lnTo>
                    <a:pt x="747" y="1934"/>
                  </a:lnTo>
                  <a:lnTo>
                    <a:pt x="746" y="1939"/>
                  </a:lnTo>
                  <a:lnTo>
                    <a:pt x="744" y="1944"/>
                  </a:lnTo>
                  <a:lnTo>
                    <a:pt x="744" y="1949"/>
                  </a:lnTo>
                  <a:lnTo>
                    <a:pt x="743" y="1950"/>
                  </a:lnTo>
                  <a:lnTo>
                    <a:pt x="741" y="1951"/>
                  </a:lnTo>
                  <a:lnTo>
                    <a:pt x="740" y="1951"/>
                  </a:lnTo>
                  <a:lnTo>
                    <a:pt x="738" y="1951"/>
                  </a:lnTo>
                  <a:lnTo>
                    <a:pt x="726" y="1988"/>
                  </a:lnTo>
                  <a:lnTo>
                    <a:pt x="719" y="2021"/>
                  </a:lnTo>
                  <a:lnTo>
                    <a:pt x="716" y="2051"/>
                  </a:lnTo>
                  <a:lnTo>
                    <a:pt x="716" y="2079"/>
                  </a:lnTo>
                  <a:lnTo>
                    <a:pt x="718" y="2104"/>
                  </a:lnTo>
                  <a:lnTo>
                    <a:pt x="725" y="2127"/>
                  </a:lnTo>
                  <a:lnTo>
                    <a:pt x="733" y="2149"/>
                  </a:lnTo>
                  <a:lnTo>
                    <a:pt x="743" y="2170"/>
                  </a:lnTo>
                  <a:lnTo>
                    <a:pt x="757" y="2189"/>
                  </a:lnTo>
                  <a:lnTo>
                    <a:pt x="771" y="2209"/>
                  </a:lnTo>
                  <a:lnTo>
                    <a:pt x="787" y="2227"/>
                  </a:lnTo>
                  <a:lnTo>
                    <a:pt x="804" y="2247"/>
                  </a:lnTo>
                  <a:lnTo>
                    <a:pt x="823" y="2268"/>
                  </a:lnTo>
                  <a:lnTo>
                    <a:pt x="842" y="2290"/>
                  </a:lnTo>
                  <a:lnTo>
                    <a:pt x="861" y="2312"/>
                  </a:lnTo>
                  <a:lnTo>
                    <a:pt x="880" y="2337"/>
                  </a:lnTo>
                  <a:lnTo>
                    <a:pt x="880" y="2346"/>
                  </a:lnTo>
                  <a:lnTo>
                    <a:pt x="880" y="2354"/>
                  </a:lnTo>
                  <a:lnTo>
                    <a:pt x="880" y="2363"/>
                  </a:lnTo>
                  <a:lnTo>
                    <a:pt x="880" y="2373"/>
                  </a:lnTo>
                  <a:lnTo>
                    <a:pt x="864" y="2381"/>
                  </a:lnTo>
                  <a:lnTo>
                    <a:pt x="842" y="2388"/>
                  </a:lnTo>
                  <a:lnTo>
                    <a:pt x="818" y="2392"/>
                  </a:lnTo>
                  <a:lnTo>
                    <a:pt x="789" y="2397"/>
                  </a:lnTo>
                  <a:lnTo>
                    <a:pt x="757" y="2400"/>
                  </a:lnTo>
                  <a:lnTo>
                    <a:pt x="724" y="2404"/>
                  </a:lnTo>
                  <a:lnTo>
                    <a:pt x="689" y="2405"/>
                  </a:lnTo>
                  <a:lnTo>
                    <a:pt x="653" y="2406"/>
                  </a:lnTo>
                  <a:lnTo>
                    <a:pt x="617" y="2407"/>
                  </a:lnTo>
                  <a:lnTo>
                    <a:pt x="582" y="2407"/>
                  </a:lnTo>
                  <a:lnTo>
                    <a:pt x="547" y="2407"/>
                  </a:lnTo>
                  <a:lnTo>
                    <a:pt x="514" y="2406"/>
                  </a:lnTo>
                  <a:lnTo>
                    <a:pt x="484" y="2405"/>
                  </a:lnTo>
                  <a:lnTo>
                    <a:pt x="456" y="2404"/>
                  </a:lnTo>
                  <a:lnTo>
                    <a:pt x="433" y="2403"/>
                  </a:lnTo>
                  <a:lnTo>
                    <a:pt x="414" y="2401"/>
                  </a:lnTo>
                  <a:lnTo>
                    <a:pt x="402" y="2395"/>
                  </a:lnTo>
                  <a:lnTo>
                    <a:pt x="391" y="2389"/>
                  </a:lnTo>
                  <a:lnTo>
                    <a:pt x="379" y="2383"/>
                  </a:lnTo>
                  <a:lnTo>
                    <a:pt x="368" y="2377"/>
                  </a:lnTo>
                  <a:lnTo>
                    <a:pt x="356" y="2373"/>
                  </a:lnTo>
                  <a:lnTo>
                    <a:pt x="343" y="2368"/>
                  </a:lnTo>
                  <a:lnTo>
                    <a:pt x="331" y="2365"/>
                  </a:lnTo>
                  <a:lnTo>
                    <a:pt x="318" y="2361"/>
                  </a:lnTo>
                  <a:lnTo>
                    <a:pt x="322" y="2365"/>
                  </a:lnTo>
                  <a:lnTo>
                    <a:pt x="324" y="2367"/>
                  </a:lnTo>
                  <a:lnTo>
                    <a:pt x="326" y="2369"/>
                  </a:lnTo>
                  <a:lnTo>
                    <a:pt x="330" y="2373"/>
                  </a:lnTo>
                  <a:lnTo>
                    <a:pt x="326" y="2376"/>
                  </a:lnTo>
                  <a:lnTo>
                    <a:pt x="324" y="2381"/>
                  </a:lnTo>
                  <a:lnTo>
                    <a:pt x="322" y="2385"/>
                  </a:lnTo>
                  <a:lnTo>
                    <a:pt x="318" y="2389"/>
                  </a:lnTo>
                  <a:lnTo>
                    <a:pt x="315" y="2386"/>
                  </a:lnTo>
                  <a:lnTo>
                    <a:pt x="310" y="2385"/>
                  </a:lnTo>
                  <a:lnTo>
                    <a:pt x="304" y="2383"/>
                  </a:lnTo>
                  <a:lnTo>
                    <a:pt x="301" y="2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 flipH="1">
              <a:off x="2336760" y="4732560"/>
              <a:ext cx="176400" cy="27000"/>
            </a:xfrm>
            <a:custGeom>
              <a:avLst/>
              <a:gdLst/>
              <a:ahLst/>
              <a:rect l="l" t="t" r="r" b="b"/>
              <a:pathLst>
                <a:path w="224" h="34">
                  <a:moveTo>
                    <a:pt x="0" y="0"/>
                  </a:moveTo>
                  <a:lnTo>
                    <a:pt x="9" y="2"/>
                  </a:lnTo>
                  <a:lnTo>
                    <a:pt x="17" y="4"/>
                  </a:lnTo>
                  <a:lnTo>
                    <a:pt x="27" y="8"/>
                  </a:lnTo>
                  <a:lnTo>
                    <a:pt x="34" y="11"/>
                  </a:lnTo>
                  <a:lnTo>
                    <a:pt x="40" y="15"/>
                  </a:lnTo>
                  <a:lnTo>
                    <a:pt x="47" y="18"/>
                  </a:lnTo>
                  <a:lnTo>
                    <a:pt x="55" y="22"/>
                  </a:lnTo>
                  <a:lnTo>
                    <a:pt x="65" y="24"/>
                  </a:lnTo>
                  <a:lnTo>
                    <a:pt x="75" y="26"/>
                  </a:lnTo>
                  <a:lnTo>
                    <a:pt x="85" y="29"/>
                  </a:lnTo>
                  <a:lnTo>
                    <a:pt x="97" y="30"/>
                  </a:lnTo>
                  <a:lnTo>
                    <a:pt x="110" y="31"/>
                  </a:lnTo>
                  <a:lnTo>
                    <a:pt x="122" y="32"/>
                  </a:lnTo>
                  <a:lnTo>
                    <a:pt x="135" y="33"/>
                  </a:lnTo>
                  <a:lnTo>
                    <a:pt x="149" y="33"/>
                  </a:lnTo>
                  <a:lnTo>
                    <a:pt x="164" y="34"/>
                  </a:lnTo>
                  <a:lnTo>
                    <a:pt x="178" y="34"/>
                  </a:lnTo>
                  <a:lnTo>
                    <a:pt x="193" y="34"/>
                  </a:lnTo>
                  <a:lnTo>
                    <a:pt x="209" y="33"/>
                  </a:lnTo>
                  <a:lnTo>
                    <a:pt x="224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H="1">
              <a:off x="2554200" y="4724640"/>
              <a:ext cx="6480" cy="6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 flipH="1">
              <a:off x="2241000" y="4702320"/>
              <a:ext cx="330120" cy="57240"/>
            </a:xfrm>
            <a:custGeom>
              <a:avLst/>
              <a:gdLst/>
              <a:ahLst/>
              <a:rect l="l" t="t" r="r" b="b"/>
              <a:pathLst>
                <a:path w="417" h="72">
                  <a:moveTo>
                    <a:pt x="108" y="49"/>
                  </a:moveTo>
                  <a:lnTo>
                    <a:pt x="98" y="45"/>
                  </a:lnTo>
                  <a:lnTo>
                    <a:pt x="87" y="41"/>
                  </a:lnTo>
                  <a:lnTo>
                    <a:pt x="76" y="38"/>
                  </a:lnTo>
                  <a:lnTo>
                    <a:pt x="65" y="33"/>
                  </a:lnTo>
                  <a:lnTo>
                    <a:pt x="54" y="29"/>
                  </a:lnTo>
                  <a:lnTo>
                    <a:pt x="45" y="23"/>
                  </a:lnTo>
                  <a:lnTo>
                    <a:pt x="36" y="17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4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0" y="30"/>
                  </a:lnTo>
                  <a:lnTo>
                    <a:pt x="22" y="35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1" y="9"/>
                  </a:lnTo>
                  <a:lnTo>
                    <a:pt x="0" y="0"/>
                  </a:lnTo>
                  <a:lnTo>
                    <a:pt x="417" y="63"/>
                  </a:lnTo>
                  <a:lnTo>
                    <a:pt x="396" y="65"/>
                  </a:lnTo>
                  <a:lnTo>
                    <a:pt x="373" y="67"/>
                  </a:lnTo>
                  <a:lnTo>
                    <a:pt x="349" y="69"/>
                  </a:lnTo>
                  <a:lnTo>
                    <a:pt x="326" y="70"/>
                  </a:lnTo>
                  <a:lnTo>
                    <a:pt x="303" y="71"/>
                  </a:lnTo>
                  <a:lnTo>
                    <a:pt x="280" y="71"/>
                  </a:lnTo>
                  <a:lnTo>
                    <a:pt x="257" y="72"/>
                  </a:lnTo>
                  <a:lnTo>
                    <a:pt x="235" y="71"/>
                  </a:lnTo>
                  <a:lnTo>
                    <a:pt x="215" y="71"/>
                  </a:lnTo>
                  <a:lnTo>
                    <a:pt x="195" y="70"/>
                  </a:lnTo>
                  <a:lnTo>
                    <a:pt x="175" y="69"/>
                  </a:lnTo>
                  <a:lnTo>
                    <a:pt x="158" y="67"/>
                  </a:lnTo>
                  <a:lnTo>
                    <a:pt x="143" y="63"/>
                  </a:lnTo>
                  <a:lnTo>
                    <a:pt x="129" y="60"/>
                  </a:lnTo>
                  <a:lnTo>
                    <a:pt x="117" y="55"/>
                  </a:lnTo>
                  <a:lnTo>
                    <a:pt x="108" y="49"/>
                  </a:lnTo>
                  <a:close/>
                </a:path>
              </a:pathLst>
            </a:custGeom>
            <a:solidFill>
              <a:srgbClr val="ff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H="1">
              <a:off x="2158200" y="4681800"/>
              <a:ext cx="414360" cy="77760"/>
            </a:xfrm>
            <a:custGeom>
              <a:avLst/>
              <a:gdLst/>
              <a:ahLst/>
              <a:rect l="l" t="t" r="r" b="b"/>
              <a:pathLst>
                <a:path w="521" h="98">
                  <a:moveTo>
                    <a:pt x="75" y="65"/>
                  </a:moveTo>
                  <a:lnTo>
                    <a:pt x="69" y="62"/>
                  </a:lnTo>
                  <a:lnTo>
                    <a:pt x="62" y="59"/>
                  </a:lnTo>
                  <a:lnTo>
                    <a:pt x="57" y="57"/>
                  </a:lnTo>
                  <a:lnTo>
                    <a:pt x="50" y="53"/>
                  </a:lnTo>
                  <a:lnTo>
                    <a:pt x="44" y="50"/>
                  </a:lnTo>
                  <a:lnTo>
                    <a:pt x="39" y="45"/>
                  </a:lnTo>
                  <a:lnTo>
                    <a:pt x="34" y="41"/>
                  </a:lnTo>
                  <a:lnTo>
                    <a:pt x="30" y="36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20" y="37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1"/>
                  </a:lnTo>
                  <a:lnTo>
                    <a:pt x="21" y="54"/>
                  </a:lnTo>
                  <a:lnTo>
                    <a:pt x="15" y="54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4"/>
                  </a:lnTo>
                  <a:lnTo>
                    <a:pt x="4" y="0"/>
                  </a:lnTo>
                  <a:lnTo>
                    <a:pt x="521" y="79"/>
                  </a:lnTo>
                  <a:lnTo>
                    <a:pt x="511" y="80"/>
                  </a:lnTo>
                  <a:lnTo>
                    <a:pt x="499" y="81"/>
                  </a:lnTo>
                  <a:lnTo>
                    <a:pt x="486" y="83"/>
                  </a:lnTo>
                  <a:lnTo>
                    <a:pt x="475" y="84"/>
                  </a:lnTo>
                  <a:lnTo>
                    <a:pt x="461" y="85"/>
                  </a:lnTo>
                  <a:lnTo>
                    <a:pt x="448" y="87"/>
                  </a:lnTo>
                  <a:lnTo>
                    <a:pt x="433" y="89"/>
                  </a:lnTo>
                  <a:lnTo>
                    <a:pt x="420" y="90"/>
                  </a:lnTo>
                  <a:lnTo>
                    <a:pt x="405" y="91"/>
                  </a:lnTo>
                  <a:lnTo>
                    <a:pt x="391" y="92"/>
                  </a:lnTo>
                  <a:lnTo>
                    <a:pt x="376" y="94"/>
                  </a:lnTo>
                  <a:lnTo>
                    <a:pt x="360" y="95"/>
                  </a:lnTo>
                  <a:lnTo>
                    <a:pt x="345" y="96"/>
                  </a:lnTo>
                  <a:lnTo>
                    <a:pt x="330" y="97"/>
                  </a:lnTo>
                  <a:lnTo>
                    <a:pt x="314" y="98"/>
                  </a:lnTo>
                  <a:lnTo>
                    <a:pt x="299" y="98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ffd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 flipH="1">
              <a:off x="2118600" y="4662720"/>
              <a:ext cx="453960" cy="90360"/>
            </a:xfrm>
            <a:custGeom>
              <a:avLst/>
              <a:gdLst/>
              <a:ahLst/>
              <a:rect l="l" t="t" r="r" b="b"/>
              <a:pathLst>
                <a:path w="573" h="114">
                  <a:moveTo>
                    <a:pt x="15" y="0"/>
                  </a:moveTo>
                  <a:lnTo>
                    <a:pt x="8" y="13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1" y="51"/>
                  </a:lnTo>
                  <a:lnTo>
                    <a:pt x="418" y="114"/>
                  </a:lnTo>
                  <a:lnTo>
                    <a:pt x="443" y="112"/>
                  </a:lnTo>
                  <a:lnTo>
                    <a:pt x="465" y="109"/>
                  </a:lnTo>
                  <a:lnTo>
                    <a:pt x="485" y="106"/>
                  </a:lnTo>
                  <a:lnTo>
                    <a:pt x="505" y="104"/>
                  </a:lnTo>
                  <a:lnTo>
                    <a:pt x="523" y="103"/>
                  </a:lnTo>
                  <a:lnTo>
                    <a:pt x="538" y="100"/>
                  </a:lnTo>
                  <a:lnTo>
                    <a:pt x="552" y="99"/>
                  </a:lnTo>
                  <a:lnTo>
                    <a:pt x="564" y="98"/>
                  </a:lnTo>
                  <a:lnTo>
                    <a:pt x="567" y="95"/>
                  </a:lnTo>
                  <a:lnTo>
                    <a:pt x="569" y="91"/>
                  </a:lnTo>
                  <a:lnTo>
                    <a:pt x="571" y="88"/>
                  </a:lnTo>
                  <a:lnTo>
                    <a:pt x="573" y="8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 flipH="1">
              <a:off x="2115360" y="4643640"/>
              <a:ext cx="453960" cy="100080"/>
            </a:xfrm>
            <a:custGeom>
              <a:avLst/>
              <a:gdLst/>
              <a:ahLst/>
              <a:rect l="l" t="t" r="r" b="b"/>
              <a:pathLst>
                <a:path w="571" h="126">
                  <a:moveTo>
                    <a:pt x="26" y="0"/>
                  </a:moveTo>
                  <a:lnTo>
                    <a:pt x="17" y="11"/>
                  </a:lnTo>
                  <a:lnTo>
                    <a:pt x="10" y="24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517" y="126"/>
                  </a:lnTo>
                  <a:lnTo>
                    <a:pt x="524" y="124"/>
                  </a:lnTo>
                  <a:lnTo>
                    <a:pt x="530" y="124"/>
                  </a:lnTo>
                  <a:lnTo>
                    <a:pt x="537" y="123"/>
                  </a:lnTo>
                  <a:lnTo>
                    <a:pt x="542" y="123"/>
                  </a:lnTo>
                  <a:lnTo>
                    <a:pt x="547" y="123"/>
                  </a:lnTo>
                  <a:lnTo>
                    <a:pt x="552" y="122"/>
                  </a:lnTo>
                  <a:lnTo>
                    <a:pt x="556" y="122"/>
                  </a:lnTo>
                  <a:lnTo>
                    <a:pt x="560" y="121"/>
                  </a:lnTo>
                  <a:lnTo>
                    <a:pt x="563" y="118"/>
                  </a:lnTo>
                  <a:lnTo>
                    <a:pt x="567" y="114"/>
                  </a:lnTo>
                  <a:lnTo>
                    <a:pt x="569" y="109"/>
                  </a:lnTo>
                  <a:lnTo>
                    <a:pt x="571" y="105"/>
                  </a:lnTo>
                  <a:lnTo>
                    <a:pt x="567" y="98"/>
                  </a:lnTo>
                  <a:lnTo>
                    <a:pt x="562" y="91"/>
                  </a:lnTo>
                  <a:lnTo>
                    <a:pt x="558" y="85"/>
                  </a:lnTo>
                  <a:lnTo>
                    <a:pt x="555" y="7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 flipH="1">
              <a:off x="2115360" y="4624560"/>
              <a:ext cx="444600" cy="104760"/>
            </a:xfrm>
            <a:custGeom>
              <a:avLst/>
              <a:gdLst/>
              <a:ahLst/>
              <a:rect l="l" t="t" r="r" b="b"/>
              <a:pathLst>
                <a:path w="560" h="131">
                  <a:moveTo>
                    <a:pt x="27" y="0"/>
                  </a:moveTo>
                  <a:lnTo>
                    <a:pt x="21" y="12"/>
                  </a:lnTo>
                  <a:lnTo>
                    <a:pt x="14" y="24"/>
                  </a:lnTo>
                  <a:lnTo>
                    <a:pt x="7" y="35"/>
                  </a:lnTo>
                  <a:lnTo>
                    <a:pt x="0" y="47"/>
                  </a:lnTo>
                  <a:lnTo>
                    <a:pt x="558" y="131"/>
                  </a:lnTo>
                  <a:lnTo>
                    <a:pt x="559" y="131"/>
                  </a:lnTo>
                  <a:lnTo>
                    <a:pt x="560" y="130"/>
                  </a:lnTo>
                  <a:lnTo>
                    <a:pt x="560" y="129"/>
                  </a:lnTo>
                  <a:lnTo>
                    <a:pt x="560" y="129"/>
                  </a:lnTo>
                  <a:lnTo>
                    <a:pt x="550" y="112"/>
                  </a:lnTo>
                  <a:lnTo>
                    <a:pt x="542" y="98"/>
                  </a:lnTo>
                  <a:lnTo>
                    <a:pt x="534" y="85"/>
                  </a:lnTo>
                  <a:lnTo>
                    <a:pt x="527" y="7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 flipH="1">
              <a:off x="2127960" y="4604040"/>
              <a:ext cx="420840" cy="101520"/>
            </a:xfrm>
            <a:custGeom>
              <a:avLst/>
              <a:gdLst/>
              <a:ahLst/>
              <a:rect l="l" t="t" r="r" b="b"/>
              <a:pathLst>
                <a:path w="529" h="129">
                  <a:moveTo>
                    <a:pt x="23" y="0"/>
                  </a:moveTo>
                  <a:lnTo>
                    <a:pt x="17" y="14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529" y="129"/>
                  </a:lnTo>
                  <a:lnTo>
                    <a:pt x="524" y="121"/>
                  </a:lnTo>
                  <a:lnTo>
                    <a:pt x="520" y="113"/>
                  </a:lnTo>
                  <a:lnTo>
                    <a:pt x="515" y="105"/>
                  </a:lnTo>
                  <a:lnTo>
                    <a:pt x="511" y="98"/>
                  </a:lnTo>
                  <a:lnTo>
                    <a:pt x="507" y="92"/>
                  </a:lnTo>
                  <a:lnTo>
                    <a:pt x="501" y="86"/>
                  </a:lnTo>
                  <a:lnTo>
                    <a:pt x="496" y="79"/>
                  </a:lnTo>
                  <a:lnTo>
                    <a:pt x="489" y="7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 flipH="1">
              <a:off x="2142360" y="4586400"/>
              <a:ext cx="397080" cy="96840"/>
            </a:xfrm>
            <a:custGeom>
              <a:avLst/>
              <a:gdLst/>
              <a:ahLst/>
              <a:rect l="l" t="t" r="r" b="b"/>
              <a:pathLst>
                <a:path w="500" h="123">
                  <a:moveTo>
                    <a:pt x="0" y="49"/>
                  </a:moveTo>
                  <a:lnTo>
                    <a:pt x="5" y="37"/>
                  </a:lnTo>
                  <a:lnTo>
                    <a:pt x="10" y="26"/>
                  </a:lnTo>
                  <a:lnTo>
                    <a:pt x="15" y="14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26" y="11"/>
                  </a:lnTo>
                  <a:lnTo>
                    <a:pt x="28" y="15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8" y="21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3" y="17"/>
                  </a:lnTo>
                  <a:lnTo>
                    <a:pt x="45" y="12"/>
                  </a:lnTo>
                  <a:lnTo>
                    <a:pt x="45" y="6"/>
                  </a:lnTo>
                  <a:lnTo>
                    <a:pt x="45" y="0"/>
                  </a:lnTo>
                  <a:lnTo>
                    <a:pt x="428" y="60"/>
                  </a:lnTo>
                  <a:lnTo>
                    <a:pt x="429" y="61"/>
                  </a:lnTo>
                  <a:lnTo>
                    <a:pt x="431" y="63"/>
                  </a:lnTo>
                  <a:lnTo>
                    <a:pt x="432" y="64"/>
                  </a:lnTo>
                  <a:lnTo>
                    <a:pt x="433" y="65"/>
                  </a:lnTo>
                  <a:lnTo>
                    <a:pt x="448" y="74"/>
                  </a:lnTo>
                  <a:lnTo>
                    <a:pt x="461" y="82"/>
                  </a:lnTo>
                  <a:lnTo>
                    <a:pt x="470" y="89"/>
                  </a:lnTo>
                  <a:lnTo>
                    <a:pt x="479" y="96"/>
                  </a:lnTo>
                  <a:lnTo>
                    <a:pt x="485" y="103"/>
                  </a:lnTo>
                  <a:lnTo>
                    <a:pt x="491" y="110"/>
                  </a:lnTo>
                  <a:lnTo>
                    <a:pt x="495" y="116"/>
                  </a:lnTo>
                  <a:lnTo>
                    <a:pt x="500" y="12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H="1">
              <a:off x="2162880" y="4565880"/>
              <a:ext cx="366840" cy="93600"/>
            </a:xfrm>
            <a:custGeom>
              <a:avLst/>
              <a:gdLst/>
              <a:ahLst/>
              <a:rect l="l" t="t" r="r" b="b"/>
              <a:pathLst>
                <a:path w="463" h="119">
                  <a:moveTo>
                    <a:pt x="0" y="47"/>
                  </a:move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5"/>
                  </a:lnTo>
                  <a:lnTo>
                    <a:pt x="11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7"/>
                  </a:lnTo>
                  <a:lnTo>
                    <a:pt x="32" y="36"/>
                  </a:lnTo>
                  <a:lnTo>
                    <a:pt x="34" y="23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401" y="56"/>
                  </a:lnTo>
                  <a:lnTo>
                    <a:pt x="405" y="66"/>
                  </a:lnTo>
                  <a:lnTo>
                    <a:pt x="410" y="75"/>
                  </a:lnTo>
                  <a:lnTo>
                    <a:pt x="415" y="83"/>
                  </a:lnTo>
                  <a:lnTo>
                    <a:pt x="422" y="90"/>
                  </a:lnTo>
                  <a:lnTo>
                    <a:pt x="429" y="95"/>
                  </a:lnTo>
                  <a:lnTo>
                    <a:pt x="436" y="98"/>
                  </a:lnTo>
                  <a:lnTo>
                    <a:pt x="440" y="103"/>
                  </a:lnTo>
                  <a:lnTo>
                    <a:pt x="446" y="106"/>
                  </a:lnTo>
                  <a:lnTo>
                    <a:pt x="451" y="108"/>
                  </a:lnTo>
                  <a:lnTo>
                    <a:pt x="455" y="112"/>
                  </a:lnTo>
                  <a:lnTo>
                    <a:pt x="460" y="115"/>
                  </a:lnTo>
                  <a:lnTo>
                    <a:pt x="463" y="11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H="1">
              <a:off x="2199600" y="4545000"/>
              <a:ext cx="306360" cy="88920"/>
            </a:xfrm>
            <a:custGeom>
              <a:avLst/>
              <a:gdLst/>
              <a:ahLst/>
              <a:rect l="l" t="t" r="r" b="b"/>
              <a:pathLst>
                <a:path w="386" h="111">
                  <a:moveTo>
                    <a:pt x="0" y="0"/>
                  </a:moveTo>
                  <a:lnTo>
                    <a:pt x="1" y="13"/>
                  </a:lnTo>
                  <a:lnTo>
                    <a:pt x="3" y="27"/>
                  </a:lnTo>
                  <a:lnTo>
                    <a:pt x="3" y="39"/>
                  </a:lnTo>
                  <a:lnTo>
                    <a:pt x="3" y="51"/>
                  </a:lnTo>
                  <a:lnTo>
                    <a:pt x="386" y="111"/>
                  </a:lnTo>
                  <a:lnTo>
                    <a:pt x="377" y="99"/>
                  </a:lnTo>
                  <a:lnTo>
                    <a:pt x="370" y="84"/>
                  </a:lnTo>
                  <a:lnTo>
                    <a:pt x="364" y="69"/>
                  </a:lnTo>
                  <a:lnTo>
                    <a:pt x="3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 flipH="1">
              <a:off x="2212920" y="4524480"/>
              <a:ext cx="295200" cy="85680"/>
            </a:xfrm>
            <a:custGeom>
              <a:avLst/>
              <a:gdLst/>
              <a:ahLst/>
              <a:rect l="l" t="t" r="r" b="b"/>
              <a:pathLst>
                <a:path w="372" h="109">
                  <a:moveTo>
                    <a:pt x="0" y="0"/>
                  </a:moveTo>
                  <a:lnTo>
                    <a:pt x="1" y="14"/>
                  </a:lnTo>
                  <a:lnTo>
                    <a:pt x="3" y="28"/>
                  </a:lnTo>
                  <a:lnTo>
                    <a:pt x="5" y="40"/>
                  </a:lnTo>
                  <a:lnTo>
                    <a:pt x="5" y="53"/>
                  </a:lnTo>
                  <a:lnTo>
                    <a:pt x="372" y="109"/>
                  </a:lnTo>
                  <a:lnTo>
                    <a:pt x="366" y="96"/>
                  </a:lnTo>
                  <a:lnTo>
                    <a:pt x="361" y="82"/>
                  </a:lnTo>
                  <a:lnTo>
                    <a:pt x="355" y="68"/>
                  </a:lnTo>
                  <a:lnTo>
                    <a:pt x="35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 flipH="1">
              <a:off x="2222640" y="4503960"/>
              <a:ext cx="287280" cy="83880"/>
            </a:xfrm>
            <a:custGeom>
              <a:avLst/>
              <a:gdLst/>
              <a:ahLst/>
              <a:rect l="l" t="t" r="r" b="b"/>
              <a:pathLst>
                <a:path w="363" h="107">
                  <a:moveTo>
                    <a:pt x="0" y="0"/>
                  </a:moveTo>
                  <a:lnTo>
                    <a:pt x="1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4" y="52"/>
                  </a:lnTo>
                  <a:lnTo>
                    <a:pt x="363" y="107"/>
                  </a:lnTo>
                  <a:lnTo>
                    <a:pt x="357" y="91"/>
                  </a:lnTo>
                  <a:lnTo>
                    <a:pt x="351" y="75"/>
                  </a:lnTo>
                  <a:lnTo>
                    <a:pt x="344" y="61"/>
                  </a:lnTo>
                  <a:lnTo>
                    <a:pt x="33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H="1">
              <a:off x="2230560" y="4483080"/>
              <a:ext cx="280800" cy="84240"/>
            </a:xfrm>
            <a:custGeom>
              <a:avLst/>
              <a:gdLst/>
              <a:ahLst/>
              <a:rect l="l" t="t" r="r" b="b"/>
              <a:pathLst>
                <a:path w="355" h="107">
                  <a:moveTo>
                    <a:pt x="0" y="0"/>
                  </a:moveTo>
                  <a:lnTo>
                    <a:pt x="2" y="13"/>
                  </a:lnTo>
                  <a:lnTo>
                    <a:pt x="4" y="26"/>
                  </a:lnTo>
                  <a:lnTo>
                    <a:pt x="5" y="39"/>
                  </a:lnTo>
                  <a:lnTo>
                    <a:pt x="5" y="52"/>
                  </a:lnTo>
                  <a:lnTo>
                    <a:pt x="355" y="107"/>
                  </a:lnTo>
                  <a:lnTo>
                    <a:pt x="352" y="96"/>
                  </a:lnTo>
                  <a:lnTo>
                    <a:pt x="346" y="85"/>
                  </a:lnTo>
                  <a:lnTo>
                    <a:pt x="340" y="77"/>
                  </a:lnTo>
                  <a:lnTo>
                    <a:pt x="332" y="72"/>
                  </a:lnTo>
                  <a:lnTo>
                    <a:pt x="332" y="66"/>
                  </a:lnTo>
                  <a:lnTo>
                    <a:pt x="332" y="60"/>
                  </a:lnTo>
                  <a:lnTo>
                    <a:pt x="331" y="55"/>
                  </a:lnTo>
                  <a:lnTo>
                    <a:pt x="33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H="1">
              <a:off x="2243160" y="4461120"/>
              <a:ext cx="270000" cy="82440"/>
            </a:xfrm>
            <a:custGeom>
              <a:avLst/>
              <a:gdLst/>
              <a:ahLst/>
              <a:rect l="l" t="t" r="r" b="b"/>
              <a:pathLst>
                <a:path w="341" h="102">
                  <a:moveTo>
                    <a:pt x="0" y="0"/>
                  </a:moveTo>
                  <a:lnTo>
                    <a:pt x="0" y="12"/>
                  </a:lnTo>
                  <a:lnTo>
                    <a:pt x="1" y="26"/>
                  </a:lnTo>
                  <a:lnTo>
                    <a:pt x="4" y="39"/>
                  </a:lnTo>
                  <a:lnTo>
                    <a:pt x="5" y="53"/>
                  </a:lnTo>
                  <a:lnTo>
                    <a:pt x="341" y="102"/>
                  </a:lnTo>
                  <a:lnTo>
                    <a:pt x="340" y="101"/>
                  </a:lnTo>
                  <a:lnTo>
                    <a:pt x="338" y="99"/>
                  </a:lnTo>
                  <a:lnTo>
                    <a:pt x="337" y="98"/>
                  </a:lnTo>
                  <a:lnTo>
                    <a:pt x="334" y="98"/>
                  </a:lnTo>
                  <a:lnTo>
                    <a:pt x="334" y="88"/>
                  </a:lnTo>
                  <a:lnTo>
                    <a:pt x="333" y="79"/>
                  </a:lnTo>
                  <a:lnTo>
                    <a:pt x="332" y="71"/>
                  </a:lnTo>
                  <a:lnTo>
                    <a:pt x="332" y="62"/>
                  </a:lnTo>
                  <a:lnTo>
                    <a:pt x="326" y="60"/>
                  </a:lnTo>
                  <a:lnTo>
                    <a:pt x="320" y="58"/>
                  </a:lnTo>
                  <a:lnTo>
                    <a:pt x="316" y="56"/>
                  </a:lnTo>
                  <a:lnTo>
                    <a:pt x="310" y="53"/>
                  </a:lnTo>
                  <a:lnTo>
                    <a:pt x="310" y="50"/>
                  </a:lnTo>
                  <a:lnTo>
                    <a:pt x="309" y="48"/>
                  </a:lnTo>
                  <a:lnTo>
                    <a:pt x="308" y="47"/>
                  </a:lnTo>
                  <a:lnTo>
                    <a:pt x="308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H="1">
              <a:off x="2250360" y="4440240"/>
              <a:ext cx="266760" cy="81000"/>
            </a:xfrm>
            <a:custGeom>
              <a:avLst/>
              <a:gdLst/>
              <a:ahLst/>
              <a:rect l="l" t="t" r="r" b="b"/>
              <a:pathLst>
                <a:path w="337" h="103">
                  <a:moveTo>
                    <a:pt x="0" y="0"/>
                  </a:moveTo>
                  <a:lnTo>
                    <a:pt x="3" y="13"/>
                  </a:lnTo>
                  <a:lnTo>
                    <a:pt x="4" y="26"/>
                  </a:lnTo>
                  <a:lnTo>
                    <a:pt x="6" y="39"/>
                  </a:lnTo>
                  <a:lnTo>
                    <a:pt x="7" y="53"/>
                  </a:lnTo>
                  <a:lnTo>
                    <a:pt x="337" y="103"/>
                  </a:lnTo>
                  <a:lnTo>
                    <a:pt x="337" y="99"/>
                  </a:lnTo>
                  <a:lnTo>
                    <a:pt x="337" y="96"/>
                  </a:lnTo>
                  <a:lnTo>
                    <a:pt x="337" y="92"/>
                  </a:lnTo>
                  <a:lnTo>
                    <a:pt x="337" y="89"/>
                  </a:lnTo>
                  <a:lnTo>
                    <a:pt x="331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5" y="80"/>
                  </a:lnTo>
                  <a:lnTo>
                    <a:pt x="314" y="72"/>
                  </a:lnTo>
                  <a:lnTo>
                    <a:pt x="312" y="65"/>
                  </a:lnTo>
                  <a:lnTo>
                    <a:pt x="310" y="55"/>
                  </a:lnTo>
                  <a:lnTo>
                    <a:pt x="31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 flipH="1">
              <a:off x="2270160" y="4419720"/>
              <a:ext cx="247680" cy="77760"/>
            </a:xfrm>
            <a:custGeom>
              <a:avLst/>
              <a:gdLst/>
              <a:ahLst/>
              <a:rect l="l" t="t" r="r" b="b"/>
              <a:pathLst>
                <a:path w="313" h="97">
                  <a:moveTo>
                    <a:pt x="0" y="0"/>
                  </a:moveTo>
                  <a:lnTo>
                    <a:pt x="0" y="12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5" y="52"/>
                  </a:lnTo>
                  <a:lnTo>
                    <a:pt x="313" y="97"/>
                  </a:lnTo>
                  <a:lnTo>
                    <a:pt x="312" y="86"/>
                  </a:lnTo>
                  <a:lnTo>
                    <a:pt x="310" y="74"/>
                  </a:lnTo>
                  <a:lnTo>
                    <a:pt x="309" y="60"/>
                  </a:lnTo>
                  <a:lnTo>
                    <a:pt x="3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H="1">
              <a:off x="2271600" y="4397400"/>
              <a:ext cx="247680" cy="79560"/>
            </a:xfrm>
            <a:custGeom>
              <a:avLst/>
              <a:gdLst/>
              <a:ahLst/>
              <a:rect l="l" t="t" r="r" b="b"/>
              <a:pathLst>
                <a:path w="312" h="100">
                  <a:moveTo>
                    <a:pt x="0" y="0"/>
                  </a:moveTo>
                  <a:lnTo>
                    <a:pt x="0" y="14"/>
                  </a:lnTo>
                  <a:lnTo>
                    <a:pt x="1" y="26"/>
                  </a:lnTo>
                  <a:lnTo>
                    <a:pt x="2" y="40"/>
                  </a:lnTo>
                  <a:lnTo>
                    <a:pt x="2" y="54"/>
                  </a:lnTo>
                  <a:lnTo>
                    <a:pt x="312" y="100"/>
                  </a:lnTo>
                  <a:lnTo>
                    <a:pt x="311" y="89"/>
                  </a:lnTo>
                  <a:lnTo>
                    <a:pt x="311" y="75"/>
                  </a:lnTo>
                  <a:lnTo>
                    <a:pt x="312" y="62"/>
                  </a:lnTo>
                  <a:lnTo>
                    <a:pt x="312" y="47"/>
                  </a:lnTo>
                  <a:lnTo>
                    <a:pt x="228" y="36"/>
                  </a:lnTo>
                  <a:lnTo>
                    <a:pt x="228" y="38"/>
                  </a:lnTo>
                  <a:lnTo>
                    <a:pt x="225" y="38"/>
                  </a:lnTo>
                  <a:lnTo>
                    <a:pt x="221" y="38"/>
                  </a:lnTo>
                  <a:lnTo>
                    <a:pt x="218" y="38"/>
                  </a:lnTo>
                  <a:lnTo>
                    <a:pt x="214" y="38"/>
                  </a:lnTo>
                  <a:lnTo>
                    <a:pt x="214" y="38"/>
                  </a:lnTo>
                  <a:lnTo>
                    <a:pt x="214" y="37"/>
                  </a:lnTo>
                  <a:lnTo>
                    <a:pt x="214" y="35"/>
                  </a:lnTo>
                  <a:lnTo>
                    <a:pt x="214" y="33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49" y="22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1" y="24"/>
                  </a:lnTo>
                  <a:lnTo>
                    <a:pt x="38" y="22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H="1">
              <a:off x="2266200" y="4378320"/>
              <a:ext cx="252360" cy="77760"/>
            </a:xfrm>
            <a:custGeom>
              <a:avLst/>
              <a:gdLst/>
              <a:ahLst/>
              <a:rect l="l" t="t" r="r" b="b"/>
              <a:pathLst>
                <a:path w="317" h="98">
                  <a:moveTo>
                    <a:pt x="0" y="0"/>
                  </a:moveTo>
                  <a:lnTo>
                    <a:pt x="0" y="12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3"/>
                  </a:lnTo>
                  <a:lnTo>
                    <a:pt x="312" y="98"/>
                  </a:lnTo>
                  <a:lnTo>
                    <a:pt x="312" y="86"/>
                  </a:lnTo>
                  <a:lnTo>
                    <a:pt x="314" y="74"/>
                  </a:lnTo>
                  <a:lnTo>
                    <a:pt x="316" y="60"/>
                  </a:lnTo>
                  <a:lnTo>
                    <a:pt x="317" y="47"/>
                  </a:lnTo>
                  <a:lnTo>
                    <a:pt x="231" y="33"/>
                  </a:lnTo>
                  <a:lnTo>
                    <a:pt x="229" y="40"/>
                  </a:lnTo>
                  <a:lnTo>
                    <a:pt x="228" y="47"/>
                  </a:lnTo>
                  <a:lnTo>
                    <a:pt x="228" y="55"/>
                  </a:lnTo>
                  <a:lnTo>
                    <a:pt x="228" y="62"/>
                  </a:lnTo>
                  <a:lnTo>
                    <a:pt x="225" y="62"/>
                  </a:lnTo>
                  <a:lnTo>
                    <a:pt x="221" y="62"/>
                  </a:lnTo>
                  <a:lnTo>
                    <a:pt x="218" y="62"/>
                  </a:lnTo>
                  <a:lnTo>
                    <a:pt x="214" y="62"/>
                  </a:lnTo>
                  <a:lnTo>
                    <a:pt x="214" y="60"/>
                  </a:lnTo>
                  <a:lnTo>
                    <a:pt x="214" y="53"/>
                  </a:lnTo>
                  <a:lnTo>
                    <a:pt x="214" y="42"/>
                  </a:lnTo>
                  <a:lnTo>
                    <a:pt x="214" y="31"/>
                  </a:lnTo>
                  <a:lnTo>
                    <a:pt x="152" y="22"/>
                  </a:lnTo>
                  <a:lnTo>
                    <a:pt x="151" y="26"/>
                  </a:lnTo>
                  <a:lnTo>
                    <a:pt x="150" y="32"/>
                  </a:lnTo>
                  <a:lnTo>
                    <a:pt x="149" y="37"/>
                  </a:lnTo>
                  <a:lnTo>
                    <a:pt x="148" y="40"/>
                  </a:lnTo>
                  <a:lnTo>
                    <a:pt x="147" y="39"/>
                  </a:lnTo>
                  <a:lnTo>
                    <a:pt x="145" y="36"/>
                  </a:lnTo>
                  <a:lnTo>
                    <a:pt x="145" y="30"/>
                  </a:lnTo>
                  <a:lnTo>
                    <a:pt x="145" y="22"/>
                  </a:lnTo>
                  <a:lnTo>
                    <a:pt x="58" y="7"/>
                  </a:lnTo>
                  <a:lnTo>
                    <a:pt x="59" y="19"/>
                  </a:lnTo>
                  <a:lnTo>
                    <a:pt x="57" y="30"/>
                  </a:lnTo>
                  <a:lnTo>
                    <a:pt x="53" y="40"/>
                  </a:lnTo>
                  <a:lnTo>
                    <a:pt x="45" y="49"/>
                  </a:lnTo>
                  <a:lnTo>
                    <a:pt x="43" y="49"/>
                  </a:lnTo>
                  <a:lnTo>
                    <a:pt x="41" y="48"/>
                  </a:lnTo>
                  <a:lnTo>
                    <a:pt x="38" y="46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6" y="26"/>
                  </a:lnTo>
                  <a:lnTo>
                    <a:pt x="36" y="16"/>
                  </a:lnTo>
                  <a:lnTo>
                    <a:pt x="36" y="7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H="1">
              <a:off x="2490120" y="4375440"/>
              <a:ext cx="28440" cy="266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29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1" y="7"/>
                  </a:lnTo>
                  <a:lnTo>
                    <a:pt x="2" y="0"/>
                  </a:lnTo>
                  <a:lnTo>
                    <a:pt x="11" y="4"/>
                  </a:lnTo>
                  <a:lnTo>
                    <a:pt x="19" y="6"/>
                  </a:lnTo>
                  <a:lnTo>
                    <a:pt x="27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6" y="23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 flipH="1">
              <a:off x="2349360" y="4362480"/>
              <a:ext cx="131760" cy="61920"/>
            </a:xfrm>
            <a:custGeom>
              <a:avLst/>
              <a:gdLst/>
              <a:ahLst/>
              <a:rect l="l" t="t" r="r" b="b"/>
              <a:pathLst>
                <a:path w="167" h="77">
                  <a:moveTo>
                    <a:pt x="0" y="0"/>
                  </a:moveTo>
                  <a:lnTo>
                    <a:pt x="5" y="14"/>
                  </a:lnTo>
                  <a:lnTo>
                    <a:pt x="10" y="27"/>
                  </a:lnTo>
                  <a:lnTo>
                    <a:pt x="11" y="41"/>
                  </a:lnTo>
                  <a:lnTo>
                    <a:pt x="7" y="53"/>
                  </a:lnTo>
                  <a:lnTo>
                    <a:pt x="167" y="77"/>
                  </a:lnTo>
                  <a:lnTo>
                    <a:pt x="167" y="68"/>
                  </a:lnTo>
                  <a:lnTo>
                    <a:pt x="167" y="56"/>
                  </a:lnTo>
                  <a:lnTo>
                    <a:pt x="167" y="41"/>
                  </a:lnTo>
                  <a:lnTo>
                    <a:pt x="167" y="24"/>
                  </a:lnTo>
                  <a:lnTo>
                    <a:pt x="110" y="15"/>
                  </a:lnTo>
                  <a:lnTo>
                    <a:pt x="108" y="27"/>
                  </a:lnTo>
                  <a:lnTo>
                    <a:pt x="105" y="38"/>
                  </a:lnTo>
                  <a:lnTo>
                    <a:pt x="103" y="50"/>
                  </a:lnTo>
                  <a:lnTo>
                    <a:pt x="101" y="60"/>
                  </a:lnTo>
                  <a:lnTo>
                    <a:pt x="100" y="57"/>
                  </a:lnTo>
                  <a:lnTo>
                    <a:pt x="98" y="46"/>
                  </a:lnTo>
                  <a:lnTo>
                    <a:pt x="98" y="31"/>
                  </a:lnTo>
                  <a:lnTo>
                    <a:pt x="98" y="15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2"/>
                  </a:lnTo>
                  <a:lnTo>
                    <a:pt x="79" y="11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H="1">
              <a:off x="2264760" y="4383360"/>
              <a:ext cx="73080" cy="5220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6" y="0"/>
                  </a:moveTo>
                  <a:lnTo>
                    <a:pt x="4" y="12"/>
                  </a:lnTo>
                  <a:lnTo>
                    <a:pt x="1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84" y="64"/>
                  </a:lnTo>
                  <a:lnTo>
                    <a:pt x="87" y="52"/>
                  </a:lnTo>
                  <a:lnTo>
                    <a:pt x="88" y="39"/>
                  </a:lnTo>
                  <a:lnTo>
                    <a:pt x="90" y="27"/>
                  </a:lnTo>
                  <a:lnTo>
                    <a:pt x="91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 flipH="1">
              <a:off x="2503440" y="4375440"/>
              <a:ext cx="15840" cy="468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5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1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 flipH="1">
              <a:off x="2403360" y="4340520"/>
              <a:ext cx="84240" cy="554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0" y="0"/>
                  </a:moveTo>
                  <a:lnTo>
                    <a:pt x="2" y="13"/>
                  </a:lnTo>
                  <a:lnTo>
                    <a:pt x="6" y="27"/>
                  </a:lnTo>
                  <a:lnTo>
                    <a:pt x="12" y="41"/>
                  </a:lnTo>
                  <a:lnTo>
                    <a:pt x="17" y="54"/>
                  </a:lnTo>
                  <a:lnTo>
                    <a:pt x="104" y="69"/>
                  </a:lnTo>
                  <a:lnTo>
                    <a:pt x="104" y="56"/>
                  </a:lnTo>
                  <a:lnTo>
                    <a:pt x="104" y="42"/>
                  </a:lnTo>
                  <a:lnTo>
                    <a:pt x="104" y="28"/>
                  </a:lnTo>
                  <a:lnTo>
                    <a:pt x="104" y="16"/>
                  </a:lnTo>
                  <a:lnTo>
                    <a:pt x="95" y="13"/>
                  </a:lnTo>
                  <a:lnTo>
                    <a:pt x="94" y="19"/>
                  </a:lnTo>
                  <a:lnTo>
                    <a:pt x="92" y="24"/>
                  </a:lnTo>
                  <a:lnTo>
                    <a:pt x="91" y="31"/>
                  </a:lnTo>
                  <a:lnTo>
                    <a:pt x="91" y="38"/>
                  </a:lnTo>
                  <a:lnTo>
                    <a:pt x="88" y="38"/>
                  </a:lnTo>
                  <a:lnTo>
                    <a:pt x="87" y="39"/>
                  </a:lnTo>
                  <a:lnTo>
                    <a:pt x="86" y="40"/>
                  </a:lnTo>
                  <a:lnTo>
                    <a:pt x="85" y="40"/>
                  </a:lnTo>
                  <a:lnTo>
                    <a:pt x="85" y="33"/>
                  </a:lnTo>
                  <a:lnTo>
                    <a:pt x="85" y="26"/>
                  </a:lnTo>
                  <a:lnTo>
                    <a:pt x="85" y="19"/>
                  </a:lnTo>
                  <a:lnTo>
                    <a:pt x="85" y="13"/>
                  </a:lnTo>
                  <a:lnTo>
                    <a:pt x="64" y="9"/>
                  </a:lnTo>
                  <a:lnTo>
                    <a:pt x="61" y="18"/>
                  </a:lnTo>
                  <a:lnTo>
                    <a:pt x="58" y="26"/>
                  </a:lnTo>
                  <a:lnTo>
                    <a:pt x="57" y="34"/>
                  </a:lnTo>
                  <a:lnTo>
                    <a:pt x="55" y="40"/>
                  </a:lnTo>
                  <a:lnTo>
                    <a:pt x="54" y="32"/>
                  </a:lnTo>
                  <a:lnTo>
                    <a:pt x="53" y="24"/>
                  </a:lnTo>
                  <a:lnTo>
                    <a:pt x="53" y="16"/>
                  </a:lnTo>
                  <a:lnTo>
                    <a:pt x="5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 flipH="1">
              <a:off x="2347200" y="4354560"/>
              <a:ext cx="50760" cy="4752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13" y="0"/>
                  </a:moveTo>
                  <a:lnTo>
                    <a:pt x="9" y="13"/>
                  </a:lnTo>
                  <a:lnTo>
                    <a:pt x="6" y="25"/>
                  </a:lnTo>
                  <a:lnTo>
                    <a:pt x="4" y="38"/>
                  </a:lnTo>
                  <a:lnTo>
                    <a:pt x="0" y="51"/>
                  </a:lnTo>
                  <a:lnTo>
                    <a:pt x="62" y="60"/>
                  </a:lnTo>
                  <a:lnTo>
                    <a:pt x="62" y="47"/>
                  </a:lnTo>
                  <a:lnTo>
                    <a:pt x="62" y="33"/>
                  </a:lnTo>
                  <a:lnTo>
                    <a:pt x="64" y="20"/>
                  </a:lnTo>
                  <a:lnTo>
                    <a:pt x="65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H="1">
              <a:off x="2261520" y="4362480"/>
              <a:ext cx="74520" cy="54000"/>
            </a:xfrm>
            <a:custGeom>
              <a:avLst/>
              <a:gdLst/>
              <a:ahLst/>
              <a:rect l="l" t="t" r="r" b="b"/>
              <a:pathLst>
                <a:path w="93" h="67">
                  <a:moveTo>
                    <a:pt x="5" y="0"/>
                  </a:moveTo>
                  <a:lnTo>
                    <a:pt x="3" y="14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86" y="67"/>
                  </a:lnTo>
                  <a:lnTo>
                    <a:pt x="88" y="54"/>
                  </a:lnTo>
                  <a:lnTo>
                    <a:pt x="89" y="41"/>
                  </a:lnTo>
                  <a:lnTo>
                    <a:pt x="92" y="28"/>
                  </a:lnTo>
                  <a:lnTo>
                    <a:pt x="93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 flipH="1">
              <a:off x="2443320" y="431964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1" y="13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1" y="54"/>
                  </a:lnTo>
                  <a:lnTo>
                    <a:pt x="60" y="60"/>
                  </a:lnTo>
                  <a:lnTo>
                    <a:pt x="59" y="47"/>
                  </a:lnTo>
                  <a:lnTo>
                    <a:pt x="59" y="35"/>
                  </a:lnTo>
                  <a:lnTo>
                    <a:pt x="59" y="21"/>
                  </a:lnTo>
                  <a:lnTo>
                    <a:pt x="6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 flipH="1">
              <a:off x="2419200" y="4329360"/>
              <a:ext cx="22320" cy="41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2" y="0"/>
                  </a:moveTo>
                  <a:lnTo>
                    <a:pt x="9" y="12"/>
                  </a:lnTo>
                  <a:lnTo>
                    <a:pt x="6" y="26"/>
                  </a:lnTo>
                  <a:lnTo>
                    <a:pt x="2" y="39"/>
                  </a:lnTo>
                  <a:lnTo>
                    <a:pt x="0" y="50"/>
                  </a:lnTo>
                  <a:lnTo>
                    <a:pt x="28" y="53"/>
                  </a:lnTo>
                  <a:lnTo>
                    <a:pt x="28" y="40"/>
                  </a:lnTo>
                  <a:lnTo>
                    <a:pt x="29" y="27"/>
                  </a:lnTo>
                  <a:lnTo>
                    <a:pt x="29" y="15"/>
                  </a:lnTo>
                  <a:lnTo>
                    <a:pt x="2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H="1">
              <a:off x="2403360" y="4332240"/>
              <a:ext cx="12960" cy="432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0" y="51"/>
                  </a:moveTo>
                  <a:lnTo>
                    <a:pt x="0" y="50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4" y="35"/>
                  </a:lnTo>
                  <a:lnTo>
                    <a:pt x="7" y="23"/>
                  </a:lnTo>
                  <a:lnTo>
                    <a:pt x="12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22"/>
                  </a:lnTo>
                  <a:lnTo>
                    <a:pt x="16" y="37"/>
                  </a:lnTo>
                  <a:lnTo>
                    <a:pt x="16" y="53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H="1">
              <a:off x="2347920" y="4337280"/>
              <a:ext cx="47520" cy="4428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0" y="47"/>
                  </a:moveTo>
                  <a:lnTo>
                    <a:pt x="3" y="36"/>
                  </a:lnTo>
                  <a:lnTo>
                    <a:pt x="7" y="24"/>
                  </a:lnTo>
                  <a:lnTo>
                    <a:pt x="9" y="1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60" y="5"/>
                  </a:lnTo>
                  <a:lnTo>
                    <a:pt x="60" y="15"/>
                  </a:lnTo>
                  <a:lnTo>
                    <a:pt x="60" y="28"/>
                  </a:lnTo>
                  <a:lnTo>
                    <a:pt x="59" y="43"/>
                  </a:lnTo>
                  <a:lnTo>
                    <a:pt x="57" y="5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 flipH="1">
              <a:off x="2258280" y="4345200"/>
              <a:ext cx="74520" cy="50760"/>
            </a:xfrm>
            <a:custGeom>
              <a:avLst/>
              <a:gdLst/>
              <a:ahLst/>
              <a:rect l="l" t="t" r="r" b="b"/>
              <a:pathLst>
                <a:path w="95" h="65">
                  <a:moveTo>
                    <a:pt x="5" y="0"/>
                  </a:moveTo>
                  <a:lnTo>
                    <a:pt x="4" y="13"/>
                  </a:lnTo>
                  <a:lnTo>
                    <a:pt x="1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85" y="65"/>
                  </a:lnTo>
                  <a:lnTo>
                    <a:pt x="88" y="52"/>
                  </a:lnTo>
                  <a:lnTo>
                    <a:pt x="90" y="39"/>
                  </a:lnTo>
                  <a:lnTo>
                    <a:pt x="92" y="26"/>
                  </a:lnTo>
                  <a:lnTo>
                    <a:pt x="95" y="12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5" y="16"/>
                  </a:lnTo>
                  <a:lnTo>
                    <a:pt x="74" y="19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9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H="1">
              <a:off x="2441520" y="4300560"/>
              <a:ext cx="47520" cy="460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" y="51"/>
                  </a:moveTo>
                  <a:lnTo>
                    <a:pt x="1" y="4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1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61" y="7"/>
                  </a:lnTo>
                  <a:lnTo>
                    <a:pt x="60" y="19"/>
                  </a:lnTo>
                  <a:lnTo>
                    <a:pt x="58" y="32"/>
                  </a:lnTo>
                  <a:lnTo>
                    <a:pt x="57" y="45"/>
                  </a:lnTo>
                  <a:lnTo>
                    <a:pt x="57" y="57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H="1">
              <a:off x="2417040" y="4308480"/>
              <a:ext cx="17640" cy="428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0"/>
                  </a:moveTo>
                  <a:lnTo>
                    <a:pt x="3" y="36"/>
                  </a:lnTo>
                  <a:lnTo>
                    <a:pt x="7" y="23"/>
                  </a:lnTo>
                  <a:lnTo>
                    <a:pt x="9" y="11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2" y="24"/>
                  </a:lnTo>
                  <a:lnTo>
                    <a:pt x="23" y="38"/>
                  </a:lnTo>
                  <a:lnTo>
                    <a:pt x="21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H="1">
              <a:off x="2403360" y="4329360"/>
              <a:ext cx="792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28"/>
                  </a:moveTo>
                  <a:lnTo>
                    <a:pt x="2" y="21"/>
                  </a:lnTo>
                  <a:lnTo>
                    <a:pt x="4" y="15"/>
                  </a:lnTo>
                  <a:lnTo>
                    <a:pt x="6" y="8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10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 flipH="1">
              <a:off x="2347200" y="433404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0" y="27"/>
                  </a:move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2" y="5"/>
                  </a:lnTo>
                  <a:lnTo>
                    <a:pt x="52" y="12"/>
                  </a:lnTo>
                  <a:lnTo>
                    <a:pt x="52" y="22"/>
                  </a:lnTo>
                  <a:lnTo>
                    <a:pt x="52" y="3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 flipH="1">
              <a:off x="2254320" y="4329360"/>
              <a:ext cx="77760" cy="4608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0" y="41"/>
                  </a:moveTo>
                  <a:lnTo>
                    <a:pt x="0" y="32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3" y="5"/>
                  </a:lnTo>
                  <a:lnTo>
                    <a:pt x="11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0" y="10"/>
                  </a:lnTo>
                  <a:lnTo>
                    <a:pt x="59" y="19"/>
                  </a:lnTo>
                  <a:lnTo>
                    <a:pt x="58" y="27"/>
                  </a:lnTo>
                  <a:lnTo>
                    <a:pt x="57" y="34"/>
                  </a:lnTo>
                  <a:lnTo>
                    <a:pt x="60" y="35"/>
                  </a:lnTo>
                  <a:lnTo>
                    <a:pt x="64" y="37"/>
                  </a:lnTo>
                  <a:lnTo>
                    <a:pt x="67" y="37"/>
                  </a:lnTo>
                  <a:lnTo>
                    <a:pt x="72" y="37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6" y="10"/>
                  </a:lnTo>
                  <a:lnTo>
                    <a:pt x="76" y="1"/>
                  </a:lnTo>
                  <a:lnTo>
                    <a:pt x="97" y="5"/>
                  </a:lnTo>
                  <a:lnTo>
                    <a:pt x="95" y="18"/>
                  </a:lnTo>
                  <a:lnTo>
                    <a:pt x="93" y="31"/>
                  </a:lnTo>
                  <a:lnTo>
                    <a:pt x="90" y="44"/>
                  </a:lnTo>
                  <a:lnTo>
                    <a:pt x="88" y="5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 flipH="1">
              <a:off x="2440800" y="429264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0" y="33"/>
                  </a:moveTo>
                  <a:lnTo>
                    <a:pt x="1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60" y="31"/>
                  </a:lnTo>
                  <a:lnTo>
                    <a:pt x="60" y="4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 flipH="1">
              <a:off x="2419200" y="430848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6"/>
                  </a:moveTo>
                  <a:lnTo>
                    <a:pt x="2" y="19"/>
                  </a:lnTo>
                  <a:lnTo>
                    <a:pt x="3" y="12"/>
                  </a:lnTo>
                  <a:lnTo>
                    <a:pt x="5" y="6"/>
                  </a:lnTo>
                  <a:lnTo>
                    <a:pt x="7" y="0"/>
                  </a:lnTo>
                  <a:lnTo>
                    <a:pt x="10" y="6"/>
                  </a:lnTo>
                  <a:lnTo>
                    <a:pt x="13" y="12"/>
                  </a:lnTo>
                  <a:lnTo>
                    <a:pt x="15" y="20"/>
                  </a:lnTo>
                  <a:lnTo>
                    <a:pt x="16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 flipH="1">
              <a:off x="2401920" y="4329360"/>
              <a:ext cx="1440" cy="28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flipH="1">
              <a:off x="2347920" y="4334040"/>
              <a:ext cx="30240" cy="648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4"/>
                  </a:moveTo>
                  <a:lnTo>
                    <a:pt x="4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8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 flipH="1">
              <a:off x="2282760" y="4329360"/>
              <a:ext cx="47520" cy="205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18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8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57" y="7"/>
                  </a:lnTo>
                  <a:lnTo>
                    <a:pt x="56" y="14"/>
                  </a:lnTo>
                  <a:lnTo>
                    <a:pt x="55" y="19"/>
                  </a:lnTo>
                  <a:lnTo>
                    <a:pt x="54" y="2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 flipH="1">
              <a:off x="2251080" y="431172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5" y="0"/>
                  </a:moveTo>
                  <a:lnTo>
                    <a:pt x="5" y="13"/>
                  </a:lnTo>
                  <a:lnTo>
                    <a:pt x="4" y="24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19" y="52"/>
                  </a:lnTo>
                  <a:lnTo>
                    <a:pt x="21" y="39"/>
                  </a:lnTo>
                  <a:lnTo>
                    <a:pt x="23" y="26"/>
                  </a:lnTo>
                  <a:lnTo>
                    <a:pt x="27" y="15"/>
                  </a:lnTo>
                  <a:lnTo>
                    <a:pt x="29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 flipH="1">
              <a:off x="2441520" y="4292640"/>
              <a:ext cx="2880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1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36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 flipH="1">
              <a:off x="2246400" y="4291200"/>
              <a:ext cx="25200" cy="4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5" y="0"/>
                  </a:moveTo>
                  <a:lnTo>
                    <a:pt x="5" y="13"/>
                  </a:lnTo>
                  <a:lnTo>
                    <a:pt x="4" y="25"/>
                  </a:lnTo>
                  <a:lnTo>
                    <a:pt x="2" y="37"/>
                  </a:lnTo>
                  <a:lnTo>
                    <a:pt x="0" y="50"/>
                  </a:lnTo>
                  <a:lnTo>
                    <a:pt x="21" y="54"/>
                  </a:lnTo>
                  <a:lnTo>
                    <a:pt x="25" y="41"/>
                  </a:lnTo>
                  <a:lnTo>
                    <a:pt x="28" y="28"/>
                  </a:lnTo>
                  <a:lnTo>
                    <a:pt x="29" y="15"/>
                  </a:lnTo>
                  <a:lnTo>
                    <a:pt x="32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 flipH="1">
              <a:off x="2242440" y="4270320"/>
              <a:ext cx="27000" cy="446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4" y="0"/>
                  </a:moveTo>
                  <a:lnTo>
                    <a:pt x="4" y="12"/>
                  </a:lnTo>
                  <a:lnTo>
                    <a:pt x="3" y="25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24" y="55"/>
                  </a:lnTo>
                  <a:lnTo>
                    <a:pt x="27" y="42"/>
                  </a:lnTo>
                  <a:lnTo>
                    <a:pt x="30" y="29"/>
                  </a:lnTo>
                  <a:lnTo>
                    <a:pt x="31" y="16"/>
                  </a:lnTo>
                  <a:lnTo>
                    <a:pt x="33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flipH="1">
              <a:off x="2239200" y="4251600"/>
              <a:ext cx="27000" cy="4104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0" y="50"/>
                  </a:moveTo>
                  <a:lnTo>
                    <a:pt x="1" y="40"/>
                  </a:lnTo>
                  <a:lnTo>
                    <a:pt x="2" y="28"/>
                  </a:lnTo>
                  <a:lnTo>
                    <a:pt x="3" y="18"/>
                  </a:lnTo>
                  <a:lnTo>
                    <a:pt x="5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22" y="8"/>
                  </a:lnTo>
                  <a:lnTo>
                    <a:pt x="23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33" y="15"/>
                  </a:lnTo>
                  <a:lnTo>
                    <a:pt x="32" y="27"/>
                  </a:lnTo>
                  <a:lnTo>
                    <a:pt x="30" y="40"/>
                  </a:lnTo>
                  <a:lnTo>
                    <a:pt x="27" y="5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 flipH="1">
              <a:off x="2235240" y="4232520"/>
              <a:ext cx="30240" cy="410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0" y="47"/>
                  </a:moveTo>
                  <a:lnTo>
                    <a:pt x="0" y="43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1"/>
                  </a:lnTo>
                  <a:lnTo>
                    <a:pt x="6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6" y="11"/>
                  </a:lnTo>
                  <a:lnTo>
                    <a:pt x="35" y="24"/>
                  </a:lnTo>
                  <a:lnTo>
                    <a:pt x="33" y="38"/>
                  </a:lnTo>
                  <a:lnTo>
                    <a:pt x="29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 flipH="1">
              <a:off x="2234520" y="4230720"/>
              <a:ext cx="11160" cy="2376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26"/>
                  </a:moveTo>
                  <a:lnTo>
                    <a:pt x="3" y="20"/>
                  </a:lnTo>
                  <a:lnTo>
                    <a:pt x="6" y="14"/>
                  </a:lnTo>
                  <a:lnTo>
                    <a:pt x="10" y="7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2" y="13"/>
                  </a:lnTo>
                  <a:lnTo>
                    <a:pt x="10" y="21"/>
                  </a:lnTo>
                  <a:lnTo>
                    <a:pt x="9" y="2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 flipH="1">
              <a:off x="2227320" y="4386240"/>
              <a:ext cx="33120" cy="10008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5" y="127"/>
                  </a:moveTo>
                  <a:lnTo>
                    <a:pt x="3" y="115"/>
                  </a:lnTo>
                  <a:lnTo>
                    <a:pt x="0" y="84"/>
                  </a:lnTo>
                  <a:lnTo>
                    <a:pt x="18" y="0"/>
                  </a:lnTo>
                  <a:lnTo>
                    <a:pt x="43" y="5"/>
                  </a:lnTo>
                  <a:lnTo>
                    <a:pt x="33" y="36"/>
                  </a:lnTo>
                  <a:lnTo>
                    <a:pt x="24" y="66"/>
                  </a:lnTo>
                  <a:lnTo>
                    <a:pt x="19" y="95"/>
                  </a:lnTo>
                  <a:lnTo>
                    <a:pt x="15" y="124"/>
                  </a:lnTo>
                  <a:lnTo>
                    <a:pt x="5" y="1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flipH="1">
              <a:off x="2201040" y="4237200"/>
              <a:ext cx="42840" cy="131760"/>
            </a:xfrm>
            <a:custGeom>
              <a:avLst/>
              <a:gdLst/>
              <a:ahLst/>
              <a:rect l="l" t="t" r="r" b="b"/>
              <a:pathLst>
                <a:path w="54" h="167">
                  <a:moveTo>
                    <a:pt x="0" y="167"/>
                  </a:moveTo>
                  <a:lnTo>
                    <a:pt x="29" y="34"/>
                  </a:lnTo>
                  <a:lnTo>
                    <a:pt x="33" y="2"/>
                  </a:lnTo>
                  <a:lnTo>
                    <a:pt x="54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 flipH="1">
              <a:off x="2338560" y="4199040"/>
              <a:ext cx="47520" cy="12240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5" y="150"/>
                  </a:moveTo>
                  <a:lnTo>
                    <a:pt x="5" y="130"/>
                  </a:lnTo>
                  <a:lnTo>
                    <a:pt x="3" y="109"/>
                  </a:lnTo>
                  <a:lnTo>
                    <a:pt x="0" y="102"/>
                  </a:lnTo>
                  <a:lnTo>
                    <a:pt x="7" y="66"/>
                  </a:lnTo>
                  <a:lnTo>
                    <a:pt x="19" y="69"/>
                  </a:lnTo>
                  <a:lnTo>
                    <a:pt x="21" y="9"/>
                  </a:lnTo>
                  <a:lnTo>
                    <a:pt x="61" y="0"/>
                  </a:lnTo>
                  <a:lnTo>
                    <a:pt x="45" y="11"/>
                  </a:lnTo>
                  <a:lnTo>
                    <a:pt x="43" y="36"/>
                  </a:lnTo>
                  <a:lnTo>
                    <a:pt x="41" y="56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50" y="85"/>
                  </a:lnTo>
                  <a:lnTo>
                    <a:pt x="52" y="49"/>
                  </a:lnTo>
                  <a:lnTo>
                    <a:pt x="61" y="43"/>
                  </a:lnTo>
                  <a:lnTo>
                    <a:pt x="54" y="154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flipH="1">
              <a:off x="2272680" y="4222800"/>
              <a:ext cx="58680" cy="9216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17" y="113"/>
                  </a:moveTo>
                  <a:lnTo>
                    <a:pt x="17" y="108"/>
                  </a:lnTo>
                  <a:lnTo>
                    <a:pt x="0" y="100"/>
                  </a:lnTo>
                  <a:lnTo>
                    <a:pt x="5" y="24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6" y="44"/>
                  </a:lnTo>
                  <a:lnTo>
                    <a:pt x="23" y="64"/>
                  </a:lnTo>
                  <a:lnTo>
                    <a:pt x="30" y="64"/>
                  </a:lnTo>
                  <a:lnTo>
                    <a:pt x="45" y="8"/>
                  </a:lnTo>
                  <a:lnTo>
                    <a:pt x="57" y="3"/>
                  </a:lnTo>
                  <a:lnTo>
                    <a:pt x="64" y="0"/>
                  </a:lnTo>
                  <a:lnTo>
                    <a:pt x="74" y="3"/>
                  </a:lnTo>
                  <a:lnTo>
                    <a:pt x="57" y="115"/>
                  </a:lnTo>
                  <a:lnTo>
                    <a:pt x="17" y="1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2415600" y="4159440"/>
              <a:ext cx="52200" cy="135000"/>
            </a:xfrm>
            <a:custGeom>
              <a:avLst/>
              <a:gdLst/>
              <a:ahLst/>
              <a:rect l="l" t="t" r="r" b="b"/>
              <a:pathLst>
                <a:path w="64" h="172">
                  <a:moveTo>
                    <a:pt x="64" y="172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64" y="17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H="1">
              <a:off x="2413080" y="4159440"/>
              <a:ext cx="55440" cy="137880"/>
            </a:xfrm>
            <a:custGeom>
              <a:avLst/>
              <a:gdLst/>
              <a:ahLst/>
              <a:rect l="l" t="t" r="r" b="b"/>
              <a:pathLst>
                <a:path w="69" h="174">
                  <a:moveTo>
                    <a:pt x="69" y="174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69" y="1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 flipH="1">
              <a:off x="2410560" y="4159440"/>
              <a:ext cx="57240" cy="139680"/>
            </a:xfrm>
            <a:custGeom>
              <a:avLst/>
              <a:gdLst/>
              <a:ahLst/>
              <a:rect l="l" t="t" r="r" b="b"/>
              <a:pathLst>
                <a:path w="71" h="177">
                  <a:moveTo>
                    <a:pt x="71" y="177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71" y="17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flipH="1">
              <a:off x="2390040" y="4189680"/>
              <a:ext cx="19080" cy="99720"/>
            </a:xfrm>
            <a:custGeom>
              <a:avLst/>
              <a:gdLst/>
              <a:ahLst/>
              <a:rect l="l" t="t" r="r" b="b"/>
              <a:pathLst>
                <a:path w="23" h="127">
                  <a:moveTo>
                    <a:pt x="0" y="127"/>
                  </a:moveTo>
                  <a:lnTo>
                    <a:pt x="5" y="56"/>
                  </a:lnTo>
                  <a:lnTo>
                    <a:pt x="5" y="41"/>
                  </a:lnTo>
                  <a:lnTo>
                    <a:pt x="10" y="13"/>
                  </a:lnTo>
                  <a:lnTo>
                    <a:pt x="7" y="0"/>
                  </a:lnTo>
                  <a:lnTo>
                    <a:pt x="21" y="5"/>
                  </a:lnTo>
                  <a:lnTo>
                    <a:pt x="23" y="15"/>
                  </a:lnTo>
                  <a:lnTo>
                    <a:pt x="21" y="87"/>
                  </a:lnTo>
                  <a:lnTo>
                    <a:pt x="10" y="9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 flipH="1">
              <a:off x="2161440" y="3654720"/>
              <a:ext cx="298440" cy="574560"/>
            </a:xfrm>
            <a:custGeom>
              <a:avLst/>
              <a:gdLst/>
              <a:ahLst/>
              <a:rect l="l" t="t" r="r" b="b"/>
              <a:pathLst>
                <a:path w="377" h="724">
                  <a:moveTo>
                    <a:pt x="172" y="711"/>
                  </a:moveTo>
                  <a:lnTo>
                    <a:pt x="174" y="697"/>
                  </a:lnTo>
                  <a:lnTo>
                    <a:pt x="173" y="689"/>
                  </a:lnTo>
                  <a:lnTo>
                    <a:pt x="168" y="682"/>
                  </a:lnTo>
                  <a:lnTo>
                    <a:pt x="162" y="671"/>
                  </a:lnTo>
                  <a:lnTo>
                    <a:pt x="140" y="673"/>
                  </a:lnTo>
                  <a:lnTo>
                    <a:pt x="126" y="673"/>
                  </a:lnTo>
                  <a:lnTo>
                    <a:pt x="116" y="672"/>
                  </a:lnTo>
                  <a:lnTo>
                    <a:pt x="111" y="670"/>
                  </a:lnTo>
                  <a:lnTo>
                    <a:pt x="106" y="666"/>
                  </a:lnTo>
                  <a:lnTo>
                    <a:pt x="101" y="662"/>
                  </a:lnTo>
                  <a:lnTo>
                    <a:pt x="92" y="657"/>
                  </a:lnTo>
                  <a:lnTo>
                    <a:pt x="78" y="650"/>
                  </a:lnTo>
                  <a:lnTo>
                    <a:pt x="77" y="644"/>
                  </a:lnTo>
                  <a:lnTo>
                    <a:pt x="76" y="638"/>
                  </a:lnTo>
                  <a:lnTo>
                    <a:pt x="75" y="632"/>
                  </a:lnTo>
                  <a:lnTo>
                    <a:pt x="74" y="626"/>
                  </a:lnTo>
                  <a:lnTo>
                    <a:pt x="64" y="623"/>
                  </a:lnTo>
                  <a:lnTo>
                    <a:pt x="55" y="619"/>
                  </a:lnTo>
                  <a:lnTo>
                    <a:pt x="47" y="616"/>
                  </a:lnTo>
                  <a:lnTo>
                    <a:pt x="39" y="613"/>
                  </a:lnTo>
                  <a:lnTo>
                    <a:pt x="30" y="611"/>
                  </a:lnTo>
                  <a:lnTo>
                    <a:pt x="21" y="610"/>
                  </a:lnTo>
                  <a:lnTo>
                    <a:pt x="11" y="610"/>
                  </a:lnTo>
                  <a:lnTo>
                    <a:pt x="0" y="611"/>
                  </a:lnTo>
                  <a:lnTo>
                    <a:pt x="7" y="556"/>
                  </a:lnTo>
                  <a:lnTo>
                    <a:pt x="14" y="502"/>
                  </a:lnTo>
                  <a:lnTo>
                    <a:pt x="22" y="446"/>
                  </a:lnTo>
                  <a:lnTo>
                    <a:pt x="29" y="392"/>
                  </a:lnTo>
                  <a:lnTo>
                    <a:pt x="37" y="338"/>
                  </a:lnTo>
                  <a:lnTo>
                    <a:pt x="46" y="284"/>
                  </a:lnTo>
                  <a:lnTo>
                    <a:pt x="55" y="231"/>
                  </a:lnTo>
                  <a:lnTo>
                    <a:pt x="67" y="177"/>
                  </a:lnTo>
                  <a:lnTo>
                    <a:pt x="67" y="187"/>
                  </a:lnTo>
                  <a:lnTo>
                    <a:pt x="67" y="196"/>
                  </a:lnTo>
                  <a:lnTo>
                    <a:pt x="66" y="205"/>
                  </a:lnTo>
                  <a:lnTo>
                    <a:pt x="64" y="215"/>
                  </a:lnTo>
                  <a:lnTo>
                    <a:pt x="75" y="192"/>
                  </a:lnTo>
                  <a:lnTo>
                    <a:pt x="85" y="170"/>
                  </a:lnTo>
                  <a:lnTo>
                    <a:pt x="93" y="147"/>
                  </a:lnTo>
                  <a:lnTo>
                    <a:pt x="102" y="124"/>
                  </a:lnTo>
                  <a:lnTo>
                    <a:pt x="111" y="102"/>
                  </a:lnTo>
                  <a:lnTo>
                    <a:pt x="120" y="79"/>
                  </a:lnTo>
                  <a:lnTo>
                    <a:pt x="130" y="57"/>
                  </a:lnTo>
                  <a:lnTo>
                    <a:pt x="143" y="34"/>
                  </a:lnTo>
                  <a:lnTo>
                    <a:pt x="152" y="37"/>
                  </a:lnTo>
                  <a:lnTo>
                    <a:pt x="160" y="39"/>
                  </a:lnTo>
                  <a:lnTo>
                    <a:pt x="169" y="41"/>
                  </a:lnTo>
                  <a:lnTo>
                    <a:pt x="176" y="43"/>
                  </a:lnTo>
                  <a:lnTo>
                    <a:pt x="183" y="33"/>
                  </a:lnTo>
                  <a:lnTo>
                    <a:pt x="192" y="21"/>
                  </a:lnTo>
                  <a:lnTo>
                    <a:pt x="200" y="11"/>
                  </a:lnTo>
                  <a:lnTo>
                    <a:pt x="207" y="0"/>
                  </a:lnTo>
                  <a:lnTo>
                    <a:pt x="213" y="22"/>
                  </a:lnTo>
                  <a:lnTo>
                    <a:pt x="223" y="37"/>
                  </a:lnTo>
                  <a:lnTo>
                    <a:pt x="238" y="48"/>
                  </a:lnTo>
                  <a:lnTo>
                    <a:pt x="256" y="52"/>
                  </a:lnTo>
                  <a:lnTo>
                    <a:pt x="275" y="53"/>
                  </a:lnTo>
                  <a:lnTo>
                    <a:pt x="296" y="52"/>
                  </a:lnTo>
                  <a:lnTo>
                    <a:pt x="318" y="50"/>
                  </a:lnTo>
                  <a:lnTo>
                    <a:pt x="339" y="48"/>
                  </a:lnTo>
                  <a:lnTo>
                    <a:pt x="339" y="42"/>
                  </a:lnTo>
                  <a:lnTo>
                    <a:pt x="340" y="37"/>
                  </a:lnTo>
                  <a:lnTo>
                    <a:pt x="341" y="31"/>
                  </a:lnTo>
                  <a:lnTo>
                    <a:pt x="341" y="27"/>
                  </a:lnTo>
                  <a:lnTo>
                    <a:pt x="346" y="28"/>
                  </a:lnTo>
                  <a:lnTo>
                    <a:pt x="350" y="30"/>
                  </a:lnTo>
                  <a:lnTo>
                    <a:pt x="354" y="31"/>
                  </a:lnTo>
                  <a:lnTo>
                    <a:pt x="357" y="34"/>
                  </a:lnTo>
                  <a:lnTo>
                    <a:pt x="354" y="59"/>
                  </a:lnTo>
                  <a:lnTo>
                    <a:pt x="350" y="83"/>
                  </a:lnTo>
                  <a:lnTo>
                    <a:pt x="348" y="109"/>
                  </a:lnTo>
                  <a:lnTo>
                    <a:pt x="346" y="134"/>
                  </a:lnTo>
                  <a:lnTo>
                    <a:pt x="353" y="111"/>
                  </a:lnTo>
                  <a:lnTo>
                    <a:pt x="361" y="87"/>
                  </a:lnTo>
                  <a:lnTo>
                    <a:pt x="369" y="63"/>
                  </a:lnTo>
                  <a:lnTo>
                    <a:pt x="377" y="38"/>
                  </a:lnTo>
                  <a:lnTo>
                    <a:pt x="371" y="79"/>
                  </a:lnTo>
                  <a:lnTo>
                    <a:pt x="364" y="119"/>
                  </a:lnTo>
                  <a:lnTo>
                    <a:pt x="357" y="159"/>
                  </a:lnTo>
                  <a:lnTo>
                    <a:pt x="350" y="198"/>
                  </a:lnTo>
                  <a:lnTo>
                    <a:pt x="351" y="193"/>
                  </a:lnTo>
                  <a:lnTo>
                    <a:pt x="353" y="188"/>
                  </a:lnTo>
                  <a:lnTo>
                    <a:pt x="355" y="184"/>
                  </a:lnTo>
                  <a:lnTo>
                    <a:pt x="357" y="179"/>
                  </a:lnTo>
                  <a:lnTo>
                    <a:pt x="350" y="252"/>
                  </a:lnTo>
                  <a:lnTo>
                    <a:pt x="343" y="321"/>
                  </a:lnTo>
                  <a:lnTo>
                    <a:pt x="335" y="389"/>
                  </a:lnTo>
                  <a:lnTo>
                    <a:pt x="327" y="454"/>
                  </a:lnTo>
                  <a:lnTo>
                    <a:pt x="317" y="521"/>
                  </a:lnTo>
                  <a:lnTo>
                    <a:pt x="303" y="587"/>
                  </a:lnTo>
                  <a:lnTo>
                    <a:pt x="286" y="655"/>
                  </a:lnTo>
                  <a:lnTo>
                    <a:pt x="265" y="724"/>
                  </a:lnTo>
                  <a:lnTo>
                    <a:pt x="260" y="716"/>
                  </a:lnTo>
                  <a:lnTo>
                    <a:pt x="257" y="708"/>
                  </a:lnTo>
                  <a:lnTo>
                    <a:pt x="253" y="700"/>
                  </a:lnTo>
                  <a:lnTo>
                    <a:pt x="250" y="693"/>
                  </a:lnTo>
                  <a:lnTo>
                    <a:pt x="240" y="695"/>
                  </a:lnTo>
                  <a:lnTo>
                    <a:pt x="230" y="697"/>
                  </a:lnTo>
                  <a:lnTo>
                    <a:pt x="220" y="701"/>
                  </a:lnTo>
                  <a:lnTo>
                    <a:pt x="211" y="703"/>
                  </a:lnTo>
                  <a:lnTo>
                    <a:pt x="202" y="706"/>
                  </a:lnTo>
                  <a:lnTo>
                    <a:pt x="191" y="708"/>
                  </a:lnTo>
                  <a:lnTo>
                    <a:pt x="182" y="709"/>
                  </a:lnTo>
                  <a:lnTo>
                    <a:pt x="172" y="71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H="1">
              <a:off x="2461320" y="4159440"/>
              <a:ext cx="3240" cy="3024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20"/>
                  </a:lnTo>
                  <a:lnTo>
                    <a:pt x="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H="1">
              <a:off x="2459160" y="4154760"/>
              <a:ext cx="1440" cy="187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0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flipH="1">
              <a:off x="2135160" y="3387960"/>
              <a:ext cx="100080" cy="410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0"/>
                  </a:moveTo>
                  <a:lnTo>
                    <a:pt x="16" y="2"/>
                  </a:lnTo>
                  <a:lnTo>
                    <a:pt x="34" y="6"/>
                  </a:lnTo>
                  <a:lnTo>
                    <a:pt x="51" y="9"/>
                  </a:lnTo>
                  <a:lnTo>
                    <a:pt x="70" y="14"/>
                  </a:lnTo>
                  <a:lnTo>
                    <a:pt x="86" y="20"/>
                  </a:lnTo>
                  <a:lnTo>
                    <a:pt x="101" y="26"/>
                  </a:lnTo>
                  <a:lnTo>
                    <a:pt x="116" y="35"/>
                  </a:lnTo>
                  <a:lnTo>
                    <a:pt x="127" y="45"/>
                  </a:lnTo>
                  <a:lnTo>
                    <a:pt x="127" y="46"/>
                  </a:lnTo>
                  <a:lnTo>
                    <a:pt x="127" y="48"/>
                  </a:lnTo>
                  <a:lnTo>
                    <a:pt x="127" y="50"/>
                  </a:lnTo>
                  <a:lnTo>
                    <a:pt x="12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 flipH="1">
              <a:off x="2134440" y="3386160"/>
              <a:ext cx="128520" cy="58680"/>
            </a:xfrm>
            <a:custGeom>
              <a:avLst/>
              <a:gdLst/>
              <a:ahLst/>
              <a:rect l="l" t="t" r="r" b="b"/>
              <a:pathLst>
                <a:path w="162" h="74">
                  <a:moveTo>
                    <a:pt x="0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9" y="3"/>
                  </a:lnTo>
                  <a:lnTo>
                    <a:pt x="58" y="6"/>
                  </a:lnTo>
                  <a:lnTo>
                    <a:pt x="78" y="11"/>
                  </a:lnTo>
                  <a:lnTo>
                    <a:pt x="98" y="14"/>
                  </a:lnTo>
                  <a:lnTo>
                    <a:pt x="116" y="20"/>
                  </a:lnTo>
                  <a:lnTo>
                    <a:pt x="133" y="27"/>
                  </a:lnTo>
                  <a:lnTo>
                    <a:pt x="149" y="36"/>
                  </a:lnTo>
                  <a:lnTo>
                    <a:pt x="162" y="48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H="1">
              <a:off x="2131920" y="3386160"/>
              <a:ext cx="144720" cy="76320"/>
            </a:xfrm>
            <a:custGeom>
              <a:avLst/>
              <a:gdLst/>
              <a:ahLst/>
              <a:rect l="l" t="t" r="r" b="b"/>
              <a:pathLst>
                <a:path w="183" h="95">
                  <a:moveTo>
                    <a:pt x="0" y="17"/>
                  </a:moveTo>
                  <a:lnTo>
                    <a:pt x="1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178" y="55"/>
                  </a:lnTo>
                  <a:lnTo>
                    <a:pt x="178" y="65"/>
                  </a:lnTo>
                  <a:lnTo>
                    <a:pt x="179" y="76"/>
                  </a:lnTo>
                  <a:lnTo>
                    <a:pt x="180" y="86"/>
                  </a:lnTo>
                  <a:lnTo>
                    <a:pt x="183" y="9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e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 flipH="1">
              <a:off x="2122560" y="3390840"/>
              <a:ext cx="179280" cy="90720"/>
            </a:xfrm>
            <a:custGeom>
              <a:avLst/>
              <a:gdLst/>
              <a:ahLst/>
              <a:rect l="l" t="t" r="r" b="b"/>
              <a:pathLst>
                <a:path w="226" h="114">
                  <a:moveTo>
                    <a:pt x="0" y="19"/>
                  </a:moveTo>
                  <a:lnTo>
                    <a:pt x="0" y="16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11" y="20"/>
                  </a:lnTo>
                  <a:lnTo>
                    <a:pt x="15" y="21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28" y="18"/>
                  </a:lnTo>
                  <a:lnTo>
                    <a:pt x="32" y="12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210" y="69"/>
                  </a:lnTo>
                  <a:lnTo>
                    <a:pt x="212" y="81"/>
                  </a:lnTo>
                  <a:lnTo>
                    <a:pt x="215" y="92"/>
                  </a:lnTo>
                  <a:lnTo>
                    <a:pt x="219" y="103"/>
                  </a:lnTo>
                  <a:lnTo>
                    <a:pt x="226" y="112"/>
                  </a:lnTo>
                  <a:lnTo>
                    <a:pt x="226" y="11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38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 flipH="1">
              <a:off x="2122560" y="3399120"/>
              <a:ext cx="187200" cy="95040"/>
            </a:xfrm>
            <a:custGeom>
              <a:avLst/>
              <a:gdLst/>
              <a:ahLst/>
              <a:rect l="l" t="t" r="r" b="b"/>
              <a:pathLst>
                <a:path w="236" h="118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8" y="8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39" y="3"/>
                  </a:lnTo>
                  <a:lnTo>
                    <a:pt x="42" y="0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9" y="89"/>
                  </a:lnTo>
                  <a:lnTo>
                    <a:pt x="232" y="94"/>
                  </a:lnTo>
                  <a:lnTo>
                    <a:pt x="236" y="100"/>
                  </a:lnTo>
                  <a:lnTo>
                    <a:pt x="236" y="104"/>
                  </a:lnTo>
                  <a:lnTo>
                    <a:pt x="235" y="108"/>
                  </a:lnTo>
                  <a:lnTo>
                    <a:pt x="234" y="114"/>
                  </a:lnTo>
                  <a:lnTo>
                    <a:pt x="234" y="1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8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H="1">
              <a:off x="2121840" y="3405240"/>
              <a:ext cx="189000" cy="104760"/>
            </a:xfrm>
            <a:custGeom>
              <a:avLst/>
              <a:gdLst/>
              <a:ahLst/>
              <a:rect l="l" t="t" r="r" b="b"/>
              <a:pathLst>
                <a:path w="238" h="131">
                  <a:moveTo>
                    <a:pt x="0" y="33"/>
                  </a:moveTo>
                  <a:lnTo>
                    <a:pt x="1" y="27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7" y="8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38" y="95"/>
                  </a:lnTo>
                  <a:lnTo>
                    <a:pt x="237" y="102"/>
                  </a:lnTo>
                  <a:lnTo>
                    <a:pt x="236" y="111"/>
                  </a:lnTo>
                  <a:lnTo>
                    <a:pt x="235" y="121"/>
                  </a:lnTo>
                  <a:lnTo>
                    <a:pt x="234" y="1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e9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 flipH="1">
              <a:off x="2123280" y="3416400"/>
              <a:ext cx="189000" cy="106200"/>
            </a:xfrm>
            <a:custGeom>
              <a:avLst/>
              <a:gdLst/>
              <a:ahLst/>
              <a:rect l="l" t="t" r="r" b="b"/>
              <a:pathLst>
                <a:path w="239" h="132">
                  <a:moveTo>
                    <a:pt x="5" y="0"/>
                  </a:moveTo>
                  <a:lnTo>
                    <a:pt x="5" y="9"/>
                  </a:lnTo>
                  <a:lnTo>
                    <a:pt x="4" y="17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234" y="132"/>
                  </a:lnTo>
                  <a:lnTo>
                    <a:pt x="234" y="123"/>
                  </a:lnTo>
                  <a:lnTo>
                    <a:pt x="235" y="115"/>
                  </a:lnTo>
                  <a:lnTo>
                    <a:pt x="238" y="106"/>
                  </a:lnTo>
                  <a:lnTo>
                    <a:pt x="239" y="9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9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 flipH="1">
              <a:off x="2125080" y="3432240"/>
              <a:ext cx="191880" cy="104760"/>
            </a:xfrm>
            <a:custGeom>
              <a:avLst/>
              <a:gdLst/>
              <a:ahLst/>
              <a:rect l="l" t="t" r="r" b="b"/>
              <a:pathLst>
                <a:path w="241" h="134">
                  <a:moveTo>
                    <a:pt x="7" y="0"/>
                  </a:moveTo>
                  <a:lnTo>
                    <a:pt x="7" y="9"/>
                  </a:lnTo>
                  <a:lnTo>
                    <a:pt x="6" y="17"/>
                  </a:lnTo>
                  <a:lnTo>
                    <a:pt x="3" y="25"/>
                  </a:lnTo>
                  <a:lnTo>
                    <a:pt x="0" y="34"/>
                  </a:lnTo>
                  <a:lnTo>
                    <a:pt x="236" y="134"/>
                  </a:lnTo>
                  <a:lnTo>
                    <a:pt x="236" y="125"/>
                  </a:lnTo>
                  <a:lnTo>
                    <a:pt x="237" y="115"/>
                  </a:lnTo>
                  <a:lnTo>
                    <a:pt x="239" y="107"/>
                  </a:lnTo>
                  <a:lnTo>
                    <a:pt x="241" y="9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9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flipH="1">
              <a:off x="2127240" y="3444840"/>
              <a:ext cx="193680" cy="108000"/>
            </a:xfrm>
            <a:custGeom>
              <a:avLst/>
              <a:gdLst/>
              <a:ahLst/>
              <a:rect l="l" t="t" r="r" b="b"/>
              <a:pathLst>
                <a:path w="243" h="135">
                  <a:moveTo>
                    <a:pt x="9" y="0"/>
                  </a:moveTo>
                  <a:lnTo>
                    <a:pt x="7" y="8"/>
                  </a:lnTo>
                  <a:lnTo>
                    <a:pt x="5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241" y="135"/>
                  </a:lnTo>
                  <a:lnTo>
                    <a:pt x="241" y="126"/>
                  </a:lnTo>
                  <a:lnTo>
                    <a:pt x="241" y="118"/>
                  </a:lnTo>
                  <a:lnTo>
                    <a:pt x="242" y="108"/>
                  </a:lnTo>
                  <a:lnTo>
                    <a:pt x="243" y="9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a9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H="1">
              <a:off x="2127960" y="3457800"/>
              <a:ext cx="196920" cy="109440"/>
            </a:xfrm>
            <a:custGeom>
              <a:avLst/>
              <a:gdLst/>
              <a:ahLst/>
              <a:rect l="l" t="t" r="r" b="b"/>
              <a:pathLst>
                <a:path w="248" h="138">
                  <a:moveTo>
                    <a:pt x="12" y="0"/>
                  </a:moveTo>
                  <a:lnTo>
                    <a:pt x="10" y="8"/>
                  </a:lnTo>
                  <a:lnTo>
                    <a:pt x="7" y="16"/>
                  </a:lnTo>
                  <a:lnTo>
                    <a:pt x="4" y="24"/>
                  </a:lnTo>
                  <a:lnTo>
                    <a:pt x="0" y="31"/>
                  </a:lnTo>
                  <a:lnTo>
                    <a:pt x="248" y="138"/>
                  </a:lnTo>
                  <a:lnTo>
                    <a:pt x="248" y="129"/>
                  </a:lnTo>
                  <a:lnTo>
                    <a:pt x="248" y="119"/>
                  </a:lnTo>
                  <a:lnTo>
                    <a:pt x="248" y="110"/>
                  </a:lnTo>
                  <a:lnTo>
                    <a:pt x="248" y="10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f9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H="1">
              <a:off x="2124000" y="3470400"/>
              <a:ext cx="209520" cy="114120"/>
            </a:xfrm>
            <a:custGeom>
              <a:avLst/>
              <a:gdLst/>
              <a:ahLst/>
              <a:rect l="l" t="t" r="r" b="b"/>
              <a:pathLst>
                <a:path w="264" h="144">
                  <a:moveTo>
                    <a:pt x="16" y="0"/>
                  </a:moveTo>
                  <a:lnTo>
                    <a:pt x="13" y="9"/>
                  </a:lnTo>
                  <a:lnTo>
                    <a:pt x="8" y="17"/>
                  </a:lnTo>
                  <a:lnTo>
                    <a:pt x="4" y="24"/>
                  </a:lnTo>
                  <a:lnTo>
                    <a:pt x="0" y="31"/>
                  </a:lnTo>
                  <a:lnTo>
                    <a:pt x="264" y="144"/>
                  </a:lnTo>
                  <a:lnTo>
                    <a:pt x="260" y="134"/>
                  </a:lnTo>
                  <a:lnTo>
                    <a:pt x="259" y="124"/>
                  </a:lnTo>
                  <a:lnTo>
                    <a:pt x="257" y="114"/>
                  </a:lnTo>
                  <a:lnTo>
                    <a:pt x="257" y="10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29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H="1">
              <a:off x="2107440" y="3483000"/>
              <a:ext cx="235080" cy="122400"/>
            </a:xfrm>
            <a:custGeom>
              <a:avLst/>
              <a:gdLst/>
              <a:ahLst/>
              <a:rect l="l" t="t" r="r" b="b"/>
              <a:pathLst>
                <a:path w="297" h="154">
                  <a:moveTo>
                    <a:pt x="22" y="0"/>
                  </a:moveTo>
                  <a:lnTo>
                    <a:pt x="17" y="8"/>
                  </a:lnTo>
                  <a:lnTo>
                    <a:pt x="12" y="16"/>
                  </a:lnTo>
                  <a:lnTo>
                    <a:pt x="6" y="24"/>
                  </a:lnTo>
                  <a:lnTo>
                    <a:pt x="0" y="31"/>
                  </a:lnTo>
                  <a:lnTo>
                    <a:pt x="294" y="154"/>
                  </a:lnTo>
                  <a:lnTo>
                    <a:pt x="294" y="153"/>
                  </a:lnTo>
                  <a:lnTo>
                    <a:pt x="294" y="151"/>
                  </a:lnTo>
                  <a:lnTo>
                    <a:pt x="295" y="149"/>
                  </a:lnTo>
                  <a:lnTo>
                    <a:pt x="297" y="149"/>
                  </a:lnTo>
                  <a:lnTo>
                    <a:pt x="286" y="141"/>
                  </a:lnTo>
                  <a:lnTo>
                    <a:pt x="279" y="131"/>
                  </a:lnTo>
                  <a:lnTo>
                    <a:pt x="273" y="119"/>
                  </a:lnTo>
                  <a:lnTo>
                    <a:pt x="270" y="10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7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flipH="1">
              <a:off x="2107440" y="3495960"/>
              <a:ext cx="244440" cy="125280"/>
            </a:xfrm>
            <a:custGeom>
              <a:avLst/>
              <a:gdLst/>
              <a:ahLst/>
              <a:rect l="l" t="t" r="r" b="b"/>
              <a:pathLst>
                <a:path w="308" h="158">
                  <a:moveTo>
                    <a:pt x="24" y="0"/>
                  </a:moveTo>
                  <a:lnTo>
                    <a:pt x="18" y="8"/>
                  </a:lnTo>
                  <a:lnTo>
                    <a:pt x="13" y="15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308" y="158"/>
                  </a:lnTo>
                  <a:lnTo>
                    <a:pt x="305" y="158"/>
                  </a:lnTo>
                  <a:lnTo>
                    <a:pt x="304" y="157"/>
                  </a:lnTo>
                  <a:lnTo>
                    <a:pt x="302" y="154"/>
                  </a:lnTo>
                  <a:lnTo>
                    <a:pt x="299" y="153"/>
                  </a:lnTo>
                  <a:lnTo>
                    <a:pt x="302" y="148"/>
                  </a:lnTo>
                  <a:lnTo>
                    <a:pt x="304" y="143"/>
                  </a:lnTo>
                  <a:lnTo>
                    <a:pt x="305" y="138"/>
                  </a:lnTo>
                  <a:lnTo>
                    <a:pt x="308" y="133"/>
                  </a:lnTo>
                  <a:lnTo>
                    <a:pt x="301" y="130"/>
                  </a:lnTo>
                  <a:lnTo>
                    <a:pt x="296" y="124"/>
                  </a:lnTo>
                  <a:lnTo>
                    <a:pt x="291" y="120"/>
                  </a:lnTo>
                  <a:lnTo>
                    <a:pt x="288" y="1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H="1">
              <a:off x="2101680" y="3506760"/>
              <a:ext cx="260640" cy="130320"/>
            </a:xfrm>
            <a:custGeom>
              <a:avLst/>
              <a:gdLst/>
              <a:ahLst/>
              <a:rect l="l" t="t" r="r" b="b"/>
              <a:pathLst>
                <a:path w="329" h="163">
                  <a:moveTo>
                    <a:pt x="23" y="0"/>
                  </a:moveTo>
                  <a:lnTo>
                    <a:pt x="18" y="7"/>
                  </a:lnTo>
                  <a:lnTo>
                    <a:pt x="13" y="14"/>
                  </a:lnTo>
                  <a:lnTo>
                    <a:pt x="7" y="21"/>
                  </a:lnTo>
                  <a:lnTo>
                    <a:pt x="0" y="26"/>
                  </a:lnTo>
                  <a:lnTo>
                    <a:pt x="324" y="163"/>
                  </a:lnTo>
                  <a:lnTo>
                    <a:pt x="324" y="163"/>
                  </a:lnTo>
                  <a:lnTo>
                    <a:pt x="325" y="162"/>
                  </a:lnTo>
                  <a:lnTo>
                    <a:pt x="328" y="161"/>
                  </a:lnTo>
                  <a:lnTo>
                    <a:pt x="329" y="161"/>
                  </a:lnTo>
                  <a:lnTo>
                    <a:pt x="329" y="158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0"/>
                  </a:lnTo>
                  <a:lnTo>
                    <a:pt x="325" y="146"/>
                  </a:lnTo>
                  <a:lnTo>
                    <a:pt x="321" y="144"/>
                  </a:lnTo>
                  <a:lnTo>
                    <a:pt x="316" y="142"/>
                  </a:lnTo>
                  <a:lnTo>
                    <a:pt x="311" y="138"/>
                  </a:lnTo>
                  <a:lnTo>
                    <a:pt x="313" y="135"/>
                  </a:lnTo>
                  <a:lnTo>
                    <a:pt x="314" y="130"/>
                  </a:lnTo>
                  <a:lnTo>
                    <a:pt x="315" y="127"/>
                  </a:lnTo>
                  <a:lnTo>
                    <a:pt x="317" y="1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1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H="1">
              <a:off x="2100960" y="3517920"/>
              <a:ext cx="271800" cy="127080"/>
            </a:xfrm>
            <a:custGeom>
              <a:avLst/>
              <a:gdLst/>
              <a:ahLst/>
              <a:rect l="l" t="t" r="r" b="b"/>
              <a:pathLst>
                <a:path w="344" h="160">
                  <a:moveTo>
                    <a:pt x="123" y="76"/>
                  </a:moveTo>
                  <a:lnTo>
                    <a:pt x="123" y="73"/>
                  </a:lnTo>
                  <a:lnTo>
                    <a:pt x="124" y="72"/>
                  </a:lnTo>
                  <a:lnTo>
                    <a:pt x="125" y="70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8" y="69"/>
                  </a:lnTo>
                  <a:lnTo>
                    <a:pt x="131" y="68"/>
                  </a:lnTo>
                  <a:lnTo>
                    <a:pt x="132" y="66"/>
                  </a:lnTo>
                  <a:lnTo>
                    <a:pt x="128" y="68"/>
                  </a:lnTo>
                  <a:lnTo>
                    <a:pt x="126" y="70"/>
                  </a:lnTo>
                  <a:lnTo>
                    <a:pt x="123" y="71"/>
                  </a:lnTo>
                  <a:lnTo>
                    <a:pt x="119" y="71"/>
                  </a:lnTo>
                  <a:lnTo>
                    <a:pt x="117" y="73"/>
                  </a:lnTo>
                  <a:lnTo>
                    <a:pt x="0" y="24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5"/>
                  </a:lnTo>
                  <a:lnTo>
                    <a:pt x="27" y="0"/>
                  </a:lnTo>
                  <a:lnTo>
                    <a:pt x="335" y="129"/>
                  </a:lnTo>
                  <a:lnTo>
                    <a:pt x="337" y="130"/>
                  </a:lnTo>
                  <a:lnTo>
                    <a:pt x="339" y="132"/>
                  </a:lnTo>
                  <a:lnTo>
                    <a:pt x="341" y="133"/>
                  </a:lnTo>
                  <a:lnTo>
                    <a:pt x="344" y="136"/>
                  </a:lnTo>
                  <a:lnTo>
                    <a:pt x="344" y="139"/>
                  </a:lnTo>
                  <a:lnTo>
                    <a:pt x="344" y="141"/>
                  </a:lnTo>
                  <a:lnTo>
                    <a:pt x="344" y="144"/>
                  </a:lnTo>
                  <a:lnTo>
                    <a:pt x="344" y="147"/>
                  </a:lnTo>
                  <a:lnTo>
                    <a:pt x="335" y="151"/>
                  </a:lnTo>
                  <a:lnTo>
                    <a:pt x="328" y="153"/>
                  </a:lnTo>
                  <a:lnTo>
                    <a:pt x="322" y="155"/>
                  </a:lnTo>
                  <a:lnTo>
                    <a:pt x="317" y="160"/>
                  </a:lnTo>
                  <a:lnTo>
                    <a:pt x="123" y="76"/>
                  </a:lnTo>
                  <a:close/>
                </a:path>
              </a:pathLst>
            </a:custGeom>
            <a:solidFill>
              <a:srgbClr val="c4a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 flipH="1">
              <a:off x="2104200" y="3529080"/>
              <a:ext cx="281160" cy="125640"/>
            </a:xfrm>
            <a:custGeom>
              <a:avLst/>
              <a:gdLst/>
              <a:ahLst/>
              <a:rect l="l" t="t" r="r" b="b"/>
              <a:pathLst>
                <a:path w="355" h="159">
                  <a:moveTo>
                    <a:pt x="133" y="81"/>
                  </a:moveTo>
                  <a:lnTo>
                    <a:pt x="135" y="76"/>
                  </a:lnTo>
                  <a:lnTo>
                    <a:pt x="137" y="71"/>
                  </a:lnTo>
                  <a:lnTo>
                    <a:pt x="139" y="64"/>
                  </a:lnTo>
                  <a:lnTo>
                    <a:pt x="141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7" y="56"/>
                  </a:lnTo>
                  <a:lnTo>
                    <a:pt x="148" y="54"/>
                  </a:lnTo>
                  <a:lnTo>
                    <a:pt x="144" y="56"/>
                  </a:lnTo>
                  <a:lnTo>
                    <a:pt x="142" y="58"/>
                  </a:lnTo>
                  <a:lnTo>
                    <a:pt x="139" y="59"/>
                  </a:lnTo>
                  <a:lnTo>
                    <a:pt x="135" y="59"/>
                  </a:lnTo>
                  <a:lnTo>
                    <a:pt x="132" y="64"/>
                  </a:lnTo>
                  <a:lnTo>
                    <a:pt x="129" y="68"/>
                  </a:lnTo>
                  <a:lnTo>
                    <a:pt x="128" y="74"/>
                  </a:lnTo>
                  <a:lnTo>
                    <a:pt x="126" y="79"/>
                  </a:lnTo>
                  <a:lnTo>
                    <a:pt x="0" y="26"/>
                  </a:lnTo>
                  <a:lnTo>
                    <a:pt x="8" y="19"/>
                  </a:lnTo>
                  <a:lnTo>
                    <a:pt x="16" y="13"/>
                  </a:lnTo>
                  <a:lnTo>
                    <a:pt x="23" y="7"/>
                  </a:lnTo>
                  <a:lnTo>
                    <a:pt x="31" y="0"/>
                  </a:lnTo>
                  <a:lnTo>
                    <a:pt x="355" y="137"/>
                  </a:lnTo>
                  <a:lnTo>
                    <a:pt x="346" y="141"/>
                  </a:lnTo>
                  <a:lnTo>
                    <a:pt x="339" y="144"/>
                  </a:lnTo>
                  <a:lnTo>
                    <a:pt x="333" y="150"/>
                  </a:lnTo>
                  <a:lnTo>
                    <a:pt x="329" y="159"/>
                  </a:lnTo>
                  <a:lnTo>
                    <a:pt x="324" y="159"/>
                  </a:lnTo>
                  <a:lnTo>
                    <a:pt x="321" y="159"/>
                  </a:lnTo>
                  <a:lnTo>
                    <a:pt x="318" y="158"/>
                  </a:lnTo>
                  <a:lnTo>
                    <a:pt x="315" y="157"/>
                  </a:lnTo>
                  <a:lnTo>
                    <a:pt x="133" y="81"/>
                  </a:lnTo>
                  <a:close/>
                </a:path>
              </a:pathLst>
            </a:custGeom>
            <a:solidFill>
              <a:srgbClr val="c9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H="1">
              <a:off x="2121840" y="3578400"/>
              <a:ext cx="160200" cy="76320"/>
            </a:xfrm>
            <a:custGeom>
              <a:avLst/>
              <a:gdLst/>
              <a:ahLst/>
              <a:rect l="l" t="t" r="r" b="b"/>
              <a:pathLst>
                <a:path w="203" h="95">
                  <a:moveTo>
                    <a:pt x="0" y="24"/>
                  </a:moveTo>
                  <a:lnTo>
                    <a:pt x="0" y="35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32" y="80"/>
                  </a:lnTo>
                  <a:lnTo>
                    <a:pt x="140" y="81"/>
                  </a:lnTo>
                  <a:lnTo>
                    <a:pt x="148" y="85"/>
                  </a:lnTo>
                  <a:lnTo>
                    <a:pt x="156" y="88"/>
                  </a:lnTo>
                  <a:lnTo>
                    <a:pt x="168" y="92"/>
                  </a:lnTo>
                  <a:lnTo>
                    <a:pt x="181" y="94"/>
                  </a:lnTo>
                  <a:lnTo>
                    <a:pt x="199" y="95"/>
                  </a:lnTo>
                  <a:lnTo>
                    <a:pt x="200" y="92"/>
                  </a:lnTo>
                  <a:lnTo>
                    <a:pt x="201" y="88"/>
                  </a:lnTo>
                  <a:lnTo>
                    <a:pt x="202" y="86"/>
                  </a:lnTo>
                  <a:lnTo>
                    <a:pt x="203" y="84"/>
                  </a:lnTo>
                  <a:lnTo>
                    <a:pt x="9" y="0"/>
                  </a:lnTo>
                  <a:lnTo>
                    <a:pt x="6" y="7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flipH="1">
              <a:off x="2281320" y="3576600"/>
              <a:ext cx="144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 flipH="1">
              <a:off x="2282760" y="3537000"/>
              <a:ext cx="115920" cy="6372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145" y="56"/>
                  </a:moveTo>
                  <a:lnTo>
                    <a:pt x="145" y="49"/>
                  </a:lnTo>
                  <a:lnTo>
                    <a:pt x="31" y="0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79" y="60"/>
                  </a:lnTo>
                  <a:lnTo>
                    <a:pt x="82" y="57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4"/>
                  </a:lnTo>
                  <a:lnTo>
                    <a:pt x="90" y="56"/>
                  </a:lnTo>
                  <a:lnTo>
                    <a:pt x="88" y="57"/>
                  </a:lnTo>
                  <a:lnTo>
                    <a:pt x="87" y="60"/>
                  </a:lnTo>
                  <a:lnTo>
                    <a:pt x="84" y="62"/>
                  </a:lnTo>
                  <a:lnTo>
                    <a:pt x="125" y="78"/>
                  </a:lnTo>
                  <a:lnTo>
                    <a:pt x="127" y="75"/>
                  </a:lnTo>
                  <a:lnTo>
                    <a:pt x="128" y="71"/>
                  </a:lnTo>
                  <a:lnTo>
                    <a:pt x="130" y="69"/>
                  </a:lnTo>
                  <a:lnTo>
                    <a:pt x="132" y="67"/>
                  </a:lnTo>
                  <a:lnTo>
                    <a:pt x="133" y="69"/>
                  </a:lnTo>
                  <a:lnTo>
                    <a:pt x="135" y="71"/>
                  </a:lnTo>
                  <a:lnTo>
                    <a:pt x="136" y="74"/>
                  </a:lnTo>
                  <a:lnTo>
                    <a:pt x="136" y="76"/>
                  </a:lnTo>
                  <a:lnTo>
                    <a:pt x="139" y="71"/>
                  </a:lnTo>
                  <a:lnTo>
                    <a:pt x="141" y="67"/>
                  </a:lnTo>
                  <a:lnTo>
                    <a:pt x="143" y="62"/>
                  </a:lnTo>
                  <a:lnTo>
                    <a:pt x="145" y="56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 flipH="1">
              <a:off x="2282040" y="3597480"/>
              <a:ext cx="46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 flipH="1">
              <a:off x="2135880" y="3592800"/>
              <a:ext cx="149400" cy="60120"/>
            </a:xfrm>
            <a:custGeom>
              <a:avLst/>
              <a:gdLst/>
              <a:ahLst/>
              <a:rect l="l" t="t" r="r" b="b"/>
              <a:pathLst>
                <a:path w="188" h="76">
                  <a:moveTo>
                    <a:pt x="6" y="0"/>
                  </a:moveTo>
                  <a:lnTo>
                    <a:pt x="1" y="1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97" y="76"/>
                  </a:lnTo>
                  <a:lnTo>
                    <a:pt x="112" y="68"/>
                  </a:lnTo>
                  <a:lnTo>
                    <a:pt x="123" y="63"/>
                  </a:lnTo>
                  <a:lnTo>
                    <a:pt x="134" y="62"/>
                  </a:lnTo>
                  <a:lnTo>
                    <a:pt x="142" y="64"/>
                  </a:lnTo>
                  <a:lnTo>
                    <a:pt x="151" y="68"/>
                  </a:lnTo>
                  <a:lnTo>
                    <a:pt x="160" y="71"/>
                  </a:lnTo>
                  <a:lnTo>
                    <a:pt x="173" y="74"/>
                  </a:lnTo>
                  <a:lnTo>
                    <a:pt x="188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flipH="1">
              <a:off x="2287440" y="3548160"/>
              <a:ext cx="123840" cy="6336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57" y="53"/>
                  </a:moveTo>
                  <a:lnTo>
                    <a:pt x="156" y="55"/>
                  </a:lnTo>
                  <a:lnTo>
                    <a:pt x="155" y="57"/>
                  </a:lnTo>
                  <a:lnTo>
                    <a:pt x="153" y="60"/>
                  </a:lnTo>
                  <a:lnTo>
                    <a:pt x="152" y="62"/>
                  </a:lnTo>
                  <a:lnTo>
                    <a:pt x="152" y="60"/>
                  </a:lnTo>
                  <a:lnTo>
                    <a:pt x="151" y="57"/>
                  </a:lnTo>
                  <a:lnTo>
                    <a:pt x="149" y="55"/>
                  </a:lnTo>
                  <a:lnTo>
                    <a:pt x="148" y="53"/>
                  </a:lnTo>
                  <a:lnTo>
                    <a:pt x="144" y="58"/>
                  </a:lnTo>
                  <a:lnTo>
                    <a:pt x="140" y="64"/>
                  </a:lnTo>
                  <a:lnTo>
                    <a:pt x="134" y="71"/>
                  </a:lnTo>
                  <a:lnTo>
                    <a:pt x="128" y="79"/>
                  </a:lnTo>
                  <a:lnTo>
                    <a:pt x="88" y="60"/>
                  </a:lnTo>
                  <a:lnTo>
                    <a:pt x="92" y="56"/>
                  </a:lnTo>
                  <a:lnTo>
                    <a:pt x="97" y="51"/>
                  </a:lnTo>
                  <a:lnTo>
                    <a:pt x="102" y="46"/>
                  </a:lnTo>
                  <a:lnTo>
                    <a:pt x="107" y="40"/>
                  </a:lnTo>
                  <a:lnTo>
                    <a:pt x="98" y="45"/>
                  </a:lnTo>
                  <a:lnTo>
                    <a:pt x="91" y="48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0" y="24"/>
                  </a:lnTo>
                  <a:lnTo>
                    <a:pt x="8" y="17"/>
                  </a:lnTo>
                  <a:lnTo>
                    <a:pt x="16" y="11"/>
                  </a:lnTo>
                  <a:lnTo>
                    <a:pt x="23" y="5"/>
                  </a:lnTo>
                  <a:lnTo>
                    <a:pt x="31" y="0"/>
                  </a:lnTo>
                  <a:lnTo>
                    <a:pt x="157" y="53"/>
                  </a:lnTo>
                  <a:close/>
                </a:path>
              </a:pathLst>
            </a:custGeom>
            <a:solidFill>
              <a:srgbClr val="d1a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 flipH="1">
              <a:off x="2193840" y="3605400"/>
              <a:ext cx="93600" cy="6012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7" y="46"/>
                  </a:moveTo>
                  <a:lnTo>
                    <a:pt x="19" y="44"/>
                  </a:lnTo>
                  <a:lnTo>
                    <a:pt x="9" y="30"/>
                  </a:lnTo>
                  <a:lnTo>
                    <a:pt x="3" y="19"/>
                  </a:lnTo>
                  <a:lnTo>
                    <a:pt x="1" y="9"/>
                  </a:lnTo>
                  <a:lnTo>
                    <a:pt x="0" y="0"/>
                  </a:lnTo>
                  <a:lnTo>
                    <a:pt x="117" y="51"/>
                  </a:lnTo>
                  <a:lnTo>
                    <a:pt x="112" y="53"/>
                  </a:lnTo>
                  <a:lnTo>
                    <a:pt x="106" y="57"/>
                  </a:lnTo>
                  <a:lnTo>
                    <a:pt x="99" y="61"/>
                  </a:lnTo>
                  <a:lnTo>
                    <a:pt x="91" y="67"/>
                  </a:lnTo>
                  <a:lnTo>
                    <a:pt x="91" y="69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3" y="7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 flipH="1">
              <a:off x="2299680" y="3587760"/>
              <a:ext cx="42840" cy="349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0" y="14"/>
                  </a:moveTo>
                  <a:lnTo>
                    <a:pt x="0" y="31"/>
                  </a:lnTo>
                  <a:lnTo>
                    <a:pt x="34" y="45"/>
                  </a:lnTo>
                  <a:lnTo>
                    <a:pt x="40" y="38"/>
                  </a:lnTo>
                  <a:lnTo>
                    <a:pt x="45" y="30"/>
                  </a:lnTo>
                  <a:lnTo>
                    <a:pt x="50" y="23"/>
                  </a:lnTo>
                  <a:lnTo>
                    <a:pt x="56" y="16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 flipH="1">
              <a:off x="2336760" y="3579840"/>
              <a:ext cx="6480" cy="97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 flipH="1">
              <a:off x="2343240" y="3559320"/>
              <a:ext cx="79200" cy="4428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100" y="38"/>
                  </a:moveTo>
                  <a:lnTo>
                    <a:pt x="100" y="28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5" y="11"/>
                  </a:lnTo>
                  <a:lnTo>
                    <a:pt x="8" y="16"/>
                  </a:lnTo>
                  <a:lnTo>
                    <a:pt x="0" y="23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5" y="29"/>
                  </a:lnTo>
                  <a:lnTo>
                    <a:pt x="40" y="28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40" y="37"/>
                  </a:lnTo>
                  <a:lnTo>
                    <a:pt x="38" y="41"/>
                  </a:lnTo>
                  <a:lnTo>
                    <a:pt x="80" y="57"/>
                  </a:lnTo>
                  <a:lnTo>
                    <a:pt x="85" y="52"/>
                  </a:lnTo>
                  <a:lnTo>
                    <a:pt x="90" y="46"/>
                  </a:lnTo>
                  <a:lnTo>
                    <a:pt x="96" y="42"/>
                  </a:lnTo>
                  <a:lnTo>
                    <a:pt x="100" y="38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H="1">
              <a:off x="2343240" y="3597480"/>
              <a:ext cx="7920" cy="140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lnTo>
                    <a:pt x="9" y="0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H="1">
              <a:off x="2208960" y="3622680"/>
              <a:ext cx="73080" cy="5580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27" y="47"/>
                  </a:moveTo>
                  <a:lnTo>
                    <a:pt x="23" y="45"/>
                  </a:lnTo>
                  <a:lnTo>
                    <a:pt x="20" y="43"/>
                  </a:lnTo>
                  <a:lnTo>
                    <a:pt x="17" y="39"/>
                  </a:lnTo>
                  <a:lnTo>
                    <a:pt x="13" y="36"/>
                  </a:lnTo>
                  <a:lnTo>
                    <a:pt x="13" y="32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1" y="15"/>
                  </a:lnTo>
                  <a:lnTo>
                    <a:pt x="6" y="9"/>
                  </a:lnTo>
                  <a:lnTo>
                    <a:pt x="3" y="3"/>
                  </a:lnTo>
                  <a:lnTo>
                    <a:pt x="0" y="0"/>
                  </a:lnTo>
                  <a:lnTo>
                    <a:pt x="94" y="38"/>
                  </a:lnTo>
                  <a:lnTo>
                    <a:pt x="93" y="39"/>
                  </a:lnTo>
                  <a:lnTo>
                    <a:pt x="90" y="41"/>
                  </a:lnTo>
                  <a:lnTo>
                    <a:pt x="89" y="43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90" y="55"/>
                  </a:lnTo>
                  <a:lnTo>
                    <a:pt x="93" y="61"/>
                  </a:lnTo>
                  <a:lnTo>
                    <a:pt x="94" y="67"/>
                  </a:lnTo>
                  <a:lnTo>
                    <a:pt x="90" y="67"/>
                  </a:lnTo>
                  <a:lnTo>
                    <a:pt x="88" y="68"/>
                  </a:lnTo>
                  <a:lnTo>
                    <a:pt x="86" y="69"/>
                  </a:lnTo>
                  <a:lnTo>
                    <a:pt x="82" y="69"/>
                  </a:lnTo>
                  <a:lnTo>
                    <a:pt x="83" y="66"/>
                  </a:lnTo>
                  <a:lnTo>
                    <a:pt x="85" y="63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0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6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4"/>
                  </a:lnTo>
                  <a:lnTo>
                    <a:pt x="47" y="43"/>
                  </a:lnTo>
                  <a:lnTo>
                    <a:pt x="44" y="46"/>
                  </a:lnTo>
                  <a:lnTo>
                    <a:pt x="43" y="48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H="1">
              <a:off x="2309040" y="3595680"/>
              <a:ext cx="42840" cy="381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19"/>
                  </a:moveTo>
                  <a:lnTo>
                    <a:pt x="0" y="33"/>
                  </a:lnTo>
                  <a:lnTo>
                    <a:pt x="33" y="47"/>
                  </a:lnTo>
                  <a:lnTo>
                    <a:pt x="39" y="40"/>
                  </a:lnTo>
                  <a:lnTo>
                    <a:pt x="44" y="33"/>
                  </a:lnTo>
                  <a:lnTo>
                    <a:pt x="49" y="26"/>
                  </a:lnTo>
                  <a:lnTo>
                    <a:pt x="54" y="19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7" y="9"/>
                  </a:lnTo>
                  <a:lnTo>
                    <a:pt x="3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 flipH="1">
              <a:off x="2348640" y="3592800"/>
              <a:ext cx="3240" cy="2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 flipH="1">
              <a:off x="2352600" y="3567240"/>
              <a:ext cx="82800" cy="442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5" y="36"/>
                  </a:moveTo>
                  <a:lnTo>
                    <a:pt x="105" y="31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6" y="11"/>
                  </a:lnTo>
                  <a:lnTo>
                    <a:pt x="8" y="18"/>
                  </a:lnTo>
                  <a:lnTo>
                    <a:pt x="0" y="24"/>
                  </a:lnTo>
                  <a:lnTo>
                    <a:pt x="29" y="36"/>
                  </a:lnTo>
                  <a:lnTo>
                    <a:pt x="36" y="30"/>
                  </a:lnTo>
                  <a:lnTo>
                    <a:pt x="44" y="24"/>
                  </a:lnTo>
                  <a:lnTo>
                    <a:pt x="52" y="18"/>
                  </a:lnTo>
                  <a:lnTo>
                    <a:pt x="62" y="14"/>
                  </a:lnTo>
                  <a:lnTo>
                    <a:pt x="60" y="22"/>
                  </a:lnTo>
                  <a:lnTo>
                    <a:pt x="55" y="29"/>
                  </a:lnTo>
                  <a:lnTo>
                    <a:pt x="51" y="34"/>
                  </a:lnTo>
                  <a:lnTo>
                    <a:pt x="45" y="40"/>
                  </a:lnTo>
                  <a:lnTo>
                    <a:pt x="51" y="42"/>
                  </a:lnTo>
                  <a:lnTo>
                    <a:pt x="56" y="44"/>
                  </a:lnTo>
                  <a:lnTo>
                    <a:pt x="61" y="46"/>
                  </a:lnTo>
                  <a:lnTo>
                    <a:pt x="67" y="47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1" y="53"/>
                  </a:lnTo>
                  <a:lnTo>
                    <a:pt x="85" y="55"/>
                  </a:lnTo>
                  <a:lnTo>
                    <a:pt x="91" y="49"/>
                  </a:lnTo>
                  <a:lnTo>
                    <a:pt x="97" y="44"/>
                  </a:lnTo>
                  <a:lnTo>
                    <a:pt x="101" y="39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H="1">
              <a:off x="2351880" y="3611520"/>
              <a:ext cx="1800" cy="111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H="1">
              <a:off x="2208960" y="3641760"/>
              <a:ext cx="63720" cy="3672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16" y="36"/>
                  </a:moveTo>
                  <a:lnTo>
                    <a:pt x="16" y="34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9" y="26"/>
                  </a:lnTo>
                  <a:lnTo>
                    <a:pt x="14" y="22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76" y="30"/>
                  </a:lnTo>
                  <a:lnTo>
                    <a:pt x="77" y="35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81" y="43"/>
                  </a:lnTo>
                  <a:lnTo>
                    <a:pt x="77" y="43"/>
                  </a:lnTo>
                  <a:lnTo>
                    <a:pt x="75" y="44"/>
                  </a:lnTo>
                  <a:lnTo>
                    <a:pt x="73" y="45"/>
                  </a:lnTo>
                  <a:lnTo>
                    <a:pt x="69" y="45"/>
                  </a:lnTo>
                  <a:lnTo>
                    <a:pt x="70" y="42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2" y="36"/>
                  </a:lnTo>
                  <a:lnTo>
                    <a:pt x="67" y="32"/>
                  </a:lnTo>
                  <a:lnTo>
                    <a:pt x="62" y="30"/>
                  </a:lnTo>
                  <a:lnTo>
                    <a:pt x="58" y="28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4" y="21"/>
                  </a:lnTo>
                  <a:lnTo>
                    <a:pt x="38" y="20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H="1">
              <a:off x="2317680" y="3606840"/>
              <a:ext cx="36720" cy="349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20"/>
                  </a:moveTo>
                  <a:lnTo>
                    <a:pt x="42" y="26"/>
                  </a:lnTo>
                  <a:lnTo>
                    <a:pt x="38" y="30"/>
                  </a:lnTo>
                  <a:lnTo>
                    <a:pt x="34" y="37"/>
                  </a:lnTo>
                  <a:lnTo>
                    <a:pt x="31" y="44"/>
                  </a:lnTo>
                  <a:lnTo>
                    <a:pt x="19" y="40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6"/>
                  </a:lnTo>
                  <a:lnTo>
                    <a:pt x="4" y="0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H="1">
              <a:off x="2359800" y="3591000"/>
              <a:ext cx="39960" cy="2052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51" y="16"/>
                  </a:moveTo>
                  <a:lnTo>
                    <a:pt x="48" y="18"/>
                  </a:lnTo>
                  <a:lnTo>
                    <a:pt x="46" y="20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6" y="24"/>
                  </a:lnTo>
                  <a:lnTo>
                    <a:pt x="31" y="22"/>
                  </a:lnTo>
                  <a:lnTo>
                    <a:pt x="26" y="20"/>
                  </a:lnTo>
                  <a:lnTo>
                    <a:pt x="22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6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3"/>
                  </a:lnTo>
                  <a:lnTo>
                    <a:pt x="9" y="0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H="1">
              <a:off x="2401200" y="3576600"/>
              <a:ext cx="42840" cy="30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27" y="38"/>
                  </a:moveTo>
                  <a:lnTo>
                    <a:pt x="33" y="31"/>
                  </a:lnTo>
                  <a:lnTo>
                    <a:pt x="39" y="26"/>
                  </a:lnTo>
                  <a:lnTo>
                    <a:pt x="46" y="20"/>
                  </a:lnTo>
                  <a:lnTo>
                    <a:pt x="54" y="13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27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 flipH="1">
              <a:off x="2254320" y="3660840"/>
              <a:ext cx="792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3"/>
                  </a:moveTo>
                  <a:lnTo>
                    <a:pt x="2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H="1">
              <a:off x="2325600" y="362124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5" y="16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17" y="20"/>
                  </a:lnTo>
                  <a:lnTo>
                    <a:pt x="6" y="13"/>
                  </a:lnTo>
                  <a:lnTo>
                    <a:pt x="2" y="7"/>
                  </a:lnTo>
                  <a:lnTo>
                    <a:pt x="0" y="0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H="1">
              <a:off x="2412360" y="3587760"/>
              <a:ext cx="44280" cy="30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6" y="38"/>
                  </a:moveTo>
                  <a:lnTo>
                    <a:pt x="34" y="32"/>
                  </a:lnTo>
                  <a:lnTo>
                    <a:pt x="41" y="25"/>
                  </a:lnTo>
                  <a:lnTo>
                    <a:pt x="48" y="18"/>
                  </a:lnTo>
                  <a:lnTo>
                    <a:pt x="55" y="12"/>
                  </a:lnTo>
                  <a:lnTo>
                    <a:pt x="26" y="0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6" y="18"/>
                  </a:lnTo>
                  <a:lnTo>
                    <a:pt x="0" y="25"/>
                  </a:lnTo>
                  <a:lnTo>
                    <a:pt x="26" y="38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H="1">
              <a:off x="2421720" y="3597480"/>
              <a:ext cx="4284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9" y="31"/>
                  </a:moveTo>
                  <a:lnTo>
                    <a:pt x="17" y="30"/>
                  </a:lnTo>
                  <a:lnTo>
                    <a:pt x="25" y="29"/>
                  </a:lnTo>
                  <a:lnTo>
                    <a:pt x="31" y="26"/>
                  </a:lnTo>
                  <a:lnTo>
                    <a:pt x="37" y="24"/>
                  </a:lnTo>
                  <a:lnTo>
                    <a:pt x="43" y="22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4" y="11"/>
                  </a:lnTo>
                  <a:lnTo>
                    <a:pt x="27" y="0"/>
                  </a:lnTo>
                  <a:lnTo>
                    <a:pt x="18" y="6"/>
                  </a:lnTo>
                  <a:lnTo>
                    <a:pt x="12" y="13"/>
                  </a:lnTo>
                  <a:lnTo>
                    <a:pt x="6" y="19"/>
                  </a:lnTo>
                  <a:lnTo>
                    <a:pt x="0" y="26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e8b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H="1">
              <a:off x="2434680" y="3606840"/>
              <a:ext cx="34920" cy="176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13"/>
                  </a:moveTo>
                  <a:lnTo>
                    <a:pt x="40" y="14"/>
                  </a:lnTo>
                  <a:lnTo>
                    <a:pt x="35" y="17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7" y="21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8" y="12"/>
                  </a:lnTo>
                  <a:lnTo>
                    <a:pt x="13" y="6"/>
                  </a:lnTo>
                  <a:lnTo>
                    <a:pt x="17" y="0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ed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H="1">
              <a:off x="2458440" y="3619440"/>
              <a:ext cx="11160" cy="5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5"/>
                  </a:moveTo>
                  <a:lnTo>
                    <a:pt x="11" y="5"/>
                  </a:lnTo>
                  <a:lnTo>
                    <a:pt x="7" y="5"/>
                  </a:lnTo>
                  <a:lnTo>
                    <a:pt x="4" y="6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f2c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 flipH="1">
              <a:off x="2487600" y="3606840"/>
              <a:ext cx="47520" cy="1584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0" y="0"/>
                  </a:moveTo>
                  <a:lnTo>
                    <a:pt x="35" y="15"/>
                  </a:lnTo>
                  <a:lnTo>
                    <a:pt x="50" y="20"/>
                  </a:lnTo>
                  <a:lnTo>
                    <a:pt x="6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 flipH="1">
              <a:off x="2481120" y="3600720"/>
              <a:ext cx="61920" cy="18720"/>
            </a:xfrm>
            <a:custGeom>
              <a:avLst/>
              <a:gdLst/>
              <a:ahLst/>
              <a:rect l="l" t="t" r="r" b="b"/>
              <a:pathLst>
                <a:path w="78" h="24">
                  <a:moveTo>
                    <a:pt x="43" y="22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78" y="12"/>
                  </a:lnTo>
                  <a:lnTo>
                    <a:pt x="67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e5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H="1">
              <a:off x="2478240" y="3595680"/>
              <a:ext cx="64800" cy="19080"/>
            </a:xfrm>
            <a:custGeom>
              <a:avLst/>
              <a:gdLst/>
              <a:ahLst/>
              <a:rect l="l" t="t" r="r" b="b"/>
              <a:pathLst>
                <a:path w="83" h="24">
                  <a:moveTo>
                    <a:pt x="12" y="13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83" y="11"/>
                  </a:lnTo>
                  <a:lnTo>
                    <a:pt x="72" y="24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e8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H="1">
              <a:off x="2473200" y="3591000"/>
              <a:ext cx="68400" cy="1764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7" y="0"/>
                  </a:moveTo>
                  <a:lnTo>
                    <a:pt x="0" y="11"/>
                  </a:lnTo>
                  <a:lnTo>
                    <a:pt x="76" y="23"/>
                  </a:lnTo>
                  <a:lnTo>
                    <a:pt x="87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8e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H="1">
              <a:off x="2467800" y="3584520"/>
              <a:ext cx="71640" cy="2088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" y="0"/>
                  </a:moveTo>
                  <a:lnTo>
                    <a:pt x="0" y="14"/>
                  </a:lnTo>
                  <a:lnTo>
                    <a:pt x="78" y="25"/>
                  </a:lnTo>
                  <a:lnTo>
                    <a:pt x="91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8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H="1">
              <a:off x="2463120" y="3579840"/>
              <a:ext cx="73080" cy="2088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11" y="0"/>
                  </a:moveTo>
                  <a:lnTo>
                    <a:pt x="0" y="13"/>
                  </a:lnTo>
                  <a:lnTo>
                    <a:pt x="80" y="24"/>
                  </a:lnTo>
                  <a:lnTo>
                    <a:pt x="91" y="13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a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H="1">
              <a:off x="2458440" y="3575160"/>
              <a:ext cx="74520" cy="1908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8" y="0"/>
                  </a:moveTo>
                  <a:lnTo>
                    <a:pt x="0" y="13"/>
                  </a:lnTo>
                  <a:lnTo>
                    <a:pt x="82" y="24"/>
                  </a:lnTo>
                  <a:lnTo>
                    <a:pt x="93" y="13"/>
                  </a:lnTo>
                  <a:lnTo>
                    <a:pt x="67" y="9"/>
                  </a:lnTo>
                  <a:lnTo>
                    <a:pt x="64" y="15"/>
                  </a:lnTo>
                  <a:lnTo>
                    <a:pt x="58" y="15"/>
                  </a:lnTo>
                  <a:lnTo>
                    <a:pt x="67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a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H="1">
              <a:off x="2455200" y="3570480"/>
              <a:ext cx="73080" cy="20520"/>
            </a:xfrm>
            <a:custGeom>
              <a:avLst/>
              <a:gdLst/>
              <a:ahLst/>
              <a:rect l="l" t="t" r="r" b="b"/>
              <a:pathLst>
                <a:path w="92" h="27">
                  <a:moveTo>
                    <a:pt x="7" y="0"/>
                  </a:moveTo>
                  <a:lnTo>
                    <a:pt x="0" y="14"/>
                  </a:lnTo>
                  <a:lnTo>
                    <a:pt x="54" y="22"/>
                  </a:lnTo>
                  <a:lnTo>
                    <a:pt x="69" y="9"/>
                  </a:lnTo>
                  <a:lnTo>
                    <a:pt x="92" y="14"/>
                  </a:lnTo>
                  <a:lnTo>
                    <a:pt x="80" y="27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9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H="1">
              <a:off x="2450520" y="3565800"/>
              <a:ext cx="75960" cy="18720"/>
            </a:xfrm>
            <a:custGeom>
              <a:avLst/>
              <a:gdLst/>
              <a:ahLst/>
              <a:rect l="l" t="t" r="r" b="b"/>
              <a:pathLst>
                <a:path w="94" h="24">
                  <a:moveTo>
                    <a:pt x="9" y="0"/>
                  </a:moveTo>
                  <a:lnTo>
                    <a:pt x="0" y="11"/>
                  </a:lnTo>
                  <a:lnTo>
                    <a:pt x="59" y="20"/>
                  </a:lnTo>
                  <a:lnTo>
                    <a:pt x="74" y="9"/>
                  </a:lnTo>
                  <a:lnTo>
                    <a:pt x="94" y="11"/>
                  </a:lnTo>
                  <a:lnTo>
                    <a:pt x="85" y="24"/>
                  </a:lnTo>
                  <a:lnTo>
                    <a:pt x="59" y="20"/>
                  </a:lnTo>
                  <a:lnTo>
                    <a:pt x="7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>
              <a:off x="2444040" y="3567240"/>
              <a:ext cx="25560" cy="126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7"/>
                  </a:moveTo>
                  <a:lnTo>
                    <a:pt x="0" y="14"/>
                  </a:lnTo>
                  <a:lnTo>
                    <a:pt x="19" y="16"/>
                  </a:lnTo>
                  <a:lnTo>
                    <a:pt x="32" y="4"/>
                  </a:lnTo>
                  <a:lnTo>
                    <a:pt x="1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H="1">
              <a:off x="2465280" y="3567240"/>
              <a:ext cx="504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H="1">
              <a:off x="2469600" y="356076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6"/>
                  </a:moveTo>
                  <a:lnTo>
                    <a:pt x="66" y="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62" y="2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H="1">
              <a:off x="2470320" y="357372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H="1">
              <a:off x="2440080" y="356400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lnTo>
                    <a:pt x="0" y="12"/>
                  </a:lnTo>
                  <a:lnTo>
                    <a:pt x="18" y="14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H="1">
              <a:off x="2465280" y="3554640"/>
              <a:ext cx="54000" cy="1908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7" y="15"/>
                  </a:moveTo>
                  <a:lnTo>
                    <a:pt x="67" y="10"/>
                  </a:lnTo>
                  <a:lnTo>
                    <a:pt x="9" y="0"/>
                  </a:lnTo>
                  <a:lnTo>
                    <a:pt x="7" y="3"/>
                  </a:lnTo>
                  <a:lnTo>
                    <a:pt x="0" y="15"/>
                  </a:lnTo>
                  <a:lnTo>
                    <a:pt x="62" y="24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H="1">
              <a:off x="2464560" y="357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H="1">
              <a:off x="2428920" y="355932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2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1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H="1">
              <a:off x="2460600" y="3549600"/>
              <a:ext cx="55440" cy="176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69" y="13"/>
                  </a:moveTo>
                  <a:lnTo>
                    <a:pt x="69" y="10"/>
                  </a:lnTo>
                  <a:lnTo>
                    <a:pt x="45" y="5"/>
                  </a:lnTo>
                  <a:lnTo>
                    <a:pt x="38" y="10"/>
                  </a:lnTo>
                  <a:lnTo>
                    <a:pt x="40" y="5"/>
                  </a:lnTo>
                  <a:lnTo>
                    <a:pt x="11" y="0"/>
                  </a:lnTo>
                  <a:lnTo>
                    <a:pt x="2" y="8"/>
                  </a:lnTo>
                  <a:lnTo>
                    <a:pt x="0" y="13"/>
                  </a:lnTo>
                  <a:lnTo>
                    <a:pt x="62" y="22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e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H="1">
              <a:off x="2425680" y="3554640"/>
              <a:ext cx="30240" cy="111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0"/>
                  </a:moveTo>
                  <a:lnTo>
                    <a:pt x="0" y="12"/>
                  </a:lnTo>
                  <a:lnTo>
                    <a:pt x="19" y="15"/>
                  </a:lnTo>
                  <a:lnTo>
                    <a:pt x="31" y="10"/>
                  </a:lnTo>
                  <a:lnTo>
                    <a:pt x="38" y="5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H="1">
              <a:off x="2453400" y="3552840"/>
              <a:ext cx="1800" cy="18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H="1">
              <a:off x="2455920" y="3544920"/>
              <a:ext cx="55440" cy="1764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12"/>
                  </a:moveTo>
                  <a:lnTo>
                    <a:pt x="72" y="9"/>
                  </a:lnTo>
                  <a:lnTo>
                    <a:pt x="49" y="7"/>
                  </a:lnTo>
                  <a:lnTo>
                    <a:pt x="34" y="17"/>
                  </a:lnTo>
                  <a:lnTo>
                    <a:pt x="38" y="5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0" y="12"/>
                  </a:lnTo>
                  <a:lnTo>
                    <a:pt x="63" y="2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H="1">
              <a:off x="2419200" y="3549600"/>
              <a:ext cx="30240" cy="129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0"/>
                  </a:moveTo>
                  <a:lnTo>
                    <a:pt x="0" y="10"/>
                  </a:lnTo>
                  <a:lnTo>
                    <a:pt x="26" y="15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flipH="1">
              <a:off x="2449440" y="3544920"/>
              <a:ext cx="28800" cy="14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5"/>
                  </a:moveTo>
                  <a:lnTo>
                    <a:pt x="36" y="5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4" y="17"/>
                  </a:lnTo>
                  <a:lnTo>
                    <a:pt x="31" y="7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H="1">
              <a:off x="2475720" y="35434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flipH="1">
              <a:off x="2477520" y="3541680"/>
              <a:ext cx="28440" cy="1296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5"/>
                  </a:moveTo>
                  <a:lnTo>
                    <a:pt x="36" y="3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29" y="17"/>
                  </a:lnTo>
                  <a:lnTo>
                    <a:pt x="34" y="5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H="1">
              <a:off x="2413080" y="354492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2"/>
                  </a:moveTo>
                  <a:lnTo>
                    <a:pt x="0" y="12"/>
                  </a:lnTo>
                  <a:lnTo>
                    <a:pt x="23" y="1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H="1">
              <a:off x="2442600" y="354024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5"/>
                  </a:moveTo>
                  <a:lnTo>
                    <a:pt x="34" y="5"/>
                  </a:lnTo>
                  <a:lnTo>
                    <a:pt x="7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H="1">
              <a:off x="2470320" y="3535560"/>
              <a:ext cx="33120" cy="126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7"/>
                  </a:moveTo>
                  <a:lnTo>
                    <a:pt x="41" y="5"/>
                  </a:lnTo>
                  <a:lnTo>
                    <a:pt x="10" y="0"/>
                  </a:lnTo>
                  <a:lnTo>
                    <a:pt x="6" y="5"/>
                  </a:lnTo>
                  <a:lnTo>
                    <a:pt x="0" y="12"/>
                  </a:lnTo>
                  <a:lnTo>
                    <a:pt x="26" y="17"/>
                  </a:lnTo>
                  <a:lnTo>
                    <a:pt x="29" y="12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H="1">
              <a:off x="2470320" y="3546720"/>
              <a:ext cx="2880" cy="2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H="1">
              <a:off x="2437560" y="3535560"/>
              <a:ext cx="27000" cy="126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7"/>
                  </a:moveTo>
                  <a:lnTo>
                    <a:pt x="0" y="12"/>
                  </a:lnTo>
                  <a:lnTo>
                    <a:pt x="21" y="17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 flipH="1">
              <a:off x="2461320" y="3533760"/>
              <a:ext cx="324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 flipH="1">
              <a:off x="2407680" y="3541680"/>
              <a:ext cx="29880" cy="111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2"/>
                  </a:moveTo>
                  <a:lnTo>
                    <a:pt x="9" y="5"/>
                  </a:lnTo>
                  <a:lnTo>
                    <a:pt x="16" y="0"/>
                  </a:lnTo>
                  <a:lnTo>
                    <a:pt x="38" y="3"/>
                  </a:lnTo>
                  <a:lnTo>
                    <a:pt x="29" y="12"/>
                  </a:lnTo>
                  <a:lnTo>
                    <a:pt x="2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H="1">
              <a:off x="2464560" y="3532320"/>
              <a:ext cx="33480" cy="1116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0" y="9"/>
                  </a:moveTo>
                  <a:lnTo>
                    <a:pt x="40" y="2"/>
                  </a:lnTo>
                  <a:lnTo>
                    <a:pt x="11" y="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5" y="1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flipH="1">
              <a:off x="2431440" y="3530880"/>
              <a:ext cx="2844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9"/>
                  </a:moveTo>
                  <a:lnTo>
                    <a:pt x="0" y="13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6" y="4"/>
                  </a:lnTo>
                  <a:lnTo>
                    <a:pt x="7" y="0"/>
                  </a:lnTo>
                  <a:lnTo>
                    <a:pt x="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H="1">
              <a:off x="2401200" y="3535560"/>
              <a:ext cx="28440" cy="126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2"/>
                  </a:moveTo>
                  <a:lnTo>
                    <a:pt x="0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22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H="1">
              <a:off x="2459880" y="3525840"/>
              <a:ext cx="33480" cy="144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10"/>
                  </a:moveTo>
                  <a:lnTo>
                    <a:pt x="43" y="6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 flipH="1">
              <a:off x="2427120" y="352584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8"/>
                  </a:moveTo>
                  <a:lnTo>
                    <a:pt x="0" y="12"/>
                  </a:lnTo>
                  <a:lnTo>
                    <a:pt x="24" y="17"/>
                  </a:lnTo>
                  <a:lnTo>
                    <a:pt x="31" y="10"/>
                  </a:lnTo>
                  <a:lnTo>
                    <a:pt x="38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 flipH="1">
              <a:off x="2396520" y="3532320"/>
              <a:ext cx="2844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11"/>
                  </a:moveTo>
                  <a:lnTo>
                    <a:pt x="0" y="9"/>
                  </a:lnTo>
                  <a:lnTo>
                    <a:pt x="13" y="0"/>
                  </a:lnTo>
                  <a:lnTo>
                    <a:pt x="36" y="2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H="1">
              <a:off x="2457360" y="3522600"/>
              <a:ext cx="31680" cy="129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8"/>
                  </a:moveTo>
                  <a:lnTo>
                    <a:pt x="41" y="3"/>
                  </a:lnTo>
                  <a:lnTo>
                    <a:pt x="34" y="3"/>
                  </a:lnTo>
                  <a:lnTo>
                    <a:pt x="29" y="8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34" y="17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H="1">
              <a:off x="2456640" y="353232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H="1">
              <a:off x="2421000" y="3522600"/>
              <a:ext cx="3168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11"/>
                  </a:moveTo>
                  <a:lnTo>
                    <a:pt x="0" y="1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40" y="3"/>
                  </a:lnTo>
                  <a:lnTo>
                    <a:pt x="1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 flipH="1">
              <a:off x="2448720" y="3519720"/>
              <a:ext cx="32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 flipH="1">
              <a:off x="2392200" y="3525840"/>
              <a:ext cx="28800" cy="14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5" y="0"/>
                  </a:moveTo>
                  <a:lnTo>
                    <a:pt x="0" y="12"/>
                  </a:lnTo>
                  <a:lnTo>
                    <a:pt x="25" y="17"/>
                  </a:lnTo>
                  <a:lnTo>
                    <a:pt x="36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H="1">
              <a:off x="2452680" y="3517920"/>
              <a:ext cx="30240" cy="129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4"/>
                  </a:moveTo>
                  <a:lnTo>
                    <a:pt x="38" y="2"/>
                  </a:lnTo>
                  <a:lnTo>
                    <a:pt x="31" y="0"/>
                  </a:lnTo>
                  <a:lnTo>
                    <a:pt x="22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31" y="15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H="1">
              <a:off x="2414520" y="351648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10"/>
                  </a:moveTo>
                  <a:lnTo>
                    <a:pt x="0" y="12"/>
                  </a:lnTo>
                  <a:lnTo>
                    <a:pt x="23" y="18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H="1">
              <a:off x="2390760" y="3522600"/>
              <a:ext cx="23760" cy="111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16" y="0"/>
                  </a:moveTo>
                  <a:lnTo>
                    <a:pt x="0" y="13"/>
                  </a:lnTo>
                  <a:lnTo>
                    <a:pt x="23" y="1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H="1">
              <a:off x="2444760" y="3514680"/>
              <a:ext cx="1728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22" y="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8" y="5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H="1">
              <a:off x="2444040" y="352440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H="1">
              <a:off x="2409840" y="3513240"/>
              <a:ext cx="30240" cy="111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9"/>
                  </a:moveTo>
                  <a:lnTo>
                    <a:pt x="0" y="11"/>
                  </a:lnTo>
                  <a:lnTo>
                    <a:pt x="23" y="14"/>
                  </a:lnTo>
                  <a:lnTo>
                    <a:pt x="38" y="2"/>
                  </a:lnTo>
                  <a:lnTo>
                    <a:pt x="17" y="0"/>
                  </a:lnTo>
                  <a:lnTo>
                    <a:pt x="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flipH="1">
              <a:off x="2390040" y="3517920"/>
              <a:ext cx="19080" cy="111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9"/>
                  </a:moveTo>
                  <a:lnTo>
                    <a:pt x="14" y="0"/>
                  </a:lnTo>
                  <a:lnTo>
                    <a:pt x="23" y="9"/>
                  </a:lnTo>
                  <a:lnTo>
                    <a:pt x="21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H="1">
              <a:off x="2439360" y="3510000"/>
              <a:ext cx="19080" cy="97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5"/>
                  </a:moveTo>
                  <a:lnTo>
                    <a:pt x="24" y="2"/>
                  </a:lnTo>
                  <a:lnTo>
                    <a:pt x="9" y="0"/>
                  </a:lnTo>
                  <a:lnTo>
                    <a:pt x="0" y="12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H="1">
              <a:off x="2437560" y="3519720"/>
              <a:ext cx="180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H="1">
              <a:off x="2403360" y="3510000"/>
              <a:ext cx="28800" cy="97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9"/>
                  </a:moveTo>
                  <a:lnTo>
                    <a:pt x="0" y="9"/>
                  </a:lnTo>
                  <a:lnTo>
                    <a:pt x="22" y="14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1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H="1">
              <a:off x="2429640" y="3505320"/>
              <a:ext cx="1800" cy="14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H="1">
              <a:off x="2391480" y="3517920"/>
              <a:ext cx="972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0"/>
                  </a:lnTo>
                  <a:lnTo>
                    <a:pt x="1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H="1">
              <a:off x="2432160" y="3503880"/>
              <a:ext cx="23760" cy="1080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5"/>
                  </a:moveTo>
                  <a:lnTo>
                    <a:pt x="2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H="1">
              <a:off x="2426400" y="3500640"/>
              <a:ext cx="24120" cy="111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0" y="11"/>
                  </a:moveTo>
                  <a:lnTo>
                    <a:pt x="5" y="4"/>
                  </a:lnTo>
                  <a:lnTo>
                    <a:pt x="13" y="0"/>
                  </a:lnTo>
                  <a:lnTo>
                    <a:pt x="32" y="2"/>
                  </a:lnTo>
                  <a:lnTo>
                    <a:pt x="1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H="1">
              <a:off x="2401920" y="3503880"/>
              <a:ext cx="25200" cy="1080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7" y="0"/>
                  </a:moveTo>
                  <a:lnTo>
                    <a:pt x="0" y="12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H="1">
              <a:off x="2420280" y="3494160"/>
              <a:ext cx="270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3"/>
                  </a:moveTo>
                  <a:lnTo>
                    <a:pt x="8" y="5"/>
                  </a:lnTo>
                  <a:lnTo>
                    <a:pt x="17" y="0"/>
                  </a:lnTo>
                  <a:lnTo>
                    <a:pt x="33" y="3"/>
                  </a:lnTo>
                  <a:lnTo>
                    <a:pt x="2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H="1">
              <a:off x="2400480" y="3500640"/>
              <a:ext cx="18720" cy="111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1"/>
                  </a:moveTo>
                  <a:lnTo>
                    <a:pt x="10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1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H="1">
              <a:off x="2416320" y="3489480"/>
              <a:ext cx="25200" cy="126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3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19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H="1">
              <a:off x="2398680" y="3497400"/>
              <a:ext cx="1440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8"/>
                  </a:moveTo>
                  <a:lnTo>
                    <a:pt x="2" y="8"/>
                  </a:lnTo>
                  <a:lnTo>
                    <a:pt x="18" y="0"/>
                  </a:lnTo>
                  <a:lnTo>
                    <a:pt x="14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H="1">
              <a:off x="2411280" y="3486240"/>
              <a:ext cx="22320" cy="972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9"/>
                  </a:moveTo>
                  <a:lnTo>
                    <a:pt x="12" y="5"/>
                  </a:lnTo>
                  <a:lnTo>
                    <a:pt x="22" y="5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6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c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H="1">
              <a:off x="2404440" y="3481560"/>
              <a:ext cx="21960" cy="111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2"/>
                  </a:moveTo>
                  <a:lnTo>
                    <a:pt x="2" y="12"/>
                  </a:lnTo>
                  <a:lnTo>
                    <a:pt x="12" y="12"/>
                  </a:lnTo>
                  <a:lnTo>
                    <a:pt x="15" y="0"/>
                  </a:lnTo>
                  <a:lnTo>
                    <a:pt x="26" y="3"/>
                  </a:lnTo>
                  <a:lnTo>
                    <a:pt x="1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c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H="1">
              <a:off x="2401200" y="3479760"/>
              <a:ext cx="12600" cy="64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H="1">
              <a:off x="2401200" y="3479760"/>
              <a:ext cx="12600" cy="324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H="1">
              <a:off x="2550960" y="3584520"/>
              <a:ext cx="30240" cy="162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6" y="18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H="1">
              <a:off x="2546280" y="3576600"/>
              <a:ext cx="36720" cy="1908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" y="2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7" y="7"/>
                  </a:lnTo>
                  <a:lnTo>
                    <a:pt x="35" y="22"/>
                  </a:lnTo>
                  <a:lnTo>
                    <a:pt x="27" y="25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e5e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H="1">
              <a:off x="2539440" y="357192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2" y="18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54" y="7"/>
                  </a:lnTo>
                  <a:lnTo>
                    <a:pt x="40" y="25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e5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 flipH="1">
              <a:off x="2534400" y="3565800"/>
              <a:ext cx="47880" cy="172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16" y="0"/>
                  </a:moveTo>
                  <a:lnTo>
                    <a:pt x="0" y="13"/>
                  </a:lnTo>
                  <a:lnTo>
                    <a:pt x="47" y="20"/>
                  </a:lnTo>
                  <a:lnTo>
                    <a:pt x="61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flipH="1">
              <a:off x="2529000" y="3560760"/>
              <a:ext cx="48960" cy="1584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7" y="0"/>
                  </a:moveTo>
                  <a:lnTo>
                    <a:pt x="0" y="13"/>
                  </a:lnTo>
                  <a:lnTo>
                    <a:pt x="48" y="20"/>
                  </a:lnTo>
                  <a:lnTo>
                    <a:pt x="63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8e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flipH="1">
              <a:off x="2522520" y="3552840"/>
              <a:ext cx="47520" cy="1908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17" y="0"/>
                  </a:moveTo>
                  <a:lnTo>
                    <a:pt x="0" y="18"/>
                  </a:lnTo>
                  <a:lnTo>
                    <a:pt x="45" y="24"/>
                  </a:lnTo>
                  <a:lnTo>
                    <a:pt x="6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8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 flipH="1">
              <a:off x="2517840" y="3546720"/>
              <a:ext cx="47520" cy="1728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19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5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 flipH="1">
              <a:off x="2511360" y="3541680"/>
              <a:ext cx="46080" cy="1764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16" y="0"/>
                  </a:moveTo>
                  <a:lnTo>
                    <a:pt x="0" y="14"/>
                  </a:lnTo>
                  <a:lnTo>
                    <a:pt x="43" y="22"/>
                  </a:lnTo>
                  <a:lnTo>
                    <a:pt x="56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flipH="1">
              <a:off x="2505960" y="353376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16" y="0"/>
                  </a:moveTo>
                  <a:lnTo>
                    <a:pt x="0" y="16"/>
                  </a:lnTo>
                  <a:lnTo>
                    <a:pt x="40" y="23"/>
                  </a:lnTo>
                  <a:lnTo>
                    <a:pt x="54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H="1">
              <a:off x="2498040" y="3529080"/>
              <a:ext cx="44280" cy="1584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0" y="16"/>
                  </a:moveTo>
                  <a:lnTo>
                    <a:pt x="14" y="3"/>
                  </a:lnTo>
                  <a:lnTo>
                    <a:pt x="20" y="0"/>
                  </a:lnTo>
                  <a:lnTo>
                    <a:pt x="58" y="5"/>
                  </a:lnTo>
                  <a:lnTo>
                    <a:pt x="47" y="14"/>
                  </a:lnTo>
                  <a:lnTo>
                    <a:pt x="4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H="1">
              <a:off x="2490840" y="3522600"/>
              <a:ext cx="46080" cy="1764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15"/>
                  </a:moveTo>
                  <a:lnTo>
                    <a:pt x="5" y="11"/>
                  </a:lnTo>
                  <a:lnTo>
                    <a:pt x="20" y="0"/>
                  </a:lnTo>
                  <a:lnTo>
                    <a:pt x="58" y="5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 flipH="1">
              <a:off x="2482920" y="3516480"/>
              <a:ext cx="46080" cy="1584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18" y="0"/>
                  </a:moveTo>
                  <a:lnTo>
                    <a:pt x="0" y="15"/>
                  </a:lnTo>
                  <a:lnTo>
                    <a:pt x="38" y="20"/>
                  </a:lnTo>
                  <a:lnTo>
                    <a:pt x="5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9" name=""/>
            <p:cNvGrpSpPr/>
            <p:nvPr/>
          </p:nvGrpSpPr>
          <p:grpSpPr>
            <a:xfrm>
              <a:off x="1847520" y="3335400"/>
              <a:ext cx="879480" cy="301680"/>
              <a:chOff x="1847520" y="3335400"/>
              <a:chExt cx="879480" cy="301680"/>
            </a:xfrm>
          </p:grpSpPr>
          <p:sp>
            <p:nvSpPr>
              <p:cNvPr id="4920" name=""/>
              <p:cNvSpPr/>
              <p:nvPr/>
            </p:nvSpPr>
            <p:spPr>
              <a:xfrm flipH="1">
                <a:off x="2477520" y="351000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18" y="0"/>
                    </a:moveTo>
                    <a:lnTo>
                      <a:pt x="0" y="16"/>
                    </a:lnTo>
                    <a:lnTo>
                      <a:pt x="38" y="21"/>
                    </a:lnTo>
                    <a:lnTo>
                      <a:pt x="54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2469600" y="350352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20" y="0"/>
                    </a:moveTo>
                    <a:lnTo>
                      <a:pt x="0" y="16"/>
                    </a:lnTo>
                    <a:lnTo>
                      <a:pt x="38" y="21"/>
                    </a:lnTo>
                    <a:lnTo>
                      <a:pt x="55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2461680" y="3497400"/>
                <a:ext cx="44280" cy="172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20" y="0"/>
                    </a:moveTo>
                    <a:lnTo>
                      <a:pt x="0" y="15"/>
                    </a:lnTo>
                    <a:lnTo>
                      <a:pt x="36" y="22"/>
                    </a:lnTo>
                    <a:lnTo>
                      <a:pt x="56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2455200" y="349236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18" y="0"/>
                    </a:moveTo>
                    <a:lnTo>
                      <a:pt x="0" y="15"/>
                    </a:lnTo>
                    <a:lnTo>
                      <a:pt x="35" y="20"/>
                    </a:lnTo>
                    <a:lnTo>
                      <a:pt x="54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H="1">
                <a:off x="2447280" y="348444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22" y="0"/>
                    </a:moveTo>
                    <a:lnTo>
                      <a:pt x="0" y="16"/>
                    </a:lnTo>
                    <a:lnTo>
                      <a:pt x="36" y="22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H="1">
                <a:off x="2437920" y="347976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22" y="0"/>
                    </a:moveTo>
                    <a:lnTo>
                      <a:pt x="0" y="16"/>
                    </a:lnTo>
                    <a:lnTo>
                      <a:pt x="36" y="21"/>
                    </a:lnTo>
                    <a:lnTo>
                      <a:pt x="45" y="14"/>
                    </a:lnTo>
                    <a:lnTo>
                      <a:pt x="58" y="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H="1">
                <a:off x="2428560" y="3473280"/>
                <a:ext cx="44640" cy="1620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18" y="0"/>
                    </a:moveTo>
                    <a:lnTo>
                      <a:pt x="0" y="14"/>
                    </a:lnTo>
                    <a:lnTo>
                      <a:pt x="32" y="21"/>
                    </a:lnTo>
                    <a:lnTo>
                      <a:pt x="52" y="9"/>
                    </a:lnTo>
                    <a:lnTo>
                      <a:pt x="56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H="1">
                <a:off x="2420640" y="3467160"/>
                <a:ext cx="44640" cy="172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0" y="15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2401200" y="3462480"/>
                <a:ext cx="57240" cy="1404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0" y="15"/>
                    </a:moveTo>
                    <a:lnTo>
                      <a:pt x="9" y="7"/>
                    </a:lnTo>
                    <a:lnTo>
                      <a:pt x="22" y="5"/>
                    </a:lnTo>
                    <a:lnTo>
                      <a:pt x="31" y="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47" y="12"/>
                    </a:lnTo>
                    <a:lnTo>
                      <a:pt x="38" y="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2394720" y="3456000"/>
                <a:ext cx="55800" cy="144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0" y="14"/>
                    </a:moveTo>
                    <a:lnTo>
                      <a:pt x="13" y="12"/>
                    </a:lnTo>
                    <a:lnTo>
                      <a:pt x="34" y="0"/>
                    </a:lnTo>
                    <a:lnTo>
                      <a:pt x="72" y="7"/>
                    </a:lnTo>
                    <a:lnTo>
                      <a:pt x="60" y="14"/>
                    </a:lnTo>
                    <a:lnTo>
                      <a:pt x="38" y="1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2384280" y="3451320"/>
                <a:ext cx="48960" cy="15840"/>
              </a:xfrm>
              <a:custGeom>
                <a:avLst/>
                <a:gdLst/>
                <a:ahLst/>
                <a:rect l="l" t="t" r="r" b="b"/>
                <a:pathLst>
                  <a:path w="63" h="21">
                    <a:moveTo>
                      <a:pt x="25" y="0"/>
                    </a:moveTo>
                    <a:lnTo>
                      <a:pt x="0" y="14"/>
                    </a:lnTo>
                    <a:lnTo>
                      <a:pt x="41" y="21"/>
                    </a:lnTo>
                    <a:lnTo>
                      <a:pt x="6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H="1">
                <a:off x="2374200" y="344484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2" h="21">
                    <a:moveTo>
                      <a:pt x="0" y="14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62" y="5"/>
                    </a:lnTo>
                    <a:lnTo>
                      <a:pt x="38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H="1">
                <a:off x="2368080" y="3438360"/>
                <a:ext cx="45720" cy="162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15"/>
                    </a:moveTo>
                    <a:lnTo>
                      <a:pt x="9" y="8"/>
                    </a:lnTo>
                    <a:lnTo>
                      <a:pt x="23" y="0"/>
                    </a:lnTo>
                    <a:lnTo>
                      <a:pt x="58" y="5"/>
                    </a:lnTo>
                    <a:lnTo>
                      <a:pt x="38" y="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H="1">
                <a:off x="2358720" y="343368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24" y="0"/>
                    </a:moveTo>
                    <a:lnTo>
                      <a:pt x="0" y="15"/>
                    </a:lnTo>
                    <a:lnTo>
                      <a:pt x="38" y="20"/>
                    </a:lnTo>
                    <a:lnTo>
                      <a:pt x="60" y="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H="1">
                <a:off x="2349360" y="3427560"/>
                <a:ext cx="47520" cy="14040"/>
              </a:xfrm>
              <a:custGeom>
                <a:avLst/>
                <a:gdLst/>
                <a:ahLst/>
                <a:rect l="l" t="t" r="r" b="b"/>
                <a:pathLst>
                  <a:path w="59" h="18">
                    <a:moveTo>
                      <a:pt x="0" y="13"/>
                    </a:moveTo>
                    <a:lnTo>
                      <a:pt x="17" y="2"/>
                    </a:lnTo>
                    <a:lnTo>
                      <a:pt x="26" y="0"/>
                    </a:lnTo>
                    <a:lnTo>
                      <a:pt x="59" y="4"/>
                    </a:lnTo>
                    <a:lnTo>
                      <a:pt x="35" y="1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H="1">
                <a:off x="2341080" y="342252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0" y="13"/>
                    </a:moveTo>
                    <a:lnTo>
                      <a:pt x="5" y="9"/>
                    </a:lnTo>
                    <a:lnTo>
                      <a:pt x="34" y="0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36" y="1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H="1">
                <a:off x="2341440" y="341784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0" y="12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33" y="1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2341440" y="34178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5"/>
                    </a:moveTo>
                    <a:lnTo>
                      <a:pt x="18" y="0"/>
                    </a:lnTo>
                    <a:lnTo>
                      <a:pt x="23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2588760" y="356400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27" y="19"/>
                    </a:moveTo>
                    <a:lnTo>
                      <a:pt x="20" y="16"/>
                    </a:lnTo>
                    <a:lnTo>
                      <a:pt x="13" y="1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47" y="5"/>
                    </a:lnTo>
                    <a:lnTo>
                      <a:pt x="43" y="8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H="1">
                <a:off x="2577960" y="355284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9" y="27"/>
                    </a:moveTo>
                    <a:lnTo>
                      <a:pt x="7" y="27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0" y="24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7"/>
                    </a:lnTo>
                    <a:lnTo>
                      <a:pt x="9" y="0"/>
                    </a:lnTo>
                    <a:lnTo>
                      <a:pt x="62" y="11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8" y="26"/>
                    </a:lnTo>
                    <a:lnTo>
                      <a:pt x="31" y="3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H="1">
                <a:off x="2655720" y="3546360"/>
                <a:ext cx="1440" cy="1800"/>
              </a:xfrm>
              <a:prstGeom prst="rect">
                <a:avLst/>
              </a:pr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>
                <a:off x="2565000" y="3543120"/>
                <a:ext cx="60480" cy="2412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13" y="0"/>
                    </a:moveTo>
                    <a:lnTo>
                      <a:pt x="10" y="7"/>
                    </a:lnTo>
                    <a:lnTo>
                      <a:pt x="6" y="12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44" y="31"/>
                    </a:lnTo>
                    <a:lnTo>
                      <a:pt x="53" y="25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6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2647800" y="35352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3"/>
                    </a:moveTo>
                    <a:lnTo>
                      <a:pt x="18" y="6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9" y="14"/>
                    </a:lnTo>
                    <a:lnTo>
                      <a:pt x="7" y="12"/>
                    </a:lnTo>
                    <a:lnTo>
                      <a:pt x="5" y="9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H="1">
                <a:off x="2552040" y="353376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85" h="34">
                    <a:moveTo>
                      <a:pt x="18" y="0"/>
                    </a:moveTo>
                    <a:lnTo>
                      <a:pt x="14" y="7"/>
                    </a:lnTo>
                    <a:lnTo>
                      <a:pt x="10" y="13"/>
                    </a:lnTo>
                    <a:lnTo>
                      <a:pt x="4" y="17"/>
                    </a:lnTo>
                    <a:lnTo>
                      <a:pt x="0" y="23"/>
                    </a:lnTo>
                    <a:lnTo>
                      <a:pt x="53" y="34"/>
                    </a:lnTo>
                    <a:lnTo>
                      <a:pt x="61" y="28"/>
                    </a:lnTo>
                    <a:lnTo>
                      <a:pt x="70" y="22"/>
                    </a:lnTo>
                    <a:lnTo>
                      <a:pt x="76" y="16"/>
                    </a:lnTo>
                    <a:lnTo>
                      <a:pt x="85" y="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H="1">
                <a:off x="2638080" y="352440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22" y="28"/>
                    </a:moveTo>
                    <a:lnTo>
                      <a:pt x="29" y="23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8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13" y="16"/>
                    </a:lnTo>
                    <a:lnTo>
                      <a:pt x="18" y="23"/>
                    </a:lnTo>
                    <a:lnTo>
                      <a:pt x="22" y="28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2540880" y="3524400"/>
                <a:ext cx="73080" cy="25200"/>
              </a:xfrm>
              <a:custGeom>
                <a:avLst/>
                <a:gdLst/>
                <a:ahLst/>
                <a:rect l="l" t="t" r="r" b="b"/>
                <a:pathLst>
                  <a:path w="91" h="33">
                    <a:moveTo>
                      <a:pt x="22" y="0"/>
                    </a:moveTo>
                    <a:lnTo>
                      <a:pt x="16" y="6"/>
                    </a:lnTo>
                    <a:lnTo>
                      <a:pt x="12" y="13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3" y="33"/>
                    </a:lnTo>
                    <a:lnTo>
                      <a:pt x="71" y="27"/>
                    </a:lnTo>
                    <a:lnTo>
                      <a:pt x="78" y="23"/>
                    </a:lnTo>
                    <a:lnTo>
                      <a:pt x="84" y="17"/>
                    </a:lnTo>
                    <a:lnTo>
                      <a:pt x="91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2628720" y="35132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36" y="31"/>
                    </a:moveTo>
                    <a:lnTo>
                      <a:pt x="41" y="25"/>
                    </a:lnTo>
                    <a:lnTo>
                      <a:pt x="48" y="19"/>
                    </a:lnTo>
                    <a:lnTo>
                      <a:pt x="54" y="15"/>
                    </a:lnTo>
                    <a:lnTo>
                      <a:pt x="60" y="9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10"/>
                    </a:lnTo>
                    <a:lnTo>
                      <a:pt x="6" y="16"/>
                    </a:lnTo>
                    <a:lnTo>
                      <a:pt x="9" y="23"/>
                    </a:lnTo>
                    <a:lnTo>
                      <a:pt x="15" y="28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2530080" y="3514680"/>
                <a:ext cx="76320" cy="2700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20" y="0"/>
                    </a:moveTo>
                    <a:lnTo>
                      <a:pt x="16" y="7"/>
                    </a:lnTo>
                    <a:lnTo>
                      <a:pt x="10" y="13"/>
                    </a:lnTo>
                    <a:lnTo>
                      <a:pt x="5" y="18"/>
                    </a:lnTo>
                    <a:lnTo>
                      <a:pt x="0" y="24"/>
                    </a:lnTo>
                    <a:lnTo>
                      <a:pt x="67" y="33"/>
                    </a:lnTo>
                    <a:lnTo>
                      <a:pt x="73" y="28"/>
                    </a:lnTo>
                    <a:lnTo>
                      <a:pt x="80" y="23"/>
                    </a:lnTo>
                    <a:lnTo>
                      <a:pt x="87" y="17"/>
                    </a:lnTo>
                    <a:lnTo>
                      <a:pt x="94" y="1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>
                <a:off x="2618640" y="350352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48" y="34"/>
                    </a:moveTo>
                    <a:lnTo>
                      <a:pt x="54" y="27"/>
                    </a:lnTo>
                    <a:lnTo>
                      <a:pt x="60" y="20"/>
                    </a:lnTo>
                    <a:lnTo>
                      <a:pt x="66" y="15"/>
                    </a:lnTo>
                    <a:lnTo>
                      <a:pt x="71" y="9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48" y="3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H="1">
                <a:off x="2688480" y="3500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H="1">
                <a:off x="2520720" y="3506760"/>
                <a:ext cx="76320" cy="27000"/>
              </a:xfrm>
              <a:custGeom>
                <a:avLst/>
                <a:gdLst/>
                <a:ahLst/>
                <a:rect l="l" t="t" r="r" b="b"/>
                <a:pathLst>
                  <a:path w="96" h="33">
                    <a:moveTo>
                      <a:pt x="22" y="0"/>
                    </a:moveTo>
                    <a:lnTo>
                      <a:pt x="16" y="4"/>
                    </a:lnTo>
                    <a:lnTo>
                      <a:pt x="12" y="10"/>
                    </a:lnTo>
                    <a:lnTo>
                      <a:pt x="6" y="15"/>
                    </a:lnTo>
                    <a:lnTo>
                      <a:pt x="0" y="21"/>
                    </a:lnTo>
                    <a:lnTo>
                      <a:pt x="69" y="33"/>
                    </a:lnTo>
                    <a:lnTo>
                      <a:pt x="76" y="27"/>
                    </a:lnTo>
                    <a:lnTo>
                      <a:pt x="83" y="21"/>
                    </a:lnTo>
                    <a:lnTo>
                      <a:pt x="89" y="15"/>
                    </a:lnTo>
                    <a:lnTo>
                      <a:pt x="96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H="1">
                <a:off x="2609280" y="3494160"/>
                <a:ext cx="66600" cy="2520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0" y="25"/>
                    </a:moveTo>
                    <a:lnTo>
                      <a:pt x="0" y="25"/>
                    </a:lnTo>
                    <a:lnTo>
                      <a:pt x="60" y="34"/>
                    </a:lnTo>
                    <a:lnTo>
                      <a:pt x="66" y="28"/>
                    </a:lnTo>
                    <a:lnTo>
                      <a:pt x="71" y="22"/>
                    </a:lnTo>
                    <a:lnTo>
                      <a:pt x="78" y="17"/>
                    </a:lnTo>
                    <a:lnTo>
                      <a:pt x="84" y="11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H="1">
                <a:off x="2674800" y="3492360"/>
                <a:ext cx="1440" cy="180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H="1">
                <a:off x="2675880" y="3487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4"/>
                    </a:moveTo>
                    <a:lnTo>
                      <a:pt x="25" y="4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7"/>
                    </a:lnTo>
                    <a:lnTo>
                      <a:pt x="11" y="13"/>
                    </a:lnTo>
                    <a:lnTo>
                      <a:pt x="17" y="10"/>
                    </a:lnTo>
                    <a:lnTo>
                      <a:pt x="22" y="8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flipH="1">
                <a:off x="2674800" y="3513240"/>
                <a:ext cx="1440" cy="144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 flipH="1">
                <a:off x="2509560" y="349740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25" y="0"/>
                    </a:moveTo>
                    <a:lnTo>
                      <a:pt x="19" y="6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22"/>
                    </a:lnTo>
                    <a:lnTo>
                      <a:pt x="74" y="34"/>
                    </a:lnTo>
                    <a:lnTo>
                      <a:pt x="80" y="28"/>
                    </a:lnTo>
                    <a:lnTo>
                      <a:pt x="87" y="23"/>
                    </a:lnTo>
                    <a:lnTo>
                      <a:pt x="94" y="17"/>
                    </a:lnTo>
                    <a:lnTo>
                      <a:pt x="101" y="1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flipH="1">
                <a:off x="2599920" y="3484440"/>
                <a:ext cx="66960" cy="27000"/>
              </a:xfrm>
              <a:custGeom>
                <a:avLst/>
                <a:gdLst/>
                <a:ahLst/>
                <a:rect l="l" t="t" r="r" b="b"/>
                <a:pathLst>
                  <a:path w="83" h="33">
                    <a:moveTo>
                      <a:pt x="0" y="16"/>
                    </a:moveTo>
                    <a:lnTo>
                      <a:pt x="0" y="24"/>
                    </a:lnTo>
                    <a:lnTo>
                      <a:pt x="58" y="33"/>
                    </a:lnTo>
                    <a:lnTo>
                      <a:pt x="64" y="28"/>
                    </a:lnTo>
                    <a:lnTo>
                      <a:pt x="71" y="21"/>
                    </a:lnTo>
                    <a:lnTo>
                      <a:pt x="77" y="15"/>
                    </a:lnTo>
                    <a:lnTo>
                      <a:pt x="83" y="9"/>
                    </a:lnTo>
                    <a:lnTo>
                      <a:pt x="18" y="0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flipH="1">
                <a:off x="2661840" y="34830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 flipH="1">
                <a:off x="2666520" y="34765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11"/>
                    </a:moveTo>
                    <a:lnTo>
                      <a:pt x="46" y="7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8" y="14"/>
                    </a:lnTo>
                    <a:lnTo>
                      <a:pt x="11" y="20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25" y="24"/>
                    </a:lnTo>
                    <a:lnTo>
                      <a:pt x="32" y="19"/>
                    </a:lnTo>
                    <a:lnTo>
                      <a:pt x="39" y="15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flipH="1">
                <a:off x="2666520" y="3497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flipH="1">
                <a:off x="2498040" y="348768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23" y="0"/>
                    </a:moveTo>
                    <a:lnTo>
                      <a:pt x="17" y="5"/>
                    </a:lnTo>
                    <a:lnTo>
                      <a:pt x="13" y="11"/>
                    </a:lnTo>
                    <a:lnTo>
                      <a:pt x="7" y="17"/>
                    </a:lnTo>
                    <a:lnTo>
                      <a:pt x="0" y="24"/>
                    </a:lnTo>
                    <a:lnTo>
                      <a:pt x="74" y="33"/>
                    </a:lnTo>
                    <a:lnTo>
                      <a:pt x="81" y="27"/>
                    </a:lnTo>
                    <a:lnTo>
                      <a:pt x="88" y="23"/>
                    </a:lnTo>
                    <a:lnTo>
                      <a:pt x="95" y="17"/>
                    </a:lnTo>
                    <a:lnTo>
                      <a:pt x="103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flipH="1">
                <a:off x="2588760" y="3475080"/>
                <a:ext cx="66960" cy="2700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0" y="17"/>
                    </a:moveTo>
                    <a:lnTo>
                      <a:pt x="0" y="23"/>
                    </a:lnTo>
                    <a:lnTo>
                      <a:pt x="58" y="34"/>
                    </a:lnTo>
                    <a:lnTo>
                      <a:pt x="65" y="28"/>
                    </a:lnTo>
                    <a:lnTo>
                      <a:pt x="71" y="22"/>
                    </a:lnTo>
                    <a:lnTo>
                      <a:pt x="77" y="18"/>
                    </a:lnTo>
                    <a:lnTo>
                      <a:pt x="83" y="12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4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 flipH="1">
                <a:off x="2649240" y="3473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2655720" y="3467160"/>
                <a:ext cx="48960" cy="2520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62" y="13"/>
                    </a:moveTo>
                    <a:lnTo>
                      <a:pt x="62" y="8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9"/>
                    </a:lnTo>
                    <a:lnTo>
                      <a:pt x="8" y="23"/>
                    </a:lnTo>
                    <a:lnTo>
                      <a:pt x="11" y="27"/>
                    </a:lnTo>
                    <a:lnTo>
                      <a:pt x="36" y="31"/>
                    </a:lnTo>
                    <a:lnTo>
                      <a:pt x="44" y="28"/>
                    </a:lnTo>
                    <a:lnTo>
                      <a:pt x="51" y="23"/>
                    </a:lnTo>
                    <a:lnTo>
                      <a:pt x="57" y="17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2655360" y="3487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H="1">
                <a:off x="2488680" y="347976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24" y="0"/>
                    </a:moveTo>
                    <a:lnTo>
                      <a:pt x="18" y="6"/>
                    </a:lnTo>
                    <a:lnTo>
                      <a:pt x="12" y="10"/>
                    </a:lnTo>
                    <a:lnTo>
                      <a:pt x="7" y="16"/>
                    </a:lnTo>
                    <a:lnTo>
                      <a:pt x="0" y="23"/>
                    </a:lnTo>
                    <a:lnTo>
                      <a:pt x="76" y="36"/>
                    </a:lnTo>
                    <a:lnTo>
                      <a:pt x="83" y="29"/>
                    </a:lnTo>
                    <a:lnTo>
                      <a:pt x="90" y="23"/>
                    </a:lnTo>
                    <a:lnTo>
                      <a:pt x="96" y="17"/>
                    </a:lnTo>
                    <a:lnTo>
                      <a:pt x="102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2576160" y="346716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87" h="31">
                    <a:moveTo>
                      <a:pt x="0" y="15"/>
                    </a:moveTo>
                    <a:lnTo>
                      <a:pt x="0" y="24"/>
                    </a:lnTo>
                    <a:lnTo>
                      <a:pt x="56" y="31"/>
                    </a:lnTo>
                    <a:lnTo>
                      <a:pt x="63" y="25"/>
                    </a:lnTo>
                    <a:lnTo>
                      <a:pt x="71" y="21"/>
                    </a:lnTo>
                    <a:lnTo>
                      <a:pt x="79" y="15"/>
                    </a:lnTo>
                    <a:lnTo>
                      <a:pt x="87" y="10"/>
                    </a:lnTo>
                    <a:lnTo>
                      <a:pt x="20" y="0"/>
                    </a:lnTo>
                    <a:lnTo>
                      <a:pt x="15" y="4"/>
                    </a:lnTo>
                    <a:lnTo>
                      <a:pt x="10" y="7"/>
                    </a:lnTo>
                    <a:lnTo>
                      <a:pt x="5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 flipH="1">
                <a:off x="2638080" y="34653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 flipH="1">
                <a:off x="2644200" y="3457440"/>
                <a:ext cx="60120" cy="2556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76" y="16"/>
                    </a:moveTo>
                    <a:lnTo>
                      <a:pt x="76" y="9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5" y="4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7"/>
                    </a:lnTo>
                    <a:lnTo>
                      <a:pt x="0" y="21"/>
                    </a:lnTo>
                    <a:lnTo>
                      <a:pt x="3" y="24"/>
                    </a:lnTo>
                    <a:lnTo>
                      <a:pt x="53" y="31"/>
                    </a:lnTo>
                    <a:lnTo>
                      <a:pt x="59" y="27"/>
                    </a:lnTo>
                    <a:lnTo>
                      <a:pt x="64" y="24"/>
                    </a:lnTo>
                    <a:lnTo>
                      <a:pt x="69" y="20"/>
                    </a:lnTo>
                    <a:lnTo>
                      <a:pt x="76" y="16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2644200" y="3479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2706120" y="3454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flipH="1">
                <a:off x="2477520" y="3468600"/>
                <a:ext cx="82440" cy="2880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24" y="0"/>
                    </a:moveTo>
                    <a:lnTo>
                      <a:pt x="19" y="6"/>
                    </a:lnTo>
                    <a:lnTo>
                      <a:pt x="13" y="12"/>
                    </a:lnTo>
                    <a:lnTo>
                      <a:pt x="6" y="18"/>
                    </a:lnTo>
                    <a:lnTo>
                      <a:pt x="0" y="25"/>
                    </a:lnTo>
                    <a:lnTo>
                      <a:pt x="80" y="36"/>
                    </a:lnTo>
                    <a:lnTo>
                      <a:pt x="87" y="30"/>
                    </a:lnTo>
                    <a:lnTo>
                      <a:pt x="92" y="25"/>
                    </a:lnTo>
                    <a:lnTo>
                      <a:pt x="98" y="19"/>
                    </a:lnTo>
                    <a:lnTo>
                      <a:pt x="105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flipH="1">
                <a:off x="2563560" y="345744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3">
                    <a:moveTo>
                      <a:pt x="0" y="13"/>
                    </a:moveTo>
                    <a:lnTo>
                      <a:pt x="0" y="24"/>
                    </a:lnTo>
                    <a:lnTo>
                      <a:pt x="56" y="33"/>
                    </a:lnTo>
                    <a:lnTo>
                      <a:pt x="66" y="26"/>
                    </a:lnTo>
                    <a:lnTo>
                      <a:pt x="74" y="20"/>
                    </a:lnTo>
                    <a:lnTo>
                      <a:pt x="82" y="15"/>
                    </a:lnTo>
                    <a:lnTo>
                      <a:pt x="90" y="9"/>
                    </a:lnTo>
                    <a:lnTo>
                      <a:pt x="21" y="0"/>
                    </a:lnTo>
                    <a:lnTo>
                      <a:pt x="16" y="3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flipH="1">
                <a:off x="2626920" y="3456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5"/>
                    </a:lnTo>
                    <a:lnTo>
                      <a:pt x="6" y="4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2634840" y="3451320"/>
                <a:ext cx="61920" cy="23760"/>
              </a:xfrm>
              <a:custGeom>
                <a:avLst/>
                <a:gdLst/>
                <a:ahLst/>
                <a:rect l="l" t="t" r="r" b="b"/>
                <a:pathLst>
                  <a:path w="78" h="31">
                    <a:moveTo>
                      <a:pt x="78" y="14"/>
                    </a:moveTo>
                    <a:lnTo>
                      <a:pt x="78" y="7"/>
                    </a:lnTo>
                    <a:lnTo>
                      <a:pt x="35" y="0"/>
                    </a:lnTo>
                    <a:lnTo>
                      <a:pt x="30" y="3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58" y="31"/>
                    </a:lnTo>
                    <a:lnTo>
                      <a:pt x="64" y="27"/>
                    </a:lnTo>
                    <a:lnTo>
                      <a:pt x="69" y="22"/>
                    </a:lnTo>
                    <a:lnTo>
                      <a:pt x="75" y="18"/>
                    </a:lnTo>
                    <a:lnTo>
                      <a:pt x="78" y="14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H="1">
                <a:off x="2634840" y="34686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11"/>
                    </a:moveTo>
                    <a:lnTo>
                      <a:pt x="7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2691720" y="344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H="1">
                <a:off x="2696760" y="344160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8"/>
                    </a:moveTo>
                    <a:lnTo>
                      <a:pt x="2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7"/>
                    </a:lnTo>
                    <a:lnTo>
                      <a:pt x="4" y="11"/>
                    </a:lnTo>
                    <a:lnTo>
                      <a:pt x="7" y="15"/>
                    </a:lnTo>
                    <a:lnTo>
                      <a:pt x="12" y="20"/>
                    </a:lnTo>
                    <a:lnTo>
                      <a:pt x="15" y="16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flipH="1">
                <a:off x="2696760" y="34639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flipH="1">
                <a:off x="2464920" y="3459240"/>
                <a:ext cx="83880" cy="2844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0" y="22"/>
                    </a:moveTo>
                    <a:lnTo>
                      <a:pt x="0" y="24"/>
                    </a:lnTo>
                    <a:lnTo>
                      <a:pt x="76" y="36"/>
                    </a:lnTo>
                    <a:lnTo>
                      <a:pt x="83" y="30"/>
                    </a:lnTo>
                    <a:lnTo>
                      <a:pt x="91" y="25"/>
                    </a:lnTo>
                    <a:lnTo>
                      <a:pt x="98" y="19"/>
                    </a:lnTo>
                    <a:lnTo>
                      <a:pt x="105" y="14"/>
                    </a:lnTo>
                    <a:lnTo>
                      <a:pt x="19" y="0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5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 flipH="1">
                <a:off x="2545560" y="3457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 flipH="1">
                <a:off x="2548800" y="345132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91" h="31">
                    <a:moveTo>
                      <a:pt x="91" y="12"/>
                    </a:moveTo>
                    <a:lnTo>
                      <a:pt x="91" y="10"/>
                    </a:lnTo>
                    <a:lnTo>
                      <a:pt x="22" y="0"/>
                    </a:lnTo>
                    <a:lnTo>
                      <a:pt x="16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8" y="31"/>
                    </a:lnTo>
                    <a:lnTo>
                      <a:pt x="65" y="26"/>
                    </a:lnTo>
                    <a:lnTo>
                      <a:pt x="73" y="20"/>
                    </a:lnTo>
                    <a:lnTo>
                      <a:pt x="82" y="15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 flipH="1">
                <a:off x="2548800" y="3476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 flipH="1">
                <a:off x="2614320" y="344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H="1">
                <a:off x="2620440" y="3441600"/>
                <a:ext cx="60120" cy="2376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76" y="15"/>
                    </a:moveTo>
                    <a:lnTo>
                      <a:pt x="76" y="6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6" y="11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4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5" y="29"/>
                    </a:lnTo>
                    <a:lnTo>
                      <a:pt x="61" y="25"/>
                    </a:lnTo>
                    <a:lnTo>
                      <a:pt x="66" y="22"/>
                    </a:lnTo>
                    <a:lnTo>
                      <a:pt x="72" y="18"/>
                    </a:lnTo>
                    <a:lnTo>
                      <a:pt x="76" y="15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flipH="1">
                <a:off x="2620800" y="3462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flipH="1">
                <a:off x="267732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flipH="1">
                <a:off x="2680920" y="34336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5" y="7"/>
                    </a:moveTo>
                    <a:lnTo>
                      <a:pt x="45" y="5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7" y="27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9" y="19"/>
                    </a:lnTo>
                    <a:lnTo>
                      <a:pt x="37" y="13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flipH="1">
                <a:off x="2680560" y="3457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flipH="1">
                <a:off x="2455200" y="3440160"/>
                <a:ext cx="152280" cy="39600"/>
              </a:xfrm>
              <a:custGeom>
                <a:avLst/>
                <a:gdLst/>
                <a:ahLst/>
                <a:rect l="l" t="t" r="r" b="b"/>
                <a:pathLst>
                  <a:path w="193" h="48">
                    <a:moveTo>
                      <a:pt x="0" y="15"/>
                    </a:moveTo>
                    <a:lnTo>
                      <a:pt x="0" y="24"/>
                    </a:lnTo>
                    <a:lnTo>
                      <a:pt x="57" y="31"/>
                    </a:lnTo>
                    <a:lnTo>
                      <a:pt x="63" y="28"/>
                    </a:lnTo>
                    <a:lnTo>
                      <a:pt x="68" y="26"/>
                    </a:lnTo>
                    <a:lnTo>
                      <a:pt x="73" y="24"/>
                    </a:lnTo>
                    <a:lnTo>
                      <a:pt x="79" y="22"/>
                    </a:lnTo>
                    <a:lnTo>
                      <a:pt x="85" y="20"/>
                    </a:lnTo>
                    <a:lnTo>
                      <a:pt x="89" y="18"/>
                    </a:lnTo>
                    <a:lnTo>
                      <a:pt x="95" y="17"/>
                    </a:lnTo>
                    <a:lnTo>
                      <a:pt x="101" y="15"/>
                    </a:lnTo>
                    <a:lnTo>
                      <a:pt x="96" y="19"/>
                    </a:lnTo>
                    <a:lnTo>
                      <a:pt x="91" y="25"/>
                    </a:lnTo>
                    <a:lnTo>
                      <a:pt x="87" y="30"/>
                    </a:lnTo>
                    <a:lnTo>
                      <a:pt x="83" y="35"/>
                    </a:lnTo>
                    <a:lnTo>
                      <a:pt x="164" y="48"/>
                    </a:lnTo>
                    <a:lnTo>
                      <a:pt x="172" y="42"/>
                    </a:lnTo>
                    <a:lnTo>
                      <a:pt x="179" y="37"/>
                    </a:lnTo>
                    <a:lnTo>
                      <a:pt x="186" y="32"/>
                    </a:lnTo>
                    <a:lnTo>
                      <a:pt x="193" y="26"/>
                    </a:lnTo>
                    <a:lnTo>
                      <a:pt x="23" y="0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flipH="1">
                <a:off x="2598480" y="34383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0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flipH="1">
                <a:off x="2607840" y="3433680"/>
                <a:ext cx="59040" cy="2232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73" y="15"/>
                    </a:moveTo>
                    <a:lnTo>
                      <a:pt x="73" y="7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7" y="11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4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9" y="29"/>
                    </a:lnTo>
                    <a:lnTo>
                      <a:pt x="56" y="26"/>
                    </a:lnTo>
                    <a:lnTo>
                      <a:pt x="62" y="22"/>
                    </a:lnTo>
                    <a:lnTo>
                      <a:pt x="68" y="19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flipH="1">
                <a:off x="2607480" y="34527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flipH="1">
                <a:off x="2664720" y="3429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flipH="1">
                <a:off x="2666520" y="3425760"/>
                <a:ext cx="50760" cy="2052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7"/>
                    </a:moveTo>
                    <a:lnTo>
                      <a:pt x="65" y="5"/>
                    </a:lnTo>
                    <a:lnTo>
                      <a:pt x="31" y="0"/>
                    </a:lnTo>
                    <a:lnTo>
                      <a:pt x="22" y="5"/>
                    </a:lnTo>
                    <a:lnTo>
                      <a:pt x="14" y="9"/>
                    </a:lnTo>
                    <a:lnTo>
                      <a:pt x="7" y="15"/>
                    </a:lnTo>
                    <a:lnTo>
                      <a:pt x="0" y="21"/>
                    </a:lnTo>
                    <a:lnTo>
                      <a:pt x="31" y="27"/>
                    </a:lnTo>
                    <a:lnTo>
                      <a:pt x="39" y="21"/>
                    </a:lnTo>
                    <a:lnTo>
                      <a:pt x="47" y="15"/>
                    </a:lnTo>
                    <a:lnTo>
                      <a:pt x="55" y="11"/>
                    </a:lnTo>
                    <a:lnTo>
                      <a:pt x="65" y="7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flipH="1">
                <a:off x="2666880" y="34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H="1">
                <a:off x="2715480" y="3422520"/>
                <a:ext cx="1800" cy="1800"/>
              </a:xfrm>
              <a:prstGeom prst="rect">
                <a:avLst/>
              </a:pr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 flipH="1">
                <a:off x="2441160" y="3433680"/>
                <a:ext cx="152640" cy="36720"/>
              </a:xfrm>
              <a:custGeom>
                <a:avLst/>
                <a:gdLst/>
                <a:ahLst/>
                <a:rect l="l" t="t" r="r" b="b"/>
                <a:pathLst>
                  <a:path w="191" h="48">
                    <a:moveTo>
                      <a:pt x="0" y="12"/>
                    </a:moveTo>
                    <a:lnTo>
                      <a:pt x="0" y="22"/>
                    </a:lnTo>
                    <a:lnTo>
                      <a:pt x="60" y="32"/>
                    </a:lnTo>
                    <a:lnTo>
                      <a:pt x="66" y="29"/>
                    </a:lnTo>
                    <a:lnTo>
                      <a:pt x="70" y="28"/>
                    </a:lnTo>
                    <a:lnTo>
                      <a:pt x="76" y="26"/>
                    </a:lnTo>
                    <a:lnTo>
                      <a:pt x="82" y="25"/>
                    </a:lnTo>
                    <a:lnTo>
                      <a:pt x="79" y="28"/>
                    </a:lnTo>
                    <a:lnTo>
                      <a:pt x="77" y="30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160" y="48"/>
                    </a:lnTo>
                    <a:lnTo>
                      <a:pt x="167" y="41"/>
                    </a:lnTo>
                    <a:lnTo>
                      <a:pt x="175" y="35"/>
                    </a:lnTo>
                    <a:lnTo>
                      <a:pt x="183" y="30"/>
                    </a:lnTo>
                    <a:lnTo>
                      <a:pt x="191" y="25"/>
                    </a:lnTo>
                    <a:lnTo>
                      <a:pt x="24" y="0"/>
                    </a:lnTo>
                    <a:lnTo>
                      <a:pt x="18" y="3"/>
                    </a:lnTo>
                    <a:lnTo>
                      <a:pt x="13" y="5"/>
                    </a:lnTo>
                    <a:lnTo>
                      <a:pt x="6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H="1">
                <a:off x="2580840" y="34290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7"/>
                    </a:lnTo>
                    <a:lnTo>
                      <a:pt x="8" y="6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 flipH="1">
                <a:off x="2593800" y="342576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72" h="29">
                    <a:moveTo>
                      <a:pt x="72" y="14"/>
                    </a:moveTo>
                    <a:lnTo>
                      <a:pt x="72" y="5"/>
                    </a:lnTo>
                    <a:lnTo>
                      <a:pt x="38" y="0"/>
                    </a:lnTo>
                    <a:lnTo>
                      <a:pt x="34" y="3"/>
                    </a:lnTo>
                    <a:lnTo>
                      <a:pt x="28" y="5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4" y="13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45" y="29"/>
                    </a:lnTo>
                    <a:lnTo>
                      <a:pt x="52" y="26"/>
                    </a:lnTo>
                    <a:lnTo>
                      <a:pt x="59" y="21"/>
                    </a:lnTo>
                    <a:lnTo>
                      <a:pt x="65" y="16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 flipH="1">
                <a:off x="2593800" y="34416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 flipH="1">
                <a:off x="2647800" y="3422520"/>
                <a:ext cx="1440" cy="1800"/>
              </a:xfrm>
              <a:prstGeom prst="rect">
                <a:avLst/>
              </a:pr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 flipH="1">
                <a:off x="2649240" y="341640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69" h="25">
                    <a:moveTo>
                      <a:pt x="69" y="7"/>
                    </a:moveTo>
                    <a:lnTo>
                      <a:pt x="69" y="7"/>
                    </a:lnTo>
                    <a:lnTo>
                      <a:pt x="34" y="0"/>
                    </a:lnTo>
                    <a:lnTo>
                      <a:pt x="26" y="4"/>
                    </a:lnTo>
                    <a:lnTo>
                      <a:pt x="18" y="9"/>
                    </a:lnTo>
                    <a:lnTo>
                      <a:pt x="9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42" y="22"/>
                    </a:lnTo>
                    <a:lnTo>
                      <a:pt x="45" y="19"/>
                    </a:lnTo>
                    <a:lnTo>
                      <a:pt x="50" y="17"/>
                    </a:lnTo>
                    <a:lnTo>
                      <a:pt x="54" y="15"/>
                    </a:lnTo>
                    <a:lnTo>
                      <a:pt x="59" y="11"/>
                    </a:lnTo>
                    <a:lnTo>
                      <a:pt x="65" y="9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H="1">
                <a:off x="2649240" y="3440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 flipH="1">
                <a:off x="2703240" y="3411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H="1">
                <a:off x="2704680" y="3409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4"/>
                    </a:moveTo>
                    <a:lnTo>
                      <a:pt x="29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7" y="10"/>
                    </a:lnTo>
                    <a:lnTo>
                      <a:pt x="10" y="12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0" y="10"/>
                    </a:lnTo>
                    <a:lnTo>
                      <a:pt x="25" y="7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flipH="1">
                <a:off x="2704320" y="3432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 flipH="1">
                <a:off x="2428200" y="3425760"/>
                <a:ext cx="144360" cy="36720"/>
              </a:xfrm>
              <a:custGeom>
                <a:avLst/>
                <a:gdLst/>
                <a:ahLst/>
                <a:rect l="l" t="t" r="r" b="b"/>
                <a:pathLst>
                  <a:path w="183" h="45">
                    <a:moveTo>
                      <a:pt x="0" y="7"/>
                    </a:moveTo>
                    <a:lnTo>
                      <a:pt x="0" y="21"/>
                    </a:lnTo>
                    <a:lnTo>
                      <a:pt x="150" y="45"/>
                    </a:lnTo>
                    <a:lnTo>
                      <a:pt x="159" y="39"/>
                    </a:lnTo>
                    <a:lnTo>
                      <a:pt x="167" y="35"/>
                    </a:lnTo>
                    <a:lnTo>
                      <a:pt x="175" y="29"/>
                    </a:lnTo>
                    <a:lnTo>
                      <a:pt x="183" y="24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7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H="1">
                <a:off x="2557080" y="34225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 flipH="1">
                <a:off x="2572920" y="3417840"/>
                <a:ext cx="59040" cy="2052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4" y="12"/>
                    </a:moveTo>
                    <a:lnTo>
                      <a:pt x="74" y="5"/>
                    </a:lnTo>
                    <a:lnTo>
                      <a:pt x="36" y="0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43" y="25"/>
                    </a:lnTo>
                    <a:lnTo>
                      <a:pt x="50" y="22"/>
                    </a:lnTo>
                    <a:lnTo>
                      <a:pt x="59" y="18"/>
                    </a:lnTo>
                    <a:lnTo>
                      <a:pt x="67" y="15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 flipH="1">
                <a:off x="2572920" y="34322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4"/>
                    </a:moveTo>
                    <a:lnTo>
                      <a:pt x="20" y="0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 flipH="1">
                <a:off x="2629800" y="3411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 flipH="1">
                <a:off x="2631960" y="340848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7"/>
                    </a:moveTo>
                    <a:lnTo>
                      <a:pt x="69" y="5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7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9" y="27"/>
                    </a:lnTo>
                    <a:lnTo>
                      <a:pt x="34" y="25"/>
                    </a:lnTo>
                    <a:lnTo>
                      <a:pt x="38" y="22"/>
                    </a:lnTo>
                    <a:lnTo>
                      <a:pt x="43" y="20"/>
                    </a:lnTo>
                    <a:lnTo>
                      <a:pt x="47" y="18"/>
                    </a:lnTo>
                    <a:lnTo>
                      <a:pt x="53" y="15"/>
                    </a:lnTo>
                    <a:lnTo>
                      <a:pt x="58" y="13"/>
                    </a:lnTo>
                    <a:lnTo>
                      <a:pt x="64" y="10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2631600" y="3433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 flipH="1">
                <a:off x="2680920" y="340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H="1">
                <a:off x="2687400" y="339876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51" y="11"/>
                    </a:moveTo>
                    <a:lnTo>
                      <a:pt x="51" y="7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8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7" y="24"/>
                    </a:lnTo>
                    <a:lnTo>
                      <a:pt x="10" y="26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7" y="26"/>
                    </a:lnTo>
                    <a:lnTo>
                      <a:pt x="21" y="24"/>
                    </a:lnTo>
                    <a:lnTo>
                      <a:pt x="26" y="22"/>
                    </a:lnTo>
                    <a:lnTo>
                      <a:pt x="30" y="19"/>
                    </a:lnTo>
                    <a:lnTo>
                      <a:pt x="35" y="17"/>
                    </a:lnTo>
                    <a:lnTo>
                      <a:pt x="40" y="15"/>
                    </a:lnTo>
                    <a:lnTo>
                      <a:pt x="45" y="14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 flipH="1">
                <a:off x="2687040" y="3422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 flipH="1">
                <a:off x="2414160" y="34084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252" h="56">
                    <a:moveTo>
                      <a:pt x="0" y="20"/>
                    </a:moveTo>
                    <a:lnTo>
                      <a:pt x="0" y="25"/>
                    </a:lnTo>
                    <a:lnTo>
                      <a:pt x="42" y="29"/>
                    </a:lnTo>
                    <a:lnTo>
                      <a:pt x="49" y="26"/>
                    </a:lnTo>
                    <a:lnTo>
                      <a:pt x="57" y="23"/>
                    </a:lnTo>
                    <a:lnTo>
                      <a:pt x="66" y="22"/>
                    </a:lnTo>
                    <a:lnTo>
                      <a:pt x="75" y="20"/>
                    </a:lnTo>
                    <a:lnTo>
                      <a:pt x="69" y="22"/>
                    </a:lnTo>
                    <a:lnTo>
                      <a:pt x="64" y="25"/>
                    </a:lnTo>
                    <a:lnTo>
                      <a:pt x="58" y="28"/>
                    </a:lnTo>
                    <a:lnTo>
                      <a:pt x="51" y="31"/>
                    </a:lnTo>
                    <a:lnTo>
                      <a:pt x="218" y="56"/>
                    </a:lnTo>
                    <a:lnTo>
                      <a:pt x="225" y="50"/>
                    </a:lnTo>
                    <a:lnTo>
                      <a:pt x="233" y="44"/>
                    </a:lnTo>
                    <a:lnTo>
                      <a:pt x="242" y="39"/>
                    </a:lnTo>
                    <a:lnTo>
                      <a:pt x="252" y="34"/>
                    </a:lnTo>
                    <a:lnTo>
                      <a:pt x="34" y="0"/>
                    </a:lnTo>
                    <a:lnTo>
                      <a:pt x="26" y="5"/>
                    </a:lnTo>
                    <a:lnTo>
                      <a:pt x="18" y="10"/>
                    </a:lnTo>
                    <a:lnTo>
                      <a:pt x="10" y="1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2607840" y="340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 flipH="1">
                <a:off x="2613960" y="3402000"/>
                <a:ext cx="58680" cy="2052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73" y="9"/>
                    </a:moveTo>
                    <a:lnTo>
                      <a:pt x="73" y="5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28" y="27"/>
                    </a:lnTo>
                    <a:lnTo>
                      <a:pt x="34" y="24"/>
                    </a:lnTo>
                    <a:lnTo>
                      <a:pt x="40" y="22"/>
                    </a:lnTo>
                    <a:lnTo>
                      <a:pt x="46" y="20"/>
                    </a:lnTo>
                    <a:lnTo>
                      <a:pt x="51" y="17"/>
                    </a:lnTo>
                    <a:lnTo>
                      <a:pt x="57" y="15"/>
                    </a:lnTo>
                    <a:lnTo>
                      <a:pt x="63" y="13"/>
                    </a:lnTo>
                    <a:lnTo>
                      <a:pt x="68" y="12"/>
                    </a:lnTo>
                    <a:lnTo>
                      <a:pt x="73" y="9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 flipH="1">
                <a:off x="2613960" y="342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 flipH="1">
                <a:off x="2661480" y="33973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H="1">
                <a:off x="2673000" y="339084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70" y="14"/>
                    </a:moveTo>
                    <a:lnTo>
                      <a:pt x="70" y="9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2" y="28"/>
                    </a:lnTo>
                    <a:lnTo>
                      <a:pt x="36" y="26"/>
                    </a:lnTo>
                    <a:lnTo>
                      <a:pt x="41" y="24"/>
                    </a:lnTo>
                    <a:lnTo>
                      <a:pt x="47" y="22"/>
                    </a:lnTo>
                    <a:lnTo>
                      <a:pt x="51" y="21"/>
                    </a:lnTo>
                    <a:lnTo>
                      <a:pt x="56" y="19"/>
                    </a:lnTo>
                    <a:lnTo>
                      <a:pt x="60" y="18"/>
                    </a:lnTo>
                    <a:lnTo>
                      <a:pt x="65" y="15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 flipH="1">
                <a:off x="2672640" y="34113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 flipH="1">
                <a:off x="2401200" y="3402000"/>
                <a:ext cx="189000" cy="42840"/>
              </a:xfrm>
              <a:custGeom>
                <a:avLst/>
                <a:gdLst/>
                <a:ahLst/>
                <a:rect l="l" t="t" r="r" b="b"/>
                <a:pathLst>
                  <a:path w="239" h="55">
                    <a:moveTo>
                      <a:pt x="0" y="12"/>
                    </a:moveTo>
                    <a:lnTo>
                      <a:pt x="0" y="24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5" y="29"/>
                    </a:lnTo>
                    <a:lnTo>
                      <a:pt x="46" y="29"/>
                    </a:lnTo>
                    <a:lnTo>
                      <a:pt x="44" y="31"/>
                    </a:lnTo>
                    <a:lnTo>
                      <a:pt x="205" y="55"/>
                    </a:lnTo>
                    <a:lnTo>
                      <a:pt x="213" y="50"/>
                    </a:lnTo>
                    <a:lnTo>
                      <a:pt x="221" y="44"/>
                    </a:lnTo>
                    <a:lnTo>
                      <a:pt x="229" y="39"/>
                    </a:lnTo>
                    <a:lnTo>
                      <a:pt x="239" y="34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8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H="1">
                <a:off x="2579040" y="33987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0" y="4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H="1">
                <a:off x="2590560" y="3394080"/>
                <a:ext cx="63360" cy="2052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78" y="11"/>
                    </a:moveTo>
                    <a:lnTo>
                      <a:pt x="78" y="7"/>
                    </a:lnTo>
                    <a:lnTo>
                      <a:pt x="31" y="0"/>
                    </a:lnTo>
                    <a:lnTo>
                      <a:pt x="24" y="3"/>
                    </a:lnTo>
                    <a:lnTo>
                      <a:pt x="16" y="6"/>
                    </a:lnTo>
                    <a:lnTo>
                      <a:pt x="7" y="8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29" y="25"/>
                    </a:lnTo>
                    <a:lnTo>
                      <a:pt x="34" y="23"/>
                    </a:lnTo>
                    <a:lnTo>
                      <a:pt x="41" y="21"/>
                    </a:lnTo>
                    <a:lnTo>
                      <a:pt x="47" y="18"/>
                    </a:lnTo>
                    <a:lnTo>
                      <a:pt x="54" y="16"/>
                    </a:lnTo>
                    <a:lnTo>
                      <a:pt x="60" y="15"/>
                    </a:lnTo>
                    <a:lnTo>
                      <a:pt x="65" y="14"/>
                    </a:lnTo>
                    <a:lnTo>
                      <a:pt x="72" y="13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 flipH="1">
                <a:off x="2590200" y="34099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2"/>
                    </a:moveTo>
                    <a:lnTo>
                      <a:pt x="16" y="0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 flipH="1">
                <a:off x="2642400" y="339084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 flipH="1">
                <a:off x="2653560" y="3379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4" h="31">
                    <a:moveTo>
                      <a:pt x="94" y="19"/>
                    </a:moveTo>
                    <a:lnTo>
                      <a:pt x="94" y="12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8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8" y="31"/>
                    </a:lnTo>
                    <a:lnTo>
                      <a:pt x="62" y="30"/>
                    </a:lnTo>
                    <a:lnTo>
                      <a:pt x="66" y="27"/>
                    </a:lnTo>
                    <a:lnTo>
                      <a:pt x="70" y="26"/>
                    </a:lnTo>
                    <a:lnTo>
                      <a:pt x="74" y="25"/>
                    </a:lnTo>
                    <a:lnTo>
                      <a:pt x="79" y="24"/>
                    </a:lnTo>
                    <a:lnTo>
                      <a:pt x="83" y="23"/>
                    </a:lnTo>
                    <a:lnTo>
                      <a:pt x="89" y="20"/>
                    </a:lnTo>
                    <a:lnTo>
                      <a:pt x="94" y="19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H="1">
                <a:off x="2653560" y="3403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 flipH="1">
                <a:off x="2385720" y="3386160"/>
                <a:ext cx="249120" cy="49320"/>
              </a:xfrm>
              <a:custGeom>
                <a:avLst/>
                <a:gdLst/>
                <a:ahLst/>
                <a:rect l="l" t="t" r="r" b="b"/>
                <a:pathLst>
                  <a:path w="312" h="62">
                    <a:moveTo>
                      <a:pt x="0" y="12"/>
                    </a:moveTo>
                    <a:lnTo>
                      <a:pt x="0" y="21"/>
                    </a:lnTo>
                    <a:lnTo>
                      <a:pt x="33" y="26"/>
                    </a:lnTo>
                    <a:lnTo>
                      <a:pt x="40" y="25"/>
                    </a:lnTo>
                    <a:lnTo>
                      <a:pt x="47" y="23"/>
                    </a:lnTo>
                    <a:lnTo>
                      <a:pt x="54" y="21"/>
                    </a:lnTo>
                    <a:lnTo>
                      <a:pt x="60" y="19"/>
                    </a:lnTo>
                    <a:lnTo>
                      <a:pt x="67" y="18"/>
                    </a:lnTo>
                    <a:lnTo>
                      <a:pt x="73" y="18"/>
                    </a:lnTo>
                    <a:lnTo>
                      <a:pt x="79" y="17"/>
                    </a:lnTo>
                    <a:lnTo>
                      <a:pt x="85" y="17"/>
                    </a:lnTo>
                    <a:lnTo>
                      <a:pt x="79" y="19"/>
                    </a:lnTo>
                    <a:lnTo>
                      <a:pt x="74" y="21"/>
                    </a:lnTo>
                    <a:lnTo>
                      <a:pt x="67" y="25"/>
                    </a:lnTo>
                    <a:lnTo>
                      <a:pt x="59" y="28"/>
                    </a:lnTo>
                    <a:lnTo>
                      <a:pt x="277" y="62"/>
                    </a:lnTo>
                    <a:lnTo>
                      <a:pt x="281" y="59"/>
                    </a:lnTo>
                    <a:lnTo>
                      <a:pt x="286" y="56"/>
                    </a:lnTo>
                    <a:lnTo>
                      <a:pt x="289" y="54"/>
                    </a:lnTo>
                    <a:lnTo>
                      <a:pt x="294" y="51"/>
                    </a:lnTo>
                    <a:lnTo>
                      <a:pt x="298" y="49"/>
                    </a:lnTo>
                    <a:lnTo>
                      <a:pt x="303" y="46"/>
                    </a:lnTo>
                    <a:lnTo>
                      <a:pt x="308" y="43"/>
                    </a:lnTo>
                    <a:lnTo>
                      <a:pt x="312" y="41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7" y="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 flipH="1">
                <a:off x="2623320" y="33814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 flipH="1">
                <a:off x="2634840" y="33750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7"/>
                    </a:moveTo>
                    <a:lnTo>
                      <a:pt x="109" y="9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8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73" y="28"/>
                    </a:lnTo>
                    <a:lnTo>
                      <a:pt x="78" y="27"/>
                    </a:lnTo>
                    <a:lnTo>
                      <a:pt x="82" y="26"/>
                    </a:lnTo>
                    <a:lnTo>
                      <a:pt x="86" y="25"/>
                    </a:lnTo>
                    <a:lnTo>
                      <a:pt x="91" y="24"/>
                    </a:lnTo>
                    <a:lnTo>
                      <a:pt x="95" y="22"/>
                    </a:lnTo>
                    <a:lnTo>
                      <a:pt x="100" y="20"/>
                    </a:lnTo>
                    <a:lnTo>
                      <a:pt x="104" y="18"/>
                    </a:lnTo>
                    <a:lnTo>
                      <a:pt x="109" y="17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 flipH="1">
                <a:off x="2634840" y="3395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9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 flipH="1">
                <a:off x="2369880" y="3376440"/>
                <a:ext cx="247680" cy="51120"/>
              </a:xfrm>
              <a:custGeom>
                <a:avLst/>
                <a:gdLst/>
                <a:ahLst/>
                <a:rect l="l" t="t" r="r" b="b"/>
                <a:pathLst>
                  <a:path w="312" h="65">
                    <a:moveTo>
                      <a:pt x="0" y="15"/>
                    </a:moveTo>
                    <a:lnTo>
                      <a:pt x="0" y="24"/>
                    </a:lnTo>
                    <a:lnTo>
                      <a:pt x="48" y="31"/>
                    </a:lnTo>
                    <a:lnTo>
                      <a:pt x="52" y="30"/>
                    </a:lnTo>
                    <a:lnTo>
                      <a:pt x="56" y="29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3" y="29"/>
                    </a:lnTo>
                    <a:lnTo>
                      <a:pt x="61" y="30"/>
                    </a:lnTo>
                    <a:lnTo>
                      <a:pt x="60" y="31"/>
                    </a:lnTo>
                    <a:lnTo>
                      <a:pt x="57" y="31"/>
                    </a:lnTo>
                    <a:lnTo>
                      <a:pt x="272" y="65"/>
                    </a:lnTo>
                    <a:lnTo>
                      <a:pt x="276" y="62"/>
                    </a:lnTo>
                    <a:lnTo>
                      <a:pt x="282" y="59"/>
                    </a:lnTo>
                    <a:lnTo>
                      <a:pt x="287" y="56"/>
                    </a:lnTo>
                    <a:lnTo>
                      <a:pt x="292" y="54"/>
                    </a:lnTo>
                    <a:lnTo>
                      <a:pt x="297" y="52"/>
                    </a:lnTo>
                    <a:lnTo>
                      <a:pt x="302" y="48"/>
                    </a:lnTo>
                    <a:lnTo>
                      <a:pt x="307" y="46"/>
                    </a:lnTo>
                    <a:lnTo>
                      <a:pt x="312" y="43"/>
                    </a:lnTo>
                    <a:lnTo>
                      <a:pt x="33" y="0"/>
                    </a:lnTo>
                    <a:lnTo>
                      <a:pt x="25" y="5"/>
                    </a:lnTo>
                    <a:lnTo>
                      <a:pt x="17" y="8"/>
                    </a:lnTo>
                    <a:lnTo>
                      <a:pt x="9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 flipH="1">
                <a:off x="2606040" y="337356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0" y="10"/>
                    </a:lnTo>
                    <a:lnTo>
                      <a:pt x="3" y="7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 flipH="1">
                <a:off x="2617200" y="3367080"/>
                <a:ext cx="88920" cy="25560"/>
              </a:xfrm>
              <a:custGeom>
                <a:avLst/>
                <a:gdLst/>
                <a:ahLst/>
                <a:rect l="l" t="t" r="r" b="b"/>
                <a:pathLst>
                  <a:path w="112" h="32">
                    <a:moveTo>
                      <a:pt x="112" y="17"/>
                    </a:moveTo>
                    <a:lnTo>
                      <a:pt x="112" y="7"/>
                    </a:lnTo>
                    <a:lnTo>
                      <a:pt x="55" y="0"/>
                    </a:lnTo>
                    <a:lnTo>
                      <a:pt x="48" y="3"/>
                    </a:lnTo>
                    <a:lnTo>
                      <a:pt x="41" y="5"/>
                    </a:lnTo>
                    <a:lnTo>
                      <a:pt x="35" y="9"/>
                    </a:lnTo>
                    <a:lnTo>
                      <a:pt x="28" y="10"/>
                    </a:lnTo>
                    <a:lnTo>
                      <a:pt x="21" y="12"/>
                    </a:lnTo>
                    <a:lnTo>
                      <a:pt x="14" y="14"/>
                    </a:lnTo>
                    <a:lnTo>
                      <a:pt x="7" y="15"/>
                    </a:lnTo>
                    <a:lnTo>
                      <a:pt x="0" y="17"/>
                    </a:lnTo>
                    <a:lnTo>
                      <a:pt x="81" y="32"/>
                    </a:lnTo>
                    <a:lnTo>
                      <a:pt x="90" y="28"/>
                    </a:lnTo>
                    <a:lnTo>
                      <a:pt x="98" y="24"/>
                    </a:lnTo>
                    <a:lnTo>
                      <a:pt x="105" y="20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 flipH="1">
                <a:off x="2617200" y="3387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H="1">
                <a:off x="2358360" y="3359160"/>
                <a:ext cx="322200" cy="58680"/>
              </a:xfrm>
              <a:custGeom>
                <a:avLst/>
                <a:gdLst/>
                <a:ahLst/>
                <a:rect l="l" t="t" r="r" b="b"/>
                <a:pathLst>
                  <a:path w="408" h="75">
                    <a:moveTo>
                      <a:pt x="91" y="34"/>
                    </a:moveTo>
                    <a:lnTo>
                      <a:pt x="99" y="30"/>
                    </a:lnTo>
                    <a:lnTo>
                      <a:pt x="107" y="27"/>
                    </a:lnTo>
                    <a:lnTo>
                      <a:pt x="114" y="23"/>
                    </a:lnTo>
                    <a:lnTo>
                      <a:pt x="122" y="20"/>
                    </a:lnTo>
                    <a:lnTo>
                      <a:pt x="119" y="17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07" y="10"/>
                    </a:lnTo>
                    <a:lnTo>
                      <a:pt x="103" y="15"/>
                    </a:lnTo>
                    <a:lnTo>
                      <a:pt x="96" y="21"/>
                    </a:lnTo>
                    <a:lnTo>
                      <a:pt x="85" y="25"/>
                    </a:lnTo>
                    <a:lnTo>
                      <a:pt x="74" y="31"/>
                    </a:lnTo>
                    <a:lnTo>
                      <a:pt x="0" y="20"/>
                    </a:lnTo>
                    <a:lnTo>
                      <a:pt x="6" y="17"/>
                    </a:lnTo>
                    <a:lnTo>
                      <a:pt x="12" y="15"/>
                    </a:lnTo>
                    <a:lnTo>
                      <a:pt x="17" y="12"/>
                    </a:lnTo>
                    <a:lnTo>
                      <a:pt x="24" y="9"/>
                    </a:lnTo>
                    <a:lnTo>
                      <a:pt x="30" y="7"/>
                    </a:lnTo>
                    <a:lnTo>
                      <a:pt x="37" y="5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408" y="53"/>
                    </a:lnTo>
                    <a:lnTo>
                      <a:pt x="408" y="54"/>
                    </a:lnTo>
                    <a:lnTo>
                      <a:pt x="408" y="57"/>
                    </a:lnTo>
                    <a:lnTo>
                      <a:pt x="408" y="58"/>
                    </a:lnTo>
                    <a:lnTo>
                      <a:pt x="408" y="60"/>
                    </a:lnTo>
                    <a:lnTo>
                      <a:pt x="403" y="62"/>
                    </a:lnTo>
                    <a:lnTo>
                      <a:pt x="399" y="63"/>
                    </a:lnTo>
                    <a:lnTo>
                      <a:pt x="394" y="66"/>
                    </a:lnTo>
                    <a:lnTo>
                      <a:pt x="390" y="67"/>
                    </a:lnTo>
                    <a:lnTo>
                      <a:pt x="385" y="69"/>
                    </a:lnTo>
                    <a:lnTo>
                      <a:pt x="381" y="70"/>
                    </a:lnTo>
                    <a:lnTo>
                      <a:pt x="377" y="73"/>
                    </a:lnTo>
                    <a:lnTo>
                      <a:pt x="372" y="75"/>
                    </a:lnTo>
                    <a:lnTo>
                      <a:pt x="91" y="34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 flipH="1">
                <a:off x="2358720" y="3351240"/>
                <a:ext cx="287280" cy="58680"/>
              </a:xfrm>
              <a:custGeom>
                <a:avLst/>
                <a:gdLst/>
                <a:ahLst/>
                <a:rect l="l" t="t" r="r" b="b"/>
                <a:pathLst>
                  <a:path w="363" h="74">
                    <a:moveTo>
                      <a:pt x="0" y="13"/>
                    </a:moveTo>
                    <a:lnTo>
                      <a:pt x="0" y="22"/>
                    </a:lnTo>
                    <a:lnTo>
                      <a:pt x="51" y="29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3"/>
                    </a:lnTo>
                    <a:lnTo>
                      <a:pt x="62" y="19"/>
                    </a:lnTo>
                    <a:lnTo>
                      <a:pt x="67" y="23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7" y="29"/>
                    </a:lnTo>
                    <a:lnTo>
                      <a:pt x="75" y="30"/>
                    </a:lnTo>
                    <a:lnTo>
                      <a:pt x="73" y="31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348" y="74"/>
                    </a:lnTo>
                    <a:lnTo>
                      <a:pt x="351" y="72"/>
                    </a:lnTo>
                    <a:lnTo>
                      <a:pt x="356" y="71"/>
                    </a:lnTo>
                    <a:lnTo>
                      <a:pt x="360" y="70"/>
                    </a:lnTo>
                    <a:lnTo>
                      <a:pt x="363" y="69"/>
                    </a:lnTo>
                    <a:lnTo>
                      <a:pt x="362" y="66"/>
                    </a:lnTo>
                    <a:lnTo>
                      <a:pt x="361" y="61"/>
                    </a:lnTo>
                    <a:lnTo>
                      <a:pt x="361" y="55"/>
                    </a:lnTo>
                    <a:lnTo>
                      <a:pt x="361" y="51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5" y="4"/>
                    </a:lnTo>
                    <a:lnTo>
                      <a:pt x="8" y="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 flipH="1">
                <a:off x="2634480" y="3348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 flipH="1">
                <a:off x="2646000" y="33465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6" y="2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 flipH="1">
                <a:off x="2646000" y="336240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9"/>
                    </a:moveTo>
                    <a:lnTo>
                      <a:pt x="21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 flipH="1">
                <a:off x="2358720" y="3341520"/>
                <a:ext cx="300240" cy="60480"/>
              </a:xfrm>
              <a:custGeom>
                <a:avLst/>
                <a:gdLst/>
                <a:ahLst/>
                <a:rect l="l" t="t" r="r" b="b"/>
                <a:pathLst>
                  <a:path w="379" h="76">
                    <a:moveTo>
                      <a:pt x="21" y="23"/>
                    </a:moveTo>
                    <a:lnTo>
                      <a:pt x="25" y="21"/>
                    </a:lnTo>
                    <a:lnTo>
                      <a:pt x="30" y="20"/>
                    </a:lnTo>
                    <a:lnTo>
                      <a:pt x="36" y="17"/>
                    </a:lnTo>
                    <a:lnTo>
                      <a:pt x="40" y="16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1" y="10"/>
                    </a:lnTo>
                    <a:lnTo>
                      <a:pt x="34" y="10"/>
                    </a:lnTo>
                    <a:lnTo>
                      <a:pt x="28" y="12"/>
                    </a:lnTo>
                    <a:lnTo>
                      <a:pt x="21" y="13"/>
                    </a:lnTo>
                    <a:lnTo>
                      <a:pt x="14" y="14"/>
                    </a:lnTo>
                    <a:lnTo>
                      <a:pt x="7" y="15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377" y="50"/>
                    </a:lnTo>
                    <a:lnTo>
                      <a:pt x="377" y="58"/>
                    </a:lnTo>
                    <a:lnTo>
                      <a:pt x="377" y="65"/>
                    </a:lnTo>
                    <a:lnTo>
                      <a:pt x="378" y="70"/>
                    </a:lnTo>
                    <a:lnTo>
                      <a:pt x="379" y="76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 flipH="1">
                <a:off x="2360160" y="3341520"/>
                <a:ext cx="293760" cy="51120"/>
              </a:xfrm>
              <a:custGeom>
                <a:avLst/>
                <a:gdLst/>
                <a:ahLst/>
                <a:rect l="l" t="t" r="r" b="b"/>
                <a:pathLst>
                  <a:path w="370" h="65">
                    <a:moveTo>
                      <a:pt x="38" y="14"/>
                    </a:moveTo>
                    <a:lnTo>
                      <a:pt x="41" y="13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9" y="9"/>
                    </a:lnTo>
                    <a:lnTo>
                      <a:pt x="42" y="9"/>
                    </a:lnTo>
                    <a:lnTo>
                      <a:pt x="36" y="9"/>
                    </a:lnTo>
                    <a:lnTo>
                      <a:pt x="30" y="10"/>
                    </a:lnTo>
                    <a:lnTo>
                      <a:pt x="24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9" y="1"/>
                    </a:lnTo>
                    <a:lnTo>
                      <a:pt x="34" y="1"/>
                    </a:lnTo>
                    <a:lnTo>
                      <a:pt x="49" y="1"/>
                    </a:lnTo>
                    <a:lnTo>
                      <a:pt x="63" y="1"/>
                    </a:lnTo>
                    <a:lnTo>
                      <a:pt x="78" y="1"/>
                    </a:lnTo>
                    <a:lnTo>
                      <a:pt x="93" y="1"/>
                    </a:lnTo>
                    <a:lnTo>
                      <a:pt x="107" y="1"/>
                    </a:lnTo>
                    <a:lnTo>
                      <a:pt x="122" y="0"/>
                    </a:lnTo>
                    <a:lnTo>
                      <a:pt x="355" y="36"/>
                    </a:lnTo>
                    <a:lnTo>
                      <a:pt x="358" y="36"/>
                    </a:lnTo>
                    <a:lnTo>
                      <a:pt x="360" y="37"/>
                    </a:lnTo>
                    <a:lnTo>
                      <a:pt x="364" y="39"/>
                    </a:lnTo>
                    <a:lnTo>
                      <a:pt x="367" y="40"/>
                    </a:lnTo>
                    <a:lnTo>
                      <a:pt x="369" y="46"/>
                    </a:lnTo>
                    <a:lnTo>
                      <a:pt x="370" y="51"/>
                    </a:lnTo>
                    <a:lnTo>
                      <a:pt x="370" y="58"/>
                    </a:lnTo>
                    <a:lnTo>
                      <a:pt x="370" y="65"/>
                    </a:lnTo>
                    <a:lnTo>
                      <a:pt x="38" y="1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 flipH="1">
                <a:off x="2360160" y="3336840"/>
                <a:ext cx="255600" cy="42840"/>
              </a:xfrm>
              <a:custGeom>
                <a:avLst/>
                <a:gdLst/>
                <a:ahLst/>
                <a:rect l="l" t="t" r="r" b="b"/>
                <a:pathLst>
                  <a:path w="323" h="55">
                    <a:moveTo>
                      <a:pt x="134" y="0"/>
                    </a:moveTo>
                    <a:lnTo>
                      <a:pt x="118" y="2"/>
                    </a:lnTo>
                    <a:lnTo>
                      <a:pt x="101" y="3"/>
                    </a:lnTo>
                    <a:lnTo>
                      <a:pt x="85" y="4"/>
                    </a:lnTo>
                    <a:lnTo>
                      <a:pt x="68" y="5"/>
                    </a:lnTo>
                    <a:lnTo>
                      <a:pt x="52" y="6"/>
                    </a:lnTo>
                    <a:lnTo>
                      <a:pt x="35" y="6"/>
                    </a:lnTo>
                    <a:lnTo>
                      <a:pt x="17" y="7"/>
                    </a:lnTo>
                    <a:lnTo>
                      <a:pt x="0" y="7"/>
                    </a:lnTo>
                    <a:lnTo>
                      <a:pt x="323" y="55"/>
                    </a:lnTo>
                    <a:lnTo>
                      <a:pt x="322" y="52"/>
                    </a:lnTo>
                    <a:lnTo>
                      <a:pt x="320" y="50"/>
                    </a:lnTo>
                    <a:lnTo>
                      <a:pt x="320" y="48"/>
                    </a:lnTo>
                    <a:lnTo>
                      <a:pt x="320" y="45"/>
                    </a:lnTo>
                    <a:lnTo>
                      <a:pt x="315" y="43"/>
                    </a:lnTo>
                    <a:lnTo>
                      <a:pt x="309" y="41"/>
                    </a:lnTo>
                    <a:lnTo>
                      <a:pt x="304" y="38"/>
                    </a:lnTo>
                    <a:lnTo>
                      <a:pt x="301" y="36"/>
                    </a:lnTo>
                    <a:lnTo>
                      <a:pt x="301" y="34"/>
                    </a:lnTo>
                    <a:lnTo>
                      <a:pt x="302" y="33"/>
                    </a:lnTo>
                    <a:lnTo>
                      <a:pt x="303" y="29"/>
                    </a:lnTo>
                    <a:lnTo>
                      <a:pt x="303" y="26"/>
                    </a:lnTo>
                    <a:lnTo>
                      <a:pt x="304" y="26"/>
                    </a:lnTo>
                    <a:lnTo>
                      <a:pt x="305" y="26"/>
                    </a:lnTo>
                    <a:lnTo>
                      <a:pt x="305" y="26"/>
                    </a:lnTo>
                    <a:lnTo>
                      <a:pt x="305" y="26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H="1">
                <a:off x="2351880" y="3335400"/>
                <a:ext cx="204840" cy="33120"/>
              </a:xfrm>
              <a:custGeom>
                <a:avLst/>
                <a:gdLst/>
                <a:ahLst/>
                <a:rect l="l" t="t" r="r" b="b"/>
                <a:pathLst>
                  <a:path w="257" h="43">
                    <a:moveTo>
                      <a:pt x="130" y="0"/>
                    </a:moveTo>
                    <a:lnTo>
                      <a:pt x="114" y="0"/>
                    </a:lnTo>
                    <a:lnTo>
                      <a:pt x="98" y="1"/>
                    </a:lnTo>
                    <a:lnTo>
                      <a:pt x="82" y="1"/>
                    </a:lnTo>
                    <a:lnTo>
                      <a:pt x="66" y="2"/>
                    </a:lnTo>
                    <a:lnTo>
                      <a:pt x="48" y="4"/>
                    </a:lnTo>
                    <a:lnTo>
                      <a:pt x="32" y="5"/>
                    </a:lnTo>
                    <a:lnTo>
                      <a:pt x="16" y="6"/>
                    </a:lnTo>
                    <a:lnTo>
                      <a:pt x="0" y="7"/>
                    </a:lnTo>
                    <a:lnTo>
                      <a:pt x="233" y="43"/>
                    </a:lnTo>
                    <a:lnTo>
                      <a:pt x="232" y="42"/>
                    </a:lnTo>
                    <a:lnTo>
                      <a:pt x="229" y="40"/>
                    </a:lnTo>
                    <a:lnTo>
                      <a:pt x="228" y="39"/>
                    </a:lnTo>
                    <a:lnTo>
                      <a:pt x="226" y="38"/>
                    </a:lnTo>
                    <a:lnTo>
                      <a:pt x="226" y="36"/>
                    </a:lnTo>
                    <a:lnTo>
                      <a:pt x="227" y="35"/>
                    </a:lnTo>
                    <a:lnTo>
                      <a:pt x="228" y="31"/>
                    </a:lnTo>
                    <a:lnTo>
                      <a:pt x="228" y="28"/>
                    </a:lnTo>
                    <a:lnTo>
                      <a:pt x="235" y="25"/>
                    </a:lnTo>
                    <a:lnTo>
                      <a:pt x="243" y="24"/>
                    </a:lnTo>
                    <a:lnTo>
                      <a:pt x="250" y="22"/>
                    </a:lnTo>
                    <a:lnTo>
                      <a:pt x="257" y="19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 flipH="1">
                <a:off x="2347560" y="3335400"/>
                <a:ext cx="162000" cy="22320"/>
              </a:xfrm>
              <a:custGeom>
                <a:avLst/>
                <a:gdLst/>
                <a:ahLst/>
                <a:rect l="l" t="t" r="r" b="b"/>
                <a:pathLst>
                  <a:path w="205" h="28">
                    <a:moveTo>
                      <a:pt x="0" y="2"/>
                    </a:moveTo>
                    <a:lnTo>
                      <a:pt x="12" y="1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7" y="0"/>
                    </a:lnTo>
                    <a:lnTo>
                      <a:pt x="101" y="0"/>
                    </a:lnTo>
                    <a:lnTo>
                      <a:pt x="114" y="1"/>
                    </a:lnTo>
                    <a:lnTo>
                      <a:pt x="126" y="2"/>
                    </a:lnTo>
                    <a:lnTo>
                      <a:pt x="139" y="4"/>
                    </a:lnTo>
                    <a:lnTo>
                      <a:pt x="152" y="6"/>
                    </a:lnTo>
                    <a:lnTo>
                      <a:pt x="166" y="8"/>
                    </a:lnTo>
                    <a:lnTo>
                      <a:pt x="178" y="11"/>
                    </a:lnTo>
                    <a:lnTo>
                      <a:pt x="191" y="13"/>
                    </a:lnTo>
                    <a:lnTo>
                      <a:pt x="205" y="16"/>
                    </a:lnTo>
                    <a:lnTo>
                      <a:pt x="197" y="20"/>
                    </a:lnTo>
                    <a:lnTo>
                      <a:pt x="189" y="23"/>
                    </a:lnTo>
                    <a:lnTo>
                      <a:pt x="179" y="25"/>
                    </a:lnTo>
                    <a:lnTo>
                      <a:pt x="171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flipH="1">
                <a:off x="2347200" y="3335400"/>
                <a:ext cx="104760" cy="14400"/>
              </a:xfrm>
              <a:custGeom>
                <a:avLst/>
                <a:gdLst/>
                <a:ahLst/>
                <a:rect l="l" t="t" r="r" b="b"/>
                <a:pathLst>
                  <a:path w="134" h="19">
                    <a:moveTo>
                      <a:pt x="0" y="0"/>
                    </a:moveTo>
                    <a:lnTo>
                      <a:pt x="16" y="0"/>
                    </a:lnTo>
                    <a:lnTo>
                      <a:pt x="32" y="1"/>
                    </a:lnTo>
                    <a:lnTo>
                      <a:pt x="50" y="2"/>
                    </a:lnTo>
                    <a:lnTo>
                      <a:pt x="66" y="4"/>
                    </a:lnTo>
                    <a:lnTo>
                      <a:pt x="83" y="6"/>
                    </a:lnTo>
                    <a:lnTo>
                      <a:pt x="100" y="9"/>
                    </a:lnTo>
                    <a:lnTo>
                      <a:pt x="117" y="13"/>
                    </a:lnTo>
                    <a:lnTo>
                      <a:pt x="134" y="16"/>
                    </a:lnTo>
                    <a:lnTo>
                      <a:pt x="133" y="16"/>
                    </a:lnTo>
                    <a:lnTo>
                      <a:pt x="130" y="17"/>
                    </a:lnTo>
                    <a:lnTo>
                      <a:pt x="129" y="19"/>
                    </a:lnTo>
                    <a:lnTo>
                      <a:pt x="12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flipH="1">
                <a:off x="2636280" y="35542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0" y="0"/>
                    </a:moveTo>
                    <a:lnTo>
                      <a:pt x="0" y="8"/>
                    </a:lnTo>
                    <a:lnTo>
                      <a:pt x="1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 flipH="1">
                <a:off x="2631600" y="35496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8" y="0"/>
                    </a:moveTo>
                    <a:lnTo>
                      <a:pt x="0" y="8"/>
                    </a:lnTo>
                    <a:lnTo>
                      <a:pt x="5" y="10"/>
                    </a:lnTo>
                    <a:lnTo>
                      <a:pt x="15" y="5"/>
                    </a:lnTo>
                    <a:lnTo>
                      <a:pt x="17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 flipH="1">
                <a:off x="2628360" y="3546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8" y="0"/>
                    </a:moveTo>
                    <a:lnTo>
                      <a:pt x="0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 flipH="1">
                <a:off x="2625480" y="35431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1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 flipH="1">
                <a:off x="2620800" y="354168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0"/>
                    </a:moveTo>
                    <a:lnTo>
                      <a:pt x="0" y="7"/>
                    </a:lnTo>
                    <a:lnTo>
                      <a:pt x="9" y="10"/>
                    </a:lnTo>
                    <a:lnTo>
                      <a:pt x="1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>
                <a:off x="2619000" y="3537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0"/>
                    </a:moveTo>
                    <a:lnTo>
                      <a:pt x="0" y="7"/>
                    </a:lnTo>
                    <a:lnTo>
                      <a:pt x="12" y="9"/>
                    </a:lnTo>
                    <a:lnTo>
                      <a:pt x="1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 flipH="1">
                <a:off x="2615760" y="35337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7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H="1">
                <a:off x="2611080" y="3530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7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 flipH="1">
                <a:off x="2607480" y="352908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9" y="0"/>
                    </a:moveTo>
                    <a:lnTo>
                      <a:pt x="0" y="7"/>
                    </a:lnTo>
                    <a:lnTo>
                      <a:pt x="11" y="9"/>
                    </a:lnTo>
                    <a:lnTo>
                      <a:pt x="2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H="1">
                <a:off x="2606400" y="3524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7" y="0"/>
                    </a:moveTo>
                    <a:lnTo>
                      <a:pt x="0" y="8"/>
                    </a:lnTo>
                    <a:lnTo>
                      <a:pt x="13" y="10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2601720" y="35193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8" y="0"/>
                    </a:moveTo>
                    <a:lnTo>
                      <a:pt x="0" y="10"/>
                    </a:lnTo>
                    <a:lnTo>
                      <a:pt x="12" y="10"/>
                    </a:lnTo>
                    <a:lnTo>
                      <a:pt x="1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 flipH="1">
                <a:off x="2598480" y="35164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8" y="0"/>
                    </a:moveTo>
                    <a:lnTo>
                      <a:pt x="0" y="10"/>
                    </a:lnTo>
                    <a:lnTo>
                      <a:pt x="13" y="12"/>
                    </a:lnTo>
                    <a:lnTo>
                      <a:pt x="22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 flipH="1">
                <a:off x="2595240" y="35146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7" y="0"/>
                    </a:moveTo>
                    <a:lnTo>
                      <a:pt x="0" y="7"/>
                    </a:lnTo>
                    <a:lnTo>
                      <a:pt x="11" y="9"/>
                    </a:lnTo>
                    <a:lnTo>
                      <a:pt x="2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 flipH="1">
                <a:off x="2593800" y="35114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9" y="0"/>
                    </a:moveTo>
                    <a:lnTo>
                      <a:pt x="0" y="7"/>
                    </a:lnTo>
                    <a:lnTo>
                      <a:pt x="14" y="10"/>
                    </a:lnTo>
                    <a:lnTo>
                      <a:pt x="21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 flipH="1">
                <a:off x="2588400" y="35067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7" y="0"/>
                    </a:moveTo>
                    <a:lnTo>
                      <a:pt x="0" y="9"/>
                    </a:lnTo>
                    <a:lnTo>
                      <a:pt x="14" y="11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2582280" y="35035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7" y="0"/>
                    </a:moveTo>
                    <a:lnTo>
                      <a:pt x="0" y="9"/>
                    </a:lnTo>
                    <a:lnTo>
                      <a:pt x="12" y="12"/>
                    </a:lnTo>
                    <a:lnTo>
                      <a:pt x="14" y="9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H="1">
                <a:off x="2579040" y="3502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9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26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 flipH="1">
                <a:off x="2576160" y="34974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0"/>
                    </a:moveTo>
                    <a:lnTo>
                      <a:pt x="0" y="8"/>
                    </a:lnTo>
                    <a:lnTo>
                      <a:pt x="18" y="13"/>
                    </a:lnTo>
                    <a:lnTo>
                      <a:pt x="24" y="6"/>
                    </a:lnTo>
                    <a:lnTo>
                      <a:pt x="2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 flipH="1">
                <a:off x="2571480" y="3494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1"/>
                    </a:moveTo>
                    <a:lnTo>
                      <a:pt x="4" y="3"/>
                    </a:lnTo>
                    <a:lnTo>
                      <a:pt x="7" y="0"/>
                    </a:lnTo>
                    <a:lnTo>
                      <a:pt x="26" y="3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 flipH="1">
                <a:off x="2569680" y="348948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9"/>
                    </a:moveTo>
                    <a:lnTo>
                      <a:pt x="2" y="7"/>
                    </a:lnTo>
                    <a:lnTo>
                      <a:pt x="8" y="0"/>
                    </a:lnTo>
                    <a:lnTo>
                      <a:pt x="27" y="4"/>
                    </a:lnTo>
                    <a:lnTo>
                      <a:pt x="20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 flipH="1">
                <a:off x="2566440" y="34876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8" y="0"/>
                    </a:moveTo>
                    <a:lnTo>
                      <a:pt x="0" y="6"/>
                    </a:lnTo>
                    <a:lnTo>
                      <a:pt x="19" y="9"/>
                    </a:lnTo>
                    <a:lnTo>
                      <a:pt x="26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 flipH="1">
                <a:off x="2563200" y="34844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9" y="0"/>
                    </a:moveTo>
                    <a:lnTo>
                      <a:pt x="0" y="7"/>
                    </a:lnTo>
                    <a:lnTo>
                      <a:pt x="19" y="11"/>
                    </a:lnTo>
                    <a:lnTo>
                      <a:pt x="2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flipH="1">
                <a:off x="2559960" y="34815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9" y="0"/>
                    </a:moveTo>
                    <a:lnTo>
                      <a:pt x="0" y="10"/>
                    </a:lnTo>
                    <a:lnTo>
                      <a:pt x="18" y="12"/>
                    </a:lnTo>
                    <a:lnTo>
                      <a:pt x="25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H="1">
                <a:off x="2557080" y="3479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0" y="7"/>
                    </a:moveTo>
                    <a:lnTo>
                      <a:pt x="5" y="2"/>
                    </a:lnTo>
                    <a:lnTo>
                      <a:pt x="10" y="0"/>
                    </a:lnTo>
                    <a:lnTo>
                      <a:pt x="27" y="2"/>
                    </a:lnTo>
                    <a:lnTo>
                      <a:pt x="19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 flipH="1">
                <a:off x="2552040" y="3475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7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27" y="3"/>
                    </a:lnTo>
                    <a:lnTo>
                      <a:pt x="16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 flipH="1">
                <a:off x="2549160" y="34704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11" y="0"/>
                    </a:moveTo>
                    <a:lnTo>
                      <a:pt x="0" y="10"/>
                    </a:lnTo>
                    <a:lnTo>
                      <a:pt x="17" y="12"/>
                    </a:lnTo>
                    <a:lnTo>
                      <a:pt x="26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 flipH="1">
                <a:off x="2547720" y="34686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2" y="0"/>
                    </a:moveTo>
                    <a:lnTo>
                      <a:pt x="0" y="8"/>
                    </a:lnTo>
                    <a:lnTo>
                      <a:pt x="15" y="11"/>
                    </a:lnTo>
                    <a:lnTo>
                      <a:pt x="21" y="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flipH="1">
                <a:off x="2543040" y="3465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7"/>
                    </a:moveTo>
                    <a:lnTo>
                      <a:pt x="13" y="2"/>
                    </a:lnTo>
                    <a:lnTo>
                      <a:pt x="15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flipH="1">
                <a:off x="2539440" y="34639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7"/>
                    </a:moveTo>
                    <a:lnTo>
                      <a:pt x="5" y="5"/>
                    </a:lnTo>
                    <a:lnTo>
                      <a:pt x="19" y="0"/>
                    </a:lnTo>
                    <a:lnTo>
                      <a:pt x="9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flipH="1">
                <a:off x="2539800" y="3463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3"/>
                    </a:moveTo>
                    <a:lnTo>
                      <a:pt x="12" y="0"/>
                    </a:lnTo>
                    <a:lnTo>
                      <a:pt x="7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flipH="1">
                <a:off x="2026800" y="3621240"/>
                <a:ext cx="59040" cy="1584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0" y="0"/>
                    </a:moveTo>
                    <a:lnTo>
                      <a:pt x="5" y="4"/>
                    </a:lnTo>
                    <a:lnTo>
                      <a:pt x="11" y="10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19"/>
                    </a:lnTo>
                    <a:lnTo>
                      <a:pt x="37" y="17"/>
                    </a:lnTo>
                    <a:lnTo>
                      <a:pt x="44" y="16"/>
                    </a:lnTo>
                    <a:lnTo>
                      <a:pt x="50" y="15"/>
                    </a:lnTo>
                    <a:lnTo>
                      <a:pt x="55" y="13"/>
                    </a:lnTo>
                    <a:lnTo>
                      <a:pt x="62" y="13"/>
                    </a:lnTo>
                    <a:lnTo>
                      <a:pt x="68" y="12"/>
                    </a:lnTo>
                    <a:lnTo>
                      <a:pt x="75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H="1">
                <a:off x="1985400" y="3608280"/>
                <a:ext cx="106200" cy="27000"/>
              </a:xfrm>
              <a:custGeom>
                <a:avLst/>
                <a:gdLst/>
                <a:ahLst/>
                <a:rect l="l" t="t" r="r" b="b"/>
                <a:pathLst>
                  <a:path w="134" h="33">
                    <a:moveTo>
                      <a:pt x="0" y="0"/>
                    </a:moveTo>
                    <a:lnTo>
                      <a:pt x="4" y="8"/>
                    </a:lnTo>
                    <a:lnTo>
                      <a:pt x="9" y="15"/>
                    </a:lnTo>
                    <a:lnTo>
                      <a:pt x="15" y="22"/>
                    </a:lnTo>
                    <a:lnTo>
                      <a:pt x="24" y="28"/>
                    </a:lnTo>
                    <a:lnTo>
                      <a:pt x="43" y="33"/>
                    </a:lnTo>
                    <a:lnTo>
                      <a:pt x="54" y="31"/>
                    </a:lnTo>
                    <a:lnTo>
                      <a:pt x="66" y="28"/>
                    </a:lnTo>
                    <a:lnTo>
                      <a:pt x="77" y="26"/>
                    </a:lnTo>
                    <a:lnTo>
                      <a:pt x="89" y="25"/>
                    </a:lnTo>
                    <a:lnTo>
                      <a:pt x="99" y="24"/>
                    </a:lnTo>
                    <a:lnTo>
                      <a:pt x="111" y="23"/>
                    </a:lnTo>
                    <a:lnTo>
                      <a:pt x="122" y="22"/>
                    </a:lnTo>
                    <a:lnTo>
                      <a:pt x="134" y="22"/>
                    </a:lnTo>
                    <a:lnTo>
                      <a:pt x="34" y="5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8" y="17"/>
                    </a:lnTo>
                    <a:lnTo>
                      <a:pt x="35" y="14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 flipH="1">
                <a:off x="1964880" y="3597120"/>
                <a:ext cx="130320" cy="33480"/>
              </a:xfrm>
              <a:custGeom>
                <a:avLst/>
                <a:gdLst/>
                <a:ahLst/>
                <a:rect l="l" t="t" r="r" b="b"/>
                <a:pathLst>
                  <a:path w="164" h="40">
                    <a:moveTo>
                      <a:pt x="0" y="0"/>
                    </a:moveTo>
                    <a:lnTo>
                      <a:pt x="3" y="8"/>
                    </a:lnTo>
                    <a:lnTo>
                      <a:pt x="5" y="15"/>
                    </a:lnTo>
                    <a:lnTo>
                      <a:pt x="8" y="22"/>
                    </a:lnTo>
                    <a:lnTo>
                      <a:pt x="11" y="29"/>
                    </a:lnTo>
                    <a:lnTo>
                      <a:pt x="86" y="40"/>
                    </a:lnTo>
                    <a:lnTo>
                      <a:pt x="95" y="39"/>
                    </a:lnTo>
                    <a:lnTo>
                      <a:pt x="105" y="37"/>
                    </a:lnTo>
                    <a:lnTo>
                      <a:pt x="115" y="36"/>
                    </a:lnTo>
                    <a:lnTo>
                      <a:pt x="124" y="34"/>
                    </a:lnTo>
                    <a:lnTo>
                      <a:pt x="133" y="34"/>
                    </a:lnTo>
                    <a:lnTo>
                      <a:pt x="144" y="33"/>
                    </a:lnTo>
                    <a:lnTo>
                      <a:pt x="154" y="33"/>
                    </a:lnTo>
                    <a:lnTo>
                      <a:pt x="164" y="33"/>
                    </a:lnTo>
                    <a:lnTo>
                      <a:pt x="163" y="31"/>
                    </a:lnTo>
                    <a:lnTo>
                      <a:pt x="161" y="30"/>
                    </a:lnTo>
                    <a:lnTo>
                      <a:pt x="160" y="28"/>
                    </a:lnTo>
                    <a:lnTo>
                      <a:pt x="158" y="24"/>
                    </a:lnTo>
                    <a:lnTo>
                      <a:pt x="33" y="7"/>
                    </a:lnTo>
                    <a:lnTo>
                      <a:pt x="35" y="13"/>
                    </a:lnTo>
                    <a:lnTo>
                      <a:pt x="37" y="18"/>
                    </a:lnTo>
                    <a:lnTo>
                      <a:pt x="39" y="24"/>
                    </a:lnTo>
                    <a:lnTo>
                      <a:pt x="42" y="31"/>
                    </a:lnTo>
                    <a:lnTo>
                      <a:pt x="35" y="24"/>
                    </a:lnTo>
                    <a:lnTo>
                      <a:pt x="31" y="17"/>
                    </a:lnTo>
                    <a:lnTo>
                      <a:pt x="25" y="11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 flipH="1">
                <a:off x="2071440" y="3611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 flipH="1">
                <a:off x="1964880" y="3592440"/>
                <a:ext cx="108000" cy="334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0"/>
                    </a:move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7" y="21"/>
                    </a:lnTo>
                    <a:lnTo>
                      <a:pt x="10" y="26"/>
                    </a:lnTo>
                    <a:lnTo>
                      <a:pt x="110" y="43"/>
                    </a:lnTo>
                    <a:lnTo>
                      <a:pt x="116" y="41"/>
                    </a:lnTo>
                    <a:lnTo>
                      <a:pt x="121" y="40"/>
                    </a:lnTo>
                    <a:lnTo>
                      <a:pt x="128" y="40"/>
                    </a:lnTo>
                    <a:lnTo>
                      <a:pt x="136" y="40"/>
                    </a:lnTo>
                    <a:lnTo>
                      <a:pt x="132" y="35"/>
                    </a:lnTo>
                    <a:lnTo>
                      <a:pt x="127" y="30"/>
                    </a:lnTo>
                    <a:lnTo>
                      <a:pt x="121" y="23"/>
                    </a:lnTo>
                    <a:lnTo>
                      <a:pt x="117" y="16"/>
                    </a:lnTo>
                    <a:lnTo>
                      <a:pt x="43" y="7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3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 flipH="1">
                <a:off x="1946160" y="3608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3"/>
                    </a:moveTo>
                    <a:lnTo>
                      <a:pt x="6" y="4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 flipH="1">
                <a:off x="2072520" y="3592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 flipH="1">
                <a:off x="2072880" y="3589200"/>
                <a:ext cx="28800" cy="241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35" y="31"/>
                    </a:moveTo>
                    <a:lnTo>
                      <a:pt x="35" y="29"/>
                    </a:lnTo>
                    <a:lnTo>
                      <a:pt x="32" y="22"/>
                    </a:lnTo>
                    <a:lnTo>
                      <a:pt x="29" y="15"/>
                    </a:lnTo>
                    <a:lnTo>
                      <a:pt x="25" y="10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9" y="20"/>
                    </a:lnTo>
                    <a:lnTo>
                      <a:pt x="11" y="26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 flipH="1">
                <a:off x="2077920" y="35971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H="1">
                <a:off x="1969920" y="3579840"/>
                <a:ext cx="109440" cy="38160"/>
              </a:xfrm>
              <a:custGeom>
                <a:avLst/>
                <a:gdLst/>
                <a:ahLst/>
                <a:rect l="l" t="t" r="r" b="b"/>
                <a:pathLst>
                  <a:path w="139" h="46">
                    <a:moveTo>
                      <a:pt x="0" y="0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8" y="15"/>
                    </a:lnTo>
                    <a:lnTo>
                      <a:pt x="11" y="22"/>
                    </a:lnTo>
                    <a:lnTo>
                      <a:pt x="14" y="29"/>
                    </a:lnTo>
                    <a:lnTo>
                      <a:pt x="139" y="46"/>
                    </a:lnTo>
                    <a:lnTo>
                      <a:pt x="133" y="39"/>
                    </a:lnTo>
                    <a:lnTo>
                      <a:pt x="127" y="32"/>
                    </a:lnTo>
                    <a:lnTo>
                      <a:pt x="122" y="25"/>
                    </a:lnTo>
                    <a:lnTo>
                      <a:pt x="117" y="17"/>
                    </a:lnTo>
                    <a:lnTo>
                      <a:pt x="45" y="8"/>
                    </a:lnTo>
                    <a:lnTo>
                      <a:pt x="49" y="13"/>
                    </a:lnTo>
                    <a:lnTo>
                      <a:pt x="51" y="17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46" y="21"/>
                    </a:lnTo>
                    <a:lnTo>
                      <a:pt x="42" y="16"/>
                    </a:lnTo>
                    <a:lnTo>
                      <a:pt x="36" y="10"/>
                    </a:lnTo>
                    <a:lnTo>
                      <a:pt x="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H="1">
                <a:off x="1909080" y="3603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9" y="2"/>
                    </a:moveTo>
                    <a:lnTo>
                      <a:pt x="29" y="4"/>
                    </a:lnTo>
                    <a:lnTo>
                      <a:pt x="29" y="6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28" y="11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3" y="7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 flipH="1">
                <a:off x="1946160" y="3597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8" y="2"/>
                    </a:moveTo>
                    <a:lnTo>
                      <a:pt x="21" y="8"/>
                    </a:lnTo>
                    <a:lnTo>
                      <a:pt x="24" y="13"/>
                    </a:lnTo>
                    <a:lnTo>
                      <a:pt x="26" y="18"/>
                    </a:lnTo>
                    <a:lnTo>
                      <a:pt x="29" y="24"/>
                    </a:lnTo>
                    <a:lnTo>
                      <a:pt x="23" y="18"/>
                    </a:lnTo>
                    <a:lnTo>
                      <a:pt x="16" y="11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 flipH="1">
                <a:off x="2079000" y="3579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 flipH="1">
                <a:off x="2079000" y="35766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33" y="27"/>
                    </a:lnTo>
                    <a:lnTo>
                      <a:pt x="31" y="21"/>
                    </a:lnTo>
                    <a:lnTo>
                      <a:pt x="27" y="16"/>
                    </a:lnTo>
                    <a:lnTo>
                      <a:pt x="24" y="10"/>
                    </a:lnTo>
                    <a:lnTo>
                      <a:pt x="21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13"/>
                    </a:lnTo>
                    <a:lnTo>
                      <a:pt x="9" y="19"/>
                    </a:lnTo>
                    <a:lnTo>
                      <a:pt x="11" y="23"/>
                    </a:lnTo>
                    <a:lnTo>
                      <a:pt x="14" y="27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 flipH="1">
                <a:off x="1948680" y="3608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 flipH="1">
                <a:off x="1909080" y="359100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1" y="8"/>
                    </a:lnTo>
                    <a:lnTo>
                      <a:pt x="17" y="12"/>
                    </a:lnTo>
                    <a:lnTo>
                      <a:pt x="22" y="17"/>
                    </a:lnTo>
                    <a:lnTo>
                      <a:pt x="28" y="20"/>
                    </a:lnTo>
                    <a:lnTo>
                      <a:pt x="32" y="24"/>
                    </a:lnTo>
                    <a:lnTo>
                      <a:pt x="37" y="27"/>
                    </a:lnTo>
                    <a:lnTo>
                      <a:pt x="40" y="31"/>
                    </a:lnTo>
                    <a:lnTo>
                      <a:pt x="42" y="31"/>
                    </a:lnTo>
                    <a:lnTo>
                      <a:pt x="45" y="30"/>
                    </a:lnTo>
                    <a:lnTo>
                      <a:pt x="47" y="27"/>
                    </a:lnTo>
                    <a:lnTo>
                      <a:pt x="51" y="26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 flipH="1">
                <a:off x="1881000" y="35971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4"/>
                    </a:moveTo>
                    <a:lnTo>
                      <a:pt x="18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1948680" y="3591000"/>
                <a:ext cx="1800" cy="1440"/>
              </a:xfrm>
              <a:prstGeom prst="rect">
                <a:avLst/>
              </a:pr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 flipH="1">
                <a:off x="1950840" y="3575160"/>
                <a:ext cx="95040" cy="36360"/>
              </a:xfrm>
              <a:custGeom>
                <a:avLst/>
                <a:gdLst/>
                <a:ahLst/>
                <a:rect l="l" t="t" r="r" b="b"/>
                <a:pathLst>
                  <a:path w="121" h="46">
                    <a:moveTo>
                      <a:pt x="121" y="46"/>
                    </a:moveTo>
                    <a:lnTo>
                      <a:pt x="121" y="43"/>
                    </a:lnTo>
                    <a:lnTo>
                      <a:pt x="117" y="37"/>
                    </a:lnTo>
                    <a:lnTo>
                      <a:pt x="113" y="31"/>
                    </a:lnTo>
                    <a:lnTo>
                      <a:pt x="108" y="24"/>
                    </a:lnTo>
                    <a:lnTo>
                      <a:pt x="105" y="17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9" y="29"/>
                    </a:lnTo>
                    <a:lnTo>
                      <a:pt x="83" y="38"/>
                    </a:lnTo>
                    <a:lnTo>
                      <a:pt x="79" y="32"/>
                    </a:lnTo>
                    <a:lnTo>
                      <a:pt x="76" y="28"/>
                    </a:lnTo>
                    <a:lnTo>
                      <a:pt x="72" y="22"/>
                    </a:lnTo>
                    <a:lnTo>
                      <a:pt x="69" y="17"/>
                    </a:lnTo>
                    <a:lnTo>
                      <a:pt x="75" y="18"/>
                    </a:lnTo>
                    <a:lnTo>
                      <a:pt x="82" y="21"/>
                    </a:lnTo>
                    <a:lnTo>
                      <a:pt x="87" y="24"/>
                    </a:lnTo>
                    <a:lnTo>
                      <a:pt x="93" y="28"/>
                    </a:lnTo>
                    <a:lnTo>
                      <a:pt x="99" y="31"/>
                    </a:lnTo>
                    <a:lnTo>
                      <a:pt x="106" y="35"/>
                    </a:lnTo>
                    <a:lnTo>
                      <a:pt x="110" y="39"/>
                    </a:lnTo>
                    <a:lnTo>
                      <a:pt x="116" y="43"/>
                    </a:lnTo>
                    <a:lnTo>
                      <a:pt x="121" y="46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H="1">
                <a:off x="2043000" y="3594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H="1">
                <a:off x="2045520" y="3575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6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 flipH="1">
                <a:off x="2045520" y="357012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51" y="34"/>
                    </a:moveTo>
                    <a:lnTo>
                      <a:pt x="51" y="31"/>
                    </a:lnTo>
                    <a:lnTo>
                      <a:pt x="44" y="25"/>
                    </a:lnTo>
                    <a:lnTo>
                      <a:pt x="38" y="19"/>
                    </a:lnTo>
                    <a:lnTo>
                      <a:pt x="32" y="12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3"/>
                    </a:lnTo>
                    <a:lnTo>
                      <a:pt x="9" y="17"/>
                    </a:lnTo>
                    <a:lnTo>
                      <a:pt x="13" y="23"/>
                    </a:lnTo>
                    <a:lnTo>
                      <a:pt x="15" y="29"/>
                    </a:lnTo>
                    <a:lnTo>
                      <a:pt x="51" y="34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2083680" y="3587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 flipH="1">
                <a:off x="2085840" y="357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 flipH="1">
                <a:off x="2085480" y="35672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5" y="29"/>
                    </a:moveTo>
                    <a:lnTo>
                      <a:pt x="25" y="24"/>
                    </a:lnTo>
                    <a:lnTo>
                      <a:pt x="22" y="18"/>
                    </a:lnTo>
                    <a:lnTo>
                      <a:pt x="18" y="11"/>
                    </a:lnTo>
                    <a:lnTo>
                      <a:pt x="15" y="6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7" y="26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 flipH="1">
                <a:off x="1955160" y="35924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 flipH="1">
                <a:off x="1911240" y="3578400"/>
                <a:ext cx="48960" cy="266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0" y="0"/>
                    </a:moveTo>
                    <a:lnTo>
                      <a:pt x="0" y="4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7" y="24"/>
                    </a:lnTo>
                    <a:lnTo>
                      <a:pt x="33" y="31"/>
                    </a:lnTo>
                    <a:lnTo>
                      <a:pt x="62" y="33"/>
                    </a:lnTo>
                    <a:lnTo>
                      <a:pt x="59" y="26"/>
                    </a:lnTo>
                    <a:lnTo>
                      <a:pt x="54" y="19"/>
                    </a:lnTo>
                    <a:lnTo>
                      <a:pt x="50" y="13"/>
                    </a:lnTo>
                    <a:lnTo>
                      <a:pt x="4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1872720" y="3587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5" y="7"/>
                    </a:moveTo>
                    <a:lnTo>
                      <a:pt x="46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2" y="13"/>
                    </a:lnTo>
                    <a:lnTo>
                      <a:pt x="38" y="16"/>
                    </a:lnTo>
                    <a:lnTo>
                      <a:pt x="33" y="20"/>
                    </a:lnTo>
                    <a:lnTo>
                      <a:pt x="28" y="23"/>
                    </a:lnTo>
                    <a:lnTo>
                      <a:pt x="20" y="17"/>
                    </a:lnTo>
                    <a:lnTo>
                      <a:pt x="13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H="1">
                <a:off x="1959840" y="35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 flipH="1">
                <a:off x="1959840" y="3564000"/>
                <a:ext cx="95400" cy="36360"/>
              </a:xfrm>
              <a:custGeom>
                <a:avLst/>
                <a:gdLst/>
                <a:ahLst/>
                <a:rect l="l" t="t" r="r" b="b"/>
                <a:pathLst>
                  <a:path w="120" h="45">
                    <a:moveTo>
                      <a:pt x="120" y="45"/>
                    </a:moveTo>
                    <a:lnTo>
                      <a:pt x="120" y="36"/>
                    </a:lnTo>
                    <a:lnTo>
                      <a:pt x="118" y="31"/>
                    </a:lnTo>
                    <a:lnTo>
                      <a:pt x="115" y="27"/>
                    </a:lnTo>
                    <a:lnTo>
                      <a:pt x="112" y="22"/>
                    </a:lnTo>
                    <a:lnTo>
                      <a:pt x="109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9" y="16"/>
                    </a:lnTo>
                    <a:lnTo>
                      <a:pt x="13" y="23"/>
                    </a:lnTo>
                    <a:lnTo>
                      <a:pt x="15" y="29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5" y="35"/>
                    </a:lnTo>
                    <a:lnTo>
                      <a:pt x="83" y="32"/>
                    </a:lnTo>
                    <a:lnTo>
                      <a:pt x="82" y="31"/>
                    </a:lnTo>
                    <a:lnTo>
                      <a:pt x="89" y="32"/>
                    </a:lnTo>
                    <a:lnTo>
                      <a:pt x="96" y="35"/>
                    </a:lnTo>
                    <a:lnTo>
                      <a:pt x="103" y="38"/>
                    </a:lnTo>
                    <a:lnTo>
                      <a:pt x="109" y="43"/>
                    </a:lnTo>
                    <a:lnTo>
                      <a:pt x="120" y="45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 flipH="1">
                <a:off x="2053440" y="3584520"/>
                <a:ext cx="1800" cy="180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 flipH="1">
                <a:off x="2053440" y="356400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 flipH="1">
                <a:off x="2055240" y="3560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31"/>
                    </a:moveTo>
                    <a:lnTo>
                      <a:pt x="42" y="31"/>
                    </a:lnTo>
                    <a:lnTo>
                      <a:pt x="36" y="23"/>
                    </a:lnTo>
                    <a:lnTo>
                      <a:pt x="31" y="16"/>
                    </a:lnTo>
                    <a:lnTo>
                      <a:pt x="25" y="9"/>
                    </a:lnTo>
                    <a:lnTo>
                      <a:pt x="19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 flipH="1">
                <a:off x="2088360" y="357840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 flipH="1">
                <a:off x="2088360" y="356076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 flipH="1">
                <a:off x="2090520" y="35654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6"/>
                    </a:moveTo>
                    <a:lnTo>
                      <a:pt x="19" y="16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H="1">
                <a:off x="1870920" y="3592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H="1">
                <a:off x="1847160" y="358308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6" y="7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H="1">
                <a:off x="1873080" y="3583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H="1">
                <a:off x="1873080" y="357516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60" y="24"/>
                    </a:moveTo>
                    <a:lnTo>
                      <a:pt x="60" y="22"/>
                    </a:lnTo>
                    <a:lnTo>
                      <a:pt x="56" y="20"/>
                    </a:lnTo>
                    <a:lnTo>
                      <a:pt x="52" y="15"/>
                    </a:lnTo>
                    <a:lnTo>
                      <a:pt x="46" y="10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10"/>
                    </a:lnTo>
                    <a:lnTo>
                      <a:pt x="15" y="17"/>
                    </a:lnTo>
                    <a:lnTo>
                      <a:pt x="22" y="23"/>
                    </a:lnTo>
                    <a:lnTo>
                      <a:pt x="29" y="29"/>
                    </a:lnTo>
                    <a:lnTo>
                      <a:pt x="48" y="33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7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"/>
            <p:cNvGrpSpPr/>
            <p:nvPr/>
          </p:nvGrpSpPr>
          <p:grpSpPr>
            <a:xfrm>
              <a:off x="1647720" y="3318120"/>
              <a:ext cx="1085760" cy="306360"/>
              <a:chOff x="1647720" y="3318120"/>
              <a:chExt cx="1085760" cy="306360"/>
            </a:xfrm>
          </p:grpSpPr>
          <p:sp>
            <p:nvSpPr>
              <p:cNvPr id="5121" name=""/>
              <p:cNvSpPr/>
              <p:nvPr/>
            </p:nvSpPr>
            <p:spPr>
              <a:xfrm flipH="1">
                <a:off x="1917000" y="3592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flipH="1">
                <a:off x="1920600" y="3575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 flipH="1">
                <a:off x="1920600" y="356760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61" y="33"/>
                    </a:moveTo>
                    <a:lnTo>
                      <a:pt x="61" y="31"/>
                    </a:lnTo>
                    <a:lnTo>
                      <a:pt x="56" y="24"/>
                    </a:lnTo>
                    <a:lnTo>
                      <a:pt x="51" y="17"/>
                    </a:lnTo>
                    <a:lnTo>
                      <a:pt x="46" y="11"/>
                    </a:lnTo>
                    <a:lnTo>
                      <a:pt x="40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61" y="33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 flipH="1">
                <a:off x="1963080" y="3576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0" y="15"/>
                    </a:lnTo>
                    <a:lnTo>
                      <a:pt x="7" y="15"/>
                    </a:lnTo>
                    <a:lnTo>
                      <a:pt x="6" y="12"/>
                    </a:lnTo>
                    <a:lnTo>
                      <a:pt x="3" y="7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flipH="1">
                <a:off x="2096280" y="3565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 flipH="1">
                <a:off x="1968120" y="356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9"/>
                    </a:moveTo>
                    <a:lnTo>
                      <a:pt x="11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flipH="1">
                <a:off x="1968120" y="3553200"/>
                <a:ext cx="93600" cy="36360"/>
              </a:xfrm>
              <a:custGeom>
                <a:avLst/>
                <a:gdLst/>
                <a:ahLst/>
                <a:rect l="l" t="t" r="r" b="b"/>
                <a:pathLst>
                  <a:path w="118" h="46">
                    <a:moveTo>
                      <a:pt x="118" y="46"/>
                    </a:moveTo>
                    <a:lnTo>
                      <a:pt x="118" y="31"/>
                    </a:lnTo>
                    <a:lnTo>
                      <a:pt x="114" y="28"/>
                    </a:lnTo>
                    <a:lnTo>
                      <a:pt x="111" y="24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8" y="16"/>
                    </a:lnTo>
                    <a:lnTo>
                      <a:pt x="12" y="23"/>
                    </a:lnTo>
                    <a:lnTo>
                      <a:pt x="15" y="29"/>
                    </a:lnTo>
                    <a:lnTo>
                      <a:pt x="118" y="4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 flipH="1">
                <a:off x="2064960" y="354852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38" h="31">
                    <a:moveTo>
                      <a:pt x="0" y="0"/>
                    </a:moveTo>
                    <a:lnTo>
                      <a:pt x="3" y="5"/>
                    </a:lnTo>
                    <a:lnTo>
                      <a:pt x="7" y="12"/>
                    </a:lnTo>
                    <a:lnTo>
                      <a:pt x="8" y="19"/>
                    </a:lnTo>
                    <a:lnTo>
                      <a:pt x="9" y="26"/>
                    </a:lnTo>
                    <a:lnTo>
                      <a:pt x="38" y="31"/>
                    </a:lnTo>
                    <a:lnTo>
                      <a:pt x="33" y="24"/>
                    </a:lnTo>
                    <a:lnTo>
                      <a:pt x="27" y="17"/>
                    </a:lnTo>
                    <a:lnTo>
                      <a:pt x="23" y="10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flipH="1">
                <a:off x="1874160" y="3584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0" y="7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 flipH="1">
                <a:off x="1847520" y="3570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0" y="7"/>
                    </a:lnTo>
                    <a:lnTo>
                      <a:pt x="6" y="12"/>
                    </a:lnTo>
                    <a:lnTo>
                      <a:pt x="12" y="15"/>
                    </a:lnTo>
                    <a:lnTo>
                      <a:pt x="17" y="19"/>
                    </a:lnTo>
                    <a:lnTo>
                      <a:pt x="23" y="21"/>
                    </a:lnTo>
                    <a:lnTo>
                      <a:pt x="29" y="23"/>
                    </a:lnTo>
                    <a:lnTo>
                      <a:pt x="35" y="24"/>
                    </a:lnTo>
                    <a:lnTo>
                      <a:pt x="39" y="24"/>
                    </a:lnTo>
                    <a:lnTo>
                      <a:pt x="45" y="24"/>
                    </a:lnTo>
                    <a:lnTo>
                      <a:pt x="41" y="19"/>
                    </a:lnTo>
                    <a:lnTo>
                      <a:pt x="38" y="14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 flipH="1">
                <a:off x="1815840" y="357876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2"/>
                    </a:moveTo>
                    <a:lnTo>
                      <a:pt x="17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4" y="8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 flipH="1">
                <a:off x="1884240" y="35704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H="1">
                <a:off x="1883880" y="356436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60" y="27"/>
                    </a:lnTo>
                    <a:lnTo>
                      <a:pt x="55" y="21"/>
                    </a:lnTo>
                    <a:lnTo>
                      <a:pt x="50" y="15"/>
                    </a:lnTo>
                    <a:lnTo>
                      <a:pt x="44" y="11"/>
                    </a:lnTo>
                    <a:lnTo>
                      <a:pt x="38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9"/>
                    </a:lnTo>
                    <a:lnTo>
                      <a:pt x="14" y="16"/>
                    </a:lnTo>
                    <a:lnTo>
                      <a:pt x="21" y="23"/>
                    </a:lnTo>
                    <a:lnTo>
                      <a:pt x="27" y="29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 flipH="1">
                <a:off x="1924920" y="3578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4"/>
                    </a:lnTo>
                    <a:lnTo>
                      <a:pt x="7" y="8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 flipH="1">
                <a:off x="2074320" y="3537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5" y="7"/>
                    </a:lnTo>
                    <a:lnTo>
                      <a:pt x="10" y="14"/>
                    </a:lnTo>
                    <a:lnTo>
                      <a:pt x="13" y="21"/>
                    </a:lnTo>
                    <a:lnTo>
                      <a:pt x="17" y="29"/>
                    </a:lnTo>
                    <a:lnTo>
                      <a:pt x="36" y="31"/>
                    </a:lnTo>
                    <a:lnTo>
                      <a:pt x="30" y="23"/>
                    </a:lnTo>
                    <a:lnTo>
                      <a:pt x="26" y="16"/>
                    </a:lnTo>
                    <a:lnTo>
                      <a:pt x="20" y="9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 flipH="1">
                <a:off x="1929960" y="3562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H="1">
                <a:off x="1929960" y="3543480"/>
                <a:ext cx="136800" cy="39960"/>
              </a:xfrm>
              <a:custGeom>
                <a:avLst/>
                <a:gdLst/>
                <a:ahLst/>
                <a:rect l="l" t="t" r="r" b="b"/>
                <a:pathLst>
                  <a:path w="172" h="49">
                    <a:moveTo>
                      <a:pt x="172" y="49"/>
                    </a:moveTo>
                    <a:lnTo>
                      <a:pt x="172" y="45"/>
                    </a:lnTo>
                    <a:lnTo>
                      <a:pt x="166" y="39"/>
                    </a:lnTo>
                    <a:lnTo>
                      <a:pt x="162" y="34"/>
                    </a:lnTo>
                    <a:lnTo>
                      <a:pt x="156" y="29"/>
                    </a:lnTo>
                    <a:lnTo>
                      <a:pt x="150" y="22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7" y="14"/>
                    </a:lnTo>
                    <a:lnTo>
                      <a:pt x="11" y="20"/>
                    </a:lnTo>
                    <a:lnTo>
                      <a:pt x="14" y="26"/>
                    </a:lnTo>
                    <a:lnTo>
                      <a:pt x="123" y="42"/>
                    </a:lnTo>
                    <a:lnTo>
                      <a:pt x="118" y="37"/>
                    </a:lnTo>
                    <a:lnTo>
                      <a:pt x="114" y="31"/>
                    </a:lnTo>
                    <a:lnTo>
                      <a:pt x="111" y="25"/>
                    </a:lnTo>
                    <a:lnTo>
                      <a:pt x="108" y="19"/>
                    </a:lnTo>
                    <a:lnTo>
                      <a:pt x="111" y="25"/>
                    </a:lnTo>
                    <a:lnTo>
                      <a:pt x="116" y="31"/>
                    </a:lnTo>
                    <a:lnTo>
                      <a:pt x="123" y="38"/>
                    </a:lnTo>
                    <a:lnTo>
                      <a:pt x="129" y="45"/>
                    </a:lnTo>
                    <a:lnTo>
                      <a:pt x="172" y="49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H="1">
                <a:off x="1847160" y="3584880"/>
                <a:ext cx="1800" cy="1800"/>
              </a:xfrm>
              <a:prstGeom prst="rect">
                <a:avLst/>
              </a:pr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H="1">
                <a:off x="1814040" y="35658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9" y="6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4" y="14"/>
                    </a:lnTo>
                    <a:lnTo>
                      <a:pt x="28" y="18"/>
                    </a:lnTo>
                    <a:lnTo>
                      <a:pt x="33" y="20"/>
                    </a:lnTo>
                    <a:lnTo>
                      <a:pt x="38" y="24"/>
                    </a:lnTo>
                    <a:lnTo>
                      <a:pt x="40" y="21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3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8" y="6"/>
                    </a:lnTo>
                    <a:lnTo>
                      <a:pt x="3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H="1">
                <a:off x="1783800" y="357228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2" y="5"/>
                    </a:moveTo>
                    <a:lnTo>
                      <a:pt x="24" y="6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9" y="12"/>
                    </a:lnTo>
                    <a:lnTo>
                      <a:pt x="23" y="11"/>
                    </a:lnTo>
                    <a:lnTo>
                      <a:pt x="16" y="8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H="1">
                <a:off x="1847160" y="3565800"/>
                <a:ext cx="1800" cy="1800"/>
              </a:xfrm>
              <a:prstGeom prst="rect">
                <a:avLst/>
              </a:pr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H="1">
                <a:off x="1849320" y="355968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60" y="34"/>
                    </a:lnTo>
                    <a:lnTo>
                      <a:pt x="53" y="28"/>
                    </a:lnTo>
                    <a:lnTo>
                      <a:pt x="46" y="21"/>
                    </a:lnTo>
                    <a:lnTo>
                      <a:pt x="40" y="13"/>
                    </a:lnTo>
                    <a:lnTo>
                      <a:pt x="35" y="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15" y="20"/>
                    </a:lnTo>
                    <a:lnTo>
                      <a:pt x="22" y="24"/>
                    </a:lnTo>
                    <a:lnTo>
                      <a:pt x="29" y="30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H="1">
                <a:off x="1886760" y="357228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0" y="10"/>
                    </a:lnTo>
                    <a:lnTo>
                      <a:pt x="12" y="10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>
                <a:off x="1896840" y="3556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H="1">
                <a:off x="1896480" y="3549960"/>
                <a:ext cx="44280" cy="2880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57" y="36"/>
                    </a:moveTo>
                    <a:lnTo>
                      <a:pt x="57" y="26"/>
                    </a:lnTo>
                    <a:lnTo>
                      <a:pt x="53" y="22"/>
                    </a:lnTo>
                    <a:lnTo>
                      <a:pt x="49" y="16"/>
                    </a:lnTo>
                    <a:lnTo>
                      <a:pt x="44" y="11"/>
                    </a:lnTo>
                    <a:lnTo>
                      <a:pt x="41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9" y="24"/>
                    </a:lnTo>
                    <a:lnTo>
                      <a:pt x="26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H="1">
                <a:off x="1936080" y="356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H="1">
                <a:off x="2082600" y="3526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8"/>
                    </a:lnTo>
                    <a:lnTo>
                      <a:pt x="6" y="15"/>
                    </a:lnTo>
                    <a:lnTo>
                      <a:pt x="10" y="22"/>
                    </a:lnTo>
                    <a:lnTo>
                      <a:pt x="14" y="29"/>
                    </a:lnTo>
                    <a:lnTo>
                      <a:pt x="31" y="31"/>
                    </a:lnTo>
                    <a:lnTo>
                      <a:pt x="25" y="24"/>
                    </a:lnTo>
                    <a:lnTo>
                      <a:pt x="19" y="17"/>
                    </a:lnTo>
                    <a:lnTo>
                      <a:pt x="15" y="10"/>
                    </a:lnTo>
                    <a:lnTo>
                      <a:pt x="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H="1">
                <a:off x="1941120" y="3549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6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>
                <a:off x="1940760" y="3532680"/>
                <a:ext cx="133560" cy="39600"/>
              </a:xfrm>
              <a:custGeom>
                <a:avLst/>
                <a:gdLst/>
                <a:ahLst/>
                <a:rect l="l" t="t" r="r" b="b"/>
                <a:pathLst>
                  <a:path w="167" h="49">
                    <a:moveTo>
                      <a:pt x="167" y="49"/>
                    </a:moveTo>
                    <a:lnTo>
                      <a:pt x="167" y="43"/>
                    </a:lnTo>
                    <a:lnTo>
                      <a:pt x="161" y="39"/>
                    </a:lnTo>
                    <a:lnTo>
                      <a:pt x="157" y="33"/>
                    </a:lnTo>
                    <a:lnTo>
                      <a:pt x="152" y="28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38" y="4"/>
                    </a:lnTo>
                    <a:lnTo>
                      <a:pt x="39" y="6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2" y="14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2" y="15"/>
                    </a:lnTo>
                    <a:lnTo>
                      <a:pt x="29" y="11"/>
                    </a:lnTo>
                    <a:lnTo>
                      <a:pt x="26" y="7"/>
                    </a:lnTo>
                    <a:lnTo>
                      <a:pt x="21" y="2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9" y="14"/>
                    </a:lnTo>
                    <a:lnTo>
                      <a:pt x="13" y="19"/>
                    </a:lnTo>
                    <a:lnTo>
                      <a:pt x="16" y="25"/>
                    </a:lnTo>
                    <a:lnTo>
                      <a:pt x="123" y="43"/>
                    </a:lnTo>
                    <a:lnTo>
                      <a:pt x="122" y="40"/>
                    </a:lnTo>
                    <a:lnTo>
                      <a:pt x="120" y="38"/>
                    </a:lnTo>
                    <a:lnTo>
                      <a:pt x="119" y="36"/>
                    </a:lnTo>
                    <a:lnTo>
                      <a:pt x="117" y="33"/>
                    </a:lnTo>
                    <a:lnTo>
                      <a:pt x="119" y="36"/>
                    </a:lnTo>
                    <a:lnTo>
                      <a:pt x="120" y="38"/>
                    </a:lnTo>
                    <a:lnTo>
                      <a:pt x="122" y="40"/>
                    </a:lnTo>
                    <a:lnTo>
                      <a:pt x="123" y="43"/>
                    </a:lnTo>
                    <a:lnTo>
                      <a:pt x="167" y="4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H="1">
                <a:off x="1814040" y="3573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H="1">
                <a:off x="1783800" y="35611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2" y="12"/>
                    </a:lnTo>
                    <a:lnTo>
                      <a:pt x="18" y="16"/>
                    </a:lnTo>
                    <a:lnTo>
                      <a:pt x="25" y="19"/>
                    </a:lnTo>
                    <a:lnTo>
                      <a:pt x="31" y="21"/>
                    </a:lnTo>
                    <a:lnTo>
                      <a:pt x="37" y="24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31" y="9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H="1">
                <a:off x="1818720" y="3559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H="1">
                <a:off x="1818720" y="355320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56" y="36"/>
                    </a:moveTo>
                    <a:lnTo>
                      <a:pt x="56" y="27"/>
                    </a:lnTo>
                    <a:lnTo>
                      <a:pt x="52" y="22"/>
                    </a:lnTo>
                    <a:lnTo>
                      <a:pt x="48" y="16"/>
                    </a:lnTo>
                    <a:lnTo>
                      <a:pt x="43" y="12"/>
                    </a:lnTo>
                    <a:lnTo>
                      <a:pt x="38" y="8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10" y="12"/>
                    </a:lnTo>
                    <a:lnTo>
                      <a:pt x="15" y="15"/>
                    </a:lnTo>
                    <a:lnTo>
                      <a:pt x="20" y="20"/>
                    </a:lnTo>
                    <a:lnTo>
                      <a:pt x="26" y="23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42" y="34"/>
                    </a:lnTo>
                    <a:lnTo>
                      <a:pt x="56" y="36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1861920" y="3570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H="1">
                <a:off x="1863000" y="35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H="1">
                <a:off x="1863360" y="35467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58" y="34"/>
                    </a:moveTo>
                    <a:lnTo>
                      <a:pt x="58" y="29"/>
                    </a:lnTo>
                    <a:lnTo>
                      <a:pt x="54" y="23"/>
                    </a:lnTo>
                    <a:lnTo>
                      <a:pt x="51" y="19"/>
                    </a:lnTo>
                    <a:lnTo>
                      <a:pt x="49" y="13"/>
                    </a:lnTo>
                    <a:lnTo>
                      <a:pt x="47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" y="13"/>
                    </a:lnTo>
                    <a:lnTo>
                      <a:pt x="10" y="19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H="1">
                <a:off x="1900080" y="35596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10"/>
                    </a:lnTo>
                    <a:lnTo>
                      <a:pt x="11" y="12"/>
                    </a:lnTo>
                    <a:lnTo>
                      <a:pt x="9" y="8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H="1">
                <a:off x="1909080" y="354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H="1">
                <a:off x="1909440" y="35247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174" h="53">
                    <a:moveTo>
                      <a:pt x="174" y="53"/>
                    </a:moveTo>
                    <a:lnTo>
                      <a:pt x="174" y="43"/>
                    </a:lnTo>
                    <a:lnTo>
                      <a:pt x="170" y="38"/>
                    </a:lnTo>
                    <a:lnTo>
                      <a:pt x="167" y="33"/>
                    </a:lnTo>
                    <a:lnTo>
                      <a:pt x="163" y="29"/>
                    </a:lnTo>
                    <a:lnTo>
                      <a:pt x="161" y="26"/>
                    </a:lnTo>
                    <a:lnTo>
                      <a:pt x="42" y="8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1" y="14"/>
                    </a:lnTo>
                    <a:lnTo>
                      <a:pt x="38" y="12"/>
                    </a:lnTo>
                    <a:lnTo>
                      <a:pt x="35" y="10"/>
                    </a:lnTo>
                    <a:lnTo>
                      <a:pt x="33" y="8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4" y="13"/>
                    </a:lnTo>
                    <a:lnTo>
                      <a:pt x="6" y="18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28"/>
                    </a:lnTo>
                    <a:lnTo>
                      <a:pt x="125" y="46"/>
                    </a:lnTo>
                    <a:lnTo>
                      <a:pt x="122" y="42"/>
                    </a:lnTo>
                    <a:lnTo>
                      <a:pt x="119" y="38"/>
                    </a:lnTo>
                    <a:lnTo>
                      <a:pt x="117" y="34"/>
                    </a:lnTo>
                    <a:lnTo>
                      <a:pt x="114" y="31"/>
                    </a:lnTo>
                    <a:lnTo>
                      <a:pt x="115" y="31"/>
                    </a:lnTo>
                    <a:lnTo>
                      <a:pt x="116" y="29"/>
                    </a:lnTo>
                    <a:lnTo>
                      <a:pt x="117" y="27"/>
                    </a:lnTo>
                    <a:lnTo>
                      <a:pt x="118" y="26"/>
                    </a:lnTo>
                    <a:lnTo>
                      <a:pt x="124" y="32"/>
                    </a:lnTo>
                    <a:lnTo>
                      <a:pt x="131" y="36"/>
                    </a:lnTo>
                    <a:lnTo>
                      <a:pt x="137" y="42"/>
                    </a:lnTo>
                    <a:lnTo>
                      <a:pt x="142" y="48"/>
                    </a:lnTo>
                    <a:lnTo>
                      <a:pt x="174" y="5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H="1">
                <a:off x="2045520" y="3543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H="1">
                <a:off x="2091600" y="351684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3" y="7"/>
                    </a:lnTo>
                    <a:lnTo>
                      <a:pt x="4" y="14"/>
                    </a:lnTo>
                    <a:lnTo>
                      <a:pt x="6" y="21"/>
                    </a:lnTo>
                    <a:lnTo>
                      <a:pt x="9" y="27"/>
                    </a:lnTo>
                    <a:lnTo>
                      <a:pt x="23" y="29"/>
                    </a:lnTo>
                    <a:lnTo>
                      <a:pt x="20" y="22"/>
                    </a:lnTo>
                    <a:lnTo>
                      <a:pt x="15" y="14"/>
                    </a:lnTo>
                    <a:lnTo>
                      <a:pt x="9" y="6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H="1">
                <a:off x="2047680" y="3524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H="1">
                <a:off x="2047680" y="351972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41" y="31"/>
                    </a:moveTo>
                    <a:lnTo>
                      <a:pt x="41" y="29"/>
                    </a:lnTo>
                    <a:lnTo>
                      <a:pt x="34" y="23"/>
                    </a:lnTo>
                    <a:lnTo>
                      <a:pt x="27" y="17"/>
                    </a:lnTo>
                    <a:lnTo>
                      <a:pt x="22" y="10"/>
                    </a:lnTo>
                    <a:lnTo>
                      <a:pt x="16" y="2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7" y="15"/>
                    </a:lnTo>
                    <a:lnTo>
                      <a:pt x="12" y="22"/>
                    </a:lnTo>
                    <a:lnTo>
                      <a:pt x="16" y="29"/>
                    </a:lnTo>
                    <a:lnTo>
                      <a:pt x="41" y="31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H="1">
                <a:off x="1820160" y="3561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9"/>
                    </a:lnTo>
                    <a:lnTo>
                      <a:pt x="11" y="11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H="1">
                <a:off x="1788480" y="3546720"/>
                <a:ext cx="41400" cy="2880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0" y="0"/>
                    </a:moveTo>
                    <a:lnTo>
                      <a:pt x="0" y="10"/>
                    </a:lnTo>
                    <a:lnTo>
                      <a:pt x="7" y="15"/>
                    </a:lnTo>
                    <a:lnTo>
                      <a:pt x="15" y="22"/>
                    </a:lnTo>
                    <a:lnTo>
                      <a:pt x="23" y="27"/>
                    </a:lnTo>
                    <a:lnTo>
                      <a:pt x="30" y="31"/>
                    </a:lnTo>
                    <a:lnTo>
                      <a:pt x="52" y="36"/>
                    </a:lnTo>
                    <a:lnTo>
                      <a:pt x="46" y="28"/>
                    </a:lnTo>
                    <a:lnTo>
                      <a:pt x="40" y="20"/>
                    </a:lnTo>
                    <a:lnTo>
                      <a:pt x="33" y="13"/>
                    </a:lnTo>
                    <a:lnTo>
                      <a:pt x="2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H="1">
                <a:off x="1742400" y="355644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44" y="7"/>
                    </a:moveTo>
                    <a:lnTo>
                      <a:pt x="41" y="8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1" y="10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H="1">
                <a:off x="1830240" y="3546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4"/>
                    </a:lnTo>
                    <a:lnTo>
                      <a:pt x="8" y="6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H="1">
                <a:off x="1829880" y="351360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69"/>
                    </a:moveTo>
                    <a:lnTo>
                      <a:pt x="287" y="60"/>
                    </a:lnTo>
                    <a:lnTo>
                      <a:pt x="281" y="54"/>
                    </a:lnTo>
                    <a:lnTo>
                      <a:pt x="276" y="49"/>
                    </a:lnTo>
                    <a:lnTo>
                      <a:pt x="273" y="45"/>
                    </a:lnTo>
                    <a:lnTo>
                      <a:pt x="270" y="40"/>
                    </a:lnTo>
                    <a:lnTo>
                      <a:pt x="48" y="7"/>
                    </a:lnTo>
                    <a:lnTo>
                      <a:pt x="51" y="8"/>
                    </a:lnTo>
                    <a:lnTo>
                      <a:pt x="52" y="10"/>
                    </a:lnTo>
                    <a:lnTo>
                      <a:pt x="54" y="11"/>
                    </a:lnTo>
                    <a:lnTo>
                      <a:pt x="55" y="14"/>
                    </a:lnTo>
                    <a:lnTo>
                      <a:pt x="55" y="19"/>
                    </a:lnTo>
                    <a:lnTo>
                      <a:pt x="55" y="24"/>
                    </a:lnTo>
                    <a:lnTo>
                      <a:pt x="56" y="27"/>
                    </a:lnTo>
                    <a:lnTo>
                      <a:pt x="58" y="31"/>
                    </a:lnTo>
                    <a:lnTo>
                      <a:pt x="51" y="25"/>
                    </a:lnTo>
                    <a:lnTo>
                      <a:pt x="45" y="18"/>
                    </a:lnTo>
                    <a:lnTo>
                      <a:pt x="39" y="12"/>
                    </a:lnTo>
                    <a:lnTo>
                      <a:pt x="33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8"/>
                    </a:lnTo>
                    <a:lnTo>
                      <a:pt x="10" y="15"/>
                    </a:lnTo>
                    <a:lnTo>
                      <a:pt x="14" y="22"/>
                    </a:lnTo>
                    <a:lnTo>
                      <a:pt x="17" y="28"/>
                    </a:lnTo>
                    <a:lnTo>
                      <a:pt x="127" y="45"/>
                    </a:lnTo>
                    <a:lnTo>
                      <a:pt x="128" y="43"/>
                    </a:lnTo>
                    <a:lnTo>
                      <a:pt x="129" y="42"/>
                    </a:lnTo>
                    <a:lnTo>
                      <a:pt x="130" y="41"/>
                    </a:lnTo>
                    <a:lnTo>
                      <a:pt x="131" y="40"/>
                    </a:lnTo>
                    <a:lnTo>
                      <a:pt x="134" y="41"/>
                    </a:lnTo>
                    <a:lnTo>
                      <a:pt x="135" y="43"/>
                    </a:lnTo>
                    <a:lnTo>
                      <a:pt x="137" y="45"/>
                    </a:lnTo>
                    <a:lnTo>
                      <a:pt x="138" y="47"/>
                    </a:lnTo>
                    <a:lnTo>
                      <a:pt x="187" y="55"/>
                    </a:lnTo>
                    <a:lnTo>
                      <a:pt x="182" y="49"/>
                    </a:lnTo>
                    <a:lnTo>
                      <a:pt x="177" y="45"/>
                    </a:lnTo>
                    <a:lnTo>
                      <a:pt x="174" y="40"/>
                    </a:lnTo>
                    <a:lnTo>
                      <a:pt x="172" y="38"/>
                    </a:lnTo>
                    <a:lnTo>
                      <a:pt x="176" y="41"/>
                    </a:lnTo>
                    <a:lnTo>
                      <a:pt x="181" y="45"/>
                    </a:lnTo>
                    <a:lnTo>
                      <a:pt x="185" y="49"/>
                    </a:lnTo>
                    <a:lnTo>
                      <a:pt x="191" y="55"/>
                    </a:lnTo>
                    <a:lnTo>
                      <a:pt x="238" y="62"/>
                    </a:lnTo>
                    <a:lnTo>
                      <a:pt x="237" y="58"/>
                    </a:lnTo>
                    <a:lnTo>
                      <a:pt x="235" y="53"/>
                    </a:lnTo>
                    <a:lnTo>
                      <a:pt x="234" y="48"/>
                    </a:lnTo>
                    <a:lnTo>
                      <a:pt x="234" y="45"/>
                    </a:lnTo>
                    <a:lnTo>
                      <a:pt x="241" y="50"/>
                    </a:lnTo>
                    <a:lnTo>
                      <a:pt x="248" y="55"/>
                    </a:lnTo>
                    <a:lnTo>
                      <a:pt x="255" y="61"/>
                    </a:lnTo>
                    <a:lnTo>
                      <a:pt x="263" y="67"/>
                    </a:lnTo>
                    <a:lnTo>
                      <a:pt x="287" y="69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H="1">
                <a:off x="2056680" y="3534120"/>
                <a:ext cx="1800" cy="1440"/>
              </a:xfrm>
              <a:prstGeom prst="rect">
                <a:avLst/>
              </a:pr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H="1">
                <a:off x="2098080" y="351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16"/>
                    </a:moveTo>
                    <a:lnTo>
                      <a:pt x="4" y="12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7" y="8"/>
                    </a:lnTo>
                    <a:lnTo>
                      <a:pt x="11" y="14"/>
                    </a:lnTo>
                    <a:lnTo>
                      <a:pt x="14" y="19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H="1">
                <a:off x="2056680" y="3513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H="1">
                <a:off x="2058480" y="35103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1"/>
                    </a:moveTo>
                    <a:lnTo>
                      <a:pt x="36" y="31"/>
                    </a:lnTo>
                    <a:lnTo>
                      <a:pt x="30" y="23"/>
                    </a:lnTo>
                    <a:lnTo>
                      <a:pt x="24" y="16"/>
                    </a:lnTo>
                    <a:lnTo>
                      <a:pt x="19" y="9"/>
                    </a:lnTo>
                    <a:lnTo>
                      <a:pt x="13" y="2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8" y="14"/>
                    </a:lnTo>
                    <a:lnTo>
                      <a:pt x="12" y="21"/>
                    </a:lnTo>
                    <a:lnTo>
                      <a:pt x="15" y="29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H="1">
                <a:off x="1798200" y="3556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H="1">
                <a:off x="1728360" y="3542040"/>
                <a:ext cx="74880" cy="25560"/>
              </a:xfrm>
              <a:custGeom>
                <a:avLst/>
                <a:gdLst/>
                <a:ahLst/>
                <a:rect l="l" t="t" r="r" b="b"/>
                <a:pathLst>
                  <a:path w="95" h="34">
                    <a:moveTo>
                      <a:pt x="0" y="0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14" y="10"/>
                    </a:lnTo>
                    <a:lnTo>
                      <a:pt x="22" y="13"/>
                    </a:lnTo>
                    <a:lnTo>
                      <a:pt x="29" y="18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3" y="29"/>
                    </a:lnTo>
                    <a:lnTo>
                      <a:pt x="61" y="34"/>
                    </a:lnTo>
                    <a:lnTo>
                      <a:pt x="71" y="29"/>
                    </a:lnTo>
                    <a:lnTo>
                      <a:pt x="80" y="25"/>
                    </a:lnTo>
                    <a:lnTo>
                      <a:pt x="88" y="20"/>
                    </a:lnTo>
                    <a:lnTo>
                      <a:pt x="9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H="1">
                <a:off x="1802880" y="35420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3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H="1">
                <a:off x="1802880" y="3510360"/>
                <a:ext cx="222120" cy="52200"/>
              </a:xfrm>
              <a:custGeom>
                <a:avLst/>
                <a:gdLst/>
                <a:ahLst/>
                <a:rect l="l" t="t" r="r" b="b"/>
                <a:pathLst>
                  <a:path w="279" h="67">
                    <a:moveTo>
                      <a:pt x="279" y="67"/>
                    </a:moveTo>
                    <a:lnTo>
                      <a:pt x="279" y="60"/>
                    </a:lnTo>
                    <a:lnTo>
                      <a:pt x="273" y="54"/>
                    </a:lnTo>
                    <a:lnTo>
                      <a:pt x="268" y="48"/>
                    </a:lnTo>
                    <a:lnTo>
                      <a:pt x="263" y="44"/>
                    </a:lnTo>
                    <a:lnTo>
                      <a:pt x="260" y="38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4" y="19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33" y="45"/>
                    </a:lnTo>
                    <a:lnTo>
                      <a:pt x="132" y="44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2" y="43"/>
                    </a:lnTo>
                    <a:lnTo>
                      <a:pt x="133" y="44"/>
                    </a:lnTo>
                    <a:lnTo>
                      <a:pt x="133" y="45"/>
                    </a:lnTo>
                    <a:lnTo>
                      <a:pt x="193" y="54"/>
                    </a:lnTo>
                    <a:lnTo>
                      <a:pt x="193" y="53"/>
                    </a:lnTo>
                    <a:lnTo>
                      <a:pt x="193" y="51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5" y="50"/>
                    </a:lnTo>
                    <a:lnTo>
                      <a:pt x="196" y="51"/>
                    </a:lnTo>
                    <a:lnTo>
                      <a:pt x="199" y="53"/>
                    </a:lnTo>
                    <a:lnTo>
                      <a:pt x="200" y="54"/>
                    </a:lnTo>
                    <a:lnTo>
                      <a:pt x="242" y="62"/>
                    </a:lnTo>
                    <a:lnTo>
                      <a:pt x="235" y="55"/>
                    </a:lnTo>
                    <a:lnTo>
                      <a:pt x="230" y="48"/>
                    </a:lnTo>
                    <a:lnTo>
                      <a:pt x="225" y="44"/>
                    </a:lnTo>
                    <a:lnTo>
                      <a:pt x="219" y="38"/>
                    </a:lnTo>
                    <a:lnTo>
                      <a:pt x="226" y="43"/>
                    </a:lnTo>
                    <a:lnTo>
                      <a:pt x="234" y="48"/>
                    </a:lnTo>
                    <a:lnTo>
                      <a:pt x="244" y="54"/>
                    </a:lnTo>
                    <a:lnTo>
                      <a:pt x="253" y="62"/>
                    </a:lnTo>
                    <a:lnTo>
                      <a:pt x="279" y="6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H="1">
                <a:off x="2021760" y="3524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0" y="5"/>
                    </a:lnTo>
                    <a:lnTo>
                      <a:pt x="5" y="8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>
                <a:off x="2106000" y="351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>
                <a:off x="2025360" y="350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H="1">
                <a:off x="2025360" y="35024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50" h="33">
                    <a:moveTo>
                      <a:pt x="50" y="33"/>
                    </a:moveTo>
                    <a:lnTo>
                      <a:pt x="50" y="28"/>
                    </a:lnTo>
                    <a:lnTo>
                      <a:pt x="45" y="22"/>
                    </a:lnTo>
                    <a:lnTo>
                      <a:pt x="40" y="17"/>
                    </a:lnTo>
                    <a:lnTo>
                      <a:pt x="37" y="11"/>
                    </a:lnTo>
                    <a:lnTo>
                      <a:pt x="33" y="7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9" y="14"/>
                    </a:lnTo>
                    <a:lnTo>
                      <a:pt x="14" y="21"/>
                    </a:lnTo>
                    <a:lnTo>
                      <a:pt x="19" y="28"/>
                    </a:lnTo>
                    <a:lnTo>
                      <a:pt x="50" y="33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H="1">
                <a:off x="2066400" y="34977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2"/>
                    </a:lnTo>
                    <a:lnTo>
                      <a:pt x="17" y="29"/>
                    </a:lnTo>
                    <a:lnTo>
                      <a:pt x="33" y="31"/>
                    </a:lnTo>
                    <a:lnTo>
                      <a:pt x="28" y="24"/>
                    </a:lnTo>
                    <a:lnTo>
                      <a:pt x="22" y="17"/>
                    </a:lnTo>
                    <a:lnTo>
                      <a:pt x="15" y="10"/>
                    </a:lnTo>
                    <a:lnTo>
                      <a:pt x="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H="1">
                <a:off x="2031840" y="351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7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H="1">
                <a:off x="1715760" y="3495960"/>
                <a:ext cx="318960" cy="66600"/>
              </a:xfrm>
              <a:custGeom>
                <a:avLst/>
                <a:gdLst/>
                <a:ahLst/>
                <a:rect l="l" t="t" r="r" b="b"/>
                <a:pathLst>
                  <a:path w="403" h="84">
                    <a:moveTo>
                      <a:pt x="0" y="0"/>
                    </a:moveTo>
                    <a:lnTo>
                      <a:pt x="0" y="8"/>
                    </a:lnTo>
                    <a:lnTo>
                      <a:pt x="4" y="15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19" y="29"/>
                    </a:lnTo>
                    <a:lnTo>
                      <a:pt x="241" y="62"/>
                    </a:lnTo>
                    <a:lnTo>
                      <a:pt x="238" y="60"/>
                    </a:lnTo>
                    <a:lnTo>
                      <a:pt x="236" y="59"/>
                    </a:lnTo>
                    <a:lnTo>
                      <a:pt x="234" y="56"/>
                    </a:lnTo>
                    <a:lnTo>
                      <a:pt x="231" y="55"/>
                    </a:lnTo>
                    <a:lnTo>
                      <a:pt x="235" y="57"/>
                    </a:lnTo>
                    <a:lnTo>
                      <a:pt x="237" y="59"/>
                    </a:lnTo>
                    <a:lnTo>
                      <a:pt x="241" y="61"/>
                    </a:lnTo>
                    <a:lnTo>
                      <a:pt x="245" y="64"/>
                    </a:lnTo>
                    <a:lnTo>
                      <a:pt x="283" y="69"/>
                    </a:lnTo>
                    <a:lnTo>
                      <a:pt x="279" y="63"/>
                    </a:lnTo>
                    <a:lnTo>
                      <a:pt x="273" y="57"/>
                    </a:lnTo>
                    <a:lnTo>
                      <a:pt x="268" y="50"/>
                    </a:lnTo>
                    <a:lnTo>
                      <a:pt x="262" y="44"/>
                    </a:lnTo>
                    <a:lnTo>
                      <a:pt x="270" y="48"/>
                    </a:lnTo>
                    <a:lnTo>
                      <a:pt x="277" y="53"/>
                    </a:lnTo>
                    <a:lnTo>
                      <a:pt x="285" y="57"/>
                    </a:lnTo>
                    <a:lnTo>
                      <a:pt x="294" y="62"/>
                    </a:lnTo>
                    <a:lnTo>
                      <a:pt x="300" y="65"/>
                    </a:lnTo>
                    <a:lnTo>
                      <a:pt x="309" y="69"/>
                    </a:lnTo>
                    <a:lnTo>
                      <a:pt x="315" y="74"/>
                    </a:lnTo>
                    <a:lnTo>
                      <a:pt x="323" y="77"/>
                    </a:lnTo>
                    <a:lnTo>
                      <a:pt x="367" y="84"/>
                    </a:lnTo>
                    <a:lnTo>
                      <a:pt x="372" y="82"/>
                    </a:lnTo>
                    <a:lnTo>
                      <a:pt x="376" y="78"/>
                    </a:lnTo>
                    <a:lnTo>
                      <a:pt x="381" y="76"/>
                    </a:lnTo>
                    <a:lnTo>
                      <a:pt x="386" y="72"/>
                    </a:lnTo>
                    <a:lnTo>
                      <a:pt x="390" y="70"/>
                    </a:lnTo>
                    <a:lnTo>
                      <a:pt x="394" y="68"/>
                    </a:lnTo>
                    <a:lnTo>
                      <a:pt x="398" y="64"/>
                    </a:lnTo>
                    <a:lnTo>
                      <a:pt x="403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H="1">
                <a:off x="2076120" y="348660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4" y="7"/>
                    </a:lnTo>
                    <a:lnTo>
                      <a:pt x="7" y="14"/>
                    </a:lnTo>
                    <a:lnTo>
                      <a:pt x="12" y="22"/>
                    </a:lnTo>
                    <a:lnTo>
                      <a:pt x="16" y="29"/>
                    </a:lnTo>
                    <a:lnTo>
                      <a:pt x="29" y="31"/>
                    </a:lnTo>
                    <a:lnTo>
                      <a:pt x="23" y="24"/>
                    </a:lnTo>
                    <a:lnTo>
                      <a:pt x="17" y="16"/>
                    </a:lnTo>
                    <a:lnTo>
                      <a:pt x="10" y="9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H="1">
                <a:off x="2034720" y="349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H="1">
                <a:off x="2034720" y="34898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48" y="33"/>
                    </a:moveTo>
                    <a:lnTo>
                      <a:pt x="48" y="26"/>
                    </a:lnTo>
                    <a:lnTo>
                      <a:pt x="44" y="23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7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10" y="14"/>
                    </a:lnTo>
                    <a:lnTo>
                      <a:pt x="14" y="22"/>
                    </a:lnTo>
                    <a:lnTo>
                      <a:pt x="19" y="29"/>
                    </a:lnTo>
                    <a:lnTo>
                      <a:pt x="48" y="33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H="1">
                <a:off x="2037960" y="3500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6"/>
                    </a:lnTo>
                    <a:lnTo>
                      <a:pt x="5" y="9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H="1">
                <a:off x="1706040" y="3486600"/>
                <a:ext cx="336600" cy="66600"/>
              </a:xfrm>
              <a:custGeom>
                <a:avLst/>
                <a:gdLst/>
                <a:ahLst/>
                <a:rect l="l" t="t" r="r" b="b"/>
                <a:pathLst>
                  <a:path w="425" h="83">
                    <a:moveTo>
                      <a:pt x="0" y="0"/>
                    </a:moveTo>
                    <a:lnTo>
                      <a:pt x="0" y="5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11" y="22"/>
                    </a:lnTo>
                    <a:lnTo>
                      <a:pt x="14" y="27"/>
                    </a:lnTo>
                    <a:lnTo>
                      <a:pt x="282" y="67"/>
                    </a:lnTo>
                    <a:lnTo>
                      <a:pt x="278" y="65"/>
                    </a:lnTo>
                    <a:lnTo>
                      <a:pt x="276" y="62"/>
                    </a:lnTo>
                    <a:lnTo>
                      <a:pt x="275" y="59"/>
                    </a:lnTo>
                    <a:lnTo>
                      <a:pt x="272" y="56"/>
                    </a:lnTo>
                    <a:lnTo>
                      <a:pt x="278" y="60"/>
                    </a:lnTo>
                    <a:lnTo>
                      <a:pt x="283" y="64"/>
                    </a:lnTo>
                    <a:lnTo>
                      <a:pt x="289" y="66"/>
                    </a:lnTo>
                    <a:lnTo>
                      <a:pt x="293" y="69"/>
                    </a:lnTo>
                    <a:lnTo>
                      <a:pt x="396" y="83"/>
                    </a:lnTo>
                    <a:lnTo>
                      <a:pt x="403" y="80"/>
                    </a:lnTo>
                    <a:lnTo>
                      <a:pt x="411" y="75"/>
                    </a:lnTo>
                    <a:lnTo>
                      <a:pt x="418" y="71"/>
                    </a:lnTo>
                    <a:lnTo>
                      <a:pt x="425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H="1">
                <a:off x="2085480" y="3476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6"/>
                    </a:lnTo>
                    <a:lnTo>
                      <a:pt x="6" y="11"/>
                    </a:lnTo>
                    <a:lnTo>
                      <a:pt x="11" y="18"/>
                    </a:lnTo>
                    <a:lnTo>
                      <a:pt x="14" y="25"/>
                    </a:lnTo>
                    <a:lnTo>
                      <a:pt x="23" y="29"/>
                    </a:lnTo>
                    <a:lnTo>
                      <a:pt x="17" y="20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H="1">
                <a:off x="2042640" y="3484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H="1">
                <a:off x="2043000" y="348012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9" y="33"/>
                    </a:moveTo>
                    <a:lnTo>
                      <a:pt x="49" y="27"/>
                    </a:lnTo>
                    <a:lnTo>
                      <a:pt x="46" y="21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8" y="7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0" y="14"/>
                    </a:lnTo>
                    <a:lnTo>
                      <a:pt x="16" y="21"/>
                    </a:lnTo>
                    <a:lnTo>
                      <a:pt x="21" y="29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H="1">
                <a:off x="2045520" y="3486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0" y="9"/>
                    </a:lnTo>
                    <a:lnTo>
                      <a:pt x="5" y="12"/>
                    </a:lnTo>
                    <a:lnTo>
                      <a:pt x="4" y="8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H="1">
                <a:off x="1698480" y="347544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443" h="88">
                    <a:moveTo>
                      <a:pt x="0" y="0"/>
                    </a:moveTo>
                    <a:lnTo>
                      <a:pt x="0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2"/>
                    </a:lnTo>
                    <a:lnTo>
                      <a:pt x="12" y="26"/>
                    </a:lnTo>
                    <a:lnTo>
                      <a:pt x="422" y="88"/>
                    </a:lnTo>
                    <a:lnTo>
                      <a:pt x="428" y="85"/>
                    </a:lnTo>
                    <a:lnTo>
                      <a:pt x="432" y="79"/>
                    </a:lnTo>
                    <a:lnTo>
                      <a:pt x="438" y="74"/>
                    </a:lnTo>
                    <a:lnTo>
                      <a:pt x="443" y="67"/>
                    </a:lnTo>
                    <a:lnTo>
                      <a:pt x="443" y="67"/>
                    </a:lnTo>
                    <a:lnTo>
                      <a:pt x="162" y="23"/>
                    </a:lnTo>
                    <a:lnTo>
                      <a:pt x="162" y="25"/>
                    </a:lnTo>
                    <a:lnTo>
                      <a:pt x="163" y="26"/>
                    </a:lnTo>
                    <a:lnTo>
                      <a:pt x="164" y="27"/>
                    </a:lnTo>
                    <a:lnTo>
                      <a:pt x="164" y="28"/>
                    </a:lnTo>
                    <a:lnTo>
                      <a:pt x="163" y="27"/>
                    </a:lnTo>
                    <a:lnTo>
                      <a:pt x="160" y="25"/>
                    </a:lnTo>
                    <a:lnTo>
                      <a:pt x="159" y="23"/>
                    </a:lnTo>
                    <a:lnTo>
                      <a:pt x="15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H="1">
                <a:off x="2094840" y="3476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1"/>
                    </a:move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H="1">
                <a:off x="2049120" y="34736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9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2049120" y="346752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55" y="33"/>
                    </a:moveTo>
                    <a:lnTo>
                      <a:pt x="55" y="24"/>
                    </a:lnTo>
                    <a:lnTo>
                      <a:pt x="54" y="22"/>
                    </a:lnTo>
                    <a:lnTo>
                      <a:pt x="53" y="21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47" y="16"/>
                    </a:lnTo>
                    <a:lnTo>
                      <a:pt x="40" y="14"/>
                    </a:lnTo>
                    <a:lnTo>
                      <a:pt x="33" y="10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7" y="9"/>
                    </a:lnTo>
                    <a:lnTo>
                      <a:pt x="14" y="16"/>
                    </a:lnTo>
                    <a:lnTo>
                      <a:pt x="20" y="23"/>
                    </a:lnTo>
                    <a:lnTo>
                      <a:pt x="26" y="29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 flipH="1">
                <a:off x="2052360" y="348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3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 flipH="1">
                <a:off x="1698120" y="3464280"/>
                <a:ext cx="360360" cy="73080"/>
              </a:xfrm>
              <a:custGeom>
                <a:avLst/>
                <a:gdLst/>
                <a:ahLst/>
                <a:rect l="l" t="t" r="r" b="b"/>
                <a:pathLst>
                  <a:path w="453" h="94">
                    <a:moveTo>
                      <a:pt x="0" y="0"/>
                    </a:moveTo>
                    <a:lnTo>
                      <a:pt x="0" y="10"/>
                    </a:lnTo>
                    <a:lnTo>
                      <a:pt x="3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3" y="27"/>
                    </a:lnTo>
                    <a:lnTo>
                      <a:pt x="444" y="94"/>
                    </a:lnTo>
                    <a:lnTo>
                      <a:pt x="447" y="90"/>
                    </a:lnTo>
                    <a:lnTo>
                      <a:pt x="449" y="88"/>
                    </a:lnTo>
                    <a:lnTo>
                      <a:pt x="450" y="86"/>
                    </a:lnTo>
                    <a:lnTo>
                      <a:pt x="453" y="82"/>
                    </a:lnTo>
                    <a:lnTo>
                      <a:pt x="449" y="78"/>
                    </a:lnTo>
                    <a:lnTo>
                      <a:pt x="445" y="74"/>
                    </a:lnTo>
                    <a:lnTo>
                      <a:pt x="440" y="70"/>
                    </a:lnTo>
                    <a:lnTo>
                      <a:pt x="437" y="65"/>
                    </a:lnTo>
                    <a:lnTo>
                      <a:pt x="160" y="25"/>
                    </a:lnTo>
                    <a:lnTo>
                      <a:pt x="164" y="28"/>
                    </a:lnTo>
                    <a:lnTo>
                      <a:pt x="167" y="33"/>
                    </a:lnTo>
                    <a:lnTo>
                      <a:pt x="170" y="38"/>
                    </a:lnTo>
                    <a:lnTo>
                      <a:pt x="174" y="43"/>
                    </a:lnTo>
                    <a:lnTo>
                      <a:pt x="167" y="37"/>
                    </a:lnTo>
                    <a:lnTo>
                      <a:pt x="160" y="33"/>
                    </a:lnTo>
                    <a:lnTo>
                      <a:pt x="153" y="27"/>
                    </a:lnTo>
                    <a:lnTo>
                      <a:pt x="146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 flipH="1">
                <a:off x="2102760" y="3476880"/>
                <a:ext cx="1800" cy="1800"/>
              </a:xfrm>
              <a:prstGeom prst="rect">
                <a:avLst/>
              </a:pr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 flipH="1">
                <a:off x="2058480" y="3462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12"/>
                    </a:moveTo>
                    <a:lnTo>
                      <a:pt x="7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 flipH="1">
                <a:off x="2058480" y="345636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4"/>
                    </a:moveTo>
                    <a:lnTo>
                      <a:pt x="54" y="31"/>
                    </a:lnTo>
                    <a:lnTo>
                      <a:pt x="49" y="29"/>
                    </a:lnTo>
                    <a:lnTo>
                      <a:pt x="45" y="27"/>
                    </a:lnTo>
                    <a:lnTo>
                      <a:pt x="40" y="22"/>
                    </a:lnTo>
                    <a:lnTo>
                      <a:pt x="35" y="19"/>
                    </a:lnTo>
                    <a:lnTo>
                      <a:pt x="31" y="14"/>
                    </a:lnTo>
                    <a:lnTo>
                      <a:pt x="25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7" y="12"/>
                    </a:lnTo>
                    <a:lnTo>
                      <a:pt x="12" y="18"/>
                    </a:lnTo>
                    <a:lnTo>
                      <a:pt x="18" y="23"/>
                    </a:lnTo>
                    <a:lnTo>
                      <a:pt x="24" y="29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flipH="1">
                <a:off x="1925280" y="3486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 flipH="1">
                <a:off x="1698480" y="3470760"/>
                <a:ext cx="234720" cy="58680"/>
              </a:xfrm>
              <a:custGeom>
                <a:avLst/>
                <a:gdLst/>
                <a:ahLst/>
                <a:rect l="l" t="t" r="r" b="b"/>
                <a:pathLst>
                  <a:path w="295" h="72">
                    <a:moveTo>
                      <a:pt x="0" y="0"/>
                    </a:moveTo>
                    <a:lnTo>
                      <a:pt x="0" y="10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295" y="72"/>
                    </a:lnTo>
                    <a:lnTo>
                      <a:pt x="290" y="68"/>
                    </a:lnTo>
                    <a:lnTo>
                      <a:pt x="286" y="63"/>
                    </a:lnTo>
                    <a:lnTo>
                      <a:pt x="282" y="60"/>
                    </a:lnTo>
                    <a:lnTo>
                      <a:pt x="277" y="55"/>
                    </a:lnTo>
                    <a:lnTo>
                      <a:pt x="273" y="52"/>
                    </a:lnTo>
                    <a:lnTo>
                      <a:pt x="267" y="48"/>
                    </a:lnTo>
                    <a:lnTo>
                      <a:pt x="262" y="45"/>
                    </a:lnTo>
                    <a:lnTo>
                      <a:pt x="25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 flipH="1">
                <a:off x="1933200" y="3470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 flipH="1">
                <a:off x="1933200" y="3451680"/>
                <a:ext cx="139680" cy="41040"/>
              </a:xfrm>
              <a:custGeom>
                <a:avLst/>
                <a:gdLst/>
                <a:ahLst/>
                <a:rect l="l" t="t" r="r" b="b"/>
                <a:pathLst>
                  <a:path w="177" h="52">
                    <a:moveTo>
                      <a:pt x="177" y="52"/>
                    </a:moveTo>
                    <a:lnTo>
                      <a:pt x="177" y="45"/>
                    </a:lnTo>
                    <a:lnTo>
                      <a:pt x="169" y="40"/>
                    </a:lnTo>
                    <a:lnTo>
                      <a:pt x="161" y="35"/>
                    </a:lnTo>
                    <a:lnTo>
                      <a:pt x="151" y="28"/>
                    </a:lnTo>
                    <a:lnTo>
                      <a:pt x="143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1" y="14"/>
                    </a:lnTo>
                    <a:lnTo>
                      <a:pt x="17" y="21"/>
                    </a:lnTo>
                    <a:lnTo>
                      <a:pt x="21" y="29"/>
                    </a:lnTo>
                    <a:lnTo>
                      <a:pt x="177" y="5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 flipH="1">
                <a:off x="2071440" y="3470760"/>
                <a:ext cx="1440" cy="1440"/>
              </a:xfrm>
              <a:prstGeom prst="rect">
                <a:avLst/>
              </a:pr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 flipH="1">
                <a:off x="2071440" y="3451680"/>
                <a:ext cx="1440" cy="1440"/>
              </a:xfrm>
              <a:prstGeom prst="rect">
                <a:avLst/>
              </a:pr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 flipH="1">
                <a:off x="2072880" y="3453120"/>
                <a:ext cx="28800" cy="1764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23"/>
                    </a:moveTo>
                    <a:lnTo>
                      <a:pt x="35" y="23"/>
                    </a:lnTo>
                    <a:lnTo>
                      <a:pt x="27" y="16"/>
                    </a:lnTo>
                    <a:lnTo>
                      <a:pt x="19" y="9"/>
                    </a:lnTo>
                    <a:lnTo>
                      <a:pt x="12" y="4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 flipH="1">
                <a:off x="1940760" y="347544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0" y="5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 flipH="1">
                <a:off x="1711080" y="3459600"/>
                <a:ext cx="239760" cy="55440"/>
              </a:xfrm>
              <a:custGeom>
                <a:avLst/>
                <a:gdLst/>
                <a:ahLst/>
                <a:rect l="l" t="t" r="r" b="b"/>
                <a:pathLst>
                  <a:path w="301" h="69">
                    <a:moveTo>
                      <a:pt x="0" y="0"/>
                    </a:moveTo>
                    <a:lnTo>
                      <a:pt x="0" y="4"/>
                    </a:lnTo>
                    <a:lnTo>
                      <a:pt x="6" y="10"/>
                    </a:lnTo>
                    <a:lnTo>
                      <a:pt x="13" y="16"/>
                    </a:lnTo>
                    <a:lnTo>
                      <a:pt x="18" y="22"/>
                    </a:lnTo>
                    <a:lnTo>
                      <a:pt x="24" y="29"/>
                    </a:lnTo>
                    <a:lnTo>
                      <a:pt x="301" y="69"/>
                    </a:lnTo>
                    <a:lnTo>
                      <a:pt x="295" y="66"/>
                    </a:lnTo>
                    <a:lnTo>
                      <a:pt x="289" y="62"/>
                    </a:lnTo>
                    <a:lnTo>
                      <a:pt x="284" y="57"/>
                    </a:lnTo>
                    <a:lnTo>
                      <a:pt x="279" y="53"/>
                    </a:lnTo>
                    <a:lnTo>
                      <a:pt x="273" y="49"/>
                    </a:lnTo>
                    <a:lnTo>
                      <a:pt x="267" y="45"/>
                    </a:lnTo>
                    <a:lnTo>
                      <a:pt x="261" y="41"/>
                    </a:lnTo>
                    <a:lnTo>
                      <a:pt x="256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 flipH="1">
                <a:off x="2088360" y="34531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 flipH="1">
                <a:off x="1950840" y="3457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 flipH="1">
                <a:off x="1950840" y="3438720"/>
                <a:ext cx="131760" cy="41400"/>
              </a:xfrm>
              <a:custGeom>
                <a:avLst/>
                <a:gdLst/>
                <a:ahLst/>
                <a:rect l="l" t="t" r="r" b="b"/>
                <a:pathLst>
                  <a:path w="166" h="51">
                    <a:moveTo>
                      <a:pt x="166" y="51"/>
                    </a:moveTo>
                    <a:lnTo>
                      <a:pt x="166" y="46"/>
                    </a:lnTo>
                    <a:lnTo>
                      <a:pt x="158" y="40"/>
                    </a:lnTo>
                    <a:lnTo>
                      <a:pt x="150" y="33"/>
                    </a:lnTo>
                    <a:lnTo>
                      <a:pt x="143" y="28"/>
                    </a:lnTo>
                    <a:lnTo>
                      <a:pt x="135" y="2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0" y="14"/>
                    </a:lnTo>
                    <a:lnTo>
                      <a:pt x="16" y="22"/>
                    </a:lnTo>
                    <a:lnTo>
                      <a:pt x="23" y="29"/>
                    </a:lnTo>
                    <a:lnTo>
                      <a:pt x="166" y="51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 flipH="1">
                <a:off x="1958760" y="34578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0"/>
                    </a:moveTo>
                    <a:lnTo>
                      <a:pt x="0" y="9"/>
                    </a:lnTo>
                    <a:lnTo>
                      <a:pt x="17" y="11"/>
                    </a:lnTo>
                    <a:lnTo>
                      <a:pt x="14" y="8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 flipH="1">
                <a:off x="1728360" y="3445200"/>
                <a:ext cx="244800" cy="58680"/>
              </a:xfrm>
              <a:custGeom>
                <a:avLst/>
                <a:gdLst/>
                <a:ahLst/>
                <a:rect l="l" t="t" r="r" b="b"/>
                <a:pathLst>
                  <a:path w="308" h="74">
                    <a:moveTo>
                      <a:pt x="0" y="0"/>
                    </a:moveTo>
                    <a:lnTo>
                      <a:pt x="0" y="7"/>
                    </a:lnTo>
                    <a:lnTo>
                      <a:pt x="6" y="10"/>
                    </a:lnTo>
                    <a:lnTo>
                      <a:pt x="10" y="13"/>
                    </a:lnTo>
                    <a:lnTo>
                      <a:pt x="16" y="15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30" y="25"/>
                    </a:lnTo>
                    <a:lnTo>
                      <a:pt x="35" y="28"/>
                    </a:lnTo>
                    <a:lnTo>
                      <a:pt x="39" y="33"/>
                    </a:lnTo>
                    <a:lnTo>
                      <a:pt x="308" y="74"/>
                    </a:lnTo>
                    <a:lnTo>
                      <a:pt x="302" y="70"/>
                    </a:lnTo>
                    <a:lnTo>
                      <a:pt x="296" y="65"/>
                    </a:lnTo>
                    <a:lnTo>
                      <a:pt x="290" y="60"/>
                    </a:lnTo>
                    <a:lnTo>
                      <a:pt x="284" y="56"/>
                    </a:lnTo>
                    <a:lnTo>
                      <a:pt x="278" y="52"/>
                    </a:lnTo>
                    <a:lnTo>
                      <a:pt x="271" y="48"/>
                    </a:lnTo>
                    <a:lnTo>
                      <a:pt x="264" y="44"/>
                    </a:lnTo>
                    <a:lnTo>
                      <a:pt x="258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 flipH="1">
                <a:off x="1972800" y="344196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10"/>
                    </a:moveTo>
                    <a:lnTo>
                      <a:pt x="16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" y="6"/>
                    </a:lnTo>
                    <a:lnTo>
                      <a:pt x="13" y="8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 flipH="1">
                <a:off x="1972800" y="3429360"/>
                <a:ext cx="112680" cy="36360"/>
              </a:xfrm>
              <a:custGeom>
                <a:avLst/>
                <a:gdLst/>
                <a:ahLst/>
                <a:rect l="l" t="t" r="r" b="b"/>
                <a:pathLst>
                  <a:path w="143" h="45">
                    <a:moveTo>
                      <a:pt x="143" y="45"/>
                    </a:moveTo>
                    <a:lnTo>
                      <a:pt x="143" y="36"/>
                    </a:lnTo>
                    <a:lnTo>
                      <a:pt x="138" y="32"/>
                    </a:lnTo>
                    <a:lnTo>
                      <a:pt x="134" y="29"/>
                    </a:lnTo>
                    <a:lnTo>
                      <a:pt x="129" y="25"/>
                    </a:lnTo>
                    <a:lnTo>
                      <a:pt x="125" y="22"/>
                    </a:lnTo>
                    <a:lnTo>
                      <a:pt x="121" y="22"/>
                    </a:lnTo>
                    <a:lnTo>
                      <a:pt x="118" y="22"/>
                    </a:lnTo>
                    <a:lnTo>
                      <a:pt x="113" y="22"/>
                    </a:lnTo>
                    <a:lnTo>
                      <a:pt x="107" y="21"/>
                    </a:lnTo>
                    <a:lnTo>
                      <a:pt x="102" y="18"/>
                    </a:lnTo>
                    <a:lnTo>
                      <a:pt x="96" y="16"/>
                    </a:lnTo>
                    <a:lnTo>
                      <a:pt x="89" y="12"/>
                    </a:lnTo>
                    <a:lnTo>
                      <a:pt x="82" y="9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9" y="16"/>
                    </a:lnTo>
                    <a:lnTo>
                      <a:pt x="14" y="21"/>
                    </a:lnTo>
                    <a:lnTo>
                      <a:pt x="17" y="26"/>
                    </a:lnTo>
                    <a:lnTo>
                      <a:pt x="143" y="4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 flipH="1">
                <a:off x="1974240" y="34452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0"/>
                    </a:moveTo>
                    <a:lnTo>
                      <a:pt x="0" y="10"/>
                    </a:lnTo>
                    <a:lnTo>
                      <a:pt x="34" y="14"/>
                    </a:lnTo>
                    <a:lnTo>
                      <a:pt x="29" y="11"/>
                    </a:lnTo>
                    <a:lnTo>
                      <a:pt x="25" y="7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 flipH="1">
                <a:off x="1747440" y="3432600"/>
                <a:ext cx="254160" cy="57240"/>
              </a:xfrm>
              <a:custGeom>
                <a:avLst/>
                <a:gdLst/>
                <a:ahLst/>
                <a:rect l="l" t="t" r="r" b="b"/>
                <a:pathLst>
                  <a:path w="321" h="74">
                    <a:moveTo>
                      <a:pt x="0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14" y="13"/>
                    </a:lnTo>
                    <a:lnTo>
                      <a:pt x="21" y="15"/>
                    </a:lnTo>
                    <a:lnTo>
                      <a:pt x="28" y="19"/>
                    </a:lnTo>
                    <a:lnTo>
                      <a:pt x="34" y="22"/>
                    </a:lnTo>
                    <a:lnTo>
                      <a:pt x="41" y="25"/>
                    </a:lnTo>
                    <a:lnTo>
                      <a:pt x="46" y="29"/>
                    </a:lnTo>
                    <a:lnTo>
                      <a:pt x="53" y="34"/>
                    </a:lnTo>
                    <a:lnTo>
                      <a:pt x="321" y="74"/>
                    </a:lnTo>
                    <a:lnTo>
                      <a:pt x="314" y="69"/>
                    </a:lnTo>
                    <a:lnTo>
                      <a:pt x="307" y="65"/>
                    </a:lnTo>
                    <a:lnTo>
                      <a:pt x="300" y="60"/>
                    </a:lnTo>
                    <a:lnTo>
                      <a:pt x="292" y="55"/>
                    </a:lnTo>
                    <a:lnTo>
                      <a:pt x="284" y="52"/>
                    </a:lnTo>
                    <a:lnTo>
                      <a:pt x="277" y="47"/>
                    </a:lnTo>
                    <a:lnTo>
                      <a:pt x="269" y="43"/>
                    </a:lnTo>
                    <a:lnTo>
                      <a:pt x="261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 flipH="1">
                <a:off x="2001600" y="342792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30" y="4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5"/>
                    </a:lnTo>
                    <a:lnTo>
                      <a:pt x="23" y="8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 flipH="1">
                <a:off x="2001600" y="342144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107" h="41">
                    <a:moveTo>
                      <a:pt x="107" y="41"/>
                    </a:moveTo>
                    <a:lnTo>
                      <a:pt x="107" y="31"/>
                    </a:lnTo>
                    <a:lnTo>
                      <a:pt x="99" y="29"/>
                    </a:lnTo>
                    <a:lnTo>
                      <a:pt x="91" y="26"/>
                    </a:lnTo>
                    <a:lnTo>
                      <a:pt x="82" y="22"/>
                    </a:lnTo>
                    <a:lnTo>
                      <a:pt x="72" y="19"/>
                    </a:lnTo>
                    <a:lnTo>
                      <a:pt x="61" y="14"/>
                    </a:lnTo>
                    <a:lnTo>
                      <a:pt x="52" y="11"/>
                    </a:lnTo>
                    <a:lnTo>
                      <a:pt x="43" y="6"/>
                    </a:lnTo>
                    <a:lnTo>
                      <a:pt x="34" y="3"/>
                    </a:lnTo>
                    <a:lnTo>
                      <a:pt x="13" y="0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4" y="14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107" y="41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 flipH="1">
                <a:off x="2022120" y="34326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5"/>
                    </a:lnTo>
                    <a:lnTo>
                      <a:pt x="22" y="7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 flipH="1">
                <a:off x="1767960" y="3416760"/>
                <a:ext cx="269640" cy="60120"/>
              </a:xfrm>
              <a:custGeom>
                <a:avLst/>
                <a:gdLst/>
                <a:ahLst/>
                <a:rect l="l" t="t" r="r" b="b"/>
                <a:pathLst>
                  <a:path w="341" h="76">
                    <a:moveTo>
                      <a:pt x="0" y="0"/>
                    </a:moveTo>
                    <a:lnTo>
                      <a:pt x="0" y="7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5" y="16"/>
                    </a:lnTo>
                    <a:lnTo>
                      <a:pt x="34" y="19"/>
                    </a:lnTo>
                    <a:lnTo>
                      <a:pt x="42" y="23"/>
                    </a:lnTo>
                    <a:lnTo>
                      <a:pt x="51" y="25"/>
                    </a:lnTo>
                    <a:lnTo>
                      <a:pt x="59" y="28"/>
                    </a:lnTo>
                    <a:lnTo>
                      <a:pt x="67" y="32"/>
                    </a:lnTo>
                    <a:lnTo>
                      <a:pt x="341" y="76"/>
                    </a:lnTo>
                    <a:lnTo>
                      <a:pt x="332" y="70"/>
                    </a:lnTo>
                    <a:lnTo>
                      <a:pt x="323" y="65"/>
                    </a:lnTo>
                    <a:lnTo>
                      <a:pt x="314" y="61"/>
                    </a:lnTo>
                    <a:lnTo>
                      <a:pt x="305" y="56"/>
                    </a:lnTo>
                    <a:lnTo>
                      <a:pt x="296" y="52"/>
                    </a:lnTo>
                    <a:lnTo>
                      <a:pt x="287" y="47"/>
                    </a:lnTo>
                    <a:lnTo>
                      <a:pt x="279" y="43"/>
                    </a:lnTo>
                    <a:lnTo>
                      <a:pt x="27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 flipH="1">
                <a:off x="2037600" y="3411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13"/>
                    </a:moveTo>
                    <a:lnTo>
                      <a:pt x="22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2" y="1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 flipH="1">
                <a:off x="2037960" y="341676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54" y="18"/>
                    </a:lnTo>
                    <a:lnTo>
                      <a:pt x="47" y="16"/>
                    </a:lnTo>
                    <a:lnTo>
                      <a:pt x="40" y="12"/>
                    </a:lnTo>
                    <a:lnTo>
                      <a:pt x="35" y="10"/>
                    </a:lnTo>
                    <a:lnTo>
                      <a:pt x="29" y="7"/>
                    </a:lnTo>
                    <a:lnTo>
                      <a:pt x="23" y="4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 flipH="1">
                <a:off x="2060280" y="3422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 flipH="1">
                <a:off x="1795320" y="3402360"/>
                <a:ext cx="266400" cy="60480"/>
              </a:xfrm>
              <a:custGeom>
                <a:avLst/>
                <a:gdLst/>
                <a:ahLst/>
                <a:rect l="l" t="t" r="r" b="b"/>
                <a:pathLst>
                  <a:path w="337" h="76">
                    <a:moveTo>
                      <a:pt x="0" y="0"/>
                    </a:moveTo>
                    <a:lnTo>
                      <a:pt x="0" y="9"/>
                    </a:lnTo>
                    <a:lnTo>
                      <a:pt x="6" y="13"/>
                    </a:lnTo>
                    <a:lnTo>
                      <a:pt x="12" y="16"/>
                    </a:lnTo>
                    <a:lnTo>
                      <a:pt x="18" y="20"/>
                    </a:lnTo>
                    <a:lnTo>
                      <a:pt x="23" y="23"/>
                    </a:lnTo>
                    <a:lnTo>
                      <a:pt x="29" y="25"/>
                    </a:lnTo>
                    <a:lnTo>
                      <a:pt x="35" y="28"/>
                    </a:lnTo>
                    <a:lnTo>
                      <a:pt x="41" y="31"/>
                    </a:lnTo>
                    <a:lnTo>
                      <a:pt x="46" y="34"/>
                    </a:lnTo>
                    <a:lnTo>
                      <a:pt x="337" y="76"/>
                    </a:lnTo>
                    <a:lnTo>
                      <a:pt x="326" y="72"/>
                    </a:lnTo>
                    <a:lnTo>
                      <a:pt x="315" y="66"/>
                    </a:lnTo>
                    <a:lnTo>
                      <a:pt x="303" y="61"/>
                    </a:lnTo>
                    <a:lnTo>
                      <a:pt x="292" y="57"/>
                    </a:lnTo>
                    <a:lnTo>
                      <a:pt x="280" y="52"/>
                    </a:lnTo>
                    <a:lnTo>
                      <a:pt x="269" y="47"/>
                    </a:lnTo>
                    <a:lnTo>
                      <a:pt x="257" y="43"/>
                    </a:lnTo>
                    <a:lnTo>
                      <a:pt x="246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H="1">
                <a:off x="2061360" y="3402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 flipH="1">
                <a:off x="2061720" y="341676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8" y="7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 flipH="1">
                <a:off x="1825200" y="339588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301" h="67">
                    <a:moveTo>
                      <a:pt x="9" y="21"/>
                    </a:moveTo>
                    <a:lnTo>
                      <a:pt x="7" y="19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5" y="6"/>
                    </a:lnTo>
                    <a:lnTo>
                      <a:pt x="53" y="6"/>
                    </a:lnTo>
                    <a:lnTo>
                      <a:pt x="60" y="7"/>
                    </a:lnTo>
                    <a:lnTo>
                      <a:pt x="68" y="8"/>
                    </a:lnTo>
                    <a:lnTo>
                      <a:pt x="76" y="8"/>
                    </a:lnTo>
                    <a:lnTo>
                      <a:pt x="84" y="9"/>
                    </a:lnTo>
                    <a:lnTo>
                      <a:pt x="84" y="9"/>
                    </a:lnTo>
                    <a:lnTo>
                      <a:pt x="84" y="9"/>
                    </a:lnTo>
                    <a:lnTo>
                      <a:pt x="85" y="8"/>
                    </a:lnTo>
                    <a:lnTo>
                      <a:pt x="86" y="7"/>
                    </a:lnTo>
                    <a:lnTo>
                      <a:pt x="174" y="21"/>
                    </a:lnTo>
                    <a:lnTo>
                      <a:pt x="189" y="26"/>
                    </a:lnTo>
                    <a:lnTo>
                      <a:pt x="205" y="30"/>
                    </a:lnTo>
                    <a:lnTo>
                      <a:pt x="220" y="36"/>
                    </a:lnTo>
                    <a:lnTo>
                      <a:pt x="236" y="42"/>
                    </a:lnTo>
                    <a:lnTo>
                      <a:pt x="252" y="47"/>
                    </a:lnTo>
                    <a:lnTo>
                      <a:pt x="268" y="53"/>
                    </a:lnTo>
                    <a:lnTo>
                      <a:pt x="285" y="60"/>
                    </a:lnTo>
                    <a:lnTo>
                      <a:pt x="301" y="67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 flipH="1">
                <a:off x="1866240" y="3395880"/>
                <a:ext cx="196920" cy="36720"/>
              </a:xfrm>
              <a:custGeom>
                <a:avLst/>
                <a:gdLst/>
                <a:ahLst/>
                <a:rect l="l" t="t" r="r" b="b"/>
                <a:pathLst>
                  <a:path w="248" h="45">
                    <a:moveTo>
                      <a:pt x="0" y="7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5" y="6"/>
                    </a:lnTo>
                    <a:lnTo>
                      <a:pt x="53" y="6"/>
                    </a:lnTo>
                    <a:lnTo>
                      <a:pt x="60" y="7"/>
                    </a:lnTo>
                    <a:lnTo>
                      <a:pt x="68" y="8"/>
                    </a:lnTo>
                    <a:lnTo>
                      <a:pt x="76" y="8"/>
                    </a:lnTo>
                    <a:lnTo>
                      <a:pt x="84" y="9"/>
                    </a:lnTo>
                    <a:lnTo>
                      <a:pt x="86" y="7"/>
                    </a:lnTo>
                    <a:lnTo>
                      <a:pt x="88" y="6"/>
                    </a:lnTo>
                    <a:lnTo>
                      <a:pt x="90" y="4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1"/>
                    </a:lnTo>
                    <a:lnTo>
                      <a:pt x="149" y="15"/>
                    </a:lnTo>
                    <a:lnTo>
                      <a:pt x="168" y="20"/>
                    </a:lnTo>
                    <a:lnTo>
                      <a:pt x="189" y="26"/>
                    </a:lnTo>
                    <a:lnTo>
                      <a:pt x="209" y="32"/>
                    </a:lnTo>
                    <a:lnTo>
                      <a:pt x="228" y="38"/>
                    </a:lnTo>
                    <a:lnTo>
                      <a:pt x="248" y="4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>
                <a:off x="1925280" y="3397680"/>
                <a:ext cx="69840" cy="1404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5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5" y="3"/>
                    </a:lnTo>
                    <a:lnTo>
                      <a:pt x="25" y="4"/>
                    </a:lnTo>
                    <a:lnTo>
                      <a:pt x="35" y="6"/>
                    </a:lnTo>
                    <a:lnTo>
                      <a:pt x="45" y="7"/>
                    </a:lnTo>
                    <a:lnTo>
                      <a:pt x="56" y="10"/>
                    </a:lnTo>
                    <a:lnTo>
                      <a:pt x="66" y="13"/>
                    </a:lnTo>
                    <a:lnTo>
                      <a:pt x="78" y="15"/>
                    </a:lnTo>
                    <a:lnTo>
                      <a:pt x="88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990440" y="3619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3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 flipH="1">
                <a:off x="1988640" y="361836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0" y="0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 flipH="1">
                <a:off x="1989000" y="361512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0"/>
                    </a:moveTo>
                    <a:lnTo>
                      <a:pt x="2" y="2"/>
                    </a:lnTo>
                    <a:lnTo>
                      <a:pt x="8" y="4"/>
                    </a:lnTo>
                    <a:lnTo>
                      <a:pt x="17" y="7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1989000" y="361368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0"/>
                    </a:moveTo>
                    <a:lnTo>
                      <a:pt x="2" y="5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 flipH="1">
                <a:off x="1989000" y="36136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3" y="3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H="1">
                <a:off x="1986840" y="361188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3" y="2"/>
                    </a:lnTo>
                    <a:lnTo>
                      <a:pt x="22" y="7"/>
                    </a:lnTo>
                    <a:lnTo>
                      <a:pt x="2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 flipH="1">
                <a:off x="1987200" y="36086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" y="5"/>
                    </a:lnTo>
                    <a:lnTo>
                      <a:pt x="24" y="8"/>
                    </a:lnTo>
                    <a:lnTo>
                      <a:pt x="2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 flipH="1">
                <a:off x="1987200" y="360720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" y="6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 flipH="1">
                <a:off x="1985760" y="3607200"/>
                <a:ext cx="22320" cy="64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3"/>
                    </a:lnTo>
                    <a:lnTo>
                      <a:pt x="27" y="8"/>
                    </a:lnTo>
                    <a:lnTo>
                      <a:pt x="2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 flipH="1">
                <a:off x="1985760" y="36054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2" y="2"/>
                    </a:lnTo>
                    <a:lnTo>
                      <a:pt x="29" y="8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H="1">
                <a:off x="1985760" y="36039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0" y="0"/>
                    </a:moveTo>
                    <a:lnTo>
                      <a:pt x="2" y="4"/>
                    </a:lnTo>
                    <a:lnTo>
                      <a:pt x="31" y="10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 flipH="1">
                <a:off x="1985400" y="360252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2" y="5"/>
                    </a:lnTo>
                    <a:lnTo>
                      <a:pt x="33" y="10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 flipH="1">
                <a:off x="1985400" y="360252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0" y="0"/>
                    </a:moveTo>
                    <a:lnTo>
                      <a:pt x="2" y="3"/>
                    </a:lnTo>
                    <a:lnTo>
                      <a:pt x="33" y="7"/>
                    </a:lnTo>
                    <a:lnTo>
                      <a:pt x="2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 flipH="1">
                <a:off x="1986840" y="360072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29" y="5"/>
                    </a:lnTo>
                    <a:lnTo>
                      <a:pt x="34" y="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 flipH="1">
                <a:off x="1989000" y="35974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" y="4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29" y="4"/>
                    </a:lnTo>
                    <a:lnTo>
                      <a:pt x="31" y="9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 flipH="1">
                <a:off x="1990440" y="35974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0" y="0"/>
                    </a:moveTo>
                    <a:lnTo>
                      <a:pt x="0" y="2"/>
                    </a:lnTo>
                    <a:lnTo>
                      <a:pt x="29" y="7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 flipH="1">
                <a:off x="1990080" y="3596040"/>
                <a:ext cx="25560" cy="648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2" y="2"/>
                    </a:lnTo>
                    <a:lnTo>
                      <a:pt x="31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 flipH="1">
                <a:off x="1993680" y="35946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4" y="5"/>
                    </a:lnTo>
                    <a:lnTo>
                      <a:pt x="29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 flipH="1">
                <a:off x="1995120" y="35946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2" y="3"/>
                    </a:lnTo>
                    <a:lnTo>
                      <a:pt x="26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 flipH="1">
                <a:off x="1996920" y="359280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0" y="2"/>
                    </a:lnTo>
                    <a:lnTo>
                      <a:pt x="22" y="7"/>
                    </a:lnTo>
                    <a:lnTo>
                      <a:pt x="1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 flipH="1">
                <a:off x="1998360" y="3591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3" y="0"/>
                    </a:moveTo>
                    <a:lnTo>
                      <a:pt x="0" y="4"/>
                    </a:lnTo>
                    <a:lnTo>
                      <a:pt x="20" y="7"/>
                    </a:lnTo>
                    <a:lnTo>
                      <a:pt x="1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 flipH="1">
                <a:off x="2001240" y="35913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2" y="0"/>
                    </a:moveTo>
                    <a:lnTo>
                      <a:pt x="0" y="2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 flipH="1">
                <a:off x="2002680" y="358956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2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H="1">
                <a:off x="2004480" y="35895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0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 flipH="1">
                <a:off x="2005920" y="3589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 flipH="1">
                <a:off x="2005920" y="3589560"/>
                <a:ext cx="1800" cy="1800"/>
              </a:xfrm>
              <a:prstGeom prst="rect">
                <a:avLst/>
              </a:pr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 flipH="1">
                <a:off x="1894680" y="3623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 flipH="1">
                <a:off x="1894680" y="3623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 flipH="1">
                <a:off x="1663200" y="351504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 flipH="1">
                <a:off x="1656720" y="351036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0" y="0"/>
                    </a:moveTo>
                    <a:lnTo>
                      <a:pt x="6" y="4"/>
                    </a:lnTo>
                    <a:lnTo>
                      <a:pt x="12" y="7"/>
                    </a:lnTo>
                    <a:lnTo>
                      <a:pt x="16" y="10"/>
                    </a:lnTo>
                    <a:lnTo>
                      <a:pt x="22" y="14"/>
                    </a:lnTo>
                    <a:lnTo>
                      <a:pt x="31" y="16"/>
                    </a:lnTo>
                    <a:lnTo>
                      <a:pt x="39" y="14"/>
                    </a:lnTo>
                    <a:lnTo>
                      <a:pt x="46" y="13"/>
                    </a:lnTo>
                    <a:lnTo>
                      <a:pt x="52" y="10"/>
                    </a:lnTo>
                    <a:lnTo>
                      <a:pt x="5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 flipH="1">
                <a:off x="1652400" y="3502440"/>
                <a:ext cx="56880" cy="1584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0" y="0"/>
                    </a:moveTo>
                    <a:lnTo>
                      <a:pt x="6" y="3"/>
                    </a:lnTo>
                    <a:lnTo>
                      <a:pt x="10" y="8"/>
                    </a:lnTo>
                    <a:lnTo>
                      <a:pt x="16" y="13"/>
                    </a:lnTo>
                    <a:lnTo>
                      <a:pt x="22" y="16"/>
                    </a:lnTo>
                    <a:lnTo>
                      <a:pt x="58" y="21"/>
                    </a:lnTo>
                    <a:lnTo>
                      <a:pt x="61" y="18"/>
                    </a:lnTo>
                    <a:lnTo>
                      <a:pt x="64" y="17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 flipH="1">
                <a:off x="1649160" y="349596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0" y="0"/>
                    </a:moveTo>
                    <a:lnTo>
                      <a:pt x="6" y="4"/>
                    </a:lnTo>
                    <a:lnTo>
                      <a:pt x="11" y="8"/>
                    </a:lnTo>
                    <a:lnTo>
                      <a:pt x="17" y="12"/>
                    </a:lnTo>
                    <a:lnTo>
                      <a:pt x="21" y="17"/>
                    </a:lnTo>
                    <a:lnTo>
                      <a:pt x="79" y="24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4" y="17"/>
                    </a:lnTo>
                    <a:lnTo>
                      <a:pt x="88" y="12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 flipH="1">
                <a:off x="1647360" y="3488040"/>
                <a:ext cx="82440" cy="2376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0" y="0"/>
                    </a:moveTo>
                    <a:lnTo>
                      <a:pt x="7" y="3"/>
                    </a:lnTo>
                    <a:lnTo>
                      <a:pt x="14" y="8"/>
                    </a:lnTo>
                    <a:lnTo>
                      <a:pt x="20" y="12"/>
                    </a:lnTo>
                    <a:lnTo>
                      <a:pt x="27" y="17"/>
                    </a:lnTo>
                    <a:lnTo>
                      <a:pt x="98" y="28"/>
                    </a:lnTo>
                    <a:lnTo>
                      <a:pt x="101" y="26"/>
                    </a:lnTo>
                    <a:lnTo>
                      <a:pt x="102" y="25"/>
                    </a:lnTo>
                    <a:lnTo>
                      <a:pt x="104" y="23"/>
                    </a:lnTo>
                    <a:lnTo>
                      <a:pt x="105" y="19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88" y="19"/>
                    </a:lnTo>
                    <a:lnTo>
                      <a:pt x="85" y="19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 flipH="1">
                <a:off x="1653840" y="3483360"/>
                <a:ext cx="85680" cy="20520"/>
              </a:xfrm>
              <a:custGeom>
                <a:avLst/>
                <a:gdLst/>
                <a:ahLst/>
                <a:rect l="l" t="t" r="r" b="b"/>
                <a:pathLst>
                  <a:path w="107" h="26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18" y="11"/>
                    </a:lnTo>
                    <a:lnTo>
                      <a:pt x="26" y="16"/>
                    </a:lnTo>
                    <a:lnTo>
                      <a:pt x="96" y="26"/>
                    </a:lnTo>
                    <a:lnTo>
                      <a:pt x="96" y="24"/>
                    </a:lnTo>
                    <a:lnTo>
                      <a:pt x="96" y="23"/>
                    </a:lnTo>
                    <a:lnTo>
                      <a:pt x="96" y="20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101" y="16"/>
                    </a:lnTo>
                    <a:lnTo>
                      <a:pt x="104" y="16"/>
                    </a:lnTo>
                    <a:lnTo>
                      <a:pt x="10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 flipH="1">
                <a:off x="1647360" y="35038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 flipH="1">
                <a:off x="1650240" y="3475440"/>
                <a:ext cx="101880" cy="2520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0" y="0"/>
                    </a:moveTo>
                    <a:lnTo>
                      <a:pt x="8" y="4"/>
                    </a:lnTo>
                    <a:lnTo>
                      <a:pt x="15" y="9"/>
                    </a:lnTo>
                    <a:lnTo>
                      <a:pt x="21" y="13"/>
                    </a:lnTo>
                    <a:lnTo>
                      <a:pt x="26" y="17"/>
                    </a:lnTo>
                    <a:lnTo>
                      <a:pt x="111" y="32"/>
                    </a:lnTo>
                    <a:lnTo>
                      <a:pt x="111" y="29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4" y="27"/>
                    </a:lnTo>
                    <a:lnTo>
                      <a:pt x="117" y="26"/>
                    </a:lnTo>
                    <a:lnTo>
                      <a:pt x="122" y="25"/>
                    </a:lnTo>
                    <a:lnTo>
                      <a:pt x="127" y="23"/>
                    </a:lnTo>
                    <a:lnTo>
                      <a:pt x="127" y="22"/>
                    </a:lnTo>
                    <a:lnTo>
                      <a:pt x="127" y="21"/>
                    </a:lnTo>
                    <a:lnTo>
                      <a:pt x="127" y="20"/>
                    </a:lnTo>
                    <a:lnTo>
                      <a:pt x="12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 flipH="1">
                <a:off x="1650240" y="346896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141" h="34">
                    <a:moveTo>
                      <a:pt x="0" y="0"/>
                    </a:moveTo>
                    <a:lnTo>
                      <a:pt x="7" y="5"/>
                    </a:lnTo>
                    <a:lnTo>
                      <a:pt x="15" y="8"/>
                    </a:lnTo>
                    <a:lnTo>
                      <a:pt x="22" y="13"/>
                    </a:lnTo>
                    <a:lnTo>
                      <a:pt x="29" y="18"/>
                    </a:lnTo>
                    <a:lnTo>
                      <a:pt x="136" y="34"/>
                    </a:lnTo>
                    <a:lnTo>
                      <a:pt x="136" y="33"/>
                    </a:lnTo>
                    <a:lnTo>
                      <a:pt x="137" y="31"/>
                    </a:lnTo>
                    <a:lnTo>
                      <a:pt x="139" y="31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7"/>
                    </a:lnTo>
                    <a:lnTo>
                      <a:pt x="141" y="25"/>
                    </a:lnTo>
                    <a:lnTo>
                      <a:pt x="1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 flipH="1">
                <a:off x="1648800" y="3462840"/>
                <a:ext cx="127080" cy="27000"/>
              </a:xfrm>
              <a:custGeom>
                <a:avLst/>
                <a:gdLst/>
                <a:ahLst/>
                <a:rect l="l" t="t" r="r" b="b"/>
                <a:pathLst>
                  <a:path w="159" h="36">
                    <a:moveTo>
                      <a:pt x="0" y="0"/>
                    </a:moveTo>
                    <a:lnTo>
                      <a:pt x="8" y="4"/>
                    </a:lnTo>
                    <a:lnTo>
                      <a:pt x="16" y="8"/>
                    </a:lnTo>
                    <a:lnTo>
                      <a:pt x="23" y="13"/>
                    </a:lnTo>
                    <a:lnTo>
                      <a:pt x="30" y="17"/>
                    </a:lnTo>
                    <a:lnTo>
                      <a:pt x="157" y="36"/>
                    </a:lnTo>
                    <a:lnTo>
                      <a:pt x="157" y="32"/>
                    </a:lnTo>
                    <a:lnTo>
                      <a:pt x="158" y="30"/>
                    </a:lnTo>
                    <a:lnTo>
                      <a:pt x="159" y="28"/>
                    </a:lnTo>
                    <a:lnTo>
                      <a:pt x="159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 flipH="1">
                <a:off x="1649160" y="3454920"/>
                <a:ext cx="139680" cy="31680"/>
              </a:xfrm>
              <a:custGeom>
                <a:avLst/>
                <a:gdLst/>
                <a:ahLst/>
                <a:rect l="l" t="t" r="r" b="b"/>
                <a:pathLst>
                  <a:path w="176" h="40">
                    <a:moveTo>
                      <a:pt x="0" y="0"/>
                    </a:moveTo>
                    <a:lnTo>
                      <a:pt x="8" y="3"/>
                    </a:lnTo>
                    <a:lnTo>
                      <a:pt x="17" y="8"/>
                    </a:lnTo>
                    <a:lnTo>
                      <a:pt x="25" y="14"/>
                    </a:lnTo>
                    <a:lnTo>
                      <a:pt x="33" y="18"/>
                    </a:lnTo>
                    <a:lnTo>
                      <a:pt x="174" y="40"/>
                    </a:lnTo>
                    <a:lnTo>
                      <a:pt x="175" y="37"/>
                    </a:lnTo>
                    <a:lnTo>
                      <a:pt x="176" y="33"/>
                    </a:lnTo>
                    <a:lnTo>
                      <a:pt x="176" y="30"/>
                    </a:lnTo>
                    <a:lnTo>
                      <a:pt x="176" y="26"/>
                    </a:lnTo>
                    <a:lnTo>
                      <a:pt x="17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 flipH="1">
                <a:off x="1649160" y="3446640"/>
                <a:ext cx="156960" cy="35280"/>
              </a:xfrm>
              <a:custGeom>
                <a:avLst/>
                <a:gdLst/>
                <a:ahLst/>
                <a:rect l="l" t="t" r="r" b="b"/>
                <a:pathLst>
                  <a:path w="198" h="42">
                    <a:moveTo>
                      <a:pt x="0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16" y="7"/>
                    </a:lnTo>
                    <a:lnTo>
                      <a:pt x="21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9"/>
                    </a:lnTo>
                    <a:lnTo>
                      <a:pt x="198" y="37"/>
                    </a:lnTo>
                    <a:lnTo>
                      <a:pt x="198" y="35"/>
                    </a:lnTo>
                    <a:lnTo>
                      <a:pt x="197" y="33"/>
                    </a:lnTo>
                    <a:lnTo>
                      <a:pt x="194" y="31"/>
                    </a:lnTo>
                    <a:lnTo>
                      <a:pt x="193" y="30"/>
                    </a:lnTo>
                    <a:lnTo>
                      <a:pt x="19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 flipH="1">
                <a:off x="1648800" y="343872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6">
                    <a:moveTo>
                      <a:pt x="0" y="0"/>
                    </a:moveTo>
                    <a:lnTo>
                      <a:pt x="6" y="3"/>
                    </a:lnTo>
                    <a:lnTo>
                      <a:pt x="10" y="4"/>
                    </a:lnTo>
                    <a:lnTo>
                      <a:pt x="16" y="7"/>
                    </a:lnTo>
                    <a:lnTo>
                      <a:pt x="22" y="10"/>
                    </a:lnTo>
                    <a:lnTo>
                      <a:pt x="27" y="12"/>
                    </a:lnTo>
                    <a:lnTo>
                      <a:pt x="32" y="14"/>
                    </a:lnTo>
                    <a:lnTo>
                      <a:pt x="37" y="18"/>
                    </a:lnTo>
                    <a:lnTo>
                      <a:pt x="43" y="20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1" y="38"/>
                    </a:lnTo>
                    <a:lnTo>
                      <a:pt x="205" y="35"/>
                    </a:lnTo>
                    <a:lnTo>
                      <a:pt x="201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 flipH="1">
                <a:off x="1653480" y="343260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38" h="47">
                    <a:moveTo>
                      <a:pt x="0" y="0"/>
                    </a:moveTo>
                    <a:lnTo>
                      <a:pt x="6" y="2"/>
                    </a:lnTo>
                    <a:lnTo>
                      <a:pt x="12" y="4"/>
                    </a:lnTo>
                    <a:lnTo>
                      <a:pt x="18" y="6"/>
                    </a:lnTo>
                    <a:lnTo>
                      <a:pt x="25" y="8"/>
                    </a:lnTo>
                    <a:lnTo>
                      <a:pt x="31" y="12"/>
                    </a:lnTo>
                    <a:lnTo>
                      <a:pt x="36" y="14"/>
                    </a:lnTo>
                    <a:lnTo>
                      <a:pt x="41" y="16"/>
                    </a:lnTo>
                    <a:lnTo>
                      <a:pt x="47" y="20"/>
                    </a:lnTo>
                    <a:lnTo>
                      <a:pt x="238" y="47"/>
                    </a:lnTo>
                    <a:lnTo>
                      <a:pt x="232" y="44"/>
                    </a:lnTo>
                    <a:lnTo>
                      <a:pt x="227" y="39"/>
                    </a:lnTo>
                    <a:lnTo>
                      <a:pt x="221" y="35"/>
                    </a:lnTo>
                    <a:lnTo>
                      <a:pt x="2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H="1">
                <a:off x="1663560" y="3422880"/>
                <a:ext cx="204480" cy="41400"/>
              </a:xfrm>
              <a:custGeom>
                <a:avLst/>
                <a:gdLst/>
                <a:ahLst/>
                <a:rect l="l" t="t" r="r" b="b"/>
                <a:pathLst>
                  <a:path w="259" h="51">
                    <a:moveTo>
                      <a:pt x="0" y="0"/>
                    </a:moveTo>
                    <a:lnTo>
                      <a:pt x="8" y="2"/>
                    </a:lnTo>
                    <a:lnTo>
                      <a:pt x="15" y="4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7" y="12"/>
                    </a:lnTo>
                    <a:lnTo>
                      <a:pt x="44" y="15"/>
                    </a:lnTo>
                    <a:lnTo>
                      <a:pt x="51" y="18"/>
                    </a:lnTo>
                    <a:lnTo>
                      <a:pt x="58" y="20"/>
                    </a:lnTo>
                    <a:lnTo>
                      <a:pt x="259" y="51"/>
                    </a:lnTo>
                    <a:lnTo>
                      <a:pt x="253" y="47"/>
                    </a:lnTo>
                    <a:lnTo>
                      <a:pt x="246" y="42"/>
                    </a:lnTo>
                    <a:lnTo>
                      <a:pt x="239" y="39"/>
                    </a:lnTo>
                    <a:lnTo>
                      <a:pt x="232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 flipH="1">
                <a:off x="1674360" y="3411720"/>
                <a:ext cx="222480" cy="44640"/>
              </a:xfrm>
              <a:custGeom>
                <a:avLst/>
                <a:gdLst/>
                <a:ahLst/>
                <a:rect l="l" t="t" r="r" b="b"/>
                <a:pathLst>
                  <a:path w="281" h="55">
                    <a:moveTo>
                      <a:pt x="0" y="0"/>
                    </a:moveTo>
                    <a:lnTo>
                      <a:pt x="9" y="3"/>
                    </a:lnTo>
                    <a:lnTo>
                      <a:pt x="17" y="6"/>
                    </a:lnTo>
                    <a:lnTo>
                      <a:pt x="26" y="9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7"/>
                    </a:lnTo>
                    <a:lnTo>
                      <a:pt x="58" y="21"/>
                    </a:lnTo>
                    <a:lnTo>
                      <a:pt x="67" y="24"/>
                    </a:lnTo>
                    <a:lnTo>
                      <a:pt x="281" y="55"/>
                    </a:lnTo>
                    <a:lnTo>
                      <a:pt x="274" y="51"/>
                    </a:lnTo>
                    <a:lnTo>
                      <a:pt x="266" y="46"/>
                    </a:lnTo>
                    <a:lnTo>
                      <a:pt x="258" y="43"/>
                    </a:lnTo>
                    <a:lnTo>
                      <a:pt x="2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 flipH="1">
                <a:off x="1683720" y="3408840"/>
                <a:ext cx="222120" cy="42840"/>
              </a:xfrm>
              <a:custGeom>
                <a:avLst/>
                <a:gdLst/>
                <a:ahLst/>
                <a:rect l="l" t="t" r="r" b="b"/>
                <a:pathLst>
                  <a:path w="279" h="53">
                    <a:moveTo>
                      <a:pt x="47" y="18"/>
                    </a:moveTo>
                    <a:lnTo>
                      <a:pt x="42" y="15"/>
                    </a:lnTo>
                    <a:lnTo>
                      <a:pt x="37" y="14"/>
                    </a:lnTo>
                    <a:lnTo>
                      <a:pt x="30" y="12"/>
                    </a:lnTo>
                    <a:lnTo>
                      <a:pt x="24" y="10"/>
                    </a:lnTo>
                    <a:lnTo>
                      <a:pt x="19" y="7"/>
                    </a:lnTo>
                    <a:lnTo>
                      <a:pt x="13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236" y="31"/>
                    </a:lnTo>
                    <a:lnTo>
                      <a:pt x="242" y="34"/>
                    </a:lnTo>
                    <a:lnTo>
                      <a:pt x="247" y="36"/>
                    </a:lnTo>
                    <a:lnTo>
                      <a:pt x="253" y="38"/>
                    </a:lnTo>
                    <a:lnTo>
                      <a:pt x="257" y="41"/>
                    </a:lnTo>
                    <a:lnTo>
                      <a:pt x="263" y="44"/>
                    </a:lnTo>
                    <a:lnTo>
                      <a:pt x="267" y="46"/>
                    </a:lnTo>
                    <a:lnTo>
                      <a:pt x="273" y="50"/>
                    </a:lnTo>
                    <a:lnTo>
                      <a:pt x="279" y="53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H="1">
                <a:off x="1698120" y="3408840"/>
                <a:ext cx="207720" cy="33120"/>
              </a:xfrm>
              <a:custGeom>
                <a:avLst/>
                <a:gdLst/>
                <a:ahLst/>
                <a:rect l="l" t="t" r="r" b="b"/>
                <a:pathLst>
                  <a:path w="262" h="43">
                    <a:moveTo>
                      <a:pt x="12" y="5"/>
                    </a:moveTo>
                    <a:lnTo>
                      <a:pt x="9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29" y="3"/>
                    </a:lnTo>
                    <a:lnTo>
                      <a:pt x="44" y="3"/>
                    </a:lnTo>
                    <a:lnTo>
                      <a:pt x="60" y="4"/>
                    </a:lnTo>
                    <a:lnTo>
                      <a:pt x="75" y="5"/>
                    </a:lnTo>
                    <a:lnTo>
                      <a:pt x="90" y="7"/>
                    </a:lnTo>
                    <a:lnTo>
                      <a:pt x="106" y="8"/>
                    </a:lnTo>
                    <a:lnTo>
                      <a:pt x="121" y="11"/>
                    </a:lnTo>
                    <a:lnTo>
                      <a:pt x="181" y="18"/>
                    </a:lnTo>
                    <a:lnTo>
                      <a:pt x="191" y="20"/>
                    </a:lnTo>
                    <a:lnTo>
                      <a:pt x="202" y="23"/>
                    </a:lnTo>
                    <a:lnTo>
                      <a:pt x="212" y="26"/>
                    </a:lnTo>
                    <a:lnTo>
                      <a:pt x="223" y="28"/>
                    </a:lnTo>
                    <a:lnTo>
                      <a:pt x="233" y="31"/>
                    </a:lnTo>
                    <a:lnTo>
                      <a:pt x="242" y="35"/>
                    </a:lnTo>
                    <a:lnTo>
                      <a:pt x="253" y="38"/>
                    </a:lnTo>
                    <a:lnTo>
                      <a:pt x="262" y="43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1719000" y="3410280"/>
                <a:ext cx="155520" cy="23760"/>
              </a:xfrm>
              <a:custGeom>
                <a:avLst/>
                <a:gdLst/>
                <a:ahLst/>
                <a:rect l="l" t="t" r="r" b="b"/>
                <a:pathLst>
                  <a:path w="195" h="28">
                    <a:moveTo>
                      <a:pt x="195" y="28"/>
                    </a:moveTo>
                    <a:lnTo>
                      <a:pt x="184" y="25"/>
                    </a:lnTo>
                    <a:lnTo>
                      <a:pt x="171" y="22"/>
                    </a:lnTo>
                    <a:lnTo>
                      <a:pt x="160" y="19"/>
                    </a:lnTo>
                    <a:lnTo>
                      <a:pt x="148" y="17"/>
                    </a:lnTo>
                    <a:lnTo>
                      <a:pt x="135" y="15"/>
                    </a:lnTo>
                    <a:lnTo>
                      <a:pt x="123" y="12"/>
                    </a:lnTo>
                    <a:lnTo>
                      <a:pt x="111" y="10"/>
                    </a:lnTo>
                    <a:lnTo>
                      <a:pt x="99" y="8"/>
                    </a:lnTo>
                    <a:lnTo>
                      <a:pt x="86" y="7"/>
                    </a:lnTo>
                    <a:lnTo>
                      <a:pt x="73" y="5"/>
                    </a:lnTo>
                    <a:lnTo>
                      <a:pt x="61" y="3"/>
                    </a:lnTo>
                    <a:lnTo>
                      <a:pt x="49" y="2"/>
                    </a:lnTo>
                    <a:lnTo>
                      <a:pt x="36" y="2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95" y="28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1761840" y="3416760"/>
                <a:ext cx="47520" cy="612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60" y="7"/>
                    </a:moveTo>
                    <a:lnTo>
                      <a:pt x="53" y="5"/>
                    </a:lnTo>
                    <a:lnTo>
                      <a:pt x="45" y="4"/>
                    </a:lnTo>
                    <a:lnTo>
                      <a:pt x="38" y="3"/>
                    </a:lnTo>
                    <a:lnTo>
                      <a:pt x="30" y="2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6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2698560" y="33627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2" y="0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2692080" y="336276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2688480" y="336276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" y="0"/>
                    </a:moveTo>
                    <a:lnTo>
                      <a:pt x="0" y="0"/>
                    </a:lnTo>
                    <a:lnTo>
                      <a:pt x="9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2687040" y="33627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5" y="0"/>
                    </a:moveTo>
                    <a:lnTo>
                      <a:pt x="0" y="0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2687400" y="335952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5" y="0"/>
                    </a:moveTo>
                    <a:lnTo>
                      <a:pt x="0" y="4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2685240" y="335952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" y="0"/>
                    </a:moveTo>
                    <a:lnTo>
                      <a:pt x="0" y="4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2685240" y="3359520"/>
                <a:ext cx="1620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2" y="0"/>
                    </a:moveTo>
                    <a:lnTo>
                      <a:pt x="0" y="0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2683800" y="335952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6" y="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2680560" y="335808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6" y="0"/>
                    </a:moveTo>
                    <a:lnTo>
                      <a:pt x="0" y="2"/>
                    </a:lnTo>
                    <a:lnTo>
                      <a:pt x="17" y="6"/>
                    </a:lnTo>
                    <a:lnTo>
                      <a:pt x="22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2680920" y="335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2" y="0"/>
                    </a:moveTo>
                    <a:lnTo>
                      <a:pt x="0" y="2"/>
                    </a:lnTo>
                    <a:lnTo>
                      <a:pt x="16" y="6"/>
                    </a:lnTo>
                    <a:lnTo>
                      <a:pt x="1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2679480" y="33580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2" y="0"/>
                    </a:moveTo>
                    <a:lnTo>
                      <a:pt x="0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2679480" y="33580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0"/>
                    </a:moveTo>
                    <a:lnTo>
                      <a:pt x="0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2677680" y="335628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5" y="0"/>
                    </a:moveTo>
                    <a:lnTo>
                      <a:pt x="0" y="3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2677680" y="33562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0" y="3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2675880" y="3356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2" y="0"/>
                    </a:moveTo>
                    <a:lnTo>
                      <a:pt x="0" y="0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2675880" y="3356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4" y="0"/>
                    </a:moveTo>
                    <a:lnTo>
                      <a:pt x="0" y="0"/>
                    </a:lnTo>
                    <a:lnTo>
                      <a:pt x="14" y="3"/>
                    </a:lnTo>
                    <a:lnTo>
                      <a:pt x="1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2675880" y="33548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2674800" y="3354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2674800" y="3354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2672640" y="33548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7" y="0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2671560" y="3351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5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2671200" y="33516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0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2668320" y="3351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2" y="0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2668320" y="3351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5" y="0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2666880" y="335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5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2666520" y="33516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2665080" y="33501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2661840" y="33501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2661480" y="3350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2707560" y="33483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5" y="8"/>
                    </a:lnTo>
                    <a:lnTo>
                      <a:pt x="23" y="6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2696760" y="33451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5" y="13"/>
                    </a:lnTo>
                    <a:lnTo>
                      <a:pt x="21" y="11"/>
                    </a:lnTo>
                    <a:lnTo>
                      <a:pt x="30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 flipH="1">
                <a:off x="2683800" y="33418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9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7" y="10"/>
                    </a:lnTo>
                    <a:lnTo>
                      <a:pt x="38" y="13"/>
                    </a:lnTo>
                    <a:lnTo>
                      <a:pt x="31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 flipH="1">
                <a:off x="2673000" y="333720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6" h="17">
                    <a:moveTo>
                      <a:pt x="0" y="10"/>
                    </a:moveTo>
                    <a:lnTo>
                      <a:pt x="0" y="7"/>
                    </a:lnTo>
                    <a:lnTo>
                      <a:pt x="3" y="5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3" y="13"/>
                    </a:lnTo>
                    <a:lnTo>
                      <a:pt x="54" y="14"/>
                    </a:lnTo>
                    <a:lnTo>
                      <a:pt x="46" y="1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 flipH="1">
                <a:off x="2656800" y="333576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22" y="0"/>
                    </a:moveTo>
                    <a:lnTo>
                      <a:pt x="16" y="1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58" y="16"/>
                    </a:lnTo>
                    <a:lnTo>
                      <a:pt x="66" y="14"/>
                    </a:lnTo>
                    <a:lnTo>
                      <a:pt x="74" y="13"/>
                    </a:lnTo>
                    <a:lnTo>
                      <a:pt x="82" y="11"/>
                    </a:lnTo>
                    <a:lnTo>
                      <a:pt x="91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 flipH="1">
                <a:off x="2642760" y="3331080"/>
                <a:ext cx="76320" cy="14040"/>
              </a:xfrm>
              <a:custGeom>
                <a:avLst/>
                <a:gdLst/>
                <a:ahLst/>
                <a:rect l="l" t="t" r="r" b="b"/>
                <a:pathLst>
                  <a:path w="97" h="18">
                    <a:moveTo>
                      <a:pt x="21" y="0"/>
                    </a:moveTo>
                    <a:lnTo>
                      <a:pt x="16" y="3"/>
                    </a:lnTo>
                    <a:lnTo>
                      <a:pt x="10" y="5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79" y="17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92" y="14"/>
                    </a:lnTo>
                    <a:lnTo>
                      <a:pt x="97" y="1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 flipH="1">
                <a:off x="2626920" y="332928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107" h="17">
                    <a:moveTo>
                      <a:pt x="24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7" y="6"/>
                    </a:lnTo>
                    <a:lnTo>
                      <a:pt x="0" y="8"/>
                    </a:lnTo>
                    <a:lnTo>
                      <a:pt x="69" y="17"/>
                    </a:lnTo>
                    <a:lnTo>
                      <a:pt x="74" y="17"/>
                    </a:lnTo>
                    <a:lnTo>
                      <a:pt x="78" y="17"/>
                    </a:lnTo>
                    <a:lnTo>
                      <a:pt x="83" y="16"/>
                    </a:lnTo>
                    <a:lnTo>
                      <a:pt x="89" y="16"/>
                    </a:lnTo>
                    <a:lnTo>
                      <a:pt x="93" y="15"/>
                    </a:lnTo>
                    <a:lnTo>
                      <a:pt x="98" y="14"/>
                    </a:lnTo>
                    <a:lnTo>
                      <a:pt x="103" y="14"/>
                    </a:lnTo>
                    <a:lnTo>
                      <a:pt x="107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 flipH="1">
                <a:off x="2609640" y="3326040"/>
                <a:ext cx="93600" cy="15840"/>
              </a:xfrm>
              <a:custGeom>
                <a:avLst/>
                <a:gdLst/>
                <a:ahLst/>
                <a:rect l="l" t="t" r="r" b="b"/>
                <a:pathLst>
                  <a:path w="117" h="20">
                    <a:moveTo>
                      <a:pt x="24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76" y="20"/>
                    </a:lnTo>
                    <a:lnTo>
                      <a:pt x="81" y="19"/>
                    </a:lnTo>
                    <a:lnTo>
                      <a:pt x="86" y="19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101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7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 flipH="1">
                <a:off x="2593440" y="3324600"/>
                <a:ext cx="98280" cy="14400"/>
              </a:xfrm>
              <a:custGeom>
                <a:avLst/>
                <a:gdLst/>
                <a:ahLst/>
                <a:rect l="l" t="t" r="r" b="b"/>
                <a:pathLst>
                  <a:path w="126" h="20">
                    <a:moveTo>
                      <a:pt x="23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4" y="19"/>
                    </a:lnTo>
                    <a:lnTo>
                      <a:pt x="99" y="17"/>
                    </a:lnTo>
                    <a:lnTo>
                      <a:pt x="105" y="17"/>
                    </a:lnTo>
                    <a:lnTo>
                      <a:pt x="110" y="17"/>
                    </a:lnTo>
                    <a:lnTo>
                      <a:pt x="115" y="16"/>
                    </a:lnTo>
                    <a:lnTo>
                      <a:pt x="120" y="16"/>
                    </a:lnTo>
                    <a:lnTo>
                      <a:pt x="126" y="1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 flipH="1">
                <a:off x="2572560" y="3319920"/>
                <a:ext cx="111240" cy="17280"/>
              </a:xfrm>
              <a:custGeom>
                <a:avLst/>
                <a:gdLst/>
                <a:ahLst/>
                <a:rect l="l" t="t" r="r" b="b"/>
                <a:pathLst>
                  <a:path w="138" h="21">
                    <a:moveTo>
                      <a:pt x="24" y="0"/>
                    </a:moveTo>
                    <a:lnTo>
                      <a:pt x="18" y="1"/>
                    </a:lnTo>
                    <a:lnTo>
                      <a:pt x="12" y="3"/>
                    </a:lnTo>
                    <a:lnTo>
                      <a:pt x="7" y="4"/>
                    </a:lnTo>
                    <a:lnTo>
                      <a:pt x="0" y="6"/>
                    </a:lnTo>
                    <a:lnTo>
                      <a:pt x="93" y="21"/>
                    </a:lnTo>
                    <a:lnTo>
                      <a:pt x="99" y="21"/>
                    </a:lnTo>
                    <a:lnTo>
                      <a:pt x="103" y="21"/>
                    </a:lnTo>
                    <a:lnTo>
                      <a:pt x="109" y="20"/>
                    </a:lnTo>
                    <a:lnTo>
                      <a:pt x="116" y="20"/>
                    </a:lnTo>
                    <a:lnTo>
                      <a:pt x="122" y="19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8" y="1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 flipH="1">
                <a:off x="2553840" y="3318120"/>
                <a:ext cx="120960" cy="17640"/>
              </a:xfrm>
              <a:custGeom>
                <a:avLst/>
                <a:gdLst/>
                <a:ahLst/>
                <a:rect l="l" t="t" r="r" b="b"/>
                <a:pathLst>
                  <a:path w="151" h="22">
                    <a:moveTo>
                      <a:pt x="27" y="0"/>
                    </a:moveTo>
                    <a:lnTo>
                      <a:pt x="20" y="1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103" y="22"/>
                    </a:lnTo>
                    <a:lnTo>
                      <a:pt x="109" y="22"/>
                    </a:lnTo>
                    <a:lnTo>
                      <a:pt x="116" y="22"/>
                    </a:lnTo>
                    <a:lnTo>
                      <a:pt x="121" y="21"/>
                    </a:lnTo>
                    <a:lnTo>
                      <a:pt x="127" y="21"/>
                    </a:lnTo>
                    <a:lnTo>
                      <a:pt x="133" y="21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1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1" name=""/>
            <p:cNvGrpSpPr/>
            <p:nvPr/>
          </p:nvGrpSpPr>
          <p:grpSpPr>
            <a:xfrm>
              <a:off x="1620720" y="2897280"/>
              <a:ext cx="1157040" cy="520560"/>
              <a:chOff x="1620720" y="2897280"/>
              <a:chExt cx="1157040" cy="520560"/>
            </a:xfrm>
          </p:grpSpPr>
          <p:sp>
            <p:nvSpPr>
              <p:cNvPr id="5322" name=""/>
              <p:cNvSpPr/>
              <p:nvPr/>
            </p:nvSpPr>
            <p:spPr>
              <a:xfrm flipH="1">
                <a:off x="2534760" y="3314520"/>
                <a:ext cx="129960" cy="19080"/>
              </a:xfrm>
              <a:custGeom>
                <a:avLst/>
                <a:gdLst/>
                <a:ahLst/>
                <a:rect l="l" t="t" r="r" b="b"/>
                <a:pathLst>
                  <a:path w="164" h="24">
                    <a:moveTo>
                      <a:pt x="28" y="0"/>
                    </a:moveTo>
                    <a:lnTo>
                      <a:pt x="21" y="1"/>
                    </a:lnTo>
                    <a:lnTo>
                      <a:pt x="14" y="3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7" y="24"/>
                    </a:lnTo>
                    <a:lnTo>
                      <a:pt x="132" y="23"/>
                    </a:lnTo>
                    <a:lnTo>
                      <a:pt x="139" y="22"/>
                    </a:lnTo>
                    <a:lnTo>
                      <a:pt x="145" y="22"/>
                    </a:lnTo>
                    <a:lnTo>
                      <a:pt x="151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 flipH="1">
                <a:off x="2512800" y="3313080"/>
                <a:ext cx="141120" cy="205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29" y="0"/>
                    </a:moveTo>
                    <a:lnTo>
                      <a:pt x="22" y="1"/>
                    </a:lnTo>
                    <a:lnTo>
                      <a:pt x="15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124" y="27"/>
                    </a:lnTo>
                    <a:lnTo>
                      <a:pt x="130" y="26"/>
                    </a:lnTo>
                    <a:lnTo>
                      <a:pt x="137" y="25"/>
                    </a:lnTo>
                    <a:lnTo>
                      <a:pt x="144" y="25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63" y="22"/>
                    </a:lnTo>
                    <a:lnTo>
                      <a:pt x="170" y="22"/>
                    </a:lnTo>
                    <a:lnTo>
                      <a:pt x="17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 flipH="1">
                <a:off x="2490120" y="3311640"/>
                <a:ext cx="152280" cy="19080"/>
              </a:xfrm>
              <a:custGeom>
                <a:avLst/>
                <a:gdLst/>
                <a:ahLst/>
                <a:rect l="l" t="t" r="r" b="b"/>
                <a:pathLst>
                  <a:path w="191" h="25">
                    <a:moveTo>
                      <a:pt x="31" y="0"/>
                    </a:moveTo>
                    <a:lnTo>
                      <a:pt x="24" y="1"/>
                    </a:lnTo>
                    <a:lnTo>
                      <a:pt x="16" y="3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136" y="25"/>
                    </a:lnTo>
                    <a:lnTo>
                      <a:pt x="142" y="25"/>
                    </a:lnTo>
                    <a:lnTo>
                      <a:pt x="149" y="25"/>
                    </a:lnTo>
                    <a:lnTo>
                      <a:pt x="156" y="24"/>
                    </a:lnTo>
                    <a:lnTo>
                      <a:pt x="163" y="24"/>
                    </a:lnTo>
                    <a:lnTo>
                      <a:pt x="170" y="24"/>
                    </a:lnTo>
                    <a:lnTo>
                      <a:pt x="177" y="23"/>
                    </a:lnTo>
                    <a:lnTo>
                      <a:pt x="184" y="23"/>
                    </a:lnTo>
                    <a:lnTo>
                      <a:pt x="191" y="2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 flipH="1">
                <a:off x="2468160" y="3308400"/>
                <a:ext cx="162000" cy="20520"/>
              </a:xfrm>
              <a:custGeom>
                <a:avLst/>
                <a:gdLst/>
                <a:ahLst/>
                <a:rect l="l" t="t" r="r" b="b"/>
                <a:pathLst>
                  <a:path w="205" h="25">
                    <a:moveTo>
                      <a:pt x="33" y="0"/>
                    </a:moveTo>
                    <a:lnTo>
                      <a:pt x="26" y="0"/>
                    </a:lnTo>
                    <a:lnTo>
                      <a:pt x="17" y="1"/>
                    </a:lnTo>
                    <a:lnTo>
                      <a:pt x="9" y="3"/>
                    </a:lnTo>
                    <a:lnTo>
                      <a:pt x="0" y="4"/>
                    </a:lnTo>
                    <a:lnTo>
                      <a:pt x="147" y="25"/>
                    </a:lnTo>
                    <a:lnTo>
                      <a:pt x="154" y="25"/>
                    </a:lnTo>
                    <a:lnTo>
                      <a:pt x="162" y="25"/>
                    </a:lnTo>
                    <a:lnTo>
                      <a:pt x="169" y="25"/>
                    </a:lnTo>
                    <a:lnTo>
                      <a:pt x="176" y="25"/>
                    </a:lnTo>
                    <a:lnTo>
                      <a:pt x="183" y="25"/>
                    </a:lnTo>
                    <a:lnTo>
                      <a:pt x="190" y="25"/>
                    </a:lnTo>
                    <a:lnTo>
                      <a:pt x="198" y="25"/>
                    </a:lnTo>
                    <a:lnTo>
                      <a:pt x="205" y="2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 flipH="1">
                <a:off x="2442600" y="3306600"/>
                <a:ext cx="174600" cy="22320"/>
              </a:xfrm>
              <a:custGeom>
                <a:avLst/>
                <a:gdLst/>
                <a:ahLst/>
                <a:rect l="l" t="t" r="r" b="b"/>
                <a:pathLst>
                  <a:path w="220" h="28">
                    <a:moveTo>
                      <a:pt x="35" y="0"/>
                    </a:moveTo>
                    <a:lnTo>
                      <a:pt x="31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160" y="28"/>
                    </a:lnTo>
                    <a:lnTo>
                      <a:pt x="167" y="28"/>
                    </a:lnTo>
                    <a:lnTo>
                      <a:pt x="174" y="28"/>
                    </a:lnTo>
                    <a:lnTo>
                      <a:pt x="182" y="27"/>
                    </a:lnTo>
                    <a:lnTo>
                      <a:pt x="190" y="27"/>
                    </a:lnTo>
                    <a:lnTo>
                      <a:pt x="197" y="27"/>
                    </a:lnTo>
                    <a:lnTo>
                      <a:pt x="205" y="26"/>
                    </a:lnTo>
                    <a:lnTo>
                      <a:pt x="213" y="26"/>
                    </a:lnTo>
                    <a:lnTo>
                      <a:pt x="220" y="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>
                <a:off x="2418840" y="3305160"/>
                <a:ext cx="183960" cy="23760"/>
              </a:xfrm>
              <a:custGeom>
                <a:avLst/>
                <a:gdLst/>
                <a:ahLst/>
                <a:rect l="l" t="t" r="r" b="b"/>
                <a:pathLst>
                  <a:path w="233" h="30">
                    <a:moveTo>
                      <a:pt x="40" y="0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72" y="30"/>
                    </a:lnTo>
                    <a:lnTo>
                      <a:pt x="180" y="29"/>
                    </a:lnTo>
                    <a:lnTo>
                      <a:pt x="187" y="29"/>
                    </a:lnTo>
                    <a:lnTo>
                      <a:pt x="195" y="28"/>
                    </a:lnTo>
                    <a:lnTo>
                      <a:pt x="203" y="28"/>
                    </a:lnTo>
                    <a:lnTo>
                      <a:pt x="210" y="28"/>
                    </a:lnTo>
                    <a:lnTo>
                      <a:pt x="218" y="28"/>
                    </a:lnTo>
                    <a:lnTo>
                      <a:pt x="225" y="28"/>
                    </a:lnTo>
                    <a:lnTo>
                      <a:pt x="233" y="2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 flipH="1">
                <a:off x="2395080" y="3301920"/>
                <a:ext cx="193680" cy="25560"/>
              </a:xfrm>
              <a:custGeom>
                <a:avLst/>
                <a:gdLst/>
                <a:ahLst/>
                <a:rect l="l" t="t" r="r" b="b"/>
                <a:pathLst>
                  <a:path w="246" h="31">
                    <a:moveTo>
                      <a:pt x="44" y="0"/>
                    </a:moveTo>
                    <a:lnTo>
                      <a:pt x="38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185" y="31"/>
                    </a:lnTo>
                    <a:lnTo>
                      <a:pt x="192" y="31"/>
                    </a:lnTo>
                    <a:lnTo>
                      <a:pt x="200" y="31"/>
                    </a:lnTo>
                    <a:lnTo>
                      <a:pt x="207" y="31"/>
                    </a:lnTo>
                    <a:lnTo>
                      <a:pt x="215" y="31"/>
                    </a:lnTo>
                    <a:lnTo>
                      <a:pt x="223" y="31"/>
                    </a:lnTo>
                    <a:lnTo>
                      <a:pt x="230" y="30"/>
                    </a:lnTo>
                    <a:lnTo>
                      <a:pt x="238" y="30"/>
                    </a:lnTo>
                    <a:lnTo>
                      <a:pt x="246" y="2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 flipH="1">
                <a:off x="2380680" y="3300480"/>
                <a:ext cx="190440" cy="27000"/>
              </a:xfrm>
              <a:custGeom>
                <a:avLst/>
                <a:gdLst/>
                <a:ahLst/>
                <a:rect l="l" t="t" r="r" b="b"/>
                <a:pathLst>
                  <a:path w="241" h="34">
                    <a:moveTo>
                      <a:pt x="48" y="0"/>
                    </a:moveTo>
                    <a:lnTo>
                      <a:pt x="42" y="0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193" y="34"/>
                    </a:lnTo>
                    <a:lnTo>
                      <a:pt x="199" y="34"/>
                    </a:lnTo>
                    <a:lnTo>
                      <a:pt x="204" y="34"/>
                    </a:lnTo>
                    <a:lnTo>
                      <a:pt x="210" y="33"/>
                    </a:lnTo>
                    <a:lnTo>
                      <a:pt x="216" y="33"/>
                    </a:lnTo>
                    <a:lnTo>
                      <a:pt x="223" y="33"/>
                    </a:lnTo>
                    <a:lnTo>
                      <a:pt x="228" y="31"/>
                    </a:lnTo>
                    <a:lnTo>
                      <a:pt x="234" y="31"/>
                    </a:lnTo>
                    <a:lnTo>
                      <a:pt x="241" y="31"/>
                    </a:lnTo>
                    <a:lnTo>
                      <a:pt x="238" y="31"/>
                    </a:lnTo>
                    <a:lnTo>
                      <a:pt x="235" y="30"/>
                    </a:lnTo>
                    <a:lnTo>
                      <a:pt x="234" y="29"/>
                    </a:lnTo>
                    <a:lnTo>
                      <a:pt x="232" y="2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 flipH="1">
                <a:off x="2381040" y="3300480"/>
                <a:ext cx="172800" cy="25200"/>
              </a:xfrm>
              <a:custGeom>
                <a:avLst/>
                <a:gdLst/>
                <a:ahLst/>
                <a:rect l="l" t="t" r="r" b="b"/>
                <a:pathLst>
                  <a:path w="219" h="31">
                    <a:moveTo>
                      <a:pt x="61" y="0"/>
                    </a:move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0" y="3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10" y="31"/>
                    </a:lnTo>
                    <a:lnTo>
                      <a:pt x="215" y="31"/>
                    </a:lnTo>
                    <a:lnTo>
                      <a:pt x="219" y="31"/>
                    </a:lnTo>
                    <a:lnTo>
                      <a:pt x="215" y="30"/>
                    </a:lnTo>
                    <a:lnTo>
                      <a:pt x="210" y="28"/>
                    </a:lnTo>
                    <a:lnTo>
                      <a:pt x="204" y="27"/>
                    </a:lnTo>
                    <a:lnTo>
                      <a:pt x="200" y="25"/>
                    </a:lnTo>
                    <a:lnTo>
                      <a:pt x="195" y="23"/>
                    </a:lnTo>
                    <a:lnTo>
                      <a:pt x="190" y="22"/>
                    </a:lnTo>
                    <a:lnTo>
                      <a:pt x="186" y="21"/>
                    </a:lnTo>
                    <a:lnTo>
                      <a:pt x="181" y="2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flipH="1">
                <a:off x="2388960" y="3300480"/>
                <a:ext cx="146160" cy="23760"/>
              </a:xfrm>
              <a:custGeom>
                <a:avLst/>
                <a:gdLst/>
                <a:ahLst/>
                <a:rect l="l" t="t" r="r" b="b"/>
                <a:pathLst>
                  <a:path w="184" h="29">
                    <a:moveTo>
                      <a:pt x="184" y="29"/>
                    </a:moveTo>
                    <a:lnTo>
                      <a:pt x="174" y="25"/>
                    </a:lnTo>
                    <a:lnTo>
                      <a:pt x="163" y="21"/>
                    </a:lnTo>
                    <a:lnTo>
                      <a:pt x="152" y="18"/>
                    </a:lnTo>
                    <a:lnTo>
                      <a:pt x="141" y="14"/>
                    </a:lnTo>
                    <a:lnTo>
                      <a:pt x="130" y="12"/>
                    </a:lnTo>
                    <a:lnTo>
                      <a:pt x="118" y="10"/>
                    </a:lnTo>
                    <a:lnTo>
                      <a:pt x="107" y="7"/>
                    </a:lnTo>
                    <a:lnTo>
                      <a:pt x="95" y="5"/>
                    </a:lnTo>
                    <a:lnTo>
                      <a:pt x="84" y="4"/>
                    </a:lnTo>
                    <a:lnTo>
                      <a:pt x="72" y="3"/>
                    </a:lnTo>
                    <a:lnTo>
                      <a:pt x="60" y="1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84" y="29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>
                <a:off x="2411280" y="3300480"/>
                <a:ext cx="95040" cy="15840"/>
              </a:xfrm>
              <a:custGeom>
                <a:avLst/>
                <a:gdLst/>
                <a:ahLst/>
                <a:rect l="l" t="t" r="r" b="b"/>
                <a:pathLst>
                  <a:path w="120" h="20">
                    <a:moveTo>
                      <a:pt x="120" y="20"/>
                    </a:moveTo>
                    <a:lnTo>
                      <a:pt x="106" y="15"/>
                    </a:lnTo>
                    <a:lnTo>
                      <a:pt x="91" y="12"/>
                    </a:lnTo>
                    <a:lnTo>
                      <a:pt x="78" y="10"/>
                    </a:lnTo>
                    <a:lnTo>
                      <a:pt x="63" y="6"/>
                    </a:lnTo>
                    <a:lnTo>
                      <a:pt x="48" y="5"/>
                    </a:lnTo>
                    <a:lnTo>
                      <a:pt x="33" y="3"/>
                    </a:lnTo>
                    <a:lnTo>
                      <a:pt x="16" y="1"/>
                    </a:lnTo>
                    <a:lnTo>
                      <a:pt x="0" y="0"/>
                    </a:lnTo>
                    <a:lnTo>
                      <a:pt x="120" y="2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flipH="1">
                <a:off x="2715840" y="329400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0" y="29"/>
                    </a:moveTo>
                    <a:lnTo>
                      <a:pt x="0" y="34"/>
                    </a:lnTo>
                    <a:lnTo>
                      <a:pt x="1" y="34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12" y="27"/>
                    </a:lnTo>
                    <a:lnTo>
                      <a:pt x="19" y="21"/>
                    </a:lnTo>
                    <a:lnTo>
                      <a:pt x="26" y="16"/>
                    </a:lnTo>
                    <a:lnTo>
                      <a:pt x="35" y="12"/>
                    </a:lnTo>
                    <a:lnTo>
                      <a:pt x="38" y="14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5" y="22"/>
                    </a:lnTo>
                    <a:lnTo>
                      <a:pt x="50" y="19"/>
                    </a:lnTo>
                    <a:lnTo>
                      <a:pt x="56" y="14"/>
                    </a:lnTo>
                    <a:lnTo>
                      <a:pt x="61" y="10"/>
                    </a:lnTo>
                    <a:lnTo>
                      <a:pt x="66" y="7"/>
                    </a:lnTo>
                    <a:lnTo>
                      <a:pt x="16" y="0"/>
                    </a:lnTo>
                    <a:lnTo>
                      <a:pt x="12" y="7"/>
                    </a:lnTo>
                    <a:lnTo>
                      <a:pt x="8" y="14"/>
                    </a:lnTo>
                    <a:lnTo>
                      <a:pt x="3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flipH="1">
                <a:off x="2766240" y="3290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 flipH="1">
                <a:off x="2768040" y="32907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2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flipH="1">
                <a:off x="2768400" y="3316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 flipH="1">
                <a:off x="2690280" y="327168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85" h="50">
                    <a:moveTo>
                      <a:pt x="0" y="31"/>
                    </a:moveTo>
                    <a:lnTo>
                      <a:pt x="0" y="50"/>
                    </a:lnTo>
                    <a:lnTo>
                      <a:pt x="6" y="47"/>
                    </a:lnTo>
                    <a:lnTo>
                      <a:pt x="11" y="43"/>
                    </a:lnTo>
                    <a:lnTo>
                      <a:pt x="17" y="40"/>
                    </a:lnTo>
                    <a:lnTo>
                      <a:pt x="22" y="38"/>
                    </a:lnTo>
                    <a:lnTo>
                      <a:pt x="25" y="40"/>
                    </a:lnTo>
                    <a:lnTo>
                      <a:pt x="26" y="43"/>
                    </a:lnTo>
                    <a:lnTo>
                      <a:pt x="28" y="46"/>
                    </a:lnTo>
                    <a:lnTo>
                      <a:pt x="32" y="48"/>
                    </a:lnTo>
                    <a:lnTo>
                      <a:pt x="38" y="43"/>
                    </a:lnTo>
                    <a:lnTo>
                      <a:pt x="45" y="39"/>
                    </a:lnTo>
                    <a:lnTo>
                      <a:pt x="52" y="34"/>
                    </a:lnTo>
                    <a:lnTo>
                      <a:pt x="59" y="30"/>
                    </a:lnTo>
                    <a:lnTo>
                      <a:pt x="65" y="25"/>
                    </a:lnTo>
                    <a:lnTo>
                      <a:pt x="72" y="20"/>
                    </a:lnTo>
                    <a:lnTo>
                      <a:pt x="78" y="15"/>
                    </a:lnTo>
                    <a:lnTo>
                      <a:pt x="85" y="10"/>
                    </a:lnTo>
                    <a:lnTo>
                      <a:pt x="20" y="0"/>
                    </a:lnTo>
                    <a:lnTo>
                      <a:pt x="15" y="8"/>
                    </a:lnTo>
                    <a:lnTo>
                      <a:pt x="11" y="15"/>
                    </a:lnTo>
                    <a:lnTo>
                      <a:pt x="6" y="2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 flipH="1">
                <a:off x="2747160" y="3270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13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 flipH="1">
                <a:off x="2757240" y="32702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13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3" y="10"/>
                    </a:lnTo>
                    <a:lnTo>
                      <a:pt x="9" y="19"/>
                    </a:lnTo>
                    <a:lnTo>
                      <a:pt x="5" y="27"/>
                    </a:lnTo>
                    <a:lnTo>
                      <a:pt x="0" y="36"/>
                    </a:lnTo>
                    <a:lnTo>
                      <a:pt x="5" y="29"/>
                    </a:lnTo>
                    <a:lnTo>
                      <a:pt x="9" y="22"/>
                    </a:lnTo>
                    <a:lnTo>
                      <a:pt x="14" y="18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 flipH="1">
                <a:off x="2757240" y="32972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19"/>
                    </a:moveTo>
                    <a:lnTo>
                      <a:pt x="11" y="0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 flipH="1">
                <a:off x="2666520" y="3249720"/>
                <a:ext cx="98280" cy="48960"/>
              </a:xfrm>
              <a:custGeom>
                <a:avLst/>
                <a:gdLst/>
                <a:ahLst/>
                <a:rect l="l" t="t" r="r" b="b"/>
                <a:pathLst>
                  <a:path w="125" h="61">
                    <a:moveTo>
                      <a:pt x="0" y="43"/>
                    </a:moveTo>
                    <a:lnTo>
                      <a:pt x="0" y="47"/>
                    </a:lnTo>
                    <a:lnTo>
                      <a:pt x="4" y="43"/>
                    </a:lnTo>
                    <a:lnTo>
                      <a:pt x="8" y="39"/>
                    </a:lnTo>
                    <a:lnTo>
                      <a:pt x="12" y="36"/>
                    </a:lnTo>
                    <a:lnTo>
                      <a:pt x="16" y="31"/>
                    </a:lnTo>
                    <a:lnTo>
                      <a:pt x="22" y="28"/>
                    </a:lnTo>
                    <a:lnTo>
                      <a:pt x="27" y="23"/>
                    </a:lnTo>
                    <a:lnTo>
                      <a:pt x="32" y="18"/>
                    </a:lnTo>
                    <a:lnTo>
                      <a:pt x="38" y="14"/>
                    </a:lnTo>
                    <a:lnTo>
                      <a:pt x="31" y="24"/>
                    </a:lnTo>
                    <a:lnTo>
                      <a:pt x="26" y="33"/>
                    </a:lnTo>
                    <a:lnTo>
                      <a:pt x="19" y="44"/>
                    </a:lnTo>
                    <a:lnTo>
                      <a:pt x="12" y="54"/>
                    </a:lnTo>
                    <a:lnTo>
                      <a:pt x="62" y="61"/>
                    </a:lnTo>
                    <a:lnTo>
                      <a:pt x="71" y="55"/>
                    </a:lnTo>
                    <a:lnTo>
                      <a:pt x="79" y="50"/>
                    </a:lnTo>
                    <a:lnTo>
                      <a:pt x="87" y="44"/>
                    </a:lnTo>
                    <a:lnTo>
                      <a:pt x="94" y="37"/>
                    </a:lnTo>
                    <a:lnTo>
                      <a:pt x="102" y="31"/>
                    </a:lnTo>
                    <a:lnTo>
                      <a:pt x="110" y="25"/>
                    </a:lnTo>
                    <a:lnTo>
                      <a:pt x="118" y="20"/>
                    </a:lnTo>
                    <a:lnTo>
                      <a:pt x="125" y="14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 flipH="1">
                <a:off x="2763720" y="3246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 flipH="1">
                <a:off x="2764800" y="32464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6"/>
                    </a:moveTo>
                    <a:lnTo>
                      <a:pt x="16" y="0"/>
                    </a:lnTo>
                    <a:lnTo>
                      <a:pt x="2" y="0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 flipH="1">
                <a:off x="2764800" y="3284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4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 flipH="1">
                <a:off x="2642760" y="3228840"/>
                <a:ext cx="106560" cy="50760"/>
              </a:xfrm>
              <a:custGeom>
                <a:avLst/>
                <a:gdLst/>
                <a:ahLst/>
                <a:rect l="l" t="t" r="r" b="b"/>
                <a:pathLst>
                  <a:path w="135" h="65">
                    <a:moveTo>
                      <a:pt x="0" y="27"/>
                    </a:moveTo>
                    <a:lnTo>
                      <a:pt x="0" y="52"/>
                    </a:lnTo>
                    <a:lnTo>
                      <a:pt x="2" y="55"/>
                    </a:lnTo>
                    <a:lnTo>
                      <a:pt x="6" y="51"/>
                    </a:lnTo>
                    <a:lnTo>
                      <a:pt x="9" y="48"/>
                    </a:lnTo>
                    <a:lnTo>
                      <a:pt x="14" y="44"/>
                    </a:lnTo>
                    <a:lnTo>
                      <a:pt x="18" y="41"/>
                    </a:lnTo>
                    <a:lnTo>
                      <a:pt x="16" y="44"/>
                    </a:lnTo>
                    <a:lnTo>
                      <a:pt x="14" y="48"/>
                    </a:lnTo>
                    <a:lnTo>
                      <a:pt x="11" y="51"/>
                    </a:lnTo>
                    <a:lnTo>
                      <a:pt x="9" y="55"/>
                    </a:lnTo>
                    <a:lnTo>
                      <a:pt x="74" y="65"/>
                    </a:lnTo>
                    <a:lnTo>
                      <a:pt x="80" y="59"/>
                    </a:lnTo>
                    <a:lnTo>
                      <a:pt x="89" y="53"/>
                    </a:lnTo>
                    <a:lnTo>
                      <a:pt x="95" y="48"/>
                    </a:lnTo>
                    <a:lnTo>
                      <a:pt x="104" y="42"/>
                    </a:lnTo>
                    <a:lnTo>
                      <a:pt x="112" y="36"/>
                    </a:lnTo>
                    <a:lnTo>
                      <a:pt x="118" y="30"/>
                    </a:lnTo>
                    <a:lnTo>
                      <a:pt x="127" y="25"/>
                    </a:lnTo>
                    <a:lnTo>
                      <a:pt x="135" y="19"/>
                    </a:lnTo>
                    <a:lnTo>
                      <a:pt x="14" y="0"/>
                    </a:lnTo>
                    <a:lnTo>
                      <a:pt x="10" y="6"/>
                    </a:lnTo>
                    <a:lnTo>
                      <a:pt x="7" y="12"/>
                    </a:lnTo>
                    <a:lnTo>
                      <a:pt x="3" y="1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flipH="1">
                <a:off x="2739240" y="322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flipH="1">
                <a:off x="2748960" y="322416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36" y="16"/>
                    </a:moveTo>
                    <a:lnTo>
                      <a:pt x="36" y="4"/>
                    </a:lnTo>
                    <a:lnTo>
                      <a:pt x="7" y="0"/>
                    </a:lnTo>
                    <a:lnTo>
                      <a:pt x="6" y="10"/>
                    </a:lnTo>
                    <a:lnTo>
                      <a:pt x="4" y="21"/>
                    </a:lnTo>
                    <a:lnTo>
                      <a:pt x="2" y="34"/>
                    </a:lnTo>
                    <a:lnTo>
                      <a:pt x="0" y="47"/>
                    </a:lnTo>
                    <a:lnTo>
                      <a:pt x="5" y="43"/>
                    </a:lnTo>
                    <a:lnTo>
                      <a:pt x="9" y="40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2" y="27"/>
                    </a:lnTo>
                    <a:lnTo>
                      <a:pt x="27" y="23"/>
                    </a:lnTo>
                    <a:lnTo>
                      <a:pt x="31" y="19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 flipH="1">
                <a:off x="2749320" y="324972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3" y="25"/>
                    </a:moveTo>
                    <a:lnTo>
                      <a:pt x="13" y="0"/>
                    </a:lnTo>
                    <a:lnTo>
                      <a:pt x="9" y="6"/>
                    </a:lnTo>
                    <a:lnTo>
                      <a:pt x="7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 flipH="1">
                <a:off x="2615760" y="3203640"/>
                <a:ext cx="160560" cy="57240"/>
              </a:xfrm>
              <a:custGeom>
                <a:avLst/>
                <a:gdLst/>
                <a:ahLst/>
                <a:rect l="l" t="t" r="r" b="b"/>
                <a:pathLst>
                  <a:path w="202" h="74">
                    <a:moveTo>
                      <a:pt x="34" y="60"/>
                    </a:moveTo>
                    <a:lnTo>
                      <a:pt x="37" y="51"/>
                    </a:lnTo>
                    <a:lnTo>
                      <a:pt x="41" y="43"/>
                    </a:lnTo>
                    <a:lnTo>
                      <a:pt x="45" y="36"/>
                    </a:lnTo>
                    <a:lnTo>
                      <a:pt x="50" y="29"/>
                    </a:lnTo>
                    <a:lnTo>
                      <a:pt x="42" y="36"/>
                    </a:lnTo>
                    <a:lnTo>
                      <a:pt x="34" y="43"/>
                    </a:lnTo>
                    <a:lnTo>
                      <a:pt x="26" y="50"/>
                    </a:lnTo>
                    <a:lnTo>
                      <a:pt x="17" y="57"/>
                    </a:lnTo>
                    <a:lnTo>
                      <a:pt x="0" y="54"/>
                    </a:lnTo>
                    <a:lnTo>
                      <a:pt x="3" y="40"/>
                    </a:lnTo>
                    <a:lnTo>
                      <a:pt x="5" y="27"/>
                    </a:lnTo>
                    <a:lnTo>
                      <a:pt x="8" y="13"/>
                    </a:lnTo>
                    <a:lnTo>
                      <a:pt x="12" y="0"/>
                    </a:lnTo>
                    <a:lnTo>
                      <a:pt x="202" y="29"/>
                    </a:lnTo>
                    <a:lnTo>
                      <a:pt x="194" y="35"/>
                    </a:lnTo>
                    <a:lnTo>
                      <a:pt x="186" y="39"/>
                    </a:lnTo>
                    <a:lnTo>
                      <a:pt x="178" y="45"/>
                    </a:lnTo>
                    <a:lnTo>
                      <a:pt x="171" y="51"/>
                    </a:lnTo>
                    <a:lnTo>
                      <a:pt x="163" y="58"/>
                    </a:lnTo>
                    <a:lnTo>
                      <a:pt x="155" y="63"/>
                    </a:lnTo>
                    <a:lnTo>
                      <a:pt x="147" y="68"/>
                    </a:lnTo>
                    <a:lnTo>
                      <a:pt x="139" y="74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c15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 flipH="1">
                <a:off x="1632960" y="337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c15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 flipH="1">
                <a:off x="2588760" y="3181320"/>
                <a:ext cx="182880" cy="61920"/>
              </a:xfrm>
              <a:custGeom>
                <a:avLst/>
                <a:gdLst/>
                <a:ahLst/>
                <a:rect l="l" t="t" r="r" b="b"/>
                <a:pathLst>
                  <a:path w="230" h="78">
                    <a:moveTo>
                      <a:pt x="43" y="59"/>
                    </a:moveTo>
                    <a:lnTo>
                      <a:pt x="43" y="58"/>
                    </a:lnTo>
                    <a:lnTo>
                      <a:pt x="44" y="57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4" y="56"/>
                    </a:lnTo>
                    <a:lnTo>
                      <a:pt x="43" y="57"/>
                    </a:lnTo>
                    <a:lnTo>
                      <a:pt x="41" y="58"/>
                    </a:lnTo>
                    <a:lnTo>
                      <a:pt x="40" y="59"/>
                    </a:lnTo>
                    <a:lnTo>
                      <a:pt x="0" y="53"/>
                    </a:lnTo>
                    <a:lnTo>
                      <a:pt x="3" y="39"/>
                    </a:lnTo>
                    <a:lnTo>
                      <a:pt x="8" y="25"/>
                    </a:lnTo>
                    <a:lnTo>
                      <a:pt x="14" y="12"/>
                    </a:lnTo>
                    <a:lnTo>
                      <a:pt x="18" y="0"/>
                    </a:lnTo>
                    <a:lnTo>
                      <a:pt x="230" y="31"/>
                    </a:lnTo>
                    <a:lnTo>
                      <a:pt x="222" y="36"/>
                    </a:lnTo>
                    <a:lnTo>
                      <a:pt x="213" y="42"/>
                    </a:lnTo>
                    <a:lnTo>
                      <a:pt x="205" y="48"/>
                    </a:lnTo>
                    <a:lnTo>
                      <a:pt x="197" y="54"/>
                    </a:lnTo>
                    <a:lnTo>
                      <a:pt x="188" y="61"/>
                    </a:lnTo>
                    <a:lnTo>
                      <a:pt x="180" y="66"/>
                    </a:lnTo>
                    <a:lnTo>
                      <a:pt x="172" y="72"/>
                    </a:lnTo>
                    <a:lnTo>
                      <a:pt x="164" y="78"/>
                    </a:lnTo>
                    <a:lnTo>
                      <a:pt x="43" y="59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 flipH="1">
                <a:off x="1626840" y="334980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7" y="2"/>
                    </a:moveTo>
                    <a:lnTo>
                      <a:pt x="24" y="11"/>
                    </a:lnTo>
                    <a:lnTo>
                      <a:pt x="22" y="19"/>
                    </a:lnTo>
                    <a:lnTo>
                      <a:pt x="19" y="27"/>
                    </a:lnTo>
                    <a:lnTo>
                      <a:pt x="15" y="35"/>
                    </a:lnTo>
                    <a:lnTo>
                      <a:pt x="12" y="25"/>
                    </a:lnTo>
                    <a:lnTo>
                      <a:pt x="8" y="16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 flipH="1">
                <a:off x="2563560" y="3160800"/>
                <a:ext cx="203040" cy="65160"/>
              </a:xfrm>
              <a:custGeom>
                <a:avLst/>
                <a:gdLst/>
                <a:ahLst/>
                <a:rect l="l" t="t" r="r" b="b"/>
                <a:pathLst>
                  <a:path w="257" h="82">
                    <a:moveTo>
                      <a:pt x="26" y="0"/>
                    </a:moveTo>
                    <a:lnTo>
                      <a:pt x="20" y="13"/>
                    </a:lnTo>
                    <a:lnTo>
                      <a:pt x="13" y="25"/>
                    </a:lnTo>
                    <a:lnTo>
                      <a:pt x="6" y="39"/>
                    </a:lnTo>
                    <a:lnTo>
                      <a:pt x="0" y="53"/>
                    </a:lnTo>
                    <a:lnTo>
                      <a:pt x="190" y="82"/>
                    </a:lnTo>
                    <a:lnTo>
                      <a:pt x="198" y="76"/>
                    </a:lnTo>
                    <a:lnTo>
                      <a:pt x="206" y="69"/>
                    </a:lnTo>
                    <a:lnTo>
                      <a:pt x="214" y="63"/>
                    </a:lnTo>
                    <a:lnTo>
                      <a:pt x="223" y="58"/>
                    </a:lnTo>
                    <a:lnTo>
                      <a:pt x="232" y="52"/>
                    </a:lnTo>
                    <a:lnTo>
                      <a:pt x="240" y="47"/>
                    </a:lnTo>
                    <a:lnTo>
                      <a:pt x="249" y="42"/>
                    </a:lnTo>
                    <a:lnTo>
                      <a:pt x="257" y="3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 flipH="1">
                <a:off x="1620360" y="332568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29" y="63"/>
                    </a:moveTo>
                    <a:lnTo>
                      <a:pt x="33" y="47"/>
                    </a:lnTo>
                    <a:lnTo>
                      <a:pt x="39" y="33"/>
                    </a:lnTo>
                    <a:lnTo>
                      <a:pt x="42" y="19"/>
                    </a:lnTo>
                    <a:lnTo>
                      <a:pt x="45" y="7"/>
                    </a:lnTo>
                    <a:lnTo>
                      <a:pt x="0" y="0"/>
                    </a:lnTo>
                    <a:lnTo>
                      <a:pt x="3" y="15"/>
                    </a:lnTo>
                    <a:lnTo>
                      <a:pt x="10" y="29"/>
                    </a:lnTo>
                    <a:lnTo>
                      <a:pt x="17" y="44"/>
                    </a:lnTo>
                    <a:lnTo>
                      <a:pt x="23" y="60"/>
                    </a:lnTo>
                    <a:lnTo>
                      <a:pt x="29" y="63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 flipH="1">
                <a:off x="2536200" y="3139920"/>
                <a:ext cx="220680" cy="66960"/>
              </a:xfrm>
              <a:custGeom>
                <a:avLst/>
                <a:gdLst/>
                <a:ahLst/>
                <a:rect l="l" t="t" r="r" b="b"/>
                <a:pathLst>
                  <a:path w="279" h="83">
                    <a:moveTo>
                      <a:pt x="32" y="0"/>
                    </a:moveTo>
                    <a:lnTo>
                      <a:pt x="23" y="12"/>
                    </a:lnTo>
                    <a:lnTo>
                      <a:pt x="15" y="25"/>
                    </a:lnTo>
                    <a:lnTo>
                      <a:pt x="9" y="38"/>
                    </a:lnTo>
                    <a:lnTo>
                      <a:pt x="0" y="52"/>
                    </a:lnTo>
                    <a:lnTo>
                      <a:pt x="212" y="83"/>
                    </a:lnTo>
                    <a:lnTo>
                      <a:pt x="221" y="77"/>
                    </a:lnTo>
                    <a:lnTo>
                      <a:pt x="230" y="72"/>
                    </a:lnTo>
                    <a:lnTo>
                      <a:pt x="238" y="67"/>
                    </a:lnTo>
                    <a:lnTo>
                      <a:pt x="246" y="60"/>
                    </a:lnTo>
                    <a:lnTo>
                      <a:pt x="255" y="54"/>
                    </a:lnTo>
                    <a:lnTo>
                      <a:pt x="263" y="48"/>
                    </a:lnTo>
                    <a:lnTo>
                      <a:pt x="271" y="43"/>
                    </a:lnTo>
                    <a:lnTo>
                      <a:pt x="279" y="3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c4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 flipH="1">
                <a:off x="1620720" y="3298680"/>
                <a:ext cx="69840" cy="52560"/>
              </a:xfrm>
              <a:custGeom>
                <a:avLst/>
                <a:gdLst/>
                <a:ahLst/>
                <a:rect l="l" t="t" r="r" b="b"/>
                <a:pathLst>
                  <a:path w="89" h="67">
                    <a:moveTo>
                      <a:pt x="81" y="67"/>
                    </a:moveTo>
                    <a:lnTo>
                      <a:pt x="85" y="52"/>
                    </a:lnTo>
                    <a:lnTo>
                      <a:pt x="88" y="38"/>
                    </a:lnTo>
                    <a:lnTo>
                      <a:pt x="89" y="25"/>
                    </a:lnTo>
                    <a:lnTo>
                      <a:pt x="88" y="1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9" y="7"/>
                    </a:lnTo>
                    <a:lnTo>
                      <a:pt x="14" y="10"/>
                    </a:lnTo>
                    <a:lnTo>
                      <a:pt x="20" y="14"/>
                    </a:lnTo>
                    <a:lnTo>
                      <a:pt x="24" y="16"/>
                    </a:lnTo>
                    <a:lnTo>
                      <a:pt x="30" y="18"/>
                    </a:lnTo>
                    <a:lnTo>
                      <a:pt x="37" y="22"/>
                    </a:lnTo>
                    <a:lnTo>
                      <a:pt x="43" y="24"/>
                    </a:lnTo>
                    <a:lnTo>
                      <a:pt x="43" y="35"/>
                    </a:lnTo>
                    <a:lnTo>
                      <a:pt x="45" y="44"/>
                    </a:lnTo>
                    <a:lnTo>
                      <a:pt x="50" y="54"/>
                    </a:lnTo>
                    <a:lnTo>
                      <a:pt x="54" y="65"/>
                    </a:lnTo>
                    <a:lnTo>
                      <a:pt x="81" y="67"/>
                    </a:lnTo>
                    <a:close/>
                  </a:path>
                </a:pathLst>
              </a:custGeom>
              <a:solidFill>
                <a:srgbClr val="bc4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 flipH="1">
                <a:off x="2506320" y="3121200"/>
                <a:ext cx="239760" cy="68040"/>
              </a:xfrm>
              <a:custGeom>
                <a:avLst/>
                <a:gdLst/>
                <a:ahLst/>
                <a:rect l="l" t="t" r="r" b="b"/>
                <a:pathLst>
                  <a:path w="302" h="86">
                    <a:moveTo>
                      <a:pt x="36" y="0"/>
                    </a:moveTo>
                    <a:lnTo>
                      <a:pt x="32" y="6"/>
                    </a:lnTo>
                    <a:lnTo>
                      <a:pt x="27" y="12"/>
                    </a:lnTo>
                    <a:lnTo>
                      <a:pt x="21" y="18"/>
                    </a:lnTo>
                    <a:lnTo>
                      <a:pt x="17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4" y="43"/>
                    </a:lnTo>
                    <a:lnTo>
                      <a:pt x="0" y="50"/>
                    </a:lnTo>
                    <a:lnTo>
                      <a:pt x="231" y="86"/>
                    </a:lnTo>
                    <a:lnTo>
                      <a:pt x="240" y="80"/>
                    </a:lnTo>
                    <a:lnTo>
                      <a:pt x="249" y="74"/>
                    </a:lnTo>
                    <a:lnTo>
                      <a:pt x="259" y="68"/>
                    </a:lnTo>
                    <a:lnTo>
                      <a:pt x="267" y="63"/>
                    </a:lnTo>
                    <a:lnTo>
                      <a:pt x="276" y="57"/>
                    </a:lnTo>
                    <a:lnTo>
                      <a:pt x="285" y="52"/>
                    </a:lnTo>
                    <a:lnTo>
                      <a:pt x="293" y="47"/>
                    </a:lnTo>
                    <a:lnTo>
                      <a:pt x="302" y="4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 flipH="1">
                <a:off x="1620360" y="3270240"/>
                <a:ext cx="104760" cy="60480"/>
              </a:xfrm>
              <a:custGeom>
                <a:avLst/>
                <a:gdLst/>
                <a:ahLst/>
                <a:rect l="l" t="t" r="r" b="b"/>
                <a:pathLst>
                  <a:path w="133" h="76">
                    <a:moveTo>
                      <a:pt x="132" y="76"/>
                    </a:moveTo>
                    <a:lnTo>
                      <a:pt x="133" y="61"/>
                    </a:lnTo>
                    <a:lnTo>
                      <a:pt x="132" y="46"/>
                    </a:lnTo>
                    <a:lnTo>
                      <a:pt x="131" y="33"/>
                    </a:lnTo>
                    <a:lnTo>
                      <a:pt x="127" y="20"/>
                    </a:lnTo>
                    <a:lnTo>
                      <a:pt x="0" y="0"/>
                    </a:lnTo>
                    <a:lnTo>
                      <a:pt x="11" y="10"/>
                    </a:lnTo>
                    <a:lnTo>
                      <a:pt x="21" y="18"/>
                    </a:lnTo>
                    <a:lnTo>
                      <a:pt x="31" y="27"/>
                    </a:lnTo>
                    <a:lnTo>
                      <a:pt x="41" y="34"/>
                    </a:lnTo>
                    <a:lnTo>
                      <a:pt x="51" y="42"/>
                    </a:lnTo>
                    <a:lnTo>
                      <a:pt x="63" y="49"/>
                    </a:lnTo>
                    <a:lnTo>
                      <a:pt x="74" y="54"/>
                    </a:lnTo>
                    <a:lnTo>
                      <a:pt x="87" y="60"/>
                    </a:lnTo>
                    <a:lnTo>
                      <a:pt x="87" y="63"/>
                    </a:lnTo>
                    <a:lnTo>
                      <a:pt x="87" y="65"/>
                    </a:lnTo>
                    <a:lnTo>
                      <a:pt x="87" y="67"/>
                    </a:lnTo>
                    <a:lnTo>
                      <a:pt x="87" y="69"/>
                    </a:lnTo>
                    <a:lnTo>
                      <a:pt x="132" y="76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 flipH="1">
                <a:off x="2475720" y="3102120"/>
                <a:ext cx="257400" cy="68040"/>
              </a:xfrm>
              <a:custGeom>
                <a:avLst/>
                <a:gdLst/>
                <a:ahLst/>
                <a:rect l="l" t="t" r="r" b="b"/>
                <a:pathLst>
                  <a:path w="323" h="87">
                    <a:moveTo>
                      <a:pt x="42" y="0"/>
                    </a:moveTo>
                    <a:lnTo>
                      <a:pt x="36" y="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0" y="23"/>
                    </a:lnTo>
                    <a:lnTo>
                      <a:pt x="15" y="30"/>
                    </a:lnTo>
                    <a:lnTo>
                      <a:pt x="10" y="36"/>
                    </a:lnTo>
                    <a:lnTo>
                      <a:pt x="4" y="42"/>
                    </a:lnTo>
                    <a:lnTo>
                      <a:pt x="0" y="49"/>
                    </a:lnTo>
                    <a:lnTo>
                      <a:pt x="247" y="87"/>
                    </a:lnTo>
                    <a:lnTo>
                      <a:pt x="254" y="82"/>
                    </a:lnTo>
                    <a:lnTo>
                      <a:pt x="261" y="77"/>
                    </a:lnTo>
                    <a:lnTo>
                      <a:pt x="268" y="74"/>
                    </a:lnTo>
                    <a:lnTo>
                      <a:pt x="275" y="69"/>
                    </a:lnTo>
                    <a:lnTo>
                      <a:pt x="282" y="66"/>
                    </a:lnTo>
                    <a:lnTo>
                      <a:pt x="289" y="61"/>
                    </a:lnTo>
                    <a:lnTo>
                      <a:pt x="296" y="58"/>
                    </a:lnTo>
                    <a:lnTo>
                      <a:pt x="303" y="53"/>
                    </a:lnTo>
                    <a:lnTo>
                      <a:pt x="308" y="51"/>
                    </a:lnTo>
                    <a:lnTo>
                      <a:pt x="313" y="49"/>
                    </a:lnTo>
                    <a:lnTo>
                      <a:pt x="319" y="45"/>
                    </a:lnTo>
                    <a:lnTo>
                      <a:pt x="323" y="4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 flipH="1">
                <a:off x="1620720" y="3243240"/>
                <a:ext cx="139680" cy="65160"/>
              </a:xfrm>
              <a:custGeom>
                <a:avLst/>
                <a:gdLst/>
                <a:ahLst/>
                <a:rect l="l" t="t" r="r" b="b"/>
                <a:pathLst>
                  <a:path w="177" h="82">
                    <a:moveTo>
                      <a:pt x="177" y="82"/>
                    </a:moveTo>
                    <a:lnTo>
                      <a:pt x="176" y="67"/>
                    </a:lnTo>
                    <a:lnTo>
                      <a:pt x="171" y="52"/>
                    </a:lnTo>
                    <a:lnTo>
                      <a:pt x="164" y="37"/>
                    </a:lnTo>
                    <a:lnTo>
                      <a:pt x="155" y="2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7" y="5"/>
                    </a:lnTo>
                    <a:lnTo>
                      <a:pt x="13" y="7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6" y="17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5" y="17"/>
                    </a:lnTo>
                    <a:lnTo>
                      <a:pt x="45" y="22"/>
                    </a:lnTo>
                    <a:lnTo>
                      <a:pt x="45" y="26"/>
                    </a:lnTo>
                    <a:lnTo>
                      <a:pt x="45" y="30"/>
                    </a:lnTo>
                    <a:lnTo>
                      <a:pt x="45" y="33"/>
                    </a:lnTo>
                    <a:lnTo>
                      <a:pt x="51" y="38"/>
                    </a:lnTo>
                    <a:lnTo>
                      <a:pt x="57" y="43"/>
                    </a:lnTo>
                    <a:lnTo>
                      <a:pt x="61" y="47"/>
                    </a:lnTo>
                    <a:lnTo>
                      <a:pt x="67" y="52"/>
                    </a:lnTo>
                    <a:lnTo>
                      <a:pt x="73" y="56"/>
                    </a:lnTo>
                    <a:lnTo>
                      <a:pt x="78" y="60"/>
                    </a:lnTo>
                    <a:lnTo>
                      <a:pt x="83" y="64"/>
                    </a:lnTo>
                    <a:lnTo>
                      <a:pt x="89" y="69"/>
                    </a:lnTo>
                    <a:lnTo>
                      <a:pt x="177" y="82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 flipH="1">
                <a:off x="2431800" y="3084480"/>
                <a:ext cx="285840" cy="68400"/>
              </a:xfrm>
              <a:custGeom>
                <a:avLst/>
                <a:gdLst/>
                <a:ahLst/>
                <a:rect l="l" t="t" r="r" b="b"/>
                <a:pathLst>
                  <a:path w="360" h="88">
                    <a:moveTo>
                      <a:pt x="52" y="0"/>
                    </a:moveTo>
                    <a:lnTo>
                      <a:pt x="45" y="6"/>
                    </a:lnTo>
                    <a:lnTo>
                      <a:pt x="38" y="11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8"/>
                    </a:lnTo>
                    <a:lnTo>
                      <a:pt x="13" y="34"/>
                    </a:lnTo>
                    <a:lnTo>
                      <a:pt x="6" y="41"/>
                    </a:lnTo>
                    <a:lnTo>
                      <a:pt x="0" y="47"/>
                    </a:lnTo>
                    <a:lnTo>
                      <a:pt x="266" y="88"/>
                    </a:lnTo>
                    <a:lnTo>
                      <a:pt x="270" y="84"/>
                    </a:lnTo>
                    <a:lnTo>
                      <a:pt x="276" y="82"/>
                    </a:lnTo>
                    <a:lnTo>
                      <a:pt x="280" y="80"/>
                    </a:lnTo>
                    <a:lnTo>
                      <a:pt x="284" y="76"/>
                    </a:lnTo>
                    <a:lnTo>
                      <a:pt x="291" y="72"/>
                    </a:lnTo>
                    <a:lnTo>
                      <a:pt x="299" y="67"/>
                    </a:lnTo>
                    <a:lnTo>
                      <a:pt x="308" y="64"/>
                    </a:lnTo>
                    <a:lnTo>
                      <a:pt x="317" y="59"/>
                    </a:lnTo>
                    <a:lnTo>
                      <a:pt x="326" y="56"/>
                    </a:lnTo>
                    <a:lnTo>
                      <a:pt x="338" y="52"/>
                    </a:lnTo>
                    <a:lnTo>
                      <a:pt x="348" y="49"/>
                    </a:lnTo>
                    <a:lnTo>
                      <a:pt x="360" y="4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b7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 flipH="1">
                <a:off x="1623600" y="3216240"/>
                <a:ext cx="176400" cy="69840"/>
              </a:xfrm>
              <a:custGeom>
                <a:avLst/>
                <a:gdLst/>
                <a:ahLst/>
                <a:rect l="l" t="t" r="r" b="b"/>
                <a:pathLst>
                  <a:path w="221" h="89">
                    <a:moveTo>
                      <a:pt x="221" y="89"/>
                    </a:moveTo>
                    <a:lnTo>
                      <a:pt x="218" y="82"/>
                    </a:lnTo>
                    <a:lnTo>
                      <a:pt x="213" y="74"/>
                    </a:lnTo>
                    <a:lnTo>
                      <a:pt x="210" y="67"/>
                    </a:lnTo>
                    <a:lnTo>
                      <a:pt x="205" y="59"/>
                    </a:lnTo>
                    <a:lnTo>
                      <a:pt x="199" y="52"/>
                    </a:lnTo>
                    <a:lnTo>
                      <a:pt x="193" y="44"/>
                    </a:lnTo>
                    <a:lnTo>
                      <a:pt x="188" y="36"/>
                    </a:lnTo>
                    <a:lnTo>
                      <a:pt x="181" y="2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30" y="11"/>
                    </a:lnTo>
                    <a:lnTo>
                      <a:pt x="38" y="13"/>
                    </a:lnTo>
                    <a:lnTo>
                      <a:pt x="45" y="15"/>
                    </a:lnTo>
                    <a:lnTo>
                      <a:pt x="53" y="16"/>
                    </a:lnTo>
                    <a:lnTo>
                      <a:pt x="61" y="17"/>
                    </a:lnTo>
                    <a:lnTo>
                      <a:pt x="59" y="24"/>
                    </a:lnTo>
                    <a:lnTo>
                      <a:pt x="56" y="29"/>
                    </a:lnTo>
                    <a:lnTo>
                      <a:pt x="53" y="34"/>
                    </a:lnTo>
                    <a:lnTo>
                      <a:pt x="49" y="38"/>
                    </a:lnTo>
                    <a:lnTo>
                      <a:pt x="56" y="41"/>
                    </a:lnTo>
                    <a:lnTo>
                      <a:pt x="62" y="43"/>
                    </a:lnTo>
                    <a:lnTo>
                      <a:pt x="69" y="44"/>
                    </a:lnTo>
                    <a:lnTo>
                      <a:pt x="76" y="46"/>
                    </a:lnTo>
                    <a:lnTo>
                      <a:pt x="83" y="49"/>
                    </a:lnTo>
                    <a:lnTo>
                      <a:pt x="90" y="51"/>
                    </a:lnTo>
                    <a:lnTo>
                      <a:pt x="95" y="53"/>
                    </a:lnTo>
                    <a:lnTo>
                      <a:pt x="102" y="55"/>
                    </a:lnTo>
                    <a:lnTo>
                      <a:pt x="100" y="55"/>
                    </a:lnTo>
                    <a:lnTo>
                      <a:pt x="98" y="55"/>
                    </a:lnTo>
                    <a:lnTo>
                      <a:pt x="97" y="54"/>
                    </a:lnTo>
                    <a:lnTo>
                      <a:pt x="94" y="53"/>
                    </a:lnTo>
                    <a:lnTo>
                      <a:pt x="94" y="58"/>
                    </a:lnTo>
                    <a:lnTo>
                      <a:pt x="94" y="62"/>
                    </a:lnTo>
                    <a:lnTo>
                      <a:pt x="94" y="66"/>
                    </a:lnTo>
                    <a:lnTo>
                      <a:pt x="94" y="69"/>
                    </a:lnTo>
                    <a:lnTo>
                      <a:pt x="94" y="69"/>
                    </a:lnTo>
                    <a:lnTo>
                      <a:pt x="221" y="89"/>
                    </a:lnTo>
                    <a:close/>
                  </a:path>
                </a:pathLst>
              </a:custGeom>
              <a:solidFill>
                <a:srgbClr val="b7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 flipH="1">
                <a:off x="2368080" y="3065400"/>
                <a:ext cx="330120" cy="68400"/>
              </a:xfrm>
              <a:custGeom>
                <a:avLst/>
                <a:gdLst/>
                <a:ahLst/>
                <a:rect l="l" t="t" r="r" b="b"/>
                <a:pathLst>
                  <a:path w="417" h="88">
                    <a:moveTo>
                      <a:pt x="58" y="0"/>
                    </a:moveTo>
                    <a:lnTo>
                      <a:pt x="50" y="6"/>
                    </a:lnTo>
                    <a:lnTo>
                      <a:pt x="43" y="10"/>
                    </a:lnTo>
                    <a:lnTo>
                      <a:pt x="35" y="16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4" y="35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281" y="88"/>
                    </a:lnTo>
                    <a:lnTo>
                      <a:pt x="295" y="83"/>
                    </a:lnTo>
                    <a:lnTo>
                      <a:pt x="310" y="77"/>
                    </a:lnTo>
                    <a:lnTo>
                      <a:pt x="326" y="73"/>
                    </a:lnTo>
                    <a:lnTo>
                      <a:pt x="344" y="69"/>
                    </a:lnTo>
                    <a:lnTo>
                      <a:pt x="361" y="65"/>
                    </a:lnTo>
                    <a:lnTo>
                      <a:pt x="379" y="61"/>
                    </a:lnTo>
                    <a:lnTo>
                      <a:pt x="398" y="58"/>
                    </a:lnTo>
                    <a:lnTo>
                      <a:pt x="417" y="5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538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>
                <a:off x="1638000" y="3182760"/>
                <a:ext cx="223920" cy="78120"/>
              </a:xfrm>
              <a:custGeom>
                <a:avLst/>
                <a:gdLst/>
                <a:ahLst/>
                <a:rect l="l" t="t" r="r" b="b"/>
                <a:pathLst>
                  <a:path w="281" h="98">
                    <a:moveTo>
                      <a:pt x="240" y="36"/>
                    </a:moveTo>
                    <a:lnTo>
                      <a:pt x="240" y="37"/>
                    </a:lnTo>
                    <a:lnTo>
                      <a:pt x="242" y="39"/>
                    </a:lnTo>
                    <a:lnTo>
                      <a:pt x="243" y="40"/>
                    </a:lnTo>
                    <a:lnTo>
                      <a:pt x="243" y="40"/>
                    </a:lnTo>
                    <a:lnTo>
                      <a:pt x="243" y="42"/>
                    </a:lnTo>
                    <a:lnTo>
                      <a:pt x="243" y="45"/>
                    </a:lnTo>
                    <a:lnTo>
                      <a:pt x="243" y="48"/>
                    </a:lnTo>
                    <a:lnTo>
                      <a:pt x="243" y="51"/>
                    </a:lnTo>
                    <a:lnTo>
                      <a:pt x="249" y="57"/>
                    </a:lnTo>
                    <a:lnTo>
                      <a:pt x="253" y="63"/>
                    </a:lnTo>
                    <a:lnTo>
                      <a:pt x="259" y="70"/>
                    </a:lnTo>
                    <a:lnTo>
                      <a:pt x="263" y="76"/>
                    </a:lnTo>
                    <a:lnTo>
                      <a:pt x="268" y="82"/>
                    </a:lnTo>
                    <a:lnTo>
                      <a:pt x="272" y="87"/>
                    </a:lnTo>
                    <a:lnTo>
                      <a:pt x="276" y="92"/>
                    </a:lnTo>
                    <a:lnTo>
                      <a:pt x="281" y="98"/>
                    </a:lnTo>
                    <a:lnTo>
                      <a:pt x="129" y="76"/>
                    </a:lnTo>
                    <a:lnTo>
                      <a:pt x="132" y="71"/>
                    </a:lnTo>
                    <a:lnTo>
                      <a:pt x="134" y="68"/>
                    </a:lnTo>
                    <a:lnTo>
                      <a:pt x="136" y="63"/>
                    </a:lnTo>
                    <a:lnTo>
                      <a:pt x="138" y="57"/>
                    </a:lnTo>
                    <a:lnTo>
                      <a:pt x="119" y="54"/>
                    </a:lnTo>
                    <a:lnTo>
                      <a:pt x="102" y="49"/>
                    </a:lnTo>
                    <a:lnTo>
                      <a:pt x="85" y="44"/>
                    </a:lnTo>
                    <a:lnTo>
                      <a:pt x="68" y="36"/>
                    </a:lnTo>
                    <a:lnTo>
                      <a:pt x="50" y="27"/>
                    </a:lnTo>
                    <a:lnTo>
                      <a:pt x="34" y="19"/>
                    </a:lnTo>
                    <a:lnTo>
                      <a:pt x="17" y="10"/>
                    </a:lnTo>
                    <a:lnTo>
                      <a:pt x="0" y="0"/>
                    </a:lnTo>
                    <a:lnTo>
                      <a:pt x="240" y="36"/>
                    </a:lnTo>
                    <a:close/>
                  </a:path>
                </a:pathLst>
              </a:custGeom>
              <a:solidFill>
                <a:srgbClr val="b538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 flipH="1">
                <a:off x="2269440" y="3044880"/>
                <a:ext cx="406440" cy="74520"/>
              </a:xfrm>
              <a:custGeom>
                <a:avLst/>
                <a:gdLst/>
                <a:ahLst/>
                <a:rect l="l" t="t" r="r" b="b"/>
                <a:pathLst>
                  <a:path w="513" h="93">
                    <a:moveTo>
                      <a:pt x="65" y="0"/>
                    </a:moveTo>
                    <a:lnTo>
                      <a:pt x="55" y="6"/>
                    </a:lnTo>
                    <a:lnTo>
                      <a:pt x="47" y="11"/>
                    </a:lnTo>
                    <a:lnTo>
                      <a:pt x="39" y="17"/>
                    </a:lnTo>
                    <a:lnTo>
                      <a:pt x="31" y="22"/>
                    </a:lnTo>
                    <a:lnTo>
                      <a:pt x="23" y="29"/>
                    </a:lnTo>
                    <a:lnTo>
                      <a:pt x="15" y="34"/>
                    </a:lnTo>
                    <a:lnTo>
                      <a:pt x="7" y="41"/>
                    </a:lnTo>
                    <a:lnTo>
                      <a:pt x="0" y="48"/>
                    </a:lnTo>
                    <a:lnTo>
                      <a:pt x="308" y="93"/>
                    </a:lnTo>
                    <a:lnTo>
                      <a:pt x="319" y="91"/>
                    </a:lnTo>
                    <a:lnTo>
                      <a:pt x="330" y="87"/>
                    </a:lnTo>
                    <a:lnTo>
                      <a:pt x="341" y="85"/>
                    </a:lnTo>
                    <a:lnTo>
                      <a:pt x="354" y="83"/>
                    </a:lnTo>
                    <a:lnTo>
                      <a:pt x="365" y="81"/>
                    </a:lnTo>
                    <a:lnTo>
                      <a:pt x="378" y="79"/>
                    </a:lnTo>
                    <a:lnTo>
                      <a:pt x="391" y="77"/>
                    </a:lnTo>
                    <a:lnTo>
                      <a:pt x="403" y="76"/>
                    </a:lnTo>
                    <a:lnTo>
                      <a:pt x="416" y="74"/>
                    </a:lnTo>
                    <a:lnTo>
                      <a:pt x="430" y="72"/>
                    </a:lnTo>
                    <a:lnTo>
                      <a:pt x="444" y="71"/>
                    </a:lnTo>
                    <a:lnTo>
                      <a:pt x="456" y="70"/>
                    </a:lnTo>
                    <a:lnTo>
                      <a:pt x="470" y="70"/>
                    </a:lnTo>
                    <a:lnTo>
                      <a:pt x="484" y="69"/>
                    </a:lnTo>
                    <a:lnTo>
                      <a:pt x="499" y="69"/>
                    </a:lnTo>
                    <a:lnTo>
                      <a:pt x="513" y="69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53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 flipH="1">
                <a:off x="1657080" y="3152880"/>
                <a:ext cx="263520" cy="83880"/>
              </a:xfrm>
              <a:custGeom>
                <a:avLst/>
                <a:gdLst/>
                <a:ahLst/>
                <a:rect l="l" t="t" r="r" b="b"/>
                <a:pathLst>
                  <a:path w="332" h="105">
                    <a:moveTo>
                      <a:pt x="279" y="40"/>
                    </a:moveTo>
                    <a:lnTo>
                      <a:pt x="284" y="46"/>
                    </a:lnTo>
                    <a:lnTo>
                      <a:pt x="291" y="52"/>
                    </a:lnTo>
                    <a:lnTo>
                      <a:pt x="296" y="56"/>
                    </a:lnTo>
                    <a:lnTo>
                      <a:pt x="302" y="61"/>
                    </a:lnTo>
                    <a:lnTo>
                      <a:pt x="306" y="65"/>
                    </a:lnTo>
                    <a:lnTo>
                      <a:pt x="310" y="70"/>
                    </a:lnTo>
                    <a:lnTo>
                      <a:pt x="313" y="75"/>
                    </a:lnTo>
                    <a:lnTo>
                      <a:pt x="317" y="78"/>
                    </a:lnTo>
                    <a:lnTo>
                      <a:pt x="317" y="80"/>
                    </a:lnTo>
                    <a:lnTo>
                      <a:pt x="317" y="83"/>
                    </a:lnTo>
                    <a:lnTo>
                      <a:pt x="317" y="86"/>
                    </a:lnTo>
                    <a:lnTo>
                      <a:pt x="317" y="89"/>
                    </a:lnTo>
                    <a:lnTo>
                      <a:pt x="321" y="92"/>
                    </a:lnTo>
                    <a:lnTo>
                      <a:pt x="325" y="97"/>
                    </a:lnTo>
                    <a:lnTo>
                      <a:pt x="328" y="101"/>
                    </a:lnTo>
                    <a:lnTo>
                      <a:pt x="332" y="105"/>
                    </a:lnTo>
                    <a:lnTo>
                      <a:pt x="151" y="78"/>
                    </a:lnTo>
                    <a:lnTo>
                      <a:pt x="136" y="71"/>
                    </a:lnTo>
                    <a:lnTo>
                      <a:pt x="120" y="63"/>
                    </a:lnTo>
                    <a:lnTo>
                      <a:pt x="105" y="55"/>
                    </a:lnTo>
                    <a:lnTo>
                      <a:pt x="90" y="46"/>
                    </a:lnTo>
                    <a:lnTo>
                      <a:pt x="75" y="38"/>
                    </a:lnTo>
                    <a:lnTo>
                      <a:pt x="60" y="30"/>
                    </a:lnTo>
                    <a:lnTo>
                      <a:pt x="45" y="22"/>
                    </a:lnTo>
                    <a:lnTo>
                      <a:pt x="29" y="15"/>
                    </a:lnTo>
                    <a:lnTo>
                      <a:pt x="23" y="10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279" y="40"/>
                    </a:lnTo>
                    <a:close/>
                  </a:path>
                </a:pathLst>
              </a:custGeom>
              <a:solidFill>
                <a:srgbClr val="b53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 flipH="1">
                <a:off x="1669680" y="3029040"/>
                <a:ext cx="984240" cy="182520"/>
              </a:xfrm>
              <a:custGeom>
                <a:avLst/>
                <a:gdLst/>
                <a:ahLst/>
                <a:rect l="l" t="t" r="r" b="b"/>
                <a:pathLst>
                  <a:path w="1238" h="231">
                    <a:moveTo>
                      <a:pt x="76" y="0"/>
                    </a:moveTo>
                    <a:lnTo>
                      <a:pt x="65" y="6"/>
                    </a:lnTo>
                    <a:lnTo>
                      <a:pt x="56" y="10"/>
                    </a:lnTo>
                    <a:lnTo>
                      <a:pt x="47" y="16"/>
                    </a:lnTo>
                    <a:lnTo>
                      <a:pt x="37" y="21"/>
                    </a:lnTo>
                    <a:lnTo>
                      <a:pt x="27" y="27"/>
                    </a:lnTo>
                    <a:lnTo>
                      <a:pt x="18" y="32"/>
                    </a:lnTo>
                    <a:lnTo>
                      <a:pt x="9" y="39"/>
                    </a:lnTo>
                    <a:lnTo>
                      <a:pt x="0" y="45"/>
                    </a:lnTo>
                    <a:lnTo>
                      <a:pt x="359" y="99"/>
                    </a:lnTo>
                    <a:lnTo>
                      <a:pt x="397" y="95"/>
                    </a:lnTo>
                    <a:lnTo>
                      <a:pt x="436" y="91"/>
                    </a:lnTo>
                    <a:lnTo>
                      <a:pt x="477" y="90"/>
                    </a:lnTo>
                    <a:lnTo>
                      <a:pt x="518" y="89"/>
                    </a:lnTo>
                    <a:lnTo>
                      <a:pt x="561" y="90"/>
                    </a:lnTo>
                    <a:lnTo>
                      <a:pt x="604" y="92"/>
                    </a:lnTo>
                    <a:lnTo>
                      <a:pt x="645" y="95"/>
                    </a:lnTo>
                    <a:lnTo>
                      <a:pt x="687" y="99"/>
                    </a:lnTo>
                    <a:lnTo>
                      <a:pt x="727" y="105"/>
                    </a:lnTo>
                    <a:lnTo>
                      <a:pt x="766" y="111"/>
                    </a:lnTo>
                    <a:lnTo>
                      <a:pt x="804" y="119"/>
                    </a:lnTo>
                    <a:lnTo>
                      <a:pt x="840" y="127"/>
                    </a:lnTo>
                    <a:lnTo>
                      <a:pt x="872" y="137"/>
                    </a:lnTo>
                    <a:lnTo>
                      <a:pt x="902" y="148"/>
                    </a:lnTo>
                    <a:lnTo>
                      <a:pt x="930" y="159"/>
                    </a:lnTo>
                    <a:lnTo>
                      <a:pt x="953" y="172"/>
                    </a:lnTo>
                    <a:lnTo>
                      <a:pt x="958" y="174"/>
                    </a:lnTo>
                    <a:lnTo>
                      <a:pt x="965" y="178"/>
                    </a:lnTo>
                    <a:lnTo>
                      <a:pt x="971" y="180"/>
                    </a:lnTo>
                    <a:lnTo>
                      <a:pt x="977" y="183"/>
                    </a:lnTo>
                    <a:lnTo>
                      <a:pt x="982" y="187"/>
                    </a:lnTo>
                    <a:lnTo>
                      <a:pt x="987" y="189"/>
                    </a:lnTo>
                    <a:lnTo>
                      <a:pt x="992" y="193"/>
                    </a:lnTo>
                    <a:lnTo>
                      <a:pt x="998" y="195"/>
                    </a:lnTo>
                    <a:lnTo>
                      <a:pt x="1238" y="231"/>
                    </a:lnTo>
                    <a:lnTo>
                      <a:pt x="1232" y="224"/>
                    </a:lnTo>
                    <a:lnTo>
                      <a:pt x="1225" y="217"/>
                    </a:lnTo>
                    <a:lnTo>
                      <a:pt x="1215" y="210"/>
                    </a:lnTo>
                    <a:lnTo>
                      <a:pt x="1206" y="201"/>
                    </a:lnTo>
                    <a:lnTo>
                      <a:pt x="1197" y="193"/>
                    </a:lnTo>
                    <a:lnTo>
                      <a:pt x="1187" y="183"/>
                    </a:lnTo>
                    <a:lnTo>
                      <a:pt x="1175" y="174"/>
                    </a:lnTo>
                    <a:lnTo>
                      <a:pt x="1165" y="16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2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 flipH="1">
                <a:off x="1698120" y="3011400"/>
                <a:ext cx="927000" cy="174600"/>
              </a:xfrm>
              <a:custGeom>
                <a:avLst/>
                <a:gdLst/>
                <a:ahLst/>
                <a:rect l="l" t="t" r="r" b="b"/>
                <a:pathLst>
                  <a:path w="1167" h="219">
                    <a:moveTo>
                      <a:pt x="0" y="43"/>
                    </a:moveTo>
                    <a:lnTo>
                      <a:pt x="9" y="38"/>
                    </a:lnTo>
                    <a:lnTo>
                      <a:pt x="18" y="32"/>
                    </a:lnTo>
                    <a:lnTo>
                      <a:pt x="27" y="28"/>
                    </a:lnTo>
                    <a:lnTo>
                      <a:pt x="36" y="23"/>
                    </a:lnTo>
                    <a:lnTo>
                      <a:pt x="46" y="19"/>
                    </a:lnTo>
                    <a:lnTo>
                      <a:pt x="56" y="14"/>
                    </a:lnTo>
                    <a:lnTo>
                      <a:pt x="64" y="9"/>
                    </a:lnTo>
                    <a:lnTo>
                      <a:pt x="73" y="5"/>
                    </a:lnTo>
                    <a:lnTo>
                      <a:pt x="74" y="4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1091" y="152"/>
                    </a:lnTo>
                    <a:lnTo>
                      <a:pt x="1100" y="160"/>
                    </a:lnTo>
                    <a:lnTo>
                      <a:pt x="1109" y="170"/>
                    </a:lnTo>
                    <a:lnTo>
                      <a:pt x="1119" y="178"/>
                    </a:lnTo>
                    <a:lnTo>
                      <a:pt x="1129" y="186"/>
                    </a:lnTo>
                    <a:lnTo>
                      <a:pt x="1139" y="195"/>
                    </a:lnTo>
                    <a:lnTo>
                      <a:pt x="1148" y="203"/>
                    </a:lnTo>
                    <a:lnTo>
                      <a:pt x="1158" y="211"/>
                    </a:lnTo>
                    <a:lnTo>
                      <a:pt x="1167" y="219"/>
                    </a:lnTo>
                    <a:lnTo>
                      <a:pt x="888" y="179"/>
                    </a:lnTo>
                    <a:lnTo>
                      <a:pt x="868" y="171"/>
                    </a:lnTo>
                    <a:lnTo>
                      <a:pt x="848" y="163"/>
                    </a:lnTo>
                    <a:lnTo>
                      <a:pt x="825" y="155"/>
                    </a:lnTo>
                    <a:lnTo>
                      <a:pt x="799" y="148"/>
                    </a:lnTo>
                    <a:lnTo>
                      <a:pt x="774" y="142"/>
                    </a:lnTo>
                    <a:lnTo>
                      <a:pt x="747" y="136"/>
                    </a:lnTo>
                    <a:lnTo>
                      <a:pt x="719" y="130"/>
                    </a:lnTo>
                    <a:lnTo>
                      <a:pt x="691" y="126"/>
                    </a:lnTo>
                    <a:lnTo>
                      <a:pt x="661" y="122"/>
                    </a:lnTo>
                    <a:lnTo>
                      <a:pt x="631" y="119"/>
                    </a:lnTo>
                    <a:lnTo>
                      <a:pt x="600" y="115"/>
                    </a:lnTo>
                    <a:lnTo>
                      <a:pt x="570" y="114"/>
                    </a:lnTo>
                    <a:lnTo>
                      <a:pt x="539" y="112"/>
                    </a:lnTo>
                    <a:lnTo>
                      <a:pt x="509" y="112"/>
                    </a:lnTo>
                    <a:lnTo>
                      <a:pt x="478" y="112"/>
                    </a:lnTo>
                    <a:lnTo>
                      <a:pt x="448" y="11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f2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H="1">
                <a:off x="1728360" y="2992320"/>
                <a:ext cx="865440" cy="166680"/>
              </a:xfrm>
              <a:custGeom>
                <a:avLst/>
                <a:gdLst/>
                <a:ahLst/>
                <a:rect l="l" t="t" r="r" b="b"/>
                <a:pathLst>
                  <a:path w="1089" h="210">
                    <a:moveTo>
                      <a:pt x="0" y="46"/>
                    </a:moveTo>
                    <a:lnTo>
                      <a:pt x="9" y="41"/>
                    </a:lnTo>
                    <a:lnTo>
                      <a:pt x="17" y="37"/>
                    </a:lnTo>
                    <a:lnTo>
                      <a:pt x="25" y="32"/>
                    </a:lnTo>
                    <a:lnTo>
                      <a:pt x="33" y="29"/>
                    </a:lnTo>
                    <a:lnTo>
                      <a:pt x="40" y="21"/>
                    </a:lnTo>
                    <a:lnTo>
                      <a:pt x="48" y="13"/>
                    </a:lnTo>
                    <a:lnTo>
                      <a:pt x="56" y="6"/>
                    </a:lnTo>
                    <a:lnTo>
                      <a:pt x="64" y="0"/>
                    </a:lnTo>
                    <a:lnTo>
                      <a:pt x="1017" y="143"/>
                    </a:lnTo>
                    <a:lnTo>
                      <a:pt x="1023" y="150"/>
                    </a:lnTo>
                    <a:lnTo>
                      <a:pt x="1031" y="158"/>
                    </a:lnTo>
                    <a:lnTo>
                      <a:pt x="1039" y="166"/>
                    </a:lnTo>
                    <a:lnTo>
                      <a:pt x="1048" y="174"/>
                    </a:lnTo>
                    <a:lnTo>
                      <a:pt x="1058" y="183"/>
                    </a:lnTo>
                    <a:lnTo>
                      <a:pt x="1068" y="192"/>
                    </a:lnTo>
                    <a:lnTo>
                      <a:pt x="1078" y="201"/>
                    </a:lnTo>
                    <a:lnTo>
                      <a:pt x="1089" y="21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af2b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>
                <a:off x="1758600" y="2973240"/>
                <a:ext cx="804960" cy="158760"/>
              </a:xfrm>
              <a:custGeom>
                <a:avLst/>
                <a:gdLst/>
                <a:ahLst/>
                <a:rect l="l" t="t" r="r" b="b"/>
                <a:pathLst>
                  <a:path w="1013" h="199">
                    <a:moveTo>
                      <a:pt x="62" y="0"/>
                    </a:moveTo>
                    <a:lnTo>
                      <a:pt x="54" y="5"/>
                    </a:lnTo>
                    <a:lnTo>
                      <a:pt x="46" y="9"/>
                    </a:lnTo>
                    <a:lnTo>
                      <a:pt x="38" y="14"/>
                    </a:lnTo>
                    <a:lnTo>
                      <a:pt x="30" y="20"/>
                    </a:lnTo>
                    <a:lnTo>
                      <a:pt x="23" y="25"/>
                    </a:lnTo>
                    <a:lnTo>
                      <a:pt x="15" y="32"/>
                    </a:lnTo>
                    <a:lnTo>
                      <a:pt x="7" y="39"/>
                    </a:lnTo>
                    <a:lnTo>
                      <a:pt x="0" y="47"/>
                    </a:lnTo>
                    <a:lnTo>
                      <a:pt x="1013" y="199"/>
                    </a:lnTo>
                    <a:lnTo>
                      <a:pt x="1003" y="191"/>
                    </a:lnTo>
                    <a:lnTo>
                      <a:pt x="994" y="183"/>
                    </a:lnTo>
                    <a:lnTo>
                      <a:pt x="987" y="175"/>
                    </a:lnTo>
                    <a:lnTo>
                      <a:pt x="980" y="168"/>
                    </a:lnTo>
                    <a:lnTo>
                      <a:pt x="976" y="161"/>
                    </a:lnTo>
                    <a:lnTo>
                      <a:pt x="972" y="157"/>
                    </a:lnTo>
                    <a:lnTo>
                      <a:pt x="970" y="151"/>
                    </a:lnTo>
                    <a:lnTo>
                      <a:pt x="970" y="147"/>
                    </a:lnTo>
                    <a:lnTo>
                      <a:pt x="964" y="144"/>
                    </a:lnTo>
                    <a:lnTo>
                      <a:pt x="956" y="141"/>
                    </a:lnTo>
                    <a:lnTo>
                      <a:pt x="948" y="137"/>
                    </a:lnTo>
                    <a:lnTo>
                      <a:pt x="941" y="13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d2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 flipH="1">
                <a:off x="1785240" y="2957400"/>
                <a:ext cx="755640" cy="147600"/>
              </a:xfrm>
              <a:custGeom>
                <a:avLst/>
                <a:gdLst/>
                <a:ahLst/>
                <a:rect l="l" t="t" r="r" b="b"/>
                <a:pathLst>
                  <a:path w="953" h="188">
                    <a:moveTo>
                      <a:pt x="72" y="0"/>
                    </a:moveTo>
                    <a:lnTo>
                      <a:pt x="65" y="5"/>
                    </a:lnTo>
                    <a:lnTo>
                      <a:pt x="57" y="10"/>
                    </a:lnTo>
                    <a:lnTo>
                      <a:pt x="48" y="15"/>
                    </a:lnTo>
                    <a:lnTo>
                      <a:pt x="38" y="21"/>
                    </a:lnTo>
                    <a:lnTo>
                      <a:pt x="29" y="27"/>
                    </a:lnTo>
                    <a:lnTo>
                      <a:pt x="19" y="32"/>
                    </a:lnTo>
                    <a:lnTo>
                      <a:pt x="10" y="38"/>
                    </a:lnTo>
                    <a:lnTo>
                      <a:pt x="0" y="45"/>
                    </a:lnTo>
                    <a:lnTo>
                      <a:pt x="953" y="188"/>
                    </a:lnTo>
                    <a:lnTo>
                      <a:pt x="949" y="183"/>
                    </a:lnTo>
                    <a:lnTo>
                      <a:pt x="945" y="178"/>
                    </a:lnTo>
                    <a:lnTo>
                      <a:pt x="944" y="173"/>
                    </a:lnTo>
                    <a:lnTo>
                      <a:pt x="944" y="169"/>
                    </a:lnTo>
                    <a:lnTo>
                      <a:pt x="937" y="165"/>
                    </a:lnTo>
                    <a:lnTo>
                      <a:pt x="929" y="161"/>
                    </a:lnTo>
                    <a:lnTo>
                      <a:pt x="920" y="157"/>
                    </a:lnTo>
                    <a:lnTo>
                      <a:pt x="912" y="152"/>
                    </a:lnTo>
                    <a:lnTo>
                      <a:pt x="904" y="148"/>
                    </a:lnTo>
                    <a:lnTo>
                      <a:pt x="898" y="143"/>
                    </a:lnTo>
                    <a:lnTo>
                      <a:pt x="895" y="136"/>
                    </a:lnTo>
                    <a:lnTo>
                      <a:pt x="893" y="129"/>
                    </a:lnTo>
                    <a:lnTo>
                      <a:pt x="890" y="127"/>
                    </a:lnTo>
                    <a:lnTo>
                      <a:pt x="886" y="126"/>
                    </a:lnTo>
                    <a:lnTo>
                      <a:pt x="882" y="123"/>
                    </a:lnTo>
                    <a:lnTo>
                      <a:pt x="877" y="12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a23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 flipH="1">
                <a:off x="1815840" y="2936880"/>
                <a:ext cx="696960" cy="142920"/>
              </a:xfrm>
              <a:custGeom>
                <a:avLst/>
                <a:gdLst/>
                <a:ahLst/>
                <a:rect l="l" t="t" r="r" b="b"/>
                <a:pathLst>
                  <a:path w="879" h="178">
                    <a:moveTo>
                      <a:pt x="0" y="46"/>
                    </a:moveTo>
                    <a:lnTo>
                      <a:pt x="9" y="40"/>
                    </a:lnTo>
                    <a:lnTo>
                      <a:pt x="17" y="36"/>
                    </a:lnTo>
                    <a:lnTo>
                      <a:pt x="25" y="30"/>
                    </a:lnTo>
                    <a:lnTo>
                      <a:pt x="34" y="25"/>
                    </a:lnTo>
                    <a:lnTo>
                      <a:pt x="40" y="19"/>
                    </a:lnTo>
                    <a:lnTo>
                      <a:pt x="47" y="14"/>
                    </a:lnTo>
                    <a:lnTo>
                      <a:pt x="53" y="8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5" y="2"/>
                    </a:lnTo>
                    <a:lnTo>
                      <a:pt x="69" y="1"/>
                    </a:lnTo>
                    <a:lnTo>
                      <a:pt x="74" y="0"/>
                    </a:lnTo>
                    <a:lnTo>
                      <a:pt x="792" y="109"/>
                    </a:lnTo>
                    <a:lnTo>
                      <a:pt x="799" y="115"/>
                    </a:lnTo>
                    <a:lnTo>
                      <a:pt x="806" y="122"/>
                    </a:lnTo>
                    <a:lnTo>
                      <a:pt x="814" y="128"/>
                    </a:lnTo>
                    <a:lnTo>
                      <a:pt x="822" y="132"/>
                    </a:lnTo>
                    <a:lnTo>
                      <a:pt x="830" y="138"/>
                    </a:lnTo>
                    <a:lnTo>
                      <a:pt x="838" y="144"/>
                    </a:lnTo>
                    <a:lnTo>
                      <a:pt x="847" y="149"/>
                    </a:lnTo>
                    <a:lnTo>
                      <a:pt x="857" y="153"/>
                    </a:lnTo>
                    <a:lnTo>
                      <a:pt x="860" y="161"/>
                    </a:lnTo>
                    <a:lnTo>
                      <a:pt x="864" y="167"/>
                    </a:lnTo>
                    <a:lnTo>
                      <a:pt x="871" y="173"/>
                    </a:lnTo>
                    <a:lnTo>
                      <a:pt x="879" y="17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a81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 flipH="1">
                <a:off x="1845720" y="2922480"/>
                <a:ext cx="639720" cy="130320"/>
              </a:xfrm>
              <a:custGeom>
                <a:avLst/>
                <a:gdLst/>
                <a:ahLst/>
                <a:rect l="l" t="t" r="r" b="b"/>
                <a:pathLst>
                  <a:path w="805" h="164">
                    <a:moveTo>
                      <a:pt x="0" y="43"/>
                    </a:moveTo>
                    <a:lnTo>
                      <a:pt x="7" y="37"/>
                    </a:lnTo>
                    <a:lnTo>
                      <a:pt x="12" y="33"/>
                    </a:lnTo>
                    <a:lnTo>
                      <a:pt x="17" y="27"/>
                    </a:lnTo>
                    <a:lnTo>
                      <a:pt x="22" y="21"/>
                    </a:lnTo>
                    <a:lnTo>
                      <a:pt x="29" y="21"/>
                    </a:lnTo>
                    <a:lnTo>
                      <a:pt x="36" y="20"/>
                    </a:lnTo>
                    <a:lnTo>
                      <a:pt x="45" y="18"/>
                    </a:lnTo>
                    <a:lnTo>
                      <a:pt x="54" y="15"/>
                    </a:lnTo>
                    <a:lnTo>
                      <a:pt x="63" y="12"/>
                    </a:lnTo>
                    <a:lnTo>
                      <a:pt x="74" y="8"/>
                    </a:lnTo>
                    <a:lnTo>
                      <a:pt x="85" y="5"/>
                    </a:lnTo>
                    <a:lnTo>
                      <a:pt x="95" y="0"/>
                    </a:lnTo>
                    <a:lnTo>
                      <a:pt x="660" y="86"/>
                    </a:lnTo>
                    <a:lnTo>
                      <a:pt x="662" y="88"/>
                    </a:lnTo>
                    <a:lnTo>
                      <a:pt x="663" y="90"/>
                    </a:lnTo>
                    <a:lnTo>
                      <a:pt x="666" y="94"/>
                    </a:lnTo>
                    <a:lnTo>
                      <a:pt x="667" y="96"/>
                    </a:lnTo>
                    <a:lnTo>
                      <a:pt x="673" y="97"/>
                    </a:lnTo>
                    <a:lnTo>
                      <a:pt x="680" y="97"/>
                    </a:lnTo>
                    <a:lnTo>
                      <a:pt x="685" y="97"/>
                    </a:lnTo>
                    <a:lnTo>
                      <a:pt x="691" y="97"/>
                    </a:lnTo>
                    <a:lnTo>
                      <a:pt x="697" y="97"/>
                    </a:lnTo>
                    <a:lnTo>
                      <a:pt x="703" y="96"/>
                    </a:lnTo>
                    <a:lnTo>
                      <a:pt x="708" y="95"/>
                    </a:lnTo>
                    <a:lnTo>
                      <a:pt x="714" y="93"/>
                    </a:lnTo>
                    <a:lnTo>
                      <a:pt x="725" y="96"/>
                    </a:lnTo>
                    <a:lnTo>
                      <a:pt x="735" y="106"/>
                    </a:lnTo>
                    <a:lnTo>
                      <a:pt x="744" y="117"/>
                    </a:lnTo>
                    <a:lnTo>
                      <a:pt x="753" y="126"/>
                    </a:lnTo>
                    <a:lnTo>
                      <a:pt x="764" y="135"/>
                    </a:lnTo>
                    <a:lnTo>
                      <a:pt x="773" y="143"/>
                    </a:lnTo>
                    <a:lnTo>
                      <a:pt x="782" y="151"/>
                    </a:lnTo>
                    <a:lnTo>
                      <a:pt x="794" y="158"/>
                    </a:lnTo>
                    <a:lnTo>
                      <a:pt x="805" y="164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81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>
                <a:off x="1885320" y="2906640"/>
                <a:ext cx="569880" cy="117720"/>
              </a:xfrm>
              <a:custGeom>
                <a:avLst/>
                <a:gdLst/>
                <a:ahLst/>
                <a:rect l="l" t="t" r="r" b="b"/>
                <a:pathLst>
                  <a:path w="718" h="147">
                    <a:moveTo>
                      <a:pt x="109" y="0"/>
                    </a:moveTo>
                    <a:lnTo>
                      <a:pt x="95" y="4"/>
                    </a:lnTo>
                    <a:lnTo>
                      <a:pt x="82" y="10"/>
                    </a:lnTo>
                    <a:lnTo>
                      <a:pt x="67" y="16"/>
                    </a:lnTo>
                    <a:lnTo>
                      <a:pt x="53" y="21"/>
                    </a:lnTo>
                    <a:lnTo>
                      <a:pt x="39" y="26"/>
                    </a:lnTo>
                    <a:lnTo>
                      <a:pt x="25" y="31"/>
                    </a:lnTo>
                    <a:lnTo>
                      <a:pt x="13" y="34"/>
                    </a:lnTo>
                    <a:lnTo>
                      <a:pt x="0" y="38"/>
                    </a:lnTo>
                    <a:lnTo>
                      <a:pt x="718" y="147"/>
                    </a:lnTo>
                    <a:lnTo>
                      <a:pt x="710" y="139"/>
                    </a:lnTo>
                    <a:lnTo>
                      <a:pt x="702" y="131"/>
                    </a:lnTo>
                    <a:lnTo>
                      <a:pt x="692" y="122"/>
                    </a:lnTo>
                    <a:lnTo>
                      <a:pt x="684" y="112"/>
                    </a:lnTo>
                    <a:lnTo>
                      <a:pt x="677" y="114"/>
                    </a:lnTo>
                    <a:lnTo>
                      <a:pt x="670" y="115"/>
                    </a:lnTo>
                    <a:lnTo>
                      <a:pt x="664" y="116"/>
                    </a:lnTo>
                    <a:lnTo>
                      <a:pt x="657" y="116"/>
                    </a:lnTo>
                    <a:lnTo>
                      <a:pt x="650" y="116"/>
                    </a:lnTo>
                    <a:lnTo>
                      <a:pt x="643" y="116"/>
                    </a:lnTo>
                    <a:lnTo>
                      <a:pt x="636" y="116"/>
                    </a:lnTo>
                    <a:lnTo>
                      <a:pt x="629" y="115"/>
                    </a:lnTo>
                    <a:lnTo>
                      <a:pt x="622" y="106"/>
                    </a:lnTo>
                    <a:lnTo>
                      <a:pt x="616" y="97"/>
                    </a:lnTo>
                    <a:lnTo>
                      <a:pt x="612" y="89"/>
                    </a:lnTo>
                    <a:lnTo>
                      <a:pt x="605" y="79"/>
                    </a:lnTo>
                    <a:lnTo>
                      <a:pt x="594" y="86"/>
                    </a:lnTo>
                    <a:lnTo>
                      <a:pt x="584" y="91"/>
                    </a:lnTo>
                    <a:lnTo>
                      <a:pt x="574" y="93"/>
                    </a:lnTo>
                    <a:lnTo>
                      <a:pt x="562" y="93"/>
                    </a:lnTo>
                    <a:lnTo>
                      <a:pt x="553" y="90"/>
                    </a:lnTo>
                    <a:lnTo>
                      <a:pt x="545" y="85"/>
                    </a:lnTo>
                    <a:lnTo>
                      <a:pt x="538" y="76"/>
                    </a:lnTo>
                    <a:lnTo>
                      <a:pt x="533" y="6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1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 flipH="1">
                <a:off x="1960200" y="2897280"/>
                <a:ext cx="449280" cy="93600"/>
              </a:xfrm>
              <a:custGeom>
                <a:avLst/>
                <a:gdLst/>
                <a:ahLst/>
                <a:rect l="l" t="t" r="r" b="b"/>
                <a:pathLst>
                  <a:path w="565" h="119">
                    <a:moveTo>
                      <a:pt x="0" y="33"/>
                    </a:moveTo>
                    <a:lnTo>
                      <a:pt x="14" y="28"/>
                    </a:lnTo>
                    <a:lnTo>
                      <a:pt x="27" y="23"/>
                    </a:lnTo>
                    <a:lnTo>
                      <a:pt x="40" y="17"/>
                    </a:lnTo>
                    <a:lnTo>
                      <a:pt x="52" y="13"/>
                    </a:lnTo>
                    <a:lnTo>
                      <a:pt x="65" y="9"/>
                    </a:lnTo>
                    <a:lnTo>
                      <a:pt x="76" y="5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0" y="3"/>
                    </a:lnTo>
                    <a:lnTo>
                      <a:pt x="103" y="7"/>
                    </a:lnTo>
                    <a:lnTo>
                      <a:pt x="106" y="10"/>
                    </a:lnTo>
                    <a:lnTo>
                      <a:pt x="110" y="14"/>
                    </a:lnTo>
                    <a:lnTo>
                      <a:pt x="118" y="12"/>
                    </a:lnTo>
                    <a:lnTo>
                      <a:pt x="126" y="9"/>
                    </a:lnTo>
                    <a:lnTo>
                      <a:pt x="134" y="8"/>
                    </a:lnTo>
                    <a:lnTo>
                      <a:pt x="142" y="7"/>
                    </a:lnTo>
                    <a:lnTo>
                      <a:pt x="150" y="6"/>
                    </a:lnTo>
                    <a:lnTo>
                      <a:pt x="158" y="5"/>
                    </a:lnTo>
                    <a:lnTo>
                      <a:pt x="166" y="5"/>
                    </a:lnTo>
                    <a:lnTo>
                      <a:pt x="174" y="5"/>
                    </a:lnTo>
                    <a:lnTo>
                      <a:pt x="346" y="31"/>
                    </a:lnTo>
                    <a:lnTo>
                      <a:pt x="352" y="36"/>
                    </a:lnTo>
                    <a:lnTo>
                      <a:pt x="356" y="39"/>
                    </a:lnTo>
                    <a:lnTo>
                      <a:pt x="361" y="41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3" y="40"/>
                    </a:lnTo>
                    <a:lnTo>
                      <a:pt x="377" y="38"/>
                    </a:lnTo>
                    <a:lnTo>
                      <a:pt x="382" y="36"/>
                    </a:lnTo>
                    <a:lnTo>
                      <a:pt x="405" y="38"/>
                    </a:lnTo>
                    <a:lnTo>
                      <a:pt x="413" y="46"/>
                    </a:lnTo>
                    <a:lnTo>
                      <a:pt x="420" y="52"/>
                    </a:lnTo>
                    <a:lnTo>
                      <a:pt x="428" y="56"/>
                    </a:lnTo>
                    <a:lnTo>
                      <a:pt x="436" y="61"/>
                    </a:lnTo>
                    <a:lnTo>
                      <a:pt x="444" y="65"/>
                    </a:lnTo>
                    <a:lnTo>
                      <a:pt x="453" y="67"/>
                    </a:lnTo>
                    <a:lnTo>
                      <a:pt x="464" y="69"/>
                    </a:lnTo>
                    <a:lnTo>
                      <a:pt x="476" y="71"/>
                    </a:lnTo>
                    <a:lnTo>
                      <a:pt x="480" y="85"/>
                    </a:lnTo>
                    <a:lnTo>
                      <a:pt x="486" y="96"/>
                    </a:lnTo>
                    <a:lnTo>
                      <a:pt x="494" y="104"/>
                    </a:lnTo>
                    <a:lnTo>
                      <a:pt x="504" y="107"/>
                    </a:lnTo>
                    <a:lnTo>
                      <a:pt x="514" y="108"/>
                    </a:lnTo>
                    <a:lnTo>
                      <a:pt x="526" y="106"/>
                    </a:lnTo>
                    <a:lnTo>
                      <a:pt x="537" y="100"/>
                    </a:lnTo>
                    <a:lnTo>
                      <a:pt x="548" y="93"/>
                    </a:lnTo>
                    <a:lnTo>
                      <a:pt x="554" y="100"/>
                    </a:lnTo>
                    <a:lnTo>
                      <a:pt x="558" y="106"/>
                    </a:lnTo>
                    <a:lnTo>
                      <a:pt x="562" y="112"/>
                    </a:lnTo>
                    <a:lnTo>
                      <a:pt x="565" y="11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 flipH="1">
                <a:off x="1909440" y="2995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 flipH="1">
                <a:off x="2031480" y="2897280"/>
                <a:ext cx="336600" cy="61920"/>
              </a:xfrm>
              <a:custGeom>
                <a:avLst/>
                <a:gdLst/>
                <a:ahLst/>
                <a:rect l="l" t="t" r="r" b="b"/>
                <a:pathLst>
                  <a:path w="424" h="78">
                    <a:moveTo>
                      <a:pt x="0" y="14"/>
                    </a:moveTo>
                    <a:lnTo>
                      <a:pt x="6" y="12"/>
                    </a:lnTo>
                    <a:lnTo>
                      <a:pt x="13" y="9"/>
                    </a:lnTo>
                    <a:lnTo>
                      <a:pt x="19" y="7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48" y="3"/>
                    </a:lnTo>
                    <a:lnTo>
                      <a:pt x="51" y="7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74" y="10"/>
                    </a:lnTo>
                    <a:lnTo>
                      <a:pt x="90" y="7"/>
                    </a:lnTo>
                    <a:lnTo>
                      <a:pt x="105" y="5"/>
                    </a:lnTo>
                    <a:lnTo>
                      <a:pt x="120" y="3"/>
                    </a:lnTo>
                    <a:lnTo>
                      <a:pt x="135" y="3"/>
                    </a:lnTo>
                    <a:lnTo>
                      <a:pt x="150" y="2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4" y="5"/>
                    </a:lnTo>
                    <a:lnTo>
                      <a:pt x="208" y="6"/>
                    </a:lnTo>
                    <a:lnTo>
                      <a:pt x="223" y="7"/>
                    </a:lnTo>
                    <a:lnTo>
                      <a:pt x="237" y="8"/>
                    </a:lnTo>
                    <a:lnTo>
                      <a:pt x="251" y="8"/>
                    </a:lnTo>
                    <a:lnTo>
                      <a:pt x="266" y="9"/>
                    </a:lnTo>
                    <a:lnTo>
                      <a:pt x="281" y="9"/>
                    </a:lnTo>
                    <a:lnTo>
                      <a:pt x="296" y="9"/>
                    </a:lnTo>
                    <a:lnTo>
                      <a:pt x="295" y="15"/>
                    </a:lnTo>
                    <a:lnTo>
                      <a:pt x="294" y="20"/>
                    </a:lnTo>
                    <a:lnTo>
                      <a:pt x="293" y="24"/>
                    </a:lnTo>
                    <a:lnTo>
                      <a:pt x="292" y="29"/>
                    </a:lnTo>
                    <a:lnTo>
                      <a:pt x="299" y="36"/>
                    </a:lnTo>
                    <a:lnTo>
                      <a:pt x="304" y="40"/>
                    </a:lnTo>
                    <a:lnTo>
                      <a:pt x="309" y="43"/>
                    </a:lnTo>
                    <a:lnTo>
                      <a:pt x="315" y="43"/>
                    </a:lnTo>
                    <a:lnTo>
                      <a:pt x="319" y="41"/>
                    </a:lnTo>
                    <a:lnTo>
                      <a:pt x="325" y="38"/>
                    </a:lnTo>
                    <a:lnTo>
                      <a:pt x="332" y="33"/>
                    </a:lnTo>
                    <a:lnTo>
                      <a:pt x="341" y="29"/>
                    </a:lnTo>
                    <a:lnTo>
                      <a:pt x="352" y="39"/>
                    </a:lnTo>
                    <a:lnTo>
                      <a:pt x="361" y="47"/>
                    </a:lnTo>
                    <a:lnTo>
                      <a:pt x="370" y="54"/>
                    </a:lnTo>
                    <a:lnTo>
                      <a:pt x="378" y="59"/>
                    </a:lnTo>
                    <a:lnTo>
                      <a:pt x="387" y="63"/>
                    </a:lnTo>
                    <a:lnTo>
                      <a:pt x="398" y="67"/>
                    </a:lnTo>
                    <a:lnTo>
                      <a:pt x="409" y="69"/>
                    </a:lnTo>
                    <a:lnTo>
                      <a:pt x="424" y="71"/>
                    </a:lnTo>
                    <a:lnTo>
                      <a:pt x="424" y="73"/>
                    </a:lnTo>
                    <a:lnTo>
                      <a:pt x="424" y="75"/>
                    </a:lnTo>
                    <a:lnTo>
                      <a:pt x="424" y="76"/>
                    </a:lnTo>
                    <a:lnTo>
                      <a:pt x="424" y="7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 flipH="1">
                <a:off x="2133360" y="2898720"/>
                <a:ext cx="138240" cy="22320"/>
              </a:xfrm>
              <a:custGeom>
                <a:avLst/>
                <a:gdLst/>
                <a:ahLst/>
                <a:rect l="l" t="t" r="r" b="b"/>
                <a:pathLst>
                  <a:path w="174" h="28">
                    <a:moveTo>
                      <a:pt x="0" y="2"/>
                    </a:moveTo>
                    <a:lnTo>
                      <a:pt x="22" y="0"/>
                    </a:lnTo>
                    <a:lnTo>
                      <a:pt x="44" y="0"/>
                    </a:lnTo>
                    <a:lnTo>
                      <a:pt x="65" y="2"/>
                    </a:lnTo>
                    <a:lnTo>
                      <a:pt x="86" y="3"/>
                    </a:lnTo>
                    <a:lnTo>
                      <a:pt x="108" y="5"/>
                    </a:lnTo>
                    <a:lnTo>
                      <a:pt x="129" y="6"/>
                    </a:lnTo>
                    <a:lnTo>
                      <a:pt x="151" y="6"/>
                    </a:lnTo>
                    <a:lnTo>
                      <a:pt x="174" y="6"/>
                    </a:lnTo>
                    <a:lnTo>
                      <a:pt x="173" y="12"/>
                    </a:lnTo>
                    <a:lnTo>
                      <a:pt x="172" y="17"/>
                    </a:lnTo>
                    <a:lnTo>
                      <a:pt x="171" y="21"/>
                    </a:lnTo>
                    <a:lnTo>
                      <a:pt x="170" y="26"/>
                    </a:lnTo>
                    <a:lnTo>
                      <a:pt x="171" y="26"/>
                    </a:lnTo>
                    <a:lnTo>
                      <a:pt x="172" y="26"/>
                    </a:lnTo>
                    <a:lnTo>
                      <a:pt x="172" y="27"/>
                    </a:lnTo>
                    <a:lnTo>
                      <a:pt x="172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00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H="1">
                <a:off x="2088360" y="291924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2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3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0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>
                <a:off x="2110680" y="3416400"/>
                <a:ext cx="1800" cy="1440"/>
              </a:xfrm>
              <a:prstGeom prst="rect">
                <a:avLst/>
              </a:pr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H="1">
                <a:off x="2112840" y="3416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 flipH="1">
                <a:off x="2112840" y="3414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 flipH="1">
                <a:off x="2112840" y="3414600"/>
                <a:ext cx="1440" cy="180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 flipH="1">
                <a:off x="2109240" y="3414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H="1">
                <a:off x="2109240" y="3414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 flipH="1">
                <a:off x="2109240" y="3409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 flipH="1">
                <a:off x="210960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 flipH="1">
                <a:off x="210960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2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 flipH="1">
                <a:off x="210960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 flipH="1">
                <a:off x="2109600" y="34084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 flipH="1">
                <a:off x="2107440" y="340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H="1">
                <a:off x="2107800" y="34084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H="1">
                <a:off x="2107800" y="34084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flipH="1">
                <a:off x="2107800" y="34066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 flipH="1">
                <a:off x="2107800" y="340668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 flipH="1">
                <a:off x="2107800" y="340668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H="1">
                <a:off x="2107800" y="34066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3" y="0"/>
                    </a:moveTo>
                    <a:lnTo>
                      <a:pt x="0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H="1">
                <a:off x="2107800" y="34066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3" y="0"/>
                    </a:moveTo>
                    <a:lnTo>
                      <a:pt x="0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 flipH="1">
                <a:off x="2674440" y="3311640"/>
                <a:ext cx="34920" cy="612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5" y="0"/>
                    </a:move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5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 flipH="1">
                <a:off x="2650680" y="33051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31" y="0"/>
                    </a:moveTo>
                    <a:lnTo>
                      <a:pt x="24" y="4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11" y="16"/>
                    </a:lnTo>
                    <a:lnTo>
                      <a:pt x="18" y="15"/>
                    </a:lnTo>
                    <a:lnTo>
                      <a:pt x="24" y="14"/>
                    </a:lnTo>
                    <a:lnTo>
                      <a:pt x="31" y="13"/>
                    </a:lnTo>
                    <a:lnTo>
                      <a:pt x="39" y="12"/>
                    </a:lnTo>
                    <a:lnTo>
                      <a:pt x="46" y="10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7" y="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 flipH="1">
                <a:off x="2630160" y="3298680"/>
                <a:ext cx="60480" cy="1584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23" y="0"/>
                    </a:moveTo>
                    <a:lnTo>
                      <a:pt x="18" y="3"/>
                    </a:lnTo>
                    <a:lnTo>
                      <a:pt x="13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20" y="20"/>
                    </a:lnTo>
                    <a:lnTo>
                      <a:pt x="26" y="18"/>
                    </a:lnTo>
                    <a:lnTo>
                      <a:pt x="32" y="17"/>
                    </a:lnTo>
                    <a:lnTo>
                      <a:pt x="38" y="16"/>
                    </a:lnTo>
                    <a:lnTo>
                      <a:pt x="42" y="15"/>
                    </a:lnTo>
                    <a:lnTo>
                      <a:pt x="48" y="14"/>
                    </a:lnTo>
                    <a:lnTo>
                      <a:pt x="53" y="14"/>
                    </a:lnTo>
                    <a:lnTo>
                      <a:pt x="57" y="13"/>
                    </a:lnTo>
                    <a:lnTo>
                      <a:pt x="61" y="13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72" y="10"/>
                    </a:lnTo>
                    <a:lnTo>
                      <a:pt x="76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H="1">
                <a:off x="2609640" y="329400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22" y="0"/>
                    </a:moveTo>
                    <a:lnTo>
                      <a:pt x="17" y="4"/>
                    </a:lnTo>
                    <a:lnTo>
                      <a:pt x="11" y="7"/>
                    </a:lnTo>
                    <a:lnTo>
                      <a:pt x="5" y="10"/>
                    </a:lnTo>
                    <a:lnTo>
                      <a:pt x="0" y="15"/>
                    </a:lnTo>
                    <a:lnTo>
                      <a:pt x="36" y="22"/>
                    </a:lnTo>
                    <a:lnTo>
                      <a:pt x="40" y="21"/>
                    </a:lnTo>
                    <a:lnTo>
                      <a:pt x="42" y="20"/>
                    </a:lnTo>
                    <a:lnTo>
                      <a:pt x="44" y="20"/>
                    </a:lnTo>
                    <a:lnTo>
                      <a:pt x="48" y="20"/>
                    </a:lnTo>
                    <a:lnTo>
                      <a:pt x="53" y="19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80" y="13"/>
                    </a:lnTo>
                    <a:lnTo>
                      <a:pt x="84" y="12"/>
                    </a:lnTo>
                    <a:lnTo>
                      <a:pt x="89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H="1">
                <a:off x="2579400" y="3287880"/>
                <a:ext cx="93600" cy="18720"/>
              </a:xfrm>
              <a:custGeom>
                <a:avLst/>
                <a:gdLst/>
                <a:ahLst/>
                <a:rect l="l" t="t" r="r" b="b"/>
                <a:pathLst>
                  <a:path w="117" h="24">
                    <a:moveTo>
                      <a:pt x="24" y="0"/>
                    </a:moveTo>
                    <a:lnTo>
                      <a:pt x="18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53" y="24"/>
                    </a:lnTo>
                    <a:lnTo>
                      <a:pt x="61" y="22"/>
                    </a:lnTo>
                    <a:lnTo>
                      <a:pt x="69" y="21"/>
                    </a:lnTo>
                    <a:lnTo>
                      <a:pt x="77" y="19"/>
                    </a:lnTo>
                    <a:lnTo>
                      <a:pt x="85" y="17"/>
                    </a:lnTo>
                    <a:lnTo>
                      <a:pt x="93" y="16"/>
                    </a:lnTo>
                    <a:lnTo>
                      <a:pt x="101" y="16"/>
                    </a:lnTo>
                    <a:lnTo>
                      <a:pt x="109" y="15"/>
                    </a:lnTo>
                    <a:lnTo>
                      <a:pt x="117" y="1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 flipH="1">
                <a:off x="2339280" y="3282840"/>
                <a:ext cx="322200" cy="46080"/>
              </a:xfrm>
              <a:custGeom>
                <a:avLst/>
                <a:gdLst/>
                <a:ahLst/>
                <a:rect l="l" t="t" r="r" b="b"/>
                <a:pathLst>
                  <a:path w="407" h="59">
                    <a:moveTo>
                      <a:pt x="23" y="0"/>
                    </a:moveTo>
                    <a:lnTo>
                      <a:pt x="18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67" y="26"/>
                    </a:lnTo>
                    <a:lnTo>
                      <a:pt x="91" y="23"/>
                    </a:lnTo>
                    <a:lnTo>
                      <a:pt x="113" y="22"/>
                    </a:lnTo>
                    <a:lnTo>
                      <a:pt x="136" y="22"/>
                    </a:lnTo>
                    <a:lnTo>
                      <a:pt x="158" y="22"/>
                    </a:lnTo>
                    <a:lnTo>
                      <a:pt x="180" y="24"/>
                    </a:lnTo>
                    <a:lnTo>
                      <a:pt x="201" y="28"/>
                    </a:lnTo>
                    <a:lnTo>
                      <a:pt x="222" y="31"/>
                    </a:lnTo>
                    <a:lnTo>
                      <a:pt x="242" y="35"/>
                    </a:lnTo>
                    <a:lnTo>
                      <a:pt x="263" y="38"/>
                    </a:lnTo>
                    <a:lnTo>
                      <a:pt x="283" y="43"/>
                    </a:lnTo>
                    <a:lnTo>
                      <a:pt x="303" y="46"/>
                    </a:lnTo>
                    <a:lnTo>
                      <a:pt x="324" y="50"/>
                    </a:lnTo>
                    <a:lnTo>
                      <a:pt x="345" y="53"/>
                    </a:lnTo>
                    <a:lnTo>
                      <a:pt x="364" y="57"/>
                    </a:lnTo>
                    <a:lnTo>
                      <a:pt x="386" y="58"/>
                    </a:lnTo>
                    <a:lnTo>
                      <a:pt x="407" y="59"/>
                    </a:lnTo>
                    <a:lnTo>
                      <a:pt x="407" y="5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 flipH="1">
                <a:off x="2339280" y="3276720"/>
                <a:ext cx="314280" cy="52200"/>
              </a:xfrm>
              <a:custGeom>
                <a:avLst/>
                <a:gdLst/>
                <a:ahLst/>
                <a:rect l="l" t="t" r="r" b="b"/>
                <a:pathLst>
                  <a:path w="395" h="66">
                    <a:moveTo>
                      <a:pt x="24" y="0"/>
                    </a:moveTo>
                    <a:lnTo>
                      <a:pt x="17" y="4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93" y="28"/>
                    </a:lnTo>
                    <a:lnTo>
                      <a:pt x="114" y="28"/>
                    </a:lnTo>
                    <a:lnTo>
                      <a:pt x="133" y="28"/>
                    </a:lnTo>
                    <a:lnTo>
                      <a:pt x="153" y="29"/>
                    </a:lnTo>
                    <a:lnTo>
                      <a:pt x="171" y="31"/>
                    </a:lnTo>
                    <a:lnTo>
                      <a:pt x="191" y="34"/>
                    </a:lnTo>
                    <a:lnTo>
                      <a:pt x="210" y="37"/>
                    </a:lnTo>
                    <a:lnTo>
                      <a:pt x="228" y="41"/>
                    </a:lnTo>
                    <a:lnTo>
                      <a:pt x="246" y="44"/>
                    </a:lnTo>
                    <a:lnTo>
                      <a:pt x="264" y="48"/>
                    </a:lnTo>
                    <a:lnTo>
                      <a:pt x="282" y="52"/>
                    </a:lnTo>
                    <a:lnTo>
                      <a:pt x="301" y="56"/>
                    </a:lnTo>
                    <a:lnTo>
                      <a:pt x="319" y="58"/>
                    </a:lnTo>
                    <a:lnTo>
                      <a:pt x="337" y="61"/>
                    </a:lnTo>
                    <a:lnTo>
                      <a:pt x="357" y="64"/>
                    </a:lnTo>
                    <a:lnTo>
                      <a:pt x="375" y="65"/>
                    </a:lnTo>
                    <a:lnTo>
                      <a:pt x="395" y="66"/>
                    </a:lnTo>
                    <a:lnTo>
                      <a:pt x="395" y="63"/>
                    </a:lnTo>
                    <a:lnTo>
                      <a:pt x="395" y="60"/>
                    </a:lnTo>
                    <a:lnTo>
                      <a:pt x="395" y="59"/>
                    </a:lnTo>
                    <a:lnTo>
                      <a:pt x="395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 flipH="1">
                <a:off x="2339280" y="3270240"/>
                <a:ext cx="304920" cy="58680"/>
              </a:xfrm>
              <a:custGeom>
                <a:avLst/>
                <a:gdLst/>
                <a:ahLst/>
                <a:rect l="l" t="t" r="r" b="b"/>
                <a:pathLst>
                  <a:path w="384" h="74">
                    <a:moveTo>
                      <a:pt x="22" y="0"/>
                    </a:moveTo>
                    <a:lnTo>
                      <a:pt x="16" y="4"/>
                    </a:lnTo>
                    <a:lnTo>
                      <a:pt x="12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384" y="74"/>
                    </a:lnTo>
                    <a:lnTo>
                      <a:pt x="384" y="69"/>
                    </a:lnTo>
                    <a:lnTo>
                      <a:pt x="383" y="64"/>
                    </a:lnTo>
                    <a:lnTo>
                      <a:pt x="383" y="59"/>
                    </a:lnTo>
                    <a:lnTo>
                      <a:pt x="384" y="5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H="1">
                <a:off x="2339640" y="3265560"/>
                <a:ext cx="295200" cy="55440"/>
              </a:xfrm>
              <a:custGeom>
                <a:avLst/>
                <a:gdLst/>
                <a:ahLst/>
                <a:rect l="l" t="t" r="r" b="b"/>
                <a:pathLst>
                  <a:path w="371" h="72">
                    <a:moveTo>
                      <a:pt x="21" y="0"/>
                    </a:moveTo>
                    <a:lnTo>
                      <a:pt x="16" y="4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371" y="72"/>
                    </a:lnTo>
                    <a:lnTo>
                      <a:pt x="370" y="67"/>
                    </a:lnTo>
                    <a:lnTo>
                      <a:pt x="370" y="63"/>
                    </a:lnTo>
                    <a:lnTo>
                      <a:pt x="370" y="58"/>
                    </a:lnTo>
                    <a:lnTo>
                      <a:pt x="371" y="5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H="1">
                <a:off x="2336040" y="3259080"/>
                <a:ext cx="290520" cy="55440"/>
              </a:xfrm>
              <a:custGeom>
                <a:avLst/>
                <a:gdLst/>
                <a:ahLst/>
                <a:rect l="l" t="t" r="r" b="b"/>
                <a:pathLst>
                  <a:path w="367" h="70">
                    <a:moveTo>
                      <a:pt x="22" y="0"/>
                    </a:moveTo>
                    <a:lnTo>
                      <a:pt x="16" y="4"/>
                    </a:lnTo>
                    <a:lnTo>
                      <a:pt x="11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362" y="70"/>
                    </a:lnTo>
                    <a:lnTo>
                      <a:pt x="362" y="66"/>
                    </a:lnTo>
                    <a:lnTo>
                      <a:pt x="363" y="63"/>
                    </a:lnTo>
                    <a:lnTo>
                      <a:pt x="365" y="58"/>
                    </a:lnTo>
                    <a:lnTo>
                      <a:pt x="367" y="52"/>
                    </a:lnTo>
                    <a:lnTo>
                      <a:pt x="367" y="52"/>
                    </a:lnTo>
                    <a:lnTo>
                      <a:pt x="367" y="52"/>
                    </a:lnTo>
                    <a:lnTo>
                      <a:pt x="365" y="52"/>
                    </a:lnTo>
                    <a:lnTo>
                      <a:pt x="364" y="5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 flipH="1">
                <a:off x="2336040" y="3254400"/>
                <a:ext cx="281160" cy="52200"/>
              </a:xfrm>
              <a:custGeom>
                <a:avLst/>
                <a:gdLst/>
                <a:ahLst/>
                <a:rect l="l" t="t" r="r" b="b"/>
                <a:pathLst>
                  <a:path w="355" h="66">
                    <a:moveTo>
                      <a:pt x="22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350" y="66"/>
                    </a:lnTo>
                    <a:lnTo>
                      <a:pt x="351" y="64"/>
                    </a:lnTo>
                    <a:lnTo>
                      <a:pt x="352" y="62"/>
                    </a:lnTo>
                    <a:lnTo>
                      <a:pt x="353" y="61"/>
                    </a:lnTo>
                    <a:lnTo>
                      <a:pt x="355" y="58"/>
                    </a:lnTo>
                    <a:lnTo>
                      <a:pt x="350" y="56"/>
                    </a:lnTo>
                    <a:lnTo>
                      <a:pt x="344" y="54"/>
                    </a:lnTo>
                    <a:lnTo>
                      <a:pt x="340" y="50"/>
                    </a:lnTo>
                    <a:lnTo>
                      <a:pt x="334" y="47"/>
                    </a:lnTo>
                    <a:lnTo>
                      <a:pt x="334" y="4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 flipH="1">
                <a:off x="2320200" y="329400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3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 flipH="1">
                <a:off x="2337840" y="329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H="1">
                <a:off x="2320560" y="32860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15" y="10"/>
                    </a:lnTo>
                    <a:lnTo>
                      <a:pt x="20" y="15"/>
                    </a:lnTo>
                    <a:lnTo>
                      <a:pt x="26" y="18"/>
                    </a:lnTo>
                    <a:lnTo>
                      <a:pt x="22" y="15"/>
                    </a:lnTo>
                    <a:lnTo>
                      <a:pt x="17" y="10"/>
                    </a:lnTo>
                    <a:lnTo>
                      <a:pt x="12" y="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H="1">
                <a:off x="2341440" y="3284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 flipH="1">
                <a:off x="2341080" y="3247920"/>
                <a:ext cx="268200" cy="50760"/>
              </a:xfrm>
              <a:custGeom>
                <a:avLst/>
                <a:gdLst/>
                <a:ahLst/>
                <a:rect l="l" t="t" r="r" b="b"/>
                <a:pathLst>
                  <a:path w="338" h="64">
                    <a:moveTo>
                      <a:pt x="338" y="64"/>
                    </a:moveTo>
                    <a:lnTo>
                      <a:pt x="338" y="64"/>
                    </a:lnTo>
                    <a:lnTo>
                      <a:pt x="334" y="62"/>
                    </a:lnTo>
                    <a:lnTo>
                      <a:pt x="331" y="59"/>
                    </a:lnTo>
                    <a:lnTo>
                      <a:pt x="327" y="57"/>
                    </a:lnTo>
                    <a:lnTo>
                      <a:pt x="324" y="55"/>
                    </a:lnTo>
                    <a:lnTo>
                      <a:pt x="324" y="53"/>
                    </a:lnTo>
                    <a:lnTo>
                      <a:pt x="325" y="50"/>
                    </a:lnTo>
                    <a:lnTo>
                      <a:pt x="326" y="48"/>
                    </a:lnTo>
                    <a:lnTo>
                      <a:pt x="326" y="46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338" y="6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 flipH="1">
                <a:off x="2328480" y="3241800"/>
                <a:ext cx="271440" cy="54000"/>
              </a:xfrm>
              <a:custGeom>
                <a:avLst/>
                <a:gdLst/>
                <a:ahLst/>
                <a:rect l="l" t="t" r="r" b="b"/>
                <a:pathLst>
                  <a:path w="343" h="66">
                    <a:moveTo>
                      <a:pt x="26" y="0"/>
                    </a:moveTo>
                    <a:lnTo>
                      <a:pt x="19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0" y="15"/>
                    </a:lnTo>
                    <a:lnTo>
                      <a:pt x="312" y="62"/>
                    </a:lnTo>
                    <a:lnTo>
                      <a:pt x="313" y="58"/>
                    </a:lnTo>
                    <a:lnTo>
                      <a:pt x="314" y="55"/>
                    </a:lnTo>
                    <a:lnTo>
                      <a:pt x="315" y="51"/>
                    </a:lnTo>
                    <a:lnTo>
                      <a:pt x="316" y="48"/>
                    </a:lnTo>
                    <a:lnTo>
                      <a:pt x="325" y="50"/>
                    </a:lnTo>
                    <a:lnTo>
                      <a:pt x="331" y="55"/>
                    </a:lnTo>
                    <a:lnTo>
                      <a:pt x="337" y="60"/>
                    </a:lnTo>
                    <a:lnTo>
                      <a:pt x="343" y="66"/>
                    </a:lnTo>
                    <a:lnTo>
                      <a:pt x="341" y="64"/>
                    </a:lnTo>
                    <a:lnTo>
                      <a:pt x="336" y="62"/>
                    </a:lnTo>
                    <a:lnTo>
                      <a:pt x="331" y="58"/>
                    </a:lnTo>
                    <a:lnTo>
                      <a:pt x="327" y="56"/>
                    </a:lnTo>
                    <a:lnTo>
                      <a:pt x="322" y="54"/>
                    </a:lnTo>
                    <a:lnTo>
                      <a:pt x="318" y="51"/>
                    </a:lnTo>
                    <a:lnTo>
                      <a:pt x="314" y="48"/>
                    </a:lnTo>
                    <a:lnTo>
                      <a:pt x="310" y="46"/>
                    </a:lnTo>
                    <a:lnTo>
                      <a:pt x="305" y="4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 flipH="1">
                <a:off x="2336400" y="3236760"/>
                <a:ext cx="254160" cy="49320"/>
              </a:xfrm>
              <a:custGeom>
                <a:avLst/>
                <a:gdLst/>
                <a:ahLst/>
                <a:rect l="l" t="t" r="r" b="b"/>
                <a:pathLst>
                  <a:path w="322" h="62">
                    <a:moveTo>
                      <a:pt x="29" y="0"/>
                    </a:moveTo>
                    <a:lnTo>
                      <a:pt x="22" y="3"/>
                    </a:lnTo>
                    <a:lnTo>
                      <a:pt x="15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303" y="60"/>
                    </a:lnTo>
                    <a:lnTo>
                      <a:pt x="304" y="58"/>
                    </a:lnTo>
                    <a:lnTo>
                      <a:pt x="305" y="57"/>
                    </a:lnTo>
                    <a:lnTo>
                      <a:pt x="305" y="56"/>
                    </a:lnTo>
                    <a:lnTo>
                      <a:pt x="305" y="55"/>
                    </a:lnTo>
                    <a:lnTo>
                      <a:pt x="310" y="56"/>
                    </a:lnTo>
                    <a:lnTo>
                      <a:pt x="315" y="57"/>
                    </a:lnTo>
                    <a:lnTo>
                      <a:pt x="318" y="60"/>
                    </a:lnTo>
                    <a:lnTo>
                      <a:pt x="322" y="62"/>
                    </a:lnTo>
                    <a:lnTo>
                      <a:pt x="312" y="60"/>
                    </a:lnTo>
                    <a:lnTo>
                      <a:pt x="308" y="57"/>
                    </a:lnTo>
                    <a:lnTo>
                      <a:pt x="302" y="54"/>
                    </a:lnTo>
                    <a:lnTo>
                      <a:pt x="297" y="52"/>
                    </a:lnTo>
                    <a:lnTo>
                      <a:pt x="293" y="48"/>
                    </a:lnTo>
                    <a:lnTo>
                      <a:pt x="287" y="46"/>
                    </a:lnTo>
                    <a:lnTo>
                      <a:pt x="282" y="42"/>
                    </a:lnTo>
                    <a:lnTo>
                      <a:pt x="277" y="39"/>
                    </a:lnTo>
                    <a:lnTo>
                      <a:pt x="272" y="35"/>
                    </a:lnTo>
                    <a:lnTo>
                      <a:pt x="210" y="26"/>
                    </a:lnTo>
                    <a:lnTo>
                      <a:pt x="209" y="27"/>
                    </a:lnTo>
                    <a:lnTo>
                      <a:pt x="208" y="28"/>
                    </a:lnTo>
                    <a:lnTo>
                      <a:pt x="206" y="30"/>
                    </a:lnTo>
                    <a:lnTo>
                      <a:pt x="205" y="31"/>
                    </a:lnTo>
                    <a:lnTo>
                      <a:pt x="203" y="30"/>
                    </a:lnTo>
                    <a:lnTo>
                      <a:pt x="202" y="27"/>
                    </a:lnTo>
                    <a:lnTo>
                      <a:pt x="199" y="26"/>
                    </a:lnTo>
                    <a:lnTo>
                      <a:pt x="196" y="2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H="1">
                <a:off x="2358360" y="3230640"/>
                <a:ext cx="220680" cy="46080"/>
              </a:xfrm>
              <a:custGeom>
                <a:avLst/>
                <a:gdLst/>
                <a:ahLst/>
                <a:rect l="l" t="t" r="r" b="b"/>
                <a:pathLst>
                  <a:path w="279" h="57">
                    <a:moveTo>
                      <a:pt x="34" y="0"/>
                    </a:moveTo>
                    <a:lnTo>
                      <a:pt x="24" y="3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279" y="57"/>
                    </a:lnTo>
                    <a:lnTo>
                      <a:pt x="273" y="54"/>
                    </a:lnTo>
                    <a:lnTo>
                      <a:pt x="267" y="49"/>
                    </a:lnTo>
                    <a:lnTo>
                      <a:pt x="263" y="46"/>
                    </a:lnTo>
                    <a:lnTo>
                      <a:pt x="257" y="42"/>
                    </a:lnTo>
                    <a:lnTo>
                      <a:pt x="251" y="40"/>
                    </a:lnTo>
                    <a:lnTo>
                      <a:pt x="246" y="37"/>
                    </a:lnTo>
                    <a:lnTo>
                      <a:pt x="239" y="33"/>
                    </a:lnTo>
                    <a:lnTo>
                      <a:pt x="233" y="31"/>
                    </a:lnTo>
                    <a:lnTo>
                      <a:pt x="197" y="26"/>
                    </a:lnTo>
                    <a:lnTo>
                      <a:pt x="197" y="26"/>
                    </a:lnTo>
                    <a:lnTo>
                      <a:pt x="197" y="27"/>
                    </a:lnTo>
                    <a:lnTo>
                      <a:pt x="198" y="29"/>
                    </a:lnTo>
                    <a:lnTo>
                      <a:pt x="199" y="29"/>
                    </a:lnTo>
                    <a:lnTo>
                      <a:pt x="196" y="32"/>
                    </a:lnTo>
                    <a:lnTo>
                      <a:pt x="194" y="34"/>
                    </a:lnTo>
                    <a:lnTo>
                      <a:pt x="193" y="35"/>
                    </a:lnTo>
                    <a:lnTo>
                      <a:pt x="190" y="38"/>
                    </a:lnTo>
                    <a:lnTo>
                      <a:pt x="182" y="33"/>
                    </a:lnTo>
                    <a:lnTo>
                      <a:pt x="174" y="27"/>
                    </a:lnTo>
                    <a:lnTo>
                      <a:pt x="166" y="23"/>
                    </a:lnTo>
                    <a:lnTo>
                      <a:pt x="157" y="18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H="1">
                <a:off x="2431440" y="3228840"/>
                <a:ext cx="136440" cy="28800"/>
              </a:xfrm>
              <a:custGeom>
                <a:avLst/>
                <a:gdLst/>
                <a:ahLst/>
                <a:rect l="l" t="t" r="r" b="b"/>
                <a:pathLst>
                  <a:path w="172" h="36">
                    <a:moveTo>
                      <a:pt x="53" y="0"/>
                    </a:moveTo>
                    <a:lnTo>
                      <a:pt x="46" y="0"/>
                    </a:lnTo>
                    <a:lnTo>
                      <a:pt x="39" y="2"/>
                    </a:lnTo>
                    <a:lnTo>
                      <a:pt x="32" y="2"/>
                    </a:lnTo>
                    <a:lnTo>
                      <a:pt x="25" y="3"/>
                    </a:lnTo>
                    <a:lnTo>
                      <a:pt x="20" y="5"/>
                    </a:lnTo>
                    <a:lnTo>
                      <a:pt x="13" y="6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67" y="36"/>
                    </a:lnTo>
                    <a:lnTo>
                      <a:pt x="159" y="30"/>
                    </a:lnTo>
                    <a:lnTo>
                      <a:pt x="151" y="26"/>
                    </a:lnTo>
                    <a:lnTo>
                      <a:pt x="144" y="22"/>
                    </a:lnTo>
                    <a:lnTo>
                      <a:pt x="137" y="19"/>
                    </a:lnTo>
                    <a:lnTo>
                      <a:pt x="129" y="15"/>
                    </a:lnTo>
                    <a:lnTo>
                      <a:pt x="122" y="13"/>
                    </a:lnTo>
                    <a:lnTo>
                      <a:pt x="116" y="10"/>
                    </a:lnTo>
                    <a:lnTo>
                      <a:pt x="109" y="7"/>
                    </a:lnTo>
                    <a:lnTo>
                      <a:pt x="172" y="17"/>
                    </a:lnTo>
                    <a:lnTo>
                      <a:pt x="164" y="17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36" y="15"/>
                    </a:lnTo>
                    <a:lnTo>
                      <a:pt x="126" y="13"/>
                    </a:lnTo>
                    <a:lnTo>
                      <a:pt x="114" y="11"/>
                    </a:lnTo>
                    <a:lnTo>
                      <a:pt x="103" y="9"/>
                    </a:lnTo>
                    <a:lnTo>
                      <a:pt x="91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 flipH="1">
                <a:off x="2374560" y="324324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2" y="17"/>
                    </a:move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5" y="10"/>
                    </a:lnTo>
                    <a:lnTo>
                      <a:pt x="3" y="7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23" y="6"/>
                    </a:lnTo>
                    <a:lnTo>
                      <a:pt x="28" y="8"/>
                    </a:lnTo>
                    <a:lnTo>
                      <a:pt x="34" y="11"/>
                    </a:lnTo>
                    <a:lnTo>
                      <a:pt x="41" y="15"/>
                    </a:lnTo>
                    <a:lnTo>
                      <a:pt x="47" y="18"/>
                    </a:lnTo>
                    <a:lnTo>
                      <a:pt x="53" y="21"/>
                    </a:lnTo>
                    <a:lnTo>
                      <a:pt x="58" y="24"/>
                    </a:lnTo>
                    <a:lnTo>
                      <a:pt x="64" y="2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 flipH="1">
                <a:off x="2394720" y="3225960"/>
                <a:ext cx="109800" cy="2988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7"/>
                    </a:moveTo>
                    <a:lnTo>
                      <a:pt x="0" y="16"/>
                    </a:lnTo>
                    <a:lnTo>
                      <a:pt x="62" y="25"/>
                    </a:lnTo>
                    <a:lnTo>
                      <a:pt x="54" y="22"/>
                    </a:lnTo>
                    <a:lnTo>
                      <a:pt x="46" y="18"/>
                    </a:lnTo>
                    <a:lnTo>
                      <a:pt x="38" y="16"/>
                    </a:lnTo>
                    <a:lnTo>
                      <a:pt x="31" y="14"/>
                    </a:lnTo>
                    <a:lnTo>
                      <a:pt x="23" y="11"/>
                    </a:lnTo>
                    <a:lnTo>
                      <a:pt x="15" y="9"/>
                    </a:lnTo>
                    <a:lnTo>
                      <a:pt x="7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8" y="11"/>
                    </a:lnTo>
                    <a:lnTo>
                      <a:pt x="94" y="15"/>
                    </a:lnTo>
                    <a:lnTo>
                      <a:pt x="101" y="18"/>
                    </a:lnTo>
                    <a:lnTo>
                      <a:pt x="107" y="21"/>
                    </a:lnTo>
                    <a:lnTo>
                      <a:pt x="114" y="24"/>
                    </a:lnTo>
                    <a:lnTo>
                      <a:pt x="119" y="28"/>
                    </a:lnTo>
                    <a:lnTo>
                      <a:pt x="125" y="31"/>
                    </a:lnTo>
                    <a:lnTo>
                      <a:pt x="132" y="34"/>
                    </a:lnTo>
                    <a:lnTo>
                      <a:pt x="138" y="38"/>
                    </a:lnTo>
                    <a:lnTo>
                      <a:pt x="102" y="33"/>
                    </a:lnTo>
                    <a:lnTo>
                      <a:pt x="101" y="30"/>
                    </a:lnTo>
                    <a:lnTo>
                      <a:pt x="99" y="26"/>
                    </a:lnTo>
                    <a:lnTo>
                      <a:pt x="98" y="24"/>
                    </a:lnTo>
                    <a:lnTo>
                      <a:pt x="98" y="21"/>
                    </a:lnTo>
                    <a:lnTo>
                      <a:pt x="89" y="22"/>
                    </a:lnTo>
                    <a:lnTo>
                      <a:pt x="79" y="22"/>
                    </a:lnTo>
                    <a:lnTo>
                      <a:pt x="68" y="21"/>
                    </a:lnTo>
                    <a:lnTo>
                      <a:pt x="56" y="18"/>
                    </a:lnTo>
                    <a:lnTo>
                      <a:pt x="42" y="16"/>
                    </a:lnTo>
                    <a:lnTo>
                      <a:pt x="28" y="14"/>
                    </a:lnTo>
                    <a:lnTo>
                      <a:pt x="15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 flipH="1">
                <a:off x="2504880" y="321768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61" y="18"/>
                    </a:moveTo>
                    <a:lnTo>
                      <a:pt x="61" y="1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2" y="3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5" y="10"/>
                    </a:lnTo>
                    <a:lnTo>
                      <a:pt x="43" y="12"/>
                    </a:lnTo>
                    <a:lnTo>
                      <a:pt x="51" y="15"/>
                    </a:lnTo>
                    <a:lnTo>
                      <a:pt x="61" y="18"/>
                    </a:lnTo>
                    <a:lnTo>
                      <a:pt x="61" y="27"/>
                    </a:lnTo>
                    <a:lnTo>
                      <a:pt x="0" y="18"/>
                    </a:lnTo>
                    <a:lnTo>
                      <a:pt x="6" y="17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9" y="15"/>
                    </a:lnTo>
                    <a:lnTo>
                      <a:pt x="38" y="15"/>
                    </a:lnTo>
                    <a:lnTo>
                      <a:pt x="44" y="15"/>
                    </a:lnTo>
                    <a:lnTo>
                      <a:pt x="53" y="17"/>
                    </a:lnTo>
                    <a:lnTo>
                      <a:pt x="61" y="18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H="1">
                <a:off x="2412720" y="3211560"/>
                <a:ext cx="139680" cy="34920"/>
              </a:xfrm>
              <a:custGeom>
                <a:avLst/>
                <a:gdLst/>
                <a:ahLst/>
                <a:rect l="l" t="t" r="r" b="b"/>
                <a:pathLst>
                  <a:path w="176" h="42">
                    <a:moveTo>
                      <a:pt x="89" y="28"/>
                    </a:moveTo>
                    <a:lnTo>
                      <a:pt x="81" y="27"/>
                    </a:lnTo>
                    <a:lnTo>
                      <a:pt x="74" y="25"/>
                    </a:lnTo>
                    <a:lnTo>
                      <a:pt x="66" y="24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46" y="21"/>
                    </a:lnTo>
                    <a:lnTo>
                      <a:pt x="39" y="21"/>
                    </a:lnTo>
                    <a:lnTo>
                      <a:pt x="33" y="21"/>
                    </a:lnTo>
                    <a:lnTo>
                      <a:pt x="71" y="26"/>
                    </a:lnTo>
                    <a:lnTo>
                      <a:pt x="61" y="24"/>
                    </a:lnTo>
                    <a:lnTo>
                      <a:pt x="50" y="20"/>
                    </a:lnTo>
                    <a:lnTo>
                      <a:pt x="40" y="18"/>
                    </a:lnTo>
                    <a:lnTo>
                      <a:pt x="31" y="15"/>
                    </a:lnTo>
                    <a:lnTo>
                      <a:pt x="21" y="12"/>
                    </a:lnTo>
                    <a:lnTo>
                      <a:pt x="13" y="10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121" y="17"/>
                    </a:lnTo>
                    <a:lnTo>
                      <a:pt x="127" y="19"/>
                    </a:lnTo>
                    <a:lnTo>
                      <a:pt x="134" y="23"/>
                    </a:lnTo>
                    <a:lnTo>
                      <a:pt x="141" y="25"/>
                    </a:lnTo>
                    <a:lnTo>
                      <a:pt x="148" y="28"/>
                    </a:lnTo>
                    <a:lnTo>
                      <a:pt x="155" y="32"/>
                    </a:lnTo>
                    <a:lnTo>
                      <a:pt x="162" y="35"/>
                    </a:lnTo>
                    <a:lnTo>
                      <a:pt x="169" y="39"/>
                    </a:lnTo>
                    <a:lnTo>
                      <a:pt x="176" y="42"/>
                    </a:lnTo>
                    <a:lnTo>
                      <a:pt x="159" y="40"/>
                    </a:lnTo>
                    <a:lnTo>
                      <a:pt x="159" y="39"/>
                    </a:lnTo>
                    <a:lnTo>
                      <a:pt x="159" y="38"/>
                    </a:lnTo>
                    <a:lnTo>
                      <a:pt x="159" y="38"/>
                    </a:lnTo>
                    <a:lnTo>
                      <a:pt x="159" y="38"/>
                    </a:lnTo>
                    <a:lnTo>
                      <a:pt x="157" y="38"/>
                    </a:lnTo>
                    <a:lnTo>
                      <a:pt x="155" y="38"/>
                    </a:lnTo>
                    <a:lnTo>
                      <a:pt x="154" y="38"/>
                    </a:lnTo>
                    <a:lnTo>
                      <a:pt x="152" y="38"/>
                    </a:lnTo>
                    <a:lnTo>
                      <a:pt x="89" y="28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H="1">
                <a:off x="2432880" y="3205080"/>
                <a:ext cx="119160" cy="30240"/>
              </a:xfrm>
              <a:custGeom>
                <a:avLst/>
                <a:gdLst/>
                <a:ahLst/>
                <a:rect l="l" t="t" r="r" b="b"/>
                <a:pathLst>
                  <a:path w="149" h="38">
                    <a:moveTo>
                      <a:pt x="0" y="16"/>
                    </a:moveTo>
                    <a:lnTo>
                      <a:pt x="0" y="16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11" y="4"/>
                    </a:lnTo>
                    <a:lnTo>
                      <a:pt x="16" y="0"/>
                    </a:lnTo>
                    <a:lnTo>
                      <a:pt x="94" y="12"/>
                    </a:lnTo>
                    <a:lnTo>
                      <a:pt x="101" y="15"/>
                    </a:lnTo>
                    <a:lnTo>
                      <a:pt x="107" y="20"/>
                    </a:lnTo>
                    <a:lnTo>
                      <a:pt x="114" y="23"/>
                    </a:lnTo>
                    <a:lnTo>
                      <a:pt x="121" y="27"/>
                    </a:lnTo>
                    <a:lnTo>
                      <a:pt x="127" y="29"/>
                    </a:lnTo>
                    <a:lnTo>
                      <a:pt x="134" y="33"/>
                    </a:lnTo>
                    <a:lnTo>
                      <a:pt x="142" y="36"/>
                    </a:lnTo>
                    <a:lnTo>
                      <a:pt x="149" y="3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 flipH="1">
                <a:off x="2457000" y="319896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5" h="34">
                    <a:moveTo>
                      <a:pt x="17" y="0"/>
                    </a:moveTo>
                    <a:lnTo>
                      <a:pt x="13" y="4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7"/>
                    </a:lnTo>
                    <a:lnTo>
                      <a:pt x="115" y="34"/>
                    </a:lnTo>
                    <a:lnTo>
                      <a:pt x="109" y="30"/>
                    </a:lnTo>
                    <a:lnTo>
                      <a:pt x="102" y="27"/>
                    </a:lnTo>
                    <a:lnTo>
                      <a:pt x="95" y="23"/>
                    </a:lnTo>
                    <a:lnTo>
                      <a:pt x="89" y="20"/>
                    </a:lnTo>
                    <a:lnTo>
                      <a:pt x="82" y="17"/>
                    </a:lnTo>
                    <a:lnTo>
                      <a:pt x="75" y="14"/>
                    </a:lnTo>
                    <a:lnTo>
                      <a:pt x="68" y="11"/>
                    </a:lnTo>
                    <a:lnTo>
                      <a:pt x="63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 flipH="1">
                <a:off x="2477880" y="319392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15" y="0"/>
                    </a:moveTo>
                    <a:lnTo>
                      <a:pt x="10" y="3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78" y="25"/>
                    </a:lnTo>
                    <a:lnTo>
                      <a:pt x="72" y="23"/>
                    </a:lnTo>
                    <a:lnTo>
                      <a:pt x="65" y="19"/>
                    </a:lnTo>
                    <a:lnTo>
                      <a:pt x="60" y="17"/>
                    </a:lnTo>
                    <a:lnTo>
                      <a:pt x="53" y="13"/>
                    </a:lnTo>
                    <a:lnTo>
                      <a:pt x="47" y="10"/>
                    </a:lnTo>
                    <a:lnTo>
                      <a:pt x="40" y="6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 flipH="1">
                <a:off x="2498400" y="318924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12"/>
                    </a:moveTo>
                    <a:lnTo>
                      <a:pt x="2" y="9"/>
                    </a:lnTo>
                    <a:lnTo>
                      <a:pt x="5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9" y="6"/>
                    </a:lnTo>
                    <a:lnTo>
                      <a:pt x="27" y="10"/>
                    </a:lnTo>
                    <a:lnTo>
                      <a:pt x="36" y="15"/>
                    </a:lnTo>
                    <a:lnTo>
                      <a:pt x="46" y="1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H="1">
                <a:off x="2518560" y="318924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H="1">
                <a:off x="2261520" y="33624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4"/>
                    </a:moveTo>
                    <a:lnTo>
                      <a:pt x="24" y="4"/>
                    </a:lnTo>
                    <a:lnTo>
                      <a:pt x="24" y="5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16" y="5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 flipH="1">
                <a:off x="2261520" y="33591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22" y="10"/>
                    </a:moveTo>
                    <a:lnTo>
                      <a:pt x="23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7"/>
                    </a:lnTo>
                    <a:lnTo>
                      <a:pt x="16" y="9"/>
                    </a:lnTo>
                    <a:lnTo>
                      <a:pt x="22" y="1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 flipH="1">
                <a:off x="2260080" y="33559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13"/>
                    </a:moveTo>
                    <a:lnTo>
                      <a:pt x="24" y="11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 flipH="1">
                <a:off x="2260080" y="3351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13"/>
                    </a:moveTo>
                    <a:lnTo>
                      <a:pt x="25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H="1">
                <a:off x="2292120" y="33480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H="1">
                <a:off x="2258640" y="3349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29" y="11"/>
                    </a:moveTo>
                    <a:lnTo>
                      <a:pt x="29" y="9"/>
                    </a:lnTo>
                    <a:lnTo>
                      <a:pt x="30" y="8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 flipH="1">
                <a:off x="2290320" y="3344760"/>
                <a:ext cx="30240" cy="97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8" y="4"/>
                    </a:moveTo>
                    <a:lnTo>
                      <a:pt x="37" y="5"/>
                    </a:lnTo>
                    <a:lnTo>
                      <a:pt x="36" y="8"/>
                    </a:lnTo>
                    <a:lnTo>
                      <a:pt x="35" y="9"/>
                    </a:lnTo>
                    <a:lnTo>
                      <a:pt x="34" y="11"/>
                    </a:lnTo>
                    <a:lnTo>
                      <a:pt x="26" y="8"/>
                    </a:lnTo>
                    <a:lnTo>
                      <a:pt x="17" y="5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 flipH="1">
                <a:off x="2258640" y="334656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29" y="11"/>
                    </a:moveTo>
                    <a:lnTo>
                      <a:pt x="30" y="9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 flipH="1">
                <a:off x="2288880" y="33415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36" y="14"/>
                    </a:moveTo>
                    <a:lnTo>
                      <a:pt x="36" y="12"/>
                    </a:lnTo>
                    <a:lnTo>
                      <a:pt x="37" y="10"/>
                    </a:lnTo>
                    <a:lnTo>
                      <a:pt x="39" y="8"/>
                    </a:lnTo>
                    <a:lnTo>
                      <a:pt x="41" y="7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6"/>
                    </a:lnTo>
                    <a:lnTo>
                      <a:pt x="9" y="8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H="1">
                <a:off x="2256840" y="33447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4" y="11"/>
                    </a:moveTo>
                    <a:lnTo>
                      <a:pt x="34" y="9"/>
                    </a:lnTo>
                    <a:lnTo>
                      <a:pt x="35" y="8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H="1">
                <a:off x="2287440" y="333864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38" y="11"/>
                    </a:moveTo>
                    <a:lnTo>
                      <a:pt x="38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3" y="4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 flipH="1">
                <a:off x="2257200" y="3335400"/>
                <a:ext cx="61920" cy="1440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76" y="19"/>
                    </a:moveTo>
                    <a:lnTo>
                      <a:pt x="77" y="16"/>
                    </a:lnTo>
                    <a:lnTo>
                      <a:pt x="78" y="15"/>
                    </a:lnTo>
                    <a:lnTo>
                      <a:pt x="78" y="13"/>
                    </a:lnTo>
                    <a:lnTo>
                      <a:pt x="78" y="1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9" y="11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3" y="11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76" y="1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 flipH="1">
                <a:off x="2253600" y="333360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78" y="18"/>
                    </a:moveTo>
                    <a:lnTo>
                      <a:pt x="78" y="16"/>
                    </a:lnTo>
                    <a:lnTo>
                      <a:pt x="79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 flipH="1">
                <a:off x="2253600" y="3328920"/>
                <a:ext cx="65160" cy="15840"/>
              </a:xfrm>
              <a:custGeom>
                <a:avLst/>
                <a:gdLst/>
                <a:ahLst/>
                <a:rect l="l" t="t" r="r" b="b"/>
                <a:pathLst>
                  <a:path w="80" h="20">
                    <a:moveTo>
                      <a:pt x="78" y="20"/>
                    </a:moveTo>
                    <a:lnTo>
                      <a:pt x="79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80" y="13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78" y="2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H="1">
                <a:off x="2252520" y="33274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9"/>
                    </a:moveTo>
                    <a:lnTo>
                      <a:pt x="78" y="17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H="1">
                <a:off x="2250360" y="332424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76" y="20"/>
                    </a:moveTo>
                    <a:lnTo>
                      <a:pt x="77" y="17"/>
                    </a:lnTo>
                    <a:lnTo>
                      <a:pt x="78" y="16"/>
                    </a:lnTo>
                    <a:lnTo>
                      <a:pt x="80" y="14"/>
                    </a:lnTo>
                    <a:lnTo>
                      <a:pt x="82" y="13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 flipH="1">
                <a:off x="2250720" y="33210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6" y="19"/>
                    </a:moveTo>
                    <a:lnTo>
                      <a:pt x="76" y="17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1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76" y="19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 flipH="1">
                <a:off x="2247120" y="3319560"/>
                <a:ext cx="63720" cy="14040"/>
              </a:xfrm>
              <a:custGeom>
                <a:avLst/>
                <a:gdLst/>
                <a:ahLst/>
                <a:rect l="l" t="t" r="r" b="b"/>
                <a:pathLst>
                  <a:path w="79" h="17">
                    <a:moveTo>
                      <a:pt x="77" y="17"/>
                    </a:moveTo>
                    <a:lnTo>
                      <a:pt x="77" y="15"/>
                    </a:lnTo>
                    <a:lnTo>
                      <a:pt x="77" y="12"/>
                    </a:lnTo>
                    <a:lnTo>
                      <a:pt x="78" y="11"/>
                    </a:lnTo>
                    <a:lnTo>
                      <a:pt x="79" y="9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77" y="1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 flipH="1">
                <a:off x="2247480" y="3316320"/>
                <a:ext cx="61920" cy="1440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75" y="18"/>
                    </a:moveTo>
                    <a:lnTo>
                      <a:pt x="75" y="16"/>
                    </a:lnTo>
                    <a:lnTo>
                      <a:pt x="76" y="15"/>
                    </a:lnTo>
                    <a:lnTo>
                      <a:pt x="77" y="13"/>
                    </a:lnTo>
                    <a:lnTo>
                      <a:pt x="77" y="1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>
                <a:off x="2246040" y="3314520"/>
                <a:ext cx="61920" cy="12960"/>
              </a:xfrm>
              <a:custGeom>
                <a:avLst/>
                <a:gdLst/>
                <a:ahLst/>
                <a:rect l="l" t="t" r="r" b="b"/>
                <a:pathLst>
                  <a:path w="78" h="16">
                    <a:moveTo>
                      <a:pt x="75" y="16"/>
                    </a:moveTo>
                    <a:lnTo>
                      <a:pt x="75" y="13"/>
                    </a:lnTo>
                    <a:lnTo>
                      <a:pt x="75" y="12"/>
                    </a:lnTo>
                    <a:lnTo>
                      <a:pt x="76" y="10"/>
                    </a:lnTo>
                    <a:lnTo>
                      <a:pt x="78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75" y="16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H="1">
                <a:off x="2245680" y="331308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9" y="16"/>
                    </a:moveTo>
                    <a:lnTo>
                      <a:pt x="69" y="14"/>
                    </a:lnTo>
                    <a:lnTo>
                      <a:pt x="70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9" y="16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2244600" y="330840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67" y="16"/>
                    </a:moveTo>
                    <a:lnTo>
                      <a:pt x="67" y="14"/>
                    </a:lnTo>
                    <a:lnTo>
                      <a:pt x="67" y="12"/>
                    </a:lnTo>
                    <a:lnTo>
                      <a:pt x="68" y="10"/>
                    </a:lnTo>
                    <a:lnTo>
                      <a:pt x="69" y="9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H="1">
                <a:off x="2244240" y="330660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3" y="17"/>
                    </a:moveTo>
                    <a:lnTo>
                      <a:pt x="63" y="14"/>
                    </a:lnTo>
                    <a:lnTo>
                      <a:pt x="64" y="13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63" y="1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>
                <a:off x="2242440" y="33051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0" y="14"/>
                    </a:moveTo>
                    <a:lnTo>
                      <a:pt x="60" y="12"/>
                    </a:lnTo>
                    <a:lnTo>
                      <a:pt x="60" y="10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H="1">
                <a:off x="2242800" y="330192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57" h="15">
                    <a:moveTo>
                      <a:pt x="55" y="15"/>
                    </a:moveTo>
                    <a:lnTo>
                      <a:pt x="55" y="12"/>
                    </a:lnTo>
                    <a:lnTo>
                      <a:pt x="56" y="11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2241360" y="330048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53" h="13">
                    <a:moveTo>
                      <a:pt x="51" y="13"/>
                    </a:moveTo>
                    <a:lnTo>
                      <a:pt x="51" y="11"/>
                    </a:lnTo>
                    <a:lnTo>
                      <a:pt x="51" y="10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2241000" y="3298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2" y="13"/>
                    </a:moveTo>
                    <a:lnTo>
                      <a:pt x="42" y="10"/>
                    </a:lnTo>
                    <a:lnTo>
                      <a:pt x="43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>
                <a:off x="2239560" y="32972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5" y="10"/>
                    </a:moveTo>
                    <a:lnTo>
                      <a:pt x="35" y="8"/>
                    </a:lnTo>
                    <a:lnTo>
                      <a:pt x="35" y="5"/>
                    </a:lnTo>
                    <a:lnTo>
                      <a:pt x="37" y="4"/>
                    </a:lnTo>
                    <a:lnTo>
                      <a:pt x="3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H="1">
                <a:off x="2239560" y="329580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28" y="7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1" y="3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H="1">
                <a:off x="2236320" y="329400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2" y="7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H="1">
                <a:off x="2236680" y="32907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2" y="7"/>
                    </a:moveTo>
                    <a:lnTo>
                      <a:pt x="12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2236320" y="3290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H="1">
                <a:off x="2190240" y="3371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2"/>
                    </a:lnTo>
                    <a:lnTo>
                      <a:pt x="3" y="7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 flipH="1">
                <a:off x="2190240" y="336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H="1">
                <a:off x="2187360" y="3367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3" y="0"/>
                    </a:moveTo>
                    <a:lnTo>
                      <a:pt x="0" y="5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>
                <a:off x="2171520" y="3371760"/>
                <a:ext cx="1440" cy="1800"/>
              </a:xfrm>
              <a:prstGeom prst="rect">
                <a:avLst/>
              </a:pr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 flipH="1">
                <a:off x="2185200" y="33656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3" y="0"/>
                    </a:moveTo>
                    <a:lnTo>
                      <a:pt x="0" y="5"/>
                    </a:lnTo>
                    <a:lnTo>
                      <a:pt x="8" y="7"/>
                    </a:lnTo>
                    <a:lnTo>
                      <a:pt x="1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 flipH="1">
                <a:off x="2169360" y="3368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 flipH="1">
                <a:off x="2184120" y="33638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4"/>
                    </a:lnTo>
                    <a:lnTo>
                      <a:pt x="7" y="7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>
                <a:off x="2167920" y="3367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7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H="1">
                <a:off x="2182680" y="33624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3" y="0"/>
                    </a:moveTo>
                    <a:lnTo>
                      <a:pt x="0" y="4"/>
                    </a:lnTo>
                    <a:lnTo>
                      <a:pt x="10" y="6"/>
                    </a:lnTo>
                    <a:lnTo>
                      <a:pt x="1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 flipH="1">
                <a:off x="2163600" y="33638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12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 flipH="1">
                <a:off x="2182680" y="33591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3" y="0"/>
                    </a:moveTo>
                    <a:lnTo>
                      <a:pt x="0" y="6"/>
                    </a:lnTo>
                    <a:lnTo>
                      <a:pt x="12" y="8"/>
                    </a:lnTo>
                    <a:lnTo>
                      <a:pt x="1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2161440" y="33624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 flipH="1">
                <a:off x="2180520" y="3355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9"/>
                    </a:lnTo>
                    <a:lnTo>
                      <a:pt x="11" y="11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 flipH="1">
                <a:off x="2157120" y="33591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0" y="8"/>
                    </a:moveTo>
                    <a:lnTo>
                      <a:pt x="17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H="1">
                <a:off x="2155320" y="33544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2" y="0"/>
                    </a:moveTo>
                    <a:lnTo>
                      <a:pt x="0" y="7"/>
                    </a:lnTo>
                    <a:lnTo>
                      <a:pt x="11" y="7"/>
                    </a:lnTo>
                    <a:lnTo>
                      <a:pt x="16" y="2"/>
                    </a:lnTo>
                    <a:lnTo>
                      <a:pt x="27" y="7"/>
                    </a:lnTo>
                    <a:lnTo>
                      <a:pt x="25" y="11"/>
                    </a:lnTo>
                    <a:lnTo>
                      <a:pt x="38" y="13"/>
                    </a:lnTo>
                    <a:lnTo>
                      <a:pt x="4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flipH="1">
                <a:off x="2152440" y="3351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2" y="0"/>
                    </a:moveTo>
                    <a:lnTo>
                      <a:pt x="0" y="4"/>
                    </a:lnTo>
                    <a:lnTo>
                      <a:pt x="14" y="7"/>
                    </a:lnTo>
                    <a:lnTo>
                      <a:pt x="16" y="4"/>
                    </a:lnTo>
                    <a:lnTo>
                      <a:pt x="25" y="9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 flipH="1">
                <a:off x="2150280" y="334980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0" y="6"/>
                    </a:lnTo>
                    <a:lnTo>
                      <a:pt x="43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 flipH="1">
                <a:off x="2148840" y="334800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2" y="7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H="1">
                <a:off x="2145960" y="33465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0" y="0"/>
                    </a:moveTo>
                    <a:lnTo>
                      <a:pt x="0" y="5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H="1">
                <a:off x="2145960" y="3344760"/>
                <a:ext cx="44640" cy="972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2" y="0"/>
                    </a:moveTo>
                    <a:lnTo>
                      <a:pt x="0" y="4"/>
                    </a:lnTo>
                    <a:lnTo>
                      <a:pt x="52" y="11"/>
                    </a:lnTo>
                    <a:lnTo>
                      <a:pt x="5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 flipH="1">
                <a:off x="2144520" y="334152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2" y="0"/>
                    </a:moveTo>
                    <a:lnTo>
                      <a:pt x="0" y="7"/>
                    </a:lnTo>
                    <a:lnTo>
                      <a:pt x="54" y="14"/>
                    </a:lnTo>
                    <a:lnTo>
                      <a:pt x="56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 flipH="1">
                <a:off x="2142720" y="333864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0"/>
                    </a:moveTo>
                    <a:lnTo>
                      <a:pt x="0" y="7"/>
                    </a:lnTo>
                    <a:lnTo>
                      <a:pt x="52" y="14"/>
                    </a:lnTo>
                    <a:lnTo>
                      <a:pt x="5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 flipH="1">
                <a:off x="2142720" y="333684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7" y="10"/>
                    </a:lnTo>
                    <a:lnTo>
                      <a:pt x="54" y="1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H="1">
                <a:off x="2141280" y="333540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9" y="9"/>
                    </a:lnTo>
                    <a:lnTo>
                      <a:pt x="57" y="1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H="1">
                <a:off x="2138040" y="33336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4" y="0"/>
                    </a:moveTo>
                    <a:lnTo>
                      <a:pt x="0" y="4"/>
                    </a:lnTo>
                    <a:lnTo>
                      <a:pt x="54" y="14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 flipH="1">
                <a:off x="2136600" y="333072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5" y="0"/>
                    </a:moveTo>
                    <a:lnTo>
                      <a:pt x="0" y="6"/>
                    </a:lnTo>
                    <a:lnTo>
                      <a:pt x="54" y="15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 flipH="1">
                <a:off x="2134440" y="3328920"/>
                <a:ext cx="4788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0" y="8"/>
                    </a:lnTo>
                    <a:lnTo>
                      <a:pt x="56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 flipH="1">
                <a:off x="2133360" y="332748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59" h="15">
                    <a:moveTo>
                      <a:pt x="0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9" y="8"/>
                    </a:lnTo>
                    <a:lnTo>
                      <a:pt x="55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H="1">
                <a:off x="2131200" y="33256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2" y="0"/>
                    </a:moveTo>
                    <a:lnTo>
                      <a:pt x="0" y="5"/>
                    </a:lnTo>
                    <a:lnTo>
                      <a:pt x="55" y="13"/>
                    </a:lnTo>
                    <a:lnTo>
                      <a:pt x="60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H="1">
                <a:off x="2131200" y="3324240"/>
                <a:ext cx="47880" cy="936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2" y="0"/>
                    </a:moveTo>
                    <a:lnTo>
                      <a:pt x="0" y="5"/>
                    </a:lnTo>
                    <a:lnTo>
                      <a:pt x="57" y="13"/>
                    </a:lnTo>
                    <a:lnTo>
                      <a:pt x="60" y="9"/>
                    </a:lnTo>
                    <a:lnTo>
                      <a:pt x="57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 flipH="1">
                <a:off x="2131560" y="331956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0"/>
                    </a:moveTo>
                    <a:lnTo>
                      <a:pt x="0" y="6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 flipH="1">
                <a:off x="2133000" y="331776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0" y="0"/>
                    </a:lnTo>
                    <a:lnTo>
                      <a:pt x="51" y="7"/>
                    </a:lnTo>
                    <a:lnTo>
                      <a:pt x="5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 flipH="1">
                <a:off x="2134440" y="331776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0" y="3"/>
                    </a:moveTo>
                    <a:lnTo>
                      <a:pt x="0" y="0"/>
                    </a:lnTo>
                    <a:lnTo>
                      <a:pt x="51" y="7"/>
                    </a:lnTo>
                    <a:lnTo>
                      <a:pt x="53" y="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H="1">
                <a:off x="2221920" y="33670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0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H="1">
                <a:off x="2220480" y="336564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0" y="2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 flipH="1">
                <a:off x="2220480" y="33624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6"/>
                    </a:lnTo>
                    <a:lnTo>
                      <a:pt x="15" y="9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 flipH="1">
                <a:off x="2217600" y="33591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2" y="0"/>
                    </a:moveTo>
                    <a:lnTo>
                      <a:pt x="0" y="8"/>
                    </a:lnTo>
                    <a:lnTo>
                      <a:pt x="17" y="10"/>
                    </a:lnTo>
                    <a:lnTo>
                      <a:pt x="19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 flipH="1">
                <a:off x="2215440" y="33577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  <a:lnTo>
                      <a:pt x="17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 flipH="1">
                <a:off x="2214360" y="335592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2" y="3"/>
                    </a:lnTo>
                    <a:lnTo>
                      <a:pt x="17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 flipH="1">
                <a:off x="2214360" y="33544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7" y="0"/>
                    </a:moveTo>
                    <a:lnTo>
                      <a:pt x="0" y="5"/>
                    </a:lnTo>
                    <a:lnTo>
                      <a:pt x="20" y="7"/>
                    </a:lnTo>
                    <a:lnTo>
                      <a:pt x="2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2212560" y="33512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19" y="2"/>
                    </a:lnTo>
                    <a:lnTo>
                      <a:pt x="1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 flipH="1">
                <a:off x="2211120" y="33480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" y="7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7" y="9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 flipH="1">
                <a:off x="2209320" y="33465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0"/>
                    </a:moveTo>
                    <a:lnTo>
                      <a:pt x="9" y="7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 flipH="1">
                <a:off x="2209680" y="334332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1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 flipH="1">
                <a:off x="2206080" y="3341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5" y="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6" y="5"/>
                    </a:lnTo>
                    <a:lnTo>
                      <a:pt x="34" y="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H="1">
                <a:off x="2204640" y="33386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" y="0"/>
                    </a:moveTo>
                    <a:lnTo>
                      <a:pt x="0" y="4"/>
                    </a:lnTo>
                    <a:lnTo>
                      <a:pt x="34" y="9"/>
                    </a:lnTo>
                    <a:lnTo>
                      <a:pt x="38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 flipH="1">
                <a:off x="2203200" y="33354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0" y="7"/>
                    </a:lnTo>
                    <a:lnTo>
                      <a:pt x="33" y="12"/>
                    </a:lnTo>
                    <a:lnTo>
                      <a:pt x="3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 flipH="1">
                <a:off x="2201760" y="33336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0"/>
                    </a:moveTo>
                    <a:lnTo>
                      <a:pt x="0" y="7"/>
                    </a:lnTo>
                    <a:lnTo>
                      <a:pt x="35" y="11"/>
                    </a:lnTo>
                    <a:lnTo>
                      <a:pt x="4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 flipH="1">
                <a:off x="2199600" y="3330720"/>
                <a:ext cx="33480" cy="108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0" y="0"/>
                    </a:moveTo>
                    <a:lnTo>
                      <a:pt x="0" y="6"/>
                    </a:lnTo>
                    <a:lnTo>
                      <a:pt x="38" y="13"/>
                    </a:lnTo>
                    <a:lnTo>
                      <a:pt x="4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 flipH="1">
                <a:off x="2198160" y="332748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2" y="0"/>
                    </a:moveTo>
                    <a:lnTo>
                      <a:pt x="0" y="8"/>
                    </a:lnTo>
                    <a:lnTo>
                      <a:pt x="40" y="15"/>
                    </a:lnTo>
                    <a:lnTo>
                      <a:pt x="45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2198160" y="3325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2" y="0"/>
                    </a:moveTo>
                    <a:lnTo>
                      <a:pt x="0" y="7"/>
                    </a:lnTo>
                    <a:lnTo>
                      <a:pt x="42" y="13"/>
                    </a:lnTo>
                    <a:lnTo>
                      <a:pt x="4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 flipH="1">
                <a:off x="2196360" y="332424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0" y="5"/>
                    </a:lnTo>
                    <a:lnTo>
                      <a:pt x="43" y="13"/>
                    </a:lnTo>
                    <a:lnTo>
                      <a:pt x="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 flipH="1">
                <a:off x="2193480" y="332100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0"/>
                    </a:moveTo>
                    <a:lnTo>
                      <a:pt x="0" y="4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 flipH="1">
                <a:off x="2192040" y="331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1" y="9"/>
                    </a:lnTo>
                    <a:lnTo>
                      <a:pt x="4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 flipH="1">
                <a:off x="2190600" y="331632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0" y="7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3" y="7"/>
                    </a:lnTo>
                    <a:lnTo>
                      <a:pt x="48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 flipH="1">
                <a:off x="2187000" y="331452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7" y="0"/>
                    </a:moveTo>
                    <a:lnTo>
                      <a:pt x="0" y="4"/>
                    </a:lnTo>
                    <a:lnTo>
                      <a:pt x="51" y="13"/>
                    </a:lnTo>
                    <a:lnTo>
                      <a:pt x="55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 flipH="1">
                <a:off x="2185200" y="331308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4" y="0"/>
                    </a:moveTo>
                    <a:lnTo>
                      <a:pt x="0" y="5"/>
                    </a:lnTo>
                    <a:lnTo>
                      <a:pt x="48" y="12"/>
                    </a:lnTo>
                    <a:lnTo>
                      <a:pt x="53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 flipH="1">
                <a:off x="2185200" y="3311640"/>
                <a:ext cx="41400" cy="792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6" y="0"/>
                    </a:moveTo>
                    <a:lnTo>
                      <a:pt x="0" y="5"/>
                    </a:lnTo>
                    <a:lnTo>
                      <a:pt x="48" y="12"/>
                    </a:lnTo>
                    <a:lnTo>
                      <a:pt x="5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2" name=""/>
            <p:cNvGrpSpPr/>
            <p:nvPr/>
          </p:nvGrpSpPr>
          <p:grpSpPr>
            <a:xfrm>
              <a:off x="1657440" y="3198960"/>
              <a:ext cx="566640" cy="234720"/>
              <a:chOff x="1657440" y="3198960"/>
              <a:chExt cx="566640" cy="234720"/>
            </a:xfrm>
          </p:grpSpPr>
          <p:sp>
            <p:nvSpPr>
              <p:cNvPr id="5523" name=""/>
              <p:cNvSpPr/>
              <p:nvPr/>
            </p:nvSpPr>
            <p:spPr>
              <a:xfrm flipH="1">
                <a:off x="2184480" y="33084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6" y="0"/>
                    </a:moveTo>
                    <a:lnTo>
                      <a:pt x="0" y="4"/>
                    </a:lnTo>
                    <a:lnTo>
                      <a:pt x="49" y="11"/>
                    </a:lnTo>
                    <a:lnTo>
                      <a:pt x="51" y="7"/>
                    </a:lnTo>
                    <a:lnTo>
                      <a:pt x="34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 flipH="1">
                <a:off x="2184480" y="330660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5"/>
                    </a:moveTo>
                    <a:lnTo>
                      <a:pt x="2" y="0"/>
                    </a:lnTo>
                    <a:lnTo>
                      <a:pt x="47" y="10"/>
                    </a:lnTo>
                    <a:lnTo>
                      <a:pt x="45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H="1">
                <a:off x="2198520" y="330660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3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 flipH="1">
                <a:off x="2089080" y="33908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3"/>
                    </a:moveTo>
                    <a:lnTo>
                      <a:pt x="19" y="4"/>
                    </a:lnTo>
                    <a:lnTo>
                      <a:pt x="19" y="6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 flipH="1">
                <a:off x="2085840" y="33861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25" y="10"/>
                    </a:moveTo>
                    <a:lnTo>
                      <a:pt x="25" y="10"/>
                    </a:lnTo>
                    <a:lnTo>
                      <a:pt x="25" y="9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 flipH="1">
                <a:off x="2085840" y="338148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4" y="13"/>
                    </a:moveTo>
                    <a:lnTo>
                      <a:pt x="35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H="1">
                <a:off x="2085840" y="337968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12"/>
                    </a:moveTo>
                    <a:lnTo>
                      <a:pt x="42" y="10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10" y="4"/>
                    </a:lnTo>
                    <a:lnTo>
                      <a:pt x="15" y="7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 flipH="1">
                <a:off x="2084040" y="337644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53" h="15">
                    <a:moveTo>
                      <a:pt x="49" y="15"/>
                    </a:moveTo>
                    <a:lnTo>
                      <a:pt x="49" y="13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3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49" y="15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 flipH="1">
                <a:off x="2084040" y="33735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9" y="14"/>
                    </a:moveTo>
                    <a:lnTo>
                      <a:pt x="59" y="14"/>
                    </a:lnTo>
                    <a:lnTo>
                      <a:pt x="61" y="13"/>
                    </a:lnTo>
                    <a:lnTo>
                      <a:pt x="63" y="11"/>
                    </a:lnTo>
                    <a:lnTo>
                      <a:pt x="63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flipH="1">
                <a:off x="2084400" y="33685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8" h="16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3"/>
                    </a:lnTo>
                    <a:lnTo>
                      <a:pt x="18" y="6"/>
                    </a:lnTo>
                    <a:lnTo>
                      <a:pt x="25" y="9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 flipH="1">
                <a:off x="2084400" y="336708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78" y="17"/>
                    </a:lnTo>
                    <a:lnTo>
                      <a:pt x="78" y="14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 flipH="1">
                <a:off x="2084400" y="336384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78" y="18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 flipH="1">
                <a:off x="2084040" y="3362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2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5" y="12"/>
                    </a:lnTo>
                    <a:lnTo>
                      <a:pt x="75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 flipH="1">
                <a:off x="2082600" y="335916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77" h="17">
                    <a:moveTo>
                      <a:pt x="6" y="0"/>
                    </a:move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75" y="17"/>
                    </a:lnTo>
                    <a:lnTo>
                      <a:pt x="75" y="15"/>
                    </a:lnTo>
                    <a:lnTo>
                      <a:pt x="75" y="14"/>
                    </a:lnTo>
                    <a:lnTo>
                      <a:pt x="76" y="12"/>
                    </a:lnTo>
                    <a:lnTo>
                      <a:pt x="77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 flipH="1">
                <a:off x="2082600" y="3357720"/>
                <a:ext cx="58680" cy="1404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6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73" y="17"/>
                    </a:lnTo>
                    <a:lnTo>
                      <a:pt x="74" y="15"/>
                    </a:lnTo>
                    <a:lnTo>
                      <a:pt x="75" y="14"/>
                    </a:lnTo>
                    <a:lnTo>
                      <a:pt x="75" y="11"/>
                    </a:lnTo>
                    <a:lnTo>
                      <a:pt x="75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flipH="1">
                <a:off x="2082960" y="3355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1" h="1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71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flipH="1">
                <a:off x="2082960" y="335448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5">
                    <a:moveTo>
                      <a:pt x="7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9" y="15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9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 flipH="1">
                <a:off x="2082600" y="3349800"/>
                <a:ext cx="52200" cy="140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7" y="0"/>
                    </a:moveTo>
                    <a:lnTo>
                      <a:pt x="6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7" y="12"/>
                    </a:lnTo>
                    <a:lnTo>
                      <a:pt x="67" y="11"/>
                    </a:lnTo>
                    <a:lnTo>
                      <a:pt x="6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 flipH="1">
                <a:off x="2079360" y="3348000"/>
                <a:ext cx="52200" cy="1440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4" y="0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 flipH="1">
                <a:off x="2079360" y="33465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5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H="1">
                <a:off x="2079720" y="334476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5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H="1">
                <a:off x="2079720" y="334332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4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H="1">
                <a:off x="2077920" y="3341520"/>
                <a:ext cx="45720" cy="82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8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2076480" y="333684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3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3" y="14"/>
                    </a:lnTo>
                    <a:lnTo>
                      <a:pt x="54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9"/>
                    </a:lnTo>
                    <a:lnTo>
                      <a:pt x="49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 flipH="1">
                <a:off x="2076480" y="333540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2" y="0"/>
                    </a:move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4" y="12"/>
                    </a:lnTo>
                    <a:lnTo>
                      <a:pt x="55" y="12"/>
                    </a:lnTo>
                    <a:lnTo>
                      <a:pt x="49" y="11"/>
                    </a:lnTo>
                    <a:lnTo>
                      <a:pt x="42" y="9"/>
                    </a:lnTo>
                    <a:lnTo>
                      <a:pt x="35" y="7"/>
                    </a:lnTo>
                    <a:lnTo>
                      <a:pt x="28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flipH="1">
                <a:off x="2084400" y="33336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46" y="11"/>
                    </a:lnTo>
                    <a:lnTo>
                      <a:pt x="38" y="9"/>
                    </a:lnTo>
                    <a:lnTo>
                      <a:pt x="28" y="7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 flipH="1">
                <a:off x="2097000" y="3330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3" y="5"/>
                    </a:lnTo>
                    <a:lnTo>
                      <a:pt x="19" y="7"/>
                    </a:lnTo>
                    <a:lnTo>
                      <a:pt x="26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 flipH="1">
                <a:off x="2109960" y="333072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H="1">
                <a:off x="2025720" y="3373560"/>
                <a:ext cx="38160" cy="61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0"/>
                    </a:moveTo>
                    <a:lnTo>
                      <a:pt x="0" y="7"/>
                    </a:lnTo>
                    <a:lnTo>
                      <a:pt x="29" y="10"/>
                    </a:lnTo>
                    <a:lnTo>
                      <a:pt x="38" y="10"/>
                    </a:lnTo>
                    <a:lnTo>
                      <a:pt x="4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 flipH="1">
                <a:off x="2014200" y="3371760"/>
                <a:ext cx="49320" cy="7920"/>
              </a:xfrm>
              <a:custGeom>
                <a:avLst/>
                <a:gdLst/>
                <a:ahLst/>
                <a:rect l="l" t="t" r="r" b="b"/>
                <a:pathLst>
                  <a:path w="62" h="12">
                    <a:moveTo>
                      <a:pt x="0" y="7"/>
                    </a:moveTo>
                    <a:lnTo>
                      <a:pt x="2" y="0"/>
                    </a:lnTo>
                    <a:lnTo>
                      <a:pt x="22" y="5"/>
                    </a:lnTo>
                    <a:lnTo>
                      <a:pt x="26" y="2"/>
                    </a:lnTo>
                    <a:lnTo>
                      <a:pt x="62" y="7"/>
                    </a:lnTo>
                    <a:lnTo>
                      <a:pt x="38" y="12"/>
                    </a:lnTo>
                    <a:lnTo>
                      <a:pt x="29" y="12"/>
                    </a:lnTo>
                    <a:lnTo>
                      <a:pt x="17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 flipH="1">
                <a:off x="1996920" y="3368520"/>
                <a:ext cx="66600" cy="9720"/>
              </a:xfrm>
              <a:custGeom>
                <a:avLst/>
                <a:gdLst/>
                <a:ahLst/>
                <a:rect l="l" t="t" r="r" b="b"/>
                <a:pathLst>
                  <a:path w="84" h="11">
                    <a:moveTo>
                      <a:pt x="0" y="4"/>
                    </a:moveTo>
                    <a:lnTo>
                      <a:pt x="2" y="2"/>
                    </a:lnTo>
                    <a:lnTo>
                      <a:pt x="22" y="7"/>
                    </a:lnTo>
                    <a:lnTo>
                      <a:pt x="33" y="0"/>
                    </a:lnTo>
                    <a:lnTo>
                      <a:pt x="84" y="9"/>
                    </a:lnTo>
                    <a:lnTo>
                      <a:pt x="65" y="9"/>
                    </a:lnTo>
                    <a:lnTo>
                      <a:pt x="4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 flipH="1">
                <a:off x="1977840" y="3367080"/>
                <a:ext cx="65160" cy="9360"/>
              </a:xfrm>
              <a:custGeom>
                <a:avLst/>
                <a:gdLst/>
                <a:ahLst/>
                <a:rect l="l" t="t" r="r" b="b"/>
                <a:pathLst>
                  <a:path w="81" h="12">
                    <a:moveTo>
                      <a:pt x="0" y="7"/>
                    </a:moveTo>
                    <a:lnTo>
                      <a:pt x="12" y="3"/>
                    </a:lnTo>
                    <a:lnTo>
                      <a:pt x="17" y="0"/>
                    </a:lnTo>
                    <a:lnTo>
                      <a:pt x="81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 flipH="1">
                <a:off x="1960560" y="3363840"/>
                <a:ext cx="76320" cy="126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7"/>
                    </a:moveTo>
                    <a:lnTo>
                      <a:pt x="5" y="7"/>
                    </a:lnTo>
                    <a:lnTo>
                      <a:pt x="20" y="0"/>
                    </a:lnTo>
                    <a:lnTo>
                      <a:pt x="96" y="11"/>
                    </a:lnTo>
                    <a:lnTo>
                      <a:pt x="76" y="14"/>
                    </a:lnTo>
                    <a:lnTo>
                      <a:pt x="51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H="1">
                <a:off x="1944720" y="336240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19" y="0"/>
                    </a:moveTo>
                    <a:lnTo>
                      <a:pt x="0" y="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104" y="13"/>
                    </a:lnTo>
                    <a:lnTo>
                      <a:pt x="107" y="1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 flipH="1">
                <a:off x="1927440" y="3359160"/>
                <a:ext cx="95040" cy="14400"/>
              </a:xfrm>
              <a:custGeom>
                <a:avLst/>
                <a:gdLst/>
                <a:ahLst/>
                <a:rect l="l" t="t" r="r" b="b"/>
                <a:pathLst>
                  <a:path w="119" h="17">
                    <a:moveTo>
                      <a:pt x="18" y="0"/>
                    </a:moveTo>
                    <a:lnTo>
                      <a:pt x="0" y="6"/>
                    </a:lnTo>
                    <a:lnTo>
                      <a:pt x="76" y="17"/>
                    </a:lnTo>
                    <a:lnTo>
                      <a:pt x="94" y="17"/>
                    </a:lnTo>
                    <a:lnTo>
                      <a:pt x="119" y="1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 flipH="1">
                <a:off x="1911600" y="3357720"/>
                <a:ext cx="102960" cy="15840"/>
              </a:xfrm>
              <a:custGeom>
                <a:avLst/>
                <a:gdLst/>
                <a:ahLst/>
                <a:rect l="l" t="t" r="r" b="b"/>
                <a:pathLst>
                  <a:path w="129" h="19">
                    <a:moveTo>
                      <a:pt x="0" y="6"/>
                    </a:moveTo>
                    <a:lnTo>
                      <a:pt x="12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129" y="15"/>
                    </a:lnTo>
                    <a:lnTo>
                      <a:pt x="125" y="15"/>
                    </a:lnTo>
                    <a:lnTo>
                      <a:pt x="88" y="1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flipH="1">
                <a:off x="1893600" y="3354480"/>
                <a:ext cx="112680" cy="17280"/>
              </a:xfrm>
              <a:custGeom>
                <a:avLst/>
                <a:gdLst/>
                <a:ahLst/>
                <a:rect l="l" t="t" r="r" b="b"/>
                <a:pathLst>
                  <a:path w="143" h="22">
                    <a:moveTo>
                      <a:pt x="0" y="7"/>
                    </a:moveTo>
                    <a:lnTo>
                      <a:pt x="3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143" y="20"/>
                    </a:lnTo>
                    <a:lnTo>
                      <a:pt x="116" y="20"/>
                    </a:lnTo>
                    <a:lnTo>
                      <a:pt x="101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 flipH="1">
                <a:off x="1874880" y="3351240"/>
                <a:ext cx="114480" cy="17280"/>
              </a:xfrm>
              <a:custGeom>
                <a:avLst/>
                <a:gdLst/>
                <a:ahLst/>
                <a:rect l="l" t="t" r="r" b="b"/>
                <a:pathLst>
                  <a:path w="146" h="22">
                    <a:moveTo>
                      <a:pt x="16" y="0"/>
                    </a:moveTo>
                    <a:lnTo>
                      <a:pt x="0" y="7"/>
                    </a:lnTo>
                    <a:lnTo>
                      <a:pt x="98" y="22"/>
                    </a:lnTo>
                    <a:lnTo>
                      <a:pt x="146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 flipH="1">
                <a:off x="1855440" y="3349800"/>
                <a:ext cx="128520" cy="18720"/>
              </a:xfrm>
              <a:custGeom>
                <a:avLst/>
                <a:gdLst/>
                <a:ahLst/>
                <a:rect l="l" t="t" r="r" b="b"/>
                <a:pathLst>
                  <a:path w="163" h="24">
                    <a:moveTo>
                      <a:pt x="0" y="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163" y="19"/>
                    </a:lnTo>
                    <a:lnTo>
                      <a:pt x="155" y="19"/>
                    </a:lnTo>
                    <a:lnTo>
                      <a:pt x="114" y="2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 flipH="1">
                <a:off x="1830240" y="3348000"/>
                <a:ext cx="145800" cy="190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0" y="5"/>
                    </a:moveTo>
                    <a:lnTo>
                      <a:pt x="3" y="3"/>
                    </a:lnTo>
                    <a:lnTo>
                      <a:pt x="32" y="0"/>
                    </a:lnTo>
                    <a:lnTo>
                      <a:pt x="185" y="22"/>
                    </a:lnTo>
                    <a:lnTo>
                      <a:pt x="146" y="22"/>
                    </a:lnTo>
                    <a:lnTo>
                      <a:pt x="130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 flipH="1">
                <a:off x="1803240" y="3346560"/>
                <a:ext cx="161640" cy="19080"/>
              </a:xfrm>
              <a:custGeom>
                <a:avLst/>
                <a:gdLst/>
                <a:ahLst/>
                <a:rect l="l" t="t" r="r" b="b"/>
                <a:pathLst>
                  <a:path w="203" h="24">
                    <a:moveTo>
                      <a:pt x="34" y="0"/>
                    </a:moveTo>
                    <a:lnTo>
                      <a:pt x="0" y="5"/>
                    </a:lnTo>
                    <a:lnTo>
                      <a:pt x="139" y="24"/>
                    </a:lnTo>
                    <a:lnTo>
                      <a:pt x="203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 flipH="1">
                <a:off x="1779840" y="3344760"/>
                <a:ext cx="172800" cy="20880"/>
              </a:xfrm>
              <a:custGeom>
                <a:avLst/>
                <a:gdLst/>
                <a:ahLst/>
                <a:rect l="l" t="t" r="r" b="b"/>
                <a:pathLst>
                  <a:path w="216" h="26">
                    <a:moveTo>
                      <a:pt x="33" y="0"/>
                    </a:moveTo>
                    <a:lnTo>
                      <a:pt x="0" y="4"/>
                    </a:lnTo>
                    <a:lnTo>
                      <a:pt x="153" y="26"/>
                    </a:lnTo>
                    <a:lnTo>
                      <a:pt x="216" y="2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 flipH="1">
                <a:off x="1755360" y="3343320"/>
                <a:ext cx="182520" cy="22320"/>
              </a:xfrm>
              <a:custGeom>
                <a:avLst/>
                <a:gdLst/>
                <a:ahLst/>
                <a:rect l="l" t="t" r="r" b="b"/>
                <a:pathLst>
                  <a:path w="230" h="29">
                    <a:moveTo>
                      <a:pt x="33" y="0"/>
                    </a:moveTo>
                    <a:lnTo>
                      <a:pt x="0" y="5"/>
                    </a:lnTo>
                    <a:lnTo>
                      <a:pt x="169" y="29"/>
                    </a:lnTo>
                    <a:lnTo>
                      <a:pt x="23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 flipH="1">
                <a:off x="1716120" y="33415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265" h="38">
                    <a:moveTo>
                      <a:pt x="33" y="0"/>
                    </a:moveTo>
                    <a:lnTo>
                      <a:pt x="0" y="5"/>
                    </a:lnTo>
                    <a:lnTo>
                      <a:pt x="183" y="31"/>
                    </a:lnTo>
                    <a:lnTo>
                      <a:pt x="238" y="31"/>
                    </a:lnTo>
                    <a:lnTo>
                      <a:pt x="260" y="38"/>
                    </a:lnTo>
                    <a:lnTo>
                      <a:pt x="265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 flipH="1">
                <a:off x="1707840" y="3338640"/>
                <a:ext cx="203400" cy="33120"/>
              </a:xfrm>
              <a:custGeom>
                <a:avLst/>
                <a:gdLst/>
                <a:ahLst/>
                <a:rect l="l" t="t" r="r" b="b"/>
                <a:pathLst>
                  <a:path w="257" h="40">
                    <a:moveTo>
                      <a:pt x="34" y="0"/>
                    </a:moveTo>
                    <a:lnTo>
                      <a:pt x="0" y="4"/>
                    </a:lnTo>
                    <a:lnTo>
                      <a:pt x="197" y="33"/>
                    </a:lnTo>
                    <a:lnTo>
                      <a:pt x="221" y="33"/>
                    </a:lnTo>
                    <a:lnTo>
                      <a:pt x="243" y="40"/>
                    </a:lnTo>
                    <a:lnTo>
                      <a:pt x="257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 flipH="1">
                <a:off x="1657440" y="3336840"/>
                <a:ext cx="241200" cy="34920"/>
              </a:xfrm>
              <a:custGeom>
                <a:avLst/>
                <a:gdLst/>
                <a:ahLst/>
                <a:rect l="l" t="t" r="r" b="b"/>
                <a:pathLst>
                  <a:path w="306" h="43">
                    <a:moveTo>
                      <a:pt x="34" y="0"/>
                    </a:moveTo>
                    <a:lnTo>
                      <a:pt x="0" y="5"/>
                    </a:lnTo>
                    <a:lnTo>
                      <a:pt x="232" y="38"/>
                    </a:lnTo>
                    <a:lnTo>
                      <a:pt x="246" y="34"/>
                    </a:lnTo>
                    <a:lnTo>
                      <a:pt x="301" y="43"/>
                    </a:lnTo>
                    <a:lnTo>
                      <a:pt x="306" y="41"/>
                    </a:lnTo>
                    <a:lnTo>
                      <a:pt x="306" y="4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 flipH="1">
                <a:off x="1657080" y="3333600"/>
                <a:ext cx="228600" cy="38160"/>
              </a:xfrm>
              <a:custGeom>
                <a:avLst/>
                <a:gdLst/>
                <a:ahLst/>
                <a:rect l="l" t="t" r="r" b="b"/>
                <a:pathLst>
                  <a:path w="288" h="47">
                    <a:moveTo>
                      <a:pt x="0" y="7"/>
                    </a:moveTo>
                    <a:lnTo>
                      <a:pt x="23" y="2"/>
                    </a:lnTo>
                    <a:lnTo>
                      <a:pt x="27" y="0"/>
                    </a:lnTo>
                    <a:lnTo>
                      <a:pt x="285" y="40"/>
                    </a:lnTo>
                    <a:lnTo>
                      <a:pt x="288" y="45"/>
                    </a:lnTo>
                    <a:lnTo>
                      <a:pt x="283" y="47"/>
                    </a:lnTo>
                    <a:lnTo>
                      <a:pt x="228" y="38"/>
                    </a:lnTo>
                    <a:lnTo>
                      <a:pt x="223" y="4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 flipH="1">
                <a:off x="1657440" y="3330720"/>
                <a:ext cx="216000" cy="37800"/>
              </a:xfrm>
              <a:custGeom>
                <a:avLst/>
                <a:gdLst/>
                <a:ahLst/>
                <a:rect l="l" t="t" r="r" b="b"/>
                <a:pathLst>
                  <a:path w="272" h="49">
                    <a:moveTo>
                      <a:pt x="0" y="8"/>
                    </a:moveTo>
                    <a:lnTo>
                      <a:pt x="7" y="6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269" y="40"/>
                    </a:lnTo>
                    <a:lnTo>
                      <a:pt x="272" y="4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 flipH="1">
                <a:off x="1658520" y="3328920"/>
                <a:ext cx="204840" cy="3672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0" y="6"/>
                    </a:moveTo>
                    <a:lnTo>
                      <a:pt x="6" y="6"/>
                    </a:lnTo>
                    <a:lnTo>
                      <a:pt x="18" y="2"/>
                    </a:lnTo>
                    <a:lnTo>
                      <a:pt x="34" y="0"/>
                    </a:lnTo>
                    <a:lnTo>
                      <a:pt x="256" y="33"/>
                    </a:lnTo>
                    <a:lnTo>
                      <a:pt x="256" y="38"/>
                    </a:lnTo>
                    <a:lnTo>
                      <a:pt x="258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 flipH="1">
                <a:off x="1658880" y="3328920"/>
                <a:ext cx="193680" cy="33480"/>
              </a:xfrm>
              <a:custGeom>
                <a:avLst/>
                <a:gdLst/>
                <a:ahLst/>
                <a:rect l="l" t="t" r="r" b="b"/>
                <a:pathLst>
                  <a:path w="245" h="42">
                    <a:moveTo>
                      <a:pt x="0" y="2"/>
                    </a:moveTo>
                    <a:lnTo>
                      <a:pt x="5" y="2"/>
                    </a:lnTo>
                    <a:lnTo>
                      <a:pt x="40" y="0"/>
                    </a:lnTo>
                    <a:lnTo>
                      <a:pt x="239" y="29"/>
                    </a:lnTo>
                    <a:lnTo>
                      <a:pt x="243" y="38"/>
                    </a:lnTo>
                    <a:lnTo>
                      <a:pt x="245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 flipH="1">
                <a:off x="1660320" y="3327480"/>
                <a:ext cx="176040" cy="28440"/>
              </a:xfrm>
              <a:custGeom>
                <a:avLst/>
                <a:gdLst/>
                <a:ahLst/>
                <a:rect l="l" t="t" r="r" b="b"/>
                <a:pathLst>
                  <a:path w="222" h="35">
                    <a:moveTo>
                      <a:pt x="0" y="2"/>
                    </a:moveTo>
                    <a:lnTo>
                      <a:pt x="33" y="0"/>
                    </a:lnTo>
                    <a:lnTo>
                      <a:pt x="41" y="0"/>
                    </a:lnTo>
                    <a:lnTo>
                      <a:pt x="212" y="26"/>
                    </a:lnTo>
                    <a:lnTo>
                      <a:pt x="218" y="31"/>
                    </a:lnTo>
                    <a:lnTo>
                      <a:pt x="222" y="3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 flipH="1">
                <a:off x="1663920" y="3325680"/>
                <a:ext cx="156960" cy="25560"/>
              </a:xfrm>
              <a:custGeom>
                <a:avLst/>
                <a:gdLst/>
                <a:ahLst/>
                <a:rect l="l" t="t" r="r" b="b"/>
                <a:pathLst>
                  <a:path w="199" h="34">
                    <a:moveTo>
                      <a:pt x="0" y="5"/>
                    </a:moveTo>
                    <a:lnTo>
                      <a:pt x="14" y="3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86" y="22"/>
                    </a:lnTo>
                    <a:lnTo>
                      <a:pt x="199" y="34"/>
                    </a:lnTo>
                    <a:lnTo>
                      <a:pt x="199" y="3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 flipH="1">
                <a:off x="1668240" y="3325680"/>
                <a:ext cx="135000" cy="22320"/>
              </a:xfrm>
              <a:custGeom>
                <a:avLst/>
                <a:gdLst/>
                <a:ahLst/>
                <a:rect l="l" t="t" r="r" b="b"/>
                <a:pathLst>
                  <a:path w="171" h="29">
                    <a:moveTo>
                      <a:pt x="0" y="3"/>
                    </a:moveTo>
                    <a:lnTo>
                      <a:pt x="23" y="0"/>
                    </a:lnTo>
                    <a:lnTo>
                      <a:pt x="61" y="3"/>
                    </a:lnTo>
                    <a:lnTo>
                      <a:pt x="157" y="18"/>
                    </a:lnTo>
                    <a:lnTo>
                      <a:pt x="171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 flipH="1">
                <a:off x="1674360" y="3325680"/>
                <a:ext cx="111240" cy="17640"/>
              </a:xfrm>
              <a:custGeom>
                <a:avLst/>
                <a:gdLst/>
                <a:ahLst/>
                <a:rect l="l" t="t" r="r" b="b"/>
                <a:pathLst>
                  <a:path w="141" h="22">
                    <a:moveTo>
                      <a:pt x="74" y="3"/>
                    </a:moveTo>
                    <a:lnTo>
                      <a:pt x="0" y="0"/>
                    </a:lnTo>
                    <a:lnTo>
                      <a:pt x="141" y="22"/>
                    </a:lnTo>
                    <a:lnTo>
                      <a:pt x="127" y="11"/>
                    </a:lnTo>
                    <a:lnTo>
                      <a:pt x="127" y="11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 flipH="1">
                <a:off x="1679400" y="3327480"/>
                <a:ext cx="75960" cy="111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0"/>
                    </a:moveTo>
                    <a:lnTo>
                      <a:pt x="72" y="0"/>
                    </a:lnTo>
                    <a:lnTo>
                      <a:pt x="89" y="8"/>
                    </a:lnTo>
                    <a:lnTo>
                      <a:pt x="9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 flipH="1">
                <a:off x="1684080" y="3327480"/>
                <a:ext cx="42840" cy="6120"/>
              </a:xfrm>
              <a:custGeom>
                <a:avLst/>
                <a:gdLst/>
                <a:ahLst/>
                <a:rect l="l" t="t" r="r" b="b"/>
                <a:pathLst>
                  <a:path w="53" h="8">
                    <a:moveTo>
                      <a:pt x="0" y="0"/>
                    </a:moveTo>
                    <a:lnTo>
                      <a:pt x="36" y="0"/>
                    </a:lnTo>
                    <a:lnTo>
                      <a:pt x="5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 flipH="1">
                <a:off x="1915920" y="338472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12" y="0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3"/>
                    </a:lnTo>
                    <a:lnTo>
                      <a:pt x="24" y="5"/>
                    </a:lnTo>
                    <a:lnTo>
                      <a:pt x="36" y="6"/>
                    </a:lnTo>
                    <a:lnTo>
                      <a:pt x="48" y="8"/>
                    </a:lnTo>
                    <a:lnTo>
                      <a:pt x="60" y="9"/>
                    </a:lnTo>
                    <a:lnTo>
                      <a:pt x="71" y="11"/>
                    </a:lnTo>
                    <a:lnTo>
                      <a:pt x="84" y="12"/>
                    </a:lnTo>
                    <a:lnTo>
                      <a:pt x="96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 flipH="1">
                <a:off x="1681200" y="342576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5"/>
                    </a:move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8"/>
                    </a:lnTo>
                    <a:lnTo>
                      <a:pt x="29" y="7"/>
                    </a:lnTo>
                    <a:lnTo>
                      <a:pt x="24" y="6"/>
                    </a:lnTo>
                    <a:lnTo>
                      <a:pt x="20" y="5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 flipH="1">
                <a:off x="1825200" y="3381480"/>
                <a:ext cx="165240" cy="2376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33" y="0"/>
                    </a:moveTo>
                    <a:lnTo>
                      <a:pt x="24" y="1"/>
                    </a:lnTo>
                    <a:lnTo>
                      <a:pt x="15" y="2"/>
                    </a:lnTo>
                    <a:lnTo>
                      <a:pt x="7" y="2"/>
                    </a:lnTo>
                    <a:lnTo>
                      <a:pt x="0" y="2"/>
                    </a:lnTo>
                    <a:lnTo>
                      <a:pt x="13" y="5"/>
                    </a:lnTo>
                    <a:lnTo>
                      <a:pt x="27" y="7"/>
                    </a:lnTo>
                    <a:lnTo>
                      <a:pt x="39" y="9"/>
                    </a:lnTo>
                    <a:lnTo>
                      <a:pt x="52" y="10"/>
                    </a:lnTo>
                    <a:lnTo>
                      <a:pt x="66" y="13"/>
                    </a:lnTo>
                    <a:lnTo>
                      <a:pt x="78" y="14"/>
                    </a:lnTo>
                    <a:lnTo>
                      <a:pt x="92" y="15"/>
                    </a:lnTo>
                    <a:lnTo>
                      <a:pt x="105" y="17"/>
                    </a:lnTo>
                    <a:lnTo>
                      <a:pt x="118" y="18"/>
                    </a:lnTo>
                    <a:lnTo>
                      <a:pt x="131" y="19"/>
                    </a:lnTo>
                    <a:lnTo>
                      <a:pt x="144" y="21"/>
                    </a:lnTo>
                    <a:lnTo>
                      <a:pt x="158" y="23"/>
                    </a:lnTo>
                    <a:lnTo>
                      <a:pt x="171" y="24"/>
                    </a:lnTo>
                    <a:lnTo>
                      <a:pt x="183" y="25"/>
                    </a:lnTo>
                    <a:lnTo>
                      <a:pt x="197" y="28"/>
                    </a:lnTo>
                    <a:lnTo>
                      <a:pt x="21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 flipH="1">
                <a:off x="1681200" y="341136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108" h="26">
                    <a:moveTo>
                      <a:pt x="105" y="26"/>
                    </a:moveTo>
                    <a:lnTo>
                      <a:pt x="105" y="24"/>
                    </a:lnTo>
                    <a:lnTo>
                      <a:pt x="106" y="22"/>
                    </a:lnTo>
                    <a:lnTo>
                      <a:pt x="108" y="20"/>
                    </a:lnTo>
                    <a:lnTo>
                      <a:pt x="108" y="17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6" y="6"/>
                    </a:lnTo>
                    <a:lnTo>
                      <a:pt x="38" y="9"/>
                    </a:lnTo>
                    <a:lnTo>
                      <a:pt x="51" y="11"/>
                    </a:lnTo>
                    <a:lnTo>
                      <a:pt x="63" y="15"/>
                    </a:lnTo>
                    <a:lnTo>
                      <a:pt x="75" y="18"/>
                    </a:lnTo>
                    <a:lnTo>
                      <a:pt x="88" y="22"/>
                    </a:lnTo>
                    <a:lnTo>
                      <a:pt x="101" y="26"/>
                    </a:lnTo>
                    <a:lnTo>
                      <a:pt x="105" y="26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 flipH="1">
                <a:off x="1679760" y="3381480"/>
                <a:ext cx="303120" cy="47520"/>
              </a:xfrm>
              <a:custGeom>
                <a:avLst/>
                <a:gdLst/>
                <a:ahLst/>
                <a:rect l="l" t="t" r="r" b="b"/>
                <a:pathLst>
                  <a:path w="381" h="60">
                    <a:moveTo>
                      <a:pt x="42" y="0"/>
                    </a:moveTo>
                    <a:lnTo>
                      <a:pt x="36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6" y="1"/>
                    </a:lnTo>
                    <a:lnTo>
                      <a:pt x="11" y="2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84" y="15"/>
                    </a:lnTo>
                    <a:lnTo>
                      <a:pt x="100" y="16"/>
                    </a:lnTo>
                    <a:lnTo>
                      <a:pt x="116" y="18"/>
                    </a:lnTo>
                    <a:lnTo>
                      <a:pt x="132" y="19"/>
                    </a:lnTo>
                    <a:lnTo>
                      <a:pt x="147" y="22"/>
                    </a:lnTo>
                    <a:lnTo>
                      <a:pt x="163" y="23"/>
                    </a:lnTo>
                    <a:lnTo>
                      <a:pt x="179" y="25"/>
                    </a:lnTo>
                    <a:lnTo>
                      <a:pt x="195" y="28"/>
                    </a:lnTo>
                    <a:lnTo>
                      <a:pt x="212" y="30"/>
                    </a:lnTo>
                    <a:lnTo>
                      <a:pt x="228" y="32"/>
                    </a:lnTo>
                    <a:lnTo>
                      <a:pt x="244" y="34"/>
                    </a:lnTo>
                    <a:lnTo>
                      <a:pt x="259" y="37"/>
                    </a:lnTo>
                    <a:lnTo>
                      <a:pt x="275" y="40"/>
                    </a:lnTo>
                    <a:lnTo>
                      <a:pt x="291" y="44"/>
                    </a:lnTo>
                    <a:lnTo>
                      <a:pt x="307" y="47"/>
                    </a:lnTo>
                    <a:lnTo>
                      <a:pt x="322" y="51"/>
                    </a:lnTo>
                    <a:lnTo>
                      <a:pt x="338" y="55"/>
                    </a:lnTo>
                    <a:lnTo>
                      <a:pt x="379" y="60"/>
                    </a:lnTo>
                    <a:lnTo>
                      <a:pt x="379" y="58"/>
                    </a:lnTo>
                    <a:lnTo>
                      <a:pt x="379" y="55"/>
                    </a:lnTo>
                    <a:lnTo>
                      <a:pt x="380" y="53"/>
                    </a:lnTo>
                    <a:lnTo>
                      <a:pt x="381" y="5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 flipH="1">
                <a:off x="1662120" y="3379680"/>
                <a:ext cx="303120" cy="46080"/>
              </a:xfrm>
              <a:custGeom>
                <a:avLst/>
                <a:gdLst/>
                <a:ahLst/>
                <a:rect l="l" t="t" r="r" b="b"/>
                <a:pathLst>
                  <a:path w="382" h="57">
                    <a:moveTo>
                      <a:pt x="45" y="0"/>
                    </a:moveTo>
                    <a:lnTo>
                      <a:pt x="40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177" y="31"/>
                    </a:lnTo>
                    <a:lnTo>
                      <a:pt x="186" y="32"/>
                    </a:lnTo>
                    <a:lnTo>
                      <a:pt x="196" y="33"/>
                    </a:lnTo>
                    <a:lnTo>
                      <a:pt x="206" y="33"/>
                    </a:lnTo>
                    <a:lnTo>
                      <a:pt x="215" y="34"/>
                    </a:lnTo>
                    <a:lnTo>
                      <a:pt x="224" y="35"/>
                    </a:lnTo>
                    <a:lnTo>
                      <a:pt x="232" y="36"/>
                    </a:lnTo>
                    <a:lnTo>
                      <a:pt x="241" y="39"/>
                    </a:lnTo>
                    <a:lnTo>
                      <a:pt x="250" y="40"/>
                    </a:lnTo>
                    <a:lnTo>
                      <a:pt x="358" y="57"/>
                    </a:lnTo>
                    <a:lnTo>
                      <a:pt x="358" y="55"/>
                    </a:lnTo>
                    <a:lnTo>
                      <a:pt x="359" y="54"/>
                    </a:lnTo>
                    <a:lnTo>
                      <a:pt x="360" y="51"/>
                    </a:lnTo>
                    <a:lnTo>
                      <a:pt x="360" y="50"/>
                    </a:lnTo>
                    <a:lnTo>
                      <a:pt x="366" y="50"/>
                    </a:lnTo>
                    <a:lnTo>
                      <a:pt x="370" y="51"/>
                    </a:lnTo>
                    <a:lnTo>
                      <a:pt x="376" y="53"/>
                    </a:lnTo>
                    <a:lnTo>
                      <a:pt x="382" y="53"/>
                    </a:lnTo>
                    <a:lnTo>
                      <a:pt x="381" y="53"/>
                    </a:lnTo>
                    <a:lnTo>
                      <a:pt x="380" y="51"/>
                    </a:lnTo>
                    <a:lnTo>
                      <a:pt x="378" y="50"/>
                    </a:lnTo>
                    <a:lnTo>
                      <a:pt x="376" y="5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 flipH="1">
                <a:off x="1662120" y="3378240"/>
                <a:ext cx="285840" cy="44280"/>
              </a:xfrm>
              <a:custGeom>
                <a:avLst/>
                <a:gdLst/>
                <a:ahLst/>
                <a:rect l="l" t="t" r="r" b="b"/>
                <a:pathLst>
                  <a:path w="361" h="56">
                    <a:moveTo>
                      <a:pt x="46" y="0"/>
                    </a:moveTo>
                    <a:lnTo>
                      <a:pt x="40" y="1"/>
                    </a:lnTo>
                    <a:lnTo>
                      <a:pt x="35" y="1"/>
                    </a:lnTo>
                    <a:lnTo>
                      <a:pt x="30" y="3"/>
                    </a:lnTo>
                    <a:lnTo>
                      <a:pt x="24" y="3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339" y="56"/>
                    </a:lnTo>
                    <a:lnTo>
                      <a:pt x="339" y="53"/>
                    </a:lnTo>
                    <a:lnTo>
                      <a:pt x="345" y="53"/>
                    </a:lnTo>
                    <a:lnTo>
                      <a:pt x="349" y="54"/>
                    </a:lnTo>
                    <a:lnTo>
                      <a:pt x="355" y="56"/>
                    </a:lnTo>
                    <a:lnTo>
                      <a:pt x="361" y="56"/>
                    </a:lnTo>
                    <a:lnTo>
                      <a:pt x="356" y="53"/>
                    </a:lnTo>
                    <a:lnTo>
                      <a:pt x="352" y="52"/>
                    </a:lnTo>
                    <a:lnTo>
                      <a:pt x="348" y="49"/>
                    </a:lnTo>
                    <a:lnTo>
                      <a:pt x="346" y="4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 flipH="1">
                <a:off x="1666800" y="3378240"/>
                <a:ext cx="262080" cy="42840"/>
              </a:xfrm>
              <a:custGeom>
                <a:avLst/>
                <a:gdLst/>
                <a:ahLst/>
                <a:rect l="l" t="t" r="r" b="b"/>
                <a:pathLst>
                  <a:path w="331" h="53">
                    <a:moveTo>
                      <a:pt x="45" y="0"/>
                    </a:moveTo>
                    <a:lnTo>
                      <a:pt x="40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31" y="53"/>
                    </a:lnTo>
                    <a:lnTo>
                      <a:pt x="326" y="50"/>
                    </a:lnTo>
                    <a:lnTo>
                      <a:pt x="322" y="46"/>
                    </a:lnTo>
                    <a:lnTo>
                      <a:pt x="318" y="44"/>
                    </a:lnTo>
                    <a:lnTo>
                      <a:pt x="315" y="4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 flipH="1">
                <a:off x="1674720" y="3376440"/>
                <a:ext cx="236880" cy="38160"/>
              </a:xfrm>
              <a:custGeom>
                <a:avLst/>
                <a:gdLst/>
                <a:ahLst/>
                <a:rect l="l" t="t" r="r" b="b"/>
                <a:pathLst>
                  <a:path w="300" h="47">
                    <a:moveTo>
                      <a:pt x="45" y="0"/>
                    </a:moveTo>
                    <a:lnTo>
                      <a:pt x="39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300" y="47"/>
                    </a:lnTo>
                    <a:lnTo>
                      <a:pt x="296" y="45"/>
                    </a:lnTo>
                    <a:lnTo>
                      <a:pt x="294" y="43"/>
                    </a:lnTo>
                    <a:lnTo>
                      <a:pt x="292" y="40"/>
                    </a:lnTo>
                    <a:lnTo>
                      <a:pt x="291" y="3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 flipH="1">
                <a:off x="1679400" y="3376440"/>
                <a:ext cx="214200" cy="33480"/>
              </a:xfrm>
              <a:custGeom>
                <a:avLst/>
                <a:gdLst/>
                <a:ahLst/>
                <a:rect l="l" t="t" r="r" b="b"/>
                <a:pathLst>
                  <a:path w="270" h="43">
                    <a:moveTo>
                      <a:pt x="49" y="0"/>
                    </a:moveTo>
                    <a:lnTo>
                      <a:pt x="42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270" y="43"/>
                    </a:lnTo>
                    <a:lnTo>
                      <a:pt x="269" y="39"/>
                    </a:lnTo>
                    <a:lnTo>
                      <a:pt x="266" y="37"/>
                    </a:lnTo>
                    <a:lnTo>
                      <a:pt x="265" y="35"/>
                    </a:lnTo>
                    <a:lnTo>
                      <a:pt x="265" y="3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 flipH="1">
                <a:off x="1680840" y="3375000"/>
                <a:ext cx="195480" cy="31680"/>
              </a:xfrm>
              <a:custGeom>
                <a:avLst/>
                <a:gdLst/>
                <a:ahLst/>
                <a:rect l="l" t="t" r="r" b="b"/>
                <a:pathLst>
                  <a:path w="246" h="40">
                    <a:moveTo>
                      <a:pt x="52" y="0"/>
                    </a:moveTo>
                    <a:lnTo>
                      <a:pt x="46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7" y="2"/>
                    </a:lnTo>
                    <a:lnTo>
                      <a:pt x="0" y="2"/>
                    </a:lnTo>
                    <a:lnTo>
                      <a:pt x="246" y="40"/>
                    </a:lnTo>
                    <a:lnTo>
                      <a:pt x="244" y="37"/>
                    </a:lnTo>
                    <a:lnTo>
                      <a:pt x="243" y="34"/>
                    </a:lnTo>
                    <a:lnTo>
                      <a:pt x="243" y="32"/>
                    </a:lnTo>
                    <a:lnTo>
                      <a:pt x="243" y="2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 flipH="1">
                <a:off x="1683000" y="3375000"/>
                <a:ext cx="172800" cy="27000"/>
              </a:xfrm>
              <a:custGeom>
                <a:avLst/>
                <a:gdLst/>
                <a:ahLst/>
                <a:rect l="l" t="t" r="r" b="b"/>
                <a:pathLst>
                  <a:path w="216" h="33">
                    <a:moveTo>
                      <a:pt x="54" y="0"/>
                    </a:moveTo>
                    <a:lnTo>
                      <a:pt x="48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216" y="33"/>
                    </a:lnTo>
                    <a:lnTo>
                      <a:pt x="216" y="31"/>
                    </a:lnTo>
                    <a:lnTo>
                      <a:pt x="216" y="30"/>
                    </a:lnTo>
                    <a:lnTo>
                      <a:pt x="216" y="27"/>
                    </a:lnTo>
                    <a:lnTo>
                      <a:pt x="216" y="2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 flipH="1">
                <a:off x="1682640" y="3375000"/>
                <a:ext cx="152280" cy="22320"/>
              </a:xfrm>
              <a:custGeom>
                <a:avLst/>
                <a:gdLst/>
                <a:ahLst/>
                <a:rect l="l" t="t" r="r" b="b"/>
                <a:pathLst>
                  <a:path w="191" h="28">
                    <a:moveTo>
                      <a:pt x="67" y="0"/>
                    </a:moveTo>
                    <a:lnTo>
                      <a:pt x="59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91" y="28"/>
                    </a:lnTo>
                    <a:lnTo>
                      <a:pt x="191" y="26"/>
                    </a:lnTo>
                    <a:lnTo>
                      <a:pt x="191" y="25"/>
                    </a:lnTo>
                    <a:lnTo>
                      <a:pt x="191" y="23"/>
                    </a:lnTo>
                    <a:lnTo>
                      <a:pt x="191" y="1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 flipH="1">
                <a:off x="1683000" y="3375000"/>
                <a:ext cx="126720" cy="19080"/>
              </a:xfrm>
              <a:custGeom>
                <a:avLst/>
                <a:gdLst/>
                <a:ahLst/>
                <a:rect l="l" t="t" r="r" b="b"/>
                <a:pathLst>
                  <a:path w="160" h="24">
                    <a:moveTo>
                      <a:pt x="91" y="4"/>
                    </a:moveTo>
                    <a:lnTo>
                      <a:pt x="80" y="3"/>
                    </a:lnTo>
                    <a:lnTo>
                      <a:pt x="68" y="2"/>
                    </a:lnTo>
                    <a:lnTo>
                      <a:pt x="57" y="1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60" y="24"/>
                    </a:lnTo>
                    <a:lnTo>
                      <a:pt x="160" y="22"/>
                    </a:lnTo>
                    <a:lnTo>
                      <a:pt x="160" y="20"/>
                    </a:lnTo>
                    <a:lnTo>
                      <a:pt x="160" y="17"/>
                    </a:lnTo>
                    <a:lnTo>
                      <a:pt x="160" y="14"/>
                    </a:lnTo>
                    <a:lnTo>
                      <a:pt x="91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 flipH="1">
                <a:off x="1682640" y="3375000"/>
                <a:ext cx="99720" cy="15840"/>
              </a:xfrm>
              <a:custGeom>
                <a:avLst/>
                <a:gdLst/>
                <a:ahLst/>
                <a:rect l="l" t="t" r="r" b="b"/>
                <a:pathLst>
                  <a:path w="124" h="19">
                    <a:moveTo>
                      <a:pt x="0" y="0"/>
                    </a:moveTo>
                    <a:lnTo>
                      <a:pt x="15" y="1"/>
                    </a:lnTo>
                    <a:lnTo>
                      <a:pt x="30" y="2"/>
                    </a:lnTo>
                    <a:lnTo>
                      <a:pt x="46" y="3"/>
                    </a:lnTo>
                    <a:lnTo>
                      <a:pt x="61" y="4"/>
                    </a:lnTo>
                    <a:lnTo>
                      <a:pt x="77" y="5"/>
                    </a:lnTo>
                    <a:lnTo>
                      <a:pt x="92" y="8"/>
                    </a:lnTo>
                    <a:lnTo>
                      <a:pt x="108" y="10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6"/>
                    </a:lnTo>
                    <a:lnTo>
                      <a:pt x="124" y="17"/>
                    </a:lnTo>
                    <a:lnTo>
                      <a:pt x="12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 flipH="1">
                <a:off x="1683000" y="337824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8" y="0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4" y="3"/>
                    </a:lnTo>
                    <a:lnTo>
                      <a:pt x="43" y="5"/>
                    </a:lnTo>
                    <a:lnTo>
                      <a:pt x="51" y="6"/>
                    </a:lnTo>
                    <a:lnTo>
                      <a:pt x="60" y="8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 flipH="1">
                <a:off x="2031840" y="335448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11" y="0"/>
                    </a:moveTo>
                    <a:lnTo>
                      <a:pt x="8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4" y="6"/>
                    </a:lnTo>
                    <a:lnTo>
                      <a:pt x="3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 flipH="1">
                <a:off x="2017440" y="33498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13" y="0"/>
                    </a:moveTo>
                    <a:lnTo>
                      <a:pt x="9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15" y="11"/>
                    </a:lnTo>
                    <a:lnTo>
                      <a:pt x="19" y="10"/>
                    </a:lnTo>
                    <a:lnTo>
                      <a:pt x="24" y="10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6" y="8"/>
                    </a:lnTo>
                    <a:lnTo>
                      <a:pt x="51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H="1">
                <a:off x="2005200" y="33465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11" y="0"/>
                    </a:move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27" y="14"/>
                    </a:lnTo>
                    <a:lnTo>
                      <a:pt x="35" y="11"/>
                    </a:lnTo>
                    <a:lnTo>
                      <a:pt x="43" y="10"/>
                    </a:lnTo>
                    <a:lnTo>
                      <a:pt x="53" y="8"/>
                    </a:lnTo>
                    <a:lnTo>
                      <a:pt x="61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 flipH="1">
                <a:off x="1990440" y="3343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71" h="16">
                    <a:moveTo>
                      <a:pt x="13" y="0"/>
                    </a:moveTo>
                    <a:lnTo>
                      <a:pt x="9" y="4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38" y="16"/>
                    </a:lnTo>
                    <a:lnTo>
                      <a:pt x="45" y="14"/>
                    </a:lnTo>
                    <a:lnTo>
                      <a:pt x="53" y="13"/>
                    </a:lnTo>
                    <a:lnTo>
                      <a:pt x="62" y="11"/>
                    </a:lnTo>
                    <a:lnTo>
                      <a:pt x="71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 flipH="1">
                <a:off x="1981440" y="333864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81" h="16">
                    <a:moveTo>
                      <a:pt x="16" y="0"/>
                    </a:moveTo>
                    <a:lnTo>
                      <a:pt x="13" y="3"/>
                    </a:lnTo>
                    <a:lnTo>
                      <a:pt x="9" y="6"/>
                    </a:lnTo>
                    <a:lnTo>
                      <a:pt x="5" y="7"/>
                    </a:lnTo>
                    <a:lnTo>
                      <a:pt x="0" y="9"/>
                    </a:lnTo>
                    <a:lnTo>
                      <a:pt x="50" y="16"/>
                    </a:lnTo>
                    <a:lnTo>
                      <a:pt x="58" y="15"/>
                    </a:lnTo>
                    <a:lnTo>
                      <a:pt x="66" y="12"/>
                    </a:lnTo>
                    <a:lnTo>
                      <a:pt x="74" y="11"/>
                    </a:lnTo>
                    <a:lnTo>
                      <a:pt x="81" y="1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 flipH="1">
                <a:off x="1967040" y="3336840"/>
                <a:ext cx="69840" cy="1296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18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58" y="17"/>
                    </a:lnTo>
                    <a:lnTo>
                      <a:pt x="65" y="14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9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 flipH="1">
                <a:off x="1954440" y="333360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8" h="18">
                    <a:moveTo>
                      <a:pt x="22" y="0"/>
                    </a:moveTo>
                    <a:lnTo>
                      <a:pt x="16" y="1"/>
                    </a:lnTo>
                    <a:lnTo>
                      <a:pt x="12" y="3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65" y="18"/>
                    </a:lnTo>
                    <a:lnTo>
                      <a:pt x="74" y="16"/>
                    </a:lnTo>
                    <a:lnTo>
                      <a:pt x="82" y="15"/>
                    </a:lnTo>
                    <a:lnTo>
                      <a:pt x="90" y="13"/>
                    </a:lnTo>
                    <a:lnTo>
                      <a:pt x="98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H="1">
                <a:off x="1941480" y="3328920"/>
                <a:ext cx="82800" cy="1584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20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71" y="20"/>
                    </a:lnTo>
                    <a:lnTo>
                      <a:pt x="78" y="17"/>
                    </a:lnTo>
                    <a:lnTo>
                      <a:pt x="86" y="16"/>
                    </a:lnTo>
                    <a:lnTo>
                      <a:pt x="94" y="14"/>
                    </a:lnTo>
                    <a:lnTo>
                      <a:pt x="102" y="1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1928880" y="3327480"/>
                <a:ext cx="85680" cy="15840"/>
              </a:xfrm>
              <a:custGeom>
                <a:avLst/>
                <a:gdLst/>
                <a:ahLst/>
                <a:rect l="l" t="t" r="r" b="b"/>
                <a:pathLst>
                  <a:path w="107" h="19">
                    <a:moveTo>
                      <a:pt x="22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76" y="19"/>
                    </a:lnTo>
                    <a:lnTo>
                      <a:pt x="83" y="17"/>
                    </a:lnTo>
                    <a:lnTo>
                      <a:pt x="91" y="16"/>
                    </a:lnTo>
                    <a:lnTo>
                      <a:pt x="99" y="14"/>
                    </a:lnTo>
                    <a:lnTo>
                      <a:pt x="107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H="1">
                <a:off x="1917360" y="3324240"/>
                <a:ext cx="88920" cy="14400"/>
              </a:xfrm>
              <a:custGeom>
                <a:avLst/>
                <a:gdLst/>
                <a:ahLst/>
                <a:rect l="l" t="t" r="r" b="b"/>
                <a:pathLst>
                  <a:path w="112" h="20">
                    <a:moveTo>
                      <a:pt x="27" y="0"/>
                    </a:moveTo>
                    <a:lnTo>
                      <a:pt x="20" y="1"/>
                    </a:lnTo>
                    <a:lnTo>
                      <a:pt x="14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82" y="20"/>
                    </a:lnTo>
                    <a:lnTo>
                      <a:pt x="89" y="20"/>
                    </a:lnTo>
                    <a:lnTo>
                      <a:pt x="97" y="19"/>
                    </a:lnTo>
                    <a:lnTo>
                      <a:pt x="105" y="16"/>
                    </a:lnTo>
                    <a:lnTo>
                      <a:pt x="112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 flipH="1">
                <a:off x="1905120" y="3321000"/>
                <a:ext cx="92160" cy="15840"/>
              </a:xfrm>
              <a:custGeom>
                <a:avLst/>
                <a:gdLst/>
                <a:ahLst/>
                <a:rect l="l" t="t" r="r" b="b"/>
                <a:pathLst>
                  <a:path w="116" h="19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85" y="19"/>
                    </a:lnTo>
                    <a:lnTo>
                      <a:pt x="92" y="17"/>
                    </a:lnTo>
                    <a:lnTo>
                      <a:pt x="101" y="16"/>
                    </a:lnTo>
                    <a:lnTo>
                      <a:pt x="110" y="14"/>
                    </a:lnTo>
                    <a:lnTo>
                      <a:pt x="116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 flipH="1">
                <a:off x="1892520" y="3317760"/>
                <a:ext cx="93600" cy="17640"/>
              </a:xfrm>
              <a:custGeom>
                <a:avLst/>
                <a:gdLst/>
                <a:ahLst/>
                <a:rect l="l" t="t" r="r" b="b"/>
                <a:pathLst>
                  <a:path w="119" h="22">
                    <a:moveTo>
                      <a:pt x="26" y="0"/>
                    </a:moveTo>
                    <a:lnTo>
                      <a:pt x="18" y="1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85" y="22"/>
                    </a:lnTo>
                    <a:lnTo>
                      <a:pt x="94" y="20"/>
                    </a:lnTo>
                    <a:lnTo>
                      <a:pt x="102" y="18"/>
                    </a:lnTo>
                    <a:lnTo>
                      <a:pt x="111" y="16"/>
                    </a:lnTo>
                    <a:lnTo>
                      <a:pt x="119" y="1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 flipH="1">
                <a:off x="1877760" y="3316320"/>
                <a:ext cx="98280" cy="14400"/>
              </a:xfrm>
              <a:custGeom>
                <a:avLst/>
                <a:gdLst/>
                <a:ahLst/>
                <a:rect l="l" t="t" r="r" b="b"/>
                <a:pathLst>
                  <a:path w="125" h="18">
                    <a:moveTo>
                      <a:pt x="29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9" y="5"/>
                    </a:lnTo>
                    <a:lnTo>
                      <a:pt x="0" y="7"/>
                    </a:lnTo>
                    <a:lnTo>
                      <a:pt x="91" y="18"/>
                    </a:lnTo>
                    <a:lnTo>
                      <a:pt x="100" y="17"/>
                    </a:lnTo>
                    <a:lnTo>
                      <a:pt x="109" y="16"/>
                    </a:lnTo>
                    <a:lnTo>
                      <a:pt x="117" y="15"/>
                    </a:lnTo>
                    <a:lnTo>
                      <a:pt x="125" y="1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 flipH="1">
                <a:off x="1865160" y="3313080"/>
                <a:ext cx="99720" cy="15840"/>
              </a:xfrm>
              <a:custGeom>
                <a:avLst/>
                <a:gdLst/>
                <a:ahLst/>
                <a:rect l="l" t="t" r="r" b="b"/>
                <a:pathLst>
                  <a:path w="126" h="21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3" y="21"/>
                    </a:lnTo>
                    <a:lnTo>
                      <a:pt x="102" y="19"/>
                    </a:lnTo>
                    <a:lnTo>
                      <a:pt x="110" y="18"/>
                    </a:lnTo>
                    <a:lnTo>
                      <a:pt x="118" y="15"/>
                    </a:lnTo>
                    <a:lnTo>
                      <a:pt x="126" y="1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 flipH="1">
                <a:off x="1850760" y="3311640"/>
                <a:ext cx="103320" cy="15840"/>
              </a:xfrm>
              <a:custGeom>
                <a:avLst/>
                <a:gdLst/>
                <a:ahLst/>
                <a:rect l="l" t="t" r="r" b="b"/>
                <a:pathLst>
                  <a:path w="129" h="21">
                    <a:moveTo>
                      <a:pt x="31" y="0"/>
                    </a:moveTo>
                    <a:lnTo>
                      <a:pt x="23" y="1"/>
                    </a:lnTo>
                    <a:lnTo>
                      <a:pt x="15" y="3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6" y="21"/>
                    </a:lnTo>
                    <a:lnTo>
                      <a:pt x="105" y="18"/>
                    </a:lnTo>
                    <a:lnTo>
                      <a:pt x="113" y="17"/>
                    </a:lnTo>
                    <a:lnTo>
                      <a:pt x="122" y="15"/>
                    </a:lnTo>
                    <a:lnTo>
                      <a:pt x="129" y="1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 flipH="1">
                <a:off x="1836360" y="3306600"/>
                <a:ext cx="104760" cy="17640"/>
              </a:xfrm>
              <a:custGeom>
                <a:avLst/>
                <a:gdLst/>
                <a:ahLst/>
                <a:rect l="l" t="t" r="r" b="b"/>
                <a:pathLst>
                  <a:path w="133" h="21">
                    <a:moveTo>
                      <a:pt x="30" y="0"/>
                    </a:moveTo>
                    <a:lnTo>
                      <a:pt x="23" y="2"/>
                    </a:lnTo>
                    <a:lnTo>
                      <a:pt x="16" y="4"/>
                    </a:lnTo>
                    <a:lnTo>
                      <a:pt x="8" y="5"/>
                    </a:lnTo>
                    <a:lnTo>
                      <a:pt x="0" y="7"/>
                    </a:lnTo>
                    <a:lnTo>
                      <a:pt x="97" y="21"/>
                    </a:lnTo>
                    <a:lnTo>
                      <a:pt x="102" y="20"/>
                    </a:lnTo>
                    <a:lnTo>
                      <a:pt x="106" y="20"/>
                    </a:lnTo>
                    <a:lnTo>
                      <a:pt x="111" y="19"/>
                    </a:lnTo>
                    <a:lnTo>
                      <a:pt x="115" y="19"/>
                    </a:lnTo>
                    <a:lnTo>
                      <a:pt x="120" y="19"/>
                    </a:lnTo>
                    <a:lnTo>
                      <a:pt x="124" y="18"/>
                    </a:lnTo>
                    <a:lnTo>
                      <a:pt x="128" y="18"/>
                    </a:lnTo>
                    <a:lnTo>
                      <a:pt x="133" y="1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 flipH="1">
                <a:off x="1820880" y="3305160"/>
                <a:ext cx="108000" cy="1584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31" y="0"/>
                    </a:moveTo>
                    <a:lnTo>
                      <a:pt x="25" y="1"/>
                    </a:lnTo>
                    <a:lnTo>
                      <a:pt x="16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8" y="21"/>
                    </a:lnTo>
                    <a:lnTo>
                      <a:pt x="103" y="20"/>
                    </a:lnTo>
                    <a:lnTo>
                      <a:pt x="109" y="20"/>
                    </a:lnTo>
                    <a:lnTo>
                      <a:pt x="113" y="19"/>
                    </a:lnTo>
                    <a:lnTo>
                      <a:pt x="118" y="17"/>
                    </a:lnTo>
                    <a:lnTo>
                      <a:pt x="123" y="17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6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 flipH="1">
                <a:off x="1803240" y="3301920"/>
                <a:ext cx="114120" cy="17640"/>
              </a:xfrm>
              <a:custGeom>
                <a:avLst/>
                <a:gdLst/>
                <a:ahLst/>
                <a:rect l="l" t="t" r="r" b="b"/>
                <a:pathLst>
                  <a:path w="144" h="22">
                    <a:moveTo>
                      <a:pt x="34" y="0"/>
                    </a:moveTo>
                    <a:lnTo>
                      <a:pt x="27" y="2"/>
                    </a:lnTo>
                    <a:lnTo>
                      <a:pt x="19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03" y="22"/>
                    </a:lnTo>
                    <a:lnTo>
                      <a:pt x="109" y="20"/>
                    </a:lnTo>
                    <a:lnTo>
                      <a:pt x="114" y="20"/>
                    </a:lnTo>
                    <a:lnTo>
                      <a:pt x="119" y="19"/>
                    </a:lnTo>
                    <a:lnTo>
                      <a:pt x="125" y="18"/>
                    </a:lnTo>
                    <a:lnTo>
                      <a:pt x="129" y="18"/>
                    </a:lnTo>
                    <a:lnTo>
                      <a:pt x="135" y="17"/>
                    </a:lnTo>
                    <a:lnTo>
                      <a:pt x="140" y="17"/>
                    </a:lnTo>
                    <a:lnTo>
                      <a:pt x="144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 flipH="1">
                <a:off x="1784160" y="3300480"/>
                <a:ext cx="120600" cy="17280"/>
              </a:xfrm>
              <a:custGeom>
                <a:avLst/>
                <a:gdLst/>
                <a:ahLst/>
                <a:rect l="l" t="t" r="r" b="b"/>
                <a:pathLst>
                  <a:path w="153" h="22">
                    <a:moveTo>
                      <a:pt x="34" y="0"/>
                    </a:moveTo>
                    <a:lnTo>
                      <a:pt x="27" y="0"/>
                    </a:lnTo>
                    <a:lnTo>
                      <a:pt x="18" y="1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105" y="22"/>
                    </a:lnTo>
                    <a:lnTo>
                      <a:pt x="111" y="21"/>
                    </a:lnTo>
                    <a:lnTo>
                      <a:pt x="117" y="21"/>
                    </a:lnTo>
                    <a:lnTo>
                      <a:pt x="123" y="20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1" y="18"/>
                    </a:lnTo>
                    <a:lnTo>
                      <a:pt x="147" y="18"/>
                    </a:lnTo>
                    <a:lnTo>
                      <a:pt x="153" y="18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 flipH="1">
                <a:off x="1758600" y="3297240"/>
                <a:ext cx="133560" cy="19080"/>
              </a:xfrm>
              <a:custGeom>
                <a:avLst/>
                <a:gdLst/>
                <a:ahLst/>
                <a:rect l="l" t="t" r="r" b="b"/>
                <a:pathLst>
                  <a:path w="167" h="24">
                    <a:moveTo>
                      <a:pt x="35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10" y="24"/>
                    </a:lnTo>
                    <a:lnTo>
                      <a:pt x="117" y="23"/>
                    </a:lnTo>
                    <a:lnTo>
                      <a:pt x="124" y="23"/>
                    </a:lnTo>
                    <a:lnTo>
                      <a:pt x="131" y="22"/>
                    </a:lnTo>
                    <a:lnTo>
                      <a:pt x="139" y="22"/>
                    </a:lnTo>
                    <a:lnTo>
                      <a:pt x="146" y="22"/>
                    </a:lnTo>
                    <a:lnTo>
                      <a:pt x="153" y="22"/>
                    </a:lnTo>
                    <a:lnTo>
                      <a:pt x="160" y="22"/>
                    </a:lnTo>
                    <a:lnTo>
                      <a:pt x="167" y="2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 flipH="1">
                <a:off x="1722600" y="3295800"/>
                <a:ext cx="155520" cy="20520"/>
              </a:xfrm>
              <a:custGeom>
                <a:avLst/>
                <a:gdLst/>
                <a:ahLst/>
                <a:rect l="l" t="t" r="r" b="b"/>
                <a:pathLst>
                  <a:path w="197" h="27">
                    <a:moveTo>
                      <a:pt x="36" y="0"/>
                    </a:moveTo>
                    <a:lnTo>
                      <a:pt x="31" y="2"/>
                    </a:lnTo>
                    <a:lnTo>
                      <a:pt x="28" y="2"/>
                    </a:lnTo>
                    <a:lnTo>
                      <a:pt x="23" y="3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19" y="25"/>
                    </a:lnTo>
                    <a:lnTo>
                      <a:pt x="129" y="23"/>
                    </a:lnTo>
                    <a:lnTo>
                      <a:pt x="139" y="23"/>
                    </a:lnTo>
                    <a:lnTo>
                      <a:pt x="150" y="23"/>
                    </a:lnTo>
                    <a:lnTo>
                      <a:pt x="160" y="23"/>
                    </a:lnTo>
                    <a:lnTo>
                      <a:pt x="169" y="23"/>
                    </a:lnTo>
                    <a:lnTo>
                      <a:pt x="178" y="25"/>
                    </a:lnTo>
                    <a:lnTo>
                      <a:pt x="188" y="26"/>
                    </a:lnTo>
                    <a:lnTo>
                      <a:pt x="197" y="27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92" y="25"/>
                    </a:lnTo>
                    <a:lnTo>
                      <a:pt x="192" y="2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 flipH="1">
                <a:off x="1722600" y="3294000"/>
                <a:ext cx="141120" cy="22320"/>
              </a:xfrm>
              <a:custGeom>
                <a:avLst/>
                <a:gdLst/>
                <a:ahLst/>
                <a:rect l="l" t="t" r="r" b="b"/>
                <a:pathLst>
                  <a:path w="179" h="29">
                    <a:moveTo>
                      <a:pt x="36" y="0"/>
                    </a:moveTo>
                    <a:lnTo>
                      <a:pt x="31" y="1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32" y="27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7" y="27"/>
                    </a:lnTo>
                    <a:lnTo>
                      <a:pt x="163" y="27"/>
                    </a:lnTo>
                    <a:lnTo>
                      <a:pt x="169" y="28"/>
                    </a:lnTo>
                    <a:lnTo>
                      <a:pt x="173" y="28"/>
                    </a:lnTo>
                    <a:lnTo>
                      <a:pt x="179" y="29"/>
                    </a:lnTo>
                    <a:lnTo>
                      <a:pt x="175" y="27"/>
                    </a:lnTo>
                    <a:lnTo>
                      <a:pt x="171" y="24"/>
                    </a:lnTo>
                    <a:lnTo>
                      <a:pt x="166" y="22"/>
                    </a:lnTo>
                    <a:lnTo>
                      <a:pt x="163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 flipH="1">
                <a:off x="1725840" y="3290760"/>
                <a:ext cx="123840" cy="2376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35" y="0"/>
                    </a:moveTo>
                    <a:lnTo>
                      <a:pt x="32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156" y="29"/>
                    </a:lnTo>
                    <a:lnTo>
                      <a:pt x="152" y="25"/>
                    </a:lnTo>
                    <a:lnTo>
                      <a:pt x="146" y="22"/>
                    </a:lnTo>
                    <a:lnTo>
                      <a:pt x="141" y="18"/>
                    </a:lnTo>
                    <a:lnTo>
                      <a:pt x="136" y="1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 flipH="1">
                <a:off x="1735200" y="328788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36" y="0"/>
                    </a:moveTo>
                    <a:lnTo>
                      <a:pt x="31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27" y="27"/>
                    </a:lnTo>
                    <a:lnTo>
                      <a:pt x="123" y="23"/>
                    </a:lnTo>
                    <a:lnTo>
                      <a:pt x="119" y="19"/>
                    </a:lnTo>
                    <a:lnTo>
                      <a:pt x="114" y="15"/>
                    </a:lnTo>
                    <a:lnTo>
                      <a:pt x="111" y="1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flipH="1">
                <a:off x="1741680" y="328608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101" h="21">
                    <a:moveTo>
                      <a:pt x="38" y="0"/>
                    </a:moveTo>
                    <a:lnTo>
                      <a:pt x="34" y="1"/>
                    </a:lnTo>
                    <a:lnTo>
                      <a:pt x="29" y="1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01" y="21"/>
                    </a:lnTo>
                    <a:lnTo>
                      <a:pt x="97" y="17"/>
                    </a:lnTo>
                    <a:lnTo>
                      <a:pt x="94" y="14"/>
                    </a:lnTo>
                    <a:lnTo>
                      <a:pt x="89" y="10"/>
                    </a:lnTo>
                    <a:lnTo>
                      <a:pt x="86" y="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flipH="1">
                <a:off x="1747440" y="328464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35" y="0"/>
                    </a:moveTo>
                    <a:lnTo>
                      <a:pt x="32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19" y="2"/>
                    </a:lnTo>
                    <a:lnTo>
                      <a:pt x="15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75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 flipH="1">
                <a:off x="1753920" y="32828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36" y="0"/>
                    </a:move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7"/>
                    </a:lnTo>
                    <a:lnTo>
                      <a:pt x="46" y="6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 flipH="1">
                <a:off x="1752840" y="327816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34" h="11">
                    <a:moveTo>
                      <a:pt x="0" y="7"/>
                    </a:moveTo>
                    <a:lnTo>
                      <a:pt x="11" y="4"/>
                    </a:lnTo>
                    <a:lnTo>
                      <a:pt x="20" y="3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3" y="3"/>
                    </a:lnTo>
                    <a:lnTo>
                      <a:pt x="32" y="5"/>
                    </a:lnTo>
                    <a:lnTo>
                      <a:pt x="30" y="8"/>
                    </a:lnTo>
                    <a:lnTo>
                      <a:pt x="29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H="1">
                <a:off x="1752840" y="32781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4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 flipH="1">
                <a:off x="2044440" y="33354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1" y="0"/>
                    </a:moveTo>
                    <a:lnTo>
                      <a:pt x="0" y="9"/>
                    </a:lnTo>
                    <a:lnTo>
                      <a:pt x="26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 flipH="1">
                <a:off x="2033280" y="33307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2" y="0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3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2024280" y="332748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0" y="10"/>
                    </a:moveTo>
                    <a:lnTo>
                      <a:pt x="8" y="2"/>
                    </a:lnTo>
                    <a:lnTo>
                      <a:pt x="13" y="0"/>
                    </a:lnTo>
                    <a:lnTo>
                      <a:pt x="42" y="2"/>
                    </a:lnTo>
                    <a:lnTo>
                      <a:pt x="39" y="4"/>
                    </a:lnTo>
                    <a:lnTo>
                      <a:pt x="15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flipH="1">
                <a:off x="2004840" y="33242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0" y="9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43" y="5"/>
                    </a:lnTo>
                    <a:lnTo>
                      <a:pt x="31" y="9"/>
                    </a:lnTo>
                    <a:lnTo>
                      <a:pt x="21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H="1">
                <a:off x="1998720" y="3319560"/>
                <a:ext cx="47520" cy="936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9"/>
                    </a:moveTo>
                    <a:lnTo>
                      <a:pt x="7" y="2"/>
                    </a:lnTo>
                    <a:lnTo>
                      <a:pt x="11" y="0"/>
                    </a:lnTo>
                    <a:lnTo>
                      <a:pt x="60" y="6"/>
                    </a:lnTo>
                    <a:lnTo>
                      <a:pt x="52" y="11"/>
                    </a:lnTo>
                    <a:lnTo>
                      <a:pt x="38" y="9"/>
                    </a:lnTo>
                    <a:lnTo>
                      <a:pt x="29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flipH="1">
                <a:off x="1993680" y="3316320"/>
                <a:ext cx="49320" cy="12600"/>
              </a:xfrm>
              <a:custGeom>
                <a:avLst/>
                <a:gdLst/>
                <a:ahLst/>
                <a:rect l="l" t="t" r="r" b="b"/>
                <a:pathLst>
                  <a:path w="63" h="16">
                    <a:moveTo>
                      <a:pt x="0" y="9"/>
                    </a:moveTo>
                    <a:lnTo>
                      <a:pt x="3" y="7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63" y="7"/>
                    </a:lnTo>
                    <a:lnTo>
                      <a:pt x="48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H="1">
                <a:off x="1982880" y="331308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0" y="10"/>
                    </a:moveTo>
                    <a:lnTo>
                      <a:pt x="10" y="5"/>
                    </a:lnTo>
                    <a:lnTo>
                      <a:pt x="20" y="0"/>
                    </a:lnTo>
                    <a:lnTo>
                      <a:pt x="70" y="7"/>
                    </a:lnTo>
                    <a:lnTo>
                      <a:pt x="58" y="10"/>
                    </a:lnTo>
                    <a:lnTo>
                      <a:pt x="49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H="1">
                <a:off x="1967040" y="330840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79" h="16">
                    <a:moveTo>
                      <a:pt x="19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79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flipH="1">
                <a:off x="1951200" y="33066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90" h="14">
                    <a:moveTo>
                      <a:pt x="0" y="7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90" y="10"/>
                    </a:lnTo>
                    <a:lnTo>
                      <a:pt x="90" y="10"/>
                    </a:lnTo>
                    <a:lnTo>
                      <a:pt x="5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H="1">
                <a:off x="1947600" y="3301920"/>
                <a:ext cx="66600" cy="14400"/>
              </a:xfrm>
              <a:custGeom>
                <a:avLst/>
                <a:gdLst/>
                <a:ahLst/>
                <a:rect l="l" t="t" r="r" b="b"/>
                <a:pathLst>
                  <a:path w="83" h="17">
                    <a:moveTo>
                      <a:pt x="0" y="8"/>
                    </a:moveTo>
                    <a:lnTo>
                      <a:pt x="5" y="5"/>
                    </a:lnTo>
                    <a:lnTo>
                      <a:pt x="14" y="5"/>
                    </a:lnTo>
                    <a:lnTo>
                      <a:pt x="27" y="0"/>
                    </a:lnTo>
                    <a:lnTo>
                      <a:pt x="83" y="10"/>
                    </a:lnTo>
                    <a:lnTo>
                      <a:pt x="81" y="15"/>
                    </a:lnTo>
                    <a:lnTo>
                      <a:pt x="60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 flipH="1">
                <a:off x="1946520" y="329868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20" y="0"/>
                    </a:moveTo>
                    <a:lnTo>
                      <a:pt x="0" y="10"/>
                    </a:lnTo>
                    <a:lnTo>
                      <a:pt x="65" y="20"/>
                    </a:lnTo>
                    <a:lnTo>
                      <a:pt x="69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flipH="1">
                <a:off x="1937880" y="3295800"/>
                <a:ext cx="55800" cy="158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18" y="0"/>
                    </a:moveTo>
                    <a:lnTo>
                      <a:pt x="0" y="10"/>
                    </a:lnTo>
                    <a:lnTo>
                      <a:pt x="56" y="20"/>
                    </a:lnTo>
                    <a:lnTo>
                      <a:pt x="58" y="13"/>
                    </a:lnTo>
                    <a:lnTo>
                      <a:pt x="69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 flipH="1">
                <a:off x="1928520" y="3290760"/>
                <a:ext cx="57240" cy="14400"/>
              </a:xfrm>
              <a:custGeom>
                <a:avLst/>
                <a:gdLst/>
                <a:ahLst/>
                <a:rect l="l" t="t" r="r" b="b"/>
                <a:pathLst>
                  <a:path w="71" h="17">
                    <a:moveTo>
                      <a:pt x="20" y="0"/>
                    </a:moveTo>
                    <a:lnTo>
                      <a:pt x="0" y="9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62" y="11"/>
                    </a:lnTo>
                    <a:lnTo>
                      <a:pt x="71" y="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 flipH="1">
                <a:off x="1917720" y="328932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6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53" y="13"/>
                    </a:lnTo>
                    <a:lnTo>
                      <a:pt x="51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 flipH="1">
                <a:off x="1909800" y="328608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7"/>
                    </a:moveTo>
                    <a:lnTo>
                      <a:pt x="6" y="5"/>
                    </a:lnTo>
                    <a:lnTo>
                      <a:pt x="13" y="0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61" y="14"/>
                    </a:lnTo>
                    <a:lnTo>
                      <a:pt x="51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 flipH="1">
                <a:off x="1898280" y="3282840"/>
                <a:ext cx="66600" cy="1296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0" y="10"/>
                    </a:moveTo>
                    <a:lnTo>
                      <a:pt x="10" y="3"/>
                    </a:lnTo>
                    <a:lnTo>
                      <a:pt x="14" y="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70" y="14"/>
                    </a:lnTo>
                    <a:lnTo>
                      <a:pt x="59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 flipH="1">
                <a:off x="1885680" y="327816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4" h="18">
                    <a:moveTo>
                      <a:pt x="0" y="9"/>
                    </a:moveTo>
                    <a:lnTo>
                      <a:pt x="3" y="7"/>
                    </a:lnTo>
                    <a:lnTo>
                      <a:pt x="19" y="0"/>
                    </a:lnTo>
                    <a:lnTo>
                      <a:pt x="94" y="11"/>
                    </a:lnTo>
                    <a:lnTo>
                      <a:pt x="76" y="14"/>
                    </a:lnTo>
                    <a:lnTo>
                      <a:pt x="63" y="1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 flipH="1">
                <a:off x="1874520" y="3276720"/>
                <a:ext cx="79560" cy="1260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7"/>
                    </a:moveTo>
                    <a:lnTo>
                      <a:pt x="12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101" y="10"/>
                    </a:lnTo>
                    <a:lnTo>
                      <a:pt x="87" y="14"/>
                    </a:lnTo>
                    <a:lnTo>
                      <a:pt x="6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flipH="1">
                <a:off x="1863360" y="3271680"/>
                <a:ext cx="81000" cy="16200"/>
              </a:xfrm>
              <a:custGeom>
                <a:avLst/>
                <a:gdLst/>
                <a:ahLst/>
                <a:rect l="l" t="t" r="r" b="b"/>
                <a:pathLst>
                  <a:path w="102" h="19">
                    <a:moveTo>
                      <a:pt x="0" y="8"/>
                    </a:moveTo>
                    <a:lnTo>
                      <a:pt x="0" y="8"/>
                    </a:lnTo>
                    <a:lnTo>
                      <a:pt x="22" y="5"/>
                    </a:lnTo>
                    <a:lnTo>
                      <a:pt x="31" y="0"/>
                    </a:lnTo>
                    <a:lnTo>
                      <a:pt x="102" y="12"/>
                    </a:lnTo>
                    <a:lnTo>
                      <a:pt x="75" y="19"/>
                    </a:lnTo>
                    <a:lnTo>
                      <a:pt x="75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 flipH="1">
                <a:off x="1851120" y="3268800"/>
                <a:ext cx="76320" cy="1584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22" y="0"/>
                    </a:moveTo>
                    <a:lnTo>
                      <a:pt x="0" y="10"/>
                    </a:lnTo>
                    <a:lnTo>
                      <a:pt x="67" y="20"/>
                    </a:lnTo>
                    <a:lnTo>
                      <a:pt x="9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 flipH="1">
                <a:off x="1839600" y="32670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100" h="19">
                    <a:moveTo>
                      <a:pt x="0" y="7"/>
                    </a:moveTo>
                    <a:lnTo>
                      <a:pt x="15" y="2"/>
                    </a:lnTo>
                    <a:lnTo>
                      <a:pt x="22" y="0"/>
                    </a:lnTo>
                    <a:lnTo>
                      <a:pt x="100" y="12"/>
                    </a:lnTo>
                    <a:lnTo>
                      <a:pt x="71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 flipH="1">
                <a:off x="1828440" y="3263760"/>
                <a:ext cx="81000" cy="1440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0" y="7"/>
                    </a:moveTo>
                    <a:lnTo>
                      <a:pt x="2" y="7"/>
                    </a:lnTo>
                    <a:lnTo>
                      <a:pt x="13" y="2"/>
                    </a:lnTo>
                    <a:lnTo>
                      <a:pt x="23" y="0"/>
                    </a:lnTo>
                    <a:lnTo>
                      <a:pt x="102" y="12"/>
                    </a:lnTo>
                    <a:lnTo>
                      <a:pt x="73" y="2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 flipH="1">
                <a:off x="1816200" y="3260880"/>
                <a:ext cx="87120" cy="158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7"/>
                    </a:moveTo>
                    <a:lnTo>
                      <a:pt x="4" y="4"/>
                    </a:lnTo>
                    <a:lnTo>
                      <a:pt x="29" y="0"/>
                    </a:lnTo>
                    <a:lnTo>
                      <a:pt x="109" y="11"/>
                    </a:lnTo>
                    <a:lnTo>
                      <a:pt x="78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 flipH="1">
                <a:off x="1814760" y="32576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98" h="19">
                    <a:moveTo>
                      <a:pt x="0" y="7"/>
                    </a:moveTo>
                    <a:lnTo>
                      <a:pt x="19" y="2"/>
                    </a:lnTo>
                    <a:lnTo>
                      <a:pt x="28" y="0"/>
                    </a:lnTo>
                    <a:lnTo>
                      <a:pt x="73" y="7"/>
                    </a:lnTo>
                    <a:lnTo>
                      <a:pt x="71" y="12"/>
                    </a:lnTo>
                    <a:lnTo>
                      <a:pt x="98" y="14"/>
                    </a:lnTo>
                    <a:lnTo>
                      <a:pt x="79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 flipH="1">
                <a:off x="1814760" y="325584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83" h="18">
                    <a:moveTo>
                      <a:pt x="0" y="7"/>
                    </a:moveTo>
                    <a:lnTo>
                      <a:pt x="4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58" y="4"/>
                    </a:lnTo>
                    <a:lnTo>
                      <a:pt x="56" y="14"/>
                    </a:lnTo>
                    <a:lnTo>
                      <a:pt x="83" y="16"/>
                    </a:lnTo>
                    <a:lnTo>
                      <a:pt x="80" y="1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 flipH="1">
                <a:off x="1830240" y="325296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13" y="5"/>
                    </a:lnTo>
                    <a:lnTo>
                      <a:pt x="25" y="0"/>
                    </a:lnTo>
                    <a:lnTo>
                      <a:pt x="49" y="3"/>
                    </a:lnTo>
                    <a:lnTo>
                      <a:pt x="4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 flipH="1">
                <a:off x="1819440" y="3247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25" y="0"/>
                    </a:moveTo>
                    <a:lnTo>
                      <a:pt x="0" y="10"/>
                    </a:lnTo>
                    <a:lnTo>
                      <a:pt x="32" y="14"/>
                    </a:lnTo>
                    <a:lnTo>
                      <a:pt x="36" y="8"/>
                    </a:lnTo>
                    <a:lnTo>
                      <a:pt x="50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H="1">
                <a:off x="1809360" y="324648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26" y="0"/>
                    </a:moveTo>
                    <a:lnTo>
                      <a:pt x="0" y="8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49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 flipH="1">
                <a:off x="1801800" y="324648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3"/>
                    </a:moveTo>
                    <a:lnTo>
                      <a:pt x="15" y="0"/>
                    </a:lnTo>
                    <a:lnTo>
                      <a:pt x="47" y="0"/>
                    </a:lnTo>
                    <a:lnTo>
                      <a:pt x="25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 flipH="1">
                <a:off x="1801440" y="324648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34" h="3">
                    <a:moveTo>
                      <a:pt x="0" y="0"/>
                    </a:moveTo>
                    <a:lnTo>
                      <a:pt x="2" y="0"/>
                    </a:lnTo>
                    <a:lnTo>
                      <a:pt x="34" y="0"/>
                    </a:lnTo>
                    <a:lnTo>
                      <a:pt x="2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 flipH="1">
                <a:off x="2063880" y="33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7" h="15">
                    <a:moveTo>
                      <a:pt x="22" y="15"/>
                    </a:moveTo>
                    <a:lnTo>
                      <a:pt x="16" y="10"/>
                    </a:lnTo>
                    <a:lnTo>
                      <a:pt x="10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7" y="7"/>
                    </a:lnTo>
                    <a:lnTo>
                      <a:pt x="40" y="9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 flipH="1">
                <a:off x="2052360" y="331632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14" y="14"/>
                    </a:moveTo>
                    <a:lnTo>
                      <a:pt x="10" y="11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62" y="7"/>
                    </a:lnTo>
                    <a:lnTo>
                      <a:pt x="53" y="10"/>
                    </a:lnTo>
                    <a:lnTo>
                      <a:pt x="45" y="13"/>
                    </a:lnTo>
                    <a:lnTo>
                      <a:pt x="38" y="15"/>
                    </a:lnTo>
                    <a:lnTo>
                      <a:pt x="31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 flipH="1">
                <a:off x="2043360" y="331164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12" y="0"/>
                    </a:moveTo>
                    <a:lnTo>
                      <a:pt x="8" y="3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45" y="21"/>
                    </a:lnTo>
                    <a:lnTo>
                      <a:pt x="51" y="17"/>
                    </a:lnTo>
                    <a:lnTo>
                      <a:pt x="58" y="15"/>
                    </a:lnTo>
                    <a:lnTo>
                      <a:pt x="65" y="13"/>
                    </a:lnTo>
                    <a:lnTo>
                      <a:pt x="71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 flipH="1">
                <a:off x="2032200" y="330660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15" y="0"/>
                    </a:move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55" y="19"/>
                    </a:lnTo>
                    <a:lnTo>
                      <a:pt x="61" y="17"/>
                    </a:lnTo>
                    <a:lnTo>
                      <a:pt x="66" y="14"/>
                    </a:lnTo>
                    <a:lnTo>
                      <a:pt x="73" y="12"/>
                    </a:lnTo>
                    <a:lnTo>
                      <a:pt x="8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 flipH="1">
                <a:off x="2022480" y="3300480"/>
                <a:ext cx="68400" cy="1728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15" y="0"/>
                    </a:moveTo>
                    <a:lnTo>
                      <a:pt x="11" y="5"/>
                    </a:lnTo>
                    <a:lnTo>
                      <a:pt x="8" y="8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59" y="22"/>
                    </a:lnTo>
                    <a:lnTo>
                      <a:pt x="66" y="20"/>
                    </a:lnTo>
                    <a:lnTo>
                      <a:pt x="72" y="18"/>
                    </a:lnTo>
                    <a:lnTo>
                      <a:pt x="79" y="15"/>
                    </a:lnTo>
                    <a:lnTo>
                      <a:pt x="86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 flipH="1">
                <a:off x="2013120" y="3295800"/>
                <a:ext cx="71280" cy="18720"/>
              </a:xfrm>
              <a:custGeom>
                <a:avLst/>
                <a:gdLst/>
                <a:ahLst/>
                <a:rect l="l" t="t" r="r" b="b"/>
                <a:pathLst>
                  <a:path w="90" h="25">
                    <a:moveTo>
                      <a:pt x="13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65" y="25"/>
                    </a:lnTo>
                    <a:lnTo>
                      <a:pt x="71" y="21"/>
                    </a:lnTo>
                    <a:lnTo>
                      <a:pt x="77" y="19"/>
                    </a:lnTo>
                    <a:lnTo>
                      <a:pt x="83" y="17"/>
                    </a:lnTo>
                    <a:lnTo>
                      <a:pt x="9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 flipH="1">
                <a:off x="2003400" y="3290760"/>
                <a:ext cx="74880" cy="20880"/>
              </a:xfrm>
              <a:custGeom>
                <a:avLst/>
                <a:gdLst/>
                <a:ahLst/>
                <a:rect l="l" t="t" r="r" b="b"/>
                <a:pathLst>
                  <a:path w="94" h="24">
                    <a:moveTo>
                      <a:pt x="11" y="0"/>
                    </a:moveTo>
                    <a:lnTo>
                      <a:pt x="9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71" y="24"/>
                    </a:lnTo>
                    <a:lnTo>
                      <a:pt x="77" y="21"/>
                    </a:lnTo>
                    <a:lnTo>
                      <a:pt x="81" y="17"/>
                    </a:lnTo>
                    <a:lnTo>
                      <a:pt x="87" y="14"/>
                    </a:lnTo>
                    <a:lnTo>
                      <a:pt x="9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 flipH="1">
                <a:off x="1994040" y="3286080"/>
                <a:ext cx="79200" cy="19080"/>
              </a:xfrm>
              <a:custGeom>
                <a:avLst/>
                <a:gdLst/>
                <a:ahLst/>
                <a:rect l="l" t="t" r="r" b="b"/>
                <a:pathLst>
                  <a:path w="101" h="24">
                    <a:moveTo>
                      <a:pt x="12" y="0"/>
                    </a:moveTo>
                    <a:lnTo>
                      <a:pt x="9" y="3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77" y="24"/>
                    </a:lnTo>
                    <a:lnTo>
                      <a:pt x="82" y="22"/>
                    </a:lnTo>
                    <a:lnTo>
                      <a:pt x="87" y="18"/>
                    </a:lnTo>
                    <a:lnTo>
                      <a:pt x="94" y="15"/>
                    </a:lnTo>
                    <a:lnTo>
                      <a:pt x="101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 flipH="1">
                <a:off x="1985760" y="3279600"/>
                <a:ext cx="82440" cy="2088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14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83" y="25"/>
                    </a:lnTo>
                    <a:lnTo>
                      <a:pt x="89" y="22"/>
                    </a:lnTo>
                    <a:lnTo>
                      <a:pt x="95" y="20"/>
                    </a:lnTo>
                    <a:lnTo>
                      <a:pt x="99" y="17"/>
                    </a:lnTo>
                    <a:lnTo>
                      <a:pt x="105" y="14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 flipH="1">
                <a:off x="1976040" y="3276720"/>
                <a:ext cx="87480" cy="19080"/>
              </a:xfrm>
              <a:custGeom>
                <a:avLst/>
                <a:gdLst/>
                <a:ahLst/>
                <a:rect l="l" t="t" r="r" b="b"/>
                <a:pathLst>
                  <a:path w="109" h="23">
                    <a:moveTo>
                      <a:pt x="0" y="12"/>
                    </a:move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0" y="0"/>
                    </a:lnTo>
                    <a:lnTo>
                      <a:pt x="109" y="14"/>
                    </a:lnTo>
                    <a:lnTo>
                      <a:pt x="105" y="17"/>
                    </a:lnTo>
                    <a:lnTo>
                      <a:pt x="99" y="19"/>
                    </a:lnTo>
                    <a:lnTo>
                      <a:pt x="94" y="21"/>
                    </a:lnTo>
                    <a:lnTo>
                      <a:pt x="89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H="1">
                <a:off x="1967040" y="327024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13"/>
                    </a:moveTo>
                    <a:lnTo>
                      <a:pt x="0" y="15"/>
                    </a:lnTo>
                    <a:lnTo>
                      <a:pt x="85" y="27"/>
                    </a:lnTo>
                    <a:lnTo>
                      <a:pt x="92" y="25"/>
                    </a:lnTo>
                    <a:lnTo>
                      <a:pt x="98" y="22"/>
                    </a:lnTo>
                    <a:lnTo>
                      <a:pt x="103" y="19"/>
                    </a:lnTo>
                    <a:lnTo>
                      <a:pt x="109" y="15"/>
                    </a:lnTo>
                    <a:lnTo>
                      <a:pt x="13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 flipH="1">
                <a:off x="2052720" y="327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 flipH="1">
                <a:off x="2054160" y="327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flipH="1">
                <a:off x="2052720" y="327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H="1">
                <a:off x="1957320" y="3267000"/>
                <a:ext cx="90720" cy="20880"/>
              </a:xfrm>
              <a:custGeom>
                <a:avLst/>
                <a:gdLst/>
                <a:ahLst/>
                <a:rect l="l" t="t" r="r" b="b"/>
                <a:pathLst>
                  <a:path w="114" h="26">
                    <a:moveTo>
                      <a:pt x="16" y="0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89" y="26"/>
                    </a:lnTo>
                    <a:lnTo>
                      <a:pt x="95" y="23"/>
                    </a:lnTo>
                    <a:lnTo>
                      <a:pt x="101" y="20"/>
                    </a:lnTo>
                    <a:lnTo>
                      <a:pt x="107" y="18"/>
                    </a:lnTo>
                    <a:lnTo>
                      <a:pt x="114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H="1">
                <a:off x="1951200" y="3260880"/>
                <a:ext cx="92160" cy="21960"/>
              </a:xfrm>
              <a:custGeom>
                <a:avLst/>
                <a:gdLst/>
                <a:ahLst/>
                <a:rect l="l" t="t" r="r" b="b"/>
                <a:pathLst>
                  <a:path w="117" h="26">
                    <a:moveTo>
                      <a:pt x="17" y="0"/>
                    </a:moveTo>
                    <a:lnTo>
                      <a:pt x="13" y="3"/>
                    </a:lnTo>
                    <a:lnTo>
                      <a:pt x="10" y="7"/>
                    </a:lnTo>
                    <a:lnTo>
                      <a:pt x="5" y="9"/>
                    </a:lnTo>
                    <a:lnTo>
                      <a:pt x="0" y="11"/>
                    </a:lnTo>
                    <a:lnTo>
                      <a:pt x="96" y="26"/>
                    </a:lnTo>
                    <a:lnTo>
                      <a:pt x="102" y="24"/>
                    </a:lnTo>
                    <a:lnTo>
                      <a:pt x="106" y="22"/>
                    </a:lnTo>
                    <a:lnTo>
                      <a:pt x="112" y="18"/>
                    </a:lnTo>
                    <a:lnTo>
                      <a:pt x="117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flipH="1">
                <a:off x="1940040" y="3257640"/>
                <a:ext cx="95040" cy="20520"/>
              </a:xfrm>
              <a:custGeom>
                <a:avLst/>
                <a:gdLst/>
                <a:ahLst/>
                <a:rect l="l" t="t" r="r" b="b"/>
                <a:pathLst>
                  <a:path w="120" h="27">
                    <a:moveTo>
                      <a:pt x="15" y="0"/>
                    </a:moveTo>
                    <a:lnTo>
                      <a:pt x="11" y="2"/>
                    </a:lnTo>
                    <a:lnTo>
                      <a:pt x="8" y="5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98" y="27"/>
                    </a:lnTo>
                    <a:lnTo>
                      <a:pt x="103" y="23"/>
                    </a:lnTo>
                    <a:lnTo>
                      <a:pt x="108" y="20"/>
                    </a:lnTo>
                    <a:lnTo>
                      <a:pt x="114" y="17"/>
                    </a:lnTo>
                    <a:lnTo>
                      <a:pt x="120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flipH="1">
                <a:off x="1930320" y="325296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7" y="0"/>
                    </a:moveTo>
                    <a:lnTo>
                      <a:pt x="12" y="4"/>
                    </a:lnTo>
                    <a:lnTo>
                      <a:pt x="8" y="7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00" y="28"/>
                    </a:lnTo>
                    <a:lnTo>
                      <a:pt x="107" y="24"/>
                    </a:lnTo>
                    <a:lnTo>
                      <a:pt x="114" y="21"/>
                    </a:lnTo>
                    <a:lnTo>
                      <a:pt x="118" y="19"/>
                    </a:lnTo>
                    <a:lnTo>
                      <a:pt x="124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H="1">
                <a:off x="1922040" y="3246480"/>
                <a:ext cx="101880" cy="22320"/>
              </a:xfrm>
              <a:custGeom>
                <a:avLst/>
                <a:gdLst/>
                <a:ahLst/>
                <a:rect l="l" t="t" r="r" b="b"/>
                <a:pathLst>
                  <a:path w="128" h="29">
                    <a:moveTo>
                      <a:pt x="16" y="0"/>
                    </a:moveTo>
                    <a:lnTo>
                      <a:pt x="12" y="5"/>
                    </a:lnTo>
                    <a:lnTo>
                      <a:pt x="8" y="8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105" y="29"/>
                    </a:lnTo>
                    <a:lnTo>
                      <a:pt x="110" y="27"/>
                    </a:lnTo>
                    <a:lnTo>
                      <a:pt x="116" y="24"/>
                    </a:lnTo>
                    <a:lnTo>
                      <a:pt x="122" y="22"/>
                    </a:lnTo>
                    <a:lnTo>
                      <a:pt x="128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 flipH="1">
                <a:off x="1911240" y="3241800"/>
                <a:ext cx="104760" cy="2376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14" y="0"/>
                    </a:moveTo>
                    <a:lnTo>
                      <a:pt x="10" y="3"/>
                    </a:lnTo>
                    <a:lnTo>
                      <a:pt x="7" y="5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107" y="28"/>
                    </a:lnTo>
                    <a:lnTo>
                      <a:pt x="113" y="25"/>
                    </a:lnTo>
                    <a:lnTo>
                      <a:pt x="119" y="23"/>
                    </a:lnTo>
                    <a:lnTo>
                      <a:pt x="125" y="20"/>
                    </a:lnTo>
                    <a:lnTo>
                      <a:pt x="131" y="17"/>
                    </a:lnTo>
                    <a:lnTo>
                      <a:pt x="36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7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 flipH="1">
                <a:off x="1903320" y="3236760"/>
                <a:ext cx="108000" cy="24120"/>
              </a:xfrm>
              <a:custGeom>
                <a:avLst/>
                <a:gdLst/>
                <a:ahLst/>
                <a:rect l="l" t="t" r="r" b="b"/>
                <a:pathLst>
                  <a:path w="136" h="31">
                    <a:moveTo>
                      <a:pt x="17" y="0"/>
                    </a:moveTo>
                    <a:lnTo>
                      <a:pt x="11" y="3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112" y="31"/>
                    </a:lnTo>
                    <a:lnTo>
                      <a:pt x="117" y="27"/>
                    </a:lnTo>
                    <a:lnTo>
                      <a:pt x="124" y="24"/>
                    </a:lnTo>
                    <a:lnTo>
                      <a:pt x="130" y="22"/>
                    </a:lnTo>
                    <a:lnTo>
                      <a:pt x="136" y="19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29" y="9"/>
                    </a:lnTo>
                    <a:lnTo>
                      <a:pt x="32" y="7"/>
                    </a:lnTo>
                    <a:lnTo>
                      <a:pt x="36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 flipH="1">
                <a:off x="1893600" y="3235320"/>
                <a:ext cx="88920" cy="20520"/>
              </a:xfrm>
              <a:custGeom>
                <a:avLst/>
                <a:gdLst/>
                <a:ahLst/>
                <a:rect l="l" t="t" r="r" b="b"/>
                <a:pathLst>
                  <a:path w="111" h="27">
                    <a:moveTo>
                      <a:pt x="0" y="10"/>
                    </a:moveTo>
                    <a:lnTo>
                      <a:pt x="0" y="14"/>
                    </a:lnTo>
                    <a:lnTo>
                      <a:pt x="88" y="27"/>
                    </a:lnTo>
                    <a:lnTo>
                      <a:pt x="94" y="25"/>
                    </a:lnTo>
                    <a:lnTo>
                      <a:pt x="100" y="22"/>
                    </a:lnTo>
                    <a:lnTo>
                      <a:pt x="106" y="19"/>
                    </a:lnTo>
                    <a:lnTo>
                      <a:pt x="111" y="17"/>
                    </a:lnTo>
                    <a:lnTo>
                      <a:pt x="97" y="14"/>
                    </a:lnTo>
                    <a:lnTo>
                      <a:pt x="94" y="14"/>
                    </a:lnTo>
                    <a:lnTo>
                      <a:pt x="91" y="15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6" y="17"/>
                    </a:lnTo>
                    <a:lnTo>
                      <a:pt x="88" y="15"/>
                    </a:lnTo>
                    <a:lnTo>
                      <a:pt x="91" y="13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38" y="5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 flipH="1">
                <a:off x="1977840" y="3233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 flipH="1">
                <a:off x="1982880" y="32338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9"/>
                    </a:moveTo>
                    <a:lnTo>
                      <a:pt x="29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2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7" y="10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 flipH="1">
                <a:off x="1982520" y="32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H="1">
                <a:off x="1881360" y="3230640"/>
                <a:ext cx="93600" cy="22320"/>
              </a:xfrm>
              <a:custGeom>
                <a:avLst/>
                <a:gdLst/>
                <a:ahLst/>
                <a:rect l="l" t="t" r="r" b="b"/>
                <a:pathLst>
                  <a:path w="117" h="26">
                    <a:moveTo>
                      <a:pt x="0" y="9"/>
                    </a:moveTo>
                    <a:lnTo>
                      <a:pt x="0" y="11"/>
                    </a:lnTo>
                    <a:lnTo>
                      <a:pt x="91" y="26"/>
                    </a:lnTo>
                    <a:lnTo>
                      <a:pt x="98" y="23"/>
                    </a:lnTo>
                    <a:lnTo>
                      <a:pt x="103" y="19"/>
                    </a:lnTo>
                    <a:lnTo>
                      <a:pt x="110" y="17"/>
                    </a:lnTo>
                    <a:lnTo>
                      <a:pt x="117" y="14"/>
                    </a:lnTo>
                    <a:lnTo>
                      <a:pt x="110" y="14"/>
                    </a:lnTo>
                    <a:lnTo>
                      <a:pt x="106" y="14"/>
                    </a:lnTo>
                    <a:lnTo>
                      <a:pt x="101" y="15"/>
                    </a:lnTo>
                    <a:lnTo>
                      <a:pt x="95" y="15"/>
                    </a:lnTo>
                    <a:lnTo>
                      <a:pt x="91" y="16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8" y="19"/>
                    </a:lnTo>
                    <a:lnTo>
                      <a:pt x="75" y="21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82" y="17"/>
                    </a:lnTo>
                    <a:lnTo>
                      <a:pt x="84" y="16"/>
                    </a:lnTo>
                    <a:lnTo>
                      <a:pt x="84" y="15"/>
                    </a:lnTo>
                    <a:lnTo>
                      <a:pt x="84" y="14"/>
                    </a:lnTo>
                    <a:lnTo>
                      <a:pt x="84" y="11"/>
                    </a:lnTo>
                    <a:lnTo>
                      <a:pt x="84" y="9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1" y="4"/>
                    </a:lnTo>
                    <a:lnTo>
                      <a:pt x="33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 flipH="1">
                <a:off x="1969920" y="32288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>
                <a:off x="1974960" y="32274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5"/>
                    </a:moveTo>
                    <a:lnTo>
                      <a:pt x="28" y="2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4" y="8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 flipH="1">
                <a:off x="1974960" y="32385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 flipH="1">
                <a:off x="1881000" y="324180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2"/>
                    </a:moveTo>
                    <a:lnTo>
                      <a:pt x="0" y="4"/>
                    </a:lnTo>
                    <a:lnTo>
                      <a:pt x="11" y="7"/>
                    </a:lnTo>
                    <a:lnTo>
                      <a:pt x="15" y="4"/>
                    </a:lnTo>
                    <a:lnTo>
                      <a:pt x="19" y="3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 flipH="1">
                <a:off x="1900440" y="3235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 flipH="1">
                <a:off x="1903320" y="3228840"/>
                <a:ext cx="43200" cy="144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7"/>
                    </a:moveTo>
                    <a:lnTo>
                      <a:pt x="56" y="7"/>
                    </a:lnTo>
                    <a:lnTo>
                      <a:pt x="20" y="0"/>
                    </a:lnTo>
                    <a:lnTo>
                      <a:pt x="15" y="4"/>
                    </a:lnTo>
                    <a:lnTo>
                      <a:pt x="10" y="6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2" y="10"/>
                    </a:lnTo>
                    <a:lnTo>
                      <a:pt x="55" y="9"/>
                    </a:lnTo>
                    <a:lnTo>
                      <a:pt x="56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 flipH="1">
                <a:off x="1902960" y="3243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 flipH="1">
                <a:off x="194004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 flipH="1">
                <a:off x="1946160" y="32259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9"/>
                    </a:moveTo>
                    <a:lnTo>
                      <a:pt x="25" y="2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6" y="16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23" y="10"/>
                    </a:lnTo>
                    <a:lnTo>
                      <a:pt x="25" y="9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 flipH="1">
                <a:off x="1946160" y="32367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 flipH="1">
                <a:off x="1960560" y="32259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 flipH="1">
                <a:off x="1967040" y="32241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4"/>
                    </a:moveTo>
                    <a:lnTo>
                      <a:pt x="31" y="2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0" y="11"/>
                    </a:lnTo>
                    <a:lnTo>
                      <a:pt x="16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H="1">
                <a:off x="1966680" y="3233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flipH="1">
                <a:off x="1893600" y="322596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0" y="9"/>
                    </a:moveTo>
                    <a:lnTo>
                      <a:pt x="0" y="11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40" y="13"/>
                    </a:lnTo>
                    <a:lnTo>
                      <a:pt x="45" y="10"/>
                    </a:lnTo>
                    <a:lnTo>
                      <a:pt x="50" y="8"/>
                    </a:lnTo>
                    <a:lnTo>
                      <a:pt x="5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 flipH="1">
                <a:off x="193536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 flipH="1">
                <a:off x="1881000" y="32418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 flipH="1">
                <a:off x="1936800" y="32227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5"/>
                    </a:moveTo>
                    <a:lnTo>
                      <a:pt x="29" y="3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2" y="11"/>
                    </a:lnTo>
                    <a:lnTo>
                      <a:pt x="26" y="8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 flipH="1">
                <a:off x="1936440" y="3233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 flipH="1">
                <a:off x="1955520" y="3219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 flipH="1">
                <a:off x="1959120" y="32176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9"/>
                    </a:moveTo>
                    <a:lnTo>
                      <a:pt x="31" y="3"/>
                    </a:lnTo>
                    <a:lnTo>
                      <a:pt x="18" y="0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0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8" y="12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 flipH="1">
                <a:off x="1958760" y="32288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 flipH="1">
                <a:off x="1885680" y="322272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9"/>
                    </a:moveTo>
                    <a:lnTo>
                      <a:pt x="0" y="12"/>
                    </a:lnTo>
                    <a:lnTo>
                      <a:pt x="36" y="16"/>
                    </a:lnTo>
                    <a:lnTo>
                      <a:pt x="40" y="13"/>
                    </a:lnTo>
                    <a:lnTo>
                      <a:pt x="44" y="9"/>
                    </a:lnTo>
                    <a:lnTo>
                      <a:pt x="50" y="7"/>
                    </a:lnTo>
                    <a:lnTo>
                      <a:pt x="56" y="5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 flipH="1">
                <a:off x="1927440" y="3217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 flipH="1">
                <a:off x="1928880" y="32176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3"/>
                    </a:moveTo>
                    <a:lnTo>
                      <a:pt x="28" y="0"/>
                    </a:lnTo>
                    <a:lnTo>
                      <a:pt x="15" y="0"/>
                    </a:lnTo>
                    <a:lnTo>
                      <a:pt x="10" y="3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5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 flipH="1">
                <a:off x="1928880" y="3228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 flipH="1">
                <a:off x="1947600" y="321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1952280" y="321300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34" y="4"/>
                    </a:moveTo>
                    <a:lnTo>
                      <a:pt x="34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30" y="8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flipH="1">
                <a:off x="1952280" y="32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 flipH="1">
                <a:off x="1877760" y="321624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1"/>
                    </a:moveTo>
                    <a:lnTo>
                      <a:pt x="0" y="13"/>
                    </a:lnTo>
                    <a:lnTo>
                      <a:pt x="35" y="17"/>
                    </a:lnTo>
                    <a:lnTo>
                      <a:pt x="40" y="15"/>
                    </a:lnTo>
                    <a:lnTo>
                      <a:pt x="45" y="13"/>
                    </a:lnTo>
                    <a:lnTo>
                      <a:pt x="49" y="9"/>
                    </a:lnTo>
                    <a:lnTo>
                      <a:pt x="55" y="5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 flipH="1">
                <a:off x="1920960" y="321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 flipH="1">
                <a:off x="1922040" y="3211560"/>
                <a:ext cx="24120" cy="1260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32" y="2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6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5" y="15"/>
                    </a:lnTo>
                    <a:lnTo>
                      <a:pt x="20" y="12"/>
                    </a:lnTo>
                    <a:lnTo>
                      <a:pt x="25" y="9"/>
                    </a:lnTo>
                    <a:lnTo>
                      <a:pt x="28" y="6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 flipH="1">
                <a:off x="1922040" y="3224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 flipH="1">
                <a:off x="1944360" y="3209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 flipH="1">
                <a:off x="1946520" y="32083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5"/>
                    </a:moveTo>
                    <a:lnTo>
                      <a:pt x="29" y="2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18" y="14"/>
                    </a:lnTo>
                    <a:lnTo>
                      <a:pt x="21" y="11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 flipH="1">
                <a:off x="1946520" y="3219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 flipH="1">
                <a:off x="1873440" y="3211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0" y="9"/>
                    </a:moveTo>
                    <a:lnTo>
                      <a:pt x="0" y="12"/>
                    </a:lnTo>
                    <a:lnTo>
                      <a:pt x="34" y="17"/>
                    </a:lnTo>
                    <a:lnTo>
                      <a:pt x="37" y="13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50" y="4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4"/>
                    </a:lnTo>
                    <a:lnTo>
                      <a:pt x="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 flipH="1">
                <a:off x="1909440" y="3209760"/>
                <a:ext cx="1800" cy="1800"/>
              </a:xfrm>
              <a:prstGeom prst="rect">
                <a:avLst/>
              </a:pr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 flipH="1">
                <a:off x="1911600" y="3208320"/>
                <a:ext cx="26640" cy="1116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3" y="2"/>
                    </a:moveTo>
                    <a:lnTo>
                      <a:pt x="33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 flipH="1">
                <a:off x="1911600" y="3219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 flipH="1">
                <a:off x="1936800" y="3205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 flipH="1">
                <a:off x="1937880" y="320508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31" y="3"/>
                    </a:moveTo>
                    <a:lnTo>
                      <a:pt x="31" y="0"/>
                    </a:lnTo>
                    <a:lnTo>
                      <a:pt x="20" y="0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2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7"/>
                    </a:lnTo>
                    <a:lnTo>
                      <a:pt x="27" y="5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 flipH="1">
                <a:off x="1937880" y="3216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 flipH="1">
                <a:off x="1933560" y="319896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2" y="0"/>
                    </a:moveTo>
                    <a:lnTo>
                      <a:pt x="16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20" y="1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3" name=""/>
            <p:cNvGrpSpPr/>
            <p:nvPr/>
          </p:nvGrpSpPr>
          <p:grpSpPr>
            <a:xfrm>
              <a:off x="1866960" y="3132360"/>
              <a:ext cx="640800" cy="178920"/>
              <a:chOff x="1866960" y="3132360"/>
              <a:chExt cx="640800" cy="178920"/>
            </a:xfrm>
          </p:grpSpPr>
          <p:sp>
            <p:nvSpPr>
              <p:cNvPr id="5724" name=""/>
              <p:cNvSpPr/>
              <p:nvPr/>
            </p:nvSpPr>
            <p:spPr>
              <a:xfrm flipH="1">
                <a:off x="1904760" y="3203640"/>
                <a:ext cx="24840" cy="900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22" y="0"/>
                    </a:moveTo>
                    <a:lnTo>
                      <a:pt x="16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20" y="10"/>
                    </a:lnTo>
                    <a:lnTo>
                      <a:pt x="25" y="8"/>
                    </a:lnTo>
                    <a:lnTo>
                      <a:pt x="30" y="6"/>
                    </a:lnTo>
                    <a:lnTo>
                      <a:pt x="3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 flipH="1">
                <a:off x="1866960" y="3211560"/>
                <a:ext cx="36000" cy="756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6"/>
                    </a:moveTo>
                    <a:lnTo>
                      <a:pt x="6" y="5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5" y="2"/>
                    </a:lnTo>
                    <a:lnTo>
                      <a:pt x="41" y="5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 flipH="1">
                <a:off x="1927440" y="319572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11"/>
                    </a:moveTo>
                    <a:lnTo>
                      <a:pt x="6" y="8"/>
                    </a:lnTo>
                    <a:lnTo>
                      <a:pt x="13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 flipH="1">
                <a:off x="1897200" y="319896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24" y="0"/>
                    </a:moveTo>
                    <a:lnTo>
                      <a:pt x="19" y="3"/>
                    </a:lnTo>
                    <a:lnTo>
                      <a:pt x="13" y="5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5" y="14"/>
                    </a:lnTo>
                    <a:lnTo>
                      <a:pt x="20" y="11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4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 flipH="1">
                <a:off x="1866960" y="3209760"/>
                <a:ext cx="25200" cy="612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3"/>
                    </a:moveTo>
                    <a:lnTo>
                      <a:pt x="8" y="1"/>
                    </a:lnTo>
                    <a:lnTo>
                      <a:pt x="16" y="0"/>
                    </a:lnTo>
                    <a:lnTo>
                      <a:pt x="24" y="1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 flipH="1">
                <a:off x="1927080" y="3195720"/>
                <a:ext cx="1044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 flipH="1">
                <a:off x="1890360" y="31957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5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7" y="7"/>
                    </a:lnTo>
                    <a:lnTo>
                      <a:pt x="0" y="9"/>
                    </a:lnTo>
                    <a:lnTo>
                      <a:pt x="11" y="11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3"/>
                    </a:lnTo>
                    <a:lnTo>
                      <a:pt x="3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 flipH="1">
                <a:off x="1886040" y="319392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6"/>
                    </a:moveTo>
                    <a:lnTo>
                      <a:pt x="6" y="4"/>
                    </a:lnTo>
                    <a:lnTo>
                      <a:pt x="11" y="3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flipH="1">
                <a:off x="1885680" y="319392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 flipH="1">
                <a:off x="2276640" y="3270240"/>
                <a:ext cx="59760" cy="1872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60" y="25"/>
                    </a:moveTo>
                    <a:lnTo>
                      <a:pt x="54" y="20"/>
                    </a:lnTo>
                    <a:lnTo>
                      <a:pt x="49" y="15"/>
                    </a:lnTo>
                    <a:lnTo>
                      <a:pt x="45" y="13"/>
                    </a:lnTo>
                    <a:lnTo>
                      <a:pt x="40" y="11"/>
                    </a:lnTo>
                    <a:lnTo>
                      <a:pt x="35" y="8"/>
                    </a:lnTo>
                    <a:lnTo>
                      <a:pt x="31" y="8"/>
                    </a:lnTo>
                    <a:lnTo>
                      <a:pt x="24" y="10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71" y="13"/>
                    </a:lnTo>
                    <a:lnTo>
                      <a:pt x="71" y="15"/>
                    </a:lnTo>
                    <a:lnTo>
                      <a:pt x="73" y="18"/>
                    </a:lnTo>
                    <a:lnTo>
                      <a:pt x="75" y="20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5" y="25"/>
                    </a:lnTo>
                    <a:lnTo>
                      <a:pt x="62" y="25"/>
                    </a:lnTo>
                    <a:lnTo>
                      <a:pt x="60" y="2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 flipH="1">
                <a:off x="2200320" y="32893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2276640" y="3260880"/>
                <a:ext cx="75600" cy="26640"/>
              </a:xfrm>
              <a:custGeom>
                <a:avLst/>
                <a:gdLst/>
                <a:ahLst/>
                <a:rect l="l" t="t" r="r" b="b"/>
                <a:pathLst>
                  <a:path w="96" h="33">
                    <a:moveTo>
                      <a:pt x="74" y="29"/>
                    </a:moveTo>
                    <a:lnTo>
                      <a:pt x="69" y="26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9" y="21"/>
                    </a:lnTo>
                    <a:lnTo>
                      <a:pt x="54" y="19"/>
                    </a:lnTo>
                    <a:lnTo>
                      <a:pt x="49" y="19"/>
                    </a:lnTo>
                    <a:lnTo>
                      <a:pt x="45" y="21"/>
                    </a:lnTo>
                    <a:lnTo>
                      <a:pt x="38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2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90" y="14"/>
                    </a:lnTo>
                    <a:lnTo>
                      <a:pt x="90" y="19"/>
                    </a:lnTo>
                    <a:lnTo>
                      <a:pt x="91" y="24"/>
                    </a:lnTo>
                    <a:lnTo>
                      <a:pt x="93" y="29"/>
                    </a:lnTo>
                    <a:lnTo>
                      <a:pt x="96" y="33"/>
                    </a:lnTo>
                    <a:lnTo>
                      <a:pt x="74" y="29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 flipH="1">
                <a:off x="2198520" y="32828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1" y="3"/>
                    </a:moveTo>
                    <a:lnTo>
                      <a:pt x="21" y="6"/>
                    </a:lnTo>
                    <a:lnTo>
                      <a:pt x="19" y="10"/>
                    </a:lnTo>
                    <a:lnTo>
                      <a:pt x="17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9" y="15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 flipH="1">
                <a:off x="2259000" y="3273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flipH="1">
                <a:off x="2259000" y="3252960"/>
                <a:ext cx="110880" cy="26280"/>
              </a:xfrm>
              <a:custGeom>
                <a:avLst/>
                <a:gdLst/>
                <a:ahLst/>
                <a:rect l="l" t="t" r="r" b="b"/>
                <a:pathLst>
                  <a:path w="141" h="36">
                    <a:moveTo>
                      <a:pt x="0" y="0"/>
                    </a:moveTo>
                    <a:lnTo>
                      <a:pt x="6" y="3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2" y="12"/>
                    </a:lnTo>
                    <a:lnTo>
                      <a:pt x="26" y="15"/>
                    </a:lnTo>
                    <a:lnTo>
                      <a:pt x="32" y="18"/>
                    </a:lnTo>
                    <a:lnTo>
                      <a:pt x="37" y="21"/>
                    </a:lnTo>
                    <a:lnTo>
                      <a:pt x="43" y="23"/>
                    </a:lnTo>
                    <a:lnTo>
                      <a:pt x="114" y="36"/>
                    </a:lnTo>
                    <a:lnTo>
                      <a:pt x="113" y="33"/>
                    </a:lnTo>
                    <a:lnTo>
                      <a:pt x="112" y="29"/>
                    </a:lnTo>
                    <a:lnTo>
                      <a:pt x="112" y="27"/>
                    </a:lnTo>
                    <a:lnTo>
                      <a:pt x="112" y="23"/>
                    </a:lnTo>
                    <a:lnTo>
                      <a:pt x="120" y="23"/>
                    </a:lnTo>
                    <a:lnTo>
                      <a:pt x="127" y="26"/>
                    </a:lnTo>
                    <a:lnTo>
                      <a:pt x="134" y="28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6"/>
                    </a:lnTo>
                    <a:lnTo>
                      <a:pt x="141" y="23"/>
                    </a:lnTo>
                    <a:lnTo>
                      <a:pt x="141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 flipH="1">
                <a:off x="2197080" y="3273480"/>
                <a:ext cx="17280" cy="16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8" y="22"/>
                    </a:moveTo>
                    <a:lnTo>
                      <a:pt x="19" y="18"/>
                    </a:lnTo>
                    <a:lnTo>
                      <a:pt x="22" y="14"/>
                    </a:lnTo>
                    <a:lnTo>
                      <a:pt x="23" y="9"/>
                    </a:lnTo>
                    <a:lnTo>
                      <a:pt x="23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 flipH="1">
                <a:off x="2259000" y="3241800"/>
                <a:ext cx="126720" cy="3456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7" y="15"/>
                    </a:lnTo>
                    <a:lnTo>
                      <a:pt x="31" y="18"/>
                    </a:lnTo>
                    <a:lnTo>
                      <a:pt x="37" y="21"/>
                    </a:lnTo>
                    <a:lnTo>
                      <a:pt x="43" y="24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5"/>
                    </a:lnTo>
                    <a:lnTo>
                      <a:pt x="133" y="35"/>
                    </a:lnTo>
                    <a:lnTo>
                      <a:pt x="133" y="35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50" y="38"/>
                    </a:lnTo>
                    <a:lnTo>
                      <a:pt x="157" y="40"/>
                    </a:lnTo>
                    <a:lnTo>
                      <a:pt x="162" y="43"/>
                    </a:lnTo>
                    <a:lnTo>
                      <a:pt x="162" y="38"/>
                    </a:lnTo>
                    <a:lnTo>
                      <a:pt x="162" y="33"/>
                    </a:lnTo>
                    <a:lnTo>
                      <a:pt x="162" y="28"/>
                    </a:lnTo>
                    <a:lnTo>
                      <a:pt x="16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 flipH="1">
                <a:off x="2192040" y="3267000"/>
                <a:ext cx="23400" cy="1728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3" y="22"/>
                    </a:moveTo>
                    <a:lnTo>
                      <a:pt x="25" y="18"/>
                    </a:lnTo>
                    <a:lnTo>
                      <a:pt x="27" y="15"/>
                    </a:lnTo>
                    <a:lnTo>
                      <a:pt x="28" y="10"/>
                    </a:lnTo>
                    <a:lnTo>
                      <a:pt x="31" y="4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 flipH="1">
                <a:off x="2230200" y="3265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 flipH="1">
                <a:off x="2244600" y="32608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10" y="3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 flipH="1">
                <a:off x="2190960" y="3230640"/>
                <a:ext cx="213840" cy="47160"/>
              </a:xfrm>
              <a:custGeom>
                <a:avLst/>
                <a:gdLst/>
                <a:ahLst/>
                <a:rect l="l" t="t" r="r" b="b"/>
                <a:pathLst>
                  <a:path w="272" h="60">
                    <a:moveTo>
                      <a:pt x="0" y="0"/>
                    </a:moveTo>
                    <a:lnTo>
                      <a:pt x="6" y="3"/>
                    </a:lnTo>
                    <a:lnTo>
                      <a:pt x="10" y="7"/>
                    </a:lnTo>
                    <a:lnTo>
                      <a:pt x="16" y="9"/>
                    </a:lnTo>
                    <a:lnTo>
                      <a:pt x="23" y="12"/>
                    </a:lnTo>
                    <a:lnTo>
                      <a:pt x="29" y="16"/>
                    </a:lnTo>
                    <a:lnTo>
                      <a:pt x="35" y="19"/>
                    </a:lnTo>
                    <a:lnTo>
                      <a:pt x="39" y="23"/>
                    </a:lnTo>
                    <a:lnTo>
                      <a:pt x="45" y="26"/>
                    </a:lnTo>
                    <a:lnTo>
                      <a:pt x="186" y="47"/>
                    </a:lnTo>
                    <a:lnTo>
                      <a:pt x="186" y="44"/>
                    </a:lnTo>
                    <a:lnTo>
                      <a:pt x="186" y="41"/>
                    </a:lnTo>
                    <a:lnTo>
                      <a:pt x="186" y="39"/>
                    </a:lnTo>
                    <a:lnTo>
                      <a:pt x="186" y="35"/>
                    </a:lnTo>
                    <a:lnTo>
                      <a:pt x="188" y="37"/>
                    </a:lnTo>
                    <a:lnTo>
                      <a:pt x="190" y="39"/>
                    </a:lnTo>
                    <a:lnTo>
                      <a:pt x="194" y="40"/>
                    </a:lnTo>
                    <a:lnTo>
                      <a:pt x="198" y="40"/>
                    </a:lnTo>
                    <a:lnTo>
                      <a:pt x="198" y="41"/>
                    </a:lnTo>
                    <a:lnTo>
                      <a:pt x="198" y="44"/>
                    </a:lnTo>
                    <a:lnTo>
                      <a:pt x="198" y="45"/>
                    </a:lnTo>
                    <a:lnTo>
                      <a:pt x="198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4" y="39"/>
                    </a:lnTo>
                    <a:lnTo>
                      <a:pt x="205" y="35"/>
                    </a:lnTo>
                    <a:lnTo>
                      <a:pt x="207" y="35"/>
                    </a:lnTo>
                    <a:lnTo>
                      <a:pt x="210" y="35"/>
                    </a:lnTo>
                    <a:lnTo>
                      <a:pt x="213" y="37"/>
                    </a:lnTo>
                    <a:lnTo>
                      <a:pt x="217" y="38"/>
                    </a:lnTo>
                    <a:lnTo>
                      <a:pt x="217" y="40"/>
                    </a:lnTo>
                    <a:lnTo>
                      <a:pt x="218" y="42"/>
                    </a:lnTo>
                    <a:lnTo>
                      <a:pt x="220" y="45"/>
                    </a:lnTo>
                    <a:lnTo>
                      <a:pt x="221" y="47"/>
                    </a:lnTo>
                    <a:lnTo>
                      <a:pt x="221" y="45"/>
                    </a:lnTo>
                    <a:lnTo>
                      <a:pt x="222" y="42"/>
                    </a:lnTo>
                    <a:lnTo>
                      <a:pt x="224" y="39"/>
                    </a:lnTo>
                    <a:lnTo>
                      <a:pt x="224" y="35"/>
                    </a:lnTo>
                    <a:lnTo>
                      <a:pt x="227" y="37"/>
                    </a:lnTo>
                    <a:lnTo>
                      <a:pt x="232" y="39"/>
                    </a:lnTo>
                    <a:lnTo>
                      <a:pt x="236" y="40"/>
                    </a:lnTo>
                    <a:lnTo>
                      <a:pt x="241" y="40"/>
                    </a:lnTo>
                    <a:lnTo>
                      <a:pt x="240" y="44"/>
                    </a:lnTo>
                    <a:lnTo>
                      <a:pt x="240" y="47"/>
                    </a:lnTo>
                    <a:lnTo>
                      <a:pt x="240" y="50"/>
                    </a:lnTo>
                    <a:lnTo>
                      <a:pt x="241" y="54"/>
                    </a:lnTo>
                    <a:lnTo>
                      <a:pt x="264" y="60"/>
                    </a:lnTo>
                    <a:lnTo>
                      <a:pt x="266" y="54"/>
                    </a:lnTo>
                    <a:lnTo>
                      <a:pt x="269" y="49"/>
                    </a:lnTo>
                    <a:lnTo>
                      <a:pt x="270" y="46"/>
                    </a:lnTo>
                    <a:lnTo>
                      <a:pt x="27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 flipH="1">
                <a:off x="2187360" y="3222720"/>
                <a:ext cx="239400" cy="47160"/>
              </a:xfrm>
              <a:custGeom>
                <a:avLst/>
                <a:gdLst/>
                <a:ahLst/>
                <a:rect l="l" t="t" r="r" b="b"/>
                <a:pathLst>
                  <a:path w="300" h="61">
                    <a:moveTo>
                      <a:pt x="0" y="0"/>
                    </a:moveTo>
                    <a:lnTo>
                      <a:pt x="6" y="3"/>
                    </a:lnTo>
                    <a:lnTo>
                      <a:pt x="12" y="6"/>
                    </a:lnTo>
                    <a:lnTo>
                      <a:pt x="19" y="8"/>
                    </a:lnTo>
                    <a:lnTo>
                      <a:pt x="25" y="12"/>
                    </a:lnTo>
                    <a:lnTo>
                      <a:pt x="31" y="15"/>
                    </a:lnTo>
                    <a:lnTo>
                      <a:pt x="38" y="19"/>
                    </a:lnTo>
                    <a:lnTo>
                      <a:pt x="43" y="22"/>
                    </a:lnTo>
                    <a:lnTo>
                      <a:pt x="50" y="26"/>
                    </a:lnTo>
                    <a:lnTo>
                      <a:pt x="212" y="50"/>
                    </a:lnTo>
                    <a:lnTo>
                      <a:pt x="212" y="47"/>
                    </a:lnTo>
                    <a:lnTo>
                      <a:pt x="214" y="49"/>
                    </a:lnTo>
                    <a:lnTo>
                      <a:pt x="215" y="50"/>
                    </a:lnTo>
                    <a:lnTo>
                      <a:pt x="217" y="50"/>
                    </a:lnTo>
                    <a:lnTo>
                      <a:pt x="218" y="50"/>
                    </a:lnTo>
                    <a:lnTo>
                      <a:pt x="229" y="52"/>
                    </a:lnTo>
                    <a:lnTo>
                      <a:pt x="229" y="51"/>
                    </a:lnTo>
                    <a:lnTo>
                      <a:pt x="229" y="50"/>
                    </a:lnTo>
                    <a:lnTo>
                      <a:pt x="230" y="49"/>
                    </a:lnTo>
                    <a:lnTo>
                      <a:pt x="231" y="47"/>
                    </a:lnTo>
                    <a:lnTo>
                      <a:pt x="233" y="47"/>
                    </a:lnTo>
                    <a:lnTo>
                      <a:pt x="236" y="47"/>
                    </a:lnTo>
                    <a:lnTo>
                      <a:pt x="239" y="49"/>
                    </a:lnTo>
                    <a:lnTo>
                      <a:pt x="243" y="50"/>
                    </a:lnTo>
                    <a:lnTo>
                      <a:pt x="243" y="51"/>
                    </a:lnTo>
                    <a:lnTo>
                      <a:pt x="243" y="52"/>
                    </a:lnTo>
                    <a:lnTo>
                      <a:pt x="244" y="53"/>
                    </a:lnTo>
                    <a:lnTo>
                      <a:pt x="245" y="54"/>
                    </a:lnTo>
                    <a:lnTo>
                      <a:pt x="247" y="54"/>
                    </a:lnTo>
                    <a:lnTo>
                      <a:pt x="247" y="52"/>
                    </a:lnTo>
                    <a:lnTo>
                      <a:pt x="248" y="51"/>
                    </a:lnTo>
                    <a:lnTo>
                      <a:pt x="250" y="49"/>
                    </a:lnTo>
                    <a:lnTo>
                      <a:pt x="250" y="47"/>
                    </a:lnTo>
                    <a:lnTo>
                      <a:pt x="253" y="49"/>
                    </a:lnTo>
                    <a:lnTo>
                      <a:pt x="258" y="51"/>
                    </a:lnTo>
                    <a:lnTo>
                      <a:pt x="262" y="52"/>
                    </a:lnTo>
                    <a:lnTo>
                      <a:pt x="267" y="52"/>
                    </a:lnTo>
                    <a:lnTo>
                      <a:pt x="266" y="53"/>
                    </a:lnTo>
                    <a:lnTo>
                      <a:pt x="265" y="56"/>
                    </a:lnTo>
                    <a:lnTo>
                      <a:pt x="265" y="57"/>
                    </a:lnTo>
                    <a:lnTo>
                      <a:pt x="265" y="57"/>
                    </a:lnTo>
                    <a:lnTo>
                      <a:pt x="296" y="61"/>
                    </a:lnTo>
                    <a:lnTo>
                      <a:pt x="296" y="58"/>
                    </a:lnTo>
                    <a:lnTo>
                      <a:pt x="297" y="53"/>
                    </a:lnTo>
                    <a:lnTo>
                      <a:pt x="299" y="49"/>
                    </a:lnTo>
                    <a:lnTo>
                      <a:pt x="30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 flipH="1">
                <a:off x="2185560" y="3209760"/>
                <a:ext cx="261720" cy="55440"/>
              </a:xfrm>
              <a:custGeom>
                <a:avLst/>
                <a:gdLst/>
                <a:ahLst/>
                <a:rect l="l" t="t" r="r" b="b"/>
                <a:pathLst>
                  <a:path w="330" h="69">
                    <a:moveTo>
                      <a:pt x="0" y="0"/>
                    </a:moveTo>
                    <a:lnTo>
                      <a:pt x="7" y="4"/>
                    </a:lnTo>
                    <a:lnTo>
                      <a:pt x="13" y="7"/>
                    </a:lnTo>
                    <a:lnTo>
                      <a:pt x="20" y="11"/>
                    </a:lnTo>
                    <a:lnTo>
                      <a:pt x="27" y="13"/>
                    </a:lnTo>
                    <a:lnTo>
                      <a:pt x="33" y="16"/>
                    </a:lnTo>
                    <a:lnTo>
                      <a:pt x="40" y="20"/>
                    </a:lnTo>
                    <a:lnTo>
                      <a:pt x="46" y="23"/>
                    </a:lnTo>
                    <a:lnTo>
                      <a:pt x="53" y="27"/>
                    </a:lnTo>
                    <a:lnTo>
                      <a:pt x="325" y="69"/>
                    </a:lnTo>
                    <a:lnTo>
                      <a:pt x="325" y="65"/>
                    </a:lnTo>
                    <a:lnTo>
                      <a:pt x="326" y="60"/>
                    </a:lnTo>
                    <a:lnTo>
                      <a:pt x="328" y="56"/>
                    </a:lnTo>
                    <a:lnTo>
                      <a:pt x="33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 flipH="1">
                <a:off x="2184120" y="3200400"/>
                <a:ext cx="286920" cy="56880"/>
              </a:xfrm>
              <a:custGeom>
                <a:avLst/>
                <a:gdLst/>
                <a:ahLst/>
                <a:rect l="l" t="t" r="r" b="b"/>
                <a:pathLst>
                  <a:path w="362" h="71">
                    <a:moveTo>
                      <a:pt x="0" y="0"/>
                    </a:moveTo>
                    <a:lnTo>
                      <a:pt x="7" y="2"/>
                    </a:lnTo>
                    <a:lnTo>
                      <a:pt x="14" y="5"/>
                    </a:lnTo>
                    <a:lnTo>
                      <a:pt x="21" y="9"/>
                    </a:lnTo>
                    <a:lnTo>
                      <a:pt x="29" y="11"/>
                    </a:lnTo>
                    <a:lnTo>
                      <a:pt x="36" y="15"/>
                    </a:lnTo>
                    <a:lnTo>
                      <a:pt x="43" y="18"/>
                    </a:lnTo>
                    <a:lnTo>
                      <a:pt x="50" y="23"/>
                    </a:lnTo>
                    <a:lnTo>
                      <a:pt x="57" y="26"/>
                    </a:lnTo>
                    <a:lnTo>
                      <a:pt x="357" y="71"/>
                    </a:lnTo>
                    <a:lnTo>
                      <a:pt x="358" y="67"/>
                    </a:lnTo>
                    <a:lnTo>
                      <a:pt x="360" y="62"/>
                    </a:lnTo>
                    <a:lnTo>
                      <a:pt x="361" y="57"/>
                    </a:lnTo>
                    <a:lnTo>
                      <a:pt x="362" y="5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0" y="14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 flipH="1">
                <a:off x="2182680" y="3187800"/>
                <a:ext cx="320040" cy="61560"/>
              </a:xfrm>
              <a:custGeom>
                <a:avLst/>
                <a:gdLst/>
                <a:ahLst/>
                <a:rect l="l" t="t" r="r" b="b"/>
                <a:pathLst>
                  <a:path w="403" h="80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6" y="12"/>
                    </a:lnTo>
                    <a:lnTo>
                      <a:pt x="34" y="15"/>
                    </a:lnTo>
                    <a:lnTo>
                      <a:pt x="44" y="19"/>
                    </a:lnTo>
                    <a:lnTo>
                      <a:pt x="52" y="22"/>
                    </a:lnTo>
                    <a:lnTo>
                      <a:pt x="61" y="26"/>
                    </a:lnTo>
                    <a:lnTo>
                      <a:pt x="69" y="29"/>
                    </a:lnTo>
                    <a:lnTo>
                      <a:pt x="399" y="80"/>
                    </a:lnTo>
                    <a:lnTo>
                      <a:pt x="400" y="75"/>
                    </a:lnTo>
                    <a:lnTo>
                      <a:pt x="401" y="71"/>
                    </a:lnTo>
                    <a:lnTo>
                      <a:pt x="402" y="66"/>
                    </a:lnTo>
                    <a:lnTo>
                      <a:pt x="403" y="63"/>
                    </a:lnTo>
                    <a:lnTo>
                      <a:pt x="140" y="22"/>
                    </a:lnTo>
                    <a:lnTo>
                      <a:pt x="143" y="23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44" y="27"/>
                    </a:lnTo>
                    <a:lnTo>
                      <a:pt x="143" y="29"/>
                    </a:lnTo>
                    <a:lnTo>
                      <a:pt x="140" y="30"/>
                    </a:lnTo>
                    <a:lnTo>
                      <a:pt x="140" y="32"/>
                    </a:lnTo>
                    <a:lnTo>
                      <a:pt x="136" y="29"/>
                    </a:lnTo>
                    <a:lnTo>
                      <a:pt x="131" y="27"/>
                    </a:lnTo>
                    <a:lnTo>
                      <a:pt x="127" y="23"/>
                    </a:lnTo>
                    <a:lnTo>
                      <a:pt x="12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 flipH="1">
                <a:off x="2392560" y="32083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 flipH="1">
                <a:off x="2180880" y="3197160"/>
                <a:ext cx="215640" cy="45720"/>
              </a:xfrm>
              <a:custGeom>
                <a:avLst/>
                <a:gdLst/>
                <a:ahLst/>
                <a:rect l="l" t="t" r="r" b="b"/>
                <a:pathLst>
                  <a:path w="272" h="59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6" y="19"/>
                    </a:lnTo>
                    <a:lnTo>
                      <a:pt x="267" y="59"/>
                    </a:lnTo>
                    <a:lnTo>
                      <a:pt x="268" y="54"/>
                    </a:lnTo>
                    <a:lnTo>
                      <a:pt x="270" y="50"/>
                    </a:lnTo>
                    <a:lnTo>
                      <a:pt x="272" y="45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3" y="40"/>
                    </a:lnTo>
                    <a:lnTo>
                      <a:pt x="262" y="40"/>
                    </a:lnTo>
                    <a:lnTo>
                      <a:pt x="261" y="40"/>
                    </a:lnTo>
                    <a:lnTo>
                      <a:pt x="26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 flipH="1">
                <a:off x="2397240" y="3197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 flipH="1">
                <a:off x="2396880" y="3179880"/>
                <a:ext cx="110880" cy="31320"/>
              </a:xfrm>
              <a:custGeom>
                <a:avLst/>
                <a:gdLst/>
                <a:ahLst/>
                <a:rect l="l" t="t" r="r" b="b"/>
                <a:pathLst>
                  <a:path w="141" h="41">
                    <a:moveTo>
                      <a:pt x="141" y="41"/>
                    </a:moveTo>
                    <a:lnTo>
                      <a:pt x="141" y="36"/>
                    </a:lnTo>
                    <a:lnTo>
                      <a:pt x="134" y="32"/>
                    </a:lnTo>
                    <a:lnTo>
                      <a:pt x="128" y="28"/>
                    </a:lnTo>
                    <a:lnTo>
                      <a:pt x="122" y="22"/>
                    </a:lnTo>
                    <a:lnTo>
                      <a:pt x="115" y="18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9"/>
                    </a:lnTo>
                    <a:lnTo>
                      <a:pt x="12" y="11"/>
                    </a:lnTo>
                    <a:lnTo>
                      <a:pt x="17" y="14"/>
                    </a:lnTo>
                    <a:lnTo>
                      <a:pt x="23" y="16"/>
                    </a:lnTo>
                    <a:lnTo>
                      <a:pt x="29" y="19"/>
                    </a:lnTo>
                    <a:lnTo>
                      <a:pt x="35" y="21"/>
                    </a:lnTo>
                    <a:lnTo>
                      <a:pt x="40" y="24"/>
                    </a:lnTo>
                    <a:lnTo>
                      <a:pt x="46" y="27"/>
                    </a:lnTo>
                    <a:lnTo>
                      <a:pt x="141" y="41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 flipH="1">
                <a:off x="2405160" y="320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 flipH="1">
                <a:off x="2179800" y="3187800"/>
                <a:ext cx="228240" cy="48600"/>
              </a:xfrm>
              <a:custGeom>
                <a:avLst/>
                <a:gdLst/>
                <a:ahLst/>
                <a:rect l="l" t="t" r="r" b="b"/>
                <a:pathLst>
                  <a:path w="288" h="63">
                    <a:moveTo>
                      <a:pt x="0" y="0"/>
                    </a:moveTo>
                    <a:lnTo>
                      <a:pt x="0" y="3"/>
                    </a:lnTo>
                    <a:lnTo>
                      <a:pt x="6" y="9"/>
                    </a:lnTo>
                    <a:lnTo>
                      <a:pt x="10" y="14"/>
                    </a:lnTo>
                    <a:lnTo>
                      <a:pt x="16" y="19"/>
                    </a:lnTo>
                    <a:lnTo>
                      <a:pt x="20" y="22"/>
                    </a:lnTo>
                    <a:lnTo>
                      <a:pt x="283" y="63"/>
                    </a:lnTo>
                    <a:lnTo>
                      <a:pt x="284" y="59"/>
                    </a:lnTo>
                    <a:lnTo>
                      <a:pt x="287" y="55"/>
                    </a:lnTo>
                    <a:lnTo>
                      <a:pt x="288" y="50"/>
                    </a:lnTo>
                    <a:lnTo>
                      <a:pt x="288" y="47"/>
                    </a:lnTo>
                    <a:lnTo>
                      <a:pt x="286" y="47"/>
                    </a:lnTo>
                    <a:lnTo>
                      <a:pt x="284" y="48"/>
                    </a:lnTo>
                    <a:lnTo>
                      <a:pt x="282" y="50"/>
                    </a:lnTo>
                    <a:lnTo>
                      <a:pt x="281" y="51"/>
                    </a:lnTo>
                    <a:lnTo>
                      <a:pt x="279" y="53"/>
                    </a:lnTo>
                    <a:lnTo>
                      <a:pt x="275" y="53"/>
                    </a:lnTo>
                    <a:lnTo>
                      <a:pt x="273" y="52"/>
                    </a:lnTo>
                    <a:lnTo>
                      <a:pt x="269" y="50"/>
                    </a:lnTo>
                    <a:lnTo>
                      <a:pt x="266" y="49"/>
                    </a:lnTo>
                    <a:lnTo>
                      <a:pt x="268" y="47"/>
                    </a:lnTo>
                    <a:lnTo>
                      <a:pt x="269" y="45"/>
                    </a:lnTo>
                    <a:lnTo>
                      <a:pt x="269" y="43"/>
                    </a:lnTo>
                    <a:lnTo>
                      <a:pt x="269" y="41"/>
                    </a:lnTo>
                    <a:lnTo>
                      <a:pt x="261" y="41"/>
                    </a:lnTo>
                    <a:lnTo>
                      <a:pt x="261" y="43"/>
                    </a:lnTo>
                    <a:lnTo>
                      <a:pt x="261" y="45"/>
                    </a:lnTo>
                    <a:lnTo>
                      <a:pt x="260" y="47"/>
                    </a:lnTo>
                    <a:lnTo>
                      <a:pt x="259" y="49"/>
                    </a:lnTo>
                    <a:lnTo>
                      <a:pt x="258" y="49"/>
                    </a:lnTo>
                    <a:lnTo>
                      <a:pt x="256" y="48"/>
                    </a:lnTo>
                    <a:lnTo>
                      <a:pt x="254" y="47"/>
                    </a:lnTo>
                    <a:lnTo>
                      <a:pt x="252" y="47"/>
                    </a:lnTo>
                    <a:lnTo>
                      <a:pt x="252" y="44"/>
                    </a:lnTo>
                    <a:lnTo>
                      <a:pt x="251" y="42"/>
                    </a:lnTo>
                    <a:lnTo>
                      <a:pt x="250" y="41"/>
                    </a:lnTo>
                    <a:lnTo>
                      <a:pt x="2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 flipH="1">
                <a:off x="2408400" y="3187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 flipH="1">
                <a:off x="2407680" y="3174840"/>
                <a:ext cx="99720" cy="284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7" y="36"/>
                    </a:moveTo>
                    <a:lnTo>
                      <a:pt x="127" y="34"/>
                    </a:lnTo>
                    <a:lnTo>
                      <a:pt x="120" y="28"/>
                    </a:lnTo>
                    <a:lnTo>
                      <a:pt x="113" y="23"/>
                    </a:lnTo>
                    <a:lnTo>
                      <a:pt x="106" y="18"/>
                    </a:lnTo>
                    <a:lnTo>
                      <a:pt x="100" y="14"/>
                    </a:lnTo>
                    <a:lnTo>
                      <a:pt x="10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127" y="36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 flipH="1">
                <a:off x="2416320" y="3193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 flipH="1">
                <a:off x="2190960" y="3179880"/>
                <a:ext cx="228240" cy="48600"/>
              </a:xfrm>
              <a:custGeom>
                <a:avLst/>
                <a:gdLst/>
                <a:ahLst/>
                <a:rect l="l" t="t" r="r" b="b"/>
                <a:pathLst>
                  <a:path w="289" h="6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7" y="16"/>
                    </a:lnTo>
                    <a:lnTo>
                      <a:pt x="24" y="22"/>
                    </a:lnTo>
                    <a:lnTo>
                      <a:pt x="289" y="62"/>
                    </a:lnTo>
                    <a:lnTo>
                      <a:pt x="287" y="61"/>
                    </a:lnTo>
                    <a:lnTo>
                      <a:pt x="286" y="60"/>
                    </a:lnTo>
                    <a:lnTo>
                      <a:pt x="283" y="59"/>
                    </a:lnTo>
                    <a:lnTo>
                      <a:pt x="281" y="58"/>
                    </a:lnTo>
                    <a:lnTo>
                      <a:pt x="283" y="54"/>
                    </a:lnTo>
                    <a:lnTo>
                      <a:pt x="286" y="50"/>
                    </a:lnTo>
                    <a:lnTo>
                      <a:pt x="287" y="46"/>
                    </a:lnTo>
                    <a:lnTo>
                      <a:pt x="287" y="43"/>
                    </a:lnTo>
                    <a:lnTo>
                      <a:pt x="276" y="41"/>
                    </a:lnTo>
                    <a:lnTo>
                      <a:pt x="276" y="44"/>
                    </a:lnTo>
                    <a:lnTo>
                      <a:pt x="276" y="49"/>
                    </a:lnTo>
                    <a:lnTo>
                      <a:pt x="275" y="54"/>
                    </a:lnTo>
                    <a:lnTo>
                      <a:pt x="274" y="58"/>
                    </a:lnTo>
                    <a:lnTo>
                      <a:pt x="273" y="58"/>
                    </a:lnTo>
                    <a:lnTo>
                      <a:pt x="271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1"/>
                    </a:lnTo>
                    <a:lnTo>
                      <a:pt x="265" y="47"/>
                    </a:lnTo>
                    <a:lnTo>
                      <a:pt x="264" y="43"/>
                    </a:lnTo>
                    <a:lnTo>
                      <a:pt x="26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 flipH="1">
                <a:off x="2176200" y="321948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lnTo>
                      <a:pt x="3" y="9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 flipH="1">
                <a:off x="2419200" y="3178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 flipH="1">
                <a:off x="2419200" y="3168720"/>
                <a:ext cx="86760" cy="24840"/>
              </a:xfrm>
              <a:custGeom>
                <a:avLst/>
                <a:gdLst/>
                <a:ahLst/>
                <a:rect l="l" t="t" r="r" b="b"/>
                <a:pathLst>
                  <a:path w="110" h="32">
                    <a:moveTo>
                      <a:pt x="110" y="32"/>
                    </a:moveTo>
                    <a:lnTo>
                      <a:pt x="110" y="32"/>
                    </a:lnTo>
                    <a:lnTo>
                      <a:pt x="103" y="26"/>
                    </a:lnTo>
                    <a:lnTo>
                      <a:pt x="96" y="20"/>
                    </a:lnTo>
                    <a:lnTo>
                      <a:pt x="89" y="15"/>
                    </a:lnTo>
                    <a:lnTo>
                      <a:pt x="82" y="1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110" y="3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 flipH="1">
                <a:off x="2428920" y="318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 flipH="1">
                <a:off x="2210040" y="3170160"/>
                <a:ext cx="220320" cy="47160"/>
              </a:xfrm>
              <a:custGeom>
                <a:avLst/>
                <a:gdLst/>
                <a:ahLst/>
                <a:rect l="l" t="t" r="r" b="b"/>
                <a:pathLst>
                  <a:path w="279" h="58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3" y="10"/>
                    </a:lnTo>
                    <a:lnTo>
                      <a:pt x="18" y="15"/>
                    </a:lnTo>
                    <a:lnTo>
                      <a:pt x="24" y="20"/>
                    </a:lnTo>
                    <a:lnTo>
                      <a:pt x="279" y="58"/>
                    </a:lnTo>
                    <a:lnTo>
                      <a:pt x="278" y="55"/>
                    </a:lnTo>
                    <a:lnTo>
                      <a:pt x="276" y="50"/>
                    </a:lnTo>
                    <a:lnTo>
                      <a:pt x="276" y="45"/>
                    </a:lnTo>
                    <a:lnTo>
                      <a:pt x="27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 flipH="1">
                <a:off x="2190600" y="32050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2" y="12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 flipH="1">
                <a:off x="2176560" y="3219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 flipH="1">
                <a:off x="2430360" y="317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 flipH="1">
                <a:off x="2430360" y="3162240"/>
                <a:ext cx="69480" cy="2016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88" y="27"/>
                    </a:moveTo>
                    <a:lnTo>
                      <a:pt x="88" y="27"/>
                    </a:lnTo>
                    <a:lnTo>
                      <a:pt x="81" y="21"/>
                    </a:lnTo>
                    <a:lnTo>
                      <a:pt x="74" y="16"/>
                    </a:lnTo>
                    <a:lnTo>
                      <a:pt x="67" y="11"/>
                    </a:lnTo>
                    <a:lnTo>
                      <a:pt x="59" y="6"/>
                    </a:lnTo>
                    <a:lnTo>
                      <a:pt x="26" y="0"/>
                    </a:lnTo>
                    <a:lnTo>
                      <a:pt x="19" y="5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88" y="2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 flipH="1">
                <a:off x="2439720" y="3176640"/>
                <a:ext cx="1080" cy="108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 flipH="1">
                <a:off x="2210040" y="3160800"/>
                <a:ext cx="231120" cy="48600"/>
              </a:xfrm>
              <a:custGeom>
                <a:avLst/>
                <a:gdLst/>
                <a:ahLst/>
                <a:rect l="l" t="t" r="r" b="b"/>
                <a:pathLst>
                  <a:path w="293" h="6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5" y="22"/>
                    </a:lnTo>
                    <a:lnTo>
                      <a:pt x="290" y="62"/>
                    </a:lnTo>
                    <a:lnTo>
                      <a:pt x="290" y="59"/>
                    </a:lnTo>
                    <a:lnTo>
                      <a:pt x="290" y="54"/>
                    </a:lnTo>
                    <a:lnTo>
                      <a:pt x="292" y="50"/>
                    </a:lnTo>
                    <a:lnTo>
                      <a:pt x="29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 flipH="1">
                <a:off x="2187720" y="3198960"/>
                <a:ext cx="12240" cy="136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1" y="19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15" y="5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 flipH="1">
                <a:off x="2439720" y="3160800"/>
                <a:ext cx="1080" cy="108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 flipH="1">
                <a:off x="2441520" y="3157560"/>
                <a:ext cx="48960" cy="18720"/>
              </a:xfrm>
              <a:custGeom>
                <a:avLst/>
                <a:gdLst/>
                <a:ahLst/>
                <a:rect l="l" t="t" r="r" b="b"/>
                <a:pathLst>
                  <a:path w="62" h="25">
                    <a:moveTo>
                      <a:pt x="62" y="25"/>
                    </a:moveTo>
                    <a:lnTo>
                      <a:pt x="62" y="25"/>
                    </a:lnTo>
                    <a:lnTo>
                      <a:pt x="54" y="18"/>
                    </a:lnTo>
                    <a:lnTo>
                      <a:pt x="47" y="12"/>
                    </a:lnTo>
                    <a:lnTo>
                      <a:pt x="39" y="6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8" y="5"/>
                    </a:lnTo>
                    <a:lnTo>
                      <a:pt x="13" y="8"/>
                    </a:lnTo>
                    <a:lnTo>
                      <a:pt x="7" y="12"/>
                    </a:lnTo>
                    <a:lnTo>
                      <a:pt x="0" y="15"/>
                    </a:lnTo>
                    <a:lnTo>
                      <a:pt x="62" y="25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 flipH="1">
                <a:off x="2452680" y="315612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9"/>
                    </a:moveTo>
                    <a:lnTo>
                      <a:pt x="3" y="7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8" y="4"/>
                    </a:lnTo>
                    <a:lnTo>
                      <a:pt x="23" y="7"/>
                    </a:lnTo>
                    <a:lnTo>
                      <a:pt x="29" y="10"/>
                    </a:lnTo>
                    <a:lnTo>
                      <a:pt x="33" y="1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 flipH="1">
                <a:off x="2210040" y="3152880"/>
                <a:ext cx="237600" cy="50400"/>
              </a:xfrm>
              <a:custGeom>
                <a:avLst/>
                <a:gdLst/>
                <a:ahLst/>
                <a:rect l="l" t="t" r="r" b="b"/>
                <a:pathLst>
                  <a:path w="301" h="62">
                    <a:moveTo>
                      <a:pt x="20" y="22"/>
                    </a:moveTo>
                    <a:lnTo>
                      <a:pt x="15" y="17"/>
                    </a:lnTo>
                    <a:lnTo>
                      <a:pt x="9" y="12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1" y="7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292" y="42"/>
                    </a:lnTo>
                    <a:lnTo>
                      <a:pt x="294" y="44"/>
                    </a:lnTo>
                    <a:lnTo>
                      <a:pt x="296" y="45"/>
                    </a:lnTo>
                    <a:lnTo>
                      <a:pt x="298" y="46"/>
                    </a:lnTo>
                    <a:lnTo>
                      <a:pt x="301" y="47"/>
                    </a:lnTo>
                    <a:lnTo>
                      <a:pt x="301" y="52"/>
                    </a:lnTo>
                    <a:lnTo>
                      <a:pt x="300" y="55"/>
                    </a:lnTo>
                    <a:lnTo>
                      <a:pt x="298" y="59"/>
                    </a:lnTo>
                    <a:lnTo>
                      <a:pt x="298" y="62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flipH="1">
                <a:off x="2185560" y="31910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3" y="20"/>
                    </a:lnTo>
                    <a:lnTo>
                      <a:pt x="14" y="16"/>
                    </a:lnTo>
                    <a:lnTo>
                      <a:pt x="16" y="12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 flipH="1">
                <a:off x="2465640" y="31561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 flipH="1">
                <a:off x="2210040" y="3147840"/>
                <a:ext cx="237600" cy="48960"/>
              </a:xfrm>
              <a:custGeom>
                <a:avLst/>
                <a:gdLst/>
                <a:ahLst/>
                <a:rect l="l" t="t" r="r" b="b"/>
                <a:pathLst>
                  <a:path w="301" h="62">
                    <a:moveTo>
                      <a:pt x="8" y="16"/>
                    </a:moveTo>
                    <a:lnTo>
                      <a:pt x="6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36" y="2"/>
                    </a:lnTo>
                    <a:lnTo>
                      <a:pt x="42" y="7"/>
                    </a:lnTo>
                    <a:lnTo>
                      <a:pt x="47" y="13"/>
                    </a:lnTo>
                    <a:lnTo>
                      <a:pt x="53" y="17"/>
                    </a:lnTo>
                    <a:lnTo>
                      <a:pt x="60" y="22"/>
                    </a:lnTo>
                    <a:lnTo>
                      <a:pt x="60" y="16"/>
                    </a:lnTo>
                    <a:lnTo>
                      <a:pt x="60" y="13"/>
                    </a:lnTo>
                    <a:lnTo>
                      <a:pt x="59" y="9"/>
                    </a:lnTo>
                    <a:lnTo>
                      <a:pt x="58" y="7"/>
                    </a:lnTo>
                    <a:lnTo>
                      <a:pt x="277" y="40"/>
                    </a:lnTo>
                    <a:lnTo>
                      <a:pt x="281" y="44"/>
                    </a:lnTo>
                    <a:lnTo>
                      <a:pt x="286" y="47"/>
                    </a:lnTo>
                    <a:lnTo>
                      <a:pt x="293" y="51"/>
                    </a:lnTo>
                    <a:lnTo>
                      <a:pt x="301" y="54"/>
                    </a:lnTo>
                    <a:lnTo>
                      <a:pt x="301" y="56"/>
                    </a:lnTo>
                    <a:lnTo>
                      <a:pt x="301" y="59"/>
                    </a:lnTo>
                    <a:lnTo>
                      <a:pt x="301" y="60"/>
                    </a:lnTo>
                    <a:lnTo>
                      <a:pt x="301" y="6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 flipH="1">
                <a:off x="2184120" y="31827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3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5" y="19"/>
                    </a:lnTo>
                    <a:lnTo>
                      <a:pt x="16" y="16"/>
                    </a:lnTo>
                    <a:lnTo>
                      <a:pt x="18" y="11"/>
                    </a:lnTo>
                    <a:lnTo>
                      <a:pt x="19" y="7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 flipH="1">
                <a:off x="2408400" y="314172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1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5" y="5"/>
                    </a:lnTo>
                    <a:lnTo>
                      <a:pt x="33" y="10"/>
                    </a:lnTo>
                    <a:lnTo>
                      <a:pt x="40" y="15"/>
                    </a:lnTo>
                    <a:lnTo>
                      <a:pt x="47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>
                <a:off x="2216160" y="3146400"/>
                <a:ext cx="188640" cy="41040"/>
              </a:xfrm>
              <a:custGeom>
                <a:avLst/>
                <a:gdLst/>
                <a:ahLst/>
                <a:rect l="l" t="t" r="r" b="b"/>
                <a:pathLst>
                  <a:path w="239" h="51">
                    <a:moveTo>
                      <a:pt x="0" y="0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7" y="12"/>
                    </a:lnTo>
                    <a:lnTo>
                      <a:pt x="7" y="18"/>
                    </a:lnTo>
                    <a:lnTo>
                      <a:pt x="239" y="51"/>
                    </a:lnTo>
                    <a:lnTo>
                      <a:pt x="230" y="48"/>
                    </a:lnTo>
                    <a:lnTo>
                      <a:pt x="226" y="43"/>
                    </a:lnTo>
                    <a:lnTo>
                      <a:pt x="224" y="39"/>
                    </a:lnTo>
                    <a:lnTo>
                      <a:pt x="221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 flipH="1">
                <a:off x="2184120" y="3176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3" y="0"/>
                    </a:move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8" y="22"/>
                    </a:lnTo>
                    <a:lnTo>
                      <a:pt x="19" y="16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 flipH="1">
                <a:off x="2419560" y="314172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 flipH="1">
                <a:off x="2228400" y="3135240"/>
                <a:ext cx="182520" cy="44280"/>
              </a:xfrm>
              <a:custGeom>
                <a:avLst/>
                <a:gdLst/>
                <a:ahLst/>
                <a:rect l="l" t="t" r="r" b="b"/>
                <a:pathLst>
                  <a:path w="231" h="55">
                    <a:moveTo>
                      <a:pt x="0" y="0"/>
                    </a:moveTo>
                    <a:lnTo>
                      <a:pt x="5" y="7"/>
                    </a:lnTo>
                    <a:lnTo>
                      <a:pt x="8" y="13"/>
                    </a:lnTo>
                    <a:lnTo>
                      <a:pt x="11" y="17"/>
                    </a:lnTo>
                    <a:lnTo>
                      <a:pt x="12" y="22"/>
                    </a:lnTo>
                    <a:lnTo>
                      <a:pt x="231" y="55"/>
                    </a:lnTo>
                    <a:lnTo>
                      <a:pt x="229" y="52"/>
                    </a:lnTo>
                    <a:lnTo>
                      <a:pt x="228" y="47"/>
                    </a:lnTo>
                    <a:lnTo>
                      <a:pt x="228" y="41"/>
                    </a:lnTo>
                    <a:lnTo>
                      <a:pt x="228" y="37"/>
                    </a:lnTo>
                    <a:lnTo>
                      <a:pt x="212" y="33"/>
                    </a:lnTo>
                    <a:lnTo>
                      <a:pt x="212" y="33"/>
                    </a:lnTo>
                    <a:lnTo>
                      <a:pt x="21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 flipH="1">
                <a:off x="2184120" y="31687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 flipH="1">
                <a:off x="2228400" y="3132360"/>
                <a:ext cx="183960" cy="41040"/>
              </a:xfrm>
              <a:custGeom>
                <a:avLst/>
                <a:gdLst/>
                <a:ahLst/>
                <a:rect l="l" t="t" r="r" b="b"/>
                <a:pathLst>
                  <a:path w="233" h="51">
                    <a:moveTo>
                      <a:pt x="9" y="18"/>
                    </a:moveTo>
                    <a:lnTo>
                      <a:pt x="7" y="14"/>
                    </a:lnTo>
                    <a:lnTo>
                      <a:pt x="6" y="11"/>
                    </a:lnTo>
                    <a:lnTo>
                      <a:pt x="3" y="7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207" y="27"/>
                    </a:lnTo>
                    <a:lnTo>
                      <a:pt x="207" y="30"/>
                    </a:lnTo>
                    <a:lnTo>
                      <a:pt x="210" y="34"/>
                    </a:lnTo>
                    <a:lnTo>
                      <a:pt x="211" y="36"/>
                    </a:lnTo>
                    <a:lnTo>
                      <a:pt x="214" y="38"/>
                    </a:lnTo>
                    <a:lnTo>
                      <a:pt x="214" y="38"/>
                    </a:lnTo>
                    <a:lnTo>
                      <a:pt x="215" y="38"/>
                    </a:lnTo>
                    <a:lnTo>
                      <a:pt x="218" y="37"/>
                    </a:lnTo>
                    <a:lnTo>
                      <a:pt x="219" y="36"/>
                    </a:lnTo>
                    <a:lnTo>
                      <a:pt x="219" y="34"/>
                    </a:lnTo>
                    <a:lnTo>
                      <a:pt x="219" y="33"/>
                    </a:lnTo>
                    <a:lnTo>
                      <a:pt x="219" y="30"/>
                    </a:lnTo>
                    <a:lnTo>
                      <a:pt x="219" y="29"/>
                    </a:lnTo>
                    <a:lnTo>
                      <a:pt x="233" y="31"/>
                    </a:lnTo>
                    <a:lnTo>
                      <a:pt x="231" y="37"/>
                    </a:lnTo>
                    <a:lnTo>
                      <a:pt x="230" y="42"/>
                    </a:lnTo>
                    <a:lnTo>
                      <a:pt x="230" y="46"/>
                    </a:lnTo>
                    <a:lnTo>
                      <a:pt x="230" y="51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 flipH="1">
                <a:off x="2184120" y="31622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 flipH="1">
                <a:off x="2244960" y="3132360"/>
                <a:ext cx="167760" cy="29880"/>
              </a:xfrm>
              <a:custGeom>
                <a:avLst/>
                <a:gdLst/>
                <a:ahLst/>
                <a:rect l="l" t="t" r="r" b="b"/>
                <a:pathLst>
                  <a:path w="212" h="38">
                    <a:moveTo>
                      <a:pt x="2" y="5"/>
                    </a:move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1" y="1"/>
                    </a:lnTo>
                    <a:lnTo>
                      <a:pt x="23" y="1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7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205" y="20"/>
                    </a:lnTo>
                    <a:lnTo>
                      <a:pt x="205" y="25"/>
                    </a:lnTo>
                    <a:lnTo>
                      <a:pt x="207" y="29"/>
                    </a:lnTo>
                    <a:lnTo>
                      <a:pt x="208" y="34"/>
                    </a:lnTo>
                    <a:lnTo>
                      <a:pt x="212" y="38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 flipH="1">
                <a:off x="2228400" y="31478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18"/>
                    </a:moveTo>
                    <a:lnTo>
                      <a:pt x="1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9" y="2"/>
                    </a:lnTo>
                    <a:lnTo>
                      <a:pt x="19" y="7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6" y="2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 flipH="1">
                <a:off x="2184120" y="31561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2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 flipH="1">
                <a:off x="2247840" y="3132360"/>
                <a:ext cx="141120" cy="205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37" y="3"/>
                    </a:moveTo>
                    <a:lnTo>
                      <a:pt x="120" y="3"/>
                    </a:lnTo>
                    <a:lnTo>
                      <a:pt x="102" y="3"/>
                    </a:lnTo>
                    <a:lnTo>
                      <a:pt x="85" y="1"/>
                    </a:lnTo>
                    <a:lnTo>
                      <a:pt x="68" y="1"/>
                    </a:lnTo>
                    <a:lnTo>
                      <a:pt x="51" y="1"/>
                    </a:lnTo>
                    <a:lnTo>
                      <a:pt x="33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76" y="27"/>
                    </a:lnTo>
                    <a:lnTo>
                      <a:pt x="175" y="23"/>
                    </a:lnTo>
                    <a:lnTo>
                      <a:pt x="174" y="19"/>
                    </a:lnTo>
                    <a:lnTo>
                      <a:pt x="174" y="14"/>
                    </a:lnTo>
                    <a:lnTo>
                      <a:pt x="174" y="11"/>
                    </a:lnTo>
                    <a:lnTo>
                      <a:pt x="137" y="3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 flipH="1">
                <a:off x="2226960" y="31417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8" y="1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 flipH="1">
                <a:off x="2184120" y="31478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 flipH="1">
                <a:off x="2250720" y="3132360"/>
                <a:ext cx="90360" cy="1548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4" y="1"/>
                    </a:lnTo>
                    <a:lnTo>
                      <a:pt x="29" y="1"/>
                    </a:lnTo>
                    <a:lnTo>
                      <a:pt x="42" y="3"/>
                    </a:lnTo>
                    <a:lnTo>
                      <a:pt x="57" y="3"/>
                    </a:lnTo>
                    <a:lnTo>
                      <a:pt x="71" y="4"/>
                    </a:lnTo>
                    <a:lnTo>
                      <a:pt x="86" y="4"/>
                    </a:lnTo>
                    <a:lnTo>
                      <a:pt x="100" y="4"/>
                    </a:lnTo>
                    <a:lnTo>
                      <a:pt x="115" y="3"/>
                    </a:lnTo>
                    <a:lnTo>
                      <a:pt x="115" y="7"/>
                    </a:lnTo>
                    <a:lnTo>
                      <a:pt x="115" y="12"/>
                    </a:lnTo>
                    <a:lnTo>
                      <a:pt x="115" y="16"/>
                    </a:lnTo>
                    <a:lnTo>
                      <a:pt x="115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 flipH="1">
                <a:off x="2226960" y="31352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0" y="11"/>
                    </a:lnTo>
                    <a:lnTo>
                      <a:pt x="0" y="8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10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 flipH="1">
                <a:off x="2185920" y="31399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3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0"/>
                    </a:lnTo>
                    <a:lnTo>
                      <a:pt x="13" y="16"/>
                    </a:lnTo>
                    <a:lnTo>
                      <a:pt x="11" y="10"/>
                    </a:lnTo>
                    <a:lnTo>
                      <a:pt x="9" y="5"/>
                    </a:lnTo>
                    <a:lnTo>
                      <a:pt x="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 flipH="1">
                <a:off x="2250720" y="3133800"/>
                <a:ext cx="28440" cy="57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0"/>
                    </a:moveTo>
                    <a:lnTo>
                      <a:pt x="5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 flipH="1">
                <a:off x="2224080" y="31338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 flipH="1">
                <a:off x="2187360" y="31352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5"/>
                    </a:moveTo>
                    <a:lnTo>
                      <a:pt x="0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6" y="5"/>
                    </a:lnTo>
                    <a:lnTo>
                      <a:pt x="7" y="9"/>
                    </a:lnTo>
                    <a:lnTo>
                      <a:pt x="9" y="14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 flipH="1">
                <a:off x="2223720" y="313380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2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 flipH="1">
                <a:off x="2190600" y="313524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 flipH="1">
                <a:off x="2122200" y="3301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1" y="10"/>
                    </a:moveTo>
                    <a:lnTo>
                      <a:pt x="8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 flipH="1">
                <a:off x="2150640" y="32986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2"/>
                    </a:moveTo>
                    <a:lnTo>
                      <a:pt x="19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7" y="9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 flipH="1">
                <a:off x="2115720" y="32972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7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11" y="17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2" y="5"/>
                    </a:lnTo>
                    <a:lnTo>
                      <a:pt x="25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 flipH="1">
                <a:off x="2144880" y="329400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4" y="17"/>
                    </a:moveTo>
                    <a:lnTo>
                      <a:pt x="17" y="13"/>
                    </a:lnTo>
                    <a:lnTo>
                      <a:pt x="20" y="9"/>
                    </a:lnTo>
                    <a:lnTo>
                      <a:pt x="22" y="6"/>
                    </a:lnTo>
                    <a:lnTo>
                      <a:pt x="25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 flipH="1">
                <a:off x="2108160" y="329076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5" y="0"/>
                    </a:moveTo>
                    <a:lnTo>
                      <a:pt x="5" y="3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14" y="17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26" y="6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 flipH="1">
                <a:off x="2141640" y="328788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4" y="16"/>
                    </a:moveTo>
                    <a:lnTo>
                      <a:pt x="17" y="13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 flipH="1">
                <a:off x="2103480" y="3284640"/>
                <a:ext cx="28080" cy="1368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7" y="0"/>
                    </a:moveTo>
                    <a:lnTo>
                      <a:pt x="5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18" y="18"/>
                    </a:lnTo>
                    <a:lnTo>
                      <a:pt x="24" y="15"/>
                    </a:lnTo>
                    <a:lnTo>
                      <a:pt x="29" y="11"/>
                    </a:lnTo>
                    <a:lnTo>
                      <a:pt x="32" y="8"/>
                    </a:lnTo>
                    <a:lnTo>
                      <a:pt x="3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 flipH="1">
                <a:off x="2136960" y="328284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16" y="16"/>
                    </a:moveTo>
                    <a:lnTo>
                      <a:pt x="19" y="13"/>
                    </a:lnTo>
                    <a:lnTo>
                      <a:pt x="20" y="10"/>
                    </a:lnTo>
                    <a:lnTo>
                      <a:pt x="23" y="6"/>
                    </a:lnTo>
                    <a:lnTo>
                      <a:pt x="27" y="3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 flipH="1">
                <a:off x="2089080" y="3289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 flipH="1">
                <a:off x="2097000" y="327816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7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27" y="18"/>
                    </a:lnTo>
                    <a:lnTo>
                      <a:pt x="30" y="15"/>
                    </a:lnTo>
                    <a:lnTo>
                      <a:pt x="33" y="11"/>
                    </a:lnTo>
                    <a:lnTo>
                      <a:pt x="37" y="8"/>
                    </a:lnTo>
                    <a:lnTo>
                      <a:pt x="4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 flipH="1">
                <a:off x="2133720" y="3273480"/>
                <a:ext cx="2016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6" y="20"/>
                    </a:moveTo>
                    <a:lnTo>
                      <a:pt x="18" y="16"/>
                    </a:lnTo>
                    <a:lnTo>
                      <a:pt x="21" y="13"/>
                    </a:lnTo>
                    <a:lnTo>
                      <a:pt x="23" y="8"/>
                    </a:lnTo>
                    <a:lnTo>
                      <a:pt x="26" y="3"/>
                    </a:lnTo>
                    <a:lnTo>
                      <a:pt x="9" y="0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 flipH="1">
                <a:off x="2076120" y="328464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2"/>
                    </a:moveTo>
                    <a:lnTo>
                      <a:pt x="13" y="4"/>
                    </a:lnTo>
                    <a:lnTo>
                      <a:pt x="9" y="5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 flipH="1">
                <a:off x="2067120" y="3271680"/>
                <a:ext cx="58320" cy="17280"/>
              </a:xfrm>
              <a:custGeom>
                <a:avLst/>
                <a:gdLst/>
                <a:ahLst/>
                <a:rect l="l" t="t" r="r" b="b"/>
                <a:pathLst>
                  <a:path w="73" h="22">
                    <a:moveTo>
                      <a:pt x="7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8" y="19"/>
                    </a:lnTo>
                    <a:lnTo>
                      <a:pt x="32" y="16"/>
                    </a:lnTo>
                    <a:lnTo>
                      <a:pt x="35" y="13"/>
                    </a:lnTo>
                    <a:lnTo>
                      <a:pt x="39" y="11"/>
                    </a:lnTo>
                    <a:lnTo>
                      <a:pt x="42" y="8"/>
                    </a:lnTo>
                    <a:lnTo>
                      <a:pt x="46" y="9"/>
                    </a:lnTo>
                    <a:lnTo>
                      <a:pt x="48" y="10"/>
                    </a:lnTo>
                    <a:lnTo>
                      <a:pt x="51" y="11"/>
                    </a:lnTo>
                    <a:lnTo>
                      <a:pt x="55" y="12"/>
                    </a:lnTo>
                    <a:lnTo>
                      <a:pt x="51" y="15"/>
                    </a:lnTo>
                    <a:lnTo>
                      <a:pt x="48" y="17"/>
                    </a:lnTo>
                    <a:lnTo>
                      <a:pt x="47" y="19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53" y="20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73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>
                <a:off x="2129040" y="3268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7" y="20"/>
                    </a:moveTo>
                    <a:lnTo>
                      <a:pt x="19" y="15"/>
                    </a:lnTo>
                    <a:lnTo>
                      <a:pt x="21" y="10"/>
                    </a:lnTo>
                    <a:lnTo>
                      <a:pt x="24" y="6"/>
                    </a:lnTo>
                    <a:lnTo>
                      <a:pt x="26" y="2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4" y="8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 flipH="1">
                <a:off x="2060280" y="3267000"/>
                <a:ext cx="63000" cy="1872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9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37" y="17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9" y="18"/>
                    </a:lnTo>
                    <a:lnTo>
                      <a:pt x="53" y="19"/>
                    </a:lnTo>
                    <a:lnTo>
                      <a:pt x="52" y="19"/>
                    </a:lnTo>
                    <a:lnTo>
                      <a:pt x="51" y="20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60" y="24"/>
                    </a:lnTo>
                    <a:lnTo>
                      <a:pt x="66" y="22"/>
                    </a:lnTo>
                    <a:lnTo>
                      <a:pt x="70" y="19"/>
                    </a:lnTo>
                    <a:lnTo>
                      <a:pt x="76" y="16"/>
                    </a:lnTo>
                    <a:lnTo>
                      <a:pt x="8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 flipH="1">
                <a:off x="2125800" y="326376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7" y="17"/>
                    </a:moveTo>
                    <a:lnTo>
                      <a:pt x="20" y="13"/>
                    </a:lnTo>
                    <a:lnTo>
                      <a:pt x="22" y="9"/>
                    </a:lnTo>
                    <a:lnTo>
                      <a:pt x="24" y="6"/>
                    </a:lnTo>
                    <a:lnTo>
                      <a:pt x="27" y="2"/>
                    </a:lnTo>
                    <a:lnTo>
                      <a:pt x="13" y="0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 flipH="1">
                <a:off x="2052360" y="3260880"/>
                <a:ext cx="68040" cy="18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9" y="0"/>
                    </a:moveTo>
                    <a:lnTo>
                      <a:pt x="5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66" y="24"/>
                    </a:lnTo>
                    <a:lnTo>
                      <a:pt x="70" y="22"/>
                    </a:lnTo>
                    <a:lnTo>
                      <a:pt x="74" y="18"/>
                    </a:lnTo>
                    <a:lnTo>
                      <a:pt x="80" y="15"/>
                    </a:lnTo>
                    <a:lnTo>
                      <a:pt x="86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 flipH="1">
                <a:off x="2122560" y="325764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17" y="16"/>
                    </a:moveTo>
                    <a:lnTo>
                      <a:pt x="19" y="13"/>
                    </a:lnTo>
                    <a:lnTo>
                      <a:pt x="22" y="9"/>
                    </a:lnTo>
                    <a:lnTo>
                      <a:pt x="24" y="6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 flipH="1">
                <a:off x="2044440" y="3255840"/>
                <a:ext cx="70920" cy="2052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11" y="0"/>
                    </a:moveTo>
                    <a:lnTo>
                      <a:pt x="7" y="3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72" y="26"/>
                    </a:lnTo>
                    <a:lnTo>
                      <a:pt x="77" y="22"/>
                    </a:lnTo>
                    <a:lnTo>
                      <a:pt x="82" y="18"/>
                    </a:lnTo>
                    <a:lnTo>
                      <a:pt x="87" y="15"/>
                    </a:lnTo>
                    <a:lnTo>
                      <a:pt x="91" y="11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1" y="8"/>
                    </a:lnTo>
                    <a:lnTo>
                      <a:pt x="50" y="10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0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43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 flipH="1">
                <a:off x="2119320" y="32529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14" y="16"/>
                    </a:moveTo>
                    <a:lnTo>
                      <a:pt x="16" y="13"/>
                    </a:lnTo>
                    <a:lnTo>
                      <a:pt x="18" y="9"/>
                    </a:lnTo>
                    <a:lnTo>
                      <a:pt x="21" y="6"/>
                    </a:lnTo>
                    <a:lnTo>
                      <a:pt x="23" y="3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 flipH="1">
                <a:off x="2038320" y="324648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119" h="31">
                    <a:moveTo>
                      <a:pt x="26" y="20"/>
                    </a:moveTo>
                    <a:lnTo>
                      <a:pt x="28" y="17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7" y="9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74" y="11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20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67" y="24"/>
                    </a:lnTo>
                    <a:lnTo>
                      <a:pt x="70" y="24"/>
                    </a:lnTo>
                    <a:lnTo>
                      <a:pt x="73" y="21"/>
                    </a:lnTo>
                    <a:lnTo>
                      <a:pt x="75" y="17"/>
                    </a:lnTo>
                    <a:lnTo>
                      <a:pt x="76" y="15"/>
                    </a:lnTo>
                    <a:lnTo>
                      <a:pt x="79" y="13"/>
                    </a:lnTo>
                    <a:lnTo>
                      <a:pt x="119" y="17"/>
                    </a:lnTo>
                    <a:lnTo>
                      <a:pt x="116" y="21"/>
                    </a:lnTo>
                    <a:lnTo>
                      <a:pt x="111" y="24"/>
                    </a:lnTo>
                    <a:lnTo>
                      <a:pt x="106" y="28"/>
                    </a:lnTo>
                    <a:lnTo>
                      <a:pt x="103" y="31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 flipH="1">
                <a:off x="2031840" y="3249720"/>
                <a:ext cx="40680" cy="1548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9"/>
                    </a:moveTo>
                    <a:lnTo>
                      <a:pt x="0" y="14"/>
                    </a:lnTo>
                    <a:lnTo>
                      <a:pt x="36" y="18"/>
                    </a:lnTo>
                    <a:lnTo>
                      <a:pt x="40" y="15"/>
                    </a:lnTo>
                    <a:lnTo>
                      <a:pt x="43" y="11"/>
                    </a:lnTo>
                    <a:lnTo>
                      <a:pt x="48" y="8"/>
                    </a:lnTo>
                    <a:lnTo>
                      <a:pt x="52" y="5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 flipH="1">
                <a:off x="2068560" y="3247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 flipH="1">
                <a:off x="2072880" y="3240000"/>
                <a:ext cx="53640" cy="1872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9" y="15"/>
                    </a:moveTo>
                    <a:lnTo>
                      <a:pt x="69" y="1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20" y="16"/>
                    </a:lnTo>
                    <a:lnTo>
                      <a:pt x="23" y="18"/>
                    </a:lnTo>
                    <a:lnTo>
                      <a:pt x="27" y="18"/>
                    </a:lnTo>
                    <a:lnTo>
                      <a:pt x="25" y="20"/>
                    </a:lnTo>
                    <a:lnTo>
                      <a:pt x="60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7" y="18"/>
                    </a:lnTo>
                    <a:lnTo>
                      <a:pt x="69" y="1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 flipH="1">
                <a:off x="2073240" y="3257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 flipH="1">
                <a:off x="2025720" y="3243240"/>
                <a:ext cx="41040" cy="1548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0"/>
                    </a:moveTo>
                    <a:lnTo>
                      <a:pt x="0" y="15"/>
                    </a:lnTo>
                    <a:lnTo>
                      <a:pt x="36" y="19"/>
                    </a:lnTo>
                    <a:lnTo>
                      <a:pt x="40" y="16"/>
                    </a:lnTo>
                    <a:lnTo>
                      <a:pt x="44" y="13"/>
                    </a:lnTo>
                    <a:lnTo>
                      <a:pt x="49" y="9"/>
                    </a:lnTo>
                    <a:lnTo>
                      <a:pt x="53" y="5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 flipH="1">
                <a:off x="2063880" y="3241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 flipH="1">
                <a:off x="2066760" y="323532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1" y="14"/>
                    </a:moveTo>
                    <a:lnTo>
                      <a:pt x="71" y="1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62" y="25"/>
                    </a:lnTo>
                    <a:lnTo>
                      <a:pt x="64" y="22"/>
                    </a:lnTo>
                    <a:lnTo>
                      <a:pt x="66" y="19"/>
                    </a:lnTo>
                    <a:lnTo>
                      <a:pt x="68" y="17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 flipH="1">
                <a:off x="2067120" y="3252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 flipH="1">
                <a:off x="2019240" y="3238560"/>
                <a:ext cx="42480" cy="1548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0" y="9"/>
                    </a:moveTo>
                    <a:lnTo>
                      <a:pt x="0" y="15"/>
                    </a:lnTo>
                    <a:lnTo>
                      <a:pt x="38" y="20"/>
                    </a:lnTo>
                    <a:lnTo>
                      <a:pt x="43" y="16"/>
                    </a:lnTo>
                    <a:lnTo>
                      <a:pt x="46" y="13"/>
                    </a:lnTo>
                    <a:lnTo>
                      <a:pt x="50" y="9"/>
                    </a:lnTo>
                    <a:lnTo>
                      <a:pt x="53" y="7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 flipH="1">
                <a:off x="2058840" y="3236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 flipH="1">
                <a:off x="2062080" y="3230640"/>
                <a:ext cx="56880" cy="1692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71" y="11"/>
                    </a:moveTo>
                    <a:lnTo>
                      <a:pt x="71" y="7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62" y="21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8" y="15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 flipH="1">
                <a:off x="2062080" y="3246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 flipH="1">
                <a:off x="2013120" y="3233880"/>
                <a:ext cx="42480" cy="13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12"/>
                    </a:moveTo>
                    <a:lnTo>
                      <a:pt x="0" y="14"/>
                    </a:lnTo>
                    <a:lnTo>
                      <a:pt x="39" y="19"/>
                    </a:lnTo>
                    <a:lnTo>
                      <a:pt x="43" y="16"/>
                    </a:lnTo>
                    <a:lnTo>
                      <a:pt x="46" y="14"/>
                    </a:lnTo>
                    <a:lnTo>
                      <a:pt x="51" y="10"/>
                    </a:lnTo>
                    <a:lnTo>
                      <a:pt x="56" y="7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 flipH="1">
                <a:off x="2052720" y="32306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 flipH="1">
                <a:off x="2055960" y="3225960"/>
                <a:ext cx="56880" cy="1548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71" y="11"/>
                    </a:moveTo>
                    <a:lnTo>
                      <a:pt x="71" y="7"/>
                    </a:lnTo>
                    <a:lnTo>
                      <a:pt x="17" y="0"/>
                    </a:lnTo>
                    <a:lnTo>
                      <a:pt x="14" y="3"/>
                    </a:lnTo>
                    <a:lnTo>
                      <a:pt x="9" y="6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62" y="21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9" y="14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 flipH="1">
                <a:off x="2055960" y="324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H="1">
                <a:off x="2006640" y="3227400"/>
                <a:ext cx="42480" cy="1548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0" y="9"/>
                    </a:moveTo>
                    <a:lnTo>
                      <a:pt x="0" y="14"/>
                    </a:lnTo>
                    <a:lnTo>
                      <a:pt x="38" y="21"/>
                    </a:lnTo>
                    <a:lnTo>
                      <a:pt x="42" y="17"/>
                    </a:lnTo>
                    <a:lnTo>
                      <a:pt x="46" y="14"/>
                    </a:lnTo>
                    <a:lnTo>
                      <a:pt x="51" y="11"/>
                    </a:lnTo>
                    <a:lnTo>
                      <a:pt x="54" y="7"/>
                    </a:lnTo>
                    <a:lnTo>
                      <a:pt x="19" y="0"/>
                    </a:lnTo>
                    <a:lnTo>
                      <a:pt x="14" y="4"/>
                    </a:lnTo>
                    <a:lnTo>
                      <a:pt x="9" y="6"/>
                    </a:lnTo>
                    <a:lnTo>
                      <a:pt x="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 flipH="1">
                <a:off x="2046240" y="3225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 flipH="1">
                <a:off x="2049480" y="3219480"/>
                <a:ext cx="55440" cy="16920"/>
              </a:xfrm>
              <a:custGeom>
                <a:avLst/>
                <a:gdLst/>
                <a:ahLst/>
                <a:rect l="l" t="t" r="r" b="b"/>
                <a:pathLst>
                  <a:path w="69" h="22">
                    <a:moveTo>
                      <a:pt x="69" y="12"/>
                    </a:moveTo>
                    <a:lnTo>
                      <a:pt x="69" y="8"/>
                    </a:lnTo>
                    <a:lnTo>
                      <a:pt x="16" y="0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59" y="22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6" y="16"/>
                    </a:lnTo>
                    <a:lnTo>
                      <a:pt x="69" y="1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 flipH="1">
                <a:off x="2049480" y="32353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 flipH="1">
                <a:off x="2001960" y="3224160"/>
                <a:ext cx="41040" cy="1404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11"/>
                    </a:moveTo>
                    <a:lnTo>
                      <a:pt x="0" y="11"/>
                    </a:lnTo>
                    <a:lnTo>
                      <a:pt x="39" y="18"/>
                    </a:lnTo>
                    <a:lnTo>
                      <a:pt x="42" y="15"/>
                    </a:lnTo>
                    <a:lnTo>
                      <a:pt x="45" y="11"/>
                    </a:lnTo>
                    <a:lnTo>
                      <a:pt x="49" y="8"/>
                    </a:lnTo>
                    <a:lnTo>
                      <a:pt x="52" y="4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 flipH="1">
                <a:off x="2041560" y="3219480"/>
                <a:ext cx="1440" cy="2880"/>
              </a:xfrm>
              <a:prstGeom prst="rect">
                <a:avLst/>
              </a:pr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 flipH="1">
                <a:off x="2043000" y="3213000"/>
                <a:ext cx="55080" cy="172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71" y="10"/>
                    </a:moveTo>
                    <a:lnTo>
                      <a:pt x="71" y="7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5" y="17"/>
                    </a:lnTo>
                    <a:lnTo>
                      <a:pt x="68" y="14"/>
                    </a:lnTo>
                    <a:lnTo>
                      <a:pt x="71" y="1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 flipH="1">
                <a:off x="2043000" y="3233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 flipH="1">
                <a:off x="2036520" y="3208320"/>
                <a:ext cx="55080" cy="1872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0" y="14"/>
                    </a:moveTo>
                    <a:lnTo>
                      <a:pt x="1" y="14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9" y="9"/>
                    </a:lnTo>
                    <a:lnTo>
                      <a:pt x="66" y="13"/>
                    </a:lnTo>
                    <a:lnTo>
                      <a:pt x="64" y="16"/>
                    </a:lnTo>
                    <a:lnTo>
                      <a:pt x="61" y="21"/>
                    </a:lnTo>
                    <a:lnTo>
                      <a:pt x="58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 flipH="1">
                <a:off x="1995120" y="321768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17" y="0"/>
                    </a:moveTo>
                    <a:lnTo>
                      <a:pt x="14" y="5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0" y="13"/>
                    </a:lnTo>
                    <a:lnTo>
                      <a:pt x="35" y="20"/>
                    </a:lnTo>
                    <a:lnTo>
                      <a:pt x="39" y="17"/>
                    </a:lnTo>
                    <a:lnTo>
                      <a:pt x="43" y="13"/>
                    </a:lnTo>
                    <a:lnTo>
                      <a:pt x="47" y="10"/>
                    </a:lnTo>
                    <a:lnTo>
                      <a:pt x="50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 flipH="1">
                <a:off x="2031840" y="320364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14"/>
                    </a:moveTo>
                    <a:lnTo>
                      <a:pt x="1" y="12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71" y="9"/>
                    </a:lnTo>
                    <a:lnTo>
                      <a:pt x="68" y="13"/>
                    </a:lnTo>
                    <a:lnTo>
                      <a:pt x="64" y="16"/>
                    </a:lnTo>
                    <a:lnTo>
                      <a:pt x="61" y="20"/>
                    </a:lnTo>
                    <a:lnTo>
                      <a:pt x="57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 flipH="1">
                <a:off x="1989360" y="3211560"/>
                <a:ext cx="37440" cy="154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14" y="0"/>
                    </a:move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32" y="19"/>
                    </a:lnTo>
                    <a:lnTo>
                      <a:pt x="37" y="16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 flipH="1">
                <a:off x="2025360" y="319896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77" h="21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7"/>
                    </a:lnTo>
                    <a:lnTo>
                      <a:pt x="17" y="6"/>
                    </a:lnTo>
                    <a:lnTo>
                      <a:pt x="24" y="4"/>
                    </a:lnTo>
                    <a:lnTo>
                      <a:pt x="31" y="0"/>
                    </a:lnTo>
                    <a:lnTo>
                      <a:pt x="77" y="7"/>
                    </a:lnTo>
                    <a:lnTo>
                      <a:pt x="73" y="11"/>
                    </a:lnTo>
                    <a:lnTo>
                      <a:pt x="69" y="14"/>
                    </a:lnTo>
                    <a:lnTo>
                      <a:pt x="66" y="18"/>
                    </a:lnTo>
                    <a:lnTo>
                      <a:pt x="62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 flipH="1">
                <a:off x="1983960" y="320688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14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33" y="19"/>
                    </a:lnTo>
                    <a:lnTo>
                      <a:pt x="37" y="15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H="1">
                <a:off x="2022120" y="3193920"/>
                <a:ext cx="52200" cy="1548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27" y="0"/>
                    </a:moveTo>
                    <a:lnTo>
                      <a:pt x="21" y="3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0" y="11"/>
                    </a:lnTo>
                    <a:lnTo>
                      <a:pt x="54" y="20"/>
                    </a:lnTo>
                    <a:lnTo>
                      <a:pt x="58" y="17"/>
                    </a:lnTo>
                    <a:lnTo>
                      <a:pt x="61" y="14"/>
                    </a:lnTo>
                    <a:lnTo>
                      <a:pt x="64" y="13"/>
                    </a:lnTo>
                    <a:lnTo>
                      <a:pt x="67" y="11"/>
                    </a:lnTo>
                    <a:lnTo>
                      <a:pt x="66" y="9"/>
                    </a:lnTo>
                    <a:lnTo>
                      <a:pt x="65" y="8"/>
                    </a:lnTo>
                    <a:lnTo>
                      <a:pt x="64" y="5"/>
                    </a:lnTo>
                    <a:lnTo>
                      <a:pt x="62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 flipH="1">
                <a:off x="1977840" y="320040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16" y="0"/>
                    </a:moveTo>
                    <a:lnTo>
                      <a:pt x="13" y="3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33" y="18"/>
                    </a:lnTo>
                    <a:lnTo>
                      <a:pt x="37" y="15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 flipH="1">
                <a:off x="2022120" y="318780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20" y="0"/>
                    </a:moveTo>
                    <a:lnTo>
                      <a:pt x="16" y="4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46" y="22"/>
                    </a:lnTo>
                    <a:lnTo>
                      <a:pt x="48" y="21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0" y="17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H="1">
                <a:off x="1969920" y="319572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17" y="0"/>
                    </a:moveTo>
                    <a:lnTo>
                      <a:pt x="12" y="3"/>
                    </a:lnTo>
                    <a:lnTo>
                      <a:pt x="9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33" y="18"/>
                    </a:lnTo>
                    <a:lnTo>
                      <a:pt x="38" y="15"/>
                    </a:lnTo>
                    <a:lnTo>
                      <a:pt x="42" y="11"/>
                    </a:lnTo>
                    <a:lnTo>
                      <a:pt x="46" y="8"/>
                    </a:lnTo>
                    <a:lnTo>
                      <a:pt x="51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 flipH="1">
                <a:off x="2019240" y="3181320"/>
                <a:ext cx="34560" cy="154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8" y="0"/>
                    </a:moveTo>
                    <a:lnTo>
                      <a:pt x="13" y="3"/>
                    </a:lnTo>
                    <a:lnTo>
                      <a:pt x="9" y="6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8" y="12"/>
                    </a:lnTo>
                    <a:lnTo>
                      <a:pt x="39" y="9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 flipH="1">
                <a:off x="1964880" y="318924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17" y="0"/>
                    </a:moveTo>
                    <a:lnTo>
                      <a:pt x="13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0" y="15"/>
                    </a:lnTo>
                    <a:lnTo>
                      <a:pt x="31" y="19"/>
                    </a:lnTo>
                    <a:lnTo>
                      <a:pt x="36" y="16"/>
                    </a:lnTo>
                    <a:lnTo>
                      <a:pt x="40" y="12"/>
                    </a:lnTo>
                    <a:lnTo>
                      <a:pt x="45" y="9"/>
                    </a:lnTo>
                    <a:lnTo>
                      <a:pt x="48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 flipH="1">
                <a:off x="2016360" y="3178080"/>
                <a:ext cx="29520" cy="126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16" y="0"/>
                    </a:moveTo>
                    <a:lnTo>
                      <a:pt x="13" y="2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29" y="16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6"/>
                    </a:lnTo>
                    <a:lnTo>
                      <a:pt x="3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 flipH="1">
                <a:off x="1958760" y="318600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23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34" y="17"/>
                    </a:lnTo>
                    <a:lnTo>
                      <a:pt x="37" y="14"/>
                    </a:lnTo>
                    <a:lnTo>
                      <a:pt x="40" y="9"/>
                    </a:lnTo>
                    <a:lnTo>
                      <a:pt x="44" y="6"/>
                    </a:lnTo>
                    <a:lnTo>
                      <a:pt x="47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 flipH="1">
                <a:off x="2011320" y="3173400"/>
                <a:ext cx="26640" cy="1224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5" y="0"/>
                    </a:moveTo>
                    <a:lnTo>
                      <a:pt x="10" y="2"/>
                    </a:lnTo>
                    <a:lnTo>
                      <a:pt x="7" y="5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24" y="16"/>
                    </a:lnTo>
                    <a:lnTo>
                      <a:pt x="27" y="13"/>
                    </a:lnTo>
                    <a:lnTo>
                      <a:pt x="29" y="9"/>
                    </a:lnTo>
                    <a:lnTo>
                      <a:pt x="32" y="6"/>
                    </a:lnTo>
                    <a:lnTo>
                      <a:pt x="36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 flipH="1">
                <a:off x="1954440" y="31798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2"/>
                    </a:moveTo>
                    <a:lnTo>
                      <a:pt x="5" y="11"/>
                    </a:lnTo>
                    <a:lnTo>
                      <a:pt x="10" y="8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13"/>
                    </a:lnTo>
                    <a:lnTo>
                      <a:pt x="31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 flipH="1">
                <a:off x="2006640" y="3166920"/>
                <a:ext cx="26640" cy="126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15" y="0"/>
                    </a:moveTo>
                    <a:lnTo>
                      <a:pt x="12" y="4"/>
                    </a:lnTo>
                    <a:lnTo>
                      <a:pt x="8" y="7"/>
                    </a:lnTo>
                    <a:lnTo>
                      <a:pt x="3" y="10"/>
                    </a:lnTo>
                    <a:lnTo>
                      <a:pt x="0" y="14"/>
                    </a:lnTo>
                    <a:lnTo>
                      <a:pt x="22" y="16"/>
                    </a:lnTo>
                    <a:lnTo>
                      <a:pt x="25" y="13"/>
                    </a:lnTo>
                    <a:lnTo>
                      <a:pt x="29" y="9"/>
                    </a:lnTo>
                    <a:lnTo>
                      <a:pt x="31" y="6"/>
                    </a:lnTo>
                    <a:lnTo>
                      <a:pt x="3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 flipH="1">
                <a:off x="1947600" y="31748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4"/>
                    </a:moveTo>
                    <a:lnTo>
                      <a:pt x="1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38" y="5"/>
                    </a:lnTo>
                    <a:lnTo>
                      <a:pt x="36" y="7"/>
                    </a:lnTo>
                    <a:lnTo>
                      <a:pt x="32" y="10"/>
                    </a:lnTo>
                    <a:lnTo>
                      <a:pt x="28" y="13"/>
                    </a:lnTo>
                    <a:lnTo>
                      <a:pt x="24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 flipH="1">
                <a:off x="2001600" y="316080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16" y="0"/>
                    </a:moveTo>
                    <a:lnTo>
                      <a:pt x="12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5" y="10"/>
                    </a:lnTo>
                    <a:lnTo>
                      <a:pt x="29" y="7"/>
                    </a:lnTo>
                    <a:lnTo>
                      <a:pt x="3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 flipH="1">
                <a:off x="1944360" y="3168720"/>
                <a:ext cx="28440" cy="136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0" y="14"/>
                    </a:moveTo>
                    <a:lnTo>
                      <a:pt x="0" y="12"/>
                    </a:lnTo>
                    <a:lnTo>
                      <a:pt x="5" y="8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 flipH="1">
                <a:off x="1996920" y="315612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1" y="0"/>
                    </a:moveTo>
                    <a:lnTo>
                      <a:pt x="16" y="4"/>
                    </a:lnTo>
                    <a:lnTo>
                      <a:pt x="10" y="7"/>
                    </a:lnTo>
                    <a:lnTo>
                      <a:pt x="6" y="10"/>
                    </a:lnTo>
                    <a:lnTo>
                      <a:pt x="0" y="15"/>
                    </a:lnTo>
                    <a:lnTo>
                      <a:pt x="18" y="17"/>
                    </a:lnTo>
                    <a:lnTo>
                      <a:pt x="22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1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 flipH="1">
                <a:off x="1944360" y="3165480"/>
                <a:ext cx="21960" cy="122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1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20" y="3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4"/>
                    </a:lnTo>
                    <a:lnTo>
                      <a:pt x="24" y="15"/>
                    </a:lnTo>
                    <a:lnTo>
                      <a:pt x="23" y="1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 flipH="1">
                <a:off x="1994040" y="315108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1"/>
                    </a:moveTo>
                    <a:lnTo>
                      <a:pt x="6" y="8"/>
                    </a:lnTo>
                    <a:lnTo>
                      <a:pt x="12" y="4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2" y="6"/>
                    </a:lnTo>
                    <a:lnTo>
                      <a:pt x="19" y="10"/>
                    </a:lnTo>
                    <a:lnTo>
                      <a:pt x="16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 flipH="1">
                <a:off x="1947960" y="31654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3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 flipH="1">
                <a:off x="1994040" y="31510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4"/>
                    </a:moveTo>
                    <a:lnTo>
                      <a:pt x="3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 flipH="1">
                <a:off x="2179440" y="32734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 flipH="1">
                <a:off x="2179440" y="3273480"/>
                <a:ext cx="1080" cy="2880"/>
              </a:xfrm>
              <a:prstGeom prst="rect">
                <a:avLst/>
              </a:pr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 flipH="1">
                <a:off x="2179440" y="3271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 flipH="1">
                <a:off x="2179440" y="3271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 flipH="1">
                <a:off x="2179440" y="327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 flipH="1">
                <a:off x="2176560" y="3270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 flipH="1">
                <a:off x="2176560" y="3268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 flipH="1">
                <a:off x="2176560" y="3268800"/>
                <a:ext cx="4320" cy="108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 flipH="1">
                <a:off x="2176560" y="32688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 flipH="1">
                <a:off x="2175120" y="3267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 flipH="1">
                <a:off x="2175120" y="3267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 flipH="1">
                <a:off x="2175120" y="32655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 flipH="1">
                <a:off x="2175120" y="3265560"/>
                <a:ext cx="4320" cy="1080"/>
              </a:xfrm>
              <a:prstGeom prst="rect">
                <a:avLst/>
              </a:pr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>
                <a:off x="2172960" y="32637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H="1">
                <a:off x="2172960" y="32637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 flipH="1">
                <a:off x="2172960" y="3260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 flipH="1">
                <a:off x="2171520" y="3260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 flipH="1">
                <a:off x="2171520" y="3259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3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 flipH="1">
                <a:off x="2171520" y="3259080"/>
                <a:ext cx="7560" cy="144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 flipH="1">
                <a:off x="2171520" y="3257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 flipH="1">
                <a:off x="2170080" y="3257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 flipH="1">
                <a:off x="2170080" y="3257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 flipH="1">
                <a:off x="2169720" y="3255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2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 flipH="1">
                <a:off x="2169720" y="32558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5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 flipH="1">
                <a:off x="2168280" y="3254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5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 flipH="1">
                <a:off x="2168640" y="32544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4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 flipH="1">
                <a:off x="2168640" y="3254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 flipH="1">
                <a:off x="2168280" y="3252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 flipH="1">
                <a:off x="2165400" y="3252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 flipH="1">
                <a:off x="2165400" y="3252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H="1">
                <a:off x="2145960" y="32558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flipH="1">
                <a:off x="2144520" y="32529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7" y="12"/>
                    </a:lnTo>
                    <a:lnTo>
                      <a:pt x="1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 flipH="1">
                <a:off x="2143080" y="324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3" y="0"/>
                    </a:moveTo>
                    <a:lnTo>
                      <a:pt x="0" y="10"/>
                    </a:lnTo>
                    <a:lnTo>
                      <a:pt x="7" y="12"/>
                    </a:lnTo>
                    <a:lnTo>
                      <a:pt x="12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flipH="1">
                <a:off x="2141640" y="32432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5" y="0"/>
                    </a:moveTo>
                    <a:lnTo>
                      <a:pt x="0" y="10"/>
                    </a:lnTo>
                    <a:lnTo>
                      <a:pt x="9" y="13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flipH="1">
                <a:off x="2138400" y="32400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0" y="10"/>
                    </a:lnTo>
                    <a:lnTo>
                      <a:pt x="9" y="13"/>
                    </a:lnTo>
                    <a:lnTo>
                      <a:pt x="1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 flipH="1">
                <a:off x="2136960" y="323676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2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15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 flipH="1">
                <a:off x="2134800" y="32338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4" y="0"/>
                    </a:moveTo>
                    <a:lnTo>
                      <a:pt x="0" y="9"/>
                    </a:lnTo>
                    <a:lnTo>
                      <a:pt x="13" y="12"/>
                    </a:lnTo>
                    <a:lnTo>
                      <a:pt x="1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 flipH="1">
                <a:off x="2133720" y="32288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5" y="0"/>
                    </a:moveTo>
                    <a:lnTo>
                      <a:pt x="0" y="10"/>
                    </a:lnTo>
                    <a:lnTo>
                      <a:pt x="13" y="12"/>
                    </a:lnTo>
                    <a:lnTo>
                      <a:pt x="1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 flipH="1">
                <a:off x="2131560" y="32259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3" y="0"/>
                    </a:moveTo>
                    <a:lnTo>
                      <a:pt x="0" y="9"/>
                    </a:lnTo>
                    <a:lnTo>
                      <a:pt x="13" y="11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 flipH="1">
                <a:off x="2129040" y="3222720"/>
                <a:ext cx="13680" cy="7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9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7" y="3"/>
                    </a:lnTo>
                    <a:lnTo>
                      <a:pt x="12" y="1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 flipH="1">
                <a:off x="2129040" y="32176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7" y="3"/>
                    </a:lnTo>
                    <a:lnTo>
                      <a:pt x="15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H="1">
                <a:off x="2126880" y="32130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8" y="0"/>
                    </a:moveTo>
                    <a:lnTo>
                      <a:pt x="6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7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 flipH="1">
                <a:off x="2125800" y="32097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4" y="0"/>
                    </a:move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9" y="12"/>
                    </a:lnTo>
                    <a:lnTo>
                      <a:pt x="1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 flipH="1">
                <a:off x="2124000" y="320688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9" y="11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>
                <a:off x="2122560" y="32036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0"/>
                    </a:moveTo>
                    <a:lnTo>
                      <a:pt x="4" y="3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 flipH="1">
                <a:off x="2120760" y="32004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 flipH="1">
                <a:off x="2119320" y="31971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 flipH="1">
                <a:off x="2116080" y="31939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 flipH="1">
                <a:off x="2114640" y="31892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 flipH="1">
                <a:off x="2112840" y="31860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5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 flipH="1">
                <a:off x="2109960" y="31813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5" y="0"/>
                    </a:moveTo>
                    <a:lnTo>
                      <a:pt x="5" y="2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H="1">
                <a:off x="2107800" y="317808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4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 flipH="1">
                <a:off x="2106720" y="31748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7" y="0"/>
                    </a:move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4" name=""/>
            <p:cNvSpPr/>
            <p:nvPr/>
          </p:nvSpPr>
          <p:spPr>
            <a:xfrm flipH="1">
              <a:off x="2498040" y="3071880"/>
              <a:ext cx="1260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>
              <a:off x="2498040" y="3071880"/>
              <a:ext cx="1260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H="1">
              <a:off x="2498040" y="3070440"/>
              <a:ext cx="11160" cy="32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2" y="0"/>
                  </a:moveTo>
                  <a:lnTo>
                    <a:pt x="0" y="2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H="1">
              <a:off x="2503440" y="3070440"/>
              <a:ext cx="648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>
              <a:off x="1986120" y="31622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>
              <a:off x="1982880" y="3160800"/>
              <a:ext cx="144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flipH="1">
              <a:off x="1980360" y="3157560"/>
              <a:ext cx="180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flipH="1">
              <a:off x="1975680" y="315612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434960" y="5292720"/>
            <a:ext cx="3240" cy="1440"/>
          </a:xfrm>
          <a:prstGeom prst="rect">
            <a:avLst/>
          </a:prstGeom>
          <a:solidFill>
            <a:srgbClr val="d3c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1438200" y="5292720"/>
            <a:ext cx="324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dc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1446120" y="5289480"/>
            <a:ext cx="1800" cy="1800"/>
          </a:xfrm>
          <a:prstGeom prst="rect">
            <a:avLst/>
          </a:prstGeom>
          <a:solidFill>
            <a:srgbClr val="f4c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1447920" y="5289480"/>
            <a:ext cx="1440" cy="1800"/>
          </a:xfrm>
          <a:prstGeom prst="rect">
            <a:avLst/>
          </a:prstGeom>
          <a:solidFill>
            <a:srgbClr val="f7c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1547640" y="4713120"/>
            <a:ext cx="12960" cy="180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4"/>
                </a:moveTo>
                <a:lnTo>
                  <a:pt x="17" y="0"/>
                </a:lnTo>
                <a:lnTo>
                  <a:pt x="17" y="4"/>
                </a:lnTo>
                <a:lnTo>
                  <a:pt x="0" y="4"/>
                </a:lnTo>
                <a:close/>
              </a:path>
            </a:pathLst>
          </a:custGeom>
          <a:solidFill>
            <a:srgbClr val="f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1554120" y="4713120"/>
            <a:ext cx="6480" cy="180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4"/>
                </a:moveTo>
                <a:lnTo>
                  <a:pt x="9" y="0"/>
                </a:lnTo>
                <a:lnTo>
                  <a:pt x="9" y="4"/>
                </a:lnTo>
                <a:lnTo>
                  <a:pt x="0" y="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5535720" y="5005440"/>
            <a:ext cx="1440" cy="11160"/>
          </a:xfrm>
          <a:prstGeom prst="rect">
            <a:avLst/>
          </a:prstGeom>
          <a:solidFill>
            <a:srgbClr val="8c5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5535720" y="5000760"/>
            <a:ext cx="1440" cy="9360"/>
          </a:xfrm>
          <a:prstGeom prst="rect">
            <a:avLst/>
          </a:prstGeom>
          <a:solidFill>
            <a:srgbClr val="875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5535720" y="4994280"/>
            <a:ext cx="1440" cy="11160"/>
          </a:xfrm>
          <a:custGeom>
            <a:avLst/>
            <a:gdLst/>
            <a:ahLst/>
            <a:rect l="l" t="t" r="r" b="b"/>
            <a:pathLst>
              <a:path w="3" h="13">
                <a:moveTo>
                  <a:pt x="3" y="0"/>
                </a:moveTo>
                <a:lnTo>
                  <a:pt x="0" y="13"/>
                </a:lnTo>
                <a:lnTo>
                  <a:pt x="3" y="13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824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5535720" y="4989600"/>
            <a:ext cx="1440" cy="11160"/>
          </a:xfrm>
          <a:custGeom>
            <a:avLst/>
            <a:gdLst/>
            <a:ahLst/>
            <a:rect l="l" t="t" r="r" b="b"/>
            <a:pathLst>
              <a:path w="3" h="14">
                <a:moveTo>
                  <a:pt x="3" y="0"/>
                </a:moveTo>
                <a:lnTo>
                  <a:pt x="0" y="14"/>
                </a:lnTo>
                <a:lnTo>
                  <a:pt x="3" y="14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7c49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5680080" y="4983120"/>
            <a:ext cx="1440" cy="11160"/>
          </a:xfrm>
          <a:custGeom>
            <a:avLst/>
            <a:gdLst/>
            <a:ahLst/>
            <a:rect l="l" t="t" r="r" b="b"/>
            <a:pathLst>
              <a:path w="4" h="14">
                <a:moveTo>
                  <a:pt x="0" y="0"/>
                </a:moveTo>
                <a:lnTo>
                  <a:pt x="4" y="14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542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4381560" y="2190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4430880" y="22543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4240080" y="2274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6" name=""/>
          <p:cNvGrpSpPr/>
          <p:nvPr/>
        </p:nvGrpSpPr>
        <p:grpSpPr>
          <a:xfrm>
            <a:off x="6400440" y="2852640"/>
            <a:ext cx="1406520" cy="1913040"/>
            <a:chOff x="6400440" y="2852640"/>
            <a:chExt cx="1406520" cy="1913040"/>
          </a:xfrm>
        </p:grpSpPr>
        <p:sp>
          <p:nvSpPr>
            <p:cNvPr id="5947" name=""/>
            <p:cNvSpPr/>
            <p:nvPr/>
          </p:nvSpPr>
          <p:spPr>
            <a:xfrm flipH="1">
              <a:off x="6400080" y="2852640"/>
              <a:ext cx="1406520" cy="1913040"/>
            </a:xfrm>
            <a:custGeom>
              <a:avLst/>
              <a:gdLst/>
              <a:ahLst/>
              <a:rect l="l" t="t" r="r" b="b"/>
              <a:pathLst>
                <a:path w="1772" h="2411">
                  <a:moveTo>
                    <a:pt x="580" y="2410"/>
                  </a:moveTo>
                  <a:lnTo>
                    <a:pt x="580" y="2408"/>
                  </a:lnTo>
                  <a:lnTo>
                    <a:pt x="577" y="2407"/>
                  </a:lnTo>
                  <a:lnTo>
                    <a:pt x="576" y="2405"/>
                  </a:lnTo>
                  <a:lnTo>
                    <a:pt x="574" y="2403"/>
                  </a:lnTo>
                  <a:lnTo>
                    <a:pt x="582" y="2388"/>
                  </a:lnTo>
                  <a:lnTo>
                    <a:pt x="591" y="2373"/>
                  </a:lnTo>
                  <a:lnTo>
                    <a:pt x="604" y="2360"/>
                  </a:lnTo>
                  <a:lnTo>
                    <a:pt x="619" y="2349"/>
                  </a:lnTo>
                  <a:lnTo>
                    <a:pt x="634" y="2338"/>
                  </a:lnTo>
                  <a:lnTo>
                    <a:pt x="651" y="2330"/>
                  </a:lnTo>
                  <a:lnTo>
                    <a:pt x="668" y="2323"/>
                  </a:lnTo>
                  <a:lnTo>
                    <a:pt x="686" y="2317"/>
                  </a:lnTo>
                  <a:lnTo>
                    <a:pt x="697" y="2168"/>
                  </a:lnTo>
                  <a:lnTo>
                    <a:pt x="713" y="2013"/>
                  </a:lnTo>
                  <a:lnTo>
                    <a:pt x="732" y="1857"/>
                  </a:lnTo>
                  <a:lnTo>
                    <a:pt x="750" y="1699"/>
                  </a:lnTo>
                  <a:lnTo>
                    <a:pt x="765" y="1542"/>
                  </a:lnTo>
                  <a:lnTo>
                    <a:pt x="773" y="1386"/>
                  </a:lnTo>
                  <a:lnTo>
                    <a:pt x="772" y="1237"/>
                  </a:lnTo>
                  <a:lnTo>
                    <a:pt x="758" y="1092"/>
                  </a:lnTo>
                  <a:lnTo>
                    <a:pt x="743" y="1088"/>
                  </a:lnTo>
                  <a:lnTo>
                    <a:pt x="725" y="1082"/>
                  </a:lnTo>
                  <a:lnTo>
                    <a:pt x="706" y="1078"/>
                  </a:lnTo>
                  <a:lnTo>
                    <a:pt x="687" y="1072"/>
                  </a:lnTo>
                  <a:lnTo>
                    <a:pt x="668" y="1066"/>
                  </a:lnTo>
                  <a:lnTo>
                    <a:pt x="652" y="1060"/>
                  </a:lnTo>
                  <a:lnTo>
                    <a:pt x="638" y="1053"/>
                  </a:lnTo>
                  <a:lnTo>
                    <a:pt x="629" y="1046"/>
                  </a:lnTo>
                  <a:lnTo>
                    <a:pt x="621" y="1015"/>
                  </a:lnTo>
                  <a:lnTo>
                    <a:pt x="619" y="989"/>
                  </a:lnTo>
                  <a:lnTo>
                    <a:pt x="619" y="967"/>
                  </a:lnTo>
                  <a:lnTo>
                    <a:pt x="623" y="947"/>
                  </a:lnTo>
                  <a:lnTo>
                    <a:pt x="631" y="931"/>
                  </a:lnTo>
                  <a:lnTo>
                    <a:pt x="643" y="918"/>
                  </a:lnTo>
                  <a:lnTo>
                    <a:pt x="656" y="907"/>
                  </a:lnTo>
                  <a:lnTo>
                    <a:pt x="672" y="897"/>
                  </a:lnTo>
                  <a:lnTo>
                    <a:pt x="688" y="887"/>
                  </a:lnTo>
                  <a:lnTo>
                    <a:pt x="707" y="879"/>
                  </a:lnTo>
                  <a:lnTo>
                    <a:pt x="727" y="870"/>
                  </a:lnTo>
                  <a:lnTo>
                    <a:pt x="747" y="861"/>
                  </a:lnTo>
                  <a:lnTo>
                    <a:pt x="767" y="852"/>
                  </a:lnTo>
                  <a:lnTo>
                    <a:pt x="788" y="839"/>
                  </a:lnTo>
                  <a:lnTo>
                    <a:pt x="808" y="825"/>
                  </a:lnTo>
                  <a:lnTo>
                    <a:pt x="827" y="809"/>
                  </a:lnTo>
                  <a:lnTo>
                    <a:pt x="825" y="777"/>
                  </a:lnTo>
                  <a:lnTo>
                    <a:pt x="824" y="744"/>
                  </a:lnTo>
                  <a:lnTo>
                    <a:pt x="823" y="712"/>
                  </a:lnTo>
                  <a:lnTo>
                    <a:pt x="820" y="680"/>
                  </a:lnTo>
                  <a:lnTo>
                    <a:pt x="804" y="676"/>
                  </a:lnTo>
                  <a:lnTo>
                    <a:pt x="787" y="672"/>
                  </a:lnTo>
                  <a:lnTo>
                    <a:pt x="770" y="668"/>
                  </a:lnTo>
                  <a:lnTo>
                    <a:pt x="754" y="664"/>
                  </a:lnTo>
                  <a:lnTo>
                    <a:pt x="736" y="660"/>
                  </a:lnTo>
                  <a:lnTo>
                    <a:pt x="719" y="656"/>
                  </a:lnTo>
                  <a:lnTo>
                    <a:pt x="703" y="651"/>
                  </a:lnTo>
                  <a:lnTo>
                    <a:pt x="686" y="647"/>
                  </a:lnTo>
                  <a:lnTo>
                    <a:pt x="668" y="643"/>
                  </a:lnTo>
                  <a:lnTo>
                    <a:pt x="652" y="638"/>
                  </a:lnTo>
                  <a:lnTo>
                    <a:pt x="635" y="634"/>
                  </a:lnTo>
                  <a:lnTo>
                    <a:pt x="618" y="630"/>
                  </a:lnTo>
                  <a:lnTo>
                    <a:pt x="601" y="626"/>
                  </a:lnTo>
                  <a:lnTo>
                    <a:pt x="584" y="622"/>
                  </a:lnTo>
                  <a:lnTo>
                    <a:pt x="567" y="618"/>
                  </a:lnTo>
                  <a:lnTo>
                    <a:pt x="551" y="614"/>
                  </a:lnTo>
                  <a:lnTo>
                    <a:pt x="524" y="612"/>
                  </a:lnTo>
                  <a:lnTo>
                    <a:pt x="493" y="611"/>
                  </a:lnTo>
                  <a:lnTo>
                    <a:pt x="459" y="613"/>
                  </a:lnTo>
                  <a:lnTo>
                    <a:pt x="422" y="617"/>
                  </a:lnTo>
                  <a:lnTo>
                    <a:pt x="384" y="621"/>
                  </a:lnTo>
                  <a:lnTo>
                    <a:pt x="343" y="625"/>
                  </a:lnTo>
                  <a:lnTo>
                    <a:pt x="303" y="629"/>
                  </a:lnTo>
                  <a:lnTo>
                    <a:pt x="263" y="632"/>
                  </a:lnTo>
                  <a:lnTo>
                    <a:pt x="224" y="634"/>
                  </a:lnTo>
                  <a:lnTo>
                    <a:pt x="185" y="633"/>
                  </a:lnTo>
                  <a:lnTo>
                    <a:pt x="150" y="629"/>
                  </a:lnTo>
                  <a:lnTo>
                    <a:pt x="116" y="622"/>
                  </a:lnTo>
                  <a:lnTo>
                    <a:pt x="86" y="611"/>
                  </a:lnTo>
                  <a:lnTo>
                    <a:pt x="60" y="596"/>
                  </a:lnTo>
                  <a:lnTo>
                    <a:pt x="39" y="575"/>
                  </a:lnTo>
                  <a:lnTo>
                    <a:pt x="23" y="549"/>
                  </a:lnTo>
                  <a:lnTo>
                    <a:pt x="18" y="549"/>
                  </a:lnTo>
                  <a:lnTo>
                    <a:pt x="14" y="549"/>
                  </a:lnTo>
                  <a:lnTo>
                    <a:pt x="8" y="547"/>
                  </a:lnTo>
                  <a:lnTo>
                    <a:pt x="3" y="545"/>
                  </a:lnTo>
                  <a:lnTo>
                    <a:pt x="3" y="541"/>
                  </a:lnTo>
                  <a:lnTo>
                    <a:pt x="2" y="537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2" y="527"/>
                  </a:lnTo>
                  <a:lnTo>
                    <a:pt x="3" y="523"/>
                  </a:lnTo>
                  <a:lnTo>
                    <a:pt x="5" y="521"/>
                  </a:lnTo>
                  <a:lnTo>
                    <a:pt x="7" y="519"/>
                  </a:lnTo>
                  <a:lnTo>
                    <a:pt x="5" y="514"/>
                  </a:lnTo>
                  <a:lnTo>
                    <a:pt x="3" y="508"/>
                  </a:lnTo>
                  <a:lnTo>
                    <a:pt x="2" y="502"/>
                  </a:lnTo>
                  <a:lnTo>
                    <a:pt x="0" y="496"/>
                  </a:lnTo>
                  <a:lnTo>
                    <a:pt x="23" y="477"/>
                  </a:lnTo>
                  <a:lnTo>
                    <a:pt x="46" y="459"/>
                  </a:lnTo>
                  <a:lnTo>
                    <a:pt x="70" y="441"/>
                  </a:lnTo>
                  <a:lnTo>
                    <a:pt x="94" y="423"/>
                  </a:lnTo>
                  <a:lnTo>
                    <a:pt x="119" y="407"/>
                  </a:lnTo>
                  <a:lnTo>
                    <a:pt x="144" y="390"/>
                  </a:lnTo>
                  <a:lnTo>
                    <a:pt x="168" y="373"/>
                  </a:lnTo>
                  <a:lnTo>
                    <a:pt x="194" y="357"/>
                  </a:lnTo>
                  <a:lnTo>
                    <a:pt x="219" y="341"/>
                  </a:lnTo>
                  <a:lnTo>
                    <a:pt x="245" y="325"/>
                  </a:lnTo>
                  <a:lnTo>
                    <a:pt x="271" y="310"/>
                  </a:lnTo>
                  <a:lnTo>
                    <a:pt x="297" y="295"/>
                  </a:lnTo>
                  <a:lnTo>
                    <a:pt x="323" y="280"/>
                  </a:lnTo>
                  <a:lnTo>
                    <a:pt x="349" y="265"/>
                  </a:lnTo>
                  <a:lnTo>
                    <a:pt x="376" y="250"/>
                  </a:lnTo>
                  <a:lnTo>
                    <a:pt x="402" y="236"/>
                  </a:lnTo>
                  <a:lnTo>
                    <a:pt x="429" y="221"/>
                  </a:lnTo>
                  <a:lnTo>
                    <a:pt x="456" y="207"/>
                  </a:lnTo>
                  <a:lnTo>
                    <a:pt x="483" y="193"/>
                  </a:lnTo>
                  <a:lnTo>
                    <a:pt x="509" y="179"/>
                  </a:lnTo>
                  <a:lnTo>
                    <a:pt x="536" y="165"/>
                  </a:lnTo>
                  <a:lnTo>
                    <a:pt x="563" y="151"/>
                  </a:lnTo>
                  <a:lnTo>
                    <a:pt x="590" y="137"/>
                  </a:lnTo>
                  <a:lnTo>
                    <a:pt x="616" y="122"/>
                  </a:lnTo>
                  <a:lnTo>
                    <a:pt x="643" y="108"/>
                  </a:lnTo>
                  <a:lnTo>
                    <a:pt x="671" y="95"/>
                  </a:lnTo>
                  <a:lnTo>
                    <a:pt x="697" y="81"/>
                  </a:lnTo>
                  <a:lnTo>
                    <a:pt x="724" y="66"/>
                  </a:lnTo>
                  <a:lnTo>
                    <a:pt x="749" y="52"/>
                  </a:lnTo>
                  <a:lnTo>
                    <a:pt x="775" y="37"/>
                  </a:lnTo>
                  <a:lnTo>
                    <a:pt x="802" y="23"/>
                  </a:lnTo>
                  <a:lnTo>
                    <a:pt x="827" y="8"/>
                  </a:lnTo>
                  <a:lnTo>
                    <a:pt x="831" y="6"/>
                  </a:lnTo>
                  <a:lnTo>
                    <a:pt x="842" y="4"/>
                  </a:lnTo>
                  <a:lnTo>
                    <a:pt x="860" y="1"/>
                  </a:lnTo>
                  <a:lnTo>
                    <a:pt x="881" y="0"/>
                  </a:lnTo>
                  <a:lnTo>
                    <a:pt x="908" y="0"/>
                  </a:lnTo>
                  <a:lnTo>
                    <a:pt x="939" y="1"/>
                  </a:lnTo>
                  <a:lnTo>
                    <a:pt x="971" y="2"/>
                  </a:lnTo>
                  <a:lnTo>
                    <a:pt x="1006" y="5"/>
                  </a:lnTo>
                  <a:lnTo>
                    <a:pt x="1040" y="8"/>
                  </a:lnTo>
                  <a:lnTo>
                    <a:pt x="1075" y="12"/>
                  </a:lnTo>
                  <a:lnTo>
                    <a:pt x="1108" y="17"/>
                  </a:lnTo>
                  <a:lnTo>
                    <a:pt x="1139" y="24"/>
                  </a:lnTo>
                  <a:lnTo>
                    <a:pt x="1168" y="32"/>
                  </a:lnTo>
                  <a:lnTo>
                    <a:pt x="1192" y="42"/>
                  </a:lnTo>
                  <a:lnTo>
                    <a:pt x="1212" y="52"/>
                  </a:lnTo>
                  <a:lnTo>
                    <a:pt x="1226" y="65"/>
                  </a:lnTo>
                  <a:lnTo>
                    <a:pt x="1230" y="72"/>
                  </a:lnTo>
                  <a:lnTo>
                    <a:pt x="1245" y="85"/>
                  </a:lnTo>
                  <a:lnTo>
                    <a:pt x="1269" y="104"/>
                  </a:lnTo>
                  <a:lnTo>
                    <a:pt x="1300" y="127"/>
                  </a:lnTo>
                  <a:lnTo>
                    <a:pt x="1338" y="153"/>
                  </a:lnTo>
                  <a:lnTo>
                    <a:pt x="1380" y="182"/>
                  </a:lnTo>
                  <a:lnTo>
                    <a:pt x="1426" y="214"/>
                  </a:lnTo>
                  <a:lnTo>
                    <a:pt x="1475" y="247"/>
                  </a:lnTo>
                  <a:lnTo>
                    <a:pt x="1523" y="279"/>
                  </a:lnTo>
                  <a:lnTo>
                    <a:pt x="1572" y="311"/>
                  </a:lnTo>
                  <a:lnTo>
                    <a:pt x="1618" y="342"/>
                  </a:lnTo>
                  <a:lnTo>
                    <a:pt x="1661" y="371"/>
                  </a:lnTo>
                  <a:lnTo>
                    <a:pt x="1699" y="396"/>
                  </a:lnTo>
                  <a:lnTo>
                    <a:pt x="1732" y="418"/>
                  </a:lnTo>
                  <a:lnTo>
                    <a:pt x="1756" y="435"/>
                  </a:lnTo>
                  <a:lnTo>
                    <a:pt x="1772" y="446"/>
                  </a:lnTo>
                  <a:lnTo>
                    <a:pt x="1772" y="451"/>
                  </a:lnTo>
                  <a:lnTo>
                    <a:pt x="1772" y="456"/>
                  </a:lnTo>
                  <a:lnTo>
                    <a:pt x="1772" y="461"/>
                  </a:lnTo>
                  <a:lnTo>
                    <a:pt x="1772" y="466"/>
                  </a:lnTo>
                  <a:lnTo>
                    <a:pt x="1767" y="468"/>
                  </a:lnTo>
                  <a:lnTo>
                    <a:pt x="1764" y="469"/>
                  </a:lnTo>
                  <a:lnTo>
                    <a:pt x="1760" y="470"/>
                  </a:lnTo>
                  <a:lnTo>
                    <a:pt x="1758" y="473"/>
                  </a:lnTo>
                  <a:lnTo>
                    <a:pt x="1763" y="492"/>
                  </a:lnTo>
                  <a:lnTo>
                    <a:pt x="1759" y="504"/>
                  </a:lnTo>
                  <a:lnTo>
                    <a:pt x="1750" y="516"/>
                  </a:lnTo>
                  <a:lnTo>
                    <a:pt x="1742" y="536"/>
                  </a:lnTo>
                  <a:lnTo>
                    <a:pt x="1718" y="542"/>
                  </a:lnTo>
                  <a:lnTo>
                    <a:pt x="1693" y="547"/>
                  </a:lnTo>
                  <a:lnTo>
                    <a:pt x="1667" y="553"/>
                  </a:lnTo>
                  <a:lnTo>
                    <a:pt x="1642" y="558"/>
                  </a:lnTo>
                  <a:lnTo>
                    <a:pt x="1618" y="562"/>
                  </a:lnTo>
                  <a:lnTo>
                    <a:pt x="1592" y="566"/>
                  </a:lnTo>
                  <a:lnTo>
                    <a:pt x="1567" y="570"/>
                  </a:lnTo>
                  <a:lnTo>
                    <a:pt x="1543" y="574"/>
                  </a:lnTo>
                  <a:lnTo>
                    <a:pt x="1517" y="577"/>
                  </a:lnTo>
                  <a:lnTo>
                    <a:pt x="1493" y="582"/>
                  </a:lnTo>
                  <a:lnTo>
                    <a:pt x="1469" y="585"/>
                  </a:lnTo>
                  <a:lnTo>
                    <a:pt x="1445" y="590"/>
                  </a:lnTo>
                  <a:lnTo>
                    <a:pt x="1422" y="596"/>
                  </a:lnTo>
                  <a:lnTo>
                    <a:pt x="1399" y="602"/>
                  </a:lnTo>
                  <a:lnTo>
                    <a:pt x="1376" y="607"/>
                  </a:lnTo>
                  <a:lnTo>
                    <a:pt x="1354" y="614"/>
                  </a:lnTo>
                  <a:lnTo>
                    <a:pt x="1354" y="617"/>
                  </a:lnTo>
                  <a:lnTo>
                    <a:pt x="1354" y="620"/>
                  </a:lnTo>
                  <a:lnTo>
                    <a:pt x="1354" y="623"/>
                  </a:lnTo>
                  <a:lnTo>
                    <a:pt x="1354" y="628"/>
                  </a:lnTo>
                  <a:lnTo>
                    <a:pt x="1330" y="629"/>
                  </a:lnTo>
                  <a:lnTo>
                    <a:pt x="1307" y="633"/>
                  </a:lnTo>
                  <a:lnTo>
                    <a:pt x="1285" y="638"/>
                  </a:lnTo>
                  <a:lnTo>
                    <a:pt x="1264" y="645"/>
                  </a:lnTo>
                  <a:lnTo>
                    <a:pt x="1242" y="655"/>
                  </a:lnTo>
                  <a:lnTo>
                    <a:pt x="1220" y="664"/>
                  </a:lnTo>
                  <a:lnTo>
                    <a:pt x="1197" y="673"/>
                  </a:lnTo>
                  <a:lnTo>
                    <a:pt x="1173" y="683"/>
                  </a:lnTo>
                  <a:lnTo>
                    <a:pt x="1165" y="704"/>
                  </a:lnTo>
                  <a:lnTo>
                    <a:pt x="1157" y="724"/>
                  </a:lnTo>
                  <a:lnTo>
                    <a:pt x="1150" y="746"/>
                  </a:lnTo>
                  <a:lnTo>
                    <a:pt x="1144" y="766"/>
                  </a:lnTo>
                  <a:lnTo>
                    <a:pt x="1141" y="788"/>
                  </a:lnTo>
                  <a:lnTo>
                    <a:pt x="1139" y="809"/>
                  </a:lnTo>
                  <a:lnTo>
                    <a:pt x="1143" y="831"/>
                  </a:lnTo>
                  <a:lnTo>
                    <a:pt x="1150" y="852"/>
                  </a:lnTo>
                  <a:lnTo>
                    <a:pt x="1163" y="857"/>
                  </a:lnTo>
                  <a:lnTo>
                    <a:pt x="1176" y="863"/>
                  </a:lnTo>
                  <a:lnTo>
                    <a:pt x="1191" y="871"/>
                  </a:lnTo>
                  <a:lnTo>
                    <a:pt x="1206" y="879"/>
                  </a:lnTo>
                  <a:lnTo>
                    <a:pt x="1222" y="889"/>
                  </a:lnTo>
                  <a:lnTo>
                    <a:pt x="1239" y="898"/>
                  </a:lnTo>
                  <a:lnTo>
                    <a:pt x="1256" y="908"/>
                  </a:lnTo>
                  <a:lnTo>
                    <a:pt x="1272" y="917"/>
                  </a:lnTo>
                  <a:lnTo>
                    <a:pt x="1289" y="928"/>
                  </a:lnTo>
                  <a:lnTo>
                    <a:pt x="1305" y="938"/>
                  </a:lnTo>
                  <a:lnTo>
                    <a:pt x="1322" y="948"/>
                  </a:lnTo>
                  <a:lnTo>
                    <a:pt x="1336" y="959"/>
                  </a:lnTo>
                  <a:lnTo>
                    <a:pt x="1351" y="968"/>
                  </a:lnTo>
                  <a:lnTo>
                    <a:pt x="1365" y="977"/>
                  </a:lnTo>
                  <a:lnTo>
                    <a:pt x="1379" y="985"/>
                  </a:lnTo>
                  <a:lnTo>
                    <a:pt x="1391" y="993"/>
                  </a:lnTo>
                  <a:lnTo>
                    <a:pt x="1384" y="1004"/>
                  </a:lnTo>
                  <a:lnTo>
                    <a:pt x="1375" y="1013"/>
                  </a:lnTo>
                  <a:lnTo>
                    <a:pt x="1362" y="1021"/>
                  </a:lnTo>
                  <a:lnTo>
                    <a:pt x="1347" y="1029"/>
                  </a:lnTo>
                  <a:lnTo>
                    <a:pt x="1331" y="1036"/>
                  </a:lnTo>
                  <a:lnTo>
                    <a:pt x="1312" y="1043"/>
                  </a:lnTo>
                  <a:lnTo>
                    <a:pt x="1293" y="1048"/>
                  </a:lnTo>
                  <a:lnTo>
                    <a:pt x="1273" y="1052"/>
                  </a:lnTo>
                  <a:lnTo>
                    <a:pt x="1252" y="1057"/>
                  </a:lnTo>
                  <a:lnTo>
                    <a:pt x="1233" y="1059"/>
                  </a:lnTo>
                  <a:lnTo>
                    <a:pt x="1213" y="1061"/>
                  </a:lnTo>
                  <a:lnTo>
                    <a:pt x="1195" y="1063"/>
                  </a:lnTo>
                  <a:lnTo>
                    <a:pt x="1177" y="1063"/>
                  </a:lnTo>
                  <a:lnTo>
                    <a:pt x="1163" y="1063"/>
                  </a:lnTo>
                  <a:lnTo>
                    <a:pt x="1150" y="1061"/>
                  </a:lnTo>
                  <a:lnTo>
                    <a:pt x="1139" y="1059"/>
                  </a:lnTo>
                  <a:lnTo>
                    <a:pt x="1133" y="1095"/>
                  </a:lnTo>
                  <a:lnTo>
                    <a:pt x="1123" y="1147"/>
                  </a:lnTo>
                  <a:lnTo>
                    <a:pt x="1112" y="1211"/>
                  </a:lnTo>
                  <a:lnTo>
                    <a:pt x="1099" y="1287"/>
                  </a:lnTo>
                  <a:lnTo>
                    <a:pt x="1085" y="1371"/>
                  </a:lnTo>
                  <a:lnTo>
                    <a:pt x="1071" y="1462"/>
                  </a:lnTo>
                  <a:lnTo>
                    <a:pt x="1058" y="1558"/>
                  </a:lnTo>
                  <a:lnTo>
                    <a:pt x="1046" y="1654"/>
                  </a:lnTo>
                  <a:lnTo>
                    <a:pt x="1036" y="1749"/>
                  </a:lnTo>
                  <a:lnTo>
                    <a:pt x="1028" y="1843"/>
                  </a:lnTo>
                  <a:lnTo>
                    <a:pt x="1024" y="1929"/>
                  </a:lnTo>
                  <a:lnTo>
                    <a:pt x="1023" y="2009"/>
                  </a:lnTo>
                  <a:lnTo>
                    <a:pt x="1028" y="2079"/>
                  </a:lnTo>
                  <a:lnTo>
                    <a:pt x="1038" y="2135"/>
                  </a:lnTo>
                  <a:lnTo>
                    <a:pt x="1054" y="2177"/>
                  </a:lnTo>
                  <a:lnTo>
                    <a:pt x="1077" y="2202"/>
                  </a:lnTo>
                  <a:lnTo>
                    <a:pt x="1077" y="2222"/>
                  </a:lnTo>
                  <a:lnTo>
                    <a:pt x="1080" y="2238"/>
                  </a:lnTo>
                  <a:lnTo>
                    <a:pt x="1083" y="2251"/>
                  </a:lnTo>
                  <a:lnTo>
                    <a:pt x="1088" y="2261"/>
                  </a:lnTo>
                  <a:lnTo>
                    <a:pt x="1095" y="2271"/>
                  </a:lnTo>
                  <a:lnTo>
                    <a:pt x="1104" y="2283"/>
                  </a:lnTo>
                  <a:lnTo>
                    <a:pt x="1115" y="2296"/>
                  </a:lnTo>
                  <a:lnTo>
                    <a:pt x="1130" y="2311"/>
                  </a:lnTo>
                  <a:lnTo>
                    <a:pt x="1126" y="2315"/>
                  </a:lnTo>
                  <a:lnTo>
                    <a:pt x="1122" y="2320"/>
                  </a:lnTo>
                  <a:lnTo>
                    <a:pt x="1120" y="2324"/>
                  </a:lnTo>
                  <a:lnTo>
                    <a:pt x="1118" y="2327"/>
                  </a:lnTo>
                  <a:lnTo>
                    <a:pt x="1099" y="2329"/>
                  </a:lnTo>
                  <a:lnTo>
                    <a:pt x="1073" y="2334"/>
                  </a:lnTo>
                  <a:lnTo>
                    <a:pt x="1040" y="2339"/>
                  </a:lnTo>
                  <a:lnTo>
                    <a:pt x="1004" y="2345"/>
                  </a:lnTo>
                  <a:lnTo>
                    <a:pt x="962" y="2352"/>
                  </a:lnTo>
                  <a:lnTo>
                    <a:pt x="918" y="2360"/>
                  </a:lnTo>
                  <a:lnTo>
                    <a:pt x="873" y="2368"/>
                  </a:lnTo>
                  <a:lnTo>
                    <a:pt x="827" y="2376"/>
                  </a:lnTo>
                  <a:lnTo>
                    <a:pt x="782" y="2383"/>
                  </a:lnTo>
                  <a:lnTo>
                    <a:pt x="739" y="2391"/>
                  </a:lnTo>
                  <a:lnTo>
                    <a:pt x="698" y="2397"/>
                  </a:lnTo>
                  <a:lnTo>
                    <a:pt x="662" y="2403"/>
                  </a:lnTo>
                  <a:lnTo>
                    <a:pt x="631" y="2406"/>
                  </a:lnTo>
                  <a:lnTo>
                    <a:pt x="606" y="2410"/>
                  </a:lnTo>
                  <a:lnTo>
                    <a:pt x="589" y="2411"/>
                  </a:lnTo>
                  <a:lnTo>
                    <a:pt x="580" y="2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 flipH="1">
              <a:off x="7128720" y="4673520"/>
              <a:ext cx="173160" cy="7164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73" y="89"/>
                  </a:moveTo>
                  <a:lnTo>
                    <a:pt x="63" y="89"/>
                  </a:lnTo>
                  <a:lnTo>
                    <a:pt x="55" y="88"/>
                  </a:lnTo>
                  <a:lnTo>
                    <a:pt x="46" y="87"/>
                  </a:lnTo>
                  <a:lnTo>
                    <a:pt x="38" y="86"/>
                  </a:lnTo>
                  <a:lnTo>
                    <a:pt x="29" y="86"/>
                  </a:lnTo>
                  <a:lnTo>
                    <a:pt x="20" y="85"/>
                  </a:lnTo>
                  <a:lnTo>
                    <a:pt x="9" y="85"/>
                  </a:lnTo>
                  <a:lnTo>
                    <a:pt x="0" y="86"/>
                  </a:lnTo>
                  <a:lnTo>
                    <a:pt x="13" y="74"/>
                  </a:lnTo>
                  <a:lnTo>
                    <a:pt x="25" y="64"/>
                  </a:lnTo>
                  <a:lnTo>
                    <a:pt x="39" y="55"/>
                  </a:lnTo>
                  <a:lnTo>
                    <a:pt x="53" y="45"/>
                  </a:lnTo>
                  <a:lnTo>
                    <a:pt x="66" y="36"/>
                  </a:lnTo>
                  <a:lnTo>
                    <a:pt x="78" y="26"/>
                  </a:lnTo>
                  <a:lnTo>
                    <a:pt x="91" y="14"/>
                  </a:lnTo>
                  <a:lnTo>
                    <a:pt x="103" y="0"/>
                  </a:lnTo>
                  <a:lnTo>
                    <a:pt x="218" y="0"/>
                  </a:lnTo>
                  <a:lnTo>
                    <a:pt x="202" y="18"/>
                  </a:lnTo>
                  <a:lnTo>
                    <a:pt x="185" y="33"/>
                  </a:lnTo>
                  <a:lnTo>
                    <a:pt x="171" y="46"/>
                  </a:lnTo>
                  <a:lnTo>
                    <a:pt x="156" y="59"/>
                  </a:lnTo>
                  <a:lnTo>
                    <a:pt x="138" y="71"/>
                  </a:lnTo>
                  <a:lnTo>
                    <a:pt x="120" y="79"/>
                  </a:lnTo>
                  <a:lnTo>
                    <a:pt x="98" y="86"/>
                  </a:lnTo>
                  <a:lnTo>
                    <a:pt x="73" y="8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H="1">
              <a:off x="6939720" y="4673520"/>
              <a:ext cx="171720" cy="28800"/>
            </a:xfrm>
            <a:custGeom>
              <a:avLst/>
              <a:gdLst/>
              <a:ahLst/>
              <a:rect l="l" t="t" r="r" b="b"/>
              <a:pathLst>
                <a:path w="214" h="36">
                  <a:moveTo>
                    <a:pt x="200" y="0"/>
                  </a:moveTo>
                  <a:lnTo>
                    <a:pt x="204" y="5"/>
                  </a:lnTo>
                  <a:lnTo>
                    <a:pt x="207" y="8"/>
                  </a:lnTo>
                  <a:lnTo>
                    <a:pt x="211" y="12"/>
                  </a:lnTo>
                  <a:lnTo>
                    <a:pt x="214" y="17"/>
                  </a:lnTo>
                  <a:lnTo>
                    <a:pt x="200" y="19"/>
                  </a:lnTo>
                  <a:lnTo>
                    <a:pt x="188" y="20"/>
                  </a:lnTo>
                  <a:lnTo>
                    <a:pt x="174" y="21"/>
                  </a:lnTo>
                  <a:lnTo>
                    <a:pt x="160" y="22"/>
                  </a:lnTo>
                  <a:lnTo>
                    <a:pt x="147" y="23"/>
                  </a:lnTo>
                  <a:lnTo>
                    <a:pt x="133" y="25"/>
                  </a:lnTo>
                  <a:lnTo>
                    <a:pt x="121" y="26"/>
                  </a:lnTo>
                  <a:lnTo>
                    <a:pt x="107" y="27"/>
                  </a:lnTo>
                  <a:lnTo>
                    <a:pt x="93" y="28"/>
                  </a:lnTo>
                  <a:lnTo>
                    <a:pt x="80" y="28"/>
                  </a:lnTo>
                  <a:lnTo>
                    <a:pt x="67" y="29"/>
                  </a:lnTo>
                  <a:lnTo>
                    <a:pt x="54" y="30"/>
                  </a:lnTo>
                  <a:lnTo>
                    <a:pt x="40" y="32"/>
                  </a:lnTo>
                  <a:lnTo>
                    <a:pt x="26" y="33"/>
                  </a:lnTo>
                  <a:lnTo>
                    <a:pt x="14" y="35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H="1">
              <a:off x="6939720" y="4640400"/>
              <a:ext cx="320760" cy="69840"/>
            </a:xfrm>
            <a:custGeom>
              <a:avLst/>
              <a:gdLst/>
              <a:ahLst/>
              <a:rect l="l" t="t" r="r" b="b"/>
              <a:pathLst>
                <a:path w="402" h="88">
                  <a:moveTo>
                    <a:pt x="0" y="88"/>
                  </a:moveTo>
                  <a:lnTo>
                    <a:pt x="8" y="83"/>
                  </a:lnTo>
                  <a:lnTo>
                    <a:pt x="17" y="76"/>
                  </a:lnTo>
                  <a:lnTo>
                    <a:pt x="25" y="69"/>
                  </a:lnTo>
                  <a:lnTo>
                    <a:pt x="33" y="62"/>
                  </a:lnTo>
                  <a:lnTo>
                    <a:pt x="41" y="54"/>
                  </a:lnTo>
                  <a:lnTo>
                    <a:pt x="48" y="45"/>
                  </a:lnTo>
                  <a:lnTo>
                    <a:pt x="55" y="34"/>
                  </a:lnTo>
                  <a:lnTo>
                    <a:pt x="62" y="23"/>
                  </a:lnTo>
                  <a:lnTo>
                    <a:pt x="60" y="17"/>
                  </a:lnTo>
                  <a:lnTo>
                    <a:pt x="58" y="11"/>
                  </a:lnTo>
                  <a:lnTo>
                    <a:pt x="56" y="4"/>
                  </a:lnTo>
                  <a:lnTo>
                    <a:pt x="55" y="0"/>
                  </a:lnTo>
                  <a:lnTo>
                    <a:pt x="358" y="0"/>
                  </a:lnTo>
                  <a:lnTo>
                    <a:pt x="362" y="7"/>
                  </a:lnTo>
                  <a:lnTo>
                    <a:pt x="366" y="14"/>
                  </a:lnTo>
                  <a:lnTo>
                    <a:pt x="371" y="20"/>
                  </a:lnTo>
                  <a:lnTo>
                    <a:pt x="377" y="27"/>
                  </a:lnTo>
                  <a:lnTo>
                    <a:pt x="381" y="35"/>
                  </a:lnTo>
                  <a:lnTo>
                    <a:pt x="388" y="42"/>
                  </a:lnTo>
                  <a:lnTo>
                    <a:pt x="395" y="50"/>
                  </a:lnTo>
                  <a:lnTo>
                    <a:pt x="402" y="59"/>
                  </a:lnTo>
                  <a:lnTo>
                    <a:pt x="388" y="61"/>
                  </a:lnTo>
                  <a:lnTo>
                    <a:pt x="376" y="62"/>
                  </a:lnTo>
                  <a:lnTo>
                    <a:pt x="362" y="63"/>
                  </a:lnTo>
                  <a:lnTo>
                    <a:pt x="348" y="64"/>
                  </a:lnTo>
                  <a:lnTo>
                    <a:pt x="335" y="65"/>
                  </a:lnTo>
                  <a:lnTo>
                    <a:pt x="321" y="67"/>
                  </a:lnTo>
                  <a:lnTo>
                    <a:pt x="309" y="68"/>
                  </a:lnTo>
                  <a:lnTo>
                    <a:pt x="295" y="69"/>
                  </a:lnTo>
                  <a:lnTo>
                    <a:pt x="281" y="70"/>
                  </a:lnTo>
                  <a:lnTo>
                    <a:pt x="268" y="70"/>
                  </a:lnTo>
                  <a:lnTo>
                    <a:pt x="255" y="71"/>
                  </a:lnTo>
                  <a:lnTo>
                    <a:pt x="242" y="72"/>
                  </a:lnTo>
                  <a:lnTo>
                    <a:pt x="228" y="74"/>
                  </a:lnTo>
                  <a:lnTo>
                    <a:pt x="214" y="75"/>
                  </a:lnTo>
                  <a:lnTo>
                    <a:pt x="202" y="77"/>
                  </a:lnTo>
                  <a:lnTo>
                    <a:pt x="188" y="78"/>
                  </a:lnTo>
                  <a:lnTo>
                    <a:pt x="188" y="70"/>
                  </a:lnTo>
                  <a:lnTo>
                    <a:pt x="188" y="62"/>
                  </a:lnTo>
                  <a:lnTo>
                    <a:pt x="188" y="52"/>
                  </a:lnTo>
                  <a:lnTo>
                    <a:pt x="188" y="42"/>
                  </a:lnTo>
                  <a:lnTo>
                    <a:pt x="182" y="42"/>
                  </a:lnTo>
                  <a:lnTo>
                    <a:pt x="176" y="42"/>
                  </a:lnTo>
                  <a:lnTo>
                    <a:pt x="172" y="41"/>
                  </a:lnTo>
                  <a:lnTo>
                    <a:pt x="168" y="39"/>
                  </a:lnTo>
                  <a:lnTo>
                    <a:pt x="161" y="46"/>
                  </a:lnTo>
                  <a:lnTo>
                    <a:pt x="154" y="53"/>
                  </a:lnTo>
                  <a:lnTo>
                    <a:pt x="147" y="60"/>
                  </a:lnTo>
                  <a:lnTo>
                    <a:pt x="142" y="65"/>
                  </a:lnTo>
                  <a:lnTo>
                    <a:pt x="136" y="72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19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9c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H="1">
              <a:off x="6951240" y="4603680"/>
              <a:ext cx="270000" cy="69840"/>
            </a:xfrm>
            <a:custGeom>
              <a:avLst/>
              <a:gdLst/>
              <a:ahLst/>
              <a:rect l="l" t="t" r="r" b="b"/>
              <a:pathLst>
                <a:path w="338" h="88">
                  <a:moveTo>
                    <a:pt x="0" y="88"/>
                  </a:moveTo>
                  <a:lnTo>
                    <a:pt x="2" y="84"/>
                  </a:lnTo>
                  <a:lnTo>
                    <a:pt x="5" y="78"/>
                  </a:lnTo>
                  <a:lnTo>
                    <a:pt x="9" y="73"/>
                  </a:lnTo>
                  <a:lnTo>
                    <a:pt x="12" y="69"/>
                  </a:lnTo>
                  <a:lnTo>
                    <a:pt x="8" y="55"/>
                  </a:lnTo>
                  <a:lnTo>
                    <a:pt x="4" y="38"/>
                  </a:lnTo>
                  <a:lnTo>
                    <a:pt x="3" y="19"/>
                  </a:lnTo>
                  <a:lnTo>
                    <a:pt x="2" y="0"/>
                  </a:lnTo>
                  <a:lnTo>
                    <a:pt x="292" y="0"/>
                  </a:lnTo>
                  <a:lnTo>
                    <a:pt x="296" y="12"/>
                  </a:lnTo>
                  <a:lnTo>
                    <a:pt x="300" y="24"/>
                  </a:lnTo>
                  <a:lnTo>
                    <a:pt x="305" y="35"/>
                  </a:lnTo>
                  <a:lnTo>
                    <a:pt x="309" y="46"/>
                  </a:lnTo>
                  <a:lnTo>
                    <a:pt x="315" y="56"/>
                  </a:lnTo>
                  <a:lnTo>
                    <a:pt x="321" y="66"/>
                  </a:lnTo>
                  <a:lnTo>
                    <a:pt x="329" y="77"/>
                  </a:lnTo>
                  <a:lnTo>
                    <a:pt x="338" y="8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2" y="88"/>
                  </a:lnTo>
                  <a:lnTo>
                    <a:pt x="126" y="88"/>
                  </a:lnTo>
                  <a:lnTo>
                    <a:pt x="122" y="87"/>
                  </a:lnTo>
                  <a:lnTo>
                    <a:pt x="118" y="85"/>
                  </a:lnTo>
                  <a:lnTo>
                    <a:pt x="116" y="87"/>
                  </a:lnTo>
                  <a:lnTo>
                    <a:pt x="115" y="88"/>
                  </a:lnTo>
                  <a:lnTo>
                    <a:pt x="115" y="88"/>
                  </a:lnTo>
                  <a:lnTo>
                    <a:pt x="115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4c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H="1">
              <a:off x="6975000" y="4567320"/>
              <a:ext cx="246240" cy="73080"/>
            </a:xfrm>
            <a:custGeom>
              <a:avLst/>
              <a:gdLst/>
              <a:ahLst/>
              <a:rect l="l" t="t" r="r" b="b"/>
              <a:pathLst>
                <a:path w="308" h="92">
                  <a:moveTo>
                    <a:pt x="0" y="0"/>
                  </a:moveTo>
                  <a:lnTo>
                    <a:pt x="0" y="25"/>
                  </a:lnTo>
                  <a:lnTo>
                    <a:pt x="1" y="49"/>
                  </a:lnTo>
                  <a:lnTo>
                    <a:pt x="3" y="71"/>
                  </a:lnTo>
                  <a:lnTo>
                    <a:pt x="5" y="92"/>
                  </a:lnTo>
                  <a:lnTo>
                    <a:pt x="308" y="92"/>
                  </a:lnTo>
                  <a:lnTo>
                    <a:pt x="301" y="77"/>
                  </a:lnTo>
                  <a:lnTo>
                    <a:pt x="296" y="61"/>
                  </a:lnTo>
                  <a:lnTo>
                    <a:pt x="291" y="43"/>
                  </a:lnTo>
                  <a:lnTo>
                    <a:pt x="285" y="25"/>
                  </a:lnTo>
                  <a:lnTo>
                    <a:pt x="283" y="18"/>
                  </a:lnTo>
                  <a:lnTo>
                    <a:pt x="281" y="12"/>
                  </a:lnTo>
                  <a:lnTo>
                    <a:pt x="277" y="6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b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H="1">
              <a:off x="6987600" y="4532400"/>
              <a:ext cx="231480" cy="71280"/>
            </a:xfrm>
            <a:custGeom>
              <a:avLst/>
              <a:gdLst/>
              <a:ahLst/>
              <a:rect l="l" t="t" r="r" b="b"/>
              <a:pathLst>
                <a:path w="291" h="90">
                  <a:moveTo>
                    <a:pt x="1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1" y="90"/>
                  </a:lnTo>
                  <a:lnTo>
                    <a:pt x="291" y="90"/>
                  </a:lnTo>
                  <a:lnTo>
                    <a:pt x="289" y="84"/>
                  </a:lnTo>
                  <a:lnTo>
                    <a:pt x="288" y="79"/>
                  </a:lnTo>
                  <a:lnTo>
                    <a:pt x="287" y="74"/>
                  </a:lnTo>
                  <a:lnTo>
                    <a:pt x="284" y="69"/>
                  </a:lnTo>
                  <a:lnTo>
                    <a:pt x="276" y="52"/>
                  </a:lnTo>
                  <a:lnTo>
                    <a:pt x="268" y="34"/>
                  </a:lnTo>
                  <a:lnTo>
                    <a:pt x="262" y="17"/>
                  </a:lnTo>
                  <a:lnTo>
                    <a:pt x="25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>
              <a:off x="7003800" y="4495680"/>
              <a:ext cx="217440" cy="71640"/>
            </a:xfrm>
            <a:custGeom>
              <a:avLst/>
              <a:gdLst/>
              <a:ahLst/>
              <a:rect l="l" t="t" r="r" b="b"/>
              <a:pathLst>
                <a:path w="273" h="90">
                  <a:moveTo>
                    <a:pt x="2" y="0"/>
                  </a:moveTo>
                  <a:lnTo>
                    <a:pt x="2" y="24"/>
                  </a:lnTo>
                  <a:lnTo>
                    <a:pt x="1" y="47"/>
                  </a:lnTo>
                  <a:lnTo>
                    <a:pt x="0" y="69"/>
                  </a:lnTo>
                  <a:lnTo>
                    <a:pt x="0" y="90"/>
                  </a:lnTo>
                  <a:lnTo>
                    <a:pt x="273" y="90"/>
                  </a:lnTo>
                  <a:lnTo>
                    <a:pt x="265" y="67"/>
                  </a:lnTo>
                  <a:lnTo>
                    <a:pt x="258" y="45"/>
                  </a:lnTo>
                  <a:lnTo>
                    <a:pt x="251" y="22"/>
                  </a:lnTo>
                  <a:lnTo>
                    <a:pt x="24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b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H="1">
              <a:off x="7016400" y="4459320"/>
              <a:ext cx="203040" cy="73080"/>
            </a:xfrm>
            <a:custGeom>
              <a:avLst/>
              <a:gdLst/>
              <a:ahLst/>
              <a:rect l="l" t="t" r="r" b="b"/>
              <a:pathLst>
                <a:path w="254" h="92">
                  <a:moveTo>
                    <a:pt x="3" y="0"/>
                  </a:moveTo>
                  <a:lnTo>
                    <a:pt x="1" y="24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254" y="92"/>
                  </a:lnTo>
                  <a:lnTo>
                    <a:pt x="248" y="70"/>
                  </a:lnTo>
                  <a:lnTo>
                    <a:pt x="242" y="47"/>
                  </a:lnTo>
                  <a:lnTo>
                    <a:pt x="237" y="24"/>
                  </a:lnTo>
                  <a:lnTo>
                    <a:pt x="23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a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7027200" y="4424400"/>
              <a:ext cx="191880" cy="7128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7" y="0"/>
                  </a:moveTo>
                  <a:lnTo>
                    <a:pt x="4" y="22"/>
                  </a:lnTo>
                  <a:lnTo>
                    <a:pt x="3" y="45"/>
                  </a:lnTo>
                  <a:lnTo>
                    <a:pt x="2" y="67"/>
                  </a:lnTo>
                  <a:lnTo>
                    <a:pt x="0" y="89"/>
                  </a:lnTo>
                  <a:lnTo>
                    <a:pt x="241" y="89"/>
                  </a:lnTo>
                  <a:lnTo>
                    <a:pt x="236" y="67"/>
                  </a:lnTo>
                  <a:lnTo>
                    <a:pt x="233" y="45"/>
                  </a:lnTo>
                  <a:lnTo>
                    <a:pt x="230" y="22"/>
                  </a:lnTo>
                  <a:lnTo>
                    <a:pt x="22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b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H="1">
              <a:off x="7033680" y="4388040"/>
              <a:ext cx="182880" cy="71280"/>
            </a:xfrm>
            <a:custGeom>
              <a:avLst/>
              <a:gdLst/>
              <a:ahLst/>
              <a:rect l="l" t="t" r="r" b="b"/>
              <a:pathLst>
                <a:path w="231" h="89">
                  <a:moveTo>
                    <a:pt x="11" y="0"/>
                  </a:moveTo>
                  <a:lnTo>
                    <a:pt x="8" y="24"/>
                  </a:lnTo>
                  <a:lnTo>
                    <a:pt x="6" y="47"/>
                  </a:lnTo>
                  <a:lnTo>
                    <a:pt x="3" y="68"/>
                  </a:lnTo>
                  <a:lnTo>
                    <a:pt x="0" y="89"/>
                  </a:lnTo>
                  <a:lnTo>
                    <a:pt x="231" y="89"/>
                  </a:lnTo>
                  <a:lnTo>
                    <a:pt x="227" y="67"/>
                  </a:lnTo>
                  <a:lnTo>
                    <a:pt x="225" y="45"/>
                  </a:lnTo>
                  <a:lnTo>
                    <a:pt x="224" y="22"/>
                  </a:lnTo>
                  <a:lnTo>
                    <a:pt x="22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6a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H="1">
              <a:off x="7038360" y="4354560"/>
              <a:ext cx="174600" cy="69840"/>
            </a:xfrm>
            <a:custGeom>
              <a:avLst/>
              <a:gdLst/>
              <a:ahLst/>
              <a:rect l="l" t="t" r="r" b="b"/>
              <a:pathLst>
                <a:path w="221" h="89">
                  <a:moveTo>
                    <a:pt x="10" y="0"/>
                  </a:moveTo>
                  <a:lnTo>
                    <a:pt x="8" y="22"/>
                  </a:lnTo>
                  <a:lnTo>
                    <a:pt x="6" y="44"/>
                  </a:lnTo>
                  <a:lnTo>
                    <a:pt x="2" y="67"/>
                  </a:lnTo>
                  <a:lnTo>
                    <a:pt x="0" y="89"/>
                  </a:lnTo>
                  <a:lnTo>
                    <a:pt x="221" y="89"/>
                  </a:lnTo>
                  <a:lnTo>
                    <a:pt x="219" y="67"/>
                  </a:lnTo>
                  <a:lnTo>
                    <a:pt x="219" y="44"/>
                  </a:lnTo>
                  <a:lnTo>
                    <a:pt x="219" y="22"/>
                  </a:lnTo>
                  <a:lnTo>
                    <a:pt x="2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H="1">
              <a:off x="7035120" y="4317840"/>
              <a:ext cx="173160" cy="70200"/>
            </a:xfrm>
            <a:custGeom>
              <a:avLst/>
              <a:gdLst/>
              <a:ahLst/>
              <a:rect l="l" t="t" r="r" b="b"/>
              <a:pathLst>
                <a:path w="217" h="89">
                  <a:moveTo>
                    <a:pt x="7" y="0"/>
                  </a:moveTo>
                  <a:lnTo>
                    <a:pt x="4" y="22"/>
                  </a:lnTo>
                  <a:lnTo>
                    <a:pt x="2" y="44"/>
                  </a:lnTo>
                  <a:lnTo>
                    <a:pt x="1" y="67"/>
                  </a:lnTo>
                  <a:lnTo>
                    <a:pt x="0" y="89"/>
                  </a:lnTo>
                  <a:lnTo>
                    <a:pt x="210" y="89"/>
                  </a:lnTo>
                  <a:lnTo>
                    <a:pt x="212" y="67"/>
                  </a:lnTo>
                  <a:lnTo>
                    <a:pt x="213" y="44"/>
                  </a:lnTo>
                  <a:lnTo>
                    <a:pt x="215" y="22"/>
                  </a:lnTo>
                  <a:lnTo>
                    <a:pt x="21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9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H="1">
              <a:off x="7033320" y="4281480"/>
              <a:ext cx="171720" cy="73080"/>
            </a:xfrm>
            <a:custGeom>
              <a:avLst/>
              <a:gdLst/>
              <a:ahLst/>
              <a:rect l="l" t="t" r="r" b="b"/>
              <a:pathLst>
                <a:path w="217" h="92">
                  <a:moveTo>
                    <a:pt x="9" y="0"/>
                  </a:moveTo>
                  <a:lnTo>
                    <a:pt x="7" y="23"/>
                  </a:lnTo>
                  <a:lnTo>
                    <a:pt x="5" y="46"/>
                  </a:lnTo>
                  <a:lnTo>
                    <a:pt x="2" y="69"/>
                  </a:lnTo>
                  <a:lnTo>
                    <a:pt x="0" y="92"/>
                  </a:lnTo>
                  <a:lnTo>
                    <a:pt x="211" y="92"/>
                  </a:lnTo>
                  <a:lnTo>
                    <a:pt x="212" y="68"/>
                  </a:lnTo>
                  <a:lnTo>
                    <a:pt x="213" y="45"/>
                  </a:lnTo>
                  <a:lnTo>
                    <a:pt x="214" y="22"/>
                  </a:lnTo>
                  <a:lnTo>
                    <a:pt x="2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49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H="1">
              <a:off x="7027200" y="4248000"/>
              <a:ext cx="174600" cy="69840"/>
            </a:xfrm>
            <a:custGeom>
              <a:avLst/>
              <a:gdLst/>
              <a:ahLst/>
              <a:rect l="l" t="t" r="r" b="b"/>
              <a:pathLst>
                <a:path w="220" h="89">
                  <a:moveTo>
                    <a:pt x="9" y="0"/>
                  </a:moveTo>
                  <a:lnTo>
                    <a:pt x="6" y="22"/>
                  </a:lnTo>
                  <a:lnTo>
                    <a:pt x="4" y="44"/>
                  </a:lnTo>
                  <a:lnTo>
                    <a:pt x="2" y="67"/>
                  </a:lnTo>
                  <a:lnTo>
                    <a:pt x="0" y="89"/>
                  </a:lnTo>
                  <a:lnTo>
                    <a:pt x="210" y="89"/>
                  </a:lnTo>
                  <a:lnTo>
                    <a:pt x="212" y="67"/>
                  </a:lnTo>
                  <a:lnTo>
                    <a:pt x="214" y="44"/>
                  </a:lnTo>
                  <a:lnTo>
                    <a:pt x="216" y="22"/>
                  </a:lnTo>
                  <a:lnTo>
                    <a:pt x="22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8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H="1">
              <a:off x="7022520" y="4211640"/>
              <a:ext cx="174600" cy="69840"/>
            </a:xfrm>
            <a:custGeom>
              <a:avLst/>
              <a:gdLst/>
              <a:ahLst/>
              <a:rect l="l" t="t" r="r" b="b"/>
              <a:pathLst>
                <a:path w="222" h="89">
                  <a:moveTo>
                    <a:pt x="11" y="0"/>
                  </a:moveTo>
                  <a:lnTo>
                    <a:pt x="8" y="22"/>
                  </a:lnTo>
                  <a:lnTo>
                    <a:pt x="6" y="44"/>
                  </a:lnTo>
                  <a:lnTo>
                    <a:pt x="3" y="67"/>
                  </a:lnTo>
                  <a:lnTo>
                    <a:pt x="0" y="89"/>
                  </a:lnTo>
                  <a:lnTo>
                    <a:pt x="208" y="89"/>
                  </a:lnTo>
                  <a:lnTo>
                    <a:pt x="211" y="67"/>
                  </a:lnTo>
                  <a:lnTo>
                    <a:pt x="215" y="44"/>
                  </a:lnTo>
                  <a:lnTo>
                    <a:pt x="218" y="22"/>
                  </a:lnTo>
                  <a:lnTo>
                    <a:pt x="2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a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H="1">
              <a:off x="7014960" y="4175280"/>
              <a:ext cx="180720" cy="72720"/>
            </a:xfrm>
            <a:custGeom>
              <a:avLst/>
              <a:gdLst/>
              <a:ahLst/>
              <a:rect l="l" t="t" r="r" b="b"/>
              <a:pathLst>
                <a:path w="228" h="92">
                  <a:moveTo>
                    <a:pt x="10" y="0"/>
                  </a:moveTo>
                  <a:lnTo>
                    <a:pt x="8" y="22"/>
                  </a:lnTo>
                  <a:lnTo>
                    <a:pt x="6" y="46"/>
                  </a:lnTo>
                  <a:lnTo>
                    <a:pt x="2" y="69"/>
                  </a:lnTo>
                  <a:lnTo>
                    <a:pt x="0" y="92"/>
                  </a:lnTo>
                  <a:lnTo>
                    <a:pt x="211" y="92"/>
                  </a:lnTo>
                  <a:lnTo>
                    <a:pt x="214" y="69"/>
                  </a:lnTo>
                  <a:lnTo>
                    <a:pt x="218" y="46"/>
                  </a:lnTo>
                  <a:lnTo>
                    <a:pt x="223" y="22"/>
                  </a:lnTo>
                  <a:lnTo>
                    <a:pt x="22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58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H="1">
              <a:off x="7006680" y="4140360"/>
              <a:ext cx="182880" cy="71280"/>
            </a:xfrm>
            <a:custGeom>
              <a:avLst/>
              <a:gdLst/>
              <a:ahLst/>
              <a:rect l="l" t="t" r="r" b="b"/>
              <a:pathLst>
                <a:path w="230" h="90">
                  <a:moveTo>
                    <a:pt x="9" y="0"/>
                  </a:moveTo>
                  <a:lnTo>
                    <a:pt x="7" y="22"/>
                  </a:lnTo>
                  <a:lnTo>
                    <a:pt x="4" y="45"/>
                  </a:lnTo>
                  <a:lnTo>
                    <a:pt x="2" y="67"/>
                  </a:lnTo>
                  <a:lnTo>
                    <a:pt x="0" y="90"/>
                  </a:lnTo>
                  <a:lnTo>
                    <a:pt x="211" y="90"/>
                  </a:lnTo>
                  <a:lnTo>
                    <a:pt x="215" y="67"/>
                  </a:lnTo>
                  <a:lnTo>
                    <a:pt x="221" y="45"/>
                  </a:lnTo>
                  <a:lnTo>
                    <a:pt x="226" y="22"/>
                  </a:lnTo>
                  <a:lnTo>
                    <a:pt x="23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H="1">
              <a:off x="6998400" y="4103640"/>
              <a:ext cx="187560" cy="71640"/>
            </a:xfrm>
            <a:custGeom>
              <a:avLst/>
              <a:gdLst/>
              <a:ahLst/>
              <a:rect l="l" t="t" r="r" b="b"/>
              <a:pathLst>
                <a:path w="237" h="90">
                  <a:moveTo>
                    <a:pt x="9" y="0"/>
                  </a:moveTo>
                  <a:lnTo>
                    <a:pt x="7" y="22"/>
                  </a:lnTo>
                  <a:lnTo>
                    <a:pt x="5" y="45"/>
                  </a:lnTo>
                  <a:lnTo>
                    <a:pt x="2" y="67"/>
                  </a:lnTo>
                  <a:lnTo>
                    <a:pt x="0" y="90"/>
                  </a:lnTo>
                  <a:lnTo>
                    <a:pt x="218" y="90"/>
                  </a:lnTo>
                  <a:lnTo>
                    <a:pt x="223" y="67"/>
                  </a:lnTo>
                  <a:lnTo>
                    <a:pt x="227" y="45"/>
                  </a:lnTo>
                  <a:lnTo>
                    <a:pt x="233" y="22"/>
                  </a:lnTo>
                  <a:lnTo>
                    <a:pt x="23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a7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H="1">
              <a:off x="6990840" y="4067280"/>
              <a:ext cx="192240" cy="73080"/>
            </a:xfrm>
            <a:custGeom>
              <a:avLst/>
              <a:gdLst/>
              <a:ahLst/>
              <a:rect l="l" t="t" r="r" b="b"/>
              <a:pathLst>
                <a:path w="241" h="92">
                  <a:moveTo>
                    <a:pt x="7" y="0"/>
                  </a:moveTo>
                  <a:lnTo>
                    <a:pt x="5" y="23"/>
                  </a:lnTo>
                  <a:lnTo>
                    <a:pt x="2" y="46"/>
                  </a:lnTo>
                  <a:lnTo>
                    <a:pt x="1" y="71"/>
                  </a:lnTo>
                  <a:lnTo>
                    <a:pt x="0" y="92"/>
                  </a:lnTo>
                  <a:lnTo>
                    <a:pt x="221" y="92"/>
                  </a:lnTo>
                  <a:lnTo>
                    <a:pt x="226" y="71"/>
                  </a:lnTo>
                  <a:lnTo>
                    <a:pt x="231" y="46"/>
                  </a:lnTo>
                  <a:lnTo>
                    <a:pt x="236" y="23"/>
                  </a:lnTo>
                  <a:lnTo>
                    <a:pt x="24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7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H="1">
              <a:off x="6982560" y="4032360"/>
              <a:ext cx="196920" cy="71280"/>
            </a:xfrm>
            <a:custGeom>
              <a:avLst/>
              <a:gdLst/>
              <a:ahLst/>
              <a:rect l="l" t="t" r="r" b="b"/>
              <a:pathLst>
                <a:path w="248" h="88">
                  <a:moveTo>
                    <a:pt x="7" y="0"/>
                  </a:moveTo>
                  <a:lnTo>
                    <a:pt x="6" y="21"/>
                  </a:lnTo>
                  <a:lnTo>
                    <a:pt x="5" y="45"/>
                  </a:lnTo>
                  <a:lnTo>
                    <a:pt x="3" y="66"/>
                  </a:lnTo>
                  <a:lnTo>
                    <a:pt x="0" y="88"/>
                  </a:lnTo>
                  <a:lnTo>
                    <a:pt x="228" y="88"/>
                  </a:lnTo>
                  <a:lnTo>
                    <a:pt x="233" y="66"/>
                  </a:lnTo>
                  <a:lnTo>
                    <a:pt x="238" y="45"/>
                  </a:lnTo>
                  <a:lnTo>
                    <a:pt x="243" y="21"/>
                  </a:lnTo>
                  <a:lnTo>
                    <a:pt x="24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H="1">
              <a:off x="6975000" y="3995640"/>
              <a:ext cx="201600" cy="71640"/>
            </a:xfrm>
            <a:custGeom>
              <a:avLst/>
              <a:gdLst/>
              <a:ahLst/>
              <a:rect l="l" t="t" r="r" b="b"/>
              <a:pathLst>
                <a:path w="253" h="88">
                  <a:moveTo>
                    <a:pt x="7" y="0"/>
                  </a:moveTo>
                  <a:lnTo>
                    <a:pt x="6" y="21"/>
                  </a:lnTo>
                  <a:lnTo>
                    <a:pt x="4" y="44"/>
                  </a:lnTo>
                  <a:lnTo>
                    <a:pt x="2" y="66"/>
                  </a:lnTo>
                  <a:lnTo>
                    <a:pt x="0" y="88"/>
                  </a:lnTo>
                  <a:lnTo>
                    <a:pt x="234" y="88"/>
                  </a:lnTo>
                  <a:lnTo>
                    <a:pt x="238" y="66"/>
                  </a:lnTo>
                  <a:lnTo>
                    <a:pt x="244" y="44"/>
                  </a:lnTo>
                  <a:lnTo>
                    <a:pt x="249" y="21"/>
                  </a:lnTo>
                  <a:lnTo>
                    <a:pt x="25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H="1">
              <a:off x="6967080" y="3962520"/>
              <a:ext cx="206640" cy="69840"/>
            </a:xfrm>
            <a:custGeom>
              <a:avLst/>
              <a:gdLst/>
              <a:ahLst/>
              <a:rect l="l" t="t" r="r" b="b"/>
              <a:pathLst>
                <a:path w="261" h="89">
                  <a:moveTo>
                    <a:pt x="7" y="0"/>
                  </a:moveTo>
                  <a:lnTo>
                    <a:pt x="6" y="21"/>
                  </a:lnTo>
                  <a:lnTo>
                    <a:pt x="5" y="43"/>
                  </a:lnTo>
                  <a:lnTo>
                    <a:pt x="3" y="66"/>
                  </a:lnTo>
                  <a:lnTo>
                    <a:pt x="0" y="89"/>
                  </a:lnTo>
                  <a:lnTo>
                    <a:pt x="241" y="89"/>
                  </a:lnTo>
                  <a:lnTo>
                    <a:pt x="246" y="67"/>
                  </a:lnTo>
                  <a:lnTo>
                    <a:pt x="251" y="44"/>
                  </a:lnTo>
                  <a:lnTo>
                    <a:pt x="256" y="22"/>
                  </a:lnTo>
                  <a:lnTo>
                    <a:pt x="26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6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H="1">
              <a:off x="6962400" y="3925800"/>
              <a:ext cx="209520" cy="69840"/>
            </a:xfrm>
            <a:custGeom>
              <a:avLst/>
              <a:gdLst/>
              <a:ahLst/>
              <a:rect l="l" t="t" r="r" b="b"/>
              <a:pathLst>
                <a:path w="264" h="88">
                  <a:moveTo>
                    <a:pt x="7" y="0"/>
                  </a:moveTo>
                  <a:lnTo>
                    <a:pt x="4" y="22"/>
                  </a:lnTo>
                  <a:lnTo>
                    <a:pt x="3" y="44"/>
                  </a:lnTo>
                  <a:lnTo>
                    <a:pt x="2" y="66"/>
                  </a:lnTo>
                  <a:lnTo>
                    <a:pt x="0" y="88"/>
                  </a:lnTo>
                  <a:lnTo>
                    <a:pt x="246" y="88"/>
                  </a:lnTo>
                  <a:lnTo>
                    <a:pt x="251" y="66"/>
                  </a:lnTo>
                  <a:lnTo>
                    <a:pt x="257" y="44"/>
                  </a:lnTo>
                  <a:lnTo>
                    <a:pt x="260" y="22"/>
                  </a:lnTo>
                  <a:lnTo>
                    <a:pt x="2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H="1">
              <a:off x="6957720" y="3889440"/>
              <a:ext cx="210960" cy="7308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4" y="0"/>
                  </a:moveTo>
                  <a:lnTo>
                    <a:pt x="4" y="22"/>
                  </a:lnTo>
                  <a:lnTo>
                    <a:pt x="4" y="45"/>
                  </a:lnTo>
                  <a:lnTo>
                    <a:pt x="3" y="67"/>
                  </a:lnTo>
                  <a:lnTo>
                    <a:pt x="0" y="91"/>
                  </a:lnTo>
                  <a:lnTo>
                    <a:pt x="254" y="91"/>
                  </a:lnTo>
                  <a:lnTo>
                    <a:pt x="257" y="67"/>
                  </a:lnTo>
                  <a:lnTo>
                    <a:pt x="261" y="45"/>
                  </a:lnTo>
                  <a:lnTo>
                    <a:pt x="264" y="22"/>
                  </a:lnTo>
                  <a:lnTo>
                    <a:pt x="26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H="1">
              <a:off x="6954480" y="3855960"/>
              <a:ext cx="210960" cy="69840"/>
            </a:xfrm>
            <a:custGeom>
              <a:avLst/>
              <a:gdLst/>
              <a:ahLst/>
              <a:rect l="l" t="t" r="r" b="b"/>
              <a:pathLst>
                <a:path w="266" h="89">
                  <a:moveTo>
                    <a:pt x="0" y="0"/>
                  </a:moveTo>
                  <a:lnTo>
                    <a:pt x="0" y="21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257" y="89"/>
                  </a:lnTo>
                  <a:lnTo>
                    <a:pt x="259" y="67"/>
                  </a:lnTo>
                  <a:lnTo>
                    <a:pt x="261" y="44"/>
                  </a:lnTo>
                  <a:lnTo>
                    <a:pt x="263" y="22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5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H="1">
              <a:off x="6954480" y="3819600"/>
              <a:ext cx="210960" cy="69840"/>
            </a:xfrm>
            <a:custGeom>
              <a:avLst/>
              <a:gdLst/>
              <a:ahLst/>
              <a:rect l="l" t="t" r="r" b="b"/>
              <a:pathLst>
                <a:path w="266" h="89">
                  <a:moveTo>
                    <a:pt x="0" y="0"/>
                  </a:moveTo>
                  <a:lnTo>
                    <a:pt x="0" y="22"/>
                  </a:lnTo>
                  <a:lnTo>
                    <a:pt x="0" y="44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62" y="89"/>
                  </a:lnTo>
                  <a:lnTo>
                    <a:pt x="265" y="67"/>
                  </a:lnTo>
                  <a:lnTo>
                    <a:pt x="266" y="44"/>
                  </a:lnTo>
                  <a:lnTo>
                    <a:pt x="266" y="22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6954120" y="3782880"/>
              <a:ext cx="214200" cy="73080"/>
            </a:xfrm>
            <a:custGeom>
              <a:avLst/>
              <a:gdLst/>
              <a:ahLst/>
              <a:rect l="l" t="t" r="r" b="b"/>
              <a:pathLst>
                <a:path w="270" h="92">
                  <a:moveTo>
                    <a:pt x="0" y="0"/>
                  </a:moveTo>
                  <a:lnTo>
                    <a:pt x="3" y="22"/>
                  </a:lnTo>
                  <a:lnTo>
                    <a:pt x="4" y="44"/>
                  </a:lnTo>
                  <a:lnTo>
                    <a:pt x="4" y="68"/>
                  </a:lnTo>
                  <a:lnTo>
                    <a:pt x="4" y="92"/>
                  </a:lnTo>
                  <a:lnTo>
                    <a:pt x="270" y="92"/>
                  </a:lnTo>
                  <a:lnTo>
                    <a:pt x="270" y="68"/>
                  </a:lnTo>
                  <a:lnTo>
                    <a:pt x="270" y="44"/>
                  </a:lnTo>
                  <a:lnTo>
                    <a:pt x="270" y="22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H="1">
              <a:off x="6954480" y="3747960"/>
              <a:ext cx="217440" cy="71640"/>
            </a:xfrm>
            <a:custGeom>
              <a:avLst/>
              <a:gdLst/>
              <a:ahLst/>
              <a:rect l="l" t="t" r="r" b="b"/>
              <a:pathLst>
                <a:path w="273" h="90">
                  <a:moveTo>
                    <a:pt x="7" y="90"/>
                  </a:moveTo>
                  <a:lnTo>
                    <a:pt x="6" y="71"/>
                  </a:lnTo>
                  <a:lnTo>
                    <a:pt x="4" y="52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23" y="20"/>
                  </a:lnTo>
                  <a:lnTo>
                    <a:pt x="44" y="22"/>
                  </a:lnTo>
                  <a:lnTo>
                    <a:pt x="63" y="22"/>
                  </a:lnTo>
                  <a:lnTo>
                    <a:pt x="82" y="21"/>
                  </a:lnTo>
                  <a:lnTo>
                    <a:pt x="99" y="19"/>
                  </a:lnTo>
                  <a:lnTo>
                    <a:pt x="115" y="14"/>
                  </a:lnTo>
                  <a:lnTo>
                    <a:pt x="131" y="8"/>
                  </a:lnTo>
                  <a:lnTo>
                    <a:pt x="145" y="0"/>
                  </a:lnTo>
                  <a:lnTo>
                    <a:pt x="257" y="0"/>
                  </a:lnTo>
                  <a:lnTo>
                    <a:pt x="257" y="3"/>
                  </a:lnTo>
                  <a:lnTo>
                    <a:pt x="257" y="5"/>
                  </a:lnTo>
                  <a:lnTo>
                    <a:pt x="257" y="8"/>
                  </a:lnTo>
                  <a:lnTo>
                    <a:pt x="257" y="11"/>
                  </a:lnTo>
                  <a:lnTo>
                    <a:pt x="257" y="8"/>
                  </a:lnTo>
                  <a:lnTo>
                    <a:pt x="259" y="5"/>
                  </a:lnTo>
                  <a:lnTo>
                    <a:pt x="260" y="3"/>
                  </a:lnTo>
                  <a:lnTo>
                    <a:pt x="260" y="0"/>
                  </a:lnTo>
                  <a:lnTo>
                    <a:pt x="267" y="0"/>
                  </a:lnTo>
                  <a:lnTo>
                    <a:pt x="270" y="22"/>
                  </a:lnTo>
                  <a:lnTo>
                    <a:pt x="272" y="45"/>
                  </a:lnTo>
                  <a:lnTo>
                    <a:pt x="273" y="67"/>
                  </a:lnTo>
                  <a:lnTo>
                    <a:pt x="273" y="90"/>
                  </a:lnTo>
                  <a:lnTo>
                    <a:pt x="7" y="90"/>
                  </a:lnTo>
                  <a:close/>
                </a:path>
              </a:pathLst>
            </a:custGeom>
            <a:solidFill>
              <a:srgbClr val="754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H="1">
              <a:off x="6954480" y="3711600"/>
              <a:ext cx="217440" cy="71280"/>
            </a:xfrm>
            <a:custGeom>
              <a:avLst/>
              <a:gdLst/>
              <a:ahLst/>
              <a:rect l="l" t="t" r="r" b="b"/>
              <a:pathLst>
                <a:path w="273" h="90">
                  <a:moveTo>
                    <a:pt x="3" y="90"/>
                  </a:moveTo>
                  <a:lnTo>
                    <a:pt x="3" y="84"/>
                  </a:lnTo>
                  <a:lnTo>
                    <a:pt x="3" y="77"/>
                  </a:lnTo>
                  <a:lnTo>
                    <a:pt x="2" y="70"/>
                  </a:lnTo>
                  <a:lnTo>
                    <a:pt x="0" y="64"/>
                  </a:lnTo>
                  <a:lnTo>
                    <a:pt x="16" y="66"/>
                  </a:lnTo>
                  <a:lnTo>
                    <a:pt x="31" y="67"/>
                  </a:lnTo>
                  <a:lnTo>
                    <a:pt x="45" y="68"/>
                  </a:lnTo>
                  <a:lnTo>
                    <a:pt x="59" y="68"/>
                  </a:lnTo>
                  <a:lnTo>
                    <a:pt x="72" y="68"/>
                  </a:lnTo>
                  <a:lnTo>
                    <a:pt x="85" y="67"/>
                  </a:lnTo>
                  <a:lnTo>
                    <a:pt x="98" y="65"/>
                  </a:lnTo>
                  <a:lnTo>
                    <a:pt x="109" y="61"/>
                  </a:lnTo>
                  <a:lnTo>
                    <a:pt x="121" y="58"/>
                  </a:lnTo>
                  <a:lnTo>
                    <a:pt x="132" y="53"/>
                  </a:lnTo>
                  <a:lnTo>
                    <a:pt x="143" y="47"/>
                  </a:lnTo>
                  <a:lnTo>
                    <a:pt x="152" y="40"/>
                  </a:lnTo>
                  <a:lnTo>
                    <a:pt x="162" y="32"/>
                  </a:lnTo>
                  <a:lnTo>
                    <a:pt x="170" y="22"/>
                  </a:lnTo>
                  <a:lnTo>
                    <a:pt x="179" y="12"/>
                  </a:lnTo>
                  <a:lnTo>
                    <a:pt x="188" y="0"/>
                  </a:lnTo>
                  <a:lnTo>
                    <a:pt x="237" y="0"/>
                  </a:lnTo>
                  <a:lnTo>
                    <a:pt x="237" y="10"/>
                  </a:lnTo>
                  <a:lnTo>
                    <a:pt x="237" y="20"/>
                  </a:lnTo>
                  <a:lnTo>
                    <a:pt x="237" y="30"/>
                  </a:lnTo>
                  <a:lnTo>
                    <a:pt x="237" y="40"/>
                  </a:lnTo>
                  <a:lnTo>
                    <a:pt x="238" y="40"/>
                  </a:lnTo>
                  <a:lnTo>
                    <a:pt x="239" y="40"/>
                  </a:lnTo>
                  <a:lnTo>
                    <a:pt x="242" y="40"/>
                  </a:lnTo>
                  <a:lnTo>
                    <a:pt x="244" y="40"/>
                  </a:lnTo>
                  <a:lnTo>
                    <a:pt x="244" y="30"/>
                  </a:lnTo>
                  <a:lnTo>
                    <a:pt x="245" y="20"/>
                  </a:lnTo>
                  <a:lnTo>
                    <a:pt x="246" y="10"/>
                  </a:lnTo>
                  <a:lnTo>
                    <a:pt x="246" y="0"/>
                  </a:lnTo>
                  <a:lnTo>
                    <a:pt x="253" y="0"/>
                  </a:lnTo>
                  <a:lnTo>
                    <a:pt x="253" y="15"/>
                  </a:lnTo>
                  <a:lnTo>
                    <a:pt x="253" y="29"/>
                  </a:lnTo>
                  <a:lnTo>
                    <a:pt x="254" y="43"/>
                  </a:lnTo>
                  <a:lnTo>
                    <a:pt x="257" y="57"/>
                  </a:lnTo>
                  <a:lnTo>
                    <a:pt x="259" y="51"/>
                  </a:lnTo>
                  <a:lnTo>
                    <a:pt x="260" y="45"/>
                  </a:lnTo>
                  <a:lnTo>
                    <a:pt x="261" y="38"/>
                  </a:lnTo>
                  <a:lnTo>
                    <a:pt x="264" y="30"/>
                  </a:lnTo>
                  <a:lnTo>
                    <a:pt x="266" y="45"/>
                  </a:lnTo>
                  <a:lnTo>
                    <a:pt x="268" y="60"/>
                  </a:lnTo>
                  <a:lnTo>
                    <a:pt x="270" y="75"/>
                  </a:lnTo>
                  <a:lnTo>
                    <a:pt x="273" y="90"/>
                  </a:lnTo>
                  <a:lnTo>
                    <a:pt x="3" y="90"/>
                  </a:lnTo>
                  <a:close/>
                </a:path>
              </a:pathLst>
            </a:custGeom>
            <a:solidFill>
              <a:srgbClr val="70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H="1">
              <a:off x="6966720" y="3675240"/>
              <a:ext cx="88920" cy="727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92"/>
                  </a:moveTo>
                  <a:lnTo>
                    <a:pt x="7" y="86"/>
                  </a:lnTo>
                  <a:lnTo>
                    <a:pt x="14" y="81"/>
                  </a:lnTo>
                  <a:lnTo>
                    <a:pt x="21" y="74"/>
                  </a:lnTo>
                  <a:lnTo>
                    <a:pt x="28" y="66"/>
                  </a:lnTo>
                  <a:lnTo>
                    <a:pt x="33" y="58"/>
                  </a:lnTo>
                  <a:lnTo>
                    <a:pt x="40" y="47"/>
                  </a:lnTo>
                  <a:lnTo>
                    <a:pt x="46" y="37"/>
                  </a:lnTo>
                  <a:lnTo>
                    <a:pt x="53" y="27"/>
                  </a:lnTo>
                  <a:lnTo>
                    <a:pt x="58" y="28"/>
                  </a:lnTo>
                  <a:lnTo>
                    <a:pt x="62" y="29"/>
                  </a:lnTo>
                  <a:lnTo>
                    <a:pt x="67" y="30"/>
                  </a:lnTo>
                  <a:lnTo>
                    <a:pt x="72" y="30"/>
                  </a:lnTo>
                  <a:lnTo>
                    <a:pt x="77" y="30"/>
                  </a:lnTo>
                  <a:lnTo>
                    <a:pt x="82" y="30"/>
                  </a:lnTo>
                  <a:lnTo>
                    <a:pt x="87" y="29"/>
                  </a:lnTo>
                  <a:lnTo>
                    <a:pt x="92" y="27"/>
                  </a:lnTo>
                  <a:lnTo>
                    <a:pt x="92" y="42"/>
                  </a:lnTo>
                  <a:lnTo>
                    <a:pt x="92" y="56"/>
                  </a:lnTo>
                  <a:lnTo>
                    <a:pt x="92" y="71"/>
                  </a:lnTo>
                  <a:lnTo>
                    <a:pt x="92" y="86"/>
                  </a:lnTo>
                  <a:lnTo>
                    <a:pt x="93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0" y="65"/>
                  </a:lnTo>
                  <a:lnTo>
                    <a:pt x="102" y="45"/>
                  </a:lnTo>
                  <a:lnTo>
                    <a:pt x="106" y="24"/>
                  </a:lnTo>
                  <a:lnTo>
                    <a:pt x="112" y="0"/>
                  </a:lnTo>
                  <a:lnTo>
                    <a:pt x="112" y="23"/>
                  </a:lnTo>
                  <a:lnTo>
                    <a:pt x="111" y="46"/>
                  </a:lnTo>
                  <a:lnTo>
                    <a:pt x="111" y="70"/>
                  </a:lnTo>
                  <a:lnTo>
                    <a:pt x="112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b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 flipH="1">
              <a:off x="6958800" y="3735360"/>
              <a:ext cx="4680" cy="126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6"/>
                  </a:moveTo>
                  <a:lnTo>
                    <a:pt x="0" y="13"/>
                  </a:lnTo>
                  <a:lnTo>
                    <a:pt x="2" y="8"/>
                  </a:lnTo>
                  <a:lnTo>
                    <a:pt x="4" y="5"/>
                  </a:lnTo>
                  <a:lnTo>
                    <a:pt x="4" y="0"/>
                  </a:lnTo>
                  <a:lnTo>
                    <a:pt x="6" y="5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b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H="1">
              <a:off x="6982560" y="3695760"/>
              <a:ext cx="39960" cy="158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19"/>
                  </a:moveTo>
                  <a:lnTo>
                    <a:pt x="2" y="15"/>
                  </a:lnTo>
                  <a:lnTo>
                    <a:pt x="5" y="10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10"/>
                  </a:lnTo>
                  <a:lnTo>
                    <a:pt x="49" y="15"/>
                  </a:lnTo>
                  <a:lnTo>
                    <a:pt x="4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 flipH="1">
              <a:off x="6967080" y="3675240"/>
              <a:ext cx="7920" cy="363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0" y="46"/>
                  </a:moveTo>
                  <a:lnTo>
                    <a:pt x="3" y="36"/>
                  </a:lnTo>
                  <a:lnTo>
                    <a:pt x="6" y="25"/>
                  </a:lnTo>
                  <a:lnTo>
                    <a:pt x="8" y="14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10" y="24"/>
                  </a:lnTo>
                  <a:lnTo>
                    <a:pt x="7" y="36"/>
                  </a:lnTo>
                  <a:lnTo>
                    <a:pt x="7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H="1">
              <a:off x="6740280" y="3559320"/>
              <a:ext cx="558720" cy="172800"/>
            </a:xfrm>
            <a:custGeom>
              <a:avLst/>
              <a:gdLst/>
              <a:ahLst/>
              <a:rect l="l" t="t" r="r" b="b"/>
              <a:pathLst>
                <a:path w="706" h="218">
                  <a:moveTo>
                    <a:pt x="201" y="218"/>
                  </a:moveTo>
                  <a:lnTo>
                    <a:pt x="196" y="218"/>
                  </a:lnTo>
                  <a:lnTo>
                    <a:pt x="192" y="218"/>
                  </a:lnTo>
                  <a:lnTo>
                    <a:pt x="186" y="216"/>
                  </a:lnTo>
                  <a:lnTo>
                    <a:pt x="181" y="214"/>
                  </a:lnTo>
                  <a:lnTo>
                    <a:pt x="171" y="190"/>
                  </a:lnTo>
                  <a:lnTo>
                    <a:pt x="158" y="175"/>
                  </a:lnTo>
                  <a:lnTo>
                    <a:pt x="143" y="167"/>
                  </a:lnTo>
                  <a:lnTo>
                    <a:pt x="126" y="163"/>
                  </a:lnTo>
                  <a:lnTo>
                    <a:pt x="108" y="162"/>
                  </a:lnTo>
                  <a:lnTo>
                    <a:pt x="86" y="162"/>
                  </a:lnTo>
                  <a:lnTo>
                    <a:pt x="64" y="159"/>
                  </a:lnTo>
                  <a:lnTo>
                    <a:pt x="40" y="152"/>
                  </a:lnTo>
                  <a:lnTo>
                    <a:pt x="43" y="143"/>
                  </a:lnTo>
                  <a:lnTo>
                    <a:pt x="48" y="131"/>
                  </a:lnTo>
                  <a:lnTo>
                    <a:pt x="52" y="120"/>
                  </a:lnTo>
                  <a:lnTo>
                    <a:pt x="56" y="109"/>
                  </a:lnTo>
                  <a:lnTo>
                    <a:pt x="50" y="112"/>
                  </a:lnTo>
                  <a:lnTo>
                    <a:pt x="43" y="114"/>
                  </a:lnTo>
                  <a:lnTo>
                    <a:pt x="37" y="116"/>
                  </a:lnTo>
                  <a:lnTo>
                    <a:pt x="32" y="119"/>
                  </a:lnTo>
                  <a:lnTo>
                    <a:pt x="26" y="122"/>
                  </a:lnTo>
                  <a:lnTo>
                    <a:pt x="19" y="124"/>
                  </a:lnTo>
                  <a:lnTo>
                    <a:pt x="13" y="127"/>
                  </a:lnTo>
                  <a:lnTo>
                    <a:pt x="6" y="129"/>
                  </a:lnTo>
                  <a:lnTo>
                    <a:pt x="6" y="128"/>
                  </a:lnTo>
                  <a:lnTo>
                    <a:pt x="6" y="127"/>
                  </a:lnTo>
                  <a:lnTo>
                    <a:pt x="5" y="124"/>
                  </a:lnTo>
                  <a:lnTo>
                    <a:pt x="4" y="122"/>
                  </a:lnTo>
                  <a:lnTo>
                    <a:pt x="11" y="116"/>
                  </a:lnTo>
                  <a:lnTo>
                    <a:pt x="18" y="110"/>
                  </a:lnTo>
                  <a:lnTo>
                    <a:pt x="25" y="105"/>
                  </a:lnTo>
                  <a:lnTo>
                    <a:pt x="32" y="100"/>
                  </a:lnTo>
                  <a:lnTo>
                    <a:pt x="38" y="94"/>
                  </a:lnTo>
                  <a:lnTo>
                    <a:pt x="45" y="90"/>
                  </a:lnTo>
                  <a:lnTo>
                    <a:pt x="52" y="84"/>
                  </a:lnTo>
                  <a:lnTo>
                    <a:pt x="59" y="79"/>
                  </a:lnTo>
                  <a:lnTo>
                    <a:pt x="59" y="77"/>
                  </a:lnTo>
                  <a:lnTo>
                    <a:pt x="58" y="75"/>
                  </a:lnTo>
                  <a:lnTo>
                    <a:pt x="56" y="72"/>
                  </a:lnTo>
                  <a:lnTo>
                    <a:pt x="56" y="70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9" y="82"/>
                  </a:lnTo>
                  <a:lnTo>
                    <a:pt x="22" y="84"/>
                  </a:lnTo>
                  <a:lnTo>
                    <a:pt x="15" y="87"/>
                  </a:lnTo>
                  <a:lnTo>
                    <a:pt x="7" y="91"/>
                  </a:lnTo>
                  <a:lnTo>
                    <a:pt x="0" y="93"/>
                  </a:lnTo>
                  <a:lnTo>
                    <a:pt x="4" y="85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0" y="60"/>
                  </a:lnTo>
                  <a:lnTo>
                    <a:pt x="28" y="54"/>
                  </a:lnTo>
                  <a:lnTo>
                    <a:pt x="51" y="47"/>
                  </a:lnTo>
                  <a:lnTo>
                    <a:pt x="75" y="38"/>
                  </a:lnTo>
                  <a:lnTo>
                    <a:pt x="102" y="27"/>
                  </a:lnTo>
                  <a:lnTo>
                    <a:pt x="127" y="18"/>
                  </a:lnTo>
                  <a:lnTo>
                    <a:pt x="151" y="10"/>
                  </a:lnTo>
                  <a:lnTo>
                    <a:pt x="172" y="6"/>
                  </a:lnTo>
                  <a:lnTo>
                    <a:pt x="188" y="3"/>
                  </a:lnTo>
                  <a:lnTo>
                    <a:pt x="181" y="9"/>
                  </a:lnTo>
                  <a:lnTo>
                    <a:pt x="173" y="16"/>
                  </a:lnTo>
                  <a:lnTo>
                    <a:pt x="166" y="22"/>
                  </a:lnTo>
                  <a:lnTo>
                    <a:pt x="158" y="26"/>
                  </a:lnTo>
                  <a:lnTo>
                    <a:pt x="151" y="32"/>
                  </a:lnTo>
                  <a:lnTo>
                    <a:pt x="144" y="38"/>
                  </a:lnTo>
                  <a:lnTo>
                    <a:pt x="138" y="44"/>
                  </a:lnTo>
                  <a:lnTo>
                    <a:pt x="132" y="49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2" y="57"/>
                  </a:lnTo>
                  <a:lnTo>
                    <a:pt x="132" y="60"/>
                  </a:lnTo>
                  <a:lnTo>
                    <a:pt x="141" y="55"/>
                  </a:lnTo>
                  <a:lnTo>
                    <a:pt x="151" y="51"/>
                  </a:lnTo>
                  <a:lnTo>
                    <a:pt x="161" y="46"/>
                  </a:lnTo>
                  <a:lnTo>
                    <a:pt x="170" y="40"/>
                  </a:lnTo>
                  <a:lnTo>
                    <a:pt x="178" y="34"/>
                  </a:lnTo>
                  <a:lnTo>
                    <a:pt x="187" y="29"/>
                  </a:lnTo>
                  <a:lnTo>
                    <a:pt x="195" y="23"/>
                  </a:lnTo>
                  <a:lnTo>
                    <a:pt x="204" y="17"/>
                  </a:lnTo>
                  <a:lnTo>
                    <a:pt x="209" y="22"/>
                  </a:lnTo>
                  <a:lnTo>
                    <a:pt x="215" y="26"/>
                  </a:lnTo>
                  <a:lnTo>
                    <a:pt x="219" y="32"/>
                  </a:lnTo>
                  <a:lnTo>
                    <a:pt x="224" y="37"/>
                  </a:lnTo>
                  <a:lnTo>
                    <a:pt x="216" y="42"/>
                  </a:lnTo>
                  <a:lnTo>
                    <a:pt x="208" y="49"/>
                  </a:lnTo>
                  <a:lnTo>
                    <a:pt x="200" y="55"/>
                  </a:lnTo>
                  <a:lnTo>
                    <a:pt x="193" y="62"/>
                  </a:lnTo>
                  <a:lnTo>
                    <a:pt x="186" y="69"/>
                  </a:lnTo>
                  <a:lnTo>
                    <a:pt x="179" y="77"/>
                  </a:lnTo>
                  <a:lnTo>
                    <a:pt x="173" y="85"/>
                  </a:lnTo>
                  <a:lnTo>
                    <a:pt x="169" y="93"/>
                  </a:lnTo>
                  <a:lnTo>
                    <a:pt x="181" y="87"/>
                  </a:lnTo>
                  <a:lnTo>
                    <a:pt x="192" y="82"/>
                  </a:lnTo>
                  <a:lnTo>
                    <a:pt x="201" y="75"/>
                  </a:lnTo>
                  <a:lnTo>
                    <a:pt x="210" y="67"/>
                  </a:lnTo>
                  <a:lnTo>
                    <a:pt x="218" y="60"/>
                  </a:lnTo>
                  <a:lnTo>
                    <a:pt x="226" y="52"/>
                  </a:lnTo>
                  <a:lnTo>
                    <a:pt x="234" y="44"/>
                  </a:lnTo>
                  <a:lnTo>
                    <a:pt x="244" y="37"/>
                  </a:lnTo>
                  <a:lnTo>
                    <a:pt x="267" y="39"/>
                  </a:lnTo>
                  <a:lnTo>
                    <a:pt x="287" y="40"/>
                  </a:lnTo>
                  <a:lnTo>
                    <a:pt x="307" y="41"/>
                  </a:lnTo>
                  <a:lnTo>
                    <a:pt x="324" y="42"/>
                  </a:lnTo>
                  <a:lnTo>
                    <a:pt x="341" y="42"/>
                  </a:lnTo>
                  <a:lnTo>
                    <a:pt x="358" y="42"/>
                  </a:lnTo>
                  <a:lnTo>
                    <a:pt x="373" y="42"/>
                  </a:lnTo>
                  <a:lnTo>
                    <a:pt x="388" y="40"/>
                  </a:lnTo>
                  <a:lnTo>
                    <a:pt x="403" y="39"/>
                  </a:lnTo>
                  <a:lnTo>
                    <a:pt x="416" y="36"/>
                  </a:lnTo>
                  <a:lnTo>
                    <a:pt x="431" y="32"/>
                  </a:lnTo>
                  <a:lnTo>
                    <a:pt x="446" y="27"/>
                  </a:lnTo>
                  <a:lnTo>
                    <a:pt x="462" y="23"/>
                  </a:lnTo>
                  <a:lnTo>
                    <a:pt x="479" y="16"/>
                  </a:lnTo>
                  <a:lnTo>
                    <a:pt x="496" y="9"/>
                  </a:lnTo>
                  <a:lnTo>
                    <a:pt x="514" y="0"/>
                  </a:lnTo>
                  <a:lnTo>
                    <a:pt x="526" y="7"/>
                  </a:lnTo>
                  <a:lnTo>
                    <a:pt x="537" y="14"/>
                  </a:lnTo>
                  <a:lnTo>
                    <a:pt x="549" y="21"/>
                  </a:lnTo>
                  <a:lnTo>
                    <a:pt x="562" y="27"/>
                  </a:lnTo>
                  <a:lnTo>
                    <a:pt x="573" y="34"/>
                  </a:lnTo>
                  <a:lnTo>
                    <a:pt x="585" y="42"/>
                  </a:lnTo>
                  <a:lnTo>
                    <a:pt x="597" y="49"/>
                  </a:lnTo>
                  <a:lnTo>
                    <a:pt x="609" y="56"/>
                  </a:lnTo>
                  <a:lnTo>
                    <a:pt x="620" y="63"/>
                  </a:lnTo>
                  <a:lnTo>
                    <a:pt x="633" y="70"/>
                  </a:lnTo>
                  <a:lnTo>
                    <a:pt x="644" y="78"/>
                  </a:lnTo>
                  <a:lnTo>
                    <a:pt x="657" y="85"/>
                  </a:lnTo>
                  <a:lnTo>
                    <a:pt x="669" y="92"/>
                  </a:lnTo>
                  <a:lnTo>
                    <a:pt x="681" y="99"/>
                  </a:lnTo>
                  <a:lnTo>
                    <a:pt x="693" y="106"/>
                  </a:lnTo>
                  <a:lnTo>
                    <a:pt x="706" y="113"/>
                  </a:lnTo>
                  <a:lnTo>
                    <a:pt x="685" y="123"/>
                  </a:lnTo>
                  <a:lnTo>
                    <a:pt x="663" y="130"/>
                  </a:lnTo>
                  <a:lnTo>
                    <a:pt x="641" y="135"/>
                  </a:lnTo>
                  <a:lnTo>
                    <a:pt x="620" y="137"/>
                  </a:lnTo>
                  <a:lnTo>
                    <a:pt x="598" y="139"/>
                  </a:lnTo>
                  <a:lnTo>
                    <a:pt x="577" y="140"/>
                  </a:lnTo>
                  <a:lnTo>
                    <a:pt x="555" y="143"/>
                  </a:lnTo>
                  <a:lnTo>
                    <a:pt x="534" y="145"/>
                  </a:lnTo>
                  <a:lnTo>
                    <a:pt x="514" y="135"/>
                  </a:lnTo>
                  <a:lnTo>
                    <a:pt x="494" y="116"/>
                  </a:lnTo>
                  <a:lnTo>
                    <a:pt x="471" y="94"/>
                  </a:lnTo>
                  <a:lnTo>
                    <a:pt x="449" y="75"/>
                  </a:lnTo>
                  <a:lnTo>
                    <a:pt x="428" y="64"/>
                  </a:lnTo>
                  <a:lnTo>
                    <a:pt x="411" y="66"/>
                  </a:lnTo>
                  <a:lnTo>
                    <a:pt x="398" y="85"/>
                  </a:lnTo>
                  <a:lnTo>
                    <a:pt x="392" y="129"/>
                  </a:lnTo>
                  <a:lnTo>
                    <a:pt x="385" y="129"/>
                  </a:lnTo>
                  <a:lnTo>
                    <a:pt x="377" y="129"/>
                  </a:lnTo>
                  <a:lnTo>
                    <a:pt x="370" y="129"/>
                  </a:lnTo>
                  <a:lnTo>
                    <a:pt x="363" y="129"/>
                  </a:lnTo>
                  <a:lnTo>
                    <a:pt x="355" y="128"/>
                  </a:lnTo>
                  <a:lnTo>
                    <a:pt x="348" y="128"/>
                  </a:lnTo>
                  <a:lnTo>
                    <a:pt x="340" y="127"/>
                  </a:lnTo>
                  <a:lnTo>
                    <a:pt x="333" y="125"/>
                  </a:lnTo>
                  <a:lnTo>
                    <a:pt x="315" y="152"/>
                  </a:lnTo>
                  <a:lnTo>
                    <a:pt x="305" y="173"/>
                  </a:lnTo>
                  <a:lnTo>
                    <a:pt x="298" y="188"/>
                  </a:lnTo>
                  <a:lnTo>
                    <a:pt x="291" y="199"/>
                  </a:lnTo>
                  <a:lnTo>
                    <a:pt x="280" y="207"/>
                  </a:lnTo>
                  <a:lnTo>
                    <a:pt x="264" y="212"/>
                  </a:lnTo>
                  <a:lnTo>
                    <a:pt x="239" y="215"/>
                  </a:lnTo>
                  <a:lnTo>
                    <a:pt x="201" y="218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6917760" y="3549600"/>
              <a:ext cx="174600" cy="33480"/>
            </a:xfrm>
            <a:custGeom>
              <a:avLst/>
              <a:gdLst/>
              <a:ahLst/>
              <a:rect l="l" t="t" r="r" b="b"/>
              <a:pathLst>
                <a:path w="220" h="43">
                  <a:moveTo>
                    <a:pt x="78" y="43"/>
                  </a:moveTo>
                  <a:lnTo>
                    <a:pt x="0" y="16"/>
                  </a:lnTo>
                  <a:lnTo>
                    <a:pt x="16" y="19"/>
                  </a:lnTo>
                  <a:lnTo>
                    <a:pt x="33" y="20"/>
                  </a:lnTo>
                  <a:lnTo>
                    <a:pt x="52" y="20"/>
                  </a:lnTo>
                  <a:lnTo>
                    <a:pt x="70" y="20"/>
                  </a:lnTo>
                  <a:lnTo>
                    <a:pt x="89" y="20"/>
                  </a:lnTo>
                  <a:lnTo>
                    <a:pt x="107" y="19"/>
                  </a:lnTo>
                  <a:lnTo>
                    <a:pt x="127" y="17"/>
                  </a:lnTo>
                  <a:lnTo>
                    <a:pt x="145" y="16"/>
                  </a:lnTo>
                  <a:lnTo>
                    <a:pt x="174" y="20"/>
                  </a:lnTo>
                  <a:lnTo>
                    <a:pt x="191" y="16"/>
                  </a:lnTo>
                  <a:lnTo>
                    <a:pt x="220" y="0"/>
                  </a:lnTo>
                  <a:lnTo>
                    <a:pt x="181" y="30"/>
                  </a:lnTo>
                  <a:lnTo>
                    <a:pt x="78" y="4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H="1">
              <a:off x="7106400" y="3549600"/>
              <a:ext cx="17640" cy="20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0" y="27"/>
                  </a:moveTo>
                  <a:lnTo>
                    <a:pt x="0" y="20"/>
                  </a:lnTo>
                  <a:lnTo>
                    <a:pt x="4" y="6"/>
                  </a:lnTo>
                  <a:lnTo>
                    <a:pt x="10" y="0"/>
                  </a:lnTo>
                  <a:lnTo>
                    <a:pt x="17" y="1"/>
                  </a:lnTo>
                  <a:lnTo>
                    <a:pt x="23" y="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6970320" y="3546360"/>
              <a:ext cx="114480" cy="11160"/>
            </a:xfrm>
            <a:custGeom>
              <a:avLst/>
              <a:gdLst/>
              <a:ahLst/>
              <a:rect l="l" t="t" r="r" b="b"/>
              <a:pathLst>
                <a:path w="145" h="14">
                  <a:moveTo>
                    <a:pt x="0" y="0"/>
                  </a:moveTo>
                  <a:lnTo>
                    <a:pt x="12" y="4"/>
                  </a:lnTo>
                  <a:lnTo>
                    <a:pt x="22" y="8"/>
                  </a:lnTo>
                  <a:lnTo>
                    <a:pt x="32" y="10"/>
                  </a:lnTo>
                  <a:lnTo>
                    <a:pt x="43" y="11"/>
                  </a:lnTo>
                  <a:lnTo>
                    <a:pt x="53" y="12"/>
                  </a:lnTo>
                  <a:lnTo>
                    <a:pt x="63" y="14"/>
                  </a:lnTo>
                  <a:lnTo>
                    <a:pt x="73" y="14"/>
                  </a:lnTo>
                  <a:lnTo>
                    <a:pt x="83" y="14"/>
                  </a:lnTo>
                  <a:lnTo>
                    <a:pt x="133" y="7"/>
                  </a:lnTo>
                  <a:lnTo>
                    <a:pt x="1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>
              <a:off x="6946560" y="3546360"/>
              <a:ext cx="15840" cy="32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0"/>
                  </a:moveTo>
                  <a:lnTo>
                    <a:pt x="19" y="0"/>
                  </a:lnTo>
                  <a:lnTo>
                    <a:pt x="9" y="3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 flipH="1">
              <a:off x="6936480" y="3541680"/>
              <a:ext cx="158760" cy="11160"/>
            </a:xfrm>
            <a:custGeom>
              <a:avLst/>
              <a:gdLst/>
              <a:ahLst/>
              <a:rect l="l" t="t" r="r" b="b"/>
              <a:pathLst>
                <a:path w="201" h="14">
                  <a:moveTo>
                    <a:pt x="0" y="0"/>
                  </a:moveTo>
                  <a:lnTo>
                    <a:pt x="7" y="4"/>
                  </a:lnTo>
                  <a:lnTo>
                    <a:pt x="15" y="8"/>
                  </a:lnTo>
                  <a:lnTo>
                    <a:pt x="22" y="11"/>
                  </a:lnTo>
                  <a:lnTo>
                    <a:pt x="30" y="14"/>
                  </a:lnTo>
                  <a:lnTo>
                    <a:pt x="149" y="14"/>
                  </a:lnTo>
                  <a:lnTo>
                    <a:pt x="162" y="3"/>
                  </a:lnTo>
                  <a:lnTo>
                    <a:pt x="178" y="10"/>
                  </a:lnTo>
                  <a:lnTo>
                    <a:pt x="188" y="7"/>
                  </a:lnTo>
                  <a:lnTo>
                    <a:pt x="2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c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 flipH="1">
              <a:off x="6922800" y="3537000"/>
              <a:ext cx="180720" cy="9360"/>
            </a:xfrm>
            <a:custGeom>
              <a:avLst/>
              <a:gdLst/>
              <a:ahLst/>
              <a:rect l="l" t="t" r="r" b="b"/>
              <a:pathLst>
                <a:path w="228" h="13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3" y="13"/>
                  </a:lnTo>
                  <a:lnTo>
                    <a:pt x="168" y="13"/>
                  </a:lnTo>
                  <a:lnTo>
                    <a:pt x="172" y="9"/>
                  </a:lnTo>
                  <a:lnTo>
                    <a:pt x="179" y="13"/>
                  </a:lnTo>
                  <a:lnTo>
                    <a:pt x="198" y="13"/>
                  </a:lnTo>
                  <a:lnTo>
                    <a:pt x="218" y="3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c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 flipH="1">
              <a:off x="6922800" y="3532320"/>
              <a:ext cx="185760" cy="9360"/>
            </a:xfrm>
            <a:custGeom>
              <a:avLst/>
              <a:gdLst/>
              <a:ahLst/>
              <a:rect l="l" t="t" r="r" b="b"/>
              <a:pathLst>
                <a:path w="234" h="13">
                  <a:moveTo>
                    <a:pt x="16" y="13"/>
                  </a:moveTo>
                  <a:lnTo>
                    <a:pt x="12" y="10"/>
                  </a:lnTo>
                  <a:lnTo>
                    <a:pt x="8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4" y="7"/>
                  </a:lnTo>
                  <a:lnTo>
                    <a:pt x="224" y="10"/>
                  </a:lnTo>
                  <a:lnTo>
                    <a:pt x="217" y="13"/>
                  </a:lnTo>
                  <a:lnTo>
                    <a:pt x="16" y="13"/>
                  </a:lnTo>
                  <a:close/>
                </a:path>
              </a:pathLst>
            </a:custGeom>
            <a:solidFill>
              <a:srgbClr val="efb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H="1">
              <a:off x="6922800" y="3525840"/>
              <a:ext cx="185760" cy="11160"/>
            </a:xfrm>
            <a:custGeom>
              <a:avLst/>
              <a:gdLst/>
              <a:ahLst/>
              <a:rect l="l" t="t" r="r" b="b"/>
              <a:pathLst>
                <a:path w="234" h="14">
                  <a:moveTo>
                    <a:pt x="6" y="14"/>
                  </a:moveTo>
                  <a:lnTo>
                    <a:pt x="4" y="12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43" y="0"/>
                  </a:lnTo>
                  <a:lnTo>
                    <a:pt x="234" y="0"/>
                  </a:lnTo>
                  <a:lnTo>
                    <a:pt x="234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ea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6922800" y="3521160"/>
              <a:ext cx="185760" cy="11160"/>
            </a:xfrm>
            <a:custGeom>
              <a:avLst/>
              <a:gdLst/>
              <a:ahLst/>
              <a:rect l="l" t="t" r="r" b="b"/>
              <a:pathLst>
                <a:path w="234" h="13">
                  <a:moveTo>
                    <a:pt x="6" y="0"/>
                  </a:moveTo>
                  <a:lnTo>
                    <a:pt x="0" y="13"/>
                  </a:lnTo>
                  <a:lnTo>
                    <a:pt x="234" y="13"/>
                  </a:lnTo>
                  <a:lnTo>
                    <a:pt x="234" y="0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29" y="10"/>
                  </a:lnTo>
                  <a:lnTo>
                    <a:pt x="2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b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 flipH="1">
              <a:off x="7084440" y="3516480"/>
              <a:ext cx="21960" cy="936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0" y="0"/>
                  </a:lnTo>
                  <a:lnTo>
                    <a:pt x="2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0a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H="1">
              <a:off x="6922440" y="3516480"/>
              <a:ext cx="152280" cy="9360"/>
            </a:xfrm>
            <a:custGeom>
              <a:avLst/>
              <a:gdLst/>
              <a:ahLst/>
              <a:rect l="l" t="t" r="r" b="b"/>
              <a:pathLst>
                <a:path w="191" h="12">
                  <a:moveTo>
                    <a:pt x="0" y="12"/>
                  </a:moveTo>
                  <a:lnTo>
                    <a:pt x="6" y="9"/>
                  </a:lnTo>
                  <a:lnTo>
                    <a:pt x="3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91" y="0"/>
                  </a:lnTo>
                  <a:lnTo>
                    <a:pt x="19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0a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 flipH="1">
              <a:off x="7087680" y="3510000"/>
              <a:ext cx="15840" cy="111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17" y="0"/>
                  </a:lnTo>
                  <a:lnTo>
                    <a:pt x="2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b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H="1">
              <a:off x="6922800" y="3510000"/>
              <a:ext cx="149040" cy="11160"/>
            </a:xfrm>
            <a:custGeom>
              <a:avLst/>
              <a:gdLst/>
              <a:ahLst/>
              <a:rect l="l" t="t" r="r" b="b"/>
              <a:pathLst>
                <a:path w="188" h="13">
                  <a:moveTo>
                    <a:pt x="0" y="0"/>
                  </a:moveTo>
                  <a:lnTo>
                    <a:pt x="3" y="13"/>
                  </a:lnTo>
                  <a:lnTo>
                    <a:pt x="188" y="13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65" y="10"/>
                  </a:lnTo>
                  <a:lnTo>
                    <a:pt x="165" y="0"/>
                  </a:lnTo>
                  <a:lnTo>
                    <a:pt x="128" y="0"/>
                  </a:lnTo>
                  <a:lnTo>
                    <a:pt x="128" y="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H="1">
              <a:off x="7089120" y="350532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H="1">
              <a:off x="6940080" y="3505320"/>
              <a:ext cx="131760" cy="11160"/>
            </a:xfrm>
            <a:custGeom>
              <a:avLst/>
              <a:gdLst/>
              <a:ahLst/>
              <a:rect l="l" t="t" r="r" b="b"/>
              <a:pathLst>
                <a:path w="165" h="14">
                  <a:moveTo>
                    <a:pt x="0" y="0"/>
                  </a:moveTo>
                  <a:lnTo>
                    <a:pt x="0" y="14"/>
                  </a:lnTo>
                  <a:lnTo>
                    <a:pt x="165" y="14"/>
                  </a:lnTo>
                  <a:lnTo>
                    <a:pt x="165" y="0"/>
                  </a:lnTo>
                  <a:lnTo>
                    <a:pt x="128" y="0"/>
                  </a:lnTo>
                  <a:lnTo>
                    <a:pt x="128" y="10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 flipH="1">
              <a:off x="6922440" y="350532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7089120" y="3500280"/>
              <a:ext cx="11160" cy="97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lnTo>
                    <a:pt x="0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 flipH="1">
              <a:off x="6973200" y="3500280"/>
              <a:ext cx="98280" cy="9720"/>
            </a:xfrm>
            <a:custGeom>
              <a:avLst/>
              <a:gdLst/>
              <a:ahLst/>
              <a:rect l="l" t="t" r="r" b="b"/>
              <a:pathLst>
                <a:path w="125" h="13">
                  <a:moveTo>
                    <a:pt x="0" y="0"/>
                  </a:moveTo>
                  <a:lnTo>
                    <a:pt x="0" y="13"/>
                  </a:lnTo>
                  <a:lnTo>
                    <a:pt x="125" y="13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H="1">
              <a:off x="6940080" y="3500280"/>
              <a:ext cx="30240" cy="97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4" y="0"/>
                  </a:moveTo>
                  <a:lnTo>
                    <a:pt x="0" y="13"/>
                  </a:lnTo>
                  <a:lnTo>
                    <a:pt x="37" y="13"/>
                  </a:lnTo>
                  <a:lnTo>
                    <a:pt x="3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9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 flipH="1">
              <a:off x="7089120" y="3495600"/>
              <a:ext cx="11160" cy="97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 flipH="1">
              <a:off x="6973200" y="3495600"/>
              <a:ext cx="98280" cy="9720"/>
            </a:xfrm>
            <a:custGeom>
              <a:avLst/>
              <a:gdLst/>
              <a:ahLst/>
              <a:rect l="l" t="t" r="r" b="b"/>
              <a:pathLst>
                <a:path w="125" h="13">
                  <a:moveTo>
                    <a:pt x="0" y="0"/>
                  </a:moveTo>
                  <a:lnTo>
                    <a:pt x="0" y="13"/>
                  </a:lnTo>
                  <a:lnTo>
                    <a:pt x="125" y="13"/>
                  </a:lnTo>
                  <a:lnTo>
                    <a:pt x="121" y="7"/>
                  </a:lnTo>
                  <a:lnTo>
                    <a:pt x="1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 flipH="1">
              <a:off x="6940080" y="3495600"/>
              <a:ext cx="30240" cy="97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4" y="0"/>
                  </a:moveTo>
                  <a:lnTo>
                    <a:pt x="0" y="13"/>
                  </a:lnTo>
                  <a:lnTo>
                    <a:pt x="37" y="13"/>
                  </a:lnTo>
                  <a:lnTo>
                    <a:pt x="3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9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 flipH="1">
              <a:off x="7089120" y="3489480"/>
              <a:ext cx="11160" cy="10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49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 flipH="1">
              <a:off x="6974640" y="3489480"/>
              <a:ext cx="9684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121" y="0"/>
                  </a:lnTo>
                  <a:lnTo>
                    <a:pt x="12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49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H="1">
              <a:off x="6939720" y="3489480"/>
              <a:ext cx="27000" cy="10800"/>
            </a:xfrm>
            <a:prstGeom prst="rect">
              <a:avLst/>
            </a:prstGeom>
            <a:solidFill>
              <a:srgbClr val="c49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 flipH="1">
              <a:off x="7089120" y="3484440"/>
              <a:ext cx="11160" cy="11160"/>
            </a:xfrm>
            <a:prstGeom prst="rect">
              <a:avLst/>
            </a:prstGeom>
            <a:solidFill>
              <a:srgbClr val="bf8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 flipH="1">
              <a:off x="6974640" y="3484440"/>
              <a:ext cx="96840" cy="1116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26" y="10"/>
                  </a:lnTo>
                  <a:lnTo>
                    <a:pt x="26" y="0"/>
                  </a:lnTo>
                  <a:lnTo>
                    <a:pt x="121" y="0"/>
                  </a:lnTo>
                  <a:lnTo>
                    <a:pt x="12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f8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H="1">
              <a:off x="6939720" y="3484440"/>
              <a:ext cx="27000" cy="11160"/>
            </a:xfrm>
            <a:prstGeom prst="rect">
              <a:avLst/>
            </a:prstGeom>
            <a:solidFill>
              <a:srgbClr val="bf8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>
              <a:off x="6926040" y="348444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13"/>
                  </a:lnTo>
                  <a:lnTo>
                    <a:pt x="11" y="13"/>
                  </a:lnTo>
                  <a:lnTo>
                    <a:pt x="1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8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H="1">
              <a:off x="7089120" y="3479760"/>
              <a:ext cx="11160" cy="9720"/>
            </a:xfrm>
            <a:prstGeom prst="rect">
              <a:avLst/>
            </a:prstGeom>
            <a:solidFill>
              <a:srgbClr val="ba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flipH="1">
              <a:off x="7058880" y="3479760"/>
              <a:ext cx="12600" cy="97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0" y="13"/>
                  </a:lnTo>
                  <a:lnTo>
                    <a:pt x="16" y="13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flipH="1">
              <a:off x="6975000" y="3479760"/>
              <a:ext cx="76320" cy="9720"/>
            </a:xfrm>
            <a:prstGeom prst="rect">
              <a:avLst/>
            </a:prstGeom>
            <a:solidFill>
              <a:srgbClr val="ba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H="1">
              <a:off x="6939720" y="3479760"/>
              <a:ext cx="27000" cy="972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3" y="0"/>
                  </a:moveTo>
                  <a:lnTo>
                    <a:pt x="0" y="13"/>
                  </a:lnTo>
                  <a:lnTo>
                    <a:pt x="33" y="13"/>
                  </a:lnTo>
                  <a:lnTo>
                    <a:pt x="3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flipH="1">
              <a:off x="6926040" y="3479760"/>
              <a:ext cx="792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13"/>
                  </a:lnTo>
                  <a:lnTo>
                    <a:pt x="11" y="13"/>
                  </a:lnTo>
                  <a:lnTo>
                    <a:pt x="1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a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flipH="1">
              <a:off x="7089120" y="3473640"/>
              <a:ext cx="11160" cy="10800"/>
            </a:xfrm>
            <a:prstGeom prst="rect">
              <a:avLst/>
            </a:prstGeom>
            <a:solidFill>
              <a:srgbClr val="b58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H="1">
              <a:off x="7063920" y="3473640"/>
              <a:ext cx="7920" cy="108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0" y="13"/>
                  </a:lnTo>
                  <a:lnTo>
                    <a:pt x="10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8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>
              <a:off x="6975000" y="3473640"/>
              <a:ext cx="76320" cy="10800"/>
            </a:xfrm>
            <a:prstGeom prst="rect">
              <a:avLst/>
            </a:prstGeom>
            <a:solidFill>
              <a:srgbClr val="b58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flipH="1">
              <a:off x="6939720" y="3473640"/>
              <a:ext cx="27000" cy="1080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3" y="0"/>
                  </a:moveTo>
                  <a:lnTo>
                    <a:pt x="0" y="13"/>
                  </a:lnTo>
                  <a:lnTo>
                    <a:pt x="33" y="13"/>
                  </a:lnTo>
                  <a:lnTo>
                    <a:pt x="3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8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 flipH="1">
              <a:off x="7089120" y="3468600"/>
              <a:ext cx="11160" cy="11160"/>
            </a:xfrm>
            <a:prstGeom prst="rect">
              <a:avLst/>
            </a:prstGeom>
            <a:solidFill>
              <a:srgbClr val="a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 flipH="1">
              <a:off x="7063920" y="34686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0" y="13"/>
                  </a:lnTo>
                  <a:lnTo>
                    <a:pt x="10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H="1">
              <a:off x="6975000" y="3468600"/>
              <a:ext cx="76320" cy="11160"/>
            </a:xfrm>
            <a:custGeom>
              <a:avLst/>
              <a:gdLst/>
              <a:ahLst/>
              <a:rect l="l" t="t" r="r" b="b"/>
              <a:pathLst>
                <a:path w="95" h="13">
                  <a:moveTo>
                    <a:pt x="0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flipH="1">
              <a:off x="6940080" y="3468600"/>
              <a:ext cx="23760" cy="11160"/>
            </a:xfrm>
            <a:prstGeom prst="rect">
              <a:avLst/>
            </a:prstGeom>
            <a:solidFill>
              <a:srgbClr val="a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flipH="1">
              <a:off x="6975000" y="3463920"/>
              <a:ext cx="76320" cy="9720"/>
            </a:xfrm>
            <a:custGeom>
              <a:avLst/>
              <a:gdLst/>
              <a:ahLst/>
              <a:rect l="l" t="t" r="r" b="b"/>
              <a:pathLst>
                <a:path w="95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7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 flipH="1">
              <a:off x="7089120" y="3457440"/>
              <a:ext cx="11160" cy="11160"/>
            </a:xfrm>
            <a:prstGeom prst="rect">
              <a:avLst/>
            </a:prstGeom>
            <a:solidFill>
              <a:srgbClr val="a57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H="1">
              <a:off x="7066800" y="3457440"/>
              <a:ext cx="4680" cy="111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7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H="1">
              <a:off x="6975000" y="3457440"/>
              <a:ext cx="76320" cy="11160"/>
            </a:xfrm>
            <a:prstGeom prst="rect">
              <a:avLst/>
            </a:prstGeom>
            <a:solidFill>
              <a:srgbClr val="a57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flipH="1">
              <a:off x="6940080" y="3457440"/>
              <a:ext cx="23760" cy="1116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4" y="0"/>
                  </a:moveTo>
                  <a:lnTo>
                    <a:pt x="0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7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flipH="1">
              <a:off x="7089120" y="3452760"/>
              <a:ext cx="11160" cy="11160"/>
            </a:xfrm>
            <a:prstGeom prst="rect">
              <a:avLst/>
            </a:prstGeom>
            <a:solidFill>
              <a:srgbClr val="a0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>
              <a:off x="7066800" y="345276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flipH="1">
              <a:off x="6975000" y="3452760"/>
              <a:ext cx="7632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3" y="0"/>
                  </a:moveTo>
                  <a:lnTo>
                    <a:pt x="0" y="14"/>
                  </a:lnTo>
                  <a:lnTo>
                    <a:pt x="95" y="14"/>
                  </a:lnTo>
                  <a:lnTo>
                    <a:pt x="9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flipH="1">
              <a:off x="6940080" y="3452760"/>
              <a:ext cx="23760" cy="111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4" y="0"/>
                  </a:moveTo>
                  <a:lnTo>
                    <a:pt x="0" y="14"/>
                  </a:lnTo>
                  <a:lnTo>
                    <a:pt x="30" y="14"/>
                  </a:lnTo>
                  <a:lnTo>
                    <a:pt x="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0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flipH="1">
              <a:off x="6925680" y="3452760"/>
              <a:ext cx="46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lnTo>
                    <a:pt x="0" y="1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H="1">
              <a:off x="7089120" y="3448080"/>
              <a:ext cx="11160" cy="9360"/>
            </a:xfrm>
            <a:prstGeom prst="rect">
              <a:avLst/>
            </a:prstGeom>
            <a:solidFill>
              <a:srgbClr val="9b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 flipH="1">
              <a:off x="6975000" y="3448080"/>
              <a:ext cx="76320" cy="93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3" y="0"/>
                  </a:moveTo>
                  <a:lnTo>
                    <a:pt x="0" y="14"/>
                  </a:lnTo>
                  <a:lnTo>
                    <a:pt x="95" y="14"/>
                  </a:lnTo>
                  <a:lnTo>
                    <a:pt x="9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b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 flipH="1">
              <a:off x="6940080" y="3448080"/>
              <a:ext cx="22320" cy="93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0"/>
                  </a:moveTo>
                  <a:lnTo>
                    <a:pt x="0" y="14"/>
                  </a:lnTo>
                  <a:lnTo>
                    <a:pt x="26" y="1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 flipH="1">
              <a:off x="6925680" y="3448080"/>
              <a:ext cx="4680" cy="9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lnTo>
                    <a:pt x="0" y="1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b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>
              <a:off x="7087680" y="344340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6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H="1">
              <a:off x="7066800" y="3443400"/>
              <a:ext cx="4680" cy="93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6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 flipH="1">
              <a:off x="6974640" y="3443400"/>
              <a:ext cx="73080" cy="9360"/>
            </a:xfrm>
            <a:prstGeom prst="rect">
              <a:avLst/>
            </a:prstGeom>
            <a:solidFill>
              <a:srgbClr val="966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 flipH="1">
              <a:off x="6940080" y="3443400"/>
              <a:ext cx="22320" cy="93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0" y="13"/>
                  </a:lnTo>
                  <a:lnTo>
                    <a:pt x="26" y="13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6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H="1">
              <a:off x="6926040" y="3443400"/>
              <a:ext cx="1440" cy="9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66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 flipH="1">
              <a:off x="7087680" y="3436920"/>
              <a:ext cx="12960" cy="11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 flipH="1">
              <a:off x="7066800" y="34369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flipH="1">
              <a:off x="6973200" y="3436920"/>
              <a:ext cx="74520" cy="11160"/>
            </a:xfrm>
            <a:custGeom>
              <a:avLst/>
              <a:gdLst/>
              <a:ahLst/>
              <a:rect l="l" t="t" r="r" b="b"/>
              <a:pathLst>
                <a:path w="96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>
              <a:off x="6942960" y="3436920"/>
              <a:ext cx="1908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3" y="0"/>
                  </a:moveTo>
                  <a:lnTo>
                    <a:pt x="0" y="13"/>
                  </a:lnTo>
                  <a:lnTo>
                    <a:pt x="23" y="13"/>
                  </a:lnTo>
                  <a:lnTo>
                    <a:pt x="2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H="1">
              <a:off x="6926040" y="3436920"/>
              <a:ext cx="1440" cy="111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H="1">
              <a:off x="7087320" y="34322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c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flipH="1">
              <a:off x="6973200" y="3432240"/>
              <a:ext cx="74520" cy="11160"/>
            </a:xfrm>
            <a:custGeom>
              <a:avLst/>
              <a:gdLst/>
              <a:ahLst/>
              <a:rect l="l" t="t" r="r" b="b"/>
              <a:pathLst>
                <a:path w="96" h="13">
                  <a:moveTo>
                    <a:pt x="4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>
              <a:off x="6942960" y="3432240"/>
              <a:ext cx="1908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3" y="0"/>
                  </a:moveTo>
                  <a:lnTo>
                    <a:pt x="0" y="13"/>
                  </a:lnTo>
                  <a:lnTo>
                    <a:pt x="23" y="13"/>
                  </a:lnTo>
                  <a:lnTo>
                    <a:pt x="2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 flipH="1">
              <a:off x="6926040" y="3432240"/>
              <a:ext cx="1440" cy="111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 flipH="1">
              <a:off x="7087320" y="342756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75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H="1">
              <a:off x="6973200" y="3427560"/>
              <a:ext cx="74520" cy="936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" y="0"/>
                  </a:moveTo>
                  <a:lnTo>
                    <a:pt x="0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5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H="1">
              <a:off x="6943320" y="3427560"/>
              <a:ext cx="15840" cy="9360"/>
            </a:xfrm>
            <a:prstGeom prst="rect">
              <a:avLst/>
            </a:prstGeom>
            <a:solidFill>
              <a:srgbClr val="875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 flipH="1">
              <a:off x="7087320" y="3421080"/>
              <a:ext cx="11160" cy="11160"/>
            </a:xfrm>
            <a:prstGeom prst="rect">
              <a:avLst/>
            </a:prstGeom>
            <a:solidFill>
              <a:srgbClr val="82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H="1">
              <a:off x="6973200" y="3421080"/>
              <a:ext cx="73080" cy="11160"/>
            </a:xfrm>
            <a:prstGeom prst="rect">
              <a:avLst/>
            </a:prstGeom>
            <a:solidFill>
              <a:srgbClr val="82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H="1">
              <a:off x="6943320" y="3421080"/>
              <a:ext cx="15840" cy="11160"/>
            </a:xfrm>
            <a:prstGeom prst="rect">
              <a:avLst/>
            </a:prstGeom>
            <a:solidFill>
              <a:srgbClr val="82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H="1">
              <a:off x="6926040" y="3421080"/>
              <a:ext cx="1440" cy="111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2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 flipH="1">
              <a:off x="7087320" y="3416400"/>
              <a:ext cx="11160" cy="11160"/>
            </a:xfrm>
            <a:prstGeom prst="rect">
              <a:avLst/>
            </a:prstGeom>
            <a:solidFill>
              <a:srgbClr val="7c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H="1">
              <a:off x="6973200" y="3416400"/>
              <a:ext cx="73080" cy="11160"/>
            </a:xfrm>
            <a:prstGeom prst="rect">
              <a:avLst/>
            </a:prstGeom>
            <a:solidFill>
              <a:srgbClr val="7c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H="1">
              <a:off x="6943320" y="3416400"/>
              <a:ext cx="15840" cy="11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c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H="1">
              <a:off x="6926040" y="3416400"/>
              <a:ext cx="14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14"/>
                  </a:move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7c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H="1">
              <a:off x="7087320" y="3409920"/>
              <a:ext cx="11160" cy="11160"/>
            </a:xfrm>
            <a:prstGeom prst="rect">
              <a:avLst/>
            </a:prstGeom>
            <a:solidFill>
              <a:srgbClr val="754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H="1">
              <a:off x="7068240" y="3413160"/>
              <a:ext cx="1800" cy="792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54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 flipH="1">
              <a:off x="6973200" y="3409920"/>
              <a:ext cx="73080" cy="1116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3" y="0"/>
                  </a:moveTo>
                  <a:lnTo>
                    <a:pt x="0" y="14"/>
                  </a:lnTo>
                  <a:lnTo>
                    <a:pt x="92" y="14"/>
                  </a:ln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4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H="1">
              <a:off x="6943320" y="3409920"/>
              <a:ext cx="15840" cy="11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2" y="3"/>
                  </a:lnTo>
                  <a:lnTo>
                    <a:pt x="6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54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H="1">
              <a:off x="7087320" y="3406680"/>
              <a:ext cx="11160" cy="9720"/>
            </a:xfrm>
            <a:prstGeom prst="rect">
              <a:avLst/>
            </a:prstGeom>
            <a:solidFill>
              <a:srgbClr val="70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 flipH="1">
              <a:off x="7068240" y="34131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0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H="1">
              <a:off x="6973200" y="3406680"/>
              <a:ext cx="73080" cy="97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13"/>
                  </a:moveTo>
                  <a:lnTo>
                    <a:pt x="3" y="0"/>
                  </a:lnTo>
                  <a:lnTo>
                    <a:pt x="92" y="0"/>
                  </a:lnTo>
                  <a:lnTo>
                    <a:pt x="9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>
              <a:off x="6943320" y="3406680"/>
              <a:ext cx="14400" cy="97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3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H="1">
              <a:off x="6926040" y="3406680"/>
              <a:ext cx="1440" cy="9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703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H="1">
              <a:off x="6926040" y="3406680"/>
              <a:ext cx="1440" cy="324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b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 flipH="1">
              <a:off x="7736760" y="3235320"/>
              <a:ext cx="19080" cy="65160"/>
            </a:xfrm>
            <a:custGeom>
              <a:avLst/>
              <a:gdLst/>
              <a:ahLst/>
              <a:rect l="l" t="t" r="r" b="b"/>
              <a:pathLst>
                <a:path w="24" h="83">
                  <a:moveTo>
                    <a:pt x="9" y="83"/>
                  </a:moveTo>
                  <a:lnTo>
                    <a:pt x="12" y="70"/>
                  </a:lnTo>
                  <a:lnTo>
                    <a:pt x="14" y="61"/>
                  </a:lnTo>
                  <a:lnTo>
                    <a:pt x="19" y="55"/>
                  </a:lnTo>
                  <a:lnTo>
                    <a:pt x="24" y="48"/>
                  </a:lnTo>
                  <a:lnTo>
                    <a:pt x="23" y="37"/>
                  </a:lnTo>
                  <a:lnTo>
                    <a:pt x="23" y="25"/>
                  </a:lnTo>
                  <a:lnTo>
                    <a:pt x="21" y="1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6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2" y="80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6" y="82"/>
                  </a:lnTo>
                  <a:lnTo>
                    <a:pt x="9" y="83"/>
                  </a:lnTo>
                  <a:close/>
                </a:path>
              </a:pathLst>
            </a:custGeom>
            <a:solidFill>
              <a:srgbClr val="fc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>
              <a:off x="7730280" y="3306600"/>
              <a:ext cx="3240" cy="129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16"/>
                  </a:move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3" y="8"/>
                  </a:lnTo>
                  <a:lnTo>
                    <a:pt x="3" y="4"/>
                  </a:lnTo>
                  <a:lnTo>
                    <a:pt x="2" y="0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H="1">
              <a:off x="6450840" y="3216240"/>
              <a:ext cx="9720" cy="3024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" y="35"/>
                  </a:moveTo>
                  <a:lnTo>
                    <a:pt x="3" y="35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3" y="31"/>
                  </a:lnTo>
                  <a:lnTo>
                    <a:pt x="11" y="25"/>
                  </a:lnTo>
                  <a:lnTo>
                    <a:pt x="9" y="18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2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fc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 flipH="1">
              <a:off x="6458760" y="3198960"/>
              <a:ext cx="12600" cy="46080"/>
            </a:xfrm>
            <a:custGeom>
              <a:avLst/>
              <a:gdLst/>
              <a:ahLst/>
              <a:rect l="l" t="t" r="r" b="b"/>
              <a:pathLst>
                <a:path w="15" h="56">
                  <a:moveTo>
                    <a:pt x="1" y="55"/>
                  </a:moveTo>
                  <a:lnTo>
                    <a:pt x="5" y="55"/>
                  </a:lnTo>
                  <a:lnTo>
                    <a:pt x="7" y="55"/>
                  </a:lnTo>
                  <a:lnTo>
                    <a:pt x="11" y="55"/>
                  </a:lnTo>
                  <a:lnTo>
                    <a:pt x="13" y="55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1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5" y="40"/>
                  </a:lnTo>
                  <a:lnTo>
                    <a:pt x="15" y="33"/>
                  </a:lnTo>
                  <a:lnTo>
                    <a:pt x="14" y="26"/>
                  </a:lnTo>
                  <a:lnTo>
                    <a:pt x="14" y="21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5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1" y="19"/>
                  </a:lnTo>
                  <a:lnTo>
                    <a:pt x="2" y="29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1" y="55"/>
                  </a:lnTo>
                  <a:close/>
                </a:path>
              </a:pathLst>
            </a:custGeom>
            <a:solidFill>
              <a:srgbClr val="f9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H="1">
              <a:off x="7711200" y="3227400"/>
              <a:ext cx="27000" cy="95400"/>
            </a:xfrm>
            <a:custGeom>
              <a:avLst/>
              <a:gdLst/>
              <a:ahLst/>
              <a:rect l="l" t="t" r="r" b="b"/>
              <a:pathLst>
                <a:path w="34" h="120">
                  <a:moveTo>
                    <a:pt x="3" y="59"/>
                  </a:moveTo>
                  <a:lnTo>
                    <a:pt x="5" y="57"/>
                  </a:lnTo>
                  <a:lnTo>
                    <a:pt x="8" y="53"/>
                  </a:lnTo>
                  <a:lnTo>
                    <a:pt x="13" y="49"/>
                  </a:lnTo>
                  <a:lnTo>
                    <a:pt x="18" y="44"/>
                  </a:lnTo>
                  <a:lnTo>
                    <a:pt x="15" y="58"/>
                  </a:lnTo>
                  <a:lnTo>
                    <a:pt x="13" y="72"/>
                  </a:lnTo>
                  <a:lnTo>
                    <a:pt x="10" y="86"/>
                  </a:lnTo>
                  <a:lnTo>
                    <a:pt x="7" y="101"/>
                  </a:lnTo>
                  <a:lnTo>
                    <a:pt x="8" y="105"/>
                  </a:lnTo>
                  <a:lnTo>
                    <a:pt x="8" y="109"/>
                  </a:lnTo>
                  <a:lnTo>
                    <a:pt x="10" y="113"/>
                  </a:lnTo>
                  <a:lnTo>
                    <a:pt x="10" y="118"/>
                  </a:lnTo>
                  <a:lnTo>
                    <a:pt x="14" y="119"/>
                  </a:lnTo>
                  <a:lnTo>
                    <a:pt x="19" y="119"/>
                  </a:lnTo>
                  <a:lnTo>
                    <a:pt x="23" y="120"/>
                  </a:lnTo>
                  <a:lnTo>
                    <a:pt x="28" y="120"/>
                  </a:lnTo>
                  <a:lnTo>
                    <a:pt x="29" y="117"/>
                  </a:lnTo>
                  <a:lnTo>
                    <a:pt x="30" y="112"/>
                  </a:lnTo>
                  <a:lnTo>
                    <a:pt x="33" y="109"/>
                  </a:lnTo>
                  <a:lnTo>
                    <a:pt x="34" y="105"/>
                  </a:lnTo>
                  <a:lnTo>
                    <a:pt x="29" y="81"/>
                  </a:lnTo>
                  <a:lnTo>
                    <a:pt x="27" y="56"/>
                  </a:lnTo>
                  <a:lnTo>
                    <a:pt x="25" y="31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6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2" y="48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f9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>
              <a:off x="7689240" y="3298680"/>
              <a:ext cx="6120" cy="30240"/>
            </a:xfrm>
            <a:custGeom>
              <a:avLst/>
              <a:gdLst/>
              <a:ahLst/>
              <a:rect l="l" t="t" r="r" b="b"/>
              <a:pathLst>
                <a:path w="10" h="37">
                  <a:moveTo>
                    <a:pt x="0" y="36"/>
                  </a:moveTo>
                  <a:lnTo>
                    <a:pt x="3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10" y="37"/>
                  </a:lnTo>
                  <a:lnTo>
                    <a:pt x="8" y="28"/>
                  </a:lnTo>
                  <a:lnTo>
                    <a:pt x="6" y="19"/>
                  </a:lnTo>
                  <a:lnTo>
                    <a:pt x="5" y="10"/>
                  </a:lnTo>
                  <a:lnTo>
                    <a:pt x="4" y="0"/>
                  </a:lnTo>
                  <a:lnTo>
                    <a:pt x="3" y="10"/>
                  </a:lnTo>
                  <a:lnTo>
                    <a:pt x="3" y="18"/>
                  </a:lnTo>
                  <a:lnTo>
                    <a:pt x="2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H="1">
              <a:off x="7697160" y="3216240"/>
              <a:ext cx="21960" cy="9360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11" y="118"/>
                  </a:moveTo>
                  <a:lnTo>
                    <a:pt x="14" y="107"/>
                  </a:lnTo>
                  <a:lnTo>
                    <a:pt x="19" y="95"/>
                  </a:lnTo>
                  <a:lnTo>
                    <a:pt x="23" y="84"/>
                  </a:lnTo>
                  <a:lnTo>
                    <a:pt x="28" y="72"/>
                  </a:lnTo>
                  <a:lnTo>
                    <a:pt x="27" y="57"/>
                  </a:lnTo>
                  <a:lnTo>
                    <a:pt x="26" y="42"/>
                  </a:lnTo>
                  <a:lnTo>
                    <a:pt x="25" y="26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3" y="6"/>
                  </a:lnTo>
                  <a:lnTo>
                    <a:pt x="7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44"/>
                  </a:lnTo>
                  <a:lnTo>
                    <a:pt x="4" y="69"/>
                  </a:lnTo>
                  <a:lnTo>
                    <a:pt x="6" y="94"/>
                  </a:lnTo>
                  <a:lnTo>
                    <a:pt x="11" y="118"/>
                  </a:lnTo>
                  <a:close/>
                </a:path>
              </a:pathLst>
            </a:custGeom>
            <a:solidFill>
              <a:srgbClr val="f7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>
              <a:off x="7698960" y="3201840"/>
              <a:ext cx="792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7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H="1">
              <a:off x="6469920" y="3187800"/>
              <a:ext cx="12600" cy="88920"/>
            </a:xfrm>
            <a:custGeom>
              <a:avLst/>
              <a:gdLst/>
              <a:ahLst/>
              <a:rect l="l" t="t" r="r" b="b"/>
              <a:pathLst>
                <a:path w="16" h="112">
                  <a:moveTo>
                    <a:pt x="0" y="112"/>
                  </a:moveTo>
                  <a:lnTo>
                    <a:pt x="1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4" y="99"/>
                  </a:lnTo>
                  <a:lnTo>
                    <a:pt x="4" y="89"/>
                  </a:lnTo>
                  <a:lnTo>
                    <a:pt x="5" y="79"/>
                  </a:lnTo>
                  <a:lnTo>
                    <a:pt x="7" y="70"/>
                  </a:lnTo>
                  <a:lnTo>
                    <a:pt x="10" y="70"/>
                  </a:lnTo>
                  <a:lnTo>
                    <a:pt x="12" y="70"/>
                  </a:lnTo>
                  <a:lnTo>
                    <a:pt x="13" y="70"/>
                  </a:lnTo>
                  <a:lnTo>
                    <a:pt x="15" y="70"/>
                  </a:lnTo>
                  <a:lnTo>
                    <a:pt x="16" y="66"/>
                  </a:lnTo>
                  <a:lnTo>
                    <a:pt x="16" y="62"/>
                  </a:lnTo>
                  <a:lnTo>
                    <a:pt x="16" y="59"/>
                  </a:lnTo>
                  <a:lnTo>
                    <a:pt x="16" y="54"/>
                  </a:lnTo>
                  <a:lnTo>
                    <a:pt x="16" y="44"/>
                  </a:lnTo>
                  <a:lnTo>
                    <a:pt x="15" y="34"/>
                  </a:lnTo>
                  <a:lnTo>
                    <a:pt x="15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1" y="11"/>
                  </a:lnTo>
                  <a:lnTo>
                    <a:pt x="8" y="8"/>
                  </a:lnTo>
                  <a:lnTo>
                    <a:pt x="5" y="4"/>
                  </a:lnTo>
                  <a:lnTo>
                    <a:pt x="1" y="0"/>
                  </a:lnTo>
                  <a:lnTo>
                    <a:pt x="3" y="11"/>
                  </a:lnTo>
                  <a:lnTo>
                    <a:pt x="3" y="23"/>
                  </a:lnTo>
                  <a:lnTo>
                    <a:pt x="4" y="34"/>
                  </a:lnTo>
                  <a:lnTo>
                    <a:pt x="4" y="46"/>
                  </a:lnTo>
                  <a:lnTo>
                    <a:pt x="4" y="62"/>
                  </a:lnTo>
                  <a:lnTo>
                    <a:pt x="3" y="78"/>
                  </a:lnTo>
                  <a:lnTo>
                    <a:pt x="1" y="9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7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>
              <a:off x="7666920" y="3203640"/>
              <a:ext cx="33480" cy="12708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3" y="89"/>
                  </a:moveTo>
                  <a:lnTo>
                    <a:pt x="5" y="83"/>
                  </a:lnTo>
                  <a:lnTo>
                    <a:pt x="8" y="79"/>
                  </a:lnTo>
                  <a:lnTo>
                    <a:pt x="10" y="73"/>
                  </a:lnTo>
                  <a:lnTo>
                    <a:pt x="12" y="68"/>
                  </a:lnTo>
                  <a:lnTo>
                    <a:pt x="11" y="81"/>
                  </a:lnTo>
                  <a:lnTo>
                    <a:pt x="10" y="95"/>
                  </a:lnTo>
                  <a:lnTo>
                    <a:pt x="10" y="109"/>
                  </a:lnTo>
                  <a:lnTo>
                    <a:pt x="9" y="121"/>
                  </a:lnTo>
                  <a:lnTo>
                    <a:pt x="10" y="131"/>
                  </a:lnTo>
                  <a:lnTo>
                    <a:pt x="11" y="140"/>
                  </a:lnTo>
                  <a:lnTo>
                    <a:pt x="13" y="149"/>
                  </a:lnTo>
                  <a:lnTo>
                    <a:pt x="15" y="158"/>
                  </a:lnTo>
                  <a:lnTo>
                    <a:pt x="22" y="159"/>
                  </a:lnTo>
                  <a:lnTo>
                    <a:pt x="28" y="159"/>
                  </a:lnTo>
                  <a:lnTo>
                    <a:pt x="35" y="161"/>
                  </a:lnTo>
                  <a:lnTo>
                    <a:pt x="42" y="162"/>
                  </a:lnTo>
                  <a:lnTo>
                    <a:pt x="34" y="127"/>
                  </a:lnTo>
                  <a:lnTo>
                    <a:pt x="28" y="93"/>
                  </a:lnTo>
                  <a:lnTo>
                    <a:pt x="25" y="57"/>
                  </a:lnTo>
                  <a:lnTo>
                    <a:pt x="24" y="21"/>
                  </a:lnTo>
                  <a:lnTo>
                    <a:pt x="24" y="15"/>
                  </a:lnTo>
                  <a:lnTo>
                    <a:pt x="25" y="11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7" y="13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" y="59"/>
                  </a:lnTo>
                  <a:lnTo>
                    <a:pt x="2" y="74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4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6479640" y="3174840"/>
              <a:ext cx="14400" cy="10512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1" y="123"/>
                  </a:moveTo>
                  <a:lnTo>
                    <a:pt x="1" y="125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0" y="131"/>
                  </a:lnTo>
                  <a:lnTo>
                    <a:pt x="4" y="130"/>
                  </a:lnTo>
                  <a:lnTo>
                    <a:pt x="8" y="129"/>
                  </a:lnTo>
                  <a:lnTo>
                    <a:pt x="12" y="128"/>
                  </a:lnTo>
                  <a:lnTo>
                    <a:pt x="15" y="127"/>
                  </a:lnTo>
                  <a:lnTo>
                    <a:pt x="16" y="110"/>
                  </a:lnTo>
                  <a:lnTo>
                    <a:pt x="18" y="93"/>
                  </a:lnTo>
                  <a:lnTo>
                    <a:pt x="19" y="77"/>
                  </a:lnTo>
                  <a:lnTo>
                    <a:pt x="19" y="61"/>
                  </a:lnTo>
                  <a:lnTo>
                    <a:pt x="19" y="49"/>
                  </a:lnTo>
                  <a:lnTo>
                    <a:pt x="18" y="38"/>
                  </a:lnTo>
                  <a:lnTo>
                    <a:pt x="18" y="26"/>
                  </a:lnTo>
                  <a:lnTo>
                    <a:pt x="16" y="15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8" y="6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54"/>
                  </a:lnTo>
                  <a:lnTo>
                    <a:pt x="6" y="71"/>
                  </a:lnTo>
                  <a:lnTo>
                    <a:pt x="5" y="89"/>
                  </a:lnTo>
                  <a:lnTo>
                    <a:pt x="4" y="106"/>
                  </a:lnTo>
                  <a:lnTo>
                    <a:pt x="1" y="123"/>
                  </a:lnTo>
                  <a:close/>
                </a:path>
              </a:pathLst>
            </a:custGeom>
            <a:solidFill>
              <a:srgbClr val="f4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 flipH="1">
              <a:off x="7679520" y="3191040"/>
              <a:ext cx="19080" cy="126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5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3" y="12"/>
                  </a:lnTo>
                  <a:lnTo>
                    <a:pt x="18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7" y="5"/>
                  </a:lnTo>
                  <a:lnTo>
                    <a:pt x="10" y="8"/>
                  </a:lnTo>
                  <a:lnTo>
                    <a:pt x="5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4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H="1">
              <a:off x="7660440" y="3178080"/>
              <a:ext cx="19080" cy="176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6" y="20"/>
                  </a:lnTo>
                  <a:lnTo>
                    <a:pt x="13" y="16"/>
                  </a:lnTo>
                  <a:lnTo>
                    <a:pt x="19" y="13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9" y="5"/>
                  </a:lnTo>
                  <a:lnTo>
                    <a:pt x="12" y="8"/>
                  </a:lnTo>
                  <a:lnTo>
                    <a:pt x="6" y="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>
              <a:off x="6489360" y="3166920"/>
              <a:ext cx="17280" cy="115920"/>
            </a:xfrm>
            <a:custGeom>
              <a:avLst/>
              <a:gdLst/>
              <a:ahLst/>
              <a:rect l="l" t="t" r="r" b="b"/>
              <a:pathLst>
                <a:path w="21" h="147">
                  <a:moveTo>
                    <a:pt x="4" y="125"/>
                  </a:moveTo>
                  <a:lnTo>
                    <a:pt x="4" y="131"/>
                  </a:lnTo>
                  <a:lnTo>
                    <a:pt x="3" y="136"/>
                  </a:lnTo>
                  <a:lnTo>
                    <a:pt x="2" y="141"/>
                  </a:lnTo>
                  <a:lnTo>
                    <a:pt x="0" y="147"/>
                  </a:lnTo>
                  <a:lnTo>
                    <a:pt x="4" y="146"/>
                  </a:lnTo>
                  <a:lnTo>
                    <a:pt x="8" y="145"/>
                  </a:lnTo>
                  <a:lnTo>
                    <a:pt x="12" y="143"/>
                  </a:lnTo>
                  <a:lnTo>
                    <a:pt x="15" y="142"/>
                  </a:lnTo>
                  <a:lnTo>
                    <a:pt x="16" y="140"/>
                  </a:lnTo>
                  <a:lnTo>
                    <a:pt x="16" y="139"/>
                  </a:lnTo>
                  <a:lnTo>
                    <a:pt x="16" y="136"/>
                  </a:lnTo>
                  <a:lnTo>
                    <a:pt x="16" y="134"/>
                  </a:lnTo>
                  <a:lnTo>
                    <a:pt x="19" y="117"/>
                  </a:lnTo>
                  <a:lnTo>
                    <a:pt x="20" y="100"/>
                  </a:lnTo>
                  <a:lnTo>
                    <a:pt x="21" y="82"/>
                  </a:lnTo>
                  <a:lnTo>
                    <a:pt x="21" y="65"/>
                  </a:lnTo>
                  <a:lnTo>
                    <a:pt x="21" y="51"/>
                  </a:lnTo>
                  <a:lnTo>
                    <a:pt x="20" y="37"/>
                  </a:lnTo>
                  <a:lnTo>
                    <a:pt x="19" y="25"/>
                  </a:lnTo>
                  <a:lnTo>
                    <a:pt x="18" y="11"/>
                  </a:lnTo>
                  <a:lnTo>
                    <a:pt x="15" y="9"/>
                  </a:lnTo>
                  <a:lnTo>
                    <a:pt x="12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6" y="14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8" y="57"/>
                  </a:lnTo>
                  <a:lnTo>
                    <a:pt x="8" y="74"/>
                  </a:lnTo>
                  <a:lnTo>
                    <a:pt x="7" y="92"/>
                  </a:lnTo>
                  <a:lnTo>
                    <a:pt x="6" y="109"/>
                  </a:lnTo>
                  <a:lnTo>
                    <a:pt x="4" y="125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H="1">
              <a:off x="7652880" y="3189240"/>
              <a:ext cx="28800" cy="142920"/>
            </a:xfrm>
            <a:custGeom>
              <a:avLst/>
              <a:gdLst/>
              <a:ahLst/>
              <a:rect l="l" t="t" r="r" b="b"/>
              <a:pathLst>
                <a:path w="36" h="180">
                  <a:moveTo>
                    <a:pt x="18" y="179"/>
                  </a:moveTo>
                  <a:lnTo>
                    <a:pt x="21" y="180"/>
                  </a:lnTo>
                  <a:lnTo>
                    <a:pt x="23" y="180"/>
                  </a:lnTo>
                  <a:lnTo>
                    <a:pt x="25" y="180"/>
                  </a:lnTo>
                  <a:lnTo>
                    <a:pt x="27" y="180"/>
                  </a:lnTo>
                  <a:lnTo>
                    <a:pt x="30" y="16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7"/>
                  </a:lnTo>
                  <a:lnTo>
                    <a:pt x="32" y="137"/>
                  </a:lnTo>
                  <a:lnTo>
                    <a:pt x="33" y="137"/>
                  </a:lnTo>
                  <a:lnTo>
                    <a:pt x="34" y="137"/>
                  </a:lnTo>
                  <a:lnTo>
                    <a:pt x="36" y="137"/>
                  </a:lnTo>
                  <a:lnTo>
                    <a:pt x="30" y="111"/>
                  </a:lnTo>
                  <a:lnTo>
                    <a:pt x="26" y="84"/>
                  </a:lnTo>
                  <a:lnTo>
                    <a:pt x="25" y="58"/>
                  </a:lnTo>
                  <a:lnTo>
                    <a:pt x="24" y="30"/>
                  </a:lnTo>
                  <a:lnTo>
                    <a:pt x="24" y="27"/>
                  </a:lnTo>
                  <a:lnTo>
                    <a:pt x="24" y="23"/>
                  </a:lnTo>
                  <a:lnTo>
                    <a:pt x="24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7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74"/>
                  </a:lnTo>
                  <a:lnTo>
                    <a:pt x="4" y="110"/>
                  </a:lnTo>
                  <a:lnTo>
                    <a:pt x="10" y="144"/>
                  </a:lnTo>
                  <a:lnTo>
                    <a:pt x="18" y="179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H="1">
              <a:off x="7641360" y="3165480"/>
              <a:ext cx="19080" cy="19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6"/>
                  </a:move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6" y="22"/>
                  </a:lnTo>
                  <a:lnTo>
                    <a:pt x="13" y="17"/>
                  </a:lnTo>
                  <a:lnTo>
                    <a:pt x="19" y="14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19" y="5"/>
                  </a:lnTo>
                  <a:lnTo>
                    <a:pt x="13" y="8"/>
                  </a:lnTo>
                  <a:lnTo>
                    <a:pt x="6" y="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fb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H="1">
              <a:off x="6500520" y="3157560"/>
              <a:ext cx="15840" cy="130320"/>
            </a:xfrm>
            <a:custGeom>
              <a:avLst/>
              <a:gdLst/>
              <a:ahLst/>
              <a:rect l="l" t="t" r="r" b="b"/>
              <a:pathLst>
                <a:path w="19" h="164">
                  <a:moveTo>
                    <a:pt x="2" y="127"/>
                  </a:moveTo>
                  <a:lnTo>
                    <a:pt x="2" y="130"/>
                  </a:lnTo>
                  <a:lnTo>
                    <a:pt x="1" y="134"/>
                  </a:lnTo>
                  <a:lnTo>
                    <a:pt x="1" y="137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1" y="152"/>
                  </a:lnTo>
                  <a:lnTo>
                    <a:pt x="1" y="158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2" y="161"/>
                  </a:lnTo>
                  <a:lnTo>
                    <a:pt x="3" y="160"/>
                  </a:lnTo>
                  <a:lnTo>
                    <a:pt x="6" y="160"/>
                  </a:lnTo>
                  <a:lnTo>
                    <a:pt x="7" y="160"/>
                  </a:lnTo>
                  <a:lnTo>
                    <a:pt x="9" y="159"/>
                  </a:lnTo>
                  <a:lnTo>
                    <a:pt x="10" y="159"/>
                  </a:lnTo>
                  <a:lnTo>
                    <a:pt x="11" y="158"/>
                  </a:lnTo>
                  <a:lnTo>
                    <a:pt x="13" y="152"/>
                  </a:lnTo>
                  <a:lnTo>
                    <a:pt x="14" y="147"/>
                  </a:lnTo>
                  <a:lnTo>
                    <a:pt x="15" y="142"/>
                  </a:lnTo>
                  <a:lnTo>
                    <a:pt x="15" y="136"/>
                  </a:lnTo>
                  <a:lnTo>
                    <a:pt x="17" y="120"/>
                  </a:lnTo>
                  <a:lnTo>
                    <a:pt x="18" y="103"/>
                  </a:lnTo>
                  <a:lnTo>
                    <a:pt x="19" y="85"/>
                  </a:lnTo>
                  <a:lnTo>
                    <a:pt x="19" y="68"/>
                  </a:lnTo>
                  <a:lnTo>
                    <a:pt x="19" y="53"/>
                  </a:lnTo>
                  <a:lnTo>
                    <a:pt x="18" y="39"/>
                  </a:lnTo>
                  <a:lnTo>
                    <a:pt x="17" y="25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5"/>
                  </a:lnTo>
                  <a:lnTo>
                    <a:pt x="6" y="30"/>
                  </a:lnTo>
                  <a:lnTo>
                    <a:pt x="7" y="45"/>
                  </a:lnTo>
                  <a:lnTo>
                    <a:pt x="7" y="60"/>
                  </a:lnTo>
                  <a:lnTo>
                    <a:pt x="7" y="77"/>
                  </a:lnTo>
                  <a:lnTo>
                    <a:pt x="6" y="93"/>
                  </a:lnTo>
                  <a:lnTo>
                    <a:pt x="4" y="111"/>
                  </a:lnTo>
                  <a:lnTo>
                    <a:pt x="2" y="127"/>
                  </a:lnTo>
                  <a:close/>
                </a:path>
              </a:pathLst>
            </a:custGeom>
            <a:solidFill>
              <a:srgbClr val="efb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>
              <a:off x="7641360" y="3174840"/>
              <a:ext cx="19080" cy="270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4" y="16"/>
                  </a:moveTo>
                  <a:lnTo>
                    <a:pt x="24" y="11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0" y="4"/>
                  </a:lnTo>
                  <a:lnTo>
                    <a:pt x="13" y="8"/>
                  </a:lnTo>
                  <a:lnTo>
                    <a:pt x="7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6" y="29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efb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 flipH="1">
              <a:off x="7624440" y="3201840"/>
              <a:ext cx="38160" cy="130320"/>
            </a:xfrm>
            <a:custGeom>
              <a:avLst/>
              <a:gdLst/>
              <a:ahLst/>
              <a:rect l="l" t="t" r="r" b="b"/>
              <a:pathLst>
                <a:path w="48" h="165">
                  <a:moveTo>
                    <a:pt x="12" y="122"/>
                  </a:moveTo>
                  <a:lnTo>
                    <a:pt x="14" y="122"/>
                  </a:lnTo>
                  <a:lnTo>
                    <a:pt x="17" y="122"/>
                  </a:lnTo>
                  <a:lnTo>
                    <a:pt x="21" y="122"/>
                  </a:lnTo>
                  <a:lnTo>
                    <a:pt x="24" y="122"/>
                  </a:lnTo>
                  <a:lnTo>
                    <a:pt x="27" y="133"/>
                  </a:lnTo>
                  <a:lnTo>
                    <a:pt x="28" y="143"/>
                  </a:lnTo>
                  <a:lnTo>
                    <a:pt x="30" y="153"/>
                  </a:lnTo>
                  <a:lnTo>
                    <a:pt x="30" y="165"/>
                  </a:lnTo>
                  <a:lnTo>
                    <a:pt x="35" y="165"/>
                  </a:lnTo>
                  <a:lnTo>
                    <a:pt x="39" y="165"/>
                  </a:lnTo>
                  <a:lnTo>
                    <a:pt x="44" y="165"/>
                  </a:lnTo>
                  <a:lnTo>
                    <a:pt x="48" y="165"/>
                  </a:lnTo>
                  <a:lnTo>
                    <a:pt x="38" y="128"/>
                  </a:lnTo>
                  <a:lnTo>
                    <a:pt x="31" y="90"/>
                  </a:lnTo>
                  <a:lnTo>
                    <a:pt x="25" y="5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4"/>
                  </a:lnTo>
                  <a:lnTo>
                    <a:pt x="8" y="10"/>
                  </a:lnTo>
                  <a:lnTo>
                    <a:pt x="5" y="5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43"/>
                  </a:lnTo>
                  <a:lnTo>
                    <a:pt x="2" y="69"/>
                  </a:lnTo>
                  <a:lnTo>
                    <a:pt x="6" y="96"/>
                  </a:lnTo>
                  <a:lnTo>
                    <a:pt x="12" y="122"/>
                  </a:lnTo>
                  <a:close/>
                </a:path>
              </a:pathLst>
            </a:custGeom>
            <a:solidFill>
              <a:srgbClr val="efb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 flipH="1">
              <a:off x="7622280" y="3160800"/>
              <a:ext cx="19080" cy="2700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8" y="28"/>
                  </a:moveTo>
                  <a:lnTo>
                    <a:pt x="13" y="27"/>
                  </a:lnTo>
                  <a:lnTo>
                    <a:pt x="17" y="26"/>
                  </a:lnTo>
                  <a:lnTo>
                    <a:pt x="21" y="23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5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6" y="3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ed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 flipH="1">
              <a:off x="6509880" y="3149640"/>
              <a:ext cx="14400" cy="1206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4" y="71"/>
                  </a:moveTo>
                  <a:lnTo>
                    <a:pt x="6" y="73"/>
                  </a:lnTo>
                  <a:lnTo>
                    <a:pt x="9" y="77"/>
                  </a:lnTo>
                  <a:lnTo>
                    <a:pt x="11" y="79"/>
                  </a:lnTo>
                  <a:lnTo>
                    <a:pt x="13" y="81"/>
                  </a:lnTo>
                  <a:lnTo>
                    <a:pt x="13" y="91"/>
                  </a:lnTo>
                  <a:lnTo>
                    <a:pt x="12" y="99"/>
                  </a:lnTo>
                  <a:lnTo>
                    <a:pt x="10" y="108"/>
                  </a:lnTo>
                  <a:lnTo>
                    <a:pt x="10" y="117"/>
                  </a:lnTo>
                  <a:lnTo>
                    <a:pt x="10" y="125"/>
                  </a:lnTo>
                  <a:lnTo>
                    <a:pt x="11" y="133"/>
                  </a:lnTo>
                  <a:lnTo>
                    <a:pt x="11" y="142"/>
                  </a:lnTo>
                  <a:lnTo>
                    <a:pt x="11" y="152"/>
                  </a:lnTo>
                  <a:lnTo>
                    <a:pt x="12" y="147"/>
                  </a:lnTo>
                  <a:lnTo>
                    <a:pt x="12" y="144"/>
                  </a:lnTo>
                  <a:lnTo>
                    <a:pt x="13" y="140"/>
                  </a:lnTo>
                  <a:lnTo>
                    <a:pt x="13" y="137"/>
                  </a:lnTo>
                  <a:lnTo>
                    <a:pt x="15" y="121"/>
                  </a:lnTo>
                  <a:lnTo>
                    <a:pt x="17" y="103"/>
                  </a:lnTo>
                  <a:lnTo>
                    <a:pt x="18" y="87"/>
                  </a:lnTo>
                  <a:lnTo>
                    <a:pt x="18" y="70"/>
                  </a:lnTo>
                  <a:lnTo>
                    <a:pt x="18" y="55"/>
                  </a:lnTo>
                  <a:lnTo>
                    <a:pt x="17" y="40"/>
                  </a:lnTo>
                  <a:lnTo>
                    <a:pt x="15" y="25"/>
                  </a:lnTo>
                  <a:lnTo>
                    <a:pt x="14" y="10"/>
                  </a:lnTo>
                  <a:lnTo>
                    <a:pt x="11" y="8"/>
                  </a:lnTo>
                  <a:lnTo>
                    <a:pt x="7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16"/>
                  </a:lnTo>
                  <a:lnTo>
                    <a:pt x="4" y="31"/>
                  </a:lnTo>
                  <a:lnTo>
                    <a:pt x="5" y="47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5" y="66"/>
                  </a:lnTo>
                  <a:lnTo>
                    <a:pt x="4" y="69"/>
                  </a:lnTo>
                  <a:lnTo>
                    <a:pt x="4" y="71"/>
                  </a:lnTo>
                  <a:close/>
                </a:path>
              </a:pathLst>
            </a:custGeom>
            <a:solidFill>
              <a:srgbClr val="ed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>
              <a:off x="7609680" y="3198960"/>
              <a:ext cx="33480" cy="133200"/>
            </a:xfrm>
            <a:custGeom>
              <a:avLst/>
              <a:gdLst/>
              <a:ahLst/>
              <a:rect l="l" t="t" r="r" b="b"/>
              <a:pathLst>
                <a:path w="43" h="167">
                  <a:moveTo>
                    <a:pt x="29" y="167"/>
                  </a:moveTo>
                  <a:lnTo>
                    <a:pt x="32" y="160"/>
                  </a:lnTo>
                  <a:lnTo>
                    <a:pt x="36" y="153"/>
                  </a:lnTo>
                  <a:lnTo>
                    <a:pt x="39" y="147"/>
                  </a:lnTo>
                  <a:lnTo>
                    <a:pt x="43" y="142"/>
                  </a:lnTo>
                  <a:lnTo>
                    <a:pt x="35" y="108"/>
                  </a:lnTo>
                  <a:lnTo>
                    <a:pt x="29" y="74"/>
                  </a:lnTo>
                  <a:lnTo>
                    <a:pt x="24" y="3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3" y="7"/>
                  </a:lnTo>
                  <a:lnTo>
                    <a:pt x="6" y="10"/>
                  </a:lnTo>
                  <a:lnTo>
                    <a:pt x="0" y="14"/>
                  </a:lnTo>
                  <a:lnTo>
                    <a:pt x="1" y="53"/>
                  </a:lnTo>
                  <a:lnTo>
                    <a:pt x="7" y="92"/>
                  </a:lnTo>
                  <a:lnTo>
                    <a:pt x="14" y="130"/>
                  </a:lnTo>
                  <a:lnTo>
                    <a:pt x="24" y="167"/>
                  </a:lnTo>
                  <a:lnTo>
                    <a:pt x="26" y="167"/>
                  </a:lnTo>
                  <a:lnTo>
                    <a:pt x="27" y="167"/>
                  </a:lnTo>
                  <a:lnTo>
                    <a:pt x="28" y="167"/>
                  </a:lnTo>
                  <a:lnTo>
                    <a:pt x="29" y="167"/>
                  </a:lnTo>
                  <a:close/>
                </a:path>
              </a:pathLst>
            </a:custGeom>
            <a:solidFill>
              <a:srgbClr val="ed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 flipH="1">
              <a:off x="7620840" y="3151080"/>
              <a:ext cx="20520" cy="223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7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5" y="24"/>
                  </a:lnTo>
                  <a:lnTo>
                    <a:pt x="12" y="19"/>
                  </a:lnTo>
                  <a:lnTo>
                    <a:pt x="18" y="16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9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 flipH="1">
              <a:off x="7582680" y="3186000"/>
              <a:ext cx="41400" cy="141480"/>
            </a:xfrm>
            <a:custGeom>
              <a:avLst/>
              <a:gdLst/>
              <a:ahLst/>
              <a:rect l="l" t="t" r="r" b="b"/>
              <a:pathLst>
                <a:path w="52" h="177">
                  <a:moveTo>
                    <a:pt x="20" y="158"/>
                  </a:moveTo>
                  <a:lnTo>
                    <a:pt x="21" y="156"/>
                  </a:lnTo>
                  <a:lnTo>
                    <a:pt x="22" y="155"/>
                  </a:lnTo>
                  <a:lnTo>
                    <a:pt x="22" y="155"/>
                  </a:lnTo>
                  <a:lnTo>
                    <a:pt x="23" y="154"/>
                  </a:lnTo>
                  <a:lnTo>
                    <a:pt x="30" y="158"/>
                  </a:lnTo>
                  <a:lnTo>
                    <a:pt x="35" y="161"/>
                  </a:lnTo>
                  <a:lnTo>
                    <a:pt x="36" y="167"/>
                  </a:lnTo>
                  <a:lnTo>
                    <a:pt x="36" y="177"/>
                  </a:lnTo>
                  <a:lnTo>
                    <a:pt x="39" y="177"/>
                  </a:lnTo>
                  <a:lnTo>
                    <a:pt x="44" y="177"/>
                  </a:lnTo>
                  <a:lnTo>
                    <a:pt x="48" y="177"/>
                  </a:lnTo>
                  <a:lnTo>
                    <a:pt x="52" y="177"/>
                  </a:lnTo>
                  <a:lnTo>
                    <a:pt x="41" y="137"/>
                  </a:lnTo>
                  <a:lnTo>
                    <a:pt x="31" y="95"/>
                  </a:lnTo>
                  <a:lnTo>
                    <a:pt x="27" y="54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8"/>
                  </a:lnTo>
                  <a:lnTo>
                    <a:pt x="7" y="11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55"/>
                  </a:lnTo>
                  <a:lnTo>
                    <a:pt x="6" y="90"/>
                  </a:lnTo>
                  <a:lnTo>
                    <a:pt x="12" y="124"/>
                  </a:lnTo>
                  <a:lnTo>
                    <a:pt x="20" y="158"/>
                  </a:lnTo>
                  <a:close/>
                </a:path>
              </a:pathLst>
            </a:custGeom>
            <a:solidFill>
              <a:srgbClr val="ea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 flipH="1">
              <a:off x="6536880" y="3270240"/>
              <a:ext cx="648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7" y="29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7" y="0"/>
                  </a:lnTo>
                  <a:lnTo>
                    <a:pt x="6" y="8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ea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>
              <a:off x="6519600" y="3141720"/>
              <a:ext cx="15840" cy="6516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13" y="75"/>
                  </a:moveTo>
                  <a:lnTo>
                    <a:pt x="15" y="76"/>
                  </a:lnTo>
                  <a:lnTo>
                    <a:pt x="16" y="79"/>
                  </a:lnTo>
                  <a:lnTo>
                    <a:pt x="16" y="80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58"/>
                  </a:lnTo>
                  <a:lnTo>
                    <a:pt x="17" y="42"/>
                  </a:lnTo>
                  <a:lnTo>
                    <a:pt x="15" y="27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16"/>
                  </a:lnTo>
                  <a:lnTo>
                    <a:pt x="3" y="31"/>
                  </a:lnTo>
                  <a:lnTo>
                    <a:pt x="4" y="47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9" y="71"/>
                  </a:lnTo>
                  <a:lnTo>
                    <a:pt x="11" y="73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ea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 flipH="1">
              <a:off x="7600320" y="3135240"/>
              <a:ext cx="21960" cy="4284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0" y="44"/>
                  </a:moveTo>
                  <a:lnTo>
                    <a:pt x="21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4" y="42"/>
                  </a:lnTo>
                  <a:lnTo>
                    <a:pt x="25" y="31"/>
                  </a:lnTo>
                  <a:lnTo>
                    <a:pt x="26" y="21"/>
                  </a:lnTo>
                  <a:lnTo>
                    <a:pt x="27" y="11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21" y="6"/>
                  </a:lnTo>
                  <a:lnTo>
                    <a:pt x="18" y="8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4" y="52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ea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 flipH="1">
              <a:off x="6530760" y="3130560"/>
              <a:ext cx="15840" cy="6192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0" y="66"/>
                  </a:moveTo>
                  <a:lnTo>
                    <a:pt x="12" y="68"/>
                  </a:lnTo>
                  <a:lnTo>
                    <a:pt x="15" y="72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18" y="61"/>
                  </a:lnTo>
                  <a:lnTo>
                    <a:pt x="17" y="45"/>
                  </a:lnTo>
                  <a:lnTo>
                    <a:pt x="16" y="30"/>
                  </a:lnTo>
                  <a:lnTo>
                    <a:pt x="14" y="14"/>
                  </a:lnTo>
                  <a:lnTo>
                    <a:pt x="11" y="10"/>
                  </a:lnTo>
                  <a:lnTo>
                    <a:pt x="8" y="6"/>
                  </a:lnTo>
                  <a:lnTo>
                    <a:pt x="4" y="3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5"/>
                  </a:lnTo>
                  <a:lnTo>
                    <a:pt x="6" y="52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8" y="68"/>
                  </a:lnTo>
                  <a:lnTo>
                    <a:pt x="9" y="67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e8b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 flipH="1">
              <a:off x="6536520" y="3213000"/>
              <a:ext cx="17640" cy="81000"/>
            </a:xfrm>
            <a:custGeom>
              <a:avLst/>
              <a:gdLst/>
              <a:ahLst/>
              <a:rect l="l" t="t" r="r" b="b"/>
              <a:pathLst>
                <a:path w="22" h="103">
                  <a:moveTo>
                    <a:pt x="0" y="103"/>
                  </a:moveTo>
                  <a:lnTo>
                    <a:pt x="3" y="103"/>
                  </a:lnTo>
                  <a:lnTo>
                    <a:pt x="6" y="103"/>
                  </a:lnTo>
                  <a:lnTo>
                    <a:pt x="10" y="103"/>
                  </a:lnTo>
                  <a:lnTo>
                    <a:pt x="13" y="101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15" y="101"/>
                  </a:lnTo>
                  <a:lnTo>
                    <a:pt x="15" y="101"/>
                  </a:lnTo>
                  <a:lnTo>
                    <a:pt x="18" y="93"/>
                  </a:lnTo>
                  <a:lnTo>
                    <a:pt x="19" y="87"/>
                  </a:lnTo>
                  <a:lnTo>
                    <a:pt x="21" y="80"/>
                  </a:lnTo>
                  <a:lnTo>
                    <a:pt x="22" y="72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5"/>
                  </a:lnTo>
                  <a:lnTo>
                    <a:pt x="16" y="22"/>
                  </a:lnTo>
                  <a:lnTo>
                    <a:pt x="15" y="30"/>
                  </a:lnTo>
                  <a:lnTo>
                    <a:pt x="12" y="48"/>
                  </a:lnTo>
                  <a:lnTo>
                    <a:pt x="8" y="66"/>
                  </a:lnTo>
                  <a:lnTo>
                    <a:pt x="5" y="84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e8b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>
              <a:off x="7579440" y="3117960"/>
              <a:ext cx="24120" cy="50760"/>
            </a:xfrm>
            <a:custGeom>
              <a:avLst/>
              <a:gdLst/>
              <a:ahLst/>
              <a:rect l="l" t="t" r="r" b="b"/>
              <a:pathLst>
                <a:path w="31" h="64">
                  <a:moveTo>
                    <a:pt x="23" y="50"/>
                  </a:moveTo>
                  <a:lnTo>
                    <a:pt x="23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5" y="36"/>
                  </a:lnTo>
                  <a:lnTo>
                    <a:pt x="26" y="24"/>
                  </a:lnTo>
                  <a:lnTo>
                    <a:pt x="29" y="12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3"/>
                  </a:lnTo>
                  <a:lnTo>
                    <a:pt x="24" y="5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4" y="22"/>
                  </a:lnTo>
                  <a:lnTo>
                    <a:pt x="3" y="33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6" y="60"/>
                  </a:lnTo>
                  <a:lnTo>
                    <a:pt x="12" y="57"/>
                  </a:lnTo>
                  <a:lnTo>
                    <a:pt x="18" y="53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e8b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 flipH="1">
              <a:off x="7562160" y="3174840"/>
              <a:ext cx="42840" cy="152640"/>
            </a:xfrm>
            <a:custGeom>
              <a:avLst/>
              <a:gdLst/>
              <a:ahLst/>
              <a:rect l="l" t="t" r="r" b="b"/>
              <a:pathLst>
                <a:path w="56" h="192">
                  <a:moveTo>
                    <a:pt x="28" y="192"/>
                  </a:moveTo>
                  <a:lnTo>
                    <a:pt x="35" y="192"/>
                  </a:lnTo>
                  <a:lnTo>
                    <a:pt x="42" y="192"/>
                  </a:lnTo>
                  <a:lnTo>
                    <a:pt x="49" y="192"/>
                  </a:lnTo>
                  <a:lnTo>
                    <a:pt x="55" y="19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43" y="151"/>
                  </a:lnTo>
                  <a:lnTo>
                    <a:pt x="33" y="107"/>
                  </a:lnTo>
                  <a:lnTo>
                    <a:pt x="27" y="64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7"/>
                  </a:lnTo>
                  <a:lnTo>
                    <a:pt x="9" y="10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3" y="69"/>
                  </a:lnTo>
                  <a:lnTo>
                    <a:pt x="7" y="110"/>
                  </a:lnTo>
                  <a:lnTo>
                    <a:pt x="17" y="152"/>
                  </a:lnTo>
                  <a:lnTo>
                    <a:pt x="28" y="192"/>
                  </a:lnTo>
                  <a:close/>
                </a:path>
              </a:pathLst>
            </a:custGeom>
            <a:solidFill>
              <a:srgbClr val="e8b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 flipH="1">
              <a:off x="7558920" y="3108240"/>
              <a:ext cx="25560" cy="478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5" y="54"/>
                  </a:moveTo>
                  <a:lnTo>
                    <a:pt x="18" y="52"/>
                  </a:lnTo>
                  <a:lnTo>
                    <a:pt x="21" y="50"/>
                  </a:lnTo>
                  <a:lnTo>
                    <a:pt x="22" y="48"/>
                  </a:lnTo>
                  <a:lnTo>
                    <a:pt x="24" y="47"/>
                  </a:lnTo>
                  <a:lnTo>
                    <a:pt x="26" y="35"/>
                  </a:lnTo>
                  <a:lnTo>
                    <a:pt x="28" y="23"/>
                  </a:lnTo>
                  <a:lnTo>
                    <a:pt x="30" y="11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23"/>
                  </a:lnTo>
                  <a:lnTo>
                    <a:pt x="2" y="35"/>
                  </a:lnTo>
                  <a:lnTo>
                    <a:pt x="1" y="47"/>
                  </a:lnTo>
                  <a:lnTo>
                    <a:pt x="0" y="60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1" y="56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 flipH="1">
              <a:off x="7540200" y="3160800"/>
              <a:ext cx="46080" cy="166680"/>
            </a:xfrm>
            <a:custGeom>
              <a:avLst/>
              <a:gdLst/>
              <a:ahLst/>
              <a:rect l="l" t="t" r="r" b="b"/>
              <a:pathLst>
                <a:path w="58" h="210">
                  <a:moveTo>
                    <a:pt x="31" y="210"/>
                  </a:moveTo>
                  <a:lnTo>
                    <a:pt x="39" y="208"/>
                  </a:lnTo>
                  <a:lnTo>
                    <a:pt x="46" y="207"/>
                  </a:lnTo>
                  <a:lnTo>
                    <a:pt x="53" y="207"/>
                  </a:lnTo>
                  <a:lnTo>
                    <a:pt x="58" y="207"/>
                  </a:lnTo>
                  <a:lnTo>
                    <a:pt x="50" y="186"/>
                  </a:lnTo>
                  <a:lnTo>
                    <a:pt x="43" y="164"/>
                  </a:lnTo>
                  <a:lnTo>
                    <a:pt x="38" y="142"/>
                  </a:lnTo>
                  <a:lnTo>
                    <a:pt x="33" y="120"/>
                  </a:lnTo>
                  <a:lnTo>
                    <a:pt x="28" y="98"/>
                  </a:lnTo>
                  <a:lnTo>
                    <a:pt x="26" y="76"/>
                  </a:lnTo>
                  <a:lnTo>
                    <a:pt x="25" y="53"/>
                  </a:lnTo>
                  <a:lnTo>
                    <a:pt x="24" y="30"/>
                  </a:lnTo>
                  <a:lnTo>
                    <a:pt x="24" y="22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2" y="82"/>
                  </a:lnTo>
                  <a:lnTo>
                    <a:pt x="8" y="125"/>
                  </a:lnTo>
                  <a:lnTo>
                    <a:pt x="18" y="169"/>
                  </a:lnTo>
                  <a:lnTo>
                    <a:pt x="31" y="21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>
              <a:off x="6541200" y="3122640"/>
              <a:ext cx="25560" cy="171360"/>
            </a:xfrm>
            <a:custGeom>
              <a:avLst/>
              <a:gdLst/>
              <a:ahLst/>
              <a:rect l="l" t="t" r="r" b="b"/>
              <a:pathLst>
                <a:path w="33" h="217">
                  <a:moveTo>
                    <a:pt x="18" y="135"/>
                  </a:moveTo>
                  <a:lnTo>
                    <a:pt x="14" y="154"/>
                  </a:lnTo>
                  <a:lnTo>
                    <a:pt x="11" y="174"/>
                  </a:lnTo>
                  <a:lnTo>
                    <a:pt x="5" y="194"/>
                  </a:lnTo>
                  <a:lnTo>
                    <a:pt x="0" y="213"/>
                  </a:lnTo>
                  <a:lnTo>
                    <a:pt x="4" y="214"/>
                  </a:lnTo>
                  <a:lnTo>
                    <a:pt x="8" y="215"/>
                  </a:lnTo>
                  <a:lnTo>
                    <a:pt x="12" y="217"/>
                  </a:lnTo>
                  <a:lnTo>
                    <a:pt x="15" y="217"/>
                  </a:lnTo>
                  <a:lnTo>
                    <a:pt x="20" y="198"/>
                  </a:lnTo>
                  <a:lnTo>
                    <a:pt x="23" y="180"/>
                  </a:lnTo>
                  <a:lnTo>
                    <a:pt x="27" y="162"/>
                  </a:lnTo>
                  <a:lnTo>
                    <a:pt x="30" y="144"/>
                  </a:lnTo>
                  <a:lnTo>
                    <a:pt x="31" y="136"/>
                  </a:lnTo>
                  <a:lnTo>
                    <a:pt x="31" y="129"/>
                  </a:lnTo>
                  <a:lnTo>
                    <a:pt x="31" y="122"/>
                  </a:lnTo>
                  <a:lnTo>
                    <a:pt x="31" y="114"/>
                  </a:lnTo>
                  <a:lnTo>
                    <a:pt x="31" y="109"/>
                  </a:lnTo>
                  <a:lnTo>
                    <a:pt x="31" y="104"/>
                  </a:lnTo>
                  <a:lnTo>
                    <a:pt x="30" y="98"/>
                  </a:lnTo>
                  <a:lnTo>
                    <a:pt x="28" y="92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5" y="83"/>
                  </a:lnTo>
                  <a:lnTo>
                    <a:pt x="25" y="82"/>
                  </a:lnTo>
                  <a:lnTo>
                    <a:pt x="25" y="80"/>
                  </a:lnTo>
                  <a:lnTo>
                    <a:pt x="27" y="8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30" y="80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62"/>
                  </a:lnTo>
                  <a:lnTo>
                    <a:pt x="31" y="45"/>
                  </a:lnTo>
                  <a:lnTo>
                    <a:pt x="29" y="28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6" y="18"/>
                  </a:lnTo>
                  <a:lnTo>
                    <a:pt x="19" y="37"/>
                  </a:lnTo>
                  <a:lnTo>
                    <a:pt x="20" y="56"/>
                  </a:lnTo>
                  <a:lnTo>
                    <a:pt x="20" y="75"/>
                  </a:lnTo>
                  <a:lnTo>
                    <a:pt x="20" y="90"/>
                  </a:lnTo>
                  <a:lnTo>
                    <a:pt x="20" y="105"/>
                  </a:lnTo>
                  <a:lnTo>
                    <a:pt x="19" y="120"/>
                  </a:lnTo>
                  <a:lnTo>
                    <a:pt x="18" y="135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 flipH="1">
              <a:off x="7538400" y="309888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4" y="58"/>
                  </a:moveTo>
                  <a:lnTo>
                    <a:pt x="8" y="57"/>
                  </a:lnTo>
                  <a:lnTo>
                    <a:pt x="13" y="55"/>
                  </a:lnTo>
                  <a:lnTo>
                    <a:pt x="16" y="53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4" y="47"/>
                  </a:lnTo>
                  <a:lnTo>
                    <a:pt x="27" y="36"/>
                  </a:lnTo>
                  <a:lnTo>
                    <a:pt x="29" y="23"/>
                  </a:lnTo>
                  <a:lnTo>
                    <a:pt x="31" y="1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6" y="24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 flipH="1">
              <a:off x="6551280" y="3114720"/>
              <a:ext cx="25200" cy="17784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16" y="136"/>
                  </a:moveTo>
                  <a:lnTo>
                    <a:pt x="12" y="154"/>
                  </a:lnTo>
                  <a:lnTo>
                    <a:pt x="9" y="171"/>
                  </a:lnTo>
                  <a:lnTo>
                    <a:pt x="4" y="190"/>
                  </a:lnTo>
                  <a:lnTo>
                    <a:pt x="0" y="208"/>
                  </a:lnTo>
                  <a:lnTo>
                    <a:pt x="1" y="213"/>
                  </a:lnTo>
                  <a:lnTo>
                    <a:pt x="2" y="216"/>
                  </a:lnTo>
                  <a:lnTo>
                    <a:pt x="2" y="220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3" y="222"/>
                  </a:lnTo>
                  <a:lnTo>
                    <a:pt x="6" y="222"/>
                  </a:lnTo>
                  <a:lnTo>
                    <a:pt x="7" y="223"/>
                  </a:lnTo>
                  <a:lnTo>
                    <a:pt x="9" y="223"/>
                  </a:lnTo>
                  <a:lnTo>
                    <a:pt x="10" y="223"/>
                  </a:lnTo>
                  <a:lnTo>
                    <a:pt x="11" y="223"/>
                  </a:lnTo>
                  <a:lnTo>
                    <a:pt x="16" y="204"/>
                  </a:lnTo>
                  <a:lnTo>
                    <a:pt x="22" y="184"/>
                  </a:lnTo>
                  <a:lnTo>
                    <a:pt x="25" y="164"/>
                  </a:lnTo>
                  <a:lnTo>
                    <a:pt x="29" y="145"/>
                  </a:lnTo>
                  <a:lnTo>
                    <a:pt x="30" y="130"/>
                  </a:lnTo>
                  <a:lnTo>
                    <a:pt x="31" y="115"/>
                  </a:lnTo>
                  <a:lnTo>
                    <a:pt x="31" y="100"/>
                  </a:lnTo>
                  <a:lnTo>
                    <a:pt x="31" y="85"/>
                  </a:lnTo>
                  <a:lnTo>
                    <a:pt x="31" y="66"/>
                  </a:lnTo>
                  <a:lnTo>
                    <a:pt x="30" y="47"/>
                  </a:lnTo>
                  <a:lnTo>
                    <a:pt x="27" y="28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18" y="4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4" y="19"/>
                  </a:lnTo>
                  <a:lnTo>
                    <a:pt x="16" y="38"/>
                  </a:lnTo>
                  <a:lnTo>
                    <a:pt x="17" y="57"/>
                  </a:lnTo>
                  <a:lnTo>
                    <a:pt x="18" y="77"/>
                  </a:lnTo>
                  <a:lnTo>
                    <a:pt x="18" y="92"/>
                  </a:lnTo>
                  <a:lnTo>
                    <a:pt x="18" y="106"/>
                  </a:lnTo>
                  <a:lnTo>
                    <a:pt x="17" y="121"/>
                  </a:lnTo>
                  <a:lnTo>
                    <a:pt x="16" y="13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 flipH="1">
              <a:off x="7519680" y="3148200"/>
              <a:ext cx="47520" cy="17604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34" y="224"/>
                  </a:moveTo>
                  <a:lnTo>
                    <a:pt x="36" y="224"/>
                  </a:lnTo>
                  <a:lnTo>
                    <a:pt x="37" y="224"/>
                  </a:lnTo>
                  <a:lnTo>
                    <a:pt x="38" y="224"/>
                  </a:lnTo>
                  <a:lnTo>
                    <a:pt x="39" y="224"/>
                  </a:lnTo>
                  <a:lnTo>
                    <a:pt x="45" y="223"/>
                  </a:lnTo>
                  <a:lnTo>
                    <a:pt x="49" y="221"/>
                  </a:lnTo>
                  <a:lnTo>
                    <a:pt x="55" y="220"/>
                  </a:lnTo>
                  <a:lnTo>
                    <a:pt x="60" y="219"/>
                  </a:lnTo>
                  <a:lnTo>
                    <a:pt x="52" y="197"/>
                  </a:lnTo>
                  <a:lnTo>
                    <a:pt x="45" y="176"/>
                  </a:lnTo>
                  <a:lnTo>
                    <a:pt x="38" y="155"/>
                  </a:lnTo>
                  <a:lnTo>
                    <a:pt x="33" y="131"/>
                  </a:lnTo>
                  <a:lnTo>
                    <a:pt x="30" y="110"/>
                  </a:lnTo>
                  <a:lnTo>
                    <a:pt x="26" y="87"/>
                  </a:lnTo>
                  <a:lnTo>
                    <a:pt x="25" y="62"/>
                  </a:lnTo>
                  <a:lnTo>
                    <a:pt x="24" y="39"/>
                  </a:lnTo>
                  <a:lnTo>
                    <a:pt x="24" y="30"/>
                  </a:lnTo>
                  <a:lnTo>
                    <a:pt x="25" y="20"/>
                  </a:lnTo>
                  <a:lnTo>
                    <a:pt x="25" y="9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1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1" y="70"/>
                  </a:lnTo>
                  <a:lnTo>
                    <a:pt x="2" y="93"/>
                  </a:lnTo>
                  <a:lnTo>
                    <a:pt x="4" y="115"/>
                  </a:lnTo>
                  <a:lnTo>
                    <a:pt x="9" y="137"/>
                  </a:lnTo>
                  <a:lnTo>
                    <a:pt x="14" y="159"/>
                  </a:lnTo>
                  <a:lnTo>
                    <a:pt x="19" y="181"/>
                  </a:lnTo>
                  <a:lnTo>
                    <a:pt x="26" y="203"/>
                  </a:lnTo>
                  <a:lnTo>
                    <a:pt x="34" y="224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>
              <a:off x="7499160" y="3135240"/>
              <a:ext cx="48960" cy="185760"/>
            </a:xfrm>
            <a:custGeom>
              <a:avLst/>
              <a:gdLst/>
              <a:ahLst/>
              <a:rect l="l" t="t" r="r" b="b"/>
              <a:pathLst>
                <a:path w="62" h="234">
                  <a:moveTo>
                    <a:pt x="36" y="234"/>
                  </a:moveTo>
                  <a:lnTo>
                    <a:pt x="39" y="233"/>
                  </a:lnTo>
                  <a:lnTo>
                    <a:pt x="42" y="233"/>
                  </a:lnTo>
                  <a:lnTo>
                    <a:pt x="45" y="233"/>
                  </a:lnTo>
                  <a:lnTo>
                    <a:pt x="47" y="232"/>
                  </a:lnTo>
                  <a:lnTo>
                    <a:pt x="52" y="231"/>
                  </a:lnTo>
                  <a:lnTo>
                    <a:pt x="55" y="229"/>
                  </a:lnTo>
                  <a:lnTo>
                    <a:pt x="59" y="229"/>
                  </a:lnTo>
                  <a:lnTo>
                    <a:pt x="62" y="228"/>
                  </a:lnTo>
                  <a:lnTo>
                    <a:pt x="54" y="210"/>
                  </a:lnTo>
                  <a:lnTo>
                    <a:pt x="47" y="190"/>
                  </a:lnTo>
                  <a:lnTo>
                    <a:pt x="42" y="171"/>
                  </a:lnTo>
                  <a:lnTo>
                    <a:pt x="37" y="150"/>
                  </a:lnTo>
                  <a:lnTo>
                    <a:pt x="32" y="129"/>
                  </a:lnTo>
                  <a:lnTo>
                    <a:pt x="29" y="108"/>
                  </a:lnTo>
                  <a:lnTo>
                    <a:pt x="27" y="88"/>
                  </a:lnTo>
                  <a:lnTo>
                    <a:pt x="24" y="67"/>
                  </a:lnTo>
                  <a:lnTo>
                    <a:pt x="21" y="69"/>
                  </a:lnTo>
                  <a:lnTo>
                    <a:pt x="17" y="72"/>
                  </a:lnTo>
                  <a:lnTo>
                    <a:pt x="14" y="75"/>
                  </a:lnTo>
                  <a:lnTo>
                    <a:pt x="12" y="77"/>
                  </a:lnTo>
                  <a:lnTo>
                    <a:pt x="9" y="73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1" y="58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4" y="49"/>
                  </a:lnTo>
                  <a:lnTo>
                    <a:pt x="18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3" y="42"/>
                  </a:lnTo>
                  <a:lnTo>
                    <a:pt x="24" y="40"/>
                  </a:lnTo>
                  <a:lnTo>
                    <a:pt x="24" y="30"/>
                  </a:lnTo>
                  <a:lnTo>
                    <a:pt x="25" y="20"/>
                  </a:lnTo>
                  <a:lnTo>
                    <a:pt x="25" y="11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77"/>
                  </a:lnTo>
                  <a:lnTo>
                    <a:pt x="2" y="102"/>
                  </a:lnTo>
                  <a:lnTo>
                    <a:pt x="6" y="125"/>
                  </a:lnTo>
                  <a:lnTo>
                    <a:pt x="9" y="146"/>
                  </a:lnTo>
                  <a:lnTo>
                    <a:pt x="14" y="170"/>
                  </a:lnTo>
                  <a:lnTo>
                    <a:pt x="21" y="191"/>
                  </a:lnTo>
                  <a:lnTo>
                    <a:pt x="28" y="212"/>
                  </a:lnTo>
                  <a:lnTo>
                    <a:pt x="36" y="234"/>
                  </a:lnTo>
                  <a:close/>
                </a:path>
              </a:pathLst>
            </a:custGeom>
            <a:solidFill>
              <a:srgbClr val="e0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 flipH="1">
              <a:off x="7519320" y="3087720"/>
              <a:ext cx="27000" cy="493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10" y="55"/>
                  </a:moveTo>
                  <a:lnTo>
                    <a:pt x="13" y="53"/>
                  </a:lnTo>
                  <a:lnTo>
                    <a:pt x="18" y="52"/>
                  </a:lnTo>
                  <a:lnTo>
                    <a:pt x="21" y="50"/>
                  </a:lnTo>
                  <a:lnTo>
                    <a:pt x="26" y="47"/>
                  </a:lnTo>
                  <a:lnTo>
                    <a:pt x="28" y="36"/>
                  </a:lnTo>
                  <a:lnTo>
                    <a:pt x="30" y="23"/>
                  </a:lnTo>
                  <a:lnTo>
                    <a:pt x="33" y="1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7" y="27"/>
                  </a:lnTo>
                  <a:lnTo>
                    <a:pt x="5" y="38"/>
                  </a:lnTo>
                  <a:lnTo>
                    <a:pt x="3" y="51"/>
                  </a:lnTo>
                  <a:lnTo>
                    <a:pt x="0" y="62"/>
                  </a:lnTo>
                  <a:lnTo>
                    <a:pt x="3" y="60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10" y="55"/>
                  </a:lnTo>
                  <a:close/>
                </a:path>
              </a:pathLst>
            </a:custGeom>
            <a:solidFill>
              <a:srgbClr val="e0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 flipH="1">
              <a:off x="6560640" y="3106800"/>
              <a:ext cx="20880" cy="173160"/>
            </a:xfrm>
            <a:custGeom>
              <a:avLst/>
              <a:gdLst/>
              <a:ahLst/>
              <a:rect l="l" t="t" r="r" b="b"/>
              <a:pathLst>
                <a:path w="25" h="218">
                  <a:moveTo>
                    <a:pt x="10" y="136"/>
                  </a:moveTo>
                  <a:lnTo>
                    <a:pt x="8" y="150"/>
                  </a:lnTo>
                  <a:lnTo>
                    <a:pt x="6" y="164"/>
                  </a:lnTo>
                  <a:lnTo>
                    <a:pt x="2" y="178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" y="200"/>
                  </a:lnTo>
                  <a:lnTo>
                    <a:pt x="4" y="207"/>
                  </a:lnTo>
                  <a:lnTo>
                    <a:pt x="6" y="212"/>
                  </a:lnTo>
                  <a:lnTo>
                    <a:pt x="7" y="218"/>
                  </a:lnTo>
                  <a:lnTo>
                    <a:pt x="11" y="200"/>
                  </a:lnTo>
                  <a:lnTo>
                    <a:pt x="16" y="181"/>
                  </a:lnTo>
                  <a:lnTo>
                    <a:pt x="19" y="164"/>
                  </a:lnTo>
                  <a:lnTo>
                    <a:pt x="23" y="146"/>
                  </a:lnTo>
                  <a:lnTo>
                    <a:pt x="24" y="131"/>
                  </a:lnTo>
                  <a:lnTo>
                    <a:pt x="25" y="116"/>
                  </a:lnTo>
                  <a:lnTo>
                    <a:pt x="25" y="102"/>
                  </a:lnTo>
                  <a:lnTo>
                    <a:pt x="25" y="87"/>
                  </a:lnTo>
                  <a:lnTo>
                    <a:pt x="24" y="67"/>
                  </a:lnTo>
                  <a:lnTo>
                    <a:pt x="23" y="48"/>
                  </a:lnTo>
                  <a:lnTo>
                    <a:pt x="21" y="29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8" y="20"/>
                  </a:lnTo>
                  <a:lnTo>
                    <a:pt x="10" y="40"/>
                  </a:lnTo>
                  <a:lnTo>
                    <a:pt x="11" y="59"/>
                  </a:lnTo>
                  <a:lnTo>
                    <a:pt x="13" y="80"/>
                  </a:lnTo>
                  <a:lnTo>
                    <a:pt x="13" y="94"/>
                  </a:lnTo>
                  <a:lnTo>
                    <a:pt x="13" y="108"/>
                  </a:lnTo>
                  <a:lnTo>
                    <a:pt x="11" y="12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e0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>
              <a:off x="6592680" y="329580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0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H="1">
              <a:off x="6571440" y="3100320"/>
              <a:ext cx="17640" cy="158760"/>
            </a:xfrm>
            <a:custGeom>
              <a:avLst/>
              <a:gdLst/>
              <a:ahLst/>
              <a:rect l="l" t="t" r="r" b="b"/>
              <a:pathLst>
                <a:path w="22" h="200">
                  <a:moveTo>
                    <a:pt x="7" y="134"/>
                  </a:moveTo>
                  <a:lnTo>
                    <a:pt x="5" y="144"/>
                  </a:lnTo>
                  <a:lnTo>
                    <a:pt x="3" y="154"/>
                  </a:lnTo>
                  <a:lnTo>
                    <a:pt x="2" y="164"/>
                  </a:lnTo>
                  <a:lnTo>
                    <a:pt x="0" y="174"/>
                  </a:lnTo>
                  <a:lnTo>
                    <a:pt x="2" y="181"/>
                  </a:lnTo>
                  <a:lnTo>
                    <a:pt x="4" y="188"/>
                  </a:lnTo>
                  <a:lnTo>
                    <a:pt x="7" y="194"/>
                  </a:lnTo>
                  <a:lnTo>
                    <a:pt x="9" y="200"/>
                  </a:lnTo>
                  <a:lnTo>
                    <a:pt x="11" y="186"/>
                  </a:lnTo>
                  <a:lnTo>
                    <a:pt x="15" y="172"/>
                  </a:lnTo>
                  <a:lnTo>
                    <a:pt x="17" y="158"/>
                  </a:lnTo>
                  <a:lnTo>
                    <a:pt x="19" y="144"/>
                  </a:lnTo>
                  <a:lnTo>
                    <a:pt x="20" y="129"/>
                  </a:lnTo>
                  <a:lnTo>
                    <a:pt x="22" y="116"/>
                  </a:lnTo>
                  <a:lnTo>
                    <a:pt x="22" y="102"/>
                  </a:lnTo>
                  <a:lnTo>
                    <a:pt x="22" y="88"/>
                  </a:lnTo>
                  <a:lnTo>
                    <a:pt x="20" y="67"/>
                  </a:lnTo>
                  <a:lnTo>
                    <a:pt x="19" y="48"/>
                  </a:lnTo>
                  <a:lnTo>
                    <a:pt x="17" y="28"/>
                  </a:lnTo>
                  <a:lnTo>
                    <a:pt x="13" y="8"/>
                  </a:lnTo>
                  <a:lnTo>
                    <a:pt x="10" y="6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0"/>
                  </a:lnTo>
                  <a:lnTo>
                    <a:pt x="4" y="20"/>
                  </a:lnTo>
                  <a:lnTo>
                    <a:pt x="7" y="40"/>
                  </a:lnTo>
                  <a:lnTo>
                    <a:pt x="8" y="59"/>
                  </a:lnTo>
                  <a:lnTo>
                    <a:pt x="9" y="80"/>
                  </a:lnTo>
                  <a:lnTo>
                    <a:pt x="9" y="94"/>
                  </a:lnTo>
                  <a:lnTo>
                    <a:pt x="8" y="108"/>
                  </a:lnTo>
                  <a:lnTo>
                    <a:pt x="8" y="121"/>
                  </a:lnTo>
                  <a:lnTo>
                    <a:pt x="7" y="134"/>
                  </a:lnTo>
                  <a:close/>
                </a:path>
              </a:pathLst>
            </a:custGeom>
            <a:solidFill>
              <a:srgbClr val="dd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>
              <a:off x="7506720" y="3121200"/>
              <a:ext cx="21960" cy="4572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11" y="52"/>
                  </a:moveTo>
                  <a:lnTo>
                    <a:pt x="13" y="49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31"/>
                  </a:lnTo>
                  <a:lnTo>
                    <a:pt x="26" y="21"/>
                  </a:lnTo>
                  <a:lnTo>
                    <a:pt x="27" y="1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3" y="56"/>
                  </a:lnTo>
                  <a:lnTo>
                    <a:pt x="5" y="54"/>
                  </a:lnTo>
                  <a:lnTo>
                    <a:pt x="7" y="53"/>
                  </a:lnTo>
                  <a:lnTo>
                    <a:pt x="11" y="52"/>
                  </a:lnTo>
                  <a:close/>
                </a:path>
              </a:pathLst>
            </a:custGeom>
            <a:solidFill>
              <a:srgbClr val="dd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>
              <a:off x="7497000" y="3076560"/>
              <a:ext cx="28440" cy="475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7" y="57"/>
                  </a:moveTo>
                  <a:lnTo>
                    <a:pt x="9" y="57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4" y="53"/>
                  </a:lnTo>
                  <a:lnTo>
                    <a:pt x="16" y="51"/>
                  </a:lnTo>
                  <a:lnTo>
                    <a:pt x="19" y="49"/>
                  </a:lnTo>
                  <a:lnTo>
                    <a:pt x="23" y="47"/>
                  </a:lnTo>
                  <a:lnTo>
                    <a:pt x="26" y="45"/>
                  </a:lnTo>
                  <a:lnTo>
                    <a:pt x="29" y="34"/>
                  </a:lnTo>
                  <a:lnTo>
                    <a:pt x="31" y="22"/>
                  </a:lnTo>
                  <a:lnTo>
                    <a:pt x="33" y="1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26"/>
                  </a:lnTo>
                  <a:lnTo>
                    <a:pt x="4" y="37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2" y="60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7" y="57"/>
                  </a:lnTo>
                  <a:close/>
                </a:path>
              </a:pathLst>
            </a:custGeom>
            <a:solidFill>
              <a:srgbClr val="dd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 flipH="1">
              <a:off x="6592680" y="3276720"/>
              <a:ext cx="15840" cy="237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9" y="28"/>
                  </a:moveTo>
                  <a:lnTo>
                    <a:pt x="19" y="27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9" y="16"/>
                  </a:lnTo>
                  <a:lnTo>
                    <a:pt x="16" y="12"/>
                  </a:lnTo>
                  <a:lnTo>
                    <a:pt x="15" y="8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8"/>
                  </a:lnTo>
                  <a:lnTo>
                    <a:pt x="7" y="15"/>
                  </a:lnTo>
                  <a:lnTo>
                    <a:pt x="4" y="23"/>
                  </a:lnTo>
                  <a:lnTo>
                    <a:pt x="0" y="31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dd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 flipH="1">
              <a:off x="7477920" y="3170160"/>
              <a:ext cx="50760" cy="146160"/>
            </a:xfrm>
            <a:custGeom>
              <a:avLst/>
              <a:gdLst/>
              <a:ahLst/>
              <a:rect l="l" t="t" r="r" b="b"/>
              <a:pathLst>
                <a:path w="64" h="184">
                  <a:moveTo>
                    <a:pt x="53" y="181"/>
                  </a:moveTo>
                  <a:lnTo>
                    <a:pt x="56" y="181"/>
                  </a:lnTo>
                  <a:lnTo>
                    <a:pt x="59" y="181"/>
                  </a:lnTo>
                  <a:lnTo>
                    <a:pt x="61" y="181"/>
                  </a:lnTo>
                  <a:lnTo>
                    <a:pt x="64" y="180"/>
                  </a:lnTo>
                  <a:lnTo>
                    <a:pt x="54" y="159"/>
                  </a:lnTo>
                  <a:lnTo>
                    <a:pt x="46" y="137"/>
                  </a:lnTo>
                  <a:lnTo>
                    <a:pt x="41" y="115"/>
                  </a:lnTo>
                  <a:lnTo>
                    <a:pt x="35" y="93"/>
                  </a:lnTo>
                  <a:lnTo>
                    <a:pt x="30" y="70"/>
                  </a:lnTo>
                  <a:lnTo>
                    <a:pt x="27" y="47"/>
                  </a:lnTo>
                  <a:lnTo>
                    <a:pt x="24" y="24"/>
                  </a:lnTo>
                  <a:lnTo>
                    <a:pt x="23" y="0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" y="44"/>
                  </a:lnTo>
                  <a:lnTo>
                    <a:pt x="5" y="64"/>
                  </a:lnTo>
                  <a:lnTo>
                    <a:pt x="8" y="85"/>
                  </a:lnTo>
                  <a:lnTo>
                    <a:pt x="13" y="106"/>
                  </a:lnTo>
                  <a:lnTo>
                    <a:pt x="18" y="127"/>
                  </a:lnTo>
                  <a:lnTo>
                    <a:pt x="23" y="146"/>
                  </a:lnTo>
                  <a:lnTo>
                    <a:pt x="30" y="166"/>
                  </a:lnTo>
                  <a:lnTo>
                    <a:pt x="38" y="184"/>
                  </a:lnTo>
                  <a:lnTo>
                    <a:pt x="42" y="184"/>
                  </a:lnTo>
                  <a:lnTo>
                    <a:pt x="46" y="183"/>
                  </a:lnTo>
                  <a:lnTo>
                    <a:pt x="50" y="182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dd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>
              <a:off x="7486200" y="3110040"/>
              <a:ext cx="23760" cy="4428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13" y="46"/>
                  </a:moveTo>
                  <a:lnTo>
                    <a:pt x="17" y="45"/>
                  </a:lnTo>
                  <a:lnTo>
                    <a:pt x="20" y="43"/>
                  </a:lnTo>
                  <a:lnTo>
                    <a:pt x="22" y="41"/>
                  </a:lnTo>
                  <a:lnTo>
                    <a:pt x="25" y="40"/>
                  </a:lnTo>
                  <a:lnTo>
                    <a:pt x="26" y="30"/>
                  </a:lnTo>
                  <a:lnTo>
                    <a:pt x="27" y="19"/>
                  </a:lnTo>
                  <a:lnTo>
                    <a:pt x="28" y="9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25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4" y="54"/>
                  </a:lnTo>
                  <a:lnTo>
                    <a:pt x="7" y="51"/>
                  </a:lnTo>
                  <a:lnTo>
                    <a:pt x="10" y="48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H="1">
              <a:off x="7457400" y="3154320"/>
              <a:ext cx="52200" cy="158760"/>
            </a:xfrm>
            <a:custGeom>
              <a:avLst/>
              <a:gdLst/>
              <a:ahLst/>
              <a:rect l="l" t="t" r="r" b="b"/>
              <a:pathLst>
                <a:path w="67" h="201">
                  <a:moveTo>
                    <a:pt x="60" y="196"/>
                  </a:moveTo>
                  <a:lnTo>
                    <a:pt x="63" y="196"/>
                  </a:lnTo>
                  <a:lnTo>
                    <a:pt x="64" y="196"/>
                  </a:lnTo>
                  <a:lnTo>
                    <a:pt x="66" y="196"/>
                  </a:lnTo>
                  <a:lnTo>
                    <a:pt x="67" y="196"/>
                  </a:lnTo>
                  <a:lnTo>
                    <a:pt x="58" y="174"/>
                  </a:lnTo>
                  <a:lnTo>
                    <a:pt x="49" y="152"/>
                  </a:lnTo>
                  <a:lnTo>
                    <a:pt x="42" y="129"/>
                  </a:lnTo>
                  <a:lnTo>
                    <a:pt x="36" y="106"/>
                  </a:lnTo>
                  <a:lnTo>
                    <a:pt x="30" y="83"/>
                  </a:lnTo>
                  <a:lnTo>
                    <a:pt x="27" y="59"/>
                  </a:lnTo>
                  <a:lnTo>
                    <a:pt x="26" y="35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45"/>
                  </a:lnTo>
                  <a:lnTo>
                    <a:pt x="4" y="68"/>
                  </a:lnTo>
                  <a:lnTo>
                    <a:pt x="7" y="91"/>
                  </a:lnTo>
                  <a:lnTo>
                    <a:pt x="12" y="114"/>
                  </a:lnTo>
                  <a:lnTo>
                    <a:pt x="18" y="136"/>
                  </a:lnTo>
                  <a:lnTo>
                    <a:pt x="23" y="158"/>
                  </a:lnTo>
                  <a:lnTo>
                    <a:pt x="31" y="180"/>
                  </a:lnTo>
                  <a:lnTo>
                    <a:pt x="41" y="201"/>
                  </a:lnTo>
                  <a:lnTo>
                    <a:pt x="45" y="200"/>
                  </a:lnTo>
                  <a:lnTo>
                    <a:pt x="51" y="198"/>
                  </a:lnTo>
                  <a:lnTo>
                    <a:pt x="56" y="197"/>
                  </a:lnTo>
                  <a:lnTo>
                    <a:pt x="60" y="196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 flipH="1">
              <a:off x="6598440" y="3254400"/>
              <a:ext cx="19080" cy="46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2" y="59"/>
                  </a:moveTo>
                  <a:lnTo>
                    <a:pt x="3" y="59"/>
                  </a:lnTo>
                  <a:lnTo>
                    <a:pt x="5" y="59"/>
                  </a:lnTo>
                  <a:lnTo>
                    <a:pt x="6" y="59"/>
                  </a:lnTo>
                  <a:lnTo>
                    <a:pt x="8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14" y="51"/>
                  </a:lnTo>
                  <a:lnTo>
                    <a:pt x="17" y="43"/>
                  </a:lnTo>
                  <a:lnTo>
                    <a:pt x="21" y="36"/>
                  </a:lnTo>
                  <a:lnTo>
                    <a:pt x="23" y="28"/>
                  </a:lnTo>
                  <a:lnTo>
                    <a:pt x="21" y="21"/>
                  </a:lnTo>
                  <a:lnTo>
                    <a:pt x="20" y="14"/>
                  </a:lnTo>
                  <a:lnTo>
                    <a:pt x="17" y="7"/>
                  </a:lnTo>
                  <a:lnTo>
                    <a:pt x="15" y="0"/>
                  </a:lnTo>
                  <a:lnTo>
                    <a:pt x="11" y="11"/>
                  </a:lnTo>
                  <a:lnTo>
                    <a:pt x="8" y="22"/>
                  </a:lnTo>
                  <a:lnTo>
                    <a:pt x="5" y="32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2" y="5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flipH="1">
              <a:off x="7475040" y="3063960"/>
              <a:ext cx="30240" cy="475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7" y="55"/>
                  </a:moveTo>
                  <a:lnTo>
                    <a:pt x="9" y="55"/>
                  </a:lnTo>
                  <a:lnTo>
                    <a:pt x="12" y="54"/>
                  </a:lnTo>
                  <a:lnTo>
                    <a:pt x="13" y="53"/>
                  </a:lnTo>
                  <a:lnTo>
                    <a:pt x="14" y="53"/>
                  </a:lnTo>
                  <a:lnTo>
                    <a:pt x="17" y="51"/>
                  </a:lnTo>
                  <a:lnTo>
                    <a:pt x="20" y="50"/>
                  </a:lnTo>
                  <a:lnTo>
                    <a:pt x="23" y="47"/>
                  </a:lnTo>
                  <a:lnTo>
                    <a:pt x="26" y="46"/>
                  </a:lnTo>
                  <a:lnTo>
                    <a:pt x="28" y="35"/>
                  </a:lnTo>
                  <a:lnTo>
                    <a:pt x="30" y="23"/>
                  </a:lnTo>
                  <a:lnTo>
                    <a:pt x="34" y="12"/>
                  </a:lnTo>
                  <a:lnTo>
                    <a:pt x="37" y="0"/>
                  </a:lnTo>
                  <a:lnTo>
                    <a:pt x="30" y="5"/>
                  </a:lnTo>
                  <a:lnTo>
                    <a:pt x="24" y="8"/>
                  </a:lnTo>
                  <a:lnTo>
                    <a:pt x="19" y="10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28"/>
                  </a:lnTo>
                  <a:lnTo>
                    <a:pt x="5" y="38"/>
                  </a:lnTo>
                  <a:lnTo>
                    <a:pt x="3" y="50"/>
                  </a:lnTo>
                  <a:lnTo>
                    <a:pt x="0" y="61"/>
                  </a:lnTo>
                  <a:lnTo>
                    <a:pt x="3" y="60"/>
                  </a:lnTo>
                  <a:lnTo>
                    <a:pt x="4" y="58"/>
                  </a:lnTo>
                  <a:lnTo>
                    <a:pt x="6" y="57"/>
                  </a:lnTo>
                  <a:lnTo>
                    <a:pt x="7" y="55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>
              <a:off x="6581520" y="3094200"/>
              <a:ext cx="17280" cy="144360"/>
            </a:xfrm>
            <a:custGeom>
              <a:avLst/>
              <a:gdLst/>
              <a:ahLst/>
              <a:rect l="l" t="t" r="r" b="b"/>
              <a:pathLst>
                <a:path w="22" h="183">
                  <a:moveTo>
                    <a:pt x="7" y="134"/>
                  </a:moveTo>
                  <a:lnTo>
                    <a:pt x="6" y="138"/>
                  </a:lnTo>
                  <a:lnTo>
                    <a:pt x="6" y="143"/>
                  </a:lnTo>
                  <a:lnTo>
                    <a:pt x="5" y="148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6" y="161"/>
                  </a:lnTo>
                  <a:lnTo>
                    <a:pt x="7" y="167"/>
                  </a:lnTo>
                  <a:lnTo>
                    <a:pt x="8" y="173"/>
                  </a:lnTo>
                  <a:lnTo>
                    <a:pt x="9" y="175"/>
                  </a:lnTo>
                  <a:lnTo>
                    <a:pt x="10" y="178"/>
                  </a:lnTo>
                  <a:lnTo>
                    <a:pt x="12" y="181"/>
                  </a:lnTo>
                  <a:lnTo>
                    <a:pt x="13" y="183"/>
                  </a:lnTo>
                  <a:lnTo>
                    <a:pt x="15" y="173"/>
                  </a:lnTo>
                  <a:lnTo>
                    <a:pt x="16" y="163"/>
                  </a:lnTo>
                  <a:lnTo>
                    <a:pt x="18" y="153"/>
                  </a:lnTo>
                  <a:lnTo>
                    <a:pt x="20" y="143"/>
                  </a:lnTo>
                  <a:lnTo>
                    <a:pt x="21" y="130"/>
                  </a:lnTo>
                  <a:lnTo>
                    <a:pt x="21" y="117"/>
                  </a:lnTo>
                  <a:lnTo>
                    <a:pt x="22" y="103"/>
                  </a:lnTo>
                  <a:lnTo>
                    <a:pt x="22" y="89"/>
                  </a:lnTo>
                  <a:lnTo>
                    <a:pt x="21" y="68"/>
                  </a:lnTo>
                  <a:lnTo>
                    <a:pt x="20" y="49"/>
                  </a:lnTo>
                  <a:lnTo>
                    <a:pt x="17" y="29"/>
                  </a:lnTo>
                  <a:lnTo>
                    <a:pt x="14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5" y="4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0"/>
                  </a:lnTo>
                  <a:lnTo>
                    <a:pt x="7" y="40"/>
                  </a:lnTo>
                  <a:lnTo>
                    <a:pt x="8" y="61"/>
                  </a:lnTo>
                  <a:lnTo>
                    <a:pt x="9" y="82"/>
                  </a:lnTo>
                  <a:lnTo>
                    <a:pt x="9" y="95"/>
                  </a:lnTo>
                  <a:lnTo>
                    <a:pt x="8" y="107"/>
                  </a:lnTo>
                  <a:lnTo>
                    <a:pt x="8" y="121"/>
                  </a:lnTo>
                  <a:lnTo>
                    <a:pt x="7" y="134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H="1">
              <a:off x="6635520" y="330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 flipH="1">
              <a:off x="7441920" y="3138480"/>
              <a:ext cx="48960" cy="17136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43" y="215"/>
                  </a:moveTo>
                  <a:lnTo>
                    <a:pt x="47" y="215"/>
                  </a:lnTo>
                  <a:lnTo>
                    <a:pt x="49" y="215"/>
                  </a:lnTo>
                  <a:lnTo>
                    <a:pt x="50" y="215"/>
                  </a:lnTo>
                  <a:lnTo>
                    <a:pt x="52" y="215"/>
                  </a:lnTo>
                  <a:lnTo>
                    <a:pt x="55" y="210"/>
                  </a:lnTo>
                  <a:lnTo>
                    <a:pt x="58" y="205"/>
                  </a:lnTo>
                  <a:lnTo>
                    <a:pt x="60" y="201"/>
                  </a:lnTo>
                  <a:lnTo>
                    <a:pt x="63" y="198"/>
                  </a:lnTo>
                  <a:lnTo>
                    <a:pt x="63" y="198"/>
                  </a:lnTo>
                  <a:lnTo>
                    <a:pt x="63" y="197"/>
                  </a:lnTo>
                  <a:lnTo>
                    <a:pt x="63" y="197"/>
                  </a:lnTo>
                  <a:lnTo>
                    <a:pt x="64" y="197"/>
                  </a:lnTo>
                  <a:lnTo>
                    <a:pt x="55" y="176"/>
                  </a:lnTo>
                  <a:lnTo>
                    <a:pt x="47" y="155"/>
                  </a:lnTo>
                  <a:lnTo>
                    <a:pt x="41" y="133"/>
                  </a:lnTo>
                  <a:lnTo>
                    <a:pt x="35" y="113"/>
                  </a:lnTo>
                  <a:lnTo>
                    <a:pt x="30" y="89"/>
                  </a:lnTo>
                  <a:lnTo>
                    <a:pt x="27" y="68"/>
                  </a:lnTo>
                  <a:lnTo>
                    <a:pt x="26" y="45"/>
                  </a:lnTo>
                  <a:lnTo>
                    <a:pt x="25" y="21"/>
                  </a:lnTo>
                  <a:lnTo>
                    <a:pt x="25" y="16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54"/>
                  </a:lnTo>
                  <a:lnTo>
                    <a:pt x="3" y="78"/>
                  </a:lnTo>
                  <a:lnTo>
                    <a:pt x="6" y="102"/>
                  </a:lnTo>
                  <a:lnTo>
                    <a:pt x="12" y="125"/>
                  </a:lnTo>
                  <a:lnTo>
                    <a:pt x="18" y="148"/>
                  </a:lnTo>
                  <a:lnTo>
                    <a:pt x="25" y="171"/>
                  </a:lnTo>
                  <a:lnTo>
                    <a:pt x="34" y="193"/>
                  </a:lnTo>
                  <a:lnTo>
                    <a:pt x="43" y="215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H="1">
              <a:off x="6590520" y="3084480"/>
              <a:ext cx="19080" cy="130320"/>
            </a:xfrm>
            <a:custGeom>
              <a:avLst/>
              <a:gdLst/>
              <a:ahLst/>
              <a:rect l="l" t="t" r="r" b="b"/>
              <a:pathLst>
                <a:path w="23" h="163">
                  <a:moveTo>
                    <a:pt x="8" y="136"/>
                  </a:moveTo>
                  <a:lnTo>
                    <a:pt x="8" y="137"/>
                  </a:lnTo>
                  <a:lnTo>
                    <a:pt x="9" y="138"/>
                  </a:lnTo>
                  <a:lnTo>
                    <a:pt x="9" y="140"/>
                  </a:lnTo>
                  <a:lnTo>
                    <a:pt x="9" y="141"/>
                  </a:lnTo>
                  <a:lnTo>
                    <a:pt x="12" y="147"/>
                  </a:lnTo>
                  <a:lnTo>
                    <a:pt x="14" y="152"/>
                  </a:lnTo>
                  <a:lnTo>
                    <a:pt x="15" y="157"/>
                  </a:lnTo>
                  <a:lnTo>
                    <a:pt x="17" y="163"/>
                  </a:lnTo>
                  <a:lnTo>
                    <a:pt x="19" y="159"/>
                  </a:lnTo>
                  <a:lnTo>
                    <a:pt x="20" y="154"/>
                  </a:lnTo>
                  <a:lnTo>
                    <a:pt x="20" y="149"/>
                  </a:lnTo>
                  <a:lnTo>
                    <a:pt x="21" y="145"/>
                  </a:lnTo>
                  <a:lnTo>
                    <a:pt x="22" y="132"/>
                  </a:lnTo>
                  <a:lnTo>
                    <a:pt x="22" y="118"/>
                  </a:lnTo>
                  <a:lnTo>
                    <a:pt x="23" y="106"/>
                  </a:lnTo>
                  <a:lnTo>
                    <a:pt x="23" y="93"/>
                  </a:lnTo>
                  <a:lnTo>
                    <a:pt x="22" y="72"/>
                  </a:lnTo>
                  <a:lnTo>
                    <a:pt x="21" y="51"/>
                  </a:lnTo>
                  <a:lnTo>
                    <a:pt x="17" y="31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8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5" y="20"/>
                  </a:lnTo>
                  <a:lnTo>
                    <a:pt x="7" y="42"/>
                  </a:lnTo>
                  <a:lnTo>
                    <a:pt x="9" y="63"/>
                  </a:lnTo>
                  <a:lnTo>
                    <a:pt x="11" y="85"/>
                  </a:lnTo>
                  <a:lnTo>
                    <a:pt x="11" y="98"/>
                  </a:lnTo>
                  <a:lnTo>
                    <a:pt x="9" y="110"/>
                  </a:lnTo>
                  <a:lnTo>
                    <a:pt x="9" y="123"/>
                  </a:lnTo>
                  <a:lnTo>
                    <a:pt x="8" y="136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>
              <a:off x="6605280" y="3232080"/>
              <a:ext cx="14400" cy="558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3" y="48"/>
                  </a:moveTo>
                  <a:lnTo>
                    <a:pt x="3" y="53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4" y="71"/>
                  </a:lnTo>
                  <a:lnTo>
                    <a:pt x="9" y="60"/>
                  </a:lnTo>
                  <a:lnTo>
                    <a:pt x="12" y="50"/>
                  </a:lnTo>
                  <a:lnTo>
                    <a:pt x="15" y="3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8" y="21"/>
                  </a:lnTo>
                  <a:lnTo>
                    <a:pt x="15" y="14"/>
                  </a:lnTo>
                  <a:lnTo>
                    <a:pt x="14" y="7"/>
                  </a:lnTo>
                  <a:lnTo>
                    <a:pt x="12" y="0"/>
                  </a:lnTo>
                  <a:lnTo>
                    <a:pt x="10" y="11"/>
                  </a:lnTo>
                  <a:lnTo>
                    <a:pt x="6" y="20"/>
                  </a:lnTo>
                  <a:lnTo>
                    <a:pt x="4" y="30"/>
                  </a:lnTo>
                  <a:lnTo>
                    <a:pt x="0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3" y="48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H="1">
              <a:off x="7454520" y="3049560"/>
              <a:ext cx="30240" cy="5076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1" y="56"/>
                  </a:moveTo>
                  <a:lnTo>
                    <a:pt x="13" y="54"/>
                  </a:lnTo>
                  <a:lnTo>
                    <a:pt x="15" y="53"/>
                  </a:lnTo>
                  <a:lnTo>
                    <a:pt x="16" y="52"/>
                  </a:lnTo>
                  <a:lnTo>
                    <a:pt x="17" y="49"/>
                  </a:lnTo>
                  <a:lnTo>
                    <a:pt x="19" y="48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5" y="46"/>
                  </a:lnTo>
                  <a:lnTo>
                    <a:pt x="27" y="34"/>
                  </a:lnTo>
                  <a:lnTo>
                    <a:pt x="31" y="23"/>
                  </a:lnTo>
                  <a:lnTo>
                    <a:pt x="34" y="11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29"/>
                  </a:lnTo>
                  <a:lnTo>
                    <a:pt x="4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5" y="60"/>
                  </a:lnTo>
                  <a:lnTo>
                    <a:pt x="9" y="57"/>
                  </a:lnTo>
                  <a:lnTo>
                    <a:pt x="11" y="56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 flipH="1">
              <a:off x="7467120" y="3095640"/>
              <a:ext cx="23760" cy="4608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1" y="57"/>
                  </a:moveTo>
                  <a:lnTo>
                    <a:pt x="5" y="53"/>
                  </a:lnTo>
                  <a:lnTo>
                    <a:pt x="10" y="49"/>
                  </a:lnTo>
                  <a:lnTo>
                    <a:pt x="13" y="46"/>
                  </a:lnTo>
                  <a:lnTo>
                    <a:pt x="18" y="43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3" y="39"/>
                  </a:lnTo>
                  <a:lnTo>
                    <a:pt x="25" y="38"/>
                  </a:lnTo>
                  <a:lnTo>
                    <a:pt x="26" y="28"/>
                  </a:lnTo>
                  <a:lnTo>
                    <a:pt x="27" y="18"/>
                  </a:lnTo>
                  <a:lnTo>
                    <a:pt x="28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3" y="26"/>
                  </a:lnTo>
                  <a:lnTo>
                    <a:pt x="2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d8a5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 flipH="1">
              <a:off x="7446600" y="308448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6" y="49"/>
                  </a:moveTo>
                  <a:lnTo>
                    <a:pt x="9" y="47"/>
                  </a:lnTo>
                  <a:lnTo>
                    <a:pt x="13" y="43"/>
                  </a:lnTo>
                  <a:lnTo>
                    <a:pt x="16" y="41"/>
                  </a:lnTo>
                  <a:lnTo>
                    <a:pt x="20" y="39"/>
                  </a:lnTo>
                  <a:lnTo>
                    <a:pt x="21" y="38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26"/>
                  </a:lnTo>
                  <a:lnTo>
                    <a:pt x="26" y="17"/>
                  </a:lnTo>
                  <a:lnTo>
                    <a:pt x="29" y="9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3" y="24"/>
                  </a:lnTo>
                  <a:lnTo>
                    <a:pt x="2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d6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>
              <a:off x="7431840" y="3036960"/>
              <a:ext cx="33480" cy="4932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13" y="55"/>
                  </a:moveTo>
                  <a:lnTo>
                    <a:pt x="15" y="53"/>
                  </a:lnTo>
                  <a:lnTo>
                    <a:pt x="17" y="51"/>
                  </a:lnTo>
                  <a:lnTo>
                    <a:pt x="19" y="49"/>
                  </a:lnTo>
                  <a:lnTo>
                    <a:pt x="22" y="48"/>
                  </a:lnTo>
                  <a:lnTo>
                    <a:pt x="23" y="47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6" y="45"/>
                  </a:lnTo>
                  <a:lnTo>
                    <a:pt x="30" y="33"/>
                  </a:lnTo>
                  <a:lnTo>
                    <a:pt x="33" y="22"/>
                  </a:lnTo>
                  <a:lnTo>
                    <a:pt x="37" y="11"/>
                  </a:lnTo>
                  <a:lnTo>
                    <a:pt x="40" y="0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6" y="9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9" y="26"/>
                  </a:lnTo>
                  <a:lnTo>
                    <a:pt x="6" y="38"/>
                  </a:lnTo>
                  <a:lnTo>
                    <a:pt x="2" y="49"/>
                  </a:lnTo>
                  <a:lnTo>
                    <a:pt x="0" y="61"/>
                  </a:lnTo>
                  <a:lnTo>
                    <a:pt x="3" y="60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d6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H="1">
              <a:off x="6636600" y="3276720"/>
              <a:ext cx="17640" cy="29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4" y="37"/>
                  </a:moveTo>
                  <a:lnTo>
                    <a:pt x="9" y="37"/>
                  </a:lnTo>
                  <a:lnTo>
                    <a:pt x="13" y="37"/>
                  </a:lnTo>
                  <a:lnTo>
                    <a:pt x="17" y="35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9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1" y="15"/>
                  </a:lnTo>
                  <a:lnTo>
                    <a:pt x="19" y="10"/>
                  </a:lnTo>
                  <a:lnTo>
                    <a:pt x="19" y="4"/>
                  </a:lnTo>
                  <a:lnTo>
                    <a:pt x="18" y="0"/>
                  </a:lnTo>
                  <a:lnTo>
                    <a:pt x="14" y="9"/>
                  </a:lnTo>
                  <a:lnTo>
                    <a:pt x="9" y="18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d6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H="1">
              <a:off x="6609960" y="3209760"/>
              <a:ext cx="15840" cy="540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8" y="68"/>
                  </a:moveTo>
                  <a:lnTo>
                    <a:pt x="12" y="59"/>
                  </a:lnTo>
                  <a:lnTo>
                    <a:pt x="14" y="49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19" y="25"/>
                  </a:lnTo>
                  <a:lnTo>
                    <a:pt x="18" y="21"/>
                  </a:lnTo>
                  <a:lnTo>
                    <a:pt x="15" y="18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6" y="21"/>
                  </a:lnTo>
                  <a:lnTo>
                    <a:pt x="4" y="32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5" y="53"/>
                  </a:lnTo>
                  <a:lnTo>
                    <a:pt x="6" y="60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d6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 flipH="1">
              <a:off x="7419600" y="3121200"/>
              <a:ext cx="52560" cy="182520"/>
            </a:xfrm>
            <a:custGeom>
              <a:avLst/>
              <a:gdLst/>
              <a:ahLst/>
              <a:rect l="l" t="t" r="r" b="b"/>
              <a:pathLst>
                <a:path w="65" h="230">
                  <a:moveTo>
                    <a:pt x="39" y="219"/>
                  </a:moveTo>
                  <a:lnTo>
                    <a:pt x="40" y="216"/>
                  </a:lnTo>
                  <a:lnTo>
                    <a:pt x="40" y="214"/>
                  </a:lnTo>
                  <a:lnTo>
                    <a:pt x="41" y="213"/>
                  </a:lnTo>
                  <a:lnTo>
                    <a:pt x="41" y="211"/>
                  </a:lnTo>
                  <a:lnTo>
                    <a:pt x="45" y="211"/>
                  </a:lnTo>
                  <a:lnTo>
                    <a:pt x="48" y="211"/>
                  </a:lnTo>
                  <a:lnTo>
                    <a:pt x="52" y="211"/>
                  </a:lnTo>
                  <a:lnTo>
                    <a:pt x="54" y="211"/>
                  </a:lnTo>
                  <a:lnTo>
                    <a:pt x="54" y="215"/>
                  </a:lnTo>
                  <a:lnTo>
                    <a:pt x="54" y="220"/>
                  </a:lnTo>
                  <a:lnTo>
                    <a:pt x="53" y="226"/>
                  </a:lnTo>
                  <a:lnTo>
                    <a:pt x="50" y="230"/>
                  </a:lnTo>
                  <a:lnTo>
                    <a:pt x="55" y="226"/>
                  </a:lnTo>
                  <a:lnTo>
                    <a:pt x="58" y="221"/>
                  </a:lnTo>
                  <a:lnTo>
                    <a:pt x="62" y="217"/>
                  </a:lnTo>
                  <a:lnTo>
                    <a:pt x="65" y="213"/>
                  </a:lnTo>
                  <a:lnTo>
                    <a:pt x="56" y="192"/>
                  </a:lnTo>
                  <a:lnTo>
                    <a:pt x="48" y="171"/>
                  </a:lnTo>
                  <a:lnTo>
                    <a:pt x="41" y="150"/>
                  </a:lnTo>
                  <a:lnTo>
                    <a:pt x="34" y="128"/>
                  </a:lnTo>
                  <a:lnTo>
                    <a:pt x="30" y="106"/>
                  </a:lnTo>
                  <a:lnTo>
                    <a:pt x="26" y="83"/>
                  </a:lnTo>
                  <a:lnTo>
                    <a:pt x="25" y="60"/>
                  </a:lnTo>
                  <a:lnTo>
                    <a:pt x="24" y="37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24" y="9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67"/>
                  </a:lnTo>
                  <a:lnTo>
                    <a:pt x="2" y="90"/>
                  </a:lnTo>
                  <a:lnTo>
                    <a:pt x="5" y="111"/>
                  </a:lnTo>
                  <a:lnTo>
                    <a:pt x="10" y="135"/>
                  </a:lnTo>
                  <a:lnTo>
                    <a:pt x="16" y="155"/>
                  </a:lnTo>
                  <a:lnTo>
                    <a:pt x="22" y="177"/>
                  </a:lnTo>
                  <a:lnTo>
                    <a:pt x="30" y="198"/>
                  </a:lnTo>
                  <a:lnTo>
                    <a:pt x="39" y="219"/>
                  </a:lnTo>
                  <a:close/>
                </a:path>
              </a:pathLst>
            </a:custGeom>
            <a:solidFill>
              <a:srgbClr val="d6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H="1">
              <a:off x="6601680" y="3078000"/>
              <a:ext cx="17640" cy="114480"/>
            </a:xfrm>
            <a:custGeom>
              <a:avLst/>
              <a:gdLst/>
              <a:ahLst/>
              <a:rect l="l" t="t" r="r" b="b"/>
              <a:pathLst>
                <a:path w="24" h="144">
                  <a:moveTo>
                    <a:pt x="9" y="117"/>
                  </a:moveTo>
                  <a:lnTo>
                    <a:pt x="10" y="118"/>
                  </a:lnTo>
                  <a:lnTo>
                    <a:pt x="11" y="118"/>
                  </a:lnTo>
                  <a:lnTo>
                    <a:pt x="12" y="119"/>
                  </a:lnTo>
                  <a:lnTo>
                    <a:pt x="12" y="119"/>
                  </a:lnTo>
                  <a:lnTo>
                    <a:pt x="13" y="122"/>
                  </a:lnTo>
                  <a:lnTo>
                    <a:pt x="15" y="126"/>
                  </a:lnTo>
                  <a:lnTo>
                    <a:pt x="18" y="134"/>
                  </a:lnTo>
                  <a:lnTo>
                    <a:pt x="21" y="144"/>
                  </a:lnTo>
                  <a:lnTo>
                    <a:pt x="22" y="131"/>
                  </a:lnTo>
                  <a:lnTo>
                    <a:pt x="22" y="118"/>
                  </a:lnTo>
                  <a:lnTo>
                    <a:pt x="24" y="106"/>
                  </a:lnTo>
                  <a:lnTo>
                    <a:pt x="24" y="93"/>
                  </a:lnTo>
                  <a:lnTo>
                    <a:pt x="22" y="71"/>
                  </a:lnTo>
                  <a:lnTo>
                    <a:pt x="20" y="50"/>
                  </a:lnTo>
                  <a:lnTo>
                    <a:pt x="18" y="28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9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0"/>
                  </a:lnTo>
                  <a:lnTo>
                    <a:pt x="7" y="42"/>
                  </a:lnTo>
                  <a:lnTo>
                    <a:pt x="10" y="63"/>
                  </a:lnTo>
                  <a:lnTo>
                    <a:pt x="11" y="85"/>
                  </a:lnTo>
                  <a:lnTo>
                    <a:pt x="11" y="93"/>
                  </a:lnTo>
                  <a:lnTo>
                    <a:pt x="10" y="101"/>
                  </a:lnTo>
                  <a:lnTo>
                    <a:pt x="10" y="109"/>
                  </a:lnTo>
                  <a:lnTo>
                    <a:pt x="9" y="117"/>
                  </a:lnTo>
                  <a:close/>
                </a:path>
              </a:pathLst>
            </a:custGeom>
            <a:solidFill>
              <a:srgbClr val="d6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 flipH="1">
              <a:off x="7396920" y="3108240"/>
              <a:ext cx="55800" cy="182520"/>
            </a:xfrm>
            <a:custGeom>
              <a:avLst/>
              <a:gdLst/>
              <a:ahLst/>
              <a:rect l="l" t="t" r="r" b="b"/>
              <a:pathLst>
                <a:path w="70" h="230">
                  <a:moveTo>
                    <a:pt x="41" y="229"/>
                  </a:moveTo>
                  <a:lnTo>
                    <a:pt x="41" y="228"/>
                  </a:lnTo>
                  <a:lnTo>
                    <a:pt x="43" y="228"/>
                  </a:lnTo>
                  <a:lnTo>
                    <a:pt x="43" y="228"/>
                  </a:lnTo>
                  <a:lnTo>
                    <a:pt x="44" y="227"/>
                  </a:lnTo>
                  <a:lnTo>
                    <a:pt x="45" y="227"/>
                  </a:lnTo>
                  <a:lnTo>
                    <a:pt x="46" y="224"/>
                  </a:lnTo>
                  <a:lnTo>
                    <a:pt x="46" y="223"/>
                  </a:lnTo>
                  <a:lnTo>
                    <a:pt x="46" y="223"/>
                  </a:lnTo>
                  <a:lnTo>
                    <a:pt x="51" y="223"/>
                  </a:lnTo>
                  <a:lnTo>
                    <a:pt x="54" y="223"/>
                  </a:lnTo>
                  <a:lnTo>
                    <a:pt x="57" y="223"/>
                  </a:lnTo>
                  <a:lnTo>
                    <a:pt x="60" y="223"/>
                  </a:lnTo>
                  <a:lnTo>
                    <a:pt x="62" y="224"/>
                  </a:lnTo>
                  <a:lnTo>
                    <a:pt x="63" y="225"/>
                  </a:lnTo>
                  <a:lnTo>
                    <a:pt x="63" y="228"/>
                  </a:lnTo>
                  <a:lnTo>
                    <a:pt x="63" y="230"/>
                  </a:lnTo>
                  <a:lnTo>
                    <a:pt x="66" y="229"/>
                  </a:lnTo>
                  <a:lnTo>
                    <a:pt x="67" y="228"/>
                  </a:lnTo>
                  <a:lnTo>
                    <a:pt x="69" y="228"/>
                  </a:lnTo>
                  <a:lnTo>
                    <a:pt x="70" y="228"/>
                  </a:lnTo>
                  <a:lnTo>
                    <a:pt x="60" y="206"/>
                  </a:lnTo>
                  <a:lnTo>
                    <a:pt x="51" y="184"/>
                  </a:lnTo>
                  <a:lnTo>
                    <a:pt x="43" y="162"/>
                  </a:lnTo>
                  <a:lnTo>
                    <a:pt x="36" y="139"/>
                  </a:lnTo>
                  <a:lnTo>
                    <a:pt x="30" y="116"/>
                  </a:lnTo>
                  <a:lnTo>
                    <a:pt x="26" y="93"/>
                  </a:lnTo>
                  <a:lnTo>
                    <a:pt x="24" y="69"/>
                  </a:lnTo>
                  <a:lnTo>
                    <a:pt x="23" y="45"/>
                  </a:lnTo>
                  <a:lnTo>
                    <a:pt x="23" y="33"/>
                  </a:lnTo>
                  <a:lnTo>
                    <a:pt x="24" y="21"/>
                  </a:lnTo>
                  <a:lnTo>
                    <a:pt x="25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1" y="76"/>
                  </a:lnTo>
                  <a:lnTo>
                    <a:pt x="2" y="99"/>
                  </a:lnTo>
                  <a:lnTo>
                    <a:pt x="6" y="122"/>
                  </a:lnTo>
                  <a:lnTo>
                    <a:pt x="10" y="144"/>
                  </a:lnTo>
                  <a:lnTo>
                    <a:pt x="17" y="166"/>
                  </a:lnTo>
                  <a:lnTo>
                    <a:pt x="24" y="187"/>
                  </a:lnTo>
                  <a:lnTo>
                    <a:pt x="32" y="208"/>
                  </a:lnTo>
                  <a:lnTo>
                    <a:pt x="41" y="229"/>
                  </a:lnTo>
                  <a:close/>
                </a:path>
              </a:pathLst>
            </a:custGeom>
            <a:solidFill>
              <a:srgbClr val="d3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 flipH="1">
              <a:off x="7426080" y="3070080"/>
              <a:ext cx="25200" cy="4320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46"/>
                  </a:moveTo>
                  <a:lnTo>
                    <a:pt x="13" y="44"/>
                  </a:lnTo>
                  <a:lnTo>
                    <a:pt x="16" y="42"/>
                  </a:lnTo>
                  <a:lnTo>
                    <a:pt x="21" y="40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8" y="27"/>
                  </a:lnTo>
                  <a:lnTo>
                    <a:pt x="29" y="18"/>
                  </a:lnTo>
                  <a:lnTo>
                    <a:pt x="31" y="1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27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5" y="50"/>
                  </a:lnTo>
                  <a:lnTo>
                    <a:pt x="6" y="48"/>
                  </a:lnTo>
                  <a:lnTo>
                    <a:pt x="8" y="46"/>
                  </a:lnTo>
                  <a:close/>
                </a:path>
              </a:pathLst>
            </a:custGeom>
            <a:solidFill>
              <a:srgbClr val="d3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>
              <a:off x="6638040" y="3255840"/>
              <a:ext cx="24120" cy="540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0" y="67"/>
                  </a:moveTo>
                  <a:lnTo>
                    <a:pt x="4" y="66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6" y="54"/>
                  </a:lnTo>
                  <a:lnTo>
                    <a:pt x="21" y="45"/>
                  </a:lnTo>
                  <a:lnTo>
                    <a:pt x="26" y="36"/>
                  </a:lnTo>
                  <a:lnTo>
                    <a:pt x="30" y="27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4" y="45"/>
                  </a:lnTo>
                  <a:lnTo>
                    <a:pt x="3" y="51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d3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 flipH="1">
              <a:off x="6617880" y="3184560"/>
              <a:ext cx="15840" cy="5724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9" y="72"/>
                  </a:moveTo>
                  <a:lnTo>
                    <a:pt x="9" y="73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13" y="64"/>
                  </a:lnTo>
                  <a:lnTo>
                    <a:pt x="15" y="53"/>
                  </a:lnTo>
                  <a:lnTo>
                    <a:pt x="17" y="43"/>
                  </a:lnTo>
                  <a:lnTo>
                    <a:pt x="20" y="32"/>
                  </a:lnTo>
                  <a:lnTo>
                    <a:pt x="19" y="24"/>
                  </a:lnTo>
                  <a:lnTo>
                    <a:pt x="16" y="18"/>
                  </a:lnTo>
                  <a:lnTo>
                    <a:pt x="15" y="11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13"/>
                  </a:lnTo>
                  <a:lnTo>
                    <a:pt x="7" y="26"/>
                  </a:lnTo>
                  <a:lnTo>
                    <a:pt x="4" y="38"/>
                  </a:lnTo>
                  <a:lnTo>
                    <a:pt x="0" y="51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7" y="66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d3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 flipH="1">
              <a:off x="6611040" y="3070080"/>
              <a:ext cx="19080" cy="101880"/>
            </a:xfrm>
            <a:custGeom>
              <a:avLst/>
              <a:gdLst/>
              <a:ahLst/>
              <a:rect l="l" t="t" r="r" b="b"/>
              <a:pathLst>
                <a:path w="24" h="127">
                  <a:moveTo>
                    <a:pt x="9" y="126"/>
                  </a:moveTo>
                  <a:lnTo>
                    <a:pt x="11" y="126"/>
                  </a:lnTo>
                  <a:lnTo>
                    <a:pt x="12" y="126"/>
                  </a:lnTo>
                  <a:lnTo>
                    <a:pt x="15" y="126"/>
                  </a:lnTo>
                  <a:lnTo>
                    <a:pt x="16" y="126"/>
                  </a:lnTo>
                  <a:lnTo>
                    <a:pt x="18" y="126"/>
                  </a:lnTo>
                  <a:lnTo>
                    <a:pt x="19" y="126"/>
                  </a:lnTo>
                  <a:lnTo>
                    <a:pt x="19" y="126"/>
                  </a:lnTo>
                  <a:lnTo>
                    <a:pt x="19" y="126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2" y="127"/>
                  </a:lnTo>
                  <a:lnTo>
                    <a:pt x="22" y="127"/>
                  </a:lnTo>
                  <a:lnTo>
                    <a:pt x="23" y="119"/>
                  </a:lnTo>
                  <a:lnTo>
                    <a:pt x="23" y="111"/>
                  </a:lnTo>
                  <a:lnTo>
                    <a:pt x="24" y="103"/>
                  </a:lnTo>
                  <a:lnTo>
                    <a:pt x="24" y="95"/>
                  </a:lnTo>
                  <a:lnTo>
                    <a:pt x="23" y="73"/>
                  </a:lnTo>
                  <a:lnTo>
                    <a:pt x="20" y="52"/>
                  </a:lnTo>
                  <a:lnTo>
                    <a:pt x="18" y="30"/>
                  </a:lnTo>
                  <a:lnTo>
                    <a:pt x="13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3" y="3"/>
                  </a:lnTo>
                  <a:lnTo>
                    <a:pt x="0" y="0"/>
                  </a:lnTo>
                  <a:lnTo>
                    <a:pt x="4" y="21"/>
                  </a:lnTo>
                  <a:lnTo>
                    <a:pt x="8" y="43"/>
                  </a:lnTo>
                  <a:lnTo>
                    <a:pt x="10" y="66"/>
                  </a:lnTo>
                  <a:lnTo>
                    <a:pt x="11" y="88"/>
                  </a:lnTo>
                  <a:lnTo>
                    <a:pt x="11" y="97"/>
                  </a:lnTo>
                  <a:lnTo>
                    <a:pt x="10" y="106"/>
                  </a:lnTo>
                  <a:lnTo>
                    <a:pt x="10" y="117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d3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7408080" y="3024360"/>
              <a:ext cx="34920" cy="489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15" y="52"/>
                  </a:moveTo>
                  <a:lnTo>
                    <a:pt x="18" y="49"/>
                  </a:lnTo>
                  <a:lnTo>
                    <a:pt x="21" y="47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32" y="31"/>
                  </a:lnTo>
                  <a:lnTo>
                    <a:pt x="35" y="20"/>
                  </a:lnTo>
                  <a:lnTo>
                    <a:pt x="40" y="1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32" y="7"/>
                  </a:lnTo>
                  <a:lnTo>
                    <a:pt x="29" y="9"/>
                  </a:lnTo>
                  <a:lnTo>
                    <a:pt x="25" y="11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1" y="27"/>
                  </a:lnTo>
                  <a:lnTo>
                    <a:pt x="7" y="38"/>
                  </a:lnTo>
                  <a:lnTo>
                    <a:pt x="4" y="49"/>
                  </a:lnTo>
                  <a:lnTo>
                    <a:pt x="0" y="61"/>
                  </a:lnTo>
                  <a:lnTo>
                    <a:pt x="4" y="58"/>
                  </a:lnTo>
                  <a:lnTo>
                    <a:pt x="8" y="56"/>
                  </a:lnTo>
                  <a:lnTo>
                    <a:pt x="12" y="54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d3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H="1">
              <a:off x="6620760" y="3063960"/>
              <a:ext cx="20520" cy="160200"/>
            </a:xfrm>
            <a:custGeom>
              <a:avLst/>
              <a:gdLst/>
              <a:ahLst/>
              <a:rect l="l" t="t" r="r" b="b"/>
              <a:pathLst>
                <a:path w="25" h="203">
                  <a:moveTo>
                    <a:pt x="10" y="135"/>
                  </a:moveTo>
                  <a:lnTo>
                    <a:pt x="8" y="148"/>
                  </a:lnTo>
                  <a:lnTo>
                    <a:pt x="6" y="160"/>
                  </a:lnTo>
                  <a:lnTo>
                    <a:pt x="3" y="174"/>
                  </a:lnTo>
                  <a:lnTo>
                    <a:pt x="0" y="187"/>
                  </a:lnTo>
                  <a:lnTo>
                    <a:pt x="1" y="188"/>
                  </a:lnTo>
                  <a:lnTo>
                    <a:pt x="2" y="189"/>
                  </a:lnTo>
                  <a:lnTo>
                    <a:pt x="2" y="190"/>
                  </a:lnTo>
                  <a:lnTo>
                    <a:pt x="3" y="191"/>
                  </a:lnTo>
                  <a:lnTo>
                    <a:pt x="6" y="194"/>
                  </a:lnTo>
                  <a:lnTo>
                    <a:pt x="7" y="197"/>
                  </a:lnTo>
                  <a:lnTo>
                    <a:pt x="9" y="201"/>
                  </a:lnTo>
                  <a:lnTo>
                    <a:pt x="10" y="203"/>
                  </a:lnTo>
                  <a:lnTo>
                    <a:pt x="14" y="190"/>
                  </a:lnTo>
                  <a:lnTo>
                    <a:pt x="17" y="178"/>
                  </a:lnTo>
                  <a:lnTo>
                    <a:pt x="19" y="165"/>
                  </a:lnTo>
                  <a:lnTo>
                    <a:pt x="22" y="152"/>
                  </a:lnTo>
                  <a:lnTo>
                    <a:pt x="19" y="148"/>
                  </a:lnTo>
                  <a:lnTo>
                    <a:pt x="17" y="143"/>
                  </a:lnTo>
                  <a:lnTo>
                    <a:pt x="15" y="137"/>
                  </a:lnTo>
                  <a:lnTo>
                    <a:pt x="13" y="131"/>
                  </a:lnTo>
                  <a:lnTo>
                    <a:pt x="16" y="133"/>
                  </a:lnTo>
                  <a:lnTo>
                    <a:pt x="18" y="134"/>
                  </a:lnTo>
                  <a:lnTo>
                    <a:pt x="21" y="134"/>
                  </a:lnTo>
                  <a:lnTo>
                    <a:pt x="23" y="135"/>
                  </a:lnTo>
                  <a:lnTo>
                    <a:pt x="24" y="126"/>
                  </a:lnTo>
                  <a:lnTo>
                    <a:pt x="24" y="115"/>
                  </a:lnTo>
                  <a:lnTo>
                    <a:pt x="25" y="106"/>
                  </a:lnTo>
                  <a:lnTo>
                    <a:pt x="25" y="97"/>
                  </a:lnTo>
                  <a:lnTo>
                    <a:pt x="24" y="75"/>
                  </a:lnTo>
                  <a:lnTo>
                    <a:pt x="22" y="52"/>
                  </a:lnTo>
                  <a:lnTo>
                    <a:pt x="18" y="30"/>
                  </a:lnTo>
                  <a:lnTo>
                    <a:pt x="14" y="9"/>
                  </a:lnTo>
                  <a:lnTo>
                    <a:pt x="10" y="7"/>
                  </a:lnTo>
                  <a:lnTo>
                    <a:pt x="7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8" y="44"/>
                  </a:lnTo>
                  <a:lnTo>
                    <a:pt x="11" y="67"/>
                  </a:lnTo>
                  <a:lnTo>
                    <a:pt x="13" y="89"/>
                  </a:lnTo>
                  <a:lnTo>
                    <a:pt x="13" y="100"/>
                  </a:lnTo>
                  <a:lnTo>
                    <a:pt x="11" y="112"/>
                  </a:lnTo>
                  <a:lnTo>
                    <a:pt x="11" y="123"/>
                  </a:lnTo>
                  <a:lnTo>
                    <a:pt x="10" y="135"/>
                  </a:lnTo>
                  <a:close/>
                </a:path>
              </a:pathLst>
            </a:custGeom>
            <a:solidFill>
              <a:srgbClr val="d1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H="1">
              <a:off x="6684120" y="3305160"/>
              <a:ext cx="180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1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 flipH="1">
              <a:off x="6643080" y="3240000"/>
              <a:ext cx="20520" cy="5256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5" y="54"/>
                  </a:moveTo>
                  <a:lnTo>
                    <a:pt x="5" y="56"/>
                  </a:lnTo>
                  <a:lnTo>
                    <a:pt x="5" y="59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11" y="54"/>
                  </a:lnTo>
                  <a:lnTo>
                    <a:pt x="16" y="43"/>
                  </a:lnTo>
                  <a:lnTo>
                    <a:pt x="21" y="32"/>
                  </a:lnTo>
                  <a:lnTo>
                    <a:pt x="26" y="20"/>
                  </a:lnTo>
                  <a:lnTo>
                    <a:pt x="17" y="0"/>
                  </a:lnTo>
                  <a:lnTo>
                    <a:pt x="13" y="9"/>
                  </a:lnTo>
                  <a:lnTo>
                    <a:pt x="9" y="18"/>
                  </a:lnTo>
                  <a:lnTo>
                    <a:pt x="5" y="28"/>
                  </a:lnTo>
                  <a:lnTo>
                    <a:pt x="0" y="38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d1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 flipH="1">
              <a:off x="7403400" y="3057480"/>
              <a:ext cx="27000" cy="4140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12" y="44"/>
                  </a:moveTo>
                  <a:lnTo>
                    <a:pt x="16" y="42"/>
                  </a:lnTo>
                  <a:lnTo>
                    <a:pt x="19" y="39"/>
                  </a:lnTo>
                  <a:lnTo>
                    <a:pt x="23" y="38"/>
                  </a:lnTo>
                  <a:lnTo>
                    <a:pt x="26" y="36"/>
                  </a:lnTo>
                  <a:lnTo>
                    <a:pt x="28" y="27"/>
                  </a:lnTo>
                  <a:lnTo>
                    <a:pt x="29" y="17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27"/>
                  </a:lnTo>
                  <a:lnTo>
                    <a:pt x="3" y="35"/>
                  </a:lnTo>
                  <a:lnTo>
                    <a:pt x="2" y="44"/>
                  </a:lnTo>
                  <a:lnTo>
                    <a:pt x="0" y="53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6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d1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H="1">
              <a:off x="7372080" y="3090960"/>
              <a:ext cx="63360" cy="20160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47" y="250"/>
                  </a:moveTo>
                  <a:lnTo>
                    <a:pt x="48" y="249"/>
                  </a:lnTo>
                  <a:lnTo>
                    <a:pt x="51" y="249"/>
                  </a:lnTo>
                  <a:lnTo>
                    <a:pt x="52" y="249"/>
                  </a:lnTo>
                  <a:lnTo>
                    <a:pt x="53" y="249"/>
                  </a:lnTo>
                  <a:lnTo>
                    <a:pt x="60" y="249"/>
                  </a:lnTo>
                  <a:lnTo>
                    <a:pt x="66" y="250"/>
                  </a:lnTo>
                  <a:lnTo>
                    <a:pt x="73" y="251"/>
                  </a:lnTo>
                  <a:lnTo>
                    <a:pt x="78" y="253"/>
                  </a:lnTo>
                  <a:lnTo>
                    <a:pt x="66" y="231"/>
                  </a:lnTo>
                  <a:lnTo>
                    <a:pt x="55" y="208"/>
                  </a:lnTo>
                  <a:lnTo>
                    <a:pt x="46" y="185"/>
                  </a:lnTo>
                  <a:lnTo>
                    <a:pt x="38" y="161"/>
                  </a:lnTo>
                  <a:lnTo>
                    <a:pt x="32" y="136"/>
                  </a:lnTo>
                  <a:lnTo>
                    <a:pt x="28" y="111"/>
                  </a:lnTo>
                  <a:lnTo>
                    <a:pt x="25" y="85"/>
                  </a:lnTo>
                  <a:lnTo>
                    <a:pt x="24" y="60"/>
                  </a:lnTo>
                  <a:lnTo>
                    <a:pt x="24" y="45"/>
                  </a:lnTo>
                  <a:lnTo>
                    <a:pt x="25" y="30"/>
                  </a:lnTo>
                  <a:lnTo>
                    <a:pt x="28" y="15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33"/>
                  </a:lnTo>
                  <a:lnTo>
                    <a:pt x="1" y="43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1" y="91"/>
                  </a:lnTo>
                  <a:lnTo>
                    <a:pt x="3" y="115"/>
                  </a:lnTo>
                  <a:lnTo>
                    <a:pt x="7" y="138"/>
                  </a:lnTo>
                  <a:lnTo>
                    <a:pt x="13" y="161"/>
                  </a:lnTo>
                  <a:lnTo>
                    <a:pt x="20" y="184"/>
                  </a:lnTo>
                  <a:lnTo>
                    <a:pt x="28" y="206"/>
                  </a:lnTo>
                  <a:lnTo>
                    <a:pt x="37" y="228"/>
                  </a:lnTo>
                  <a:lnTo>
                    <a:pt x="47" y="250"/>
                  </a:lnTo>
                  <a:close/>
                </a:path>
              </a:pathLst>
            </a:custGeom>
            <a:solidFill>
              <a:srgbClr val="d1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 flipH="1">
              <a:off x="7385760" y="3011400"/>
              <a:ext cx="34920" cy="4788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17" y="50"/>
                  </a:moveTo>
                  <a:lnTo>
                    <a:pt x="20" y="48"/>
                  </a:lnTo>
                  <a:lnTo>
                    <a:pt x="22" y="45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1" y="33"/>
                  </a:lnTo>
                  <a:lnTo>
                    <a:pt x="36" y="22"/>
                  </a:lnTo>
                  <a:lnTo>
                    <a:pt x="40" y="11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2" y="28"/>
                  </a:lnTo>
                  <a:lnTo>
                    <a:pt x="7" y="38"/>
                  </a:lnTo>
                  <a:lnTo>
                    <a:pt x="4" y="49"/>
                  </a:lnTo>
                  <a:lnTo>
                    <a:pt x="0" y="60"/>
                  </a:lnTo>
                  <a:lnTo>
                    <a:pt x="5" y="57"/>
                  </a:lnTo>
                  <a:lnTo>
                    <a:pt x="9" y="55"/>
                  </a:lnTo>
                  <a:lnTo>
                    <a:pt x="13" y="52"/>
                  </a:lnTo>
                  <a:lnTo>
                    <a:pt x="17" y="50"/>
                  </a:lnTo>
                  <a:close/>
                </a:path>
              </a:pathLst>
            </a:custGeom>
            <a:solidFill>
              <a:srgbClr val="d1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 flipH="1">
              <a:off x="7382880" y="3046320"/>
              <a:ext cx="27000" cy="381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2" y="49"/>
                  </a:moveTo>
                  <a:lnTo>
                    <a:pt x="6" y="46"/>
                  </a:lnTo>
                  <a:lnTo>
                    <a:pt x="9" y="43"/>
                  </a:lnTo>
                  <a:lnTo>
                    <a:pt x="13" y="39"/>
                  </a:lnTo>
                  <a:lnTo>
                    <a:pt x="15" y="35"/>
                  </a:lnTo>
                  <a:lnTo>
                    <a:pt x="15" y="38"/>
                  </a:lnTo>
                  <a:lnTo>
                    <a:pt x="18" y="35"/>
                  </a:lnTo>
                  <a:lnTo>
                    <a:pt x="21" y="32"/>
                  </a:lnTo>
                  <a:lnTo>
                    <a:pt x="24" y="31"/>
                  </a:lnTo>
                  <a:lnTo>
                    <a:pt x="27" y="29"/>
                  </a:lnTo>
                  <a:lnTo>
                    <a:pt x="29" y="21"/>
                  </a:lnTo>
                  <a:lnTo>
                    <a:pt x="31" y="14"/>
                  </a:lnTo>
                  <a:lnTo>
                    <a:pt x="32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2" y="4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 flipH="1">
              <a:off x="7355880" y="2987640"/>
              <a:ext cx="44280" cy="5868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2" y="71"/>
                  </a:moveTo>
                  <a:lnTo>
                    <a:pt x="5" y="66"/>
                  </a:lnTo>
                  <a:lnTo>
                    <a:pt x="9" y="63"/>
                  </a:lnTo>
                  <a:lnTo>
                    <a:pt x="15" y="60"/>
                  </a:lnTo>
                  <a:lnTo>
                    <a:pt x="19" y="57"/>
                  </a:lnTo>
                  <a:lnTo>
                    <a:pt x="22" y="55"/>
                  </a:lnTo>
                  <a:lnTo>
                    <a:pt x="24" y="54"/>
                  </a:lnTo>
                  <a:lnTo>
                    <a:pt x="27" y="51"/>
                  </a:lnTo>
                  <a:lnTo>
                    <a:pt x="30" y="49"/>
                  </a:lnTo>
                  <a:lnTo>
                    <a:pt x="35" y="36"/>
                  </a:lnTo>
                  <a:lnTo>
                    <a:pt x="41" y="24"/>
                  </a:lnTo>
                  <a:lnTo>
                    <a:pt x="48" y="12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0" y="3"/>
                  </a:lnTo>
                  <a:lnTo>
                    <a:pt x="49" y="5"/>
                  </a:lnTo>
                  <a:lnTo>
                    <a:pt x="47" y="8"/>
                  </a:lnTo>
                  <a:lnTo>
                    <a:pt x="43" y="10"/>
                  </a:lnTo>
                  <a:lnTo>
                    <a:pt x="40" y="12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2" y="39"/>
                  </a:lnTo>
                  <a:lnTo>
                    <a:pt x="8" y="50"/>
                  </a:lnTo>
                  <a:lnTo>
                    <a:pt x="3" y="61"/>
                  </a:lnTo>
                  <a:lnTo>
                    <a:pt x="0" y="72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H="1">
              <a:off x="6649200" y="3222720"/>
              <a:ext cx="19080" cy="4752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6" y="60"/>
                  </a:moveTo>
                  <a:lnTo>
                    <a:pt x="11" y="50"/>
                  </a:lnTo>
                  <a:lnTo>
                    <a:pt x="15" y="40"/>
                  </a:lnTo>
                  <a:lnTo>
                    <a:pt x="19" y="31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2" y="9"/>
                  </a:lnTo>
                  <a:lnTo>
                    <a:pt x="8" y="18"/>
                  </a:lnTo>
                  <a:lnTo>
                    <a:pt x="5" y="27"/>
                  </a:lnTo>
                  <a:lnTo>
                    <a:pt x="0" y="36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 flipH="1">
              <a:off x="6631920" y="3057480"/>
              <a:ext cx="20520" cy="154080"/>
            </a:xfrm>
            <a:custGeom>
              <a:avLst/>
              <a:gdLst/>
              <a:ahLst/>
              <a:rect l="l" t="t" r="r" b="b"/>
              <a:pathLst>
                <a:path w="27" h="195">
                  <a:moveTo>
                    <a:pt x="12" y="134"/>
                  </a:moveTo>
                  <a:lnTo>
                    <a:pt x="9" y="145"/>
                  </a:lnTo>
                  <a:lnTo>
                    <a:pt x="8" y="156"/>
                  </a:lnTo>
                  <a:lnTo>
                    <a:pt x="6" y="167"/>
                  </a:lnTo>
                  <a:lnTo>
                    <a:pt x="3" y="179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2" y="191"/>
                  </a:lnTo>
                  <a:lnTo>
                    <a:pt x="14" y="195"/>
                  </a:lnTo>
                  <a:lnTo>
                    <a:pt x="17" y="182"/>
                  </a:lnTo>
                  <a:lnTo>
                    <a:pt x="20" y="168"/>
                  </a:lnTo>
                  <a:lnTo>
                    <a:pt x="22" y="156"/>
                  </a:lnTo>
                  <a:lnTo>
                    <a:pt x="24" y="143"/>
                  </a:lnTo>
                  <a:lnTo>
                    <a:pt x="25" y="131"/>
                  </a:lnTo>
                  <a:lnTo>
                    <a:pt x="25" y="120"/>
                  </a:lnTo>
                  <a:lnTo>
                    <a:pt x="27" y="108"/>
                  </a:lnTo>
                  <a:lnTo>
                    <a:pt x="27" y="97"/>
                  </a:lnTo>
                  <a:lnTo>
                    <a:pt x="25" y="75"/>
                  </a:lnTo>
                  <a:lnTo>
                    <a:pt x="22" y="52"/>
                  </a:lnTo>
                  <a:lnTo>
                    <a:pt x="18" y="30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7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6" y="22"/>
                  </a:lnTo>
                  <a:lnTo>
                    <a:pt x="9" y="44"/>
                  </a:lnTo>
                  <a:lnTo>
                    <a:pt x="13" y="67"/>
                  </a:lnTo>
                  <a:lnTo>
                    <a:pt x="14" y="90"/>
                  </a:lnTo>
                  <a:lnTo>
                    <a:pt x="14" y="100"/>
                  </a:lnTo>
                  <a:lnTo>
                    <a:pt x="13" y="112"/>
                  </a:lnTo>
                  <a:lnTo>
                    <a:pt x="13" y="122"/>
                  </a:lnTo>
                  <a:lnTo>
                    <a:pt x="12" y="134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H="1">
              <a:off x="6684480" y="3279960"/>
              <a:ext cx="20880" cy="298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3" y="37"/>
                  </a:moveTo>
                  <a:lnTo>
                    <a:pt x="25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22"/>
                  </a:lnTo>
                  <a:lnTo>
                    <a:pt x="27" y="15"/>
                  </a:lnTo>
                  <a:lnTo>
                    <a:pt x="27" y="8"/>
                  </a:lnTo>
                  <a:lnTo>
                    <a:pt x="27" y="0"/>
                  </a:lnTo>
                  <a:lnTo>
                    <a:pt x="21" y="11"/>
                  </a:lnTo>
                  <a:lnTo>
                    <a:pt x="14" y="20"/>
                  </a:lnTo>
                  <a:lnTo>
                    <a:pt x="7" y="29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2" y="37"/>
                  </a:lnTo>
                  <a:lnTo>
                    <a:pt x="18" y="37"/>
                  </a:lnTo>
                  <a:lnTo>
                    <a:pt x="23" y="37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 flipH="1">
              <a:off x="7335000" y="3075120"/>
              <a:ext cx="79560" cy="23328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54" y="273"/>
                  </a:moveTo>
                  <a:lnTo>
                    <a:pt x="58" y="274"/>
                  </a:lnTo>
                  <a:lnTo>
                    <a:pt x="61" y="275"/>
                  </a:lnTo>
                  <a:lnTo>
                    <a:pt x="65" y="277"/>
                  </a:lnTo>
                  <a:lnTo>
                    <a:pt x="69" y="278"/>
                  </a:lnTo>
                  <a:lnTo>
                    <a:pt x="77" y="281"/>
                  </a:lnTo>
                  <a:lnTo>
                    <a:pt x="85" y="286"/>
                  </a:lnTo>
                  <a:lnTo>
                    <a:pt x="92" y="289"/>
                  </a:lnTo>
                  <a:lnTo>
                    <a:pt x="100" y="294"/>
                  </a:lnTo>
                  <a:lnTo>
                    <a:pt x="83" y="270"/>
                  </a:lnTo>
                  <a:lnTo>
                    <a:pt x="68" y="244"/>
                  </a:lnTo>
                  <a:lnTo>
                    <a:pt x="55" y="218"/>
                  </a:lnTo>
                  <a:lnTo>
                    <a:pt x="44" y="190"/>
                  </a:lnTo>
                  <a:lnTo>
                    <a:pt x="36" y="161"/>
                  </a:lnTo>
                  <a:lnTo>
                    <a:pt x="29" y="133"/>
                  </a:lnTo>
                  <a:lnTo>
                    <a:pt x="25" y="103"/>
                  </a:lnTo>
                  <a:lnTo>
                    <a:pt x="24" y="73"/>
                  </a:lnTo>
                  <a:lnTo>
                    <a:pt x="24" y="54"/>
                  </a:lnTo>
                  <a:lnTo>
                    <a:pt x="27" y="36"/>
                  </a:lnTo>
                  <a:lnTo>
                    <a:pt x="29" y="19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4" y="35"/>
                  </a:lnTo>
                  <a:lnTo>
                    <a:pt x="1" y="50"/>
                  </a:lnTo>
                  <a:lnTo>
                    <a:pt x="0" y="65"/>
                  </a:lnTo>
                  <a:lnTo>
                    <a:pt x="0" y="80"/>
                  </a:lnTo>
                  <a:lnTo>
                    <a:pt x="1" y="105"/>
                  </a:lnTo>
                  <a:lnTo>
                    <a:pt x="4" y="131"/>
                  </a:lnTo>
                  <a:lnTo>
                    <a:pt x="8" y="156"/>
                  </a:lnTo>
                  <a:lnTo>
                    <a:pt x="14" y="181"/>
                  </a:lnTo>
                  <a:lnTo>
                    <a:pt x="22" y="205"/>
                  </a:lnTo>
                  <a:lnTo>
                    <a:pt x="31" y="228"/>
                  </a:lnTo>
                  <a:lnTo>
                    <a:pt x="42" y="251"/>
                  </a:lnTo>
                  <a:lnTo>
                    <a:pt x="54" y="273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>
              <a:off x="7350840" y="2978280"/>
              <a:ext cx="9720" cy="9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8"/>
                  </a:moveTo>
                  <a:lnTo>
                    <a:pt x="1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7" y="9"/>
                  </a:lnTo>
                  <a:lnTo>
                    <a:pt x="9" y="6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 flipH="1">
              <a:off x="7324200" y="2963880"/>
              <a:ext cx="52560" cy="6336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2" y="78"/>
                  </a:moveTo>
                  <a:lnTo>
                    <a:pt x="7" y="76"/>
                  </a:lnTo>
                  <a:lnTo>
                    <a:pt x="11" y="72"/>
                  </a:lnTo>
                  <a:lnTo>
                    <a:pt x="15" y="70"/>
                  </a:lnTo>
                  <a:lnTo>
                    <a:pt x="19" y="68"/>
                  </a:lnTo>
                  <a:lnTo>
                    <a:pt x="22" y="65"/>
                  </a:lnTo>
                  <a:lnTo>
                    <a:pt x="25" y="64"/>
                  </a:lnTo>
                  <a:lnTo>
                    <a:pt x="27" y="62"/>
                  </a:lnTo>
                  <a:lnTo>
                    <a:pt x="30" y="61"/>
                  </a:lnTo>
                  <a:lnTo>
                    <a:pt x="33" y="53"/>
                  </a:lnTo>
                  <a:lnTo>
                    <a:pt x="38" y="46"/>
                  </a:lnTo>
                  <a:lnTo>
                    <a:pt x="42" y="38"/>
                  </a:lnTo>
                  <a:lnTo>
                    <a:pt x="46" y="30"/>
                  </a:lnTo>
                  <a:lnTo>
                    <a:pt x="50" y="22"/>
                  </a:lnTo>
                  <a:lnTo>
                    <a:pt x="55" y="15"/>
                  </a:lnTo>
                  <a:lnTo>
                    <a:pt x="61" y="7"/>
                  </a:lnTo>
                  <a:lnTo>
                    <a:pt x="65" y="0"/>
                  </a:lnTo>
                  <a:lnTo>
                    <a:pt x="61" y="2"/>
                  </a:lnTo>
                  <a:lnTo>
                    <a:pt x="56" y="4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39" y="13"/>
                  </a:lnTo>
                  <a:lnTo>
                    <a:pt x="37" y="15"/>
                  </a:lnTo>
                  <a:lnTo>
                    <a:pt x="33" y="16"/>
                  </a:lnTo>
                  <a:lnTo>
                    <a:pt x="31" y="17"/>
                  </a:lnTo>
                  <a:lnTo>
                    <a:pt x="30" y="19"/>
                  </a:lnTo>
                  <a:lnTo>
                    <a:pt x="28" y="23"/>
                  </a:lnTo>
                  <a:lnTo>
                    <a:pt x="26" y="26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18" y="42"/>
                  </a:lnTo>
                  <a:lnTo>
                    <a:pt x="11" y="54"/>
                  </a:lnTo>
                  <a:lnTo>
                    <a:pt x="5" y="66"/>
                  </a:lnTo>
                  <a:lnTo>
                    <a:pt x="0" y="79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 flipH="1">
              <a:off x="7282800" y="3059280"/>
              <a:ext cx="112680" cy="276120"/>
            </a:xfrm>
            <a:custGeom>
              <a:avLst/>
              <a:gdLst/>
              <a:ahLst/>
              <a:rect l="l" t="t" r="r" b="b"/>
              <a:pathLst>
                <a:path w="143" h="349">
                  <a:moveTo>
                    <a:pt x="76" y="314"/>
                  </a:moveTo>
                  <a:lnTo>
                    <a:pt x="82" y="317"/>
                  </a:lnTo>
                  <a:lnTo>
                    <a:pt x="89" y="321"/>
                  </a:lnTo>
                  <a:lnTo>
                    <a:pt x="95" y="324"/>
                  </a:lnTo>
                  <a:lnTo>
                    <a:pt x="101" y="328"/>
                  </a:lnTo>
                  <a:lnTo>
                    <a:pt x="105" y="331"/>
                  </a:lnTo>
                  <a:lnTo>
                    <a:pt x="111" y="334"/>
                  </a:lnTo>
                  <a:lnTo>
                    <a:pt x="116" y="336"/>
                  </a:lnTo>
                  <a:lnTo>
                    <a:pt x="121" y="339"/>
                  </a:lnTo>
                  <a:lnTo>
                    <a:pt x="126" y="342"/>
                  </a:lnTo>
                  <a:lnTo>
                    <a:pt x="132" y="344"/>
                  </a:lnTo>
                  <a:lnTo>
                    <a:pt x="137" y="346"/>
                  </a:lnTo>
                  <a:lnTo>
                    <a:pt x="143" y="349"/>
                  </a:lnTo>
                  <a:lnTo>
                    <a:pt x="117" y="322"/>
                  </a:lnTo>
                  <a:lnTo>
                    <a:pt x="94" y="292"/>
                  </a:lnTo>
                  <a:lnTo>
                    <a:pt x="73" y="262"/>
                  </a:lnTo>
                  <a:lnTo>
                    <a:pt x="57" y="229"/>
                  </a:lnTo>
                  <a:lnTo>
                    <a:pt x="43" y="195"/>
                  </a:lnTo>
                  <a:lnTo>
                    <a:pt x="33" y="160"/>
                  </a:lnTo>
                  <a:lnTo>
                    <a:pt x="27" y="123"/>
                  </a:lnTo>
                  <a:lnTo>
                    <a:pt x="25" y="85"/>
                  </a:lnTo>
                  <a:lnTo>
                    <a:pt x="26" y="63"/>
                  </a:lnTo>
                  <a:lnTo>
                    <a:pt x="27" y="42"/>
                  </a:lnTo>
                  <a:lnTo>
                    <a:pt x="30" y="21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5" y="7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5" y="39"/>
                  </a:lnTo>
                  <a:lnTo>
                    <a:pt x="3" y="56"/>
                  </a:lnTo>
                  <a:lnTo>
                    <a:pt x="0" y="74"/>
                  </a:lnTo>
                  <a:lnTo>
                    <a:pt x="0" y="93"/>
                  </a:lnTo>
                  <a:lnTo>
                    <a:pt x="1" y="123"/>
                  </a:lnTo>
                  <a:lnTo>
                    <a:pt x="5" y="153"/>
                  </a:lnTo>
                  <a:lnTo>
                    <a:pt x="12" y="181"/>
                  </a:lnTo>
                  <a:lnTo>
                    <a:pt x="20" y="210"/>
                  </a:lnTo>
                  <a:lnTo>
                    <a:pt x="31" y="238"/>
                  </a:lnTo>
                  <a:lnTo>
                    <a:pt x="44" y="264"/>
                  </a:lnTo>
                  <a:lnTo>
                    <a:pt x="59" y="290"/>
                  </a:lnTo>
                  <a:lnTo>
                    <a:pt x="76" y="314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 flipH="1">
              <a:off x="7360560" y="3035160"/>
              <a:ext cx="28440" cy="3348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40"/>
                  </a:moveTo>
                  <a:lnTo>
                    <a:pt x="9" y="37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5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29" y="15"/>
                  </a:lnTo>
                  <a:lnTo>
                    <a:pt x="32" y="10"/>
                  </a:lnTo>
                  <a:lnTo>
                    <a:pt x="33" y="5"/>
                  </a:lnTo>
                  <a:lnTo>
                    <a:pt x="34" y="0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 flipH="1">
              <a:off x="6641640" y="3051360"/>
              <a:ext cx="20880" cy="147600"/>
            </a:xfrm>
            <a:custGeom>
              <a:avLst/>
              <a:gdLst/>
              <a:ahLst/>
              <a:rect l="l" t="t" r="r" b="b"/>
              <a:pathLst>
                <a:path w="27" h="186">
                  <a:moveTo>
                    <a:pt x="12" y="131"/>
                  </a:moveTo>
                  <a:lnTo>
                    <a:pt x="11" y="142"/>
                  </a:lnTo>
                  <a:lnTo>
                    <a:pt x="8" y="152"/>
                  </a:lnTo>
                  <a:lnTo>
                    <a:pt x="7" y="163"/>
                  </a:lnTo>
                  <a:lnTo>
                    <a:pt x="5" y="173"/>
                  </a:lnTo>
                  <a:lnTo>
                    <a:pt x="6" y="174"/>
                  </a:lnTo>
                  <a:lnTo>
                    <a:pt x="7" y="176"/>
                  </a:lnTo>
                  <a:lnTo>
                    <a:pt x="10" y="178"/>
                  </a:lnTo>
                  <a:lnTo>
                    <a:pt x="11" y="180"/>
                  </a:lnTo>
                  <a:lnTo>
                    <a:pt x="14" y="183"/>
                  </a:lnTo>
                  <a:lnTo>
                    <a:pt x="14" y="185"/>
                  </a:lnTo>
                  <a:lnTo>
                    <a:pt x="15" y="185"/>
                  </a:lnTo>
                  <a:lnTo>
                    <a:pt x="15" y="185"/>
                  </a:lnTo>
                  <a:lnTo>
                    <a:pt x="16" y="186"/>
                  </a:lnTo>
                  <a:lnTo>
                    <a:pt x="19" y="174"/>
                  </a:lnTo>
                  <a:lnTo>
                    <a:pt x="21" y="163"/>
                  </a:lnTo>
                  <a:lnTo>
                    <a:pt x="22" y="152"/>
                  </a:lnTo>
                  <a:lnTo>
                    <a:pt x="25" y="141"/>
                  </a:lnTo>
                  <a:lnTo>
                    <a:pt x="26" y="129"/>
                  </a:lnTo>
                  <a:lnTo>
                    <a:pt x="26" y="119"/>
                  </a:lnTo>
                  <a:lnTo>
                    <a:pt x="27" y="107"/>
                  </a:lnTo>
                  <a:lnTo>
                    <a:pt x="27" y="97"/>
                  </a:lnTo>
                  <a:lnTo>
                    <a:pt x="26" y="74"/>
                  </a:lnTo>
                  <a:lnTo>
                    <a:pt x="22" y="51"/>
                  </a:lnTo>
                  <a:lnTo>
                    <a:pt x="19" y="29"/>
                  </a:lnTo>
                  <a:lnTo>
                    <a:pt x="13" y="7"/>
                  </a:lnTo>
                  <a:lnTo>
                    <a:pt x="10" y="5"/>
                  </a:lnTo>
                  <a:lnTo>
                    <a:pt x="6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0" y="44"/>
                  </a:lnTo>
                  <a:lnTo>
                    <a:pt x="12" y="66"/>
                  </a:lnTo>
                  <a:lnTo>
                    <a:pt x="13" y="89"/>
                  </a:lnTo>
                  <a:lnTo>
                    <a:pt x="13" y="99"/>
                  </a:lnTo>
                  <a:lnTo>
                    <a:pt x="13" y="110"/>
                  </a:lnTo>
                  <a:lnTo>
                    <a:pt x="13" y="121"/>
                  </a:lnTo>
                  <a:lnTo>
                    <a:pt x="12" y="131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 flipH="1">
              <a:off x="6684120" y="3260880"/>
              <a:ext cx="25560" cy="507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3" y="41"/>
                  </a:moveTo>
                  <a:lnTo>
                    <a:pt x="3" y="46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5" y="62"/>
                  </a:lnTo>
                  <a:lnTo>
                    <a:pt x="12" y="53"/>
                  </a:lnTo>
                  <a:lnTo>
                    <a:pt x="19" y="44"/>
                  </a:lnTo>
                  <a:lnTo>
                    <a:pt x="26" y="35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27" y="0"/>
                  </a:lnTo>
                  <a:lnTo>
                    <a:pt x="21" y="9"/>
                  </a:lnTo>
                  <a:lnTo>
                    <a:pt x="16" y="18"/>
                  </a:lnTo>
                  <a:lnTo>
                    <a:pt x="10" y="29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 flipH="1">
              <a:off x="6656040" y="3205080"/>
              <a:ext cx="17280" cy="4608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6" y="57"/>
                  </a:moveTo>
                  <a:lnTo>
                    <a:pt x="11" y="48"/>
                  </a:lnTo>
                  <a:lnTo>
                    <a:pt x="14" y="39"/>
                  </a:lnTo>
                  <a:lnTo>
                    <a:pt x="18" y="30"/>
                  </a:lnTo>
                  <a:lnTo>
                    <a:pt x="21" y="2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8"/>
                  </a:lnTo>
                  <a:lnTo>
                    <a:pt x="5" y="16"/>
                  </a:lnTo>
                  <a:lnTo>
                    <a:pt x="3" y="25"/>
                  </a:lnTo>
                  <a:lnTo>
                    <a:pt x="0" y="33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 flipH="1">
              <a:off x="6687360" y="3245040"/>
              <a:ext cx="19080" cy="4572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59"/>
                  </a:moveTo>
                  <a:lnTo>
                    <a:pt x="7" y="50"/>
                  </a:lnTo>
                  <a:lnTo>
                    <a:pt x="13" y="39"/>
                  </a:lnTo>
                  <a:lnTo>
                    <a:pt x="18" y="30"/>
                  </a:lnTo>
                  <a:lnTo>
                    <a:pt x="24" y="2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2" y="9"/>
                  </a:lnTo>
                  <a:lnTo>
                    <a:pt x="8" y="14"/>
                  </a:lnTo>
                  <a:lnTo>
                    <a:pt x="6" y="19"/>
                  </a:lnTo>
                  <a:lnTo>
                    <a:pt x="5" y="28"/>
                  </a:lnTo>
                  <a:lnTo>
                    <a:pt x="3" y="37"/>
                  </a:lnTo>
                  <a:lnTo>
                    <a:pt x="1" y="4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 flipH="1">
              <a:off x="6724440" y="3290760"/>
              <a:ext cx="23760" cy="27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3" y="32"/>
                  </a:moveTo>
                  <a:lnTo>
                    <a:pt x="17" y="30"/>
                  </a:lnTo>
                  <a:lnTo>
                    <a:pt x="21" y="29"/>
                  </a:lnTo>
                  <a:lnTo>
                    <a:pt x="24" y="29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17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1" y="0"/>
                  </a:lnTo>
                  <a:lnTo>
                    <a:pt x="23" y="8"/>
                  </a:lnTo>
                  <a:lnTo>
                    <a:pt x="16" y="17"/>
                  </a:lnTo>
                  <a:lnTo>
                    <a:pt x="8" y="25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 flipH="1">
              <a:off x="6663600" y="3197160"/>
              <a:ext cx="17640" cy="3492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8" y="34"/>
                  </a:moveTo>
                  <a:lnTo>
                    <a:pt x="11" y="43"/>
                  </a:lnTo>
                  <a:lnTo>
                    <a:pt x="14" y="35"/>
                  </a:lnTo>
                  <a:lnTo>
                    <a:pt x="16" y="26"/>
                  </a:lnTo>
                  <a:lnTo>
                    <a:pt x="20" y="18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6"/>
                  </a:lnTo>
                  <a:lnTo>
                    <a:pt x="5" y="13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5" y="31"/>
                  </a:lnTo>
                  <a:lnTo>
                    <a:pt x="6" y="32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 flipH="1">
              <a:off x="7295400" y="2949480"/>
              <a:ext cx="57240" cy="63720"/>
            </a:xfrm>
            <a:custGeom>
              <a:avLst/>
              <a:gdLst/>
              <a:ahLst/>
              <a:rect l="l" t="t" r="r" b="b"/>
              <a:pathLst>
                <a:path w="71" h="80">
                  <a:moveTo>
                    <a:pt x="5" y="77"/>
                  </a:moveTo>
                  <a:lnTo>
                    <a:pt x="9" y="75"/>
                  </a:lnTo>
                  <a:lnTo>
                    <a:pt x="12" y="72"/>
                  </a:lnTo>
                  <a:lnTo>
                    <a:pt x="15" y="69"/>
                  </a:lnTo>
                  <a:lnTo>
                    <a:pt x="18" y="67"/>
                  </a:lnTo>
                  <a:lnTo>
                    <a:pt x="22" y="65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33" y="58"/>
                  </a:lnTo>
                  <a:lnTo>
                    <a:pt x="36" y="51"/>
                  </a:lnTo>
                  <a:lnTo>
                    <a:pt x="41" y="43"/>
                  </a:lnTo>
                  <a:lnTo>
                    <a:pt x="46" y="36"/>
                  </a:lnTo>
                  <a:lnTo>
                    <a:pt x="50" y="29"/>
                  </a:lnTo>
                  <a:lnTo>
                    <a:pt x="55" y="21"/>
                  </a:lnTo>
                  <a:lnTo>
                    <a:pt x="61" y="14"/>
                  </a:lnTo>
                  <a:lnTo>
                    <a:pt x="65" y="7"/>
                  </a:lnTo>
                  <a:lnTo>
                    <a:pt x="71" y="0"/>
                  </a:lnTo>
                  <a:lnTo>
                    <a:pt x="65" y="4"/>
                  </a:lnTo>
                  <a:lnTo>
                    <a:pt x="58" y="7"/>
                  </a:lnTo>
                  <a:lnTo>
                    <a:pt x="51" y="11"/>
                  </a:lnTo>
                  <a:lnTo>
                    <a:pt x="45" y="14"/>
                  </a:lnTo>
                  <a:lnTo>
                    <a:pt x="42" y="15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6"/>
                  </a:lnTo>
                  <a:lnTo>
                    <a:pt x="25" y="34"/>
                  </a:lnTo>
                  <a:lnTo>
                    <a:pt x="20" y="41"/>
                  </a:lnTo>
                  <a:lnTo>
                    <a:pt x="16" y="49"/>
                  </a:lnTo>
                  <a:lnTo>
                    <a:pt x="12" y="57"/>
                  </a:lnTo>
                  <a:lnTo>
                    <a:pt x="8" y="65"/>
                  </a:lnTo>
                  <a:lnTo>
                    <a:pt x="3" y="72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3" y="79"/>
                  </a:lnTo>
                  <a:lnTo>
                    <a:pt x="4" y="79"/>
                  </a:lnTo>
                  <a:lnTo>
                    <a:pt x="5" y="7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 flipH="1">
              <a:off x="7338240" y="30225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7" y="33"/>
                  </a:moveTo>
                  <a:lnTo>
                    <a:pt x="11" y="30"/>
                  </a:lnTo>
                  <a:lnTo>
                    <a:pt x="14" y="27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0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0"/>
                  </a:lnTo>
                  <a:lnTo>
                    <a:pt x="31" y="3"/>
                  </a:lnTo>
                  <a:lnTo>
                    <a:pt x="29" y="5"/>
                  </a:lnTo>
                  <a:lnTo>
                    <a:pt x="26" y="7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4" y="12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7" y="33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 flipH="1">
              <a:off x="7239960" y="3044880"/>
              <a:ext cx="136440" cy="299880"/>
            </a:xfrm>
            <a:custGeom>
              <a:avLst/>
              <a:gdLst/>
              <a:ahLst/>
              <a:rect l="l" t="t" r="r" b="b"/>
              <a:pathLst>
                <a:path w="171" h="378">
                  <a:moveTo>
                    <a:pt x="118" y="367"/>
                  </a:moveTo>
                  <a:lnTo>
                    <a:pt x="122" y="368"/>
                  </a:lnTo>
                  <a:lnTo>
                    <a:pt x="125" y="370"/>
                  </a:lnTo>
                  <a:lnTo>
                    <a:pt x="129" y="371"/>
                  </a:lnTo>
                  <a:lnTo>
                    <a:pt x="132" y="372"/>
                  </a:lnTo>
                  <a:lnTo>
                    <a:pt x="137" y="373"/>
                  </a:lnTo>
                  <a:lnTo>
                    <a:pt x="141" y="373"/>
                  </a:lnTo>
                  <a:lnTo>
                    <a:pt x="147" y="375"/>
                  </a:lnTo>
                  <a:lnTo>
                    <a:pt x="152" y="376"/>
                  </a:lnTo>
                  <a:lnTo>
                    <a:pt x="156" y="377"/>
                  </a:lnTo>
                  <a:lnTo>
                    <a:pt x="162" y="377"/>
                  </a:lnTo>
                  <a:lnTo>
                    <a:pt x="167" y="378"/>
                  </a:lnTo>
                  <a:lnTo>
                    <a:pt x="171" y="378"/>
                  </a:lnTo>
                  <a:lnTo>
                    <a:pt x="139" y="350"/>
                  </a:lnTo>
                  <a:lnTo>
                    <a:pt x="110" y="320"/>
                  </a:lnTo>
                  <a:lnTo>
                    <a:pt x="85" y="288"/>
                  </a:lnTo>
                  <a:lnTo>
                    <a:pt x="63" y="254"/>
                  </a:lnTo>
                  <a:lnTo>
                    <a:pt x="47" y="217"/>
                  </a:lnTo>
                  <a:lnTo>
                    <a:pt x="34" y="178"/>
                  </a:lnTo>
                  <a:lnTo>
                    <a:pt x="26" y="137"/>
                  </a:lnTo>
                  <a:lnTo>
                    <a:pt x="24" y="96"/>
                  </a:lnTo>
                  <a:lnTo>
                    <a:pt x="25" y="72"/>
                  </a:lnTo>
                  <a:lnTo>
                    <a:pt x="27" y="47"/>
                  </a:lnTo>
                  <a:lnTo>
                    <a:pt x="32" y="23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5" y="39"/>
                  </a:lnTo>
                  <a:lnTo>
                    <a:pt x="2" y="60"/>
                  </a:lnTo>
                  <a:lnTo>
                    <a:pt x="1" y="81"/>
                  </a:lnTo>
                  <a:lnTo>
                    <a:pt x="0" y="103"/>
                  </a:lnTo>
                  <a:lnTo>
                    <a:pt x="2" y="141"/>
                  </a:lnTo>
                  <a:lnTo>
                    <a:pt x="8" y="178"/>
                  </a:lnTo>
                  <a:lnTo>
                    <a:pt x="18" y="213"/>
                  </a:lnTo>
                  <a:lnTo>
                    <a:pt x="32" y="247"/>
                  </a:lnTo>
                  <a:lnTo>
                    <a:pt x="48" y="280"/>
                  </a:lnTo>
                  <a:lnTo>
                    <a:pt x="69" y="310"/>
                  </a:lnTo>
                  <a:lnTo>
                    <a:pt x="92" y="340"/>
                  </a:lnTo>
                  <a:lnTo>
                    <a:pt x="118" y="36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 flipH="1">
              <a:off x="6652440" y="3044880"/>
              <a:ext cx="20520" cy="142920"/>
            </a:xfrm>
            <a:custGeom>
              <a:avLst/>
              <a:gdLst/>
              <a:ahLst/>
              <a:rect l="l" t="t" r="r" b="b"/>
              <a:pathLst>
                <a:path w="26" h="181">
                  <a:moveTo>
                    <a:pt x="12" y="130"/>
                  </a:moveTo>
                  <a:lnTo>
                    <a:pt x="11" y="139"/>
                  </a:lnTo>
                  <a:lnTo>
                    <a:pt x="10" y="149"/>
                  </a:lnTo>
                  <a:lnTo>
                    <a:pt x="8" y="159"/>
                  </a:lnTo>
                  <a:lnTo>
                    <a:pt x="5" y="168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0" y="171"/>
                  </a:lnTo>
                  <a:lnTo>
                    <a:pt x="12" y="174"/>
                  </a:lnTo>
                  <a:lnTo>
                    <a:pt x="16" y="178"/>
                  </a:lnTo>
                  <a:lnTo>
                    <a:pt x="18" y="181"/>
                  </a:lnTo>
                  <a:lnTo>
                    <a:pt x="20" y="171"/>
                  </a:lnTo>
                  <a:lnTo>
                    <a:pt x="21" y="160"/>
                  </a:lnTo>
                  <a:lnTo>
                    <a:pt x="24" y="150"/>
                  </a:lnTo>
                  <a:lnTo>
                    <a:pt x="25" y="139"/>
                  </a:lnTo>
                  <a:lnTo>
                    <a:pt x="26" y="129"/>
                  </a:lnTo>
                  <a:lnTo>
                    <a:pt x="26" y="118"/>
                  </a:lnTo>
                  <a:lnTo>
                    <a:pt x="26" y="107"/>
                  </a:lnTo>
                  <a:lnTo>
                    <a:pt x="26" y="97"/>
                  </a:lnTo>
                  <a:lnTo>
                    <a:pt x="25" y="74"/>
                  </a:lnTo>
                  <a:lnTo>
                    <a:pt x="23" y="52"/>
                  </a:lnTo>
                  <a:lnTo>
                    <a:pt x="19" y="30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8" y="5"/>
                  </a:lnTo>
                  <a:lnTo>
                    <a:pt x="5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5" y="22"/>
                  </a:lnTo>
                  <a:lnTo>
                    <a:pt x="10" y="44"/>
                  </a:lnTo>
                  <a:lnTo>
                    <a:pt x="12" y="67"/>
                  </a:lnTo>
                  <a:lnTo>
                    <a:pt x="13" y="89"/>
                  </a:lnTo>
                  <a:lnTo>
                    <a:pt x="13" y="99"/>
                  </a:lnTo>
                  <a:lnTo>
                    <a:pt x="13" y="110"/>
                  </a:lnTo>
                  <a:lnTo>
                    <a:pt x="13" y="120"/>
                  </a:lnTo>
                  <a:lnTo>
                    <a:pt x="12" y="13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H="1">
              <a:off x="7327440" y="3016440"/>
              <a:ext cx="15840" cy="17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17"/>
                  </a:moveTo>
                  <a:lnTo>
                    <a:pt x="14" y="13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5" y="12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c4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 flipH="1">
              <a:off x="6720840" y="3263760"/>
              <a:ext cx="52200" cy="55800"/>
            </a:xfrm>
            <a:custGeom>
              <a:avLst/>
              <a:gdLst/>
              <a:ahLst/>
              <a:rect l="l" t="t" r="r" b="b"/>
              <a:pathLst>
                <a:path w="66" h="72">
                  <a:moveTo>
                    <a:pt x="0" y="72"/>
                  </a:moveTo>
                  <a:lnTo>
                    <a:pt x="8" y="71"/>
                  </a:lnTo>
                  <a:lnTo>
                    <a:pt x="16" y="71"/>
                  </a:lnTo>
                  <a:lnTo>
                    <a:pt x="23" y="71"/>
                  </a:lnTo>
                  <a:lnTo>
                    <a:pt x="31" y="70"/>
                  </a:lnTo>
                  <a:lnTo>
                    <a:pt x="39" y="60"/>
                  </a:lnTo>
                  <a:lnTo>
                    <a:pt x="47" y="52"/>
                  </a:lnTo>
                  <a:lnTo>
                    <a:pt x="54" y="43"/>
                  </a:lnTo>
                  <a:lnTo>
                    <a:pt x="62" y="35"/>
                  </a:lnTo>
                  <a:lnTo>
                    <a:pt x="62" y="30"/>
                  </a:lnTo>
                  <a:lnTo>
                    <a:pt x="63" y="25"/>
                  </a:lnTo>
                  <a:lnTo>
                    <a:pt x="63" y="20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2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59" y="10"/>
                  </a:lnTo>
                  <a:lnTo>
                    <a:pt x="51" y="20"/>
                  </a:lnTo>
                  <a:lnTo>
                    <a:pt x="44" y="29"/>
                  </a:lnTo>
                  <a:lnTo>
                    <a:pt x="36" y="37"/>
                  </a:lnTo>
                  <a:lnTo>
                    <a:pt x="26" y="47"/>
                  </a:lnTo>
                  <a:lnTo>
                    <a:pt x="18" y="56"/>
                  </a:lnTo>
                  <a:lnTo>
                    <a:pt x="9" y="6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4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 flipH="1">
              <a:off x="6694200" y="3227400"/>
              <a:ext cx="9360" cy="3168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3" y="35"/>
                  </a:moveTo>
                  <a:lnTo>
                    <a:pt x="3" y="36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5" y="36"/>
                  </a:lnTo>
                  <a:lnTo>
                    <a:pt x="9" y="31"/>
                  </a:lnTo>
                  <a:lnTo>
                    <a:pt x="11" y="27"/>
                  </a:lnTo>
                  <a:lnTo>
                    <a:pt x="13" y="22"/>
                  </a:lnTo>
                  <a:lnTo>
                    <a:pt x="6" y="0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c4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 flipH="1">
              <a:off x="7206480" y="3032280"/>
              <a:ext cx="150840" cy="314280"/>
            </a:xfrm>
            <a:custGeom>
              <a:avLst/>
              <a:gdLst/>
              <a:ahLst/>
              <a:rect l="l" t="t" r="r" b="b"/>
              <a:pathLst>
                <a:path w="190" h="395">
                  <a:moveTo>
                    <a:pt x="147" y="394"/>
                  </a:moveTo>
                  <a:lnTo>
                    <a:pt x="149" y="394"/>
                  </a:lnTo>
                  <a:lnTo>
                    <a:pt x="151" y="394"/>
                  </a:lnTo>
                  <a:lnTo>
                    <a:pt x="153" y="394"/>
                  </a:lnTo>
                  <a:lnTo>
                    <a:pt x="154" y="395"/>
                  </a:lnTo>
                  <a:lnTo>
                    <a:pt x="154" y="395"/>
                  </a:lnTo>
                  <a:lnTo>
                    <a:pt x="158" y="395"/>
                  </a:lnTo>
                  <a:lnTo>
                    <a:pt x="164" y="395"/>
                  </a:lnTo>
                  <a:lnTo>
                    <a:pt x="173" y="395"/>
                  </a:lnTo>
                  <a:lnTo>
                    <a:pt x="181" y="394"/>
                  </a:lnTo>
                  <a:lnTo>
                    <a:pt x="190" y="392"/>
                  </a:lnTo>
                  <a:lnTo>
                    <a:pt x="154" y="365"/>
                  </a:lnTo>
                  <a:lnTo>
                    <a:pt x="121" y="335"/>
                  </a:lnTo>
                  <a:lnTo>
                    <a:pt x="92" y="303"/>
                  </a:lnTo>
                  <a:lnTo>
                    <a:pt x="69" y="267"/>
                  </a:lnTo>
                  <a:lnTo>
                    <a:pt x="49" y="230"/>
                  </a:lnTo>
                  <a:lnTo>
                    <a:pt x="34" y="190"/>
                  </a:lnTo>
                  <a:lnTo>
                    <a:pt x="26" y="149"/>
                  </a:lnTo>
                  <a:lnTo>
                    <a:pt x="23" y="105"/>
                  </a:lnTo>
                  <a:lnTo>
                    <a:pt x="24" y="77"/>
                  </a:lnTo>
                  <a:lnTo>
                    <a:pt x="27" y="51"/>
                  </a:lnTo>
                  <a:lnTo>
                    <a:pt x="33" y="25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33" y="5"/>
                  </a:lnTo>
                  <a:lnTo>
                    <a:pt x="30" y="7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8" y="39"/>
                  </a:lnTo>
                  <a:lnTo>
                    <a:pt x="3" y="63"/>
                  </a:lnTo>
                  <a:lnTo>
                    <a:pt x="1" y="88"/>
                  </a:lnTo>
                  <a:lnTo>
                    <a:pt x="0" y="112"/>
                  </a:lnTo>
                  <a:lnTo>
                    <a:pt x="2" y="153"/>
                  </a:lnTo>
                  <a:lnTo>
                    <a:pt x="10" y="194"/>
                  </a:lnTo>
                  <a:lnTo>
                    <a:pt x="23" y="233"/>
                  </a:lnTo>
                  <a:lnTo>
                    <a:pt x="39" y="270"/>
                  </a:lnTo>
                  <a:lnTo>
                    <a:pt x="61" y="304"/>
                  </a:lnTo>
                  <a:lnTo>
                    <a:pt x="86" y="336"/>
                  </a:lnTo>
                  <a:lnTo>
                    <a:pt x="115" y="366"/>
                  </a:lnTo>
                  <a:lnTo>
                    <a:pt x="147" y="394"/>
                  </a:lnTo>
                  <a:close/>
                </a:path>
              </a:pathLst>
            </a:custGeom>
            <a:solidFill>
              <a:srgbClr val="c4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H="1">
              <a:off x="7259040" y="2928960"/>
              <a:ext cx="66600" cy="666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5" y="80"/>
                  </a:moveTo>
                  <a:lnTo>
                    <a:pt x="13" y="76"/>
                  </a:lnTo>
                  <a:lnTo>
                    <a:pt x="20" y="71"/>
                  </a:lnTo>
                  <a:lnTo>
                    <a:pt x="27" y="67"/>
                  </a:lnTo>
                  <a:lnTo>
                    <a:pt x="33" y="62"/>
                  </a:lnTo>
                  <a:lnTo>
                    <a:pt x="39" y="54"/>
                  </a:lnTo>
                  <a:lnTo>
                    <a:pt x="45" y="46"/>
                  </a:lnTo>
                  <a:lnTo>
                    <a:pt x="51" y="38"/>
                  </a:lnTo>
                  <a:lnTo>
                    <a:pt x="58" y="30"/>
                  </a:lnTo>
                  <a:lnTo>
                    <a:pt x="63" y="23"/>
                  </a:lnTo>
                  <a:lnTo>
                    <a:pt x="70" y="15"/>
                  </a:lnTo>
                  <a:lnTo>
                    <a:pt x="77" y="7"/>
                  </a:lnTo>
                  <a:lnTo>
                    <a:pt x="84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0" y="8"/>
                  </a:lnTo>
                  <a:lnTo>
                    <a:pt x="67" y="11"/>
                  </a:lnTo>
                  <a:lnTo>
                    <a:pt x="62" y="14"/>
                  </a:lnTo>
                  <a:lnTo>
                    <a:pt x="58" y="16"/>
                  </a:lnTo>
                  <a:lnTo>
                    <a:pt x="53" y="18"/>
                  </a:lnTo>
                  <a:lnTo>
                    <a:pt x="48" y="20"/>
                  </a:lnTo>
                  <a:lnTo>
                    <a:pt x="46" y="22"/>
                  </a:lnTo>
                  <a:lnTo>
                    <a:pt x="44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2" y="33"/>
                  </a:lnTo>
                  <a:lnTo>
                    <a:pt x="28" y="40"/>
                  </a:lnTo>
                  <a:lnTo>
                    <a:pt x="22" y="47"/>
                  </a:lnTo>
                  <a:lnTo>
                    <a:pt x="17" y="55"/>
                  </a:lnTo>
                  <a:lnTo>
                    <a:pt x="13" y="62"/>
                  </a:lnTo>
                  <a:lnTo>
                    <a:pt x="8" y="69"/>
                  </a:lnTo>
                  <a:lnTo>
                    <a:pt x="3" y="77"/>
                  </a:lnTo>
                  <a:lnTo>
                    <a:pt x="0" y="84"/>
                  </a:lnTo>
                  <a:lnTo>
                    <a:pt x="1" y="83"/>
                  </a:lnTo>
                  <a:lnTo>
                    <a:pt x="2" y="82"/>
                  </a:lnTo>
                  <a:lnTo>
                    <a:pt x="3" y="82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c4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 flipH="1">
              <a:off x="6662160" y="3038400"/>
              <a:ext cx="28440" cy="181080"/>
            </a:xfrm>
            <a:custGeom>
              <a:avLst/>
              <a:gdLst/>
              <a:ahLst/>
              <a:rect l="l" t="t" r="r" b="b"/>
              <a:pathLst>
                <a:path w="35" h="227">
                  <a:moveTo>
                    <a:pt x="22" y="129"/>
                  </a:moveTo>
                  <a:lnTo>
                    <a:pt x="18" y="151"/>
                  </a:lnTo>
                  <a:lnTo>
                    <a:pt x="13" y="173"/>
                  </a:lnTo>
                  <a:lnTo>
                    <a:pt x="7" y="195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2" y="218"/>
                  </a:lnTo>
                  <a:lnTo>
                    <a:pt x="5" y="221"/>
                  </a:lnTo>
                  <a:lnTo>
                    <a:pt x="9" y="225"/>
                  </a:lnTo>
                  <a:lnTo>
                    <a:pt x="11" y="227"/>
                  </a:lnTo>
                  <a:lnTo>
                    <a:pt x="13" y="221"/>
                  </a:lnTo>
                  <a:lnTo>
                    <a:pt x="16" y="214"/>
                  </a:lnTo>
                  <a:lnTo>
                    <a:pt x="18" y="207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5" y="195"/>
                  </a:lnTo>
                  <a:lnTo>
                    <a:pt x="12" y="192"/>
                  </a:lnTo>
                  <a:lnTo>
                    <a:pt x="15" y="190"/>
                  </a:lnTo>
                  <a:lnTo>
                    <a:pt x="16" y="187"/>
                  </a:lnTo>
                  <a:lnTo>
                    <a:pt x="16" y="184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16" y="181"/>
                  </a:lnTo>
                  <a:lnTo>
                    <a:pt x="16" y="180"/>
                  </a:lnTo>
                  <a:lnTo>
                    <a:pt x="18" y="180"/>
                  </a:lnTo>
                  <a:lnTo>
                    <a:pt x="19" y="180"/>
                  </a:lnTo>
                  <a:lnTo>
                    <a:pt x="19" y="180"/>
                  </a:lnTo>
                  <a:lnTo>
                    <a:pt x="19" y="180"/>
                  </a:lnTo>
                  <a:lnTo>
                    <a:pt x="22" y="180"/>
                  </a:lnTo>
                  <a:lnTo>
                    <a:pt x="23" y="180"/>
                  </a:lnTo>
                  <a:lnTo>
                    <a:pt x="24" y="179"/>
                  </a:lnTo>
                  <a:lnTo>
                    <a:pt x="26" y="176"/>
                  </a:lnTo>
                  <a:lnTo>
                    <a:pt x="27" y="176"/>
                  </a:lnTo>
                  <a:lnTo>
                    <a:pt x="27" y="176"/>
                  </a:lnTo>
                  <a:lnTo>
                    <a:pt x="27" y="176"/>
                  </a:lnTo>
                  <a:lnTo>
                    <a:pt x="27" y="176"/>
                  </a:lnTo>
                  <a:lnTo>
                    <a:pt x="30" y="167"/>
                  </a:lnTo>
                  <a:lnTo>
                    <a:pt x="32" y="157"/>
                  </a:lnTo>
                  <a:lnTo>
                    <a:pt x="33" y="147"/>
                  </a:lnTo>
                  <a:lnTo>
                    <a:pt x="34" y="138"/>
                  </a:lnTo>
                  <a:lnTo>
                    <a:pt x="35" y="128"/>
                  </a:lnTo>
                  <a:lnTo>
                    <a:pt x="35" y="118"/>
                  </a:lnTo>
                  <a:lnTo>
                    <a:pt x="35" y="107"/>
                  </a:lnTo>
                  <a:lnTo>
                    <a:pt x="35" y="97"/>
                  </a:lnTo>
                  <a:lnTo>
                    <a:pt x="34" y="75"/>
                  </a:lnTo>
                  <a:lnTo>
                    <a:pt x="32" y="52"/>
                  </a:lnTo>
                  <a:lnTo>
                    <a:pt x="27" y="30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5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13" y="22"/>
                  </a:lnTo>
                  <a:lnTo>
                    <a:pt x="19" y="44"/>
                  </a:lnTo>
                  <a:lnTo>
                    <a:pt x="22" y="67"/>
                  </a:lnTo>
                  <a:lnTo>
                    <a:pt x="23" y="90"/>
                  </a:lnTo>
                  <a:lnTo>
                    <a:pt x="23" y="99"/>
                  </a:lnTo>
                  <a:lnTo>
                    <a:pt x="23" y="109"/>
                  </a:lnTo>
                  <a:lnTo>
                    <a:pt x="23" y="119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c4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 flipH="1">
              <a:off x="6672960" y="3032280"/>
              <a:ext cx="27000" cy="177480"/>
            </a:xfrm>
            <a:custGeom>
              <a:avLst/>
              <a:gdLst/>
              <a:ahLst/>
              <a:rect l="l" t="t" r="r" b="b"/>
              <a:pathLst>
                <a:path w="35" h="223">
                  <a:moveTo>
                    <a:pt x="21" y="127"/>
                  </a:moveTo>
                  <a:lnTo>
                    <a:pt x="17" y="149"/>
                  </a:lnTo>
                  <a:lnTo>
                    <a:pt x="13" y="170"/>
                  </a:lnTo>
                  <a:lnTo>
                    <a:pt x="7" y="191"/>
                  </a:lnTo>
                  <a:lnTo>
                    <a:pt x="0" y="211"/>
                  </a:lnTo>
                  <a:lnTo>
                    <a:pt x="2" y="213"/>
                  </a:lnTo>
                  <a:lnTo>
                    <a:pt x="6" y="215"/>
                  </a:lnTo>
                  <a:lnTo>
                    <a:pt x="8" y="218"/>
                  </a:lnTo>
                  <a:lnTo>
                    <a:pt x="12" y="220"/>
                  </a:lnTo>
                  <a:lnTo>
                    <a:pt x="12" y="223"/>
                  </a:lnTo>
                  <a:lnTo>
                    <a:pt x="19" y="203"/>
                  </a:lnTo>
                  <a:lnTo>
                    <a:pt x="25" y="181"/>
                  </a:lnTo>
                  <a:lnTo>
                    <a:pt x="30" y="159"/>
                  </a:lnTo>
                  <a:lnTo>
                    <a:pt x="34" y="137"/>
                  </a:lnTo>
                  <a:lnTo>
                    <a:pt x="35" y="127"/>
                  </a:lnTo>
                  <a:lnTo>
                    <a:pt x="35" y="117"/>
                  </a:lnTo>
                  <a:lnTo>
                    <a:pt x="35" y="107"/>
                  </a:lnTo>
                  <a:lnTo>
                    <a:pt x="35" y="98"/>
                  </a:lnTo>
                  <a:lnTo>
                    <a:pt x="34" y="75"/>
                  </a:lnTo>
                  <a:lnTo>
                    <a:pt x="31" y="52"/>
                  </a:lnTo>
                  <a:lnTo>
                    <a:pt x="25" y="30"/>
                  </a:lnTo>
                  <a:lnTo>
                    <a:pt x="20" y="8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13" y="22"/>
                  </a:lnTo>
                  <a:lnTo>
                    <a:pt x="17" y="44"/>
                  </a:lnTo>
                  <a:lnTo>
                    <a:pt x="21" y="67"/>
                  </a:lnTo>
                  <a:lnTo>
                    <a:pt x="22" y="90"/>
                  </a:lnTo>
                  <a:lnTo>
                    <a:pt x="22" y="99"/>
                  </a:lnTo>
                  <a:lnTo>
                    <a:pt x="22" y="108"/>
                  </a:lnTo>
                  <a:lnTo>
                    <a:pt x="22" y="117"/>
                  </a:lnTo>
                  <a:lnTo>
                    <a:pt x="21" y="127"/>
                  </a:lnTo>
                  <a:close/>
                </a:path>
              </a:pathLst>
            </a:custGeom>
            <a:solidFill>
              <a:srgbClr val="c1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 flipH="1">
              <a:off x="6717600" y="3241800"/>
              <a:ext cx="73080" cy="7776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0" y="92"/>
                  </a:moveTo>
                  <a:lnTo>
                    <a:pt x="0" y="93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6" y="99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2" y="99"/>
                  </a:lnTo>
                  <a:lnTo>
                    <a:pt x="31" y="91"/>
                  </a:lnTo>
                  <a:lnTo>
                    <a:pt x="40" y="83"/>
                  </a:lnTo>
                  <a:lnTo>
                    <a:pt x="48" y="74"/>
                  </a:lnTo>
                  <a:lnTo>
                    <a:pt x="58" y="64"/>
                  </a:lnTo>
                  <a:lnTo>
                    <a:pt x="66" y="56"/>
                  </a:lnTo>
                  <a:lnTo>
                    <a:pt x="73" y="47"/>
                  </a:lnTo>
                  <a:lnTo>
                    <a:pt x="81" y="37"/>
                  </a:lnTo>
                  <a:lnTo>
                    <a:pt x="88" y="27"/>
                  </a:lnTo>
                  <a:lnTo>
                    <a:pt x="89" y="22"/>
                  </a:lnTo>
                  <a:lnTo>
                    <a:pt x="90" y="16"/>
                  </a:lnTo>
                  <a:lnTo>
                    <a:pt x="91" y="11"/>
                  </a:lnTo>
                  <a:lnTo>
                    <a:pt x="92" y="6"/>
                  </a:lnTo>
                  <a:lnTo>
                    <a:pt x="90" y="3"/>
                  </a:lnTo>
                  <a:lnTo>
                    <a:pt x="89" y="2"/>
                  </a:lnTo>
                  <a:lnTo>
                    <a:pt x="88" y="1"/>
                  </a:lnTo>
                  <a:lnTo>
                    <a:pt x="86" y="0"/>
                  </a:lnTo>
                  <a:lnTo>
                    <a:pt x="77" y="12"/>
                  </a:lnTo>
                  <a:lnTo>
                    <a:pt x="68" y="25"/>
                  </a:lnTo>
                  <a:lnTo>
                    <a:pt x="58" y="37"/>
                  </a:lnTo>
                  <a:lnTo>
                    <a:pt x="47" y="49"/>
                  </a:lnTo>
                  <a:lnTo>
                    <a:pt x="37" y="60"/>
                  </a:lnTo>
                  <a:lnTo>
                    <a:pt x="25" y="71"/>
                  </a:lnTo>
                  <a:lnTo>
                    <a:pt x="13" y="8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c1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H="1">
              <a:off x="6698880" y="321156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5" y="20"/>
                  </a:move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3"/>
                  </a:lnTo>
                  <a:lnTo>
                    <a:pt x="16" y="21"/>
                  </a:lnTo>
                  <a:lnTo>
                    <a:pt x="17" y="18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c1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 flipH="1">
              <a:off x="7176240" y="2879640"/>
              <a:ext cx="180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1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 flipH="1">
              <a:off x="7208280" y="2900520"/>
              <a:ext cx="90360" cy="77760"/>
            </a:xfrm>
            <a:custGeom>
              <a:avLst/>
              <a:gdLst/>
              <a:ahLst/>
              <a:rect l="l" t="t" r="r" b="b"/>
              <a:pathLst>
                <a:path w="116" h="98">
                  <a:moveTo>
                    <a:pt x="0" y="98"/>
                  </a:moveTo>
                  <a:lnTo>
                    <a:pt x="3" y="97"/>
                  </a:lnTo>
                  <a:lnTo>
                    <a:pt x="4" y="96"/>
                  </a:lnTo>
                  <a:lnTo>
                    <a:pt x="6" y="94"/>
                  </a:lnTo>
                  <a:lnTo>
                    <a:pt x="9" y="93"/>
                  </a:lnTo>
                  <a:lnTo>
                    <a:pt x="17" y="89"/>
                  </a:lnTo>
                  <a:lnTo>
                    <a:pt x="25" y="84"/>
                  </a:lnTo>
                  <a:lnTo>
                    <a:pt x="33" y="78"/>
                  </a:lnTo>
                  <a:lnTo>
                    <a:pt x="41" y="73"/>
                  </a:lnTo>
                  <a:lnTo>
                    <a:pt x="49" y="62"/>
                  </a:lnTo>
                  <a:lnTo>
                    <a:pt x="57" y="53"/>
                  </a:lnTo>
                  <a:lnTo>
                    <a:pt x="66" y="44"/>
                  </a:lnTo>
                  <a:lnTo>
                    <a:pt x="75" y="35"/>
                  </a:lnTo>
                  <a:lnTo>
                    <a:pt x="85" y="25"/>
                  </a:lnTo>
                  <a:lnTo>
                    <a:pt x="95" y="17"/>
                  </a:lnTo>
                  <a:lnTo>
                    <a:pt x="105" y="8"/>
                  </a:lnTo>
                  <a:lnTo>
                    <a:pt x="116" y="0"/>
                  </a:lnTo>
                  <a:lnTo>
                    <a:pt x="111" y="2"/>
                  </a:lnTo>
                  <a:lnTo>
                    <a:pt x="106" y="5"/>
                  </a:lnTo>
                  <a:lnTo>
                    <a:pt x="102" y="8"/>
                  </a:lnTo>
                  <a:lnTo>
                    <a:pt x="97" y="10"/>
                  </a:lnTo>
                  <a:lnTo>
                    <a:pt x="93" y="14"/>
                  </a:lnTo>
                  <a:lnTo>
                    <a:pt x="88" y="17"/>
                  </a:lnTo>
                  <a:lnTo>
                    <a:pt x="82" y="21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6" y="29"/>
                  </a:lnTo>
                  <a:lnTo>
                    <a:pt x="60" y="31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1" y="36"/>
                  </a:lnTo>
                  <a:lnTo>
                    <a:pt x="44" y="43"/>
                  </a:lnTo>
                  <a:lnTo>
                    <a:pt x="37" y="51"/>
                  </a:lnTo>
                  <a:lnTo>
                    <a:pt x="30" y="59"/>
                  </a:lnTo>
                  <a:lnTo>
                    <a:pt x="25" y="66"/>
                  </a:lnTo>
                  <a:lnTo>
                    <a:pt x="18" y="74"/>
                  </a:lnTo>
                  <a:lnTo>
                    <a:pt x="12" y="82"/>
                  </a:lnTo>
                  <a:lnTo>
                    <a:pt x="6" y="9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1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 flipH="1">
              <a:off x="7160400" y="3014640"/>
              <a:ext cx="179640" cy="331920"/>
            </a:xfrm>
            <a:custGeom>
              <a:avLst/>
              <a:gdLst/>
              <a:ahLst/>
              <a:rect l="l" t="t" r="r" b="b"/>
              <a:pathLst>
                <a:path w="226" h="418">
                  <a:moveTo>
                    <a:pt x="167" y="414"/>
                  </a:moveTo>
                  <a:lnTo>
                    <a:pt x="168" y="414"/>
                  </a:lnTo>
                  <a:lnTo>
                    <a:pt x="169" y="414"/>
                  </a:lnTo>
                  <a:lnTo>
                    <a:pt x="169" y="414"/>
                  </a:lnTo>
                  <a:lnTo>
                    <a:pt x="170" y="414"/>
                  </a:lnTo>
                  <a:lnTo>
                    <a:pt x="173" y="411"/>
                  </a:lnTo>
                  <a:lnTo>
                    <a:pt x="176" y="410"/>
                  </a:lnTo>
                  <a:lnTo>
                    <a:pt x="179" y="410"/>
                  </a:lnTo>
                  <a:lnTo>
                    <a:pt x="184" y="410"/>
                  </a:lnTo>
                  <a:lnTo>
                    <a:pt x="188" y="410"/>
                  </a:lnTo>
                  <a:lnTo>
                    <a:pt x="192" y="411"/>
                  </a:lnTo>
                  <a:lnTo>
                    <a:pt x="196" y="411"/>
                  </a:lnTo>
                  <a:lnTo>
                    <a:pt x="200" y="413"/>
                  </a:lnTo>
                  <a:lnTo>
                    <a:pt x="205" y="414"/>
                  </a:lnTo>
                  <a:lnTo>
                    <a:pt x="211" y="415"/>
                  </a:lnTo>
                  <a:lnTo>
                    <a:pt x="215" y="416"/>
                  </a:lnTo>
                  <a:lnTo>
                    <a:pt x="220" y="417"/>
                  </a:lnTo>
                  <a:lnTo>
                    <a:pt x="221" y="417"/>
                  </a:lnTo>
                  <a:lnTo>
                    <a:pt x="223" y="417"/>
                  </a:lnTo>
                  <a:lnTo>
                    <a:pt x="224" y="417"/>
                  </a:lnTo>
                  <a:lnTo>
                    <a:pt x="226" y="418"/>
                  </a:lnTo>
                  <a:lnTo>
                    <a:pt x="204" y="407"/>
                  </a:lnTo>
                  <a:lnTo>
                    <a:pt x="183" y="393"/>
                  </a:lnTo>
                  <a:lnTo>
                    <a:pt x="162" y="379"/>
                  </a:lnTo>
                  <a:lnTo>
                    <a:pt x="144" y="364"/>
                  </a:lnTo>
                  <a:lnTo>
                    <a:pt x="125" y="348"/>
                  </a:lnTo>
                  <a:lnTo>
                    <a:pt x="109" y="331"/>
                  </a:lnTo>
                  <a:lnTo>
                    <a:pt x="94" y="313"/>
                  </a:lnTo>
                  <a:lnTo>
                    <a:pt x="80" y="294"/>
                  </a:lnTo>
                  <a:lnTo>
                    <a:pt x="68" y="274"/>
                  </a:lnTo>
                  <a:lnTo>
                    <a:pt x="56" y="254"/>
                  </a:lnTo>
                  <a:lnTo>
                    <a:pt x="47" y="233"/>
                  </a:lnTo>
                  <a:lnTo>
                    <a:pt x="39" y="211"/>
                  </a:lnTo>
                  <a:lnTo>
                    <a:pt x="32" y="189"/>
                  </a:lnTo>
                  <a:lnTo>
                    <a:pt x="27" y="166"/>
                  </a:lnTo>
                  <a:lnTo>
                    <a:pt x="25" y="143"/>
                  </a:lnTo>
                  <a:lnTo>
                    <a:pt x="24" y="119"/>
                  </a:lnTo>
                  <a:lnTo>
                    <a:pt x="25" y="88"/>
                  </a:lnTo>
                  <a:lnTo>
                    <a:pt x="31" y="58"/>
                  </a:lnTo>
                  <a:lnTo>
                    <a:pt x="39" y="29"/>
                  </a:lnTo>
                  <a:lnTo>
                    <a:pt x="49" y="0"/>
                  </a:lnTo>
                  <a:lnTo>
                    <a:pt x="41" y="6"/>
                  </a:lnTo>
                  <a:lnTo>
                    <a:pt x="33" y="10"/>
                  </a:lnTo>
                  <a:lnTo>
                    <a:pt x="26" y="16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47"/>
                  </a:lnTo>
                  <a:lnTo>
                    <a:pt x="4" y="73"/>
                  </a:lnTo>
                  <a:lnTo>
                    <a:pt x="1" y="99"/>
                  </a:lnTo>
                  <a:lnTo>
                    <a:pt x="0" y="127"/>
                  </a:lnTo>
                  <a:lnTo>
                    <a:pt x="3" y="171"/>
                  </a:lnTo>
                  <a:lnTo>
                    <a:pt x="11" y="212"/>
                  </a:lnTo>
                  <a:lnTo>
                    <a:pt x="26" y="252"/>
                  </a:lnTo>
                  <a:lnTo>
                    <a:pt x="46" y="289"/>
                  </a:lnTo>
                  <a:lnTo>
                    <a:pt x="69" y="325"/>
                  </a:lnTo>
                  <a:lnTo>
                    <a:pt x="98" y="357"/>
                  </a:lnTo>
                  <a:lnTo>
                    <a:pt x="131" y="387"/>
                  </a:lnTo>
                  <a:lnTo>
                    <a:pt x="167" y="414"/>
                  </a:lnTo>
                  <a:close/>
                </a:path>
              </a:pathLst>
            </a:custGeom>
            <a:solidFill>
              <a:srgbClr val="c1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7149240" y="2878200"/>
              <a:ext cx="117720" cy="79200"/>
            </a:xfrm>
            <a:custGeom>
              <a:avLst/>
              <a:gdLst/>
              <a:ahLst/>
              <a:rect l="l" t="t" r="r" b="b"/>
              <a:pathLst>
                <a:path w="147" h="102">
                  <a:moveTo>
                    <a:pt x="0" y="102"/>
                  </a:moveTo>
                  <a:lnTo>
                    <a:pt x="1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3" y="99"/>
                  </a:lnTo>
                  <a:lnTo>
                    <a:pt x="8" y="97"/>
                  </a:lnTo>
                  <a:lnTo>
                    <a:pt x="14" y="94"/>
                  </a:lnTo>
                  <a:lnTo>
                    <a:pt x="18" y="90"/>
                  </a:lnTo>
                  <a:lnTo>
                    <a:pt x="24" y="88"/>
                  </a:lnTo>
                  <a:lnTo>
                    <a:pt x="29" y="84"/>
                  </a:lnTo>
                  <a:lnTo>
                    <a:pt x="33" y="81"/>
                  </a:lnTo>
                  <a:lnTo>
                    <a:pt x="39" y="79"/>
                  </a:lnTo>
                  <a:lnTo>
                    <a:pt x="44" y="76"/>
                  </a:lnTo>
                  <a:lnTo>
                    <a:pt x="44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56" y="64"/>
                  </a:lnTo>
                  <a:lnTo>
                    <a:pt x="68" y="53"/>
                  </a:lnTo>
                  <a:lnTo>
                    <a:pt x="79" y="43"/>
                  </a:lnTo>
                  <a:lnTo>
                    <a:pt x="92" y="34"/>
                  </a:lnTo>
                  <a:lnTo>
                    <a:pt x="106" y="24"/>
                  </a:lnTo>
                  <a:lnTo>
                    <a:pt x="118" y="16"/>
                  </a:lnTo>
                  <a:lnTo>
                    <a:pt x="132" y="8"/>
                  </a:lnTo>
                  <a:lnTo>
                    <a:pt x="147" y="0"/>
                  </a:lnTo>
                  <a:lnTo>
                    <a:pt x="139" y="1"/>
                  </a:lnTo>
                  <a:lnTo>
                    <a:pt x="131" y="1"/>
                  </a:lnTo>
                  <a:lnTo>
                    <a:pt x="123" y="2"/>
                  </a:lnTo>
                  <a:lnTo>
                    <a:pt x="115" y="2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3" y="4"/>
                  </a:lnTo>
                  <a:lnTo>
                    <a:pt x="112" y="5"/>
                  </a:lnTo>
                  <a:lnTo>
                    <a:pt x="112" y="6"/>
                  </a:lnTo>
                  <a:lnTo>
                    <a:pt x="110" y="7"/>
                  </a:lnTo>
                  <a:lnTo>
                    <a:pt x="108" y="8"/>
                  </a:lnTo>
                  <a:lnTo>
                    <a:pt x="106" y="9"/>
                  </a:lnTo>
                  <a:lnTo>
                    <a:pt x="101" y="14"/>
                  </a:lnTo>
                  <a:lnTo>
                    <a:pt x="94" y="19"/>
                  </a:lnTo>
                  <a:lnTo>
                    <a:pt x="85" y="23"/>
                  </a:lnTo>
                  <a:lnTo>
                    <a:pt x="75" y="29"/>
                  </a:lnTo>
                  <a:lnTo>
                    <a:pt x="64" y="37"/>
                  </a:lnTo>
                  <a:lnTo>
                    <a:pt x="54" y="46"/>
                  </a:lnTo>
                  <a:lnTo>
                    <a:pt x="44" y="54"/>
                  </a:lnTo>
                  <a:lnTo>
                    <a:pt x="34" y="64"/>
                  </a:lnTo>
                  <a:lnTo>
                    <a:pt x="25" y="73"/>
                  </a:lnTo>
                  <a:lnTo>
                    <a:pt x="16" y="82"/>
                  </a:lnTo>
                  <a:lnTo>
                    <a:pt x="8" y="91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 flipH="1">
              <a:off x="6852600" y="3333600"/>
              <a:ext cx="27000" cy="1620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7" y="19"/>
                  </a:lnTo>
                  <a:lnTo>
                    <a:pt x="15" y="16"/>
                  </a:lnTo>
                  <a:lnTo>
                    <a:pt x="22" y="14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30" y="6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18" y="7"/>
                  </a:lnTo>
                  <a:lnTo>
                    <a:pt x="8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H="1">
              <a:off x="6893640" y="3003480"/>
              <a:ext cx="427320" cy="376200"/>
            </a:xfrm>
            <a:custGeom>
              <a:avLst/>
              <a:gdLst/>
              <a:ahLst/>
              <a:rect l="l" t="t" r="r" b="b"/>
              <a:pathLst>
                <a:path w="538" h="475">
                  <a:moveTo>
                    <a:pt x="202" y="433"/>
                  </a:moveTo>
                  <a:lnTo>
                    <a:pt x="210" y="434"/>
                  </a:lnTo>
                  <a:lnTo>
                    <a:pt x="219" y="437"/>
                  </a:lnTo>
                  <a:lnTo>
                    <a:pt x="227" y="438"/>
                  </a:lnTo>
                  <a:lnTo>
                    <a:pt x="235" y="440"/>
                  </a:lnTo>
                  <a:lnTo>
                    <a:pt x="244" y="441"/>
                  </a:lnTo>
                  <a:lnTo>
                    <a:pt x="252" y="444"/>
                  </a:lnTo>
                  <a:lnTo>
                    <a:pt x="260" y="446"/>
                  </a:lnTo>
                  <a:lnTo>
                    <a:pt x="268" y="448"/>
                  </a:lnTo>
                  <a:lnTo>
                    <a:pt x="283" y="452"/>
                  </a:lnTo>
                  <a:lnTo>
                    <a:pt x="298" y="455"/>
                  </a:lnTo>
                  <a:lnTo>
                    <a:pt x="313" y="459"/>
                  </a:lnTo>
                  <a:lnTo>
                    <a:pt x="328" y="461"/>
                  </a:lnTo>
                  <a:lnTo>
                    <a:pt x="342" y="464"/>
                  </a:lnTo>
                  <a:lnTo>
                    <a:pt x="357" y="468"/>
                  </a:lnTo>
                  <a:lnTo>
                    <a:pt x="372" y="471"/>
                  </a:lnTo>
                  <a:lnTo>
                    <a:pt x="387" y="475"/>
                  </a:lnTo>
                  <a:lnTo>
                    <a:pt x="389" y="475"/>
                  </a:lnTo>
                  <a:lnTo>
                    <a:pt x="393" y="473"/>
                  </a:lnTo>
                  <a:lnTo>
                    <a:pt x="396" y="471"/>
                  </a:lnTo>
                  <a:lnTo>
                    <a:pt x="400" y="471"/>
                  </a:lnTo>
                  <a:lnTo>
                    <a:pt x="412" y="471"/>
                  </a:lnTo>
                  <a:lnTo>
                    <a:pt x="425" y="470"/>
                  </a:lnTo>
                  <a:lnTo>
                    <a:pt x="438" y="469"/>
                  </a:lnTo>
                  <a:lnTo>
                    <a:pt x="449" y="467"/>
                  </a:lnTo>
                  <a:lnTo>
                    <a:pt x="462" y="466"/>
                  </a:lnTo>
                  <a:lnTo>
                    <a:pt x="475" y="463"/>
                  </a:lnTo>
                  <a:lnTo>
                    <a:pt x="486" y="461"/>
                  </a:lnTo>
                  <a:lnTo>
                    <a:pt x="499" y="459"/>
                  </a:lnTo>
                  <a:lnTo>
                    <a:pt x="507" y="456"/>
                  </a:lnTo>
                  <a:lnTo>
                    <a:pt x="516" y="455"/>
                  </a:lnTo>
                  <a:lnTo>
                    <a:pt x="524" y="455"/>
                  </a:lnTo>
                  <a:lnTo>
                    <a:pt x="532" y="455"/>
                  </a:lnTo>
                  <a:lnTo>
                    <a:pt x="533" y="451"/>
                  </a:lnTo>
                  <a:lnTo>
                    <a:pt x="536" y="445"/>
                  </a:lnTo>
                  <a:lnTo>
                    <a:pt x="537" y="440"/>
                  </a:lnTo>
                  <a:lnTo>
                    <a:pt x="538" y="436"/>
                  </a:lnTo>
                  <a:lnTo>
                    <a:pt x="523" y="440"/>
                  </a:lnTo>
                  <a:lnTo>
                    <a:pt x="508" y="444"/>
                  </a:lnTo>
                  <a:lnTo>
                    <a:pt x="493" y="447"/>
                  </a:lnTo>
                  <a:lnTo>
                    <a:pt x="478" y="451"/>
                  </a:lnTo>
                  <a:lnTo>
                    <a:pt x="462" y="453"/>
                  </a:lnTo>
                  <a:lnTo>
                    <a:pt x="446" y="454"/>
                  </a:lnTo>
                  <a:lnTo>
                    <a:pt x="430" y="455"/>
                  </a:lnTo>
                  <a:lnTo>
                    <a:pt x="414" y="456"/>
                  </a:lnTo>
                  <a:lnTo>
                    <a:pt x="407" y="456"/>
                  </a:lnTo>
                  <a:lnTo>
                    <a:pt x="399" y="456"/>
                  </a:lnTo>
                  <a:lnTo>
                    <a:pt x="392" y="456"/>
                  </a:lnTo>
                  <a:lnTo>
                    <a:pt x="384" y="455"/>
                  </a:lnTo>
                  <a:lnTo>
                    <a:pt x="347" y="452"/>
                  </a:lnTo>
                  <a:lnTo>
                    <a:pt x="311" y="445"/>
                  </a:lnTo>
                  <a:lnTo>
                    <a:pt x="276" y="436"/>
                  </a:lnTo>
                  <a:lnTo>
                    <a:pt x="243" y="424"/>
                  </a:lnTo>
                  <a:lnTo>
                    <a:pt x="212" y="410"/>
                  </a:lnTo>
                  <a:lnTo>
                    <a:pt x="182" y="393"/>
                  </a:lnTo>
                  <a:lnTo>
                    <a:pt x="154" y="373"/>
                  </a:lnTo>
                  <a:lnTo>
                    <a:pt x="129" y="353"/>
                  </a:lnTo>
                  <a:lnTo>
                    <a:pt x="106" y="330"/>
                  </a:lnTo>
                  <a:lnTo>
                    <a:pt x="85" y="305"/>
                  </a:lnTo>
                  <a:lnTo>
                    <a:pt x="67" y="279"/>
                  </a:lnTo>
                  <a:lnTo>
                    <a:pt x="52" y="250"/>
                  </a:lnTo>
                  <a:lnTo>
                    <a:pt x="40" y="221"/>
                  </a:lnTo>
                  <a:lnTo>
                    <a:pt x="31" y="191"/>
                  </a:lnTo>
                  <a:lnTo>
                    <a:pt x="26" y="159"/>
                  </a:lnTo>
                  <a:lnTo>
                    <a:pt x="24" y="127"/>
                  </a:lnTo>
                  <a:lnTo>
                    <a:pt x="26" y="93"/>
                  </a:lnTo>
                  <a:lnTo>
                    <a:pt x="32" y="61"/>
                  </a:lnTo>
                  <a:lnTo>
                    <a:pt x="41" y="30"/>
                  </a:lnTo>
                  <a:lnTo>
                    <a:pt x="54" y="0"/>
                  </a:lnTo>
                  <a:lnTo>
                    <a:pt x="47" y="2"/>
                  </a:lnTo>
                  <a:lnTo>
                    <a:pt x="40" y="6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15" y="44"/>
                  </a:lnTo>
                  <a:lnTo>
                    <a:pt x="7" y="73"/>
                  </a:lnTo>
                  <a:lnTo>
                    <a:pt x="1" y="103"/>
                  </a:lnTo>
                  <a:lnTo>
                    <a:pt x="0" y="134"/>
                  </a:lnTo>
                  <a:lnTo>
                    <a:pt x="1" y="158"/>
                  </a:lnTo>
                  <a:lnTo>
                    <a:pt x="3" y="181"/>
                  </a:lnTo>
                  <a:lnTo>
                    <a:pt x="8" y="204"/>
                  </a:lnTo>
                  <a:lnTo>
                    <a:pt x="15" y="226"/>
                  </a:lnTo>
                  <a:lnTo>
                    <a:pt x="23" y="248"/>
                  </a:lnTo>
                  <a:lnTo>
                    <a:pt x="32" y="269"/>
                  </a:lnTo>
                  <a:lnTo>
                    <a:pt x="44" y="289"/>
                  </a:lnTo>
                  <a:lnTo>
                    <a:pt x="56" y="309"/>
                  </a:lnTo>
                  <a:lnTo>
                    <a:pt x="70" y="328"/>
                  </a:lnTo>
                  <a:lnTo>
                    <a:pt x="85" y="346"/>
                  </a:lnTo>
                  <a:lnTo>
                    <a:pt x="101" y="363"/>
                  </a:lnTo>
                  <a:lnTo>
                    <a:pt x="120" y="379"/>
                  </a:lnTo>
                  <a:lnTo>
                    <a:pt x="138" y="394"/>
                  </a:lnTo>
                  <a:lnTo>
                    <a:pt x="159" y="408"/>
                  </a:lnTo>
                  <a:lnTo>
                    <a:pt x="180" y="422"/>
                  </a:lnTo>
                  <a:lnTo>
                    <a:pt x="202" y="433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 flipH="1">
              <a:off x="6722640" y="3233880"/>
              <a:ext cx="68400" cy="8100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0" y="79"/>
                  </a:moveTo>
                  <a:lnTo>
                    <a:pt x="0" y="85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3" y="93"/>
                  </a:lnTo>
                  <a:lnTo>
                    <a:pt x="25" y="82"/>
                  </a:lnTo>
                  <a:lnTo>
                    <a:pt x="37" y="71"/>
                  </a:lnTo>
                  <a:lnTo>
                    <a:pt x="47" y="60"/>
                  </a:lnTo>
                  <a:lnTo>
                    <a:pt x="58" y="48"/>
                  </a:lnTo>
                  <a:lnTo>
                    <a:pt x="68" y="36"/>
                  </a:lnTo>
                  <a:lnTo>
                    <a:pt x="77" y="23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84" y="10"/>
                  </a:lnTo>
                  <a:lnTo>
                    <a:pt x="82" y="9"/>
                  </a:lnTo>
                  <a:lnTo>
                    <a:pt x="82" y="7"/>
                  </a:lnTo>
                  <a:lnTo>
                    <a:pt x="80" y="5"/>
                  </a:lnTo>
                  <a:lnTo>
                    <a:pt x="77" y="4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65" y="11"/>
                  </a:lnTo>
                  <a:lnTo>
                    <a:pt x="58" y="21"/>
                  </a:lnTo>
                  <a:lnTo>
                    <a:pt x="48" y="32"/>
                  </a:lnTo>
                  <a:lnTo>
                    <a:pt x="40" y="42"/>
                  </a:lnTo>
                  <a:lnTo>
                    <a:pt x="30" y="51"/>
                  </a:lnTo>
                  <a:lnTo>
                    <a:pt x="21" y="60"/>
                  </a:lnTo>
                  <a:lnTo>
                    <a:pt x="10" y="7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6706800" y="3195720"/>
              <a:ext cx="15840" cy="302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13" y="37"/>
                  </a:moveTo>
                  <a:lnTo>
                    <a:pt x="15" y="32"/>
                  </a:lnTo>
                  <a:lnTo>
                    <a:pt x="18" y="29"/>
                  </a:lnTo>
                  <a:lnTo>
                    <a:pt x="19" y="26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19" y="11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11" y="7"/>
                  </a:lnTo>
                  <a:lnTo>
                    <a:pt x="7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5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 flipH="1">
              <a:off x="6810120" y="3309840"/>
              <a:ext cx="172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lnTo>
                    <a:pt x="6" y="12"/>
                  </a:lnTo>
                  <a:lnTo>
                    <a:pt x="11" y="8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H="1">
              <a:off x="6682680" y="3024360"/>
              <a:ext cx="28440" cy="174600"/>
            </a:xfrm>
            <a:custGeom>
              <a:avLst/>
              <a:gdLst/>
              <a:ahLst/>
              <a:rect l="l" t="t" r="r" b="b"/>
              <a:pathLst>
                <a:path w="36" h="220">
                  <a:moveTo>
                    <a:pt x="22" y="126"/>
                  </a:moveTo>
                  <a:lnTo>
                    <a:pt x="19" y="148"/>
                  </a:lnTo>
                  <a:lnTo>
                    <a:pt x="14" y="170"/>
                  </a:lnTo>
                  <a:lnTo>
                    <a:pt x="8" y="191"/>
                  </a:lnTo>
                  <a:lnTo>
                    <a:pt x="0" y="211"/>
                  </a:lnTo>
                  <a:lnTo>
                    <a:pt x="1" y="212"/>
                  </a:lnTo>
                  <a:lnTo>
                    <a:pt x="3" y="212"/>
                  </a:lnTo>
                  <a:lnTo>
                    <a:pt x="4" y="213"/>
                  </a:lnTo>
                  <a:lnTo>
                    <a:pt x="6" y="213"/>
                  </a:lnTo>
                  <a:lnTo>
                    <a:pt x="8" y="214"/>
                  </a:lnTo>
                  <a:lnTo>
                    <a:pt x="9" y="216"/>
                  </a:lnTo>
                  <a:lnTo>
                    <a:pt x="12" y="218"/>
                  </a:lnTo>
                  <a:lnTo>
                    <a:pt x="14" y="220"/>
                  </a:lnTo>
                  <a:lnTo>
                    <a:pt x="21" y="200"/>
                  </a:lnTo>
                  <a:lnTo>
                    <a:pt x="27" y="179"/>
                  </a:lnTo>
                  <a:lnTo>
                    <a:pt x="31" y="158"/>
                  </a:lnTo>
                  <a:lnTo>
                    <a:pt x="35" y="136"/>
                  </a:lnTo>
                  <a:lnTo>
                    <a:pt x="36" y="126"/>
                  </a:lnTo>
                  <a:lnTo>
                    <a:pt x="36" y="117"/>
                  </a:lnTo>
                  <a:lnTo>
                    <a:pt x="36" y="108"/>
                  </a:lnTo>
                  <a:lnTo>
                    <a:pt x="36" y="99"/>
                  </a:lnTo>
                  <a:lnTo>
                    <a:pt x="35" y="76"/>
                  </a:lnTo>
                  <a:lnTo>
                    <a:pt x="31" y="53"/>
                  </a:lnTo>
                  <a:lnTo>
                    <a:pt x="27" y="31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3" y="4"/>
                  </a:lnTo>
                  <a:lnTo>
                    <a:pt x="9" y="2"/>
                  </a:lnTo>
                  <a:lnTo>
                    <a:pt x="6" y="0"/>
                  </a:lnTo>
                  <a:lnTo>
                    <a:pt x="13" y="22"/>
                  </a:lnTo>
                  <a:lnTo>
                    <a:pt x="19" y="45"/>
                  </a:lnTo>
                  <a:lnTo>
                    <a:pt x="22" y="68"/>
                  </a:lnTo>
                  <a:lnTo>
                    <a:pt x="23" y="92"/>
                  </a:lnTo>
                  <a:lnTo>
                    <a:pt x="23" y="100"/>
                  </a:lnTo>
                  <a:lnTo>
                    <a:pt x="23" y="109"/>
                  </a:lnTo>
                  <a:lnTo>
                    <a:pt x="23" y="117"/>
                  </a:lnTo>
                  <a:lnTo>
                    <a:pt x="22" y="126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 flipH="1">
              <a:off x="7119720" y="2871720"/>
              <a:ext cx="110880" cy="6372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40" y="57"/>
                  </a:moveTo>
                  <a:lnTo>
                    <a:pt x="47" y="52"/>
                  </a:lnTo>
                  <a:lnTo>
                    <a:pt x="54" y="48"/>
                  </a:lnTo>
                  <a:lnTo>
                    <a:pt x="60" y="44"/>
                  </a:lnTo>
                  <a:lnTo>
                    <a:pt x="67" y="41"/>
                  </a:lnTo>
                  <a:lnTo>
                    <a:pt x="72" y="37"/>
                  </a:lnTo>
                  <a:lnTo>
                    <a:pt x="78" y="34"/>
                  </a:lnTo>
                  <a:lnTo>
                    <a:pt x="84" y="30"/>
                  </a:lnTo>
                  <a:lnTo>
                    <a:pt x="90" y="28"/>
                  </a:lnTo>
                  <a:lnTo>
                    <a:pt x="92" y="27"/>
                  </a:lnTo>
                  <a:lnTo>
                    <a:pt x="95" y="24"/>
                  </a:lnTo>
                  <a:lnTo>
                    <a:pt x="98" y="23"/>
                  </a:lnTo>
                  <a:lnTo>
                    <a:pt x="101" y="22"/>
                  </a:lnTo>
                  <a:lnTo>
                    <a:pt x="106" y="19"/>
                  </a:lnTo>
                  <a:lnTo>
                    <a:pt x="110" y="16"/>
                  </a:lnTo>
                  <a:lnTo>
                    <a:pt x="115" y="13"/>
                  </a:lnTo>
                  <a:lnTo>
                    <a:pt x="120" y="11"/>
                  </a:lnTo>
                  <a:lnTo>
                    <a:pt x="124" y="7"/>
                  </a:lnTo>
                  <a:lnTo>
                    <a:pt x="129" y="5"/>
                  </a:lnTo>
                  <a:lnTo>
                    <a:pt x="135" y="3"/>
                  </a:lnTo>
                  <a:lnTo>
                    <a:pt x="139" y="0"/>
                  </a:lnTo>
                  <a:lnTo>
                    <a:pt x="131" y="3"/>
                  </a:lnTo>
                  <a:lnTo>
                    <a:pt x="123" y="4"/>
                  </a:lnTo>
                  <a:lnTo>
                    <a:pt x="114" y="5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4" y="7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86" y="15"/>
                  </a:lnTo>
                  <a:lnTo>
                    <a:pt x="72" y="23"/>
                  </a:lnTo>
                  <a:lnTo>
                    <a:pt x="60" y="31"/>
                  </a:lnTo>
                  <a:lnTo>
                    <a:pt x="46" y="41"/>
                  </a:lnTo>
                  <a:lnTo>
                    <a:pt x="33" y="50"/>
                  </a:lnTo>
                  <a:lnTo>
                    <a:pt x="22" y="60"/>
                  </a:lnTo>
                  <a:lnTo>
                    <a:pt x="10" y="71"/>
                  </a:lnTo>
                  <a:lnTo>
                    <a:pt x="0" y="81"/>
                  </a:lnTo>
                  <a:lnTo>
                    <a:pt x="4" y="77"/>
                  </a:lnTo>
                  <a:lnTo>
                    <a:pt x="10" y="74"/>
                  </a:lnTo>
                  <a:lnTo>
                    <a:pt x="15" y="71"/>
                  </a:lnTo>
                  <a:lnTo>
                    <a:pt x="21" y="67"/>
                  </a:lnTo>
                  <a:lnTo>
                    <a:pt x="25" y="65"/>
                  </a:lnTo>
                  <a:lnTo>
                    <a:pt x="30" y="61"/>
                  </a:lnTo>
                  <a:lnTo>
                    <a:pt x="36" y="59"/>
                  </a:lnTo>
                  <a:lnTo>
                    <a:pt x="40" y="57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H="1">
              <a:off x="6849720" y="2989440"/>
              <a:ext cx="450720" cy="376200"/>
            </a:xfrm>
            <a:custGeom>
              <a:avLst/>
              <a:gdLst/>
              <a:ahLst/>
              <a:rect l="l" t="t" r="r" b="b"/>
              <a:pathLst>
                <a:path w="569" h="473">
                  <a:moveTo>
                    <a:pt x="360" y="472"/>
                  </a:moveTo>
                  <a:lnTo>
                    <a:pt x="368" y="473"/>
                  </a:lnTo>
                  <a:lnTo>
                    <a:pt x="375" y="473"/>
                  </a:lnTo>
                  <a:lnTo>
                    <a:pt x="383" y="473"/>
                  </a:lnTo>
                  <a:lnTo>
                    <a:pt x="390" y="473"/>
                  </a:lnTo>
                  <a:lnTo>
                    <a:pt x="406" y="472"/>
                  </a:lnTo>
                  <a:lnTo>
                    <a:pt x="422" y="471"/>
                  </a:lnTo>
                  <a:lnTo>
                    <a:pt x="438" y="470"/>
                  </a:lnTo>
                  <a:lnTo>
                    <a:pt x="454" y="468"/>
                  </a:lnTo>
                  <a:lnTo>
                    <a:pt x="469" y="464"/>
                  </a:lnTo>
                  <a:lnTo>
                    <a:pt x="484" y="461"/>
                  </a:lnTo>
                  <a:lnTo>
                    <a:pt x="499" y="457"/>
                  </a:lnTo>
                  <a:lnTo>
                    <a:pt x="514" y="453"/>
                  </a:lnTo>
                  <a:lnTo>
                    <a:pt x="515" y="450"/>
                  </a:lnTo>
                  <a:lnTo>
                    <a:pt x="516" y="447"/>
                  </a:lnTo>
                  <a:lnTo>
                    <a:pt x="516" y="445"/>
                  </a:lnTo>
                  <a:lnTo>
                    <a:pt x="517" y="442"/>
                  </a:lnTo>
                  <a:lnTo>
                    <a:pt x="517" y="440"/>
                  </a:lnTo>
                  <a:lnTo>
                    <a:pt x="517" y="437"/>
                  </a:lnTo>
                  <a:lnTo>
                    <a:pt x="519" y="434"/>
                  </a:lnTo>
                  <a:lnTo>
                    <a:pt x="521" y="432"/>
                  </a:lnTo>
                  <a:lnTo>
                    <a:pt x="523" y="432"/>
                  </a:lnTo>
                  <a:lnTo>
                    <a:pt x="527" y="432"/>
                  </a:lnTo>
                  <a:lnTo>
                    <a:pt x="529" y="433"/>
                  </a:lnTo>
                  <a:lnTo>
                    <a:pt x="531" y="435"/>
                  </a:lnTo>
                  <a:lnTo>
                    <a:pt x="531" y="437"/>
                  </a:lnTo>
                  <a:lnTo>
                    <a:pt x="531" y="438"/>
                  </a:lnTo>
                  <a:lnTo>
                    <a:pt x="531" y="440"/>
                  </a:lnTo>
                  <a:lnTo>
                    <a:pt x="531" y="442"/>
                  </a:lnTo>
                  <a:lnTo>
                    <a:pt x="531" y="443"/>
                  </a:lnTo>
                  <a:lnTo>
                    <a:pt x="531" y="445"/>
                  </a:lnTo>
                  <a:lnTo>
                    <a:pt x="531" y="447"/>
                  </a:lnTo>
                  <a:lnTo>
                    <a:pt x="531" y="448"/>
                  </a:lnTo>
                  <a:lnTo>
                    <a:pt x="539" y="445"/>
                  </a:lnTo>
                  <a:lnTo>
                    <a:pt x="549" y="441"/>
                  </a:lnTo>
                  <a:lnTo>
                    <a:pt x="557" y="438"/>
                  </a:lnTo>
                  <a:lnTo>
                    <a:pt x="565" y="434"/>
                  </a:lnTo>
                  <a:lnTo>
                    <a:pt x="565" y="427"/>
                  </a:lnTo>
                  <a:lnTo>
                    <a:pt x="566" y="420"/>
                  </a:lnTo>
                  <a:lnTo>
                    <a:pt x="568" y="415"/>
                  </a:lnTo>
                  <a:lnTo>
                    <a:pt x="569" y="409"/>
                  </a:lnTo>
                  <a:lnTo>
                    <a:pt x="550" y="418"/>
                  </a:lnTo>
                  <a:lnTo>
                    <a:pt x="530" y="426"/>
                  </a:lnTo>
                  <a:lnTo>
                    <a:pt x="508" y="433"/>
                  </a:lnTo>
                  <a:lnTo>
                    <a:pt x="487" y="439"/>
                  </a:lnTo>
                  <a:lnTo>
                    <a:pt x="464" y="443"/>
                  </a:lnTo>
                  <a:lnTo>
                    <a:pt x="443" y="447"/>
                  </a:lnTo>
                  <a:lnTo>
                    <a:pt x="418" y="449"/>
                  </a:lnTo>
                  <a:lnTo>
                    <a:pt x="395" y="450"/>
                  </a:lnTo>
                  <a:lnTo>
                    <a:pt x="388" y="450"/>
                  </a:lnTo>
                  <a:lnTo>
                    <a:pt x="381" y="450"/>
                  </a:lnTo>
                  <a:lnTo>
                    <a:pt x="375" y="450"/>
                  </a:lnTo>
                  <a:lnTo>
                    <a:pt x="368" y="449"/>
                  </a:lnTo>
                  <a:lnTo>
                    <a:pt x="332" y="446"/>
                  </a:lnTo>
                  <a:lnTo>
                    <a:pt x="299" y="440"/>
                  </a:lnTo>
                  <a:lnTo>
                    <a:pt x="265" y="431"/>
                  </a:lnTo>
                  <a:lnTo>
                    <a:pt x="233" y="420"/>
                  </a:lnTo>
                  <a:lnTo>
                    <a:pt x="203" y="407"/>
                  </a:lnTo>
                  <a:lnTo>
                    <a:pt x="175" y="390"/>
                  </a:lnTo>
                  <a:lnTo>
                    <a:pt x="149" y="372"/>
                  </a:lnTo>
                  <a:lnTo>
                    <a:pt x="125" y="351"/>
                  </a:lnTo>
                  <a:lnTo>
                    <a:pt x="103" y="329"/>
                  </a:lnTo>
                  <a:lnTo>
                    <a:pt x="83" y="306"/>
                  </a:lnTo>
                  <a:lnTo>
                    <a:pt x="66" y="281"/>
                  </a:lnTo>
                  <a:lnTo>
                    <a:pt x="51" y="254"/>
                  </a:lnTo>
                  <a:lnTo>
                    <a:pt x="39" y="226"/>
                  </a:lnTo>
                  <a:lnTo>
                    <a:pt x="31" y="197"/>
                  </a:lnTo>
                  <a:lnTo>
                    <a:pt x="27" y="167"/>
                  </a:lnTo>
                  <a:lnTo>
                    <a:pt x="24" y="136"/>
                  </a:lnTo>
                  <a:lnTo>
                    <a:pt x="25" y="117"/>
                  </a:lnTo>
                  <a:lnTo>
                    <a:pt x="27" y="100"/>
                  </a:lnTo>
                  <a:lnTo>
                    <a:pt x="30" y="83"/>
                  </a:lnTo>
                  <a:lnTo>
                    <a:pt x="34" y="65"/>
                  </a:lnTo>
                  <a:lnTo>
                    <a:pt x="39" y="48"/>
                  </a:lnTo>
                  <a:lnTo>
                    <a:pt x="45" y="32"/>
                  </a:lnTo>
                  <a:lnTo>
                    <a:pt x="53" y="16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30" y="17"/>
                  </a:lnTo>
                  <a:lnTo>
                    <a:pt x="17" y="47"/>
                  </a:lnTo>
                  <a:lnTo>
                    <a:pt x="8" y="78"/>
                  </a:lnTo>
                  <a:lnTo>
                    <a:pt x="2" y="110"/>
                  </a:lnTo>
                  <a:lnTo>
                    <a:pt x="0" y="144"/>
                  </a:lnTo>
                  <a:lnTo>
                    <a:pt x="2" y="176"/>
                  </a:lnTo>
                  <a:lnTo>
                    <a:pt x="7" y="208"/>
                  </a:lnTo>
                  <a:lnTo>
                    <a:pt x="16" y="238"/>
                  </a:lnTo>
                  <a:lnTo>
                    <a:pt x="28" y="267"/>
                  </a:lnTo>
                  <a:lnTo>
                    <a:pt x="43" y="296"/>
                  </a:lnTo>
                  <a:lnTo>
                    <a:pt x="61" y="322"/>
                  </a:lnTo>
                  <a:lnTo>
                    <a:pt x="82" y="347"/>
                  </a:lnTo>
                  <a:lnTo>
                    <a:pt x="105" y="370"/>
                  </a:lnTo>
                  <a:lnTo>
                    <a:pt x="130" y="390"/>
                  </a:lnTo>
                  <a:lnTo>
                    <a:pt x="158" y="410"/>
                  </a:lnTo>
                  <a:lnTo>
                    <a:pt x="188" y="427"/>
                  </a:lnTo>
                  <a:lnTo>
                    <a:pt x="219" y="441"/>
                  </a:lnTo>
                  <a:lnTo>
                    <a:pt x="252" y="453"/>
                  </a:lnTo>
                  <a:lnTo>
                    <a:pt x="287" y="462"/>
                  </a:lnTo>
                  <a:lnTo>
                    <a:pt x="323" y="469"/>
                  </a:lnTo>
                  <a:lnTo>
                    <a:pt x="360" y="472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 flipH="1">
              <a:off x="6692040" y="3017880"/>
              <a:ext cx="41400" cy="198360"/>
            </a:xfrm>
            <a:custGeom>
              <a:avLst/>
              <a:gdLst/>
              <a:ahLst/>
              <a:rect l="l" t="t" r="r" b="b"/>
              <a:pathLst>
                <a:path w="50" h="250">
                  <a:moveTo>
                    <a:pt x="36" y="125"/>
                  </a:moveTo>
                  <a:lnTo>
                    <a:pt x="34" y="140"/>
                  </a:lnTo>
                  <a:lnTo>
                    <a:pt x="32" y="155"/>
                  </a:lnTo>
                  <a:lnTo>
                    <a:pt x="28" y="170"/>
                  </a:lnTo>
                  <a:lnTo>
                    <a:pt x="24" y="184"/>
                  </a:lnTo>
                  <a:lnTo>
                    <a:pt x="19" y="198"/>
                  </a:lnTo>
                  <a:lnTo>
                    <a:pt x="13" y="212"/>
                  </a:lnTo>
                  <a:lnTo>
                    <a:pt x="7" y="226"/>
                  </a:lnTo>
                  <a:lnTo>
                    <a:pt x="0" y="239"/>
                  </a:lnTo>
                  <a:lnTo>
                    <a:pt x="9" y="247"/>
                  </a:lnTo>
                  <a:lnTo>
                    <a:pt x="10" y="247"/>
                  </a:lnTo>
                  <a:lnTo>
                    <a:pt x="11" y="249"/>
                  </a:lnTo>
                  <a:lnTo>
                    <a:pt x="11" y="249"/>
                  </a:lnTo>
                  <a:lnTo>
                    <a:pt x="12" y="250"/>
                  </a:lnTo>
                  <a:lnTo>
                    <a:pt x="16" y="243"/>
                  </a:lnTo>
                  <a:lnTo>
                    <a:pt x="19" y="236"/>
                  </a:lnTo>
                  <a:lnTo>
                    <a:pt x="23" y="230"/>
                  </a:lnTo>
                  <a:lnTo>
                    <a:pt x="26" y="223"/>
                  </a:lnTo>
                  <a:lnTo>
                    <a:pt x="25" y="220"/>
                  </a:lnTo>
                  <a:lnTo>
                    <a:pt x="25" y="219"/>
                  </a:lnTo>
                  <a:lnTo>
                    <a:pt x="25" y="217"/>
                  </a:lnTo>
                  <a:lnTo>
                    <a:pt x="26" y="217"/>
                  </a:lnTo>
                  <a:lnTo>
                    <a:pt x="26" y="219"/>
                  </a:lnTo>
                  <a:lnTo>
                    <a:pt x="27" y="219"/>
                  </a:lnTo>
                  <a:lnTo>
                    <a:pt x="27" y="219"/>
                  </a:lnTo>
                  <a:lnTo>
                    <a:pt x="27" y="219"/>
                  </a:lnTo>
                  <a:lnTo>
                    <a:pt x="35" y="199"/>
                  </a:lnTo>
                  <a:lnTo>
                    <a:pt x="41" y="178"/>
                  </a:lnTo>
                  <a:lnTo>
                    <a:pt x="46" y="156"/>
                  </a:lnTo>
                  <a:lnTo>
                    <a:pt x="49" y="134"/>
                  </a:lnTo>
                  <a:lnTo>
                    <a:pt x="50" y="125"/>
                  </a:lnTo>
                  <a:lnTo>
                    <a:pt x="50" y="117"/>
                  </a:lnTo>
                  <a:lnTo>
                    <a:pt x="50" y="108"/>
                  </a:lnTo>
                  <a:lnTo>
                    <a:pt x="50" y="100"/>
                  </a:lnTo>
                  <a:lnTo>
                    <a:pt x="49" y="76"/>
                  </a:lnTo>
                  <a:lnTo>
                    <a:pt x="46" y="53"/>
                  </a:lnTo>
                  <a:lnTo>
                    <a:pt x="40" y="30"/>
                  </a:lnTo>
                  <a:lnTo>
                    <a:pt x="33" y="8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7" y="22"/>
                  </a:lnTo>
                  <a:lnTo>
                    <a:pt x="32" y="45"/>
                  </a:lnTo>
                  <a:lnTo>
                    <a:pt x="35" y="68"/>
                  </a:lnTo>
                  <a:lnTo>
                    <a:pt x="38" y="92"/>
                  </a:lnTo>
                  <a:lnTo>
                    <a:pt x="38" y="100"/>
                  </a:lnTo>
                  <a:lnTo>
                    <a:pt x="38" y="109"/>
                  </a:lnTo>
                  <a:lnTo>
                    <a:pt x="38" y="117"/>
                  </a:lnTo>
                  <a:lnTo>
                    <a:pt x="36" y="125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H="1">
              <a:off x="6809760" y="3289320"/>
              <a:ext cx="19080" cy="3024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1" y="21"/>
                  </a:move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7" y="34"/>
                  </a:lnTo>
                  <a:lnTo>
                    <a:pt x="12" y="31"/>
                  </a:lnTo>
                  <a:lnTo>
                    <a:pt x="18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 flipH="1">
              <a:off x="6733440" y="3225960"/>
              <a:ext cx="57240" cy="6984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1" y="63"/>
                  </a:moveTo>
                  <a:lnTo>
                    <a:pt x="1" y="68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0" y="80"/>
                  </a:lnTo>
                  <a:lnTo>
                    <a:pt x="21" y="70"/>
                  </a:lnTo>
                  <a:lnTo>
                    <a:pt x="30" y="61"/>
                  </a:lnTo>
                  <a:lnTo>
                    <a:pt x="40" y="52"/>
                  </a:lnTo>
                  <a:lnTo>
                    <a:pt x="48" y="42"/>
                  </a:lnTo>
                  <a:lnTo>
                    <a:pt x="58" y="31"/>
                  </a:lnTo>
                  <a:lnTo>
                    <a:pt x="65" y="21"/>
                  </a:lnTo>
                  <a:lnTo>
                    <a:pt x="73" y="10"/>
                  </a:lnTo>
                  <a:lnTo>
                    <a:pt x="70" y="8"/>
                  </a:lnTo>
                  <a:lnTo>
                    <a:pt x="68" y="5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8"/>
                  </a:lnTo>
                  <a:lnTo>
                    <a:pt x="46" y="17"/>
                  </a:lnTo>
                  <a:lnTo>
                    <a:pt x="39" y="25"/>
                  </a:lnTo>
                  <a:lnTo>
                    <a:pt x="32" y="33"/>
                  </a:lnTo>
                  <a:lnTo>
                    <a:pt x="24" y="40"/>
                  </a:lnTo>
                  <a:lnTo>
                    <a:pt x="17" y="48"/>
                  </a:lnTo>
                  <a:lnTo>
                    <a:pt x="9" y="57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>
              <a:off x="6809760" y="3271680"/>
              <a:ext cx="21960" cy="302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3" y="21"/>
                  </a:moveTo>
                  <a:lnTo>
                    <a:pt x="3" y="24"/>
                  </a:lnTo>
                  <a:lnTo>
                    <a:pt x="3" y="29"/>
                  </a:lnTo>
                  <a:lnTo>
                    <a:pt x="5" y="33"/>
                  </a:lnTo>
                  <a:lnTo>
                    <a:pt x="6" y="38"/>
                  </a:lnTo>
                  <a:lnTo>
                    <a:pt x="12" y="34"/>
                  </a:lnTo>
                  <a:lnTo>
                    <a:pt x="18" y="31"/>
                  </a:lnTo>
                  <a:lnTo>
                    <a:pt x="24" y="27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0" y="7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9"/>
                  </a:lnTo>
                  <a:lnTo>
                    <a:pt x="8" y="14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ba8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 flipH="1">
              <a:off x="6703560" y="3009960"/>
              <a:ext cx="39600" cy="198360"/>
            </a:xfrm>
            <a:custGeom>
              <a:avLst/>
              <a:gdLst/>
              <a:ahLst/>
              <a:rect l="l" t="t" r="r" b="b"/>
              <a:pathLst>
                <a:path w="51" h="250">
                  <a:moveTo>
                    <a:pt x="37" y="127"/>
                  </a:moveTo>
                  <a:lnTo>
                    <a:pt x="35" y="142"/>
                  </a:lnTo>
                  <a:lnTo>
                    <a:pt x="32" y="157"/>
                  </a:lnTo>
                  <a:lnTo>
                    <a:pt x="29" y="171"/>
                  </a:lnTo>
                  <a:lnTo>
                    <a:pt x="24" y="185"/>
                  </a:lnTo>
                  <a:lnTo>
                    <a:pt x="20" y="198"/>
                  </a:lnTo>
                  <a:lnTo>
                    <a:pt x="14" y="212"/>
                  </a:lnTo>
                  <a:lnTo>
                    <a:pt x="7" y="226"/>
                  </a:lnTo>
                  <a:lnTo>
                    <a:pt x="0" y="239"/>
                  </a:lnTo>
                  <a:lnTo>
                    <a:pt x="13" y="250"/>
                  </a:lnTo>
                  <a:lnTo>
                    <a:pt x="20" y="237"/>
                  </a:lnTo>
                  <a:lnTo>
                    <a:pt x="26" y="223"/>
                  </a:lnTo>
                  <a:lnTo>
                    <a:pt x="32" y="209"/>
                  </a:lnTo>
                  <a:lnTo>
                    <a:pt x="37" y="195"/>
                  </a:lnTo>
                  <a:lnTo>
                    <a:pt x="41" y="181"/>
                  </a:lnTo>
                  <a:lnTo>
                    <a:pt x="45" y="166"/>
                  </a:lnTo>
                  <a:lnTo>
                    <a:pt x="47" y="151"/>
                  </a:lnTo>
                  <a:lnTo>
                    <a:pt x="49" y="136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1"/>
                  </a:lnTo>
                  <a:lnTo>
                    <a:pt x="51" y="103"/>
                  </a:lnTo>
                  <a:lnTo>
                    <a:pt x="48" y="79"/>
                  </a:lnTo>
                  <a:lnTo>
                    <a:pt x="45" y="56"/>
                  </a:lnTo>
                  <a:lnTo>
                    <a:pt x="40" y="33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24" y="22"/>
                  </a:lnTo>
                  <a:lnTo>
                    <a:pt x="31" y="45"/>
                  </a:lnTo>
                  <a:lnTo>
                    <a:pt x="36" y="69"/>
                  </a:lnTo>
                  <a:lnTo>
                    <a:pt x="38" y="95"/>
                  </a:lnTo>
                  <a:lnTo>
                    <a:pt x="38" y="103"/>
                  </a:lnTo>
                  <a:lnTo>
                    <a:pt x="38" y="111"/>
                  </a:lnTo>
                  <a:lnTo>
                    <a:pt x="38" y="119"/>
                  </a:lnTo>
                  <a:lnTo>
                    <a:pt x="37" y="127"/>
                  </a:lnTo>
                  <a:close/>
                </a:path>
              </a:pathLst>
            </a:custGeom>
            <a:solidFill>
              <a:srgbClr val="ba8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H="1">
              <a:off x="7149240" y="2889360"/>
              <a:ext cx="97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5"/>
                  </a:move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ba8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H="1">
              <a:off x="6842880" y="2973240"/>
              <a:ext cx="438120" cy="373320"/>
            </a:xfrm>
            <a:custGeom>
              <a:avLst/>
              <a:gdLst/>
              <a:ahLst/>
              <a:rect l="l" t="t" r="r" b="b"/>
              <a:pathLst>
                <a:path w="553" h="470">
                  <a:moveTo>
                    <a:pt x="344" y="469"/>
                  </a:moveTo>
                  <a:lnTo>
                    <a:pt x="351" y="470"/>
                  </a:lnTo>
                  <a:lnTo>
                    <a:pt x="357" y="470"/>
                  </a:lnTo>
                  <a:lnTo>
                    <a:pt x="364" y="470"/>
                  </a:lnTo>
                  <a:lnTo>
                    <a:pt x="371" y="470"/>
                  </a:lnTo>
                  <a:lnTo>
                    <a:pt x="394" y="469"/>
                  </a:lnTo>
                  <a:lnTo>
                    <a:pt x="419" y="467"/>
                  </a:lnTo>
                  <a:lnTo>
                    <a:pt x="440" y="463"/>
                  </a:lnTo>
                  <a:lnTo>
                    <a:pt x="463" y="459"/>
                  </a:lnTo>
                  <a:lnTo>
                    <a:pt x="484" y="453"/>
                  </a:lnTo>
                  <a:lnTo>
                    <a:pt x="506" y="446"/>
                  </a:lnTo>
                  <a:lnTo>
                    <a:pt x="526" y="438"/>
                  </a:lnTo>
                  <a:lnTo>
                    <a:pt x="545" y="429"/>
                  </a:lnTo>
                  <a:lnTo>
                    <a:pt x="546" y="428"/>
                  </a:lnTo>
                  <a:lnTo>
                    <a:pt x="546" y="428"/>
                  </a:lnTo>
                  <a:lnTo>
                    <a:pt x="546" y="427"/>
                  </a:lnTo>
                  <a:lnTo>
                    <a:pt x="546" y="427"/>
                  </a:lnTo>
                  <a:lnTo>
                    <a:pt x="549" y="420"/>
                  </a:lnTo>
                  <a:lnTo>
                    <a:pt x="550" y="413"/>
                  </a:lnTo>
                  <a:lnTo>
                    <a:pt x="552" y="407"/>
                  </a:lnTo>
                  <a:lnTo>
                    <a:pt x="553" y="401"/>
                  </a:lnTo>
                  <a:lnTo>
                    <a:pt x="534" y="412"/>
                  </a:lnTo>
                  <a:lnTo>
                    <a:pt x="514" y="420"/>
                  </a:lnTo>
                  <a:lnTo>
                    <a:pt x="492" y="428"/>
                  </a:lnTo>
                  <a:lnTo>
                    <a:pt x="472" y="433"/>
                  </a:lnTo>
                  <a:lnTo>
                    <a:pt x="449" y="439"/>
                  </a:lnTo>
                  <a:lnTo>
                    <a:pt x="425" y="443"/>
                  </a:lnTo>
                  <a:lnTo>
                    <a:pt x="402" y="445"/>
                  </a:lnTo>
                  <a:lnTo>
                    <a:pt x="378" y="446"/>
                  </a:lnTo>
                  <a:lnTo>
                    <a:pt x="371" y="447"/>
                  </a:lnTo>
                  <a:lnTo>
                    <a:pt x="364" y="447"/>
                  </a:lnTo>
                  <a:lnTo>
                    <a:pt x="357" y="447"/>
                  </a:lnTo>
                  <a:lnTo>
                    <a:pt x="351" y="446"/>
                  </a:lnTo>
                  <a:lnTo>
                    <a:pt x="317" y="443"/>
                  </a:lnTo>
                  <a:lnTo>
                    <a:pt x="284" y="438"/>
                  </a:lnTo>
                  <a:lnTo>
                    <a:pt x="253" y="429"/>
                  </a:lnTo>
                  <a:lnTo>
                    <a:pt x="223" y="418"/>
                  </a:lnTo>
                  <a:lnTo>
                    <a:pt x="194" y="406"/>
                  </a:lnTo>
                  <a:lnTo>
                    <a:pt x="167" y="391"/>
                  </a:lnTo>
                  <a:lnTo>
                    <a:pt x="142" y="374"/>
                  </a:lnTo>
                  <a:lnTo>
                    <a:pt x="119" y="354"/>
                  </a:lnTo>
                  <a:lnTo>
                    <a:pt x="97" y="333"/>
                  </a:lnTo>
                  <a:lnTo>
                    <a:pt x="79" y="310"/>
                  </a:lnTo>
                  <a:lnTo>
                    <a:pt x="63" y="287"/>
                  </a:lnTo>
                  <a:lnTo>
                    <a:pt x="49" y="262"/>
                  </a:lnTo>
                  <a:lnTo>
                    <a:pt x="38" y="234"/>
                  </a:lnTo>
                  <a:lnTo>
                    <a:pt x="30" y="206"/>
                  </a:lnTo>
                  <a:lnTo>
                    <a:pt x="25" y="179"/>
                  </a:lnTo>
                  <a:lnTo>
                    <a:pt x="23" y="149"/>
                  </a:lnTo>
                  <a:lnTo>
                    <a:pt x="25" y="129"/>
                  </a:lnTo>
                  <a:lnTo>
                    <a:pt x="27" y="108"/>
                  </a:lnTo>
                  <a:lnTo>
                    <a:pt x="30" y="90"/>
                  </a:lnTo>
                  <a:lnTo>
                    <a:pt x="36" y="70"/>
                  </a:lnTo>
                  <a:lnTo>
                    <a:pt x="43" y="52"/>
                  </a:lnTo>
                  <a:lnTo>
                    <a:pt x="51" y="35"/>
                  </a:lnTo>
                  <a:lnTo>
                    <a:pt x="60" y="17"/>
                  </a:lnTo>
                  <a:lnTo>
                    <a:pt x="71" y="0"/>
                  </a:lnTo>
                  <a:lnTo>
                    <a:pt x="65" y="4"/>
                  </a:lnTo>
                  <a:lnTo>
                    <a:pt x="58" y="7"/>
                  </a:lnTo>
                  <a:lnTo>
                    <a:pt x="52" y="11"/>
                  </a:lnTo>
                  <a:lnTo>
                    <a:pt x="45" y="14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29" y="36"/>
                  </a:lnTo>
                  <a:lnTo>
                    <a:pt x="21" y="52"/>
                  </a:lnTo>
                  <a:lnTo>
                    <a:pt x="15" y="68"/>
                  </a:lnTo>
                  <a:lnTo>
                    <a:pt x="10" y="85"/>
                  </a:lnTo>
                  <a:lnTo>
                    <a:pt x="6" y="103"/>
                  </a:lnTo>
                  <a:lnTo>
                    <a:pt x="3" y="120"/>
                  </a:lnTo>
                  <a:lnTo>
                    <a:pt x="1" y="137"/>
                  </a:lnTo>
                  <a:lnTo>
                    <a:pt x="0" y="156"/>
                  </a:lnTo>
                  <a:lnTo>
                    <a:pt x="3" y="187"/>
                  </a:lnTo>
                  <a:lnTo>
                    <a:pt x="7" y="217"/>
                  </a:lnTo>
                  <a:lnTo>
                    <a:pt x="15" y="246"/>
                  </a:lnTo>
                  <a:lnTo>
                    <a:pt x="27" y="274"/>
                  </a:lnTo>
                  <a:lnTo>
                    <a:pt x="42" y="301"/>
                  </a:lnTo>
                  <a:lnTo>
                    <a:pt x="59" y="326"/>
                  </a:lnTo>
                  <a:lnTo>
                    <a:pt x="79" y="349"/>
                  </a:lnTo>
                  <a:lnTo>
                    <a:pt x="101" y="371"/>
                  </a:lnTo>
                  <a:lnTo>
                    <a:pt x="125" y="392"/>
                  </a:lnTo>
                  <a:lnTo>
                    <a:pt x="151" y="410"/>
                  </a:lnTo>
                  <a:lnTo>
                    <a:pt x="179" y="427"/>
                  </a:lnTo>
                  <a:lnTo>
                    <a:pt x="209" y="440"/>
                  </a:lnTo>
                  <a:lnTo>
                    <a:pt x="241" y="451"/>
                  </a:lnTo>
                  <a:lnTo>
                    <a:pt x="275" y="460"/>
                  </a:lnTo>
                  <a:lnTo>
                    <a:pt x="308" y="466"/>
                  </a:lnTo>
                  <a:lnTo>
                    <a:pt x="344" y="469"/>
                  </a:lnTo>
                  <a:close/>
                </a:path>
              </a:pathLst>
            </a:custGeom>
            <a:solidFill>
              <a:srgbClr val="ba8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H="1">
              <a:off x="6744960" y="3216240"/>
              <a:ext cx="55440" cy="5868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60"/>
                  </a:moveTo>
                  <a:lnTo>
                    <a:pt x="3" y="60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4" y="62"/>
                  </a:lnTo>
                  <a:lnTo>
                    <a:pt x="14" y="65"/>
                  </a:lnTo>
                  <a:lnTo>
                    <a:pt x="14" y="69"/>
                  </a:lnTo>
                  <a:lnTo>
                    <a:pt x="14" y="73"/>
                  </a:lnTo>
                  <a:lnTo>
                    <a:pt x="22" y="67"/>
                  </a:lnTo>
                  <a:lnTo>
                    <a:pt x="30" y="58"/>
                  </a:lnTo>
                  <a:lnTo>
                    <a:pt x="37" y="50"/>
                  </a:lnTo>
                  <a:lnTo>
                    <a:pt x="45" y="43"/>
                  </a:lnTo>
                  <a:lnTo>
                    <a:pt x="52" y="35"/>
                  </a:lnTo>
                  <a:lnTo>
                    <a:pt x="59" y="27"/>
                  </a:lnTo>
                  <a:lnTo>
                    <a:pt x="66" y="18"/>
                  </a:lnTo>
                  <a:lnTo>
                    <a:pt x="72" y="10"/>
                  </a:lnTo>
                  <a:lnTo>
                    <a:pt x="68" y="8"/>
                  </a:lnTo>
                  <a:lnTo>
                    <a:pt x="65" y="4"/>
                  </a:lnTo>
                  <a:lnTo>
                    <a:pt x="61" y="2"/>
                  </a:lnTo>
                  <a:lnTo>
                    <a:pt x="58" y="0"/>
                  </a:lnTo>
                  <a:lnTo>
                    <a:pt x="52" y="8"/>
                  </a:lnTo>
                  <a:lnTo>
                    <a:pt x="45" y="16"/>
                  </a:lnTo>
                  <a:lnTo>
                    <a:pt x="38" y="24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6" y="46"/>
                  </a:lnTo>
                  <a:lnTo>
                    <a:pt x="8" y="5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a8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 flipH="1">
              <a:off x="6755760" y="2960640"/>
              <a:ext cx="507960" cy="368280"/>
            </a:xfrm>
            <a:custGeom>
              <a:avLst/>
              <a:gdLst/>
              <a:ahLst/>
              <a:rect l="l" t="t" r="r" b="b"/>
              <a:pathLst>
                <a:path w="641" h="463">
                  <a:moveTo>
                    <a:pt x="328" y="462"/>
                  </a:moveTo>
                  <a:lnTo>
                    <a:pt x="334" y="463"/>
                  </a:lnTo>
                  <a:lnTo>
                    <a:pt x="341" y="463"/>
                  </a:lnTo>
                  <a:lnTo>
                    <a:pt x="348" y="463"/>
                  </a:lnTo>
                  <a:lnTo>
                    <a:pt x="355" y="462"/>
                  </a:lnTo>
                  <a:lnTo>
                    <a:pt x="379" y="461"/>
                  </a:lnTo>
                  <a:lnTo>
                    <a:pt x="402" y="459"/>
                  </a:lnTo>
                  <a:lnTo>
                    <a:pt x="426" y="455"/>
                  </a:lnTo>
                  <a:lnTo>
                    <a:pt x="449" y="449"/>
                  </a:lnTo>
                  <a:lnTo>
                    <a:pt x="469" y="444"/>
                  </a:lnTo>
                  <a:lnTo>
                    <a:pt x="491" y="436"/>
                  </a:lnTo>
                  <a:lnTo>
                    <a:pt x="511" y="428"/>
                  </a:lnTo>
                  <a:lnTo>
                    <a:pt x="530" y="417"/>
                  </a:lnTo>
                  <a:lnTo>
                    <a:pt x="532" y="415"/>
                  </a:lnTo>
                  <a:lnTo>
                    <a:pt x="533" y="413"/>
                  </a:lnTo>
                  <a:lnTo>
                    <a:pt x="533" y="411"/>
                  </a:lnTo>
                  <a:lnTo>
                    <a:pt x="534" y="409"/>
                  </a:lnTo>
                  <a:lnTo>
                    <a:pt x="536" y="409"/>
                  </a:lnTo>
                  <a:lnTo>
                    <a:pt x="538" y="409"/>
                  </a:lnTo>
                  <a:lnTo>
                    <a:pt x="541" y="409"/>
                  </a:lnTo>
                  <a:lnTo>
                    <a:pt x="543" y="410"/>
                  </a:lnTo>
                  <a:lnTo>
                    <a:pt x="551" y="406"/>
                  </a:lnTo>
                  <a:lnTo>
                    <a:pt x="558" y="401"/>
                  </a:lnTo>
                  <a:lnTo>
                    <a:pt x="565" y="396"/>
                  </a:lnTo>
                  <a:lnTo>
                    <a:pt x="572" y="392"/>
                  </a:lnTo>
                  <a:lnTo>
                    <a:pt x="571" y="390"/>
                  </a:lnTo>
                  <a:lnTo>
                    <a:pt x="570" y="387"/>
                  </a:lnTo>
                  <a:lnTo>
                    <a:pt x="570" y="385"/>
                  </a:lnTo>
                  <a:lnTo>
                    <a:pt x="570" y="383"/>
                  </a:lnTo>
                  <a:lnTo>
                    <a:pt x="573" y="383"/>
                  </a:lnTo>
                  <a:lnTo>
                    <a:pt x="576" y="383"/>
                  </a:lnTo>
                  <a:lnTo>
                    <a:pt x="580" y="383"/>
                  </a:lnTo>
                  <a:lnTo>
                    <a:pt x="583" y="383"/>
                  </a:lnTo>
                  <a:lnTo>
                    <a:pt x="591" y="376"/>
                  </a:lnTo>
                  <a:lnTo>
                    <a:pt x="599" y="369"/>
                  </a:lnTo>
                  <a:lnTo>
                    <a:pt x="606" y="362"/>
                  </a:lnTo>
                  <a:lnTo>
                    <a:pt x="614" y="354"/>
                  </a:lnTo>
                  <a:lnTo>
                    <a:pt x="621" y="347"/>
                  </a:lnTo>
                  <a:lnTo>
                    <a:pt x="628" y="339"/>
                  </a:lnTo>
                  <a:lnTo>
                    <a:pt x="635" y="331"/>
                  </a:lnTo>
                  <a:lnTo>
                    <a:pt x="641" y="323"/>
                  </a:lnTo>
                  <a:lnTo>
                    <a:pt x="639" y="322"/>
                  </a:lnTo>
                  <a:lnTo>
                    <a:pt x="636" y="319"/>
                  </a:lnTo>
                  <a:lnTo>
                    <a:pt x="634" y="318"/>
                  </a:lnTo>
                  <a:lnTo>
                    <a:pt x="632" y="317"/>
                  </a:lnTo>
                  <a:lnTo>
                    <a:pt x="632" y="316"/>
                  </a:lnTo>
                  <a:lnTo>
                    <a:pt x="631" y="313"/>
                  </a:lnTo>
                  <a:lnTo>
                    <a:pt x="628" y="312"/>
                  </a:lnTo>
                  <a:lnTo>
                    <a:pt x="627" y="311"/>
                  </a:lnTo>
                  <a:lnTo>
                    <a:pt x="616" y="325"/>
                  </a:lnTo>
                  <a:lnTo>
                    <a:pt x="604" y="339"/>
                  </a:lnTo>
                  <a:lnTo>
                    <a:pt x="591" y="352"/>
                  </a:lnTo>
                  <a:lnTo>
                    <a:pt x="578" y="363"/>
                  </a:lnTo>
                  <a:lnTo>
                    <a:pt x="563" y="375"/>
                  </a:lnTo>
                  <a:lnTo>
                    <a:pt x="548" y="385"/>
                  </a:lnTo>
                  <a:lnTo>
                    <a:pt x="532" y="394"/>
                  </a:lnTo>
                  <a:lnTo>
                    <a:pt x="515" y="403"/>
                  </a:lnTo>
                  <a:lnTo>
                    <a:pt x="497" y="411"/>
                  </a:lnTo>
                  <a:lnTo>
                    <a:pt x="480" y="418"/>
                  </a:lnTo>
                  <a:lnTo>
                    <a:pt x="461" y="424"/>
                  </a:lnTo>
                  <a:lnTo>
                    <a:pt x="442" y="430"/>
                  </a:lnTo>
                  <a:lnTo>
                    <a:pt x="422" y="433"/>
                  </a:lnTo>
                  <a:lnTo>
                    <a:pt x="402" y="437"/>
                  </a:lnTo>
                  <a:lnTo>
                    <a:pt x="382" y="438"/>
                  </a:lnTo>
                  <a:lnTo>
                    <a:pt x="361" y="439"/>
                  </a:lnTo>
                  <a:lnTo>
                    <a:pt x="354" y="439"/>
                  </a:lnTo>
                  <a:lnTo>
                    <a:pt x="348" y="439"/>
                  </a:lnTo>
                  <a:lnTo>
                    <a:pt x="341" y="439"/>
                  </a:lnTo>
                  <a:lnTo>
                    <a:pt x="334" y="439"/>
                  </a:lnTo>
                  <a:lnTo>
                    <a:pt x="302" y="437"/>
                  </a:lnTo>
                  <a:lnTo>
                    <a:pt x="271" y="431"/>
                  </a:lnTo>
                  <a:lnTo>
                    <a:pt x="241" y="423"/>
                  </a:lnTo>
                  <a:lnTo>
                    <a:pt x="214" y="413"/>
                  </a:lnTo>
                  <a:lnTo>
                    <a:pt x="186" y="400"/>
                  </a:lnTo>
                  <a:lnTo>
                    <a:pt x="161" y="386"/>
                  </a:lnTo>
                  <a:lnTo>
                    <a:pt x="136" y="370"/>
                  </a:lnTo>
                  <a:lnTo>
                    <a:pt x="114" y="352"/>
                  </a:lnTo>
                  <a:lnTo>
                    <a:pt x="95" y="332"/>
                  </a:lnTo>
                  <a:lnTo>
                    <a:pt x="78" y="310"/>
                  </a:lnTo>
                  <a:lnTo>
                    <a:pt x="61" y="288"/>
                  </a:lnTo>
                  <a:lnTo>
                    <a:pt x="49" y="264"/>
                  </a:lnTo>
                  <a:lnTo>
                    <a:pt x="38" y="239"/>
                  </a:lnTo>
                  <a:lnTo>
                    <a:pt x="30" y="213"/>
                  </a:lnTo>
                  <a:lnTo>
                    <a:pt x="26" y="186"/>
                  </a:lnTo>
                  <a:lnTo>
                    <a:pt x="25" y="158"/>
                  </a:lnTo>
                  <a:lnTo>
                    <a:pt x="26" y="136"/>
                  </a:lnTo>
                  <a:lnTo>
                    <a:pt x="28" y="115"/>
                  </a:lnTo>
                  <a:lnTo>
                    <a:pt x="33" y="95"/>
                  </a:lnTo>
                  <a:lnTo>
                    <a:pt x="40" y="74"/>
                  </a:lnTo>
                  <a:lnTo>
                    <a:pt x="48" y="54"/>
                  </a:lnTo>
                  <a:lnTo>
                    <a:pt x="57" y="36"/>
                  </a:lnTo>
                  <a:lnTo>
                    <a:pt x="68" y="17"/>
                  </a:lnTo>
                  <a:lnTo>
                    <a:pt x="81" y="0"/>
                  </a:lnTo>
                  <a:lnTo>
                    <a:pt x="75" y="2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6" y="12"/>
                  </a:lnTo>
                  <a:lnTo>
                    <a:pt x="53" y="14"/>
                  </a:lnTo>
                  <a:lnTo>
                    <a:pt x="50" y="15"/>
                  </a:lnTo>
                  <a:lnTo>
                    <a:pt x="48" y="16"/>
                  </a:lnTo>
                  <a:lnTo>
                    <a:pt x="37" y="33"/>
                  </a:lnTo>
                  <a:lnTo>
                    <a:pt x="28" y="51"/>
                  </a:lnTo>
                  <a:lnTo>
                    <a:pt x="20" y="68"/>
                  </a:lnTo>
                  <a:lnTo>
                    <a:pt x="13" y="86"/>
                  </a:lnTo>
                  <a:lnTo>
                    <a:pt x="7" y="106"/>
                  </a:lnTo>
                  <a:lnTo>
                    <a:pt x="4" y="124"/>
                  </a:lnTo>
                  <a:lnTo>
                    <a:pt x="2" y="145"/>
                  </a:lnTo>
                  <a:lnTo>
                    <a:pt x="0" y="165"/>
                  </a:lnTo>
                  <a:lnTo>
                    <a:pt x="2" y="195"/>
                  </a:lnTo>
                  <a:lnTo>
                    <a:pt x="7" y="222"/>
                  </a:lnTo>
                  <a:lnTo>
                    <a:pt x="15" y="250"/>
                  </a:lnTo>
                  <a:lnTo>
                    <a:pt x="26" y="278"/>
                  </a:lnTo>
                  <a:lnTo>
                    <a:pt x="40" y="303"/>
                  </a:lnTo>
                  <a:lnTo>
                    <a:pt x="56" y="326"/>
                  </a:lnTo>
                  <a:lnTo>
                    <a:pt x="74" y="349"/>
                  </a:lnTo>
                  <a:lnTo>
                    <a:pt x="96" y="370"/>
                  </a:lnTo>
                  <a:lnTo>
                    <a:pt x="119" y="390"/>
                  </a:lnTo>
                  <a:lnTo>
                    <a:pt x="144" y="407"/>
                  </a:lnTo>
                  <a:lnTo>
                    <a:pt x="171" y="422"/>
                  </a:lnTo>
                  <a:lnTo>
                    <a:pt x="200" y="434"/>
                  </a:lnTo>
                  <a:lnTo>
                    <a:pt x="230" y="445"/>
                  </a:lnTo>
                  <a:lnTo>
                    <a:pt x="261" y="454"/>
                  </a:lnTo>
                  <a:lnTo>
                    <a:pt x="294" y="459"/>
                  </a:lnTo>
                  <a:lnTo>
                    <a:pt x="328" y="462"/>
                  </a:lnTo>
                  <a:close/>
                </a:path>
              </a:pathLst>
            </a:custGeom>
            <a:solidFill>
              <a:srgbClr val="b78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H="1">
              <a:off x="6712920" y="3003480"/>
              <a:ext cx="44280" cy="195480"/>
            </a:xfrm>
            <a:custGeom>
              <a:avLst/>
              <a:gdLst/>
              <a:ahLst/>
              <a:rect l="l" t="t" r="r" b="b"/>
              <a:pathLst>
                <a:path w="56" h="248">
                  <a:moveTo>
                    <a:pt x="42" y="127"/>
                  </a:moveTo>
                  <a:lnTo>
                    <a:pt x="40" y="143"/>
                  </a:lnTo>
                  <a:lnTo>
                    <a:pt x="38" y="158"/>
                  </a:lnTo>
                  <a:lnTo>
                    <a:pt x="33" y="174"/>
                  </a:lnTo>
                  <a:lnTo>
                    <a:pt x="28" y="189"/>
                  </a:lnTo>
                  <a:lnTo>
                    <a:pt x="23" y="204"/>
                  </a:lnTo>
                  <a:lnTo>
                    <a:pt x="16" y="218"/>
                  </a:lnTo>
                  <a:lnTo>
                    <a:pt x="8" y="232"/>
                  </a:lnTo>
                  <a:lnTo>
                    <a:pt x="0" y="246"/>
                  </a:lnTo>
                  <a:lnTo>
                    <a:pt x="2" y="244"/>
                  </a:lnTo>
                  <a:lnTo>
                    <a:pt x="4" y="244"/>
                  </a:lnTo>
                  <a:lnTo>
                    <a:pt x="5" y="244"/>
                  </a:lnTo>
                  <a:lnTo>
                    <a:pt x="8" y="244"/>
                  </a:lnTo>
                  <a:lnTo>
                    <a:pt x="10" y="244"/>
                  </a:lnTo>
                  <a:lnTo>
                    <a:pt x="11" y="244"/>
                  </a:lnTo>
                  <a:lnTo>
                    <a:pt x="11" y="244"/>
                  </a:lnTo>
                  <a:lnTo>
                    <a:pt x="11" y="244"/>
                  </a:lnTo>
                  <a:lnTo>
                    <a:pt x="13" y="247"/>
                  </a:lnTo>
                  <a:lnTo>
                    <a:pt x="14" y="248"/>
                  </a:lnTo>
                  <a:lnTo>
                    <a:pt x="16" y="248"/>
                  </a:lnTo>
                  <a:lnTo>
                    <a:pt x="17" y="248"/>
                  </a:lnTo>
                  <a:lnTo>
                    <a:pt x="18" y="248"/>
                  </a:lnTo>
                  <a:lnTo>
                    <a:pt x="25" y="235"/>
                  </a:lnTo>
                  <a:lnTo>
                    <a:pt x="32" y="221"/>
                  </a:lnTo>
                  <a:lnTo>
                    <a:pt x="38" y="207"/>
                  </a:lnTo>
                  <a:lnTo>
                    <a:pt x="42" y="194"/>
                  </a:lnTo>
                  <a:lnTo>
                    <a:pt x="47" y="180"/>
                  </a:lnTo>
                  <a:lnTo>
                    <a:pt x="50" y="166"/>
                  </a:lnTo>
                  <a:lnTo>
                    <a:pt x="53" y="151"/>
                  </a:lnTo>
                  <a:lnTo>
                    <a:pt x="55" y="136"/>
                  </a:lnTo>
                  <a:lnTo>
                    <a:pt x="56" y="128"/>
                  </a:lnTo>
                  <a:lnTo>
                    <a:pt x="56" y="120"/>
                  </a:lnTo>
                  <a:lnTo>
                    <a:pt x="56" y="112"/>
                  </a:lnTo>
                  <a:lnTo>
                    <a:pt x="56" y="104"/>
                  </a:lnTo>
                  <a:lnTo>
                    <a:pt x="54" y="78"/>
                  </a:lnTo>
                  <a:lnTo>
                    <a:pt x="49" y="54"/>
                  </a:lnTo>
                  <a:lnTo>
                    <a:pt x="42" y="31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29" y="23"/>
                  </a:lnTo>
                  <a:lnTo>
                    <a:pt x="36" y="46"/>
                  </a:lnTo>
                  <a:lnTo>
                    <a:pt x="41" y="71"/>
                  </a:lnTo>
                  <a:lnTo>
                    <a:pt x="43" y="97"/>
                  </a:lnTo>
                  <a:lnTo>
                    <a:pt x="43" y="105"/>
                  </a:lnTo>
                  <a:lnTo>
                    <a:pt x="43" y="112"/>
                  </a:lnTo>
                  <a:lnTo>
                    <a:pt x="43" y="119"/>
                  </a:lnTo>
                  <a:lnTo>
                    <a:pt x="42" y="127"/>
                  </a:lnTo>
                  <a:close/>
                </a:path>
              </a:pathLst>
            </a:custGeom>
            <a:solidFill>
              <a:srgbClr val="b78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 flipH="1">
              <a:off x="6722280" y="2948040"/>
              <a:ext cx="522360" cy="361800"/>
            </a:xfrm>
            <a:custGeom>
              <a:avLst/>
              <a:gdLst/>
              <a:ahLst/>
              <a:rect l="l" t="t" r="r" b="b"/>
              <a:pathLst>
                <a:path w="656" h="455">
                  <a:moveTo>
                    <a:pt x="309" y="455"/>
                  </a:moveTo>
                  <a:lnTo>
                    <a:pt x="316" y="455"/>
                  </a:lnTo>
                  <a:lnTo>
                    <a:pt x="323" y="455"/>
                  </a:lnTo>
                  <a:lnTo>
                    <a:pt x="329" y="455"/>
                  </a:lnTo>
                  <a:lnTo>
                    <a:pt x="336" y="455"/>
                  </a:lnTo>
                  <a:lnTo>
                    <a:pt x="357" y="454"/>
                  </a:lnTo>
                  <a:lnTo>
                    <a:pt x="377" y="453"/>
                  </a:lnTo>
                  <a:lnTo>
                    <a:pt x="397" y="449"/>
                  </a:lnTo>
                  <a:lnTo>
                    <a:pt x="417" y="446"/>
                  </a:lnTo>
                  <a:lnTo>
                    <a:pt x="436" y="440"/>
                  </a:lnTo>
                  <a:lnTo>
                    <a:pt x="455" y="434"/>
                  </a:lnTo>
                  <a:lnTo>
                    <a:pt x="472" y="427"/>
                  </a:lnTo>
                  <a:lnTo>
                    <a:pt x="490" y="419"/>
                  </a:lnTo>
                  <a:lnTo>
                    <a:pt x="507" y="410"/>
                  </a:lnTo>
                  <a:lnTo>
                    <a:pt x="523" y="401"/>
                  </a:lnTo>
                  <a:lnTo>
                    <a:pt x="538" y="391"/>
                  </a:lnTo>
                  <a:lnTo>
                    <a:pt x="553" y="379"/>
                  </a:lnTo>
                  <a:lnTo>
                    <a:pt x="566" y="368"/>
                  </a:lnTo>
                  <a:lnTo>
                    <a:pt x="579" y="355"/>
                  </a:lnTo>
                  <a:lnTo>
                    <a:pt x="591" y="341"/>
                  </a:lnTo>
                  <a:lnTo>
                    <a:pt x="602" y="327"/>
                  </a:lnTo>
                  <a:lnTo>
                    <a:pt x="600" y="325"/>
                  </a:lnTo>
                  <a:lnTo>
                    <a:pt x="596" y="323"/>
                  </a:lnTo>
                  <a:lnTo>
                    <a:pt x="594" y="321"/>
                  </a:lnTo>
                  <a:lnTo>
                    <a:pt x="591" y="319"/>
                  </a:lnTo>
                  <a:lnTo>
                    <a:pt x="596" y="318"/>
                  </a:lnTo>
                  <a:lnTo>
                    <a:pt x="602" y="317"/>
                  </a:lnTo>
                  <a:lnTo>
                    <a:pt x="607" y="316"/>
                  </a:lnTo>
                  <a:lnTo>
                    <a:pt x="613" y="315"/>
                  </a:lnTo>
                  <a:lnTo>
                    <a:pt x="621" y="301"/>
                  </a:lnTo>
                  <a:lnTo>
                    <a:pt x="629" y="287"/>
                  </a:lnTo>
                  <a:lnTo>
                    <a:pt x="636" y="273"/>
                  </a:lnTo>
                  <a:lnTo>
                    <a:pt x="641" y="258"/>
                  </a:lnTo>
                  <a:lnTo>
                    <a:pt x="646" y="243"/>
                  </a:lnTo>
                  <a:lnTo>
                    <a:pt x="651" y="227"/>
                  </a:lnTo>
                  <a:lnTo>
                    <a:pt x="653" y="212"/>
                  </a:lnTo>
                  <a:lnTo>
                    <a:pt x="655" y="196"/>
                  </a:lnTo>
                  <a:lnTo>
                    <a:pt x="656" y="188"/>
                  </a:lnTo>
                  <a:lnTo>
                    <a:pt x="656" y="181"/>
                  </a:lnTo>
                  <a:lnTo>
                    <a:pt x="656" y="174"/>
                  </a:lnTo>
                  <a:lnTo>
                    <a:pt x="656" y="166"/>
                  </a:lnTo>
                  <a:lnTo>
                    <a:pt x="654" y="140"/>
                  </a:lnTo>
                  <a:lnTo>
                    <a:pt x="649" y="115"/>
                  </a:lnTo>
                  <a:lnTo>
                    <a:pt x="642" y="92"/>
                  </a:lnTo>
                  <a:lnTo>
                    <a:pt x="632" y="69"/>
                  </a:lnTo>
                  <a:lnTo>
                    <a:pt x="631" y="68"/>
                  </a:lnTo>
                  <a:lnTo>
                    <a:pt x="630" y="67"/>
                  </a:lnTo>
                  <a:lnTo>
                    <a:pt x="629" y="67"/>
                  </a:lnTo>
                  <a:lnTo>
                    <a:pt x="627" y="66"/>
                  </a:lnTo>
                  <a:lnTo>
                    <a:pt x="625" y="64"/>
                  </a:lnTo>
                  <a:lnTo>
                    <a:pt x="623" y="63"/>
                  </a:lnTo>
                  <a:lnTo>
                    <a:pt x="621" y="62"/>
                  </a:lnTo>
                  <a:lnTo>
                    <a:pt x="618" y="61"/>
                  </a:lnTo>
                  <a:lnTo>
                    <a:pt x="629" y="84"/>
                  </a:lnTo>
                  <a:lnTo>
                    <a:pt x="637" y="107"/>
                  </a:lnTo>
                  <a:lnTo>
                    <a:pt x="641" y="132"/>
                  </a:lnTo>
                  <a:lnTo>
                    <a:pt x="644" y="158"/>
                  </a:lnTo>
                  <a:lnTo>
                    <a:pt x="644" y="165"/>
                  </a:lnTo>
                  <a:lnTo>
                    <a:pt x="644" y="172"/>
                  </a:lnTo>
                  <a:lnTo>
                    <a:pt x="644" y="180"/>
                  </a:lnTo>
                  <a:lnTo>
                    <a:pt x="642" y="187"/>
                  </a:lnTo>
                  <a:lnTo>
                    <a:pt x="639" y="212"/>
                  </a:lnTo>
                  <a:lnTo>
                    <a:pt x="633" y="236"/>
                  </a:lnTo>
                  <a:lnTo>
                    <a:pt x="624" y="259"/>
                  </a:lnTo>
                  <a:lnTo>
                    <a:pt x="613" y="281"/>
                  </a:lnTo>
                  <a:lnTo>
                    <a:pt x="600" y="303"/>
                  </a:lnTo>
                  <a:lnTo>
                    <a:pt x="584" y="323"/>
                  </a:lnTo>
                  <a:lnTo>
                    <a:pt x="566" y="342"/>
                  </a:lnTo>
                  <a:lnTo>
                    <a:pt x="548" y="359"/>
                  </a:lnTo>
                  <a:lnTo>
                    <a:pt x="526" y="374"/>
                  </a:lnTo>
                  <a:lnTo>
                    <a:pt x="504" y="389"/>
                  </a:lnTo>
                  <a:lnTo>
                    <a:pt x="480" y="401"/>
                  </a:lnTo>
                  <a:lnTo>
                    <a:pt x="455" y="411"/>
                  </a:lnTo>
                  <a:lnTo>
                    <a:pt x="427" y="421"/>
                  </a:lnTo>
                  <a:lnTo>
                    <a:pt x="399" y="426"/>
                  </a:lnTo>
                  <a:lnTo>
                    <a:pt x="372" y="431"/>
                  </a:lnTo>
                  <a:lnTo>
                    <a:pt x="342" y="432"/>
                  </a:lnTo>
                  <a:lnTo>
                    <a:pt x="336" y="432"/>
                  </a:lnTo>
                  <a:lnTo>
                    <a:pt x="330" y="432"/>
                  </a:lnTo>
                  <a:lnTo>
                    <a:pt x="323" y="432"/>
                  </a:lnTo>
                  <a:lnTo>
                    <a:pt x="318" y="432"/>
                  </a:lnTo>
                  <a:lnTo>
                    <a:pt x="288" y="430"/>
                  </a:lnTo>
                  <a:lnTo>
                    <a:pt x="258" y="424"/>
                  </a:lnTo>
                  <a:lnTo>
                    <a:pt x="230" y="417"/>
                  </a:lnTo>
                  <a:lnTo>
                    <a:pt x="202" y="408"/>
                  </a:lnTo>
                  <a:lnTo>
                    <a:pt x="177" y="396"/>
                  </a:lnTo>
                  <a:lnTo>
                    <a:pt x="153" y="382"/>
                  </a:lnTo>
                  <a:lnTo>
                    <a:pt x="130" y="368"/>
                  </a:lnTo>
                  <a:lnTo>
                    <a:pt x="109" y="350"/>
                  </a:lnTo>
                  <a:lnTo>
                    <a:pt x="91" y="332"/>
                  </a:lnTo>
                  <a:lnTo>
                    <a:pt x="73" y="311"/>
                  </a:lnTo>
                  <a:lnTo>
                    <a:pt x="59" y="289"/>
                  </a:lnTo>
                  <a:lnTo>
                    <a:pt x="47" y="267"/>
                  </a:lnTo>
                  <a:lnTo>
                    <a:pt x="36" y="243"/>
                  </a:lnTo>
                  <a:lnTo>
                    <a:pt x="30" y="218"/>
                  </a:lnTo>
                  <a:lnTo>
                    <a:pt x="25" y="192"/>
                  </a:lnTo>
                  <a:lnTo>
                    <a:pt x="24" y="166"/>
                  </a:lnTo>
                  <a:lnTo>
                    <a:pt x="25" y="143"/>
                  </a:lnTo>
                  <a:lnTo>
                    <a:pt x="28" y="120"/>
                  </a:lnTo>
                  <a:lnTo>
                    <a:pt x="34" y="98"/>
                  </a:lnTo>
                  <a:lnTo>
                    <a:pt x="42" y="76"/>
                  </a:lnTo>
                  <a:lnTo>
                    <a:pt x="51" y="55"/>
                  </a:lnTo>
                  <a:lnTo>
                    <a:pt x="64" y="36"/>
                  </a:lnTo>
                  <a:lnTo>
                    <a:pt x="78" y="17"/>
                  </a:lnTo>
                  <a:lnTo>
                    <a:pt x="93" y="0"/>
                  </a:lnTo>
                  <a:lnTo>
                    <a:pt x="87" y="2"/>
                  </a:lnTo>
                  <a:lnTo>
                    <a:pt x="81" y="5"/>
                  </a:lnTo>
                  <a:lnTo>
                    <a:pt x="76" y="7"/>
                  </a:lnTo>
                  <a:lnTo>
                    <a:pt x="70" y="10"/>
                  </a:lnTo>
                  <a:lnTo>
                    <a:pt x="66" y="11"/>
                  </a:lnTo>
                  <a:lnTo>
                    <a:pt x="63" y="13"/>
                  </a:lnTo>
                  <a:lnTo>
                    <a:pt x="59" y="15"/>
                  </a:lnTo>
                  <a:lnTo>
                    <a:pt x="56" y="16"/>
                  </a:lnTo>
                  <a:lnTo>
                    <a:pt x="43" y="33"/>
                  </a:lnTo>
                  <a:lnTo>
                    <a:pt x="32" y="52"/>
                  </a:lnTo>
                  <a:lnTo>
                    <a:pt x="23" y="70"/>
                  </a:lnTo>
                  <a:lnTo>
                    <a:pt x="15" y="90"/>
                  </a:lnTo>
                  <a:lnTo>
                    <a:pt x="8" y="111"/>
                  </a:lnTo>
                  <a:lnTo>
                    <a:pt x="3" y="131"/>
                  </a:lnTo>
                  <a:lnTo>
                    <a:pt x="1" y="152"/>
                  </a:lnTo>
                  <a:lnTo>
                    <a:pt x="0" y="174"/>
                  </a:lnTo>
                  <a:lnTo>
                    <a:pt x="1" y="202"/>
                  </a:lnTo>
                  <a:lnTo>
                    <a:pt x="5" y="229"/>
                  </a:lnTo>
                  <a:lnTo>
                    <a:pt x="13" y="255"/>
                  </a:lnTo>
                  <a:lnTo>
                    <a:pt x="24" y="280"/>
                  </a:lnTo>
                  <a:lnTo>
                    <a:pt x="36" y="304"/>
                  </a:lnTo>
                  <a:lnTo>
                    <a:pt x="53" y="326"/>
                  </a:lnTo>
                  <a:lnTo>
                    <a:pt x="70" y="348"/>
                  </a:lnTo>
                  <a:lnTo>
                    <a:pt x="89" y="368"/>
                  </a:lnTo>
                  <a:lnTo>
                    <a:pt x="111" y="386"/>
                  </a:lnTo>
                  <a:lnTo>
                    <a:pt x="136" y="402"/>
                  </a:lnTo>
                  <a:lnTo>
                    <a:pt x="161" y="416"/>
                  </a:lnTo>
                  <a:lnTo>
                    <a:pt x="189" y="429"/>
                  </a:lnTo>
                  <a:lnTo>
                    <a:pt x="216" y="439"/>
                  </a:lnTo>
                  <a:lnTo>
                    <a:pt x="246" y="447"/>
                  </a:lnTo>
                  <a:lnTo>
                    <a:pt x="277" y="453"/>
                  </a:lnTo>
                  <a:lnTo>
                    <a:pt x="309" y="455"/>
                  </a:lnTo>
                  <a:close/>
                </a:path>
              </a:pathLst>
            </a:custGeom>
            <a:solidFill>
              <a:srgbClr val="b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H="1">
              <a:off x="6733440" y="2935440"/>
              <a:ext cx="492120" cy="35532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294" y="447"/>
                  </a:moveTo>
                  <a:lnTo>
                    <a:pt x="299" y="447"/>
                  </a:lnTo>
                  <a:lnTo>
                    <a:pt x="306" y="447"/>
                  </a:lnTo>
                  <a:lnTo>
                    <a:pt x="312" y="447"/>
                  </a:lnTo>
                  <a:lnTo>
                    <a:pt x="318" y="447"/>
                  </a:lnTo>
                  <a:lnTo>
                    <a:pt x="348" y="446"/>
                  </a:lnTo>
                  <a:lnTo>
                    <a:pt x="375" y="441"/>
                  </a:lnTo>
                  <a:lnTo>
                    <a:pt x="403" y="436"/>
                  </a:lnTo>
                  <a:lnTo>
                    <a:pt x="431" y="426"/>
                  </a:lnTo>
                  <a:lnTo>
                    <a:pt x="456" y="416"/>
                  </a:lnTo>
                  <a:lnTo>
                    <a:pt x="480" y="404"/>
                  </a:lnTo>
                  <a:lnTo>
                    <a:pt x="502" y="389"/>
                  </a:lnTo>
                  <a:lnTo>
                    <a:pt x="524" y="374"/>
                  </a:lnTo>
                  <a:lnTo>
                    <a:pt x="542" y="357"/>
                  </a:lnTo>
                  <a:lnTo>
                    <a:pt x="560" y="338"/>
                  </a:lnTo>
                  <a:lnTo>
                    <a:pt x="576" y="318"/>
                  </a:lnTo>
                  <a:lnTo>
                    <a:pt x="589" y="296"/>
                  </a:lnTo>
                  <a:lnTo>
                    <a:pt x="600" y="274"/>
                  </a:lnTo>
                  <a:lnTo>
                    <a:pt x="609" y="251"/>
                  </a:lnTo>
                  <a:lnTo>
                    <a:pt x="615" y="227"/>
                  </a:lnTo>
                  <a:lnTo>
                    <a:pt x="618" y="202"/>
                  </a:lnTo>
                  <a:lnTo>
                    <a:pt x="620" y="195"/>
                  </a:lnTo>
                  <a:lnTo>
                    <a:pt x="620" y="187"/>
                  </a:lnTo>
                  <a:lnTo>
                    <a:pt x="620" y="180"/>
                  </a:lnTo>
                  <a:lnTo>
                    <a:pt x="620" y="173"/>
                  </a:lnTo>
                  <a:lnTo>
                    <a:pt x="617" y="147"/>
                  </a:lnTo>
                  <a:lnTo>
                    <a:pt x="613" y="122"/>
                  </a:lnTo>
                  <a:lnTo>
                    <a:pt x="605" y="99"/>
                  </a:lnTo>
                  <a:lnTo>
                    <a:pt x="594" y="76"/>
                  </a:lnTo>
                  <a:lnTo>
                    <a:pt x="591" y="74"/>
                  </a:lnTo>
                  <a:lnTo>
                    <a:pt x="587" y="73"/>
                  </a:lnTo>
                  <a:lnTo>
                    <a:pt x="584" y="70"/>
                  </a:lnTo>
                  <a:lnTo>
                    <a:pt x="579" y="68"/>
                  </a:lnTo>
                  <a:lnTo>
                    <a:pt x="590" y="91"/>
                  </a:lnTo>
                  <a:lnTo>
                    <a:pt x="599" y="115"/>
                  </a:lnTo>
                  <a:lnTo>
                    <a:pt x="603" y="139"/>
                  </a:lnTo>
                  <a:lnTo>
                    <a:pt x="607" y="166"/>
                  </a:lnTo>
                  <a:lnTo>
                    <a:pt x="607" y="172"/>
                  </a:lnTo>
                  <a:lnTo>
                    <a:pt x="607" y="179"/>
                  </a:lnTo>
                  <a:lnTo>
                    <a:pt x="607" y="185"/>
                  </a:lnTo>
                  <a:lnTo>
                    <a:pt x="606" y="192"/>
                  </a:lnTo>
                  <a:lnTo>
                    <a:pt x="602" y="217"/>
                  </a:lnTo>
                  <a:lnTo>
                    <a:pt x="597" y="238"/>
                  </a:lnTo>
                  <a:lnTo>
                    <a:pt x="589" y="262"/>
                  </a:lnTo>
                  <a:lnTo>
                    <a:pt x="578" y="282"/>
                  </a:lnTo>
                  <a:lnTo>
                    <a:pt x="565" y="302"/>
                  </a:lnTo>
                  <a:lnTo>
                    <a:pt x="552" y="321"/>
                  </a:lnTo>
                  <a:lnTo>
                    <a:pt x="536" y="339"/>
                  </a:lnTo>
                  <a:lnTo>
                    <a:pt x="517" y="355"/>
                  </a:lnTo>
                  <a:lnTo>
                    <a:pt x="497" y="370"/>
                  </a:lnTo>
                  <a:lnTo>
                    <a:pt x="476" y="383"/>
                  </a:lnTo>
                  <a:lnTo>
                    <a:pt x="454" y="394"/>
                  </a:lnTo>
                  <a:lnTo>
                    <a:pt x="430" y="404"/>
                  </a:lnTo>
                  <a:lnTo>
                    <a:pt x="404" y="412"/>
                  </a:lnTo>
                  <a:lnTo>
                    <a:pt x="378" y="418"/>
                  </a:lnTo>
                  <a:lnTo>
                    <a:pt x="351" y="422"/>
                  </a:lnTo>
                  <a:lnTo>
                    <a:pt x="324" y="424"/>
                  </a:lnTo>
                  <a:lnTo>
                    <a:pt x="318" y="424"/>
                  </a:lnTo>
                  <a:lnTo>
                    <a:pt x="312" y="424"/>
                  </a:lnTo>
                  <a:lnTo>
                    <a:pt x="306" y="424"/>
                  </a:lnTo>
                  <a:lnTo>
                    <a:pt x="300" y="424"/>
                  </a:lnTo>
                  <a:lnTo>
                    <a:pt x="272" y="422"/>
                  </a:lnTo>
                  <a:lnTo>
                    <a:pt x="244" y="417"/>
                  </a:lnTo>
                  <a:lnTo>
                    <a:pt x="218" y="410"/>
                  </a:lnTo>
                  <a:lnTo>
                    <a:pt x="192" y="401"/>
                  </a:lnTo>
                  <a:lnTo>
                    <a:pt x="168" y="389"/>
                  </a:lnTo>
                  <a:lnTo>
                    <a:pt x="145" y="377"/>
                  </a:lnTo>
                  <a:lnTo>
                    <a:pt x="124" y="363"/>
                  </a:lnTo>
                  <a:lnTo>
                    <a:pt x="105" y="347"/>
                  </a:lnTo>
                  <a:lnTo>
                    <a:pt x="86" y="328"/>
                  </a:lnTo>
                  <a:lnTo>
                    <a:pt x="71" y="310"/>
                  </a:lnTo>
                  <a:lnTo>
                    <a:pt x="57" y="290"/>
                  </a:lnTo>
                  <a:lnTo>
                    <a:pt x="46" y="268"/>
                  </a:lnTo>
                  <a:lnTo>
                    <a:pt x="37" y="247"/>
                  </a:lnTo>
                  <a:lnTo>
                    <a:pt x="30" y="222"/>
                  </a:lnTo>
                  <a:lnTo>
                    <a:pt x="25" y="198"/>
                  </a:lnTo>
                  <a:lnTo>
                    <a:pt x="24" y="174"/>
                  </a:lnTo>
                  <a:lnTo>
                    <a:pt x="25" y="149"/>
                  </a:lnTo>
                  <a:lnTo>
                    <a:pt x="30" y="124"/>
                  </a:lnTo>
                  <a:lnTo>
                    <a:pt x="37" y="101"/>
                  </a:lnTo>
                  <a:lnTo>
                    <a:pt x="46" y="78"/>
                  </a:lnTo>
                  <a:lnTo>
                    <a:pt x="57" y="56"/>
                  </a:lnTo>
                  <a:lnTo>
                    <a:pt x="71" y="37"/>
                  </a:lnTo>
                  <a:lnTo>
                    <a:pt x="87" y="17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5" y="3"/>
                  </a:lnTo>
                  <a:lnTo>
                    <a:pt x="91" y="6"/>
                  </a:lnTo>
                  <a:lnTo>
                    <a:pt x="86" y="8"/>
                  </a:lnTo>
                  <a:lnTo>
                    <a:pt x="82" y="9"/>
                  </a:lnTo>
                  <a:lnTo>
                    <a:pt x="78" y="11"/>
                  </a:lnTo>
                  <a:lnTo>
                    <a:pt x="74" y="13"/>
                  </a:lnTo>
                  <a:lnTo>
                    <a:pt x="69" y="15"/>
                  </a:lnTo>
                  <a:lnTo>
                    <a:pt x="54" y="32"/>
                  </a:lnTo>
                  <a:lnTo>
                    <a:pt x="40" y="51"/>
                  </a:lnTo>
                  <a:lnTo>
                    <a:pt x="27" y="70"/>
                  </a:lnTo>
                  <a:lnTo>
                    <a:pt x="18" y="91"/>
                  </a:lnTo>
                  <a:lnTo>
                    <a:pt x="10" y="113"/>
                  </a:lnTo>
                  <a:lnTo>
                    <a:pt x="4" y="135"/>
                  </a:lnTo>
                  <a:lnTo>
                    <a:pt x="1" y="158"/>
                  </a:lnTo>
                  <a:lnTo>
                    <a:pt x="0" y="181"/>
                  </a:lnTo>
                  <a:lnTo>
                    <a:pt x="1" y="207"/>
                  </a:lnTo>
                  <a:lnTo>
                    <a:pt x="6" y="233"/>
                  </a:lnTo>
                  <a:lnTo>
                    <a:pt x="12" y="258"/>
                  </a:lnTo>
                  <a:lnTo>
                    <a:pt x="23" y="282"/>
                  </a:lnTo>
                  <a:lnTo>
                    <a:pt x="35" y="304"/>
                  </a:lnTo>
                  <a:lnTo>
                    <a:pt x="49" y="326"/>
                  </a:lnTo>
                  <a:lnTo>
                    <a:pt x="67" y="347"/>
                  </a:lnTo>
                  <a:lnTo>
                    <a:pt x="85" y="365"/>
                  </a:lnTo>
                  <a:lnTo>
                    <a:pt x="106" y="383"/>
                  </a:lnTo>
                  <a:lnTo>
                    <a:pt x="129" y="397"/>
                  </a:lnTo>
                  <a:lnTo>
                    <a:pt x="153" y="411"/>
                  </a:lnTo>
                  <a:lnTo>
                    <a:pt x="178" y="423"/>
                  </a:lnTo>
                  <a:lnTo>
                    <a:pt x="206" y="432"/>
                  </a:lnTo>
                  <a:lnTo>
                    <a:pt x="234" y="439"/>
                  </a:lnTo>
                  <a:lnTo>
                    <a:pt x="264" y="445"/>
                  </a:lnTo>
                  <a:lnTo>
                    <a:pt x="294" y="447"/>
                  </a:lnTo>
                  <a:close/>
                </a:path>
              </a:pathLst>
            </a:custGeom>
            <a:solidFill>
              <a:srgbClr val="b27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 flipH="1">
              <a:off x="6743160" y="2914560"/>
              <a:ext cx="463680" cy="357120"/>
            </a:xfrm>
            <a:custGeom>
              <a:avLst/>
              <a:gdLst/>
              <a:ahLst/>
              <a:rect l="l" t="t" r="r" b="b"/>
              <a:pathLst>
                <a:path w="583" h="452">
                  <a:moveTo>
                    <a:pt x="0" y="202"/>
                  </a:moveTo>
                  <a:lnTo>
                    <a:pt x="1" y="226"/>
                  </a:lnTo>
                  <a:lnTo>
                    <a:pt x="6" y="250"/>
                  </a:lnTo>
                  <a:lnTo>
                    <a:pt x="13" y="275"/>
                  </a:lnTo>
                  <a:lnTo>
                    <a:pt x="22" y="296"/>
                  </a:lnTo>
                  <a:lnTo>
                    <a:pt x="33" y="318"/>
                  </a:lnTo>
                  <a:lnTo>
                    <a:pt x="47" y="338"/>
                  </a:lnTo>
                  <a:lnTo>
                    <a:pt x="62" y="356"/>
                  </a:lnTo>
                  <a:lnTo>
                    <a:pt x="81" y="375"/>
                  </a:lnTo>
                  <a:lnTo>
                    <a:pt x="100" y="391"/>
                  </a:lnTo>
                  <a:lnTo>
                    <a:pt x="121" y="405"/>
                  </a:lnTo>
                  <a:lnTo>
                    <a:pt x="144" y="417"/>
                  </a:lnTo>
                  <a:lnTo>
                    <a:pt x="168" y="429"/>
                  </a:lnTo>
                  <a:lnTo>
                    <a:pt x="194" y="438"/>
                  </a:lnTo>
                  <a:lnTo>
                    <a:pt x="220" y="445"/>
                  </a:lnTo>
                  <a:lnTo>
                    <a:pt x="248" y="450"/>
                  </a:lnTo>
                  <a:lnTo>
                    <a:pt x="276" y="452"/>
                  </a:lnTo>
                  <a:lnTo>
                    <a:pt x="282" y="452"/>
                  </a:lnTo>
                  <a:lnTo>
                    <a:pt x="288" y="452"/>
                  </a:lnTo>
                  <a:lnTo>
                    <a:pt x="294" y="452"/>
                  </a:lnTo>
                  <a:lnTo>
                    <a:pt x="300" y="452"/>
                  </a:lnTo>
                  <a:lnTo>
                    <a:pt x="327" y="450"/>
                  </a:lnTo>
                  <a:lnTo>
                    <a:pt x="354" y="446"/>
                  </a:lnTo>
                  <a:lnTo>
                    <a:pt x="380" y="440"/>
                  </a:lnTo>
                  <a:lnTo>
                    <a:pt x="406" y="432"/>
                  </a:lnTo>
                  <a:lnTo>
                    <a:pt x="430" y="422"/>
                  </a:lnTo>
                  <a:lnTo>
                    <a:pt x="452" y="411"/>
                  </a:lnTo>
                  <a:lnTo>
                    <a:pt x="473" y="398"/>
                  </a:lnTo>
                  <a:lnTo>
                    <a:pt x="493" y="383"/>
                  </a:lnTo>
                  <a:lnTo>
                    <a:pt x="512" y="367"/>
                  </a:lnTo>
                  <a:lnTo>
                    <a:pt x="528" y="349"/>
                  </a:lnTo>
                  <a:lnTo>
                    <a:pt x="541" y="330"/>
                  </a:lnTo>
                  <a:lnTo>
                    <a:pt x="554" y="310"/>
                  </a:lnTo>
                  <a:lnTo>
                    <a:pt x="565" y="290"/>
                  </a:lnTo>
                  <a:lnTo>
                    <a:pt x="573" y="266"/>
                  </a:lnTo>
                  <a:lnTo>
                    <a:pt x="578" y="245"/>
                  </a:lnTo>
                  <a:lnTo>
                    <a:pt x="582" y="220"/>
                  </a:lnTo>
                  <a:lnTo>
                    <a:pt x="583" y="213"/>
                  </a:lnTo>
                  <a:lnTo>
                    <a:pt x="583" y="207"/>
                  </a:lnTo>
                  <a:lnTo>
                    <a:pt x="583" y="200"/>
                  </a:lnTo>
                  <a:lnTo>
                    <a:pt x="583" y="194"/>
                  </a:lnTo>
                  <a:lnTo>
                    <a:pt x="579" y="167"/>
                  </a:lnTo>
                  <a:lnTo>
                    <a:pt x="575" y="143"/>
                  </a:lnTo>
                  <a:lnTo>
                    <a:pt x="566" y="119"/>
                  </a:lnTo>
                  <a:lnTo>
                    <a:pt x="555" y="96"/>
                  </a:lnTo>
                  <a:lnTo>
                    <a:pt x="551" y="94"/>
                  </a:lnTo>
                  <a:lnTo>
                    <a:pt x="547" y="91"/>
                  </a:lnTo>
                  <a:lnTo>
                    <a:pt x="544" y="90"/>
                  </a:lnTo>
                  <a:lnTo>
                    <a:pt x="540" y="88"/>
                  </a:lnTo>
                  <a:lnTo>
                    <a:pt x="552" y="111"/>
                  </a:lnTo>
                  <a:lnTo>
                    <a:pt x="561" y="135"/>
                  </a:lnTo>
                  <a:lnTo>
                    <a:pt x="567" y="159"/>
                  </a:lnTo>
                  <a:lnTo>
                    <a:pt x="570" y="186"/>
                  </a:lnTo>
                  <a:lnTo>
                    <a:pt x="570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69" y="211"/>
                  </a:lnTo>
                  <a:lnTo>
                    <a:pt x="566" y="233"/>
                  </a:lnTo>
                  <a:lnTo>
                    <a:pt x="561" y="255"/>
                  </a:lnTo>
                  <a:lnTo>
                    <a:pt x="553" y="276"/>
                  </a:lnTo>
                  <a:lnTo>
                    <a:pt x="544" y="295"/>
                  </a:lnTo>
                  <a:lnTo>
                    <a:pt x="532" y="314"/>
                  </a:lnTo>
                  <a:lnTo>
                    <a:pt x="518" y="332"/>
                  </a:lnTo>
                  <a:lnTo>
                    <a:pt x="503" y="348"/>
                  </a:lnTo>
                  <a:lnTo>
                    <a:pt x="486" y="363"/>
                  </a:lnTo>
                  <a:lnTo>
                    <a:pt x="468" y="377"/>
                  </a:lnTo>
                  <a:lnTo>
                    <a:pt x="448" y="390"/>
                  </a:lnTo>
                  <a:lnTo>
                    <a:pt x="427" y="401"/>
                  </a:lnTo>
                  <a:lnTo>
                    <a:pt x="404" y="411"/>
                  </a:lnTo>
                  <a:lnTo>
                    <a:pt x="381" y="417"/>
                  </a:lnTo>
                  <a:lnTo>
                    <a:pt x="357" y="423"/>
                  </a:lnTo>
                  <a:lnTo>
                    <a:pt x="332" y="428"/>
                  </a:lnTo>
                  <a:lnTo>
                    <a:pt x="305" y="429"/>
                  </a:lnTo>
                  <a:lnTo>
                    <a:pt x="300" y="429"/>
                  </a:lnTo>
                  <a:lnTo>
                    <a:pt x="295" y="429"/>
                  </a:lnTo>
                  <a:lnTo>
                    <a:pt x="289" y="429"/>
                  </a:lnTo>
                  <a:lnTo>
                    <a:pt x="283" y="429"/>
                  </a:lnTo>
                  <a:lnTo>
                    <a:pt x="257" y="427"/>
                  </a:lnTo>
                  <a:lnTo>
                    <a:pt x="230" y="422"/>
                  </a:lnTo>
                  <a:lnTo>
                    <a:pt x="206" y="416"/>
                  </a:lnTo>
                  <a:lnTo>
                    <a:pt x="182" y="407"/>
                  </a:lnTo>
                  <a:lnTo>
                    <a:pt x="159" y="398"/>
                  </a:lnTo>
                  <a:lnTo>
                    <a:pt x="138" y="385"/>
                  </a:lnTo>
                  <a:lnTo>
                    <a:pt x="119" y="372"/>
                  </a:lnTo>
                  <a:lnTo>
                    <a:pt x="100" y="356"/>
                  </a:lnTo>
                  <a:lnTo>
                    <a:pt x="83" y="340"/>
                  </a:lnTo>
                  <a:lnTo>
                    <a:pt x="68" y="323"/>
                  </a:lnTo>
                  <a:lnTo>
                    <a:pt x="55" y="303"/>
                  </a:lnTo>
                  <a:lnTo>
                    <a:pt x="45" y="284"/>
                  </a:lnTo>
                  <a:lnTo>
                    <a:pt x="36" y="263"/>
                  </a:lnTo>
                  <a:lnTo>
                    <a:pt x="30" y="241"/>
                  </a:lnTo>
                  <a:lnTo>
                    <a:pt x="25" y="218"/>
                  </a:lnTo>
                  <a:lnTo>
                    <a:pt x="24" y="195"/>
                  </a:lnTo>
                  <a:lnTo>
                    <a:pt x="26" y="165"/>
                  </a:lnTo>
                  <a:lnTo>
                    <a:pt x="32" y="136"/>
                  </a:lnTo>
                  <a:lnTo>
                    <a:pt x="43" y="110"/>
                  </a:lnTo>
                  <a:lnTo>
                    <a:pt x="56" y="83"/>
                  </a:lnTo>
                  <a:lnTo>
                    <a:pt x="74" y="59"/>
                  </a:lnTo>
                  <a:lnTo>
                    <a:pt x="94" y="37"/>
                  </a:lnTo>
                  <a:lnTo>
                    <a:pt x="117" y="18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2" y="0"/>
                  </a:lnTo>
                  <a:lnTo>
                    <a:pt x="141" y="0"/>
                  </a:lnTo>
                  <a:lnTo>
                    <a:pt x="137" y="4"/>
                  </a:lnTo>
                  <a:lnTo>
                    <a:pt x="132" y="6"/>
                  </a:lnTo>
                  <a:lnTo>
                    <a:pt x="129" y="8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4" y="14"/>
                  </a:lnTo>
                  <a:lnTo>
                    <a:pt x="109" y="15"/>
                  </a:lnTo>
                  <a:lnTo>
                    <a:pt x="105" y="16"/>
                  </a:lnTo>
                  <a:lnTo>
                    <a:pt x="105" y="19"/>
                  </a:lnTo>
                  <a:lnTo>
                    <a:pt x="104" y="20"/>
                  </a:lnTo>
                  <a:lnTo>
                    <a:pt x="101" y="20"/>
                  </a:lnTo>
                  <a:lnTo>
                    <a:pt x="101" y="20"/>
                  </a:lnTo>
                  <a:lnTo>
                    <a:pt x="97" y="22"/>
                  </a:lnTo>
                  <a:lnTo>
                    <a:pt x="92" y="24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63" y="45"/>
                  </a:lnTo>
                  <a:lnTo>
                    <a:pt x="47" y="65"/>
                  </a:lnTo>
                  <a:lnTo>
                    <a:pt x="33" y="84"/>
                  </a:lnTo>
                  <a:lnTo>
                    <a:pt x="22" y="106"/>
                  </a:lnTo>
                  <a:lnTo>
                    <a:pt x="13" y="129"/>
                  </a:lnTo>
                  <a:lnTo>
                    <a:pt x="6" y="152"/>
                  </a:lnTo>
                  <a:lnTo>
                    <a:pt x="1" y="177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af7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6752880" y="2914560"/>
              <a:ext cx="433440" cy="339840"/>
            </a:xfrm>
            <a:custGeom>
              <a:avLst/>
              <a:gdLst/>
              <a:ahLst/>
              <a:rect l="l" t="t" r="r" b="b"/>
              <a:pathLst>
                <a:path w="546" h="429">
                  <a:moveTo>
                    <a:pt x="0" y="195"/>
                  </a:moveTo>
                  <a:lnTo>
                    <a:pt x="1" y="218"/>
                  </a:lnTo>
                  <a:lnTo>
                    <a:pt x="6" y="241"/>
                  </a:lnTo>
                  <a:lnTo>
                    <a:pt x="12" y="263"/>
                  </a:lnTo>
                  <a:lnTo>
                    <a:pt x="21" y="284"/>
                  </a:lnTo>
                  <a:lnTo>
                    <a:pt x="31" y="303"/>
                  </a:lnTo>
                  <a:lnTo>
                    <a:pt x="44" y="323"/>
                  </a:lnTo>
                  <a:lnTo>
                    <a:pt x="59" y="340"/>
                  </a:lnTo>
                  <a:lnTo>
                    <a:pt x="76" y="356"/>
                  </a:lnTo>
                  <a:lnTo>
                    <a:pt x="95" y="372"/>
                  </a:lnTo>
                  <a:lnTo>
                    <a:pt x="114" y="385"/>
                  </a:lnTo>
                  <a:lnTo>
                    <a:pt x="135" y="398"/>
                  </a:lnTo>
                  <a:lnTo>
                    <a:pt x="158" y="407"/>
                  </a:lnTo>
                  <a:lnTo>
                    <a:pt x="182" y="416"/>
                  </a:lnTo>
                  <a:lnTo>
                    <a:pt x="206" y="422"/>
                  </a:lnTo>
                  <a:lnTo>
                    <a:pt x="233" y="427"/>
                  </a:lnTo>
                  <a:lnTo>
                    <a:pt x="259" y="429"/>
                  </a:lnTo>
                  <a:lnTo>
                    <a:pt x="265" y="429"/>
                  </a:lnTo>
                  <a:lnTo>
                    <a:pt x="271" y="429"/>
                  </a:lnTo>
                  <a:lnTo>
                    <a:pt x="276" y="429"/>
                  </a:lnTo>
                  <a:lnTo>
                    <a:pt x="281" y="429"/>
                  </a:lnTo>
                  <a:lnTo>
                    <a:pt x="308" y="428"/>
                  </a:lnTo>
                  <a:lnTo>
                    <a:pt x="333" y="423"/>
                  </a:lnTo>
                  <a:lnTo>
                    <a:pt x="357" y="417"/>
                  </a:lnTo>
                  <a:lnTo>
                    <a:pt x="380" y="411"/>
                  </a:lnTo>
                  <a:lnTo>
                    <a:pt x="403" y="401"/>
                  </a:lnTo>
                  <a:lnTo>
                    <a:pt x="424" y="390"/>
                  </a:lnTo>
                  <a:lnTo>
                    <a:pt x="444" y="377"/>
                  </a:lnTo>
                  <a:lnTo>
                    <a:pt x="462" y="363"/>
                  </a:lnTo>
                  <a:lnTo>
                    <a:pt x="479" y="348"/>
                  </a:lnTo>
                  <a:lnTo>
                    <a:pt x="494" y="332"/>
                  </a:lnTo>
                  <a:lnTo>
                    <a:pt x="508" y="314"/>
                  </a:lnTo>
                  <a:lnTo>
                    <a:pt x="520" y="295"/>
                  </a:lnTo>
                  <a:lnTo>
                    <a:pt x="529" y="276"/>
                  </a:lnTo>
                  <a:lnTo>
                    <a:pt x="537" y="255"/>
                  </a:lnTo>
                  <a:lnTo>
                    <a:pt x="542" y="233"/>
                  </a:lnTo>
                  <a:lnTo>
                    <a:pt x="545" y="211"/>
                  </a:lnTo>
                  <a:lnTo>
                    <a:pt x="546" y="205"/>
                  </a:lnTo>
                  <a:lnTo>
                    <a:pt x="546" y="198"/>
                  </a:lnTo>
                  <a:lnTo>
                    <a:pt x="546" y="192"/>
                  </a:lnTo>
                  <a:lnTo>
                    <a:pt x="546" y="186"/>
                  </a:lnTo>
                  <a:lnTo>
                    <a:pt x="543" y="159"/>
                  </a:lnTo>
                  <a:lnTo>
                    <a:pt x="537" y="135"/>
                  </a:lnTo>
                  <a:lnTo>
                    <a:pt x="528" y="111"/>
                  </a:lnTo>
                  <a:lnTo>
                    <a:pt x="516" y="88"/>
                  </a:lnTo>
                  <a:lnTo>
                    <a:pt x="515" y="87"/>
                  </a:lnTo>
                  <a:lnTo>
                    <a:pt x="514" y="87"/>
                  </a:lnTo>
                  <a:lnTo>
                    <a:pt x="513" y="87"/>
                  </a:lnTo>
                  <a:lnTo>
                    <a:pt x="512" y="86"/>
                  </a:lnTo>
                  <a:lnTo>
                    <a:pt x="508" y="83"/>
                  </a:lnTo>
                  <a:lnTo>
                    <a:pt x="505" y="82"/>
                  </a:lnTo>
                  <a:lnTo>
                    <a:pt x="501" y="80"/>
                  </a:lnTo>
                  <a:lnTo>
                    <a:pt x="498" y="77"/>
                  </a:lnTo>
                  <a:lnTo>
                    <a:pt x="505" y="89"/>
                  </a:lnTo>
                  <a:lnTo>
                    <a:pt x="512" y="101"/>
                  </a:lnTo>
                  <a:lnTo>
                    <a:pt x="517" y="113"/>
                  </a:lnTo>
                  <a:lnTo>
                    <a:pt x="522" y="125"/>
                  </a:lnTo>
                  <a:lnTo>
                    <a:pt x="527" y="137"/>
                  </a:lnTo>
                  <a:lnTo>
                    <a:pt x="529" y="151"/>
                  </a:lnTo>
                  <a:lnTo>
                    <a:pt x="531" y="164"/>
                  </a:lnTo>
                  <a:lnTo>
                    <a:pt x="532" y="178"/>
                  </a:lnTo>
                  <a:lnTo>
                    <a:pt x="534" y="183"/>
                  </a:lnTo>
                  <a:lnTo>
                    <a:pt x="534" y="189"/>
                  </a:lnTo>
                  <a:lnTo>
                    <a:pt x="534" y="196"/>
                  </a:lnTo>
                  <a:lnTo>
                    <a:pt x="532" y="202"/>
                  </a:lnTo>
                  <a:lnTo>
                    <a:pt x="530" y="223"/>
                  </a:lnTo>
                  <a:lnTo>
                    <a:pt x="526" y="242"/>
                  </a:lnTo>
                  <a:lnTo>
                    <a:pt x="519" y="262"/>
                  </a:lnTo>
                  <a:lnTo>
                    <a:pt x="509" y="280"/>
                  </a:lnTo>
                  <a:lnTo>
                    <a:pt x="498" y="298"/>
                  </a:lnTo>
                  <a:lnTo>
                    <a:pt x="486" y="315"/>
                  </a:lnTo>
                  <a:lnTo>
                    <a:pt x="471" y="330"/>
                  </a:lnTo>
                  <a:lnTo>
                    <a:pt x="456" y="345"/>
                  </a:lnTo>
                  <a:lnTo>
                    <a:pt x="439" y="358"/>
                  </a:lnTo>
                  <a:lnTo>
                    <a:pt x="421" y="369"/>
                  </a:lnTo>
                  <a:lnTo>
                    <a:pt x="401" y="379"/>
                  </a:lnTo>
                  <a:lnTo>
                    <a:pt x="379" y="389"/>
                  </a:lnTo>
                  <a:lnTo>
                    <a:pt x="357" y="396"/>
                  </a:lnTo>
                  <a:lnTo>
                    <a:pt x="335" y="401"/>
                  </a:lnTo>
                  <a:lnTo>
                    <a:pt x="311" y="405"/>
                  </a:lnTo>
                  <a:lnTo>
                    <a:pt x="287" y="406"/>
                  </a:lnTo>
                  <a:lnTo>
                    <a:pt x="282" y="406"/>
                  </a:lnTo>
                  <a:lnTo>
                    <a:pt x="277" y="406"/>
                  </a:lnTo>
                  <a:lnTo>
                    <a:pt x="272" y="406"/>
                  </a:lnTo>
                  <a:lnTo>
                    <a:pt x="267" y="406"/>
                  </a:lnTo>
                  <a:lnTo>
                    <a:pt x="242" y="404"/>
                  </a:lnTo>
                  <a:lnTo>
                    <a:pt x="218" y="400"/>
                  </a:lnTo>
                  <a:lnTo>
                    <a:pt x="195" y="394"/>
                  </a:lnTo>
                  <a:lnTo>
                    <a:pt x="172" y="386"/>
                  </a:lnTo>
                  <a:lnTo>
                    <a:pt x="151" y="377"/>
                  </a:lnTo>
                  <a:lnTo>
                    <a:pt x="130" y="366"/>
                  </a:lnTo>
                  <a:lnTo>
                    <a:pt x="112" y="353"/>
                  </a:lnTo>
                  <a:lnTo>
                    <a:pt x="95" y="339"/>
                  </a:lnTo>
                  <a:lnTo>
                    <a:pt x="79" y="323"/>
                  </a:lnTo>
                  <a:lnTo>
                    <a:pt x="65" y="307"/>
                  </a:lnTo>
                  <a:lnTo>
                    <a:pt x="52" y="288"/>
                  </a:lnTo>
                  <a:lnTo>
                    <a:pt x="43" y="270"/>
                  </a:lnTo>
                  <a:lnTo>
                    <a:pt x="34" y="250"/>
                  </a:lnTo>
                  <a:lnTo>
                    <a:pt x="28" y="230"/>
                  </a:lnTo>
                  <a:lnTo>
                    <a:pt x="24" y="209"/>
                  </a:lnTo>
                  <a:lnTo>
                    <a:pt x="23" y="187"/>
                  </a:lnTo>
                  <a:lnTo>
                    <a:pt x="26" y="159"/>
                  </a:lnTo>
                  <a:lnTo>
                    <a:pt x="31" y="132"/>
                  </a:lnTo>
                  <a:lnTo>
                    <a:pt x="42" y="106"/>
                  </a:lnTo>
                  <a:lnTo>
                    <a:pt x="55" y="82"/>
                  </a:lnTo>
                  <a:lnTo>
                    <a:pt x="72" y="59"/>
                  </a:lnTo>
                  <a:lnTo>
                    <a:pt x="91" y="38"/>
                  </a:lnTo>
                  <a:lnTo>
                    <a:pt x="113" y="21"/>
                  </a:lnTo>
                  <a:lnTo>
                    <a:pt x="138" y="5"/>
                  </a:lnTo>
                  <a:lnTo>
                    <a:pt x="136" y="4"/>
                  </a:lnTo>
                  <a:lnTo>
                    <a:pt x="135" y="4"/>
                  </a:lnTo>
                  <a:lnTo>
                    <a:pt x="133" y="4"/>
                  </a:lnTo>
                  <a:lnTo>
                    <a:pt x="130" y="4"/>
                  </a:lnTo>
                  <a:lnTo>
                    <a:pt x="127" y="3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93" y="18"/>
                  </a:lnTo>
                  <a:lnTo>
                    <a:pt x="70" y="37"/>
                  </a:lnTo>
                  <a:lnTo>
                    <a:pt x="50" y="59"/>
                  </a:lnTo>
                  <a:lnTo>
                    <a:pt x="32" y="83"/>
                  </a:lnTo>
                  <a:lnTo>
                    <a:pt x="19" y="110"/>
                  </a:lnTo>
                  <a:lnTo>
                    <a:pt x="8" y="136"/>
                  </a:lnTo>
                  <a:lnTo>
                    <a:pt x="2" y="16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ad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 flipH="1">
              <a:off x="6764040" y="2917800"/>
              <a:ext cx="404640" cy="317520"/>
            </a:xfrm>
            <a:custGeom>
              <a:avLst/>
              <a:gdLst/>
              <a:ahLst/>
              <a:rect l="l" t="t" r="r" b="b"/>
              <a:pathLst>
                <a:path w="511" h="401">
                  <a:moveTo>
                    <a:pt x="0" y="182"/>
                  </a:moveTo>
                  <a:lnTo>
                    <a:pt x="1" y="204"/>
                  </a:lnTo>
                  <a:lnTo>
                    <a:pt x="5" y="225"/>
                  </a:lnTo>
                  <a:lnTo>
                    <a:pt x="11" y="245"/>
                  </a:lnTo>
                  <a:lnTo>
                    <a:pt x="20" y="265"/>
                  </a:lnTo>
                  <a:lnTo>
                    <a:pt x="29" y="283"/>
                  </a:lnTo>
                  <a:lnTo>
                    <a:pt x="42" y="302"/>
                  </a:lnTo>
                  <a:lnTo>
                    <a:pt x="56" y="318"/>
                  </a:lnTo>
                  <a:lnTo>
                    <a:pt x="72" y="334"/>
                  </a:lnTo>
                  <a:lnTo>
                    <a:pt x="89" y="348"/>
                  </a:lnTo>
                  <a:lnTo>
                    <a:pt x="107" y="361"/>
                  </a:lnTo>
                  <a:lnTo>
                    <a:pt x="128" y="372"/>
                  </a:lnTo>
                  <a:lnTo>
                    <a:pt x="149" y="381"/>
                  </a:lnTo>
                  <a:lnTo>
                    <a:pt x="172" y="389"/>
                  </a:lnTo>
                  <a:lnTo>
                    <a:pt x="195" y="395"/>
                  </a:lnTo>
                  <a:lnTo>
                    <a:pt x="219" y="399"/>
                  </a:lnTo>
                  <a:lnTo>
                    <a:pt x="244" y="401"/>
                  </a:lnTo>
                  <a:lnTo>
                    <a:pt x="249" y="401"/>
                  </a:lnTo>
                  <a:lnTo>
                    <a:pt x="254" y="401"/>
                  </a:lnTo>
                  <a:lnTo>
                    <a:pt x="259" y="401"/>
                  </a:lnTo>
                  <a:lnTo>
                    <a:pt x="264" y="401"/>
                  </a:lnTo>
                  <a:lnTo>
                    <a:pt x="288" y="400"/>
                  </a:lnTo>
                  <a:lnTo>
                    <a:pt x="312" y="396"/>
                  </a:lnTo>
                  <a:lnTo>
                    <a:pt x="334" y="391"/>
                  </a:lnTo>
                  <a:lnTo>
                    <a:pt x="356" y="384"/>
                  </a:lnTo>
                  <a:lnTo>
                    <a:pt x="378" y="374"/>
                  </a:lnTo>
                  <a:lnTo>
                    <a:pt x="398" y="364"/>
                  </a:lnTo>
                  <a:lnTo>
                    <a:pt x="416" y="353"/>
                  </a:lnTo>
                  <a:lnTo>
                    <a:pt x="433" y="340"/>
                  </a:lnTo>
                  <a:lnTo>
                    <a:pt x="448" y="325"/>
                  </a:lnTo>
                  <a:lnTo>
                    <a:pt x="463" y="310"/>
                  </a:lnTo>
                  <a:lnTo>
                    <a:pt x="475" y="293"/>
                  </a:lnTo>
                  <a:lnTo>
                    <a:pt x="486" y="275"/>
                  </a:lnTo>
                  <a:lnTo>
                    <a:pt x="496" y="257"/>
                  </a:lnTo>
                  <a:lnTo>
                    <a:pt x="503" y="237"/>
                  </a:lnTo>
                  <a:lnTo>
                    <a:pt x="507" y="218"/>
                  </a:lnTo>
                  <a:lnTo>
                    <a:pt x="509" y="197"/>
                  </a:lnTo>
                  <a:lnTo>
                    <a:pt x="511" y="191"/>
                  </a:lnTo>
                  <a:lnTo>
                    <a:pt x="511" y="184"/>
                  </a:lnTo>
                  <a:lnTo>
                    <a:pt x="511" y="178"/>
                  </a:lnTo>
                  <a:lnTo>
                    <a:pt x="509" y="173"/>
                  </a:lnTo>
                  <a:lnTo>
                    <a:pt x="508" y="159"/>
                  </a:lnTo>
                  <a:lnTo>
                    <a:pt x="506" y="146"/>
                  </a:lnTo>
                  <a:lnTo>
                    <a:pt x="504" y="132"/>
                  </a:lnTo>
                  <a:lnTo>
                    <a:pt x="499" y="120"/>
                  </a:lnTo>
                  <a:lnTo>
                    <a:pt x="494" y="108"/>
                  </a:lnTo>
                  <a:lnTo>
                    <a:pt x="489" y="96"/>
                  </a:lnTo>
                  <a:lnTo>
                    <a:pt x="482" y="84"/>
                  </a:lnTo>
                  <a:lnTo>
                    <a:pt x="475" y="72"/>
                  </a:lnTo>
                  <a:lnTo>
                    <a:pt x="470" y="70"/>
                  </a:lnTo>
                  <a:lnTo>
                    <a:pt x="467" y="68"/>
                  </a:lnTo>
                  <a:lnTo>
                    <a:pt x="462" y="66"/>
                  </a:lnTo>
                  <a:lnTo>
                    <a:pt x="458" y="63"/>
                  </a:lnTo>
                  <a:lnTo>
                    <a:pt x="466" y="75"/>
                  </a:lnTo>
                  <a:lnTo>
                    <a:pt x="474" y="86"/>
                  </a:lnTo>
                  <a:lnTo>
                    <a:pt x="479" y="99"/>
                  </a:lnTo>
                  <a:lnTo>
                    <a:pt x="485" y="112"/>
                  </a:lnTo>
                  <a:lnTo>
                    <a:pt x="490" y="124"/>
                  </a:lnTo>
                  <a:lnTo>
                    <a:pt x="493" y="138"/>
                  </a:lnTo>
                  <a:lnTo>
                    <a:pt x="496" y="152"/>
                  </a:lnTo>
                  <a:lnTo>
                    <a:pt x="497" y="166"/>
                  </a:lnTo>
                  <a:lnTo>
                    <a:pt x="498" y="172"/>
                  </a:lnTo>
                  <a:lnTo>
                    <a:pt x="498" y="176"/>
                  </a:lnTo>
                  <a:lnTo>
                    <a:pt x="498" y="182"/>
                  </a:lnTo>
                  <a:lnTo>
                    <a:pt x="497" y="188"/>
                  </a:lnTo>
                  <a:lnTo>
                    <a:pt x="494" y="207"/>
                  </a:lnTo>
                  <a:lnTo>
                    <a:pt x="490" y="226"/>
                  </a:lnTo>
                  <a:lnTo>
                    <a:pt x="484" y="243"/>
                  </a:lnTo>
                  <a:lnTo>
                    <a:pt x="476" y="260"/>
                  </a:lnTo>
                  <a:lnTo>
                    <a:pt x="466" y="278"/>
                  </a:lnTo>
                  <a:lnTo>
                    <a:pt x="454" y="293"/>
                  </a:lnTo>
                  <a:lnTo>
                    <a:pt x="441" y="308"/>
                  </a:lnTo>
                  <a:lnTo>
                    <a:pt x="426" y="320"/>
                  </a:lnTo>
                  <a:lnTo>
                    <a:pt x="410" y="333"/>
                  </a:lnTo>
                  <a:lnTo>
                    <a:pt x="393" y="343"/>
                  </a:lnTo>
                  <a:lnTo>
                    <a:pt x="375" y="354"/>
                  </a:lnTo>
                  <a:lnTo>
                    <a:pt x="356" y="362"/>
                  </a:lnTo>
                  <a:lnTo>
                    <a:pt x="335" y="367"/>
                  </a:lnTo>
                  <a:lnTo>
                    <a:pt x="315" y="373"/>
                  </a:lnTo>
                  <a:lnTo>
                    <a:pt x="293" y="377"/>
                  </a:lnTo>
                  <a:lnTo>
                    <a:pt x="270" y="378"/>
                  </a:lnTo>
                  <a:lnTo>
                    <a:pt x="265" y="378"/>
                  </a:lnTo>
                  <a:lnTo>
                    <a:pt x="261" y="378"/>
                  </a:lnTo>
                  <a:lnTo>
                    <a:pt x="256" y="378"/>
                  </a:lnTo>
                  <a:lnTo>
                    <a:pt x="251" y="378"/>
                  </a:lnTo>
                  <a:lnTo>
                    <a:pt x="228" y="376"/>
                  </a:lnTo>
                  <a:lnTo>
                    <a:pt x="205" y="372"/>
                  </a:lnTo>
                  <a:lnTo>
                    <a:pt x="183" y="366"/>
                  </a:lnTo>
                  <a:lnTo>
                    <a:pt x="163" y="359"/>
                  </a:lnTo>
                  <a:lnTo>
                    <a:pt x="143" y="351"/>
                  </a:lnTo>
                  <a:lnTo>
                    <a:pt x="125" y="341"/>
                  </a:lnTo>
                  <a:lnTo>
                    <a:pt x="107" y="328"/>
                  </a:lnTo>
                  <a:lnTo>
                    <a:pt x="91" y="316"/>
                  </a:lnTo>
                  <a:lnTo>
                    <a:pt x="76" y="302"/>
                  </a:lnTo>
                  <a:lnTo>
                    <a:pt x="64" y="286"/>
                  </a:lnTo>
                  <a:lnTo>
                    <a:pt x="52" y="270"/>
                  </a:lnTo>
                  <a:lnTo>
                    <a:pt x="42" y="252"/>
                  </a:lnTo>
                  <a:lnTo>
                    <a:pt x="35" y="234"/>
                  </a:lnTo>
                  <a:lnTo>
                    <a:pt x="29" y="215"/>
                  </a:lnTo>
                  <a:lnTo>
                    <a:pt x="26" y="196"/>
                  </a:lnTo>
                  <a:lnTo>
                    <a:pt x="24" y="175"/>
                  </a:lnTo>
                  <a:lnTo>
                    <a:pt x="27" y="147"/>
                  </a:lnTo>
                  <a:lnTo>
                    <a:pt x="32" y="122"/>
                  </a:lnTo>
                  <a:lnTo>
                    <a:pt x="43" y="97"/>
                  </a:lnTo>
                  <a:lnTo>
                    <a:pt x="57" y="74"/>
                  </a:lnTo>
                  <a:lnTo>
                    <a:pt x="73" y="53"/>
                  </a:lnTo>
                  <a:lnTo>
                    <a:pt x="92" y="33"/>
                  </a:lnTo>
                  <a:lnTo>
                    <a:pt x="114" y="16"/>
                  </a:lnTo>
                  <a:lnTo>
                    <a:pt x="140" y="2"/>
                  </a:lnTo>
                  <a:lnTo>
                    <a:pt x="134" y="1"/>
                  </a:lnTo>
                  <a:lnTo>
                    <a:pt x="128" y="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90" y="16"/>
                  </a:lnTo>
                  <a:lnTo>
                    <a:pt x="68" y="33"/>
                  </a:lnTo>
                  <a:lnTo>
                    <a:pt x="49" y="54"/>
                  </a:lnTo>
                  <a:lnTo>
                    <a:pt x="32" y="77"/>
                  </a:lnTo>
                  <a:lnTo>
                    <a:pt x="19" y="101"/>
                  </a:lnTo>
                  <a:lnTo>
                    <a:pt x="8" y="127"/>
                  </a:lnTo>
                  <a:lnTo>
                    <a:pt x="3" y="15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aa7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H="1">
              <a:off x="7008120" y="2898720"/>
              <a:ext cx="468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7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 flipH="1">
              <a:off x="6773040" y="2919600"/>
              <a:ext cx="376200" cy="298440"/>
            </a:xfrm>
            <a:custGeom>
              <a:avLst/>
              <a:gdLst/>
              <a:ahLst/>
              <a:rect l="l" t="t" r="r" b="b"/>
              <a:pathLst>
                <a:path w="474" h="376">
                  <a:moveTo>
                    <a:pt x="0" y="173"/>
                  </a:moveTo>
                  <a:lnTo>
                    <a:pt x="2" y="194"/>
                  </a:lnTo>
                  <a:lnTo>
                    <a:pt x="5" y="213"/>
                  </a:lnTo>
                  <a:lnTo>
                    <a:pt x="11" y="232"/>
                  </a:lnTo>
                  <a:lnTo>
                    <a:pt x="18" y="250"/>
                  </a:lnTo>
                  <a:lnTo>
                    <a:pt x="28" y="268"/>
                  </a:lnTo>
                  <a:lnTo>
                    <a:pt x="40" y="284"/>
                  </a:lnTo>
                  <a:lnTo>
                    <a:pt x="52" y="300"/>
                  </a:lnTo>
                  <a:lnTo>
                    <a:pt x="67" y="314"/>
                  </a:lnTo>
                  <a:lnTo>
                    <a:pt x="83" y="326"/>
                  </a:lnTo>
                  <a:lnTo>
                    <a:pt x="101" y="339"/>
                  </a:lnTo>
                  <a:lnTo>
                    <a:pt x="119" y="349"/>
                  </a:lnTo>
                  <a:lnTo>
                    <a:pt x="139" y="357"/>
                  </a:lnTo>
                  <a:lnTo>
                    <a:pt x="159" y="364"/>
                  </a:lnTo>
                  <a:lnTo>
                    <a:pt x="181" y="370"/>
                  </a:lnTo>
                  <a:lnTo>
                    <a:pt x="204" y="374"/>
                  </a:lnTo>
                  <a:lnTo>
                    <a:pt x="227" y="376"/>
                  </a:lnTo>
                  <a:lnTo>
                    <a:pt x="232" y="376"/>
                  </a:lnTo>
                  <a:lnTo>
                    <a:pt x="237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69" y="375"/>
                  </a:lnTo>
                  <a:lnTo>
                    <a:pt x="291" y="371"/>
                  </a:lnTo>
                  <a:lnTo>
                    <a:pt x="311" y="365"/>
                  </a:lnTo>
                  <a:lnTo>
                    <a:pt x="332" y="360"/>
                  </a:lnTo>
                  <a:lnTo>
                    <a:pt x="351" y="352"/>
                  </a:lnTo>
                  <a:lnTo>
                    <a:pt x="369" y="341"/>
                  </a:lnTo>
                  <a:lnTo>
                    <a:pt x="386" y="331"/>
                  </a:lnTo>
                  <a:lnTo>
                    <a:pt x="402" y="318"/>
                  </a:lnTo>
                  <a:lnTo>
                    <a:pt x="417" y="306"/>
                  </a:lnTo>
                  <a:lnTo>
                    <a:pt x="430" y="291"/>
                  </a:lnTo>
                  <a:lnTo>
                    <a:pt x="442" y="276"/>
                  </a:lnTo>
                  <a:lnTo>
                    <a:pt x="452" y="258"/>
                  </a:lnTo>
                  <a:lnTo>
                    <a:pt x="460" y="241"/>
                  </a:lnTo>
                  <a:lnTo>
                    <a:pt x="466" y="224"/>
                  </a:lnTo>
                  <a:lnTo>
                    <a:pt x="470" y="205"/>
                  </a:lnTo>
                  <a:lnTo>
                    <a:pt x="473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3" y="164"/>
                  </a:lnTo>
                  <a:lnTo>
                    <a:pt x="472" y="150"/>
                  </a:lnTo>
                  <a:lnTo>
                    <a:pt x="469" y="136"/>
                  </a:lnTo>
                  <a:lnTo>
                    <a:pt x="466" y="122"/>
                  </a:lnTo>
                  <a:lnTo>
                    <a:pt x="461" y="110"/>
                  </a:lnTo>
                  <a:lnTo>
                    <a:pt x="455" y="97"/>
                  </a:lnTo>
                  <a:lnTo>
                    <a:pt x="450" y="84"/>
                  </a:lnTo>
                  <a:lnTo>
                    <a:pt x="442" y="73"/>
                  </a:lnTo>
                  <a:lnTo>
                    <a:pt x="434" y="61"/>
                  </a:lnTo>
                  <a:lnTo>
                    <a:pt x="429" y="59"/>
                  </a:lnTo>
                  <a:lnTo>
                    <a:pt x="424" y="56"/>
                  </a:lnTo>
                  <a:lnTo>
                    <a:pt x="419" y="53"/>
                  </a:lnTo>
                  <a:lnTo>
                    <a:pt x="414" y="51"/>
                  </a:lnTo>
                  <a:lnTo>
                    <a:pt x="423" y="62"/>
                  </a:lnTo>
                  <a:lnTo>
                    <a:pt x="432" y="74"/>
                  </a:lnTo>
                  <a:lnTo>
                    <a:pt x="439" y="87"/>
                  </a:lnTo>
                  <a:lnTo>
                    <a:pt x="446" y="99"/>
                  </a:lnTo>
                  <a:lnTo>
                    <a:pt x="452" y="113"/>
                  </a:lnTo>
                  <a:lnTo>
                    <a:pt x="455" y="127"/>
                  </a:lnTo>
                  <a:lnTo>
                    <a:pt x="459" y="141"/>
                  </a:lnTo>
                  <a:lnTo>
                    <a:pt x="460" y="156"/>
                  </a:lnTo>
                  <a:lnTo>
                    <a:pt x="461" y="160"/>
                  </a:lnTo>
                  <a:lnTo>
                    <a:pt x="461" y="166"/>
                  </a:lnTo>
                  <a:lnTo>
                    <a:pt x="461" y="171"/>
                  </a:lnTo>
                  <a:lnTo>
                    <a:pt x="460" y="175"/>
                  </a:lnTo>
                  <a:lnTo>
                    <a:pt x="458" y="194"/>
                  </a:lnTo>
                  <a:lnTo>
                    <a:pt x="454" y="211"/>
                  </a:lnTo>
                  <a:lnTo>
                    <a:pt x="449" y="227"/>
                  </a:lnTo>
                  <a:lnTo>
                    <a:pt x="441" y="243"/>
                  </a:lnTo>
                  <a:lnTo>
                    <a:pt x="432" y="258"/>
                  </a:lnTo>
                  <a:lnTo>
                    <a:pt x="421" y="273"/>
                  </a:lnTo>
                  <a:lnTo>
                    <a:pt x="409" y="287"/>
                  </a:lnTo>
                  <a:lnTo>
                    <a:pt x="396" y="299"/>
                  </a:lnTo>
                  <a:lnTo>
                    <a:pt x="382" y="310"/>
                  </a:lnTo>
                  <a:lnTo>
                    <a:pt x="366" y="321"/>
                  </a:lnTo>
                  <a:lnTo>
                    <a:pt x="348" y="330"/>
                  </a:lnTo>
                  <a:lnTo>
                    <a:pt x="331" y="337"/>
                  </a:lnTo>
                  <a:lnTo>
                    <a:pt x="313" y="344"/>
                  </a:lnTo>
                  <a:lnTo>
                    <a:pt x="293" y="348"/>
                  </a:lnTo>
                  <a:lnTo>
                    <a:pt x="272" y="352"/>
                  </a:lnTo>
                  <a:lnTo>
                    <a:pt x="252" y="353"/>
                  </a:lnTo>
                  <a:lnTo>
                    <a:pt x="247" y="353"/>
                  </a:lnTo>
                  <a:lnTo>
                    <a:pt x="243" y="353"/>
                  </a:lnTo>
                  <a:lnTo>
                    <a:pt x="239" y="353"/>
                  </a:lnTo>
                  <a:lnTo>
                    <a:pt x="234" y="353"/>
                  </a:lnTo>
                  <a:lnTo>
                    <a:pt x="212" y="352"/>
                  </a:lnTo>
                  <a:lnTo>
                    <a:pt x="192" y="348"/>
                  </a:lnTo>
                  <a:lnTo>
                    <a:pt x="172" y="342"/>
                  </a:lnTo>
                  <a:lnTo>
                    <a:pt x="152" y="337"/>
                  </a:lnTo>
                  <a:lnTo>
                    <a:pt x="134" y="329"/>
                  </a:lnTo>
                  <a:lnTo>
                    <a:pt x="117" y="318"/>
                  </a:lnTo>
                  <a:lnTo>
                    <a:pt x="101" y="308"/>
                  </a:lnTo>
                  <a:lnTo>
                    <a:pt x="86" y="295"/>
                  </a:lnTo>
                  <a:lnTo>
                    <a:pt x="72" y="283"/>
                  </a:lnTo>
                  <a:lnTo>
                    <a:pt x="60" y="269"/>
                  </a:lnTo>
                  <a:lnTo>
                    <a:pt x="50" y="254"/>
                  </a:lnTo>
                  <a:lnTo>
                    <a:pt x="41" y="238"/>
                  </a:lnTo>
                  <a:lnTo>
                    <a:pt x="34" y="220"/>
                  </a:lnTo>
                  <a:lnTo>
                    <a:pt x="29" y="203"/>
                  </a:lnTo>
                  <a:lnTo>
                    <a:pt x="26" y="185"/>
                  </a:lnTo>
                  <a:lnTo>
                    <a:pt x="25" y="166"/>
                  </a:lnTo>
                  <a:lnTo>
                    <a:pt x="27" y="140"/>
                  </a:lnTo>
                  <a:lnTo>
                    <a:pt x="33" y="114"/>
                  </a:lnTo>
                  <a:lnTo>
                    <a:pt x="43" y="91"/>
                  </a:lnTo>
                  <a:lnTo>
                    <a:pt x="57" y="69"/>
                  </a:lnTo>
                  <a:lnTo>
                    <a:pt x="73" y="49"/>
                  </a:lnTo>
                  <a:lnTo>
                    <a:pt x="93" y="30"/>
                  </a:lnTo>
                  <a:lnTo>
                    <a:pt x="116" y="15"/>
                  </a:lnTo>
                  <a:lnTo>
                    <a:pt x="140" y="1"/>
                  </a:lnTo>
                  <a:lnTo>
                    <a:pt x="134" y="1"/>
                  </a:lnTo>
                  <a:lnTo>
                    <a:pt x="128" y="1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90" y="14"/>
                  </a:lnTo>
                  <a:lnTo>
                    <a:pt x="68" y="31"/>
                  </a:lnTo>
                  <a:lnTo>
                    <a:pt x="49" y="51"/>
                  </a:lnTo>
                  <a:lnTo>
                    <a:pt x="33" y="72"/>
                  </a:lnTo>
                  <a:lnTo>
                    <a:pt x="19" y="95"/>
                  </a:lnTo>
                  <a:lnTo>
                    <a:pt x="8" y="120"/>
                  </a:lnTo>
                  <a:lnTo>
                    <a:pt x="3" y="14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a8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H="1">
              <a:off x="6994080" y="2901960"/>
              <a:ext cx="15840" cy="64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1" y="2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a8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 flipH="1">
              <a:off x="6977880" y="2905200"/>
              <a:ext cx="25560" cy="111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11" y="0"/>
                  </a:move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10" y="11"/>
                  </a:lnTo>
                  <a:lnTo>
                    <a:pt x="17" y="9"/>
                  </a:lnTo>
                  <a:lnTo>
                    <a:pt x="24" y="8"/>
                  </a:lnTo>
                  <a:lnTo>
                    <a:pt x="32" y="7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57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H="1">
              <a:off x="6782760" y="2916360"/>
              <a:ext cx="347400" cy="282600"/>
            </a:xfrm>
            <a:custGeom>
              <a:avLst/>
              <a:gdLst/>
              <a:ahLst/>
              <a:rect l="l" t="t" r="r" b="b"/>
              <a:pathLst>
                <a:path w="436" h="356">
                  <a:moveTo>
                    <a:pt x="0" y="169"/>
                  </a:moveTo>
                  <a:lnTo>
                    <a:pt x="1" y="188"/>
                  </a:lnTo>
                  <a:lnTo>
                    <a:pt x="4" y="206"/>
                  </a:lnTo>
                  <a:lnTo>
                    <a:pt x="9" y="223"/>
                  </a:lnTo>
                  <a:lnTo>
                    <a:pt x="16" y="241"/>
                  </a:lnTo>
                  <a:lnTo>
                    <a:pt x="25" y="257"/>
                  </a:lnTo>
                  <a:lnTo>
                    <a:pt x="35" y="272"/>
                  </a:lnTo>
                  <a:lnTo>
                    <a:pt x="47" y="286"/>
                  </a:lnTo>
                  <a:lnTo>
                    <a:pt x="61" y="298"/>
                  </a:lnTo>
                  <a:lnTo>
                    <a:pt x="76" y="311"/>
                  </a:lnTo>
                  <a:lnTo>
                    <a:pt x="92" y="321"/>
                  </a:lnTo>
                  <a:lnTo>
                    <a:pt x="109" y="332"/>
                  </a:lnTo>
                  <a:lnTo>
                    <a:pt x="127" y="340"/>
                  </a:lnTo>
                  <a:lnTo>
                    <a:pt x="147" y="345"/>
                  </a:lnTo>
                  <a:lnTo>
                    <a:pt x="167" y="351"/>
                  </a:lnTo>
                  <a:lnTo>
                    <a:pt x="187" y="355"/>
                  </a:lnTo>
                  <a:lnTo>
                    <a:pt x="209" y="356"/>
                  </a:lnTo>
                  <a:lnTo>
                    <a:pt x="214" y="356"/>
                  </a:lnTo>
                  <a:lnTo>
                    <a:pt x="218" y="356"/>
                  </a:lnTo>
                  <a:lnTo>
                    <a:pt x="222" y="356"/>
                  </a:lnTo>
                  <a:lnTo>
                    <a:pt x="227" y="356"/>
                  </a:lnTo>
                  <a:lnTo>
                    <a:pt x="247" y="355"/>
                  </a:lnTo>
                  <a:lnTo>
                    <a:pt x="268" y="351"/>
                  </a:lnTo>
                  <a:lnTo>
                    <a:pt x="288" y="347"/>
                  </a:lnTo>
                  <a:lnTo>
                    <a:pt x="306" y="340"/>
                  </a:lnTo>
                  <a:lnTo>
                    <a:pt x="323" y="333"/>
                  </a:lnTo>
                  <a:lnTo>
                    <a:pt x="341" y="324"/>
                  </a:lnTo>
                  <a:lnTo>
                    <a:pt x="357" y="313"/>
                  </a:lnTo>
                  <a:lnTo>
                    <a:pt x="371" y="302"/>
                  </a:lnTo>
                  <a:lnTo>
                    <a:pt x="384" y="290"/>
                  </a:lnTo>
                  <a:lnTo>
                    <a:pt x="396" y="276"/>
                  </a:lnTo>
                  <a:lnTo>
                    <a:pt x="407" y="261"/>
                  </a:lnTo>
                  <a:lnTo>
                    <a:pt x="416" y="246"/>
                  </a:lnTo>
                  <a:lnTo>
                    <a:pt x="424" y="230"/>
                  </a:lnTo>
                  <a:lnTo>
                    <a:pt x="429" y="214"/>
                  </a:lnTo>
                  <a:lnTo>
                    <a:pt x="433" y="197"/>
                  </a:lnTo>
                  <a:lnTo>
                    <a:pt x="435" y="178"/>
                  </a:lnTo>
                  <a:lnTo>
                    <a:pt x="436" y="174"/>
                  </a:lnTo>
                  <a:lnTo>
                    <a:pt x="436" y="169"/>
                  </a:lnTo>
                  <a:lnTo>
                    <a:pt x="436" y="163"/>
                  </a:lnTo>
                  <a:lnTo>
                    <a:pt x="435" y="159"/>
                  </a:lnTo>
                  <a:lnTo>
                    <a:pt x="434" y="144"/>
                  </a:lnTo>
                  <a:lnTo>
                    <a:pt x="430" y="130"/>
                  </a:lnTo>
                  <a:lnTo>
                    <a:pt x="427" y="116"/>
                  </a:lnTo>
                  <a:lnTo>
                    <a:pt x="421" y="102"/>
                  </a:lnTo>
                  <a:lnTo>
                    <a:pt x="414" y="90"/>
                  </a:lnTo>
                  <a:lnTo>
                    <a:pt x="407" y="77"/>
                  </a:lnTo>
                  <a:lnTo>
                    <a:pt x="398" y="65"/>
                  </a:lnTo>
                  <a:lnTo>
                    <a:pt x="389" y="54"/>
                  </a:lnTo>
                  <a:lnTo>
                    <a:pt x="383" y="52"/>
                  </a:lnTo>
                  <a:lnTo>
                    <a:pt x="379" y="48"/>
                  </a:lnTo>
                  <a:lnTo>
                    <a:pt x="373" y="45"/>
                  </a:lnTo>
                  <a:lnTo>
                    <a:pt x="368" y="42"/>
                  </a:lnTo>
                  <a:lnTo>
                    <a:pt x="367" y="42"/>
                  </a:lnTo>
                  <a:lnTo>
                    <a:pt x="365" y="41"/>
                  </a:lnTo>
                  <a:lnTo>
                    <a:pt x="376" y="53"/>
                  </a:lnTo>
                  <a:lnTo>
                    <a:pt x="388" y="64"/>
                  </a:lnTo>
                  <a:lnTo>
                    <a:pt x="397" y="77"/>
                  </a:lnTo>
                  <a:lnTo>
                    <a:pt x="405" y="91"/>
                  </a:lnTo>
                  <a:lnTo>
                    <a:pt x="412" y="106"/>
                  </a:lnTo>
                  <a:lnTo>
                    <a:pt x="417" y="120"/>
                  </a:lnTo>
                  <a:lnTo>
                    <a:pt x="420" y="136"/>
                  </a:lnTo>
                  <a:lnTo>
                    <a:pt x="422" y="152"/>
                  </a:lnTo>
                  <a:lnTo>
                    <a:pt x="422" y="156"/>
                  </a:lnTo>
                  <a:lnTo>
                    <a:pt x="422" y="160"/>
                  </a:lnTo>
                  <a:lnTo>
                    <a:pt x="422" y="165"/>
                  </a:lnTo>
                  <a:lnTo>
                    <a:pt x="422" y="169"/>
                  </a:lnTo>
                  <a:lnTo>
                    <a:pt x="420" y="185"/>
                  </a:lnTo>
                  <a:lnTo>
                    <a:pt x="417" y="201"/>
                  </a:lnTo>
                  <a:lnTo>
                    <a:pt x="412" y="216"/>
                  </a:lnTo>
                  <a:lnTo>
                    <a:pt x="405" y="231"/>
                  </a:lnTo>
                  <a:lnTo>
                    <a:pt x="397" y="245"/>
                  </a:lnTo>
                  <a:lnTo>
                    <a:pt x="388" y="259"/>
                  </a:lnTo>
                  <a:lnTo>
                    <a:pt x="376" y="272"/>
                  </a:lnTo>
                  <a:lnTo>
                    <a:pt x="364" y="283"/>
                  </a:lnTo>
                  <a:lnTo>
                    <a:pt x="351" y="294"/>
                  </a:lnTo>
                  <a:lnTo>
                    <a:pt x="336" y="303"/>
                  </a:lnTo>
                  <a:lnTo>
                    <a:pt x="321" y="311"/>
                  </a:lnTo>
                  <a:lnTo>
                    <a:pt x="305" y="318"/>
                  </a:lnTo>
                  <a:lnTo>
                    <a:pt x="288" y="324"/>
                  </a:lnTo>
                  <a:lnTo>
                    <a:pt x="269" y="328"/>
                  </a:lnTo>
                  <a:lnTo>
                    <a:pt x="251" y="332"/>
                  </a:lnTo>
                  <a:lnTo>
                    <a:pt x="232" y="333"/>
                  </a:lnTo>
                  <a:lnTo>
                    <a:pt x="229" y="333"/>
                  </a:lnTo>
                  <a:lnTo>
                    <a:pt x="224" y="333"/>
                  </a:lnTo>
                  <a:lnTo>
                    <a:pt x="221" y="333"/>
                  </a:lnTo>
                  <a:lnTo>
                    <a:pt x="216" y="333"/>
                  </a:lnTo>
                  <a:lnTo>
                    <a:pt x="197" y="332"/>
                  </a:lnTo>
                  <a:lnTo>
                    <a:pt x="177" y="328"/>
                  </a:lnTo>
                  <a:lnTo>
                    <a:pt x="159" y="324"/>
                  </a:lnTo>
                  <a:lnTo>
                    <a:pt x="141" y="318"/>
                  </a:lnTo>
                  <a:lnTo>
                    <a:pt x="124" y="311"/>
                  </a:lnTo>
                  <a:lnTo>
                    <a:pt x="108" y="302"/>
                  </a:lnTo>
                  <a:lnTo>
                    <a:pt x="93" y="292"/>
                  </a:lnTo>
                  <a:lnTo>
                    <a:pt x="80" y="281"/>
                  </a:lnTo>
                  <a:lnTo>
                    <a:pt x="68" y="269"/>
                  </a:lnTo>
                  <a:lnTo>
                    <a:pt x="56" y="256"/>
                  </a:lnTo>
                  <a:lnTo>
                    <a:pt x="47" y="242"/>
                  </a:lnTo>
                  <a:lnTo>
                    <a:pt x="39" y="227"/>
                  </a:lnTo>
                  <a:lnTo>
                    <a:pt x="32" y="212"/>
                  </a:lnTo>
                  <a:lnTo>
                    <a:pt x="27" y="196"/>
                  </a:lnTo>
                  <a:lnTo>
                    <a:pt x="25" y="178"/>
                  </a:lnTo>
                  <a:lnTo>
                    <a:pt x="24" y="161"/>
                  </a:lnTo>
                  <a:lnTo>
                    <a:pt x="26" y="136"/>
                  </a:lnTo>
                  <a:lnTo>
                    <a:pt x="33" y="112"/>
                  </a:lnTo>
                  <a:lnTo>
                    <a:pt x="42" y="88"/>
                  </a:lnTo>
                  <a:lnTo>
                    <a:pt x="57" y="68"/>
                  </a:lnTo>
                  <a:lnTo>
                    <a:pt x="73" y="48"/>
                  </a:lnTo>
                  <a:lnTo>
                    <a:pt x="94" y="31"/>
                  </a:lnTo>
                  <a:lnTo>
                    <a:pt x="116" y="17"/>
                  </a:lnTo>
                  <a:lnTo>
                    <a:pt x="141" y="5"/>
                  </a:lnTo>
                  <a:lnTo>
                    <a:pt x="140" y="4"/>
                  </a:lnTo>
                  <a:lnTo>
                    <a:pt x="139" y="4"/>
                  </a:lnTo>
                  <a:lnTo>
                    <a:pt x="138" y="3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0" y="2"/>
                  </a:lnTo>
                  <a:lnTo>
                    <a:pt x="125" y="3"/>
                  </a:lnTo>
                  <a:lnTo>
                    <a:pt x="119" y="4"/>
                  </a:lnTo>
                  <a:lnTo>
                    <a:pt x="115" y="4"/>
                  </a:lnTo>
                  <a:lnTo>
                    <a:pt x="91" y="18"/>
                  </a:lnTo>
                  <a:lnTo>
                    <a:pt x="68" y="33"/>
                  </a:lnTo>
                  <a:lnTo>
                    <a:pt x="48" y="52"/>
                  </a:lnTo>
                  <a:lnTo>
                    <a:pt x="32" y="72"/>
                  </a:lnTo>
                  <a:lnTo>
                    <a:pt x="18" y="94"/>
                  </a:lnTo>
                  <a:lnTo>
                    <a:pt x="8" y="117"/>
                  </a:lnTo>
                  <a:lnTo>
                    <a:pt x="2" y="143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a57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flipH="1">
              <a:off x="6794280" y="2911320"/>
              <a:ext cx="317520" cy="270000"/>
            </a:xfrm>
            <a:custGeom>
              <a:avLst/>
              <a:gdLst/>
              <a:ahLst/>
              <a:rect l="l" t="t" r="r" b="b"/>
              <a:pathLst>
                <a:path w="398" h="340">
                  <a:moveTo>
                    <a:pt x="0" y="168"/>
                  </a:moveTo>
                  <a:lnTo>
                    <a:pt x="1" y="185"/>
                  </a:lnTo>
                  <a:lnTo>
                    <a:pt x="3" y="203"/>
                  </a:lnTo>
                  <a:lnTo>
                    <a:pt x="8" y="219"/>
                  </a:lnTo>
                  <a:lnTo>
                    <a:pt x="15" y="234"/>
                  </a:lnTo>
                  <a:lnTo>
                    <a:pt x="23" y="249"/>
                  </a:lnTo>
                  <a:lnTo>
                    <a:pt x="32" y="263"/>
                  </a:lnTo>
                  <a:lnTo>
                    <a:pt x="44" y="276"/>
                  </a:lnTo>
                  <a:lnTo>
                    <a:pt x="56" y="288"/>
                  </a:lnTo>
                  <a:lnTo>
                    <a:pt x="69" y="299"/>
                  </a:lnTo>
                  <a:lnTo>
                    <a:pt x="84" y="309"/>
                  </a:lnTo>
                  <a:lnTo>
                    <a:pt x="100" y="318"/>
                  </a:lnTo>
                  <a:lnTo>
                    <a:pt x="117" y="325"/>
                  </a:lnTo>
                  <a:lnTo>
                    <a:pt x="135" y="331"/>
                  </a:lnTo>
                  <a:lnTo>
                    <a:pt x="153" y="335"/>
                  </a:lnTo>
                  <a:lnTo>
                    <a:pt x="173" y="339"/>
                  </a:lnTo>
                  <a:lnTo>
                    <a:pt x="192" y="340"/>
                  </a:lnTo>
                  <a:lnTo>
                    <a:pt x="197" y="340"/>
                  </a:lnTo>
                  <a:lnTo>
                    <a:pt x="200" y="340"/>
                  </a:lnTo>
                  <a:lnTo>
                    <a:pt x="205" y="340"/>
                  </a:lnTo>
                  <a:lnTo>
                    <a:pt x="208" y="340"/>
                  </a:lnTo>
                  <a:lnTo>
                    <a:pt x="227" y="339"/>
                  </a:lnTo>
                  <a:lnTo>
                    <a:pt x="245" y="335"/>
                  </a:lnTo>
                  <a:lnTo>
                    <a:pt x="264" y="331"/>
                  </a:lnTo>
                  <a:lnTo>
                    <a:pt x="281" y="325"/>
                  </a:lnTo>
                  <a:lnTo>
                    <a:pt x="297" y="318"/>
                  </a:lnTo>
                  <a:lnTo>
                    <a:pt x="312" y="310"/>
                  </a:lnTo>
                  <a:lnTo>
                    <a:pt x="327" y="301"/>
                  </a:lnTo>
                  <a:lnTo>
                    <a:pt x="340" y="290"/>
                  </a:lnTo>
                  <a:lnTo>
                    <a:pt x="352" y="279"/>
                  </a:lnTo>
                  <a:lnTo>
                    <a:pt x="364" y="266"/>
                  </a:lnTo>
                  <a:lnTo>
                    <a:pt x="373" y="252"/>
                  </a:lnTo>
                  <a:lnTo>
                    <a:pt x="381" y="238"/>
                  </a:lnTo>
                  <a:lnTo>
                    <a:pt x="388" y="223"/>
                  </a:lnTo>
                  <a:lnTo>
                    <a:pt x="393" y="208"/>
                  </a:lnTo>
                  <a:lnTo>
                    <a:pt x="396" y="192"/>
                  </a:lnTo>
                  <a:lnTo>
                    <a:pt x="398" y="176"/>
                  </a:lnTo>
                  <a:lnTo>
                    <a:pt x="398" y="172"/>
                  </a:lnTo>
                  <a:lnTo>
                    <a:pt x="398" y="167"/>
                  </a:lnTo>
                  <a:lnTo>
                    <a:pt x="398" y="163"/>
                  </a:lnTo>
                  <a:lnTo>
                    <a:pt x="398" y="159"/>
                  </a:lnTo>
                  <a:lnTo>
                    <a:pt x="396" y="143"/>
                  </a:lnTo>
                  <a:lnTo>
                    <a:pt x="393" y="127"/>
                  </a:lnTo>
                  <a:lnTo>
                    <a:pt x="388" y="113"/>
                  </a:lnTo>
                  <a:lnTo>
                    <a:pt x="381" y="98"/>
                  </a:lnTo>
                  <a:lnTo>
                    <a:pt x="373" y="84"/>
                  </a:lnTo>
                  <a:lnTo>
                    <a:pt x="364" y="71"/>
                  </a:lnTo>
                  <a:lnTo>
                    <a:pt x="352" y="60"/>
                  </a:lnTo>
                  <a:lnTo>
                    <a:pt x="341" y="48"/>
                  </a:lnTo>
                  <a:lnTo>
                    <a:pt x="337" y="46"/>
                  </a:lnTo>
                  <a:lnTo>
                    <a:pt x="329" y="41"/>
                  </a:lnTo>
                  <a:lnTo>
                    <a:pt x="322" y="38"/>
                  </a:lnTo>
                  <a:lnTo>
                    <a:pt x="315" y="33"/>
                  </a:lnTo>
                  <a:lnTo>
                    <a:pt x="307" y="30"/>
                  </a:lnTo>
                  <a:lnTo>
                    <a:pt x="303" y="27"/>
                  </a:lnTo>
                  <a:lnTo>
                    <a:pt x="298" y="25"/>
                  </a:lnTo>
                  <a:lnTo>
                    <a:pt x="294" y="22"/>
                  </a:lnTo>
                  <a:lnTo>
                    <a:pt x="290" y="19"/>
                  </a:lnTo>
                  <a:lnTo>
                    <a:pt x="286" y="17"/>
                  </a:lnTo>
                  <a:lnTo>
                    <a:pt x="281" y="16"/>
                  </a:lnTo>
                  <a:lnTo>
                    <a:pt x="276" y="14"/>
                  </a:lnTo>
                  <a:lnTo>
                    <a:pt x="272" y="12"/>
                  </a:lnTo>
                  <a:lnTo>
                    <a:pt x="271" y="12"/>
                  </a:lnTo>
                  <a:lnTo>
                    <a:pt x="271" y="12"/>
                  </a:lnTo>
                  <a:lnTo>
                    <a:pt x="271" y="12"/>
                  </a:lnTo>
                  <a:lnTo>
                    <a:pt x="271" y="12"/>
                  </a:lnTo>
                  <a:lnTo>
                    <a:pt x="271" y="14"/>
                  </a:lnTo>
                  <a:lnTo>
                    <a:pt x="271" y="14"/>
                  </a:lnTo>
                  <a:lnTo>
                    <a:pt x="271" y="15"/>
                  </a:lnTo>
                  <a:lnTo>
                    <a:pt x="269" y="16"/>
                  </a:lnTo>
                  <a:lnTo>
                    <a:pt x="292" y="25"/>
                  </a:lnTo>
                  <a:lnTo>
                    <a:pt x="314" y="37"/>
                  </a:lnTo>
                  <a:lnTo>
                    <a:pt x="334" y="52"/>
                  </a:lnTo>
                  <a:lnTo>
                    <a:pt x="350" y="68"/>
                  </a:lnTo>
                  <a:lnTo>
                    <a:pt x="364" y="86"/>
                  </a:lnTo>
                  <a:lnTo>
                    <a:pt x="374" y="106"/>
                  </a:lnTo>
                  <a:lnTo>
                    <a:pt x="382" y="128"/>
                  </a:lnTo>
                  <a:lnTo>
                    <a:pt x="386" y="151"/>
                  </a:lnTo>
                  <a:lnTo>
                    <a:pt x="386" y="155"/>
                  </a:lnTo>
                  <a:lnTo>
                    <a:pt x="386" y="159"/>
                  </a:lnTo>
                  <a:lnTo>
                    <a:pt x="386" y="162"/>
                  </a:lnTo>
                  <a:lnTo>
                    <a:pt x="386" y="167"/>
                  </a:lnTo>
                  <a:lnTo>
                    <a:pt x="381" y="197"/>
                  </a:lnTo>
                  <a:lnTo>
                    <a:pt x="371" y="223"/>
                  </a:lnTo>
                  <a:lnTo>
                    <a:pt x="355" y="249"/>
                  </a:lnTo>
                  <a:lnTo>
                    <a:pt x="334" y="271"/>
                  </a:lnTo>
                  <a:lnTo>
                    <a:pt x="309" y="289"/>
                  </a:lnTo>
                  <a:lnTo>
                    <a:pt x="280" y="303"/>
                  </a:lnTo>
                  <a:lnTo>
                    <a:pt x="249" y="312"/>
                  </a:lnTo>
                  <a:lnTo>
                    <a:pt x="214" y="317"/>
                  </a:lnTo>
                  <a:lnTo>
                    <a:pt x="211" y="317"/>
                  </a:lnTo>
                  <a:lnTo>
                    <a:pt x="207" y="317"/>
                  </a:lnTo>
                  <a:lnTo>
                    <a:pt x="204" y="317"/>
                  </a:lnTo>
                  <a:lnTo>
                    <a:pt x="200" y="317"/>
                  </a:lnTo>
                  <a:lnTo>
                    <a:pt x="165" y="313"/>
                  </a:lnTo>
                  <a:lnTo>
                    <a:pt x="131" y="303"/>
                  </a:lnTo>
                  <a:lnTo>
                    <a:pt x="101" y="289"/>
                  </a:lnTo>
                  <a:lnTo>
                    <a:pt x="76" y="269"/>
                  </a:lnTo>
                  <a:lnTo>
                    <a:pt x="54" y="246"/>
                  </a:lnTo>
                  <a:lnTo>
                    <a:pt x="38" y="221"/>
                  </a:lnTo>
                  <a:lnTo>
                    <a:pt x="27" y="192"/>
                  </a:lnTo>
                  <a:lnTo>
                    <a:pt x="24" y="161"/>
                  </a:lnTo>
                  <a:lnTo>
                    <a:pt x="27" y="131"/>
                  </a:lnTo>
                  <a:lnTo>
                    <a:pt x="37" y="104"/>
                  </a:lnTo>
                  <a:lnTo>
                    <a:pt x="52" y="78"/>
                  </a:lnTo>
                  <a:lnTo>
                    <a:pt x="71" y="56"/>
                  </a:lnTo>
                  <a:lnTo>
                    <a:pt x="95" y="38"/>
                  </a:lnTo>
                  <a:lnTo>
                    <a:pt x="123" y="23"/>
                  </a:lnTo>
                  <a:lnTo>
                    <a:pt x="154" y="12"/>
                  </a:lnTo>
                  <a:lnTo>
                    <a:pt x="188" y="7"/>
                  </a:lnTo>
                  <a:lnTo>
                    <a:pt x="185" y="6"/>
                  </a:lnTo>
                  <a:lnTo>
                    <a:pt x="183" y="4"/>
                  </a:lnTo>
                  <a:lnTo>
                    <a:pt x="181" y="4"/>
                  </a:lnTo>
                  <a:lnTo>
                    <a:pt x="178" y="3"/>
                  </a:lnTo>
                  <a:lnTo>
                    <a:pt x="176" y="2"/>
                  </a:lnTo>
                  <a:lnTo>
                    <a:pt x="174" y="1"/>
                  </a:lnTo>
                  <a:lnTo>
                    <a:pt x="170" y="1"/>
                  </a:lnTo>
                  <a:lnTo>
                    <a:pt x="168" y="0"/>
                  </a:lnTo>
                  <a:lnTo>
                    <a:pt x="160" y="1"/>
                  </a:lnTo>
                  <a:lnTo>
                    <a:pt x="153" y="2"/>
                  </a:lnTo>
                  <a:lnTo>
                    <a:pt x="146" y="4"/>
                  </a:lnTo>
                  <a:lnTo>
                    <a:pt x="139" y="6"/>
                  </a:lnTo>
                  <a:lnTo>
                    <a:pt x="135" y="8"/>
                  </a:lnTo>
                  <a:lnTo>
                    <a:pt x="131" y="11"/>
                  </a:lnTo>
                  <a:lnTo>
                    <a:pt x="129" y="14"/>
                  </a:lnTo>
                  <a:lnTo>
                    <a:pt x="127" y="16"/>
                  </a:lnTo>
                  <a:lnTo>
                    <a:pt x="124" y="16"/>
                  </a:lnTo>
                  <a:lnTo>
                    <a:pt x="122" y="15"/>
                  </a:lnTo>
                  <a:lnTo>
                    <a:pt x="120" y="14"/>
                  </a:lnTo>
                  <a:lnTo>
                    <a:pt x="117" y="12"/>
                  </a:lnTo>
                  <a:lnTo>
                    <a:pt x="92" y="24"/>
                  </a:lnTo>
                  <a:lnTo>
                    <a:pt x="70" y="38"/>
                  </a:lnTo>
                  <a:lnTo>
                    <a:pt x="49" y="55"/>
                  </a:lnTo>
                  <a:lnTo>
                    <a:pt x="33" y="75"/>
                  </a:lnTo>
                  <a:lnTo>
                    <a:pt x="18" y="95"/>
                  </a:lnTo>
                  <a:lnTo>
                    <a:pt x="9" y="119"/>
                  </a:lnTo>
                  <a:lnTo>
                    <a:pt x="2" y="143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a37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H="1">
              <a:off x="6804720" y="2916360"/>
              <a:ext cx="287640" cy="245880"/>
            </a:xfrm>
            <a:custGeom>
              <a:avLst/>
              <a:gdLst/>
              <a:ahLst/>
              <a:rect l="l" t="t" r="r" b="b"/>
              <a:pathLst>
                <a:path w="362" h="310">
                  <a:moveTo>
                    <a:pt x="0" y="154"/>
                  </a:moveTo>
                  <a:lnTo>
                    <a:pt x="3" y="185"/>
                  </a:lnTo>
                  <a:lnTo>
                    <a:pt x="14" y="214"/>
                  </a:lnTo>
                  <a:lnTo>
                    <a:pt x="30" y="239"/>
                  </a:lnTo>
                  <a:lnTo>
                    <a:pt x="52" y="262"/>
                  </a:lnTo>
                  <a:lnTo>
                    <a:pt x="77" y="282"/>
                  </a:lnTo>
                  <a:lnTo>
                    <a:pt x="107" y="296"/>
                  </a:lnTo>
                  <a:lnTo>
                    <a:pt x="141" y="306"/>
                  </a:lnTo>
                  <a:lnTo>
                    <a:pt x="176" y="310"/>
                  </a:lnTo>
                  <a:lnTo>
                    <a:pt x="180" y="310"/>
                  </a:lnTo>
                  <a:lnTo>
                    <a:pt x="183" y="310"/>
                  </a:lnTo>
                  <a:lnTo>
                    <a:pt x="187" y="310"/>
                  </a:lnTo>
                  <a:lnTo>
                    <a:pt x="190" y="310"/>
                  </a:lnTo>
                  <a:lnTo>
                    <a:pt x="225" y="305"/>
                  </a:lnTo>
                  <a:lnTo>
                    <a:pt x="256" y="296"/>
                  </a:lnTo>
                  <a:lnTo>
                    <a:pt x="285" y="282"/>
                  </a:lnTo>
                  <a:lnTo>
                    <a:pt x="310" y="264"/>
                  </a:lnTo>
                  <a:lnTo>
                    <a:pt x="331" y="242"/>
                  </a:lnTo>
                  <a:lnTo>
                    <a:pt x="347" y="216"/>
                  </a:lnTo>
                  <a:lnTo>
                    <a:pt x="357" y="190"/>
                  </a:lnTo>
                  <a:lnTo>
                    <a:pt x="362" y="160"/>
                  </a:lnTo>
                  <a:lnTo>
                    <a:pt x="362" y="155"/>
                  </a:lnTo>
                  <a:lnTo>
                    <a:pt x="362" y="152"/>
                  </a:lnTo>
                  <a:lnTo>
                    <a:pt x="362" y="148"/>
                  </a:lnTo>
                  <a:lnTo>
                    <a:pt x="362" y="144"/>
                  </a:lnTo>
                  <a:lnTo>
                    <a:pt x="358" y="121"/>
                  </a:lnTo>
                  <a:lnTo>
                    <a:pt x="350" y="99"/>
                  </a:lnTo>
                  <a:lnTo>
                    <a:pt x="340" y="79"/>
                  </a:lnTo>
                  <a:lnTo>
                    <a:pt x="326" y="61"/>
                  </a:lnTo>
                  <a:lnTo>
                    <a:pt x="310" y="45"/>
                  </a:lnTo>
                  <a:lnTo>
                    <a:pt x="290" y="30"/>
                  </a:lnTo>
                  <a:lnTo>
                    <a:pt x="268" y="18"/>
                  </a:lnTo>
                  <a:lnTo>
                    <a:pt x="245" y="9"/>
                  </a:lnTo>
                  <a:lnTo>
                    <a:pt x="245" y="10"/>
                  </a:lnTo>
                  <a:lnTo>
                    <a:pt x="245" y="10"/>
                  </a:lnTo>
                  <a:lnTo>
                    <a:pt x="245" y="11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3" y="16"/>
                  </a:lnTo>
                  <a:lnTo>
                    <a:pt x="244" y="12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64" y="24"/>
                  </a:lnTo>
                  <a:lnTo>
                    <a:pt x="283" y="34"/>
                  </a:lnTo>
                  <a:lnTo>
                    <a:pt x="301" y="47"/>
                  </a:lnTo>
                  <a:lnTo>
                    <a:pt x="317" y="62"/>
                  </a:lnTo>
                  <a:lnTo>
                    <a:pt x="329" y="78"/>
                  </a:lnTo>
                  <a:lnTo>
                    <a:pt x="339" y="97"/>
                  </a:lnTo>
                  <a:lnTo>
                    <a:pt x="346" y="115"/>
                  </a:lnTo>
                  <a:lnTo>
                    <a:pt x="349" y="136"/>
                  </a:lnTo>
                  <a:lnTo>
                    <a:pt x="349" y="140"/>
                  </a:lnTo>
                  <a:lnTo>
                    <a:pt x="349" y="144"/>
                  </a:lnTo>
                  <a:lnTo>
                    <a:pt x="349" y="147"/>
                  </a:lnTo>
                  <a:lnTo>
                    <a:pt x="349" y="151"/>
                  </a:lnTo>
                  <a:lnTo>
                    <a:pt x="346" y="177"/>
                  </a:lnTo>
                  <a:lnTo>
                    <a:pt x="336" y="201"/>
                  </a:lnTo>
                  <a:lnTo>
                    <a:pt x="321" y="224"/>
                  </a:lnTo>
                  <a:lnTo>
                    <a:pt x="303" y="244"/>
                  </a:lnTo>
                  <a:lnTo>
                    <a:pt x="281" y="261"/>
                  </a:lnTo>
                  <a:lnTo>
                    <a:pt x="255" y="274"/>
                  </a:lnTo>
                  <a:lnTo>
                    <a:pt x="227" y="282"/>
                  </a:lnTo>
                  <a:lnTo>
                    <a:pt x="196" y="287"/>
                  </a:lnTo>
                  <a:lnTo>
                    <a:pt x="194" y="287"/>
                  </a:lnTo>
                  <a:lnTo>
                    <a:pt x="190" y="287"/>
                  </a:lnTo>
                  <a:lnTo>
                    <a:pt x="187" y="287"/>
                  </a:lnTo>
                  <a:lnTo>
                    <a:pt x="183" y="287"/>
                  </a:lnTo>
                  <a:lnTo>
                    <a:pt x="151" y="283"/>
                  </a:lnTo>
                  <a:lnTo>
                    <a:pt x="121" y="275"/>
                  </a:lnTo>
                  <a:lnTo>
                    <a:pt x="93" y="262"/>
                  </a:lnTo>
                  <a:lnTo>
                    <a:pt x="70" y="245"/>
                  </a:lnTo>
                  <a:lnTo>
                    <a:pt x="51" y="224"/>
                  </a:lnTo>
                  <a:lnTo>
                    <a:pt x="36" y="201"/>
                  </a:lnTo>
                  <a:lnTo>
                    <a:pt x="26" y="175"/>
                  </a:lnTo>
                  <a:lnTo>
                    <a:pt x="23" y="147"/>
                  </a:lnTo>
                  <a:lnTo>
                    <a:pt x="26" y="120"/>
                  </a:lnTo>
                  <a:lnTo>
                    <a:pt x="36" y="93"/>
                  </a:lnTo>
                  <a:lnTo>
                    <a:pt x="51" y="70"/>
                  </a:lnTo>
                  <a:lnTo>
                    <a:pt x="70" y="49"/>
                  </a:lnTo>
                  <a:lnTo>
                    <a:pt x="93" y="32"/>
                  </a:lnTo>
                  <a:lnTo>
                    <a:pt x="120" y="19"/>
                  </a:lnTo>
                  <a:lnTo>
                    <a:pt x="150" y="10"/>
                  </a:lnTo>
                  <a:lnTo>
                    <a:pt x="182" y="7"/>
                  </a:lnTo>
                  <a:lnTo>
                    <a:pt x="177" y="4"/>
                  </a:lnTo>
                  <a:lnTo>
                    <a:pt x="173" y="3"/>
                  </a:lnTo>
                  <a:lnTo>
                    <a:pt x="168" y="1"/>
                  </a:lnTo>
                  <a:lnTo>
                    <a:pt x="164" y="0"/>
                  </a:lnTo>
                  <a:lnTo>
                    <a:pt x="130" y="5"/>
                  </a:lnTo>
                  <a:lnTo>
                    <a:pt x="99" y="16"/>
                  </a:lnTo>
                  <a:lnTo>
                    <a:pt x="71" y="31"/>
                  </a:lnTo>
                  <a:lnTo>
                    <a:pt x="47" y="49"/>
                  </a:lnTo>
                  <a:lnTo>
                    <a:pt x="28" y="71"/>
                  </a:lnTo>
                  <a:lnTo>
                    <a:pt x="13" y="97"/>
                  </a:lnTo>
                  <a:lnTo>
                    <a:pt x="3" y="12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06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flipH="1">
              <a:off x="6814440" y="2922480"/>
              <a:ext cx="258840" cy="222480"/>
            </a:xfrm>
            <a:custGeom>
              <a:avLst/>
              <a:gdLst/>
              <a:ahLst/>
              <a:rect l="l" t="t" r="r" b="b"/>
              <a:pathLst>
                <a:path w="326" h="280">
                  <a:moveTo>
                    <a:pt x="0" y="140"/>
                  </a:moveTo>
                  <a:lnTo>
                    <a:pt x="3" y="168"/>
                  </a:lnTo>
                  <a:lnTo>
                    <a:pt x="13" y="194"/>
                  </a:lnTo>
                  <a:lnTo>
                    <a:pt x="28" y="217"/>
                  </a:lnTo>
                  <a:lnTo>
                    <a:pt x="47" y="238"/>
                  </a:lnTo>
                  <a:lnTo>
                    <a:pt x="70" y="255"/>
                  </a:lnTo>
                  <a:lnTo>
                    <a:pt x="98" y="268"/>
                  </a:lnTo>
                  <a:lnTo>
                    <a:pt x="128" y="276"/>
                  </a:lnTo>
                  <a:lnTo>
                    <a:pt x="160" y="280"/>
                  </a:lnTo>
                  <a:lnTo>
                    <a:pt x="164" y="280"/>
                  </a:lnTo>
                  <a:lnTo>
                    <a:pt x="167" y="280"/>
                  </a:lnTo>
                  <a:lnTo>
                    <a:pt x="171" y="280"/>
                  </a:lnTo>
                  <a:lnTo>
                    <a:pt x="173" y="280"/>
                  </a:lnTo>
                  <a:lnTo>
                    <a:pt x="204" y="275"/>
                  </a:lnTo>
                  <a:lnTo>
                    <a:pt x="232" y="267"/>
                  </a:lnTo>
                  <a:lnTo>
                    <a:pt x="258" y="254"/>
                  </a:lnTo>
                  <a:lnTo>
                    <a:pt x="280" y="237"/>
                  </a:lnTo>
                  <a:lnTo>
                    <a:pt x="298" y="217"/>
                  </a:lnTo>
                  <a:lnTo>
                    <a:pt x="313" y="194"/>
                  </a:lnTo>
                  <a:lnTo>
                    <a:pt x="323" y="170"/>
                  </a:lnTo>
                  <a:lnTo>
                    <a:pt x="326" y="144"/>
                  </a:lnTo>
                  <a:lnTo>
                    <a:pt x="326" y="140"/>
                  </a:lnTo>
                  <a:lnTo>
                    <a:pt x="326" y="137"/>
                  </a:lnTo>
                  <a:lnTo>
                    <a:pt x="326" y="133"/>
                  </a:lnTo>
                  <a:lnTo>
                    <a:pt x="326" y="129"/>
                  </a:lnTo>
                  <a:lnTo>
                    <a:pt x="323" y="108"/>
                  </a:lnTo>
                  <a:lnTo>
                    <a:pt x="316" y="90"/>
                  </a:lnTo>
                  <a:lnTo>
                    <a:pt x="306" y="71"/>
                  </a:lnTo>
                  <a:lnTo>
                    <a:pt x="294" y="55"/>
                  </a:lnTo>
                  <a:lnTo>
                    <a:pt x="278" y="40"/>
                  </a:lnTo>
                  <a:lnTo>
                    <a:pt x="260" y="27"/>
                  </a:lnTo>
                  <a:lnTo>
                    <a:pt x="241" y="17"/>
                  </a:lnTo>
                  <a:lnTo>
                    <a:pt x="220" y="9"/>
                  </a:lnTo>
                  <a:lnTo>
                    <a:pt x="220" y="10"/>
                  </a:lnTo>
                  <a:lnTo>
                    <a:pt x="220" y="12"/>
                  </a:lnTo>
                  <a:lnTo>
                    <a:pt x="219" y="13"/>
                  </a:lnTo>
                  <a:lnTo>
                    <a:pt x="219" y="16"/>
                  </a:lnTo>
                  <a:lnTo>
                    <a:pt x="237" y="23"/>
                  </a:lnTo>
                  <a:lnTo>
                    <a:pt x="255" y="32"/>
                  </a:lnTo>
                  <a:lnTo>
                    <a:pt x="270" y="43"/>
                  </a:lnTo>
                  <a:lnTo>
                    <a:pt x="283" y="56"/>
                  </a:lnTo>
                  <a:lnTo>
                    <a:pt x="295" y="71"/>
                  </a:lnTo>
                  <a:lnTo>
                    <a:pt x="304" y="86"/>
                  </a:lnTo>
                  <a:lnTo>
                    <a:pt x="310" y="103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8"/>
                  </a:lnTo>
                  <a:lnTo>
                    <a:pt x="313" y="131"/>
                  </a:lnTo>
                  <a:lnTo>
                    <a:pt x="313" y="134"/>
                  </a:lnTo>
                  <a:lnTo>
                    <a:pt x="310" y="158"/>
                  </a:lnTo>
                  <a:lnTo>
                    <a:pt x="302" y="181"/>
                  </a:lnTo>
                  <a:lnTo>
                    <a:pt x="290" y="200"/>
                  </a:lnTo>
                  <a:lnTo>
                    <a:pt x="274" y="217"/>
                  </a:lnTo>
                  <a:lnTo>
                    <a:pt x="253" y="232"/>
                  </a:lnTo>
                  <a:lnTo>
                    <a:pt x="232" y="245"/>
                  </a:lnTo>
                  <a:lnTo>
                    <a:pt x="206" y="253"/>
                  </a:lnTo>
                  <a:lnTo>
                    <a:pt x="179" y="257"/>
                  </a:lnTo>
                  <a:lnTo>
                    <a:pt x="176" y="257"/>
                  </a:lnTo>
                  <a:lnTo>
                    <a:pt x="173" y="257"/>
                  </a:lnTo>
                  <a:lnTo>
                    <a:pt x="171" y="257"/>
                  </a:lnTo>
                  <a:lnTo>
                    <a:pt x="167" y="257"/>
                  </a:lnTo>
                  <a:lnTo>
                    <a:pt x="138" y="254"/>
                  </a:lnTo>
                  <a:lnTo>
                    <a:pt x="112" y="246"/>
                  </a:lnTo>
                  <a:lnTo>
                    <a:pt x="88" y="235"/>
                  </a:lnTo>
                  <a:lnTo>
                    <a:pt x="67" y="220"/>
                  </a:lnTo>
                  <a:lnTo>
                    <a:pt x="48" y="201"/>
                  </a:lnTo>
                  <a:lnTo>
                    <a:pt x="36" y="181"/>
                  </a:lnTo>
                  <a:lnTo>
                    <a:pt x="28" y="158"/>
                  </a:lnTo>
                  <a:lnTo>
                    <a:pt x="24" y="132"/>
                  </a:lnTo>
                  <a:lnTo>
                    <a:pt x="28" y="107"/>
                  </a:lnTo>
                  <a:lnTo>
                    <a:pt x="36" y="84"/>
                  </a:lnTo>
                  <a:lnTo>
                    <a:pt x="48" y="63"/>
                  </a:lnTo>
                  <a:lnTo>
                    <a:pt x="67" y="45"/>
                  </a:lnTo>
                  <a:lnTo>
                    <a:pt x="88" y="30"/>
                  </a:lnTo>
                  <a:lnTo>
                    <a:pt x="113" y="18"/>
                  </a:lnTo>
                  <a:lnTo>
                    <a:pt x="139" y="10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8"/>
                  </a:lnTo>
                  <a:lnTo>
                    <a:pt x="180" y="9"/>
                  </a:lnTo>
                  <a:lnTo>
                    <a:pt x="183" y="9"/>
                  </a:lnTo>
                  <a:lnTo>
                    <a:pt x="182" y="9"/>
                  </a:lnTo>
                  <a:lnTo>
                    <a:pt x="182" y="9"/>
                  </a:lnTo>
                  <a:lnTo>
                    <a:pt x="182" y="9"/>
                  </a:lnTo>
                  <a:lnTo>
                    <a:pt x="181" y="9"/>
                  </a:lnTo>
                  <a:lnTo>
                    <a:pt x="175" y="7"/>
                  </a:lnTo>
                  <a:lnTo>
                    <a:pt x="171" y="4"/>
                  </a:lnTo>
                  <a:lnTo>
                    <a:pt x="165" y="2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12"/>
                  </a:lnTo>
                  <a:lnTo>
                    <a:pt x="70" y="25"/>
                  </a:lnTo>
                  <a:lnTo>
                    <a:pt x="47" y="42"/>
                  </a:lnTo>
                  <a:lnTo>
                    <a:pt x="28" y="63"/>
                  </a:lnTo>
                  <a:lnTo>
                    <a:pt x="13" y="86"/>
                  </a:lnTo>
                  <a:lnTo>
                    <a:pt x="3" y="113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9e6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flipH="1">
              <a:off x="6824160" y="2928960"/>
              <a:ext cx="230400" cy="196920"/>
            </a:xfrm>
            <a:custGeom>
              <a:avLst/>
              <a:gdLst/>
              <a:ahLst/>
              <a:rect l="l" t="t" r="r" b="b"/>
              <a:pathLst>
                <a:path w="289" h="249">
                  <a:moveTo>
                    <a:pt x="0" y="124"/>
                  </a:moveTo>
                  <a:lnTo>
                    <a:pt x="4" y="150"/>
                  </a:lnTo>
                  <a:lnTo>
                    <a:pt x="12" y="173"/>
                  </a:lnTo>
                  <a:lnTo>
                    <a:pt x="24" y="193"/>
                  </a:lnTo>
                  <a:lnTo>
                    <a:pt x="43" y="212"/>
                  </a:lnTo>
                  <a:lnTo>
                    <a:pt x="64" y="227"/>
                  </a:lnTo>
                  <a:lnTo>
                    <a:pt x="88" y="238"/>
                  </a:lnTo>
                  <a:lnTo>
                    <a:pt x="114" y="246"/>
                  </a:lnTo>
                  <a:lnTo>
                    <a:pt x="143" y="249"/>
                  </a:lnTo>
                  <a:lnTo>
                    <a:pt x="147" y="249"/>
                  </a:lnTo>
                  <a:lnTo>
                    <a:pt x="149" y="249"/>
                  </a:lnTo>
                  <a:lnTo>
                    <a:pt x="152" y="249"/>
                  </a:lnTo>
                  <a:lnTo>
                    <a:pt x="155" y="249"/>
                  </a:lnTo>
                  <a:lnTo>
                    <a:pt x="182" y="245"/>
                  </a:lnTo>
                  <a:lnTo>
                    <a:pt x="208" y="237"/>
                  </a:lnTo>
                  <a:lnTo>
                    <a:pt x="229" y="224"/>
                  </a:lnTo>
                  <a:lnTo>
                    <a:pt x="250" y="209"/>
                  </a:lnTo>
                  <a:lnTo>
                    <a:pt x="266" y="192"/>
                  </a:lnTo>
                  <a:lnTo>
                    <a:pt x="278" y="173"/>
                  </a:lnTo>
                  <a:lnTo>
                    <a:pt x="286" y="150"/>
                  </a:lnTo>
                  <a:lnTo>
                    <a:pt x="289" y="126"/>
                  </a:lnTo>
                  <a:lnTo>
                    <a:pt x="289" y="123"/>
                  </a:lnTo>
                  <a:lnTo>
                    <a:pt x="289" y="120"/>
                  </a:lnTo>
                  <a:lnTo>
                    <a:pt x="289" y="116"/>
                  </a:lnTo>
                  <a:lnTo>
                    <a:pt x="289" y="114"/>
                  </a:lnTo>
                  <a:lnTo>
                    <a:pt x="286" y="95"/>
                  </a:lnTo>
                  <a:lnTo>
                    <a:pt x="280" y="78"/>
                  </a:lnTo>
                  <a:lnTo>
                    <a:pt x="271" y="63"/>
                  </a:lnTo>
                  <a:lnTo>
                    <a:pt x="259" y="48"/>
                  </a:lnTo>
                  <a:lnTo>
                    <a:pt x="246" y="35"/>
                  </a:lnTo>
                  <a:lnTo>
                    <a:pt x="231" y="24"/>
                  </a:lnTo>
                  <a:lnTo>
                    <a:pt x="213" y="15"/>
                  </a:lnTo>
                  <a:lnTo>
                    <a:pt x="195" y="8"/>
                  </a:lnTo>
                  <a:lnTo>
                    <a:pt x="194" y="9"/>
                  </a:lnTo>
                  <a:lnTo>
                    <a:pt x="194" y="9"/>
                  </a:lnTo>
                  <a:lnTo>
                    <a:pt x="194" y="10"/>
                  </a:lnTo>
                  <a:lnTo>
                    <a:pt x="194" y="11"/>
                  </a:lnTo>
                  <a:lnTo>
                    <a:pt x="190" y="10"/>
                  </a:lnTo>
                  <a:lnTo>
                    <a:pt x="186" y="9"/>
                  </a:lnTo>
                  <a:lnTo>
                    <a:pt x="182" y="8"/>
                  </a:lnTo>
                  <a:lnTo>
                    <a:pt x="178" y="5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4" y="2"/>
                  </a:lnTo>
                  <a:lnTo>
                    <a:pt x="159" y="1"/>
                  </a:lnTo>
                  <a:lnTo>
                    <a:pt x="156" y="1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15" y="2"/>
                  </a:lnTo>
                  <a:lnTo>
                    <a:pt x="89" y="10"/>
                  </a:lnTo>
                  <a:lnTo>
                    <a:pt x="64" y="22"/>
                  </a:lnTo>
                  <a:lnTo>
                    <a:pt x="43" y="37"/>
                  </a:lnTo>
                  <a:lnTo>
                    <a:pt x="24" y="55"/>
                  </a:lnTo>
                  <a:lnTo>
                    <a:pt x="12" y="76"/>
                  </a:lnTo>
                  <a:lnTo>
                    <a:pt x="4" y="9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9b6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3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6936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5" name=""/>
          <p:cNvGrpSpPr/>
          <p:nvPr/>
        </p:nvGrpSpPr>
        <p:grpSpPr>
          <a:xfrm>
            <a:off x="6095880" y="3279600"/>
            <a:ext cx="1397160" cy="1060200"/>
            <a:chOff x="6095880" y="3279600"/>
            <a:chExt cx="1397160" cy="1060200"/>
          </a:xfrm>
        </p:grpSpPr>
        <p:sp>
          <p:nvSpPr>
            <p:cNvPr id="6216" name=""/>
            <p:cNvSpPr/>
            <p:nvPr/>
          </p:nvSpPr>
          <p:spPr>
            <a:xfrm>
              <a:off x="6095880" y="3293640"/>
              <a:ext cx="1168560" cy="1046160"/>
            </a:xfrm>
            <a:custGeom>
              <a:avLst/>
              <a:gdLst/>
              <a:ahLst/>
              <a:rect l="l" t="t" r="r" b="b"/>
              <a:pathLst>
                <a:path w="298" h="363">
                  <a:moveTo>
                    <a:pt x="0" y="363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298" y="215"/>
                  </a:lnTo>
                  <a:lnTo>
                    <a:pt x="298" y="306"/>
                  </a:lnTo>
                  <a:lnTo>
                    <a:pt x="49" y="85"/>
                  </a:lnTo>
                  <a:lnTo>
                    <a:pt x="49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275240" y="3279600"/>
              <a:ext cx="217800" cy="10508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6275160" y="3539880"/>
              <a:ext cx="801720" cy="495360"/>
            </a:xfrm>
            <a:custGeom>
              <a:avLst/>
              <a:gdLst/>
              <a:ahLst/>
              <a:rect l="l" t="t" r="r" b="b"/>
              <a:pathLst>
                <a:path w="206" h="173">
                  <a:moveTo>
                    <a:pt x="0" y="173"/>
                  </a:moveTo>
                  <a:lnTo>
                    <a:pt x="0" y="0"/>
                  </a:lnTo>
                  <a:lnTo>
                    <a:pt x="206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19" name="BUTN002" descr=""/>
          <p:cNvPicPr/>
          <p:nvPr/>
        </p:nvPicPr>
        <p:blipFill>
          <a:blip r:embed="rId1"/>
          <a:stretch/>
        </p:blipFill>
        <p:spPr>
          <a:xfrm>
            <a:off x="1295280" y="3247920"/>
            <a:ext cx="1143000" cy="1122480"/>
          </a:xfrm>
          <a:prstGeom prst="rect">
            <a:avLst/>
          </a:prstGeom>
          <a:ln w="0">
            <a:noFill/>
          </a:ln>
        </p:spPr>
      </p:pic>
      <p:sp>
        <p:nvSpPr>
          <p:cNvPr id="6220" name=""/>
          <p:cNvSpPr/>
          <p:nvPr/>
        </p:nvSpPr>
        <p:spPr>
          <a:xfrm>
            <a:off x="16020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2" name=""/>
          <p:cNvSpPr/>
          <p:nvPr/>
        </p:nvSpPr>
        <p:spPr>
          <a:xfrm>
            <a:off x="533520" y="1905120"/>
            <a:ext cx="58449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5424480" y="930240"/>
            <a:ext cx="77760" cy="138240"/>
          </a:xfrm>
          <a:custGeom>
            <a:avLst/>
            <a:gdLst/>
            <a:ahLst/>
            <a:rect l="l" t="t" r="r" b="b"/>
            <a:pathLst>
              <a:path w="83" h="150">
                <a:moveTo>
                  <a:pt x="79" y="68"/>
                </a:moveTo>
                <a:lnTo>
                  <a:pt x="70" y="86"/>
                </a:lnTo>
                <a:lnTo>
                  <a:pt x="72" y="107"/>
                </a:lnTo>
                <a:lnTo>
                  <a:pt x="72" y="117"/>
                </a:lnTo>
                <a:lnTo>
                  <a:pt x="76" y="128"/>
                </a:lnTo>
                <a:lnTo>
                  <a:pt x="77" y="138"/>
                </a:lnTo>
                <a:lnTo>
                  <a:pt x="79" y="150"/>
                </a:lnTo>
                <a:lnTo>
                  <a:pt x="66" y="142"/>
                </a:lnTo>
                <a:lnTo>
                  <a:pt x="54" y="134"/>
                </a:lnTo>
                <a:lnTo>
                  <a:pt x="41" y="132"/>
                </a:lnTo>
                <a:lnTo>
                  <a:pt x="29" y="142"/>
                </a:lnTo>
                <a:lnTo>
                  <a:pt x="19" y="123"/>
                </a:lnTo>
                <a:lnTo>
                  <a:pt x="13" y="105"/>
                </a:lnTo>
                <a:lnTo>
                  <a:pt x="8" y="86"/>
                </a:lnTo>
                <a:lnTo>
                  <a:pt x="4" y="68"/>
                </a:lnTo>
                <a:lnTo>
                  <a:pt x="0" y="49"/>
                </a:lnTo>
                <a:lnTo>
                  <a:pt x="2" y="31"/>
                </a:lnTo>
                <a:lnTo>
                  <a:pt x="8" y="14"/>
                </a:lnTo>
                <a:lnTo>
                  <a:pt x="19" y="0"/>
                </a:lnTo>
                <a:lnTo>
                  <a:pt x="27" y="6"/>
                </a:lnTo>
                <a:lnTo>
                  <a:pt x="39" y="12"/>
                </a:lnTo>
                <a:lnTo>
                  <a:pt x="52" y="18"/>
                </a:lnTo>
                <a:lnTo>
                  <a:pt x="66" y="26"/>
                </a:lnTo>
                <a:lnTo>
                  <a:pt x="76" y="31"/>
                </a:lnTo>
                <a:lnTo>
                  <a:pt x="83" y="43"/>
                </a:lnTo>
                <a:lnTo>
                  <a:pt x="83" y="53"/>
                </a:lnTo>
                <a:lnTo>
                  <a:pt x="79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6143760" y="4417920"/>
            <a:ext cx="74520" cy="7488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0"/>
                </a:move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5" name=""/>
          <p:cNvGrpSpPr/>
          <p:nvPr/>
        </p:nvGrpSpPr>
        <p:grpSpPr>
          <a:xfrm>
            <a:off x="6477120" y="3051000"/>
            <a:ext cx="1231920" cy="1516320"/>
            <a:chOff x="6477120" y="3051000"/>
            <a:chExt cx="1231920" cy="1516320"/>
          </a:xfrm>
        </p:grpSpPr>
        <p:grpSp>
          <p:nvGrpSpPr>
            <p:cNvPr id="6226" name=""/>
            <p:cNvGrpSpPr/>
            <p:nvPr/>
          </p:nvGrpSpPr>
          <p:grpSpPr>
            <a:xfrm>
              <a:off x="6477120" y="3051000"/>
              <a:ext cx="1231920" cy="1516320"/>
              <a:chOff x="6477120" y="3051000"/>
              <a:chExt cx="1231920" cy="1516320"/>
            </a:xfrm>
          </p:grpSpPr>
          <p:sp>
            <p:nvSpPr>
              <p:cNvPr id="6227" name=""/>
              <p:cNvSpPr/>
              <p:nvPr/>
            </p:nvSpPr>
            <p:spPr>
              <a:xfrm>
                <a:off x="6693840" y="3051000"/>
                <a:ext cx="420840" cy="330840"/>
              </a:xfrm>
              <a:custGeom>
                <a:avLst/>
                <a:gdLst/>
                <a:ahLst/>
                <a:rect l="l" t="t" r="r" b="b"/>
                <a:pathLst>
                  <a:path w="1021" h="780">
                    <a:moveTo>
                      <a:pt x="591" y="71"/>
                    </a:moveTo>
                    <a:lnTo>
                      <a:pt x="675" y="112"/>
                    </a:lnTo>
                    <a:lnTo>
                      <a:pt x="749" y="158"/>
                    </a:lnTo>
                    <a:lnTo>
                      <a:pt x="813" y="208"/>
                    </a:lnTo>
                    <a:lnTo>
                      <a:pt x="869" y="260"/>
                    </a:lnTo>
                    <a:lnTo>
                      <a:pt x="915" y="314"/>
                    </a:lnTo>
                    <a:lnTo>
                      <a:pt x="956" y="371"/>
                    </a:lnTo>
                    <a:lnTo>
                      <a:pt x="990" y="429"/>
                    </a:lnTo>
                    <a:lnTo>
                      <a:pt x="1021" y="489"/>
                    </a:lnTo>
                    <a:lnTo>
                      <a:pt x="1004" y="524"/>
                    </a:lnTo>
                    <a:lnTo>
                      <a:pt x="992" y="560"/>
                    </a:lnTo>
                    <a:lnTo>
                      <a:pt x="978" y="595"/>
                    </a:lnTo>
                    <a:lnTo>
                      <a:pt x="969" y="631"/>
                    </a:lnTo>
                    <a:lnTo>
                      <a:pt x="958" y="667"/>
                    </a:lnTo>
                    <a:lnTo>
                      <a:pt x="949" y="704"/>
                    </a:lnTo>
                    <a:lnTo>
                      <a:pt x="939" y="741"/>
                    </a:lnTo>
                    <a:lnTo>
                      <a:pt x="931" y="780"/>
                    </a:lnTo>
                    <a:lnTo>
                      <a:pt x="892" y="780"/>
                    </a:lnTo>
                    <a:lnTo>
                      <a:pt x="853" y="780"/>
                    </a:lnTo>
                    <a:lnTo>
                      <a:pt x="813" y="778"/>
                    </a:lnTo>
                    <a:lnTo>
                      <a:pt x="775" y="775"/>
                    </a:lnTo>
                    <a:lnTo>
                      <a:pt x="735" y="768"/>
                    </a:lnTo>
                    <a:lnTo>
                      <a:pt x="698" y="760"/>
                    </a:lnTo>
                    <a:lnTo>
                      <a:pt x="660" y="749"/>
                    </a:lnTo>
                    <a:lnTo>
                      <a:pt x="624" y="735"/>
                    </a:lnTo>
                    <a:lnTo>
                      <a:pt x="538" y="685"/>
                    </a:lnTo>
                    <a:lnTo>
                      <a:pt x="467" y="630"/>
                    </a:lnTo>
                    <a:lnTo>
                      <a:pt x="406" y="567"/>
                    </a:lnTo>
                    <a:lnTo>
                      <a:pt x="352" y="502"/>
                    </a:lnTo>
                    <a:lnTo>
                      <a:pt x="300" y="433"/>
                    </a:lnTo>
                    <a:lnTo>
                      <a:pt x="248" y="366"/>
                    </a:lnTo>
                    <a:lnTo>
                      <a:pt x="192" y="299"/>
                    </a:lnTo>
                    <a:lnTo>
                      <a:pt x="128" y="235"/>
                    </a:lnTo>
                    <a:lnTo>
                      <a:pt x="112" y="223"/>
                    </a:lnTo>
                    <a:lnTo>
                      <a:pt x="95" y="214"/>
                    </a:lnTo>
                    <a:lnTo>
                      <a:pt x="78" y="205"/>
                    </a:lnTo>
                    <a:lnTo>
                      <a:pt x="62" y="198"/>
                    </a:lnTo>
                    <a:lnTo>
                      <a:pt x="46" y="189"/>
                    </a:lnTo>
                    <a:lnTo>
                      <a:pt x="32" y="180"/>
                    </a:lnTo>
                    <a:lnTo>
                      <a:pt x="18" y="167"/>
                    </a:lnTo>
                    <a:lnTo>
                      <a:pt x="9" y="153"/>
                    </a:lnTo>
                    <a:lnTo>
                      <a:pt x="3" y="142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3" y="110"/>
                    </a:lnTo>
                    <a:lnTo>
                      <a:pt x="6" y="99"/>
                    </a:lnTo>
                    <a:lnTo>
                      <a:pt x="12" y="88"/>
                    </a:lnTo>
                    <a:lnTo>
                      <a:pt x="19" y="78"/>
                    </a:lnTo>
                    <a:lnTo>
                      <a:pt x="31" y="69"/>
                    </a:lnTo>
                    <a:lnTo>
                      <a:pt x="97" y="31"/>
                    </a:lnTo>
                    <a:lnTo>
                      <a:pt x="166" y="9"/>
                    </a:lnTo>
                    <a:lnTo>
                      <a:pt x="236" y="0"/>
                    </a:lnTo>
                    <a:lnTo>
                      <a:pt x="307" y="2"/>
                    </a:lnTo>
                    <a:lnTo>
                      <a:pt x="378" y="11"/>
                    </a:lnTo>
                    <a:lnTo>
                      <a:pt x="449" y="28"/>
                    </a:lnTo>
                    <a:lnTo>
                      <a:pt x="519" y="47"/>
                    </a:lnTo>
                    <a:lnTo>
                      <a:pt x="591" y="7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797520" y="3113280"/>
                <a:ext cx="288000" cy="216000"/>
              </a:xfrm>
              <a:custGeom>
                <a:avLst/>
                <a:gdLst/>
                <a:ahLst/>
                <a:rect l="l" t="t" r="r" b="b"/>
                <a:pathLst>
                  <a:path w="698" h="511">
                    <a:moveTo>
                      <a:pt x="304" y="125"/>
                    </a:moveTo>
                    <a:lnTo>
                      <a:pt x="358" y="160"/>
                    </a:lnTo>
                    <a:lnTo>
                      <a:pt x="412" y="197"/>
                    </a:lnTo>
                    <a:lnTo>
                      <a:pt x="466" y="234"/>
                    </a:lnTo>
                    <a:lnTo>
                      <a:pt x="518" y="275"/>
                    </a:lnTo>
                    <a:lnTo>
                      <a:pt x="567" y="316"/>
                    </a:lnTo>
                    <a:lnTo>
                      <a:pt x="616" y="362"/>
                    </a:lnTo>
                    <a:lnTo>
                      <a:pt x="658" y="412"/>
                    </a:lnTo>
                    <a:lnTo>
                      <a:pt x="698" y="467"/>
                    </a:lnTo>
                    <a:lnTo>
                      <a:pt x="698" y="471"/>
                    </a:lnTo>
                    <a:lnTo>
                      <a:pt x="698" y="478"/>
                    </a:lnTo>
                    <a:lnTo>
                      <a:pt x="697" y="483"/>
                    </a:lnTo>
                    <a:lnTo>
                      <a:pt x="696" y="489"/>
                    </a:lnTo>
                    <a:lnTo>
                      <a:pt x="693" y="494"/>
                    </a:lnTo>
                    <a:lnTo>
                      <a:pt x="691" y="500"/>
                    </a:lnTo>
                    <a:lnTo>
                      <a:pt x="687" y="505"/>
                    </a:lnTo>
                    <a:lnTo>
                      <a:pt x="685" y="511"/>
                    </a:lnTo>
                    <a:lnTo>
                      <a:pt x="673" y="506"/>
                    </a:lnTo>
                    <a:lnTo>
                      <a:pt x="665" y="499"/>
                    </a:lnTo>
                    <a:lnTo>
                      <a:pt x="657" y="488"/>
                    </a:lnTo>
                    <a:lnTo>
                      <a:pt x="650" y="478"/>
                    </a:lnTo>
                    <a:lnTo>
                      <a:pt x="642" y="465"/>
                    </a:lnTo>
                    <a:lnTo>
                      <a:pt x="633" y="455"/>
                    </a:lnTo>
                    <a:lnTo>
                      <a:pt x="622" y="446"/>
                    </a:lnTo>
                    <a:lnTo>
                      <a:pt x="608" y="442"/>
                    </a:lnTo>
                    <a:lnTo>
                      <a:pt x="587" y="432"/>
                    </a:lnTo>
                    <a:lnTo>
                      <a:pt x="561" y="427"/>
                    </a:lnTo>
                    <a:lnTo>
                      <a:pt x="531" y="424"/>
                    </a:lnTo>
                    <a:lnTo>
                      <a:pt x="500" y="425"/>
                    </a:lnTo>
                    <a:lnTo>
                      <a:pt x="466" y="425"/>
                    </a:lnTo>
                    <a:lnTo>
                      <a:pt x="433" y="428"/>
                    </a:lnTo>
                    <a:lnTo>
                      <a:pt x="403" y="430"/>
                    </a:lnTo>
                    <a:lnTo>
                      <a:pt x="376" y="434"/>
                    </a:lnTo>
                    <a:lnTo>
                      <a:pt x="393" y="425"/>
                    </a:lnTo>
                    <a:lnTo>
                      <a:pt x="413" y="418"/>
                    </a:lnTo>
                    <a:lnTo>
                      <a:pt x="437" y="412"/>
                    </a:lnTo>
                    <a:lnTo>
                      <a:pt x="464" y="408"/>
                    </a:lnTo>
                    <a:lnTo>
                      <a:pt x="490" y="403"/>
                    </a:lnTo>
                    <a:lnTo>
                      <a:pt x="519" y="400"/>
                    </a:lnTo>
                    <a:lnTo>
                      <a:pt x="547" y="397"/>
                    </a:lnTo>
                    <a:lnTo>
                      <a:pt x="576" y="396"/>
                    </a:lnTo>
                    <a:lnTo>
                      <a:pt x="571" y="387"/>
                    </a:lnTo>
                    <a:lnTo>
                      <a:pt x="568" y="378"/>
                    </a:lnTo>
                    <a:lnTo>
                      <a:pt x="562" y="369"/>
                    </a:lnTo>
                    <a:lnTo>
                      <a:pt x="557" y="361"/>
                    </a:lnTo>
                    <a:lnTo>
                      <a:pt x="550" y="353"/>
                    </a:lnTo>
                    <a:lnTo>
                      <a:pt x="543" y="347"/>
                    </a:lnTo>
                    <a:lnTo>
                      <a:pt x="534" y="341"/>
                    </a:lnTo>
                    <a:lnTo>
                      <a:pt x="527" y="338"/>
                    </a:lnTo>
                    <a:lnTo>
                      <a:pt x="483" y="325"/>
                    </a:lnTo>
                    <a:lnTo>
                      <a:pt x="442" y="318"/>
                    </a:lnTo>
                    <a:lnTo>
                      <a:pt x="404" y="314"/>
                    </a:lnTo>
                    <a:lnTo>
                      <a:pt x="368" y="313"/>
                    </a:lnTo>
                    <a:lnTo>
                      <a:pt x="331" y="313"/>
                    </a:lnTo>
                    <a:lnTo>
                      <a:pt x="295" y="316"/>
                    </a:lnTo>
                    <a:lnTo>
                      <a:pt x="258" y="320"/>
                    </a:lnTo>
                    <a:lnTo>
                      <a:pt x="220" y="327"/>
                    </a:lnTo>
                    <a:lnTo>
                      <a:pt x="244" y="311"/>
                    </a:lnTo>
                    <a:lnTo>
                      <a:pt x="272" y="300"/>
                    </a:lnTo>
                    <a:lnTo>
                      <a:pt x="301" y="291"/>
                    </a:lnTo>
                    <a:lnTo>
                      <a:pt x="335" y="284"/>
                    </a:lnTo>
                    <a:lnTo>
                      <a:pt x="367" y="279"/>
                    </a:lnTo>
                    <a:lnTo>
                      <a:pt x="400" y="278"/>
                    </a:lnTo>
                    <a:lnTo>
                      <a:pt x="431" y="279"/>
                    </a:lnTo>
                    <a:lnTo>
                      <a:pt x="460" y="285"/>
                    </a:lnTo>
                    <a:lnTo>
                      <a:pt x="464" y="278"/>
                    </a:lnTo>
                    <a:lnTo>
                      <a:pt x="456" y="274"/>
                    </a:lnTo>
                    <a:lnTo>
                      <a:pt x="450" y="271"/>
                    </a:lnTo>
                    <a:lnTo>
                      <a:pt x="445" y="269"/>
                    </a:lnTo>
                    <a:lnTo>
                      <a:pt x="439" y="267"/>
                    </a:lnTo>
                    <a:lnTo>
                      <a:pt x="437" y="265"/>
                    </a:lnTo>
                    <a:lnTo>
                      <a:pt x="415" y="247"/>
                    </a:lnTo>
                    <a:lnTo>
                      <a:pt x="394" y="231"/>
                    </a:lnTo>
                    <a:lnTo>
                      <a:pt x="373" y="216"/>
                    </a:lnTo>
                    <a:lnTo>
                      <a:pt x="355" y="201"/>
                    </a:lnTo>
                    <a:lnTo>
                      <a:pt x="334" y="187"/>
                    </a:lnTo>
                    <a:lnTo>
                      <a:pt x="316" y="173"/>
                    </a:lnTo>
                    <a:lnTo>
                      <a:pt x="297" y="160"/>
                    </a:lnTo>
                    <a:lnTo>
                      <a:pt x="279" y="148"/>
                    </a:lnTo>
                    <a:lnTo>
                      <a:pt x="241" y="124"/>
                    </a:lnTo>
                    <a:lnTo>
                      <a:pt x="205" y="104"/>
                    </a:lnTo>
                    <a:lnTo>
                      <a:pt x="171" y="83"/>
                    </a:lnTo>
                    <a:lnTo>
                      <a:pt x="138" y="65"/>
                    </a:lnTo>
                    <a:lnTo>
                      <a:pt x="104" y="46"/>
                    </a:lnTo>
                    <a:lnTo>
                      <a:pt x="70" y="30"/>
                    </a:lnTo>
                    <a:lnTo>
                      <a:pt x="35" y="13"/>
                    </a:lnTo>
                    <a:lnTo>
                      <a:pt x="0" y="0"/>
                    </a:lnTo>
                    <a:lnTo>
                      <a:pt x="42" y="5"/>
                    </a:lnTo>
                    <a:lnTo>
                      <a:pt x="84" y="14"/>
                    </a:lnTo>
                    <a:lnTo>
                      <a:pt x="124" y="28"/>
                    </a:lnTo>
                    <a:lnTo>
                      <a:pt x="164" y="45"/>
                    </a:lnTo>
                    <a:lnTo>
                      <a:pt x="201" y="63"/>
                    </a:lnTo>
                    <a:lnTo>
                      <a:pt x="237" y="83"/>
                    </a:lnTo>
                    <a:lnTo>
                      <a:pt x="270" y="104"/>
                    </a:lnTo>
                    <a:lnTo>
                      <a:pt x="30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7093440" y="3128400"/>
                <a:ext cx="149760" cy="265680"/>
              </a:xfrm>
              <a:custGeom>
                <a:avLst/>
                <a:gdLst/>
                <a:ahLst/>
                <a:rect l="l" t="t" r="r" b="b"/>
                <a:pathLst>
                  <a:path w="364" h="628">
                    <a:moveTo>
                      <a:pt x="364" y="124"/>
                    </a:moveTo>
                    <a:lnTo>
                      <a:pt x="345" y="143"/>
                    </a:lnTo>
                    <a:lnTo>
                      <a:pt x="294" y="190"/>
                    </a:lnTo>
                    <a:lnTo>
                      <a:pt x="249" y="241"/>
                    </a:lnTo>
                    <a:lnTo>
                      <a:pt x="208" y="295"/>
                    </a:lnTo>
                    <a:lnTo>
                      <a:pt x="174" y="352"/>
                    </a:lnTo>
                    <a:lnTo>
                      <a:pt x="143" y="411"/>
                    </a:lnTo>
                    <a:lnTo>
                      <a:pt x="119" y="473"/>
                    </a:lnTo>
                    <a:lnTo>
                      <a:pt x="101" y="538"/>
                    </a:lnTo>
                    <a:lnTo>
                      <a:pt x="90" y="606"/>
                    </a:lnTo>
                    <a:lnTo>
                      <a:pt x="85" y="612"/>
                    </a:lnTo>
                    <a:lnTo>
                      <a:pt x="80" y="619"/>
                    </a:lnTo>
                    <a:lnTo>
                      <a:pt x="73" y="624"/>
                    </a:lnTo>
                    <a:lnTo>
                      <a:pt x="67" y="628"/>
                    </a:lnTo>
                    <a:lnTo>
                      <a:pt x="57" y="627"/>
                    </a:lnTo>
                    <a:lnTo>
                      <a:pt x="46" y="627"/>
                    </a:lnTo>
                    <a:lnTo>
                      <a:pt x="37" y="625"/>
                    </a:lnTo>
                    <a:lnTo>
                      <a:pt x="29" y="624"/>
                    </a:lnTo>
                    <a:lnTo>
                      <a:pt x="20" y="620"/>
                    </a:lnTo>
                    <a:lnTo>
                      <a:pt x="13" y="617"/>
                    </a:lnTo>
                    <a:lnTo>
                      <a:pt x="5" y="613"/>
                    </a:lnTo>
                    <a:lnTo>
                      <a:pt x="0" y="610"/>
                    </a:lnTo>
                    <a:lnTo>
                      <a:pt x="14" y="539"/>
                    </a:lnTo>
                    <a:lnTo>
                      <a:pt x="31" y="470"/>
                    </a:lnTo>
                    <a:lnTo>
                      <a:pt x="53" y="402"/>
                    </a:lnTo>
                    <a:lnTo>
                      <a:pt x="78" y="338"/>
                    </a:lnTo>
                    <a:lnTo>
                      <a:pt x="105" y="273"/>
                    </a:lnTo>
                    <a:lnTo>
                      <a:pt x="136" y="210"/>
                    </a:lnTo>
                    <a:lnTo>
                      <a:pt x="168" y="148"/>
                    </a:lnTo>
                    <a:lnTo>
                      <a:pt x="201" y="87"/>
                    </a:lnTo>
                    <a:lnTo>
                      <a:pt x="210" y="73"/>
                    </a:lnTo>
                    <a:lnTo>
                      <a:pt x="219" y="59"/>
                    </a:lnTo>
                    <a:lnTo>
                      <a:pt x="229" y="46"/>
                    </a:lnTo>
                    <a:lnTo>
                      <a:pt x="241" y="35"/>
                    </a:lnTo>
                    <a:lnTo>
                      <a:pt x="250" y="22"/>
                    </a:lnTo>
                    <a:lnTo>
                      <a:pt x="260" y="14"/>
                    </a:lnTo>
                    <a:lnTo>
                      <a:pt x="268" y="5"/>
                    </a:lnTo>
                    <a:lnTo>
                      <a:pt x="275" y="0"/>
                    </a:lnTo>
                    <a:lnTo>
                      <a:pt x="297" y="6"/>
                    </a:lnTo>
                    <a:lnTo>
                      <a:pt x="317" y="17"/>
                    </a:lnTo>
                    <a:lnTo>
                      <a:pt x="332" y="32"/>
                    </a:lnTo>
                    <a:lnTo>
                      <a:pt x="345" y="50"/>
                    </a:lnTo>
                    <a:lnTo>
                      <a:pt x="353" y="68"/>
                    </a:lnTo>
                    <a:lnTo>
                      <a:pt x="360" y="87"/>
                    </a:lnTo>
                    <a:lnTo>
                      <a:pt x="363" y="106"/>
                    </a:lnTo>
                    <a:lnTo>
                      <a:pt x="364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477120" y="3320640"/>
                <a:ext cx="1231920" cy="1246680"/>
              </a:xfrm>
              <a:custGeom>
                <a:avLst/>
                <a:gdLst/>
                <a:ahLst/>
                <a:rect l="l" t="t" r="r" b="b"/>
                <a:pathLst>
                  <a:path w="2985" h="2940">
                    <a:moveTo>
                      <a:pt x="2698" y="352"/>
                    </a:moveTo>
                    <a:lnTo>
                      <a:pt x="2731" y="390"/>
                    </a:lnTo>
                    <a:lnTo>
                      <a:pt x="2763" y="431"/>
                    </a:lnTo>
                    <a:lnTo>
                      <a:pt x="2790" y="473"/>
                    </a:lnTo>
                    <a:lnTo>
                      <a:pt x="2818" y="519"/>
                    </a:lnTo>
                    <a:lnTo>
                      <a:pt x="2843" y="564"/>
                    </a:lnTo>
                    <a:lnTo>
                      <a:pt x="2865" y="611"/>
                    </a:lnTo>
                    <a:lnTo>
                      <a:pt x="2886" y="657"/>
                    </a:lnTo>
                    <a:lnTo>
                      <a:pt x="2905" y="704"/>
                    </a:lnTo>
                    <a:lnTo>
                      <a:pt x="2911" y="716"/>
                    </a:lnTo>
                    <a:lnTo>
                      <a:pt x="2918" y="730"/>
                    </a:lnTo>
                    <a:lnTo>
                      <a:pt x="2925" y="747"/>
                    </a:lnTo>
                    <a:lnTo>
                      <a:pt x="2933" y="765"/>
                    </a:lnTo>
                    <a:lnTo>
                      <a:pt x="2939" y="783"/>
                    </a:lnTo>
                    <a:lnTo>
                      <a:pt x="2945" y="800"/>
                    </a:lnTo>
                    <a:lnTo>
                      <a:pt x="2950" y="816"/>
                    </a:lnTo>
                    <a:lnTo>
                      <a:pt x="2954" y="832"/>
                    </a:lnTo>
                    <a:lnTo>
                      <a:pt x="2971" y="917"/>
                    </a:lnTo>
                    <a:lnTo>
                      <a:pt x="2982" y="1011"/>
                    </a:lnTo>
                    <a:lnTo>
                      <a:pt x="2985" y="1107"/>
                    </a:lnTo>
                    <a:lnTo>
                      <a:pt x="2983" y="1206"/>
                    </a:lnTo>
                    <a:lnTo>
                      <a:pt x="2974" y="1300"/>
                    </a:lnTo>
                    <a:lnTo>
                      <a:pt x="2962" y="1391"/>
                    </a:lnTo>
                    <a:lnTo>
                      <a:pt x="2944" y="1471"/>
                    </a:lnTo>
                    <a:lnTo>
                      <a:pt x="2924" y="1540"/>
                    </a:lnTo>
                    <a:lnTo>
                      <a:pt x="2894" y="1612"/>
                    </a:lnTo>
                    <a:lnTo>
                      <a:pt x="2862" y="1686"/>
                    </a:lnTo>
                    <a:lnTo>
                      <a:pt x="2825" y="1759"/>
                    </a:lnTo>
                    <a:lnTo>
                      <a:pt x="2788" y="1831"/>
                    </a:lnTo>
                    <a:lnTo>
                      <a:pt x="2746" y="1901"/>
                    </a:lnTo>
                    <a:lnTo>
                      <a:pt x="2704" y="1971"/>
                    </a:lnTo>
                    <a:lnTo>
                      <a:pt x="2660" y="2039"/>
                    </a:lnTo>
                    <a:lnTo>
                      <a:pt x="2617" y="2104"/>
                    </a:lnTo>
                    <a:lnTo>
                      <a:pt x="2548" y="2203"/>
                    </a:lnTo>
                    <a:lnTo>
                      <a:pt x="2479" y="2305"/>
                    </a:lnTo>
                    <a:lnTo>
                      <a:pt x="2409" y="2406"/>
                    </a:lnTo>
                    <a:lnTo>
                      <a:pt x="2337" y="2508"/>
                    </a:lnTo>
                    <a:lnTo>
                      <a:pt x="2261" y="2605"/>
                    </a:lnTo>
                    <a:lnTo>
                      <a:pt x="2181" y="2698"/>
                    </a:lnTo>
                    <a:lnTo>
                      <a:pt x="2094" y="2783"/>
                    </a:lnTo>
                    <a:lnTo>
                      <a:pt x="2001" y="2861"/>
                    </a:lnTo>
                    <a:lnTo>
                      <a:pt x="1974" y="2877"/>
                    </a:lnTo>
                    <a:lnTo>
                      <a:pt x="1944" y="2892"/>
                    </a:lnTo>
                    <a:lnTo>
                      <a:pt x="1911" y="2907"/>
                    </a:lnTo>
                    <a:lnTo>
                      <a:pt x="1876" y="2920"/>
                    </a:lnTo>
                    <a:lnTo>
                      <a:pt x="1838" y="2929"/>
                    </a:lnTo>
                    <a:lnTo>
                      <a:pt x="1797" y="2936"/>
                    </a:lnTo>
                    <a:lnTo>
                      <a:pt x="1754" y="2940"/>
                    </a:lnTo>
                    <a:lnTo>
                      <a:pt x="1710" y="2939"/>
                    </a:lnTo>
                    <a:lnTo>
                      <a:pt x="1653" y="2926"/>
                    </a:lnTo>
                    <a:lnTo>
                      <a:pt x="1599" y="2908"/>
                    </a:lnTo>
                    <a:lnTo>
                      <a:pt x="1544" y="2884"/>
                    </a:lnTo>
                    <a:lnTo>
                      <a:pt x="1490" y="2861"/>
                    </a:lnTo>
                    <a:lnTo>
                      <a:pt x="1435" y="2841"/>
                    </a:lnTo>
                    <a:lnTo>
                      <a:pt x="1380" y="2831"/>
                    </a:lnTo>
                    <a:lnTo>
                      <a:pt x="1325" y="2833"/>
                    </a:lnTo>
                    <a:lnTo>
                      <a:pt x="1269" y="2853"/>
                    </a:lnTo>
                    <a:lnTo>
                      <a:pt x="1231" y="2865"/>
                    </a:lnTo>
                    <a:lnTo>
                      <a:pt x="1193" y="2872"/>
                    </a:lnTo>
                    <a:lnTo>
                      <a:pt x="1154" y="2874"/>
                    </a:lnTo>
                    <a:lnTo>
                      <a:pt x="1116" y="2874"/>
                    </a:lnTo>
                    <a:lnTo>
                      <a:pt x="1076" y="2869"/>
                    </a:lnTo>
                    <a:lnTo>
                      <a:pt x="1037" y="2860"/>
                    </a:lnTo>
                    <a:lnTo>
                      <a:pt x="998" y="2849"/>
                    </a:lnTo>
                    <a:lnTo>
                      <a:pt x="961" y="2836"/>
                    </a:lnTo>
                    <a:lnTo>
                      <a:pt x="923" y="2818"/>
                    </a:lnTo>
                    <a:lnTo>
                      <a:pt x="889" y="2800"/>
                    </a:lnTo>
                    <a:lnTo>
                      <a:pt x="858" y="2778"/>
                    </a:lnTo>
                    <a:lnTo>
                      <a:pt x="828" y="2757"/>
                    </a:lnTo>
                    <a:lnTo>
                      <a:pt x="798" y="2733"/>
                    </a:lnTo>
                    <a:lnTo>
                      <a:pt x="770" y="2709"/>
                    </a:lnTo>
                    <a:lnTo>
                      <a:pt x="741" y="2686"/>
                    </a:lnTo>
                    <a:lnTo>
                      <a:pt x="713" y="2664"/>
                    </a:lnTo>
                    <a:lnTo>
                      <a:pt x="653" y="2612"/>
                    </a:lnTo>
                    <a:lnTo>
                      <a:pt x="601" y="2557"/>
                    </a:lnTo>
                    <a:lnTo>
                      <a:pt x="552" y="2500"/>
                    </a:lnTo>
                    <a:lnTo>
                      <a:pt x="508" y="2441"/>
                    </a:lnTo>
                    <a:lnTo>
                      <a:pt x="466" y="2380"/>
                    </a:lnTo>
                    <a:lnTo>
                      <a:pt x="428" y="2318"/>
                    </a:lnTo>
                    <a:lnTo>
                      <a:pt x="390" y="2253"/>
                    </a:lnTo>
                    <a:lnTo>
                      <a:pt x="354" y="2189"/>
                    </a:lnTo>
                    <a:lnTo>
                      <a:pt x="324" y="2137"/>
                    </a:lnTo>
                    <a:lnTo>
                      <a:pt x="299" y="2088"/>
                    </a:lnTo>
                    <a:lnTo>
                      <a:pt x="274" y="2039"/>
                    </a:lnTo>
                    <a:lnTo>
                      <a:pt x="253" y="1990"/>
                    </a:lnTo>
                    <a:lnTo>
                      <a:pt x="232" y="1940"/>
                    </a:lnTo>
                    <a:lnTo>
                      <a:pt x="214" y="1891"/>
                    </a:lnTo>
                    <a:lnTo>
                      <a:pt x="196" y="1839"/>
                    </a:lnTo>
                    <a:lnTo>
                      <a:pt x="182" y="1788"/>
                    </a:lnTo>
                    <a:lnTo>
                      <a:pt x="161" y="1718"/>
                    </a:lnTo>
                    <a:lnTo>
                      <a:pt x="139" y="1645"/>
                    </a:lnTo>
                    <a:lnTo>
                      <a:pt x="114" y="1570"/>
                    </a:lnTo>
                    <a:lnTo>
                      <a:pt x="90" y="1495"/>
                    </a:lnTo>
                    <a:lnTo>
                      <a:pt x="67" y="1422"/>
                    </a:lnTo>
                    <a:lnTo>
                      <a:pt x="46" y="1355"/>
                    </a:lnTo>
                    <a:lnTo>
                      <a:pt x="30" y="1293"/>
                    </a:lnTo>
                    <a:lnTo>
                      <a:pt x="20" y="1242"/>
                    </a:lnTo>
                    <a:lnTo>
                      <a:pt x="11" y="1194"/>
                    </a:lnTo>
                    <a:lnTo>
                      <a:pt x="5" y="1150"/>
                    </a:lnTo>
                    <a:lnTo>
                      <a:pt x="1" y="1108"/>
                    </a:lnTo>
                    <a:lnTo>
                      <a:pt x="0" y="1065"/>
                    </a:lnTo>
                    <a:lnTo>
                      <a:pt x="0" y="1018"/>
                    </a:lnTo>
                    <a:lnTo>
                      <a:pt x="5" y="966"/>
                    </a:lnTo>
                    <a:lnTo>
                      <a:pt x="14" y="908"/>
                    </a:lnTo>
                    <a:lnTo>
                      <a:pt x="30" y="842"/>
                    </a:lnTo>
                    <a:lnTo>
                      <a:pt x="38" y="804"/>
                    </a:lnTo>
                    <a:lnTo>
                      <a:pt x="47" y="768"/>
                    </a:lnTo>
                    <a:lnTo>
                      <a:pt x="58" y="733"/>
                    </a:lnTo>
                    <a:lnTo>
                      <a:pt x="71" y="700"/>
                    </a:lnTo>
                    <a:lnTo>
                      <a:pt x="83" y="666"/>
                    </a:lnTo>
                    <a:lnTo>
                      <a:pt x="99" y="635"/>
                    </a:lnTo>
                    <a:lnTo>
                      <a:pt x="114" y="603"/>
                    </a:lnTo>
                    <a:lnTo>
                      <a:pt x="130" y="572"/>
                    </a:lnTo>
                    <a:lnTo>
                      <a:pt x="163" y="502"/>
                    </a:lnTo>
                    <a:lnTo>
                      <a:pt x="206" y="435"/>
                    </a:lnTo>
                    <a:lnTo>
                      <a:pt x="257" y="372"/>
                    </a:lnTo>
                    <a:lnTo>
                      <a:pt x="315" y="312"/>
                    </a:lnTo>
                    <a:lnTo>
                      <a:pt x="378" y="258"/>
                    </a:lnTo>
                    <a:lnTo>
                      <a:pt x="448" y="210"/>
                    </a:lnTo>
                    <a:lnTo>
                      <a:pt x="521" y="171"/>
                    </a:lnTo>
                    <a:lnTo>
                      <a:pt x="598" y="142"/>
                    </a:lnTo>
                    <a:lnTo>
                      <a:pt x="635" y="128"/>
                    </a:lnTo>
                    <a:lnTo>
                      <a:pt x="672" y="117"/>
                    </a:lnTo>
                    <a:lnTo>
                      <a:pt x="707" y="107"/>
                    </a:lnTo>
                    <a:lnTo>
                      <a:pt x="742" y="98"/>
                    </a:lnTo>
                    <a:lnTo>
                      <a:pt x="777" y="89"/>
                    </a:lnTo>
                    <a:lnTo>
                      <a:pt x="812" y="83"/>
                    </a:lnTo>
                    <a:lnTo>
                      <a:pt x="847" y="77"/>
                    </a:lnTo>
                    <a:lnTo>
                      <a:pt x="884" y="74"/>
                    </a:lnTo>
                    <a:lnTo>
                      <a:pt x="907" y="70"/>
                    </a:lnTo>
                    <a:lnTo>
                      <a:pt x="929" y="67"/>
                    </a:lnTo>
                    <a:lnTo>
                      <a:pt x="951" y="65"/>
                    </a:lnTo>
                    <a:lnTo>
                      <a:pt x="974" y="67"/>
                    </a:lnTo>
                    <a:lnTo>
                      <a:pt x="995" y="70"/>
                    </a:lnTo>
                    <a:lnTo>
                      <a:pt x="1020" y="78"/>
                    </a:lnTo>
                    <a:lnTo>
                      <a:pt x="1044" y="90"/>
                    </a:lnTo>
                    <a:lnTo>
                      <a:pt x="1073" y="109"/>
                    </a:lnTo>
                    <a:lnTo>
                      <a:pt x="1116" y="133"/>
                    </a:lnTo>
                    <a:lnTo>
                      <a:pt x="1164" y="153"/>
                    </a:lnTo>
                    <a:lnTo>
                      <a:pt x="1213" y="167"/>
                    </a:lnTo>
                    <a:lnTo>
                      <a:pt x="1265" y="180"/>
                    </a:lnTo>
                    <a:lnTo>
                      <a:pt x="1318" y="187"/>
                    </a:lnTo>
                    <a:lnTo>
                      <a:pt x="1372" y="193"/>
                    </a:lnTo>
                    <a:lnTo>
                      <a:pt x="1425" y="197"/>
                    </a:lnTo>
                    <a:lnTo>
                      <a:pt x="1480" y="201"/>
                    </a:lnTo>
                    <a:lnTo>
                      <a:pt x="1489" y="208"/>
                    </a:lnTo>
                    <a:lnTo>
                      <a:pt x="1500" y="214"/>
                    </a:lnTo>
                    <a:lnTo>
                      <a:pt x="1513" y="218"/>
                    </a:lnTo>
                    <a:lnTo>
                      <a:pt x="1526" y="220"/>
                    </a:lnTo>
                    <a:lnTo>
                      <a:pt x="1538" y="219"/>
                    </a:lnTo>
                    <a:lnTo>
                      <a:pt x="1552" y="219"/>
                    </a:lnTo>
                    <a:lnTo>
                      <a:pt x="1565" y="217"/>
                    </a:lnTo>
                    <a:lnTo>
                      <a:pt x="1578" y="216"/>
                    </a:lnTo>
                    <a:lnTo>
                      <a:pt x="1597" y="199"/>
                    </a:lnTo>
                    <a:lnTo>
                      <a:pt x="1611" y="181"/>
                    </a:lnTo>
                    <a:lnTo>
                      <a:pt x="1622" y="159"/>
                    </a:lnTo>
                    <a:lnTo>
                      <a:pt x="1631" y="137"/>
                    </a:lnTo>
                    <a:lnTo>
                      <a:pt x="1636" y="112"/>
                    </a:lnTo>
                    <a:lnTo>
                      <a:pt x="1642" y="85"/>
                    </a:lnTo>
                    <a:lnTo>
                      <a:pt x="1648" y="56"/>
                    </a:lnTo>
                    <a:lnTo>
                      <a:pt x="1655" y="27"/>
                    </a:lnTo>
                    <a:lnTo>
                      <a:pt x="1668" y="17"/>
                    </a:lnTo>
                    <a:lnTo>
                      <a:pt x="1681" y="12"/>
                    </a:lnTo>
                    <a:lnTo>
                      <a:pt x="1693" y="7"/>
                    </a:lnTo>
                    <a:lnTo>
                      <a:pt x="1707" y="4"/>
                    </a:lnTo>
                    <a:lnTo>
                      <a:pt x="1719" y="1"/>
                    </a:lnTo>
                    <a:lnTo>
                      <a:pt x="1735" y="1"/>
                    </a:lnTo>
                    <a:lnTo>
                      <a:pt x="1751" y="1"/>
                    </a:lnTo>
                    <a:lnTo>
                      <a:pt x="1771" y="1"/>
                    </a:lnTo>
                    <a:lnTo>
                      <a:pt x="1903" y="0"/>
                    </a:lnTo>
                    <a:lnTo>
                      <a:pt x="2033" y="11"/>
                    </a:lnTo>
                    <a:lnTo>
                      <a:pt x="2159" y="34"/>
                    </a:lnTo>
                    <a:lnTo>
                      <a:pt x="2280" y="71"/>
                    </a:lnTo>
                    <a:lnTo>
                      <a:pt x="2394" y="119"/>
                    </a:lnTo>
                    <a:lnTo>
                      <a:pt x="2502" y="182"/>
                    </a:lnTo>
                    <a:lnTo>
                      <a:pt x="2602" y="259"/>
                    </a:lnTo>
                    <a:lnTo>
                      <a:pt x="2698" y="352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1" name=""/>
            <p:cNvSpPr/>
            <p:nvPr/>
          </p:nvSpPr>
          <p:spPr>
            <a:xfrm>
              <a:off x="7233480" y="3621960"/>
              <a:ext cx="231480" cy="145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5" y="0"/>
                  </a:moveTo>
                  <a:cubicBezTo>
                    <a:pt x="16" y="108"/>
                    <a:pt x="0" y="83"/>
                    <a:pt x="101" y="96"/>
                  </a:cubicBezTo>
                  <a:cubicBezTo>
                    <a:pt x="109" y="101"/>
                    <a:pt x="116" y="114"/>
                    <a:pt x="125" y="112"/>
                  </a:cubicBezTo>
                  <a:cubicBezTo>
                    <a:pt x="144" y="108"/>
                    <a:pt x="173" y="80"/>
                    <a:pt x="173" y="80"/>
                  </a:cubicBezTo>
                  <a:cubicBezTo>
                    <a:pt x="187" y="38"/>
                    <a:pt x="169" y="44"/>
                    <a:pt x="133" y="32"/>
                  </a:cubicBezTo>
                  <a:cubicBezTo>
                    <a:pt x="35" y="46"/>
                    <a:pt x="108" y="42"/>
                    <a:pt x="45" y="0"/>
                  </a:cubicBezTo>
                  <a:cubicBezTo>
                    <a:pt x="15" y="10"/>
                    <a:pt x="29" y="1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2" name=""/>
          <p:cNvGrpSpPr/>
          <p:nvPr/>
        </p:nvGrpSpPr>
        <p:grpSpPr>
          <a:xfrm>
            <a:off x="1523880" y="3046320"/>
            <a:ext cx="1341720" cy="1527120"/>
            <a:chOff x="1523880" y="3046320"/>
            <a:chExt cx="1341720" cy="1527120"/>
          </a:xfrm>
        </p:grpSpPr>
        <p:grpSp>
          <p:nvGrpSpPr>
            <p:cNvPr id="6233" name=""/>
            <p:cNvGrpSpPr/>
            <p:nvPr/>
          </p:nvGrpSpPr>
          <p:grpSpPr>
            <a:xfrm>
              <a:off x="1523880" y="3046320"/>
              <a:ext cx="1341720" cy="1527120"/>
              <a:chOff x="1523880" y="3046320"/>
              <a:chExt cx="1341720" cy="1527120"/>
            </a:xfrm>
          </p:grpSpPr>
          <p:sp>
            <p:nvSpPr>
              <p:cNvPr id="6234" name=""/>
              <p:cNvSpPr/>
              <p:nvPr/>
            </p:nvSpPr>
            <p:spPr>
              <a:xfrm>
                <a:off x="1523880" y="3090600"/>
                <a:ext cx="1341720" cy="1482480"/>
              </a:xfrm>
              <a:custGeom>
                <a:avLst/>
                <a:gdLst/>
                <a:ahLst/>
                <a:rect l="l" t="t" r="r" b="b"/>
                <a:pathLst>
                  <a:path w="1084" h="1165">
                    <a:moveTo>
                      <a:pt x="544" y="0"/>
                    </a:moveTo>
                    <a:lnTo>
                      <a:pt x="434" y="10"/>
                    </a:lnTo>
                    <a:lnTo>
                      <a:pt x="293" y="45"/>
                    </a:lnTo>
                    <a:lnTo>
                      <a:pt x="151" y="136"/>
                    </a:lnTo>
                    <a:lnTo>
                      <a:pt x="42" y="293"/>
                    </a:lnTo>
                    <a:lnTo>
                      <a:pt x="0" y="541"/>
                    </a:lnTo>
                    <a:lnTo>
                      <a:pt x="0" y="541"/>
                    </a:lnTo>
                    <a:lnTo>
                      <a:pt x="0" y="576"/>
                    </a:lnTo>
                    <a:lnTo>
                      <a:pt x="3" y="615"/>
                    </a:lnTo>
                    <a:lnTo>
                      <a:pt x="6" y="647"/>
                    </a:lnTo>
                    <a:lnTo>
                      <a:pt x="13" y="682"/>
                    </a:lnTo>
                    <a:lnTo>
                      <a:pt x="19" y="715"/>
                    </a:lnTo>
                    <a:lnTo>
                      <a:pt x="29" y="744"/>
                    </a:lnTo>
                    <a:lnTo>
                      <a:pt x="35" y="773"/>
                    </a:lnTo>
                    <a:lnTo>
                      <a:pt x="48" y="801"/>
                    </a:lnTo>
                    <a:lnTo>
                      <a:pt x="58" y="827"/>
                    </a:lnTo>
                    <a:lnTo>
                      <a:pt x="71" y="853"/>
                    </a:lnTo>
                    <a:lnTo>
                      <a:pt x="84" y="879"/>
                    </a:lnTo>
                    <a:lnTo>
                      <a:pt x="96" y="901"/>
                    </a:lnTo>
                    <a:lnTo>
                      <a:pt x="109" y="924"/>
                    </a:lnTo>
                    <a:lnTo>
                      <a:pt x="125" y="943"/>
                    </a:lnTo>
                    <a:lnTo>
                      <a:pt x="142" y="966"/>
                    </a:lnTo>
                    <a:lnTo>
                      <a:pt x="154" y="982"/>
                    </a:lnTo>
                    <a:lnTo>
                      <a:pt x="170" y="1001"/>
                    </a:lnTo>
                    <a:lnTo>
                      <a:pt x="187" y="1017"/>
                    </a:lnTo>
                    <a:lnTo>
                      <a:pt x="206" y="1033"/>
                    </a:lnTo>
                    <a:lnTo>
                      <a:pt x="222" y="1046"/>
                    </a:lnTo>
                    <a:lnTo>
                      <a:pt x="238" y="1062"/>
                    </a:lnTo>
                    <a:lnTo>
                      <a:pt x="254" y="1072"/>
                    </a:lnTo>
                    <a:lnTo>
                      <a:pt x="270" y="1085"/>
                    </a:lnTo>
                    <a:lnTo>
                      <a:pt x="286" y="1094"/>
                    </a:lnTo>
                    <a:lnTo>
                      <a:pt x="302" y="1104"/>
                    </a:lnTo>
                    <a:lnTo>
                      <a:pt x="315" y="1114"/>
                    </a:lnTo>
                    <a:lnTo>
                      <a:pt x="331" y="1123"/>
                    </a:lnTo>
                    <a:lnTo>
                      <a:pt x="344" y="1130"/>
                    </a:lnTo>
                    <a:lnTo>
                      <a:pt x="357" y="1136"/>
                    </a:lnTo>
                    <a:lnTo>
                      <a:pt x="370" y="1142"/>
                    </a:lnTo>
                    <a:lnTo>
                      <a:pt x="383" y="1149"/>
                    </a:lnTo>
                    <a:lnTo>
                      <a:pt x="396" y="1152"/>
                    </a:lnTo>
                    <a:lnTo>
                      <a:pt x="405" y="1155"/>
                    </a:lnTo>
                    <a:lnTo>
                      <a:pt x="415" y="1159"/>
                    </a:lnTo>
                    <a:lnTo>
                      <a:pt x="421" y="1162"/>
                    </a:lnTo>
                    <a:lnTo>
                      <a:pt x="428" y="1162"/>
                    </a:lnTo>
                    <a:lnTo>
                      <a:pt x="434" y="1165"/>
                    </a:lnTo>
                    <a:lnTo>
                      <a:pt x="437" y="1165"/>
                    </a:lnTo>
                    <a:lnTo>
                      <a:pt x="441" y="1165"/>
                    </a:lnTo>
                    <a:lnTo>
                      <a:pt x="441" y="1165"/>
                    </a:lnTo>
                    <a:lnTo>
                      <a:pt x="476" y="1165"/>
                    </a:lnTo>
                    <a:lnTo>
                      <a:pt x="518" y="1159"/>
                    </a:lnTo>
                    <a:lnTo>
                      <a:pt x="553" y="1142"/>
                    </a:lnTo>
                    <a:lnTo>
                      <a:pt x="553" y="1142"/>
                    </a:lnTo>
                    <a:lnTo>
                      <a:pt x="579" y="1130"/>
                    </a:lnTo>
                    <a:lnTo>
                      <a:pt x="614" y="1126"/>
                    </a:lnTo>
                    <a:lnTo>
                      <a:pt x="653" y="1130"/>
                    </a:lnTo>
                    <a:lnTo>
                      <a:pt x="688" y="1136"/>
                    </a:lnTo>
                    <a:lnTo>
                      <a:pt x="688" y="1136"/>
                    </a:lnTo>
                    <a:lnTo>
                      <a:pt x="727" y="1142"/>
                    </a:lnTo>
                    <a:lnTo>
                      <a:pt x="788" y="1107"/>
                    </a:lnTo>
                    <a:lnTo>
                      <a:pt x="910" y="988"/>
                    </a:lnTo>
                    <a:lnTo>
                      <a:pt x="910" y="988"/>
                    </a:lnTo>
                    <a:lnTo>
                      <a:pt x="926" y="969"/>
                    </a:lnTo>
                    <a:lnTo>
                      <a:pt x="942" y="949"/>
                    </a:lnTo>
                    <a:lnTo>
                      <a:pt x="959" y="927"/>
                    </a:lnTo>
                    <a:lnTo>
                      <a:pt x="971" y="901"/>
                    </a:lnTo>
                    <a:lnTo>
                      <a:pt x="988" y="875"/>
                    </a:lnTo>
                    <a:lnTo>
                      <a:pt x="1000" y="850"/>
                    </a:lnTo>
                    <a:lnTo>
                      <a:pt x="1013" y="821"/>
                    </a:lnTo>
                    <a:lnTo>
                      <a:pt x="1026" y="792"/>
                    </a:lnTo>
                    <a:lnTo>
                      <a:pt x="1036" y="760"/>
                    </a:lnTo>
                    <a:lnTo>
                      <a:pt x="1045" y="727"/>
                    </a:lnTo>
                    <a:lnTo>
                      <a:pt x="1055" y="695"/>
                    </a:lnTo>
                    <a:lnTo>
                      <a:pt x="1065" y="660"/>
                    </a:lnTo>
                    <a:lnTo>
                      <a:pt x="1071" y="628"/>
                    </a:lnTo>
                    <a:lnTo>
                      <a:pt x="1074" y="592"/>
                    </a:lnTo>
                    <a:lnTo>
                      <a:pt x="1081" y="557"/>
                    </a:lnTo>
                    <a:lnTo>
                      <a:pt x="1084" y="522"/>
                    </a:lnTo>
                    <a:lnTo>
                      <a:pt x="1084" y="486"/>
                    </a:lnTo>
                    <a:lnTo>
                      <a:pt x="1084" y="451"/>
                    </a:lnTo>
                    <a:lnTo>
                      <a:pt x="1081" y="419"/>
                    </a:lnTo>
                    <a:lnTo>
                      <a:pt x="1078" y="383"/>
                    </a:lnTo>
                    <a:lnTo>
                      <a:pt x="1071" y="351"/>
                    </a:lnTo>
                    <a:lnTo>
                      <a:pt x="1061" y="316"/>
                    </a:lnTo>
                    <a:lnTo>
                      <a:pt x="1052" y="283"/>
                    </a:lnTo>
                    <a:lnTo>
                      <a:pt x="1039" y="255"/>
                    </a:lnTo>
                    <a:lnTo>
                      <a:pt x="1026" y="222"/>
                    </a:lnTo>
                    <a:lnTo>
                      <a:pt x="1010" y="197"/>
                    </a:lnTo>
                    <a:lnTo>
                      <a:pt x="991" y="168"/>
                    </a:lnTo>
                    <a:lnTo>
                      <a:pt x="968" y="142"/>
                    </a:lnTo>
                    <a:lnTo>
                      <a:pt x="946" y="119"/>
                    </a:lnTo>
                    <a:lnTo>
                      <a:pt x="917" y="97"/>
                    </a:lnTo>
                    <a:lnTo>
                      <a:pt x="888" y="74"/>
                    </a:lnTo>
                    <a:lnTo>
                      <a:pt x="856" y="58"/>
                    </a:lnTo>
                    <a:lnTo>
                      <a:pt x="820" y="42"/>
                    </a:lnTo>
                    <a:lnTo>
                      <a:pt x="782" y="29"/>
                    </a:lnTo>
                    <a:lnTo>
                      <a:pt x="740" y="16"/>
                    </a:lnTo>
                    <a:lnTo>
                      <a:pt x="698" y="7"/>
                    </a:lnTo>
                    <a:lnTo>
                      <a:pt x="650" y="4"/>
                    </a:lnTo>
                    <a:lnTo>
                      <a:pt x="598" y="0"/>
                    </a:lnTo>
                    <a:lnTo>
                      <a:pt x="544" y="0"/>
                    </a:lnTo>
                    <a:close/>
                  </a:path>
                </a:pathLst>
              </a:custGeom>
              <a:solidFill>
                <a:srgbClr val="ff505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1658880" y="3393720"/>
                <a:ext cx="60480" cy="167760"/>
              </a:xfrm>
              <a:custGeom>
                <a:avLst/>
                <a:gdLst/>
                <a:ahLst/>
                <a:rect l="l" t="t" r="r" b="b"/>
                <a:pathLst>
                  <a:path w="49" h="132">
                    <a:moveTo>
                      <a:pt x="49" y="0"/>
                    </a:moveTo>
                    <a:lnTo>
                      <a:pt x="45" y="7"/>
                    </a:lnTo>
                    <a:lnTo>
                      <a:pt x="36" y="23"/>
                    </a:lnTo>
                    <a:lnTo>
                      <a:pt x="20" y="49"/>
                    </a:lnTo>
                    <a:lnTo>
                      <a:pt x="10" y="84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4" y="116"/>
                    </a:lnTo>
                    <a:lnTo>
                      <a:pt x="16" y="74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1563120" y="3398400"/>
                <a:ext cx="91440" cy="474480"/>
              </a:xfrm>
              <a:custGeom>
                <a:avLst/>
                <a:gdLst/>
                <a:ahLst/>
                <a:rect l="l" t="t" r="r" b="b"/>
                <a:pathLst>
                  <a:path w="74" h="373">
                    <a:moveTo>
                      <a:pt x="74" y="0"/>
                    </a:moveTo>
                    <a:lnTo>
                      <a:pt x="71" y="6"/>
                    </a:lnTo>
                    <a:lnTo>
                      <a:pt x="61" y="22"/>
                    </a:lnTo>
                    <a:lnTo>
                      <a:pt x="45" y="51"/>
                    </a:lnTo>
                    <a:lnTo>
                      <a:pt x="32" y="83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7" y="186"/>
                    </a:lnTo>
                    <a:lnTo>
                      <a:pt x="0" y="270"/>
                    </a:lnTo>
                    <a:lnTo>
                      <a:pt x="7" y="373"/>
                    </a:lnTo>
                    <a:lnTo>
                      <a:pt x="7" y="373"/>
                    </a:lnTo>
                    <a:lnTo>
                      <a:pt x="3" y="309"/>
                    </a:lnTo>
                    <a:lnTo>
                      <a:pt x="19" y="15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1730520" y="3090600"/>
                <a:ext cx="975240" cy="204840"/>
              </a:xfrm>
              <a:custGeom>
                <a:avLst/>
                <a:gdLst/>
                <a:ahLst/>
                <a:rect l="l" t="t" r="r" b="b"/>
                <a:pathLst>
                  <a:path w="788" h="161">
                    <a:moveTo>
                      <a:pt x="788" y="161"/>
                    </a:moveTo>
                    <a:lnTo>
                      <a:pt x="779" y="152"/>
                    </a:lnTo>
                    <a:lnTo>
                      <a:pt x="766" y="139"/>
                    </a:lnTo>
                    <a:lnTo>
                      <a:pt x="756" y="129"/>
                    </a:lnTo>
                    <a:lnTo>
                      <a:pt x="743" y="119"/>
                    </a:lnTo>
                    <a:lnTo>
                      <a:pt x="730" y="110"/>
                    </a:lnTo>
                    <a:lnTo>
                      <a:pt x="714" y="100"/>
                    </a:lnTo>
                    <a:lnTo>
                      <a:pt x="701" y="90"/>
                    </a:lnTo>
                    <a:lnTo>
                      <a:pt x="685" y="84"/>
                    </a:lnTo>
                    <a:lnTo>
                      <a:pt x="666" y="74"/>
                    </a:lnTo>
                    <a:lnTo>
                      <a:pt x="650" y="68"/>
                    </a:lnTo>
                    <a:lnTo>
                      <a:pt x="631" y="65"/>
                    </a:lnTo>
                    <a:lnTo>
                      <a:pt x="631" y="65"/>
                    </a:lnTo>
                    <a:lnTo>
                      <a:pt x="592" y="68"/>
                    </a:lnTo>
                    <a:lnTo>
                      <a:pt x="547" y="87"/>
                    </a:lnTo>
                    <a:lnTo>
                      <a:pt x="483" y="136"/>
                    </a:lnTo>
                    <a:lnTo>
                      <a:pt x="483" y="136"/>
                    </a:lnTo>
                    <a:lnTo>
                      <a:pt x="470" y="145"/>
                    </a:lnTo>
                    <a:lnTo>
                      <a:pt x="454" y="152"/>
                    </a:lnTo>
                    <a:lnTo>
                      <a:pt x="444" y="145"/>
                    </a:lnTo>
                    <a:lnTo>
                      <a:pt x="444" y="145"/>
                    </a:lnTo>
                    <a:lnTo>
                      <a:pt x="438" y="126"/>
                    </a:lnTo>
                    <a:lnTo>
                      <a:pt x="457" y="90"/>
                    </a:lnTo>
                    <a:lnTo>
                      <a:pt x="528" y="33"/>
                    </a:lnTo>
                    <a:lnTo>
                      <a:pt x="528" y="33"/>
                    </a:lnTo>
                    <a:lnTo>
                      <a:pt x="560" y="13"/>
                    </a:lnTo>
                    <a:lnTo>
                      <a:pt x="537" y="10"/>
                    </a:lnTo>
                    <a:lnTo>
                      <a:pt x="476" y="4"/>
                    </a:lnTo>
                    <a:lnTo>
                      <a:pt x="389" y="0"/>
                    </a:lnTo>
                    <a:lnTo>
                      <a:pt x="290" y="7"/>
                    </a:lnTo>
                    <a:lnTo>
                      <a:pt x="193" y="26"/>
                    </a:lnTo>
                    <a:lnTo>
                      <a:pt x="193" y="26"/>
                    </a:lnTo>
                    <a:lnTo>
                      <a:pt x="200" y="23"/>
                    </a:lnTo>
                    <a:lnTo>
                      <a:pt x="216" y="20"/>
                    </a:lnTo>
                    <a:lnTo>
                      <a:pt x="242" y="26"/>
                    </a:lnTo>
                    <a:lnTo>
                      <a:pt x="270" y="52"/>
                    </a:lnTo>
                    <a:lnTo>
                      <a:pt x="306" y="107"/>
                    </a:lnTo>
                    <a:lnTo>
                      <a:pt x="306" y="107"/>
                    </a:lnTo>
                    <a:lnTo>
                      <a:pt x="303" y="103"/>
                    </a:lnTo>
                    <a:lnTo>
                      <a:pt x="299" y="97"/>
                    </a:lnTo>
                    <a:lnTo>
                      <a:pt x="290" y="87"/>
                    </a:lnTo>
                    <a:lnTo>
                      <a:pt x="277" y="78"/>
                    </a:lnTo>
                    <a:lnTo>
                      <a:pt x="264" y="65"/>
                    </a:lnTo>
                    <a:lnTo>
                      <a:pt x="254" y="52"/>
                    </a:lnTo>
                    <a:lnTo>
                      <a:pt x="242" y="42"/>
                    </a:lnTo>
                    <a:lnTo>
                      <a:pt x="235" y="36"/>
                    </a:lnTo>
                    <a:lnTo>
                      <a:pt x="229" y="36"/>
                    </a:lnTo>
                    <a:lnTo>
                      <a:pt x="229" y="36"/>
                    </a:lnTo>
                    <a:lnTo>
                      <a:pt x="232" y="39"/>
                    </a:lnTo>
                    <a:lnTo>
                      <a:pt x="235" y="42"/>
                    </a:lnTo>
                    <a:lnTo>
                      <a:pt x="245" y="52"/>
                    </a:lnTo>
                    <a:lnTo>
                      <a:pt x="254" y="65"/>
                    </a:lnTo>
                    <a:lnTo>
                      <a:pt x="264" y="78"/>
                    </a:lnTo>
                    <a:lnTo>
                      <a:pt x="277" y="94"/>
                    </a:lnTo>
                    <a:lnTo>
                      <a:pt x="287" y="110"/>
                    </a:lnTo>
                    <a:lnTo>
                      <a:pt x="296" y="126"/>
                    </a:lnTo>
                    <a:lnTo>
                      <a:pt x="306" y="139"/>
                    </a:lnTo>
                    <a:lnTo>
                      <a:pt x="309" y="152"/>
                    </a:lnTo>
                    <a:lnTo>
                      <a:pt x="309" y="152"/>
                    </a:lnTo>
                    <a:lnTo>
                      <a:pt x="306" y="148"/>
                    </a:lnTo>
                    <a:lnTo>
                      <a:pt x="299" y="136"/>
                    </a:lnTo>
                    <a:lnTo>
                      <a:pt x="287" y="123"/>
                    </a:lnTo>
                    <a:lnTo>
                      <a:pt x="274" y="107"/>
                    </a:lnTo>
                    <a:lnTo>
                      <a:pt x="258" y="87"/>
                    </a:lnTo>
                    <a:lnTo>
                      <a:pt x="242" y="71"/>
                    </a:lnTo>
                    <a:lnTo>
                      <a:pt x="225" y="58"/>
                    </a:lnTo>
                    <a:lnTo>
                      <a:pt x="213" y="52"/>
                    </a:lnTo>
                    <a:lnTo>
                      <a:pt x="213" y="52"/>
                    </a:lnTo>
                    <a:lnTo>
                      <a:pt x="174" y="39"/>
                    </a:lnTo>
                    <a:lnTo>
                      <a:pt x="184" y="45"/>
                    </a:lnTo>
                    <a:lnTo>
                      <a:pt x="203" y="58"/>
                    </a:lnTo>
                    <a:lnTo>
                      <a:pt x="229" y="81"/>
                    </a:lnTo>
                    <a:lnTo>
                      <a:pt x="248" y="100"/>
                    </a:lnTo>
                    <a:lnTo>
                      <a:pt x="248" y="100"/>
                    </a:lnTo>
                    <a:lnTo>
                      <a:pt x="242" y="97"/>
                    </a:lnTo>
                    <a:lnTo>
                      <a:pt x="225" y="87"/>
                    </a:lnTo>
                    <a:lnTo>
                      <a:pt x="200" y="74"/>
                    </a:lnTo>
                    <a:lnTo>
                      <a:pt x="174" y="65"/>
                    </a:lnTo>
                    <a:lnTo>
                      <a:pt x="148" y="62"/>
                    </a:lnTo>
                    <a:lnTo>
                      <a:pt x="148" y="62"/>
                    </a:lnTo>
                    <a:lnTo>
                      <a:pt x="164" y="68"/>
                    </a:lnTo>
                    <a:lnTo>
                      <a:pt x="203" y="84"/>
                    </a:lnTo>
                    <a:lnTo>
                      <a:pt x="242" y="116"/>
                    </a:lnTo>
                    <a:lnTo>
                      <a:pt x="242" y="116"/>
                    </a:lnTo>
                    <a:lnTo>
                      <a:pt x="232" y="113"/>
                    </a:lnTo>
                    <a:lnTo>
                      <a:pt x="209" y="107"/>
                    </a:lnTo>
                    <a:lnTo>
                      <a:pt x="174" y="103"/>
                    </a:lnTo>
                    <a:lnTo>
                      <a:pt x="132" y="103"/>
                    </a:lnTo>
                    <a:lnTo>
                      <a:pt x="87" y="110"/>
                    </a:lnTo>
                    <a:lnTo>
                      <a:pt x="42" y="12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3" y="158"/>
                    </a:lnTo>
                    <a:lnTo>
                      <a:pt x="10" y="152"/>
                    </a:lnTo>
                    <a:lnTo>
                      <a:pt x="23" y="145"/>
                    </a:lnTo>
                    <a:lnTo>
                      <a:pt x="42" y="136"/>
                    </a:lnTo>
                    <a:lnTo>
                      <a:pt x="65" y="126"/>
                    </a:lnTo>
                    <a:lnTo>
                      <a:pt x="94" y="116"/>
                    </a:lnTo>
                    <a:lnTo>
                      <a:pt x="126" y="110"/>
                    </a:lnTo>
                    <a:lnTo>
                      <a:pt x="161" y="110"/>
                    </a:lnTo>
                    <a:lnTo>
                      <a:pt x="203" y="113"/>
                    </a:lnTo>
                    <a:lnTo>
                      <a:pt x="203" y="113"/>
                    </a:lnTo>
                    <a:lnTo>
                      <a:pt x="174" y="113"/>
                    </a:lnTo>
                    <a:lnTo>
                      <a:pt x="106" y="126"/>
                    </a:lnTo>
                    <a:lnTo>
                      <a:pt x="29" y="161"/>
                    </a:lnTo>
                    <a:lnTo>
                      <a:pt x="29" y="161"/>
                    </a:lnTo>
                    <a:lnTo>
                      <a:pt x="42" y="161"/>
                    </a:lnTo>
                    <a:lnTo>
                      <a:pt x="61" y="148"/>
                    </a:lnTo>
                    <a:lnTo>
                      <a:pt x="81" y="139"/>
                    </a:lnTo>
                    <a:lnTo>
                      <a:pt x="100" y="136"/>
                    </a:lnTo>
                    <a:lnTo>
                      <a:pt x="100" y="136"/>
                    </a:lnTo>
                    <a:lnTo>
                      <a:pt x="94" y="139"/>
                    </a:lnTo>
                    <a:lnTo>
                      <a:pt x="81" y="148"/>
                    </a:lnTo>
                    <a:lnTo>
                      <a:pt x="61" y="161"/>
                    </a:lnTo>
                    <a:lnTo>
                      <a:pt x="61" y="161"/>
                    </a:lnTo>
                    <a:lnTo>
                      <a:pt x="74" y="161"/>
                    </a:lnTo>
                    <a:lnTo>
                      <a:pt x="97" y="152"/>
                    </a:lnTo>
                    <a:lnTo>
                      <a:pt x="122" y="142"/>
                    </a:lnTo>
                    <a:lnTo>
                      <a:pt x="148" y="136"/>
                    </a:lnTo>
                    <a:lnTo>
                      <a:pt x="148" y="136"/>
                    </a:lnTo>
                    <a:lnTo>
                      <a:pt x="142" y="139"/>
                    </a:lnTo>
                    <a:lnTo>
                      <a:pt x="119" y="145"/>
                    </a:lnTo>
                    <a:lnTo>
                      <a:pt x="94" y="161"/>
                    </a:lnTo>
                    <a:lnTo>
                      <a:pt x="94" y="161"/>
                    </a:lnTo>
                    <a:lnTo>
                      <a:pt x="110" y="161"/>
                    </a:lnTo>
                    <a:lnTo>
                      <a:pt x="116" y="158"/>
                    </a:lnTo>
                    <a:lnTo>
                      <a:pt x="126" y="155"/>
                    </a:lnTo>
                    <a:lnTo>
                      <a:pt x="132" y="152"/>
                    </a:lnTo>
                    <a:lnTo>
                      <a:pt x="132" y="152"/>
                    </a:lnTo>
                    <a:lnTo>
                      <a:pt x="122" y="161"/>
                    </a:lnTo>
                    <a:lnTo>
                      <a:pt x="139" y="161"/>
                    </a:lnTo>
                    <a:lnTo>
                      <a:pt x="142" y="161"/>
                    </a:lnTo>
                    <a:lnTo>
                      <a:pt x="145" y="158"/>
                    </a:lnTo>
                    <a:lnTo>
                      <a:pt x="151" y="158"/>
                    </a:lnTo>
                    <a:lnTo>
                      <a:pt x="151" y="158"/>
                    </a:lnTo>
                    <a:lnTo>
                      <a:pt x="148" y="161"/>
                    </a:lnTo>
                    <a:lnTo>
                      <a:pt x="164" y="161"/>
                    </a:lnTo>
                    <a:lnTo>
                      <a:pt x="174" y="158"/>
                    </a:lnTo>
                    <a:lnTo>
                      <a:pt x="180" y="155"/>
                    </a:lnTo>
                    <a:lnTo>
                      <a:pt x="190" y="155"/>
                    </a:lnTo>
                    <a:lnTo>
                      <a:pt x="190" y="155"/>
                    </a:lnTo>
                    <a:lnTo>
                      <a:pt x="184" y="161"/>
                    </a:lnTo>
                    <a:lnTo>
                      <a:pt x="196" y="161"/>
                    </a:lnTo>
                    <a:lnTo>
                      <a:pt x="200" y="161"/>
                    </a:lnTo>
                    <a:lnTo>
                      <a:pt x="203" y="161"/>
                    </a:lnTo>
                    <a:lnTo>
                      <a:pt x="209" y="161"/>
                    </a:lnTo>
                    <a:lnTo>
                      <a:pt x="209" y="161"/>
                    </a:lnTo>
                    <a:lnTo>
                      <a:pt x="206" y="161"/>
                    </a:lnTo>
                    <a:lnTo>
                      <a:pt x="213" y="161"/>
                    </a:lnTo>
                    <a:lnTo>
                      <a:pt x="219" y="161"/>
                    </a:lnTo>
                    <a:lnTo>
                      <a:pt x="222" y="158"/>
                    </a:lnTo>
                    <a:lnTo>
                      <a:pt x="225" y="158"/>
                    </a:lnTo>
                    <a:lnTo>
                      <a:pt x="225" y="158"/>
                    </a:lnTo>
                    <a:lnTo>
                      <a:pt x="225" y="158"/>
                    </a:lnTo>
                    <a:lnTo>
                      <a:pt x="222" y="161"/>
                    </a:lnTo>
                    <a:lnTo>
                      <a:pt x="222" y="161"/>
                    </a:lnTo>
                    <a:lnTo>
                      <a:pt x="222" y="161"/>
                    </a:lnTo>
                    <a:lnTo>
                      <a:pt x="480" y="161"/>
                    </a:lnTo>
                    <a:lnTo>
                      <a:pt x="486" y="158"/>
                    </a:lnTo>
                    <a:lnTo>
                      <a:pt x="492" y="155"/>
                    </a:lnTo>
                    <a:lnTo>
                      <a:pt x="499" y="152"/>
                    </a:lnTo>
                    <a:lnTo>
                      <a:pt x="499" y="152"/>
                    </a:lnTo>
                    <a:lnTo>
                      <a:pt x="508" y="136"/>
                    </a:lnTo>
                    <a:lnTo>
                      <a:pt x="525" y="116"/>
                    </a:lnTo>
                    <a:lnTo>
                      <a:pt x="544" y="97"/>
                    </a:lnTo>
                    <a:lnTo>
                      <a:pt x="570" y="81"/>
                    </a:lnTo>
                    <a:lnTo>
                      <a:pt x="602" y="78"/>
                    </a:lnTo>
                    <a:lnTo>
                      <a:pt x="602" y="78"/>
                    </a:lnTo>
                    <a:lnTo>
                      <a:pt x="653" y="84"/>
                    </a:lnTo>
                    <a:lnTo>
                      <a:pt x="711" y="107"/>
                    </a:lnTo>
                    <a:lnTo>
                      <a:pt x="775" y="161"/>
                    </a:lnTo>
                    <a:lnTo>
                      <a:pt x="775" y="161"/>
                    </a:lnTo>
                    <a:lnTo>
                      <a:pt x="78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1699560" y="3295440"/>
                <a:ext cx="82800" cy="6984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54" y="0"/>
                    </a:moveTo>
                    <a:lnTo>
                      <a:pt x="32" y="16"/>
                    </a:lnTo>
                    <a:lnTo>
                      <a:pt x="16" y="3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9" y="45"/>
                    </a:lnTo>
                    <a:lnTo>
                      <a:pt x="35" y="26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1722960" y="3295440"/>
                <a:ext cx="99000" cy="82800"/>
              </a:xfrm>
              <a:custGeom>
                <a:avLst/>
                <a:gdLst/>
                <a:ahLst/>
                <a:rect l="l" t="t" r="r" b="b"/>
                <a:pathLst>
                  <a:path w="80" h="65">
                    <a:moveTo>
                      <a:pt x="67" y="0"/>
                    </a:moveTo>
                    <a:lnTo>
                      <a:pt x="51" y="13"/>
                    </a:lnTo>
                    <a:lnTo>
                      <a:pt x="35" y="26"/>
                    </a:lnTo>
                    <a:lnTo>
                      <a:pt x="19" y="39"/>
                    </a:lnTo>
                    <a:lnTo>
                      <a:pt x="9" y="5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9" y="55"/>
                    </a:lnTo>
                    <a:lnTo>
                      <a:pt x="38" y="29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1746720" y="3295440"/>
                <a:ext cx="119880" cy="10656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81" y="0"/>
                    </a:moveTo>
                    <a:lnTo>
                      <a:pt x="64" y="13"/>
                    </a:lnTo>
                    <a:lnTo>
                      <a:pt x="48" y="26"/>
                    </a:lnTo>
                    <a:lnTo>
                      <a:pt x="32" y="42"/>
                    </a:lnTo>
                    <a:lnTo>
                      <a:pt x="16" y="61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3" y="81"/>
                    </a:lnTo>
                    <a:lnTo>
                      <a:pt x="16" y="68"/>
                    </a:lnTo>
                    <a:lnTo>
                      <a:pt x="29" y="52"/>
                    </a:lnTo>
                    <a:lnTo>
                      <a:pt x="48" y="36"/>
                    </a:lnTo>
                    <a:lnTo>
                      <a:pt x="71" y="16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1854360" y="3295440"/>
                <a:ext cx="48240" cy="3312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2" y="0"/>
                    </a:moveTo>
                    <a:lnTo>
                      <a:pt x="0" y="26"/>
                    </a:lnTo>
                    <a:lnTo>
                      <a:pt x="6" y="23"/>
                    </a:lnTo>
                    <a:lnTo>
                      <a:pt x="1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1893960" y="3295440"/>
                <a:ext cx="39240" cy="3312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16" y="0"/>
                    </a:moveTo>
                    <a:lnTo>
                      <a:pt x="0" y="26"/>
                    </a:lnTo>
                    <a:lnTo>
                      <a:pt x="7" y="20"/>
                    </a:lnTo>
                    <a:lnTo>
                      <a:pt x="16" y="1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1929960" y="329544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3" y="0"/>
                    </a:moveTo>
                    <a:lnTo>
                      <a:pt x="0" y="23"/>
                    </a:lnTo>
                    <a:lnTo>
                      <a:pt x="3" y="20"/>
                    </a:lnTo>
                    <a:lnTo>
                      <a:pt x="16" y="1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1962000" y="329544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9" y="0"/>
                    </a:moveTo>
                    <a:lnTo>
                      <a:pt x="0" y="20"/>
                    </a:lnTo>
                    <a:lnTo>
                      <a:pt x="3" y="16"/>
                    </a:lnTo>
                    <a:lnTo>
                      <a:pt x="16" y="1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1978200" y="3295440"/>
                <a:ext cx="346320" cy="45720"/>
              </a:xfrm>
              <a:custGeom>
                <a:avLst/>
                <a:gdLst/>
                <a:ahLst/>
                <a:rect l="l" t="t" r="r" b="b"/>
                <a:pathLst>
                  <a:path w="280" h="36">
                    <a:moveTo>
                      <a:pt x="22" y="0"/>
                    </a:moveTo>
                    <a:lnTo>
                      <a:pt x="16" y="10"/>
                    </a:lnTo>
                    <a:lnTo>
                      <a:pt x="6" y="2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9" y="26"/>
                    </a:lnTo>
                    <a:lnTo>
                      <a:pt x="32" y="13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80" y="10"/>
                    </a:lnTo>
                    <a:lnTo>
                      <a:pt x="96" y="10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19" y="16"/>
                    </a:lnTo>
                    <a:lnTo>
                      <a:pt x="151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93" y="13"/>
                    </a:lnTo>
                    <a:lnTo>
                      <a:pt x="212" y="10"/>
                    </a:lnTo>
                    <a:lnTo>
                      <a:pt x="225" y="10"/>
                    </a:lnTo>
                    <a:lnTo>
                      <a:pt x="225" y="10"/>
                    </a:lnTo>
                    <a:lnTo>
                      <a:pt x="241" y="10"/>
                    </a:lnTo>
                    <a:lnTo>
                      <a:pt x="260" y="7"/>
                    </a:lnTo>
                    <a:lnTo>
                      <a:pt x="280" y="0"/>
                    </a:lnTo>
                    <a:lnTo>
                      <a:pt x="28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2689920" y="3295440"/>
                <a:ext cx="104040" cy="188280"/>
              </a:xfrm>
              <a:custGeom>
                <a:avLst/>
                <a:gdLst/>
                <a:ahLst/>
                <a:rect l="l" t="t" r="r" b="b"/>
                <a:pathLst>
                  <a:path w="84" h="148">
                    <a:moveTo>
                      <a:pt x="0" y="0"/>
                    </a:moveTo>
                    <a:lnTo>
                      <a:pt x="13" y="16"/>
                    </a:lnTo>
                    <a:lnTo>
                      <a:pt x="26" y="32"/>
                    </a:lnTo>
                    <a:lnTo>
                      <a:pt x="39" y="52"/>
                    </a:lnTo>
                    <a:lnTo>
                      <a:pt x="49" y="74"/>
                    </a:lnTo>
                    <a:lnTo>
                      <a:pt x="62" y="97"/>
                    </a:lnTo>
                    <a:lnTo>
                      <a:pt x="71" y="122"/>
                    </a:lnTo>
                    <a:lnTo>
                      <a:pt x="84" y="148"/>
                    </a:lnTo>
                    <a:lnTo>
                      <a:pt x="84" y="148"/>
                    </a:lnTo>
                    <a:lnTo>
                      <a:pt x="78" y="126"/>
                    </a:lnTo>
                    <a:lnTo>
                      <a:pt x="55" y="7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2674800" y="3321000"/>
                <a:ext cx="86400" cy="138600"/>
              </a:xfrm>
              <a:custGeom>
                <a:avLst/>
                <a:gdLst/>
                <a:ahLst/>
                <a:rect l="l" t="t" r="r" b="b"/>
                <a:pathLst>
                  <a:path w="70" h="109">
                    <a:moveTo>
                      <a:pt x="0" y="0"/>
                    </a:moveTo>
                    <a:lnTo>
                      <a:pt x="12" y="9"/>
                    </a:lnTo>
                    <a:lnTo>
                      <a:pt x="38" y="45"/>
                    </a:lnTo>
                    <a:lnTo>
                      <a:pt x="70" y="109"/>
                    </a:lnTo>
                    <a:lnTo>
                      <a:pt x="70" y="109"/>
                    </a:lnTo>
                    <a:lnTo>
                      <a:pt x="64" y="96"/>
                    </a:lnTo>
                    <a:lnTo>
                      <a:pt x="48" y="67"/>
                    </a:lnTo>
                    <a:lnTo>
                      <a:pt x="2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2738160" y="3803400"/>
                <a:ext cx="39240" cy="241560"/>
              </a:xfrm>
              <a:custGeom>
                <a:avLst/>
                <a:gdLst/>
                <a:ahLst/>
                <a:rect l="l" t="t" r="r" b="b"/>
                <a:pathLst>
                  <a:path w="32" h="190">
                    <a:moveTo>
                      <a:pt x="32" y="0"/>
                    </a:moveTo>
                    <a:lnTo>
                      <a:pt x="29" y="36"/>
                    </a:lnTo>
                    <a:lnTo>
                      <a:pt x="16" y="113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7" y="180"/>
                    </a:lnTo>
                    <a:lnTo>
                      <a:pt x="16" y="151"/>
                    </a:lnTo>
                    <a:lnTo>
                      <a:pt x="26" y="110"/>
                    </a:lnTo>
                    <a:lnTo>
                      <a:pt x="32" y="5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2702160" y="4061880"/>
                <a:ext cx="35640" cy="142560"/>
              </a:xfrm>
              <a:custGeom>
                <a:avLst/>
                <a:gdLst/>
                <a:ahLst/>
                <a:rect l="l" t="t" r="r" b="b"/>
                <a:pathLst>
                  <a:path w="29" h="112">
                    <a:moveTo>
                      <a:pt x="29" y="0"/>
                    </a:moveTo>
                    <a:lnTo>
                      <a:pt x="26" y="22"/>
                    </a:lnTo>
                    <a:lnTo>
                      <a:pt x="13" y="74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10" y="96"/>
                    </a:lnTo>
                    <a:lnTo>
                      <a:pt x="23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1599120" y="4155840"/>
                <a:ext cx="114840" cy="164160"/>
              </a:xfrm>
              <a:custGeom>
                <a:avLst/>
                <a:gdLst/>
                <a:ahLst/>
                <a:rect l="l" t="t" r="r" b="b"/>
                <a:pathLst>
                  <a:path w="93" h="129">
                    <a:moveTo>
                      <a:pt x="81" y="129"/>
                    </a:moveTo>
                    <a:lnTo>
                      <a:pt x="68" y="112"/>
                    </a:lnTo>
                    <a:lnTo>
                      <a:pt x="55" y="96"/>
                    </a:lnTo>
                    <a:lnTo>
                      <a:pt x="45" y="80"/>
                    </a:lnTo>
                    <a:lnTo>
                      <a:pt x="32" y="61"/>
                    </a:lnTo>
                    <a:lnTo>
                      <a:pt x="23" y="42"/>
                    </a:lnTo>
                    <a:lnTo>
                      <a:pt x="13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9" y="29"/>
                    </a:lnTo>
                    <a:lnTo>
                      <a:pt x="39" y="58"/>
                    </a:lnTo>
                    <a:lnTo>
                      <a:pt x="64" y="93"/>
                    </a:lnTo>
                    <a:lnTo>
                      <a:pt x="93" y="129"/>
                    </a:lnTo>
                    <a:lnTo>
                      <a:pt x="93" y="129"/>
                    </a:lnTo>
                    <a:lnTo>
                      <a:pt x="8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1607760" y="4089960"/>
                <a:ext cx="142200" cy="23004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90" y="164"/>
                    </a:lnTo>
                    <a:lnTo>
                      <a:pt x="80" y="152"/>
                    </a:lnTo>
                    <a:lnTo>
                      <a:pt x="67" y="135"/>
                    </a:lnTo>
                    <a:lnTo>
                      <a:pt x="57" y="116"/>
                    </a:lnTo>
                    <a:lnTo>
                      <a:pt x="48" y="100"/>
                    </a:lnTo>
                    <a:lnTo>
                      <a:pt x="38" y="84"/>
                    </a:lnTo>
                    <a:lnTo>
                      <a:pt x="28" y="65"/>
                    </a:lnTo>
                    <a:lnTo>
                      <a:pt x="19" y="49"/>
                    </a:lnTo>
                    <a:lnTo>
                      <a:pt x="12" y="33"/>
                    </a:lnTo>
                    <a:lnTo>
                      <a:pt x="6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12" y="20"/>
                    </a:lnTo>
                    <a:lnTo>
                      <a:pt x="25" y="45"/>
                    </a:lnTo>
                    <a:lnTo>
                      <a:pt x="45" y="74"/>
                    </a:lnTo>
                    <a:lnTo>
                      <a:pt x="67" y="110"/>
                    </a:lnTo>
                    <a:lnTo>
                      <a:pt x="90" y="145"/>
                    </a:lnTo>
                    <a:lnTo>
                      <a:pt x="115" y="181"/>
                    </a:lnTo>
                    <a:lnTo>
                      <a:pt x="115" y="18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1686960" y="4183920"/>
                <a:ext cx="91440" cy="136080"/>
              </a:xfrm>
              <a:custGeom>
                <a:avLst/>
                <a:gdLst/>
                <a:ahLst/>
                <a:rect l="l" t="t" r="r" b="b"/>
                <a:pathLst>
                  <a:path w="74" h="107">
                    <a:moveTo>
                      <a:pt x="61" y="107"/>
                    </a:moveTo>
                    <a:lnTo>
                      <a:pt x="48" y="87"/>
                    </a:lnTo>
                    <a:lnTo>
                      <a:pt x="38" y="68"/>
                    </a:lnTo>
                    <a:lnTo>
                      <a:pt x="26" y="49"/>
                    </a:lnTo>
                    <a:lnTo>
                      <a:pt x="16" y="33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13"/>
                    </a:lnTo>
                    <a:lnTo>
                      <a:pt x="35" y="52"/>
                    </a:lnTo>
                    <a:lnTo>
                      <a:pt x="74" y="107"/>
                    </a:lnTo>
                    <a:lnTo>
                      <a:pt x="74" y="107"/>
                    </a:lnTo>
                    <a:lnTo>
                      <a:pt x="61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1750320" y="4217040"/>
                <a:ext cx="91440" cy="10296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45" y="81"/>
                    </a:moveTo>
                    <a:lnTo>
                      <a:pt x="33" y="58"/>
                    </a:lnTo>
                    <a:lnTo>
                      <a:pt x="20" y="35"/>
                    </a:lnTo>
                    <a:lnTo>
                      <a:pt x="7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3" y="23"/>
                    </a:lnTo>
                    <a:lnTo>
                      <a:pt x="45" y="48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45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1874160" y="4283280"/>
                <a:ext cx="23400" cy="3672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3" y="29"/>
                    </a:moveTo>
                    <a:lnTo>
                      <a:pt x="6" y="19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12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2467080" y="429480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0" y="2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4" y="1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2499120" y="4298400"/>
                <a:ext cx="3600" cy="216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17"/>
                    </a:moveTo>
                    <a:lnTo>
                      <a:pt x="0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2515320" y="4286880"/>
                <a:ext cx="7200" cy="3312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3" y="16"/>
                    </a:lnTo>
                    <a:lnTo>
                      <a:pt x="3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13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2531520" y="4298400"/>
                <a:ext cx="3600" cy="216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17"/>
                    </a:moveTo>
                    <a:lnTo>
                      <a:pt x="0" y="10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2550960" y="4266720"/>
                <a:ext cx="12600" cy="532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6" y="29"/>
                    </a:lnTo>
                    <a:lnTo>
                      <a:pt x="6" y="1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19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2571120" y="4253760"/>
                <a:ext cx="23400" cy="6624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0" y="52"/>
                    </a:moveTo>
                    <a:lnTo>
                      <a:pt x="10" y="32"/>
                    </a:lnTo>
                    <a:lnTo>
                      <a:pt x="16" y="13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6" y="6"/>
                    </a:lnTo>
                    <a:lnTo>
                      <a:pt x="13" y="26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2590920" y="4200480"/>
                <a:ext cx="87840" cy="119520"/>
              </a:xfrm>
              <a:custGeom>
                <a:avLst/>
                <a:gdLst/>
                <a:ahLst/>
                <a:rect l="l" t="t" r="r" b="b"/>
                <a:pathLst>
                  <a:path w="71" h="94">
                    <a:moveTo>
                      <a:pt x="0" y="94"/>
                    </a:moveTo>
                    <a:lnTo>
                      <a:pt x="10" y="74"/>
                    </a:lnTo>
                    <a:lnTo>
                      <a:pt x="19" y="55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45"/>
                    </a:lnTo>
                    <a:lnTo>
                      <a:pt x="19" y="61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23" y="77"/>
                    </a:lnTo>
                    <a:lnTo>
                      <a:pt x="35" y="58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9"/>
                    </a:lnTo>
                    <a:lnTo>
                      <a:pt x="39" y="55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26" y="84"/>
                    </a:lnTo>
                    <a:lnTo>
                      <a:pt x="29" y="84"/>
                    </a:lnTo>
                    <a:lnTo>
                      <a:pt x="29" y="77"/>
                    </a:lnTo>
                    <a:lnTo>
                      <a:pt x="29" y="77"/>
                    </a:lnTo>
                    <a:lnTo>
                      <a:pt x="39" y="71"/>
                    </a:lnTo>
                    <a:lnTo>
                      <a:pt x="55" y="48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10"/>
                    </a:lnTo>
                    <a:lnTo>
                      <a:pt x="64" y="3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8" y="77"/>
                    </a:lnTo>
                    <a:lnTo>
                      <a:pt x="42" y="87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2646720" y="4217040"/>
                <a:ext cx="51840" cy="10296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0" y="81"/>
                    </a:moveTo>
                    <a:lnTo>
                      <a:pt x="16" y="58"/>
                    </a:lnTo>
                    <a:lnTo>
                      <a:pt x="29" y="29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3"/>
                    </a:lnTo>
                    <a:lnTo>
                      <a:pt x="32" y="42"/>
                    </a:lnTo>
                    <a:lnTo>
                      <a:pt x="16" y="81"/>
                    </a:lnTo>
                    <a:lnTo>
                      <a:pt x="16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1890360" y="4492080"/>
                <a:ext cx="617400" cy="81360"/>
              </a:xfrm>
              <a:custGeom>
                <a:avLst/>
                <a:gdLst/>
                <a:ahLst/>
                <a:rect l="l" t="t" r="r" b="b"/>
                <a:pathLst>
                  <a:path w="499" h="64">
                    <a:moveTo>
                      <a:pt x="499" y="0"/>
                    </a:moveTo>
                    <a:lnTo>
                      <a:pt x="499" y="3"/>
                    </a:lnTo>
                    <a:lnTo>
                      <a:pt x="495" y="3"/>
                    </a:lnTo>
                    <a:lnTo>
                      <a:pt x="495" y="3"/>
                    </a:lnTo>
                    <a:lnTo>
                      <a:pt x="495" y="3"/>
                    </a:lnTo>
                    <a:lnTo>
                      <a:pt x="479" y="16"/>
                    </a:lnTo>
                    <a:lnTo>
                      <a:pt x="463" y="29"/>
                    </a:lnTo>
                    <a:lnTo>
                      <a:pt x="447" y="35"/>
                    </a:lnTo>
                    <a:lnTo>
                      <a:pt x="425" y="38"/>
                    </a:lnTo>
                    <a:lnTo>
                      <a:pt x="392" y="35"/>
                    </a:lnTo>
                    <a:lnTo>
                      <a:pt x="392" y="35"/>
                    </a:lnTo>
                    <a:lnTo>
                      <a:pt x="338" y="25"/>
                    </a:lnTo>
                    <a:lnTo>
                      <a:pt x="289" y="25"/>
                    </a:lnTo>
                    <a:lnTo>
                      <a:pt x="248" y="45"/>
                    </a:lnTo>
                    <a:lnTo>
                      <a:pt x="248" y="45"/>
                    </a:lnTo>
                    <a:lnTo>
                      <a:pt x="196" y="64"/>
                    </a:lnTo>
                    <a:lnTo>
                      <a:pt x="122" y="58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26" y="16"/>
                    </a:lnTo>
                    <a:lnTo>
                      <a:pt x="13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6" y="3"/>
                    </a:lnTo>
                    <a:lnTo>
                      <a:pt x="119" y="3"/>
                    </a:lnTo>
                    <a:lnTo>
                      <a:pt x="119" y="3"/>
                    </a:lnTo>
                    <a:lnTo>
                      <a:pt x="119" y="3"/>
                    </a:lnTo>
                    <a:lnTo>
                      <a:pt x="116" y="3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51" y="0"/>
                    </a:lnTo>
                    <a:lnTo>
                      <a:pt x="170" y="16"/>
                    </a:lnTo>
                    <a:lnTo>
                      <a:pt x="183" y="32"/>
                    </a:lnTo>
                    <a:lnTo>
                      <a:pt x="196" y="41"/>
                    </a:lnTo>
                    <a:lnTo>
                      <a:pt x="196" y="41"/>
                    </a:lnTo>
                    <a:lnTo>
                      <a:pt x="190" y="35"/>
                    </a:lnTo>
                    <a:lnTo>
                      <a:pt x="177" y="1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206" y="0"/>
                    </a:lnTo>
                    <a:lnTo>
                      <a:pt x="215" y="9"/>
                    </a:lnTo>
                    <a:lnTo>
                      <a:pt x="232" y="22"/>
                    </a:lnTo>
                    <a:lnTo>
                      <a:pt x="241" y="29"/>
                    </a:lnTo>
                    <a:lnTo>
                      <a:pt x="241" y="29"/>
                    </a:lnTo>
                    <a:lnTo>
                      <a:pt x="235" y="25"/>
                    </a:lnTo>
                    <a:lnTo>
                      <a:pt x="225" y="13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25" y="0"/>
                    </a:lnTo>
                    <a:lnTo>
                      <a:pt x="232" y="6"/>
                    </a:lnTo>
                    <a:lnTo>
                      <a:pt x="235" y="13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8" y="13"/>
                    </a:lnTo>
                    <a:lnTo>
                      <a:pt x="235" y="9"/>
                    </a:lnTo>
                    <a:lnTo>
                      <a:pt x="232" y="0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54" y="22"/>
                    </a:lnTo>
                    <a:lnTo>
                      <a:pt x="251" y="16"/>
                    </a:lnTo>
                    <a:lnTo>
                      <a:pt x="248" y="9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4" y="0"/>
                    </a:lnTo>
                    <a:lnTo>
                      <a:pt x="248" y="6"/>
                    </a:lnTo>
                    <a:lnTo>
                      <a:pt x="251" y="9"/>
                    </a:lnTo>
                    <a:lnTo>
                      <a:pt x="254" y="13"/>
                    </a:lnTo>
                    <a:lnTo>
                      <a:pt x="254" y="13"/>
                    </a:lnTo>
                    <a:lnTo>
                      <a:pt x="251" y="9"/>
                    </a:lnTo>
                    <a:lnTo>
                      <a:pt x="251" y="6"/>
                    </a:lnTo>
                    <a:lnTo>
                      <a:pt x="251" y="0"/>
                    </a:lnTo>
                    <a:lnTo>
                      <a:pt x="251" y="0"/>
                    </a:lnTo>
                    <a:lnTo>
                      <a:pt x="257" y="0"/>
                    </a:lnTo>
                    <a:lnTo>
                      <a:pt x="257" y="3"/>
                    </a:lnTo>
                    <a:lnTo>
                      <a:pt x="260" y="3"/>
                    </a:lnTo>
                    <a:lnTo>
                      <a:pt x="260" y="3"/>
                    </a:lnTo>
                    <a:lnTo>
                      <a:pt x="260" y="3"/>
                    </a:lnTo>
                    <a:lnTo>
                      <a:pt x="260" y="3"/>
                    </a:lnTo>
                    <a:lnTo>
                      <a:pt x="260" y="3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80" y="0"/>
                    </a:lnTo>
                    <a:lnTo>
                      <a:pt x="280" y="3"/>
                    </a:lnTo>
                    <a:lnTo>
                      <a:pt x="283" y="3"/>
                    </a:lnTo>
                    <a:lnTo>
                      <a:pt x="283" y="6"/>
                    </a:lnTo>
                    <a:lnTo>
                      <a:pt x="283" y="6"/>
                    </a:lnTo>
                    <a:lnTo>
                      <a:pt x="283" y="6"/>
                    </a:lnTo>
                    <a:lnTo>
                      <a:pt x="283" y="3"/>
                    </a:lnTo>
                    <a:lnTo>
                      <a:pt x="283" y="0"/>
                    </a:lnTo>
                    <a:lnTo>
                      <a:pt x="283" y="0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1810800" y="4434840"/>
                <a:ext cx="218880" cy="56880"/>
              </a:xfrm>
              <a:custGeom>
                <a:avLst/>
                <a:gdLst/>
                <a:ahLst/>
                <a:rect l="l" t="t" r="r" b="b"/>
                <a:pathLst>
                  <a:path w="177" h="45">
                    <a:moveTo>
                      <a:pt x="64" y="45"/>
                    </a:moveTo>
                    <a:lnTo>
                      <a:pt x="45" y="32"/>
                    </a:lnTo>
                    <a:lnTo>
                      <a:pt x="2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67" y="6"/>
                    </a:lnTo>
                    <a:lnTo>
                      <a:pt x="77" y="16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3" y="19"/>
                    </a:lnTo>
                    <a:lnTo>
                      <a:pt x="77" y="12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112" y="0"/>
                    </a:lnTo>
                    <a:lnTo>
                      <a:pt x="122" y="9"/>
                    </a:lnTo>
                    <a:lnTo>
                      <a:pt x="131" y="19"/>
                    </a:lnTo>
                    <a:lnTo>
                      <a:pt x="141" y="29"/>
                    </a:lnTo>
                    <a:lnTo>
                      <a:pt x="141" y="29"/>
                    </a:lnTo>
                    <a:lnTo>
                      <a:pt x="138" y="25"/>
                    </a:lnTo>
                    <a:lnTo>
                      <a:pt x="131" y="16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35" y="0"/>
                    </a:lnTo>
                    <a:lnTo>
                      <a:pt x="148" y="16"/>
                    </a:lnTo>
                    <a:lnTo>
                      <a:pt x="164" y="32"/>
                    </a:lnTo>
                    <a:lnTo>
                      <a:pt x="177" y="45"/>
                    </a:lnTo>
                    <a:lnTo>
                      <a:pt x="177" y="45"/>
                    </a:lnTo>
                    <a:lnTo>
                      <a:pt x="6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1985400" y="4434840"/>
                <a:ext cx="91440" cy="56880"/>
              </a:xfrm>
              <a:custGeom>
                <a:avLst/>
                <a:gdLst/>
                <a:ahLst/>
                <a:rect l="l" t="t" r="r" b="b"/>
                <a:pathLst>
                  <a:path w="74" h="45">
                    <a:moveTo>
                      <a:pt x="39" y="45"/>
                    </a:moveTo>
                    <a:lnTo>
                      <a:pt x="29" y="35"/>
                    </a:lnTo>
                    <a:lnTo>
                      <a:pt x="16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9" y="16"/>
                    </a:lnTo>
                    <a:lnTo>
                      <a:pt x="42" y="29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2" y="35"/>
                    </a:lnTo>
                    <a:lnTo>
                      <a:pt x="39" y="19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45" y="16"/>
                    </a:lnTo>
                    <a:lnTo>
                      <a:pt x="61" y="29"/>
                    </a:lnTo>
                    <a:lnTo>
                      <a:pt x="74" y="45"/>
                    </a:lnTo>
                    <a:lnTo>
                      <a:pt x="74" y="45"/>
                    </a:lnTo>
                    <a:lnTo>
                      <a:pt x="3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2045160" y="4434840"/>
                <a:ext cx="100080" cy="56880"/>
              </a:xfrm>
              <a:custGeom>
                <a:avLst/>
                <a:gdLst/>
                <a:ahLst/>
                <a:rect l="l" t="t" r="r" b="b"/>
                <a:pathLst>
                  <a:path w="81" h="45">
                    <a:moveTo>
                      <a:pt x="33" y="45"/>
                    </a:moveTo>
                    <a:lnTo>
                      <a:pt x="20" y="32"/>
                    </a:lnTo>
                    <a:lnTo>
                      <a:pt x="1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12"/>
                    </a:lnTo>
                    <a:lnTo>
                      <a:pt x="29" y="2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39" y="32"/>
                    </a:lnTo>
                    <a:lnTo>
                      <a:pt x="26" y="1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6" y="12"/>
                    </a:lnTo>
                    <a:lnTo>
                      <a:pt x="45" y="22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5" y="25"/>
                    </a:lnTo>
                    <a:lnTo>
                      <a:pt x="45" y="16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52" y="12"/>
                    </a:lnTo>
                    <a:lnTo>
                      <a:pt x="65" y="29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3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2129040" y="4434840"/>
                <a:ext cx="39240" cy="56880"/>
              </a:xfrm>
              <a:custGeom>
                <a:avLst/>
                <a:gdLst/>
                <a:ahLst/>
                <a:rect l="l" t="t" r="r" b="b"/>
                <a:pathLst>
                  <a:path w="32" h="45">
                    <a:moveTo>
                      <a:pt x="22" y="45"/>
                    </a:moveTo>
                    <a:lnTo>
                      <a:pt x="13" y="32"/>
                    </a:lnTo>
                    <a:lnTo>
                      <a:pt x="6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19" y="25"/>
                    </a:lnTo>
                    <a:lnTo>
                      <a:pt x="32" y="45"/>
                    </a:lnTo>
                    <a:lnTo>
                      <a:pt x="32" y="45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2165040" y="4455000"/>
                <a:ext cx="19440" cy="367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0" y="29"/>
                    </a:moveTo>
                    <a:lnTo>
                      <a:pt x="6" y="19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29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2177640" y="4446000"/>
                <a:ext cx="14760" cy="457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9" y="36"/>
                    </a:moveTo>
                    <a:lnTo>
                      <a:pt x="6" y="2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20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2192400" y="4442400"/>
                <a:ext cx="15840" cy="4932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7" y="39"/>
                    </a:moveTo>
                    <a:lnTo>
                      <a:pt x="4" y="2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3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2208240" y="4434840"/>
                <a:ext cx="28080" cy="5688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3" y="45"/>
                    </a:moveTo>
                    <a:lnTo>
                      <a:pt x="0" y="38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5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2"/>
                    </a:lnTo>
                    <a:lnTo>
                      <a:pt x="10" y="1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12"/>
                    </a:lnTo>
                    <a:lnTo>
                      <a:pt x="16" y="32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2236680" y="4434840"/>
                <a:ext cx="330480" cy="73440"/>
              </a:xfrm>
              <a:custGeom>
                <a:avLst/>
                <a:gdLst/>
                <a:ahLst/>
                <a:rect l="l" t="t" r="r" b="b"/>
                <a:pathLst>
                  <a:path w="267" h="58">
                    <a:moveTo>
                      <a:pt x="3" y="45"/>
                    </a:moveTo>
                    <a:lnTo>
                      <a:pt x="0" y="3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6" y="25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6"/>
                    </a:lnTo>
                    <a:lnTo>
                      <a:pt x="26" y="22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9" y="38"/>
                    </a:lnTo>
                    <a:lnTo>
                      <a:pt x="35" y="2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2" y="16"/>
                    </a:lnTo>
                    <a:lnTo>
                      <a:pt x="42" y="38"/>
                    </a:lnTo>
                    <a:lnTo>
                      <a:pt x="35" y="58"/>
                    </a:lnTo>
                    <a:lnTo>
                      <a:pt x="35" y="58"/>
                    </a:lnTo>
                    <a:lnTo>
                      <a:pt x="42" y="48"/>
                    </a:lnTo>
                    <a:lnTo>
                      <a:pt x="51" y="29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4" y="9"/>
                    </a:lnTo>
                    <a:lnTo>
                      <a:pt x="64" y="22"/>
                    </a:lnTo>
                    <a:lnTo>
                      <a:pt x="61" y="35"/>
                    </a:lnTo>
                    <a:lnTo>
                      <a:pt x="61" y="35"/>
                    </a:lnTo>
                    <a:lnTo>
                      <a:pt x="64" y="29"/>
                    </a:lnTo>
                    <a:lnTo>
                      <a:pt x="71" y="16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0" y="9"/>
                    </a:lnTo>
                    <a:lnTo>
                      <a:pt x="80" y="16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2"/>
                    </a:lnTo>
                    <a:lnTo>
                      <a:pt x="83" y="12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96" y="12"/>
                    </a:lnTo>
                    <a:lnTo>
                      <a:pt x="93" y="25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6" y="16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32" y="0"/>
                    </a:lnTo>
                    <a:lnTo>
                      <a:pt x="128" y="9"/>
                    </a:lnTo>
                    <a:lnTo>
                      <a:pt x="122" y="25"/>
                    </a:lnTo>
                    <a:lnTo>
                      <a:pt x="119" y="35"/>
                    </a:lnTo>
                    <a:lnTo>
                      <a:pt x="119" y="35"/>
                    </a:lnTo>
                    <a:lnTo>
                      <a:pt x="122" y="29"/>
                    </a:lnTo>
                    <a:lnTo>
                      <a:pt x="132" y="12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99" y="0"/>
                    </a:lnTo>
                    <a:lnTo>
                      <a:pt x="193" y="12"/>
                    </a:lnTo>
                    <a:lnTo>
                      <a:pt x="190" y="22"/>
                    </a:lnTo>
                    <a:lnTo>
                      <a:pt x="186" y="25"/>
                    </a:lnTo>
                    <a:lnTo>
                      <a:pt x="186" y="25"/>
                    </a:lnTo>
                    <a:lnTo>
                      <a:pt x="190" y="22"/>
                    </a:lnTo>
                    <a:lnTo>
                      <a:pt x="193" y="12"/>
                    </a:lnTo>
                    <a:lnTo>
                      <a:pt x="202" y="0"/>
                    </a:lnTo>
                    <a:lnTo>
                      <a:pt x="202" y="0"/>
                    </a:lnTo>
                    <a:lnTo>
                      <a:pt x="267" y="0"/>
                    </a:lnTo>
                    <a:lnTo>
                      <a:pt x="254" y="12"/>
                    </a:lnTo>
                    <a:lnTo>
                      <a:pt x="241" y="25"/>
                    </a:lnTo>
                    <a:lnTo>
                      <a:pt x="231" y="35"/>
                    </a:lnTo>
                    <a:lnTo>
                      <a:pt x="219" y="45"/>
                    </a:lnTo>
                    <a:lnTo>
                      <a:pt x="219" y="4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1699560" y="4320360"/>
                <a:ext cx="181800" cy="114480"/>
              </a:xfrm>
              <a:custGeom>
                <a:avLst/>
                <a:gdLst/>
                <a:ahLst/>
                <a:rect l="l" t="t" r="r" b="b"/>
                <a:pathLst>
                  <a:path w="147" h="90">
                    <a:moveTo>
                      <a:pt x="90" y="90"/>
                    </a:moveTo>
                    <a:lnTo>
                      <a:pt x="74" y="77"/>
                    </a:lnTo>
                    <a:lnTo>
                      <a:pt x="57" y="64"/>
                    </a:lnTo>
                    <a:lnTo>
                      <a:pt x="45" y="51"/>
                    </a:lnTo>
                    <a:lnTo>
                      <a:pt x="28" y="35"/>
                    </a:lnTo>
                    <a:lnTo>
                      <a:pt x="12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2"/>
                    </a:lnTo>
                    <a:lnTo>
                      <a:pt x="35" y="25"/>
                    </a:lnTo>
                    <a:lnTo>
                      <a:pt x="45" y="38"/>
                    </a:lnTo>
                    <a:lnTo>
                      <a:pt x="57" y="51"/>
                    </a:lnTo>
                    <a:lnTo>
                      <a:pt x="70" y="61"/>
                    </a:lnTo>
                    <a:lnTo>
                      <a:pt x="80" y="70"/>
                    </a:lnTo>
                    <a:lnTo>
                      <a:pt x="80" y="70"/>
                    </a:lnTo>
                    <a:lnTo>
                      <a:pt x="74" y="61"/>
                    </a:lnTo>
                    <a:lnTo>
                      <a:pt x="54" y="3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41" y="0"/>
                    </a:lnTo>
                    <a:lnTo>
                      <a:pt x="54" y="19"/>
                    </a:lnTo>
                    <a:lnTo>
                      <a:pt x="67" y="35"/>
                    </a:lnTo>
                    <a:lnTo>
                      <a:pt x="80" y="51"/>
                    </a:lnTo>
                    <a:lnTo>
                      <a:pt x="93" y="64"/>
                    </a:lnTo>
                    <a:lnTo>
                      <a:pt x="106" y="77"/>
                    </a:lnTo>
                    <a:lnTo>
                      <a:pt x="106" y="77"/>
                    </a:lnTo>
                    <a:lnTo>
                      <a:pt x="99" y="67"/>
                    </a:lnTo>
                    <a:lnTo>
                      <a:pt x="77" y="38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64" y="0"/>
                    </a:lnTo>
                    <a:lnTo>
                      <a:pt x="77" y="16"/>
                    </a:lnTo>
                    <a:lnTo>
                      <a:pt x="90" y="28"/>
                    </a:lnTo>
                    <a:lnTo>
                      <a:pt x="102" y="45"/>
                    </a:lnTo>
                    <a:lnTo>
                      <a:pt x="119" y="61"/>
                    </a:lnTo>
                    <a:lnTo>
                      <a:pt x="131" y="77"/>
                    </a:lnTo>
                    <a:lnTo>
                      <a:pt x="147" y="90"/>
                    </a:lnTo>
                    <a:lnTo>
                      <a:pt x="147" y="90"/>
                    </a:lnTo>
                    <a:lnTo>
                      <a:pt x="9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1806120" y="4320360"/>
                <a:ext cx="143280" cy="114480"/>
              </a:xfrm>
              <a:custGeom>
                <a:avLst/>
                <a:gdLst/>
                <a:ahLst/>
                <a:rect l="l" t="t" r="r" b="b"/>
                <a:pathLst>
                  <a:path w="116" h="90">
                    <a:moveTo>
                      <a:pt x="71" y="90"/>
                    </a:moveTo>
                    <a:lnTo>
                      <a:pt x="58" y="77"/>
                    </a:lnTo>
                    <a:lnTo>
                      <a:pt x="45" y="57"/>
                    </a:lnTo>
                    <a:lnTo>
                      <a:pt x="33" y="41"/>
                    </a:lnTo>
                    <a:lnTo>
                      <a:pt x="16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2" y="12"/>
                    </a:lnTo>
                    <a:lnTo>
                      <a:pt x="55" y="25"/>
                    </a:lnTo>
                    <a:lnTo>
                      <a:pt x="68" y="41"/>
                    </a:lnTo>
                    <a:lnTo>
                      <a:pt x="78" y="54"/>
                    </a:lnTo>
                    <a:lnTo>
                      <a:pt x="90" y="67"/>
                    </a:lnTo>
                    <a:lnTo>
                      <a:pt x="103" y="77"/>
                    </a:lnTo>
                    <a:lnTo>
                      <a:pt x="116" y="90"/>
                    </a:lnTo>
                    <a:lnTo>
                      <a:pt x="116" y="90"/>
                    </a:lnTo>
                    <a:lnTo>
                      <a:pt x="71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1890360" y="4320360"/>
                <a:ext cx="87840" cy="114480"/>
              </a:xfrm>
              <a:custGeom>
                <a:avLst/>
                <a:gdLst/>
                <a:ahLst/>
                <a:rect l="l" t="t" r="r" b="b"/>
                <a:pathLst>
                  <a:path w="71" h="90">
                    <a:moveTo>
                      <a:pt x="55" y="90"/>
                    </a:moveTo>
                    <a:lnTo>
                      <a:pt x="45" y="74"/>
                    </a:lnTo>
                    <a:lnTo>
                      <a:pt x="32" y="57"/>
                    </a:lnTo>
                    <a:lnTo>
                      <a:pt x="19" y="38"/>
                    </a:lnTo>
                    <a:lnTo>
                      <a:pt x="10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9" y="19"/>
                    </a:lnTo>
                    <a:lnTo>
                      <a:pt x="35" y="41"/>
                    </a:lnTo>
                    <a:lnTo>
                      <a:pt x="51" y="67"/>
                    </a:lnTo>
                    <a:lnTo>
                      <a:pt x="71" y="90"/>
                    </a:lnTo>
                    <a:lnTo>
                      <a:pt x="71" y="90"/>
                    </a:lnTo>
                    <a:lnTo>
                      <a:pt x="55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1929960" y="4335480"/>
                <a:ext cx="71280" cy="99000"/>
              </a:xfrm>
              <a:custGeom>
                <a:avLst/>
                <a:gdLst/>
                <a:ahLst/>
                <a:rect l="l" t="t" r="r" b="b"/>
                <a:pathLst>
                  <a:path w="58" h="78">
                    <a:moveTo>
                      <a:pt x="45" y="78"/>
                    </a:moveTo>
                    <a:lnTo>
                      <a:pt x="32" y="58"/>
                    </a:lnTo>
                    <a:lnTo>
                      <a:pt x="19" y="39"/>
                    </a:lnTo>
                    <a:lnTo>
                      <a:pt x="1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13"/>
                    </a:lnTo>
                    <a:lnTo>
                      <a:pt x="29" y="42"/>
                    </a:lnTo>
                    <a:lnTo>
                      <a:pt x="58" y="78"/>
                    </a:lnTo>
                    <a:lnTo>
                      <a:pt x="58" y="78"/>
                    </a:lnTo>
                    <a:lnTo>
                      <a:pt x="4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1998000" y="44017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6" y="26"/>
                    </a:moveTo>
                    <a:lnTo>
                      <a:pt x="9" y="16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1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2030040" y="4408920"/>
                <a:ext cx="19440" cy="255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2" y="20"/>
                    </a:moveTo>
                    <a:lnTo>
                      <a:pt x="6" y="13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9" y="1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2045160" y="439776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6" y="29"/>
                    </a:moveTo>
                    <a:lnTo>
                      <a:pt x="7" y="1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13" y="16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2093400" y="442584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2216880" y="442584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2288880" y="442584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2308680" y="442224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10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2328480" y="4408920"/>
                <a:ext cx="7200" cy="255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20"/>
                    </a:moveTo>
                    <a:lnTo>
                      <a:pt x="3" y="13"/>
                    </a:lnTo>
                    <a:lnTo>
                      <a:pt x="3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2344320" y="439776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0" y="29"/>
                    </a:moveTo>
                    <a:lnTo>
                      <a:pt x="3" y="16"/>
                    </a:lnTo>
                    <a:lnTo>
                      <a:pt x="6" y="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13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2359440" y="4381200"/>
                <a:ext cx="44280" cy="5364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7" y="26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17" y="19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20" y="29"/>
                    </a:lnTo>
                    <a:lnTo>
                      <a:pt x="26" y="1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22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2411280" y="4320360"/>
                <a:ext cx="107640" cy="129600"/>
              </a:xfrm>
              <a:custGeom>
                <a:avLst/>
                <a:gdLst/>
                <a:ahLst/>
                <a:rect l="l" t="t" r="r" b="b"/>
                <a:pathLst>
                  <a:path w="87" h="102">
                    <a:moveTo>
                      <a:pt x="0" y="90"/>
                    </a:moveTo>
                    <a:lnTo>
                      <a:pt x="7" y="77"/>
                    </a:lnTo>
                    <a:lnTo>
                      <a:pt x="13" y="5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5"/>
                    </a:lnTo>
                    <a:lnTo>
                      <a:pt x="16" y="64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3" y="86"/>
                    </a:lnTo>
                    <a:lnTo>
                      <a:pt x="26" y="70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42" y="32"/>
                    </a:lnTo>
                    <a:lnTo>
                      <a:pt x="32" y="74"/>
                    </a:lnTo>
                    <a:lnTo>
                      <a:pt x="23" y="102"/>
                    </a:lnTo>
                    <a:lnTo>
                      <a:pt x="23" y="102"/>
                    </a:lnTo>
                    <a:lnTo>
                      <a:pt x="29" y="93"/>
                    </a:lnTo>
                    <a:lnTo>
                      <a:pt x="42" y="67"/>
                    </a:lnTo>
                    <a:lnTo>
                      <a:pt x="58" y="35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1" y="12"/>
                    </a:lnTo>
                    <a:lnTo>
                      <a:pt x="68" y="32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5" y="48"/>
                    </a:lnTo>
                    <a:lnTo>
                      <a:pt x="74" y="28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4" y="16"/>
                    </a:lnTo>
                    <a:lnTo>
                      <a:pt x="81" y="32"/>
                    </a:lnTo>
                    <a:lnTo>
                      <a:pt x="74" y="48"/>
                    </a:lnTo>
                    <a:lnTo>
                      <a:pt x="74" y="48"/>
                    </a:lnTo>
                    <a:lnTo>
                      <a:pt x="68" y="64"/>
                    </a:lnTo>
                    <a:lnTo>
                      <a:pt x="61" y="77"/>
                    </a:lnTo>
                    <a:lnTo>
                      <a:pt x="58" y="90"/>
                    </a:lnTo>
                    <a:lnTo>
                      <a:pt x="58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2486880" y="4320360"/>
                <a:ext cx="179640" cy="114480"/>
              </a:xfrm>
              <a:custGeom>
                <a:avLst/>
                <a:gdLst/>
                <a:ahLst/>
                <a:rect l="l" t="t" r="r" b="b"/>
                <a:pathLst>
                  <a:path w="145" h="90">
                    <a:moveTo>
                      <a:pt x="0" y="90"/>
                    </a:moveTo>
                    <a:lnTo>
                      <a:pt x="13" y="64"/>
                    </a:lnTo>
                    <a:lnTo>
                      <a:pt x="26" y="3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36" y="19"/>
                    </a:lnTo>
                    <a:lnTo>
                      <a:pt x="26" y="48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20" y="77"/>
                    </a:lnTo>
                    <a:lnTo>
                      <a:pt x="36" y="45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58" y="12"/>
                    </a:lnTo>
                    <a:lnTo>
                      <a:pt x="52" y="2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9" y="41"/>
                    </a:lnTo>
                    <a:lnTo>
                      <a:pt x="58" y="22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1" y="9"/>
                    </a:lnTo>
                    <a:lnTo>
                      <a:pt x="68" y="1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8" y="25"/>
                    </a:lnTo>
                    <a:lnTo>
                      <a:pt x="74" y="16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123" y="0"/>
                    </a:lnTo>
                    <a:lnTo>
                      <a:pt x="113" y="16"/>
                    </a:lnTo>
                    <a:lnTo>
                      <a:pt x="107" y="25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7" y="28"/>
                    </a:lnTo>
                    <a:lnTo>
                      <a:pt x="116" y="16"/>
                    </a:lnTo>
                    <a:lnTo>
                      <a:pt x="129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39" y="6"/>
                    </a:lnTo>
                    <a:lnTo>
                      <a:pt x="136" y="12"/>
                    </a:lnTo>
                    <a:lnTo>
                      <a:pt x="129" y="22"/>
                    </a:lnTo>
                    <a:lnTo>
                      <a:pt x="129" y="22"/>
                    </a:lnTo>
                    <a:lnTo>
                      <a:pt x="116" y="35"/>
                    </a:lnTo>
                    <a:lnTo>
                      <a:pt x="103" y="48"/>
                    </a:lnTo>
                    <a:lnTo>
                      <a:pt x="90" y="64"/>
                    </a:lnTo>
                    <a:lnTo>
                      <a:pt x="78" y="77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1591920" y="3393720"/>
                <a:ext cx="95040" cy="327960"/>
              </a:xfrm>
              <a:custGeom>
                <a:avLst/>
                <a:gdLst/>
                <a:ahLst/>
                <a:rect l="l" t="t" r="r" b="b"/>
                <a:pathLst>
                  <a:path w="77" h="258">
                    <a:moveTo>
                      <a:pt x="77" y="0"/>
                    </a:moveTo>
                    <a:lnTo>
                      <a:pt x="74" y="4"/>
                    </a:lnTo>
                    <a:lnTo>
                      <a:pt x="67" y="13"/>
                    </a:lnTo>
                    <a:lnTo>
                      <a:pt x="54" y="29"/>
                    </a:lnTo>
                    <a:lnTo>
                      <a:pt x="41" y="55"/>
                    </a:lnTo>
                    <a:lnTo>
                      <a:pt x="29" y="91"/>
                    </a:lnTo>
                    <a:lnTo>
                      <a:pt x="16" y="136"/>
                    </a:lnTo>
                    <a:lnTo>
                      <a:pt x="6" y="190"/>
                    </a:lnTo>
                    <a:lnTo>
                      <a:pt x="0" y="258"/>
                    </a:lnTo>
                    <a:lnTo>
                      <a:pt x="0" y="258"/>
                    </a:lnTo>
                    <a:lnTo>
                      <a:pt x="6" y="213"/>
                    </a:lnTo>
                    <a:lnTo>
                      <a:pt x="29" y="11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1586880" y="3738600"/>
                <a:ext cx="96480" cy="413280"/>
              </a:xfrm>
              <a:custGeom>
                <a:avLst/>
                <a:gdLst/>
                <a:ahLst/>
                <a:rect l="l" t="t" r="r" b="b"/>
                <a:pathLst>
                  <a:path w="78" h="325">
                    <a:moveTo>
                      <a:pt x="0" y="0"/>
                    </a:moveTo>
                    <a:lnTo>
                      <a:pt x="0" y="45"/>
                    </a:lnTo>
                    <a:lnTo>
                      <a:pt x="17" y="161"/>
                    </a:lnTo>
                    <a:lnTo>
                      <a:pt x="78" y="325"/>
                    </a:lnTo>
                    <a:lnTo>
                      <a:pt x="78" y="325"/>
                    </a:lnTo>
                    <a:lnTo>
                      <a:pt x="78" y="318"/>
                    </a:lnTo>
                    <a:lnTo>
                      <a:pt x="71" y="309"/>
                    </a:lnTo>
                    <a:lnTo>
                      <a:pt x="65" y="292"/>
                    </a:lnTo>
                    <a:lnTo>
                      <a:pt x="58" y="270"/>
                    </a:lnTo>
                    <a:lnTo>
                      <a:pt x="49" y="241"/>
                    </a:lnTo>
                    <a:lnTo>
                      <a:pt x="36" y="212"/>
                    </a:lnTo>
                    <a:lnTo>
                      <a:pt x="26" y="180"/>
                    </a:lnTo>
                    <a:lnTo>
                      <a:pt x="17" y="144"/>
                    </a:lnTo>
                    <a:lnTo>
                      <a:pt x="10" y="106"/>
                    </a:lnTo>
                    <a:lnTo>
                      <a:pt x="4" y="70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1622880" y="3664800"/>
                <a:ext cx="19800" cy="289800"/>
              </a:xfrm>
              <a:custGeom>
                <a:avLst/>
                <a:gdLst/>
                <a:ahLst/>
                <a:rect l="l" t="t" r="r" b="b"/>
                <a:pathLst>
                  <a:path w="16" h="228">
                    <a:moveTo>
                      <a:pt x="10" y="0"/>
                    </a:moveTo>
                    <a:lnTo>
                      <a:pt x="4" y="26"/>
                    </a:lnTo>
                    <a:lnTo>
                      <a:pt x="0" y="103"/>
                    </a:lnTo>
                    <a:lnTo>
                      <a:pt x="16" y="228"/>
                    </a:lnTo>
                    <a:lnTo>
                      <a:pt x="16" y="228"/>
                    </a:lnTo>
                    <a:lnTo>
                      <a:pt x="10" y="190"/>
                    </a:lnTo>
                    <a:lnTo>
                      <a:pt x="4" y="10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2802600" y="3487680"/>
                <a:ext cx="34200" cy="365040"/>
              </a:xfrm>
              <a:custGeom>
                <a:avLst/>
                <a:gdLst/>
                <a:ahLst/>
                <a:rect l="l" t="t" r="r" b="b"/>
                <a:pathLst>
                  <a:path w="28" h="287">
                    <a:moveTo>
                      <a:pt x="0" y="0"/>
                    </a:moveTo>
                    <a:lnTo>
                      <a:pt x="6" y="17"/>
                    </a:lnTo>
                    <a:lnTo>
                      <a:pt x="16" y="58"/>
                    </a:lnTo>
                    <a:lnTo>
                      <a:pt x="22" y="123"/>
                    </a:lnTo>
                    <a:lnTo>
                      <a:pt x="28" y="200"/>
                    </a:lnTo>
                    <a:lnTo>
                      <a:pt x="22" y="287"/>
                    </a:lnTo>
                    <a:lnTo>
                      <a:pt x="22" y="287"/>
                    </a:lnTo>
                    <a:lnTo>
                      <a:pt x="22" y="235"/>
                    </a:lnTo>
                    <a:lnTo>
                      <a:pt x="19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2746800" y="3729600"/>
                <a:ext cx="63000" cy="397080"/>
              </a:xfrm>
              <a:custGeom>
                <a:avLst/>
                <a:gdLst/>
                <a:ahLst/>
                <a:rect l="l" t="t" r="r" b="b"/>
                <a:pathLst>
                  <a:path w="51" h="312">
                    <a:moveTo>
                      <a:pt x="51" y="0"/>
                    </a:moveTo>
                    <a:lnTo>
                      <a:pt x="48" y="52"/>
                    </a:lnTo>
                    <a:lnTo>
                      <a:pt x="32" y="177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06"/>
                    </a:lnTo>
                    <a:lnTo>
                      <a:pt x="9" y="287"/>
                    </a:lnTo>
                    <a:lnTo>
                      <a:pt x="19" y="258"/>
                    </a:lnTo>
                    <a:lnTo>
                      <a:pt x="28" y="222"/>
                    </a:lnTo>
                    <a:lnTo>
                      <a:pt x="38" y="174"/>
                    </a:lnTo>
                    <a:lnTo>
                      <a:pt x="48" y="123"/>
                    </a:lnTo>
                    <a:lnTo>
                      <a:pt x="51" y="6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2702160" y="3901320"/>
                <a:ext cx="48240" cy="258120"/>
              </a:xfrm>
              <a:custGeom>
                <a:avLst/>
                <a:gdLst/>
                <a:ahLst/>
                <a:rect l="l" t="t" r="r" b="b"/>
                <a:pathLst>
                  <a:path w="39" h="203">
                    <a:moveTo>
                      <a:pt x="39" y="0"/>
                    </a:moveTo>
                    <a:lnTo>
                      <a:pt x="36" y="33"/>
                    </a:lnTo>
                    <a:lnTo>
                      <a:pt x="23" y="110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3" y="174"/>
                    </a:lnTo>
                    <a:lnTo>
                      <a:pt x="16" y="110"/>
                    </a:lnTo>
                    <a:lnTo>
                      <a:pt x="29" y="3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2211840" y="3111120"/>
                <a:ext cx="71640" cy="11556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52" y="0"/>
                    </a:moveTo>
                    <a:lnTo>
                      <a:pt x="46" y="4"/>
                    </a:lnTo>
                    <a:lnTo>
                      <a:pt x="36" y="17"/>
                    </a:lnTo>
                    <a:lnTo>
                      <a:pt x="20" y="39"/>
                    </a:lnTo>
                    <a:lnTo>
                      <a:pt x="7" y="62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74"/>
                    </a:lnTo>
                    <a:lnTo>
                      <a:pt x="26" y="42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5" y="7"/>
                    </a:lnTo>
                    <a:lnTo>
                      <a:pt x="58" y="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1802520" y="3201480"/>
                <a:ext cx="170640" cy="20160"/>
              </a:xfrm>
              <a:custGeom>
                <a:avLst/>
                <a:gdLst/>
                <a:ahLst/>
                <a:rect l="l" t="t" r="r" b="b"/>
                <a:pathLst>
                  <a:path w="138" h="16">
                    <a:moveTo>
                      <a:pt x="0" y="16"/>
                    </a:moveTo>
                    <a:lnTo>
                      <a:pt x="29" y="10"/>
                    </a:lnTo>
                    <a:lnTo>
                      <a:pt x="77" y="7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22" y="7"/>
                    </a:lnTo>
                    <a:lnTo>
                      <a:pt x="77" y="0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6" y="7"/>
                    </a:lnTo>
                    <a:lnTo>
                      <a:pt x="7" y="1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2211840" y="3111120"/>
                <a:ext cx="71640" cy="11556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52" y="0"/>
                    </a:moveTo>
                    <a:lnTo>
                      <a:pt x="46" y="4"/>
                    </a:lnTo>
                    <a:lnTo>
                      <a:pt x="36" y="17"/>
                    </a:lnTo>
                    <a:lnTo>
                      <a:pt x="20" y="39"/>
                    </a:lnTo>
                    <a:lnTo>
                      <a:pt x="7" y="62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74"/>
                    </a:lnTo>
                    <a:lnTo>
                      <a:pt x="26" y="42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5" y="7"/>
                    </a:lnTo>
                    <a:lnTo>
                      <a:pt x="58" y="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2204640" y="3103200"/>
                <a:ext cx="55440" cy="11052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39" y="3"/>
                    </a:moveTo>
                    <a:lnTo>
                      <a:pt x="26" y="19"/>
                    </a:lnTo>
                    <a:lnTo>
                      <a:pt x="16" y="42"/>
                    </a:lnTo>
                    <a:lnTo>
                      <a:pt x="6" y="64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6" y="71"/>
                    </a:lnTo>
                    <a:lnTo>
                      <a:pt x="23" y="39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5" y="6"/>
                    </a:lnTo>
                    <a:lnTo>
                      <a:pt x="45" y="0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2280240" y="3119760"/>
                <a:ext cx="67680" cy="4932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48" y="0"/>
                    </a:moveTo>
                    <a:lnTo>
                      <a:pt x="36" y="10"/>
                    </a:lnTo>
                    <a:lnTo>
                      <a:pt x="16" y="2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0" y="32"/>
                    </a:lnTo>
                    <a:lnTo>
                      <a:pt x="29" y="19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2073240" y="3116160"/>
                <a:ext cx="46800" cy="94320"/>
              </a:xfrm>
              <a:custGeom>
                <a:avLst/>
                <a:gdLst/>
                <a:ahLst/>
                <a:rect l="l" t="t" r="r" b="b"/>
                <a:pathLst>
                  <a:path w="38" h="74">
                    <a:moveTo>
                      <a:pt x="0" y="3"/>
                    </a:moveTo>
                    <a:lnTo>
                      <a:pt x="13" y="25"/>
                    </a:lnTo>
                    <a:lnTo>
                      <a:pt x="26" y="45"/>
                    </a:lnTo>
                    <a:lnTo>
                      <a:pt x="35" y="64"/>
                    </a:lnTo>
                    <a:lnTo>
                      <a:pt x="38" y="74"/>
                    </a:lnTo>
                    <a:lnTo>
                      <a:pt x="38" y="74"/>
                    </a:lnTo>
                    <a:lnTo>
                      <a:pt x="38" y="64"/>
                    </a:lnTo>
                    <a:lnTo>
                      <a:pt x="32" y="42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2145240" y="3046320"/>
                <a:ext cx="82800" cy="245520"/>
              </a:xfrm>
              <a:custGeom>
                <a:avLst/>
                <a:gdLst/>
                <a:ahLst/>
                <a:rect l="l" t="t" r="r" b="b"/>
                <a:pathLst>
                  <a:path w="67" h="193">
                    <a:moveTo>
                      <a:pt x="29" y="180"/>
                    </a:moveTo>
                    <a:lnTo>
                      <a:pt x="32" y="158"/>
                    </a:lnTo>
                    <a:lnTo>
                      <a:pt x="32" y="129"/>
                    </a:lnTo>
                    <a:lnTo>
                      <a:pt x="42" y="100"/>
                    </a:lnTo>
                    <a:lnTo>
                      <a:pt x="42" y="100"/>
                    </a:lnTo>
                    <a:lnTo>
                      <a:pt x="54" y="77"/>
                    </a:lnTo>
                    <a:lnTo>
                      <a:pt x="64" y="51"/>
                    </a:lnTo>
                    <a:lnTo>
                      <a:pt x="67" y="29"/>
                    </a:lnTo>
                    <a:lnTo>
                      <a:pt x="67" y="29"/>
                    </a:lnTo>
                    <a:lnTo>
                      <a:pt x="61" y="16"/>
                    </a:lnTo>
                    <a:lnTo>
                      <a:pt x="54" y="3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5" y="6"/>
                    </a:lnTo>
                    <a:lnTo>
                      <a:pt x="19" y="23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22" y="74"/>
                    </a:lnTo>
                    <a:lnTo>
                      <a:pt x="13" y="97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3" y="138"/>
                    </a:lnTo>
                    <a:lnTo>
                      <a:pt x="0" y="167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6" y="190"/>
                    </a:lnTo>
                    <a:lnTo>
                      <a:pt x="19" y="193"/>
                    </a:lnTo>
                    <a:lnTo>
                      <a:pt x="29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2156400" y="3119760"/>
                <a:ext cx="51840" cy="127080"/>
              </a:xfrm>
              <a:custGeom>
                <a:avLst/>
                <a:gdLst/>
                <a:ahLst/>
                <a:rect l="l" t="t" r="r" b="b"/>
                <a:pathLst>
                  <a:path w="42" h="100">
                    <a:moveTo>
                      <a:pt x="33" y="0"/>
                    </a:moveTo>
                    <a:lnTo>
                      <a:pt x="20" y="3"/>
                    </a:lnTo>
                    <a:lnTo>
                      <a:pt x="23" y="10"/>
                    </a:lnTo>
                    <a:lnTo>
                      <a:pt x="20" y="19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7" y="58"/>
                    </a:lnTo>
                    <a:lnTo>
                      <a:pt x="0" y="84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4" y="87"/>
                    </a:lnTo>
                    <a:lnTo>
                      <a:pt x="10" y="61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6" y="26"/>
                    </a:lnTo>
                    <a:lnTo>
                      <a:pt x="33" y="13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42" y="13"/>
                    </a:lnTo>
                    <a:lnTo>
                      <a:pt x="42" y="10"/>
                    </a:lnTo>
                    <a:lnTo>
                      <a:pt x="39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2177640" y="3066480"/>
                <a:ext cx="10800" cy="49320"/>
              </a:xfrm>
              <a:custGeom>
                <a:avLst/>
                <a:gdLst/>
                <a:ahLst/>
                <a:rect l="l" t="t" r="r" b="b"/>
                <a:pathLst>
                  <a:path w="9" h="39">
                    <a:moveTo>
                      <a:pt x="9" y="0"/>
                    </a:moveTo>
                    <a:lnTo>
                      <a:pt x="6" y="7"/>
                    </a:lnTo>
                    <a:lnTo>
                      <a:pt x="3" y="16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9" y="35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6" y="26"/>
                    </a:lnTo>
                    <a:lnTo>
                      <a:pt x="3" y="2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2165040" y="3152880"/>
                <a:ext cx="39240" cy="138600"/>
              </a:xfrm>
              <a:custGeom>
                <a:avLst/>
                <a:gdLst/>
                <a:ahLst/>
                <a:rect l="l" t="t" r="r" b="b"/>
                <a:pathLst>
                  <a:path w="32" h="109">
                    <a:moveTo>
                      <a:pt x="32" y="0"/>
                    </a:moveTo>
                    <a:lnTo>
                      <a:pt x="29" y="9"/>
                    </a:lnTo>
                    <a:lnTo>
                      <a:pt x="19" y="29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3" y="96"/>
                    </a:lnTo>
                    <a:lnTo>
                      <a:pt x="13" y="99"/>
                    </a:lnTo>
                    <a:lnTo>
                      <a:pt x="10" y="106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3" y="106"/>
                    </a:lnTo>
                    <a:lnTo>
                      <a:pt x="10" y="103"/>
                    </a:lnTo>
                    <a:lnTo>
                      <a:pt x="13" y="96"/>
                    </a:lnTo>
                    <a:lnTo>
                      <a:pt x="13" y="96"/>
                    </a:lnTo>
                    <a:lnTo>
                      <a:pt x="13" y="80"/>
                    </a:lnTo>
                    <a:lnTo>
                      <a:pt x="13" y="5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2" y="19"/>
                    </a:lnTo>
                    <a:lnTo>
                      <a:pt x="29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2200680" y="3103200"/>
                <a:ext cx="19800" cy="36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3" y="3"/>
                    </a:lnTo>
                    <a:lnTo>
                      <a:pt x="9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2145240" y="3169440"/>
                <a:ext cx="19800" cy="7740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6" y="0"/>
                    </a:moveTo>
                    <a:lnTo>
                      <a:pt x="9" y="9"/>
                    </a:lnTo>
                    <a:lnTo>
                      <a:pt x="3" y="28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3" y="32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3" y="9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2145240" y="326376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6" y="19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2125440" y="3123720"/>
                <a:ext cx="19800" cy="7344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0"/>
                    </a:moveTo>
                    <a:lnTo>
                      <a:pt x="3" y="13"/>
                    </a:lnTo>
                    <a:lnTo>
                      <a:pt x="9" y="36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6" y="52"/>
                    </a:ln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2247840" y="3111120"/>
                <a:ext cx="55440" cy="6228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39" y="4"/>
                    </a:moveTo>
                    <a:lnTo>
                      <a:pt x="29" y="13"/>
                    </a:lnTo>
                    <a:lnTo>
                      <a:pt x="13" y="2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23" y="26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2272680" y="3116160"/>
                <a:ext cx="199080" cy="155160"/>
              </a:xfrm>
              <a:custGeom>
                <a:avLst/>
                <a:gdLst/>
                <a:ahLst/>
                <a:rect l="l" t="t" r="r" b="b"/>
                <a:pathLst>
                  <a:path w="161" h="122">
                    <a:moveTo>
                      <a:pt x="141" y="0"/>
                    </a:moveTo>
                    <a:lnTo>
                      <a:pt x="132" y="3"/>
                    </a:lnTo>
                    <a:lnTo>
                      <a:pt x="116" y="9"/>
                    </a:lnTo>
                    <a:lnTo>
                      <a:pt x="96" y="22"/>
                    </a:lnTo>
                    <a:lnTo>
                      <a:pt x="74" y="38"/>
                    </a:lnTo>
                    <a:lnTo>
                      <a:pt x="51" y="54"/>
                    </a:lnTo>
                    <a:lnTo>
                      <a:pt x="29" y="74"/>
                    </a:lnTo>
                    <a:lnTo>
                      <a:pt x="13" y="93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3" y="122"/>
                    </a:lnTo>
                    <a:lnTo>
                      <a:pt x="16" y="103"/>
                    </a:lnTo>
                    <a:lnTo>
                      <a:pt x="61" y="54"/>
                    </a:lnTo>
                    <a:lnTo>
                      <a:pt x="161" y="6"/>
                    </a:lnTo>
                    <a:lnTo>
                      <a:pt x="161" y="6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2280240" y="3221640"/>
                <a:ext cx="44280" cy="662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42"/>
                    </a:moveTo>
                    <a:lnTo>
                      <a:pt x="7" y="36"/>
                    </a:lnTo>
                    <a:lnTo>
                      <a:pt x="19" y="1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" y="5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2312280" y="3123720"/>
                <a:ext cx="226440" cy="13464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145" y="0"/>
                    </a:moveTo>
                    <a:lnTo>
                      <a:pt x="112" y="13"/>
                    </a:lnTo>
                    <a:lnTo>
                      <a:pt x="64" y="36"/>
                    </a:lnTo>
                    <a:lnTo>
                      <a:pt x="16" y="71"/>
                    </a:lnTo>
                    <a:lnTo>
                      <a:pt x="16" y="71"/>
                    </a:lnTo>
                    <a:lnTo>
                      <a:pt x="26" y="64"/>
                    </a:lnTo>
                    <a:lnTo>
                      <a:pt x="48" y="52"/>
                    </a:lnTo>
                    <a:lnTo>
                      <a:pt x="80" y="39"/>
                    </a:lnTo>
                    <a:lnTo>
                      <a:pt x="119" y="29"/>
                    </a:lnTo>
                    <a:lnTo>
                      <a:pt x="119" y="29"/>
                    </a:lnTo>
                    <a:lnTo>
                      <a:pt x="96" y="39"/>
                    </a:lnTo>
                    <a:lnTo>
                      <a:pt x="48" y="61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10" y="93"/>
                    </a:lnTo>
                    <a:lnTo>
                      <a:pt x="48" y="64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35" y="26"/>
                    </a:lnTo>
                    <a:lnTo>
                      <a:pt x="158" y="23"/>
                    </a:lnTo>
                    <a:lnTo>
                      <a:pt x="183" y="16"/>
                    </a:lnTo>
                    <a:lnTo>
                      <a:pt x="183" y="16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2359440" y="3205080"/>
                <a:ext cx="112320" cy="82800"/>
              </a:xfrm>
              <a:custGeom>
                <a:avLst/>
                <a:gdLst/>
                <a:ahLst/>
                <a:rect l="l" t="t" r="r" b="b"/>
                <a:pathLst>
                  <a:path w="91" h="65">
                    <a:moveTo>
                      <a:pt x="0" y="42"/>
                    </a:moveTo>
                    <a:lnTo>
                      <a:pt x="7" y="36"/>
                    </a:lnTo>
                    <a:lnTo>
                      <a:pt x="26" y="23"/>
                    </a:lnTo>
                    <a:lnTo>
                      <a:pt x="52" y="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78" y="4"/>
                    </a:lnTo>
                    <a:lnTo>
                      <a:pt x="55" y="10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42" y="23"/>
                    </a:lnTo>
                    <a:lnTo>
                      <a:pt x="65" y="2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1" y="26"/>
                    </a:lnTo>
                    <a:lnTo>
                      <a:pt x="65" y="26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5" y="33"/>
                    </a:lnTo>
                    <a:lnTo>
                      <a:pt x="68" y="39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71" y="46"/>
                    </a:lnTo>
                    <a:lnTo>
                      <a:pt x="52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6" y="39"/>
                    </a:lnTo>
                    <a:lnTo>
                      <a:pt x="46" y="49"/>
                    </a:lnTo>
                    <a:lnTo>
                      <a:pt x="55" y="58"/>
                    </a:lnTo>
                    <a:lnTo>
                      <a:pt x="55" y="58"/>
                    </a:lnTo>
                    <a:lnTo>
                      <a:pt x="58" y="65"/>
                    </a:lnTo>
                    <a:lnTo>
                      <a:pt x="55" y="65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9" y="55"/>
                    </a:lnTo>
                    <a:lnTo>
                      <a:pt x="29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2355840" y="3274920"/>
                <a:ext cx="51840" cy="2412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0" y="0"/>
                    </a:moveTo>
                    <a:lnTo>
                      <a:pt x="16" y="0"/>
                    </a:lnTo>
                    <a:lnTo>
                      <a:pt x="29" y="7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36" y="16"/>
                    </a:lnTo>
                    <a:lnTo>
                      <a:pt x="23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2774160" y="3500280"/>
                <a:ext cx="19800" cy="171720"/>
              </a:xfrm>
              <a:custGeom>
                <a:avLst/>
                <a:gdLst/>
                <a:ahLst/>
                <a:rect l="l" t="t" r="r" b="b"/>
                <a:pathLst>
                  <a:path w="16" h="135">
                    <a:moveTo>
                      <a:pt x="0" y="0"/>
                    </a:moveTo>
                    <a:lnTo>
                      <a:pt x="3" y="26"/>
                    </a:lnTo>
                    <a:lnTo>
                      <a:pt x="10" y="81"/>
                    </a:lnTo>
                    <a:lnTo>
                      <a:pt x="13" y="135"/>
                    </a:lnTo>
                    <a:lnTo>
                      <a:pt x="13" y="135"/>
                    </a:lnTo>
                    <a:lnTo>
                      <a:pt x="16" y="116"/>
                    </a:lnTo>
                    <a:lnTo>
                      <a:pt x="13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1651320" y="3725640"/>
                <a:ext cx="35640" cy="306720"/>
              </a:xfrm>
              <a:custGeom>
                <a:avLst/>
                <a:gdLst/>
                <a:ahLst/>
                <a:rect l="l" t="t" r="r" b="b"/>
                <a:pathLst>
                  <a:path w="29" h="241">
                    <a:moveTo>
                      <a:pt x="3" y="0"/>
                    </a:moveTo>
                    <a:lnTo>
                      <a:pt x="0" y="35"/>
                    </a:lnTo>
                    <a:lnTo>
                      <a:pt x="0" y="129"/>
                    </a:lnTo>
                    <a:lnTo>
                      <a:pt x="29" y="241"/>
                    </a:lnTo>
                    <a:lnTo>
                      <a:pt x="29" y="241"/>
                    </a:lnTo>
                    <a:lnTo>
                      <a:pt x="22" y="225"/>
                    </a:lnTo>
                    <a:lnTo>
                      <a:pt x="13" y="174"/>
                    </a:lnTo>
                    <a:lnTo>
                      <a:pt x="3" y="10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2208240" y="3299400"/>
                <a:ext cx="39240" cy="7884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0" y="10"/>
                    </a:moveTo>
                    <a:lnTo>
                      <a:pt x="7" y="17"/>
                    </a:lnTo>
                    <a:lnTo>
                      <a:pt x="20" y="29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52"/>
                    </a:lnTo>
                    <a:lnTo>
                      <a:pt x="26" y="2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2021400" y="3304440"/>
                <a:ext cx="64080" cy="3168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45" y="0"/>
                    </a:moveTo>
                    <a:lnTo>
                      <a:pt x="32" y="3"/>
                    </a:lnTo>
                    <a:lnTo>
                      <a:pt x="13" y="1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7" y="22"/>
                    </a:lnTo>
                    <a:lnTo>
                      <a:pt x="26" y="9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1611720" y="3459600"/>
                <a:ext cx="55800" cy="363960"/>
              </a:xfrm>
              <a:custGeom>
                <a:avLst/>
                <a:gdLst/>
                <a:ahLst/>
                <a:rect l="l" t="t" r="r" b="b"/>
                <a:pathLst>
                  <a:path w="45" h="286">
                    <a:moveTo>
                      <a:pt x="45" y="0"/>
                    </a:moveTo>
                    <a:lnTo>
                      <a:pt x="38" y="16"/>
                    </a:lnTo>
                    <a:lnTo>
                      <a:pt x="29" y="39"/>
                    </a:lnTo>
                    <a:lnTo>
                      <a:pt x="19" y="74"/>
                    </a:lnTo>
                    <a:lnTo>
                      <a:pt x="9" y="116"/>
                    </a:lnTo>
                    <a:lnTo>
                      <a:pt x="3" y="167"/>
                    </a:lnTo>
                    <a:lnTo>
                      <a:pt x="0" y="225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13" y="13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2136600" y="4377240"/>
                <a:ext cx="15840" cy="7272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13" y="57"/>
                    </a:moveTo>
                    <a:lnTo>
                      <a:pt x="4" y="3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7" y="38"/>
                    </a:lnTo>
                    <a:lnTo>
                      <a:pt x="1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1814760" y="4189320"/>
                <a:ext cx="75240" cy="16272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0" y="0"/>
                    </a:moveTo>
                    <a:lnTo>
                      <a:pt x="3" y="16"/>
                    </a:lnTo>
                    <a:lnTo>
                      <a:pt x="22" y="64"/>
                    </a:lnTo>
                    <a:lnTo>
                      <a:pt x="61" y="128"/>
                    </a:lnTo>
                    <a:lnTo>
                      <a:pt x="61" y="128"/>
                    </a:lnTo>
                    <a:lnTo>
                      <a:pt x="58" y="122"/>
                    </a:lnTo>
                    <a:lnTo>
                      <a:pt x="45" y="103"/>
                    </a:lnTo>
                    <a:lnTo>
                      <a:pt x="29" y="74"/>
                    </a:lnTo>
                    <a:lnTo>
                      <a:pt x="1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2416320" y="4314960"/>
                <a:ext cx="7200" cy="82800"/>
              </a:xfrm>
              <a:custGeom>
                <a:avLst/>
                <a:gdLst/>
                <a:ahLst/>
                <a:rect l="l" t="t" r="r" b="b"/>
                <a:pathLst>
                  <a:path w="6" h="65">
                    <a:moveTo>
                      <a:pt x="0" y="65"/>
                    </a:moveTo>
                    <a:lnTo>
                      <a:pt x="0" y="55"/>
                    </a:lnTo>
                    <a:lnTo>
                      <a:pt x="3" y="29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10"/>
                    </a:lnTo>
                    <a:lnTo>
                      <a:pt x="6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2184840" y="4385160"/>
                <a:ext cx="19800" cy="6084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48"/>
                    </a:moveTo>
                    <a:lnTo>
                      <a:pt x="13" y="42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2685960" y="3954600"/>
                <a:ext cx="35640" cy="17676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29" y="0"/>
                    </a:moveTo>
                    <a:lnTo>
                      <a:pt x="26" y="26"/>
                    </a:lnTo>
                    <a:lnTo>
                      <a:pt x="13" y="84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7" y="103"/>
                    </a:lnTo>
                    <a:lnTo>
                      <a:pt x="23" y="3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1543680" y="369756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45" h="292">
                    <a:moveTo>
                      <a:pt x="3" y="0"/>
                    </a:moveTo>
                    <a:lnTo>
                      <a:pt x="0" y="67"/>
                    </a:lnTo>
                    <a:lnTo>
                      <a:pt x="10" y="167"/>
                    </a:lnTo>
                    <a:lnTo>
                      <a:pt x="45" y="292"/>
                    </a:lnTo>
                    <a:lnTo>
                      <a:pt x="45" y="292"/>
                    </a:lnTo>
                    <a:lnTo>
                      <a:pt x="39" y="279"/>
                    </a:lnTo>
                    <a:lnTo>
                      <a:pt x="32" y="241"/>
                    </a:lnTo>
                    <a:lnTo>
                      <a:pt x="19" y="183"/>
                    </a:lnTo>
                    <a:lnTo>
                      <a:pt x="10" y="119"/>
                    </a:lnTo>
                    <a:lnTo>
                      <a:pt x="3" y="5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1552320" y="3238200"/>
                <a:ext cx="213840" cy="396720"/>
              </a:xfrm>
              <a:custGeom>
                <a:avLst/>
                <a:gdLst/>
                <a:ahLst/>
                <a:rect l="l" t="t" r="r" b="b"/>
                <a:pathLst>
                  <a:path w="173" h="312">
                    <a:moveTo>
                      <a:pt x="173" y="0"/>
                    </a:moveTo>
                    <a:lnTo>
                      <a:pt x="167" y="10"/>
                    </a:lnTo>
                    <a:lnTo>
                      <a:pt x="154" y="16"/>
                    </a:lnTo>
                    <a:lnTo>
                      <a:pt x="141" y="29"/>
                    </a:lnTo>
                    <a:lnTo>
                      <a:pt x="125" y="42"/>
                    </a:lnTo>
                    <a:lnTo>
                      <a:pt x="112" y="58"/>
                    </a:lnTo>
                    <a:lnTo>
                      <a:pt x="96" y="74"/>
                    </a:lnTo>
                    <a:lnTo>
                      <a:pt x="77" y="97"/>
                    </a:lnTo>
                    <a:lnTo>
                      <a:pt x="64" y="122"/>
                    </a:lnTo>
                    <a:lnTo>
                      <a:pt x="48" y="151"/>
                    </a:lnTo>
                    <a:lnTo>
                      <a:pt x="32" y="187"/>
                    </a:lnTo>
                    <a:lnTo>
                      <a:pt x="19" y="222"/>
                    </a:lnTo>
                    <a:lnTo>
                      <a:pt x="9" y="264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6" y="277"/>
                    </a:lnTo>
                    <a:lnTo>
                      <a:pt x="35" y="193"/>
                    </a:lnTo>
                    <a:lnTo>
                      <a:pt x="86" y="94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1798560" y="3184560"/>
                <a:ext cx="186840" cy="25560"/>
              </a:xfrm>
              <a:custGeom>
                <a:avLst/>
                <a:gdLst/>
                <a:ahLst/>
                <a:rect l="l" t="t" r="r" b="b"/>
                <a:pathLst>
                  <a:path w="151" h="20">
                    <a:moveTo>
                      <a:pt x="22" y="4"/>
                    </a:moveTo>
                    <a:lnTo>
                      <a:pt x="39" y="0"/>
                    </a:lnTo>
                    <a:lnTo>
                      <a:pt x="87" y="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35" y="16"/>
                    </a:lnTo>
                    <a:lnTo>
                      <a:pt x="96" y="7"/>
                    </a:lnTo>
                    <a:lnTo>
                      <a:pt x="48" y="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1893960" y="3147840"/>
                <a:ext cx="59400" cy="1296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4"/>
                    </a:moveTo>
                    <a:lnTo>
                      <a:pt x="7" y="0"/>
                    </a:lnTo>
                    <a:lnTo>
                      <a:pt x="29" y="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2" y="4"/>
                    </a:lnTo>
                    <a:lnTo>
                      <a:pt x="2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1926000" y="3254760"/>
                <a:ext cx="138600" cy="12600"/>
              </a:xfrm>
              <a:custGeom>
                <a:avLst/>
                <a:gdLst/>
                <a:ahLst/>
                <a:rect l="l" t="t" r="r" b="b"/>
                <a:pathLst>
                  <a:path w="112" h="10">
                    <a:moveTo>
                      <a:pt x="0" y="3"/>
                    </a:moveTo>
                    <a:lnTo>
                      <a:pt x="58" y="0"/>
                    </a:lnTo>
                    <a:lnTo>
                      <a:pt x="93" y="3"/>
                    </a:lnTo>
                    <a:lnTo>
                      <a:pt x="112" y="10"/>
                    </a:lnTo>
                    <a:lnTo>
                      <a:pt x="112" y="10"/>
                    </a:lnTo>
                    <a:lnTo>
                      <a:pt x="93" y="7"/>
                    </a:lnTo>
                    <a:lnTo>
                      <a:pt x="5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2228040" y="3156840"/>
                <a:ext cx="87840" cy="101880"/>
              </a:xfrm>
              <a:custGeom>
                <a:avLst/>
                <a:gdLst/>
                <a:ahLst/>
                <a:rect l="l" t="t" r="r" b="b"/>
                <a:pathLst>
                  <a:path w="71" h="80">
                    <a:moveTo>
                      <a:pt x="71" y="0"/>
                    </a:moveTo>
                    <a:lnTo>
                      <a:pt x="58" y="10"/>
                    </a:lnTo>
                    <a:lnTo>
                      <a:pt x="42" y="22"/>
                    </a:lnTo>
                    <a:lnTo>
                      <a:pt x="29" y="35"/>
                    </a:lnTo>
                    <a:lnTo>
                      <a:pt x="16" y="48"/>
                    </a:lnTo>
                    <a:lnTo>
                      <a:pt x="7" y="64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7" y="71"/>
                    </a:lnTo>
                    <a:lnTo>
                      <a:pt x="23" y="51"/>
                    </a:lnTo>
                    <a:lnTo>
                      <a:pt x="45" y="2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2240640" y="3279240"/>
                <a:ext cx="51840" cy="698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3" y="10"/>
                    </a:moveTo>
                    <a:lnTo>
                      <a:pt x="10" y="13"/>
                    </a:lnTo>
                    <a:lnTo>
                      <a:pt x="26" y="26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45"/>
                    </a:lnTo>
                    <a:lnTo>
                      <a:pt x="32" y="2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2527920" y="3156840"/>
                <a:ext cx="289080" cy="306720"/>
              </a:xfrm>
              <a:custGeom>
                <a:avLst/>
                <a:gdLst/>
                <a:ahLst/>
                <a:rect l="l" t="t" r="r" b="b"/>
                <a:pathLst>
                  <a:path w="234" h="241">
                    <a:moveTo>
                      <a:pt x="0" y="0"/>
                    </a:moveTo>
                    <a:lnTo>
                      <a:pt x="12" y="3"/>
                    </a:lnTo>
                    <a:lnTo>
                      <a:pt x="32" y="13"/>
                    </a:lnTo>
                    <a:lnTo>
                      <a:pt x="57" y="26"/>
                    </a:lnTo>
                    <a:lnTo>
                      <a:pt x="83" y="42"/>
                    </a:lnTo>
                    <a:lnTo>
                      <a:pt x="112" y="61"/>
                    </a:lnTo>
                    <a:lnTo>
                      <a:pt x="141" y="87"/>
                    </a:lnTo>
                    <a:lnTo>
                      <a:pt x="170" y="119"/>
                    </a:lnTo>
                    <a:lnTo>
                      <a:pt x="196" y="154"/>
                    </a:lnTo>
                    <a:lnTo>
                      <a:pt x="218" y="193"/>
                    </a:lnTo>
                    <a:lnTo>
                      <a:pt x="234" y="241"/>
                    </a:lnTo>
                    <a:lnTo>
                      <a:pt x="234" y="241"/>
                    </a:lnTo>
                    <a:lnTo>
                      <a:pt x="231" y="235"/>
                    </a:lnTo>
                    <a:lnTo>
                      <a:pt x="225" y="219"/>
                    </a:lnTo>
                    <a:lnTo>
                      <a:pt x="212" y="193"/>
                    </a:lnTo>
                    <a:lnTo>
                      <a:pt x="193" y="161"/>
                    </a:lnTo>
                    <a:lnTo>
                      <a:pt x="167" y="125"/>
                    </a:lnTo>
                    <a:lnTo>
                      <a:pt x="135" y="90"/>
                    </a:lnTo>
                    <a:lnTo>
                      <a:pt x="96" y="55"/>
                    </a:lnTo>
                    <a:lnTo>
                      <a:pt x="51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2822400" y="3496680"/>
                <a:ext cx="30600" cy="286200"/>
              </a:xfrm>
              <a:custGeom>
                <a:avLst/>
                <a:gdLst/>
                <a:ahLst/>
                <a:rect l="l" t="t" r="r" b="b"/>
                <a:pathLst>
                  <a:path w="25" h="225">
                    <a:moveTo>
                      <a:pt x="0" y="0"/>
                    </a:moveTo>
                    <a:lnTo>
                      <a:pt x="9" y="38"/>
                    </a:lnTo>
                    <a:lnTo>
                      <a:pt x="19" y="129"/>
                    </a:lnTo>
                    <a:lnTo>
                      <a:pt x="19" y="225"/>
                    </a:lnTo>
                    <a:lnTo>
                      <a:pt x="19" y="225"/>
                    </a:lnTo>
                    <a:lnTo>
                      <a:pt x="25" y="193"/>
                    </a:lnTo>
                    <a:lnTo>
                      <a:pt x="25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2730600" y="3877200"/>
                <a:ext cx="106200" cy="311760"/>
              </a:xfrm>
              <a:custGeom>
                <a:avLst/>
                <a:gdLst/>
                <a:ahLst/>
                <a:rect l="l" t="t" r="r" b="b"/>
                <a:pathLst>
                  <a:path w="86" h="245">
                    <a:moveTo>
                      <a:pt x="86" y="0"/>
                    </a:moveTo>
                    <a:lnTo>
                      <a:pt x="80" y="16"/>
                    </a:lnTo>
                    <a:lnTo>
                      <a:pt x="67" y="58"/>
                    </a:lnTo>
                    <a:lnTo>
                      <a:pt x="51" y="119"/>
                    </a:lnTo>
                    <a:lnTo>
                      <a:pt x="29" y="183"/>
                    </a:lnTo>
                    <a:lnTo>
                      <a:pt x="0" y="245"/>
                    </a:lnTo>
                    <a:lnTo>
                      <a:pt x="0" y="245"/>
                    </a:lnTo>
                    <a:lnTo>
                      <a:pt x="3" y="241"/>
                    </a:lnTo>
                    <a:lnTo>
                      <a:pt x="9" y="229"/>
                    </a:lnTo>
                    <a:lnTo>
                      <a:pt x="19" y="212"/>
                    </a:lnTo>
                    <a:lnTo>
                      <a:pt x="32" y="187"/>
                    </a:lnTo>
                    <a:lnTo>
                      <a:pt x="45" y="158"/>
                    </a:lnTo>
                    <a:lnTo>
                      <a:pt x="58" y="122"/>
                    </a:lnTo>
                    <a:lnTo>
                      <a:pt x="70" y="84"/>
                    </a:lnTo>
                    <a:lnTo>
                      <a:pt x="80" y="4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1902600" y="4417920"/>
                <a:ext cx="106200" cy="10548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0" y="0"/>
                    </a:moveTo>
                    <a:lnTo>
                      <a:pt x="6" y="3"/>
                    </a:lnTo>
                    <a:lnTo>
                      <a:pt x="16" y="16"/>
                    </a:lnTo>
                    <a:lnTo>
                      <a:pt x="29" y="35"/>
                    </a:lnTo>
                    <a:lnTo>
                      <a:pt x="48" y="51"/>
                    </a:lnTo>
                    <a:lnTo>
                      <a:pt x="67" y="71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3" y="80"/>
                    </a:lnTo>
                    <a:lnTo>
                      <a:pt x="74" y="71"/>
                    </a:lnTo>
                    <a:lnTo>
                      <a:pt x="61" y="58"/>
                    </a:lnTo>
                    <a:lnTo>
                      <a:pt x="45" y="45"/>
                    </a:lnTo>
                    <a:lnTo>
                      <a:pt x="32" y="29"/>
                    </a:lnTo>
                    <a:lnTo>
                      <a:pt x="1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2491920" y="4377240"/>
                <a:ext cx="71640" cy="97920"/>
              </a:xfrm>
              <a:custGeom>
                <a:avLst/>
                <a:gdLst/>
                <a:ahLst/>
                <a:rect l="l" t="t" r="r" b="b"/>
                <a:pathLst>
                  <a:path w="58" h="77">
                    <a:moveTo>
                      <a:pt x="58" y="0"/>
                    </a:moveTo>
                    <a:lnTo>
                      <a:pt x="48" y="12"/>
                    </a:lnTo>
                    <a:lnTo>
                      <a:pt x="29" y="4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9" y="67"/>
                    </a:lnTo>
                    <a:lnTo>
                      <a:pt x="32" y="4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2001600" y="4492080"/>
                <a:ext cx="71640" cy="4824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0" y="0"/>
                    </a:moveTo>
                    <a:lnTo>
                      <a:pt x="10" y="6"/>
                    </a:lnTo>
                    <a:lnTo>
                      <a:pt x="32" y="22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48" y="32"/>
                    </a:lnTo>
                    <a:lnTo>
                      <a:pt x="29" y="19"/>
                    </a:lnTo>
                    <a:lnTo>
                      <a:pt x="1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8" name=""/>
            <p:cNvSpPr/>
            <p:nvPr/>
          </p:nvSpPr>
          <p:spPr>
            <a:xfrm>
              <a:off x="1999080" y="3351600"/>
              <a:ext cx="609120" cy="349920"/>
            </a:xfrm>
            <a:custGeom>
              <a:avLst/>
              <a:gdLst/>
              <a:ahLst/>
              <a:rect l="l" t="t" r="r" b="b"/>
              <a:pathLst>
                <a:path w="492" h="275">
                  <a:moveTo>
                    <a:pt x="376" y="9"/>
                  </a:moveTo>
                  <a:cubicBezTo>
                    <a:pt x="341" y="32"/>
                    <a:pt x="314" y="58"/>
                    <a:pt x="280" y="81"/>
                  </a:cubicBezTo>
                  <a:cubicBezTo>
                    <a:pt x="225" y="163"/>
                    <a:pt x="92" y="199"/>
                    <a:pt x="0" y="209"/>
                  </a:cubicBezTo>
                  <a:cubicBezTo>
                    <a:pt x="18" y="264"/>
                    <a:pt x="40" y="264"/>
                    <a:pt x="96" y="273"/>
                  </a:cubicBezTo>
                  <a:cubicBezTo>
                    <a:pt x="157" y="270"/>
                    <a:pt x="219" y="275"/>
                    <a:pt x="280" y="265"/>
                  </a:cubicBezTo>
                  <a:cubicBezTo>
                    <a:pt x="306" y="261"/>
                    <a:pt x="293" y="212"/>
                    <a:pt x="312" y="193"/>
                  </a:cubicBezTo>
                  <a:cubicBezTo>
                    <a:pt x="333" y="172"/>
                    <a:pt x="384" y="137"/>
                    <a:pt x="384" y="137"/>
                  </a:cubicBezTo>
                  <a:cubicBezTo>
                    <a:pt x="389" y="129"/>
                    <a:pt x="393" y="119"/>
                    <a:pt x="400" y="113"/>
                  </a:cubicBezTo>
                  <a:cubicBezTo>
                    <a:pt x="414" y="100"/>
                    <a:pt x="448" y="81"/>
                    <a:pt x="448" y="81"/>
                  </a:cubicBezTo>
                  <a:cubicBezTo>
                    <a:pt x="454" y="72"/>
                    <a:pt x="492" y="20"/>
                    <a:pt x="464" y="9"/>
                  </a:cubicBezTo>
                  <a:cubicBezTo>
                    <a:pt x="442" y="0"/>
                    <a:pt x="416" y="1"/>
                    <a:pt x="392" y="1"/>
                  </a:cubicBezTo>
                  <a:cubicBezTo>
                    <a:pt x="386" y="1"/>
                    <a:pt x="381" y="6"/>
                    <a:pt x="37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9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6936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1" name="BUTN011" descr=""/>
          <p:cNvPicPr/>
          <p:nvPr/>
        </p:nvPicPr>
        <p:blipFill>
          <a:blip r:embed="rId1"/>
          <a:stretch/>
        </p:blipFill>
        <p:spPr>
          <a:xfrm>
            <a:off x="1219320" y="2871720"/>
            <a:ext cx="1747800" cy="1874880"/>
          </a:xfrm>
          <a:prstGeom prst="rect">
            <a:avLst/>
          </a:prstGeom>
          <a:ln w="0">
            <a:noFill/>
          </a:ln>
        </p:spPr>
      </p:pic>
      <p:pic>
        <p:nvPicPr>
          <p:cNvPr id="6342" name="BUTTON21" descr=""/>
          <p:cNvPicPr/>
          <p:nvPr/>
        </p:nvPicPr>
        <p:blipFill>
          <a:blip r:embed="rId2"/>
          <a:stretch/>
        </p:blipFill>
        <p:spPr>
          <a:xfrm>
            <a:off x="5791320" y="2606760"/>
            <a:ext cx="2411280" cy="2406600"/>
          </a:xfrm>
          <a:prstGeom prst="rect">
            <a:avLst/>
          </a:prstGeom>
          <a:ln w="0">
            <a:noFill/>
          </a:ln>
        </p:spPr>
      </p:pic>
      <p:sp>
        <p:nvSpPr>
          <p:cNvPr id="6343" name=""/>
          <p:cNvSpPr/>
          <p:nvPr/>
        </p:nvSpPr>
        <p:spPr>
          <a:xfrm>
            <a:off x="17542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5" name=""/>
          <p:cNvGrpSpPr/>
          <p:nvPr/>
        </p:nvGrpSpPr>
        <p:grpSpPr>
          <a:xfrm>
            <a:off x="1752480" y="2376360"/>
            <a:ext cx="1292400" cy="2865600"/>
            <a:chOff x="1752480" y="2376360"/>
            <a:chExt cx="1292400" cy="2865600"/>
          </a:xfrm>
        </p:grpSpPr>
        <p:sp>
          <p:nvSpPr>
            <p:cNvPr id="6346" name=""/>
            <p:cNvSpPr/>
            <p:nvPr/>
          </p:nvSpPr>
          <p:spPr>
            <a:xfrm>
              <a:off x="1752480" y="2376360"/>
              <a:ext cx="1292400" cy="2865600"/>
            </a:xfrm>
            <a:custGeom>
              <a:avLst/>
              <a:gdLst/>
              <a:ahLst/>
              <a:rect l="l" t="t" r="r" b="b"/>
              <a:pathLst>
                <a:path w="2815" h="5931">
                  <a:moveTo>
                    <a:pt x="879" y="5931"/>
                  </a:moveTo>
                  <a:lnTo>
                    <a:pt x="1680" y="5931"/>
                  </a:lnTo>
                  <a:lnTo>
                    <a:pt x="1631" y="3896"/>
                  </a:lnTo>
                  <a:lnTo>
                    <a:pt x="2531" y="3825"/>
                  </a:lnTo>
                  <a:lnTo>
                    <a:pt x="2590" y="3814"/>
                  </a:lnTo>
                  <a:lnTo>
                    <a:pt x="2645" y="3792"/>
                  </a:lnTo>
                  <a:lnTo>
                    <a:pt x="2670" y="3779"/>
                  </a:lnTo>
                  <a:lnTo>
                    <a:pt x="2693" y="3762"/>
                  </a:lnTo>
                  <a:lnTo>
                    <a:pt x="2735" y="3725"/>
                  </a:lnTo>
                  <a:lnTo>
                    <a:pt x="2769" y="3683"/>
                  </a:lnTo>
                  <a:lnTo>
                    <a:pt x="2794" y="3639"/>
                  </a:lnTo>
                  <a:lnTo>
                    <a:pt x="2809" y="3591"/>
                  </a:lnTo>
                  <a:lnTo>
                    <a:pt x="2815" y="3547"/>
                  </a:lnTo>
                  <a:lnTo>
                    <a:pt x="2815" y="2483"/>
                  </a:lnTo>
                  <a:lnTo>
                    <a:pt x="2809" y="2430"/>
                  </a:lnTo>
                  <a:lnTo>
                    <a:pt x="2792" y="2384"/>
                  </a:lnTo>
                  <a:lnTo>
                    <a:pt x="2766" y="2344"/>
                  </a:lnTo>
                  <a:lnTo>
                    <a:pt x="2732" y="2311"/>
                  </a:lnTo>
                  <a:lnTo>
                    <a:pt x="2691" y="2285"/>
                  </a:lnTo>
                  <a:lnTo>
                    <a:pt x="2645" y="2266"/>
                  </a:lnTo>
                  <a:lnTo>
                    <a:pt x="2597" y="2254"/>
                  </a:lnTo>
                  <a:lnTo>
                    <a:pt x="2548" y="2251"/>
                  </a:lnTo>
                  <a:lnTo>
                    <a:pt x="2497" y="2255"/>
                  </a:lnTo>
                  <a:lnTo>
                    <a:pt x="2449" y="2267"/>
                  </a:lnTo>
                  <a:lnTo>
                    <a:pt x="2403" y="2288"/>
                  </a:lnTo>
                  <a:lnTo>
                    <a:pt x="2363" y="2319"/>
                  </a:lnTo>
                  <a:lnTo>
                    <a:pt x="2329" y="2358"/>
                  </a:lnTo>
                  <a:lnTo>
                    <a:pt x="2315" y="2381"/>
                  </a:lnTo>
                  <a:lnTo>
                    <a:pt x="2303" y="2406"/>
                  </a:lnTo>
                  <a:lnTo>
                    <a:pt x="2285" y="2464"/>
                  </a:lnTo>
                  <a:lnTo>
                    <a:pt x="2281" y="2497"/>
                  </a:lnTo>
                  <a:lnTo>
                    <a:pt x="2280" y="2532"/>
                  </a:lnTo>
                  <a:lnTo>
                    <a:pt x="2271" y="3319"/>
                  </a:lnTo>
                  <a:lnTo>
                    <a:pt x="1612" y="3332"/>
                  </a:lnTo>
                  <a:lnTo>
                    <a:pt x="1595" y="2054"/>
                  </a:lnTo>
                  <a:lnTo>
                    <a:pt x="2320" y="1977"/>
                  </a:lnTo>
                  <a:lnTo>
                    <a:pt x="2351" y="1970"/>
                  </a:lnTo>
                  <a:lnTo>
                    <a:pt x="2379" y="1953"/>
                  </a:lnTo>
                  <a:lnTo>
                    <a:pt x="2404" y="1930"/>
                  </a:lnTo>
                  <a:lnTo>
                    <a:pt x="2427" y="1903"/>
                  </a:lnTo>
                  <a:lnTo>
                    <a:pt x="2446" y="1872"/>
                  </a:lnTo>
                  <a:lnTo>
                    <a:pt x="2461" y="1841"/>
                  </a:lnTo>
                  <a:lnTo>
                    <a:pt x="2470" y="1810"/>
                  </a:lnTo>
                  <a:lnTo>
                    <a:pt x="2473" y="1780"/>
                  </a:lnTo>
                  <a:lnTo>
                    <a:pt x="2464" y="668"/>
                  </a:lnTo>
                  <a:lnTo>
                    <a:pt x="2459" y="628"/>
                  </a:lnTo>
                  <a:lnTo>
                    <a:pt x="2448" y="594"/>
                  </a:lnTo>
                  <a:lnTo>
                    <a:pt x="2431" y="566"/>
                  </a:lnTo>
                  <a:lnTo>
                    <a:pt x="2409" y="542"/>
                  </a:lnTo>
                  <a:lnTo>
                    <a:pt x="2383" y="523"/>
                  </a:lnTo>
                  <a:lnTo>
                    <a:pt x="2352" y="510"/>
                  </a:lnTo>
                  <a:lnTo>
                    <a:pt x="2320" y="502"/>
                  </a:lnTo>
                  <a:lnTo>
                    <a:pt x="2288" y="500"/>
                  </a:lnTo>
                  <a:lnTo>
                    <a:pt x="2256" y="503"/>
                  </a:lnTo>
                  <a:lnTo>
                    <a:pt x="2224" y="513"/>
                  </a:lnTo>
                  <a:lnTo>
                    <a:pt x="2193" y="528"/>
                  </a:lnTo>
                  <a:lnTo>
                    <a:pt x="2167" y="548"/>
                  </a:lnTo>
                  <a:lnTo>
                    <a:pt x="2145" y="576"/>
                  </a:lnTo>
                  <a:lnTo>
                    <a:pt x="2128" y="609"/>
                  </a:lnTo>
                  <a:lnTo>
                    <a:pt x="2117" y="648"/>
                  </a:lnTo>
                  <a:lnTo>
                    <a:pt x="2112" y="694"/>
                  </a:lnTo>
                  <a:lnTo>
                    <a:pt x="2103" y="1628"/>
                  </a:lnTo>
                  <a:lnTo>
                    <a:pt x="1581" y="1637"/>
                  </a:lnTo>
                  <a:lnTo>
                    <a:pt x="1584" y="1637"/>
                  </a:lnTo>
                  <a:lnTo>
                    <a:pt x="1583" y="1637"/>
                  </a:lnTo>
                  <a:lnTo>
                    <a:pt x="1581" y="1637"/>
                  </a:lnTo>
                  <a:lnTo>
                    <a:pt x="1563" y="305"/>
                  </a:lnTo>
                  <a:lnTo>
                    <a:pt x="1556" y="240"/>
                  </a:lnTo>
                  <a:lnTo>
                    <a:pt x="1538" y="181"/>
                  </a:lnTo>
                  <a:lnTo>
                    <a:pt x="1509" y="129"/>
                  </a:lnTo>
                  <a:lnTo>
                    <a:pt x="1473" y="87"/>
                  </a:lnTo>
                  <a:lnTo>
                    <a:pt x="1430" y="52"/>
                  </a:lnTo>
                  <a:lnTo>
                    <a:pt x="1383" y="25"/>
                  </a:lnTo>
                  <a:lnTo>
                    <a:pt x="1332" y="8"/>
                  </a:lnTo>
                  <a:lnTo>
                    <a:pt x="1279" y="0"/>
                  </a:lnTo>
                  <a:lnTo>
                    <a:pt x="1253" y="0"/>
                  </a:lnTo>
                  <a:lnTo>
                    <a:pt x="1227" y="2"/>
                  </a:lnTo>
                  <a:lnTo>
                    <a:pt x="1177" y="15"/>
                  </a:lnTo>
                  <a:lnTo>
                    <a:pt x="1128" y="38"/>
                  </a:lnTo>
                  <a:lnTo>
                    <a:pt x="1085" y="73"/>
                  </a:lnTo>
                  <a:lnTo>
                    <a:pt x="1049" y="119"/>
                  </a:lnTo>
                  <a:lnTo>
                    <a:pt x="1032" y="147"/>
                  </a:lnTo>
                  <a:lnTo>
                    <a:pt x="1019" y="177"/>
                  </a:lnTo>
                  <a:lnTo>
                    <a:pt x="1008" y="211"/>
                  </a:lnTo>
                  <a:lnTo>
                    <a:pt x="999" y="248"/>
                  </a:lnTo>
                  <a:lnTo>
                    <a:pt x="994" y="288"/>
                  </a:lnTo>
                  <a:lnTo>
                    <a:pt x="992" y="332"/>
                  </a:lnTo>
                  <a:lnTo>
                    <a:pt x="941" y="2487"/>
                  </a:lnTo>
                  <a:lnTo>
                    <a:pt x="424" y="2496"/>
                  </a:lnTo>
                  <a:lnTo>
                    <a:pt x="419" y="1330"/>
                  </a:lnTo>
                  <a:lnTo>
                    <a:pt x="415" y="1275"/>
                  </a:lnTo>
                  <a:lnTo>
                    <a:pt x="402" y="1228"/>
                  </a:lnTo>
                  <a:lnTo>
                    <a:pt x="381" y="1188"/>
                  </a:lnTo>
                  <a:lnTo>
                    <a:pt x="354" y="1157"/>
                  </a:lnTo>
                  <a:lnTo>
                    <a:pt x="322" y="1133"/>
                  </a:lnTo>
                  <a:lnTo>
                    <a:pt x="287" y="1116"/>
                  </a:lnTo>
                  <a:lnTo>
                    <a:pt x="249" y="1107"/>
                  </a:lnTo>
                  <a:lnTo>
                    <a:pt x="210" y="1106"/>
                  </a:lnTo>
                  <a:lnTo>
                    <a:pt x="171" y="1112"/>
                  </a:lnTo>
                  <a:lnTo>
                    <a:pt x="133" y="1125"/>
                  </a:lnTo>
                  <a:lnTo>
                    <a:pt x="97" y="1145"/>
                  </a:lnTo>
                  <a:lnTo>
                    <a:pt x="66" y="1172"/>
                  </a:lnTo>
                  <a:lnTo>
                    <a:pt x="38" y="1207"/>
                  </a:lnTo>
                  <a:lnTo>
                    <a:pt x="18" y="1249"/>
                  </a:lnTo>
                  <a:lnTo>
                    <a:pt x="4" y="1297"/>
                  </a:lnTo>
                  <a:lnTo>
                    <a:pt x="0" y="1352"/>
                  </a:lnTo>
                  <a:lnTo>
                    <a:pt x="4" y="2657"/>
                  </a:lnTo>
                  <a:lnTo>
                    <a:pt x="7" y="2705"/>
                  </a:lnTo>
                  <a:lnTo>
                    <a:pt x="15" y="2751"/>
                  </a:lnTo>
                  <a:lnTo>
                    <a:pt x="30" y="2793"/>
                  </a:lnTo>
                  <a:lnTo>
                    <a:pt x="50" y="2830"/>
                  </a:lnTo>
                  <a:lnTo>
                    <a:pt x="79" y="2863"/>
                  </a:lnTo>
                  <a:lnTo>
                    <a:pt x="114" y="2888"/>
                  </a:lnTo>
                  <a:lnTo>
                    <a:pt x="157" y="2906"/>
                  </a:lnTo>
                  <a:lnTo>
                    <a:pt x="207" y="2916"/>
                  </a:lnTo>
                  <a:lnTo>
                    <a:pt x="928" y="2993"/>
                  </a:lnTo>
                  <a:lnTo>
                    <a:pt x="879" y="5931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1752480" y="2376360"/>
              <a:ext cx="1292400" cy="2865600"/>
            </a:xfrm>
            <a:custGeom>
              <a:avLst/>
              <a:gdLst/>
              <a:ahLst/>
              <a:rect l="l" t="t" r="r" b="b"/>
              <a:pathLst>
                <a:path w="2815" h="5931">
                  <a:moveTo>
                    <a:pt x="879" y="5931"/>
                  </a:moveTo>
                  <a:lnTo>
                    <a:pt x="1680" y="5931"/>
                  </a:lnTo>
                  <a:lnTo>
                    <a:pt x="1631" y="3896"/>
                  </a:lnTo>
                  <a:lnTo>
                    <a:pt x="2531" y="3825"/>
                  </a:lnTo>
                  <a:lnTo>
                    <a:pt x="2590" y="3814"/>
                  </a:lnTo>
                  <a:lnTo>
                    <a:pt x="2645" y="3792"/>
                  </a:lnTo>
                  <a:lnTo>
                    <a:pt x="2670" y="3779"/>
                  </a:lnTo>
                  <a:lnTo>
                    <a:pt x="2693" y="3762"/>
                  </a:lnTo>
                  <a:lnTo>
                    <a:pt x="2735" y="3725"/>
                  </a:lnTo>
                  <a:lnTo>
                    <a:pt x="2769" y="3683"/>
                  </a:lnTo>
                  <a:lnTo>
                    <a:pt x="2794" y="3639"/>
                  </a:lnTo>
                  <a:lnTo>
                    <a:pt x="2809" y="3591"/>
                  </a:lnTo>
                  <a:lnTo>
                    <a:pt x="2815" y="3547"/>
                  </a:lnTo>
                  <a:lnTo>
                    <a:pt x="2815" y="2483"/>
                  </a:lnTo>
                  <a:lnTo>
                    <a:pt x="2809" y="2430"/>
                  </a:lnTo>
                  <a:lnTo>
                    <a:pt x="2792" y="2384"/>
                  </a:lnTo>
                  <a:lnTo>
                    <a:pt x="2766" y="2344"/>
                  </a:lnTo>
                  <a:lnTo>
                    <a:pt x="2732" y="2311"/>
                  </a:lnTo>
                  <a:lnTo>
                    <a:pt x="2691" y="2285"/>
                  </a:lnTo>
                  <a:lnTo>
                    <a:pt x="2645" y="2266"/>
                  </a:lnTo>
                  <a:lnTo>
                    <a:pt x="2597" y="2254"/>
                  </a:lnTo>
                  <a:lnTo>
                    <a:pt x="2548" y="2251"/>
                  </a:lnTo>
                  <a:lnTo>
                    <a:pt x="2497" y="2255"/>
                  </a:lnTo>
                  <a:lnTo>
                    <a:pt x="2449" y="2267"/>
                  </a:lnTo>
                  <a:lnTo>
                    <a:pt x="2403" y="2288"/>
                  </a:lnTo>
                  <a:lnTo>
                    <a:pt x="2363" y="2319"/>
                  </a:lnTo>
                  <a:lnTo>
                    <a:pt x="2329" y="2358"/>
                  </a:lnTo>
                  <a:lnTo>
                    <a:pt x="2315" y="2381"/>
                  </a:lnTo>
                  <a:lnTo>
                    <a:pt x="2303" y="2406"/>
                  </a:lnTo>
                  <a:lnTo>
                    <a:pt x="2285" y="2464"/>
                  </a:lnTo>
                  <a:lnTo>
                    <a:pt x="2281" y="2497"/>
                  </a:lnTo>
                  <a:lnTo>
                    <a:pt x="2280" y="2532"/>
                  </a:lnTo>
                  <a:lnTo>
                    <a:pt x="2271" y="3319"/>
                  </a:lnTo>
                  <a:lnTo>
                    <a:pt x="1612" y="3332"/>
                  </a:lnTo>
                  <a:lnTo>
                    <a:pt x="1595" y="2054"/>
                  </a:lnTo>
                  <a:lnTo>
                    <a:pt x="2320" y="1977"/>
                  </a:lnTo>
                  <a:lnTo>
                    <a:pt x="2351" y="1970"/>
                  </a:lnTo>
                  <a:lnTo>
                    <a:pt x="2379" y="1953"/>
                  </a:lnTo>
                  <a:lnTo>
                    <a:pt x="2404" y="1930"/>
                  </a:lnTo>
                  <a:lnTo>
                    <a:pt x="2427" y="1903"/>
                  </a:lnTo>
                  <a:lnTo>
                    <a:pt x="2446" y="1872"/>
                  </a:lnTo>
                  <a:lnTo>
                    <a:pt x="2461" y="1841"/>
                  </a:lnTo>
                  <a:lnTo>
                    <a:pt x="2470" y="1810"/>
                  </a:lnTo>
                  <a:lnTo>
                    <a:pt x="2473" y="1780"/>
                  </a:lnTo>
                  <a:lnTo>
                    <a:pt x="2464" y="668"/>
                  </a:lnTo>
                  <a:lnTo>
                    <a:pt x="2459" y="628"/>
                  </a:lnTo>
                  <a:lnTo>
                    <a:pt x="2448" y="594"/>
                  </a:lnTo>
                  <a:lnTo>
                    <a:pt x="2431" y="566"/>
                  </a:lnTo>
                  <a:lnTo>
                    <a:pt x="2409" y="542"/>
                  </a:lnTo>
                  <a:lnTo>
                    <a:pt x="2383" y="523"/>
                  </a:lnTo>
                  <a:lnTo>
                    <a:pt x="2352" y="510"/>
                  </a:lnTo>
                  <a:lnTo>
                    <a:pt x="2320" y="502"/>
                  </a:lnTo>
                  <a:lnTo>
                    <a:pt x="2288" y="500"/>
                  </a:lnTo>
                  <a:lnTo>
                    <a:pt x="2256" y="503"/>
                  </a:lnTo>
                  <a:lnTo>
                    <a:pt x="2224" y="513"/>
                  </a:lnTo>
                  <a:lnTo>
                    <a:pt x="2193" y="528"/>
                  </a:lnTo>
                  <a:lnTo>
                    <a:pt x="2167" y="548"/>
                  </a:lnTo>
                  <a:lnTo>
                    <a:pt x="2145" y="576"/>
                  </a:lnTo>
                  <a:lnTo>
                    <a:pt x="2128" y="609"/>
                  </a:lnTo>
                  <a:lnTo>
                    <a:pt x="2117" y="648"/>
                  </a:lnTo>
                  <a:lnTo>
                    <a:pt x="2112" y="694"/>
                  </a:lnTo>
                  <a:lnTo>
                    <a:pt x="2103" y="1628"/>
                  </a:lnTo>
                  <a:lnTo>
                    <a:pt x="1581" y="1637"/>
                  </a:lnTo>
                  <a:lnTo>
                    <a:pt x="1584" y="1637"/>
                  </a:lnTo>
                  <a:lnTo>
                    <a:pt x="1583" y="1637"/>
                  </a:lnTo>
                  <a:lnTo>
                    <a:pt x="1581" y="1637"/>
                  </a:lnTo>
                  <a:lnTo>
                    <a:pt x="1563" y="305"/>
                  </a:lnTo>
                  <a:lnTo>
                    <a:pt x="1556" y="240"/>
                  </a:lnTo>
                  <a:lnTo>
                    <a:pt x="1538" y="181"/>
                  </a:lnTo>
                  <a:lnTo>
                    <a:pt x="1509" y="129"/>
                  </a:lnTo>
                  <a:lnTo>
                    <a:pt x="1473" y="87"/>
                  </a:lnTo>
                  <a:lnTo>
                    <a:pt x="1430" y="52"/>
                  </a:lnTo>
                  <a:lnTo>
                    <a:pt x="1383" y="25"/>
                  </a:lnTo>
                  <a:lnTo>
                    <a:pt x="1332" y="8"/>
                  </a:lnTo>
                  <a:lnTo>
                    <a:pt x="1279" y="0"/>
                  </a:lnTo>
                  <a:lnTo>
                    <a:pt x="1253" y="0"/>
                  </a:lnTo>
                  <a:lnTo>
                    <a:pt x="1227" y="2"/>
                  </a:lnTo>
                  <a:lnTo>
                    <a:pt x="1177" y="15"/>
                  </a:lnTo>
                  <a:lnTo>
                    <a:pt x="1128" y="38"/>
                  </a:lnTo>
                  <a:lnTo>
                    <a:pt x="1085" y="73"/>
                  </a:lnTo>
                  <a:lnTo>
                    <a:pt x="1049" y="119"/>
                  </a:lnTo>
                  <a:lnTo>
                    <a:pt x="1032" y="147"/>
                  </a:lnTo>
                  <a:lnTo>
                    <a:pt x="1019" y="177"/>
                  </a:lnTo>
                  <a:lnTo>
                    <a:pt x="1008" y="211"/>
                  </a:lnTo>
                  <a:lnTo>
                    <a:pt x="999" y="248"/>
                  </a:lnTo>
                  <a:lnTo>
                    <a:pt x="994" y="288"/>
                  </a:lnTo>
                  <a:lnTo>
                    <a:pt x="992" y="332"/>
                  </a:lnTo>
                  <a:lnTo>
                    <a:pt x="941" y="2487"/>
                  </a:lnTo>
                  <a:lnTo>
                    <a:pt x="424" y="2496"/>
                  </a:lnTo>
                  <a:lnTo>
                    <a:pt x="419" y="1330"/>
                  </a:lnTo>
                  <a:lnTo>
                    <a:pt x="415" y="1275"/>
                  </a:lnTo>
                  <a:lnTo>
                    <a:pt x="402" y="1228"/>
                  </a:lnTo>
                  <a:lnTo>
                    <a:pt x="381" y="1188"/>
                  </a:lnTo>
                  <a:lnTo>
                    <a:pt x="354" y="1157"/>
                  </a:lnTo>
                  <a:lnTo>
                    <a:pt x="322" y="1133"/>
                  </a:lnTo>
                  <a:lnTo>
                    <a:pt x="287" y="1116"/>
                  </a:lnTo>
                  <a:lnTo>
                    <a:pt x="249" y="1107"/>
                  </a:lnTo>
                  <a:lnTo>
                    <a:pt x="210" y="1106"/>
                  </a:lnTo>
                  <a:lnTo>
                    <a:pt x="171" y="1112"/>
                  </a:lnTo>
                  <a:lnTo>
                    <a:pt x="133" y="1125"/>
                  </a:lnTo>
                  <a:lnTo>
                    <a:pt x="97" y="1145"/>
                  </a:lnTo>
                  <a:lnTo>
                    <a:pt x="66" y="1172"/>
                  </a:lnTo>
                  <a:lnTo>
                    <a:pt x="38" y="1207"/>
                  </a:lnTo>
                  <a:lnTo>
                    <a:pt x="18" y="1249"/>
                  </a:lnTo>
                  <a:lnTo>
                    <a:pt x="4" y="1297"/>
                  </a:lnTo>
                  <a:lnTo>
                    <a:pt x="0" y="1352"/>
                  </a:lnTo>
                  <a:lnTo>
                    <a:pt x="4" y="2657"/>
                  </a:lnTo>
                  <a:lnTo>
                    <a:pt x="7" y="2705"/>
                  </a:lnTo>
                  <a:lnTo>
                    <a:pt x="15" y="2751"/>
                  </a:lnTo>
                  <a:lnTo>
                    <a:pt x="30" y="2793"/>
                  </a:lnTo>
                  <a:lnTo>
                    <a:pt x="50" y="2830"/>
                  </a:lnTo>
                  <a:lnTo>
                    <a:pt x="79" y="2863"/>
                  </a:lnTo>
                  <a:lnTo>
                    <a:pt x="114" y="2888"/>
                  </a:lnTo>
                  <a:lnTo>
                    <a:pt x="157" y="2906"/>
                  </a:lnTo>
                  <a:lnTo>
                    <a:pt x="207" y="2916"/>
                  </a:lnTo>
                  <a:lnTo>
                    <a:pt x="928" y="2993"/>
                  </a:lnTo>
                  <a:lnTo>
                    <a:pt x="879" y="593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8" name=""/>
          <p:cNvGrpSpPr/>
          <p:nvPr/>
        </p:nvGrpSpPr>
        <p:grpSpPr>
          <a:xfrm>
            <a:off x="6477120" y="2452680"/>
            <a:ext cx="859680" cy="2712600"/>
            <a:chOff x="6477120" y="2452680"/>
            <a:chExt cx="859680" cy="2712600"/>
          </a:xfrm>
        </p:grpSpPr>
        <p:sp>
          <p:nvSpPr>
            <p:cNvPr id="6349" name=""/>
            <p:cNvSpPr/>
            <p:nvPr/>
          </p:nvSpPr>
          <p:spPr>
            <a:xfrm>
              <a:off x="6477120" y="2452680"/>
              <a:ext cx="859680" cy="2712600"/>
            </a:xfrm>
            <a:custGeom>
              <a:avLst/>
              <a:gdLst/>
              <a:ahLst/>
              <a:rect l="l" t="t" r="r" b="b"/>
              <a:pathLst>
                <a:path w="772" h="4281">
                  <a:moveTo>
                    <a:pt x="144" y="4281"/>
                  </a:moveTo>
                  <a:lnTo>
                    <a:pt x="124" y="4087"/>
                  </a:lnTo>
                  <a:lnTo>
                    <a:pt x="112" y="3881"/>
                  </a:lnTo>
                  <a:lnTo>
                    <a:pt x="107" y="3667"/>
                  </a:lnTo>
                  <a:lnTo>
                    <a:pt x="108" y="3446"/>
                  </a:lnTo>
                  <a:lnTo>
                    <a:pt x="116" y="3220"/>
                  </a:lnTo>
                  <a:lnTo>
                    <a:pt x="129" y="2989"/>
                  </a:lnTo>
                  <a:lnTo>
                    <a:pt x="147" y="2756"/>
                  </a:lnTo>
                  <a:lnTo>
                    <a:pt x="170" y="2523"/>
                  </a:lnTo>
                  <a:lnTo>
                    <a:pt x="135" y="2515"/>
                  </a:lnTo>
                  <a:lnTo>
                    <a:pt x="104" y="2492"/>
                  </a:lnTo>
                  <a:lnTo>
                    <a:pt x="77" y="2458"/>
                  </a:lnTo>
                  <a:lnTo>
                    <a:pt x="56" y="2410"/>
                  </a:lnTo>
                  <a:lnTo>
                    <a:pt x="38" y="2353"/>
                  </a:lnTo>
                  <a:lnTo>
                    <a:pt x="24" y="2283"/>
                  </a:lnTo>
                  <a:lnTo>
                    <a:pt x="14" y="2204"/>
                  </a:lnTo>
                  <a:lnTo>
                    <a:pt x="7" y="2116"/>
                  </a:lnTo>
                  <a:lnTo>
                    <a:pt x="0" y="1917"/>
                  </a:lnTo>
                  <a:lnTo>
                    <a:pt x="4" y="1692"/>
                  </a:lnTo>
                  <a:lnTo>
                    <a:pt x="13" y="1447"/>
                  </a:lnTo>
                  <a:lnTo>
                    <a:pt x="27" y="1190"/>
                  </a:lnTo>
                  <a:lnTo>
                    <a:pt x="31" y="1155"/>
                  </a:lnTo>
                  <a:lnTo>
                    <a:pt x="39" y="1126"/>
                  </a:lnTo>
                  <a:lnTo>
                    <a:pt x="49" y="1101"/>
                  </a:lnTo>
                  <a:lnTo>
                    <a:pt x="63" y="1083"/>
                  </a:lnTo>
                  <a:lnTo>
                    <a:pt x="78" y="1069"/>
                  </a:lnTo>
                  <a:lnTo>
                    <a:pt x="94" y="1063"/>
                  </a:lnTo>
                  <a:lnTo>
                    <a:pt x="113" y="1063"/>
                  </a:lnTo>
                  <a:lnTo>
                    <a:pt x="130" y="1068"/>
                  </a:lnTo>
                  <a:lnTo>
                    <a:pt x="147" y="1081"/>
                  </a:lnTo>
                  <a:lnTo>
                    <a:pt x="163" y="1101"/>
                  </a:lnTo>
                  <a:lnTo>
                    <a:pt x="178" y="1130"/>
                  </a:lnTo>
                  <a:lnTo>
                    <a:pt x="191" y="1165"/>
                  </a:lnTo>
                  <a:lnTo>
                    <a:pt x="200" y="1209"/>
                  </a:lnTo>
                  <a:lnTo>
                    <a:pt x="208" y="1260"/>
                  </a:lnTo>
                  <a:lnTo>
                    <a:pt x="211" y="1322"/>
                  </a:lnTo>
                  <a:lnTo>
                    <a:pt x="210" y="1391"/>
                  </a:lnTo>
                  <a:lnTo>
                    <a:pt x="236" y="825"/>
                  </a:lnTo>
                  <a:lnTo>
                    <a:pt x="249" y="615"/>
                  </a:lnTo>
                  <a:lnTo>
                    <a:pt x="256" y="540"/>
                  </a:lnTo>
                  <a:lnTo>
                    <a:pt x="271" y="412"/>
                  </a:lnTo>
                  <a:lnTo>
                    <a:pt x="287" y="320"/>
                  </a:lnTo>
                  <a:lnTo>
                    <a:pt x="308" y="251"/>
                  </a:lnTo>
                  <a:lnTo>
                    <a:pt x="333" y="206"/>
                  </a:lnTo>
                  <a:lnTo>
                    <a:pt x="346" y="192"/>
                  </a:lnTo>
                  <a:lnTo>
                    <a:pt x="360" y="183"/>
                  </a:lnTo>
                  <a:lnTo>
                    <a:pt x="372" y="179"/>
                  </a:lnTo>
                  <a:lnTo>
                    <a:pt x="386" y="181"/>
                  </a:lnTo>
                  <a:lnTo>
                    <a:pt x="400" y="187"/>
                  </a:lnTo>
                  <a:lnTo>
                    <a:pt x="413" y="197"/>
                  </a:lnTo>
                  <a:lnTo>
                    <a:pt x="439" y="231"/>
                  </a:lnTo>
                  <a:lnTo>
                    <a:pt x="461" y="279"/>
                  </a:lnTo>
                  <a:lnTo>
                    <a:pt x="476" y="333"/>
                  </a:lnTo>
                  <a:lnTo>
                    <a:pt x="489" y="409"/>
                  </a:lnTo>
                  <a:lnTo>
                    <a:pt x="496" y="512"/>
                  </a:lnTo>
                  <a:lnTo>
                    <a:pt x="500" y="648"/>
                  </a:lnTo>
                  <a:lnTo>
                    <a:pt x="519" y="606"/>
                  </a:lnTo>
                  <a:lnTo>
                    <a:pt x="538" y="543"/>
                  </a:lnTo>
                  <a:lnTo>
                    <a:pt x="571" y="377"/>
                  </a:lnTo>
                  <a:lnTo>
                    <a:pt x="601" y="202"/>
                  </a:lnTo>
                  <a:lnTo>
                    <a:pt x="615" y="127"/>
                  </a:lnTo>
                  <a:lnTo>
                    <a:pt x="629" y="69"/>
                  </a:lnTo>
                  <a:lnTo>
                    <a:pt x="645" y="33"/>
                  </a:lnTo>
                  <a:lnTo>
                    <a:pt x="667" y="10"/>
                  </a:lnTo>
                  <a:lnTo>
                    <a:pt x="679" y="4"/>
                  </a:lnTo>
                  <a:lnTo>
                    <a:pt x="692" y="0"/>
                  </a:lnTo>
                  <a:lnTo>
                    <a:pt x="718" y="4"/>
                  </a:lnTo>
                  <a:lnTo>
                    <a:pt x="741" y="23"/>
                  </a:lnTo>
                  <a:lnTo>
                    <a:pt x="761" y="58"/>
                  </a:lnTo>
                  <a:lnTo>
                    <a:pt x="771" y="109"/>
                  </a:lnTo>
                  <a:lnTo>
                    <a:pt x="772" y="177"/>
                  </a:lnTo>
                  <a:lnTo>
                    <a:pt x="756" y="355"/>
                  </a:lnTo>
                  <a:lnTo>
                    <a:pt x="735" y="537"/>
                  </a:lnTo>
                  <a:lnTo>
                    <a:pt x="706" y="713"/>
                  </a:lnTo>
                  <a:lnTo>
                    <a:pt x="672" y="875"/>
                  </a:lnTo>
                  <a:lnTo>
                    <a:pt x="632" y="1014"/>
                  </a:lnTo>
                  <a:lnTo>
                    <a:pt x="611" y="1072"/>
                  </a:lnTo>
                  <a:lnTo>
                    <a:pt x="587" y="1122"/>
                  </a:lnTo>
                  <a:lnTo>
                    <a:pt x="564" y="1160"/>
                  </a:lnTo>
                  <a:lnTo>
                    <a:pt x="539" y="1188"/>
                  </a:lnTo>
                  <a:lnTo>
                    <a:pt x="513" y="1204"/>
                  </a:lnTo>
                  <a:lnTo>
                    <a:pt x="486" y="1206"/>
                  </a:lnTo>
                  <a:lnTo>
                    <a:pt x="473" y="1801"/>
                  </a:lnTo>
                  <a:lnTo>
                    <a:pt x="468" y="2277"/>
                  </a:lnTo>
                  <a:lnTo>
                    <a:pt x="471" y="2707"/>
                  </a:lnTo>
                  <a:lnTo>
                    <a:pt x="480" y="3159"/>
                  </a:lnTo>
                  <a:lnTo>
                    <a:pt x="482" y="3300"/>
                  </a:lnTo>
                  <a:lnTo>
                    <a:pt x="479" y="3441"/>
                  </a:lnTo>
                  <a:lnTo>
                    <a:pt x="463" y="3723"/>
                  </a:lnTo>
                  <a:lnTo>
                    <a:pt x="436" y="4002"/>
                  </a:lnTo>
                  <a:lnTo>
                    <a:pt x="401" y="4281"/>
                  </a:lnTo>
                  <a:lnTo>
                    <a:pt x="144" y="4281"/>
                  </a:lnTo>
                  <a:close/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002360" y="2701440"/>
              <a:ext cx="169560" cy="283320"/>
            </a:xfrm>
            <a:custGeom>
              <a:avLst/>
              <a:gdLst/>
              <a:ahLst/>
              <a:rect l="l" t="t" r="r" b="b"/>
              <a:pathLst>
                <a:path w="151" h="450">
                  <a:moveTo>
                    <a:pt x="151" y="0"/>
                  </a:moveTo>
                  <a:lnTo>
                    <a:pt x="125" y="139"/>
                  </a:lnTo>
                  <a:lnTo>
                    <a:pt x="94" y="263"/>
                  </a:lnTo>
                  <a:lnTo>
                    <a:pt x="75" y="319"/>
                  </a:lnTo>
                  <a:lnTo>
                    <a:pt x="54" y="368"/>
                  </a:lnTo>
                  <a:lnTo>
                    <a:pt x="29" y="412"/>
                  </a:lnTo>
                  <a:lnTo>
                    <a:pt x="0" y="450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6971040" y="2863440"/>
              <a:ext cx="57240" cy="354600"/>
            </a:xfrm>
            <a:custGeom>
              <a:avLst/>
              <a:gdLst/>
              <a:ahLst/>
              <a:rect l="l" t="t" r="r" b="b"/>
              <a:pathLst>
                <a:path w="54" h="558">
                  <a:moveTo>
                    <a:pt x="54" y="0"/>
                  </a:moveTo>
                  <a:lnTo>
                    <a:pt x="42" y="22"/>
                  </a:lnTo>
                  <a:lnTo>
                    <a:pt x="32" y="50"/>
                  </a:lnTo>
                  <a:lnTo>
                    <a:pt x="16" y="126"/>
                  </a:lnTo>
                  <a:lnTo>
                    <a:pt x="6" y="215"/>
                  </a:lnTo>
                  <a:lnTo>
                    <a:pt x="0" y="310"/>
                  </a:lnTo>
                  <a:lnTo>
                    <a:pt x="1" y="402"/>
                  </a:lnTo>
                  <a:lnTo>
                    <a:pt x="8" y="480"/>
                  </a:lnTo>
                  <a:lnTo>
                    <a:pt x="21" y="535"/>
                  </a:lnTo>
                  <a:lnTo>
                    <a:pt x="29" y="552"/>
                  </a:lnTo>
                  <a:lnTo>
                    <a:pt x="33" y="556"/>
                  </a:lnTo>
                  <a:lnTo>
                    <a:pt x="40" y="558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6765840" y="3018240"/>
              <a:ext cx="12960" cy="248040"/>
            </a:xfrm>
            <a:custGeom>
              <a:avLst/>
              <a:gdLst/>
              <a:ahLst/>
              <a:rect l="l" t="t" r="r" b="b"/>
              <a:pathLst>
                <a:path w="14" h="390">
                  <a:moveTo>
                    <a:pt x="8" y="0"/>
                  </a:moveTo>
                  <a:lnTo>
                    <a:pt x="13" y="46"/>
                  </a:lnTo>
                  <a:lnTo>
                    <a:pt x="14" y="92"/>
                  </a:lnTo>
                  <a:lnTo>
                    <a:pt x="9" y="183"/>
                  </a:lnTo>
                  <a:lnTo>
                    <a:pt x="1" y="280"/>
                  </a:lnTo>
                  <a:lnTo>
                    <a:pt x="0" y="390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756840" y="3345120"/>
              <a:ext cx="9000" cy="182160"/>
            </a:xfrm>
            <a:custGeom>
              <a:avLst/>
              <a:gdLst/>
              <a:ahLst/>
              <a:rect l="l" t="t" r="r" b="b"/>
              <a:pathLst>
                <a:path w="6" h="289">
                  <a:moveTo>
                    <a:pt x="6" y="0"/>
                  </a:moveTo>
                  <a:lnTo>
                    <a:pt x="0" y="140"/>
                  </a:lnTo>
                  <a:lnTo>
                    <a:pt x="3" y="289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663960" y="3335040"/>
              <a:ext cx="44280" cy="717120"/>
            </a:xfrm>
            <a:custGeom>
              <a:avLst/>
              <a:gdLst/>
              <a:ahLst/>
              <a:rect l="l" t="t" r="r" b="b"/>
              <a:pathLst>
                <a:path w="40" h="1132">
                  <a:moveTo>
                    <a:pt x="40" y="0"/>
                  </a:moveTo>
                  <a:lnTo>
                    <a:pt x="26" y="648"/>
                  </a:lnTo>
                  <a:lnTo>
                    <a:pt x="15" y="926"/>
                  </a:lnTo>
                  <a:lnTo>
                    <a:pt x="11" y="1019"/>
                  </a:lnTo>
                  <a:lnTo>
                    <a:pt x="10" y="1046"/>
                  </a:lnTo>
                  <a:lnTo>
                    <a:pt x="0" y="1132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591960" y="3869640"/>
              <a:ext cx="21960" cy="78480"/>
            </a:xfrm>
            <a:custGeom>
              <a:avLst/>
              <a:gdLst/>
              <a:ahLst/>
              <a:rect l="l" t="t" r="r" b="b"/>
              <a:pathLst>
                <a:path w="23" h="124">
                  <a:moveTo>
                    <a:pt x="23" y="124"/>
                  </a:moveTo>
                  <a:lnTo>
                    <a:pt x="11" y="97"/>
                  </a:lnTo>
                  <a:lnTo>
                    <a:pt x="3" y="68"/>
                  </a:lnTo>
                  <a:lnTo>
                    <a:pt x="0" y="36"/>
                  </a:lnTo>
                  <a:lnTo>
                    <a:pt x="1" y="0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543720" y="3367800"/>
              <a:ext cx="16920" cy="451080"/>
            </a:xfrm>
            <a:custGeom>
              <a:avLst/>
              <a:gdLst/>
              <a:ahLst/>
              <a:rect l="l" t="t" r="r" b="b"/>
              <a:pathLst>
                <a:path w="14" h="712">
                  <a:moveTo>
                    <a:pt x="14" y="712"/>
                  </a:moveTo>
                  <a:lnTo>
                    <a:pt x="11" y="571"/>
                  </a:lnTo>
                  <a:lnTo>
                    <a:pt x="11" y="398"/>
                  </a:lnTo>
                  <a:lnTo>
                    <a:pt x="9" y="202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52880" y="4034520"/>
              <a:ext cx="3960" cy="126720"/>
            </a:xfrm>
            <a:custGeom>
              <a:avLst/>
              <a:gdLst/>
              <a:ahLst/>
              <a:rect l="l" t="t" r="r" b="b"/>
              <a:pathLst>
                <a:path w="1" h="198">
                  <a:moveTo>
                    <a:pt x="1" y="0"/>
                  </a:moveTo>
                  <a:lnTo>
                    <a:pt x="0" y="121"/>
                  </a:lnTo>
                  <a:lnTo>
                    <a:pt x="1" y="198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672960" y="4230000"/>
              <a:ext cx="16920" cy="156600"/>
            </a:xfrm>
            <a:custGeom>
              <a:avLst/>
              <a:gdLst/>
              <a:ahLst/>
              <a:rect l="l" t="t" r="r" b="b"/>
              <a:pathLst>
                <a:path w="15" h="249">
                  <a:moveTo>
                    <a:pt x="15" y="0"/>
                  </a:moveTo>
                  <a:lnTo>
                    <a:pt x="8" y="63"/>
                  </a:lnTo>
                  <a:lnTo>
                    <a:pt x="4" y="123"/>
                  </a:lnTo>
                  <a:lnTo>
                    <a:pt x="0" y="249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667920" y="4496040"/>
              <a:ext cx="5040" cy="463680"/>
            </a:xfrm>
            <a:custGeom>
              <a:avLst/>
              <a:gdLst/>
              <a:ahLst/>
              <a:rect l="l" t="t" r="r" b="b"/>
              <a:pathLst>
                <a:path w="4" h="734">
                  <a:moveTo>
                    <a:pt x="4" y="0"/>
                  </a:moveTo>
                  <a:lnTo>
                    <a:pt x="0" y="369"/>
                  </a:lnTo>
                  <a:lnTo>
                    <a:pt x="1" y="734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676920" y="5020560"/>
              <a:ext cx="62280" cy="101520"/>
            </a:xfrm>
            <a:custGeom>
              <a:avLst/>
              <a:gdLst/>
              <a:ahLst/>
              <a:rect l="l" t="t" r="r" b="b"/>
              <a:pathLst>
                <a:path w="58" h="163">
                  <a:moveTo>
                    <a:pt x="0" y="0"/>
                  </a:moveTo>
                  <a:lnTo>
                    <a:pt x="9" y="38"/>
                  </a:lnTo>
                  <a:lnTo>
                    <a:pt x="22" y="74"/>
                  </a:lnTo>
                  <a:lnTo>
                    <a:pt x="58" y="163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6806160" y="5038200"/>
              <a:ext cx="12960" cy="65880"/>
            </a:xfrm>
            <a:custGeom>
              <a:avLst/>
              <a:gdLst/>
              <a:ahLst/>
              <a:rect l="l" t="t" r="r" b="b"/>
              <a:pathLst>
                <a:path w="10" h="104">
                  <a:moveTo>
                    <a:pt x="5" y="104"/>
                  </a:moveTo>
                  <a:lnTo>
                    <a:pt x="10" y="67"/>
                  </a:lnTo>
                  <a:lnTo>
                    <a:pt x="6" y="43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2" y="0"/>
                  </a:lnTo>
                </a:path>
              </a:pathLst>
            </a:cu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2" name=""/>
          <p:cNvSpPr/>
          <p:nvPr/>
        </p:nvSpPr>
        <p:spPr>
          <a:xfrm>
            <a:off x="213552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663120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4" name="VEGTBL7" descr=""/>
          <p:cNvPicPr/>
          <p:nvPr/>
        </p:nvPicPr>
        <p:blipFill>
          <a:blip r:embed="rId1"/>
          <a:stretch/>
        </p:blipFill>
        <p:spPr>
          <a:xfrm>
            <a:off x="5943600" y="2911320"/>
            <a:ext cx="1712880" cy="1795680"/>
          </a:xfrm>
          <a:prstGeom prst="rect">
            <a:avLst/>
          </a:prstGeom>
          <a:ln w="0">
            <a:noFill/>
          </a:ln>
        </p:spPr>
      </p:pic>
      <p:grpSp>
        <p:nvGrpSpPr>
          <p:cNvPr id="6365" name=""/>
          <p:cNvGrpSpPr/>
          <p:nvPr/>
        </p:nvGrpSpPr>
        <p:grpSpPr>
          <a:xfrm>
            <a:off x="1295280" y="2247840"/>
            <a:ext cx="1076400" cy="3124440"/>
            <a:chOff x="1295280" y="2247840"/>
            <a:chExt cx="1076400" cy="3124440"/>
          </a:xfrm>
        </p:grpSpPr>
        <p:sp>
          <p:nvSpPr>
            <p:cNvPr id="6366" name=""/>
            <p:cNvSpPr/>
            <p:nvPr/>
          </p:nvSpPr>
          <p:spPr>
            <a:xfrm>
              <a:off x="1295280" y="2247840"/>
              <a:ext cx="1076400" cy="3124440"/>
            </a:xfrm>
            <a:custGeom>
              <a:avLst/>
              <a:gdLst/>
              <a:ahLst/>
              <a:rect l="l" t="t" r="r" b="b"/>
              <a:pathLst>
                <a:path w="2611" h="7004">
                  <a:moveTo>
                    <a:pt x="1297" y="6943"/>
                  </a:moveTo>
                  <a:lnTo>
                    <a:pt x="1230" y="6947"/>
                  </a:lnTo>
                  <a:lnTo>
                    <a:pt x="1222" y="6982"/>
                  </a:lnTo>
                  <a:lnTo>
                    <a:pt x="1214" y="6991"/>
                  </a:lnTo>
                  <a:lnTo>
                    <a:pt x="1194" y="6998"/>
                  </a:lnTo>
                  <a:lnTo>
                    <a:pt x="1136" y="7004"/>
                  </a:lnTo>
                  <a:lnTo>
                    <a:pt x="1105" y="7002"/>
                  </a:lnTo>
                  <a:lnTo>
                    <a:pt x="1077" y="6997"/>
                  </a:lnTo>
                  <a:lnTo>
                    <a:pt x="1058" y="6990"/>
                  </a:lnTo>
                  <a:lnTo>
                    <a:pt x="1050" y="6979"/>
                  </a:lnTo>
                  <a:lnTo>
                    <a:pt x="1045" y="6943"/>
                  </a:lnTo>
                  <a:lnTo>
                    <a:pt x="953" y="6934"/>
                  </a:lnTo>
                  <a:lnTo>
                    <a:pt x="861" y="6918"/>
                  </a:lnTo>
                  <a:lnTo>
                    <a:pt x="837" y="6947"/>
                  </a:lnTo>
                  <a:lnTo>
                    <a:pt x="829" y="6952"/>
                  </a:lnTo>
                  <a:lnTo>
                    <a:pt x="817" y="6953"/>
                  </a:lnTo>
                  <a:lnTo>
                    <a:pt x="783" y="6948"/>
                  </a:lnTo>
                  <a:lnTo>
                    <a:pt x="752" y="6937"/>
                  </a:lnTo>
                  <a:lnTo>
                    <a:pt x="741" y="6930"/>
                  </a:lnTo>
                  <a:lnTo>
                    <a:pt x="737" y="6922"/>
                  </a:lnTo>
                  <a:lnTo>
                    <a:pt x="729" y="6887"/>
                  </a:lnTo>
                  <a:lnTo>
                    <a:pt x="632" y="6853"/>
                  </a:lnTo>
                  <a:lnTo>
                    <a:pt x="539" y="6812"/>
                  </a:lnTo>
                  <a:lnTo>
                    <a:pt x="507" y="6792"/>
                  </a:lnTo>
                  <a:lnTo>
                    <a:pt x="489" y="6767"/>
                  </a:lnTo>
                  <a:lnTo>
                    <a:pt x="441" y="6734"/>
                  </a:lnTo>
                  <a:lnTo>
                    <a:pt x="397" y="6700"/>
                  </a:lnTo>
                  <a:lnTo>
                    <a:pt x="355" y="6662"/>
                  </a:lnTo>
                  <a:lnTo>
                    <a:pt x="318" y="6622"/>
                  </a:lnTo>
                  <a:lnTo>
                    <a:pt x="164" y="6440"/>
                  </a:lnTo>
                  <a:lnTo>
                    <a:pt x="125" y="6390"/>
                  </a:lnTo>
                  <a:lnTo>
                    <a:pt x="91" y="6335"/>
                  </a:lnTo>
                  <a:lnTo>
                    <a:pt x="63" y="6277"/>
                  </a:lnTo>
                  <a:lnTo>
                    <a:pt x="41" y="6216"/>
                  </a:lnTo>
                  <a:lnTo>
                    <a:pt x="24" y="6151"/>
                  </a:lnTo>
                  <a:lnTo>
                    <a:pt x="11" y="6085"/>
                  </a:lnTo>
                  <a:lnTo>
                    <a:pt x="3" y="6017"/>
                  </a:lnTo>
                  <a:lnTo>
                    <a:pt x="0" y="5946"/>
                  </a:lnTo>
                  <a:lnTo>
                    <a:pt x="2" y="5873"/>
                  </a:lnTo>
                  <a:lnTo>
                    <a:pt x="7" y="5800"/>
                  </a:lnTo>
                  <a:lnTo>
                    <a:pt x="18" y="5725"/>
                  </a:lnTo>
                  <a:lnTo>
                    <a:pt x="32" y="5650"/>
                  </a:lnTo>
                  <a:lnTo>
                    <a:pt x="72" y="5497"/>
                  </a:lnTo>
                  <a:lnTo>
                    <a:pt x="126" y="5345"/>
                  </a:lnTo>
                  <a:lnTo>
                    <a:pt x="162" y="5244"/>
                  </a:lnTo>
                  <a:lnTo>
                    <a:pt x="180" y="5165"/>
                  </a:lnTo>
                  <a:lnTo>
                    <a:pt x="181" y="5131"/>
                  </a:lnTo>
                  <a:lnTo>
                    <a:pt x="177" y="5100"/>
                  </a:lnTo>
                  <a:lnTo>
                    <a:pt x="169" y="5072"/>
                  </a:lnTo>
                  <a:lnTo>
                    <a:pt x="156" y="5045"/>
                  </a:lnTo>
                  <a:lnTo>
                    <a:pt x="183" y="5005"/>
                  </a:lnTo>
                  <a:lnTo>
                    <a:pt x="241" y="5012"/>
                  </a:lnTo>
                  <a:lnTo>
                    <a:pt x="271" y="5010"/>
                  </a:lnTo>
                  <a:lnTo>
                    <a:pt x="300" y="5004"/>
                  </a:lnTo>
                  <a:lnTo>
                    <a:pt x="329" y="4993"/>
                  </a:lnTo>
                  <a:lnTo>
                    <a:pt x="357" y="4979"/>
                  </a:lnTo>
                  <a:lnTo>
                    <a:pt x="386" y="4961"/>
                  </a:lnTo>
                  <a:lnTo>
                    <a:pt x="413" y="4938"/>
                  </a:lnTo>
                  <a:lnTo>
                    <a:pt x="438" y="4909"/>
                  </a:lnTo>
                  <a:lnTo>
                    <a:pt x="462" y="4877"/>
                  </a:lnTo>
                  <a:lnTo>
                    <a:pt x="483" y="4840"/>
                  </a:lnTo>
                  <a:lnTo>
                    <a:pt x="503" y="4798"/>
                  </a:lnTo>
                  <a:lnTo>
                    <a:pt x="521" y="4750"/>
                  </a:lnTo>
                  <a:lnTo>
                    <a:pt x="535" y="4697"/>
                  </a:lnTo>
                  <a:lnTo>
                    <a:pt x="546" y="4638"/>
                  </a:lnTo>
                  <a:lnTo>
                    <a:pt x="554" y="4574"/>
                  </a:lnTo>
                  <a:lnTo>
                    <a:pt x="561" y="4476"/>
                  </a:lnTo>
                  <a:lnTo>
                    <a:pt x="564" y="4391"/>
                  </a:lnTo>
                  <a:lnTo>
                    <a:pt x="560" y="4316"/>
                  </a:lnTo>
                  <a:lnTo>
                    <a:pt x="553" y="4253"/>
                  </a:lnTo>
                  <a:lnTo>
                    <a:pt x="541" y="4199"/>
                  </a:lnTo>
                  <a:lnTo>
                    <a:pt x="525" y="4156"/>
                  </a:lnTo>
                  <a:lnTo>
                    <a:pt x="506" y="4122"/>
                  </a:lnTo>
                  <a:lnTo>
                    <a:pt x="483" y="4097"/>
                  </a:lnTo>
                  <a:lnTo>
                    <a:pt x="450" y="4103"/>
                  </a:lnTo>
                  <a:lnTo>
                    <a:pt x="305" y="4058"/>
                  </a:lnTo>
                  <a:lnTo>
                    <a:pt x="302" y="4006"/>
                  </a:lnTo>
                  <a:lnTo>
                    <a:pt x="321" y="3986"/>
                  </a:lnTo>
                  <a:lnTo>
                    <a:pt x="337" y="3961"/>
                  </a:lnTo>
                  <a:lnTo>
                    <a:pt x="348" y="3932"/>
                  </a:lnTo>
                  <a:lnTo>
                    <a:pt x="355" y="3900"/>
                  </a:lnTo>
                  <a:lnTo>
                    <a:pt x="357" y="3865"/>
                  </a:lnTo>
                  <a:lnTo>
                    <a:pt x="356" y="3828"/>
                  </a:lnTo>
                  <a:lnTo>
                    <a:pt x="341" y="3748"/>
                  </a:lnTo>
                  <a:lnTo>
                    <a:pt x="312" y="3635"/>
                  </a:lnTo>
                  <a:lnTo>
                    <a:pt x="293" y="3524"/>
                  </a:lnTo>
                  <a:lnTo>
                    <a:pt x="284" y="3418"/>
                  </a:lnTo>
                  <a:lnTo>
                    <a:pt x="287" y="3314"/>
                  </a:lnTo>
                  <a:lnTo>
                    <a:pt x="299" y="3216"/>
                  </a:lnTo>
                  <a:lnTo>
                    <a:pt x="321" y="3122"/>
                  </a:lnTo>
                  <a:lnTo>
                    <a:pt x="354" y="3034"/>
                  </a:lnTo>
                  <a:lnTo>
                    <a:pt x="398" y="2950"/>
                  </a:lnTo>
                  <a:lnTo>
                    <a:pt x="452" y="2873"/>
                  </a:lnTo>
                  <a:lnTo>
                    <a:pt x="517" y="2802"/>
                  </a:lnTo>
                  <a:lnTo>
                    <a:pt x="594" y="2737"/>
                  </a:lnTo>
                  <a:lnTo>
                    <a:pt x="680" y="2681"/>
                  </a:lnTo>
                  <a:lnTo>
                    <a:pt x="777" y="2632"/>
                  </a:lnTo>
                  <a:lnTo>
                    <a:pt x="885" y="2590"/>
                  </a:lnTo>
                  <a:lnTo>
                    <a:pt x="1005" y="2557"/>
                  </a:lnTo>
                  <a:lnTo>
                    <a:pt x="1135" y="2533"/>
                  </a:lnTo>
                  <a:lnTo>
                    <a:pt x="1159" y="2512"/>
                  </a:lnTo>
                  <a:lnTo>
                    <a:pt x="1168" y="2496"/>
                  </a:lnTo>
                  <a:lnTo>
                    <a:pt x="1177" y="2479"/>
                  </a:lnTo>
                  <a:lnTo>
                    <a:pt x="1186" y="2437"/>
                  </a:lnTo>
                  <a:lnTo>
                    <a:pt x="1188" y="2384"/>
                  </a:lnTo>
                  <a:lnTo>
                    <a:pt x="1143" y="1410"/>
                  </a:lnTo>
                  <a:lnTo>
                    <a:pt x="1141" y="1392"/>
                  </a:lnTo>
                  <a:lnTo>
                    <a:pt x="1132" y="1380"/>
                  </a:lnTo>
                  <a:lnTo>
                    <a:pt x="1086" y="1338"/>
                  </a:lnTo>
                  <a:lnTo>
                    <a:pt x="1076" y="1324"/>
                  </a:lnTo>
                  <a:lnTo>
                    <a:pt x="1074" y="1307"/>
                  </a:lnTo>
                  <a:lnTo>
                    <a:pt x="1059" y="1102"/>
                  </a:lnTo>
                  <a:lnTo>
                    <a:pt x="1040" y="931"/>
                  </a:lnTo>
                  <a:lnTo>
                    <a:pt x="1016" y="930"/>
                  </a:lnTo>
                  <a:lnTo>
                    <a:pt x="1003" y="973"/>
                  </a:lnTo>
                  <a:lnTo>
                    <a:pt x="980" y="1002"/>
                  </a:lnTo>
                  <a:lnTo>
                    <a:pt x="955" y="1019"/>
                  </a:lnTo>
                  <a:lnTo>
                    <a:pt x="930" y="1026"/>
                  </a:lnTo>
                  <a:lnTo>
                    <a:pt x="906" y="1025"/>
                  </a:lnTo>
                  <a:lnTo>
                    <a:pt x="884" y="1015"/>
                  </a:lnTo>
                  <a:lnTo>
                    <a:pt x="866" y="998"/>
                  </a:lnTo>
                  <a:lnTo>
                    <a:pt x="852" y="973"/>
                  </a:lnTo>
                  <a:lnTo>
                    <a:pt x="843" y="941"/>
                  </a:lnTo>
                  <a:lnTo>
                    <a:pt x="841" y="902"/>
                  </a:lnTo>
                  <a:lnTo>
                    <a:pt x="845" y="864"/>
                  </a:lnTo>
                  <a:lnTo>
                    <a:pt x="854" y="833"/>
                  </a:lnTo>
                  <a:lnTo>
                    <a:pt x="870" y="809"/>
                  </a:lnTo>
                  <a:lnTo>
                    <a:pt x="890" y="792"/>
                  </a:lnTo>
                  <a:lnTo>
                    <a:pt x="913" y="784"/>
                  </a:lnTo>
                  <a:lnTo>
                    <a:pt x="937" y="784"/>
                  </a:lnTo>
                  <a:lnTo>
                    <a:pt x="962" y="792"/>
                  </a:lnTo>
                  <a:lnTo>
                    <a:pt x="986" y="809"/>
                  </a:lnTo>
                  <a:lnTo>
                    <a:pt x="1006" y="839"/>
                  </a:lnTo>
                  <a:lnTo>
                    <a:pt x="1014" y="859"/>
                  </a:lnTo>
                  <a:lnTo>
                    <a:pt x="1017" y="883"/>
                  </a:lnTo>
                  <a:lnTo>
                    <a:pt x="1033" y="883"/>
                  </a:lnTo>
                  <a:lnTo>
                    <a:pt x="1005" y="745"/>
                  </a:lnTo>
                  <a:lnTo>
                    <a:pt x="989" y="684"/>
                  </a:lnTo>
                  <a:lnTo>
                    <a:pt x="969" y="624"/>
                  </a:lnTo>
                  <a:lnTo>
                    <a:pt x="962" y="624"/>
                  </a:lnTo>
                  <a:lnTo>
                    <a:pt x="960" y="654"/>
                  </a:lnTo>
                  <a:lnTo>
                    <a:pt x="953" y="678"/>
                  </a:lnTo>
                  <a:lnTo>
                    <a:pt x="937" y="700"/>
                  </a:lnTo>
                  <a:lnTo>
                    <a:pt x="918" y="715"/>
                  </a:lnTo>
                  <a:lnTo>
                    <a:pt x="896" y="722"/>
                  </a:lnTo>
                  <a:lnTo>
                    <a:pt x="872" y="721"/>
                  </a:lnTo>
                  <a:lnTo>
                    <a:pt x="848" y="712"/>
                  </a:lnTo>
                  <a:lnTo>
                    <a:pt x="825" y="692"/>
                  </a:lnTo>
                  <a:lnTo>
                    <a:pt x="806" y="662"/>
                  </a:lnTo>
                  <a:lnTo>
                    <a:pt x="791" y="623"/>
                  </a:lnTo>
                  <a:lnTo>
                    <a:pt x="785" y="593"/>
                  </a:lnTo>
                  <a:lnTo>
                    <a:pt x="783" y="565"/>
                  </a:lnTo>
                  <a:lnTo>
                    <a:pt x="786" y="541"/>
                  </a:lnTo>
                  <a:lnTo>
                    <a:pt x="794" y="520"/>
                  </a:lnTo>
                  <a:lnTo>
                    <a:pt x="806" y="503"/>
                  </a:lnTo>
                  <a:lnTo>
                    <a:pt x="823" y="490"/>
                  </a:lnTo>
                  <a:lnTo>
                    <a:pt x="843" y="482"/>
                  </a:lnTo>
                  <a:lnTo>
                    <a:pt x="869" y="480"/>
                  </a:lnTo>
                  <a:lnTo>
                    <a:pt x="888" y="485"/>
                  </a:lnTo>
                  <a:lnTo>
                    <a:pt x="907" y="496"/>
                  </a:lnTo>
                  <a:lnTo>
                    <a:pt x="925" y="515"/>
                  </a:lnTo>
                  <a:lnTo>
                    <a:pt x="941" y="540"/>
                  </a:lnTo>
                  <a:lnTo>
                    <a:pt x="924" y="467"/>
                  </a:lnTo>
                  <a:lnTo>
                    <a:pt x="917" y="397"/>
                  </a:lnTo>
                  <a:lnTo>
                    <a:pt x="915" y="332"/>
                  </a:lnTo>
                  <a:lnTo>
                    <a:pt x="924" y="272"/>
                  </a:lnTo>
                  <a:lnTo>
                    <a:pt x="915" y="232"/>
                  </a:lnTo>
                  <a:lnTo>
                    <a:pt x="917" y="176"/>
                  </a:lnTo>
                  <a:lnTo>
                    <a:pt x="926" y="127"/>
                  </a:lnTo>
                  <a:lnTo>
                    <a:pt x="935" y="109"/>
                  </a:lnTo>
                  <a:lnTo>
                    <a:pt x="944" y="98"/>
                  </a:lnTo>
                  <a:lnTo>
                    <a:pt x="950" y="62"/>
                  </a:lnTo>
                  <a:lnTo>
                    <a:pt x="957" y="35"/>
                  </a:lnTo>
                  <a:lnTo>
                    <a:pt x="968" y="17"/>
                  </a:lnTo>
                  <a:lnTo>
                    <a:pt x="974" y="12"/>
                  </a:lnTo>
                  <a:lnTo>
                    <a:pt x="980" y="11"/>
                  </a:lnTo>
                  <a:lnTo>
                    <a:pt x="1032" y="11"/>
                  </a:lnTo>
                  <a:lnTo>
                    <a:pt x="1071" y="0"/>
                  </a:lnTo>
                  <a:lnTo>
                    <a:pt x="1082" y="0"/>
                  </a:lnTo>
                  <a:lnTo>
                    <a:pt x="1088" y="8"/>
                  </a:lnTo>
                  <a:lnTo>
                    <a:pt x="1128" y="7"/>
                  </a:lnTo>
                  <a:lnTo>
                    <a:pt x="1156" y="4"/>
                  </a:lnTo>
                  <a:lnTo>
                    <a:pt x="1170" y="8"/>
                  </a:lnTo>
                  <a:lnTo>
                    <a:pt x="1180" y="23"/>
                  </a:lnTo>
                  <a:lnTo>
                    <a:pt x="1202" y="71"/>
                  </a:lnTo>
                  <a:lnTo>
                    <a:pt x="1219" y="119"/>
                  </a:lnTo>
                  <a:lnTo>
                    <a:pt x="1233" y="120"/>
                  </a:lnTo>
                  <a:lnTo>
                    <a:pt x="1243" y="125"/>
                  </a:lnTo>
                  <a:lnTo>
                    <a:pt x="1249" y="137"/>
                  </a:lnTo>
                  <a:lnTo>
                    <a:pt x="1256" y="176"/>
                  </a:lnTo>
                  <a:lnTo>
                    <a:pt x="1254" y="226"/>
                  </a:lnTo>
                  <a:lnTo>
                    <a:pt x="1245" y="271"/>
                  </a:lnTo>
                  <a:lnTo>
                    <a:pt x="1244" y="310"/>
                  </a:lnTo>
                  <a:lnTo>
                    <a:pt x="1239" y="347"/>
                  </a:lnTo>
                  <a:lnTo>
                    <a:pt x="1232" y="365"/>
                  </a:lnTo>
                  <a:lnTo>
                    <a:pt x="1219" y="372"/>
                  </a:lnTo>
                  <a:lnTo>
                    <a:pt x="1190" y="370"/>
                  </a:lnTo>
                  <a:lnTo>
                    <a:pt x="1164" y="370"/>
                  </a:lnTo>
                  <a:lnTo>
                    <a:pt x="1176" y="427"/>
                  </a:lnTo>
                  <a:lnTo>
                    <a:pt x="1194" y="487"/>
                  </a:lnTo>
                  <a:lnTo>
                    <a:pt x="1262" y="492"/>
                  </a:lnTo>
                  <a:lnTo>
                    <a:pt x="1270" y="457"/>
                  </a:lnTo>
                  <a:lnTo>
                    <a:pt x="1284" y="432"/>
                  </a:lnTo>
                  <a:lnTo>
                    <a:pt x="1300" y="413"/>
                  </a:lnTo>
                  <a:lnTo>
                    <a:pt x="1320" y="401"/>
                  </a:lnTo>
                  <a:lnTo>
                    <a:pt x="1341" y="395"/>
                  </a:lnTo>
                  <a:lnTo>
                    <a:pt x="1362" y="395"/>
                  </a:lnTo>
                  <a:lnTo>
                    <a:pt x="1381" y="400"/>
                  </a:lnTo>
                  <a:lnTo>
                    <a:pt x="1399" y="408"/>
                  </a:lnTo>
                  <a:lnTo>
                    <a:pt x="1418" y="426"/>
                  </a:lnTo>
                  <a:lnTo>
                    <a:pt x="1430" y="454"/>
                  </a:lnTo>
                  <a:lnTo>
                    <a:pt x="1437" y="487"/>
                  </a:lnTo>
                  <a:lnTo>
                    <a:pt x="1438" y="524"/>
                  </a:lnTo>
                  <a:lnTo>
                    <a:pt x="1434" y="560"/>
                  </a:lnTo>
                  <a:lnTo>
                    <a:pt x="1424" y="592"/>
                  </a:lnTo>
                  <a:lnTo>
                    <a:pt x="1411" y="617"/>
                  </a:lnTo>
                  <a:lnTo>
                    <a:pt x="1392" y="634"/>
                  </a:lnTo>
                  <a:lnTo>
                    <a:pt x="1372" y="643"/>
                  </a:lnTo>
                  <a:lnTo>
                    <a:pt x="1352" y="647"/>
                  </a:lnTo>
                  <a:lnTo>
                    <a:pt x="1330" y="646"/>
                  </a:lnTo>
                  <a:lnTo>
                    <a:pt x="1310" y="638"/>
                  </a:lnTo>
                  <a:lnTo>
                    <a:pt x="1291" y="625"/>
                  </a:lnTo>
                  <a:lnTo>
                    <a:pt x="1275" y="605"/>
                  </a:lnTo>
                  <a:lnTo>
                    <a:pt x="1264" y="576"/>
                  </a:lnTo>
                  <a:lnTo>
                    <a:pt x="1260" y="539"/>
                  </a:lnTo>
                  <a:lnTo>
                    <a:pt x="1210" y="536"/>
                  </a:lnTo>
                  <a:lnTo>
                    <a:pt x="1249" y="636"/>
                  </a:lnTo>
                  <a:lnTo>
                    <a:pt x="1288" y="746"/>
                  </a:lnTo>
                  <a:lnTo>
                    <a:pt x="1352" y="750"/>
                  </a:lnTo>
                  <a:lnTo>
                    <a:pt x="1372" y="725"/>
                  </a:lnTo>
                  <a:lnTo>
                    <a:pt x="1393" y="706"/>
                  </a:lnTo>
                  <a:lnTo>
                    <a:pt x="1413" y="692"/>
                  </a:lnTo>
                  <a:lnTo>
                    <a:pt x="1432" y="686"/>
                  </a:lnTo>
                  <a:lnTo>
                    <a:pt x="1449" y="685"/>
                  </a:lnTo>
                  <a:lnTo>
                    <a:pt x="1464" y="690"/>
                  </a:lnTo>
                  <a:lnTo>
                    <a:pt x="1477" y="701"/>
                  </a:lnTo>
                  <a:lnTo>
                    <a:pt x="1486" y="715"/>
                  </a:lnTo>
                  <a:lnTo>
                    <a:pt x="1490" y="734"/>
                  </a:lnTo>
                  <a:lnTo>
                    <a:pt x="1485" y="760"/>
                  </a:lnTo>
                  <a:lnTo>
                    <a:pt x="1472" y="792"/>
                  </a:lnTo>
                  <a:lnTo>
                    <a:pt x="1449" y="829"/>
                  </a:lnTo>
                  <a:lnTo>
                    <a:pt x="1424" y="864"/>
                  </a:lnTo>
                  <a:lnTo>
                    <a:pt x="1399" y="888"/>
                  </a:lnTo>
                  <a:lnTo>
                    <a:pt x="1377" y="902"/>
                  </a:lnTo>
                  <a:lnTo>
                    <a:pt x="1358" y="907"/>
                  </a:lnTo>
                  <a:lnTo>
                    <a:pt x="1341" y="904"/>
                  </a:lnTo>
                  <a:lnTo>
                    <a:pt x="1327" y="895"/>
                  </a:lnTo>
                  <a:lnTo>
                    <a:pt x="1341" y="986"/>
                  </a:lnTo>
                  <a:lnTo>
                    <a:pt x="1347" y="1081"/>
                  </a:lnTo>
                  <a:lnTo>
                    <a:pt x="1368" y="1085"/>
                  </a:lnTo>
                  <a:lnTo>
                    <a:pt x="1525" y="2536"/>
                  </a:lnTo>
                  <a:lnTo>
                    <a:pt x="1597" y="2550"/>
                  </a:lnTo>
                  <a:lnTo>
                    <a:pt x="1669" y="2570"/>
                  </a:lnTo>
                  <a:lnTo>
                    <a:pt x="1738" y="2596"/>
                  </a:lnTo>
                  <a:lnTo>
                    <a:pt x="1806" y="2628"/>
                  </a:lnTo>
                  <a:lnTo>
                    <a:pt x="1870" y="2665"/>
                  </a:lnTo>
                  <a:lnTo>
                    <a:pt x="1933" y="2708"/>
                  </a:lnTo>
                  <a:lnTo>
                    <a:pt x="1990" y="2756"/>
                  </a:lnTo>
                  <a:lnTo>
                    <a:pt x="2044" y="2809"/>
                  </a:lnTo>
                  <a:lnTo>
                    <a:pt x="2095" y="2867"/>
                  </a:lnTo>
                  <a:lnTo>
                    <a:pt x="2138" y="2929"/>
                  </a:lnTo>
                  <a:lnTo>
                    <a:pt x="2176" y="2996"/>
                  </a:lnTo>
                  <a:lnTo>
                    <a:pt x="2209" y="3068"/>
                  </a:lnTo>
                  <a:lnTo>
                    <a:pt x="2234" y="3144"/>
                  </a:lnTo>
                  <a:lnTo>
                    <a:pt x="2253" y="3223"/>
                  </a:lnTo>
                  <a:lnTo>
                    <a:pt x="2263" y="3306"/>
                  </a:lnTo>
                  <a:lnTo>
                    <a:pt x="2265" y="3394"/>
                  </a:lnTo>
                  <a:lnTo>
                    <a:pt x="2257" y="3482"/>
                  </a:lnTo>
                  <a:lnTo>
                    <a:pt x="2242" y="3566"/>
                  </a:lnTo>
                  <a:lnTo>
                    <a:pt x="2210" y="3724"/>
                  </a:lnTo>
                  <a:lnTo>
                    <a:pt x="2204" y="3796"/>
                  </a:lnTo>
                  <a:lnTo>
                    <a:pt x="2212" y="3864"/>
                  </a:lnTo>
                  <a:lnTo>
                    <a:pt x="2222" y="3896"/>
                  </a:lnTo>
                  <a:lnTo>
                    <a:pt x="2238" y="3929"/>
                  </a:lnTo>
                  <a:lnTo>
                    <a:pt x="2259" y="3959"/>
                  </a:lnTo>
                  <a:lnTo>
                    <a:pt x="2288" y="3989"/>
                  </a:lnTo>
                  <a:lnTo>
                    <a:pt x="2264" y="4043"/>
                  </a:lnTo>
                  <a:lnTo>
                    <a:pt x="2224" y="4044"/>
                  </a:lnTo>
                  <a:lnTo>
                    <a:pt x="2188" y="4054"/>
                  </a:lnTo>
                  <a:lnTo>
                    <a:pt x="2156" y="4072"/>
                  </a:lnTo>
                  <a:lnTo>
                    <a:pt x="2126" y="4096"/>
                  </a:lnTo>
                  <a:lnTo>
                    <a:pt x="2101" y="4126"/>
                  </a:lnTo>
                  <a:lnTo>
                    <a:pt x="2078" y="4160"/>
                  </a:lnTo>
                  <a:lnTo>
                    <a:pt x="2059" y="4200"/>
                  </a:lnTo>
                  <a:lnTo>
                    <a:pt x="2042" y="4244"/>
                  </a:lnTo>
                  <a:lnTo>
                    <a:pt x="2030" y="4292"/>
                  </a:lnTo>
                  <a:lnTo>
                    <a:pt x="2020" y="4342"/>
                  </a:lnTo>
                  <a:lnTo>
                    <a:pt x="2014" y="4394"/>
                  </a:lnTo>
                  <a:lnTo>
                    <a:pt x="2012" y="4447"/>
                  </a:lnTo>
                  <a:lnTo>
                    <a:pt x="2013" y="4501"/>
                  </a:lnTo>
                  <a:lnTo>
                    <a:pt x="2018" y="4555"/>
                  </a:lnTo>
                  <a:lnTo>
                    <a:pt x="2025" y="4608"/>
                  </a:lnTo>
                  <a:lnTo>
                    <a:pt x="2036" y="4660"/>
                  </a:lnTo>
                  <a:lnTo>
                    <a:pt x="2055" y="4724"/>
                  </a:lnTo>
                  <a:lnTo>
                    <a:pt x="2079" y="4786"/>
                  </a:lnTo>
                  <a:lnTo>
                    <a:pt x="2107" y="4844"/>
                  </a:lnTo>
                  <a:lnTo>
                    <a:pt x="2139" y="4896"/>
                  </a:lnTo>
                  <a:lnTo>
                    <a:pt x="2161" y="4901"/>
                  </a:lnTo>
                  <a:lnTo>
                    <a:pt x="2182" y="4901"/>
                  </a:lnTo>
                  <a:lnTo>
                    <a:pt x="2204" y="4895"/>
                  </a:lnTo>
                  <a:lnTo>
                    <a:pt x="2224" y="4884"/>
                  </a:lnTo>
                  <a:lnTo>
                    <a:pt x="2418" y="4952"/>
                  </a:lnTo>
                  <a:lnTo>
                    <a:pt x="2445" y="4990"/>
                  </a:lnTo>
                  <a:lnTo>
                    <a:pt x="2437" y="5063"/>
                  </a:lnTo>
                  <a:lnTo>
                    <a:pt x="2437" y="5131"/>
                  </a:lnTo>
                  <a:lnTo>
                    <a:pt x="2443" y="5198"/>
                  </a:lnTo>
                  <a:lnTo>
                    <a:pt x="2455" y="5262"/>
                  </a:lnTo>
                  <a:lnTo>
                    <a:pt x="2490" y="5387"/>
                  </a:lnTo>
                  <a:lnTo>
                    <a:pt x="2533" y="5509"/>
                  </a:lnTo>
                  <a:lnTo>
                    <a:pt x="2574" y="5634"/>
                  </a:lnTo>
                  <a:lnTo>
                    <a:pt x="2589" y="5700"/>
                  </a:lnTo>
                  <a:lnTo>
                    <a:pt x="2602" y="5767"/>
                  </a:lnTo>
                  <a:lnTo>
                    <a:pt x="2610" y="5839"/>
                  </a:lnTo>
                  <a:lnTo>
                    <a:pt x="2611" y="5914"/>
                  </a:lnTo>
                  <a:lnTo>
                    <a:pt x="2604" y="5994"/>
                  </a:lnTo>
                  <a:lnTo>
                    <a:pt x="2588" y="6078"/>
                  </a:lnTo>
                  <a:lnTo>
                    <a:pt x="2568" y="6150"/>
                  </a:lnTo>
                  <a:lnTo>
                    <a:pt x="2539" y="6221"/>
                  </a:lnTo>
                  <a:lnTo>
                    <a:pt x="2504" y="6290"/>
                  </a:lnTo>
                  <a:lnTo>
                    <a:pt x="2461" y="6358"/>
                  </a:lnTo>
                  <a:lnTo>
                    <a:pt x="2412" y="6424"/>
                  </a:lnTo>
                  <a:lnTo>
                    <a:pt x="2355" y="6486"/>
                  </a:lnTo>
                  <a:lnTo>
                    <a:pt x="2293" y="6547"/>
                  </a:lnTo>
                  <a:lnTo>
                    <a:pt x="2226" y="6605"/>
                  </a:lnTo>
                  <a:lnTo>
                    <a:pt x="2151" y="6659"/>
                  </a:lnTo>
                  <a:lnTo>
                    <a:pt x="2071" y="6709"/>
                  </a:lnTo>
                  <a:lnTo>
                    <a:pt x="1986" y="6756"/>
                  </a:lnTo>
                  <a:lnTo>
                    <a:pt x="1896" y="6799"/>
                  </a:lnTo>
                  <a:lnTo>
                    <a:pt x="1801" y="6838"/>
                  </a:lnTo>
                  <a:lnTo>
                    <a:pt x="1700" y="6871"/>
                  </a:lnTo>
                  <a:lnTo>
                    <a:pt x="1596" y="6900"/>
                  </a:lnTo>
                  <a:lnTo>
                    <a:pt x="1488" y="6923"/>
                  </a:lnTo>
                  <a:lnTo>
                    <a:pt x="1477" y="6923"/>
                  </a:lnTo>
                  <a:lnTo>
                    <a:pt x="1477" y="6940"/>
                  </a:lnTo>
                  <a:lnTo>
                    <a:pt x="1474" y="6961"/>
                  </a:lnTo>
                  <a:lnTo>
                    <a:pt x="1467" y="6977"/>
                  </a:lnTo>
                  <a:lnTo>
                    <a:pt x="1455" y="6985"/>
                  </a:lnTo>
                  <a:lnTo>
                    <a:pt x="1436" y="6988"/>
                  </a:lnTo>
                  <a:lnTo>
                    <a:pt x="1339" y="6989"/>
                  </a:lnTo>
                  <a:lnTo>
                    <a:pt x="1320" y="6986"/>
                  </a:lnTo>
                  <a:lnTo>
                    <a:pt x="1306" y="6979"/>
                  </a:lnTo>
                  <a:lnTo>
                    <a:pt x="1299" y="6965"/>
                  </a:lnTo>
                  <a:lnTo>
                    <a:pt x="1297" y="6943"/>
                  </a:lnTo>
                  <a:lnTo>
                    <a:pt x="1302" y="794"/>
                  </a:lnTo>
                  <a:lnTo>
                    <a:pt x="1324" y="796"/>
                  </a:lnTo>
                  <a:lnTo>
                    <a:pt x="1311" y="830"/>
                  </a:lnTo>
                  <a:lnTo>
                    <a:pt x="1302" y="794"/>
                  </a:lnTo>
                  <a:lnTo>
                    <a:pt x="1297" y="6943"/>
                  </a:lnTo>
                  <a:close/>
                </a:path>
              </a:pathLst>
            </a:custGeom>
            <a:solidFill>
              <a:srgbClr val="e0a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1295280" y="2247840"/>
              <a:ext cx="1076400" cy="3124440"/>
            </a:xfrm>
            <a:custGeom>
              <a:avLst/>
              <a:gdLst/>
              <a:ahLst/>
              <a:rect l="l" t="t" r="r" b="b"/>
              <a:pathLst>
                <a:path w="2611" h="7004">
                  <a:moveTo>
                    <a:pt x="1297" y="6943"/>
                  </a:moveTo>
                  <a:lnTo>
                    <a:pt x="1230" y="6947"/>
                  </a:lnTo>
                  <a:lnTo>
                    <a:pt x="1222" y="6982"/>
                  </a:lnTo>
                  <a:lnTo>
                    <a:pt x="1214" y="6991"/>
                  </a:lnTo>
                  <a:lnTo>
                    <a:pt x="1194" y="6998"/>
                  </a:lnTo>
                  <a:lnTo>
                    <a:pt x="1136" y="7004"/>
                  </a:lnTo>
                  <a:lnTo>
                    <a:pt x="1105" y="7002"/>
                  </a:lnTo>
                  <a:lnTo>
                    <a:pt x="1077" y="6997"/>
                  </a:lnTo>
                  <a:lnTo>
                    <a:pt x="1058" y="6990"/>
                  </a:lnTo>
                  <a:lnTo>
                    <a:pt x="1050" y="6979"/>
                  </a:lnTo>
                  <a:lnTo>
                    <a:pt x="1045" y="6943"/>
                  </a:lnTo>
                  <a:lnTo>
                    <a:pt x="953" y="6934"/>
                  </a:lnTo>
                  <a:lnTo>
                    <a:pt x="861" y="6918"/>
                  </a:lnTo>
                  <a:lnTo>
                    <a:pt x="837" y="6947"/>
                  </a:lnTo>
                  <a:lnTo>
                    <a:pt x="829" y="6952"/>
                  </a:lnTo>
                  <a:lnTo>
                    <a:pt x="817" y="6953"/>
                  </a:lnTo>
                  <a:lnTo>
                    <a:pt x="783" y="6948"/>
                  </a:lnTo>
                  <a:lnTo>
                    <a:pt x="752" y="6937"/>
                  </a:lnTo>
                  <a:lnTo>
                    <a:pt x="741" y="6930"/>
                  </a:lnTo>
                  <a:lnTo>
                    <a:pt x="737" y="6922"/>
                  </a:lnTo>
                  <a:lnTo>
                    <a:pt x="729" y="6887"/>
                  </a:lnTo>
                  <a:lnTo>
                    <a:pt x="632" y="6853"/>
                  </a:lnTo>
                  <a:lnTo>
                    <a:pt x="539" y="6812"/>
                  </a:lnTo>
                  <a:lnTo>
                    <a:pt x="507" y="6792"/>
                  </a:lnTo>
                  <a:lnTo>
                    <a:pt x="489" y="6767"/>
                  </a:lnTo>
                  <a:lnTo>
                    <a:pt x="441" y="6734"/>
                  </a:lnTo>
                  <a:lnTo>
                    <a:pt x="397" y="6700"/>
                  </a:lnTo>
                  <a:lnTo>
                    <a:pt x="355" y="6662"/>
                  </a:lnTo>
                  <a:lnTo>
                    <a:pt x="318" y="6622"/>
                  </a:lnTo>
                  <a:lnTo>
                    <a:pt x="164" y="6440"/>
                  </a:lnTo>
                  <a:lnTo>
                    <a:pt x="125" y="6390"/>
                  </a:lnTo>
                  <a:lnTo>
                    <a:pt x="91" y="6335"/>
                  </a:lnTo>
                  <a:lnTo>
                    <a:pt x="63" y="6277"/>
                  </a:lnTo>
                  <a:lnTo>
                    <a:pt x="41" y="6216"/>
                  </a:lnTo>
                  <a:lnTo>
                    <a:pt x="24" y="6151"/>
                  </a:lnTo>
                  <a:lnTo>
                    <a:pt x="11" y="6085"/>
                  </a:lnTo>
                  <a:lnTo>
                    <a:pt x="3" y="6017"/>
                  </a:lnTo>
                  <a:lnTo>
                    <a:pt x="0" y="5946"/>
                  </a:lnTo>
                  <a:lnTo>
                    <a:pt x="2" y="5873"/>
                  </a:lnTo>
                  <a:lnTo>
                    <a:pt x="7" y="5800"/>
                  </a:lnTo>
                  <a:lnTo>
                    <a:pt x="18" y="5725"/>
                  </a:lnTo>
                  <a:lnTo>
                    <a:pt x="32" y="5650"/>
                  </a:lnTo>
                  <a:lnTo>
                    <a:pt x="72" y="5497"/>
                  </a:lnTo>
                  <a:lnTo>
                    <a:pt x="126" y="5345"/>
                  </a:lnTo>
                  <a:lnTo>
                    <a:pt x="162" y="5244"/>
                  </a:lnTo>
                  <a:lnTo>
                    <a:pt x="180" y="5165"/>
                  </a:lnTo>
                  <a:lnTo>
                    <a:pt x="181" y="5131"/>
                  </a:lnTo>
                  <a:lnTo>
                    <a:pt x="177" y="5100"/>
                  </a:lnTo>
                  <a:lnTo>
                    <a:pt x="169" y="5072"/>
                  </a:lnTo>
                  <a:lnTo>
                    <a:pt x="156" y="5045"/>
                  </a:lnTo>
                  <a:lnTo>
                    <a:pt x="183" y="5005"/>
                  </a:lnTo>
                  <a:lnTo>
                    <a:pt x="241" y="5012"/>
                  </a:lnTo>
                  <a:lnTo>
                    <a:pt x="271" y="5010"/>
                  </a:lnTo>
                  <a:lnTo>
                    <a:pt x="300" y="5004"/>
                  </a:lnTo>
                  <a:lnTo>
                    <a:pt x="329" y="4993"/>
                  </a:lnTo>
                  <a:lnTo>
                    <a:pt x="357" y="4979"/>
                  </a:lnTo>
                  <a:lnTo>
                    <a:pt x="386" y="4961"/>
                  </a:lnTo>
                  <a:lnTo>
                    <a:pt x="413" y="4938"/>
                  </a:lnTo>
                  <a:lnTo>
                    <a:pt x="438" y="4909"/>
                  </a:lnTo>
                  <a:lnTo>
                    <a:pt x="462" y="4877"/>
                  </a:lnTo>
                  <a:lnTo>
                    <a:pt x="483" y="4840"/>
                  </a:lnTo>
                  <a:lnTo>
                    <a:pt x="503" y="4798"/>
                  </a:lnTo>
                  <a:lnTo>
                    <a:pt x="521" y="4750"/>
                  </a:lnTo>
                  <a:lnTo>
                    <a:pt x="535" y="4697"/>
                  </a:lnTo>
                  <a:lnTo>
                    <a:pt x="546" y="4638"/>
                  </a:lnTo>
                  <a:lnTo>
                    <a:pt x="554" y="4574"/>
                  </a:lnTo>
                  <a:lnTo>
                    <a:pt x="561" y="4476"/>
                  </a:lnTo>
                  <a:lnTo>
                    <a:pt x="564" y="4391"/>
                  </a:lnTo>
                  <a:lnTo>
                    <a:pt x="560" y="4316"/>
                  </a:lnTo>
                  <a:lnTo>
                    <a:pt x="553" y="4253"/>
                  </a:lnTo>
                  <a:lnTo>
                    <a:pt x="541" y="4199"/>
                  </a:lnTo>
                  <a:lnTo>
                    <a:pt x="525" y="4156"/>
                  </a:lnTo>
                  <a:lnTo>
                    <a:pt x="506" y="4122"/>
                  </a:lnTo>
                  <a:lnTo>
                    <a:pt x="483" y="4097"/>
                  </a:lnTo>
                  <a:lnTo>
                    <a:pt x="450" y="4103"/>
                  </a:lnTo>
                  <a:lnTo>
                    <a:pt x="305" y="4058"/>
                  </a:lnTo>
                  <a:lnTo>
                    <a:pt x="302" y="4006"/>
                  </a:lnTo>
                  <a:lnTo>
                    <a:pt x="321" y="3986"/>
                  </a:lnTo>
                  <a:lnTo>
                    <a:pt x="337" y="3961"/>
                  </a:lnTo>
                  <a:lnTo>
                    <a:pt x="348" y="3932"/>
                  </a:lnTo>
                  <a:lnTo>
                    <a:pt x="355" y="3900"/>
                  </a:lnTo>
                  <a:lnTo>
                    <a:pt x="357" y="3865"/>
                  </a:lnTo>
                  <a:lnTo>
                    <a:pt x="356" y="3828"/>
                  </a:lnTo>
                  <a:lnTo>
                    <a:pt x="341" y="3748"/>
                  </a:lnTo>
                  <a:lnTo>
                    <a:pt x="312" y="3635"/>
                  </a:lnTo>
                  <a:lnTo>
                    <a:pt x="293" y="3524"/>
                  </a:lnTo>
                  <a:lnTo>
                    <a:pt x="284" y="3418"/>
                  </a:lnTo>
                  <a:lnTo>
                    <a:pt x="287" y="3314"/>
                  </a:lnTo>
                  <a:lnTo>
                    <a:pt x="299" y="3216"/>
                  </a:lnTo>
                  <a:lnTo>
                    <a:pt x="321" y="3122"/>
                  </a:lnTo>
                  <a:lnTo>
                    <a:pt x="354" y="3034"/>
                  </a:lnTo>
                  <a:lnTo>
                    <a:pt x="398" y="2950"/>
                  </a:lnTo>
                  <a:lnTo>
                    <a:pt x="452" y="2873"/>
                  </a:lnTo>
                  <a:lnTo>
                    <a:pt x="517" y="2802"/>
                  </a:lnTo>
                  <a:lnTo>
                    <a:pt x="594" y="2737"/>
                  </a:lnTo>
                  <a:lnTo>
                    <a:pt x="680" y="2681"/>
                  </a:lnTo>
                  <a:lnTo>
                    <a:pt x="777" y="2632"/>
                  </a:lnTo>
                  <a:lnTo>
                    <a:pt x="885" y="2590"/>
                  </a:lnTo>
                  <a:lnTo>
                    <a:pt x="1005" y="2557"/>
                  </a:lnTo>
                  <a:lnTo>
                    <a:pt x="1135" y="2533"/>
                  </a:lnTo>
                  <a:lnTo>
                    <a:pt x="1159" y="2512"/>
                  </a:lnTo>
                  <a:lnTo>
                    <a:pt x="1168" y="2496"/>
                  </a:lnTo>
                  <a:lnTo>
                    <a:pt x="1177" y="2479"/>
                  </a:lnTo>
                  <a:lnTo>
                    <a:pt x="1186" y="2437"/>
                  </a:lnTo>
                  <a:lnTo>
                    <a:pt x="1188" y="2384"/>
                  </a:lnTo>
                  <a:lnTo>
                    <a:pt x="1143" y="1410"/>
                  </a:lnTo>
                  <a:lnTo>
                    <a:pt x="1141" y="1392"/>
                  </a:lnTo>
                  <a:lnTo>
                    <a:pt x="1132" y="1380"/>
                  </a:lnTo>
                  <a:lnTo>
                    <a:pt x="1086" y="1338"/>
                  </a:lnTo>
                  <a:lnTo>
                    <a:pt x="1076" y="1324"/>
                  </a:lnTo>
                  <a:lnTo>
                    <a:pt x="1074" y="1307"/>
                  </a:lnTo>
                  <a:lnTo>
                    <a:pt x="1059" y="1102"/>
                  </a:lnTo>
                  <a:lnTo>
                    <a:pt x="1040" y="931"/>
                  </a:lnTo>
                  <a:lnTo>
                    <a:pt x="1016" y="930"/>
                  </a:lnTo>
                  <a:lnTo>
                    <a:pt x="1003" y="973"/>
                  </a:lnTo>
                  <a:lnTo>
                    <a:pt x="980" y="1002"/>
                  </a:lnTo>
                  <a:lnTo>
                    <a:pt x="955" y="1019"/>
                  </a:lnTo>
                  <a:lnTo>
                    <a:pt x="930" y="1026"/>
                  </a:lnTo>
                  <a:lnTo>
                    <a:pt x="906" y="1025"/>
                  </a:lnTo>
                  <a:lnTo>
                    <a:pt x="884" y="1015"/>
                  </a:lnTo>
                  <a:lnTo>
                    <a:pt x="866" y="998"/>
                  </a:lnTo>
                  <a:lnTo>
                    <a:pt x="852" y="973"/>
                  </a:lnTo>
                  <a:lnTo>
                    <a:pt x="843" y="941"/>
                  </a:lnTo>
                  <a:lnTo>
                    <a:pt x="841" y="902"/>
                  </a:lnTo>
                  <a:lnTo>
                    <a:pt x="845" y="864"/>
                  </a:lnTo>
                  <a:lnTo>
                    <a:pt x="854" y="833"/>
                  </a:lnTo>
                  <a:lnTo>
                    <a:pt x="870" y="809"/>
                  </a:lnTo>
                  <a:lnTo>
                    <a:pt x="890" y="792"/>
                  </a:lnTo>
                  <a:lnTo>
                    <a:pt x="913" y="784"/>
                  </a:lnTo>
                  <a:lnTo>
                    <a:pt x="937" y="784"/>
                  </a:lnTo>
                  <a:lnTo>
                    <a:pt x="962" y="792"/>
                  </a:lnTo>
                  <a:lnTo>
                    <a:pt x="986" y="809"/>
                  </a:lnTo>
                  <a:lnTo>
                    <a:pt x="1006" y="839"/>
                  </a:lnTo>
                  <a:lnTo>
                    <a:pt x="1014" y="859"/>
                  </a:lnTo>
                  <a:lnTo>
                    <a:pt x="1017" y="883"/>
                  </a:lnTo>
                  <a:lnTo>
                    <a:pt x="1033" y="883"/>
                  </a:lnTo>
                  <a:lnTo>
                    <a:pt x="1005" y="745"/>
                  </a:lnTo>
                  <a:lnTo>
                    <a:pt x="989" y="684"/>
                  </a:lnTo>
                  <a:lnTo>
                    <a:pt x="969" y="624"/>
                  </a:lnTo>
                  <a:lnTo>
                    <a:pt x="962" y="624"/>
                  </a:lnTo>
                  <a:lnTo>
                    <a:pt x="960" y="654"/>
                  </a:lnTo>
                  <a:lnTo>
                    <a:pt x="953" y="678"/>
                  </a:lnTo>
                  <a:lnTo>
                    <a:pt x="937" y="700"/>
                  </a:lnTo>
                  <a:lnTo>
                    <a:pt x="918" y="715"/>
                  </a:lnTo>
                  <a:lnTo>
                    <a:pt x="896" y="722"/>
                  </a:lnTo>
                  <a:lnTo>
                    <a:pt x="872" y="721"/>
                  </a:lnTo>
                  <a:lnTo>
                    <a:pt x="848" y="712"/>
                  </a:lnTo>
                  <a:lnTo>
                    <a:pt x="825" y="692"/>
                  </a:lnTo>
                  <a:lnTo>
                    <a:pt x="806" y="662"/>
                  </a:lnTo>
                  <a:lnTo>
                    <a:pt x="791" y="623"/>
                  </a:lnTo>
                  <a:lnTo>
                    <a:pt x="785" y="593"/>
                  </a:lnTo>
                  <a:lnTo>
                    <a:pt x="783" y="565"/>
                  </a:lnTo>
                  <a:lnTo>
                    <a:pt x="786" y="541"/>
                  </a:lnTo>
                  <a:lnTo>
                    <a:pt x="794" y="520"/>
                  </a:lnTo>
                  <a:lnTo>
                    <a:pt x="806" y="503"/>
                  </a:lnTo>
                  <a:lnTo>
                    <a:pt x="823" y="490"/>
                  </a:lnTo>
                  <a:lnTo>
                    <a:pt x="843" y="482"/>
                  </a:lnTo>
                  <a:lnTo>
                    <a:pt x="869" y="480"/>
                  </a:lnTo>
                  <a:lnTo>
                    <a:pt x="888" y="485"/>
                  </a:lnTo>
                  <a:lnTo>
                    <a:pt x="907" y="496"/>
                  </a:lnTo>
                  <a:lnTo>
                    <a:pt x="925" y="515"/>
                  </a:lnTo>
                  <a:lnTo>
                    <a:pt x="941" y="540"/>
                  </a:lnTo>
                  <a:lnTo>
                    <a:pt x="924" y="467"/>
                  </a:lnTo>
                  <a:lnTo>
                    <a:pt x="917" y="397"/>
                  </a:lnTo>
                  <a:lnTo>
                    <a:pt x="915" y="332"/>
                  </a:lnTo>
                  <a:lnTo>
                    <a:pt x="924" y="272"/>
                  </a:lnTo>
                  <a:lnTo>
                    <a:pt x="915" y="232"/>
                  </a:lnTo>
                  <a:lnTo>
                    <a:pt x="917" y="176"/>
                  </a:lnTo>
                  <a:lnTo>
                    <a:pt x="926" y="127"/>
                  </a:lnTo>
                  <a:lnTo>
                    <a:pt x="935" y="109"/>
                  </a:lnTo>
                  <a:lnTo>
                    <a:pt x="944" y="98"/>
                  </a:lnTo>
                  <a:lnTo>
                    <a:pt x="950" y="62"/>
                  </a:lnTo>
                  <a:lnTo>
                    <a:pt x="957" y="35"/>
                  </a:lnTo>
                  <a:lnTo>
                    <a:pt x="968" y="17"/>
                  </a:lnTo>
                  <a:lnTo>
                    <a:pt x="974" y="12"/>
                  </a:lnTo>
                  <a:lnTo>
                    <a:pt x="980" y="11"/>
                  </a:lnTo>
                  <a:lnTo>
                    <a:pt x="1032" y="11"/>
                  </a:lnTo>
                  <a:lnTo>
                    <a:pt x="1071" y="0"/>
                  </a:lnTo>
                  <a:lnTo>
                    <a:pt x="1082" y="0"/>
                  </a:lnTo>
                  <a:lnTo>
                    <a:pt x="1088" y="8"/>
                  </a:lnTo>
                  <a:lnTo>
                    <a:pt x="1128" y="7"/>
                  </a:lnTo>
                  <a:lnTo>
                    <a:pt x="1156" y="4"/>
                  </a:lnTo>
                  <a:lnTo>
                    <a:pt x="1170" y="8"/>
                  </a:lnTo>
                  <a:lnTo>
                    <a:pt x="1180" y="23"/>
                  </a:lnTo>
                  <a:lnTo>
                    <a:pt x="1202" y="71"/>
                  </a:lnTo>
                  <a:lnTo>
                    <a:pt x="1219" y="119"/>
                  </a:lnTo>
                  <a:lnTo>
                    <a:pt x="1233" y="120"/>
                  </a:lnTo>
                  <a:lnTo>
                    <a:pt x="1243" y="125"/>
                  </a:lnTo>
                  <a:lnTo>
                    <a:pt x="1249" y="137"/>
                  </a:lnTo>
                  <a:lnTo>
                    <a:pt x="1256" y="176"/>
                  </a:lnTo>
                  <a:lnTo>
                    <a:pt x="1254" y="226"/>
                  </a:lnTo>
                  <a:lnTo>
                    <a:pt x="1245" y="271"/>
                  </a:lnTo>
                  <a:lnTo>
                    <a:pt x="1244" y="310"/>
                  </a:lnTo>
                  <a:lnTo>
                    <a:pt x="1239" y="347"/>
                  </a:lnTo>
                  <a:lnTo>
                    <a:pt x="1232" y="365"/>
                  </a:lnTo>
                  <a:lnTo>
                    <a:pt x="1219" y="372"/>
                  </a:lnTo>
                  <a:lnTo>
                    <a:pt x="1190" y="370"/>
                  </a:lnTo>
                  <a:lnTo>
                    <a:pt x="1164" y="370"/>
                  </a:lnTo>
                  <a:lnTo>
                    <a:pt x="1176" y="427"/>
                  </a:lnTo>
                  <a:lnTo>
                    <a:pt x="1194" y="487"/>
                  </a:lnTo>
                  <a:lnTo>
                    <a:pt x="1262" y="492"/>
                  </a:lnTo>
                  <a:lnTo>
                    <a:pt x="1270" y="457"/>
                  </a:lnTo>
                  <a:lnTo>
                    <a:pt x="1284" y="432"/>
                  </a:lnTo>
                  <a:lnTo>
                    <a:pt x="1300" y="413"/>
                  </a:lnTo>
                  <a:lnTo>
                    <a:pt x="1320" y="401"/>
                  </a:lnTo>
                  <a:lnTo>
                    <a:pt x="1341" y="395"/>
                  </a:lnTo>
                  <a:lnTo>
                    <a:pt x="1362" y="395"/>
                  </a:lnTo>
                  <a:lnTo>
                    <a:pt x="1381" y="400"/>
                  </a:lnTo>
                  <a:lnTo>
                    <a:pt x="1399" y="408"/>
                  </a:lnTo>
                  <a:lnTo>
                    <a:pt x="1418" y="426"/>
                  </a:lnTo>
                  <a:lnTo>
                    <a:pt x="1430" y="454"/>
                  </a:lnTo>
                  <a:lnTo>
                    <a:pt x="1437" y="487"/>
                  </a:lnTo>
                  <a:lnTo>
                    <a:pt x="1438" y="524"/>
                  </a:lnTo>
                  <a:lnTo>
                    <a:pt x="1434" y="560"/>
                  </a:lnTo>
                  <a:lnTo>
                    <a:pt x="1424" y="592"/>
                  </a:lnTo>
                  <a:lnTo>
                    <a:pt x="1411" y="617"/>
                  </a:lnTo>
                  <a:lnTo>
                    <a:pt x="1392" y="634"/>
                  </a:lnTo>
                  <a:lnTo>
                    <a:pt x="1372" y="643"/>
                  </a:lnTo>
                  <a:lnTo>
                    <a:pt x="1352" y="647"/>
                  </a:lnTo>
                  <a:lnTo>
                    <a:pt x="1330" y="646"/>
                  </a:lnTo>
                  <a:lnTo>
                    <a:pt x="1310" y="638"/>
                  </a:lnTo>
                  <a:lnTo>
                    <a:pt x="1291" y="625"/>
                  </a:lnTo>
                  <a:lnTo>
                    <a:pt x="1275" y="605"/>
                  </a:lnTo>
                  <a:lnTo>
                    <a:pt x="1264" y="576"/>
                  </a:lnTo>
                  <a:lnTo>
                    <a:pt x="1260" y="539"/>
                  </a:lnTo>
                  <a:lnTo>
                    <a:pt x="1210" y="536"/>
                  </a:lnTo>
                  <a:lnTo>
                    <a:pt x="1249" y="636"/>
                  </a:lnTo>
                  <a:lnTo>
                    <a:pt x="1288" y="746"/>
                  </a:lnTo>
                  <a:lnTo>
                    <a:pt x="1352" y="750"/>
                  </a:lnTo>
                  <a:lnTo>
                    <a:pt x="1372" y="725"/>
                  </a:lnTo>
                  <a:lnTo>
                    <a:pt x="1393" y="706"/>
                  </a:lnTo>
                  <a:lnTo>
                    <a:pt x="1413" y="692"/>
                  </a:lnTo>
                  <a:lnTo>
                    <a:pt x="1432" y="686"/>
                  </a:lnTo>
                  <a:lnTo>
                    <a:pt x="1449" y="685"/>
                  </a:lnTo>
                  <a:lnTo>
                    <a:pt x="1464" y="690"/>
                  </a:lnTo>
                  <a:lnTo>
                    <a:pt x="1477" y="701"/>
                  </a:lnTo>
                  <a:lnTo>
                    <a:pt x="1486" y="715"/>
                  </a:lnTo>
                  <a:lnTo>
                    <a:pt x="1490" y="734"/>
                  </a:lnTo>
                  <a:lnTo>
                    <a:pt x="1485" y="760"/>
                  </a:lnTo>
                  <a:lnTo>
                    <a:pt x="1472" y="792"/>
                  </a:lnTo>
                  <a:lnTo>
                    <a:pt x="1449" y="829"/>
                  </a:lnTo>
                  <a:lnTo>
                    <a:pt x="1424" y="864"/>
                  </a:lnTo>
                  <a:lnTo>
                    <a:pt x="1399" y="888"/>
                  </a:lnTo>
                  <a:lnTo>
                    <a:pt x="1377" y="902"/>
                  </a:lnTo>
                  <a:lnTo>
                    <a:pt x="1358" y="907"/>
                  </a:lnTo>
                  <a:lnTo>
                    <a:pt x="1341" y="904"/>
                  </a:lnTo>
                  <a:lnTo>
                    <a:pt x="1327" y="895"/>
                  </a:lnTo>
                  <a:lnTo>
                    <a:pt x="1341" y="986"/>
                  </a:lnTo>
                  <a:lnTo>
                    <a:pt x="1347" y="1081"/>
                  </a:lnTo>
                  <a:lnTo>
                    <a:pt x="1368" y="1085"/>
                  </a:lnTo>
                  <a:lnTo>
                    <a:pt x="1525" y="2536"/>
                  </a:lnTo>
                  <a:lnTo>
                    <a:pt x="1597" y="2550"/>
                  </a:lnTo>
                  <a:lnTo>
                    <a:pt x="1669" y="2570"/>
                  </a:lnTo>
                  <a:lnTo>
                    <a:pt x="1738" y="2596"/>
                  </a:lnTo>
                  <a:lnTo>
                    <a:pt x="1806" y="2628"/>
                  </a:lnTo>
                  <a:lnTo>
                    <a:pt x="1870" y="2665"/>
                  </a:lnTo>
                  <a:lnTo>
                    <a:pt x="1933" y="2708"/>
                  </a:lnTo>
                  <a:lnTo>
                    <a:pt x="1990" y="2756"/>
                  </a:lnTo>
                  <a:lnTo>
                    <a:pt x="2044" y="2809"/>
                  </a:lnTo>
                  <a:lnTo>
                    <a:pt x="2095" y="2867"/>
                  </a:lnTo>
                  <a:lnTo>
                    <a:pt x="2138" y="2929"/>
                  </a:lnTo>
                  <a:lnTo>
                    <a:pt x="2176" y="2996"/>
                  </a:lnTo>
                  <a:lnTo>
                    <a:pt x="2209" y="3068"/>
                  </a:lnTo>
                  <a:lnTo>
                    <a:pt x="2234" y="3144"/>
                  </a:lnTo>
                  <a:lnTo>
                    <a:pt x="2253" y="3223"/>
                  </a:lnTo>
                  <a:lnTo>
                    <a:pt x="2263" y="3306"/>
                  </a:lnTo>
                  <a:lnTo>
                    <a:pt x="2265" y="3394"/>
                  </a:lnTo>
                  <a:lnTo>
                    <a:pt x="2257" y="3482"/>
                  </a:lnTo>
                  <a:lnTo>
                    <a:pt x="2242" y="3566"/>
                  </a:lnTo>
                  <a:lnTo>
                    <a:pt x="2210" y="3724"/>
                  </a:lnTo>
                  <a:lnTo>
                    <a:pt x="2204" y="3796"/>
                  </a:lnTo>
                  <a:lnTo>
                    <a:pt x="2212" y="3864"/>
                  </a:lnTo>
                  <a:lnTo>
                    <a:pt x="2222" y="3896"/>
                  </a:lnTo>
                  <a:lnTo>
                    <a:pt x="2238" y="3929"/>
                  </a:lnTo>
                  <a:lnTo>
                    <a:pt x="2259" y="3959"/>
                  </a:lnTo>
                  <a:lnTo>
                    <a:pt x="2288" y="3989"/>
                  </a:lnTo>
                  <a:lnTo>
                    <a:pt x="2264" y="4043"/>
                  </a:lnTo>
                  <a:lnTo>
                    <a:pt x="2224" y="4044"/>
                  </a:lnTo>
                  <a:lnTo>
                    <a:pt x="2188" y="4054"/>
                  </a:lnTo>
                  <a:lnTo>
                    <a:pt x="2156" y="4072"/>
                  </a:lnTo>
                  <a:lnTo>
                    <a:pt x="2126" y="4096"/>
                  </a:lnTo>
                  <a:lnTo>
                    <a:pt x="2101" y="4126"/>
                  </a:lnTo>
                  <a:lnTo>
                    <a:pt x="2078" y="4160"/>
                  </a:lnTo>
                  <a:lnTo>
                    <a:pt x="2059" y="4200"/>
                  </a:lnTo>
                  <a:lnTo>
                    <a:pt x="2042" y="4244"/>
                  </a:lnTo>
                  <a:lnTo>
                    <a:pt x="2030" y="4292"/>
                  </a:lnTo>
                  <a:lnTo>
                    <a:pt x="2020" y="4342"/>
                  </a:lnTo>
                  <a:lnTo>
                    <a:pt x="2014" y="4394"/>
                  </a:lnTo>
                  <a:lnTo>
                    <a:pt x="2012" y="4447"/>
                  </a:lnTo>
                  <a:lnTo>
                    <a:pt x="2013" y="4501"/>
                  </a:lnTo>
                  <a:lnTo>
                    <a:pt x="2018" y="4555"/>
                  </a:lnTo>
                  <a:lnTo>
                    <a:pt x="2025" y="4608"/>
                  </a:lnTo>
                  <a:lnTo>
                    <a:pt x="2036" y="4660"/>
                  </a:lnTo>
                  <a:lnTo>
                    <a:pt x="2055" y="4724"/>
                  </a:lnTo>
                  <a:lnTo>
                    <a:pt x="2079" y="4786"/>
                  </a:lnTo>
                  <a:lnTo>
                    <a:pt x="2107" y="4844"/>
                  </a:lnTo>
                  <a:lnTo>
                    <a:pt x="2139" y="4896"/>
                  </a:lnTo>
                  <a:lnTo>
                    <a:pt x="2161" y="4901"/>
                  </a:lnTo>
                  <a:lnTo>
                    <a:pt x="2182" y="4901"/>
                  </a:lnTo>
                  <a:lnTo>
                    <a:pt x="2204" y="4895"/>
                  </a:lnTo>
                  <a:lnTo>
                    <a:pt x="2224" y="4884"/>
                  </a:lnTo>
                  <a:lnTo>
                    <a:pt x="2418" y="4952"/>
                  </a:lnTo>
                  <a:lnTo>
                    <a:pt x="2445" y="4990"/>
                  </a:lnTo>
                  <a:lnTo>
                    <a:pt x="2437" y="5063"/>
                  </a:lnTo>
                  <a:lnTo>
                    <a:pt x="2437" y="5131"/>
                  </a:lnTo>
                  <a:lnTo>
                    <a:pt x="2443" y="5198"/>
                  </a:lnTo>
                  <a:lnTo>
                    <a:pt x="2455" y="5262"/>
                  </a:lnTo>
                  <a:lnTo>
                    <a:pt x="2490" y="5387"/>
                  </a:lnTo>
                  <a:lnTo>
                    <a:pt x="2533" y="5509"/>
                  </a:lnTo>
                  <a:lnTo>
                    <a:pt x="2574" y="5634"/>
                  </a:lnTo>
                  <a:lnTo>
                    <a:pt x="2589" y="5700"/>
                  </a:lnTo>
                  <a:lnTo>
                    <a:pt x="2602" y="5767"/>
                  </a:lnTo>
                  <a:lnTo>
                    <a:pt x="2610" y="5839"/>
                  </a:lnTo>
                  <a:lnTo>
                    <a:pt x="2611" y="5914"/>
                  </a:lnTo>
                  <a:lnTo>
                    <a:pt x="2604" y="5994"/>
                  </a:lnTo>
                  <a:lnTo>
                    <a:pt x="2588" y="6078"/>
                  </a:lnTo>
                  <a:lnTo>
                    <a:pt x="2568" y="6150"/>
                  </a:lnTo>
                  <a:lnTo>
                    <a:pt x="2539" y="6221"/>
                  </a:lnTo>
                  <a:lnTo>
                    <a:pt x="2504" y="6290"/>
                  </a:lnTo>
                  <a:lnTo>
                    <a:pt x="2461" y="6358"/>
                  </a:lnTo>
                  <a:lnTo>
                    <a:pt x="2412" y="6424"/>
                  </a:lnTo>
                  <a:lnTo>
                    <a:pt x="2355" y="6486"/>
                  </a:lnTo>
                  <a:lnTo>
                    <a:pt x="2293" y="6547"/>
                  </a:lnTo>
                  <a:lnTo>
                    <a:pt x="2226" y="6605"/>
                  </a:lnTo>
                  <a:lnTo>
                    <a:pt x="2151" y="6659"/>
                  </a:lnTo>
                  <a:lnTo>
                    <a:pt x="2071" y="6709"/>
                  </a:lnTo>
                  <a:lnTo>
                    <a:pt x="1986" y="6756"/>
                  </a:lnTo>
                  <a:lnTo>
                    <a:pt x="1896" y="6799"/>
                  </a:lnTo>
                  <a:lnTo>
                    <a:pt x="1801" y="6838"/>
                  </a:lnTo>
                  <a:lnTo>
                    <a:pt x="1700" y="6871"/>
                  </a:lnTo>
                  <a:lnTo>
                    <a:pt x="1596" y="6900"/>
                  </a:lnTo>
                  <a:lnTo>
                    <a:pt x="1488" y="6923"/>
                  </a:lnTo>
                  <a:lnTo>
                    <a:pt x="1477" y="6923"/>
                  </a:lnTo>
                  <a:lnTo>
                    <a:pt x="1477" y="6940"/>
                  </a:lnTo>
                  <a:lnTo>
                    <a:pt x="1474" y="6961"/>
                  </a:lnTo>
                  <a:lnTo>
                    <a:pt x="1467" y="6977"/>
                  </a:lnTo>
                  <a:lnTo>
                    <a:pt x="1455" y="6985"/>
                  </a:lnTo>
                  <a:lnTo>
                    <a:pt x="1436" y="6988"/>
                  </a:lnTo>
                  <a:lnTo>
                    <a:pt x="1339" y="6989"/>
                  </a:lnTo>
                  <a:lnTo>
                    <a:pt x="1320" y="6986"/>
                  </a:lnTo>
                  <a:lnTo>
                    <a:pt x="1306" y="6979"/>
                  </a:lnTo>
                  <a:lnTo>
                    <a:pt x="1299" y="6965"/>
                  </a:lnTo>
                  <a:lnTo>
                    <a:pt x="1297" y="694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1832040" y="2602080"/>
              <a:ext cx="8640" cy="158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0"/>
                  </a:moveTo>
                  <a:lnTo>
                    <a:pt x="22" y="2"/>
                  </a:lnTo>
                  <a:lnTo>
                    <a:pt x="9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725840" y="5344200"/>
              <a:ext cx="76320" cy="2520"/>
            </a:xfrm>
            <a:custGeom>
              <a:avLst/>
              <a:gdLst/>
              <a:ahLst/>
              <a:rect l="l" t="t" r="r" b="b"/>
              <a:pathLst>
                <a:path w="185" h="4">
                  <a:moveTo>
                    <a:pt x="185" y="4"/>
                  </a:moveTo>
                  <a:lnTo>
                    <a:pt x="9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H="1" flipV="1">
              <a:off x="1595520" y="5319720"/>
              <a:ext cx="5436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1348560" y="4498560"/>
              <a:ext cx="77760" cy="702360"/>
            </a:xfrm>
            <a:custGeom>
              <a:avLst/>
              <a:gdLst/>
              <a:ahLst/>
              <a:rect l="l" t="t" r="r" b="b"/>
              <a:pathLst>
                <a:path w="187" h="1577">
                  <a:moveTo>
                    <a:pt x="187" y="1577"/>
                  </a:moveTo>
                  <a:lnTo>
                    <a:pt x="145" y="1523"/>
                  </a:lnTo>
                  <a:lnTo>
                    <a:pt x="109" y="1466"/>
                  </a:lnTo>
                  <a:lnTo>
                    <a:pt x="79" y="1405"/>
                  </a:lnTo>
                  <a:lnTo>
                    <a:pt x="54" y="1343"/>
                  </a:lnTo>
                  <a:lnTo>
                    <a:pt x="33" y="1278"/>
                  </a:lnTo>
                  <a:lnTo>
                    <a:pt x="18" y="1211"/>
                  </a:lnTo>
                  <a:lnTo>
                    <a:pt x="7" y="1142"/>
                  </a:lnTo>
                  <a:lnTo>
                    <a:pt x="1" y="1073"/>
                  </a:lnTo>
                  <a:lnTo>
                    <a:pt x="0" y="1003"/>
                  </a:lnTo>
                  <a:lnTo>
                    <a:pt x="3" y="932"/>
                  </a:lnTo>
                  <a:lnTo>
                    <a:pt x="10" y="861"/>
                  </a:lnTo>
                  <a:lnTo>
                    <a:pt x="22" y="792"/>
                  </a:lnTo>
                  <a:lnTo>
                    <a:pt x="38" y="722"/>
                  </a:lnTo>
                  <a:lnTo>
                    <a:pt x="58" y="654"/>
                  </a:lnTo>
                  <a:lnTo>
                    <a:pt x="81" y="587"/>
                  </a:lnTo>
                  <a:lnTo>
                    <a:pt x="109" y="522"/>
                  </a:lnTo>
                  <a:lnTo>
                    <a:pt x="141" y="443"/>
                  </a:lnTo>
                  <a:lnTo>
                    <a:pt x="164" y="372"/>
                  </a:lnTo>
                  <a:lnTo>
                    <a:pt x="178" y="307"/>
                  </a:lnTo>
                  <a:lnTo>
                    <a:pt x="183" y="251"/>
                  </a:lnTo>
                  <a:lnTo>
                    <a:pt x="182" y="200"/>
                  </a:lnTo>
                  <a:lnTo>
                    <a:pt x="174" y="155"/>
                  </a:lnTo>
                  <a:lnTo>
                    <a:pt x="158" y="114"/>
                  </a:lnTo>
                  <a:lnTo>
                    <a:pt x="139" y="78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406520" y="4512960"/>
              <a:ext cx="1116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1370520" y="4075560"/>
              <a:ext cx="228600" cy="449640"/>
            </a:xfrm>
            <a:custGeom>
              <a:avLst/>
              <a:gdLst/>
              <a:ahLst/>
              <a:rect l="l" t="t" r="r" b="b"/>
              <a:pathLst>
                <a:path w="556" h="1008">
                  <a:moveTo>
                    <a:pt x="0" y="908"/>
                  </a:moveTo>
                  <a:lnTo>
                    <a:pt x="116" y="983"/>
                  </a:lnTo>
                  <a:lnTo>
                    <a:pt x="154" y="997"/>
                  </a:lnTo>
                  <a:lnTo>
                    <a:pt x="190" y="1005"/>
                  </a:lnTo>
                  <a:lnTo>
                    <a:pt x="226" y="1008"/>
                  </a:lnTo>
                  <a:lnTo>
                    <a:pt x="261" y="1005"/>
                  </a:lnTo>
                  <a:lnTo>
                    <a:pt x="294" y="997"/>
                  </a:lnTo>
                  <a:lnTo>
                    <a:pt x="327" y="984"/>
                  </a:lnTo>
                  <a:lnTo>
                    <a:pt x="357" y="965"/>
                  </a:lnTo>
                  <a:lnTo>
                    <a:pt x="386" y="941"/>
                  </a:lnTo>
                  <a:lnTo>
                    <a:pt x="412" y="911"/>
                  </a:lnTo>
                  <a:lnTo>
                    <a:pt x="437" y="876"/>
                  </a:lnTo>
                  <a:lnTo>
                    <a:pt x="461" y="835"/>
                  </a:lnTo>
                  <a:lnTo>
                    <a:pt x="482" y="789"/>
                  </a:lnTo>
                  <a:lnTo>
                    <a:pt x="519" y="683"/>
                  </a:lnTo>
                  <a:lnTo>
                    <a:pt x="545" y="555"/>
                  </a:lnTo>
                  <a:lnTo>
                    <a:pt x="556" y="451"/>
                  </a:lnTo>
                  <a:lnTo>
                    <a:pt x="556" y="399"/>
                  </a:lnTo>
                  <a:lnTo>
                    <a:pt x="554" y="349"/>
                  </a:lnTo>
                  <a:lnTo>
                    <a:pt x="548" y="300"/>
                  </a:lnTo>
                  <a:lnTo>
                    <a:pt x="538" y="253"/>
                  </a:lnTo>
                  <a:lnTo>
                    <a:pt x="512" y="167"/>
                  </a:lnTo>
                  <a:lnTo>
                    <a:pt x="495" y="128"/>
                  </a:lnTo>
                  <a:lnTo>
                    <a:pt x="474" y="95"/>
                  </a:lnTo>
                  <a:lnTo>
                    <a:pt x="452" y="65"/>
                  </a:lnTo>
                  <a:lnTo>
                    <a:pt x="426" y="39"/>
                  </a:lnTo>
                  <a:lnTo>
                    <a:pt x="398" y="20"/>
                  </a:lnTo>
                  <a:lnTo>
                    <a:pt x="368" y="7"/>
                  </a:lnTo>
                  <a:lnTo>
                    <a:pt x="335" y="0"/>
                  </a:lnTo>
                  <a:lnTo>
                    <a:pt x="30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1418760" y="4034160"/>
              <a:ext cx="61920" cy="43920"/>
            </a:xfrm>
            <a:custGeom>
              <a:avLst/>
              <a:gdLst/>
              <a:ahLst/>
              <a:rect l="l" t="t" r="r" b="b"/>
              <a:pathLst>
                <a:path w="148" h="97">
                  <a:moveTo>
                    <a:pt x="0" y="0"/>
                  </a:moveTo>
                  <a:lnTo>
                    <a:pt x="144" y="40"/>
                  </a:lnTo>
                  <a:lnTo>
                    <a:pt x="148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1453680" y="3374280"/>
              <a:ext cx="356040" cy="678240"/>
            </a:xfrm>
            <a:custGeom>
              <a:avLst/>
              <a:gdLst/>
              <a:ahLst/>
              <a:rect l="l" t="t" r="r" b="b"/>
              <a:pathLst>
                <a:path w="865" h="1520">
                  <a:moveTo>
                    <a:pt x="61" y="1520"/>
                  </a:moveTo>
                  <a:lnTo>
                    <a:pt x="83" y="1492"/>
                  </a:lnTo>
                  <a:lnTo>
                    <a:pt x="97" y="1456"/>
                  </a:lnTo>
                  <a:lnTo>
                    <a:pt x="104" y="1410"/>
                  </a:lnTo>
                  <a:lnTo>
                    <a:pt x="106" y="1357"/>
                  </a:lnTo>
                  <a:lnTo>
                    <a:pt x="100" y="1297"/>
                  </a:lnTo>
                  <a:lnTo>
                    <a:pt x="88" y="1230"/>
                  </a:lnTo>
                  <a:lnTo>
                    <a:pt x="68" y="1156"/>
                  </a:lnTo>
                  <a:lnTo>
                    <a:pt x="44" y="1075"/>
                  </a:lnTo>
                  <a:lnTo>
                    <a:pt x="30" y="1024"/>
                  </a:lnTo>
                  <a:lnTo>
                    <a:pt x="18" y="972"/>
                  </a:lnTo>
                  <a:lnTo>
                    <a:pt x="2" y="871"/>
                  </a:lnTo>
                  <a:lnTo>
                    <a:pt x="0" y="774"/>
                  </a:lnTo>
                  <a:lnTo>
                    <a:pt x="8" y="679"/>
                  </a:lnTo>
                  <a:lnTo>
                    <a:pt x="28" y="589"/>
                  </a:lnTo>
                  <a:lnTo>
                    <a:pt x="56" y="504"/>
                  </a:lnTo>
                  <a:lnTo>
                    <a:pt x="96" y="422"/>
                  </a:lnTo>
                  <a:lnTo>
                    <a:pt x="145" y="348"/>
                  </a:lnTo>
                  <a:lnTo>
                    <a:pt x="203" y="278"/>
                  </a:lnTo>
                  <a:lnTo>
                    <a:pt x="269" y="216"/>
                  </a:lnTo>
                  <a:lnTo>
                    <a:pt x="342" y="160"/>
                  </a:lnTo>
                  <a:lnTo>
                    <a:pt x="424" y="110"/>
                  </a:lnTo>
                  <a:lnTo>
                    <a:pt x="512" y="71"/>
                  </a:lnTo>
                  <a:lnTo>
                    <a:pt x="607" y="38"/>
                  </a:lnTo>
                  <a:lnTo>
                    <a:pt x="708" y="14"/>
                  </a:lnTo>
                  <a:lnTo>
                    <a:pt x="815" y="0"/>
                  </a:lnTo>
                  <a:lnTo>
                    <a:pt x="815" y="101"/>
                  </a:lnTo>
                  <a:lnTo>
                    <a:pt x="865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1378080" y="3403800"/>
              <a:ext cx="411840" cy="1826280"/>
            </a:xfrm>
            <a:custGeom>
              <a:avLst/>
              <a:gdLst/>
              <a:ahLst/>
              <a:rect l="l" t="t" r="r" b="b"/>
              <a:pathLst>
                <a:path w="999" h="4095">
                  <a:moveTo>
                    <a:pt x="999" y="0"/>
                  </a:moveTo>
                  <a:lnTo>
                    <a:pt x="903" y="19"/>
                  </a:lnTo>
                  <a:lnTo>
                    <a:pt x="811" y="45"/>
                  </a:lnTo>
                  <a:lnTo>
                    <a:pt x="726" y="77"/>
                  </a:lnTo>
                  <a:lnTo>
                    <a:pt x="646" y="117"/>
                  </a:lnTo>
                  <a:lnTo>
                    <a:pt x="572" y="162"/>
                  </a:lnTo>
                  <a:lnTo>
                    <a:pt x="503" y="214"/>
                  </a:lnTo>
                  <a:lnTo>
                    <a:pt x="443" y="271"/>
                  </a:lnTo>
                  <a:lnTo>
                    <a:pt x="389" y="334"/>
                  </a:lnTo>
                  <a:lnTo>
                    <a:pt x="344" y="401"/>
                  </a:lnTo>
                  <a:lnTo>
                    <a:pt x="308" y="473"/>
                  </a:lnTo>
                  <a:lnTo>
                    <a:pt x="280" y="550"/>
                  </a:lnTo>
                  <a:lnTo>
                    <a:pt x="261" y="630"/>
                  </a:lnTo>
                  <a:lnTo>
                    <a:pt x="252" y="714"/>
                  </a:lnTo>
                  <a:lnTo>
                    <a:pt x="255" y="803"/>
                  </a:lnTo>
                  <a:lnTo>
                    <a:pt x="268" y="894"/>
                  </a:lnTo>
                  <a:lnTo>
                    <a:pt x="292" y="988"/>
                  </a:lnTo>
                  <a:lnTo>
                    <a:pt x="332" y="1127"/>
                  </a:lnTo>
                  <a:lnTo>
                    <a:pt x="354" y="1249"/>
                  </a:lnTo>
                  <a:lnTo>
                    <a:pt x="358" y="1305"/>
                  </a:lnTo>
                  <a:lnTo>
                    <a:pt x="357" y="1355"/>
                  </a:lnTo>
                  <a:lnTo>
                    <a:pt x="348" y="1401"/>
                  </a:lnTo>
                  <a:lnTo>
                    <a:pt x="334" y="1443"/>
                  </a:lnTo>
                  <a:lnTo>
                    <a:pt x="374" y="1452"/>
                  </a:lnTo>
                  <a:lnTo>
                    <a:pt x="410" y="1469"/>
                  </a:lnTo>
                  <a:lnTo>
                    <a:pt x="442" y="1491"/>
                  </a:lnTo>
                  <a:lnTo>
                    <a:pt x="472" y="1518"/>
                  </a:lnTo>
                  <a:lnTo>
                    <a:pt x="498" y="1549"/>
                  </a:lnTo>
                  <a:lnTo>
                    <a:pt x="521" y="1585"/>
                  </a:lnTo>
                  <a:lnTo>
                    <a:pt x="542" y="1625"/>
                  </a:lnTo>
                  <a:lnTo>
                    <a:pt x="560" y="1668"/>
                  </a:lnTo>
                  <a:lnTo>
                    <a:pt x="573" y="1714"/>
                  </a:lnTo>
                  <a:lnTo>
                    <a:pt x="584" y="1762"/>
                  </a:lnTo>
                  <a:lnTo>
                    <a:pt x="597" y="1861"/>
                  </a:lnTo>
                  <a:lnTo>
                    <a:pt x="598" y="1966"/>
                  </a:lnTo>
                  <a:lnTo>
                    <a:pt x="587" y="2068"/>
                  </a:lnTo>
                  <a:lnTo>
                    <a:pt x="561" y="2191"/>
                  </a:lnTo>
                  <a:lnTo>
                    <a:pt x="526" y="2299"/>
                  </a:lnTo>
                  <a:lnTo>
                    <a:pt x="483" y="2391"/>
                  </a:lnTo>
                  <a:lnTo>
                    <a:pt x="431" y="2464"/>
                  </a:lnTo>
                  <a:lnTo>
                    <a:pt x="402" y="2494"/>
                  </a:lnTo>
                  <a:lnTo>
                    <a:pt x="372" y="2519"/>
                  </a:lnTo>
                  <a:lnTo>
                    <a:pt x="340" y="2539"/>
                  </a:lnTo>
                  <a:lnTo>
                    <a:pt x="306" y="2555"/>
                  </a:lnTo>
                  <a:lnTo>
                    <a:pt x="270" y="2566"/>
                  </a:lnTo>
                  <a:lnTo>
                    <a:pt x="233" y="2572"/>
                  </a:lnTo>
                  <a:lnTo>
                    <a:pt x="195" y="2572"/>
                  </a:lnTo>
                  <a:lnTo>
                    <a:pt x="154" y="2567"/>
                  </a:lnTo>
                  <a:lnTo>
                    <a:pt x="166" y="2610"/>
                  </a:lnTo>
                  <a:lnTo>
                    <a:pt x="172" y="2658"/>
                  </a:lnTo>
                  <a:lnTo>
                    <a:pt x="173" y="2711"/>
                  </a:lnTo>
                  <a:lnTo>
                    <a:pt x="171" y="2765"/>
                  </a:lnTo>
                  <a:lnTo>
                    <a:pt x="161" y="2823"/>
                  </a:lnTo>
                  <a:lnTo>
                    <a:pt x="148" y="2883"/>
                  </a:lnTo>
                  <a:lnTo>
                    <a:pt x="129" y="2943"/>
                  </a:lnTo>
                  <a:lnTo>
                    <a:pt x="104" y="3003"/>
                  </a:lnTo>
                  <a:lnTo>
                    <a:pt x="74" y="3075"/>
                  </a:lnTo>
                  <a:lnTo>
                    <a:pt x="50" y="3148"/>
                  </a:lnTo>
                  <a:lnTo>
                    <a:pt x="29" y="3223"/>
                  </a:lnTo>
                  <a:lnTo>
                    <a:pt x="15" y="3299"/>
                  </a:lnTo>
                  <a:lnTo>
                    <a:pt x="5" y="3376"/>
                  </a:lnTo>
                  <a:lnTo>
                    <a:pt x="0" y="3453"/>
                  </a:lnTo>
                  <a:lnTo>
                    <a:pt x="3" y="3528"/>
                  </a:lnTo>
                  <a:lnTo>
                    <a:pt x="10" y="3604"/>
                  </a:lnTo>
                  <a:lnTo>
                    <a:pt x="23" y="3677"/>
                  </a:lnTo>
                  <a:lnTo>
                    <a:pt x="42" y="3748"/>
                  </a:lnTo>
                  <a:lnTo>
                    <a:pt x="68" y="3815"/>
                  </a:lnTo>
                  <a:lnTo>
                    <a:pt x="100" y="3880"/>
                  </a:lnTo>
                  <a:lnTo>
                    <a:pt x="138" y="3941"/>
                  </a:lnTo>
                  <a:lnTo>
                    <a:pt x="184" y="3997"/>
                  </a:lnTo>
                  <a:lnTo>
                    <a:pt x="237" y="4049"/>
                  </a:lnTo>
                  <a:lnTo>
                    <a:pt x="296" y="40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1494360" y="5043240"/>
              <a:ext cx="377280" cy="223200"/>
            </a:xfrm>
            <a:custGeom>
              <a:avLst/>
              <a:gdLst/>
              <a:ahLst/>
              <a:rect l="l" t="t" r="r" b="b"/>
              <a:pathLst>
                <a:path w="915" h="499">
                  <a:moveTo>
                    <a:pt x="6" y="499"/>
                  </a:moveTo>
                  <a:lnTo>
                    <a:pt x="0" y="480"/>
                  </a:lnTo>
                  <a:lnTo>
                    <a:pt x="0" y="459"/>
                  </a:lnTo>
                  <a:lnTo>
                    <a:pt x="4" y="439"/>
                  </a:lnTo>
                  <a:lnTo>
                    <a:pt x="14" y="420"/>
                  </a:lnTo>
                  <a:lnTo>
                    <a:pt x="42" y="378"/>
                  </a:lnTo>
                  <a:lnTo>
                    <a:pt x="76" y="334"/>
                  </a:lnTo>
                  <a:lnTo>
                    <a:pt x="114" y="292"/>
                  </a:lnTo>
                  <a:lnTo>
                    <a:pt x="158" y="250"/>
                  </a:lnTo>
                  <a:lnTo>
                    <a:pt x="255" y="171"/>
                  </a:lnTo>
                  <a:lnTo>
                    <a:pt x="363" y="103"/>
                  </a:lnTo>
                  <a:lnTo>
                    <a:pt x="478" y="48"/>
                  </a:lnTo>
                  <a:lnTo>
                    <a:pt x="535" y="26"/>
                  </a:lnTo>
                  <a:lnTo>
                    <a:pt x="594" y="12"/>
                  </a:lnTo>
                  <a:lnTo>
                    <a:pt x="653" y="2"/>
                  </a:lnTo>
                  <a:lnTo>
                    <a:pt x="709" y="0"/>
                  </a:lnTo>
                  <a:lnTo>
                    <a:pt x="765" y="3"/>
                  </a:lnTo>
                  <a:lnTo>
                    <a:pt x="819" y="15"/>
                  </a:lnTo>
                  <a:lnTo>
                    <a:pt x="861" y="34"/>
                  </a:lnTo>
                  <a:lnTo>
                    <a:pt x="877" y="49"/>
                  </a:lnTo>
                  <a:lnTo>
                    <a:pt x="892" y="64"/>
                  </a:lnTo>
                  <a:lnTo>
                    <a:pt x="910" y="104"/>
                  </a:lnTo>
                  <a:lnTo>
                    <a:pt x="915" y="1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1829520" y="5295960"/>
              <a:ext cx="35640" cy="4824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87" y="0"/>
                  </a:moveTo>
                  <a:lnTo>
                    <a:pt x="80" y="47"/>
                  </a:lnTo>
                  <a:lnTo>
                    <a:pt x="63" y="79"/>
                  </a:lnTo>
                  <a:lnTo>
                    <a:pt x="37" y="100"/>
                  </a:lnTo>
                  <a:lnTo>
                    <a:pt x="0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1829520" y="4740480"/>
              <a:ext cx="167040" cy="576720"/>
            </a:xfrm>
            <a:custGeom>
              <a:avLst/>
              <a:gdLst/>
              <a:ahLst/>
              <a:rect l="l" t="t" r="r" b="b"/>
              <a:pathLst>
                <a:path w="403" h="1295">
                  <a:moveTo>
                    <a:pt x="86" y="1246"/>
                  </a:moveTo>
                  <a:lnTo>
                    <a:pt x="106" y="687"/>
                  </a:lnTo>
                  <a:lnTo>
                    <a:pt x="103" y="592"/>
                  </a:lnTo>
                  <a:lnTo>
                    <a:pt x="92" y="509"/>
                  </a:lnTo>
                  <a:lnTo>
                    <a:pt x="76" y="436"/>
                  </a:lnTo>
                  <a:lnTo>
                    <a:pt x="56" y="366"/>
                  </a:lnTo>
                  <a:lnTo>
                    <a:pt x="36" y="296"/>
                  </a:lnTo>
                  <a:lnTo>
                    <a:pt x="18" y="220"/>
                  </a:lnTo>
                  <a:lnTo>
                    <a:pt x="5" y="134"/>
                  </a:lnTo>
                  <a:lnTo>
                    <a:pt x="0" y="33"/>
                  </a:lnTo>
                  <a:lnTo>
                    <a:pt x="97" y="32"/>
                  </a:lnTo>
                  <a:lnTo>
                    <a:pt x="198" y="26"/>
                  </a:lnTo>
                  <a:lnTo>
                    <a:pt x="300" y="15"/>
                  </a:lnTo>
                  <a:lnTo>
                    <a:pt x="403" y="0"/>
                  </a:lnTo>
                  <a:lnTo>
                    <a:pt x="403" y="87"/>
                  </a:lnTo>
                  <a:lnTo>
                    <a:pt x="391" y="168"/>
                  </a:lnTo>
                  <a:lnTo>
                    <a:pt x="373" y="248"/>
                  </a:lnTo>
                  <a:lnTo>
                    <a:pt x="350" y="324"/>
                  </a:lnTo>
                  <a:lnTo>
                    <a:pt x="304" y="482"/>
                  </a:lnTo>
                  <a:lnTo>
                    <a:pt x="286" y="564"/>
                  </a:lnTo>
                  <a:lnTo>
                    <a:pt x="280" y="596"/>
                  </a:lnTo>
                  <a:lnTo>
                    <a:pt x="276" y="651"/>
                  </a:lnTo>
                  <a:lnTo>
                    <a:pt x="247" y="1253"/>
                  </a:lnTo>
                  <a:lnTo>
                    <a:pt x="241" y="1271"/>
                  </a:lnTo>
                  <a:lnTo>
                    <a:pt x="224" y="1284"/>
                  </a:lnTo>
                  <a:lnTo>
                    <a:pt x="199" y="1293"/>
                  </a:lnTo>
                  <a:lnTo>
                    <a:pt x="164" y="1295"/>
                  </a:lnTo>
                  <a:lnTo>
                    <a:pt x="128" y="1293"/>
                  </a:lnTo>
                  <a:lnTo>
                    <a:pt x="104" y="1284"/>
                  </a:lnTo>
                  <a:lnTo>
                    <a:pt x="90" y="1269"/>
                  </a:lnTo>
                  <a:lnTo>
                    <a:pt x="86" y="124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1909080" y="5316120"/>
              <a:ext cx="6120" cy="1980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15" y="0"/>
                  </a:moveTo>
                  <a:lnTo>
                    <a:pt x="16" y="20"/>
                  </a:lnTo>
                  <a:lnTo>
                    <a:pt x="13" y="36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1851840" y="5335920"/>
              <a:ext cx="51840" cy="13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7" y="0"/>
                  </a:moveTo>
                  <a:lnTo>
                    <a:pt x="104" y="0"/>
                  </a:lnTo>
                  <a:lnTo>
                    <a:pt x="86" y="5"/>
                  </a:lnTo>
                  <a:lnTo>
                    <a:pt x="75" y="15"/>
                  </a:lnTo>
                  <a:lnTo>
                    <a:pt x="66" y="26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30" y="17"/>
                  </a:lnTo>
                  <a:lnTo>
                    <a:pt x="19" y="6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1536480" y="4234680"/>
              <a:ext cx="248760" cy="418680"/>
            </a:xfrm>
            <a:custGeom>
              <a:avLst/>
              <a:gdLst/>
              <a:ahLst/>
              <a:rect l="l" t="t" r="r" b="b"/>
              <a:pathLst>
                <a:path w="605" h="938">
                  <a:moveTo>
                    <a:pt x="4" y="838"/>
                  </a:moveTo>
                  <a:lnTo>
                    <a:pt x="0" y="814"/>
                  </a:lnTo>
                  <a:lnTo>
                    <a:pt x="5" y="792"/>
                  </a:lnTo>
                  <a:lnTo>
                    <a:pt x="20" y="772"/>
                  </a:lnTo>
                  <a:lnTo>
                    <a:pt x="39" y="759"/>
                  </a:lnTo>
                  <a:lnTo>
                    <a:pt x="63" y="754"/>
                  </a:lnTo>
                  <a:lnTo>
                    <a:pt x="87" y="758"/>
                  </a:lnTo>
                  <a:lnTo>
                    <a:pt x="107" y="770"/>
                  </a:lnTo>
                  <a:lnTo>
                    <a:pt x="122" y="790"/>
                  </a:lnTo>
                  <a:lnTo>
                    <a:pt x="128" y="813"/>
                  </a:lnTo>
                  <a:lnTo>
                    <a:pt x="125" y="837"/>
                  </a:lnTo>
                  <a:lnTo>
                    <a:pt x="114" y="858"/>
                  </a:lnTo>
                  <a:lnTo>
                    <a:pt x="95" y="873"/>
                  </a:lnTo>
                  <a:lnTo>
                    <a:pt x="124" y="890"/>
                  </a:lnTo>
                  <a:lnTo>
                    <a:pt x="140" y="895"/>
                  </a:lnTo>
                  <a:lnTo>
                    <a:pt x="155" y="896"/>
                  </a:lnTo>
                  <a:lnTo>
                    <a:pt x="188" y="889"/>
                  </a:lnTo>
                  <a:lnTo>
                    <a:pt x="220" y="866"/>
                  </a:lnTo>
                  <a:lnTo>
                    <a:pt x="251" y="826"/>
                  </a:lnTo>
                  <a:lnTo>
                    <a:pt x="280" y="769"/>
                  </a:lnTo>
                  <a:lnTo>
                    <a:pt x="305" y="691"/>
                  </a:lnTo>
                  <a:lnTo>
                    <a:pt x="327" y="590"/>
                  </a:lnTo>
                  <a:lnTo>
                    <a:pt x="326" y="578"/>
                  </a:lnTo>
                  <a:lnTo>
                    <a:pt x="321" y="566"/>
                  </a:lnTo>
                  <a:lnTo>
                    <a:pt x="300" y="548"/>
                  </a:lnTo>
                  <a:lnTo>
                    <a:pt x="324" y="541"/>
                  </a:lnTo>
                  <a:lnTo>
                    <a:pt x="332" y="534"/>
                  </a:lnTo>
                  <a:lnTo>
                    <a:pt x="335" y="530"/>
                  </a:lnTo>
                  <a:lnTo>
                    <a:pt x="336" y="522"/>
                  </a:lnTo>
                  <a:lnTo>
                    <a:pt x="356" y="332"/>
                  </a:lnTo>
                  <a:lnTo>
                    <a:pt x="366" y="246"/>
                  </a:lnTo>
                  <a:lnTo>
                    <a:pt x="380" y="169"/>
                  </a:lnTo>
                  <a:lnTo>
                    <a:pt x="388" y="134"/>
                  </a:lnTo>
                  <a:lnTo>
                    <a:pt x="399" y="103"/>
                  </a:lnTo>
                  <a:lnTo>
                    <a:pt x="412" y="75"/>
                  </a:lnTo>
                  <a:lnTo>
                    <a:pt x="426" y="52"/>
                  </a:lnTo>
                  <a:lnTo>
                    <a:pt x="444" y="32"/>
                  </a:lnTo>
                  <a:lnTo>
                    <a:pt x="465" y="16"/>
                  </a:lnTo>
                  <a:lnTo>
                    <a:pt x="489" y="6"/>
                  </a:lnTo>
                  <a:lnTo>
                    <a:pt x="516" y="0"/>
                  </a:lnTo>
                  <a:lnTo>
                    <a:pt x="551" y="3"/>
                  </a:lnTo>
                  <a:lnTo>
                    <a:pt x="581" y="20"/>
                  </a:lnTo>
                  <a:lnTo>
                    <a:pt x="592" y="32"/>
                  </a:lnTo>
                  <a:lnTo>
                    <a:pt x="599" y="46"/>
                  </a:lnTo>
                  <a:lnTo>
                    <a:pt x="604" y="63"/>
                  </a:lnTo>
                  <a:lnTo>
                    <a:pt x="605" y="82"/>
                  </a:lnTo>
                  <a:lnTo>
                    <a:pt x="598" y="108"/>
                  </a:lnTo>
                  <a:lnTo>
                    <a:pt x="581" y="127"/>
                  </a:lnTo>
                  <a:lnTo>
                    <a:pt x="558" y="136"/>
                  </a:lnTo>
                  <a:lnTo>
                    <a:pt x="545" y="136"/>
                  </a:lnTo>
                  <a:lnTo>
                    <a:pt x="532" y="134"/>
                  </a:lnTo>
                  <a:lnTo>
                    <a:pt x="509" y="120"/>
                  </a:lnTo>
                  <a:lnTo>
                    <a:pt x="497" y="97"/>
                  </a:lnTo>
                  <a:lnTo>
                    <a:pt x="495" y="72"/>
                  </a:lnTo>
                  <a:lnTo>
                    <a:pt x="505" y="48"/>
                  </a:lnTo>
                  <a:lnTo>
                    <a:pt x="491" y="55"/>
                  </a:lnTo>
                  <a:lnTo>
                    <a:pt x="478" y="64"/>
                  </a:lnTo>
                  <a:lnTo>
                    <a:pt x="457" y="97"/>
                  </a:lnTo>
                  <a:lnTo>
                    <a:pt x="442" y="141"/>
                  </a:lnTo>
                  <a:lnTo>
                    <a:pt x="431" y="199"/>
                  </a:lnTo>
                  <a:lnTo>
                    <a:pt x="414" y="348"/>
                  </a:lnTo>
                  <a:lnTo>
                    <a:pt x="399" y="532"/>
                  </a:lnTo>
                  <a:lnTo>
                    <a:pt x="400" y="543"/>
                  </a:lnTo>
                  <a:lnTo>
                    <a:pt x="405" y="553"/>
                  </a:lnTo>
                  <a:lnTo>
                    <a:pt x="427" y="568"/>
                  </a:lnTo>
                  <a:lnTo>
                    <a:pt x="413" y="571"/>
                  </a:lnTo>
                  <a:lnTo>
                    <a:pt x="402" y="578"/>
                  </a:lnTo>
                  <a:lnTo>
                    <a:pt x="395" y="588"/>
                  </a:lnTo>
                  <a:lnTo>
                    <a:pt x="390" y="601"/>
                  </a:lnTo>
                  <a:lnTo>
                    <a:pt x="376" y="685"/>
                  </a:lnTo>
                  <a:lnTo>
                    <a:pt x="353" y="764"/>
                  </a:lnTo>
                  <a:lnTo>
                    <a:pt x="321" y="836"/>
                  </a:lnTo>
                  <a:lnTo>
                    <a:pt x="300" y="867"/>
                  </a:lnTo>
                  <a:lnTo>
                    <a:pt x="276" y="895"/>
                  </a:lnTo>
                  <a:lnTo>
                    <a:pt x="246" y="916"/>
                  </a:lnTo>
                  <a:lnTo>
                    <a:pt x="210" y="932"/>
                  </a:lnTo>
                  <a:lnTo>
                    <a:pt x="171" y="938"/>
                  </a:lnTo>
                  <a:lnTo>
                    <a:pt x="130" y="937"/>
                  </a:lnTo>
                  <a:lnTo>
                    <a:pt x="90" y="926"/>
                  </a:lnTo>
                  <a:lnTo>
                    <a:pt x="54" y="907"/>
                  </a:lnTo>
                  <a:lnTo>
                    <a:pt x="24" y="878"/>
                  </a:lnTo>
                  <a:lnTo>
                    <a:pt x="4" y="83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1776600" y="4463640"/>
              <a:ext cx="239760" cy="65520"/>
            </a:xfrm>
            <a:custGeom>
              <a:avLst/>
              <a:gdLst/>
              <a:ahLst/>
              <a:rect l="l" t="t" r="r" b="b"/>
              <a:pathLst>
                <a:path w="582" h="148">
                  <a:moveTo>
                    <a:pt x="0" y="29"/>
                  </a:moveTo>
                  <a:lnTo>
                    <a:pt x="98" y="23"/>
                  </a:lnTo>
                  <a:lnTo>
                    <a:pt x="143" y="44"/>
                  </a:lnTo>
                  <a:lnTo>
                    <a:pt x="293" y="42"/>
                  </a:lnTo>
                  <a:lnTo>
                    <a:pt x="374" y="35"/>
                  </a:lnTo>
                  <a:lnTo>
                    <a:pt x="438" y="26"/>
                  </a:lnTo>
                  <a:lnTo>
                    <a:pt x="390" y="5"/>
                  </a:lnTo>
                  <a:lnTo>
                    <a:pt x="485" y="0"/>
                  </a:lnTo>
                  <a:lnTo>
                    <a:pt x="582" y="86"/>
                  </a:lnTo>
                  <a:lnTo>
                    <a:pt x="582" y="125"/>
                  </a:lnTo>
                  <a:lnTo>
                    <a:pt x="497" y="137"/>
                  </a:lnTo>
                  <a:lnTo>
                    <a:pt x="400" y="145"/>
                  </a:lnTo>
                  <a:lnTo>
                    <a:pt x="302" y="148"/>
                  </a:lnTo>
                  <a:lnTo>
                    <a:pt x="216" y="146"/>
                  </a:lnTo>
                  <a:lnTo>
                    <a:pt x="0" y="90"/>
                  </a:lnTo>
                  <a:lnTo>
                    <a:pt x="0" y="29"/>
                  </a:lnTo>
                  <a:lnTo>
                    <a:pt x="216" y="109"/>
                  </a:lnTo>
                  <a:lnTo>
                    <a:pt x="216" y="1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865520" y="4502520"/>
              <a:ext cx="150840" cy="10440"/>
            </a:xfrm>
            <a:custGeom>
              <a:avLst/>
              <a:gdLst/>
              <a:ahLst/>
              <a:rect l="l" t="t" r="r" b="b"/>
              <a:pathLst>
                <a:path w="366" h="24">
                  <a:moveTo>
                    <a:pt x="0" y="23"/>
                  </a:moveTo>
                  <a:lnTo>
                    <a:pt x="86" y="24"/>
                  </a:lnTo>
                  <a:lnTo>
                    <a:pt x="184" y="21"/>
                  </a:lnTo>
                  <a:lnTo>
                    <a:pt x="281" y="12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V="1">
              <a:off x="1937160" y="4465800"/>
              <a:ext cx="1080" cy="1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1850760" y="4772880"/>
              <a:ext cx="127080" cy="19800"/>
            </a:xfrm>
            <a:custGeom>
              <a:avLst/>
              <a:gdLst/>
              <a:ahLst/>
              <a:rect l="l" t="t" r="r" b="b"/>
              <a:pathLst>
                <a:path w="311" h="44">
                  <a:moveTo>
                    <a:pt x="0" y="44"/>
                  </a:moveTo>
                  <a:lnTo>
                    <a:pt x="0" y="25"/>
                  </a:lnTo>
                  <a:lnTo>
                    <a:pt x="154" y="18"/>
                  </a:lnTo>
                  <a:lnTo>
                    <a:pt x="311" y="0"/>
                  </a:lnTo>
                  <a:lnTo>
                    <a:pt x="311" y="19"/>
                  </a:lnTo>
                  <a:lnTo>
                    <a:pt x="154" y="37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1849320" y="4822200"/>
              <a:ext cx="17280" cy="172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19" y="41"/>
                  </a:moveTo>
                  <a:lnTo>
                    <a:pt x="30" y="38"/>
                  </a:lnTo>
                  <a:lnTo>
                    <a:pt x="37" y="31"/>
                  </a:lnTo>
                  <a:lnTo>
                    <a:pt x="40" y="20"/>
                  </a:lnTo>
                  <a:lnTo>
                    <a:pt x="37" y="9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2" y="9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10" y="38"/>
                  </a:lnTo>
                  <a:lnTo>
                    <a:pt x="19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1888920" y="4821120"/>
              <a:ext cx="17280" cy="172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41"/>
                  </a:moveTo>
                  <a:lnTo>
                    <a:pt x="31" y="39"/>
                  </a:lnTo>
                  <a:lnTo>
                    <a:pt x="38" y="32"/>
                  </a:lnTo>
                  <a:lnTo>
                    <a:pt x="41" y="21"/>
                  </a:lnTo>
                  <a:lnTo>
                    <a:pt x="37" y="10"/>
                  </a:lnTo>
                  <a:lnTo>
                    <a:pt x="30" y="3"/>
                  </a:lnTo>
                  <a:lnTo>
                    <a:pt x="20" y="0"/>
                  </a:lnTo>
                  <a:lnTo>
                    <a:pt x="11" y="3"/>
                  </a:lnTo>
                  <a:lnTo>
                    <a:pt x="2" y="10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9" y="39"/>
                  </a:lnTo>
                  <a:lnTo>
                    <a:pt x="20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1928520" y="4816800"/>
              <a:ext cx="15840" cy="1872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0" y="41"/>
                  </a:moveTo>
                  <a:lnTo>
                    <a:pt x="30" y="38"/>
                  </a:lnTo>
                  <a:lnTo>
                    <a:pt x="37" y="31"/>
                  </a:lnTo>
                  <a:lnTo>
                    <a:pt x="39" y="20"/>
                  </a:lnTo>
                  <a:lnTo>
                    <a:pt x="37" y="10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9" y="2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9" y="38"/>
                  </a:lnTo>
                  <a:lnTo>
                    <a:pt x="20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1965600" y="4811760"/>
              <a:ext cx="17280" cy="172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41"/>
                  </a:moveTo>
                  <a:lnTo>
                    <a:pt x="31" y="38"/>
                  </a:lnTo>
                  <a:lnTo>
                    <a:pt x="38" y="31"/>
                  </a:lnTo>
                  <a:lnTo>
                    <a:pt x="41" y="20"/>
                  </a:lnTo>
                  <a:lnTo>
                    <a:pt x="38" y="9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4" y="9"/>
                  </a:lnTo>
                  <a:lnTo>
                    <a:pt x="0" y="20"/>
                  </a:lnTo>
                  <a:lnTo>
                    <a:pt x="4" y="31"/>
                  </a:lnTo>
                  <a:lnTo>
                    <a:pt x="10" y="38"/>
                  </a:lnTo>
                  <a:lnTo>
                    <a:pt x="20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1955880" y="4222800"/>
              <a:ext cx="226080" cy="390600"/>
            </a:xfrm>
            <a:custGeom>
              <a:avLst/>
              <a:gdLst/>
              <a:ahLst/>
              <a:rect l="l" t="t" r="r" b="b"/>
              <a:pathLst>
                <a:path w="548" h="876">
                  <a:moveTo>
                    <a:pt x="337" y="823"/>
                  </a:moveTo>
                  <a:lnTo>
                    <a:pt x="307" y="779"/>
                  </a:lnTo>
                  <a:lnTo>
                    <a:pt x="278" y="719"/>
                  </a:lnTo>
                  <a:lnTo>
                    <a:pt x="252" y="648"/>
                  </a:lnTo>
                  <a:lnTo>
                    <a:pt x="231" y="568"/>
                  </a:lnTo>
                  <a:lnTo>
                    <a:pt x="227" y="551"/>
                  </a:lnTo>
                  <a:lnTo>
                    <a:pt x="218" y="539"/>
                  </a:lnTo>
                  <a:lnTo>
                    <a:pt x="205" y="531"/>
                  </a:lnTo>
                  <a:lnTo>
                    <a:pt x="188" y="527"/>
                  </a:lnTo>
                  <a:lnTo>
                    <a:pt x="203" y="520"/>
                  </a:lnTo>
                  <a:lnTo>
                    <a:pt x="213" y="508"/>
                  </a:lnTo>
                  <a:lnTo>
                    <a:pt x="218" y="492"/>
                  </a:lnTo>
                  <a:lnTo>
                    <a:pt x="219" y="475"/>
                  </a:lnTo>
                  <a:lnTo>
                    <a:pt x="212" y="337"/>
                  </a:lnTo>
                  <a:lnTo>
                    <a:pt x="209" y="265"/>
                  </a:lnTo>
                  <a:lnTo>
                    <a:pt x="200" y="197"/>
                  </a:lnTo>
                  <a:lnTo>
                    <a:pt x="185" y="135"/>
                  </a:lnTo>
                  <a:lnTo>
                    <a:pt x="162" y="85"/>
                  </a:lnTo>
                  <a:lnTo>
                    <a:pt x="146" y="66"/>
                  </a:lnTo>
                  <a:lnTo>
                    <a:pt x="128" y="53"/>
                  </a:lnTo>
                  <a:lnTo>
                    <a:pt x="105" y="43"/>
                  </a:lnTo>
                  <a:lnTo>
                    <a:pt x="80" y="40"/>
                  </a:lnTo>
                  <a:lnTo>
                    <a:pt x="93" y="52"/>
                  </a:lnTo>
                  <a:lnTo>
                    <a:pt x="102" y="67"/>
                  </a:lnTo>
                  <a:lnTo>
                    <a:pt x="105" y="85"/>
                  </a:lnTo>
                  <a:lnTo>
                    <a:pt x="102" y="105"/>
                  </a:lnTo>
                  <a:lnTo>
                    <a:pt x="92" y="120"/>
                  </a:lnTo>
                  <a:lnTo>
                    <a:pt x="78" y="131"/>
                  </a:lnTo>
                  <a:lnTo>
                    <a:pt x="61" y="137"/>
                  </a:lnTo>
                  <a:lnTo>
                    <a:pt x="42" y="136"/>
                  </a:lnTo>
                  <a:lnTo>
                    <a:pt x="25" y="129"/>
                  </a:lnTo>
                  <a:lnTo>
                    <a:pt x="12" y="117"/>
                  </a:lnTo>
                  <a:lnTo>
                    <a:pt x="3" y="101"/>
                  </a:lnTo>
                  <a:lnTo>
                    <a:pt x="0" y="83"/>
                  </a:lnTo>
                  <a:lnTo>
                    <a:pt x="2" y="65"/>
                  </a:lnTo>
                  <a:lnTo>
                    <a:pt x="7" y="49"/>
                  </a:lnTo>
                  <a:lnTo>
                    <a:pt x="25" y="25"/>
                  </a:lnTo>
                  <a:lnTo>
                    <a:pt x="49" y="9"/>
                  </a:lnTo>
                  <a:lnTo>
                    <a:pt x="78" y="0"/>
                  </a:lnTo>
                  <a:lnTo>
                    <a:pt x="109" y="1"/>
                  </a:lnTo>
                  <a:lnTo>
                    <a:pt x="140" y="11"/>
                  </a:lnTo>
                  <a:lnTo>
                    <a:pt x="168" y="30"/>
                  </a:lnTo>
                  <a:lnTo>
                    <a:pt x="191" y="58"/>
                  </a:lnTo>
                  <a:lnTo>
                    <a:pt x="213" y="101"/>
                  </a:lnTo>
                  <a:lnTo>
                    <a:pt x="229" y="144"/>
                  </a:lnTo>
                  <a:lnTo>
                    <a:pt x="242" y="189"/>
                  </a:lnTo>
                  <a:lnTo>
                    <a:pt x="251" y="235"/>
                  </a:lnTo>
                  <a:lnTo>
                    <a:pt x="283" y="469"/>
                  </a:lnTo>
                  <a:lnTo>
                    <a:pt x="287" y="481"/>
                  </a:lnTo>
                  <a:lnTo>
                    <a:pt x="296" y="490"/>
                  </a:lnTo>
                  <a:lnTo>
                    <a:pt x="323" y="499"/>
                  </a:lnTo>
                  <a:lnTo>
                    <a:pt x="311" y="509"/>
                  </a:lnTo>
                  <a:lnTo>
                    <a:pt x="302" y="522"/>
                  </a:lnTo>
                  <a:lnTo>
                    <a:pt x="299" y="538"/>
                  </a:lnTo>
                  <a:lnTo>
                    <a:pt x="299" y="556"/>
                  </a:lnTo>
                  <a:lnTo>
                    <a:pt x="317" y="643"/>
                  </a:lnTo>
                  <a:lnTo>
                    <a:pt x="338" y="712"/>
                  </a:lnTo>
                  <a:lnTo>
                    <a:pt x="361" y="763"/>
                  </a:lnTo>
                  <a:lnTo>
                    <a:pt x="385" y="799"/>
                  </a:lnTo>
                  <a:lnTo>
                    <a:pt x="397" y="811"/>
                  </a:lnTo>
                  <a:lnTo>
                    <a:pt x="409" y="820"/>
                  </a:lnTo>
                  <a:lnTo>
                    <a:pt x="433" y="827"/>
                  </a:lnTo>
                  <a:lnTo>
                    <a:pt x="455" y="823"/>
                  </a:lnTo>
                  <a:lnTo>
                    <a:pt x="474" y="809"/>
                  </a:lnTo>
                  <a:lnTo>
                    <a:pt x="458" y="804"/>
                  </a:lnTo>
                  <a:lnTo>
                    <a:pt x="445" y="797"/>
                  </a:lnTo>
                  <a:lnTo>
                    <a:pt x="434" y="786"/>
                  </a:lnTo>
                  <a:lnTo>
                    <a:pt x="427" y="773"/>
                  </a:lnTo>
                  <a:lnTo>
                    <a:pt x="422" y="759"/>
                  </a:lnTo>
                  <a:lnTo>
                    <a:pt x="422" y="743"/>
                  </a:lnTo>
                  <a:lnTo>
                    <a:pt x="426" y="729"/>
                  </a:lnTo>
                  <a:lnTo>
                    <a:pt x="433" y="714"/>
                  </a:lnTo>
                  <a:lnTo>
                    <a:pt x="445" y="702"/>
                  </a:lnTo>
                  <a:lnTo>
                    <a:pt x="458" y="694"/>
                  </a:lnTo>
                  <a:lnTo>
                    <a:pt x="473" y="690"/>
                  </a:lnTo>
                  <a:lnTo>
                    <a:pt x="488" y="690"/>
                  </a:lnTo>
                  <a:lnTo>
                    <a:pt x="516" y="700"/>
                  </a:lnTo>
                  <a:lnTo>
                    <a:pt x="528" y="711"/>
                  </a:lnTo>
                  <a:lnTo>
                    <a:pt x="536" y="724"/>
                  </a:lnTo>
                  <a:lnTo>
                    <a:pt x="545" y="747"/>
                  </a:lnTo>
                  <a:lnTo>
                    <a:pt x="548" y="768"/>
                  </a:lnTo>
                  <a:lnTo>
                    <a:pt x="548" y="789"/>
                  </a:lnTo>
                  <a:lnTo>
                    <a:pt x="543" y="808"/>
                  </a:lnTo>
                  <a:lnTo>
                    <a:pt x="524" y="839"/>
                  </a:lnTo>
                  <a:lnTo>
                    <a:pt x="495" y="863"/>
                  </a:lnTo>
                  <a:lnTo>
                    <a:pt x="477" y="870"/>
                  </a:lnTo>
                  <a:lnTo>
                    <a:pt x="458" y="875"/>
                  </a:lnTo>
                  <a:lnTo>
                    <a:pt x="439" y="876"/>
                  </a:lnTo>
                  <a:lnTo>
                    <a:pt x="417" y="874"/>
                  </a:lnTo>
                  <a:lnTo>
                    <a:pt x="397" y="868"/>
                  </a:lnTo>
                  <a:lnTo>
                    <a:pt x="377" y="857"/>
                  </a:lnTo>
                  <a:lnTo>
                    <a:pt x="356" y="843"/>
                  </a:lnTo>
                  <a:lnTo>
                    <a:pt x="337" y="82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1927440" y="3409200"/>
              <a:ext cx="415440" cy="1889640"/>
            </a:xfrm>
            <a:custGeom>
              <a:avLst/>
              <a:gdLst/>
              <a:ahLst/>
              <a:rect l="l" t="t" r="r" b="b"/>
              <a:pathLst>
                <a:path w="1009" h="4238">
                  <a:moveTo>
                    <a:pt x="0" y="0"/>
                  </a:moveTo>
                  <a:lnTo>
                    <a:pt x="66" y="14"/>
                  </a:lnTo>
                  <a:lnTo>
                    <a:pt x="130" y="33"/>
                  </a:lnTo>
                  <a:lnTo>
                    <a:pt x="193" y="59"/>
                  </a:lnTo>
                  <a:lnTo>
                    <a:pt x="255" y="89"/>
                  </a:lnTo>
                  <a:lnTo>
                    <a:pt x="313" y="123"/>
                  </a:lnTo>
                  <a:lnTo>
                    <a:pt x="369" y="163"/>
                  </a:lnTo>
                  <a:lnTo>
                    <a:pt x="421" y="207"/>
                  </a:lnTo>
                  <a:lnTo>
                    <a:pt x="469" y="255"/>
                  </a:lnTo>
                  <a:lnTo>
                    <a:pt x="514" y="309"/>
                  </a:lnTo>
                  <a:lnTo>
                    <a:pt x="553" y="366"/>
                  </a:lnTo>
                  <a:lnTo>
                    <a:pt x="588" y="427"/>
                  </a:lnTo>
                  <a:lnTo>
                    <a:pt x="617" y="492"/>
                  </a:lnTo>
                  <a:lnTo>
                    <a:pt x="640" y="561"/>
                  </a:lnTo>
                  <a:lnTo>
                    <a:pt x="655" y="633"/>
                  </a:lnTo>
                  <a:lnTo>
                    <a:pt x="665" y="709"/>
                  </a:lnTo>
                  <a:lnTo>
                    <a:pt x="666" y="788"/>
                  </a:lnTo>
                  <a:lnTo>
                    <a:pt x="659" y="859"/>
                  </a:lnTo>
                  <a:lnTo>
                    <a:pt x="646" y="935"/>
                  </a:lnTo>
                  <a:lnTo>
                    <a:pt x="616" y="1088"/>
                  </a:lnTo>
                  <a:lnTo>
                    <a:pt x="607" y="1165"/>
                  </a:lnTo>
                  <a:lnTo>
                    <a:pt x="607" y="1203"/>
                  </a:lnTo>
                  <a:lnTo>
                    <a:pt x="610" y="1241"/>
                  </a:lnTo>
                  <a:lnTo>
                    <a:pt x="617" y="1278"/>
                  </a:lnTo>
                  <a:lnTo>
                    <a:pt x="628" y="1314"/>
                  </a:lnTo>
                  <a:lnTo>
                    <a:pt x="643" y="1349"/>
                  </a:lnTo>
                  <a:lnTo>
                    <a:pt x="665" y="1382"/>
                  </a:lnTo>
                  <a:lnTo>
                    <a:pt x="627" y="1394"/>
                  </a:lnTo>
                  <a:lnTo>
                    <a:pt x="592" y="1413"/>
                  </a:lnTo>
                  <a:lnTo>
                    <a:pt x="561" y="1439"/>
                  </a:lnTo>
                  <a:lnTo>
                    <a:pt x="532" y="1469"/>
                  </a:lnTo>
                  <a:lnTo>
                    <a:pt x="507" y="1503"/>
                  </a:lnTo>
                  <a:lnTo>
                    <a:pt x="484" y="1543"/>
                  </a:lnTo>
                  <a:lnTo>
                    <a:pt x="465" y="1586"/>
                  </a:lnTo>
                  <a:lnTo>
                    <a:pt x="449" y="1633"/>
                  </a:lnTo>
                  <a:lnTo>
                    <a:pt x="427" y="1735"/>
                  </a:lnTo>
                  <a:lnTo>
                    <a:pt x="421" y="1789"/>
                  </a:lnTo>
                  <a:lnTo>
                    <a:pt x="419" y="1844"/>
                  </a:lnTo>
                  <a:lnTo>
                    <a:pt x="420" y="1901"/>
                  </a:lnTo>
                  <a:lnTo>
                    <a:pt x="426" y="1957"/>
                  </a:lnTo>
                  <a:lnTo>
                    <a:pt x="447" y="2070"/>
                  </a:lnTo>
                  <a:lnTo>
                    <a:pt x="474" y="2160"/>
                  </a:lnTo>
                  <a:lnTo>
                    <a:pt x="509" y="2244"/>
                  </a:lnTo>
                  <a:lnTo>
                    <a:pt x="550" y="2318"/>
                  </a:lnTo>
                  <a:lnTo>
                    <a:pt x="598" y="2379"/>
                  </a:lnTo>
                  <a:lnTo>
                    <a:pt x="652" y="2427"/>
                  </a:lnTo>
                  <a:lnTo>
                    <a:pt x="681" y="2444"/>
                  </a:lnTo>
                  <a:lnTo>
                    <a:pt x="711" y="2456"/>
                  </a:lnTo>
                  <a:lnTo>
                    <a:pt x="741" y="2465"/>
                  </a:lnTo>
                  <a:lnTo>
                    <a:pt x="773" y="2466"/>
                  </a:lnTo>
                  <a:lnTo>
                    <a:pt x="805" y="2462"/>
                  </a:lnTo>
                  <a:lnTo>
                    <a:pt x="839" y="2451"/>
                  </a:lnTo>
                  <a:lnTo>
                    <a:pt x="838" y="2520"/>
                  </a:lnTo>
                  <a:lnTo>
                    <a:pt x="843" y="2586"/>
                  </a:lnTo>
                  <a:lnTo>
                    <a:pt x="853" y="2649"/>
                  </a:lnTo>
                  <a:lnTo>
                    <a:pt x="867" y="2711"/>
                  </a:lnTo>
                  <a:lnTo>
                    <a:pt x="903" y="2828"/>
                  </a:lnTo>
                  <a:lnTo>
                    <a:pt x="942" y="2943"/>
                  </a:lnTo>
                  <a:lnTo>
                    <a:pt x="978" y="3061"/>
                  </a:lnTo>
                  <a:lnTo>
                    <a:pt x="993" y="3121"/>
                  </a:lnTo>
                  <a:lnTo>
                    <a:pt x="1003" y="3183"/>
                  </a:lnTo>
                  <a:lnTo>
                    <a:pt x="1009" y="3248"/>
                  </a:lnTo>
                  <a:lnTo>
                    <a:pt x="1009" y="3315"/>
                  </a:lnTo>
                  <a:lnTo>
                    <a:pt x="1003" y="3386"/>
                  </a:lnTo>
                  <a:lnTo>
                    <a:pt x="989" y="3461"/>
                  </a:lnTo>
                  <a:lnTo>
                    <a:pt x="971" y="3524"/>
                  </a:lnTo>
                  <a:lnTo>
                    <a:pt x="946" y="3587"/>
                  </a:lnTo>
                  <a:lnTo>
                    <a:pt x="915" y="3648"/>
                  </a:lnTo>
                  <a:lnTo>
                    <a:pt x="877" y="3709"/>
                  </a:lnTo>
                  <a:lnTo>
                    <a:pt x="834" y="3768"/>
                  </a:lnTo>
                  <a:lnTo>
                    <a:pt x="784" y="3825"/>
                  </a:lnTo>
                  <a:lnTo>
                    <a:pt x="730" y="3879"/>
                  </a:lnTo>
                  <a:lnTo>
                    <a:pt x="669" y="3932"/>
                  </a:lnTo>
                  <a:lnTo>
                    <a:pt x="603" y="3983"/>
                  </a:lnTo>
                  <a:lnTo>
                    <a:pt x="533" y="4031"/>
                  </a:lnTo>
                  <a:lnTo>
                    <a:pt x="456" y="4074"/>
                  </a:lnTo>
                  <a:lnTo>
                    <a:pt x="377" y="4115"/>
                  </a:lnTo>
                  <a:lnTo>
                    <a:pt x="292" y="4152"/>
                  </a:lnTo>
                  <a:lnTo>
                    <a:pt x="203" y="4185"/>
                  </a:lnTo>
                  <a:lnTo>
                    <a:pt x="109" y="4214"/>
                  </a:lnTo>
                  <a:lnTo>
                    <a:pt x="12" y="4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177280" y="4431240"/>
              <a:ext cx="115200" cy="50760"/>
            </a:xfrm>
            <a:custGeom>
              <a:avLst/>
              <a:gdLst/>
              <a:ahLst/>
              <a:rect l="l" t="t" r="r" b="b"/>
              <a:pathLst>
                <a:path w="279" h="113">
                  <a:moveTo>
                    <a:pt x="0" y="0"/>
                  </a:moveTo>
                  <a:lnTo>
                    <a:pt x="29" y="38"/>
                  </a:lnTo>
                  <a:lnTo>
                    <a:pt x="60" y="70"/>
                  </a:lnTo>
                  <a:lnTo>
                    <a:pt x="94" y="94"/>
                  </a:lnTo>
                  <a:lnTo>
                    <a:pt x="129" y="108"/>
                  </a:lnTo>
                  <a:lnTo>
                    <a:pt x="147" y="112"/>
                  </a:lnTo>
                  <a:lnTo>
                    <a:pt x="166" y="113"/>
                  </a:lnTo>
                  <a:lnTo>
                    <a:pt x="184" y="112"/>
                  </a:lnTo>
                  <a:lnTo>
                    <a:pt x="203" y="107"/>
                  </a:lnTo>
                  <a:lnTo>
                    <a:pt x="240" y="88"/>
                  </a:lnTo>
                  <a:lnTo>
                    <a:pt x="279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1779120" y="2726640"/>
              <a:ext cx="225000" cy="1451880"/>
            </a:xfrm>
            <a:custGeom>
              <a:avLst/>
              <a:gdLst/>
              <a:ahLst/>
              <a:rect l="l" t="t" r="r" b="b"/>
              <a:pathLst>
                <a:path w="545" h="3253">
                  <a:moveTo>
                    <a:pt x="351" y="1461"/>
                  </a:moveTo>
                  <a:lnTo>
                    <a:pt x="545" y="3233"/>
                  </a:lnTo>
                  <a:lnTo>
                    <a:pt x="458" y="3245"/>
                  </a:lnTo>
                  <a:lnTo>
                    <a:pt x="354" y="3251"/>
                  </a:lnTo>
                  <a:lnTo>
                    <a:pt x="249" y="3253"/>
                  </a:lnTo>
                  <a:lnTo>
                    <a:pt x="154" y="3250"/>
                  </a:lnTo>
                  <a:lnTo>
                    <a:pt x="0" y="0"/>
                  </a:lnTo>
                  <a:lnTo>
                    <a:pt x="88" y="0"/>
                  </a:lnTo>
                  <a:lnTo>
                    <a:pt x="17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1708200" y="2420280"/>
              <a:ext cx="70560" cy="312840"/>
            </a:xfrm>
            <a:custGeom>
              <a:avLst/>
              <a:gdLst/>
              <a:ahLst/>
              <a:rect l="l" t="t" r="r" b="b"/>
              <a:pathLst>
                <a:path w="172" h="700">
                  <a:moveTo>
                    <a:pt x="172" y="687"/>
                  </a:moveTo>
                  <a:lnTo>
                    <a:pt x="148" y="700"/>
                  </a:lnTo>
                  <a:lnTo>
                    <a:pt x="138" y="595"/>
                  </a:lnTo>
                  <a:lnTo>
                    <a:pt x="122" y="499"/>
                  </a:lnTo>
                  <a:lnTo>
                    <a:pt x="102" y="411"/>
                  </a:lnTo>
                  <a:lnTo>
                    <a:pt x="79" y="330"/>
                  </a:lnTo>
                  <a:lnTo>
                    <a:pt x="33" y="171"/>
                  </a:lnTo>
                  <a:lnTo>
                    <a:pt x="14" y="88"/>
                  </a:lnTo>
                  <a:lnTo>
                    <a:pt x="8" y="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1720800" y="2418840"/>
              <a:ext cx="61920" cy="307440"/>
            </a:xfrm>
            <a:custGeom>
              <a:avLst/>
              <a:gdLst/>
              <a:ahLst/>
              <a:rect l="l" t="t" r="r" b="b"/>
              <a:pathLst>
                <a:path w="149" h="689">
                  <a:moveTo>
                    <a:pt x="0" y="0"/>
                  </a:moveTo>
                  <a:lnTo>
                    <a:pt x="14" y="85"/>
                  </a:lnTo>
                  <a:lnTo>
                    <a:pt x="34" y="166"/>
                  </a:lnTo>
                  <a:lnTo>
                    <a:pt x="78" y="322"/>
                  </a:lnTo>
                  <a:lnTo>
                    <a:pt x="121" y="490"/>
                  </a:lnTo>
                  <a:lnTo>
                    <a:pt x="138" y="585"/>
                  </a:lnTo>
                  <a:lnTo>
                    <a:pt x="149" y="6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1761480" y="2415960"/>
              <a:ext cx="75240" cy="312840"/>
            </a:xfrm>
            <a:custGeom>
              <a:avLst/>
              <a:gdLst/>
              <a:ahLst/>
              <a:rect l="l" t="t" r="r" b="b"/>
              <a:pathLst>
                <a:path w="184" h="702">
                  <a:moveTo>
                    <a:pt x="0" y="0"/>
                  </a:moveTo>
                  <a:lnTo>
                    <a:pt x="16" y="69"/>
                  </a:lnTo>
                  <a:lnTo>
                    <a:pt x="40" y="144"/>
                  </a:lnTo>
                  <a:lnTo>
                    <a:pt x="100" y="306"/>
                  </a:lnTo>
                  <a:lnTo>
                    <a:pt x="130" y="395"/>
                  </a:lnTo>
                  <a:lnTo>
                    <a:pt x="156" y="491"/>
                  </a:lnTo>
                  <a:lnTo>
                    <a:pt x="175" y="593"/>
                  </a:lnTo>
                  <a:lnTo>
                    <a:pt x="184" y="7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1772640" y="2644920"/>
              <a:ext cx="40680" cy="226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0" y="0"/>
                  </a:moveTo>
                  <a:lnTo>
                    <a:pt x="89" y="6"/>
                  </a:lnTo>
                  <a:lnTo>
                    <a:pt x="97" y="14"/>
                  </a:lnTo>
                  <a:lnTo>
                    <a:pt x="99" y="30"/>
                  </a:lnTo>
                  <a:lnTo>
                    <a:pt x="96" y="46"/>
                  </a:lnTo>
                  <a:lnTo>
                    <a:pt x="86" y="53"/>
                  </a:lnTo>
                  <a:lnTo>
                    <a:pt x="8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1756440" y="2575440"/>
              <a:ext cx="40680" cy="2376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0" y="0"/>
                  </a:moveTo>
                  <a:lnTo>
                    <a:pt x="86" y="6"/>
                  </a:lnTo>
                  <a:lnTo>
                    <a:pt x="92" y="8"/>
                  </a:lnTo>
                  <a:lnTo>
                    <a:pt x="96" y="13"/>
                  </a:lnTo>
                  <a:lnTo>
                    <a:pt x="99" y="30"/>
                  </a:lnTo>
                  <a:lnTo>
                    <a:pt x="93" y="45"/>
                  </a:lnTo>
                  <a:lnTo>
                    <a:pt x="82" y="52"/>
                  </a:lnTo>
                  <a:lnTo>
                    <a:pt x="14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720800" y="2640960"/>
              <a:ext cx="30960" cy="2412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0" y="0"/>
                  </a:moveTo>
                  <a:lnTo>
                    <a:pt x="65" y="4"/>
                  </a:lnTo>
                  <a:lnTo>
                    <a:pt x="73" y="12"/>
                  </a:lnTo>
                  <a:lnTo>
                    <a:pt x="74" y="28"/>
                  </a:lnTo>
                  <a:lnTo>
                    <a:pt x="71" y="45"/>
                  </a:lnTo>
                  <a:lnTo>
                    <a:pt x="62" y="52"/>
                  </a:lnTo>
                  <a:lnTo>
                    <a:pt x="7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653840" y="2601000"/>
              <a:ext cx="46800" cy="100440"/>
            </a:xfrm>
            <a:custGeom>
              <a:avLst/>
              <a:gdLst/>
              <a:ahLst/>
              <a:rect l="l" t="t" r="r" b="b"/>
              <a:pathLst>
                <a:path w="115" h="227">
                  <a:moveTo>
                    <a:pt x="109" y="211"/>
                  </a:moveTo>
                  <a:lnTo>
                    <a:pt x="90" y="223"/>
                  </a:lnTo>
                  <a:lnTo>
                    <a:pt x="70" y="227"/>
                  </a:lnTo>
                  <a:lnTo>
                    <a:pt x="52" y="223"/>
                  </a:lnTo>
                  <a:lnTo>
                    <a:pt x="35" y="211"/>
                  </a:lnTo>
                  <a:lnTo>
                    <a:pt x="20" y="194"/>
                  </a:lnTo>
                  <a:lnTo>
                    <a:pt x="8" y="171"/>
                  </a:lnTo>
                  <a:lnTo>
                    <a:pt x="2" y="144"/>
                  </a:lnTo>
                  <a:lnTo>
                    <a:pt x="0" y="113"/>
                  </a:lnTo>
                  <a:lnTo>
                    <a:pt x="4" y="80"/>
                  </a:lnTo>
                  <a:lnTo>
                    <a:pt x="12" y="54"/>
                  </a:lnTo>
                  <a:lnTo>
                    <a:pt x="24" y="31"/>
                  </a:lnTo>
                  <a:lnTo>
                    <a:pt x="40" y="14"/>
                  </a:lnTo>
                  <a:lnTo>
                    <a:pt x="58" y="3"/>
                  </a:lnTo>
                  <a:lnTo>
                    <a:pt x="77" y="0"/>
                  </a:lnTo>
                  <a:lnTo>
                    <a:pt x="96" y="5"/>
                  </a:lnTo>
                  <a:lnTo>
                    <a:pt x="11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713240" y="2640960"/>
              <a:ext cx="1080" cy="212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1" y="0"/>
                  </a:moveTo>
                  <a:lnTo>
                    <a:pt x="2" y="24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1629360" y="2461680"/>
              <a:ext cx="57960" cy="102960"/>
            </a:xfrm>
            <a:custGeom>
              <a:avLst/>
              <a:gdLst/>
              <a:ahLst/>
              <a:rect l="l" t="t" r="r" b="b"/>
              <a:pathLst>
                <a:path w="143" h="230">
                  <a:moveTo>
                    <a:pt x="143" y="198"/>
                  </a:moveTo>
                  <a:lnTo>
                    <a:pt x="127" y="217"/>
                  </a:lnTo>
                  <a:lnTo>
                    <a:pt x="108" y="228"/>
                  </a:lnTo>
                  <a:lnTo>
                    <a:pt x="93" y="230"/>
                  </a:lnTo>
                  <a:lnTo>
                    <a:pt x="79" y="228"/>
                  </a:lnTo>
                  <a:lnTo>
                    <a:pt x="65" y="222"/>
                  </a:lnTo>
                  <a:lnTo>
                    <a:pt x="51" y="212"/>
                  </a:lnTo>
                  <a:lnTo>
                    <a:pt x="26" y="180"/>
                  </a:lnTo>
                  <a:lnTo>
                    <a:pt x="8" y="134"/>
                  </a:lnTo>
                  <a:lnTo>
                    <a:pt x="0" y="80"/>
                  </a:lnTo>
                  <a:lnTo>
                    <a:pt x="1" y="58"/>
                  </a:lnTo>
                  <a:lnTo>
                    <a:pt x="7" y="38"/>
                  </a:lnTo>
                  <a:lnTo>
                    <a:pt x="15" y="22"/>
                  </a:lnTo>
                  <a:lnTo>
                    <a:pt x="27" y="10"/>
                  </a:lnTo>
                  <a:lnTo>
                    <a:pt x="42" y="2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1682640" y="2488320"/>
              <a:ext cx="8280" cy="3744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0" y="0"/>
                  </a:moveTo>
                  <a:lnTo>
                    <a:pt x="15" y="42"/>
                  </a:lnTo>
                  <a:lnTo>
                    <a:pt x="21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1688760" y="2504520"/>
              <a:ext cx="29160" cy="2268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0" y="0"/>
                  </a:moveTo>
                  <a:lnTo>
                    <a:pt x="62" y="5"/>
                  </a:lnTo>
                  <a:lnTo>
                    <a:pt x="69" y="12"/>
                  </a:lnTo>
                  <a:lnTo>
                    <a:pt x="72" y="29"/>
                  </a:lnTo>
                  <a:lnTo>
                    <a:pt x="68" y="44"/>
                  </a:lnTo>
                  <a:lnTo>
                    <a:pt x="58" y="52"/>
                  </a:lnTo>
                  <a:lnTo>
                    <a:pt x="15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1728360" y="2460240"/>
              <a:ext cx="34200" cy="2268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0" y="0"/>
                  </a:moveTo>
                  <a:lnTo>
                    <a:pt x="74" y="4"/>
                  </a:lnTo>
                  <a:lnTo>
                    <a:pt x="83" y="13"/>
                  </a:lnTo>
                  <a:lnTo>
                    <a:pt x="85" y="30"/>
                  </a:lnTo>
                  <a:lnTo>
                    <a:pt x="81" y="45"/>
                  </a:lnTo>
                  <a:lnTo>
                    <a:pt x="72" y="51"/>
                  </a:lnTo>
                  <a:lnTo>
                    <a:pt x="11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1787400" y="2464200"/>
              <a:ext cx="612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1738080" y="2507040"/>
              <a:ext cx="34200" cy="24120"/>
            </a:xfrm>
            <a:custGeom>
              <a:avLst/>
              <a:gdLst/>
              <a:ahLst/>
              <a:rect l="l" t="t" r="r" b="b"/>
              <a:pathLst>
                <a:path w="83" h="53">
                  <a:moveTo>
                    <a:pt x="0" y="0"/>
                  </a:moveTo>
                  <a:lnTo>
                    <a:pt x="73" y="6"/>
                  </a:lnTo>
                  <a:lnTo>
                    <a:pt x="82" y="15"/>
                  </a:lnTo>
                  <a:lnTo>
                    <a:pt x="83" y="30"/>
                  </a:lnTo>
                  <a:lnTo>
                    <a:pt x="79" y="46"/>
                  </a:lnTo>
                  <a:lnTo>
                    <a:pt x="70" y="53"/>
                  </a:lnTo>
                  <a:lnTo>
                    <a:pt x="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1814760" y="2467080"/>
              <a:ext cx="12600" cy="2124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2" y="0"/>
                  </a:moveTo>
                  <a:lnTo>
                    <a:pt x="20" y="1"/>
                  </a:lnTo>
                  <a:lnTo>
                    <a:pt x="27" y="10"/>
                  </a:lnTo>
                  <a:lnTo>
                    <a:pt x="30" y="25"/>
                  </a:lnTo>
                  <a:lnTo>
                    <a:pt x="26" y="41"/>
                  </a:lnTo>
                  <a:lnTo>
                    <a:pt x="16" y="48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1829520" y="2425320"/>
              <a:ext cx="41760" cy="108000"/>
            </a:xfrm>
            <a:custGeom>
              <a:avLst/>
              <a:gdLst/>
              <a:ahLst/>
              <a:rect l="l" t="t" r="r" b="b"/>
              <a:pathLst>
                <a:path w="102" h="242">
                  <a:moveTo>
                    <a:pt x="95" y="234"/>
                  </a:moveTo>
                  <a:lnTo>
                    <a:pt x="77" y="242"/>
                  </a:lnTo>
                  <a:lnTo>
                    <a:pt x="59" y="242"/>
                  </a:lnTo>
                  <a:lnTo>
                    <a:pt x="42" y="236"/>
                  </a:lnTo>
                  <a:lnTo>
                    <a:pt x="27" y="223"/>
                  </a:lnTo>
                  <a:lnTo>
                    <a:pt x="15" y="204"/>
                  </a:lnTo>
                  <a:lnTo>
                    <a:pt x="6" y="180"/>
                  </a:lnTo>
                  <a:lnTo>
                    <a:pt x="1" y="151"/>
                  </a:lnTo>
                  <a:lnTo>
                    <a:pt x="0" y="117"/>
                  </a:lnTo>
                  <a:lnTo>
                    <a:pt x="3" y="87"/>
                  </a:lnTo>
                  <a:lnTo>
                    <a:pt x="11" y="60"/>
                  </a:lnTo>
                  <a:lnTo>
                    <a:pt x="21" y="37"/>
                  </a:lnTo>
                  <a:lnTo>
                    <a:pt x="35" y="19"/>
                  </a:lnTo>
                  <a:lnTo>
                    <a:pt x="50" y="7"/>
                  </a:lnTo>
                  <a:lnTo>
                    <a:pt x="66" y="0"/>
                  </a:lnTo>
                  <a:lnTo>
                    <a:pt x="84" y="1"/>
                  </a:lnTo>
                  <a:lnTo>
                    <a:pt x="10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1825920" y="2580840"/>
              <a:ext cx="612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835640" y="2618280"/>
              <a:ext cx="612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845720" y="2560680"/>
              <a:ext cx="61560" cy="90720"/>
            </a:xfrm>
            <a:custGeom>
              <a:avLst/>
              <a:gdLst/>
              <a:ahLst/>
              <a:rect l="l" t="t" r="r" b="b"/>
              <a:pathLst>
                <a:path w="150" h="205">
                  <a:moveTo>
                    <a:pt x="22" y="205"/>
                  </a:moveTo>
                  <a:lnTo>
                    <a:pt x="11" y="202"/>
                  </a:lnTo>
                  <a:lnTo>
                    <a:pt x="4" y="194"/>
                  </a:lnTo>
                  <a:lnTo>
                    <a:pt x="0" y="182"/>
                  </a:lnTo>
                  <a:lnTo>
                    <a:pt x="0" y="167"/>
                  </a:lnTo>
                  <a:lnTo>
                    <a:pt x="14" y="126"/>
                  </a:lnTo>
                  <a:lnTo>
                    <a:pt x="40" y="78"/>
                  </a:lnTo>
                  <a:lnTo>
                    <a:pt x="75" y="35"/>
                  </a:lnTo>
                  <a:lnTo>
                    <a:pt x="107" y="8"/>
                  </a:lnTo>
                  <a:lnTo>
                    <a:pt x="122" y="2"/>
                  </a:lnTo>
                  <a:lnTo>
                    <a:pt x="134" y="0"/>
                  </a:lnTo>
                  <a:lnTo>
                    <a:pt x="143" y="5"/>
                  </a:lnTo>
                  <a:lnTo>
                    <a:pt x="15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840680" y="2581920"/>
              <a:ext cx="15840" cy="2124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8" y="0"/>
                  </a:moveTo>
                  <a:lnTo>
                    <a:pt x="38" y="8"/>
                  </a:lnTo>
                  <a:lnTo>
                    <a:pt x="40" y="24"/>
                  </a:lnTo>
                  <a:lnTo>
                    <a:pt x="35" y="40"/>
                  </a:lnTo>
                  <a:lnTo>
                    <a:pt x="24" y="47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1676520" y="2290320"/>
              <a:ext cx="19440" cy="8424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20" y="1"/>
                  </a:moveTo>
                  <a:lnTo>
                    <a:pt x="27" y="0"/>
                  </a:lnTo>
                  <a:lnTo>
                    <a:pt x="35" y="3"/>
                  </a:lnTo>
                  <a:lnTo>
                    <a:pt x="39" y="9"/>
                  </a:lnTo>
                  <a:lnTo>
                    <a:pt x="48" y="31"/>
                  </a:lnTo>
                  <a:lnTo>
                    <a:pt x="50" y="61"/>
                  </a:lnTo>
                  <a:lnTo>
                    <a:pt x="49" y="96"/>
                  </a:lnTo>
                  <a:lnTo>
                    <a:pt x="45" y="130"/>
                  </a:lnTo>
                  <a:lnTo>
                    <a:pt x="37" y="160"/>
                  </a:lnTo>
                  <a:lnTo>
                    <a:pt x="26" y="180"/>
                  </a:lnTo>
                  <a:lnTo>
                    <a:pt x="13" y="187"/>
                  </a:lnTo>
                  <a:lnTo>
                    <a:pt x="6" y="184"/>
                  </a:lnTo>
                  <a:lnTo>
                    <a:pt x="0" y="1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1681200" y="2290320"/>
              <a:ext cx="28440" cy="85320"/>
            </a:xfrm>
            <a:custGeom>
              <a:avLst/>
              <a:gdLst/>
              <a:ahLst/>
              <a:rect l="l" t="t" r="r" b="b"/>
              <a:pathLst>
                <a:path w="68" h="190">
                  <a:moveTo>
                    <a:pt x="0" y="187"/>
                  </a:moveTo>
                  <a:lnTo>
                    <a:pt x="30" y="190"/>
                  </a:lnTo>
                  <a:lnTo>
                    <a:pt x="43" y="183"/>
                  </a:lnTo>
                  <a:lnTo>
                    <a:pt x="54" y="162"/>
                  </a:lnTo>
                  <a:lnTo>
                    <a:pt x="62" y="132"/>
                  </a:lnTo>
                  <a:lnTo>
                    <a:pt x="67" y="99"/>
                  </a:lnTo>
                  <a:lnTo>
                    <a:pt x="68" y="64"/>
                  </a:lnTo>
                  <a:lnTo>
                    <a:pt x="65" y="33"/>
                  </a:lnTo>
                  <a:lnTo>
                    <a:pt x="57" y="11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1686240" y="2252880"/>
              <a:ext cx="31680" cy="168480"/>
            </a:xfrm>
            <a:custGeom>
              <a:avLst/>
              <a:gdLst/>
              <a:ahLst/>
              <a:rect l="l" t="t" r="r" b="b"/>
              <a:pathLst>
                <a:path w="80" h="379">
                  <a:moveTo>
                    <a:pt x="0" y="275"/>
                  </a:moveTo>
                  <a:lnTo>
                    <a:pt x="7" y="315"/>
                  </a:lnTo>
                  <a:lnTo>
                    <a:pt x="17" y="349"/>
                  </a:lnTo>
                  <a:lnTo>
                    <a:pt x="29" y="371"/>
                  </a:lnTo>
                  <a:lnTo>
                    <a:pt x="36" y="377"/>
                  </a:lnTo>
                  <a:lnTo>
                    <a:pt x="43" y="379"/>
                  </a:lnTo>
                  <a:lnTo>
                    <a:pt x="52" y="374"/>
                  </a:lnTo>
                  <a:lnTo>
                    <a:pt x="61" y="362"/>
                  </a:lnTo>
                  <a:lnTo>
                    <a:pt x="73" y="319"/>
                  </a:lnTo>
                  <a:lnTo>
                    <a:pt x="79" y="259"/>
                  </a:lnTo>
                  <a:lnTo>
                    <a:pt x="80" y="191"/>
                  </a:lnTo>
                  <a:lnTo>
                    <a:pt x="75" y="122"/>
                  </a:lnTo>
                  <a:lnTo>
                    <a:pt x="66" y="61"/>
                  </a:lnTo>
                  <a:lnTo>
                    <a:pt x="51" y="18"/>
                  </a:lnTo>
                  <a:lnTo>
                    <a:pt x="42" y="5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1743120" y="2251440"/>
              <a:ext cx="31680" cy="164160"/>
            </a:xfrm>
            <a:custGeom>
              <a:avLst/>
              <a:gdLst/>
              <a:ahLst/>
              <a:rect l="l" t="t" r="r" b="b"/>
              <a:pathLst>
                <a:path w="76" h="369">
                  <a:moveTo>
                    <a:pt x="76" y="362"/>
                  </a:moveTo>
                  <a:lnTo>
                    <a:pt x="43" y="369"/>
                  </a:lnTo>
                  <a:lnTo>
                    <a:pt x="52" y="279"/>
                  </a:lnTo>
                  <a:lnTo>
                    <a:pt x="49" y="184"/>
                  </a:lnTo>
                  <a:lnTo>
                    <a:pt x="42" y="136"/>
                  </a:lnTo>
                  <a:lnTo>
                    <a:pt x="31" y="89"/>
                  </a:lnTo>
                  <a:lnTo>
                    <a:pt x="18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1797480" y="2301120"/>
              <a:ext cx="10800" cy="66960"/>
            </a:xfrm>
            <a:custGeom>
              <a:avLst/>
              <a:gdLst/>
              <a:ahLst/>
              <a:rect l="l" t="t" r="r" b="b"/>
              <a:pathLst>
                <a:path w="26" h="152">
                  <a:moveTo>
                    <a:pt x="0" y="0"/>
                  </a:moveTo>
                  <a:lnTo>
                    <a:pt x="19" y="78"/>
                  </a:lnTo>
                  <a:lnTo>
                    <a:pt x="26" y="1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1703520" y="2415960"/>
              <a:ext cx="57960" cy="540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9" y="0"/>
                  </a:moveTo>
                  <a:lnTo>
                    <a:pt x="133" y="11"/>
                  </a:lnTo>
                  <a:lnTo>
                    <a:pt x="121" y="13"/>
                  </a:lnTo>
                  <a:lnTo>
                    <a:pt x="65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1780200" y="2644920"/>
              <a:ext cx="5040" cy="2124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3" y="0"/>
                  </a:moveTo>
                  <a:lnTo>
                    <a:pt x="10" y="8"/>
                  </a:lnTo>
                  <a:lnTo>
                    <a:pt x="13" y="24"/>
                  </a:lnTo>
                  <a:lnTo>
                    <a:pt x="9" y="39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1785240" y="2646360"/>
              <a:ext cx="102600" cy="2175840"/>
            </a:xfrm>
            <a:custGeom>
              <a:avLst/>
              <a:gdLst/>
              <a:ahLst/>
              <a:rect l="l" t="t" r="r" b="b"/>
              <a:pathLst>
                <a:path w="249" h="4878">
                  <a:moveTo>
                    <a:pt x="0" y="0"/>
                  </a:moveTo>
                  <a:lnTo>
                    <a:pt x="7" y="5"/>
                  </a:lnTo>
                  <a:lnTo>
                    <a:pt x="9" y="17"/>
                  </a:lnTo>
                  <a:lnTo>
                    <a:pt x="24" y="181"/>
                  </a:lnTo>
                  <a:lnTo>
                    <a:pt x="249" y="4185"/>
                  </a:lnTo>
                  <a:lnTo>
                    <a:pt x="249" y="4223"/>
                  </a:lnTo>
                  <a:lnTo>
                    <a:pt x="180" y="48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1757880" y="2509920"/>
              <a:ext cx="166680" cy="2311200"/>
            </a:xfrm>
            <a:custGeom>
              <a:avLst/>
              <a:gdLst/>
              <a:ahLst/>
              <a:rect l="l" t="t" r="r" b="b"/>
              <a:pathLst>
                <a:path w="406" h="5181">
                  <a:moveTo>
                    <a:pt x="340" y="5181"/>
                  </a:moveTo>
                  <a:lnTo>
                    <a:pt x="406" y="4527"/>
                  </a:lnTo>
                  <a:lnTo>
                    <a:pt x="406" y="4490"/>
                  </a:lnTo>
                  <a:lnTo>
                    <a:pt x="133" y="488"/>
                  </a:lnTo>
                  <a:lnTo>
                    <a:pt x="8" y="11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1749240" y="2508480"/>
              <a:ext cx="4680" cy="2124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4" y="0"/>
                  </a:moveTo>
                  <a:lnTo>
                    <a:pt x="12" y="8"/>
                  </a:lnTo>
                  <a:lnTo>
                    <a:pt x="13" y="24"/>
                  </a:lnTo>
                  <a:lnTo>
                    <a:pt x="10" y="39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1747800" y="2461680"/>
              <a:ext cx="5040" cy="2124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3" y="0"/>
                  </a:moveTo>
                  <a:lnTo>
                    <a:pt x="12" y="9"/>
                  </a:lnTo>
                  <a:lnTo>
                    <a:pt x="13" y="24"/>
                  </a:lnTo>
                  <a:lnTo>
                    <a:pt x="9" y="40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1751760" y="2461680"/>
              <a:ext cx="213480" cy="2355120"/>
            </a:xfrm>
            <a:custGeom>
              <a:avLst/>
              <a:gdLst/>
              <a:ahLst/>
              <a:rect l="l" t="t" r="r" b="b"/>
              <a:pathLst>
                <a:path w="521" h="5279">
                  <a:moveTo>
                    <a:pt x="0" y="0"/>
                  </a:moveTo>
                  <a:lnTo>
                    <a:pt x="6" y="3"/>
                  </a:lnTo>
                  <a:lnTo>
                    <a:pt x="9" y="10"/>
                  </a:lnTo>
                  <a:lnTo>
                    <a:pt x="191" y="595"/>
                  </a:lnTo>
                  <a:lnTo>
                    <a:pt x="521" y="4589"/>
                  </a:lnTo>
                  <a:lnTo>
                    <a:pt x="521" y="4626"/>
                  </a:lnTo>
                  <a:lnTo>
                    <a:pt x="450" y="52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1780200" y="2576520"/>
              <a:ext cx="219960" cy="2234880"/>
            </a:xfrm>
            <a:custGeom>
              <a:avLst/>
              <a:gdLst/>
              <a:ahLst/>
              <a:rect l="l" t="t" r="r" b="b"/>
              <a:pathLst>
                <a:path w="532" h="5008">
                  <a:moveTo>
                    <a:pt x="473" y="5008"/>
                  </a:moveTo>
                  <a:lnTo>
                    <a:pt x="532" y="4360"/>
                  </a:lnTo>
                  <a:lnTo>
                    <a:pt x="532" y="4321"/>
                  </a:lnTo>
                  <a:lnTo>
                    <a:pt x="169" y="342"/>
                  </a:lnTo>
                  <a:lnTo>
                    <a:pt x="1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1772640" y="2576520"/>
              <a:ext cx="6120" cy="2124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3" y="0"/>
                  </a:moveTo>
                  <a:lnTo>
                    <a:pt x="9" y="2"/>
                  </a:lnTo>
                  <a:lnTo>
                    <a:pt x="13" y="8"/>
                  </a:lnTo>
                  <a:lnTo>
                    <a:pt x="15" y="25"/>
                  </a:lnTo>
                  <a:lnTo>
                    <a:pt x="11" y="41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1493280" y="2726640"/>
              <a:ext cx="687600" cy="2645280"/>
            </a:xfrm>
            <a:custGeom>
              <a:avLst/>
              <a:gdLst/>
              <a:ahLst/>
              <a:rect l="l" t="t" r="r" b="b"/>
              <a:pathLst>
                <a:path w="1668" h="5929">
                  <a:moveTo>
                    <a:pt x="815" y="4546"/>
                  </a:moveTo>
                  <a:lnTo>
                    <a:pt x="912" y="4545"/>
                  </a:lnTo>
                  <a:lnTo>
                    <a:pt x="1013" y="4539"/>
                  </a:lnTo>
                  <a:lnTo>
                    <a:pt x="1116" y="4528"/>
                  </a:lnTo>
                  <a:lnTo>
                    <a:pt x="1219" y="4513"/>
                  </a:lnTo>
                  <a:lnTo>
                    <a:pt x="1219" y="4600"/>
                  </a:lnTo>
                  <a:lnTo>
                    <a:pt x="1207" y="4681"/>
                  </a:lnTo>
                  <a:lnTo>
                    <a:pt x="1189" y="4761"/>
                  </a:lnTo>
                  <a:lnTo>
                    <a:pt x="1166" y="4837"/>
                  </a:lnTo>
                  <a:lnTo>
                    <a:pt x="1120" y="4995"/>
                  </a:lnTo>
                  <a:lnTo>
                    <a:pt x="1102" y="5077"/>
                  </a:lnTo>
                  <a:lnTo>
                    <a:pt x="1096" y="5109"/>
                  </a:lnTo>
                  <a:lnTo>
                    <a:pt x="1092" y="5164"/>
                  </a:lnTo>
                  <a:lnTo>
                    <a:pt x="1062" y="5766"/>
                  </a:lnTo>
                  <a:lnTo>
                    <a:pt x="1056" y="5784"/>
                  </a:lnTo>
                  <a:lnTo>
                    <a:pt x="1040" y="5797"/>
                  </a:lnTo>
                  <a:lnTo>
                    <a:pt x="1014" y="5806"/>
                  </a:lnTo>
                  <a:lnTo>
                    <a:pt x="979" y="5808"/>
                  </a:lnTo>
                  <a:lnTo>
                    <a:pt x="943" y="5806"/>
                  </a:lnTo>
                  <a:lnTo>
                    <a:pt x="919" y="5797"/>
                  </a:lnTo>
                  <a:lnTo>
                    <a:pt x="911" y="5790"/>
                  </a:lnTo>
                  <a:lnTo>
                    <a:pt x="905" y="5782"/>
                  </a:lnTo>
                  <a:lnTo>
                    <a:pt x="901" y="5759"/>
                  </a:lnTo>
                  <a:lnTo>
                    <a:pt x="898" y="5789"/>
                  </a:lnTo>
                  <a:lnTo>
                    <a:pt x="892" y="5814"/>
                  </a:lnTo>
                  <a:lnTo>
                    <a:pt x="881" y="5835"/>
                  </a:lnTo>
                  <a:lnTo>
                    <a:pt x="866" y="5850"/>
                  </a:lnTo>
                  <a:lnTo>
                    <a:pt x="886" y="5854"/>
                  </a:lnTo>
                  <a:lnTo>
                    <a:pt x="898" y="5865"/>
                  </a:lnTo>
                  <a:lnTo>
                    <a:pt x="907" y="5875"/>
                  </a:lnTo>
                  <a:lnTo>
                    <a:pt x="920" y="5879"/>
                  </a:lnTo>
                  <a:lnTo>
                    <a:pt x="932" y="5874"/>
                  </a:lnTo>
                  <a:lnTo>
                    <a:pt x="942" y="5863"/>
                  </a:lnTo>
                  <a:lnTo>
                    <a:pt x="953" y="5853"/>
                  </a:lnTo>
                  <a:lnTo>
                    <a:pt x="972" y="5848"/>
                  </a:lnTo>
                  <a:lnTo>
                    <a:pt x="994" y="5848"/>
                  </a:lnTo>
                  <a:lnTo>
                    <a:pt x="994" y="5865"/>
                  </a:lnTo>
                  <a:lnTo>
                    <a:pt x="992" y="5886"/>
                  </a:lnTo>
                  <a:lnTo>
                    <a:pt x="985" y="5902"/>
                  </a:lnTo>
                  <a:lnTo>
                    <a:pt x="972" y="5910"/>
                  </a:lnTo>
                  <a:lnTo>
                    <a:pt x="953" y="5913"/>
                  </a:lnTo>
                  <a:lnTo>
                    <a:pt x="856" y="5914"/>
                  </a:lnTo>
                  <a:lnTo>
                    <a:pt x="836" y="5911"/>
                  </a:lnTo>
                  <a:lnTo>
                    <a:pt x="823" y="5904"/>
                  </a:lnTo>
                  <a:lnTo>
                    <a:pt x="816" y="5890"/>
                  </a:lnTo>
                  <a:lnTo>
                    <a:pt x="814" y="5868"/>
                  </a:lnTo>
                  <a:lnTo>
                    <a:pt x="748" y="5872"/>
                  </a:lnTo>
                  <a:lnTo>
                    <a:pt x="740" y="5907"/>
                  </a:lnTo>
                  <a:lnTo>
                    <a:pt x="731" y="5916"/>
                  </a:lnTo>
                  <a:lnTo>
                    <a:pt x="712" y="5923"/>
                  </a:lnTo>
                  <a:lnTo>
                    <a:pt x="653" y="5929"/>
                  </a:lnTo>
                  <a:lnTo>
                    <a:pt x="623" y="5927"/>
                  </a:lnTo>
                  <a:lnTo>
                    <a:pt x="595" y="5922"/>
                  </a:lnTo>
                  <a:lnTo>
                    <a:pt x="576" y="5915"/>
                  </a:lnTo>
                  <a:lnTo>
                    <a:pt x="568" y="5904"/>
                  </a:lnTo>
                  <a:lnTo>
                    <a:pt x="562" y="5868"/>
                  </a:lnTo>
                  <a:lnTo>
                    <a:pt x="471" y="5859"/>
                  </a:lnTo>
                  <a:lnTo>
                    <a:pt x="379" y="5843"/>
                  </a:lnTo>
                  <a:lnTo>
                    <a:pt x="355" y="5872"/>
                  </a:lnTo>
                  <a:lnTo>
                    <a:pt x="347" y="5877"/>
                  </a:lnTo>
                  <a:lnTo>
                    <a:pt x="334" y="5878"/>
                  </a:lnTo>
                  <a:lnTo>
                    <a:pt x="301" y="5873"/>
                  </a:lnTo>
                  <a:lnTo>
                    <a:pt x="270" y="5862"/>
                  </a:lnTo>
                  <a:lnTo>
                    <a:pt x="259" y="5855"/>
                  </a:lnTo>
                  <a:lnTo>
                    <a:pt x="255" y="5847"/>
                  </a:lnTo>
                  <a:lnTo>
                    <a:pt x="246" y="5812"/>
                  </a:lnTo>
                  <a:lnTo>
                    <a:pt x="149" y="5778"/>
                  </a:lnTo>
                  <a:lnTo>
                    <a:pt x="55" y="5737"/>
                  </a:lnTo>
                  <a:lnTo>
                    <a:pt x="25" y="5717"/>
                  </a:lnTo>
                  <a:lnTo>
                    <a:pt x="7" y="5692"/>
                  </a:lnTo>
                  <a:lnTo>
                    <a:pt x="1" y="5673"/>
                  </a:lnTo>
                  <a:lnTo>
                    <a:pt x="0" y="5652"/>
                  </a:lnTo>
                  <a:lnTo>
                    <a:pt x="5" y="5632"/>
                  </a:lnTo>
                  <a:lnTo>
                    <a:pt x="15" y="5613"/>
                  </a:lnTo>
                  <a:lnTo>
                    <a:pt x="42" y="5571"/>
                  </a:lnTo>
                  <a:lnTo>
                    <a:pt x="76" y="5527"/>
                  </a:lnTo>
                  <a:lnTo>
                    <a:pt x="115" y="5485"/>
                  </a:lnTo>
                  <a:lnTo>
                    <a:pt x="157" y="5443"/>
                  </a:lnTo>
                  <a:lnTo>
                    <a:pt x="255" y="5364"/>
                  </a:lnTo>
                  <a:lnTo>
                    <a:pt x="307" y="5328"/>
                  </a:lnTo>
                  <a:lnTo>
                    <a:pt x="363" y="5296"/>
                  </a:lnTo>
                  <a:lnTo>
                    <a:pt x="419" y="5266"/>
                  </a:lnTo>
                  <a:lnTo>
                    <a:pt x="478" y="5241"/>
                  </a:lnTo>
                  <a:lnTo>
                    <a:pt x="535" y="5219"/>
                  </a:lnTo>
                  <a:lnTo>
                    <a:pt x="594" y="5205"/>
                  </a:lnTo>
                  <a:lnTo>
                    <a:pt x="653" y="5195"/>
                  </a:lnTo>
                  <a:lnTo>
                    <a:pt x="709" y="5193"/>
                  </a:lnTo>
                  <a:lnTo>
                    <a:pt x="764" y="5196"/>
                  </a:lnTo>
                  <a:lnTo>
                    <a:pt x="818" y="5208"/>
                  </a:lnTo>
                  <a:lnTo>
                    <a:pt x="860" y="5227"/>
                  </a:lnTo>
                  <a:lnTo>
                    <a:pt x="877" y="5242"/>
                  </a:lnTo>
                  <a:lnTo>
                    <a:pt x="892" y="5257"/>
                  </a:lnTo>
                  <a:lnTo>
                    <a:pt x="902" y="5277"/>
                  </a:lnTo>
                  <a:lnTo>
                    <a:pt x="911" y="5297"/>
                  </a:lnTo>
                  <a:lnTo>
                    <a:pt x="916" y="5345"/>
                  </a:lnTo>
                  <a:lnTo>
                    <a:pt x="920" y="5200"/>
                  </a:lnTo>
                  <a:lnTo>
                    <a:pt x="919" y="5105"/>
                  </a:lnTo>
                  <a:lnTo>
                    <a:pt x="908" y="5022"/>
                  </a:lnTo>
                  <a:lnTo>
                    <a:pt x="892" y="4949"/>
                  </a:lnTo>
                  <a:lnTo>
                    <a:pt x="871" y="4879"/>
                  </a:lnTo>
                  <a:lnTo>
                    <a:pt x="851" y="4809"/>
                  </a:lnTo>
                  <a:lnTo>
                    <a:pt x="833" y="4733"/>
                  </a:lnTo>
                  <a:lnTo>
                    <a:pt x="820" y="4647"/>
                  </a:lnTo>
                  <a:lnTo>
                    <a:pt x="815" y="4546"/>
                  </a:lnTo>
                  <a:lnTo>
                    <a:pt x="883" y="4696"/>
                  </a:lnTo>
                  <a:lnTo>
                    <a:pt x="872" y="4698"/>
                  </a:lnTo>
                  <a:lnTo>
                    <a:pt x="865" y="4705"/>
                  </a:lnTo>
                  <a:lnTo>
                    <a:pt x="863" y="4715"/>
                  </a:lnTo>
                  <a:lnTo>
                    <a:pt x="865" y="4726"/>
                  </a:lnTo>
                  <a:lnTo>
                    <a:pt x="874" y="4734"/>
                  </a:lnTo>
                  <a:lnTo>
                    <a:pt x="883" y="4737"/>
                  </a:lnTo>
                  <a:lnTo>
                    <a:pt x="893" y="4734"/>
                  </a:lnTo>
                  <a:lnTo>
                    <a:pt x="900" y="4726"/>
                  </a:lnTo>
                  <a:lnTo>
                    <a:pt x="902" y="4715"/>
                  </a:lnTo>
                  <a:lnTo>
                    <a:pt x="900" y="4705"/>
                  </a:lnTo>
                  <a:lnTo>
                    <a:pt x="894" y="4698"/>
                  </a:lnTo>
                  <a:lnTo>
                    <a:pt x="883" y="4696"/>
                  </a:lnTo>
                  <a:lnTo>
                    <a:pt x="815" y="4546"/>
                  </a:lnTo>
                  <a:lnTo>
                    <a:pt x="978" y="4693"/>
                  </a:lnTo>
                  <a:lnTo>
                    <a:pt x="967" y="4696"/>
                  </a:lnTo>
                  <a:lnTo>
                    <a:pt x="961" y="4703"/>
                  </a:lnTo>
                  <a:lnTo>
                    <a:pt x="958" y="4713"/>
                  </a:lnTo>
                  <a:lnTo>
                    <a:pt x="961" y="4723"/>
                  </a:lnTo>
                  <a:lnTo>
                    <a:pt x="968" y="4732"/>
                  </a:lnTo>
                  <a:lnTo>
                    <a:pt x="978" y="4734"/>
                  </a:lnTo>
                  <a:lnTo>
                    <a:pt x="988" y="4732"/>
                  </a:lnTo>
                  <a:lnTo>
                    <a:pt x="996" y="4723"/>
                  </a:lnTo>
                  <a:lnTo>
                    <a:pt x="998" y="4713"/>
                  </a:lnTo>
                  <a:lnTo>
                    <a:pt x="996" y="4703"/>
                  </a:lnTo>
                  <a:lnTo>
                    <a:pt x="989" y="4696"/>
                  </a:lnTo>
                  <a:lnTo>
                    <a:pt x="978" y="4693"/>
                  </a:lnTo>
                  <a:lnTo>
                    <a:pt x="815" y="4546"/>
                  </a:lnTo>
                  <a:lnTo>
                    <a:pt x="1073" y="4685"/>
                  </a:lnTo>
                  <a:lnTo>
                    <a:pt x="1062" y="4687"/>
                  </a:lnTo>
                  <a:lnTo>
                    <a:pt x="1056" y="4695"/>
                  </a:lnTo>
                  <a:lnTo>
                    <a:pt x="1052" y="4704"/>
                  </a:lnTo>
                  <a:lnTo>
                    <a:pt x="1056" y="4715"/>
                  </a:lnTo>
                  <a:lnTo>
                    <a:pt x="1063" y="4722"/>
                  </a:lnTo>
                  <a:lnTo>
                    <a:pt x="1073" y="4725"/>
                  </a:lnTo>
                  <a:lnTo>
                    <a:pt x="1082" y="4722"/>
                  </a:lnTo>
                  <a:lnTo>
                    <a:pt x="1090" y="4715"/>
                  </a:lnTo>
                  <a:lnTo>
                    <a:pt x="1092" y="4704"/>
                  </a:lnTo>
                  <a:lnTo>
                    <a:pt x="1090" y="4695"/>
                  </a:lnTo>
                  <a:lnTo>
                    <a:pt x="1084" y="4687"/>
                  </a:lnTo>
                  <a:lnTo>
                    <a:pt x="1073" y="4685"/>
                  </a:lnTo>
                  <a:lnTo>
                    <a:pt x="815" y="4546"/>
                  </a:lnTo>
                  <a:lnTo>
                    <a:pt x="1165" y="4672"/>
                  </a:lnTo>
                  <a:lnTo>
                    <a:pt x="1156" y="4674"/>
                  </a:lnTo>
                  <a:lnTo>
                    <a:pt x="1148" y="4681"/>
                  </a:lnTo>
                  <a:lnTo>
                    <a:pt x="1146" y="4691"/>
                  </a:lnTo>
                  <a:lnTo>
                    <a:pt x="1148" y="4702"/>
                  </a:lnTo>
                  <a:lnTo>
                    <a:pt x="1156" y="4710"/>
                  </a:lnTo>
                  <a:lnTo>
                    <a:pt x="1166" y="4713"/>
                  </a:lnTo>
                  <a:lnTo>
                    <a:pt x="1176" y="4710"/>
                  </a:lnTo>
                  <a:lnTo>
                    <a:pt x="1183" y="4702"/>
                  </a:lnTo>
                  <a:lnTo>
                    <a:pt x="1186" y="4691"/>
                  </a:lnTo>
                  <a:lnTo>
                    <a:pt x="1183" y="4681"/>
                  </a:lnTo>
                  <a:lnTo>
                    <a:pt x="1176" y="4674"/>
                  </a:lnTo>
                  <a:lnTo>
                    <a:pt x="1165" y="4672"/>
                  </a:lnTo>
                  <a:lnTo>
                    <a:pt x="815" y="4546"/>
                  </a:lnTo>
                  <a:close/>
                  <a:moveTo>
                    <a:pt x="106" y="4219"/>
                  </a:moveTo>
                  <a:lnTo>
                    <a:pt x="102" y="4195"/>
                  </a:lnTo>
                  <a:lnTo>
                    <a:pt x="108" y="4173"/>
                  </a:lnTo>
                  <a:lnTo>
                    <a:pt x="121" y="4153"/>
                  </a:lnTo>
                  <a:lnTo>
                    <a:pt x="142" y="4140"/>
                  </a:lnTo>
                  <a:lnTo>
                    <a:pt x="166" y="4135"/>
                  </a:lnTo>
                  <a:lnTo>
                    <a:pt x="189" y="4139"/>
                  </a:lnTo>
                  <a:lnTo>
                    <a:pt x="209" y="4151"/>
                  </a:lnTo>
                  <a:lnTo>
                    <a:pt x="223" y="4171"/>
                  </a:lnTo>
                  <a:lnTo>
                    <a:pt x="229" y="4194"/>
                  </a:lnTo>
                  <a:lnTo>
                    <a:pt x="227" y="4218"/>
                  </a:lnTo>
                  <a:lnTo>
                    <a:pt x="216" y="4239"/>
                  </a:lnTo>
                  <a:lnTo>
                    <a:pt x="197" y="4254"/>
                  </a:lnTo>
                  <a:lnTo>
                    <a:pt x="226" y="4271"/>
                  </a:lnTo>
                  <a:lnTo>
                    <a:pt x="241" y="4276"/>
                  </a:lnTo>
                  <a:lnTo>
                    <a:pt x="257" y="4277"/>
                  </a:lnTo>
                  <a:lnTo>
                    <a:pt x="289" y="4270"/>
                  </a:lnTo>
                  <a:lnTo>
                    <a:pt x="305" y="4260"/>
                  </a:lnTo>
                  <a:lnTo>
                    <a:pt x="322" y="4247"/>
                  </a:lnTo>
                  <a:lnTo>
                    <a:pt x="353" y="4207"/>
                  </a:lnTo>
                  <a:lnTo>
                    <a:pt x="382" y="4150"/>
                  </a:lnTo>
                  <a:lnTo>
                    <a:pt x="408" y="4072"/>
                  </a:lnTo>
                  <a:lnTo>
                    <a:pt x="429" y="3971"/>
                  </a:lnTo>
                  <a:lnTo>
                    <a:pt x="427" y="3959"/>
                  </a:lnTo>
                  <a:lnTo>
                    <a:pt x="423" y="3947"/>
                  </a:lnTo>
                  <a:lnTo>
                    <a:pt x="402" y="3929"/>
                  </a:lnTo>
                  <a:lnTo>
                    <a:pt x="426" y="3922"/>
                  </a:lnTo>
                  <a:lnTo>
                    <a:pt x="435" y="3915"/>
                  </a:lnTo>
                  <a:lnTo>
                    <a:pt x="438" y="3903"/>
                  </a:lnTo>
                  <a:lnTo>
                    <a:pt x="459" y="3713"/>
                  </a:lnTo>
                  <a:lnTo>
                    <a:pt x="468" y="3627"/>
                  </a:lnTo>
                  <a:lnTo>
                    <a:pt x="473" y="3595"/>
                  </a:lnTo>
                  <a:lnTo>
                    <a:pt x="481" y="3550"/>
                  </a:lnTo>
                  <a:lnTo>
                    <a:pt x="502" y="3484"/>
                  </a:lnTo>
                  <a:lnTo>
                    <a:pt x="514" y="3456"/>
                  </a:lnTo>
                  <a:lnTo>
                    <a:pt x="529" y="3433"/>
                  </a:lnTo>
                  <a:lnTo>
                    <a:pt x="546" y="3413"/>
                  </a:lnTo>
                  <a:lnTo>
                    <a:pt x="566" y="3397"/>
                  </a:lnTo>
                  <a:lnTo>
                    <a:pt x="590" y="3387"/>
                  </a:lnTo>
                  <a:lnTo>
                    <a:pt x="618" y="3381"/>
                  </a:lnTo>
                  <a:lnTo>
                    <a:pt x="653" y="3384"/>
                  </a:lnTo>
                  <a:lnTo>
                    <a:pt x="683" y="3401"/>
                  </a:lnTo>
                  <a:lnTo>
                    <a:pt x="694" y="3413"/>
                  </a:lnTo>
                  <a:lnTo>
                    <a:pt x="702" y="3427"/>
                  </a:lnTo>
                  <a:lnTo>
                    <a:pt x="707" y="3444"/>
                  </a:lnTo>
                  <a:lnTo>
                    <a:pt x="707" y="3463"/>
                  </a:lnTo>
                  <a:lnTo>
                    <a:pt x="701" y="3489"/>
                  </a:lnTo>
                  <a:lnTo>
                    <a:pt x="684" y="3508"/>
                  </a:lnTo>
                  <a:lnTo>
                    <a:pt x="660" y="3517"/>
                  </a:lnTo>
                  <a:lnTo>
                    <a:pt x="647" y="3517"/>
                  </a:lnTo>
                  <a:lnTo>
                    <a:pt x="634" y="3515"/>
                  </a:lnTo>
                  <a:lnTo>
                    <a:pt x="611" y="3501"/>
                  </a:lnTo>
                  <a:lnTo>
                    <a:pt x="599" y="3478"/>
                  </a:lnTo>
                  <a:lnTo>
                    <a:pt x="598" y="3453"/>
                  </a:lnTo>
                  <a:lnTo>
                    <a:pt x="607" y="3429"/>
                  </a:lnTo>
                  <a:lnTo>
                    <a:pt x="593" y="3436"/>
                  </a:lnTo>
                  <a:lnTo>
                    <a:pt x="581" y="3445"/>
                  </a:lnTo>
                  <a:lnTo>
                    <a:pt x="559" y="3478"/>
                  </a:lnTo>
                  <a:lnTo>
                    <a:pt x="544" y="3522"/>
                  </a:lnTo>
                  <a:lnTo>
                    <a:pt x="533" y="3580"/>
                  </a:lnTo>
                  <a:lnTo>
                    <a:pt x="516" y="3729"/>
                  </a:lnTo>
                  <a:lnTo>
                    <a:pt x="501" y="3913"/>
                  </a:lnTo>
                  <a:lnTo>
                    <a:pt x="502" y="3924"/>
                  </a:lnTo>
                  <a:lnTo>
                    <a:pt x="507" y="3934"/>
                  </a:lnTo>
                  <a:lnTo>
                    <a:pt x="529" y="3949"/>
                  </a:lnTo>
                  <a:lnTo>
                    <a:pt x="515" y="3952"/>
                  </a:lnTo>
                  <a:lnTo>
                    <a:pt x="504" y="3959"/>
                  </a:lnTo>
                  <a:lnTo>
                    <a:pt x="497" y="3969"/>
                  </a:lnTo>
                  <a:lnTo>
                    <a:pt x="493" y="3982"/>
                  </a:lnTo>
                  <a:lnTo>
                    <a:pt x="479" y="4066"/>
                  </a:lnTo>
                  <a:lnTo>
                    <a:pt x="456" y="4145"/>
                  </a:lnTo>
                  <a:lnTo>
                    <a:pt x="423" y="4217"/>
                  </a:lnTo>
                  <a:lnTo>
                    <a:pt x="402" y="4248"/>
                  </a:lnTo>
                  <a:lnTo>
                    <a:pt x="378" y="4276"/>
                  </a:lnTo>
                  <a:lnTo>
                    <a:pt x="348" y="4297"/>
                  </a:lnTo>
                  <a:lnTo>
                    <a:pt x="312" y="4313"/>
                  </a:lnTo>
                  <a:lnTo>
                    <a:pt x="273" y="4319"/>
                  </a:lnTo>
                  <a:lnTo>
                    <a:pt x="232" y="4318"/>
                  </a:lnTo>
                  <a:lnTo>
                    <a:pt x="192" y="4307"/>
                  </a:lnTo>
                  <a:lnTo>
                    <a:pt x="156" y="4288"/>
                  </a:lnTo>
                  <a:lnTo>
                    <a:pt x="126" y="4259"/>
                  </a:lnTo>
                  <a:lnTo>
                    <a:pt x="106" y="4219"/>
                  </a:lnTo>
                  <a:close/>
                  <a:moveTo>
                    <a:pt x="1458" y="4177"/>
                  </a:moveTo>
                  <a:lnTo>
                    <a:pt x="1427" y="4133"/>
                  </a:lnTo>
                  <a:lnTo>
                    <a:pt x="1398" y="4073"/>
                  </a:lnTo>
                  <a:lnTo>
                    <a:pt x="1373" y="4002"/>
                  </a:lnTo>
                  <a:lnTo>
                    <a:pt x="1352" y="3922"/>
                  </a:lnTo>
                  <a:lnTo>
                    <a:pt x="1348" y="3905"/>
                  </a:lnTo>
                  <a:lnTo>
                    <a:pt x="1338" y="3893"/>
                  </a:lnTo>
                  <a:lnTo>
                    <a:pt x="1326" y="3885"/>
                  </a:lnTo>
                  <a:lnTo>
                    <a:pt x="1308" y="3881"/>
                  </a:lnTo>
                  <a:lnTo>
                    <a:pt x="1322" y="3874"/>
                  </a:lnTo>
                  <a:lnTo>
                    <a:pt x="1333" y="3862"/>
                  </a:lnTo>
                  <a:lnTo>
                    <a:pt x="1338" y="3846"/>
                  </a:lnTo>
                  <a:lnTo>
                    <a:pt x="1339" y="3829"/>
                  </a:lnTo>
                  <a:lnTo>
                    <a:pt x="1333" y="3691"/>
                  </a:lnTo>
                  <a:lnTo>
                    <a:pt x="1328" y="3619"/>
                  </a:lnTo>
                  <a:lnTo>
                    <a:pt x="1320" y="3551"/>
                  </a:lnTo>
                  <a:lnTo>
                    <a:pt x="1306" y="3489"/>
                  </a:lnTo>
                  <a:lnTo>
                    <a:pt x="1295" y="3462"/>
                  </a:lnTo>
                  <a:lnTo>
                    <a:pt x="1282" y="3439"/>
                  </a:lnTo>
                  <a:lnTo>
                    <a:pt x="1266" y="3420"/>
                  </a:lnTo>
                  <a:lnTo>
                    <a:pt x="1248" y="3407"/>
                  </a:lnTo>
                  <a:lnTo>
                    <a:pt x="1225" y="3397"/>
                  </a:lnTo>
                  <a:lnTo>
                    <a:pt x="1200" y="3394"/>
                  </a:lnTo>
                  <a:lnTo>
                    <a:pt x="1214" y="3406"/>
                  </a:lnTo>
                  <a:lnTo>
                    <a:pt x="1223" y="3421"/>
                  </a:lnTo>
                  <a:lnTo>
                    <a:pt x="1225" y="3439"/>
                  </a:lnTo>
                  <a:lnTo>
                    <a:pt x="1222" y="3459"/>
                  </a:lnTo>
                  <a:lnTo>
                    <a:pt x="1212" y="3474"/>
                  </a:lnTo>
                  <a:lnTo>
                    <a:pt x="1198" y="3485"/>
                  </a:lnTo>
                  <a:lnTo>
                    <a:pt x="1181" y="3491"/>
                  </a:lnTo>
                  <a:lnTo>
                    <a:pt x="1162" y="3490"/>
                  </a:lnTo>
                  <a:lnTo>
                    <a:pt x="1145" y="3483"/>
                  </a:lnTo>
                  <a:lnTo>
                    <a:pt x="1132" y="3471"/>
                  </a:lnTo>
                  <a:lnTo>
                    <a:pt x="1123" y="3455"/>
                  </a:lnTo>
                  <a:lnTo>
                    <a:pt x="1121" y="3437"/>
                  </a:lnTo>
                  <a:lnTo>
                    <a:pt x="1123" y="3419"/>
                  </a:lnTo>
                  <a:lnTo>
                    <a:pt x="1128" y="3403"/>
                  </a:lnTo>
                  <a:lnTo>
                    <a:pt x="1145" y="3379"/>
                  </a:lnTo>
                  <a:lnTo>
                    <a:pt x="1170" y="3363"/>
                  </a:lnTo>
                  <a:lnTo>
                    <a:pt x="1199" y="3354"/>
                  </a:lnTo>
                  <a:lnTo>
                    <a:pt x="1230" y="3355"/>
                  </a:lnTo>
                  <a:lnTo>
                    <a:pt x="1260" y="3365"/>
                  </a:lnTo>
                  <a:lnTo>
                    <a:pt x="1288" y="3384"/>
                  </a:lnTo>
                  <a:lnTo>
                    <a:pt x="1310" y="3412"/>
                  </a:lnTo>
                  <a:lnTo>
                    <a:pt x="1333" y="3455"/>
                  </a:lnTo>
                  <a:lnTo>
                    <a:pt x="1349" y="3498"/>
                  </a:lnTo>
                  <a:lnTo>
                    <a:pt x="1362" y="3543"/>
                  </a:lnTo>
                  <a:lnTo>
                    <a:pt x="1370" y="3589"/>
                  </a:lnTo>
                  <a:lnTo>
                    <a:pt x="1403" y="3823"/>
                  </a:lnTo>
                  <a:lnTo>
                    <a:pt x="1408" y="3835"/>
                  </a:lnTo>
                  <a:lnTo>
                    <a:pt x="1416" y="3844"/>
                  </a:lnTo>
                  <a:lnTo>
                    <a:pt x="1442" y="3853"/>
                  </a:lnTo>
                  <a:lnTo>
                    <a:pt x="1430" y="3863"/>
                  </a:lnTo>
                  <a:lnTo>
                    <a:pt x="1422" y="3876"/>
                  </a:lnTo>
                  <a:lnTo>
                    <a:pt x="1418" y="3892"/>
                  </a:lnTo>
                  <a:lnTo>
                    <a:pt x="1420" y="3910"/>
                  </a:lnTo>
                  <a:lnTo>
                    <a:pt x="1438" y="3997"/>
                  </a:lnTo>
                  <a:lnTo>
                    <a:pt x="1458" y="4066"/>
                  </a:lnTo>
                  <a:lnTo>
                    <a:pt x="1481" y="4117"/>
                  </a:lnTo>
                  <a:lnTo>
                    <a:pt x="1506" y="4153"/>
                  </a:lnTo>
                  <a:lnTo>
                    <a:pt x="1530" y="4174"/>
                  </a:lnTo>
                  <a:lnTo>
                    <a:pt x="1553" y="4181"/>
                  </a:lnTo>
                  <a:lnTo>
                    <a:pt x="1576" y="4177"/>
                  </a:lnTo>
                  <a:lnTo>
                    <a:pt x="1595" y="4163"/>
                  </a:lnTo>
                  <a:lnTo>
                    <a:pt x="1578" y="4158"/>
                  </a:lnTo>
                  <a:lnTo>
                    <a:pt x="1565" y="4151"/>
                  </a:lnTo>
                  <a:lnTo>
                    <a:pt x="1554" y="4140"/>
                  </a:lnTo>
                  <a:lnTo>
                    <a:pt x="1547" y="4127"/>
                  </a:lnTo>
                  <a:lnTo>
                    <a:pt x="1543" y="4113"/>
                  </a:lnTo>
                  <a:lnTo>
                    <a:pt x="1543" y="4097"/>
                  </a:lnTo>
                  <a:lnTo>
                    <a:pt x="1547" y="4083"/>
                  </a:lnTo>
                  <a:lnTo>
                    <a:pt x="1554" y="4068"/>
                  </a:lnTo>
                  <a:lnTo>
                    <a:pt x="1565" y="4056"/>
                  </a:lnTo>
                  <a:lnTo>
                    <a:pt x="1578" y="4048"/>
                  </a:lnTo>
                  <a:lnTo>
                    <a:pt x="1592" y="4044"/>
                  </a:lnTo>
                  <a:lnTo>
                    <a:pt x="1608" y="4044"/>
                  </a:lnTo>
                  <a:lnTo>
                    <a:pt x="1636" y="4054"/>
                  </a:lnTo>
                  <a:lnTo>
                    <a:pt x="1648" y="4065"/>
                  </a:lnTo>
                  <a:lnTo>
                    <a:pt x="1656" y="4078"/>
                  </a:lnTo>
                  <a:lnTo>
                    <a:pt x="1664" y="4101"/>
                  </a:lnTo>
                  <a:lnTo>
                    <a:pt x="1668" y="4122"/>
                  </a:lnTo>
                  <a:lnTo>
                    <a:pt x="1668" y="4143"/>
                  </a:lnTo>
                  <a:lnTo>
                    <a:pt x="1663" y="4162"/>
                  </a:lnTo>
                  <a:lnTo>
                    <a:pt x="1644" y="4193"/>
                  </a:lnTo>
                  <a:lnTo>
                    <a:pt x="1615" y="4217"/>
                  </a:lnTo>
                  <a:lnTo>
                    <a:pt x="1597" y="4224"/>
                  </a:lnTo>
                  <a:lnTo>
                    <a:pt x="1578" y="4229"/>
                  </a:lnTo>
                  <a:lnTo>
                    <a:pt x="1559" y="4230"/>
                  </a:lnTo>
                  <a:lnTo>
                    <a:pt x="1538" y="4228"/>
                  </a:lnTo>
                  <a:lnTo>
                    <a:pt x="1517" y="4222"/>
                  </a:lnTo>
                  <a:lnTo>
                    <a:pt x="1496" y="4211"/>
                  </a:lnTo>
                  <a:lnTo>
                    <a:pt x="1477" y="4197"/>
                  </a:lnTo>
                  <a:lnTo>
                    <a:pt x="1458" y="4177"/>
                  </a:lnTo>
                  <a:close/>
                  <a:moveTo>
                    <a:pt x="846" y="3250"/>
                  </a:moveTo>
                  <a:lnTo>
                    <a:pt x="691" y="0"/>
                  </a:lnTo>
                  <a:lnTo>
                    <a:pt x="779" y="0"/>
                  </a:lnTo>
                  <a:lnTo>
                    <a:pt x="864" y="6"/>
                  </a:lnTo>
                  <a:lnTo>
                    <a:pt x="884" y="10"/>
                  </a:lnTo>
                  <a:lnTo>
                    <a:pt x="1236" y="3233"/>
                  </a:lnTo>
                  <a:lnTo>
                    <a:pt x="1148" y="3245"/>
                  </a:lnTo>
                  <a:lnTo>
                    <a:pt x="1045" y="3251"/>
                  </a:lnTo>
                  <a:lnTo>
                    <a:pt x="941" y="3253"/>
                  </a:lnTo>
                  <a:lnTo>
                    <a:pt x="846" y="3250"/>
                  </a:lnTo>
                  <a:close/>
                </a:path>
              </a:pathLst>
            </a:custGeom>
            <a:solidFill>
              <a:srgbClr val="7f5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1493280" y="4740480"/>
              <a:ext cx="503280" cy="631440"/>
            </a:xfrm>
            <a:custGeom>
              <a:avLst/>
              <a:gdLst/>
              <a:ahLst/>
              <a:rect l="l" t="t" r="r" b="b"/>
              <a:pathLst>
                <a:path w="1219" h="1416">
                  <a:moveTo>
                    <a:pt x="815" y="33"/>
                  </a:moveTo>
                  <a:lnTo>
                    <a:pt x="912" y="32"/>
                  </a:lnTo>
                  <a:lnTo>
                    <a:pt x="1013" y="26"/>
                  </a:lnTo>
                  <a:lnTo>
                    <a:pt x="1116" y="15"/>
                  </a:lnTo>
                  <a:lnTo>
                    <a:pt x="1219" y="0"/>
                  </a:lnTo>
                  <a:lnTo>
                    <a:pt x="1219" y="87"/>
                  </a:lnTo>
                  <a:lnTo>
                    <a:pt x="1207" y="168"/>
                  </a:lnTo>
                  <a:lnTo>
                    <a:pt x="1189" y="248"/>
                  </a:lnTo>
                  <a:lnTo>
                    <a:pt x="1166" y="324"/>
                  </a:lnTo>
                  <a:lnTo>
                    <a:pt x="1120" y="482"/>
                  </a:lnTo>
                  <a:lnTo>
                    <a:pt x="1102" y="564"/>
                  </a:lnTo>
                  <a:lnTo>
                    <a:pt x="1096" y="596"/>
                  </a:lnTo>
                  <a:lnTo>
                    <a:pt x="1092" y="651"/>
                  </a:lnTo>
                  <a:lnTo>
                    <a:pt x="1062" y="1253"/>
                  </a:lnTo>
                  <a:lnTo>
                    <a:pt x="1056" y="1271"/>
                  </a:lnTo>
                  <a:lnTo>
                    <a:pt x="1040" y="1284"/>
                  </a:lnTo>
                  <a:lnTo>
                    <a:pt x="1014" y="1293"/>
                  </a:lnTo>
                  <a:lnTo>
                    <a:pt x="979" y="1295"/>
                  </a:lnTo>
                  <a:lnTo>
                    <a:pt x="943" y="1293"/>
                  </a:lnTo>
                  <a:lnTo>
                    <a:pt x="919" y="1284"/>
                  </a:lnTo>
                  <a:lnTo>
                    <a:pt x="911" y="1277"/>
                  </a:lnTo>
                  <a:lnTo>
                    <a:pt x="905" y="1269"/>
                  </a:lnTo>
                  <a:lnTo>
                    <a:pt x="901" y="1246"/>
                  </a:lnTo>
                  <a:lnTo>
                    <a:pt x="898" y="1276"/>
                  </a:lnTo>
                  <a:lnTo>
                    <a:pt x="892" y="1301"/>
                  </a:lnTo>
                  <a:lnTo>
                    <a:pt x="881" y="1322"/>
                  </a:lnTo>
                  <a:lnTo>
                    <a:pt x="866" y="1337"/>
                  </a:lnTo>
                  <a:lnTo>
                    <a:pt x="886" y="1341"/>
                  </a:lnTo>
                  <a:lnTo>
                    <a:pt x="898" y="1352"/>
                  </a:lnTo>
                  <a:lnTo>
                    <a:pt x="907" y="1362"/>
                  </a:lnTo>
                  <a:lnTo>
                    <a:pt x="920" y="1366"/>
                  </a:lnTo>
                  <a:lnTo>
                    <a:pt x="932" y="1361"/>
                  </a:lnTo>
                  <a:lnTo>
                    <a:pt x="942" y="1350"/>
                  </a:lnTo>
                  <a:lnTo>
                    <a:pt x="953" y="1340"/>
                  </a:lnTo>
                  <a:lnTo>
                    <a:pt x="972" y="1335"/>
                  </a:lnTo>
                  <a:lnTo>
                    <a:pt x="994" y="1335"/>
                  </a:lnTo>
                  <a:lnTo>
                    <a:pt x="994" y="1352"/>
                  </a:lnTo>
                  <a:lnTo>
                    <a:pt x="992" y="1373"/>
                  </a:lnTo>
                  <a:lnTo>
                    <a:pt x="985" y="1389"/>
                  </a:lnTo>
                  <a:lnTo>
                    <a:pt x="972" y="1397"/>
                  </a:lnTo>
                  <a:lnTo>
                    <a:pt x="953" y="1400"/>
                  </a:lnTo>
                  <a:lnTo>
                    <a:pt x="856" y="1401"/>
                  </a:lnTo>
                  <a:lnTo>
                    <a:pt x="836" y="1398"/>
                  </a:lnTo>
                  <a:lnTo>
                    <a:pt x="823" y="1391"/>
                  </a:lnTo>
                  <a:lnTo>
                    <a:pt x="816" y="1377"/>
                  </a:lnTo>
                  <a:lnTo>
                    <a:pt x="814" y="1355"/>
                  </a:lnTo>
                  <a:lnTo>
                    <a:pt x="748" y="1359"/>
                  </a:lnTo>
                  <a:lnTo>
                    <a:pt x="740" y="1394"/>
                  </a:lnTo>
                  <a:lnTo>
                    <a:pt x="731" y="1403"/>
                  </a:lnTo>
                  <a:lnTo>
                    <a:pt x="712" y="1410"/>
                  </a:lnTo>
                  <a:lnTo>
                    <a:pt x="653" y="1416"/>
                  </a:lnTo>
                  <a:lnTo>
                    <a:pt x="623" y="1414"/>
                  </a:lnTo>
                  <a:lnTo>
                    <a:pt x="595" y="1409"/>
                  </a:lnTo>
                  <a:lnTo>
                    <a:pt x="576" y="1402"/>
                  </a:lnTo>
                  <a:lnTo>
                    <a:pt x="568" y="1391"/>
                  </a:lnTo>
                  <a:lnTo>
                    <a:pt x="562" y="1355"/>
                  </a:lnTo>
                  <a:lnTo>
                    <a:pt x="471" y="1346"/>
                  </a:lnTo>
                  <a:lnTo>
                    <a:pt x="379" y="1330"/>
                  </a:lnTo>
                  <a:lnTo>
                    <a:pt x="355" y="1359"/>
                  </a:lnTo>
                  <a:lnTo>
                    <a:pt x="347" y="1364"/>
                  </a:lnTo>
                  <a:lnTo>
                    <a:pt x="334" y="1365"/>
                  </a:lnTo>
                  <a:lnTo>
                    <a:pt x="301" y="1360"/>
                  </a:lnTo>
                  <a:lnTo>
                    <a:pt x="270" y="1349"/>
                  </a:lnTo>
                  <a:lnTo>
                    <a:pt x="259" y="1342"/>
                  </a:lnTo>
                  <a:lnTo>
                    <a:pt x="255" y="1334"/>
                  </a:lnTo>
                  <a:lnTo>
                    <a:pt x="246" y="1299"/>
                  </a:lnTo>
                  <a:lnTo>
                    <a:pt x="149" y="1265"/>
                  </a:lnTo>
                  <a:lnTo>
                    <a:pt x="55" y="1224"/>
                  </a:lnTo>
                  <a:lnTo>
                    <a:pt x="25" y="1204"/>
                  </a:lnTo>
                  <a:lnTo>
                    <a:pt x="7" y="1179"/>
                  </a:lnTo>
                  <a:lnTo>
                    <a:pt x="1" y="1160"/>
                  </a:lnTo>
                  <a:lnTo>
                    <a:pt x="0" y="1139"/>
                  </a:lnTo>
                  <a:lnTo>
                    <a:pt x="5" y="1119"/>
                  </a:lnTo>
                  <a:lnTo>
                    <a:pt x="15" y="1100"/>
                  </a:lnTo>
                  <a:lnTo>
                    <a:pt x="42" y="1058"/>
                  </a:lnTo>
                  <a:lnTo>
                    <a:pt x="76" y="1014"/>
                  </a:lnTo>
                  <a:lnTo>
                    <a:pt x="115" y="972"/>
                  </a:lnTo>
                  <a:lnTo>
                    <a:pt x="157" y="930"/>
                  </a:lnTo>
                  <a:lnTo>
                    <a:pt x="255" y="851"/>
                  </a:lnTo>
                  <a:lnTo>
                    <a:pt x="307" y="815"/>
                  </a:lnTo>
                  <a:lnTo>
                    <a:pt x="363" y="783"/>
                  </a:lnTo>
                  <a:lnTo>
                    <a:pt x="419" y="753"/>
                  </a:lnTo>
                  <a:lnTo>
                    <a:pt x="478" y="728"/>
                  </a:lnTo>
                  <a:lnTo>
                    <a:pt x="535" y="706"/>
                  </a:lnTo>
                  <a:lnTo>
                    <a:pt x="594" y="692"/>
                  </a:lnTo>
                  <a:lnTo>
                    <a:pt x="653" y="682"/>
                  </a:lnTo>
                  <a:lnTo>
                    <a:pt x="709" y="680"/>
                  </a:lnTo>
                  <a:lnTo>
                    <a:pt x="764" y="683"/>
                  </a:lnTo>
                  <a:lnTo>
                    <a:pt x="818" y="695"/>
                  </a:lnTo>
                  <a:lnTo>
                    <a:pt x="860" y="714"/>
                  </a:lnTo>
                  <a:lnTo>
                    <a:pt x="877" y="729"/>
                  </a:lnTo>
                  <a:lnTo>
                    <a:pt x="892" y="744"/>
                  </a:lnTo>
                  <a:lnTo>
                    <a:pt x="902" y="764"/>
                  </a:lnTo>
                  <a:lnTo>
                    <a:pt x="911" y="784"/>
                  </a:lnTo>
                  <a:lnTo>
                    <a:pt x="916" y="832"/>
                  </a:lnTo>
                  <a:lnTo>
                    <a:pt x="920" y="687"/>
                  </a:lnTo>
                  <a:lnTo>
                    <a:pt x="919" y="592"/>
                  </a:lnTo>
                  <a:lnTo>
                    <a:pt x="908" y="509"/>
                  </a:lnTo>
                  <a:lnTo>
                    <a:pt x="892" y="436"/>
                  </a:lnTo>
                  <a:lnTo>
                    <a:pt x="871" y="366"/>
                  </a:lnTo>
                  <a:lnTo>
                    <a:pt x="851" y="296"/>
                  </a:lnTo>
                  <a:lnTo>
                    <a:pt x="833" y="220"/>
                  </a:lnTo>
                  <a:lnTo>
                    <a:pt x="820" y="134"/>
                  </a:lnTo>
                  <a:lnTo>
                    <a:pt x="815" y="3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1849320" y="4822200"/>
              <a:ext cx="15840" cy="1728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0" y="0"/>
                  </a:moveTo>
                  <a:lnTo>
                    <a:pt x="9" y="2"/>
                  </a:lnTo>
                  <a:lnTo>
                    <a:pt x="2" y="9"/>
                  </a:lnTo>
                  <a:lnTo>
                    <a:pt x="0" y="19"/>
                  </a:lnTo>
                  <a:lnTo>
                    <a:pt x="2" y="30"/>
                  </a:lnTo>
                  <a:lnTo>
                    <a:pt x="11" y="38"/>
                  </a:lnTo>
                  <a:lnTo>
                    <a:pt x="20" y="41"/>
                  </a:lnTo>
                  <a:lnTo>
                    <a:pt x="30" y="38"/>
                  </a:lnTo>
                  <a:lnTo>
                    <a:pt x="37" y="30"/>
                  </a:lnTo>
                  <a:lnTo>
                    <a:pt x="39" y="19"/>
                  </a:lnTo>
                  <a:lnTo>
                    <a:pt x="37" y="9"/>
                  </a:lnTo>
                  <a:lnTo>
                    <a:pt x="31" y="2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1888920" y="4821120"/>
              <a:ext cx="15840" cy="172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0"/>
                  </a:moveTo>
                  <a:lnTo>
                    <a:pt x="9" y="3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3" y="30"/>
                  </a:lnTo>
                  <a:lnTo>
                    <a:pt x="10" y="39"/>
                  </a:lnTo>
                  <a:lnTo>
                    <a:pt x="20" y="41"/>
                  </a:lnTo>
                  <a:lnTo>
                    <a:pt x="30" y="39"/>
                  </a:lnTo>
                  <a:lnTo>
                    <a:pt x="38" y="30"/>
                  </a:lnTo>
                  <a:lnTo>
                    <a:pt x="40" y="20"/>
                  </a:lnTo>
                  <a:lnTo>
                    <a:pt x="38" y="10"/>
                  </a:lnTo>
                  <a:lnTo>
                    <a:pt x="31" y="3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1927440" y="4816800"/>
              <a:ext cx="15840" cy="172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1" y="0"/>
                  </a:moveTo>
                  <a:lnTo>
                    <a:pt x="10" y="2"/>
                  </a:lnTo>
                  <a:lnTo>
                    <a:pt x="4" y="10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11" y="37"/>
                  </a:lnTo>
                  <a:lnTo>
                    <a:pt x="21" y="40"/>
                  </a:lnTo>
                  <a:lnTo>
                    <a:pt x="30" y="37"/>
                  </a:lnTo>
                  <a:lnTo>
                    <a:pt x="38" y="30"/>
                  </a:lnTo>
                  <a:lnTo>
                    <a:pt x="40" y="19"/>
                  </a:lnTo>
                  <a:lnTo>
                    <a:pt x="38" y="10"/>
                  </a:lnTo>
                  <a:lnTo>
                    <a:pt x="3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1965600" y="4811760"/>
              <a:ext cx="17280" cy="172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19" y="0"/>
                  </a:moveTo>
                  <a:lnTo>
                    <a:pt x="10" y="2"/>
                  </a:lnTo>
                  <a:lnTo>
                    <a:pt x="2" y="9"/>
                  </a:lnTo>
                  <a:lnTo>
                    <a:pt x="0" y="19"/>
                  </a:lnTo>
                  <a:lnTo>
                    <a:pt x="2" y="30"/>
                  </a:lnTo>
                  <a:lnTo>
                    <a:pt x="10" y="38"/>
                  </a:lnTo>
                  <a:lnTo>
                    <a:pt x="20" y="41"/>
                  </a:lnTo>
                  <a:lnTo>
                    <a:pt x="30" y="38"/>
                  </a:lnTo>
                  <a:lnTo>
                    <a:pt x="37" y="30"/>
                  </a:lnTo>
                  <a:lnTo>
                    <a:pt x="40" y="19"/>
                  </a:lnTo>
                  <a:lnTo>
                    <a:pt x="37" y="9"/>
                  </a:lnTo>
                  <a:lnTo>
                    <a:pt x="30" y="2"/>
                  </a:lnTo>
                  <a:lnTo>
                    <a:pt x="1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1535400" y="4234680"/>
              <a:ext cx="249840" cy="418680"/>
            </a:xfrm>
            <a:custGeom>
              <a:avLst/>
              <a:gdLst/>
              <a:ahLst/>
              <a:rect l="l" t="t" r="r" b="b"/>
              <a:pathLst>
                <a:path w="605" h="938">
                  <a:moveTo>
                    <a:pt x="4" y="838"/>
                  </a:moveTo>
                  <a:lnTo>
                    <a:pt x="0" y="814"/>
                  </a:lnTo>
                  <a:lnTo>
                    <a:pt x="6" y="792"/>
                  </a:lnTo>
                  <a:lnTo>
                    <a:pt x="19" y="772"/>
                  </a:lnTo>
                  <a:lnTo>
                    <a:pt x="40" y="759"/>
                  </a:lnTo>
                  <a:lnTo>
                    <a:pt x="64" y="754"/>
                  </a:lnTo>
                  <a:lnTo>
                    <a:pt x="87" y="758"/>
                  </a:lnTo>
                  <a:lnTo>
                    <a:pt x="107" y="770"/>
                  </a:lnTo>
                  <a:lnTo>
                    <a:pt x="121" y="790"/>
                  </a:lnTo>
                  <a:lnTo>
                    <a:pt x="127" y="813"/>
                  </a:lnTo>
                  <a:lnTo>
                    <a:pt x="125" y="837"/>
                  </a:lnTo>
                  <a:lnTo>
                    <a:pt x="114" y="858"/>
                  </a:lnTo>
                  <a:lnTo>
                    <a:pt x="95" y="873"/>
                  </a:lnTo>
                  <a:lnTo>
                    <a:pt x="124" y="890"/>
                  </a:lnTo>
                  <a:lnTo>
                    <a:pt x="139" y="895"/>
                  </a:lnTo>
                  <a:lnTo>
                    <a:pt x="155" y="896"/>
                  </a:lnTo>
                  <a:lnTo>
                    <a:pt x="187" y="889"/>
                  </a:lnTo>
                  <a:lnTo>
                    <a:pt x="203" y="879"/>
                  </a:lnTo>
                  <a:lnTo>
                    <a:pt x="220" y="866"/>
                  </a:lnTo>
                  <a:lnTo>
                    <a:pt x="251" y="826"/>
                  </a:lnTo>
                  <a:lnTo>
                    <a:pt x="280" y="769"/>
                  </a:lnTo>
                  <a:lnTo>
                    <a:pt x="306" y="691"/>
                  </a:lnTo>
                  <a:lnTo>
                    <a:pt x="327" y="590"/>
                  </a:lnTo>
                  <a:lnTo>
                    <a:pt x="325" y="578"/>
                  </a:lnTo>
                  <a:lnTo>
                    <a:pt x="321" y="566"/>
                  </a:lnTo>
                  <a:lnTo>
                    <a:pt x="300" y="548"/>
                  </a:lnTo>
                  <a:lnTo>
                    <a:pt x="324" y="541"/>
                  </a:lnTo>
                  <a:lnTo>
                    <a:pt x="333" y="534"/>
                  </a:lnTo>
                  <a:lnTo>
                    <a:pt x="336" y="522"/>
                  </a:lnTo>
                  <a:lnTo>
                    <a:pt x="357" y="332"/>
                  </a:lnTo>
                  <a:lnTo>
                    <a:pt x="366" y="246"/>
                  </a:lnTo>
                  <a:lnTo>
                    <a:pt x="371" y="214"/>
                  </a:lnTo>
                  <a:lnTo>
                    <a:pt x="379" y="169"/>
                  </a:lnTo>
                  <a:lnTo>
                    <a:pt x="400" y="103"/>
                  </a:lnTo>
                  <a:lnTo>
                    <a:pt x="412" y="75"/>
                  </a:lnTo>
                  <a:lnTo>
                    <a:pt x="427" y="52"/>
                  </a:lnTo>
                  <a:lnTo>
                    <a:pt x="444" y="32"/>
                  </a:lnTo>
                  <a:lnTo>
                    <a:pt x="464" y="16"/>
                  </a:lnTo>
                  <a:lnTo>
                    <a:pt x="488" y="6"/>
                  </a:lnTo>
                  <a:lnTo>
                    <a:pt x="516" y="0"/>
                  </a:lnTo>
                  <a:lnTo>
                    <a:pt x="551" y="3"/>
                  </a:lnTo>
                  <a:lnTo>
                    <a:pt x="581" y="20"/>
                  </a:lnTo>
                  <a:lnTo>
                    <a:pt x="592" y="32"/>
                  </a:lnTo>
                  <a:lnTo>
                    <a:pt x="600" y="46"/>
                  </a:lnTo>
                  <a:lnTo>
                    <a:pt x="605" y="63"/>
                  </a:lnTo>
                  <a:lnTo>
                    <a:pt x="605" y="82"/>
                  </a:lnTo>
                  <a:lnTo>
                    <a:pt x="599" y="108"/>
                  </a:lnTo>
                  <a:lnTo>
                    <a:pt x="582" y="127"/>
                  </a:lnTo>
                  <a:lnTo>
                    <a:pt x="558" y="136"/>
                  </a:lnTo>
                  <a:lnTo>
                    <a:pt x="545" y="136"/>
                  </a:lnTo>
                  <a:lnTo>
                    <a:pt x="532" y="134"/>
                  </a:lnTo>
                  <a:lnTo>
                    <a:pt x="509" y="120"/>
                  </a:lnTo>
                  <a:lnTo>
                    <a:pt x="497" y="97"/>
                  </a:lnTo>
                  <a:lnTo>
                    <a:pt x="496" y="72"/>
                  </a:lnTo>
                  <a:lnTo>
                    <a:pt x="505" y="48"/>
                  </a:lnTo>
                  <a:lnTo>
                    <a:pt x="491" y="55"/>
                  </a:lnTo>
                  <a:lnTo>
                    <a:pt x="479" y="64"/>
                  </a:lnTo>
                  <a:lnTo>
                    <a:pt x="457" y="97"/>
                  </a:lnTo>
                  <a:lnTo>
                    <a:pt x="442" y="141"/>
                  </a:lnTo>
                  <a:lnTo>
                    <a:pt x="431" y="199"/>
                  </a:lnTo>
                  <a:lnTo>
                    <a:pt x="414" y="348"/>
                  </a:lnTo>
                  <a:lnTo>
                    <a:pt x="399" y="532"/>
                  </a:lnTo>
                  <a:lnTo>
                    <a:pt x="400" y="543"/>
                  </a:lnTo>
                  <a:lnTo>
                    <a:pt x="405" y="553"/>
                  </a:lnTo>
                  <a:lnTo>
                    <a:pt x="427" y="568"/>
                  </a:lnTo>
                  <a:lnTo>
                    <a:pt x="413" y="571"/>
                  </a:lnTo>
                  <a:lnTo>
                    <a:pt x="402" y="578"/>
                  </a:lnTo>
                  <a:lnTo>
                    <a:pt x="395" y="588"/>
                  </a:lnTo>
                  <a:lnTo>
                    <a:pt x="391" y="601"/>
                  </a:lnTo>
                  <a:lnTo>
                    <a:pt x="377" y="685"/>
                  </a:lnTo>
                  <a:lnTo>
                    <a:pt x="354" y="764"/>
                  </a:lnTo>
                  <a:lnTo>
                    <a:pt x="321" y="836"/>
                  </a:lnTo>
                  <a:lnTo>
                    <a:pt x="300" y="867"/>
                  </a:lnTo>
                  <a:lnTo>
                    <a:pt x="276" y="895"/>
                  </a:lnTo>
                  <a:lnTo>
                    <a:pt x="246" y="916"/>
                  </a:lnTo>
                  <a:lnTo>
                    <a:pt x="210" y="932"/>
                  </a:lnTo>
                  <a:lnTo>
                    <a:pt x="171" y="938"/>
                  </a:lnTo>
                  <a:lnTo>
                    <a:pt x="130" y="937"/>
                  </a:lnTo>
                  <a:lnTo>
                    <a:pt x="90" y="926"/>
                  </a:lnTo>
                  <a:lnTo>
                    <a:pt x="54" y="907"/>
                  </a:lnTo>
                  <a:lnTo>
                    <a:pt x="24" y="878"/>
                  </a:lnTo>
                  <a:lnTo>
                    <a:pt x="4" y="83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1955880" y="4222800"/>
              <a:ext cx="225000" cy="390600"/>
            </a:xfrm>
            <a:custGeom>
              <a:avLst/>
              <a:gdLst/>
              <a:ahLst/>
              <a:rect l="l" t="t" r="r" b="b"/>
              <a:pathLst>
                <a:path w="547" h="876">
                  <a:moveTo>
                    <a:pt x="337" y="823"/>
                  </a:moveTo>
                  <a:lnTo>
                    <a:pt x="306" y="779"/>
                  </a:lnTo>
                  <a:lnTo>
                    <a:pt x="277" y="719"/>
                  </a:lnTo>
                  <a:lnTo>
                    <a:pt x="252" y="648"/>
                  </a:lnTo>
                  <a:lnTo>
                    <a:pt x="231" y="568"/>
                  </a:lnTo>
                  <a:lnTo>
                    <a:pt x="227" y="551"/>
                  </a:lnTo>
                  <a:lnTo>
                    <a:pt x="217" y="539"/>
                  </a:lnTo>
                  <a:lnTo>
                    <a:pt x="205" y="531"/>
                  </a:lnTo>
                  <a:lnTo>
                    <a:pt x="187" y="527"/>
                  </a:lnTo>
                  <a:lnTo>
                    <a:pt x="201" y="520"/>
                  </a:lnTo>
                  <a:lnTo>
                    <a:pt x="212" y="508"/>
                  </a:lnTo>
                  <a:lnTo>
                    <a:pt x="217" y="492"/>
                  </a:lnTo>
                  <a:lnTo>
                    <a:pt x="218" y="475"/>
                  </a:lnTo>
                  <a:lnTo>
                    <a:pt x="212" y="337"/>
                  </a:lnTo>
                  <a:lnTo>
                    <a:pt x="207" y="265"/>
                  </a:lnTo>
                  <a:lnTo>
                    <a:pt x="199" y="197"/>
                  </a:lnTo>
                  <a:lnTo>
                    <a:pt x="185" y="135"/>
                  </a:lnTo>
                  <a:lnTo>
                    <a:pt x="174" y="108"/>
                  </a:lnTo>
                  <a:lnTo>
                    <a:pt x="161" y="85"/>
                  </a:lnTo>
                  <a:lnTo>
                    <a:pt x="145" y="66"/>
                  </a:lnTo>
                  <a:lnTo>
                    <a:pt x="127" y="53"/>
                  </a:lnTo>
                  <a:lnTo>
                    <a:pt x="104" y="43"/>
                  </a:lnTo>
                  <a:lnTo>
                    <a:pt x="79" y="40"/>
                  </a:lnTo>
                  <a:lnTo>
                    <a:pt x="93" y="52"/>
                  </a:lnTo>
                  <a:lnTo>
                    <a:pt x="102" y="67"/>
                  </a:lnTo>
                  <a:lnTo>
                    <a:pt x="104" y="85"/>
                  </a:lnTo>
                  <a:lnTo>
                    <a:pt x="101" y="105"/>
                  </a:lnTo>
                  <a:lnTo>
                    <a:pt x="91" y="120"/>
                  </a:lnTo>
                  <a:lnTo>
                    <a:pt x="77" y="131"/>
                  </a:lnTo>
                  <a:lnTo>
                    <a:pt x="60" y="137"/>
                  </a:lnTo>
                  <a:lnTo>
                    <a:pt x="41" y="136"/>
                  </a:lnTo>
                  <a:lnTo>
                    <a:pt x="24" y="129"/>
                  </a:lnTo>
                  <a:lnTo>
                    <a:pt x="11" y="117"/>
                  </a:lnTo>
                  <a:lnTo>
                    <a:pt x="2" y="101"/>
                  </a:lnTo>
                  <a:lnTo>
                    <a:pt x="0" y="83"/>
                  </a:lnTo>
                  <a:lnTo>
                    <a:pt x="2" y="65"/>
                  </a:lnTo>
                  <a:lnTo>
                    <a:pt x="7" y="49"/>
                  </a:lnTo>
                  <a:lnTo>
                    <a:pt x="24" y="25"/>
                  </a:lnTo>
                  <a:lnTo>
                    <a:pt x="49" y="9"/>
                  </a:lnTo>
                  <a:lnTo>
                    <a:pt x="78" y="0"/>
                  </a:lnTo>
                  <a:lnTo>
                    <a:pt x="109" y="1"/>
                  </a:lnTo>
                  <a:lnTo>
                    <a:pt x="139" y="11"/>
                  </a:lnTo>
                  <a:lnTo>
                    <a:pt x="167" y="30"/>
                  </a:lnTo>
                  <a:lnTo>
                    <a:pt x="189" y="58"/>
                  </a:lnTo>
                  <a:lnTo>
                    <a:pt x="212" y="101"/>
                  </a:lnTo>
                  <a:lnTo>
                    <a:pt x="228" y="144"/>
                  </a:lnTo>
                  <a:lnTo>
                    <a:pt x="241" y="189"/>
                  </a:lnTo>
                  <a:lnTo>
                    <a:pt x="249" y="235"/>
                  </a:lnTo>
                  <a:lnTo>
                    <a:pt x="282" y="469"/>
                  </a:lnTo>
                  <a:lnTo>
                    <a:pt x="287" y="481"/>
                  </a:lnTo>
                  <a:lnTo>
                    <a:pt x="295" y="490"/>
                  </a:lnTo>
                  <a:lnTo>
                    <a:pt x="321" y="499"/>
                  </a:lnTo>
                  <a:lnTo>
                    <a:pt x="309" y="509"/>
                  </a:lnTo>
                  <a:lnTo>
                    <a:pt x="301" y="522"/>
                  </a:lnTo>
                  <a:lnTo>
                    <a:pt x="297" y="538"/>
                  </a:lnTo>
                  <a:lnTo>
                    <a:pt x="299" y="556"/>
                  </a:lnTo>
                  <a:lnTo>
                    <a:pt x="317" y="643"/>
                  </a:lnTo>
                  <a:lnTo>
                    <a:pt x="337" y="712"/>
                  </a:lnTo>
                  <a:lnTo>
                    <a:pt x="360" y="763"/>
                  </a:lnTo>
                  <a:lnTo>
                    <a:pt x="385" y="799"/>
                  </a:lnTo>
                  <a:lnTo>
                    <a:pt x="409" y="820"/>
                  </a:lnTo>
                  <a:lnTo>
                    <a:pt x="432" y="827"/>
                  </a:lnTo>
                  <a:lnTo>
                    <a:pt x="455" y="823"/>
                  </a:lnTo>
                  <a:lnTo>
                    <a:pt x="474" y="809"/>
                  </a:lnTo>
                  <a:lnTo>
                    <a:pt x="457" y="804"/>
                  </a:lnTo>
                  <a:lnTo>
                    <a:pt x="444" y="797"/>
                  </a:lnTo>
                  <a:lnTo>
                    <a:pt x="433" y="786"/>
                  </a:lnTo>
                  <a:lnTo>
                    <a:pt x="426" y="773"/>
                  </a:lnTo>
                  <a:lnTo>
                    <a:pt x="422" y="759"/>
                  </a:lnTo>
                  <a:lnTo>
                    <a:pt x="422" y="743"/>
                  </a:lnTo>
                  <a:lnTo>
                    <a:pt x="426" y="729"/>
                  </a:lnTo>
                  <a:lnTo>
                    <a:pt x="433" y="714"/>
                  </a:lnTo>
                  <a:lnTo>
                    <a:pt x="444" y="702"/>
                  </a:lnTo>
                  <a:lnTo>
                    <a:pt x="457" y="694"/>
                  </a:lnTo>
                  <a:lnTo>
                    <a:pt x="471" y="690"/>
                  </a:lnTo>
                  <a:lnTo>
                    <a:pt x="487" y="690"/>
                  </a:lnTo>
                  <a:lnTo>
                    <a:pt x="515" y="700"/>
                  </a:lnTo>
                  <a:lnTo>
                    <a:pt x="527" y="711"/>
                  </a:lnTo>
                  <a:lnTo>
                    <a:pt x="535" y="724"/>
                  </a:lnTo>
                  <a:lnTo>
                    <a:pt x="543" y="747"/>
                  </a:lnTo>
                  <a:lnTo>
                    <a:pt x="547" y="768"/>
                  </a:lnTo>
                  <a:lnTo>
                    <a:pt x="547" y="789"/>
                  </a:lnTo>
                  <a:lnTo>
                    <a:pt x="542" y="808"/>
                  </a:lnTo>
                  <a:lnTo>
                    <a:pt x="523" y="839"/>
                  </a:lnTo>
                  <a:lnTo>
                    <a:pt x="494" y="863"/>
                  </a:lnTo>
                  <a:lnTo>
                    <a:pt x="476" y="870"/>
                  </a:lnTo>
                  <a:lnTo>
                    <a:pt x="457" y="875"/>
                  </a:lnTo>
                  <a:lnTo>
                    <a:pt x="438" y="876"/>
                  </a:lnTo>
                  <a:lnTo>
                    <a:pt x="417" y="874"/>
                  </a:lnTo>
                  <a:lnTo>
                    <a:pt x="396" y="868"/>
                  </a:lnTo>
                  <a:lnTo>
                    <a:pt x="375" y="857"/>
                  </a:lnTo>
                  <a:lnTo>
                    <a:pt x="356" y="843"/>
                  </a:lnTo>
                  <a:lnTo>
                    <a:pt x="337" y="82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1779120" y="2726640"/>
              <a:ext cx="223560" cy="1451880"/>
            </a:xfrm>
            <a:custGeom>
              <a:avLst/>
              <a:gdLst/>
              <a:ahLst/>
              <a:rect l="l" t="t" r="r" b="b"/>
              <a:pathLst>
                <a:path w="545" h="3253">
                  <a:moveTo>
                    <a:pt x="155" y="3250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173" y="6"/>
                  </a:lnTo>
                  <a:lnTo>
                    <a:pt x="193" y="10"/>
                  </a:lnTo>
                  <a:lnTo>
                    <a:pt x="545" y="3233"/>
                  </a:lnTo>
                  <a:lnTo>
                    <a:pt x="457" y="3245"/>
                  </a:lnTo>
                  <a:lnTo>
                    <a:pt x="354" y="3251"/>
                  </a:lnTo>
                  <a:lnTo>
                    <a:pt x="250" y="3253"/>
                  </a:lnTo>
                  <a:lnTo>
                    <a:pt x="155" y="325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1829520" y="5335920"/>
              <a:ext cx="20880" cy="792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52" y="0"/>
                  </a:moveTo>
                  <a:lnTo>
                    <a:pt x="30" y="12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1725840" y="5344200"/>
              <a:ext cx="76320" cy="2520"/>
            </a:xfrm>
            <a:custGeom>
              <a:avLst/>
              <a:gdLst/>
              <a:ahLst/>
              <a:rect l="l" t="t" r="r" b="b"/>
              <a:pathLst>
                <a:path w="186" h="4">
                  <a:moveTo>
                    <a:pt x="186" y="4"/>
                  </a:moveTo>
                  <a:lnTo>
                    <a:pt x="9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 flipH="1" flipV="1">
              <a:off x="1594080" y="5319720"/>
              <a:ext cx="55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 flipV="1">
              <a:off x="1865520" y="5111640"/>
              <a:ext cx="612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1849320" y="4772880"/>
              <a:ext cx="128160" cy="19800"/>
            </a:xfrm>
            <a:custGeom>
              <a:avLst/>
              <a:gdLst/>
              <a:ahLst/>
              <a:rect l="l" t="t" r="r" b="b"/>
              <a:pathLst>
                <a:path w="312" h="44">
                  <a:moveTo>
                    <a:pt x="0" y="44"/>
                  </a:moveTo>
                  <a:lnTo>
                    <a:pt x="0" y="25"/>
                  </a:lnTo>
                  <a:lnTo>
                    <a:pt x="154" y="18"/>
                  </a:lnTo>
                  <a:lnTo>
                    <a:pt x="311" y="0"/>
                  </a:lnTo>
                  <a:lnTo>
                    <a:pt x="312" y="19"/>
                  </a:lnTo>
                  <a:lnTo>
                    <a:pt x="155" y="37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H="1">
              <a:off x="1859040" y="4754160"/>
              <a:ext cx="612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1897560" y="4752360"/>
              <a:ext cx="612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H="1">
              <a:off x="1936800" y="4747320"/>
              <a:ext cx="6120" cy="6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V="1">
              <a:off x="1975680" y="4743000"/>
              <a:ext cx="468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1793520" y="2726640"/>
              <a:ext cx="75240" cy="145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 flipH="1" flipV="1">
              <a:off x="1812600" y="2726280"/>
              <a:ext cx="91440" cy="145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1829520" y="2728080"/>
              <a:ext cx="111240" cy="144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flipH="1" flipV="1">
              <a:off x="1975320" y="4226400"/>
              <a:ext cx="468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H="1" flipV="1">
              <a:off x="1848960" y="2728800"/>
              <a:ext cx="122040" cy="144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776600" y="4463640"/>
              <a:ext cx="239760" cy="885600"/>
            </a:xfrm>
            <a:custGeom>
              <a:avLst/>
              <a:gdLst/>
              <a:ahLst/>
              <a:rect l="l" t="t" r="r" b="b"/>
              <a:pathLst>
                <a:path w="582" h="1988">
                  <a:moveTo>
                    <a:pt x="182" y="1958"/>
                  </a:moveTo>
                  <a:lnTo>
                    <a:pt x="196" y="1943"/>
                  </a:lnTo>
                  <a:lnTo>
                    <a:pt x="206" y="1922"/>
                  </a:lnTo>
                  <a:lnTo>
                    <a:pt x="213" y="1898"/>
                  </a:lnTo>
                  <a:lnTo>
                    <a:pt x="215" y="1868"/>
                  </a:lnTo>
                  <a:lnTo>
                    <a:pt x="219" y="1890"/>
                  </a:lnTo>
                  <a:lnTo>
                    <a:pt x="233" y="1905"/>
                  </a:lnTo>
                  <a:lnTo>
                    <a:pt x="258" y="1915"/>
                  </a:lnTo>
                  <a:lnTo>
                    <a:pt x="294" y="1917"/>
                  </a:lnTo>
                  <a:lnTo>
                    <a:pt x="335" y="1913"/>
                  </a:lnTo>
                  <a:lnTo>
                    <a:pt x="336" y="1934"/>
                  </a:lnTo>
                  <a:lnTo>
                    <a:pt x="333" y="1950"/>
                  </a:lnTo>
                  <a:lnTo>
                    <a:pt x="327" y="1955"/>
                  </a:lnTo>
                  <a:lnTo>
                    <a:pt x="320" y="1956"/>
                  </a:lnTo>
                  <a:lnTo>
                    <a:pt x="286" y="1956"/>
                  </a:lnTo>
                  <a:lnTo>
                    <a:pt x="267" y="1962"/>
                  </a:lnTo>
                  <a:lnTo>
                    <a:pt x="256" y="1973"/>
                  </a:lnTo>
                  <a:lnTo>
                    <a:pt x="248" y="1983"/>
                  </a:lnTo>
                  <a:lnTo>
                    <a:pt x="234" y="1988"/>
                  </a:lnTo>
                  <a:lnTo>
                    <a:pt x="221" y="1983"/>
                  </a:lnTo>
                  <a:lnTo>
                    <a:pt x="212" y="1973"/>
                  </a:lnTo>
                  <a:lnTo>
                    <a:pt x="201" y="1962"/>
                  </a:lnTo>
                  <a:lnTo>
                    <a:pt x="182" y="1958"/>
                  </a:lnTo>
                  <a:close/>
                  <a:moveTo>
                    <a:pt x="197" y="845"/>
                  </a:moveTo>
                  <a:lnTo>
                    <a:pt x="208" y="842"/>
                  </a:lnTo>
                  <a:lnTo>
                    <a:pt x="215" y="835"/>
                  </a:lnTo>
                  <a:lnTo>
                    <a:pt x="218" y="824"/>
                  </a:lnTo>
                  <a:lnTo>
                    <a:pt x="215" y="813"/>
                  </a:lnTo>
                  <a:lnTo>
                    <a:pt x="207" y="806"/>
                  </a:lnTo>
                  <a:lnTo>
                    <a:pt x="197" y="804"/>
                  </a:lnTo>
                  <a:lnTo>
                    <a:pt x="188" y="806"/>
                  </a:lnTo>
                  <a:lnTo>
                    <a:pt x="180" y="813"/>
                  </a:lnTo>
                  <a:lnTo>
                    <a:pt x="177" y="824"/>
                  </a:lnTo>
                  <a:lnTo>
                    <a:pt x="180" y="835"/>
                  </a:lnTo>
                  <a:lnTo>
                    <a:pt x="186" y="842"/>
                  </a:lnTo>
                  <a:lnTo>
                    <a:pt x="197" y="845"/>
                  </a:lnTo>
                  <a:close/>
                  <a:moveTo>
                    <a:pt x="293" y="842"/>
                  </a:moveTo>
                  <a:lnTo>
                    <a:pt x="303" y="840"/>
                  </a:lnTo>
                  <a:lnTo>
                    <a:pt x="310" y="833"/>
                  </a:lnTo>
                  <a:lnTo>
                    <a:pt x="312" y="822"/>
                  </a:lnTo>
                  <a:lnTo>
                    <a:pt x="310" y="811"/>
                  </a:lnTo>
                  <a:lnTo>
                    <a:pt x="303" y="804"/>
                  </a:lnTo>
                  <a:lnTo>
                    <a:pt x="293" y="801"/>
                  </a:lnTo>
                  <a:lnTo>
                    <a:pt x="282" y="804"/>
                  </a:lnTo>
                  <a:lnTo>
                    <a:pt x="275" y="811"/>
                  </a:lnTo>
                  <a:lnTo>
                    <a:pt x="273" y="822"/>
                  </a:lnTo>
                  <a:lnTo>
                    <a:pt x="275" y="833"/>
                  </a:lnTo>
                  <a:lnTo>
                    <a:pt x="282" y="840"/>
                  </a:lnTo>
                  <a:lnTo>
                    <a:pt x="293" y="842"/>
                  </a:lnTo>
                  <a:close/>
                  <a:moveTo>
                    <a:pt x="387" y="834"/>
                  </a:moveTo>
                  <a:lnTo>
                    <a:pt x="398" y="831"/>
                  </a:lnTo>
                  <a:lnTo>
                    <a:pt x="405" y="824"/>
                  </a:lnTo>
                  <a:lnTo>
                    <a:pt x="407" y="813"/>
                  </a:lnTo>
                  <a:lnTo>
                    <a:pt x="405" y="803"/>
                  </a:lnTo>
                  <a:lnTo>
                    <a:pt x="398" y="795"/>
                  </a:lnTo>
                  <a:lnTo>
                    <a:pt x="388" y="793"/>
                  </a:lnTo>
                  <a:lnTo>
                    <a:pt x="377" y="795"/>
                  </a:lnTo>
                  <a:lnTo>
                    <a:pt x="370" y="803"/>
                  </a:lnTo>
                  <a:lnTo>
                    <a:pt x="368" y="813"/>
                  </a:lnTo>
                  <a:lnTo>
                    <a:pt x="370" y="824"/>
                  </a:lnTo>
                  <a:lnTo>
                    <a:pt x="377" y="831"/>
                  </a:lnTo>
                  <a:lnTo>
                    <a:pt x="387" y="834"/>
                  </a:lnTo>
                  <a:close/>
                  <a:moveTo>
                    <a:pt x="480" y="821"/>
                  </a:moveTo>
                  <a:lnTo>
                    <a:pt x="491" y="818"/>
                  </a:lnTo>
                  <a:lnTo>
                    <a:pt x="498" y="811"/>
                  </a:lnTo>
                  <a:lnTo>
                    <a:pt x="501" y="800"/>
                  </a:lnTo>
                  <a:lnTo>
                    <a:pt x="498" y="789"/>
                  </a:lnTo>
                  <a:lnTo>
                    <a:pt x="490" y="782"/>
                  </a:lnTo>
                  <a:lnTo>
                    <a:pt x="480" y="780"/>
                  </a:lnTo>
                  <a:lnTo>
                    <a:pt x="471" y="782"/>
                  </a:lnTo>
                  <a:lnTo>
                    <a:pt x="464" y="789"/>
                  </a:lnTo>
                  <a:lnTo>
                    <a:pt x="460" y="800"/>
                  </a:lnTo>
                  <a:lnTo>
                    <a:pt x="464" y="811"/>
                  </a:lnTo>
                  <a:lnTo>
                    <a:pt x="470" y="818"/>
                  </a:lnTo>
                  <a:lnTo>
                    <a:pt x="480" y="821"/>
                  </a:lnTo>
                  <a:close/>
                  <a:moveTo>
                    <a:pt x="0" y="90"/>
                  </a:moveTo>
                  <a:lnTo>
                    <a:pt x="0" y="29"/>
                  </a:lnTo>
                  <a:lnTo>
                    <a:pt x="98" y="23"/>
                  </a:lnTo>
                  <a:lnTo>
                    <a:pt x="143" y="44"/>
                  </a:lnTo>
                  <a:lnTo>
                    <a:pt x="261" y="44"/>
                  </a:lnTo>
                  <a:lnTo>
                    <a:pt x="390" y="33"/>
                  </a:lnTo>
                  <a:lnTo>
                    <a:pt x="390" y="6"/>
                  </a:lnTo>
                  <a:lnTo>
                    <a:pt x="485" y="0"/>
                  </a:lnTo>
                  <a:lnTo>
                    <a:pt x="582" y="86"/>
                  </a:lnTo>
                  <a:lnTo>
                    <a:pt x="582" y="125"/>
                  </a:lnTo>
                  <a:lnTo>
                    <a:pt x="497" y="137"/>
                  </a:lnTo>
                  <a:lnTo>
                    <a:pt x="400" y="145"/>
                  </a:lnTo>
                  <a:lnTo>
                    <a:pt x="302" y="149"/>
                  </a:lnTo>
                  <a:lnTo>
                    <a:pt x="216" y="14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f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851840" y="5295960"/>
              <a:ext cx="63000" cy="53280"/>
            </a:xfrm>
            <a:custGeom>
              <a:avLst/>
              <a:gdLst/>
              <a:ahLst/>
              <a:rect l="l" t="t" r="r" b="b"/>
              <a:pathLst>
                <a:path w="154" h="120">
                  <a:moveTo>
                    <a:pt x="0" y="90"/>
                  </a:moveTo>
                  <a:lnTo>
                    <a:pt x="14" y="75"/>
                  </a:lnTo>
                  <a:lnTo>
                    <a:pt x="24" y="54"/>
                  </a:lnTo>
                  <a:lnTo>
                    <a:pt x="31" y="30"/>
                  </a:lnTo>
                  <a:lnTo>
                    <a:pt x="33" y="0"/>
                  </a:lnTo>
                  <a:lnTo>
                    <a:pt x="37" y="22"/>
                  </a:lnTo>
                  <a:lnTo>
                    <a:pt x="51" y="37"/>
                  </a:lnTo>
                  <a:lnTo>
                    <a:pt x="76" y="47"/>
                  </a:lnTo>
                  <a:lnTo>
                    <a:pt x="112" y="49"/>
                  </a:lnTo>
                  <a:lnTo>
                    <a:pt x="153" y="45"/>
                  </a:lnTo>
                  <a:lnTo>
                    <a:pt x="154" y="66"/>
                  </a:lnTo>
                  <a:lnTo>
                    <a:pt x="151" y="82"/>
                  </a:lnTo>
                  <a:lnTo>
                    <a:pt x="145" y="87"/>
                  </a:lnTo>
                  <a:lnTo>
                    <a:pt x="138" y="88"/>
                  </a:lnTo>
                  <a:lnTo>
                    <a:pt x="104" y="88"/>
                  </a:lnTo>
                  <a:lnTo>
                    <a:pt x="85" y="94"/>
                  </a:lnTo>
                  <a:lnTo>
                    <a:pt x="74" y="105"/>
                  </a:lnTo>
                  <a:lnTo>
                    <a:pt x="66" y="115"/>
                  </a:lnTo>
                  <a:lnTo>
                    <a:pt x="52" y="120"/>
                  </a:lnTo>
                  <a:lnTo>
                    <a:pt x="39" y="115"/>
                  </a:lnTo>
                  <a:lnTo>
                    <a:pt x="30" y="105"/>
                  </a:lnTo>
                  <a:lnTo>
                    <a:pt x="19" y="94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849320" y="4822200"/>
              <a:ext cx="17280" cy="172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41"/>
                  </a:moveTo>
                  <a:lnTo>
                    <a:pt x="31" y="38"/>
                  </a:lnTo>
                  <a:lnTo>
                    <a:pt x="38" y="31"/>
                  </a:lnTo>
                  <a:lnTo>
                    <a:pt x="41" y="20"/>
                  </a:lnTo>
                  <a:lnTo>
                    <a:pt x="38" y="9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9"/>
                  </a:lnTo>
                  <a:lnTo>
                    <a:pt x="0" y="20"/>
                  </a:lnTo>
                  <a:lnTo>
                    <a:pt x="3" y="31"/>
                  </a:lnTo>
                  <a:lnTo>
                    <a:pt x="9" y="38"/>
                  </a:lnTo>
                  <a:lnTo>
                    <a:pt x="20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1888920" y="4821120"/>
              <a:ext cx="15840" cy="1728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0" y="41"/>
                  </a:moveTo>
                  <a:lnTo>
                    <a:pt x="30" y="39"/>
                  </a:lnTo>
                  <a:lnTo>
                    <a:pt x="37" y="32"/>
                  </a:lnTo>
                  <a:lnTo>
                    <a:pt x="39" y="21"/>
                  </a:lnTo>
                  <a:lnTo>
                    <a:pt x="37" y="10"/>
                  </a:lnTo>
                  <a:lnTo>
                    <a:pt x="30" y="3"/>
                  </a:lnTo>
                  <a:lnTo>
                    <a:pt x="20" y="0"/>
                  </a:lnTo>
                  <a:lnTo>
                    <a:pt x="9" y="3"/>
                  </a:lnTo>
                  <a:lnTo>
                    <a:pt x="2" y="10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9" y="39"/>
                  </a:lnTo>
                  <a:lnTo>
                    <a:pt x="20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1928520" y="4816800"/>
              <a:ext cx="15840" cy="1872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19" y="41"/>
                  </a:moveTo>
                  <a:lnTo>
                    <a:pt x="30" y="38"/>
                  </a:lnTo>
                  <a:lnTo>
                    <a:pt x="37" y="31"/>
                  </a:lnTo>
                  <a:lnTo>
                    <a:pt x="39" y="20"/>
                  </a:lnTo>
                  <a:lnTo>
                    <a:pt x="37" y="10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9" y="2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9" y="38"/>
                  </a:lnTo>
                  <a:lnTo>
                    <a:pt x="19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965600" y="4811760"/>
              <a:ext cx="17280" cy="172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41"/>
                  </a:moveTo>
                  <a:lnTo>
                    <a:pt x="31" y="38"/>
                  </a:lnTo>
                  <a:lnTo>
                    <a:pt x="38" y="31"/>
                  </a:lnTo>
                  <a:lnTo>
                    <a:pt x="41" y="20"/>
                  </a:lnTo>
                  <a:lnTo>
                    <a:pt x="38" y="9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4" y="9"/>
                  </a:lnTo>
                  <a:lnTo>
                    <a:pt x="0" y="20"/>
                  </a:lnTo>
                  <a:lnTo>
                    <a:pt x="4" y="31"/>
                  </a:lnTo>
                  <a:lnTo>
                    <a:pt x="10" y="38"/>
                  </a:lnTo>
                  <a:lnTo>
                    <a:pt x="20" y="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1776600" y="4463640"/>
              <a:ext cx="239760" cy="65520"/>
            </a:xfrm>
            <a:custGeom>
              <a:avLst/>
              <a:gdLst/>
              <a:ahLst/>
              <a:rect l="l" t="t" r="r" b="b"/>
              <a:pathLst>
                <a:path w="582" h="149">
                  <a:moveTo>
                    <a:pt x="0" y="90"/>
                  </a:moveTo>
                  <a:lnTo>
                    <a:pt x="0" y="29"/>
                  </a:lnTo>
                  <a:lnTo>
                    <a:pt x="98" y="23"/>
                  </a:lnTo>
                  <a:lnTo>
                    <a:pt x="143" y="44"/>
                  </a:lnTo>
                  <a:lnTo>
                    <a:pt x="261" y="44"/>
                  </a:lnTo>
                  <a:lnTo>
                    <a:pt x="390" y="33"/>
                  </a:lnTo>
                  <a:lnTo>
                    <a:pt x="390" y="6"/>
                  </a:lnTo>
                  <a:lnTo>
                    <a:pt x="485" y="0"/>
                  </a:lnTo>
                  <a:lnTo>
                    <a:pt x="582" y="86"/>
                  </a:lnTo>
                  <a:lnTo>
                    <a:pt x="582" y="125"/>
                  </a:lnTo>
                  <a:lnTo>
                    <a:pt x="497" y="137"/>
                  </a:lnTo>
                  <a:lnTo>
                    <a:pt x="400" y="145"/>
                  </a:lnTo>
                  <a:lnTo>
                    <a:pt x="302" y="149"/>
                  </a:lnTo>
                  <a:lnTo>
                    <a:pt x="216" y="147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1776600" y="4475880"/>
              <a:ext cx="88920" cy="53280"/>
            </a:xfrm>
            <a:custGeom>
              <a:avLst/>
              <a:gdLst/>
              <a:ahLst/>
              <a:rect l="l" t="t" r="r" b="b"/>
              <a:pathLst>
                <a:path w="216" h="118">
                  <a:moveTo>
                    <a:pt x="0" y="0"/>
                  </a:moveTo>
                  <a:lnTo>
                    <a:pt x="216" y="80"/>
                  </a:lnTo>
                  <a:lnTo>
                    <a:pt x="216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1865520" y="4501080"/>
              <a:ext cx="150840" cy="10440"/>
            </a:xfrm>
            <a:custGeom>
              <a:avLst/>
              <a:gdLst/>
              <a:ahLst/>
              <a:rect l="l" t="t" r="r" b="b"/>
              <a:pathLst>
                <a:path w="366" h="24">
                  <a:moveTo>
                    <a:pt x="0" y="23"/>
                  </a:moveTo>
                  <a:lnTo>
                    <a:pt x="86" y="24"/>
                  </a:lnTo>
                  <a:lnTo>
                    <a:pt x="184" y="21"/>
                  </a:lnTo>
                  <a:lnTo>
                    <a:pt x="281" y="12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1937160" y="4466160"/>
              <a:ext cx="19800" cy="118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27"/>
                  </a:moveTo>
                  <a:lnTo>
                    <a:pt x="48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2" name=""/>
          <p:cNvSpPr/>
          <p:nvPr/>
        </p:nvSpPr>
        <p:spPr>
          <a:xfrm>
            <a:off x="1678320" y="548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6783480" y="548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SEAL24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4" name=""/>
          <p:cNvGrpSpPr/>
          <p:nvPr/>
        </p:nvGrpSpPr>
        <p:grpSpPr>
          <a:xfrm>
            <a:off x="1676520" y="2705040"/>
            <a:ext cx="1218600" cy="2209680"/>
            <a:chOff x="1676520" y="2705040"/>
            <a:chExt cx="1218600" cy="2209680"/>
          </a:xfrm>
        </p:grpSpPr>
        <p:sp>
          <p:nvSpPr>
            <p:cNvPr id="6465" name=""/>
            <p:cNvSpPr/>
            <p:nvPr/>
          </p:nvSpPr>
          <p:spPr>
            <a:xfrm>
              <a:off x="2127240" y="3054240"/>
              <a:ext cx="441000" cy="457200"/>
            </a:xfrm>
            <a:custGeom>
              <a:avLst/>
              <a:gdLst/>
              <a:ahLst/>
              <a:rect l="l" t="t" r="r" b="b"/>
              <a:pathLst>
                <a:path w="753" h="691">
                  <a:moveTo>
                    <a:pt x="703" y="540"/>
                  </a:moveTo>
                  <a:lnTo>
                    <a:pt x="675" y="556"/>
                  </a:lnTo>
                  <a:lnTo>
                    <a:pt x="654" y="568"/>
                  </a:lnTo>
                  <a:lnTo>
                    <a:pt x="606" y="590"/>
                  </a:lnTo>
                  <a:lnTo>
                    <a:pt x="590" y="597"/>
                  </a:lnTo>
                  <a:lnTo>
                    <a:pt x="530" y="622"/>
                  </a:lnTo>
                  <a:lnTo>
                    <a:pt x="523" y="625"/>
                  </a:lnTo>
                  <a:lnTo>
                    <a:pt x="424" y="674"/>
                  </a:lnTo>
                  <a:lnTo>
                    <a:pt x="421" y="675"/>
                  </a:lnTo>
                  <a:lnTo>
                    <a:pt x="388" y="687"/>
                  </a:lnTo>
                  <a:lnTo>
                    <a:pt x="327" y="691"/>
                  </a:lnTo>
                  <a:lnTo>
                    <a:pt x="234" y="682"/>
                  </a:lnTo>
                  <a:lnTo>
                    <a:pt x="197" y="674"/>
                  </a:lnTo>
                  <a:lnTo>
                    <a:pt x="116" y="587"/>
                  </a:lnTo>
                  <a:lnTo>
                    <a:pt x="54" y="513"/>
                  </a:lnTo>
                  <a:lnTo>
                    <a:pt x="45" y="499"/>
                  </a:lnTo>
                  <a:lnTo>
                    <a:pt x="62" y="490"/>
                  </a:lnTo>
                  <a:lnTo>
                    <a:pt x="78" y="481"/>
                  </a:lnTo>
                  <a:lnTo>
                    <a:pt x="85" y="485"/>
                  </a:lnTo>
                  <a:lnTo>
                    <a:pt x="97" y="487"/>
                  </a:lnTo>
                  <a:lnTo>
                    <a:pt x="111" y="485"/>
                  </a:lnTo>
                  <a:lnTo>
                    <a:pt x="125" y="478"/>
                  </a:lnTo>
                  <a:lnTo>
                    <a:pt x="132" y="480"/>
                  </a:lnTo>
                  <a:lnTo>
                    <a:pt x="140" y="480"/>
                  </a:lnTo>
                  <a:lnTo>
                    <a:pt x="158" y="473"/>
                  </a:lnTo>
                  <a:lnTo>
                    <a:pt x="166" y="468"/>
                  </a:lnTo>
                  <a:lnTo>
                    <a:pt x="173" y="454"/>
                  </a:lnTo>
                  <a:lnTo>
                    <a:pt x="170" y="466"/>
                  </a:lnTo>
                  <a:lnTo>
                    <a:pt x="177" y="469"/>
                  </a:lnTo>
                  <a:lnTo>
                    <a:pt x="189" y="471"/>
                  </a:lnTo>
                  <a:lnTo>
                    <a:pt x="203" y="466"/>
                  </a:lnTo>
                  <a:lnTo>
                    <a:pt x="213" y="457"/>
                  </a:lnTo>
                  <a:lnTo>
                    <a:pt x="218" y="461"/>
                  </a:lnTo>
                  <a:lnTo>
                    <a:pt x="236" y="459"/>
                  </a:lnTo>
                  <a:lnTo>
                    <a:pt x="249" y="454"/>
                  </a:lnTo>
                  <a:lnTo>
                    <a:pt x="270" y="454"/>
                  </a:lnTo>
                  <a:lnTo>
                    <a:pt x="289" y="442"/>
                  </a:lnTo>
                  <a:lnTo>
                    <a:pt x="313" y="443"/>
                  </a:lnTo>
                  <a:lnTo>
                    <a:pt x="326" y="438"/>
                  </a:lnTo>
                  <a:lnTo>
                    <a:pt x="339" y="438"/>
                  </a:lnTo>
                  <a:lnTo>
                    <a:pt x="362" y="433"/>
                  </a:lnTo>
                  <a:lnTo>
                    <a:pt x="374" y="419"/>
                  </a:lnTo>
                  <a:lnTo>
                    <a:pt x="383" y="379"/>
                  </a:lnTo>
                  <a:lnTo>
                    <a:pt x="374" y="341"/>
                  </a:lnTo>
                  <a:lnTo>
                    <a:pt x="353" y="317"/>
                  </a:lnTo>
                  <a:lnTo>
                    <a:pt x="338" y="312"/>
                  </a:lnTo>
                  <a:lnTo>
                    <a:pt x="326" y="322"/>
                  </a:lnTo>
                  <a:lnTo>
                    <a:pt x="327" y="339"/>
                  </a:lnTo>
                  <a:lnTo>
                    <a:pt x="324" y="322"/>
                  </a:lnTo>
                  <a:lnTo>
                    <a:pt x="303" y="308"/>
                  </a:lnTo>
                  <a:lnTo>
                    <a:pt x="279" y="310"/>
                  </a:lnTo>
                  <a:lnTo>
                    <a:pt x="267" y="320"/>
                  </a:lnTo>
                  <a:lnTo>
                    <a:pt x="261" y="332"/>
                  </a:lnTo>
                  <a:lnTo>
                    <a:pt x="249" y="331"/>
                  </a:lnTo>
                  <a:lnTo>
                    <a:pt x="237" y="334"/>
                  </a:lnTo>
                  <a:lnTo>
                    <a:pt x="230" y="345"/>
                  </a:lnTo>
                  <a:lnTo>
                    <a:pt x="215" y="345"/>
                  </a:lnTo>
                  <a:lnTo>
                    <a:pt x="197" y="346"/>
                  </a:lnTo>
                  <a:lnTo>
                    <a:pt x="185" y="360"/>
                  </a:lnTo>
                  <a:lnTo>
                    <a:pt x="168" y="369"/>
                  </a:lnTo>
                  <a:lnTo>
                    <a:pt x="156" y="376"/>
                  </a:lnTo>
                  <a:lnTo>
                    <a:pt x="145" y="384"/>
                  </a:lnTo>
                  <a:lnTo>
                    <a:pt x="137" y="395"/>
                  </a:lnTo>
                  <a:lnTo>
                    <a:pt x="128" y="410"/>
                  </a:lnTo>
                  <a:lnTo>
                    <a:pt x="130" y="421"/>
                  </a:lnTo>
                  <a:lnTo>
                    <a:pt x="123" y="410"/>
                  </a:lnTo>
                  <a:lnTo>
                    <a:pt x="116" y="410"/>
                  </a:lnTo>
                  <a:lnTo>
                    <a:pt x="107" y="416"/>
                  </a:lnTo>
                  <a:lnTo>
                    <a:pt x="88" y="436"/>
                  </a:lnTo>
                  <a:lnTo>
                    <a:pt x="73" y="436"/>
                  </a:lnTo>
                  <a:lnTo>
                    <a:pt x="55" y="438"/>
                  </a:lnTo>
                  <a:lnTo>
                    <a:pt x="24" y="454"/>
                  </a:lnTo>
                  <a:lnTo>
                    <a:pt x="12" y="428"/>
                  </a:lnTo>
                  <a:lnTo>
                    <a:pt x="0" y="358"/>
                  </a:lnTo>
                  <a:lnTo>
                    <a:pt x="2" y="263"/>
                  </a:lnTo>
                  <a:lnTo>
                    <a:pt x="36" y="152"/>
                  </a:lnTo>
                  <a:lnTo>
                    <a:pt x="109" y="152"/>
                  </a:lnTo>
                  <a:lnTo>
                    <a:pt x="249" y="140"/>
                  </a:lnTo>
                  <a:lnTo>
                    <a:pt x="308" y="130"/>
                  </a:lnTo>
                  <a:lnTo>
                    <a:pt x="407" y="106"/>
                  </a:lnTo>
                  <a:lnTo>
                    <a:pt x="493" y="71"/>
                  </a:lnTo>
                  <a:lnTo>
                    <a:pt x="615" y="0"/>
                  </a:lnTo>
                  <a:lnTo>
                    <a:pt x="628" y="9"/>
                  </a:lnTo>
                  <a:lnTo>
                    <a:pt x="658" y="42"/>
                  </a:lnTo>
                  <a:lnTo>
                    <a:pt x="687" y="90"/>
                  </a:lnTo>
                  <a:lnTo>
                    <a:pt x="715" y="149"/>
                  </a:lnTo>
                  <a:lnTo>
                    <a:pt x="736" y="225"/>
                  </a:lnTo>
                  <a:lnTo>
                    <a:pt x="753" y="332"/>
                  </a:lnTo>
                  <a:lnTo>
                    <a:pt x="753" y="424"/>
                  </a:lnTo>
                  <a:lnTo>
                    <a:pt x="720" y="509"/>
                  </a:lnTo>
                  <a:lnTo>
                    <a:pt x="703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184120" y="2933640"/>
              <a:ext cx="272880" cy="171360"/>
            </a:xfrm>
            <a:custGeom>
              <a:avLst/>
              <a:gdLst/>
              <a:ahLst/>
              <a:rect l="l" t="t" r="r" b="b"/>
              <a:pathLst>
                <a:path w="467" h="258">
                  <a:moveTo>
                    <a:pt x="439" y="14"/>
                  </a:moveTo>
                  <a:lnTo>
                    <a:pt x="438" y="0"/>
                  </a:lnTo>
                  <a:lnTo>
                    <a:pt x="433" y="16"/>
                  </a:lnTo>
                  <a:lnTo>
                    <a:pt x="420" y="28"/>
                  </a:lnTo>
                  <a:lnTo>
                    <a:pt x="391" y="47"/>
                  </a:lnTo>
                  <a:lnTo>
                    <a:pt x="358" y="57"/>
                  </a:lnTo>
                  <a:lnTo>
                    <a:pt x="272" y="97"/>
                  </a:lnTo>
                  <a:lnTo>
                    <a:pt x="183" y="126"/>
                  </a:lnTo>
                  <a:lnTo>
                    <a:pt x="112" y="145"/>
                  </a:lnTo>
                  <a:lnTo>
                    <a:pt x="52" y="152"/>
                  </a:lnTo>
                  <a:lnTo>
                    <a:pt x="24" y="149"/>
                  </a:lnTo>
                  <a:lnTo>
                    <a:pt x="12" y="139"/>
                  </a:lnTo>
                  <a:lnTo>
                    <a:pt x="0" y="128"/>
                  </a:lnTo>
                  <a:lnTo>
                    <a:pt x="12" y="164"/>
                  </a:lnTo>
                  <a:lnTo>
                    <a:pt x="24" y="203"/>
                  </a:lnTo>
                  <a:lnTo>
                    <a:pt x="34" y="248"/>
                  </a:lnTo>
                  <a:lnTo>
                    <a:pt x="46" y="256"/>
                  </a:lnTo>
                  <a:lnTo>
                    <a:pt x="72" y="258"/>
                  </a:lnTo>
                  <a:lnTo>
                    <a:pt x="138" y="251"/>
                  </a:lnTo>
                  <a:lnTo>
                    <a:pt x="240" y="225"/>
                  </a:lnTo>
                  <a:lnTo>
                    <a:pt x="349" y="182"/>
                  </a:lnTo>
                  <a:lnTo>
                    <a:pt x="436" y="139"/>
                  </a:lnTo>
                  <a:lnTo>
                    <a:pt x="462" y="116"/>
                  </a:lnTo>
                  <a:lnTo>
                    <a:pt x="467" y="104"/>
                  </a:lnTo>
                  <a:lnTo>
                    <a:pt x="439" y="14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068560" y="2906640"/>
              <a:ext cx="509040" cy="247680"/>
            </a:xfrm>
            <a:custGeom>
              <a:avLst/>
              <a:gdLst/>
              <a:ahLst/>
              <a:rect l="l" t="t" r="r" b="b"/>
              <a:pathLst>
                <a:path w="872" h="374">
                  <a:moveTo>
                    <a:pt x="211" y="206"/>
                  </a:moveTo>
                  <a:lnTo>
                    <a:pt x="133" y="206"/>
                  </a:lnTo>
                  <a:lnTo>
                    <a:pt x="48" y="215"/>
                  </a:lnTo>
                  <a:lnTo>
                    <a:pt x="17" y="227"/>
                  </a:lnTo>
                  <a:lnTo>
                    <a:pt x="0" y="250"/>
                  </a:lnTo>
                  <a:lnTo>
                    <a:pt x="0" y="291"/>
                  </a:lnTo>
                  <a:lnTo>
                    <a:pt x="12" y="326"/>
                  </a:lnTo>
                  <a:lnTo>
                    <a:pt x="39" y="345"/>
                  </a:lnTo>
                  <a:lnTo>
                    <a:pt x="90" y="366"/>
                  </a:lnTo>
                  <a:lnTo>
                    <a:pt x="136" y="374"/>
                  </a:lnTo>
                  <a:lnTo>
                    <a:pt x="209" y="374"/>
                  </a:lnTo>
                  <a:lnTo>
                    <a:pt x="349" y="362"/>
                  </a:lnTo>
                  <a:lnTo>
                    <a:pt x="408" y="352"/>
                  </a:lnTo>
                  <a:lnTo>
                    <a:pt x="507" y="328"/>
                  </a:lnTo>
                  <a:lnTo>
                    <a:pt x="593" y="293"/>
                  </a:lnTo>
                  <a:lnTo>
                    <a:pt x="715" y="222"/>
                  </a:lnTo>
                  <a:lnTo>
                    <a:pt x="810" y="153"/>
                  </a:lnTo>
                  <a:lnTo>
                    <a:pt x="853" y="116"/>
                  </a:lnTo>
                  <a:lnTo>
                    <a:pt x="872" y="78"/>
                  </a:lnTo>
                  <a:lnTo>
                    <a:pt x="872" y="42"/>
                  </a:lnTo>
                  <a:lnTo>
                    <a:pt x="853" y="18"/>
                  </a:lnTo>
                  <a:lnTo>
                    <a:pt x="812" y="0"/>
                  </a:lnTo>
                  <a:lnTo>
                    <a:pt x="780" y="0"/>
                  </a:lnTo>
                  <a:lnTo>
                    <a:pt x="728" y="14"/>
                  </a:lnTo>
                  <a:lnTo>
                    <a:pt x="682" y="37"/>
                  </a:lnTo>
                  <a:lnTo>
                    <a:pt x="638" y="56"/>
                  </a:lnTo>
                  <a:lnTo>
                    <a:pt x="666" y="146"/>
                  </a:lnTo>
                  <a:lnTo>
                    <a:pt x="661" y="158"/>
                  </a:lnTo>
                  <a:lnTo>
                    <a:pt x="635" y="181"/>
                  </a:lnTo>
                  <a:lnTo>
                    <a:pt x="548" y="224"/>
                  </a:lnTo>
                  <a:lnTo>
                    <a:pt x="439" y="267"/>
                  </a:lnTo>
                  <a:lnTo>
                    <a:pt x="337" y="293"/>
                  </a:lnTo>
                  <a:lnTo>
                    <a:pt x="271" y="300"/>
                  </a:lnTo>
                  <a:lnTo>
                    <a:pt x="245" y="298"/>
                  </a:lnTo>
                  <a:lnTo>
                    <a:pt x="233" y="290"/>
                  </a:lnTo>
                  <a:lnTo>
                    <a:pt x="223" y="245"/>
                  </a:lnTo>
                  <a:lnTo>
                    <a:pt x="211" y="206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114280" y="2724120"/>
              <a:ext cx="325080" cy="311040"/>
            </a:xfrm>
            <a:custGeom>
              <a:avLst/>
              <a:gdLst/>
              <a:ahLst/>
              <a:rect l="l" t="t" r="r" b="b"/>
              <a:pathLst>
                <a:path w="559" h="471">
                  <a:moveTo>
                    <a:pt x="559" y="319"/>
                  </a:moveTo>
                  <a:lnTo>
                    <a:pt x="543" y="257"/>
                  </a:lnTo>
                  <a:lnTo>
                    <a:pt x="524" y="170"/>
                  </a:lnTo>
                  <a:lnTo>
                    <a:pt x="519" y="129"/>
                  </a:lnTo>
                  <a:lnTo>
                    <a:pt x="515" y="92"/>
                  </a:lnTo>
                  <a:lnTo>
                    <a:pt x="521" y="9"/>
                  </a:lnTo>
                  <a:lnTo>
                    <a:pt x="517" y="0"/>
                  </a:lnTo>
                  <a:lnTo>
                    <a:pt x="450" y="40"/>
                  </a:lnTo>
                  <a:lnTo>
                    <a:pt x="349" y="73"/>
                  </a:lnTo>
                  <a:lnTo>
                    <a:pt x="238" y="99"/>
                  </a:lnTo>
                  <a:lnTo>
                    <a:pt x="114" y="111"/>
                  </a:lnTo>
                  <a:lnTo>
                    <a:pt x="0" y="110"/>
                  </a:lnTo>
                  <a:lnTo>
                    <a:pt x="8" y="129"/>
                  </a:lnTo>
                  <a:lnTo>
                    <a:pt x="121" y="447"/>
                  </a:lnTo>
                  <a:lnTo>
                    <a:pt x="133" y="458"/>
                  </a:lnTo>
                  <a:lnTo>
                    <a:pt x="145" y="468"/>
                  </a:lnTo>
                  <a:lnTo>
                    <a:pt x="173" y="471"/>
                  </a:lnTo>
                  <a:lnTo>
                    <a:pt x="233" y="464"/>
                  </a:lnTo>
                  <a:lnTo>
                    <a:pt x="304" y="445"/>
                  </a:lnTo>
                  <a:lnTo>
                    <a:pt x="393" y="416"/>
                  </a:lnTo>
                  <a:lnTo>
                    <a:pt x="479" y="376"/>
                  </a:lnTo>
                  <a:lnTo>
                    <a:pt x="512" y="366"/>
                  </a:lnTo>
                  <a:lnTo>
                    <a:pt x="541" y="347"/>
                  </a:lnTo>
                  <a:lnTo>
                    <a:pt x="554" y="335"/>
                  </a:lnTo>
                  <a:lnTo>
                    <a:pt x="559" y="319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109600" y="2705040"/>
              <a:ext cx="307800" cy="91800"/>
            </a:xfrm>
            <a:custGeom>
              <a:avLst/>
              <a:gdLst/>
              <a:ahLst/>
              <a:rect l="l" t="t" r="r" b="b"/>
              <a:pathLst>
                <a:path w="523" h="138">
                  <a:moveTo>
                    <a:pt x="523" y="27"/>
                  </a:moveTo>
                  <a:lnTo>
                    <a:pt x="456" y="67"/>
                  </a:lnTo>
                  <a:lnTo>
                    <a:pt x="355" y="100"/>
                  </a:lnTo>
                  <a:lnTo>
                    <a:pt x="244" y="126"/>
                  </a:lnTo>
                  <a:lnTo>
                    <a:pt x="120" y="138"/>
                  </a:lnTo>
                  <a:lnTo>
                    <a:pt x="6" y="137"/>
                  </a:lnTo>
                  <a:lnTo>
                    <a:pt x="0" y="128"/>
                  </a:lnTo>
                  <a:lnTo>
                    <a:pt x="2" y="119"/>
                  </a:lnTo>
                  <a:lnTo>
                    <a:pt x="6" y="112"/>
                  </a:lnTo>
                  <a:lnTo>
                    <a:pt x="30" y="93"/>
                  </a:lnTo>
                  <a:lnTo>
                    <a:pt x="90" y="66"/>
                  </a:lnTo>
                  <a:lnTo>
                    <a:pt x="257" y="19"/>
                  </a:lnTo>
                  <a:lnTo>
                    <a:pt x="359" y="5"/>
                  </a:lnTo>
                  <a:lnTo>
                    <a:pt x="428" y="0"/>
                  </a:lnTo>
                  <a:lnTo>
                    <a:pt x="485" y="5"/>
                  </a:lnTo>
                  <a:lnTo>
                    <a:pt x="515" y="15"/>
                  </a:lnTo>
                  <a:lnTo>
                    <a:pt x="523" y="27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195280" y="3192120"/>
              <a:ext cx="53640" cy="66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90" y="32"/>
                  </a:moveTo>
                  <a:lnTo>
                    <a:pt x="87" y="20"/>
                  </a:lnTo>
                  <a:lnTo>
                    <a:pt x="78" y="8"/>
                  </a:lnTo>
                  <a:lnTo>
                    <a:pt x="68" y="3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8" y="3"/>
                  </a:lnTo>
                  <a:lnTo>
                    <a:pt x="17" y="8"/>
                  </a:lnTo>
                  <a:lnTo>
                    <a:pt x="10" y="19"/>
                  </a:lnTo>
                  <a:lnTo>
                    <a:pt x="4" y="29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7" y="91"/>
                  </a:lnTo>
                  <a:lnTo>
                    <a:pt x="31" y="98"/>
                  </a:lnTo>
                  <a:lnTo>
                    <a:pt x="47" y="100"/>
                  </a:lnTo>
                  <a:lnTo>
                    <a:pt x="61" y="98"/>
                  </a:lnTo>
                  <a:lnTo>
                    <a:pt x="71" y="95"/>
                  </a:lnTo>
                  <a:lnTo>
                    <a:pt x="80" y="90"/>
                  </a:lnTo>
                  <a:lnTo>
                    <a:pt x="85" y="81"/>
                  </a:lnTo>
                  <a:lnTo>
                    <a:pt x="94" y="65"/>
                  </a:lnTo>
                  <a:lnTo>
                    <a:pt x="94" y="46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2385720" y="3189240"/>
              <a:ext cx="64800" cy="79200"/>
            </a:xfrm>
            <a:custGeom>
              <a:avLst/>
              <a:gdLst/>
              <a:ahLst/>
              <a:rect l="l" t="t" r="r" b="b"/>
              <a:pathLst>
                <a:path w="111" h="120">
                  <a:moveTo>
                    <a:pt x="108" y="40"/>
                  </a:moveTo>
                  <a:lnTo>
                    <a:pt x="104" y="25"/>
                  </a:lnTo>
                  <a:lnTo>
                    <a:pt x="92" y="12"/>
                  </a:lnTo>
                  <a:lnTo>
                    <a:pt x="82" y="4"/>
                  </a:lnTo>
                  <a:lnTo>
                    <a:pt x="64" y="0"/>
                  </a:lnTo>
                  <a:lnTo>
                    <a:pt x="47" y="0"/>
                  </a:lnTo>
                  <a:lnTo>
                    <a:pt x="33" y="4"/>
                  </a:lnTo>
                  <a:lnTo>
                    <a:pt x="21" y="12"/>
                  </a:lnTo>
                  <a:lnTo>
                    <a:pt x="11" y="21"/>
                  </a:lnTo>
                  <a:lnTo>
                    <a:pt x="4" y="35"/>
                  </a:lnTo>
                  <a:lnTo>
                    <a:pt x="0" y="54"/>
                  </a:lnTo>
                  <a:lnTo>
                    <a:pt x="0" y="73"/>
                  </a:lnTo>
                  <a:lnTo>
                    <a:pt x="4" y="87"/>
                  </a:lnTo>
                  <a:lnTo>
                    <a:pt x="9" y="99"/>
                  </a:lnTo>
                  <a:lnTo>
                    <a:pt x="21" y="111"/>
                  </a:lnTo>
                  <a:lnTo>
                    <a:pt x="37" y="116"/>
                  </a:lnTo>
                  <a:lnTo>
                    <a:pt x="54" y="120"/>
                  </a:lnTo>
                  <a:lnTo>
                    <a:pt x="71" y="118"/>
                  </a:lnTo>
                  <a:lnTo>
                    <a:pt x="85" y="113"/>
                  </a:lnTo>
                  <a:lnTo>
                    <a:pt x="95" y="108"/>
                  </a:lnTo>
                  <a:lnTo>
                    <a:pt x="102" y="99"/>
                  </a:lnTo>
                  <a:lnTo>
                    <a:pt x="111" y="80"/>
                  </a:lnTo>
                  <a:lnTo>
                    <a:pt x="111" y="56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109600" y="3257280"/>
              <a:ext cx="240840" cy="127080"/>
            </a:xfrm>
            <a:custGeom>
              <a:avLst/>
              <a:gdLst/>
              <a:ahLst/>
              <a:rect l="l" t="t" r="r" b="b"/>
              <a:pathLst>
                <a:path w="412" h="191">
                  <a:moveTo>
                    <a:pt x="197" y="61"/>
                  </a:moveTo>
                  <a:lnTo>
                    <a:pt x="185" y="68"/>
                  </a:lnTo>
                  <a:lnTo>
                    <a:pt x="174" y="76"/>
                  </a:lnTo>
                  <a:lnTo>
                    <a:pt x="166" y="87"/>
                  </a:lnTo>
                  <a:lnTo>
                    <a:pt x="157" y="102"/>
                  </a:lnTo>
                  <a:lnTo>
                    <a:pt x="159" y="113"/>
                  </a:lnTo>
                  <a:lnTo>
                    <a:pt x="152" y="102"/>
                  </a:lnTo>
                  <a:lnTo>
                    <a:pt x="145" y="102"/>
                  </a:lnTo>
                  <a:lnTo>
                    <a:pt x="136" y="108"/>
                  </a:lnTo>
                  <a:lnTo>
                    <a:pt x="117" y="128"/>
                  </a:lnTo>
                  <a:lnTo>
                    <a:pt x="102" y="128"/>
                  </a:lnTo>
                  <a:lnTo>
                    <a:pt x="84" y="130"/>
                  </a:lnTo>
                  <a:lnTo>
                    <a:pt x="53" y="146"/>
                  </a:lnTo>
                  <a:lnTo>
                    <a:pt x="12" y="151"/>
                  </a:lnTo>
                  <a:lnTo>
                    <a:pt x="0" y="154"/>
                  </a:lnTo>
                  <a:lnTo>
                    <a:pt x="7" y="165"/>
                  </a:lnTo>
                  <a:lnTo>
                    <a:pt x="46" y="182"/>
                  </a:lnTo>
                  <a:lnTo>
                    <a:pt x="74" y="191"/>
                  </a:lnTo>
                  <a:lnTo>
                    <a:pt x="91" y="182"/>
                  </a:lnTo>
                  <a:lnTo>
                    <a:pt x="107" y="173"/>
                  </a:lnTo>
                  <a:lnTo>
                    <a:pt x="114" y="177"/>
                  </a:lnTo>
                  <a:lnTo>
                    <a:pt x="126" y="179"/>
                  </a:lnTo>
                  <a:lnTo>
                    <a:pt x="140" y="177"/>
                  </a:lnTo>
                  <a:lnTo>
                    <a:pt x="154" y="170"/>
                  </a:lnTo>
                  <a:lnTo>
                    <a:pt x="161" y="172"/>
                  </a:lnTo>
                  <a:lnTo>
                    <a:pt x="169" y="172"/>
                  </a:lnTo>
                  <a:lnTo>
                    <a:pt x="187" y="165"/>
                  </a:lnTo>
                  <a:lnTo>
                    <a:pt x="195" y="160"/>
                  </a:lnTo>
                  <a:lnTo>
                    <a:pt x="202" y="146"/>
                  </a:lnTo>
                  <a:lnTo>
                    <a:pt x="199" y="158"/>
                  </a:lnTo>
                  <a:lnTo>
                    <a:pt x="206" y="161"/>
                  </a:lnTo>
                  <a:lnTo>
                    <a:pt x="218" y="163"/>
                  </a:lnTo>
                  <a:lnTo>
                    <a:pt x="232" y="158"/>
                  </a:lnTo>
                  <a:lnTo>
                    <a:pt x="242" y="149"/>
                  </a:lnTo>
                  <a:lnTo>
                    <a:pt x="247" y="153"/>
                  </a:lnTo>
                  <a:lnTo>
                    <a:pt x="265" y="151"/>
                  </a:lnTo>
                  <a:lnTo>
                    <a:pt x="278" y="146"/>
                  </a:lnTo>
                  <a:lnTo>
                    <a:pt x="299" y="146"/>
                  </a:lnTo>
                  <a:lnTo>
                    <a:pt x="318" y="134"/>
                  </a:lnTo>
                  <a:lnTo>
                    <a:pt x="342" y="135"/>
                  </a:lnTo>
                  <a:lnTo>
                    <a:pt x="355" y="130"/>
                  </a:lnTo>
                  <a:lnTo>
                    <a:pt x="368" y="130"/>
                  </a:lnTo>
                  <a:lnTo>
                    <a:pt x="391" y="125"/>
                  </a:lnTo>
                  <a:lnTo>
                    <a:pt x="403" y="111"/>
                  </a:lnTo>
                  <a:lnTo>
                    <a:pt x="412" y="71"/>
                  </a:lnTo>
                  <a:lnTo>
                    <a:pt x="403" y="33"/>
                  </a:lnTo>
                  <a:lnTo>
                    <a:pt x="382" y="9"/>
                  </a:lnTo>
                  <a:lnTo>
                    <a:pt x="367" y="4"/>
                  </a:lnTo>
                  <a:lnTo>
                    <a:pt x="355" y="14"/>
                  </a:lnTo>
                  <a:lnTo>
                    <a:pt x="356" y="31"/>
                  </a:lnTo>
                  <a:lnTo>
                    <a:pt x="353" y="14"/>
                  </a:lnTo>
                  <a:lnTo>
                    <a:pt x="332" y="0"/>
                  </a:lnTo>
                  <a:lnTo>
                    <a:pt x="308" y="2"/>
                  </a:lnTo>
                  <a:lnTo>
                    <a:pt x="296" y="12"/>
                  </a:lnTo>
                  <a:lnTo>
                    <a:pt x="290" y="24"/>
                  </a:lnTo>
                  <a:lnTo>
                    <a:pt x="278" y="23"/>
                  </a:lnTo>
                  <a:lnTo>
                    <a:pt x="266" y="26"/>
                  </a:lnTo>
                  <a:lnTo>
                    <a:pt x="259" y="37"/>
                  </a:lnTo>
                  <a:lnTo>
                    <a:pt x="244" y="37"/>
                  </a:lnTo>
                  <a:lnTo>
                    <a:pt x="226" y="38"/>
                  </a:lnTo>
                  <a:lnTo>
                    <a:pt x="214" y="52"/>
                  </a:lnTo>
                  <a:lnTo>
                    <a:pt x="197" y="61"/>
                  </a:lnTo>
                  <a:close/>
                </a:path>
              </a:pathLst>
            </a:custGeom>
            <a:solidFill>
              <a:srgbClr val="ff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2230200" y="3377880"/>
              <a:ext cx="12600" cy="158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7" y="0"/>
                  </a:moveTo>
                  <a:lnTo>
                    <a:pt x="17" y="4"/>
                  </a:lnTo>
                  <a:lnTo>
                    <a:pt x="22" y="16"/>
                  </a:lnTo>
                  <a:lnTo>
                    <a:pt x="12" y="24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262240" y="3392280"/>
              <a:ext cx="13680" cy="15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7" y="1"/>
                  </a:moveTo>
                  <a:lnTo>
                    <a:pt x="24" y="6"/>
                  </a:lnTo>
                  <a:lnTo>
                    <a:pt x="24" y="22"/>
                  </a:lnTo>
                  <a:lnTo>
                    <a:pt x="14" y="24"/>
                  </a:lnTo>
                  <a:lnTo>
                    <a:pt x="4" y="24"/>
                  </a:lnTo>
                  <a:lnTo>
                    <a:pt x="0" y="13"/>
                  </a:lnTo>
                  <a:lnTo>
                    <a:pt x="2" y="5"/>
                  </a:lnTo>
                  <a:lnTo>
                    <a:pt x="10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292120" y="3400200"/>
              <a:ext cx="17280" cy="17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9" y="0"/>
                  </a:moveTo>
                  <a:lnTo>
                    <a:pt x="16" y="2"/>
                  </a:lnTo>
                  <a:lnTo>
                    <a:pt x="24" y="5"/>
                  </a:lnTo>
                  <a:lnTo>
                    <a:pt x="28" y="16"/>
                  </a:lnTo>
                  <a:lnTo>
                    <a:pt x="24" y="30"/>
                  </a:lnTo>
                  <a:lnTo>
                    <a:pt x="14" y="30"/>
                  </a:lnTo>
                  <a:lnTo>
                    <a:pt x="3" y="26"/>
                  </a:lnTo>
                  <a:lnTo>
                    <a:pt x="0" y="16"/>
                  </a:lnTo>
                  <a:lnTo>
                    <a:pt x="3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330280" y="3398760"/>
              <a:ext cx="18720" cy="172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4" y="0"/>
                  </a:moveTo>
                  <a:lnTo>
                    <a:pt x="3" y="7"/>
                  </a:lnTo>
                  <a:lnTo>
                    <a:pt x="0" y="21"/>
                  </a:lnTo>
                  <a:lnTo>
                    <a:pt x="7" y="30"/>
                  </a:lnTo>
                  <a:lnTo>
                    <a:pt x="23" y="30"/>
                  </a:lnTo>
                  <a:lnTo>
                    <a:pt x="31" y="20"/>
                  </a:lnTo>
                  <a:lnTo>
                    <a:pt x="2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363760" y="3384360"/>
              <a:ext cx="1872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24" y="1"/>
                  </a:lnTo>
                  <a:lnTo>
                    <a:pt x="30" y="7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19" y="33"/>
                  </a:lnTo>
                  <a:lnTo>
                    <a:pt x="9" y="31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398680" y="3367080"/>
              <a:ext cx="15480" cy="1728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10" y="0"/>
                  </a:moveTo>
                  <a:lnTo>
                    <a:pt x="17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26" y="17"/>
                  </a:lnTo>
                  <a:lnTo>
                    <a:pt x="21" y="26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420640" y="3332160"/>
              <a:ext cx="10800" cy="108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0"/>
                  </a:moveTo>
                  <a:lnTo>
                    <a:pt x="19" y="3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509560" y="3411360"/>
              <a:ext cx="45720" cy="181080"/>
            </a:xfrm>
            <a:custGeom>
              <a:avLst/>
              <a:gdLst/>
              <a:ahLst/>
              <a:rect l="l" t="t" r="r" b="b"/>
              <a:pathLst>
                <a:path w="80" h="272">
                  <a:moveTo>
                    <a:pt x="9" y="272"/>
                  </a:moveTo>
                  <a:lnTo>
                    <a:pt x="19" y="210"/>
                  </a:lnTo>
                  <a:lnTo>
                    <a:pt x="30" y="95"/>
                  </a:lnTo>
                  <a:lnTo>
                    <a:pt x="23" y="64"/>
                  </a:lnTo>
                  <a:lnTo>
                    <a:pt x="6" y="38"/>
                  </a:lnTo>
                  <a:lnTo>
                    <a:pt x="0" y="28"/>
                  </a:lnTo>
                  <a:lnTo>
                    <a:pt x="21" y="16"/>
                  </a:lnTo>
                  <a:lnTo>
                    <a:pt x="49" y="0"/>
                  </a:lnTo>
                  <a:lnTo>
                    <a:pt x="61" y="7"/>
                  </a:lnTo>
                  <a:lnTo>
                    <a:pt x="73" y="31"/>
                  </a:lnTo>
                  <a:lnTo>
                    <a:pt x="80" y="73"/>
                  </a:lnTo>
                  <a:lnTo>
                    <a:pt x="73" y="125"/>
                  </a:lnTo>
                  <a:lnTo>
                    <a:pt x="68" y="186"/>
                  </a:lnTo>
                  <a:lnTo>
                    <a:pt x="59" y="213"/>
                  </a:lnTo>
                  <a:lnTo>
                    <a:pt x="26" y="251"/>
                  </a:lnTo>
                  <a:lnTo>
                    <a:pt x="18" y="258"/>
                  </a:lnTo>
                  <a:lnTo>
                    <a:pt x="9" y="27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2457360" y="3430440"/>
              <a:ext cx="69480" cy="228600"/>
            </a:xfrm>
            <a:custGeom>
              <a:avLst/>
              <a:gdLst/>
              <a:ahLst/>
              <a:rect l="l" t="t" r="r" b="b"/>
              <a:pathLst>
                <a:path w="118" h="346">
                  <a:moveTo>
                    <a:pt x="0" y="345"/>
                  </a:moveTo>
                  <a:lnTo>
                    <a:pt x="16" y="249"/>
                  </a:lnTo>
                  <a:lnTo>
                    <a:pt x="40" y="185"/>
                  </a:lnTo>
                  <a:lnTo>
                    <a:pt x="56" y="102"/>
                  </a:lnTo>
                  <a:lnTo>
                    <a:pt x="50" y="57"/>
                  </a:lnTo>
                  <a:lnTo>
                    <a:pt x="40" y="22"/>
                  </a:lnTo>
                  <a:lnTo>
                    <a:pt x="88" y="0"/>
                  </a:lnTo>
                  <a:lnTo>
                    <a:pt x="94" y="10"/>
                  </a:lnTo>
                  <a:lnTo>
                    <a:pt x="111" y="36"/>
                  </a:lnTo>
                  <a:lnTo>
                    <a:pt x="118" y="67"/>
                  </a:lnTo>
                  <a:lnTo>
                    <a:pt x="107" y="182"/>
                  </a:lnTo>
                  <a:lnTo>
                    <a:pt x="97" y="244"/>
                  </a:lnTo>
                  <a:lnTo>
                    <a:pt x="59" y="291"/>
                  </a:lnTo>
                  <a:lnTo>
                    <a:pt x="50" y="305"/>
                  </a:lnTo>
                  <a:lnTo>
                    <a:pt x="12" y="343"/>
                  </a:lnTo>
                  <a:lnTo>
                    <a:pt x="2" y="34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390760" y="3444840"/>
              <a:ext cx="99720" cy="257040"/>
            </a:xfrm>
            <a:custGeom>
              <a:avLst/>
              <a:gdLst/>
              <a:ahLst/>
              <a:rect l="l" t="t" r="r" b="b"/>
              <a:pathLst>
                <a:path w="170" h="388">
                  <a:moveTo>
                    <a:pt x="78" y="368"/>
                  </a:moveTo>
                  <a:lnTo>
                    <a:pt x="111" y="333"/>
                  </a:lnTo>
                  <a:lnTo>
                    <a:pt x="114" y="323"/>
                  </a:lnTo>
                  <a:lnTo>
                    <a:pt x="130" y="227"/>
                  </a:lnTo>
                  <a:lnTo>
                    <a:pt x="154" y="163"/>
                  </a:lnTo>
                  <a:lnTo>
                    <a:pt x="170" y="80"/>
                  </a:lnTo>
                  <a:lnTo>
                    <a:pt x="164" y="35"/>
                  </a:lnTo>
                  <a:lnTo>
                    <a:pt x="154" y="0"/>
                  </a:lnTo>
                  <a:lnTo>
                    <a:pt x="138" y="7"/>
                  </a:lnTo>
                  <a:lnTo>
                    <a:pt x="78" y="32"/>
                  </a:lnTo>
                  <a:lnTo>
                    <a:pt x="71" y="35"/>
                  </a:lnTo>
                  <a:lnTo>
                    <a:pt x="81" y="37"/>
                  </a:lnTo>
                  <a:lnTo>
                    <a:pt x="90" y="59"/>
                  </a:lnTo>
                  <a:lnTo>
                    <a:pt x="86" y="110"/>
                  </a:lnTo>
                  <a:lnTo>
                    <a:pt x="59" y="196"/>
                  </a:lnTo>
                  <a:lnTo>
                    <a:pt x="15" y="305"/>
                  </a:lnTo>
                  <a:lnTo>
                    <a:pt x="0" y="381"/>
                  </a:lnTo>
                  <a:lnTo>
                    <a:pt x="0" y="388"/>
                  </a:lnTo>
                  <a:lnTo>
                    <a:pt x="78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303280" y="3468600"/>
              <a:ext cx="141120" cy="247680"/>
            </a:xfrm>
            <a:custGeom>
              <a:avLst/>
              <a:gdLst/>
              <a:ahLst/>
              <a:rect l="l" t="t" r="r" b="b"/>
              <a:pathLst>
                <a:path w="241" h="376">
                  <a:moveTo>
                    <a:pt x="222" y="0"/>
                  </a:moveTo>
                  <a:lnTo>
                    <a:pt x="232" y="2"/>
                  </a:lnTo>
                  <a:lnTo>
                    <a:pt x="241" y="24"/>
                  </a:lnTo>
                  <a:lnTo>
                    <a:pt x="237" y="75"/>
                  </a:lnTo>
                  <a:lnTo>
                    <a:pt x="210" y="161"/>
                  </a:lnTo>
                  <a:lnTo>
                    <a:pt x="166" y="270"/>
                  </a:lnTo>
                  <a:lnTo>
                    <a:pt x="151" y="346"/>
                  </a:lnTo>
                  <a:lnTo>
                    <a:pt x="151" y="353"/>
                  </a:lnTo>
                  <a:lnTo>
                    <a:pt x="82" y="371"/>
                  </a:lnTo>
                  <a:lnTo>
                    <a:pt x="0" y="376"/>
                  </a:lnTo>
                  <a:lnTo>
                    <a:pt x="7" y="315"/>
                  </a:lnTo>
                  <a:lnTo>
                    <a:pt x="45" y="232"/>
                  </a:lnTo>
                  <a:lnTo>
                    <a:pt x="104" y="125"/>
                  </a:lnTo>
                  <a:lnTo>
                    <a:pt x="120" y="66"/>
                  </a:lnTo>
                  <a:lnTo>
                    <a:pt x="120" y="50"/>
                  </a:lnTo>
                  <a:lnTo>
                    <a:pt x="123" y="49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224080" y="3501720"/>
              <a:ext cx="148680" cy="217440"/>
            </a:xfrm>
            <a:custGeom>
              <a:avLst/>
              <a:gdLst/>
              <a:ahLst/>
              <a:rect l="l" t="t" r="r" b="b"/>
              <a:pathLst>
                <a:path w="255" h="329">
                  <a:moveTo>
                    <a:pt x="222" y="12"/>
                  </a:moveTo>
                  <a:lnTo>
                    <a:pt x="213" y="26"/>
                  </a:lnTo>
                  <a:lnTo>
                    <a:pt x="151" y="51"/>
                  </a:lnTo>
                  <a:lnTo>
                    <a:pt x="113" y="54"/>
                  </a:lnTo>
                  <a:lnTo>
                    <a:pt x="106" y="85"/>
                  </a:lnTo>
                  <a:lnTo>
                    <a:pt x="75" y="154"/>
                  </a:lnTo>
                  <a:lnTo>
                    <a:pt x="23" y="241"/>
                  </a:lnTo>
                  <a:lnTo>
                    <a:pt x="9" y="276"/>
                  </a:lnTo>
                  <a:lnTo>
                    <a:pt x="0" y="319"/>
                  </a:lnTo>
                  <a:lnTo>
                    <a:pt x="83" y="329"/>
                  </a:lnTo>
                  <a:lnTo>
                    <a:pt x="135" y="326"/>
                  </a:lnTo>
                  <a:lnTo>
                    <a:pt x="142" y="265"/>
                  </a:lnTo>
                  <a:lnTo>
                    <a:pt x="180" y="182"/>
                  </a:lnTo>
                  <a:lnTo>
                    <a:pt x="239" y="75"/>
                  </a:lnTo>
                  <a:lnTo>
                    <a:pt x="255" y="16"/>
                  </a:lnTo>
                  <a:lnTo>
                    <a:pt x="255" y="0"/>
                  </a:lnTo>
                  <a:lnTo>
                    <a:pt x="222" y="1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212920" y="3500280"/>
              <a:ext cx="140760" cy="36360"/>
            </a:xfrm>
            <a:custGeom>
              <a:avLst/>
              <a:gdLst/>
              <a:ahLst/>
              <a:rect l="l" t="t" r="r" b="b"/>
              <a:pathLst>
                <a:path w="239" h="55">
                  <a:moveTo>
                    <a:pt x="43" y="41"/>
                  </a:moveTo>
                  <a:lnTo>
                    <a:pt x="116" y="55"/>
                  </a:lnTo>
                  <a:lnTo>
                    <a:pt x="130" y="55"/>
                  </a:lnTo>
                  <a:lnTo>
                    <a:pt x="168" y="52"/>
                  </a:lnTo>
                  <a:lnTo>
                    <a:pt x="230" y="27"/>
                  </a:lnTo>
                  <a:lnTo>
                    <a:pt x="239" y="13"/>
                  </a:lnTo>
                  <a:lnTo>
                    <a:pt x="178" y="17"/>
                  </a:lnTo>
                  <a:lnTo>
                    <a:pt x="85" y="8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10"/>
                  </a:lnTo>
                  <a:lnTo>
                    <a:pt x="43" y="41"/>
                  </a:lnTo>
                  <a:lnTo>
                    <a:pt x="0" y="41"/>
                  </a:lnTo>
                  <a:lnTo>
                    <a:pt x="43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149200" y="3528720"/>
              <a:ext cx="139320" cy="184320"/>
            </a:xfrm>
            <a:custGeom>
              <a:avLst/>
              <a:gdLst/>
              <a:ahLst/>
              <a:rect l="l" t="t" r="r" b="b"/>
              <a:pathLst>
                <a:path w="241" h="279">
                  <a:moveTo>
                    <a:pt x="111" y="0"/>
                  </a:moveTo>
                  <a:lnTo>
                    <a:pt x="102" y="38"/>
                  </a:lnTo>
                  <a:lnTo>
                    <a:pt x="37" y="135"/>
                  </a:lnTo>
                  <a:lnTo>
                    <a:pt x="14" y="189"/>
                  </a:lnTo>
                  <a:lnTo>
                    <a:pt x="0" y="253"/>
                  </a:lnTo>
                  <a:lnTo>
                    <a:pt x="128" y="279"/>
                  </a:lnTo>
                  <a:lnTo>
                    <a:pt x="137" y="236"/>
                  </a:lnTo>
                  <a:lnTo>
                    <a:pt x="151" y="201"/>
                  </a:lnTo>
                  <a:lnTo>
                    <a:pt x="203" y="114"/>
                  </a:lnTo>
                  <a:lnTo>
                    <a:pt x="234" y="45"/>
                  </a:lnTo>
                  <a:lnTo>
                    <a:pt x="241" y="14"/>
                  </a:lnTo>
                  <a:lnTo>
                    <a:pt x="227" y="14"/>
                  </a:lnTo>
                  <a:lnTo>
                    <a:pt x="154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65320" y="3511440"/>
              <a:ext cx="147240" cy="183960"/>
            </a:xfrm>
            <a:custGeom>
              <a:avLst/>
              <a:gdLst/>
              <a:ahLst/>
              <a:rect l="l" t="t" r="r" b="b"/>
              <a:pathLst>
                <a:path w="255" h="277">
                  <a:moveTo>
                    <a:pt x="255" y="24"/>
                  </a:moveTo>
                  <a:lnTo>
                    <a:pt x="222" y="14"/>
                  </a:lnTo>
                  <a:lnTo>
                    <a:pt x="179" y="10"/>
                  </a:lnTo>
                  <a:lnTo>
                    <a:pt x="137" y="2"/>
                  </a:lnTo>
                  <a:lnTo>
                    <a:pt x="94" y="0"/>
                  </a:lnTo>
                  <a:lnTo>
                    <a:pt x="70" y="80"/>
                  </a:lnTo>
                  <a:lnTo>
                    <a:pt x="11" y="204"/>
                  </a:lnTo>
                  <a:lnTo>
                    <a:pt x="0" y="268"/>
                  </a:lnTo>
                  <a:lnTo>
                    <a:pt x="58" y="268"/>
                  </a:lnTo>
                  <a:lnTo>
                    <a:pt x="144" y="277"/>
                  </a:lnTo>
                  <a:lnTo>
                    <a:pt x="158" y="213"/>
                  </a:lnTo>
                  <a:lnTo>
                    <a:pt x="181" y="159"/>
                  </a:lnTo>
                  <a:lnTo>
                    <a:pt x="246" y="62"/>
                  </a:lnTo>
                  <a:lnTo>
                    <a:pt x="25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146320" y="3473280"/>
              <a:ext cx="97920" cy="5544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66" y="40"/>
                  </a:moveTo>
                  <a:lnTo>
                    <a:pt x="35" y="0"/>
                  </a:lnTo>
                  <a:lnTo>
                    <a:pt x="0" y="59"/>
                  </a:lnTo>
                  <a:lnTo>
                    <a:pt x="42" y="67"/>
                  </a:lnTo>
                  <a:lnTo>
                    <a:pt x="85" y="71"/>
                  </a:lnTo>
                  <a:lnTo>
                    <a:pt x="118" y="81"/>
                  </a:lnTo>
                  <a:lnTo>
                    <a:pt x="161" y="81"/>
                  </a:lnTo>
                  <a:lnTo>
                    <a:pt x="172" y="50"/>
                  </a:lnTo>
                  <a:lnTo>
                    <a:pt x="170" y="41"/>
                  </a:lnTo>
                  <a:lnTo>
                    <a:pt x="16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60280" y="3455640"/>
              <a:ext cx="104760" cy="63720"/>
            </a:xfrm>
            <a:custGeom>
              <a:avLst/>
              <a:gdLst/>
              <a:ahLst/>
              <a:rect l="l" t="t" r="r" b="b"/>
              <a:pathLst>
                <a:path w="178" h="95">
                  <a:moveTo>
                    <a:pt x="178" y="28"/>
                  </a:moveTo>
                  <a:lnTo>
                    <a:pt x="148" y="21"/>
                  </a:lnTo>
                  <a:lnTo>
                    <a:pt x="77" y="4"/>
                  </a:lnTo>
                  <a:lnTo>
                    <a:pt x="36" y="0"/>
                  </a:lnTo>
                  <a:lnTo>
                    <a:pt x="31" y="16"/>
                  </a:lnTo>
                  <a:lnTo>
                    <a:pt x="17" y="40"/>
                  </a:lnTo>
                  <a:lnTo>
                    <a:pt x="0" y="95"/>
                  </a:lnTo>
                  <a:lnTo>
                    <a:pt x="76" y="85"/>
                  </a:lnTo>
                  <a:lnTo>
                    <a:pt x="100" y="85"/>
                  </a:lnTo>
                  <a:lnTo>
                    <a:pt x="143" y="87"/>
                  </a:lnTo>
                  <a:lnTo>
                    <a:pt x="17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1971720" y="3449520"/>
              <a:ext cx="110520" cy="9504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56" y="6"/>
                  </a:moveTo>
                  <a:lnTo>
                    <a:pt x="26" y="78"/>
                  </a:lnTo>
                  <a:lnTo>
                    <a:pt x="0" y="146"/>
                  </a:lnTo>
                  <a:lnTo>
                    <a:pt x="99" y="122"/>
                  </a:lnTo>
                  <a:lnTo>
                    <a:pt x="121" y="115"/>
                  </a:lnTo>
                  <a:lnTo>
                    <a:pt x="153" y="104"/>
                  </a:lnTo>
                  <a:lnTo>
                    <a:pt x="170" y="49"/>
                  </a:lnTo>
                  <a:lnTo>
                    <a:pt x="184" y="25"/>
                  </a:lnTo>
                  <a:lnTo>
                    <a:pt x="189" y="9"/>
                  </a:lnTo>
                  <a:lnTo>
                    <a:pt x="170" y="7"/>
                  </a:lnTo>
                  <a:lnTo>
                    <a:pt x="147" y="2"/>
                  </a:lnTo>
                  <a:lnTo>
                    <a:pt x="113" y="0"/>
                  </a:lnTo>
                  <a:lnTo>
                    <a:pt x="89" y="6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1965240" y="3336840"/>
              <a:ext cx="82080" cy="115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38"/>
                  </a:moveTo>
                  <a:lnTo>
                    <a:pt x="4" y="128"/>
                  </a:lnTo>
                  <a:lnTo>
                    <a:pt x="16" y="116"/>
                  </a:lnTo>
                  <a:lnTo>
                    <a:pt x="69" y="69"/>
                  </a:lnTo>
                  <a:lnTo>
                    <a:pt x="97" y="29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5" y="14"/>
                  </a:lnTo>
                  <a:lnTo>
                    <a:pt x="83" y="81"/>
                  </a:lnTo>
                  <a:lnTo>
                    <a:pt x="92" y="97"/>
                  </a:lnTo>
                  <a:lnTo>
                    <a:pt x="104" y="86"/>
                  </a:lnTo>
                  <a:lnTo>
                    <a:pt x="130" y="41"/>
                  </a:lnTo>
                  <a:lnTo>
                    <a:pt x="142" y="52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07" y="107"/>
                  </a:lnTo>
                  <a:lnTo>
                    <a:pt x="101" y="121"/>
                  </a:lnTo>
                  <a:lnTo>
                    <a:pt x="101" y="119"/>
                  </a:lnTo>
                  <a:lnTo>
                    <a:pt x="113" y="119"/>
                  </a:lnTo>
                  <a:lnTo>
                    <a:pt x="126" y="109"/>
                  </a:lnTo>
                  <a:lnTo>
                    <a:pt x="139" y="98"/>
                  </a:lnTo>
                  <a:lnTo>
                    <a:pt x="144" y="112"/>
                  </a:lnTo>
                  <a:lnTo>
                    <a:pt x="116" y="140"/>
                  </a:lnTo>
                  <a:lnTo>
                    <a:pt x="130" y="138"/>
                  </a:lnTo>
                  <a:lnTo>
                    <a:pt x="132" y="147"/>
                  </a:lnTo>
                  <a:lnTo>
                    <a:pt x="125" y="156"/>
                  </a:lnTo>
                  <a:lnTo>
                    <a:pt x="125" y="169"/>
                  </a:lnTo>
                  <a:lnTo>
                    <a:pt x="101" y="175"/>
                  </a:lnTo>
                  <a:lnTo>
                    <a:pt x="68" y="175"/>
                  </a:lnTo>
                  <a:lnTo>
                    <a:pt x="52" y="171"/>
                  </a:lnTo>
                  <a:lnTo>
                    <a:pt x="12" y="152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1973160" y="3511440"/>
              <a:ext cx="145800" cy="196920"/>
            </a:xfrm>
            <a:custGeom>
              <a:avLst/>
              <a:gdLst/>
              <a:ahLst/>
              <a:rect l="l" t="t" r="r" b="b"/>
              <a:pathLst>
                <a:path w="249" h="298">
                  <a:moveTo>
                    <a:pt x="149" y="10"/>
                  </a:moveTo>
                  <a:lnTo>
                    <a:pt x="117" y="21"/>
                  </a:lnTo>
                  <a:lnTo>
                    <a:pt x="95" y="28"/>
                  </a:lnTo>
                  <a:lnTo>
                    <a:pt x="91" y="40"/>
                  </a:lnTo>
                  <a:lnTo>
                    <a:pt x="67" y="90"/>
                  </a:lnTo>
                  <a:lnTo>
                    <a:pt x="53" y="130"/>
                  </a:lnTo>
                  <a:lnTo>
                    <a:pt x="7" y="246"/>
                  </a:lnTo>
                  <a:lnTo>
                    <a:pt x="0" y="275"/>
                  </a:lnTo>
                  <a:lnTo>
                    <a:pt x="0" y="292"/>
                  </a:lnTo>
                  <a:lnTo>
                    <a:pt x="1" y="298"/>
                  </a:lnTo>
                  <a:lnTo>
                    <a:pt x="114" y="277"/>
                  </a:lnTo>
                  <a:lnTo>
                    <a:pt x="155" y="268"/>
                  </a:lnTo>
                  <a:lnTo>
                    <a:pt x="166" y="204"/>
                  </a:lnTo>
                  <a:lnTo>
                    <a:pt x="225" y="80"/>
                  </a:lnTo>
                  <a:lnTo>
                    <a:pt x="249" y="0"/>
                  </a:lnTo>
                  <a:lnTo>
                    <a:pt x="225" y="0"/>
                  </a:lnTo>
                  <a:lnTo>
                    <a:pt x="149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1884240" y="3528720"/>
              <a:ext cx="145800" cy="227160"/>
            </a:xfrm>
            <a:custGeom>
              <a:avLst/>
              <a:gdLst/>
              <a:ahLst/>
              <a:rect l="l" t="t" r="r" b="b"/>
              <a:pathLst>
                <a:path w="248" h="341">
                  <a:moveTo>
                    <a:pt x="75" y="41"/>
                  </a:moveTo>
                  <a:lnTo>
                    <a:pt x="99" y="38"/>
                  </a:lnTo>
                  <a:lnTo>
                    <a:pt x="149" y="24"/>
                  </a:lnTo>
                  <a:lnTo>
                    <a:pt x="248" y="0"/>
                  </a:lnTo>
                  <a:lnTo>
                    <a:pt x="244" y="12"/>
                  </a:lnTo>
                  <a:lnTo>
                    <a:pt x="220" y="62"/>
                  </a:lnTo>
                  <a:lnTo>
                    <a:pt x="206" y="102"/>
                  </a:lnTo>
                  <a:lnTo>
                    <a:pt x="160" y="218"/>
                  </a:lnTo>
                  <a:lnTo>
                    <a:pt x="153" y="247"/>
                  </a:lnTo>
                  <a:lnTo>
                    <a:pt x="153" y="264"/>
                  </a:lnTo>
                  <a:lnTo>
                    <a:pt x="154" y="270"/>
                  </a:lnTo>
                  <a:lnTo>
                    <a:pt x="0" y="341"/>
                  </a:lnTo>
                  <a:lnTo>
                    <a:pt x="12" y="285"/>
                  </a:lnTo>
                  <a:lnTo>
                    <a:pt x="33" y="202"/>
                  </a:lnTo>
                  <a:lnTo>
                    <a:pt x="54" y="123"/>
                  </a:lnTo>
                  <a:lnTo>
                    <a:pt x="75" y="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1773000" y="3557520"/>
              <a:ext cx="153720" cy="234720"/>
            </a:xfrm>
            <a:custGeom>
              <a:avLst/>
              <a:gdLst/>
              <a:ahLst/>
              <a:rect l="l" t="t" r="r" b="b"/>
              <a:pathLst>
                <a:path w="265" h="353">
                  <a:moveTo>
                    <a:pt x="0" y="353"/>
                  </a:moveTo>
                  <a:lnTo>
                    <a:pt x="90" y="341"/>
                  </a:lnTo>
                  <a:lnTo>
                    <a:pt x="190" y="300"/>
                  </a:lnTo>
                  <a:lnTo>
                    <a:pt x="202" y="244"/>
                  </a:lnTo>
                  <a:lnTo>
                    <a:pt x="223" y="161"/>
                  </a:lnTo>
                  <a:lnTo>
                    <a:pt x="244" y="82"/>
                  </a:lnTo>
                  <a:lnTo>
                    <a:pt x="265" y="0"/>
                  </a:lnTo>
                  <a:lnTo>
                    <a:pt x="215" y="7"/>
                  </a:lnTo>
                  <a:lnTo>
                    <a:pt x="128" y="12"/>
                  </a:lnTo>
                  <a:lnTo>
                    <a:pt x="116" y="31"/>
                  </a:lnTo>
                  <a:lnTo>
                    <a:pt x="78" y="120"/>
                  </a:lnTo>
                  <a:lnTo>
                    <a:pt x="67" y="177"/>
                  </a:lnTo>
                  <a:lnTo>
                    <a:pt x="43" y="284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1676520" y="3541680"/>
              <a:ext cx="171360" cy="250560"/>
            </a:xfrm>
            <a:custGeom>
              <a:avLst/>
              <a:gdLst/>
              <a:ahLst/>
              <a:rect l="l" t="t" r="r" b="b"/>
              <a:pathLst>
                <a:path w="294" h="377">
                  <a:moveTo>
                    <a:pt x="166" y="12"/>
                  </a:moveTo>
                  <a:lnTo>
                    <a:pt x="252" y="28"/>
                  </a:lnTo>
                  <a:lnTo>
                    <a:pt x="294" y="36"/>
                  </a:lnTo>
                  <a:lnTo>
                    <a:pt x="282" y="55"/>
                  </a:lnTo>
                  <a:lnTo>
                    <a:pt x="244" y="144"/>
                  </a:lnTo>
                  <a:lnTo>
                    <a:pt x="233" y="201"/>
                  </a:lnTo>
                  <a:lnTo>
                    <a:pt x="209" y="308"/>
                  </a:lnTo>
                  <a:lnTo>
                    <a:pt x="166" y="377"/>
                  </a:lnTo>
                  <a:lnTo>
                    <a:pt x="143" y="372"/>
                  </a:lnTo>
                  <a:lnTo>
                    <a:pt x="52" y="351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86" y="336"/>
                  </a:lnTo>
                  <a:lnTo>
                    <a:pt x="114" y="341"/>
                  </a:lnTo>
                  <a:lnTo>
                    <a:pt x="119" y="336"/>
                  </a:lnTo>
                  <a:lnTo>
                    <a:pt x="91" y="327"/>
                  </a:lnTo>
                  <a:lnTo>
                    <a:pt x="0" y="293"/>
                  </a:lnTo>
                  <a:lnTo>
                    <a:pt x="3" y="280"/>
                  </a:lnTo>
                  <a:lnTo>
                    <a:pt x="83" y="299"/>
                  </a:lnTo>
                  <a:lnTo>
                    <a:pt x="126" y="306"/>
                  </a:lnTo>
                  <a:lnTo>
                    <a:pt x="131" y="296"/>
                  </a:lnTo>
                  <a:lnTo>
                    <a:pt x="17" y="258"/>
                  </a:lnTo>
                  <a:lnTo>
                    <a:pt x="19" y="241"/>
                  </a:lnTo>
                  <a:lnTo>
                    <a:pt x="102" y="261"/>
                  </a:lnTo>
                  <a:lnTo>
                    <a:pt x="135" y="265"/>
                  </a:lnTo>
                  <a:lnTo>
                    <a:pt x="135" y="258"/>
                  </a:lnTo>
                  <a:lnTo>
                    <a:pt x="74" y="232"/>
                  </a:lnTo>
                  <a:lnTo>
                    <a:pt x="26" y="209"/>
                  </a:lnTo>
                  <a:lnTo>
                    <a:pt x="31" y="196"/>
                  </a:lnTo>
                  <a:lnTo>
                    <a:pt x="60" y="204"/>
                  </a:lnTo>
                  <a:lnTo>
                    <a:pt x="135" y="222"/>
                  </a:lnTo>
                  <a:lnTo>
                    <a:pt x="138" y="215"/>
                  </a:lnTo>
                  <a:lnTo>
                    <a:pt x="123" y="206"/>
                  </a:lnTo>
                  <a:lnTo>
                    <a:pt x="50" y="168"/>
                  </a:lnTo>
                  <a:lnTo>
                    <a:pt x="45" y="151"/>
                  </a:lnTo>
                  <a:lnTo>
                    <a:pt x="67" y="157"/>
                  </a:lnTo>
                  <a:lnTo>
                    <a:pt x="123" y="173"/>
                  </a:lnTo>
                  <a:lnTo>
                    <a:pt x="157" y="175"/>
                  </a:lnTo>
                  <a:lnTo>
                    <a:pt x="159" y="163"/>
                  </a:lnTo>
                  <a:lnTo>
                    <a:pt x="85" y="128"/>
                  </a:lnTo>
                  <a:lnTo>
                    <a:pt x="60" y="114"/>
                  </a:lnTo>
                  <a:lnTo>
                    <a:pt x="71" y="93"/>
                  </a:lnTo>
                  <a:lnTo>
                    <a:pt x="126" y="114"/>
                  </a:lnTo>
                  <a:lnTo>
                    <a:pt x="185" y="128"/>
                  </a:lnTo>
                  <a:lnTo>
                    <a:pt x="188" y="114"/>
                  </a:lnTo>
                  <a:lnTo>
                    <a:pt x="119" y="80"/>
                  </a:lnTo>
                  <a:lnTo>
                    <a:pt x="88" y="55"/>
                  </a:lnTo>
                  <a:lnTo>
                    <a:pt x="93" y="43"/>
                  </a:lnTo>
                  <a:lnTo>
                    <a:pt x="178" y="69"/>
                  </a:lnTo>
                  <a:lnTo>
                    <a:pt x="211" y="71"/>
                  </a:lnTo>
                  <a:lnTo>
                    <a:pt x="213" y="59"/>
                  </a:lnTo>
                  <a:lnTo>
                    <a:pt x="192" y="52"/>
                  </a:lnTo>
                  <a:lnTo>
                    <a:pt x="140" y="29"/>
                  </a:lnTo>
                  <a:lnTo>
                    <a:pt x="117" y="14"/>
                  </a:lnTo>
                  <a:lnTo>
                    <a:pt x="123" y="0"/>
                  </a:lnTo>
                  <a:lnTo>
                    <a:pt x="16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436840" y="3533760"/>
              <a:ext cx="128160" cy="155520"/>
            </a:xfrm>
            <a:custGeom>
              <a:avLst/>
              <a:gdLst/>
              <a:ahLst/>
              <a:rect l="l" t="t" r="r" b="b"/>
              <a:pathLst>
                <a:path w="220" h="234">
                  <a:moveTo>
                    <a:pt x="36" y="189"/>
                  </a:moveTo>
                  <a:lnTo>
                    <a:pt x="33" y="199"/>
                  </a:lnTo>
                  <a:lnTo>
                    <a:pt x="0" y="234"/>
                  </a:lnTo>
                  <a:lnTo>
                    <a:pt x="31" y="225"/>
                  </a:lnTo>
                  <a:lnTo>
                    <a:pt x="86" y="197"/>
                  </a:lnTo>
                  <a:lnTo>
                    <a:pt x="150" y="152"/>
                  </a:lnTo>
                  <a:lnTo>
                    <a:pt x="192" y="98"/>
                  </a:lnTo>
                  <a:lnTo>
                    <a:pt x="213" y="53"/>
                  </a:lnTo>
                  <a:lnTo>
                    <a:pt x="220" y="27"/>
                  </a:lnTo>
                  <a:lnTo>
                    <a:pt x="216" y="2"/>
                  </a:lnTo>
                  <a:lnTo>
                    <a:pt x="208" y="0"/>
                  </a:lnTo>
                  <a:lnTo>
                    <a:pt x="199" y="0"/>
                  </a:lnTo>
                  <a:lnTo>
                    <a:pt x="192" y="2"/>
                  </a:lnTo>
                  <a:lnTo>
                    <a:pt x="183" y="29"/>
                  </a:lnTo>
                  <a:lnTo>
                    <a:pt x="150" y="67"/>
                  </a:lnTo>
                  <a:lnTo>
                    <a:pt x="142" y="74"/>
                  </a:lnTo>
                  <a:lnTo>
                    <a:pt x="133" y="88"/>
                  </a:lnTo>
                  <a:lnTo>
                    <a:pt x="95" y="135"/>
                  </a:lnTo>
                  <a:lnTo>
                    <a:pt x="86" y="149"/>
                  </a:lnTo>
                  <a:lnTo>
                    <a:pt x="48" y="187"/>
                  </a:lnTo>
                  <a:lnTo>
                    <a:pt x="38" y="190"/>
                  </a:lnTo>
                  <a:lnTo>
                    <a:pt x="36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1860480" y="3535200"/>
              <a:ext cx="1034640" cy="1379520"/>
            </a:xfrm>
            <a:custGeom>
              <a:avLst/>
              <a:gdLst/>
              <a:ahLst/>
              <a:rect l="l" t="t" r="r" b="b"/>
              <a:pathLst>
                <a:path w="1767" h="2082">
                  <a:moveTo>
                    <a:pt x="358" y="2082"/>
                  </a:moveTo>
                  <a:lnTo>
                    <a:pt x="249" y="2082"/>
                  </a:lnTo>
                  <a:lnTo>
                    <a:pt x="214" y="2036"/>
                  </a:lnTo>
                  <a:lnTo>
                    <a:pt x="138" y="1913"/>
                  </a:lnTo>
                  <a:lnTo>
                    <a:pt x="64" y="1776"/>
                  </a:lnTo>
                  <a:lnTo>
                    <a:pt x="32" y="1705"/>
                  </a:lnTo>
                  <a:lnTo>
                    <a:pt x="13" y="1630"/>
                  </a:lnTo>
                  <a:lnTo>
                    <a:pt x="0" y="1528"/>
                  </a:lnTo>
                  <a:lnTo>
                    <a:pt x="0" y="1405"/>
                  </a:lnTo>
                  <a:lnTo>
                    <a:pt x="20" y="1289"/>
                  </a:lnTo>
                  <a:lnTo>
                    <a:pt x="71" y="1144"/>
                  </a:lnTo>
                  <a:lnTo>
                    <a:pt x="112" y="1054"/>
                  </a:lnTo>
                  <a:lnTo>
                    <a:pt x="167" y="969"/>
                  </a:lnTo>
                  <a:lnTo>
                    <a:pt x="231" y="889"/>
                  </a:lnTo>
                  <a:lnTo>
                    <a:pt x="320" y="812"/>
                  </a:lnTo>
                  <a:lnTo>
                    <a:pt x="365" y="786"/>
                  </a:lnTo>
                  <a:lnTo>
                    <a:pt x="344" y="763"/>
                  </a:lnTo>
                  <a:lnTo>
                    <a:pt x="320" y="732"/>
                  </a:lnTo>
                  <a:lnTo>
                    <a:pt x="302" y="697"/>
                  </a:lnTo>
                  <a:lnTo>
                    <a:pt x="280" y="623"/>
                  </a:lnTo>
                  <a:lnTo>
                    <a:pt x="280" y="573"/>
                  </a:lnTo>
                  <a:lnTo>
                    <a:pt x="261" y="569"/>
                  </a:lnTo>
                  <a:lnTo>
                    <a:pt x="206" y="560"/>
                  </a:lnTo>
                  <a:lnTo>
                    <a:pt x="145" y="535"/>
                  </a:lnTo>
                  <a:lnTo>
                    <a:pt x="91" y="491"/>
                  </a:lnTo>
                  <a:lnTo>
                    <a:pt x="65" y="451"/>
                  </a:lnTo>
                  <a:lnTo>
                    <a:pt x="48" y="382"/>
                  </a:lnTo>
                  <a:lnTo>
                    <a:pt x="39" y="334"/>
                  </a:lnTo>
                  <a:lnTo>
                    <a:pt x="193" y="263"/>
                  </a:lnTo>
                  <a:lnTo>
                    <a:pt x="306" y="242"/>
                  </a:lnTo>
                  <a:lnTo>
                    <a:pt x="347" y="233"/>
                  </a:lnTo>
                  <a:lnTo>
                    <a:pt x="405" y="233"/>
                  </a:lnTo>
                  <a:lnTo>
                    <a:pt x="491" y="242"/>
                  </a:lnTo>
                  <a:lnTo>
                    <a:pt x="619" y="268"/>
                  </a:lnTo>
                  <a:lnTo>
                    <a:pt x="702" y="278"/>
                  </a:lnTo>
                  <a:lnTo>
                    <a:pt x="754" y="275"/>
                  </a:lnTo>
                  <a:lnTo>
                    <a:pt x="836" y="270"/>
                  </a:lnTo>
                  <a:lnTo>
                    <a:pt x="905" y="252"/>
                  </a:lnTo>
                  <a:lnTo>
                    <a:pt x="945" y="242"/>
                  </a:lnTo>
                  <a:lnTo>
                    <a:pt x="983" y="232"/>
                  </a:lnTo>
                  <a:lnTo>
                    <a:pt x="1014" y="223"/>
                  </a:lnTo>
                  <a:lnTo>
                    <a:pt x="1069" y="195"/>
                  </a:lnTo>
                  <a:lnTo>
                    <a:pt x="1133" y="150"/>
                  </a:lnTo>
                  <a:lnTo>
                    <a:pt x="1175" y="96"/>
                  </a:lnTo>
                  <a:lnTo>
                    <a:pt x="1196" y="51"/>
                  </a:lnTo>
                  <a:lnTo>
                    <a:pt x="1203" y="25"/>
                  </a:lnTo>
                  <a:lnTo>
                    <a:pt x="1199" y="0"/>
                  </a:lnTo>
                  <a:lnTo>
                    <a:pt x="1249" y="62"/>
                  </a:lnTo>
                  <a:lnTo>
                    <a:pt x="1284" y="103"/>
                  </a:lnTo>
                  <a:lnTo>
                    <a:pt x="1305" y="143"/>
                  </a:lnTo>
                  <a:lnTo>
                    <a:pt x="1319" y="133"/>
                  </a:lnTo>
                  <a:lnTo>
                    <a:pt x="1365" y="107"/>
                  </a:lnTo>
                  <a:lnTo>
                    <a:pt x="1421" y="96"/>
                  </a:lnTo>
                  <a:lnTo>
                    <a:pt x="1483" y="112"/>
                  </a:lnTo>
                  <a:lnTo>
                    <a:pt x="1499" y="121"/>
                  </a:lnTo>
                  <a:lnTo>
                    <a:pt x="1551" y="162"/>
                  </a:lnTo>
                  <a:lnTo>
                    <a:pt x="1594" y="211"/>
                  </a:lnTo>
                  <a:lnTo>
                    <a:pt x="1622" y="256"/>
                  </a:lnTo>
                  <a:lnTo>
                    <a:pt x="1634" y="289"/>
                  </a:lnTo>
                  <a:lnTo>
                    <a:pt x="1642" y="346"/>
                  </a:lnTo>
                  <a:lnTo>
                    <a:pt x="1641" y="389"/>
                  </a:lnTo>
                  <a:lnTo>
                    <a:pt x="1629" y="436"/>
                  </a:lnTo>
                  <a:lnTo>
                    <a:pt x="1604" y="493"/>
                  </a:lnTo>
                  <a:lnTo>
                    <a:pt x="1587" y="515"/>
                  </a:lnTo>
                  <a:lnTo>
                    <a:pt x="1577" y="528"/>
                  </a:lnTo>
                  <a:lnTo>
                    <a:pt x="1530" y="557"/>
                  </a:lnTo>
                  <a:lnTo>
                    <a:pt x="1473" y="571"/>
                  </a:lnTo>
                  <a:lnTo>
                    <a:pt x="1431" y="574"/>
                  </a:lnTo>
                  <a:lnTo>
                    <a:pt x="1421" y="663"/>
                  </a:lnTo>
                  <a:lnTo>
                    <a:pt x="1391" y="758"/>
                  </a:lnTo>
                  <a:lnTo>
                    <a:pt x="1371" y="794"/>
                  </a:lnTo>
                  <a:lnTo>
                    <a:pt x="1447" y="836"/>
                  </a:lnTo>
                  <a:lnTo>
                    <a:pt x="1544" y="914"/>
                  </a:lnTo>
                  <a:lnTo>
                    <a:pt x="1589" y="966"/>
                  </a:lnTo>
                  <a:lnTo>
                    <a:pt x="1634" y="1028"/>
                  </a:lnTo>
                  <a:lnTo>
                    <a:pt x="1665" y="1083"/>
                  </a:lnTo>
                  <a:lnTo>
                    <a:pt x="1689" y="1144"/>
                  </a:lnTo>
                  <a:lnTo>
                    <a:pt x="1736" y="1274"/>
                  </a:lnTo>
                  <a:lnTo>
                    <a:pt x="1758" y="1395"/>
                  </a:lnTo>
                  <a:lnTo>
                    <a:pt x="1767" y="1499"/>
                  </a:lnTo>
                  <a:lnTo>
                    <a:pt x="1767" y="1630"/>
                  </a:lnTo>
                  <a:lnTo>
                    <a:pt x="1755" y="1705"/>
                  </a:lnTo>
                  <a:lnTo>
                    <a:pt x="1722" y="1814"/>
                  </a:lnTo>
                  <a:lnTo>
                    <a:pt x="1712" y="1838"/>
                  </a:lnTo>
                  <a:lnTo>
                    <a:pt x="1680" y="1904"/>
                  </a:lnTo>
                  <a:lnTo>
                    <a:pt x="1634" y="1982"/>
                  </a:lnTo>
                  <a:lnTo>
                    <a:pt x="1623" y="1994"/>
                  </a:lnTo>
                  <a:lnTo>
                    <a:pt x="1585" y="2053"/>
                  </a:lnTo>
                  <a:lnTo>
                    <a:pt x="1582" y="2063"/>
                  </a:lnTo>
                  <a:lnTo>
                    <a:pt x="1206" y="2069"/>
                  </a:lnTo>
                  <a:lnTo>
                    <a:pt x="768" y="2079"/>
                  </a:lnTo>
                  <a:lnTo>
                    <a:pt x="657" y="2075"/>
                  </a:lnTo>
                  <a:lnTo>
                    <a:pt x="534" y="2077"/>
                  </a:lnTo>
                  <a:lnTo>
                    <a:pt x="463" y="2082"/>
                  </a:lnTo>
                  <a:lnTo>
                    <a:pt x="358" y="20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1927080" y="3429000"/>
              <a:ext cx="75960" cy="128520"/>
            </a:xfrm>
            <a:custGeom>
              <a:avLst/>
              <a:gdLst/>
              <a:ahLst/>
              <a:rect l="l" t="t" r="r" b="b"/>
              <a:pathLst>
                <a:path w="130" h="194">
                  <a:moveTo>
                    <a:pt x="0" y="194"/>
                  </a:moveTo>
                  <a:lnTo>
                    <a:pt x="8" y="163"/>
                  </a:lnTo>
                  <a:lnTo>
                    <a:pt x="47" y="37"/>
                  </a:lnTo>
                  <a:lnTo>
                    <a:pt x="62" y="0"/>
                  </a:lnTo>
                  <a:lnTo>
                    <a:pt x="74" y="14"/>
                  </a:lnTo>
                  <a:lnTo>
                    <a:pt x="114" y="33"/>
                  </a:lnTo>
                  <a:lnTo>
                    <a:pt x="130" y="37"/>
                  </a:lnTo>
                  <a:lnTo>
                    <a:pt x="100" y="109"/>
                  </a:lnTo>
                  <a:lnTo>
                    <a:pt x="74" y="177"/>
                  </a:lnTo>
                  <a:lnTo>
                    <a:pt x="24" y="1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101680" y="3689280"/>
              <a:ext cx="7560" cy="68040"/>
            </a:xfrm>
            <a:custGeom>
              <a:avLst/>
              <a:gdLst/>
              <a:ahLst/>
              <a:rect l="l" t="t" r="r" b="b"/>
              <a:pathLst>
                <a:path w="16" h="102">
                  <a:moveTo>
                    <a:pt x="0" y="0"/>
                  </a:moveTo>
                  <a:lnTo>
                    <a:pt x="14" y="76"/>
                  </a:lnTo>
                  <a:lnTo>
                    <a:pt x="16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60280" y="3455640"/>
              <a:ext cx="21960" cy="637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0"/>
                  </a:moveTo>
                  <a:lnTo>
                    <a:pt x="31" y="16"/>
                  </a:lnTo>
                  <a:lnTo>
                    <a:pt x="17" y="40"/>
                  </a:lnTo>
                  <a:lnTo>
                    <a:pt x="0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074680" y="4055760"/>
              <a:ext cx="63360" cy="4788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0" y="0"/>
                  </a:moveTo>
                  <a:lnTo>
                    <a:pt x="74" y="53"/>
                  </a:lnTo>
                  <a:lnTo>
                    <a:pt x="109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549520" y="4074840"/>
              <a:ext cx="101160" cy="47880"/>
            </a:xfrm>
            <a:custGeom>
              <a:avLst/>
              <a:gdLst/>
              <a:ahLst/>
              <a:rect l="l" t="t" r="r" b="b"/>
              <a:pathLst>
                <a:path w="175" h="73">
                  <a:moveTo>
                    <a:pt x="175" y="0"/>
                  </a:moveTo>
                  <a:lnTo>
                    <a:pt x="135" y="33"/>
                  </a:lnTo>
                  <a:lnTo>
                    <a:pt x="73" y="62"/>
                  </a:lnTo>
                  <a:lnTo>
                    <a:pt x="5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608200" y="3803400"/>
              <a:ext cx="432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598480" y="3759120"/>
              <a:ext cx="61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590560" y="3630600"/>
              <a:ext cx="34560" cy="109440"/>
            </a:xfrm>
            <a:custGeom>
              <a:avLst/>
              <a:gdLst/>
              <a:ahLst/>
              <a:rect l="l" t="t" r="r" b="b"/>
              <a:pathLst>
                <a:path w="59" h="166">
                  <a:moveTo>
                    <a:pt x="59" y="0"/>
                  </a:moveTo>
                  <a:lnTo>
                    <a:pt x="50" y="12"/>
                  </a:lnTo>
                  <a:lnTo>
                    <a:pt x="22" y="54"/>
                  </a:lnTo>
                  <a:lnTo>
                    <a:pt x="3" y="102"/>
                  </a:lnTo>
                  <a:lnTo>
                    <a:pt x="0" y="134"/>
                  </a:lnTo>
                  <a:lnTo>
                    <a:pt x="3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 flipV="1">
              <a:off x="2252520" y="3342960"/>
              <a:ext cx="288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225520" y="3296880"/>
              <a:ext cx="43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 flipV="1">
              <a:off x="2297160" y="3331800"/>
              <a:ext cx="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 flipV="1">
              <a:off x="2325600" y="3332160"/>
              <a:ext cx="108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 flipV="1">
              <a:off x="2274840" y="3342960"/>
              <a:ext cx="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260440" y="3281040"/>
              <a:ext cx="28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279520" y="3273120"/>
              <a:ext cx="1080" cy="1584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2" y="25"/>
                  </a:move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1927080" y="3429000"/>
              <a:ext cx="37800" cy="128520"/>
            </a:xfrm>
            <a:custGeom>
              <a:avLst/>
              <a:gdLst/>
              <a:ahLst/>
              <a:rect l="l" t="t" r="r" b="b"/>
              <a:pathLst>
                <a:path w="62" h="194">
                  <a:moveTo>
                    <a:pt x="62" y="0"/>
                  </a:moveTo>
                  <a:lnTo>
                    <a:pt x="47" y="37"/>
                  </a:lnTo>
                  <a:lnTo>
                    <a:pt x="8" y="163"/>
                  </a:lnTo>
                  <a:lnTo>
                    <a:pt x="0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 flipV="1">
              <a:off x="2198520" y="3358440"/>
              <a:ext cx="28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 flipV="1">
              <a:off x="2173320" y="336384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2038320" y="3860640"/>
              <a:ext cx="40680" cy="442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0"/>
                  </a:moveTo>
                  <a:lnTo>
                    <a:pt x="13" y="59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103480" y="3774960"/>
              <a:ext cx="4320" cy="3312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9" y="0"/>
                  </a:moveTo>
                  <a:lnTo>
                    <a:pt x="4" y="44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536560" y="3392280"/>
              <a:ext cx="37800" cy="142920"/>
            </a:xfrm>
            <a:custGeom>
              <a:avLst/>
              <a:gdLst/>
              <a:ahLst/>
              <a:rect l="l" t="t" r="r" b="b"/>
              <a:pathLst>
                <a:path w="64" h="217">
                  <a:moveTo>
                    <a:pt x="17" y="0"/>
                  </a:moveTo>
                  <a:lnTo>
                    <a:pt x="0" y="31"/>
                  </a:lnTo>
                  <a:lnTo>
                    <a:pt x="17" y="0"/>
                  </a:lnTo>
                  <a:lnTo>
                    <a:pt x="24" y="4"/>
                  </a:lnTo>
                  <a:lnTo>
                    <a:pt x="38" y="10"/>
                  </a:lnTo>
                  <a:lnTo>
                    <a:pt x="50" y="28"/>
                  </a:lnTo>
                  <a:lnTo>
                    <a:pt x="57" y="43"/>
                  </a:lnTo>
                  <a:lnTo>
                    <a:pt x="64" y="61"/>
                  </a:lnTo>
                  <a:lnTo>
                    <a:pt x="64" y="99"/>
                  </a:lnTo>
                  <a:lnTo>
                    <a:pt x="59" y="139"/>
                  </a:lnTo>
                  <a:lnTo>
                    <a:pt x="43" y="217"/>
                  </a:lnTo>
                  <a:lnTo>
                    <a:pt x="35" y="215"/>
                  </a:lnTo>
                  <a:lnTo>
                    <a:pt x="26" y="215"/>
                  </a:lnTo>
                  <a:lnTo>
                    <a:pt x="19" y="217"/>
                  </a:lnTo>
                  <a:lnTo>
                    <a:pt x="24" y="156"/>
                  </a:lnTo>
                  <a:lnTo>
                    <a:pt x="31" y="104"/>
                  </a:lnTo>
                  <a:lnTo>
                    <a:pt x="24" y="62"/>
                  </a:lnTo>
                  <a:lnTo>
                    <a:pt x="12" y="38"/>
                  </a:lnTo>
                  <a:lnTo>
                    <a:pt x="0" y="3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509560" y="3411360"/>
              <a:ext cx="26640" cy="190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9" y="0"/>
                  </a:moveTo>
                  <a:lnTo>
                    <a:pt x="21" y="16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0" name=""/>
          <p:cNvGrpSpPr/>
          <p:nvPr/>
        </p:nvGrpSpPr>
        <p:grpSpPr>
          <a:xfrm>
            <a:off x="6324480" y="2751120"/>
            <a:ext cx="1220760" cy="2116080"/>
            <a:chOff x="6324480" y="2751120"/>
            <a:chExt cx="1220760" cy="2116080"/>
          </a:xfrm>
        </p:grpSpPr>
        <p:sp>
          <p:nvSpPr>
            <p:cNvPr id="6521" name=""/>
            <p:cNvSpPr/>
            <p:nvPr/>
          </p:nvSpPr>
          <p:spPr>
            <a:xfrm>
              <a:off x="6967440" y="3267000"/>
              <a:ext cx="171360" cy="422280"/>
            </a:xfrm>
            <a:custGeom>
              <a:avLst/>
              <a:gdLst/>
              <a:ahLst/>
              <a:rect l="l" t="t" r="r" b="b"/>
              <a:pathLst>
                <a:path w="440" h="954">
                  <a:moveTo>
                    <a:pt x="380" y="918"/>
                  </a:moveTo>
                  <a:lnTo>
                    <a:pt x="390" y="942"/>
                  </a:lnTo>
                  <a:lnTo>
                    <a:pt x="401" y="901"/>
                  </a:lnTo>
                  <a:lnTo>
                    <a:pt x="411" y="864"/>
                  </a:lnTo>
                  <a:lnTo>
                    <a:pt x="418" y="825"/>
                  </a:lnTo>
                  <a:lnTo>
                    <a:pt x="425" y="785"/>
                  </a:lnTo>
                  <a:lnTo>
                    <a:pt x="430" y="748"/>
                  </a:lnTo>
                  <a:lnTo>
                    <a:pt x="435" y="710"/>
                  </a:lnTo>
                  <a:lnTo>
                    <a:pt x="437" y="673"/>
                  </a:lnTo>
                  <a:lnTo>
                    <a:pt x="440" y="635"/>
                  </a:lnTo>
                  <a:lnTo>
                    <a:pt x="440" y="599"/>
                  </a:lnTo>
                  <a:lnTo>
                    <a:pt x="439" y="562"/>
                  </a:lnTo>
                  <a:lnTo>
                    <a:pt x="437" y="528"/>
                  </a:lnTo>
                  <a:lnTo>
                    <a:pt x="433" y="491"/>
                  </a:lnTo>
                  <a:lnTo>
                    <a:pt x="428" y="458"/>
                  </a:lnTo>
                  <a:lnTo>
                    <a:pt x="422" y="423"/>
                  </a:lnTo>
                  <a:lnTo>
                    <a:pt x="412" y="389"/>
                  </a:lnTo>
                  <a:lnTo>
                    <a:pt x="403" y="359"/>
                  </a:lnTo>
                  <a:lnTo>
                    <a:pt x="391" y="327"/>
                  </a:lnTo>
                  <a:lnTo>
                    <a:pt x="379" y="296"/>
                  </a:lnTo>
                  <a:lnTo>
                    <a:pt x="364" y="265"/>
                  </a:lnTo>
                  <a:lnTo>
                    <a:pt x="347" y="239"/>
                  </a:lnTo>
                  <a:lnTo>
                    <a:pt x="329" y="211"/>
                  </a:lnTo>
                  <a:lnTo>
                    <a:pt x="309" y="184"/>
                  </a:lnTo>
                  <a:lnTo>
                    <a:pt x="287" y="161"/>
                  </a:lnTo>
                  <a:lnTo>
                    <a:pt x="265" y="136"/>
                  </a:lnTo>
                  <a:lnTo>
                    <a:pt x="238" y="113"/>
                  </a:lnTo>
                  <a:lnTo>
                    <a:pt x="212" y="94"/>
                  </a:lnTo>
                  <a:lnTo>
                    <a:pt x="181" y="73"/>
                  </a:lnTo>
                  <a:lnTo>
                    <a:pt x="150" y="56"/>
                  </a:lnTo>
                  <a:lnTo>
                    <a:pt x="118" y="39"/>
                  </a:lnTo>
                  <a:lnTo>
                    <a:pt x="83" y="26"/>
                  </a:lnTo>
                  <a:lnTo>
                    <a:pt x="47" y="13"/>
                  </a:lnTo>
                  <a:lnTo>
                    <a:pt x="8" y="0"/>
                  </a:lnTo>
                  <a:lnTo>
                    <a:pt x="0" y="39"/>
                  </a:lnTo>
                  <a:lnTo>
                    <a:pt x="36" y="49"/>
                  </a:lnTo>
                  <a:lnTo>
                    <a:pt x="69" y="62"/>
                  </a:lnTo>
                  <a:lnTo>
                    <a:pt x="102" y="76"/>
                  </a:lnTo>
                  <a:lnTo>
                    <a:pt x="134" y="90"/>
                  </a:lnTo>
                  <a:lnTo>
                    <a:pt x="161" y="106"/>
                  </a:lnTo>
                  <a:lnTo>
                    <a:pt x="189" y="125"/>
                  </a:lnTo>
                  <a:lnTo>
                    <a:pt x="213" y="144"/>
                  </a:lnTo>
                  <a:lnTo>
                    <a:pt x="237" y="164"/>
                  </a:lnTo>
                  <a:lnTo>
                    <a:pt x="259" y="186"/>
                  </a:lnTo>
                  <a:lnTo>
                    <a:pt x="279" y="210"/>
                  </a:lnTo>
                  <a:lnTo>
                    <a:pt x="298" y="233"/>
                  </a:lnTo>
                  <a:lnTo>
                    <a:pt x="313" y="258"/>
                  </a:lnTo>
                  <a:lnTo>
                    <a:pt x="330" y="285"/>
                  </a:lnTo>
                  <a:lnTo>
                    <a:pt x="343" y="313"/>
                  </a:lnTo>
                  <a:lnTo>
                    <a:pt x="355" y="341"/>
                  </a:lnTo>
                  <a:lnTo>
                    <a:pt x="366" y="370"/>
                  </a:lnTo>
                  <a:lnTo>
                    <a:pt x="376" y="401"/>
                  </a:lnTo>
                  <a:lnTo>
                    <a:pt x="383" y="431"/>
                  </a:lnTo>
                  <a:lnTo>
                    <a:pt x="389" y="463"/>
                  </a:lnTo>
                  <a:lnTo>
                    <a:pt x="394" y="497"/>
                  </a:lnTo>
                  <a:lnTo>
                    <a:pt x="398" y="530"/>
                  </a:lnTo>
                  <a:lnTo>
                    <a:pt x="400" y="565"/>
                  </a:lnTo>
                  <a:lnTo>
                    <a:pt x="401" y="599"/>
                  </a:lnTo>
                  <a:lnTo>
                    <a:pt x="401" y="635"/>
                  </a:lnTo>
                  <a:lnTo>
                    <a:pt x="398" y="670"/>
                  </a:lnTo>
                  <a:lnTo>
                    <a:pt x="396" y="707"/>
                  </a:lnTo>
                  <a:lnTo>
                    <a:pt x="391" y="742"/>
                  </a:lnTo>
                  <a:lnTo>
                    <a:pt x="386" y="780"/>
                  </a:lnTo>
                  <a:lnTo>
                    <a:pt x="379" y="819"/>
                  </a:lnTo>
                  <a:lnTo>
                    <a:pt x="372" y="855"/>
                  </a:lnTo>
                  <a:lnTo>
                    <a:pt x="362" y="893"/>
                  </a:lnTo>
                  <a:lnTo>
                    <a:pt x="354" y="931"/>
                  </a:lnTo>
                  <a:lnTo>
                    <a:pt x="364" y="954"/>
                  </a:lnTo>
                  <a:lnTo>
                    <a:pt x="380" y="9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7108560" y="3673440"/>
              <a:ext cx="200160" cy="120600"/>
            </a:xfrm>
            <a:custGeom>
              <a:avLst/>
              <a:gdLst/>
              <a:ahLst/>
              <a:rect l="l" t="t" r="r" b="b"/>
              <a:pathLst>
                <a:path w="512" h="276">
                  <a:moveTo>
                    <a:pt x="512" y="245"/>
                  </a:moveTo>
                  <a:lnTo>
                    <a:pt x="512" y="245"/>
                  </a:lnTo>
                  <a:lnTo>
                    <a:pt x="484" y="226"/>
                  </a:lnTo>
                  <a:lnTo>
                    <a:pt x="457" y="206"/>
                  </a:lnTo>
                  <a:lnTo>
                    <a:pt x="425" y="187"/>
                  </a:lnTo>
                  <a:lnTo>
                    <a:pt x="392" y="170"/>
                  </a:lnTo>
                  <a:lnTo>
                    <a:pt x="358" y="152"/>
                  </a:lnTo>
                  <a:lnTo>
                    <a:pt x="324" y="134"/>
                  </a:lnTo>
                  <a:lnTo>
                    <a:pt x="289" y="117"/>
                  </a:lnTo>
                  <a:lnTo>
                    <a:pt x="255" y="102"/>
                  </a:lnTo>
                  <a:lnTo>
                    <a:pt x="220" y="86"/>
                  </a:lnTo>
                  <a:lnTo>
                    <a:pt x="185" y="72"/>
                  </a:lnTo>
                  <a:lnTo>
                    <a:pt x="153" y="59"/>
                  </a:lnTo>
                  <a:lnTo>
                    <a:pt x="121" y="46"/>
                  </a:lnTo>
                  <a:lnTo>
                    <a:pt x="93" y="33"/>
                  </a:lnTo>
                  <a:lnTo>
                    <a:pt x="65" y="21"/>
                  </a:lnTo>
                  <a:lnTo>
                    <a:pt x="37" y="1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23" y="46"/>
                  </a:lnTo>
                  <a:lnTo>
                    <a:pt x="48" y="57"/>
                  </a:lnTo>
                  <a:lnTo>
                    <a:pt x="76" y="70"/>
                  </a:lnTo>
                  <a:lnTo>
                    <a:pt x="107" y="82"/>
                  </a:lnTo>
                  <a:lnTo>
                    <a:pt x="139" y="95"/>
                  </a:lnTo>
                  <a:lnTo>
                    <a:pt x="171" y="109"/>
                  </a:lnTo>
                  <a:lnTo>
                    <a:pt x="206" y="123"/>
                  </a:lnTo>
                  <a:lnTo>
                    <a:pt x="238" y="138"/>
                  </a:lnTo>
                  <a:lnTo>
                    <a:pt x="273" y="153"/>
                  </a:lnTo>
                  <a:lnTo>
                    <a:pt x="307" y="170"/>
                  </a:lnTo>
                  <a:lnTo>
                    <a:pt x="341" y="185"/>
                  </a:lnTo>
                  <a:lnTo>
                    <a:pt x="373" y="204"/>
                  </a:lnTo>
                  <a:lnTo>
                    <a:pt x="405" y="220"/>
                  </a:lnTo>
                  <a:lnTo>
                    <a:pt x="434" y="240"/>
                  </a:lnTo>
                  <a:lnTo>
                    <a:pt x="462" y="257"/>
                  </a:lnTo>
                  <a:lnTo>
                    <a:pt x="487" y="276"/>
                  </a:lnTo>
                  <a:lnTo>
                    <a:pt x="487" y="276"/>
                  </a:lnTo>
                  <a:lnTo>
                    <a:pt x="5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7299000" y="3781440"/>
              <a:ext cx="179640" cy="212400"/>
            </a:xfrm>
            <a:custGeom>
              <a:avLst/>
              <a:gdLst/>
              <a:ahLst/>
              <a:rect l="l" t="t" r="r" b="b"/>
              <a:pathLst>
                <a:path w="460" h="480">
                  <a:moveTo>
                    <a:pt x="460" y="458"/>
                  </a:moveTo>
                  <a:lnTo>
                    <a:pt x="460" y="458"/>
                  </a:lnTo>
                  <a:lnTo>
                    <a:pt x="436" y="426"/>
                  </a:lnTo>
                  <a:lnTo>
                    <a:pt x="413" y="394"/>
                  </a:lnTo>
                  <a:lnTo>
                    <a:pt x="389" y="362"/>
                  </a:lnTo>
                  <a:lnTo>
                    <a:pt x="365" y="331"/>
                  </a:lnTo>
                  <a:lnTo>
                    <a:pt x="340" y="302"/>
                  </a:lnTo>
                  <a:lnTo>
                    <a:pt x="312" y="271"/>
                  </a:lnTo>
                  <a:lnTo>
                    <a:pt x="286" y="240"/>
                  </a:lnTo>
                  <a:lnTo>
                    <a:pt x="259" y="212"/>
                  </a:lnTo>
                  <a:lnTo>
                    <a:pt x="232" y="184"/>
                  </a:lnTo>
                  <a:lnTo>
                    <a:pt x="204" y="157"/>
                  </a:lnTo>
                  <a:lnTo>
                    <a:pt x="176" y="129"/>
                  </a:lnTo>
                  <a:lnTo>
                    <a:pt x="145" y="102"/>
                  </a:lnTo>
                  <a:lnTo>
                    <a:pt x="116" y="76"/>
                  </a:lnTo>
                  <a:lnTo>
                    <a:pt x="85" y="49"/>
                  </a:lnTo>
                  <a:lnTo>
                    <a:pt x="56" y="24"/>
                  </a:lnTo>
                  <a:lnTo>
                    <a:pt x="25" y="0"/>
                  </a:lnTo>
                  <a:lnTo>
                    <a:pt x="0" y="31"/>
                  </a:lnTo>
                  <a:lnTo>
                    <a:pt x="31" y="55"/>
                  </a:lnTo>
                  <a:lnTo>
                    <a:pt x="60" y="80"/>
                  </a:lnTo>
                  <a:lnTo>
                    <a:pt x="91" y="106"/>
                  </a:lnTo>
                  <a:lnTo>
                    <a:pt x="120" y="130"/>
                  </a:lnTo>
                  <a:lnTo>
                    <a:pt x="148" y="157"/>
                  </a:lnTo>
                  <a:lnTo>
                    <a:pt x="176" y="184"/>
                  </a:lnTo>
                  <a:lnTo>
                    <a:pt x="204" y="212"/>
                  </a:lnTo>
                  <a:lnTo>
                    <a:pt x="232" y="240"/>
                  </a:lnTo>
                  <a:lnTo>
                    <a:pt x="258" y="268"/>
                  </a:lnTo>
                  <a:lnTo>
                    <a:pt x="285" y="296"/>
                  </a:lnTo>
                  <a:lnTo>
                    <a:pt x="310" y="327"/>
                  </a:lnTo>
                  <a:lnTo>
                    <a:pt x="335" y="356"/>
                  </a:lnTo>
                  <a:lnTo>
                    <a:pt x="358" y="387"/>
                  </a:lnTo>
                  <a:lnTo>
                    <a:pt x="382" y="416"/>
                  </a:lnTo>
                  <a:lnTo>
                    <a:pt x="406" y="448"/>
                  </a:lnTo>
                  <a:lnTo>
                    <a:pt x="427" y="480"/>
                  </a:lnTo>
                  <a:lnTo>
                    <a:pt x="427" y="480"/>
                  </a:lnTo>
                  <a:lnTo>
                    <a:pt x="46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7465680" y="3984480"/>
              <a:ext cx="77760" cy="190440"/>
            </a:xfrm>
            <a:custGeom>
              <a:avLst/>
              <a:gdLst/>
              <a:ahLst/>
              <a:rect l="l" t="t" r="r" b="b"/>
              <a:pathLst>
                <a:path w="203" h="433">
                  <a:moveTo>
                    <a:pt x="203" y="431"/>
                  </a:moveTo>
                  <a:lnTo>
                    <a:pt x="203" y="431"/>
                  </a:lnTo>
                  <a:lnTo>
                    <a:pt x="200" y="401"/>
                  </a:lnTo>
                  <a:lnTo>
                    <a:pt x="195" y="372"/>
                  </a:lnTo>
                  <a:lnTo>
                    <a:pt x="189" y="344"/>
                  </a:lnTo>
                  <a:lnTo>
                    <a:pt x="182" y="316"/>
                  </a:lnTo>
                  <a:lnTo>
                    <a:pt x="174" y="287"/>
                  </a:lnTo>
                  <a:lnTo>
                    <a:pt x="164" y="258"/>
                  </a:lnTo>
                  <a:lnTo>
                    <a:pt x="154" y="231"/>
                  </a:lnTo>
                  <a:lnTo>
                    <a:pt x="145" y="203"/>
                  </a:lnTo>
                  <a:lnTo>
                    <a:pt x="132" y="175"/>
                  </a:lnTo>
                  <a:lnTo>
                    <a:pt x="121" y="150"/>
                  </a:lnTo>
                  <a:lnTo>
                    <a:pt x="106" y="124"/>
                  </a:lnTo>
                  <a:lnTo>
                    <a:pt x="93" y="97"/>
                  </a:lnTo>
                  <a:lnTo>
                    <a:pt x="78" y="72"/>
                  </a:lnTo>
                  <a:lnTo>
                    <a:pt x="64" y="49"/>
                  </a:lnTo>
                  <a:lnTo>
                    <a:pt x="48" y="23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15" y="46"/>
                  </a:lnTo>
                  <a:lnTo>
                    <a:pt x="30" y="68"/>
                  </a:lnTo>
                  <a:lnTo>
                    <a:pt x="44" y="92"/>
                  </a:lnTo>
                  <a:lnTo>
                    <a:pt x="60" y="117"/>
                  </a:lnTo>
                  <a:lnTo>
                    <a:pt x="72" y="141"/>
                  </a:lnTo>
                  <a:lnTo>
                    <a:pt x="85" y="167"/>
                  </a:lnTo>
                  <a:lnTo>
                    <a:pt x="96" y="192"/>
                  </a:lnTo>
                  <a:lnTo>
                    <a:pt x="108" y="217"/>
                  </a:lnTo>
                  <a:lnTo>
                    <a:pt x="118" y="245"/>
                  </a:lnTo>
                  <a:lnTo>
                    <a:pt x="128" y="272"/>
                  </a:lnTo>
                  <a:lnTo>
                    <a:pt x="138" y="298"/>
                  </a:lnTo>
                  <a:lnTo>
                    <a:pt x="143" y="325"/>
                  </a:lnTo>
                  <a:lnTo>
                    <a:pt x="150" y="353"/>
                  </a:lnTo>
                  <a:lnTo>
                    <a:pt x="156" y="380"/>
                  </a:lnTo>
                  <a:lnTo>
                    <a:pt x="161" y="407"/>
                  </a:lnTo>
                  <a:lnTo>
                    <a:pt x="164" y="433"/>
                  </a:lnTo>
                  <a:lnTo>
                    <a:pt x="164" y="433"/>
                  </a:lnTo>
                  <a:lnTo>
                    <a:pt x="203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7494480" y="4173480"/>
              <a:ext cx="50760" cy="133200"/>
            </a:xfrm>
            <a:custGeom>
              <a:avLst/>
              <a:gdLst/>
              <a:ahLst/>
              <a:rect l="l" t="t" r="r" b="b"/>
              <a:pathLst>
                <a:path w="131" h="298">
                  <a:moveTo>
                    <a:pt x="30" y="298"/>
                  </a:moveTo>
                  <a:lnTo>
                    <a:pt x="30" y="298"/>
                  </a:lnTo>
                  <a:lnTo>
                    <a:pt x="41" y="281"/>
                  </a:lnTo>
                  <a:lnTo>
                    <a:pt x="53" y="266"/>
                  </a:lnTo>
                  <a:lnTo>
                    <a:pt x="65" y="251"/>
                  </a:lnTo>
                  <a:lnTo>
                    <a:pt x="75" y="232"/>
                  </a:lnTo>
                  <a:lnTo>
                    <a:pt x="85" y="214"/>
                  </a:lnTo>
                  <a:lnTo>
                    <a:pt x="93" y="196"/>
                  </a:lnTo>
                  <a:lnTo>
                    <a:pt x="101" y="177"/>
                  </a:lnTo>
                  <a:lnTo>
                    <a:pt x="108" y="159"/>
                  </a:lnTo>
                  <a:lnTo>
                    <a:pt x="115" y="139"/>
                  </a:lnTo>
                  <a:lnTo>
                    <a:pt x="119" y="118"/>
                  </a:lnTo>
                  <a:lnTo>
                    <a:pt x="124" y="100"/>
                  </a:lnTo>
                  <a:lnTo>
                    <a:pt x="128" y="79"/>
                  </a:lnTo>
                  <a:lnTo>
                    <a:pt x="129" y="58"/>
                  </a:lnTo>
                  <a:lnTo>
                    <a:pt x="131" y="39"/>
                  </a:lnTo>
                  <a:lnTo>
                    <a:pt x="131" y="19"/>
                  </a:lnTo>
                  <a:lnTo>
                    <a:pt x="129" y="0"/>
                  </a:lnTo>
                  <a:lnTo>
                    <a:pt x="90" y="2"/>
                  </a:lnTo>
                  <a:lnTo>
                    <a:pt x="92" y="19"/>
                  </a:lnTo>
                  <a:lnTo>
                    <a:pt x="92" y="39"/>
                  </a:lnTo>
                  <a:lnTo>
                    <a:pt x="90" y="55"/>
                  </a:lnTo>
                  <a:lnTo>
                    <a:pt x="89" y="74"/>
                  </a:lnTo>
                  <a:lnTo>
                    <a:pt x="85" y="92"/>
                  </a:lnTo>
                  <a:lnTo>
                    <a:pt x="80" y="110"/>
                  </a:lnTo>
                  <a:lnTo>
                    <a:pt x="76" y="128"/>
                  </a:lnTo>
                  <a:lnTo>
                    <a:pt x="72" y="145"/>
                  </a:lnTo>
                  <a:lnTo>
                    <a:pt x="65" y="163"/>
                  </a:lnTo>
                  <a:lnTo>
                    <a:pt x="57" y="180"/>
                  </a:lnTo>
                  <a:lnTo>
                    <a:pt x="48" y="198"/>
                  </a:lnTo>
                  <a:lnTo>
                    <a:pt x="41" y="213"/>
                  </a:lnTo>
                  <a:lnTo>
                    <a:pt x="32" y="228"/>
                  </a:lnTo>
                  <a:lnTo>
                    <a:pt x="22" y="244"/>
                  </a:lnTo>
                  <a:lnTo>
                    <a:pt x="11" y="259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3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397640" y="4294080"/>
              <a:ext cx="108000" cy="69840"/>
            </a:xfrm>
            <a:custGeom>
              <a:avLst/>
              <a:gdLst/>
              <a:ahLst/>
              <a:rect l="l" t="t" r="r" b="b"/>
              <a:pathLst>
                <a:path w="276" h="159">
                  <a:moveTo>
                    <a:pt x="39" y="134"/>
                  </a:moveTo>
                  <a:lnTo>
                    <a:pt x="21" y="159"/>
                  </a:lnTo>
                  <a:lnTo>
                    <a:pt x="41" y="156"/>
                  </a:lnTo>
                  <a:lnTo>
                    <a:pt x="59" y="153"/>
                  </a:lnTo>
                  <a:lnTo>
                    <a:pt x="77" y="149"/>
                  </a:lnTo>
                  <a:lnTo>
                    <a:pt x="95" y="144"/>
                  </a:lnTo>
                  <a:lnTo>
                    <a:pt x="113" y="138"/>
                  </a:lnTo>
                  <a:lnTo>
                    <a:pt x="131" y="131"/>
                  </a:lnTo>
                  <a:lnTo>
                    <a:pt x="147" y="124"/>
                  </a:lnTo>
                  <a:lnTo>
                    <a:pt x="163" y="117"/>
                  </a:lnTo>
                  <a:lnTo>
                    <a:pt x="180" y="107"/>
                  </a:lnTo>
                  <a:lnTo>
                    <a:pt x="195" y="96"/>
                  </a:lnTo>
                  <a:lnTo>
                    <a:pt x="209" y="86"/>
                  </a:lnTo>
                  <a:lnTo>
                    <a:pt x="225" y="75"/>
                  </a:lnTo>
                  <a:lnTo>
                    <a:pt x="239" y="64"/>
                  </a:lnTo>
                  <a:lnTo>
                    <a:pt x="253" y="52"/>
                  </a:lnTo>
                  <a:lnTo>
                    <a:pt x="264" y="38"/>
                  </a:lnTo>
                  <a:lnTo>
                    <a:pt x="276" y="25"/>
                  </a:lnTo>
                  <a:lnTo>
                    <a:pt x="246" y="0"/>
                  </a:lnTo>
                  <a:lnTo>
                    <a:pt x="236" y="12"/>
                  </a:lnTo>
                  <a:lnTo>
                    <a:pt x="225" y="24"/>
                  </a:lnTo>
                  <a:lnTo>
                    <a:pt x="214" y="33"/>
                  </a:lnTo>
                  <a:lnTo>
                    <a:pt x="200" y="45"/>
                  </a:lnTo>
                  <a:lnTo>
                    <a:pt x="187" y="56"/>
                  </a:lnTo>
                  <a:lnTo>
                    <a:pt x="173" y="65"/>
                  </a:lnTo>
                  <a:lnTo>
                    <a:pt x="161" y="74"/>
                  </a:lnTo>
                  <a:lnTo>
                    <a:pt x="147" y="81"/>
                  </a:lnTo>
                  <a:lnTo>
                    <a:pt x="130" y="88"/>
                  </a:lnTo>
                  <a:lnTo>
                    <a:pt x="115" y="95"/>
                  </a:lnTo>
                  <a:lnTo>
                    <a:pt x="99" y="102"/>
                  </a:lnTo>
                  <a:lnTo>
                    <a:pt x="84" y="107"/>
                  </a:lnTo>
                  <a:lnTo>
                    <a:pt x="69" y="110"/>
                  </a:lnTo>
                  <a:lnTo>
                    <a:pt x="50" y="114"/>
                  </a:lnTo>
                  <a:lnTo>
                    <a:pt x="35" y="117"/>
                  </a:lnTo>
                  <a:lnTo>
                    <a:pt x="18" y="120"/>
                  </a:lnTo>
                  <a:lnTo>
                    <a:pt x="0" y="145"/>
                  </a:lnTo>
                  <a:lnTo>
                    <a:pt x="3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7397640" y="4354200"/>
              <a:ext cx="74520" cy="409680"/>
            </a:xfrm>
            <a:custGeom>
              <a:avLst/>
              <a:gdLst/>
              <a:ahLst/>
              <a:rect l="l" t="t" r="r" b="b"/>
              <a:pathLst>
                <a:path w="187" h="931">
                  <a:moveTo>
                    <a:pt x="170" y="931"/>
                  </a:moveTo>
                  <a:lnTo>
                    <a:pt x="187" y="910"/>
                  </a:lnTo>
                  <a:lnTo>
                    <a:pt x="184" y="880"/>
                  </a:lnTo>
                  <a:lnTo>
                    <a:pt x="181" y="849"/>
                  </a:lnTo>
                  <a:lnTo>
                    <a:pt x="179" y="818"/>
                  </a:lnTo>
                  <a:lnTo>
                    <a:pt x="176" y="789"/>
                  </a:lnTo>
                  <a:lnTo>
                    <a:pt x="173" y="760"/>
                  </a:lnTo>
                  <a:lnTo>
                    <a:pt x="170" y="729"/>
                  </a:lnTo>
                  <a:lnTo>
                    <a:pt x="166" y="701"/>
                  </a:lnTo>
                  <a:lnTo>
                    <a:pt x="163" y="675"/>
                  </a:lnTo>
                  <a:lnTo>
                    <a:pt x="161" y="648"/>
                  </a:lnTo>
                  <a:lnTo>
                    <a:pt x="158" y="620"/>
                  </a:lnTo>
                  <a:lnTo>
                    <a:pt x="155" y="592"/>
                  </a:lnTo>
                  <a:lnTo>
                    <a:pt x="151" y="566"/>
                  </a:lnTo>
                  <a:lnTo>
                    <a:pt x="148" y="539"/>
                  </a:lnTo>
                  <a:lnTo>
                    <a:pt x="144" y="513"/>
                  </a:lnTo>
                  <a:lnTo>
                    <a:pt x="141" y="486"/>
                  </a:lnTo>
                  <a:lnTo>
                    <a:pt x="137" y="460"/>
                  </a:lnTo>
                  <a:lnTo>
                    <a:pt x="133" y="433"/>
                  </a:lnTo>
                  <a:lnTo>
                    <a:pt x="128" y="407"/>
                  </a:lnTo>
                  <a:lnTo>
                    <a:pt x="124" y="380"/>
                  </a:lnTo>
                  <a:lnTo>
                    <a:pt x="119" y="353"/>
                  </a:lnTo>
                  <a:lnTo>
                    <a:pt x="115" y="326"/>
                  </a:lnTo>
                  <a:lnTo>
                    <a:pt x="109" y="297"/>
                  </a:lnTo>
                  <a:lnTo>
                    <a:pt x="103" y="270"/>
                  </a:lnTo>
                  <a:lnTo>
                    <a:pt x="98" y="242"/>
                  </a:lnTo>
                  <a:lnTo>
                    <a:pt x="92" y="213"/>
                  </a:lnTo>
                  <a:lnTo>
                    <a:pt x="85" y="185"/>
                  </a:lnTo>
                  <a:lnTo>
                    <a:pt x="78" y="156"/>
                  </a:lnTo>
                  <a:lnTo>
                    <a:pt x="71" y="125"/>
                  </a:lnTo>
                  <a:lnTo>
                    <a:pt x="64" y="96"/>
                  </a:lnTo>
                  <a:lnTo>
                    <a:pt x="56" y="64"/>
                  </a:lnTo>
                  <a:lnTo>
                    <a:pt x="48" y="33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9" y="42"/>
                  </a:lnTo>
                  <a:lnTo>
                    <a:pt x="17" y="75"/>
                  </a:lnTo>
                  <a:lnTo>
                    <a:pt x="25" y="104"/>
                  </a:lnTo>
                  <a:lnTo>
                    <a:pt x="32" y="134"/>
                  </a:lnTo>
                  <a:lnTo>
                    <a:pt x="39" y="164"/>
                  </a:lnTo>
                  <a:lnTo>
                    <a:pt x="46" y="194"/>
                  </a:lnTo>
                  <a:lnTo>
                    <a:pt x="53" y="222"/>
                  </a:lnTo>
                  <a:lnTo>
                    <a:pt x="59" y="251"/>
                  </a:lnTo>
                  <a:lnTo>
                    <a:pt x="64" y="279"/>
                  </a:lnTo>
                  <a:lnTo>
                    <a:pt x="70" y="305"/>
                  </a:lnTo>
                  <a:lnTo>
                    <a:pt x="76" y="332"/>
                  </a:lnTo>
                  <a:lnTo>
                    <a:pt x="80" y="358"/>
                  </a:lnTo>
                  <a:lnTo>
                    <a:pt x="85" y="386"/>
                  </a:lnTo>
                  <a:lnTo>
                    <a:pt x="89" y="413"/>
                  </a:lnTo>
                  <a:lnTo>
                    <a:pt x="94" y="439"/>
                  </a:lnTo>
                  <a:lnTo>
                    <a:pt x="98" y="466"/>
                  </a:lnTo>
                  <a:lnTo>
                    <a:pt x="102" y="492"/>
                  </a:lnTo>
                  <a:lnTo>
                    <a:pt x="105" y="519"/>
                  </a:lnTo>
                  <a:lnTo>
                    <a:pt x="109" y="545"/>
                  </a:lnTo>
                  <a:lnTo>
                    <a:pt x="112" y="572"/>
                  </a:lnTo>
                  <a:lnTo>
                    <a:pt x="116" y="598"/>
                  </a:lnTo>
                  <a:lnTo>
                    <a:pt x="119" y="623"/>
                  </a:lnTo>
                  <a:lnTo>
                    <a:pt x="122" y="651"/>
                  </a:lnTo>
                  <a:lnTo>
                    <a:pt x="124" y="677"/>
                  </a:lnTo>
                  <a:lnTo>
                    <a:pt x="127" y="707"/>
                  </a:lnTo>
                  <a:lnTo>
                    <a:pt x="131" y="735"/>
                  </a:lnTo>
                  <a:lnTo>
                    <a:pt x="134" y="763"/>
                  </a:lnTo>
                  <a:lnTo>
                    <a:pt x="137" y="792"/>
                  </a:lnTo>
                  <a:lnTo>
                    <a:pt x="140" y="821"/>
                  </a:lnTo>
                  <a:lnTo>
                    <a:pt x="142" y="852"/>
                  </a:lnTo>
                  <a:lnTo>
                    <a:pt x="145" y="882"/>
                  </a:lnTo>
                  <a:lnTo>
                    <a:pt x="148" y="913"/>
                  </a:lnTo>
                  <a:lnTo>
                    <a:pt x="165" y="892"/>
                  </a:lnTo>
                  <a:lnTo>
                    <a:pt x="170" y="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7215120" y="4748040"/>
              <a:ext cx="249120" cy="101520"/>
            </a:xfrm>
            <a:custGeom>
              <a:avLst/>
              <a:gdLst/>
              <a:ahLst/>
              <a:rect l="l" t="t" r="r" b="b"/>
              <a:pathLst>
                <a:path w="641" h="229">
                  <a:moveTo>
                    <a:pt x="7" y="229"/>
                  </a:moveTo>
                  <a:lnTo>
                    <a:pt x="17" y="228"/>
                  </a:lnTo>
                  <a:lnTo>
                    <a:pt x="50" y="212"/>
                  </a:lnTo>
                  <a:lnTo>
                    <a:pt x="85" y="197"/>
                  </a:lnTo>
                  <a:lnTo>
                    <a:pt x="120" y="182"/>
                  </a:lnTo>
                  <a:lnTo>
                    <a:pt x="154" y="166"/>
                  </a:lnTo>
                  <a:lnTo>
                    <a:pt x="190" y="152"/>
                  </a:lnTo>
                  <a:lnTo>
                    <a:pt x="227" y="138"/>
                  </a:lnTo>
                  <a:lnTo>
                    <a:pt x="264" y="126"/>
                  </a:lnTo>
                  <a:lnTo>
                    <a:pt x="301" y="113"/>
                  </a:lnTo>
                  <a:lnTo>
                    <a:pt x="340" y="101"/>
                  </a:lnTo>
                  <a:lnTo>
                    <a:pt x="381" y="91"/>
                  </a:lnTo>
                  <a:lnTo>
                    <a:pt x="421" y="80"/>
                  </a:lnTo>
                  <a:lnTo>
                    <a:pt x="463" y="70"/>
                  </a:lnTo>
                  <a:lnTo>
                    <a:pt x="506" y="62"/>
                  </a:lnTo>
                  <a:lnTo>
                    <a:pt x="549" y="53"/>
                  </a:lnTo>
                  <a:lnTo>
                    <a:pt x="595" y="46"/>
                  </a:lnTo>
                  <a:lnTo>
                    <a:pt x="641" y="39"/>
                  </a:lnTo>
                  <a:lnTo>
                    <a:pt x="636" y="0"/>
                  </a:lnTo>
                  <a:lnTo>
                    <a:pt x="590" y="7"/>
                  </a:lnTo>
                  <a:lnTo>
                    <a:pt x="544" y="14"/>
                  </a:lnTo>
                  <a:lnTo>
                    <a:pt x="498" y="23"/>
                  </a:lnTo>
                  <a:lnTo>
                    <a:pt x="455" y="31"/>
                  </a:lnTo>
                  <a:lnTo>
                    <a:pt x="413" y="41"/>
                  </a:lnTo>
                  <a:lnTo>
                    <a:pt x="370" y="52"/>
                  </a:lnTo>
                  <a:lnTo>
                    <a:pt x="329" y="64"/>
                  </a:lnTo>
                  <a:lnTo>
                    <a:pt x="290" y="77"/>
                  </a:lnTo>
                  <a:lnTo>
                    <a:pt x="252" y="89"/>
                  </a:lnTo>
                  <a:lnTo>
                    <a:pt x="213" y="102"/>
                  </a:lnTo>
                  <a:lnTo>
                    <a:pt x="176" y="116"/>
                  </a:lnTo>
                  <a:lnTo>
                    <a:pt x="140" y="130"/>
                  </a:lnTo>
                  <a:lnTo>
                    <a:pt x="103" y="145"/>
                  </a:lnTo>
                  <a:lnTo>
                    <a:pt x="69" y="161"/>
                  </a:lnTo>
                  <a:lnTo>
                    <a:pt x="34" y="176"/>
                  </a:lnTo>
                  <a:lnTo>
                    <a:pt x="0" y="191"/>
                  </a:lnTo>
                  <a:lnTo>
                    <a:pt x="10" y="190"/>
                  </a:lnTo>
                  <a:lnTo>
                    <a:pt x="7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6889680" y="4824360"/>
              <a:ext cx="328320" cy="42840"/>
            </a:xfrm>
            <a:custGeom>
              <a:avLst/>
              <a:gdLst/>
              <a:ahLst/>
              <a:rect l="l" t="t" r="r" b="b"/>
              <a:pathLst>
                <a:path w="846" h="98">
                  <a:moveTo>
                    <a:pt x="0" y="96"/>
                  </a:moveTo>
                  <a:lnTo>
                    <a:pt x="10" y="98"/>
                  </a:lnTo>
                  <a:lnTo>
                    <a:pt x="68" y="87"/>
                  </a:lnTo>
                  <a:lnTo>
                    <a:pt x="124" y="77"/>
                  </a:lnTo>
                  <a:lnTo>
                    <a:pt x="177" y="68"/>
                  </a:lnTo>
                  <a:lnTo>
                    <a:pt x="229" y="60"/>
                  </a:lnTo>
                  <a:lnTo>
                    <a:pt x="277" y="55"/>
                  </a:lnTo>
                  <a:lnTo>
                    <a:pt x="325" y="49"/>
                  </a:lnTo>
                  <a:lnTo>
                    <a:pt x="372" y="45"/>
                  </a:lnTo>
                  <a:lnTo>
                    <a:pt x="420" y="42"/>
                  </a:lnTo>
                  <a:lnTo>
                    <a:pt x="466" y="41"/>
                  </a:lnTo>
                  <a:lnTo>
                    <a:pt x="513" y="39"/>
                  </a:lnTo>
                  <a:lnTo>
                    <a:pt x="563" y="39"/>
                  </a:lnTo>
                  <a:lnTo>
                    <a:pt x="612" y="41"/>
                  </a:lnTo>
                  <a:lnTo>
                    <a:pt x="665" y="43"/>
                  </a:lnTo>
                  <a:lnTo>
                    <a:pt x="722" y="46"/>
                  </a:lnTo>
                  <a:lnTo>
                    <a:pt x="781" y="50"/>
                  </a:lnTo>
                  <a:lnTo>
                    <a:pt x="843" y="56"/>
                  </a:lnTo>
                  <a:lnTo>
                    <a:pt x="846" y="17"/>
                  </a:lnTo>
                  <a:lnTo>
                    <a:pt x="783" y="11"/>
                  </a:lnTo>
                  <a:lnTo>
                    <a:pt x="725" y="7"/>
                  </a:lnTo>
                  <a:lnTo>
                    <a:pt x="668" y="4"/>
                  </a:lnTo>
                  <a:lnTo>
                    <a:pt x="615" y="2"/>
                  </a:lnTo>
                  <a:lnTo>
                    <a:pt x="563" y="0"/>
                  </a:lnTo>
                  <a:lnTo>
                    <a:pt x="513" y="0"/>
                  </a:lnTo>
                  <a:lnTo>
                    <a:pt x="466" y="2"/>
                  </a:lnTo>
                  <a:lnTo>
                    <a:pt x="417" y="3"/>
                  </a:lnTo>
                  <a:lnTo>
                    <a:pt x="369" y="6"/>
                  </a:lnTo>
                  <a:lnTo>
                    <a:pt x="322" y="10"/>
                  </a:lnTo>
                  <a:lnTo>
                    <a:pt x="272" y="15"/>
                  </a:lnTo>
                  <a:lnTo>
                    <a:pt x="223" y="21"/>
                  </a:lnTo>
                  <a:lnTo>
                    <a:pt x="172" y="29"/>
                  </a:lnTo>
                  <a:lnTo>
                    <a:pt x="119" y="38"/>
                  </a:lnTo>
                  <a:lnTo>
                    <a:pt x="63" y="48"/>
                  </a:lnTo>
                  <a:lnTo>
                    <a:pt x="2" y="59"/>
                  </a:lnTo>
                  <a:lnTo>
                    <a:pt x="11" y="6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6565680" y="4784400"/>
              <a:ext cx="326880" cy="82800"/>
            </a:xfrm>
            <a:custGeom>
              <a:avLst/>
              <a:gdLst/>
              <a:ahLst/>
              <a:rect l="l" t="t" r="r" b="b"/>
              <a:pathLst>
                <a:path w="840" h="185">
                  <a:moveTo>
                    <a:pt x="0" y="25"/>
                  </a:moveTo>
                  <a:lnTo>
                    <a:pt x="15" y="39"/>
                  </a:lnTo>
                  <a:lnTo>
                    <a:pt x="61" y="45"/>
                  </a:lnTo>
                  <a:lnTo>
                    <a:pt x="109" y="51"/>
                  </a:lnTo>
                  <a:lnTo>
                    <a:pt x="159" y="58"/>
                  </a:lnTo>
                  <a:lnTo>
                    <a:pt x="209" y="65"/>
                  </a:lnTo>
                  <a:lnTo>
                    <a:pt x="261" y="72"/>
                  </a:lnTo>
                  <a:lnTo>
                    <a:pt x="313" y="81"/>
                  </a:lnTo>
                  <a:lnTo>
                    <a:pt x="366" y="89"/>
                  </a:lnTo>
                  <a:lnTo>
                    <a:pt x="419" y="98"/>
                  </a:lnTo>
                  <a:lnTo>
                    <a:pt x="474" y="106"/>
                  </a:lnTo>
                  <a:lnTo>
                    <a:pt x="525" y="116"/>
                  </a:lnTo>
                  <a:lnTo>
                    <a:pt x="578" y="127"/>
                  </a:lnTo>
                  <a:lnTo>
                    <a:pt x="631" y="137"/>
                  </a:lnTo>
                  <a:lnTo>
                    <a:pt x="683" y="149"/>
                  </a:lnTo>
                  <a:lnTo>
                    <a:pt x="733" y="160"/>
                  </a:lnTo>
                  <a:lnTo>
                    <a:pt x="782" y="171"/>
                  </a:lnTo>
                  <a:lnTo>
                    <a:pt x="829" y="185"/>
                  </a:lnTo>
                  <a:lnTo>
                    <a:pt x="840" y="149"/>
                  </a:lnTo>
                  <a:lnTo>
                    <a:pt x="793" y="135"/>
                  </a:lnTo>
                  <a:lnTo>
                    <a:pt x="741" y="121"/>
                  </a:lnTo>
                  <a:lnTo>
                    <a:pt x="691" y="110"/>
                  </a:lnTo>
                  <a:lnTo>
                    <a:pt x="640" y="98"/>
                  </a:lnTo>
                  <a:lnTo>
                    <a:pt x="587" y="88"/>
                  </a:lnTo>
                  <a:lnTo>
                    <a:pt x="534" y="77"/>
                  </a:lnTo>
                  <a:lnTo>
                    <a:pt x="479" y="67"/>
                  </a:lnTo>
                  <a:lnTo>
                    <a:pt x="425" y="58"/>
                  </a:lnTo>
                  <a:lnTo>
                    <a:pt x="372" y="50"/>
                  </a:lnTo>
                  <a:lnTo>
                    <a:pt x="319" y="42"/>
                  </a:lnTo>
                  <a:lnTo>
                    <a:pt x="266" y="33"/>
                  </a:lnTo>
                  <a:lnTo>
                    <a:pt x="215" y="26"/>
                  </a:lnTo>
                  <a:lnTo>
                    <a:pt x="164" y="19"/>
                  </a:lnTo>
                  <a:lnTo>
                    <a:pt x="114" y="12"/>
                  </a:lnTo>
                  <a:lnTo>
                    <a:pt x="67" y="5"/>
                  </a:lnTo>
                  <a:lnTo>
                    <a:pt x="21" y="0"/>
                  </a:lnTo>
                  <a:lnTo>
                    <a:pt x="36" y="1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6508440" y="4537080"/>
              <a:ext cx="71640" cy="258480"/>
            </a:xfrm>
            <a:custGeom>
              <a:avLst/>
              <a:gdLst/>
              <a:ahLst/>
              <a:rect l="l" t="t" r="r" b="b"/>
              <a:pathLst>
                <a:path w="185" h="586">
                  <a:moveTo>
                    <a:pt x="4" y="0"/>
                  </a:moveTo>
                  <a:lnTo>
                    <a:pt x="0" y="16"/>
                  </a:lnTo>
                  <a:lnTo>
                    <a:pt x="8" y="49"/>
                  </a:lnTo>
                  <a:lnTo>
                    <a:pt x="15" y="83"/>
                  </a:lnTo>
                  <a:lnTo>
                    <a:pt x="22" y="116"/>
                  </a:lnTo>
                  <a:lnTo>
                    <a:pt x="30" y="150"/>
                  </a:lnTo>
                  <a:lnTo>
                    <a:pt x="37" y="183"/>
                  </a:lnTo>
                  <a:lnTo>
                    <a:pt x="46" y="216"/>
                  </a:lnTo>
                  <a:lnTo>
                    <a:pt x="53" y="250"/>
                  </a:lnTo>
                  <a:lnTo>
                    <a:pt x="61" y="286"/>
                  </a:lnTo>
                  <a:lnTo>
                    <a:pt x="71" y="321"/>
                  </a:lnTo>
                  <a:lnTo>
                    <a:pt x="79" y="355"/>
                  </a:lnTo>
                  <a:lnTo>
                    <a:pt x="89" y="392"/>
                  </a:lnTo>
                  <a:lnTo>
                    <a:pt x="100" y="430"/>
                  </a:lnTo>
                  <a:lnTo>
                    <a:pt x="111" y="467"/>
                  </a:lnTo>
                  <a:lnTo>
                    <a:pt x="122" y="505"/>
                  </a:lnTo>
                  <a:lnTo>
                    <a:pt x="135" y="546"/>
                  </a:lnTo>
                  <a:lnTo>
                    <a:pt x="149" y="586"/>
                  </a:lnTo>
                  <a:lnTo>
                    <a:pt x="185" y="575"/>
                  </a:lnTo>
                  <a:lnTo>
                    <a:pt x="171" y="534"/>
                  </a:lnTo>
                  <a:lnTo>
                    <a:pt x="159" y="494"/>
                  </a:lnTo>
                  <a:lnTo>
                    <a:pt x="148" y="456"/>
                  </a:lnTo>
                  <a:lnTo>
                    <a:pt x="136" y="419"/>
                  </a:lnTo>
                  <a:lnTo>
                    <a:pt x="128" y="381"/>
                  </a:lnTo>
                  <a:lnTo>
                    <a:pt x="118" y="346"/>
                  </a:lnTo>
                  <a:lnTo>
                    <a:pt x="110" y="310"/>
                  </a:lnTo>
                  <a:lnTo>
                    <a:pt x="100" y="275"/>
                  </a:lnTo>
                  <a:lnTo>
                    <a:pt x="92" y="242"/>
                  </a:lnTo>
                  <a:lnTo>
                    <a:pt x="85" y="208"/>
                  </a:lnTo>
                  <a:lnTo>
                    <a:pt x="76" y="175"/>
                  </a:lnTo>
                  <a:lnTo>
                    <a:pt x="69" y="141"/>
                  </a:lnTo>
                  <a:lnTo>
                    <a:pt x="61" y="108"/>
                  </a:lnTo>
                  <a:lnTo>
                    <a:pt x="54" y="74"/>
                  </a:lnTo>
                  <a:lnTo>
                    <a:pt x="47" y="41"/>
                  </a:lnTo>
                  <a:lnTo>
                    <a:pt x="39" y="7"/>
                  </a:lnTo>
                  <a:lnTo>
                    <a:pt x="35" y="2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6508440" y="4387680"/>
              <a:ext cx="108000" cy="158760"/>
            </a:xfrm>
            <a:custGeom>
              <a:avLst/>
              <a:gdLst/>
              <a:ahLst/>
              <a:rect l="l" t="t" r="r" b="b"/>
              <a:pathLst>
                <a:path w="276" h="359">
                  <a:moveTo>
                    <a:pt x="237" y="13"/>
                  </a:moveTo>
                  <a:lnTo>
                    <a:pt x="241" y="0"/>
                  </a:lnTo>
                  <a:lnTo>
                    <a:pt x="226" y="21"/>
                  </a:lnTo>
                  <a:lnTo>
                    <a:pt x="212" y="42"/>
                  </a:lnTo>
                  <a:lnTo>
                    <a:pt x="196" y="63"/>
                  </a:lnTo>
                  <a:lnTo>
                    <a:pt x="181" y="84"/>
                  </a:lnTo>
                  <a:lnTo>
                    <a:pt x="166" y="105"/>
                  </a:lnTo>
                  <a:lnTo>
                    <a:pt x="152" y="126"/>
                  </a:lnTo>
                  <a:lnTo>
                    <a:pt x="137" y="147"/>
                  </a:lnTo>
                  <a:lnTo>
                    <a:pt x="121" y="168"/>
                  </a:lnTo>
                  <a:lnTo>
                    <a:pt x="106" y="189"/>
                  </a:lnTo>
                  <a:lnTo>
                    <a:pt x="91" y="209"/>
                  </a:lnTo>
                  <a:lnTo>
                    <a:pt x="75" y="230"/>
                  </a:lnTo>
                  <a:lnTo>
                    <a:pt x="59" y="251"/>
                  </a:lnTo>
                  <a:lnTo>
                    <a:pt x="45" y="274"/>
                  </a:lnTo>
                  <a:lnTo>
                    <a:pt x="31" y="295"/>
                  </a:lnTo>
                  <a:lnTo>
                    <a:pt x="15" y="315"/>
                  </a:lnTo>
                  <a:lnTo>
                    <a:pt x="0" y="336"/>
                  </a:lnTo>
                  <a:lnTo>
                    <a:pt x="31" y="359"/>
                  </a:lnTo>
                  <a:lnTo>
                    <a:pt x="46" y="338"/>
                  </a:lnTo>
                  <a:lnTo>
                    <a:pt x="61" y="317"/>
                  </a:lnTo>
                  <a:lnTo>
                    <a:pt x="78" y="296"/>
                  </a:lnTo>
                  <a:lnTo>
                    <a:pt x="92" y="274"/>
                  </a:lnTo>
                  <a:lnTo>
                    <a:pt x="106" y="253"/>
                  </a:lnTo>
                  <a:lnTo>
                    <a:pt x="121" y="232"/>
                  </a:lnTo>
                  <a:lnTo>
                    <a:pt x="137" y="211"/>
                  </a:lnTo>
                  <a:lnTo>
                    <a:pt x="152" y="190"/>
                  </a:lnTo>
                  <a:lnTo>
                    <a:pt x="167" y="169"/>
                  </a:lnTo>
                  <a:lnTo>
                    <a:pt x="183" y="148"/>
                  </a:lnTo>
                  <a:lnTo>
                    <a:pt x="196" y="127"/>
                  </a:lnTo>
                  <a:lnTo>
                    <a:pt x="212" y="106"/>
                  </a:lnTo>
                  <a:lnTo>
                    <a:pt x="227" y="85"/>
                  </a:lnTo>
                  <a:lnTo>
                    <a:pt x="242" y="64"/>
                  </a:lnTo>
                  <a:lnTo>
                    <a:pt x="256" y="44"/>
                  </a:lnTo>
                  <a:lnTo>
                    <a:pt x="272" y="23"/>
                  </a:lnTo>
                  <a:lnTo>
                    <a:pt x="276" y="10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6592680" y="4281480"/>
              <a:ext cx="23760" cy="112680"/>
            </a:xfrm>
            <a:custGeom>
              <a:avLst/>
              <a:gdLst/>
              <a:ahLst/>
              <a:rect l="l" t="t" r="r" b="b"/>
              <a:pathLst>
                <a:path w="60" h="257">
                  <a:moveTo>
                    <a:pt x="4" y="25"/>
                  </a:moveTo>
                  <a:lnTo>
                    <a:pt x="0" y="14"/>
                  </a:lnTo>
                  <a:lnTo>
                    <a:pt x="1" y="30"/>
                  </a:lnTo>
                  <a:lnTo>
                    <a:pt x="3" y="45"/>
                  </a:lnTo>
                  <a:lnTo>
                    <a:pt x="4" y="60"/>
                  </a:lnTo>
                  <a:lnTo>
                    <a:pt x="6" y="74"/>
                  </a:lnTo>
                  <a:lnTo>
                    <a:pt x="7" y="90"/>
                  </a:lnTo>
                  <a:lnTo>
                    <a:pt x="8" y="105"/>
                  </a:lnTo>
                  <a:lnTo>
                    <a:pt x="10" y="120"/>
                  </a:lnTo>
                  <a:lnTo>
                    <a:pt x="11" y="136"/>
                  </a:lnTo>
                  <a:lnTo>
                    <a:pt x="11" y="151"/>
                  </a:lnTo>
                  <a:lnTo>
                    <a:pt x="13" y="166"/>
                  </a:lnTo>
                  <a:lnTo>
                    <a:pt x="14" y="182"/>
                  </a:lnTo>
                  <a:lnTo>
                    <a:pt x="15" y="195"/>
                  </a:lnTo>
                  <a:lnTo>
                    <a:pt x="17" y="211"/>
                  </a:lnTo>
                  <a:lnTo>
                    <a:pt x="18" y="226"/>
                  </a:lnTo>
                  <a:lnTo>
                    <a:pt x="20" y="241"/>
                  </a:lnTo>
                  <a:lnTo>
                    <a:pt x="21" y="257"/>
                  </a:lnTo>
                  <a:lnTo>
                    <a:pt x="60" y="254"/>
                  </a:lnTo>
                  <a:lnTo>
                    <a:pt x="59" y="239"/>
                  </a:lnTo>
                  <a:lnTo>
                    <a:pt x="57" y="223"/>
                  </a:lnTo>
                  <a:lnTo>
                    <a:pt x="56" y="208"/>
                  </a:lnTo>
                  <a:lnTo>
                    <a:pt x="54" y="193"/>
                  </a:lnTo>
                  <a:lnTo>
                    <a:pt x="53" y="179"/>
                  </a:lnTo>
                  <a:lnTo>
                    <a:pt x="52" y="163"/>
                  </a:lnTo>
                  <a:lnTo>
                    <a:pt x="50" y="148"/>
                  </a:lnTo>
                  <a:lnTo>
                    <a:pt x="50" y="133"/>
                  </a:lnTo>
                  <a:lnTo>
                    <a:pt x="49" y="117"/>
                  </a:lnTo>
                  <a:lnTo>
                    <a:pt x="47" y="102"/>
                  </a:lnTo>
                  <a:lnTo>
                    <a:pt x="46" y="87"/>
                  </a:lnTo>
                  <a:lnTo>
                    <a:pt x="45" y="71"/>
                  </a:lnTo>
                  <a:lnTo>
                    <a:pt x="43" y="57"/>
                  </a:lnTo>
                  <a:lnTo>
                    <a:pt x="42" y="42"/>
                  </a:lnTo>
                  <a:lnTo>
                    <a:pt x="40" y="27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6451200" y="4084560"/>
              <a:ext cx="155880" cy="206280"/>
            </a:xfrm>
            <a:custGeom>
              <a:avLst/>
              <a:gdLst/>
              <a:ahLst/>
              <a:rect l="l" t="t" r="r" b="b"/>
              <a:pathLst>
                <a:path w="399" h="468">
                  <a:moveTo>
                    <a:pt x="0" y="4"/>
                  </a:moveTo>
                  <a:lnTo>
                    <a:pt x="2" y="25"/>
                  </a:lnTo>
                  <a:lnTo>
                    <a:pt x="24" y="53"/>
                  </a:lnTo>
                  <a:lnTo>
                    <a:pt x="48" y="81"/>
                  </a:lnTo>
                  <a:lnTo>
                    <a:pt x="70" y="109"/>
                  </a:lnTo>
                  <a:lnTo>
                    <a:pt x="94" y="135"/>
                  </a:lnTo>
                  <a:lnTo>
                    <a:pt x="116" y="163"/>
                  </a:lnTo>
                  <a:lnTo>
                    <a:pt x="140" y="191"/>
                  </a:lnTo>
                  <a:lnTo>
                    <a:pt x="162" y="219"/>
                  </a:lnTo>
                  <a:lnTo>
                    <a:pt x="186" y="247"/>
                  </a:lnTo>
                  <a:lnTo>
                    <a:pt x="208" y="275"/>
                  </a:lnTo>
                  <a:lnTo>
                    <a:pt x="232" y="302"/>
                  </a:lnTo>
                  <a:lnTo>
                    <a:pt x="254" y="330"/>
                  </a:lnTo>
                  <a:lnTo>
                    <a:pt x="278" y="357"/>
                  </a:lnTo>
                  <a:lnTo>
                    <a:pt x="300" y="385"/>
                  </a:lnTo>
                  <a:lnTo>
                    <a:pt x="322" y="413"/>
                  </a:lnTo>
                  <a:lnTo>
                    <a:pt x="346" y="440"/>
                  </a:lnTo>
                  <a:lnTo>
                    <a:pt x="368" y="468"/>
                  </a:lnTo>
                  <a:lnTo>
                    <a:pt x="399" y="443"/>
                  </a:lnTo>
                  <a:lnTo>
                    <a:pt x="377" y="415"/>
                  </a:lnTo>
                  <a:lnTo>
                    <a:pt x="353" y="387"/>
                  </a:lnTo>
                  <a:lnTo>
                    <a:pt x="331" y="360"/>
                  </a:lnTo>
                  <a:lnTo>
                    <a:pt x="308" y="332"/>
                  </a:lnTo>
                  <a:lnTo>
                    <a:pt x="285" y="305"/>
                  </a:lnTo>
                  <a:lnTo>
                    <a:pt x="262" y="277"/>
                  </a:lnTo>
                  <a:lnTo>
                    <a:pt x="239" y="249"/>
                  </a:lnTo>
                  <a:lnTo>
                    <a:pt x="216" y="222"/>
                  </a:lnTo>
                  <a:lnTo>
                    <a:pt x="193" y="194"/>
                  </a:lnTo>
                  <a:lnTo>
                    <a:pt x="170" y="166"/>
                  </a:lnTo>
                  <a:lnTo>
                    <a:pt x="147" y="138"/>
                  </a:lnTo>
                  <a:lnTo>
                    <a:pt x="124" y="110"/>
                  </a:lnTo>
                  <a:lnTo>
                    <a:pt x="101" y="83"/>
                  </a:lnTo>
                  <a:lnTo>
                    <a:pt x="78" y="56"/>
                  </a:lnTo>
                  <a:lnTo>
                    <a:pt x="55" y="28"/>
                  </a:lnTo>
                  <a:lnTo>
                    <a:pt x="32" y="0"/>
                  </a:lnTo>
                  <a:lnTo>
                    <a:pt x="34" y="2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6451200" y="3814560"/>
              <a:ext cx="217800" cy="279360"/>
            </a:xfrm>
            <a:custGeom>
              <a:avLst/>
              <a:gdLst/>
              <a:ahLst/>
              <a:rect l="l" t="t" r="r" b="b"/>
              <a:pathLst>
                <a:path w="556" h="633">
                  <a:moveTo>
                    <a:pt x="526" y="26"/>
                  </a:moveTo>
                  <a:lnTo>
                    <a:pt x="527" y="0"/>
                  </a:lnTo>
                  <a:lnTo>
                    <a:pt x="492" y="33"/>
                  </a:lnTo>
                  <a:lnTo>
                    <a:pt x="456" y="67"/>
                  </a:lnTo>
                  <a:lnTo>
                    <a:pt x="421" y="100"/>
                  </a:lnTo>
                  <a:lnTo>
                    <a:pt x="385" y="134"/>
                  </a:lnTo>
                  <a:lnTo>
                    <a:pt x="350" y="168"/>
                  </a:lnTo>
                  <a:lnTo>
                    <a:pt x="315" y="202"/>
                  </a:lnTo>
                  <a:lnTo>
                    <a:pt x="280" y="238"/>
                  </a:lnTo>
                  <a:lnTo>
                    <a:pt x="246" y="273"/>
                  </a:lnTo>
                  <a:lnTo>
                    <a:pt x="212" y="312"/>
                  </a:lnTo>
                  <a:lnTo>
                    <a:pt x="177" y="350"/>
                  </a:lnTo>
                  <a:lnTo>
                    <a:pt x="145" y="390"/>
                  </a:lnTo>
                  <a:lnTo>
                    <a:pt x="115" y="432"/>
                  </a:lnTo>
                  <a:lnTo>
                    <a:pt x="84" y="474"/>
                  </a:lnTo>
                  <a:lnTo>
                    <a:pt x="55" y="520"/>
                  </a:lnTo>
                  <a:lnTo>
                    <a:pt x="27" y="566"/>
                  </a:lnTo>
                  <a:lnTo>
                    <a:pt x="0" y="616"/>
                  </a:lnTo>
                  <a:lnTo>
                    <a:pt x="34" y="633"/>
                  </a:lnTo>
                  <a:lnTo>
                    <a:pt x="60" y="585"/>
                  </a:lnTo>
                  <a:lnTo>
                    <a:pt x="88" y="539"/>
                  </a:lnTo>
                  <a:lnTo>
                    <a:pt x="117" y="496"/>
                  </a:lnTo>
                  <a:lnTo>
                    <a:pt x="145" y="454"/>
                  </a:lnTo>
                  <a:lnTo>
                    <a:pt x="176" y="415"/>
                  </a:lnTo>
                  <a:lnTo>
                    <a:pt x="208" y="375"/>
                  </a:lnTo>
                  <a:lnTo>
                    <a:pt x="240" y="337"/>
                  </a:lnTo>
                  <a:lnTo>
                    <a:pt x="273" y="301"/>
                  </a:lnTo>
                  <a:lnTo>
                    <a:pt x="308" y="266"/>
                  </a:lnTo>
                  <a:lnTo>
                    <a:pt x="343" y="230"/>
                  </a:lnTo>
                  <a:lnTo>
                    <a:pt x="378" y="196"/>
                  </a:lnTo>
                  <a:lnTo>
                    <a:pt x="413" y="161"/>
                  </a:lnTo>
                  <a:lnTo>
                    <a:pt x="449" y="128"/>
                  </a:lnTo>
                  <a:lnTo>
                    <a:pt x="484" y="94"/>
                  </a:lnTo>
                  <a:lnTo>
                    <a:pt x="520" y="61"/>
                  </a:lnTo>
                  <a:lnTo>
                    <a:pt x="555" y="28"/>
                  </a:lnTo>
                  <a:lnTo>
                    <a:pt x="556" y="1"/>
                  </a:lnTo>
                  <a:lnTo>
                    <a:pt x="52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6562440" y="3376440"/>
              <a:ext cx="106560" cy="449280"/>
            </a:xfrm>
            <a:custGeom>
              <a:avLst/>
              <a:gdLst/>
              <a:ahLst/>
              <a:rect l="l" t="t" r="r" b="b"/>
              <a:pathLst>
                <a:path w="273" h="1021">
                  <a:moveTo>
                    <a:pt x="209" y="0"/>
                  </a:moveTo>
                  <a:lnTo>
                    <a:pt x="206" y="2"/>
                  </a:lnTo>
                  <a:lnTo>
                    <a:pt x="180" y="21"/>
                  </a:lnTo>
                  <a:lnTo>
                    <a:pt x="155" y="39"/>
                  </a:lnTo>
                  <a:lnTo>
                    <a:pt x="131" y="62"/>
                  </a:lnTo>
                  <a:lnTo>
                    <a:pt x="109" y="86"/>
                  </a:lnTo>
                  <a:lnTo>
                    <a:pt x="91" y="111"/>
                  </a:lnTo>
                  <a:lnTo>
                    <a:pt x="73" y="137"/>
                  </a:lnTo>
                  <a:lnTo>
                    <a:pt x="59" y="162"/>
                  </a:lnTo>
                  <a:lnTo>
                    <a:pt x="43" y="191"/>
                  </a:lnTo>
                  <a:lnTo>
                    <a:pt x="32" y="222"/>
                  </a:lnTo>
                  <a:lnTo>
                    <a:pt x="24" y="251"/>
                  </a:lnTo>
                  <a:lnTo>
                    <a:pt x="14" y="284"/>
                  </a:lnTo>
                  <a:lnTo>
                    <a:pt x="9" y="316"/>
                  </a:lnTo>
                  <a:lnTo>
                    <a:pt x="4" y="349"/>
                  </a:lnTo>
                  <a:lnTo>
                    <a:pt x="2" y="383"/>
                  </a:lnTo>
                  <a:lnTo>
                    <a:pt x="0" y="416"/>
                  </a:lnTo>
                  <a:lnTo>
                    <a:pt x="2" y="452"/>
                  </a:lnTo>
                  <a:lnTo>
                    <a:pt x="4" y="486"/>
                  </a:lnTo>
                  <a:lnTo>
                    <a:pt x="9" y="522"/>
                  </a:lnTo>
                  <a:lnTo>
                    <a:pt x="14" y="557"/>
                  </a:lnTo>
                  <a:lnTo>
                    <a:pt x="21" y="594"/>
                  </a:lnTo>
                  <a:lnTo>
                    <a:pt x="32" y="631"/>
                  </a:lnTo>
                  <a:lnTo>
                    <a:pt x="43" y="667"/>
                  </a:lnTo>
                  <a:lnTo>
                    <a:pt x="56" y="703"/>
                  </a:lnTo>
                  <a:lnTo>
                    <a:pt x="70" y="739"/>
                  </a:lnTo>
                  <a:lnTo>
                    <a:pt x="85" y="777"/>
                  </a:lnTo>
                  <a:lnTo>
                    <a:pt x="103" y="812"/>
                  </a:lnTo>
                  <a:lnTo>
                    <a:pt x="123" y="848"/>
                  </a:lnTo>
                  <a:lnTo>
                    <a:pt x="144" y="883"/>
                  </a:lnTo>
                  <a:lnTo>
                    <a:pt x="166" y="919"/>
                  </a:lnTo>
                  <a:lnTo>
                    <a:pt x="191" y="953"/>
                  </a:lnTo>
                  <a:lnTo>
                    <a:pt x="216" y="988"/>
                  </a:lnTo>
                  <a:lnTo>
                    <a:pt x="243" y="1021"/>
                  </a:lnTo>
                  <a:lnTo>
                    <a:pt x="273" y="996"/>
                  </a:lnTo>
                  <a:lnTo>
                    <a:pt x="247" y="963"/>
                  </a:lnTo>
                  <a:lnTo>
                    <a:pt x="222" y="931"/>
                  </a:lnTo>
                  <a:lnTo>
                    <a:pt x="199" y="897"/>
                  </a:lnTo>
                  <a:lnTo>
                    <a:pt x="177" y="864"/>
                  </a:lnTo>
                  <a:lnTo>
                    <a:pt x="156" y="829"/>
                  </a:lnTo>
                  <a:lnTo>
                    <a:pt x="137" y="795"/>
                  </a:lnTo>
                  <a:lnTo>
                    <a:pt x="121" y="760"/>
                  </a:lnTo>
                  <a:lnTo>
                    <a:pt x="106" y="726"/>
                  </a:lnTo>
                  <a:lnTo>
                    <a:pt x="92" y="689"/>
                  </a:lnTo>
                  <a:lnTo>
                    <a:pt x="80" y="656"/>
                  </a:lnTo>
                  <a:lnTo>
                    <a:pt x="68" y="620"/>
                  </a:lnTo>
                  <a:lnTo>
                    <a:pt x="60" y="586"/>
                  </a:lnTo>
                  <a:lnTo>
                    <a:pt x="53" y="551"/>
                  </a:lnTo>
                  <a:lnTo>
                    <a:pt x="48" y="516"/>
                  </a:lnTo>
                  <a:lnTo>
                    <a:pt x="43" y="483"/>
                  </a:lnTo>
                  <a:lnTo>
                    <a:pt x="41" y="449"/>
                  </a:lnTo>
                  <a:lnTo>
                    <a:pt x="39" y="416"/>
                  </a:lnTo>
                  <a:lnTo>
                    <a:pt x="41" y="385"/>
                  </a:lnTo>
                  <a:lnTo>
                    <a:pt x="43" y="352"/>
                  </a:lnTo>
                  <a:lnTo>
                    <a:pt x="48" y="321"/>
                  </a:lnTo>
                  <a:lnTo>
                    <a:pt x="53" y="292"/>
                  </a:lnTo>
                  <a:lnTo>
                    <a:pt x="60" y="263"/>
                  </a:lnTo>
                  <a:lnTo>
                    <a:pt x="68" y="233"/>
                  </a:lnTo>
                  <a:lnTo>
                    <a:pt x="80" y="208"/>
                  </a:lnTo>
                  <a:lnTo>
                    <a:pt x="92" y="182"/>
                  </a:lnTo>
                  <a:lnTo>
                    <a:pt x="106" y="157"/>
                  </a:lnTo>
                  <a:lnTo>
                    <a:pt x="121" y="133"/>
                  </a:lnTo>
                  <a:lnTo>
                    <a:pt x="140" y="111"/>
                  </a:lnTo>
                  <a:lnTo>
                    <a:pt x="159" y="90"/>
                  </a:lnTo>
                  <a:lnTo>
                    <a:pt x="180" y="70"/>
                  </a:lnTo>
                  <a:lnTo>
                    <a:pt x="202" y="52"/>
                  </a:lnTo>
                  <a:lnTo>
                    <a:pt x="226" y="35"/>
                  </a:lnTo>
                  <a:lnTo>
                    <a:pt x="223" y="3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6643440" y="3267000"/>
              <a:ext cx="326880" cy="125280"/>
            </a:xfrm>
            <a:custGeom>
              <a:avLst/>
              <a:gdLst/>
              <a:ahLst/>
              <a:rect l="l" t="t" r="r" b="b"/>
              <a:pathLst>
                <a:path w="839" h="281">
                  <a:moveTo>
                    <a:pt x="839" y="0"/>
                  </a:moveTo>
                  <a:lnTo>
                    <a:pt x="831" y="0"/>
                  </a:lnTo>
                  <a:lnTo>
                    <a:pt x="779" y="13"/>
                  </a:lnTo>
                  <a:lnTo>
                    <a:pt x="728" y="24"/>
                  </a:lnTo>
                  <a:lnTo>
                    <a:pt x="676" y="37"/>
                  </a:lnTo>
                  <a:lnTo>
                    <a:pt x="623" y="49"/>
                  </a:lnTo>
                  <a:lnTo>
                    <a:pt x="570" y="63"/>
                  </a:lnTo>
                  <a:lnTo>
                    <a:pt x="517" y="77"/>
                  </a:lnTo>
                  <a:lnTo>
                    <a:pt x="464" y="91"/>
                  </a:lnTo>
                  <a:lnTo>
                    <a:pt x="411" y="106"/>
                  </a:lnTo>
                  <a:lnTo>
                    <a:pt x="360" y="122"/>
                  </a:lnTo>
                  <a:lnTo>
                    <a:pt x="307" y="137"/>
                  </a:lnTo>
                  <a:lnTo>
                    <a:pt x="255" y="154"/>
                  </a:lnTo>
                  <a:lnTo>
                    <a:pt x="204" y="171"/>
                  </a:lnTo>
                  <a:lnTo>
                    <a:pt x="151" y="189"/>
                  </a:lnTo>
                  <a:lnTo>
                    <a:pt x="101" y="207"/>
                  </a:lnTo>
                  <a:lnTo>
                    <a:pt x="50" y="225"/>
                  </a:lnTo>
                  <a:lnTo>
                    <a:pt x="0" y="244"/>
                  </a:lnTo>
                  <a:lnTo>
                    <a:pt x="14" y="281"/>
                  </a:lnTo>
                  <a:lnTo>
                    <a:pt x="64" y="261"/>
                  </a:lnTo>
                  <a:lnTo>
                    <a:pt x="114" y="243"/>
                  </a:lnTo>
                  <a:lnTo>
                    <a:pt x="165" y="225"/>
                  </a:lnTo>
                  <a:lnTo>
                    <a:pt x="215" y="207"/>
                  </a:lnTo>
                  <a:lnTo>
                    <a:pt x="266" y="190"/>
                  </a:lnTo>
                  <a:lnTo>
                    <a:pt x="318" y="173"/>
                  </a:lnTo>
                  <a:lnTo>
                    <a:pt x="371" y="158"/>
                  </a:lnTo>
                  <a:lnTo>
                    <a:pt x="422" y="143"/>
                  </a:lnTo>
                  <a:lnTo>
                    <a:pt x="475" y="130"/>
                  </a:lnTo>
                  <a:lnTo>
                    <a:pt x="528" y="116"/>
                  </a:lnTo>
                  <a:lnTo>
                    <a:pt x="581" y="102"/>
                  </a:lnTo>
                  <a:lnTo>
                    <a:pt x="632" y="88"/>
                  </a:lnTo>
                  <a:lnTo>
                    <a:pt x="684" y="76"/>
                  </a:lnTo>
                  <a:lnTo>
                    <a:pt x="736" y="63"/>
                  </a:lnTo>
                  <a:lnTo>
                    <a:pt x="788" y="52"/>
                  </a:lnTo>
                  <a:lnTo>
                    <a:pt x="839" y="39"/>
                  </a:lnTo>
                  <a:lnTo>
                    <a:pt x="831" y="39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7191000" y="3933720"/>
              <a:ext cx="12960" cy="14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5"/>
                  </a:move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7192800" y="3936960"/>
              <a:ext cx="220680" cy="422280"/>
            </a:xfrm>
            <a:custGeom>
              <a:avLst/>
              <a:gdLst/>
              <a:ahLst/>
              <a:rect l="l" t="t" r="r" b="b"/>
              <a:pathLst>
                <a:path w="566" h="958">
                  <a:moveTo>
                    <a:pt x="566" y="944"/>
                  </a:moveTo>
                  <a:lnTo>
                    <a:pt x="551" y="904"/>
                  </a:lnTo>
                  <a:lnTo>
                    <a:pt x="535" y="864"/>
                  </a:lnTo>
                  <a:lnTo>
                    <a:pt x="520" y="824"/>
                  </a:lnTo>
                  <a:lnTo>
                    <a:pt x="505" y="787"/>
                  </a:lnTo>
                  <a:lnTo>
                    <a:pt x="491" y="751"/>
                  </a:lnTo>
                  <a:lnTo>
                    <a:pt x="477" y="714"/>
                  </a:lnTo>
                  <a:lnTo>
                    <a:pt x="461" y="679"/>
                  </a:lnTo>
                  <a:lnTo>
                    <a:pt x="447" y="646"/>
                  </a:lnTo>
                  <a:lnTo>
                    <a:pt x="434" y="611"/>
                  </a:lnTo>
                  <a:lnTo>
                    <a:pt x="418" y="579"/>
                  </a:lnTo>
                  <a:lnTo>
                    <a:pt x="404" y="547"/>
                  </a:lnTo>
                  <a:lnTo>
                    <a:pt x="390" y="516"/>
                  </a:lnTo>
                  <a:lnTo>
                    <a:pt x="375" y="486"/>
                  </a:lnTo>
                  <a:lnTo>
                    <a:pt x="361" y="456"/>
                  </a:lnTo>
                  <a:lnTo>
                    <a:pt x="344" y="426"/>
                  </a:lnTo>
                  <a:lnTo>
                    <a:pt x="329" y="398"/>
                  </a:lnTo>
                  <a:lnTo>
                    <a:pt x="314" y="370"/>
                  </a:lnTo>
                  <a:lnTo>
                    <a:pt x="298" y="343"/>
                  </a:lnTo>
                  <a:lnTo>
                    <a:pt x="282" y="317"/>
                  </a:lnTo>
                  <a:lnTo>
                    <a:pt x="266" y="290"/>
                  </a:lnTo>
                  <a:lnTo>
                    <a:pt x="248" y="264"/>
                  </a:lnTo>
                  <a:lnTo>
                    <a:pt x="230" y="239"/>
                  </a:lnTo>
                  <a:lnTo>
                    <a:pt x="213" y="214"/>
                  </a:lnTo>
                  <a:lnTo>
                    <a:pt x="195" y="189"/>
                  </a:lnTo>
                  <a:lnTo>
                    <a:pt x="177" y="164"/>
                  </a:lnTo>
                  <a:lnTo>
                    <a:pt x="158" y="140"/>
                  </a:lnTo>
                  <a:lnTo>
                    <a:pt x="137" y="116"/>
                  </a:lnTo>
                  <a:lnTo>
                    <a:pt x="116" y="94"/>
                  </a:lnTo>
                  <a:lnTo>
                    <a:pt x="95" y="70"/>
                  </a:lnTo>
                  <a:lnTo>
                    <a:pt x="74" y="46"/>
                  </a:lnTo>
                  <a:lnTo>
                    <a:pt x="52" y="23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24" y="51"/>
                  </a:lnTo>
                  <a:lnTo>
                    <a:pt x="46" y="74"/>
                  </a:lnTo>
                  <a:lnTo>
                    <a:pt x="67" y="95"/>
                  </a:lnTo>
                  <a:lnTo>
                    <a:pt x="88" y="119"/>
                  </a:lnTo>
                  <a:lnTo>
                    <a:pt x="109" y="141"/>
                  </a:lnTo>
                  <a:lnTo>
                    <a:pt x="127" y="165"/>
                  </a:lnTo>
                  <a:lnTo>
                    <a:pt x="146" y="189"/>
                  </a:lnTo>
                  <a:lnTo>
                    <a:pt x="165" y="211"/>
                  </a:lnTo>
                  <a:lnTo>
                    <a:pt x="183" y="236"/>
                  </a:lnTo>
                  <a:lnTo>
                    <a:pt x="199" y="261"/>
                  </a:lnTo>
                  <a:lnTo>
                    <a:pt x="218" y="286"/>
                  </a:lnTo>
                  <a:lnTo>
                    <a:pt x="233" y="310"/>
                  </a:lnTo>
                  <a:lnTo>
                    <a:pt x="248" y="336"/>
                  </a:lnTo>
                  <a:lnTo>
                    <a:pt x="265" y="363"/>
                  </a:lnTo>
                  <a:lnTo>
                    <a:pt x="280" y="389"/>
                  </a:lnTo>
                  <a:lnTo>
                    <a:pt x="296" y="417"/>
                  </a:lnTo>
                  <a:lnTo>
                    <a:pt x="311" y="445"/>
                  </a:lnTo>
                  <a:lnTo>
                    <a:pt x="325" y="473"/>
                  </a:lnTo>
                  <a:lnTo>
                    <a:pt x="339" y="502"/>
                  </a:lnTo>
                  <a:lnTo>
                    <a:pt x="354" y="533"/>
                  </a:lnTo>
                  <a:lnTo>
                    <a:pt x="368" y="564"/>
                  </a:lnTo>
                  <a:lnTo>
                    <a:pt x="382" y="596"/>
                  </a:lnTo>
                  <a:lnTo>
                    <a:pt x="397" y="628"/>
                  </a:lnTo>
                  <a:lnTo>
                    <a:pt x="411" y="660"/>
                  </a:lnTo>
                  <a:lnTo>
                    <a:pt x="425" y="693"/>
                  </a:lnTo>
                  <a:lnTo>
                    <a:pt x="440" y="728"/>
                  </a:lnTo>
                  <a:lnTo>
                    <a:pt x="454" y="765"/>
                  </a:lnTo>
                  <a:lnTo>
                    <a:pt x="468" y="801"/>
                  </a:lnTo>
                  <a:lnTo>
                    <a:pt x="484" y="838"/>
                  </a:lnTo>
                  <a:lnTo>
                    <a:pt x="499" y="877"/>
                  </a:lnTo>
                  <a:lnTo>
                    <a:pt x="514" y="918"/>
                  </a:lnTo>
                  <a:lnTo>
                    <a:pt x="530" y="958"/>
                  </a:lnTo>
                  <a:lnTo>
                    <a:pt x="566" y="9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191000" y="3938400"/>
              <a:ext cx="14400" cy="1260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14"/>
                  </a:moveTo>
                  <a:lnTo>
                    <a:pt x="4" y="21"/>
                  </a:lnTo>
                  <a:lnTo>
                    <a:pt x="10" y="25"/>
                  </a:lnTo>
                  <a:lnTo>
                    <a:pt x="17" y="27"/>
                  </a:lnTo>
                  <a:lnTo>
                    <a:pt x="25" y="25"/>
                  </a:lnTo>
                  <a:lnTo>
                    <a:pt x="31" y="21"/>
                  </a:lnTo>
                  <a:lnTo>
                    <a:pt x="35" y="16"/>
                  </a:lnTo>
                  <a:lnTo>
                    <a:pt x="38" y="9"/>
                  </a:lnTo>
                  <a:lnTo>
                    <a:pt x="3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6738840" y="3421080"/>
              <a:ext cx="45720" cy="457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7" y="0"/>
                  </a:moveTo>
                  <a:lnTo>
                    <a:pt x="69" y="2"/>
                  </a:lnTo>
                  <a:lnTo>
                    <a:pt x="80" y="4"/>
                  </a:lnTo>
                  <a:lnTo>
                    <a:pt x="89" y="9"/>
                  </a:lnTo>
                  <a:lnTo>
                    <a:pt x="98" y="16"/>
                  </a:lnTo>
                  <a:lnTo>
                    <a:pt x="105" y="24"/>
                  </a:lnTo>
                  <a:lnTo>
                    <a:pt x="110" y="32"/>
                  </a:lnTo>
                  <a:lnTo>
                    <a:pt x="113" y="42"/>
                  </a:lnTo>
                  <a:lnTo>
                    <a:pt x="115" y="53"/>
                  </a:lnTo>
                  <a:lnTo>
                    <a:pt x="113" y="64"/>
                  </a:lnTo>
                  <a:lnTo>
                    <a:pt x="110" y="74"/>
                  </a:lnTo>
                  <a:lnTo>
                    <a:pt x="105" y="83"/>
                  </a:lnTo>
                  <a:lnTo>
                    <a:pt x="98" y="91"/>
                  </a:lnTo>
                  <a:lnTo>
                    <a:pt x="89" y="98"/>
                  </a:lnTo>
                  <a:lnTo>
                    <a:pt x="80" y="102"/>
                  </a:lnTo>
                  <a:lnTo>
                    <a:pt x="69" y="105"/>
                  </a:lnTo>
                  <a:lnTo>
                    <a:pt x="57" y="106"/>
                  </a:lnTo>
                  <a:lnTo>
                    <a:pt x="46" y="105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17" y="91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2"/>
                  </a:lnTo>
                  <a:lnTo>
                    <a:pt x="10" y="24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35" y="4"/>
                  </a:lnTo>
                  <a:lnTo>
                    <a:pt x="46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6899040" y="3377880"/>
              <a:ext cx="44280" cy="4608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57" y="0"/>
                  </a:moveTo>
                  <a:lnTo>
                    <a:pt x="68" y="2"/>
                  </a:lnTo>
                  <a:lnTo>
                    <a:pt x="79" y="5"/>
                  </a:lnTo>
                  <a:lnTo>
                    <a:pt x="89" y="9"/>
                  </a:lnTo>
                  <a:lnTo>
                    <a:pt x="98" y="16"/>
                  </a:lnTo>
                  <a:lnTo>
                    <a:pt x="104" y="24"/>
                  </a:lnTo>
                  <a:lnTo>
                    <a:pt x="110" y="32"/>
                  </a:lnTo>
                  <a:lnTo>
                    <a:pt x="113" y="42"/>
                  </a:lnTo>
                  <a:lnTo>
                    <a:pt x="114" y="53"/>
                  </a:lnTo>
                  <a:lnTo>
                    <a:pt x="113" y="65"/>
                  </a:lnTo>
                  <a:lnTo>
                    <a:pt x="110" y="74"/>
                  </a:lnTo>
                  <a:lnTo>
                    <a:pt x="104" y="83"/>
                  </a:lnTo>
                  <a:lnTo>
                    <a:pt x="98" y="91"/>
                  </a:lnTo>
                  <a:lnTo>
                    <a:pt x="89" y="98"/>
                  </a:lnTo>
                  <a:lnTo>
                    <a:pt x="79" y="102"/>
                  </a:lnTo>
                  <a:lnTo>
                    <a:pt x="68" y="105"/>
                  </a:lnTo>
                  <a:lnTo>
                    <a:pt x="57" y="106"/>
                  </a:lnTo>
                  <a:lnTo>
                    <a:pt x="46" y="105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17" y="91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1" y="65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2"/>
                  </a:lnTo>
                  <a:lnTo>
                    <a:pt x="10" y="24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35" y="5"/>
                  </a:lnTo>
                  <a:lnTo>
                    <a:pt x="46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7002360" y="3555720"/>
              <a:ext cx="15840" cy="129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7"/>
                  </a:moveTo>
                  <a:lnTo>
                    <a:pt x="37" y="19"/>
                  </a:lnTo>
                  <a:lnTo>
                    <a:pt x="35" y="12"/>
                  </a:lnTo>
                  <a:lnTo>
                    <a:pt x="30" y="6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6752880" y="3562200"/>
              <a:ext cx="263520" cy="125280"/>
            </a:xfrm>
            <a:custGeom>
              <a:avLst/>
              <a:gdLst/>
              <a:ahLst/>
              <a:rect l="l" t="t" r="r" b="b"/>
              <a:pathLst>
                <a:path w="677" h="283">
                  <a:moveTo>
                    <a:pt x="0" y="224"/>
                  </a:moveTo>
                  <a:lnTo>
                    <a:pt x="58" y="248"/>
                  </a:lnTo>
                  <a:lnTo>
                    <a:pt x="114" y="268"/>
                  </a:lnTo>
                  <a:lnTo>
                    <a:pt x="173" y="279"/>
                  </a:lnTo>
                  <a:lnTo>
                    <a:pt x="225" y="283"/>
                  </a:lnTo>
                  <a:lnTo>
                    <a:pt x="280" y="283"/>
                  </a:lnTo>
                  <a:lnTo>
                    <a:pt x="331" y="277"/>
                  </a:lnTo>
                  <a:lnTo>
                    <a:pt x="380" y="266"/>
                  </a:lnTo>
                  <a:lnTo>
                    <a:pt x="426" y="251"/>
                  </a:lnTo>
                  <a:lnTo>
                    <a:pt x="469" y="231"/>
                  </a:lnTo>
                  <a:lnTo>
                    <a:pt x="510" y="209"/>
                  </a:lnTo>
                  <a:lnTo>
                    <a:pt x="549" y="183"/>
                  </a:lnTo>
                  <a:lnTo>
                    <a:pt x="582" y="153"/>
                  </a:lnTo>
                  <a:lnTo>
                    <a:pt x="613" y="121"/>
                  </a:lnTo>
                  <a:lnTo>
                    <a:pt x="639" y="88"/>
                  </a:lnTo>
                  <a:lnTo>
                    <a:pt x="659" y="50"/>
                  </a:lnTo>
                  <a:lnTo>
                    <a:pt x="677" y="14"/>
                  </a:lnTo>
                  <a:lnTo>
                    <a:pt x="641" y="0"/>
                  </a:lnTo>
                  <a:lnTo>
                    <a:pt x="625" y="33"/>
                  </a:lnTo>
                  <a:lnTo>
                    <a:pt x="606" y="66"/>
                  </a:lnTo>
                  <a:lnTo>
                    <a:pt x="582" y="96"/>
                  </a:lnTo>
                  <a:lnTo>
                    <a:pt x="554" y="125"/>
                  </a:lnTo>
                  <a:lnTo>
                    <a:pt x="524" y="152"/>
                  </a:lnTo>
                  <a:lnTo>
                    <a:pt x="490" y="176"/>
                  </a:lnTo>
                  <a:lnTo>
                    <a:pt x="453" y="198"/>
                  </a:lnTo>
                  <a:lnTo>
                    <a:pt x="412" y="215"/>
                  </a:lnTo>
                  <a:lnTo>
                    <a:pt x="369" y="230"/>
                  </a:lnTo>
                  <a:lnTo>
                    <a:pt x="326" y="238"/>
                  </a:lnTo>
                  <a:lnTo>
                    <a:pt x="277" y="244"/>
                  </a:lnTo>
                  <a:lnTo>
                    <a:pt x="228" y="244"/>
                  </a:lnTo>
                  <a:lnTo>
                    <a:pt x="178" y="240"/>
                  </a:lnTo>
                  <a:lnTo>
                    <a:pt x="125" y="229"/>
                  </a:lnTo>
                  <a:lnTo>
                    <a:pt x="72" y="212"/>
                  </a:lnTo>
                  <a:lnTo>
                    <a:pt x="16" y="188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002360" y="3555720"/>
              <a:ext cx="10800" cy="176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28" y="3"/>
                  </a:moveTo>
                  <a:lnTo>
                    <a:pt x="20" y="0"/>
                  </a:lnTo>
                  <a:lnTo>
                    <a:pt x="13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2" y="39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6935400" y="4421160"/>
              <a:ext cx="147960" cy="158760"/>
            </a:xfrm>
            <a:custGeom>
              <a:avLst/>
              <a:gdLst/>
              <a:ahLst/>
              <a:rect l="l" t="t" r="r" b="b"/>
              <a:pathLst>
                <a:path w="377" h="360">
                  <a:moveTo>
                    <a:pt x="188" y="0"/>
                  </a:moveTo>
                  <a:lnTo>
                    <a:pt x="226" y="4"/>
                  </a:lnTo>
                  <a:lnTo>
                    <a:pt x="261" y="14"/>
                  </a:lnTo>
                  <a:lnTo>
                    <a:pt x="293" y="30"/>
                  </a:lnTo>
                  <a:lnTo>
                    <a:pt x="321" y="53"/>
                  </a:lnTo>
                  <a:lnTo>
                    <a:pt x="345" y="79"/>
                  </a:lnTo>
                  <a:lnTo>
                    <a:pt x="361" y="110"/>
                  </a:lnTo>
                  <a:lnTo>
                    <a:pt x="372" y="143"/>
                  </a:lnTo>
                  <a:lnTo>
                    <a:pt x="377" y="180"/>
                  </a:lnTo>
                  <a:lnTo>
                    <a:pt x="372" y="216"/>
                  </a:lnTo>
                  <a:lnTo>
                    <a:pt x="361" y="249"/>
                  </a:lnTo>
                  <a:lnTo>
                    <a:pt x="345" y="280"/>
                  </a:lnTo>
                  <a:lnTo>
                    <a:pt x="321" y="307"/>
                  </a:lnTo>
                  <a:lnTo>
                    <a:pt x="293" y="329"/>
                  </a:lnTo>
                  <a:lnTo>
                    <a:pt x="261" y="346"/>
                  </a:lnTo>
                  <a:lnTo>
                    <a:pt x="226" y="355"/>
                  </a:lnTo>
                  <a:lnTo>
                    <a:pt x="188" y="360"/>
                  </a:lnTo>
                  <a:lnTo>
                    <a:pt x="151" y="355"/>
                  </a:lnTo>
                  <a:lnTo>
                    <a:pt x="116" y="346"/>
                  </a:lnTo>
                  <a:lnTo>
                    <a:pt x="84" y="329"/>
                  </a:lnTo>
                  <a:lnTo>
                    <a:pt x="56" y="307"/>
                  </a:lnTo>
                  <a:lnTo>
                    <a:pt x="32" y="280"/>
                  </a:lnTo>
                  <a:lnTo>
                    <a:pt x="16" y="249"/>
                  </a:lnTo>
                  <a:lnTo>
                    <a:pt x="5" y="216"/>
                  </a:lnTo>
                  <a:lnTo>
                    <a:pt x="0" y="180"/>
                  </a:lnTo>
                  <a:lnTo>
                    <a:pt x="5" y="143"/>
                  </a:lnTo>
                  <a:lnTo>
                    <a:pt x="16" y="110"/>
                  </a:lnTo>
                  <a:lnTo>
                    <a:pt x="32" y="79"/>
                  </a:lnTo>
                  <a:lnTo>
                    <a:pt x="56" y="53"/>
                  </a:lnTo>
                  <a:lnTo>
                    <a:pt x="84" y="30"/>
                  </a:lnTo>
                  <a:lnTo>
                    <a:pt x="116" y="14"/>
                  </a:lnTo>
                  <a:lnTo>
                    <a:pt x="151" y="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ccff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6956280" y="4633920"/>
              <a:ext cx="137880" cy="147600"/>
            </a:xfrm>
            <a:custGeom>
              <a:avLst/>
              <a:gdLst/>
              <a:ahLst/>
              <a:rect l="l" t="t" r="r" b="b"/>
              <a:pathLst>
                <a:path w="353" h="337">
                  <a:moveTo>
                    <a:pt x="177" y="0"/>
                  </a:moveTo>
                  <a:lnTo>
                    <a:pt x="211" y="3"/>
                  </a:lnTo>
                  <a:lnTo>
                    <a:pt x="245" y="12"/>
                  </a:lnTo>
                  <a:lnTo>
                    <a:pt x="275" y="29"/>
                  </a:lnTo>
                  <a:lnTo>
                    <a:pt x="301" y="49"/>
                  </a:lnTo>
                  <a:lnTo>
                    <a:pt x="323" y="74"/>
                  </a:lnTo>
                  <a:lnTo>
                    <a:pt x="340" y="103"/>
                  </a:lnTo>
                  <a:lnTo>
                    <a:pt x="349" y="135"/>
                  </a:lnTo>
                  <a:lnTo>
                    <a:pt x="353" y="169"/>
                  </a:lnTo>
                  <a:lnTo>
                    <a:pt x="349" y="202"/>
                  </a:lnTo>
                  <a:lnTo>
                    <a:pt x="340" y="234"/>
                  </a:lnTo>
                  <a:lnTo>
                    <a:pt x="323" y="263"/>
                  </a:lnTo>
                  <a:lnTo>
                    <a:pt x="301" y="289"/>
                  </a:lnTo>
                  <a:lnTo>
                    <a:pt x="275" y="308"/>
                  </a:lnTo>
                  <a:lnTo>
                    <a:pt x="245" y="325"/>
                  </a:lnTo>
                  <a:lnTo>
                    <a:pt x="211" y="335"/>
                  </a:lnTo>
                  <a:lnTo>
                    <a:pt x="177" y="337"/>
                  </a:lnTo>
                  <a:lnTo>
                    <a:pt x="142" y="335"/>
                  </a:lnTo>
                  <a:lnTo>
                    <a:pt x="108" y="325"/>
                  </a:lnTo>
                  <a:lnTo>
                    <a:pt x="78" y="308"/>
                  </a:lnTo>
                  <a:lnTo>
                    <a:pt x="52" y="289"/>
                  </a:lnTo>
                  <a:lnTo>
                    <a:pt x="30" y="263"/>
                  </a:lnTo>
                  <a:lnTo>
                    <a:pt x="13" y="234"/>
                  </a:lnTo>
                  <a:lnTo>
                    <a:pt x="4" y="202"/>
                  </a:lnTo>
                  <a:lnTo>
                    <a:pt x="0" y="169"/>
                  </a:lnTo>
                  <a:lnTo>
                    <a:pt x="4" y="135"/>
                  </a:lnTo>
                  <a:lnTo>
                    <a:pt x="13" y="103"/>
                  </a:lnTo>
                  <a:lnTo>
                    <a:pt x="30" y="74"/>
                  </a:lnTo>
                  <a:lnTo>
                    <a:pt x="52" y="49"/>
                  </a:lnTo>
                  <a:lnTo>
                    <a:pt x="78" y="29"/>
                  </a:lnTo>
                  <a:lnTo>
                    <a:pt x="108" y="12"/>
                  </a:lnTo>
                  <a:lnTo>
                    <a:pt x="142" y="3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cc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6760800" y="3601800"/>
              <a:ext cx="15840" cy="9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0"/>
                  </a:moveTo>
                  <a:lnTo>
                    <a:pt x="33" y="6"/>
                  </a:lnTo>
                  <a:lnTo>
                    <a:pt x="19" y="0"/>
                  </a:lnTo>
                  <a:lnTo>
                    <a:pt x="5" y="6"/>
                  </a:lnTo>
                  <a:lnTo>
                    <a:pt x="0" y="2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6729120" y="3611520"/>
              <a:ext cx="47520" cy="73080"/>
            </a:xfrm>
            <a:custGeom>
              <a:avLst/>
              <a:gdLst/>
              <a:ahLst/>
              <a:rect l="l" t="t" r="r" b="b"/>
              <a:pathLst>
                <a:path w="122" h="165">
                  <a:moveTo>
                    <a:pt x="14" y="165"/>
                  </a:moveTo>
                  <a:lnTo>
                    <a:pt x="37" y="154"/>
                  </a:lnTo>
                  <a:lnTo>
                    <a:pt x="58" y="142"/>
                  </a:lnTo>
                  <a:lnTo>
                    <a:pt x="74" y="124"/>
                  </a:lnTo>
                  <a:lnTo>
                    <a:pt x="90" y="104"/>
                  </a:lnTo>
                  <a:lnTo>
                    <a:pt x="104" y="82"/>
                  </a:lnTo>
                  <a:lnTo>
                    <a:pt x="113" y="57"/>
                  </a:lnTo>
                  <a:lnTo>
                    <a:pt x="120" y="29"/>
                  </a:lnTo>
                  <a:lnTo>
                    <a:pt x="122" y="0"/>
                  </a:lnTo>
                  <a:lnTo>
                    <a:pt x="83" y="0"/>
                  </a:lnTo>
                  <a:lnTo>
                    <a:pt x="81" y="23"/>
                  </a:lnTo>
                  <a:lnTo>
                    <a:pt x="77" y="46"/>
                  </a:lnTo>
                  <a:lnTo>
                    <a:pt x="70" y="65"/>
                  </a:lnTo>
                  <a:lnTo>
                    <a:pt x="59" y="82"/>
                  </a:lnTo>
                  <a:lnTo>
                    <a:pt x="46" y="99"/>
                  </a:lnTo>
                  <a:lnTo>
                    <a:pt x="32" y="111"/>
                  </a:lnTo>
                  <a:lnTo>
                    <a:pt x="17" y="121"/>
                  </a:lnTo>
                  <a:lnTo>
                    <a:pt x="0" y="129"/>
                  </a:lnTo>
                  <a:lnTo>
                    <a:pt x="14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6760800" y="3603600"/>
              <a:ext cx="9720" cy="1584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2" y="0"/>
                  </a:move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31"/>
                  </a:lnTo>
                  <a:lnTo>
                    <a:pt x="11" y="35"/>
                  </a:lnTo>
                  <a:lnTo>
                    <a:pt x="18" y="38"/>
                  </a:lnTo>
                  <a:lnTo>
                    <a:pt x="26" y="3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6981480" y="3524040"/>
              <a:ext cx="15840" cy="97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9" y="16"/>
                  </a:moveTo>
                  <a:lnTo>
                    <a:pt x="37" y="8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6981480" y="3530520"/>
              <a:ext cx="61920" cy="522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59" y="78"/>
                  </a:moveTo>
                  <a:lnTo>
                    <a:pt x="134" y="74"/>
                  </a:lnTo>
                  <a:lnTo>
                    <a:pt x="111" y="69"/>
                  </a:lnTo>
                  <a:lnTo>
                    <a:pt x="91" y="62"/>
                  </a:lnTo>
                  <a:lnTo>
                    <a:pt x="74" y="53"/>
                  </a:lnTo>
                  <a:lnTo>
                    <a:pt x="62" y="43"/>
                  </a:lnTo>
                  <a:lnTo>
                    <a:pt x="51" y="31"/>
                  </a:lnTo>
                  <a:lnTo>
                    <a:pt x="44" y="18"/>
                  </a:lnTo>
                  <a:lnTo>
                    <a:pt x="39" y="0"/>
                  </a:lnTo>
                  <a:lnTo>
                    <a:pt x="0" y="6"/>
                  </a:lnTo>
                  <a:lnTo>
                    <a:pt x="7" y="32"/>
                  </a:lnTo>
                  <a:lnTo>
                    <a:pt x="20" y="53"/>
                  </a:lnTo>
                  <a:lnTo>
                    <a:pt x="34" y="71"/>
                  </a:lnTo>
                  <a:lnTo>
                    <a:pt x="55" y="87"/>
                  </a:lnTo>
                  <a:lnTo>
                    <a:pt x="77" y="98"/>
                  </a:lnTo>
                  <a:lnTo>
                    <a:pt x="99" y="105"/>
                  </a:lnTo>
                  <a:lnTo>
                    <a:pt x="126" y="113"/>
                  </a:lnTo>
                  <a:lnTo>
                    <a:pt x="154" y="117"/>
                  </a:lnTo>
                  <a:lnTo>
                    <a:pt x="15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6987960" y="3524040"/>
              <a:ext cx="9360" cy="176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8" y="37"/>
                  </a:lnTo>
                  <a:lnTo>
                    <a:pt x="15" y="34"/>
                  </a:lnTo>
                  <a:lnTo>
                    <a:pt x="20" y="29"/>
                  </a:lnTo>
                  <a:lnTo>
                    <a:pt x="22" y="20"/>
                  </a:lnTo>
                  <a:lnTo>
                    <a:pt x="21" y="13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6784560" y="3463920"/>
              <a:ext cx="168480" cy="272880"/>
            </a:xfrm>
            <a:custGeom>
              <a:avLst/>
              <a:gdLst/>
              <a:ahLst/>
              <a:rect l="l" t="t" r="r" b="b"/>
              <a:pathLst>
                <a:path w="429" h="619">
                  <a:moveTo>
                    <a:pt x="429" y="92"/>
                  </a:moveTo>
                  <a:lnTo>
                    <a:pt x="408" y="65"/>
                  </a:lnTo>
                  <a:lnTo>
                    <a:pt x="383" y="42"/>
                  </a:lnTo>
                  <a:lnTo>
                    <a:pt x="355" y="25"/>
                  </a:lnTo>
                  <a:lnTo>
                    <a:pt x="322" y="12"/>
                  </a:lnTo>
                  <a:lnTo>
                    <a:pt x="287" y="4"/>
                  </a:lnTo>
                  <a:lnTo>
                    <a:pt x="252" y="0"/>
                  </a:lnTo>
                  <a:lnTo>
                    <a:pt x="215" y="3"/>
                  </a:lnTo>
                  <a:lnTo>
                    <a:pt x="178" y="8"/>
                  </a:lnTo>
                  <a:lnTo>
                    <a:pt x="143" y="19"/>
                  </a:lnTo>
                  <a:lnTo>
                    <a:pt x="110" y="35"/>
                  </a:lnTo>
                  <a:lnTo>
                    <a:pt x="79" y="56"/>
                  </a:lnTo>
                  <a:lnTo>
                    <a:pt x="53" y="81"/>
                  </a:lnTo>
                  <a:lnTo>
                    <a:pt x="31" y="111"/>
                  </a:lnTo>
                  <a:lnTo>
                    <a:pt x="14" y="146"/>
                  </a:lnTo>
                  <a:lnTo>
                    <a:pt x="3" y="185"/>
                  </a:lnTo>
                  <a:lnTo>
                    <a:pt x="0" y="230"/>
                  </a:lnTo>
                  <a:lnTo>
                    <a:pt x="8" y="248"/>
                  </a:lnTo>
                  <a:lnTo>
                    <a:pt x="19" y="268"/>
                  </a:lnTo>
                  <a:lnTo>
                    <a:pt x="33" y="290"/>
                  </a:lnTo>
                  <a:lnTo>
                    <a:pt x="49" y="311"/>
                  </a:lnTo>
                  <a:lnTo>
                    <a:pt x="65" y="335"/>
                  </a:lnTo>
                  <a:lnTo>
                    <a:pt x="85" y="358"/>
                  </a:lnTo>
                  <a:lnTo>
                    <a:pt x="106" y="383"/>
                  </a:lnTo>
                  <a:lnTo>
                    <a:pt x="130" y="408"/>
                  </a:lnTo>
                  <a:lnTo>
                    <a:pt x="155" y="435"/>
                  </a:lnTo>
                  <a:lnTo>
                    <a:pt x="181" y="461"/>
                  </a:lnTo>
                  <a:lnTo>
                    <a:pt x="210" y="488"/>
                  </a:lnTo>
                  <a:lnTo>
                    <a:pt x="241" y="514"/>
                  </a:lnTo>
                  <a:lnTo>
                    <a:pt x="272" y="541"/>
                  </a:lnTo>
                  <a:lnTo>
                    <a:pt x="307" y="567"/>
                  </a:lnTo>
                  <a:lnTo>
                    <a:pt x="341" y="592"/>
                  </a:lnTo>
                  <a:lnTo>
                    <a:pt x="378" y="619"/>
                  </a:lnTo>
                  <a:lnTo>
                    <a:pt x="386" y="552"/>
                  </a:lnTo>
                  <a:lnTo>
                    <a:pt x="394" y="487"/>
                  </a:lnTo>
                  <a:lnTo>
                    <a:pt x="403" y="421"/>
                  </a:lnTo>
                  <a:lnTo>
                    <a:pt x="411" y="355"/>
                  </a:lnTo>
                  <a:lnTo>
                    <a:pt x="418" y="291"/>
                  </a:lnTo>
                  <a:lnTo>
                    <a:pt x="424" y="224"/>
                  </a:lnTo>
                  <a:lnTo>
                    <a:pt x="428" y="159"/>
                  </a:lnTo>
                  <a:lnTo>
                    <a:pt x="429" y="92"/>
                  </a:lnTo>
                  <a:close/>
                </a:path>
              </a:pathLst>
            </a:cu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6776640" y="3456000"/>
              <a:ext cx="182880" cy="112680"/>
            </a:xfrm>
            <a:custGeom>
              <a:avLst/>
              <a:gdLst/>
              <a:ahLst/>
              <a:rect l="l" t="t" r="r" b="b"/>
              <a:pathLst>
                <a:path w="466" h="258">
                  <a:moveTo>
                    <a:pt x="38" y="242"/>
                  </a:moveTo>
                  <a:lnTo>
                    <a:pt x="39" y="250"/>
                  </a:lnTo>
                  <a:lnTo>
                    <a:pt x="42" y="208"/>
                  </a:lnTo>
                  <a:lnTo>
                    <a:pt x="52" y="173"/>
                  </a:lnTo>
                  <a:lnTo>
                    <a:pt x="67" y="141"/>
                  </a:lnTo>
                  <a:lnTo>
                    <a:pt x="87" y="113"/>
                  </a:lnTo>
                  <a:lnTo>
                    <a:pt x="112" y="91"/>
                  </a:lnTo>
                  <a:lnTo>
                    <a:pt x="140" y="71"/>
                  </a:lnTo>
                  <a:lnTo>
                    <a:pt x="170" y="58"/>
                  </a:lnTo>
                  <a:lnTo>
                    <a:pt x="202" y="48"/>
                  </a:lnTo>
                  <a:lnTo>
                    <a:pt x="237" y="42"/>
                  </a:lnTo>
                  <a:lnTo>
                    <a:pt x="272" y="39"/>
                  </a:lnTo>
                  <a:lnTo>
                    <a:pt x="304" y="44"/>
                  </a:lnTo>
                  <a:lnTo>
                    <a:pt x="336" y="51"/>
                  </a:lnTo>
                  <a:lnTo>
                    <a:pt x="367" y="63"/>
                  </a:lnTo>
                  <a:lnTo>
                    <a:pt x="392" y="77"/>
                  </a:lnTo>
                  <a:lnTo>
                    <a:pt x="414" y="98"/>
                  </a:lnTo>
                  <a:lnTo>
                    <a:pt x="432" y="122"/>
                  </a:lnTo>
                  <a:lnTo>
                    <a:pt x="466" y="102"/>
                  </a:lnTo>
                  <a:lnTo>
                    <a:pt x="442" y="73"/>
                  </a:lnTo>
                  <a:lnTo>
                    <a:pt x="414" y="46"/>
                  </a:lnTo>
                  <a:lnTo>
                    <a:pt x="384" y="27"/>
                  </a:lnTo>
                  <a:lnTo>
                    <a:pt x="347" y="14"/>
                  </a:lnTo>
                  <a:lnTo>
                    <a:pt x="310" y="5"/>
                  </a:lnTo>
                  <a:lnTo>
                    <a:pt x="272" y="0"/>
                  </a:lnTo>
                  <a:lnTo>
                    <a:pt x="232" y="3"/>
                  </a:lnTo>
                  <a:lnTo>
                    <a:pt x="194" y="9"/>
                  </a:lnTo>
                  <a:lnTo>
                    <a:pt x="157" y="21"/>
                  </a:lnTo>
                  <a:lnTo>
                    <a:pt x="120" y="38"/>
                  </a:lnTo>
                  <a:lnTo>
                    <a:pt x="87" y="60"/>
                  </a:lnTo>
                  <a:lnTo>
                    <a:pt x="59" y="88"/>
                  </a:lnTo>
                  <a:lnTo>
                    <a:pt x="34" y="122"/>
                  </a:lnTo>
                  <a:lnTo>
                    <a:pt x="16" y="159"/>
                  </a:lnTo>
                  <a:lnTo>
                    <a:pt x="3" y="203"/>
                  </a:lnTo>
                  <a:lnTo>
                    <a:pt x="0" y="250"/>
                  </a:lnTo>
                  <a:lnTo>
                    <a:pt x="2" y="258"/>
                  </a:lnTo>
                  <a:lnTo>
                    <a:pt x="38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6778440" y="3560760"/>
              <a:ext cx="160200" cy="183960"/>
            </a:xfrm>
            <a:custGeom>
              <a:avLst/>
              <a:gdLst/>
              <a:ahLst/>
              <a:rect l="l" t="t" r="r" b="b"/>
              <a:pathLst>
                <a:path w="415" h="414">
                  <a:moveTo>
                    <a:pt x="376" y="394"/>
                  </a:moveTo>
                  <a:lnTo>
                    <a:pt x="407" y="380"/>
                  </a:lnTo>
                  <a:lnTo>
                    <a:pt x="371" y="355"/>
                  </a:lnTo>
                  <a:lnTo>
                    <a:pt x="336" y="330"/>
                  </a:lnTo>
                  <a:lnTo>
                    <a:pt x="302" y="304"/>
                  </a:lnTo>
                  <a:lnTo>
                    <a:pt x="272" y="277"/>
                  </a:lnTo>
                  <a:lnTo>
                    <a:pt x="241" y="252"/>
                  </a:lnTo>
                  <a:lnTo>
                    <a:pt x="213" y="225"/>
                  </a:lnTo>
                  <a:lnTo>
                    <a:pt x="187" y="199"/>
                  </a:lnTo>
                  <a:lnTo>
                    <a:pt x="161" y="172"/>
                  </a:lnTo>
                  <a:lnTo>
                    <a:pt x="138" y="149"/>
                  </a:lnTo>
                  <a:lnTo>
                    <a:pt x="118" y="124"/>
                  </a:lnTo>
                  <a:lnTo>
                    <a:pt x="99" y="101"/>
                  </a:lnTo>
                  <a:lnTo>
                    <a:pt x="82" y="78"/>
                  </a:lnTo>
                  <a:lnTo>
                    <a:pt x="68" y="57"/>
                  </a:lnTo>
                  <a:lnTo>
                    <a:pt x="54" y="36"/>
                  </a:lnTo>
                  <a:lnTo>
                    <a:pt x="43" y="18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10" y="34"/>
                  </a:lnTo>
                  <a:lnTo>
                    <a:pt x="21" y="55"/>
                  </a:lnTo>
                  <a:lnTo>
                    <a:pt x="35" y="79"/>
                  </a:lnTo>
                  <a:lnTo>
                    <a:pt x="51" y="100"/>
                  </a:lnTo>
                  <a:lnTo>
                    <a:pt x="68" y="124"/>
                  </a:lnTo>
                  <a:lnTo>
                    <a:pt x="88" y="149"/>
                  </a:lnTo>
                  <a:lnTo>
                    <a:pt x="110" y="174"/>
                  </a:lnTo>
                  <a:lnTo>
                    <a:pt x="134" y="200"/>
                  </a:lnTo>
                  <a:lnTo>
                    <a:pt x="159" y="227"/>
                  </a:lnTo>
                  <a:lnTo>
                    <a:pt x="185" y="253"/>
                  </a:lnTo>
                  <a:lnTo>
                    <a:pt x="216" y="280"/>
                  </a:lnTo>
                  <a:lnTo>
                    <a:pt x="246" y="308"/>
                  </a:lnTo>
                  <a:lnTo>
                    <a:pt x="277" y="334"/>
                  </a:lnTo>
                  <a:lnTo>
                    <a:pt x="313" y="361"/>
                  </a:lnTo>
                  <a:lnTo>
                    <a:pt x="348" y="386"/>
                  </a:lnTo>
                  <a:lnTo>
                    <a:pt x="384" y="414"/>
                  </a:lnTo>
                  <a:lnTo>
                    <a:pt x="415" y="400"/>
                  </a:lnTo>
                  <a:lnTo>
                    <a:pt x="376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6924600" y="3500280"/>
              <a:ext cx="36360" cy="237960"/>
            </a:xfrm>
            <a:custGeom>
              <a:avLst/>
              <a:gdLst/>
              <a:ahLst/>
              <a:rect l="l" t="t" r="r" b="b"/>
              <a:pathLst>
                <a:path w="91" h="540">
                  <a:moveTo>
                    <a:pt x="54" y="20"/>
                  </a:moveTo>
                  <a:lnTo>
                    <a:pt x="52" y="10"/>
                  </a:lnTo>
                  <a:lnTo>
                    <a:pt x="52" y="43"/>
                  </a:lnTo>
                  <a:lnTo>
                    <a:pt x="50" y="75"/>
                  </a:lnTo>
                  <a:lnTo>
                    <a:pt x="49" y="109"/>
                  </a:lnTo>
                  <a:lnTo>
                    <a:pt x="46" y="141"/>
                  </a:lnTo>
                  <a:lnTo>
                    <a:pt x="43" y="174"/>
                  </a:lnTo>
                  <a:lnTo>
                    <a:pt x="40" y="208"/>
                  </a:lnTo>
                  <a:lnTo>
                    <a:pt x="38" y="240"/>
                  </a:lnTo>
                  <a:lnTo>
                    <a:pt x="34" y="271"/>
                  </a:lnTo>
                  <a:lnTo>
                    <a:pt x="29" y="304"/>
                  </a:lnTo>
                  <a:lnTo>
                    <a:pt x="25" y="336"/>
                  </a:lnTo>
                  <a:lnTo>
                    <a:pt x="21" y="370"/>
                  </a:lnTo>
                  <a:lnTo>
                    <a:pt x="17" y="402"/>
                  </a:lnTo>
                  <a:lnTo>
                    <a:pt x="13" y="435"/>
                  </a:lnTo>
                  <a:lnTo>
                    <a:pt x="8" y="467"/>
                  </a:lnTo>
                  <a:lnTo>
                    <a:pt x="4" y="501"/>
                  </a:lnTo>
                  <a:lnTo>
                    <a:pt x="0" y="534"/>
                  </a:lnTo>
                  <a:lnTo>
                    <a:pt x="39" y="540"/>
                  </a:lnTo>
                  <a:lnTo>
                    <a:pt x="43" y="506"/>
                  </a:lnTo>
                  <a:lnTo>
                    <a:pt x="47" y="473"/>
                  </a:lnTo>
                  <a:lnTo>
                    <a:pt x="52" y="441"/>
                  </a:lnTo>
                  <a:lnTo>
                    <a:pt x="56" y="407"/>
                  </a:lnTo>
                  <a:lnTo>
                    <a:pt x="60" y="375"/>
                  </a:lnTo>
                  <a:lnTo>
                    <a:pt x="64" y="342"/>
                  </a:lnTo>
                  <a:lnTo>
                    <a:pt x="68" y="310"/>
                  </a:lnTo>
                  <a:lnTo>
                    <a:pt x="73" y="276"/>
                  </a:lnTo>
                  <a:lnTo>
                    <a:pt x="77" y="243"/>
                  </a:lnTo>
                  <a:lnTo>
                    <a:pt x="80" y="211"/>
                  </a:lnTo>
                  <a:lnTo>
                    <a:pt x="82" y="177"/>
                  </a:lnTo>
                  <a:lnTo>
                    <a:pt x="85" y="144"/>
                  </a:lnTo>
                  <a:lnTo>
                    <a:pt x="88" y="112"/>
                  </a:lnTo>
                  <a:lnTo>
                    <a:pt x="89" y="78"/>
                  </a:lnTo>
                  <a:lnTo>
                    <a:pt x="91" y="43"/>
                  </a:lnTo>
                  <a:lnTo>
                    <a:pt x="91" y="10"/>
                  </a:lnTo>
                  <a:lnTo>
                    <a:pt x="88" y="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6889680" y="3501720"/>
              <a:ext cx="9360" cy="1764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0" y="37"/>
                  </a:moveTo>
                  <a:lnTo>
                    <a:pt x="8" y="38"/>
                  </a:lnTo>
                  <a:lnTo>
                    <a:pt x="15" y="35"/>
                  </a:lnTo>
                  <a:lnTo>
                    <a:pt x="20" y="30"/>
                  </a:lnTo>
                  <a:lnTo>
                    <a:pt x="24" y="24"/>
                  </a:lnTo>
                  <a:lnTo>
                    <a:pt x="24" y="17"/>
                  </a:lnTo>
                  <a:lnTo>
                    <a:pt x="22" y="10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6849720" y="3498840"/>
              <a:ext cx="42840" cy="2196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3" y="49"/>
                  </a:moveTo>
                  <a:lnTo>
                    <a:pt x="23" y="45"/>
                  </a:lnTo>
                  <a:lnTo>
                    <a:pt x="33" y="44"/>
                  </a:lnTo>
                  <a:lnTo>
                    <a:pt x="44" y="41"/>
                  </a:lnTo>
                  <a:lnTo>
                    <a:pt x="54" y="39"/>
                  </a:lnTo>
                  <a:lnTo>
                    <a:pt x="65" y="39"/>
                  </a:lnTo>
                  <a:lnTo>
                    <a:pt x="75" y="39"/>
                  </a:lnTo>
                  <a:lnTo>
                    <a:pt x="86" y="42"/>
                  </a:lnTo>
                  <a:lnTo>
                    <a:pt x="97" y="44"/>
                  </a:lnTo>
                  <a:lnTo>
                    <a:pt x="108" y="7"/>
                  </a:lnTo>
                  <a:lnTo>
                    <a:pt x="94" y="3"/>
                  </a:lnTo>
                  <a:lnTo>
                    <a:pt x="80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39" y="2"/>
                  </a:lnTo>
                  <a:lnTo>
                    <a:pt x="25" y="5"/>
                  </a:lnTo>
                  <a:lnTo>
                    <a:pt x="12" y="9"/>
                  </a:lnTo>
                  <a:lnTo>
                    <a:pt x="0" y="13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6883200" y="3501720"/>
              <a:ext cx="11160" cy="1764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13" y="0"/>
                  </a:moveTo>
                  <a:lnTo>
                    <a:pt x="6" y="4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18" y="38"/>
                  </a:lnTo>
                  <a:lnTo>
                    <a:pt x="27" y="3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6814800" y="3554280"/>
              <a:ext cx="14400" cy="14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3" y="30"/>
                  </a:moveTo>
                  <a:lnTo>
                    <a:pt x="36" y="21"/>
                  </a:lnTo>
                  <a:lnTo>
                    <a:pt x="35" y="14"/>
                  </a:lnTo>
                  <a:lnTo>
                    <a:pt x="32" y="7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1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6805440" y="3558960"/>
              <a:ext cx="22320" cy="5580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42" y="117"/>
                  </a:moveTo>
                  <a:lnTo>
                    <a:pt x="39" y="105"/>
                  </a:lnTo>
                  <a:lnTo>
                    <a:pt x="39" y="92"/>
                  </a:lnTo>
                  <a:lnTo>
                    <a:pt x="40" y="77"/>
                  </a:lnTo>
                  <a:lnTo>
                    <a:pt x="42" y="64"/>
                  </a:lnTo>
                  <a:lnTo>
                    <a:pt x="44" y="52"/>
                  </a:lnTo>
                  <a:lnTo>
                    <a:pt x="49" y="40"/>
                  </a:lnTo>
                  <a:lnTo>
                    <a:pt x="54" y="29"/>
                  </a:lnTo>
                  <a:lnTo>
                    <a:pt x="58" y="20"/>
                  </a:lnTo>
                  <a:lnTo>
                    <a:pt x="25" y="0"/>
                  </a:lnTo>
                  <a:lnTo>
                    <a:pt x="18" y="13"/>
                  </a:lnTo>
                  <a:lnTo>
                    <a:pt x="12" y="26"/>
                  </a:lnTo>
                  <a:lnTo>
                    <a:pt x="8" y="40"/>
                  </a:lnTo>
                  <a:lnTo>
                    <a:pt x="3" y="56"/>
                  </a:lnTo>
                  <a:lnTo>
                    <a:pt x="1" y="74"/>
                  </a:lnTo>
                  <a:lnTo>
                    <a:pt x="0" y="89"/>
                  </a:lnTo>
                  <a:lnTo>
                    <a:pt x="0" y="107"/>
                  </a:lnTo>
                  <a:lnTo>
                    <a:pt x="3" y="125"/>
                  </a:lnTo>
                  <a:lnTo>
                    <a:pt x="4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6814800" y="3560760"/>
              <a:ext cx="14400" cy="1080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8"/>
                  </a:moveTo>
                  <a:lnTo>
                    <a:pt x="4" y="16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4" y="22"/>
                  </a:lnTo>
                  <a:lnTo>
                    <a:pt x="31" y="20"/>
                  </a:lnTo>
                  <a:lnTo>
                    <a:pt x="36" y="15"/>
                  </a:lnTo>
                  <a:lnTo>
                    <a:pt x="39" y="8"/>
                  </a:lnTo>
                  <a:lnTo>
                    <a:pt x="3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6841800" y="3568680"/>
              <a:ext cx="9720" cy="158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0"/>
                  </a:moveTo>
                  <a:lnTo>
                    <a:pt x="3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2" y="35"/>
                  </a:lnTo>
                  <a:lnTo>
                    <a:pt x="19" y="36"/>
                  </a:lnTo>
                  <a:lnTo>
                    <a:pt x="27" y="3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6845040" y="3555720"/>
              <a:ext cx="85680" cy="28800"/>
            </a:xfrm>
            <a:custGeom>
              <a:avLst/>
              <a:gdLst/>
              <a:ahLst/>
              <a:rect l="l" t="t" r="r" b="b"/>
              <a:pathLst>
                <a:path w="218" h="68">
                  <a:moveTo>
                    <a:pt x="218" y="40"/>
                  </a:moveTo>
                  <a:lnTo>
                    <a:pt x="194" y="22"/>
                  </a:lnTo>
                  <a:lnTo>
                    <a:pt x="169" y="9"/>
                  </a:lnTo>
                  <a:lnTo>
                    <a:pt x="140" y="2"/>
                  </a:lnTo>
                  <a:lnTo>
                    <a:pt x="112" y="0"/>
                  </a:lnTo>
                  <a:lnTo>
                    <a:pt x="82" y="1"/>
                  </a:lnTo>
                  <a:lnTo>
                    <a:pt x="55" y="7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7" y="62"/>
                  </a:lnTo>
                  <a:lnTo>
                    <a:pt x="41" y="53"/>
                  </a:lnTo>
                  <a:lnTo>
                    <a:pt x="66" y="46"/>
                  </a:lnTo>
                  <a:lnTo>
                    <a:pt x="88" y="40"/>
                  </a:lnTo>
                  <a:lnTo>
                    <a:pt x="112" y="39"/>
                  </a:lnTo>
                  <a:lnTo>
                    <a:pt x="134" y="41"/>
                  </a:lnTo>
                  <a:lnTo>
                    <a:pt x="155" y="46"/>
                  </a:lnTo>
                  <a:lnTo>
                    <a:pt x="174" y="55"/>
                  </a:lnTo>
                  <a:lnTo>
                    <a:pt x="193" y="68"/>
                  </a:lnTo>
                  <a:lnTo>
                    <a:pt x="21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6843600" y="3568680"/>
              <a:ext cx="11160" cy="15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28"/>
                  </a:moveTo>
                  <a:lnTo>
                    <a:pt x="7" y="32"/>
                  </a:lnTo>
                  <a:lnTo>
                    <a:pt x="14" y="33"/>
                  </a:lnTo>
                  <a:lnTo>
                    <a:pt x="21" y="30"/>
                  </a:lnTo>
                  <a:lnTo>
                    <a:pt x="27" y="26"/>
                  </a:lnTo>
                  <a:lnTo>
                    <a:pt x="29" y="21"/>
                  </a:lnTo>
                  <a:lnTo>
                    <a:pt x="32" y="14"/>
                  </a:lnTo>
                  <a:lnTo>
                    <a:pt x="29" y="7"/>
                  </a:lnTo>
                  <a:lnTo>
                    <a:pt x="2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6905520" y="3597120"/>
              <a:ext cx="7920" cy="176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8" y="38"/>
                  </a:lnTo>
                  <a:lnTo>
                    <a:pt x="15" y="35"/>
                  </a:lnTo>
                  <a:lnTo>
                    <a:pt x="19" y="29"/>
                  </a:lnTo>
                  <a:lnTo>
                    <a:pt x="22" y="21"/>
                  </a:lnTo>
                  <a:lnTo>
                    <a:pt x="21" y="14"/>
                  </a:lnTo>
                  <a:lnTo>
                    <a:pt x="19" y="7"/>
                  </a:lnTo>
                  <a:lnTo>
                    <a:pt x="14" y="3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6870600" y="3595680"/>
              <a:ext cx="36360" cy="2844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25" y="64"/>
                  </a:moveTo>
                  <a:lnTo>
                    <a:pt x="32" y="58"/>
                  </a:lnTo>
                  <a:lnTo>
                    <a:pt x="41" y="51"/>
                  </a:lnTo>
                  <a:lnTo>
                    <a:pt x="48" y="47"/>
                  </a:lnTo>
                  <a:lnTo>
                    <a:pt x="54" y="44"/>
                  </a:lnTo>
                  <a:lnTo>
                    <a:pt x="63" y="41"/>
                  </a:lnTo>
                  <a:lnTo>
                    <a:pt x="71" y="40"/>
                  </a:lnTo>
                  <a:lnTo>
                    <a:pt x="80" y="39"/>
                  </a:lnTo>
                  <a:lnTo>
                    <a:pt x="88" y="40"/>
                  </a:lnTo>
                  <a:lnTo>
                    <a:pt x="93" y="1"/>
                  </a:lnTo>
                  <a:lnTo>
                    <a:pt x="80" y="0"/>
                  </a:lnTo>
                  <a:lnTo>
                    <a:pt x="66" y="1"/>
                  </a:lnTo>
                  <a:lnTo>
                    <a:pt x="52" y="2"/>
                  </a:lnTo>
                  <a:lnTo>
                    <a:pt x="41" y="8"/>
                  </a:lnTo>
                  <a:lnTo>
                    <a:pt x="28" y="14"/>
                  </a:lnTo>
                  <a:lnTo>
                    <a:pt x="18" y="21"/>
                  </a:lnTo>
                  <a:lnTo>
                    <a:pt x="10" y="28"/>
                  </a:lnTo>
                  <a:lnTo>
                    <a:pt x="0" y="33"/>
                  </a:lnTo>
                  <a:lnTo>
                    <a:pt x="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6899040" y="3598560"/>
              <a:ext cx="12600" cy="162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7" y="0"/>
                  </a:moveTo>
                  <a:lnTo>
                    <a:pt x="2" y="7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6" y="28"/>
                  </a:lnTo>
                  <a:lnTo>
                    <a:pt x="10" y="32"/>
                  </a:lnTo>
                  <a:lnTo>
                    <a:pt x="17" y="35"/>
                  </a:lnTo>
                  <a:lnTo>
                    <a:pt x="25" y="35"/>
                  </a:lnTo>
                  <a:lnTo>
                    <a:pt x="32" y="3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6899040" y="3630600"/>
              <a:ext cx="11160" cy="158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7" y="36"/>
                  </a:moveTo>
                  <a:lnTo>
                    <a:pt x="24" y="30"/>
                  </a:lnTo>
                  <a:lnTo>
                    <a:pt x="26" y="25"/>
                  </a:lnTo>
                  <a:lnTo>
                    <a:pt x="26" y="18"/>
                  </a:lnTo>
                  <a:lnTo>
                    <a:pt x="25" y="11"/>
                  </a:lnTo>
                  <a:lnTo>
                    <a:pt x="21" y="5"/>
                  </a:lnTo>
                  <a:lnTo>
                    <a:pt x="15" y="1"/>
                  </a:lnTo>
                  <a:lnTo>
                    <a:pt x="8" y="0"/>
                  </a:lnTo>
                  <a:lnTo>
                    <a:pt x="0" y="3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6867360" y="3632040"/>
              <a:ext cx="39600" cy="5076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39" y="119"/>
                  </a:moveTo>
                  <a:lnTo>
                    <a:pt x="41" y="103"/>
                  </a:lnTo>
                  <a:lnTo>
                    <a:pt x="44" y="92"/>
                  </a:lnTo>
                  <a:lnTo>
                    <a:pt x="49" y="80"/>
                  </a:lnTo>
                  <a:lnTo>
                    <a:pt x="58" y="70"/>
                  </a:lnTo>
                  <a:lnTo>
                    <a:pt x="66" y="59"/>
                  </a:lnTo>
                  <a:lnTo>
                    <a:pt x="76" y="52"/>
                  </a:lnTo>
                  <a:lnTo>
                    <a:pt x="88" y="43"/>
                  </a:lnTo>
                  <a:lnTo>
                    <a:pt x="101" y="36"/>
                  </a:lnTo>
                  <a:lnTo>
                    <a:pt x="84" y="0"/>
                  </a:lnTo>
                  <a:lnTo>
                    <a:pt x="69" y="10"/>
                  </a:lnTo>
                  <a:lnTo>
                    <a:pt x="53" y="18"/>
                  </a:lnTo>
                  <a:lnTo>
                    <a:pt x="38" y="31"/>
                  </a:lnTo>
                  <a:lnTo>
                    <a:pt x="27" y="45"/>
                  </a:lnTo>
                  <a:lnTo>
                    <a:pt x="16" y="60"/>
                  </a:lnTo>
                  <a:lnTo>
                    <a:pt x="7" y="78"/>
                  </a:lnTo>
                  <a:lnTo>
                    <a:pt x="2" y="98"/>
                  </a:lnTo>
                  <a:lnTo>
                    <a:pt x="0" y="119"/>
                  </a:lnTo>
                  <a:lnTo>
                    <a:pt x="3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6894360" y="3639960"/>
              <a:ext cx="15840" cy="792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0" y="0"/>
                  </a:moveTo>
                  <a:lnTo>
                    <a:pt x="5" y="1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6908400" y="3679560"/>
              <a:ext cx="9720" cy="17640"/>
            </a:xfrm>
            <a:custGeom>
              <a:avLst/>
              <a:gdLst/>
              <a:ahLst/>
              <a:rect l="l" t="t" r="r" b="b"/>
              <a:pathLst>
                <a:path w="27" h="37">
                  <a:moveTo>
                    <a:pt x="17" y="37"/>
                  </a:moveTo>
                  <a:lnTo>
                    <a:pt x="24" y="31"/>
                  </a:lnTo>
                  <a:lnTo>
                    <a:pt x="27" y="25"/>
                  </a:lnTo>
                  <a:lnTo>
                    <a:pt x="27" y="18"/>
                  </a:lnTo>
                  <a:lnTo>
                    <a:pt x="25" y="11"/>
                  </a:lnTo>
                  <a:lnTo>
                    <a:pt x="21" y="6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3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6891120" y="3681360"/>
              <a:ext cx="23760" cy="2376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39" y="55"/>
                  </a:moveTo>
                  <a:lnTo>
                    <a:pt x="40" y="50"/>
                  </a:lnTo>
                  <a:lnTo>
                    <a:pt x="44" y="46"/>
                  </a:lnTo>
                  <a:lnTo>
                    <a:pt x="53" y="40"/>
                  </a:lnTo>
                  <a:lnTo>
                    <a:pt x="64" y="36"/>
                  </a:lnTo>
                  <a:lnTo>
                    <a:pt x="47" y="0"/>
                  </a:lnTo>
                  <a:lnTo>
                    <a:pt x="33" y="7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0"/>
                  </a:lnTo>
                  <a:lnTo>
                    <a:pt x="3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6903720" y="3687480"/>
              <a:ext cx="15840" cy="972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0" y="0"/>
                  </a:moveTo>
                  <a:lnTo>
                    <a:pt x="2" y="8"/>
                  </a:lnTo>
                  <a:lnTo>
                    <a:pt x="4" y="15"/>
                  </a:lnTo>
                  <a:lnTo>
                    <a:pt x="10" y="20"/>
                  </a:lnTo>
                  <a:lnTo>
                    <a:pt x="18" y="21"/>
                  </a:lnTo>
                  <a:lnTo>
                    <a:pt x="25" y="21"/>
                  </a:lnTo>
                  <a:lnTo>
                    <a:pt x="32" y="18"/>
                  </a:lnTo>
                  <a:lnTo>
                    <a:pt x="36" y="14"/>
                  </a:lnTo>
                  <a:lnTo>
                    <a:pt x="3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6910200" y="3655800"/>
              <a:ext cx="6120" cy="1764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0"/>
                  </a:moveTo>
                  <a:lnTo>
                    <a:pt x="5" y="5"/>
                  </a:lnTo>
                  <a:lnTo>
                    <a:pt x="0" y="19"/>
                  </a:lnTo>
                  <a:lnTo>
                    <a:pt x="5" y="33"/>
                  </a:lnTo>
                  <a:lnTo>
                    <a:pt x="19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6916320" y="3655800"/>
              <a:ext cx="28800" cy="255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71" y="44"/>
                  </a:moveTo>
                  <a:lnTo>
                    <a:pt x="64" y="32"/>
                  </a:lnTo>
                  <a:lnTo>
                    <a:pt x="55" y="22"/>
                  </a:lnTo>
                  <a:lnTo>
                    <a:pt x="47" y="16"/>
                  </a:lnTo>
                  <a:lnTo>
                    <a:pt x="40" y="8"/>
                  </a:lnTo>
                  <a:lnTo>
                    <a:pt x="27" y="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5" y="39"/>
                  </a:lnTo>
                  <a:lnTo>
                    <a:pt x="11" y="40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22" y="44"/>
                  </a:lnTo>
                  <a:lnTo>
                    <a:pt x="27" y="50"/>
                  </a:lnTo>
                  <a:lnTo>
                    <a:pt x="30" y="54"/>
                  </a:lnTo>
                  <a:lnTo>
                    <a:pt x="34" y="61"/>
                  </a:lnTo>
                  <a:lnTo>
                    <a:pt x="7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6910200" y="3660480"/>
              <a:ext cx="14400" cy="1116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16"/>
                  </a:moveTo>
                  <a:lnTo>
                    <a:pt x="5" y="23"/>
                  </a:lnTo>
                  <a:lnTo>
                    <a:pt x="11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1"/>
                  </a:lnTo>
                  <a:lnTo>
                    <a:pt x="35" y="15"/>
                  </a:lnTo>
                  <a:lnTo>
                    <a:pt x="36" y="8"/>
                  </a:lnTo>
                  <a:lnTo>
                    <a:pt x="3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6926040" y="3536640"/>
              <a:ext cx="12600" cy="162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3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8" y="36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6930720" y="3536640"/>
              <a:ext cx="25560" cy="2880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66" y="50"/>
                  </a:moveTo>
                  <a:lnTo>
                    <a:pt x="57" y="32"/>
                  </a:lnTo>
                  <a:lnTo>
                    <a:pt x="46" y="19"/>
                  </a:lnTo>
                  <a:lnTo>
                    <a:pt x="35" y="10"/>
                  </a:lnTo>
                  <a:lnTo>
                    <a:pt x="22" y="0"/>
                  </a:lnTo>
                  <a:lnTo>
                    <a:pt x="0" y="33"/>
                  </a:lnTo>
                  <a:lnTo>
                    <a:pt x="10" y="40"/>
                  </a:lnTo>
                  <a:lnTo>
                    <a:pt x="18" y="47"/>
                  </a:lnTo>
                  <a:lnTo>
                    <a:pt x="24" y="54"/>
                  </a:lnTo>
                  <a:lnTo>
                    <a:pt x="29" y="64"/>
                  </a:lnTo>
                  <a:lnTo>
                    <a:pt x="6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6927480" y="3541680"/>
              <a:ext cx="14400" cy="1116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13"/>
                  </a:moveTo>
                  <a:lnTo>
                    <a:pt x="4" y="20"/>
                  </a:lnTo>
                  <a:lnTo>
                    <a:pt x="10" y="25"/>
                  </a:lnTo>
                  <a:lnTo>
                    <a:pt x="17" y="26"/>
                  </a:lnTo>
                  <a:lnTo>
                    <a:pt x="25" y="25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38" y="8"/>
                  </a:lnTo>
                  <a:lnTo>
                    <a:pt x="3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7003800" y="4449600"/>
              <a:ext cx="7920" cy="1764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9"/>
                  </a:moveTo>
                  <a:lnTo>
                    <a:pt x="13" y="33"/>
                  </a:lnTo>
                  <a:lnTo>
                    <a:pt x="19" y="19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6960960" y="4449600"/>
              <a:ext cx="49320" cy="1159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125" y="226"/>
                  </a:moveTo>
                  <a:lnTo>
                    <a:pt x="105" y="223"/>
                  </a:lnTo>
                  <a:lnTo>
                    <a:pt x="88" y="215"/>
                  </a:lnTo>
                  <a:lnTo>
                    <a:pt x="73" y="204"/>
                  </a:lnTo>
                  <a:lnTo>
                    <a:pt x="61" y="191"/>
                  </a:lnTo>
                  <a:lnTo>
                    <a:pt x="52" y="177"/>
                  </a:lnTo>
                  <a:lnTo>
                    <a:pt x="45" y="160"/>
                  </a:lnTo>
                  <a:lnTo>
                    <a:pt x="40" y="145"/>
                  </a:lnTo>
                  <a:lnTo>
                    <a:pt x="39" y="127"/>
                  </a:lnTo>
                  <a:lnTo>
                    <a:pt x="40" y="110"/>
                  </a:lnTo>
                  <a:lnTo>
                    <a:pt x="43" y="93"/>
                  </a:lnTo>
                  <a:lnTo>
                    <a:pt x="49" y="78"/>
                  </a:lnTo>
                  <a:lnTo>
                    <a:pt x="59" y="65"/>
                  </a:lnTo>
                  <a:lnTo>
                    <a:pt x="68" y="54"/>
                  </a:lnTo>
                  <a:lnTo>
                    <a:pt x="79" y="47"/>
                  </a:lnTo>
                  <a:lnTo>
                    <a:pt x="95" y="42"/>
                  </a:lnTo>
                  <a:lnTo>
                    <a:pt x="112" y="39"/>
                  </a:lnTo>
                  <a:lnTo>
                    <a:pt x="112" y="0"/>
                  </a:lnTo>
                  <a:lnTo>
                    <a:pt x="86" y="3"/>
                  </a:lnTo>
                  <a:lnTo>
                    <a:pt x="63" y="11"/>
                  </a:lnTo>
                  <a:lnTo>
                    <a:pt x="43" y="24"/>
                  </a:lnTo>
                  <a:lnTo>
                    <a:pt x="28" y="40"/>
                  </a:lnTo>
                  <a:lnTo>
                    <a:pt x="15" y="61"/>
                  </a:lnTo>
                  <a:lnTo>
                    <a:pt x="7" y="82"/>
                  </a:lnTo>
                  <a:lnTo>
                    <a:pt x="1" y="105"/>
                  </a:lnTo>
                  <a:lnTo>
                    <a:pt x="0" y="127"/>
                  </a:lnTo>
                  <a:lnTo>
                    <a:pt x="1" y="151"/>
                  </a:lnTo>
                  <a:lnTo>
                    <a:pt x="8" y="174"/>
                  </a:lnTo>
                  <a:lnTo>
                    <a:pt x="18" y="197"/>
                  </a:lnTo>
                  <a:lnTo>
                    <a:pt x="31" y="216"/>
                  </a:lnTo>
                  <a:lnTo>
                    <a:pt x="47" y="234"/>
                  </a:lnTo>
                  <a:lnTo>
                    <a:pt x="68" y="248"/>
                  </a:lnTo>
                  <a:lnTo>
                    <a:pt x="93" y="259"/>
                  </a:lnTo>
                  <a:lnTo>
                    <a:pt x="123" y="265"/>
                  </a:lnTo>
                  <a:lnTo>
                    <a:pt x="125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7003800" y="4449600"/>
              <a:ext cx="7920" cy="176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39"/>
                  </a:moveTo>
                  <a:lnTo>
                    <a:pt x="14" y="33"/>
                  </a:lnTo>
                  <a:lnTo>
                    <a:pt x="21" y="21"/>
                  </a:lnTo>
                  <a:lnTo>
                    <a:pt x="17" y="7"/>
                  </a:lnTo>
                  <a:lnTo>
                    <a:pt x="3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7021440" y="4659120"/>
              <a:ext cx="9360" cy="158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11" y="37"/>
                  </a:moveTo>
                  <a:lnTo>
                    <a:pt x="18" y="33"/>
                  </a:lnTo>
                  <a:lnTo>
                    <a:pt x="22" y="28"/>
                  </a:lnTo>
                  <a:lnTo>
                    <a:pt x="24" y="21"/>
                  </a:lnTo>
                  <a:lnTo>
                    <a:pt x="24" y="14"/>
                  </a:lnTo>
                  <a:lnTo>
                    <a:pt x="20" y="8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1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6980040" y="4659120"/>
              <a:ext cx="46080" cy="11916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100" y="226"/>
                  </a:moveTo>
                  <a:lnTo>
                    <a:pt x="92" y="226"/>
                  </a:lnTo>
                  <a:lnTo>
                    <a:pt x="83" y="221"/>
                  </a:lnTo>
                  <a:lnTo>
                    <a:pt x="73" y="214"/>
                  </a:lnTo>
                  <a:lnTo>
                    <a:pt x="64" y="204"/>
                  </a:lnTo>
                  <a:lnTo>
                    <a:pt x="55" y="193"/>
                  </a:lnTo>
                  <a:lnTo>
                    <a:pt x="48" y="180"/>
                  </a:lnTo>
                  <a:lnTo>
                    <a:pt x="44" y="163"/>
                  </a:lnTo>
                  <a:lnTo>
                    <a:pt x="40" y="148"/>
                  </a:lnTo>
                  <a:lnTo>
                    <a:pt x="39" y="131"/>
                  </a:lnTo>
                  <a:lnTo>
                    <a:pt x="40" y="115"/>
                  </a:lnTo>
                  <a:lnTo>
                    <a:pt x="43" y="98"/>
                  </a:lnTo>
                  <a:lnTo>
                    <a:pt x="50" y="84"/>
                  </a:lnTo>
                  <a:lnTo>
                    <a:pt x="60" y="70"/>
                  </a:lnTo>
                  <a:lnTo>
                    <a:pt x="73" y="57"/>
                  </a:lnTo>
                  <a:lnTo>
                    <a:pt x="92" y="48"/>
                  </a:lnTo>
                  <a:lnTo>
                    <a:pt x="115" y="36"/>
                  </a:lnTo>
                  <a:lnTo>
                    <a:pt x="104" y="0"/>
                  </a:lnTo>
                  <a:lnTo>
                    <a:pt x="75" y="11"/>
                  </a:lnTo>
                  <a:lnTo>
                    <a:pt x="51" y="27"/>
                  </a:lnTo>
                  <a:lnTo>
                    <a:pt x="32" y="45"/>
                  </a:lnTo>
                  <a:lnTo>
                    <a:pt x="16" y="64"/>
                  </a:lnTo>
                  <a:lnTo>
                    <a:pt x="7" y="87"/>
                  </a:lnTo>
                  <a:lnTo>
                    <a:pt x="1" y="109"/>
                  </a:lnTo>
                  <a:lnTo>
                    <a:pt x="0" y="131"/>
                  </a:lnTo>
                  <a:lnTo>
                    <a:pt x="1" y="154"/>
                  </a:lnTo>
                  <a:lnTo>
                    <a:pt x="5" y="175"/>
                  </a:lnTo>
                  <a:lnTo>
                    <a:pt x="12" y="194"/>
                  </a:lnTo>
                  <a:lnTo>
                    <a:pt x="22" y="212"/>
                  </a:lnTo>
                  <a:lnTo>
                    <a:pt x="33" y="229"/>
                  </a:lnTo>
                  <a:lnTo>
                    <a:pt x="48" y="244"/>
                  </a:lnTo>
                  <a:lnTo>
                    <a:pt x="64" y="254"/>
                  </a:lnTo>
                  <a:lnTo>
                    <a:pt x="80" y="262"/>
                  </a:lnTo>
                  <a:lnTo>
                    <a:pt x="100" y="265"/>
                  </a:lnTo>
                  <a:lnTo>
                    <a:pt x="10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7022880" y="4659120"/>
              <a:ext cx="7920" cy="1764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9"/>
                  </a:moveTo>
                  <a:lnTo>
                    <a:pt x="14" y="33"/>
                  </a:lnTo>
                  <a:lnTo>
                    <a:pt x="19" y="19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7026120" y="4475160"/>
              <a:ext cx="6120" cy="7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9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6" y="15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9" y="22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7041960" y="4686120"/>
              <a:ext cx="6480" cy="97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7032240" y="4511520"/>
              <a:ext cx="7920" cy="11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0"/>
                  </a:moveTo>
                  <a:lnTo>
                    <a:pt x="11" y="2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7" y="11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7049880" y="4724280"/>
              <a:ext cx="4680" cy="9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9" y="0"/>
                  </a:moveTo>
                  <a:lnTo>
                    <a:pt x="11" y="2"/>
                  </a:lnTo>
                  <a:lnTo>
                    <a:pt x="14" y="3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6992640" y="4485960"/>
              <a:ext cx="7920" cy="11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7010280" y="4698720"/>
              <a:ext cx="4680" cy="97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9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6" y="7"/>
                  </a:lnTo>
                  <a:lnTo>
                    <a:pt x="17" y="11"/>
                  </a:lnTo>
                  <a:lnTo>
                    <a:pt x="16" y="15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000560" y="4524120"/>
              <a:ext cx="6480" cy="111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0"/>
                  </a:moveTo>
                  <a:lnTo>
                    <a:pt x="11" y="2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6" y="12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1" y="21"/>
                  </a:lnTo>
                  <a:lnTo>
                    <a:pt x="8" y="23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7016400" y="4738680"/>
              <a:ext cx="6480" cy="93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0"/>
                  </a:moveTo>
                  <a:lnTo>
                    <a:pt x="11" y="1"/>
                  </a:lnTo>
                  <a:lnTo>
                    <a:pt x="14" y="2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6330600" y="4071960"/>
              <a:ext cx="287280" cy="331560"/>
            </a:xfrm>
            <a:custGeom>
              <a:avLst/>
              <a:gdLst/>
              <a:ahLst/>
              <a:rect l="l" t="t" r="r" b="b"/>
              <a:pathLst>
                <a:path w="735" h="752">
                  <a:moveTo>
                    <a:pt x="608" y="87"/>
                  </a:moveTo>
                  <a:lnTo>
                    <a:pt x="608" y="145"/>
                  </a:lnTo>
                  <a:lnTo>
                    <a:pt x="608" y="207"/>
                  </a:lnTo>
                  <a:lnTo>
                    <a:pt x="608" y="269"/>
                  </a:lnTo>
                  <a:lnTo>
                    <a:pt x="608" y="328"/>
                  </a:lnTo>
                  <a:lnTo>
                    <a:pt x="637" y="328"/>
                  </a:lnTo>
                  <a:lnTo>
                    <a:pt x="664" y="336"/>
                  </a:lnTo>
                  <a:lnTo>
                    <a:pt x="687" y="350"/>
                  </a:lnTo>
                  <a:lnTo>
                    <a:pt x="707" y="371"/>
                  </a:lnTo>
                  <a:lnTo>
                    <a:pt x="722" y="396"/>
                  </a:lnTo>
                  <a:lnTo>
                    <a:pt x="732" y="424"/>
                  </a:lnTo>
                  <a:lnTo>
                    <a:pt x="735" y="455"/>
                  </a:lnTo>
                  <a:lnTo>
                    <a:pt x="731" y="485"/>
                  </a:lnTo>
                  <a:lnTo>
                    <a:pt x="714" y="481"/>
                  </a:lnTo>
                  <a:lnTo>
                    <a:pt x="698" y="478"/>
                  </a:lnTo>
                  <a:lnTo>
                    <a:pt x="683" y="474"/>
                  </a:lnTo>
                  <a:lnTo>
                    <a:pt x="669" y="471"/>
                  </a:lnTo>
                  <a:lnTo>
                    <a:pt x="652" y="469"/>
                  </a:lnTo>
                  <a:lnTo>
                    <a:pt x="637" y="464"/>
                  </a:lnTo>
                  <a:lnTo>
                    <a:pt x="620" y="462"/>
                  </a:lnTo>
                  <a:lnTo>
                    <a:pt x="602" y="458"/>
                  </a:lnTo>
                  <a:lnTo>
                    <a:pt x="601" y="480"/>
                  </a:lnTo>
                  <a:lnTo>
                    <a:pt x="600" y="504"/>
                  </a:lnTo>
                  <a:lnTo>
                    <a:pt x="595" y="529"/>
                  </a:lnTo>
                  <a:lnTo>
                    <a:pt x="590" y="552"/>
                  </a:lnTo>
                  <a:lnTo>
                    <a:pt x="581" y="577"/>
                  </a:lnTo>
                  <a:lnTo>
                    <a:pt x="572" y="601"/>
                  </a:lnTo>
                  <a:lnTo>
                    <a:pt x="559" y="623"/>
                  </a:lnTo>
                  <a:lnTo>
                    <a:pt x="545" y="643"/>
                  </a:lnTo>
                  <a:lnTo>
                    <a:pt x="527" y="663"/>
                  </a:lnTo>
                  <a:lnTo>
                    <a:pt x="506" y="682"/>
                  </a:lnTo>
                  <a:lnTo>
                    <a:pt x="484" y="699"/>
                  </a:lnTo>
                  <a:lnTo>
                    <a:pt x="460" y="714"/>
                  </a:lnTo>
                  <a:lnTo>
                    <a:pt x="435" y="728"/>
                  </a:lnTo>
                  <a:lnTo>
                    <a:pt x="410" y="738"/>
                  </a:lnTo>
                  <a:lnTo>
                    <a:pt x="382" y="746"/>
                  </a:lnTo>
                  <a:lnTo>
                    <a:pt x="356" y="750"/>
                  </a:lnTo>
                  <a:lnTo>
                    <a:pt x="326" y="752"/>
                  </a:lnTo>
                  <a:lnTo>
                    <a:pt x="299" y="750"/>
                  </a:lnTo>
                  <a:lnTo>
                    <a:pt x="269" y="745"/>
                  </a:lnTo>
                  <a:lnTo>
                    <a:pt x="240" y="738"/>
                  </a:lnTo>
                  <a:lnTo>
                    <a:pt x="212" y="728"/>
                  </a:lnTo>
                  <a:lnTo>
                    <a:pt x="186" y="715"/>
                  </a:lnTo>
                  <a:lnTo>
                    <a:pt x="161" y="700"/>
                  </a:lnTo>
                  <a:lnTo>
                    <a:pt x="137" y="683"/>
                  </a:lnTo>
                  <a:lnTo>
                    <a:pt x="112" y="661"/>
                  </a:lnTo>
                  <a:lnTo>
                    <a:pt x="88" y="636"/>
                  </a:lnTo>
                  <a:lnTo>
                    <a:pt x="67" y="608"/>
                  </a:lnTo>
                  <a:lnTo>
                    <a:pt x="48" y="579"/>
                  </a:lnTo>
                  <a:lnTo>
                    <a:pt x="31" y="548"/>
                  </a:lnTo>
                  <a:lnTo>
                    <a:pt x="18" y="517"/>
                  </a:lnTo>
                  <a:lnTo>
                    <a:pt x="9" y="485"/>
                  </a:lnTo>
                  <a:lnTo>
                    <a:pt x="3" y="452"/>
                  </a:lnTo>
                  <a:lnTo>
                    <a:pt x="0" y="413"/>
                  </a:lnTo>
                  <a:lnTo>
                    <a:pt x="2" y="372"/>
                  </a:lnTo>
                  <a:lnTo>
                    <a:pt x="4" y="332"/>
                  </a:lnTo>
                  <a:lnTo>
                    <a:pt x="13" y="292"/>
                  </a:lnTo>
                  <a:lnTo>
                    <a:pt x="23" y="253"/>
                  </a:lnTo>
                  <a:lnTo>
                    <a:pt x="37" y="216"/>
                  </a:lnTo>
                  <a:lnTo>
                    <a:pt x="55" y="180"/>
                  </a:lnTo>
                  <a:lnTo>
                    <a:pt x="76" y="148"/>
                  </a:lnTo>
                  <a:lnTo>
                    <a:pt x="87" y="134"/>
                  </a:lnTo>
                  <a:lnTo>
                    <a:pt x="101" y="119"/>
                  </a:lnTo>
                  <a:lnTo>
                    <a:pt x="113" y="106"/>
                  </a:lnTo>
                  <a:lnTo>
                    <a:pt x="129" y="94"/>
                  </a:lnTo>
                  <a:lnTo>
                    <a:pt x="144" y="81"/>
                  </a:lnTo>
                  <a:lnTo>
                    <a:pt x="159" y="70"/>
                  </a:lnTo>
                  <a:lnTo>
                    <a:pt x="176" y="60"/>
                  </a:lnTo>
                  <a:lnTo>
                    <a:pt x="193" y="50"/>
                  </a:lnTo>
                  <a:lnTo>
                    <a:pt x="211" y="41"/>
                  </a:lnTo>
                  <a:lnTo>
                    <a:pt x="227" y="32"/>
                  </a:lnTo>
                  <a:lnTo>
                    <a:pt x="246" y="25"/>
                  </a:lnTo>
                  <a:lnTo>
                    <a:pt x="265" y="20"/>
                  </a:lnTo>
                  <a:lnTo>
                    <a:pt x="283" y="14"/>
                  </a:lnTo>
                  <a:lnTo>
                    <a:pt x="301" y="9"/>
                  </a:lnTo>
                  <a:lnTo>
                    <a:pt x="321" y="6"/>
                  </a:lnTo>
                  <a:lnTo>
                    <a:pt x="339" y="3"/>
                  </a:lnTo>
                  <a:lnTo>
                    <a:pt x="357" y="2"/>
                  </a:lnTo>
                  <a:lnTo>
                    <a:pt x="375" y="0"/>
                  </a:lnTo>
                  <a:lnTo>
                    <a:pt x="395" y="0"/>
                  </a:lnTo>
                  <a:lnTo>
                    <a:pt x="414" y="2"/>
                  </a:lnTo>
                  <a:lnTo>
                    <a:pt x="434" y="3"/>
                  </a:lnTo>
                  <a:lnTo>
                    <a:pt x="453" y="6"/>
                  </a:lnTo>
                  <a:lnTo>
                    <a:pt x="473" y="10"/>
                  </a:lnTo>
                  <a:lnTo>
                    <a:pt x="492" y="14"/>
                  </a:lnTo>
                  <a:lnTo>
                    <a:pt x="510" y="20"/>
                  </a:lnTo>
                  <a:lnTo>
                    <a:pt x="528" y="25"/>
                  </a:lnTo>
                  <a:lnTo>
                    <a:pt x="545" y="34"/>
                  </a:lnTo>
                  <a:lnTo>
                    <a:pt x="561" y="42"/>
                  </a:lnTo>
                  <a:lnTo>
                    <a:pt x="574" y="52"/>
                  </a:lnTo>
                  <a:lnTo>
                    <a:pt x="587" y="62"/>
                  </a:lnTo>
                  <a:lnTo>
                    <a:pt x="598" y="74"/>
                  </a:lnTo>
                  <a:lnTo>
                    <a:pt x="608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6557760" y="4265280"/>
              <a:ext cx="60120" cy="28800"/>
            </a:xfrm>
            <a:custGeom>
              <a:avLst/>
              <a:gdLst/>
              <a:ahLst/>
              <a:rect l="l" t="t" r="r" b="b"/>
              <a:pathLst>
                <a:path w="152" h="67">
                  <a:moveTo>
                    <a:pt x="39" y="20"/>
                  </a:moveTo>
                  <a:lnTo>
                    <a:pt x="15" y="39"/>
                  </a:lnTo>
                  <a:lnTo>
                    <a:pt x="33" y="43"/>
                  </a:lnTo>
                  <a:lnTo>
                    <a:pt x="50" y="46"/>
                  </a:lnTo>
                  <a:lnTo>
                    <a:pt x="65" y="50"/>
                  </a:lnTo>
                  <a:lnTo>
                    <a:pt x="83" y="53"/>
                  </a:lnTo>
                  <a:lnTo>
                    <a:pt x="96" y="56"/>
                  </a:lnTo>
                  <a:lnTo>
                    <a:pt x="111" y="60"/>
                  </a:lnTo>
                  <a:lnTo>
                    <a:pt x="127" y="63"/>
                  </a:lnTo>
                  <a:lnTo>
                    <a:pt x="143" y="67"/>
                  </a:lnTo>
                  <a:lnTo>
                    <a:pt x="152" y="28"/>
                  </a:lnTo>
                  <a:lnTo>
                    <a:pt x="135" y="24"/>
                  </a:lnTo>
                  <a:lnTo>
                    <a:pt x="120" y="21"/>
                  </a:lnTo>
                  <a:lnTo>
                    <a:pt x="104" y="17"/>
                  </a:lnTo>
                  <a:lnTo>
                    <a:pt x="89" y="14"/>
                  </a:lnTo>
                  <a:lnTo>
                    <a:pt x="74" y="11"/>
                  </a:lnTo>
                  <a:lnTo>
                    <a:pt x="58" y="7"/>
                  </a:lnTo>
                  <a:lnTo>
                    <a:pt x="42" y="4"/>
                  </a:lnTo>
                  <a:lnTo>
                    <a:pt x="24" y="0"/>
                  </a:lnTo>
                  <a:lnTo>
                    <a:pt x="0" y="2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6538680" y="4275000"/>
              <a:ext cx="34920" cy="87120"/>
            </a:xfrm>
            <a:custGeom>
              <a:avLst/>
              <a:gdLst/>
              <a:ahLst/>
              <a:rect l="l" t="t" r="r" b="b"/>
              <a:pathLst>
                <a:path w="92" h="198">
                  <a:moveTo>
                    <a:pt x="31" y="198"/>
                  </a:moveTo>
                  <a:lnTo>
                    <a:pt x="31" y="198"/>
                  </a:lnTo>
                  <a:lnTo>
                    <a:pt x="46" y="175"/>
                  </a:lnTo>
                  <a:lnTo>
                    <a:pt x="60" y="152"/>
                  </a:lnTo>
                  <a:lnTo>
                    <a:pt x="70" y="126"/>
                  </a:lnTo>
                  <a:lnTo>
                    <a:pt x="78" y="100"/>
                  </a:lnTo>
                  <a:lnTo>
                    <a:pt x="85" y="75"/>
                  </a:lnTo>
                  <a:lnTo>
                    <a:pt x="89" y="48"/>
                  </a:lnTo>
                  <a:lnTo>
                    <a:pt x="90" y="23"/>
                  </a:lnTo>
                  <a:lnTo>
                    <a:pt x="92" y="0"/>
                  </a:lnTo>
                  <a:lnTo>
                    <a:pt x="53" y="0"/>
                  </a:lnTo>
                  <a:lnTo>
                    <a:pt x="51" y="20"/>
                  </a:lnTo>
                  <a:lnTo>
                    <a:pt x="50" y="43"/>
                  </a:lnTo>
                  <a:lnTo>
                    <a:pt x="46" y="66"/>
                  </a:lnTo>
                  <a:lnTo>
                    <a:pt x="42" y="89"/>
                  </a:lnTo>
                  <a:lnTo>
                    <a:pt x="33" y="112"/>
                  </a:lnTo>
                  <a:lnTo>
                    <a:pt x="24" y="135"/>
                  </a:lnTo>
                  <a:lnTo>
                    <a:pt x="12" y="15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31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6468840" y="4349520"/>
              <a:ext cx="81000" cy="61920"/>
            </a:xfrm>
            <a:custGeom>
              <a:avLst/>
              <a:gdLst/>
              <a:ahLst/>
              <a:rect l="l" t="t" r="r" b="b"/>
              <a:pathLst>
                <a:path w="207" h="140">
                  <a:moveTo>
                    <a:pt x="3" y="140"/>
                  </a:moveTo>
                  <a:lnTo>
                    <a:pt x="3" y="140"/>
                  </a:lnTo>
                  <a:lnTo>
                    <a:pt x="32" y="136"/>
                  </a:lnTo>
                  <a:lnTo>
                    <a:pt x="62" y="126"/>
                  </a:lnTo>
                  <a:lnTo>
                    <a:pt x="89" y="116"/>
                  </a:lnTo>
                  <a:lnTo>
                    <a:pt x="116" y="101"/>
                  </a:lnTo>
                  <a:lnTo>
                    <a:pt x="141" y="84"/>
                  </a:lnTo>
                  <a:lnTo>
                    <a:pt x="165" y="67"/>
                  </a:lnTo>
                  <a:lnTo>
                    <a:pt x="187" y="46"/>
                  </a:lnTo>
                  <a:lnTo>
                    <a:pt x="207" y="26"/>
                  </a:lnTo>
                  <a:lnTo>
                    <a:pt x="176" y="0"/>
                  </a:lnTo>
                  <a:lnTo>
                    <a:pt x="159" y="19"/>
                  </a:lnTo>
                  <a:lnTo>
                    <a:pt x="140" y="37"/>
                  </a:lnTo>
                  <a:lnTo>
                    <a:pt x="119" y="53"/>
                  </a:lnTo>
                  <a:lnTo>
                    <a:pt x="96" y="67"/>
                  </a:lnTo>
                  <a:lnTo>
                    <a:pt x="73" y="80"/>
                  </a:lnTo>
                  <a:lnTo>
                    <a:pt x="50" y="90"/>
                  </a:lnTo>
                  <a:lnTo>
                    <a:pt x="24" y="97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3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6379920" y="4367160"/>
              <a:ext cx="90360" cy="44280"/>
            </a:xfrm>
            <a:custGeom>
              <a:avLst/>
              <a:gdLst/>
              <a:ahLst/>
              <a:rect l="l" t="t" r="r" b="b"/>
              <a:pathLst>
                <a:path w="233" h="103">
                  <a:moveTo>
                    <a:pt x="0" y="31"/>
                  </a:moveTo>
                  <a:lnTo>
                    <a:pt x="0" y="31"/>
                  </a:lnTo>
                  <a:lnTo>
                    <a:pt x="25" y="49"/>
                  </a:lnTo>
                  <a:lnTo>
                    <a:pt x="52" y="64"/>
                  </a:lnTo>
                  <a:lnTo>
                    <a:pt x="81" y="78"/>
                  </a:lnTo>
                  <a:lnTo>
                    <a:pt x="110" y="88"/>
                  </a:lnTo>
                  <a:lnTo>
                    <a:pt x="141" y="96"/>
                  </a:lnTo>
                  <a:lnTo>
                    <a:pt x="172" y="102"/>
                  </a:lnTo>
                  <a:lnTo>
                    <a:pt x="202" y="103"/>
                  </a:lnTo>
                  <a:lnTo>
                    <a:pt x="233" y="102"/>
                  </a:lnTo>
                  <a:lnTo>
                    <a:pt x="230" y="63"/>
                  </a:lnTo>
                  <a:lnTo>
                    <a:pt x="202" y="64"/>
                  </a:lnTo>
                  <a:lnTo>
                    <a:pt x="177" y="63"/>
                  </a:lnTo>
                  <a:lnTo>
                    <a:pt x="149" y="57"/>
                  </a:lnTo>
                  <a:lnTo>
                    <a:pt x="122" y="52"/>
                  </a:lnTo>
                  <a:lnTo>
                    <a:pt x="95" y="42"/>
                  </a:lnTo>
                  <a:lnTo>
                    <a:pt x="71" y="31"/>
                  </a:lnTo>
                  <a:lnTo>
                    <a:pt x="48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6325920" y="4270320"/>
              <a:ext cx="63360" cy="109440"/>
            </a:xfrm>
            <a:custGeom>
              <a:avLst/>
              <a:gdLst/>
              <a:ahLst/>
              <a:rect l="l" t="t" r="r" b="b"/>
              <a:pathLst>
                <a:path w="165" h="248">
                  <a:moveTo>
                    <a:pt x="0" y="2"/>
                  </a:moveTo>
                  <a:lnTo>
                    <a:pt x="0" y="2"/>
                  </a:lnTo>
                  <a:lnTo>
                    <a:pt x="2" y="20"/>
                  </a:lnTo>
                  <a:lnTo>
                    <a:pt x="5" y="39"/>
                  </a:lnTo>
                  <a:lnTo>
                    <a:pt x="11" y="55"/>
                  </a:lnTo>
                  <a:lnTo>
                    <a:pt x="16" y="73"/>
                  </a:lnTo>
                  <a:lnTo>
                    <a:pt x="22" y="89"/>
                  </a:lnTo>
                  <a:lnTo>
                    <a:pt x="30" y="106"/>
                  </a:lnTo>
                  <a:lnTo>
                    <a:pt x="39" y="122"/>
                  </a:lnTo>
                  <a:lnTo>
                    <a:pt x="47" y="138"/>
                  </a:lnTo>
                  <a:lnTo>
                    <a:pt x="57" y="154"/>
                  </a:lnTo>
                  <a:lnTo>
                    <a:pt x="68" y="168"/>
                  </a:lnTo>
                  <a:lnTo>
                    <a:pt x="78" y="182"/>
                  </a:lnTo>
                  <a:lnTo>
                    <a:pt x="89" y="198"/>
                  </a:lnTo>
                  <a:lnTo>
                    <a:pt x="101" y="212"/>
                  </a:lnTo>
                  <a:lnTo>
                    <a:pt x="114" y="224"/>
                  </a:lnTo>
                  <a:lnTo>
                    <a:pt x="128" y="235"/>
                  </a:lnTo>
                  <a:lnTo>
                    <a:pt x="140" y="248"/>
                  </a:lnTo>
                  <a:lnTo>
                    <a:pt x="165" y="217"/>
                  </a:lnTo>
                  <a:lnTo>
                    <a:pt x="153" y="207"/>
                  </a:lnTo>
                  <a:lnTo>
                    <a:pt x="142" y="196"/>
                  </a:lnTo>
                  <a:lnTo>
                    <a:pt x="129" y="184"/>
                  </a:lnTo>
                  <a:lnTo>
                    <a:pt x="119" y="172"/>
                  </a:lnTo>
                  <a:lnTo>
                    <a:pt x="108" y="160"/>
                  </a:lnTo>
                  <a:lnTo>
                    <a:pt x="99" y="146"/>
                  </a:lnTo>
                  <a:lnTo>
                    <a:pt x="90" y="132"/>
                  </a:lnTo>
                  <a:lnTo>
                    <a:pt x="80" y="118"/>
                  </a:lnTo>
                  <a:lnTo>
                    <a:pt x="72" y="103"/>
                  </a:lnTo>
                  <a:lnTo>
                    <a:pt x="64" y="89"/>
                  </a:lnTo>
                  <a:lnTo>
                    <a:pt x="58" y="75"/>
                  </a:lnTo>
                  <a:lnTo>
                    <a:pt x="53" y="60"/>
                  </a:lnTo>
                  <a:lnTo>
                    <a:pt x="47" y="44"/>
                  </a:lnTo>
                  <a:lnTo>
                    <a:pt x="44" y="30"/>
                  </a:lnTo>
                  <a:lnTo>
                    <a:pt x="41" y="1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6324480" y="4132080"/>
              <a:ext cx="42840" cy="139680"/>
            </a:xfrm>
            <a:custGeom>
              <a:avLst/>
              <a:gdLst/>
              <a:ahLst/>
              <a:rect l="l" t="t" r="r" b="b"/>
              <a:pathLst>
                <a:path w="110" h="316">
                  <a:moveTo>
                    <a:pt x="79" y="0"/>
                  </a:moveTo>
                  <a:lnTo>
                    <a:pt x="79" y="0"/>
                  </a:lnTo>
                  <a:lnTo>
                    <a:pt x="67" y="15"/>
                  </a:lnTo>
                  <a:lnTo>
                    <a:pt x="57" y="33"/>
                  </a:lnTo>
                  <a:lnTo>
                    <a:pt x="46" y="53"/>
                  </a:lnTo>
                  <a:lnTo>
                    <a:pt x="37" y="72"/>
                  </a:lnTo>
                  <a:lnTo>
                    <a:pt x="30" y="90"/>
                  </a:lnTo>
                  <a:lnTo>
                    <a:pt x="23" y="110"/>
                  </a:lnTo>
                  <a:lnTo>
                    <a:pt x="17" y="131"/>
                  </a:lnTo>
                  <a:lnTo>
                    <a:pt x="12" y="150"/>
                  </a:lnTo>
                  <a:lnTo>
                    <a:pt x="8" y="171"/>
                  </a:lnTo>
                  <a:lnTo>
                    <a:pt x="4" y="192"/>
                  </a:lnTo>
                  <a:lnTo>
                    <a:pt x="3" y="215"/>
                  </a:lnTo>
                  <a:lnTo>
                    <a:pt x="1" y="234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1" y="297"/>
                  </a:lnTo>
                  <a:lnTo>
                    <a:pt x="3" y="316"/>
                  </a:lnTo>
                  <a:lnTo>
                    <a:pt x="42" y="314"/>
                  </a:lnTo>
                  <a:lnTo>
                    <a:pt x="40" y="294"/>
                  </a:lnTo>
                  <a:lnTo>
                    <a:pt x="39" y="276"/>
                  </a:lnTo>
                  <a:lnTo>
                    <a:pt x="39" y="255"/>
                  </a:lnTo>
                  <a:lnTo>
                    <a:pt x="40" y="237"/>
                  </a:lnTo>
                  <a:lnTo>
                    <a:pt x="42" y="217"/>
                  </a:lnTo>
                  <a:lnTo>
                    <a:pt x="43" y="198"/>
                  </a:lnTo>
                  <a:lnTo>
                    <a:pt x="47" y="180"/>
                  </a:lnTo>
                  <a:lnTo>
                    <a:pt x="51" y="159"/>
                  </a:lnTo>
                  <a:lnTo>
                    <a:pt x="56" y="139"/>
                  </a:lnTo>
                  <a:lnTo>
                    <a:pt x="60" y="121"/>
                  </a:lnTo>
                  <a:lnTo>
                    <a:pt x="67" y="104"/>
                  </a:lnTo>
                  <a:lnTo>
                    <a:pt x="74" y="86"/>
                  </a:lnTo>
                  <a:lnTo>
                    <a:pt x="82" y="70"/>
                  </a:lnTo>
                  <a:lnTo>
                    <a:pt x="90" y="53"/>
                  </a:lnTo>
                  <a:lnTo>
                    <a:pt x="100" y="37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6354360" y="4063680"/>
              <a:ext cx="109800" cy="78120"/>
            </a:xfrm>
            <a:custGeom>
              <a:avLst/>
              <a:gdLst/>
              <a:ahLst/>
              <a:rect l="l" t="t" r="r" b="b"/>
              <a:pathLst>
                <a:path w="282" h="176">
                  <a:moveTo>
                    <a:pt x="278" y="0"/>
                  </a:moveTo>
                  <a:lnTo>
                    <a:pt x="276" y="0"/>
                  </a:lnTo>
                  <a:lnTo>
                    <a:pt x="258" y="3"/>
                  </a:lnTo>
                  <a:lnTo>
                    <a:pt x="237" y="6"/>
                  </a:lnTo>
                  <a:lnTo>
                    <a:pt x="218" y="13"/>
                  </a:lnTo>
                  <a:lnTo>
                    <a:pt x="200" y="19"/>
                  </a:lnTo>
                  <a:lnTo>
                    <a:pt x="180" y="24"/>
                  </a:lnTo>
                  <a:lnTo>
                    <a:pt x="159" y="31"/>
                  </a:lnTo>
                  <a:lnTo>
                    <a:pt x="142" y="41"/>
                  </a:lnTo>
                  <a:lnTo>
                    <a:pt x="123" y="51"/>
                  </a:lnTo>
                  <a:lnTo>
                    <a:pt x="106" y="60"/>
                  </a:lnTo>
                  <a:lnTo>
                    <a:pt x="88" y="70"/>
                  </a:lnTo>
                  <a:lnTo>
                    <a:pt x="71" y="83"/>
                  </a:lnTo>
                  <a:lnTo>
                    <a:pt x="56" y="95"/>
                  </a:lnTo>
                  <a:lnTo>
                    <a:pt x="41" y="109"/>
                  </a:lnTo>
                  <a:lnTo>
                    <a:pt x="27" y="122"/>
                  </a:lnTo>
                  <a:lnTo>
                    <a:pt x="11" y="138"/>
                  </a:lnTo>
                  <a:lnTo>
                    <a:pt x="0" y="154"/>
                  </a:lnTo>
                  <a:lnTo>
                    <a:pt x="31" y="176"/>
                  </a:lnTo>
                  <a:lnTo>
                    <a:pt x="42" y="164"/>
                  </a:lnTo>
                  <a:lnTo>
                    <a:pt x="55" y="150"/>
                  </a:lnTo>
                  <a:lnTo>
                    <a:pt x="66" y="137"/>
                  </a:lnTo>
                  <a:lnTo>
                    <a:pt x="81" y="126"/>
                  </a:lnTo>
                  <a:lnTo>
                    <a:pt x="96" y="113"/>
                  </a:lnTo>
                  <a:lnTo>
                    <a:pt x="110" y="104"/>
                  </a:lnTo>
                  <a:lnTo>
                    <a:pt x="126" y="94"/>
                  </a:lnTo>
                  <a:lnTo>
                    <a:pt x="142" y="84"/>
                  </a:lnTo>
                  <a:lnTo>
                    <a:pt x="159" y="74"/>
                  </a:lnTo>
                  <a:lnTo>
                    <a:pt x="176" y="67"/>
                  </a:lnTo>
                  <a:lnTo>
                    <a:pt x="191" y="60"/>
                  </a:lnTo>
                  <a:lnTo>
                    <a:pt x="211" y="55"/>
                  </a:lnTo>
                  <a:lnTo>
                    <a:pt x="229" y="49"/>
                  </a:lnTo>
                  <a:lnTo>
                    <a:pt x="245" y="45"/>
                  </a:lnTo>
                  <a:lnTo>
                    <a:pt x="264" y="42"/>
                  </a:lnTo>
                  <a:lnTo>
                    <a:pt x="282" y="39"/>
                  </a:lnTo>
                  <a:lnTo>
                    <a:pt x="280" y="39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6464160" y="4063680"/>
              <a:ext cx="110880" cy="49320"/>
            </a:xfrm>
            <a:custGeom>
              <a:avLst/>
              <a:gdLst/>
              <a:ahLst/>
              <a:rect l="l" t="t" r="r" b="b"/>
              <a:pathLst>
                <a:path w="287" h="115">
                  <a:moveTo>
                    <a:pt x="287" y="96"/>
                  </a:moveTo>
                  <a:lnTo>
                    <a:pt x="275" y="81"/>
                  </a:lnTo>
                  <a:lnTo>
                    <a:pt x="263" y="67"/>
                  </a:lnTo>
                  <a:lnTo>
                    <a:pt x="248" y="55"/>
                  </a:lnTo>
                  <a:lnTo>
                    <a:pt x="232" y="44"/>
                  </a:lnTo>
                  <a:lnTo>
                    <a:pt x="216" y="36"/>
                  </a:lnTo>
                  <a:lnTo>
                    <a:pt x="197" y="26"/>
                  </a:lnTo>
                  <a:lnTo>
                    <a:pt x="178" y="21"/>
                  </a:lnTo>
                  <a:lnTo>
                    <a:pt x="158" y="14"/>
                  </a:lnTo>
                  <a:lnTo>
                    <a:pt x="139" y="9"/>
                  </a:lnTo>
                  <a:lnTo>
                    <a:pt x="118" y="5"/>
                  </a:lnTo>
                  <a:lnTo>
                    <a:pt x="97" y="2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7" y="0"/>
                  </a:lnTo>
                  <a:lnTo>
                    <a:pt x="18" y="1"/>
                  </a:lnTo>
                  <a:lnTo>
                    <a:pt x="0" y="2"/>
                  </a:lnTo>
                  <a:lnTo>
                    <a:pt x="2" y="41"/>
                  </a:lnTo>
                  <a:lnTo>
                    <a:pt x="20" y="40"/>
                  </a:lnTo>
                  <a:lnTo>
                    <a:pt x="37" y="39"/>
                  </a:lnTo>
                  <a:lnTo>
                    <a:pt x="57" y="39"/>
                  </a:lnTo>
                  <a:lnTo>
                    <a:pt x="75" y="40"/>
                  </a:lnTo>
                  <a:lnTo>
                    <a:pt x="94" y="41"/>
                  </a:lnTo>
                  <a:lnTo>
                    <a:pt x="112" y="44"/>
                  </a:lnTo>
                  <a:lnTo>
                    <a:pt x="131" y="48"/>
                  </a:lnTo>
                  <a:lnTo>
                    <a:pt x="150" y="53"/>
                  </a:lnTo>
                  <a:lnTo>
                    <a:pt x="167" y="57"/>
                  </a:lnTo>
                  <a:lnTo>
                    <a:pt x="183" y="62"/>
                  </a:lnTo>
                  <a:lnTo>
                    <a:pt x="199" y="69"/>
                  </a:lnTo>
                  <a:lnTo>
                    <a:pt x="213" y="78"/>
                  </a:lnTo>
                  <a:lnTo>
                    <a:pt x="225" y="86"/>
                  </a:lnTo>
                  <a:lnTo>
                    <a:pt x="235" y="94"/>
                  </a:lnTo>
                  <a:lnTo>
                    <a:pt x="245" y="106"/>
                  </a:lnTo>
                  <a:lnTo>
                    <a:pt x="253" y="115"/>
                  </a:lnTo>
                  <a:lnTo>
                    <a:pt x="28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6456240" y="4068720"/>
              <a:ext cx="14040" cy="1260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0"/>
                  </a:moveTo>
                  <a:lnTo>
                    <a:pt x="6" y="27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7" y="27"/>
                  </a:lnTo>
                  <a:lnTo>
                    <a:pt x="32" y="22"/>
                  </a:lnTo>
                  <a:lnTo>
                    <a:pt x="35" y="16"/>
                  </a:lnTo>
                  <a:lnTo>
                    <a:pt x="36" y="9"/>
                  </a:lnTo>
                  <a:lnTo>
                    <a:pt x="3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6921360" y="2752560"/>
              <a:ext cx="108000" cy="73080"/>
            </a:xfrm>
            <a:custGeom>
              <a:avLst/>
              <a:gdLst/>
              <a:ahLst/>
              <a:rect l="l" t="t" r="r" b="b"/>
              <a:pathLst>
                <a:path w="279" h="164">
                  <a:moveTo>
                    <a:pt x="0" y="7"/>
                  </a:moveTo>
                  <a:lnTo>
                    <a:pt x="9" y="33"/>
                  </a:lnTo>
                  <a:lnTo>
                    <a:pt x="24" y="42"/>
                  </a:lnTo>
                  <a:lnTo>
                    <a:pt x="41" y="51"/>
                  </a:lnTo>
                  <a:lnTo>
                    <a:pt x="56" y="58"/>
                  </a:lnTo>
                  <a:lnTo>
                    <a:pt x="73" y="65"/>
                  </a:lnTo>
                  <a:lnTo>
                    <a:pt x="87" y="74"/>
                  </a:lnTo>
                  <a:lnTo>
                    <a:pt x="103" y="82"/>
                  </a:lnTo>
                  <a:lnTo>
                    <a:pt x="120" y="90"/>
                  </a:lnTo>
                  <a:lnTo>
                    <a:pt x="136" y="99"/>
                  </a:lnTo>
                  <a:lnTo>
                    <a:pt x="151" y="106"/>
                  </a:lnTo>
                  <a:lnTo>
                    <a:pt x="166" y="114"/>
                  </a:lnTo>
                  <a:lnTo>
                    <a:pt x="183" y="122"/>
                  </a:lnTo>
                  <a:lnTo>
                    <a:pt x="197" y="131"/>
                  </a:lnTo>
                  <a:lnTo>
                    <a:pt x="212" y="139"/>
                  </a:lnTo>
                  <a:lnTo>
                    <a:pt x="229" y="147"/>
                  </a:lnTo>
                  <a:lnTo>
                    <a:pt x="246" y="156"/>
                  </a:lnTo>
                  <a:lnTo>
                    <a:pt x="260" y="164"/>
                  </a:lnTo>
                  <a:lnTo>
                    <a:pt x="279" y="131"/>
                  </a:lnTo>
                  <a:lnTo>
                    <a:pt x="262" y="122"/>
                  </a:lnTo>
                  <a:lnTo>
                    <a:pt x="246" y="114"/>
                  </a:lnTo>
                  <a:lnTo>
                    <a:pt x="232" y="106"/>
                  </a:lnTo>
                  <a:lnTo>
                    <a:pt x="216" y="97"/>
                  </a:lnTo>
                  <a:lnTo>
                    <a:pt x="200" y="89"/>
                  </a:lnTo>
                  <a:lnTo>
                    <a:pt x="183" y="81"/>
                  </a:lnTo>
                  <a:lnTo>
                    <a:pt x="168" y="72"/>
                  </a:lnTo>
                  <a:lnTo>
                    <a:pt x="152" y="65"/>
                  </a:lnTo>
                  <a:lnTo>
                    <a:pt x="137" y="57"/>
                  </a:lnTo>
                  <a:lnTo>
                    <a:pt x="120" y="48"/>
                  </a:lnTo>
                  <a:lnTo>
                    <a:pt x="106" y="40"/>
                  </a:lnTo>
                  <a:lnTo>
                    <a:pt x="90" y="32"/>
                  </a:lnTo>
                  <a:lnTo>
                    <a:pt x="73" y="22"/>
                  </a:lnTo>
                  <a:lnTo>
                    <a:pt x="57" y="15"/>
                  </a:lnTo>
                  <a:lnTo>
                    <a:pt x="41" y="8"/>
                  </a:lnTo>
                  <a:lnTo>
                    <a:pt x="25" y="0"/>
                  </a:lnTo>
                  <a:lnTo>
                    <a:pt x="34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6865560" y="2757240"/>
              <a:ext cx="50760" cy="25560"/>
            </a:xfrm>
            <a:custGeom>
              <a:avLst/>
              <a:gdLst/>
              <a:ahLst/>
              <a:rect l="l" t="t" r="r" b="b"/>
              <a:pathLst>
                <a:path w="134" h="60">
                  <a:moveTo>
                    <a:pt x="127" y="15"/>
                  </a:moveTo>
                  <a:lnTo>
                    <a:pt x="126" y="15"/>
                  </a:lnTo>
                  <a:lnTo>
                    <a:pt x="110" y="18"/>
                  </a:lnTo>
                  <a:lnTo>
                    <a:pt x="96" y="20"/>
                  </a:lnTo>
                  <a:lnTo>
                    <a:pt x="82" y="21"/>
                  </a:lnTo>
                  <a:lnTo>
                    <a:pt x="70" y="20"/>
                  </a:lnTo>
                  <a:lnTo>
                    <a:pt x="57" y="17"/>
                  </a:lnTo>
                  <a:lnTo>
                    <a:pt x="48" y="14"/>
                  </a:lnTo>
                  <a:lnTo>
                    <a:pt x="38" y="8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16" y="39"/>
                  </a:lnTo>
                  <a:lnTo>
                    <a:pt x="31" y="50"/>
                  </a:lnTo>
                  <a:lnTo>
                    <a:pt x="49" y="56"/>
                  </a:lnTo>
                  <a:lnTo>
                    <a:pt x="64" y="59"/>
                  </a:lnTo>
                  <a:lnTo>
                    <a:pt x="82" y="60"/>
                  </a:lnTo>
                  <a:lnTo>
                    <a:pt x="99" y="59"/>
                  </a:lnTo>
                  <a:lnTo>
                    <a:pt x="116" y="57"/>
                  </a:lnTo>
                  <a:lnTo>
                    <a:pt x="134" y="54"/>
                  </a:lnTo>
                  <a:lnTo>
                    <a:pt x="133" y="54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6413400" y="2759040"/>
              <a:ext cx="623880" cy="620640"/>
            </a:xfrm>
            <a:custGeom>
              <a:avLst/>
              <a:gdLst/>
              <a:ahLst/>
              <a:rect l="l" t="t" r="r" b="b"/>
              <a:pathLst>
                <a:path w="1600" h="1404">
                  <a:moveTo>
                    <a:pt x="1467" y="1153"/>
                  </a:moveTo>
                  <a:lnTo>
                    <a:pt x="1460" y="1075"/>
                  </a:lnTo>
                  <a:lnTo>
                    <a:pt x="1453" y="998"/>
                  </a:lnTo>
                  <a:lnTo>
                    <a:pt x="1446" y="920"/>
                  </a:lnTo>
                  <a:lnTo>
                    <a:pt x="1441" y="844"/>
                  </a:lnTo>
                  <a:lnTo>
                    <a:pt x="1439" y="813"/>
                  </a:lnTo>
                  <a:lnTo>
                    <a:pt x="1438" y="781"/>
                  </a:lnTo>
                  <a:lnTo>
                    <a:pt x="1438" y="752"/>
                  </a:lnTo>
                  <a:lnTo>
                    <a:pt x="1438" y="722"/>
                  </a:lnTo>
                  <a:lnTo>
                    <a:pt x="1441" y="665"/>
                  </a:lnTo>
                  <a:lnTo>
                    <a:pt x="1448" y="609"/>
                  </a:lnTo>
                  <a:lnTo>
                    <a:pt x="1455" y="552"/>
                  </a:lnTo>
                  <a:lnTo>
                    <a:pt x="1466" y="496"/>
                  </a:lnTo>
                  <a:lnTo>
                    <a:pt x="1477" y="439"/>
                  </a:lnTo>
                  <a:lnTo>
                    <a:pt x="1489" y="383"/>
                  </a:lnTo>
                  <a:lnTo>
                    <a:pt x="1503" y="329"/>
                  </a:lnTo>
                  <a:lnTo>
                    <a:pt x="1519" y="275"/>
                  </a:lnTo>
                  <a:lnTo>
                    <a:pt x="1526" y="258"/>
                  </a:lnTo>
                  <a:lnTo>
                    <a:pt x="1537" y="240"/>
                  </a:lnTo>
                  <a:lnTo>
                    <a:pt x="1549" y="222"/>
                  </a:lnTo>
                  <a:lnTo>
                    <a:pt x="1563" y="204"/>
                  </a:lnTo>
                  <a:lnTo>
                    <a:pt x="1577" y="185"/>
                  </a:lnTo>
                  <a:lnTo>
                    <a:pt x="1588" y="166"/>
                  </a:lnTo>
                  <a:lnTo>
                    <a:pt x="1597" y="148"/>
                  </a:lnTo>
                  <a:lnTo>
                    <a:pt x="1600" y="130"/>
                  </a:lnTo>
                  <a:lnTo>
                    <a:pt x="1598" y="110"/>
                  </a:lnTo>
                  <a:lnTo>
                    <a:pt x="1593" y="92"/>
                  </a:lnTo>
                  <a:lnTo>
                    <a:pt x="1584" y="75"/>
                  </a:lnTo>
                  <a:lnTo>
                    <a:pt x="1573" y="61"/>
                  </a:lnTo>
                  <a:lnTo>
                    <a:pt x="1559" y="49"/>
                  </a:lnTo>
                  <a:lnTo>
                    <a:pt x="1544" y="38"/>
                  </a:lnTo>
                  <a:lnTo>
                    <a:pt x="1526" y="29"/>
                  </a:lnTo>
                  <a:lnTo>
                    <a:pt x="1508" y="24"/>
                  </a:lnTo>
                  <a:lnTo>
                    <a:pt x="1489" y="20"/>
                  </a:lnTo>
                  <a:lnTo>
                    <a:pt x="1473" y="17"/>
                  </a:lnTo>
                  <a:lnTo>
                    <a:pt x="1456" y="13"/>
                  </a:lnTo>
                  <a:lnTo>
                    <a:pt x="1439" y="10"/>
                  </a:lnTo>
                  <a:lnTo>
                    <a:pt x="1424" y="7"/>
                  </a:lnTo>
                  <a:lnTo>
                    <a:pt x="1410" y="6"/>
                  </a:lnTo>
                  <a:lnTo>
                    <a:pt x="1395" y="4"/>
                  </a:lnTo>
                  <a:lnTo>
                    <a:pt x="1381" y="1"/>
                  </a:lnTo>
                  <a:lnTo>
                    <a:pt x="1367" y="1"/>
                  </a:lnTo>
                  <a:lnTo>
                    <a:pt x="1351" y="0"/>
                  </a:lnTo>
                  <a:lnTo>
                    <a:pt x="1338" y="0"/>
                  </a:lnTo>
                  <a:lnTo>
                    <a:pt x="1324" y="0"/>
                  </a:lnTo>
                  <a:lnTo>
                    <a:pt x="1310" y="0"/>
                  </a:lnTo>
                  <a:lnTo>
                    <a:pt x="1294" y="0"/>
                  </a:lnTo>
                  <a:lnTo>
                    <a:pt x="1279" y="0"/>
                  </a:lnTo>
                  <a:lnTo>
                    <a:pt x="1264" y="1"/>
                  </a:lnTo>
                  <a:lnTo>
                    <a:pt x="1232" y="4"/>
                  </a:lnTo>
                  <a:lnTo>
                    <a:pt x="1198" y="6"/>
                  </a:lnTo>
                  <a:lnTo>
                    <a:pt x="1165" y="10"/>
                  </a:lnTo>
                  <a:lnTo>
                    <a:pt x="1131" y="13"/>
                  </a:lnTo>
                  <a:lnTo>
                    <a:pt x="1098" y="15"/>
                  </a:lnTo>
                  <a:lnTo>
                    <a:pt x="1063" y="20"/>
                  </a:lnTo>
                  <a:lnTo>
                    <a:pt x="1030" y="25"/>
                  </a:lnTo>
                  <a:lnTo>
                    <a:pt x="996" y="29"/>
                  </a:lnTo>
                  <a:lnTo>
                    <a:pt x="961" y="35"/>
                  </a:lnTo>
                  <a:lnTo>
                    <a:pt x="928" y="40"/>
                  </a:lnTo>
                  <a:lnTo>
                    <a:pt x="894" y="47"/>
                  </a:lnTo>
                  <a:lnTo>
                    <a:pt x="861" y="54"/>
                  </a:lnTo>
                  <a:lnTo>
                    <a:pt x="828" y="61"/>
                  </a:lnTo>
                  <a:lnTo>
                    <a:pt x="795" y="70"/>
                  </a:lnTo>
                  <a:lnTo>
                    <a:pt x="763" y="78"/>
                  </a:lnTo>
                  <a:lnTo>
                    <a:pt x="731" y="88"/>
                  </a:lnTo>
                  <a:lnTo>
                    <a:pt x="690" y="102"/>
                  </a:lnTo>
                  <a:lnTo>
                    <a:pt x="648" y="116"/>
                  </a:lnTo>
                  <a:lnTo>
                    <a:pt x="607" y="131"/>
                  </a:lnTo>
                  <a:lnTo>
                    <a:pt x="567" y="148"/>
                  </a:lnTo>
                  <a:lnTo>
                    <a:pt x="528" y="165"/>
                  </a:lnTo>
                  <a:lnTo>
                    <a:pt x="489" y="183"/>
                  </a:lnTo>
                  <a:lnTo>
                    <a:pt x="450" y="202"/>
                  </a:lnTo>
                  <a:lnTo>
                    <a:pt x="412" y="222"/>
                  </a:lnTo>
                  <a:lnTo>
                    <a:pt x="375" y="244"/>
                  </a:lnTo>
                  <a:lnTo>
                    <a:pt x="338" y="266"/>
                  </a:lnTo>
                  <a:lnTo>
                    <a:pt x="301" y="290"/>
                  </a:lnTo>
                  <a:lnTo>
                    <a:pt x="265" y="314"/>
                  </a:lnTo>
                  <a:lnTo>
                    <a:pt x="230" y="340"/>
                  </a:lnTo>
                  <a:lnTo>
                    <a:pt x="193" y="367"/>
                  </a:lnTo>
                  <a:lnTo>
                    <a:pt x="159" y="396"/>
                  </a:lnTo>
                  <a:lnTo>
                    <a:pt x="124" y="425"/>
                  </a:lnTo>
                  <a:lnTo>
                    <a:pt x="110" y="439"/>
                  </a:lnTo>
                  <a:lnTo>
                    <a:pt x="94" y="455"/>
                  </a:lnTo>
                  <a:lnTo>
                    <a:pt x="79" y="473"/>
                  </a:lnTo>
                  <a:lnTo>
                    <a:pt x="64" y="492"/>
                  </a:lnTo>
                  <a:lnTo>
                    <a:pt x="49" y="512"/>
                  </a:lnTo>
                  <a:lnTo>
                    <a:pt x="33" y="531"/>
                  </a:lnTo>
                  <a:lnTo>
                    <a:pt x="21" y="552"/>
                  </a:lnTo>
                  <a:lnTo>
                    <a:pt x="8" y="572"/>
                  </a:lnTo>
                  <a:lnTo>
                    <a:pt x="1" y="587"/>
                  </a:lnTo>
                  <a:lnTo>
                    <a:pt x="0" y="601"/>
                  </a:lnTo>
                  <a:lnTo>
                    <a:pt x="3" y="615"/>
                  </a:lnTo>
                  <a:lnTo>
                    <a:pt x="8" y="628"/>
                  </a:lnTo>
                  <a:lnTo>
                    <a:pt x="16" y="639"/>
                  </a:lnTo>
                  <a:lnTo>
                    <a:pt x="29" y="648"/>
                  </a:lnTo>
                  <a:lnTo>
                    <a:pt x="43" y="654"/>
                  </a:lnTo>
                  <a:lnTo>
                    <a:pt x="60" y="658"/>
                  </a:lnTo>
                  <a:lnTo>
                    <a:pt x="85" y="662"/>
                  </a:lnTo>
                  <a:lnTo>
                    <a:pt x="108" y="668"/>
                  </a:lnTo>
                  <a:lnTo>
                    <a:pt x="131" y="676"/>
                  </a:lnTo>
                  <a:lnTo>
                    <a:pt x="152" y="685"/>
                  </a:lnTo>
                  <a:lnTo>
                    <a:pt x="171" y="696"/>
                  </a:lnTo>
                  <a:lnTo>
                    <a:pt x="189" y="707"/>
                  </a:lnTo>
                  <a:lnTo>
                    <a:pt x="206" y="721"/>
                  </a:lnTo>
                  <a:lnTo>
                    <a:pt x="223" y="735"/>
                  </a:lnTo>
                  <a:lnTo>
                    <a:pt x="255" y="766"/>
                  </a:lnTo>
                  <a:lnTo>
                    <a:pt x="285" y="798"/>
                  </a:lnTo>
                  <a:lnTo>
                    <a:pt x="315" y="831"/>
                  </a:lnTo>
                  <a:lnTo>
                    <a:pt x="343" y="865"/>
                  </a:lnTo>
                  <a:lnTo>
                    <a:pt x="368" y="901"/>
                  </a:lnTo>
                  <a:lnTo>
                    <a:pt x="393" y="937"/>
                  </a:lnTo>
                  <a:lnTo>
                    <a:pt x="415" y="975"/>
                  </a:lnTo>
                  <a:lnTo>
                    <a:pt x="436" y="1014"/>
                  </a:lnTo>
                  <a:lnTo>
                    <a:pt x="441" y="1025"/>
                  </a:lnTo>
                  <a:lnTo>
                    <a:pt x="447" y="1036"/>
                  </a:lnTo>
                  <a:lnTo>
                    <a:pt x="454" y="1047"/>
                  </a:lnTo>
                  <a:lnTo>
                    <a:pt x="460" y="1058"/>
                  </a:lnTo>
                  <a:lnTo>
                    <a:pt x="465" y="1071"/>
                  </a:lnTo>
                  <a:lnTo>
                    <a:pt x="471" y="1083"/>
                  </a:lnTo>
                  <a:lnTo>
                    <a:pt x="475" y="1096"/>
                  </a:lnTo>
                  <a:lnTo>
                    <a:pt x="481" y="1109"/>
                  </a:lnTo>
                  <a:lnTo>
                    <a:pt x="494" y="1145"/>
                  </a:lnTo>
                  <a:lnTo>
                    <a:pt x="508" y="1181"/>
                  </a:lnTo>
                  <a:lnTo>
                    <a:pt x="521" y="1219"/>
                  </a:lnTo>
                  <a:lnTo>
                    <a:pt x="533" y="1256"/>
                  </a:lnTo>
                  <a:lnTo>
                    <a:pt x="545" y="1294"/>
                  </a:lnTo>
                  <a:lnTo>
                    <a:pt x="557" y="1330"/>
                  </a:lnTo>
                  <a:lnTo>
                    <a:pt x="568" y="1368"/>
                  </a:lnTo>
                  <a:lnTo>
                    <a:pt x="581" y="1404"/>
                  </a:lnTo>
                  <a:lnTo>
                    <a:pt x="637" y="1389"/>
                  </a:lnTo>
                  <a:lnTo>
                    <a:pt x="692" y="1372"/>
                  </a:lnTo>
                  <a:lnTo>
                    <a:pt x="747" y="1357"/>
                  </a:lnTo>
                  <a:lnTo>
                    <a:pt x="802" y="1341"/>
                  </a:lnTo>
                  <a:lnTo>
                    <a:pt x="858" y="1326"/>
                  </a:lnTo>
                  <a:lnTo>
                    <a:pt x="914" y="1309"/>
                  </a:lnTo>
                  <a:lnTo>
                    <a:pt x="968" y="1294"/>
                  </a:lnTo>
                  <a:lnTo>
                    <a:pt x="1024" y="1279"/>
                  </a:lnTo>
                  <a:lnTo>
                    <a:pt x="1080" y="1263"/>
                  </a:lnTo>
                  <a:lnTo>
                    <a:pt x="1135" y="1247"/>
                  </a:lnTo>
                  <a:lnTo>
                    <a:pt x="1190" y="1231"/>
                  </a:lnTo>
                  <a:lnTo>
                    <a:pt x="1246" y="1216"/>
                  </a:lnTo>
                  <a:lnTo>
                    <a:pt x="1301" y="1201"/>
                  </a:lnTo>
                  <a:lnTo>
                    <a:pt x="1357" y="1184"/>
                  </a:lnTo>
                  <a:lnTo>
                    <a:pt x="1411" y="1169"/>
                  </a:lnTo>
                  <a:lnTo>
                    <a:pt x="1467" y="1153"/>
                  </a:lnTo>
                  <a:close/>
                </a:path>
              </a:pathLst>
            </a:custGeom>
            <a:solidFill>
              <a:srgbClr val="00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6967440" y="3132000"/>
              <a:ext cx="25200" cy="138240"/>
            </a:xfrm>
            <a:custGeom>
              <a:avLst/>
              <a:gdLst/>
              <a:ahLst/>
              <a:rect l="l" t="t" r="r" b="b"/>
              <a:pathLst>
                <a:path w="66" h="313">
                  <a:moveTo>
                    <a:pt x="0" y="2"/>
                  </a:moveTo>
                  <a:lnTo>
                    <a:pt x="0" y="3"/>
                  </a:lnTo>
                  <a:lnTo>
                    <a:pt x="2" y="23"/>
                  </a:lnTo>
                  <a:lnTo>
                    <a:pt x="3" y="41"/>
                  </a:lnTo>
                  <a:lnTo>
                    <a:pt x="4" y="60"/>
                  </a:lnTo>
                  <a:lnTo>
                    <a:pt x="6" y="80"/>
                  </a:lnTo>
                  <a:lnTo>
                    <a:pt x="7" y="99"/>
                  </a:lnTo>
                  <a:lnTo>
                    <a:pt x="9" y="119"/>
                  </a:lnTo>
                  <a:lnTo>
                    <a:pt x="11" y="138"/>
                  </a:lnTo>
                  <a:lnTo>
                    <a:pt x="13" y="158"/>
                  </a:lnTo>
                  <a:lnTo>
                    <a:pt x="14" y="179"/>
                  </a:lnTo>
                  <a:lnTo>
                    <a:pt x="17" y="197"/>
                  </a:lnTo>
                  <a:lnTo>
                    <a:pt x="18" y="215"/>
                  </a:lnTo>
                  <a:lnTo>
                    <a:pt x="20" y="235"/>
                  </a:lnTo>
                  <a:lnTo>
                    <a:pt x="22" y="254"/>
                  </a:lnTo>
                  <a:lnTo>
                    <a:pt x="24" y="274"/>
                  </a:lnTo>
                  <a:lnTo>
                    <a:pt x="25" y="293"/>
                  </a:lnTo>
                  <a:lnTo>
                    <a:pt x="27" y="313"/>
                  </a:lnTo>
                  <a:lnTo>
                    <a:pt x="66" y="310"/>
                  </a:lnTo>
                  <a:lnTo>
                    <a:pt x="64" y="290"/>
                  </a:lnTo>
                  <a:lnTo>
                    <a:pt x="63" y="271"/>
                  </a:lnTo>
                  <a:lnTo>
                    <a:pt x="61" y="251"/>
                  </a:lnTo>
                  <a:lnTo>
                    <a:pt x="59" y="232"/>
                  </a:lnTo>
                  <a:lnTo>
                    <a:pt x="57" y="212"/>
                  </a:lnTo>
                  <a:lnTo>
                    <a:pt x="56" y="191"/>
                  </a:lnTo>
                  <a:lnTo>
                    <a:pt x="53" y="173"/>
                  </a:lnTo>
                  <a:lnTo>
                    <a:pt x="52" y="155"/>
                  </a:lnTo>
                  <a:lnTo>
                    <a:pt x="50" y="136"/>
                  </a:lnTo>
                  <a:lnTo>
                    <a:pt x="48" y="116"/>
                  </a:lnTo>
                  <a:lnTo>
                    <a:pt x="46" y="96"/>
                  </a:lnTo>
                  <a:lnTo>
                    <a:pt x="45" y="77"/>
                  </a:lnTo>
                  <a:lnTo>
                    <a:pt x="43" y="57"/>
                  </a:lnTo>
                  <a:lnTo>
                    <a:pt x="42" y="38"/>
                  </a:lnTo>
                  <a:lnTo>
                    <a:pt x="41" y="2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6965640" y="3079440"/>
              <a:ext cx="17640" cy="52560"/>
            </a:xfrm>
            <a:custGeom>
              <a:avLst/>
              <a:gdLst/>
              <a:ahLst/>
              <a:rect l="l" t="t" r="r" b="b"/>
              <a:pathLst>
                <a:path w="42" h="122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2" y="92"/>
                  </a:lnTo>
                  <a:lnTo>
                    <a:pt x="3" y="108"/>
                  </a:lnTo>
                  <a:lnTo>
                    <a:pt x="3" y="122"/>
                  </a:lnTo>
                  <a:lnTo>
                    <a:pt x="42" y="122"/>
                  </a:lnTo>
                  <a:lnTo>
                    <a:pt x="42" y="105"/>
                  </a:lnTo>
                  <a:lnTo>
                    <a:pt x="41" y="90"/>
                  </a:lnTo>
                  <a:lnTo>
                    <a:pt x="41" y="73"/>
                  </a:lnTo>
                  <a:lnTo>
                    <a:pt x="39" y="58"/>
                  </a:lnTo>
                  <a:lnTo>
                    <a:pt x="39" y="44"/>
                  </a:lnTo>
                  <a:lnTo>
                    <a:pt x="39" y="30"/>
                  </a:lnTo>
                  <a:lnTo>
                    <a:pt x="39" y="1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6965640" y="2877840"/>
              <a:ext cx="47520" cy="201600"/>
            </a:xfrm>
            <a:custGeom>
              <a:avLst/>
              <a:gdLst/>
              <a:ahLst/>
              <a:rect l="l" t="t" r="r" b="b"/>
              <a:pathLst>
                <a:path w="119" h="453">
                  <a:moveTo>
                    <a:pt x="83" y="0"/>
                  </a:moveTo>
                  <a:lnTo>
                    <a:pt x="83" y="0"/>
                  </a:lnTo>
                  <a:lnTo>
                    <a:pt x="76" y="27"/>
                  </a:lnTo>
                  <a:lnTo>
                    <a:pt x="67" y="55"/>
                  </a:lnTo>
                  <a:lnTo>
                    <a:pt x="59" y="84"/>
                  </a:lnTo>
                  <a:lnTo>
                    <a:pt x="52" y="110"/>
                  </a:lnTo>
                  <a:lnTo>
                    <a:pt x="46" y="138"/>
                  </a:lnTo>
                  <a:lnTo>
                    <a:pt x="39" y="166"/>
                  </a:lnTo>
                  <a:lnTo>
                    <a:pt x="34" y="194"/>
                  </a:lnTo>
                  <a:lnTo>
                    <a:pt x="28" y="223"/>
                  </a:lnTo>
                  <a:lnTo>
                    <a:pt x="23" y="251"/>
                  </a:lnTo>
                  <a:lnTo>
                    <a:pt x="17" y="280"/>
                  </a:lnTo>
                  <a:lnTo>
                    <a:pt x="13" y="308"/>
                  </a:lnTo>
                  <a:lnTo>
                    <a:pt x="10" y="338"/>
                  </a:lnTo>
                  <a:lnTo>
                    <a:pt x="6" y="365"/>
                  </a:lnTo>
                  <a:lnTo>
                    <a:pt x="3" y="395"/>
                  </a:lnTo>
                  <a:lnTo>
                    <a:pt x="2" y="424"/>
                  </a:lnTo>
                  <a:lnTo>
                    <a:pt x="0" y="453"/>
                  </a:lnTo>
                  <a:lnTo>
                    <a:pt x="39" y="453"/>
                  </a:lnTo>
                  <a:lnTo>
                    <a:pt x="41" y="427"/>
                  </a:lnTo>
                  <a:lnTo>
                    <a:pt x="42" y="398"/>
                  </a:lnTo>
                  <a:lnTo>
                    <a:pt x="45" y="371"/>
                  </a:lnTo>
                  <a:lnTo>
                    <a:pt x="49" y="343"/>
                  </a:lnTo>
                  <a:lnTo>
                    <a:pt x="52" y="314"/>
                  </a:lnTo>
                  <a:lnTo>
                    <a:pt x="56" y="286"/>
                  </a:lnTo>
                  <a:lnTo>
                    <a:pt x="62" y="260"/>
                  </a:lnTo>
                  <a:lnTo>
                    <a:pt x="67" y="232"/>
                  </a:lnTo>
                  <a:lnTo>
                    <a:pt x="73" y="202"/>
                  </a:lnTo>
                  <a:lnTo>
                    <a:pt x="78" y="174"/>
                  </a:lnTo>
                  <a:lnTo>
                    <a:pt x="85" y="147"/>
                  </a:lnTo>
                  <a:lnTo>
                    <a:pt x="91" y="119"/>
                  </a:lnTo>
                  <a:lnTo>
                    <a:pt x="98" y="92"/>
                  </a:lnTo>
                  <a:lnTo>
                    <a:pt x="104" y="66"/>
                  </a:lnTo>
                  <a:lnTo>
                    <a:pt x="112" y="38"/>
                  </a:lnTo>
                  <a:lnTo>
                    <a:pt x="119" y="11"/>
                  </a:lnTo>
                  <a:lnTo>
                    <a:pt x="119" y="1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6999120" y="2815920"/>
              <a:ext cx="46080" cy="669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79" y="0"/>
                  </a:moveTo>
                  <a:lnTo>
                    <a:pt x="79" y="0"/>
                  </a:lnTo>
                  <a:lnTo>
                    <a:pt x="78" y="12"/>
                  </a:lnTo>
                  <a:lnTo>
                    <a:pt x="71" y="28"/>
                  </a:lnTo>
                  <a:lnTo>
                    <a:pt x="60" y="44"/>
                  </a:lnTo>
                  <a:lnTo>
                    <a:pt x="47" y="61"/>
                  </a:lnTo>
                  <a:lnTo>
                    <a:pt x="33" y="81"/>
                  </a:lnTo>
                  <a:lnTo>
                    <a:pt x="19" y="99"/>
                  </a:lnTo>
                  <a:lnTo>
                    <a:pt x="8" y="120"/>
                  </a:lnTo>
                  <a:lnTo>
                    <a:pt x="0" y="139"/>
                  </a:lnTo>
                  <a:lnTo>
                    <a:pt x="36" y="150"/>
                  </a:lnTo>
                  <a:lnTo>
                    <a:pt x="41" y="136"/>
                  </a:lnTo>
                  <a:lnTo>
                    <a:pt x="53" y="121"/>
                  </a:lnTo>
                  <a:lnTo>
                    <a:pt x="64" y="103"/>
                  </a:lnTo>
                  <a:lnTo>
                    <a:pt x="78" y="86"/>
                  </a:lnTo>
                  <a:lnTo>
                    <a:pt x="93" y="67"/>
                  </a:lnTo>
                  <a:lnTo>
                    <a:pt x="104" y="44"/>
                  </a:lnTo>
                  <a:lnTo>
                    <a:pt x="114" y="23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6999120" y="2760480"/>
              <a:ext cx="46080" cy="55440"/>
            </a:xfrm>
            <a:custGeom>
              <a:avLst/>
              <a:gdLst/>
              <a:ahLst/>
              <a:rect l="l" t="t" r="r" b="b"/>
              <a:pathLst>
                <a:path w="116" h="126">
                  <a:moveTo>
                    <a:pt x="0" y="39"/>
                  </a:moveTo>
                  <a:lnTo>
                    <a:pt x="0" y="39"/>
                  </a:lnTo>
                  <a:lnTo>
                    <a:pt x="16" y="43"/>
                  </a:lnTo>
                  <a:lnTo>
                    <a:pt x="31" y="50"/>
                  </a:lnTo>
                  <a:lnTo>
                    <a:pt x="44" y="60"/>
                  </a:lnTo>
                  <a:lnTo>
                    <a:pt x="56" y="71"/>
                  </a:lnTo>
                  <a:lnTo>
                    <a:pt x="65" y="81"/>
                  </a:lnTo>
                  <a:lnTo>
                    <a:pt x="71" y="95"/>
                  </a:lnTo>
                  <a:lnTo>
                    <a:pt x="76" y="110"/>
                  </a:lnTo>
                  <a:lnTo>
                    <a:pt x="77" y="126"/>
                  </a:lnTo>
                  <a:lnTo>
                    <a:pt x="116" y="126"/>
                  </a:lnTo>
                  <a:lnTo>
                    <a:pt x="115" y="102"/>
                  </a:lnTo>
                  <a:lnTo>
                    <a:pt x="108" y="81"/>
                  </a:lnTo>
                  <a:lnTo>
                    <a:pt x="98" y="62"/>
                  </a:lnTo>
                  <a:lnTo>
                    <a:pt x="84" y="43"/>
                  </a:lnTo>
                  <a:lnTo>
                    <a:pt x="69" y="29"/>
                  </a:lnTo>
                  <a:lnTo>
                    <a:pt x="51" y="17"/>
                  </a:lnTo>
                  <a:lnTo>
                    <a:pt x="30" y="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6905520" y="2751120"/>
              <a:ext cx="96840" cy="27000"/>
            </a:xfrm>
            <a:custGeom>
              <a:avLst/>
              <a:gdLst/>
              <a:ahLst/>
              <a:rect l="l" t="t" r="r" b="b"/>
              <a:pathLst>
                <a:path w="250" h="62">
                  <a:moveTo>
                    <a:pt x="3" y="40"/>
                  </a:moveTo>
                  <a:lnTo>
                    <a:pt x="3" y="40"/>
                  </a:lnTo>
                  <a:lnTo>
                    <a:pt x="18" y="39"/>
                  </a:lnTo>
                  <a:lnTo>
                    <a:pt x="32" y="39"/>
                  </a:lnTo>
                  <a:lnTo>
                    <a:pt x="48" y="39"/>
                  </a:lnTo>
                  <a:lnTo>
                    <a:pt x="62" y="39"/>
                  </a:lnTo>
                  <a:lnTo>
                    <a:pt x="76" y="39"/>
                  </a:lnTo>
                  <a:lnTo>
                    <a:pt x="88" y="39"/>
                  </a:lnTo>
                  <a:lnTo>
                    <a:pt x="103" y="40"/>
                  </a:lnTo>
                  <a:lnTo>
                    <a:pt x="117" y="40"/>
                  </a:lnTo>
                  <a:lnTo>
                    <a:pt x="130" y="43"/>
                  </a:lnTo>
                  <a:lnTo>
                    <a:pt x="147" y="44"/>
                  </a:lnTo>
                  <a:lnTo>
                    <a:pt x="159" y="46"/>
                  </a:lnTo>
                  <a:lnTo>
                    <a:pt x="175" y="48"/>
                  </a:lnTo>
                  <a:lnTo>
                    <a:pt x="190" y="51"/>
                  </a:lnTo>
                  <a:lnTo>
                    <a:pt x="207" y="55"/>
                  </a:lnTo>
                  <a:lnTo>
                    <a:pt x="223" y="58"/>
                  </a:lnTo>
                  <a:lnTo>
                    <a:pt x="241" y="62"/>
                  </a:lnTo>
                  <a:lnTo>
                    <a:pt x="250" y="23"/>
                  </a:lnTo>
                  <a:lnTo>
                    <a:pt x="232" y="19"/>
                  </a:lnTo>
                  <a:lnTo>
                    <a:pt x="215" y="16"/>
                  </a:lnTo>
                  <a:lnTo>
                    <a:pt x="198" y="12"/>
                  </a:lnTo>
                  <a:lnTo>
                    <a:pt x="180" y="9"/>
                  </a:lnTo>
                  <a:lnTo>
                    <a:pt x="165" y="6"/>
                  </a:lnTo>
                  <a:lnTo>
                    <a:pt x="149" y="5"/>
                  </a:lnTo>
                  <a:lnTo>
                    <a:pt x="135" y="4"/>
                  </a:lnTo>
                  <a:lnTo>
                    <a:pt x="120" y="1"/>
                  </a:lnTo>
                  <a:lnTo>
                    <a:pt x="106" y="1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6696000" y="2751120"/>
              <a:ext cx="210960" cy="55440"/>
            </a:xfrm>
            <a:custGeom>
              <a:avLst/>
              <a:gdLst/>
              <a:ahLst/>
              <a:rect l="l" t="t" r="r" b="b"/>
              <a:pathLst>
                <a:path w="539" h="124">
                  <a:moveTo>
                    <a:pt x="11" y="124"/>
                  </a:moveTo>
                  <a:lnTo>
                    <a:pt x="11" y="124"/>
                  </a:lnTo>
                  <a:lnTo>
                    <a:pt x="43" y="114"/>
                  </a:lnTo>
                  <a:lnTo>
                    <a:pt x="74" y="107"/>
                  </a:lnTo>
                  <a:lnTo>
                    <a:pt x="106" y="99"/>
                  </a:lnTo>
                  <a:lnTo>
                    <a:pt x="139" y="92"/>
                  </a:lnTo>
                  <a:lnTo>
                    <a:pt x="173" y="85"/>
                  </a:lnTo>
                  <a:lnTo>
                    <a:pt x="206" y="78"/>
                  </a:lnTo>
                  <a:lnTo>
                    <a:pt x="238" y="72"/>
                  </a:lnTo>
                  <a:lnTo>
                    <a:pt x="273" y="67"/>
                  </a:lnTo>
                  <a:lnTo>
                    <a:pt x="306" y="63"/>
                  </a:lnTo>
                  <a:lnTo>
                    <a:pt x="340" y="57"/>
                  </a:lnTo>
                  <a:lnTo>
                    <a:pt x="373" y="53"/>
                  </a:lnTo>
                  <a:lnTo>
                    <a:pt x="407" y="50"/>
                  </a:lnTo>
                  <a:lnTo>
                    <a:pt x="440" y="47"/>
                  </a:lnTo>
                  <a:lnTo>
                    <a:pt x="474" y="43"/>
                  </a:lnTo>
                  <a:lnTo>
                    <a:pt x="507" y="42"/>
                  </a:lnTo>
                  <a:lnTo>
                    <a:pt x="539" y="39"/>
                  </a:lnTo>
                  <a:lnTo>
                    <a:pt x="536" y="0"/>
                  </a:lnTo>
                  <a:lnTo>
                    <a:pt x="504" y="3"/>
                  </a:lnTo>
                  <a:lnTo>
                    <a:pt x="471" y="4"/>
                  </a:lnTo>
                  <a:lnTo>
                    <a:pt x="437" y="8"/>
                  </a:lnTo>
                  <a:lnTo>
                    <a:pt x="404" y="11"/>
                  </a:lnTo>
                  <a:lnTo>
                    <a:pt x="370" y="14"/>
                  </a:lnTo>
                  <a:lnTo>
                    <a:pt x="334" y="18"/>
                  </a:lnTo>
                  <a:lnTo>
                    <a:pt x="301" y="24"/>
                  </a:lnTo>
                  <a:lnTo>
                    <a:pt x="267" y="28"/>
                  </a:lnTo>
                  <a:lnTo>
                    <a:pt x="233" y="33"/>
                  </a:lnTo>
                  <a:lnTo>
                    <a:pt x="198" y="39"/>
                  </a:lnTo>
                  <a:lnTo>
                    <a:pt x="164" y="46"/>
                  </a:lnTo>
                  <a:lnTo>
                    <a:pt x="131" y="53"/>
                  </a:lnTo>
                  <a:lnTo>
                    <a:pt x="97" y="60"/>
                  </a:lnTo>
                  <a:lnTo>
                    <a:pt x="65" y="68"/>
                  </a:lnTo>
                  <a:lnTo>
                    <a:pt x="32" y="7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1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6456240" y="2790720"/>
              <a:ext cx="244440" cy="163440"/>
            </a:xfrm>
            <a:custGeom>
              <a:avLst/>
              <a:gdLst/>
              <a:ahLst/>
              <a:rect l="l" t="t" r="r" b="b"/>
              <a:pathLst>
                <a:path w="626" h="371">
                  <a:moveTo>
                    <a:pt x="25" y="369"/>
                  </a:moveTo>
                  <a:lnTo>
                    <a:pt x="25" y="371"/>
                  </a:lnTo>
                  <a:lnTo>
                    <a:pt x="60" y="341"/>
                  </a:lnTo>
                  <a:lnTo>
                    <a:pt x="95" y="312"/>
                  </a:lnTo>
                  <a:lnTo>
                    <a:pt x="130" y="286"/>
                  </a:lnTo>
                  <a:lnTo>
                    <a:pt x="165" y="259"/>
                  </a:lnTo>
                  <a:lnTo>
                    <a:pt x="201" y="237"/>
                  </a:lnTo>
                  <a:lnTo>
                    <a:pt x="237" y="213"/>
                  </a:lnTo>
                  <a:lnTo>
                    <a:pt x="273" y="191"/>
                  </a:lnTo>
                  <a:lnTo>
                    <a:pt x="311" y="168"/>
                  </a:lnTo>
                  <a:lnTo>
                    <a:pt x="347" y="149"/>
                  </a:lnTo>
                  <a:lnTo>
                    <a:pt x="386" y="131"/>
                  </a:lnTo>
                  <a:lnTo>
                    <a:pt x="425" y="113"/>
                  </a:lnTo>
                  <a:lnTo>
                    <a:pt x="463" y="96"/>
                  </a:lnTo>
                  <a:lnTo>
                    <a:pt x="503" y="79"/>
                  </a:lnTo>
                  <a:lnTo>
                    <a:pt x="544" y="64"/>
                  </a:lnTo>
                  <a:lnTo>
                    <a:pt x="584" y="50"/>
                  </a:lnTo>
                  <a:lnTo>
                    <a:pt x="626" y="36"/>
                  </a:lnTo>
                  <a:lnTo>
                    <a:pt x="615" y="0"/>
                  </a:lnTo>
                  <a:lnTo>
                    <a:pt x="573" y="14"/>
                  </a:lnTo>
                  <a:lnTo>
                    <a:pt x="530" y="28"/>
                  </a:lnTo>
                  <a:lnTo>
                    <a:pt x="489" y="43"/>
                  </a:lnTo>
                  <a:lnTo>
                    <a:pt x="449" y="60"/>
                  </a:lnTo>
                  <a:lnTo>
                    <a:pt x="409" y="76"/>
                  </a:lnTo>
                  <a:lnTo>
                    <a:pt x="370" y="95"/>
                  </a:lnTo>
                  <a:lnTo>
                    <a:pt x="330" y="115"/>
                  </a:lnTo>
                  <a:lnTo>
                    <a:pt x="291" y="135"/>
                  </a:lnTo>
                  <a:lnTo>
                    <a:pt x="254" y="157"/>
                  </a:lnTo>
                  <a:lnTo>
                    <a:pt x="218" y="180"/>
                  </a:lnTo>
                  <a:lnTo>
                    <a:pt x="179" y="203"/>
                  </a:lnTo>
                  <a:lnTo>
                    <a:pt x="142" y="228"/>
                  </a:lnTo>
                  <a:lnTo>
                    <a:pt x="108" y="255"/>
                  </a:lnTo>
                  <a:lnTo>
                    <a:pt x="70" y="281"/>
                  </a:lnTo>
                  <a:lnTo>
                    <a:pt x="35" y="311"/>
                  </a:lnTo>
                  <a:lnTo>
                    <a:pt x="0" y="340"/>
                  </a:lnTo>
                  <a:lnTo>
                    <a:pt x="0" y="341"/>
                  </a:lnTo>
                  <a:lnTo>
                    <a:pt x="25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6410160" y="2941560"/>
              <a:ext cx="57240" cy="74520"/>
            </a:xfrm>
            <a:custGeom>
              <a:avLst/>
              <a:gdLst/>
              <a:ahLst/>
              <a:rect l="l" t="t" r="r" b="b"/>
              <a:pathLst>
                <a:path w="145" h="171">
                  <a:moveTo>
                    <a:pt x="34" y="171"/>
                  </a:moveTo>
                  <a:lnTo>
                    <a:pt x="34" y="171"/>
                  </a:lnTo>
                  <a:lnTo>
                    <a:pt x="46" y="151"/>
                  </a:lnTo>
                  <a:lnTo>
                    <a:pt x="58" y="131"/>
                  </a:lnTo>
                  <a:lnTo>
                    <a:pt x="73" y="113"/>
                  </a:lnTo>
                  <a:lnTo>
                    <a:pt x="88" y="94"/>
                  </a:lnTo>
                  <a:lnTo>
                    <a:pt x="103" y="74"/>
                  </a:lnTo>
                  <a:lnTo>
                    <a:pt x="117" y="56"/>
                  </a:lnTo>
                  <a:lnTo>
                    <a:pt x="133" y="42"/>
                  </a:lnTo>
                  <a:lnTo>
                    <a:pt x="145" y="28"/>
                  </a:lnTo>
                  <a:lnTo>
                    <a:pt x="120" y="0"/>
                  </a:lnTo>
                  <a:lnTo>
                    <a:pt x="105" y="14"/>
                  </a:lnTo>
                  <a:lnTo>
                    <a:pt x="90" y="31"/>
                  </a:lnTo>
                  <a:lnTo>
                    <a:pt x="73" y="49"/>
                  </a:lnTo>
                  <a:lnTo>
                    <a:pt x="58" y="69"/>
                  </a:lnTo>
                  <a:lnTo>
                    <a:pt x="42" y="88"/>
                  </a:lnTo>
                  <a:lnTo>
                    <a:pt x="27" y="109"/>
                  </a:lnTo>
                  <a:lnTo>
                    <a:pt x="13" y="13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3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6406920" y="3006720"/>
              <a:ext cx="30240" cy="5220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82" y="77"/>
                  </a:moveTo>
                  <a:lnTo>
                    <a:pt x="82" y="77"/>
                  </a:lnTo>
                  <a:lnTo>
                    <a:pt x="69" y="74"/>
                  </a:lnTo>
                  <a:lnTo>
                    <a:pt x="59" y="70"/>
                  </a:lnTo>
                  <a:lnTo>
                    <a:pt x="50" y="63"/>
                  </a:lnTo>
                  <a:lnTo>
                    <a:pt x="45" y="56"/>
                  </a:lnTo>
                  <a:lnTo>
                    <a:pt x="41" y="47"/>
                  </a:lnTo>
                  <a:lnTo>
                    <a:pt x="39" y="38"/>
                  </a:lnTo>
                  <a:lnTo>
                    <a:pt x="39" y="31"/>
                  </a:lnTo>
                  <a:lnTo>
                    <a:pt x="45" y="20"/>
                  </a:lnTo>
                  <a:lnTo>
                    <a:pt x="11" y="0"/>
                  </a:lnTo>
                  <a:lnTo>
                    <a:pt x="3" y="20"/>
                  </a:lnTo>
                  <a:lnTo>
                    <a:pt x="0" y="40"/>
                  </a:lnTo>
                  <a:lnTo>
                    <a:pt x="4" y="59"/>
                  </a:lnTo>
                  <a:lnTo>
                    <a:pt x="11" y="75"/>
                  </a:lnTo>
                  <a:lnTo>
                    <a:pt x="23" y="91"/>
                  </a:lnTo>
                  <a:lnTo>
                    <a:pt x="39" y="103"/>
                  </a:lnTo>
                  <a:lnTo>
                    <a:pt x="57" y="110"/>
                  </a:lnTo>
                  <a:lnTo>
                    <a:pt x="77" y="116"/>
                  </a:lnTo>
                  <a:lnTo>
                    <a:pt x="77" y="116"/>
                  </a:lnTo>
                  <a:lnTo>
                    <a:pt x="8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6435360" y="3041640"/>
              <a:ext cx="69840" cy="4896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178" y="82"/>
                  </a:moveTo>
                  <a:lnTo>
                    <a:pt x="178" y="82"/>
                  </a:lnTo>
                  <a:lnTo>
                    <a:pt x="162" y="67"/>
                  </a:lnTo>
                  <a:lnTo>
                    <a:pt x="143" y="53"/>
                  </a:lnTo>
                  <a:lnTo>
                    <a:pt x="124" y="40"/>
                  </a:lnTo>
                  <a:lnTo>
                    <a:pt x="103" y="28"/>
                  </a:lnTo>
                  <a:lnTo>
                    <a:pt x="81" y="19"/>
                  </a:lnTo>
                  <a:lnTo>
                    <a:pt x="57" y="11"/>
                  </a:lnTo>
                  <a:lnTo>
                    <a:pt x="32" y="4"/>
                  </a:lnTo>
                  <a:lnTo>
                    <a:pt x="5" y="0"/>
                  </a:lnTo>
                  <a:lnTo>
                    <a:pt x="0" y="39"/>
                  </a:lnTo>
                  <a:lnTo>
                    <a:pt x="24" y="43"/>
                  </a:lnTo>
                  <a:lnTo>
                    <a:pt x="46" y="47"/>
                  </a:lnTo>
                  <a:lnTo>
                    <a:pt x="67" y="55"/>
                  </a:lnTo>
                  <a:lnTo>
                    <a:pt x="86" y="64"/>
                  </a:lnTo>
                  <a:lnTo>
                    <a:pt x="104" y="74"/>
                  </a:lnTo>
                  <a:lnTo>
                    <a:pt x="121" y="83"/>
                  </a:lnTo>
                  <a:lnTo>
                    <a:pt x="136" y="97"/>
                  </a:lnTo>
                  <a:lnTo>
                    <a:pt x="153" y="110"/>
                  </a:lnTo>
                  <a:lnTo>
                    <a:pt x="153" y="110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6495840" y="3078000"/>
              <a:ext cx="93600" cy="133200"/>
            </a:xfrm>
            <a:custGeom>
              <a:avLst/>
              <a:gdLst/>
              <a:ahLst/>
              <a:rect l="l" t="t" r="r" b="b"/>
              <a:pathLst>
                <a:path w="243" h="303">
                  <a:moveTo>
                    <a:pt x="243" y="283"/>
                  </a:moveTo>
                  <a:lnTo>
                    <a:pt x="243" y="284"/>
                  </a:lnTo>
                  <a:lnTo>
                    <a:pt x="233" y="263"/>
                  </a:lnTo>
                  <a:lnTo>
                    <a:pt x="222" y="244"/>
                  </a:lnTo>
                  <a:lnTo>
                    <a:pt x="211" y="226"/>
                  </a:lnTo>
                  <a:lnTo>
                    <a:pt x="199" y="206"/>
                  </a:lnTo>
                  <a:lnTo>
                    <a:pt x="186" y="187"/>
                  </a:lnTo>
                  <a:lnTo>
                    <a:pt x="173" y="169"/>
                  </a:lnTo>
                  <a:lnTo>
                    <a:pt x="160" y="151"/>
                  </a:lnTo>
                  <a:lnTo>
                    <a:pt x="148" y="132"/>
                  </a:lnTo>
                  <a:lnTo>
                    <a:pt x="134" y="114"/>
                  </a:lnTo>
                  <a:lnTo>
                    <a:pt x="120" y="98"/>
                  </a:lnTo>
                  <a:lnTo>
                    <a:pt x="105" y="81"/>
                  </a:lnTo>
                  <a:lnTo>
                    <a:pt x="89" y="64"/>
                  </a:lnTo>
                  <a:lnTo>
                    <a:pt x="74" y="46"/>
                  </a:lnTo>
                  <a:lnTo>
                    <a:pt x="59" y="31"/>
                  </a:lnTo>
                  <a:lnTo>
                    <a:pt x="43" y="15"/>
                  </a:lnTo>
                  <a:lnTo>
                    <a:pt x="25" y="0"/>
                  </a:lnTo>
                  <a:lnTo>
                    <a:pt x="0" y="28"/>
                  </a:lnTo>
                  <a:lnTo>
                    <a:pt x="15" y="43"/>
                  </a:lnTo>
                  <a:lnTo>
                    <a:pt x="31" y="59"/>
                  </a:lnTo>
                  <a:lnTo>
                    <a:pt x="46" y="74"/>
                  </a:lnTo>
                  <a:lnTo>
                    <a:pt x="61" y="89"/>
                  </a:lnTo>
                  <a:lnTo>
                    <a:pt x="77" y="106"/>
                  </a:lnTo>
                  <a:lnTo>
                    <a:pt x="89" y="123"/>
                  </a:lnTo>
                  <a:lnTo>
                    <a:pt x="103" y="139"/>
                  </a:lnTo>
                  <a:lnTo>
                    <a:pt x="117" y="155"/>
                  </a:lnTo>
                  <a:lnTo>
                    <a:pt x="130" y="173"/>
                  </a:lnTo>
                  <a:lnTo>
                    <a:pt x="142" y="191"/>
                  </a:lnTo>
                  <a:lnTo>
                    <a:pt x="155" y="209"/>
                  </a:lnTo>
                  <a:lnTo>
                    <a:pt x="166" y="226"/>
                  </a:lnTo>
                  <a:lnTo>
                    <a:pt x="177" y="245"/>
                  </a:lnTo>
                  <a:lnTo>
                    <a:pt x="188" y="263"/>
                  </a:lnTo>
                  <a:lnTo>
                    <a:pt x="199" y="283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43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6576840" y="3203280"/>
              <a:ext cx="31680" cy="4932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80" y="98"/>
                  </a:moveTo>
                  <a:lnTo>
                    <a:pt x="80" y="98"/>
                  </a:lnTo>
                  <a:lnTo>
                    <a:pt x="74" y="85"/>
                  </a:lnTo>
                  <a:lnTo>
                    <a:pt x="70" y="73"/>
                  </a:lnTo>
                  <a:lnTo>
                    <a:pt x="64" y="59"/>
                  </a:lnTo>
                  <a:lnTo>
                    <a:pt x="59" y="46"/>
                  </a:lnTo>
                  <a:lnTo>
                    <a:pt x="52" y="33"/>
                  </a:lnTo>
                  <a:lnTo>
                    <a:pt x="45" y="22"/>
                  </a:lnTo>
                  <a:lnTo>
                    <a:pt x="41" y="13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18" y="53"/>
                  </a:lnTo>
                  <a:lnTo>
                    <a:pt x="22" y="63"/>
                  </a:lnTo>
                  <a:lnTo>
                    <a:pt x="28" y="75"/>
                  </a:lnTo>
                  <a:lnTo>
                    <a:pt x="34" y="86"/>
                  </a:lnTo>
                  <a:lnTo>
                    <a:pt x="38" y="99"/>
                  </a:lnTo>
                  <a:lnTo>
                    <a:pt x="43" y="112"/>
                  </a:lnTo>
                  <a:lnTo>
                    <a:pt x="43" y="112"/>
                  </a:lnTo>
                  <a:lnTo>
                    <a:pt x="8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592680" y="3246120"/>
              <a:ext cx="54000" cy="141480"/>
            </a:xfrm>
            <a:custGeom>
              <a:avLst/>
              <a:gdLst/>
              <a:ahLst/>
              <a:rect l="l" t="t" r="r" b="b"/>
              <a:pathLst>
                <a:path w="137" h="320">
                  <a:moveTo>
                    <a:pt x="113" y="284"/>
                  </a:moveTo>
                  <a:lnTo>
                    <a:pt x="137" y="295"/>
                  </a:lnTo>
                  <a:lnTo>
                    <a:pt x="131" y="277"/>
                  </a:lnTo>
                  <a:lnTo>
                    <a:pt x="124" y="259"/>
                  </a:lnTo>
                  <a:lnTo>
                    <a:pt x="119" y="242"/>
                  </a:lnTo>
                  <a:lnTo>
                    <a:pt x="113" y="223"/>
                  </a:lnTo>
                  <a:lnTo>
                    <a:pt x="106" y="203"/>
                  </a:lnTo>
                  <a:lnTo>
                    <a:pt x="101" y="186"/>
                  </a:lnTo>
                  <a:lnTo>
                    <a:pt x="95" y="167"/>
                  </a:lnTo>
                  <a:lnTo>
                    <a:pt x="90" y="149"/>
                  </a:lnTo>
                  <a:lnTo>
                    <a:pt x="83" y="129"/>
                  </a:lnTo>
                  <a:lnTo>
                    <a:pt x="77" y="111"/>
                  </a:lnTo>
                  <a:lnTo>
                    <a:pt x="70" y="92"/>
                  </a:lnTo>
                  <a:lnTo>
                    <a:pt x="65" y="72"/>
                  </a:lnTo>
                  <a:lnTo>
                    <a:pt x="58" y="54"/>
                  </a:lnTo>
                  <a:lnTo>
                    <a:pt x="51" y="36"/>
                  </a:lnTo>
                  <a:lnTo>
                    <a:pt x="44" y="18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7" y="32"/>
                  </a:lnTo>
                  <a:lnTo>
                    <a:pt x="14" y="50"/>
                  </a:lnTo>
                  <a:lnTo>
                    <a:pt x="21" y="68"/>
                  </a:lnTo>
                  <a:lnTo>
                    <a:pt x="28" y="86"/>
                  </a:lnTo>
                  <a:lnTo>
                    <a:pt x="34" y="103"/>
                  </a:lnTo>
                  <a:lnTo>
                    <a:pt x="41" y="122"/>
                  </a:lnTo>
                  <a:lnTo>
                    <a:pt x="46" y="140"/>
                  </a:lnTo>
                  <a:lnTo>
                    <a:pt x="53" y="160"/>
                  </a:lnTo>
                  <a:lnTo>
                    <a:pt x="59" y="178"/>
                  </a:lnTo>
                  <a:lnTo>
                    <a:pt x="65" y="198"/>
                  </a:lnTo>
                  <a:lnTo>
                    <a:pt x="70" y="217"/>
                  </a:lnTo>
                  <a:lnTo>
                    <a:pt x="77" y="234"/>
                  </a:lnTo>
                  <a:lnTo>
                    <a:pt x="83" y="253"/>
                  </a:lnTo>
                  <a:lnTo>
                    <a:pt x="88" y="273"/>
                  </a:lnTo>
                  <a:lnTo>
                    <a:pt x="95" y="291"/>
                  </a:lnTo>
                  <a:lnTo>
                    <a:pt x="101" y="309"/>
                  </a:lnTo>
                  <a:lnTo>
                    <a:pt x="124" y="320"/>
                  </a:lnTo>
                  <a:lnTo>
                    <a:pt x="113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636960" y="3260520"/>
              <a:ext cx="355680" cy="127080"/>
            </a:xfrm>
            <a:custGeom>
              <a:avLst/>
              <a:gdLst/>
              <a:ahLst/>
              <a:rect l="l" t="t" r="r" b="b"/>
              <a:pathLst>
                <a:path w="912" h="287">
                  <a:moveTo>
                    <a:pt x="873" y="20"/>
                  </a:moveTo>
                  <a:lnTo>
                    <a:pt x="887" y="0"/>
                  </a:lnTo>
                  <a:lnTo>
                    <a:pt x="831" y="15"/>
                  </a:lnTo>
                  <a:lnTo>
                    <a:pt x="776" y="31"/>
                  </a:lnTo>
                  <a:lnTo>
                    <a:pt x="721" y="47"/>
                  </a:lnTo>
                  <a:lnTo>
                    <a:pt x="665" y="63"/>
                  </a:lnTo>
                  <a:lnTo>
                    <a:pt x="609" y="78"/>
                  </a:lnTo>
                  <a:lnTo>
                    <a:pt x="555" y="94"/>
                  </a:lnTo>
                  <a:lnTo>
                    <a:pt x="499" y="110"/>
                  </a:lnTo>
                  <a:lnTo>
                    <a:pt x="443" y="126"/>
                  </a:lnTo>
                  <a:lnTo>
                    <a:pt x="388" y="141"/>
                  </a:lnTo>
                  <a:lnTo>
                    <a:pt x="333" y="156"/>
                  </a:lnTo>
                  <a:lnTo>
                    <a:pt x="278" y="173"/>
                  </a:lnTo>
                  <a:lnTo>
                    <a:pt x="222" y="188"/>
                  </a:lnTo>
                  <a:lnTo>
                    <a:pt x="166" y="204"/>
                  </a:lnTo>
                  <a:lnTo>
                    <a:pt x="112" y="219"/>
                  </a:lnTo>
                  <a:lnTo>
                    <a:pt x="56" y="236"/>
                  </a:lnTo>
                  <a:lnTo>
                    <a:pt x="0" y="251"/>
                  </a:lnTo>
                  <a:lnTo>
                    <a:pt x="11" y="287"/>
                  </a:lnTo>
                  <a:lnTo>
                    <a:pt x="67" y="272"/>
                  </a:lnTo>
                  <a:lnTo>
                    <a:pt x="123" y="255"/>
                  </a:lnTo>
                  <a:lnTo>
                    <a:pt x="177" y="240"/>
                  </a:lnTo>
                  <a:lnTo>
                    <a:pt x="233" y="225"/>
                  </a:lnTo>
                  <a:lnTo>
                    <a:pt x="289" y="209"/>
                  </a:lnTo>
                  <a:lnTo>
                    <a:pt x="344" y="193"/>
                  </a:lnTo>
                  <a:lnTo>
                    <a:pt x="399" y="177"/>
                  </a:lnTo>
                  <a:lnTo>
                    <a:pt x="455" y="162"/>
                  </a:lnTo>
                  <a:lnTo>
                    <a:pt x="510" y="147"/>
                  </a:lnTo>
                  <a:lnTo>
                    <a:pt x="566" y="130"/>
                  </a:lnTo>
                  <a:lnTo>
                    <a:pt x="620" y="114"/>
                  </a:lnTo>
                  <a:lnTo>
                    <a:pt x="676" y="99"/>
                  </a:lnTo>
                  <a:lnTo>
                    <a:pt x="732" y="84"/>
                  </a:lnTo>
                  <a:lnTo>
                    <a:pt x="788" y="67"/>
                  </a:lnTo>
                  <a:lnTo>
                    <a:pt x="842" y="52"/>
                  </a:lnTo>
                  <a:lnTo>
                    <a:pt x="898" y="36"/>
                  </a:lnTo>
                  <a:lnTo>
                    <a:pt x="912" y="17"/>
                  </a:lnTo>
                  <a:lnTo>
                    <a:pt x="87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6602040" y="3132000"/>
              <a:ext cx="382680" cy="247680"/>
            </a:xfrm>
            <a:custGeom>
              <a:avLst/>
              <a:gdLst/>
              <a:ahLst/>
              <a:rect l="l" t="t" r="r" b="b"/>
              <a:pathLst>
                <a:path w="986" h="562">
                  <a:moveTo>
                    <a:pt x="986" y="311"/>
                  </a:moveTo>
                  <a:lnTo>
                    <a:pt x="979" y="233"/>
                  </a:lnTo>
                  <a:lnTo>
                    <a:pt x="972" y="156"/>
                  </a:lnTo>
                  <a:lnTo>
                    <a:pt x="965" y="78"/>
                  </a:lnTo>
                  <a:lnTo>
                    <a:pt x="960" y="2"/>
                  </a:lnTo>
                  <a:lnTo>
                    <a:pt x="933" y="0"/>
                  </a:lnTo>
                  <a:lnTo>
                    <a:pt x="907" y="0"/>
                  </a:lnTo>
                  <a:lnTo>
                    <a:pt x="879" y="0"/>
                  </a:lnTo>
                  <a:lnTo>
                    <a:pt x="850" y="2"/>
                  </a:lnTo>
                  <a:lnTo>
                    <a:pt x="819" y="3"/>
                  </a:lnTo>
                  <a:lnTo>
                    <a:pt x="788" y="4"/>
                  </a:lnTo>
                  <a:lnTo>
                    <a:pt x="758" y="7"/>
                  </a:lnTo>
                  <a:lnTo>
                    <a:pt x="726" y="11"/>
                  </a:lnTo>
                  <a:lnTo>
                    <a:pt x="692" y="16"/>
                  </a:lnTo>
                  <a:lnTo>
                    <a:pt x="659" y="20"/>
                  </a:lnTo>
                  <a:lnTo>
                    <a:pt x="625" y="25"/>
                  </a:lnTo>
                  <a:lnTo>
                    <a:pt x="592" y="32"/>
                  </a:lnTo>
                  <a:lnTo>
                    <a:pt x="558" y="38"/>
                  </a:lnTo>
                  <a:lnTo>
                    <a:pt x="523" y="46"/>
                  </a:lnTo>
                  <a:lnTo>
                    <a:pt x="490" y="53"/>
                  </a:lnTo>
                  <a:lnTo>
                    <a:pt x="455" y="62"/>
                  </a:lnTo>
                  <a:lnTo>
                    <a:pt x="422" y="71"/>
                  </a:lnTo>
                  <a:lnTo>
                    <a:pt x="388" y="81"/>
                  </a:lnTo>
                  <a:lnTo>
                    <a:pt x="355" y="91"/>
                  </a:lnTo>
                  <a:lnTo>
                    <a:pt x="323" y="101"/>
                  </a:lnTo>
                  <a:lnTo>
                    <a:pt x="291" y="112"/>
                  </a:lnTo>
                  <a:lnTo>
                    <a:pt x="259" y="124"/>
                  </a:lnTo>
                  <a:lnTo>
                    <a:pt x="228" y="136"/>
                  </a:lnTo>
                  <a:lnTo>
                    <a:pt x="199" y="148"/>
                  </a:lnTo>
                  <a:lnTo>
                    <a:pt x="170" y="162"/>
                  </a:lnTo>
                  <a:lnTo>
                    <a:pt x="142" y="176"/>
                  </a:lnTo>
                  <a:lnTo>
                    <a:pt x="114" y="190"/>
                  </a:lnTo>
                  <a:lnTo>
                    <a:pt x="89" y="204"/>
                  </a:lnTo>
                  <a:lnTo>
                    <a:pt x="64" y="219"/>
                  </a:lnTo>
                  <a:lnTo>
                    <a:pt x="41" y="235"/>
                  </a:lnTo>
                  <a:lnTo>
                    <a:pt x="19" y="250"/>
                  </a:lnTo>
                  <a:lnTo>
                    <a:pt x="0" y="267"/>
                  </a:lnTo>
                  <a:lnTo>
                    <a:pt x="13" y="303"/>
                  </a:lnTo>
                  <a:lnTo>
                    <a:pt x="27" y="339"/>
                  </a:lnTo>
                  <a:lnTo>
                    <a:pt x="40" y="377"/>
                  </a:lnTo>
                  <a:lnTo>
                    <a:pt x="52" y="414"/>
                  </a:lnTo>
                  <a:lnTo>
                    <a:pt x="64" y="452"/>
                  </a:lnTo>
                  <a:lnTo>
                    <a:pt x="76" y="488"/>
                  </a:lnTo>
                  <a:lnTo>
                    <a:pt x="87" y="526"/>
                  </a:lnTo>
                  <a:lnTo>
                    <a:pt x="100" y="562"/>
                  </a:lnTo>
                  <a:lnTo>
                    <a:pt x="156" y="547"/>
                  </a:lnTo>
                  <a:lnTo>
                    <a:pt x="211" y="530"/>
                  </a:lnTo>
                  <a:lnTo>
                    <a:pt x="266" y="515"/>
                  </a:lnTo>
                  <a:lnTo>
                    <a:pt x="321" y="499"/>
                  </a:lnTo>
                  <a:lnTo>
                    <a:pt x="377" y="484"/>
                  </a:lnTo>
                  <a:lnTo>
                    <a:pt x="433" y="467"/>
                  </a:lnTo>
                  <a:lnTo>
                    <a:pt x="487" y="452"/>
                  </a:lnTo>
                  <a:lnTo>
                    <a:pt x="543" y="437"/>
                  </a:lnTo>
                  <a:lnTo>
                    <a:pt x="599" y="421"/>
                  </a:lnTo>
                  <a:lnTo>
                    <a:pt x="654" y="405"/>
                  </a:lnTo>
                  <a:lnTo>
                    <a:pt x="709" y="389"/>
                  </a:lnTo>
                  <a:lnTo>
                    <a:pt x="765" y="374"/>
                  </a:lnTo>
                  <a:lnTo>
                    <a:pt x="820" y="359"/>
                  </a:lnTo>
                  <a:lnTo>
                    <a:pt x="876" y="342"/>
                  </a:lnTo>
                  <a:lnTo>
                    <a:pt x="930" y="327"/>
                  </a:lnTo>
                  <a:lnTo>
                    <a:pt x="986" y="3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6967440" y="3124080"/>
              <a:ext cx="25200" cy="146160"/>
            </a:xfrm>
            <a:custGeom>
              <a:avLst/>
              <a:gdLst/>
              <a:ahLst/>
              <a:rect l="l" t="t" r="r" b="b"/>
              <a:pathLst>
                <a:path w="66" h="331">
                  <a:moveTo>
                    <a:pt x="18" y="39"/>
                  </a:moveTo>
                  <a:lnTo>
                    <a:pt x="0" y="21"/>
                  </a:lnTo>
                  <a:lnTo>
                    <a:pt x="2" y="41"/>
                  </a:lnTo>
                  <a:lnTo>
                    <a:pt x="3" y="59"/>
                  </a:lnTo>
                  <a:lnTo>
                    <a:pt x="4" y="78"/>
                  </a:lnTo>
                  <a:lnTo>
                    <a:pt x="6" y="98"/>
                  </a:lnTo>
                  <a:lnTo>
                    <a:pt x="7" y="117"/>
                  </a:lnTo>
                  <a:lnTo>
                    <a:pt x="9" y="137"/>
                  </a:lnTo>
                  <a:lnTo>
                    <a:pt x="11" y="156"/>
                  </a:lnTo>
                  <a:lnTo>
                    <a:pt x="13" y="176"/>
                  </a:lnTo>
                  <a:lnTo>
                    <a:pt x="14" y="197"/>
                  </a:lnTo>
                  <a:lnTo>
                    <a:pt x="17" y="215"/>
                  </a:lnTo>
                  <a:lnTo>
                    <a:pt x="18" y="233"/>
                  </a:lnTo>
                  <a:lnTo>
                    <a:pt x="20" y="253"/>
                  </a:lnTo>
                  <a:lnTo>
                    <a:pt x="22" y="272"/>
                  </a:lnTo>
                  <a:lnTo>
                    <a:pt x="24" y="292"/>
                  </a:lnTo>
                  <a:lnTo>
                    <a:pt x="25" y="311"/>
                  </a:lnTo>
                  <a:lnTo>
                    <a:pt x="27" y="331"/>
                  </a:lnTo>
                  <a:lnTo>
                    <a:pt x="66" y="328"/>
                  </a:lnTo>
                  <a:lnTo>
                    <a:pt x="64" y="308"/>
                  </a:lnTo>
                  <a:lnTo>
                    <a:pt x="63" y="289"/>
                  </a:lnTo>
                  <a:lnTo>
                    <a:pt x="61" y="269"/>
                  </a:lnTo>
                  <a:lnTo>
                    <a:pt x="59" y="250"/>
                  </a:lnTo>
                  <a:lnTo>
                    <a:pt x="57" y="230"/>
                  </a:lnTo>
                  <a:lnTo>
                    <a:pt x="56" y="209"/>
                  </a:lnTo>
                  <a:lnTo>
                    <a:pt x="53" y="191"/>
                  </a:lnTo>
                  <a:lnTo>
                    <a:pt x="52" y="173"/>
                  </a:lnTo>
                  <a:lnTo>
                    <a:pt x="50" y="154"/>
                  </a:lnTo>
                  <a:lnTo>
                    <a:pt x="48" y="134"/>
                  </a:lnTo>
                  <a:lnTo>
                    <a:pt x="46" y="114"/>
                  </a:lnTo>
                  <a:lnTo>
                    <a:pt x="45" y="95"/>
                  </a:lnTo>
                  <a:lnTo>
                    <a:pt x="43" y="75"/>
                  </a:lnTo>
                  <a:lnTo>
                    <a:pt x="42" y="56"/>
                  </a:lnTo>
                  <a:lnTo>
                    <a:pt x="41" y="38"/>
                  </a:lnTo>
                  <a:lnTo>
                    <a:pt x="39" y="18"/>
                  </a:lnTo>
                  <a:lnTo>
                    <a:pt x="21" y="0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6592680" y="3122280"/>
              <a:ext cx="382680" cy="133560"/>
            </a:xfrm>
            <a:custGeom>
              <a:avLst/>
              <a:gdLst/>
              <a:ahLst/>
              <a:rect l="l" t="t" r="r" b="b"/>
              <a:pathLst>
                <a:path w="980" h="301">
                  <a:moveTo>
                    <a:pt x="37" y="279"/>
                  </a:moveTo>
                  <a:lnTo>
                    <a:pt x="31" y="301"/>
                  </a:lnTo>
                  <a:lnTo>
                    <a:pt x="49" y="284"/>
                  </a:lnTo>
                  <a:lnTo>
                    <a:pt x="71" y="270"/>
                  </a:lnTo>
                  <a:lnTo>
                    <a:pt x="94" y="255"/>
                  </a:lnTo>
                  <a:lnTo>
                    <a:pt x="117" y="240"/>
                  </a:lnTo>
                  <a:lnTo>
                    <a:pt x="143" y="226"/>
                  </a:lnTo>
                  <a:lnTo>
                    <a:pt x="169" y="212"/>
                  </a:lnTo>
                  <a:lnTo>
                    <a:pt x="197" y="199"/>
                  </a:lnTo>
                  <a:lnTo>
                    <a:pt x="226" y="185"/>
                  </a:lnTo>
                  <a:lnTo>
                    <a:pt x="254" y="173"/>
                  </a:lnTo>
                  <a:lnTo>
                    <a:pt x="285" y="161"/>
                  </a:lnTo>
                  <a:lnTo>
                    <a:pt x="317" y="149"/>
                  </a:lnTo>
                  <a:lnTo>
                    <a:pt x="347" y="138"/>
                  </a:lnTo>
                  <a:lnTo>
                    <a:pt x="379" y="128"/>
                  </a:lnTo>
                  <a:lnTo>
                    <a:pt x="413" y="118"/>
                  </a:lnTo>
                  <a:lnTo>
                    <a:pt x="446" y="109"/>
                  </a:lnTo>
                  <a:lnTo>
                    <a:pt x="480" y="100"/>
                  </a:lnTo>
                  <a:lnTo>
                    <a:pt x="513" y="92"/>
                  </a:lnTo>
                  <a:lnTo>
                    <a:pt x="547" y="85"/>
                  </a:lnTo>
                  <a:lnTo>
                    <a:pt x="582" y="76"/>
                  </a:lnTo>
                  <a:lnTo>
                    <a:pt x="615" y="71"/>
                  </a:lnTo>
                  <a:lnTo>
                    <a:pt x="648" y="64"/>
                  </a:lnTo>
                  <a:lnTo>
                    <a:pt x="680" y="58"/>
                  </a:lnTo>
                  <a:lnTo>
                    <a:pt x="714" y="54"/>
                  </a:lnTo>
                  <a:lnTo>
                    <a:pt x="747" y="50"/>
                  </a:lnTo>
                  <a:lnTo>
                    <a:pt x="779" y="46"/>
                  </a:lnTo>
                  <a:lnTo>
                    <a:pt x="809" y="43"/>
                  </a:lnTo>
                  <a:lnTo>
                    <a:pt x="839" y="42"/>
                  </a:lnTo>
                  <a:lnTo>
                    <a:pt x="870" y="40"/>
                  </a:lnTo>
                  <a:lnTo>
                    <a:pt x="898" y="39"/>
                  </a:lnTo>
                  <a:lnTo>
                    <a:pt x="926" y="39"/>
                  </a:lnTo>
                  <a:lnTo>
                    <a:pt x="952" y="39"/>
                  </a:lnTo>
                  <a:lnTo>
                    <a:pt x="977" y="40"/>
                  </a:lnTo>
                  <a:lnTo>
                    <a:pt x="980" y="1"/>
                  </a:lnTo>
                  <a:lnTo>
                    <a:pt x="952" y="0"/>
                  </a:lnTo>
                  <a:lnTo>
                    <a:pt x="926" y="0"/>
                  </a:lnTo>
                  <a:lnTo>
                    <a:pt x="898" y="0"/>
                  </a:lnTo>
                  <a:lnTo>
                    <a:pt x="867" y="1"/>
                  </a:lnTo>
                  <a:lnTo>
                    <a:pt x="837" y="3"/>
                  </a:lnTo>
                  <a:lnTo>
                    <a:pt x="806" y="4"/>
                  </a:lnTo>
                  <a:lnTo>
                    <a:pt x="774" y="7"/>
                  </a:lnTo>
                  <a:lnTo>
                    <a:pt x="742" y="11"/>
                  </a:lnTo>
                  <a:lnTo>
                    <a:pt x="708" y="15"/>
                  </a:lnTo>
                  <a:lnTo>
                    <a:pt x="675" y="19"/>
                  </a:lnTo>
                  <a:lnTo>
                    <a:pt x="640" y="25"/>
                  </a:lnTo>
                  <a:lnTo>
                    <a:pt x="607" y="32"/>
                  </a:lnTo>
                  <a:lnTo>
                    <a:pt x="573" y="37"/>
                  </a:lnTo>
                  <a:lnTo>
                    <a:pt x="538" y="46"/>
                  </a:lnTo>
                  <a:lnTo>
                    <a:pt x="505" y="53"/>
                  </a:lnTo>
                  <a:lnTo>
                    <a:pt x="469" y="61"/>
                  </a:lnTo>
                  <a:lnTo>
                    <a:pt x="435" y="72"/>
                  </a:lnTo>
                  <a:lnTo>
                    <a:pt x="402" y="82"/>
                  </a:lnTo>
                  <a:lnTo>
                    <a:pt x="368" y="92"/>
                  </a:lnTo>
                  <a:lnTo>
                    <a:pt x="336" y="102"/>
                  </a:lnTo>
                  <a:lnTo>
                    <a:pt x="303" y="113"/>
                  </a:lnTo>
                  <a:lnTo>
                    <a:pt x="271" y="125"/>
                  </a:lnTo>
                  <a:lnTo>
                    <a:pt x="240" y="136"/>
                  </a:lnTo>
                  <a:lnTo>
                    <a:pt x="209" y="149"/>
                  </a:lnTo>
                  <a:lnTo>
                    <a:pt x="180" y="163"/>
                  </a:lnTo>
                  <a:lnTo>
                    <a:pt x="152" y="178"/>
                  </a:lnTo>
                  <a:lnTo>
                    <a:pt x="123" y="192"/>
                  </a:lnTo>
                  <a:lnTo>
                    <a:pt x="98" y="206"/>
                  </a:lnTo>
                  <a:lnTo>
                    <a:pt x="71" y="221"/>
                  </a:lnTo>
                  <a:lnTo>
                    <a:pt x="49" y="237"/>
                  </a:lnTo>
                  <a:lnTo>
                    <a:pt x="27" y="254"/>
                  </a:lnTo>
                  <a:lnTo>
                    <a:pt x="6" y="270"/>
                  </a:lnTo>
                  <a:lnTo>
                    <a:pt x="0" y="293"/>
                  </a:lnTo>
                  <a:lnTo>
                    <a:pt x="37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6592680" y="3246120"/>
              <a:ext cx="54000" cy="141480"/>
            </a:xfrm>
            <a:custGeom>
              <a:avLst/>
              <a:gdLst/>
              <a:ahLst/>
              <a:rect l="l" t="t" r="r" b="b"/>
              <a:pathLst>
                <a:path w="137" h="320">
                  <a:moveTo>
                    <a:pt x="113" y="284"/>
                  </a:moveTo>
                  <a:lnTo>
                    <a:pt x="137" y="295"/>
                  </a:lnTo>
                  <a:lnTo>
                    <a:pt x="131" y="277"/>
                  </a:lnTo>
                  <a:lnTo>
                    <a:pt x="124" y="259"/>
                  </a:lnTo>
                  <a:lnTo>
                    <a:pt x="119" y="242"/>
                  </a:lnTo>
                  <a:lnTo>
                    <a:pt x="113" y="223"/>
                  </a:lnTo>
                  <a:lnTo>
                    <a:pt x="106" y="203"/>
                  </a:lnTo>
                  <a:lnTo>
                    <a:pt x="101" y="186"/>
                  </a:lnTo>
                  <a:lnTo>
                    <a:pt x="95" y="167"/>
                  </a:lnTo>
                  <a:lnTo>
                    <a:pt x="90" y="149"/>
                  </a:lnTo>
                  <a:lnTo>
                    <a:pt x="83" y="129"/>
                  </a:lnTo>
                  <a:lnTo>
                    <a:pt x="77" y="111"/>
                  </a:lnTo>
                  <a:lnTo>
                    <a:pt x="70" y="92"/>
                  </a:lnTo>
                  <a:lnTo>
                    <a:pt x="65" y="72"/>
                  </a:lnTo>
                  <a:lnTo>
                    <a:pt x="58" y="54"/>
                  </a:lnTo>
                  <a:lnTo>
                    <a:pt x="51" y="36"/>
                  </a:lnTo>
                  <a:lnTo>
                    <a:pt x="44" y="18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7" y="32"/>
                  </a:lnTo>
                  <a:lnTo>
                    <a:pt x="14" y="50"/>
                  </a:lnTo>
                  <a:lnTo>
                    <a:pt x="21" y="68"/>
                  </a:lnTo>
                  <a:lnTo>
                    <a:pt x="28" y="86"/>
                  </a:lnTo>
                  <a:lnTo>
                    <a:pt x="34" y="103"/>
                  </a:lnTo>
                  <a:lnTo>
                    <a:pt x="41" y="122"/>
                  </a:lnTo>
                  <a:lnTo>
                    <a:pt x="46" y="140"/>
                  </a:lnTo>
                  <a:lnTo>
                    <a:pt x="53" y="160"/>
                  </a:lnTo>
                  <a:lnTo>
                    <a:pt x="59" y="178"/>
                  </a:lnTo>
                  <a:lnTo>
                    <a:pt x="65" y="198"/>
                  </a:lnTo>
                  <a:lnTo>
                    <a:pt x="70" y="217"/>
                  </a:lnTo>
                  <a:lnTo>
                    <a:pt x="77" y="234"/>
                  </a:lnTo>
                  <a:lnTo>
                    <a:pt x="83" y="253"/>
                  </a:lnTo>
                  <a:lnTo>
                    <a:pt x="88" y="273"/>
                  </a:lnTo>
                  <a:lnTo>
                    <a:pt x="95" y="291"/>
                  </a:lnTo>
                  <a:lnTo>
                    <a:pt x="101" y="309"/>
                  </a:lnTo>
                  <a:lnTo>
                    <a:pt x="124" y="320"/>
                  </a:lnTo>
                  <a:lnTo>
                    <a:pt x="113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6636960" y="3260520"/>
              <a:ext cx="355680" cy="127080"/>
            </a:xfrm>
            <a:custGeom>
              <a:avLst/>
              <a:gdLst/>
              <a:ahLst/>
              <a:rect l="l" t="t" r="r" b="b"/>
              <a:pathLst>
                <a:path w="912" h="287">
                  <a:moveTo>
                    <a:pt x="873" y="20"/>
                  </a:moveTo>
                  <a:lnTo>
                    <a:pt x="887" y="0"/>
                  </a:lnTo>
                  <a:lnTo>
                    <a:pt x="831" y="15"/>
                  </a:lnTo>
                  <a:lnTo>
                    <a:pt x="776" y="31"/>
                  </a:lnTo>
                  <a:lnTo>
                    <a:pt x="721" y="47"/>
                  </a:lnTo>
                  <a:lnTo>
                    <a:pt x="665" y="63"/>
                  </a:lnTo>
                  <a:lnTo>
                    <a:pt x="609" y="78"/>
                  </a:lnTo>
                  <a:lnTo>
                    <a:pt x="555" y="94"/>
                  </a:lnTo>
                  <a:lnTo>
                    <a:pt x="499" y="110"/>
                  </a:lnTo>
                  <a:lnTo>
                    <a:pt x="443" y="126"/>
                  </a:lnTo>
                  <a:lnTo>
                    <a:pt x="388" y="141"/>
                  </a:lnTo>
                  <a:lnTo>
                    <a:pt x="333" y="156"/>
                  </a:lnTo>
                  <a:lnTo>
                    <a:pt x="278" y="173"/>
                  </a:lnTo>
                  <a:lnTo>
                    <a:pt x="222" y="188"/>
                  </a:lnTo>
                  <a:lnTo>
                    <a:pt x="166" y="204"/>
                  </a:lnTo>
                  <a:lnTo>
                    <a:pt x="112" y="219"/>
                  </a:lnTo>
                  <a:lnTo>
                    <a:pt x="56" y="236"/>
                  </a:lnTo>
                  <a:lnTo>
                    <a:pt x="0" y="251"/>
                  </a:lnTo>
                  <a:lnTo>
                    <a:pt x="11" y="287"/>
                  </a:lnTo>
                  <a:lnTo>
                    <a:pt x="67" y="272"/>
                  </a:lnTo>
                  <a:lnTo>
                    <a:pt x="123" y="255"/>
                  </a:lnTo>
                  <a:lnTo>
                    <a:pt x="177" y="240"/>
                  </a:lnTo>
                  <a:lnTo>
                    <a:pt x="233" y="225"/>
                  </a:lnTo>
                  <a:lnTo>
                    <a:pt x="289" y="209"/>
                  </a:lnTo>
                  <a:lnTo>
                    <a:pt x="344" y="193"/>
                  </a:lnTo>
                  <a:lnTo>
                    <a:pt x="399" y="177"/>
                  </a:lnTo>
                  <a:lnTo>
                    <a:pt x="455" y="162"/>
                  </a:lnTo>
                  <a:lnTo>
                    <a:pt x="510" y="147"/>
                  </a:lnTo>
                  <a:lnTo>
                    <a:pt x="566" y="130"/>
                  </a:lnTo>
                  <a:lnTo>
                    <a:pt x="620" y="114"/>
                  </a:lnTo>
                  <a:lnTo>
                    <a:pt x="676" y="99"/>
                  </a:lnTo>
                  <a:lnTo>
                    <a:pt x="732" y="84"/>
                  </a:lnTo>
                  <a:lnTo>
                    <a:pt x="788" y="67"/>
                  </a:lnTo>
                  <a:lnTo>
                    <a:pt x="842" y="52"/>
                  </a:lnTo>
                  <a:lnTo>
                    <a:pt x="898" y="36"/>
                  </a:lnTo>
                  <a:lnTo>
                    <a:pt x="912" y="17"/>
                  </a:lnTo>
                  <a:lnTo>
                    <a:pt x="87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6370560" y="3213000"/>
              <a:ext cx="906480" cy="333360"/>
            </a:xfrm>
            <a:custGeom>
              <a:avLst/>
              <a:gdLst/>
              <a:ahLst/>
              <a:rect l="l" t="t" r="r" b="b"/>
              <a:pathLst>
                <a:path w="2327" h="757">
                  <a:moveTo>
                    <a:pt x="2327" y="0"/>
                  </a:moveTo>
                  <a:lnTo>
                    <a:pt x="2327" y="19"/>
                  </a:lnTo>
                  <a:lnTo>
                    <a:pt x="2327" y="38"/>
                  </a:lnTo>
                  <a:lnTo>
                    <a:pt x="2327" y="57"/>
                  </a:lnTo>
                  <a:lnTo>
                    <a:pt x="2327" y="77"/>
                  </a:lnTo>
                  <a:lnTo>
                    <a:pt x="2283" y="84"/>
                  </a:lnTo>
                  <a:lnTo>
                    <a:pt x="2238" y="89"/>
                  </a:lnTo>
                  <a:lnTo>
                    <a:pt x="2192" y="96"/>
                  </a:lnTo>
                  <a:lnTo>
                    <a:pt x="2147" y="102"/>
                  </a:lnTo>
                  <a:lnTo>
                    <a:pt x="2103" y="109"/>
                  </a:lnTo>
                  <a:lnTo>
                    <a:pt x="2057" y="114"/>
                  </a:lnTo>
                  <a:lnTo>
                    <a:pt x="2012" y="121"/>
                  </a:lnTo>
                  <a:lnTo>
                    <a:pt x="1968" y="128"/>
                  </a:lnTo>
                  <a:lnTo>
                    <a:pt x="1922" y="135"/>
                  </a:lnTo>
                  <a:lnTo>
                    <a:pt x="1877" y="142"/>
                  </a:lnTo>
                  <a:lnTo>
                    <a:pt x="1832" y="149"/>
                  </a:lnTo>
                  <a:lnTo>
                    <a:pt x="1788" y="157"/>
                  </a:lnTo>
                  <a:lnTo>
                    <a:pt x="1743" y="164"/>
                  </a:lnTo>
                  <a:lnTo>
                    <a:pt x="1699" y="174"/>
                  </a:lnTo>
                  <a:lnTo>
                    <a:pt x="1654" y="183"/>
                  </a:lnTo>
                  <a:lnTo>
                    <a:pt x="1609" y="192"/>
                  </a:lnTo>
                  <a:lnTo>
                    <a:pt x="1580" y="199"/>
                  </a:lnTo>
                  <a:lnTo>
                    <a:pt x="1551" y="206"/>
                  </a:lnTo>
                  <a:lnTo>
                    <a:pt x="1520" y="213"/>
                  </a:lnTo>
                  <a:lnTo>
                    <a:pt x="1491" y="219"/>
                  </a:lnTo>
                  <a:lnTo>
                    <a:pt x="1462" y="226"/>
                  </a:lnTo>
                  <a:lnTo>
                    <a:pt x="1432" y="233"/>
                  </a:lnTo>
                  <a:lnTo>
                    <a:pt x="1403" y="241"/>
                  </a:lnTo>
                  <a:lnTo>
                    <a:pt x="1373" y="248"/>
                  </a:lnTo>
                  <a:lnTo>
                    <a:pt x="1343" y="255"/>
                  </a:lnTo>
                  <a:lnTo>
                    <a:pt x="1314" y="262"/>
                  </a:lnTo>
                  <a:lnTo>
                    <a:pt x="1285" y="269"/>
                  </a:lnTo>
                  <a:lnTo>
                    <a:pt x="1254" y="277"/>
                  </a:lnTo>
                  <a:lnTo>
                    <a:pt x="1225" y="284"/>
                  </a:lnTo>
                  <a:lnTo>
                    <a:pt x="1196" y="293"/>
                  </a:lnTo>
                  <a:lnTo>
                    <a:pt x="1166" y="300"/>
                  </a:lnTo>
                  <a:lnTo>
                    <a:pt x="1137" y="308"/>
                  </a:lnTo>
                  <a:lnTo>
                    <a:pt x="1108" y="316"/>
                  </a:lnTo>
                  <a:lnTo>
                    <a:pt x="1078" y="325"/>
                  </a:lnTo>
                  <a:lnTo>
                    <a:pt x="1049" y="333"/>
                  </a:lnTo>
                  <a:lnTo>
                    <a:pt x="1020" y="342"/>
                  </a:lnTo>
                  <a:lnTo>
                    <a:pt x="991" y="350"/>
                  </a:lnTo>
                  <a:lnTo>
                    <a:pt x="961" y="358"/>
                  </a:lnTo>
                  <a:lnTo>
                    <a:pt x="932" y="368"/>
                  </a:lnTo>
                  <a:lnTo>
                    <a:pt x="903" y="376"/>
                  </a:lnTo>
                  <a:lnTo>
                    <a:pt x="874" y="386"/>
                  </a:lnTo>
                  <a:lnTo>
                    <a:pt x="844" y="395"/>
                  </a:lnTo>
                  <a:lnTo>
                    <a:pt x="815" y="404"/>
                  </a:lnTo>
                  <a:lnTo>
                    <a:pt x="787" y="414"/>
                  </a:lnTo>
                  <a:lnTo>
                    <a:pt x="758" y="424"/>
                  </a:lnTo>
                  <a:lnTo>
                    <a:pt x="729" y="434"/>
                  </a:lnTo>
                  <a:lnTo>
                    <a:pt x="701" y="445"/>
                  </a:lnTo>
                  <a:lnTo>
                    <a:pt x="672" y="455"/>
                  </a:lnTo>
                  <a:lnTo>
                    <a:pt x="633" y="468"/>
                  </a:lnTo>
                  <a:lnTo>
                    <a:pt x="594" y="484"/>
                  </a:lnTo>
                  <a:lnTo>
                    <a:pt x="556" y="501"/>
                  </a:lnTo>
                  <a:lnTo>
                    <a:pt x="518" y="516"/>
                  </a:lnTo>
                  <a:lnTo>
                    <a:pt x="479" y="534"/>
                  </a:lnTo>
                  <a:lnTo>
                    <a:pt x="442" y="551"/>
                  </a:lnTo>
                  <a:lnTo>
                    <a:pt x="404" y="569"/>
                  </a:lnTo>
                  <a:lnTo>
                    <a:pt x="368" y="588"/>
                  </a:lnTo>
                  <a:lnTo>
                    <a:pt x="330" y="608"/>
                  </a:lnTo>
                  <a:lnTo>
                    <a:pt x="293" y="627"/>
                  </a:lnTo>
                  <a:lnTo>
                    <a:pt x="256" y="648"/>
                  </a:lnTo>
                  <a:lnTo>
                    <a:pt x="220" y="669"/>
                  </a:lnTo>
                  <a:lnTo>
                    <a:pt x="184" y="690"/>
                  </a:lnTo>
                  <a:lnTo>
                    <a:pt x="148" y="712"/>
                  </a:lnTo>
                  <a:lnTo>
                    <a:pt x="111" y="735"/>
                  </a:lnTo>
                  <a:lnTo>
                    <a:pt x="75" y="757"/>
                  </a:lnTo>
                  <a:lnTo>
                    <a:pt x="65" y="747"/>
                  </a:lnTo>
                  <a:lnTo>
                    <a:pt x="57" y="738"/>
                  </a:lnTo>
                  <a:lnTo>
                    <a:pt x="47" y="729"/>
                  </a:lnTo>
                  <a:lnTo>
                    <a:pt x="37" y="719"/>
                  </a:lnTo>
                  <a:lnTo>
                    <a:pt x="28" y="710"/>
                  </a:lnTo>
                  <a:lnTo>
                    <a:pt x="19" y="700"/>
                  </a:lnTo>
                  <a:lnTo>
                    <a:pt x="10" y="692"/>
                  </a:lnTo>
                  <a:lnTo>
                    <a:pt x="0" y="682"/>
                  </a:lnTo>
                  <a:lnTo>
                    <a:pt x="26" y="664"/>
                  </a:lnTo>
                  <a:lnTo>
                    <a:pt x="53" y="647"/>
                  </a:lnTo>
                  <a:lnTo>
                    <a:pt x="81" y="629"/>
                  </a:lnTo>
                  <a:lnTo>
                    <a:pt x="110" y="612"/>
                  </a:lnTo>
                  <a:lnTo>
                    <a:pt x="139" y="594"/>
                  </a:lnTo>
                  <a:lnTo>
                    <a:pt x="168" y="577"/>
                  </a:lnTo>
                  <a:lnTo>
                    <a:pt x="199" y="560"/>
                  </a:lnTo>
                  <a:lnTo>
                    <a:pt x="230" y="544"/>
                  </a:lnTo>
                  <a:lnTo>
                    <a:pt x="260" y="527"/>
                  </a:lnTo>
                  <a:lnTo>
                    <a:pt x="291" y="512"/>
                  </a:lnTo>
                  <a:lnTo>
                    <a:pt x="322" y="495"/>
                  </a:lnTo>
                  <a:lnTo>
                    <a:pt x="354" y="481"/>
                  </a:lnTo>
                  <a:lnTo>
                    <a:pt x="386" y="466"/>
                  </a:lnTo>
                  <a:lnTo>
                    <a:pt x="417" y="452"/>
                  </a:lnTo>
                  <a:lnTo>
                    <a:pt x="449" y="438"/>
                  </a:lnTo>
                  <a:lnTo>
                    <a:pt x="479" y="425"/>
                  </a:lnTo>
                  <a:lnTo>
                    <a:pt x="528" y="406"/>
                  </a:lnTo>
                  <a:lnTo>
                    <a:pt x="578" y="386"/>
                  </a:lnTo>
                  <a:lnTo>
                    <a:pt x="627" y="368"/>
                  </a:lnTo>
                  <a:lnTo>
                    <a:pt x="677" y="349"/>
                  </a:lnTo>
                  <a:lnTo>
                    <a:pt x="727" y="330"/>
                  </a:lnTo>
                  <a:lnTo>
                    <a:pt x="777" y="314"/>
                  </a:lnTo>
                  <a:lnTo>
                    <a:pt x="828" y="296"/>
                  </a:lnTo>
                  <a:lnTo>
                    <a:pt x="878" y="279"/>
                  </a:lnTo>
                  <a:lnTo>
                    <a:pt x="929" y="263"/>
                  </a:lnTo>
                  <a:lnTo>
                    <a:pt x="980" y="247"/>
                  </a:lnTo>
                  <a:lnTo>
                    <a:pt x="1030" y="231"/>
                  </a:lnTo>
                  <a:lnTo>
                    <a:pt x="1081" y="216"/>
                  </a:lnTo>
                  <a:lnTo>
                    <a:pt x="1131" y="201"/>
                  </a:lnTo>
                  <a:lnTo>
                    <a:pt x="1183" y="185"/>
                  </a:lnTo>
                  <a:lnTo>
                    <a:pt x="1233" y="171"/>
                  </a:lnTo>
                  <a:lnTo>
                    <a:pt x="1285" y="157"/>
                  </a:lnTo>
                  <a:lnTo>
                    <a:pt x="1324" y="148"/>
                  </a:lnTo>
                  <a:lnTo>
                    <a:pt x="1363" y="138"/>
                  </a:lnTo>
                  <a:lnTo>
                    <a:pt x="1402" y="128"/>
                  </a:lnTo>
                  <a:lnTo>
                    <a:pt x="1441" y="120"/>
                  </a:lnTo>
                  <a:lnTo>
                    <a:pt x="1480" y="110"/>
                  </a:lnTo>
                  <a:lnTo>
                    <a:pt x="1519" y="103"/>
                  </a:lnTo>
                  <a:lnTo>
                    <a:pt x="1559" y="95"/>
                  </a:lnTo>
                  <a:lnTo>
                    <a:pt x="1598" y="88"/>
                  </a:lnTo>
                  <a:lnTo>
                    <a:pt x="1637" y="79"/>
                  </a:lnTo>
                  <a:lnTo>
                    <a:pt x="1678" y="72"/>
                  </a:lnTo>
                  <a:lnTo>
                    <a:pt x="1717" y="67"/>
                  </a:lnTo>
                  <a:lnTo>
                    <a:pt x="1757" y="60"/>
                  </a:lnTo>
                  <a:lnTo>
                    <a:pt x="1796" y="53"/>
                  </a:lnTo>
                  <a:lnTo>
                    <a:pt x="1837" y="47"/>
                  </a:lnTo>
                  <a:lnTo>
                    <a:pt x="1876" y="40"/>
                  </a:lnTo>
                  <a:lnTo>
                    <a:pt x="1916" y="35"/>
                  </a:lnTo>
                  <a:lnTo>
                    <a:pt x="1941" y="31"/>
                  </a:lnTo>
                  <a:lnTo>
                    <a:pt x="1968" y="28"/>
                  </a:lnTo>
                  <a:lnTo>
                    <a:pt x="1993" y="24"/>
                  </a:lnTo>
                  <a:lnTo>
                    <a:pt x="2018" y="21"/>
                  </a:lnTo>
                  <a:lnTo>
                    <a:pt x="2044" y="18"/>
                  </a:lnTo>
                  <a:lnTo>
                    <a:pt x="2069" y="15"/>
                  </a:lnTo>
                  <a:lnTo>
                    <a:pt x="2094" y="12"/>
                  </a:lnTo>
                  <a:lnTo>
                    <a:pt x="2121" y="10"/>
                  </a:lnTo>
                  <a:lnTo>
                    <a:pt x="2146" y="8"/>
                  </a:lnTo>
                  <a:lnTo>
                    <a:pt x="2172" y="6"/>
                  </a:lnTo>
                  <a:lnTo>
                    <a:pt x="2198" y="4"/>
                  </a:lnTo>
                  <a:lnTo>
                    <a:pt x="2224" y="3"/>
                  </a:lnTo>
                  <a:lnTo>
                    <a:pt x="2249" y="1"/>
                  </a:lnTo>
                  <a:lnTo>
                    <a:pt x="2276" y="0"/>
                  </a:lnTo>
                  <a:lnTo>
                    <a:pt x="2301" y="0"/>
                  </a:lnTo>
                  <a:lnTo>
                    <a:pt x="2327" y="0"/>
                  </a:lnTo>
                  <a:close/>
                </a:path>
              </a:pathLst>
            </a:custGeom>
            <a:solidFill>
              <a:srgbClr val="00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7268760" y="3213000"/>
              <a:ext cx="16200" cy="4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22" y="96"/>
                  </a:moveTo>
                  <a:lnTo>
                    <a:pt x="39" y="77"/>
                  </a:lnTo>
                  <a:lnTo>
                    <a:pt x="39" y="67"/>
                  </a:lnTo>
                  <a:lnTo>
                    <a:pt x="39" y="57"/>
                  </a:lnTo>
                  <a:lnTo>
                    <a:pt x="39" y="47"/>
                  </a:lnTo>
                  <a:lnTo>
                    <a:pt x="39" y="38"/>
                  </a:lnTo>
                  <a:lnTo>
                    <a:pt x="39" y="28"/>
                  </a:lnTo>
                  <a:lnTo>
                    <a:pt x="39" y="19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16" y="57"/>
                  </a:lnTo>
                  <a:lnTo>
                    <a:pt x="22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6995880" y="3238200"/>
              <a:ext cx="281160" cy="66960"/>
            </a:xfrm>
            <a:custGeom>
              <a:avLst/>
              <a:gdLst/>
              <a:ahLst/>
              <a:rect l="l" t="t" r="r" b="b"/>
              <a:pathLst>
                <a:path w="725" h="155">
                  <a:moveTo>
                    <a:pt x="9" y="155"/>
                  </a:moveTo>
                  <a:lnTo>
                    <a:pt x="9" y="155"/>
                  </a:lnTo>
                  <a:lnTo>
                    <a:pt x="53" y="145"/>
                  </a:lnTo>
                  <a:lnTo>
                    <a:pt x="98" y="137"/>
                  </a:lnTo>
                  <a:lnTo>
                    <a:pt x="142" y="127"/>
                  </a:lnTo>
                  <a:lnTo>
                    <a:pt x="186" y="120"/>
                  </a:lnTo>
                  <a:lnTo>
                    <a:pt x="230" y="112"/>
                  </a:lnTo>
                  <a:lnTo>
                    <a:pt x="275" y="105"/>
                  </a:lnTo>
                  <a:lnTo>
                    <a:pt x="319" y="98"/>
                  </a:lnTo>
                  <a:lnTo>
                    <a:pt x="365" y="91"/>
                  </a:lnTo>
                  <a:lnTo>
                    <a:pt x="410" y="84"/>
                  </a:lnTo>
                  <a:lnTo>
                    <a:pt x="455" y="77"/>
                  </a:lnTo>
                  <a:lnTo>
                    <a:pt x="501" y="71"/>
                  </a:lnTo>
                  <a:lnTo>
                    <a:pt x="545" y="64"/>
                  </a:lnTo>
                  <a:lnTo>
                    <a:pt x="590" y="59"/>
                  </a:lnTo>
                  <a:lnTo>
                    <a:pt x="636" y="52"/>
                  </a:lnTo>
                  <a:lnTo>
                    <a:pt x="680" y="46"/>
                  </a:lnTo>
                  <a:lnTo>
                    <a:pt x="725" y="39"/>
                  </a:lnTo>
                  <a:lnTo>
                    <a:pt x="719" y="0"/>
                  </a:lnTo>
                  <a:lnTo>
                    <a:pt x="675" y="7"/>
                  </a:lnTo>
                  <a:lnTo>
                    <a:pt x="630" y="13"/>
                  </a:lnTo>
                  <a:lnTo>
                    <a:pt x="584" y="20"/>
                  </a:lnTo>
                  <a:lnTo>
                    <a:pt x="540" y="25"/>
                  </a:lnTo>
                  <a:lnTo>
                    <a:pt x="495" y="32"/>
                  </a:lnTo>
                  <a:lnTo>
                    <a:pt x="449" y="38"/>
                  </a:lnTo>
                  <a:lnTo>
                    <a:pt x="404" y="45"/>
                  </a:lnTo>
                  <a:lnTo>
                    <a:pt x="360" y="52"/>
                  </a:lnTo>
                  <a:lnTo>
                    <a:pt x="314" y="59"/>
                  </a:lnTo>
                  <a:lnTo>
                    <a:pt x="269" y="66"/>
                  </a:lnTo>
                  <a:lnTo>
                    <a:pt x="225" y="73"/>
                  </a:lnTo>
                  <a:lnTo>
                    <a:pt x="180" y="81"/>
                  </a:lnTo>
                  <a:lnTo>
                    <a:pt x="134" y="88"/>
                  </a:lnTo>
                  <a:lnTo>
                    <a:pt x="89" y="98"/>
                  </a:lnTo>
                  <a:lnTo>
                    <a:pt x="45" y="10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9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6629040" y="3287520"/>
              <a:ext cx="370080" cy="133560"/>
            </a:xfrm>
            <a:custGeom>
              <a:avLst/>
              <a:gdLst/>
              <a:ahLst/>
              <a:rect l="l" t="t" r="r" b="b"/>
              <a:pathLst>
                <a:path w="949" h="300">
                  <a:moveTo>
                    <a:pt x="14" y="300"/>
                  </a:moveTo>
                  <a:lnTo>
                    <a:pt x="14" y="300"/>
                  </a:lnTo>
                  <a:lnTo>
                    <a:pt x="43" y="290"/>
                  </a:lnTo>
                  <a:lnTo>
                    <a:pt x="71" y="279"/>
                  </a:lnTo>
                  <a:lnTo>
                    <a:pt x="99" y="269"/>
                  </a:lnTo>
                  <a:lnTo>
                    <a:pt x="128" y="259"/>
                  </a:lnTo>
                  <a:lnTo>
                    <a:pt x="156" y="249"/>
                  </a:lnTo>
                  <a:lnTo>
                    <a:pt x="185" y="240"/>
                  </a:lnTo>
                  <a:lnTo>
                    <a:pt x="214" y="231"/>
                  </a:lnTo>
                  <a:lnTo>
                    <a:pt x="243" y="222"/>
                  </a:lnTo>
                  <a:lnTo>
                    <a:pt x="273" y="213"/>
                  </a:lnTo>
                  <a:lnTo>
                    <a:pt x="302" y="203"/>
                  </a:lnTo>
                  <a:lnTo>
                    <a:pt x="331" y="195"/>
                  </a:lnTo>
                  <a:lnTo>
                    <a:pt x="361" y="187"/>
                  </a:lnTo>
                  <a:lnTo>
                    <a:pt x="390" y="178"/>
                  </a:lnTo>
                  <a:lnTo>
                    <a:pt x="419" y="170"/>
                  </a:lnTo>
                  <a:lnTo>
                    <a:pt x="448" y="162"/>
                  </a:lnTo>
                  <a:lnTo>
                    <a:pt x="478" y="153"/>
                  </a:lnTo>
                  <a:lnTo>
                    <a:pt x="505" y="146"/>
                  </a:lnTo>
                  <a:lnTo>
                    <a:pt x="535" y="139"/>
                  </a:lnTo>
                  <a:lnTo>
                    <a:pt x="564" y="131"/>
                  </a:lnTo>
                  <a:lnTo>
                    <a:pt x="593" y="124"/>
                  </a:lnTo>
                  <a:lnTo>
                    <a:pt x="624" y="116"/>
                  </a:lnTo>
                  <a:lnTo>
                    <a:pt x="653" y="109"/>
                  </a:lnTo>
                  <a:lnTo>
                    <a:pt x="682" y="102"/>
                  </a:lnTo>
                  <a:lnTo>
                    <a:pt x="712" y="95"/>
                  </a:lnTo>
                  <a:lnTo>
                    <a:pt x="742" y="88"/>
                  </a:lnTo>
                  <a:lnTo>
                    <a:pt x="772" y="79"/>
                  </a:lnTo>
                  <a:lnTo>
                    <a:pt x="801" y="72"/>
                  </a:lnTo>
                  <a:lnTo>
                    <a:pt x="830" y="65"/>
                  </a:lnTo>
                  <a:lnTo>
                    <a:pt x="859" y="60"/>
                  </a:lnTo>
                  <a:lnTo>
                    <a:pt x="890" y="53"/>
                  </a:lnTo>
                  <a:lnTo>
                    <a:pt x="919" y="46"/>
                  </a:lnTo>
                  <a:lnTo>
                    <a:pt x="949" y="39"/>
                  </a:lnTo>
                  <a:lnTo>
                    <a:pt x="940" y="0"/>
                  </a:lnTo>
                  <a:lnTo>
                    <a:pt x="911" y="7"/>
                  </a:lnTo>
                  <a:lnTo>
                    <a:pt x="882" y="14"/>
                  </a:lnTo>
                  <a:lnTo>
                    <a:pt x="851" y="21"/>
                  </a:lnTo>
                  <a:lnTo>
                    <a:pt x="822" y="26"/>
                  </a:lnTo>
                  <a:lnTo>
                    <a:pt x="793" y="33"/>
                  </a:lnTo>
                  <a:lnTo>
                    <a:pt x="763" y="40"/>
                  </a:lnTo>
                  <a:lnTo>
                    <a:pt x="734" y="49"/>
                  </a:lnTo>
                  <a:lnTo>
                    <a:pt x="703" y="56"/>
                  </a:lnTo>
                  <a:lnTo>
                    <a:pt x="674" y="63"/>
                  </a:lnTo>
                  <a:lnTo>
                    <a:pt x="645" y="70"/>
                  </a:lnTo>
                  <a:lnTo>
                    <a:pt x="616" y="77"/>
                  </a:lnTo>
                  <a:lnTo>
                    <a:pt x="585" y="85"/>
                  </a:lnTo>
                  <a:lnTo>
                    <a:pt x="556" y="92"/>
                  </a:lnTo>
                  <a:lnTo>
                    <a:pt x="526" y="100"/>
                  </a:lnTo>
                  <a:lnTo>
                    <a:pt x="497" y="107"/>
                  </a:lnTo>
                  <a:lnTo>
                    <a:pt x="466" y="117"/>
                  </a:lnTo>
                  <a:lnTo>
                    <a:pt x="437" y="125"/>
                  </a:lnTo>
                  <a:lnTo>
                    <a:pt x="408" y="134"/>
                  </a:lnTo>
                  <a:lnTo>
                    <a:pt x="379" y="142"/>
                  </a:lnTo>
                  <a:lnTo>
                    <a:pt x="349" y="150"/>
                  </a:lnTo>
                  <a:lnTo>
                    <a:pt x="320" y="159"/>
                  </a:lnTo>
                  <a:lnTo>
                    <a:pt x="291" y="167"/>
                  </a:lnTo>
                  <a:lnTo>
                    <a:pt x="262" y="177"/>
                  </a:lnTo>
                  <a:lnTo>
                    <a:pt x="232" y="185"/>
                  </a:lnTo>
                  <a:lnTo>
                    <a:pt x="203" y="195"/>
                  </a:lnTo>
                  <a:lnTo>
                    <a:pt x="174" y="203"/>
                  </a:lnTo>
                  <a:lnTo>
                    <a:pt x="145" y="213"/>
                  </a:lnTo>
                  <a:lnTo>
                    <a:pt x="117" y="223"/>
                  </a:lnTo>
                  <a:lnTo>
                    <a:pt x="87" y="233"/>
                  </a:lnTo>
                  <a:lnTo>
                    <a:pt x="57" y="242"/>
                  </a:lnTo>
                  <a:lnTo>
                    <a:pt x="29" y="254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14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6392520" y="3404880"/>
              <a:ext cx="241560" cy="149400"/>
            </a:xfrm>
            <a:custGeom>
              <a:avLst/>
              <a:gdLst/>
              <a:ahLst/>
              <a:rect l="l" t="t" r="r" b="b"/>
              <a:pathLst>
                <a:path w="618" h="338">
                  <a:moveTo>
                    <a:pt x="0" y="335"/>
                  </a:moveTo>
                  <a:lnTo>
                    <a:pt x="25" y="338"/>
                  </a:lnTo>
                  <a:lnTo>
                    <a:pt x="60" y="316"/>
                  </a:lnTo>
                  <a:lnTo>
                    <a:pt x="96" y="293"/>
                  </a:lnTo>
                  <a:lnTo>
                    <a:pt x="133" y="271"/>
                  </a:lnTo>
                  <a:lnTo>
                    <a:pt x="169" y="250"/>
                  </a:lnTo>
                  <a:lnTo>
                    <a:pt x="205" y="229"/>
                  </a:lnTo>
                  <a:lnTo>
                    <a:pt x="241" y="208"/>
                  </a:lnTo>
                  <a:lnTo>
                    <a:pt x="277" y="189"/>
                  </a:lnTo>
                  <a:lnTo>
                    <a:pt x="317" y="169"/>
                  </a:lnTo>
                  <a:lnTo>
                    <a:pt x="351" y="150"/>
                  </a:lnTo>
                  <a:lnTo>
                    <a:pt x="389" y="133"/>
                  </a:lnTo>
                  <a:lnTo>
                    <a:pt x="427" y="116"/>
                  </a:lnTo>
                  <a:lnTo>
                    <a:pt x="466" y="98"/>
                  </a:lnTo>
                  <a:lnTo>
                    <a:pt x="502" y="83"/>
                  </a:lnTo>
                  <a:lnTo>
                    <a:pt x="539" y="66"/>
                  </a:lnTo>
                  <a:lnTo>
                    <a:pt x="579" y="51"/>
                  </a:lnTo>
                  <a:lnTo>
                    <a:pt x="618" y="37"/>
                  </a:lnTo>
                  <a:lnTo>
                    <a:pt x="604" y="0"/>
                  </a:lnTo>
                  <a:lnTo>
                    <a:pt x="565" y="14"/>
                  </a:lnTo>
                  <a:lnTo>
                    <a:pt x="526" y="30"/>
                  </a:lnTo>
                  <a:lnTo>
                    <a:pt x="488" y="46"/>
                  </a:lnTo>
                  <a:lnTo>
                    <a:pt x="449" y="62"/>
                  </a:lnTo>
                  <a:lnTo>
                    <a:pt x="410" y="80"/>
                  </a:lnTo>
                  <a:lnTo>
                    <a:pt x="372" y="97"/>
                  </a:lnTo>
                  <a:lnTo>
                    <a:pt x="335" y="116"/>
                  </a:lnTo>
                  <a:lnTo>
                    <a:pt x="297" y="136"/>
                  </a:lnTo>
                  <a:lnTo>
                    <a:pt x="261" y="155"/>
                  </a:lnTo>
                  <a:lnTo>
                    <a:pt x="222" y="175"/>
                  </a:lnTo>
                  <a:lnTo>
                    <a:pt x="186" y="196"/>
                  </a:lnTo>
                  <a:lnTo>
                    <a:pt x="149" y="217"/>
                  </a:lnTo>
                  <a:lnTo>
                    <a:pt x="113" y="237"/>
                  </a:lnTo>
                  <a:lnTo>
                    <a:pt x="77" y="260"/>
                  </a:lnTo>
                  <a:lnTo>
                    <a:pt x="41" y="282"/>
                  </a:lnTo>
                  <a:lnTo>
                    <a:pt x="3" y="304"/>
                  </a:lnTo>
                  <a:lnTo>
                    <a:pt x="28" y="307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6364080" y="3504960"/>
              <a:ext cx="39600" cy="478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3" y="0"/>
                  </a:moveTo>
                  <a:lnTo>
                    <a:pt x="0" y="31"/>
                  </a:lnTo>
                  <a:lnTo>
                    <a:pt x="10" y="41"/>
                  </a:lnTo>
                  <a:lnTo>
                    <a:pt x="19" y="49"/>
                  </a:lnTo>
                  <a:lnTo>
                    <a:pt x="28" y="59"/>
                  </a:lnTo>
                  <a:lnTo>
                    <a:pt x="38" y="68"/>
                  </a:lnTo>
                  <a:lnTo>
                    <a:pt x="47" y="78"/>
                  </a:lnTo>
                  <a:lnTo>
                    <a:pt x="57" y="87"/>
                  </a:lnTo>
                  <a:lnTo>
                    <a:pt x="65" y="96"/>
                  </a:lnTo>
                  <a:lnTo>
                    <a:pt x="75" y="106"/>
                  </a:lnTo>
                  <a:lnTo>
                    <a:pt x="103" y="78"/>
                  </a:lnTo>
                  <a:lnTo>
                    <a:pt x="93" y="68"/>
                  </a:lnTo>
                  <a:lnTo>
                    <a:pt x="85" y="59"/>
                  </a:lnTo>
                  <a:lnTo>
                    <a:pt x="75" y="50"/>
                  </a:lnTo>
                  <a:lnTo>
                    <a:pt x="65" y="41"/>
                  </a:lnTo>
                  <a:lnTo>
                    <a:pt x="56" y="31"/>
                  </a:lnTo>
                  <a:lnTo>
                    <a:pt x="47" y="21"/>
                  </a:lnTo>
                  <a:lnTo>
                    <a:pt x="38" y="13"/>
                  </a:lnTo>
                  <a:lnTo>
                    <a:pt x="28" y="3"/>
                  </a:lnTo>
                  <a:lnTo>
                    <a:pt x="25" y="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6365520" y="3392280"/>
              <a:ext cx="193680" cy="128520"/>
            </a:xfrm>
            <a:custGeom>
              <a:avLst/>
              <a:gdLst/>
              <a:ahLst/>
              <a:rect l="l" t="t" r="r" b="b"/>
              <a:pathLst>
                <a:path w="497" h="292">
                  <a:moveTo>
                    <a:pt x="483" y="0"/>
                  </a:moveTo>
                  <a:lnTo>
                    <a:pt x="483" y="0"/>
                  </a:lnTo>
                  <a:lnTo>
                    <a:pt x="453" y="13"/>
                  </a:lnTo>
                  <a:lnTo>
                    <a:pt x="419" y="27"/>
                  </a:lnTo>
                  <a:lnTo>
                    <a:pt x="389" y="41"/>
                  </a:lnTo>
                  <a:lnTo>
                    <a:pt x="356" y="56"/>
                  </a:lnTo>
                  <a:lnTo>
                    <a:pt x="324" y="70"/>
                  </a:lnTo>
                  <a:lnTo>
                    <a:pt x="294" y="88"/>
                  </a:lnTo>
                  <a:lnTo>
                    <a:pt x="263" y="103"/>
                  </a:lnTo>
                  <a:lnTo>
                    <a:pt x="231" y="120"/>
                  </a:lnTo>
                  <a:lnTo>
                    <a:pt x="200" y="137"/>
                  </a:lnTo>
                  <a:lnTo>
                    <a:pt x="170" y="153"/>
                  </a:lnTo>
                  <a:lnTo>
                    <a:pt x="140" y="170"/>
                  </a:lnTo>
                  <a:lnTo>
                    <a:pt x="111" y="188"/>
                  </a:lnTo>
                  <a:lnTo>
                    <a:pt x="82" y="205"/>
                  </a:lnTo>
                  <a:lnTo>
                    <a:pt x="53" y="223"/>
                  </a:lnTo>
                  <a:lnTo>
                    <a:pt x="26" y="240"/>
                  </a:lnTo>
                  <a:lnTo>
                    <a:pt x="0" y="258"/>
                  </a:lnTo>
                  <a:lnTo>
                    <a:pt x="22" y="292"/>
                  </a:lnTo>
                  <a:lnTo>
                    <a:pt x="48" y="273"/>
                  </a:lnTo>
                  <a:lnTo>
                    <a:pt x="75" y="257"/>
                  </a:lnTo>
                  <a:lnTo>
                    <a:pt x="101" y="239"/>
                  </a:lnTo>
                  <a:lnTo>
                    <a:pt x="131" y="222"/>
                  </a:lnTo>
                  <a:lnTo>
                    <a:pt x="160" y="204"/>
                  </a:lnTo>
                  <a:lnTo>
                    <a:pt x="189" y="187"/>
                  </a:lnTo>
                  <a:lnTo>
                    <a:pt x="220" y="170"/>
                  </a:lnTo>
                  <a:lnTo>
                    <a:pt x="251" y="153"/>
                  </a:lnTo>
                  <a:lnTo>
                    <a:pt x="280" y="137"/>
                  </a:lnTo>
                  <a:lnTo>
                    <a:pt x="310" y="121"/>
                  </a:lnTo>
                  <a:lnTo>
                    <a:pt x="341" y="106"/>
                  </a:lnTo>
                  <a:lnTo>
                    <a:pt x="373" y="92"/>
                  </a:lnTo>
                  <a:lnTo>
                    <a:pt x="405" y="77"/>
                  </a:lnTo>
                  <a:lnTo>
                    <a:pt x="436" y="63"/>
                  </a:lnTo>
                  <a:lnTo>
                    <a:pt x="467" y="49"/>
                  </a:lnTo>
                  <a:lnTo>
                    <a:pt x="497" y="36"/>
                  </a:lnTo>
                  <a:lnTo>
                    <a:pt x="497" y="36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6553080" y="3273120"/>
              <a:ext cx="318960" cy="135000"/>
            </a:xfrm>
            <a:custGeom>
              <a:avLst/>
              <a:gdLst/>
              <a:ahLst/>
              <a:rect l="l" t="t" r="r" b="b"/>
              <a:pathLst>
                <a:path w="818" h="305">
                  <a:moveTo>
                    <a:pt x="807" y="0"/>
                  </a:moveTo>
                  <a:lnTo>
                    <a:pt x="807" y="0"/>
                  </a:lnTo>
                  <a:lnTo>
                    <a:pt x="756" y="15"/>
                  </a:lnTo>
                  <a:lnTo>
                    <a:pt x="705" y="29"/>
                  </a:lnTo>
                  <a:lnTo>
                    <a:pt x="654" y="45"/>
                  </a:lnTo>
                  <a:lnTo>
                    <a:pt x="604" y="60"/>
                  </a:lnTo>
                  <a:lnTo>
                    <a:pt x="552" y="75"/>
                  </a:lnTo>
                  <a:lnTo>
                    <a:pt x="502" y="91"/>
                  </a:lnTo>
                  <a:lnTo>
                    <a:pt x="452" y="107"/>
                  </a:lnTo>
                  <a:lnTo>
                    <a:pt x="400" y="123"/>
                  </a:lnTo>
                  <a:lnTo>
                    <a:pt x="349" y="139"/>
                  </a:lnTo>
                  <a:lnTo>
                    <a:pt x="298" y="158"/>
                  </a:lnTo>
                  <a:lnTo>
                    <a:pt x="248" y="174"/>
                  </a:lnTo>
                  <a:lnTo>
                    <a:pt x="198" y="192"/>
                  </a:lnTo>
                  <a:lnTo>
                    <a:pt x="148" y="212"/>
                  </a:lnTo>
                  <a:lnTo>
                    <a:pt x="99" y="230"/>
                  </a:lnTo>
                  <a:lnTo>
                    <a:pt x="49" y="250"/>
                  </a:lnTo>
                  <a:lnTo>
                    <a:pt x="0" y="269"/>
                  </a:lnTo>
                  <a:lnTo>
                    <a:pt x="14" y="305"/>
                  </a:lnTo>
                  <a:lnTo>
                    <a:pt x="63" y="286"/>
                  </a:lnTo>
                  <a:lnTo>
                    <a:pt x="113" y="266"/>
                  </a:lnTo>
                  <a:lnTo>
                    <a:pt x="162" y="248"/>
                  </a:lnTo>
                  <a:lnTo>
                    <a:pt x="212" y="229"/>
                  </a:lnTo>
                  <a:lnTo>
                    <a:pt x="262" y="211"/>
                  </a:lnTo>
                  <a:lnTo>
                    <a:pt x="312" y="194"/>
                  </a:lnTo>
                  <a:lnTo>
                    <a:pt x="363" y="176"/>
                  </a:lnTo>
                  <a:lnTo>
                    <a:pt x="411" y="159"/>
                  </a:lnTo>
                  <a:lnTo>
                    <a:pt x="463" y="144"/>
                  </a:lnTo>
                  <a:lnTo>
                    <a:pt x="513" y="127"/>
                  </a:lnTo>
                  <a:lnTo>
                    <a:pt x="563" y="112"/>
                  </a:lnTo>
                  <a:lnTo>
                    <a:pt x="615" y="96"/>
                  </a:lnTo>
                  <a:lnTo>
                    <a:pt x="665" y="81"/>
                  </a:lnTo>
                  <a:lnTo>
                    <a:pt x="717" y="66"/>
                  </a:lnTo>
                  <a:lnTo>
                    <a:pt x="767" y="52"/>
                  </a:lnTo>
                  <a:lnTo>
                    <a:pt x="818" y="39"/>
                  </a:lnTo>
                  <a:lnTo>
                    <a:pt x="818" y="39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6868800" y="3219120"/>
              <a:ext cx="247680" cy="71640"/>
            </a:xfrm>
            <a:custGeom>
              <a:avLst/>
              <a:gdLst/>
              <a:ahLst/>
              <a:rect l="l" t="t" r="r" b="b"/>
              <a:pathLst>
                <a:path w="640" h="162">
                  <a:moveTo>
                    <a:pt x="634" y="0"/>
                  </a:moveTo>
                  <a:lnTo>
                    <a:pt x="634" y="0"/>
                  </a:lnTo>
                  <a:lnTo>
                    <a:pt x="594" y="6"/>
                  </a:lnTo>
                  <a:lnTo>
                    <a:pt x="555" y="13"/>
                  </a:lnTo>
                  <a:lnTo>
                    <a:pt x="514" y="18"/>
                  </a:lnTo>
                  <a:lnTo>
                    <a:pt x="475" y="25"/>
                  </a:lnTo>
                  <a:lnTo>
                    <a:pt x="435" y="32"/>
                  </a:lnTo>
                  <a:lnTo>
                    <a:pt x="396" y="38"/>
                  </a:lnTo>
                  <a:lnTo>
                    <a:pt x="354" y="45"/>
                  </a:lnTo>
                  <a:lnTo>
                    <a:pt x="315" y="53"/>
                  </a:lnTo>
                  <a:lnTo>
                    <a:pt x="276" y="60"/>
                  </a:lnTo>
                  <a:lnTo>
                    <a:pt x="236" y="69"/>
                  </a:lnTo>
                  <a:lnTo>
                    <a:pt x="197" y="76"/>
                  </a:lnTo>
                  <a:lnTo>
                    <a:pt x="158" y="85"/>
                  </a:lnTo>
                  <a:lnTo>
                    <a:pt x="119" y="94"/>
                  </a:lnTo>
                  <a:lnTo>
                    <a:pt x="80" y="103"/>
                  </a:lnTo>
                  <a:lnTo>
                    <a:pt x="41" y="113"/>
                  </a:lnTo>
                  <a:lnTo>
                    <a:pt x="0" y="123"/>
                  </a:lnTo>
                  <a:lnTo>
                    <a:pt x="11" y="162"/>
                  </a:lnTo>
                  <a:lnTo>
                    <a:pt x="49" y="152"/>
                  </a:lnTo>
                  <a:lnTo>
                    <a:pt x="88" y="142"/>
                  </a:lnTo>
                  <a:lnTo>
                    <a:pt x="127" y="133"/>
                  </a:lnTo>
                  <a:lnTo>
                    <a:pt x="166" y="124"/>
                  </a:lnTo>
                  <a:lnTo>
                    <a:pt x="205" y="115"/>
                  </a:lnTo>
                  <a:lnTo>
                    <a:pt x="244" y="108"/>
                  </a:lnTo>
                  <a:lnTo>
                    <a:pt x="284" y="99"/>
                  </a:lnTo>
                  <a:lnTo>
                    <a:pt x="323" y="92"/>
                  </a:lnTo>
                  <a:lnTo>
                    <a:pt x="362" y="84"/>
                  </a:lnTo>
                  <a:lnTo>
                    <a:pt x="402" y="77"/>
                  </a:lnTo>
                  <a:lnTo>
                    <a:pt x="441" y="71"/>
                  </a:lnTo>
                  <a:lnTo>
                    <a:pt x="481" y="64"/>
                  </a:lnTo>
                  <a:lnTo>
                    <a:pt x="520" y="57"/>
                  </a:lnTo>
                  <a:lnTo>
                    <a:pt x="560" y="52"/>
                  </a:lnTo>
                  <a:lnTo>
                    <a:pt x="599" y="45"/>
                  </a:lnTo>
                  <a:lnTo>
                    <a:pt x="640" y="39"/>
                  </a:lnTo>
                  <a:lnTo>
                    <a:pt x="640" y="39"/>
                  </a:lnTo>
                  <a:lnTo>
                    <a:pt x="6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7115040" y="3203280"/>
              <a:ext cx="169920" cy="33480"/>
            </a:xfrm>
            <a:custGeom>
              <a:avLst/>
              <a:gdLst/>
              <a:ahLst/>
              <a:rect l="l" t="t" r="r" b="b"/>
              <a:pathLst>
                <a:path w="434" h="74">
                  <a:moveTo>
                    <a:pt x="434" y="20"/>
                  </a:moveTo>
                  <a:lnTo>
                    <a:pt x="414" y="0"/>
                  </a:lnTo>
                  <a:lnTo>
                    <a:pt x="388" y="0"/>
                  </a:lnTo>
                  <a:lnTo>
                    <a:pt x="363" y="0"/>
                  </a:lnTo>
                  <a:lnTo>
                    <a:pt x="335" y="2"/>
                  </a:lnTo>
                  <a:lnTo>
                    <a:pt x="310" y="3"/>
                  </a:lnTo>
                  <a:lnTo>
                    <a:pt x="283" y="5"/>
                  </a:lnTo>
                  <a:lnTo>
                    <a:pt x="258" y="6"/>
                  </a:lnTo>
                  <a:lnTo>
                    <a:pt x="232" y="9"/>
                  </a:lnTo>
                  <a:lnTo>
                    <a:pt x="206" y="10"/>
                  </a:lnTo>
                  <a:lnTo>
                    <a:pt x="180" y="13"/>
                  </a:lnTo>
                  <a:lnTo>
                    <a:pt x="154" y="16"/>
                  </a:lnTo>
                  <a:lnTo>
                    <a:pt x="130" y="19"/>
                  </a:lnTo>
                  <a:lnTo>
                    <a:pt x="103" y="21"/>
                  </a:lnTo>
                  <a:lnTo>
                    <a:pt x="77" y="24"/>
                  </a:lnTo>
                  <a:lnTo>
                    <a:pt x="52" y="28"/>
                  </a:lnTo>
                  <a:lnTo>
                    <a:pt x="25" y="31"/>
                  </a:lnTo>
                  <a:lnTo>
                    <a:pt x="0" y="35"/>
                  </a:lnTo>
                  <a:lnTo>
                    <a:pt x="6" y="74"/>
                  </a:lnTo>
                  <a:lnTo>
                    <a:pt x="31" y="70"/>
                  </a:lnTo>
                  <a:lnTo>
                    <a:pt x="57" y="67"/>
                  </a:lnTo>
                  <a:lnTo>
                    <a:pt x="82" y="63"/>
                  </a:lnTo>
                  <a:lnTo>
                    <a:pt x="106" y="60"/>
                  </a:lnTo>
                  <a:lnTo>
                    <a:pt x="133" y="58"/>
                  </a:lnTo>
                  <a:lnTo>
                    <a:pt x="159" y="55"/>
                  </a:lnTo>
                  <a:lnTo>
                    <a:pt x="183" y="52"/>
                  </a:lnTo>
                  <a:lnTo>
                    <a:pt x="209" y="49"/>
                  </a:lnTo>
                  <a:lnTo>
                    <a:pt x="234" y="48"/>
                  </a:lnTo>
                  <a:lnTo>
                    <a:pt x="261" y="45"/>
                  </a:lnTo>
                  <a:lnTo>
                    <a:pt x="286" y="44"/>
                  </a:lnTo>
                  <a:lnTo>
                    <a:pt x="312" y="42"/>
                  </a:lnTo>
                  <a:lnTo>
                    <a:pt x="337" y="41"/>
                  </a:lnTo>
                  <a:lnTo>
                    <a:pt x="363" y="39"/>
                  </a:lnTo>
                  <a:lnTo>
                    <a:pt x="388" y="39"/>
                  </a:lnTo>
                  <a:lnTo>
                    <a:pt x="414" y="39"/>
                  </a:lnTo>
                  <a:lnTo>
                    <a:pt x="395" y="20"/>
                  </a:lnTo>
                  <a:lnTo>
                    <a:pt x="43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6824520" y="3816360"/>
              <a:ext cx="87120" cy="482400"/>
            </a:xfrm>
            <a:custGeom>
              <a:avLst/>
              <a:gdLst/>
              <a:ahLst/>
              <a:rect l="l" t="t" r="r" b="b"/>
              <a:pathLst>
                <a:path w="338" h="1373">
                  <a:moveTo>
                    <a:pt x="299" y="0"/>
                  </a:moveTo>
                  <a:lnTo>
                    <a:pt x="283" y="57"/>
                  </a:lnTo>
                  <a:lnTo>
                    <a:pt x="268" y="116"/>
                  </a:lnTo>
                  <a:lnTo>
                    <a:pt x="253" y="179"/>
                  </a:lnTo>
                  <a:lnTo>
                    <a:pt x="238" y="244"/>
                  </a:lnTo>
                  <a:lnTo>
                    <a:pt x="224" y="308"/>
                  </a:lnTo>
                  <a:lnTo>
                    <a:pt x="209" y="373"/>
                  </a:lnTo>
                  <a:lnTo>
                    <a:pt x="192" y="440"/>
                  </a:lnTo>
                  <a:lnTo>
                    <a:pt x="177" y="503"/>
                  </a:lnTo>
                  <a:lnTo>
                    <a:pt x="158" y="573"/>
                  </a:lnTo>
                  <a:lnTo>
                    <a:pt x="139" y="640"/>
                  </a:lnTo>
                  <a:lnTo>
                    <a:pt x="121" y="702"/>
                  </a:lnTo>
                  <a:lnTo>
                    <a:pt x="102" y="765"/>
                  </a:lnTo>
                  <a:lnTo>
                    <a:pt x="83" y="828"/>
                  </a:lnTo>
                  <a:lnTo>
                    <a:pt x="66" y="893"/>
                  </a:lnTo>
                  <a:lnTo>
                    <a:pt x="49" y="960"/>
                  </a:lnTo>
                  <a:lnTo>
                    <a:pt x="32" y="1030"/>
                  </a:lnTo>
                  <a:lnTo>
                    <a:pt x="21" y="1089"/>
                  </a:lnTo>
                  <a:lnTo>
                    <a:pt x="9" y="1152"/>
                  </a:lnTo>
                  <a:lnTo>
                    <a:pt x="2" y="1222"/>
                  </a:lnTo>
                  <a:lnTo>
                    <a:pt x="0" y="1298"/>
                  </a:lnTo>
                  <a:lnTo>
                    <a:pt x="11" y="1306"/>
                  </a:lnTo>
                  <a:lnTo>
                    <a:pt x="24" y="1314"/>
                  </a:lnTo>
                  <a:lnTo>
                    <a:pt x="40" y="1319"/>
                  </a:lnTo>
                  <a:lnTo>
                    <a:pt x="55" y="1327"/>
                  </a:lnTo>
                  <a:lnTo>
                    <a:pt x="74" y="1333"/>
                  </a:lnTo>
                  <a:lnTo>
                    <a:pt x="93" y="1340"/>
                  </a:lnTo>
                  <a:lnTo>
                    <a:pt x="114" y="1346"/>
                  </a:lnTo>
                  <a:lnTo>
                    <a:pt x="135" y="1350"/>
                  </a:lnTo>
                  <a:lnTo>
                    <a:pt x="158" y="1356"/>
                  </a:lnTo>
                  <a:lnTo>
                    <a:pt x="180" y="1359"/>
                  </a:lnTo>
                  <a:lnTo>
                    <a:pt x="205" y="1363"/>
                  </a:lnTo>
                  <a:lnTo>
                    <a:pt x="232" y="1367"/>
                  </a:lnTo>
                  <a:lnTo>
                    <a:pt x="257" y="1369"/>
                  </a:lnTo>
                  <a:lnTo>
                    <a:pt x="283" y="1371"/>
                  </a:lnTo>
                  <a:lnTo>
                    <a:pt x="312" y="1373"/>
                  </a:lnTo>
                  <a:lnTo>
                    <a:pt x="338" y="1373"/>
                  </a:lnTo>
                  <a:lnTo>
                    <a:pt x="329" y="1028"/>
                  </a:lnTo>
                  <a:lnTo>
                    <a:pt x="319" y="685"/>
                  </a:lnTo>
                  <a:lnTo>
                    <a:pt x="308" y="343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6576840" y="3614760"/>
              <a:ext cx="595080" cy="380880"/>
            </a:xfrm>
            <a:custGeom>
              <a:avLst/>
              <a:gdLst/>
              <a:ahLst/>
              <a:rect l="l" t="t" r="r" b="b"/>
              <a:pathLst>
                <a:path w="2343" h="1085">
                  <a:moveTo>
                    <a:pt x="2027" y="0"/>
                  </a:moveTo>
                  <a:lnTo>
                    <a:pt x="2042" y="13"/>
                  </a:lnTo>
                  <a:lnTo>
                    <a:pt x="2061" y="32"/>
                  </a:lnTo>
                  <a:lnTo>
                    <a:pt x="2082" y="55"/>
                  </a:lnTo>
                  <a:lnTo>
                    <a:pt x="2107" y="81"/>
                  </a:lnTo>
                  <a:lnTo>
                    <a:pt x="2132" y="112"/>
                  </a:lnTo>
                  <a:lnTo>
                    <a:pt x="2159" y="144"/>
                  </a:lnTo>
                  <a:lnTo>
                    <a:pt x="2185" y="179"/>
                  </a:lnTo>
                  <a:lnTo>
                    <a:pt x="2212" y="215"/>
                  </a:lnTo>
                  <a:lnTo>
                    <a:pt x="2239" y="251"/>
                  </a:lnTo>
                  <a:lnTo>
                    <a:pt x="2261" y="287"/>
                  </a:lnTo>
                  <a:lnTo>
                    <a:pt x="2284" y="321"/>
                  </a:lnTo>
                  <a:lnTo>
                    <a:pt x="2303" y="354"/>
                  </a:lnTo>
                  <a:lnTo>
                    <a:pt x="2320" y="384"/>
                  </a:lnTo>
                  <a:lnTo>
                    <a:pt x="2332" y="411"/>
                  </a:lnTo>
                  <a:lnTo>
                    <a:pt x="2341" y="436"/>
                  </a:lnTo>
                  <a:lnTo>
                    <a:pt x="2343" y="455"/>
                  </a:lnTo>
                  <a:lnTo>
                    <a:pt x="2315" y="483"/>
                  </a:lnTo>
                  <a:lnTo>
                    <a:pt x="2286" y="512"/>
                  </a:lnTo>
                  <a:lnTo>
                    <a:pt x="2258" y="538"/>
                  </a:lnTo>
                  <a:lnTo>
                    <a:pt x="2227" y="565"/>
                  </a:lnTo>
                  <a:lnTo>
                    <a:pt x="2197" y="592"/>
                  </a:lnTo>
                  <a:lnTo>
                    <a:pt x="2166" y="617"/>
                  </a:lnTo>
                  <a:lnTo>
                    <a:pt x="2134" y="643"/>
                  </a:lnTo>
                  <a:lnTo>
                    <a:pt x="2103" y="666"/>
                  </a:lnTo>
                  <a:lnTo>
                    <a:pt x="2069" y="691"/>
                  </a:lnTo>
                  <a:lnTo>
                    <a:pt x="2037" y="714"/>
                  </a:lnTo>
                  <a:lnTo>
                    <a:pt x="2004" y="736"/>
                  </a:lnTo>
                  <a:lnTo>
                    <a:pt x="1970" y="759"/>
                  </a:lnTo>
                  <a:lnTo>
                    <a:pt x="1936" y="780"/>
                  </a:lnTo>
                  <a:lnTo>
                    <a:pt x="1902" y="801"/>
                  </a:lnTo>
                  <a:lnTo>
                    <a:pt x="1867" y="822"/>
                  </a:lnTo>
                  <a:lnTo>
                    <a:pt x="1833" y="843"/>
                  </a:lnTo>
                  <a:lnTo>
                    <a:pt x="1803" y="860"/>
                  </a:lnTo>
                  <a:lnTo>
                    <a:pt x="1770" y="877"/>
                  </a:lnTo>
                  <a:lnTo>
                    <a:pt x="1740" y="895"/>
                  </a:lnTo>
                  <a:lnTo>
                    <a:pt x="1707" y="910"/>
                  </a:lnTo>
                  <a:lnTo>
                    <a:pt x="1675" y="925"/>
                  </a:lnTo>
                  <a:lnTo>
                    <a:pt x="1641" y="940"/>
                  </a:lnTo>
                  <a:lnTo>
                    <a:pt x="1609" y="955"/>
                  </a:lnTo>
                  <a:lnTo>
                    <a:pt x="1576" y="969"/>
                  </a:lnTo>
                  <a:lnTo>
                    <a:pt x="1542" y="982"/>
                  </a:lnTo>
                  <a:lnTo>
                    <a:pt x="1508" y="995"/>
                  </a:lnTo>
                  <a:lnTo>
                    <a:pt x="1473" y="1007"/>
                  </a:lnTo>
                  <a:lnTo>
                    <a:pt x="1439" y="1018"/>
                  </a:lnTo>
                  <a:lnTo>
                    <a:pt x="1405" y="1028"/>
                  </a:lnTo>
                  <a:lnTo>
                    <a:pt x="1371" y="1037"/>
                  </a:lnTo>
                  <a:lnTo>
                    <a:pt x="1334" y="1047"/>
                  </a:lnTo>
                  <a:lnTo>
                    <a:pt x="1300" y="1054"/>
                  </a:lnTo>
                  <a:lnTo>
                    <a:pt x="1256" y="1058"/>
                  </a:lnTo>
                  <a:lnTo>
                    <a:pt x="1213" y="1060"/>
                  </a:lnTo>
                  <a:lnTo>
                    <a:pt x="1171" y="1064"/>
                  </a:lnTo>
                  <a:lnTo>
                    <a:pt x="1127" y="1066"/>
                  </a:lnTo>
                  <a:lnTo>
                    <a:pt x="1083" y="1068"/>
                  </a:lnTo>
                  <a:lnTo>
                    <a:pt x="1039" y="1072"/>
                  </a:lnTo>
                  <a:lnTo>
                    <a:pt x="996" y="1073"/>
                  </a:lnTo>
                  <a:lnTo>
                    <a:pt x="952" y="1075"/>
                  </a:lnTo>
                  <a:lnTo>
                    <a:pt x="910" y="1077"/>
                  </a:lnTo>
                  <a:lnTo>
                    <a:pt x="866" y="1079"/>
                  </a:lnTo>
                  <a:lnTo>
                    <a:pt x="822" y="1081"/>
                  </a:lnTo>
                  <a:lnTo>
                    <a:pt x="781" y="1081"/>
                  </a:lnTo>
                  <a:lnTo>
                    <a:pt x="737" y="1083"/>
                  </a:lnTo>
                  <a:lnTo>
                    <a:pt x="695" y="1083"/>
                  </a:lnTo>
                  <a:lnTo>
                    <a:pt x="653" y="1085"/>
                  </a:lnTo>
                  <a:lnTo>
                    <a:pt x="611" y="1085"/>
                  </a:lnTo>
                  <a:lnTo>
                    <a:pt x="569" y="1085"/>
                  </a:lnTo>
                  <a:lnTo>
                    <a:pt x="527" y="1085"/>
                  </a:lnTo>
                  <a:lnTo>
                    <a:pt x="486" y="1085"/>
                  </a:lnTo>
                  <a:lnTo>
                    <a:pt x="446" y="1085"/>
                  </a:lnTo>
                  <a:lnTo>
                    <a:pt x="406" y="1085"/>
                  </a:lnTo>
                  <a:lnTo>
                    <a:pt x="366" y="1083"/>
                  </a:lnTo>
                  <a:lnTo>
                    <a:pt x="326" y="1081"/>
                  </a:lnTo>
                  <a:lnTo>
                    <a:pt x="288" y="1079"/>
                  </a:lnTo>
                  <a:lnTo>
                    <a:pt x="250" y="1077"/>
                  </a:lnTo>
                  <a:lnTo>
                    <a:pt x="211" y="1075"/>
                  </a:lnTo>
                  <a:lnTo>
                    <a:pt x="175" y="1073"/>
                  </a:lnTo>
                  <a:lnTo>
                    <a:pt x="139" y="1070"/>
                  </a:lnTo>
                  <a:lnTo>
                    <a:pt x="103" y="1066"/>
                  </a:lnTo>
                  <a:lnTo>
                    <a:pt x="69" y="1062"/>
                  </a:lnTo>
                  <a:lnTo>
                    <a:pt x="34" y="1058"/>
                  </a:lnTo>
                  <a:lnTo>
                    <a:pt x="0" y="1054"/>
                  </a:lnTo>
                  <a:lnTo>
                    <a:pt x="8" y="973"/>
                  </a:lnTo>
                  <a:lnTo>
                    <a:pt x="19" y="891"/>
                  </a:lnTo>
                  <a:lnTo>
                    <a:pt x="34" y="811"/>
                  </a:lnTo>
                  <a:lnTo>
                    <a:pt x="53" y="731"/>
                  </a:lnTo>
                  <a:lnTo>
                    <a:pt x="78" y="653"/>
                  </a:lnTo>
                  <a:lnTo>
                    <a:pt x="105" y="575"/>
                  </a:lnTo>
                  <a:lnTo>
                    <a:pt x="135" y="502"/>
                  </a:lnTo>
                  <a:lnTo>
                    <a:pt x="170" y="430"/>
                  </a:lnTo>
                  <a:lnTo>
                    <a:pt x="221" y="453"/>
                  </a:lnTo>
                  <a:lnTo>
                    <a:pt x="274" y="476"/>
                  </a:lnTo>
                  <a:lnTo>
                    <a:pt x="333" y="497"/>
                  </a:lnTo>
                  <a:lnTo>
                    <a:pt x="394" y="517"/>
                  </a:lnTo>
                  <a:lnTo>
                    <a:pt x="459" y="537"/>
                  </a:lnTo>
                  <a:lnTo>
                    <a:pt x="525" y="556"/>
                  </a:lnTo>
                  <a:lnTo>
                    <a:pt x="594" y="573"/>
                  </a:lnTo>
                  <a:lnTo>
                    <a:pt x="666" y="588"/>
                  </a:lnTo>
                  <a:lnTo>
                    <a:pt x="741" y="603"/>
                  </a:lnTo>
                  <a:lnTo>
                    <a:pt x="815" y="618"/>
                  </a:lnTo>
                  <a:lnTo>
                    <a:pt x="893" y="634"/>
                  </a:lnTo>
                  <a:lnTo>
                    <a:pt x="969" y="647"/>
                  </a:lnTo>
                  <a:lnTo>
                    <a:pt x="1049" y="660"/>
                  </a:lnTo>
                  <a:lnTo>
                    <a:pt x="1127" y="674"/>
                  </a:lnTo>
                  <a:lnTo>
                    <a:pt x="1205" y="687"/>
                  </a:lnTo>
                  <a:lnTo>
                    <a:pt x="1285" y="698"/>
                  </a:lnTo>
                  <a:lnTo>
                    <a:pt x="1338" y="666"/>
                  </a:lnTo>
                  <a:lnTo>
                    <a:pt x="1393" y="628"/>
                  </a:lnTo>
                  <a:lnTo>
                    <a:pt x="1451" y="588"/>
                  </a:lnTo>
                  <a:lnTo>
                    <a:pt x="1508" y="546"/>
                  </a:lnTo>
                  <a:lnTo>
                    <a:pt x="1565" y="500"/>
                  </a:lnTo>
                  <a:lnTo>
                    <a:pt x="1624" y="453"/>
                  </a:lnTo>
                  <a:lnTo>
                    <a:pt x="1679" y="403"/>
                  </a:lnTo>
                  <a:lnTo>
                    <a:pt x="1734" y="354"/>
                  </a:lnTo>
                  <a:lnTo>
                    <a:pt x="1787" y="306"/>
                  </a:lnTo>
                  <a:lnTo>
                    <a:pt x="1837" y="257"/>
                  </a:lnTo>
                  <a:lnTo>
                    <a:pt x="1881" y="207"/>
                  </a:lnTo>
                  <a:lnTo>
                    <a:pt x="1923" y="161"/>
                  </a:lnTo>
                  <a:lnTo>
                    <a:pt x="1959" y="116"/>
                  </a:lnTo>
                  <a:lnTo>
                    <a:pt x="1987" y="74"/>
                  </a:lnTo>
                  <a:lnTo>
                    <a:pt x="2012" y="36"/>
                  </a:lnTo>
                  <a:lnTo>
                    <a:pt x="202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1" name=""/>
            <p:cNvGrpSpPr/>
            <p:nvPr/>
          </p:nvGrpSpPr>
          <p:grpSpPr>
            <a:xfrm>
              <a:off x="6581520" y="3612960"/>
              <a:ext cx="612720" cy="890280"/>
              <a:chOff x="6581520" y="3612960"/>
              <a:chExt cx="612720" cy="890280"/>
            </a:xfrm>
          </p:grpSpPr>
          <p:sp>
            <p:nvSpPr>
              <p:cNvPr id="6642" name=""/>
              <p:cNvSpPr/>
              <p:nvPr/>
            </p:nvSpPr>
            <p:spPr>
              <a:xfrm>
                <a:off x="6588000" y="3771000"/>
                <a:ext cx="84240" cy="218160"/>
              </a:xfrm>
              <a:custGeom>
                <a:avLst/>
                <a:gdLst/>
                <a:ahLst/>
                <a:rect l="l" t="t" r="r" b="b"/>
                <a:pathLst>
                  <a:path w="331" h="621">
                    <a:moveTo>
                      <a:pt x="331" y="61"/>
                    </a:moveTo>
                    <a:lnTo>
                      <a:pt x="309" y="122"/>
                    </a:lnTo>
                    <a:lnTo>
                      <a:pt x="288" y="185"/>
                    </a:lnTo>
                    <a:lnTo>
                      <a:pt x="267" y="252"/>
                    </a:lnTo>
                    <a:lnTo>
                      <a:pt x="248" y="322"/>
                    </a:lnTo>
                    <a:lnTo>
                      <a:pt x="232" y="394"/>
                    </a:lnTo>
                    <a:lnTo>
                      <a:pt x="221" y="467"/>
                    </a:lnTo>
                    <a:lnTo>
                      <a:pt x="212" y="543"/>
                    </a:lnTo>
                    <a:lnTo>
                      <a:pt x="210" y="621"/>
                    </a:lnTo>
                    <a:lnTo>
                      <a:pt x="183" y="619"/>
                    </a:lnTo>
                    <a:lnTo>
                      <a:pt x="158" y="619"/>
                    </a:lnTo>
                    <a:lnTo>
                      <a:pt x="132" y="617"/>
                    </a:lnTo>
                    <a:lnTo>
                      <a:pt x="105" y="617"/>
                    </a:lnTo>
                    <a:lnTo>
                      <a:pt x="80" y="615"/>
                    </a:lnTo>
                    <a:lnTo>
                      <a:pt x="54" y="615"/>
                    </a:lnTo>
                    <a:lnTo>
                      <a:pt x="27" y="613"/>
                    </a:lnTo>
                    <a:lnTo>
                      <a:pt x="0" y="613"/>
                    </a:lnTo>
                    <a:lnTo>
                      <a:pt x="6" y="522"/>
                    </a:lnTo>
                    <a:lnTo>
                      <a:pt x="17" y="436"/>
                    </a:lnTo>
                    <a:lnTo>
                      <a:pt x="35" y="353"/>
                    </a:lnTo>
                    <a:lnTo>
                      <a:pt x="57" y="273"/>
                    </a:lnTo>
                    <a:lnTo>
                      <a:pt x="82" y="198"/>
                    </a:lnTo>
                    <a:lnTo>
                      <a:pt x="111" y="128"/>
                    </a:lnTo>
                    <a:lnTo>
                      <a:pt x="141" y="61"/>
                    </a:lnTo>
                    <a:lnTo>
                      <a:pt x="173" y="0"/>
                    </a:lnTo>
                    <a:lnTo>
                      <a:pt x="193" y="8"/>
                    </a:lnTo>
                    <a:lnTo>
                      <a:pt x="213" y="16"/>
                    </a:lnTo>
                    <a:lnTo>
                      <a:pt x="232" y="23"/>
                    </a:lnTo>
                    <a:lnTo>
                      <a:pt x="253" y="31"/>
                    </a:lnTo>
                    <a:lnTo>
                      <a:pt x="272" y="38"/>
                    </a:lnTo>
                    <a:lnTo>
                      <a:pt x="293" y="46"/>
                    </a:lnTo>
                    <a:lnTo>
                      <a:pt x="312" y="54"/>
                    </a:lnTo>
                    <a:lnTo>
                      <a:pt x="331" y="61"/>
                    </a:lnTo>
                    <a:close/>
                  </a:path>
                </a:pathLst>
              </a:custGeom>
              <a:solidFill>
                <a:srgbClr val="4d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634080" y="3789000"/>
                <a:ext cx="43920" cy="209160"/>
              </a:xfrm>
              <a:custGeom>
                <a:avLst/>
                <a:gdLst/>
                <a:ahLst/>
                <a:rect l="l" t="t" r="r" b="b"/>
                <a:pathLst>
                  <a:path w="173" h="596">
                    <a:moveTo>
                      <a:pt x="25" y="596"/>
                    </a:moveTo>
                    <a:lnTo>
                      <a:pt x="53" y="569"/>
                    </a:lnTo>
                    <a:lnTo>
                      <a:pt x="53" y="529"/>
                    </a:lnTo>
                    <a:lnTo>
                      <a:pt x="55" y="493"/>
                    </a:lnTo>
                    <a:lnTo>
                      <a:pt x="59" y="457"/>
                    </a:lnTo>
                    <a:lnTo>
                      <a:pt x="65" y="419"/>
                    </a:lnTo>
                    <a:lnTo>
                      <a:pt x="69" y="382"/>
                    </a:lnTo>
                    <a:lnTo>
                      <a:pt x="76" y="348"/>
                    </a:lnTo>
                    <a:lnTo>
                      <a:pt x="84" y="312"/>
                    </a:lnTo>
                    <a:lnTo>
                      <a:pt x="91" y="276"/>
                    </a:lnTo>
                    <a:lnTo>
                      <a:pt x="101" y="243"/>
                    </a:lnTo>
                    <a:lnTo>
                      <a:pt x="108" y="207"/>
                    </a:lnTo>
                    <a:lnTo>
                      <a:pt x="118" y="175"/>
                    </a:lnTo>
                    <a:lnTo>
                      <a:pt x="129" y="141"/>
                    </a:lnTo>
                    <a:lnTo>
                      <a:pt x="139" y="110"/>
                    </a:lnTo>
                    <a:lnTo>
                      <a:pt x="150" y="80"/>
                    </a:lnTo>
                    <a:lnTo>
                      <a:pt x="162" y="49"/>
                    </a:lnTo>
                    <a:lnTo>
                      <a:pt x="173" y="19"/>
                    </a:lnTo>
                    <a:lnTo>
                      <a:pt x="124" y="0"/>
                    </a:lnTo>
                    <a:lnTo>
                      <a:pt x="112" y="30"/>
                    </a:lnTo>
                    <a:lnTo>
                      <a:pt x="101" y="61"/>
                    </a:lnTo>
                    <a:lnTo>
                      <a:pt x="89" y="95"/>
                    </a:lnTo>
                    <a:lnTo>
                      <a:pt x="80" y="125"/>
                    </a:lnTo>
                    <a:lnTo>
                      <a:pt x="69" y="160"/>
                    </a:lnTo>
                    <a:lnTo>
                      <a:pt x="59" y="192"/>
                    </a:lnTo>
                    <a:lnTo>
                      <a:pt x="48" y="228"/>
                    </a:lnTo>
                    <a:lnTo>
                      <a:pt x="38" y="264"/>
                    </a:lnTo>
                    <a:lnTo>
                      <a:pt x="30" y="301"/>
                    </a:lnTo>
                    <a:lnTo>
                      <a:pt x="23" y="337"/>
                    </a:lnTo>
                    <a:lnTo>
                      <a:pt x="15" y="375"/>
                    </a:lnTo>
                    <a:lnTo>
                      <a:pt x="11" y="411"/>
                    </a:lnTo>
                    <a:lnTo>
                      <a:pt x="6" y="449"/>
                    </a:lnTo>
                    <a:lnTo>
                      <a:pt x="2" y="489"/>
                    </a:lnTo>
                    <a:lnTo>
                      <a:pt x="0" y="529"/>
                    </a:lnTo>
                    <a:lnTo>
                      <a:pt x="0" y="569"/>
                    </a:lnTo>
                    <a:lnTo>
                      <a:pt x="29" y="542"/>
                    </a:lnTo>
                    <a:lnTo>
                      <a:pt x="25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581520" y="3976920"/>
                <a:ext cx="60120" cy="21600"/>
              </a:xfrm>
              <a:custGeom>
                <a:avLst/>
                <a:gdLst/>
                <a:ahLst/>
                <a:rect l="l" t="t" r="r" b="b"/>
                <a:pathLst>
                  <a:path w="238" h="61">
                    <a:moveTo>
                      <a:pt x="0" y="26"/>
                    </a:moveTo>
                    <a:lnTo>
                      <a:pt x="26" y="53"/>
                    </a:lnTo>
                    <a:lnTo>
                      <a:pt x="53" y="53"/>
                    </a:lnTo>
                    <a:lnTo>
                      <a:pt x="80" y="55"/>
                    </a:lnTo>
                    <a:lnTo>
                      <a:pt x="106" y="55"/>
                    </a:lnTo>
                    <a:lnTo>
                      <a:pt x="131" y="57"/>
                    </a:lnTo>
                    <a:lnTo>
                      <a:pt x="158" y="57"/>
                    </a:lnTo>
                    <a:lnTo>
                      <a:pt x="184" y="59"/>
                    </a:lnTo>
                    <a:lnTo>
                      <a:pt x="209" y="59"/>
                    </a:lnTo>
                    <a:lnTo>
                      <a:pt x="234" y="61"/>
                    </a:lnTo>
                    <a:lnTo>
                      <a:pt x="238" y="7"/>
                    </a:lnTo>
                    <a:lnTo>
                      <a:pt x="209" y="6"/>
                    </a:lnTo>
                    <a:lnTo>
                      <a:pt x="184" y="6"/>
                    </a:lnTo>
                    <a:lnTo>
                      <a:pt x="158" y="4"/>
                    </a:lnTo>
                    <a:lnTo>
                      <a:pt x="131" y="4"/>
                    </a:lnTo>
                    <a:lnTo>
                      <a:pt x="106" y="2"/>
                    </a:lnTo>
                    <a:lnTo>
                      <a:pt x="80" y="2"/>
                    </a:lnTo>
                    <a:lnTo>
                      <a:pt x="53" y="0"/>
                    </a:lnTo>
                    <a:lnTo>
                      <a:pt x="26" y="0"/>
                    </a:lnTo>
                    <a:lnTo>
                      <a:pt x="5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6581520" y="3762360"/>
                <a:ext cx="56160" cy="223920"/>
              </a:xfrm>
              <a:custGeom>
                <a:avLst/>
                <a:gdLst/>
                <a:ahLst/>
                <a:rect l="l" t="t" r="r" b="b"/>
                <a:pathLst>
                  <a:path w="222" h="637">
                    <a:moveTo>
                      <a:pt x="209" y="0"/>
                    </a:moveTo>
                    <a:lnTo>
                      <a:pt x="177" y="11"/>
                    </a:lnTo>
                    <a:lnTo>
                      <a:pt x="160" y="41"/>
                    </a:lnTo>
                    <a:lnTo>
                      <a:pt x="142" y="74"/>
                    </a:lnTo>
                    <a:lnTo>
                      <a:pt x="127" y="106"/>
                    </a:lnTo>
                    <a:lnTo>
                      <a:pt x="112" y="140"/>
                    </a:lnTo>
                    <a:lnTo>
                      <a:pt x="97" y="177"/>
                    </a:lnTo>
                    <a:lnTo>
                      <a:pt x="83" y="213"/>
                    </a:lnTo>
                    <a:lnTo>
                      <a:pt x="70" y="251"/>
                    </a:lnTo>
                    <a:lnTo>
                      <a:pt x="59" y="289"/>
                    </a:lnTo>
                    <a:lnTo>
                      <a:pt x="47" y="329"/>
                    </a:lnTo>
                    <a:lnTo>
                      <a:pt x="34" y="371"/>
                    </a:lnTo>
                    <a:lnTo>
                      <a:pt x="26" y="413"/>
                    </a:lnTo>
                    <a:lnTo>
                      <a:pt x="17" y="457"/>
                    </a:lnTo>
                    <a:lnTo>
                      <a:pt x="11" y="498"/>
                    </a:lnTo>
                    <a:lnTo>
                      <a:pt x="5" y="544"/>
                    </a:lnTo>
                    <a:lnTo>
                      <a:pt x="2" y="590"/>
                    </a:lnTo>
                    <a:lnTo>
                      <a:pt x="0" y="637"/>
                    </a:lnTo>
                    <a:lnTo>
                      <a:pt x="53" y="637"/>
                    </a:lnTo>
                    <a:lnTo>
                      <a:pt x="55" y="594"/>
                    </a:lnTo>
                    <a:lnTo>
                      <a:pt x="59" y="548"/>
                    </a:lnTo>
                    <a:lnTo>
                      <a:pt x="64" y="506"/>
                    </a:lnTo>
                    <a:lnTo>
                      <a:pt x="70" y="464"/>
                    </a:lnTo>
                    <a:lnTo>
                      <a:pt x="80" y="424"/>
                    </a:lnTo>
                    <a:lnTo>
                      <a:pt x="87" y="382"/>
                    </a:lnTo>
                    <a:lnTo>
                      <a:pt x="97" y="344"/>
                    </a:lnTo>
                    <a:lnTo>
                      <a:pt x="108" y="304"/>
                    </a:lnTo>
                    <a:lnTo>
                      <a:pt x="120" y="266"/>
                    </a:lnTo>
                    <a:lnTo>
                      <a:pt x="133" y="232"/>
                    </a:lnTo>
                    <a:lnTo>
                      <a:pt x="146" y="196"/>
                    </a:lnTo>
                    <a:lnTo>
                      <a:pt x="161" y="163"/>
                    </a:lnTo>
                    <a:lnTo>
                      <a:pt x="177" y="129"/>
                    </a:lnTo>
                    <a:lnTo>
                      <a:pt x="192" y="97"/>
                    </a:lnTo>
                    <a:lnTo>
                      <a:pt x="205" y="68"/>
                    </a:lnTo>
                    <a:lnTo>
                      <a:pt x="222" y="38"/>
                    </a:lnTo>
                    <a:lnTo>
                      <a:pt x="190" y="49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629760" y="3762360"/>
                <a:ext cx="48600" cy="38520"/>
              </a:xfrm>
              <a:custGeom>
                <a:avLst/>
                <a:gdLst/>
                <a:ahLst/>
                <a:rect l="l" t="t" r="r" b="b"/>
                <a:pathLst>
                  <a:path w="192" h="110">
                    <a:moveTo>
                      <a:pt x="192" y="95"/>
                    </a:moveTo>
                    <a:lnTo>
                      <a:pt x="177" y="61"/>
                    </a:lnTo>
                    <a:lnTo>
                      <a:pt x="158" y="53"/>
                    </a:lnTo>
                    <a:lnTo>
                      <a:pt x="139" y="45"/>
                    </a:lnTo>
                    <a:lnTo>
                      <a:pt x="118" y="38"/>
                    </a:lnTo>
                    <a:lnTo>
                      <a:pt x="99" y="30"/>
                    </a:lnTo>
                    <a:lnTo>
                      <a:pt x="78" y="22"/>
                    </a:lnTo>
                    <a:lnTo>
                      <a:pt x="59" y="15"/>
                    </a:lnTo>
                    <a:lnTo>
                      <a:pt x="38" y="7"/>
                    </a:lnTo>
                    <a:lnTo>
                      <a:pt x="19" y="0"/>
                    </a:lnTo>
                    <a:lnTo>
                      <a:pt x="0" y="49"/>
                    </a:lnTo>
                    <a:lnTo>
                      <a:pt x="19" y="57"/>
                    </a:lnTo>
                    <a:lnTo>
                      <a:pt x="40" y="64"/>
                    </a:lnTo>
                    <a:lnTo>
                      <a:pt x="59" y="72"/>
                    </a:lnTo>
                    <a:lnTo>
                      <a:pt x="80" y="80"/>
                    </a:lnTo>
                    <a:lnTo>
                      <a:pt x="99" y="87"/>
                    </a:lnTo>
                    <a:lnTo>
                      <a:pt x="120" y="95"/>
                    </a:lnTo>
                    <a:lnTo>
                      <a:pt x="139" y="102"/>
                    </a:lnTo>
                    <a:lnTo>
                      <a:pt x="158" y="110"/>
                    </a:lnTo>
                    <a:lnTo>
                      <a:pt x="143" y="76"/>
                    </a:lnTo>
                    <a:lnTo>
                      <a:pt x="192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723000" y="3819960"/>
                <a:ext cx="74880" cy="174600"/>
              </a:xfrm>
              <a:custGeom>
                <a:avLst/>
                <a:gdLst/>
                <a:ahLst/>
                <a:rect l="l" t="t" r="r" b="b"/>
                <a:pathLst>
                  <a:path w="297" h="499">
                    <a:moveTo>
                      <a:pt x="97" y="0"/>
                    </a:moveTo>
                    <a:lnTo>
                      <a:pt x="75" y="56"/>
                    </a:lnTo>
                    <a:lnTo>
                      <a:pt x="55" y="113"/>
                    </a:lnTo>
                    <a:lnTo>
                      <a:pt x="36" y="174"/>
                    </a:lnTo>
                    <a:lnTo>
                      <a:pt x="23" y="236"/>
                    </a:lnTo>
                    <a:lnTo>
                      <a:pt x="12" y="301"/>
                    </a:lnTo>
                    <a:lnTo>
                      <a:pt x="4" y="368"/>
                    </a:lnTo>
                    <a:lnTo>
                      <a:pt x="0" y="433"/>
                    </a:lnTo>
                    <a:lnTo>
                      <a:pt x="0" y="499"/>
                    </a:lnTo>
                    <a:lnTo>
                      <a:pt x="29" y="499"/>
                    </a:lnTo>
                    <a:lnTo>
                      <a:pt x="57" y="499"/>
                    </a:lnTo>
                    <a:lnTo>
                      <a:pt x="86" y="499"/>
                    </a:lnTo>
                    <a:lnTo>
                      <a:pt x="115" y="499"/>
                    </a:lnTo>
                    <a:lnTo>
                      <a:pt x="141" y="499"/>
                    </a:lnTo>
                    <a:lnTo>
                      <a:pt x="170" y="499"/>
                    </a:lnTo>
                    <a:lnTo>
                      <a:pt x="198" y="499"/>
                    </a:lnTo>
                    <a:lnTo>
                      <a:pt x="227" y="499"/>
                    </a:lnTo>
                    <a:lnTo>
                      <a:pt x="231" y="434"/>
                    </a:lnTo>
                    <a:lnTo>
                      <a:pt x="236" y="372"/>
                    </a:lnTo>
                    <a:lnTo>
                      <a:pt x="244" y="313"/>
                    </a:lnTo>
                    <a:lnTo>
                      <a:pt x="253" y="254"/>
                    </a:lnTo>
                    <a:lnTo>
                      <a:pt x="263" y="198"/>
                    </a:lnTo>
                    <a:lnTo>
                      <a:pt x="272" y="143"/>
                    </a:lnTo>
                    <a:lnTo>
                      <a:pt x="284" y="90"/>
                    </a:lnTo>
                    <a:lnTo>
                      <a:pt x="297" y="37"/>
                    </a:lnTo>
                    <a:lnTo>
                      <a:pt x="272" y="31"/>
                    </a:lnTo>
                    <a:lnTo>
                      <a:pt x="248" y="27"/>
                    </a:lnTo>
                    <a:lnTo>
                      <a:pt x="223" y="21"/>
                    </a:lnTo>
                    <a:lnTo>
                      <a:pt x="198" y="17"/>
                    </a:lnTo>
                    <a:lnTo>
                      <a:pt x="172" y="14"/>
                    </a:lnTo>
                    <a:lnTo>
                      <a:pt x="147" y="10"/>
                    </a:lnTo>
                    <a:lnTo>
                      <a:pt x="122" y="4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715800" y="3816000"/>
                <a:ext cx="37800" cy="188280"/>
              </a:xfrm>
              <a:custGeom>
                <a:avLst/>
                <a:gdLst/>
                <a:ahLst/>
                <a:rect l="l" t="t" r="r" b="b"/>
                <a:pathLst>
                  <a:path w="148" h="537">
                    <a:moveTo>
                      <a:pt x="26" y="484"/>
                    </a:moveTo>
                    <a:lnTo>
                      <a:pt x="53" y="508"/>
                    </a:lnTo>
                    <a:lnTo>
                      <a:pt x="53" y="478"/>
                    </a:lnTo>
                    <a:lnTo>
                      <a:pt x="53" y="444"/>
                    </a:lnTo>
                    <a:lnTo>
                      <a:pt x="53" y="413"/>
                    </a:lnTo>
                    <a:lnTo>
                      <a:pt x="57" y="381"/>
                    </a:lnTo>
                    <a:lnTo>
                      <a:pt x="59" y="348"/>
                    </a:lnTo>
                    <a:lnTo>
                      <a:pt x="64" y="316"/>
                    </a:lnTo>
                    <a:lnTo>
                      <a:pt x="68" y="284"/>
                    </a:lnTo>
                    <a:lnTo>
                      <a:pt x="76" y="253"/>
                    </a:lnTo>
                    <a:lnTo>
                      <a:pt x="81" y="223"/>
                    </a:lnTo>
                    <a:lnTo>
                      <a:pt x="89" y="192"/>
                    </a:lnTo>
                    <a:lnTo>
                      <a:pt x="97" y="162"/>
                    </a:lnTo>
                    <a:lnTo>
                      <a:pt x="106" y="131"/>
                    </a:lnTo>
                    <a:lnTo>
                      <a:pt x="116" y="103"/>
                    </a:lnTo>
                    <a:lnTo>
                      <a:pt x="125" y="76"/>
                    </a:lnTo>
                    <a:lnTo>
                      <a:pt x="137" y="48"/>
                    </a:lnTo>
                    <a:lnTo>
                      <a:pt x="148" y="23"/>
                    </a:lnTo>
                    <a:lnTo>
                      <a:pt x="99" y="0"/>
                    </a:lnTo>
                    <a:lnTo>
                      <a:pt x="87" y="28"/>
                    </a:lnTo>
                    <a:lnTo>
                      <a:pt x="76" y="57"/>
                    </a:lnTo>
                    <a:lnTo>
                      <a:pt x="66" y="87"/>
                    </a:lnTo>
                    <a:lnTo>
                      <a:pt x="57" y="116"/>
                    </a:lnTo>
                    <a:lnTo>
                      <a:pt x="47" y="147"/>
                    </a:lnTo>
                    <a:lnTo>
                      <a:pt x="36" y="177"/>
                    </a:lnTo>
                    <a:lnTo>
                      <a:pt x="28" y="211"/>
                    </a:lnTo>
                    <a:lnTo>
                      <a:pt x="22" y="242"/>
                    </a:lnTo>
                    <a:lnTo>
                      <a:pt x="15" y="276"/>
                    </a:lnTo>
                    <a:lnTo>
                      <a:pt x="11" y="308"/>
                    </a:lnTo>
                    <a:lnTo>
                      <a:pt x="5" y="341"/>
                    </a:lnTo>
                    <a:lnTo>
                      <a:pt x="3" y="377"/>
                    </a:lnTo>
                    <a:lnTo>
                      <a:pt x="0" y="409"/>
                    </a:lnTo>
                    <a:lnTo>
                      <a:pt x="0" y="444"/>
                    </a:lnTo>
                    <a:lnTo>
                      <a:pt x="0" y="478"/>
                    </a:lnTo>
                    <a:lnTo>
                      <a:pt x="0" y="512"/>
                    </a:lnTo>
                    <a:lnTo>
                      <a:pt x="26" y="53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6723000" y="3985920"/>
                <a:ext cx="63720" cy="18000"/>
              </a:xfrm>
              <a:custGeom>
                <a:avLst/>
                <a:gdLst/>
                <a:ahLst/>
                <a:rect l="l" t="t" r="r" b="b"/>
                <a:pathLst>
                  <a:path w="253" h="53">
                    <a:moveTo>
                      <a:pt x="200" y="24"/>
                    </a:moveTo>
                    <a:lnTo>
                      <a:pt x="227" y="0"/>
                    </a:lnTo>
                    <a:lnTo>
                      <a:pt x="198" y="0"/>
                    </a:lnTo>
                    <a:lnTo>
                      <a:pt x="170" y="0"/>
                    </a:lnTo>
                    <a:lnTo>
                      <a:pt x="141" y="0"/>
                    </a:lnTo>
                    <a:lnTo>
                      <a:pt x="115" y="0"/>
                    </a:lnTo>
                    <a:lnTo>
                      <a:pt x="86" y="0"/>
                    </a:lnTo>
                    <a:lnTo>
                      <a:pt x="57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29" y="53"/>
                    </a:lnTo>
                    <a:lnTo>
                      <a:pt x="57" y="53"/>
                    </a:lnTo>
                    <a:lnTo>
                      <a:pt x="86" y="53"/>
                    </a:lnTo>
                    <a:lnTo>
                      <a:pt x="115" y="53"/>
                    </a:lnTo>
                    <a:lnTo>
                      <a:pt x="141" y="53"/>
                    </a:lnTo>
                    <a:lnTo>
                      <a:pt x="170" y="53"/>
                    </a:lnTo>
                    <a:lnTo>
                      <a:pt x="198" y="53"/>
                    </a:lnTo>
                    <a:lnTo>
                      <a:pt x="227" y="53"/>
                    </a:lnTo>
                    <a:lnTo>
                      <a:pt x="253" y="28"/>
                    </a:lnTo>
                    <a:lnTo>
                      <a:pt x="20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6773760" y="3822840"/>
                <a:ext cx="30960" cy="172800"/>
              </a:xfrm>
              <a:custGeom>
                <a:avLst/>
                <a:gdLst/>
                <a:ahLst/>
                <a:rect l="l" t="t" r="r" b="b"/>
                <a:pathLst>
                  <a:path w="124" h="491">
                    <a:moveTo>
                      <a:pt x="92" y="53"/>
                    </a:moveTo>
                    <a:lnTo>
                      <a:pt x="71" y="21"/>
                    </a:lnTo>
                    <a:lnTo>
                      <a:pt x="65" y="47"/>
                    </a:lnTo>
                    <a:lnTo>
                      <a:pt x="57" y="74"/>
                    </a:lnTo>
                    <a:lnTo>
                      <a:pt x="52" y="101"/>
                    </a:lnTo>
                    <a:lnTo>
                      <a:pt x="46" y="127"/>
                    </a:lnTo>
                    <a:lnTo>
                      <a:pt x="40" y="156"/>
                    </a:lnTo>
                    <a:lnTo>
                      <a:pt x="36" y="185"/>
                    </a:lnTo>
                    <a:lnTo>
                      <a:pt x="31" y="211"/>
                    </a:lnTo>
                    <a:lnTo>
                      <a:pt x="27" y="240"/>
                    </a:lnTo>
                    <a:lnTo>
                      <a:pt x="21" y="270"/>
                    </a:lnTo>
                    <a:lnTo>
                      <a:pt x="17" y="299"/>
                    </a:lnTo>
                    <a:lnTo>
                      <a:pt x="13" y="329"/>
                    </a:lnTo>
                    <a:lnTo>
                      <a:pt x="10" y="360"/>
                    </a:lnTo>
                    <a:lnTo>
                      <a:pt x="8" y="392"/>
                    </a:lnTo>
                    <a:lnTo>
                      <a:pt x="4" y="423"/>
                    </a:lnTo>
                    <a:lnTo>
                      <a:pt x="2" y="455"/>
                    </a:lnTo>
                    <a:lnTo>
                      <a:pt x="0" y="487"/>
                    </a:lnTo>
                    <a:lnTo>
                      <a:pt x="53" y="491"/>
                    </a:lnTo>
                    <a:lnTo>
                      <a:pt x="55" y="459"/>
                    </a:lnTo>
                    <a:lnTo>
                      <a:pt x="57" y="426"/>
                    </a:lnTo>
                    <a:lnTo>
                      <a:pt x="61" y="396"/>
                    </a:lnTo>
                    <a:lnTo>
                      <a:pt x="63" y="364"/>
                    </a:lnTo>
                    <a:lnTo>
                      <a:pt x="67" y="337"/>
                    </a:lnTo>
                    <a:lnTo>
                      <a:pt x="71" y="306"/>
                    </a:lnTo>
                    <a:lnTo>
                      <a:pt x="74" y="278"/>
                    </a:lnTo>
                    <a:lnTo>
                      <a:pt x="80" y="247"/>
                    </a:lnTo>
                    <a:lnTo>
                      <a:pt x="84" y="219"/>
                    </a:lnTo>
                    <a:lnTo>
                      <a:pt x="90" y="192"/>
                    </a:lnTo>
                    <a:lnTo>
                      <a:pt x="93" y="164"/>
                    </a:lnTo>
                    <a:lnTo>
                      <a:pt x="99" y="139"/>
                    </a:lnTo>
                    <a:lnTo>
                      <a:pt x="105" y="112"/>
                    </a:lnTo>
                    <a:lnTo>
                      <a:pt x="111" y="86"/>
                    </a:lnTo>
                    <a:lnTo>
                      <a:pt x="118" y="59"/>
                    </a:lnTo>
                    <a:lnTo>
                      <a:pt x="124" y="32"/>
                    </a:lnTo>
                    <a:lnTo>
                      <a:pt x="103" y="0"/>
                    </a:lnTo>
                    <a:lnTo>
                      <a:pt x="9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741360" y="381024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230" h="89">
                    <a:moveTo>
                      <a:pt x="49" y="38"/>
                    </a:moveTo>
                    <a:lnTo>
                      <a:pt x="21" y="53"/>
                    </a:lnTo>
                    <a:lnTo>
                      <a:pt x="43" y="57"/>
                    </a:lnTo>
                    <a:lnTo>
                      <a:pt x="68" y="63"/>
                    </a:lnTo>
                    <a:lnTo>
                      <a:pt x="95" y="66"/>
                    </a:lnTo>
                    <a:lnTo>
                      <a:pt x="121" y="70"/>
                    </a:lnTo>
                    <a:lnTo>
                      <a:pt x="144" y="74"/>
                    </a:lnTo>
                    <a:lnTo>
                      <a:pt x="169" y="80"/>
                    </a:lnTo>
                    <a:lnTo>
                      <a:pt x="194" y="83"/>
                    </a:lnTo>
                    <a:lnTo>
                      <a:pt x="219" y="89"/>
                    </a:lnTo>
                    <a:lnTo>
                      <a:pt x="230" y="36"/>
                    </a:lnTo>
                    <a:lnTo>
                      <a:pt x="205" y="30"/>
                    </a:lnTo>
                    <a:lnTo>
                      <a:pt x="180" y="26"/>
                    </a:lnTo>
                    <a:lnTo>
                      <a:pt x="156" y="21"/>
                    </a:lnTo>
                    <a:lnTo>
                      <a:pt x="129" y="17"/>
                    </a:lnTo>
                    <a:lnTo>
                      <a:pt x="102" y="13"/>
                    </a:lnTo>
                    <a:lnTo>
                      <a:pt x="80" y="9"/>
                    </a:lnTo>
                    <a:lnTo>
                      <a:pt x="55" y="3"/>
                    </a:lnTo>
                    <a:lnTo>
                      <a:pt x="28" y="0"/>
                    </a:lnTo>
                    <a:lnTo>
                      <a:pt x="0" y="15"/>
                    </a:lnTo>
                    <a:lnTo>
                      <a:pt x="4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6804720" y="387576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8" y="0"/>
                    </a:moveTo>
                    <a:lnTo>
                      <a:pt x="17" y="2"/>
                    </a:lnTo>
                    <a:lnTo>
                      <a:pt x="7" y="6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4" y="42"/>
                    </a:lnTo>
                    <a:lnTo>
                      <a:pt x="9" y="50"/>
                    </a:lnTo>
                    <a:lnTo>
                      <a:pt x="21" y="5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810480" y="3875760"/>
                <a:ext cx="61920" cy="29880"/>
              </a:xfrm>
              <a:custGeom>
                <a:avLst/>
                <a:gdLst/>
                <a:ahLst/>
                <a:rect l="l" t="t" r="r" b="b"/>
                <a:pathLst>
                  <a:path w="243" h="88">
                    <a:moveTo>
                      <a:pt x="243" y="35"/>
                    </a:moveTo>
                    <a:lnTo>
                      <a:pt x="213" y="31"/>
                    </a:lnTo>
                    <a:lnTo>
                      <a:pt x="184" y="25"/>
                    </a:lnTo>
                    <a:lnTo>
                      <a:pt x="154" y="21"/>
                    </a:lnTo>
                    <a:lnTo>
                      <a:pt x="125" y="18"/>
                    </a:lnTo>
                    <a:lnTo>
                      <a:pt x="95" y="14"/>
                    </a:lnTo>
                    <a:lnTo>
                      <a:pt x="66" y="8"/>
                    </a:lnTo>
                    <a:lnTo>
                      <a:pt x="36" y="4"/>
                    </a:lnTo>
                    <a:lnTo>
                      <a:pt x="7" y="0"/>
                    </a:lnTo>
                    <a:lnTo>
                      <a:pt x="0" y="54"/>
                    </a:lnTo>
                    <a:lnTo>
                      <a:pt x="28" y="57"/>
                    </a:lnTo>
                    <a:lnTo>
                      <a:pt x="59" y="61"/>
                    </a:lnTo>
                    <a:lnTo>
                      <a:pt x="87" y="67"/>
                    </a:lnTo>
                    <a:lnTo>
                      <a:pt x="118" y="71"/>
                    </a:lnTo>
                    <a:lnTo>
                      <a:pt x="146" y="75"/>
                    </a:lnTo>
                    <a:lnTo>
                      <a:pt x="177" y="78"/>
                    </a:lnTo>
                    <a:lnTo>
                      <a:pt x="205" y="84"/>
                    </a:lnTo>
                    <a:lnTo>
                      <a:pt x="236" y="88"/>
                    </a:lnTo>
                    <a:lnTo>
                      <a:pt x="24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6810480" y="387576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54"/>
                    </a:moveTo>
                    <a:lnTo>
                      <a:pt x="11" y="52"/>
                    </a:lnTo>
                    <a:lnTo>
                      <a:pt x="21" y="48"/>
                    </a:lnTo>
                    <a:lnTo>
                      <a:pt x="26" y="40"/>
                    </a:lnTo>
                    <a:lnTo>
                      <a:pt x="30" y="29"/>
                    </a:lnTo>
                    <a:lnTo>
                      <a:pt x="28" y="19"/>
                    </a:lnTo>
                    <a:lnTo>
                      <a:pt x="26" y="10"/>
                    </a:lnTo>
                    <a:lnTo>
                      <a:pt x="19" y="4"/>
                    </a:lnTo>
                    <a:lnTo>
                      <a:pt x="7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6814440" y="3931200"/>
                <a:ext cx="5760" cy="18000"/>
              </a:xfrm>
              <a:custGeom>
                <a:avLst/>
                <a:gdLst/>
                <a:ahLst/>
                <a:rect l="l" t="t" r="r" b="b"/>
                <a:pathLst>
                  <a:path w="25" h="54">
                    <a:moveTo>
                      <a:pt x="25" y="0"/>
                    </a:moveTo>
                    <a:lnTo>
                      <a:pt x="6" y="8"/>
                    </a:lnTo>
                    <a:lnTo>
                      <a:pt x="0" y="27"/>
                    </a:lnTo>
                    <a:lnTo>
                      <a:pt x="6" y="46"/>
                    </a:lnTo>
                    <a:lnTo>
                      <a:pt x="25" y="5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6820560" y="3927600"/>
                <a:ext cx="51120" cy="21600"/>
              </a:xfrm>
              <a:custGeom>
                <a:avLst/>
                <a:gdLst/>
                <a:ahLst/>
                <a:rect l="l" t="t" r="r" b="b"/>
                <a:pathLst>
                  <a:path w="202" h="63">
                    <a:moveTo>
                      <a:pt x="198" y="0"/>
                    </a:moveTo>
                    <a:lnTo>
                      <a:pt x="175" y="2"/>
                    </a:lnTo>
                    <a:lnTo>
                      <a:pt x="150" y="2"/>
                    </a:lnTo>
                    <a:lnTo>
                      <a:pt x="123" y="4"/>
                    </a:lnTo>
                    <a:lnTo>
                      <a:pt x="99" y="6"/>
                    </a:lnTo>
                    <a:lnTo>
                      <a:pt x="74" y="8"/>
                    </a:lnTo>
                    <a:lnTo>
                      <a:pt x="49" y="8"/>
                    </a:lnTo>
                    <a:lnTo>
                      <a:pt x="25" y="9"/>
                    </a:lnTo>
                    <a:lnTo>
                      <a:pt x="0" y="9"/>
                    </a:lnTo>
                    <a:lnTo>
                      <a:pt x="0" y="63"/>
                    </a:lnTo>
                    <a:lnTo>
                      <a:pt x="25" y="63"/>
                    </a:lnTo>
                    <a:lnTo>
                      <a:pt x="49" y="61"/>
                    </a:lnTo>
                    <a:lnTo>
                      <a:pt x="74" y="61"/>
                    </a:lnTo>
                    <a:lnTo>
                      <a:pt x="103" y="59"/>
                    </a:lnTo>
                    <a:lnTo>
                      <a:pt x="127" y="57"/>
                    </a:lnTo>
                    <a:lnTo>
                      <a:pt x="150" y="55"/>
                    </a:lnTo>
                    <a:lnTo>
                      <a:pt x="175" y="55"/>
                    </a:lnTo>
                    <a:lnTo>
                      <a:pt x="202" y="53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820200" y="3931200"/>
                <a:ext cx="6840" cy="1800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4" y="54"/>
                    </a:moveTo>
                    <a:lnTo>
                      <a:pt x="23" y="44"/>
                    </a:lnTo>
                    <a:lnTo>
                      <a:pt x="28" y="25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6982200" y="3742920"/>
                <a:ext cx="108360" cy="188280"/>
              </a:xfrm>
              <a:custGeom>
                <a:avLst/>
                <a:gdLst/>
                <a:ahLst/>
                <a:rect l="l" t="t" r="r" b="b"/>
                <a:pathLst>
                  <a:path w="429" h="535">
                    <a:moveTo>
                      <a:pt x="0" y="149"/>
                    </a:moveTo>
                    <a:lnTo>
                      <a:pt x="14" y="208"/>
                    </a:lnTo>
                    <a:lnTo>
                      <a:pt x="39" y="259"/>
                    </a:lnTo>
                    <a:lnTo>
                      <a:pt x="75" y="301"/>
                    </a:lnTo>
                    <a:lnTo>
                      <a:pt x="113" y="341"/>
                    </a:lnTo>
                    <a:lnTo>
                      <a:pt x="149" y="383"/>
                    </a:lnTo>
                    <a:lnTo>
                      <a:pt x="179" y="425"/>
                    </a:lnTo>
                    <a:lnTo>
                      <a:pt x="195" y="476"/>
                    </a:lnTo>
                    <a:lnTo>
                      <a:pt x="193" y="535"/>
                    </a:lnTo>
                    <a:lnTo>
                      <a:pt x="221" y="516"/>
                    </a:lnTo>
                    <a:lnTo>
                      <a:pt x="252" y="497"/>
                    </a:lnTo>
                    <a:lnTo>
                      <a:pt x="280" y="480"/>
                    </a:lnTo>
                    <a:lnTo>
                      <a:pt x="311" y="461"/>
                    </a:lnTo>
                    <a:lnTo>
                      <a:pt x="339" y="442"/>
                    </a:lnTo>
                    <a:lnTo>
                      <a:pt x="370" y="423"/>
                    </a:lnTo>
                    <a:lnTo>
                      <a:pt x="398" y="406"/>
                    </a:lnTo>
                    <a:lnTo>
                      <a:pt x="429" y="387"/>
                    </a:lnTo>
                    <a:lnTo>
                      <a:pt x="419" y="330"/>
                    </a:lnTo>
                    <a:lnTo>
                      <a:pt x="394" y="280"/>
                    </a:lnTo>
                    <a:lnTo>
                      <a:pt x="358" y="236"/>
                    </a:lnTo>
                    <a:lnTo>
                      <a:pt x="316" y="196"/>
                    </a:lnTo>
                    <a:lnTo>
                      <a:pt x="273" y="155"/>
                    </a:lnTo>
                    <a:lnTo>
                      <a:pt x="233" y="111"/>
                    </a:lnTo>
                    <a:lnTo>
                      <a:pt x="202" y="61"/>
                    </a:lnTo>
                    <a:lnTo>
                      <a:pt x="185" y="0"/>
                    </a:lnTo>
                    <a:lnTo>
                      <a:pt x="162" y="19"/>
                    </a:lnTo>
                    <a:lnTo>
                      <a:pt x="138" y="37"/>
                    </a:lnTo>
                    <a:lnTo>
                      <a:pt x="115" y="56"/>
                    </a:lnTo>
                    <a:lnTo>
                      <a:pt x="92" y="75"/>
                    </a:lnTo>
                    <a:lnTo>
                      <a:pt x="69" y="94"/>
                    </a:lnTo>
                    <a:lnTo>
                      <a:pt x="46" y="111"/>
                    </a:lnTo>
                    <a:lnTo>
                      <a:pt x="23" y="13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4d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975000" y="3794040"/>
                <a:ext cx="63360" cy="144360"/>
              </a:xfrm>
              <a:custGeom>
                <a:avLst/>
                <a:gdLst/>
                <a:ahLst/>
                <a:rect l="l" t="t" r="r" b="b"/>
                <a:pathLst>
                  <a:path w="249" h="411">
                    <a:moveTo>
                      <a:pt x="205" y="366"/>
                    </a:moveTo>
                    <a:lnTo>
                      <a:pt x="245" y="394"/>
                    </a:lnTo>
                    <a:lnTo>
                      <a:pt x="249" y="358"/>
                    </a:lnTo>
                    <a:lnTo>
                      <a:pt x="247" y="326"/>
                    </a:lnTo>
                    <a:lnTo>
                      <a:pt x="240" y="295"/>
                    </a:lnTo>
                    <a:lnTo>
                      <a:pt x="230" y="267"/>
                    </a:lnTo>
                    <a:lnTo>
                      <a:pt x="213" y="242"/>
                    </a:lnTo>
                    <a:lnTo>
                      <a:pt x="196" y="219"/>
                    </a:lnTo>
                    <a:lnTo>
                      <a:pt x="179" y="198"/>
                    </a:lnTo>
                    <a:lnTo>
                      <a:pt x="158" y="175"/>
                    </a:lnTo>
                    <a:lnTo>
                      <a:pt x="139" y="156"/>
                    </a:lnTo>
                    <a:lnTo>
                      <a:pt x="120" y="137"/>
                    </a:lnTo>
                    <a:lnTo>
                      <a:pt x="103" y="116"/>
                    </a:lnTo>
                    <a:lnTo>
                      <a:pt x="87" y="97"/>
                    </a:lnTo>
                    <a:lnTo>
                      <a:pt x="76" y="76"/>
                    </a:lnTo>
                    <a:lnTo>
                      <a:pt x="65" y="51"/>
                    </a:lnTo>
                    <a:lnTo>
                      <a:pt x="57" y="27"/>
                    </a:lnTo>
                    <a:lnTo>
                      <a:pt x="53" y="0"/>
                    </a:lnTo>
                    <a:lnTo>
                      <a:pt x="0" y="4"/>
                    </a:lnTo>
                    <a:lnTo>
                      <a:pt x="4" y="38"/>
                    </a:lnTo>
                    <a:lnTo>
                      <a:pt x="15" y="70"/>
                    </a:lnTo>
                    <a:lnTo>
                      <a:pt x="26" y="99"/>
                    </a:lnTo>
                    <a:lnTo>
                      <a:pt x="42" y="128"/>
                    </a:lnTo>
                    <a:lnTo>
                      <a:pt x="61" y="150"/>
                    </a:lnTo>
                    <a:lnTo>
                      <a:pt x="82" y="171"/>
                    </a:lnTo>
                    <a:lnTo>
                      <a:pt x="101" y="194"/>
                    </a:lnTo>
                    <a:lnTo>
                      <a:pt x="120" y="213"/>
                    </a:lnTo>
                    <a:lnTo>
                      <a:pt x="137" y="232"/>
                    </a:lnTo>
                    <a:lnTo>
                      <a:pt x="154" y="253"/>
                    </a:lnTo>
                    <a:lnTo>
                      <a:pt x="171" y="272"/>
                    </a:lnTo>
                    <a:lnTo>
                      <a:pt x="181" y="289"/>
                    </a:lnTo>
                    <a:lnTo>
                      <a:pt x="190" y="310"/>
                    </a:lnTo>
                    <a:lnTo>
                      <a:pt x="194" y="333"/>
                    </a:lnTo>
                    <a:lnTo>
                      <a:pt x="196" y="358"/>
                    </a:lnTo>
                    <a:lnTo>
                      <a:pt x="192" y="383"/>
                    </a:lnTo>
                    <a:lnTo>
                      <a:pt x="232" y="411"/>
                    </a:lnTo>
                    <a:lnTo>
                      <a:pt x="205" y="3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7027200" y="3870720"/>
                <a:ext cx="69840" cy="67680"/>
              </a:xfrm>
              <a:custGeom>
                <a:avLst/>
                <a:gdLst/>
                <a:ahLst/>
                <a:rect l="l" t="t" r="r" b="b"/>
                <a:pathLst>
                  <a:path w="276" h="194">
                    <a:moveTo>
                      <a:pt x="223" y="23"/>
                    </a:moveTo>
                    <a:lnTo>
                      <a:pt x="236" y="0"/>
                    </a:lnTo>
                    <a:lnTo>
                      <a:pt x="206" y="19"/>
                    </a:lnTo>
                    <a:lnTo>
                      <a:pt x="177" y="36"/>
                    </a:lnTo>
                    <a:lnTo>
                      <a:pt x="145" y="55"/>
                    </a:lnTo>
                    <a:lnTo>
                      <a:pt x="117" y="74"/>
                    </a:lnTo>
                    <a:lnTo>
                      <a:pt x="88" y="93"/>
                    </a:lnTo>
                    <a:lnTo>
                      <a:pt x="59" y="110"/>
                    </a:lnTo>
                    <a:lnTo>
                      <a:pt x="27" y="130"/>
                    </a:lnTo>
                    <a:lnTo>
                      <a:pt x="0" y="149"/>
                    </a:lnTo>
                    <a:lnTo>
                      <a:pt x="27" y="194"/>
                    </a:lnTo>
                    <a:lnTo>
                      <a:pt x="58" y="175"/>
                    </a:lnTo>
                    <a:lnTo>
                      <a:pt x="86" y="156"/>
                    </a:lnTo>
                    <a:lnTo>
                      <a:pt x="115" y="139"/>
                    </a:lnTo>
                    <a:lnTo>
                      <a:pt x="147" y="120"/>
                    </a:lnTo>
                    <a:lnTo>
                      <a:pt x="176" y="101"/>
                    </a:lnTo>
                    <a:lnTo>
                      <a:pt x="204" y="82"/>
                    </a:lnTo>
                    <a:lnTo>
                      <a:pt x="233" y="65"/>
                    </a:lnTo>
                    <a:lnTo>
                      <a:pt x="263" y="46"/>
                    </a:lnTo>
                    <a:lnTo>
                      <a:pt x="276" y="23"/>
                    </a:lnTo>
                    <a:lnTo>
                      <a:pt x="2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7022160" y="3735720"/>
                <a:ext cx="74880" cy="142560"/>
              </a:xfrm>
              <a:custGeom>
                <a:avLst/>
                <a:gdLst/>
                <a:ahLst/>
                <a:rect l="l" t="t" r="r" b="b"/>
                <a:pathLst>
                  <a:path w="297" h="408">
                    <a:moveTo>
                      <a:pt x="44" y="42"/>
                    </a:moveTo>
                    <a:lnTo>
                      <a:pt x="0" y="25"/>
                    </a:lnTo>
                    <a:lnTo>
                      <a:pt x="10" y="59"/>
                    </a:lnTo>
                    <a:lnTo>
                      <a:pt x="20" y="94"/>
                    </a:lnTo>
                    <a:lnTo>
                      <a:pt x="37" y="120"/>
                    </a:lnTo>
                    <a:lnTo>
                      <a:pt x="54" y="147"/>
                    </a:lnTo>
                    <a:lnTo>
                      <a:pt x="75" y="172"/>
                    </a:lnTo>
                    <a:lnTo>
                      <a:pt x="96" y="195"/>
                    </a:lnTo>
                    <a:lnTo>
                      <a:pt x="117" y="216"/>
                    </a:lnTo>
                    <a:lnTo>
                      <a:pt x="139" y="237"/>
                    </a:lnTo>
                    <a:lnTo>
                      <a:pt x="160" y="257"/>
                    </a:lnTo>
                    <a:lnTo>
                      <a:pt x="181" y="277"/>
                    </a:lnTo>
                    <a:lnTo>
                      <a:pt x="198" y="296"/>
                    </a:lnTo>
                    <a:lnTo>
                      <a:pt x="214" y="316"/>
                    </a:lnTo>
                    <a:lnTo>
                      <a:pt x="225" y="336"/>
                    </a:lnTo>
                    <a:lnTo>
                      <a:pt x="236" y="360"/>
                    </a:lnTo>
                    <a:lnTo>
                      <a:pt x="242" y="381"/>
                    </a:lnTo>
                    <a:lnTo>
                      <a:pt x="244" y="408"/>
                    </a:lnTo>
                    <a:lnTo>
                      <a:pt x="297" y="408"/>
                    </a:lnTo>
                    <a:lnTo>
                      <a:pt x="295" y="374"/>
                    </a:lnTo>
                    <a:lnTo>
                      <a:pt x="286" y="341"/>
                    </a:lnTo>
                    <a:lnTo>
                      <a:pt x="275" y="313"/>
                    </a:lnTo>
                    <a:lnTo>
                      <a:pt x="259" y="286"/>
                    </a:lnTo>
                    <a:lnTo>
                      <a:pt x="240" y="261"/>
                    </a:lnTo>
                    <a:lnTo>
                      <a:pt x="219" y="238"/>
                    </a:lnTo>
                    <a:lnTo>
                      <a:pt x="198" y="219"/>
                    </a:lnTo>
                    <a:lnTo>
                      <a:pt x="177" y="198"/>
                    </a:lnTo>
                    <a:lnTo>
                      <a:pt x="155" y="177"/>
                    </a:lnTo>
                    <a:lnTo>
                      <a:pt x="134" y="157"/>
                    </a:lnTo>
                    <a:lnTo>
                      <a:pt x="113" y="138"/>
                    </a:lnTo>
                    <a:lnTo>
                      <a:pt x="96" y="117"/>
                    </a:lnTo>
                    <a:lnTo>
                      <a:pt x="82" y="94"/>
                    </a:lnTo>
                    <a:lnTo>
                      <a:pt x="69" y="71"/>
                    </a:lnTo>
                    <a:lnTo>
                      <a:pt x="59" y="44"/>
                    </a:lnTo>
                    <a:lnTo>
                      <a:pt x="54" y="18"/>
                    </a:lnTo>
                    <a:lnTo>
                      <a:pt x="10" y="0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975000" y="3735720"/>
                <a:ext cx="58320" cy="66600"/>
              </a:xfrm>
              <a:custGeom>
                <a:avLst/>
                <a:gdLst/>
                <a:ahLst/>
                <a:rect l="l" t="t" r="r" b="b"/>
                <a:pathLst>
                  <a:path w="228" h="191">
                    <a:moveTo>
                      <a:pt x="53" y="168"/>
                    </a:moveTo>
                    <a:lnTo>
                      <a:pt x="44" y="191"/>
                    </a:lnTo>
                    <a:lnTo>
                      <a:pt x="66" y="172"/>
                    </a:lnTo>
                    <a:lnTo>
                      <a:pt x="89" y="153"/>
                    </a:lnTo>
                    <a:lnTo>
                      <a:pt x="112" y="136"/>
                    </a:lnTo>
                    <a:lnTo>
                      <a:pt x="135" y="117"/>
                    </a:lnTo>
                    <a:lnTo>
                      <a:pt x="158" y="98"/>
                    </a:lnTo>
                    <a:lnTo>
                      <a:pt x="179" y="78"/>
                    </a:lnTo>
                    <a:lnTo>
                      <a:pt x="204" y="61"/>
                    </a:lnTo>
                    <a:lnTo>
                      <a:pt x="228" y="42"/>
                    </a:lnTo>
                    <a:lnTo>
                      <a:pt x="194" y="0"/>
                    </a:lnTo>
                    <a:lnTo>
                      <a:pt x="173" y="19"/>
                    </a:lnTo>
                    <a:lnTo>
                      <a:pt x="148" y="37"/>
                    </a:lnTo>
                    <a:lnTo>
                      <a:pt x="124" y="56"/>
                    </a:lnTo>
                    <a:lnTo>
                      <a:pt x="101" y="75"/>
                    </a:lnTo>
                    <a:lnTo>
                      <a:pt x="78" y="94"/>
                    </a:lnTo>
                    <a:lnTo>
                      <a:pt x="55" y="111"/>
                    </a:lnTo>
                    <a:lnTo>
                      <a:pt x="32" y="130"/>
                    </a:lnTo>
                    <a:lnTo>
                      <a:pt x="9" y="149"/>
                    </a:lnTo>
                    <a:lnTo>
                      <a:pt x="0" y="172"/>
                    </a:lnTo>
                    <a:lnTo>
                      <a:pt x="53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996600" y="383760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2" y="53"/>
                    </a:moveTo>
                    <a:lnTo>
                      <a:pt x="32" y="45"/>
                    </a:lnTo>
                    <a:lnTo>
                      <a:pt x="38" y="36"/>
                    </a:lnTo>
                    <a:lnTo>
                      <a:pt x="38" y="26"/>
                    </a:lnTo>
                    <a:lnTo>
                      <a:pt x="36" y="17"/>
                    </a:lnTo>
                    <a:lnTo>
                      <a:pt x="30" y="9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4"/>
                    </a:lnTo>
                    <a:lnTo>
                      <a:pt x="2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963840" y="3839040"/>
                <a:ext cx="38880" cy="38520"/>
              </a:xfrm>
              <a:custGeom>
                <a:avLst/>
                <a:gdLst/>
                <a:ahLst/>
                <a:rect l="l" t="t" r="r" b="b"/>
                <a:pathLst>
                  <a:path w="154" h="110">
                    <a:moveTo>
                      <a:pt x="23" y="110"/>
                    </a:moveTo>
                    <a:lnTo>
                      <a:pt x="40" y="102"/>
                    </a:lnTo>
                    <a:lnTo>
                      <a:pt x="55" y="95"/>
                    </a:lnTo>
                    <a:lnTo>
                      <a:pt x="72" y="87"/>
                    </a:lnTo>
                    <a:lnTo>
                      <a:pt x="90" y="80"/>
                    </a:lnTo>
                    <a:lnTo>
                      <a:pt x="105" y="72"/>
                    </a:lnTo>
                    <a:lnTo>
                      <a:pt x="122" y="64"/>
                    </a:lnTo>
                    <a:lnTo>
                      <a:pt x="137" y="57"/>
                    </a:lnTo>
                    <a:lnTo>
                      <a:pt x="154" y="49"/>
                    </a:lnTo>
                    <a:lnTo>
                      <a:pt x="132" y="0"/>
                    </a:lnTo>
                    <a:lnTo>
                      <a:pt x="114" y="7"/>
                    </a:lnTo>
                    <a:lnTo>
                      <a:pt x="99" y="15"/>
                    </a:lnTo>
                    <a:lnTo>
                      <a:pt x="82" y="22"/>
                    </a:lnTo>
                    <a:lnTo>
                      <a:pt x="67" y="30"/>
                    </a:lnTo>
                    <a:lnTo>
                      <a:pt x="50" y="38"/>
                    </a:lnTo>
                    <a:lnTo>
                      <a:pt x="33" y="45"/>
                    </a:lnTo>
                    <a:lnTo>
                      <a:pt x="17" y="53"/>
                    </a:lnTo>
                    <a:lnTo>
                      <a:pt x="0" y="60"/>
                    </a:lnTo>
                    <a:lnTo>
                      <a:pt x="2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993360" y="38390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16" y="0"/>
                    </a:moveTo>
                    <a:lnTo>
                      <a:pt x="6" y="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3"/>
                    </a:lnTo>
                    <a:lnTo>
                      <a:pt x="17" y="49"/>
                    </a:lnTo>
                    <a:lnTo>
                      <a:pt x="27" y="53"/>
                    </a:lnTo>
                    <a:lnTo>
                      <a:pt x="38" y="4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012440" y="3862080"/>
                <a:ext cx="9360" cy="18000"/>
              </a:xfrm>
              <a:custGeom>
                <a:avLst/>
                <a:gdLst/>
                <a:ahLst/>
                <a:rect l="l" t="t" r="r" b="b"/>
                <a:pathLst>
                  <a:path w="38" h="54">
                    <a:moveTo>
                      <a:pt x="23" y="54"/>
                    </a:moveTo>
                    <a:lnTo>
                      <a:pt x="33" y="46"/>
                    </a:lnTo>
                    <a:lnTo>
                      <a:pt x="38" y="36"/>
                    </a:lnTo>
                    <a:lnTo>
                      <a:pt x="38" y="27"/>
                    </a:lnTo>
                    <a:lnTo>
                      <a:pt x="37" y="17"/>
                    </a:lnTo>
                    <a:lnTo>
                      <a:pt x="31" y="10"/>
                    </a:lnTo>
                    <a:lnTo>
                      <a:pt x="21" y="4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6970320" y="3863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188" h="130">
                    <a:moveTo>
                      <a:pt x="23" y="130"/>
                    </a:moveTo>
                    <a:lnTo>
                      <a:pt x="44" y="118"/>
                    </a:lnTo>
                    <a:lnTo>
                      <a:pt x="65" y="107"/>
                    </a:lnTo>
                    <a:lnTo>
                      <a:pt x="85" y="99"/>
                    </a:lnTo>
                    <a:lnTo>
                      <a:pt x="106" y="90"/>
                    </a:lnTo>
                    <a:lnTo>
                      <a:pt x="125" y="78"/>
                    </a:lnTo>
                    <a:lnTo>
                      <a:pt x="146" y="67"/>
                    </a:lnTo>
                    <a:lnTo>
                      <a:pt x="167" y="59"/>
                    </a:lnTo>
                    <a:lnTo>
                      <a:pt x="188" y="50"/>
                    </a:lnTo>
                    <a:lnTo>
                      <a:pt x="165" y="0"/>
                    </a:lnTo>
                    <a:lnTo>
                      <a:pt x="144" y="10"/>
                    </a:lnTo>
                    <a:lnTo>
                      <a:pt x="124" y="21"/>
                    </a:lnTo>
                    <a:lnTo>
                      <a:pt x="103" y="32"/>
                    </a:lnTo>
                    <a:lnTo>
                      <a:pt x="84" y="40"/>
                    </a:lnTo>
                    <a:lnTo>
                      <a:pt x="63" y="50"/>
                    </a:lnTo>
                    <a:lnTo>
                      <a:pt x="42" y="61"/>
                    </a:lnTo>
                    <a:lnTo>
                      <a:pt x="21" y="72"/>
                    </a:lnTo>
                    <a:lnTo>
                      <a:pt x="0" y="80"/>
                    </a:lnTo>
                    <a:lnTo>
                      <a:pt x="2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008480" y="3863520"/>
                <a:ext cx="9360" cy="1800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15" y="0"/>
                    </a:moveTo>
                    <a:lnTo>
                      <a:pt x="6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8" y="44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8" y="5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7083720" y="3619800"/>
                <a:ext cx="104040" cy="200160"/>
              </a:xfrm>
              <a:custGeom>
                <a:avLst/>
                <a:gdLst/>
                <a:ahLst/>
                <a:rect l="l" t="t" r="r" b="b"/>
                <a:pathLst>
                  <a:path w="411" h="569">
                    <a:moveTo>
                      <a:pt x="0" y="156"/>
                    </a:moveTo>
                    <a:lnTo>
                      <a:pt x="33" y="208"/>
                    </a:lnTo>
                    <a:lnTo>
                      <a:pt x="67" y="259"/>
                    </a:lnTo>
                    <a:lnTo>
                      <a:pt x="99" y="310"/>
                    </a:lnTo>
                    <a:lnTo>
                      <a:pt x="132" y="362"/>
                    </a:lnTo>
                    <a:lnTo>
                      <a:pt x="164" y="413"/>
                    </a:lnTo>
                    <a:lnTo>
                      <a:pt x="198" y="465"/>
                    </a:lnTo>
                    <a:lnTo>
                      <a:pt x="231" y="518"/>
                    </a:lnTo>
                    <a:lnTo>
                      <a:pt x="265" y="569"/>
                    </a:lnTo>
                    <a:lnTo>
                      <a:pt x="278" y="556"/>
                    </a:lnTo>
                    <a:lnTo>
                      <a:pt x="295" y="541"/>
                    </a:lnTo>
                    <a:lnTo>
                      <a:pt x="312" y="526"/>
                    </a:lnTo>
                    <a:lnTo>
                      <a:pt x="331" y="508"/>
                    </a:lnTo>
                    <a:lnTo>
                      <a:pt x="352" y="493"/>
                    </a:lnTo>
                    <a:lnTo>
                      <a:pt x="371" y="480"/>
                    </a:lnTo>
                    <a:lnTo>
                      <a:pt x="392" y="467"/>
                    </a:lnTo>
                    <a:lnTo>
                      <a:pt x="411" y="455"/>
                    </a:lnTo>
                    <a:lnTo>
                      <a:pt x="396" y="421"/>
                    </a:lnTo>
                    <a:lnTo>
                      <a:pt x="379" y="388"/>
                    </a:lnTo>
                    <a:lnTo>
                      <a:pt x="362" y="354"/>
                    </a:lnTo>
                    <a:lnTo>
                      <a:pt x="345" y="324"/>
                    </a:lnTo>
                    <a:lnTo>
                      <a:pt x="324" y="291"/>
                    </a:lnTo>
                    <a:lnTo>
                      <a:pt x="305" y="261"/>
                    </a:lnTo>
                    <a:lnTo>
                      <a:pt x="284" y="230"/>
                    </a:lnTo>
                    <a:lnTo>
                      <a:pt x="263" y="202"/>
                    </a:lnTo>
                    <a:lnTo>
                      <a:pt x="242" y="173"/>
                    </a:lnTo>
                    <a:lnTo>
                      <a:pt x="219" y="147"/>
                    </a:lnTo>
                    <a:lnTo>
                      <a:pt x="198" y="120"/>
                    </a:lnTo>
                    <a:lnTo>
                      <a:pt x="175" y="93"/>
                    </a:lnTo>
                    <a:lnTo>
                      <a:pt x="152" y="69"/>
                    </a:lnTo>
                    <a:lnTo>
                      <a:pt x="132" y="46"/>
                    </a:lnTo>
                    <a:lnTo>
                      <a:pt x="109" y="23"/>
                    </a:lnTo>
                    <a:lnTo>
                      <a:pt x="88" y="0"/>
                    </a:lnTo>
                    <a:lnTo>
                      <a:pt x="76" y="19"/>
                    </a:lnTo>
                    <a:lnTo>
                      <a:pt x="65" y="40"/>
                    </a:lnTo>
                    <a:lnTo>
                      <a:pt x="53" y="59"/>
                    </a:lnTo>
                    <a:lnTo>
                      <a:pt x="44" y="78"/>
                    </a:lnTo>
                    <a:lnTo>
                      <a:pt x="33" y="99"/>
                    </a:lnTo>
                    <a:lnTo>
                      <a:pt x="21" y="118"/>
                    </a:lnTo>
                    <a:lnTo>
                      <a:pt x="12" y="137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077600" y="3669120"/>
                <a:ext cx="78480" cy="157320"/>
              </a:xfrm>
              <a:custGeom>
                <a:avLst/>
                <a:gdLst/>
                <a:ahLst/>
                <a:rect l="l" t="t" r="r" b="b"/>
                <a:pathLst>
                  <a:path w="311" h="447">
                    <a:moveTo>
                      <a:pt x="269" y="409"/>
                    </a:moveTo>
                    <a:lnTo>
                      <a:pt x="311" y="413"/>
                    </a:lnTo>
                    <a:lnTo>
                      <a:pt x="293" y="386"/>
                    </a:lnTo>
                    <a:lnTo>
                      <a:pt x="276" y="362"/>
                    </a:lnTo>
                    <a:lnTo>
                      <a:pt x="259" y="337"/>
                    </a:lnTo>
                    <a:lnTo>
                      <a:pt x="244" y="310"/>
                    </a:lnTo>
                    <a:lnTo>
                      <a:pt x="227" y="284"/>
                    </a:lnTo>
                    <a:lnTo>
                      <a:pt x="210" y="259"/>
                    </a:lnTo>
                    <a:lnTo>
                      <a:pt x="195" y="234"/>
                    </a:lnTo>
                    <a:lnTo>
                      <a:pt x="177" y="207"/>
                    </a:lnTo>
                    <a:lnTo>
                      <a:pt x="162" y="183"/>
                    </a:lnTo>
                    <a:lnTo>
                      <a:pt x="145" y="154"/>
                    </a:lnTo>
                    <a:lnTo>
                      <a:pt x="128" y="131"/>
                    </a:lnTo>
                    <a:lnTo>
                      <a:pt x="113" y="105"/>
                    </a:lnTo>
                    <a:lnTo>
                      <a:pt x="96" y="78"/>
                    </a:lnTo>
                    <a:lnTo>
                      <a:pt x="78" y="53"/>
                    </a:lnTo>
                    <a:lnTo>
                      <a:pt x="63" y="28"/>
                    </a:lnTo>
                    <a:lnTo>
                      <a:pt x="46" y="0"/>
                    </a:lnTo>
                    <a:lnTo>
                      <a:pt x="0" y="30"/>
                    </a:lnTo>
                    <a:lnTo>
                      <a:pt x="17" y="55"/>
                    </a:lnTo>
                    <a:lnTo>
                      <a:pt x="33" y="80"/>
                    </a:lnTo>
                    <a:lnTo>
                      <a:pt x="50" y="108"/>
                    </a:lnTo>
                    <a:lnTo>
                      <a:pt x="67" y="131"/>
                    </a:lnTo>
                    <a:lnTo>
                      <a:pt x="82" y="158"/>
                    </a:lnTo>
                    <a:lnTo>
                      <a:pt x="99" y="185"/>
                    </a:lnTo>
                    <a:lnTo>
                      <a:pt x="116" y="209"/>
                    </a:lnTo>
                    <a:lnTo>
                      <a:pt x="132" y="234"/>
                    </a:lnTo>
                    <a:lnTo>
                      <a:pt x="149" y="261"/>
                    </a:lnTo>
                    <a:lnTo>
                      <a:pt x="164" y="286"/>
                    </a:lnTo>
                    <a:lnTo>
                      <a:pt x="181" y="314"/>
                    </a:lnTo>
                    <a:lnTo>
                      <a:pt x="198" y="337"/>
                    </a:lnTo>
                    <a:lnTo>
                      <a:pt x="214" y="364"/>
                    </a:lnTo>
                    <a:lnTo>
                      <a:pt x="231" y="392"/>
                    </a:lnTo>
                    <a:lnTo>
                      <a:pt x="248" y="417"/>
                    </a:lnTo>
                    <a:lnTo>
                      <a:pt x="265" y="444"/>
                    </a:lnTo>
                    <a:lnTo>
                      <a:pt x="307" y="447"/>
                    </a:lnTo>
                    <a:lnTo>
                      <a:pt x="269" y="4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7145640" y="3771720"/>
                <a:ext cx="48600" cy="54720"/>
              </a:xfrm>
              <a:custGeom>
                <a:avLst/>
                <a:gdLst/>
                <a:ahLst/>
                <a:rect l="l" t="t" r="r" b="b"/>
                <a:pathLst>
                  <a:path w="190" h="156">
                    <a:moveTo>
                      <a:pt x="141" y="33"/>
                    </a:moveTo>
                    <a:lnTo>
                      <a:pt x="154" y="0"/>
                    </a:lnTo>
                    <a:lnTo>
                      <a:pt x="133" y="12"/>
                    </a:lnTo>
                    <a:lnTo>
                      <a:pt x="110" y="25"/>
                    </a:lnTo>
                    <a:lnTo>
                      <a:pt x="91" y="40"/>
                    </a:lnTo>
                    <a:lnTo>
                      <a:pt x="68" y="55"/>
                    </a:lnTo>
                    <a:lnTo>
                      <a:pt x="49" y="74"/>
                    </a:lnTo>
                    <a:lnTo>
                      <a:pt x="32" y="90"/>
                    </a:lnTo>
                    <a:lnTo>
                      <a:pt x="13" y="105"/>
                    </a:lnTo>
                    <a:lnTo>
                      <a:pt x="0" y="118"/>
                    </a:lnTo>
                    <a:lnTo>
                      <a:pt x="38" y="156"/>
                    </a:lnTo>
                    <a:lnTo>
                      <a:pt x="51" y="143"/>
                    </a:lnTo>
                    <a:lnTo>
                      <a:pt x="66" y="128"/>
                    </a:lnTo>
                    <a:lnTo>
                      <a:pt x="83" y="113"/>
                    </a:lnTo>
                    <a:lnTo>
                      <a:pt x="103" y="97"/>
                    </a:lnTo>
                    <a:lnTo>
                      <a:pt x="122" y="82"/>
                    </a:lnTo>
                    <a:lnTo>
                      <a:pt x="141" y="71"/>
                    </a:lnTo>
                    <a:lnTo>
                      <a:pt x="160" y="57"/>
                    </a:lnTo>
                    <a:lnTo>
                      <a:pt x="177" y="46"/>
                    </a:lnTo>
                    <a:lnTo>
                      <a:pt x="190" y="14"/>
                    </a:lnTo>
                    <a:lnTo>
                      <a:pt x="14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7099920" y="3612960"/>
                <a:ext cx="94320" cy="169920"/>
              </a:xfrm>
              <a:custGeom>
                <a:avLst/>
                <a:gdLst/>
                <a:ahLst/>
                <a:rect l="l" t="t" r="r" b="b"/>
                <a:pathLst>
                  <a:path w="371" h="484">
                    <a:moveTo>
                      <a:pt x="46" y="32"/>
                    </a:moveTo>
                    <a:lnTo>
                      <a:pt x="4" y="38"/>
                    </a:lnTo>
                    <a:lnTo>
                      <a:pt x="25" y="61"/>
                    </a:lnTo>
                    <a:lnTo>
                      <a:pt x="47" y="84"/>
                    </a:lnTo>
                    <a:lnTo>
                      <a:pt x="68" y="105"/>
                    </a:lnTo>
                    <a:lnTo>
                      <a:pt x="91" y="129"/>
                    </a:lnTo>
                    <a:lnTo>
                      <a:pt x="112" y="156"/>
                    </a:lnTo>
                    <a:lnTo>
                      <a:pt x="133" y="183"/>
                    </a:lnTo>
                    <a:lnTo>
                      <a:pt x="156" y="209"/>
                    </a:lnTo>
                    <a:lnTo>
                      <a:pt x="177" y="236"/>
                    </a:lnTo>
                    <a:lnTo>
                      <a:pt x="198" y="265"/>
                    </a:lnTo>
                    <a:lnTo>
                      <a:pt x="217" y="295"/>
                    </a:lnTo>
                    <a:lnTo>
                      <a:pt x="236" y="324"/>
                    </a:lnTo>
                    <a:lnTo>
                      <a:pt x="257" y="356"/>
                    </a:lnTo>
                    <a:lnTo>
                      <a:pt x="274" y="386"/>
                    </a:lnTo>
                    <a:lnTo>
                      <a:pt x="291" y="419"/>
                    </a:lnTo>
                    <a:lnTo>
                      <a:pt x="306" y="451"/>
                    </a:lnTo>
                    <a:lnTo>
                      <a:pt x="322" y="484"/>
                    </a:lnTo>
                    <a:lnTo>
                      <a:pt x="371" y="465"/>
                    </a:lnTo>
                    <a:lnTo>
                      <a:pt x="356" y="428"/>
                    </a:lnTo>
                    <a:lnTo>
                      <a:pt x="337" y="396"/>
                    </a:lnTo>
                    <a:lnTo>
                      <a:pt x="320" y="360"/>
                    </a:lnTo>
                    <a:lnTo>
                      <a:pt x="303" y="329"/>
                    </a:lnTo>
                    <a:lnTo>
                      <a:pt x="282" y="297"/>
                    </a:lnTo>
                    <a:lnTo>
                      <a:pt x="263" y="265"/>
                    </a:lnTo>
                    <a:lnTo>
                      <a:pt x="240" y="234"/>
                    </a:lnTo>
                    <a:lnTo>
                      <a:pt x="219" y="206"/>
                    </a:lnTo>
                    <a:lnTo>
                      <a:pt x="198" y="175"/>
                    </a:lnTo>
                    <a:lnTo>
                      <a:pt x="175" y="148"/>
                    </a:lnTo>
                    <a:lnTo>
                      <a:pt x="154" y="122"/>
                    </a:lnTo>
                    <a:lnTo>
                      <a:pt x="129" y="95"/>
                    </a:lnTo>
                    <a:lnTo>
                      <a:pt x="107" y="70"/>
                    </a:lnTo>
                    <a:lnTo>
                      <a:pt x="86" y="46"/>
                    </a:lnTo>
                    <a:lnTo>
                      <a:pt x="63" y="23"/>
                    </a:lnTo>
                    <a:lnTo>
                      <a:pt x="42" y="0"/>
                    </a:lnTo>
                    <a:lnTo>
                      <a:pt x="0" y="6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7077600" y="3615120"/>
                <a:ext cx="33840" cy="65160"/>
              </a:xfrm>
              <a:custGeom>
                <a:avLst/>
                <a:gdLst/>
                <a:ahLst/>
                <a:rect l="l" t="t" r="r" b="b"/>
                <a:pathLst>
                  <a:path w="134" h="184">
                    <a:moveTo>
                      <a:pt x="46" y="154"/>
                    </a:moveTo>
                    <a:lnTo>
                      <a:pt x="46" y="182"/>
                    </a:lnTo>
                    <a:lnTo>
                      <a:pt x="57" y="163"/>
                    </a:lnTo>
                    <a:lnTo>
                      <a:pt x="67" y="144"/>
                    </a:lnTo>
                    <a:lnTo>
                      <a:pt x="78" y="125"/>
                    </a:lnTo>
                    <a:lnTo>
                      <a:pt x="90" y="102"/>
                    </a:lnTo>
                    <a:lnTo>
                      <a:pt x="99" y="85"/>
                    </a:lnTo>
                    <a:lnTo>
                      <a:pt x="111" y="66"/>
                    </a:lnTo>
                    <a:lnTo>
                      <a:pt x="122" y="45"/>
                    </a:lnTo>
                    <a:lnTo>
                      <a:pt x="134" y="26"/>
                    </a:lnTo>
                    <a:lnTo>
                      <a:pt x="88" y="0"/>
                    </a:lnTo>
                    <a:lnTo>
                      <a:pt x="76" y="19"/>
                    </a:lnTo>
                    <a:lnTo>
                      <a:pt x="65" y="40"/>
                    </a:lnTo>
                    <a:lnTo>
                      <a:pt x="54" y="59"/>
                    </a:lnTo>
                    <a:lnTo>
                      <a:pt x="44" y="80"/>
                    </a:lnTo>
                    <a:lnTo>
                      <a:pt x="33" y="99"/>
                    </a:lnTo>
                    <a:lnTo>
                      <a:pt x="21" y="118"/>
                    </a:lnTo>
                    <a:lnTo>
                      <a:pt x="12" y="137"/>
                    </a:lnTo>
                    <a:lnTo>
                      <a:pt x="0" y="156"/>
                    </a:lnTo>
                    <a:lnTo>
                      <a:pt x="0" y="184"/>
                    </a:lnTo>
                    <a:lnTo>
                      <a:pt x="46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6844320" y="4041360"/>
                <a:ext cx="44640" cy="95400"/>
              </a:xfrm>
              <a:custGeom>
                <a:avLst/>
                <a:gdLst/>
                <a:ahLst/>
                <a:rect l="l" t="t" r="r" b="b"/>
                <a:pathLst>
                  <a:path w="175" h="272">
                    <a:moveTo>
                      <a:pt x="0" y="238"/>
                    </a:moveTo>
                    <a:lnTo>
                      <a:pt x="21" y="241"/>
                    </a:lnTo>
                    <a:lnTo>
                      <a:pt x="44" y="245"/>
                    </a:lnTo>
                    <a:lnTo>
                      <a:pt x="65" y="251"/>
                    </a:lnTo>
                    <a:lnTo>
                      <a:pt x="87" y="255"/>
                    </a:lnTo>
                    <a:lnTo>
                      <a:pt x="108" y="259"/>
                    </a:lnTo>
                    <a:lnTo>
                      <a:pt x="131" y="262"/>
                    </a:lnTo>
                    <a:lnTo>
                      <a:pt x="152" y="268"/>
                    </a:lnTo>
                    <a:lnTo>
                      <a:pt x="175" y="272"/>
                    </a:lnTo>
                    <a:lnTo>
                      <a:pt x="175" y="211"/>
                    </a:lnTo>
                    <a:lnTo>
                      <a:pt x="175" y="148"/>
                    </a:lnTo>
                    <a:lnTo>
                      <a:pt x="175" y="87"/>
                    </a:lnTo>
                    <a:lnTo>
                      <a:pt x="175" y="26"/>
                    </a:lnTo>
                    <a:lnTo>
                      <a:pt x="162" y="22"/>
                    </a:lnTo>
                    <a:lnTo>
                      <a:pt x="147" y="21"/>
                    </a:lnTo>
                    <a:lnTo>
                      <a:pt x="133" y="17"/>
                    </a:lnTo>
                    <a:lnTo>
                      <a:pt x="118" y="13"/>
                    </a:lnTo>
                    <a:lnTo>
                      <a:pt x="105" y="11"/>
                    </a:lnTo>
                    <a:lnTo>
                      <a:pt x="89" y="7"/>
                    </a:lnTo>
                    <a:lnTo>
                      <a:pt x="76" y="3"/>
                    </a:lnTo>
                    <a:lnTo>
                      <a:pt x="61" y="0"/>
                    </a:lnTo>
                    <a:lnTo>
                      <a:pt x="53" y="30"/>
                    </a:lnTo>
                    <a:lnTo>
                      <a:pt x="46" y="59"/>
                    </a:lnTo>
                    <a:lnTo>
                      <a:pt x="38" y="89"/>
                    </a:lnTo>
                    <a:lnTo>
                      <a:pt x="30" y="120"/>
                    </a:lnTo>
                    <a:lnTo>
                      <a:pt x="23" y="150"/>
                    </a:lnTo>
                    <a:lnTo>
                      <a:pt x="15" y="179"/>
                    </a:lnTo>
                    <a:lnTo>
                      <a:pt x="8" y="209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4d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843600" y="4115160"/>
                <a:ext cx="52200" cy="30600"/>
              </a:xfrm>
              <a:custGeom>
                <a:avLst/>
                <a:gdLst/>
                <a:ahLst/>
                <a:rect l="l" t="t" r="r" b="b"/>
                <a:pathLst>
                  <a:path w="208" h="88">
                    <a:moveTo>
                      <a:pt x="154" y="61"/>
                    </a:moveTo>
                    <a:lnTo>
                      <a:pt x="187" y="34"/>
                    </a:lnTo>
                    <a:lnTo>
                      <a:pt x="164" y="30"/>
                    </a:lnTo>
                    <a:lnTo>
                      <a:pt x="143" y="25"/>
                    </a:lnTo>
                    <a:lnTo>
                      <a:pt x="118" y="21"/>
                    </a:lnTo>
                    <a:lnTo>
                      <a:pt x="97" y="17"/>
                    </a:lnTo>
                    <a:lnTo>
                      <a:pt x="76" y="13"/>
                    </a:lnTo>
                    <a:lnTo>
                      <a:pt x="55" y="8"/>
                    </a:lnTo>
                    <a:lnTo>
                      <a:pt x="31" y="4"/>
                    </a:lnTo>
                    <a:lnTo>
                      <a:pt x="12" y="0"/>
                    </a:lnTo>
                    <a:lnTo>
                      <a:pt x="0" y="53"/>
                    </a:lnTo>
                    <a:lnTo>
                      <a:pt x="23" y="57"/>
                    </a:lnTo>
                    <a:lnTo>
                      <a:pt x="44" y="61"/>
                    </a:lnTo>
                    <a:lnTo>
                      <a:pt x="65" y="67"/>
                    </a:lnTo>
                    <a:lnTo>
                      <a:pt x="90" y="70"/>
                    </a:lnTo>
                    <a:lnTo>
                      <a:pt x="111" y="74"/>
                    </a:lnTo>
                    <a:lnTo>
                      <a:pt x="132" y="78"/>
                    </a:lnTo>
                    <a:lnTo>
                      <a:pt x="153" y="84"/>
                    </a:lnTo>
                    <a:lnTo>
                      <a:pt x="175" y="88"/>
                    </a:lnTo>
                    <a:lnTo>
                      <a:pt x="208" y="61"/>
                    </a:lnTo>
                    <a:lnTo>
                      <a:pt x="1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882480" y="4041360"/>
                <a:ext cx="12960" cy="95400"/>
              </a:xfrm>
              <a:custGeom>
                <a:avLst/>
                <a:gdLst/>
                <a:ahLst/>
                <a:rect l="l" t="t" r="r" b="b"/>
                <a:pathLst>
                  <a:path w="54" h="272">
                    <a:moveTo>
                      <a:pt x="21" y="53"/>
                    </a:moveTo>
                    <a:lnTo>
                      <a:pt x="0" y="26"/>
                    </a:lnTo>
                    <a:lnTo>
                      <a:pt x="0" y="57"/>
                    </a:lnTo>
                    <a:lnTo>
                      <a:pt x="0" y="87"/>
                    </a:lnTo>
                    <a:lnTo>
                      <a:pt x="0" y="118"/>
                    </a:lnTo>
                    <a:lnTo>
                      <a:pt x="0" y="148"/>
                    </a:lnTo>
                    <a:lnTo>
                      <a:pt x="0" y="180"/>
                    </a:lnTo>
                    <a:lnTo>
                      <a:pt x="0" y="211"/>
                    </a:lnTo>
                    <a:lnTo>
                      <a:pt x="0" y="241"/>
                    </a:lnTo>
                    <a:lnTo>
                      <a:pt x="0" y="272"/>
                    </a:lnTo>
                    <a:lnTo>
                      <a:pt x="54" y="272"/>
                    </a:lnTo>
                    <a:lnTo>
                      <a:pt x="54" y="241"/>
                    </a:lnTo>
                    <a:lnTo>
                      <a:pt x="54" y="211"/>
                    </a:lnTo>
                    <a:lnTo>
                      <a:pt x="54" y="180"/>
                    </a:lnTo>
                    <a:lnTo>
                      <a:pt x="54" y="148"/>
                    </a:lnTo>
                    <a:lnTo>
                      <a:pt x="54" y="118"/>
                    </a:lnTo>
                    <a:lnTo>
                      <a:pt x="54" y="87"/>
                    </a:lnTo>
                    <a:lnTo>
                      <a:pt x="54" y="57"/>
                    </a:lnTo>
                    <a:lnTo>
                      <a:pt x="54" y="26"/>
                    </a:lnTo>
                    <a:lnTo>
                      <a:pt x="33" y="0"/>
                    </a:lnTo>
                    <a:lnTo>
                      <a:pt x="21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853680" y="40316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147" h="80">
                    <a:moveTo>
                      <a:pt x="53" y="34"/>
                    </a:moveTo>
                    <a:lnTo>
                      <a:pt x="21" y="53"/>
                    </a:lnTo>
                    <a:lnTo>
                      <a:pt x="34" y="57"/>
                    </a:lnTo>
                    <a:lnTo>
                      <a:pt x="48" y="61"/>
                    </a:lnTo>
                    <a:lnTo>
                      <a:pt x="65" y="65"/>
                    </a:lnTo>
                    <a:lnTo>
                      <a:pt x="78" y="67"/>
                    </a:lnTo>
                    <a:lnTo>
                      <a:pt x="92" y="70"/>
                    </a:lnTo>
                    <a:lnTo>
                      <a:pt x="107" y="74"/>
                    </a:lnTo>
                    <a:lnTo>
                      <a:pt x="122" y="76"/>
                    </a:lnTo>
                    <a:lnTo>
                      <a:pt x="135" y="80"/>
                    </a:lnTo>
                    <a:lnTo>
                      <a:pt x="147" y="27"/>
                    </a:lnTo>
                    <a:lnTo>
                      <a:pt x="133" y="23"/>
                    </a:lnTo>
                    <a:lnTo>
                      <a:pt x="118" y="21"/>
                    </a:lnTo>
                    <a:lnTo>
                      <a:pt x="107" y="17"/>
                    </a:lnTo>
                    <a:lnTo>
                      <a:pt x="90" y="13"/>
                    </a:lnTo>
                    <a:lnTo>
                      <a:pt x="76" y="11"/>
                    </a:lnTo>
                    <a:lnTo>
                      <a:pt x="63" y="8"/>
                    </a:lnTo>
                    <a:lnTo>
                      <a:pt x="50" y="4"/>
                    </a:lnTo>
                    <a:lnTo>
                      <a:pt x="33" y="0"/>
                    </a:lnTo>
                    <a:lnTo>
                      <a:pt x="0" y="19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6837840" y="403848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14" h="272">
                    <a:moveTo>
                      <a:pt x="33" y="219"/>
                    </a:moveTo>
                    <a:lnTo>
                      <a:pt x="54" y="251"/>
                    </a:lnTo>
                    <a:lnTo>
                      <a:pt x="61" y="225"/>
                    </a:lnTo>
                    <a:lnTo>
                      <a:pt x="69" y="194"/>
                    </a:lnTo>
                    <a:lnTo>
                      <a:pt x="76" y="166"/>
                    </a:lnTo>
                    <a:lnTo>
                      <a:pt x="84" y="133"/>
                    </a:lnTo>
                    <a:lnTo>
                      <a:pt x="92" y="103"/>
                    </a:lnTo>
                    <a:lnTo>
                      <a:pt x="99" y="74"/>
                    </a:lnTo>
                    <a:lnTo>
                      <a:pt x="107" y="46"/>
                    </a:lnTo>
                    <a:lnTo>
                      <a:pt x="114" y="15"/>
                    </a:lnTo>
                    <a:lnTo>
                      <a:pt x="61" y="0"/>
                    </a:lnTo>
                    <a:lnTo>
                      <a:pt x="54" y="30"/>
                    </a:lnTo>
                    <a:lnTo>
                      <a:pt x="46" y="59"/>
                    </a:lnTo>
                    <a:lnTo>
                      <a:pt x="38" y="91"/>
                    </a:lnTo>
                    <a:lnTo>
                      <a:pt x="31" y="122"/>
                    </a:lnTo>
                    <a:lnTo>
                      <a:pt x="23" y="150"/>
                    </a:lnTo>
                    <a:lnTo>
                      <a:pt x="16" y="179"/>
                    </a:lnTo>
                    <a:lnTo>
                      <a:pt x="8" y="209"/>
                    </a:lnTo>
                    <a:lnTo>
                      <a:pt x="0" y="240"/>
                    </a:lnTo>
                    <a:lnTo>
                      <a:pt x="21" y="272"/>
                    </a:lnTo>
                    <a:lnTo>
                      <a:pt x="33" y="2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815880" y="4188960"/>
                <a:ext cx="73080" cy="105120"/>
              </a:xfrm>
              <a:custGeom>
                <a:avLst/>
                <a:gdLst/>
                <a:ahLst/>
                <a:rect l="l" t="t" r="r" b="b"/>
                <a:pathLst>
                  <a:path w="287" h="299">
                    <a:moveTo>
                      <a:pt x="51" y="0"/>
                    </a:moveTo>
                    <a:lnTo>
                      <a:pt x="80" y="6"/>
                    </a:lnTo>
                    <a:lnTo>
                      <a:pt x="106" y="10"/>
                    </a:lnTo>
                    <a:lnTo>
                      <a:pt x="135" y="16"/>
                    </a:lnTo>
                    <a:lnTo>
                      <a:pt x="163" y="21"/>
                    </a:lnTo>
                    <a:lnTo>
                      <a:pt x="192" y="27"/>
                    </a:lnTo>
                    <a:lnTo>
                      <a:pt x="220" y="33"/>
                    </a:lnTo>
                    <a:lnTo>
                      <a:pt x="249" y="38"/>
                    </a:lnTo>
                    <a:lnTo>
                      <a:pt x="278" y="44"/>
                    </a:lnTo>
                    <a:lnTo>
                      <a:pt x="279" y="107"/>
                    </a:lnTo>
                    <a:lnTo>
                      <a:pt x="281" y="172"/>
                    </a:lnTo>
                    <a:lnTo>
                      <a:pt x="285" y="235"/>
                    </a:lnTo>
                    <a:lnTo>
                      <a:pt x="287" y="299"/>
                    </a:lnTo>
                    <a:lnTo>
                      <a:pt x="251" y="292"/>
                    </a:lnTo>
                    <a:lnTo>
                      <a:pt x="215" y="282"/>
                    </a:lnTo>
                    <a:lnTo>
                      <a:pt x="179" y="273"/>
                    </a:lnTo>
                    <a:lnTo>
                      <a:pt x="142" y="263"/>
                    </a:lnTo>
                    <a:lnTo>
                      <a:pt x="106" y="254"/>
                    </a:lnTo>
                    <a:lnTo>
                      <a:pt x="72" y="244"/>
                    </a:lnTo>
                    <a:lnTo>
                      <a:pt x="36" y="237"/>
                    </a:lnTo>
                    <a:lnTo>
                      <a:pt x="0" y="229"/>
                    </a:lnTo>
                    <a:lnTo>
                      <a:pt x="13" y="168"/>
                    </a:lnTo>
                    <a:lnTo>
                      <a:pt x="26" y="113"/>
                    </a:lnTo>
                    <a:lnTo>
                      <a:pt x="38" y="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828120" y="4179600"/>
                <a:ext cx="65520" cy="33480"/>
              </a:xfrm>
              <a:custGeom>
                <a:avLst/>
                <a:gdLst/>
                <a:ahLst/>
                <a:rect l="l" t="t" r="r" b="b"/>
                <a:pathLst>
                  <a:path w="257" h="97">
                    <a:moveTo>
                      <a:pt x="257" y="70"/>
                    </a:moveTo>
                    <a:lnTo>
                      <a:pt x="236" y="44"/>
                    </a:lnTo>
                    <a:lnTo>
                      <a:pt x="208" y="38"/>
                    </a:lnTo>
                    <a:lnTo>
                      <a:pt x="179" y="32"/>
                    </a:lnTo>
                    <a:lnTo>
                      <a:pt x="151" y="26"/>
                    </a:lnTo>
                    <a:lnTo>
                      <a:pt x="122" y="21"/>
                    </a:lnTo>
                    <a:lnTo>
                      <a:pt x="93" y="15"/>
                    </a:lnTo>
                    <a:lnTo>
                      <a:pt x="63" y="9"/>
                    </a:lnTo>
                    <a:lnTo>
                      <a:pt x="36" y="5"/>
                    </a:lnTo>
                    <a:lnTo>
                      <a:pt x="8" y="0"/>
                    </a:lnTo>
                    <a:lnTo>
                      <a:pt x="0" y="53"/>
                    </a:lnTo>
                    <a:lnTo>
                      <a:pt x="29" y="59"/>
                    </a:lnTo>
                    <a:lnTo>
                      <a:pt x="55" y="63"/>
                    </a:lnTo>
                    <a:lnTo>
                      <a:pt x="82" y="68"/>
                    </a:lnTo>
                    <a:lnTo>
                      <a:pt x="111" y="74"/>
                    </a:lnTo>
                    <a:lnTo>
                      <a:pt x="139" y="80"/>
                    </a:lnTo>
                    <a:lnTo>
                      <a:pt x="168" y="85"/>
                    </a:lnTo>
                    <a:lnTo>
                      <a:pt x="196" y="91"/>
                    </a:lnTo>
                    <a:lnTo>
                      <a:pt x="225" y="97"/>
                    </a:lnTo>
                    <a:lnTo>
                      <a:pt x="204" y="70"/>
                    </a:lnTo>
                    <a:lnTo>
                      <a:pt x="257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879960" y="4204440"/>
                <a:ext cx="15480" cy="99000"/>
              </a:xfrm>
              <a:custGeom>
                <a:avLst/>
                <a:gdLst/>
                <a:ahLst/>
                <a:rect l="l" t="t" r="r" b="b"/>
                <a:pathLst>
                  <a:path w="63" h="282">
                    <a:moveTo>
                      <a:pt x="30" y="282"/>
                    </a:moveTo>
                    <a:lnTo>
                      <a:pt x="63" y="253"/>
                    </a:lnTo>
                    <a:lnTo>
                      <a:pt x="61" y="223"/>
                    </a:lnTo>
                    <a:lnTo>
                      <a:pt x="61" y="191"/>
                    </a:lnTo>
                    <a:lnTo>
                      <a:pt x="59" y="156"/>
                    </a:lnTo>
                    <a:lnTo>
                      <a:pt x="57" y="126"/>
                    </a:lnTo>
                    <a:lnTo>
                      <a:pt x="55" y="95"/>
                    </a:lnTo>
                    <a:lnTo>
                      <a:pt x="55" y="63"/>
                    </a:lnTo>
                    <a:lnTo>
                      <a:pt x="53" y="33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2" y="63"/>
                    </a:lnTo>
                    <a:lnTo>
                      <a:pt x="2" y="95"/>
                    </a:lnTo>
                    <a:lnTo>
                      <a:pt x="4" y="130"/>
                    </a:lnTo>
                    <a:lnTo>
                      <a:pt x="6" y="160"/>
                    </a:lnTo>
                    <a:lnTo>
                      <a:pt x="8" y="191"/>
                    </a:lnTo>
                    <a:lnTo>
                      <a:pt x="8" y="223"/>
                    </a:lnTo>
                    <a:lnTo>
                      <a:pt x="9" y="257"/>
                    </a:lnTo>
                    <a:lnTo>
                      <a:pt x="42" y="229"/>
                    </a:lnTo>
                    <a:lnTo>
                      <a:pt x="30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809400" y="4259880"/>
                <a:ext cx="81000" cy="43200"/>
              </a:xfrm>
              <a:custGeom>
                <a:avLst/>
                <a:gdLst/>
                <a:ahLst/>
                <a:rect l="l" t="t" r="r" b="b"/>
                <a:pathLst>
                  <a:path w="320" h="124">
                    <a:moveTo>
                      <a:pt x="0" y="21"/>
                    </a:moveTo>
                    <a:lnTo>
                      <a:pt x="23" y="54"/>
                    </a:lnTo>
                    <a:lnTo>
                      <a:pt x="57" y="61"/>
                    </a:lnTo>
                    <a:lnTo>
                      <a:pt x="93" y="69"/>
                    </a:lnTo>
                    <a:lnTo>
                      <a:pt x="126" y="78"/>
                    </a:lnTo>
                    <a:lnTo>
                      <a:pt x="162" y="88"/>
                    </a:lnTo>
                    <a:lnTo>
                      <a:pt x="198" y="97"/>
                    </a:lnTo>
                    <a:lnTo>
                      <a:pt x="234" y="107"/>
                    </a:lnTo>
                    <a:lnTo>
                      <a:pt x="272" y="116"/>
                    </a:lnTo>
                    <a:lnTo>
                      <a:pt x="308" y="124"/>
                    </a:lnTo>
                    <a:lnTo>
                      <a:pt x="320" y="71"/>
                    </a:lnTo>
                    <a:lnTo>
                      <a:pt x="284" y="63"/>
                    </a:lnTo>
                    <a:lnTo>
                      <a:pt x="249" y="54"/>
                    </a:lnTo>
                    <a:lnTo>
                      <a:pt x="213" y="44"/>
                    </a:lnTo>
                    <a:lnTo>
                      <a:pt x="177" y="35"/>
                    </a:lnTo>
                    <a:lnTo>
                      <a:pt x="141" y="25"/>
                    </a:lnTo>
                    <a:lnTo>
                      <a:pt x="105" y="15"/>
                    </a:lnTo>
                    <a:lnTo>
                      <a:pt x="69" y="8"/>
                    </a:lnTo>
                    <a:lnTo>
                      <a:pt x="30" y="0"/>
                    </a:lnTo>
                    <a:lnTo>
                      <a:pt x="53" y="3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809400" y="4179600"/>
                <a:ext cx="26280" cy="91080"/>
              </a:xfrm>
              <a:custGeom>
                <a:avLst/>
                <a:gdLst/>
                <a:ahLst/>
                <a:rect l="l" t="t" r="r" b="b"/>
                <a:pathLst>
                  <a:path w="105" h="261">
                    <a:moveTo>
                      <a:pt x="82" y="0"/>
                    </a:moveTo>
                    <a:lnTo>
                      <a:pt x="51" y="21"/>
                    </a:lnTo>
                    <a:lnTo>
                      <a:pt x="46" y="51"/>
                    </a:lnTo>
                    <a:lnTo>
                      <a:pt x="38" y="78"/>
                    </a:lnTo>
                    <a:lnTo>
                      <a:pt x="32" y="106"/>
                    </a:lnTo>
                    <a:lnTo>
                      <a:pt x="27" y="133"/>
                    </a:lnTo>
                    <a:lnTo>
                      <a:pt x="19" y="160"/>
                    </a:lnTo>
                    <a:lnTo>
                      <a:pt x="13" y="188"/>
                    </a:lnTo>
                    <a:lnTo>
                      <a:pt x="6" y="217"/>
                    </a:lnTo>
                    <a:lnTo>
                      <a:pt x="0" y="249"/>
                    </a:lnTo>
                    <a:lnTo>
                      <a:pt x="53" y="261"/>
                    </a:lnTo>
                    <a:lnTo>
                      <a:pt x="59" y="228"/>
                    </a:lnTo>
                    <a:lnTo>
                      <a:pt x="67" y="200"/>
                    </a:lnTo>
                    <a:lnTo>
                      <a:pt x="72" y="171"/>
                    </a:lnTo>
                    <a:lnTo>
                      <a:pt x="80" y="144"/>
                    </a:lnTo>
                    <a:lnTo>
                      <a:pt x="86" y="118"/>
                    </a:lnTo>
                    <a:lnTo>
                      <a:pt x="91" y="89"/>
                    </a:lnTo>
                    <a:lnTo>
                      <a:pt x="99" y="63"/>
                    </a:lnTo>
                    <a:lnTo>
                      <a:pt x="105" y="32"/>
                    </a:lnTo>
                    <a:lnTo>
                      <a:pt x="74" y="5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849000" y="3821400"/>
                <a:ext cx="156600" cy="604800"/>
              </a:xfrm>
              <a:custGeom>
                <a:avLst/>
                <a:gdLst/>
                <a:ahLst/>
                <a:rect l="l" t="t" r="r" b="b"/>
                <a:pathLst>
                  <a:path w="619" h="1723">
                    <a:moveTo>
                      <a:pt x="88" y="219"/>
                    </a:moveTo>
                    <a:lnTo>
                      <a:pt x="86" y="413"/>
                    </a:lnTo>
                    <a:lnTo>
                      <a:pt x="74" y="608"/>
                    </a:lnTo>
                    <a:lnTo>
                      <a:pt x="57" y="802"/>
                    </a:lnTo>
                    <a:lnTo>
                      <a:pt x="48" y="998"/>
                    </a:lnTo>
                    <a:lnTo>
                      <a:pt x="44" y="1154"/>
                    </a:lnTo>
                    <a:lnTo>
                      <a:pt x="42" y="1310"/>
                    </a:lnTo>
                    <a:lnTo>
                      <a:pt x="44" y="1468"/>
                    </a:lnTo>
                    <a:lnTo>
                      <a:pt x="55" y="1624"/>
                    </a:lnTo>
                    <a:lnTo>
                      <a:pt x="59" y="1640"/>
                    </a:lnTo>
                    <a:lnTo>
                      <a:pt x="63" y="1655"/>
                    </a:lnTo>
                    <a:lnTo>
                      <a:pt x="72" y="1672"/>
                    </a:lnTo>
                    <a:lnTo>
                      <a:pt x="82" y="1687"/>
                    </a:lnTo>
                    <a:lnTo>
                      <a:pt x="93" y="1701"/>
                    </a:lnTo>
                    <a:lnTo>
                      <a:pt x="107" y="1712"/>
                    </a:lnTo>
                    <a:lnTo>
                      <a:pt x="122" y="1720"/>
                    </a:lnTo>
                    <a:lnTo>
                      <a:pt x="137" y="1721"/>
                    </a:lnTo>
                    <a:lnTo>
                      <a:pt x="168" y="1721"/>
                    </a:lnTo>
                    <a:lnTo>
                      <a:pt x="200" y="1723"/>
                    </a:lnTo>
                    <a:lnTo>
                      <a:pt x="234" y="1723"/>
                    </a:lnTo>
                    <a:lnTo>
                      <a:pt x="268" y="1721"/>
                    </a:lnTo>
                    <a:lnTo>
                      <a:pt x="303" y="1720"/>
                    </a:lnTo>
                    <a:lnTo>
                      <a:pt x="339" y="1718"/>
                    </a:lnTo>
                    <a:lnTo>
                      <a:pt x="373" y="1716"/>
                    </a:lnTo>
                    <a:lnTo>
                      <a:pt x="409" y="1712"/>
                    </a:lnTo>
                    <a:lnTo>
                      <a:pt x="442" y="1708"/>
                    </a:lnTo>
                    <a:lnTo>
                      <a:pt x="474" y="1702"/>
                    </a:lnTo>
                    <a:lnTo>
                      <a:pt x="503" y="1695"/>
                    </a:lnTo>
                    <a:lnTo>
                      <a:pt x="529" y="1689"/>
                    </a:lnTo>
                    <a:lnTo>
                      <a:pt x="554" y="1680"/>
                    </a:lnTo>
                    <a:lnTo>
                      <a:pt x="575" y="1672"/>
                    </a:lnTo>
                    <a:lnTo>
                      <a:pt x="592" y="1661"/>
                    </a:lnTo>
                    <a:lnTo>
                      <a:pt x="605" y="1649"/>
                    </a:lnTo>
                    <a:lnTo>
                      <a:pt x="615" y="1529"/>
                    </a:lnTo>
                    <a:lnTo>
                      <a:pt x="619" y="1413"/>
                    </a:lnTo>
                    <a:lnTo>
                      <a:pt x="619" y="1301"/>
                    </a:lnTo>
                    <a:lnTo>
                      <a:pt x="613" y="1186"/>
                    </a:lnTo>
                    <a:lnTo>
                      <a:pt x="607" y="1120"/>
                    </a:lnTo>
                    <a:lnTo>
                      <a:pt x="600" y="1051"/>
                    </a:lnTo>
                    <a:lnTo>
                      <a:pt x="588" y="985"/>
                    </a:lnTo>
                    <a:lnTo>
                      <a:pt x="577" y="918"/>
                    </a:lnTo>
                    <a:lnTo>
                      <a:pt x="565" y="851"/>
                    </a:lnTo>
                    <a:lnTo>
                      <a:pt x="554" y="783"/>
                    </a:lnTo>
                    <a:lnTo>
                      <a:pt x="543" y="716"/>
                    </a:lnTo>
                    <a:lnTo>
                      <a:pt x="533" y="649"/>
                    </a:lnTo>
                    <a:lnTo>
                      <a:pt x="525" y="590"/>
                    </a:lnTo>
                    <a:lnTo>
                      <a:pt x="520" y="531"/>
                    </a:lnTo>
                    <a:lnTo>
                      <a:pt x="514" y="472"/>
                    </a:lnTo>
                    <a:lnTo>
                      <a:pt x="506" y="413"/>
                    </a:lnTo>
                    <a:lnTo>
                      <a:pt x="501" y="354"/>
                    </a:lnTo>
                    <a:lnTo>
                      <a:pt x="493" y="295"/>
                    </a:lnTo>
                    <a:lnTo>
                      <a:pt x="485" y="236"/>
                    </a:lnTo>
                    <a:lnTo>
                      <a:pt x="476" y="179"/>
                    </a:lnTo>
                    <a:lnTo>
                      <a:pt x="470" y="152"/>
                    </a:lnTo>
                    <a:lnTo>
                      <a:pt x="461" y="124"/>
                    </a:lnTo>
                    <a:lnTo>
                      <a:pt x="449" y="93"/>
                    </a:lnTo>
                    <a:lnTo>
                      <a:pt x="436" y="63"/>
                    </a:lnTo>
                    <a:lnTo>
                      <a:pt x="419" y="38"/>
                    </a:lnTo>
                    <a:lnTo>
                      <a:pt x="400" y="17"/>
                    </a:lnTo>
                    <a:lnTo>
                      <a:pt x="379" y="4"/>
                    </a:lnTo>
                    <a:lnTo>
                      <a:pt x="356" y="0"/>
                    </a:lnTo>
                    <a:lnTo>
                      <a:pt x="333" y="2"/>
                    </a:lnTo>
                    <a:lnTo>
                      <a:pt x="308" y="2"/>
                    </a:lnTo>
                    <a:lnTo>
                      <a:pt x="282" y="4"/>
                    </a:lnTo>
                    <a:lnTo>
                      <a:pt x="255" y="4"/>
                    </a:lnTo>
                    <a:lnTo>
                      <a:pt x="228" y="6"/>
                    </a:lnTo>
                    <a:lnTo>
                      <a:pt x="202" y="8"/>
                    </a:lnTo>
                    <a:lnTo>
                      <a:pt x="175" y="10"/>
                    </a:lnTo>
                    <a:lnTo>
                      <a:pt x="150" y="12"/>
                    </a:lnTo>
                    <a:lnTo>
                      <a:pt x="126" y="13"/>
                    </a:lnTo>
                    <a:lnTo>
                      <a:pt x="101" y="17"/>
                    </a:lnTo>
                    <a:lnTo>
                      <a:pt x="80" y="23"/>
                    </a:lnTo>
                    <a:lnTo>
                      <a:pt x="59" y="29"/>
                    </a:lnTo>
                    <a:lnTo>
                      <a:pt x="40" y="36"/>
                    </a:lnTo>
                    <a:lnTo>
                      <a:pt x="25" y="44"/>
                    </a:lnTo>
                    <a:lnTo>
                      <a:pt x="11" y="53"/>
                    </a:lnTo>
                    <a:lnTo>
                      <a:pt x="0" y="65"/>
                    </a:lnTo>
                    <a:lnTo>
                      <a:pt x="19" y="76"/>
                    </a:lnTo>
                    <a:lnTo>
                      <a:pt x="36" y="90"/>
                    </a:lnTo>
                    <a:lnTo>
                      <a:pt x="51" y="107"/>
                    </a:lnTo>
                    <a:lnTo>
                      <a:pt x="65" y="128"/>
                    </a:lnTo>
                    <a:lnTo>
                      <a:pt x="74" y="149"/>
                    </a:lnTo>
                    <a:lnTo>
                      <a:pt x="80" y="172"/>
                    </a:lnTo>
                    <a:lnTo>
                      <a:pt x="86" y="194"/>
                    </a:lnTo>
                    <a:lnTo>
                      <a:pt x="88" y="2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854760" y="3898080"/>
                <a:ext cx="23760" cy="272880"/>
              </a:xfrm>
              <a:custGeom>
                <a:avLst/>
                <a:gdLst/>
                <a:ahLst/>
                <a:rect l="l" t="t" r="r" b="b"/>
                <a:pathLst>
                  <a:path w="95" h="779">
                    <a:moveTo>
                      <a:pt x="53" y="779"/>
                    </a:moveTo>
                    <a:lnTo>
                      <a:pt x="53" y="779"/>
                    </a:lnTo>
                    <a:lnTo>
                      <a:pt x="55" y="731"/>
                    </a:lnTo>
                    <a:lnTo>
                      <a:pt x="57" y="684"/>
                    </a:lnTo>
                    <a:lnTo>
                      <a:pt x="59" y="634"/>
                    </a:lnTo>
                    <a:lnTo>
                      <a:pt x="63" y="585"/>
                    </a:lnTo>
                    <a:lnTo>
                      <a:pt x="67" y="537"/>
                    </a:lnTo>
                    <a:lnTo>
                      <a:pt x="70" y="488"/>
                    </a:lnTo>
                    <a:lnTo>
                      <a:pt x="74" y="440"/>
                    </a:lnTo>
                    <a:lnTo>
                      <a:pt x="80" y="390"/>
                    </a:lnTo>
                    <a:lnTo>
                      <a:pt x="84" y="343"/>
                    </a:lnTo>
                    <a:lnTo>
                      <a:pt x="86" y="293"/>
                    </a:lnTo>
                    <a:lnTo>
                      <a:pt x="89" y="246"/>
                    </a:lnTo>
                    <a:lnTo>
                      <a:pt x="91" y="196"/>
                    </a:lnTo>
                    <a:lnTo>
                      <a:pt x="93" y="149"/>
                    </a:lnTo>
                    <a:lnTo>
                      <a:pt x="95" y="97"/>
                    </a:lnTo>
                    <a:lnTo>
                      <a:pt x="95" y="50"/>
                    </a:lnTo>
                    <a:lnTo>
                      <a:pt x="93" y="0"/>
                    </a:lnTo>
                    <a:lnTo>
                      <a:pt x="40" y="0"/>
                    </a:lnTo>
                    <a:lnTo>
                      <a:pt x="42" y="50"/>
                    </a:lnTo>
                    <a:lnTo>
                      <a:pt x="42" y="97"/>
                    </a:lnTo>
                    <a:lnTo>
                      <a:pt x="40" y="145"/>
                    </a:lnTo>
                    <a:lnTo>
                      <a:pt x="38" y="192"/>
                    </a:lnTo>
                    <a:lnTo>
                      <a:pt x="36" y="242"/>
                    </a:lnTo>
                    <a:lnTo>
                      <a:pt x="32" y="290"/>
                    </a:lnTo>
                    <a:lnTo>
                      <a:pt x="30" y="339"/>
                    </a:lnTo>
                    <a:lnTo>
                      <a:pt x="27" y="387"/>
                    </a:lnTo>
                    <a:lnTo>
                      <a:pt x="21" y="436"/>
                    </a:lnTo>
                    <a:lnTo>
                      <a:pt x="17" y="484"/>
                    </a:lnTo>
                    <a:lnTo>
                      <a:pt x="13" y="533"/>
                    </a:lnTo>
                    <a:lnTo>
                      <a:pt x="10" y="581"/>
                    </a:lnTo>
                    <a:lnTo>
                      <a:pt x="6" y="630"/>
                    </a:lnTo>
                    <a:lnTo>
                      <a:pt x="4" y="680"/>
                    </a:lnTo>
                    <a:lnTo>
                      <a:pt x="2" y="727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53" y="7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852960" y="4171320"/>
                <a:ext cx="16560" cy="221760"/>
              </a:xfrm>
              <a:custGeom>
                <a:avLst/>
                <a:gdLst/>
                <a:ahLst/>
                <a:rect l="l" t="t" r="r" b="b"/>
                <a:pathLst>
                  <a:path w="67" h="630">
                    <a:moveTo>
                      <a:pt x="67" y="624"/>
                    </a:moveTo>
                    <a:lnTo>
                      <a:pt x="67" y="623"/>
                    </a:lnTo>
                    <a:lnTo>
                      <a:pt x="63" y="586"/>
                    </a:lnTo>
                    <a:lnTo>
                      <a:pt x="59" y="546"/>
                    </a:lnTo>
                    <a:lnTo>
                      <a:pt x="57" y="506"/>
                    </a:lnTo>
                    <a:lnTo>
                      <a:pt x="55" y="468"/>
                    </a:lnTo>
                    <a:lnTo>
                      <a:pt x="54" y="430"/>
                    </a:lnTo>
                    <a:lnTo>
                      <a:pt x="54" y="390"/>
                    </a:lnTo>
                    <a:lnTo>
                      <a:pt x="54" y="352"/>
                    </a:lnTo>
                    <a:lnTo>
                      <a:pt x="54" y="312"/>
                    </a:lnTo>
                    <a:lnTo>
                      <a:pt x="54" y="272"/>
                    </a:lnTo>
                    <a:lnTo>
                      <a:pt x="54" y="234"/>
                    </a:lnTo>
                    <a:lnTo>
                      <a:pt x="55" y="194"/>
                    </a:lnTo>
                    <a:lnTo>
                      <a:pt x="55" y="156"/>
                    </a:lnTo>
                    <a:lnTo>
                      <a:pt x="57" y="116"/>
                    </a:lnTo>
                    <a:lnTo>
                      <a:pt x="57" y="78"/>
                    </a:lnTo>
                    <a:lnTo>
                      <a:pt x="59" y="38"/>
                    </a:lnTo>
                    <a:lnTo>
                      <a:pt x="59" y="0"/>
                    </a:lnTo>
                    <a:lnTo>
                      <a:pt x="6" y="0"/>
                    </a:lnTo>
                    <a:lnTo>
                      <a:pt x="6" y="38"/>
                    </a:lnTo>
                    <a:lnTo>
                      <a:pt x="4" y="78"/>
                    </a:lnTo>
                    <a:lnTo>
                      <a:pt x="4" y="116"/>
                    </a:lnTo>
                    <a:lnTo>
                      <a:pt x="2" y="156"/>
                    </a:lnTo>
                    <a:lnTo>
                      <a:pt x="2" y="194"/>
                    </a:lnTo>
                    <a:lnTo>
                      <a:pt x="0" y="234"/>
                    </a:lnTo>
                    <a:lnTo>
                      <a:pt x="0" y="272"/>
                    </a:lnTo>
                    <a:lnTo>
                      <a:pt x="0" y="312"/>
                    </a:lnTo>
                    <a:lnTo>
                      <a:pt x="0" y="352"/>
                    </a:lnTo>
                    <a:lnTo>
                      <a:pt x="0" y="390"/>
                    </a:lnTo>
                    <a:lnTo>
                      <a:pt x="0" y="430"/>
                    </a:lnTo>
                    <a:lnTo>
                      <a:pt x="2" y="472"/>
                    </a:lnTo>
                    <a:lnTo>
                      <a:pt x="4" y="510"/>
                    </a:lnTo>
                    <a:lnTo>
                      <a:pt x="6" y="550"/>
                    </a:lnTo>
                    <a:lnTo>
                      <a:pt x="10" y="590"/>
                    </a:lnTo>
                    <a:lnTo>
                      <a:pt x="14" y="630"/>
                    </a:lnTo>
                    <a:lnTo>
                      <a:pt x="14" y="628"/>
                    </a:lnTo>
                    <a:lnTo>
                      <a:pt x="67" y="6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6856200" y="4391280"/>
                <a:ext cx="27720" cy="44280"/>
              </a:xfrm>
              <a:custGeom>
                <a:avLst/>
                <a:gdLst/>
                <a:ahLst/>
                <a:rect l="l" t="t" r="r" b="b"/>
                <a:pathLst>
                  <a:path w="108" h="126">
                    <a:moveTo>
                      <a:pt x="108" y="73"/>
                    </a:moveTo>
                    <a:lnTo>
                      <a:pt x="108" y="73"/>
                    </a:lnTo>
                    <a:lnTo>
                      <a:pt x="101" y="73"/>
                    </a:lnTo>
                    <a:lnTo>
                      <a:pt x="93" y="67"/>
                    </a:lnTo>
                    <a:lnTo>
                      <a:pt x="83" y="59"/>
                    </a:lnTo>
                    <a:lnTo>
                      <a:pt x="74" y="50"/>
                    </a:lnTo>
                    <a:lnTo>
                      <a:pt x="66" y="37"/>
                    </a:lnTo>
                    <a:lnTo>
                      <a:pt x="59" y="23"/>
                    </a:lnTo>
                    <a:lnTo>
                      <a:pt x="57" y="12"/>
                    </a:lnTo>
                    <a:lnTo>
                      <a:pt x="53" y="0"/>
                    </a:lnTo>
                    <a:lnTo>
                      <a:pt x="0" y="4"/>
                    </a:lnTo>
                    <a:lnTo>
                      <a:pt x="3" y="23"/>
                    </a:lnTo>
                    <a:lnTo>
                      <a:pt x="9" y="42"/>
                    </a:lnTo>
                    <a:lnTo>
                      <a:pt x="21" y="63"/>
                    </a:lnTo>
                    <a:lnTo>
                      <a:pt x="32" y="80"/>
                    </a:lnTo>
                    <a:lnTo>
                      <a:pt x="45" y="98"/>
                    </a:lnTo>
                    <a:lnTo>
                      <a:pt x="62" y="113"/>
                    </a:lnTo>
                    <a:lnTo>
                      <a:pt x="85" y="122"/>
                    </a:lnTo>
                    <a:lnTo>
                      <a:pt x="108" y="126"/>
                    </a:lnTo>
                    <a:lnTo>
                      <a:pt x="108" y="126"/>
                    </a:lnTo>
                    <a:lnTo>
                      <a:pt x="10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883920" y="4394160"/>
                <a:ext cx="125280" cy="42120"/>
              </a:xfrm>
              <a:custGeom>
                <a:avLst/>
                <a:gdLst/>
                <a:ahLst/>
                <a:rect l="l" t="t" r="r" b="b"/>
                <a:pathLst>
                  <a:path w="495" h="118">
                    <a:moveTo>
                      <a:pt x="442" y="15"/>
                    </a:moveTo>
                    <a:lnTo>
                      <a:pt x="447" y="0"/>
                    </a:lnTo>
                    <a:lnTo>
                      <a:pt x="440" y="8"/>
                    </a:lnTo>
                    <a:lnTo>
                      <a:pt x="426" y="17"/>
                    </a:lnTo>
                    <a:lnTo>
                      <a:pt x="407" y="23"/>
                    </a:lnTo>
                    <a:lnTo>
                      <a:pt x="385" y="32"/>
                    </a:lnTo>
                    <a:lnTo>
                      <a:pt x="360" y="36"/>
                    </a:lnTo>
                    <a:lnTo>
                      <a:pt x="331" y="44"/>
                    </a:lnTo>
                    <a:lnTo>
                      <a:pt x="301" y="49"/>
                    </a:lnTo>
                    <a:lnTo>
                      <a:pt x="268" y="53"/>
                    </a:lnTo>
                    <a:lnTo>
                      <a:pt x="234" y="57"/>
                    </a:lnTo>
                    <a:lnTo>
                      <a:pt x="200" y="59"/>
                    </a:lnTo>
                    <a:lnTo>
                      <a:pt x="164" y="61"/>
                    </a:lnTo>
                    <a:lnTo>
                      <a:pt x="130" y="63"/>
                    </a:lnTo>
                    <a:lnTo>
                      <a:pt x="97" y="65"/>
                    </a:lnTo>
                    <a:lnTo>
                      <a:pt x="63" y="65"/>
                    </a:lnTo>
                    <a:lnTo>
                      <a:pt x="31" y="63"/>
                    </a:lnTo>
                    <a:lnTo>
                      <a:pt x="0" y="63"/>
                    </a:lnTo>
                    <a:lnTo>
                      <a:pt x="0" y="116"/>
                    </a:lnTo>
                    <a:lnTo>
                      <a:pt x="31" y="116"/>
                    </a:lnTo>
                    <a:lnTo>
                      <a:pt x="63" y="118"/>
                    </a:lnTo>
                    <a:lnTo>
                      <a:pt x="97" y="118"/>
                    </a:lnTo>
                    <a:lnTo>
                      <a:pt x="133" y="116"/>
                    </a:lnTo>
                    <a:lnTo>
                      <a:pt x="168" y="114"/>
                    </a:lnTo>
                    <a:lnTo>
                      <a:pt x="204" y="112"/>
                    </a:lnTo>
                    <a:lnTo>
                      <a:pt x="238" y="110"/>
                    </a:lnTo>
                    <a:lnTo>
                      <a:pt x="276" y="107"/>
                    </a:lnTo>
                    <a:lnTo>
                      <a:pt x="308" y="103"/>
                    </a:lnTo>
                    <a:lnTo>
                      <a:pt x="343" y="97"/>
                    </a:lnTo>
                    <a:lnTo>
                      <a:pt x="371" y="89"/>
                    </a:lnTo>
                    <a:lnTo>
                      <a:pt x="400" y="82"/>
                    </a:lnTo>
                    <a:lnTo>
                      <a:pt x="426" y="72"/>
                    </a:lnTo>
                    <a:lnTo>
                      <a:pt x="449" y="63"/>
                    </a:lnTo>
                    <a:lnTo>
                      <a:pt x="470" y="49"/>
                    </a:lnTo>
                    <a:lnTo>
                      <a:pt x="489" y="34"/>
                    </a:lnTo>
                    <a:lnTo>
                      <a:pt x="495" y="19"/>
                    </a:lnTo>
                    <a:lnTo>
                      <a:pt x="44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6995880" y="4237560"/>
                <a:ext cx="16920" cy="163440"/>
              </a:xfrm>
              <a:custGeom>
                <a:avLst/>
                <a:gdLst/>
                <a:ahLst/>
                <a:rect l="l" t="t" r="r" b="b"/>
                <a:pathLst>
                  <a:path w="66" h="467">
                    <a:moveTo>
                      <a:pt x="7" y="4"/>
                    </a:moveTo>
                    <a:lnTo>
                      <a:pt x="7" y="4"/>
                    </a:lnTo>
                    <a:lnTo>
                      <a:pt x="9" y="33"/>
                    </a:lnTo>
                    <a:lnTo>
                      <a:pt x="11" y="60"/>
                    </a:lnTo>
                    <a:lnTo>
                      <a:pt x="11" y="88"/>
                    </a:lnTo>
                    <a:lnTo>
                      <a:pt x="13" y="117"/>
                    </a:lnTo>
                    <a:lnTo>
                      <a:pt x="13" y="143"/>
                    </a:lnTo>
                    <a:lnTo>
                      <a:pt x="13" y="172"/>
                    </a:lnTo>
                    <a:lnTo>
                      <a:pt x="13" y="200"/>
                    </a:lnTo>
                    <a:lnTo>
                      <a:pt x="13" y="229"/>
                    </a:lnTo>
                    <a:lnTo>
                      <a:pt x="13" y="258"/>
                    </a:lnTo>
                    <a:lnTo>
                      <a:pt x="13" y="286"/>
                    </a:lnTo>
                    <a:lnTo>
                      <a:pt x="11" y="315"/>
                    </a:lnTo>
                    <a:lnTo>
                      <a:pt x="9" y="343"/>
                    </a:lnTo>
                    <a:lnTo>
                      <a:pt x="7" y="372"/>
                    </a:lnTo>
                    <a:lnTo>
                      <a:pt x="5" y="402"/>
                    </a:lnTo>
                    <a:lnTo>
                      <a:pt x="4" y="433"/>
                    </a:lnTo>
                    <a:lnTo>
                      <a:pt x="0" y="463"/>
                    </a:lnTo>
                    <a:lnTo>
                      <a:pt x="53" y="467"/>
                    </a:lnTo>
                    <a:lnTo>
                      <a:pt x="57" y="437"/>
                    </a:lnTo>
                    <a:lnTo>
                      <a:pt x="59" y="406"/>
                    </a:lnTo>
                    <a:lnTo>
                      <a:pt x="61" y="376"/>
                    </a:lnTo>
                    <a:lnTo>
                      <a:pt x="63" y="347"/>
                    </a:lnTo>
                    <a:lnTo>
                      <a:pt x="64" y="318"/>
                    </a:lnTo>
                    <a:lnTo>
                      <a:pt x="66" y="286"/>
                    </a:lnTo>
                    <a:lnTo>
                      <a:pt x="66" y="258"/>
                    </a:lnTo>
                    <a:lnTo>
                      <a:pt x="66" y="229"/>
                    </a:lnTo>
                    <a:lnTo>
                      <a:pt x="66" y="200"/>
                    </a:lnTo>
                    <a:lnTo>
                      <a:pt x="66" y="172"/>
                    </a:lnTo>
                    <a:lnTo>
                      <a:pt x="66" y="143"/>
                    </a:lnTo>
                    <a:lnTo>
                      <a:pt x="66" y="117"/>
                    </a:lnTo>
                    <a:lnTo>
                      <a:pt x="64" y="88"/>
                    </a:lnTo>
                    <a:lnTo>
                      <a:pt x="64" y="60"/>
                    </a:lnTo>
                    <a:lnTo>
                      <a:pt x="63" y="29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6977520" y="4047840"/>
                <a:ext cx="33840" cy="190800"/>
              </a:xfrm>
              <a:custGeom>
                <a:avLst/>
                <a:gdLst/>
                <a:ahLst/>
                <a:rect l="l" t="t" r="r" b="b"/>
                <a:pathLst>
                  <a:path w="134" h="542">
                    <a:moveTo>
                      <a:pt x="0" y="7"/>
                    </a:moveTo>
                    <a:lnTo>
                      <a:pt x="0" y="7"/>
                    </a:lnTo>
                    <a:lnTo>
                      <a:pt x="4" y="42"/>
                    </a:lnTo>
                    <a:lnTo>
                      <a:pt x="10" y="74"/>
                    </a:lnTo>
                    <a:lnTo>
                      <a:pt x="16" y="108"/>
                    </a:lnTo>
                    <a:lnTo>
                      <a:pt x="21" y="141"/>
                    </a:lnTo>
                    <a:lnTo>
                      <a:pt x="27" y="175"/>
                    </a:lnTo>
                    <a:lnTo>
                      <a:pt x="33" y="209"/>
                    </a:lnTo>
                    <a:lnTo>
                      <a:pt x="38" y="241"/>
                    </a:lnTo>
                    <a:lnTo>
                      <a:pt x="44" y="276"/>
                    </a:lnTo>
                    <a:lnTo>
                      <a:pt x="50" y="310"/>
                    </a:lnTo>
                    <a:lnTo>
                      <a:pt x="56" y="342"/>
                    </a:lnTo>
                    <a:lnTo>
                      <a:pt x="61" y="377"/>
                    </a:lnTo>
                    <a:lnTo>
                      <a:pt x="67" y="409"/>
                    </a:lnTo>
                    <a:lnTo>
                      <a:pt x="71" y="443"/>
                    </a:lnTo>
                    <a:lnTo>
                      <a:pt x="75" y="478"/>
                    </a:lnTo>
                    <a:lnTo>
                      <a:pt x="78" y="508"/>
                    </a:lnTo>
                    <a:lnTo>
                      <a:pt x="80" y="542"/>
                    </a:lnTo>
                    <a:lnTo>
                      <a:pt x="134" y="538"/>
                    </a:lnTo>
                    <a:lnTo>
                      <a:pt x="132" y="504"/>
                    </a:lnTo>
                    <a:lnTo>
                      <a:pt x="128" y="470"/>
                    </a:lnTo>
                    <a:lnTo>
                      <a:pt x="124" y="436"/>
                    </a:lnTo>
                    <a:lnTo>
                      <a:pt x="120" y="401"/>
                    </a:lnTo>
                    <a:lnTo>
                      <a:pt x="115" y="369"/>
                    </a:lnTo>
                    <a:lnTo>
                      <a:pt x="109" y="335"/>
                    </a:lnTo>
                    <a:lnTo>
                      <a:pt x="103" y="302"/>
                    </a:lnTo>
                    <a:lnTo>
                      <a:pt x="97" y="268"/>
                    </a:lnTo>
                    <a:lnTo>
                      <a:pt x="92" y="234"/>
                    </a:lnTo>
                    <a:lnTo>
                      <a:pt x="86" y="201"/>
                    </a:lnTo>
                    <a:lnTo>
                      <a:pt x="80" y="167"/>
                    </a:lnTo>
                    <a:lnTo>
                      <a:pt x="75" y="133"/>
                    </a:lnTo>
                    <a:lnTo>
                      <a:pt x="69" y="101"/>
                    </a:lnTo>
                    <a:lnTo>
                      <a:pt x="63" y="66"/>
                    </a:lnTo>
                    <a:lnTo>
                      <a:pt x="57" y="3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963120" y="3882600"/>
                <a:ext cx="27720" cy="167760"/>
              </a:xfrm>
              <a:custGeom>
                <a:avLst/>
                <a:gdLst/>
                <a:ahLst/>
                <a:rect l="l" t="t" r="r" b="b"/>
                <a:pathLst>
                  <a:path w="111" h="478">
                    <a:moveTo>
                      <a:pt x="0" y="8"/>
                    </a:moveTo>
                    <a:lnTo>
                      <a:pt x="0" y="8"/>
                    </a:lnTo>
                    <a:lnTo>
                      <a:pt x="4" y="36"/>
                    </a:lnTo>
                    <a:lnTo>
                      <a:pt x="10" y="65"/>
                    </a:lnTo>
                    <a:lnTo>
                      <a:pt x="14" y="96"/>
                    </a:lnTo>
                    <a:lnTo>
                      <a:pt x="17" y="124"/>
                    </a:lnTo>
                    <a:lnTo>
                      <a:pt x="21" y="153"/>
                    </a:lnTo>
                    <a:lnTo>
                      <a:pt x="25" y="181"/>
                    </a:lnTo>
                    <a:lnTo>
                      <a:pt x="27" y="210"/>
                    </a:lnTo>
                    <a:lnTo>
                      <a:pt x="31" y="242"/>
                    </a:lnTo>
                    <a:lnTo>
                      <a:pt x="35" y="271"/>
                    </a:lnTo>
                    <a:lnTo>
                      <a:pt x="38" y="299"/>
                    </a:lnTo>
                    <a:lnTo>
                      <a:pt x="40" y="328"/>
                    </a:lnTo>
                    <a:lnTo>
                      <a:pt x="44" y="360"/>
                    </a:lnTo>
                    <a:lnTo>
                      <a:pt x="48" y="387"/>
                    </a:lnTo>
                    <a:lnTo>
                      <a:pt x="50" y="417"/>
                    </a:lnTo>
                    <a:lnTo>
                      <a:pt x="54" y="448"/>
                    </a:lnTo>
                    <a:lnTo>
                      <a:pt x="57" y="478"/>
                    </a:lnTo>
                    <a:lnTo>
                      <a:pt x="111" y="471"/>
                    </a:lnTo>
                    <a:lnTo>
                      <a:pt x="107" y="440"/>
                    </a:lnTo>
                    <a:lnTo>
                      <a:pt x="103" y="414"/>
                    </a:lnTo>
                    <a:lnTo>
                      <a:pt x="101" y="383"/>
                    </a:lnTo>
                    <a:lnTo>
                      <a:pt x="97" y="353"/>
                    </a:lnTo>
                    <a:lnTo>
                      <a:pt x="94" y="324"/>
                    </a:lnTo>
                    <a:lnTo>
                      <a:pt x="92" y="295"/>
                    </a:lnTo>
                    <a:lnTo>
                      <a:pt x="88" y="263"/>
                    </a:lnTo>
                    <a:lnTo>
                      <a:pt x="84" y="235"/>
                    </a:lnTo>
                    <a:lnTo>
                      <a:pt x="80" y="206"/>
                    </a:lnTo>
                    <a:lnTo>
                      <a:pt x="78" y="177"/>
                    </a:lnTo>
                    <a:lnTo>
                      <a:pt x="74" y="145"/>
                    </a:lnTo>
                    <a:lnTo>
                      <a:pt x="71" y="116"/>
                    </a:lnTo>
                    <a:lnTo>
                      <a:pt x="67" y="88"/>
                    </a:lnTo>
                    <a:lnTo>
                      <a:pt x="63" y="57"/>
                    </a:lnTo>
                    <a:lnTo>
                      <a:pt x="57" y="29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6939000" y="3811680"/>
                <a:ext cx="37440" cy="73440"/>
              </a:xfrm>
              <a:custGeom>
                <a:avLst/>
                <a:gdLst/>
                <a:ahLst/>
                <a:rect l="l" t="t" r="r" b="b"/>
                <a:pathLst>
                  <a:path w="149" h="210">
                    <a:moveTo>
                      <a:pt x="4" y="54"/>
                    </a:moveTo>
                    <a:lnTo>
                      <a:pt x="4" y="54"/>
                    </a:lnTo>
                    <a:lnTo>
                      <a:pt x="15" y="56"/>
                    </a:lnTo>
                    <a:lnTo>
                      <a:pt x="29" y="65"/>
                    </a:lnTo>
                    <a:lnTo>
                      <a:pt x="44" y="82"/>
                    </a:lnTo>
                    <a:lnTo>
                      <a:pt x="59" y="103"/>
                    </a:lnTo>
                    <a:lnTo>
                      <a:pt x="71" y="130"/>
                    </a:lnTo>
                    <a:lnTo>
                      <a:pt x="82" y="160"/>
                    </a:lnTo>
                    <a:lnTo>
                      <a:pt x="91" y="187"/>
                    </a:lnTo>
                    <a:lnTo>
                      <a:pt x="95" y="210"/>
                    </a:lnTo>
                    <a:lnTo>
                      <a:pt x="149" y="202"/>
                    </a:lnTo>
                    <a:lnTo>
                      <a:pt x="141" y="172"/>
                    </a:lnTo>
                    <a:lnTo>
                      <a:pt x="131" y="141"/>
                    </a:lnTo>
                    <a:lnTo>
                      <a:pt x="120" y="111"/>
                    </a:lnTo>
                    <a:lnTo>
                      <a:pt x="105" y="77"/>
                    </a:lnTo>
                    <a:lnTo>
                      <a:pt x="86" y="48"/>
                    </a:lnTo>
                    <a:lnTo>
                      <a:pt x="63" y="23"/>
                    </a:lnTo>
                    <a:lnTo>
                      <a:pt x="34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843960" y="3811680"/>
                <a:ext cx="95760" cy="40680"/>
              </a:xfrm>
              <a:custGeom>
                <a:avLst/>
                <a:gdLst/>
                <a:ahLst/>
                <a:rect l="l" t="t" r="r" b="b"/>
                <a:pathLst>
                  <a:path w="379" h="117">
                    <a:moveTo>
                      <a:pt x="32" y="67"/>
                    </a:moveTo>
                    <a:lnTo>
                      <a:pt x="42" y="107"/>
                    </a:lnTo>
                    <a:lnTo>
                      <a:pt x="50" y="101"/>
                    </a:lnTo>
                    <a:lnTo>
                      <a:pt x="59" y="94"/>
                    </a:lnTo>
                    <a:lnTo>
                      <a:pt x="72" y="88"/>
                    </a:lnTo>
                    <a:lnTo>
                      <a:pt x="88" y="80"/>
                    </a:lnTo>
                    <a:lnTo>
                      <a:pt x="109" y="75"/>
                    </a:lnTo>
                    <a:lnTo>
                      <a:pt x="128" y="71"/>
                    </a:lnTo>
                    <a:lnTo>
                      <a:pt x="151" y="67"/>
                    </a:lnTo>
                    <a:lnTo>
                      <a:pt x="173" y="65"/>
                    </a:lnTo>
                    <a:lnTo>
                      <a:pt x="198" y="63"/>
                    </a:lnTo>
                    <a:lnTo>
                      <a:pt x="225" y="61"/>
                    </a:lnTo>
                    <a:lnTo>
                      <a:pt x="251" y="60"/>
                    </a:lnTo>
                    <a:lnTo>
                      <a:pt x="276" y="58"/>
                    </a:lnTo>
                    <a:lnTo>
                      <a:pt x="303" y="58"/>
                    </a:lnTo>
                    <a:lnTo>
                      <a:pt x="329" y="56"/>
                    </a:lnTo>
                    <a:lnTo>
                      <a:pt x="356" y="56"/>
                    </a:lnTo>
                    <a:lnTo>
                      <a:pt x="379" y="54"/>
                    </a:lnTo>
                    <a:lnTo>
                      <a:pt x="375" y="0"/>
                    </a:lnTo>
                    <a:lnTo>
                      <a:pt x="352" y="2"/>
                    </a:lnTo>
                    <a:lnTo>
                      <a:pt x="329" y="2"/>
                    </a:lnTo>
                    <a:lnTo>
                      <a:pt x="303" y="4"/>
                    </a:lnTo>
                    <a:lnTo>
                      <a:pt x="276" y="4"/>
                    </a:lnTo>
                    <a:lnTo>
                      <a:pt x="248" y="6"/>
                    </a:lnTo>
                    <a:lnTo>
                      <a:pt x="221" y="8"/>
                    </a:lnTo>
                    <a:lnTo>
                      <a:pt x="194" y="10"/>
                    </a:lnTo>
                    <a:lnTo>
                      <a:pt x="170" y="12"/>
                    </a:lnTo>
                    <a:lnTo>
                      <a:pt x="143" y="14"/>
                    </a:lnTo>
                    <a:lnTo>
                      <a:pt x="116" y="18"/>
                    </a:lnTo>
                    <a:lnTo>
                      <a:pt x="93" y="25"/>
                    </a:lnTo>
                    <a:lnTo>
                      <a:pt x="72" y="31"/>
                    </a:lnTo>
                    <a:lnTo>
                      <a:pt x="50" y="39"/>
                    </a:lnTo>
                    <a:lnTo>
                      <a:pt x="32" y="48"/>
                    </a:lnTo>
                    <a:lnTo>
                      <a:pt x="15" y="60"/>
                    </a:lnTo>
                    <a:lnTo>
                      <a:pt x="0" y="77"/>
                    </a:lnTo>
                    <a:lnTo>
                      <a:pt x="10" y="11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846120" y="3835440"/>
                <a:ext cx="31680" cy="62280"/>
              </a:xfrm>
              <a:custGeom>
                <a:avLst/>
                <a:gdLst/>
                <a:ahLst/>
                <a:rect l="l" t="t" r="r" b="b"/>
                <a:pathLst>
                  <a:path w="125" h="179">
                    <a:moveTo>
                      <a:pt x="125" y="179"/>
                    </a:moveTo>
                    <a:lnTo>
                      <a:pt x="125" y="179"/>
                    </a:lnTo>
                    <a:lnTo>
                      <a:pt x="123" y="151"/>
                    </a:lnTo>
                    <a:lnTo>
                      <a:pt x="118" y="126"/>
                    </a:lnTo>
                    <a:lnTo>
                      <a:pt x="110" y="99"/>
                    </a:lnTo>
                    <a:lnTo>
                      <a:pt x="99" y="74"/>
                    </a:lnTo>
                    <a:lnTo>
                      <a:pt x="83" y="52"/>
                    </a:lnTo>
                    <a:lnTo>
                      <a:pt x="66" y="31"/>
                    </a:lnTo>
                    <a:lnTo>
                      <a:pt x="45" y="13"/>
                    </a:lnTo>
                    <a:lnTo>
                      <a:pt x="22" y="0"/>
                    </a:lnTo>
                    <a:lnTo>
                      <a:pt x="0" y="50"/>
                    </a:lnTo>
                    <a:lnTo>
                      <a:pt x="15" y="59"/>
                    </a:lnTo>
                    <a:lnTo>
                      <a:pt x="28" y="69"/>
                    </a:lnTo>
                    <a:lnTo>
                      <a:pt x="42" y="82"/>
                    </a:lnTo>
                    <a:lnTo>
                      <a:pt x="53" y="101"/>
                    </a:lnTo>
                    <a:lnTo>
                      <a:pt x="61" y="118"/>
                    </a:lnTo>
                    <a:lnTo>
                      <a:pt x="64" y="137"/>
                    </a:lnTo>
                    <a:lnTo>
                      <a:pt x="70" y="158"/>
                    </a:lnTo>
                    <a:lnTo>
                      <a:pt x="72" y="179"/>
                    </a:lnTo>
                    <a:lnTo>
                      <a:pt x="72" y="179"/>
                    </a:lnTo>
                    <a:lnTo>
                      <a:pt x="125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6873840" y="4421520"/>
                <a:ext cx="360" cy="75600"/>
              </a:xfrm>
              <a:custGeom>
                <a:avLst/>
                <a:gdLst/>
                <a:ahLst/>
                <a:rect l="l" t="t" r="r" b="b"/>
                <a:pathLst>
                  <a:path w="4" h="217">
                    <a:moveTo>
                      <a:pt x="4" y="0"/>
                    </a:moveTo>
                    <a:lnTo>
                      <a:pt x="4" y="53"/>
                    </a:lnTo>
                    <a:lnTo>
                      <a:pt x="2" y="109"/>
                    </a:lnTo>
                    <a:lnTo>
                      <a:pt x="2" y="162"/>
                    </a:lnTo>
                    <a:lnTo>
                      <a:pt x="0" y="217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889320" y="4426200"/>
                <a:ext cx="360" cy="70560"/>
              </a:xfrm>
              <a:custGeom>
                <a:avLst/>
                <a:gdLst/>
                <a:ahLst/>
                <a:rect l="l" t="t" r="r" b="b"/>
                <a:pathLst>
                  <a:path w="0" h="202">
                    <a:moveTo>
                      <a:pt x="0" y="0"/>
                    </a:moveTo>
                    <a:lnTo>
                      <a:pt x="0" y="50"/>
                    </a:lnTo>
                    <a:lnTo>
                      <a:pt x="0" y="101"/>
                    </a:lnTo>
                    <a:lnTo>
                      <a:pt x="0" y="151"/>
                    </a:lnTo>
                    <a:lnTo>
                      <a:pt x="0" y="202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6900840" y="4426920"/>
                <a:ext cx="720" cy="76320"/>
              </a:xfrm>
              <a:custGeom>
                <a:avLst/>
                <a:gdLst/>
                <a:ahLst/>
                <a:rect l="l" t="t" r="r" b="b"/>
                <a:pathLst>
                  <a:path w="4" h="217">
                    <a:moveTo>
                      <a:pt x="0" y="0"/>
                    </a:moveTo>
                    <a:lnTo>
                      <a:pt x="2" y="54"/>
                    </a:lnTo>
                    <a:lnTo>
                      <a:pt x="2" y="109"/>
                    </a:lnTo>
                    <a:lnTo>
                      <a:pt x="4" y="162"/>
                    </a:lnTo>
                    <a:lnTo>
                      <a:pt x="4" y="217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6922800" y="4425480"/>
                <a:ext cx="720" cy="73440"/>
              </a:xfrm>
              <a:custGeom>
                <a:avLst/>
                <a:gdLst/>
                <a:ahLst/>
                <a:rect l="l" t="t" r="r" b="b"/>
                <a:pathLst>
                  <a:path w="4" h="210">
                    <a:moveTo>
                      <a:pt x="2" y="0"/>
                    </a:moveTo>
                    <a:lnTo>
                      <a:pt x="4" y="46"/>
                    </a:lnTo>
                    <a:lnTo>
                      <a:pt x="4" y="98"/>
                    </a:lnTo>
                    <a:lnTo>
                      <a:pt x="4" y="153"/>
                    </a:lnTo>
                    <a:lnTo>
                      <a:pt x="0" y="210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6937920" y="4424760"/>
                <a:ext cx="6840" cy="65880"/>
              </a:xfrm>
              <a:custGeom>
                <a:avLst/>
                <a:gdLst/>
                <a:ahLst/>
                <a:rect l="l" t="t" r="r" b="b"/>
                <a:pathLst>
                  <a:path w="29" h="186">
                    <a:moveTo>
                      <a:pt x="0" y="0"/>
                    </a:moveTo>
                    <a:lnTo>
                      <a:pt x="6" y="47"/>
                    </a:lnTo>
                    <a:lnTo>
                      <a:pt x="14" y="95"/>
                    </a:lnTo>
                    <a:lnTo>
                      <a:pt x="23" y="142"/>
                    </a:lnTo>
                    <a:lnTo>
                      <a:pt x="29" y="186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960240" y="44218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6" h="173">
                    <a:moveTo>
                      <a:pt x="0" y="0"/>
                    </a:moveTo>
                    <a:lnTo>
                      <a:pt x="2" y="44"/>
                    </a:lnTo>
                    <a:lnTo>
                      <a:pt x="4" y="86"/>
                    </a:lnTo>
                    <a:lnTo>
                      <a:pt x="4" y="130"/>
                    </a:lnTo>
                    <a:lnTo>
                      <a:pt x="6" y="173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980400" y="4415760"/>
                <a:ext cx="2520" cy="61560"/>
              </a:xfrm>
              <a:custGeom>
                <a:avLst/>
                <a:gdLst/>
                <a:ahLst/>
                <a:rect l="l" t="t" r="r" b="b"/>
                <a:pathLst>
                  <a:path w="9" h="177">
                    <a:moveTo>
                      <a:pt x="0" y="0"/>
                    </a:moveTo>
                    <a:lnTo>
                      <a:pt x="2" y="44"/>
                    </a:lnTo>
                    <a:lnTo>
                      <a:pt x="5" y="87"/>
                    </a:lnTo>
                    <a:lnTo>
                      <a:pt x="7" y="133"/>
                    </a:lnTo>
                    <a:lnTo>
                      <a:pt x="9" y="177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6994800" y="4409640"/>
                <a:ext cx="10080" cy="68040"/>
              </a:xfrm>
              <a:custGeom>
                <a:avLst/>
                <a:gdLst/>
                <a:ahLst/>
                <a:rect l="l" t="t" r="r" b="b"/>
                <a:pathLst>
                  <a:path w="40" h="194">
                    <a:moveTo>
                      <a:pt x="0" y="0"/>
                    </a:moveTo>
                    <a:lnTo>
                      <a:pt x="9" y="49"/>
                    </a:lnTo>
                    <a:lnTo>
                      <a:pt x="21" y="97"/>
                    </a:lnTo>
                    <a:lnTo>
                      <a:pt x="32" y="146"/>
                    </a:lnTo>
                    <a:lnTo>
                      <a:pt x="40" y="194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6864120" y="3841200"/>
                <a:ext cx="109080" cy="74520"/>
              </a:xfrm>
              <a:custGeom>
                <a:avLst/>
                <a:gdLst/>
                <a:ahLst/>
                <a:rect l="l" t="t" r="r" b="b"/>
                <a:pathLst>
                  <a:path w="428" h="212">
                    <a:moveTo>
                      <a:pt x="375" y="0"/>
                    </a:moveTo>
                    <a:lnTo>
                      <a:pt x="352" y="4"/>
                    </a:lnTo>
                    <a:lnTo>
                      <a:pt x="329" y="8"/>
                    </a:lnTo>
                    <a:lnTo>
                      <a:pt x="305" y="12"/>
                    </a:lnTo>
                    <a:lnTo>
                      <a:pt x="282" y="15"/>
                    </a:lnTo>
                    <a:lnTo>
                      <a:pt x="259" y="19"/>
                    </a:lnTo>
                    <a:lnTo>
                      <a:pt x="236" y="23"/>
                    </a:lnTo>
                    <a:lnTo>
                      <a:pt x="211" y="27"/>
                    </a:lnTo>
                    <a:lnTo>
                      <a:pt x="188" y="31"/>
                    </a:lnTo>
                    <a:lnTo>
                      <a:pt x="166" y="36"/>
                    </a:lnTo>
                    <a:lnTo>
                      <a:pt x="141" y="40"/>
                    </a:lnTo>
                    <a:lnTo>
                      <a:pt x="118" y="44"/>
                    </a:lnTo>
                    <a:lnTo>
                      <a:pt x="93" y="48"/>
                    </a:lnTo>
                    <a:lnTo>
                      <a:pt x="70" y="52"/>
                    </a:lnTo>
                    <a:lnTo>
                      <a:pt x="48" y="55"/>
                    </a:lnTo>
                    <a:lnTo>
                      <a:pt x="23" y="59"/>
                    </a:lnTo>
                    <a:lnTo>
                      <a:pt x="0" y="63"/>
                    </a:lnTo>
                    <a:lnTo>
                      <a:pt x="17" y="101"/>
                    </a:lnTo>
                    <a:lnTo>
                      <a:pt x="29" y="137"/>
                    </a:lnTo>
                    <a:lnTo>
                      <a:pt x="34" y="174"/>
                    </a:lnTo>
                    <a:lnTo>
                      <a:pt x="36" y="212"/>
                    </a:lnTo>
                    <a:lnTo>
                      <a:pt x="61" y="208"/>
                    </a:lnTo>
                    <a:lnTo>
                      <a:pt x="86" y="204"/>
                    </a:lnTo>
                    <a:lnTo>
                      <a:pt x="110" y="200"/>
                    </a:lnTo>
                    <a:lnTo>
                      <a:pt x="135" y="198"/>
                    </a:lnTo>
                    <a:lnTo>
                      <a:pt x="160" y="194"/>
                    </a:lnTo>
                    <a:lnTo>
                      <a:pt x="185" y="191"/>
                    </a:lnTo>
                    <a:lnTo>
                      <a:pt x="207" y="187"/>
                    </a:lnTo>
                    <a:lnTo>
                      <a:pt x="232" y="185"/>
                    </a:lnTo>
                    <a:lnTo>
                      <a:pt x="257" y="181"/>
                    </a:lnTo>
                    <a:lnTo>
                      <a:pt x="282" y="177"/>
                    </a:lnTo>
                    <a:lnTo>
                      <a:pt x="306" y="174"/>
                    </a:lnTo>
                    <a:lnTo>
                      <a:pt x="331" y="172"/>
                    </a:lnTo>
                    <a:lnTo>
                      <a:pt x="356" y="168"/>
                    </a:lnTo>
                    <a:lnTo>
                      <a:pt x="379" y="164"/>
                    </a:lnTo>
                    <a:lnTo>
                      <a:pt x="403" y="162"/>
                    </a:lnTo>
                    <a:lnTo>
                      <a:pt x="428" y="158"/>
                    </a:lnTo>
                    <a:lnTo>
                      <a:pt x="415" y="115"/>
                    </a:lnTo>
                    <a:lnTo>
                      <a:pt x="402" y="76"/>
                    </a:lnTo>
                    <a:lnTo>
                      <a:pt x="388" y="38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4d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858720" y="3831840"/>
                <a:ext cx="101880" cy="40680"/>
              </a:xfrm>
              <a:custGeom>
                <a:avLst/>
                <a:gdLst/>
                <a:ahLst/>
                <a:rect l="l" t="t" r="r" b="b"/>
                <a:pathLst>
                  <a:path w="402" h="116">
                    <a:moveTo>
                      <a:pt x="46" y="78"/>
                    </a:moveTo>
                    <a:lnTo>
                      <a:pt x="27" y="116"/>
                    </a:lnTo>
                    <a:lnTo>
                      <a:pt x="50" y="112"/>
                    </a:lnTo>
                    <a:lnTo>
                      <a:pt x="74" y="108"/>
                    </a:lnTo>
                    <a:lnTo>
                      <a:pt x="97" y="104"/>
                    </a:lnTo>
                    <a:lnTo>
                      <a:pt x="120" y="101"/>
                    </a:lnTo>
                    <a:lnTo>
                      <a:pt x="145" y="97"/>
                    </a:lnTo>
                    <a:lnTo>
                      <a:pt x="168" y="93"/>
                    </a:lnTo>
                    <a:lnTo>
                      <a:pt x="194" y="89"/>
                    </a:lnTo>
                    <a:lnTo>
                      <a:pt x="217" y="83"/>
                    </a:lnTo>
                    <a:lnTo>
                      <a:pt x="238" y="80"/>
                    </a:lnTo>
                    <a:lnTo>
                      <a:pt x="263" y="76"/>
                    </a:lnTo>
                    <a:lnTo>
                      <a:pt x="286" y="72"/>
                    </a:lnTo>
                    <a:lnTo>
                      <a:pt x="308" y="68"/>
                    </a:lnTo>
                    <a:lnTo>
                      <a:pt x="331" y="64"/>
                    </a:lnTo>
                    <a:lnTo>
                      <a:pt x="356" y="61"/>
                    </a:lnTo>
                    <a:lnTo>
                      <a:pt x="379" y="57"/>
                    </a:lnTo>
                    <a:lnTo>
                      <a:pt x="402" y="53"/>
                    </a:lnTo>
                    <a:lnTo>
                      <a:pt x="394" y="0"/>
                    </a:lnTo>
                    <a:lnTo>
                      <a:pt x="371" y="3"/>
                    </a:lnTo>
                    <a:lnTo>
                      <a:pt x="348" y="7"/>
                    </a:lnTo>
                    <a:lnTo>
                      <a:pt x="324" y="11"/>
                    </a:lnTo>
                    <a:lnTo>
                      <a:pt x="301" y="15"/>
                    </a:lnTo>
                    <a:lnTo>
                      <a:pt x="278" y="19"/>
                    </a:lnTo>
                    <a:lnTo>
                      <a:pt x="255" y="22"/>
                    </a:lnTo>
                    <a:lnTo>
                      <a:pt x="230" y="26"/>
                    </a:lnTo>
                    <a:lnTo>
                      <a:pt x="206" y="30"/>
                    </a:lnTo>
                    <a:lnTo>
                      <a:pt x="183" y="36"/>
                    </a:lnTo>
                    <a:lnTo>
                      <a:pt x="160" y="40"/>
                    </a:lnTo>
                    <a:lnTo>
                      <a:pt x="137" y="43"/>
                    </a:lnTo>
                    <a:lnTo>
                      <a:pt x="112" y="47"/>
                    </a:lnTo>
                    <a:lnTo>
                      <a:pt x="90" y="51"/>
                    </a:lnTo>
                    <a:lnTo>
                      <a:pt x="67" y="55"/>
                    </a:lnTo>
                    <a:lnTo>
                      <a:pt x="42" y="59"/>
                    </a:lnTo>
                    <a:lnTo>
                      <a:pt x="19" y="62"/>
                    </a:lnTo>
                    <a:lnTo>
                      <a:pt x="0" y="101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858720" y="3859560"/>
                <a:ext cx="21600" cy="651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55" y="133"/>
                    </a:moveTo>
                    <a:lnTo>
                      <a:pt x="86" y="160"/>
                    </a:lnTo>
                    <a:lnTo>
                      <a:pt x="86" y="139"/>
                    </a:lnTo>
                    <a:lnTo>
                      <a:pt x="84" y="120"/>
                    </a:lnTo>
                    <a:lnTo>
                      <a:pt x="82" y="99"/>
                    </a:lnTo>
                    <a:lnTo>
                      <a:pt x="78" y="78"/>
                    </a:lnTo>
                    <a:lnTo>
                      <a:pt x="71" y="59"/>
                    </a:lnTo>
                    <a:lnTo>
                      <a:pt x="65" y="40"/>
                    </a:lnTo>
                    <a:lnTo>
                      <a:pt x="57" y="19"/>
                    </a:lnTo>
                    <a:lnTo>
                      <a:pt x="46" y="0"/>
                    </a:lnTo>
                    <a:lnTo>
                      <a:pt x="0" y="23"/>
                    </a:lnTo>
                    <a:lnTo>
                      <a:pt x="8" y="42"/>
                    </a:lnTo>
                    <a:lnTo>
                      <a:pt x="15" y="59"/>
                    </a:lnTo>
                    <a:lnTo>
                      <a:pt x="21" y="74"/>
                    </a:lnTo>
                    <a:lnTo>
                      <a:pt x="25" y="93"/>
                    </a:lnTo>
                    <a:lnTo>
                      <a:pt x="29" y="106"/>
                    </a:lnTo>
                    <a:lnTo>
                      <a:pt x="31" y="123"/>
                    </a:lnTo>
                    <a:lnTo>
                      <a:pt x="32" y="142"/>
                    </a:lnTo>
                    <a:lnTo>
                      <a:pt x="32" y="160"/>
                    </a:lnTo>
                    <a:lnTo>
                      <a:pt x="63" y="186"/>
                    </a:lnTo>
                    <a:lnTo>
                      <a:pt x="55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872760" y="3887640"/>
                <a:ext cx="106560" cy="37080"/>
              </a:xfrm>
              <a:custGeom>
                <a:avLst/>
                <a:gdLst/>
                <a:ahLst/>
                <a:rect l="l" t="t" r="r" b="b"/>
                <a:pathLst>
                  <a:path w="421" h="106">
                    <a:moveTo>
                      <a:pt x="371" y="34"/>
                    </a:moveTo>
                    <a:lnTo>
                      <a:pt x="392" y="0"/>
                    </a:lnTo>
                    <a:lnTo>
                      <a:pt x="368" y="3"/>
                    </a:lnTo>
                    <a:lnTo>
                      <a:pt x="343" y="5"/>
                    </a:lnTo>
                    <a:lnTo>
                      <a:pt x="320" y="9"/>
                    </a:lnTo>
                    <a:lnTo>
                      <a:pt x="295" y="13"/>
                    </a:lnTo>
                    <a:lnTo>
                      <a:pt x="271" y="15"/>
                    </a:lnTo>
                    <a:lnTo>
                      <a:pt x="246" y="19"/>
                    </a:lnTo>
                    <a:lnTo>
                      <a:pt x="221" y="22"/>
                    </a:lnTo>
                    <a:lnTo>
                      <a:pt x="196" y="26"/>
                    </a:lnTo>
                    <a:lnTo>
                      <a:pt x="172" y="28"/>
                    </a:lnTo>
                    <a:lnTo>
                      <a:pt x="149" y="32"/>
                    </a:lnTo>
                    <a:lnTo>
                      <a:pt x="124" y="36"/>
                    </a:lnTo>
                    <a:lnTo>
                      <a:pt x="99" y="40"/>
                    </a:lnTo>
                    <a:lnTo>
                      <a:pt x="75" y="42"/>
                    </a:lnTo>
                    <a:lnTo>
                      <a:pt x="50" y="45"/>
                    </a:lnTo>
                    <a:lnTo>
                      <a:pt x="25" y="49"/>
                    </a:lnTo>
                    <a:lnTo>
                      <a:pt x="0" y="53"/>
                    </a:lnTo>
                    <a:lnTo>
                      <a:pt x="8" y="106"/>
                    </a:lnTo>
                    <a:lnTo>
                      <a:pt x="33" y="102"/>
                    </a:lnTo>
                    <a:lnTo>
                      <a:pt x="57" y="99"/>
                    </a:lnTo>
                    <a:lnTo>
                      <a:pt x="82" y="95"/>
                    </a:lnTo>
                    <a:lnTo>
                      <a:pt x="107" y="93"/>
                    </a:lnTo>
                    <a:lnTo>
                      <a:pt x="132" y="89"/>
                    </a:lnTo>
                    <a:lnTo>
                      <a:pt x="156" y="85"/>
                    </a:lnTo>
                    <a:lnTo>
                      <a:pt x="179" y="82"/>
                    </a:lnTo>
                    <a:lnTo>
                      <a:pt x="204" y="80"/>
                    </a:lnTo>
                    <a:lnTo>
                      <a:pt x="229" y="76"/>
                    </a:lnTo>
                    <a:lnTo>
                      <a:pt x="253" y="72"/>
                    </a:lnTo>
                    <a:lnTo>
                      <a:pt x="278" y="68"/>
                    </a:lnTo>
                    <a:lnTo>
                      <a:pt x="303" y="66"/>
                    </a:lnTo>
                    <a:lnTo>
                      <a:pt x="328" y="62"/>
                    </a:lnTo>
                    <a:lnTo>
                      <a:pt x="351" y="59"/>
                    </a:lnTo>
                    <a:lnTo>
                      <a:pt x="375" y="57"/>
                    </a:lnTo>
                    <a:lnTo>
                      <a:pt x="400" y="53"/>
                    </a:lnTo>
                    <a:lnTo>
                      <a:pt x="421" y="19"/>
                    </a:lnTo>
                    <a:lnTo>
                      <a:pt x="3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953760" y="3831840"/>
                <a:ext cx="25560" cy="67320"/>
              </a:xfrm>
              <a:custGeom>
                <a:avLst/>
                <a:gdLst/>
                <a:ahLst/>
                <a:rect l="l" t="t" r="r" b="b"/>
                <a:pathLst>
                  <a:path w="103" h="192">
                    <a:moveTo>
                      <a:pt x="29" y="53"/>
                    </a:moveTo>
                    <a:lnTo>
                      <a:pt x="0" y="34"/>
                    </a:lnTo>
                    <a:lnTo>
                      <a:pt x="6" y="55"/>
                    </a:lnTo>
                    <a:lnTo>
                      <a:pt x="14" y="74"/>
                    </a:lnTo>
                    <a:lnTo>
                      <a:pt x="19" y="93"/>
                    </a:lnTo>
                    <a:lnTo>
                      <a:pt x="27" y="112"/>
                    </a:lnTo>
                    <a:lnTo>
                      <a:pt x="34" y="131"/>
                    </a:lnTo>
                    <a:lnTo>
                      <a:pt x="40" y="148"/>
                    </a:lnTo>
                    <a:lnTo>
                      <a:pt x="48" y="169"/>
                    </a:lnTo>
                    <a:lnTo>
                      <a:pt x="53" y="192"/>
                    </a:lnTo>
                    <a:lnTo>
                      <a:pt x="103" y="177"/>
                    </a:lnTo>
                    <a:lnTo>
                      <a:pt x="97" y="154"/>
                    </a:lnTo>
                    <a:lnTo>
                      <a:pt x="90" y="133"/>
                    </a:lnTo>
                    <a:lnTo>
                      <a:pt x="84" y="112"/>
                    </a:lnTo>
                    <a:lnTo>
                      <a:pt x="76" y="93"/>
                    </a:lnTo>
                    <a:lnTo>
                      <a:pt x="69" y="74"/>
                    </a:lnTo>
                    <a:lnTo>
                      <a:pt x="63" y="55"/>
                    </a:lnTo>
                    <a:lnTo>
                      <a:pt x="55" y="36"/>
                    </a:lnTo>
                    <a:lnTo>
                      <a:pt x="50" y="19"/>
                    </a:lnTo>
                    <a:lnTo>
                      <a:pt x="21" y="0"/>
                    </a:lnTo>
                    <a:lnTo>
                      <a:pt x="2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862680" y="4035240"/>
                <a:ext cx="132480" cy="111600"/>
              </a:xfrm>
              <a:custGeom>
                <a:avLst/>
                <a:gdLst/>
                <a:ahLst/>
                <a:rect l="l" t="t" r="r" b="b"/>
                <a:pathLst>
                  <a:path w="524" h="318">
                    <a:moveTo>
                      <a:pt x="480" y="0"/>
                    </a:moveTo>
                    <a:lnTo>
                      <a:pt x="453" y="2"/>
                    </a:lnTo>
                    <a:lnTo>
                      <a:pt x="425" y="4"/>
                    </a:lnTo>
                    <a:lnTo>
                      <a:pt x="396" y="8"/>
                    </a:lnTo>
                    <a:lnTo>
                      <a:pt x="368" y="10"/>
                    </a:lnTo>
                    <a:lnTo>
                      <a:pt x="337" y="12"/>
                    </a:lnTo>
                    <a:lnTo>
                      <a:pt x="307" y="16"/>
                    </a:lnTo>
                    <a:lnTo>
                      <a:pt x="276" y="18"/>
                    </a:lnTo>
                    <a:lnTo>
                      <a:pt x="246" y="21"/>
                    </a:lnTo>
                    <a:lnTo>
                      <a:pt x="215" y="23"/>
                    </a:lnTo>
                    <a:lnTo>
                      <a:pt x="185" y="25"/>
                    </a:lnTo>
                    <a:lnTo>
                      <a:pt x="155" y="27"/>
                    </a:lnTo>
                    <a:lnTo>
                      <a:pt x="126" y="29"/>
                    </a:lnTo>
                    <a:lnTo>
                      <a:pt x="97" y="29"/>
                    </a:lnTo>
                    <a:lnTo>
                      <a:pt x="69" y="29"/>
                    </a:lnTo>
                    <a:lnTo>
                      <a:pt x="42" y="29"/>
                    </a:lnTo>
                    <a:lnTo>
                      <a:pt x="17" y="27"/>
                    </a:lnTo>
                    <a:lnTo>
                      <a:pt x="14" y="99"/>
                    </a:lnTo>
                    <a:lnTo>
                      <a:pt x="10" y="172"/>
                    </a:lnTo>
                    <a:lnTo>
                      <a:pt x="4" y="244"/>
                    </a:lnTo>
                    <a:lnTo>
                      <a:pt x="0" y="317"/>
                    </a:lnTo>
                    <a:lnTo>
                      <a:pt x="29" y="318"/>
                    </a:lnTo>
                    <a:lnTo>
                      <a:pt x="59" y="318"/>
                    </a:lnTo>
                    <a:lnTo>
                      <a:pt x="92" y="318"/>
                    </a:lnTo>
                    <a:lnTo>
                      <a:pt x="124" y="318"/>
                    </a:lnTo>
                    <a:lnTo>
                      <a:pt x="158" y="318"/>
                    </a:lnTo>
                    <a:lnTo>
                      <a:pt x="193" y="317"/>
                    </a:lnTo>
                    <a:lnTo>
                      <a:pt x="227" y="315"/>
                    </a:lnTo>
                    <a:lnTo>
                      <a:pt x="263" y="313"/>
                    </a:lnTo>
                    <a:lnTo>
                      <a:pt x="297" y="309"/>
                    </a:lnTo>
                    <a:lnTo>
                      <a:pt x="332" y="305"/>
                    </a:lnTo>
                    <a:lnTo>
                      <a:pt x="366" y="303"/>
                    </a:lnTo>
                    <a:lnTo>
                      <a:pt x="400" y="299"/>
                    </a:lnTo>
                    <a:lnTo>
                      <a:pt x="432" y="294"/>
                    </a:lnTo>
                    <a:lnTo>
                      <a:pt x="465" y="290"/>
                    </a:lnTo>
                    <a:lnTo>
                      <a:pt x="495" y="286"/>
                    </a:lnTo>
                    <a:lnTo>
                      <a:pt x="524" y="280"/>
                    </a:lnTo>
                    <a:lnTo>
                      <a:pt x="510" y="208"/>
                    </a:lnTo>
                    <a:lnTo>
                      <a:pt x="499" y="138"/>
                    </a:lnTo>
                    <a:lnTo>
                      <a:pt x="488" y="67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860160" y="4025880"/>
                <a:ext cx="124200" cy="28800"/>
              </a:xfrm>
              <a:custGeom>
                <a:avLst/>
                <a:gdLst/>
                <a:ahLst/>
                <a:rect l="l" t="t" r="r" b="b"/>
                <a:pathLst>
                  <a:path w="491" h="82">
                    <a:moveTo>
                      <a:pt x="53" y="55"/>
                    </a:moveTo>
                    <a:lnTo>
                      <a:pt x="25" y="80"/>
                    </a:lnTo>
                    <a:lnTo>
                      <a:pt x="51" y="82"/>
                    </a:lnTo>
                    <a:lnTo>
                      <a:pt x="78" y="82"/>
                    </a:lnTo>
                    <a:lnTo>
                      <a:pt x="106" y="82"/>
                    </a:lnTo>
                    <a:lnTo>
                      <a:pt x="135" y="82"/>
                    </a:lnTo>
                    <a:lnTo>
                      <a:pt x="165" y="80"/>
                    </a:lnTo>
                    <a:lnTo>
                      <a:pt x="196" y="78"/>
                    </a:lnTo>
                    <a:lnTo>
                      <a:pt x="226" y="76"/>
                    </a:lnTo>
                    <a:lnTo>
                      <a:pt x="257" y="74"/>
                    </a:lnTo>
                    <a:lnTo>
                      <a:pt x="287" y="70"/>
                    </a:lnTo>
                    <a:lnTo>
                      <a:pt x="318" y="68"/>
                    </a:lnTo>
                    <a:lnTo>
                      <a:pt x="348" y="65"/>
                    </a:lnTo>
                    <a:lnTo>
                      <a:pt x="379" y="63"/>
                    </a:lnTo>
                    <a:lnTo>
                      <a:pt x="407" y="61"/>
                    </a:lnTo>
                    <a:lnTo>
                      <a:pt x="436" y="57"/>
                    </a:lnTo>
                    <a:lnTo>
                      <a:pt x="464" y="55"/>
                    </a:lnTo>
                    <a:lnTo>
                      <a:pt x="491" y="53"/>
                    </a:lnTo>
                    <a:lnTo>
                      <a:pt x="487" y="0"/>
                    </a:lnTo>
                    <a:lnTo>
                      <a:pt x="460" y="2"/>
                    </a:lnTo>
                    <a:lnTo>
                      <a:pt x="432" y="4"/>
                    </a:lnTo>
                    <a:lnTo>
                      <a:pt x="403" y="7"/>
                    </a:lnTo>
                    <a:lnTo>
                      <a:pt x="375" y="9"/>
                    </a:lnTo>
                    <a:lnTo>
                      <a:pt x="344" y="11"/>
                    </a:lnTo>
                    <a:lnTo>
                      <a:pt x="314" y="15"/>
                    </a:lnTo>
                    <a:lnTo>
                      <a:pt x="283" y="17"/>
                    </a:lnTo>
                    <a:lnTo>
                      <a:pt x="253" y="21"/>
                    </a:lnTo>
                    <a:lnTo>
                      <a:pt x="223" y="23"/>
                    </a:lnTo>
                    <a:lnTo>
                      <a:pt x="192" y="25"/>
                    </a:lnTo>
                    <a:lnTo>
                      <a:pt x="162" y="26"/>
                    </a:lnTo>
                    <a:lnTo>
                      <a:pt x="135" y="28"/>
                    </a:lnTo>
                    <a:lnTo>
                      <a:pt x="106" y="28"/>
                    </a:lnTo>
                    <a:lnTo>
                      <a:pt x="78" y="28"/>
                    </a:lnTo>
                    <a:lnTo>
                      <a:pt x="51" y="28"/>
                    </a:lnTo>
                    <a:lnTo>
                      <a:pt x="28" y="26"/>
                    </a:lnTo>
                    <a:lnTo>
                      <a:pt x="0" y="51"/>
                    </a:lnTo>
                    <a:lnTo>
                      <a:pt x="53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855480" y="4044240"/>
                <a:ext cx="18000" cy="111600"/>
              </a:xfrm>
              <a:custGeom>
                <a:avLst/>
                <a:gdLst/>
                <a:ahLst/>
                <a:rect l="l" t="t" r="r" b="b"/>
                <a:pathLst>
                  <a:path w="70" h="318">
                    <a:moveTo>
                      <a:pt x="28" y="265"/>
                    </a:moveTo>
                    <a:lnTo>
                      <a:pt x="53" y="293"/>
                    </a:lnTo>
                    <a:lnTo>
                      <a:pt x="55" y="257"/>
                    </a:lnTo>
                    <a:lnTo>
                      <a:pt x="57" y="221"/>
                    </a:lnTo>
                    <a:lnTo>
                      <a:pt x="59" y="185"/>
                    </a:lnTo>
                    <a:lnTo>
                      <a:pt x="63" y="149"/>
                    </a:lnTo>
                    <a:lnTo>
                      <a:pt x="64" y="113"/>
                    </a:lnTo>
                    <a:lnTo>
                      <a:pt x="66" y="76"/>
                    </a:lnTo>
                    <a:lnTo>
                      <a:pt x="68" y="40"/>
                    </a:lnTo>
                    <a:lnTo>
                      <a:pt x="70" y="4"/>
                    </a:lnTo>
                    <a:lnTo>
                      <a:pt x="17" y="0"/>
                    </a:lnTo>
                    <a:lnTo>
                      <a:pt x="15" y="36"/>
                    </a:lnTo>
                    <a:lnTo>
                      <a:pt x="13" y="73"/>
                    </a:lnTo>
                    <a:lnTo>
                      <a:pt x="11" y="109"/>
                    </a:lnTo>
                    <a:lnTo>
                      <a:pt x="9" y="145"/>
                    </a:lnTo>
                    <a:lnTo>
                      <a:pt x="5" y="181"/>
                    </a:lnTo>
                    <a:lnTo>
                      <a:pt x="4" y="217"/>
                    </a:lnTo>
                    <a:lnTo>
                      <a:pt x="2" y="253"/>
                    </a:lnTo>
                    <a:lnTo>
                      <a:pt x="0" y="290"/>
                    </a:lnTo>
                    <a:lnTo>
                      <a:pt x="24" y="318"/>
                    </a:lnTo>
                    <a:lnTo>
                      <a:pt x="28" y="2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862320" y="4124160"/>
                <a:ext cx="140040" cy="32040"/>
              </a:xfrm>
              <a:custGeom>
                <a:avLst/>
                <a:gdLst/>
                <a:ahLst/>
                <a:rect l="l" t="t" r="r" b="b"/>
                <a:pathLst>
                  <a:path w="552" h="91">
                    <a:moveTo>
                      <a:pt x="499" y="30"/>
                    </a:moveTo>
                    <a:lnTo>
                      <a:pt x="522" y="0"/>
                    </a:lnTo>
                    <a:lnTo>
                      <a:pt x="493" y="5"/>
                    </a:lnTo>
                    <a:lnTo>
                      <a:pt x="463" y="9"/>
                    </a:lnTo>
                    <a:lnTo>
                      <a:pt x="431" y="13"/>
                    </a:lnTo>
                    <a:lnTo>
                      <a:pt x="398" y="19"/>
                    </a:lnTo>
                    <a:lnTo>
                      <a:pt x="366" y="23"/>
                    </a:lnTo>
                    <a:lnTo>
                      <a:pt x="332" y="24"/>
                    </a:lnTo>
                    <a:lnTo>
                      <a:pt x="295" y="28"/>
                    </a:lnTo>
                    <a:lnTo>
                      <a:pt x="263" y="32"/>
                    </a:lnTo>
                    <a:lnTo>
                      <a:pt x="227" y="34"/>
                    </a:lnTo>
                    <a:lnTo>
                      <a:pt x="193" y="36"/>
                    </a:lnTo>
                    <a:lnTo>
                      <a:pt x="160" y="38"/>
                    </a:lnTo>
                    <a:lnTo>
                      <a:pt x="126" y="38"/>
                    </a:lnTo>
                    <a:lnTo>
                      <a:pt x="94" y="38"/>
                    </a:lnTo>
                    <a:lnTo>
                      <a:pt x="61" y="38"/>
                    </a:lnTo>
                    <a:lnTo>
                      <a:pt x="31" y="38"/>
                    </a:lnTo>
                    <a:lnTo>
                      <a:pt x="4" y="36"/>
                    </a:lnTo>
                    <a:lnTo>
                      <a:pt x="0" y="89"/>
                    </a:lnTo>
                    <a:lnTo>
                      <a:pt x="31" y="91"/>
                    </a:lnTo>
                    <a:lnTo>
                      <a:pt x="61" y="91"/>
                    </a:lnTo>
                    <a:lnTo>
                      <a:pt x="94" y="91"/>
                    </a:lnTo>
                    <a:lnTo>
                      <a:pt x="126" y="91"/>
                    </a:lnTo>
                    <a:lnTo>
                      <a:pt x="160" y="91"/>
                    </a:lnTo>
                    <a:lnTo>
                      <a:pt x="197" y="89"/>
                    </a:lnTo>
                    <a:lnTo>
                      <a:pt x="231" y="87"/>
                    </a:lnTo>
                    <a:lnTo>
                      <a:pt x="267" y="85"/>
                    </a:lnTo>
                    <a:lnTo>
                      <a:pt x="303" y="82"/>
                    </a:lnTo>
                    <a:lnTo>
                      <a:pt x="335" y="78"/>
                    </a:lnTo>
                    <a:lnTo>
                      <a:pt x="370" y="76"/>
                    </a:lnTo>
                    <a:lnTo>
                      <a:pt x="406" y="72"/>
                    </a:lnTo>
                    <a:lnTo>
                      <a:pt x="438" y="66"/>
                    </a:lnTo>
                    <a:lnTo>
                      <a:pt x="471" y="63"/>
                    </a:lnTo>
                    <a:lnTo>
                      <a:pt x="501" y="59"/>
                    </a:lnTo>
                    <a:lnTo>
                      <a:pt x="530" y="53"/>
                    </a:lnTo>
                    <a:lnTo>
                      <a:pt x="552" y="23"/>
                    </a:lnTo>
                    <a:lnTo>
                      <a:pt x="49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977520" y="4025880"/>
                <a:ext cx="24840" cy="108720"/>
              </a:xfrm>
              <a:custGeom>
                <a:avLst/>
                <a:gdLst/>
                <a:ahLst/>
                <a:rect l="l" t="t" r="r" b="b"/>
                <a:pathLst>
                  <a:path w="97" h="310">
                    <a:moveTo>
                      <a:pt x="29" y="53"/>
                    </a:moveTo>
                    <a:lnTo>
                      <a:pt x="0" y="28"/>
                    </a:lnTo>
                    <a:lnTo>
                      <a:pt x="4" y="63"/>
                    </a:lnTo>
                    <a:lnTo>
                      <a:pt x="8" y="97"/>
                    </a:lnTo>
                    <a:lnTo>
                      <a:pt x="14" y="133"/>
                    </a:lnTo>
                    <a:lnTo>
                      <a:pt x="19" y="167"/>
                    </a:lnTo>
                    <a:lnTo>
                      <a:pt x="25" y="204"/>
                    </a:lnTo>
                    <a:lnTo>
                      <a:pt x="31" y="240"/>
                    </a:lnTo>
                    <a:lnTo>
                      <a:pt x="38" y="276"/>
                    </a:lnTo>
                    <a:lnTo>
                      <a:pt x="44" y="310"/>
                    </a:lnTo>
                    <a:lnTo>
                      <a:pt x="97" y="303"/>
                    </a:lnTo>
                    <a:lnTo>
                      <a:pt x="92" y="264"/>
                    </a:lnTo>
                    <a:lnTo>
                      <a:pt x="84" y="228"/>
                    </a:lnTo>
                    <a:lnTo>
                      <a:pt x="78" y="196"/>
                    </a:lnTo>
                    <a:lnTo>
                      <a:pt x="73" y="160"/>
                    </a:lnTo>
                    <a:lnTo>
                      <a:pt x="67" y="125"/>
                    </a:lnTo>
                    <a:lnTo>
                      <a:pt x="61" y="89"/>
                    </a:lnTo>
                    <a:lnTo>
                      <a:pt x="57" y="55"/>
                    </a:lnTo>
                    <a:lnTo>
                      <a:pt x="54" y="25"/>
                    </a:lnTo>
                    <a:lnTo>
                      <a:pt x="25" y="0"/>
                    </a:lnTo>
                    <a:lnTo>
                      <a:pt x="2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860160" y="4219560"/>
                <a:ext cx="147960" cy="124200"/>
              </a:xfrm>
              <a:custGeom>
                <a:avLst/>
                <a:gdLst/>
                <a:ahLst/>
                <a:rect l="l" t="t" r="r" b="b"/>
                <a:pathLst>
                  <a:path w="584" h="354">
                    <a:moveTo>
                      <a:pt x="0" y="70"/>
                    </a:moveTo>
                    <a:lnTo>
                      <a:pt x="34" y="69"/>
                    </a:lnTo>
                    <a:lnTo>
                      <a:pt x="70" y="67"/>
                    </a:lnTo>
                    <a:lnTo>
                      <a:pt x="106" y="65"/>
                    </a:lnTo>
                    <a:lnTo>
                      <a:pt x="145" y="61"/>
                    </a:lnTo>
                    <a:lnTo>
                      <a:pt x="183" y="57"/>
                    </a:lnTo>
                    <a:lnTo>
                      <a:pt x="221" y="55"/>
                    </a:lnTo>
                    <a:lnTo>
                      <a:pt x="259" y="49"/>
                    </a:lnTo>
                    <a:lnTo>
                      <a:pt x="297" y="46"/>
                    </a:lnTo>
                    <a:lnTo>
                      <a:pt x="333" y="42"/>
                    </a:lnTo>
                    <a:lnTo>
                      <a:pt x="371" y="36"/>
                    </a:lnTo>
                    <a:lnTo>
                      <a:pt x="407" y="30"/>
                    </a:lnTo>
                    <a:lnTo>
                      <a:pt x="441" y="25"/>
                    </a:lnTo>
                    <a:lnTo>
                      <a:pt x="476" y="19"/>
                    </a:lnTo>
                    <a:lnTo>
                      <a:pt x="508" y="13"/>
                    </a:lnTo>
                    <a:lnTo>
                      <a:pt x="539" y="8"/>
                    </a:lnTo>
                    <a:lnTo>
                      <a:pt x="567" y="0"/>
                    </a:lnTo>
                    <a:lnTo>
                      <a:pt x="571" y="70"/>
                    </a:lnTo>
                    <a:lnTo>
                      <a:pt x="577" y="141"/>
                    </a:lnTo>
                    <a:lnTo>
                      <a:pt x="580" y="211"/>
                    </a:lnTo>
                    <a:lnTo>
                      <a:pt x="584" y="282"/>
                    </a:lnTo>
                    <a:lnTo>
                      <a:pt x="567" y="291"/>
                    </a:lnTo>
                    <a:lnTo>
                      <a:pt x="542" y="301"/>
                    </a:lnTo>
                    <a:lnTo>
                      <a:pt x="514" y="310"/>
                    </a:lnTo>
                    <a:lnTo>
                      <a:pt x="479" y="318"/>
                    </a:lnTo>
                    <a:lnTo>
                      <a:pt x="443" y="326"/>
                    </a:lnTo>
                    <a:lnTo>
                      <a:pt x="401" y="333"/>
                    </a:lnTo>
                    <a:lnTo>
                      <a:pt x="360" y="339"/>
                    </a:lnTo>
                    <a:lnTo>
                      <a:pt x="316" y="345"/>
                    </a:lnTo>
                    <a:lnTo>
                      <a:pt x="270" y="348"/>
                    </a:lnTo>
                    <a:lnTo>
                      <a:pt x="226" y="352"/>
                    </a:lnTo>
                    <a:lnTo>
                      <a:pt x="183" y="354"/>
                    </a:lnTo>
                    <a:lnTo>
                      <a:pt x="139" y="354"/>
                    </a:lnTo>
                    <a:lnTo>
                      <a:pt x="99" y="354"/>
                    </a:lnTo>
                    <a:lnTo>
                      <a:pt x="63" y="352"/>
                    </a:lnTo>
                    <a:lnTo>
                      <a:pt x="28" y="348"/>
                    </a:lnTo>
                    <a:lnTo>
                      <a:pt x="0" y="343"/>
                    </a:lnTo>
                    <a:lnTo>
                      <a:pt x="0" y="272"/>
                    </a:lnTo>
                    <a:lnTo>
                      <a:pt x="0" y="206"/>
                    </a:lnTo>
                    <a:lnTo>
                      <a:pt x="0" y="139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4d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859800" y="4210560"/>
                <a:ext cx="151200" cy="43200"/>
              </a:xfrm>
              <a:custGeom>
                <a:avLst/>
                <a:gdLst/>
                <a:ahLst/>
                <a:rect l="l" t="t" r="r" b="b"/>
                <a:pathLst>
                  <a:path w="596" h="124">
                    <a:moveTo>
                      <a:pt x="596" y="25"/>
                    </a:moveTo>
                    <a:lnTo>
                      <a:pt x="563" y="0"/>
                    </a:lnTo>
                    <a:lnTo>
                      <a:pt x="535" y="8"/>
                    </a:lnTo>
                    <a:lnTo>
                      <a:pt x="506" y="14"/>
                    </a:lnTo>
                    <a:lnTo>
                      <a:pt x="474" y="19"/>
                    </a:lnTo>
                    <a:lnTo>
                      <a:pt x="440" y="25"/>
                    </a:lnTo>
                    <a:lnTo>
                      <a:pt x="405" y="31"/>
                    </a:lnTo>
                    <a:lnTo>
                      <a:pt x="369" y="37"/>
                    </a:lnTo>
                    <a:lnTo>
                      <a:pt x="331" y="42"/>
                    </a:lnTo>
                    <a:lnTo>
                      <a:pt x="297" y="46"/>
                    </a:lnTo>
                    <a:lnTo>
                      <a:pt x="257" y="50"/>
                    </a:lnTo>
                    <a:lnTo>
                      <a:pt x="221" y="56"/>
                    </a:lnTo>
                    <a:lnTo>
                      <a:pt x="183" y="57"/>
                    </a:lnTo>
                    <a:lnTo>
                      <a:pt x="145" y="61"/>
                    </a:lnTo>
                    <a:lnTo>
                      <a:pt x="107" y="65"/>
                    </a:lnTo>
                    <a:lnTo>
                      <a:pt x="70" y="67"/>
                    </a:lnTo>
                    <a:lnTo>
                      <a:pt x="34" y="69"/>
                    </a:lnTo>
                    <a:lnTo>
                      <a:pt x="0" y="71"/>
                    </a:lnTo>
                    <a:lnTo>
                      <a:pt x="4" y="124"/>
                    </a:lnTo>
                    <a:lnTo>
                      <a:pt x="38" y="122"/>
                    </a:lnTo>
                    <a:lnTo>
                      <a:pt x="74" y="120"/>
                    </a:lnTo>
                    <a:lnTo>
                      <a:pt x="110" y="118"/>
                    </a:lnTo>
                    <a:lnTo>
                      <a:pt x="148" y="115"/>
                    </a:lnTo>
                    <a:lnTo>
                      <a:pt x="186" y="111"/>
                    </a:lnTo>
                    <a:lnTo>
                      <a:pt x="225" y="109"/>
                    </a:lnTo>
                    <a:lnTo>
                      <a:pt x="265" y="103"/>
                    </a:lnTo>
                    <a:lnTo>
                      <a:pt x="301" y="99"/>
                    </a:lnTo>
                    <a:lnTo>
                      <a:pt x="339" y="96"/>
                    </a:lnTo>
                    <a:lnTo>
                      <a:pt x="377" y="90"/>
                    </a:lnTo>
                    <a:lnTo>
                      <a:pt x="413" y="84"/>
                    </a:lnTo>
                    <a:lnTo>
                      <a:pt x="447" y="78"/>
                    </a:lnTo>
                    <a:lnTo>
                      <a:pt x="481" y="73"/>
                    </a:lnTo>
                    <a:lnTo>
                      <a:pt x="514" y="67"/>
                    </a:lnTo>
                    <a:lnTo>
                      <a:pt x="546" y="61"/>
                    </a:lnTo>
                    <a:lnTo>
                      <a:pt x="575" y="54"/>
                    </a:lnTo>
                    <a:lnTo>
                      <a:pt x="542" y="29"/>
                    </a:lnTo>
                    <a:lnTo>
                      <a:pt x="59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997320" y="4219200"/>
                <a:ext cx="17640" cy="107280"/>
              </a:xfrm>
              <a:custGeom>
                <a:avLst/>
                <a:gdLst/>
                <a:ahLst/>
                <a:rect l="l" t="t" r="r" b="b"/>
                <a:pathLst>
                  <a:path w="71" h="307">
                    <a:moveTo>
                      <a:pt x="59" y="307"/>
                    </a:moveTo>
                    <a:lnTo>
                      <a:pt x="71" y="282"/>
                    </a:lnTo>
                    <a:lnTo>
                      <a:pt x="69" y="246"/>
                    </a:lnTo>
                    <a:lnTo>
                      <a:pt x="67" y="211"/>
                    </a:lnTo>
                    <a:lnTo>
                      <a:pt x="65" y="175"/>
                    </a:lnTo>
                    <a:lnTo>
                      <a:pt x="63" y="141"/>
                    </a:lnTo>
                    <a:lnTo>
                      <a:pt x="59" y="105"/>
                    </a:lnTo>
                    <a:lnTo>
                      <a:pt x="58" y="71"/>
                    </a:lnTo>
                    <a:lnTo>
                      <a:pt x="56" y="34"/>
                    </a:lnTo>
                    <a:lnTo>
                      <a:pt x="54" y="0"/>
                    </a:lnTo>
                    <a:lnTo>
                      <a:pt x="0" y="4"/>
                    </a:lnTo>
                    <a:lnTo>
                      <a:pt x="2" y="38"/>
                    </a:lnTo>
                    <a:lnTo>
                      <a:pt x="4" y="74"/>
                    </a:lnTo>
                    <a:lnTo>
                      <a:pt x="6" y="109"/>
                    </a:lnTo>
                    <a:lnTo>
                      <a:pt x="10" y="145"/>
                    </a:lnTo>
                    <a:lnTo>
                      <a:pt x="12" y="179"/>
                    </a:lnTo>
                    <a:lnTo>
                      <a:pt x="14" y="215"/>
                    </a:lnTo>
                    <a:lnTo>
                      <a:pt x="16" y="250"/>
                    </a:lnTo>
                    <a:lnTo>
                      <a:pt x="18" y="286"/>
                    </a:lnTo>
                    <a:lnTo>
                      <a:pt x="29" y="261"/>
                    </a:lnTo>
                    <a:lnTo>
                      <a:pt x="59" y="3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853680" y="4310280"/>
                <a:ext cx="158760" cy="42840"/>
              </a:xfrm>
              <a:custGeom>
                <a:avLst/>
                <a:gdLst/>
                <a:ahLst/>
                <a:rect l="l" t="t" r="r" b="b"/>
                <a:pathLst>
                  <a:path w="626" h="122">
                    <a:moveTo>
                      <a:pt x="0" y="84"/>
                    </a:moveTo>
                    <a:lnTo>
                      <a:pt x="21" y="110"/>
                    </a:lnTo>
                    <a:lnTo>
                      <a:pt x="52" y="116"/>
                    </a:lnTo>
                    <a:lnTo>
                      <a:pt x="88" y="120"/>
                    </a:lnTo>
                    <a:lnTo>
                      <a:pt x="126" y="122"/>
                    </a:lnTo>
                    <a:lnTo>
                      <a:pt x="166" y="122"/>
                    </a:lnTo>
                    <a:lnTo>
                      <a:pt x="210" y="122"/>
                    </a:lnTo>
                    <a:lnTo>
                      <a:pt x="255" y="120"/>
                    </a:lnTo>
                    <a:lnTo>
                      <a:pt x="299" y="116"/>
                    </a:lnTo>
                    <a:lnTo>
                      <a:pt x="345" y="112"/>
                    </a:lnTo>
                    <a:lnTo>
                      <a:pt x="390" y="107"/>
                    </a:lnTo>
                    <a:lnTo>
                      <a:pt x="432" y="101"/>
                    </a:lnTo>
                    <a:lnTo>
                      <a:pt x="476" y="93"/>
                    </a:lnTo>
                    <a:lnTo>
                      <a:pt x="512" y="86"/>
                    </a:lnTo>
                    <a:lnTo>
                      <a:pt x="548" y="78"/>
                    </a:lnTo>
                    <a:lnTo>
                      <a:pt x="579" y="67"/>
                    </a:lnTo>
                    <a:lnTo>
                      <a:pt x="605" y="57"/>
                    </a:lnTo>
                    <a:lnTo>
                      <a:pt x="626" y="46"/>
                    </a:lnTo>
                    <a:lnTo>
                      <a:pt x="596" y="0"/>
                    </a:lnTo>
                    <a:lnTo>
                      <a:pt x="583" y="8"/>
                    </a:lnTo>
                    <a:lnTo>
                      <a:pt x="560" y="17"/>
                    </a:lnTo>
                    <a:lnTo>
                      <a:pt x="533" y="25"/>
                    </a:lnTo>
                    <a:lnTo>
                      <a:pt x="501" y="32"/>
                    </a:lnTo>
                    <a:lnTo>
                      <a:pt x="465" y="40"/>
                    </a:lnTo>
                    <a:lnTo>
                      <a:pt x="425" y="48"/>
                    </a:lnTo>
                    <a:lnTo>
                      <a:pt x="383" y="53"/>
                    </a:lnTo>
                    <a:lnTo>
                      <a:pt x="341" y="59"/>
                    </a:lnTo>
                    <a:lnTo>
                      <a:pt x="295" y="63"/>
                    </a:lnTo>
                    <a:lnTo>
                      <a:pt x="251" y="67"/>
                    </a:lnTo>
                    <a:lnTo>
                      <a:pt x="210" y="68"/>
                    </a:lnTo>
                    <a:lnTo>
                      <a:pt x="166" y="68"/>
                    </a:lnTo>
                    <a:lnTo>
                      <a:pt x="126" y="68"/>
                    </a:lnTo>
                    <a:lnTo>
                      <a:pt x="92" y="67"/>
                    </a:lnTo>
                    <a:lnTo>
                      <a:pt x="59" y="63"/>
                    </a:lnTo>
                    <a:lnTo>
                      <a:pt x="33" y="57"/>
                    </a:lnTo>
                    <a:lnTo>
                      <a:pt x="53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853680" y="4235040"/>
                <a:ext cx="12960" cy="104400"/>
              </a:xfrm>
              <a:custGeom>
                <a:avLst/>
                <a:gdLst/>
                <a:ahLst/>
                <a:rect l="l" t="t" r="r" b="b"/>
                <a:pathLst>
                  <a:path w="53" h="299">
                    <a:moveTo>
                      <a:pt x="25" y="0"/>
                    </a:moveTo>
                    <a:lnTo>
                      <a:pt x="0" y="26"/>
                    </a:lnTo>
                    <a:lnTo>
                      <a:pt x="0" y="61"/>
                    </a:lnTo>
                    <a:lnTo>
                      <a:pt x="0" y="95"/>
                    </a:lnTo>
                    <a:lnTo>
                      <a:pt x="0" y="129"/>
                    </a:lnTo>
                    <a:lnTo>
                      <a:pt x="0" y="162"/>
                    </a:lnTo>
                    <a:lnTo>
                      <a:pt x="0" y="196"/>
                    </a:lnTo>
                    <a:lnTo>
                      <a:pt x="0" y="228"/>
                    </a:lnTo>
                    <a:lnTo>
                      <a:pt x="0" y="263"/>
                    </a:lnTo>
                    <a:lnTo>
                      <a:pt x="0" y="299"/>
                    </a:lnTo>
                    <a:lnTo>
                      <a:pt x="53" y="299"/>
                    </a:lnTo>
                    <a:lnTo>
                      <a:pt x="53" y="263"/>
                    </a:lnTo>
                    <a:lnTo>
                      <a:pt x="53" y="228"/>
                    </a:lnTo>
                    <a:lnTo>
                      <a:pt x="53" y="196"/>
                    </a:lnTo>
                    <a:lnTo>
                      <a:pt x="53" y="162"/>
                    </a:lnTo>
                    <a:lnTo>
                      <a:pt x="53" y="129"/>
                    </a:lnTo>
                    <a:lnTo>
                      <a:pt x="53" y="95"/>
                    </a:lnTo>
                    <a:lnTo>
                      <a:pt x="53" y="61"/>
                    </a:lnTo>
                    <a:lnTo>
                      <a:pt x="53" y="26"/>
                    </a:lnTo>
                    <a:lnTo>
                      <a:pt x="29" y="5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822720" y="418392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5"/>
                    </a:moveTo>
                    <a:lnTo>
                      <a:pt x="44" y="6"/>
                    </a:lnTo>
                    <a:lnTo>
                      <a:pt x="25" y="0"/>
                    </a:lnTo>
                    <a:lnTo>
                      <a:pt x="8" y="10"/>
                    </a:lnTo>
                    <a:lnTo>
                      <a:pt x="0" y="29"/>
                    </a:lnTo>
                    <a:lnTo>
                      <a:pt x="5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822720" y="4192200"/>
                <a:ext cx="18000" cy="87120"/>
              </a:xfrm>
              <a:custGeom>
                <a:avLst/>
                <a:gdLst/>
                <a:ahLst/>
                <a:rect l="l" t="t" r="r" b="b"/>
                <a:pathLst>
                  <a:path w="73" h="247">
                    <a:moveTo>
                      <a:pt x="21" y="225"/>
                    </a:moveTo>
                    <a:lnTo>
                      <a:pt x="73" y="234"/>
                    </a:lnTo>
                    <a:lnTo>
                      <a:pt x="71" y="206"/>
                    </a:lnTo>
                    <a:lnTo>
                      <a:pt x="67" y="175"/>
                    </a:lnTo>
                    <a:lnTo>
                      <a:pt x="65" y="147"/>
                    </a:lnTo>
                    <a:lnTo>
                      <a:pt x="63" y="116"/>
                    </a:lnTo>
                    <a:lnTo>
                      <a:pt x="59" y="88"/>
                    </a:lnTo>
                    <a:lnTo>
                      <a:pt x="57" y="59"/>
                    </a:lnTo>
                    <a:lnTo>
                      <a:pt x="56" y="28"/>
                    </a:lnTo>
                    <a:lnTo>
                      <a:pt x="54" y="0"/>
                    </a:lnTo>
                    <a:lnTo>
                      <a:pt x="0" y="4"/>
                    </a:lnTo>
                    <a:lnTo>
                      <a:pt x="2" y="32"/>
                    </a:lnTo>
                    <a:lnTo>
                      <a:pt x="4" y="63"/>
                    </a:lnTo>
                    <a:lnTo>
                      <a:pt x="6" y="91"/>
                    </a:lnTo>
                    <a:lnTo>
                      <a:pt x="10" y="120"/>
                    </a:lnTo>
                    <a:lnTo>
                      <a:pt x="12" y="150"/>
                    </a:lnTo>
                    <a:lnTo>
                      <a:pt x="14" y="179"/>
                    </a:lnTo>
                    <a:lnTo>
                      <a:pt x="18" y="209"/>
                    </a:lnTo>
                    <a:lnTo>
                      <a:pt x="19" y="238"/>
                    </a:lnTo>
                    <a:lnTo>
                      <a:pt x="71" y="247"/>
                    </a:lnTo>
                    <a:lnTo>
                      <a:pt x="2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827760" y="4193640"/>
                <a:ext cx="38520" cy="85680"/>
              </a:xfrm>
              <a:custGeom>
                <a:avLst/>
                <a:gdLst/>
                <a:ahLst/>
                <a:rect l="l" t="t" r="r" b="b"/>
                <a:pathLst>
                  <a:path w="153" h="243">
                    <a:moveTo>
                      <a:pt x="103" y="0"/>
                    </a:moveTo>
                    <a:lnTo>
                      <a:pt x="90" y="26"/>
                    </a:lnTo>
                    <a:lnTo>
                      <a:pt x="78" y="55"/>
                    </a:lnTo>
                    <a:lnTo>
                      <a:pt x="65" y="82"/>
                    </a:lnTo>
                    <a:lnTo>
                      <a:pt x="52" y="110"/>
                    </a:lnTo>
                    <a:lnTo>
                      <a:pt x="38" y="137"/>
                    </a:lnTo>
                    <a:lnTo>
                      <a:pt x="27" y="165"/>
                    </a:lnTo>
                    <a:lnTo>
                      <a:pt x="14" y="192"/>
                    </a:lnTo>
                    <a:lnTo>
                      <a:pt x="0" y="221"/>
                    </a:lnTo>
                    <a:lnTo>
                      <a:pt x="50" y="243"/>
                    </a:lnTo>
                    <a:lnTo>
                      <a:pt x="63" y="215"/>
                    </a:lnTo>
                    <a:lnTo>
                      <a:pt x="76" y="188"/>
                    </a:lnTo>
                    <a:lnTo>
                      <a:pt x="88" y="160"/>
                    </a:lnTo>
                    <a:lnTo>
                      <a:pt x="101" y="133"/>
                    </a:lnTo>
                    <a:lnTo>
                      <a:pt x="115" y="104"/>
                    </a:lnTo>
                    <a:lnTo>
                      <a:pt x="128" y="78"/>
                    </a:lnTo>
                    <a:lnTo>
                      <a:pt x="139" y="49"/>
                    </a:lnTo>
                    <a:lnTo>
                      <a:pt x="153" y="23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827760" y="4266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50" y="38"/>
                    </a:moveTo>
                    <a:lnTo>
                      <a:pt x="54" y="27"/>
                    </a:lnTo>
                    <a:lnTo>
                      <a:pt x="50" y="18"/>
                    </a:lnTo>
                    <a:lnTo>
                      <a:pt x="44" y="8"/>
                    </a:lnTo>
                    <a:lnTo>
                      <a:pt x="36" y="2"/>
                    </a:lnTo>
                    <a:lnTo>
                      <a:pt x="27" y="0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6"/>
                    </a:lnTo>
                    <a:lnTo>
                      <a:pt x="5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6860880" y="40413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51" h="36">
                    <a:moveTo>
                      <a:pt x="51" y="17"/>
                    </a:moveTo>
                    <a:lnTo>
                      <a:pt x="45" y="7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19" y="1"/>
                    </a:lnTo>
                    <a:lnTo>
                      <a:pt x="9" y="7"/>
                    </a:lnTo>
                    <a:lnTo>
                      <a:pt x="4" y="15"/>
                    </a:lnTo>
                    <a:lnTo>
                      <a:pt x="0" y="24"/>
                    </a:lnTo>
                    <a:lnTo>
                      <a:pt x="2" y="36"/>
                    </a:lnTo>
                    <a:lnTo>
                      <a:pt x="5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6861240" y="4047120"/>
                <a:ext cx="37800" cy="102960"/>
              </a:xfrm>
              <a:custGeom>
                <a:avLst/>
                <a:gdLst/>
                <a:ahLst/>
                <a:rect l="l" t="t" r="r" b="b"/>
                <a:pathLst>
                  <a:path w="150" h="293">
                    <a:moveTo>
                      <a:pt x="101" y="274"/>
                    </a:moveTo>
                    <a:lnTo>
                      <a:pt x="150" y="274"/>
                    </a:lnTo>
                    <a:lnTo>
                      <a:pt x="137" y="240"/>
                    </a:lnTo>
                    <a:lnTo>
                      <a:pt x="125" y="205"/>
                    </a:lnTo>
                    <a:lnTo>
                      <a:pt x="112" y="171"/>
                    </a:lnTo>
                    <a:lnTo>
                      <a:pt x="99" y="137"/>
                    </a:lnTo>
                    <a:lnTo>
                      <a:pt x="85" y="103"/>
                    </a:lnTo>
                    <a:lnTo>
                      <a:pt x="74" y="68"/>
                    </a:lnTo>
                    <a:lnTo>
                      <a:pt x="61" y="34"/>
                    </a:lnTo>
                    <a:lnTo>
                      <a:pt x="49" y="0"/>
                    </a:lnTo>
                    <a:lnTo>
                      <a:pt x="0" y="19"/>
                    </a:lnTo>
                    <a:lnTo>
                      <a:pt x="11" y="53"/>
                    </a:lnTo>
                    <a:lnTo>
                      <a:pt x="24" y="87"/>
                    </a:lnTo>
                    <a:lnTo>
                      <a:pt x="36" y="122"/>
                    </a:lnTo>
                    <a:lnTo>
                      <a:pt x="49" y="156"/>
                    </a:lnTo>
                    <a:lnTo>
                      <a:pt x="62" y="190"/>
                    </a:lnTo>
                    <a:lnTo>
                      <a:pt x="76" y="224"/>
                    </a:lnTo>
                    <a:lnTo>
                      <a:pt x="87" y="259"/>
                    </a:lnTo>
                    <a:lnTo>
                      <a:pt x="101" y="293"/>
                    </a:lnTo>
                    <a:lnTo>
                      <a:pt x="150" y="293"/>
                    </a:lnTo>
                    <a:lnTo>
                      <a:pt x="101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886440" y="4040640"/>
                <a:ext cx="38520" cy="109440"/>
              </a:xfrm>
              <a:custGeom>
                <a:avLst/>
                <a:gdLst/>
                <a:ahLst/>
                <a:rect l="l" t="t" r="r" b="b"/>
                <a:pathLst>
                  <a:path w="152" h="312">
                    <a:moveTo>
                      <a:pt x="152" y="0"/>
                    </a:moveTo>
                    <a:lnTo>
                      <a:pt x="102" y="0"/>
                    </a:lnTo>
                    <a:lnTo>
                      <a:pt x="89" y="38"/>
                    </a:lnTo>
                    <a:lnTo>
                      <a:pt x="78" y="74"/>
                    </a:lnTo>
                    <a:lnTo>
                      <a:pt x="64" y="108"/>
                    </a:lnTo>
                    <a:lnTo>
                      <a:pt x="51" y="146"/>
                    </a:lnTo>
                    <a:lnTo>
                      <a:pt x="38" y="184"/>
                    </a:lnTo>
                    <a:lnTo>
                      <a:pt x="26" y="221"/>
                    </a:lnTo>
                    <a:lnTo>
                      <a:pt x="13" y="257"/>
                    </a:lnTo>
                    <a:lnTo>
                      <a:pt x="0" y="293"/>
                    </a:lnTo>
                    <a:lnTo>
                      <a:pt x="49" y="312"/>
                    </a:lnTo>
                    <a:lnTo>
                      <a:pt x="62" y="276"/>
                    </a:lnTo>
                    <a:lnTo>
                      <a:pt x="76" y="236"/>
                    </a:lnTo>
                    <a:lnTo>
                      <a:pt x="87" y="200"/>
                    </a:lnTo>
                    <a:lnTo>
                      <a:pt x="100" y="165"/>
                    </a:lnTo>
                    <a:lnTo>
                      <a:pt x="114" y="127"/>
                    </a:lnTo>
                    <a:lnTo>
                      <a:pt x="127" y="89"/>
                    </a:lnTo>
                    <a:lnTo>
                      <a:pt x="138" y="53"/>
                    </a:lnTo>
                    <a:lnTo>
                      <a:pt x="152" y="19"/>
                    </a:lnTo>
                    <a:lnTo>
                      <a:pt x="102" y="19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913080" y="4040640"/>
                <a:ext cx="37440" cy="104400"/>
              </a:xfrm>
              <a:custGeom>
                <a:avLst/>
                <a:gdLst/>
                <a:ahLst/>
                <a:rect l="l" t="t" r="r" b="b"/>
                <a:pathLst>
                  <a:path w="149" h="299">
                    <a:moveTo>
                      <a:pt x="95" y="285"/>
                    </a:moveTo>
                    <a:lnTo>
                      <a:pt x="147" y="283"/>
                    </a:lnTo>
                    <a:lnTo>
                      <a:pt x="135" y="245"/>
                    </a:lnTo>
                    <a:lnTo>
                      <a:pt x="122" y="211"/>
                    </a:lnTo>
                    <a:lnTo>
                      <a:pt x="111" y="177"/>
                    </a:lnTo>
                    <a:lnTo>
                      <a:pt x="99" y="141"/>
                    </a:lnTo>
                    <a:lnTo>
                      <a:pt x="86" y="104"/>
                    </a:lnTo>
                    <a:lnTo>
                      <a:pt x="75" y="70"/>
                    </a:lnTo>
                    <a:lnTo>
                      <a:pt x="61" y="34"/>
                    </a:lnTo>
                    <a:lnTo>
                      <a:pt x="50" y="0"/>
                    </a:lnTo>
                    <a:lnTo>
                      <a:pt x="0" y="19"/>
                    </a:lnTo>
                    <a:lnTo>
                      <a:pt x="12" y="53"/>
                    </a:lnTo>
                    <a:lnTo>
                      <a:pt x="25" y="89"/>
                    </a:lnTo>
                    <a:lnTo>
                      <a:pt x="36" y="123"/>
                    </a:lnTo>
                    <a:lnTo>
                      <a:pt x="50" y="160"/>
                    </a:lnTo>
                    <a:lnTo>
                      <a:pt x="61" y="192"/>
                    </a:lnTo>
                    <a:lnTo>
                      <a:pt x="73" y="230"/>
                    </a:lnTo>
                    <a:lnTo>
                      <a:pt x="86" y="264"/>
                    </a:lnTo>
                    <a:lnTo>
                      <a:pt x="97" y="299"/>
                    </a:lnTo>
                    <a:lnTo>
                      <a:pt x="149" y="297"/>
                    </a:lnTo>
                    <a:lnTo>
                      <a:pt x="95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6936840" y="4035240"/>
                <a:ext cx="32400" cy="109440"/>
              </a:xfrm>
              <a:custGeom>
                <a:avLst/>
                <a:gdLst/>
                <a:ahLst/>
                <a:rect l="l" t="t" r="r" b="b"/>
                <a:pathLst>
                  <a:path w="128" h="313">
                    <a:moveTo>
                      <a:pt x="128" y="0"/>
                    </a:moveTo>
                    <a:lnTo>
                      <a:pt x="79" y="4"/>
                    </a:lnTo>
                    <a:lnTo>
                      <a:pt x="67" y="40"/>
                    </a:lnTo>
                    <a:lnTo>
                      <a:pt x="58" y="79"/>
                    </a:lnTo>
                    <a:lnTo>
                      <a:pt x="48" y="117"/>
                    </a:lnTo>
                    <a:lnTo>
                      <a:pt x="39" y="153"/>
                    </a:lnTo>
                    <a:lnTo>
                      <a:pt x="29" y="191"/>
                    </a:lnTo>
                    <a:lnTo>
                      <a:pt x="20" y="227"/>
                    </a:lnTo>
                    <a:lnTo>
                      <a:pt x="10" y="265"/>
                    </a:lnTo>
                    <a:lnTo>
                      <a:pt x="0" y="301"/>
                    </a:lnTo>
                    <a:lnTo>
                      <a:pt x="54" y="313"/>
                    </a:lnTo>
                    <a:lnTo>
                      <a:pt x="63" y="277"/>
                    </a:lnTo>
                    <a:lnTo>
                      <a:pt x="73" y="238"/>
                    </a:lnTo>
                    <a:lnTo>
                      <a:pt x="82" y="202"/>
                    </a:lnTo>
                    <a:lnTo>
                      <a:pt x="92" y="164"/>
                    </a:lnTo>
                    <a:lnTo>
                      <a:pt x="101" y="128"/>
                    </a:lnTo>
                    <a:lnTo>
                      <a:pt x="111" y="90"/>
                    </a:lnTo>
                    <a:lnTo>
                      <a:pt x="120" y="56"/>
                    </a:lnTo>
                    <a:lnTo>
                      <a:pt x="128" y="19"/>
                    </a:lnTo>
                    <a:lnTo>
                      <a:pt x="79" y="23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956640" y="4035240"/>
                <a:ext cx="42840" cy="102240"/>
              </a:xfrm>
              <a:custGeom>
                <a:avLst/>
                <a:gdLst/>
                <a:ahLst/>
                <a:rect l="l" t="t" r="r" b="b"/>
                <a:pathLst>
                  <a:path w="169" h="292">
                    <a:moveTo>
                      <a:pt x="169" y="269"/>
                    </a:moveTo>
                    <a:lnTo>
                      <a:pt x="154" y="235"/>
                    </a:lnTo>
                    <a:lnTo>
                      <a:pt x="138" y="202"/>
                    </a:lnTo>
                    <a:lnTo>
                      <a:pt x="123" y="170"/>
                    </a:lnTo>
                    <a:lnTo>
                      <a:pt x="110" y="136"/>
                    </a:lnTo>
                    <a:lnTo>
                      <a:pt x="95" y="101"/>
                    </a:lnTo>
                    <a:lnTo>
                      <a:pt x="79" y="67"/>
                    </a:lnTo>
                    <a:lnTo>
                      <a:pt x="64" y="35"/>
                    </a:lnTo>
                    <a:lnTo>
                      <a:pt x="49" y="0"/>
                    </a:lnTo>
                    <a:lnTo>
                      <a:pt x="0" y="23"/>
                    </a:lnTo>
                    <a:lnTo>
                      <a:pt x="15" y="58"/>
                    </a:lnTo>
                    <a:lnTo>
                      <a:pt x="30" y="90"/>
                    </a:lnTo>
                    <a:lnTo>
                      <a:pt x="45" y="124"/>
                    </a:lnTo>
                    <a:lnTo>
                      <a:pt x="60" y="155"/>
                    </a:lnTo>
                    <a:lnTo>
                      <a:pt x="74" y="189"/>
                    </a:lnTo>
                    <a:lnTo>
                      <a:pt x="89" y="225"/>
                    </a:lnTo>
                    <a:lnTo>
                      <a:pt x="104" y="258"/>
                    </a:lnTo>
                    <a:lnTo>
                      <a:pt x="119" y="292"/>
                    </a:lnTo>
                    <a:lnTo>
                      <a:pt x="169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956640" y="403524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0" y="23"/>
                    </a:moveTo>
                    <a:lnTo>
                      <a:pt x="7" y="33"/>
                    </a:lnTo>
                    <a:lnTo>
                      <a:pt x="17" y="39"/>
                    </a:lnTo>
                    <a:lnTo>
                      <a:pt x="26" y="39"/>
                    </a:lnTo>
                    <a:lnTo>
                      <a:pt x="36" y="37"/>
                    </a:lnTo>
                    <a:lnTo>
                      <a:pt x="43" y="31"/>
                    </a:lnTo>
                    <a:lnTo>
                      <a:pt x="49" y="21"/>
                    </a:lnTo>
                    <a:lnTo>
                      <a:pt x="53" y="12"/>
                    </a:lnTo>
                    <a:lnTo>
                      <a:pt x="4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793560" y="3825720"/>
                <a:ext cx="8280" cy="1908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15" y="54"/>
                    </a:moveTo>
                    <a:lnTo>
                      <a:pt x="27" y="48"/>
                    </a:lnTo>
                    <a:lnTo>
                      <a:pt x="33" y="40"/>
                    </a:lnTo>
                    <a:lnTo>
                      <a:pt x="34" y="31"/>
                    </a:lnTo>
                    <a:lnTo>
                      <a:pt x="34" y="20"/>
                    </a:lnTo>
                    <a:lnTo>
                      <a:pt x="29" y="10"/>
                    </a:lnTo>
                    <a:lnTo>
                      <a:pt x="21" y="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733800" y="3825720"/>
                <a:ext cx="62640" cy="39240"/>
              </a:xfrm>
              <a:custGeom>
                <a:avLst/>
                <a:gdLst/>
                <a:ahLst/>
                <a:rect l="l" t="t" r="r" b="b"/>
                <a:pathLst>
                  <a:path w="250" h="113">
                    <a:moveTo>
                      <a:pt x="31" y="63"/>
                    </a:moveTo>
                    <a:lnTo>
                      <a:pt x="21" y="113"/>
                    </a:lnTo>
                    <a:lnTo>
                      <a:pt x="250" y="54"/>
                    </a:lnTo>
                    <a:lnTo>
                      <a:pt x="238" y="0"/>
                    </a:lnTo>
                    <a:lnTo>
                      <a:pt x="10" y="59"/>
                    </a:lnTo>
                    <a:lnTo>
                      <a:pt x="0" y="109"/>
                    </a:lnTo>
                    <a:lnTo>
                      <a:pt x="3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733800" y="3848400"/>
                <a:ext cx="57240" cy="63720"/>
              </a:xfrm>
              <a:custGeom>
                <a:avLst/>
                <a:gdLst/>
                <a:ahLst/>
                <a:rect l="l" t="t" r="r" b="b"/>
                <a:pathLst>
                  <a:path w="227" h="183">
                    <a:moveTo>
                      <a:pt x="217" y="183"/>
                    </a:moveTo>
                    <a:lnTo>
                      <a:pt x="227" y="134"/>
                    </a:lnTo>
                    <a:lnTo>
                      <a:pt x="31" y="0"/>
                    </a:lnTo>
                    <a:lnTo>
                      <a:pt x="0" y="46"/>
                    </a:lnTo>
                    <a:lnTo>
                      <a:pt x="196" y="179"/>
                    </a:lnTo>
                    <a:lnTo>
                      <a:pt x="206" y="130"/>
                    </a:lnTo>
                    <a:lnTo>
                      <a:pt x="217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724440" y="389304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253" h="106">
                    <a:moveTo>
                      <a:pt x="23" y="55"/>
                    </a:moveTo>
                    <a:lnTo>
                      <a:pt x="17" y="106"/>
                    </a:lnTo>
                    <a:lnTo>
                      <a:pt x="253" y="53"/>
                    </a:lnTo>
                    <a:lnTo>
                      <a:pt x="242" y="0"/>
                    </a:lnTo>
                    <a:lnTo>
                      <a:pt x="6" y="53"/>
                    </a:lnTo>
                    <a:lnTo>
                      <a:pt x="0" y="105"/>
                    </a:lnTo>
                    <a:lnTo>
                      <a:pt x="23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724440" y="3912840"/>
                <a:ext cx="58680" cy="52560"/>
              </a:xfrm>
              <a:custGeom>
                <a:avLst/>
                <a:gdLst/>
                <a:ahLst/>
                <a:rect l="l" t="t" r="r" b="b"/>
                <a:pathLst>
                  <a:path w="232" h="150">
                    <a:moveTo>
                      <a:pt x="230" y="150"/>
                    </a:moveTo>
                    <a:lnTo>
                      <a:pt x="232" y="101"/>
                    </a:lnTo>
                    <a:lnTo>
                      <a:pt x="23" y="0"/>
                    </a:lnTo>
                    <a:lnTo>
                      <a:pt x="0" y="50"/>
                    </a:lnTo>
                    <a:lnTo>
                      <a:pt x="209" y="150"/>
                    </a:lnTo>
                    <a:lnTo>
                      <a:pt x="211" y="101"/>
                    </a:lnTo>
                    <a:lnTo>
                      <a:pt x="23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721560" y="3948120"/>
                <a:ext cx="61200" cy="48240"/>
              </a:xfrm>
              <a:custGeom>
                <a:avLst/>
                <a:gdLst/>
                <a:ahLst/>
                <a:rect l="l" t="t" r="r" b="b"/>
                <a:pathLst>
                  <a:path w="241" h="137">
                    <a:moveTo>
                      <a:pt x="9" y="112"/>
                    </a:moveTo>
                    <a:lnTo>
                      <a:pt x="19" y="137"/>
                    </a:lnTo>
                    <a:lnTo>
                      <a:pt x="241" y="49"/>
                    </a:lnTo>
                    <a:lnTo>
                      <a:pt x="222" y="0"/>
                    </a:lnTo>
                    <a:lnTo>
                      <a:pt x="0" y="88"/>
                    </a:lnTo>
                    <a:lnTo>
                      <a:pt x="9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716880" y="3978720"/>
                <a:ext cx="9000" cy="1800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18" y="0"/>
                    </a:moveTo>
                    <a:lnTo>
                      <a:pt x="8" y="5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2"/>
                    </a:lnTo>
                    <a:lnTo>
                      <a:pt x="8" y="41"/>
                    </a:lnTo>
                    <a:lnTo>
                      <a:pt x="16" y="47"/>
                    </a:lnTo>
                    <a:lnTo>
                      <a:pt x="25" y="51"/>
                    </a:lnTo>
                    <a:lnTo>
                      <a:pt x="37" y="4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623640" y="3816360"/>
                <a:ext cx="19080" cy="3276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48" y="0"/>
                    </a:moveTo>
                    <a:lnTo>
                      <a:pt x="61" y="6"/>
                    </a:lnTo>
                    <a:lnTo>
                      <a:pt x="71" y="19"/>
                    </a:lnTo>
                    <a:lnTo>
                      <a:pt x="76" y="34"/>
                    </a:lnTo>
                    <a:lnTo>
                      <a:pt x="76" y="53"/>
                    </a:lnTo>
                    <a:lnTo>
                      <a:pt x="69" y="70"/>
                    </a:lnTo>
                    <a:lnTo>
                      <a:pt x="59" y="84"/>
                    </a:lnTo>
                    <a:lnTo>
                      <a:pt x="44" y="93"/>
                    </a:lnTo>
                    <a:lnTo>
                      <a:pt x="29" y="93"/>
                    </a:lnTo>
                    <a:lnTo>
                      <a:pt x="15" y="87"/>
                    </a:lnTo>
                    <a:lnTo>
                      <a:pt x="6" y="74"/>
                    </a:lnTo>
                    <a:lnTo>
                      <a:pt x="0" y="59"/>
                    </a:lnTo>
                    <a:lnTo>
                      <a:pt x="0" y="40"/>
                    </a:lnTo>
                    <a:lnTo>
                      <a:pt x="8" y="23"/>
                    </a:lnTo>
                    <a:lnTo>
                      <a:pt x="19" y="7"/>
                    </a:lnTo>
                    <a:lnTo>
                      <a:pt x="33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634080" y="3807360"/>
                <a:ext cx="15120" cy="2916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86"/>
                    </a:moveTo>
                    <a:lnTo>
                      <a:pt x="61" y="84"/>
                    </a:lnTo>
                    <a:lnTo>
                      <a:pt x="61" y="55"/>
                    </a:lnTo>
                    <a:lnTo>
                      <a:pt x="51" y="33"/>
                    </a:lnTo>
                    <a:lnTo>
                      <a:pt x="36" y="12"/>
                    </a:lnTo>
                    <a:lnTo>
                      <a:pt x="12" y="0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8" y="67"/>
                    </a:lnTo>
                    <a:lnTo>
                      <a:pt x="8" y="76"/>
                    </a:lnTo>
                    <a:lnTo>
                      <a:pt x="8" y="74"/>
                    </a:lnTo>
                    <a:lnTo>
                      <a:pt x="61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629040" y="38332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0" y="73"/>
                    </a:moveTo>
                    <a:lnTo>
                      <a:pt x="0" y="73"/>
                    </a:lnTo>
                    <a:lnTo>
                      <a:pt x="29" y="71"/>
                    </a:lnTo>
                    <a:lnTo>
                      <a:pt x="55" y="56"/>
                    </a:lnTo>
                    <a:lnTo>
                      <a:pt x="69" y="37"/>
                    </a:lnTo>
                    <a:lnTo>
                      <a:pt x="80" y="12"/>
                    </a:lnTo>
                    <a:lnTo>
                      <a:pt x="27" y="0"/>
                    </a:lnTo>
                    <a:lnTo>
                      <a:pt x="23" y="10"/>
                    </a:lnTo>
                    <a:lnTo>
                      <a:pt x="17" y="18"/>
                    </a:lnTo>
                    <a:lnTo>
                      <a:pt x="13" y="21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616440" y="3828600"/>
                <a:ext cx="15480" cy="3024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0" y="0"/>
                    </a:moveTo>
                    <a:lnTo>
                      <a:pt x="0" y="2"/>
                    </a:lnTo>
                    <a:lnTo>
                      <a:pt x="0" y="31"/>
                    </a:lnTo>
                    <a:lnTo>
                      <a:pt x="9" y="53"/>
                    </a:lnTo>
                    <a:lnTo>
                      <a:pt x="24" y="74"/>
                    </a:lnTo>
                    <a:lnTo>
                      <a:pt x="49" y="86"/>
                    </a:lnTo>
                    <a:lnTo>
                      <a:pt x="60" y="32"/>
                    </a:lnTo>
                    <a:lnTo>
                      <a:pt x="59" y="32"/>
                    </a:lnTo>
                    <a:lnTo>
                      <a:pt x="55" y="27"/>
                    </a:lnTo>
                    <a:lnTo>
                      <a:pt x="53" y="1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616440" y="380736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0"/>
                    </a:lnTo>
                    <a:lnTo>
                      <a:pt x="51" y="0"/>
                    </a:lnTo>
                    <a:lnTo>
                      <a:pt x="26" y="15"/>
                    </a:lnTo>
                    <a:lnTo>
                      <a:pt x="11" y="36"/>
                    </a:lnTo>
                    <a:lnTo>
                      <a:pt x="0" y="61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3"/>
                    </a:lnTo>
                    <a:lnTo>
                      <a:pt x="66" y="53"/>
                    </a:lnTo>
                    <a:lnTo>
                      <a:pt x="68" y="53"/>
                    </a:lnTo>
                    <a:lnTo>
                      <a:pt x="68" y="5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7000920" y="377856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28" y="0"/>
                    </a:moveTo>
                    <a:lnTo>
                      <a:pt x="15" y="6"/>
                    </a:lnTo>
                    <a:lnTo>
                      <a:pt x="5" y="19"/>
                    </a:lnTo>
                    <a:lnTo>
                      <a:pt x="0" y="35"/>
                    </a:lnTo>
                    <a:lnTo>
                      <a:pt x="0" y="54"/>
                    </a:lnTo>
                    <a:lnTo>
                      <a:pt x="7" y="71"/>
                    </a:lnTo>
                    <a:lnTo>
                      <a:pt x="19" y="84"/>
                    </a:lnTo>
                    <a:lnTo>
                      <a:pt x="32" y="94"/>
                    </a:lnTo>
                    <a:lnTo>
                      <a:pt x="47" y="94"/>
                    </a:lnTo>
                    <a:lnTo>
                      <a:pt x="61" y="88"/>
                    </a:lnTo>
                    <a:lnTo>
                      <a:pt x="70" y="75"/>
                    </a:lnTo>
                    <a:lnTo>
                      <a:pt x="76" y="59"/>
                    </a:lnTo>
                    <a:lnTo>
                      <a:pt x="76" y="40"/>
                    </a:lnTo>
                    <a:lnTo>
                      <a:pt x="68" y="23"/>
                    </a:lnTo>
                    <a:lnTo>
                      <a:pt x="59" y="8"/>
                    </a:lnTo>
                    <a:lnTo>
                      <a:pt x="4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994080" y="3768840"/>
                <a:ext cx="15120" cy="3024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0" y="83"/>
                    </a:lnTo>
                    <a:lnTo>
                      <a:pt x="0" y="55"/>
                    </a:lnTo>
                    <a:lnTo>
                      <a:pt x="10" y="32"/>
                    </a:lnTo>
                    <a:lnTo>
                      <a:pt x="25" y="11"/>
                    </a:lnTo>
                    <a:lnTo>
                      <a:pt x="50" y="0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5" y="59"/>
                    </a:lnTo>
                    <a:lnTo>
                      <a:pt x="53" y="66"/>
                    </a:lnTo>
                    <a:lnTo>
                      <a:pt x="53" y="76"/>
                    </a:lnTo>
                    <a:lnTo>
                      <a:pt x="53" y="74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994080" y="3794760"/>
                <a:ext cx="20160" cy="2592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72"/>
                    </a:moveTo>
                    <a:lnTo>
                      <a:pt x="80" y="72"/>
                    </a:lnTo>
                    <a:lnTo>
                      <a:pt x="51" y="70"/>
                    </a:lnTo>
                    <a:lnTo>
                      <a:pt x="27" y="55"/>
                    </a:lnTo>
                    <a:lnTo>
                      <a:pt x="12" y="38"/>
                    </a:lnTo>
                    <a:lnTo>
                      <a:pt x="0" y="11"/>
                    </a:lnTo>
                    <a:lnTo>
                      <a:pt x="53" y="0"/>
                    </a:lnTo>
                    <a:lnTo>
                      <a:pt x="57" y="7"/>
                    </a:lnTo>
                    <a:lnTo>
                      <a:pt x="65" y="17"/>
                    </a:lnTo>
                    <a:lnTo>
                      <a:pt x="67" y="21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8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7011360" y="3790440"/>
                <a:ext cx="15120" cy="3024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61" y="0"/>
                    </a:moveTo>
                    <a:lnTo>
                      <a:pt x="61" y="1"/>
                    </a:lnTo>
                    <a:lnTo>
                      <a:pt x="61" y="30"/>
                    </a:lnTo>
                    <a:lnTo>
                      <a:pt x="51" y="53"/>
                    </a:lnTo>
                    <a:lnTo>
                      <a:pt x="36" y="74"/>
                    </a:lnTo>
                    <a:lnTo>
                      <a:pt x="11" y="85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5" y="26"/>
                    </a:lnTo>
                    <a:lnTo>
                      <a:pt x="7" y="1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7006320" y="376884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0" y="0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55" y="15"/>
                    </a:lnTo>
                    <a:lnTo>
                      <a:pt x="68" y="38"/>
                    </a:lnTo>
                    <a:lnTo>
                      <a:pt x="80" y="61"/>
                    </a:lnTo>
                    <a:lnTo>
                      <a:pt x="26" y="72"/>
                    </a:lnTo>
                    <a:lnTo>
                      <a:pt x="22" y="61"/>
                    </a:lnTo>
                    <a:lnTo>
                      <a:pt x="17" y="53"/>
                    </a:lnTo>
                    <a:lnTo>
                      <a:pt x="15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7022520" y="3816360"/>
                <a:ext cx="20160" cy="32760"/>
              </a:xfrm>
              <a:custGeom>
                <a:avLst/>
                <a:gdLst/>
                <a:ahLst/>
                <a:rect l="l" t="t" r="r" b="b"/>
                <a:pathLst>
                  <a:path w="80" h="93">
                    <a:moveTo>
                      <a:pt x="19" y="4"/>
                    </a:moveTo>
                    <a:lnTo>
                      <a:pt x="8" y="13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6" y="63"/>
                    </a:lnTo>
                    <a:lnTo>
                      <a:pt x="18" y="78"/>
                    </a:lnTo>
                    <a:lnTo>
                      <a:pt x="31" y="89"/>
                    </a:lnTo>
                    <a:lnTo>
                      <a:pt x="46" y="93"/>
                    </a:lnTo>
                    <a:lnTo>
                      <a:pt x="61" y="89"/>
                    </a:lnTo>
                    <a:lnTo>
                      <a:pt x="73" y="80"/>
                    </a:lnTo>
                    <a:lnTo>
                      <a:pt x="80" y="65"/>
                    </a:lnTo>
                    <a:lnTo>
                      <a:pt x="80" y="47"/>
                    </a:lnTo>
                    <a:lnTo>
                      <a:pt x="75" y="30"/>
                    </a:lnTo>
                    <a:lnTo>
                      <a:pt x="63" y="15"/>
                    </a:lnTo>
                    <a:lnTo>
                      <a:pt x="50" y="4"/>
                    </a:lnTo>
                    <a:lnTo>
                      <a:pt x="35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7015680" y="380952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7" y="93"/>
                    </a:moveTo>
                    <a:lnTo>
                      <a:pt x="9" y="93"/>
                    </a:lnTo>
                    <a:lnTo>
                      <a:pt x="4" y="82"/>
                    </a:lnTo>
                    <a:lnTo>
                      <a:pt x="0" y="68"/>
                    </a:lnTo>
                    <a:lnTo>
                      <a:pt x="0" y="53"/>
                    </a:lnTo>
                    <a:lnTo>
                      <a:pt x="2" y="42"/>
                    </a:lnTo>
                    <a:lnTo>
                      <a:pt x="5" y="30"/>
                    </a:lnTo>
                    <a:lnTo>
                      <a:pt x="13" y="15"/>
                    </a:lnTo>
                    <a:lnTo>
                      <a:pt x="23" y="5"/>
                    </a:lnTo>
                    <a:lnTo>
                      <a:pt x="34" y="0"/>
                    </a:lnTo>
                    <a:lnTo>
                      <a:pt x="57" y="45"/>
                    </a:lnTo>
                    <a:lnTo>
                      <a:pt x="57" y="47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53"/>
                    </a:lnTo>
                    <a:lnTo>
                      <a:pt x="53" y="57"/>
                    </a:lnTo>
                    <a:lnTo>
                      <a:pt x="53" y="61"/>
                    </a:lnTo>
                    <a:lnTo>
                      <a:pt x="53" y="63"/>
                    </a:lnTo>
                    <a:lnTo>
                      <a:pt x="55" y="70"/>
                    </a:lnTo>
                    <a:lnTo>
                      <a:pt x="57" y="70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7017480" y="383472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92" h="69">
                    <a:moveTo>
                      <a:pt x="92" y="61"/>
                    </a:moveTo>
                    <a:lnTo>
                      <a:pt x="92" y="61"/>
                    </a:lnTo>
                    <a:lnTo>
                      <a:pt x="65" y="69"/>
                    </a:lnTo>
                    <a:lnTo>
                      <a:pt x="37" y="61"/>
                    </a:lnTo>
                    <a:lnTo>
                      <a:pt x="17" y="46"/>
                    </a:lnTo>
                    <a:lnTo>
                      <a:pt x="0" y="23"/>
                    </a:lnTo>
                    <a:lnTo>
                      <a:pt x="50" y="0"/>
                    </a:lnTo>
                    <a:lnTo>
                      <a:pt x="56" y="8"/>
                    </a:lnTo>
                    <a:lnTo>
                      <a:pt x="63" y="15"/>
                    </a:lnTo>
                    <a:lnTo>
                      <a:pt x="65" y="15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92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7034760" y="382284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49" y="0"/>
                    </a:moveTo>
                    <a:lnTo>
                      <a:pt x="47" y="0"/>
                    </a:lnTo>
                    <a:lnTo>
                      <a:pt x="53" y="11"/>
                    </a:lnTo>
                    <a:lnTo>
                      <a:pt x="57" y="25"/>
                    </a:lnTo>
                    <a:lnTo>
                      <a:pt x="57" y="38"/>
                    </a:lnTo>
                    <a:lnTo>
                      <a:pt x="57" y="51"/>
                    </a:lnTo>
                    <a:lnTo>
                      <a:pt x="49" y="66"/>
                    </a:lnTo>
                    <a:lnTo>
                      <a:pt x="44" y="78"/>
                    </a:lnTo>
                    <a:lnTo>
                      <a:pt x="34" y="87"/>
                    </a:lnTo>
                    <a:lnTo>
                      <a:pt x="23" y="93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4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38"/>
                    </a:lnTo>
                    <a:lnTo>
                      <a:pt x="4" y="32"/>
                    </a:lnTo>
                    <a:lnTo>
                      <a:pt x="4" y="3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7024320" y="38073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0" y="8"/>
                    </a:moveTo>
                    <a:lnTo>
                      <a:pt x="0" y="8"/>
                    </a:lnTo>
                    <a:lnTo>
                      <a:pt x="27" y="0"/>
                    </a:lnTo>
                    <a:lnTo>
                      <a:pt x="55" y="8"/>
                    </a:lnTo>
                    <a:lnTo>
                      <a:pt x="74" y="23"/>
                    </a:lnTo>
                    <a:lnTo>
                      <a:pt x="91" y="46"/>
                    </a:lnTo>
                    <a:lnTo>
                      <a:pt x="42" y="69"/>
                    </a:lnTo>
                    <a:lnTo>
                      <a:pt x="36" y="61"/>
                    </a:lnTo>
                    <a:lnTo>
                      <a:pt x="29" y="53"/>
                    </a:lnTo>
                    <a:lnTo>
                      <a:pt x="27" y="53"/>
                    </a:lnTo>
                    <a:lnTo>
                      <a:pt x="23" y="53"/>
                    </a:lnTo>
                    <a:lnTo>
                      <a:pt x="23" y="5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7049520" y="386064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29" y="0"/>
                    </a:moveTo>
                    <a:lnTo>
                      <a:pt x="15" y="6"/>
                    </a:lnTo>
                    <a:lnTo>
                      <a:pt x="6" y="20"/>
                    </a:lnTo>
                    <a:lnTo>
                      <a:pt x="0" y="35"/>
                    </a:lnTo>
                    <a:lnTo>
                      <a:pt x="0" y="54"/>
                    </a:lnTo>
                    <a:lnTo>
                      <a:pt x="8" y="71"/>
                    </a:lnTo>
                    <a:lnTo>
                      <a:pt x="19" y="84"/>
                    </a:lnTo>
                    <a:lnTo>
                      <a:pt x="32" y="94"/>
                    </a:lnTo>
                    <a:lnTo>
                      <a:pt x="48" y="94"/>
                    </a:lnTo>
                    <a:lnTo>
                      <a:pt x="61" y="88"/>
                    </a:lnTo>
                    <a:lnTo>
                      <a:pt x="70" y="75"/>
                    </a:lnTo>
                    <a:lnTo>
                      <a:pt x="76" y="60"/>
                    </a:lnTo>
                    <a:lnTo>
                      <a:pt x="76" y="40"/>
                    </a:lnTo>
                    <a:lnTo>
                      <a:pt x="68" y="23"/>
                    </a:lnTo>
                    <a:lnTo>
                      <a:pt x="59" y="8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7043040" y="3850920"/>
                <a:ext cx="15120" cy="3024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55"/>
                    </a:lnTo>
                    <a:lnTo>
                      <a:pt x="10" y="32"/>
                    </a:lnTo>
                    <a:lnTo>
                      <a:pt x="25" y="11"/>
                    </a:lnTo>
                    <a:lnTo>
                      <a:pt x="50" y="0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6" y="59"/>
                    </a:lnTo>
                    <a:lnTo>
                      <a:pt x="54" y="66"/>
                    </a:lnTo>
                    <a:lnTo>
                      <a:pt x="54" y="76"/>
                    </a:lnTo>
                    <a:lnTo>
                      <a:pt x="54" y="74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7043040" y="387756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72"/>
                    </a:moveTo>
                    <a:lnTo>
                      <a:pt x="80" y="72"/>
                    </a:lnTo>
                    <a:lnTo>
                      <a:pt x="52" y="71"/>
                    </a:lnTo>
                    <a:lnTo>
                      <a:pt x="27" y="55"/>
                    </a:lnTo>
                    <a:lnTo>
                      <a:pt x="12" y="38"/>
                    </a:lnTo>
                    <a:lnTo>
                      <a:pt x="0" y="12"/>
                    </a:lnTo>
                    <a:lnTo>
                      <a:pt x="54" y="0"/>
                    </a:lnTo>
                    <a:lnTo>
                      <a:pt x="57" y="8"/>
                    </a:lnTo>
                    <a:lnTo>
                      <a:pt x="65" y="17"/>
                    </a:lnTo>
                    <a:lnTo>
                      <a:pt x="67" y="21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8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7060320" y="3872880"/>
                <a:ext cx="15120" cy="3024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61" y="0"/>
                    </a:moveTo>
                    <a:lnTo>
                      <a:pt x="61" y="2"/>
                    </a:lnTo>
                    <a:lnTo>
                      <a:pt x="61" y="30"/>
                    </a:lnTo>
                    <a:lnTo>
                      <a:pt x="51" y="53"/>
                    </a:lnTo>
                    <a:lnTo>
                      <a:pt x="36" y="74"/>
                    </a:lnTo>
                    <a:lnTo>
                      <a:pt x="11" y="85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6" y="26"/>
                    </a:lnTo>
                    <a:lnTo>
                      <a:pt x="7" y="1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7055280" y="3850920"/>
                <a:ext cx="20160" cy="2592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0" y="0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55" y="15"/>
                    </a:lnTo>
                    <a:lnTo>
                      <a:pt x="68" y="38"/>
                    </a:lnTo>
                    <a:lnTo>
                      <a:pt x="80" y="61"/>
                    </a:lnTo>
                    <a:lnTo>
                      <a:pt x="26" y="72"/>
                    </a:lnTo>
                    <a:lnTo>
                      <a:pt x="23" y="61"/>
                    </a:lnTo>
                    <a:lnTo>
                      <a:pt x="17" y="53"/>
                    </a:lnTo>
                    <a:lnTo>
                      <a:pt x="15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6614280" y="387576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48" y="0"/>
                    </a:moveTo>
                    <a:lnTo>
                      <a:pt x="61" y="6"/>
                    </a:lnTo>
                    <a:lnTo>
                      <a:pt x="70" y="19"/>
                    </a:lnTo>
                    <a:lnTo>
                      <a:pt x="76" y="35"/>
                    </a:lnTo>
                    <a:lnTo>
                      <a:pt x="76" y="54"/>
                    </a:lnTo>
                    <a:lnTo>
                      <a:pt x="69" y="71"/>
                    </a:lnTo>
                    <a:lnTo>
                      <a:pt x="59" y="84"/>
                    </a:lnTo>
                    <a:lnTo>
                      <a:pt x="44" y="94"/>
                    </a:lnTo>
                    <a:lnTo>
                      <a:pt x="29" y="94"/>
                    </a:lnTo>
                    <a:lnTo>
                      <a:pt x="15" y="88"/>
                    </a:lnTo>
                    <a:lnTo>
                      <a:pt x="6" y="75"/>
                    </a:lnTo>
                    <a:lnTo>
                      <a:pt x="0" y="59"/>
                    </a:lnTo>
                    <a:lnTo>
                      <a:pt x="0" y="40"/>
                    </a:lnTo>
                    <a:lnTo>
                      <a:pt x="8" y="23"/>
                    </a:lnTo>
                    <a:lnTo>
                      <a:pt x="19" y="8"/>
                    </a:lnTo>
                    <a:lnTo>
                      <a:pt x="3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6624360" y="386568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61" y="85"/>
                    </a:moveTo>
                    <a:lnTo>
                      <a:pt x="61" y="83"/>
                    </a:lnTo>
                    <a:lnTo>
                      <a:pt x="61" y="55"/>
                    </a:lnTo>
                    <a:lnTo>
                      <a:pt x="51" y="32"/>
                    </a:lnTo>
                    <a:lnTo>
                      <a:pt x="36" y="11"/>
                    </a:lnTo>
                    <a:lnTo>
                      <a:pt x="11" y="0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8" y="66"/>
                    </a:lnTo>
                    <a:lnTo>
                      <a:pt x="8" y="76"/>
                    </a:lnTo>
                    <a:lnTo>
                      <a:pt x="8" y="74"/>
                    </a:lnTo>
                    <a:lnTo>
                      <a:pt x="61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6620040" y="3891600"/>
                <a:ext cx="20160" cy="2592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0" y="72"/>
                    </a:moveTo>
                    <a:lnTo>
                      <a:pt x="0" y="72"/>
                    </a:lnTo>
                    <a:lnTo>
                      <a:pt x="28" y="70"/>
                    </a:lnTo>
                    <a:lnTo>
                      <a:pt x="55" y="55"/>
                    </a:lnTo>
                    <a:lnTo>
                      <a:pt x="68" y="36"/>
                    </a:lnTo>
                    <a:lnTo>
                      <a:pt x="80" y="11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6607080" y="388764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0"/>
                    </a:moveTo>
                    <a:lnTo>
                      <a:pt x="0" y="2"/>
                    </a:lnTo>
                    <a:lnTo>
                      <a:pt x="0" y="30"/>
                    </a:lnTo>
                    <a:lnTo>
                      <a:pt x="10" y="53"/>
                    </a:lnTo>
                    <a:lnTo>
                      <a:pt x="25" y="74"/>
                    </a:lnTo>
                    <a:lnTo>
                      <a:pt x="50" y="85"/>
                    </a:lnTo>
                    <a:lnTo>
                      <a:pt x="61" y="32"/>
                    </a:lnTo>
                    <a:lnTo>
                      <a:pt x="59" y="32"/>
                    </a:lnTo>
                    <a:lnTo>
                      <a:pt x="56" y="26"/>
                    </a:lnTo>
                    <a:lnTo>
                      <a:pt x="54" y="19"/>
                    </a:lnTo>
                    <a:lnTo>
                      <a:pt x="54" y="9"/>
                    </a:lnTo>
                    <a:lnTo>
                      <a:pt x="5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6607080" y="3865680"/>
                <a:ext cx="20160" cy="2592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0"/>
                    </a:lnTo>
                    <a:lnTo>
                      <a:pt x="52" y="0"/>
                    </a:lnTo>
                    <a:lnTo>
                      <a:pt x="27" y="15"/>
                    </a:lnTo>
                    <a:lnTo>
                      <a:pt x="12" y="36"/>
                    </a:lnTo>
                    <a:lnTo>
                      <a:pt x="0" y="61"/>
                    </a:lnTo>
                    <a:lnTo>
                      <a:pt x="54" y="72"/>
                    </a:lnTo>
                    <a:lnTo>
                      <a:pt x="58" y="63"/>
                    </a:lnTo>
                    <a:lnTo>
                      <a:pt x="65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6603840" y="393120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48" y="0"/>
                    </a:moveTo>
                    <a:lnTo>
                      <a:pt x="61" y="6"/>
                    </a:lnTo>
                    <a:lnTo>
                      <a:pt x="71" y="19"/>
                    </a:lnTo>
                    <a:lnTo>
                      <a:pt x="76" y="35"/>
                    </a:lnTo>
                    <a:lnTo>
                      <a:pt x="76" y="54"/>
                    </a:lnTo>
                    <a:lnTo>
                      <a:pt x="69" y="71"/>
                    </a:lnTo>
                    <a:lnTo>
                      <a:pt x="59" y="84"/>
                    </a:lnTo>
                    <a:lnTo>
                      <a:pt x="44" y="94"/>
                    </a:lnTo>
                    <a:lnTo>
                      <a:pt x="29" y="94"/>
                    </a:lnTo>
                    <a:lnTo>
                      <a:pt x="15" y="88"/>
                    </a:lnTo>
                    <a:lnTo>
                      <a:pt x="6" y="75"/>
                    </a:lnTo>
                    <a:lnTo>
                      <a:pt x="0" y="59"/>
                    </a:lnTo>
                    <a:lnTo>
                      <a:pt x="0" y="40"/>
                    </a:lnTo>
                    <a:lnTo>
                      <a:pt x="8" y="23"/>
                    </a:lnTo>
                    <a:lnTo>
                      <a:pt x="19" y="8"/>
                    </a:lnTo>
                    <a:lnTo>
                      <a:pt x="33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6614280" y="3921120"/>
                <a:ext cx="15120" cy="3024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61" y="85"/>
                    </a:moveTo>
                    <a:lnTo>
                      <a:pt x="61" y="84"/>
                    </a:lnTo>
                    <a:lnTo>
                      <a:pt x="61" y="55"/>
                    </a:lnTo>
                    <a:lnTo>
                      <a:pt x="51" y="32"/>
                    </a:lnTo>
                    <a:lnTo>
                      <a:pt x="36" y="11"/>
                    </a:lnTo>
                    <a:lnTo>
                      <a:pt x="11" y="0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8" y="66"/>
                    </a:lnTo>
                    <a:lnTo>
                      <a:pt x="8" y="76"/>
                    </a:lnTo>
                    <a:lnTo>
                      <a:pt x="8" y="74"/>
                    </a:lnTo>
                    <a:lnTo>
                      <a:pt x="61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6609240" y="394812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0" y="72"/>
                    </a:moveTo>
                    <a:lnTo>
                      <a:pt x="0" y="72"/>
                    </a:lnTo>
                    <a:lnTo>
                      <a:pt x="29" y="70"/>
                    </a:lnTo>
                    <a:lnTo>
                      <a:pt x="55" y="55"/>
                    </a:lnTo>
                    <a:lnTo>
                      <a:pt x="69" y="36"/>
                    </a:lnTo>
                    <a:lnTo>
                      <a:pt x="80" y="11"/>
                    </a:lnTo>
                    <a:lnTo>
                      <a:pt x="27" y="0"/>
                    </a:lnTo>
                    <a:lnTo>
                      <a:pt x="23" y="10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6596640" y="3943080"/>
                <a:ext cx="15480" cy="30240"/>
              </a:xfrm>
              <a:custGeom>
                <a:avLst/>
                <a:gdLst/>
                <a:ahLst/>
                <a:rect l="l" t="t" r="r" b="b"/>
                <a:pathLst>
                  <a:path w="60" h="85">
                    <a:moveTo>
                      <a:pt x="0" y="0"/>
                    </a:moveTo>
                    <a:lnTo>
                      <a:pt x="0" y="2"/>
                    </a:lnTo>
                    <a:lnTo>
                      <a:pt x="0" y="30"/>
                    </a:lnTo>
                    <a:lnTo>
                      <a:pt x="9" y="53"/>
                    </a:lnTo>
                    <a:lnTo>
                      <a:pt x="24" y="74"/>
                    </a:lnTo>
                    <a:lnTo>
                      <a:pt x="49" y="85"/>
                    </a:lnTo>
                    <a:lnTo>
                      <a:pt x="60" y="32"/>
                    </a:lnTo>
                    <a:lnTo>
                      <a:pt x="59" y="32"/>
                    </a:lnTo>
                    <a:lnTo>
                      <a:pt x="55" y="26"/>
                    </a:lnTo>
                    <a:lnTo>
                      <a:pt x="53" y="19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6596640" y="3921120"/>
                <a:ext cx="20160" cy="25920"/>
              </a:xfrm>
              <a:custGeom>
                <a:avLst/>
                <a:gdLst/>
                <a:ahLst/>
                <a:rect l="l" t="t" r="r" b="b"/>
                <a:pathLst>
                  <a:path w="79" h="72">
                    <a:moveTo>
                      <a:pt x="79" y="0"/>
                    </a:moveTo>
                    <a:lnTo>
                      <a:pt x="79" y="0"/>
                    </a:lnTo>
                    <a:lnTo>
                      <a:pt x="51" y="0"/>
                    </a:lnTo>
                    <a:lnTo>
                      <a:pt x="26" y="15"/>
                    </a:lnTo>
                    <a:lnTo>
                      <a:pt x="11" y="36"/>
                    </a:lnTo>
                    <a:lnTo>
                      <a:pt x="0" y="61"/>
                    </a:lnTo>
                    <a:lnTo>
                      <a:pt x="53" y="72"/>
                    </a:lnTo>
                    <a:lnTo>
                      <a:pt x="57" y="63"/>
                    </a:lnTo>
                    <a:lnTo>
                      <a:pt x="64" y="53"/>
                    </a:lnTo>
                    <a:lnTo>
                      <a:pt x="66" y="53"/>
                    </a:lnTo>
                    <a:lnTo>
                      <a:pt x="68" y="53"/>
                    </a:lnTo>
                    <a:lnTo>
                      <a:pt x="68" y="5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6879600" y="3858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40" y="0"/>
                    </a:moveTo>
                    <a:lnTo>
                      <a:pt x="55" y="2"/>
                    </a:lnTo>
                    <a:lnTo>
                      <a:pt x="69" y="9"/>
                    </a:lnTo>
                    <a:lnTo>
                      <a:pt x="76" y="23"/>
                    </a:lnTo>
                    <a:lnTo>
                      <a:pt x="80" y="38"/>
                    </a:lnTo>
                    <a:lnTo>
                      <a:pt x="76" y="53"/>
                    </a:lnTo>
                    <a:lnTo>
                      <a:pt x="69" y="65"/>
                    </a:lnTo>
                    <a:lnTo>
                      <a:pt x="55" y="74"/>
                    </a:lnTo>
                    <a:lnTo>
                      <a:pt x="40" y="76"/>
                    </a:lnTo>
                    <a:lnTo>
                      <a:pt x="25" y="74"/>
                    </a:lnTo>
                    <a:lnTo>
                      <a:pt x="11" y="65"/>
                    </a:lnTo>
                    <a:lnTo>
                      <a:pt x="4" y="53"/>
                    </a:lnTo>
                    <a:lnTo>
                      <a:pt x="0" y="38"/>
                    </a:lnTo>
                    <a:lnTo>
                      <a:pt x="4" y="23"/>
                    </a:lnTo>
                    <a:lnTo>
                      <a:pt x="11" y="9"/>
                    </a:lnTo>
                    <a:lnTo>
                      <a:pt x="25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6908040" y="38545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40" y="0"/>
                    </a:moveTo>
                    <a:lnTo>
                      <a:pt x="55" y="2"/>
                    </a:lnTo>
                    <a:lnTo>
                      <a:pt x="69" y="10"/>
                    </a:lnTo>
                    <a:lnTo>
                      <a:pt x="76" y="23"/>
                    </a:lnTo>
                    <a:lnTo>
                      <a:pt x="80" y="38"/>
                    </a:lnTo>
                    <a:lnTo>
                      <a:pt x="76" y="54"/>
                    </a:lnTo>
                    <a:lnTo>
                      <a:pt x="69" y="65"/>
                    </a:lnTo>
                    <a:lnTo>
                      <a:pt x="55" y="75"/>
                    </a:lnTo>
                    <a:lnTo>
                      <a:pt x="40" y="77"/>
                    </a:lnTo>
                    <a:lnTo>
                      <a:pt x="25" y="75"/>
                    </a:lnTo>
                    <a:lnTo>
                      <a:pt x="12" y="65"/>
                    </a:lnTo>
                    <a:lnTo>
                      <a:pt x="4" y="54"/>
                    </a:lnTo>
                    <a:lnTo>
                      <a:pt x="0" y="38"/>
                    </a:lnTo>
                    <a:lnTo>
                      <a:pt x="4" y="23"/>
                    </a:lnTo>
                    <a:lnTo>
                      <a:pt x="12" y="10"/>
                    </a:lnTo>
                    <a:lnTo>
                      <a:pt x="25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6934680" y="3848400"/>
                <a:ext cx="20160" cy="2628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40" y="0"/>
                    </a:moveTo>
                    <a:lnTo>
                      <a:pt x="55" y="2"/>
                    </a:lnTo>
                    <a:lnTo>
                      <a:pt x="68" y="10"/>
                    </a:lnTo>
                    <a:lnTo>
                      <a:pt x="76" y="23"/>
                    </a:lnTo>
                    <a:lnTo>
                      <a:pt x="80" y="38"/>
                    </a:lnTo>
                    <a:lnTo>
                      <a:pt x="76" y="54"/>
                    </a:lnTo>
                    <a:lnTo>
                      <a:pt x="68" y="65"/>
                    </a:lnTo>
                    <a:lnTo>
                      <a:pt x="55" y="75"/>
                    </a:lnTo>
                    <a:lnTo>
                      <a:pt x="40" y="76"/>
                    </a:lnTo>
                    <a:lnTo>
                      <a:pt x="25" y="75"/>
                    </a:lnTo>
                    <a:lnTo>
                      <a:pt x="11" y="65"/>
                    </a:lnTo>
                    <a:lnTo>
                      <a:pt x="4" y="54"/>
                    </a:lnTo>
                    <a:lnTo>
                      <a:pt x="0" y="38"/>
                    </a:lnTo>
                    <a:lnTo>
                      <a:pt x="4" y="23"/>
                    </a:lnTo>
                    <a:lnTo>
                      <a:pt x="11" y="10"/>
                    </a:lnTo>
                    <a:lnTo>
                      <a:pt x="25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6877800" y="4276800"/>
                <a:ext cx="22320" cy="29160"/>
              </a:xfrm>
              <a:custGeom>
                <a:avLst/>
                <a:gdLst/>
                <a:ahLst/>
                <a:rect l="l" t="t" r="r" b="b"/>
                <a:pathLst>
                  <a:path w="88" h="84">
                    <a:moveTo>
                      <a:pt x="44" y="0"/>
                    </a:moveTo>
                    <a:lnTo>
                      <a:pt x="61" y="4"/>
                    </a:lnTo>
                    <a:lnTo>
                      <a:pt x="75" y="11"/>
                    </a:lnTo>
                    <a:lnTo>
                      <a:pt x="84" y="25"/>
                    </a:lnTo>
                    <a:lnTo>
                      <a:pt x="88" y="42"/>
                    </a:lnTo>
                    <a:lnTo>
                      <a:pt x="84" y="57"/>
                    </a:lnTo>
                    <a:lnTo>
                      <a:pt x="75" y="70"/>
                    </a:lnTo>
                    <a:lnTo>
                      <a:pt x="61" y="80"/>
                    </a:lnTo>
                    <a:lnTo>
                      <a:pt x="44" y="84"/>
                    </a:lnTo>
                    <a:lnTo>
                      <a:pt x="27" y="80"/>
                    </a:lnTo>
                    <a:lnTo>
                      <a:pt x="14" y="70"/>
                    </a:lnTo>
                    <a:lnTo>
                      <a:pt x="4" y="57"/>
                    </a:lnTo>
                    <a:lnTo>
                      <a:pt x="0" y="42"/>
                    </a:lnTo>
                    <a:lnTo>
                      <a:pt x="4" y="25"/>
                    </a:lnTo>
                    <a:lnTo>
                      <a:pt x="14" y="11"/>
                    </a:lnTo>
                    <a:lnTo>
                      <a:pt x="27" y="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6923160" y="4271040"/>
                <a:ext cx="21600" cy="29160"/>
              </a:xfrm>
              <a:custGeom>
                <a:avLst/>
                <a:gdLst/>
                <a:ahLst/>
                <a:rect l="l" t="t" r="r" b="b"/>
                <a:pathLst>
                  <a:path w="88" h="83">
                    <a:moveTo>
                      <a:pt x="44" y="0"/>
                    </a:moveTo>
                    <a:lnTo>
                      <a:pt x="61" y="3"/>
                    </a:lnTo>
                    <a:lnTo>
                      <a:pt x="75" y="11"/>
                    </a:lnTo>
                    <a:lnTo>
                      <a:pt x="84" y="24"/>
                    </a:lnTo>
                    <a:lnTo>
                      <a:pt x="88" y="41"/>
                    </a:lnTo>
                    <a:lnTo>
                      <a:pt x="84" y="57"/>
                    </a:lnTo>
                    <a:lnTo>
                      <a:pt x="75" y="70"/>
                    </a:lnTo>
                    <a:lnTo>
                      <a:pt x="61" y="80"/>
                    </a:lnTo>
                    <a:lnTo>
                      <a:pt x="44" y="83"/>
                    </a:lnTo>
                    <a:lnTo>
                      <a:pt x="27" y="80"/>
                    </a:lnTo>
                    <a:lnTo>
                      <a:pt x="14" y="70"/>
                    </a:lnTo>
                    <a:lnTo>
                      <a:pt x="4" y="57"/>
                    </a:lnTo>
                    <a:lnTo>
                      <a:pt x="0" y="41"/>
                    </a:lnTo>
                    <a:lnTo>
                      <a:pt x="4" y="24"/>
                    </a:lnTo>
                    <a:lnTo>
                      <a:pt x="14" y="11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6965280" y="4268160"/>
                <a:ext cx="22320" cy="29160"/>
              </a:xfrm>
              <a:custGeom>
                <a:avLst/>
                <a:gdLst/>
                <a:ahLst/>
                <a:rect l="l" t="t" r="r" b="b"/>
                <a:pathLst>
                  <a:path w="87" h="84">
                    <a:moveTo>
                      <a:pt x="44" y="0"/>
                    </a:moveTo>
                    <a:lnTo>
                      <a:pt x="61" y="4"/>
                    </a:lnTo>
                    <a:lnTo>
                      <a:pt x="74" y="11"/>
                    </a:lnTo>
                    <a:lnTo>
                      <a:pt x="84" y="25"/>
                    </a:lnTo>
                    <a:lnTo>
                      <a:pt x="87" y="42"/>
                    </a:lnTo>
                    <a:lnTo>
                      <a:pt x="84" y="57"/>
                    </a:lnTo>
                    <a:lnTo>
                      <a:pt x="74" y="70"/>
                    </a:lnTo>
                    <a:lnTo>
                      <a:pt x="61" y="80"/>
                    </a:lnTo>
                    <a:lnTo>
                      <a:pt x="44" y="84"/>
                    </a:lnTo>
                    <a:lnTo>
                      <a:pt x="26" y="80"/>
                    </a:lnTo>
                    <a:lnTo>
                      <a:pt x="13" y="70"/>
                    </a:lnTo>
                    <a:lnTo>
                      <a:pt x="4" y="57"/>
                    </a:lnTo>
                    <a:lnTo>
                      <a:pt x="0" y="42"/>
                    </a:lnTo>
                    <a:lnTo>
                      <a:pt x="4" y="25"/>
                    </a:lnTo>
                    <a:lnTo>
                      <a:pt x="13" y="11"/>
                    </a:lnTo>
                    <a:lnTo>
                      <a:pt x="26" y="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7079040" y="3668400"/>
                <a:ext cx="7920" cy="180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21" y="0"/>
                    </a:moveTo>
                    <a:lnTo>
                      <a:pt x="10" y="6"/>
                    </a:lnTo>
                    <a:lnTo>
                      <a:pt x="4" y="13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4" y="42"/>
                    </a:lnTo>
                    <a:lnTo>
                      <a:pt x="11" y="50"/>
                    </a:lnTo>
                    <a:lnTo>
                      <a:pt x="21" y="53"/>
                    </a:lnTo>
                    <a:lnTo>
                      <a:pt x="32" y="5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7084440" y="3650760"/>
                <a:ext cx="51480" cy="35640"/>
              </a:xfrm>
              <a:custGeom>
                <a:avLst/>
                <a:gdLst/>
                <a:ahLst/>
                <a:rect l="l" t="t" r="r" b="b"/>
                <a:pathLst>
                  <a:path w="206" h="102">
                    <a:moveTo>
                      <a:pt x="206" y="40"/>
                    </a:moveTo>
                    <a:lnTo>
                      <a:pt x="175" y="0"/>
                    </a:lnTo>
                    <a:lnTo>
                      <a:pt x="152" y="7"/>
                    </a:lnTo>
                    <a:lnTo>
                      <a:pt x="129" y="15"/>
                    </a:lnTo>
                    <a:lnTo>
                      <a:pt x="108" y="19"/>
                    </a:lnTo>
                    <a:lnTo>
                      <a:pt x="86" y="26"/>
                    </a:lnTo>
                    <a:lnTo>
                      <a:pt x="65" y="34"/>
                    </a:lnTo>
                    <a:lnTo>
                      <a:pt x="42" y="38"/>
                    </a:lnTo>
                    <a:lnTo>
                      <a:pt x="21" y="43"/>
                    </a:lnTo>
                    <a:lnTo>
                      <a:pt x="0" y="49"/>
                    </a:lnTo>
                    <a:lnTo>
                      <a:pt x="11" y="102"/>
                    </a:lnTo>
                    <a:lnTo>
                      <a:pt x="36" y="97"/>
                    </a:lnTo>
                    <a:lnTo>
                      <a:pt x="57" y="91"/>
                    </a:lnTo>
                    <a:lnTo>
                      <a:pt x="80" y="83"/>
                    </a:lnTo>
                    <a:lnTo>
                      <a:pt x="101" y="76"/>
                    </a:lnTo>
                    <a:lnTo>
                      <a:pt x="124" y="72"/>
                    </a:lnTo>
                    <a:lnTo>
                      <a:pt x="145" y="64"/>
                    </a:lnTo>
                    <a:lnTo>
                      <a:pt x="168" y="57"/>
                    </a:lnTo>
                    <a:lnTo>
                      <a:pt x="190" y="53"/>
                    </a:lnTo>
                    <a:lnTo>
                      <a:pt x="160" y="13"/>
                    </a:lnTo>
                    <a:lnTo>
                      <a:pt x="20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7098840" y="3655080"/>
                <a:ext cx="37440" cy="73440"/>
              </a:xfrm>
              <a:custGeom>
                <a:avLst/>
                <a:gdLst/>
                <a:ahLst/>
                <a:rect l="l" t="t" r="r" b="b"/>
                <a:pathLst>
                  <a:path w="149" h="209">
                    <a:moveTo>
                      <a:pt x="17" y="156"/>
                    </a:moveTo>
                    <a:lnTo>
                      <a:pt x="46" y="196"/>
                    </a:lnTo>
                    <a:lnTo>
                      <a:pt x="59" y="175"/>
                    </a:lnTo>
                    <a:lnTo>
                      <a:pt x="72" y="154"/>
                    </a:lnTo>
                    <a:lnTo>
                      <a:pt x="84" y="131"/>
                    </a:lnTo>
                    <a:lnTo>
                      <a:pt x="97" y="110"/>
                    </a:lnTo>
                    <a:lnTo>
                      <a:pt x="111" y="89"/>
                    </a:lnTo>
                    <a:lnTo>
                      <a:pt x="124" y="68"/>
                    </a:lnTo>
                    <a:lnTo>
                      <a:pt x="135" y="48"/>
                    </a:lnTo>
                    <a:lnTo>
                      <a:pt x="149" y="27"/>
                    </a:lnTo>
                    <a:lnTo>
                      <a:pt x="103" y="0"/>
                    </a:lnTo>
                    <a:lnTo>
                      <a:pt x="90" y="21"/>
                    </a:lnTo>
                    <a:lnTo>
                      <a:pt x="78" y="42"/>
                    </a:lnTo>
                    <a:lnTo>
                      <a:pt x="65" y="63"/>
                    </a:lnTo>
                    <a:lnTo>
                      <a:pt x="51" y="84"/>
                    </a:lnTo>
                    <a:lnTo>
                      <a:pt x="38" y="105"/>
                    </a:lnTo>
                    <a:lnTo>
                      <a:pt x="27" y="127"/>
                    </a:lnTo>
                    <a:lnTo>
                      <a:pt x="13" y="148"/>
                    </a:lnTo>
                    <a:lnTo>
                      <a:pt x="0" y="169"/>
                    </a:lnTo>
                    <a:lnTo>
                      <a:pt x="29" y="209"/>
                    </a:lnTo>
                    <a:lnTo>
                      <a:pt x="17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7103520" y="3696480"/>
                <a:ext cx="59040" cy="32040"/>
              </a:xfrm>
              <a:custGeom>
                <a:avLst/>
                <a:gdLst/>
                <a:ahLst/>
                <a:rect l="l" t="t" r="r" b="b"/>
                <a:pathLst>
                  <a:path w="234" h="93">
                    <a:moveTo>
                      <a:pt x="234" y="40"/>
                    </a:moveTo>
                    <a:lnTo>
                      <a:pt x="206" y="0"/>
                    </a:lnTo>
                    <a:lnTo>
                      <a:pt x="181" y="6"/>
                    </a:lnTo>
                    <a:lnTo>
                      <a:pt x="154" y="10"/>
                    </a:lnTo>
                    <a:lnTo>
                      <a:pt x="130" y="15"/>
                    </a:lnTo>
                    <a:lnTo>
                      <a:pt x="103" y="19"/>
                    </a:lnTo>
                    <a:lnTo>
                      <a:pt x="78" y="25"/>
                    </a:lnTo>
                    <a:lnTo>
                      <a:pt x="52" y="31"/>
                    </a:lnTo>
                    <a:lnTo>
                      <a:pt x="27" y="34"/>
                    </a:lnTo>
                    <a:lnTo>
                      <a:pt x="0" y="40"/>
                    </a:lnTo>
                    <a:lnTo>
                      <a:pt x="12" y="93"/>
                    </a:lnTo>
                    <a:lnTo>
                      <a:pt x="38" y="88"/>
                    </a:lnTo>
                    <a:lnTo>
                      <a:pt x="63" y="84"/>
                    </a:lnTo>
                    <a:lnTo>
                      <a:pt x="90" y="78"/>
                    </a:lnTo>
                    <a:lnTo>
                      <a:pt x="114" y="72"/>
                    </a:lnTo>
                    <a:lnTo>
                      <a:pt x="141" y="69"/>
                    </a:lnTo>
                    <a:lnTo>
                      <a:pt x="166" y="63"/>
                    </a:lnTo>
                    <a:lnTo>
                      <a:pt x="192" y="59"/>
                    </a:lnTo>
                    <a:lnTo>
                      <a:pt x="217" y="53"/>
                    </a:lnTo>
                    <a:lnTo>
                      <a:pt x="189" y="13"/>
                    </a:lnTo>
                    <a:lnTo>
                      <a:pt x="23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7122960" y="3700800"/>
                <a:ext cx="39600" cy="81360"/>
              </a:xfrm>
              <a:custGeom>
                <a:avLst/>
                <a:gdLst/>
                <a:ahLst/>
                <a:rect l="l" t="t" r="r" b="b"/>
                <a:pathLst>
                  <a:path w="156" h="233">
                    <a:moveTo>
                      <a:pt x="16" y="179"/>
                    </a:moveTo>
                    <a:lnTo>
                      <a:pt x="46" y="219"/>
                    </a:lnTo>
                    <a:lnTo>
                      <a:pt x="59" y="195"/>
                    </a:lnTo>
                    <a:lnTo>
                      <a:pt x="73" y="172"/>
                    </a:lnTo>
                    <a:lnTo>
                      <a:pt x="86" y="147"/>
                    </a:lnTo>
                    <a:lnTo>
                      <a:pt x="101" y="122"/>
                    </a:lnTo>
                    <a:lnTo>
                      <a:pt x="114" y="98"/>
                    </a:lnTo>
                    <a:lnTo>
                      <a:pt x="128" y="75"/>
                    </a:lnTo>
                    <a:lnTo>
                      <a:pt x="143" y="50"/>
                    </a:lnTo>
                    <a:lnTo>
                      <a:pt x="156" y="27"/>
                    </a:lnTo>
                    <a:lnTo>
                      <a:pt x="111" y="0"/>
                    </a:lnTo>
                    <a:lnTo>
                      <a:pt x="97" y="23"/>
                    </a:lnTo>
                    <a:lnTo>
                      <a:pt x="82" y="48"/>
                    </a:lnTo>
                    <a:lnTo>
                      <a:pt x="69" y="71"/>
                    </a:lnTo>
                    <a:lnTo>
                      <a:pt x="55" y="96"/>
                    </a:lnTo>
                    <a:lnTo>
                      <a:pt x="40" y="120"/>
                    </a:lnTo>
                    <a:lnTo>
                      <a:pt x="27" y="145"/>
                    </a:lnTo>
                    <a:lnTo>
                      <a:pt x="14" y="168"/>
                    </a:lnTo>
                    <a:lnTo>
                      <a:pt x="0" y="193"/>
                    </a:lnTo>
                    <a:lnTo>
                      <a:pt x="31" y="233"/>
                    </a:lnTo>
                    <a:lnTo>
                      <a:pt x="16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7126560" y="3745800"/>
                <a:ext cx="56880" cy="36360"/>
              </a:xfrm>
              <a:custGeom>
                <a:avLst/>
                <a:gdLst/>
                <a:ahLst/>
                <a:rect l="l" t="t" r="r" b="b"/>
                <a:pathLst>
                  <a:path w="222" h="105">
                    <a:moveTo>
                      <a:pt x="222" y="40"/>
                    </a:moveTo>
                    <a:lnTo>
                      <a:pt x="192" y="0"/>
                    </a:lnTo>
                    <a:lnTo>
                      <a:pt x="167" y="8"/>
                    </a:lnTo>
                    <a:lnTo>
                      <a:pt x="144" y="15"/>
                    </a:lnTo>
                    <a:lnTo>
                      <a:pt x="121" y="19"/>
                    </a:lnTo>
                    <a:lnTo>
                      <a:pt x="95" y="25"/>
                    </a:lnTo>
                    <a:lnTo>
                      <a:pt x="70" y="34"/>
                    </a:lnTo>
                    <a:lnTo>
                      <a:pt x="47" y="40"/>
                    </a:lnTo>
                    <a:lnTo>
                      <a:pt x="22" y="48"/>
                    </a:lnTo>
                    <a:lnTo>
                      <a:pt x="0" y="51"/>
                    </a:lnTo>
                    <a:lnTo>
                      <a:pt x="15" y="105"/>
                    </a:lnTo>
                    <a:lnTo>
                      <a:pt x="38" y="97"/>
                    </a:lnTo>
                    <a:lnTo>
                      <a:pt x="62" y="89"/>
                    </a:lnTo>
                    <a:lnTo>
                      <a:pt x="85" y="84"/>
                    </a:lnTo>
                    <a:lnTo>
                      <a:pt x="110" y="78"/>
                    </a:lnTo>
                    <a:lnTo>
                      <a:pt x="133" y="72"/>
                    </a:lnTo>
                    <a:lnTo>
                      <a:pt x="159" y="65"/>
                    </a:lnTo>
                    <a:lnTo>
                      <a:pt x="182" y="57"/>
                    </a:lnTo>
                    <a:lnTo>
                      <a:pt x="207" y="53"/>
                    </a:lnTo>
                    <a:lnTo>
                      <a:pt x="177" y="13"/>
                    </a:lnTo>
                    <a:lnTo>
                      <a:pt x="22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7144920" y="3750480"/>
                <a:ext cx="38520" cy="72000"/>
              </a:xfrm>
              <a:custGeom>
                <a:avLst/>
                <a:gdLst/>
                <a:ahLst/>
                <a:rect l="l" t="t" r="r" b="b"/>
                <a:pathLst>
                  <a:path w="150" h="208">
                    <a:moveTo>
                      <a:pt x="46" y="208"/>
                    </a:moveTo>
                    <a:lnTo>
                      <a:pt x="59" y="185"/>
                    </a:lnTo>
                    <a:lnTo>
                      <a:pt x="72" y="162"/>
                    </a:lnTo>
                    <a:lnTo>
                      <a:pt x="84" y="139"/>
                    </a:lnTo>
                    <a:lnTo>
                      <a:pt x="97" y="116"/>
                    </a:lnTo>
                    <a:lnTo>
                      <a:pt x="110" y="94"/>
                    </a:lnTo>
                    <a:lnTo>
                      <a:pt x="124" y="71"/>
                    </a:lnTo>
                    <a:lnTo>
                      <a:pt x="137" y="50"/>
                    </a:lnTo>
                    <a:lnTo>
                      <a:pt x="150" y="27"/>
                    </a:lnTo>
                    <a:lnTo>
                      <a:pt x="105" y="0"/>
                    </a:lnTo>
                    <a:lnTo>
                      <a:pt x="91" y="23"/>
                    </a:lnTo>
                    <a:lnTo>
                      <a:pt x="78" y="44"/>
                    </a:lnTo>
                    <a:lnTo>
                      <a:pt x="65" y="67"/>
                    </a:lnTo>
                    <a:lnTo>
                      <a:pt x="51" y="90"/>
                    </a:lnTo>
                    <a:lnTo>
                      <a:pt x="38" y="113"/>
                    </a:lnTo>
                    <a:lnTo>
                      <a:pt x="26" y="135"/>
                    </a:lnTo>
                    <a:lnTo>
                      <a:pt x="13" y="158"/>
                    </a:lnTo>
                    <a:lnTo>
                      <a:pt x="0" y="181"/>
                    </a:lnTo>
                    <a:lnTo>
                      <a:pt x="46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7170840" y="375048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" y="0"/>
                    </a:moveTo>
                    <a:lnTo>
                      <a:pt x="0" y="12"/>
                    </a:lnTo>
                    <a:lnTo>
                      <a:pt x="2" y="21"/>
                    </a:lnTo>
                    <a:lnTo>
                      <a:pt x="5" y="31"/>
                    </a:lnTo>
                    <a:lnTo>
                      <a:pt x="13" y="36"/>
                    </a:lnTo>
                    <a:lnTo>
                      <a:pt x="23" y="40"/>
                    </a:lnTo>
                    <a:lnTo>
                      <a:pt x="32" y="40"/>
                    </a:lnTo>
                    <a:lnTo>
                      <a:pt x="42" y="36"/>
                    </a:lnTo>
                    <a:lnTo>
                      <a:pt x="49" y="2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0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2" name="KALEID" descr=""/>
          <p:cNvPicPr/>
          <p:nvPr/>
        </p:nvPicPr>
        <p:blipFill>
          <a:blip r:embed="rId1"/>
          <a:stretch/>
        </p:blipFill>
        <p:spPr>
          <a:xfrm>
            <a:off x="1447920" y="2782800"/>
            <a:ext cx="2049480" cy="2052720"/>
          </a:xfrm>
          <a:prstGeom prst="rect">
            <a:avLst/>
          </a:prstGeom>
          <a:ln w="0">
            <a:noFill/>
          </a:ln>
        </p:spPr>
      </p:pic>
      <p:pic>
        <p:nvPicPr>
          <p:cNvPr id="6783" name="CIRCLE7" descr=""/>
          <p:cNvPicPr/>
          <p:nvPr/>
        </p:nvPicPr>
        <p:blipFill>
          <a:blip r:embed="rId2"/>
          <a:stretch/>
        </p:blipFill>
        <p:spPr>
          <a:xfrm>
            <a:off x="5943600" y="2670120"/>
            <a:ext cx="2279520" cy="2279880"/>
          </a:xfrm>
          <a:prstGeom prst="rect">
            <a:avLst/>
          </a:prstGeom>
          <a:ln w="0">
            <a:noFill/>
          </a:ln>
        </p:spPr>
      </p:pic>
      <p:sp>
        <p:nvSpPr>
          <p:cNvPr id="6784" name=""/>
          <p:cNvSpPr/>
          <p:nvPr/>
        </p:nvSpPr>
        <p:spPr>
          <a:xfrm>
            <a:off x="2306880" y="5130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6897960" y="516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6" name=""/>
          <p:cNvGrpSpPr/>
          <p:nvPr/>
        </p:nvGrpSpPr>
        <p:grpSpPr>
          <a:xfrm>
            <a:off x="6172200" y="2876400"/>
            <a:ext cx="1631520" cy="1866600"/>
            <a:chOff x="6172200" y="2876400"/>
            <a:chExt cx="1631520" cy="1866600"/>
          </a:xfrm>
        </p:grpSpPr>
        <p:sp>
          <p:nvSpPr>
            <p:cNvPr id="6787" name=""/>
            <p:cNvSpPr/>
            <p:nvPr/>
          </p:nvSpPr>
          <p:spPr>
            <a:xfrm>
              <a:off x="6500880" y="2876400"/>
              <a:ext cx="946800" cy="460800"/>
            </a:xfrm>
            <a:custGeom>
              <a:avLst/>
              <a:gdLst/>
              <a:ahLst/>
              <a:rect l="l" t="t" r="r" b="b"/>
              <a:pathLst>
                <a:path w="1362" h="641">
                  <a:moveTo>
                    <a:pt x="71" y="160"/>
                  </a:moveTo>
                  <a:lnTo>
                    <a:pt x="301" y="0"/>
                  </a:lnTo>
                  <a:lnTo>
                    <a:pt x="1097" y="0"/>
                  </a:lnTo>
                  <a:lnTo>
                    <a:pt x="1307" y="124"/>
                  </a:lnTo>
                  <a:lnTo>
                    <a:pt x="1362" y="388"/>
                  </a:lnTo>
                  <a:lnTo>
                    <a:pt x="1196" y="641"/>
                  </a:lnTo>
                  <a:lnTo>
                    <a:pt x="689" y="641"/>
                  </a:lnTo>
                  <a:lnTo>
                    <a:pt x="191" y="641"/>
                  </a:lnTo>
                  <a:lnTo>
                    <a:pt x="0" y="432"/>
                  </a:lnTo>
                  <a:lnTo>
                    <a:pt x="71" y="16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6963120" y="3768840"/>
              <a:ext cx="34560" cy="25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4"/>
                  </a:moveTo>
                  <a:lnTo>
                    <a:pt x="19" y="4"/>
                  </a:lnTo>
                  <a:lnTo>
                    <a:pt x="38" y="4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6173640" y="3391560"/>
              <a:ext cx="1626120" cy="1351440"/>
            </a:xfrm>
            <a:custGeom>
              <a:avLst/>
              <a:gdLst/>
              <a:ahLst/>
              <a:rect l="l" t="t" r="r" b="b"/>
              <a:pathLst>
                <a:path w="2336" h="1879">
                  <a:moveTo>
                    <a:pt x="0" y="0"/>
                  </a:moveTo>
                  <a:lnTo>
                    <a:pt x="642" y="1012"/>
                  </a:lnTo>
                  <a:lnTo>
                    <a:pt x="1186" y="1879"/>
                  </a:lnTo>
                  <a:lnTo>
                    <a:pt x="1646" y="1139"/>
                  </a:lnTo>
                  <a:lnTo>
                    <a:pt x="2336" y="17"/>
                  </a:lnTo>
                  <a:lnTo>
                    <a:pt x="2146" y="194"/>
                  </a:lnTo>
                  <a:lnTo>
                    <a:pt x="1897" y="398"/>
                  </a:lnTo>
                  <a:lnTo>
                    <a:pt x="1559" y="491"/>
                  </a:lnTo>
                  <a:lnTo>
                    <a:pt x="1186" y="517"/>
                  </a:lnTo>
                  <a:lnTo>
                    <a:pt x="836" y="510"/>
                  </a:lnTo>
                  <a:lnTo>
                    <a:pt x="509" y="436"/>
                  </a:lnTo>
                  <a:lnTo>
                    <a:pt x="243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7333560" y="3154320"/>
              <a:ext cx="467640" cy="531000"/>
            </a:xfrm>
            <a:custGeom>
              <a:avLst/>
              <a:gdLst/>
              <a:ahLst/>
              <a:rect l="l" t="t" r="r" b="b"/>
              <a:pathLst>
                <a:path w="673" h="738">
                  <a:moveTo>
                    <a:pt x="234" y="738"/>
                  </a:moveTo>
                  <a:lnTo>
                    <a:pt x="276" y="717"/>
                  </a:lnTo>
                  <a:lnTo>
                    <a:pt x="316" y="692"/>
                  </a:lnTo>
                  <a:lnTo>
                    <a:pt x="373" y="649"/>
                  </a:lnTo>
                  <a:lnTo>
                    <a:pt x="396" y="630"/>
                  </a:lnTo>
                  <a:lnTo>
                    <a:pt x="424" y="605"/>
                  </a:lnTo>
                  <a:lnTo>
                    <a:pt x="468" y="565"/>
                  </a:lnTo>
                  <a:lnTo>
                    <a:pt x="476" y="559"/>
                  </a:lnTo>
                  <a:lnTo>
                    <a:pt x="542" y="487"/>
                  </a:lnTo>
                  <a:lnTo>
                    <a:pt x="673" y="352"/>
                  </a:lnTo>
                  <a:lnTo>
                    <a:pt x="382" y="153"/>
                  </a:lnTo>
                  <a:lnTo>
                    <a:pt x="669" y="352"/>
                  </a:lnTo>
                  <a:lnTo>
                    <a:pt x="164" y="0"/>
                  </a:lnTo>
                  <a:lnTo>
                    <a:pt x="0" y="253"/>
                  </a:lnTo>
                  <a:lnTo>
                    <a:pt x="234" y="73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7002000" y="3685320"/>
              <a:ext cx="494280" cy="1055880"/>
            </a:xfrm>
            <a:custGeom>
              <a:avLst/>
              <a:gdLst/>
              <a:ahLst/>
              <a:rect l="l" t="t" r="r" b="b"/>
              <a:pathLst>
                <a:path w="709" h="1470">
                  <a:moveTo>
                    <a:pt x="0" y="124"/>
                  </a:moveTo>
                  <a:lnTo>
                    <a:pt x="0" y="1470"/>
                  </a:lnTo>
                  <a:lnTo>
                    <a:pt x="709" y="0"/>
                  </a:lnTo>
                  <a:lnTo>
                    <a:pt x="414" y="9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6173640" y="3186000"/>
              <a:ext cx="460440" cy="517680"/>
            </a:xfrm>
            <a:custGeom>
              <a:avLst/>
              <a:gdLst/>
              <a:ahLst/>
              <a:rect l="l" t="t" r="r" b="b"/>
              <a:pathLst>
                <a:path w="661" h="721">
                  <a:moveTo>
                    <a:pt x="469" y="0"/>
                  </a:moveTo>
                  <a:lnTo>
                    <a:pt x="0" y="285"/>
                  </a:lnTo>
                  <a:lnTo>
                    <a:pt x="15" y="304"/>
                  </a:lnTo>
                  <a:lnTo>
                    <a:pt x="30" y="318"/>
                  </a:lnTo>
                  <a:lnTo>
                    <a:pt x="59" y="350"/>
                  </a:lnTo>
                  <a:lnTo>
                    <a:pt x="87" y="380"/>
                  </a:lnTo>
                  <a:lnTo>
                    <a:pt x="118" y="411"/>
                  </a:lnTo>
                  <a:lnTo>
                    <a:pt x="146" y="439"/>
                  </a:lnTo>
                  <a:lnTo>
                    <a:pt x="177" y="468"/>
                  </a:lnTo>
                  <a:lnTo>
                    <a:pt x="207" y="496"/>
                  </a:lnTo>
                  <a:lnTo>
                    <a:pt x="238" y="523"/>
                  </a:lnTo>
                  <a:lnTo>
                    <a:pt x="266" y="550"/>
                  </a:lnTo>
                  <a:lnTo>
                    <a:pt x="296" y="574"/>
                  </a:lnTo>
                  <a:lnTo>
                    <a:pt x="327" y="601"/>
                  </a:lnTo>
                  <a:lnTo>
                    <a:pt x="357" y="626"/>
                  </a:lnTo>
                  <a:lnTo>
                    <a:pt x="388" y="648"/>
                  </a:lnTo>
                  <a:lnTo>
                    <a:pt x="418" y="671"/>
                  </a:lnTo>
                  <a:lnTo>
                    <a:pt x="450" y="694"/>
                  </a:lnTo>
                  <a:lnTo>
                    <a:pt x="494" y="721"/>
                  </a:lnTo>
                  <a:lnTo>
                    <a:pt x="661" y="209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6173640" y="2990160"/>
              <a:ext cx="375480" cy="399960"/>
            </a:xfrm>
            <a:custGeom>
              <a:avLst/>
              <a:gdLst/>
              <a:ahLst/>
              <a:rect l="l" t="t" r="r" b="b"/>
              <a:pathLst>
                <a:path w="540" h="557">
                  <a:moveTo>
                    <a:pt x="469" y="268"/>
                  </a:moveTo>
                  <a:lnTo>
                    <a:pt x="0" y="557"/>
                  </a:lnTo>
                  <a:lnTo>
                    <a:pt x="45" y="356"/>
                  </a:lnTo>
                  <a:lnTo>
                    <a:pt x="44" y="358"/>
                  </a:lnTo>
                  <a:lnTo>
                    <a:pt x="171" y="264"/>
                  </a:lnTo>
                  <a:lnTo>
                    <a:pt x="201" y="244"/>
                  </a:lnTo>
                  <a:lnTo>
                    <a:pt x="363" y="126"/>
                  </a:lnTo>
                  <a:lnTo>
                    <a:pt x="540" y="0"/>
                  </a:lnTo>
                  <a:lnTo>
                    <a:pt x="521" y="72"/>
                  </a:lnTo>
                  <a:lnTo>
                    <a:pt x="469" y="266"/>
                  </a:lnTo>
                  <a:lnTo>
                    <a:pt x="469" y="26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6520320" y="3701160"/>
              <a:ext cx="478800" cy="1040400"/>
            </a:xfrm>
            <a:custGeom>
              <a:avLst/>
              <a:gdLst/>
              <a:ahLst/>
              <a:rect l="l" t="t" r="r" b="b"/>
              <a:pathLst>
                <a:path w="688" h="1447">
                  <a:moveTo>
                    <a:pt x="0" y="0"/>
                  </a:moveTo>
                  <a:lnTo>
                    <a:pt x="688" y="1447"/>
                  </a:lnTo>
                  <a:lnTo>
                    <a:pt x="688" y="14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7408440" y="2962800"/>
              <a:ext cx="395280" cy="444600"/>
            </a:xfrm>
            <a:custGeom>
              <a:avLst/>
              <a:gdLst/>
              <a:ahLst/>
              <a:rect l="l" t="t" r="r" b="b"/>
              <a:pathLst>
                <a:path w="568" h="618">
                  <a:moveTo>
                    <a:pt x="55" y="268"/>
                  </a:moveTo>
                  <a:lnTo>
                    <a:pt x="0" y="0"/>
                  </a:lnTo>
                  <a:lnTo>
                    <a:pt x="553" y="455"/>
                  </a:lnTo>
                  <a:lnTo>
                    <a:pt x="560" y="472"/>
                  </a:lnTo>
                  <a:lnTo>
                    <a:pt x="560" y="476"/>
                  </a:lnTo>
                  <a:lnTo>
                    <a:pt x="564" y="487"/>
                  </a:lnTo>
                  <a:lnTo>
                    <a:pt x="566" y="496"/>
                  </a:lnTo>
                  <a:lnTo>
                    <a:pt x="568" y="508"/>
                  </a:lnTo>
                  <a:lnTo>
                    <a:pt x="568" y="519"/>
                  </a:lnTo>
                  <a:lnTo>
                    <a:pt x="568" y="529"/>
                  </a:lnTo>
                  <a:lnTo>
                    <a:pt x="568" y="540"/>
                  </a:lnTo>
                  <a:lnTo>
                    <a:pt x="568" y="561"/>
                  </a:lnTo>
                  <a:lnTo>
                    <a:pt x="568" y="573"/>
                  </a:lnTo>
                  <a:lnTo>
                    <a:pt x="560" y="618"/>
                  </a:lnTo>
                  <a:lnTo>
                    <a:pt x="55" y="26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6999480" y="3337200"/>
              <a:ext cx="496800" cy="438840"/>
            </a:xfrm>
            <a:custGeom>
              <a:avLst/>
              <a:gdLst/>
              <a:ahLst/>
              <a:rect l="l" t="t" r="r" b="b"/>
              <a:pathLst>
                <a:path w="713" h="610">
                  <a:moveTo>
                    <a:pt x="0" y="609"/>
                  </a:moveTo>
                  <a:lnTo>
                    <a:pt x="12" y="610"/>
                  </a:lnTo>
                  <a:lnTo>
                    <a:pt x="76" y="609"/>
                  </a:lnTo>
                  <a:lnTo>
                    <a:pt x="109" y="607"/>
                  </a:lnTo>
                  <a:lnTo>
                    <a:pt x="143" y="605"/>
                  </a:lnTo>
                  <a:lnTo>
                    <a:pt x="177" y="601"/>
                  </a:lnTo>
                  <a:lnTo>
                    <a:pt x="217" y="599"/>
                  </a:lnTo>
                  <a:lnTo>
                    <a:pt x="255" y="597"/>
                  </a:lnTo>
                  <a:lnTo>
                    <a:pt x="293" y="590"/>
                  </a:lnTo>
                  <a:lnTo>
                    <a:pt x="331" y="588"/>
                  </a:lnTo>
                  <a:lnTo>
                    <a:pt x="369" y="582"/>
                  </a:lnTo>
                  <a:lnTo>
                    <a:pt x="413" y="574"/>
                  </a:lnTo>
                  <a:lnTo>
                    <a:pt x="451" y="567"/>
                  </a:lnTo>
                  <a:lnTo>
                    <a:pt x="500" y="555"/>
                  </a:lnTo>
                  <a:lnTo>
                    <a:pt x="614" y="523"/>
                  </a:lnTo>
                  <a:lnTo>
                    <a:pt x="713" y="485"/>
                  </a:lnTo>
                  <a:lnTo>
                    <a:pt x="479" y="0"/>
                  </a:lnTo>
                  <a:lnTo>
                    <a:pt x="0" y="0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6517440" y="3337200"/>
              <a:ext cx="484200" cy="437040"/>
            </a:xfrm>
            <a:custGeom>
              <a:avLst/>
              <a:gdLst/>
              <a:ahLst/>
              <a:rect l="l" t="t" r="r" b="b"/>
              <a:pathLst>
                <a:path w="696" h="609">
                  <a:moveTo>
                    <a:pt x="166" y="0"/>
                  </a:moveTo>
                  <a:lnTo>
                    <a:pt x="0" y="508"/>
                  </a:lnTo>
                  <a:lnTo>
                    <a:pt x="72" y="536"/>
                  </a:lnTo>
                  <a:lnTo>
                    <a:pt x="164" y="561"/>
                  </a:lnTo>
                  <a:lnTo>
                    <a:pt x="259" y="580"/>
                  </a:lnTo>
                  <a:lnTo>
                    <a:pt x="365" y="591"/>
                  </a:lnTo>
                  <a:lnTo>
                    <a:pt x="432" y="597"/>
                  </a:lnTo>
                  <a:lnTo>
                    <a:pt x="510" y="603"/>
                  </a:lnTo>
                  <a:lnTo>
                    <a:pt x="563" y="605"/>
                  </a:lnTo>
                  <a:lnTo>
                    <a:pt x="603" y="607"/>
                  </a:lnTo>
                  <a:lnTo>
                    <a:pt x="696" y="609"/>
                  </a:lnTo>
                  <a:lnTo>
                    <a:pt x="694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6961680" y="3765960"/>
              <a:ext cx="34560" cy="288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4"/>
                  </a:moveTo>
                  <a:lnTo>
                    <a:pt x="19" y="4"/>
                  </a:lnTo>
                  <a:lnTo>
                    <a:pt x="38" y="4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6532560" y="3452040"/>
              <a:ext cx="320400" cy="237600"/>
            </a:xfrm>
            <a:custGeom>
              <a:avLst/>
              <a:gdLst/>
              <a:ahLst/>
              <a:rect l="l" t="t" r="r" b="b"/>
              <a:pathLst>
                <a:path w="460" h="331">
                  <a:moveTo>
                    <a:pt x="108" y="53"/>
                  </a:moveTo>
                  <a:lnTo>
                    <a:pt x="10" y="329"/>
                  </a:lnTo>
                  <a:lnTo>
                    <a:pt x="145" y="137"/>
                  </a:lnTo>
                  <a:lnTo>
                    <a:pt x="460" y="0"/>
                  </a:lnTo>
                  <a:lnTo>
                    <a:pt x="10" y="329"/>
                  </a:lnTo>
                  <a:lnTo>
                    <a:pt x="108" y="53"/>
                  </a:lnTo>
                  <a:lnTo>
                    <a:pt x="135" y="154"/>
                  </a:lnTo>
                  <a:lnTo>
                    <a:pt x="0" y="331"/>
                  </a:lnTo>
                  <a:lnTo>
                    <a:pt x="103" y="19"/>
                  </a:lnTo>
                  <a:lnTo>
                    <a:pt x="108" y="53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6538320" y="3477960"/>
              <a:ext cx="320040" cy="248760"/>
            </a:xfrm>
            <a:custGeom>
              <a:avLst/>
              <a:gdLst/>
              <a:ahLst/>
              <a:rect l="l" t="t" r="r" b="b"/>
              <a:pathLst>
                <a:path w="460" h="346">
                  <a:moveTo>
                    <a:pt x="0" y="293"/>
                  </a:moveTo>
                  <a:lnTo>
                    <a:pt x="460" y="0"/>
                  </a:lnTo>
                  <a:lnTo>
                    <a:pt x="226" y="346"/>
                  </a:lnTo>
                  <a:lnTo>
                    <a:pt x="380" y="346"/>
                  </a:lnTo>
                  <a:lnTo>
                    <a:pt x="226" y="346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6695640" y="3727080"/>
              <a:ext cx="151560" cy="2700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6758280" y="3538440"/>
              <a:ext cx="120600" cy="175320"/>
            </a:xfrm>
            <a:custGeom>
              <a:avLst/>
              <a:gdLst/>
              <a:ahLst/>
              <a:rect l="l" t="t" r="r" b="b"/>
              <a:pathLst>
                <a:path w="173" h="245">
                  <a:moveTo>
                    <a:pt x="154" y="0"/>
                  </a:moveTo>
                  <a:lnTo>
                    <a:pt x="0" y="235"/>
                  </a:lnTo>
                  <a:lnTo>
                    <a:pt x="173" y="24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7344360" y="3653640"/>
              <a:ext cx="217080" cy="369720"/>
            </a:xfrm>
            <a:custGeom>
              <a:avLst/>
              <a:gdLst/>
              <a:ahLst/>
              <a:rect l="l" t="t" r="r" b="b"/>
              <a:pathLst>
                <a:path w="312" h="516">
                  <a:moveTo>
                    <a:pt x="221" y="54"/>
                  </a:moveTo>
                  <a:lnTo>
                    <a:pt x="0" y="516"/>
                  </a:lnTo>
                  <a:lnTo>
                    <a:pt x="0" y="516"/>
                  </a:lnTo>
                  <a:lnTo>
                    <a:pt x="221" y="52"/>
                  </a:lnTo>
                  <a:lnTo>
                    <a:pt x="312" y="0"/>
                  </a:lnTo>
                  <a:lnTo>
                    <a:pt x="168" y="162"/>
                  </a:lnTo>
                  <a:lnTo>
                    <a:pt x="221" y="54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7003440" y="3721320"/>
              <a:ext cx="446760" cy="997200"/>
            </a:xfrm>
            <a:custGeom>
              <a:avLst/>
              <a:gdLst/>
              <a:ahLst/>
              <a:rect l="l" t="t" r="r" b="b"/>
              <a:pathLst>
                <a:path w="642" h="1386">
                  <a:moveTo>
                    <a:pt x="570" y="37"/>
                  </a:moveTo>
                  <a:lnTo>
                    <a:pt x="0" y="1386"/>
                  </a:lnTo>
                  <a:lnTo>
                    <a:pt x="28" y="1276"/>
                  </a:lnTo>
                  <a:lnTo>
                    <a:pt x="642" y="0"/>
                  </a:lnTo>
                  <a:lnTo>
                    <a:pt x="570" y="3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7014600" y="3346920"/>
              <a:ext cx="90360" cy="178200"/>
            </a:xfrm>
            <a:custGeom>
              <a:avLst/>
              <a:gdLst/>
              <a:ahLst/>
              <a:rect l="l" t="t" r="r" b="b"/>
              <a:pathLst>
                <a:path w="129" h="249">
                  <a:moveTo>
                    <a:pt x="68" y="0"/>
                  </a:moveTo>
                  <a:lnTo>
                    <a:pt x="86" y="0"/>
                  </a:lnTo>
                  <a:lnTo>
                    <a:pt x="57" y="108"/>
                  </a:lnTo>
                  <a:lnTo>
                    <a:pt x="0" y="220"/>
                  </a:lnTo>
                  <a:lnTo>
                    <a:pt x="0" y="249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6621840" y="2890800"/>
              <a:ext cx="370080" cy="67320"/>
            </a:xfrm>
            <a:custGeom>
              <a:avLst/>
              <a:gdLst/>
              <a:ahLst/>
              <a:rect l="l" t="t" r="r" b="b"/>
              <a:pathLst>
                <a:path w="533" h="94">
                  <a:moveTo>
                    <a:pt x="114" y="29"/>
                  </a:moveTo>
                  <a:lnTo>
                    <a:pt x="424" y="29"/>
                  </a:lnTo>
                  <a:lnTo>
                    <a:pt x="533" y="0"/>
                  </a:lnTo>
                  <a:lnTo>
                    <a:pt x="474" y="4"/>
                  </a:lnTo>
                  <a:lnTo>
                    <a:pt x="126" y="0"/>
                  </a:lnTo>
                  <a:lnTo>
                    <a:pt x="0" y="94"/>
                  </a:lnTo>
                  <a:lnTo>
                    <a:pt x="114" y="29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6557760" y="3727080"/>
              <a:ext cx="445320" cy="997200"/>
            </a:xfrm>
            <a:custGeom>
              <a:avLst/>
              <a:gdLst/>
              <a:ahLst/>
              <a:rect l="l" t="t" r="r" b="b"/>
              <a:pathLst>
                <a:path w="641" h="1386">
                  <a:moveTo>
                    <a:pt x="91" y="46"/>
                  </a:moveTo>
                  <a:lnTo>
                    <a:pt x="641" y="1386"/>
                  </a:lnTo>
                  <a:lnTo>
                    <a:pt x="605" y="1268"/>
                  </a:lnTo>
                  <a:lnTo>
                    <a:pt x="0" y="0"/>
                  </a:lnTo>
                  <a:lnTo>
                    <a:pt x="207" y="74"/>
                  </a:lnTo>
                  <a:lnTo>
                    <a:pt x="91" y="4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7006320" y="3653640"/>
              <a:ext cx="45720" cy="109080"/>
            </a:xfrm>
            <a:custGeom>
              <a:avLst/>
              <a:gdLst/>
              <a:ahLst/>
              <a:rect l="l" t="t" r="r" b="b"/>
              <a:pathLst>
                <a:path w="66" h="152">
                  <a:moveTo>
                    <a:pt x="0" y="0"/>
                  </a:moveTo>
                  <a:lnTo>
                    <a:pt x="15" y="135"/>
                  </a:lnTo>
                  <a:lnTo>
                    <a:pt x="66" y="147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 flipV="1">
              <a:off x="6607800" y="2959920"/>
              <a:ext cx="673920" cy="164160"/>
            </a:xfrm>
            <a:prstGeom prst="line">
              <a:avLst/>
            </a:prstGeom>
            <a:ln w="1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 flipV="1">
              <a:off x="6790320" y="3038760"/>
              <a:ext cx="345240" cy="9180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6174720" y="3194280"/>
              <a:ext cx="307800" cy="192600"/>
            </a:xfrm>
            <a:custGeom>
              <a:avLst/>
              <a:gdLst/>
              <a:ahLst/>
              <a:rect l="l" t="t" r="r" b="b"/>
              <a:pathLst>
                <a:path w="443" h="268">
                  <a:moveTo>
                    <a:pt x="17" y="232"/>
                  </a:moveTo>
                  <a:lnTo>
                    <a:pt x="443" y="0"/>
                  </a:lnTo>
                  <a:lnTo>
                    <a:pt x="443" y="0"/>
                  </a:lnTo>
                  <a:lnTo>
                    <a:pt x="0" y="268"/>
                  </a:lnTo>
                  <a:lnTo>
                    <a:pt x="23" y="163"/>
                  </a:lnTo>
                  <a:lnTo>
                    <a:pt x="17" y="232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7419600" y="2978640"/>
              <a:ext cx="272880" cy="228600"/>
            </a:xfrm>
            <a:custGeom>
              <a:avLst/>
              <a:gdLst/>
              <a:ahLst/>
              <a:rect l="l" t="t" r="r" b="b"/>
              <a:pathLst>
                <a:path w="391" h="318">
                  <a:moveTo>
                    <a:pt x="23" y="44"/>
                  </a:moveTo>
                  <a:lnTo>
                    <a:pt x="391" y="318"/>
                  </a:lnTo>
                  <a:lnTo>
                    <a:pt x="391" y="318"/>
                  </a:lnTo>
                  <a:lnTo>
                    <a:pt x="0" y="0"/>
                  </a:lnTo>
                  <a:lnTo>
                    <a:pt x="45" y="226"/>
                  </a:lnTo>
                  <a:lnTo>
                    <a:pt x="23" y="44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6273720" y="3529800"/>
              <a:ext cx="641880" cy="1050840"/>
            </a:xfrm>
            <a:custGeom>
              <a:avLst/>
              <a:gdLst/>
              <a:ahLst/>
              <a:rect l="l" t="t" r="r" b="b"/>
              <a:pathLst>
                <a:path w="922" h="1460">
                  <a:moveTo>
                    <a:pt x="92" y="130"/>
                  </a:moveTo>
                  <a:lnTo>
                    <a:pt x="922" y="1460"/>
                  </a:lnTo>
                  <a:lnTo>
                    <a:pt x="922" y="1460"/>
                  </a:lnTo>
                  <a:lnTo>
                    <a:pt x="0" y="0"/>
                  </a:lnTo>
                  <a:lnTo>
                    <a:pt x="299" y="403"/>
                  </a:lnTo>
                  <a:lnTo>
                    <a:pt x="92" y="13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6399000" y="3496680"/>
              <a:ext cx="158760" cy="175320"/>
            </a:xfrm>
            <a:custGeom>
              <a:avLst/>
              <a:gdLst/>
              <a:ahLst/>
              <a:rect l="l" t="t" r="r" b="b"/>
              <a:pathLst>
                <a:path w="226" h="243">
                  <a:moveTo>
                    <a:pt x="226" y="0"/>
                  </a:moveTo>
                  <a:lnTo>
                    <a:pt x="127" y="184"/>
                  </a:lnTo>
                  <a:lnTo>
                    <a:pt x="0" y="110"/>
                  </a:lnTo>
                  <a:lnTo>
                    <a:pt x="160" y="243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6172200" y="3377160"/>
              <a:ext cx="119520" cy="129240"/>
            </a:xfrm>
            <a:custGeom>
              <a:avLst/>
              <a:gdLst/>
              <a:ahLst/>
              <a:rect l="l" t="t" r="r" b="b"/>
              <a:pathLst>
                <a:path w="171" h="180">
                  <a:moveTo>
                    <a:pt x="154" y="180"/>
                  </a:moveTo>
                  <a:lnTo>
                    <a:pt x="0" y="44"/>
                  </a:lnTo>
                  <a:lnTo>
                    <a:pt x="32" y="53"/>
                  </a:lnTo>
                  <a:lnTo>
                    <a:pt x="72" y="30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52" y="9"/>
                  </a:lnTo>
                  <a:lnTo>
                    <a:pt x="171" y="36"/>
                  </a:lnTo>
                  <a:lnTo>
                    <a:pt x="139" y="63"/>
                  </a:lnTo>
                  <a:lnTo>
                    <a:pt x="118" y="89"/>
                  </a:lnTo>
                  <a:lnTo>
                    <a:pt x="110" y="116"/>
                  </a:lnTo>
                  <a:lnTo>
                    <a:pt x="124" y="133"/>
                  </a:lnTo>
                  <a:lnTo>
                    <a:pt x="154" y="178"/>
                  </a:lnTo>
                  <a:lnTo>
                    <a:pt x="154" y="18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6209640" y="2995560"/>
              <a:ext cx="334080" cy="248760"/>
            </a:xfrm>
            <a:custGeom>
              <a:avLst/>
              <a:gdLst/>
              <a:ahLst/>
              <a:rect l="l" t="t" r="r" b="b"/>
              <a:pathLst>
                <a:path w="481" h="346">
                  <a:moveTo>
                    <a:pt x="0" y="346"/>
                  </a:moveTo>
                  <a:lnTo>
                    <a:pt x="457" y="34"/>
                  </a:lnTo>
                  <a:lnTo>
                    <a:pt x="424" y="218"/>
                  </a:lnTo>
                  <a:lnTo>
                    <a:pt x="481" y="0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b8b8b8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133040" y="3345480"/>
              <a:ext cx="349560" cy="327960"/>
            </a:xfrm>
            <a:custGeom>
              <a:avLst/>
              <a:gdLst/>
              <a:ahLst/>
              <a:rect l="l" t="t" r="r" b="b"/>
              <a:pathLst>
                <a:path w="502" h="456">
                  <a:moveTo>
                    <a:pt x="0" y="0"/>
                  </a:moveTo>
                  <a:lnTo>
                    <a:pt x="259" y="15"/>
                  </a:lnTo>
                  <a:lnTo>
                    <a:pt x="502" y="456"/>
                  </a:lnTo>
                  <a:lnTo>
                    <a:pt x="2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6921360" y="3776040"/>
              <a:ext cx="74880" cy="771120"/>
            </a:xfrm>
            <a:custGeom>
              <a:avLst/>
              <a:gdLst/>
              <a:ahLst/>
              <a:rect l="l" t="t" r="r" b="b"/>
              <a:pathLst>
                <a:path w="108" h="1073">
                  <a:moveTo>
                    <a:pt x="0" y="0"/>
                  </a:moveTo>
                  <a:lnTo>
                    <a:pt x="99" y="20"/>
                  </a:lnTo>
                  <a:lnTo>
                    <a:pt x="108" y="1073"/>
                  </a:lnTo>
                  <a:lnTo>
                    <a:pt x="10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19" name="BANANA" descr=""/>
          <p:cNvPicPr/>
          <p:nvPr/>
        </p:nvPicPr>
        <p:blipFill>
          <a:blip r:embed="rId1"/>
          <a:stretch/>
        </p:blipFill>
        <p:spPr>
          <a:xfrm>
            <a:off x="1523880" y="2476440"/>
            <a:ext cx="1036800" cy="2667240"/>
          </a:xfrm>
          <a:prstGeom prst="rect">
            <a:avLst/>
          </a:prstGeom>
          <a:ln w="0">
            <a:noFill/>
          </a:ln>
        </p:spPr>
      </p:pic>
      <p:sp>
        <p:nvSpPr>
          <p:cNvPr id="6820" name=""/>
          <p:cNvSpPr/>
          <p:nvPr/>
        </p:nvSpPr>
        <p:spPr>
          <a:xfrm>
            <a:off x="2287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2" name=""/>
          <p:cNvSpPr/>
          <p:nvPr/>
        </p:nvSpPr>
        <p:spPr>
          <a:xfrm>
            <a:off x="2092320" y="944640"/>
            <a:ext cx="4957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3" name=""/>
          <p:cNvGrpSpPr/>
          <p:nvPr/>
        </p:nvGrpSpPr>
        <p:grpSpPr>
          <a:xfrm>
            <a:off x="1371600" y="3027240"/>
            <a:ext cx="1563840" cy="1565280"/>
            <a:chOff x="1371600" y="3027240"/>
            <a:chExt cx="1563840" cy="1565280"/>
          </a:xfrm>
        </p:grpSpPr>
        <p:sp>
          <p:nvSpPr>
            <p:cNvPr id="6824" name=""/>
            <p:cNvSpPr/>
            <p:nvPr/>
          </p:nvSpPr>
          <p:spPr>
            <a:xfrm>
              <a:off x="1371600" y="3027240"/>
              <a:ext cx="1563840" cy="782640"/>
            </a:xfrm>
            <a:custGeom>
              <a:avLst/>
              <a:gdLst/>
              <a:ahLst/>
              <a:rect l="l" t="t" r="r" b="b"/>
              <a:pathLst>
                <a:path w="1969" h="985">
                  <a:moveTo>
                    <a:pt x="0" y="985"/>
                  </a:moveTo>
                  <a:lnTo>
                    <a:pt x="985" y="0"/>
                  </a:lnTo>
                  <a:lnTo>
                    <a:pt x="1969" y="985"/>
                  </a:lnTo>
                  <a:lnTo>
                    <a:pt x="1969" y="985"/>
                  </a:lnTo>
                  <a:lnTo>
                    <a:pt x="1903" y="985"/>
                  </a:lnTo>
                  <a:lnTo>
                    <a:pt x="1903" y="985"/>
                  </a:lnTo>
                  <a:lnTo>
                    <a:pt x="985" y="66"/>
                  </a:lnTo>
                  <a:lnTo>
                    <a:pt x="66" y="985"/>
                  </a:lnTo>
                  <a:lnTo>
                    <a:pt x="0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1371600" y="3809880"/>
              <a:ext cx="1563840" cy="782640"/>
            </a:xfrm>
            <a:custGeom>
              <a:avLst/>
              <a:gdLst/>
              <a:ahLst/>
              <a:rect l="l" t="t" r="r" b="b"/>
              <a:pathLst>
                <a:path w="1969" h="986">
                  <a:moveTo>
                    <a:pt x="0" y="0"/>
                  </a:moveTo>
                  <a:lnTo>
                    <a:pt x="0" y="0"/>
                  </a:lnTo>
                  <a:lnTo>
                    <a:pt x="985" y="986"/>
                  </a:lnTo>
                  <a:lnTo>
                    <a:pt x="1969" y="0"/>
                  </a:lnTo>
                  <a:lnTo>
                    <a:pt x="1903" y="0"/>
                  </a:lnTo>
                  <a:lnTo>
                    <a:pt x="985" y="92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154240" y="3128760"/>
              <a:ext cx="679320" cy="1361880"/>
            </a:xfrm>
            <a:custGeom>
              <a:avLst/>
              <a:gdLst/>
              <a:ahLst/>
              <a:rect l="l" t="t" r="r" b="b"/>
              <a:pathLst>
                <a:path w="857" h="1717">
                  <a:moveTo>
                    <a:pt x="0" y="1717"/>
                  </a:moveTo>
                  <a:lnTo>
                    <a:pt x="857" y="858"/>
                  </a:lnTo>
                  <a:lnTo>
                    <a:pt x="0" y="0"/>
                  </a:lnTo>
                  <a:lnTo>
                    <a:pt x="0" y="17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154240" y="3471480"/>
              <a:ext cx="338040" cy="676440"/>
            </a:xfrm>
            <a:custGeom>
              <a:avLst/>
              <a:gdLst/>
              <a:ahLst/>
              <a:rect l="l" t="t" r="r" b="b"/>
              <a:pathLst>
                <a:path w="427" h="853">
                  <a:moveTo>
                    <a:pt x="0" y="853"/>
                  </a:moveTo>
                  <a:lnTo>
                    <a:pt x="427" y="426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1816200" y="3471480"/>
              <a:ext cx="338040" cy="676440"/>
            </a:xfrm>
            <a:custGeom>
              <a:avLst/>
              <a:gdLst/>
              <a:ahLst/>
              <a:rect l="l" t="t" r="r" b="b"/>
              <a:pathLst>
                <a:path w="426" h="853">
                  <a:moveTo>
                    <a:pt x="426" y="0"/>
                  </a:moveTo>
                  <a:lnTo>
                    <a:pt x="0" y="426"/>
                  </a:lnTo>
                  <a:lnTo>
                    <a:pt x="426" y="853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9" name=""/>
          <p:cNvSpPr/>
          <p:nvPr/>
        </p:nvSpPr>
        <p:spPr>
          <a:xfrm>
            <a:off x="2590920" y="1371600"/>
            <a:ext cx="5386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0" name=""/>
          <p:cNvGrpSpPr/>
          <p:nvPr/>
        </p:nvGrpSpPr>
        <p:grpSpPr>
          <a:xfrm>
            <a:off x="5943600" y="3009960"/>
            <a:ext cx="1652760" cy="1600200"/>
            <a:chOff x="5943600" y="3009960"/>
            <a:chExt cx="1652760" cy="1600200"/>
          </a:xfrm>
        </p:grpSpPr>
        <p:sp>
          <p:nvSpPr>
            <p:cNvPr id="6831" name=""/>
            <p:cNvSpPr/>
            <p:nvPr/>
          </p:nvSpPr>
          <p:spPr>
            <a:xfrm>
              <a:off x="6772320" y="3806640"/>
              <a:ext cx="824040" cy="803520"/>
            </a:xfrm>
            <a:custGeom>
              <a:avLst/>
              <a:gdLst/>
              <a:ahLst/>
              <a:rect l="l" t="t" r="r" b="b"/>
              <a:pathLst>
                <a:path w="567" h="566">
                  <a:moveTo>
                    <a:pt x="0" y="0"/>
                  </a:moveTo>
                  <a:lnTo>
                    <a:pt x="567" y="0"/>
                  </a:lnTo>
                  <a:lnTo>
                    <a:pt x="565" y="57"/>
                  </a:lnTo>
                  <a:lnTo>
                    <a:pt x="555" y="114"/>
                  </a:lnTo>
                  <a:lnTo>
                    <a:pt x="542" y="168"/>
                  </a:lnTo>
                  <a:lnTo>
                    <a:pt x="523" y="220"/>
                  </a:lnTo>
                  <a:lnTo>
                    <a:pt x="499" y="269"/>
                  </a:lnTo>
                  <a:lnTo>
                    <a:pt x="470" y="316"/>
                  </a:lnTo>
                  <a:lnTo>
                    <a:pt x="437" y="359"/>
                  </a:lnTo>
                  <a:lnTo>
                    <a:pt x="401" y="400"/>
                  </a:lnTo>
                  <a:lnTo>
                    <a:pt x="360" y="436"/>
                  </a:lnTo>
                  <a:lnTo>
                    <a:pt x="317" y="469"/>
                  </a:lnTo>
                  <a:lnTo>
                    <a:pt x="270" y="498"/>
                  </a:lnTo>
                  <a:lnTo>
                    <a:pt x="221" y="522"/>
                  </a:lnTo>
                  <a:lnTo>
                    <a:pt x="169" y="541"/>
                  </a:lnTo>
                  <a:lnTo>
                    <a:pt x="115" y="554"/>
                  </a:lnTo>
                  <a:lnTo>
                    <a:pt x="58" y="564"/>
                  </a:lnTo>
                  <a:lnTo>
                    <a:pt x="0" y="5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5978520" y="3009960"/>
              <a:ext cx="828720" cy="796680"/>
            </a:xfrm>
            <a:custGeom>
              <a:avLst/>
              <a:gdLst/>
              <a:ahLst/>
              <a:rect l="l" t="t" r="r" b="b"/>
              <a:pathLst>
                <a:path w="567" h="567">
                  <a:moveTo>
                    <a:pt x="567" y="567"/>
                  </a:moveTo>
                  <a:lnTo>
                    <a:pt x="0" y="567"/>
                  </a:lnTo>
                  <a:lnTo>
                    <a:pt x="2" y="509"/>
                  </a:lnTo>
                  <a:lnTo>
                    <a:pt x="12" y="452"/>
                  </a:lnTo>
                  <a:lnTo>
                    <a:pt x="25" y="398"/>
                  </a:lnTo>
                  <a:lnTo>
                    <a:pt x="45" y="346"/>
                  </a:lnTo>
                  <a:lnTo>
                    <a:pt x="69" y="297"/>
                  </a:lnTo>
                  <a:lnTo>
                    <a:pt x="98" y="250"/>
                  </a:lnTo>
                  <a:lnTo>
                    <a:pt x="130" y="207"/>
                  </a:lnTo>
                  <a:lnTo>
                    <a:pt x="166" y="166"/>
                  </a:lnTo>
                  <a:lnTo>
                    <a:pt x="207" y="130"/>
                  </a:lnTo>
                  <a:lnTo>
                    <a:pt x="251" y="97"/>
                  </a:lnTo>
                  <a:lnTo>
                    <a:pt x="297" y="69"/>
                  </a:lnTo>
                  <a:lnTo>
                    <a:pt x="347" y="45"/>
                  </a:lnTo>
                  <a:lnTo>
                    <a:pt x="399" y="25"/>
                  </a:lnTo>
                  <a:lnTo>
                    <a:pt x="453" y="12"/>
                  </a:lnTo>
                  <a:lnTo>
                    <a:pt x="509" y="2"/>
                  </a:lnTo>
                  <a:lnTo>
                    <a:pt x="567" y="0"/>
                  </a:lnTo>
                  <a:lnTo>
                    <a:pt x="567" y="567"/>
                  </a:lnTo>
                  <a:lnTo>
                    <a:pt x="567" y="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6772320" y="3009960"/>
              <a:ext cx="824040" cy="796680"/>
            </a:xfrm>
            <a:custGeom>
              <a:avLst/>
              <a:gdLst/>
              <a:ahLst/>
              <a:rect l="l" t="t" r="r" b="b"/>
              <a:pathLst>
                <a:path w="567" h="567">
                  <a:moveTo>
                    <a:pt x="0" y="567"/>
                  </a:moveTo>
                  <a:lnTo>
                    <a:pt x="567" y="567"/>
                  </a:lnTo>
                  <a:lnTo>
                    <a:pt x="565" y="509"/>
                  </a:lnTo>
                  <a:lnTo>
                    <a:pt x="555" y="452"/>
                  </a:lnTo>
                  <a:lnTo>
                    <a:pt x="542" y="398"/>
                  </a:lnTo>
                  <a:lnTo>
                    <a:pt x="523" y="346"/>
                  </a:lnTo>
                  <a:lnTo>
                    <a:pt x="499" y="297"/>
                  </a:lnTo>
                  <a:lnTo>
                    <a:pt x="470" y="250"/>
                  </a:lnTo>
                  <a:lnTo>
                    <a:pt x="437" y="207"/>
                  </a:lnTo>
                  <a:lnTo>
                    <a:pt x="401" y="166"/>
                  </a:lnTo>
                  <a:lnTo>
                    <a:pt x="360" y="130"/>
                  </a:lnTo>
                  <a:lnTo>
                    <a:pt x="317" y="97"/>
                  </a:lnTo>
                  <a:lnTo>
                    <a:pt x="270" y="69"/>
                  </a:lnTo>
                  <a:lnTo>
                    <a:pt x="221" y="45"/>
                  </a:lnTo>
                  <a:lnTo>
                    <a:pt x="169" y="25"/>
                  </a:lnTo>
                  <a:lnTo>
                    <a:pt x="115" y="12"/>
                  </a:lnTo>
                  <a:lnTo>
                    <a:pt x="58" y="2"/>
                  </a:lnTo>
                  <a:lnTo>
                    <a:pt x="0" y="0"/>
                  </a:lnTo>
                  <a:lnTo>
                    <a:pt x="0" y="567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6772320" y="3009960"/>
              <a:ext cx="824040" cy="796680"/>
            </a:xfrm>
            <a:custGeom>
              <a:avLst/>
              <a:gdLst/>
              <a:ahLst/>
              <a:rect l="l" t="t" r="r" b="b"/>
              <a:pathLst>
                <a:path w="567" h="567">
                  <a:moveTo>
                    <a:pt x="0" y="567"/>
                  </a:moveTo>
                  <a:lnTo>
                    <a:pt x="567" y="567"/>
                  </a:lnTo>
                  <a:lnTo>
                    <a:pt x="565" y="509"/>
                  </a:lnTo>
                  <a:lnTo>
                    <a:pt x="555" y="452"/>
                  </a:lnTo>
                  <a:lnTo>
                    <a:pt x="542" y="398"/>
                  </a:lnTo>
                  <a:lnTo>
                    <a:pt x="523" y="346"/>
                  </a:lnTo>
                  <a:lnTo>
                    <a:pt x="499" y="297"/>
                  </a:lnTo>
                  <a:lnTo>
                    <a:pt x="470" y="250"/>
                  </a:lnTo>
                  <a:lnTo>
                    <a:pt x="437" y="207"/>
                  </a:lnTo>
                  <a:lnTo>
                    <a:pt x="401" y="166"/>
                  </a:lnTo>
                  <a:lnTo>
                    <a:pt x="360" y="130"/>
                  </a:lnTo>
                  <a:lnTo>
                    <a:pt x="317" y="97"/>
                  </a:lnTo>
                  <a:lnTo>
                    <a:pt x="270" y="69"/>
                  </a:lnTo>
                  <a:lnTo>
                    <a:pt x="221" y="45"/>
                  </a:lnTo>
                  <a:lnTo>
                    <a:pt x="169" y="25"/>
                  </a:lnTo>
                  <a:lnTo>
                    <a:pt x="115" y="12"/>
                  </a:lnTo>
                  <a:lnTo>
                    <a:pt x="58" y="2"/>
                  </a:lnTo>
                  <a:lnTo>
                    <a:pt x="0" y="0"/>
                  </a:lnTo>
                  <a:lnTo>
                    <a:pt x="0" y="567"/>
                  </a:lnTo>
                  <a:lnTo>
                    <a:pt x="0" y="567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943600" y="3806640"/>
              <a:ext cx="828720" cy="803520"/>
            </a:xfrm>
            <a:custGeom>
              <a:avLst/>
              <a:gdLst/>
              <a:ahLst/>
              <a:rect l="l" t="t" r="r" b="b"/>
              <a:pathLst>
                <a:path w="567" h="566">
                  <a:moveTo>
                    <a:pt x="567" y="0"/>
                  </a:moveTo>
                  <a:lnTo>
                    <a:pt x="0" y="0"/>
                  </a:lnTo>
                  <a:lnTo>
                    <a:pt x="2" y="57"/>
                  </a:lnTo>
                  <a:lnTo>
                    <a:pt x="12" y="114"/>
                  </a:lnTo>
                  <a:lnTo>
                    <a:pt x="25" y="168"/>
                  </a:lnTo>
                  <a:lnTo>
                    <a:pt x="45" y="220"/>
                  </a:lnTo>
                  <a:lnTo>
                    <a:pt x="69" y="269"/>
                  </a:lnTo>
                  <a:lnTo>
                    <a:pt x="98" y="316"/>
                  </a:lnTo>
                  <a:lnTo>
                    <a:pt x="130" y="359"/>
                  </a:lnTo>
                  <a:lnTo>
                    <a:pt x="166" y="400"/>
                  </a:lnTo>
                  <a:lnTo>
                    <a:pt x="207" y="436"/>
                  </a:lnTo>
                  <a:lnTo>
                    <a:pt x="251" y="469"/>
                  </a:lnTo>
                  <a:lnTo>
                    <a:pt x="297" y="498"/>
                  </a:lnTo>
                  <a:lnTo>
                    <a:pt x="347" y="522"/>
                  </a:lnTo>
                  <a:lnTo>
                    <a:pt x="399" y="541"/>
                  </a:lnTo>
                  <a:lnTo>
                    <a:pt x="453" y="554"/>
                  </a:lnTo>
                  <a:lnTo>
                    <a:pt x="509" y="564"/>
                  </a:lnTo>
                  <a:lnTo>
                    <a:pt x="567" y="566"/>
                  </a:lnTo>
                  <a:lnTo>
                    <a:pt x="567" y="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978520" y="3795480"/>
              <a:ext cx="828720" cy="803520"/>
            </a:xfrm>
            <a:custGeom>
              <a:avLst/>
              <a:gdLst/>
              <a:ahLst/>
              <a:rect l="l" t="t" r="r" b="b"/>
              <a:pathLst>
                <a:path w="567" h="566">
                  <a:moveTo>
                    <a:pt x="567" y="0"/>
                  </a:moveTo>
                  <a:lnTo>
                    <a:pt x="0" y="0"/>
                  </a:lnTo>
                  <a:lnTo>
                    <a:pt x="2" y="57"/>
                  </a:lnTo>
                  <a:lnTo>
                    <a:pt x="12" y="114"/>
                  </a:lnTo>
                  <a:lnTo>
                    <a:pt x="25" y="168"/>
                  </a:lnTo>
                  <a:lnTo>
                    <a:pt x="45" y="220"/>
                  </a:lnTo>
                  <a:lnTo>
                    <a:pt x="69" y="269"/>
                  </a:lnTo>
                  <a:lnTo>
                    <a:pt x="98" y="316"/>
                  </a:lnTo>
                  <a:lnTo>
                    <a:pt x="130" y="359"/>
                  </a:lnTo>
                  <a:lnTo>
                    <a:pt x="166" y="400"/>
                  </a:lnTo>
                  <a:lnTo>
                    <a:pt x="207" y="436"/>
                  </a:lnTo>
                  <a:lnTo>
                    <a:pt x="251" y="469"/>
                  </a:lnTo>
                  <a:lnTo>
                    <a:pt x="297" y="498"/>
                  </a:lnTo>
                  <a:lnTo>
                    <a:pt x="347" y="522"/>
                  </a:lnTo>
                  <a:lnTo>
                    <a:pt x="399" y="541"/>
                  </a:lnTo>
                  <a:lnTo>
                    <a:pt x="453" y="554"/>
                  </a:lnTo>
                  <a:lnTo>
                    <a:pt x="509" y="564"/>
                  </a:lnTo>
                  <a:lnTo>
                    <a:pt x="567" y="566"/>
                  </a:lnTo>
                  <a:lnTo>
                    <a:pt x="567" y="0"/>
                  </a:lnTo>
                  <a:lnTo>
                    <a:pt x="56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6789600" y="3502080"/>
              <a:ext cx="351000" cy="30456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0" y="216"/>
                  </a:moveTo>
                  <a:lnTo>
                    <a:pt x="243" y="216"/>
                  </a:lnTo>
                  <a:lnTo>
                    <a:pt x="241" y="194"/>
                  </a:lnTo>
                  <a:lnTo>
                    <a:pt x="238" y="172"/>
                  </a:lnTo>
                  <a:lnTo>
                    <a:pt x="232" y="152"/>
                  </a:lnTo>
                  <a:lnTo>
                    <a:pt x="223" y="131"/>
                  </a:lnTo>
                  <a:lnTo>
                    <a:pt x="214" y="113"/>
                  </a:lnTo>
                  <a:lnTo>
                    <a:pt x="202" y="95"/>
                  </a:lnTo>
                  <a:lnTo>
                    <a:pt x="187" y="78"/>
                  </a:lnTo>
                  <a:lnTo>
                    <a:pt x="172" y="63"/>
                  </a:lnTo>
                  <a:lnTo>
                    <a:pt x="155" y="50"/>
                  </a:lnTo>
                  <a:lnTo>
                    <a:pt x="135" y="38"/>
                  </a:lnTo>
                  <a:lnTo>
                    <a:pt x="116" y="27"/>
                  </a:lnTo>
                  <a:lnTo>
                    <a:pt x="94" y="17"/>
                  </a:lnTo>
                  <a:lnTo>
                    <a:pt x="73" y="10"/>
                  </a:lnTo>
                  <a:lnTo>
                    <a:pt x="50" y="5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6440400" y="3806640"/>
              <a:ext cx="355680" cy="306360"/>
            </a:xfrm>
            <a:custGeom>
              <a:avLst/>
              <a:gdLst/>
              <a:ahLst/>
              <a:rect l="l" t="t" r="r" b="b"/>
              <a:pathLst>
                <a:path w="242" h="215">
                  <a:moveTo>
                    <a:pt x="242" y="0"/>
                  </a:moveTo>
                  <a:lnTo>
                    <a:pt x="0" y="0"/>
                  </a:lnTo>
                  <a:lnTo>
                    <a:pt x="1" y="21"/>
                  </a:lnTo>
                  <a:lnTo>
                    <a:pt x="5" y="43"/>
                  </a:lnTo>
                  <a:lnTo>
                    <a:pt x="11" y="64"/>
                  </a:lnTo>
                  <a:lnTo>
                    <a:pt x="19" y="84"/>
                  </a:lnTo>
                  <a:lnTo>
                    <a:pt x="29" y="102"/>
                  </a:lnTo>
                  <a:lnTo>
                    <a:pt x="41" y="120"/>
                  </a:lnTo>
                  <a:lnTo>
                    <a:pt x="55" y="137"/>
                  </a:lnTo>
                  <a:lnTo>
                    <a:pt x="71" y="153"/>
                  </a:lnTo>
                  <a:lnTo>
                    <a:pt x="88" y="166"/>
                  </a:lnTo>
                  <a:lnTo>
                    <a:pt x="107" y="178"/>
                  </a:lnTo>
                  <a:lnTo>
                    <a:pt x="126" y="189"/>
                  </a:lnTo>
                  <a:lnTo>
                    <a:pt x="148" y="198"/>
                  </a:lnTo>
                  <a:lnTo>
                    <a:pt x="170" y="206"/>
                  </a:lnTo>
                  <a:lnTo>
                    <a:pt x="192" y="210"/>
                  </a:lnTo>
                  <a:lnTo>
                    <a:pt x="217" y="214"/>
                  </a:lnTo>
                  <a:lnTo>
                    <a:pt x="242" y="215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6789600" y="3806640"/>
              <a:ext cx="351000" cy="306360"/>
            </a:xfrm>
            <a:custGeom>
              <a:avLst/>
              <a:gdLst/>
              <a:ahLst/>
              <a:rect l="l" t="t" r="r" b="b"/>
              <a:pathLst>
                <a:path w="243" h="215">
                  <a:moveTo>
                    <a:pt x="0" y="0"/>
                  </a:moveTo>
                  <a:lnTo>
                    <a:pt x="243" y="0"/>
                  </a:lnTo>
                  <a:lnTo>
                    <a:pt x="241" y="21"/>
                  </a:lnTo>
                  <a:lnTo>
                    <a:pt x="238" y="43"/>
                  </a:lnTo>
                  <a:lnTo>
                    <a:pt x="232" y="64"/>
                  </a:lnTo>
                  <a:lnTo>
                    <a:pt x="223" y="84"/>
                  </a:lnTo>
                  <a:lnTo>
                    <a:pt x="214" y="102"/>
                  </a:lnTo>
                  <a:lnTo>
                    <a:pt x="202" y="120"/>
                  </a:lnTo>
                  <a:lnTo>
                    <a:pt x="187" y="137"/>
                  </a:lnTo>
                  <a:lnTo>
                    <a:pt x="172" y="153"/>
                  </a:lnTo>
                  <a:lnTo>
                    <a:pt x="155" y="166"/>
                  </a:lnTo>
                  <a:lnTo>
                    <a:pt x="135" y="178"/>
                  </a:lnTo>
                  <a:lnTo>
                    <a:pt x="116" y="189"/>
                  </a:lnTo>
                  <a:lnTo>
                    <a:pt x="94" y="198"/>
                  </a:lnTo>
                  <a:lnTo>
                    <a:pt x="73" y="206"/>
                  </a:lnTo>
                  <a:lnTo>
                    <a:pt x="50" y="210"/>
                  </a:lnTo>
                  <a:lnTo>
                    <a:pt x="26" y="214"/>
                  </a:lnTo>
                  <a:lnTo>
                    <a:pt x="0" y="2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6437160" y="3502080"/>
              <a:ext cx="357480" cy="304560"/>
            </a:xfrm>
            <a:custGeom>
              <a:avLst/>
              <a:gdLst/>
              <a:ahLst/>
              <a:rect l="l" t="t" r="r" b="b"/>
              <a:pathLst>
                <a:path w="242" h="216">
                  <a:moveTo>
                    <a:pt x="242" y="216"/>
                  </a:moveTo>
                  <a:lnTo>
                    <a:pt x="0" y="216"/>
                  </a:lnTo>
                  <a:lnTo>
                    <a:pt x="1" y="194"/>
                  </a:lnTo>
                  <a:lnTo>
                    <a:pt x="5" y="172"/>
                  </a:lnTo>
                  <a:lnTo>
                    <a:pt x="11" y="152"/>
                  </a:lnTo>
                  <a:lnTo>
                    <a:pt x="19" y="131"/>
                  </a:lnTo>
                  <a:lnTo>
                    <a:pt x="29" y="113"/>
                  </a:lnTo>
                  <a:lnTo>
                    <a:pt x="41" y="95"/>
                  </a:lnTo>
                  <a:lnTo>
                    <a:pt x="55" y="78"/>
                  </a:lnTo>
                  <a:lnTo>
                    <a:pt x="71" y="63"/>
                  </a:lnTo>
                  <a:lnTo>
                    <a:pt x="88" y="50"/>
                  </a:lnTo>
                  <a:lnTo>
                    <a:pt x="107" y="38"/>
                  </a:lnTo>
                  <a:lnTo>
                    <a:pt x="126" y="27"/>
                  </a:lnTo>
                  <a:lnTo>
                    <a:pt x="148" y="17"/>
                  </a:lnTo>
                  <a:lnTo>
                    <a:pt x="170" y="10"/>
                  </a:lnTo>
                  <a:lnTo>
                    <a:pt x="192" y="5"/>
                  </a:lnTo>
                  <a:lnTo>
                    <a:pt x="217" y="1"/>
                  </a:lnTo>
                  <a:lnTo>
                    <a:pt x="242" y="0"/>
                  </a:lnTo>
                  <a:lnTo>
                    <a:pt x="242" y="216"/>
                  </a:lnTo>
                  <a:lnTo>
                    <a:pt x="242" y="21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1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6631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3" name="HORN" descr=""/>
          <p:cNvPicPr/>
          <p:nvPr/>
        </p:nvPicPr>
        <p:blipFill>
          <a:blip r:embed="rId1"/>
          <a:stretch/>
        </p:blipFill>
        <p:spPr>
          <a:xfrm>
            <a:off x="5943600" y="2879640"/>
            <a:ext cx="2286000" cy="1859040"/>
          </a:xfrm>
          <a:prstGeom prst="rect">
            <a:avLst/>
          </a:prstGeom>
          <a:ln w="0">
            <a:noFill/>
          </a:ln>
        </p:spPr>
      </p:pic>
      <p:grpSp>
        <p:nvGrpSpPr>
          <p:cNvPr id="6844" name=""/>
          <p:cNvGrpSpPr/>
          <p:nvPr/>
        </p:nvGrpSpPr>
        <p:grpSpPr>
          <a:xfrm>
            <a:off x="1066680" y="2665440"/>
            <a:ext cx="2225520" cy="2287440"/>
            <a:chOff x="1066680" y="2665440"/>
            <a:chExt cx="2225520" cy="2287440"/>
          </a:xfrm>
        </p:grpSpPr>
        <p:sp>
          <p:nvSpPr>
            <p:cNvPr id="6845" name=""/>
            <p:cNvSpPr/>
            <p:nvPr/>
          </p:nvSpPr>
          <p:spPr>
            <a:xfrm>
              <a:off x="1066680" y="2665440"/>
              <a:ext cx="2225520" cy="2287440"/>
            </a:xfrm>
            <a:custGeom>
              <a:avLst/>
              <a:gdLst/>
              <a:ahLst/>
              <a:rect l="l" t="t" r="r" b="b"/>
              <a:pathLst>
                <a:path w="2804" h="2883">
                  <a:moveTo>
                    <a:pt x="1841" y="1929"/>
                  </a:moveTo>
                  <a:lnTo>
                    <a:pt x="1843" y="1937"/>
                  </a:lnTo>
                  <a:lnTo>
                    <a:pt x="1846" y="1946"/>
                  </a:lnTo>
                  <a:lnTo>
                    <a:pt x="1825" y="1939"/>
                  </a:lnTo>
                  <a:lnTo>
                    <a:pt x="1808" y="1931"/>
                  </a:lnTo>
                  <a:lnTo>
                    <a:pt x="1788" y="1919"/>
                  </a:lnTo>
                  <a:lnTo>
                    <a:pt x="1771" y="1908"/>
                  </a:lnTo>
                  <a:lnTo>
                    <a:pt x="1782" y="1840"/>
                  </a:lnTo>
                  <a:lnTo>
                    <a:pt x="1794" y="1842"/>
                  </a:lnTo>
                  <a:lnTo>
                    <a:pt x="1806" y="1848"/>
                  </a:lnTo>
                  <a:lnTo>
                    <a:pt x="1813" y="1857"/>
                  </a:lnTo>
                  <a:lnTo>
                    <a:pt x="1821" y="1869"/>
                  </a:lnTo>
                  <a:lnTo>
                    <a:pt x="1827" y="1881"/>
                  </a:lnTo>
                  <a:lnTo>
                    <a:pt x="1833" y="1898"/>
                  </a:lnTo>
                  <a:lnTo>
                    <a:pt x="1839" y="1915"/>
                  </a:lnTo>
                  <a:lnTo>
                    <a:pt x="1844" y="1937"/>
                  </a:lnTo>
                  <a:lnTo>
                    <a:pt x="2013" y="2003"/>
                  </a:lnTo>
                  <a:lnTo>
                    <a:pt x="2009" y="1991"/>
                  </a:lnTo>
                  <a:lnTo>
                    <a:pt x="2007" y="1983"/>
                  </a:lnTo>
                  <a:lnTo>
                    <a:pt x="2005" y="1977"/>
                  </a:lnTo>
                  <a:lnTo>
                    <a:pt x="2005" y="1974"/>
                  </a:lnTo>
                  <a:lnTo>
                    <a:pt x="2004" y="1966"/>
                  </a:lnTo>
                  <a:lnTo>
                    <a:pt x="2004" y="1962"/>
                  </a:lnTo>
                  <a:lnTo>
                    <a:pt x="2015" y="1968"/>
                  </a:lnTo>
                  <a:lnTo>
                    <a:pt x="2029" y="1976"/>
                  </a:lnTo>
                  <a:lnTo>
                    <a:pt x="2035" y="1979"/>
                  </a:lnTo>
                  <a:lnTo>
                    <a:pt x="2044" y="1983"/>
                  </a:lnTo>
                  <a:lnTo>
                    <a:pt x="2054" y="1989"/>
                  </a:lnTo>
                  <a:lnTo>
                    <a:pt x="2066" y="1997"/>
                  </a:lnTo>
                  <a:lnTo>
                    <a:pt x="2166" y="1848"/>
                  </a:lnTo>
                  <a:lnTo>
                    <a:pt x="1941" y="1727"/>
                  </a:lnTo>
                  <a:lnTo>
                    <a:pt x="1910" y="1698"/>
                  </a:lnTo>
                  <a:lnTo>
                    <a:pt x="1905" y="1685"/>
                  </a:lnTo>
                  <a:lnTo>
                    <a:pt x="1899" y="1673"/>
                  </a:lnTo>
                  <a:lnTo>
                    <a:pt x="1893" y="1659"/>
                  </a:lnTo>
                  <a:lnTo>
                    <a:pt x="1887" y="1648"/>
                  </a:lnTo>
                  <a:lnTo>
                    <a:pt x="1881" y="1636"/>
                  </a:lnTo>
                  <a:lnTo>
                    <a:pt x="1876" y="1625"/>
                  </a:lnTo>
                  <a:lnTo>
                    <a:pt x="1870" y="1613"/>
                  </a:lnTo>
                  <a:lnTo>
                    <a:pt x="1864" y="1601"/>
                  </a:lnTo>
                  <a:lnTo>
                    <a:pt x="1856" y="1590"/>
                  </a:lnTo>
                  <a:lnTo>
                    <a:pt x="1850" y="1578"/>
                  </a:lnTo>
                  <a:lnTo>
                    <a:pt x="1843" y="1566"/>
                  </a:lnTo>
                  <a:lnTo>
                    <a:pt x="1837" y="1555"/>
                  </a:lnTo>
                  <a:lnTo>
                    <a:pt x="1829" y="1543"/>
                  </a:lnTo>
                  <a:lnTo>
                    <a:pt x="1823" y="1532"/>
                  </a:lnTo>
                  <a:lnTo>
                    <a:pt x="1817" y="1520"/>
                  </a:lnTo>
                  <a:lnTo>
                    <a:pt x="1812" y="1508"/>
                  </a:lnTo>
                  <a:lnTo>
                    <a:pt x="1804" y="1497"/>
                  </a:lnTo>
                  <a:lnTo>
                    <a:pt x="1796" y="1485"/>
                  </a:lnTo>
                  <a:lnTo>
                    <a:pt x="1788" y="1473"/>
                  </a:lnTo>
                  <a:lnTo>
                    <a:pt x="1782" y="1462"/>
                  </a:lnTo>
                  <a:lnTo>
                    <a:pt x="1775" y="1450"/>
                  </a:lnTo>
                  <a:lnTo>
                    <a:pt x="1767" y="1438"/>
                  </a:lnTo>
                  <a:lnTo>
                    <a:pt x="1759" y="1427"/>
                  </a:lnTo>
                  <a:lnTo>
                    <a:pt x="1753" y="1415"/>
                  </a:lnTo>
                  <a:lnTo>
                    <a:pt x="1744" y="1404"/>
                  </a:lnTo>
                  <a:lnTo>
                    <a:pt x="1736" y="1392"/>
                  </a:lnTo>
                  <a:lnTo>
                    <a:pt x="1728" y="1380"/>
                  </a:lnTo>
                  <a:lnTo>
                    <a:pt x="1722" y="1371"/>
                  </a:lnTo>
                  <a:lnTo>
                    <a:pt x="1713" y="1359"/>
                  </a:lnTo>
                  <a:lnTo>
                    <a:pt x="1705" y="1349"/>
                  </a:lnTo>
                  <a:lnTo>
                    <a:pt x="1697" y="1338"/>
                  </a:lnTo>
                  <a:lnTo>
                    <a:pt x="1691" y="1328"/>
                  </a:lnTo>
                  <a:lnTo>
                    <a:pt x="1736" y="1283"/>
                  </a:lnTo>
                  <a:lnTo>
                    <a:pt x="1755" y="1283"/>
                  </a:lnTo>
                  <a:lnTo>
                    <a:pt x="1777" y="1285"/>
                  </a:lnTo>
                  <a:lnTo>
                    <a:pt x="1788" y="1285"/>
                  </a:lnTo>
                  <a:lnTo>
                    <a:pt x="1800" y="1287"/>
                  </a:lnTo>
                  <a:lnTo>
                    <a:pt x="1812" y="1289"/>
                  </a:lnTo>
                  <a:lnTo>
                    <a:pt x="1823" y="1291"/>
                  </a:lnTo>
                  <a:lnTo>
                    <a:pt x="1835" y="1291"/>
                  </a:lnTo>
                  <a:lnTo>
                    <a:pt x="1846" y="1293"/>
                  </a:lnTo>
                  <a:lnTo>
                    <a:pt x="1858" y="1293"/>
                  </a:lnTo>
                  <a:lnTo>
                    <a:pt x="1870" y="1295"/>
                  </a:lnTo>
                  <a:lnTo>
                    <a:pt x="1881" y="1295"/>
                  </a:lnTo>
                  <a:lnTo>
                    <a:pt x="1895" y="1297"/>
                  </a:lnTo>
                  <a:lnTo>
                    <a:pt x="1907" y="1297"/>
                  </a:lnTo>
                  <a:lnTo>
                    <a:pt x="1920" y="1299"/>
                  </a:lnTo>
                  <a:lnTo>
                    <a:pt x="1930" y="1297"/>
                  </a:lnTo>
                  <a:lnTo>
                    <a:pt x="1941" y="1297"/>
                  </a:lnTo>
                  <a:lnTo>
                    <a:pt x="1953" y="1295"/>
                  </a:lnTo>
                  <a:lnTo>
                    <a:pt x="1965" y="1295"/>
                  </a:lnTo>
                  <a:lnTo>
                    <a:pt x="1974" y="1293"/>
                  </a:lnTo>
                  <a:lnTo>
                    <a:pt x="1986" y="1291"/>
                  </a:lnTo>
                  <a:lnTo>
                    <a:pt x="1998" y="1289"/>
                  </a:lnTo>
                  <a:lnTo>
                    <a:pt x="2009" y="1287"/>
                  </a:lnTo>
                  <a:lnTo>
                    <a:pt x="2029" y="1279"/>
                  </a:lnTo>
                  <a:lnTo>
                    <a:pt x="2050" y="1270"/>
                  </a:lnTo>
                  <a:lnTo>
                    <a:pt x="2068" y="1256"/>
                  </a:lnTo>
                  <a:lnTo>
                    <a:pt x="2087" y="1243"/>
                  </a:lnTo>
                  <a:lnTo>
                    <a:pt x="2089" y="1223"/>
                  </a:lnTo>
                  <a:lnTo>
                    <a:pt x="2093" y="1206"/>
                  </a:lnTo>
                  <a:lnTo>
                    <a:pt x="2093" y="1186"/>
                  </a:lnTo>
                  <a:lnTo>
                    <a:pt x="2095" y="1169"/>
                  </a:lnTo>
                  <a:lnTo>
                    <a:pt x="2093" y="1148"/>
                  </a:lnTo>
                  <a:lnTo>
                    <a:pt x="2091" y="1128"/>
                  </a:lnTo>
                  <a:lnTo>
                    <a:pt x="2091" y="1109"/>
                  </a:lnTo>
                  <a:lnTo>
                    <a:pt x="2091" y="1089"/>
                  </a:lnTo>
                  <a:lnTo>
                    <a:pt x="2087" y="1074"/>
                  </a:lnTo>
                  <a:lnTo>
                    <a:pt x="2083" y="1062"/>
                  </a:lnTo>
                  <a:lnTo>
                    <a:pt x="2077" y="1051"/>
                  </a:lnTo>
                  <a:lnTo>
                    <a:pt x="2071" y="1043"/>
                  </a:lnTo>
                  <a:lnTo>
                    <a:pt x="2054" y="1023"/>
                  </a:lnTo>
                  <a:lnTo>
                    <a:pt x="2035" y="1012"/>
                  </a:lnTo>
                  <a:lnTo>
                    <a:pt x="2023" y="1006"/>
                  </a:lnTo>
                  <a:lnTo>
                    <a:pt x="2011" y="1000"/>
                  </a:lnTo>
                  <a:lnTo>
                    <a:pt x="2000" y="994"/>
                  </a:lnTo>
                  <a:lnTo>
                    <a:pt x="1990" y="991"/>
                  </a:lnTo>
                  <a:lnTo>
                    <a:pt x="1978" y="985"/>
                  </a:lnTo>
                  <a:lnTo>
                    <a:pt x="1967" y="979"/>
                  </a:lnTo>
                  <a:lnTo>
                    <a:pt x="1957" y="975"/>
                  </a:lnTo>
                  <a:lnTo>
                    <a:pt x="1947" y="971"/>
                  </a:lnTo>
                  <a:lnTo>
                    <a:pt x="1932" y="961"/>
                  </a:lnTo>
                  <a:lnTo>
                    <a:pt x="1916" y="958"/>
                  </a:lnTo>
                  <a:lnTo>
                    <a:pt x="1901" y="952"/>
                  </a:lnTo>
                  <a:lnTo>
                    <a:pt x="1887" y="952"/>
                  </a:lnTo>
                  <a:lnTo>
                    <a:pt x="1872" y="950"/>
                  </a:lnTo>
                  <a:lnTo>
                    <a:pt x="1858" y="952"/>
                  </a:lnTo>
                  <a:lnTo>
                    <a:pt x="1843" y="954"/>
                  </a:lnTo>
                  <a:lnTo>
                    <a:pt x="1829" y="958"/>
                  </a:lnTo>
                  <a:lnTo>
                    <a:pt x="1813" y="960"/>
                  </a:lnTo>
                  <a:lnTo>
                    <a:pt x="1798" y="963"/>
                  </a:lnTo>
                  <a:lnTo>
                    <a:pt x="1782" y="965"/>
                  </a:lnTo>
                  <a:lnTo>
                    <a:pt x="1769" y="969"/>
                  </a:lnTo>
                  <a:lnTo>
                    <a:pt x="1753" y="971"/>
                  </a:lnTo>
                  <a:lnTo>
                    <a:pt x="1740" y="973"/>
                  </a:lnTo>
                  <a:lnTo>
                    <a:pt x="1724" y="975"/>
                  </a:lnTo>
                  <a:lnTo>
                    <a:pt x="1711" y="977"/>
                  </a:lnTo>
                  <a:lnTo>
                    <a:pt x="1705" y="971"/>
                  </a:lnTo>
                  <a:lnTo>
                    <a:pt x="1705" y="954"/>
                  </a:lnTo>
                  <a:lnTo>
                    <a:pt x="1707" y="936"/>
                  </a:lnTo>
                  <a:lnTo>
                    <a:pt x="1709" y="919"/>
                  </a:lnTo>
                  <a:lnTo>
                    <a:pt x="1711" y="901"/>
                  </a:lnTo>
                  <a:lnTo>
                    <a:pt x="1711" y="884"/>
                  </a:lnTo>
                  <a:lnTo>
                    <a:pt x="1711" y="866"/>
                  </a:lnTo>
                  <a:lnTo>
                    <a:pt x="1711" y="849"/>
                  </a:lnTo>
                  <a:lnTo>
                    <a:pt x="1713" y="832"/>
                  </a:lnTo>
                  <a:lnTo>
                    <a:pt x="1711" y="814"/>
                  </a:lnTo>
                  <a:lnTo>
                    <a:pt x="1711" y="797"/>
                  </a:lnTo>
                  <a:lnTo>
                    <a:pt x="1709" y="779"/>
                  </a:lnTo>
                  <a:lnTo>
                    <a:pt x="1707" y="762"/>
                  </a:lnTo>
                  <a:lnTo>
                    <a:pt x="1703" y="744"/>
                  </a:lnTo>
                  <a:lnTo>
                    <a:pt x="1701" y="727"/>
                  </a:lnTo>
                  <a:lnTo>
                    <a:pt x="1697" y="711"/>
                  </a:lnTo>
                  <a:lnTo>
                    <a:pt x="1695" y="698"/>
                  </a:lnTo>
                  <a:lnTo>
                    <a:pt x="1689" y="686"/>
                  </a:lnTo>
                  <a:lnTo>
                    <a:pt x="1682" y="678"/>
                  </a:lnTo>
                  <a:lnTo>
                    <a:pt x="1676" y="667"/>
                  </a:lnTo>
                  <a:lnTo>
                    <a:pt x="1676" y="655"/>
                  </a:lnTo>
                  <a:lnTo>
                    <a:pt x="1682" y="643"/>
                  </a:lnTo>
                  <a:lnTo>
                    <a:pt x="1687" y="632"/>
                  </a:lnTo>
                  <a:lnTo>
                    <a:pt x="1693" y="620"/>
                  </a:lnTo>
                  <a:lnTo>
                    <a:pt x="1699" y="610"/>
                  </a:lnTo>
                  <a:lnTo>
                    <a:pt x="1703" y="599"/>
                  </a:lnTo>
                  <a:lnTo>
                    <a:pt x="1707" y="587"/>
                  </a:lnTo>
                  <a:lnTo>
                    <a:pt x="1713" y="576"/>
                  </a:lnTo>
                  <a:lnTo>
                    <a:pt x="1718" y="564"/>
                  </a:lnTo>
                  <a:lnTo>
                    <a:pt x="1780" y="558"/>
                  </a:lnTo>
                  <a:lnTo>
                    <a:pt x="1798" y="572"/>
                  </a:lnTo>
                  <a:lnTo>
                    <a:pt x="1819" y="585"/>
                  </a:lnTo>
                  <a:lnTo>
                    <a:pt x="1829" y="589"/>
                  </a:lnTo>
                  <a:lnTo>
                    <a:pt x="1841" y="593"/>
                  </a:lnTo>
                  <a:lnTo>
                    <a:pt x="1852" y="593"/>
                  </a:lnTo>
                  <a:lnTo>
                    <a:pt x="1868" y="595"/>
                  </a:lnTo>
                  <a:lnTo>
                    <a:pt x="1876" y="585"/>
                  </a:lnTo>
                  <a:lnTo>
                    <a:pt x="1887" y="581"/>
                  </a:lnTo>
                  <a:lnTo>
                    <a:pt x="1899" y="579"/>
                  </a:lnTo>
                  <a:lnTo>
                    <a:pt x="1910" y="581"/>
                  </a:lnTo>
                  <a:lnTo>
                    <a:pt x="1922" y="583"/>
                  </a:lnTo>
                  <a:lnTo>
                    <a:pt x="1934" y="587"/>
                  </a:lnTo>
                  <a:lnTo>
                    <a:pt x="1947" y="587"/>
                  </a:lnTo>
                  <a:lnTo>
                    <a:pt x="1961" y="587"/>
                  </a:lnTo>
                  <a:lnTo>
                    <a:pt x="1972" y="583"/>
                  </a:lnTo>
                  <a:lnTo>
                    <a:pt x="1980" y="576"/>
                  </a:lnTo>
                  <a:lnTo>
                    <a:pt x="1984" y="564"/>
                  </a:lnTo>
                  <a:lnTo>
                    <a:pt x="1990" y="554"/>
                  </a:lnTo>
                  <a:lnTo>
                    <a:pt x="1992" y="543"/>
                  </a:lnTo>
                  <a:lnTo>
                    <a:pt x="1994" y="531"/>
                  </a:lnTo>
                  <a:lnTo>
                    <a:pt x="1994" y="519"/>
                  </a:lnTo>
                  <a:lnTo>
                    <a:pt x="1996" y="508"/>
                  </a:lnTo>
                  <a:lnTo>
                    <a:pt x="1992" y="496"/>
                  </a:lnTo>
                  <a:lnTo>
                    <a:pt x="1990" y="484"/>
                  </a:lnTo>
                  <a:lnTo>
                    <a:pt x="1984" y="475"/>
                  </a:lnTo>
                  <a:lnTo>
                    <a:pt x="1980" y="467"/>
                  </a:lnTo>
                  <a:lnTo>
                    <a:pt x="1965" y="459"/>
                  </a:lnTo>
                  <a:lnTo>
                    <a:pt x="1949" y="453"/>
                  </a:lnTo>
                  <a:lnTo>
                    <a:pt x="1934" y="450"/>
                  </a:lnTo>
                  <a:lnTo>
                    <a:pt x="1918" y="448"/>
                  </a:lnTo>
                  <a:lnTo>
                    <a:pt x="1903" y="444"/>
                  </a:lnTo>
                  <a:lnTo>
                    <a:pt x="1887" y="442"/>
                  </a:lnTo>
                  <a:lnTo>
                    <a:pt x="1872" y="440"/>
                  </a:lnTo>
                  <a:lnTo>
                    <a:pt x="1858" y="440"/>
                  </a:lnTo>
                  <a:lnTo>
                    <a:pt x="1841" y="436"/>
                  </a:lnTo>
                  <a:lnTo>
                    <a:pt x="1825" y="434"/>
                  </a:lnTo>
                  <a:lnTo>
                    <a:pt x="1810" y="432"/>
                  </a:lnTo>
                  <a:lnTo>
                    <a:pt x="1794" y="430"/>
                  </a:lnTo>
                  <a:lnTo>
                    <a:pt x="1777" y="426"/>
                  </a:lnTo>
                  <a:lnTo>
                    <a:pt x="1763" y="422"/>
                  </a:lnTo>
                  <a:lnTo>
                    <a:pt x="1748" y="419"/>
                  </a:lnTo>
                  <a:lnTo>
                    <a:pt x="1736" y="417"/>
                  </a:lnTo>
                  <a:lnTo>
                    <a:pt x="1738" y="413"/>
                  </a:lnTo>
                  <a:lnTo>
                    <a:pt x="1726" y="401"/>
                  </a:lnTo>
                  <a:lnTo>
                    <a:pt x="1724" y="388"/>
                  </a:lnTo>
                  <a:lnTo>
                    <a:pt x="1724" y="372"/>
                  </a:lnTo>
                  <a:lnTo>
                    <a:pt x="1722" y="360"/>
                  </a:lnTo>
                  <a:lnTo>
                    <a:pt x="1713" y="347"/>
                  </a:lnTo>
                  <a:lnTo>
                    <a:pt x="1705" y="337"/>
                  </a:lnTo>
                  <a:lnTo>
                    <a:pt x="1693" y="329"/>
                  </a:lnTo>
                  <a:lnTo>
                    <a:pt x="1682" y="325"/>
                  </a:lnTo>
                  <a:lnTo>
                    <a:pt x="1670" y="322"/>
                  </a:lnTo>
                  <a:lnTo>
                    <a:pt x="1658" y="322"/>
                  </a:lnTo>
                  <a:lnTo>
                    <a:pt x="1647" y="322"/>
                  </a:lnTo>
                  <a:lnTo>
                    <a:pt x="1637" y="325"/>
                  </a:lnTo>
                  <a:lnTo>
                    <a:pt x="1625" y="327"/>
                  </a:lnTo>
                  <a:lnTo>
                    <a:pt x="1616" y="333"/>
                  </a:lnTo>
                  <a:lnTo>
                    <a:pt x="1606" y="339"/>
                  </a:lnTo>
                  <a:lnTo>
                    <a:pt x="1598" y="347"/>
                  </a:lnTo>
                  <a:lnTo>
                    <a:pt x="1585" y="366"/>
                  </a:lnTo>
                  <a:lnTo>
                    <a:pt x="1571" y="388"/>
                  </a:lnTo>
                  <a:lnTo>
                    <a:pt x="1565" y="397"/>
                  </a:lnTo>
                  <a:lnTo>
                    <a:pt x="1559" y="407"/>
                  </a:lnTo>
                  <a:lnTo>
                    <a:pt x="1557" y="419"/>
                  </a:lnTo>
                  <a:lnTo>
                    <a:pt x="1559" y="432"/>
                  </a:lnTo>
                  <a:lnTo>
                    <a:pt x="1538" y="432"/>
                  </a:lnTo>
                  <a:lnTo>
                    <a:pt x="1519" y="436"/>
                  </a:lnTo>
                  <a:lnTo>
                    <a:pt x="1497" y="440"/>
                  </a:lnTo>
                  <a:lnTo>
                    <a:pt x="1478" y="446"/>
                  </a:lnTo>
                  <a:lnTo>
                    <a:pt x="1459" y="450"/>
                  </a:lnTo>
                  <a:lnTo>
                    <a:pt x="1439" y="455"/>
                  </a:lnTo>
                  <a:lnTo>
                    <a:pt x="1422" y="461"/>
                  </a:lnTo>
                  <a:lnTo>
                    <a:pt x="1404" y="469"/>
                  </a:lnTo>
                  <a:lnTo>
                    <a:pt x="1385" y="475"/>
                  </a:lnTo>
                  <a:lnTo>
                    <a:pt x="1365" y="481"/>
                  </a:lnTo>
                  <a:lnTo>
                    <a:pt x="1346" y="488"/>
                  </a:lnTo>
                  <a:lnTo>
                    <a:pt x="1329" y="496"/>
                  </a:lnTo>
                  <a:lnTo>
                    <a:pt x="1309" y="502"/>
                  </a:lnTo>
                  <a:lnTo>
                    <a:pt x="1292" y="510"/>
                  </a:lnTo>
                  <a:lnTo>
                    <a:pt x="1274" y="517"/>
                  </a:lnTo>
                  <a:lnTo>
                    <a:pt x="1257" y="525"/>
                  </a:lnTo>
                  <a:lnTo>
                    <a:pt x="1309" y="638"/>
                  </a:lnTo>
                  <a:lnTo>
                    <a:pt x="1321" y="632"/>
                  </a:lnTo>
                  <a:lnTo>
                    <a:pt x="1332" y="626"/>
                  </a:lnTo>
                  <a:lnTo>
                    <a:pt x="1344" y="620"/>
                  </a:lnTo>
                  <a:lnTo>
                    <a:pt x="1358" y="616"/>
                  </a:lnTo>
                  <a:lnTo>
                    <a:pt x="1369" y="610"/>
                  </a:lnTo>
                  <a:lnTo>
                    <a:pt x="1383" y="607"/>
                  </a:lnTo>
                  <a:lnTo>
                    <a:pt x="1396" y="601"/>
                  </a:lnTo>
                  <a:lnTo>
                    <a:pt x="1410" y="597"/>
                  </a:lnTo>
                  <a:lnTo>
                    <a:pt x="1422" y="591"/>
                  </a:lnTo>
                  <a:lnTo>
                    <a:pt x="1433" y="585"/>
                  </a:lnTo>
                  <a:lnTo>
                    <a:pt x="1447" y="581"/>
                  </a:lnTo>
                  <a:lnTo>
                    <a:pt x="1460" y="579"/>
                  </a:lnTo>
                  <a:lnTo>
                    <a:pt x="1474" y="574"/>
                  </a:lnTo>
                  <a:lnTo>
                    <a:pt x="1488" y="572"/>
                  </a:lnTo>
                  <a:lnTo>
                    <a:pt x="1501" y="568"/>
                  </a:lnTo>
                  <a:lnTo>
                    <a:pt x="1517" y="568"/>
                  </a:lnTo>
                  <a:lnTo>
                    <a:pt x="1517" y="587"/>
                  </a:lnTo>
                  <a:lnTo>
                    <a:pt x="1519" y="607"/>
                  </a:lnTo>
                  <a:lnTo>
                    <a:pt x="1521" y="626"/>
                  </a:lnTo>
                  <a:lnTo>
                    <a:pt x="1526" y="645"/>
                  </a:lnTo>
                  <a:lnTo>
                    <a:pt x="1532" y="663"/>
                  </a:lnTo>
                  <a:lnTo>
                    <a:pt x="1540" y="680"/>
                  </a:lnTo>
                  <a:lnTo>
                    <a:pt x="1552" y="696"/>
                  </a:lnTo>
                  <a:lnTo>
                    <a:pt x="1567" y="711"/>
                  </a:lnTo>
                  <a:lnTo>
                    <a:pt x="1563" y="725"/>
                  </a:lnTo>
                  <a:lnTo>
                    <a:pt x="1559" y="742"/>
                  </a:lnTo>
                  <a:lnTo>
                    <a:pt x="1556" y="756"/>
                  </a:lnTo>
                  <a:lnTo>
                    <a:pt x="1554" y="773"/>
                  </a:lnTo>
                  <a:lnTo>
                    <a:pt x="1550" y="787"/>
                  </a:lnTo>
                  <a:lnTo>
                    <a:pt x="1546" y="804"/>
                  </a:lnTo>
                  <a:lnTo>
                    <a:pt x="1542" y="818"/>
                  </a:lnTo>
                  <a:lnTo>
                    <a:pt x="1540" y="835"/>
                  </a:lnTo>
                  <a:lnTo>
                    <a:pt x="1534" y="849"/>
                  </a:lnTo>
                  <a:lnTo>
                    <a:pt x="1530" y="864"/>
                  </a:lnTo>
                  <a:lnTo>
                    <a:pt x="1526" y="880"/>
                  </a:lnTo>
                  <a:lnTo>
                    <a:pt x="1523" y="896"/>
                  </a:lnTo>
                  <a:lnTo>
                    <a:pt x="1517" y="909"/>
                  </a:lnTo>
                  <a:lnTo>
                    <a:pt x="1513" y="927"/>
                  </a:lnTo>
                  <a:lnTo>
                    <a:pt x="1509" y="940"/>
                  </a:lnTo>
                  <a:lnTo>
                    <a:pt x="1505" y="958"/>
                  </a:lnTo>
                  <a:lnTo>
                    <a:pt x="1490" y="958"/>
                  </a:lnTo>
                  <a:lnTo>
                    <a:pt x="1476" y="960"/>
                  </a:lnTo>
                  <a:lnTo>
                    <a:pt x="1464" y="958"/>
                  </a:lnTo>
                  <a:lnTo>
                    <a:pt x="1453" y="956"/>
                  </a:lnTo>
                  <a:lnTo>
                    <a:pt x="1441" y="950"/>
                  </a:lnTo>
                  <a:lnTo>
                    <a:pt x="1429" y="946"/>
                  </a:lnTo>
                  <a:lnTo>
                    <a:pt x="1418" y="940"/>
                  </a:lnTo>
                  <a:lnTo>
                    <a:pt x="1406" y="936"/>
                  </a:lnTo>
                  <a:lnTo>
                    <a:pt x="1393" y="930"/>
                  </a:lnTo>
                  <a:lnTo>
                    <a:pt x="1381" y="925"/>
                  </a:lnTo>
                  <a:lnTo>
                    <a:pt x="1369" y="921"/>
                  </a:lnTo>
                  <a:lnTo>
                    <a:pt x="1358" y="919"/>
                  </a:lnTo>
                  <a:lnTo>
                    <a:pt x="1344" y="917"/>
                  </a:lnTo>
                  <a:lnTo>
                    <a:pt x="1331" y="917"/>
                  </a:lnTo>
                  <a:lnTo>
                    <a:pt x="1317" y="919"/>
                  </a:lnTo>
                  <a:lnTo>
                    <a:pt x="1303" y="927"/>
                  </a:lnTo>
                  <a:lnTo>
                    <a:pt x="1282" y="938"/>
                  </a:lnTo>
                  <a:lnTo>
                    <a:pt x="1265" y="956"/>
                  </a:lnTo>
                  <a:lnTo>
                    <a:pt x="1247" y="973"/>
                  </a:lnTo>
                  <a:lnTo>
                    <a:pt x="1232" y="991"/>
                  </a:lnTo>
                  <a:lnTo>
                    <a:pt x="1230" y="1000"/>
                  </a:lnTo>
                  <a:lnTo>
                    <a:pt x="1232" y="1010"/>
                  </a:lnTo>
                  <a:lnTo>
                    <a:pt x="1234" y="1018"/>
                  </a:lnTo>
                  <a:lnTo>
                    <a:pt x="1239" y="1025"/>
                  </a:lnTo>
                  <a:lnTo>
                    <a:pt x="1253" y="1037"/>
                  </a:lnTo>
                  <a:lnTo>
                    <a:pt x="1270" y="1045"/>
                  </a:lnTo>
                  <a:lnTo>
                    <a:pt x="1288" y="1049"/>
                  </a:lnTo>
                  <a:lnTo>
                    <a:pt x="1307" y="1055"/>
                  </a:lnTo>
                  <a:lnTo>
                    <a:pt x="1325" y="1058"/>
                  </a:lnTo>
                  <a:lnTo>
                    <a:pt x="1342" y="1070"/>
                  </a:lnTo>
                  <a:lnTo>
                    <a:pt x="1360" y="1082"/>
                  </a:lnTo>
                  <a:lnTo>
                    <a:pt x="1379" y="1095"/>
                  </a:lnTo>
                  <a:lnTo>
                    <a:pt x="1395" y="1109"/>
                  </a:lnTo>
                  <a:lnTo>
                    <a:pt x="1412" y="1126"/>
                  </a:lnTo>
                  <a:lnTo>
                    <a:pt x="1391" y="1117"/>
                  </a:lnTo>
                  <a:lnTo>
                    <a:pt x="1373" y="1109"/>
                  </a:lnTo>
                  <a:lnTo>
                    <a:pt x="1352" y="1103"/>
                  </a:lnTo>
                  <a:lnTo>
                    <a:pt x="1334" y="1097"/>
                  </a:lnTo>
                  <a:lnTo>
                    <a:pt x="1313" y="1091"/>
                  </a:lnTo>
                  <a:lnTo>
                    <a:pt x="1294" y="1086"/>
                  </a:lnTo>
                  <a:lnTo>
                    <a:pt x="1274" y="1082"/>
                  </a:lnTo>
                  <a:lnTo>
                    <a:pt x="1255" y="1078"/>
                  </a:lnTo>
                  <a:lnTo>
                    <a:pt x="1234" y="1221"/>
                  </a:lnTo>
                  <a:lnTo>
                    <a:pt x="1253" y="1227"/>
                  </a:lnTo>
                  <a:lnTo>
                    <a:pt x="1272" y="1233"/>
                  </a:lnTo>
                  <a:lnTo>
                    <a:pt x="1292" y="1239"/>
                  </a:lnTo>
                  <a:lnTo>
                    <a:pt x="1311" y="1246"/>
                  </a:lnTo>
                  <a:lnTo>
                    <a:pt x="1331" y="1252"/>
                  </a:lnTo>
                  <a:lnTo>
                    <a:pt x="1350" y="1262"/>
                  </a:lnTo>
                  <a:lnTo>
                    <a:pt x="1369" y="1268"/>
                  </a:lnTo>
                  <a:lnTo>
                    <a:pt x="1389" y="1277"/>
                  </a:lnTo>
                  <a:lnTo>
                    <a:pt x="1383" y="1289"/>
                  </a:lnTo>
                  <a:lnTo>
                    <a:pt x="1379" y="1301"/>
                  </a:lnTo>
                  <a:lnTo>
                    <a:pt x="1373" y="1312"/>
                  </a:lnTo>
                  <a:lnTo>
                    <a:pt x="1369" y="1324"/>
                  </a:lnTo>
                  <a:lnTo>
                    <a:pt x="1364" y="1336"/>
                  </a:lnTo>
                  <a:lnTo>
                    <a:pt x="1360" y="1347"/>
                  </a:lnTo>
                  <a:lnTo>
                    <a:pt x="1356" y="1359"/>
                  </a:lnTo>
                  <a:lnTo>
                    <a:pt x="1354" y="1373"/>
                  </a:lnTo>
                  <a:lnTo>
                    <a:pt x="1348" y="1384"/>
                  </a:lnTo>
                  <a:lnTo>
                    <a:pt x="1346" y="1396"/>
                  </a:lnTo>
                  <a:lnTo>
                    <a:pt x="1342" y="1409"/>
                  </a:lnTo>
                  <a:lnTo>
                    <a:pt x="1342" y="1423"/>
                  </a:lnTo>
                  <a:lnTo>
                    <a:pt x="1340" y="1435"/>
                  </a:lnTo>
                  <a:lnTo>
                    <a:pt x="1340" y="1448"/>
                  </a:lnTo>
                  <a:lnTo>
                    <a:pt x="1340" y="1462"/>
                  </a:lnTo>
                  <a:lnTo>
                    <a:pt x="1344" y="1475"/>
                  </a:lnTo>
                  <a:lnTo>
                    <a:pt x="1375" y="1499"/>
                  </a:lnTo>
                  <a:lnTo>
                    <a:pt x="1364" y="1504"/>
                  </a:lnTo>
                  <a:lnTo>
                    <a:pt x="1352" y="1512"/>
                  </a:lnTo>
                  <a:lnTo>
                    <a:pt x="1342" y="1520"/>
                  </a:lnTo>
                  <a:lnTo>
                    <a:pt x="1332" y="1528"/>
                  </a:lnTo>
                  <a:lnTo>
                    <a:pt x="1313" y="1543"/>
                  </a:lnTo>
                  <a:lnTo>
                    <a:pt x="1296" y="1561"/>
                  </a:lnTo>
                  <a:lnTo>
                    <a:pt x="1278" y="1576"/>
                  </a:lnTo>
                  <a:lnTo>
                    <a:pt x="1263" y="1595"/>
                  </a:lnTo>
                  <a:lnTo>
                    <a:pt x="1255" y="1605"/>
                  </a:lnTo>
                  <a:lnTo>
                    <a:pt x="1247" y="1617"/>
                  </a:lnTo>
                  <a:lnTo>
                    <a:pt x="1241" y="1628"/>
                  </a:lnTo>
                  <a:lnTo>
                    <a:pt x="1236" y="1640"/>
                  </a:lnTo>
                  <a:lnTo>
                    <a:pt x="1228" y="1625"/>
                  </a:lnTo>
                  <a:lnTo>
                    <a:pt x="1220" y="1611"/>
                  </a:lnTo>
                  <a:lnTo>
                    <a:pt x="1214" y="1595"/>
                  </a:lnTo>
                  <a:lnTo>
                    <a:pt x="1208" y="1584"/>
                  </a:lnTo>
                  <a:lnTo>
                    <a:pt x="1201" y="1568"/>
                  </a:lnTo>
                  <a:lnTo>
                    <a:pt x="1195" y="1555"/>
                  </a:lnTo>
                  <a:lnTo>
                    <a:pt x="1187" y="1541"/>
                  </a:lnTo>
                  <a:lnTo>
                    <a:pt x="1181" y="1530"/>
                  </a:lnTo>
                  <a:lnTo>
                    <a:pt x="1172" y="1516"/>
                  </a:lnTo>
                  <a:lnTo>
                    <a:pt x="1164" y="1502"/>
                  </a:lnTo>
                  <a:lnTo>
                    <a:pt x="1156" y="1491"/>
                  </a:lnTo>
                  <a:lnTo>
                    <a:pt x="1148" y="1479"/>
                  </a:lnTo>
                  <a:lnTo>
                    <a:pt x="1137" y="1468"/>
                  </a:lnTo>
                  <a:lnTo>
                    <a:pt x="1127" y="1456"/>
                  </a:lnTo>
                  <a:lnTo>
                    <a:pt x="1115" y="1444"/>
                  </a:lnTo>
                  <a:lnTo>
                    <a:pt x="1104" y="1436"/>
                  </a:lnTo>
                  <a:lnTo>
                    <a:pt x="1100" y="1423"/>
                  </a:lnTo>
                  <a:lnTo>
                    <a:pt x="1098" y="1411"/>
                  </a:lnTo>
                  <a:lnTo>
                    <a:pt x="1096" y="1400"/>
                  </a:lnTo>
                  <a:lnTo>
                    <a:pt x="1096" y="1388"/>
                  </a:lnTo>
                  <a:lnTo>
                    <a:pt x="1092" y="1376"/>
                  </a:lnTo>
                  <a:lnTo>
                    <a:pt x="1090" y="1365"/>
                  </a:lnTo>
                  <a:lnTo>
                    <a:pt x="1088" y="1353"/>
                  </a:lnTo>
                  <a:lnTo>
                    <a:pt x="1086" y="1341"/>
                  </a:lnTo>
                  <a:lnTo>
                    <a:pt x="1090" y="1328"/>
                  </a:lnTo>
                  <a:lnTo>
                    <a:pt x="1098" y="1314"/>
                  </a:lnTo>
                  <a:lnTo>
                    <a:pt x="1104" y="1301"/>
                  </a:lnTo>
                  <a:lnTo>
                    <a:pt x="1111" y="1289"/>
                  </a:lnTo>
                  <a:lnTo>
                    <a:pt x="1115" y="1276"/>
                  </a:lnTo>
                  <a:lnTo>
                    <a:pt x="1117" y="1262"/>
                  </a:lnTo>
                  <a:lnTo>
                    <a:pt x="1115" y="1248"/>
                  </a:lnTo>
                  <a:lnTo>
                    <a:pt x="1109" y="1237"/>
                  </a:lnTo>
                  <a:lnTo>
                    <a:pt x="1111" y="1225"/>
                  </a:lnTo>
                  <a:lnTo>
                    <a:pt x="1117" y="1214"/>
                  </a:lnTo>
                  <a:lnTo>
                    <a:pt x="1123" y="1206"/>
                  </a:lnTo>
                  <a:lnTo>
                    <a:pt x="1137" y="1204"/>
                  </a:lnTo>
                  <a:lnTo>
                    <a:pt x="1148" y="1204"/>
                  </a:lnTo>
                  <a:lnTo>
                    <a:pt x="1160" y="1204"/>
                  </a:lnTo>
                  <a:lnTo>
                    <a:pt x="1172" y="1206"/>
                  </a:lnTo>
                  <a:lnTo>
                    <a:pt x="1185" y="1210"/>
                  </a:lnTo>
                  <a:lnTo>
                    <a:pt x="1197" y="1212"/>
                  </a:lnTo>
                  <a:lnTo>
                    <a:pt x="1210" y="1215"/>
                  </a:lnTo>
                  <a:lnTo>
                    <a:pt x="1226" y="1219"/>
                  </a:lnTo>
                  <a:lnTo>
                    <a:pt x="1243" y="1225"/>
                  </a:lnTo>
                  <a:lnTo>
                    <a:pt x="1263" y="1080"/>
                  </a:lnTo>
                  <a:lnTo>
                    <a:pt x="1245" y="1076"/>
                  </a:lnTo>
                  <a:lnTo>
                    <a:pt x="1234" y="1074"/>
                  </a:lnTo>
                  <a:lnTo>
                    <a:pt x="1222" y="1070"/>
                  </a:lnTo>
                  <a:lnTo>
                    <a:pt x="1212" y="1070"/>
                  </a:lnTo>
                  <a:lnTo>
                    <a:pt x="1193" y="1068"/>
                  </a:lnTo>
                  <a:lnTo>
                    <a:pt x="1179" y="1068"/>
                  </a:lnTo>
                  <a:lnTo>
                    <a:pt x="1183" y="1051"/>
                  </a:lnTo>
                  <a:lnTo>
                    <a:pt x="1189" y="1033"/>
                  </a:lnTo>
                  <a:lnTo>
                    <a:pt x="1193" y="1014"/>
                  </a:lnTo>
                  <a:lnTo>
                    <a:pt x="1193" y="996"/>
                  </a:lnTo>
                  <a:lnTo>
                    <a:pt x="1185" y="983"/>
                  </a:lnTo>
                  <a:lnTo>
                    <a:pt x="1177" y="971"/>
                  </a:lnTo>
                  <a:lnTo>
                    <a:pt x="1166" y="961"/>
                  </a:lnTo>
                  <a:lnTo>
                    <a:pt x="1158" y="952"/>
                  </a:lnTo>
                  <a:lnTo>
                    <a:pt x="1148" y="940"/>
                  </a:lnTo>
                  <a:lnTo>
                    <a:pt x="1146" y="930"/>
                  </a:lnTo>
                  <a:lnTo>
                    <a:pt x="1148" y="917"/>
                  </a:lnTo>
                  <a:lnTo>
                    <a:pt x="1160" y="905"/>
                  </a:lnTo>
                  <a:lnTo>
                    <a:pt x="1172" y="892"/>
                  </a:lnTo>
                  <a:lnTo>
                    <a:pt x="1183" y="878"/>
                  </a:lnTo>
                  <a:lnTo>
                    <a:pt x="1187" y="863"/>
                  </a:lnTo>
                  <a:lnTo>
                    <a:pt x="1181" y="847"/>
                  </a:lnTo>
                  <a:lnTo>
                    <a:pt x="1177" y="828"/>
                  </a:lnTo>
                  <a:lnTo>
                    <a:pt x="1177" y="808"/>
                  </a:lnTo>
                  <a:lnTo>
                    <a:pt x="1177" y="789"/>
                  </a:lnTo>
                  <a:lnTo>
                    <a:pt x="1177" y="771"/>
                  </a:lnTo>
                  <a:lnTo>
                    <a:pt x="1139" y="678"/>
                  </a:lnTo>
                  <a:lnTo>
                    <a:pt x="1158" y="674"/>
                  </a:lnTo>
                  <a:lnTo>
                    <a:pt x="1179" y="673"/>
                  </a:lnTo>
                  <a:lnTo>
                    <a:pt x="1189" y="671"/>
                  </a:lnTo>
                  <a:lnTo>
                    <a:pt x="1199" y="669"/>
                  </a:lnTo>
                  <a:lnTo>
                    <a:pt x="1210" y="667"/>
                  </a:lnTo>
                  <a:lnTo>
                    <a:pt x="1222" y="665"/>
                  </a:lnTo>
                  <a:lnTo>
                    <a:pt x="1234" y="661"/>
                  </a:lnTo>
                  <a:lnTo>
                    <a:pt x="1245" y="657"/>
                  </a:lnTo>
                  <a:lnTo>
                    <a:pt x="1257" y="653"/>
                  </a:lnTo>
                  <a:lnTo>
                    <a:pt x="1270" y="649"/>
                  </a:lnTo>
                  <a:lnTo>
                    <a:pt x="1282" y="643"/>
                  </a:lnTo>
                  <a:lnTo>
                    <a:pt x="1296" y="640"/>
                  </a:lnTo>
                  <a:lnTo>
                    <a:pt x="1309" y="636"/>
                  </a:lnTo>
                  <a:lnTo>
                    <a:pt x="1325" y="632"/>
                  </a:lnTo>
                  <a:lnTo>
                    <a:pt x="1257" y="527"/>
                  </a:lnTo>
                  <a:lnTo>
                    <a:pt x="1243" y="529"/>
                  </a:lnTo>
                  <a:lnTo>
                    <a:pt x="1232" y="533"/>
                  </a:lnTo>
                  <a:lnTo>
                    <a:pt x="1220" y="535"/>
                  </a:lnTo>
                  <a:lnTo>
                    <a:pt x="1208" y="539"/>
                  </a:lnTo>
                  <a:lnTo>
                    <a:pt x="1195" y="541"/>
                  </a:lnTo>
                  <a:lnTo>
                    <a:pt x="1183" y="543"/>
                  </a:lnTo>
                  <a:lnTo>
                    <a:pt x="1172" y="545"/>
                  </a:lnTo>
                  <a:lnTo>
                    <a:pt x="1160" y="548"/>
                  </a:lnTo>
                  <a:lnTo>
                    <a:pt x="1148" y="548"/>
                  </a:lnTo>
                  <a:lnTo>
                    <a:pt x="1137" y="550"/>
                  </a:lnTo>
                  <a:lnTo>
                    <a:pt x="1125" y="552"/>
                  </a:lnTo>
                  <a:lnTo>
                    <a:pt x="1113" y="554"/>
                  </a:lnTo>
                  <a:lnTo>
                    <a:pt x="1102" y="554"/>
                  </a:lnTo>
                  <a:lnTo>
                    <a:pt x="1090" y="556"/>
                  </a:lnTo>
                  <a:lnTo>
                    <a:pt x="1078" y="558"/>
                  </a:lnTo>
                  <a:lnTo>
                    <a:pt x="1069" y="560"/>
                  </a:lnTo>
                  <a:lnTo>
                    <a:pt x="1057" y="558"/>
                  </a:lnTo>
                  <a:lnTo>
                    <a:pt x="1045" y="558"/>
                  </a:lnTo>
                  <a:lnTo>
                    <a:pt x="1034" y="558"/>
                  </a:lnTo>
                  <a:lnTo>
                    <a:pt x="1022" y="558"/>
                  </a:lnTo>
                  <a:lnTo>
                    <a:pt x="1001" y="556"/>
                  </a:lnTo>
                  <a:lnTo>
                    <a:pt x="981" y="554"/>
                  </a:lnTo>
                  <a:lnTo>
                    <a:pt x="960" y="548"/>
                  </a:lnTo>
                  <a:lnTo>
                    <a:pt x="941" y="543"/>
                  </a:lnTo>
                  <a:lnTo>
                    <a:pt x="923" y="537"/>
                  </a:lnTo>
                  <a:lnTo>
                    <a:pt x="908" y="531"/>
                  </a:lnTo>
                  <a:lnTo>
                    <a:pt x="906" y="517"/>
                  </a:lnTo>
                  <a:lnTo>
                    <a:pt x="906" y="506"/>
                  </a:lnTo>
                  <a:lnTo>
                    <a:pt x="906" y="492"/>
                  </a:lnTo>
                  <a:lnTo>
                    <a:pt x="906" y="481"/>
                  </a:lnTo>
                  <a:lnTo>
                    <a:pt x="906" y="467"/>
                  </a:lnTo>
                  <a:lnTo>
                    <a:pt x="906" y="455"/>
                  </a:lnTo>
                  <a:lnTo>
                    <a:pt x="906" y="444"/>
                  </a:lnTo>
                  <a:lnTo>
                    <a:pt x="908" y="432"/>
                  </a:lnTo>
                  <a:lnTo>
                    <a:pt x="906" y="419"/>
                  </a:lnTo>
                  <a:lnTo>
                    <a:pt x="906" y="407"/>
                  </a:lnTo>
                  <a:lnTo>
                    <a:pt x="906" y="393"/>
                  </a:lnTo>
                  <a:lnTo>
                    <a:pt x="906" y="382"/>
                  </a:lnTo>
                  <a:lnTo>
                    <a:pt x="904" y="370"/>
                  </a:lnTo>
                  <a:lnTo>
                    <a:pt x="904" y="358"/>
                  </a:lnTo>
                  <a:lnTo>
                    <a:pt x="902" y="347"/>
                  </a:lnTo>
                  <a:lnTo>
                    <a:pt x="902" y="337"/>
                  </a:lnTo>
                  <a:lnTo>
                    <a:pt x="916" y="320"/>
                  </a:lnTo>
                  <a:lnTo>
                    <a:pt x="931" y="306"/>
                  </a:lnTo>
                  <a:lnTo>
                    <a:pt x="943" y="291"/>
                  </a:lnTo>
                  <a:lnTo>
                    <a:pt x="954" y="277"/>
                  </a:lnTo>
                  <a:lnTo>
                    <a:pt x="962" y="260"/>
                  </a:lnTo>
                  <a:lnTo>
                    <a:pt x="972" y="244"/>
                  </a:lnTo>
                  <a:lnTo>
                    <a:pt x="980" y="225"/>
                  </a:lnTo>
                  <a:lnTo>
                    <a:pt x="987" y="207"/>
                  </a:lnTo>
                  <a:lnTo>
                    <a:pt x="999" y="199"/>
                  </a:lnTo>
                  <a:lnTo>
                    <a:pt x="1014" y="199"/>
                  </a:lnTo>
                  <a:lnTo>
                    <a:pt x="1028" y="199"/>
                  </a:lnTo>
                  <a:lnTo>
                    <a:pt x="1044" y="203"/>
                  </a:lnTo>
                  <a:lnTo>
                    <a:pt x="1057" y="205"/>
                  </a:lnTo>
                  <a:lnTo>
                    <a:pt x="1073" y="207"/>
                  </a:lnTo>
                  <a:lnTo>
                    <a:pt x="1086" y="207"/>
                  </a:lnTo>
                  <a:lnTo>
                    <a:pt x="1102" y="201"/>
                  </a:lnTo>
                  <a:lnTo>
                    <a:pt x="1113" y="205"/>
                  </a:lnTo>
                  <a:lnTo>
                    <a:pt x="1127" y="209"/>
                  </a:lnTo>
                  <a:lnTo>
                    <a:pt x="1142" y="213"/>
                  </a:lnTo>
                  <a:lnTo>
                    <a:pt x="1158" y="217"/>
                  </a:lnTo>
                  <a:lnTo>
                    <a:pt x="1173" y="217"/>
                  </a:lnTo>
                  <a:lnTo>
                    <a:pt x="1189" y="217"/>
                  </a:lnTo>
                  <a:lnTo>
                    <a:pt x="1203" y="213"/>
                  </a:lnTo>
                  <a:lnTo>
                    <a:pt x="1218" y="209"/>
                  </a:lnTo>
                  <a:lnTo>
                    <a:pt x="1222" y="197"/>
                  </a:lnTo>
                  <a:lnTo>
                    <a:pt x="1226" y="188"/>
                  </a:lnTo>
                  <a:lnTo>
                    <a:pt x="1230" y="176"/>
                  </a:lnTo>
                  <a:lnTo>
                    <a:pt x="1236" y="166"/>
                  </a:lnTo>
                  <a:lnTo>
                    <a:pt x="1237" y="155"/>
                  </a:lnTo>
                  <a:lnTo>
                    <a:pt x="1239" y="143"/>
                  </a:lnTo>
                  <a:lnTo>
                    <a:pt x="1236" y="132"/>
                  </a:lnTo>
                  <a:lnTo>
                    <a:pt x="1232" y="122"/>
                  </a:lnTo>
                  <a:lnTo>
                    <a:pt x="1216" y="112"/>
                  </a:lnTo>
                  <a:lnTo>
                    <a:pt x="1203" y="104"/>
                  </a:lnTo>
                  <a:lnTo>
                    <a:pt x="1187" y="99"/>
                  </a:lnTo>
                  <a:lnTo>
                    <a:pt x="1173" y="95"/>
                  </a:lnTo>
                  <a:lnTo>
                    <a:pt x="1158" y="89"/>
                  </a:lnTo>
                  <a:lnTo>
                    <a:pt x="1142" y="85"/>
                  </a:lnTo>
                  <a:lnTo>
                    <a:pt x="1127" y="81"/>
                  </a:lnTo>
                  <a:lnTo>
                    <a:pt x="1111" y="81"/>
                  </a:lnTo>
                  <a:lnTo>
                    <a:pt x="1094" y="79"/>
                  </a:lnTo>
                  <a:lnTo>
                    <a:pt x="1078" y="77"/>
                  </a:lnTo>
                  <a:lnTo>
                    <a:pt x="1061" y="77"/>
                  </a:lnTo>
                  <a:lnTo>
                    <a:pt x="1045" y="77"/>
                  </a:lnTo>
                  <a:lnTo>
                    <a:pt x="1028" y="77"/>
                  </a:lnTo>
                  <a:lnTo>
                    <a:pt x="1011" y="77"/>
                  </a:lnTo>
                  <a:lnTo>
                    <a:pt x="995" y="77"/>
                  </a:lnTo>
                  <a:lnTo>
                    <a:pt x="980" y="79"/>
                  </a:lnTo>
                  <a:lnTo>
                    <a:pt x="968" y="62"/>
                  </a:lnTo>
                  <a:lnTo>
                    <a:pt x="964" y="46"/>
                  </a:lnTo>
                  <a:lnTo>
                    <a:pt x="954" y="35"/>
                  </a:lnTo>
                  <a:lnTo>
                    <a:pt x="947" y="25"/>
                  </a:lnTo>
                  <a:lnTo>
                    <a:pt x="937" y="17"/>
                  </a:lnTo>
                  <a:lnTo>
                    <a:pt x="927" y="11"/>
                  </a:lnTo>
                  <a:lnTo>
                    <a:pt x="916" y="6"/>
                  </a:lnTo>
                  <a:lnTo>
                    <a:pt x="904" y="2"/>
                  </a:lnTo>
                  <a:lnTo>
                    <a:pt x="892" y="0"/>
                  </a:lnTo>
                  <a:lnTo>
                    <a:pt x="881" y="0"/>
                  </a:lnTo>
                  <a:lnTo>
                    <a:pt x="861" y="4"/>
                  </a:lnTo>
                  <a:lnTo>
                    <a:pt x="848" y="15"/>
                  </a:lnTo>
                  <a:lnTo>
                    <a:pt x="834" y="27"/>
                  </a:lnTo>
                  <a:lnTo>
                    <a:pt x="826" y="42"/>
                  </a:lnTo>
                  <a:lnTo>
                    <a:pt x="817" y="58"/>
                  </a:lnTo>
                  <a:lnTo>
                    <a:pt x="811" y="75"/>
                  </a:lnTo>
                  <a:lnTo>
                    <a:pt x="805" y="93"/>
                  </a:lnTo>
                  <a:lnTo>
                    <a:pt x="801" y="110"/>
                  </a:lnTo>
                  <a:lnTo>
                    <a:pt x="724" y="132"/>
                  </a:lnTo>
                  <a:lnTo>
                    <a:pt x="710" y="137"/>
                  </a:lnTo>
                  <a:lnTo>
                    <a:pt x="696" y="143"/>
                  </a:lnTo>
                  <a:lnTo>
                    <a:pt x="683" y="149"/>
                  </a:lnTo>
                  <a:lnTo>
                    <a:pt x="671" y="159"/>
                  </a:lnTo>
                  <a:lnTo>
                    <a:pt x="660" y="166"/>
                  </a:lnTo>
                  <a:lnTo>
                    <a:pt x="648" y="176"/>
                  </a:lnTo>
                  <a:lnTo>
                    <a:pt x="636" y="188"/>
                  </a:lnTo>
                  <a:lnTo>
                    <a:pt x="627" y="199"/>
                  </a:lnTo>
                  <a:lnTo>
                    <a:pt x="615" y="211"/>
                  </a:lnTo>
                  <a:lnTo>
                    <a:pt x="607" y="223"/>
                  </a:lnTo>
                  <a:lnTo>
                    <a:pt x="599" y="236"/>
                  </a:lnTo>
                  <a:lnTo>
                    <a:pt x="594" y="252"/>
                  </a:lnTo>
                  <a:lnTo>
                    <a:pt x="588" y="267"/>
                  </a:lnTo>
                  <a:lnTo>
                    <a:pt x="584" y="285"/>
                  </a:lnTo>
                  <a:lnTo>
                    <a:pt x="580" y="302"/>
                  </a:lnTo>
                  <a:lnTo>
                    <a:pt x="580" y="324"/>
                  </a:lnTo>
                  <a:lnTo>
                    <a:pt x="729" y="325"/>
                  </a:lnTo>
                  <a:lnTo>
                    <a:pt x="727" y="318"/>
                  </a:lnTo>
                  <a:lnTo>
                    <a:pt x="729" y="308"/>
                  </a:lnTo>
                  <a:lnTo>
                    <a:pt x="729" y="294"/>
                  </a:lnTo>
                  <a:lnTo>
                    <a:pt x="735" y="287"/>
                  </a:lnTo>
                  <a:lnTo>
                    <a:pt x="741" y="269"/>
                  </a:lnTo>
                  <a:lnTo>
                    <a:pt x="755" y="254"/>
                  </a:lnTo>
                  <a:lnTo>
                    <a:pt x="770" y="240"/>
                  </a:lnTo>
                  <a:lnTo>
                    <a:pt x="786" y="232"/>
                  </a:lnTo>
                  <a:lnTo>
                    <a:pt x="782" y="250"/>
                  </a:lnTo>
                  <a:lnTo>
                    <a:pt x="789" y="267"/>
                  </a:lnTo>
                  <a:lnTo>
                    <a:pt x="797" y="285"/>
                  </a:lnTo>
                  <a:lnTo>
                    <a:pt x="801" y="304"/>
                  </a:lnTo>
                  <a:lnTo>
                    <a:pt x="753" y="393"/>
                  </a:lnTo>
                  <a:lnTo>
                    <a:pt x="739" y="376"/>
                  </a:lnTo>
                  <a:lnTo>
                    <a:pt x="733" y="358"/>
                  </a:lnTo>
                  <a:lnTo>
                    <a:pt x="729" y="339"/>
                  </a:lnTo>
                  <a:lnTo>
                    <a:pt x="729" y="322"/>
                  </a:lnTo>
                  <a:lnTo>
                    <a:pt x="580" y="322"/>
                  </a:lnTo>
                  <a:lnTo>
                    <a:pt x="580" y="337"/>
                  </a:lnTo>
                  <a:lnTo>
                    <a:pt x="582" y="353"/>
                  </a:lnTo>
                  <a:lnTo>
                    <a:pt x="584" y="368"/>
                  </a:lnTo>
                  <a:lnTo>
                    <a:pt x="590" y="386"/>
                  </a:lnTo>
                  <a:lnTo>
                    <a:pt x="596" y="399"/>
                  </a:lnTo>
                  <a:lnTo>
                    <a:pt x="601" y="415"/>
                  </a:lnTo>
                  <a:lnTo>
                    <a:pt x="609" y="428"/>
                  </a:lnTo>
                  <a:lnTo>
                    <a:pt x="621" y="444"/>
                  </a:lnTo>
                  <a:lnTo>
                    <a:pt x="628" y="457"/>
                  </a:lnTo>
                  <a:lnTo>
                    <a:pt x="638" y="471"/>
                  </a:lnTo>
                  <a:lnTo>
                    <a:pt x="648" y="483"/>
                  </a:lnTo>
                  <a:lnTo>
                    <a:pt x="660" y="496"/>
                  </a:lnTo>
                  <a:lnTo>
                    <a:pt x="671" y="508"/>
                  </a:lnTo>
                  <a:lnTo>
                    <a:pt x="683" y="519"/>
                  </a:lnTo>
                  <a:lnTo>
                    <a:pt x="694" y="531"/>
                  </a:lnTo>
                  <a:lnTo>
                    <a:pt x="708" y="545"/>
                  </a:lnTo>
                  <a:lnTo>
                    <a:pt x="702" y="556"/>
                  </a:lnTo>
                  <a:lnTo>
                    <a:pt x="696" y="568"/>
                  </a:lnTo>
                  <a:lnTo>
                    <a:pt x="691" y="579"/>
                  </a:lnTo>
                  <a:lnTo>
                    <a:pt x="687" y="591"/>
                  </a:lnTo>
                  <a:lnTo>
                    <a:pt x="681" y="603"/>
                  </a:lnTo>
                  <a:lnTo>
                    <a:pt x="677" y="614"/>
                  </a:lnTo>
                  <a:lnTo>
                    <a:pt x="671" y="626"/>
                  </a:lnTo>
                  <a:lnTo>
                    <a:pt x="667" y="640"/>
                  </a:lnTo>
                  <a:lnTo>
                    <a:pt x="661" y="651"/>
                  </a:lnTo>
                  <a:lnTo>
                    <a:pt x="658" y="663"/>
                  </a:lnTo>
                  <a:lnTo>
                    <a:pt x="654" y="674"/>
                  </a:lnTo>
                  <a:lnTo>
                    <a:pt x="650" y="688"/>
                  </a:lnTo>
                  <a:lnTo>
                    <a:pt x="644" y="700"/>
                  </a:lnTo>
                  <a:lnTo>
                    <a:pt x="642" y="713"/>
                  </a:lnTo>
                  <a:lnTo>
                    <a:pt x="638" y="727"/>
                  </a:lnTo>
                  <a:lnTo>
                    <a:pt x="636" y="740"/>
                  </a:lnTo>
                  <a:lnTo>
                    <a:pt x="630" y="752"/>
                  </a:lnTo>
                  <a:lnTo>
                    <a:pt x="628" y="766"/>
                  </a:lnTo>
                  <a:lnTo>
                    <a:pt x="625" y="779"/>
                  </a:lnTo>
                  <a:lnTo>
                    <a:pt x="623" y="793"/>
                  </a:lnTo>
                  <a:lnTo>
                    <a:pt x="621" y="804"/>
                  </a:lnTo>
                  <a:lnTo>
                    <a:pt x="619" y="818"/>
                  </a:lnTo>
                  <a:lnTo>
                    <a:pt x="617" y="832"/>
                  </a:lnTo>
                  <a:lnTo>
                    <a:pt x="617" y="845"/>
                  </a:lnTo>
                  <a:lnTo>
                    <a:pt x="615" y="857"/>
                  </a:lnTo>
                  <a:lnTo>
                    <a:pt x="615" y="872"/>
                  </a:lnTo>
                  <a:lnTo>
                    <a:pt x="615" y="884"/>
                  </a:lnTo>
                  <a:lnTo>
                    <a:pt x="615" y="899"/>
                  </a:lnTo>
                  <a:lnTo>
                    <a:pt x="615" y="913"/>
                  </a:lnTo>
                  <a:lnTo>
                    <a:pt x="615" y="927"/>
                  </a:lnTo>
                  <a:lnTo>
                    <a:pt x="617" y="940"/>
                  </a:lnTo>
                  <a:lnTo>
                    <a:pt x="621" y="956"/>
                  </a:lnTo>
                  <a:lnTo>
                    <a:pt x="627" y="971"/>
                  </a:lnTo>
                  <a:lnTo>
                    <a:pt x="638" y="987"/>
                  </a:lnTo>
                  <a:lnTo>
                    <a:pt x="646" y="1004"/>
                  </a:lnTo>
                  <a:lnTo>
                    <a:pt x="650" y="1023"/>
                  </a:lnTo>
                  <a:lnTo>
                    <a:pt x="656" y="1033"/>
                  </a:lnTo>
                  <a:lnTo>
                    <a:pt x="667" y="1045"/>
                  </a:lnTo>
                  <a:lnTo>
                    <a:pt x="681" y="1049"/>
                  </a:lnTo>
                  <a:lnTo>
                    <a:pt x="698" y="1051"/>
                  </a:lnTo>
                  <a:lnTo>
                    <a:pt x="700" y="1084"/>
                  </a:lnTo>
                  <a:lnTo>
                    <a:pt x="704" y="1093"/>
                  </a:lnTo>
                  <a:lnTo>
                    <a:pt x="714" y="1101"/>
                  </a:lnTo>
                  <a:lnTo>
                    <a:pt x="725" y="1105"/>
                  </a:lnTo>
                  <a:lnTo>
                    <a:pt x="739" y="1105"/>
                  </a:lnTo>
                  <a:lnTo>
                    <a:pt x="751" y="1087"/>
                  </a:lnTo>
                  <a:lnTo>
                    <a:pt x="760" y="1070"/>
                  </a:lnTo>
                  <a:lnTo>
                    <a:pt x="766" y="1051"/>
                  </a:lnTo>
                  <a:lnTo>
                    <a:pt x="774" y="1033"/>
                  </a:lnTo>
                  <a:lnTo>
                    <a:pt x="784" y="1037"/>
                  </a:lnTo>
                  <a:lnTo>
                    <a:pt x="793" y="1047"/>
                  </a:lnTo>
                  <a:lnTo>
                    <a:pt x="803" y="1049"/>
                  </a:lnTo>
                  <a:lnTo>
                    <a:pt x="815" y="1043"/>
                  </a:lnTo>
                  <a:lnTo>
                    <a:pt x="817" y="1029"/>
                  </a:lnTo>
                  <a:lnTo>
                    <a:pt x="819" y="1018"/>
                  </a:lnTo>
                  <a:lnTo>
                    <a:pt x="820" y="1006"/>
                  </a:lnTo>
                  <a:lnTo>
                    <a:pt x="824" y="994"/>
                  </a:lnTo>
                  <a:lnTo>
                    <a:pt x="826" y="981"/>
                  </a:lnTo>
                  <a:lnTo>
                    <a:pt x="830" y="969"/>
                  </a:lnTo>
                  <a:lnTo>
                    <a:pt x="832" y="958"/>
                  </a:lnTo>
                  <a:lnTo>
                    <a:pt x="836" y="946"/>
                  </a:lnTo>
                  <a:lnTo>
                    <a:pt x="838" y="932"/>
                  </a:lnTo>
                  <a:lnTo>
                    <a:pt x="840" y="921"/>
                  </a:lnTo>
                  <a:lnTo>
                    <a:pt x="842" y="909"/>
                  </a:lnTo>
                  <a:lnTo>
                    <a:pt x="846" y="897"/>
                  </a:lnTo>
                  <a:lnTo>
                    <a:pt x="848" y="886"/>
                  </a:lnTo>
                  <a:lnTo>
                    <a:pt x="850" y="874"/>
                  </a:lnTo>
                  <a:lnTo>
                    <a:pt x="852" y="863"/>
                  </a:lnTo>
                  <a:lnTo>
                    <a:pt x="855" y="851"/>
                  </a:lnTo>
                  <a:lnTo>
                    <a:pt x="855" y="837"/>
                  </a:lnTo>
                  <a:lnTo>
                    <a:pt x="857" y="826"/>
                  </a:lnTo>
                  <a:lnTo>
                    <a:pt x="859" y="812"/>
                  </a:lnTo>
                  <a:lnTo>
                    <a:pt x="861" y="801"/>
                  </a:lnTo>
                  <a:lnTo>
                    <a:pt x="861" y="787"/>
                  </a:lnTo>
                  <a:lnTo>
                    <a:pt x="865" y="775"/>
                  </a:lnTo>
                  <a:lnTo>
                    <a:pt x="865" y="764"/>
                  </a:lnTo>
                  <a:lnTo>
                    <a:pt x="869" y="752"/>
                  </a:lnTo>
                  <a:lnTo>
                    <a:pt x="869" y="738"/>
                  </a:lnTo>
                  <a:lnTo>
                    <a:pt x="873" y="727"/>
                  </a:lnTo>
                  <a:lnTo>
                    <a:pt x="873" y="713"/>
                  </a:lnTo>
                  <a:lnTo>
                    <a:pt x="877" y="702"/>
                  </a:lnTo>
                  <a:lnTo>
                    <a:pt x="879" y="690"/>
                  </a:lnTo>
                  <a:lnTo>
                    <a:pt x="881" y="678"/>
                  </a:lnTo>
                  <a:lnTo>
                    <a:pt x="883" y="667"/>
                  </a:lnTo>
                  <a:lnTo>
                    <a:pt x="886" y="655"/>
                  </a:lnTo>
                  <a:lnTo>
                    <a:pt x="892" y="647"/>
                  </a:lnTo>
                  <a:lnTo>
                    <a:pt x="904" y="651"/>
                  </a:lnTo>
                  <a:lnTo>
                    <a:pt x="916" y="657"/>
                  </a:lnTo>
                  <a:lnTo>
                    <a:pt x="929" y="659"/>
                  </a:lnTo>
                  <a:lnTo>
                    <a:pt x="943" y="663"/>
                  </a:lnTo>
                  <a:lnTo>
                    <a:pt x="954" y="663"/>
                  </a:lnTo>
                  <a:lnTo>
                    <a:pt x="970" y="665"/>
                  </a:lnTo>
                  <a:lnTo>
                    <a:pt x="983" y="667"/>
                  </a:lnTo>
                  <a:lnTo>
                    <a:pt x="999" y="671"/>
                  </a:lnTo>
                  <a:lnTo>
                    <a:pt x="1012" y="684"/>
                  </a:lnTo>
                  <a:lnTo>
                    <a:pt x="1026" y="700"/>
                  </a:lnTo>
                  <a:lnTo>
                    <a:pt x="1038" y="717"/>
                  </a:lnTo>
                  <a:lnTo>
                    <a:pt x="1049" y="737"/>
                  </a:lnTo>
                  <a:lnTo>
                    <a:pt x="1055" y="754"/>
                  </a:lnTo>
                  <a:lnTo>
                    <a:pt x="1059" y="775"/>
                  </a:lnTo>
                  <a:lnTo>
                    <a:pt x="1059" y="785"/>
                  </a:lnTo>
                  <a:lnTo>
                    <a:pt x="1059" y="797"/>
                  </a:lnTo>
                  <a:lnTo>
                    <a:pt x="1059" y="808"/>
                  </a:lnTo>
                  <a:lnTo>
                    <a:pt x="1059" y="820"/>
                  </a:lnTo>
                  <a:lnTo>
                    <a:pt x="1045" y="824"/>
                  </a:lnTo>
                  <a:lnTo>
                    <a:pt x="1038" y="833"/>
                  </a:lnTo>
                  <a:lnTo>
                    <a:pt x="1032" y="845"/>
                  </a:lnTo>
                  <a:lnTo>
                    <a:pt x="1032" y="859"/>
                  </a:lnTo>
                  <a:lnTo>
                    <a:pt x="1032" y="872"/>
                  </a:lnTo>
                  <a:lnTo>
                    <a:pt x="1036" y="886"/>
                  </a:lnTo>
                  <a:lnTo>
                    <a:pt x="1034" y="896"/>
                  </a:lnTo>
                  <a:lnTo>
                    <a:pt x="1032" y="903"/>
                  </a:lnTo>
                  <a:lnTo>
                    <a:pt x="1028" y="907"/>
                  </a:lnTo>
                  <a:lnTo>
                    <a:pt x="1024" y="913"/>
                  </a:lnTo>
                  <a:lnTo>
                    <a:pt x="1012" y="917"/>
                  </a:lnTo>
                  <a:lnTo>
                    <a:pt x="1003" y="921"/>
                  </a:lnTo>
                  <a:lnTo>
                    <a:pt x="987" y="919"/>
                  </a:lnTo>
                  <a:lnTo>
                    <a:pt x="976" y="921"/>
                  </a:lnTo>
                  <a:lnTo>
                    <a:pt x="964" y="927"/>
                  </a:lnTo>
                  <a:lnTo>
                    <a:pt x="956" y="938"/>
                  </a:lnTo>
                  <a:lnTo>
                    <a:pt x="950" y="950"/>
                  </a:lnTo>
                  <a:lnTo>
                    <a:pt x="945" y="963"/>
                  </a:lnTo>
                  <a:lnTo>
                    <a:pt x="939" y="977"/>
                  </a:lnTo>
                  <a:lnTo>
                    <a:pt x="935" y="992"/>
                  </a:lnTo>
                  <a:lnTo>
                    <a:pt x="929" y="1004"/>
                  </a:lnTo>
                  <a:lnTo>
                    <a:pt x="925" y="1018"/>
                  </a:lnTo>
                  <a:lnTo>
                    <a:pt x="919" y="1031"/>
                  </a:lnTo>
                  <a:lnTo>
                    <a:pt x="916" y="1047"/>
                  </a:lnTo>
                  <a:lnTo>
                    <a:pt x="910" y="1058"/>
                  </a:lnTo>
                  <a:lnTo>
                    <a:pt x="904" y="1072"/>
                  </a:lnTo>
                  <a:lnTo>
                    <a:pt x="898" y="1086"/>
                  </a:lnTo>
                  <a:lnTo>
                    <a:pt x="894" y="1099"/>
                  </a:lnTo>
                  <a:lnTo>
                    <a:pt x="888" y="1113"/>
                  </a:lnTo>
                  <a:lnTo>
                    <a:pt x="884" y="1128"/>
                  </a:lnTo>
                  <a:lnTo>
                    <a:pt x="881" y="1142"/>
                  </a:lnTo>
                  <a:lnTo>
                    <a:pt x="879" y="1157"/>
                  </a:lnTo>
                  <a:lnTo>
                    <a:pt x="857" y="1175"/>
                  </a:lnTo>
                  <a:lnTo>
                    <a:pt x="848" y="1186"/>
                  </a:lnTo>
                  <a:lnTo>
                    <a:pt x="844" y="1200"/>
                  </a:lnTo>
                  <a:lnTo>
                    <a:pt x="842" y="1215"/>
                  </a:lnTo>
                  <a:lnTo>
                    <a:pt x="846" y="1233"/>
                  </a:lnTo>
                  <a:lnTo>
                    <a:pt x="805" y="1268"/>
                  </a:lnTo>
                  <a:lnTo>
                    <a:pt x="795" y="1277"/>
                  </a:lnTo>
                  <a:lnTo>
                    <a:pt x="788" y="1291"/>
                  </a:lnTo>
                  <a:lnTo>
                    <a:pt x="778" y="1297"/>
                  </a:lnTo>
                  <a:lnTo>
                    <a:pt x="764" y="1297"/>
                  </a:lnTo>
                  <a:lnTo>
                    <a:pt x="747" y="1297"/>
                  </a:lnTo>
                  <a:lnTo>
                    <a:pt x="729" y="1297"/>
                  </a:lnTo>
                  <a:lnTo>
                    <a:pt x="712" y="1297"/>
                  </a:lnTo>
                  <a:lnTo>
                    <a:pt x="694" y="1297"/>
                  </a:lnTo>
                  <a:lnTo>
                    <a:pt x="677" y="1297"/>
                  </a:lnTo>
                  <a:lnTo>
                    <a:pt x="660" y="1297"/>
                  </a:lnTo>
                  <a:lnTo>
                    <a:pt x="642" y="1299"/>
                  </a:lnTo>
                  <a:lnTo>
                    <a:pt x="627" y="1303"/>
                  </a:lnTo>
                  <a:lnTo>
                    <a:pt x="609" y="1303"/>
                  </a:lnTo>
                  <a:lnTo>
                    <a:pt x="592" y="1305"/>
                  </a:lnTo>
                  <a:lnTo>
                    <a:pt x="576" y="1307"/>
                  </a:lnTo>
                  <a:lnTo>
                    <a:pt x="561" y="1312"/>
                  </a:lnTo>
                  <a:lnTo>
                    <a:pt x="545" y="1316"/>
                  </a:lnTo>
                  <a:lnTo>
                    <a:pt x="532" y="1322"/>
                  </a:lnTo>
                  <a:lnTo>
                    <a:pt x="516" y="1328"/>
                  </a:lnTo>
                  <a:lnTo>
                    <a:pt x="504" y="1338"/>
                  </a:lnTo>
                  <a:lnTo>
                    <a:pt x="491" y="1349"/>
                  </a:lnTo>
                  <a:lnTo>
                    <a:pt x="489" y="1367"/>
                  </a:lnTo>
                  <a:lnTo>
                    <a:pt x="491" y="1382"/>
                  </a:lnTo>
                  <a:lnTo>
                    <a:pt x="493" y="1398"/>
                  </a:lnTo>
                  <a:lnTo>
                    <a:pt x="481" y="1404"/>
                  </a:lnTo>
                  <a:lnTo>
                    <a:pt x="469" y="1409"/>
                  </a:lnTo>
                  <a:lnTo>
                    <a:pt x="458" y="1415"/>
                  </a:lnTo>
                  <a:lnTo>
                    <a:pt x="446" y="1421"/>
                  </a:lnTo>
                  <a:lnTo>
                    <a:pt x="435" y="1427"/>
                  </a:lnTo>
                  <a:lnTo>
                    <a:pt x="423" y="1433"/>
                  </a:lnTo>
                  <a:lnTo>
                    <a:pt x="411" y="1438"/>
                  </a:lnTo>
                  <a:lnTo>
                    <a:pt x="400" y="1444"/>
                  </a:lnTo>
                  <a:lnTo>
                    <a:pt x="388" y="1450"/>
                  </a:lnTo>
                  <a:lnTo>
                    <a:pt x="376" y="1456"/>
                  </a:lnTo>
                  <a:lnTo>
                    <a:pt x="365" y="1462"/>
                  </a:lnTo>
                  <a:lnTo>
                    <a:pt x="353" y="1469"/>
                  </a:lnTo>
                  <a:lnTo>
                    <a:pt x="341" y="1475"/>
                  </a:lnTo>
                  <a:lnTo>
                    <a:pt x="330" y="1485"/>
                  </a:lnTo>
                  <a:lnTo>
                    <a:pt x="320" y="1493"/>
                  </a:lnTo>
                  <a:lnTo>
                    <a:pt x="312" y="1504"/>
                  </a:lnTo>
                  <a:lnTo>
                    <a:pt x="299" y="1495"/>
                  </a:lnTo>
                  <a:lnTo>
                    <a:pt x="287" y="1493"/>
                  </a:lnTo>
                  <a:lnTo>
                    <a:pt x="276" y="1495"/>
                  </a:lnTo>
                  <a:lnTo>
                    <a:pt x="264" y="1500"/>
                  </a:lnTo>
                  <a:lnTo>
                    <a:pt x="252" y="1504"/>
                  </a:lnTo>
                  <a:lnTo>
                    <a:pt x="243" y="1512"/>
                  </a:lnTo>
                  <a:lnTo>
                    <a:pt x="231" y="1518"/>
                  </a:lnTo>
                  <a:lnTo>
                    <a:pt x="221" y="1524"/>
                  </a:lnTo>
                  <a:lnTo>
                    <a:pt x="213" y="1539"/>
                  </a:lnTo>
                  <a:lnTo>
                    <a:pt x="212" y="1559"/>
                  </a:lnTo>
                  <a:lnTo>
                    <a:pt x="212" y="1578"/>
                  </a:lnTo>
                  <a:lnTo>
                    <a:pt x="215" y="1597"/>
                  </a:lnTo>
                  <a:lnTo>
                    <a:pt x="204" y="1609"/>
                  </a:lnTo>
                  <a:lnTo>
                    <a:pt x="192" y="1623"/>
                  </a:lnTo>
                  <a:lnTo>
                    <a:pt x="180" y="1636"/>
                  </a:lnTo>
                  <a:lnTo>
                    <a:pt x="171" y="1652"/>
                  </a:lnTo>
                  <a:lnTo>
                    <a:pt x="159" y="1665"/>
                  </a:lnTo>
                  <a:lnTo>
                    <a:pt x="151" y="1681"/>
                  </a:lnTo>
                  <a:lnTo>
                    <a:pt x="142" y="1694"/>
                  </a:lnTo>
                  <a:lnTo>
                    <a:pt x="134" y="1710"/>
                  </a:lnTo>
                  <a:lnTo>
                    <a:pt x="124" y="1723"/>
                  </a:lnTo>
                  <a:lnTo>
                    <a:pt x="116" y="1739"/>
                  </a:lnTo>
                  <a:lnTo>
                    <a:pt x="107" y="1753"/>
                  </a:lnTo>
                  <a:lnTo>
                    <a:pt x="101" y="1770"/>
                  </a:lnTo>
                  <a:lnTo>
                    <a:pt x="93" y="1786"/>
                  </a:lnTo>
                  <a:lnTo>
                    <a:pt x="87" y="1801"/>
                  </a:lnTo>
                  <a:lnTo>
                    <a:pt x="82" y="1817"/>
                  </a:lnTo>
                  <a:lnTo>
                    <a:pt x="76" y="1834"/>
                  </a:lnTo>
                  <a:lnTo>
                    <a:pt x="68" y="1848"/>
                  </a:lnTo>
                  <a:lnTo>
                    <a:pt x="62" y="1863"/>
                  </a:lnTo>
                  <a:lnTo>
                    <a:pt x="56" y="1879"/>
                  </a:lnTo>
                  <a:lnTo>
                    <a:pt x="51" y="1896"/>
                  </a:lnTo>
                  <a:lnTo>
                    <a:pt x="45" y="1912"/>
                  </a:lnTo>
                  <a:lnTo>
                    <a:pt x="41" y="1927"/>
                  </a:lnTo>
                  <a:lnTo>
                    <a:pt x="37" y="1945"/>
                  </a:lnTo>
                  <a:lnTo>
                    <a:pt x="33" y="1962"/>
                  </a:lnTo>
                  <a:lnTo>
                    <a:pt x="27" y="1977"/>
                  </a:lnTo>
                  <a:lnTo>
                    <a:pt x="25" y="1995"/>
                  </a:lnTo>
                  <a:lnTo>
                    <a:pt x="20" y="2012"/>
                  </a:lnTo>
                  <a:lnTo>
                    <a:pt x="18" y="2030"/>
                  </a:lnTo>
                  <a:lnTo>
                    <a:pt x="14" y="2047"/>
                  </a:lnTo>
                  <a:lnTo>
                    <a:pt x="12" y="2065"/>
                  </a:lnTo>
                  <a:lnTo>
                    <a:pt x="8" y="2082"/>
                  </a:lnTo>
                  <a:lnTo>
                    <a:pt x="8" y="2100"/>
                  </a:lnTo>
                  <a:lnTo>
                    <a:pt x="4" y="2119"/>
                  </a:lnTo>
                  <a:lnTo>
                    <a:pt x="2" y="2140"/>
                  </a:lnTo>
                  <a:lnTo>
                    <a:pt x="0" y="2150"/>
                  </a:lnTo>
                  <a:lnTo>
                    <a:pt x="0" y="2162"/>
                  </a:lnTo>
                  <a:lnTo>
                    <a:pt x="0" y="2171"/>
                  </a:lnTo>
                  <a:lnTo>
                    <a:pt x="0" y="2183"/>
                  </a:lnTo>
                  <a:lnTo>
                    <a:pt x="0" y="2202"/>
                  </a:lnTo>
                  <a:lnTo>
                    <a:pt x="0" y="2224"/>
                  </a:lnTo>
                  <a:lnTo>
                    <a:pt x="0" y="2233"/>
                  </a:lnTo>
                  <a:lnTo>
                    <a:pt x="2" y="2245"/>
                  </a:lnTo>
                  <a:lnTo>
                    <a:pt x="4" y="2255"/>
                  </a:lnTo>
                  <a:lnTo>
                    <a:pt x="6" y="2266"/>
                  </a:lnTo>
                  <a:lnTo>
                    <a:pt x="6" y="2286"/>
                  </a:lnTo>
                  <a:lnTo>
                    <a:pt x="10" y="2307"/>
                  </a:lnTo>
                  <a:lnTo>
                    <a:pt x="16" y="2326"/>
                  </a:lnTo>
                  <a:lnTo>
                    <a:pt x="21" y="2348"/>
                  </a:lnTo>
                  <a:lnTo>
                    <a:pt x="25" y="2365"/>
                  </a:lnTo>
                  <a:lnTo>
                    <a:pt x="31" y="2387"/>
                  </a:lnTo>
                  <a:lnTo>
                    <a:pt x="39" y="2404"/>
                  </a:lnTo>
                  <a:lnTo>
                    <a:pt x="49" y="2425"/>
                  </a:lnTo>
                  <a:lnTo>
                    <a:pt x="54" y="2443"/>
                  </a:lnTo>
                  <a:lnTo>
                    <a:pt x="64" y="2460"/>
                  </a:lnTo>
                  <a:lnTo>
                    <a:pt x="74" y="2478"/>
                  </a:lnTo>
                  <a:lnTo>
                    <a:pt x="85" y="2495"/>
                  </a:lnTo>
                  <a:lnTo>
                    <a:pt x="95" y="2511"/>
                  </a:lnTo>
                  <a:lnTo>
                    <a:pt x="107" y="2528"/>
                  </a:lnTo>
                  <a:lnTo>
                    <a:pt x="118" y="2544"/>
                  </a:lnTo>
                  <a:lnTo>
                    <a:pt x="134" y="2559"/>
                  </a:lnTo>
                  <a:lnTo>
                    <a:pt x="146" y="2573"/>
                  </a:lnTo>
                  <a:lnTo>
                    <a:pt x="161" y="2586"/>
                  </a:lnTo>
                  <a:lnTo>
                    <a:pt x="177" y="2600"/>
                  </a:lnTo>
                  <a:lnTo>
                    <a:pt x="194" y="2615"/>
                  </a:lnTo>
                  <a:lnTo>
                    <a:pt x="210" y="2627"/>
                  </a:lnTo>
                  <a:lnTo>
                    <a:pt x="227" y="2639"/>
                  </a:lnTo>
                  <a:lnTo>
                    <a:pt x="244" y="2650"/>
                  </a:lnTo>
                  <a:lnTo>
                    <a:pt x="266" y="2664"/>
                  </a:lnTo>
                  <a:lnTo>
                    <a:pt x="279" y="2672"/>
                  </a:lnTo>
                  <a:lnTo>
                    <a:pt x="295" y="2679"/>
                  </a:lnTo>
                  <a:lnTo>
                    <a:pt x="310" y="2685"/>
                  </a:lnTo>
                  <a:lnTo>
                    <a:pt x="328" y="2693"/>
                  </a:lnTo>
                  <a:lnTo>
                    <a:pt x="345" y="2697"/>
                  </a:lnTo>
                  <a:lnTo>
                    <a:pt x="363" y="2703"/>
                  </a:lnTo>
                  <a:lnTo>
                    <a:pt x="380" y="2707"/>
                  </a:lnTo>
                  <a:lnTo>
                    <a:pt x="398" y="2710"/>
                  </a:lnTo>
                  <a:lnTo>
                    <a:pt x="415" y="2712"/>
                  </a:lnTo>
                  <a:lnTo>
                    <a:pt x="433" y="2714"/>
                  </a:lnTo>
                  <a:lnTo>
                    <a:pt x="450" y="2714"/>
                  </a:lnTo>
                  <a:lnTo>
                    <a:pt x="468" y="2716"/>
                  </a:lnTo>
                  <a:lnTo>
                    <a:pt x="485" y="2714"/>
                  </a:lnTo>
                  <a:lnTo>
                    <a:pt x="504" y="2714"/>
                  </a:lnTo>
                  <a:lnTo>
                    <a:pt x="522" y="2712"/>
                  </a:lnTo>
                  <a:lnTo>
                    <a:pt x="541" y="2712"/>
                  </a:lnTo>
                  <a:lnTo>
                    <a:pt x="559" y="2708"/>
                  </a:lnTo>
                  <a:lnTo>
                    <a:pt x="576" y="2705"/>
                  </a:lnTo>
                  <a:lnTo>
                    <a:pt x="594" y="2701"/>
                  </a:lnTo>
                  <a:lnTo>
                    <a:pt x="611" y="2697"/>
                  </a:lnTo>
                  <a:lnTo>
                    <a:pt x="628" y="2691"/>
                  </a:lnTo>
                  <a:lnTo>
                    <a:pt x="646" y="2687"/>
                  </a:lnTo>
                  <a:lnTo>
                    <a:pt x="663" y="2681"/>
                  </a:lnTo>
                  <a:lnTo>
                    <a:pt x="683" y="2677"/>
                  </a:lnTo>
                  <a:lnTo>
                    <a:pt x="698" y="2670"/>
                  </a:lnTo>
                  <a:lnTo>
                    <a:pt x="716" y="2664"/>
                  </a:lnTo>
                  <a:lnTo>
                    <a:pt x="731" y="2656"/>
                  </a:lnTo>
                  <a:lnTo>
                    <a:pt x="749" y="2650"/>
                  </a:lnTo>
                  <a:lnTo>
                    <a:pt x="764" y="2643"/>
                  </a:lnTo>
                  <a:lnTo>
                    <a:pt x="780" y="2635"/>
                  </a:lnTo>
                  <a:lnTo>
                    <a:pt x="795" y="2627"/>
                  </a:lnTo>
                  <a:lnTo>
                    <a:pt x="813" y="2621"/>
                  </a:lnTo>
                  <a:lnTo>
                    <a:pt x="830" y="2633"/>
                  </a:lnTo>
                  <a:lnTo>
                    <a:pt x="848" y="2646"/>
                  </a:lnTo>
                  <a:lnTo>
                    <a:pt x="865" y="2656"/>
                  </a:lnTo>
                  <a:lnTo>
                    <a:pt x="884" y="2668"/>
                  </a:lnTo>
                  <a:lnTo>
                    <a:pt x="896" y="2666"/>
                  </a:lnTo>
                  <a:lnTo>
                    <a:pt x="910" y="2666"/>
                  </a:lnTo>
                  <a:lnTo>
                    <a:pt x="921" y="2662"/>
                  </a:lnTo>
                  <a:lnTo>
                    <a:pt x="935" y="2658"/>
                  </a:lnTo>
                  <a:lnTo>
                    <a:pt x="945" y="2650"/>
                  </a:lnTo>
                  <a:lnTo>
                    <a:pt x="954" y="2643"/>
                  </a:lnTo>
                  <a:lnTo>
                    <a:pt x="962" y="2633"/>
                  </a:lnTo>
                  <a:lnTo>
                    <a:pt x="972" y="2625"/>
                  </a:lnTo>
                  <a:lnTo>
                    <a:pt x="974" y="2613"/>
                  </a:lnTo>
                  <a:lnTo>
                    <a:pt x="976" y="2602"/>
                  </a:lnTo>
                  <a:lnTo>
                    <a:pt x="978" y="2590"/>
                  </a:lnTo>
                  <a:lnTo>
                    <a:pt x="981" y="2579"/>
                  </a:lnTo>
                  <a:lnTo>
                    <a:pt x="981" y="2565"/>
                  </a:lnTo>
                  <a:lnTo>
                    <a:pt x="985" y="2553"/>
                  </a:lnTo>
                  <a:lnTo>
                    <a:pt x="985" y="2542"/>
                  </a:lnTo>
                  <a:lnTo>
                    <a:pt x="989" y="2530"/>
                  </a:lnTo>
                  <a:lnTo>
                    <a:pt x="989" y="2517"/>
                  </a:lnTo>
                  <a:lnTo>
                    <a:pt x="991" y="2505"/>
                  </a:lnTo>
                  <a:lnTo>
                    <a:pt x="991" y="2493"/>
                  </a:lnTo>
                  <a:lnTo>
                    <a:pt x="993" y="2482"/>
                  </a:lnTo>
                  <a:lnTo>
                    <a:pt x="993" y="2470"/>
                  </a:lnTo>
                  <a:lnTo>
                    <a:pt x="995" y="2458"/>
                  </a:lnTo>
                  <a:lnTo>
                    <a:pt x="997" y="2447"/>
                  </a:lnTo>
                  <a:lnTo>
                    <a:pt x="1001" y="2437"/>
                  </a:lnTo>
                  <a:lnTo>
                    <a:pt x="1007" y="2425"/>
                  </a:lnTo>
                  <a:lnTo>
                    <a:pt x="1014" y="2414"/>
                  </a:lnTo>
                  <a:lnTo>
                    <a:pt x="1020" y="2402"/>
                  </a:lnTo>
                  <a:lnTo>
                    <a:pt x="1028" y="2392"/>
                  </a:lnTo>
                  <a:lnTo>
                    <a:pt x="1034" y="2381"/>
                  </a:lnTo>
                  <a:lnTo>
                    <a:pt x="1042" y="2369"/>
                  </a:lnTo>
                  <a:lnTo>
                    <a:pt x="1049" y="2358"/>
                  </a:lnTo>
                  <a:lnTo>
                    <a:pt x="1057" y="2348"/>
                  </a:lnTo>
                  <a:lnTo>
                    <a:pt x="1063" y="2336"/>
                  </a:lnTo>
                  <a:lnTo>
                    <a:pt x="1069" y="2325"/>
                  </a:lnTo>
                  <a:lnTo>
                    <a:pt x="1075" y="2313"/>
                  </a:lnTo>
                  <a:lnTo>
                    <a:pt x="1080" y="2303"/>
                  </a:lnTo>
                  <a:lnTo>
                    <a:pt x="1086" y="2292"/>
                  </a:lnTo>
                  <a:lnTo>
                    <a:pt x="1092" y="2280"/>
                  </a:lnTo>
                  <a:lnTo>
                    <a:pt x="1098" y="2268"/>
                  </a:lnTo>
                  <a:lnTo>
                    <a:pt x="1106" y="2259"/>
                  </a:lnTo>
                  <a:lnTo>
                    <a:pt x="1109" y="2247"/>
                  </a:lnTo>
                  <a:lnTo>
                    <a:pt x="1115" y="2235"/>
                  </a:lnTo>
                  <a:lnTo>
                    <a:pt x="1119" y="2224"/>
                  </a:lnTo>
                  <a:lnTo>
                    <a:pt x="1125" y="2212"/>
                  </a:lnTo>
                  <a:lnTo>
                    <a:pt x="1129" y="2200"/>
                  </a:lnTo>
                  <a:lnTo>
                    <a:pt x="1135" y="2189"/>
                  </a:lnTo>
                  <a:lnTo>
                    <a:pt x="1139" y="2177"/>
                  </a:lnTo>
                  <a:lnTo>
                    <a:pt x="1144" y="2166"/>
                  </a:lnTo>
                  <a:lnTo>
                    <a:pt x="1148" y="2152"/>
                  </a:lnTo>
                  <a:lnTo>
                    <a:pt x="1152" y="2140"/>
                  </a:lnTo>
                  <a:lnTo>
                    <a:pt x="1156" y="2127"/>
                  </a:lnTo>
                  <a:lnTo>
                    <a:pt x="1162" y="2115"/>
                  </a:lnTo>
                  <a:lnTo>
                    <a:pt x="1164" y="2102"/>
                  </a:lnTo>
                  <a:lnTo>
                    <a:pt x="1170" y="2090"/>
                  </a:lnTo>
                  <a:lnTo>
                    <a:pt x="1172" y="2078"/>
                  </a:lnTo>
                  <a:lnTo>
                    <a:pt x="1177" y="2067"/>
                  </a:lnTo>
                  <a:lnTo>
                    <a:pt x="1179" y="2055"/>
                  </a:lnTo>
                  <a:lnTo>
                    <a:pt x="1181" y="2045"/>
                  </a:lnTo>
                  <a:lnTo>
                    <a:pt x="1183" y="2034"/>
                  </a:lnTo>
                  <a:lnTo>
                    <a:pt x="1193" y="2028"/>
                  </a:lnTo>
                  <a:lnTo>
                    <a:pt x="1197" y="2040"/>
                  </a:lnTo>
                  <a:lnTo>
                    <a:pt x="1203" y="2051"/>
                  </a:lnTo>
                  <a:lnTo>
                    <a:pt x="1208" y="2065"/>
                  </a:lnTo>
                  <a:lnTo>
                    <a:pt x="1214" y="2078"/>
                  </a:lnTo>
                  <a:lnTo>
                    <a:pt x="1220" y="2090"/>
                  </a:lnTo>
                  <a:lnTo>
                    <a:pt x="1226" y="2102"/>
                  </a:lnTo>
                  <a:lnTo>
                    <a:pt x="1234" y="2115"/>
                  </a:lnTo>
                  <a:lnTo>
                    <a:pt x="1243" y="2129"/>
                  </a:lnTo>
                  <a:lnTo>
                    <a:pt x="1249" y="2138"/>
                  </a:lnTo>
                  <a:lnTo>
                    <a:pt x="1259" y="2150"/>
                  </a:lnTo>
                  <a:lnTo>
                    <a:pt x="1268" y="2160"/>
                  </a:lnTo>
                  <a:lnTo>
                    <a:pt x="1280" y="2171"/>
                  </a:lnTo>
                  <a:lnTo>
                    <a:pt x="1290" y="2179"/>
                  </a:lnTo>
                  <a:lnTo>
                    <a:pt x="1301" y="2189"/>
                  </a:lnTo>
                  <a:lnTo>
                    <a:pt x="1313" y="2197"/>
                  </a:lnTo>
                  <a:lnTo>
                    <a:pt x="1329" y="2206"/>
                  </a:lnTo>
                  <a:lnTo>
                    <a:pt x="1348" y="2212"/>
                  </a:lnTo>
                  <a:lnTo>
                    <a:pt x="1369" y="2218"/>
                  </a:lnTo>
                  <a:lnTo>
                    <a:pt x="1381" y="2220"/>
                  </a:lnTo>
                  <a:lnTo>
                    <a:pt x="1393" y="2222"/>
                  </a:lnTo>
                  <a:lnTo>
                    <a:pt x="1404" y="2224"/>
                  </a:lnTo>
                  <a:lnTo>
                    <a:pt x="1416" y="2226"/>
                  </a:lnTo>
                  <a:lnTo>
                    <a:pt x="1426" y="2224"/>
                  </a:lnTo>
                  <a:lnTo>
                    <a:pt x="1437" y="2224"/>
                  </a:lnTo>
                  <a:lnTo>
                    <a:pt x="1449" y="2224"/>
                  </a:lnTo>
                  <a:lnTo>
                    <a:pt x="1460" y="2224"/>
                  </a:lnTo>
                  <a:lnTo>
                    <a:pt x="1470" y="2222"/>
                  </a:lnTo>
                  <a:lnTo>
                    <a:pt x="1482" y="2220"/>
                  </a:lnTo>
                  <a:lnTo>
                    <a:pt x="1493" y="2218"/>
                  </a:lnTo>
                  <a:lnTo>
                    <a:pt x="1505" y="2218"/>
                  </a:lnTo>
                  <a:lnTo>
                    <a:pt x="1524" y="2210"/>
                  </a:lnTo>
                  <a:lnTo>
                    <a:pt x="1546" y="2204"/>
                  </a:lnTo>
                  <a:lnTo>
                    <a:pt x="1556" y="2199"/>
                  </a:lnTo>
                  <a:lnTo>
                    <a:pt x="1567" y="2195"/>
                  </a:lnTo>
                  <a:lnTo>
                    <a:pt x="1577" y="2191"/>
                  </a:lnTo>
                  <a:lnTo>
                    <a:pt x="1588" y="2187"/>
                  </a:lnTo>
                  <a:lnTo>
                    <a:pt x="1606" y="2173"/>
                  </a:lnTo>
                  <a:lnTo>
                    <a:pt x="1625" y="2162"/>
                  </a:lnTo>
                  <a:lnTo>
                    <a:pt x="1643" y="2146"/>
                  </a:lnTo>
                  <a:lnTo>
                    <a:pt x="1660" y="2133"/>
                  </a:lnTo>
                  <a:lnTo>
                    <a:pt x="1672" y="2138"/>
                  </a:lnTo>
                  <a:lnTo>
                    <a:pt x="1687" y="2146"/>
                  </a:lnTo>
                  <a:lnTo>
                    <a:pt x="1699" y="2154"/>
                  </a:lnTo>
                  <a:lnTo>
                    <a:pt x="1715" y="2162"/>
                  </a:lnTo>
                  <a:lnTo>
                    <a:pt x="1728" y="2167"/>
                  </a:lnTo>
                  <a:lnTo>
                    <a:pt x="1742" y="2177"/>
                  </a:lnTo>
                  <a:lnTo>
                    <a:pt x="1755" y="2183"/>
                  </a:lnTo>
                  <a:lnTo>
                    <a:pt x="1771" y="2193"/>
                  </a:lnTo>
                  <a:lnTo>
                    <a:pt x="1784" y="2199"/>
                  </a:lnTo>
                  <a:lnTo>
                    <a:pt x="1800" y="2206"/>
                  </a:lnTo>
                  <a:lnTo>
                    <a:pt x="1813" y="2214"/>
                  </a:lnTo>
                  <a:lnTo>
                    <a:pt x="1829" y="2222"/>
                  </a:lnTo>
                  <a:lnTo>
                    <a:pt x="1843" y="2228"/>
                  </a:lnTo>
                  <a:lnTo>
                    <a:pt x="1858" y="2237"/>
                  </a:lnTo>
                  <a:lnTo>
                    <a:pt x="1872" y="2243"/>
                  </a:lnTo>
                  <a:lnTo>
                    <a:pt x="1887" y="2253"/>
                  </a:lnTo>
                  <a:lnTo>
                    <a:pt x="1899" y="2259"/>
                  </a:lnTo>
                  <a:lnTo>
                    <a:pt x="1914" y="2264"/>
                  </a:lnTo>
                  <a:lnTo>
                    <a:pt x="1928" y="2272"/>
                  </a:lnTo>
                  <a:lnTo>
                    <a:pt x="1943" y="2280"/>
                  </a:lnTo>
                  <a:lnTo>
                    <a:pt x="1957" y="2286"/>
                  </a:lnTo>
                  <a:lnTo>
                    <a:pt x="1972" y="2292"/>
                  </a:lnTo>
                  <a:lnTo>
                    <a:pt x="1986" y="2299"/>
                  </a:lnTo>
                  <a:lnTo>
                    <a:pt x="2002" y="2307"/>
                  </a:lnTo>
                  <a:lnTo>
                    <a:pt x="2015" y="2313"/>
                  </a:lnTo>
                  <a:lnTo>
                    <a:pt x="2031" y="2319"/>
                  </a:lnTo>
                  <a:lnTo>
                    <a:pt x="2044" y="2326"/>
                  </a:lnTo>
                  <a:lnTo>
                    <a:pt x="2060" y="2334"/>
                  </a:lnTo>
                  <a:lnTo>
                    <a:pt x="2073" y="2340"/>
                  </a:lnTo>
                  <a:lnTo>
                    <a:pt x="2089" y="2346"/>
                  </a:lnTo>
                  <a:lnTo>
                    <a:pt x="2102" y="2354"/>
                  </a:lnTo>
                  <a:lnTo>
                    <a:pt x="2120" y="2361"/>
                  </a:lnTo>
                  <a:lnTo>
                    <a:pt x="2116" y="2375"/>
                  </a:lnTo>
                  <a:lnTo>
                    <a:pt x="2114" y="2390"/>
                  </a:lnTo>
                  <a:lnTo>
                    <a:pt x="2110" y="2404"/>
                  </a:lnTo>
                  <a:lnTo>
                    <a:pt x="2108" y="2420"/>
                  </a:lnTo>
                  <a:lnTo>
                    <a:pt x="2106" y="2433"/>
                  </a:lnTo>
                  <a:lnTo>
                    <a:pt x="2104" y="2449"/>
                  </a:lnTo>
                  <a:lnTo>
                    <a:pt x="2104" y="2464"/>
                  </a:lnTo>
                  <a:lnTo>
                    <a:pt x="2104" y="2480"/>
                  </a:lnTo>
                  <a:lnTo>
                    <a:pt x="2102" y="2493"/>
                  </a:lnTo>
                  <a:lnTo>
                    <a:pt x="2102" y="2509"/>
                  </a:lnTo>
                  <a:lnTo>
                    <a:pt x="2102" y="2522"/>
                  </a:lnTo>
                  <a:lnTo>
                    <a:pt x="2104" y="2540"/>
                  </a:lnTo>
                  <a:lnTo>
                    <a:pt x="2104" y="2553"/>
                  </a:lnTo>
                  <a:lnTo>
                    <a:pt x="2106" y="2569"/>
                  </a:lnTo>
                  <a:lnTo>
                    <a:pt x="2108" y="2582"/>
                  </a:lnTo>
                  <a:lnTo>
                    <a:pt x="2112" y="2600"/>
                  </a:lnTo>
                  <a:lnTo>
                    <a:pt x="2112" y="2610"/>
                  </a:lnTo>
                  <a:lnTo>
                    <a:pt x="2112" y="2621"/>
                  </a:lnTo>
                  <a:lnTo>
                    <a:pt x="2114" y="2631"/>
                  </a:lnTo>
                  <a:lnTo>
                    <a:pt x="2118" y="2643"/>
                  </a:lnTo>
                  <a:lnTo>
                    <a:pt x="2120" y="2652"/>
                  </a:lnTo>
                  <a:lnTo>
                    <a:pt x="2124" y="2664"/>
                  </a:lnTo>
                  <a:lnTo>
                    <a:pt x="2128" y="2676"/>
                  </a:lnTo>
                  <a:lnTo>
                    <a:pt x="2133" y="2687"/>
                  </a:lnTo>
                  <a:lnTo>
                    <a:pt x="2139" y="2707"/>
                  </a:lnTo>
                  <a:lnTo>
                    <a:pt x="2151" y="2728"/>
                  </a:lnTo>
                  <a:lnTo>
                    <a:pt x="2163" y="2747"/>
                  </a:lnTo>
                  <a:lnTo>
                    <a:pt x="2178" y="2769"/>
                  </a:lnTo>
                  <a:lnTo>
                    <a:pt x="2192" y="2786"/>
                  </a:lnTo>
                  <a:lnTo>
                    <a:pt x="2207" y="2803"/>
                  </a:lnTo>
                  <a:lnTo>
                    <a:pt x="2225" y="2819"/>
                  </a:lnTo>
                  <a:lnTo>
                    <a:pt x="2244" y="2835"/>
                  </a:lnTo>
                  <a:lnTo>
                    <a:pt x="2261" y="2846"/>
                  </a:lnTo>
                  <a:lnTo>
                    <a:pt x="2283" y="2860"/>
                  </a:lnTo>
                  <a:lnTo>
                    <a:pt x="2292" y="2864"/>
                  </a:lnTo>
                  <a:lnTo>
                    <a:pt x="2302" y="2869"/>
                  </a:lnTo>
                  <a:lnTo>
                    <a:pt x="2314" y="2875"/>
                  </a:lnTo>
                  <a:lnTo>
                    <a:pt x="2325" y="2881"/>
                  </a:lnTo>
                  <a:lnTo>
                    <a:pt x="2345" y="2881"/>
                  </a:lnTo>
                  <a:lnTo>
                    <a:pt x="2366" y="2883"/>
                  </a:lnTo>
                  <a:lnTo>
                    <a:pt x="2386" y="2883"/>
                  </a:lnTo>
                  <a:lnTo>
                    <a:pt x="2407" y="2883"/>
                  </a:lnTo>
                  <a:lnTo>
                    <a:pt x="2426" y="2881"/>
                  </a:lnTo>
                  <a:lnTo>
                    <a:pt x="2448" y="2879"/>
                  </a:lnTo>
                  <a:lnTo>
                    <a:pt x="2467" y="2875"/>
                  </a:lnTo>
                  <a:lnTo>
                    <a:pt x="2488" y="2873"/>
                  </a:lnTo>
                  <a:lnTo>
                    <a:pt x="2508" y="2866"/>
                  </a:lnTo>
                  <a:lnTo>
                    <a:pt x="2527" y="2860"/>
                  </a:lnTo>
                  <a:lnTo>
                    <a:pt x="2545" y="2850"/>
                  </a:lnTo>
                  <a:lnTo>
                    <a:pt x="2564" y="2842"/>
                  </a:lnTo>
                  <a:lnTo>
                    <a:pt x="2579" y="2831"/>
                  </a:lnTo>
                  <a:lnTo>
                    <a:pt x="2597" y="2819"/>
                  </a:lnTo>
                  <a:lnTo>
                    <a:pt x="2612" y="2803"/>
                  </a:lnTo>
                  <a:lnTo>
                    <a:pt x="2628" y="2790"/>
                  </a:lnTo>
                  <a:lnTo>
                    <a:pt x="2636" y="2776"/>
                  </a:lnTo>
                  <a:lnTo>
                    <a:pt x="2645" y="2765"/>
                  </a:lnTo>
                  <a:lnTo>
                    <a:pt x="2655" y="2753"/>
                  </a:lnTo>
                  <a:lnTo>
                    <a:pt x="2667" y="2741"/>
                  </a:lnTo>
                  <a:lnTo>
                    <a:pt x="2675" y="2728"/>
                  </a:lnTo>
                  <a:lnTo>
                    <a:pt x="2682" y="2716"/>
                  </a:lnTo>
                  <a:lnTo>
                    <a:pt x="2688" y="2703"/>
                  </a:lnTo>
                  <a:lnTo>
                    <a:pt x="2694" y="2689"/>
                  </a:lnTo>
                  <a:lnTo>
                    <a:pt x="2704" y="2670"/>
                  </a:lnTo>
                  <a:lnTo>
                    <a:pt x="2713" y="2652"/>
                  </a:lnTo>
                  <a:lnTo>
                    <a:pt x="2723" y="2633"/>
                  </a:lnTo>
                  <a:lnTo>
                    <a:pt x="2733" y="2615"/>
                  </a:lnTo>
                  <a:lnTo>
                    <a:pt x="2740" y="2594"/>
                  </a:lnTo>
                  <a:lnTo>
                    <a:pt x="2748" y="2575"/>
                  </a:lnTo>
                  <a:lnTo>
                    <a:pt x="2754" y="2555"/>
                  </a:lnTo>
                  <a:lnTo>
                    <a:pt x="2762" y="2536"/>
                  </a:lnTo>
                  <a:lnTo>
                    <a:pt x="2766" y="2515"/>
                  </a:lnTo>
                  <a:lnTo>
                    <a:pt x="2771" y="2495"/>
                  </a:lnTo>
                  <a:lnTo>
                    <a:pt x="2775" y="2474"/>
                  </a:lnTo>
                  <a:lnTo>
                    <a:pt x="2781" y="2454"/>
                  </a:lnTo>
                  <a:lnTo>
                    <a:pt x="2785" y="2433"/>
                  </a:lnTo>
                  <a:lnTo>
                    <a:pt x="2791" y="2414"/>
                  </a:lnTo>
                  <a:lnTo>
                    <a:pt x="2795" y="2392"/>
                  </a:lnTo>
                  <a:lnTo>
                    <a:pt x="2801" y="2373"/>
                  </a:lnTo>
                  <a:lnTo>
                    <a:pt x="2801" y="2361"/>
                  </a:lnTo>
                  <a:lnTo>
                    <a:pt x="2803" y="2350"/>
                  </a:lnTo>
                  <a:lnTo>
                    <a:pt x="2803" y="2338"/>
                  </a:lnTo>
                  <a:lnTo>
                    <a:pt x="2804" y="2326"/>
                  </a:lnTo>
                  <a:lnTo>
                    <a:pt x="2804" y="2315"/>
                  </a:lnTo>
                  <a:lnTo>
                    <a:pt x="2804" y="2303"/>
                  </a:lnTo>
                  <a:lnTo>
                    <a:pt x="2804" y="2292"/>
                  </a:lnTo>
                  <a:lnTo>
                    <a:pt x="2804" y="2282"/>
                  </a:lnTo>
                  <a:lnTo>
                    <a:pt x="2803" y="2270"/>
                  </a:lnTo>
                  <a:lnTo>
                    <a:pt x="2801" y="2259"/>
                  </a:lnTo>
                  <a:lnTo>
                    <a:pt x="2799" y="2247"/>
                  </a:lnTo>
                  <a:lnTo>
                    <a:pt x="2799" y="2235"/>
                  </a:lnTo>
                  <a:lnTo>
                    <a:pt x="2795" y="2214"/>
                  </a:lnTo>
                  <a:lnTo>
                    <a:pt x="2793" y="2195"/>
                  </a:lnTo>
                  <a:lnTo>
                    <a:pt x="2789" y="2183"/>
                  </a:lnTo>
                  <a:lnTo>
                    <a:pt x="2785" y="2171"/>
                  </a:lnTo>
                  <a:lnTo>
                    <a:pt x="2781" y="2162"/>
                  </a:lnTo>
                  <a:lnTo>
                    <a:pt x="2777" y="2152"/>
                  </a:lnTo>
                  <a:lnTo>
                    <a:pt x="2770" y="2133"/>
                  </a:lnTo>
                  <a:lnTo>
                    <a:pt x="2762" y="2115"/>
                  </a:lnTo>
                  <a:lnTo>
                    <a:pt x="2750" y="2096"/>
                  </a:lnTo>
                  <a:lnTo>
                    <a:pt x="2740" y="2078"/>
                  </a:lnTo>
                  <a:lnTo>
                    <a:pt x="2729" y="2063"/>
                  </a:lnTo>
                  <a:lnTo>
                    <a:pt x="2719" y="2049"/>
                  </a:lnTo>
                  <a:lnTo>
                    <a:pt x="2700" y="2032"/>
                  </a:lnTo>
                  <a:lnTo>
                    <a:pt x="2680" y="2020"/>
                  </a:lnTo>
                  <a:lnTo>
                    <a:pt x="2669" y="2014"/>
                  </a:lnTo>
                  <a:lnTo>
                    <a:pt x="2659" y="2008"/>
                  </a:lnTo>
                  <a:lnTo>
                    <a:pt x="2647" y="2005"/>
                  </a:lnTo>
                  <a:lnTo>
                    <a:pt x="2638" y="2001"/>
                  </a:lnTo>
                  <a:lnTo>
                    <a:pt x="2626" y="1995"/>
                  </a:lnTo>
                  <a:lnTo>
                    <a:pt x="2614" y="1993"/>
                  </a:lnTo>
                  <a:lnTo>
                    <a:pt x="2603" y="1989"/>
                  </a:lnTo>
                  <a:lnTo>
                    <a:pt x="2591" y="1989"/>
                  </a:lnTo>
                  <a:lnTo>
                    <a:pt x="2579" y="1985"/>
                  </a:lnTo>
                  <a:lnTo>
                    <a:pt x="2568" y="1983"/>
                  </a:lnTo>
                  <a:lnTo>
                    <a:pt x="2556" y="1983"/>
                  </a:lnTo>
                  <a:lnTo>
                    <a:pt x="2545" y="1983"/>
                  </a:lnTo>
                  <a:lnTo>
                    <a:pt x="2531" y="1981"/>
                  </a:lnTo>
                  <a:lnTo>
                    <a:pt x="2519" y="1981"/>
                  </a:lnTo>
                  <a:lnTo>
                    <a:pt x="2506" y="1981"/>
                  </a:lnTo>
                  <a:lnTo>
                    <a:pt x="2494" y="1981"/>
                  </a:lnTo>
                  <a:lnTo>
                    <a:pt x="2483" y="1981"/>
                  </a:lnTo>
                  <a:lnTo>
                    <a:pt x="2471" y="1983"/>
                  </a:lnTo>
                  <a:lnTo>
                    <a:pt x="2459" y="1985"/>
                  </a:lnTo>
                  <a:lnTo>
                    <a:pt x="2448" y="1987"/>
                  </a:lnTo>
                  <a:lnTo>
                    <a:pt x="2434" y="1987"/>
                  </a:lnTo>
                  <a:lnTo>
                    <a:pt x="2422" y="1991"/>
                  </a:lnTo>
                  <a:lnTo>
                    <a:pt x="2411" y="1993"/>
                  </a:lnTo>
                  <a:lnTo>
                    <a:pt x="2399" y="1997"/>
                  </a:lnTo>
                  <a:lnTo>
                    <a:pt x="2388" y="2001"/>
                  </a:lnTo>
                  <a:lnTo>
                    <a:pt x="2376" y="2005"/>
                  </a:lnTo>
                  <a:lnTo>
                    <a:pt x="2366" y="2008"/>
                  </a:lnTo>
                  <a:lnTo>
                    <a:pt x="2356" y="2014"/>
                  </a:lnTo>
                  <a:lnTo>
                    <a:pt x="2347" y="1997"/>
                  </a:lnTo>
                  <a:lnTo>
                    <a:pt x="2337" y="1981"/>
                  </a:lnTo>
                  <a:lnTo>
                    <a:pt x="2327" y="1966"/>
                  </a:lnTo>
                  <a:lnTo>
                    <a:pt x="2318" y="1952"/>
                  </a:lnTo>
                  <a:lnTo>
                    <a:pt x="2306" y="1937"/>
                  </a:lnTo>
                  <a:lnTo>
                    <a:pt x="2294" y="1923"/>
                  </a:lnTo>
                  <a:lnTo>
                    <a:pt x="2281" y="1912"/>
                  </a:lnTo>
                  <a:lnTo>
                    <a:pt x="2269" y="1900"/>
                  </a:lnTo>
                  <a:lnTo>
                    <a:pt x="2163" y="1844"/>
                  </a:lnTo>
                  <a:lnTo>
                    <a:pt x="2060" y="1993"/>
                  </a:lnTo>
                  <a:lnTo>
                    <a:pt x="2075" y="2005"/>
                  </a:lnTo>
                  <a:lnTo>
                    <a:pt x="2093" y="2016"/>
                  </a:lnTo>
                  <a:lnTo>
                    <a:pt x="2108" y="2028"/>
                  </a:lnTo>
                  <a:lnTo>
                    <a:pt x="2124" y="2043"/>
                  </a:lnTo>
                  <a:lnTo>
                    <a:pt x="2135" y="2059"/>
                  </a:lnTo>
                  <a:lnTo>
                    <a:pt x="2149" y="2074"/>
                  </a:lnTo>
                  <a:lnTo>
                    <a:pt x="2159" y="2092"/>
                  </a:lnTo>
                  <a:lnTo>
                    <a:pt x="2166" y="2113"/>
                  </a:lnTo>
                  <a:lnTo>
                    <a:pt x="2153" y="2100"/>
                  </a:lnTo>
                  <a:lnTo>
                    <a:pt x="2141" y="2088"/>
                  </a:lnTo>
                  <a:lnTo>
                    <a:pt x="2132" y="2072"/>
                  </a:lnTo>
                  <a:lnTo>
                    <a:pt x="2122" y="2059"/>
                  </a:lnTo>
                  <a:lnTo>
                    <a:pt x="2110" y="2045"/>
                  </a:lnTo>
                  <a:lnTo>
                    <a:pt x="2099" y="2034"/>
                  </a:lnTo>
                  <a:lnTo>
                    <a:pt x="2085" y="2022"/>
                  </a:lnTo>
                  <a:lnTo>
                    <a:pt x="2069" y="2016"/>
                  </a:lnTo>
                  <a:lnTo>
                    <a:pt x="2056" y="2010"/>
                  </a:lnTo>
                  <a:lnTo>
                    <a:pt x="2042" y="2010"/>
                  </a:lnTo>
                  <a:lnTo>
                    <a:pt x="2027" y="2008"/>
                  </a:lnTo>
                  <a:lnTo>
                    <a:pt x="2015" y="2007"/>
                  </a:lnTo>
                  <a:lnTo>
                    <a:pt x="2011" y="1997"/>
                  </a:lnTo>
                  <a:lnTo>
                    <a:pt x="2009" y="1989"/>
                  </a:lnTo>
                  <a:lnTo>
                    <a:pt x="1841" y="19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2867040" y="4346280"/>
              <a:ext cx="334800" cy="474480"/>
            </a:xfrm>
            <a:custGeom>
              <a:avLst/>
              <a:gdLst/>
              <a:ahLst/>
              <a:rect l="l" t="t" r="r" b="b"/>
              <a:pathLst>
                <a:path w="421" h="599">
                  <a:moveTo>
                    <a:pt x="223" y="586"/>
                  </a:moveTo>
                  <a:lnTo>
                    <a:pt x="204" y="590"/>
                  </a:lnTo>
                  <a:lnTo>
                    <a:pt x="184" y="595"/>
                  </a:lnTo>
                  <a:lnTo>
                    <a:pt x="163" y="597"/>
                  </a:lnTo>
                  <a:lnTo>
                    <a:pt x="144" y="599"/>
                  </a:lnTo>
                  <a:lnTo>
                    <a:pt x="132" y="597"/>
                  </a:lnTo>
                  <a:lnTo>
                    <a:pt x="120" y="595"/>
                  </a:lnTo>
                  <a:lnTo>
                    <a:pt x="111" y="591"/>
                  </a:lnTo>
                  <a:lnTo>
                    <a:pt x="101" y="590"/>
                  </a:lnTo>
                  <a:lnTo>
                    <a:pt x="84" y="580"/>
                  </a:lnTo>
                  <a:lnTo>
                    <a:pt x="70" y="570"/>
                  </a:lnTo>
                  <a:lnTo>
                    <a:pt x="53" y="555"/>
                  </a:lnTo>
                  <a:lnTo>
                    <a:pt x="39" y="539"/>
                  </a:lnTo>
                  <a:lnTo>
                    <a:pt x="27" y="522"/>
                  </a:lnTo>
                  <a:lnTo>
                    <a:pt x="20" y="504"/>
                  </a:lnTo>
                  <a:lnTo>
                    <a:pt x="12" y="483"/>
                  </a:lnTo>
                  <a:lnTo>
                    <a:pt x="6" y="463"/>
                  </a:lnTo>
                  <a:lnTo>
                    <a:pt x="4" y="452"/>
                  </a:lnTo>
                  <a:lnTo>
                    <a:pt x="2" y="442"/>
                  </a:lnTo>
                  <a:lnTo>
                    <a:pt x="2" y="431"/>
                  </a:lnTo>
                  <a:lnTo>
                    <a:pt x="2" y="421"/>
                  </a:lnTo>
                  <a:lnTo>
                    <a:pt x="0" y="409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6"/>
                  </a:lnTo>
                  <a:lnTo>
                    <a:pt x="0" y="365"/>
                  </a:lnTo>
                  <a:lnTo>
                    <a:pt x="2" y="353"/>
                  </a:lnTo>
                  <a:lnTo>
                    <a:pt x="2" y="341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6" y="308"/>
                  </a:lnTo>
                  <a:lnTo>
                    <a:pt x="8" y="299"/>
                  </a:lnTo>
                  <a:lnTo>
                    <a:pt x="10" y="289"/>
                  </a:lnTo>
                  <a:lnTo>
                    <a:pt x="14" y="268"/>
                  </a:lnTo>
                  <a:lnTo>
                    <a:pt x="20" y="250"/>
                  </a:lnTo>
                  <a:lnTo>
                    <a:pt x="23" y="231"/>
                  </a:lnTo>
                  <a:lnTo>
                    <a:pt x="29" y="211"/>
                  </a:lnTo>
                  <a:lnTo>
                    <a:pt x="35" y="192"/>
                  </a:lnTo>
                  <a:lnTo>
                    <a:pt x="45" y="175"/>
                  </a:lnTo>
                  <a:lnTo>
                    <a:pt x="53" y="155"/>
                  </a:lnTo>
                  <a:lnTo>
                    <a:pt x="62" y="138"/>
                  </a:lnTo>
                  <a:lnTo>
                    <a:pt x="74" y="120"/>
                  </a:lnTo>
                  <a:lnTo>
                    <a:pt x="87" y="105"/>
                  </a:lnTo>
                  <a:lnTo>
                    <a:pt x="99" y="87"/>
                  </a:lnTo>
                  <a:lnTo>
                    <a:pt x="113" y="72"/>
                  </a:lnTo>
                  <a:lnTo>
                    <a:pt x="126" y="56"/>
                  </a:lnTo>
                  <a:lnTo>
                    <a:pt x="144" y="45"/>
                  </a:lnTo>
                  <a:lnTo>
                    <a:pt x="159" y="33"/>
                  </a:lnTo>
                  <a:lnTo>
                    <a:pt x="177" y="21"/>
                  </a:lnTo>
                  <a:lnTo>
                    <a:pt x="194" y="10"/>
                  </a:lnTo>
                  <a:lnTo>
                    <a:pt x="214" y="4"/>
                  </a:lnTo>
                  <a:lnTo>
                    <a:pt x="225" y="2"/>
                  </a:lnTo>
                  <a:lnTo>
                    <a:pt x="237" y="0"/>
                  </a:lnTo>
                  <a:lnTo>
                    <a:pt x="248" y="0"/>
                  </a:lnTo>
                  <a:lnTo>
                    <a:pt x="260" y="0"/>
                  </a:lnTo>
                  <a:lnTo>
                    <a:pt x="272" y="0"/>
                  </a:lnTo>
                  <a:lnTo>
                    <a:pt x="283" y="2"/>
                  </a:lnTo>
                  <a:lnTo>
                    <a:pt x="295" y="4"/>
                  </a:lnTo>
                  <a:lnTo>
                    <a:pt x="307" y="10"/>
                  </a:lnTo>
                  <a:lnTo>
                    <a:pt x="326" y="16"/>
                  </a:lnTo>
                  <a:lnTo>
                    <a:pt x="347" y="29"/>
                  </a:lnTo>
                  <a:lnTo>
                    <a:pt x="365" y="43"/>
                  </a:lnTo>
                  <a:lnTo>
                    <a:pt x="384" y="62"/>
                  </a:lnTo>
                  <a:lnTo>
                    <a:pt x="392" y="74"/>
                  </a:lnTo>
                  <a:lnTo>
                    <a:pt x="402" y="85"/>
                  </a:lnTo>
                  <a:lnTo>
                    <a:pt x="407" y="99"/>
                  </a:lnTo>
                  <a:lnTo>
                    <a:pt x="413" y="113"/>
                  </a:lnTo>
                  <a:lnTo>
                    <a:pt x="415" y="126"/>
                  </a:lnTo>
                  <a:lnTo>
                    <a:pt x="419" y="142"/>
                  </a:lnTo>
                  <a:lnTo>
                    <a:pt x="419" y="157"/>
                  </a:lnTo>
                  <a:lnTo>
                    <a:pt x="421" y="175"/>
                  </a:lnTo>
                  <a:lnTo>
                    <a:pt x="419" y="188"/>
                  </a:lnTo>
                  <a:lnTo>
                    <a:pt x="419" y="204"/>
                  </a:lnTo>
                  <a:lnTo>
                    <a:pt x="417" y="219"/>
                  </a:lnTo>
                  <a:lnTo>
                    <a:pt x="417" y="237"/>
                  </a:lnTo>
                  <a:lnTo>
                    <a:pt x="415" y="252"/>
                  </a:lnTo>
                  <a:lnTo>
                    <a:pt x="415" y="270"/>
                  </a:lnTo>
                  <a:lnTo>
                    <a:pt x="415" y="285"/>
                  </a:lnTo>
                  <a:lnTo>
                    <a:pt x="415" y="303"/>
                  </a:lnTo>
                  <a:lnTo>
                    <a:pt x="409" y="322"/>
                  </a:lnTo>
                  <a:lnTo>
                    <a:pt x="404" y="343"/>
                  </a:lnTo>
                  <a:lnTo>
                    <a:pt x="396" y="363"/>
                  </a:lnTo>
                  <a:lnTo>
                    <a:pt x="388" y="384"/>
                  </a:lnTo>
                  <a:lnTo>
                    <a:pt x="378" y="403"/>
                  </a:lnTo>
                  <a:lnTo>
                    <a:pt x="371" y="423"/>
                  </a:lnTo>
                  <a:lnTo>
                    <a:pt x="359" y="442"/>
                  </a:lnTo>
                  <a:lnTo>
                    <a:pt x="349" y="463"/>
                  </a:lnTo>
                  <a:lnTo>
                    <a:pt x="336" y="481"/>
                  </a:lnTo>
                  <a:lnTo>
                    <a:pt x="322" y="498"/>
                  </a:lnTo>
                  <a:lnTo>
                    <a:pt x="307" y="514"/>
                  </a:lnTo>
                  <a:lnTo>
                    <a:pt x="293" y="531"/>
                  </a:lnTo>
                  <a:lnTo>
                    <a:pt x="276" y="545"/>
                  </a:lnTo>
                  <a:lnTo>
                    <a:pt x="258" y="560"/>
                  </a:lnTo>
                  <a:lnTo>
                    <a:pt x="241" y="572"/>
                  </a:lnTo>
                  <a:lnTo>
                    <a:pt x="223" y="5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138480" y="4541760"/>
              <a:ext cx="44280" cy="85320"/>
            </a:xfrm>
            <a:custGeom>
              <a:avLst/>
              <a:gdLst/>
              <a:ahLst/>
              <a:rect l="l" t="t" r="r" b="b"/>
              <a:pathLst>
                <a:path w="56" h="109">
                  <a:moveTo>
                    <a:pt x="23" y="109"/>
                  </a:moveTo>
                  <a:lnTo>
                    <a:pt x="9" y="99"/>
                  </a:lnTo>
                  <a:lnTo>
                    <a:pt x="1" y="90"/>
                  </a:lnTo>
                  <a:lnTo>
                    <a:pt x="0" y="76"/>
                  </a:lnTo>
                  <a:lnTo>
                    <a:pt x="1" y="64"/>
                  </a:lnTo>
                  <a:lnTo>
                    <a:pt x="3" y="49"/>
                  </a:lnTo>
                  <a:lnTo>
                    <a:pt x="7" y="35"/>
                  </a:lnTo>
                  <a:lnTo>
                    <a:pt x="9" y="22"/>
                  </a:lnTo>
                  <a:lnTo>
                    <a:pt x="9" y="10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2" y="14"/>
                  </a:lnTo>
                  <a:lnTo>
                    <a:pt x="56" y="29"/>
                  </a:lnTo>
                  <a:lnTo>
                    <a:pt x="56" y="45"/>
                  </a:lnTo>
                  <a:lnTo>
                    <a:pt x="54" y="60"/>
                  </a:lnTo>
                  <a:lnTo>
                    <a:pt x="48" y="74"/>
                  </a:lnTo>
                  <a:lnTo>
                    <a:pt x="42" y="88"/>
                  </a:lnTo>
                  <a:lnTo>
                    <a:pt x="32" y="97"/>
                  </a:lnTo>
                  <a:lnTo>
                    <a:pt x="23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152520" y="4554360"/>
              <a:ext cx="19080" cy="5832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6" y="73"/>
                  </a:moveTo>
                  <a:lnTo>
                    <a:pt x="0" y="58"/>
                  </a:lnTo>
                  <a:lnTo>
                    <a:pt x="2" y="39"/>
                  </a:lnTo>
                  <a:lnTo>
                    <a:pt x="2" y="17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1" y="19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6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016080" y="4516200"/>
              <a:ext cx="103320" cy="131400"/>
            </a:xfrm>
            <a:custGeom>
              <a:avLst/>
              <a:gdLst/>
              <a:ahLst/>
              <a:rect l="l" t="t" r="r" b="b"/>
              <a:pathLst>
                <a:path w="130" h="165">
                  <a:moveTo>
                    <a:pt x="111" y="142"/>
                  </a:moveTo>
                  <a:lnTo>
                    <a:pt x="95" y="152"/>
                  </a:lnTo>
                  <a:lnTo>
                    <a:pt x="80" y="161"/>
                  </a:lnTo>
                  <a:lnTo>
                    <a:pt x="62" y="165"/>
                  </a:lnTo>
                  <a:lnTo>
                    <a:pt x="47" y="161"/>
                  </a:lnTo>
                  <a:lnTo>
                    <a:pt x="29" y="155"/>
                  </a:lnTo>
                  <a:lnTo>
                    <a:pt x="18" y="146"/>
                  </a:lnTo>
                  <a:lnTo>
                    <a:pt x="8" y="132"/>
                  </a:lnTo>
                  <a:lnTo>
                    <a:pt x="2" y="119"/>
                  </a:lnTo>
                  <a:lnTo>
                    <a:pt x="0" y="101"/>
                  </a:lnTo>
                  <a:lnTo>
                    <a:pt x="0" y="84"/>
                  </a:lnTo>
                  <a:lnTo>
                    <a:pt x="4" y="66"/>
                  </a:lnTo>
                  <a:lnTo>
                    <a:pt x="12" y="51"/>
                  </a:lnTo>
                  <a:lnTo>
                    <a:pt x="18" y="35"/>
                  </a:lnTo>
                  <a:lnTo>
                    <a:pt x="27" y="24"/>
                  </a:lnTo>
                  <a:lnTo>
                    <a:pt x="39" y="12"/>
                  </a:lnTo>
                  <a:lnTo>
                    <a:pt x="57" y="4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5" y="6"/>
                  </a:lnTo>
                  <a:lnTo>
                    <a:pt x="109" y="18"/>
                  </a:lnTo>
                  <a:lnTo>
                    <a:pt x="117" y="29"/>
                  </a:lnTo>
                  <a:lnTo>
                    <a:pt x="124" y="45"/>
                  </a:lnTo>
                  <a:lnTo>
                    <a:pt x="128" y="62"/>
                  </a:lnTo>
                  <a:lnTo>
                    <a:pt x="130" y="80"/>
                  </a:lnTo>
                  <a:lnTo>
                    <a:pt x="128" y="95"/>
                  </a:lnTo>
                  <a:lnTo>
                    <a:pt x="124" y="111"/>
                  </a:lnTo>
                  <a:lnTo>
                    <a:pt x="119" y="126"/>
                  </a:lnTo>
                  <a:lnTo>
                    <a:pt x="11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027240" y="4670280"/>
              <a:ext cx="85680" cy="90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45" y="115"/>
                  </a:moveTo>
                  <a:lnTo>
                    <a:pt x="31" y="113"/>
                  </a:lnTo>
                  <a:lnTo>
                    <a:pt x="19" y="111"/>
                  </a:lnTo>
                  <a:lnTo>
                    <a:pt x="8" y="105"/>
                  </a:lnTo>
                  <a:lnTo>
                    <a:pt x="4" y="97"/>
                  </a:lnTo>
                  <a:lnTo>
                    <a:pt x="0" y="80"/>
                  </a:lnTo>
                  <a:lnTo>
                    <a:pt x="2" y="66"/>
                  </a:lnTo>
                  <a:lnTo>
                    <a:pt x="6" y="49"/>
                  </a:lnTo>
                  <a:lnTo>
                    <a:pt x="12" y="35"/>
                  </a:lnTo>
                  <a:lnTo>
                    <a:pt x="21" y="27"/>
                  </a:lnTo>
                  <a:lnTo>
                    <a:pt x="35" y="27"/>
                  </a:lnTo>
                  <a:lnTo>
                    <a:pt x="48" y="27"/>
                  </a:lnTo>
                  <a:lnTo>
                    <a:pt x="62" y="31"/>
                  </a:lnTo>
                  <a:lnTo>
                    <a:pt x="70" y="20"/>
                  </a:lnTo>
                  <a:lnTo>
                    <a:pt x="79" y="10"/>
                  </a:lnTo>
                  <a:lnTo>
                    <a:pt x="89" y="0"/>
                  </a:lnTo>
                  <a:lnTo>
                    <a:pt x="105" y="2"/>
                  </a:lnTo>
                  <a:lnTo>
                    <a:pt x="108" y="20"/>
                  </a:lnTo>
                  <a:lnTo>
                    <a:pt x="107" y="39"/>
                  </a:lnTo>
                  <a:lnTo>
                    <a:pt x="101" y="58"/>
                  </a:lnTo>
                  <a:lnTo>
                    <a:pt x="95" y="80"/>
                  </a:lnTo>
                  <a:lnTo>
                    <a:pt x="83" y="91"/>
                  </a:lnTo>
                  <a:lnTo>
                    <a:pt x="72" y="101"/>
                  </a:lnTo>
                  <a:lnTo>
                    <a:pt x="58" y="107"/>
                  </a:lnTo>
                  <a:lnTo>
                    <a:pt x="45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027240" y="4528800"/>
              <a:ext cx="76320" cy="9180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89" y="75"/>
                  </a:moveTo>
                  <a:lnTo>
                    <a:pt x="87" y="60"/>
                  </a:lnTo>
                  <a:lnTo>
                    <a:pt x="89" y="46"/>
                  </a:lnTo>
                  <a:lnTo>
                    <a:pt x="87" y="33"/>
                  </a:lnTo>
                  <a:lnTo>
                    <a:pt x="77" y="25"/>
                  </a:lnTo>
                  <a:lnTo>
                    <a:pt x="58" y="29"/>
                  </a:lnTo>
                  <a:lnTo>
                    <a:pt x="43" y="37"/>
                  </a:lnTo>
                  <a:lnTo>
                    <a:pt x="35" y="41"/>
                  </a:lnTo>
                  <a:lnTo>
                    <a:pt x="31" y="46"/>
                  </a:lnTo>
                  <a:lnTo>
                    <a:pt x="27" y="54"/>
                  </a:lnTo>
                  <a:lnTo>
                    <a:pt x="27" y="68"/>
                  </a:lnTo>
                  <a:lnTo>
                    <a:pt x="27" y="83"/>
                  </a:lnTo>
                  <a:lnTo>
                    <a:pt x="35" y="97"/>
                  </a:lnTo>
                  <a:lnTo>
                    <a:pt x="48" y="105"/>
                  </a:lnTo>
                  <a:lnTo>
                    <a:pt x="62" y="112"/>
                  </a:lnTo>
                  <a:lnTo>
                    <a:pt x="46" y="116"/>
                  </a:lnTo>
                  <a:lnTo>
                    <a:pt x="33" y="114"/>
                  </a:lnTo>
                  <a:lnTo>
                    <a:pt x="17" y="108"/>
                  </a:lnTo>
                  <a:lnTo>
                    <a:pt x="6" y="105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3" y="31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37" y="4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70" y="11"/>
                  </a:lnTo>
                  <a:lnTo>
                    <a:pt x="81" y="19"/>
                  </a:lnTo>
                  <a:lnTo>
                    <a:pt x="91" y="27"/>
                  </a:lnTo>
                  <a:lnTo>
                    <a:pt x="97" y="41"/>
                  </a:lnTo>
                  <a:lnTo>
                    <a:pt x="95" y="58"/>
                  </a:lnTo>
                  <a:lnTo>
                    <a:pt x="89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038400" y="4687560"/>
              <a:ext cx="63360" cy="6336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9" y="73"/>
                  </a:moveTo>
                  <a:lnTo>
                    <a:pt x="37" y="75"/>
                  </a:lnTo>
                  <a:lnTo>
                    <a:pt x="28" y="79"/>
                  </a:lnTo>
                  <a:lnTo>
                    <a:pt x="16" y="79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4" y="36"/>
                  </a:lnTo>
                  <a:lnTo>
                    <a:pt x="10" y="27"/>
                  </a:lnTo>
                  <a:lnTo>
                    <a:pt x="20" y="23"/>
                  </a:lnTo>
                  <a:lnTo>
                    <a:pt x="32" y="21"/>
                  </a:lnTo>
                  <a:lnTo>
                    <a:pt x="43" y="21"/>
                  </a:lnTo>
                  <a:lnTo>
                    <a:pt x="53" y="19"/>
                  </a:lnTo>
                  <a:lnTo>
                    <a:pt x="64" y="17"/>
                  </a:lnTo>
                  <a:lnTo>
                    <a:pt x="74" y="11"/>
                  </a:lnTo>
                  <a:lnTo>
                    <a:pt x="82" y="0"/>
                  </a:lnTo>
                  <a:lnTo>
                    <a:pt x="76" y="19"/>
                  </a:lnTo>
                  <a:lnTo>
                    <a:pt x="72" y="40"/>
                  </a:lnTo>
                  <a:lnTo>
                    <a:pt x="63" y="58"/>
                  </a:lnTo>
                  <a:lnTo>
                    <a:pt x="49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070080" y="4563720"/>
              <a:ext cx="12600" cy="3168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4" y="39"/>
                  </a:moveTo>
                  <a:lnTo>
                    <a:pt x="4" y="39"/>
                  </a:lnTo>
                  <a:lnTo>
                    <a:pt x="2" y="35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1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6" y="16"/>
                  </a:lnTo>
                  <a:lnTo>
                    <a:pt x="14" y="28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909880" y="4449600"/>
              <a:ext cx="83880" cy="204480"/>
            </a:xfrm>
            <a:custGeom>
              <a:avLst/>
              <a:gdLst/>
              <a:ahLst/>
              <a:rect l="l" t="t" r="r" b="b"/>
              <a:pathLst>
                <a:path w="104" h="258">
                  <a:moveTo>
                    <a:pt x="104" y="149"/>
                  </a:moveTo>
                  <a:lnTo>
                    <a:pt x="102" y="163"/>
                  </a:lnTo>
                  <a:lnTo>
                    <a:pt x="102" y="178"/>
                  </a:lnTo>
                  <a:lnTo>
                    <a:pt x="98" y="192"/>
                  </a:lnTo>
                  <a:lnTo>
                    <a:pt x="96" y="207"/>
                  </a:lnTo>
                  <a:lnTo>
                    <a:pt x="91" y="219"/>
                  </a:lnTo>
                  <a:lnTo>
                    <a:pt x="85" y="233"/>
                  </a:lnTo>
                  <a:lnTo>
                    <a:pt x="77" y="244"/>
                  </a:lnTo>
                  <a:lnTo>
                    <a:pt x="67" y="258"/>
                  </a:lnTo>
                  <a:lnTo>
                    <a:pt x="52" y="258"/>
                  </a:lnTo>
                  <a:lnTo>
                    <a:pt x="38" y="254"/>
                  </a:lnTo>
                  <a:lnTo>
                    <a:pt x="25" y="244"/>
                  </a:lnTo>
                  <a:lnTo>
                    <a:pt x="19" y="233"/>
                  </a:lnTo>
                  <a:lnTo>
                    <a:pt x="13" y="219"/>
                  </a:lnTo>
                  <a:lnTo>
                    <a:pt x="9" y="207"/>
                  </a:lnTo>
                  <a:lnTo>
                    <a:pt x="5" y="194"/>
                  </a:lnTo>
                  <a:lnTo>
                    <a:pt x="3" y="180"/>
                  </a:lnTo>
                  <a:lnTo>
                    <a:pt x="1" y="165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1" y="126"/>
                  </a:lnTo>
                  <a:lnTo>
                    <a:pt x="1" y="110"/>
                  </a:lnTo>
                  <a:lnTo>
                    <a:pt x="5" y="97"/>
                  </a:lnTo>
                  <a:lnTo>
                    <a:pt x="7" y="81"/>
                  </a:lnTo>
                  <a:lnTo>
                    <a:pt x="13" y="70"/>
                  </a:lnTo>
                  <a:lnTo>
                    <a:pt x="17" y="58"/>
                  </a:lnTo>
                  <a:lnTo>
                    <a:pt x="23" y="46"/>
                  </a:lnTo>
                  <a:lnTo>
                    <a:pt x="29" y="35"/>
                  </a:lnTo>
                  <a:lnTo>
                    <a:pt x="38" y="25"/>
                  </a:lnTo>
                  <a:lnTo>
                    <a:pt x="48" y="14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89" y="2"/>
                  </a:lnTo>
                  <a:lnTo>
                    <a:pt x="98" y="14"/>
                  </a:lnTo>
                  <a:lnTo>
                    <a:pt x="104" y="29"/>
                  </a:lnTo>
                  <a:lnTo>
                    <a:pt x="102" y="43"/>
                  </a:lnTo>
                  <a:lnTo>
                    <a:pt x="98" y="58"/>
                  </a:lnTo>
                  <a:lnTo>
                    <a:pt x="91" y="72"/>
                  </a:lnTo>
                  <a:lnTo>
                    <a:pt x="85" y="87"/>
                  </a:lnTo>
                  <a:lnTo>
                    <a:pt x="81" y="105"/>
                  </a:lnTo>
                  <a:lnTo>
                    <a:pt x="83" y="122"/>
                  </a:lnTo>
                  <a:lnTo>
                    <a:pt x="104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2923920" y="4458960"/>
              <a:ext cx="59040" cy="185400"/>
            </a:xfrm>
            <a:custGeom>
              <a:avLst/>
              <a:gdLst/>
              <a:ahLst/>
              <a:rect l="l" t="t" r="r" b="b"/>
              <a:pathLst>
                <a:path w="74" h="232">
                  <a:moveTo>
                    <a:pt x="74" y="141"/>
                  </a:moveTo>
                  <a:lnTo>
                    <a:pt x="70" y="153"/>
                  </a:lnTo>
                  <a:lnTo>
                    <a:pt x="68" y="164"/>
                  </a:lnTo>
                  <a:lnTo>
                    <a:pt x="66" y="176"/>
                  </a:lnTo>
                  <a:lnTo>
                    <a:pt x="64" y="190"/>
                  </a:lnTo>
                  <a:lnTo>
                    <a:pt x="60" y="199"/>
                  </a:lnTo>
                  <a:lnTo>
                    <a:pt x="56" y="211"/>
                  </a:lnTo>
                  <a:lnTo>
                    <a:pt x="50" y="221"/>
                  </a:lnTo>
                  <a:lnTo>
                    <a:pt x="43" y="232"/>
                  </a:lnTo>
                  <a:lnTo>
                    <a:pt x="29" y="226"/>
                  </a:lnTo>
                  <a:lnTo>
                    <a:pt x="19" y="219"/>
                  </a:lnTo>
                  <a:lnTo>
                    <a:pt x="12" y="207"/>
                  </a:lnTo>
                  <a:lnTo>
                    <a:pt x="10" y="197"/>
                  </a:lnTo>
                  <a:lnTo>
                    <a:pt x="4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3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2" y="100"/>
                  </a:lnTo>
                  <a:lnTo>
                    <a:pt x="4" y="79"/>
                  </a:lnTo>
                  <a:lnTo>
                    <a:pt x="12" y="62"/>
                  </a:lnTo>
                  <a:lnTo>
                    <a:pt x="17" y="42"/>
                  </a:lnTo>
                  <a:lnTo>
                    <a:pt x="27" y="27"/>
                  </a:lnTo>
                  <a:lnTo>
                    <a:pt x="39" y="11"/>
                  </a:lnTo>
                  <a:lnTo>
                    <a:pt x="58" y="0"/>
                  </a:lnTo>
                  <a:lnTo>
                    <a:pt x="68" y="7"/>
                  </a:lnTo>
                  <a:lnTo>
                    <a:pt x="74" y="19"/>
                  </a:lnTo>
                  <a:lnTo>
                    <a:pt x="72" y="31"/>
                  </a:lnTo>
                  <a:lnTo>
                    <a:pt x="68" y="42"/>
                  </a:lnTo>
                  <a:lnTo>
                    <a:pt x="62" y="54"/>
                  </a:lnTo>
                  <a:lnTo>
                    <a:pt x="56" y="65"/>
                  </a:lnTo>
                  <a:lnTo>
                    <a:pt x="52" y="77"/>
                  </a:lnTo>
                  <a:lnTo>
                    <a:pt x="54" y="91"/>
                  </a:lnTo>
                  <a:lnTo>
                    <a:pt x="52" y="104"/>
                  </a:lnTo>
                  <a:lnTo>
                    <a:pt x="56" y="118"/>
                  </a:lnTo>
                  <a:lnTo>
                    <a:pt x="64" y="129"/>
                  </a:lnTo>
                  <a:lnTo>
                    <a:pt x="74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2908080" y="4348080"/>
              <a:ext cx="14400" cy="10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4"/>
                  </a:moveTo>
                  <a:lnTo>
                    <a:pt x="17" y="0"/>
                  </a:lnTo>
                  <a:lnTo>
                    <a:pt x="1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2579400" y="4062240"/>
              <a:ext cx="331920" cy="277560"/>
            </a:xfrm>
            <a:custGeom>
              <a:avLst/>
              <a:gdLst/>
              <a:ahLst/>
              <a:rect l="l" t="t" r="r" b="b"/>
              <a:pathLst>
                <a:path w="418" h="349">
                  <a:moveTo>
                    <a:pt x="368" y="307"/>
                  </a:moveTo>
                  <a:lnTo>
                    <a:pt x="358" y="316"/>
                  </a:lnTo>
                  <a:lnTo>
                    <a:pt x="349" y="330"/>
                  </a:lnTo>
                  <a:lnTo>
                    <a:pt x="337" y="340"/>
                  </a:lnTo>
                  <a:lnTo>
                    <a:pt x="325" y="349"/>
                  </a:lnTo>
                  <a:lnTo>
                    <a:pt x="320" y="334"/>
                  </a:lnTo>
                  <a:lnTo>
                    <a:pt x="314" y="320"/>
                  </a:lnTo>
                  <a:lnTo>
                    <a:pt x="308" y="307"/>
                  </a:lnTo>
                  <a:lnTo>
                    <a:pt x="302" y="295"/>
                  </a:lnTo>
                  <a:lnTo>
                    <a:pt x="294" y="283"/>
                  </a:lnTo>
                  <a:lnTo>
                    <a:pt x="287" y="272"/>
                  </a:lnTo>
                  <a:lnTo>
                    <a:pt x="279" y="262"/>
                  </a:lnTo>
                  <a:lnTo>
                    <a:pt x="271" y="252"/>
                  </a:lnTo>
                  <a:lnTo>
                    <a:pt x="252" y="233"/>
                  </a:lnTo>
                  <a:lnTo>
                    <a:pt x="232" y="216"/>
                  </a:lnTo>
                  <a:lnTo>
                    <a:pt x="221" y="208"/>
                  </a:lnTo>
                  <a:lnTo>
                    <a:pt x="211" y="200"/>
                  </a:lnTo>
                  <a:lnTo>
                    <a:pt x="199" y="192"/>
                  </a:lnTo>
                  <a:lnTo>
                    <a:pt x="190" y="186"/>
                  </a:lnTo>
                  <a:lnTo>
                    <a:pt x="176" y="179"/>
                  </a:lnTo>
                  <a:lnTo>
                    <a:pt x="164" y="171"/>
                  </a:lnTo>
                  <a:lnTo>
                    <a:pt x="153" y="165"/>
                  </a:lnTo>
                  <a:lnTo>
                    <a:pt x="141" y="159"/>
                  </a:lnTo>
                  <a:lnTo>
                    <a:pt x="128" y="153"/>
                  </a:lnTo>
                  <a:lnTo>
                    <a:pt x="116" y="148"/>
                  </a:lnTo>
                  <a:lnTo>
                    <a:pt x="104" y="142"/>
                  </a:lnTo>
                  <a:lnTo>
                    <a:pt x="93" y="136"/>
                  </a:lnTo>
                  <a:lnTo>
                    <a:pt x="79" y="128"/>
                  </a:lnTo>
                  <a:lnTo>
                    <a:pt x="67" y="122"/>
                  </a:lnTo>
                  <a:lnTo>
                    <a:pt x="56" y="117"/>
                  </a:lnTo>
                  <a:lnTo>
                    <a:pt x="44" y="111"/>
                  </a:lnTo>
                  <a:lnTo>
                    <a:pt x="33" y="105"/>
                  </a:lnTo>
                  <a:lnTo>
                    <a:pt x="21" y="99"/>
                  </a:lnTo>
                  <a:lnTo>
                    <a:pt x="11" y="93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1" y="64"/>
                  </a:lnTo>
                  <a:lnTo>
                    <a:pt x="3" y="53"/>
                  </a:lnTo>
                  <a:lnTo>
                    <a:pt x="7" y="41"/>
                  </a:lnTo>
                  <a:lnTo>
                    <a:pt x="13" y="20"/>
                  </a:lnTo>
                  <a:lnTo>
                    <a:pt x="19" y="0"/>
                  </a:lnTo>
                  <a:lnTo>
                    <a:pt x="38" y="6"/>
                  </a:lnTo>
                  <a:lnTo>
                    <a:pt x="60" y="16"/>
                  </a:lnTo>
                  <a:lnTo>
                    <a:pt x="69" y="20"/>
                  </a:lnTo>
                  <a:lnTo>
                    <a:pt x="81" y="24"/>
                  </a:lnTo>
                  <a:lnTo>
                    <a:pt x="91" y="29"/>
                  </a:lnTo>
                  <a:lnTo>
                    <a:pt x="102" y="35"/>
                  </a:lnTo>
                  <a:lnTo>
                    <a:pt x="112" y="39"/>
                  </a:lnTo>
                  <a:lnTo>
                    <a:pt x="122" y="45"/>
                  </a:lnTo>
                  <a:lnTo>
                    <a:pt x="133" y="49"/>
                  </a:lnTo>
                  <a:lnTo>
                    <a:pt x="145" y="55"/>
                  </a:lnTo>
                  <a:lnTo>
                    <a:pt x="155" y="60"/>
                  </a:lnTo>
                  <a:lnTo>
                    <a:pt x="164" y="66"/>
                  </a:lnTo>
                  <a:lnTo>
                    <a:pt x="176" y="72"/>
                  </a:lnTo>
                  <a:lnTo>
                    <a:pt x="188" y="78"/>
                  </a:lnTo>
                  <a:lnTo>
                    <a:pt x="207" y="88"/>
                  </a:lnTo>
                  <a:lnTo>
                    <a:pt x="228" y="99"/>
                  </a:lnTo>
                  <a:lnTo>
                    <a:pt x="248" y="111"/>
                  </a:lnTo>
                  <a:lnTo>
                    <a:pt x="269" y="122"/>
                  </a:lnTo>
                  <a:lnTo>
                    <a:pt x="289" y="132"/>
                  </a:lnTo>
                  <a:lnTo>
                    <a:pt x="310" y="144"/>
                  </a:lnTo>
                  <a:lnTo>
                    <a:pt x="320" y="150"/>
                  </a:lnTo>
                  <a:lnTo>
                    <a:pt x="329" y="155"/>
                  </a:lnTo>
                  <a:lnTo>
                    <a:pt x="341" y="161"/>
                  </a:lnTo>
                  <a:lnTo>
                    <a:pt x="353" y="167"/>
                  </a:lnTo>
                  <a:lnTo>
                    <a:pt x="362" y="175"/>
                  </a:lnTo>
                  <a:lnTo>
                    <a:pt x="374" y="186"/>
                  </a:lnTo>
                  <a:lnTo>
                    <a:pt x="384" y="198"/>
                  </a:lnTo>
                  <a:lnTo>
                    <a:pt x="393" y="214"/>
                  </a:lnTo>
                  <a:lnTo>
                    <a:pt x="399" y="227"/>
                  </a:lnTo>
                  <a:lnTo>
                    <a:pt x="405" y="243"/>
                  </a:lnTo>
                  <a:lnTo>
                    <a:pt x="411" y="258"/>
                  </a:lnTo>
                  <a:lnTo>
                    <a:pt x="418" y="274"/>
                  </a:lnTo>
                  <a:lnTo>
                    <a:pt x="368" y="307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2884320" y="4360680"/>
              <a:ext cx="20520" cy="187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4"/>
                  </a:moveTo>
                  <a:lnTo>
                    <a:pt x="5" y="8"/>
                  </a:lnTo>
                  <a:lnTo>
                    <a:pt x="21" y="0"/>
                  </a:lnTo>
                  <a:lnTo>
                    <a:pt x="27" y="4"/>
                  </a:lnTo>
                  <a:lnTo>
                    <a:pt x="15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2862000" y="439092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lnTo>
                    <a:pt x="0" y="16"/>
                  </a:lnTo>
                  <a:lnTo>
                    <a:pt x="4" y="8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2844720" y="4446360"/>
              <a:ext cx="11160" cy="15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2" y="21"/>
                  </a:moveTo>
                  <a:lnTo>
                    <a:pt x="0" y="12"/>
                  </a:lnTo>
                  <a:lnTo>
                    <a:pt x="6" y="2"/>
                  </a:lnTo>
                  <a:lnTo>
                    <a:pt x="16" y="0"/>
                  </a:lnTo>
                  <a:lnTo>
                    <a:pt x="10" y="12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2817720" y="4474800"/>
              <a:ext cx="20520" cy="5220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4" y="66"/>
                  </a:moveTo>
                  <a:lnTo>
                    <a:pt x="0" y="50"/>
                  </a:lnTo>
                  <a:lnTo>
                    <a:pt x="4" y="35"/>
                  </a:lnTo>
                  <a:lnTo>
                    <a:pt x="10" y="17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23" y="17"/>
                  </a:lnTo>
                  <a:lnTo>
                    <a:pt x="18" y="35"/>
                  </a:lnTo>
                  <a:lnTo>
                    <a:pt x="10" y="50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2803320" y="4544640"/>
              <a:ext cx="11160" cy="378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49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9" y="12"/>
                  </a:lnTo>
                  <a:lnTo>
                    <a:pt x="7" y="23"/>
                  </a:lnTo>
                  <a:lnTo>
                    <a:pt x="2" y="3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2638440" y="4346280"/>
              <a:ext cx="164880" cy="106200"/>
            </a:xfrm>
            <a:custGeom>
              <a:avLst/>
              <a:gdLst/>
              <a:ahLst/>
              <a:rect l="l" t="t" r="r" b="b"/>
              <a:pathLst>
                <a:path w="210" h="136">
                  <a:moveTo>
                    <a:pt x="169" y="136"/>
                  </a:moveTo>
                  <a:lnTo>
                    <a:pt x="157" y="130"/>
                  </a:lnTo>
                  <a:lnTo>
                    <a:pt x="146" y="126"/>
                  </a:lnTo>
                  <a:lnTo>
                    <a:pt x="136" y="120"/>
                  </a:lnTo>
                  <a:lnTo>
                    <a:pt x="126" y="116"/>
                  </a:lnTo>
                  <a:lnTo>
                    <a:pt x="115" y="111"/>
                  </a:lnTo>
                  <a:lnTo>
                    <a:pt x="103" y="107"/>
                  </a:lnTo>
                  <a:lnTo>
                    <a:pt x="93" y="103"/>
                  </a:lnTo>
                  <a:lnTo>
                    <a:pt x="84" y="99"/>
                  </a:lnTo>
                  <a:lnTo>
                    <a:pt x="72" y="93"/>
                  </a:lnTo>
                  <a:lnTo>
                    <a:pt x="62" y="87"/>
                  </a:lnTo>
                  <a:lnTo>
                    <a:pt x="51" y="82"/>
                  </a:lnTo>
                  <a:lnTo>
                    <a:pt x="41" y="78"/>
                  </a:lnTo>
                  <a:lnTo>
                    <a:pt x="20" y="68"/>
                  </a:lnTo>
                  <a:lnTo>
                    <a:pt x="0" y="58"/>
                  </a:lnTo>
                  <a:lnTo>
                    <a:pt x="10" y="47"/>
                  </a:lnTo>
                  <a:lnTo>
                    <a:pt x="20" y="37"/>
                  </a:lnTo>
                  <a:lnTo>
                    <a:pt x="31" y="23"/>
                  </a:lnTo>
                  <a:lnTo>
                    <a:pt x="45" y="14"/>
                  </a:lnTo>
                  <a:lnTo>
                    <a:pt x="56" y="4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7" y="12"/>
                  </a:lnTo>
                  <a:lnTo>
                    <a:pt x="119" y="2"/>
                  </a:lnTo>
                  <a:lnTo>
                    <a:pt x="130" y="0"/>
                  </a:lnTo>
                  <a:lnTo>
                    <a:pt x="142" y="2"/>
                  </a:lnTo>
                  <a:lnTo>
                    <a:pt x="153" y="8"/>
                  </a:lnTo>
                  <a:lnTo>
                    <a:pt x="165" y="14"/>
                  </a:lnTo>
                  <a:lnTo>
                    <a:pt x="177" y="19"/>
                  </a:lnTo>
                  <a:lnTo>
                    <a:pt x="188" y="25"/>
                  </a:lnTo>
                  <a:lnTo>
                    <a:pt x="200" y="33"/>
                  </a:lnTo>
                  <a:lnTo>
                    <a:pt x="208" y="45"/>
                  </a:lnTo>
                  <a:lnTo>
                    <a:pt x="210" y="58"/>
                  </a:lnTo>
                  <a:lnTo>
                    <a:pt x="206" y="70"/>
                  </a:lnTo>
                  <a:lnTo>
                    <a:pt x="200" y="83"/>
                  </a:lnTo>
                  <a:lnTo>
                    <a:pt x="190" y="95"/>
                  </a:lnTo>
                  <a:lnTo>
                    <a:pt x="181" y="109"/>
                  </a:lnTo>
                  <a:lnTo>
                    <a:pt x="173" y="122"/>
                  </a:lnTo>
                  <a:lnTo>
                    <a:pt x="169" y="136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2297160" y="4011480"/>
              <a:ext cx="463320" cy="489960"/>
            </a:xfrm>
            <a:custGeom>
              <a:avLst/>
              <a:gdLst/>
              <a:ahLst/>
              <a:rect l="l" t="t" r="r" b="b"/>
              <a:pathLst>
                <a:path w="583" h="619">
                  <a:moveTo>
                    <a:pt x="560" y="619"/>
                  </a:moveTo>
                  <a:lnTo>
                    <a:pt x="543" y="611"/>
                  </a:lnTo>
                  <a:lnTo>
                    <a:pt x="527" y="603"/>
                  </a:lnTo>
                  <a:lnTo>
                    <a:pt x="512" y="596"/>
                  </a:lnTo>
                  <a:lnTo>
                    <a:pt x="496" y="590"/>
                  </a:lnTo>
                  <a:lnTo>
                    <a:pt x="479" y="582"/>
                  </a:lnTo>
                  <a:lnTo>
                    <a:pt x="463" y="574"/>
                  </a:lnTo>
                  <a:lnTo>
                    <a:pt x="448" y="567"/>
                  </a:lnTo>
                  <a:lnTo>
                    <a:pt x="434" y="561"/>
                  </a:lnTo>
                  <a:lnTo>
                    <a:pt x="417" y="553"/>
                  </a:lnTo>
                  <a:lnTo>
                    <a:pt x="401" y="545"/>
                  </a:lnTo>
                  <a:lnTo>
                    <a:pt x="386" y="537"/>
                  </a:lnTo>
                  <a:lnTo>
                    <a:pt x="370" y="532"/>
                  </a:lnTo>
                  <a:lnTo>
                    <a:pt x="353" y="524"/>
                  </a:lnTo>
                  <a:lnTo>
                    <a:pt x="337" y="518"/>
                  </a:lnTo>
                  <a:lnTo>
                    <a:pt x="322" y="510"/>
                  </a:lnTo>
                  <a:lnTo>
                    <a:pt x="308" y="504"/>
                  </a:lnTo>
                  <a:lnTo>
                    <a:pt x="291" y="495"/>
                  </a:lnTo>
                  <a:lnTo>
                    <a:pt x="277" y="487"/>
                  </a:lnTo>
                  <a:lnTo>
                    <a:pt x="260" y="479"/>
                  </a:lnTo>
                  <a:lnTo>
                    <a:pt x="246" y="471"/>
                  </a:lnTo>
                  <a:lnTo>
                    <a:pt x="230" y="462"/>
                  </a:lnTo>
                  <a:lnTo>
                    <a:pt x="215" y="456"/>
                  </a:lnTo>
                  <a:lnTo>
                    <a:pt x="199" y="446"/>
                  </a:lnTo>
                  <a:lnTo>
                    <a:pt x="186" y="440"/>
                  </a:lnTo>
                  <a:lnTo>
                    <a:pt x="168" y="431"/>
                  </a:lnTo>
                  <a:lnTo>
                    <a:pt x="155" y="421"/>
                  </a:lnTo>
                  <a:lnTo>
                    <a:pt x="139" y="411"/>
                  </a:lnTo>
                  <a:lnTo>
                    <a:pt x="126" y="404"/>
                  </a:lnTo>
                  <a:lnTo>
                    <a:pt x="110" y="394"/>
                  </a:lnTo>
                  <a:lnTo>
                    <a:pt x="97" y="384"/>
                  </a:lnTo>
                  <a:lnTo>
                    <a:pt x="81" y="375"/>
                  </a:lnTo>
                  <a:lnTo>
                    <a:pt x="69" y="367"/>
                  </a:lnTo>
                  <a:lnTo>
                    <a:pt x="54" y="351"/>
                  </a:lnTo>
                  <a:lnTo>
                    <a:pt x="44" y="336"/>
                  </a:lnTo>
                  <a:lnTo>
                    <a:pt x="35" y="318"/>
                  </a:lnTo>
                  <a:lnTo>
                    <a:pt x="23" y="307"/>
                  </a:lnTo>
                  <a:lnTo>
                    <a:pt x="17" y="287"/>
                  </a:lnTo>
                  <a:lnTo>
                    <a:pt x="13" y="270"/>
                  </a:lnTo>
                  <a:lnTo>
                    <a:pt x="9" y="252"/>
                  </a:lnTo>
                  <a:lnTo>
                    <a:pt x="7" y="235"/>
                  </a:lnTo>
                  <a:lnTo>
                    <a:pt x="4" y="216"/>
                  </a:lnTo>
                  <a:lnTo>
                    <a:pt x="2" y="198"/>
                  </a:lnTo>
                  <a:lnTo>
                    <a:pt x="2" y="179"/>
                  </a:lnTo>
                  <a:lnTo>
                    <a:pt x="2" y="161"/>
                  </a:lnTo>
                  <a:lnTo>
                    <a:pt x="0" y="142"/>
                  </a:lnTo>
                  <a:lnTo>
                    <a:pt x="0" y="122"/>
                  </a:lnTo>
                  <a:lnTo>
                    <a:pt x="0" y="103"/>
                  </a:lnTo>
                  <a:lnTo>
                    <a:pt x="2" y="86"/>
                  </a:lnTo>
                  <a:lnTo>
                    <a:pt x="2" y="66"/>
                  </a:lnTo>
                  <a:lnTo>
                    <a:pt x="4" y="47"/>
                  </a:lnTo>
                  <a:lnTo>
                    <a:pt x="5" y="29"/>
                  </a:lnTo>
                  <a:lnTo>
                    <a:pt x="9" y="12"/>
                  </a:lnTo>
                  <a:lnTo>
                    <a:pt x="21" y="4"/>
                  </a:lnTo>
                  <a:lnTo>
                    <a:pt x="35" y="2"/>
                  </a:lnTo>
                  <a:lnTo>
                    <a:pt x="48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7" y="8"/>
                  </a:lnTo>
                  <a:lnTo>
                    <a:pt x="99" y="14"/>
                  </a:lnTo>
                  <a:lnTo>
                    <a:pt x="112" y="22"/>
                  </a:lnTo>
                  <a:lnTo>
                    <a:pt x="124" y="27"/>
                  </a:lnTo>
                  <a:lnTo>
                    <a:pt x="135" y="33"/>
                  </a:lnTo>
                  <a:lnTo>
                    <a:pt x="147" y="39"/>
                  </a:lnTo>
                  <a:lnTo>
                    <a:pt x="159" y="47"/>
                  </a:lnTo>
                  <a:lnTo>
                    <a:pt x="170" y="53"/>
                  </a:lnTo>
                  <a:lnTo>
                    <a:pt x="182" y="58"/>
                  </a:lnTo>
                  <a:lnTo>
                    <a:pt x="196" y="62"/>
                  </a:lnTo>
                  <a:lnTo>
                    <a:pt x="209" y="68"/>
                  </a:lnTo>
                  <a:lnTo>
                    <a:pt x="221" y="76"/>
                  </a:lnTo>
                  <a:lnTo>
                    <a:pt x="234" y="88"/>
                  </a:lnTo>
                  <a:lnTo>
                    <a:pt x="244" y="99"/>
                  </a:lnTo>
                  <a:lnTo>
                    <a:pt x="250" y="117"/>
                  </a:lnTo>
                  <a:lnTo>
                    <a:pt x="236" y="109"/>
                  </a:lnTo>
                  <a:lnTo>
                    <a:pt x="223" y="101"/>
                  </a:lnTo>
                  <a:lnTo>
                    <a:pt x="209" y="93"/>
                  </a:lnTo>
                  <a:lnTo>
                    <a:pt x="197" y="88"/>
                  </a:lnTo>
                  <a:lnTo>
                    <a:pt x="184" y="78"/>
                  </a:lnTo>
                  <a:lnTo>
                    <a:pt x="172" y="70"/>
                  </a:lnTo>
                  <a:lnTo>
                    <a:pt x="159" y="64"/>
                  </a:lnTo>
                  <a:lnTo>
                    <a:pt x="147" y="58"/>
                  </a:lnTo>
                  <a:lnTo>
                    <a:pt x="133" y="51"/>
                  </a:lnTo>
                  <a:lnTo>
                    <a:pt x="120" y="45"/>
                  </a:lnTo>
                  <a:lnTo>
                    <a:pt x="106" y="39"/>
                  </a:lnTo>
                  <a:lnTo>
                    <a:pt x="93" y="37"/>
                  </a:lnTo>
                  <a:lnTo>
                    <a:pt x="79" y="33"/>
                  </a:lnTo>
                  <a:lnTo>
                    <a:pt x="66" y="31"/>
                  </a:lnTo>
                  <a:lnTo>
                    <a:pt x="52" y="31"/>
                  </a:lnTo>
                  <a:lnTo>
                    <a:pt x="38" y="33"/>
                  </a:lnTo>
                  <a:lnTo>
                    <a:pt x="27" y="43"/>
                  </a:lnTo>
                  <a:lnTo>
                    <a:pt x="21" y="55"/>
                  </a:lnTo>
                  <a:lnTo>
                    <a:pt x="17" y="66"/>
                  </a:lnTo>
                  <a:lnTo>
                    <a:pt x="19" y="82"/>
                  </a:lnTo>
                  <a:lnTo>
                    <a:pt x="19" y="93"/>
                  </a:lnTo>
                  <a:lnTo>
                    <a:pt x="21" y="109"/>
                  </a:lnTo>
                  <a:lnTo>
                    <a:pt x="21" y="122"/>
                  </a:lnTo>
                  <a:lnTo>
                    <a:pt x="23" y="138"/>
                  </a:lnTo>
                  <a:lnTo>
                    <a:pt x="25" y="152"/>
                  </a:lnTo>
                  <a:lnTo>
                    <a:pt x="31" y="167"/>
                  </a:lnTo>
                  <a:lnTo>
                    <a:pt x="33" y="181"/>
                  </a:lnTo>
                  <a:lnTo>
                    <a:pt x="38" y="198"/>
                  </a:lnTo>
                  <a:lnTo>
                    <a:pt x="40" y="212"/>
                  </a:lnTo>
                  <a:lnTo>
                    <a:pt x="44" y="227"/>
                  </a:lnTo>
                  <a:lnTo>
                    <a:pt x="50" y="243"/>
                  </a:lnTo>
                  <a:lnTo>
                    <a:pt x="56" y="260"/>
                  </a:lnTo>
                  <a:lnTo>
                    <a:pt x="60" y="274"/>
                  </a:lnTo>
                  <a:lnTo>
                    <a:pt x="66" y="287"/>
                  </a:lnTo>
                  <a:lnTo>
                    <a:pt x="73" y="301"/>
                  </a:lnTo>
                  <a:lnTo>
                    <a:pt x="83" y="314"/>
                  </a:lnTo>
                  <a:lnTo>
                    <a:pt x="91" y="326"/>
                  </a:lnTo>
                  <a:lnTo>
                    <a:pt x="102" y="338"/>
                  </a:lnTo>
                  <a:lnTo>
                    <a:pt x="114" y="349"/>
                  </a:lnTo>
                  <a:lnTo>
                    <a:pt x="130" y="361"/>
                  </a:lnTo>
                  <a:lnTo>
                    <a:pt x="141" y="367"/>
                  </a:lnTo>
                  <a:lnTo>
                    <a:pt x="155" y="375"/>
                  </a:lnTo>
                  <a:lnTo>
                    <a:pt x="168" y="382"/>
                  </a:lnTo>
                  <a:lnTo>
                    <a:pt x="182" y="390"/>
                  </a:lnTo>
                  <a:lnTo>
                    <a:pt x="196" y="398"/>
                  </a:lnTo>
                  <a:lnTo>
                    <a:pt x="211" y="406"/>
                  </a:lnTo>
                  <a:lnTo>
                    <a:pt x="225" y="413"/>
                  </a:lnTo>
                  <a:lnTo>
                    <a:pt x="240" y="421"/>
                  </a:lnTo>
                  <a:lnTo>
                    <a:pt x="252" y="427"/>
                  </a:lnTo>
                  <a:lnTo>
                    <a:pt x="267" y="435"/>
                  </a:lnTo>
                  <a:lnTo>
                    <a:pt x="281" y="440"/>
                  </a:lnTo>
                  <a:lnTo>
                    <a:pt x="296" y="448"/>
                  </a:lnTo>
                  <a:lnTo>
                    <a:pt x="310" y="454"/>
                  </a:lnTo>
                  <a:lnTo>
                    <a:pt x="325" y="462"/>
                  </a:lnTo>
                  <a:lnTo>
                    <a:pt x="339" y="468"/>
                  </a:lnTo>
                  <a:lnTo>
                    <a:pt x="355" y="475"/>
                  </a:lnTo>
                  <a:lnTo>
                    <a:pt x="368" y="481"/>
                  </a:lnTo>
                  <a:lnTo>
                    <a:pt x="382" y="487"/>
                  </a:lnTo>
                  <a:lnTo>
                    <a:pt x="395" y="493"/>
                  </a:lnTo>
                  <a:lnTo>
                    <a:pt x="411" y="501"/>
                  </a:lnTo>
                  <a:lnTo>
                    <a:pt x="424" y="506"/>
                  </a:lnTo>
                  <a:lnTo>
                    <a:pt x="440" y="512"/>
                  </a:lnTo>
                  <a:lnTo>
                    <a:pt x="453" y="518"/>
                  </a:lnTo>
                  <a:lnTo>
                    <a:pt x="469" y="526"/>
                  </a:lnTo>
                  <a:lnTo>
                    <a:pt x="483" y="532"/>
                  </a:lnTo>
                  <a:lnTo>
                    <a:pt x="496" y="539"/>
                  </a:lnTo>
                  <a:lnTo>
                    <a:pt x="510" y="545"/>
                  </a:lnTo>
                  <a:lnTo>
                    <a:pt x="525" y="553"/>
                  </a:lnTo>
                  <a:lnTo>
                    <a:pt x="539" y="559"/>
                  </a:lnTo>
                  <a:lnTo>
                    <a:pt x="554" y="567"/>
                  </a:lnTo>
                  <a:lnTo>
                    <a:pt x="568" y="574"/>
                  </a:lnTo>
                  <a:lnTo>
                    <a:pt x="583" y="584"/>
                  </a:lnTo>
                  <a:lnTo>
                    <a:pt x="581" y="596"/>
                  </a:lnTo>
                  <a:lnTo>
                    <a:pt x="580" y="609"/>
                  </a:lnTo>
                  <a:lnTo>
                    <a:pt x="572" y="619"/>
                  </a:lnTo>
                  <a:lnTo>
                    <a:pt x="560" y="619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2671560" y="4284360"/>
              <a:ext cx="71640" cy="5544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19" y="62"/>
                  </a:moveTo>
                  <a:lnTo>
                    <a:pt x="8" y="50"/>
                  </a:lnTo>
                  <a:lnTo>
                    <a:pt x="4" y="34"/>
                  </a:lnTo>
                  <a:lnTo>
                    <a:pt x="2" y="19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5" y="3"/>
                  </a:lnTo>
                  <a:lnTo>
                    <a:pt x="37" y="7"/>
                  </a:lnTo>
                  <a:lnTo>
                    <a:pt x="50" y="15"/>
                  </a:lnTo>
                  <a:lnTo>
                    <a:pt x="60" y="23"/>
                  </a:lnTo>
                  <a:lnTo>
                    <a:pt x="76" y="34"/>
                  </a:lnTo>
                  <a:lnTo>
                    <a:pt x="85" y="46"/>
                  </a:lnTo>
                  <a:lnTo>
                    <a:pt x="89" y="62"/>
                  </a:lnTo>
                  <a:lnTo>
                    <a:pt x="72" y="67"/>
                  </a:lnTo>
                  <a:lnTo>
                    <a:pt x="54" y="69"/>
                  </a:lnTo>
                  <a:lnTo>
                    <a:pt x="37" y="65"/>
                  </a:lnTo>
                  <a:lnTo>
                    <a:pt x="1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384280" y="3460680"/>
              <a:ext cx="316080" cy="156600"/>
            </a:xfrm>
            <a:custGeom>
              <a:avLst/>
              <a:gdLst/>
              <a:ahLst/>
              <a:rect l="l" t="t" r="r" b="b"/>
              <a:pathLst>
                <a:path w="400" h="198">
                  <a:moveTo>
                    <a:pt x="344" y="188"/>
                  </a:moveTo>
                  <a:lnTo>
                    <a:pt x="332" y="188"/>
                  </a:lnTo>
                  <a:lnTo>
                    <a:pt x="320" y="188"/>
                  </a:lnTo>
                  <a:lnTo>
                    <a:pt x="309" y="190"/>
                  </a:lnTo>
                  <a:lnTo>
                    <a:pt x="299" y="192"/>
                  </a:lnTo>
                  <a:lnTo>
                    <a:pt x="287" y="192"/>
                  </a:lnTo>
                  <a:lnTo>
                    <a:pt x="276" y="192"/>
                  </a:lnTo>
                  <a:lnTo>
                    <a:pt x="264" y="194"/>
                  </a:lnTo>
                  <a:lnTo>
                    <a:pt x="254" y="196"/>
                  </a:lnTo>
                  <a:lnTo>
                    <a:pt x="243" y="196"/>
                  </a:lnTo>
                  <a:lnTo>
                    <a:pt x="231" y="196"/>
                  </a:lnTo>
                  <a:lnTo>
                    <a:pt x="219" y="196"/>
                  </a:lnTo>
                  <a:lnTo>
                    <a:pt x="210" y="196"/>
                  </a:lnTo>
                  <a:lnTo>
                    <a:pt x="198" y="196"/>
                  </a:lnTo>
                  <a:lnTo>
                    <a:pt x="186" y="196"/>
                  </a:lnTo>
                  <a:lnTo>
                    <a:pt x="175" y="196"/>
                  </a:lnTo>
                  <a:lnTo>
                    <a:pt x="165" y="198"/>
                  </a:lnTo>
                  <a:lnTo>
                    <a:pt x="153" y="196"/>
                  </a:lnTo>
                  <a:lnTo>
                    <a:pt x="142" y="196"/>
                  </a:lnTo>
                  <a:lnTo>
                    <a:pt x="130" y="194"/>
                  </a:lnTo>
                  <a:lnTo>
                    <a:pt x="120" y="194"/>
                  </a:lnTo>
                  <a:lnTo>
                    <a:pt x="99" y="190"/>
                  </a:lnTo>
                  <a:lnTo>
                    <a:pt x="80" y="188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47" y="180"/>
                  </a:lnTo>
                  <a:lnTo>
                    <a:pt x="37" y="179"/>
                  </a:lnTo>
                  <a:lnTo>
                    <a:pt x="18" y="171"/>
                  </a:lnTo>
                  <a:lnTo>
                    <a:pt x="0" y="163"/>
                  </a:lnTo>
                  <a:lnTo>
                    <a:pt x="37" y="14"/>
                  </a:lnTo>
                  <a:lnTo>
                    <a:pt x="130" y="0"/>
                  </a:lnTo>
                  <a:lnTo>
                    <a:pt x="130" y="12"/>
                  </a:lnTo>
                  <a:lnTo>
                    <a:pt x="126" y="25"/>
                  </a:lnTo>
                  <a:lnTo>
                    <a:pt x="124" y="37"/>
                  </a:lnTo>
                  <a:lnTo>
                    <a:pt x="136" y="49"/>
                  </a:lnTo>
                  <a:lnTo>
                    <a:pt x="155" y="45"/>
                  </a:lnTo>
                  <a:lnTo>
                    <a:pt x="177" y="45"/>
                  </a:lnTo>
                  <a:lnTo>
                    <a:pt x="196" y="49"/>
                  </a:lnTo>
                  <a:lnTo>
                    <a:pt x="216" y="54"/>
                  </a:lnTo>
                  <a:lnTo>
                    <a:pt x="233" y="60"/>
                  </a:lnTo>
                  <a:lnTo>
                    <a:pt x="250" y="70"/>
                  </a:lnTo>
                  <a:lnTo>
                    <a:pt x="268" y="82"/>
                  </a:lnTo>
                  <a:lnTo>
                    <a:pt x="287" y="93"/>
                  </a:lnTo>
                  <a:lnTo>
                    <a:pt x="301" y="91"/>
                  </a:lnTo>
                  <a:lnTo>
                    <a:pt x="314" y="89"/>
                  </a:lnTo>
                  <a:lnTo>
                    <a:pt x="324" y="84"/>
                  </a:lnTo>
                  <a:lnTo>
                    <a:pt x="336" y="74"/>
                  </a:lnTo>
                  <a:lnTo>
                    <a:pt x="342" y="41"/>
                  </a:lnTo>
                  <a:lnTo>
                    <a:pt x="351" y="45"/>
                  </a:lnTo>
                  <a:lnTo>
                    <a:pt x="363" y="54"/>
                  </a:lnTo>
                  <a:lnTo>
                    <a:pt x="371" y="64"/>
                  </a:lnTo>
                  <a:lnTo>
                    <a:pt x="380" y="78"/>
                  </a:lnTo>
                  <a:lnTo>
                    <a:pt x="386" y="91"/>
                  </a:lnTo>
                  <a:lnTo>
                    <a:pt x="392" y="107"/>
                  </a:lnTo>
                  <a:lnTo>
                    <a:pt x="396" y="122"/>
                  </a:lnTo>
                  <a:lnTo>
                    <a:pt x="400" y="138"/>
                  </a:lnTo>
                  <a:lnTo>
                    <a:pt x="400" y="149"/>
                  </a:lnTo>
                  <a:lnTo>
                    <a:pt x="398" y="161"/>
                  </a:lnTo>
                  <a:lnTo>
                    <a:pt x="392" y="167"/>
                  </a:lnTo>
                  <a:lnTo>
                    <a:pt x="384" y="175"/>
                  </a:lnTo>
                  <a:lnTo>
                    <a:pt x="373" y="177"/>
                  </a:lnTo>
                  <a:lnTo>
                    <a:pt x="363" y="180"/>
                  </a:lnTo>
                  <a:lnTo>
                    <a:pt x="351" y="182"/>
                  </a:lnTo>
                  <a:lnTo>
                    <a:pt x="344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373120" y="3616200"/>
              <a:ext cx="322200" cy="47160"/>
            </a:xfrm>
            <a:custGeom>
              <a:avLst/>
              <a:gdLst/>
              <a:ahLst/>
              <a:rect l="l" t="t" r="r" b="b"/>
              <a:pathLst>
                <a:path w="407" h="60">
                  <a:moveTo>
                    <a:pt x="355" y="52"/>
                  </a:moveTo>
                  <a:lnTo>
                    <a:pt x="343" y="52"/>
                  </a:lnTo>
                  <a:lnTo>
                    <a:pt x="331" y="54"/>
                  </a:lnTo>
                  <a:lnTo>
                    <a:pt x="320" y="54"/>
                  </a:lnTo>
                  <a:lnTo>
                    <a:pt x="308" y="56"/>
                  </a:lnTo>
                  <a:lnTo>
                    <a:pt x="296" y="56"/>
                  </a:lnTo>
                  <a:lnTo>
                    <a:pt x="285" y="58"/>
                  </a:lnTo>
                  <a:lnTo>
                    <a:pt x="273" y="58"/>
                  </a:lnTo>
                  <a:lnTo>
                    <a:pt x="261" y="60"/>
                  </a:lnTo>
                  <a:lnTo>
                    <a:pt x="250" y="58"/>
                  </a:lnTo>
                  <a:lnTo>
                    <a:pt x="238" y="58"/>
                  </a:lnTo>
                  <a:lnTo>
                    <a:pt x="227" y="58"/>
                  </a:lnTo>
                  <a:lnTo>
                    <a:pt x="215" y="58"/>
                  </a:lnTo>
                  <a:lnTo>
                    <a:pt x="203" y="56"/>
                  </a:lnTo>
                  <a:lnTo>
                    <a:pt x="194" y="56"/>
                  </a:lnTo>
                  <a:lnTo>
                    <a:pt x="182" y="56"/>
                  </a:lnTo>
                  <a:lnTo>
                    <a:pt x="172" y="56"/>
                  </a:lnTo>
                  <a:lnTo>
                    <a:pt x="161" y="54"/>
                  </a:lnTo>
                  <a:lnTo>
                    <a:pt x="149" y="52"/>
                  </a:lnTo>
                  <a:lnTo>
                    <a:pt x="137" y="50"/>
                  </a:lnTo>
                  <a:lnTo>
                    <a:pt x="126" y="50"/>
                  </a:lnTo>
                  <a:lnTo>
                    <a:pt x="114" y="47"/>
                  </a:lnTo>
                  <a:lnTo>
                    <a:pt x="104" y="47"/>
                  </a:lnTo>
                  <a:lnTo>
                    <a:pt x="93" y="43"/>
                  </a:lnTo>
                  <a:lnTo>
                    <a:pt x="83" y="43"/>
                  </a:lnTo>
                  <a:lnTo>
                    <a:pt x="71" y="39"/>
                  </a:lnTo>
                  <a:lnTo>
                    <a:pt x="62" y="37"/>
                  </a:lnTo>
                  <a:lnTo>
                    <a:pt x="50" y="33"/>
                  </a:lnTo>
                  <a:lnTo>
                    <a:pt x="40" y="31"/>
                  </a:lnTo>
                  <a:lnTo>
                    <a:pt x="19" y="25"/>
                  </a:lnTo>
                  <a:lnTo>
                    <a:pt x="0" y="21"/>
                  </a:lnTo>
                  <a:lnTo>
                    <a:pt x="5" y="0"/>
                  </a:lnTo>
                  <a:lnTo>
                    <a:pt x="15" y="2"/>
                  </a:lnTo>
                  <a:lnTo>
                    <a:pt x="27" y="6"/>
                  </a:lnTo>
                  <a:lnTo>
                    <a:pt x="38" y="10"/>
                  </a:lnTo>
                  <a:lnTo>
                    <a:pt x="50" y="14"/>
                  </a:lnTo>
                  <a:lnTo>
                    <a:pt x="62" y="16"/>
                  </a:lnTo>
                  <a:lnTo>
                    <a:pt x="75" y="17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2" y="23"/>
                  </a:lnTo>
                  <a:lnTo>
                    <a:pt x="124" y="25"/>
                  </a:lnTo>
                  <a:lnTo>
                    <a:pt x="137" y="27"/>
                  </a:lnTo>
                  <a:lnTo>
                    <a:pt x="151" y="29"/>
                  </a:lnTo>
                  <a:lnTo>
                    <a:pt x="163" y="29"/>
                  </a:lnTo>
                  <a:lnTo>
                    <a:pt x="176" y="29"/>
                  </a:lnTo>
                  <a:lnTo>
                    <a:pt x="190" y="29"/>
                  </a:lnTo>
                  <a:lnTo>
                    <a:pt x="203" y="31"/>
                  </a:lnTo>
                  <a:lnTo>
                    <a:pt x="215" y="29"/>
                  </a:lnTo>
                  <a:lnTo>
                    <a:pt x="227" y="29"/>
                  </a:lnTo>
                  <a:lnTo>
                    <a:pt x="240" y="29"/>
                  </a:lnTo>
                  <a:lnTo>
                    <a:pt x="254" y="29"/>
                  </a:lnTo>
                  <a:lnTo>
                    <a:pt x="265" y="27"/>
                  </a:lnTo>
                  <a:lnTo>
                    <a:pt x="277" y="27"/>
                  </a:lnTo>
                  <a:lnTo>
                    <a:pt x="291" y="25"/>
                  </a:lnTo>
                  <a:lnTo>
                    <a:pt x="304" y="25"/>
                  </a:lnTo>
                  <a:lnTo>
                    <a:pt x="316" y="23"/>
                  </a:lnTo>
                  <a:lnTo>
                    <a:pt x="329" y="21"/>
                  </a:lnTo>
                  <a:lnTo>
                    <a:pt x="341" y="19"/>
                  </a:lnTo>
                  <a:lnTo>
                    <a:pt x="355" y="19"/>
                  </a:lnTo>
                  <a:lnTo>
                    <a:pt x="366" y="17"/>
                  </a:lnTo>
                  <a:lnTo>
                    <a:pt x="380" y="16"/>
                  </a:lnTo>
                  <a:lnTo>
                    <a:pt x="393" y="14"/>
                  </a:lnTo>
                  <a:lnTo>
                    <a:pt x="407" y="14"/>
                  </a:lnTo>
                  <a:lnTo>
                    <a:pt x="405" y="21"/>
                  </a:lnTo>
                  <a:lnTo>
                    <a:pt x="401" y="29"/>
                  </a:lnTo>
                  <a:lnTo>
                    <a:pt x="393" y="35"/>
                  </a:lnTo>
                  <a:lnTo>
                    <a:pt x="388" y="41"/>
                  </a:lnTo>
                  <a:lnTo>
                    <a:pt x="368" y="45"/>
                  </a:lnTo>
                  <a:lnTo>
                    <a:pt x="355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2334960" y="3701880"/>
              <a:ext cx="327240" cy="675720"/>
            </a:xfrm>
            <a:custGeom>
              <a:avLst/>
              <a:gdLst/>
              <a:ahLst/>
              <a:rect l="l" t="t" r="r" b="b"/>
              <a:pathLst>
                <a:path w="413" h="851">
                  <a:moveTo>
                    <a:pt x="332" y="851"/>
                  </a:moveTo>
                  <a:lnTo>
                    <a:pt x="328" y="837"/>
                  </a:lnTo>
                  <a:lnTo>
                    <a:pt x="324" y="824"/>
                  </a:lnTo>
                  <a:lnTo>
                    <a:pt x="320" y="810"/>
                  </a:lnTo>
                  <a:lnTo>
                    <a:pt x="318" y="798"/>
                  </a:lnTo>
                  <a:lnTo>
                    <a:pt x="314" y="785"/>
                  </a:lnTo>
                  <a:lnTo>
                    <a:pt x="312" y="771"/>
                  </a:lnTo>
                  <a:lnTo>
                    <a:pt x="309" y="758"/>
                  </a:lnTo>
                  <a:lnTo>
                    <a:pt x="307" y="746"/>
                  </a:lnTo>
                  <a:lnTo>
                    <a:pt x="301" y="733"/>
                  </a:lnTo>
                  <a:lnTo>
                    <a:pt x="299" y="719"/>
                  </a:lnTo>
                  <a:lnTo>
                    <a:pt x="295" y="705"/>
                  </a:lnTo>
                  <a:lnTo>
                    <a:pt x="293" y="694"/>
                  </a:lnTo>
                  <a:lnTo>
                    <a:pt x="287" y="680"/>
                  </a:lnTo>
                  <a:lnTo>
                    <a:pt x="285" y="667"/>
                  </a:lnTo>
                  <a:lnTo>
                    <a:pt x="281" y="655"/>
                  </a:lnTo>
                  <a:lnTo>
                    <a:pt x="279" y="643"/>
                  </a:lnTo>
                  <a:lnTo>
                    <a:pt x="274" y="630"/>
                  </a:lnTo>
                  <a:lnTo>
                    <a:pt x="270" y="616"/>
                  </a:lnTo>
                  <a:lnTo>
                    <a:pt x="266" y="603"/>
                  </a:lnTo>
                  <a:lnTo>
                    <a:pt x="262" y="591"/>
                  </a:lnTo>
                  <a:lnTo>
                    <a:pt x="258" y="577"/>
                  </a:lnTo>
                  <a:lnTo>
                    <a:pt x="254" y="566"/>
                  </a:lnTo>
                  <a:lnTo>
                    <a:pt x="250" y="554"/>
                  </a:lnTo>
                  <a:lnTo>
                    <a:pt x="246" y="542"/>
                  </a:lnTo>
                  <a:lnTo>
                    <a:pt x="241" y="529"/>
                  </a:lnTo>
                  <a:lnTo>
                    <a:pt x="237" y="517"/>
                  </a:lnTo>
                  <a:lnTo>
                    <a:pt x="233" y="504"/>
                  </a:lnTo>
                  <a:lnTo>
                    <a:pt x="229" y="492"/>
                  </a:lnTo>
                  <a:lnTo>
                    <a:pt x="223" y="480"/>
                  </a:lnTo>
                  <a:lnTo>
                    <a:pt x="219" y="469"/>
                  </a:lnTo>
                  <a:lnTo>
                    <a:pt x="215" y="457"/>
                  </a:lnTo>
                  <a:lnTo>
                    <a:pt x="212" y="446"/>
                  </a:lnTo>
                  <a:lnTo>
                    <a:pt x="206" y="432"/>
                  </a:lnTo>
                  <a:lnTo>
                    <a:pt x="200" y="420"/>
                  </a:lnTo>
                  <a:lnTo>
                    <a:pt x="194" y="409"/>
                  </a:lnTo>
                  <a:lnTo>
                    <a:pt x="190" y="397"/>
                  </a:lnTo>
                  <a:lnTo>
                    <a:pt x="184" y="383"/>
                  </a:lnTo>
                  <a:lnTo>
                    <a:pt x="179" y="372"/>
                  </a:lnTo>
                  <a:lnTo>
                    <a:pt x="173" y="360"/>
                  </a:lnTo>
                  <a:lnTo>
                    <a:pt x="169" y="349"/>
                  </a:lnTo>
                  <a:lnTo>
                    <a:pt x="161" y="337"/>
                  </a:lnTo>
                  <a:lnTo>
                    <a:pt x="155" y="325"/>
                  </a:lnTo>
                  <a:lnTo>
                    <a:pt x="150" y="314"/>
                  </a:lnTo>
                  <a:lnTo>
                    <a:pt x="144" y="302"/>
                  </a:lnTo>
                  <a:lnTo>
                    <a:pt x="138" y="290"/>
                  </a:lnTo>
                  <a:lnTo>
                    <a:pt x="132" y="279"/>
                  </a:lnTo>
                  <a:lnTo>
                    <a:pt x="126" y="267"/>
                  </a:lnTo>
                  <a:lnTo>
                    <a:pt x="120" y="257"/>
                  </a:lnTo>
                  <a:lnTo>
                    <a:pt x="113" y="246"/>
                  </a:lnTo>
                  <a:lnTo>
                    <a:pt x="105" y="234"/>
                  </a:lnTo>
                  <a:lnTo>
                    <a:pt x="97" y="223"/>
                  </a:lnTo>
                  <a:lnTo>
                    <a:pt x="91" y="211"/>
                  </a:lnTo>
                  <a:lnTo>
                    <a:pt x="84" y="199"/>
                  </a:lnTo>
                  <a:lnTo>
                    <a:pt x="76" y="190"/>
                  </a:lnTo>
                  <a:lnTo>
                    <a:pt x="68" y="178"/>
                  </a:lnTo>
                  <a:lnTo>
                    <a:pt x="62" y="168"/>
                  </a:lnTo>
                  <a:lnTo>
                    <a:pt x="53" y="157"/>
                  </a:lnTo>
                  <a:lnTo>
                    <a:pt x="47" y="145"/>
                  </a:lnTo>
                  <a:lnTo>
                    <a:pt x="37" y="133"/>
                  </a:lnTo>
                  <a:lnTo>
                    <a:pt x="31" y="124"/>
                  </a:lnTo>
                  <a:lnTo>
                    <a:pt x="16" y="102"/>
                  </a:lnTo>
                  <a:lnTo>
                    <a:pt x="0" y="83"/>
                  </a:lnTo>
                  <a:lnTo>
                    <a:pt x="2" y="71"/>
                  </a:lnTo>
                  <a:lnTo>
                    <a:pt x="6" y="60"/>
                  </a:lnTo>
                  <a:lnTo>
                    <a:pt x="8" y="50"/>
                  </a:lnTo>
                  <a:lnTo>
                    <a:pt x="12" y="40"/>
                  </a:lnTo>
                  <a:lnTo>
                    <a:pt x="18" y="19"/>
                  </a:lnTo>
                  <a:lnTo>
                    <a:pt x="25" y="0"/>
                  </a:lnTo>
                  <a:lnTo>
                    <a:pt x="35" y="9"/>
                  </a:lnTo>
                  <a:lnTo>
                    <a:pt x="47" y="21"/>
                  </a:lnTo>
                  <a:lnTo>
                    <a:pt x="58" y="33"/>
                  </a:lnTo>
                  <a:lnTo>
                    <a:pt x="70" y="44"/>
                  </a:lnTo>
                  <a:lnTo>
                    <a:pt x="80" y="56"/>
                  </a:lnTo>
                  <a:lnTo>
                    <a:pt x="89" y="67"/>
                  </a:lnTo>
                  <a:lnTo>
                    <a:pt x="99" y="81"/>
                  </a:lnTo>
                  <a:lnTo>
                    <a:pt x="111" y="95"/>
                  </a:lnTo>
                  <a:lnTo>
                    <a:pt x="118" y="106"/>
                  </a:lnTo>
                  <a:lnTo>
                    <a:pt x="128" y="118"/>
                  </a:lnTo>
                  <a:lnTo>
                    <a:pt x="136" y="131"/>
                  </a:lnTo>
                  <a:lnTo>
                    <a:pt x="146" y="145"/>
                  </a:lnTo>
                  <a:lnTo>
                    <a:pt x="153" y="159"/>
                  </a:lnTo>
                  <a:lnTo>
                    <a:pt x="161" y="172"/>
                  </a:lnTo>
                  <a:lnTo>
                    <a:pt x="169" y="186"/>
                  </a:lnTo>
                  <a:lnTo>
                    <a:pt x="179" y="201"/>
                  </a:lnTo>
                  <a:lnTo>
                    <a:pt x="184" y="213"/>
                  </a:lnTo>
                  <a:lnTo>
                    <a:pt x="192" y="228"/>
                  </a:lnTo>
                  <a:lnTo>
                    <a:pt x="200" y="240"/>
                  </a:lnTo>
                  <a:lnTo>
                    <a:pt x="208" y="256"/>
                  </a:lnTo>
                  <a:lnTo>
                    <a:pt x="214" y="269"/>
                  </a:lnTo>
                  <a:lnTo>
                    <a:pt x="221" y="285"/>
                  </a:lnTo>
                  <a:lnTo>
                    <a:pt x="229" y="298"/>
                  </a:lnTo>
                  <a:lnTo>
                    <a:pt x="237" y="314"/>
                  </a:lnTo>
                  <a:lnTo>
                    <a:pt x="243" y="325"/>
                  </a:lnTo>
                  <a:lnTo>
                    <a:pt x="248" y="341"/>
                  </a:lnTo>
                  <a:lnTo>
                    <a:pt x="256" y="354"/>
                  </a:lnTo>
                  <a:lnTo>
                    <a:pt x="264" y="370"/>
                  </a:lnTo>
                  <a:lnTo>
                    <a:pt x="270" y="383"/>
                  </a:lnTo>
                  <a:lnTo>
                    <a:pt x="278" y="399"/>
                  </a:lnTo>
                  <a:lnTo>
                    <a:pt x="285" y="413"/>
                  </a:lnTo>
                  <a:lnTo>
                    <a:pt x="293" y="428"/>
                  </a:lnTo>
                  <a:lnTo>
                    <a:pt x="305" y="440"/>
                  </a:lnTo>
                  <a:lnTo>
                    <a:pt x="299" y="457"/>
                  </a:lnTo>
                  <a:lnTo>
                    <a:pt x="293" y="475"/>
                  </a:lnTo>
                  <a:lnTo>
                    <a:pt x="287" y="492"/>
                  </a:lnTo>
                  <a:lnTo>
                    <a:pt x="283" y="511"/>
                  </a:lnTo>
                  <a:lnTo>
                    <a:pt x="278" y="529"/>
                  </a:lnTo>
                  <a:lnTo>
                    <a:pt x="279" y="548"/>
                  </a:lnTo>
                  <a:lnTo>
                    <a:pt x="285" y="566"/>
                  </a:lnTo>
                  <a:lnTo>
                    <a:pt x="299" y="585"/>
                  </a:lnTo>
                  <a:lnTo>
                    <a:pt x="307" y="593"/>
                  </a:lnTo>
                  <a:lnTo>
                    <a:pt x="318" y="603"/>
                  </a:lnTo>
                  <a:lnTo>
                    <a:pt x="330" y="610"/>
                  </a:lnTo>
                  <a:lnTo>
                    <a:pt x="342" y="618"/>
                  </a:lnTo>
                  <a:lnTo>
                    <a:pt x="351" y="624"/>
                  </a:lnTo>
                  <a:lnTo>
                    <a:pt x="363" y="632"/>
                  </a:lnTo>
                  <a:lnTo>
                    <a:pt x="373" y="639"/>
                  </a:lnTo>
                  <a:lnTo>
                    <a:pt x="382" y="651"/>
                  </a:lnTo>
                  <a:lnTo>
                    <a:pt x="384" y="669"/>
                  </a:lnTo>
                  <a:lnTo>
                    <a:pt x="388" y="688"/>
                  </a:lnTo>
                  <a:lnTo>
                    <a:pt x="390" y="705"/>
                  </a:lnTo>
                  <a:lnTo>
                    <a:pt x="396" y="725"/>
                  </a:lnTo>
                  <a:lnTo>
                    <a:pt x="400" y="742"/>
                  </a:lnTo>
                  <a:lnTo>
                    <a:pt x="404" y="762"/>
                  </a:lnTo>
                  <a:lnTo>
                    <a:pt x="407" y="781"/>
                  </a:lnTo>
                  <a:lnTo>
                    <a:pt x="413" y="800"/>
                  </a:lnTo>
                  <a:lnTo>
                    <a:pt x="394" y="816"/>
                  </a:lnTo>
                  <a:lnTo>
                    <a:pt x="374" y="833"/>
                  </a:lnTo>
                  <a:lnTo>
                    <a:pt x="363" y="839"/>
                  </a:lnTo>
                  <a:lnTo>
                    <a:pt x="353" y="845"/>
                  </a:lnTo>
                  <a:lnTo>
                    <a:pt x="342" y="849"/>
                  </a:lnTo>
                  <a:lnTo>
                    <a:pt x="332" y="851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2439720" y="3025440"/>
              <a:ext cx="184320" cy="82440"/>
            </a:xfrm>
            <a:custGeom>
              <a:avLst/>
              <a:gdLst/>
              <a:ahLst/>
              <a:rect l="l" t="t" r="r" b="b"/>
              <a:pathLst>
                <a:path w="231" h="105">
                  <a:moveTo>
                    <a:pt x="221" y="105"/>
                  </a:moveTo>
                  <a:lnTo>
                    <a:pt x="206" y="103"/>
                  </a:lnTo>
                  <a:lnTo>
                    <a:pt x="192" y="101"/>
                  </a:lnTo>
                  <a:lnTo>
                    <a:pt x="176" y="99"/>
                  </a:lnTo>
                  <a:lnTo>
                    <a:pt x="163" y="97"/>
                  </a:lnTo>
                  <a:lnTo>
                    <a:pt x="147" y="95"/>
                  </a:lnTo>
                  <a:lnTo>
                    <a:pt x="134" y="95"/>
                  </a:lnTo>
                  <a:lnTo>
                    <a:pt x="120" y="95"/>
                  </a:lnTo>
                  <a:lnTo>
                    <a:pt x="107" y="101"/>
                  </a:lnTo>
                  <a:lnTo>
                    <a:pt x="91" y="93"/>
                  </a:lnTo>
                  <a:lnTo>
                    <a:pt x="83" y="88"/>
                  </a:lnTo>
                  <a:lnTo>
                    <a:pt x="74" y="78"/>
                  </a:lnTo>
                  <a:lnTo>
                    <a:pt x="62" y="72"/>
                  </a:lnTo>
                  <a:lnTo>
                    <a:pt x="45" y="68"/>
                  </a:lnTo>
                  <a:lnTo>
                    <a:pt x="29" y="68"/>
                  </a:lnTo>
                  <a:lnTo>
                    <a:pt x="14" y="68"/>
                  </a:lnTo>
                  <a:lnTo>
                    <a:pt x="0" y="74"/>
                  </a:lnTo>
                  <a:lnTo>
                    <a:pt x="2" y="66"/>
                  </a:lnTo>
                  <a:lnTo>
                    <a:pt x="0" y="59"/>
                  </a:lnTo>
                  <a:lnTo>
                    <a:pt x="4" y="0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7" y="2"/>
                  </a:lnTo>
                  <a:lnTo>
                    <a:pt x="39" y="6"/>
                  </a:lnTo>
                  <a:lnTo>
                    <a:pt x="217" y="33"/>
                  </a:lnTo>
                  <a:lnTo>
                    <a:pt x="229" y="47"/>
                  </a:lnTo>
                  <a:lnTo>
                    <a:pt x="231" y="66"/>
                  </a:lnTo>
                  <a:lnTo>
                    <a:pt x="229" y="76"/>
                  </a:lnTo>
                  <a:lnTo>
                    <a:pt x="227" y="86"/>
                  </a:lnTo>
                  <a:lnTo>
                    <a:pt x="223" y="95"/>
                  </a:lnTo>
                  <a:lnTo>
                    <a:pt x="221" y="10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2523960" y="3468600"/>
              <a:ext cx="98640" cy="34560"/>
            </a:xfrm>
            <a:custGeom>
              <a:avLst/>
              <a:gdLst/>
              <a:ahLst/>
              <a:rect l="l" t="t" r="r" b="b"/>
              <a:pathLst>
                <a:path w="124" h="44">
                  <a:moveTo>
                    <a:pt x="120" y="44"/>
                  </a:moveTo>
                  <a:lnTo>
                    <a:pt x="104" y="35"/>
                  </a:lnTo>
                  <a:lnTo>
                    <a:pt x="91" y="29"/>
                  </a:lnTo>
                  <a:lnTo>
                    <a:pt x="75" y="23"/>
                  </a:lnTo>
                  <a:lnTo>
                    <a:pt x="62" y="19"/>
                  </a:lnTo>
                  <a:lnTo>
                    <a:pt x="46" y="13"/>
                  </a:lnTo>
                  <a:lnTo>
                    <a:pt x="31" y="1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13" y="2"/>
                  </a:lnTo>
                  <a:lnTo>
                    <a:pt x="31" y="2"/>
                  </a:lnTo>
                  <a:lnTo>
                    <a:pt x="48" y="0"/>
                  </a:lnTo>
                  <a:lnTo>
                    <a:pt x="66" y="4"/>
                  </a:lnTo>
                  <a:lnTo>
                    <a:pt x="81" y="6"/>
                  </a:lnTo>
                  <a:lnTo>
                    <a:pt x="97" y="13"/>
                  </a:lnTo>
                  <a:lnTo>
                    <a:pt x="110" y="21"/>
                  </a:lnTo>
                  <a:lnTo>
                    <a:pt x="124" y="35"/>
                  </a:lnTo>
                  <a:lnTo>
                    <a:pt x="120" y="39"/>
                  </a:lnTo>
                  <a:lnTo>
                    <a:pt x="12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2363760" y="4186080"/>
              <a:ext cx="201600" cy="174240"/>
            </a:xfrm>
            <a:custGeom>
              <a:avLst/>
              <a:gdLst/>
              <a:ahLst/>
              <a:rect l="l" t="t" r="r" b="b"/>
              <a:pathLst>
                <a:path w="254" h="221">
                  <a:moveTo>
                    <a:pt x="254" y="221"/>
                  </a:moveTo>
                  <a:lnTo>
                    <a:pt x="235" y="214"/>
                  </a:lnTo>
                  <a:lnTo>
                    <a:pt x="217" y="206"/>
                  </a:lnTo>
                  <a:lnTo>
                    <a:pt x="198" y="198"/>
                  </a:lnTo>
                  <a:lnTo>
                    <a:pt x="180" y="190"/>
                  </a:lnTo>
                  <a:lnTo>
                    <a:pt x="161" y="181"/>
                  </a:lnTo>
                  <a:lnTo>
                    <a:pt x="144" y="173"/>
                  </a:lnTo>
                  <a:lnTo>
                    <a:pt x="126" y="163"/>
                  </a:lnTo>
                  <a:lnTo>
                    <a:pt x="111" y="156"/>
                  </a:lnTo>
                  <a:lnTo>
                    <a:pt x="93" y="144"/>
                  </a:lnTo>
                  <a:lnTo>
                    <a:pt x="76" y="132"/>
                  </a:lnTo>
                  <a:lnTo>
                    <a:pt x="60" y="121"/>
                  </a:lnTo>
                  <a:lnTo>
                    <a:pt x="47" y="109"/>
                  </a:lnTo>
                  <a:lnTo>
                    <a:pt x="31" y="93"/>
                  </a:lnTo>
                  <a:lnTo>
                    <a:pt x="19" y="80"/>
                  </a:lnTo>
                  <a:lnTo>
                    <a:pt x="8" y="64"/>
                  </a:lnTo>
                  <a:lnTo>
                    <a:pt x="0" y="49"/>
                  </a:lnTo>
                  <a:lnTo>
                    <a:pt x="8" y="37"/>
                  </a:lnTo>
                  <a:lnTo>
                    <a:pt x="17" y="28"/>
                  </a:lnTo>
                  <a:lnTo>
                    <a:pt x="29" y="20"/>
                  </a:lnTo>
                  <a:lnTo>
                    <a:pt x="43" y="14"/>
                  </a:lnTo>
                  <a:lnTo>
                    <a:pt x="54" y="8"/>
                  </a:lnTo>
                  <a:lnTo>
                    <a:pt x="68" y="4"/>
                  </a:lnTo>
                  <a:lnTo>
                    <a:pt x="81" y="0"/>
                  </a:lnTo>
                  <a:lnTo>
                    <a:pt x="97" y="0"/>
                  </a:lnTo>
                  <a:lnTo>
                    <a:pt x="225" y="78"/>
                  </a:lnTo>
                  <a:lnTo>
                    <a:pt x="227" y="95"/>
                  </a:lnTo>
                  <a:lnTo>
                    <a:pt x="231" y="113"/>
                  </a:lnTo>
                  <a:lnTo>
                    <a:pt x="235" y="130"/>
                  </a:lnTo>
                  <a:lnTo>
                    <a:pt x="241" y="150"/>
                  </a:lnTo>
                  <a:lnTo>
                    <a:pt x="242" y="167"/>
                  </a:lnTo>
                  <a:lnTo>
                    <a:pt x="246" y="185"/>
                  </a:lnTo>
                  <a:lnTo>
                    <a:pt x="250" y="202"/>
                  </a:lnTo>
                  <a:lnTo>
                    <a:pt x="254" y="221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2322360" y="3962160"/>
              <a:ext cx="147600" cy="80640"/>
            </a:xfrm>
            <a:custGeom>
              <a:avLst/>
              <a:gdLst/>
              <a:ahLst/>
              <a:rect l="l" t="t" r="r" b="b"/>
              <a:pathLst>
                <a:path w="186" h="101">
                  <a:moveTo>
                    <a:pt x="186" y="101"/>
                  </a:moveTo>
                  <a:lnTo>
                    <a:pt x="174" y="95"/>
                  </a:lnTo>
                  <a:lnTo>
                    <a:pt x="163" y="91"/>
                  </a:lnTo>
                  <a:lnTo>
                    <a:pt x="151" y="86"/>
                  </a:lnTo>
                  <a:lnTo>
                    <a:pt x="139" y="82"/>
                  </a:lnTo>
                  <a:lnTo>
                    <a:pt x="128" y="76"/>
                  </a:lnTo>
                  <a:lnTo>
                    <a:pt x="118" y="70"/>
                  </a:lnTo>
                  <a:lnTo>
                    <a:pt x="106" y="64"/>
                  </a:lnTo>
                  <a:lnTo>
                    <a:pt x="97" y="58"/>
                  </a:lnTo>
                  <a:lnTo>
                    <a:pt x="85" y="53"/>
                  </a:lnTo>
                  <a:lnTo>
                    <a:pt x="73" y="47"/>
                  </a:lnTo>
                  <a:lnTo>
                    <a:pt x="62" y="43"/>
                  </a:lnTo>
                  <a:lnTo>
                    <a:pt x="50" y="41"/>
                  </a:lnTo>
                  <a:lnTo>
                    <a:pt x="37" y="39"/>
                  </a:lnTo>
                  <a:lnTo>
                    <a:pt x="25" y="37"/>
                  </a:lnTo>
                  <a:lnTo>
                    <a:pt x="11" y="37"/>
                  </a:lnTo>
                  <a:lnTo>
                    <a:pt x="0" y="41"/>
                  </a:lnTo>
                  <a:lnTo>
                    <a:pt x="13" y="29"/>
                  </a:lnTo>
                  <a:lnTo>
                    <a:pt x="31" y="24"/>
                  </a:lnTo>
                  <a:lnTo>
                    <a:pt x="48" y="18"/>
                  </a:lnTo>
                  <a:lnTo>
                    <a:pt x="66" y="14"/>
                  </a:lnTo>
                  <a:lnTo>
                    <a:pt x="83" y="10"/>
                  </a:lnTo>
                  <a:lnTo>
                    <a:pt x="102" y="6"/>
                  </a:lnTo>
                  <a:lnTo>
                    <a:pt x="120" y="2"/>
                  </a:lnTo>
                  <a:lnTo>
                    <a:pt x="139" y="0"/>
                  </a:lnTo>
                  <a:lnTo>
                    <a:pt x="145" y="12"/>
                  </a:lnTo>
                  <a:lnTo>
                    <a:pt x="151" y="24"/>
                  </a:lnTo>
                  <a:lnTo>
                    <a:pt x="157" y="35"/>
                  </a:lnTo>
                  <a:lnTo>
                    <a:pt x="165" y="49"/>
                  </a:lnTo>
                  <a:lnTo>
                    <a:pt x="168" y="60"/>
                  </a:lnTo>
                  <a:lnTo>
                    <a:pt x="174" y="72"/>
                  </a:lnTo>
                  <a:lnTo>
                    <a:pt x="180" y="86"/>
                  </a:lnTo>
                  <a:lnTo>
                    <a:pt x="186" y="101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2292120" y="2938320"/>
              <a:ext cx="125640" cy="271080"/>
            </a:xfrm>
            <a:custGeom>
              <a:avLst/>
              <a:gdLst/>
              <a:ahLst/>
              <a:rect l="l" t="t" r="r" b="b"/>
              <a:pathLst>
                <a:path w="157" h="341">
                  <a:moveTo>
                    <a:pt x="56" y="341"/>
                  </a:moveTo>
                  <a:lnTo>
                    <a:pt x="41" y="341"/>
                  </a:lnTo>
                  <a:lnTo>
                    <a:pt x="31" y="337"/>
                  </a:lnTo>
                  <a:lnTo>
                    <a:pt x="21" y="329"/>
                  </a:lnTo>
                  <a:lnTo>
                    <a:pt x="17" y="322"/>
                  </a:lnTo>
                  <a:lnTo>
                    <a:pt x="11" y="308"/>
                  </a:lnTo>
                  <a:lnTo>
                    <a:pt x="8" y="297"/>
                  </a:lnTo>
                  <a:lnTo>
                    <a:pt x="6" y="285"/>
                  </a:lnTo>
                  <a:lnTo>
                    <a:pt x="4" y="275"/>
                  </a:lnTo>
                  <a:lnTo>
                    <a:pt x="0" y="258"/>
                  </a:lnTo>
                  <a:lnTo>
                    <a:pt x="0" y="242"/>
                  </a:lnTo>
                  <a:lnTo>
                    <a:pt x="2" y="225"/>
                  </a:lnTo>
                  <a:lnTo>
                    <a:pt x="8" y="215"/>
                  </a:lnTo>
                  <a:lnTo>
                    <a:pt x="21" y="217"/>
                  </a:lnTo>
                  <a:lnTo>
                    <a:pt x="35" y="219"/>
                  </a:lnTo>
                  <a:lnTo>
                    <a:pt x="48" y="215"/>
                  </a:lnTo>
                  <a:lnTo>
                    <a:pt x="62" y="211"/>
                  </a:lnTo>
                  <a:lnTo>
                    <a:pt x="72" y="201"/>
                  </a:lnTo>
                  <a:lnTo>
                    <a:pt x="83" y="194"/>
                  </a:lnTo>
                  <a:lnTo>
                    <a:pt x="91" y="182"/>
                  </a:lnTo>
                  <a:lnTo>
                    <a:pt x="101" y="172"/>
                  </a:lnTo>
                  <a:lnTo>
                    <a:pt x="105" y="159"/>
                  </a:lnTo>
                  <a:lnTo>
                    <a:pt x="106" y="145"/>
                  </a:lnTo>
                  <a:lnTo>
                    <a:pt x="105" y="130"/>
                  </a:lnTo>
                  <a:lnTo>
                    <a:pt x="106" y="116"/>
                  </a:lnTo>
                  <a:lnTo>
                    <a:pt x="95" y="99"/>
                  </a:lnTo>
                  <a:lnTo>
                    <a:pt x="79" y="91"/>
                  </a:lnTo>
                  <a:lnTo>
                    <a:pt x="62" y="87"/>
                  </a:lnTo>
                  <a:lnTo>
                    <a:pt x="44" y="85"/>
                  </a:lnTo>
                  <a:lnTo>
                    <a:pt x="46" y="72"/>
                  </a:lnTo>
                  <a:lnTo>
                    <a:pt x="50" y="58"/>
                  </a:lnTo>
                  <a:lnTo>
                    <a:pt x="56" y="44"/>
                  </a:lnTo>
                  <a:lnTo>
                    <a:pt x="64" y="33"/>
                  </a:lnTo>
                  <a:lnTo>
                    <a:pt x="72" y="19"/>
                  </a:lnTo>
                  <a:lnTo>
                    <a:pt x="83" y="10"/>
                  </a:lnTo>
                  <a:lnTo>
                    <a:pt x="95" y="2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8" y="8"/>
                  </a:lnTo>
                  <a:lnTo>
                    <a:pt x="147" y="17"/>
                  </a:lnTo>
                  <a:lnTo>
                    <a:pt x="155" y="33"/>
                  </a:lnTo>
                  <a:lnTo>
                    <a:pt x="155" y="48"/>
                  </a:lnTo>
                  <a:lnTo>
                    <a:pt x="157" y="66"/>
                  </a:lnTo>
                  <a:lnTo>
                    <a:pt x="157" y="81"/>
                  </a:lnTo>
                  <a:lnTo>
                    <a:pt x="157" y="99"/>
                  </a:lnTo>
                  <a:lnTo>
                    <a:pt x="155" y="114"/>
                  </a:lnTo>
                  <a:lnTo>
                    <a:pt x="153" y="132"/>
                  </a:lnTo>
                  <a:lnTo>
                    <a:pt x="151" y="149"/>
                  </a:lnTo>
                  <a:lnTo>
                    <a:pt x="149" y="167"/>
                  </a:lnTo>
                  <a:lnTo>
                    <a:pt x="143" y="182"/>
                  </a:lnTo>
                  <a:lnTo>
                    <a:pt x="139" y="198"/>
                  </a:lnTo>
                  <a:lnTo>
                    <a:pt x="134" y="213"/>
                  </a:lnTo>
                  <a:lnTo>
                    <a:pt x="130" y="231"/>
                  </a:lnTo>
                  <a:lnTo>
                    <a:pt x="124" y="246"/>
                  </a:lnTo>
                  <a:lnTo>
                    <a:pt x="118" y="262"/>
                  </a:lnTo>
                  <a:lnTo>
                    <a:pt x="112" y="277"/>
                  </a:lnTo>
                  <a:lnTo>
                    <a:pt x="106" y="295"/>
                  </a:lnTo>
                  <a:lnTo>
                    <a:pt x="95" y="308"/>
                  </a:lnTo>
                  <a:lnTo>
                    <a:pt x="83" y="322"/>
                  </a:lnTo>
                  <a:lnTo>
                    <a:pt x="70" y="333"/>
                  </a:lnTo>
                  <a:lnTo>
                    <a:pt x="56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2330280" y="4059000"/>
              <a:ext cx="88920" cy="153720"/>
            </a:xfrm>
            <a:custGeom>
              <a:avLst/>
              <a:gdLst/>
              <a:ahLst/>
              <a:rect l="l" t="t" r="r" b="b"/>
              <a:pathLst>
                <a:path w="113" h="194">
                  <a:moveTo>
                    <a:pt x="113" y="128"/>
                  </a:moveTo>
                  <a:lnTo>
                    <a:pt x="101" y="130"/>
                  </a:lnTo>
                  <a:lnTo>
                    <a:pt x="92" y="134"/>
                  </a:lnTo>
                  <a:lnTo>
                    <a:pt x="80" y="136"/>
                  </a:lnTo>
                  <a:lnTo>
                    <a:pt x="70" y="142"/>
                  </a:lnTo>
                  <a:lnTo>
                    <a:pt x="59" y="148"/>
                  </a:lnTo>
                  <a:lnTo>
                    <a:pt x="51" y="156"/>
                  </a:lnTo>
                  <a:lnTo>
                    <a:pt x="45" y="165"/>
                  </a:lnTo>
                  <a:lnTo>
                    <a:pt x="45" y="179"/>
                  </a:lnTo>
                  <a:lnTo>
                    <a:pt x="47" y="181"/>
                  </a:lnTo>
                  <a:lnTo>
                    <a:pt x="53" y="181"/>
                  </a:lnTo>
                  <a:lnTo>
                    <a:pt x="47" y="187"/>
                  </a:lnTo>
                  <a:lnTo>
                    <a:pt x="43" y="194"/>
                  </a:lnTo>
                  <a:lnTo>
                    <a:pt x="37" y="183"/>
                  </a:lnTo>
                  <a:lnTo>
                    <a:pt x="33" y="171"/>
                  </a:lnTo>
                  <a:lnTo>
                    <a:pt x="29" y="159"/>
                  </a:lnTo>
                  <a:lnTo>
                    <a:pt x="26" y="150"/>
                  </a:lnTo>
                  <a:lnTo>
                    <a:pt x="20" y="138"/>
                  </a:lnTo>
                  <a:lnTo>
                    <a:pt x="16" y="126"/>
                  </a:lnTo>
                  <a:lnTo>
                    <a:pt x="12" y="115"/>
                  </a:lnTo>
                  <a:lnTo>
                    <a:pt x="10" y="105"/>
                  </a:lnTo>
                  <a:lnTo>
                    <a:pt x="6" y="93"/>
                  </a:lnTo>
                  <a:lnTo>
                    <a:pt x="4" y="82"/>
                  </a:lnTo>
                  <a:lnTo>
                    <a:pt x="0" y="70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10" y="2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5" y="4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90" y="16"/>
                  </a:lnTo>
                  <a:lnTo>
                    <a:pt x="95" y="30"/>
                  </a:lnTo>
                  <a:lnTo>
                    <a:pt x="99" y="47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1" y="103"/>
                  </a:lnTo>
                  <a:lnTo>
                    <a:pt x="113" y="121"/>
                  </a:lnTo>
                  <a:lnTo>
                    <a:pt x="113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2365200" y="36669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37" y="43"/>
                  </a:moveTo>
                  <a:lnTo>
                    <a:pt x="25" y="31"/>
                  </a:lnTo>
                  <a:lnTo>
                    <a:pt x="17" y="19"/>
                  </a:lnTo>
                  <a:lnTo>
                    <a:pt x="8" y="8"/>
                  </a:lnTo>
                  <a:lnTo>
                    <a:pt x="0" y="0"/>
                  </a:lnTo>
                  <a:lnTo>
                    <a:pt x="66" y="19"/>
                  </a:lnTo>
                  <a:lnTo>
                    <a:pt x="58" y="25"/>
                  </a:lnTo>
                  <a:lnTo>
                    <a:pt x="52" y="33"/>
                  </a:lnTo>
                  <a:lnTo>
                    <a:pt x="45" y="37"/>
                  </a:lnTo>
                  <a:lnTo>
                    <a:pt x="37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2385720" y="3263760"/>
              <a:ext cx="25560" cy="231480"/>
            </a:xfrm>
            <a:custGeom>
              <a:avLst/>
              <a:gdLst/>
              <a:ahLst/>
              <a:rect l="l" t="t" r="r" b="b"/>
              <a:pathLst>
                <a:path w="33" h="293">
                  <a:moveTo>
                    <a:pt x="0" y="293"/>
                  </a:moveTo>
                  <a:lnTo>
                    <a:pt x="0" y="273"/>
                  </a:lnTo>
                  <a:lnTo>
                    <a:pt x="2" y="256"/>
                  </a:lnTo>
                  <a:lnTo>
                    <a:pt x="4" y="237"/>
                  </a:lnTo>
                  <a:lnTo>
                    <a:pt x="8" y="219"/>
                  </a:lnTo>
                  <a:lnTo>
                    <a:pt x="8" y="200"/>
                  </a:lnTo>
                  <a:lnTo>
                    <a:pt x="12" y="182"/>
                  </a:lnTo>
                  <a:lnTo>
                    <a:pt x="14" y="165"/>
                  </a:lnTo>
                  <a:lnTo>
                    <a:pt x="18" y="147"/>
                  </a:lnTo>
                  <a:lnTo>
                    <a:pt x="18" y="128"/>
                  </a:lnTo>
                  <a:lnTo>
                    <a:pt x="20" y="110"/>
                  </a:lnTo>
                  <a:lnTo>
                    <a:pt x="20" y="91"/>
                  </a:lnTo>
                  <a:lnTo>
                    <a:pt x="22" y="74"/>
                  </a:lnTo>
                  <a:lnTo>
                    <a:pt x="20" y="54"/>
                  </a:lnTo>
                  <a:lnTo>
                    <a:pt x="20" y="37"/>
                  </a:lnTo>
                  <a:lnTo>
                    <a:pt x="18" y="17"/>
                  </a:lnTo>
                  <a:lnTo>
                    <a:pt x="16" y="0"/>
                  </a:lnTo>
                  <a:lnTo>
                    <a:pt x="20" y="15"/>
                  </a:lnTo>
                  <a:lnTo>
                    <a:pt x="25" y="33"/>
                  </a:lnTo>
                  <a:lnTo>
                    <a:pt x="29" y="50"/>
                  </a:lnTo>
                  <a:lnTo>
                    <a:pt x="33" y="70"/>
                  </a:lnTo>
                  <a:lnTo>
                    <a:pt x="33" y="87"/>
                  </a:lnTo>
                  <a:lnTo>
                    <a:pt x="33" y="109"/>
                  </a:lnTo>
                  <a:lnTo>
                    <a:pt x="33" y="126"/>
                  </a:lnTo>
                  <a:lnTo>
                    <a:pt x="33" y="147"/>
                  </a:lnTo>
                  <a:lnTo>
                    <a:pt x="29" y="165"/>
                  </a:lnTo>
                  <a:lnTo>
                    <a:pt x="27" y="184"/>
                  </a:lnTo>
                  <a:lnTo>
                    <a:pt x="23" y="204"/>
                  </a:lnTo>
                  <a:lnTo>
                    <a:pt x="22" y="223"/>
                  </a:lnTo>
                  <a:lnTo>
                    <a:pt x="16" y="240"/>
                  </a:lnTo>
                  <a:lnTo>
                    <a:pt x="10" y="258"/>
                  </a:lnTo>
                  <a:lnTo>
                    <a:pt x="4" y="275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2314440" y="2952360"/>
              <a:ext cx="92160" cy="249120"/>
            </a:xfrm>
            <a:custGeom>
              <a:avLst/>
              <a:gdLst/>
              <a:ahLst/>
              <a:rect l="l" t="t" r="r" b="b"/>
              <a:pathLst>
                <a:path w="116" h="314">
                  <a:moveTo>
                    <a:pt x="25" y="314"/>
                  </a:moveTo>
                  <a:lnTo>
                    <a:pt x="15" y="314"/>
                  </a:lnTo>
                  <a:lnTo>
                    <a:pt x="10" y="311"/>
                  </a:lnTo>
                  <a:lnTo>
                    <a:pt x="4" y="303"/>
                  </a:lnTo>
                  <a:lnTo>
                    <a:pt x="0" y="299"/>
                  </a:lnTo>
                  <a:lnTo>
                    <a:pt x="2" y="289"/>
                  </a:lnTo>
                  <a:lnTo>
                    <a:pt x="8" y="283"/>
                  </a:lnTo>
                  <a:lnTo>
                    <a:pt x="12" y="278"/>
                  </a:lnTo>
                  <a:lnTo>
                    <a:pt x="23" y="278"/>
                  </a:lnTo>
                  <a:lnTo>
                    <a:pt x="31" y="266"/>
                  </a:lnTo>
                  <a:lnTo>
                    <a:pt x="41" y="254"/>
                  </a:lnTo>
                  <a:lnTo>
                    <a:pt x="48" y="243"/>
                  </a:lnTo>
                  <a:lnTo>
                    <a:pt x="58" y="231"/>
                  </a:lnTo>
                  <a:lnTo>
                    <a:pt x="64" y="217"/>
                  </a:lnTo>
                  <a:lnTo>
                    <a:pt x="70" y="204"/>
                  </a:lnTo>
                  <a:lnTo>
                    <a:pt x="76" y="190"/>
                  </a:lnTo>
                  <a:lnTo>
                    <a:pt x="81" y="179"/>
                  </a:lnTo>
                  <a:lnTo>
                    <a:pt x="83" y="163"/>
                  </a:lnTo>
                  <a:lnTo>
                    <a:pt x="85" y="150"/>
                  </a:lnTo>
                  <a:lnTo>
                    <a:pt x="87" y="134"/>
                  </a:lnTo>
                  <a:lnTo>
                    <a:pt x="91" y="121"/>
                  </a:lnTo>
                  <a:lnTo>
                    <a:pt x="91" y="105"/>
                  </a:lnTo>
                  <a:lnTo>
                    <a:pt x="91" y="91"/>
                  </a:lnTo>
                  <a:lnTo>
                    <a:pt x="91" y="76"/>
                  </a:lnTo>
                  <a:lnTo>
                    <a:pt x="93" y="62"/>
                  </a:lnTo>
                  <a:lnTo>
                    <a:pt x="93" y="49"/>
                  </a:lnTo>
                  <a:lnTo>
                    <a:pt x="87" y="37"/>
                  </a:lnTo>
                  <a:lnTo>
                    <a:pt x="79" y="26"/>
                  </a:lnTo>
                  <a:lnTo>
                    <a:pt x="72" y="18"/>
                  </a:lnTo>
                  <a:lnTo>
                    <a:pt x="64" y="8"/>
                  </a:lnTo>
                  <a:lnTo>
                    <a:pt x="64" y="4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93" y="2"/>
                  </a:lnTo>
                  <a:lnTo>
                    <a:pt x="99" y="12"/>
                  </a:lnTo>
                  <a:lnTo>
                    <a:pt x="105" y="24"/>
                  </a:lnTo>
                  <a:lnTo>
                    <a:pt x="109" y="37"/>
                  </a:lnTo>
                  <a:lnTo>
                    <a:pt x="112" y="51"/>
                  </a:lnTo>
                  <a:lnTo>
                    <a:pt x="112" y="62"/>
                  </a:lnTo>
                  <a:lnTo>
                    <a:pt x="114" y="76"/>
                  </a:lnTo>
                  <a:lnTo>
                    <a:pt x="114" y="89"/>
                  </a:lnTo>
                  <a:lnTo>
                    <a:pt x="116" y="105"/>
                  </a:lnTo>
                  <a:lnTo>
                    <a:pt x="112" y="117"/>
                  </a:lnTo>
                  <a:lnTo>
                    <a:pt x="111" y="132"/>
                  </a:lnTo>
                  <a:lnTo>
                    <a:pt x="109" y="144"/>
                  </a:lnTo>
                  <a:lnTo>
                    <a:pt x="107" y="159"/>
                  </a:lnTo>
                  <a:lnTo>
                    <a:pt x="103" y="173"/>
                  </a:lnTo>
                  <a:lnTo>
                    <a:pt x="101" y="186"/>
                  </a:lnTo>
                  <a:lnTo>
                    <a:pt x="97" y="200"/>
                  </a:lnTo>
                  <a:lnTo>
                    <a:pt x="95" y="214"/>
                  </a:lnTo>
                  <a:lnTo>
                    <a:pt x="87" y="225"/>
                  </a:lnTo>
                  <a:lnTo>
                    <a:pt x="81" y="241"/>
                  </a:lnTo>
                  <a:lnTo>
                    <a:pt x="74" y="252"/>
                  </a:lnTo>
                  <a:lnTo>
                    <a:pt x="66" y="268"/>
                  </a:lnTo>
                  <a:lnTo>
                    <a:pt x="54" y="280"/>
                  </a:lnTo>
                  <a:lnTo>
                    <a:pt x="45" y="291"/>
                  </a:lnTo>
                  <a:lnTo>
                    <a:pt x="35" y="303"/>
                  </a:lnTo>
                  <a:lnTo>
                    <a:pt x="25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2377800" y="4179600"/>
              <a:ext cx="22320" cy="15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21"/>
                  </a:moveTo>
                  <a:lnTo>
                    <a:pt x="0" y="11"/>
                  </a:lnTo>
                  <a:lnTo>
                    <a:pt x="8" y="5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2279520" y="3220920"/>
              <a:ext cx="103320" cy="559800"/>
            </a:xfrm>
            <a:custGeom>
              <a:avLst/>
              <a:gdLst/>
              <a:ahLst/>
              <a:rect l="l" t="t" r="r" b="b"/>
              <a:pathLst>
                <a:path w="130" h="705">
                  <a:moveTo>
                    <a:pt x="14" y="705"/>
                  </a:moveTo>
                  <a:lnTo>
                    <a:pt x="0" y="705"/>
                  </a:lnTo>
                  <a:lnTo>
                    <a:pt x="2" y="688"/>
                  </a:lnTo>
                  <a:lnTo>
                    <a:pt x="6" y="674"/>
                  </a:lnTo>
                  <a:lnTo>
                    <a:pt x="8" y="657"/>
                  </a:lnTo>
                  <a:lnTo>
                    <a:pt x="12" y="643"/>
                  </a:lnTo>
                  <a:lnTo>
                    <a:pt x="14" y="626"/>
                  </a:lnTo>
                  <a:lnTo>
                    <a:pt x="18" y="612"/>
                  </a:lnTo>
                  <a:lnTo>
                    <a:pt x="20" y="595"/>
                  </a:lnTo>
                  <a:lnTo>
                    <a:pt x="24" y="581"/>
                  </a:lnTo>
                  <a:lnTo>
                    <a:pt x="26" y="564"/>
                  </a:lnTo>
                  <a:lnTo>
                    <a:pt x="29" y="550"/>
                  </a:lnTo>
                  <a:lnTo>
                    <a:pt x="31" y="533"/>
                  </a:lnTo>
                  <a:lnTo>
                    <a:pt x="35" y="519"/>
                  </a:lnTo>
                  <a:lnTo>
                    <a:pt x="37" y="504"/>
                  </a:lnTo>
                  <a:lnTo>
                    <a:pt x="41" y="488"/>
                  </a:lnTo>
                  <a:lnTo>
                    <a:pt x="43" y="473"/>
                  </a:lnTo>
                  <a:lnTo>
                    <a:pt x="49" y="459"/>
                  </a:lnTo>
                  <a:lnTo>
                    <a:pt x="51" y="442"/>
                  </a:lnTo>
                  <a:lnTo>
                    <a:pt x="55" y="428"/>
                  </a:lnTo>
                  <a:lnTo>
                    <a:pt x="57" y="411"/>
                  </a:lnTo>
                  <a:lnTo>
                    <a:pt x="60" y="397"/>
                  </a:lnTo>
                  <a:lnTo>
                    <a:pt x="64" y="382"/>
                  </a:lnTo>
                  <a:lnTo>
                    <a:pt x="68" y="366"/>
                  </a:lnTo>
                  <a:lnTo>
                    <a:pt x="72" y="351"/>
                  </a:lnTo>
                  <a:lnTo>
                    <a:pt x="78" y="337"/>
                  </a:lnTo>
                  <a:lnTo>
                    <a:pt x="80" y="320"/>
                  </a:lnTo>
                  <a:lnTo>
                    <a:pt x="84" y="306"/>
                  </a:lnTo>
                  <a:lnTo>
                    <a:pt x="88" y="291"/>
                  </a:lnTo>
                  <a:lnTo>
                    <a:pt x="93" y="277"/>
                  </a:lnTo>
                  <a:lnTo>
                    <a:pt x="97" y="261"/>
                  </a:lnTo>
                  <a:lnTo>
                    <a:pt x="103" y="248"/>
                  </a:lnTo>
                  <a:lnTo>
                    <a:pt x="109" y="232"/>
                  </a:lnTo>
                  <a:lnTo>
                    <a:pt x="115" y="219"/>
                  </a:lnTo>
                  <a:lnTo>
                    <a:pt x="117" y="205"/>
                  </a:lnTo>
                  <a:lnTo>
                    <a:pt x="119" y="192"/>
                  </a:lnTo>
                  <a:lnTo>
                    <a:pt x="119" y="178"/>
                  </a:lnTo>
                  <a:lnTo>
                    <a:pt x="121" y="166"/>
                  </a:lnTo>
                  <a:lnTo>
                    <a:pt x="119" y="153"/>
                  </a:lnTo>
                  <a:lnTo>
                    <a:pt x="119" y="139"/>
                  </a:lnTo>
                  <a:lnTo>
                    <a:pt x="119" y="126"/>
                  </a:lnTo>
                  <a:lnTo>
                    <a:pt x="119" y="114"/>
                  </a:lnTo>
                  <a:lnTo>
                    <a:pt x="117" y="101"/>
                  </a:lnTo>
                  <a:lnTo>
                    <a:pt x="115" y="87"/>
                  </a:lnTo>
                  <a:lnTo>
                    <a:pt x="113" y="73"/>
                  </a:lnTo>
                  <a:lnTo>
                    <a:pt x="113" y="62"/>
                  </a:lnTo>
                  <a:lnTo>
                    <a:pt x="111" y="48"/>
                  </a:lnTo>
                  <a:lnTo>
                    <a:pt x="111" y="35"/>
                  </a:lnTo>
                  <a:lnTo>
                    <a:pt x="111" y="23"/>
                  </a:lnTo>
                  <a:lnTo>
                    <a:pt x="111" y="11"/>
                  </a:lnTo>
                  <a:lnTo>
                    <a:pt x="103" y="4"/>
                  </a:lnTo>
                  <a:lnTo>
                    <a:pt x="105" y="0"/>
                  </a:lnTo>
                  <a:lnTo>
                    <a:pt x="109" y="4"/>
                  </a:lnTo>
                  <a:lnTo>
                    <a:pt x="111" y="7"/>
                  </a:lnTo>
                  <a:lnTo>
                    <a:pt x="117" y="13"/>
                  </a:lnTo>
                  <a:lnTo>
                    <a:pt x="117" y="23"/>
                  </a:lnTo>
                  <a:lnTo>
                    <a:pt x="119" y="35"/>
                  </a:lnTo>
                  <a:lnTo>
                    <a:pt x="121" y="46"/>
                  </a:lnTo>
                  <a:lnTo>
                    <a:pt x="123" y="58"/>
                  </a:lnTo>
                  <a:lnTo>
                    <a:pt x="123" y="68"/>
                  </a:lnTo>
                  <a:lnTo>
                    <a:pt x="124" y="79"/>
                  </a:lnTo>
                  <a:lnTo>
                    <a:pt x="126" y="91"/>
                  </a:lnTo>
                  <a:lnTo>
                    <a:pt x="128" y="102"/>
                  </a:lnTo>
                  <a:lnTo>
                    <a:pt x="128" y="112"/>
                  </a:lnTo>
                  <a:lnTo>
                    <a:pt x="128" y="124"/>
                  </a:lnTo>
                  <a:lnTo>
                    <a:pt x="128" y="135"/>
                  </a:lnTo>
                  <a:lnTo>
                    <a:pt x="128" y="147"/>
                  </a:lnTo>
                  <a:lnTo>
                    <a:pt x="128" y="159"/>
                  </a:lnTo>
                  <a:lnTo>
                    <a:pt x="128" y="170"/>
                  </a:lnTo>
                  <a:lnTo>
                    <a:pt x="128" y="182"/>
                  </a:lnTo>
                  <a:lnTo>
                    <a:pt x="130" y="194"/>
                  </a:lnTo>
                  <a:lnTo>
                    <a:pt x="128" y="203"/>
                  </a:lnTo>
                  <a:lnTo>
                    <a:pt x="128" y="215"/>
                  </a:lnTo>
                  <a:lnTo>
                    <a:pt x="126" y="225"/>
                  </a:lnTo>
                  <a:lnTo>
                    <a:pt x="126" y="236"/>
                  </a:lnTo>
                  <a:lnTo>
                    <a:pt x="124" y="246"/>
                  </a:lnTo>
                  <a:lnTo>
                    <a:pt x="123" y="258"/>
                  </a:lnTo>
                  <a:lnTo>
                    <a:pt x="121" y="269"/>
                  </a:lnTo>
                  <a:lnTo>
                    <a:pt x="121" y="281"/>
                  </a:lnTo>
                  <a:lnTo>
                    <a:pt x="119" y="291"/>
                  </a:lnTo>
                  <a:lnTo>
                    <a:pt x="117" y="302"/>
                  </a:lnTo>
                  <a:lnTo>
                    <a:pt x="115" y="312"/>
                  </a:lnTo>
                  <a:lnTo>
                    <a:pt x="113" y="323"/>
                  </a:lnTo>
                  <a:lnTo>
                    <a:pt x="111" y="333"/>
                  </a:lnTo>
                  <a:lnTo>
                    <a:pt x="109" y="345"/>
                  </a:lnTo>
                  <a:lnTo>
                    <a:pt x="107" y="356"/>
                  </a:lnTo>
                  <a:lnTo>
                    <a:pt x="107" y="368"/>
                  </a:lnTo>
                  <a:lnTo>
                    <a:pt x="101" y="387"/>
                  </a:lnTo>
                  <a:lnTo>
                    <a:pt x="95" y="409"/>
                  </a:lnTo>
                  <a:lnTo>
                    <a:pt x="92" y="418"/>
                  </a:lnTo>
                  <a:lnTo>
                    <a:pt x="90" y="430"/>
                  </a:lnTo>
                  <a:lnTo>
                    <a:pt x="88" y="440"/>
                  </a:lnTo>
                  <a:lnTo>
                    <a:pt x="86" y="451"/>
                  </a:lnTo>
                  <a:lnTo>
                    <a:pt x="82" y="461"/>
                  </a:lnTo>
                  <a:lnTo>
                    <a:pt x="80" y="471"/>
                  </a:lnTo>
                  <a:lnTo>
                    <a:pt x="76" y="482"/>
                  </a:lnTo>
                  <a:lnTo>
                    <a:pt x="74" y="494"/>
                  </a:lnTo>
                  <a:lnTo>
                    <a:pt x="70" y="504"/>
                  </a:lnTo>
                  <a:lnTo>
                    <a:pt x="68" y="514"/>
                  </a:lnTo>
                  <a:lnTo>
                    <a:pt x="64" y="525"/>
                  </a:lnTo>
                  <a:lnTo>
                    <a:pt x="62" y="537"/>
                  </a:lnTo>
                  <a:lnTo>
                    <a:pt x="55" y="556"/>
                  </a:lnTo>
                  <a:lnTo>
                    <a:pt x="49" y="577"/>
                  </a:lnTo>
                  <a:lnTo>
                    <a:pt x="45" y="587"/>
                  </a:lnTo>
                  <a:lnTo>
                    <a:pt x="43" y="599"/>
                  </a:lnTo>
                  <a:lnTo>
                    <a:pt x="39" y="609"/>
                  </a:lnTo>
                  <a:lnTo>
                    <a:pt x="37" y="620"/>
                  </a:lnTo>
                  <a:lnTo>
                    <a:pt x="33" y="630"/>
                  </a:lnTo>
                  <a:lnTo>
                    <a:pt x="31" y="640"/>
                  </a:lnTo>
                  <a:lnTo>
                    <a:pt x="28" y="651"/>
                  </a:lnTo>
                  <a:lnTo>
                    <a:pt x="26" y="663"/>
                  </a:lnTo>
                  <a:lnTo>
                    <a:pt x="22" y="673"/>
                  </a:lnTo>
                  <a:lnTo>
                    <a:pt x="20" y="682"/>
                  </a:lnTo>
                  <a:lnTo>
                    <a:pt x="16" y="694"/>
                  </a:lnTo>
                  <a:lnTo>
                    <a:pt x="14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2270160" y="3803400"/>
              <a:ext cx="99720" cy="48960"/>
            </a:xfrm>
            <a:custGeom>
              <a:avLst/>
              <a:gdLst/>
              <a:ahLst/>
              <a:rect l="l" t="t" r="r" b="b"/>
              <a:pathLst>
                <a:path w="126" h="62">
                  <a:moveTo>
                    <a:pt x="0" y="42"/>
                  </a:moveTo>
                  <a:lnTo>
                    <a:pt x="0" y="34"/>
                  </a:lnTo>
                  <a:lnTo>
                    <a:pt x="2" y="29"/>
                  </a:lnTo>
                  <a:lnTo>
                    <a:pt x="13" y="34"/>
                  </a:lnTo>
                  <a:lnTo>
                    <a:pt x="29" y="36"/>
                  </a:lnTo>
                  <a:lnTo>
                    <a:pt x="44" y="34"/>
                  </a:lnTo>
                  <a:lnTo>
                    <a:pt x="60" y="34"/>
                  </a:lnTo>
                  <a:lnTo>
                    <a:pt x="70" y="17"/>
                  </a:lnTo>
                  <a:lnTo>
                    <a:pt x="73" y="0"/>
                  </a:lnTo>
                  <a:lnTo>
                    <a:pt x="126" y="62"/>
                  </a:lnTo>
                  <a:lnTo>
                    <a:pt x="108" y="58"/>
                  </a:lnTo>
                  <a:lnTo>
                    <a:pt x="93" y="54"/>
                  </a:lnTo>
                  <a:lnTo>
                    <a:pt x="77" y="50"/>
                  </a:lnTo>
                  <a:lnTo>
                    <a:pt x="62" y="48"/>
                  </a:lnTo>
                  <a:lnTo>
                    <a:pt x="46" y="44"/>
                  </a:lnTo>
                  <a:lnTo>
                    <a:pt x="31" y="42"/>
                  </a:lnTo>
                  <a:lnTo>
                    <a:pt x="15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224080" y="3313080"/>
              <a:ext cx="135000" cy="543960"/>
            </a:xfrm>
            <a:custGeom>
              <a:avLst/>
              <a:gdLst/>
              <a:ahLst/>
              <a:rect l="l" t="t" r="r" b="b"/>
              <a:pathLst>
                <a:path w="170" h="686">
                  <a:moveTo>
                    <a:pt x="100" y="345"/>
                  </a:moveTo>
                  <a:lnTo>
                    <a:pt x="97" y="355"/>
                  </a:lnTo>
                  <a:lnTo>
                    <a:pt x="95" y="365"/>
                  </a:lnTo>
                  <a:lnTo>
                    <a:pt x="93" y="376"/>
                  </a:lnTo>
                  <a:lnTo>
                    <a:pt x="91" y="388"/>
                  </a:lnTo>
                  <a:lnTo>
                    <a:pt x="87" y="398"/>
                  </a:lnTo>
                  <a:lnTo>
                    <a:pt x="87" y="407"/>
                  </a:lnTo>
                  <a:lnTo>
                    <a:pt x="83" y="419"/>
                  </a:lnTo>
                  <a:lnTo>
                    <a:pt x="83" y="430"/>
                  </a:lnTo>
                  <a:lnTo>
                    <a:pt x="79" y="440"/>
                  </a:lnTo>
                  <a:lnTo>
                    <a:pt x="77" y="450"/>
                  </a:lnTo>
                  <a:lnTo>
                    <a:pt x="75" y="461"/>
                  </a:lnTo>
                  <a:lnTo>
                    <a:pt x="73" y="473"/>
                  </a:lnTo>
                  <a:lnTo>
                    <a:pt x="69" y="483"/>
                  </a:lnTo>
                  <a:lnTo>
                    <a:pt x="69" y="493"/>
                  </a:lnTo>
                  <a:lnTo>
                    <a:pt x="65" y="504"/>
                  </a:lnTo>
                  <a:lnTo>
                    <a:pt x="65" y="516"/>
                  </a:lnTo>
                  <a:lnTo>
                    <a:pt x="60" y="535"/>
                  </a:lnTo>
                  <a:lnTo>
                    <a:pt x="54" y="557"/>
                  </a:lnTo>
                  <a:lnTo>
                    <a:pt x="50" y="566"/>
                  </a:lnTo>
                  <a:lnTo>
                    <a:pt x="48" y="578"/>
                  </a:lnTo>
                  <a:lnTo>
                    <a:pt x="46" y="588"/>
                  </a:lnTo>
                  <a:lnTo>
                    <a:pt x="44" y="599"/>
                  </a:lnTo>
                  <a:lnTo>
                    <a:pt x="40" y="609"/>
                  </a:lnTo>
                  <a:lnTo>
                    <a:pt x="38" y="619"/>
                  </a:lnTo>
                  <a:lnTo>
                    <a:pt x="34" y="630"/>
                  </a:lnTo>
                  <a:lnTo>
                    <a:pt x="33" y="642"/>
                  </a:lnTo>
                  <a:lnTo>
                    <a:pt x="29" y="652"/>
                  </a:lnTo>
                  <a:lnTo>
                    <a:pt x="27" y="661"/>
                  </a:lnTo>
                  <a:lnTo>
                    <a:pt x="23" y="673"/>
                  </a:lnTo>
                  <a:lnTo>
                    <a:pt x="21" y="684"/>
                  </a:lnTo>
                  <a:lnTo>
                    <a:pt x="9" y="686"/>
                  </a:lnTo>
                  <a:lnTo>
                    <a:pt x="0" y="683"/>
                  </a:lnTo>
                  <a:lnTo>
                    <a:pt x="0" y="671"/>
                  </a:lnTo>
                  <a:lnTo>
                    <a:pt x="0" y="659"/>
                  </a:lnTo>
                  <a:lnTo>
                    <a:pt x="1" y="648"/>
                  </a:lnTo>
                  <a:lnTo>
                    <a:pt x="3" y="636"/>
                  </a:lnTo>
                  <a:lnTo>
                    <a:pt x="5" y="624"/>
                  </a:lnTo>
                  <a:lnTo>
                    <a:pt x="7" y="615"/>
                  </a:lnTo>
                  <a:lnTo>
                    <a:pt x="9" y="603"/>
                  </a:lnTo>
                  <a:lnTo>
                    <a:pt x="13" y="593"/>
                  </a:lnTo>
                  <a:lnTo>
                    <a:pt x="13" y="582"/>
                  </a:lnTo>
                  <a:lnTo>
                    <a:pt x="17" y="570"/>
                  </a:lnTo>
                  <a:lnTo>
                    <a:pt x="19" y="558"/>
                  </a:lnTo>
                  <a:lnTo>
                    <a:pt x="23" y="549"/>
                  </a:lnTo>
                  <a:lnTo>
                    <a:pt x="29" y="527"/>
                  </a:lnTo>
                  <a:lnTo>
                    <a:pt x="34" y="508"/>
                  </a:lnTo>
                  <a:lnTo>
                    <a:pt x="36" y="496"/>
                  </a:lnTo>
                  <a:lnTo>
                    <a:pt x="40" y="485"/>
                  </a:lnTo>
                  <a:lnTo>
                    <a:pt x="42" y="475"/>
                  </a:lnTo>
                  <a:lnTo>
                    <a:pt x="46" y="465"/>
                  </a:lnTo>
                  <a:lnTo>
                    <a:pt x="48" y="454"/>
                  </a:lnTo>
                  <a:lnTo>
                    <a:pt x="52" y="442"/>
                  </a:lnTo>
                  <a:lnTo>
                    <a:pt x="54" y="432"/>
                  </a:lnTo>
                  <a:lnTo>
                    <a:pt x="60" y="423"/>
                  </a:lnTo>
                  <a:lnTo>
                    <a:pt x="65" y="401"/>
                  </a:lnTo>
                  <a:lnTo>
                    <a:pt x="73" y="382"/>
                  </a:lnTo>
                  <a:lnTo>
                    <a:pt x="81" y="361"/>
                  </a:lnTo>
                  <a:lnTo>
                    <a:pt x="89" y="341"/>
                  </a:lnTo>
                  <a:lnTo>
                    <a:pt x="91" y="330"/>
                  </a:lnTo>
                  <a:lnTo>
                    <a:pt x="95" y="318"/>
                  </a:lnTo>
                  <a:lnTo>
                    <a:pt x="97" y="308"/>
                  </a:lnTo>
                  <a:lnTo>
                    <a:pt x="100" y="299"/>
                  </a:lnTo>
                  <a:lnTo>
                    <a:pt x="102" y="287"/>
                  </a:lnTo>
                  <a:lnTo>
                    <a:pt x="106" y="275"/>
                  </a:lnTo>
                  <a:lnTo>
                    <a:pt x="110" y="266"/>
                  </a:lnTo>
                  <a:lnTo>
                    <a:pt x="114" y="256"/>
                  </a:lnTo>
                  <a:lnTo>
                    <a:pt x="116" y="244"/>
                  </a:lnTo>
                  <a:lnTo>
                    <a:pt x="120" y="235"/>
                  </a:lnTo>
                  <a:lnTo>
                    <a:pt x="122" y="223"/>
                  </a:lnTo>
                  <a:lnTo>
                    <a:pt x="126" y="213"/>
                  </a:lnTo>
                  <a:lnTo>
                    <a:pt x="131" y="192"/>
                  </a:lnTo>
                  <a:lnTo>
                    <a:pt x="139" y="173"/>
                  </a:lnTo>
                  <a:lnTo>
                    <a:pt x="139" y="161"/>
                  </a:lnTo>
                  <a:lnTo>
                    <a:pt x="143" y="149"/>
                  </a:lnTo>
                  <a:lnTo>
                    <a:pt x="143" y="140"/>
                  </a:lnTo>
                  <a:lnTo>
                    <a:pt x="147" y="130"/>
                  </a:lnTo>
                  <a:lnTo>
                    <a:pt x="149" y="118"/>
                  </a:lnTo>
                  <a:lnTo>
                    <a:pt x="151" y="107"/>
                  </a:lnTo>
                  <a:lnTo>
                    <a:pt x="153" y="97"/>
                  </a:lnTo>
                  <a:lnTo>
                    <a:pt x="157" y="87"/>
                  </a:lnTo>
                  <a:lnTo>
                    <a:pt x="157" y="76"/>
                  </a:lnTo>
                  <a:lnTo>
                    <a:pt x="159" y="64"/>
                  </a:lnTo>
                  <a:lnTo>
                    <a:pt x="161" y="52"/>
                  </a:lnTo>
                  <a:lnTo>
                    <a:pt x="162" y="43"/>
                  </a:lnTo>
                  <a:lnTo>
                    <a:pt x="164" y="31"/>
                  </a:lnTo>
                  <a:lnTo>
                    <a:pt x="166" y="21"/>
                  </a:lnTo>
                  <a:lnTo>
                    <a:pt x="168" y="10"/>
                  </a:lnTo>
                  <a:lnTo>
                    <a:pt x="170" y="0"/>
                  </a:lnTo>
                  <a:lnTo>
                    <a:pt x="170" y="10"/>
                  </a:lnTo>
                  <a:lnTo>
                    <a:pt x="170" y="21"/>
                  </a:lnTo>
                  <a:lnTo>
                    <a:pt x="170" y="33"/>
                  </a:lnTo>
                  <a:lnTo>
                    <a:pt x="170" y="45"/>
                  </a:lnTo>
                  <a:lnTo>
                    <a:pt x="168" y="54"/>
                  </a:lnTo>
                  <a:lnTo>
                    <a:pt x="168" y="66"/>
                  </a:lnTo>
                  <a:lnTo>
                    <a:pt x="166" y="78"/>
                  </a:lnTo>
                  <a:lnTo>
                    <a:pt x="166" y="89"/>
                  </a:lnTo>
                  <a:lnTo>
                    <a:pt x="162" y="99"/>
                  </a:lnTo>
                  <a:lnTo>
                    <a:pt x="161" y="109"/>
                  </a:lnTo>
                  <a:lnTo>
                    <a:pt x="159" y="120"/>
                  </a:lnTo>
                  <a:lnTo>
                    <a:pt x="157" y="132"/>
                  </a:lnTo>
                  <a:lnTo>
                    <a:pt x="153" y="142"/>
                  </a:lnTo>
                  <a:lnTo>
                    <a:pt x="151" y="151"/>
                  </a:lnTo>
                  <a:lnTo>
                    <a:pt x="149" y="163"/>
                  </a:lnTo>
                  <a:lnTo>
                    <a:pt x="147" y="175"/>
                  </a:lnTo>
                  <a:lnTo>
                    <a:pt x="139" y="194"/>
                  </a:lnTo>
                  <a:lnTo>
                    <a:pt x="131" y="215"/>
                  </a:lnTo>
                  <a:lnTo>
                    <a:pt x="128" y="225"/>
                  </a:lnTo>
                  <a:lnTo>
                    <a:pt x="126" y="235"/>
                  </a:lnTo>
                  <a:lnTo>
                    <a:pt x="122" y="246"/>
                  </a:lnTo>
                  <a:lnTo>
                    <a:pt x="120" y="258"/>
                  </a:lnTo>
                  <a:lnTo>
                    <a:pt x="114" y="277"/>
                  </a:lnTo>
                  <a:lnTo>
                    <a:pt x="108" y="299"/>
                  </a:lnTo>
                  <a:lnTo>
                    <a:pt x="104" y="310"/>
                  </a:lnTo>
                  <a:lnTo>
                    <a:pt x="102" y="322"/>
                  </a:lnTo>
                  <a:lnTo>
                    <a:pt x="100" y="334"/>
                  </a:lnTo>
                  <a:lnTo>
                    <a:pt x="100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1558800" y="2773080"/>
              <a:ext cx="789120" cy="394920"/>
            </a:xfrm>
            <a:custGeom>
              <a:avLst/>
              <a:gdLst/>
              <a:ahLst/>
              <a:rect l="l" t="t" r="r" b="b"/>
              <a:pathLst>
                <a:path w="995" h="499">
                  <a:moveTo>
                    <a:pt x="983" y="367"/>
                  </a:moveTo>
                  <a:lnTo>
                    <a:pt x="964" y="365"/>
                  </a:lnTo>
                  <a:lnTo>
                    <a:pt x="946" y="365"/>
                  </a:lnTo>
                  <a:lnTo>
                    <a:pt x="929" y="365"/>
                  </a:lnTo>
                  <a:lnTo>
                    <a:pt x="913" y="367"/>
                  </a:lnTo>
                  <a:lnTo>
                    <a:pt x="896" y="367"/>
                  </a:lnTo>
                  <a:lnTo>
                    <a:pt x="880" y="371"/>
                  </a:lnTo>
                  <a:lnTo>
                    <a:pt x="865" y="375"/>
                  </a:lnTo>
                  <a:lnTo>
                    <a:pt x="851" y="380"/>
                  </a:lnTo>
                  <a:lnTo>
                    <a:pt x="834" y="384"/>
                  </a:lnTo>
                  <a:lnTo>
                    <a:pt x="818" y="388"/>
                  </a:lnTo>
                  <a:lnTo>
                    <a:pt x="803" y="394"/>
                  </a:lnTo>
                  <a:lnTo>
                    <a:pt x="789" y="400"/>
                  </a:lnTo>
                  <a:lnTo>
                    <a:pt x="774" y="406"/>
                  </a:lnTo>
                  <a:lnTo>
                    <a:pt x="760" y="413"/>
                  </a:lnTo>
                  <a:lnTo>
                    <a:pt x="744" y="419"/>
                  </a:lnTo>
                  <a:lnTo>
                    <a:pt x="731" y="427"/>
                  </a:lnTo>
                  <a:lnTo>
                    <a:pt x="715" y="433"/>
                  </a:lnTo>
                  <a:lnTo>
                    <a:pt x="700" y="439"/>
                  </a:lnTo>
                  <a:lnTo>
                    <a:pt x="684" y="444"/>
                  </a:lnTo>
                  <a:lnTo>
                    <a:pt x="671" y="452"/>
                  </a:lnTo>
                  <a:lnTo>
                    <a:pt x="655" y="456"/>
                  </a:lnTo>
                  <a:lnTo>
                    <a:pt x="642" y="462"/>
                  </a:lnTo>
                  <a:lnTo>
                    <a:pt x="626" y="468"/>
                  </a:lnTo>
                  <a:lnTo>
                    <a:pt x="613" y="474"/>
                  </a:lnTo>
                  <a:lnTo>
                    <a:pt x="597" y="477"/>
                  </a:lnTo>
                  <a:lnTo>
                    <a:pt x="582" y="481"/>
                  </a:lnTo>
                  <a:lnTo>
                    <a:pt x="566" y="485"/>
                  </a:lnTo>
                  <a:lnTo>
                    <a:pt x="551" y="489"/>
                  </a:lnTo>
                  <a:lnTo>
                    <a:pt x="533" y="491"/>
                  </a:lnTo>
                  <a:lnTo>
                    <a:pt x="518" y="495"/>
                  </a:lnTo>
                  <a:lnTo>
                    <a:pt x="502" y="497"/>
                  </a:lnTo>
                  <a:lnTo>
                    <a:pt x="487" y="499"/>
                  </a:lnTo>
                  <a:lnTo>
                    <a:pt x="471" y="499"/>
                  </a:lnTo>
                  <a:lnTo>
                    <a:pt x="457" y="499"/>
                  </a:lnTo>
                  <a:lnTo>
                    <a:pt x="442" y="499"/>
                  </a:lnTo>
                  <a:lnTo>
                    <a:pt x="428" y="499"/>
                  </a:lnTo>
                  <a:lnTo>
                    <a:pt x="415" y="497"/>
                  </a:lnTo>
                  <a:lnTo>
                    <a:pt x="401" y="495"/>
                  </a:lnTo>
                  <a:lnTo>
                    <a:pt x="388" y="493"/>
                  </a:lnTo>
                  <a:lnTo>
                    <a:pt x="376" y="493"/>
                  </a:lnTo>
                  <a:lnTo>
                    <a:pt x="362" y="489"/>
                  </a:lnTo>
                  <a:lnTo>
                    <a:pt x="349" y="487"/>
                  </a:lnTo>
                  <a:lnTo>
                    <a:pt x="335" y="483"/>
                  </a:lnTo>
                  <a:lnTo>
                    <a:pt x="324" y="481"/>
                  </a:lnTo>
                  <a:lnTo>
                    <a:pt x="310" y="477"/>
                  </a:lnTo>
                  <a:lnTo>
                    <a:pt x="298" y="474"/>
                  </a:lnTo>
                  <a:lnTo>
                    <a:pt x="287" y="470"/>
                  </a:lnTo>
                  <a:lnTo>
                    <a:pt x="275" y="468"/>
                  </a:lnTo>
                  <a:lnTo>
                    <a:pt x="262" y="462"/>
                  </a:lnTo>
                  <a:lnTo>
                    <a:pt x="250" y="456"/>
                  </a:lnTo>
                  <a:lnTo>
                    <a:pt x="238" y="450"/>
                  </a:lnTo>
                  <a:lnTo>
                    <a:pt x="227" y="446"/>
                  </a:lnTo>
                  <a:lnTo>
                    <a:pt x="215" y="441"/>
                  </a:lnTo>
                  <a:lnTo>
                    <a:pt x="203" y="435"/>
                  </a:lnTo>
                  <a:lnTo>
                    <a:pt x="192" y="429"/>
                  </a:lnTo>
                  <a:lnTo>
                    <a:pt x="182" y="423"/>
                  </a:lnTo>
                  <a:lnTo>
                    <a:pt x="170" y="415"/>
                  </a:lnTo>
                  <a:lnTo>
                    <a:pt x="159" y="410"/>
                  </a:lnTo>
                  <a:lnTo>
                    <a:pt x="147" y="402"/>
                  </a:lnTo>
                  <a:lnTo>
                    <a:pt x="135" y="396"/>
                  </a:lnTo>
                  <a:lnTo>
                    <a:pt x="114" y="380"/>
                  </a:lnTo>
                  <a:lnTo>
                    <a:pt x="95" y="367"/>
                  </a:lnTo>
                  <a:lnTo>
                    <a:pt x="83" y="355"/>
                  </a:lnTo>
                  <a:lnTo>
                    <a:pt x="71" y="346"/>
                  </a:lnTo>
                  <a:lnTo>
                    <a:pt x="62" y="334"/>
                  </a:lnTo>
                  <a:lnTo>
                    <a:pt x="52" y="324"/>
                  </a:lnTo>
                  <a:lnTo>
                    <a:pt x="42" y="311"/>
                  </a:lnTo>
                  <a:lnTo>
                    <a:pt x="35" y="299"/>
                  </a:lnTo>
                  <a:lnTo>
                    <a:pt x="27" y="287"/>
                  </a:lnTo>
                  <a:lnTo>
                    <a:pt x="21" y="276"/>
                  </a:lnTo>
                  <a:lnTo>
                    <a:pt x="13" y="260"/>
                  </a:lnTo>
                  <a:lnTo>
                    <a:pt x="7" y="249"/>
                  </a:lnTo>
                  <a:lnTo>
                    <a:pt x="4" y="233"/>
                  </a:lnTo>
                  <a:lnTo>
                    <a:pt x="2" y="221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6" y="161"/>
                  </a:lnTo>
                  <a:lnTo>
                    <a:pt x="7" y="146"/>
                  </a:lnTo>
                  <a:lnTo>
                    <a:pt x="11" y="132"/>
                  </a:lnTo>
                  <a:lnTo>
                    <a:pt x="17" y="121"/>
                  </a:lnTo>
                  <a:lnTo>
                    <a:pt x="25" y="109"/>
                  </a:lnTo>
                  <a:lnTo>
                    <a:pt x="33" y="95"/>
                  </a:lnTo>
                  <a:lnTo>
                    <a:pt x="42" y="84"/>
                  </a:lnTo>
                  <a:lnTo>
                    <a:pt x="52" y="74"/>
                  </a:lnTo>
                  <a:lnTo>
                    <a:pt x="64" y="64"/>
                  </a:lnTo>
                  <a:lnTo>
                    <a:pt x="73" y="53"/>
                  </a:lnTo>
                  <a:lnTo>
                    <a:pt x="85" y="45"/>
                  </a:lnTo>
                  <a:lnTo>
                    <a:pt x="97" y="35"/>
                  </a:lnTo>
                  <a:lnTo>
                    <a:pt x="108" y="30"/>
                  </a:lnTo>
                  <a:lnTo>
                    <a:pt x="120" y="22"/>
                  </a:lnTo>
                  <a:lnTo>
                    <a:pt x="134" y="16"/>
                  </a:lnTo>
                  <a:lnTo>
                    <a:pt x="147" y="12"/>
                  </a:lnTo>
                  <a:lnTo>
                    <a:pt x="163" y="10"/>
                  </a:lnTo>
                  <a:lnTo>
                    <a:pt x="174" y="8"/>
                  </a:lnTo>
                  <a:lnTo>
                    <a:pt x="190" y="6"/>
                  </a:lnTo>
                  <a:lnTo>
                    <a:pt x="205" y="2"/>
                  </a:lnTo>
                  <a:lnTo>
                    <a:pt x="223" y="2"/>
                  </a:lnTo>
                  <a:lnTo>
                    <a:pt x="236" y="0"/>
                  </a:lnTo>
                  <a:lnTo>
                    <a:pt x="252" y="2"/>
                  </a:lnTo>
                  <a:lnTo>
                    <a:pt x="263" y="6"/>
                  </a:lnTo>
                  <a:lnTo>
                    <a:pt x="277" y="18"/>
                  </a:lnTo>
                  <a:lnTo>
                    <a:pt x="275" y="30"/>
                  </a:lnTo>
                  <a:lnTo>
                    <a:pt x="269" y="37"/>
                  </a:lnTo>
                  <a:lnTo>
                    <a:pt x="254" y="35"/>
                  </a:lnTo>
                  <a:lnTo>
                    <a:pt x="240" y="35"/>
                  </a:lnTo>
                  <a:lnTo>
                    <a:pt x="225" y="37"/>
                  </a:lnTo>
                  <a:lnTo>
                    <a:pt x="213" y="41"/>
                  </a:lnTo>
                  <a:lnTo>
                    <a:pt x="198" y="43"/>
                  </a:lnTo>
                  <a:lnTo>
                    <a:pt x="186" y="49"/>
                  </a:lnTo>
                  <a:lnTo>
                    <a:pt x="174" y="55"/>
                  </a:lnTo>
                  <a:lnTo>
                    <a:pt x="163" y="61"/>
                  </a:lnTo>
                  <a:lnTo>
                    <a:pt x="151" y="66"/>
                  </a:lnTo>
                  <a:lnTo>
                    <a:pt x="139" y="72"/>
                  </a:lnTo>
                  <a:lnTo>
                    <a:pt x="128" y="80"/>
                  </a:lnTo>
                  <a:lnTo>
                    <a:pt x="118" y="90"/>
                  </a:lnTo>
                  <a:lnTo>
                    <a:pt x="106" y="99"/>
                  </a:lnTo>
                  <a:lnTo>
                    <a:pt x="99" y="109"/>
                  </a:lnTo>
                  <a:lnTo>
                    <a:pt x="89" y="121"/>
                  </a:lnTo>
                  <a:lnTo>
                    <a:pt x="83" y="132"/>
                  </a:lnTo>
                  <a:lnTo>
                    <a:pt x="71" y="144"/>
                  </a:lnTo>
                  <a:lnTo>
                    <a:pt x="68" y="159"/>
                  </a:lnTo>
                  <a:lnTo>
                    <a:pt x="64" y="175"/>
                  </a:lnTo>
                  <a:lnTo>
                    <a:pt x="64" y="192"/>
                  </a:lnTo>
                  <a:lnTo>
                    <a:pt x="64" y="208"/>
                  </a:lnTo>
                  <a:lnTo>
                    <a:pt x="70" y="225"/>
                  </a:lnTo>
                  <a:lnTo>
                    <a:pt x="75" y="239"/>
                  </a:lnTo>
                  <a:lnTo>
                    <a:pt x="85" y="254"/>
                  </a:lnTo>
                  <a:lnTo>
                    <a:pt x="91" y="266"/>
                  </a:lnTo>
                  <a:lnTo>
                    <a:pt x="101" y="280"/>
                  </a:lnTo>
                  <a:lnTo>
                    <a:pt x="108" y="291"/>
                  </a:lnTo>
                  <a:lnTo>
                    <a:pt x="120" y="305"/>
                  </a:lnTo>
                  <a:lnTo>
                    <a:pt x="128" y="315"/>
                  </a:lnTo>
                  <a:lnTo>
                    <a:pt x="137" y="326"/>
                  </a:lnTo>
                  <a:lnTo>
                    <a:pt x="149" y="338"/>
                  </a:lnTo>
                  <a:lnTo>
                    <a:pt x="161" y="349"/>
                  </a:lnTo>
                  <a:lnTo>
                    <a:pt x="170" y="359"/>
                  </a:lnTo>
                  <a:lnTo>
                    <a:pt x="182" y="369"/>
                  </a:lnTo>
                  <a:lnTo>
                    <a:pt x="194" y="379"/>
                  </a:lnTo>
                  <a:lnTo>
                    <a:pt x="205" y="388"/>
                  </a:lnTo>
                  <a:lnTo>
                    <a:pt x="217" y="396"/>
                  </a:lnTo>
                  <a:lnTo>
                    <a:pt x="231" y="404"/>
                  </a:lnTo>
                  <a:lnTo>
                    <a:pt x="244" y="411"/>
                  </a:lnTo>
                  <a:lnTo>
                    <a:pt x="258" y="419"/>
                  </a:lnTo>
                  <a:lnTo>
                    <a:pt x="269" y="423"/>
                  </a:lnTo>
                  <a:lnTo>
                    <a:pt x="283" y="429"/>
                  </a:lnTo>
                  <a:lnTo>
                    <a:pt x="296" y="435"/>
                  </a:lnTo>
                  <a:lnTo>
                    <a:pt x="312" y="441"/>
                  </a:lnTo>
                  <a:lnTo>
                    <a:pt x="326" y="443"/>
                  </a:lnTo>
                  <a:lnTo>
                    <a:pt x="341" y="446"/>
                  </a:lnTo>
                  <a:lnTo>
                    <a:pt x="355" y="450"/>
                  </a:lnTo>
                  <a:lnTo>
                    <a:pt x="372" y="454"/>
                  </a:lnTo>
                  <a:lnTo>
                    <a:pt x="386" y="456"/>
                  </a:lnTo>
                  <a:lnTo>
                    <a:pt x="401" y="458"/>
                  </a:lnTo>
                  <a:lnTo>
                    <a:pt x="415" y="458"/>
                  </a:lnTo>
                  <a:lnTo>
                    <a:pt x="432" y="460"/>
                  </a:lnTo>
                  <a:lnTo>
                    <a:pt x="448" y="458"/>
                  </a:lnTo>
                  <a:lnTo>
                    <a:pt x="463" y="458"/>
                  </a:lnTo>
                  <a:lnTo>
                    <a:pt x="481" y="456"/>
                  </a:lnTo>
                  <a:lnTo>
                    <a:pt x="498" y="456"/>
                  </a:lnTo>
                  <a:lnTo>
                    <a:pt x="514" y="454"/>
                  </a:lnTo>
                  <a:lnTo>
                    <a:pt x="529" y="452"/>
                  </a:lnTo>
                  <a:lnTo>
                    <a:pt x="545" y="448"/>
                  </a:lnTo>
                  <a:lnTo>
                    <a:pt x="562" y="446"/>
                  </a:lnTo>
                  <a:lnTo>
                    <a:pt x="576" y="443"/>
                  </a:lnTo>
                  <a:lnTo>
                    <a:pt x="593" y="439"/>
                  </a:lnTo>
                  <a:lnTo>
                    <a:pt x="607" y="435"/>
                  </a:lnTo>
                  <a:lnTo>
                    <a:pt x="624" y="431"/>
                  </a:lnTo>
                  <a:lnTo>
                    <a:pt x="638" y="425"/>
                  </a:lnTo>
                  <a:lnTo>
                    <a:pt x="653" y="419"/>
                  </a:lnTo>
                  <a:lnTo>
                    <a:pt x="667" y="413"/>
                  </a:lnTo>
                  <a:lnTo>
                    <a:pt x="682" y="408"/>
                  </a:lnTo>
                  <a:lnTo>
                    <a:pt x="696" y="402"/>
                  </a:lnTo>
                  <a:lnTo>
                    <a:pt x="711" y="396"/>
                  </a:lnTo>
                  <a:lnTo>
                    <a:pt x="727" y="390"/>
                  </a:lnTo>
                  <a:lnTo>
                    <a:pt x="743" y="386"/>
                  </a:lnTo>
                  <a:lnTo>
                    <a:pt x="756" y="380"/>
                  </a:lnTo>
                  <a:lnTo>
                    <a:pt x="772" y="375"/>
                  </a:lnTo>
                  <a:lnTo>
                    <a:pt x="785" y="369"/>
                  </a:lnTo>
                  <a:lnTo>
                    <a:pt x="801" y="363"/>
                  </a:lnTo>
                  <a:lnTo>
                    <a:pt x="814" y="357"/>
                  </a:lnTo>
                  <a:lnTo>
                    <a:pt x="832" y="351"/>
                  </a:lnTo>
                  <a:lnTo>
                    <a:pt x="845" y="348"/>
                  </a:lnTo>
                  <a:lnTo>
                    <a:pt x="863" y="346"/>
                  </a:lnTo>
                  <a:lnTo>
                    <a:pt x="876" y="340"/>
                  </a:lnTo>
                  <a:lnTo>
                    <a:pt x="892" y="338"/>
                  </a:lnTo>
                  <a:lnTo>
                    <a:pt x="907" y="336"/>
                  </a:lnTo>
                  <a:lnTo>
                    <a:pt x="925" y="336"/>
                  </a:lnTo>
                  <a:lnTo>
                    <a:pt x="942" y="334"/>
                  </a:lnTo>
                  <a:lnTo>
                    <a:pt x="960" y="334"/>
                  </a:lnTo>
                  <a:lnTo>
                    <a:pt x="977" y="334"/>
                  </a:lnTo>
                  <a:lnTo>
                    <a:pt x="995" y="338"/>
                  </a:lnTo>
                  <a:lnTo>
                    <a:pt x="991" y="353"/>
                  </a:lnTo>
                  <a:lnTo>
                    <a:pt x="983" y="3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2282760" y="3263760"/>
              <a:ext cx="44280" cy="191520"/>
            </a:xfrm>
            <a:custGeom>
              <a:avLst/>
              <a:gdLst/>
              <a:ahLst/>
              <a:rect l="l" t="t" r="r" b="b"/>
              <a:pathLst>
                <a:path w="56" h="242">
                  <a:moveTo>
                    <a:pt x="0" y="242"/>
                  </a:moveTo>
                  <a:lnTo>
                    <a:pt x="2" y="225"/>
                  </a:lnTo>
                  <a:lnTo>
                    <a:pt x="6" y="211"/>
                  </a:lnTo>
                  <a:lnTo>
                    <a:pt x="10" y="194"/>
                  </a:lnTo>
                  <a:lnTo>
                    <a:pt x="14" y="180"/>
                  </a:lnTo>
                  <a:lnTo>
                    <a:pt x="16" y="165"/>
                  </a:lnTo>
                  <a:lnTo>
                    <a:pt x="20" y="149"/>
                  </a:lnTo>
                  <a:lnTo>
                    <a:pt x="24" y="134"/>
                  </a:lnTo>
                  <a:lnTo>
                    <a:pt x="27" y="120"/>
                  </a:lnTo>
                  <a:lnTo>
                    <a:pt x="29" y="103"/>
                  </a:lnTo>
                  <a:lnTo>
                    <a:pt x="33" y="89"/>
                  </a:lnTo>
                  <a:lnTo>
                    <a:pt x="37" y="72"/>
                  </a:lnTo>
                  <a:lnTo>
                    <a:pt x="41" y="58"/>
                  </a:lnTo>
                  <a:lnTo>
                    <a:pt x="43" y="43"/>
                  </a:lnTo>
                  <a:lnTo>
                    <a:pt x="49" y="29"/>
                  </a:lnTo>
                  <a:lnTo>
                    <a:pt x="51" y="14"/>
                  </a:lnTo>
                  <a:lnTo>
                    <a:pt x="56" y="0"/>
                  </a:lnTo>
                  <a:lnTo>
                    <a:pt x="55" y="14"/>
                  </a:lnTo>
                  <a:lnTo>
                    <a:pt x="55" y="31"/>
                  </a:lnTo>
                  <a:lnTo>
                    <a:pt x="53" y="45"/>
                  </a:lnTo>
                  <a:lnTo>
                    <a:pt x="53" y="62"/>
                  </a:lnTo>
                  <a:lnTo>
                    <a:pt x="49" y="76"/>
                  </a:lnTo>
                  <a:lnTo>
                    <a:pt x="47" y="93"/>
                  </a:lnTo>
                  <a:lnTo>
                    <a:pt x="45" y="107"/>
                  </a:lnTo>
                  <a:lnTo>
                    <a:pt x="43" y="124"/>
                  </a:lnTo>
                  <a:lnTo>
                    <a:pt x="37" y="138"/>
                  </a:lnTo>
                  <a:lnTo>
                    <a:pt x="33" y="153"/>
                  </a:lnTo>
                  <a:lnTo>
                    <a:pt x="27" y="169"/>
                  </a:lnTo>
                  <a:lnTo>
                    <a:pt x="24" y="184"/>
                  </a:lnTo>
                  <a:lnTo>
                    <a:pt x="18" y="198"/>
                  </a:lnTo>
                  <a:lnTo>
                    <a:pt x="12" y="213"/>
                  </a:lnTo>
                  <a:lnTo>
                    <a:pt x="6" y="227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154240" y="3952800"/>
              <a:ext cx="168120" cy="344160"/>
            </a:xfrm>
            <a:custGeom>
              <a:avLst/>
              <a:gdLst/>
              <a:ahLst/>
              <a:rect l="l" t="t" r="r" b="b"/>
              <a:pathLst>
                <a:path w="212" h="432">
                  <a:moveTo>
                    <a:pt x="157" y="64"/>
                  </a:moveTo>
                  <a:lnTo>
                    <a:pt x="152" y="73"/>
                  </a:lnTo>
                  <a:lnTo>
                    <a:pt x="148" y="85"/>
                  </a:lnTo>
                  <a:lnTo>
                    <a:pt x="146" y="97"/>
                  </a:lnTo>
                  <a:lnTo>
                    <a:pt x="146" y="108"/>
                  </a:lnTo>
                  <a:lnTo>
                    <a:pt x="144" y="120"/>
                  </a:lnTo>
                  <a:lnTo>
                    <a:pt x="144" y="133"/>
                  </a:lnTo>
                  <a:lnTo>
                    <a:pt x="144" y="147"/>
                  </a:lnTo>
                  <a:lnTo>
                    <a:pt x="146" y="161"/>
                  </a:lnTo>
                  <a:lnTo>
                    <a:pt x="128" y="155"/>
                  </a:lnTo>
                  <a:lnTo>
                    <a:pt x="111" y="155"/>
                  </a:lnTo>
                  <a:lnTo>
                    <a:pt x="93" y="159"/>
                  </a:lnTo>
                  <a:lnTo>
                    <a:pt x="80" y="168"/>
                  </a:lnTo>
                  <a:lnTo>
                    <a:pt x="68" y="176"/>
                  </a:lnTo>
                  <a:lnTo>
                    <a:pt x="62" y="188"/>
                  </a:lnTo>
                  <a:lnTo>
                    <a:pt x="57" y="199"/>
                  </a:lnTo>
                  <a:lnTo>
                    <a:pt x="55" y="213"/>
                  </a:lnTo>
                  <a:lnTo>
                    <a:pt x="53" y="225"/>
                  </a:lnTo>
                  <a:lnTo>
                    <a:pt x="55" y="240"/>
                  </a:lnTo>
                  <a:lnTo>
                    <a:pt x="55" y="254"/>
                  </a:lnTo>
                  <a:lnTo>
                    <a:pt x="60" y="269"/>
                  </a:lnTo>
                  <a:lnTo>
                    <a:pt x="66" y="281"/>
                  </a:lnTo>
                  <a:lnTo>
                    <a:pt x="80" y="292"/>
                  </a:lnTo>
                  <a:lnTo>
                    <a:pt x="93" y="298"/>
                  </a:lnTo>
                  <a:lnTo>
                    <a:pt x="109" y="306"/>
                  </a:lnTo>
                  <a:lnTo>
                    <a:pt x="119" y="306"/>
                  </a:lnTo>
                  <a:lnTo>
                    <a:pt x="130" y="302"/>
                  </a:lnTo>
                  <a:lnTo>
                    <a:pt x="142" y="298"/>
                  </a:lnTo>
                  <a:lnTo>
                    <a:pt x="153" y="296"/>
                  </a:lnTo>
                  <a:lnTo>
                    <a:pt x="155" y="308"/>
                  </a:lnTo>
                  <a:lnTo>
                    <a:pt x="159" y="323"/>
                  </a:lnTo>
                  <a:lnTo>
                    <a:pt x="161" y="339"/>
                  </a:lnTo>
                  <a:lnTo>
                    <a:pt x="163" y="354"/>
                  </a:lnTo>
                  <a:lnTo>
                    <a:pt x="163" y="368"/>
                  </a:lnTo>
                  <a:lnTo>
                    <a:pt x="167" y="384"/>
                  </a:lnTo>
                  <a:lnTo>
                    <a:pt x="171" y="397"/>
                  </a:lnTo>
                  <a:lnTo>
                    <a:pt x="179" y="413"/>
                  </a:lnTo>
                  <a:lnTo>
                    <a:pt x="169" y="417"/>
                  </a:lnTo>
                  <a:lnTo>
                    <a:pt x="159" y="422"/>
                  </a:lnTo>
                  <a:lnTo>
                    <a:pt x="148" y="424"/>
                  </a:lnTo>
                  <a:lnTo>
                    <a:pt x="138" y="428"/>
                  </a:lnTo>
                  <a:lnTo>
                    <a:pt x="126" y="428"/>
                  </a:lnTo>
                  <a:lnTo>
                    <a:pt x="117" y="430"/>
                  </a:lnTo>
                  <a:lnTo>
                    <a:pt x="105" y="430"/>
                  </a:lnTo>
                  <a:lnTo>
                    <a:pt x="95" y="432"/>
                  </a:lnTo>
                  <a:lnTo>
                    <a:pt x="74" y="418"/>
                  </a:lnTo>
                  <a:lnTo>
                    <a:pt x="57" y="407"/>
                  </a:lnTo>
                  <a:lnTo>
                    <a:pt x="39" y="391"/>
                  </a:lnTo>
                  <a:lnTo>
                    <a:pt x="25" y="376"/>
                  </a:lnTo>
                  <a:lnTo>
                    <a:pt x="12" y="356"/>
                  </a:lnTo>
                  <a:lnTo>
                    <a:pt x="4" y="337"/>
                  </a:lnTo>
                  <a:lnTo>
                    <a:pt x="0" y="325"/>
                  </a:lnTo>
                  <a:lnTo>
                    <a:pt x="0" y="314"/>
                  </a:lnTo>
                  <a:lnTo>
                    <a:pt x="0" y="302"/>
                  </a:lnTo>
                  <a:lnTo>
                    <a:pt x="2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2" y="248"/>
                  </a:lnTo>
                  <a:lnTo>
                    <a:pt x="2" y="236"/>
                  </a:lnTo>
                  <a:lnTo>
                    <a:pt x="2" y="225"/>
                  </a:lnTo>
                  <a:lnTo>
                    <a:pt x="4" y="213"/>
                  </a:lnTo>
                  <a:lnTo>
                    <a:pt x="8" y="203"/>
                  </a:lnTo>
                  <a:lnTo>
                    <a:pt x="8" y="192"/>
                  </a:lnTo>
                  <a:lnTo>
                    <a:pt x="10" y="180"/>
                  </a:lnTo>
                  <a:lnTo>
                    <a:pt x="12" y="168"/>
                  </a:lnTo>
                  <a:lnTo>
                    <a:pt x="18" y="159"/>
                  </a:lnTo>
                  <a:lnTo>
                    <a:pt x="24" y="137"/>
                  </a:lnTo>
                  <a:lnTo>
                    <a:pt x="33" y="120"/>
                  </a:lnTo>
                  <a:lnTo>
                    <a:pt x="41" y="99"/>
                  </a:lnTo>
                  <a:lnTo>
                    <a:pt x="53" y="81"/>
                  </a:lnTo>
                  <a:lnTo>
                    <a:pt x="62" y="64"/>
                  </a:lnTo>
                  <a:lnTo>
                    <a:pt x="78" y="48"/>
                  </a:lnTo>
                  <a:lnTo>
                    <a:pt x="91" y="31"/>
                  </a:lnTo>
                  <a:lnTo>
                    <a:pt x="109" y="19"/>
                  </a:lnTo>
                  <a:lnTo>
                    <a:pt x="126" y="7"/>
                  </a:lnTo>
                  <a:lnTo>
                    <a:pt x="148" y="0"/>
                  </a:lnTo>
                  <a:lnTo>
                    <a:pt x="165" y="0"/>
                  </a:lnTo>
                  <a:lnTo>
                    <a:pt x="183" y="0"/>
                  </a:lnTo>
                  <a:lnTo>
                    <a:pt x="196" y="4"/>
                  </a:lnTo>
                  <a:lnTo>
                    <a:pt x="212" y="13"/>
                  </a:lnTo>
                  <a:lnTo>
                    <a:pt x="194" y="19"/>
                  </a:lnTo>
                  <a:lnTo>
                    <a:pt x="181" y="33"/>
                  </a:lnTo>
                  <a:lnTo>
                    <a:pt x="167" y="48"/>
                  </a:lnTo>
                  <a:lnTo>
                    <a:pt x="157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286000" y="3746160"/>
              <a:ext cx="34920" cy="7452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21" y="93"/>
                  </a:moveTo>
                  <a:lnTo>
                    <a:pt x="10" y="91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2" y="64"/>
                  </a:lnTo>
                  <a:lnTo>
                    <a:pt x="18" y="54"/>
                  </a:lnTo>
                  <a:lnTo>
                    <a:pt x="25" y="44"/>
                  </a:lnTo>
                  <a:lnTo>
                    <a:pt x="29" y="33"/>
                  </a:lnTo>
                  <a:lnTo>
                    <a:pt x="35" y="21"/>
                  </a:lnTo>
                  <a:lnTo>
                    <a:pt x="39" y="10"/>
                  </a:lnTo>
                  <a:lnTo>
                    <a:pt x="45" y="0"/>
                  </a:lnTo>
                  <a:lnTo>
                    <a:pt x="21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2192040" y="3430440"/>
              <a:ext cx="122400" cy="406080"/>
            </a:xfrm>
            <a:custGeom>
              <a:avLst/>
              <a:gdLst/>
              <a:ahLst/>
              <a:rect l="l" t="t" r="r" b="b"/>
              <a:pathLst>
                <a:path w="153" h="512">
                  <a:moveTo>
                    <a:pt x="31" y="442"/>
                  </a:moveTo>
                  <a:lnTo>
                    <a:pt x="23" y="458"/>
                  </a:lnTo>
                  <a:lnTo>
                    <a:pt x="21" y="479"/>
                  </a:lnTo>
                  <a:lnTo>
                    <a:pt x="15" y="497"/>
                  </a:lnTo>
                  <a:lnTo>
                    <a:pt x="6" y="512"/>
                  </a:lnTo>
                  <a:lnTo>
                    <a:pt x="0" y="495"/>
                  </a:lnTo>
                  <a:lnTo>
                    <a:pt x="0" y="477"/>
                  </a:lnTo>
                  <a:lnTo>
                    <a:pt x="2" y="460"/>
                  </a:lnTo>
                  <a:lnTo>
                    <a:pt x="6" y="442"/>
                  </a:lnTo>
                  <a:lnTo>
                    <a:pt x="8" y="427"/>
                  </a:lnTo>
                  <a:lnTo>
                    <a:pt x="11" y="413"/>
                  </a:lnTo>
                  <a:lnTo>
                    <a:pt x="13" y="398"/>
                  </a:lnTo>
                  <a:lnTo>
                    <a:pt x="17" y="384"/>
                  </a:lnTo>
                  <a:lnTo>
                    <a:pt x="21" y="369"/>
                  </a:lnTo>
                  <a:lnTo>
                    <a:pt x="25" y="355"/>
                  </a:lnTo>
                  <a:lnTo>
                    <a:pt x="29" y="340"/>
                  </a:lnTo>
                  <a:lnTo>
                    <a:pt x="35" y="328"/>
                  </a:lnTo>
                  <a:lnTo>
                    <a:pt x="39" y="313"/>
                  </a:lnTo>
                  <a:lnTo>
                    <a:pt x="42" y="299"/>
                  </a:lnTo>
                  <a:lnTo>
                    <a:pt x="46" y="285"/>
                  </a:lnTo>
                  <a:lnTo>
                    <a:pt x="52" y="272"/>
                  </a:lnTo>
                  <a:lnTo>
                    <a:pt x="56" y="256"/>
                  </a:lnTo>
                  <a:lnTo>
                    <a:pt x="60" y="245"/>
                  </a:lnTo>
                  <a:lnTo>
                    <a:pt x="66" y="229"/>
                  </a:lnTo>
                  <a:lnTo>
                    <a:pt x="72" y="218"/>
                  </a:lnTo>
                  <a:lnTo>
                    <a:pt x="75" y="202"/>
                  </a:lnTo>
                  <a:lnTo>
                    <a:pt x="79" y="188"/>
                  </a:lnTo>
                  <a:lnTo>
                    <a:pt x="83" y="175"/>
                  </a:lnTo>
                  <a:lnTo>
                    <a:pt x="89" y="161"/>
                  </a:lnTo>
                  <a:lnTo>
                    <a:pt x="93" y="146"/>
                  </a:lnTo>
                  <a:lnTo>
                    <a:pt x="99" y="134"/>
                  </a:lnTo>
                  <a:lnTo>
                    <a:pt x="104" y="119"/>
                  </a:lnTo>
                  <a:lnTo>
                    <a:pt x="110" y="107"/>
                  </a:lnTo>
                  <a:lnTo>
                    <a:pt x="114" y="92"/>
                  </a:lnTo>
                  <a:lnTo>
                    <a:pt x="120" y="80"/>
                  </a:lnTo>
                  <a:lnTo>
                    <a:pt x="126" y="64"/>
                  </a:lnTo>
                  <a:lnTo>
                    <a:pt x="132" y="53"/>
                  </a:lnTo>
                  <a:lnTo>
                    <a:pt x="136" y="39"/>
                  </a:lnTo>
                  <a:lnTo>
                    <a:pt x="141" y="26"/>
                  </a:lnTo>
                  <a:lnTo>
                    <a:pt x="147" y="12"/>
                  </a:lnTo>
                  <a:lnTo>
                    <a:pt x="153" y="0"/>
                  </a:lnTo>
                  <a:lnTo>
                    <a:pt x="149" y="14"/>
                  </a:lnTo>
                  <a:lnTo>
                    <a:pt x="147" y="28"/>
                  </a:lnTo>
                  <a:lnTo>
                    <a:pt x="143" y="41"/>
                  </a:lnTo>
                  <a:lnTo>
                    <a:pt x="141" y="57"/>
                  </a:lnTo>
                  <a:lnTo>
                    <a:pt x="137" y="70"/>
                  </a:lnTo>
                  <a:lnTo>
                    <a:pt x="134" y="84"/>
                  </a:lnTo>
                  <a:lnTo>
                    <a:pt x="130" y="97"/>
                  </a:lnTo>
                  <a:lnTo>
                    <a:pt x="128" y="113"/>
                  </a:lnTo>
                  <a:lnTo>
                    <a:pt x="122" y="124"/>
                  </a:lnTo>
                  <a:lnTo>
                    <a:pt x="118" y="138"/>
                  </a:lnTo>
                  <a:lnTo>
                    <a:pt x="112" y="152"/>
                  </a:lnTo>
                  <a:lnTo>
                    <a:pt x="108" y="167"/>
                  </a:lnTo>
                  <a:lnTo>
                    <a:pt x="103" y="179"/>
                  </a:lnTo>
                  <a:lnTo>
                    <a:pt x="99" y="192"/>
                  </a:lnTo>
                  <a:lnTo>
                    <a:pt x="95" y="206"/>
                  </a:lnTo>
                  <a:lnTo>
                    <a:pt x="91" y="221"/>
                  </a:lnTo>
                  <a:lnTo>
                    <a:pt x="85" y="233"/>
                  </a:lnTo>
                  <a:lnTo>
                    <a:pt x="79" y="247"/>
                  </a:lnTo>
                  <a:lnTo>
                    <a:pt x="75" y="260"/>
                  </a:lnTo>
                  <a:lnTo>
                    <a:pt x="72" y="274"/>
                  </a:lnTo>
                  <a:lnTo>
                    <a:pt x="66" y="285"/>
                  </a:lnTo>
                  <a:lnTo>
                    <a:pt x="62" y="301"/>
                  </a:lnTo>
                  <a:lnTo>
                    <a:pt x="58" y="313"/>
                  </a:lnTo>
                  <a:lnTo>
                    <a:pt x="54" y="328"/>
                  </a:lnTo>
                  <a:lnTo>
                    <a:pt x="48" y="340"/>
                  </a:lnTo>
                  <a:lnTo>
                    <a:pt x="46" y="355"/>
                  </a:lnTo>
                  <a:lnTo>
                    <a:pt x="40" y="369"/>
                  </a:lnTo>
                  <a:lnTo>
                    <a:pt x="39" y="384"/>
                  </a:lnTo>
                  <a:lnTo>
                    <a:pt x="35" y="398"/>
                  </a:lnTo>
                  <a:lnTo>
                    <a:pt x="33" y="413"/>
                  </a:lnTo>
                  <a:lnTo>
                    <a:pt x="31" y="427"/>
                  </a:lnTo>
                  <a:lnTo>
                    <a:pt x="31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2131920" y="4321080"/>
              <a:ext cx="154080" cy="51840"/>
            </a:xfrm>
            <a:custGeom>
              <a:avLst/>
              <a:gdLst/>
              <a:ahLst/>
              <a:rect l="l" t="t" r="r" b="b"/>
              <a:pathLst>
                <a:path w="194" h="66">
                  <a:moveTo>
                    <a:pt x="41" y="49"/>
                  </a:moveTo>
                  <a:lnTo>
                    <a:pt x="27" y="37"/>
                  </a:lnTo>
                  <a:lnTo>
                    <a:pt x="18" y="23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6" y="16"/>
                  </a:lnTo>
                  <a:lnTo>
                    <a:pt x="37" y="31"/>
                  </a:lnTo>
                  <a:lnTo>
                    <a:pt x="49" y="37"/>
                  </a:lnTo>
                  <a:lnTo>
                    <a:pt x="60" y="43"/>
                  </a:lnTo>
                  <a:lnTo>
                    <a:pt x="72" y="47"/>
                  </a:lnTo>
                  <a:lnTo>
                    <a:pt x="86" y="52"/>
                  </a:lnTo>
                  <a:lnTo>
                    <a:pt x="97" y="54"/>
                  </a:lnTo>
                  <a:lnTo>
                    <a:pt x="111" y="56"/>
                  </a:lnTo>
                  <a:lnTo>
                    <a:pt x="124" y="56"/>
                  </a:lnTo>
                  <a:lnTo>
                    <a:pt x="138" y="56"/>
                  </a:lnTo>
                  <a:lnTo>
                    <a:pt x="151" y="54"/>
                  </a:lnTo>
                  <a:lnTo>
                    <a:pt x="165" y="54"/>
                  </a:lnTo>
                  <a:lnTo>
                    <a:pt x="179" y="52"/>
                  </a:lnTo>
                  <a:lnTo>
                    <a:pt x="194" y="50"/>
                  </a:lnTo>
                  <a:lnTo>
                    <a:pt x="175" y="56"/>
                  </a:lnTo>
                  <a:lnTo>
                    <a:pt x="155" y="64"/>
                  </a:lnTo>
                  <a:lnTo>
                    <a:pt x="136" y="64"/>
                  </a:lnTo>
                  <a:lnTo>
                    <a:pt x="117" y="66"/>
                  </a:lnTo>
                  <a:lnTo>
                    <a:pt x="95" y="64"/>
                  </a:lnTo>
                  <a:lnTo>
                    <a:pt x="76" y="60"/>
                  </a:lnTo>
                  <a:lnTo>
                    <a:pt x="58" y="54"/>
                  </a:lnTo>
                  <a:lnTo>
                    <a:pt x="4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2144520" y="3466800"/>
              <a:ext cx="136440" cy="366480"/>
            </a:xfrm>
            <a:custGeom>
              <a:avLst/>
              <a:gdLst/>
              <a:ahLst/>
              <a:rect l="l" t="t" r="r" b="b"/>
              <a:pathLst>
                <a:path w="170" h="461">
                  <a:moveTo>
                    <a:pt x="19" y="459"/>
                  </a:moveTo>
                  <a:lnTo>
                    <a:pt x="9" y="461"/>
                  </a:lnTo>
                  <a:lnTo>
                    <a:pt x="5" y="458"/>
                  </a:lnTo>
                  <a:lnTo>
                    <a:pt x="2" y="450"/>
                  </a:lnTo>
                  <a:lnTo>
                    <a:pt x="0" y="448"/>
                  </a:lnTo>
                  <a:lnTo>
                    <a:pt x="0" y="430"/>
                  </a:lnTo>
                  <a:lnTo>
                    <a:pt x="4" y="417"/>
                  </a:lnTo>
                  <a:lnTo>
                    <a:pt x="5" y="401"/>
                  </a:lnTo>
                  <a:lnTo>
                    <a:pt x="11" y="388"/>
                  </a:lnTo>
                  <a:lnTo>
                    <a:pt x="15" y="372"/>
                  </a:lnTo>
                  <a:lnTo>
                    <a:pt x="19" y="359"/>
                  </a:lnTo>
                  <a:lnTo>
                    <a:pt x="23" y="343"/>
                  </a:lnTo>
                  <a:lnTo>
                    <a:pt x="29" y="331"/>
                  </a:lnTo>
                  <a:lnTo>
                    <a:pt x="33" y="316"/>
                  </a:lnTo>
                  <a:lnTo>
                    <a:pt x="38" y="302"/>
                  </a:lnTo>
                  <a:lnTo>
                    <a:pt x="44" y="289"/>
                  </a:lnTo>
                  <a:lnTo>
                    <a:pt x="50" y="275"/>
                  </a:lnTo>
                  <a:lnTo>
                    <a:pt x="56" y="262"/>
                  </a:lnTo>
                  <a:lnTo>
                    <a:pt x="62" y="248"/>
                  </a:lnTo>
                  <a:lnTo>
                    <a:pt x="68" y="235"/>
                  </a:lnTo>
                  <a:lnTo>
                    <a:pt x="73" y="223"/>
                  </a:lnTo>
                  <a:lnTo>
                    <a:pt x="79" y="207"/>
                  </a:lnTo>
                  <a:lnTo>
                    <a:pt x="85" y="194"/>
                  </a:lnTo>
                  <a:lnTo>
                    <a:pt x="91" y="180"/>
                  </a:lnTo>
                  <a:lnTo>
                    <a:pt x="97" y="169"/>
                  </a:lnTo>
                  <a:lnTo>
                    <a:pt x="102" y="153"/>
                  </a:lnTo>
                  <a:lnTo>
                    <a:pt x="108" y="140"/>
                  </a:lnTo>
                  <a:lnTo>
                    <a:pt x="114" y="126"/>
                  </a:lnTo>
                  <a:lnTo>
                    <a:pt x="120" y="114"/>
                  </a:lnTo>
                  <a:lnTo>
                    <a:pt x="124" y="99"/>
                  </a:lnTo>
                  <a:lnTo>
                    <a:pt x="130" y="85"/>
                  </a:lnTo>
                  <a:lnTo>
                    <a:pt x="135" y="72"/>
                  </a:lnTo>
                  <a:lnTo>
                    <a:pt x="141" y="60"/>
                  </a:lnTo>
                  <a:lnTo>
                    <a:pt x="145" y="45"/>
                  </a:lnTo>
                  <a:lnTo>
                    <a:pt x="151" y="31"/>
                  </a:lnTo>
                  <a:lnTo>
                    <a:pt x="157" y="17"/>
                  </a:lnTo>
                  <a:lnTo>
                    <a:pt x="163" y="6"/>
                  </a:lnTo>
                  <a:lnTo>
                    <a:pt x="170" y="0"/>
                  </a:lnTo>
                  <a:lnTo>
                    <a:pt x="164" y="13"/>
                  </a:lnTo>
                  <a:lnTo>
                    <a:pt x="161" y="27"/>
                  </a:lnTo>
                  <a:lnTo>
                    <a:pt x="155" y="41"/>
                  </a:lnTo>
                  <a:lnTo>
                    <a:pt x="151" y="56"/>
                  </a:lnTo>
                  <a:lnTo>
                    <a:pt x="145" y="70"/>
                  </a:lnTo>
                  <a:lnTo>
                    <a:pt x="141" y="83"/>
                  </a:lnTo>
                  <a:lnTo>
                    <a:pt x="135" y="97"/>
                  </a:lnTo>
                  <a:lnTo>
                    <a:pt x="132" y="112"/>
                  </a:lnTo>
                  <a:lnTo>
                    <a:pt x="126" y="126"/>
                  </a:lnTo>
                  <a:lnTo>
                    <a:pt x="120" y="140"/>
                  </a:lnTo>
                  <a:lnTo>
                    <a:pt x="114" y="153"/>
                  </a:lnTo>
                  <a:lnTo>
                    <a:pt x="110" y="169"/>
                  </a:lnTo>
                  <a:lnTo>
                    <a:pt x="104" y="182"/>
                  </a:lnTo>
                  <a:lnTo>
                    <a:pt x="99" y="198"/>
                  </a:lnTo>
                  <a:lnTo>
                    <a:pt x="93" y="211"/>
                  </a:lnTo>
                  <a:lnTo>
                    <a:pt x="89" y="227"/>
                  </a:lnTo>
                  <a:lnTo>
                    <a:pt x="83" y="238"/>
                  </a:lnTo>
                  <a:lnTo>
                    <a:pt x="77" y="254"/>
                  </a:lnTo>
                  <a:lnTo>
                    <a:pt x="71" y="267"/>
                  </a:lnTo>
                  <a:lnTo>
                    <a:pt x="68" y="283"/>
                  </a:lnTo>
                  <a:lnTo>
                    <a:pt x="62" y="297"/>
                  </a:lnTo>
                  <a:lnTo>
                    <a:pt x="58" y="312"/>
                  </a:lnTo>
                  <a:lnTo>
                    <a:pt x="54" y="326"/>
                  </a:lnTo>
                  <a:lnTo>
                    <a:pt x="50" y="341"/>
                  </a:lnTo>
                  <a:lnTo>
                    <a:pt x="44" y="355"/>
                  </a:lnTo>
                  <a:lnTo>
                    <a:pt x="40" y="370"/>
                  </a:lnTo>
                  <a:lnTo>
                    <a:pt x="36" y="384"/>
                  </a:lnTo>
                  <a:lnTo>
                    <a:pt x="33" y="399"/>
                  </a:lnTo>
                  <a:lnTo>
                    <a:pt x="27" y="413"/>
                  </a:lnTo>
                  <a:lnTo>
                    <a:pt x="25" y="428"/>
                  </a:lnTo>
                  <a:lnTo>
                    <a:pt x="21" y="442"/>
                  </a:lnTo>
                  <a:lnTo>
                    <a:pt x="19" y="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2216160" y="4092480"/>
              <a:ext cx="58680" cy="74160"/>
            </a:xfrm>
            <a:custGeom>
              <a:avLst/>
              <a:gdLst/>
              <a:ahLst/>
              <a:rect l="l" t="t" r="r" b="b"/>
              <a:pathLst>
                <a:path w="74" h="95">
                  <a:moveTo>
                    <a:pt x="62" y="95"/>
                  </a:moveTo>
                  <a:lnTo>
                    <a:pt x="43" y="91"/>
                  </a:lnTo>
                  <a:lnTo>
                    <a:pt x="25" y="89"/>
                  </a:lnTo>
                  <a:lnTo>
                    <a:pt x="10" y="80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4" y="35"/>
                  </a:lnTo>
                  <a:lnTo>
                    <a:pt x="8" y="21"/>
                  </a:lnTo>
                  <a:lnTo>
                    <a:pt x="17" y="10"/>
                  </a:lnTo>
                  <a:lnTo>
                    <a:pt x="23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4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70" y="29"/>
                  </a:lnTo>
                  <a:lnTo>
                    <a:pt x="72" y="41"/>
                  </a:lnTo>
                  <a:lnTo>
                    <a:pt x="70" y="52"/>
                  </a:lnTo>
                  <a:lnTo>
                    <a:pt x="70" y="66"/>
                  </a:lnTo>
                  <a:lnTo>
                    <a:pt x="70" y="78"/>
                  </a:lnTo>
                  <a:lnTo>
                    <a:pt x="74" y="89"/>
                  </a:lnTo>
                  <a:lnTo>
                    <a:pt x="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2195280" y="3979800"/>
              <a:ext cx="63720" cy="11520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8" y="85"/>
                  </a:moveTo>
                  <a:lnTo>
                    <a:pt x="48" y="95"/>
                  </a:lnTo>
                  <a:lnTo>
                    <a:pt x="31" y="110"/>
                  </a:lnTo>
                  <a:lnTo>
                    <a:pt x="15" y="126"/>
                  </a:lnTo>
                  <a:lnTo>
                    <a:pt x="7" y="147"/>
                  </a:lnTo>
                  <a:lnTo>
                    <a:pt x="2" y="147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2" y="116"/>
                  </a:lnTo>
                  <a:lnTo>
                    <a:pt x="7" y="108"/>
                  </a:lnTo>
                  <a:lnTo>
                    <a:pt x="19" y="91"/>
                  </a:lnTo>
                  <a:lnTo>
                    <a:pt x="35" y="75"/>
                  </a:lnTo>
                  <a:lnTo>
                    <a:pt x="46" y="58"/>
                  </a:lnTo>
                  <a:lnTo>
                    <a:pt x="58" y="42"/>
                  </a:lnTo>
                  <a:lnTo>
                    <a:pt x="60" y="31"/>
                  </a:lnTo>
                  <a:lnTo>
                    <a:pt x="62" y="21"/>
                  </a:lnTo>
                  <a:lnTo>
                    <a:pt x="62" y="9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5" y="13"/>
                  </a:lnTo>
                  <a:lnTo>
                    <a:pt x="79" y="23"/>
                  </a:lnTo>
                  <a:lnTo>
                    <a:pt x="77" y="38"/>
                  </a:lnTo>
                  <a:lnTo>
                    <a:pt x="77" y="54"/>
                  </a:lnTo>
                  <a:lnTo>
                    <a:pt x="73" y="69"/>
                  </a:lnTo>
                  <a:lnTo>
                    <a:pt x="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109600" y="3422520"/>
              <a:ext cx="139680" cy="78840"/>
            </a:xfrm>
            <a:custGeom>
              <a:avLst/>
              <a:gdLst/>
              <a:ahLst/>
              <a:rect l="l" t="t" r="r" b="b"/>
              <a:pathLst>
                <a:path w="177" h="101">
                  <a:moveTo>
                    <a:pt x="165" y="101"/>
                  </a:moveTo>
                  <a:lnTo>
                    <a:pt x="144" y="83"/>
                  </a:lnTo>
                  <a:lnTo>
                    <a:pt x="124" y="69"/>
                  </a:lnTo>
                  <a:lnTo>
                    <a:pt x="105" y="56"/>
                  </a:lnTo>
                  <a:lnTo>
                    <a:pt x="85" y="46"/>
                  </a:lnTo>
                  <a:lnTo>
                    <a:pt x="74" y="40"/>
                  </a:lnTo>
                  <a:lnTo>
                    <a:pt x="62" y="35"/>
                  </a:lnTo>
                  <a:lnTo>
                    <a:pt x="52" y="29"/>
                  </a:lnTo>
                  <a:lnTo>
                    <a:pt x="43" y="25"/>
                  </a:lnTo>
                  <a:lnTo>
                    <a:pt x="31" y="21"/>
                  </a:lnTo>
                  <a:lnTo>
                    <a:pt x="19" y="17"/>
                  </a:lnTo>
                  <a:lnTo>
                    <a:pt x="10" y="13"/>
                  </a:lnTo>
                  <a:lnTo>
                    <a:pt x="0" y="11"/>
                  </a:lnTo>
                  <a:lnTo>
                    <a:pt x="10" y="4"/>
                  </a:lnTo>
                  <a:lnTo>
                    <a:pt x="21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2" y="2"/>
                  </a:lnTo>
                  <a:lnTo>
                    <a:pt x="64" y="6"/>
                  </a:lnTo>
                  <a:lnTo>
                    <a:pt x="74" y="9"/>
                  </a:lnTo>
                  <a:lnTo>
                    <a:pt x="85" y="15"/>
                  </a:lnTo>
                  <a:lnTo>
                    <a:pt x="95" y="19"/>
                  </a:lnTo>
                  <a:lnTo>
                    <a:pt x="107" y="23"/>
                  </a:lnTo>
                  <a:lnTo>
                    <a:pt x="116" y="27"/>
                  </a:lnTo>
                  <a:lnTo>
                    <a:pt x="128" y="33"/>
                  </a:lnTo>
                  <a:lnTo>
                    <a:pt x="140" y="37"/>
                  </a:lnTo>
                  <a:lnTo>
                    <a:pt x="151" y="40"/>
                  </a:lnTo>
                  <a:lnTo>
                    <a:pt x="163" y="42"/>
                  </a:lnTo>
                  <a:lnTo>
                    <a:pt x="177" y="44"/>
                  </a:lnTo>
                  <a:lnTo>
                    <a:pt x="16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100240" y="3904920"/>
              <a:ext cx="136440" cy="152280"/>
            </a:xfrm>
            <a:custGeom>
              <a:avLst/>
              <a:gdLst/>
              <a:ahLst/>
              <a:rect l="l" t="t" r="r" b="b"/>
              <a:pathLst>
                <a:path w="171" h="191">
                  <a:moveTo>
                    <a:pt x="0" y="191"/>
                  </a:moveTo>
                  <a:lnTo>
                    <a:pt x="0" y="176"/>
                  </a:lnTo>
                  <a:lnTo>
                    <a:pt x="6" y="160"/>
                  </a:lnTo>
                  <a:lnTo>
                    <a:pt x="10" y="145"/>
                  </a:lnTo>
                  <a:lnTo>
                    <a:pt x="18" y="131"/>
                  </a:lnTo>
                  <a:lnTo>
                    <a:pt x="24" y="116"/>
                  </a:lnTo>
                  <a:lnTo>
                    <a:pt x="33" y="102"/>
                  </a:lnTo>
                  <a:lnTo>
                    <a:pt x="43" y="89"/>
                  </a:lnTo>
                  <a:lnTo>
                    <a:pt x="55" y="77"/>
                  </a:lnTo>
                  <a:lnTo>
                    <a:pt x="64" y="64"/>
                  </a:lnTo>
                  <a:lnTo>
                    <a:pt x="76" y="50"/>
                  </a:lnTo>
                  <a:lnTo>
                    <a:pt x="88" y="38"/>
                  </a:lnTo>
                  <a:lnTo>
                    <a:pt x="99" y="29"/>
                  </a:lnTo>
                  <a:lnTo>
                    <a:pt x="111" y="19"/>
                  </a:lnTo>
                  <a:lnTo>
                    <a:pt x="126" y="11"/>
                  </a:lnTo>
                  <a:lnTo>
                    <a:pt x="140" y="3"/>
                  </a:lnTo>
                  <a:lnTo>
                    <a:pt x="156" y="0"/>
                  </a:lnTo>
                  <a:lnTo>
                    <a:pt x="171" y="1"/>
                  </a:lnTo>
                  <a:lnTo>
                    <a:pt x="154" y="7"/>
                  </a:lnTo>
                  <a:lnTo>
                    <a:pt x="140" y="15"/>
                  </a:lnTo>
                  <a:lnTo>
                    <a:pt x="126" y="23"/>
                  </a:lnTo>
                  <a:lnTo>
                    <a:pt x="115" y="34"/>
                  </a:lnTo>
                  <a:lnTo>
                    <a:pt x="101" y="44"/>
                  </a:lnTo>
                  <a:lnTo>
                    <a:pt x="90" y="56"/>
                  </a:lnTo>
                  <a:lnTo>
                    <a:pt x="80" y="67"/>
                  </a:lnTo>
                  <a:lnTo>
                    <a:pt x="70" y="81"/>
                  </a:lnTo>
                  <a:lnTo>
                    <a:pt x="59" y="93"/>
                  </a:lnTo>
                  <a:lnTo>
                    <a:pt x="49" y="104"/>
                  </a:lnTo>
                  <a:lnTo>
                    <a:pt x="39" y="118"/>
                  </a:lnTo>
                  <a:lnTo>
                    <a:pt x="31" y="133"/>
                  </a:lnTo>
                  <a:lnTo>
                    <a:pt x="22" y="147"/>
                  </a:lnTo>
                  <a:lnTo>
                    <a:pt x="14" y="162"/>
                  </a:lnTo>
                  <a:lnTo>
                    <a:pt x="6" y="176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076480" y="3457440"/>
              <a:ext cx="152280" cy="9324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85" y="119"/>
                  </a:moveTo>
                  <a:lnTo>
                    <a:pt x="173" y="107"/>
                  </a:lnTo>
                  <a:lnTo>
                    <a:pt x="163" y="95"/>
                  </a:lnTo>
                  <a:lnTo>
                    <a:pt x="154" y="86"/>
                  </a:lnTo>
                  <a:lnTo>
                    <a:pt x="144" y="78"/>
                  </a:lnTo>
                  <a:lnTo>
                    <a:pt x="132" y="68"/>
                  </a:lnTo>
                  <a:lnTo>
                    <a:pt x="121" y="60"/>
                  </a:lnTo>
                  <a:lnTo>
                    <a:pt x="109" y="53"/>
                  </a:lnTo>
                  <a:lnTo>
                    <a:pt x="97" y="47"/>
                  </a:lnTo>
                  <a:lnTo>
                    <a:pt x="84" y="39"/>
                  </a:lnTo>
                  <a:lnTo>
                    <a:pt x="72" y="33"/>
                  </a:lnTo>
                  <a:lnTo>
                    <a:pt x="60" y="27"/>
                  </a:lnTo>
                  <a:lnTo>
                    <a:pt x="49" y="24"/>
                  </a:lnTo>
                  <a:lnTo>
                    <a:pt x="35" y="18"/>
                  </a:lnTo>
                  <a:lnTo>
                    <a:pt x="24" y="14"/>
                  </a:lnTo>
                  <a:lnTo>
                    <a:pt x="12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2"/>
                  </a:lnTo>
                  <a:lnTo>
                    <a:pt x="37" y="4"/>
                  </a:lnTo>
                  <a:lnTo>
                    <a:pt x="51" y="10"/>
                  </a:lnTo>
                  <a:lnTo>
                    <a:pt x="62" y="12"/>
                  </a:lnTo>
                  <a:lnTo>
                    <a:pt x="76" y="18"/>
                  </a:lnTo>
                  <a:lnTo>
                    <a:pt x="88" y="24"/>
                  </a:lnTo>
                  <a:lnTo>
                    <a:pt x="101" y="31"/>
                  </a:lnTo>
                  <a:lnTo>
                    <a:pt x="113" y="37"/>
                  </a:lnTo>
                  <a:lnTo>
                    <a:pt x="124" y="45"/>
                  </a:lnTo>
                  <a:lnTo>
                    <a:pt x="136" y="53"/>
                  </a:lnTo>
                  <a:lnTo>
                    <a:pt x="148" y="62"/>
                  </a:lnTo>
                  <a:lnTo>
                    <a:pt x="157" y="70"/>
                  </a:lnTo>
                  <a:lnTo>
                    <a:pt x="169" y="80"/>
                  </a:lnTo>
                  <a:lnTo>
                    <a:pt x="181" y="88"/>
                  </a:lnTo>
                  <a:lnTo>
                    <a:pt x="192" y="99"/>
                  </a:lnTo>
                  <a:lnTo>
                    <a:pt x="188" y="109"/>
                  </a:lnTo>
                  <a:lnTo>
                    <a:pt x="18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1968480" y="3538440"/>
              <a:ext cx="233280" cy="118440"/>
            </a:xfrm>
            <a:custGeom>
              <a:avLst/>
              <a:gdLst/>
              <a:ahLst/>
              <a:rect l="l" t="t" r="r" b="b"/>
              <a:pathLst>
                <a:path w="294" h="151">
                  <a:moveTo>
                    <a:pt x="261" y="151"/>
                  </a:moveTo>
                  <a:lnTo>
                    <a:pt x="244" y="142"/>
                  </a:lnTo>
                  <a:lnTo>
                    <a:pt x="230" y="134"/>
                  </a:lnTo>
                  <a:lnTo>
                    <a:pt x="213" y="128"/>
                  </a:lnTo>
                  <a:lnTo>
                    <a:pt x="199" y="122"/>
                  </a:lnTo>
                  <a:lnTo>
                    <a:pt x="182" y="115"/>
                  </a:lnTo>
                  <a:lnTo>
                    <a:pt x="166" y="109"/>
                  </a:lnTo>
                  <a:lnTo>
                    <a:pt x="151" y="103"/>
                  </a:lnTo>
                  <a:lnTo>
                    <a:pt x="135" y="99"/>
                  </a:lnTo>
                  <a:lnTo>
                    <a:pt x="118" y="93"/>
                  </a:lnTo>
                  <a:lnTo>
                    <a:pt x="100" y="89"/>
                  </a:lnTo>
                  <a:lnTo>
                    <a:pt x="83" y="85"/>
                  </a:lnTo>
                  <a:lnTo>
                    <a:pt x="67" y="82"/>
                  </a:lnTo>
                  <a:lnTo>
                    <a:pt x="50" y="78"/>
                  </a:lnTo>
                  <a:lnTo>
                    <a:pt x="33" y="76"/>
                  </a:lnTo>
                  <a:lnTo>
                    <a:pt x="15" y="72"/>
                  </a:lnTo>
                  <a:lnTo>
                    <a:pt x="0" y="72"/>
                  </a:lnTo>
                  <a:lnTo>
                    <a:pt x="0" y="51"/>
                  </a:lnTo>
                  <a:lnTo>
                    <a:pt x="7" y="33"/>
                  </a:lnTo>
                  <a:lnTo>
                    <a:pt x="13" y="16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58" y="2"/>
                  </a:lnTo>
                  <a:lnTo>
                    <a:pt x="75" y="4"/>
                  </a:lnTo>
                  <a:lnTo>
                    <a:pt x="93" y="8"/>
                  </a:lnTo>
                  <a:lnTo>
                    <a:pt x="110" y="10"/>
                  </a:lnTo>
                  <a:lnTo>
                    <a:pt x="128" y="14"/>
                  </a:lnTo>
                  <a:lnTo>
                    <a:pt x="145" y="18"/>
                  </a:lnTo>
                  <a:lnTo>
                    <a:pt x="163" y="23"/>
                  </a:lnTo>
                  <a:lnTo>
                    <a:pt x="178" y="27"/>
                  </a:lnTo>
                  <a:lnTo>
                    <a:pt x="195" y="33"/>
                  </a:lnTo>
                  <a:lnTo>
                    <a:pt x="211" y="39"/>
                  </a:lnTo>
                  <a:lnTo>
                    <a:pt x="228" y="45"/>
                  </a:lnTo>
                  <a:lnTo>
                    <a:pt x="244" y="51"/>
                  </a:lnTo>
                  <a:lnTo>
                    <a:pt x="261" y="58"/>
                  </a:lnTo>
                  <a:lnTo>
                    <a:pt x="277" y="64"/>
                  </a:lnTo>
                  <a:lnTo>
                    <a:pt x="294" y="72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1868400" y="3836880"/>
              <a:ext cx="182520" cy="408960"/>
            </a:xfrm>
            <a:custGeom>
              <a:avLst/>
              <a:gdLst/>
              <a:ahLst/>
              <a:rect l="l" t="t" r="r" b="b"/>
              <a:pathLst>
                <a:path w="230" h="518">
                  <a:moveTo>
                    <a:pt x="225" y="510"/>
                  </a:moveTo>
                  <a:lnTo>
                    <a:pt x="207" y="514"/>
                  </a:lnTo>
                  <a:lnTo>
                    <a:pt x="190" y="516"/>
                  </a:lnTo>
                  <a:lnTo>
                    <a:pt x="172" y="516"/>
                  </a:lnTo>
                  <a:lnTo>
                    <a:pt x="155" y="518"/>
                  </a:lnTo>
                  <a:lnTo>
                    <a:pt x="137" y="514"/>
                  </a:lnTo>
                  <a:lnTo>
                    <a:pt x="120" y="510"/>
                  </a:lnTo>
                  <a:lnTo>
                    <a:pt x="102" y="502"/>
                  </a:lnTo>
                  <a:lnTo>
                    <a:pt x="91" y="495"/>
                  </a:lnTo>
                  <a:lnTo>
                    <a:pt x="83" y="483"/>
                  </a:lnTo>
                  <a:lnTo>
                    <a:pt x="77" y="473"/>
                  </a:lnTo>
                  <a:lnTo>
                    <a:pt x="71" y="462"/>
                  </a:lnTo>
                  <a:lnTo>
                    <a:pt x="69" y="452"/>
                  </a:lnTo>
                  <a:lnTo>
                    <a:pt x="64" y="440"/>
                  </a:lnTo>
                  <a:lnTo>
                    <a:pt x="62" y="429"/>
                  </a:lnTo>
                  <a:lnTo>
                    <a:pt x="60" y="417"/>
                  </a:lnTo>
                  <a:lnTo>
                    <a:pt x="60" y="407"/>
                  </a:lnTo>
                  <a:lnTo>
                    <a:pt x="56" y="396"/>
                  </a:lnTo>
                  <a:lnTo>
                    <a:pt x="54" y="384"/>
                  </a:lnTo>
                  <a:lnTo>
                    <a:pt x="52" y="373"/>
                  </a:lnTo>
                  <a:lnTo>
                    <a:pt x="52" y="361"/>
                  </a:lnTo>
                  <a:lnTo>
                    <a:pt x="48" y="349"/>
                  </a:lnTo>
                  <a:lnTo>
                    <a:pt x="46" y="338"/>
                  </a:lnTo>
                  <a:lnTo>
                    <a:pt x="44" y="326"/>
                  </a:lnTo>
                  <a:lnTo>
                    <a:pt x="42" y="316"/>
                  </a:lnTo>
                  <a:lnTo>
                    <a:pt x="33" y="295"/>
                  </a:lnTo>
                  <a:lnTo>
                    <a:pt x="25" y="278"/>
                  </a:lnTo>
                  <a:lnTo>
                    <a:pt x="13" y="258"/>
                  </a:lnTo>
                  <a:lnTo>
                    <a:pt x="0" y="245"/>
                  </a:lnTo>
                  <a:lnTo>
                    <a:pt x="3" y="227"/>
                  </a:lnTo>
                  <a:lnTo>
                    <a:pt x="7" y="214"/>
                  </a:lnTo>
                  <a:lnTo>
                    <a:pt x="13" y="198"/>
                  </a:lnTo>
                  <a:lnTo>
                    <a:pt x="19" y="184"/>
                  </a:lnTo>
                  <a:lnTo>
                    <a:pt x="25" y="167"/>
                  </a:lnTo>
                  <a:lnTo>
                    <a:pt x="31" y="153"/>
                  </a:lnTo>
                  <a:lnTo>
                    <a:pt x="36" y="138"/>
                  </a:lnTo>
                  <a:lnTo>
                    <a:pt x="44" y="124"/>
                  </a:lnTo>
                  <a:lnTo>
                    <a:pt x="50" y="107"/>
                  </a:lnTo>
                  <a:lnTo>
                    <a:pt x="56" y="93"/>
                  </a:lnTo>
                  <a:lnTo>
                    <a:pt x="62" y="76"/>
                  </a:lnTo>
                  <a:lnTo>
                    <a:pt x="67" y="62"/>
                  </a:lnTo>
                  <a:lnTo>
                    <a:pt x="71" y="45"/>
                  </a:lnTo>
                  <a:lnTo>
                    <a:pt x="77" y="31"/>
                  </a:lnTo>
                  <a:lnTo>
                    <a:pt x="83" y="14"/>
                  </a:lnTo>
                  <a:lnTo>
                    <a:pt x="89" y="0"/>
                  </a:lnTo>
                  <a:lnTo>
                    <a:pt x="98" y="12"/>
                  </a:lnTo>
                  <a:lnTo>
                    <a:pt x="108" y="24"/>
                  </a:lnTo>
                  <a:lnTo>
                    <a:pt x="118" y="37"/>
                  </a:lnTo>
                  <a:lnTo>
                    <a:pt x="129" y="51"/>
                  </a:lnTo>
                  <a:lnTo>
                    <a:pt x="137" y="62"/>
                  </a:lnTo>
                  <a:lnTo>
                    <a:pt x="147" y="78"/>
                  </a:lnTo>
                  <a:lnTo>
                    <a:pt x="155" y="91"/>
                  </a:lnTo>
                  <a:lnTo>
                    <a:pt x="164" y="107"/>
                  </a:lnTo>
                  <a:lnTo>
                    <a:pt x="170" y="120"/>
                  </a:lnTo>
                  <a:lnTo>
                    <a:pt x="176" y="136"/>
                  </a:lnTo>
                  <a:lnTo>
                    <a:pt x="182" y="150"/>
                  </a:lnTo>
                  <a:lnTo>
                    <a:pt x="190" y="165"/>
                  </a:lnTo>
                  <a:lnTo>
                    <a:pt x="193" y="181"/>
                  </a:lnTo>
                  <a:lnTo>
                    <a:pt x="199" y="196"/>
                  </a:lnTo>
                  <a:lnTo>
                    <a:pt x="205" y="214"/>
                  </a:lnTo>
                  <a:lnTo>
                    <a:pt x="211" y="231"/>
                  </a:lnTo>
                  <a:lnTo>
                    <a:pt x="213" y="247"/>
                  </a:lnTo>
                  <a:lnTo>
                    <a:pt x="217" y="262"/>
                  </a:lnTo>
                  <a:lnTo>
                    <a:pt x="219" y="278"/>
                  </a:lnTo>
                  <a:lnTo>
                    <a:pt x="223" y="295"/>
                  </a:lnTo>
                  <a:lnTo>
                    <a:pt x="225" y="311"/>
                  </a:lnTo>
                  <a:lnTo>
                    <a:pt x="226" y="328"/>
                  </a:lnTo>
                  <a:lnTo>
                    <a:pt x="228" y="345"/>
                  </a:lnTo>
                  <a:lnTo>
                    <a:pt x="230" y="363"/>
                  </a:lnTo>
                  <a:lnTo>
                    <a:pt x="230" y="380"/>
                  </a:lnTo>
                  <a:lnTo>
                    <a:pt x="230" y="398"/>
                  </a:lnTo>
                  <a:lnTo>
                    <a:pt x="230" y="415"/>
                  </a:lnTo>
                  <a:lnTo>
                    <a:pt x="230" y="433"/>
                  </a:lnTo>
                  <a:lnTo>
                    <a:pt x="228" y="450"/>
                  </a:lnTo>
                  <a:lnTo>
                    <a:pt x="228" y="468"/>
                  </a:lnTo>
                  <a:lnTo>
                    <a:pt x="226" y="485"/>
                  </a:lnTo>
                  <a:lnTo>
                    <a:pt x="226" y="504"/>
                  </a:lnTo>
                  <a:lnTo>
                    <a:pt x="225" y="51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1849320" y="2749320"/>
              <a:ext cx="171360" cy="64800"/>
            </a:xfrm>
            <a:custGeom>
              <a:avLst/>
              <a:gdLst/>
              <a:ahLst/>
              <a:rect l="l" t="t" r="r" b="b"/>
              <a:pathLst>
                <a:path w="216" h="82">
                  <a:moveTo>
                    <a:pt x="202" y="82"/>
                  </a:moveTo>
                  <a:lnTo>
                    <a:pt x="185" y="82"/>
                  </a:lnTo>
                  <a:lnTo>
                    <a:pt x="167" y="78"/>
                  </a:lnTo>
                  <a:lnTo>
                    <a:pt x="152" y="72"/>
                  </a:lnTo>
                  <a:lnTo>
                    <a:pt x="136" y="68"/>
                  </a:lnTo>
                  <a:lnTo>
                    <a:pt x="119" y="62"/>
                  </a:lnTo>
                  <a:lnTo>
                    <a:pt x="105" y="60"/>
                  </a:lnTo>
                  <a:lnTo>
                    <a:pt x="89" y="64"/>
                  </a:lnTo>
                  <a:lnTo>
                    <a:pt x="76" y="76"/>
                  </a:lnTo>
                  <a:lnTo>
                    <a:pt x="58" y="70"/>
                  </a:lnTo>
                  <a:lnTo>
                    <a:pt x="41" y="66"/>
                  </a:lnTo>
                  <a:lnTo>
                    <a:pt x="24" y="60"/>
                  </a:lnTo>
                  <a:lnTo>
                    <a:pt x="8" y="6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95" y="2"/>
                  </a:lnTo>
                  <a:lnTo>
                    <a:pt x="111" y="4"/>
                  </a:lnTo>
                  <a:lnTo>
                    <a:pt x="124" y="4"/>
                  </a:lnTo>
                  <a:lnTo>
                    <a:pt x="138" y="8"/>
                  </a:lnTo>
                  <a:lnTo>
                    <a:pt x="152" y="10"/>
                  </a:lnTo>
                  <a:lnTo>
                    <a:pt x="165" y="16"/>
                  </a:lnTo>
                  <a:lnTo>
                    <a:pt x="177" y="20"/>
                  </a:lnTo>
                  <a:lnTo>
                    <a:pt x="190" y="26"/>
                  </a:lnTo>
                  <a:lnTo>
                    <a:pt x="202" y="31"/>
                  </a:lnTo>
                  <a:lnTo>
                    <a:pt x="216" y="41"/>
                  </a:lnTo>
                  <a:lnTo>
                    <a:pt x="216" y="51"/>
                  </a:lnTo>
                  <a:lnTo>
                    <a:pt x="212" y="62"/>
                  </a:lnTo>
                  <a:lnTo>
                    <a:pt x="206" y="72"/>
                  </a:lnTo>
                  <a:lnTo>
                    <a:pt x="202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1842840" y="3419280"/>
              <a:ext cx="139680" cy="61560"/>
            </a:xfrm>
            <a:custGeom>
              <a:avLst/>
              <a:gdLst/>
              <a:ahLst/>
              <a:rect l="l" t="t" r="r" b="b"/>
              <a:pathLst>
                <a:path w="176" h="77">
                  <a:moveTo>
                    <a:pt x="159" y="77"/>
                  </a:moveTo>
                  <a:lnTo>
                    <a:pt x="147" y="73"/>
                  </a:lnTo>
                  <a:lnTo>
                    <a:pt x="135" y="72"/>
                  </a:lnTo>
                  <a:lnTo>
                    <a:pt x="124" y="70"/>
                  </a:lnTo>
                  <a:lnTo>
                    <a:pt x="114" y="68"/>
                  </a:lnTo>
                  <a:lnTo>
                    <a:pt x="93" y="64"/>
                  </a:lnTo>
                  <a:lnTo>
                    <a:pt x="73" y="60"/>
                  </a:lnTo>
                  <a:lnTo>
                    <a:pt x="52" y="52"/>
                  </a:lnTo>
                  <a:lnTo>
                    <a:pt x="32" y="42"/>
                  </a:lnTo>
                  <a:lnTo>
                    <a:pt x="15" y="31"/>
                  </a:lnTo>
                  <a:lnTo>
                    <a:pt x="0" y="15"/>
                  </a:lnTo>
                  <a:lnTo>
                    <a:pt x="0" y="6"/>
                  </a:lnTo>
                  <a:lnTo>
                    <a:pt x="7" y="0"/>
                  </a:lnTo>
                  <a:lnTo>
                    <a:pt x="19" y="4"/>
                  </a:lnTo>
                  <a:lnTo>
                    <a:pt x="29" y="15"/>
                  </a:lnTo>
                  <a:lnTo>
                    <a:pt x="36" y="27"/>
                  </a:lnTo>
                  <a:lnTo>
                    <a:pt x="50" y="41"/>
                  </a:lnTo>
                  <a:lnTo>
                    <a:pt x="64" y="42"/>
                  </a:lnTo>
                  <a:lnTo>
                    <a:pt x="79" y="44"/>
                  </a:lnTo>
                  <a:lnTo>
                    <a:pt x="93" y="46"/>
                  </a:lnTo>
                  <a:lnTo>
                    <a:pt x="108" y="48"/>
                  </a:lnTo>
                  <a:lnTo>
                    <a:pt x="122" y="46"/>
                  </a:lnTo>
                  <a:lnTo>
                    <a:pt x="135" y="44"/>
                  </a:lnTo>
                  <a:lnTo>
                    <a:pt x="149" y="41"/>
                  </a:lnTo>
                  <a:lnTo>
                    <a:pt x="164" y="35"/>
                  </a:lnTo>
                  <a:lnTo>
                    <a:pt x="172" y="44"/>
                  </a:lnTo>
                  <a:lnTo>
                    <a:pt x="176" y="60"/>
                  </a:lnTo>
                  <a:lnTo>
                    <a:pt x="170" y="73"/>
                  </a:lnTo>
                  <a:lnTo>
                    <a:pt x="159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1912680" y="3342960"/>
              <a:ext cx="68400" cy="252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64" y="31"/>
                  </a:moveTo>
                  <a:lnTo>
                    <a:pt x="48" y="29"/>
                  </a:lnTo>
                  <a:lnTo>
                    <a:pt x="33" y="27"/>
                  </a:lnTo>
                  <a:lnTo>
                    <a:pt x="19" y="23"/>
                  </a:lnTo>
                  <a:lnTo>
                    <a:pt x="9" y="17"/>
                  </a:lnTo>
                  <a:lnTo>
                    <a:pt x="2" y="9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9" y="9"/>
                  </a:lnTo>
                  <a:lnTo>
                    <a:pt x="50" y="9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8"/>
                  </a:lnTo>
                  <a:lnTo>
                    <a:pt x="77" y="21"/>
                  </a:lnTo>
                  <a:lnTo>
                    <a:pt x="6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1901880" y="3206520"/>
              <a:ext cx="75960" cy="131400"/>
            </a:xfrm>
            <a:custGeom>
              <a:avLst/>
              <a:gdLst/>
              <a:ahLst/>
              <a:rect l="l" t="t" r="r" b="b"/>
              <a:pathLst>
                <a:path w="95" h="167">
                  <a:moveTo>
                    <a:pt x="80" y="167"/>
                  </a:moveTo>
                  <a:lnTo>
                    <a:pt x="68" y="165"/>
                  </a:lnTo>
                  <a:lnTo>
                    <a:pt x="56" y="165"/>
                  </a:lnTo>
                  <a:lnTo>
                    <a:pt x="45" y="163"/>
                  </a:lnTo>
                  <a:lnTo>
                    <a:pt x="35" y="159"/>
                  </a:lnTo>
                  <a:lnTo>
                    <a:pt x="35" y="138"/>
                  </a:lnTo>
                  <a:lnTo>
                    <a:pt x="35" y="119"/>
                  </a:lnTo>
                  <a:lnTo>
                    <a:pt x="31" y="99"/>
                  </a:lnTo>
                  <a:lnTo>
                    <a:pt x="29" y="80"/>
                  </a:lnTo>
                  <a:lnTo>
                    <a:pt x="22" y="58"/>
                  </a:lnTo>
                  <a:lnTo>
                    <a:pt x="16" y="39"/>
                  </a:lnTo>
                  <a:lnTo>
                    <a:pt x="8" y="20"/>
                  </a:lnTo>
                  <a:lnTo>
                    <a:pt x="0" y="2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60" y="10"/>
                  </a:lnTo>
                  <a:lnTo>
                    <a:pt x="66" y="18"/>
                  </a:lnTo>
                  <a:lnTo>
                    <a:pt x="72" y="31"/>
                  </a:lnTo>
                  <a:lnTo>
                    <a:pt x="78" y="45"/>
                  </a:lnTo>
                  <a:lnTo>
                    <a:pt x="86" y="62"/>
                  </a:lnTo>
                  <a:lnTo>
                    <a:pt x="89" y="82"/>
                  </a:lnTo>
                  <a:lnTo>
                    <a:pt x="95" y="101"/>
                  </a:lnTo>
                  <a:lnTo>
                    <a:pt x="93" y="119"/>
                  </a:lnTo>
                  <a:lnTo>
                    <a:pt x="93" y="136"/>
                  </a:lnTo>
                  <a:lnTo>
                    <a:pt x="87" y="151"/>
                  </a:lnTo>
                  <a:lnTo>
                    <a:pt x="8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1784160" y="3463560"/>
              <a:ext cx="184320" cy="188640"/>
            </a:xfrm>
            <a:custGeom>
              <a:avLst/>
              <a:gdLst/>
              <a:ahLst/>
              <a:rect l="l" t="t" r="r" b="b"/>
              <a:pathLst>
                <a:path w="231" h="239">
                  <a:moveTo>
                    <a:pt x="161" y="231"/>
                  </a:moveTo>
                  <a:lnTo>
                    <a:pt x="141" y="235"/>
                  </a:lnTo>
                  <a:lnTo>
                    <a:pt x="124" y="239"/>
                  </a:lnTo>
                  <a:lnTo>
                    <a:pt x="106" y="237"/>
                  </a:lnTo>
                  <a:lnTo>
                    <a:pt x="89" y="237"/>
                  </a:lnTo>
                  <a:lnTo>
                    <a:pt x="72" y="231"/>
                  </a:lnTo>
                  <a:lnTo>
                    <a:pt x="54" y="225"/>
                  </a:lnTo>
                  <a:lnTo>
                    <a:pt x="37" y="215"/>
                  </a:lnTo>
                  <a:lnTo>
                    <a:pt x="25" y="208"/>
                  </a:lnTo>
                  <a:lnTo>
                    <a:pt x="0" y="165"/>
                  </a:lnTo>
                  <a:lnTo>
                    <a:pt x="54" y="0"/>
                  </a:lnTo>
                  <a:lnTo>
                    <a:pt x="74" y="10"/>
                  </a:lnTo>
                  <a:lnTo>
                    <a:pt x="95" y="19"/>
                  </a:lnTo>
                  <a:lnTo>
                    <a:pt x="105" y="23"/>
                  </a:lnTo>
                  <a:lnTo>
                    <a:pt x="116" y="27"/>
                  </a:lnTo>
                  <a:lnTo>
                    <a:pt x="128" y="31"/>
                  </a:lnTo>
                  <a:lnTo>
                    <a:pt x="139" y="35"/>
                  </a:lnTo>
                  <a:lnTo>
                    <a:pt x="149" y="37"/>
                  </a:lnTo>
                  <a:lnTo>
                    <a:pt x="161" y="39"/>
                  </a:lnTo>
                  <a:lnTo>
                    <a:pt x="172" y="41"/>
                  </a:lnTo>
                  <a:lnTo>
                    <a:pt x="184" y="45"/>
                  </a:lnTo>
                  <a:lnTo>
                    <a:pt x="196" y="45"/>
                  </a:lnTo>
                  <a:lnTo>
                    <a:pt x="207" y="49"/>
                  </a:lnTo>
                  <a:lnTo>
                    <a:pt x="219" y="49"/>
                  </a:lnTo>
                  <a:lnTo>
                    <a:pt x="231" y="52"/>
                  </a:lnTo>
                  <a:lnTo>
                    <a:pt x="227" y="64"/>
                  </a:lnTo>
                  <a:lnTo>
                    <a:pt x="223" y="76"/>
                  </a:lnTo>
                  <a:lnTo>
                    <a:pt x="219" y="87"/>
                  </a:lnTo>
                  <a:lnTo>
                    <a:pt x="217" y="99"/>
                  </a:lnTo>
                  <a:lnTo>
                    <a:pt x="211" y="109"/>
                  </a:lnTo>
                  <a:lnTo>
                    <a:pt x="207" y="120"/>
                  </a:lnTo>
                  <a:lnTo>
                    <a:pt x="202" y="132"/>
                  </a:lnTo>
                  <a:lnTo>
                    <a:pt x="198" y="144"/>
                  </a:lnTo>
                  <a:lnTo>
                    <a:pt x="192" y="153"/>
                  </a:lnTo>
                  <a:lnTo>
                    <a:pt x="188" y="165"/>
                  </a:lnTo>
                  <a:lnTo>
                    <a:pt x="182" y="175"/>
                  </a:lnTo>
                  <a:lnTo>
                    <a:pt x="178" y="186"/>
                  </a:lnTo>
                  <a:lnTo>
                    <a:pt x="172" y="196"/>
                  </a:lnTo>
                  <a:lnTo>
                    <a:pt x="167" y="208"/>
                  </a:lnTo>
                  <a:lnTo>
                    <a:pt x="163" y="219"/>
                  </a:lnTo>
                  <a:lnTo>
                    <a:pt x="161" y="231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1898640" y="3376440"/>
              <a:ext cx="58680" cy="4716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60" y="60"/>
                  </a:moveTo>
                  <a:lnTo>
                    <a:pt x="43" y="54"/>
                  </a:lnTo>
                  <a:lnTo>
                    <a:pt x="26" y="50"/>
                  </a:lnTo>
                  <a:lnTo>
                    <a:pt x="10" y="42"/>
                  </a:lnTo>
                  <a:lnTo>
                    <a:pt x="2" y="31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2" y="5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6" y="3"/>
                  </a:lnTo>
                  <a:lnTo>
                    <a:pt x="37" y="7"/>
                  </a:lnTo>
                  <a:lnTo>
                    <a:pt x="49" y="11"/>
                  </a:lnTo>
                  <a:lnTo>
                    <a:pt x="60" y="13"/>
                  </a:lnTo>
                  <a:lnTo>
                    <a:pt x="74" y="13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1882800" y="3419280"/>
              <a:ext cx="61920" cy="2196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1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5" y="13"/>
                  </a:lnTo>
                  <a:lnTo>
                    <a:pt x="45" y="15"/>
                  </a:lnTo>
                  <a:lnTo>
                    <a:pt x="54" y="19"/>
                  </a:lnTo>
                  <a:lnTo>
                    <a:pt x="66" y="21"/>
                  </a:lnTo>
                  <a:lnTo>
                    <a:pt x="78" y="25"/>
                  </a:lnTo>
                  <a:lnTo>
                    <a:pt x="60" y="29"/>
                  </a:lnTo>
                  <a:lnTo>
                    <a:pt x="43" y="27"/>
                  </a:lnTo>
                  <a:lnTo>
                    <a:pt x="25" y="2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1758960" y="3609720"/>
              <a:ext cx="172800" cy="93240"/>
            </a:xfrm>
            <a:custGeom>
              <a:avLst/>
              <a:gdLst/>
              <a:ahLst/>
              <a:rect l="l" t="t" r="r" b="b"/>
              <a:pathLst>
                <a:path w="219" h="119">
                  <a:moveTo>
                    <a:pt x="176" y="117"/>
                  </a:moveTo>
                  <a:lnTo>
                    <a:pt x="165" y="117"/>
                  </a:lnTo>
                  <a:lnTo>
                    <a:pt x="153" y="117"/>
                  </a:lnTo>
                  <a:lnTo>
                    <a:pt x="141" y="117"/>
                  </a:lnTo>
                  <a:lnTo>
                    <a:pt x="132" y="119"/>
                  </a:lnTo>
                  <a:lnTo>
                    <a:pt x="110" y="113"/>
                  </a:lnTo>
                  <a:lnTo>
                    <a:pt x="91" y="109"/>
                  </a:lnTo>
                  <a:lnTo>
                    <a:pt x="70" y="99"/>
                  </a:lnTo>
                  <a:lnTo>
                    <a:pt x="50" y="89"/>
                  </a:lnTo>
                  <a:lnTo>
                    <a:pt x="33" y="76"/>
                  </a:lnTo>
                  <a:lnTo>
                    <a:pt x="17" y="64"/>
                  </a:lnTo>
                  <a:lnTo>
                    <a:pt x="6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8" y="0"/>
                  </a:lnTo>
                  <a:lnTo>
                    <a:pt x="13" y="12"/>
                  </a:lnTo>
                  <a:lnTo>
                    <a:pt x="21" y="24"/>
                  </a:lnTo>
                  <a:lnTo>
                    <a:pt x="31" y="33"/>
                  </a:lnTo>
                  <a:lnTo>
                    <a:pt x="43" y="43"/>
                  </a:lnTo>
                  <a:lnTo>
                    <a:pt x="54" y="51"/>
                  </a:lnTo>
                  <a:lnTo>
                    <a:pt x="68" y="58"/>
                  </a:lnTo>
                  <a:lnTo>
                    <a:pt x="81" y="64"/>
                  </a:lnTo>
                  <a:lnTo>
                    <a:pt x="97" y="70"/>
                  </a:lnTo>
                  <a:lnTo>
                    <a:pt x="110" y="72"/>
                  </a:lnTo>
                  <a:lnTo>
                    <a:pt x="126" y="76"/>
                  </a:lnTo>
                  <a:lnTo>
                    <a:pt x="139" y="78"/>
                  </a:lnTo>
                  <a:lnTo>
                    <a:pt x="157" y="80"/>
                  </a:lnTo>
                  <a:lnTo>
                    <a:pt x="172" y="80"/>
                  </a:lnTo>
                  <a:lnTo>
                    <a:pt x="188" y="80"/>
                  </a:lnTo>
                  <a:lnTo>
                    <a:pt x="203" y="80"/>
                  </a:lnTo>
                  <a:lnTo>
                    <a:pt x="219" y="82"/>
                  </a:lnTo>
                  <a:lnTo>
                    <a:pt x="213" y="97"/>
                  </a:lnTo>
                  <a:lnTo>
                    <a:pt x="203" y="107"/>
                  </a:lnTo>
                  <a:lnTo>
                    <a:pt x="188" y="111"/>
                  </a:lnTo>
                  <a:lnTo>
                    <a:pt x="176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1811160" y="4357440"/>
              <a:ext cx="106560" cy="182160"/>
            </a:xfrm>
            <a:custGeom>
              <a:avLst/>
              <a:gdLst/>
              <a:ahLst/>
              <a:rect l="l" t="t" r="r" b="b"/>
              <a:pathLst>
                <a:path w="134" h="228">
                  <a:moveTo>
                    <a:pt x="11" y="228"/>
                  </a:moveTo>
                  <a:lnTo>
                    <a:pt x="4" y="228"/>
                  </a:lnTo>
                  <a:lnTo>
                    <a:pt x="0" y="225"/>
                  </a:lnTo>
                  <a:lnTo>
                    <a:pt x="134" y="0"/>
                  </a:lnTo>
                  <a:lnTo>
                    <a:pt x="126" y="13"/>
                  </a:lnTo>
                  <a:lnTo>
                    <a:pt x="120" y="29"/>
                  </a:lnTo>
                  <a:lnTo>
                    <a:pt x="112" y="42"/>
                  </a:lnTo>
                  <a:lnTo>
                    <a:pt x="106" y="58"/>
                  </a:lnTo>
                  <a:lnTo>
                    <a:pt x="99" y="71"/>
                  </a:lnTo>
                  <a:lnTo>
                    <a:pt x="91" y="87"/>
                  </a:lnTo>
                  <a:lnTo>
                    <a:pt x="83" y="100"/>
                  </a:lnTo>
                  <a:lnTo>
                    <a:pt x="77" y="116"/>
                  </a:lnTo>
                  <a:lnTo>
                    <a:pt x="68" y="128"/>
                  </a:lnTo>
                  <a:lnTo>
                    <a:pt x="60" y="143"/>
                  </a:lnTo>
                  <a:lnTo>
                    <a:pt x="52" y="157"/>
                  </a:lnTo>
                  <a:lnTo>
                    <a:pt x="44" y="172"/>
                  </a:lnTo>
                  <a:lnTo>
                    <a:pt x="35" y="184"/>
                  </a:lnTo>
                  <a:lnTo>
                    <a:pt x="27" y="199"/>
                  </a:lnTo>
                  <a:lnTo>
                    <a:pt x="19" y="213"/>
                  </a:lnTo>
                  <a:lnTo>
                    <a:pt x="11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1568160" y="3668400"/>
              <a:ext cx="335160" cy="703080"/>
            </a:xfrm>
            <a:custGeom>
              <a:avLst/>
              <a:gdLst/>
              <a:ahLst/>
              <a:rect l="l" t="t" r="r" b="b"/>
              <a:pathLst>
                <a:path w="423" h="886">
                  <a:moveTo>
                    <a:pt x="262" y="601"/>
                  </a:moveTo>
                  <a:lnTo>
                    <a:pt x="252" y="613"/>
                  </a:lnTo>
                  <a:lnTo>
                    <a:pt x="245" y="626"/>
                  </a:lnTo>
                  <a:lnTo>
                    <a:pt x="235" y="638"/>
                  </a:lnTo>
                  <a:lnTo>
                    <a:pt x="227" y="651"/>
                  </a:lnTo>
                  <a:lnTo>
                    <a:pt x="218" y="663"/>
                  </a:lnTo>
                  <a:lnTo>
                    <a:pt x="210" y="677"/>
                  </a:lnTo>
                  <a:lnTo>
                    <a:pt x="200" y="690"/>
                  </a:lnTo>
                  <a:lnTo>
                    <a:pt x="192" y="704"/>
                  </a:lnTo>
                  <a:lnTo>
                    <a:pt x="183" y="715"/>
                  </a:lnTo>
                  <a:lnTo>
                    <a:pt x="173" y="727"/>
                  </a:lnTo>
                  <a:lnTo>
                    <a:pt x="163" y="739"/>
                  </a:lnTo>
                  <a:lnTo>
                    <a:pt x="156" y="752"/>
                  </a:lnTo>
                  <a:lnTo>
                    <a:pt x="146" y="764"/>
                  </a:lnTo>
                  <a:lnTo>
                    <a:pt x="136" y="777"/>
                  </a:lnTo>
                  <a:lnTo>
                    <a:pt x="126" y="789"/>
                  </a:lnTo>
                  <a:lnTo>
                    <a:pt x="119" y="803"/>
                  </a:lnTo>
                  <a:lnTo>
                    <a:pt x="101" y="789"/>
                  </a:lnTo>
                  <a:lnTo>
                    <a:pt x="86" y="789"/>
                  </a:lnTo>
                  <a:lnTo>
                    <a:pt x="66" y="793"/>
                  </a:lnTo>
                  <a:lnTo>
                    <a:pt x="49" y="795"/>
                  </a:lnTo>
                  <a:lnTo>
                    <a:pt x="35" y="807"/>
                  </a:lnTo>
                  <a:lnTo>
                    <a:pt x="26" y="820"/>
                  </a:lnTo>
                  <a:lnTo>
                    <a:pt x="20" y="838"/>
                  </a:lnTo>
                  <a:lnTo>
                    <a:pt x="22" y="857"/>
                  </a:lnTo>
                  <a:lnTo>
                    <a:pt x="29" y="869"/>
                  </a:lnTo>
                  <a:lnTo>
                    <a:pt x="43" y="872"/>
                  </a:lnTo>
                  <a:lnTo>
                    <a:pt x="59" y="874"/>
                  </a:lnTo>
                  <a:lnTo>
                    <a:pt x="72" y="886"/>
                  </a:lnTo>
                  <a:lnTo>
                    <a:pt x="62" y="880"/>
                  </a:lnTo>
                  <a:lnTo>
                    <a:pt x="53" y="882"/>
                  </a:lnTo>
                  <a:lnTo>
                    <a:pt x="43" y="882"/>
                  </a:lnTo>
                  <a:lnTo>
                    <a:pt x="33" y="886"/>
                  </a:lnTo>
                  <a:lnTo>
                    <a:pt x="22" y="886"/>
                  </a:lnTo>
                  <a:lnTo>
                    <a:pt x="14" y="886"/>
                  </a:lnTo>
                  <a:lnTo>
                    <a:pt x="8" y="880"/>
                  </a:lnTo>
                  <a:lnTo>
                    <a:pt x="4" y="871"/>
                  </a:lnTo>
                  <a:lnTo>
                    <a:pt x="0" y="859"/>
                  </a:lnTo>
                  <a:lnTo>
                    <a:pt x="2" y="849"/>
                  </a:lnTo>
                  <a:lnTo>
                    <a:pt x="2" y="840"/>
                  </a:lnTo>
                  <a:lnTo>
                    <a:pt x="6" y="832"/>
                  </a:lnTo>
                  <a:lnTo>
                    <a:pt x="16" y="814"/>
                  </a:lnTo>
                  <a:lnTo>
                    <a:pt x="28" y="801"/>
                  </a:lnTo>
                  <a:lnTo>
                    <a:pt x="39" y="787"/>
                  </a:lnTo>
                  <a:lnTo>
                    <a:pt x="53" y="781"/>
                  </a:lnTo>
                  <a:lnTo>
                    <a:pt x="68" y="777"/>
                  </a:lnTo>
                  <a:lnTo>
                    <a:pt x="84" y="776"/>
                  </a:lnTo>
                  <a:lnTo>
                    <a:pt x="95" y="758"/>
                  </a:lnTo>
                  <a:lnTo>
                    <a:pt x="107" y="741"/>
                  </a:lnTo>
                  <a:lnTo>
                    <a:pt x="119" y="723"/>
                  </a:lnTo>
                  <a:lnTo>
                    <a:pt x="132" y="708"/>
                  </a:lnTo>
                  <a:lnTo>
                    <a:pt x="144" y="690"/>
                  </a:lnTo>
                  <a:lnTo>
                    <a:pt x="156" y="673"/>
                  </a:lnTo>
                  <a:lnTo>
                    <a:pt x="167" y="655"/>
                  </a:lnTo>
                  <a:lnTo>
                    <a:pt x="179" y="640"/>
                  </a:lnTo>
                  <a:lnTo>
                    <a:pt x="188" y="622"/>
                  </a:lnTo>
                  <a:lnTo>
                    <a:pt x="200" y="605"/>
                  </a:lnTo>
                  <a:lnTo>
                    <a:pt x="210" y="587"/>
                  </a:lnTo>
                  <a:lnTo>
                    <a:pt x="221" y="570"/>
                  </a:lnTo>
                  <a:lnTo>
                    <a:pt x="231" y="553"/>
                  </a:lnTo>
                  <a:lnTo>
                    <a:pt x="241" y="535"/>
                  </a:lnTo>
                  <a:lnTo>
                    <a:pt x="251" y="518"/>
                  </a:lnTo>
                  <a:lnTo>
                    <a:pt x="260" y="500"/>
                  </a:lnTo>
                  <a:lnTo>
                    <a:pt x="268" y="481"/>
                  </a:lnTo>
                  <a:lnTo>
                    <a:pt x="276" y="461"/>
                  </a:lnTo>
                  <a:lnTo>
                    <a:pt x="284" y="442"/>
                  </a:lnTo>
                  <a:lnTo>
                    <a:pt x="291" y="423"/>
                  </a:lnTo>
                  <a:lnTo>
                    <a:pt x="297" y="403"/>
                  </a:lnTo>
                  <a:lnTo>
                    <a:pt x="303" y="384"/>
                  </a:lnTo>
                  <a:lnTo>
                    <a:pt x="309" y="364"/>
                  </a:lnTo>
                  <a:lnTo>
                    <a:pt x="316" y="347"/>
                  </a:lnTo>
                  <a:lnTo>
                    <a:pt x="320" y="326"/>
                  </a:lnTo>
                  <a:lnTo>
                    <a:pt x="324" y="306"/>
                  </a:lnTo>
                  <a:lnTo>
                    <a:pt x="328" y="285"/>
                  </a:lnTo>
                  <a:lnTo>
                    <a:pt x="332" y="266"/>
                  </a:lnTo>
                  <a:lnTo>
                    <a:pt x="334" y="244"/>
                  </a:lnTo>
                  <a:lnTo>
                    <a:pt x="338" y="225"/>
                  </a:lnTo>
                  <a:lnTo>
                    <a:pt x="340" y="204"/>
                  </a:lnTo>
                  <a:lnTo>
                    <a:pt x="342" y="184"/>
                  </a:lnTo>
                  <a:lnTo>
                    <a:pt x="340" y="169"/>
                  </a:lnTo>
                  <a:lnTo>
                    <a:pt x="340" y="155"/>
                  </a:lnTo>
                  <a:lnTo>
                    <a:pt x="336" y="143"/>
                  </a:lnTo>
                  <a:lnTo>
                    <a:pt x="332" y="132"/>
                  </a:lnTo>
                  <a:lnTo>
                    <a:pt x="326" y="120"/>
                  </a:lnTo>
                  <a:lnTo>
                    <a:pt x="320" y="109"/>
                  </a:lnTo>
                  <a:lnTo>
                    <a:pt x="313" y="99"/>
                  </a:lnTo>
                  <a:lnTo>
                    <a:pt x="307" y="89"/>
                  </a:lnTo>
                  <a:lnTo>
                    <a:pt x="287" y="70"/>
                  </a:lnTo>
                  <a:lnTo>
                    <a:pt x="268" y="54"/>
                  </a:lnTo>
                  <a:lnTo>
                    <a:pt x="247" y="41"/>
                  </a:lnTo>
                  <a:lnTo>
                    <a:pt x="227" y="31"/>
                  </a:lnTo>
                  <a:lnTo>
                    <a:pt x="200" y="27"/>
                  </a:lnTo>
                  <a:lnTo>
                    <a:pt x="210" y="10"/>
                  </a:lnTo>
                  <a:lnTo>
                    <a:pt x="221" y="0"/>
                  </a:lnTo>
                  <a:lnTo>
                    <a:pt x="229" y="8"/>
                  </a:lnTo>
                  <a:lnTo>
                    <a:pt x="239" y="15"/>
                  </a:lnTo>
                  <a:lnTo>
                    <a:pt x="249" y="23"/>
                  </a:lnTo>
                  <a:lnTo>
                    <a:pt x="260" y="31"/>
                  </a:lnTo>
                  <a:lnTo>
                    <a:pt x="270" y="37"/>
                  </a:lnTo>
                  <a:lnTo>
                    <a:pt x="282" y="43"/>
                  </a:lnTo>
                  <a:lnTo>
                    <a:pt x="293" y="48"/>
                  </a:lnTo>
                  <a:lnTo>
                    <a:pt x="305" y="54"/>
                  </a:lnTo>
                  <a:lnTo>
                    <a:pt x="316" y="56"/>
                  </a:lnTo>
                  <a:lnTo>
                    <a:pt x="328" y="60"/>
                  </a:lnTo>
                  <a:lnTo>
                    <a:pt x="340" y="64"/>
                  </a:lnTo>
                  <a:lnTo>
                    <a:pt x="353" y="68"/>
                  </a:lnTo>
                  <a:lnTo>
                    <a:pt x="365" y="70"/>
                  </a:lnTo>
                  <a:lnTo>
                    <a:pt x="377" y="74"/>
                  </a:lnTo>
                  <a:lnTo>
                    <a:pt x="390" y="76"/>
                  </a:lnTo>
                  <a:lnTo>
                    <a:pt x="404" y="79"/>
                  </a:lnTo>
                  <a:lnTo>
                    <a:pt x="408" y="91"/>
                  </a:lnTo>
                  <a:lnTo>
                    <a:pt x="412" y="103"/>
                  </a:lnTo>
                  <a:lnTo>
                    <a:pt x="413" y="114"/>
                  </a:lnTo>
                  <a:lnTo>
                    <a:pt x="417" y="128"/>
                  </a:lnTo>
                  <a:lnTo>
                    <a:pt x="419" y="140"/>
                  </a:lnTo>
                  <a:lnTo>
                    <a:pt x="421" y="151"/>
                  </a:lnTo>
                  <a:lnTo>
                    <a:pt x="421" y="163"/>
                  </a:lnTo>
                  <a:lnTo>
                    <a:pt x="423" y="176"/>
                  </a:lnTo>
                  <a:lnTo>
                    <a:pt x="421" y="188"/>
                  </a:lnTo>
                  <a:lnTo>
                    <a:pt x="421" y="200"/>
                  </a:lnTo>
                  <a:lnTo>
                    <a:pt x="419" y="211"/>
                  </a:lnTo>
                  <a:lnTo>
                    <a:pt x="417" y="225"/>
                  </a:lnTo>
                  <a:lnTo>
                    <a:pt x="413" y="236"/>
                  </a:lnTo>
                  <a:lnTo>
                    <a:pt x="412" y="248"/>
                  </a:lnTo>
                  <a:lnTo>
                    <a:pt x="408" y="260"/>
                  </a:lnTo>
                  <a:lnTo>
                    <a:pt x="406" y="273"/>
                  </a:lnTo>
                  <a:lnTo>
                    <a:pt x="400" y="285"/>
                  </a:lnTo>
                  <a:lnTo>
                    <a:pt x="396" y="297"/>
                  </a:lnTo>
                  <a:lnTo>
                    <a:pt x="392" y="308"/>
                  </a:lnTo>
                  <a:lnTo>
                    <a:pt x="388" y="320"/>
                  </a:lnTo>
                  <a:lnTo>
                    <a:pt x="382" y="331"/>
                  </a:lnTo>
                  <a:lnTo>
                    <a:pt x="379" y="343"/>
                  </a:lnTo>
                  <a:lnTo>
                    <a:pt x="373" y="355"/>
                  </a:lnTo>
                  <a:lnTo>
                    <a:pt x="369" y="366"/>
                  </a:lnTo>
                  <a:lnTo>
                    <a:pt x="363" y="376"/>
                  </a:lnTo>
                  <a:lnTo>
                    <a:pt x="359" y="388"/>
                  </a:lnTo>
                  <a:lnTo>
                    <a:pt x="353" y="399"/>
                  </a:lnTo>
                  <a:lnTo>
                    <a:pt x="349" y="411"/>
                  </a:lnTo>
                  <a:lnTo>
                    <a:pt x="344" y="423"/>
                  </a:lnTo>
                  <a:lnTo>
                    <a:pt x="340" y="434"/>
                  </a:lnTo>
                  <a:lnTo>
                    <a:pt x="336" y="446"/>
                  </a:lnTo>
                  <a:lnTo>
                    <a:pt x="334" y="458"/>
                  </a:lnTo>
                  <a:lnTo>
                    <a:pt x="262" y="601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1670040" y="4051080"/>
              <a:ext cx="231840" cy="455400"/>
            </a:xfrm>
            <a:custGeom>
              <a:avLst/>
              <a:gdLst/>
              <a:ahLst/>
              <a:rect l="l" t="t" r="r" b="b"/>
              <a:pathLst>
                <a:path w="293" h="574">
                  <a:moveTo>
                    <a:pt x="138" y="574"/>
                  </a:moveTo>
                  <a:lnTo>
                    <a:pt x="126" y="574"/>
                  </a:lnTo>
                  <a:lnTo>
                    <a:pt x="119" y="568"/>
                  </a:lnTo>
                  <a:lnTo>
                    <a:pt x="111" y="558"/>
                  </a:lnTo>
                  <a:lnTo>
                    <a:pt x="103" y="554"/>
                  </a:lnTo>
                  <a:lnTo>
                    <a:pt x="47" y="560"/>
                  </a:lnTo>
                  <a:lnTo>
                    <a:pt x="47" y="545"/>
                  </a:lnTo>
                  <a:lnTo>
                    <a:pt x="49" y="529"/>
                  </a:lnTo>
                  <a:lnTo>
                    <a:pt x="51" y="514"/>
                  </a:lnTo>
                  <a:lnTo>
                    <a:pt x="55" y="500"/>
                  </a:lnTo>
                  <a:lnTo>
                    <a:pt x="55" y="483"/>
                  </a:lnTo>
                  <a:lnTo>
                    <a:pt x="57" y="467"/>
                  </a:lnTo>
                  <a:lnTo>
                    <a:pt x="57" y="452"/>
                  </a:lnTo>
                  <a:lnTo>
                    <a:pt x="59" y="436"/>
                  </a:lnTo>
                  <a:lnTo>
                    <a:pt x="55" y="419"/>
                  </a:lnTo>
                  <a:lnTo>
                    <a:pt x="53" y="405"/>
                  </a:lnTo>
                  <a:lnTo>
                    <a:pt x="47" y="389"/>
                  </a:lnTo>
                  <a:lnTo>
                    <a:pt x="43" y="378"/>
                  </a:lnTo>
                  <a:lnTo>
                    <a:pt x="35" y="364"/>
                  </a:lnTo>
                  <a:lnTo>
                    <a:pt x="26" y="353"/>
                  </a:lnTo>
                  <a:lnTo>
                    <a:pt x="14" y="343"/>
                  </a:lnTo>
                  <a:lnTo>
                    <a:pt x="0" y="335"/>
                  </a:lnTo>
                  <a:lnTo>
                    <a:pt x="18" y="316"/>
                  </a:lnTo>
                  <a:lnTo>
                    <a:pt x="35" y="296"/>
                  </a:lnTo>
                  <a:lnTo>
                    <a:pt x="53" y="277"/>
                  </a:lnTo>
                  <a:lnTo>
                    <a:pt x="70" y="258"/>
                  </a:lnTo>
                  <a:lnTo>
                    <a:pt x="76" y="246"/>
                  </a:lnTo>
                  <a:lnTo>
                    <a:pt x="86" y="236"/>
                  </a:lnTo>
                  <a:lnTo>
                    <a:pt x="92" y="225"/>
                  </a:lnTo>
                  <a:lnTo>
                    <a:pt x="101" y="215"/>
                  </a:lnTo>
                  <a:lnTo>
                    <a:pt x="117" y="194"/>
                  </a:lnTo>
                  <a:lnTo>
                    <a:pt x="132" y="174"/>
                  </a:lnTo>
                  <a:lnTo>
                    <a:pt x="138" y="163"/>
                  </a:lnTo>
                  <a:lnTo>
                    <a:pt x="144" y="151"/>
                  </a:lnTo>
                  <a:lnTo>
                    <a:pt x="150" y="139"/>
                  </a:lnTo>
                  <a:lnTo>
                    <a:pt x="157" y="130"/>
                  </a:lnTo>
                  <a:lnTo>
                    <a:pt x="163" y="118"/>
                  </a:lnTo>
                  <a:lnTo>
                    <a:pt x="171" y="108"/>
                  </a:lnTo>
                  <a:lnTo>
                    <a:pt x="177" y="97"/>
                  </a:lnTo>
                  <a:lnTo>
                    <a:pt x="185" y="87"/>
                  </a:lnTo>
                  <a:lnTo>
                    <a:pt x="190" y="75"/>
                  </a:lnTo>
                  <a:lnTo>
                    <a:pt x="196" y="64"/>
                  </a:lnTo>
                  <a:lnTo>
                    <a:pt x="202" y="52"/>
                  </a:lnTo>
                  <a:lnTo>
                    <a:pt x="210" y="42"/>
                  </a:lnTo>
                  <a:lnTo>
                    <a:pt x="216" y="31"/>
                  </a:lnTo>
                  <a:lnTo>
                    <a:pt x="221" y="21"/>
                  </a:lnTo>
                  <a:lnTo>
                    <a:pt x="227" y="9"/>
                  </a:lnTo>
                  <a:lnTo>
                    <a:pt x="235" y="0"/>
                  </a:lnTo>
                  <a:lnTo>
                    <a:pt x="245" y="6"/>
                  </a:lnTo>
                  <a:lnTo>
                    <a:pt x="252" y="17"/>
                  </a:lnTo>
                  <a:lnTo>
                    <a:pt x="256" y="31"/>
                  </a:lnTo>
                  <a:lnTo>
                    <a:pt x="262" y="44"/>
                  </a:lnTo>
                  <a:lnTo>
                    <a:pt x="268" y="64"/>
                  </a:lnTo>
                  <a:lnTo>
                    <a:pt x="276" y="85"/>
                  </a:lnTo>
                  <a:lnTo>
                    <a:pt x="278" y="95"/>
                  </a:lnTo>
                  <a:lnTo>
                    <a:pt x="280" y="106"/>
                  </a:lnTo>
                  <a:lnTo>
                    <a:pt x="282" y="118"/>
                  </a:lnTo>
                  <a:lnTo>
                    <a:pt x="285" y="130"/>
                  </a:lnTo>
                  <a:lnTo>
                    <a:pt x="285" y="141"/>
                  </a:lnTo>
                  <a:lnTo>
                    <a:pt x="287" y="153"/>
                  </a:lnTo>
                  <a:lnTo>
                    <a:pt x="289" y="165"/>
                  </a:lnTo>
                  <a:lnTo>
                    <a:pt x="291" y="176"/>
                  </a:lnTo>
                  <a:lnTo>
                    <a:pt x="291" y="188"/>
                  </a:lnTo>
                  <a:lnTo>
                    <a:pt x="291" y="199"/>
                  </a:lnTo>
                  <a:lnTo>
                    <a:pt x="291" y="211"/>
                  </a:lnTo>
                  <a:lnTo>
                    <a:pt x="293" y="223"/>
                  </a:lnTo>
                  <a:lnTo>
                    <a:pt x="289" y="234"/>
                  </a:lnTo>
                  <a:lnTo>
                    <a:pt x="287" y="246"/>
                  </a:lnTo>
                  <a:lnTo>
                    <a:pt x="284" y="258"/>
                  </a:lnTo>
                  <a:lnTo>
                    <a:pt x="282" y="269"/>
                  </a:lnTo>
                  <a:lnTo>
                    <a:pt x="278" y="281"/>
                  </a:lnTo>
                  <a:lnTo>
                    <a:pt x="274" y="293"/>
                  </a:lnTo>
                  <a:lnTo>
                    <a:pt x="270" y="304"/>
                  </a:lnTo>
                  <a:lnTo>
                    <a:pt x="268" y="316"/>
                  </a:lnTo>
                  <a:lnTo>
                    <a:pt x="262" y="325"/>
                  </a:lnTo>
                  <a:lnTo>
                    <a:pt x="258" y="337"/>
                  </a:lnTo>
                  <a:lnTo>
                    <a:pt x="254" y="349"/>
                  </a:lnTo>
                  <a:lnTo>
                    <a:pt x="251" y="360"/>
                  </a:lnTo>
                  <a:lnTo>
                    <a:pt x="247" y="370"/>
                  </a:lnTo>
                  <a:lnTo>
                    <a:pt x="243" y="382"/>
                  </a:lnTo>
                  <a:lnTo>
                    <a:pt x="239" y="393"/>
                  </a:lnTo>
                  <a:lnTo>
                    <a:pt x="235" y="405"/>
                  </a:lnTo>
                  <a:lnTo>
                    <a:pt x="229" y="415"/>
                  </a:lnTo>
                  <a:lnTo>
                    <a:pt x="223" y="424"/>
                  </a:lnTo>
                  <a:lnTo>
                    <a:pt x="218" y="436"/>
                  </a:lnTo>
                  <a:lnTo>
                    <a:pt x="212" y="448"/>
                  </a:lnTo>
                  <a:lnTo>
                    <a:pt x="206" y="457"/>
                  </a:lnTo>
                  <a:lnTo>
                    <a:pt x="200" y="467"/>
                  </a:lnTo>
                  <a:lnTo>
                    <a:pt x="194" y="479"/>
                  </a:lnTo>
                  <a:lnTo>
                    <a:pt x="188" y="490"/>
                  </a:lnTo>
                  <a:lnTo>
                    <a:pt x="175" y="510"/>
                  </a:lnTo>
                  <a:lnTo>
                    <a:pt x="163" y="531"/>
                  </a:lnTo>
                  <a:lnTo>
                    <a:pt x="156" y="541"/>
                  </a:lnTo>
                  <a:lnTo>
                    <a:pt x="150" y="552"/>
                  </a:lnTo>
                  <a:lnTo>
                    <a:pt x="144" y="562"/>
                  </a:lnTo>
                  <a:lnTo>
                    <a:pt x="138" y="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1831680" y="3441600"/>
              <a:ext cx="9720" cy="10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12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1803240" y="4344840"/>
              <a:ext cx="33480" cy="4716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21" y="60"/>
                  </a:moveTo>
                  <a:lnTo>
                    <a:pt x="12" y="58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4" y="27"/>
                  </a:lnTo>
                  <a:lnTo>
                    <a:pt x="10" y="16"/>
                  </a:lnTo>
                  <a:lnTo>
                    <a:pt x="16" y="4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7" y="12"/>
                  </a:lnTo>
                  <a:lnTo>
                    <a:pt x="43" y="21"/>
                  </a:lnTo>
                  <a:lnTo>
                    <a:pt x="39" y="33"/>
                  </a:lnTo>
                  <a:lnTo>
                    <a:pt x="37" y="45"/>
                  </a:lnTo>
                  <a:lnTo>
                    <a:pt x="31" y="54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1792080" y="4603680"/>
              <a:ext cx="42840" cy="4248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6" y="44"/>
                  </a:moveTo>
                  <a:lnTo>
                    <a:pt x="0" y="52"/>
                  </a:lnTo>
                  <a:lnTo>
                    <a:pt x="0" y="31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21" y="4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50" y="11"/>
                  </a:lnTo>
                  <a:lnTo>
                    <a:pt x="48" y="25"/>
                  </a:lnTo>
                  <a:lnTo>
                    <a:pt x="44" y="35"/>
                  </a:lnTo>
                  <a:lnTo>
                    <a:pt x="3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1811160" y="4671720"/>
              <a:ext cx="17640" cy="3636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6" y="47"/>
                  </a:move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6" y="2"/>
                  </a:lnTo>
                  <a:lnTo>
                    <a:pt x="15" y="0"/>
                  </a:lnTo>
                  <a:lnTo>
                    <a:pt x="21" y="12"/>
                  </a:lnTo>
                  <a:lnTo>
                    <a:pt x="19" y="23"/>
                  </a:lnTo>
                  <a:lnTo>
                    <a:pt x="19" y="35"/>
                  </a:lnTo>
                  <a:lnTo>
                    <a:pt x="13" y="43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1730160" y="2682720"/>
              <a:ext cx="93600" cy="12024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114" y="151"/>
                  </a:moveTo>
                  <a:lnTo>
                    <a:pt x="116" y="136"/>
                  </a:lnTo>
                  <a:lnTo>
                    <a:pt x="116" y="120"/>
                  </a:lnTo>
                  <a:lnTo>
                    <a:pt x="114" y="103"/>
                  </a:lnTo>
                  <a:lnTo>
                    <a:pt x="112" y="87"/>
                  </a:lnTo>
                  <a:lnTo>
                    <a:pt x="107" y="70"/>
                  </a:lnTo>
                  <a:lnTo>
                    <a:pt x="103" y="54"/>
                  </a:lnTo>
                  <a:lnTo>
                    <a:pt x="97" y="39"/>
                  </a:lnTo>
                  <a:lnTo>
                    <a:pt x="93" y="25"/>
                  </a:lnTo>
                  <a:lnTo>
                    <a:pt x="83" y="19"/>
                  </a:lnTo>
                  <a:lnTo>
                    <a:pt x="74" y="15"/>
                  </a:lnTo>
                  <a:lnTo>
                    <a:pt x="64" y="15"/>
                  </a:lnTo>
                  <a:lnTo>
                    <a:pt x="56" y="21"/>
                  </a:lnTo>
                  <a:lnTo>
                    <a:pt x="47" y="29"/>
                  </a:lnTo>
                  <a:lnTo>
                    <a:pt x="43" y="39"/>
                  </a:lnTo>
                  <a:lnTo>
                    <a:pt x="58" y="45"/>
                  </a:lnTo>
                  <a:lnTo>
                    <a:pt x="76" y="58"/>
                  </a:lnTo>
                  <a:lnTo>
                    <a:pt x="87" y="74"/>
                  </a:lnTo>
                  <a:lnTo>
                    <a:pt x="93" y="93"/>
                  </a:lnTo>
                  <a:lnTo>
                    <a:pt x="89" y="124"/>
                  </a:lnTo>
                  <a:lnTo>
                    <a:pt x="83" y="114"/>
                  </a:lnTo>
                  <a:lnTo>
                    <a:pt x="80" y="105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64" y="79"/>
                  </a:lnTo>
                  <a:lnTo>
                    <a:pt x="56" y="76"/>
                  </a:lnTo>
                  <a:lnTo>
                    <a:pt x="45" y="74"/>
                  </a:lnTo>
                  <a:lnTo>
                    <a:pt x="35" y="78"/>
                  </a:lnTo>
                  <a:lnTo>
                    <a:pt x="17" y="78"/>
                  </a:lnTo>
                  <a:lnTo>
                    <a:pt x="2" y="79"/>
                  </a:lnTo>
                  <a:lnTo>
                    <a:pt x="0" y="62"/>
                  </a:lnTo>
                  <a:lnTo>
                    <a:pt x="6" y="48"/>
                  </a:lnTo>
                  <a:lnTo>
                    <a:pt x="12" y="33"/>
                  </a:lnTo>
                  <a:lnTo>
                    <a:pt x="21" y="21"/>
                  </a:lnTo>
                  <a:lnTo>
                    <a:pt x="31" y="8"/>
                  </a:lnTo>
                  <a:lnTo>
                    <a:pt x="43" y="2"/>
                  </a:lnTo>
                  <a:lnTo>
                    <a:pt x="56" y="0"/>
                  </a:lnTo>
                  <a:lnTo>
                    <a:pt x="72" y="2"/>
                  </a:lnTo>
                  <a:lnTo>
                    <a:pt x="85" y="14"/>
                  </a:lnTo>
                  <a:lnTo>
                    <a:pt x="97" y="31"/>
                  </a:lnTo>
                  <a:lnTo>
                    <a:pt x="107" y="48"/>
                  </a:lnTo>
                  <a:lnTo>
                    <a:pt x="114" y="68"/>
                  </a:lnTo>
                  <a:lnTo>
                    <a:pt x="116" y="87"/>
                  </a:lnTo>
                  <a:lnTo>
                    <a:pt x="118" y="109"/>
                  </a:lnTo>
                  <a:lnTo>
                    <a:pt x="116" y="118"/>
                  </a:lnTo>
                  <a:lnTo>
                    <a:pt x="116" y="130"/>
                  </a:lnTo>
                  <a:lnTo>
                    <a:pt x="114" y="140"/>
                  </a:lnTo>
                  <a:lnTo>
                    <a:pt x="11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1779480" y="4713120"/>
              <a:ext cx="38160" cy="4104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18" y="53"/>
                  </a:moveTo>
                  <a:lnTo>
                    <a:pt x="6" y="53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4" y="0"/>
                  </a:lnTo>
                  <a:lnTo>
                    <a:pt x="10" y="12"/>
                  </a:lnTo>
                  <a:lnTo>
                    <a:pt x="23" y="20"/>
                  </a:lnTo>
                  <a:lnTo>
                    <a:pt x="35" y="22"/>
                  </a:lnTo>
                  <a:lnTo>
                    <a:pt x="49" y="22"/>
                  </a:lnTo>
                  <a:lnTo>
                    <a:pt x="47" y="33"/>
                  </a:lnTo>
                  <a:lnTo>
                    <a:pt x="39" y="41"/>
                  </a:lnTo>
                  <a:lnTo>
                    <a:pt x="27" y="4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1704960" y="4514760"/>
              <a:ext cx="110880" cy="78840"/>
            </a:xfrm>
            <a:custGeom>
              <a:avLst/>
              <a:gdLst/>
              <a:ahLst/>
              <a:rect l="l" t="t" r="r" b="b"/>
              <a:pathLst>
                <a:path w="140" h="99">
                  <a:moveTo>
                    <a:pt x="105" y="99"/>
                  </a:moveTo>
                  <a:lnTo>
                    <a:pt x="91" y="88"/>
                  </a:lnTo>
                  <a:lnTo>
                    <a:pt x="79" y="76"/>
                  </a:lnTo>
                  <a:lnTo>
                    <a:pt x="66" y="62"/>
                  </a:lnTo>
                  <a:lnTo>
                    <a:pt x="54" y="49"/>
                  </a:lnTo>
                  <a:lnTo>
                    <a:pt x="41" y="35"/>
                  </a:lnTo>
                  <a:lnTo>
                    <a:pt x="29" y="24"/>
                  </a:lnTo>
                  <a:lnTo>
                    <a:pt x="14" y="12"/>
                  </a:lnTo>
                  <a:lnTo>
                    <a:pt x="0" y="6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58" y="10"/>
                  </a:lnTo>
                  <a:lnTo>
                    <a:pt x="78" y="24"/>
                  </a:lnTo>
                  <a:lnTo>
                    <a:pt x="93" y="39"/>
                  </a:lnTo>
                  <a:lnTo>
                    <a:pt x="111" y="57"/>
                  </a:lnTo>
                  <a:lnTo>
                    <a:pt x="124" y="74"/>
                  </a:lnTo>
                  <a:lnTo>
                    <a:pt x="140" y="91"/>
                  </a:lnTo>
                  <a:lnTo>
                    <a:pt x="105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1793880" y="4655880"/>
              <a:ext cx="20520" cy="5220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6" y="66"/>
                  </a:moveTo>
                  <a:lnTo>
                    <a:pt x="0" y="52"/>
                  </a:lnTo>
                  <a:lnTo>
                    <a:pt x="0" y="39"/>
                  </a:lnTo>
                  <a:lnTo>
                    <a:pt x="0" y="23"/>
                  </a:lnTo>
                  <a:lnTo>
                    <a:pt x="6" y="11"/>
                  </a:lnTo>
                  <a:lnTo>
                    <a:pt x="26" y="0"/>
                  </a:lnTo>
                  <a:lnTo>
                    <a:pt x="12" y="11"/>
                  </a:lnTo>
                  <a:lnTo>
                    <a:pt x="6" y="29"/>
                  </a:lnTo>
                  <a:lnTo>
                    <a:pt x="4" y="46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1712880" y="4275000"/>
              <a:ext cx="93600" cy="117000"/>
            </a:xfrm>
            <a:custGeom>
              <a:avLst/>
              <a:gdLst/>
              <a:ahLst/>
              <a:rect l="l" t="t" r="r" b="b"/>
              <a:pathLst>
                <a:path w="118" h="147">
                  <a:moveTo>
                    <a:pt x="66" y="147"/>
                  </a:moveTo>
                  <a:lnTo>
                    <a:pt x="46" y="145"/>
                  </a:lnTo>
                  <a:lnTo>
                    <a:pt x="29" y="141"/>
                  </a:lnTo>
                  <a:lnTo>
                    <a:pt x="11" y="130"/>
                  </a:lnTo>
                  <a:lnTo>
                    <a:pt x="2" y="116"/>
                  </a:lnTo>
                  <a:lnTo>
                    <a:pt x="0" y="103"/>
                  </a:lnTo>
                  <a:lnTo>
                    <a:pt x="2" y="93"/>
                  </a:lnTo>
                  <a:lnTo>
                    <a:pt x="5" y="81"/>
                  </a:lnTo>
                  <a:lnTo>
                    <a:pt x="17" y="77"/>
                  </a:lnTo>
                  <a:lnTo>
                    <a:pt x="27" y="70"/>
                  </a:lnTo>
                  <a:lnTo>
                    <a:pt x="38" y="62"/>
                  </a:lnTo>
                  <a:lnTo>
                    <a:pt x="48" y="52"/>
                  </a:lnTo>
                  <a:lnTo>
                    <a:pt x="58" y="43"/>
                  </a:lnTo>
                  <a:lnTo>
                    <a:pt x="66" y="31"/>
                  </a:lnTo>
                  <a:lnTo>
                    <a:pt x="75" y="19"/>
                  </a:lnTo>
                  <a:lnTo>
                    <a:pt x="83" y="8"/>
                  </a:lnTo>
                  <a:lnTo>
                    <a:pt x="95" y="0"/>
                  </a:lnTo>
                  <a:lnTo>
                    <a:pt x="108" y="4"/>
                  </a:lnTo>
                  <a:lnTo>
                    <a:pt x="118" y="19"/>
                  </a:lnTo>
                  <a:lnTo>
                    <a:pt x="116" y="37"/>
                  </a:lnTo>
                  <a:lnTo>
                    <a:pt x="114" y="54"/>
                  </a:lnTo>
                  <a:lnTo>
                    <a:pt x="110" y="72"/>
                  </a:lnTo>
                  <a:lnTo>
                    <a:pt x="108" y="91"/>
                  </a:lnTo>
                  <a:lnTo>
                    <a:pt x="101" y="107"/>
                  </a:lnTo>
                  <a:lnTo>
                    <a:pt x="93" y="122"/>
                  </a:lnTo>
                  <a:lnTo>
                    <a:pt x="79" y="136"/>
                  </a:lnTo>
                  <a:lnTo>
                    <a:pt x="6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1716120" y="2806560"/>
              <a:ext cx="82440" cy="8676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38" y="109"/>
                  </a:moveTo>
                  <a:lnTo>
                    <a:pt x="25" y="111"/>
                  </a:lnTo>
                  <a:lnTo>
                    <a:pt x="17" y="107"/>
                  </a:lnTo>
                  <a:lnTo>
                    <a:pt x="11" y="97"/>
                  </a:lnTo>
                  <a:lnTo>
                    <a:pt x="5" y="89"/>
                  </a:lnTo>
                  <a:lnTo>
                    <a:pt x="3" y="76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3" y="41"/>
                  </a:lnTo>
                  <a:lnTo>
                    <a:pt x="15" y="37"/>
                  </a:lnTo>
                  <a:lnTo>
                    <a:pt x="31" y="35"/>
                  </a:lnTo>
                  <a:lnTo>
                    <a:pt x="44" y="33"/>
                  </a:lnTo>
                  <a:lnTo>
                    <a:pt x="60" y="31"/>
                  </a:lnTo>
                  <a:lnTo>
                    <a:pt x="71" y="25"/>
                  </a:lnTo>
                  <a:lnTo>
                    <a:pt x="85" y="19"/>
                  </a:lnTo>
                  <a:lnTo>
                    <a:pt x="95" y="10"/>
                  </a:lnTo>
                  <a:lnTo>
                    <a:pt x="104" y="0"/>
                  </a:lnTo>
                  <a:lnTo>
                    <a:pt x="98" y="16"/>
                  </a:lnTo>
                  <a:lnTo>
                    <a:pt x="95" y="31"/>
                  </a:lnTo>
                  <a:lnTo>
                    <a:pt x="89" y="47"/>
                  </a:lnTo>
                  <a:lnTo>
                    <a:pt x="83" y="62"/>
                  </a:lnTo>
                  <a:lnTo>
                    <a:pt x="71" y="74"/>
                  </a:lnTo>
                  <a:lnTo>
                    <a:pt x="62" y="87"/>
                  </a:lnTo>
                  <a:lnTo>
                    <a:pt x="50" y="97"/>
                  </a:lnTo>
                  <a:lnTo>
                    <a:pt x="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1726920" y="4290840"/>
              <a:ext cx="66960" cy="88560"/>
            </a:xfrm>
            <a:custGeom>
              <a:avLst/>
              <a:gdLst/>
              <a:ahLst/>
              <a:rect l="l" t="t" r="r" b="b"/>
              <a:pathLst>
                <a:path w="85" h="113">
                  <a:moveTo>
                    <a:pt x="52" y="113"/>
                  </a:moveTo>
                  <a:lnTo>
                    <a:pt x="37" y="113"/>
                  </a:lnTo>
                  <a:lnTo>
                    <a:pt x="21" y="111"/>
                  </a:lnTo>
                  <a:lnTo>
                    <a:pt x="8" y="103"/>
                  </a:lnTo>
                  <a:lnTo>
                    <a:pt x="0" y="89"/>
                  </a:lnTo>
                  <a:lnTo>
                    <a:pt x="2" y="80"/>
                  </a:lnTo>
                  <a:lnTo>
                    <a:pt x="10" y="74"/>
                  </a:lnTo>
                  <a:lnTo>
                    <a:pt x="18" y="68"/>
                  </a:lnTo>
                  <a:lnTo>
                    <a:pt x="27" y="62"/>
                  </a:lnTo>
                  <a:lnTo>
                    <a:pt x="78" y="0"/>
                  </a:lnTo>
                  <a:lnTo>
                    <a:pt x="85" y="2"/>
                  </a:lnTo>
                  <a:lnTo>
                    <a:pt x="85" y="16"/>
                  </a:lnTo>
                  <a:lnTo>
                    <a:pt x="85" y="31"/>
                  </a:lnTo>
                  <a:lnTo>
                    <a:pt x="82" y="47"/>
                  </a:lnTo>
                  <a:lnTo>
                    <a:pt x="80" y="62"/>
                  </a:lnTo>
                  <a:lnTo>
                    <a:pt x="74" y="76"/>
                  </a:lnTo>
                  <a:lnTo>
                    <a:pt x="68" y="89"/>
                  </a:lnTo>
                  <a:lnTo>
                    <a:pt x="60" y="101"/>
                  </a:lnTo>
                  <a:lnTo>
                    <a:pt x="52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1780920" y="2881080"/>
              <a:ext cx="9720" cy="108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12" y="0"/>
                  </a:lnTo>
                  <a:lnTo>
                    <a:pt x="6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1498320" y="3714480"/>
              <a:ext cx="282600" cy="205920"/>
            </a:xfrm>
            <a:custGeom>
              <a:avLst/>
              <a:gdLst/>
              <a:ahLst/>
              <a:rect l="l" t="t" r="r" b="b"/>
              <a:pathLst>
                <a:path w="357" h="260">
                  <a:moveTo>
                    <a:pt x="347" y="260"/>
                  </a:moveTo>
                  <a:lnTo>
                    <a:pt x="334" y="252"/>
                  </a:lnTo>
                  <a:lnTo>
                    <a:pt x="322" y="244"/>
                  </a:lnTo>
                  <a:lnTo>
                    <a:pt x="310" y="235"/>
                  </a:lnTo>
                  <a:lnTo>
                    <a:pt x="299" y="229"/>
                  </a:lnTo>
                  <a:lnTo>
                    <a:pt x="281" y="221"/>
                  </a:lnTo>
                  <a:lnTo>
                    <a:pt x="266" y="215"/>
                  </a:lnTo>
                  <a:lnTo>
                    <a:pt x="248" y="210"/>
                  </a:lnTo>
                  <a:lnTo>
                    <a:pt x="233" y="204"/>
                  </a:lnTo>
                  <a:lnTo>
                    <a:pt x="215" y="198"/>
                  </a:lnTo>
                  <a:lnTo>
                    <a:pt x="198" y="196"/>
                  </a:lnTo>
                  <a:lnTo>
                    <a:pt x="180" y="192"/>
                  </a:lnTo>
                  <a:lnTo>
                    <a:pt x="163" y="192"/>
                  </a:lnTo>
                  <a:lnTo>
                    <a:pt x="153" y="178"/>
                  </a:lnTo>
                  <a:lnTo>
                    <a:pt x="146" y="167"/>
                  </a:lnTo>
                  <a:lnTo>
                    <a:pt x="138" y="155"/>
                  </a:lnTo>
                  <a:lnTo>
                    <a:pt x="130" y="144"/>
                  </a:lnTo>
                  <a:lnTo>
                    <a:pt x="120" y="130"/>
                  </a:lnTo>
                  <a:lnTo>
                    <a:pt x="113" y="118"/>
                  </a:lnTo>
                  <a:lnTo>
                    <a:pt x="103" y="107"/>
                  </a:lnTo>
                  <a:lnTo>
                    <a:pt x="95" y="95"/>
                  </a:lnTo>
                  <a:lnTo>
                    <a:pt x="83" y="83"/>
                  </a:lnTo>
                  <a:lnTo>
                    <a:pt x="72" y="72"/>
                  </a:lnTo>
                  <a:lnTo>
                    <a:pt x="60" y="62"/>
                  </a:lnTo>
                  <a:lnTo>
                    <a:pt x="51" y="54"/>
                  </a:lnTo>
                  <a:lnTo>
                    <a:pt x="37" y="43"/>
                  </a:lnTo>
                  <a:lnTo>
                    <a:pt x="25" y="37"/>
                  </a:lnTo>
                  <a:lnTo>
                    <a:pt x="12" y="29"/>
                  </a:lnTo>
                  <a:lnTo>
                    <a:pt x="0" y="25"/>
                  </a:lnTo>
                  <a:lnTo>
                    <a:pt x="16" y="19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72" y="8"/>
                  </a:lnTo>
                  <a:lnTo>
                    <a:pt x="89" y="4"/>
                  </a:lnTo>
                  <a:lnTo>
                    <a:pt x="109" y="2"/>
                  </a:lnTo>
                  <a:lnTo>
                    <a:pt x="128" y="2"/>
                  </a:lnTo>
                  <a:lnTo>
                    <a:pt x="149" y="2"/>
                  </a:lnTo>
                  <a:lnTo>
                    <a:pt x="167" y="0"/>
                  </a:lnTo>
                  <a:lnTo>
                    <a:pt x="188" y="0"/>
                  </a:lnTo>
                  <a:lnTo>
                    <a:pt x="206" y="2"/>
                  </a:lnTo>
                  <a:lnTo>
                    <a:pt x="227" y="4"/>
                  </a:lnTo>
                  <a:lnTo>
                    <a:pt x="244" y="6"/>
                  </a:lnTo>
                  <a:lnTo>
                    <a:pt x="262" y="10"/>
                  </a:lnTo>
                  <a:lnTo>
                    <a:pt x="279" y="16"/>
                  </a:lnTo>
                  <a:lnTo>
                    <a:pt x="299" y="21"/>
                  </a:lnTo>
                  <a:lnTo>
                    <a:pt x="310" y="29"/>
                  </a:lnTo>
                  <a:lnTo>
                    <a:pt x="322" y="41"/>
                  </a:lnTo>
                  <a:lnTo>
                    <a:pt x="332" y="52"/>
                  </a:lnTo>
                  <a:lnTo>
                    <a:pt x="341" y="66"/>
                  </a:lnTo>
                  <a:lnTo>
                    <a:pt x="345" y="78"/>
                  </a:lnTo>
                  <a:lnTo>
                    <a:pt x="351" y="93"/>
                  </a:lnTo>
                  <a:lnTo>
                    <a:pt x="353" y="111"/>
                  </a:lnTo>
                  <a:lnTo>
                    <a:pt x="357" y="128"/>
                  </a:lnTo>
                  <a:lnTo>
                    <a:pt x="357" y="144"/>
                  </a:lnTo>
                  <a:lnTo>
                    <a:pt x="357" y="161"/>
                  </a:lnTo>
                  <a:lnTo>
                    <a:pt x="355" y="178"/>
                  </a:lnTo>
                  <a:lnTo>
                    <a:pt x="355" y="196"/>
                  </a:lnTo>
                  <a:lnTo>
                    <a:pt x="351" y="211"/>
                  </a:lnTo>
                  <a:lnTo>
                    <a:pt x="349" y="227"/>
                  </a:lnTo>
                  <a:lnTo>
                    <a:pt x="347" y="242"/>
                  </a:lnTo>
                  <a:lnTo>
                    <a:pt x="347" y="26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1753920" y="2896920"/>
              <a:ext cx="27000" cy="187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0" y="24"/>
                  </a:moveTo>
                  <a:lnTo>
                    <a:pt x="33" y="0"/>
                  </a:lnTo>
                  <a:lnTo>
                    <a:pt x="1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1655640" y="4530600"/>
              <a:ext cx="125280" cy="221760"/>
            </a:xfrm>
            <a:custGeom>
              <a:avLst/>
              <a:gdLst/>
              <a:ahLst/>
              <a:rect l="l" t="t" r="r" b="b"/>
              <a:pathLst>
                <a:path w="157" h="281">
                  <a:moveTo>
                    <a:pt x="122" y="281"/>
                  </a:moveTo>
                  <a:lnTo>
                    <a:pt x="107" y="269"/>
                  </a:lnTo>
                  <a:lnTo>
                    <a:pt x="91" y="258"/>
                  </a:lnTo>
                  <a:lnTo>
                    <a:pt x="76" y="244"/>
                  </a:lnTo>
                  <a:lnTo>
                    <a:pt x="60" y="232"/>
                  </a:lnTo>
                  <a:lnTo>
                    <a:pt x="43" y="217"/>
                  </a:lnTo>
                  <a:lnTo>
                    <a:pt x="27" y="203"/>
                  </a:lnTo>
                  <a:lnTo>
                    <a:pt x="12" y="188"/>
                  </a:lnTo>
                  <a:lnTo>
                    <a:pt x="0" y="172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2" y="103"/>
                  </a:lnTo>
                  <a:lnTo>
                    <a:pt x="4" y="91"/>
                  </a:lnTo>
                  <a:lnTo>
                    <a:pt x="6" y="81"/>
                  </a:lnTo>
                  <a:lnTo>
                    <a:pt x="6" y="70"/>
                  </a:lnTo>
                  <a:lnTo>
                    <a:pt x="10" y="58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3" y="17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72" y="21"/>
                  </a:lnTo>
                  <a:lnTo>
                    <a:pt x="85" y="33"/>
                  </a:lnTo>
                  <a:lnTo>
                    <a:pt x="101" y="48"/>
                  </a:lnTo>
                  <a:lnTo>
                    <a:pt x="114" y="60"/>
                  </a:lnTo>
                  <a:lnTo>
                    <a:pt x="128" y="75"/>
                  </a:lnTo>
                  <a:lnTo>
                    <a:pt x="141" y="89"/>
                  </a:lnTo>
                  <a:lnTo>
                    <a:pt x="157" y="104"/>
                  </a:lnTo>
                  <a:lnTo>
                    <a:pt x="153" y="114"/>
                  </a:lnTo>
                  <a:lnTo>
                    <a:pt x="151" y="126"/>
                  </a:lnTo>
                  <a:lnTo>
                    <a:pt x="147" y="135"/>
                  </a:lnTo>
                  <a:lnTo>
                    <a:pt x="145" y="147"/>
                  </a:lnTo>
                  <a:lnTo>
                    <a:pt x="141" y="157"/>
                  </a:lnTo>
                  <a:lnTo>
                    <a:pt x="140" y="168"/>
                  </a:lnTo>
                  <a:lnTo>
                    <a:pt x="138" y="180"/>
                  </a:lnTo>
                  <a:lnTo>
                    <a:pt x="136" y="192"/>
                  </a:lnTo>
                  <a:lnTo>
                    <a:pt x="132" y="201"/>
                  </a:lnTo>
                  <a:lnTo>
                    <a:pt x="130" y="213"/>
                  </a:lnTo>
                  <a:lnTo>
                    <a:pt x="128" y="223"/>
                  </a:lnTo>
                  <a:lnTo>
                    <a:pt x="126" y="234"/>
                  </a:lnTo>
                  <a:lnTo>
                    <a:pt x="124" y="246"/>
                  </a:lnTo>
                  <a:lnTo>
                    <a:pt x="122" y="258"/>
                  </a:lnTo>
                  <a:lnTo>
                    <a:pt x="122" y="269"/>
                  </a:lnTo>
                  <a:lnTo>
                    <a:pt x="122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1755720" y="2977920"/>
              <a:ext cx="12600" cy="95040"/>
            </a:xfrm>
            <a:custGeom>
              <a:avLst/>
              <a:gdLst/>
              <a:ahLst/>
              <a:rect l="l" t="t" r="r" b="b"/>
              <a:pathLst>
                <a:path w="15" h="121">
                  <a:moveTo>
                    <a:pt x="4" y="121"/>
                  </a:moveTo>
                  <a:lnTo>
                    <a:pt x="0" y="103"/>
                  </a:lnTo>
                  <a:lnTo>
                    <a:pt x="2" y="90"/>
                  </a:lnTo>
                  <a:lnTo>
                    <a:pt x="2" y="74"/>
                  </a:lnTo>
                  <a:lnTo>
                    <a:pt x="6" y="60"/>
                  </a:lnTo>
                  <a:lnTo>
                    <a:pt x="6" y="43"/>
                  </a:lnTo>
                  <a:lnTo>
                    <a:pt x="10" y="29"/>
                  </a:lnTo>
                  <a:lnTo>
                    <a:pt x="12" y="14"/>
                  </a:lnTo>
                  <a:lnTo>
                    <a:pt x="15" y="0"/>
                  </a:lnTo>
                  <a:lnTo>
                    <a:pt x="15" y="12"/>
                  </a:lnTo>
                  <a:lnTo>
                    <a:pt x="15" y="27"/>
                  </a:lnTo>
                  <a:lnTo>
                    <a:pt x="15" y="41"/>
                  </a:lnTo>
                  <a:lnTo>
                    <a:pt x="15" y="58"/>
                  </a:lnTo>
                  <a:lnTo>
                    <a:pt x="15" y="74"/>
                  </a:lnTo>
                  <a:lnTo>
                    <a:pt x="15" y="90"/>
                  </a:lnTo>
                  <a:lnTo>
                    <a:pt x="15" y="105"/>
                  </a:lnTo>
                  <a:lnTo>
                    <a:pt x="15" y="121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1228680" y="3873240"/>
              <a:ext cx="536400" cy="826920"/>
            </a:xfrm>
            <a:custGeom>
              <a:avLst/>
              <a:gdLst/>
              <a:ahLst/>
              <a:rect l="l" t="t" r="r" b="b"/>
              <a:pathLst>
                <a:path w="675" h="1043">
                  <a:moveTo>
                    <a:pt x="481" y="485"/>
                  </a:moveTo>
                  <a:lnTo>
                    <a:pt x="465" y="490"/>
                  </a:lnTo>
                  <a:lnTo>
                    <a:pt x="450" y="502"/>
                  </a:lnTo>
                  <a:lnTo>
                    <a:pt x="434" y="512"/>
                  </a:lnTo>
                  <a:lnTo>
                    <a:pt x="422" y="525"/>
                  </a:lnTo>
                  <a:lnTo>
                    <a:pt x="411" y="537"/>
                  </a:lnTo>
                  <a:lnTo>
                    <a:pt x="403" y="552"/>
                  </a:lnTo>
                  <a:lnTo>
                    <a:pt x="395" y="570"/>
                  </a:lnTo>
                  <a:lnTo>
                    <a:pt x="395" y="587"/>
                  </a:lnTo>
                  <a:lnTo>
                    <a:pt x="395" y="601"/>
                  </a:lnTo>
                  <a:lnTo>
                    <a:pt x="401" y="614"/>
                  </a:lnTo>
                  <a:lnTo>
                    <a:pt x="407" y="628"/>
                  </a:lnTo>
                  <a:lnTo>
                    <a:pt x="415" y="642"/>
                  </a:lnTo>
                  <a:lnTo>
                    <a:pt x="432" y="651"/>
                  </a:lnTo>
                  <a:lnTo>
                    <a:pt x="454" y="657"/>
                  </a:lnTo>
                  <a:lnTo>
                    <a:pt x="465" y="657"/>
                  </a:lnTo>
                  <a:lnTo>
                    <a:pt x="477" y="657"/>
                  </a:lnTo>
                  <a:lnTo>
                    <a:pt x="488" y="655"/>
                  </a:lnTo>
                  <a:lnTo>
                    <a:pt x="500" y="651"/>
                  </a:lnTo>
                  <a:lnTo>
                    <a:pt x="506" y="645"/>
                  </a:lnTo>
                  <a:lnTo>
                    <a:pt x="510" y="659"/>
                  </a:lnTo>
                  <a:lnTo>
                    <a:pt x="512" y="675"/>
                  </a:lnTo>
                  <a:lnTo>
                    <a:pt x="512" y="690"/>
                  </a:lnTo>
                  <a:lnTo>
                    <a:pt x="512" y="706"/>
                  </a:lnTo>
                  <a:lnTo>
                    <a:pt x="510" y="719"/>
                  </a:lnTo>
                  <a:lnTo>
                    <a:pt x="508" y="737"/>
                  </a:lnTo>
                  <a:lnTo>
                    <a:pt x="504" y="750"/>
                  </a:lnTo>
                  <a:lnTo>
                    <a:pt x="502" y="768"/>
                  </a:lnTo>
                  <a:lnTo>
                    <a:pt x="496" y="781"/>
                  </a:lnTo>
                  <a:lnTo>
                    <a:pt x="492" y="797"/>
                  </a:lnTo>
                  <a:lnTo>
                    <a:pt x="488" y="812"/>
                  </a:lnTo>
                  <a:lnTo>
                    <a:pt x="488" y="828"/>
                  </a:lnTo>
                  <a:lnTo>
                    <a:pt x="485" y="843"/>
                  </a:lnTo>
                  <a:lnTo>
                    <a:pt x="486" y="859"/>
                  </a:lnTo>
                  <a:lnTo>
                    <a:pt x="486" y="876"/>
                  </a:lnTo>
                  <a:lnTo>
                    <a:pt x="492" y="894"/>
                  </a:lnTo>
                  <a:lnTo>
                    <a:pt x="516" y="931"/>
                  </a:lnTo>
                  <a:lnTo>
                    <a:pt x="516" y="946"/>
                  </a:lnTo>
                  <a:lnTo>
                    <a:pt x="512" y="962"/>
                  </a:lnTo>
                  <a:lnTo>
                    <a:pt x="504" y="973"/>
                  </a:lnTo>
                  <a:lnTo>
                    <a:pt x="496" y="987"/>
                  </a:lnTo>
                  <a:lnTo>
                    <a:pt x="483" y="995"/>
                  </a:lnTo>
                  <a:lnTo>
                    <a:pt x="471" y="1004"/>
                  </a:lnTo>
                  <a:lnTo>
                    <a:pt x="457" y="1012"/>
                  </a:lnTo>
                  <a:lnTo>
                    <a:pt x="446" y="1022"/>
                  </a:lnTo>
                  <a:lnTo>
                    <a:pt x="434" y="1024"/>
                  </a:lnTo>
                  <a:lnTo>
                    <a:pt x="422" y="1027"/>
                  </a:lnTo>
                  <a:lnTo>
                    <a:pt x="411" y="1031"/>
                  </a:lnTo>
                  <a:lnTo>
                    <a:pt x="399" y="1035"/>
                  </a:lnTo>
                  <a:lnTo>
                    <a:pt x="388" y="1035"/>
                  </a:lnTo>
                  <a:lnTo>
                    <a:pt x="376" y="1039"/>
                  </a:lnTo>
                  <a:lnTo>
                    <a:pt x="364" y="1039"/>
                  </a:lnTo>
                  <a:lnTo>
                    <a:pt x="353" y="1043"/>
                  </a:lnTo>
                  <a:lnTo>
                    <a:pt x="341" y="1043"/>
                  </a:lnTo>
                  <a:lnTo>
                    <a:pt x="329" y="1043"/>
                  </a:lnTo>
                  <a:lnTo>
                    <a:pt x="318" y="1043"/>
                  </a:lnTo>
                  <a:lnTo>
                    <a:pt x="306" y="1043"/>
                  </a:lnTo>
                  <a:lnTo>
                    <a:pt x="294" y="1041"/>
                  </a:lnTo>
                  <a:lnTo>
                    <a:pt x="283" y="1041"/>
                  </a:lnTo>
                  <a:lnTo>
                    <a:pt x="271" y="1039"/>
                  </a:lnTo>
                  <a:lnTo>
                    <a:pt x="262" y="1039"/>
                  </a:lnTo>
                  <a:lnTo>
                    <a:pt x="250" y="1035"/>
                  </a:lnTo>
                  <a:lnTo>
                    <a:pt x="238" y="1031"/>
                  </a:lnTo>
                  <a:lnTo>
                    <a:pt x="227" y="1027"/>
                  </a:lnTo>
                  <a:lnTo>
                    <a:pt x="215" y="1026"/>
                  </a:lnTo>
                  <a:lnTo>
                    <a:pt x="194" y="1018"/>
                  </a:lnTo>
                  <a:lnTo>
                    <a:pt x="174" y="1008"/>
                  </a:lnTo>
                  <a:lnTo>
                    <a:pt x="163" y="1002"/>
                  </a:lnTo>
                  <a:lnTo>
                    <a:pt x="151" y="996"/>
                  </a:lnTo>
                  <a:lnTo>
                    <a:pt x="141" y="991"/>
                  </a:lnTo>
                  <a:lnTo>
                    <a:pt x="134" y="985"/>
                  </a:lnTo>
                  <a:lnTo>
                    <a:pt x="114" y="969"/>
                  </a:lnTo>
                  <a:lnTo>
                    <a:pt x="99" y="956"/>
                  </a:lnTo>
                  <a:lnTo>
                    <a:pt x="83" y="938"/>
                  </a:lnTo>
                  <a:lnTo>
                    <a:pt x="71" y="921"/>
                  </a:lnTo>
                  <a:lnTo>
                    <a:pt x="60" y="903"/>
                  </a:lnTo>
                  <a:lnTo>
                    <a:pt x="50" y="888"/>
                  </a:lnTo>
                  <a:lnTo>
                    <a:pt x="40" y="868"/>
                  </a:lnTo>
                  <a:lnTo>
                    <a:pt x="33" y="851"/>
                  </a:lnTo>
                  <a:lnTo>
                    <a:pt x="27" y="832"/>
                  </a:lnTo>
                  <a:lnTo>
                    <a:pt x="21" y="814"/>
                  </a:lnTo>
                  <a:lnTo>
                    <a:pt x="15" y="793"/>
                  </a:lnTo>
                  <a:lnTo>
                    <a:pt x="9" y="773"/>
                  </a:lnTo>
                  <a:lnTo>
                    <a:pt x="6" y="752"/>
                  </a:lnTo>
                  <a:lnTo>
                    <a:pt x="4" y="733"/>
                  </a:lnTo>
                  <a:lnTo>
                    <a:pt x="2" y="711"/>
                  </a:lnTo>
                  <a:lnTo>
                    <a:pt x="0" y="692"/>
                  </a:lnTo>
                  <a:lnTo>
                    <a:pt x="0" y="673"/>
                  </a:lnTo>
                  <a:lnTo>
                    <a:pt x="2" y="653"/>
                  </a:lnTo>
                  <a:lnTo>
                    <a:pt x="2" y="642"/>
                  </a:lnTo>
                  <a:lnTo>
                    <a:pt x="2" y="630"/>
                  </a:lnTo>
                  <a:lnTo>
                    <a:pt x="2" y="620"/>
                  </a:lnTo>
                  <a:lnTo>
                    <a:pt x="2" y="611"/>
                  </a:lnTo>
                  <a:lnTo>
                    <a:pt x="2" y="599"/>
                  </a:lnTo>
                  <a:lnTo>
                    <a:pt x="4" y="587"/>
                  </a:lnTo>
                  <a:lnTo>
                    <a:pt x="6" y="578"/>
                  </a:lnTo>
                  <a:lnTo>
                    <a:pt x="7" y="568"/>
                  </a:lnTo>
                  <a:lnTo>
                    <a:pt x="9" y="547"/>
                  </a:lnTo>
                  <a:lnTo>
                    <a:pt x="13" y="527"/>
                  </a:lnTo>
                  <a:lnTo>
                    <a:pt x="19" y="506"/>
                  </a:lnTo>
                  <a:lnTo>
                    <a:pt x="25" y="488"/>
                  </a:lnTo>
                  <a:lnTo>
                    <a:pt x="29" y="467"/>
                  </a:lnTo>
                  <a:lnTo>
                    <a:pt x="35" y="448"/>
                  </a:lnTo>
                  <a:lnTo>
                    <a:pt x="40" y="428"/>
                  </a:lnTo>
                  <a:lnTo>
                    <a:pt x="46" y="411"/>
                  </a:lnTo>
                  <a:lnTo>
                    <a:pt x="52" y="391"/>
                  </a:lnTo>
                  <a:lnTo>
                    <a:pt x="60" y="374"/>
                  </a:lnTo>
                  <a:lnTo>
                    <a:pt x="68" y="357"/>
                  </a:lnTo>
                  <a:lnTo>
                    <a:pt x="75" y="341"/>
                  </a:lnTo>
                  <a:lnTo>
                    <a:pt x="81" y="324"/>
                  </a:lnTo>
                  <a:lnTo>
                    <a:pt x="87" y="310"/>
                  </a:lnTo>
                  <a:lnTo>
                    <a:pt x="95" y="295"/>
                  </a:lnTo>
                  <a:lnTo>
                    <a:pt x="104" y="281"/>
                  </a:lnTo>
                  <a:lnTo>
                    <a:pt x="112" y="265"/>
                  </a:lnTo>
                  <a:lnTo>
                    <a:pt x="122" y="252"/>
                  </a:lnTo>
                  <a:lnTo>
                    <a:pt x="132" y="236"/>
                  </a:lnTo>
                  <a:lnTo>
                    <a:pt x="143" y="225"/>
                  </a:lnTo>
                  <a:lnTo>
                    <a:pt x="151" y="209"/>
                  </a:lnTo>
                  <a:lnTo>
                    <a:pt x="161" y="196"/>
                  </a:lnTo>
                  <a:lnTo>
                    <a:pt x="172" y="182"/>
                  </a:lnTo>
                  <a:lnTo>
                    <a:pt x="184" y="170"/>
                  </a:lnTo>
                  <a:lnTo>
                    <a:pt x="196" y="157"/>
                  </a:lnTo>
                  <a:lnTo>
                    <a:pt x="207" y="145"/>
                  </a:lnTo>
                  <a:lnTo>
                    <a:pt x="221" y="134"/>
                  </a:lnTo>
                  <a:lnTo>
                    <a:pt x="234" y="122"/>
                  </a:lnTo>
                  <a:lnTo>
                    <a:pt x="246" y="110"/>
                  </a:lnTo>
                  <a:lnTo>
                    <a:pt x="258" y="99"/>
                  </a:lnTo>
                  <a:lnTo>
                    <a:pt x="271" y="87"/>
                  </a:lnTo>
                  <a:lnTo>
                    <a:pt x="285" y="77"/>
                  </a:lnTo>
                  <a:lnTo>
                    <a:pt x="298" y="66"/>
                  </a:lnTo>
                  <a:lnTo>
                    <a:pt x="314" y="58"/>
                  </a:lnTo>
                  <a:lnTo>
                    <a:pt x="327" y="48"/>
                  </a:lnTo>
                  <a:lnTo>
                    <a:pt x="343" y="42"/>
                  </a:lnTo>
                  <a:lnTo>
                    <a:pt x="357" y="33"/>
                  </a:lnTo>
                  <a:lnTo>
                    <a:pt x="372" y="27"/>
                  </a:lnTo>
                  <a:lnTo>
                    <a:pt x="388" y="21"/>
                  </a:lnTo>
                  <a:lnTo>
                    <a:pt x="405" y="15"/>
                  </a:lnTo>
                  <a:lnTo>
                    <a:pt x="421" y="10"/>
                  </a:lnTo>
                  <a:lnTo>
                    <a:pt x="436" y="6"/>
                  </a:lnTo>
                  <a:lnTo>
                    <a:pt x="454" y="2"/>
                  </a:lnTo>
                  <a:lnTo>
                    <a:pt x="471" y="0"/>
                  </a:lnTo>
                  <a:lnTo>
                    <a:pt x="479" y="15"/>
                  </a:lnTo>
                  <a:lnTo>
                    <a:pt x="490" y="25"/>
                  </a:lnTo>
                  <a:lnTo>
                    <a:pt x="506" y="31"/>
                  </a:lnTo>
                  <a:lnTo>
                    <a:pt x="523" y="35"/>
                  </a:lnTo>
                  <a:lnTo>
                    <a:pt x="541" y="33"/>
                  </a:lnTo>
                  <a:lnTo>
                    <a:pt x="558" y="33"/>
                  </a:lnTo>
                  <a:lnTo>
                    <a:pt x="576" y="33"/>
                  </a:lnTo>
                  <a:lnTo>
                    <a:pt x="593" y="41"/>
                  </a:lnTo>
                  <a:lnTo>
                    <a:pt x="603" y="44"/>
                  </a:lnTo>
                  <a:lnTo>
                    <a:pt x="614" y="48"/>
                  </a:lnTo>
                  <a:lnTo>
                    <a:pt x="624" y="54"/>
                  </a:lnTo>
                  <a:lnTo>
                    <a:pt x="636" y="62"/>
                  </a:lnTo>
                  <a:lnTo>
                    <a:pt x="655" y="75"/>
                  </a:lnTo>
                  <a:lnTo>
                    <a:pt x="675" y="95"/>
                  </a:lnTo>
                  <a:lnTo>
                    <a:pt x="671" y="106"/>
                  </a:lnTo>
                  <a:lnTo>
                    <a:pt x="667" y="120"/>
                  </a:lnTo>
                  <a:lnTo>
                    <a:pt x="663" y="134"/>
                  </a:lnTo>
                  <a:lnTo>
                    <a:pt x="661" y="147"/>
                  </a:lnTo>
                  <a:lnTo>
                    <a:pt x="655" y="159"/>
                  </a:lnTo>
                  <a:lnTo>
                    <a:pt x="651" y="172"/>
                  </a:lnTo>
                  <a:lnTo>
                    <a:pt x="647" y="186"/>
                  </a:lnTo>
                  <a:lnTo>
                    <a:pt x="644" y="200"/>
                  </a:lnTo>
                  <a:lnTo>
                    <a:pt x="638" y="211"/>
                  </a:lnTo>
                  <a:lnTo>
                    <a:pt x="632" y="223"/>
                  </a:lnTo>
                  <a:lnTo>
                    <a:pt x="626" y="234"/>
                  </a:lnTo>
                  <a:lnTo>
                    <a:pt x="620" y="248"/>
                  </a:lnTo>
                  <a:lnTo>
                    <a:pt x="613" y="260"/>
                  </a:lnTo>
                  <a:lnTo>
                    <a:pt x="607" y="271"/>
                  </a:lnTo>
                  <a:lnTo>
                    <a:pt x="601" y="283"/>
                  </a:lnTo>
                  <a:lnTo>
                    <a:pt x="595" y="296"/>
                  </a:lnTo>
                  <a:lnTo>
                    <a:pt x="587" y="308"/>
                  </a:lnTo>
                  <a:lnTo>
                    <a:pt x="580" y="320"/>
                  </a:lnTo>
                  <a:lnTo>
                    <a:pt x="572" y="331"/>
                  </a:lnTo>
                  <a:lnTo>
                    <a:pt x="566" y="343"/>
                  </a:lnTo>
                  <a:lnTo>
                    <a:pt x="558" y="355"/>
                  </a:lnTo>
                  <a:lnTo>
                    <a:pt x="550" y="366"/>
                  </a:lnTo>
                  <a:lnTo>
                    <a:pt x="543" y="378"/>
                  </a:lnTo>
                  <a:lnTo>
                    <a:pt x="537" y="390"/>
                  </a:lnTo>
                  <a:lnTo>
                    <a:pt x="529" y="401"/>
                  </a:lnTo>
                  <a:lnTo>
                    <a:pt x="521" y="413"/>
                  </a:lnTo>
                  <a:lnTo>
                    <a:pt x="514" y="424"/>
                  </a:lnTo>
                  <a:lnTo>
                    <a:pt x="508" y="436"/>
                  </a:lnTo>
                  <a:lnTo>
                    <a:pt x="500" y="448"/>
                  </a:lnTo>
                  <a:lnTo>
                    <a:pt x="492" y="459"/>
                  </a:lnTo>
                  <a:lnTo>
                    <a:pt x="486" y="471"/>
                  </a:lnTo>
                  <a:lnTo>
                    <a:pt x="481" y="4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1695240" y="3170160"/>
              <a:ext cx="58680" cy="293040"/>
            </a:xfrm>
            <a:custGeom>
              <a:avLst/>
              <a:gdLst/>
              <a:ahLst/>
              <a:rect l="l" t="t" r="r" b="b"/>
              <a:pathLst>
                <a:path w="74" h="370">
                  <a:moveTo>
                    <a:pt x="8" y="368"/>
                  </a:moveTo>
                  <a:lnTo>
                    <a:pt x="4" y="366"/>
                  </a:lnTo>
                  <a:lnTo>
                    <a:pt x="4" y="370"/>
                  </a:lnTo>
                  <a:lnTo>
                    <a:pt x="2" y="356"/>
                  </a:lnTo>
                  <a:lnTo>
                    <a:pt x="0" y="345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0" y="310"/>
                  </a:lnTo>
                  <a:lnTo>
                    <a:pt x="0" y="298"/>
                  </a:lnTo>
                  <a:lnTo>
                    <a:pt x="2" y="287"/>
                  </a:lnTo>
                  <a:lnTo>
                    <a:pt x="4" y="275"/>
                  </a:lnTo>
                  <a:lnTo>
                    <a:pt x="4" y="263"/>
                  </a:lnTo>
                  <a:lnTo>
                    <a:pt x="4" y="252"/>
                  </a:lnTo>
                  <a:lnTo>
                    <a:pt x="6" y="240"/>
                  </a:lnTo>
                  <a:lnTo>
                    <a:pt x="8" y="228"/>
                  </a:lnTo>
                  <a:lnTo>
                    <a:pt x="10" y="217"/>
                  </a:lnTo>
                  <a:lnTo>
                    <a:pt x="12" y="205"/>
                  </a:lnTo>
                  <a:lnTo>
                    <a:pt x="14" y="194"/>
                  </a:lnTo>
                  <a:lnTo>
                    <a:pt x="18" y="182"/>
                  </a:lnTo>
                  <a:lnTo>
                    <a:pt x="18" y="170"/>
                  </a:lnTo>
                  <a:lnTo>
                    <a:pt x="22" y="159"/>
                  </a:lnTo>
                  <a:lnTo>
                    <a:pt x="22" y="147"/>
                  </a:lnTo>
                  <a:lnTo>
                    <a:pt x="26" y="135"/>
                  </a:lnTo>
                  <a:lnTo>
                    <a:pt x="27" y="124"/>
                  </a:lnTo>
                  <a:lnTo>
                    <a:pt x="31" y="112"/>
                  </a:lnTo>
                  <a:lnTo>
                    <a:pt x="33" y="101"/>
                  </a:lnTo>
                  <a:lnTo>
                    <a:pt x="37" y="91"/>
                  </a:lnTo>
                  <a:lnTo>
                    <a:pt x="39" y="79"/>
                  </a:lnTo>
                  <a:lnTo>
                    <a:pt x="41" y="68"/>
                  </a:lnTo>
                  <a:lnTo>
                    <a:pt x="43" y="56"/>
                  </a:lnTo>
                  <a:lnTo>
                    <a:pt x="47" y="46"/>
                  </a:lnTo>
                  <a:lnTo>
                    <a:pt x="49" y="35"/>
                  </a:lnTo>
                  <a:lnTo>
                    <a:pt x="51" y="23"/>
                  </a:lnTo>
                  <a:lnTo>
                    <a:pt x="53" y="11"/>
                  </a:lnTo>
                  <a:lnTo>
                    <a:pt x="57" y="2"/>
                  </a:lnTo>
                  <a:lnTo>
                    <a:pt x="66" y="0"/>
                  </a:lnTo>
                  <a:lnTo>
                    <a:pt x="74" y="9"/>
                  </a:lnTo>
                  <a:lnTo>
                    <a:pt x="70" y="19"/>
                  </a:lnTo>
                  <a:lnTo>
                    <a:pt x="68" y="31"/>
                  </a:lnTo>
                  <a:lnTo>
                    <a:pt x="66" y="40"/>
                  </a:lnTo>
                  <a:lnTo>
                    <a:pt x="64" y="52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57" y="85"/>
                  </a:lnTo>
                  <a:lnTo>
                    <a:pt x="57" y="97"/>
                  </a:lnTo>
                  <a:lnTo>
                    <a:pt x="53" y="106"/>
                  </a:lnTo>
                  <a:lnTo>
                    <a:pt x="53" y="118"/>
                  </a:lnTo>
                  <a:lnTo>
                    <a:pt x="49" y="130"/>
                  </a:lnTo>
                  <a:lnTo>
                    <a:pt x="49" y="141"/>
                  </a:lnTo>
                  <a:lnTo>
                    <a:pt x="47" y="153"/>
                  </a:lnTo>
                  <a:lnTo>
                    <a:pt x="45" y="165"/>
                  </a:lnTo>
                  <a:lnTo>
                    <a:pt x="43" y="176"/>
                  </a:lnTo>
                  <a:lnTo>
                    <a:pt x="43" y="188"/>
                  </a:lnTo>
                  <a:lnTo>
                    <a:pt x="39" y="197"/>
                  </a:lnTo>
                  <a:lnTo>
                    <a:pt x="37" y="209"/>
                  </a:lnTo>
                  <a:lnTo>
                    <a:pt x="35" y="221"/>
                  </a:lnTo>
                  <a:lnTo>
                    <a:pt x="33" y="232"/>
                  </a:lnTo>
                  <a:lnTo>
                    <a:pt x="29" y="242"/>
                  </a:lnTo>
                  <a:lnTo>
                    <a:pt x="29" y="254"/>
                  </a:lnTo>
                  <a:lnTo>
                    <a:pt x="26" y="265"/>
                  </a:lnTo>
                  <a:lnTo>
                    <a:pt x="26" y="277"/>
                  </a:lnTo>
                  <a:lnTo>
                    <a:pt x="22" y="287"/>
                  </a:lnTo>
                  <a:lnTo>
                    <a:pt x="20" y="298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2" y="333"/>
                  </a:lnTo>
                  <a:lnTo>
                    <a:pt x="12" y="345"/>
                  </a:lnTo>
                  <a:lnTo>
                    <a:pt x="8" y="356"/>
                  </a:lnTo>
                  <a:lnTo>
                    <a:pt x="8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1733400" y="2962080"/>
              <a:ext cx="19080" cy="101160"/>
            </a:xfrm>
            <a:custGeom>
              <a:avLst/>
              <a:gdLst/>
              <a:ahLst/>
              <a:rect l="l" t="t" r="r" b="b"/>
              <a:pathLst>
                <a:path w="23" h="128">
                  <a:moveTo>
                    <a:pt x="4" y="128"/>
                  </a:moveTo>
                  <a:lnTo>
                    <a:pt x="0" y="110"/>
                  </a:lnTo>
                  <a:lnTo>
                    <a:pt x="2" y="93"/>
                  </a:lnTo>
                  <a:lnTo>
                    <a:pt x="2" y="76"/>
                  </a:lnTo>
                  <a:lnTo>
                    <a:pt x="6" y="60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4"/>
                  </a:lnTo>
                  <a:lnTo>
                    <a:pt x="23" y="0"/>
                  </a:lnTo>
                  <a:lnTo>
                    <a:pt x="10" y="128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1717560" y="3006360"/>
              <a:ext cx="7920" cy="4428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2" y="56"/>
                  </a:moveTo>
                  <a:lnTo>
                    <a:pt x="0" y="41"/>
                  </a:lnTo>
                  <a:lnTo>
                    <a:pt x="2" y="27"/>
                  </a:lnTo>
                  <a:lnTo>
                    <a:pt x="4" y="12"/>
                  </a:lnTo>
                  <a:lnTo>
                    <a:pt x="10" y="0"/>
                  </a:lnTo>
                  <a:lnTo>
                    <a:pt x="8" y="14"/>
                  </a:lnTo>
                  <a:lnTo>
                    <a:pt x="8" y="27"/>
                  </a:lnTo>
                  <a:lnTo>
                    <a:pt x="6" y="41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1684080" y="2928600"/>
              <a:ext cx="39960" cy="88560"/>
            </a:xfrm>
            <a:custGeom>
              <a:avLst/>
              <a:gdLst/>
              <a:ahLst/>
              <a:rect l="l" t="t" r="r" b="b"/>
              <a:pathLst>
                <a:path w="48" h="113">
                  <a:moveTo>
                    <a:pt x="0" y="113"/>
                  </a:moveTo>
                  <a:lnTo>
                    <a:pt x="0" y="95"/>
                  </a:lnTo>
                  <a:lnTo>
                    <a:pt x="2" y="82"/>
                  </a:lnTo>
                  <a:lnTo>
                    <a:pt x="4" y="66"/>
                  </a:lnTo>
                  <a:lnTo>
                    <a:pt x="9" y="53"/>
                  </a:lnTo>
                  <a:lnTo>
                    <a:pt x="15" y="37"/>
                  </a:lnTo>
                  <a:lnTo>
                    <a:pt x="21" y="24"/>
                  </a:lnTo>
                  <a:lnTo>
                    <a:pt x="29" y="1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9" y="12"/>
                  </a:lnTo>
                  <a:lnTo>
                    <a:pt x="33" y="24"/>
                  </a:lnTo>
                  <a:lnTo>
                    <a:pt x="27" y="37"/>
                  </a:lnTo>
                  <a:lnTo>
                    <a:pt x="21" y="53"/>
                  </a:lnTo>
                  <a:lnTo>
                    <a:pt x="15" y="66"/>
                  </a:lnTo>
                  <a:lnTo>
                    <a:pt x="11" y="82"/>
                  </a:lnTo>
                  <a:lnTo>
                    <a:pt x="6" y="9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1631880" y="3151080"/>
              <a:ext cx="92160" cy="372600"/>
            </a:xfrm>
            <a:custGeom>
              <a:avLst/>
              <a:gdLst/>
              <a:ahLst/>
              <a:rect l="l" t="t" r="r" b="b"/>
              <a:pathLst>
                <a:path w="114" h="470">
                  <a:moveTo>
                    <a:pt x="10" y="470"/>
                  </a:moveTo>
                  <a:lnTo>
                    <a:pt x="0" y="464"/>
                  </a:lnTo>
                  <a:lnTo>
                    <a:pt x="0" y="452"/>
                  </a:lnTo>
                  <a:lnTo>
                    <a:pt x="0" y="437"/>
                  </a:lnTo>
                  <a:lnTo>
                    <a:pt x="4" y="423"/>
                  </a:lnTo>
                  <a:lnTo>
                    <a:pt x="4" y="408"/>
                  </a:lnTo>
                  <a:lnTo>
                    <a:pt x="8" y="394"/>
                  </a:lnTo>
                  <a:lnTo>
                    <a:pt x="10" y="379"/>
                  </a:lnTo>
                  <a:lnTo>
                    <a:pt x="11" y="365"/>
                  </a:lnTo>
                  <a:lnTo>
                    <a:pt x="13" y="349"/>
                  </a:lnTo>
                  <a:lnTo>
                    <a:pt x="17" y="336"/>
                  </a:lnTo>
                  <a:lnTo>
                    <a:pt x="19" y="320"/>
                  </a:lnTo>
                  <a:lnTo>
                    <a:pt x="23" y="307"/>
                  </a:lnTo>
                  <a:lnTo>
                    <a:pt x="25" y="291"/>
                  </a:lnTo>
                  <a:lnTo>
                    <a:pt x="29" y="280"/>
                  </a:lnTo>
                  <a:lnTo>
                    <a:pt x="31" y="264"/>
                  </a:lnTo>
                  <a:lnTo>
                    <a:pt x="35" y="251"/>
                  </a:lnTo>
                  <a:lnTo>
                    <a:pt x="37" y="235"/>
                  </a:lnTo>
                  <a:lnTo>
                    <a:pt x="41" y="223"/>
                  </a:lnTo>
                  <a:lnTo>
                    <a:pt x="42" y="208"/>
                  </a:lnTo>
                  <a:lnTo>
                    <a:pt x="46" y="194"/>
                  </a:lnTo>
                  <a:lnTo>
                    <a:pt x="48" y="179"/>
                  </a:lnTo>
                  <a:lnTo>
                    <a:pt x="52" y="165"/>
                  </a:lnTo>
                  <a:lnTo>
                    <a:pt x="54" y="150"/>
                  </a:lnTo>
                  <a:lnTo>
                    <a:pt x="58" y="138"/>
                  </a:lnTo>
                  <a:lnTo>
                    <a:pt x="62" y="123"/>
                  </a:lnTo>
                  <a:lnTo>
                    <a:pt x="66" y="111"/>
                  </a:lnTo>
                  <a:lnTo>
                    <a:pt x="68" y="95"/>
                  </a:lnTo>
                  <a:lnTo>
                    <a:pt x="72" y="82"/>
                  </a:lnTo>
                  <a:lnTo>
                    <a:pt x="75" y="68"/>
                  </a:lnTo>
                  <a:lnTo>
                    <a:pt x="81" y="55"/>
                  </a:lnTo>
                  <a:lnTo>
                    <a:pt x="85" y="39"/>
                  </a:lnTo>
                  <a:lnTo>
                    <a:pt x="89" y="28"/>
                  </a:lnTo>
                  <a:lnTo>
                    <a:pt x="93" y="12"/>
                  </a:lnTo>
                  <a:lnTo>
                    <a:pt x="99" y="0"/>
                  </a:lnTo>
                  <a:lnTo>
                    <a:pt x="114" y="8"/>
                  </a:lnTo>
                  <a:lnTo>
                    <a:pt x="110" y="22"/>
                  </a:lnTo>
                  <a:lnTo>
                    <a:pt x="108" y="37"/>
                  </a:lnTo>
                  <a:lnTo>
                    <a:pt x="105" y="51"/>
                  </a:lnTo>
                  <a:lnTo>
                    <a:pt x="103" y="66"/>
                  </a:lnTo>
                  <a:lnTo>
                    <a:pt x="99" y="80"/>
                  </a:lnTo>
                  <a:lnTo>
                    <a:pt x="97" y="95"/>
                  </a:lnTo>
                  <a:lnTo>
                    <a:pt x="93" y="109"/>
                  </a:lnTo>
                  <a:lnTo>
                    <a:pt x="91" y="125"/>
                  </a:lnTo>
                  <a:lnTo>
                    <a:pt x="87" y="138"/>
                  </a:lnTo>
                  <a:lnTo>
                    <a:pt x="85" y="154"/>
                  </a:lnTo>
                  <a:lnTo>
                    <a:pt x="81" y="167"/>
                  </a:lnTo>
                  <a:lnTo>
                    <a:pt x="79" y="183"/>
                  </a:lnTo>
                  <a:lnTo>
                    <a:pt x="75" y="196"/>
                  </a:lnTo>
                  <a:lnTo>
                    <a:pt x="74" y="212"/>
                  </a:lnTo>
                  <a:lnTo>
                    <a:pt x="70" y="225"/>
                  </a:lnTo>
                  <a:lnTo>
                    <a:pt x="68" y="241"/>
                  </a:lnTo>
                  <a:lnTo>
                    <a:pt x="62" y="254"/>
                  </a:lnTo>
                  <a:lnTo>
                    <a:pt x="60" y="268"/>
                  </a:lnTo>
                  <a:lnTo>
                    <a:pt x="56" y="282"/>
                  </a:lnTo>
                  <a:lnTo>
                    <a:pt x="54" y="297"/>
                  </a:lnTo>
                  <a:lnTo>
                    <a:pt x="48" y="311"/>
                  </a:lnTo>
                  <a:lnTo>
                    <a:pt x="46" y="326"/>
                  </a:lnTo>
                  <a:lnTo>
                    <a:pt x="42" y="340"/>
                  </a:lnTo>
                  <a:lnTo>
                    <a:pt x="41" y="355"/>
                  </a:lnTo>
                  <a:lnTo>
                    <a:pt x="35" y="369"/>
                  </a:lnTo>
                  <a:lnTo>
                    <a:pt x="33" y="382"/>
                  </a:lnTo>
                  <a:lnTo>
                    <a:pt x="27" y="396"/>
                  </a:lnTo>
                  <a:lnTo>
                    <a:pt x="25" y="411"/>
                  </a:lnTo>
                  <a:lnTo>
                    <a:pt x="19" y="425"/>
                  </a:lnTo>
                  <a:lnTo>
                    <a:pt x="17" y="441"/>
                  </a:lnTo>
                  <a:lnTo>
                    <a:pt x="11" y="454"/>
                  </a:lnTo>
                  <a:lnTo>
                    <a:pt x="1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1698480" y="2990520"/>
              <a:ext cx="14400" cy="442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4" y="56"/>
                  </a:moveTo>
                  <a:lnTo>
                    <a:pt x="0" y="40"/>
                  </a:lnTo>
                  <a:lnTo>
                    <a:pt x="2" y="27"/>
                  </a:lnTo>
                  <a:lnTo>
                    <a:pt x="8" y="11"/>
                  </a:lnTo>
                  <a:lnTo>
                    <a:pt x="18" y="0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1604880" y="3136680"/>
              <a:ext cx="93600" cy="344160"/>
            </a:xfrm>
            <a:custGeom>
              <a:avLst/>
              <a:gdLst/>
              <a:ahLst/>
              <a:rect l="l" t="t" r="r" b="b"/>
              <a:pathLst>
                <a:path w="118" h="432">
                  <a:moveTo>
                    <a:pt x="8" y="432"/>
                  </a:moveTo>
                  <a:lnTo>
                    <a:pt x="0" y="432"/>
                  </a:lnTo>
                  <a:lnTo>
                    <a:pt x="0" y="415"/>
                  </a:lnTo>
                  <a:lnTo>
                    <a:pt x="2" y="399"/>
                  </a:lnTo>
                  <a:lnTo>
                    <a:pt x="4" y="384"/>
                  </a:lnTo>
                  <a:lnTo>
                    <a:pt x="8" y="368"/>
                  </a:lnTo>
                  <a:lnTo>
                    <a:pt x="10" y="351"/>
                  </a:lnTo>
                  <a:lnTo>
                    <a:pt x="13" y="335"/>
                  </a:lnTo>
                  <a:lnTo>
                    <a:pt x="17" y="320"/>
                  </a:lnTo>
                  <a:lnTo>
                    <a:pt x="23" y="306"/>
                  </a:lnTo>
                  <a:lnTo>
                    <a:pt x="27" y="289"/>
                  </a:lnTo>
                  <a:lnTo>
                    <a:pt x="31" y="273"/>
                  </a:lnTo>
                  <a:lnTo>
                    <a:pt x="35" y="258"/>
                  </a:lnTo>
                  <a:lnTo>
                    <a:pt x="39" y="242"/>
                  </a:lnTo>
                  <a:lnTo>
                    <a:pt x="41" y="225"/>
                  </a:lnTo>
                  <a:lnTo>
                    <a:pt x="45" y="211"/>
                  </a:lnTo>
                  <a:lnTo>
                    <a:pt x="48" y="194"/>
                  </a:lnTo>
                  <a:lnTo>
                    <a:pt x="52" y="180"/>
                  </a:lnTo>
                  <a:lnTo>
                    <a:pt x="95" y="2"/>
                  </a:lnTo>
                  <a:lnTo>
                    <a:pt x="107" y="0"/>
                  </a:lnTo>
                  <a:lnTo>
                    <a:pt x="118" y="8"/>
                  </a:lnTo>
                  <a:lnTo>
                    <a:pt x="112" y="19"/>
                  </a:lnTo>
                  <a:lnTo>
                    <a:pt x="107" y="31"/>
                  </a:lnTo>
                  <a:lnTo>
                    <a:pt x="103" y="45"/>
                  </a:lnTo>
                  <a:lnTo>
                    <a:pt x="99" y="58"/>
                  </a:lnTo>
                  <a:lnTo>
                    <a:pt x="93" y="70"/>
                  </a:lnTo>
                  <a:lnTo>
                    <a:pt x="91" y="83"/>
                  </a:lnTo>
                  <a:lnTo>
                    <a:pt x="87" y="97"/>
                  </a:lnTo>
                  <a:lnTo>
                    <a:pt x="85" y="110"/>
                  </a:lnTo>
                  <a:lnTo>
                    <a:pt x="79" y="122"/>
                  </a:lnTo>
                  <a:lnTo>
                    <a:pt x="77" y="136"/>
                  </a:lnTo>
                  <a:lnTo>
                    <a:pt x="74" y="149"/>
                  </a:lnTo>
                  <a:lnTo>
                    <a:pt x="72" y="165"/>
                  </a:lnTo>
                  <a:lnTo>
                    <a:pt x="68" y="176"/>
                  </a:lnTo>
                  <a:lnTo>
                    <a:pt x="66" y="190"/>
                  </a:lnTo>
                  <a:lnTo>
                    <a:pt x="64" y="204"/>
                  </a:lnTo>
                  <a:lnTo>
                    <a:pt x="62" y="219"/>
                  </a:lnTo>
                  <a:lnTo>
                    <a:pt x="58" y="231"/>
                  </a:lnTo>
                  <a:lnTo>
                    <a:pt x="56" y="244"/>
                  </a:lnTo>
                  <a:lnTo>
                    <a:pt x="52" y="258"/>
                  </a:lnTo>
                  <a:lnTo>
                    <a:pt x="50" y="271"/>
                  </a:lnTo>
                  <a:lnTo>
                    <a:pt x="46" y="283"/>
                  </a:lnTo>
                  <a:lnTo>
                    <a:pt x="45" y="299"/>
                  </a:lnTo>
                  <a:lnTo>
                    <a:pt x="41" y="310"/>
                  </a:lnTo>
                  <a:lnTo>
                    <a:pt x="39" y="326"/>
                  </a:lnTo>
                  <a:lnTo>
                    <a:pt x="33" y="337"/>
                  </a:lnTo>
                  <a:lnTo>
                    <a:pt x="31" y="351"/>
                  </a:lnTo>
                  <a:lnTo>
                    <a:pt x="25" y="365"/>
                  </a:lnTo>
                  <a:lnTo>
                    <a:pt x="23" y="378"/>
                  </a:lnTo>
                  <a:lnTo>
                    <a:pt x="17" y="392"/>
                  </a:lnTo>
                  <a:lnTo>
                    <a:pt x="15" y="405"/>
                  </a:lnTo>
                  <a:lnTo>
                    <a:pt x="10" y="419"/>
                  </a:lnTo>
                  <a:lnTo>
                    <a:pt x="8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1604880" y="4311360"/>
              <a:ext cx="87120" cy="269640"/>
            </a:xfrm>
            <a:custGeom>
              <a:avLst/>
              <a:gdLst/>
              <a:ahLst/>
              <a:rect l="l" t="t" r="r" b="b"/>
              <a:pathLst>
                <a:path w="110" h="340">
                  <a:moveTo>
                    <a:pt x="95" y="249"/>
                  </a:moveTo>
                  <a:lnTo>
                    <a:pt x="81" y="252"/>
                  </a:lnTo>
                  <a:lnTo>
                    <a:pt x="72" y="262"/>
                  </a:lnTo>
                  <a:lnTo>
                    <a:pt x="66" y="274"/>
                  </a:lnTo>
                  <a:lnTo>
                    <a:pt x="62" y="287"/>
                  </a:lnTo>
                  <a:lnTo>
                    <a:pt x="58" y="301"/>
                  </a:lnTo>
                  <a:lnTo>
                    <a:pt x="54" y="315"/>
                  </a:lnTo>
                  <a:lnTo>
                    <a:pt x="48" y="326"/>
                  </a:lnTo>
                  <a:lnTo>
                    <a:pt x="45" y="340"/>
                  </a:lnTo>
                  <a:lnTo>
                    <a:pt x="41" y="328"/>
                  </a:lnTo>
                  <a:lnTo>
                    <a:pt x="41" y="318"/>
                  </a:lnTo>
                  <a:lnTo>
                    <a:pt x="41" y="307"/>
                  </a:lnTo>
                  <a:lnTo>
                    <a:pt x="41" y="297"/>
                  </a:lnTo>
                  <a:lnTo>
                    <a:pt x="41" y="285"/>
                  </a:lnTo>
                  <a:lnTo>
                    <a:pt x="41" y="276"/>
                  </a:lnTo>
                  <a:lnTo>
                    <a:pt x="43" y="264"/>
                  </a:lnTo>
                  <a:lnTo>
                    <a:pt x="45" y="254"/>
                  </a:lnTo>
                  <a:lnTo>
                    <a:pt x="45" y="243"/>
                  </a:lnTo>
                  <a:lnTo>
                    <a:pt x="48" y="231"/>
                  </a:lnTo>
                  <a:lnTo>
                    <a:pt x="50" y="220"/>
                  </a:lnTo>
                  <a:lnTo>
                    <a:pt x="54" y="210"/>
                  </a:lnTo>
                  <a:lnTo>
                    <a:pt x="58" y="189"/>
                  </a:lnTo>
                  <a:lnTo>
                    <a:pt x="64" y="169"/>
                  </a:lnTo>
                  <a:lnTo>
                    <a:pt x="64" y="157"/>
                  </a:lnTo>
                  <a:lnTo>
                    <a:pt x="64" y="146"/>
                  </a:lnTo>
                  <a:lnTo>
                    <a:pt x="64" y="136"/>
                  </a:lnTo>
                  <a:lnTo>
                    <a:pt x="66" y="126"/>
                  </a:lnTo>
                  <a:lnTo>
                    <a:pt x="64" y="107"/>
                  </a:lnTo>
                  <a:lnTo>
                    <a:pt x="60" y="90"/>
                  </a:lnTo>
                  <a:lnTo>
                    <a:pt x="50" y="72"/>
                  </a:lnTo>
                  <a:lnTo>
                    <a:pt x="39" y="57"/>
                  </a:lnTo>
                  <a:lnTo>
                    <a:pt x="29" y="49"/>
                  </a:lnTo>
                  <a:lnTo>
                    <a:pt x="21" y="43"/>
                  </a:lnTo>
                  <a:lnTo>
                    <a:pt x="10" y="37"/>
                  </a:lnTo>
                  <a:lnTo>
                    <a:pt x="0" y="31"/>
                  </a:lnTo>
                  <a:lnTo>
                    <a:pt x="2" y="12"/>
                  </a:lnTo>
                  <a:lnTo>
                    <a:pt x="15" y="0"/>
                  </a:lnTo>
                  <a:lnTo>
                    <a:pt x="29" y="2"/>
                  </a:lnTo>
                  <a:lnTo>
                    <a:pt x="45" y="8"/>
                  </a:lnTo>
                  <a:lnTo>
                    <a:pt x="56" y="16"/>
                  </a:lnTo>
                  <a:lnTo>
                    <a:pt x="70" y="28"/>
                  </a:lnTo>
                  <a:lnTo>
                    <a:pt x="79" y="39"/>
                  </a:lnTo>
                  <a:lnTo>
                    <a:pt x="89" y="51"/>
                  </a:lnTo>
                  <a:lnTo>
                    <a:pt x="99" y="62"/>
                  </a:lnTo>
                  <a:lnTo>
                    <a:pt x="109" y="76"/>
                  </a:lnTo>
                  <a:lnTo>
                    <a:pt x="109" y="95"/>
                  </a:lnTo>
                  <a:lnTo>
                    <a:pt x="110" y="117"/>
                  </a:lnTo>
                  <a:lnTo>
                    <a:pt x="109" y="126"/>
                  </a:lnTo>
                  <a:lnTo>
                    <a:pt x="109" y="138"/>
                  </a:lnTo>
                  <a:lnTo>
                    <a:pt x="109" y="150"/>
                  </a:lnTo>
                  <a:lnTo>
                    <a:pt x="109" y="161"/>
                  </a:lnTo>
                  <a:lnTo>
                    <a:pt x="107" y="171"/>
                  </a:lnTo>
                  <a:lnTo>
                    <a:pt x="105" y="183"/>
                  </a:lnTo>
                  <a:lnTo>
                    <a:pt x="103" y="194"/>
                  </a:lnTo>
                  <a:lnTo>
                    <a:pt x="103" y="206"/>
                  </a:lnTo>
                  <a:lnTo>
                    <a:pt x="99" y="216"/>
                  </a:lnTo>
                  <a:lnTo>
                    <a:pt x="99" y="227"/>
                  </a:lnTo>
                  <a:lnTo>
                    <a:pt x="95" y="237"/>
                  </a:lnTo>
                  <a:lnTo>
                    <a:pt x="95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1576440" y="3114360"/>
              <a:ext cx="75960" cy="230040"/>
            </a:xfrm>
            <a:custGeom>
              <a:avLst/>
              <a:gdLst/>
              <a:ahLst/>
              <a:rect l="l" t="t" r="r" b="b"/>
              <a:pathLst>
                <a:path w="97" h="291">
                  <a:moveTo>
                    <a:pt x="0" y="291"/>
                  </a:moveTo>
                  <a:lnTo>
                    <a:pt x="2" y="269"/>
                  </a:lnTo>
                  <a:lnTo>
                    <a:pt x="6" y="250"/>
                  </a:lnTo>
                  <a:lnTo>
                    <a:pt x="8" y="231"/>
                  </a:lnTo>
                  <a:lnTo>
                    <a:pt x="14" y="213"/>
                  </a:lnTo>
                  <a:lnTo>
                    <a:pt x="18" y="194"/>
                  </a:lnTo>
                  <a:lnTo>
                    <a:pt x="23" y="176"/>
                  </a:lnTo>
                  <a:lnTo>
                    <a:pt x="29" y="159"/>
                  </a:lnTo>
                  <a:lnTo>
                    <a:pt x="35" y="141"/>
                  </a:lnTo>
                  <a:lnTo>
                    <a:pt x="41" y="122"/>
                  </a:lnTo>
                  <a:lnTo>
                    <a:pt x="47" y="105"/>
                  </a:lnTo>
                  <a:lnTo>
                    <a:pt x="52" y="87"/>
                  </a:lnTo>
                  <a:lnTo>
                    <a:pt x="58" y="70"/>
                  </a:lnTo>
                  <a:lnTo>
                    <a:pt x="64" y="52"/>
                  </a:lnTo>
                  <a:lnTo>
                    <a:pt x="72" y="35"/>
                  </a:lnTo>
                  <a:lnTo>
                    <a:pt x="78" y="17"/>
                  </a:lnTo>
                  <a:lnTo>
                    <a:pt x="85" y="0"/>
                  </a:lnTo>
                  <a:lnTo>
                    <a:pt x="97" y="8"/>
                  </a:lnTo>
                  <a:lnTo>
                    <a:pt x="87" y="23"/>
                  </a:lnTo>
                  <a:lnTo>
                    <a:pt x="82" y="41"/>
                  </a:lnTo>
                  <a:lnTo>
                    <a:pt x="76" y="58"/>
                  </a:lnTo>
                  <a:lnTo>
                    <a:pt x="70" y="76"/>
                  </a:lnTo>
                  <a:lnTo>
                    <a:pt x="64" y="93"/>
                  </a:lnTo>
                  <a:lnTo>
                    <a:pt x="58" y="112"/>
                  </a:lnTo>
                  <a:lnTo>
                    <a:pt x="52" y="130"/>
                  </a:lnTo>
                  <a:lnTo>
                    <a:pt x="49" y="149"/>
                  </a:lnTo>
                  <a:lnTo>
                    <a:pt x="43" y="167"/>
                  </a:lnTo>
                  <a:lnTo>
                    <a:pt x="37" y="184"/>
                  </a:lnTo>
                  <a:lnTo>
                    <a:pt x="31" y="202"/>
                  </a:lnTo>
                  <a:lnTo>
                    <a:pt x="25" y="219"/>
                  </a:lnTo>
                  <a:lnTo>
                    <a:pt x="18" y="236"/>
                  </a:lnTo>
                  <a:lnTo>
                    <a:pt x="12" y="254"/>
                  </a:lnTo>
                  <a:lnTo>
                    <a:pt x="6" y="27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1579320" y="3195360"/>
              <a:ext cx="63720" cy="228240"/>
            </a:xfrm>
            <a:custGeom>
              <a:avLst/>
              <a:gdLst/>
              <a:ahLst/>
              <a:rect l="l" t="t" r="r" b="b"/>
              <a:pathLst>
                <a:path w="79" h="287">
                  <a:moveTo>
                    <a:pt x="6" y="287"/>
                  </a:moveTo>
                  <a:lnTo>
                    <a:pt x="2" y="287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0" y="254"/>
                  </a:lnTo>
                  <a:lnTo>
                    <a:pt x="2" y="244"/>
                  </a:lnTo>
                  <a:lnTo>
                    <a:pt x="6" y="223"/>
                  </a:lnTo>
                  <a:lnTo>
                    <a:pt x="13" y="205"/>
                  </a:lnTo>
                  <a:lnTo>
                    <a:pt x="21" y="186"/>
                  </a:lnTo>
                  <a:lnTo>
                    <a:pt x="29" y="166"/>
                  </a:lnTo>
                  <a:lnTo>
                    <a:pt x="37" y="147"/>
                  </a:lnTo>
                  <a:lnTo>
                    <a:pt x="44" y="130"/>
                  </a:lnTo>
                  <a:lnTo>
                    <a:pt x="46" y="112"/>
                  </a:lnTo>
                  <a:lnTo>
                    <a:pt x="50" y="95"/>
                  </a:lnTo>
                  <a:lnTo>
                    <a:pt x="52" y="79"/>
                  </a:lnTo>
                  <a:lnTo>
                    <a:pt x="58" y="64"/>
                  </a:lnTo>
                  <a:lnTo>
                    <a:pt x="62" y="46"/>
                  </a:lnTo>
                  <a:lnTo>
                    <a:pt x="68" y="31"/>
                  </a:lnTo>
                  <a:lnTo>
                    <a:pt x="74" y="15"/>
                  </a:lnTo>
                  <a:lnTo>
                    <a:pt x="79" y="0"/>
                  </a:lnTo>
                  <a:lnTo>
                    <a:pt x="76" y="17"/>
                  </a:lnTo>
                  <a:lnTo>
                    <a:pt x="72" y="35"/>
                  </a:lnTo>
                  <a:lnTo>
                    <a:pt x="68" y="52"/>
                  </a:lnTo>
                  <a:lnTo>
                    <a:pt x="64" y="71"/>
                  </a:lnTo>
                  <a:lnTo>
                    <a:pt x="60" y="89"/>
                  </a:lnTo>
                  <a:lnTo>
                    <a:pt x="56" y="108"/>
                  </a:lnTo>
                  <a:lnTo>
                    <a:pt x="52" y="126"/>
                  </a:lnTo>
                  <a:lnTo>
                    <a:pt x="48" y="145"/>
                  </a:lnTo>
                  <a:lnTo>
                    <a:pt x="43" y="163"/>
                  </a:lnTo>
                  <a:lnTo>
                    <a:pt x="37" y="180"/>
                  </a:lnTo>
                  <a:lnTo>
                    <a:pt x="31" y="197"/>
                  </a:lnTo>
                  <a:lnTo>
                    <a:pt x="27" y="215"/>
                  </a:lnTo>
                  <a:lnTo>
                    <a:pt x="21" y="232"/>
                  </a:lnTo>
                  <a:lnTo>
                    <a:pt x="15" y="250"/>
                  </a:lnTo>
                  <a:lnTo>
                    <a:pt x="10" y="267"/>
                  </a:lnTo>
                  <a:lnTo>
                    <a:pt x="6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1387440" y="4722480"/>
              <a:ext cx="233280" cy="42480"/>
            </a:xfrm>
            <a:custGeom>
              <a:avLst/>
              <a:gdLst/>
              <a:ahLst/>
              <a:rect l="l" t="t" r="r" b="b"/>
              <a:pathLst>
                <a:path w="293" h="54">
                  <a:moveTo>
                    <a:pt x="0" y="31"/>
                  </a:moveTo>
                  <a:lnTo>
                    <a:pt x="18" y="35"/>
                  </a:lnTo>
                  <a:lnTo>
                    <a:pt x="35" y="39"/>
                  </a:lnTo>
                  <a:lnTo>
                    <a:pt x="53" y="41"/>
                  </a:lnTo>
                  <a:lnTo>
                    <a:pt x="70" y="43"/>
                  </a:lnTo>
                  <a:lnTo>
                    <a:pt x="88" y="43"/>
                  </a:lnTo>
                  <a:lnTo>
                    <a:pt x="107" y="43"/>
                  </a:lnTo>
                  <a:lnTo>
                    <a:pt x="127" y="41"/>
                  </a:lnTo>
                  <a:lnTo>
                    <a:pt x="146" y="39"/>
                  </a:lnTo>
                  <a:lnTo>
                    <a:pt x="163" y="33"/>
                  </a:lnTo>
                  <a:lnTo>
                    <a:pt x="183" y="29"/>
                  </a:lnTo>
                  <a:lnTo>
                    <a:pt x="200" y="25"/>
                  </a:lnTo>
                  <a:lnTo>
                    <a:pt x="220" y="21"/>
                  </a:lnTo>
                  <a:lnTo>
                    <a:pt x="237" y="16"/>
                  </a:lnTo>
                  <a:lnTo>
                    <a:pt x="256" y="10"/>
                  </a:lnTo>
                  <a:lnTo>
                    <a:pt x="274" y="4"/>
                  </a:lnTo>
                  <a:lnTo>
                    <a:pt x="293" y="0"/>
                  </a:lnTo>
                  <a:lnTo>
                    <a:pt x="274" y="4"/>
                  </a:lnTo>
                  <a:lnTo>
                    <a:pt x="256" y="10"/>
                  </a:lnTo>
                  <a:lnTo>
                    <a:pt x="239" y="16"/>
                  </a:lnTo>
                  <a:lnTo>
                    <a:pt x="222" y="23"/>
                  </a:lnTo>
                  <a:lnTo>
                    <a:pt x="202" y="29"/>
                  </a:lnTo>
                  <a:lnTo>
                    <a:pt x="185" y="35"/>
                  </a:lnTo>
                  <a:lnTo>
                    <a:pt x="165" y="41"/>
                  </a:lnTo>
                  <a:lnTo>
                    <a:pt x="148" y="49"/>
                  </a:lnTo>
                  <a:lnTo>
                    <a:pt x="128" y="51"/>
                  </a:lnTo>
                  <a:lnTo>
                    <a:pt x="109" y="54"/>
                  </a:lnTo>
                  <a:lnTo>
                    <a:pt x="90" y="54"/>
                  </a:lnTo>
                  <a:lnTo>
                    <a:pt x="72" y="54"/>
                  </a:lnTo>
                  <a:lnTo>
                    <a:pt x="53" y="51"/>
                  </a:lnTo>
                  <a:lnTo>
                    <a:pt x="35" y="47"/>
                  </a:lnTo>
                  <a:lnTo>
                    <a:pt x="18" y="3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1320840" y="3970080"/>
              <a:ext cx="220680" cy="437760"/>
            </a:xfrm>
            <a:custGeom>
              <a:avLst/>
              <a:gdLst/>
              <a:ahLst/>
              <a:rect l="l" t="t" r="r" b="b"/>
              <a:pathLst>
                <a:path w="279" h="553">
                  <a:moveTo>
                    <a:pt x="233" y="483"/>
                  </a:moveTo>
                  <a:lnTo>
                    <a:pt x="157" y="498"/>
                  </a:lnTo>
                  <a:lnTo>
                    <a:pt x="148" y="506"/>
                  </a:lnTo>
                  <a:lnTo>
                    <a:pt x="138" y="516"/>
                  </a:lnTo>
                  <a:lnTo>
                    <a:pt x="126" y="527"/>
                  </a:lnTo>
                  <a:lnTo>
                    <a:pt x="116" y="539"/>
                  </a:lnTo>
                  <a:lnTo>
                    <a:pt x="105" y="547"/>
                  </a:lnTo>
                  <a:lnTo>
                    <a:pt x="93" y="553"/>
                  </a:lnTo>
                  <a:lnTo>
                    <a:pt x="78" y="553"/>
                  </a:lnTo>
                  <a:lnTo>
                    <a:pt x="64" y="551"/>
                  </a:lnTo>
                  <a:lnTo>
                    <a:pt x="47" y="539"/>
                  </a:lnTo>
                  <a:lnTo>
                    <a:pt x="35" y="527"/>
                  </a:lnTo>
                  <a:lnTo>
                    <a:pt x="23" y="512"/>
                  </a:lnTo>
                  <a:lnTo>
                    <a:pt x="18" y="498"/>
                  </a:lnTo>
                  <a:lnTo>
                    <a:pt x="12" y="479"/>
                  </a:lnTo>
                  <a:lnTo>
                    <a:pt x="8" y="461"/>
                  </a:lnTo>
                  <a:lnTo>
                    <a:pt x="4" y="444"/>
                  </a:lnTo>
                  <a:lnTo>
                    <a:pt x="2" y="428"/>
                  </a:lnTo>
                  <a:lnTo>
                    <a:pt x="0" y="411"/>
                  </a:lnTo>
                  <a:lnTo>
                    <a:pt x="0" y="394"/>
                  </a:lnTo>
                  <a:lnTo>
                    <a:pt x="0" y="376"/>
                  </a:lnTo>
                  <a:lnTo>
                    <a:pt x="2" y="361"/>
                  </a:lnTo>
                  <a:lnTo>
                    <a:pt x="2" y="343"/>
                  </a:lnTo>
                  <a:lnTo>
                    <a:pt x="6" y="328"/>
                  </a:lnTo>
                  <a:lnTo>
                    <a:pt x="8" y="312"/>
                  </a:lnTo>
                  <a:lnTo>
                    <a:pt x="14" y="297"/>
                  </a:lnTo>
                  <a:lnTo>
                    <a:pt x="16" y="279"/>
                  </a:lnTo>
                  <a:lnTo>
                    <a:pt x="20" y="264"/>
                  </a:lnTo>
                  <a:lnTo>
                    <a:pt x="25" y="248"/>
                  </a:lnTo>
                  <a:lnTo>
                    <a:pt x="31" y="233"/>
                  </a:lnTo>
                  <a:lnTo>
                    <a:pt x="37" y="217"/>
                  </a:lnTo>
                  <a:lnTo>
                    <a:pt x="43" y="204"/>
                  </a:lnTo>
                  <a:lnTo>
                    <a:pt x="51" y="188"/>
                  </a:lnTo>
                  <a:lnTo>
                    <a:pt x="60" y="176"/>
                  </a:lnTo>
                  <a:lnTo>
                    <a:pt x="66" y="161"/>
                  </a:lnTo>
                  <a:lnTo>
                    <a:pt x="74" y="147"/>
                  </a:lnTo>
                  <a:lnTo>
                    <a:pt x="82" y="132"/>
                  </a:lnTo>
                  <a:lnTo>
                    <a:pt x="93" y="120"/>
                  </a:lnTo>
                  <a:lnTo>
                    <a:pt x="101" y="107"/>
                  </a:lnTo>
                  <a:lnTo>
                    <a:pt x="113" y="95"/>
                  </a:lnTo>
                  <a:lnTo>
                    <a:pt x="124" y="83"/>
                  </a:lnTo>
                  <a:lnTo>
                    <a:pt x="136" y="74"/>
                  </a:lnTo>
                  <a:lnTo>
                    <a:pt x="148" y="62"/>
                  </a:lnTo>
                  <a:lnTo>
                    <a:pt x="159" y="50"/>
                  </a:lnTo>
                  <a:lnTo>
                    <a:pt x="171" y="41"/>
                  </a:lnTo>
                  <a:lnTo>
                    <a:pt x="184" y="33"/>
                  </a:lnTo>
                  <a:lnTo>
                    <a:pt x="196" y="21"/>
                  </a:lnTo>
                  <a:lnTo>
                    <a:pt x="212" y="14"/>
                  </a:lnTo>
                  <a:lnTo>
                    <a:pt x="225" y="6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58" y="6"/>
                  </a:lnTo>
                  <a:lnTo>
                    <a:pt x="262" y="14"/>
                  </a:lnTo>
                  <a:lnTo>
                    <a:pt x="268" y="25"/>
                  </a:lnTo>
                  <a:lnTo>
                    <a:pt x="264" y="43"/>
                  </a:lnTo>
                  <a:lnTo>
                    <a:pt x="260" y="64"/>
                  </a:lnTo>
                  <a:lnTo>
                    <a:pt x="256" y="76"/>
                  </a:lnTo>
                  <a:lnTo>
                    <a:pt x="254" y="87"/>
                  </a:lnTo>
                  <a:lnTo>
                    <a:pt x="250" y="99"/>
                  </a:lnTo>
                  <a:lnTo>
                    <a:pt x="248" y="110"/>
                  </a:lnTo>
                  <a:lnTo>
                    <a:pt x="244" y="120"/>
                  </a:lnTo>
                  <a:lnTo>
                    <a:pt x="241" y="132"/>
                  </a:lnTo>
                  <a:lnTo>
                    <a:pt x="237" y="143"/>
                  </a:lnTo>
                  <a:lnTo>
                    <a:pt x="235" y="155"/>
                  </a:lnTo>
                  <a:lnTo>
                    <a:pt x="231" y="167"/>
                  </a:lnTo>
                  <a:lnTo>
                    <a:pt x="229" y="178"/>
                  </a:lnTo>
                  <a:lnTo>
                    <a:pt x="227" y="190"/>
                  </a:lnTo>
                  <a:lnTo>
                    <a:pt x="227" y="202"/>
                  </a:lnTo>
                  <a:lnTo>
                    <a:pt x="223" y="211"/>
                  </a:lnTo>
                  <a:lnTo>
                    <a:pt x="221" y="223"/>
                  </a:lnTo>
                  <a:lnTo>
                    <a:pt x="221" y="233"/>
                  </a:lnTo>
                  <a:lnTo>
                    <a:pt x="221" y="244"/>
                  </a:lnTo>
                  <a:lnTo>
                    <a:pt x="221" y="254"/>
                  </a:lnTo>
                  <a:lnTo>
                    <a:pt x="221" y="266"/>
                  </a:lnTo>
                  <a:lnTo>
                    <a:pt x="223" y="275"/>
                  </a:lnTo>
                  <a:lnTo>
                    <a:pt x="227" y="287"/>
                  </a:lnTo>
                  <a:lnTo>
                    <a:pt x="233" y="304"/>
                  </a:lnTo>
                  <a:lnTo>
                    <a:pt x="244" y="324"/>
                  </a:lnTo>
                  <a:lnTo>
                    <a:pt x="250" y="332"/>
                  </a:lnTo>
                  <a:lnTo>
                    <a:pt x="258" y="341"/>
                  </a:lnTo>
                  <a:lnTo>
                    <a:pt x="268" y="349"/>
                  </a:lnTo>
                  <a:lnTo>
                    <a:pt x="279" y="359"/>
                  </a:lnTo>
                  <a:lnTo>
                    <a:pt x="274" y="374"/>
                  </a:lnTo>
                  <a:lnTo>
                    <a:pt x="272" y="392"/>
                  </a:lnTo>
                  <a:lnTo>
                    <a:pt x="268" y="407"/>
                  </a:lnTo>
                  <a:lnTo>
                    <a:pt x="264" y="425"/>
                  </a:lnTo>
                  <a:lnTo>
                    <a:pt x="258" y="440"/>
                  </a:lnTo>
                  <a:lnTo>
                    <a:pt x="252" y="456"/>
                  </a:lnTo>
                  <a:lnTo>
                    <a:pt x="243" y="469"/>
                  </a:lnTo>
                  <a:lnTo>
                    <a:pt x="233" y="4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1330200" y="3981240"/>
              <a:ext cx="198360" cy="417240"/>
            </a:xfrm>
            <a:custGeom>
              <a:avLst/>
              <a:gdLst/>
              <a:ahLst/>
              <a:rect l="l" t="t" r="r" b="b"/>
              <a:pathLst>
                <a:path w="250" h="525">
                  <a:moveTo>
                    <a:pt x="203" y="457"/>
                  </a:moveTo>
                  <a:lnTo>
                    <a:pt x="184" y="455"/>
                  </a:lnTo>
                  <a:lnTo>
                    <a:pt x="166" y="459"/>
                  </a:lnTo>
                  <a:lnTo>
                    <a:pt x="149" y="465"/>
                  </a:lnTo>
                  <a:lnTo>
                    <a:pt x="134" y="475"/>
                  </a:lnTo>
                  <a:lnTo>
                    <a:pt x="118" y="484"/>
                  </a:lnTo>
                  <a:lnTo>
                    <a:pt x="104" y="496"/>
                  </a:lnTo>
                  <a:lnTo>
                    <a:pt x="93" y="509"/>
                  </a:lnTo>
                  <a:lnTo>
                    <a:pt x="81" y="523"/>
                  </a:lnTo>
                  <a:lnTo>
                    <a:pt x="68" y="525"/>
                  </a:lnTo>
                  <a:lnTo>
                    <a:pt x="56" y="523"/>
                  </a:lnTo>
                  <a:lnTo>
                    <a:pt x="44" y="515"/>
                  </a:lnTo>
                  <a:lnTo>
                    <a:pt x="37" y="508"/>
                  </a:lnTo>
                  <a:lnTo>
                    <a:pt x="29" y="494"/>
                  </a:lnTo>
                  <a:lnTo>
                    <a:pt x="23" y="482"/>
                  </a:lnTo>
                  <a:lnTo>
                    <a:pt x="17" y="471"/>
                  </a:lnTo>
                  <a:lnTo>
                    <a:pt x="13" y="459"/>
                  </a:lnTo>
                  <a:lnTo>
                    <a:pt x="7" y="446"/>
                  </a:lnTo>
                  <a:lnTo>
                    <a:pt x="6" y="434"/>
                  </a:lnTo>
                  <a:lnTo>
                    <a:pt x="4" y="420"/>
                  </a:lnTo>
                  <a:lnTo>
                    <a:pt x="4" y="409"/>
                  </a:lnTo>
                  <a:lnTo>
                    <a:pt x="2" y="395"/>
                  </a:lnTo>
                  <a:lnTo>
                    <a:pt x="0" y="382"/>
                  </a:lnTo>
                  <a:lnTo>
                    <a:pt x="0" y="370"/>
                  </a:lnTo>
                  <a:lnTo>
                    <a:pt x="2" y="358"/>
                  </a:lnTo>
                  <a:lnTo>
                    <a:pt x="2" y="345"/>
                  </a:lnTo>
                  <a:lnTo>
                    <a:pt x="4" y="331"/>
                  </a:lnTo>
                  <a:lnTo>
                    <a:pt x="6" y="319"/>
                  </a:lnTo>
                  <a:lnTo>
                    <a:pt x="9" y="308"/>
                  </a:lnTo>
                  <a:lnTo>
                    <a:pt x="9" y="294"/>
                  </a:lnTo>
                  <a:lnTo>
                    <a:pt x="13" y="283"/>
                  </a:lnTo>
                  <a:lnTo>
                    <a:pt x="15" y="269"/>
                  </a:lnTo>
                  <a:lnTo>
                    <a:pt x="21" y="257"/>
                  </a:lnTo>
                  <a:lnTo>
                    <a:pt x="25" y="244"/>
                  </a:lnTo>
                  <a:lnTo>
                    <a:pt x="29" y="232"/>
                  </a:lnTo>
                  <a:lnTo>
                    <a:pt x="35" y="221"/>
                  </a:lnTo>
                  <a:lnTo>
                    <a:pt x="40" y="209"/>
                  </a:lnTo>
                  <a:lnTo>
                    <a:pt x="44" y="197"/>
                  </a:lnTo>
                  <a:lnTo>
                    <a:pt x="50" y="186"/>
                  </a:lnTo>
                  <a:lnTo>
                    <a:pt x="56" y="174"/>
                  </a:lnTo>
                  <a:lnTo>
                    <a:pt x="62" y="162"/>
                  </a:lnTo>
                  <a:lnTo>
                    <a:pt x="73" y="141"/>
                  </a:lnTo>
                  <a:lnTo>
                    <a:pt x="87" y="122"/>
                  </a:lnTo>
                  <a:lnTo>
                    <a:pt x="101" y="102"/>
                  </a:lnTo>
                  <a:lnTo>
                    <a:pt x="116" y="85"/>
                  </a:lnTo>
                  <a:lnTo>
                    <a:pt x="134" y="65"/>
                  </a:lnTo>
                  <a:lnTo>
                    <a:pt x="151" y="50"/>
                  </a:lnTo>
                  <a:lnTo>
                    <a:pt x="168" y="32"/>
                  </a:lnTo>
                  <a:lnTo>
                    <a:pt x="188" y="19"/>
                  </a:lnTo>
                  <a:lnTo>
                    <a:pt x="198" y="13"/>
                  </a:lnTo>
                  <a:lnTo>
                    <a:pt x="207" y="7"/>
                  </a:lnTo>
                  <a:lnTo>
                    <a:pt x="219" y="1"/>
                  </a:lnTo>
                  <a:lnTo>
                    <a:pt x="230" y="0"/>
                  </a:lnTo>
                  <a:lnTo>
                    <a:pt x="236" y="11"/>
                  </a:lnTo>
                  <a:lnTo>
                    <a:pt x="236" y="27"/>
                  </a:lnTo>
                  <a:lnTo>
                    <a:pt x="234" y="40"/>
                  </a:lnTo>
                  <a:lnTo>
                    <a:pt x="232" y="56"/>
                  </a:lnTo>
                  <a:lnTo>
                    <a:pt x="227" y="69"/>
                  </a:lnTo>
                  <a:lnTo>
                    <a:pt x="223" y="85"/>
                  </a:lnTo>
                  <a:lnTo>
                    <a:pt x="219" y="100"/>
                  </a:lnTo>
                  <a:lnTo>
                    <a:pt x="219" y="118"/>
                  </a:lnTo>
                  <a:lnTo>
                    <a:pt x="213" y="129"/>
                  </a:lnTo>
                  <a:lnTo>
                    <a:pt x="209" y="143"/>
                  </a:lnTo>
                  <a:lnTo>
                    <a:pt x="205" y="157"/>
                  </a:lnTo>
                  <a:lnTo>
                    <a:pt x="203" y="172"/>
                  </a:lnTo>
                  <a:lnTo>
                    <a:pt x="199" y="186"/>
                  </a:lnTo>
                  <a:lnTo>
                    <a:pt x="198" y="203"/>
                  </a:lnTo>
                  <a:lnTo>
                    <a:pt x="198" y="217"/>
                  </a:lnTo>
                  <a:lnTo>
                    <a:pt x="198" y="234"/>
                  </a:lnTo>
                  <a:lnTo>
                    <a:pt x="196" y="248"/>
                  </a:lnTo>
                  <a:lnTo>
                    <a:pt x="198" y="263"/>
                  </a:lnTo>
                  <a:lnTo>
                    <a:pt x="198" y="277"/>
                  </a:lnTo>
                  <a:lnTo>
                    <a:pt x="203" y="292"/>
                  </a:lnTo>
                  <a:lnTo>
                    <a:pt x="207" y="306"/>
                  </a:lnTo>
                  <a:lnTo>
                    <a:pt x="215" y="319"/>
                  </a:lnTo>
                  <a:lnTo>
                    <a:pt x="225" y="331"/>
                  </a:lnTo>
                  <a:lnTo>
                    <a:pt x="236" y="345"/>
                  </a:lnTo>
                  <a:lnTo>
                    <a:pt x="246" y="350"/>
                  </a:lnTo>
                  <a:lnTo>
                    <a:pt x="250" y="364"/>
                  </a:lnTo>
                  <a:lnTo>
                    <a:pt x="246" y="378"/>
                  </a:lnTo>
                  <a:lnTo>
                    <a:pt x="244" y="391"/>
                  </a:lnTo>
                  <a:lnTo>
                    <a:pt x="236" y="409"/>
                  </a:lnTo>
                  <a:lnTo>
                    <a:pt x="230" y="428"/>
                  </a:lnTo>
                  <a:lnTo>
                    <a:pt x="219" y="446"/>
                  </a:lnTo>
                  <a:lnTo>
                    <a:pt x="203" y="4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1166760" y="3848040"/>
              <a:ext cx="338040" cy="696240"/>
            </a:xfrm>
            <a:custGeom>
              <a:avLst/>
              <a:gdLst/>
              <a:ahLst/>
              <a:rect l="l" t="t" r="r" b="b"/>
              <a:pathLst>
                <a:path w="427" h="876">
                  <a:moveTo>
                    <a:pt x="80" y="393"/>
                  </a:moveTo>
                  <a:lnTo>
                    <a:pt x="72" y="405"/>
                  </a:lnTo>
                  <a:lnTo>
                    <a:pt x="66" y="419"/>
                  </a:lnTo>
                  <a:lnTo>
                    <a:pt x="60" y="432"/>
                  </a:lnTo>
                  <a:lnTo>
                    <a:pt x="56" y="446"/>
                  </a:lnTo>
                  <a:lnTo>
                    <a:pt x="51" y="459"/>
                  </a:lnTo>
                  <a:lnTo>
                    <a:pt x="45" y="475"/>
                  </a:lnTo>
                  <a:lnTo>
                    <a:pt x="41" y="488"/>
                  </a:lnTo>
                  <a:lnTo>
                    <a:pt x="39" y="504"/>
                  </a:lnTo>
                  <a:lnTo>
                    <a:pt x="33" y="517"/>
                  </a:lnTo>
                  <a:lnTo>
                    <a:pt x="29" y="533"/>
                  </a:lnTo>
                  <a:lnTo>
                    <a:pt x="25" y="549"/>
                  </a:lnTo>
                  <a:lnTo>
                    <a:pt x="23" y="564"/>
                  </a:lnTo>
                  <a:lnTo>
                    <a:pt x="20" y="580"/>
                  </a:lnTo>
                  <a:lnTo>
                    <a:pt x="18" y="595"/>
                  </a:lnTo>
                  <a:lnTo>
                    <a:pt x="16" y="611"/>
                  </a:lnTo>
                  <a:lnTo>
                    <a:pt x="16" y="628"/>
                  </a:lnTo>
                  <a:lnTo>
                    <a:pt x="12" y="644"/>
                  </a:lnTo>
                  <a:lnTo>
                    <a:pt x="10" y="659"/>
                  </a:lnTo>
                  <a:lnTo>
                    <a:pt x="10" y="675"/>
                  </a:lnTo>
                  <a:lnTo>
                    <a:pt x="10" y="690"/>
                  </a:lnTo>
                  <a:lnTo>
                    <a:pt x="8" y="706"/>
                  </a:lnTo>
                  <a:lnTo>
                    <a:pt x="8" y="721"/>
                  </a:lnTo>
                  <a:lnTo>
                    <a:pt x="8" y="737"/>
                  </a:lnTo>
                  <a:lnTo>
                    <a:pt x="10" y="754"/>
                  </a:lnTo>
                  <a:lnTo>
                    <a:pt x="10" y="768"/>
                  </a:lnTo>
                  <a:lnTo>
                    <a:pt x="10" y="785"/>
                  </a:lnTo>
                  <a:lnTo>
                    <a:pt x="10" y="799"/>
                  </a:lnTo>
                  <a:lnTo>
                    <a:pt x="12" y="816"/>
                  </a:lnTo>
                  <a:lnTo>
                    <a:pt x="12" y="830"/>
                  </a:lnTo>
                  <a:lnTo>
                    <a:pt x="16" y="845"/>
                  </a:lnTo>
                  <a:lnTo>
                    <a:pt x="18" y="861"/>
                  </a:lnTo>
                  <a:lnTo>
                    <a:pt x="22" y="876"/>
                  </a:lnTo>
                  <a:lnTo>
                    <a:pt x="16" y="863"/>
                  </a:lnTo>
                  <a:lnTo>
                    <a:pt x="14" y="851"/>
                  </a:lnTo>
                  <a:lnTo>
                    <a:pt x="10" y="839"/>
                  </a:lnTo>
                  <a:lnTo>
                    <a:pt x="10" y="828"/>
                  </a:lnTo>
                  <a:lnTo>
                    <a:pt x="6" y="814"/>
                  </a:lnTo>
                  <a:lnTo>
                    <a:pt x="4" y="803"/>
                  </a:lnTo>
                  <a:lnTo>
                    <a:pt x="4" y="791"/>
                  </a:lnTo>
                  <a:lnTo>
                    <a:pt x="4" y="779"/>
                  </a:lnTo>
                  <a:lnTo>
                    <a:pt x="2" y="766"/>
                  </a:lnTo>
                  <a:lnTo>
                    <a:pt x="2" y="752"/>
                  </a:lnTo>
                  <a:lnTo>
                    <a:pt x="2" y="739"/>
                  </a:lnTo>
                  <a:lnTo>
                    <a:pt x="2" y="727"/>
                  </a:lnTo>
                  <a:lnTo>
                    <a:pt x="0" y="713"/>
                  </a:lnTo>
                  <a:lnTo>
                    <a:pt x="0" y="702"/>
                  </a:lnTo>
                  <a:lnTo>
                    <a:pt x="0" y="688"/>
                  </a:lnTo>
                  <a:lnTo>
                    <a:pt x="0" y="676"/>
                  </a:lnTo>
                  <a:lnTo>
                    <a:pt x="0" y="663"/>
                  </a:lnTo>
                  <a:lnTo>
                    <a:pt x="0" y="649"/>
                  </a:lnTo>
                  <a:lnTo>
                    <a:pt x="0" y="636"/>
                  </a:lnTo>
                  <a:lnTo>
                    <a:pt x="2" y="624"/>
                  </a:lnTo>
                  <a:lnTo>
                    <a:pt x="2" y="611"/>
                  </a:lnTo>
                  <a:lnTo>
                    <a:pt x="4" y="599"/>
                  </a:lnTo>
                  <a:lnTo>
                    <a:pt x="6" y="585"/>
                  </a:lnTo>
                  <a:lnTo>
                    <a:pt x="8" y="574"/>
                  </a:lnTo>
                  <a:lnTo>
                    <a:pt x="8" y="560"/>
                  </a:lnTo>
                  <a:lnTo>
                    <a:pt x="12" y="549"/>
                  </a:lnTo>
                  <a:lnTo>
                    <a:pt x="12" y="535"/>
                  </a:lnTo>
                  <a:lnTo>
                    <a:pt x="16" y="523"/>
                  </a:lnTo>
                  <a:lnTo>
                    <a:pt x="18" y="512"/>
                  </a:lnTo>
                  <a:lnTo>
                    <a:pt x="22" y="500"/>
                  </a:lnTo>
                  <a:lnTo>
                    <a:pt x="23" y="488"/>
                  </a:lnTo>
                  <a:lnTo>
                    <a:pt x="29" y="477"/>
                  </a:lnTo>
                  <a:lnTo>
                    <a:pt x="31" y="463"/>
                  </a:lnTo>
                  <a:lnTo>
                    <a:pt x="35" y="452"/>
                  </a:lnTo>
                  <a:lnTo>
                    <a:pt x="37" y="440"/>
                  </a:lnTo>
                  <a:lnTo>
                    <a:pt x="41" y="428"/>
                  </a:lnTo>
                  <a:lnTo>
                    <a:pt x="45" y="417"/>
                  </a:lnTo>
                  <a:lnTo>
                    <a:pt x="49" y="405"/>
                  </a:lnTo>
                  <a:lnTo>
                    <a:pt x="54" y="393"/>
                  </a:lnTo>
                  <a:lnTo>
                    <a:pt x="60" y="382"/>
                  </a:lnTo>
                  <a:lnTo>
                    <a:pt x="64" y="370"/>
                  </a:lnTo>
                  <a:lnTo>
                    <a:pt x="68" y="358"/>
                  </a:lnTo>
                  <a:lnTo>
                    <a:pt x="72" y="347"/>
                  </a:lnTo>
                  <a:lnTo>
                    <a:pt x="78" y="335"/>
                  </a:lnTo>
                  <a:lnTo>
                    <a:pt x="84" y="324"/>
                  </a:lnTo>
                  <a:lnTo>
                    <a:pt x="89" y="314"/>
                  </a:lnTo>
                  <a:lnTo>
                    <a:pt x="95" y="302"/>
                  </a:lnTo>
                  <a:lnTo>
                    <a:pt x="103" y="293"/>
                  </a:lnTo>
                  <a:lnTo>
                    <a:pt x="109" y="281"/>
                  </a:lnTo>
                  <a:lnTo>
                    <a:pt x="115" y="269"/>
                  </a:lnTo>
                  <a:lnTo>
                    <a:pt x="120" y="258"/>
                  </a:lnTo>
                  <a:lnTo>
                    <a:pt x="126" y="248"/>
                  </a:lnTo>
                  <a:lnTo>
                    <a:pt x="140" y="227"/>
                  </a:lnTo>
                  <a:lnTo>
                    <a:pt x="155" y="209"/>
                  </a:lnTo>
                  <a:lnTo>
                    <a:pt x="169" y="188"/>
                  </a:lnTo>
                  <a:lnTo>
                    <a:pt x="186" y="168"/>
                  </a:lnTo>
                  <a:lnTo>
                    <a:pt x="204" y="151"/>
                  </a:lnTo>
                  <a:lnTo>
                    <a:pt x="221" y="134"/>
                  </a:lnTo>
                  <a:lnTo>
                    <a:pt x="239" y="114"/>
                  </a:lnTo>
                  <a:lnTo>
                    <a:pt x="256" y="97"/>
                  </a:lnTo>
                  <a:lnTo>
                    <a:pt x="276" y="81"/>
                  </a:lnTo>
                  <a:lnTo>
                    <a:pt x="297" y="66"/>
                  </a:lnTo>
                  <a:lnTo>
                    <a:pt x="307" y="56"/>
                  </a:lnTo>
                  <a:lnTo>
                    <a:pt x="316" y="48"/>
                  </a:lnTo>
                  <a:lnTo>
                    <a:pt x="328" y="41"/>
                  </a:lnTo>
                  <a:lnTo>
                    <a:pt x="340" y="35"/>
                  </a:lnTo>
                  <a:lnTo>
                    <a:pt x="351" y="27"/>
                  </a:lnTo>
                  <a:lnTo>
                    <a:pt x="363" y="21"/>
                  </a:lnTo>
                  <a:lnTo>
                    <a:pt x="374" y="15"/>
                  </a:lnTo>
                  <a:lnTo>
                    <a:pt x="386" y="9"/>
                  </a:lnTo>
                  <a:lnTo>
                    <a:pt x="396" y="8"/>
                  </a:lnTo>
                  <a:lnTo>
                    <a:pt x="406" y="4"/>
                  </a:lnTo>
                  <a:lnTo>
                    <a:pt x="415" y="0"/>
                  </a:lnTo>
                  <a:lnTo>
                    <a:pt x="427" y="2"/>
                  </a:lnTo>
                  <a:lnTo>
                    <a:pt x="411" y="8"/>
                  </a:lnTo>
                  <a:lnTo>
                    <a:pt x="398" y="17"/>
                  </a:lnTo>
                  <a:lnTo>
                    <a:pt x="384" y="25"/>
                  </a:lnTo>
                  <a:lnTo>
                    <a:pt x="371" y="35"/>
                  </a:lnTo>
                  <a:lnTo>
                    <a:pt x="357" y="44"/>
                  </a:lnTo>
                  <a:lnTo>
                    <a:pt x="343" y="54"/>
                  </a:lnTo>
                  <a:lnTo>
                    <a:pt x="330" y="64"/>
                  </a:lnTo>
                  <a:lnTo>
                    <a:pt x="318" y="75"/>
                  </a:lnTo>
                  <a:lnTo>
                    <a:pt x="305" y="85"/>
                  </a:lnTo>
                  <a:lnTo>
                    <a:pt x="291" y="97"/>
                  </a:lnTo>
                  <a:lnTo>
                    <a:pt x="278" y="108"/>
                  </a:lnTo>
                  <a:lnTo>
                    <a:pt x="266" y="120"/>
                  </a:lnTo>
                  <a:lnTo>
                    <a:pt x="254" y="132"/>
                  </a:lnTo>
                  <a:lnTo>
                    <a:pt x="243" y="143"/>
                  </a:lnTo>
                  <a:lnTo>
                    <a:pt x="231" y="155"/>
                  </a:lnTo>
                  <a:lnTo>
                    <a:pt x="221" y="168"/>
                  </a:lnTo>
                  <a:lnTo>
                    <a:pt x="210" y="180"/>
                  </a:lnTo>
                  <a:lnTo>
                    <a:pt x="198" y="192"/>
                  </a:lnTo>
                  <a:lnTo>
                    <a:pt x="186" y="205"/>
                  </a:lnTo>
                  <a:lnTo>
                    <a:pt x="177" y="219"/>
                  </a:lnTo>
                  <a:lnTo>
                    <a:pt x="165" y="232"/>
                  </a:lnTo>
                  <a:lnTo>
                    <a:pt x="155" y="246"/>
                  </a:lnTo>
                  <a:lnTo>
                    <a:pt x="146" y="260"/>
                  </a:lnTo>
                  <a:lnTo>
                    <a:pt x="138" y="275"/>
                  </a:lnTo>
                  <a:lnTo>
                    <a:pt x="128" y="287"/>
                  </a:lnTo>
                  <a:lnTo>
                    <a:pt x="120" y="302"/>
                  </a:lnTo>
                  <a:lnTo>
                    <a:pt x="111" y="316"/>
                  </a:lnTo>
                  <a:lnTo>
                    <a:pt x="105" y="331"/>
                  </a:lnTo>
                  <a:lnTo>
                    <a:pt x="97" y="345"/>
                  </a:lnTo>
                  <a:lnTo>
                    <a:pt x="91" y="362"/>
                  </a:lnTo>
                  <a:lnTo>
                    <a:pt x="86" y="376"/>
                  </a:lnTo>
                  <a:lnTo>
                    <a:pt x="8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1261800" y="3865320"/>
              <a:ext cx="34920" cy="2520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2" y="23"/>
                  </a:moveTo>
                  <a:lnTo>
                    <a:pt x="0" y="21"/>
                  </a:lnTo>
                  <a:lnTo>
                    <a:pt x="6" y="14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45" y="4"/>
                  </a:lnTo>
                  <a:lnTo>
                    <a:pt x="33" y="14"/>
                  </a:lnTo>
                  <a:lnTo>
                    <a:pt x="24" y="27"/>
                  </a:lnTo>
                  <a:lnTo>
                    <a:pt x="12" y="31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1261800" y="4411440"/>
              <a:ext cx="30240" cy="58320"/>
            </a:xfrm>
            <a:custGeom>
              <a:avLst/>
              <a:gdLst/>
              <a:ahLst/>
              <a:rect l="l" t="t" r="r" b="b"/>
              <a:pathLst>
                <a:path w="39" h="74">
                  <a:moveTo>
                    <a:pt x="18" y="74"/>
                  </a:moveTo>
                  <a:lnTo>
                    <a:pt x="4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1" y="16"/>
                  </a:lnTo>
                  <a:lnTo>
                    <a:pt x="35" y="26"/>
                  </a:lnTo>
                  <a:lnTo>
                    <a:pt x="39" y="35"/>
                  </a:lnTo>
                  <a:lnTo>
                    <a:pt x="37" y="47"/>
                  </a:lnTo>
                  <a:lnTo>
                    <a:pt x="37" y="61"/>
                  </a:lnTo>
                  <a:lnTo>
                    <a:pt x="30" y="70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1247760" y="4671720"/>
              <a:ext cx="39600" cy="3456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50" y="45"/>
                  </a:moveTo>
                  <a:lnTo>
                    <a:pt x="35" y="35"/>
                  </a:lnTo>
                  <a:lnTo>
                    <a:pt x="19" y="27"/>
                  </a:lnTo>
                  <a:lnTo>
                    <a:pt x="4" y="16"/>
                  </a:lnTo>
                  <a:lnTo>
                    <a:pt x="0" y="0"/>
                  </a:lnTo>
                  <a:lnTo>
                    <a:pt x="14" y="4"/>
                  </a:lnTo>
                  <a:lnTo>
                    <a:pt x="27" y="16"/>
                  </a:lnTo>
                  <a:lnTo>
                    <a:pt x="39" y="29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1272960" y="4431960"/>
              <a:ext cx="6480" cy="2376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6" y="31"/>
                  </a:moveTo>
                  <a:lnTo>
                    <a:pt x="0" y="15"/>
                  </a:lnTo>
                  <a:lnTo>
                    <a:pt x="2" y="0"/>
                  </a:lnTo>
                  <a:lnTo>
                    <a:pt x="6" y="4"/>
                  </a:lnTo>
                  <a:lnTo>
                    <a:pt x="10" y="13"/>
                  </a:lnTo>
                  <a:lnTo>
                    <a:pt x="10" y="2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1247760" y="3898800"/>
              <a:ext cx="14040" cy="16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4" y="2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7" y="8"/>
                  </a:lnTo>
                  <a:lnTo>
                    <a:pt x="10" y="1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3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>
            <a:off x="72406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5" name="CALCPRNT" descr=""/>
          <p:cNvPicPr/>
          <p:nvPr/>
        </p:nvPicPr>
        <p:blipFill>
          <a:blip r:embed="rId1"/>
          <a:stretch/>
        </p:blipFill>
        <p:spPr>
          <a:xfrm>
            <a:off x="914400" y="2909880"/>
            <a:ext cx="3084480" cy="1798560"/>
          </a:xfrm>
          <a:prstGeom prst="rect">
            <a:avLst/>
          </a:prstGeom>
          <a:ln w="0">
            <a:noFill/>
          </a:ln>
        </p:spPr>
      </p:pic>
      <p:pic>
        <p:nvPicPr>
          <p:cNvPr id="6946" name="SEWING_M" descr=""/>
          <p:cNvPicPr/>
          <p:nvPr/>
        </p:nvPicPr>
        <p:blipFill>
          <a:blip r:embed="rId2"/>
          <a:stretch/>
        </p:blipFill>
        <p:spPr>
          <a:xfrm>
            <a:off x="5715000" y="2719440"/>
            <a:ext cx="2438280" cy="2181240"/>
          </a:xfrm>
          <a:prstGeom prst="rect">
            <a:avLst/>
          </a:prstGeom>
          <a:ln w="0">
            <a:noFill/>
          </a:ln>
        </p:spPr>
      </p:pic>
      <p:sp>
        <p:nvSpPr>
          <p:cNvPr id="6947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9" name="SYMETRY9" descr=""/>
          <p:cNvPicPr/>
          <p:nvPr/>
        </p:nvPicPr>
        <p:blipFill>
          <a:blip r:embed="rId1"/>
          <a:stretch/>
        </p:blipFill>
        <p:spPr>
          <a:xfrm>
            <a:off x="1066680" y="253836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6950" name="SYMETRY3" descr=""/>
          <p:cNvPicPr/>
          <p:nvPr/>
        </p:nvPicPr>
        <p:blipFill>
          <a:blip r:embed="rId2"/>
          <a:stretch/>
        </p:blipFill>
        <p:spPr>
          <a:xfrm>
            <a:off x="5791320" y="2617920"/>
            <a:ext cx="2384280" cy="2384280"/>
          </a:xfrm>
          <a:prstGeom prst="rect">
            <a:avLst/>
          </a:prstGeom>
          <a:ln w="0">
            <a:noFill/>
          </a:ln>
        </p:spPr>
      </p:pic>
      <p:sp>
        <p:nvSpPr>
          <p:cNvPr id="6951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3" name=""/>
          <p:cNvGrpSpPr/>
          <p:nvPr/>
        </p:nvGrpSpPr>
        <p:grpSpPr>
          <a:xfrm>
            <a:off x="762120" y="3314880"/>
            <a:ext cx="2941560" cy="990360"/>
            <a:chOff x="762120" y="3314880"/>
            <a:chExt cx="2941560" cy="990360"/>
          </a:xfrm>
        </p:grpSpPr>
        <p:sp>
          <p:nvSpPr>
            <p:cNvPr id="6954" name=""/>
            <p:cNvSpPr/>
            <p:nvPr/>
          </p:nvSpPr>
          <p:spPr>
            <a:xfrm>
              <a:off x="762120" y="3314880"/>
              <a:ext cx="2941560" cy="990360"/>
            </a:xfrm>
            <a:custGeom>
              <a:avLst/>
              <a:gdLst/>
              <a:ahLst/>
              <a:rect l="l" t="t" r="r" b="b"/>
              <a:pathLst>
                <a:path w="9266" h="3119">
                  <a:moveTo>
                    <a:pt x="2984" y="2630"/>
                  </a:moveTo>
                  <a:lnTo>
                    <a:pt x="2971" y="2629"/>
                  </a:lnTo>
                  <a:lnTo>
                    <a:pt x="2959" y="2623"/>
                  </a:lnTo>
                  <a:lnTo>
                    <a:pt x="2944" y="2604"/>
                  </a:lnTo>
                  <a:lnTo>
                    <a:pt x="2937" y="2573"/>
                  </a:lnTo>
                  <a:lnTo>
                    <a:pt x="2936" y="2533"/>
                  </a:lnTo>
                  <a:lnTo>
                    <a:pt x="2795" y="2533"/>
                  </a:lnTo>
                  <a:lnTo>
                    <a:pt x="2785" y="2594"/>
                  </a:lnTo>
                  <a:lnTo>
                    <a:pt x="2771" y="2654"/>
                  </a:lnTo>
                  <a:lnTo>
                    <a:pt x="2751" y="2711"/>
                  </a:lnTo>
                  <a:lnTo>
                    <a:pt x="2727" y="2764"/>
                  </a:lnTo>
                  <a:lnTo>
                    <a:pt x="2697" y="2816"/>
                  </a:lnTo>
                  <a:lnTo>
                    <a:pt x="2663" y="2864"/>
                  </a:lnTo>
                  <a:lnTo>
                    <a:pt x="2625" y="2909"/>
                  </a:lnTo>
                  <a:lnTo>
                    <a:pt x="2583" y="2951"/>
                  </a:lnTo>
                  <a:lnTo>
                    <a:pt x="2538" y="2989"/>
                  </a:lnTo>
                  <a:lnTo>
                    <a:pt x="2489" y="3022"/>
                  </a:lnTo>
                  <a:lnTo>
                    <a:pt x="2438" y="3050"/>
                  </a:lnTo>
                  <a:lnTo>
                    <a:pt x="2383" y="3074"/>
                  </a:lnTo>
                  <a:lnTo>
                    <a:pt x="2328" y="3093"/>
                  </a:lnTo>
                  <a:lnTo>
                    <a:pt x="2268" y="3107"/>
                  </a:lnTo>
                  <a:lnTo>
                    <a:pt x="2207" y="3117"/>
                  </a:lnTo>
                  <a:lnTo>
                    <a:pt x="2146" y="3119"/>
                  </a:lnTo>
                  <a:lnTo>
                    <a:pt x="2084" y="3117"/>
                  </a:lnTo>
                  <a:lnTo>
                    <a:pt x="2023" y="3107"/>
                  </a:lnTo>
                  <a:lnTo>
                    <a:pt x="1965" y="3093"/>
                  </a:lnTo>
                  <a:lnTo>
                    <a:pt x="1908" y="3074"/>
                  </a:lnTo>
                  <a:lnTo>
                    <a:pt x="1854" y="3050"/>
                  </a:lnTo>
                  <a:lnTo>
                    <a:pt x="1802" y="3022"/>
                  </a:lnTo>
                  <a:lnTo>
                    <a:pt x="1755" y="2989"/>
                  </a:lnTo>
                  <a:lnTo>
                    <a:pt x="1709" y="2951"/>
                  </a:lnTo>
                  <a:lnTo>
                    <a:pt x="1668" y="2909"/>
                  </a:lnTo>
                  <a:lnTo>
                    <a:pt x="1630" y="2864"/>
                  </a:lnTo>
                  <a:lnTo>
                    <a:pt x="1595" y="2816"/>
                  </a:lnTo>
                  <a:lnTo>
                    <a:pt x="1566" y="2764"/>
                  </a:lnTo>
                  <a:lnTo>
                    <a:pt x="1542" y="2711"/>
                  </a:lnTo>
                  <a:lnTo>
                    <a:pt x="1522" y="2654"/>
                  </a:lnTo>
                  <a:lnTo>
                    <a:pt x="1507" y="2594"/>
                  </a:lnTo>
                  <a:lnTo>
                    <a:pt x="1498" y="2533"/>
                  </a:lnTo>
                  <a:lnTo>
                    <a:pt x="1354" y="2533"/>
                  </a:lnTo>
                  <a:lnTo>
                    <a:pt x="1350" y="2567"/>
                  </a:lnTo>
                  <a:lnTo>
                    <a:pt x="1343" y="2592"/>
                  </a:lnTo>
                  <a:lnTo>
                    <a:pt x="1329" y="2606"/>
                  </a:lnTo>
                  <a:lnTo>
                    <a:pt x="1304" y="2610"/>
                  </a:lnTo>
                  <a:lnTo>
                    <a:pt x="447" y="2537"/>
                  </a:lnTo>
                  <a:lnTo>
                    <a:pt x="430" y="2488"/>
                  </a:lnTo>
                  <a:lnTo>
                    <a:pt x="108" y="2450"/>
                  </a:lnTo>
                  <a:lnTo>
                    <a:pt x="87" y="2444"/>
                  </a:lnTo>
                  <a:lnTo>
                    <a:pt x="68" y="2431"/>
                  </a:lnTo>
                  <a:lnTo>
                    <a:pt x="54" y="2413"/>
                  </a:lnTo>
                  <a:lnTo>
                    <a:pt x="44" y="2391"/>
                  </a:lnTo>
                  <a:lnTo>
                    <a:pt x="3" y="2211"/>
                  </a:lnTo>
                  <a:lnTo>
                    <a:pt x="0" y="2193"/>
                  </a:lnTo>
                  <a:lnTo>
                    <a:pt x="3" y="2178"/>
                  </a:lnTo>
                  <a:lnTo>
                    <a:pt x="17" y="2148"/>
                  </a:lnTo>
                  <a:lnTo>
                    <a:pt x="29" y="2136"/>
                  </a:lnTo>
                  <a:lnTo>
                    <a:pt x="42" y="2128"/>
                  </a:lnTo>
                  <a:lnTo>
                    <a:pt x="58" y="2122"/>
                  </a:lnTo>
                  <a:lnTo>
                    <a:pt x="75" y="2120"/>
                  </a:lnTo>
                  <a:lnTo>
                    <a:pt x="226" y="2120"/>
                  </a:lnTo>
                  <a:lnTo>
                    <a:pt x="183" y="1950"/>
                  </a:lnTo>
                  <a:lnTo>
                    <a:pt x="133" y="1950"/>
                  </a:lnTo>
                  <a:lnTo>
                    <a:pt x="169" y="1312"/>
                  </a:lnTo>
                  <a:lnTo>
                    <a:pt x="219" y="1312"/>
                  </a:lnTo>
                  <a:lnTo>
                    <a:pt x="222" y="1274"/>
                  </a:lnTo>
                  <a:lnTo>
                    <a:pt x="232" y="1239"/>
                  </a:lnTo>
                  <a:lnTo>
                    <a:pt x="249" y="1206"/>
                  </a:lnTo>
                  <a:lnTo>
                    <a:pt x="270" y="1178"/>
                  </a:lnTo>
                  <a:lnTo>
                    <a:pt x="296" y="1153"/>
                  </a:lnTo>
                  <a:lnTo>
                    <a:pt x="327" y="1134"/>
                  </a:lnTo>
                  <a:lnTo>
                    <a:pt x="360" y="1120"/>
                  </a:lnTo>
                  <a:lnTo>
                    <a:pt x="397" y="1113"/>
                  </a:lnTo>
                  <a:lnTo>
                    <a:pt x="875" y="1059"/>
                  </a:lnTo>
                  <a:lnTo>
                    <a:pt x="945" y="1049"/>
                  </a:lnTo>
                  <a:lnTo>
                    <a:pt x="1015" y="1031"/>
                  </a:lnTo>
                  <a:lnTo>
                    <a:pt x="1082" y="1007"/>
                  </a:lnTo>
                  <a:lnTo>
                    <a:pt x="1146" y="978"/>
                  </a:lnTo>
                  <a:lnTo>
                    <a:pt x="1209" y="944"/>
                  </a:lnTo>
                  <a:lnTo>
                    <a:pt x="1267" y="905"/>
                  </a:lnTo>
                  <a:lnTo>
                    <a:pt x="1323" y="860"/>
                  </a:lnTo>
                  <a:lnTo>
                    <a:pt x="1374" y="810"/>
                  </a:lnTo>
                  <a:lnTo>
                    <a:pt x="1940" y="206"/>
                  </a:lnTo>
                  <a:lnTo>
                    <a:pt x="1960" y="189"/>
                  </a:lnTo>
                  <a:lnTo>
                    <a:pt x="1991" y="173"/>
                  </a:lnTo>
                  <a:lnTo>
                    <a:pt x="2079" y="144"/>
                  </a:lnTo>
                  <a:lnTo>
                    <a:pt x="2202" y="116"/>
                  </a:lnTo>
                  <a:lnTo>
                    <a:pt x="2357" y="93"/>
                  </a:lnTo>
                  <a:lnTo>
                    <a:pt x="2540" y="70"/>
                  </a:lnTo>
                  <a:lnTo>
                    <a:pt x="2748" y="50"/>
                  </a:lnTo>
                  <a:lnTo>
                    <a:pt x="2979" y="35"/>
                  </a:lnTo>
                  <a:lnTo>
                    <a:pt x="3229" y="20"/>
                  </a:lnTo>
                  <a:lnTo>
                    <a:pt x="3494" y="11"/>
                  </a:lnTo>
                  <a:lnTo>
                    <a:pt x="3771" y="4"/>
                  </a:lnTo>
                  <a:lnTo>
                    <a:pt x="4058" y="0"/>
                  </a:lnTo>
                  <a:lnTo>
                    <a:pt x="4352" y="1"/>
                  </a:lnTo>
                  <a:lnTo>
                    <a:pt x="4649" y="6"/>
                  </a:lnTo>
                  <a:lnTo>
                    <a:pt x="4945" y="14"/>
                  </a:lnTo>
                  <a:lnTo>
                    <a:pt x="5239" y="27"/>
                  </a:lnTo>
                  <a:lnTo>
                    <a:pt x="5526" y="44"/>
                  </a:lnTo>
                  <a:lnTo>
                    <a:pt x="5581" y="84"/>
                  </a:lnTo>
                  <a:lnTo>
                    <a:pt x="5526" y="158"/>
                  </a:lnTo>
                  <a:lnTo>
                    <a:pt x="6043" y="994"/>
                  </a:lnTo>
                  <a:lnTo>
                    <a:pt x="6462" y="894"/>
                  </a:lnTo>
                  <a:lnTo>
                    <a:pt x="8514" y="1062"/>
                  </a:lnTo>
                  <a:lnTo>
                    <a:pt x="8637" y="1077"/>
                  </a:lnTo>
                  <a:lnTo>
                    <a:pt x="8737" y="1098"/>
                  </a:lnTo>
                  <a:lnTo>
                    <a:pt x="8814" y="1125"/>
                  </a:lnTo>
                  <a:lnTo>
                    <a:pt x="8870" y="1153"/>
                  </a:lnTo>
                  <a:lnTo>
                    <a:pt x="8905" y="1180"/>
                  </a:lnTo>
                  <a:lnTo>
                    <a:pt x="8923" y="1206"/>
                  </a:lnTo>
                  <a:lnTo>
                    <a:pt x="8926" y="1218"/>
                  </a:lnTo>
                  <a:lnTo>
                    <a:pt x="8923" y="1228"/>
                  </a:lnTo>
                  <a:lnTo>
                    <a:pt x="8907" y="1243"/>
                  </a:lnTo>
                  <a:lnTo>
                    <a:pt x="9037" y="1780"/>
                  </a:lnTo>
                  <a:lnTo>
                    <a:pt x="9047" y="1833"/>
                  </a:lnTo>
                  <a:lnTo>
                    <a:pt x="9048" y="1875"/>
                  </a:lnTo>
                  <a:lnTo>
                    <a:pt x="9045" y="1911"/>
                  </a:lnTo>
                  <a:lnTo>
                    <a:pt x="9036" y="1944"/>
                  </a:lnTo>
                  <a:lnTo>
                    <a:pt x="9017" y="2019"/>
                  </a:lnTo>
                  <a:lnTo>
                    <a:pt x="9009" y="2067"/>
                  </a:lnTo>
                  <a:lnTo>
                    <a:pt x="9007" y="2130"/>
                  </a:lnTo>
                  <a:lnTo>
                    <a:pt x="9192" y="2130"/>
                  </a:lnTo>
                  <a:lnTo>
                    <a:pt x="9220" y="2136"/>
                  </a:lnTo>
                  <a:lnTo>
                    <a:pt x="9244" y="2152"/>
                  </a:lnTo>
                  <a:lnTo>
                    <a:pt x="9260" y="2175"/>
                  </a:lnTo>
                  <a:lnTo>
                    <a:pt x="9266" y="2204"/>
                  </a:lnTo>
                  <a:lnTo>
                    <a:pt x="9266" y="2394"/>
                  </a:lnTo>
                  <a:lnTo>
                    <a:pt x="9261" y="2421"/>
                  </a:lnTo>
                  <a:lnTo>
                    <a:pt x="9247" y="2444"/>
                  </a:lnTo>
                  <a:lnTo>
                    <a:pt x="9226" y="2459"/>
                  </a:lnTo>
                  <a:lnTo>
                    <a:pt x="9200" y="2467"/>
                  </a:lnTo>
                  <a:lnTo>
                    <a:pt x="8522" y="2542"/>
                  </a:lnTo>
                  <a:lnTo>
                    <a:pt x="8493" y="2543"/>
                  </a:lnTo>
                  <a:lnTo>
                    <a:pt x="8470" y="2540"/>
                  </a:lnTo>
                  <a:lnTo>
                    <a:pt x="8454" y="2533"/>
                  </a:lnTo>
                  <a:lnTo>
                    <a:pt x="8442" y="2521"/>
                  </a:lnTo>
                  <a:lnTo>
                    <a:pt x="8434" y="2505"/>
                  </a:lnTo>
                  <a:lnTo>
                    <a:pt x="8429" y="2486"/>
                  </a:lnTo>
                  <a:lnTo>
                    <a:pt x="8425" y="2438"/>
                  </a:lnTo>
                  <a:lnTo>
                    <a:pt x="8296" y="2438"/>
                  </a:lnTo>
                  <a:lnTo>
                    <a:pt x="8296" y="2507"/>
                  </a:lnTo>
                  <a:lnTo>
                    <a:pt x="8287" y="2574"/>
                  </a:lnTo>
                  <a:lnTo>
                    <a:pt x="8273" y="2638"/>
                  </a:lnTo>
                  <a:lnTo>
                    <a:pt x="8253" y="2701"/>
                  </a:lnTo>
                  <a:lnTo>
                    <a:pt x="8227" y="2761"/>
                  </a:lnTo>
                  <a:lnTo>
                    <a:pt x="8195" y="2816"/>
                  </a:lnTo>
                  <a:lnTo>
                    <a:pt x="8158" y="2869"/>
                  </a:lnTo>
                  <a:lnTo>
                    <a:pt x="8116" y="2917"/>
                  </a:lnTo>
                  <a:lnTo>
                    <a:pt x="8069" y="2963"/>
                  </a:lnTo>
                  <a:lnTo>
                    <a:pt x="8019" y="3002"/>
                  </a:lnTo>
                  <a:lnTo>
                    <a:pt x="7964" y="3036"/>
                  </a:lnTo>
                  <a:lnTo>
                    <a:pt x="7906" y="3065"/>
                  </a:lnTo>
                  <a:lnTo>
                    <a:pt x="7844" y="3088"/>
                  </a:lnTo>
                  <a:lnTo>
                    <a:pt x="7780" y="3105"/>
                  </a:lnTo>
                  <a:lnTo>
                    <a:pt x="7713" y="3116"/>
                  </a:lnTo>
                  <a:lnTo>
                    <a:pt x="7644" y="3119"/>
                  </a:lnTo>
                  <a:lnTo>
                    <a:pt x="7575" y="3116"/>
                  </a:lnTo>
                  <a:lnTo>
                    <a:pt x="7509" y="3105"/>
                  </a:lnTo>
                  <a:lnTo>
                    <a:pt x="7445" y="3088"/>
                  </a:lnTo>
                  <a:lnTo>
                    <a:pt x="7384" y="3065"/>
                  </a:lnTo>
                  <a:lnTo>
                    <a:pt x="7326" y="3036"/>
                  </a:lnTo>
                  <a:lnTo>
                    <a:pt x="7271" y="3002"/>
                  </a:lnTo>
                  <a:lnTo>
                    <a:pt x="7220" y="2961"/>
                  </a:lnTo>
                  <a:lnTo>
                    <a:pt x="7174" y="2917"/>
                  </a:lnTo>
                  <a:lnTo>
                    <a:pt x="7132" y="2869"/>
                  </a:lnTo>
                  <a:lnTo>
                    <a:pt x="7094" y="2816"/>
                  </a:lnTo>
                  <a:lnTo>
                    <a:pt x="7062" y="2759"/>
                  </a:lnTo>
                  <a:lnTo>
                    <a:pt x="7036" y="2700"/>
                  </a:lnTo>
                  <a:lnTo>
                    <a:pt x="7016" y="2638"/>
                  </a:lnTo>
                  <a:lnTo>
                    <a:pt x="7001" y="2573"/>
                  </a:lnTo>
                  <a:lnTo>
                    <a:pt x="6994" y="2507"/>
                  </a:lnTo>
                  <a:lnTo>
                    <a:pt x="6993" y="2438"/>
                  </a:lnTo>
                  <a:lnTo>
                    <a:pt x="6861" y="2438"/>
                  </a:lnTo>
                  <a:lnTo>
                    <a:pt x="6863" y="2511"/>
                  </a:lnTo>
                  <a:lnTo>
                    <a:pt x="6860" y="2573"/>
                  </a:lnTo>
                  <a:lnTo>
                    <a:pt x="6854" y="2597"/>
                  </a:lnTo>
                  <a:lnTo>
                    <a:pt x="6842" y="2615"/>
                  </a:lnTo>
                  <a:lnTo>
                    <a:pt x="6825" y="2627"/>
                  </a:lnTo>
                  <a:lnTo>
                    <a:pt x="6803" y="2630"/>
                  </a:lnTo>
                  <a:lnTo>
                    <a:pt x="2984" y="2630"/>
                  </a:lnTo>
                  <a:lnTo>
                    <a:pt x="3510" y="1062"/>
                  </a:lnTo>
                  <a:lnTo>
                    <a:pt x="1871" y="1043"/>
                  </a:lnTo>
                  <a:lnTo>
                    <a:pt x="1853" y="1040"/>
                  </a:lnTo>
                  <a:lnTo>
                    <a:pt x="1838" y="1033"/>
                  </a:lnTo>
                  <a:lnTo>
                    <a:pt x="1825" y="1021"/>
                  </a:lnTo>
                  <a:lnTo>
                    <a:pt x="1815" y="1007"/>
                  </a:lnTo>
                  <a:lnTo>
                    <a:pt x="1809" y="989"/>
                  </a:lnTo>
                  <a:lnTo>
                    <a:pt x="1809" y="973"/>
                  </a:lnTo>
                  <a:lnTo>
                    <a:pt x="1813" y="956"/>
                  </a:lnTo>
                  <a:lnTo>
                    <a:pt x="1822" y="940"/>
                  </a:lnTo>
                  <a:lnTo>
                    <a:pt x="2241" y="414"/>
                  </a:lnTo>
                  <a:lnTo>
                    <a:pt x="2280" y="371"/>
                  </a:lnTo>
                  <a:lnTo>
                    <a:pt x="2303" y="350"/>
                  </a:lnTo>
                  <a:lnTo>
                    <a:pt x="2331" y="331"/>
                  </a:lnTo>
                  <a:lnTo>
                    <a:pt x="2364" y="314"/>
                  </a:lnTo>
                  <a:lnTo>
                    <a:pt x="2405" y="297"/>
                  </a:lnTo>
                  <a:lnTo>
                    <a:pt x="2514" y="265"/>
                  </a:lnTo>
                  <a:lnTo>
                    <a:pt x="2584" y="251"/>
                  </a:lnTo>
                  <a:lnTo>
                    <a:pt x="2667" y="236"/>
                  </a:lnTo>
                  <a:lnTo>
                    <a:pt x="2878" y="211"/>
                  </a:lnTo>
                  <a:lnTo>
                    <a:pt x="3155" y="188"/>
                  </a:lnTo>
                  <a:lnTo>
                    <a:pt x="3510" y="166"/>
                  </a:lnTo>
                  <a:lnTo>
                    <a:pt x="3510" y="1062"/>
                  </a:lnTo>
                  <a:lnTo>
                    <a:pt x="2984" y="2630"/>
                  </a:lnTo>
                  <a:lnTo>
                    <a:pt x="3769" y="1064"/>
                  </a:lnTo>
                  <a:lnTo>
                    <a:pt x="3769" y="153"/>
                  </a:lnTo>
                  <a:lnTo>
                    <a:pt x="4234" y="132"/>
                  </a:lnTo>
                  <a:lnTo>
                    <a:pt x="4606" y="122"/>
                  </a:lnTo>
                  <a:lnTo>
                    <a:pt x="4895" y="124"/>
                  </a:lnTo>
                  <a:lnTo>
                    <a:pt x="5011" y="128"/>
                  </a:lnTo>
                  <a:lnTo>
                    <a:pt x="5113" y="137"/>
                  </a:lnTo>
                  <a:lnTo>
                    <a:pt x="5198" y="146"/>
                  </a:lnTo>
                  <a:lnTo>
                    <a:pt x="5271" y="158"/>
                  </a:lnTo>
                  <a:lnTo>
                    <a:pt x="5330" y="173"/>
                  </a:lnTo>
                  <a:lnTo>
                    <a:pt x="5379" y="191"/>
                  </a:lnTo>
                  <a:lnTo>
                    <a:pt x="5419" y="210"/>
                  </a:lnTo>
                  <a:lnTo>
                    <a:pt x="5450" y="233"/>
                  </a:lnTo>
                  <a:lnTo>
                    <a:pt x="5475" y="258"/>
                  </a:lnTo>
                  <a:lnTo>
                    <a:pt x="5494" y="284"/>
                  </a:lnTo>
                  <a:lnTo>
                    <a:pt x="5943" y="1007"/>
                  </a:lnTo>
                  <a:lnTo>
                    <a:pt x="5949" y="1021"/>
                  </a:lnTo>
                  <a:lnTo>
                    <a:pt x="5949" y="1035"/>
                  </a:lnTo>
                  <a:lnTo>
                    <a:pt x="5942" y="1049"/>
                  </a:lnTo>
                  <a:lnTo>
                    <a:pt x="5926" y="1062"/>
                  </a:lnTo>
                  <a:lnTo>
                    <a:pt x="5901" y="1071"/>
                  </a:lnTo>
                  <a:lnTo>
                    <a:pt x="5865" y="1079"/>
                  </a:lnTo>
                  <a:lnTo>
                    <a:pt x="5760" y="1085"/>
                  </a:lnTo>
                  <a:lnTo>
                    <a:pt x="5697" y="1019"/>
                  </a:lnTo>
                  <a:lnTo>
                    <a:pt x="5701" y="1021"/>
                  </a:lnTo>
                  <a:lnTo>
                    <a:pt x="5700" y="1020"/>
                  </a:lnTo>
                  <a:lnTo>
                    <a:pt x="5697" y="1019"/>
                  </a:lnTo>
                  <a:lnTo>
                    <a:pt x="5719" y="1012"/>
                  </a:lnTo>
                  <a:lnTo>
                    <a:pt x="5734" y="1003"/>
                  </a:lnTo>
                  <a:lnTo>
                    <a:pt x="5742" y="993"/>
                  </a:lnTo>
                  <a:lnTo>
                    <a:pt x="5746" y="981"/>
                  </a:lnTo>
                  <a:lnTo>
                    <a:pt x="5745" y="969"/>
                  </a:lnTo>
                  <a:lnTo>
                    <a:pt x="5738" y="956"/>
                  </a:lnTo>
                  <a:lnTo>
                    <a:pt x="5712" y="930"/>
                  </a:lnTo>
                  <a:lnTo>
                    <a:pt x="5669" y="906"/>
                  </a:lnTo>
                  <a:lnTo>
                    <a:pt x="5614" y="885"/>
                  </a:lnTo>
                  <a:lnTo>
                    <a:pt x="5549" y="870"/>
                  </a:lnTo>
                  <a:lnTo>
                    <a:pt x="5476" y="866"/>
                  </a:lnTo>
                  <a:lnTo>
                    <a:pt x="5540" y="1022"/>
                  </a:lnTo>
                  <a:lnTo>
                    <a:pt x="5573" y="1025"/>
                  </a:lnTo>
                  <a:lnTo>
                    <a:pt x="5596" y="1083"/>
                  </a:lnTo>
                  <a:lnTo>
                    <a:pt x="3769" y="1064"/>
                  </a:lnTo>
                  <a:lnTo>
                    <a:pt x="2984" y="2630"/>
                  </a:lnTo>
                  <a:close/>
                </a:path>
              </a:pathLst>
            </a:cu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762120" y="3314880"/>
              <a:ext cx="2941560" cy="990360"/>
            </a:xfrm>
            <a:custGeom>
              <a:avLst/>
              <a:gdLst/>
              <a:ahLst/>
              <a:rect l="l" t="t" r="r" b="b"/>
              <a:pathLst>
                <a:path w="9266" h="3119">
                  <a:moveTo>
                    <a:pt x="2984" y="2630"/>
                  </a:moveTo>
                  <a:lnTo>
                    <a:pt x="2971" y="2629"/>
                  </a:lnTo>
                  <a:lnTo>
                    <a:pt x="2959" y="2623"/>
                  </a:lnTo>
                  <a:lnTo>
                    <a:pt x="2944" y="2604"/>
                  </a:lnTo>
                  <a:lnTo>
                    <a:pt x="2937" y="2573"/>
                  </a:lnTo>
                  <a:lnTo>
                    <a:pt x="2936" y="2533"/>
                  </a:lnTo>
                  <a:lnTo>
                    <a:pt x="2795" y="2533"/>
                  </a:lnTo>
                  <a:lnTo>
                    <a:pt x="2785" y="2594"/>
                  </a:lnTo>
                  <a:lnTo>
                    <a:pt x="2771" y="2654"/>
                  </a:lnTo>
                  <a:lnTo>
                    <a:pt x="2751" y="2711"/>
                  </a:lnTo>
                  <a:lnTo>
                    <a:pt x="2727" y="2764"/>
                  </a:lnTo>
                  <a:lnTo>
                    <a:pt x="2697" y="2816"/>
                  </a:lnTo>
                  <a:lnTo>
                    <a:pt x="2663" y="2864"/>
                  </a:lnTo>
                  <a:lnTo>
                    <a:pt x="2625" y="2909"/>
                  </a:lnTo>
                  <a:lnTo>
                    <a:pt x="2583" y="2951"/>
                  </a:lnTo>
                  <a:lnTo>
                    <a:pt x="2538" y="2989"/>
                  </a:lnTo>
                  <a:lnTo>
                    <a:pt x="2489" y="3022"/>
                  </a:lnTo>
                  <a:lnTo>
                    <a:pt x="2438" y="3050"/>
                  </a:lnTo>
                  <a:lnTo>
                    <a:pt x="2383" y="3074"/>
                  </a:lnTo>
                  <a:lnTo>
                    <a:pt x="2328" y="3093"/>
                  </a:lnTo>
                  <a:lnTo>
                    <a:pt x="2268" y="3107"/>
                  </a:lnTo>
                  <a:lnTo>
                    <a:pt x="2207" y="3117"/>
                  </a:lnTo>
                  <a:lnTo>
                    <a:pt x="2146" y="3119"/>
                  </a:lnTo>
                  <a:lnTo>
                    <a:pt x="2084" y="3117"/>
                  </a:lnTo>
                  <a:lnTo>
                    <a:pt x="2023" y="3107"/>
                  </a:lnTo>
                  <a:lnTo>
                    <a:pt x="1965" y="3093"/>
                  </a:lnTo>
                  <a:lnTo>
                    <a:pt x="1908" y="3074"/>
                  </a:lnTo>
                  <a:lnTo>
                    <a:pt x="1854" y="3050"/>
                  </a:lnTo>
                  <a:lnTo>
                    <a:pt x="1802" y="3022"/>
                  </a:lnTo>
                  <a:lnTo>
                    <a:pt x="1755" y="2989"/>
                  </a:lnTo>
                  <a:lnTo>
                    <a:pt x="1709" y="2951"/>
                  </a:lnTo>
                  <a:lnTo>
                    <a:pt x="1668" y="2909"/>
                  </a:lnTo>
                  <a:lnTo>
                    <a:pt x="1630" y="2864"/>
                  </a:lnTo>
                  <a:lnTo>
                    <a:pt x="1595" y="2816"/>
                  </a:lnTo>
                  <a:lnTo>
                    <a:pt x="1566" y="2764"/>
                  </a:lnTo>
                  <a:lnTo>
                    <a:pt x="1542" y="2711"/>
                  </a:lnTo>
                  <a:lnTo>
                    <a:pt x="1522" y="2654"/>
                  </a:lnTo>
                  <a:lnTo>
                    <a:pt x="1507" y="2594"/>
                  </a:lnTo>
                  <a:lnTo>
                    <a:pt x="1498" y="2533"/>
                  </a:lnTo>
                  <a:lnTo>
                    <a:pt x="1354" y="2533"/>
                  </a:lnTo>
                  <a:lnTo>
                    <a:pt x="1350" y="2567"/>
                  </a:lnTo>
                  <a:lnTo>
                    <a:pt x="1343" y="2592"/>
                  </a:lnTo>
                  <a:lnTo>
                    <a:pt x="1329" y="2606"/>
                  </a:lnTo>
                  <a:lnTo>
                    <a:pt x="1304" y="2610"/>
                  </a:lnTo>
                  <a:lnTo>
                    <a:pt x="447" y="2537"/>
                  </a:lnTo>
                  <a:lnTo>
                    <a:pt x="430" y="2488"/>
                  </a:lnTo>
                  <a:lnTo>
                    <a:pt x="108" y="2450"/>
                  </a:lnTo>
                  <a:lnTo>
                    <a:pt x="87" y="2444"/>
                  </a:lnTo>
                  <a:lnTo>
                    <a:pt x="68" y="2431"/>
                  </a:lnTo>
                  <a:lnTo>
                    <a:pt x="54" y="2413"/>
                  </a:lnTo>
                  <a:lnTo>
                    <a:pt x="44" y="2391"/>
                  </a:lnTo>
                  <a:lnTo>
                    <a:pt x="3" y="2211"/>
                  </a:lnTo>
                  <a:lnTo>
                    <a:pt x="0" y="2193"/>
                  </a:lnTo>
                  <a:lnTo>
                    <a:pt x="3" y="2178"/>
                  </a:lnTo>
                  <a:lnTo>
                    <a:pt x="17" y="2148"/>
                  </a:lnTo>
                  <a:lnTo>
                    <a:pt x="29" y="2136"/>
                  </a:lnTo>
                  <a:lnTo>
                    <a:pt x="42" y="2128"/>
                  </a:lnTo>
                  <a:lnTo>
                    <a:pt x="58" y="2122"/>
                  </a:lnTo>
                  <a:lnTo>
                    <a:pt x="75" y="2120"/>
                  </a:lnTo>
                  <a:lnTo>
                    <a:pt x="226" y="2120"/>
                  </a:lnTo>
                  <a:lnTo>
                    <a:pt x="183" y="1950"/>
                  </a:lnTo>
                  <a:lnTo>
                    <a:pt x="133" y="1950"/>
                  </a:lnTo>
                  <a:lnTo>
                    <a:pt x="169" y="1312"/>
                  </a:lnTo>
                  <a:lnTo>
                    <a:pt x="219" y="1312"/>
                  </a:lnTo>
                  <a:lnTo>
                    <a:pt x="222" y="1274"/>
                  </a:lnTo>
                  <a:lnTo>
                    <a:pt x="232" y="1239"/>
                  </a:lnTo>
                  <a:lnTo>
                    <a:pt x="249" y="1206"/>
                  </a:lnTo>
                  <a:lnTo>
                    <a:pt x="270" y="1178"/>
                  </a:lnTo>
                  <a:lnTo>
                    <a:pt x="296" y="1153"/>
                  </a:lnTo>
                  <a:lnTo>
                    <a:pt x="327" y="1134"/>
                  </a:lnTo>
                  <a:lnTo>
                    <a:pt x="360" y="1120"/>
                  </a:lnTo>
                  <a:lnTo>
                    <a:pt x="397" y="1113"/>
                  </a:lnTo>
                  <a:lnTo>
                    <a:pt x="875" y="1059"/>
                  </a:lnTo>
                  <a:lnTo>
                    <a:pt x="945" y="1049"/>
                  </a:lnTo>
                  <a:lnTo>
                    <a:pt x="1015" y="1031"/>
                  </a:lnTo>
                  <a:lnTo>
                    <a:pt x="1082" y="1007"/>
                  </a:lnTo>
                  <a:lnTo>
                    <a:pt x="1146" y="978"/>
                  </a:lnTo>
                  <a:lnTo>
                    <a:pt x="1209" y="944"/>
                  </a:lnTo>
                  <a:lnTo>
                    <a:pt x="1267" y="905"/>
                  </a:lnTo>
                  <a:lnTo>
                    <a:pt x="1323" y="860"/>
                  </a:lnTo>
                  <a:lnTo>
                    <a:pt x="1374" y="810"/>
                  </a:lnTo>
                  <a:lnTo>
                    <a:pt x="1940" y="206"/>
                  </a:lnTo>
                  <a:lnTo>
                    <a:pt x="1960" y="189"/>
                  </a:lnTo>
                  <a:lnTo>
                    <a:pt x="1991" y="173"/>
                  </a:lnTo>
                  <a:lnTo>
                    <a:pt x="2079" y="144"/>
                  </a:lnTo>
                  <a:lnTo>
                    <a:pt x="2202" y="116"/>
                  </a:lnTo>
                  <a:lnTo>
                    <a:pt x="2357" y="93"/>
                  </a:lnTo>
                  <a:lnTo>
                    <a:pt x="2540" y="70"/>
                  </a:lnTo>
                  <a:lnTo>
                    <a:pt x="2748" y="50"/>
                  </a:lnTo>
                  <a:lnTo>
                    <a:pt x="2979" y="35"/>
                  </a:lnTo>
                  <a:lnTo>
                    <a:pt x="3229" y="20"/>
                  </a:lnTo>
                  <a:lnTo>
                    <a:pt x="3494" y="11"/>
                  </a:lnTo>
                  <a:lnTo>
                    <a:pt x="3771" y="4"/>
                  </a:lnTo>
                  <a:lnTo>
                    <a:pt x="4058" y="0"/>
                  </a:lnTo>
                  <a:lnTo>
                    <a:pt x="4352" y="1"/>
                  </a:lnTo>
                  <a:lnTo>
                    <a:pt x="4649" y="6"/>
                  </a:lnTo>
                  <a:lnTo>
                    <a:pt x="4945" y="14"/>
                  </a:lnTo>
                  <a:lnTo>
                    <a:pt x="5239" y="27"/>
                  </a:lnTo>
                  <a:lnTo>
                    <a:pt x="5526" y="44"/>
                  </a:lnTo>
                  <a:lnTo>
                    <a:pt x="5581" y="84"/>
                  </a:lnTo>
                  <a:lnTo>
                    <a:pt x="5526" y="158"/>
                  </a:lnTo>
                  <a:lnTo>
                    <a:pt x="6043" y="994"/>
                  </a:lnTo>
                  <a:lnTo>
                    <a:pt x="6462" y="894"/>
                  </a:lnTo>
                  <a:lnTo>
                    <a:pt x="8514" y="1062"/>
                  </a:lnTo>
                  <a:lnTo>
                    <a:pt x="8637" y="1077"/>
                  </a:lnTo>
                  <a:lnTo>
                    <a:pt x="8737" y="1098"/>
                  </a:lnTo>
                  <a:lnTo>
                    <a:pt x="8814" y="1125"/>
                  </a:lnTo>
                  <a:lnTo>
                    <a:pt x="8870" y="1153"/>
                  </a:lnTo>
                  <a:lnTo>
                    <a:pt x="8905" y="1180"/>
                  </a:lnTo>
                  <a:lnTo>
                    <a:pt x="8923" y="1206"/>
                  </a:lnTo>
                  <a:lnTo>
                    <a:pt x="8926" y="1218"/>
                  </a:lnTo>
                  <a:lnTo>
                    <a:pt x="8923" y="1228"/>
                  </a:lnTo>
                  <a:lnTo>
                    <a:pt x="8907" y="1243"/>
                  </a:lnTo>
                  <a:lnTo>
                    <a:pt x="9037" y="1780"/>
                  </a:lnTo>
                  <a:lnTo>
                    <a:pt x="9047" y="1833"/>
                  </a:lnTo>
                  <a:lnTo>
                    <a:pt x="9048" y="1875"/>
                  </a:lnTo>
                  <a:lnTo>
                    <a:pt x="9045" y="1911"/>
                  </a:lnTo>
                  <a:lnTo>
                    <a:pt x="9036" y="1944"/>
                  </a:lnTo>
                  <a:lnTo>
                    <a:pt x="9017" y="2019"/>
                  </a:lnTo>
                  <a:lnTo>
                    <a:pt x="9009" y="2067"/>
                  </a:lnTo>
                  <a:lnTo>
                    <a:pt x="9007" y="2130"/>
                  </a:lnTo>
                  <a:lnTo>
                    <a:pt x="9192" y="2130"/>
                  </a:lnTo>
                  <a:lnTo>
                    <a:pt x="9220" y="2136"/>
                  </a:lnTo>
                  <a:lnTo>
                    <a:pt x="9244" y="2152"/>
                  </a:lnTo>
                  <a:lnTo>
                    <a:pt x="9260" y="2175"/>
                  </a:lnTo>
                  <a:lnTo>
                    <a:pt x="9266" y="2204"/>
                  </a:lnTo>
                  <a:lnTo>
                    <a:pt x="9266" y="2394"/>
                  </a:lnTo>
                  <a:lnTo>
                    <a:pt x="9261" y="2421"/>
                  </a:lnTo>
                  <a:lnTo>
                    <a:pt x="9247" y="2444"/>
                  </a:lnTo>
                  <a:lnTo>
                    <a:pt x="9226" y="2459"/>
                  </a:lnTo>
                  <a:lnTo>
                    <a:pt x="9200" y="2467"/>
                  </a:lnTo>
                  <a:lnTo>
                    <a:pt x="8522" y="2542"/>
                  </a:lnTo>
                  <a:lnTo>
                    <a:pt x="8493" y="2543"/>
                  </a:lnTo>
                  <a:lnTo>
                    <a:pt x="8470" y="2540"/>
                  </a:lnTo>
                  <a:lnTo>
                    <a:pt x="8454" y="2533"/>
                  </a:lnTo>
                  <a:lnTo>
                    <a:pt x="8442" y="2521"/>
                  </a:lnTo>
                  <a:lnTo>
                    <a:pt x="8434" y="2505"/>
                  </a:lnTo>
                  <a:lnTo>
                    <a:pt x="8429" y="2486"/>
                  </a:lnTo>
                  <a:lnTo>
                    <a:pt x="8425" y="2438"/>
                  </a:lnTo>
                  <a:lnTo>
                    <a:pt x="8296" y="2438"/>
                  </a:lnTo>
                  <a:lnTo>
                    <a:pt x="8296" y="2507"/>
                  </a:lnTo>
                  <a:lnTo>
                    <a:pt x="8287" y="2574"/>
                  </a:lnTo>
                  <a:lnTo>
                    <a:pt x="8273" y="2638"/>
                  </a:lnTo>
                  <a:lnTo>
                    <a:pt x="8253" y="2701"/>
                  </a:lnTo>
                  <a:lnTo>
                    <a:pt x="8227" y="2761"/>
                  </a:lnTo>
                  <a:lnTo>
                    <a:pt x="8195" y="2816"/>
                  </a:lnTo>
                  <a:lnTo>
                    <a:pt x="8158" y="2869"/>
                  </a:lnTo>
                  <a:lnTo>
                    <a:pt x="8116" y="2917"/>
                  </a:lnTo>
                  <a:lnTo>
                    <a:pt x="8069" y="2963"/>
                  </a:lnTo>
                  <a:lnTo>
                    <a:pt x="8019" y="3002"/>
                  </a:lnTo>
                  <a:lnTo>
                    <a:pt x="7964" y="3036"/>
                  </a:lnTo>
                  <a:lnTo>
                    <a:pt x="7906" y="3065"/>
                  </a:lnTo>
                  <a:lnTo>
                    <a:pt x="7844" y="3088"/>
                  </a:lnTo>
                  <a:lnTo>
                    <a:pt x="7780" y="3105"/>
                  </a:lnTo>
                  <a:lnTo>
                    <a:pt x="7713" y="3116"/>
                  </a:lnTo>
                  <a:lnTo>
                    <a:pt x="7644" y="3119"/>
                  </a:lnTo>
                  <a:lnTo>
                    <a:pt x="7575" y="3116"/>
                  </a:lnTo>
                  <a:lnTo>
                    <a:pt x="7509" y="3105"/>
                  </a:lnTo>
                  <a:lnTo>
                    <a:pt x="7445" y="3088"/>
                  </a:lnTo>
                  <a:lnTo>
                    <a:pt x="7384" y="3065"/>
                  </a:lnTo>
                  <a:lnTo>
                    <a:pt x="7326" y="3036"/>
                  </a:lnTo>
                  <a:lnTo>
                    <a:pt x="7271" y="3002"/>
                  </a:lnTo>
                  <a:lnTo>
                    <a:pt x="7220" y="2961"/>
                  </a:lnTo>
                  <a:lnTo>
                    <a:pt x="7174" y="2917"/>
                  </a:lnTo>
                  <a:lnTo>
                    <a:pt x="7132" y="2869"/>
                  </a:lnTo>
                  <a:lnTo>
                    <a:pt x="7094" y="2816"/>
                  </a:lnTo>
                  <a:lnTo>
                    <a:pt x="7062" y="2759"/>
                  </a:lnTo>
                  <a:lnTo>
                    <a:pt x="7036" y="2700"/>
                  </a:lnTo>
                  <a:lnTo>
                    <a:pt x="7016" y="2638"/>
                  </a:lnTo>
                  <a:lnTo>
                    <a:pt x="7001" y="2573"/>
                  </a:lnTo>
                  <a:lnTo>
                    <a:pt x="6994" y="2507"/>
                  </a:lnTo>
                  <a:lnTo>
                    <a:pt x="6993" y="2438"/>
                  </a:lnTo>
                  <a:lnTo>
                    <a:pt x="6861" y="2438"/>
                  </a:lnTo>
                  <a:lnTo>
                    <a:pt x="6863" y="2511"/>
                  </a:lnTo>
                  <a:lnTo>
                    <a:pt x="6860" y="2573"/>
                  </a:lnTo>
                  <a:lnTo>
                    <a:pt x="6854" y="2597"/>
                  </a:lnTo>
                  <a:lnTo>
                    <a:pt x="6842" y="2615"/>
                  </a:lnTo>
                  <a:lnTo>
                    <a:pt x="6825" y="2627"/>
                  </a:lnTo>
                  <a:lnTo>
                    <a:pt x="6803" y="2630"/>
                  </a:lnTo>
                  <a:lnTo>
                    <a:pt x="2984" y="263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1336680" y="3367080"/>
              <a:ext cx="540000" cy="283680"/>
            </a:xfrm>
            <a:custGeom>
              <a:avLst/>
              <a:gdLst/>
              <a:ahLst/>
              <a:rect l="l" t="t" r="r" b="b"/>
              <a:pathLst>
                <a:path w="1701" h="896">
                  <a:moveTo>
                    <a:pt x="1701" y="896"/>
                  </a:moveTo>
                  <a:lnTo>
                    <a:pt x="62" y="877"/>
                  </a:lnTo>
                  <a:lnTo>
                    <a:pt x="44" y="874"/>
                  </a:lnTo>
                  <a:lnTo>
                    <a:pt x="29" y="867"/>
                  </a:lnTo>
                  <a:lnTo>
                    <a:pt x="16" y="855"/>
                  </a:lnTo>
                  <a:lnTo>
                    <a:pt x="6" y="841"/>
                  </a:lnTo>
                  <a:lnTo>
                    <a:pt x="0" y="823"/>
                  </a:lnTo>
                  <a:lnTo>
                    <a:pt x="0" y="807"/>
                  </a:lnTo>
                  <a:lnTo>
                    <a:pt x="4" y="790"/>
                  </a:lnTo>
                  <a:lnTo>
                    <a:pt x="13" y="774"/>
                  </a:lnTo>
                  <a:lnTo>
                    <a:pt x="432" y="248"/>
                  </a:lnTo>
                  <a:lnTo>
                    <a:pt x="471" y="205"/>
                  </a:lnTo>
                  <a:lnTo>
                    <a:pt x="494" y="184"/>
                  </a:lnTo>
                  <a:lnTo>
                    <a:pt x="522" y="165"/>
                  </a:lnTo>
                  <a:lnTo>
                    <a:pt x="555" y="148"/>
                  </a:lnTo>
                  <a:lnTo>
                    <a:pt x="596" y="131"/>
                  </a:lnTo>
                  <a:lnTo>
                    <a:pt x="705" y="99"/>
                  </a:lnTo>
                  <a:lnTo>
                    <a:pt x="775" y="85"/>
                  </a:lnTo>
                  <a:lnTo>
                    <a:pt x="858" y="70"/>
                  </a:lnTo>
                  <a:lnTo>
                    <a:pt x="1069" y="45"/>
                  </a:lnTo>
                  <a:lnTo>
                    <a:pt x="1346" y="22"/>
                  </a:lnTo>
                  <a:lnTo>
                    <a:pt x="1701" y="0"/>
                  </a:lnTo>
                  <a:lnTo>
                    <a:pt x="1701" y="89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1959120" y="3352680"/>
              <a:ext cx="692280" cy="306000"/>
            </a:xfrm>
            <a:custGeom>
              <a:avLst/>
              <a:gdLst/>
              <a:ahLst/>
              <a:rect l="l" t="t" r="r" b="b"/>
              <a:pathLst>
                <a:path w="2180" h="963">
                  <a:moveTo>
                    <a:pt x="0" y="942"/>
                  </a:moveTo>
                  <a:lnTo>
                    <a:pt x="0" y="31"/>
                  </a:lnTo>
                  <a:lnTo>
                    <a:pt x="465" y="10"/>
                  </a:lnTo>
                  <a:lnTo>
                    <a:pt x="837" y="0"/>
                  </a:lnTo>
                  <a:lnTo>
                    <a:pt x="1126" y="2"/>
                  </a:lnTo>
                  <a:lnTo>
                    <a:pt x="1242" y="6"/>
                  </a:lnTo>
                  <a:lnTo>
                    <a:pt x="1344" y="15"/>
                  </a:lnTo>
                  <a:lnTo>
                    <a:pt x="1429" y="24"/>
                  </a:lnTo>
                  <a:lnTo>
                    <a:pt x="1502" y="36"/>
                  </a:lnTo>
                  <a:lnTo>
                    <a:pt x="1561" y="51"/>
                  </a:lnTo>
                  <a:lnTo>
                    <a:pt x="1610" y="69"/>
                  </a:lnTo>
                  <a:lnTo>
                    <a:pt x="1650" y="88"/>
                  </a:lnTo>
                  <a:lnTo>
                    <a:pt x="1681" y="111"/>
                  </a:lnTo>
                  <a:lnTo>
                    <a:pt x="1706" y="136"/>
                  </a:lnTo>
                  <a:lnTo>
                    <a:pt x="1725" y="162"/>
                  </a:lnTo>
                  <a:lnTo>
                    <a:pt x="2174" y="885"/>
                  </a:lnTo>
                  <a:lnTo>
                    <a:pt x="2180" y="899"/>
                  </a:lnTo>
                  <a:lnTo>
                    <a:pt x="2180" y="913"/>
                  </a:lnTo>
                  <a:lnTo>
                    <a:pt x="2173" y="927"/>
                  </a:lnTo>
                  <a:lnTo>
                    <a:pt x="2157" y="940"/>
                  </a:lnTo>
                  <a:lnTo>
                    <a:pt x="2132" y="949"/>
                  </a:lnTo>
                  <a:lnTo>
                    <a:pt x="2096" y="957"/>
                  </a:lnTo>
                  <a:lnTo>
                    <a:pt x="1991" y="963"/>
                  </a:lnTo>
                  <a:lnTo>
                    <a:pt x="1928" y="897"/>
                  </a:lnTo>
                  <a:lnTo>
                    <a:pt x="1932" y="899"/>
                  </a:lnTo>
                  <a:lnTo>
                    <a:pt x="1931" y="898"/>
                  </a:lnTo>
                  <a:lnTo>
                    <a:pt x="1928" y="897"/>
                  </a:lnTo>
                  <a:lnTo>
                    <a:pt x="1950" y="890"/>
                  </a:lnTo>
                  <a:lnTo>
                    <a:pt x="1965" y="881"/>
                  </a:lnTo>
                  <a:lnTo>
                    <a:pt x="1973" y="871"/>
                  </a:lnTo>
                  <a:lnTo>
                    <a:pt x="1977" y="859"/>
                  </a:lnTo>
                  <a:lnTo>
                    <a:pt x="1976" y="847"/>
                  </a:lnTo>
                  <a:lnTo>
                    <a:pt x="1969" y="834"/>
                  </a:lnTo>
                  <a:lnTo>
                    <a:pt x="1943" y="808"/>
                  </a:lnTo>
                  <a:lnTo>
                    <a:pt x="1900" y="784"/>
                  </a:lnTo>
                  <a:lnTo>
                    <a:pt x="1845" y="763"/>
                  </a:lnTo>
                  <a:lnTo>
                    <a:pt x="1780" y="748"/>
                  </a:lnTo>
                  <a:lnTo>
                    <a:pt x="1707" y="744"/>
                  </a:lnTo>
                  <a:lnTo>
                    <a:pt x="1771" y="900"/>
                  </a:lnTo>
                  <a:lnTo>
                    <a:pt x="1804" y="903"/>
                  </a:lnTo>
                  <a:lnTo>
                    <a:pt x="1827" y="961"/>
                  </a:lnTo>
                  <a:lnTo>
                    <a:pt x="0" y="94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833400" y="3987720"/>
              <a:ext cx="65160" cy="115560"/>
            </a:xfrm>
            <a:custGeom>
              <a:avLst/>
              <a:gdLst/>
              <a:ahLst/>
              <a:rect l="l" t="t" r="r" b="b"/>
              <a:pathLst>
                <a:path w="204" h="368">
                  <a:moveTo>
                    <a:pt x="204" y="368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819360" y="3730320"/>
              <a:ext cx="33120" cy="203040"/>
            </a:xfrm>
            <a:custGeom>
              <a:avLst/>
              <a:gdLst/>
              <a:ahLst/>
              <a:rect l="l" t="t" r="r" b="b"/>
              <a:pathLst>
                <a:path w="105" h="638">
                  <a:moveTo>
                    <a:pt x="0" y="638"/>
                  </a:moveTo>
                  <a:lnTo>
                    <a:pt x="69" y="638"/>
                  </a:lnTo>
                  <a:lnTo>
                    <a:pt x="10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1192320" y="3844800"/>
              <a:ext cx="501840" cy="272520"/>
            </a:xfrm>
            <a:custGeom>
              <a:avLst/>
              <a:gdLst/>
              <a:ahLst/>
              <a:rect l="l" t="t" r="r" b="b"/>
              <a:pathLst>
                <a:path w="1582" h="860">
                  <a:moveTo>
                    <a:pt x="0" y="860"/>
                  </a:moveTo>
                  <a:lnTo>
                    <a:pt x="1" y="754"/>
                  </a:lnTo>
                  <a:lnTo>
                    <a:pt x="6" y="690"/>
                  </a:lnTo>
                  <a:lnTo>
                    <a:pt x="8" y="665"/>
                  </a:lnTo>
                  <a:lnTo>
                    <a:pt x="18" y="620"/>
                  </a:lnTo>
                  <a:lnTo>
                    <a:pt x="36" y="553"/>
                  </a:lnTo>
                  <a:lnTo>
                    <a:pt x="59" y="489"/>
                  </a:lnTo>
                  <a:lnTo>
                    <a:pt x="88" y="429"/>
                  </a:lnTo>
                  <a:lnTo>
                    <a:pt x="121" y="371"/>
                  </a:lnTo>
                  <a:lnTo>
                    <a:pt x="158" y="316"/>
                  </a:lnTo>
                  <a:lnTo>
                    <a:pt x="201" y="265"/>
                  </a:lnTo>
                  <a:lnTo>
                    <a:pt x="246" y="217"/>
                  </a:lnTo>
                  <a:lnTo>
                    <a:pt x="296" y="175"/>
                  </a:lnTo>
                  <a:lnTo>
                    <a:pt x="350" y="135"/>
                  </a:lnTo>
                  <a:lnTo>
                    <a:pt x="405" y="101"/>
                  </a:lnTo>
                  <a:lnTo>
                    <a:pt x="464" y="71"/>
                  </a:lnTo>
                  <a:lnTo>
                    <a:pt x="525" y="46"/>
                  </a:lnTo>
                  <a:lnTo>
                    <a:pt x="590" y="26"/>
                  </a:lnTo>
                  <a:lnTo>
                    <a:pt x="655" y="12"/>
                  </a:lnTo>
                  <a:lnTo>
                    <a:pt x="723" y="4"/>
                  </a:lnTo>
                  <a:lnTo>
                    <a:pt x="792" y="0"/>
                  </a:lnTo>
                  <a:lnTo>
                    <a:pt x="861" y="4"/>
                  </a:lnTo>
                  <a:lnTo>
                    <a:pt x="928" y="12"/>
                  </a:lnTo>
                  <a:lnTo>
                    <a:pt x="994" y="26"/>
                  </a:lnTo>
                  <a:lnTo>
                    <a:pt x="1058" y="46"/>
                  </a:lnTo>
                  <a:lnTo>
                    <a:pt x="1120" y="71"/>
                  </a:lnTo>
                  <a:lnTo>
                    <a:pt x="1179" y="101"/>
                  </a:lnTo>
                  <a:lnTo>
                    <a:pt x="1235" y="135"/>
                  </a:lnTo>
                  <a:lnTo>
                    <a:pt x="1289" y="175"/>
                  </a:lnTo>
                  <a:lnTo>
                    <a:pt x="1337" y="217"/>
                  </a:lnTo>
                  <a:lnTo>
                    <a:pt x="1384" y="265"/>
                  </a:lnTo>
                  <a:lnTo>
                    <a:pt x="1425" y="316"/>
                  </a:lnTo>
                  <a:lnTo>
                    <a:pt x="1463" y="371"/>
                  </a:lnTo>
                  <a:lnTo>
                    <a:pt x="1497" y="429"/>
                  </a:lnTo>
                  <a:lnTo>
                    <a:pt x="1525" y="489"/>
                  </a:lnTo>
                  <a:lnTo>
                    <a:pt x="1549" y="553"/>
                  </a:lnTo>
                  <a:lnTo>
                    <a:pt x="1567" y="620"/>
                  </a:lnTo>
                  <a:lnTo>
                    <a:pt x="1579" y="688"/>
                  </a:lnTo>
                  <a:lnTo>
                    <a:pt x="1582" y="752"/>
                  </a:lnTo>
                  <a:lnTo>
                    <a:pt x="1582" y="8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1236960" y="3890880"/>
              <a:ext cx="412560" cy="226440"/>
            </a:xfrm>
            <a:custGeom>
              <a:avLst/>
              <a:gdLst/>
              <a:ahLst/>
              <a:rect l="l" t="t" r="r" b="b"/>
              <a:pathLst>
                <a:path w="1304" h="717">
                  <a:moveTo>
                    <a:pt x="4" y="717"/>
                  </a:moveTo>
                  <a:lnTo>
                    <a:pt x="0" y="645"/>
                  </a:lnTo>
                  <a:lnTo>
                    <a:pt x="5" y="575"/>
                  </a:lnTo>
                  <a:lnTo>
                    <a:pt x="16" y="508"/>
                  </a:lnTo>
                  <a:lnTo>
                    <a:pt x="35" y="442"/>
                  </a:lnTo>
                  <a:lnTo>
                    <a:pt x="59" y="381"/>
                  </a:lnTo>
                  <a:lnTo>
                    <a:pt x="89" y="321"/>
                  </a:lnTo>
                  <a:lnTo>
                    <a:pt x="126" y="266"/>
                  </a:lnTo>
                  <a:lnTo>
                    <a:pt x="168" y="214"/>
                  </a:lnTo>
                  <a:lnTo>
                    <a:pt x="215" y="167"/>
                  </a:lnTo>
                  <a:lnTo>
                    <a:pt x="267" y="125"/>
                  </a:lnTo>
                  <a:lnTo>
                    <a:pt x="322" y="89"/>
                  </a:lnTo>
                  <a:lnTo>
                    <a:pt x="382" y="58"/>
                  </a:lnTo>
                  <a:lnTo>
                    <a:pt x="445" y="33"/>
                  </a:lnTo>
                  <a:lnTo>
                    <a:pt x="511" y="15"/>
                  </a:lnTo>
                  <a:lnTo>
                    <a:pt x="580" y="3"/>
                  </a:lnTo>
                  <a:lnTo>
                    <a:pt x="652" y="0"/>
                  </a:lnTo>
                  <a:lnTo>
                    <a:pt x="723" y="3"/>
                  </a:lnTo>
                  <a:lnTo>
                    <a:pt x="792" y="15"/>
                  </a:lnTo>
                  <a:lnTo>
                    <a:pt x="859" y="33"/>
                  </a:lnTo>
                  <a:lnTo>
                    <a:pt x="922" y="58"/>
                  </a:lnTo>
                  <a:lnTo>
                    <a:pt x="981" y="89"/>
                  </a:lnTo>
                  <a:lnTo>
                    <a:pt x="1037" y="125"/>
                  </a:lnTo>
                  <a:lnTo>
                    <a:pt x="1089" y="167"/>
                  </a:lnTo>
                  <a:lnTo>
                    <a:pt x="1135" y="214"/>
                  </a:lnTo>
                  <a:lnTo>
                    <a:pt x="1178" y="266"/>
                  </a:lnTo>
                  <a:lnTo>
                    <a:pt x="1214" y="321"/>
                  </a:lnTo>
                  <a:lnTo>
                    <a:pt x="1245" y="381"/>
                  </a:lnTo>
                  <a:lnTo>
                    <a:pt x="1270" y="442"/>
                  </a:lnTo>
                  <a:lnTo>
                    <a:pt x="1289" y="508"/>
                  </a:lnTo>
                  <a:lnTo>
                    <a:pt x="1299" y="575"/>
                  </a:lnTo>
                  <a:lnTo>
                    <a:pt x="1304" y="645"/>
                  </a:lnTo>
                  <a:lnTo>
                    <a:pt x="1301" y="7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1336680" y="3992400"/>
              <a:ext cx="212760" cy="210600"/>
            </a:xfrm>
            <a:custGeom>
              <a:avLst/>
              <a:gdLst/>
              <a:ahLst/>
              <a:rect l="l" t="t" r="r" b="b"/>
              <a:pathLst>
                <a:path w="667" h="665">
                  <a:moveTo>
                    <a:pt x="333" y="665"/>
                  </a:moveTo>
                  <a:lnTo>
                    <a:pt x="286" y="661"/>
                  </a:lnTo>
                  <a:lnTo>
                    <a:pt x="241" y="653"/>
                  </a:lnTo>
                  <a:lnTo>
                    <a:pt x="201" y="638"/>
                  </a:lnTo>
                  <a:lnTo>
                    <a:pt x="162" y="619"/>
                  </a:lnTo>
                  <a:lnTo>
                    <a:pt x="127" y="594"/>
                  </a:lnTo>
                  <a:lnTo>
                    <a:pt x="95" y="565"/>
                  </a:lnTo>
                  <a:lnTo>
                    <a:pt x="68" y="533"/>
                  </a:lnTo>
                  <a:lnTo>
                    <a:pt x="45" y="499"/>
                  </a:lnTo>
                  <a:lnTo>
                    <a:pt x="26" y="461"/>
                  </a:lnTo>
                  <a:lnTo>
                    <a:pt x="12" y="420"/>
                  </a:lnTo>
                  <a:lnTo>
                    <a:pt x="3" y="380"/>
                  </a:lnTo>
                  <a:lnTo>
                    <a:pt x="0" y="337"/>
                  </a:lnTo>
                  <a:lnTo>
                    <a:pt x="2" y="293"/>
                  </a:lnTo>
                  <a:lnTo>
                    <a:pt x="11" y="250"/>
                  </a:lnTo>
                  <a:lnTo>
                    <a:pt x="25" y="208"/>
                  </a:lnTo>
                  <a:lnTo>
                    <a:pt x="45" y="165"/>
                  </a:lnTo>
                  <a:lnTo>
                    <a:pt x="71" y="126"/>
                  </a:lnTo>
                  <a:lnTo>
                    <a:pt x="101" y="93"/>
                  </a:lnTo>
                  <a:lnTo>
                    <a:pt x="134" y="64"/>
                  </a:lnTo>
                  <a:lnTo>
                    <a:pt x="171" y="40"/>
                  </a:lnTo>
                  <a:lnTo>
                    <a:pt x="209" y="23"/>
                  </a:lnTo>
                  <a:lnTo>
                    <a:pt x="249" y="9"/>
                  </a:lnTo>
                  <a:lnTo>
                    <a:pt x="291" y="2"/>
                  </a:lnTo>
                  <a:lnTo>
                    <a:pt x="333" y="0"/>
                  </a:lnTo>
                  <a:lnTo>
                    <a:pt x="374" y="2"/>
                  </a:lnTo>
                  <a:lnTo>
                    <a:pt x="416" y="9"/>
                  </a:lnTo>
                  <a:lnTo>
                    <a:pt x="456" y="23"/>
                  </a:lnTo>
                  <a:lnTo>
                    <a:pt x="496" y="40"/>
                  </a:lnTo>
                  <a:lnTo>
                    <a:pt x="531" y="64"/>
                  </a:lnTo>
                  <a:lnTo>
                    <a:pt x="566" y="93"/>
                  </a:lnTo>
                  <a:lnTo>
                    <a:pt x="595" y="126"/>
                  </a:lnTo>
                  <a:lnTo>
                    <a:pt x="622" y="165"/>
                  </a:lnTo>
                  <a:lnTo>
                    <a:pt x="642" y="208"/>
                  </a:lnTo>
                  <a:lnTo>
                    <a:pt x="656" y="250"/>
                  </a:lnTo>
                  <a:lnTo>
                    <a:pt x="664" y="293"/>
                  </a:lnTo>
                  <a:lnTo>
                    <a:pt x="667" y="337"/>
                  </a:lnTo>
                  <a:lnTo>
                    <a:pt x="663" y="380"/>
                  </a:lnTo>
                  <a:lnTo>
                    <a:pt x="654" y="420"/>
                  </a:lnTo>
                  <a:lnTo>
                    <a:pt x="639" y="461"/>
                  </a:lnTo>
                  <a:lnTo>
                    <a:pt x="622" y="499"/>
                  </a:lnTo>
                  <a:lnTo>
                    <a:pt x="598" y="533"/>
                  </a:lnTo>
                  <a:lnTo>
                    <a:pt x="570" y="565"/>
                  </a:lnTo>
                  <a:lnTo>
                    <a:pt x="538" y="594"/>
                  </a:lnTo>
                  <a:lnTo>
                    <a:pt x="504" y="619"/>
                  </a:lnTo>
                  <a:lnTo>
                    <a:pt x="466" y="638"/>
                  </a:lnTo>
                  <a:lnTo>
                    <a:pt x="424" y="653"/>
                  </a:lnTo>
                  <a:lnTo>
                    <a:pt x="379" y="661"/>
                  </a:lnTo>
                  <a:lnTo>
                    <a:pt x="333" y="6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V="1">
              <a:off x="1876680" y="3361680"/>
              <a:ext cx="82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1876680" y="3633480"/>
              <a:ext cx="860400" cy="464760"/>
            </a:xfrm>
            <a:custGeom>
              <a:avLst/>
              <a:gdLst/>
              <a:ahLst/>
              <a:rect l="l" t="t" r="r" b="b"/>
              <a:pathLst>
                <a:path w="2710" h="1466">
                  <a:moveTo>
                    <a:pt x="0" y="55"/>
                  </a:moveTo>
                  <a:lnTo>
                    <a:pt x="259" y="57"/>
                  </a:lnTo>
                  <a:lnTo>
                    <a:pt x="201" y="214"/>
                  </a:lnTo>
                  <a:lnTo>
                    <a:pt x="394" y="1466"/>
                  </a:lnTo>
                  <a:lnTo>
                    <a:pt x="2710" y="1466"/>
                  </a:lnTo>
                  <a:lnTo>
                    <a:pt x="2608" y="283"/>
                  </a:lnTo>
                  <a:lnTo>
                    <a:pt x="2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2533680" y="3341520"/>
              <a:ext cx="279360" cy="256680"/>
            </a:xfrm>
            <a:custGeom>
              <a:avLst/>
              <a:gdLst/>
              <a:ahLst/>
              <a:rect l="l" t="t" r="r" b="b"/>
              <a:pathLst>
                <a:path w="881" h="810">
                  <a:moveTo>
                    <a:pt x="0" y="0"/>
                  </a:moveTo>
                  <a:lnTo>
                    <a:pt x="120" y="89"/>
                  </a:lnTo>
                  <a:lnTo>
                    <a:pt x="238" y="183"/>
                  </a:lnTo>
                  <a:lnTo>
                    <a:pt x="353" y="281"/>
                  </a:lnTo>
                  <a:lnTo>
                    <a:pt x="466" y="380"/>
                  </a:lnTo>
                  <a:lnTo>
                    <a:pt x="575" y="485"/>
                  </a:lnTo>
                  <a:lnTo>
                    <a:pt x="681" y="591"/>
                  </a:lnTo>
                  <a:lnTo>
                    <a:pt x="783" y="700"/>
                  </a:lnTo>
                  <a:lnTo>
                    <a:pt x="881" y="8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2530440" y="3638520"/>
              <a:ext cx="39960" cy="1080"/>
            </a:xfrm>
            <a:custGeom>
              <a:avLst/>
              <a:gdLst/>
              <a:ahLst/>
              <a:rect l="l" t="t" r="r" b="b"/>
              <a:pathLst>
                <a:path w="124" h="7">
                  <a:moveTo>
                    <a:pt x="124" y="0"/>
                  </a:moveTo>
                  <a:lnTo>
                    <a:pt x="72" y="7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2538360" y="3657240"/>
              <a:ext cx="79560" cy="29880"/>
            </a:xfrm>
            <a:custGeom>
              <a:avLst/>
              <a:gdLst/>
              <a:ahLst/>
              <a:rect l="l" t="t" r="r" b="b"/>
              <a:pathLst>
                <a:path w="250" h="95">
                  <a:moveTo>
                    <a:pt x="0" y="0"/>
                  </a:moveTo>
                  <a:lnTo>
                    <a:pt x="36" y="95"/>
                  </a:lnTo>
                  <a:lnTo>
                    <a:pt x="250" y="95"/>
                  </a:lnTo>
                  <a:lnTo>
                    <a:pt x="16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2030400" y="3782880"/>
              <a:ext cx="144720" cy="16920"/>
            </a:xfrm>
            <a:custGeom>
              <a:avLst/>
              <a:gdLst/>
              <a:ahLst/>
              <a:rect l="l" t="t" r="r" b="b"/>
              <a:pathLst>
                <a:path w="454" h="56">
                  <a:moveTo>
                    <a:pt x="454" y="56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852480" y="3749400"/>
              <a:ext cx="270036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2940120" y="3844800"/>
              <a:ext cx="496800" cy="242640"/>
            </a:xfrm>
            <a:custGeom>
              <a:avLst/>
              <a:gdLst/>
              <a:ahLst/>
              <a:rect l="l" t="t" r="r" b="b"/>
              <a:pathLst>
                <a:path w="1567" h="765">
                  <a:moveTo>
                    <a:pt x="0" y="765"/>
                  </a:moveTo>
                  <a:lnTo>
                    <a:pt x="0" y="692"/>
                  </a:lnTo>
                  <a:lnTo>
                    <a:pt x="10" y="620"/>
                  </a:lnTo>
                  <a:lnTo>
                    <a:pt x="27" y="553"/>
                  </a:lnTo>
                  <a:lnTo>
                    <a:pt x="51" y="489"/>
                  </a:lnTo>
                  <a:lnTo>
                    <a:pt x="80" y="429"/>
                  </a:lnTo>
                  <a:lnTo>
                    <a:pt x="113" y="371"/>
                  </a:lnTo>
                  <a:lnTo>
                    <a:pt x="150" y="316"/>
                  </a:lnTo>
                  <a:lnTo>
                    <a:pt x="193" y="265"/>
                  </a:lnTo>
                  <a:lnTo>
                    <a:pt x="238" y="217"/>
                  </a:lnTo>
                  <a:lnTo>
                    <a:pt x="288" y="175"/>
                  </a:lnTo>
                  <a:lnTo>
                    <a:pt x="341" y="135"/>
                  </a:lnTo>
                  <a:lnTo>
                    <a:pt x="397" y="101"/>
                  </a:lnTo>
                  <a:lnTo>
                    <a:pt x="455" y="71"/>
                  </a:lnTo>
                  <a:lnTo>
                    <a:pt x="517" y="46"/>
                  </a:lnTo>
                  <a:lnTo>
                    <a:pt x="581" y="26"/>
                  </a:lnTo>
                  <a:lnTo>
                    <a:pt x="647" y="12"/>
                  </a:lnTo>
                  <a:lnTo>
                    <a:pt x="714" y="4"/>
                  </a:lnTo>
                  <a:lnTo>
                    <a:pt x="783" y="0"/>
                  </a:lnTo>
                  <a:lnTo>
                    <a:pt x="852" y="4"/>
                  </a:lnTo>
                  <a:lnTo>
                    <a:pt x="920" y="12"/>
                  </a:lnTo>
                  <a:lnTo>
                    <a:pt x="985" y="26"/>
                  </a:lnTo>
                  <a:lnTo>
                    <a:pt x="1050" y="46"/>
                  </a:lnTo>
                  <a:lnTo>
                    <a:pt x="1111" y="71"/>
                  </a:lnTo>
                  <a:lnTo>
                    <a:pt x="1171" y="101"/>
                  </a:lnTo>
                  <a:lnTo>
                    <a:pt x="1227" y="135"/>
                  </a:lnTo>
                  <a:lnTo>
                    <a:pt x="1280" y="175"/>
                  </a:lnTo>
                  <a:lnTo>
                    <a:pt x="1329" y="217"/>
                  </a:lnTo>
                  <a:lnTo>
                    <a:pt x="1375" y="265"/>
                  </a:lnTo>
                  <a:lnTo>
                    <a:pt x="1417" y="316"/>
                  </a:lnTo>
                  <a:lnTo>
                    <a:pt x="1455" y="371"/>
                  </a:lnTo>
                  <a:lnTo>
                    <a:pt x="1488" y="429"/>
                  </a:lnTo>
                  <a:lnTo>
                    <a:pt x="1517" y="489"/>
                  </a:lnTo>
                  <a:lnTo>
                    <a:pt x="1540" y="553"/>
                  </a:lnTo>
                  <a:lnTo>
                    <a:pt x="1558" y="620"/>
                  </a:lnTo>
                  <a:lnTo>
                    <a:pt x="1564" y="659"/>
                  </a:lnTo>
                  <a:lnTo>
                    <a:pt x="1567" y="696"/>
                  </a:lnTo>
                  <a:lnTo>
                    <a:pt x="1564" y="7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2981520" y="3890880"/>
              <a:ext cx="414360" cy="196560"/>
            </a:xfrm>
            <a:custGeom>
              <a:avLst/>
              <a:gdLst/>
              <a:ahLst/>
              <a:rect l="l" t="t" r="r" b="b"/>
              <a:pathLst>
                <a:path w="1303" h="622">
                  <a:moveTo>
                    <a:pt x="0" y="622"/>
                  </a:moveTo>
                  <a:lnTo>
                    <a:pt x="6" y="558"/>
                  </a:lnTo>
                  <a:lnTo>
                    <a:pt x="18" y="495"/>
                  </a:lnTo>
                  <a:lnTo>
                    <a:pt x="36" y="435"/>
                  </a:lnTo>
                  <a:lnTo>
                    <a:pt x="59" y="378"/>
                  </a:lnTo>
                  <a:lnTo>
                    <a:pt x="88" y="324"/>
                  </a:lnTo>
                  <a:lnTo>
                    <a:pt x="121" y="271"/>
                  </a:lnTo>
                  <a:lnTo>
                    <a:pt x="158" y="224"/>
                  </a:lnTo>
                  <a:lnTo>
                    <a:pt x="201" y="180"/>
                  </a:lnTo>
                  <a:lnTo>
                    <a:pt x="246" y="140"/>
                  </a:lnTo>
                  <a:lnTo>
                    <a:pt x="296" y="105"/>
                  </a:lnTo>
                  <a:lnTo>
                    <a:pt x="348" y="74"/>
                  </a:lnTo>
                  <a:lnTo>
                    <a:pt x="404" y="48"/>
                  </a:lnTo>
                  <a:lnTo>
                    <a:pt x="462" y="27"/>
                  </a:lnTo>
                  <a:lnTo>
                    <a:pt x="524" y="11"/>
                  </a:lnTo>
                  <a:lnTo>
                    <a:pt x="587" y="3"/>
                  </a:lnTo>
                  <a:lnTo>
                    <a:pt x="651" y="0"/>
                  </a:lnTo>
                  <a:lnTo>
                    <a:pt x="716" y="3"/>
                  </a:lnTo>
                  <a:lnTo>
                    <a:pt x="779" y="11"/>
                  </a:lnTo>
                  <a:lnTo>
                    <a:pt x="840" y="27"/>
                  </a:lnTo>
                  <a:lnTo>
                    <a:pt x="899" y="48"/>
                  </a:lnTo>
                  <a:lnTo>
                    <a:pt x="954" y="74"/>
                  </a:lnTo>
                  <a:lnTo>
                    <a:pt x="1007" y="105"/>
                  </a:lnTo>
                  <a:lnTo>
                    <a:pt x="1057" y="140"/>
                  </a:lnTo>
                  <a:lnTo>
                    <a:pt x="1103" y="180"/>
                  </a:lnTo>
                  <a:lnTo>
                    <a:pt x="1145" y="224"/>
                  </a:lnTo>
                  <a:lnTo>
                    <a:pt x="1183" y="271"/>
                  </a:lnTo>
                  <a:lnTo>
                    <a:pt x="1216" y="324"/>
                  </a:lnTo>
                  <a:lnTo>
                    <a:pt x="1244" y="378"/>
                  </a:lnTo>
                  <a:lnTo>
                    <a:pt x="1267" y="435"/>
                  </a:lnTo>
                  <a:lnTo>
                    <a:pt x="1285" y="495"/>
                  </a:lnTo>
                  <a:lnTo>
                    <a:pt x="1297" y="558"/>
                  </a:lnTo>
                  <a:lnTo>
                    <a:pt x="1303" y="6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08304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6" h="665">
                  <a:moveTo>
                    <a:pt x="332" y="665"/>
                  </a:moveTo>
                  <a:lnTo>
                    <a:pt x="286" y="661"/>
                  </a:lnTo>
                  <a:lnTo>
                    <a:pt x="241" y="653"/>
                  </a:lnTo>
                  <a:lnTo>
                    <a:pt x="200" y="638"/>
                  </a:lnTo>
                  <a:lnTo>
                    <a:pt x="161" y="619"/>
                  </a:lnTo>
                  <a:lnTo>
                    <a:pt x="127" y="594"/>
                  </a:lnTo>
                  <a:lnTo>
                    <a:pt x="95" y="565"/>
                  </a:lnTo>
                  <a:lnTo>
                    <a:pt x="67" y="533"/>
                  </a:lnTo>
                  <a:lnTo>
                    <a:pt x="45" y="499"/>
                  </a:lnTo>
                  <a:lnTo>
                    <a:pt x="26" y="461"/>
                  </a:lnTo>
                  <a:lnTo>
                    <a:pt x="11" y="420"/>
                  </a:lnTo>
                  <a:lnTo>
                    <a:pt x="3" y="380"/>
                  </a:lnTo>
                  <a:lnTo>
                    <a:pt x="0" y="337"/>
                  </a:lnTo>
                  <a:lnTo>
                    <a:pt x="2" y="293"/>
                  </a:lnTo>
                  <a:lnTo>
                    <a:pt x="10" y="250"/>
                  </a:lnTo>
                  <a:lnTo>
                    <a:pt x="24" y="208"/>
                  </a:lnTo>
                  <a:lnTo>
                    <a:pt x="45" y="165"/>
                  </a:lnTo>
                  <a:lnTo>
                    <a:pt x="71" y="126"/>
                  </a:lnTo>
                  <a:lnTo>
                    <a:pt x="101" y="93"/>
                  </a:lnTo>
                  <a:lnTo>
                    <a:pt x="134" y="64"/>
                  </a:lnTo>
                  <a:lnTo>
                    <a:pt x="171" y="40"/>
                  </a:lnTo>
                  <a:lnTo>
                    <a:pt x="209" y="23"/>
                  </a:lnTo>
                  <a:lnTo>
                    <a:pt x="249" y="9"/>
                  </a:lnTo>
                  <a:lnTo>
                    <a:pt x="291" y="2"/>
                  </a:lnTo>
                  <a:lnTo>
                    <a:pt x="332" y="0"/>
                  </a:lnTo>
                  <a:lnTo>
                    <a:pt x="374" y="2"/>
                  </a:lnTo>
                  <a:lnTo>
                    <a:pt x="416" y="9"/>
                  </a:lnTo>
                  <a:lnTo>
                    <a:pt x="456" y="23"/>
                  </a:lnTo>
                  <a:lnTo>
                    <a:pt x="495" y="40"/>
                  </a:lnTo>
                  <a:lnTo>
                    <a:pt x="531" y="64"/>
                  </a:lnTo>
                  <a:lnTo>
                    <a:pt x="565" y="93"/>
                  </a:lnTo>
                  <a:lnTo>
                    <a:pt x="595" y="126"/>
                  </a:lnTo>
                  <a:lnTo>
                    <a:pt x="621" y="165"/>
                  </a:lnTo>
                  <a:lnTo>
                    <a:pt x="641" y="208"/>
                  </a:lnTo>
                  <a:lnTo>
                    <a:pt x="656" y="250"/>
                  </a:lnTo>
                  <a:lnTo>
                    <a:pt x="664" y="293"/>
                  </a:lnTo>
                  <a:lnTo>
                    <a:pt x="666" y="337"/>
                  </a:lnTo>
                  <a:lnTo>
                    <a:pt x="663" y="380"/>
                  </a:lnTo>
                  <a:lnTo>
                    <a:pt x="653" y="420"/>
                  </a:lnTo>
                  <a:lnTo>
                    <a:pt x="639" y="461"/>
                  </a:lnTo>
                  <a:lnTo>
                    <a:pt x="621" y="499"/>
                  </a:lnTo>
                  <a:lnTo>
                    <a:pt x="597" y="533"/>
                  </a:lnTo>
                  <a:lnTo>
                    <a:pt x="570" y="565"/>
                  </a:lnTo>
                  <a:lnTo>
                    <a:pt x="538" y="594"/>
                  </a:lnTo>
                  <a:lnTo>
                    <a:pt x="503" y="619"/>
                  </a:lnTo>
                  <a:lnTo>
                    <a:pt x="465" y="638"/>
                  </a:lnTo>
                  <a:lnTo>
                    <a:pt x="424" y="653"/>
                  </a:lnTo>
                  <a:lnTo>
                    <a:pt x="379" y="661"/>
                  </a:lnTo>
                  <a:lnTo>
                    <a:pt x="332" y="6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546720" y="3708360"/>
              <a:ext cx="83880" cy="171000"/>
            </a:xfrm>
            <a:custGeom>
              <a:avLst/>
              <a:gdLst/>
              <a:ahLst/>
              <a:rect l="l" t="t" r="r" b="b"/>
              <a:pathLst>
                <a:path w="266" h="537">
                  <a:moveTo>
                    <a:pt x="136" y="0"/>
                  </a:moveTo>
                  <a:lnTo>
                    <a:pt x="0" y="62"/>
                  </a:lnTo>
                  <a:lnTo>
                    <a:pt x="92" y="537"/>
                  </a:lnTo>
                  <a:lnTo>
                    <a:pt x="266" y="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532320" y="3990960"/>
              <a:ext cx="88920" cy="120240"/>
            </a:xfrm>
            <a:custGeom>
              <a:avLst/>
              <a:gdLst/>
              <a:ahLst/>
              <a:rect l="l" t="t" r="r" b="b"/>
              <a:pathLst>
                <a:path w="280" h="383">
                  <a:moveTo>
                    <a:pt x="280" y="0"/>
                  </a:moveTo>
                  <a:lnTo>
                    <a:pt x="0" y="0"/>
                  </a:lnTo>
                  <a:lnTo>
                    <a:pt x="61" y="3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1235160" y="3890880"/>
              <a:ext cx="2160720" cy="412200"/>
            </a:xfrm>
            <a:custGeom>
              <a:avLst/>
              <a:gdLst/>
              <a:ahLst/>
              <a:rect l="l" t="t" r="r" b="b"/>
              <a:pathLst>
                <a:path w="6804" h="1302">
                  <a:moveTo>
                    <a:pt x="653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6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8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7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4" y="46"/>
                  </a:lnTo>
                  <a:lnTo>
                    <a:pt x="816" y="20"/>
                  </a:lnTo>
                  <a:lnTo>
                    <a:pt x="735" y="5"/>
                  </a:lnTo>
                  <a:lnTo>
                    <a:pt x="653" y="0"/>
                  </a:lnTo>
                  <a:lnTo>
                    <a:pt x="571" y="5"/>
                  </a:lnTo>
                  <a:lnTo>
                    <a:pt x="490" y="20"/>
                  </a:lnTo>
                  <a:lnTo>
                    <a:pt x="411" y="46"/>
                  </a:lnTo>
                  <a:lnTo>
                    <a:pt x="335" y="81"/>
                  </a:lnTo>
                  <a:lnTo>
                    <a:pt x="264" y="127"/>
                  </a:lnTo>
                  <a:lnTo>
                    <a:pt x="199" y="182"/>
                  </a:lnTo>
                  <a:lnTo>
                    <a:pt x="139" y="249"/>
                  </a:lnTo>
                  <a:lnTo>
                    <a:pt x="113" y="286"/>
                  </a:lnTo>
                  <a:lnTo>
                    <a:pt x="88" y="325"/>
                  </a:lnTo>
                  <a:lnTo>
                    <a:pt x="67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4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50" y="1163"/>
                  </a:lnTo>
                  <a:lnTo>
                    <a:pt x="319" y="1211"/>
                  </a:lnTo>
                  <a:lnTo>
                    <a:pt x="394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3" y="1302"/>
                  </a:lnTo>
                  <a:lnTo>
                    <a:pt x="653" y="983"/>
                  </a:lnTo>
                  <a:lnTo>
                    <a:pt x="699" y="979"/>
                  </a:lnTo>
                  <a:lnTo>
                    <a:pt x="744" y="971"/>
                  </a:lnTo>
                  <a:lnTo>
                    <a:pt x="785" y="955"/>
                  </a:lnTo>
                  <a:lnTo>
                    <a:pt x="824" y="936"/>
                  </a:lnTo>
                  <a:lnTo>
                    <a:pt x="858" y="911"/>
                  </a:lnTo>
                  <a:lnTo>
                    <a:pt x="890" y="883"/>
                  </a:lnTo>
                  <a:lnTo>
                    <a:pt x="918" y="852"/>
                  </a:lnTo>
                  <a:lnTo>
                    <a:pt x="940" y="816"/>
                  </a:lnTo>
                  <a:lnTo>
                    <a:pt x="959" y="778"/>
                  </a:lnTo>
                  <a:lnTo>
                    <a:pt x="974" y="739"/>
                  </a:lnTo>
                  <a:lnTo>
                    <a:pt x="982" y="698"/>
                  </a:lnTo>
                  <a:lnTo>
                    <a:pt x="985" y="656"/>
                  </a:lnTo>
                  <a:lnTo>
                    <a:pt x="983" y="612"/>
                  </a:lnTo>
                  <a:lnTo>
                    <a:pt x="975" y="569"/>
                  </a:lnTo>
                  <a:lnTo>
                    <a:pt x="961" y="527"/>
                  </a:lnTo>
                  <a:lnTo>
                    <a:pt x="940" y="484"/>
                  </a:lnTo>
                  <a:lnTo>
                    <a:pt x="914" y="445"/>
                  </a:lnTo>
                  <a:lnTo>
                    <a:pt x="884" y="412"/>
                  </a:lnTo>
                  <a:lnTo>
                    <a:pt x="851" y="383"/>
                  </a:lnTo>
                  <a:lnTo>
                    <a:pt x="814" y="359"/>
                  </a:lnTo>
                  <a:lnTo>
                    <a:pt x="776" y="342"/>
                  </a:lnTo>
                  <a:lnTo>
                    <a:pt x="736" y="328"/>
                  </a:lnTo>
                  <a:lnTo>
                    <a:pt x="694" y="321"/>
                  </a:lnTo>
                  <a:lnTo>
                    <a:pt x="653" y="319"/>
                  </a:lnTo>
                  <a:lnTo>
                    <a:pt x="611" y="321"/>
                  </a:lnTo>
                  <a:lnTo>
                    <a:pt x="569" y="328"/>
                  </a:lnTo>
                  <a:lnTo>
                    <a:pt x="529" y="342"/>
                  </a:lnTo>
                  <a:lnTo>
                    <a:pt x="491" y="359"/>
                  </a:lnTo>
                  <a:lnTo>
                    <a:pt x="454" y="383"/>
                  </a:lnTo>
                  <a:lnTo>
                    <a:pt x="421" y="412"/>
                  </a:lnTo>
                  <a:lnTo>
                    <a:pt x="391" y="445"/>
                  </a:lnTo>
                  <a:lnTo>
                    <a:pt x="365" y="484"/>
                  </a:lnTo>
                  <a:lnTo>
                    <a:pt x="344" y="527"/>
                  </a:lnTo>
                  <a:lnTo>
                    <a:pt x="329" y="569"/>
                  </a:lnTo>
                  <a:lnTo>
                    <a:pt x="321" y="612"/>
                  </a:lnTo>
                  <a:lnTo>
                    <a:pt x="320" y="656"/>
                  </a:lnTo>
                  <a:lnTo>
                    <a:pt x="323" y="698"/>
                  </a:lnTo>
                  <a:lnTo>
                    <a:pt x="332" y="739"/>
                  </a:lnTo>
                  <a:lnTo>
                    <a:pt x="346" y="778"/>
                  </a:lnTo>
                  <a:lnTo>
                    <a:pt x="365" y="816"/>
                  </a:lnTo>
                  <a:lnTo>
                    <a:pt x="388" y="852"/>
                  </a:lnTo>
                  <a:lnTo>
                    <a:pt x="415" y="883"/>
                  </a:lnTo>
                  <a:lnTo>
                    <a:pt x="447" y="911"/>
                  </a:lnTo>
                  <a:lnTo>
                    <a:pt x="482" y="936"/>
                  </a:lnTo>
                  <a:lnTo>
                    <a:pt x="520" y="955"/>
                  </a:lnTo>
                  <a:lnTo>
                    <a:pt x="561" y="971"/>
                  </a:lnTo>
                  <a:lnTo>
                    <a:pt x="606" y="979"/>
                  </a:lnTo>
                  <a:lnTo>
                    <a:pt x="653" y="983"/>
                  </a:lnTo>
                  <a:lnTo>
                    <a:pt x="653" y="1302"/>
                  </a:lnTo>
                  <a:close/>
                  <a:moveTo>
                    <a:pt x="6151" y="1302"/>
                  </a:moveTo>
                  <a:lnTo>
                    <a:pt x="6243" y="1296"/>
                  </a:lnTo>
                  <a:lnTo>
                    <a:pt x="6330" y="1278"/>
                  </a:lnTo>
                  <a:lnTo>
                    <a:pt x="6412" y="1249"/>
                  </a:lnTo>
                  <a:lnTo>
                    <a:pt x="6487" y="1211"/>
                  </a:lnTo>
                  <a:lnTo>
                    <a:pt x="6554" y="1163"/>
                  </a:lnTo>
                  <a:lnTo>
                    <a:pt x="6616" y="1107"/>
                  </a:lnTo>
                  <a:lnTo>
                    <a:pt x="6670" y="1044"/>
                  </a:lnTo>
                  <a:lnTo>
                    <a:pt x="6716" y="977"/>
                  </a:lnTo>
                  <a:lnTo>
                    <a:pt x="6752" y="903"/>
                  </a:lnTo>
                  <a:lnTo>
                    <a:pt x="6779" y="825"/>
                  </a:lnTo>
                  <a:lnTo>
                    <a:pt x="6797" y="744"/>
                  </a:lnTo>
                  <a:lnTo>
                    <a:pt x="6804" y="661"/>
                  </a:lnTo>
                  <a:lnTo>
                    <a:pt x="6799" y="577"/>
                  </a:lnTo>
                  <a:lnTo>
                    <a:pt x="6784" y="491"/>
                  </a:lnTo>
                  <a:lnTo>
                    <a:pt x="6756" y="408"/>
                  </a:lnTo>
                  <a:lnTo>
                    <a:pt x="6716" y="325"/>
                  </a:lnTo>
                  <a:lnTo>
                    <a:pt x="6665" y="249"/>
                  </a:lnTo>
                  <a:lnTo>
                    <a:pt x="6605" y="182"/>
                  </a:lnTo>
                  <a:lnTo>
                    <a:pt x="6540" y="127"/>
                  </a:lnTo>
                  <a:lnTo>
                    <a:pt x="6469" y="81"/>
                  </a:lnTo>
                  <a:lnTo>
                    <a:pt x="6394" y="46"/>
                  </a:lnTo>
                  <a:lnTo>
                    <a:pt x="6315" y="20"/>
                  </a:lnTo>
                  <a:lnTo>
                    <a:pt x="6235" y="5"/>
                  </a:lnTo>
                  <a:lnTo>
                    <a:pt x="6153" y="0"/>
                  </a:lnTo>
                  <a:lnTo>
                    <a:pt x="6069" y="5"/>
                  </a:lnTo>
                  <a:lnTo>
                    <a:pt x="5988" y="20"/>
                  </a:lnTo>
                  <a:lnTo>
                    <a:pt x="5910" y="46"/>
                  </a:lnTo>
                  <a:lnTo>
                    <a:pt x="5835" y="81"/>
                  </a:lnTo>
                  <a:lnTo>
                    <a:pt x="5764" y="127"/>
                  </a:lnTo>
                  <a:lnTo>
                    <a:pt x="5698" y="182"/>
                  </a:lnTo>
                  <a:lnTo>
                    <a:pt x="5639" y="249"/>
                  </a:lnTo>
                  <a:lnTo>
                    <a:pt x="5613" y="286"/>
                  </a:lnTo>
                  <a:lnTo>
                    <a:pt x="5588" y="325"/>
                  </a:lnTo>
                  <a:lnTo>
                    <a:pt x="5567" y="366"/>
                  </a:lnTo>
                  <a:lnTo>
                    <a:pt x="5547" y="408"/>
                  </a:lnTo>
                  <a:lnTo>
                    <a:pt x="5519" y="491"/>
                  </a:lnTo>
                  <a:lnTo>
                    <a:pt x="5504" y="577"/>
                  </a:lnTo>
                  <a:lnTo>
                    <a:pt x="5499" y="661"/>
                  </a:lnTo>
                  <a:lnTo>
                    <a:pt x="5506" y="744"/>
                  </a:lnTo>
                  <a:lnTo>
                    <a:pt x="5524" y="825"/>
                  </a:lnTo>
                  <a:lnTo>
                    <a:pt x="5551" y="903"/>
                  </a:lnTo>
                  <a:lnTo>
                    <a:pt x="5588" y="977"/>
                  </a:lnTo>
                  <a:lnTo>
                    <a:pt x="5633" y="1044"/>
                  </a:lnTo>
                  <a:lnTo>
                    <a:pt x="5687" y="1107"/>
                  </a:lnTo>
                  <a:lnTo>
                    <a:pt x="5748" y="1163"/>
                  </a:lnTo>
                  <a:lnTo>
                    <a:pt x="5817" y="1211"/>
                  </a:lnTo>
                  <a:lnTo>
                    <a:pt x="5892" y="1249"/>
                  </a:lnTo>
                  <a:lnTo>
                    <a:pt x="5973" y="1278"/>
                  </a:lnTo>
                  <a:lnTo>
                    <a:pt x="6060" y="1296"/>
                  </a:lnTo>
                  <a:lnTo>
                    <a:pt x="6151" y="1302"/>
                  </a:lnTo>
                  <a:lnTo>
                    <a:pt x="6151" y="983"/>
                  </a:lnTo>
                  <a:lnTo>
                    <a:pt x="6198" y="979"/>
                  </a:lnTo>
                  <a:lnTo>
                    <a:pt x="6243" y="971"/>
                  </a:lnTo>
                  <a:lnTo>
                    <a:pt x="6283" y="955"/>
                  </a:lnTo>
                  <a:lnTo>
                    <a:pt x="6322" y="936"/>
                  </a:lnTo>
                  <a:lnTo>
                    <a:pt x="6357" y="911"/>
                  </a:lnTo>
                  <a:lnTo>
                    <a:pt x="6389" y="883"/>
                  </a:lnTo>
                  <a:lnTo>
                    <a:pt x="6416" y="852"/>
                  </a:lnTo>
                  <a:lnTo>
                    <a:pt x="6439" y="816"/>
                  </a:lnTo>
                  <a:lnTo>
                    <a:pt x="6458" y="778"/>
                  </a:lnTo>
                  <a:lnTo>
                    <a:pt x="6472" y="739"/>
                  </a:lnTo>
                  <a:lnTo>
                    <a:pt x="6481" y="698"/>
                  </a:lnTo>
                  <a:lnTo>
                    <a:pt x="6484" y="656"/>
                  </a:lnTo>
                  <a:lnTo>
                    <a:pt x="6483" y="612"/>
                  </a:lnTo>
                  <a:lnTo>
                    <a:pt x="6475" y="569"/>
                  </a:lnTo>
                  <a:lnTo>
                    <a:pt x="6460" y="527"/>
                  </a:lnTo>
                  <a:lnTo>
                    <a:pt x="6440" y="484"/>
                  </a:lnTo>
                  <a:lnTo>
                    <a:pt x="6414" y="445"/>
                  </a:lnTo>
                  <a:lnTo>
                    <a:pt x="6384" y="412"/>
                  </a:lnTo>
                  <a:lnTo>
                    <a:pt x="6350" y="383"/>
                  </a:lnTo>
                  <a:lnTo>
                    <a:pt x="6314" y="359"/>
                  </a:lnTo>
                  <a:lnTo>
                    <a:pt x="6275" y="342"/>
                  </a:lnTo>
                  <a:lnTo>
                    <a:pt x="6235" y="328"/>
                  </a:lnTo>
                  <a:lnTo>
                    <a:pt x="6193" y="321"/>
                  </a:lnTo>
                  <a:lnTo>
                    <a:pt x="6151" y="319"/>
                  </a:lnTo>
                  <a:lnTo>
                    <a:pt x="6110" y="321"/>
                  </a:lnTo>
                  <a:lnTo>
                    <a:pt x="6068" y="328"/>
                  </a:lnTo>
                  <a:lnTo>
                    <a:pt x="6028" y="342"/>
                  </a:lnTo>
                  <a:lnTo>
                    <a:pt x="5990" y="359"/>
                  </a:lnTo>
                  <a:lnTo>
                    <a:pt x="5953" y="383"/>
                  </a:lnTo>
                  <a:lnTo>
                    <a:pt x="5920" y="412"/>
                  </a:lnTo>
                  <a:lnTo>
                    <a:pt x="5890" y="445"/>
                  </a:lnTo>
                  <a:lnTo>
                    <a:pt x="5864" y="484"/>
                  </a:lnTo>
                  <a:lnTo>
                    <a:pt x="5842" y="527"/>
                  </a:lnTo>
                  <a:lnTo>
                    <a:pt x="5828" y="569"/>
                  </a:lnTo>
                  <a:lnTo>
                    <a:pt x="5821" y="612"/>
                  </a:lnTo>
                  <a:lnTo>
                    <a:pt x="5819" y="656"/>
                  </a:lnTo>
                  <a:lnTo>
                    <a:pt x="5822" y="698"/>
                  </a:lnTo>
                  <a:lnTo>
                    <a:pt x="5830" y="739"/>
                  </a:lnTo>
                  <a:lnTo>
                    <a:pt x="5845" y="778"/>
                  </a:lnTo>
                  <a:lnTo>
                    <a:pt x="5864" y="816"/>
                  </a:lnTo>
                  <a:lnTo>
                    <a:pt x="5886" y="852"/>
                  </a:lnTo>
                  <a:lnTo>
                    <a:pt x="5915" y="883"/>
                  </a:lnTo>
                  <a:lnTo>
                    <a:pt x="5946" y="911"/>
                  </a:lnTo>
                  <a:lnTo>
                    <a:pt x="5981" y="936"/>
                  </a:lnTo>
                  <a:lnTo>
                    <a:pt x="6019" y="955"/>
                  </a:lnTo>
                  <a:lnTo>
                    <a:pt x="6061" y="971"/>
                  </a:lnTo>
                  <a:lnTo>
                    <a:pt x="6105" y="979"/>
                  </a:lnTo>
                  <a:lnTo>
                    <a:pt x="6151" y="983"/>
                  </a:lnTo>
                  <a:lnTo>
                    <a:pt x="6151" y="1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1235160" y="3890880"/>
              <a:ext cx="414360" cy="412200"/>
            </a:xfrm>
            <a:custGeom>
              <a:avLst/>
              <a:gdLst/>
              <a:ahLst/>
              <a:rect l="l" t="t" r="r" b="b"/>
              <a:pathLst>
                <a:path w="1305" h="1302">
                  <a:moveTo>
                    <a:pt x="653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6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8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7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4" y="46"/>
                  </a:lnTo>
                  <a:lnTo>
                    <a:pt x="816" y="20"/>
                  </a:lnTo>
                  <a:lnTo>
                    <a:pt x="735" y="5"/>
                  </a:lnTo>
                  <a:lnTo>
                    <a:pt x="653" y="0"/>
                  </a:lnTo>
                  <a:lnTo>
                    <a:pt x="571" y="5"/>
                  </a:lnTo>
                  <a:lnTo>
                    <a:pt x="490" y="20"/>
                  </a:lnTo>
                  <a:lnTo>
                    <a:pt x="411" y="46"/>
                  </a:lnTo>
                  <a:lnTo>
                    <a:pt x="335" y="81"/>
                  </a:lnTo>
                  <a:lnTo>
                    <a:pt x="264" y="127"/>
                  </a:lnTo>
                  <a:lnTo>
                    <a:pt x="199" y="182"/>
                  </a:lnTo>
                  <a:lnTo>
                    <a:pt x="139" y="249"/>
                  </a:lnTo>
                  <a:lnTo>
                    <a:pt x="113" y="286"/>
                  </a:lnTo>
                  <a:lnTo>
                    <a:pt x="88" y="325"/>
                  </a:lnTo>
                  <a:lnTo>
                    <a:pt x="67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4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50" y="1163"/>
                  </a:lnTo>
                  <a:lnTo>
                    <a:pt x="319" y="1211"/>
                  </a:lnTo>
                  <a:lnTo>
                    <a:pt x="394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3" y="130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133668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5" h="664">
                  <a:moveTo>
                    <a:pt x="333" y="664"/>
                  </a:moveTo>
                  <a:lnTo>
                    <a:pt x="379" y="660"/>
                  </a:lnTo>
                  <a:lnTo>
                    <a:pt x="424" y="652"/>
                  </a:lnTo>
                  <a:lnTo>
                    <a:pt x="465" y="636"/>
                  </a:lnTo>
                  <a:lnTo>
                    <a:pt x="504" y="617"/>
                  </a:lnTo>
                  <a:lnTo>
                    <a:pt x="538" y="592"/>
                  </a:lnTo>
                  <a:lnTo>
                    <a:pt x="570" y="564"/>
                  </a:lnTo>
                  <a:lnTo>
                    <a:pt x="598" y="533"/>
                  </a:lnTo>
                  <a:lnTo>
                    <a:pt x="620" y="497"/>
                  </a:lnTo>
                  <a:lnTo>
                    <a:pt x="639" y="459"/>
                  </a:lnTo>
                  <a:lnTo>
                    <a:pt x="654" y="420"/>
                  </a:lnTo>
                  <a:lnTo>
                    <a:pt x="662" y="379"/>
                  </a:lnTo>
                  <a:lnTo>
                    <a:pt x="665" y="337"/>
                  </a:lnTo>
                  <a:lnTo>
                    <a:pt x="663" y="293"/>
                  </a:lnTo>
                  <a:lnTo>
                    <a:pt x="655" y="250"/>
                  </a:lnTo>
                  <a:lnTo>
                    <a:pt x="641" y="208"/>
                  </a:lnTo>
                  <a:lnTo>
                    <a:pt x="620" y="165"/>
                  </a:lnTo>
                  <a:lnTo>
                    <a:pt x="594" y="126"/>
                  </a:lnTo>
                  <a:lnTo>
                    <a:pt x="564" y="93"/>
                  </a:lnTo>
                  <a:lnTo>
                    <a:pt x="531" y="64"/>
                  </a:lnTo>
                  <a:lnTo>
                    <a:pt x="494" y="40"/>
                  </a:lnTo>
                  <a:lnTo>
                    <a:pt x="456" y="23"/>
                  </a:lnTo>
                  <a:lnTo>
                    <a:pt x="416" y="9"/>
                  </a:lnTo>
                  <a:lnTo>
                    <a:pt x="374" y="2"/>
                  </a:lnTo>
                  <a:lnTo>
                    <a:pt x="333" y="0"/>
                  </a:lnTo>
                  <a:lnTo>
                    <a:pt x="291" y="2"/>
                  </a:lnTo>
                  <a:lnTo>
                    <a:pt x="249" y="9"/>
                  </a:lnTo>
                  <a:lnTo>
                    <a:pt x="209" y="23"/>
                  </a:lnTo>
                  <a:lnTo>
                    <a:pt x="171" y="40"/>
                  </a:lnTo>
                  <a:lnTo>
                    <a:pt x="134" y="64"/>
                  </a:lnTo>
                  <a:lnTo>
                    <a:pt x="101" y="93"/>
                  </a:lnTo>
                  <a:lnTo>
                    <a:pt x="71" y="126"/>
                  </a:lnTo>
                  <a:lnTo>
                    <a:pt x="45" y="165"/>
                  </a:lnTo>
                  <a:lnTo>
                    <a:pt x="24" y="208"/>
                  </a:lnTo>
                  <a:lnTo>
                    <a:pt x="9" y="250"/>
                  </a:lnTo>
                  <a:lnTo>
                    <a:pt x="1" y="293"/>
                  </a:lnTo>
                  <a:lnTo>
                    <a:pt x="0" y="337"/>
                  </a:lnTo>
                  <a:lnTo>
                    <a:pt x="3" y="379"/>
                  </a:lnTo>
                  <a:lnTo>
                    <a:pt x="12" y="420"/>
                  </a:lnTo>
                  <a:lnTo>
                    <a:pt x="26" y="459"/>
                  </a:lnTo>
                  <a:lnTo>
                    <a:pt x="45" y="497"/>
                  </a:lnTo>
                  <a:lnTo>
                    <a:pt x="68" y="533"/>
                  </a:lnTo>
                  <a:lnTo>
                    <a:pt x="95" y="564"/>
                  </a:lnTo>
                  <a:lnTo>
                    <a:pt x="127" y="592"/>
                  </a:lnTo>
                  <a:lnTo>
                    <a:pt x="162" y="617"/>
                  </a:lnTo>
                  <a:lnTo>
                    <a:pt x="200" y="636"/>
                  </a:lnTo>
                  <a:lnTo>
                    <a:pt x="241" y="652"/>
                  </a:lnTo>
                  <a:lnTo>
                    <a:pt x="286" y="660"/>
                  </a:lnTo>
                  <a:lnTo>
                    <a:pt x="333" y="6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2981520" y="3890880"/>
              <a:ext cx="414360" cy="412200"/>
            </a:xfrm>
            <a:custGeom>
              <a:avLst/>
              <a:gdLst/>
              <a:ahLst/>
              <a:rect l="l" t="t" r="r" b="b"/>
              <a:pathLst>
                <a:path w="1305" h="1302">
                  <a:moveTo>
                    <a:pt x="652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5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7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6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5" y="46"/>
                  </a:lnTo>
                  <a:lnTo>
                    <a:pt x="816" y="20"/>
                  </a:lnTo>
                  <a:lnTo>
                    <a:pt x="736" y="5"/>
                  </a:lnTo>
                  <a:lnTo>
                    <a:pt x="654" y="0"/>
                  </a:lnTo>
                  <a:lnTo>
                    <a:pt x="570" y="5"/>
                  </a:lnTo>
                  <a:lnTo>
                    <a:pt x="489" y="20"/>
                  </a:lnTo>
                  <a:lnTo>
                    <a:pt x="411" y="46"/>
                  </a:lnTo>
                  <a:lnTo>
                    <a:pt x="336" y="81"/>
                  </a:lnTo>
                  <a:lnTo>
                    <a:pt x="265" y="127"/>
                  </a:lnTo>
                  <a:lnTo>
                    <a:pt x="199" y="182"/>
                  </a:lnTo>
                  <a:lnTo>
                    <a:pt x="140" y="249"/>
                  </a:lnTo>
                  <a:lnTo>
                    <a:pt x="114" y="286"/>
                  </a:lnTo>
                  <a:lnTo>
                    <a:pt x="89" y="325"/>
                  </a:lnTo>
                  <a:lnTo>
                    <a:pt x="68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5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49" y="1163"/>
                  </a:lnTo>
                  <a:lnTo>
                    <a:pt x="318" y="1211"/>
                  </a:lnTo>
                  <a:lnTo>
                    <a:pt x="393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2" y="130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08304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5" h="664">
                  <a:moveTo>
                    <a:pt x="332" y="664"/>
                  </a:moveTo>
                  <a:lnTo>
                    <a:pt x="379" y="660"/>
                  </a:lnTo>
                  <a:lnTo>
                    <a:pt x="424" y="652"/>
                  </a:lnTo>
                  <a:lnTo>
                    <a:pt x="464" y="636"/>
                  </a:lnTo>
                  <a:lnTo>
                    <a:pt x="503" y="617"/>
                  </a:lnTo>
                  <a:lnTo>
                    <a:pt x="538" y="592"/>
                  </a:lnTo>
                  <a:lnTo>
                    <a:pt x="570" y="564"/>
                  </a:lnTo>
                  <a:lnTo>
                    <a:pt x="597" y="533"/>
                  </a:lnTo>
                  <a:lnTo>
                    <a:pt x="620" y="497"/>
                  </a:lnTo>
                  <a:lnTo>
                    <a:pt x="639" y="459"/>
                  </a:lnTo>
                  <a:lnTo>
                    <a:pt x="653" y="420"/>
                  </a:lnTo>
                  <a:lnTo>
                    <a:pt x="662" y="379"/>
                  </a:lnTo>
                  <a:lnTo>
                    <a:pt x="665" y="337"/>
                  </a:lnTo>
                  <a:lnTo>
                    <a:pt x="664" y="293"/>
                  </a:lnTo>
                  <a:lnTo>
                    <a:pt x="656" y="250"/>
                  </a:lnTo>
                  <a:lnTo>
                    <a:pt x="641" y="208"/>
                  </a:lnTo>
                  <a:lnTo>
                    <a:pt x="621" y="165"/>
                  </a:lnTo>
                  <a:lnTo>
                    <a:pt x="595" y="126"/>
                  </a:lnTo>
                  <a:lnTo>
                    <a:pt x="565" y="93"/>
                  </a:lnTo>
                  <a:lnTo>
                    <a:pt x="531" y="64"/>
                  </a:lnTo>
                  <a:lnTo>
                    <a:pt x="495" y="40"/>
                  </a:lnTo>
                  <a:lnTo>
                    <a:pt x="456" y="23"/>
                  </a:lnTo>
                  <a:lnTo>
                    <a:pt x="416" y="9"/>
                  </a:lnTo>
                  <a:lnTo>
                    <a:pt x="374" y="2"/>
                  </a:lnTo>
                  <a:lnTo>
                    <a:pt x="332" y="0"/>
                  </a:lnTo>
                  <a:lnTo>
                    <a:pt x="291" y="2"/>
                  </a:lnTo>
                  <a:lnTo>
                    <a:pt x="249" y="9"/>
                  </a:lnTo>
                  <a:lnTo>
                    <a:pt x="209" y="23"/>
                  </a:lnTo>
                  <a:lnTo>
                    <a:pt x="171" y="40"/>
                  </a:lnTo>
                  <a:lnTo>
                    <a:pt x="134" y="64"/>
                  </a:lnTo>
                  <a:lnTo>
                    <a:pt x="101" y="93"/>
                  </a:lnTo>
                  <a:lnTo>
                    <a:pt x="71" y="126"/>
                  </a:lnTo>
                  <a:lnTo>
                    <a:pt x="45" y="165"/>
                  </a:lnTo>
                  <a:lnTo>
                    <a:pt x="23" y="208"/>
                  </a:lnTo>
                  <a:lnTo>
                    <a:pt x="9" y="250"/>
                  </a:lnTo>
                  <a:lnTo>
                    <a:pt x="2" y="293"/>
                  </a:lnTo>
                  <a:lnTo>
                    <a:pt x="0" y="337"/>
                  </a:lnTo>
                  <a:lnTo>
                    <a:pt x="3" y="379"/>
                  </a:lnTo>
                  <a:lnTo>
                    <a:pt x="11" y="420"/>
                  </a:lnTo>
                  <a:lnTo>
                    <a:pt x="26" y="459"/>
                  </a:lnTo>
                  <a:lnTo>
                    <a:pt x="45" y="497"/>
                  </a:lnTo>
                  <a:lnTo>
                    <a:pt x="67" y="533"/>
                  </a:lnTo>
                  <a:lnTo>
                    <a:pt x="96" y="564"/>
                  </a:lnTo>
                  <a:lnTo>
                    <a:pt x="127" y="592"/>
                  </a:lnTo>
                  <a:lnTo>
                    <a:pt x="162" y="617"/>
                  </a:lnTo>
                  <a:lnTo>
                    <a:pt x="200" y="636"/>
                  </a:lnTo>
                  <a:lnTo>
                    <a:pt x="242" y="652"/>
                  </a:lnTo>
                  <a:lnTo>
                    <a:pt x="286" y="660"/>
                  </a:lnTo>
                  <a:lnTo>
                    <a:pt x="332" y="6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0" name=""/>
          <p:cNvGrpSpPr/>
          <p:nvPr/>
        </p:nvGrpSpPr>
        <p:grpSpPr>
          <a:xfrm>
            <a:off x="4876920" y="3270240"/>
            <a:ext cx="3878280" cy="1077840"/>
            <a:chOff x="4876920" y="3270240"/>
            <a:chExt cx="3878280" cy="1077840"/>
          </a:xfrm>
        </p:grpSpPr>
        <p:sp>
          <p:nvSpPr>
            <p:cNvPr id="6981" name=""/>
            <p:cNvSpPr/>
            <p:nvPr/>
          </p:nvSpPr>
          <p:spPr>
            <a:xfrm>
              <a:off x="4876920" y="3270240"/>
              <a:ext cx="3878280" cy="1077840"/>
            </a:xfrm>
            <a:custGeom>
              <a:avLst/>
              <a:gdLst/>
              <a:ahLst/>
              <a:rect l="l" t="t" r="r" b="b"/>
              <a:pathLst>
                <a:path w="9770" h="2716">
                  <a:moveTo>
                    <a:pt x="126" y="2099"/>
                  </a:moveTo>
                  <a:lnTo>
                    <a:pt x="28" y="1875"/>
                  </a:lnTo>
                  <a:lnTo>
                    <a:pt x="0" y="1717"/>
                  </a:lnTo>
                  <a:lnTo>
                    <a:pt x="79" y="1658"/>
                  </a:lnTo>
                  <a:lnTo>
                    <a:pt x="100" y="1658"/>
                  </a:lnTo>
                  <a:lnTo>
                    <a:pt x="464" y="1065"/>
                  </a:lnTo>
                  <a:lnTo>
                    <a:pt x="573" y="988"/>
                  </a:lnTo>
                  <a:lnTo>
                    <a:pt x="2250" y="754"/>
                  </a:lnTo>
                  <a:lnTo>
                    <a:pt x="2409" y="112"/>
                  </a:lnTo>
                  <a:lnTo>
                    <a:pt x="2606" y="84"/>
                  </a:lnTo>
                  <a:lnTo>
                    <a:pt x="2805" y="60"/>
                  </a:lnTo>
                  <a:lnTo>
                    <a:pt x="3003" y="39"/>
                  </a:lnTo>
                  <a:lnTo>
                    <a:pt x="3201" y="24"/>
                  </a:lnTo>
                  <a:lnTo>
                    <a:pt x="3600" y="4"/>
                  </a:lnTo>
                  <a:lnTo>
                    <a:pt x="3998" y="0"/>
                  </a:lnTo>
                  <a:lnTo>
                    <a:pt x="4397" y="13"/>
                  </a:lnTo>
                  <a:lnTo>
                    <a:pt x="4793" y="41"/>
                  </a:lnTo>
                  <a:lnTo>
                    <a:pt x="4992" y="61"/>
                  </a:lnTo>
                  <a:lnTo>
                    <a:pt x="5189" y="85"/>
                  </a:lnTo>
                  <a:lnTo>
                    <a:pt x="5584" y="144"/>
                  </a:lnTo>
                  <a:lnTo>
                    <a:pt x="6595" y="787"/>
                  </a:lnTo>
                  <a:lnTo>
                    <a:pt x="6629" y="768"/>
                  </a:lnTo>
                  <a:lnTo>
                    <a:pt x="6648" y="763"/>
                  </a:lnTo>
                  <a:lnTo>
                    <a:pt x="6671" y="760"/>
                  </a:lnTo>
                  <a:lnTo>
                    <a:pt x="9384" y="1042"/>
                  </a:lnTo>
                  <a:lnTo>
                    <a:pt x="9436" y="1052"/>
                  </a:lnTo>
                  <a:lnTo>
                    <a:pt x="9475" y="1067"/>
                  </a:lnTo>
                  <a:lnTo>
                    <a:pt x="9504" y="1089"/>
                  </a:lnTo>
                  <a:lnTo>
                    <a:pt x="9525" y="1114"/>
                  </a:lnTo>
                  <a:lnTo>
                    <a:pt x="9539" y="1141"/>
                  </a:lnTo>
                  <a:lnTo>
                    <a:pt x="9548" y="1170"/>
                  </a:lnTo>
                  <a:lnTo>
                    <a:pt x="9555" y="1227"/>
                  </a:lnTo>
                  <a:lnTo>
                    <a:pt x="9580" y="1532"/>
                  </a:lnTo>
                  <a:lnTo>
                    <a:pt x="9770" y="1603"/>
                  </a:lnTo>
                  <a:lnTo>
                    <a:pt x="9770" y="1783"/>
                  </a:lnTo>
                  <a:lnTo>
                    <a:pt x="9688" y="1794"/>
                  </a:lnTo>
                  <a:lnTo>
                    <a:pt x="9678" y="1947"/>
                  </a:lnTo>
                  <a:lnTo>
                    <a:pt x="9335" y="2038"/>
                  </a:lnTo>
                  <a:lnTo>
                    <a:pt x="9252" y="2132"/>
                  </a:lnTo>
                  <a:lnTo>
                    <a:pt x="8654" y="2170"/>
                  </a:lnTo>
                  <a:lnTo>
                    <a:pt x="8652" y="2115"/>
                  </a:lnTo>
                  <a:lnTo>
                    <a:pt x="8527" y="2115"/>
                  </a:lnTo>
                  <a:lnTo>
                    <a:pt x="8521" y="2177"/>
                  </a:lnTo>
                  <a:lnTo>
                    <a:pt x="8508" y="2238"/>
                  </a:lnTo>
                  <a:lnTo>
                    <a:pt x="8490" y="2296"/>
                  </a:lnTo>
                  <a:lnTo>
                    <a:pt x="8467" y="2352"/>
                  </a:lnTo>
                  <a:lnTo>
                    <a:pt x="8440" y="2403"/>
                  </a:lnTo>
                  <a:lnTo>
                    <a:pt x="8407" y="2454"/>
                  </a:lnTo>
                  <a:lnTo>
                    <a:pt x="8370" y="2500"/>
                  </a:lnTo>
                  <a:lnTo>
                    <a:pt x="8329" y="2543"/>
                  </a:lnTo>
                  <a:lnTo>
                    <a:pt x="8284" y="2580"/>
                  </a:lnTo>
                  <a:lnTo>
                    <a:pt x="8236" y="2615"/>
                  </a:lnTo>
                  <a:lnTo>
                    <a:pt x="8185" y="2645"/>
                  </a:lnTo>
                  <a:lnTo>
                    <a:pt x="8131" y="2669"/>
                  </a:lnTo>
                  <a:lnTo>
                    <a:pt x="8074" y="2689"/>
                  </a:lnTo>
                  <a:lnTo>
                    <a:pt x="8015" y="2704"/>
                  </a:lnTo>
                  <a:lnTo>
                    <a:pt x="7953" y="2713"/>
                  </a:lnTo>
                  <a:lnTo>
                    <a:pt x="7891" y="2716"/>
                  </a:lnTo>
                  <a:lnTo>
                    <a:pt x="7829" y="2713"/>
                  </a:lnTo>
                  <a:lnTo>
                    <a:pt x="7767" y="2704"/>
                  </a:lnTo>
                  <a:lnTo>
                    <a:pt x="7709" y="2689"/>
                  </a:lnTo>
                  <a:lnTo>
                    <a:pt x="7652" y="2669"/>
                  </a:lnTo>
                  <a:lnTo>
                    <a:pt x="7598" y="2645"/>
                  </a:lnTo>
                  <a:lnTo>
                    <a:pt x="7546" y="2615"/>
                  </a:lnTo>
                  <a:lnTo>
                    <a:pt x="7498" y="2580"/>
                  </a:lnTo>
                  <a:lnTo>
                    <a:pt x="7453" y="2543"/>
                  </a:lnTo>
                  <a:lnTo>
                    <a:pt x="7413" y="2500"/>
                  </a:lnTo>
                  <a:lnTo>
                    <a:pt x="7375" y="2453"/>
                  </a:lnTo>
                  <a:lnTo>
                    <a:pt x="7343" y="2403"/>
                  </a:lnTo>
                  <a:lnTo>
                    <a:pt x="7314" y="2350"/>
                  </a:lnTo>
                  <a:lnTo>
                    <a:pt x="7291" y="2295"/>
                  </a:lnTo>
                  <a:lnTo>
                    <a:pt x="7273" y="2237"/>
                  </a:lnTo>
                  <a:lnTo>
                    <a:pt x="7261" y="2177"/>
                  </a:lnTo>
                  <a:lnTo>
                    <a:pt x="7254" y="2114"/>
                  </a:lnTo>
                  <a:lnTo>
                    <a:pt x="6925" y="2115"/>
                  </a:lnTo>
                  <a:lnTo>
                    <a:pt x="6894" y="2224"/>
                  </a:lnTo>
                  <a:lnTo>
                    <a:pt x="3412" y="2208"/>
                  </a:lnTo>
                  <a:lnTo>
                    <a:pt x="3391" y="2115"/>
                  </a:lnTo>
                  <a:lnTo>
                    <a:pt x="3198" y="2115"/>
                  </a:lnTo>
                  <a:lnTo>
                    <a:pt x="3187" y="2178"/>
                  </a:lnTo>
                  <a:lnTo>
                    <a:pt x="3172" y="2239"/>
                  </a:lnTo>
                  <a:lnTo>
                    <a:pt x="3152" y="2297"/>
                  </a:lnTo>
                  <a:lnTo>
                    <a:pt x="3127" y="2353"/>
                  </a:lnTo>
                  <a:lnTo>
                    <a:pt x="3095" y="2406"/>
                  </a:lnTo>
                  <a:lnTo>
                    <a:pt x="3061" y="2455"/>
                  </a:lnTo>
                  <a:lnTo>
                    <a:pt x="3022" y="2501"/>
                  </a:lnTo>
                  <a:lnTo>
                    <a:pt x="2978" y="2544"/>
                  </a:lnTo>
                  <a:lnTo>
                    <a:pt x="2932" y="2582"/>
                  </a:lnTo>
                  <a:lnTo>
                    <a:pt x="2882" y="2616"/>
                  </a:lnTo>
                  <a:lnTo>
                    <a:pt x="2829" y="2645"/>
                  </a:lnTo>
                  <a:lnTo>
                    <a:pt x="2773" y="2670"/>
                  </a:lnTo>
                  <a:lnTo>
                    <a:pt x="2715" y="2689"/>
                  </a:lnTo>
                  <a:lnTo>
                    <a:pt x="2656" y="2704"/>
                  </a:lnTo>
                  <a:lnTo>
                    <a:pt x="2592" y="2713"/>
                  </a:lnTo>
                  <a:lnTo>
                    <a:pt x="2529" y="2716"/>
                  </a:lnTo>
                  <a:lnTo>
                    <a:pt x="2466" y="2713"/>
                  </a:lnTo>
                  <a:lnTo>
                    <a:pt x="2402" y="2704"/>
                  </a:lnTo>
                  <a:lnTo>
                    <a:pt x="2343" y="2689"/>
                  </a:lnTo>
                  <a:lnTo>
                    <a:pt x="2285" y="2670"/>
                  </a:lnTo>
                  <a:lnTo>
                    <a:pt x="2229" y="2645"/>
                  </a:lnTo>
                  <a:lnTo>
                    <a:pt x="2176" y="2616"/>
                  </a:lnTo>
                  <a:lnTo>
                    <a:pt x="2126" y="2582"/>
                  </a:lnTo>
                  <a:lnTo>
                    <a:pt x="2079" y="2544"/>
                  </a:lnTo>
                  <a:lnTo>
                    <a:pt x="2036" y="2501"/>
                  </a:lnTo>
                  <a:lnTo>
                    <a:pt x="1997" y="2455"/>
                  </a:lnTo>
                  <a:lnTo>
                    <a:pt x="1963" y="2405"/>
                  </a:lnTo>
                  <a:lnTo>
                    <a:pt x="1931" y="2353"/>
                  </a:lnTo>
                  <a:lnTo>
                    <a:pt x="1906" y="2297"/>
                  </a:lnTo>
                  <a:lnTo>
                    <a:pt x="1886" y="2238"/>
                  </a:lnTo>
                  <a:lnTo>
                    <a:pt x="1871" y="2177"/>
                  </a:lnTo>
                  <a:lnTo>
                    <a:pt x="1860" y="2114"/>
                  </a:lnTo>
                  <a:lnTo>
                    <a:pt x="1535" y="2115"/>
                  </a:lnTo>
                  <a:lnTo>
                    <a:pt x="1515" y="2153"/>
                  </a:lnTo>
                  <a:lnTo>
                    <a:pt x="126" y="2099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c8f3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4876920" y="3270240"/>
              <a:ext cx="3878280" cy="1077840"/>
            </a:xfrm>
            <a:custGeom>
              <a:avLst/>
              <a:gdLst/>
              <a:ahLst/>
              <a:rect l="l" t="t" r="r" b="b"/>
              <a:pathLst>
                <a:path w="9770" h="2716">
                  <a:moveTo>
                    <a:pt x="126" y="2099"/>
                  </a:moveTo>
                  <a:lnTo>
                    <a:pt x="28" y="1875"/>
                  </a:lnTo>
                  <a:lnTo>
                    <a:pt x="0" y="1717"/>
                  </a:lnTo>
                  <a:lnTo>
                    <a:pt x="79" y="1658"/>
                  </a:lnTo>
                  <a:lnTo>
                    <a:pt x="100" y="1658"/>
                  </a:lnTo>
                  <a:lnTo>
                    <a:pt x="464" y="1065"/>
                  </a:lnTo>
                  <a:lnTo>
                    <a:pt x="573" y="988"/>
                  </a:lnTo>
                  <a:lnTo>
                    <a:pt x="2250" y="754"/>
                  </a:lnTo>
                  <a:lnTo>
                    <a:pt x="2409" y="112"/>
                  </a:lnTo>
                  <a:lnTo>
                    <a:pt x="2606" y="84"/>
                  </a:lnTo>
                  <a:lnTo>
                    <a:pt x="2805" y="60"/>
                  </a:lnTo>
                  <a:lnTo>
                    <a:pt x="3003" y="39"/>
                  </a:lnTo>
                  <a:lnTo>
                    <a:pt x="3201" y="24"/>
                  </a:lnTo>
                  <a:lnTo>
                    <a:pt x="3600" y="4"/>
                  </a:lnTo>
                  <a:lnTo>
                    <a:pt x="3998" y="0"/>
                  </a:lnTo>
                  <a:lnTo>
                    <a:pt x="4397" y="13"/>
                  </a:lnTo>
                  <a:lnTo>
                    <a:pt x="4793" y="41"/>
                  </a:lnTo>
                  <a:lnTo>
                    <a:pt x="4992" y="61"/>
                  </a:lnTo>
                  <a:lnTo>
                    <a:pt x="5189" y="85"/>
                  </a:lnTo>
                  <a:lnTo>
                    <a:pt x="5584" y="144"/>
                  </a:lnTo>
                  <a:lnTo>
                    <a:pt x="6595" y="787"/>
                  </a:lnTo>
                  <a:lnTo>
                    <a:pt x="6629" y="768"/>
                  </a:lnTo>
                  <a:lnTo>
                    <a:pt x="6648" y="763"/>
                  </a:lnTo>
                  <a:lnTo>
                    <a:pt x="6671" y="760"/>
                  </a:lnTo>
                  <a:lnTo>
                    <a:pt x="9384" y="1042"/>
                  </a:lnTo>
                  <a:lnTo>
                    <a:pt x="9436" y="1052"/>
                  </a:lnTo>
                  <a:lnTo>
                    <a:pt x="9475" y="1067"/>
                  </a:lnTo>
                  <a:lnTo>
                    <a:pt x="9504" y="1089"/>
                  </a:lnTo>
                  <a:lnTo>
                    <a:pt x="9525" y="1114"/>
                  </a:lnTo>
                  <a:lnTo>
                    <a:pt x="9539" y="1141"/>
                  </a:lnTo>
                  <a:lnTo>
                    <a:pt x="9548" y="1170"/>
                  </a:lnTo>
                  <a:lnTo>
                    <a:pt x="9555" y="1227"/>
                  </a:lnTo>
                  <a:lnTo>
                    <a:pt x="9580" y="1532"/>
                  </a:lnTo>
                  <a:lnTo>
                    <a:pt x="9770" y="1603"/>
                  </a:lnTo>
                  <a:lnTo>
                    <a:pt x="9770" y="1783"/>
                  </a:lnTo>
                  <a:lnTo>
                    <a:pt x="9688" y="1794"/>
                  </a:lnTo>
                  <a:lnTo>
                    <a:pt x="9678" y="1947"/>
                  </a:lnTo>
                  <a:lnTo>
                    <a:pt x="9335" y="2038"/>
                  </a:lnTo>
                  <a:lnTo>
                    <a:pt x="9252" y="2132"/>
                  </a:lnTo>
                  <a:lnTo>
                    <a:pt x="8654" y="2170"/>
                  </a:lnTo>
                  <a:lnTo>
                    <a:pt x="8652" y="2115"/>
                  </a:lnTo>
                  <a:lnTo>
                    <a:pt x="8527" y="2115"/>
                  </a:lnTo>
                  <a:lnTo>
                    <a:pt x="8521" y="2177"/>
                  </a:lnTo>
                  <a:lnTo>
                    <a:pt x="8508" y="2238"/>
                  </a:lnTo>
                  <a:lnTo>
                    <a:pt x="8490" y="2296"/>
                  </a:lnTo>
                  <a:lnTo>
                    <a:pt x="8467" y="2352"/>
                  </a:lnTo>
                  <a:lnTo>
                    <a:pt x="8440" y="2403"/>
                  </a:lnTo>
                  <a:lnTo>
                    <a:pt x="8407" y="2454"/>
                  </a:lnTo>
                  <a:lnTo>
                    <a:pt x="8370" y="2500"/>
                  </a:lnTo>
                  <a:lnTo>
                    <a:pt x="8329" y="2543"/>
                  </a:lnTo>
                  <a:lnTo>
                    <a:pt x="8284" y="2580"/>
                  </a:lnTo>
                  <a:lnTo>
                    <a:pt x="8236" y="2615"/>
                  </a:lnTo>
                  <a:lnTo>
                    <a:pt x="8185" y="2645"/>
                  </a:lnTo>
                  <a:lnTo>
                    <a:pt x="8131" y="2669"/>
                  </a:lnTo>
                  <a:lnTo>
                    <a:pt x="8074" y="2689"/>
                  </a:lnTo>
                  <a:lnTo>
                    <a:pt x="8015" y="2704"/>
                  </a:lnTo>
                  <a:lnTo>
                    <a:pt x="7953" y="2713"/>
                  </a:lnTo>
                  <a:lnTo>
                    <a:pt x="7891" y="2716"/>
                  </a:lnTo>
                  <a:lnTo>
                    <a:pt x="7829" y="2713"/>
                  </a:lnTo>
                  <a:lnTo>
                    <a:pt x="7767" y="2704"/>
                  </a:lnTo>
                  <a:lnTo>
                    <a:pt x="7709" y="2689"/>
                  </a:lnTo>
                  <a:lnTo>
                    <a:pt x="7652" y="2669"/>
                  </a:lnTo>
                  <a:lnTo>
                    <a:pt x="7598" y="2645"/>
                  </a:lnTo>
                  <a:lnTo>
                    <a:pt x="7546" y="2615"/>
                  </a:lnTo>
                  <a:lnTo>
                    <a:pt x="7498" y="2580"/>
                  </a:lnTo>
                  <a:lnTo>
                    <a:pt x="7453" y="2543"/>
                  </a:lnTo>
                  <a:lnTo>
                    <a:pt x="7413" y="2500"/>
                  </a:lnTo>
                  <a:lnTo>
                    <a:pt x="7375" y="2453"/>
                  </a:lnTo>
                  <a:lnTo>
                    <a:pt x="7343" y="2403"/>
                  </a:lnTo>
                  <a:lnTo>
                    <a:pt x="7314" y="2350"/>
                  </a:lnTo>
                  <a:lnTo>
                    <a:pt x="7291" y="2295"/>
                  </a:lnTo>
                  <a:lnTo>
                    <a:pt x="7273" y="2237"/>
                  </a:lnTo>
                  <a:lnTo>
                    <a:pt x="7261" y="2177"/>
                  </a:lnTo>
                  <a:lnTo>
                    <a:pt x="7254" y="2114"/>
                  </a:lnTo>
                  <a:lnTo>
                    <a:pt x="6925" y="2115"/>
                  </a:lnTo>
                  <a:lnTo>
                    <a:pt x="6894" y="2224"/>
                  </a:lnTo>
                  <a:lnTo>
                    <a:pt x="3412" y="2208"/>
                  </a:lnTo>
                  <a:lnTo>
                    <a:pt x="3391" y="2115"/>
                  </a:lnTo>
                  <a:lnTo>
                    <a:pt x="3198" y="2115"/>
                  </a:lnTo>
                  <a:lnTo>
                    <a:pt x="3187" y="2178"/>
                  </a:lnTo>
                  <a:lnTo>
                    <a:pt x="3172" y="2239"/>
                  </a:lnTo>
                  <a:lnTo>
                    <a:pt x="3152" y="2297"/>
                  </a:lnTo>
                  <a:lnTo>
                    <a:pt x="3127" y="2353"/>
                  </a:lnTo>
                  <a:lnTo>
                    <a:pt x="3095" y="2406"/>
                  </a:lnTo>
                  <a:lnTo>
                    <a:pt x="3061" y="2455"/>
                  </a:lnTo>
                  <a:lnTo>
                    <a:pt x="3022" y="2501"/>
                  </a:lnTo>
                  <a:lnTo>
                    <a:pt x="2978" y="2544"/>
                  </a:lnTo>
                  <a:lnTo>
                    <a:pt x="2932" y="2582"/>
                  </a:lnTo>
                  <a:lnTo>
                    <a:pt x="2882" y="2616"/>
                  </a:lnTo>
                  <a:lnTo>
                    <a:pt x="2829" y="2645"/>
                  </a:lnTo>
                  <a:lnTo>
                    <a:pt x="2773" y="2670"/>
                  </a:lnTo>
                  <a:lnTo>
                    <a:pt x="2715" y="2689"/>
                  </a:lnTo>
                  <a:lnTo>
                    <a:pt x="2656" y="2704"/>
                  </a:lnTo>
                  <a:lnTo>
                    <a:pt x="2592" y="2713"/>
                  </a:lnTo>
                  <a:lnTo>
                    <a:pt x="2529" y="2716"/>
                  </a:lnTo>
                  <a:lnTo>
                    <a:pt x="2466" y="2713"/>
                  </a:lnTo>
                  <a:lnTo>
                    <a:pt x="2402" y="2704"/>
                  </a:lnTo>
                  <a:lnTo>
                    <a:pt x="2343" y="2689"/>
                  </a:lnTo>
                  <a:lnTo>
                    <a:pt x="2285" y="2670"/>
                  </a:lnTo>
                  <a:lnTo>
                    <a:pt x="2229" y="2645"/>
                  </a:lnTo>
                  <a:lnTo>
                    <a:pt x="2176" y="2616"/>
                  </a:lnTo>
                  <a:lnTo>
                    <a:pt x="2126" y="2582"/>
                  </a:lnTo>
                  <a:lnTo>
                    <a:pt x="2079" y="2544"/>
                  </a:lnTo>
                  <a:lnTo>
                    <a:pt x="2036" y="2501"/>
                  </a:lnTo>
                  <a:lnTo>
                    <a:pt x="1997" y="2455"/>
                  </a:lnTo>
                  <a:lnTo>
                    <a:pt x="1963" y="2405"/>
                  </a:lnTo>
                  <a:lnTo>
                    <a:pt x="1931" y="2353"/>
                  </a:lnTo>
                  <a:lnTo>
                    <a:pt x="1906" y="2297"/>
                  </a:lnTo>
                  <a:lnTo>
                    <a:pt x="1886" y="2238"/>
                  </a:lnTo>
                  <a:lnTo>
                    <a:pt x="1871" y="2177"/>
                  </a:lnTo>
                  <a:lnTo>
                    <a:pt x="1860" y="2114"/>
                  </a:lnTo>
                  <a:lnTo>
                    <a:pt x="1535" y="2115"/>
                  </a:lnTo>
                  <a:lnTo>
                    <a:pt x="1515" y="2153"/>
                  </a:lnTo>
                  <a:lnTo>
                    <a:pt x="126" y="209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4888080" y="4014720"/>
              <a:ext cx="65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 flipH="1">
              <a:off x="4916160" y="3921120"/>
              <a:ext cx="703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4876920" y="3951360"/>
              <a:ext cx="18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5062680" y="392760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4951440" y="3736800"/>
              <a:ext cx="135000" cy="1350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0" y="339"/>
                  </a:moveTo>
                  <a:lnTo>
                    <a:pt x="195" y="339"/>
                  </a:lnTo>
                  <a:lnTo>
                    <a:pt x="340" y="0"/>
                  </a:lnTo>
                  <a:lnTo>
                    <a:pt x="2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5060880" y="3602160"/>
              <a:ext cx="3584520" cy="277560"/>
            </a:xfrm>
            <a:custGeom>
              <a:avLst/>
              <a:gdLst/>
              <a:ahLst/>
              <a:rect l="l" t="t" r="r" b="b"/>
              <a:pathLst>
                <a:path w="9032" h="700">
                  <a:moveTo>
                    <a:pt x="0" y="230"/>
                  </a:moveTo>
                  <a:lnTo>
                    <a:pt x="352" y="172"/>
                  </a:lnTo>
                  <a:lnTo>
                    <a:pt x="705" y="121"/>
                  </a:lnTo>
                  <a:lnTo>
                    <a:pt x="1060" y="81"/>
                  </a:lnTo>
                  <a:lnTo>
                    <a:pt x="1417" y="48"/>
                  </a:lnTo>
                  <a:lnTo>
                    <a:pt x="1774" y="22"/>
                  </a:lnTo>
                  <a:lnTo>
                    <a:pt x="2132" y="7"/>
                  </a:lnTo>
                  <a:lnTo>
                    <a:pt x="2492" y="0"/>
                  </a:lnTo>
                  <a:lnTo>
                    <a:pt x="2851" y="1"/>
                  </a:lnTo>
                  <a:lnTo>
                    <a:pt x="2870" y="29"/>
                  </a:lnTo>
                  <a:lnTo>
                    <a:pt x="2894" y="53"/>
                  </a:lnTo>
                  <a:lnTo>
                    <a:pt x="2922" y="75"/>
                  </a:lnTo>
                  <a:lnTo>
                    <a:pt x="2955" y="96"/>
                  </a:lnTo>
                  <a:lnTo>
                    <a:pt x="3032" y="130"/>
                  </a:lnTo>
                  <a:lnTo>
                    <a:pt x="3121" y="155"/>
                  </a:lnTo>
                  <a:lnTo>
                    <a:pt x="3217" y="174"/>
                  </a:lnTo>
                  <a:lnTo>
                    <a:pt x="3319" y="187"/>
                  </a:lnTo>
                  <a:lnTo>
                    <a:pt x="3420" y="194"/>
                  </a:lnTo>
                  <a:lnTo>
                    <a:pt x="3520" y="197"/>
                  </a:lnTo>
                  <a:lnTo>
                    <a:pt x="6157" y="218"/>
                  </a:lnTo>
                  <a:lnTo>
                    <a:pt x="8867" y="371"/>
                  </a:lnTo>
                  <a:lnTo>
                    <a:pt x="8892" y="375"/>
                  </a:lnTo>
                  <a:lnTo>
                    <a:pt x="8914" y="383"/>
                  </a:lnTo>
                  <a:lnTo>
                    <a:pt x="8933" y="395"/>
                  </a:lnTo>
                  <a:lnTo>
                    <a:pt x="8948" y="410"/>
                  </a:lnTo>
                  <a:lnTo>
                    <a:pt x="8971" y="447"/>
                  </a:lnTo>
                  <a:lnTo>
                    <a:pt x="8983" y="491"/>
                  </a:lnTo>
                  <a:lnTo>
                    <a:pt x="9032" y="7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8218440" y="3857760"/>
              <a:ext cx="460440" cy="28440"/>
            </a:xfrm>
            <a:custGeom>
              <a:avLst/>
              <a:gdLst/>
              <a:ahLst/>
              <a:rect l="l" t="t" r="r" b="b"/>
              <a:pathLst>
                <a:path w="1161" h="76">
                  <a:moveTo>
                    <a:pt x="1161" y="54"/>
                  </a:moveTo>
                  <a:lnTo>
                    <a:pt x="1077" y="57"/>
                  </a:lnTo>
                  <a:lnTo>
                    <a:pt x="164" y="7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 flipV="1">
              <a:off x="8308800" y="4079520"/>
              <a:ext cx="27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 flipH="1">
              <a:off x="8526600" y="3983040"/>
              <a:ext cx="19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 flipH="1">
              <a:off x="8527680" y="3906720"/>
              <a:ext cx="227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8523360" y="3676680"/>
              <a:ext cx="17280" cy="403200"/>
            </a:xfrm>
            <a:custGeom>
              <a:avLst/>
              <a:gdLst/>
              <a:ahLst/>
              <a:rect l="l" t="t" r="r" b="b"/>
              <a:pathLst>
                <a:path w="43" h="1015">
                  <a:moveTo>
                    <a:pt x="0" y="1015"/>
                  </a:moveTo>
                  <a:lnTo>
                    <a:pt x="13" y="514"/>
                  </a:lnTo>
                  <a:lnTo>
                    <a:pt x="13" y="173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7624800" y="3809880"/>
              <a:ext cx="685800" cy="300240"/>
            </a:xfrm>
            <a:custGeom>
              <a:avLst/>
              <a:gdLst/>
              <a:ahLst/>
              <a:rect l="l" t="t" r="r" b="b"/>
              <a:pathLst>
                <a:path w="1727" h="757">
                  <a:moveTo>
                    <a:pt x="1727" y="757"/>
                  </a:moveTo>
                  <a:lnTo>
                    <a:pt x="1720" y="670"/>
                  </a:lnTo>
                  <a:lnTo>
                    <a:pt x="1705" y="588"/>
                  </a:lnTo>
                  <a:lnTo>
                    <a:pt x="1683" y="511"/>
                  </a:lnTo>
                  <a:lnTo>
                    <a:pt x="1655" y="439"/>
                  </a:lnTo>
                  <a:lnTo>
                    <a:pt x="1621" y="372"/>
                  </a:lnTo>
                  <a:lnTo>
                    <a:pt x="1582" y="311"/>
                  </a:lnTo>
                  <a:lnTo>
                    <a:pt x="1537" y="255"/>
                  </a:lnTo>
                  <a:lnTo>
                    <a:pt x="1489" y="205"/>
                  </a:lnTo>
                  <a:lnTo>
                    <a:pt x="1436" y="159"/>
                  </a:lnTo>
                  <a:lnTo>
                    <a:pt x="1379" y="119"/>
                  </a:lnTo>
                  <a:lnTo>
                    <a:pt x="1318" y="85"/>
                  </a:lnTo>
                  <a:lnTo>
                    <a:pt x="1255" y="57"/>
                  </a:lnTo>
                  <a:lnTo>
                    <a:pt x="1189" y="34"/>
                  </a:lnTo>
                  <a:lnTo>
                    <a:pt x="1121" y="16"/>
                  </a:lnTo>
                  <a:lnTo>
                    <a:pt x="1051" y="5"/>
                  </a:lnTo>
                  <a:lnTo>
                    <a:pt x="980" y="0"/>
                  </a:lnTo>
                  <a:lnTo>
                    <a:pt x="908" y="1"/>
                  </a:lnTo>
                  <a:lnTo>
                    <a:pt x="835" y="8"/>
                  </a:lnTo>
                  <a:lnTo>
                    <a:pt x="762" y="20"/>
                  </a:lnTo>
                  <a:lnTo>
                    <a:pt x="690" y="38"/>
                  </a:lnTo>
                  <a:lnTo>
                    <a:pt x="618" y="63"/>
                  </a:lnTo>
                  <a:lnTo>
                    <a:pt x="548" y="94"/>
                  </a:lnTo>
                  <a:lnTo>
                    <a:pt x="479" y="131"/>
                  </a:lnTo>
                  <a:lnTo>
                    <a:pt x="413" y="174"/>
                  </a:lnTo>
                  <a:lnTo>
                    <a:pt x="348" y="225"/>
                  </a:lnTo>
                  <a:lnTo>
                    <a:pt x="286" y="281"/>
                  </a:lnTo>
                  <a:lnTo>
                    <a:pt x="228" y="344"/>
                  </a:lnTo>
                  <a:lnTo>
                    <a:pt x="174" y="413"/>
                  </a:lnTo>
                  <a:lnTo>
                    <a:pt x="123" y="489"/>
                  </a:lnTo>
                  <a:lnTo>
                    <a:pt x="77" y="571"/>
                  </a:lnTo>
                  <a:lnTo>
                    <a:pt x="36" y="661"/>
                  </a:lnTo>
                  <a:lnTo>
                    <a:pt x="0" y="7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7756560" y="3843360"/>
              <a:ext cx="504720" cy="266760"/>
            </a:xfrm>
            <a:custGeom>
              <a:avLst/>
              <a:gdLst/>
              <a:ahLst/>
              <a:rect l="l" t="t" r="r" b="b"/>
              <a:pathLst>
                <a:path w="1273" h="672">
                  <a:moveTo>
                    <a:pt x="0" y="672"/>
                  </a:moveTo>
                  <a:lnTo>
                    <a:pt x="0" y="604"/>
                  </a:lnTo>
                  <a:lnTo>
                    <a:pt x="7" y="538"/>
                  </a:lnTo>
                  <a:lnTo>
                    <a:pt x="21" y="475"/>
                  </a:lnTo>
                  <a:lnTo>
                    <a:pt x="40" y="413"/>
                  </a:lnTo>
                  <a:lnTo>
                    <a:pt x="65" y="355"/>
                  </a:lnTo>
                  <a:lnTo>
                    <a:pt x="97" y="299"/>
                  </a:lnTo>
                  <a:lnTo>
                    <a:pt x="133" y="247"/>
                  </a:lnTo>
                  <a:lnTo>
                    <a:pt x="174" y="199"/>
                  </a:lnTo>
                  <a:lnTo>
                    <a:pt x="219" y="155"/>
                  </a:lnTo>
                  <a:lnTo>
                    <a:pt x="270" y="116"/>
                  </a:lnTo>
                  <a:lnTo>
                    <a:pt x="323" y="82"/>
                  </a:lnTo>
                  <a:lnTo>
                    <a:pt x="380" y="53"/>
                  </a:lnTo>
                  <a:lnTo>
                    <a:pt x="441" y="30"/>
                  </a:lnTo>
                  <a:lnTo>
                    <a:pt x="504" y="14"/>
                  </a:lnTo>
                  <a:lnTo>
                    <a:pt x="570" y="3"/>
                  </a:lnTo>
                  <a:lnTo>
                    <a:pt x="637" y="0"/>
                  </a:lnTo>
                  <a:lnTo>
                    <a:pt x="704" y="3"/>
                  </a:lnTo>
                  <a:lnTo>
                    <a:pt x="770" y="14"/>
                  </a:lnTo>
                  <a:lnTo>
                    <a:pt x="834" y="30"/>
                  </a:lnTo>
                  <a:lnTo>
                    <a:pt x="893" y="53"/>
                  </a:lnTo>
                  <a:lnTo>
                    <a:pt x="950" y="82"/>
                  </a:lnTo>
                  <a:lnTo>
                    <a:pt x="1005" y="116"/>
                  </a:lnTo>
                  <a:lnTo>
                    <a:pt x="1054" y="155"/>
                  </a:lnTo>
                  <a:lnTo>
                    <a:pt x="1099" y="199"/>
                  </a:lnTo>
                  <a:lnTo>
                    <a:pt x="1140" y="246"/>
                  </a:lnTo>
                  <a:lnTo>
                    <a:pt x="1177" y="298"/>
                  </a:lnTo>
                  <a:lnTo>
                    <a:pt x="1208" y="354"/>
                  </a:lnTo>
                  <a:lnTo>
                    <a:pt x="1234" y="413"/>
                  </a:lnTo>
                  <a:lnTo>
                    <a:pt x="1253" y="474"/>
                  </a:lnTo>
                  <a:lnTo>
                    <a:pt x="1267" y="537"/>
                  </a:lnTo>
                  <a:lnTo>
                    <a:pt x="1273" y="604"/>
                  </a:lnTo>
                  <a:lnTo>
                    <a:pt x="1273" y="6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7867800" y="3954600"/>
              <a:ext cx="280800" cy="280800"/>
            </a:xfrm>
            <a:custGeom>
              <a:avLst/>
              <a:gdLst/>
              <a:ahLst/>
              <a:rect l="l" t="t" r="r" b="b"/>
              <a:pathLst>
                <a:path w="709" h="707">
                  <a:moveTo>
                    <a:pt x="354" y="707"/>
                  </a:moveTo>
                  <a:lnTo>
                    <a:pt x="404" y="703"/>
                  </a:lnTo>
                  <a:lnTo>
                    <a:pt x="452" y="694"/>
                  </a:lnTo>
                  <a:lnTo>
                    <a:pt x="495" y="677"/>
                  </a:lnTo>
                  <a:lnTo>
                    <a:pt x="537" y="657"/>
                  </a:lnTo>
                  <a:lnTo>
                    <a:pt x="573" y="631"/>
                  </a:lnTo>
                  <a:lnTo>
                    <a:pt x="606" y="600"/>
                  </a:lnTo>
                  <a:lnTo>
                    <a:pt x="635" y="567"/>
                  </a:lnTo>
                  <a:lnTo>
                    <a:pt x="661" y="530"/>
                  </a:lnTo>
                  <a:lnTo>
                    <a:pt x="680" y="490"/>
                  </a:lnTo>
                  <a:lnTo>
                    <a:pt x="695" y="447"/>
                  </a:lnTo>
                  <a:lnTo>
                    <a:pt x="705" y="404"/>
                  </a:lnTo>
                  <a:lnTo>
                    <a:pt x="709" y="359"/>
                  </a:lnTo>
                  <a:lnTo>
                    <a:pt x="706" y="313"/>
                  </a:lnTo>
                  <a:lnTo>
                    <a:pt x="697" y="267"/>
                  </a:lnTo>
                  <a:lnTo>
                    <a:pt x="682" y="221"/>
                  </a:lnTo>
                  <a:lnTo>
                    <a:pt x="661" y="177"/>
                  </a:lnTo>
                  <a:lnTo>
                    <a:pt x="633" y="135"/>
                  </a:lnTo>
                  <a:lnTo>
                    <a:pt x="601" y="100"/>
                  </a:lnTo>
                  <a:lnTo>
                    <a:pt x="565" y="69"/>
                  </a:lnTo>
                  <a:lnTo>
                    <a:pt x="527" y="44"/>
                  </a:lnTo>
                  <a:lnTo>
                    <a:pt x="485" y="25"/>
                  </a:lnTo>
                  <a:lnTo>
                    <a:pt x="443" y="11"/>
                  </a:lnTo>
                  <a:lnTo>
                    <a:pt x="399" y="2"/>
                  </a:lnTo>
                  <a:lnTo>
                    <a:pt x="354" y="0"/>
                  </a:lnTo>
                  <a:lnTo>
                    <a:pt x="309" y="2"/>
                  </a:lnTo>
                  <a:lnTo>
                    <a:pt x="264" y="11"/>
                  </a:lnTo>
                  <a:lnTo>
                    <a:pt x="223" y="25"/>
                  </a:lnTo>
                  <a:lnTo>
                    <a:pt x="181" y="44"/>
                  </a:lnTo>
                  <a:lnTo>
                    <a:pt x="143" y="69"/>
                  </a:lnTo>
                  <a:lnTo>
                    <a:pt x="106" y="100"/>
                  </a:lnTo>
                  <a:lnTo>
                    <a:pt x="74" y="135"/>
                  </a:lnTo>
                  <a:lnTo>
                    <a:pt x="47" y="177"/>
                  </a:lnTo>
                  <a:lnTo>
                    <a:pt x="25" y="221"/>
                  </a:lnTo>
                  <a:lnTo>
                    <a:pt x="10" y="267"/>
                  </a:lnTo>
                  <a:lnTo>
                    <a:pt x="1" y="313"/>
                  </a:lnTo>
                  <a:lnTo>
                    <a:pt x="0" y="359"/>
                  </a:lnTo>
                  <a:lnTo>
                    <a:pt x="4" y="404"/>
                  </a:lnTo>
                  <a:lnTo>
                    <a:pt x="12" y="447"/>
                  </a:lnTo>
                  <a:lnTo>
                    <a:pt x="28" y="490"/>
                  </a:lnTo>
                  <a:lnTo>
                    <a:pt x="48" y="530"/>
                  </a:lnTo>
                  <a:lnTo>
                    <a:pt x="72" y="567"/>
                  </a:lnTo>
                  <a:lnTo>
                    <a:pt x="101" y="600"/>
                  </a:lnTo>
                  <a:lnTo>
                    <a:pt x="135" y="631"/>
                  </a:lnTo>
                  <a:lnTo>
                    <a:pt x="172" y="657"/>
                  </a:lnTo>
                  <a:lnTo>
                    <a:pt x="214" y="677"/>
                  </a:lnTo>
                  <a:lnTo>
                    <a:pt x="257" y="694"/>
                  </a:lnTo>
                  <a:lnTo>
                    <a:pt x="305" y="703"/>
                  </a:lnTo>
                  <a:lnTo>
                    <a:pt x="354" y="70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7937640" y="4025880"/>
              <a:ext cx="141120" cy="139680"/>
            </a:xfrm>
            <a:custGeom>
              <a:avLst/>
              <a:gdLst/>
              <a:ahLst/>
              <a:rect l="l" t="t" r="r" b="b"/>
              <a:pathLst>
                <a:path w="356" h="353">
                  <a:moveTo>
                    <a:pt x="178" y="353"/>
                  </a:moveTo>
                  <a:lnTo>
                    <a:pt x="226" y="346"/>
                  </a:lnTo>
                  <a:lnTo>
                    <a:pt x="269" y="327"/>
                  </a:lnTo>
                  <a:lnTo>
                    <a:pt x="304" y="299"/>
                  </a:lnTo>
                  <a:lnTo>
                    <a:pt x="332" y="264"/>
                  </a:lnTo>
                  <a:lnTo>
                    <a:pt x="348" y="224"/>
                  </a:lnTo>
                  <a:lnTo>
                    <a:pt x="356" y="178"/>
                  </a:lnTo>
                  <a:lnTo>
                    <a:pt x="349" y="133"/>
                  </a:lnTo>
                  <a:lnTo>
                    <a:pt x="332" y="87"/>
                  </a:lnTo>
                  <a:lnTo>
                    <a:pt x="301" y="49"/>
                  </a:lnTo>
                  <a:lnTo>
                    <a:pt x="264" y="21"/>
                  </a:lnTo>
                  <a:lnTo>
                    <a:pt x="223" y="5"/>
                  </a:lnTo>
                  <a:lnTo>
                    <a:pt x="178" y="0"/>
                  </a:lnTo>
                  <a:lnTo>
                    <a:pt x="133" y="5"/>
                  </a:lnTo>
                  <a:lnTo>
                    <a:pt x="91" y="21"/>
                  </a:lnTo>
                  <a:lnTo>
                    <a:pt x="54" y="49"/>
                  </a:lnTo>
                  <a:lnTo>
                    <a:pt x="38" y="67"/>
                  </a:lnTo>
                  <a:lnTo>
                    <a:pt x="24" y="87"/>
                  </a:lnTo>
                  <a:lnTo>
                    <a:pt x="5" y="133"/>
                  </a:lnTo>
                  <a:lnTo>
                    <a:pt x="1" y="155"/>
                  </a:lnTo>
                  <a:lnTo>
                    <a:pt x="0" y="178"/>
                  </a:lnTo>
                  <a:lnTo>
                    <a:pt x="7" y="224"/>
                  </a:lnTo>
                  <a:lnTo>
                    <a:pt x="25" y="264"/>
                  </a:lnTo>
                  <a:lnTo>
                    <a:pt x="52" y="299"/>
                  </a:lnTo>
                  <a:lnTo>
                    <a:pt x="87" y="327"/>
                  </a:lnTo>
                  <a:lnTo>
                    <a:pt x="130" y="346"/>
                  </a:lnTo>
                  <a:lnTo>
                    <a:pt x="178" y="35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 flipH="1">
              <a:off x="6215040" y="4083120"/>
              <a:ext cx="14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5486400" y="3794040"/>
              <a:ext cx="736560" cy="316080"/>
            </a:xfrm>
            <a:custGeom>
              <a:avLst/>
              <a:gdLst/>
              <a:ahLst/>
              <a:rect l="l" t="t" r="r" b="b"/>
              <a:pathLst>
                <a:path w="1856" h="794">
                  <a:moveTo>
                    <a:pt x="1856" y="794"/>
                  </a:moveTo>
                  <a:lnTo>
                    <a:pt x="1832" y="710"/>
                  </a:lnTo>
                  <a:lnTo>
                    <a:pt x="1804" y="629"/>
                  </a:lnTo>
                  <a:lnTo>
                    <a:pt x="1773" y="552"/>
                  </a:lnTo>
                  <a:lnTo>
                    <a:pt x="1737" y="479"/>
                  </a:lnTo>
                  <a:lnTo>
                    <a:pt x="1697" y="411"/>
                  </a:lnTo>
                  <a:lnTo>
                    <a:pt x="1654" y="348"/>
                  </a:lnTo>
                  <a:lnTo>
                    <a:pt x="1607" y="290"/>
                  </a:lnTo>
                  <a:lnTo>
                    <a:pt x="1557" y="237"/>
                  </a:lnTo>
                  <a:lnTo>
                    <a:pt x="1506" y="189"/>
                  </a:lnTo>
                  <a:lnTo>
                    <a:pt x="1451" y="146"/>
                  </a:lnTo>
                  <a:lnTo>
                    <a:pt x="1393" y="108"/>
                  </a:lnTo>
                  <a:lnTo>
                    <a:pt x="1333" y="75"/>
                  </a:lnTo>
                  <a:lnTo>
                    <a:pt x="1271" y="48"/>
                  </a:lnTo>
                  <a:lnTo>
                    <a:pt x="1208" y="28"/>
                  </a:lnTo>
                  <a:lnTo>
                    <a:pt x="1143" y="13"/>
                  </a:lnTo>
                  <a:lnTo>
                    <a:pt x="1076" y="4"/>
                  </a:lnTo>
                  <a:lnTo>
                    <a:pt x="1009" y="0"/>
                  </a:lnTo>
                  <a:lnTo>
                    <a:pt x="941" y="4"/>
                  </a:lnTo>
                  <a:lnTo>
                    <a:pt x="871" y="14"/>
                  </a:lnTo>
                  <a:lnTo>
                    <a:pt x="802" y="31"/>
                  </a:lnTo>
                  <a:lnTo>
                    <a:pt x="732" y="53"/>
                  </a:lnTo>
                  <a:lnTo>
                    <a:pt x="661" y="84"/>
                  </a:lnTo>
                  <a:lnTo>
                    <a:pt x="591" y="122"/>
                  </a:lnTo>
                  <a:lnTo>
                    <a:pt x="522" y="166"/>
                  </a:lnTo>
                  <a:lnTo>
                    <a:pt x="452" y="218"/>
                  </a:lnTo>
                  <a:lnTo>
                    <a:pt x="384" y="276"/>
                  </a:lnTo>
                  <a:lnTo>
                    <a:pt x="317" y="343"/>
                  </a:lnTo>
                  <a:lnTo>
                    <a:pt x="249" y="418"/>
                  </a:lnTo>
                  <a:lnTo>
                    <a:pt x="185" y="500"/>
                  </a:lnTo>
                  <a:lnTo>
                    <a:pt x="122" y="589"/>
                  </a:lnTo>
                  <a:lnTo>
                    <a:pt x="60" y="688"/>
                  </a:lnTo>
                  <a:lnTo>
                    <a:pt x="0" y="7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5613480" y="3814920"/>
              <a:ext cx="533160" cy="295200"/>
            </a:xfrm>
            <a:custGeom>
              <a:avLst/>
              <a:gdLst/>
              <a:ahLst/>
              <a:rect l="l" t="t" r="r" b="b"/>
              <a:pathLst>
                <a:path w="1344" h="742">
                  <a:moveTo>
                    <a:pt x="3" y="742"/>
                  </a:moveTo>
                  <a:lnTo>
                    <a:pt x="0" y="668"/>
                  </a:lnTo>
                  <a:lnTo>
                    <a:pt x="3" y="596"/>
                  </a:lnTo>
                  <a:lnTo>
                    <a:pt x="15" y="526"/>
                  </a:lnTo>
                  <a:lnTo>
                    <a:pt x="34" y="458"/>
                  </a:lnTo>
                  <a:lnTo>
                    <a:pt x="59" y="393"/>
                  </a:lnTo>
                  <a:lnTo>
                    <a:pt x="92" y="333"/>
                  </a:lnTo>
                  <a:lnTo>
                    <a:pt x="129" y="274"/>
                  </a:lnTo>
                  <a:lnTo>
                    <a:pt x="173" y="221"/>
                  </a:lnTo>
                  <a:lnTo>
                    <a:pt x="221" y="173"/>
                  </a:lnTo>
                  <a:lnTo>
                    <a:pt x="274" y="130"/>
                  </a:lnTo>
                  <a:lnTo>
                    <a:pt x="331" y="92"/>
                  </a:lnTo>
                  <a:lnTo>
                    <a:pt x="393" y="60"/>
                  </a:lnTo>
                  <a:lnTo>
                    <a:pt x="458" y="34"/>
                  </a:lnTo>
                  <a:lnTo>
                    <a:pt x="528" y="15"/>
                  </a:lnTo>
                  <a:lnTo>
                    <a:pt x="599" y="4"/>
                  </a:lnTo>
                  <a:lnTo>
                    <a:pt x="672" y="0"/>
                  </a:lnTo>
                  <a:lnTo>
                    <a:pt x="745" y="4"/>
                  </a:lnTo>
                  <a:lnTo>
                    <a:pt x="816" y="15"/>
                  </a:lnTo>
                  <a:lnTo>
                    <a:pt x="886" y="34"/>
                  </a:lnTo>
                  <a:lnTo>
                    <a:pt x="951" y="61"/>
                  </a:lnTo>
                  <a:lnTo>
                    <a:pt x="1013" y="92"/>
                  </a:lnTo>
                  <a:lnTo>
                    <a:pt x="1070" y="130"/>
                  </a:lnTo>
                  <a:lnTo>
                    <a:pt x="1123" y="173"/>
                  </a:lnTo>
                  <a:lnTo>
                    <a:pt x="1172" y="223"/>
                  </a:lnTo>
                  <a:lnTo>
                    <a:pt x="1215" y="276"/>
                  </a:lnTo>
                  <a:lnTo>
                    <a:pt x="1252" y="333"/>
                  </a:lnTo>
                  <a:lnTo>
                    <a:pt x="1285" y="393"/>
                  </a:lnTo>
                  <a:lnTo>
                    <a:pt x="1310" y="458"/>
                  </a:lnTo>
                  <a:lnTo>
                    <a:pt x="1329" y="526"/>
                  </a:lnTo>
                  <a:lnTo>
                    <a:pt x="1341" y="596"/>
                  </a:lnTo>
                  <a:lnTo>
                    <a:pt x="1344" y="668"/>
                  </a:lnTo>
                  <a:lnTo>
                    <a:pt x="1341" y="7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5740560" y="3941640"/>
              <a:ext cx="280800" cy="279360"/>
            </a:xfrm>
            <a:custGeom>
              <a:avLst/>
              <a:gdLst/>
              <a:ahLst/>
              <a:rect l="l" t="t" r="r" b="b"/>
              <a:pathLst>
                <a:path w="710" h="707">
                  <a:moveTo>
                    <a:pt x="355" y="707"/>
                  </a:moveTo>
                  <a:lnTo>
                    <a:pt x="404" y="703"/>
                  </a:lnTo>
                  <a:lnTo>
                    <a:pt x="452" y="695"/>
                  </a:lnTo>
                  <a:lnTo>
                    <a:pt x="496" y="678"/>
                  </a:lnTo>
                  <a:lnTo>
                    <a:pt x="537" y="658"/>
                  </a:lnTo>
                  <a:lnTo>
                    <a:pt x="574" y="631"/>
                  </a:lnTo>
                  <a:lnTo>
                    <a:pt x="608" y="601"/>
                  </a:lnTo>
                  <a:lnTo>
                    <a:pt x="637" y="568"/>
                  </a:lnTo>
                  <a:lnTo>
                    <a:pt x="661" y="530"/>
                  </a:lnTo>
                  <a:lnTo>
                    <a:pt x="682" y="491"/>
                  </a:lnTo>
                  <a:lnTo>
                    <a:pt x="697" y="448"/>
                  </a:lnTo>
                  <a:lnTo>
                    <a:pt x="706" y="405"/>
                  </a:lnTo>
                  <a:lnTo>
                    <a:pt x="710" y="360"/>
                  </a:lnTo>
                  <a:lnTo>
                    <a:pt x="707" y="314"/>
                  </a:lnTo>
                  <a:lnTo>
                    <a:pt x="698" y="267"/>
                  </a:lnTo>
                  <a:lnTo>
                    <a:pt x="683" y="222"/>
                  </a:lnTo>
                  <a:lnTo>
                    <a:pt x="661" y="177"/>
                  </a:lnTo>
                  <a:lnTo>
                    <a:pt x="634" y="136"/>
                  </a:lnTo>
                  <a:lnTo>
                    <a:pt x="602" y="100"/>
                  </a:lnTo>
                  <a:lnTo>
                    <a:pt x="565" y="70"/>
                  </a:lnTo>
                  <a:lnTo>
                    <a:pt x="527" y="45"/>
                  </a:lnTo>
                  <a:lnTo>
                    <a:pt x="485" y="26"/>
                  </a:lnTo>
                  <a:lnTo>
                    <a:pt x="444" y="12"/>
                  </a:lnTo>
                  <a:lnTo>
                    <a:pt x="399" y="3"/>
                  </a:lnTo>
                  <a:lnTo>
                    <a:pt x="355" y="0"/>
                  </a:lnTo>
                  <a:lnTo>
                    <a:pt x="309" y="3"/>
                  </a:lnTo>
                  <a:lnTo>
                    <a:pt x="266" y="12"/>
                  </a:lnTo>
                  <a:lnTo>
                    <a:pt x="223" y="26"/>
                  </a:lnTo>
                  <a:lnTo>
                    <a:pt x="183" y="45"/>
                  </a:lnTo>
                  <a:lnTo>
                    <a:pt x="144" y="70"/>
                  </a:lnTo>
                  <a:lnTo>
                    <a:pt x="108" y="100"/>
                  </a:lnTo>
                  <a:lnTo>
                    <a:pt x="76" y="136"/>
                  </a:lnTo>
                  <a:lnTo>
                    <a:pt x="49" y="177"/>
                  </a:lnTo>
                  <a:lnTo>
                    <a:pt x="27" y="222"/>
                  </a:lnTo>
                  <a:lnTo>
                    <a:pt x="12" y="267"/>
                  </a:lnTo>
                  <a:lnTo>
                    <a:pt x="3" y="314"/>
                  </a:lnTo>
                  <a:lnTo>
                    <a:pt x="0" y="360"/>
                  </a:lnTo>
                  <a:lnTo>
                    <a:pt x="4" y="405"/>
                  </a:lnTo>
                  <a:lnTo>
                    <a:pt x="13" y="448"/>
                  </a:lnTo>
                  <a:lnTo>
                    <a:pt x="28" y="491"/>
                  </a:lnTo>
                  <a:lnTo>
                    <a:pt x="49" y="530"/>
                  </a:lnTo>
                  <a:lnTo>
                    <a:pt x="73" y="568"/>
                  </a:lnTo>
                  <a:lnTo>
                    <a:pt x="102" y="601"/>
                  </a:lnTo>
                  <a:lnTo>
                    <a:pt x="136" y="631"/>
                  </a:lnTo>
                  <a:lnTo>
                    <a:pt x="173" y="658"/>
                  </a:lnTo>
                  <a:lnTo>
                    <a:pt x="214" y="678"/>
                  </a:lnTo>
                  <a:lnTo>
                    <a:pt x="257" y="695"/>
                  </a:lnTo>
                  <a:lnTo>
                    <a:pt x="306" y="703"/>
                  </a:lnTo>
                  <a:lnTo>
                    <a:pt x="355" y="70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5810400" y="4011480"/>
              <a:ext cx="141120" cy="13968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177" y="354"/>
                  </a:moveTo>
                  <a:lnTo>
                    <a:pt x="225" y="348"/>
                  </a:lnTo>
                  <a:lnTo>
                    <a:pt x="268" y="329"/>
                  </a:lnTo>
                  <a:lnTo>
                    <a:pt x="302" y="301"/>
                  </a:lnTo>
                  <a:lnTo>
                    <a:pt x="330" y="266"/>
                  </a:lnTo>
                  <a:lnTo>
                    <a:pt x="347" y="224"/>
                  </a:lnTo>
                  <a:lnTo>
                    <a:pt x="354" y="180"/>
                  </a:lnTo>
                  <a:lnTo>
                    <a:pt x="348" y="134"/>
                  </a:lnTo>
                  <a:lnTo>
                    <a:pt x="330" y="89"/>
                  </a:lnTo>
                  <a:lnTo>
                    <a:pt x="300" y="50"/>
                  </a:lnTo>
                  <a:lnTo>
                    <a:pt x="263" y="23"/>
                  </a:lnTo>
                  <a:lnTo>
                    <a:pt x="221" y="7"/>
                  </a:lnTo>
                  <a:lnTo>
                    <a:pt x="177" y="0"/>
                  </a:lnTo>
                  <a:lnTo>
                    <a:pt x="133" y="7"/>
                  </a:lnTo>
                  <a:lnTo>
                    <a:pt x="91" y="23"/>
                  </a:lnTo>
                  <a:lnTo>
                    <a:pt x="54" y="50"/>
                  </a:lnTo>
                  <a:lnTo>
                    <a:pt x="38" y="69"/>
                  </a:lnTo>
                  <a:lnTo>
                    <a:pt x="24" y="89"/>
                  </a:lnTo>
                  <a:lnTo>
                    <a:pt x="5" y="134"/>
                  </a:lnTo>
                  <a:lnTo>
                    <a:pt x="1" y="157"/>
                  </a:lnTo>
                  <a:lnTo>
                    <a:pt x="0" y="180"/>
                  </a:lnTo>
                  <a:lnTo>
                    <a:pt x="6" y="224"/>
                  </a:lnTo>
                  <a:lnTo>
                    <a:pt x="24" y="266"/>
                  </a:lnTo>
                  <a:lnTo>
                    <a:pt x="50" y="301"/>
                  </a:lnTo>
                  <a:lnTo>
                    <a:pt x="86" y="329"/>
                  </a:lnTo>
                  <a:lnTo>
                    <a:pt x="129" y="348"/>
                  </a:lnTo>
                  <a:lnTo>
                    <a:pt x="177" y="3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6175440" y="3984480"/>
              <a:ext cx="1511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7473960" y="3598920"/>
              <a:ext cx="30240" cy="484200"/>
            </a:xfrm>
            <a:custGeom>
              <a:avLst/>
              <a:gdLst/>
              <a:ahLst/>
              <a:rect l="l" t="t" r="r" b="b"/>
              <a:pathLst>
                <a:path w="77" h="1220">
                  <a:moveTo>
                    <a:pt x="68" y="1220"/>
                  </a:moveTo>
                  <a:lnTo>
                    <a:pt x="77" y="2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7086600" y="3327480"/>
              <a:ext cx="407880" cy="271440"/>
            </a:xfrm>
            <a:custGeom>
              <a:avLst/>
              <a:gdLst/>
              <a:ahLst/>
              <a:rect l="l" t="t" r="r" b="b"/>
              <a:pathLst>
                <a:path w="1028" h="686">
                  <a:moveTo>
                    <a:pt x="1028" y="643"/>
                  </a:moveTo>
                  <a:lnTo>
                    <a:pt x="977" y="686"/>
                  </a:lnTo>
                  <a:lnTo>
                    <a:pt x="27" y="100"/>
                  </a:lnTo>
                  <a:lnTo>
                    <a:pt x="8" y="81"/>
                  </a:lnTo>
                  <a:lnTo>
                    <a:pt x="0" y="55"/>
                  </a:lnTo>
                  <a:lnTo>
                    <a:pt x="2" y="26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6151680" y="3355920"/>
              <a:ext cx="1234800" cy="289080"/>
            </a:xfrm>
            <a:custGeom>
              <a:avLst/>
              <a:gdLst/>
              <a:ahLst/>
              <a:rect l="l" t="t" r="r" b="b"/>
              <a:pathLst>
                <a:path w="3115" h="730">
                  <a:moveTo>
                    <a:pt x="671" y="730"/>
                  </a:moveTo>
                  <a:lnTo>
                    <a:pt x="536" y="730"/>
                  </a:lnTo>
                  <a:lnTo>
                    <a:pt x="462" y="723"/>
                  </a:lnTo>
                  <a:lnTo>
                    <a:pt x="391" y="706"/>
                  </a:lnTo>
                  <a:lnTo>
                    <a:pt x="324" y="675"/>
                  </a:lnTo>
                  <a:lnTo>
                    <a:pt x="262" y="636"/>
                  </a:lnTo>
                  <a:lnTo>
                    <a:pt x="207" y="587"/>
                  </a:lnTo>
                  <a:lnTo>
                    <a:pt x="160" y="529"/>
                  </a:lnTo>
                  <a:lnTo>
                    <a:pt x="123" y="462"/>
                  </a:lnTo>
                  <a:lnTo>
                    <a:pt x="96" y="387"/>
                  </a:lnTo>
                  <a:lnTo>
                    <a:pt x="0" y="0"/>
                  </a:lnTo>
                  <a:lnTo>
                    <a:pt x="1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2011" y="3"/>
                  </a:lnTo>
                  <a:lnTo>
                    <a:pt x="2051" y="10"/>
                  </a:lnTo>
                  <a:lnTo>
                    <a:pt x="2093" y="23"/>
                  </a:lnTo>
                  <a:lnTo>
                    <a:pt x="2138" y="38"/>
                  </a:lnTo>
                  <a:lnTo>
                    <a:pt x="2227" y="79"/>
                  </a:lnTo>
                  <a:lnTo>
                    <a:pt x="2314" y="127"/>
                  </a:lnTo>
                  <a:lnTo>
                    <a:pt x="3057" y="584"/>
                  </a:lnTo>
                  <a:lnTo>
                    <a:pt x="3094" y="612"/>
                  </a:lnTo>
                  <a:lnTo>
                    <a:pt x="3113" y="640"/>
                  </a:lnTo>
                  <a:lnTo>
                    <a:pt x="3115" y="652"/>
                  </a:lnTo>
                  <a:lnTo>
                    <a:pt x="3113" y="664"/>
                  </a:lnTo>
                  <a:lnTo>
                    <a:pt x="3097" y="685"/>
                  </a:lnTo>
                  <a:lnTo>
                    <a:pt x="3068" y="704"/>
                  </a:lnTo>
                  <a:lnTo>
                    <a:pt x="3024" y="718"/>
                  </a:lnTo>
                  <a:lnTo>
                    <a:pt x="2967" y="727"/>
                  </a:lnTo>
                  <a:lnTo>
                    <a:pt x="2899" y="730"/>
                  </a:lnTo>
                  <a:lnTo>
                    <a:pt x="671" y="730"/>
                  </a:lnTo>
                  <a:lnTo>
                    <a:pt x="6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6488280" y="3355920"/>
              <a:ext cx="25200" cy="28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6440400" y="3355920"/>
              <a:ext cx="27000" cy="727200"/>
            </a:xfrm>
            <a:custGeom>
              <a:avLst/>
              <a:gdLst/>
              <a:ahLst/>
              <a:rect l="l" t="t" r="r" b="b"/>
              <a:pathLst>
                <a:path w="67" h="1835">
                  <a:moveTo>
                    <a:pt x="0" y="0"/>
                  </a:moveTo>
                  <a:lnTo>
                    <a:pt x="67" y="730"/>
                  </a:lnTo>
                  <a:lnTo>
                    <a:pt x="50" y="18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6151680" y="3327480"/>
              <a:ext cx="1342800" cy="317520"/>
            </a:xfrm>
            <a:custGeom>
              <a:avLst/>
              <a:gdLst/>
              <a:ahLst/>
              <a:rect l="l" t="t" r="r" b="b"/>
              <a:pathLst>
                <a:path w="3385" h="801">
                  <a:moveTo>
                    <a:pt x="671" y="801"/>
                  </a:moveTo>
                  <a:lnTo>
                    <a:pt x="537" y="801"/>
                  </a:lnTo>
                  <a:lnTo>
                    <a:pt x="462" y="794"/>
                  </a:lnTo>
                  <a:lnTo>
                    <a:pt x="391" y="777"/>
                  </a:lnTo>
                  <a:lnTo>
                    <a:pt x="324" y="746"/>
                  </a:lnTo>
                  <a:lnTo>
                    <a:pt x="262" y="707"/>
                  </a:lnTo>
                  <a:lnTo>
                    <a:pt x="207" y="658"/>
                  </a:lnTo>
                  <a:lnTo>
                    <a:pt x="160" y="600"/>
                  </a:lnTo>
                  <a:lnTo>
                    <a:pt x="123" y="533"/>
                  </a:lnTo>
                  <a:lnTo>
                    <a:pt x="96" y="458"/>
                  </a:lnTo>
                  <a:lnTo>
                    <a:pt x="0" y="71"/>
                  </a:lnTo>
                  <a:lnTo>
                    <a:pt x="605" y="71"/>
                  </a:lnTo>
                  <a:lnTo>
                    <a:pt x="671" y="801"/>
                  </a:lnTo>
                  <a:close/>
                  <a:moveTo>
                    <a:pt x="916" y="801"/>
                  </a:moveTo>
                  <a:lnTo>
                    <a:pt x="850" y="71"/>
                  </a:lnTo>
                  <a:lnTo>
                    <a:pt x="1975" y="71"/>
                  </a:lnTo>
                  <a:lnTo>
                    <a:pt x="2012" y="74"/>
                  </a:lnTo>
                  <a:lnTo>
                    <a:pt x="2053" y="81"/>
                  </a:lnTo>
                  <a:lnTo>
                    <a:pt x="2094" y="94"/>
                  </a:lnTo>
                  <a:lnTo>
                    <a:pt x="2139" y="109"/>
                  </a:lnTo>
                  <a:lnTo>
                    <a:pt x="2227" y="150"/>
                  </a:lnTo>
                  <a:lnTo>
                    <a:pt x="2314" y="198"/>
                  </a:lnTo>
                  <a:lnTo>
                    <a:pt x="3058" y="655"/>
                  </a:lnTo>
                  <a:lnTo>
                    <a:pt x="3095" y="683"/>
                  </a:lnTo>
                  <a:lnTo>
                    <a:pt x="3114" y="711"/>
                  </a:lnTo>
                  <a:lnTo>
                    <a:pt x="3116" y="723"/>
                  </a:lnTo>
                  <a:lnTo>
                    <a:pt x="3114" y="735"/>
                  </a:lnTo>
                  <a:lnTo>
                    <a:pt x="3099" y="756"/>
                  </a:lnTo>
                  <a:lnTo>
                    <a:pt x="3069" y="775"/>
                  </a:lnTo>
                  <a:lnTo>
                    <a:pt x="3025" y="789"/>
                  </a:lnTo>
                  <a:lnTo>
                    <a:pt x="2968" y="798"/>
                  </a:lnTo>
                  <a:lnTo>
                    <a:pt x="2900" y="801"/>
                  </a:lnTo>
                  <a:lnTo>
                    <a:pt x="916" y="801"/>
                  </a:lnTo>
                  <a:close/>
                  <a:moveTo>
                    <a:pt x="3385" y="643"/>
                  </a:moveTo>
                  <a:lnTo>
                    <a:pt x="3335" y="686"/>
                  </a:lnTo>
                  <a:lnTo>
                    <a:pt x="2384" y="100"/>
                  </a:lnTo>
                  <a:lnTo>
                    <a:pt x="2373" y="91"/>
                  </a:lnTo>
                  <a:lnTo>
                    <a:pt x="2365" y="80"/>
                  </a:lnTo>
                  <a:lnTo>
                    <a:pt x="2358" y="55"/>
                  </a:lnTo>
                  <a:lnTo>
                    <a:pt x="2360" y="26"/>
                  </a:lnTo>
                  <a:lnTo>
                    <a:pt x="2371" y="0"/>
                  </a:lnTo>
                  <a:lnTo>
                    <a:pt x="3385" y="6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6151680" y="3355920"/>
              <a:ext cx="264960" cy="289080"/>
            </a:xfrm>
            <a:custGeom>
              <a:avLst/>
              <a:gdLst/>
              <a:ahLst/>
              <a:rect l="l" t="t" r="r" b="b"/>
              <a:pathLst>
                <a:path w="671" h="730">
                  <a:moveTo>
                    <a:pt x="671" y="730"/>
                  </a:moveTo>
                  <a:lnTo>
                    <a:pt x="537" y="730"/>
                  </a:lnTo>
                  <a:lnTo>
                    <a:pt x="462" y="723"/>
                  </a:lnTo>
                  <a:lnTo>
                    <a:pt x="391" y="706"/>
                  </a:lnTo>
                  <a:lnTo>
                    <a:pt x="324" y="675"/>
                  </a:lnTo>
                  <a:lnTo>
                    <a:pt x="262" y="636"/>
                  </a:lnTo>
                  <a:lnTo>
                    <a:pt x="207" y="587"/>
                  </a:lnTo>
                  <a:lnTo>
                    <a:pt x="160" y="529"/>
                  </a:lnTo>
                  <a:lnTo>
                    <a:pt x="123" y="462"/>
                  </a:lnTo>
                  <a:lnTo>
                    <a:pt x="96" y="387"/>
                  </a:lnTo>
                  <a:lnTo>
                    <a:pt x="0" y="0"/>
                  </a:lnTo>
                  <a:lnTo>
                    <a:pt x="605" y="0"/>
                  </a:lnTo>
                  <a:lnTo>
                    <a:pt x="671" y="73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6488280" y="3355920"/>
              <a:ext cx="900000" cy="289080"/>
            </a:xfrm>
            <a:custGeom>
              <a:avLst/>
              <a:gdLst/>
              <a:ahLst/>
              <a:rect l="l" t="t" r="r" b="b"/>
              <a:pathLst>
                <a:path w="2266" h="730">
                  <a:moveTo>
                    <a:pt x="66" y="730"/>
                  </a:moveTo>
                  <a:lnTo>
                    <a:pt x="0" y="0"/>
                  </a:lnTo>
                  <a:lnTo>
                    <a:pt x="1125" y="0"/>
                  </a:lnTo>
                  <a:lnTo>
                    <a:pt x="1162" y="3"/>
                  </a:lnTo>
                  <a:lnTo>
                    <a:pt x="1203" y="10"/>
                  </a:lnTo>
                  <a:lnTo>
                    <a:pt x="1244" y="23"/>
                  </a:lnTo>
                  <a:lnTo>
                    <a:pt x="1289" y="38"/>
                  </a:lnTo>
                  <a:lnTo>
                    <a:pt x="1377" y="79"/>
                  </a:lnTo>
                  <a:lnTo>
                    <a:pt x="1464" y="127"/>
                  </a:lnTo>
                  <a:lnTo>
                    <a:pt x="2208" y="584"/>
                  </a:lnTo>
                  <a:lnTo>
                    <a:pt x="2245" y="612"/>
                  </a:lnTo>
                  <a:lnTo>
                    <a:pt x="2264" y="640"/>
                  </a:lnTo>
                  <a:lnTo>
                    <a:pt x="2266" y="652"/>
                  </a:lnTo>
                  <a:lnTo>
                    <a:pt x="2264" y="664"/>
                  </a:lnTo>
                  <a:lnTo>
                    <a:pt x="2249" y="685"/>
                  </a:lnTo>
                  <a:lnTo>
                    <a:pt x="2219" y="704"/>
                  </a:lnTo>
                  <a:lnTo>
                    <a:pt x="2175" y="718"/>
                  </a:lnTo>
                  <a:lnTo>
                    <a:pt x="2118" y="727"/>
                  </a:lnTo>
                  <a:lnTo>
                    <a:pt x="2050" y="730"/>
                  </a:lnTo>
                  <a:lnTo>
                    <a:pt x="66" y="73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7086600" y="3327480"/>
              <a:ext cx="407880" cy="271440"/>
            </a:xfrm>
            <a:custGeom>
              <a:avLst/>
              <a:gdLst/>
              <a:ahLst/>
              <a:rect l="l" t="t" r="r" b="b"/>
              <a:pathLst>
                <a:path w="1027" h="686">
                  <a:moveTo>
                    <a:pt x="1027" y="643"/>
                  </a:moveTo>
                  <a:lnTo>
                    <a:pt x="977" y="686"/>
                  </a:lnTo>
                  <a:lnTo>
                    <a:pt x="26" y="100"/>
                  </a:lnTo>
                  <a:lnTo>
                    <a:pt x="15" y="91"/>
                  </a:lnTo>
                  <a:lnTo>
                    <a:pt x="7" y="80"/>
                  </a:lnTo>
                  <a:lnTo>
                    <a:pt x="0" y="55"/>
                  </a:lnTo>
                  <a:lnTo>
                    <a:pt x="2" y="26"/>
                  </a:lnTo>
                  <a:lnTo>
                    <a:pt x="13" y="0"/>
                  </a:lnTo>
                  <a:lnTo>
                    <a:pt x="1027" y="64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5613480" y="3814920"/>
              <a:ext cx="2647800" cy="533160"/>
            </a:xfrm>
            <a:custGeom>
              <a:avLst/>
              <a:gdLst/>
              <a:ahLst/>
              <a:rect l="l" t="t" r="r" b="b"/>
              <a:pathLst>
                <a:path w="6673" h="1344">
                  <a:moveTo>
                    <a:pt x="674" y="1344"/>
                  </a:moveTo>
                  <a:lnTo>
                    <a:pt x="769" y="1337"/>
                  </a:lnTo>
                  <a:lnTo>
                    <a:pt x="859" y="1318"/>
                  </a:lnTo>
                  <a:lnTo>
                    <a:pt x="942" y="1289"/>
                  </a:lnTo>
                  <a:lnTo>
                    <a:pt x="1020" y="1249"/>
                  </a:lnTo>
                  <a:lnTo>
                    <a:pt x="1091" y="1200"/>
                  </a:lnTo>
                  <a:lnTo>
                    <a:pt x="1154" y="1143"/>
                  </a:lnTo>
                  <a:lnTo>
                    <a:pt x="1210" y="1078"/>
                  </a:lnTo>
                  <a:lnTo>
                    <a:pt x="1256" y="1007"/>
                  </a:lnTo>
                  <a:lnTo>
                    <a:pt x="1294" y="932"/>
                  </a:lnTo>
                  <a:lnTo>
                    <a:pt x="1322" y="852"/>
                  </a:lnTo>
                  <a:lnTo>
                    <a:pt x="1340" y="769"/>
                  </a:lnTo>
                  <a:lnTo>
                    <a:pt x="1348" y="683"/>
                  </a:lnTo>
                  <a:lnTo>
                    <a:pt x="1343" y="595"/>
                  </a:lnTo>
                  <a:lnTo>
                    <a:pt x="1327" y="508"/>
                  </a:lnTo>
                  <a:lnTo>
                    <a:pt x="1315" y="464"/>
                  </a:lnTo>
                  <a:lnTo>
                    <a:pt x="1298" y="421"/>
                  </a:lnTo>
                  <a:lnTo>
                    <a:pt x="1256" y="336"/>
                  </a:lnTo>
                  <a:lnTo>
                    <a:pt x="1203" y="258"/>
                  </a:lnTo>
                  <a:lnTo>
                    <a:pt x="1142" y="190"/>
                  </a:lnTo>
                  <a:lnTo>
                    <a:pt x="1074" y="131"/>
                  </a:lnTo>
                  <a:lnTo>
                    <a:pt x="1001" y="83"/>
                  </a:lnTo>
                  <a:lnTo>
                    <a:pt x="923" y="47"/>
                  </a:lnTo>
                  <a:lnTo>
                    <a:pt x="842" y="21"/>
                  </a:lnTo>
                  <a:lnTo>
                    <a:pt x="759" y="5"/>
                  </a:lnTo>
                  <a:lnTo>
                    <a:pt x="674" y="0"/>
                  </a:lnTo>
                  <a:lnTo>
                    <a:pt x="589" y="5"/>
                  </a:lnTo>
                  <a:lnTo>
                    <a:pt x="506" y="21"/>
                  </a:lnTo>
                  <a:lnTo>
                    <a:pt x="423" y="48"/>
                  </a:lnTo>
                  <a:lnTo>
                    <a:pt x="346" y="85"/>
                  </a:lnTo>
                  <a:lnTo>
                    <a:pt x="273" y="131"/>
                  </a:lnTo>
                  <a:lnTo>
                    <a:pt x="205" y="190"/>
                  </a:lnTo>
                  <a:lnTo>
                    <a:pt x="145" y="258"/>
                  </a:lnTo>
                  <a:lnTo>
                    <a:pt x="117" y="296"/>
                  </a:lnTo>
                  <a:lnTo>
                    <a:pt x="92" y="336"/>
                  </a:lnTo>
                  <a:lnTo>
                    <a:pt x="50" y="421"/>
                  </a:lnTo>
                  <a:lnTo>
                    <a:pt x="35" y="464"/>
                  </a:lnTo>
                  <a:lnTo>
                    <a:pt x="21" y="508"/>
                  </a:lnTo>
                  <a:lnTo>
                    <a:pt x="5" y="595"/>
                  </a:lnTo>
                  <a:lnTo>
                    <a:pt x="0" y="683"/>
                  </a:lnTo>
                  <a:lnTo>
                    <a:pt x="8" y="769"/>
                  </a:lnTo>
                  <a:lnTo>
                    <a:pt x="26" y="852"/>
                  </a:lnTo>
                  <a:lnTo>
                    <a:pt x="55" y="932"/>
                  </a:lnTo>
                  <a:lnTo>
                    <a:pt x="93" y="1007"/>
                  </a:lnTo>
                  <a:lnTo>
                    <a:pt x="140" y="1078"/>
                  </a:lnTo>
                  <a:lnTo>
                    <a:pt x="194" y="1143"/>
                  </a:lnTo>
                  <a:lnTo>
                    <a:pt x="257" y="1200"/>
                  </a:lnTo>
                  <a:lnTo>
                    <a:pt x="328" y="1249"/>
                  </a:lnTo>
                  <a:lnTo>
                    <a:pt x="407" y="1289"/>
                  </a:lnTo>
                  <a:lnTo>
                    <a:pt x="490" y="1318"/>
                  </a:lnTo>
                  <a:lnTo>
                    <a:pt x="579" y="1337"/>
                  </a:lnTo>
                  <a:lnTo>
                    <a:pt x="674" y="1344"/>
                  </a:lnTo>
                  <a:lnTo>
                    <a:pt x="674" y="1025"/>
                  </a:lnTo>
                  <a:lnTo>
                    <a:pt x="723" y="1021"/>
                  </a:lnTo>
                  <a:lnTo>
                    <a:pt x="771" y="1013"/>
                  </a:lnTo>
                  <a:lnTo>
                    <a:pt x="815" y="996"/>
                  </a:lnTo>
                  <a:lnTo>
                    <a:pt x="856" y="976"/>
                  </a:lnTo>
                  <a:lnTo>
                    <a:pt x="893" y="949"/>
                  </a:lnTo>
                  <a:lnTo>
                    <a:pt x="926" y="919"/>
                  </a:lnTo>
                  <a:lnTo>
                    <a:pt x="955" y="886"/>
                  </a:lnTo>
                  <a:lnTo>
                    <a:pt x="980" y="848"/>
                  </a:lnTo>
                  <a:lnTo>
                    <a:pt x="999" y="809"/>
                  </a:lnTo>
                  <a:lnTo>
                    <a:pt x="1015" y="766"/>
                  </a:lnTo>
                  <a:lnTo>
                    <a:pt x="1025" y="723"/>
                  </a:lnTo>
                  <a:lnTo>
                    <a:pt x="1029" y="678"/>
                  </a:lnTo>
                  <a:lnTo>
                    <a:pt x="1026" y="632"/>
                  </a:lnTo>
                  <a:lnTo>
                    <a:pt x="1017" y="585"/>
                  </a:lnTo>
                  <a:lnTo>
                    <a:pt x="1002" y="540"/>
                  </a:lnTo>
                  <a:lnTo>
                    <a:pt x="980" y="495"/>
                  </a:lnTo>
                  <a:lnTo>
                    <a:pt x="953" y="454"/>
                  </a:lnTo>
                  <a:lnTo>
                    <a:pt x="921" y="418"/>
                  </a:lnTo>
                  <a:lnTo>
                    <a:pt x="884" y="388"/>
                  </a:lnTo>
                  <a:lnTo>
                    <a:pt x="846" y="363"/>
                  </a:lnTo>
                  <a:lnTo>
                    <a:pt x="804" y="343"/>
                  </a:lnTo>
                  <a:lnTo>
                    <a:pt x="763" y="330"/>
                  </a:lnTo>
                  <a:lnTo>
                    <a:pt x="718" y="321"/>
                  </a:lnTo>
                  <a:lnTo>
                    <a:pt x="674" y="318"/>
                  </a:lnTo>
                  <a:lnTo>
                    <a:pt x="628" y="321"/>
                  </a:lnTo>
                  <a:lnTo>
                    <a:pt x="585" y="330"/>
                  </a:lnTo>
                  <a:lnTo>
                    <a:pt x="542" y="343"/>
                  </a:lnTo>
                  <a:lnTo>
                    <a:pt x="502" y="363"/>
                  </a:lnTo>
                  <a:lnTo>
                    <a:pt x="463" y="388"/>
                  </a:lnTo>
                  <a:lnTo>
                    <a:pt x="427" y="418"/>
                  </a:lnTo>
                  <a:lnTo>
                    <a:pt x="395" y="454"/>
                  </a:lnTo>
                  <a:lnTo>
                    <a:pt x="368" y="495"/>
                  </a:lnTo>
                  <a:lnTo>
                    <a:pt x="346" y="540"/>
                  </a:lnTo>
                  <a:lnTo>
                    <a:pt x="331" y="585"/>
                  </a:lnTo>
                  <a:lnTo>
                    <a:pt x="322" y="632"/>
                  </a:lnTo>
                  <a:lnTo>
                    <a:pt x="319" y="678"/>
                  </a:lnTo>
                  <a:lnTo>
                    <a:pt x="323" y="723"/>
                  </a:lnTo>
                  <a:lnTo>
                    <a:pt x="332" y="766"/>
                  </a:lnTo>
                  <a:lnTo>
                    <a:pt x="347" y="809"/>
                  </a:lnTo>
                  <a:lnTo>
                    <a:pt x="368" y="848"/>
                  </a:lnTo>
                  <a:lnTo>
                    <a:pt x="392" y="886"/>
                  </a:lnTo>
                  <a:lnTo>
                    <a:pt x="421" y="919"/>
                  </a:lnTo>
                  <a:lnTo>
                    <a:pt x="455" y="949"/>
                  </a:lnTo>
                  <a:lnTo>
                    <a:pt x="492" y="976"/>
                  </a:lnTo>
                  <a:lnTo>
                    <a:pt x="533" y="996"/>
                  </a:lnTo>
                  <a:lnTo>
                    <a:pt x="576" y="1013"/>
                  </a:lnTo>
                  <a:lnTo>
                    <a:pt x="625" y="1021"/>
                  </a:lnTo>
                  <a:lnTo>
                    <a:pt x="674" y="1025"/>
                  </a:lnTo>
                  <a:lnTo>
                    <a:pt x="674" y="1344"/>
                  </a:lnTo>
                  <a:close/>
                  <a:moveTo>
                    <a:pt x="6035" y="1344"/>
                  </a:moveTo>
                  <a:lnTo>
                    <a:pt x="6125" y="1337"/>
                  </a:lnTo>
                  <a:lnTo>
                    <a:pt x="6210" y="1320"/>
                  </a:lnTo>
                  <a:lnTo>
                    <a:pt x="6290" y="1292"/>
                  </a:lnTo>
                  <a:lnTo>
                    <a:pt x="6363" y="1254"/>
                  </a:lnTo>
                  <a:lnTo>
                    <a:pt x="6430" y="1207"/>
                  </a:lnTo>
                  <a:lnTo>
                    <a:pt x="6490" y="1153"/>
                  </a:lnTo>
                  <a:lnTo>
                    <a:pt x="6543" y="1092"/>
                  </a:lnTo>
                  <a:lnTo>
                    <a:pt x="6587" y="1025"/>
                  </a:lnTo>
                  <a:lnTo>
                    <a:pt x="6623" y="953"/>
                  </a:lnTo>
                  <a:lnTo>
                    <a:pt x="6649" y="877"/>
                  </a:lnTo>
                  <a:lnTo>
                    <a:pt x="6667" y="798"/>
                  </a:lnTo>
                  <a:lnTo>
                    <a:pt x="6673" y="717"/>
                  </a:lnTo>
                  <a:lnTo>
                    <a:pt x="6669" y="635"/>
                  </a:lnTo>
                  <a:lnTo>
                    <a:pt x="6654" y="551"/>
                  </a:lnTo>
                  <a:lnTo>
                    <a:pt x="6626" y="469"/>
                  </a:lnTo>
                  <a:lnTo>
                    <a:pt x="6587" y="388"/>
                  </a:lnTo>
                  <a:lnTo>
                    <a:pt x="6536" y="313"/>
                  </a:lnTo>
                  <a:lnTo>
                    <a:pt x="6479" y="249"/>
                  </a:lnTo>
                  <a:lnTo>
                    <a:pt x="6415" y="195"/>
                  </a:lnTo>
                  <a:lnTo>
                    <a:pt x="6345" y="149"/>
                  </a:lnTo>
                  <a:lnTo>
                    <a:pt x="6272" y="115"/>
                  </a:lnTo>
                  <a:lnTo>
                    <a:pt x="6195" y="90"/>
                  </a:lnTo>
                  <a:lnTo>
                    <a:pt x="6115" y="74"/>
                  </a:lnTo>
                  <a:lnTo>
                    <a:pt x="6035" y="69"/>
                  </a:lnTo>
                  <a:lnTo>
                    <a:pt x="5955" y="74"/>
                  </a:lnTo>
                  <a:lnTo>
                    <a:pt x="5876" y="90"/>
                  </a:lnTo>
                  <a:lnTo>
                    <a:pt x="5798" y="115"/>
                  </a:lnTo>
                  <a:lnTo>
                    <a:pt x="5725" y="149"/>
                  </a:lnTo>
                  <a:lnTo>
                    <a:pt x="5655" y="195"/>
                  </a:lnTo>
                  <a:lnTo>
                    <a:pt x="5591" y="249"/>
                  </a:lnTo>
                  <a:lnTo>
                    <a:pt x="5561" y="281"/>
                  </a:lnTo>
                  <a:lnTo>
                    <a:pt x="5534" y="313"/>
                  </a:lnTo>
                  <a:lnTo>
                    <a:pt x="5483" y="388"/>
                  </a:lnTo>
                  <a:lnTo>
                    <a:pt x="5444" y="469"/>
                  </a:lnTo>
                  <a:lnTo>
                    <a:pt x="5416" y="551"/>
                  </a:lnTo>
                  <a:lnTo>
                    <a:pt x="5401" y="635"/>
                  </a:lnTo>
                  <a:lnTo>
                    <a:pt x="5397" y="717"/>
                  </a:lnTo>
                  <a:lnTo>
                    <a:pt x="5404" y="798"/>
                  </a:lnTo>
                  <a:lnTo>
                    <a:pt x="5421" y="877"/>
                  </a:lnTo>
                  <a:lnTo>
                    <a:pt x="5448" y="953"/>
                  </a:lnTo>
                  <a:lnTo>
                    <a:pt x="5484" y="1025"/>
                  </a:lnTo>
                  <a:lnTo>
                    <a:pt x="5529" y="1092"/>
                  </a:lnTo>
                  <a:lnTo>
                    <a:pt x="5580" y="1153"/>
                  </a:lnTo>
                  <a:lnTo>
                    <a:pt x="5641" y="1207"/>
                  </a:lnTo>
                  <a:lnTo>
                    <a:pt x="5707" y="1254"/>
                  </a:lnTo>
                  <a:lnTo>
                    <a:pt x="5782" y="1292"/>
                  </a:lnTo>
                  <a:lnTo>
                    <a:pt x="5860" y="1320"/>
                  </a:lnTo>
                  <a:lnTo>
                    <a:pt x="5945" y="1337"/>
                  </a:lnTo>
                  <a:lnTo>
                    <a:pt x="6035" y="1344"/>
                  </a:lnTo>
                  <a:lnTo>
                    <a:pt x="6035" y="1061"/>
                  </a:lnTo>
                  <a:lnTo>
                    <a:pt x="6084" y="1057"/>
                  </a:lnTo>
                  <a:lnTo>
                    <a:pt x="6133" y="1048"/>
                  </a:lnTo>
                  <a:lnTo>
                    <a:pt x="6176" y="1031"/>
                  </a:lnTo>
                  <a:lnTo>
                    <a:pt x="6217" y="1011"/>
                  </a:lnTo>
                  <a:lnTo>
                    <a:pt x="6254" y="985"/>
                  </a:lnTo>
                  <a:lnTo>
                    <a:pt x="6288" y="954"/>
                  </a:lnTo>
                  <a:lnTo>
                    <a:pt x="6317" y="921"/>
                  </a:lnTo>
                  <a:lnTo>
                    <a:pt x="6341" y="884"/>
                  </a:lnTo>
                  <a:lnTo>
                    <a:pt x="6362" y="843"/>
                  </a:lnTo>
                  <a:lnTo>
                    <a:pt x="6377" y="801"/>
                  </a:lnTo>
                  <a:lnTo>
                    <a:pt x="6386" y="757"/>
                  </a:lnTo>
                  <a:lnTo>
                    <a:pt x="6390" y="713"/>
                  </a:lnTo>
                  <a:lnTo>
                    <a:pt x="6387" y="666"/>
                  </a:lnTo>
                  <a:lnTo>
                    <a:pt x="6378" y="621"/>
                  </a:lnTo>
                  <a:lnTo>
                    <a:pt x="6363" y="575"/>
                  </a:lnTo>
                  <a:lnTo>
                    <a:pt x="6341" y="530"/>
                  </a:lnTo>
                  <a:lnTo>
                    <a:pt x="6314" y="488"/>
                  </a:lnTo>
                  <a:lnTo>
                    <a:pt x="6282" y="452"/>
                  </a:lnTo>
                  <a:lnTo>
                    <a:pt x="6245" y="422"/>
                  </a:lnTo>
                  <a:lnTo>
                    <a:pt x="6207" y="397"/>
                  </a:lnTo>
                  <a:lnTo>
                    <a:pt x="6165" y="378"/>
                  </a:lnTo>
                  <a:lnTo>
                    <a:pt x="6124" y="364"/>
                  </a:lnTo>
                  <a:lnTo>
                    <a:pt x="6079" y="355"/>
                  </a:lnTo>
                  <a:lnTo>
                    <a:pt x="6035" y="353"/>
                  </a:lnTo>
                  <a:lnTo>
                    <a:pt x="5989" y="355"/>
                  </a:lnTo>
                  <a:lnTo>
                    <a:pt x="5946" y="364"/>
                  </a:lnTo>
                  <a:lnTo>
                    <a:pt x="5903" y="378"/>
                  </a:lnTo>
                  <a:lnTo>
                    <a:pt x="5863" y="397"/>
                  </a:lnTo>
                  <a:lnTo>
                    <a:pt x="5824" y="422"/>
                  </a:lnTo>
                  <a:lnTo>
                    <a:pt x="5788" y="452"/>
                  </a:lnTo>
                  <a:lnTo>
                    <a:pt x="5756" y="488"/>
                  </a:lnTo>
                  <a:lnTo>
                    <a:pt x="5729" y="530"/>
                  </a:lnTo>
                  <a:lnTo>
                    <a:pt x="5707" y="575"/>
                  </a:lnTo>
                  <a:lnTo>
                    <a:pt x="5692" y="621"/>
                  </a:lnTo>
                  <a:lnTo>
                    <a:pt x="5683" y="666"/>
                  </a:lnTo>
                  <a:lnTo>
                    <a:pt x="5682" y="713"/>
                  </a:lnTo>
                  <a:lnTo>
                    <a:pt x="5686" y="757"/>
                  </a:lnTo>
                  <a:lnTo>
                    <a:pt x="5694" y="801"/>
                  </a:lnTo>
                  <a:lnTo>
                    <a:pt x="5710" y="843"/>
                  </a:lnTo>
                  <a:lnTo>
                    <a:pt x="5730" y="884"/>
                  </a:lnTo>
                  <a:lnTo>
                    <a:pt x="5754" y="921"/>
                  </a:lnTo>
                  <a:lnTo>
                    <a:pt x="5783" y="954"/>
                  </a:lnTo>
                  <a:lnTo>
                    <a:pt x="5816" y="985"/>
                  </a:lnTo>
                  <a:lnTo>
                    <a:pt x="5854" y="1011"/>
                  </a:lnTo>
                  <a:lnTo>
                    <a:pt x="5895" y="1031"/>
                  </a:lnTo>
                  <a:lnTo>
                    <a:pt x="5939" y="1048"/>
                  </a:lnTo>
                  <a:lnTo>
                    <a:pt x="5986" y="1057"/>
                  </a:lnTo>
                  <a:lnTo>
                    <a:pt x="6035" y="1061"/>
                  </a:lnTo>
                  <a:lnTo>
                    <a:pt x="6035" y="1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5613480" y="3814920"/>
              <a:ext cx="534960" cy="533160"/>
            </a:xfrm>
            <a:custGeom>
              <a:avLst/>
              <a:gdLst/>
              <a:ahLst/>
              <a:rect l="l" t="t" r="r" b="b"/>
              <a:pathLst>
                <a:path w="1348" h="1344">
                  <a:moveTo>
                    <a:pt x="674" y="1344"/>
                  </a:moveTo>
                  <a:lnTo>
                    <a:pt x="769" y="1337"/>
                  </a:lnTo>
                  <a:lnTo>
                    <a:pt x="859" y="1318"/>
                  </a:lnTo>
                  <a:lnTo>
                    <a:pt x="942" y="1289"/>
                  </a:lnTo>
                  <a:lnTo>
                    <a:pt x="1020" y="1249"/>
                  </a:lnTo>
                  <a:lnTo>
                    <a:pt x="1091" y="1200"/>
                  </a:lnTo>
                  <a:lnTo>
                    <a:pt x="1154" y="1143"/>
                  </a:lnTo>
                  <a:lnTo>
                    <a:pt x="1210" y="1078"/>
                  </a:lnTo>
                  <a:lnTo>
                    <a:pt x="1256" y="1007"/>
                  </a:lnTo>
                  <a:lnTo>
                    <a:pt x="1294" y="932"/>
                  </a:lnTo>
                  <a:lnTo>
                    <a:pt x="1322" y="852"/>
                  </a:lnTo>
                  <a:lnTo>
                    <a:pt x="1340" y="769"/>
                  </a:lnTo>
                  <a:lnTo>
                    <a:pt x="1348" y="683"/>
                  </a:lnTo>
                  <a:lnTo>
                    <a:pt x="1343" y="595"/>
                  </a:lnTo>
                  <a:lnTo>
                    <a:pt x="1327" y="508"/>
                  </a:lnTo>
                  <a:lnTo>
                    <a:pt x="1315" y="464"/>
                  </a:lnTo>
                  <a:lnTo>
                    <a:pt x="1298" y="421"/>
                  </a:lnTo>
                  <a:lnTo>
                    <a:pt x="1256" y="336"/>
                  </a:lnTo>
                  <a:lnTo>
                    <a:pt x="1203" y="258"/>
                  </a:lnTo>
                  <a:lnTo>
                    <a:pt x="1142" y="190"/>
                  </a:lnTo>
                  <a:lnTo>
                    <a:pt x="1074" y="131"/>
                  </a:lnTo>
                  <a:lnTo>
                    <a:pt x="1001" y="83"/>
                  </a:lnTo>
                  <a:lnTo>
                    <a:pt x="923" y="47"/>
                  </a:lnTo>
                  <a:lnTo>
                    <a:pt x="842" y="21"/>
                  </a:lnTo>
                  <a:lnTo>
                    <a:pt x="759" y="5"/>
                  </a:lnTo>
                  <a:lnTo>
                    <a:pt x="674" y="0"/>
                  </a:lnTo>
                  <a:lnTo>
                    <a:pt x="589" y="5"/>
                  </a:lnTo>
                  <a:lnTo>
                    <a:pt x="506" y="21"/>
                  </a:lnTo>
                  <a:lnTo>
                    <a:pt x="423" y="48"/>
                  </a:lnTo>
                  <a:lnTo>
                    <a:pt x="346" y="85"/>
                  </a:lnTo>
                  <a:lnTo>
                    <a:pt x="273" y="131"/>
                  </a:lnTo>
                  <a:lnTo>
                    <a:pt x="205" y="190"/>
                  </a:lnTo>
                  <a:lnTo>
                    <a:pt x="145" y="258"/>
                  </a:lnTo>
                  <a:lnTo>
                    <a:pt x="117" y="296"/>
                  </a:lnTo>
                  <a:lnTo>
                    <a:pt x="92" y="336"/>
                  </a:lnTo>
                  <a:lnTo>
                    <a:pt x="50" y="421"/>
                  </a:lnTo>
                  <a:lnTo>
                    <a:pt x="35" y="464"/>
                  </a:lnTo>
                  <a:lnTo>
                    <a:pt x="21" y="508"/>
                  </a:lnTo>
                  <a:lnTo>
                    <a:pt x="5" y="595"/>
                  </a:lnTo>
                  <a:lnTo>
                    <a:pt x="0" y="683"/>
                  </a:lnTo>
                  <a:lnTo>
                    <a:pt x="8" y="769"/>
                  </a:lnTo>
                  <a:lnTo>
                    <a:pt x="26" y="852"/>
                  </a:lnTo>
                  <a:lnTo>
                    <a:pt x="55" y="932"/>
                  </a:lnTo>
                  <a:lnTo>
                    <a:pt x="93" y="1007"/>
                  </a:lnTo>
                  <a:lnTo>
                    <a:pt x="140" y="1078"/>
                  </a:lnTo>
                  <a:lnTo>
                    <a:pt x="194" y="1143"/>
                  </a:lnTo>
                  <a:lnTo>
                    <a:pt x="257" y="1200"/>
                  </a:lnTo>
                  <a:lnTo>
                    <a:pt x="328" y="1249"/>
                  </a:lnTo>
                  <a:lnTo>
                    <a:pt x="407" y="1289"/>
                  </a:lnTo>
                  <a:lnTo>
                    <a:pt x="490" y="1318"/>
                  </a:lnTo>
                  <a:lnTo>
                    <a:pt x="579" y="1337"/>
                  </a:lnTo>
                  <a:lnTo>
                    <a:pt x="674" y="13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5740560" y="3941640"/>
              <a:ext cx="280800" cy="279360"/>
            </a:xfrm>
            <a:custGeom>
              <a:avLst/>
              <a:gdLst/>
              <a:ahLst/>
              <a:rect l="l" t="t" r="r" b="b"/>
              <a:pathLst>
                <a:path w="710" h="707">
                  <a:moveTo>
                    <a:pt x="355" y="707"/>
                  </a:moveTo>
                  <a:lnTo>
                    <a:pt x="404" y="703"/>
                  </a:lnTo>
                  <a:lnTo>
                    <a:pt x="452" y="695"/>
                  </a:lnTo>
                  <a:lnTo>
                    <a:pt x="496" y="678"/>
                  </a:lnTo>
                  <a:lnTo>
                    <a:pt x="537" y="658"/>
                  </a:lnTo>
                  <a:lnTo>
                    <a:pt x="574" y="631"/>
                  </a:lnTo>
                  <a:lnTo>
                    <a:pt x="607" y="601"/>
                  </a:lnTo>
                  <a:lnTo>
                    <a:pt x="636" y="568"/>
                  </a:lnTo>
                  <a:lnTo>
                    <a:pt x="661" y="530"/>
                  </a:lnTo>
                  <a:lnTo>
                    <a:pt x="680" y="491"/>
                  </a:lnTo>
                  <a:lnTo>
                    <a:pt x="696" y="448"/>
                  </a:lnTo>
                  <a:lnTo>
                    <a:pt x="706" y="405"/>
                  </a:lnTo>
                  <a:lnTo>
                    <a:pt x="710" y="360"/>
                  </a:lnTo>
                  <a:lnTo>
                    <a:pt x="707" y="314"/>
                  </a:lnTo>
                  <a:lnTo>
                    <a:pt x="698" y="267"/>
                  </a:lnTo>
                  <a:lnTo>
                    <a:pt x="683" y="222"/>
                  </a:lnTo>
                  <a:lnTo>
                    <a:pt x="661" y="177"/>
                  </a:lnTo>
                  <a:lnTo>
                    <a:pt x="634" y="136"/>
                  </a:lnTo>
                  <a:lnTo>
                    <a:pt x="602" y="100"/>
                  </a:lnTo>
                  <a:lnTo>
                    <a:pt x="565" y="70"/>
                  </a:lnTo>
                  <a:lnTo>
                    <a:pt x="527" y="45"/>
                  </a:lnTo>
                  <a:lnTo>
                    <a:pt x="485" y="25"/>
                  </a:lnTo>
                  <a:lnTo>
                    <a:pt x="444" y="12"/>
                  </a:lnTo>
                  <a:lnTo>
                    <a:pt x="399" y="3"/>
                  </a:lnTo>
                  <a:lnTo>
                    <a:pt x="355" y="0"/>
                  </a:lnTo>
                  <a:lnTo>
                    <a:pt x="309" y="3"/>
                  </a:lnTo>
                  <a:lnTo>
                    <a:pt x="266" y="12"/>
                  </a:lnTo>
                  <a:lnTo>
                    <a:pt x="223" y="25"/>
                  </a:lnTo>
                  <a:lnTo>
                    <a:pt x="183" y="45"/>
                  </a:lnTo>
                  <a:lnTo>
                    <a:pt x="144" y="70"/>
                  </a:lnTo>
                  <a:lnTo>
                    <a:pt x="108" y="100"/>
                  </a:lnTo>
                  <a:lnTo>
                    <a:pt x="76" y="136"/>
                  </a:lnTo>
                  <a:lnTo>
                    <a:pt x="49" y="177"/>
                  </a:lnTo>
                  <a:lnTo>
                    <a:pt x="27" y="222"/>
                  </a:lnTo>
                  <a:lnTo>
                    <a:pt x="12" y="267"/>
                  </a:lnTo>
                  <a:lnTo>
                    <a:pt x="3" y="314"/>
                  </a:lnTo>
                  <a:lnTo>
                    <a:pt x="0" y="360"/>
                  </a:lnTo>
                  <a:lnTo>
                    <a:pt x="4" y="405"/>
                  </a:lnTo>
                  <a:lnTo>
                    <a:pt x="13" y="448"/>
                  </a:lnTo>
                  <a:lnTo>
                    <a:pt x="28" y="491"/>
                  </a:lnTo>
                  <a:lnTo>
                    <a:pt x="49" y="530"/>
                  </a:lnTo>
                  <a:lnTo>
                    <a:pt x="73" y="568"/>
                  </a:lnTo>
                  <a:lnTo>
                    <a:pt x="102" y="601"/>
                  </a:lnTo>
                  <a:lnTo>
                    <a:pt x="136" y="631"/>
                  </a:lnTo>
                  <a:lnTo>
                    <a:pt x="173" y="658"/>
                  </a:lnTo>
                  <a:lnTo>
                    <a:pt x="214" y="678"/>
                  </a:lnTo>
                  <a:lnTo>
                    <a:pt x="257" y="695"/>
                  </a:lnTo>
                  <a:lnTo>
                    <a:pt x="306" y="703"/>
                  </a:lnTo>
                  <a:lnTo>
                    <a:pt x="355" y="70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7754760" y="3841560"/>
              <a:ext cx="506520" cy="506520"/>
            </a:xfrm>
            <a:custGeom>
              <a:avLst/>
              <a:gdLst/>
              <a:ahLst/>
              <a:rect l="l" t="t" r="r" b="b"/>
              <a:pathLst>
                <a:path w="1276" h="1275">
                  <a:moveTo>
                    <a:pt x="638" y="1275"/>
                  </a:moveTo>
                  <a:lnTo>
                    <a:pt x="728" y="1268"/>
                  </a:lnTo>
                  <a:lnTo>
                    <a:pt x="813" y="1251"/>
                  </a:lnTo>
                  <a:lnTo>
                    <a:pt x="893" y="1223"/>
                  </a:lnTo>
                  <a:lnTo>
                    <a:pt x="966" y="1185"/>
                  </a:lnTo>
                  <a:lnTo>
                    <a:pt x="1033" y="1138"/>
                  </a:lnTo>
                  <a:lnTo>
                    <a:pt x="1093" y="1084"/>
                  </a:lnTo>
                  <a:lnTo>
                    <a:pt x="1146" y="1023"/>
                  </a:lnTo>
                  <a:lnTo>
                    <a:pt x="1190" y="956"/>
                  </a:lnTo>
                  <a:lnTo>
                    <a:pt x="1226" y="884"/>
                  </a:lnTo>
                  <a:lnTo>
                    <a:pt x="1252" y="808"/>
                  </a:lnTo>
                  <a:lnTo>
                    <a:pt x="1270" y="729"/>
                  </a:lnTo>
                  <a:lnTo>
                    <a:pt x="1276" y="648"/>
                  </a:lnTo>
                  <a:lnTo>
                    <a:pt x="1272" y="566"/>
                  </a:lnTo>
                  <a:lnTo>
                    <a:pt x="1257" y="482"/>
                  </a:lnTo>
                  <a:lnTo>
                    <a:pt x="1229" y="400"/>
                  </a:lnTo>
                  <a:lnTo>
                    <a:pt x="1190" y="319"/>
                  </a:lnTo>
                  <a:lnTo>
                    <a:pt x="1139" y="244"/>
                  </a:lnTo>
                  <a:lnTo>
                    <a:pt x="1082" y="180"/>
                  </a:lnTo>
                  <a:lnTo>
                    <a:pt x="1018" y="126"/>
                  </a:lnTo>
                  <a:lnTo>
                    <a:pt x="948" y="80"/>
                  </a:lnTo>
                  <a:lnTo>
                    <a:pt x="875" y="46"/>
                  </a:lnTo>
                  <a:lnTo>
                    <a:pt x="798" y="21"/>
                  </a:lnTo>
                  <a:lnTo>
                    <a:pt x="718" y="5"/>
                  </a:lnTo>
                  <a:lnTo>
                    <a:pt x="638" y="0"/>
                  </a:lnTo>
                  <a:lnTo>
                    <a:pt x="558" y="5"/>
                  </a:lnTo>
                  <a:lnTo>
                    <a:pt x="479" y="21"/>
                  </a:lnTo>
                  <a:lnTo>
                    <a:pt x="401" y="46"/>
                  </a:lnTo>
                  <a:lnTo>
                    <a:pt x="328" y="80"/>
                  </a:lnTo>
                  <a:lnTo>
                    <a:pt x="258" y="126"/>
                  </a:lnTo>
                  <a:lnTo>
                    <a:pt x="194" y="180"/>
                  </a:lnTo>
                  <a:lnTo>
                    <a:pt x="164" y="212"/>
                  </a:lnTo>
                  <a:lnTo>
                    <a:pt x="137" y="244"/>
                  </a:lnTo>
                  <a:lnTo>
                    <a:pt x="86" y="319"/>
                  </a:lnTo>
                  <a:lnTo>
                    <a:pt x="47" y="400"/>
                  </a:lnTo>
                  <a:lnTo>
                    <a:pt x="19" y="482"/>
                  </a:lnTo>
                  <a:lnTo>
                    <a:pt x="4" y="566"/>
                  </a:lnTo>
                  <a:lnTo>
                    <a:pt x="0" y="648"/>
                  </a:lnTo>
                  <a:lnTo>
                    <a:pt x="7" y="729"/>
                  </a:lnTo>
                  <a:lnTo>
                    <a:pt x="24" y="808"/>
                  </a:lnTo>
                  <a:lnTo>
                    <a:pt x="51" y="884"/>
                  </a:lnTo>
                  <a:lnTo>
                    <a:pt x="87" y="956"/>
                  </a:lnTo>
                  <a:lnTo>
                    <a:pt x="132" y="1023"/>
                  </a:lnTo>
                  <a:lnTo>
                    <a:pt x="183" y="1084"/>
                  </a:lnTo>
                  <a:lnTo>
                    <a:pt x="244" y="1138"/>
                  </a:lnTo>
                  <a:lnTo>
                    <a:pt x="310" y="1185"/>
                  </a:lnTo>
                  <a:lnTo>
                    <a:pt x="385" y="1223"/>
                  </a:lnTo>
                  <a:lnTo>
                    <a:pt x="463" y="1251"/>
                  </a:lnTo>
                  <a:lnTo>
                    <a:pt x="548" y="1268"/>
                  </a:lnTo>
                  <a:lnTo>
                    <a:pt x="638" y="127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7867800" y="3954600"/>
              <a:ext cx="280800" cy="280800"/>
            </a:xfrm>
            <a:custGeom>
              <a:avLst/>
              <a:gdLst/>
              <a:ahLst/>
              <a:rect l="l" t="t" r="r" b="b"/>
              <a:pathLst>
                <a:path w="708" h="708">
                  <a:moveTo>
                    <a:pt x="353" y="708"/>
                  </a:moveTo>
                  <a:lnTo>
                    <a:pt x="402" y="704"/>
                  </a:lnTo>
                  <a:lnTo>
                    <a:pt x="451" y="695"/>
                  </a:lnTo>
                  <a:lnTo>
                    <a:pt x="494" y="678"/>
                  </a:lnTo>
                  <a:lnTo>
                    <a:pt x="535" y="658"/>
                  </a:lnTo>
                  <a:lnTo>
                    <a:pt x="572" y="632"/>
                  </a:lnTo>
                  <a:lnTo>
                    <a:pt x="606" y="601"/>
                  </a:lnTo>
                  <a:lnTo>
                    <a:pt x="635" y="568"/>
                  </a:lnTo>
                  <a:lnTo>
                    <a:pt x="659" y="531"/>
                  </a:lnTo>
                  <a:lnTo>
                    <a:pt x="680" y="490"/>
                  </a:lnTo>
                  <a:lnTo>
                    <a:pt x="695" y="448"/>
                  </a:lnTo>
                  <a:lnTo>
                    <a:pt x="704" y="404"/>
                  </a:lnTo>
                  <a:lnTo>
                    <a:pt x="708" y="360"/>
                  </a:lnTo>
                  <a:lnTo>
                    <a:pt x="705" y="313"/>
                  </a:lnTo>
                  <a:lnTo>
                    <a:pt x="696" y="268"/>
                  </a:lnTo>
                  <a:lnTo>
                    <a:pt x="681" y="222"/>
                  </a:lnTo>
                  <a:lnTo>
                    <a:pt x="659" y="177"/>
                  </a:lnTo>
                  <a:lnTo>
                    <a:pt x="632" y="135"/>
                  </a:lnTo>
                  <a:lnTo>
                    <a:pt x="600" y="99"/>
                  </a:lnTo>
                  <a:lnTo>
                    <a:pt x="563" y="69"/>
                  </a:lnTo>
                  <a:lnTo>
                    <a:pt x="525" y="44"/>
                  </a:lnTo>
                  <a:lnTo>
                    <a:pt x="483" y="25"/>
                  </a:lnTo>
                  <a:lnTo>
                    <a:pt x="442" y="11"/>
                  </a:lnTo>
                  <a:lnTo>
                    <a:pt x="397" y="2"/>
                  </a:lnTo>
                  <a:lnTo>
                    <a:pt x="353" y="0"/>
                  </a:lnTo>
                  <a:lnTo>
                    <a:pt x="307" y="2"/>
                  </a:lnTo>
                  <a:lnTo>
                    <a:pt x="264" y="11"/>
                  </a:lnTo>
                  <a:lnTo>
                    <a:pt x="221" y="25"/>
                  </a:lnTo>
                  <a:lnTo>
                    <a:pt x="181" y="44"/>
                  </a:lnTo>
                  <a:lnTo>
                    <a:pt x="142" y="69"/>
                  </a:lnTo>
                  <a:lnTo>
                    <a:pt x="106" y="99"/>
                  </a:lnTo>
                  <a:lnTo>
                    <a:pt x="74" y="135"/>
                  </a:lnTo>
                  <a:lnTo>
                    <a:pt x="47" y="177"/>
                  </a:lnTo>
                  <a:lnTo>
                    <a:pt x="25" y="222"/>
                  </a:lnTo>
                  <a:lnTo>
                    <a:pt x="10" y="268"/>
                  </a:lnTo>
                  <a:lnTo>
                    <a:pt x="1" y="313"/>
                  </a:lnTo>
                  <a:lnTo>
                    <a:pt x="0" y="360"/>
                  </a:lnTo>
                  <a:lnTo>
                    <a:pt x="4" y="404"/>
                  </a:lnTo>
                  <a:lnTo>
                    <a:pt x="12" y="448"/>
                  </a:lnTo>
                  <a:lnTo>
                    <a:pt x="28" y="490"/>
                  </a:lnTo>
                  <a:lnTo>
                    <a:pt x="48" y="531"/>
                  </a:lnTo>
                  <a:lnTo>
                    <a:pt x="72" y="568"/>
                  </a:lnTo>
                  <a:lnTo>
                    <a:pt x="101" y="601"/>
                  </a:lnTo>
                  <a:lnTo>
                    <a:pt x="134" y="632"/>
                  </a:lnTo>
                  <a:lnTo>
                    <a:pt x="172" y="658"/>
                  </a:lnTo>
                  <a:lnTo>
                    <a:pt x="213" y="678"/>
                  </a:lnTo>
                  <a:lnTo>
                    <a:pt x="257" y="695"/>
                  </a:lnTo>
                  <a:lnTo>
                    <a:pt x="304" y="704"/>
                  </a:lnTo>
                  <a:lnTo>
                    <a:pt x="353" y="70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4876920" y="3905280"/>
              <a:ext cx="3878280" cy="260280"/>
            </a:xfrm>
            <a:custGeom>
              <a:avLst/>
              <a:gdLst/>
              <a:ahLst/>
              <a:rect l="l" t="t" r="r" b="b"/>
              <a:pathLst>
                <a:path w="9770" h="655">
                  <a:moveTo>
                    <a:pt x="28" y="273"/>
                  </a:moveTo>
                  <a:lnTo>
                    <a:pt x="0" y="115"/>
                  </a:lnTo>
                  <a:lnTo>
                    <a:pt x="469" y="115"/>
                  </a:lnTo>
                  <a:lnTo>
                    <a:pt x="469" y="273"/>
                  </a:lnTo>
                  <a:lnTo>
                    <a:pt x="28" y="273"/>
                  </a:lnTo>
                  <a:close/>
                  <a:moveTo>
                    <a:pt x="2529" y="619"/>
                  </a:moveTo>
                  <a:lnTo>
                    <a:pt x="2577" y="613"/>
                  </a:lnTo>
                  <a:lnTo>
                    <a:pt x="2620" y="594"/>
                  </a:lnTo>
                  <a:lnTo>
                    <a:pt x="2654" y="566"/>
                  </a:lnTo>
                  <a:lnTo>
                    <a:pt x="2682" y="531"/>
                  </a:lnTo>
                  <a:lnTo>
                    <a:pt x="2699" y="489"/>
                  </a:lnTo>
                  <a:lnTo>
                    <a:pt x="2706" y="445"/>
                  </a:lnTo>
                  <a:lnTo>
                    <a:pt x="2700" y="398"/>
                  </a:lnTo>
                  <a:lnTo>
                    <a:pt x="2682" y="353"/>
                  </a:lnTo>
                  <a:lnTo>
                    <a:pt x="2652" y="315"/>
                  </a:lnTo>
                  <a:lnTo>
                    <a:pt x="2615" y="287"/>
                  </a:lnTo>
                  <a:lnTo>
                    <a:pt x="2573" y="271"/>
                  </a:lnTo>
                  <a:lnTo>
                    <a:pt x="2529" y="265"/>
                  </a:lnTo>
                  <a:lnTo>
                    <a:pt x="2485" y="271"/>
                  </a:lnTo>
                  <a:lnTo>
                    <a:pt x="2443" y="287"/>
                  </a:lnTo>
                  <a:lnTo>
                    <a:pt x="2406" y="315"/>
                  </a:lnTo>
                  <a:lnTo>
                    <a:pt x="2390" y="332"/>
                  </a:lnTo>
                  <a:lnTo>
                    <a:pt x="2376" y="353"/>
                  </a:lnTo>
                  <a:lnTo>
                    <a:pt x="2357" y="398"/>
                  </a:lnTo>
                  <a:lnTo>
                    <a:pt x="2353" y="421"/>
                  </a:lnTo>
                  <a:lnTo>
                    <a:pt x="2352" y="445"/>
                  </a:lnTo>
                  <a:lnTo>
                    <a:pt x="2358" y="489"/>
                  </a:lnTo>
                  <a:lnTo>
                    <a:pt x="2376" y="531"/>
                  </a:lnTo>
                  <a:lnTo>
                    <a:pt x="2402" y="566"/>
                  </a:lnTo>
                  <a:lnTo>
                    <a:pt x="2438" y="594"/>
                  </a:lnTo>
                  <a:lnTo>
                    <a:pt x="2481" y="613"/>
                  </a:lnTo>
                  <a:lnTo>
                    <a:pt x="2529" y="619"/>
                  </a:lnTo>
                  <a:close/>
                  <a:moveTo>
                    <a:pt x="7891" y="655"/>
                  </a:moveTo>
                  <a:lnTo>
                    <a:pt x="7939" y="649"/>
                  </a:lnTo>
                  <a:lnTo>
                    <a:pt x="7982" y="630"/>
                  </a:lnTo>
                  <a:lnTo>
                    <a:pt x="8017" y="602"/>
                  </a:lnTo>
                  <a:lnTo>
                    <a:pt x="8045" y="566"/>
                  </a:lnTo>
                  <a:lnTo>
                    <a:pt x="8061" y="525"/>
                  </a:lnTo>
                  <a:lnTo>
                    <a:pt x="8069" y="480"/>
                  </a:lnTo>
                  <a:lnTo>
                    <a:pt x="8062" y="434"/>
                  </a:lnTo>
                  <a:lnTo>
                    <a:pt x="8045" y="388"/>
                  </a:lnTo>
                  <a:lnTo>
                    <a:pt x="8014" y="349"/>
                  </a:lnTo>
                  <a:lnTo>
                    <a:pt x="7977" y="322"/>
                  </a:lnTo>
                  <a:lnTo>
                    <a:pt x="7936" y="306"/>
                  </a:lnTo>
                  <a:lnTo>
                    <a:pt x="7891" y="300"/>
                  </a:lnTo>
                  <a:lnTo>
                    <a:pt x="7846" y="306"/>
                  </a:lnTo>
                  <a:lnTo>
                    <a:pt x="7804" y="322"/>
                  </a:lnTo>
                  <a:lnTo>
                    <a:pt x="7767" y="349"/>
                  </a:lnTo>
                  <a:lnTo>
                    <a:pt x="7751" y="368"/>
                  </a:lnTo>
                  <a:lnTo>
                    <a:pt x="7737" y="388"/>
                  </a:lnTo>
                  <a:lnTo>
                    <a:pt x="7718" y="434"/>
                  </a:lnTo>
                  <a:lnTo>
                    <a:pt x="7714" y="456"/>
                  </a:lnTo>
                  <a:lnTo>
                    <a:pt x="7713" y="480"/>
                  </a:lnTo>
                  <a:lnTo>
                    <a:pt x="7720" y="525"/>
                  </a:lnTo>
                  <a:lnTo>
                    <a:pt x="7738" y="566"/>
                  </a:lnTo>
                  <a:lnTo>
                    <a:pt x="7765" y="602"/>
                  </a:lnTo>
                  <a:lnTo>
                    <a:pt x="7800" y="630"/>
                  </a:lnTo>
                  <a:lnTo>
                    <a:pt x="7843" y="649"/>
                  </a:lnTo>
                  <a:lnTo>
                    <a:pt x="7891" y="655"/>
                  </a:lnTo>
                  <a:close/>
                  <a:moveTo>
                    <a:pt x="9194" y="193"/>
                  </a:moveTo>
                  <a:lnTo>
                    <a:pt x="9199" y="10"/>
                  </a:lnTo>
                  <a:lnTo>
                    <a:pt x="9770" y="0"/>
                  </a:lnTo>
                  <a:lnTo>
                    <a:pt x="9770" y="180"/>
                  </a:lnTo>
                  <a:lnTo>
                    <a:pt x="9688" y="192"/>
                  </a:lnTo>
                  <a:lnTo>
                    <a:pt x="919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4876920" y="3951360"/>
              <a:ext cx="185760" cy="63360"/>
            </a:xfrm>
            <a:custGeom>
              <a:avLst/>
              <a:gdLst/>
              <a:ahLst/>
              <a:rect l="l" t="t" r="r" b="b"/>
              <a:pathLst>
                <a:path w="469" h="158">
                  <a:moveTo>
                    <a:pt x="28" y="158"/>
                  </a:moveTo>
                  <a:lnTo>
                    <a:pt x="0" y="0"/>
                  </a:lnTo>
                  <a:lnTo>
                    <a:pt x="469" y="0"/>
                  </a:lnTo>
                  <a:lnTo>
                    <a:pt x="469" y="158"/>
                  </a:lnTo>
                  <a:lnTo>
                    <a:pt x="28" y="15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5810400" y="4011480"/>
              <a:ext cx="141120" cy="13968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177" y="354"/>
                  </a:moveTo>
                  <a:lnTo>
                    <a:pt x="225" y="348"/>
                  </a:lnTo>
                  <a:lnTo>
                    <a:pt x="268" y="329"/>
                  </a:lnTo>
                  <a:lnTo>
                    <a:pt x="302" y="301"/>
                  </a:lnTo>
                  <a:lnTo>
                    <a:pt x="330" y="266"/>
                  </a:lnTo>
                  <a:lnTo>
                    <a:pt x="347" y="224"/>
                  </a:lnTo>
                  <a:lnTo>
                    <a:pt x="354" y="180"/>
                  </a:lnTo>
                  <a:lnTo>
                    <a:pt x="348" y="133"/>
                  </a:lnTo>
                  <a:lnTo>
                    <a:pt x="330" y="88"/>
                  </a:lnTo>
                  <a:lnTo>
                    <a:pt x="300" y="50"/>
                  </a:lnTo>
                  <a:lnTo>
                    <a:pt x="263" y="22"/>
                  </a:lnTo>
                  <a:lnTo>
                    <a:pt x="221" y="6"/>
                  </a:lnTo>
                  <a:lnTo>
                    <a:pt x="177" y="0"/>
                  </a:lnTo>
                  <a:lnTo>
                    <a:pt x="133" y="6"/>
                  </a:lnTo>
                  <a:lnTo>
                    <a:pt x="91" y="22"/>
                  </a:lnTo>
                  <a:lnTo>
                    <a:pt x="54" y="50"/>
                  </a:lnTo>
                  <a:lnTo>
                    <a:pt x="38" y="67"/>
                  </a:lnTo>
                  <a:lnTo>
                    <a:pt x="24" y="88"/>
                  </a:lnTo>
                  <a:lnTo>
                    <a:pt x="5" y="133"/>
                  </a:lnTo>
                  <a:lnTo>
                    <a:pt x="1" y="156"/>
                  </a:lnTo>
                  <a:lnTo>
                    <a:pt x="0" y="180"/>
                  </a:lnTo>
                  <a:lnTo>
                    <a:pt x="6" y="224"/>
                  </a:lnTo>
                  <a:lnTo>
                    <a:pt x="24" y="266"/>
                  </a:lnTo>
                  <a:lnTo>
                    <a:pt x="50" y="301"/>
                  </a:lnTo>
                  <a:lnTo>
                    <a:pt x="86" y="329"/>
                  </a:lnTo>
                  <a:lnTo>
                    <a:pt x="129" y="348"/>
                  </a:lnTo>
                  <a:lnTo>
                    <a:pt x="177" y="3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7937640" y="4024440"/>
              <a:ext cx="141120" cy="141120"/>
            </a:xfrm>
            <a:custGeom>
              <a:avLst/>
              <a:gdLst/>
              <a:ahLst/>
              <a:rect l="l" t="t" r="r" b="b"/>
              <a:pathLst>
                <a:path w="356" h="355">
                  <a:moveTo>
                    <a:pt x="178" y="355"/>
                  </a:moveTo>
                  <a:lnTo>
                    <a:pt x="226" y="349"/>
                  </a:lnTo>
                  <a:lnTo>
                    <a:pt x="269" y="330"/>
                  </a:lnTo>
                  <a:lnTo>
                    <a:pt x="304" y="302"/>
                  </a:lnTo>
                  <a:lnTo>
                    <a:pt x="332" y="266"/>
                  </a:lnTo>
                  <a:lnTo>
                    <a:pt x="348" y="225"/>
                  </a:lnTo>
                  <a:lnTo>
                    <a:pt x="356" y="180"/>
                  </a:lnTo>
                  <a:lnTo>
                    <a:pt x="349" y="134"/>
                  </a:lnTo>
                  <a:lnTo>
                    <a:pt x="332" y="88"/>
                  </a:lnTo>
                  <a:lnTo>
                    <a:pt x="301" y="49"/>
                  </a:lnTo>
                  <a:lnTo>
                    <a:pt x="264" y="22"/>
                  </a:lnTo>
                  <a:lnTo>
                    <a:pt x="223" y="6"/>
                  </a:lnTo>
                  <a:lnTo>
                    <a:pt x="178" y="0"/>
                  </a:lnTo>
                  <a:lnTo>
                    <a:pt x="133" y="6"/>
                  </a:lnTo>
                  <a:lnTo>
                    <a:pt x="91" y="22"/>
                  </a:lnTo>
                  <a:lnTo>
                    <a:pt x="54" y="49"/>
                  </a:lnTo>
                  <a:lnTo>
                    <a:pt x="38" y="68"/>
                  </a:lnTo>
                  <a:lnTo>
                    <a:pt x="24" y="88"/>
                  </a:lnTo>
                  <a:lnTo>
                    <a:pt x="5" y="134"/>
                  </a:lnTo>
                  <a:lnTo>
                    <a:pt x="1" y="156"/>
                  </a:lnTo>
                  <a:lnTo>
                    <a:pt x="0" y="180"/>
                  </a:lnTo>
                  <a:lnTo>
                    <a:pt x="7" y="225"/>
                  </a:lnTo>
                  <a:lnTo>
                    <a:pt x="25" y="266"/>
                  </a:lnTo>
                  <a:lnTo>
                    <a:pt x="52" y="302"/>
                  </a:lnTo>
                  <a:lnTo>
                    <a:pt x="87" y="330"/>
                  </a:lnTo>
                  <a:lnTo>
                    <a:pt x="130" y="349"/>
                  </a:lnTo>
                  <a:lnTo>
                    <a:pt x="178" y="35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8526600" y="3905280"/>
              <a:ext cx="228600" cy="77760"/>
            </a:xfrm>
            <a:custGeom>
              <a:avLst/>
              <a:gdLst/>
              <a:ahLst/>
              <a:rect l="l" t="t" r="r" b="b"/>
              <a:pathLst>
                <a:path w="576" h="193">
                  <a:moveTo>
                    <a:pt x="0" y="193"/>
                  </a:moveTo>
                  <a:lnTo>
                    <a:pt x="5" y="10"/>
                  </a:lnTo>
                  <a:lnTo>
                    <a:pt x="576" y="0"/>
                  </a:lnTo>
                  <a:lnTo>
                    <a:pt x="576" y="180"/>
                  </a:lnTo>
                  <a:lnTo>
                    <a:pt x="494" y="192"/>
                  </a:lnTo>
                  <a:lnTo>
                    <a:pt x="0" y="19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3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5" name="ACCENT12" descr=""/>
          <p:cNvPicPr/>
          <p:nvPr/>
        </p:nvPicPr>
        <p:blipFill>
          <a:blip r:embed="rId1"/>
          <a:stretch/>
        </p:blipFill>
        <p:spPr>
          <a:xfrm>
            <a:off x="1523880" y="2917800"/>
            <a:ext cx="1781280" cy="1782720"/>
          </a:xfrm>
          <a:prstGeom prst="rect">
            <a:avLst/>
          </a:prstGeom>
          <a:ln w="0">
            <a:noFill/>
          </a:ln>
        </p:spPr>
      </p:pic>
      <p:grpSp>
        <p:nvGrpSpPr>
          <p:cNvPr id="7026" name=""/>
          <p:cNvGrpSpPr/>
          <p:nvPr/>
        </p:nvGrpSpPr>
        <p:grpSpPr>
          <a:xfrm>
            <a:off x="6019920" y="2936880"/>
            <a:ext cx="1746000" cy="1746000"/>
            <a:chOff x="6019920" y="2936880"/>
            <a:chExt cx="1746000" cy="1746000"/>
          </a:xfrm>
        </p:grpSpPr>
        <p:sp>
          <p:nvSpPr>
            <p:cNvPr id="7027" name=""/>
            <p:cNvSpPr/>
            <p:nvPr/>
          </p:nvSpPr>
          <p:spPr>
            <a:xfrm>
              <a:off x="6019920" y="2936880"/>
              <a:ext cx="1746000" cy="1746000"/>
            </a:xfrm>
            <a:custGeom>
              <a:avLst/>
              <a:gdLst/>
              <a:ahLst/>
              <a:rect l="l" t="t" r="r" b="b"/>
              <a:pathLst>
                <a:path w="6601" h="6603">
                  <a:moveTo>
                    <a:pt x="3300" y="5187"/>
                  </a:moveTo>
                  <a:lnTo>
                    <a:pt x="1885" y="6603"/>
                  </a:lnTo>
                  <a:lnTo>
                    <a:pt x="0" y="4717"/>
                  </a:lnTo>
                  <a:lnTo>
                    <a:pt x="1415" y="3302"/>
                  </a:lnTo>
                  <a:lnTo>
                    <a:pt x="0" y="1885"/>
                  </a:lnTo>
                  <a:lnTo>
                    <a:pt x="1885" y="0"/>
                  </a:lnTo>
                  <a:lnTo>
                    <a:pt x="3300" y="1415"/>
                  </a:lnTo>
                  <a:lnTo>
                    <a:pt x="4716" y="0"/>
                  </a:lnTo>
                  <a:lnTo>
                    <a:pt x="6601" y="1885"/>
                  </a:lnTo>
                  <a:lnTo>
                    <a:pt x="5186" y="3302"/>
                  </a:lnTo>
                  <a:lnTo>
                    <a:pt x="6601" y="4717"/>
                  </a:lnTo>
                  <a:lnTo>
                    <a:pt x="4716" y="6603"/>
                  </a:lnTo>
                  <a:lnTo>
                    <a:pt x="3300" y="5187"/>
                  </a:lnTo>
                  <a:lnTo>
                    <a:pt x="2830" y="4717"/>
                  </a:lnTo>
                  <a:lnTo>
                    <a:pt x="1885" y="5663"/>
                  </a:lnTo>
                  <a:lnTo>
                    <a:pt x="939" y="4717"/>
                  </a:lnTo>
                  <a:lnTo>
                    <a:pt x="1885" y="3772"/>
                  </a:lnTo>
                  <a:lnTo>
                    <a:pt x="2830" y="4717"/>
                  </a:lnTo>
                  <a:lnTo>
                    <a:pt x="3300" y="5187"/>
                  </a:lnTo>
                  <a:lnTo>
                    <a:pt x="1885" y="2831"/>
                  </a:lnTo>
                  <a:lnTo>
                    <a:pt x="939" y="1885"/>
                  </a:lnTo>
                  <a:lnTo>
                    <a:pt x="941" y="1888"/>
                  </a:lnTo>
                  <a:lnTo>
                    <a:pt x="941" y="1886"/>
                  </a:lnTo>
                  <a:lnTo>
                    <a:pt x="939" y="1885"/>
                  </a:lnTo>
                  <a:lnTo>
                    <a:pt x="1885" y="939"/>
                  </a:lnTo>
                  <a:lnTo>
                    <a:pt x="2830" y="1885"/>
                  </a:lnTo>
                  <a:lnTo>
                    <a:pt x="1885" y="2831"/>
                  </a:lnTo>
                  <a:lnTo>
                    <a:pt x="3300" y="5187"/>
                  </a:lnTo>
                  <a:lnTo>
                    <a:pt x="4716" y="2831"/>
                  </a:lnTo>
                  <a:lnTo>
                    <a:pt x="3771" y="1885"/>
                  </a:lnTo>
                  <a:lnTo>
                    <a:pt x="4716" y="939"/>
                  </a:lnTo>
                  <a:lnTo>
                    <a:pt x="5662" y="1885"/>
                  </a:lnTo>
                  <a:lnTo>
                    <a:pt x="4716" y="2831"/>
                  </a:lnTo>
                  <a:lnTo>
                    <a:pt x="3300" y="5187"/>
                  </a:lnTo>
                  <a:lnTo>
                    <a:pt x="3771" y="4717"/>
                  </a:lnTo>
                  <a:lnTo>
                    <a:pt x="4716" y="3772"/>
                  </a:lnTo>
                  <a:lnTo>
                    <a:pt x="5662" y="4717"/>
                  </a:lnTo>
                  <a:lnTo>
                    <a:pt x="4716" y="5663"/>
                  </a:lnTo>
                  <a:lnTo>
                    <a:pt x="3771" y="4717"/>
                  </a:lnTo>
                  <a:lnTo>
                    <a:pt x="3300" y="5187"/>
                  </a:lnTo>
                  <a:lnTo>
                    <a:pt x="3300" y="4247"/>
                  </a:lnTo>
                  <a:lnTo>
                    <a:pt x="2355" y="3302"/>
                  </a:lnTo>
                  <a:lnTo>
                    <a:pt x="3300" y="2355"/>
                  </a:lnTo>
                  <a:lnTo>
                    <a:pt x="4245" y="3302"/>
                  </a:lnTo>
                  <a:lnTo>
                    <a:pt x="3300" y="4247"/>
                  </a:lnTo>
                  <a:lnTo>
                    <a:pt x="3300" y="5187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6019920" y="2936880"/>
              <a:ext cx="1746000" cy="1746000"/>
            </a:xfrm>
            <a:custGeom>
              <a:avLst/>
              <a:gdLst/>
              <a:ahLst/>
              <a:rect l="l" t="t" r="r" b="b"/>
              <a:pathLst>
                <a:path w="6601" h="6603">
                  <a:moveTo>
                    <a:pt x="3300" y="5187"/>
                  </a:moveTo>
                  <a:lnTo>
                    <a:pt x="1885" y="6603"/>
                  </a:lnTo>
                  <a:lnTo>
                    <a:pt x="0" y="4717"/>
                  </a:lnTo>
                  <a:lnTo>
                    <a:pt x="1415" y="3302"/>
                  </a:lnTo>
                  <a:lnTo>
                    <a:pt x="0" y="1885"/>
                  </a:lnTo>
                  <a:lnTo>
                    <a:pt x="1885" y="0"/>
                  </a:lnTo>
                  <a:lnTo>
                    <a:pt x="3300" y="1415"/>
                  </a:lnTo>
                  <a:lnTo>
                    <a:pt x="4716" y="0"/>
                  </a:lnTo>
                  <a:lnTo>
                    <a:pt x="6601" y="1885"/>
                  </a:lnTo>
                  <a:lnTo>
                    <a:pt x="5186" y="3302"/>
                  </a:lnTo>
                  <a:lnTo>
                    <a:pt x="6601" y="4717"/>
                  </a:lnTo>
                  <a:lnTo>
                    <a:pt x="4716" y="6603"/>
                  </a:lnTo>
                  <a:lnTo>
                    <a:pt x="3300" y="518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6267240" y="3933720"/>
              <a:ext cx="501480" cy="501480"/>
            </a:xfrm>
            <a:custGeom>
              <a:avLst/>
              <a:gdLst/>
              <a:ahLst/>
              <a:rect l="l" t="t" r="r" b="b"/>
              <a:pathLst>
                <a:path w="1891" h="1891">
                  <a:moveTo>
                    <a:pt x="1891" y="945"/>
                  </a:moveTo>
                  <a:lnTo>
                    <a:pt x="946" y="1891"/>
                  </a:lnTo>
                  <a:lnTo>
                    <a:pt x="0" y="945"/>
                  </a:lnTo>
                  <a:lnTo>
                    <a:pt x="946" y="0"/>
                  </a:lnTo>
                  <a:lnTo>
                    <a:pt x="1891" y="94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6267240" y="3184560"/>
              <a:ext cx="501480" cy="501480"/>
            </a:xfrm>
            <a:custGeom>
              <a:avLst/>
              <a:gdLst/>
              <a:ahLst/>
              <a:rect l="l" t="t" r="r" b="b"/>
              <a:pathLst>
                <a:path w="1891" h="1892">
                  <a:moveTo>
                    <a:pt x="946" y="1892"/>
                  </a:moveTo>
                  <a:lnTo>
                    <a:pt x="0" y="946"/>
                  </a:lnTo>
                  <a:lnTo>
                    <a:pt x="2" y="949"/>
                  </a:lnTo>
                  <a:lnTo>
                    <a:pt x="2" y="947"/>
                  </a:lnTo>
                  <a:lnTo>
                    <a:pt x="0" y="946"/>
                  </a:lnTo>
                  <a:lnTo>
                    <a:pt x="946" y="0"/>
                  </a:lnTo>
                  <a:lnTo>
                    <a:pt x="1891" y="946"/>
                  </a:lnTo>
                  <a:lnTo>
                    <a:pt x="946" y="189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7016400" y="3184560"/>
              <a:ext cx="500040" cy="501480"/>
            </a:xfrm>
            <a:custGeom>
              <a:avLst/>
              <a:gdLst/>
              <a:ahLst/>
              <a:rect l="l" t="t" r="r" b="b"/>
              <a:pathLst>
                <a:path w="1891" h="1892">
                  <a:moveTo>
                    <a:pt x="945" y="1892"/>
                  </a:moveTo>
                  <a:lnTo>
                    <a:pt x="0" y="946"/>
                  </a:lnTo>
                  <a:lnTo>
                    <a:pt x="945" y="0"/>
                  </a:lnTo>
                  <a:lnTo>
                    <a:pt x="1891" y="946"/>
                  </a:lnTo>
                  <a:lnTo>
                    <a:pt x="945" y="189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7016400" y="3933720"/>
              <a:ext cx="500040" cy="501480"/>
            </a:xfrm>
            <a:custGeom>
              <a:avLst/>
              <a:gdLst/>
              <a:ahLst/>
              <a:rect l="l" t="t" r="r" b="b"/>
              <a:pathLst>
                <a:path w="1891" h="1891">
                  <a:moveTo>
                    <a:pt x="0" y="945"/>
                  </a:moveTo>
                  <a:lnTo>
                    <a:pt x="945" y="0"/>
                  </a:lnTo>
                  <a:lnTo>
                    <a:pt x="1891" y="945"/>
                  </a:lnTo>
                  <a:lnTo>
                    <a:pt x="945" y="1891"/>
                  </a:lnTo>
                  <a:lnTo>
                    <a:pt x="0" y="94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6642000" y="3558960"/>
              <a:ext cx="499680" cy="501840"/>
            </a:xfrm>
            <a:custGeom>
              <a:avLst/>
              <a:gdLst/>
              <a:ahLst/>
              <a:rect l="l" t="t" r="r" b="b"/>
              <a:pathLst>
                <a:path w="1890" h="1892">
                  <a:moveTo>
                    <a:pt x="945" y="1892"/>
                  </a:moveTo>
                  <a:lnTo>
                    <a:pt x="0" y="947"/>
                  </a:lnTo>
                  <a:lnTo>
                    <a:pt x="945" y="0"/>
                  </a:lnTo>
                  <a:lnTo>
                    <a:pt x="1890" y="947"/>
                  </a:lnTo>
                  <a:lnTo>
                    <a:pt x="945" y="189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4" name=""/>
          <p:cNvSpPr/>
          <p:nvPr/>
        </p:nvSpPr>
        <p:spPr>
          <a:xfrm>
            <a:off x="2364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6" name="FIREXTG" descr=""/>
          <p:cNvPicPr/>
          <p:nvPr/>
        </p:nvPicPr>
        <p:blipFill>
          <a:blip r:embed="rId1"/>
          <a:stretch/>
        </p:blipFill>
        <p:spPr>
          <a:xfrm>
            <a:off x="1447920" y="2465280"/>
            <a:ext cx="1511280" cy="2689200"/>
          </a:xfrm>
          <a:prstGeom prst="rect">
            <a:avLst/>
          </a:prstGeom>
          <a:ln w="0">
            <a:noFill/>
          </a:ln>
        </p:spPr>
      </p:pic>
      <p:pic>
        <p:nvPicPr>
          <p:cNvPr id="7037" name="CAT6" descr=""/>
          <p:cNvPicPr/>
          <p:nvPr/>
        </p:nvPicPr>
        <p:blipFill>
          <a:blip r:embed="rId2"/>
          <a:stretch/>
        </p:blipFill>
        <p:spPr>
          <a:xfrm>
            <a:off x="5715000" y="3071880"/>
            <a:ext cx="2620800" cy="1474560"/>
          </a:xfrm>
          <a:prstGeom prst="rect">
            <a:avLst/>
          </a:prstGeom>
          <a:ln w="0">
            <a:noFill/>
          </a:ln>
        </p:spPr>
      </p:pic>
      <p:sp>
        <p:nvSpPr>
          <p:cNvPr id="7038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71647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798720" y="1855800"/>
            <a:ext cx="1506600" cy="1795320"/>
          </a:xfrm>
          <a:custGeom>
            <a:avLst/>
            <a:gdLst/>
            <a:ahLst/>
            <a:rect l="l" t="t" r="r" b="b"/>
            <a:pathLst>
              <a:path w="1899" h="2261">
                <a:moveTo>
                  <a:pt x="768" y="132"/>
                </a:moveTo>
                <a:lnTo>
                  <a:pt x="757" y="132"/>
                </a:lnTo>
                <a:lnTo>
                  <a:pt x="745" y="132"/>
                </a:lnTo>
                <a:lnTo>
                  <a:pt x="734" y="134"/>
                </a:lnTo>
                <a:lnTo>
                  <a:pt x="724" y="140"/>
                </a:lnTo>
                <a:lnTo>
                  <a:pt x="704" y="147"/>
                </a:lnTo>
                <a:lnTo>
                  <a:pt x="689" y="161"/>
                </a:lnTo>
                <a:lnTo>
                  <a:pt x="673" y="172"/>
                </a:lnTo>
                <a:lnTo>
                  <a:pt x="660" y="186"/>
                </a:lnTo>
                <a:lnTo>
                  <a:pt x="646" y="200"/>
                </a:lnTo>
                <a:lnTo>
                  <a:pt x="635" y="217"/>
                </a:lnTo>
                <a:lnTo>
                  <a:pt x="623" y="233"/>
                </a:lnTo>
                <a:lnTo>
                  <a:pt x="613" y="252"/>
                </a:lnTo>
                <a:lnTo>
                  <a:pt x="609" y="260"/>
                </a:lnTo>
                <a:lnTo>
                  <a:pt x="607" y="269"/>
                </a:lnTo>
                <a:lnTo>
                  <a:pt x="604" y="281"/>
                </a:lnTo>
                <a:lnTo>
                  <a:pt x="604" y="293"/>
                </a:lnTo>
                <a:lnTo>
                  <a:pt x="598" y="304"/>
                </a:lnTo>
                <a:lnTo>
                  <a:pt x="592" y="318"/>
                </a:lnTo>
                <a:lnTo>
                  <a:pt x="582" y="330"/>
                </a:lnTo>
                <a:lnTo>
                  <a:pt x="573" y="341"/>
                </a:lnTo>
                <a:lnTo>
                  <a:pt x="559" y="347"/>
                </a:lnTo>
                <a:lnTo>
                  <a:pt x="545" y="355"/>
                </a:lnTo>
                <a:lnTo>
                  <a:pt x="530" y="361"/>
                </a:lnTo>
                <a:lnTo>
                  <a:pt x="520" y="372"/>
                </a:lnTo>
                <a:lnTo>
                  <a:pt x="512" y="380"/>
                </a:lnTo>
                <a:lnTo>
                  <a:pt x="507" y="390"/>
                </a:lnTo>
                <a:lnTo>
                  <a:pt x="501" y="399"/>
                </a:lnTo>
                <a:lnTo>
                  <a:pt x="499" y="411"/>
                </a:lnTo>
                <a:lnTo>
                  <a:pt x="495" y="426"/>
                </a:lnTo>
                <a:lnTo>
                  <a:pt x="493" y="442"/>
                </a:lnTo>
                <a:lnTo>
                  <a:pt x="489" y="458"/>
                </a:lnTo>
                <a:lnTo>
                  <a:pt x="485" y="475"/>
                </a:lnTo>
                <a:lnTo>
                  <a:pt x="479" y="489"/>
                </a:lnTo>
                <a:lnTo>
                  <a:pt x="476" y="506"/>
                </a:lnTo>
                <a:lnTo>
                  <a:pt x="470" y="520"/>
                </a:lnTo>
                <a:lnTo>
                  <a:pt x="466" y="537"/>
                </a:lnTo>
                <a:lnTo>
                  <a:pt x="464" y="549"/>
                </a:lnTo>
                <a:lnTo>
                  <a:pt x="462" y="562"/>
                </a:lnTo>
                <a:lnTo>
                  <a:pt x="460" y="574"/>
                </a:lnTo>
                <a:lnTo>
                  <a:pt x="456" y="587"/>
                </a:lnTo>
                <a:lnTo>
                  <a:pt x="443" y="603"/>
                </a:lnTo>
                <a:lnTo>
                  <a:pt x="429" y="618"/>
                </a:lnTo>
                <a:lnTo>
                  <a:pt x="414" y="632"/>
                </a:lnTo>
                <a:lnTo>
                  <a:pt x="400" y="651"/>
                </a:lnTo>
                <a:lnTo>
                  <a:pt x="388" y="663"/>
                </a:lnTo>
                <a:lnTo>
                  <a:pt x="377" y="675"/>
                </a:lnTo>
                <a:lnTo>
                  <a:pt x="361" y="684"/>
                </a:lnTo>
                <a:lnTo>
                  <a:pt x="348" y="694"/>
                </a:lnTo>
                <a:lnTo>
                  <a:pt x="342" y="698"/>
                </a:lnTo>
                <a:lnTo>
                  <a:pt x="342" y="710"/>
                </a:lnTo>
                <a:lnTo>
                  <a:pt x="340" y="719"/>
                </a:lnTo>
                <a:lnTo>
                  <a:pt x="336" y="731"/>
                </a:lnTo>
                <a:lnTo>
                  <a:pt x="328" y="739"/>
                </a:lnTo>
                <a:lnTo>
                  <a:pt x="318" y="746"/>
                </a:lnTo>
                <a:lnTo>
                  <a:pt x="299" y="748"/>
                </a:lnTo>
                <a:lnTo>
                  <a:pt x="282" y="754"/>
                </a:lnTo>
                <a:lnTo>
                  <a:pt x="266" y="762"/>
                </a:lnTo>
                <a:lnTo>
                  <a:pt x="253" y="774"/>
                </a:lnTo>
                <a:lnTo>
                  <a:pt x="237" y="785"/>
                </a:lnTo>
                <a:lnTo>
                  <a:pt x="223" y="797"/>
                </a:lnTo>
                <a:lnTo>
                  <a:pt x="212" y="808"/>
                </a:lnTo>
                <a:lnTo>
                  <a:pt x="200" y="822"/>
                </a:lnTo>
                <a:lnTo>
                  <a:pt x="189" y="832"/>
                </a:lnTo>
                <a:lnTo>
                  <a:pt x="177" y="845"/>
                </a:lnTo>
                <a:lnTo>
                  <a:pt x="171" y="857"/>
                </a:lnTo>
                <a:lnTo>
                  <a:pt x="173" y="874"/>
                </a:lnTo>
                <a:lnTo>
                  <a:pt x="177" y="884"/>
                </a:lnTo>
                <a:lnTo>
                  <a:pt x="185" y="896"/>
                </a:lnTo>
                <a:lnTo>
                  <a:pt x="190" y="905"/>
                </a:lnTo>
                <a:lnTo>
                  <a:pt x="190" y="917"/>
                </a:lnTo>
                <a:lnTo>
                  <a:pt x="181" y="925"/>
                </a:lnTo>
                <a:lnTo>
                  <a:pt x="173" y="934"/>
                </a:lnTo>
                <a:lnTo>
                  <a:pt x="163" y="944"/>
                </a:lnTo>
                <a:lnTo>
                  <a:pt x="159" y="960"/>
                </a:lnTo>
                <a:lnTo>
                  <a:pt x="158" y="969"/>
                </a:lnTo>
                <a:lnTo>
                  <a:pt x="156" y="979"/>
                </a:lnTo>
                <a:lnTo>
                  <a:pt x="156" y="991"/>
                </a:lnTo>
                <a:lnTo>
                  <a:pt x="156" y="1002"/>
                </a:lnTo>
                <a:lnTo>
                  <a:pt x="156" y="1012"/>
                </a:lnTo>
                <a:lnTo>
                  <a:pt x="156" y="1022"/>
                </a:lnTo>
                <a:lnTo>
                  <a:pt x="158" y="1033"/>
                </a:lnTo>
                <a:lnTo>
                  <a:pt x="159" y="1045"/>
                </a:lnTo>
                <a:lnTo>
                  <a:pt x="159" y="1064"/>
                </a:lnTo>
                <a:lnTo>
                  <a:pt x="163" y="1086"/>
                </a:lnTo>
                <a:lnTo>
                  <a:pt x="165" y="1095"/>
                </a:lnTo>
                <a:lnTo>
                  <a:pt x="167" y="1107"/>
                </a:lnTo>
                <a:lnTo>
                  <a:pt x="169" y="1119"/>
                </a:lnTo>
                <a:lnTo>
                  <a:pt x="173" y="1130"/>
                </a:lnTo>
                <a:lnTo>
                  <a:pt x="177" y="1142"/>
                </a:lnTo>
                <a:lnTo>
                  <a:pt x="183" y="1157"/>
                </a:lnTo>
                <a:lnTo>
                  <a:pt x="189" y="1171"/>
                </a:lnTo>
                <a:lnTo>
                  <a:pt x="194" y="1187"/>
                </a:lnTo>
                <a:lnTo>
                  <a:pt x="192" y="1196"/>
                </a:lnTo>
                <a:lnTo>
                  <a:pt x="190" y="1208"/>
                </a:lnTo>
                <a:lnTo>
                  <a:pt x="185" y="1220"/>
                </a:lnTo>
                <a:lnTo>
                  <a:pt x="181" y="1231"/>
                </a:lnTo>
                <a:lnTo>
                  <a:pt x="171" y="1241"/>
                </a:lnTo>
                <a:lnTo>
                  <a:pt x="165" y="1251"/>
                </a:lnTo>
                <a:lnTo>
                  <a:pt x="158" y="1262"/>
                </a:lnTo>
                <a:lnTo>
                  <a:pt x="152" y="1274"/>
                </a:lnTo>
                <a:lnTo>
                  <a:pt x="138" y="1285"/>
                </a:lnTo>
                <a:lnTo>
                  <a:pt x="125" y="1297"/>
                </a:lnTo>
                <a:lnTo>
                  <a:pt x="109" y="1307"/>
                </a:lnTo>
                <a:lnTo>
                  <a:pt x="95" y="1320"/>
                </a:lnTo>
                <a:lnTo>
                  <a:pt x="84" y="1328"/>
                </a:lnTo>
                <a:lnTo>
                  <a:pt x="74" y="1338"/>
                </a:lnTo>
                <a:lnTo>
                  <a:pt x="62" y="1346"/>
                </a:lnTo>
                <a:lnTo>
                  <a:pt x="53" y="1353"/>
                </a:lnTo>
                <a:lnTo>
                  <a:pt x="41" y="1359"/>
                </a:lnTo>
                <a:lnTo>
                  <a:pt x="31" y="1369"/>
                </a:lnTo>
                <a:lnTo>
                  <a:pt x="22" y="1379"/>
                </a:lnTo>
                <a:lnTo>
                  <a:pt x="16" y="1392"/>
                </a:lnTo>
                <a:lnTo>
                  <a:pt x="12" y="1404"/>
                </a:lnTo>
                <a:lnTo>
                  <a:pt x="14" y="1417"/>
                </a:lnTo>
                <a:lnTo>
                  <a:pt x="14" y="1431"/>
                </a:lnTo>
                <a:lnTo>
                  <a:pt x="14" y="1444"/>
                </a:lnTo>
                <a:lnTo>
                  <a:pt x="6" y="1460"/>
                </a:lnTo>
                <a:lnTo>
                  <a:pt x="2" y="1477"/>
                </a:lnTo>
                <a:lnTo>
                  <a:pt x="0" y="1495"/>
                </a:lnTo>
                <a:lnTo>
                  <a:pt x="6" y="1512"/>
                </a:lnTo>
                <a:lnTo>
                  <a:pt x="10" y="1522"/>
                </a:lnTo>
                <a:lnTo>
                  <a:pt x="22" y="1530"/>
                </a:lnTo>
                <a:lnTo>
                  <a:pt x="33" y="1538"/>
                </a:lnTo>
                <a:lnTo>
                  <a:pt x="45" y="1549"/>
                </a:lnTo>
                <a:lnTo>
                  <a:pt x="53" y="1555"/>
                </a:lnTo>
                <a:lnTo>
                  <a:pt x="64" y="1563"/>
                </a:lnTo>
                <a:lnTo>
                  <a:pt x="76" y="1567"/>
                </a:lnTo>
                <a:lnTo>
                  <a:pt x="90" y="1572"/>
                </a:lnTo>
                <a:lnTo>
                  <a:pt x="101" y="1574"/>
                </a:lnTo>
                <a:lnTo>
                  <a:pt x="117" y="1580"/>
                </a:lnTo>
                <a:lnTo>
                  <a:pt x="128" y="1582"/>
                </a:lnTo>
                <a:lnTo>
                  <a:pt x="144" y="1588"/>
                </a:lnTo>
                <a:lnTo>
                  <a:pt x="159" y="1590"/>
                </a:lnTo>
                <a:lnTo>
                  <a:pt x="175" y="1592"/>
                </a:lnTo>
                <a:lnTo>
                  <a:pt x="192" y="1590"/>
                </a:lnTo>
                <a:lnTo>
                  <a:pt x="210" y="1590"/>
                </a:lnTo>
                <a:lnTo>
                  <a:pt x="227" y="1588"/>
                </a:lnTo>
                <a:lnTo>
                  <a:pt x="245" y="1588"/>
                </a:lnTo>
                <a:lnTo>
                  <a:pt x="262" y="1588"/>
                </a:lnTo>
                <a:lnTo>
                  <a:pt x="280" y="1592"/>
                </a:lnTo>
                <a:lnTo>
                  <a:pt x="291" y="1594"/>
                </a:lnTo>
                <a:lnTo>
                  <a:pt x="305" y="1598"/>
                </a:lnTo>
                <a:lnTo>
                  <a:pt x="317" y="1602"/>
                </a:lnTo>
                <a:lnTo>
                  <a:pt x="330" y="1607"/>
                </a:lnTo>
                <a:lnTo>
                  <a:pt x="342" y="1613"/>
                </a:lnTo>
                <a:lnTo>
                  <a:pt x="355" y="1619"/>
                </a:lnTo>
                <a:lnTo>
                  <a:pt x="369" y="1625"/>
                </a:lnTo>
                <a:lnTo>
                  <a:pt x="382" y="1631"/>
                </a:lnTo>
                <a:lnTo>
                  <a:pt x="394" y="1631"/>
                </a:lnTo>
                <a:lnTo>
                  <a:pt x="408" y="1633"/>
                </a:lnTo>
                <a:lnTo>
                  <a:pt x="419" y="1631"/>
                </a:lnTo>
                <a:lnTo>
                  <a:pt x="435" y="1631"/>
                </a:lnTo>
                <a:lnTo>
                  <a:pt x="446" y="1631"/>
                </a:lnTo>
                <a:lnTo>
                  <a:pt x="460" y="1631"/>
                </a:lnTo>
                <a:lnTo>
                  <a:pt x="472" y="1634"/>
                </a:lnTo>
                <a:lnTo>
                  <a:pt x="481" y="1644"/>
                </a:lnTo>
                <a:lnTo>
                  <a:pt x="487" y="1656"/>
                </a:lnTo>
                <a:lnTo>
                  <a:pt x="489" y="1669"/>
                </a:lnTo>
                <a:lnTo>
                  <a:pt x="487" y="1683"/>
                </a:lnTo>
                <a:lnTo>
                  <a:pt x="485" y="1700"/>
                </a:lnTo>
                <a:lnTo>
                  <a:pt x="479" y="1716"/>
                </a:lnTo>
                <a:lnTo>
                  <a:pt x="474" y="1733"/>
                </a:lnTo>
                <a:lnTo>
                  <a:pt x="468" y="1749"/>
                </a:lnTo>
                <a:lnTo>
                  <a:pt x="466" y="1766"/>
                </a:lnTo>
                <a:lnTo>
                  <a:pt x="458" y="1778"/>
                </a:lnTo>
                <a:lnTo>
                  <a:pt x="446" y="1790"/>
                </a:lnTo>
                <a:lnTo>
                  <a:pt x="435" y="1799"/>
                </a:lnTo>
                <a:lnTo>
                  <a:pt x="431" y="1817"/>
                </a:lnTo>
                <a:lnTo>
                  <a:pt x="429" y="1832"/>
                </a:lnTo>
                <a:lnTo>
                  <a:pt x="425" y="1850"/>
                </a:lnTo>
                <a:lnTo>
                  <a:pt x="419" y="1867"/>
                </a:lnTo>
                <a:lnTo>
                  <a:pt x="415" y="1885"/>
                </a:lnTo>
                <a:lnTo>
                  <a:pt x="412" y="1894"/>
                </a:lnTo>
                <a:lnTo>
                  <a:pt x="414" y="1906"/>
                </a:lnTo>
                <a:lnTo>
                  <a:pt x="415" y="1916"/>
                </a:lnTo>
                <a:lnTo>
                  <a:pt x="423" y="1927"/>
                </a:lnTo>
                <a:lnTo>
                  <a:pt x="437" y="1945"/>
                </a:lnTo>
                <a:lnTo>
                  <a:pt x="454" y="1956"/>
                </a:lnTo>
                <a:lnTo>
                  <a:pt x="468" y="1956"/>
                </a:lnTo>
                <a:lnTo>
                  <a:pt x="483" y="1958"/>
                </a:lnTo>
                <a:lnTo>
                  <a:pt x="499" y="1954"/>
                </a:lnTo>
                <a:lnTo>
                  <a:pt x="516" y="1951"/>
                </a:lnTo>
                <a:lnTo>
                  <a:pt x="532" y="1943"/>
                </a:lnTo>
                <a:lnTo>
                  <a:pt x="547" y="1937"/>
                </a:lnTo>
                <a:lnTo>
                  <a:pt x="563" y="1929"/>
                </a:lnTo>
                <a:lnTo>
                  <a:pt x="580" y="1923"/>
                </a:lnTo>
                <a:lnTo>
                  <a:pt x="596" y="1919"/>
                </a:lnTo>
                <a:lnTo>
                  <a:pt x="613" y="1921"/>
                </a:lnTo>
                <a:lnTo>
                  <a:pt x="629" y="1927"/>
                </a:lnTo>
                <a:lnTo>
                  <a:pt x="646" y="1939"/>
                </a:lnTo>
                <a:lnTo>
                  <a:pt x="664" y="1952"/>
                </a:lnTo>
                <a:lnTo>
                  <a:pt x="681" y="1966"/>
                </a:lnTo>
                <a:lnTo>
                  <a:pt x="699" y="1978"/>
                </a:lnTo>
                <a:lnTo>
                  <a:pt x="716" y="1991"/>
                </a:lnTo>
                <a:lnTo>
                  <a:pt x="732" y="2003"/>
                </a:lnTo>
                <a:lnTo>
                  <a:pt x="749" y="2018"/>
                </a:lnTo>
                <a:lnTo>
                  <a:pt x="765" y="2034"/>
                </a:lnTo>
                <a:lnTo>
                  <a:pt x="782" y="2051"/>
                </a:lnTo>
                <a:lnTo>
                  <a:pt x="798" y="2069"/>
                </a:lnTo>
                <a:lnTo>
                  <a:pt x="813" y="2088"/>
                </a:lnTo>
                <a:lnTo>
                  <a:pt x="819" y="2096"/>
                </a:lnTo>
                <a:lnTo>
                  <a:pt x="827" y="2106"/>
                </a:lnTo>
                <a:lnTo>
                  <a:pt x="832" y="2115"/>
                </a:lnTo>
                <a:lnTo>
                  <a:pt x="838" y="2127"/>
                </a:lnTo>
                <a:lnTo>
                  <a:pt x="844" y="2141"/>
                </a:lnTo>
                <a:lnTo>
                  <a:pt x="852" y="2154"/>
                </a:lnTo>
                <a:lnTo>
                  <a:pt x="858" y="2166"/>
                </a:lnTo>
                <a:lnTo>
                  <a:pt x="865" y="2181"/>
                </a:lnTo>
                <a:lnTo>
                  <a:pt x="873" y="2201"/>
                </a:lnTo>
                <a:lnTo>
                  <a:pt x="889" y="2218"/>
                </a:lnTo>
                <a:lnTo>
                  <a:pt x="906" y="2234"/>
                </a:lnTo>
                <a:lnTo>
                  <a:pt x="925" y="2245"/>
                </a:lnTo>
                <a:lnTo>
                  <a:pt x="935" y="2247"/>
                </a:lnTo>
                <a:lnTo>
                  <a:pt x="947" y="2251"/>
                </a:lnTo>
                <a:lnTo>
                  <a:pt x="958" y="2253"/>
                </a:lnTo>
                <a:lnTo>
                  <a:pt x="970" y="2257"/>
                </a:lnTo>
                <a:lnTo>
                  <a:pt x="982" y="2257"/>
                </a:lnTo>
                <a:lnTo>
                  <a:pt x="995" y="2259"/>
                </a:lnTo>
                <a:lnTo>
                  <a:pt x="1009" y="2259"/>
                </a:lnTo>
                <a:lnTo>
                  <a:pt x="1022" y="2261"/>
                </a:lnTo>
                <a:lnTo>
                  <a:pt x="1034" y="2259"/>
                </a:lnTo>
                <a:lnTo>
                  <a:pt x="1046" y="2257"/>
                </a:lnTo>
                <a:lnTo>
                  <a:pt x="1059" y="2257"/>
                </a:lnTo>
                <a:lnTo>
                  <a:pt x="1073" y="2257"/>
                </a:lnTo>
                <a:lnTo>
                  <a:pt x="1085" y="2255"/>
                </a:lnTo>
                <a:lnTo>
                  <a:pt x="1096" y="2253"/>
                </a:lnTo>
                <a:lnTo>
                  <a:pt x="1110" y="2253"/>
                </a:lnTo>
                <a:lnTo>
                  <a:pt x="1123" y="2253"/>
                </a:lnTo>
                <a:lnTo>
                  <a:pt x="1133" y="2249"/>
                </a:lnTo>
                <a:lnTo>
                  <a:pt x="1145" y="2245"/>
                </a:lnTo>
                <a:lnTo>
                  <a:pt x="1152" y="2239"/>
                </a:lnTo>
                <a:lnTo>
                  <a:pt x="1162" y="2234"/>
                </a:lnTo>
                <a:lnTo>
                  <a:pt x="1178" y="2216"/>
                </a:lnTo>
                <a:lnTo>
                  <a:pt x="1191" y="2197"/>
                </a:lnTo>
                <a:lnTo>
                  <a:pt x="1197" y="2183"/>
                </a:lnTo>
                <a:lnTo>
                  <a:pt x="1203" y="2172"/>
                </a:lnTo>
                <a:lnTo>
                  <a:pt x="1209" y="2160"/>
                </a:lnTo>
                <a:lnTo>
                  <a:pt x="1214" y="2148"/>
                </a:lnTo>
                <a:lnTo>
                  <a:pt x="1220" y="2137"/>
                </a:lnTo>
                <a:lnTo>
                  <a:pt x="1228" y="2125"/>
                </a:lnTo>
                <a:lnTo>
                  <a:pt x="1234" y="2115"/>
                </a:lnTo>
                <a:lnTo>
                  <a:pt x="1244" y="2108"/>
                </a:lnTo>
                <a:lnTo>
                  <a:pt x="1251" y="2098"/>
                </a:lnTo>
                <a:lnTo>
                  <a:pt x="1263" y="2090"/>
                </a:lnTo>
                <a:lnTo>
                  <a:pt x="1277" y="2084"/>
                </a:lnTo>
                <a:lnTo>
                  <a:pt x="1294" y="2080"/>
                </a:lnTo>
                <a:lnTo>
                  <a:pt x="1306" y="2073"/>
                </a:lnTo>
                <a:lnTo>
                  <a:pt x="1317" y="2065"/>
                </a:lnTo>
                <a:lnTo>
                  <a:pt x="1327" y="2055"/>
                </a:lnTo>
                <a:lnTo>
                  <a:pt x="1339" y="2046"/>
                </a:lnTo>
                <a:lnTo>
                  <a:pt x="1348" y="2034"/>
                </a:lnTo>
                <a:lnTo>
                  <a:pt x="1358" y="2026"/>
                </a:lnTo>
                <a:lnTo>
                  <a:pt x="1370" y="2020"/>
                </a:lnTo>
                <a:lnTo>
                  <a:pt x="1385" y="2018"/>
                </a:lnTo>
                <a:lnTo>
                  <a:pt x="1399" y="2015"/>
                </a:lnTo>
                <a:lnTo>
                  <a:pt x="1416" y="2013"/>
                </a:lnTo>
                <a:lnTo>
                  <a:pt x="1430" y="2011"/>
                </a:lnTo>
                <a:lnTo>
                  <a:pt x="1447" y="2009"/>
                </a:lnTo>
                <a:lnTo>
                  <a:pt x="1461" y="2005"/>
                </a:lnTo>
                <a:lnTo>
                  <a:pt x="1476" y="2001"/>
                </a:lnTo>
                <a:lnTo>
                  <a:pt x="1492" y="1997"/>
                </a:lnTo>
                <a:lnTo>
                  <a:pt x="1507" y="1995"/>
                </a:lnTo>
                <a:lnTo>
                  <a:pt x="1521" y="1989"/>
                </a:lnTo>
                <a:lnTo>
                  <a:pt x="1536" y="1985"/>
                </a:lnTo>
                <a:lnTo>
                  <a:pt x="1550" y="1980"/>
                </a:lnTo>
                <a:lnTo>
                  <a:pt x="1565" y="1976"/>
                </a:lnTo>
                <a:lnTo>
                  <a:pt x="1579" y="1970"/>
                </a:lnTo>
                <a:lnTo>
                  <a:pt x="1595" y="1964"/>
                </a:lnTo>
                <a:lnTo>
                  <a:pt x="1610" y="1958"/>
                </a:lnTo>
                <a:lnTo>
                  <a:pt x="1626" y="1954"/>
                </a:lnTo>
                <a:lnTo>
                  <a:pt x="1635" y="1947"/>
                </a:lnTo>
                <a:lnTo>
                  <a:pt x="1645" y="1939"/>
                </a:lnTo>
                <a:lnTo>
                  <a:pt x="1655" y="1927"/>
                </a:lnTo>
                <a:lnTo>
                  <a:pt x="1664" y="1918"/>
                </a:lnTo>
                <a:lnTo>
                  <a:pt x="1672" y="1906"/>
                </a:lnTo>
                <a:lnTo>
                  <a:pt x="1682" y="1894"/>
                </a:lnTo>
                <a:lnTo>
                  <a:pt x="1692" y="1885"/>
                </a:lnTo>
                <a:lnTo>
                  <a:pt x="1703" y="1879"/>
                </a:lnTo>
                <a:lnTo>
                  <a:pt x="1715" y="1871"/>
                </a:lnTo>
                <a:lnTo>
                  <a:pt x="1732" y="1867"/>
                </a:lnTo>
                <a:lnTo>
                  <a:pt x="1750" y="1865"/>
                </a:lnTo>
                <a:lnTo>
                  <a:pt x="1767" y="1865"/>
                </a:lnTo>
                <a:lnTo>
                  <a:pt x="1785" y="1865"/>
                </a:lnTo>
                <a:lnTo>
                  <a:pt x="1802" y="1865"/>
                </a:lnTo>
                <a:lnTo>
                  <a:pt x="1820" y="1865"/>
                </a:lnTo>
                <a:lnTo>
                  <a:pt x="1837" y="1867"/>
                </a:lnTo>
                <a:lnTo>
                  <a:pt x="1849" y="1857"/>
                </a:lnTo>
                <a:lnTo>
                  <a:pt x="1856" y="1844"/>
                </a:lnTo>
                <a:lnTo>
                  <a:pt x="1858" y="1834"/>
                </a:lnTo>
                <a:lnTo>
                  <a:pt x="1860" y="1824"/>
                </a:lnTo>
                <a:lnTo>
                  <a:pt x="1862" y="1813"/>
                </a:lnTo>
                <a:lnTo>
                  <a:pt x="1864" y="1805"/>
                </a:lnTo>
                <a:lnTo>
                  <a:pt x="1864" y="1786"/>
                </a:lnTo>
                <a:lnTo>
                  <a:pt x="1866" y="1766"/>
                </a:lnTo>
                <a:lnTo>
                  <a:pt x="1868" y="1747"/>
                </a:lnTo>
                <a:lnTo>
                  <a:pt x="1872" y="1729"/>
                </a:lnTo>
                <a:lnTo>
                  <a:pt x="1874" y="1710"/>
                </a:lnTo>
                <a:lnTo>
                  <a:pt x="1880" y="1691"/>
                </a:lnTo>
                <a:lnTo>
                  <a:pt x="1882" y="1673"/>
                </a:lnTo>
                <a:lnTo>
                  <a:pt x="1887" y="1656"/>
                </a:lnTo>
                <a:lnTo>
                  <a:pt x="1889" y="1636"/>
                </a:lnTo>
                <a:lnTo>
                  <a:pt x="1891" y="1617"/>
                </a:lnTo>
                <a:lnTo>
                  <a:pt x="1893" y="1598"/>
                </a:lnTo>
                <a:lnTo>
                  <a:pt x="1897" y="1580"/>
                </a:lnTo>
                <a:lnTo>
                  <a:pt x="1897" y="1561"/>
                </a:lnTo>
                <a:lnTo>
                  <a:pt x="1899" y="1543"/>
                </a:lnTo>
                <a:lnTo>
                  <a:pt x="1899" y="1524"/>
                </a:lnTo>
                <a:lnTo>
                  <a:pt x="1899" y="1506"/>
                </a:lnTo>
                <a:lnTo>
                  <a:pt x="1893" y="1485"/>
                </a:lnTo>
                <a:lnTo>
                  <a:pt x="1887" y="1466"/>
                </a:lnTo>
                <a:lnTo>
                  <a:pt x="1876" y="1446"/>
                </a:lnTo>
                <a:lnTo>
                  <a:pt x="1862" y="1433"/>
                </a:lnTo>
                <a:lnTo>
                  <a:pt x="1851" y="1417"/>
                </a:lnTo>
                <a:lnTo>
                  <a:pt x="1841" y="1406"/>
                </a:lnTo>
                <a:lnTo>
                  <a:pt x="1833" y="1390"/>
                </a:lnTo>
                <a:lnTo>
                  <a:pt x="1831" y="1379"/>
                </a:lnTo>
                <a:lnTo>
                  <a:pt x="1827" y="1363"/>
                </a:lnTo>
                <a:lnTo>
                  <a:pt x="1827" y="1349"/>
                </a:lnTo>
                <a:lnTo>
                  <a:pt x="1823" y="1334"/>
                </a:lnTo>
                <a:lnTo>
                  <a:pt x="1823" y="1320"/>
                </a:lnTo>
                <a:lnTo>
                  <a:pt x="1820" y="1307"/>
                </a:lnTo>
                <a:lnTo>
                  <a:pt x="1818" y="1293"/>
                </a:lnTo>
                <a:lnTo>
                  <a:pt x="1814" y="1280"/>
                </a:lnTo>
                <a:lnTo>
                  <a:pt x="1812" y="1268"/>
                </a:lnTo>
                <a:lnTo>
                  <a:pt x="1808" y="1252"/>
                </a:lnTo>
                <a:lnTo>
                  <a:pt x="1804" y="1239"/>
                </a:lnTo>
                <a:lnTo>
                  <a:pt x="1800" y="1225"/>
                </a:lnTo>
                <a:lnTo>
                  <a:pt x="1796" y="1214"/>
                </a:lnTo>
                <a:lnTo>
                  <a:pt x="1792" y="1200"/>
                </a:lnTo>
                <a:lnTo>
                  <a:pt x="1789" y="1187"/>
                </a:lnTo>
                <a:lnTo>
                  <a:pt x="1785" y="1173"/>
                </a:lnTo>
                <a:lnTo>
                  <a:pt x="1783" y="1161"/>
                </a:lnTo>
                <a:lnTo>
                  <a:pt x="1775" y="1142"/>
                </a:lnTo>
                <a:lnTo>
                  <a:pt x="1769" y="1123"/>
                </a:lnTo>
                <a:lnTo>
                  <a:pt x="1763" y="1103"/>
                </a:lnTo>
                <a:lnTo>
                  <a:pt x="1757" y="1086"/>
                </a:lnTo>
                <a:lnTo>
                  <a:pt x="1750" y="1068"/>
                </a:lnTo>
                <a:lnTo>
                  <a:pt x="1742" y="1051"/>
                </a:lnTo>
                <a:lnTo>
                  <a:pt x="1732" y="1033"/>
                </a:lnTo>
                <a:lnTo>
                  <a:pt x="1725" y="1018"/>
                </a:lnTo>
                <a:lnTo>
                  <a:pt x="1715" y="1002"/>
                </a:lnTo>
                <a:lnTo>
                  <a:pt x="1707" y="987"/>
                </a:lnTo>
                <a:lnTo>
                  <a:pt x="1701" y="971"/>
                </a:lnTo>
                <a:lnTo>
                  <a:pt x="1695" y="958"/>
                </a:lnTo>
                <a:lnTo>
                  <a:pt x="1688" y="942"/>
                </a:lnTo>
                <a:lnTo>
                  <a:pt x="1682" y="929"/>
                </a:lnTo>
                <a:lnTo>
                  <a:pt x="1674" y="913"/>
                </a:lnTo>
                <a:lnTo>
                  <a:pt x="1668" y="900"/>
                </a:lnTo>
                <a:lnTo>
                  <a:pt x="1659" y="880"/>
                </a:lnTo>
                <a:lnTo>
                  <a:pt x="1649" y="863"/>
                </a:lnTo>
                <a:lnTo>
                  <a:pt x="1639" y="845"/>
                </a:lnTo>
                <a:lnTo>
                  <a:pt x="1631" y="828"/>
                </a:lnTo>
                <a:lnTo>
                  <a:pt x="1620" y="810"/>
                </a:lnTo>
                <a:lnTo>
                  <a:pt x="1608" y="793"/>
                </a:lnTo>
                <a:lnTo>
                  <a:pt x="1597" y="777"/>
                </a:lnTo>
                <a:lnTo>
                  <a:pt x="1585" y="762"/>
                </a:lnTo>
                <a:lnTo>
                  <a:pt x="1569" y="743"/>
                </a:lnTo>
                <a:lnTo>
                  <a:pt x="1560" y="723"/>
                </a:lnTo>
                <a:lnTo>
                  <a:pt x="1554" y="712"/>
                </a:lnTo>
                <a:lnTo>
                  <a:pt x="1552" y="702"/>
                </a:lnTo>
                <a:lnTo>
                  <a:pt x="1548" y="690"/>
                </a:lnTo>
                <a:lnTo>
                  <a:pt x="1548" y="680"/>
                </a:lnTo>
                <a:lnTo>
                  <a:pt x="1542" y="669"/>
                </a:lnTo>
                <a:lnTo>
                  <a:pt x="1538" y="659"/>
                </a:lnTo>
                <a:lnTo>
                  <a:pt x="1534" y="649"/>
                </a:lnTo>
                <a:lnTo>
                  <a:pt x="1531" y="642"/>
                </a:lnTo>
                <a:lnTo>
                  <a:pt x="1525" y="632"/>
                </a:lnTo>
                <a:lnTo>
                  <a:pt x="1521" y="622"/>
                </a:lnTo>
                <a:lnTo>
                  <a:pt x="1517" y="613"/>
                </a:lnTo>
                <a:lnTo>
                  <a:pt x="1519" y="603"/>
                </a:lnTo>
                <a:lnTo>
                  <a:pt x="1515" y="593"/>
                </a:lnTo>
                <a:lnTo>
                  <a:pt x="1507" y="585"/>
                </a:lnTo>
                <a:lnTo>
                  <a:pt x="1500" y="574"/>
                </a:lnTo>
                <a:lnTo>
                  <a:pt x="1496" y="564"/>
                </a:lnTo>
                <a:lnTo>
                  <a:pt x="1494" y="553"/>
                </a:lnTo>
                <a:lnTo>
                  <a:pt x="1500" y="541"/>
                </a:lnTo>
                <a:lnTo>
                  <a:pt x="1503" y="531"/>
                </a:lnTo>
                <a:lnTo>
                  <a:pt x="1503" y="521"/>
                </a:lnTo>
                <a:lnTo>
                  <a:pt x="1494" y="510"/>
                </a:lnTo>
                <a:lnTo>
                  <a:pt x="1486" y="504"/>
                </a:lnTo>
                <a:lnTo>
                  <a:pt x="1474" y="494"/>
                </a:lnTo>
                <a:lnTo>
                  <a:pt x="1469" y="487"/>
                </a:lnTo>
                <a:lnTo>
                  <a:pt x="1461" y="475"/>
                </a:lnTo>
                <a:lnTo>
                  <a:pt x="1455" y="463"/>
                </a:lnTo>
                <a:lnTo>
                  <a:pt x="1449" y="452"/>
                </a:lnTo>
                <a:lnTo>
                  <a:pt x="1443" y="442"/>
                </a:lnTo>
                <a:lnTo>
                  <a:pt x="1432" y="421"/>
                </a:lnTo>
                <a:lnTo>
                  <a:pt x="1420" y="401"/>
                </a:lnTo>
                <a:lnTo>
                  <a:pt x="1406" y="380"/>
                </a:lnTo>
                <a:lnTo>
                  <a:pt x="1393" y="361"/>
                </a:lnTo>
                <a:lnTo>
                  <a:pt x="1379" y="341"/>
                </a:lnTo>
                <a:lnTo>
                  <a:pt x="1368" y="324"/>
                </a:lnTo>
                <a:lnTo>
                  <a:pt x="1352" y="304"/>
                </a:lnTo>
                <a:lnTo>
                  <a:pt x="1339" y="285"/>
                </a:lnTo>
                <a:lnTo>
                  <a:pt x="1323" y="266"/>
                </a:lnTo>
                <a:lnTo>
                  <a:pt x="1309" y="248"/>
                </a:lnTo>
                <a:lnTo>
                  <a:pt x="1292" y="229"/>
                </a:lnTo>
                <a:lnTo>
                  <a:pt x="1278" y="211"/>
                </a:lnTo>
                <a:lnTo>
                  <a:pt x="1261" y="194"/>
                </a:lnTo>
                <a:lnTo>
                  <a:pt x="1247" y="176"/>
                </a:lnTo>
                <a:lnTo>
                  <a:pt x="1236" y="161"/>
                </a:lnTo>
                <a:lnTo>
                  <a:pt x="1226" y="147"/>
                </a:lnTo>
                <a:lnTo>
                  <a:pt x="1216" y="132"/>
                </a:lnTo>
                <a:lnTo>
                  <a:pt x="1211" y="116"/>
                </a:lnTo>
                <a:lnTo>
                  <a:pt x="1195" y="97"/>
                </a:lnTo>
                <a:lnTo>
                  <a:pt x="1178" y="85"/>
                </a:lnTo>
                <a:lnTo>
                  <a:pt x="1162" y="79"/>
                </a:lnTo>
                <a:lnTo>
                  <a:pt x="1147" y="76"/>
                </a:lnTo>
                <a:lnTo>
                  <a:pt x="1133" y="72"/>
                </a:lnTo>
                <a:lnTo>
                  <a:pt x="1121" y="68"/>
                </a:lnTo>
                <a:lnTo>
                  <a:pt x="1112" y="62"/>
                </a:lnTo>
                <a:lnTo>
                  <a:pt x="1102" y="56"/>
                </a:lnTo>
                <a:lnTo>
                  <a:pt x="1085" y="43"/>
                </a:lnTo>
                <a:lnTo>
                  <a:pt x="1067" y="29"/>
                </a:lnTo>
                <a:lnTo>
                  <a:pt x="1048" y="15"/>
                </a:lnTo>
                <a:lnTo>
                  <a:pt x="1030" y="6"/>
                </a:lnTo>
                <a:lnTo>
                  <a:pt x="1011" y="0"/>
                </a:lnTo>
                <a:lnTo>
                  <a:pt x="991" y="0"/>
                </a:lnTo>
                <a:lnTo>
                  <a:pt x="976" y="0"/>
                </a:lnTo>
                <a:lnTo>
                  <a:pt x="962" y="2"/>
                </a:lnTo>
                <a:lnTo>
                  <a:pt x="949" y="4"/>
                </a:lnTo>
                <a:lnTo>
                  <a:pt x="935" y="8"/>
                </a:lnTo>
                <a:lnTo>
                  <a:pt x="922" y="8"/>
                </a:lnTo>
                <a:lnTo>
                  <a:pt x="908" y="12"/>
                </a:lnTo>
                <a:lnTo>
                  <a:pt x="896" y="15"/>
                </a:lnTo>
                <a:lnTo>
                  <a:pt x="885" y="21"/>
                </a:lnTo>
                <a:lnTo>
                  <a:pt x="871" y="25"/>
                </a:lnTo>
                <a:lnTo>
                  <a:pt x="858" y="31"/>
                </a:lnTo>
                <a:lnTo>
                  <a:pt x="846" y="37"/>
                </a:lnTo>
                <a:lnTo>
                  <a:pt x="834" y="44"/>
                </a:lnTo>
                <a:lnTo>
                  <a:pt x="813" y="60"/>
                </a:lnTo>
                <a:lnTo>
                  <a:pt x="796" y="79"/>
                </a:lnTo>
                <a:lnTo>
                  <a:pt x="788" y="89"/>
                </a:lnTo>
                <a:lnTo>
                  <a:pt x="788" y="103"/>
                </a:lnTo>
                <a:lnTo>
                  <a:pt x="784" y="116"/>
                </a:lnTo>
                <a:lnTo>
                  <a:pt x="780" y="132"/>
                </a:lnTo>
                <a:lnTo>
                  <a:pt x="774" y="132"/>
                </a:lnTo>
                <a:lnTo>
                  <a:pt x="76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2968560"/>
            <a:ext cx="2880" cy="7920"/>
          </a:xfrm>
          <a:custGeom>
            <a:avLst/>
            <a:gdLst/>
            <a:ahLst/>
            <a:rect l="l" t="t" r="r" b="b"/>
            <a:pathLst>
              <a:path w="4" h="9">
                <a:moveTo>
                  <a:pt x="2" y="9"/>
                </a:moveTo>
                <a:lnTo>
                  <a:pt x="0" y="2"/>
                </a:lnTo>
                <a:lnTo>
                  <a:pt x="4" y="0"/>
                </a:lnTo>
                <a:lnTo>
                  <a:pt x="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0840" y="3859200"/>
            <a:ext cx="97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60840" y="2541600"/>
            <a:ext cx="97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11520" y="3467160"/>
            <a:ext cx="7920" cy="468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8"/>
                </a:moveTo>
                <a:lnTo>
                  <a:pt x="10" y="0"/>
                </a:lnTo>
                <a:lnTo>
                  <a:pt x="10" y="8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36920" y="224964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5640" y="2349360"/>
            <a:ext cx="4680" cy="648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8"/>
                </a:moveTo>
                <a:lnTo>
                  <a:pt x="0" y="2"/>
                </a:lnTo>
                <a:lnTo>
                  <a:pt x="6" y="0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0" y="4645080"/>
            <a:ext cx="1800" cy="936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12"/>
                </a:moveTo>
                <a:lnTo>
                  <a:pt x="2" y="0"/>
                </a:lnTo>
                <a:lnTo>
                  <a:pt x="2" y="1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781440" y="2909880"/>
            <a:ext cx="1579320" cy="1798560"/>
            <a:chOff x="3781440" y="2909880"/>
            <a:chExt cx="1579320" cy="1798560"/>
          </a:xfrm>
        </p:grpSpPr>
        <p:sp>
          <p:nvSpPr>
            <p:cNvPr id="622" name=""/>
            <p:cNvSpPr/>
            <p:nvPr/>
          </p:nvSpPr>
          <p:spPr>
            <a:xfrm>
              <a:off x="3781440" y="2909880"/>
              <a:ext cx="157932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33720" y="3062160"/>
              <a:ext cx="1309680" cy="1598760"/>
              <a:chOff x="3933720" y="3062160"/>
              <a:chExt cx="1309680" cy="1598760"/>
            </a:xfrm>
          </p:grpSpPr>
          <p:sp>
            <p:nvSpPr>
              <p:cNvPr id="624" name=""/>
              <p:cNvSpPr/>
              <p:nvPr/>
            </p:nvSpPr>
            <p:spPr>
              <a:xfrm>
                <a:off x="3933720" y="3062160"/>
                <a:ext cx="1309680" cy="1598760"/>
              </a:xfrm>
              <a:custGeom>
                <a:avLst/>
                <a:gdLst/>
                <a:ahLst/>
                <a:rect l="l" t="t" r="r" b="b"/>
                <a:pathLst>
                  <a:path w="4949" h="6044">
                    <a:moveTo>
                      <a:pt x="2286" y="1611"/>
                    </a:moveTo>
                    <a:lnTo>
                      <a:pt x="2277" y="2036"/>
                    </a:lnTo>
                    <a:lnTo>
                      <a:pt x="2270" y="2448"/>
                    </a:lnTo>
                    <a:lnTo>
                      <a:pt x="2264" y="2851"/>
                    </a:lnTo>
                    <a:lnTo>
                      <a:pt x="2255" y="3248"/>
                    </a:lnTo>
                    <a:lnTo>
                      <a:pt x="2246" y="3645"/>
                    </a:lnTo>
                    <a:lnTo>
                      <a:pt x="2234" y="4044"/>
                    </a:lnTo>
                    <a:lnTo>
                      <a:pt x="2215" y="4451"/>
                    </a:lnTo>
                    <a:lnTo>
                      <a:pt x="2191" y="4869"/>
                    </a:lnTo>
                    <a:lnTo>
                      <a:pt x="2181" y="4897"/>
                    </a:lnTo>
                    <a:lnTo>
                      <a:pt x="2170" y="4923"/>
                    </a:lnTo>
                    <a:lnTo>
                      <a:pt x="2159" y="4947"/>
                    </a:lnTo>
                    <a:lnTo>
                      <a:pt x="2146" y="4969"/>
                    </a:lnTo>
                    <a:lnTo>
                      <a:pt x="2132" y="4988"/>
                    </a:lnTo>
                    <a:lnTo>
                      <a:pt x="2117" y="5004"/>
                    </a:lnTo>
                    <a:lnTo>
                      <a:pt x="2100" y="5019"/>
                    </a:lnTo>
                    <a:lnTo>
                      <a:pt x="2081" y="5031"/>
                    </a:lnTo>
                    <a:lnTo>
                      <a:pt x="2062" y="5040"/>
                    </a:lnTo>
                    <a:lnTo>
                      <a:pt x="2039" y="5048"/>
                    </a:lnTo>
                    <a:lnTo>
                      <a:pt x="2015" y="5053"/>
                    </a:lnTo>
                    <a:lnTo>
                      <a:pt x="1989" y="5055"/>
                    </a:lnTo>
                    <a:lnTo>
                      <a:pt x="1961" y="5055"/>
                    </a:lnTo>
                    <a:lnTo>
                      <a:pt x="1931" y="5053"/>
                    </a:lnTo>
                    <a:lnTo>
                      <a:pt x="1898" y="5049"/>
                    </a:lnTo>
                    <a:lnTo>
                      <a:pt x="1863" y="5042"/>
                    </a:lnTo>
                    <a:lnTo>
                      <a:pt x="1813" y="5026"/>
                    </a:lnTo>
                    <a:lnTo>
                      <a:pt x="1764" y="5009"/>
                    </a:lnTo>
                    <a:lnTo>
                      <a:pt x="1716" y="4991"/>
                    </a:lnTo>
                    <a:lnTo>
                      <a:pt x="1669" y="4972"/>
                    </a:lnTo>
                    <a:lnTo>
                      <a:pt x="1623" y="4951"/>
                    </a:lnTo>
                    <a:lnTo>
                      <a:pt x="1577" y="4931"/>
                    </a:lnTo>
                    <a:lnTo>
                      <a:pt x="1533" y="4908"/>
                    </a:lnTo>
                    <a:lnTo>
                      <a:pt x="1489" y="4885"/>
                    </a:lnTo>
                    <a:lnTo>
                      <a:pt x="1447" y="4861"/>
                    </a:lnTo>
                    <a:lnTo>
                      <a:pt x="1405" y="4836"/>
                    </a:lnTo>
                    <a:lnTo>
                      <a:pt x="1365" y="4810"/>
                    </a:lnTo>
                    <a:lnTo>
                      <a:pt x="1325" y="4785"/>
                    </a:lnTo>
                    <a:lnTo>
                      <a:pt x="1286" y="4758"/>
                    </a:lnTo>
                    <a:lnTo>
                      <a:pt x="1249" y="4730"/>
                    </a:lnTo>
                    <a:lnTo>
                      <a:pt x="1212" y="4702"/>
                    </a:lnTo>
                    <a:lnTo>
                      <a:pt x="1178" y="4673"/>
                    </a:lnTo>
                    <a:lnTo>
                      <a:pt x="1144" y="4643"/>
                    </a:lnTo>
                    <a:lnTo>
                      <a:pt x="1111" y="4613"/>
                    </a:lnTo>
                    <a:lnTo>
                      <a:pt x="1080" y="4582"/>
                    </a:lnTo>
                    <a:lnTo>
                      <a:pt x="1050" y="4551"/>
                    </a:lnTo>
                    <a:lnTo>
                      <a:pt x="1021" y="4520"/>
                    </a:lnTo>
                    <a:lnTo>
                      <a:pt x="993" y="4489"/>
                    </a:lnTo>
                    <a:lnTo>
                      <a:pt x="966" y="4457"/>
                    </a:lnTo>
                    <a:lnTo>
                      <a:pt x="941" y="4425"/>
                    </a:lnTo>
                    <a:lnTo>
                      <a:pt x="917" y="4393"/>
                    </a:lnTo>
                    <a:lnTo>
                      <a:pt x="894" y="4361"/>
                    </a:lnTo>
                    <a:lnTo>
                      <a:pt x="873" y="4329"/>
                    </a:lnTo>
                    <a:lnTo>
                      <a:pt x="854" y="4296"/>
                    </a:lnTo>
                    <a:lnTo>
                      <a:pt x="835" y="4263"/>
                    </a:lnTo>
                    <a:lnTo>
                      <a:pt x="818" y="4231"/>
                    </a:lnTo>
                    <a:lnTo>
                      <a:pt x="803" y="4199"/>
                    </a:lnTo>
                    <a:lnTo>
                      <a:pt x="789" y="4167"/>
                    </a:lnTo>
                    <a:lnTo>
                      <a:pt x="847" y="4154"/>
                    </a:lnTo>
                    <a:lnTo>
                      <a:pt x="903" y="4141"/>
                    </a:lnTo>
                    <a:lnTo>
                      <a:pt x="956" y="4128"/>
                    </a:lnTo>
                    <a:lnTo>
                      <a:pt x="1008" y="4113"/>
                    </a:lnTo>
                    <a:lnTo>
                      <a:pt x="1057" y="4097"/>
                    </a:lnTo>
                    <a:lnTo>
                      <a:pt x="1105" y="4081"/>
                    </a:lnTo>
                    <a:lnTo>
                      <a:pt x="1149" y="4063"/>
                    </a:lnTo>
                    <a:lnTo>
                      <a:pt x="1191" y="4045"/>
                    </a:lnTo>
                    <a:lnTo>
                      <a:pt x="1231" y="4024"/>
                    </a:lnTo>
                    <a:lnTo>
                      <a:pt x="1268" y="4001"/>
                    </a:lnTo>
                    <a:lnTo>
                      <a:pt x="1304" y="3977"/>
                    </a:lnTo>
                    <a:lnTo>
                      <a:pt x="1336" y="3951"/>
                    </a:lnTo>
                    <a:lnTo>
                      <a:pt x="1366" y="3923"/>
                    </a:lnTo>
                    <a:lnTo>
                      <a:pt x="1393" y="3892"/>
                    </a:lnTo>
                    <a:lnTo>
                      <a:pt x="1418" y="3859"/>
                    </a:lnTo>
                    <a:lnTo>
                      <a:pt x="1439" y="3824"/>
                    </a:lnTo>
                    <a:lnTo>
                      <a:pt x="1388" y="3820"/>
                    </a:lnTo>
                    <a:lnTo>
                      <a:pt x="1336" y="3814"/>
                    </a:lnTo>
                    <a:lnTo>
                      <a:pt x="1284" y="3807"/>
                    </a:lnTo>
                    <a:lnTo>
                      <a:pt x="1233" y="3800"/>
                    </a:lnTo>
                    <a:lnTo>
                      <a:pt x="1182" y="3792"/>
                    </a:lnTo>
                    <a:lnTo>
                      <a:pt x="1132" y="3783"/>
                    </a:lnTo>
                    <a:lnTo>
                      <a:pt x="1082" y="3773"/>
                    </a:lnTo>
                    <a:lnTo>
                      <a:pt x="1032" y="3763"/>
                    </a:lnTo>
                    <a:lnTo>
                      <a:pt x="982" y="3751"/>
                    </a:lnTo>
                    <a:lnTo>
                      <a:pt x="932" y="3740"/>
                    </a:lnTo>
                    <a:lnTo>
                      <a:pt x="885" y="3726"/>
                    </a:lnTo>
                    <a:lnTo>
                      <a:pt x="836" y="3713"/>
                    </a:lnTo>
                    <a:lnTo>
                      <a:pt x="788" y="3700"/>
                    </a:lnTo>
                    <a:lnTo>
                      <a:pt x="742" y="3684"/>
                    </a:lnTo>
                    <a:lnTo>
                      <a:pt x="695" y="3668"/>
                    </a:lnTo>
                    <a:lnTo>
                      <a:pt x="648" y="3653"/>
                    </a:lnTo>
                    <a:lnTo>
                      <a:pt x="603" y="3636"/>
                    </a:lnTo>
                    <a:lnTo>
                      <a:pt x="558" y="3619"/>
                    </a:lnTo>
                    <a:lnTo>
                      <a:pt x="514" y="3601"/>
                    </a:lnTo>
                    <a:lnTo>
                      <a:pt x="470" y="3582"/>
                    </a:lnTo>
                    <a:lnTo>
                      <a:pt x="427" y="3564"/>
                    </a:lnTo>
                    <a:lnTo>
                      <a:pt x="384" y="3544"/>
                    </a:lnTo>
                    <a:lnTo>
                      <a:pt x="343" y="3524"/>
                    </a:lnTo>
                    <a:lnTo>
                      <a:pt x="301" y="3505"/>
                    </a:lnTo>
                    <a:lnTo>
                      <a:pt x="261" y="3484"/>
                    </a:lnTo>
                    <a:lnTo>
                      <a:pt x="221" y="3462"/>
                    </a:lnTo>
                    <a:lnTo>
                      <a:pt x="182" y="3442"/>
                    </a:lnTo>
                    <a:lnTo>
                      <a:pt x="145" y="3419"/>
                    </a:lnTo>
                    <a:lnTo>
                      <a:pt x="107" y="3397"/>
                    </a:lnTo>
                    <a:lnTo>
                      <a:pt x="71" y="3374"/>
                    </a:lnTo>
                    <a:lnTo>
                      <a:pt x="35" y="3351"/>
                    </a:lnTo>
                    <a:lnTo>
                      <a:pt x="0" y="3329"/>
                    </a:lnTo>
                    <a:lnTo>
                      <a:pt x="8" y="3531"/>
                    </a:lnTo>
                    <a:lnTo>
                      <a:pt x="14" y="3729"/>
                    </a:lnTo>
                    <a:lnTo>
                      <a:pt x="20" y="3922"/>
                    </a:lnTo>
                    <a:lnTo>
                      <a:pt x="27" y="4113"/>
                    </a:lnTo>
                    <a:lnTo>
                      <a:pt x="37" y="4302"/>
                    </a:lnTo>
                    <a:lnTo>
                      <a:pt x="49" y="4488"/>
                    </a:lnTo>
                    <a:lnTo>
                      <a:pt x="66" y="4674"/>
                    </a:lnTo>
                    <a:lnTo>
                      <a:pt x="87" y="4859"/>
                    </a:lnTo>
                    <a:lnTo>
                      <a:pt x="105" y="4844"/>
                    </a:lnTo>
                    <a:lnTo>
                      <a:pt x="124" y="4827"/>
                    </a:lnTo>
                    <a:lnTo>
                      <a:pt x="142" y="4809"/>
                    </a:lnTo>
                    <a:lnTo>
                      <a:pt x="161" y="4790"/>
                    </a:lnTo>
                    <a:lnTo>
                      <a:pt x="180" y="4770"/>
                    </a:lnTo>
                    <a:lnTo>
                      <a:pt x="198" y="4748"/>
                    </a:lnTo>
                    <a:lnTo>
                      <a:pt x="217" y="4725"/>
                    </a:lnTo>
                    <a:lnTo>
                      <a:pt x="235" y="4703"/>
                    </a:lnTo>
                    <a:lnTo>
                      <a:pt x="253" y="4678"/>
                    </a:lnTo>
                    <a:lnTo>
                      <a:pt x="271" y="4653"/>
                    </a:lnTo>
                    <a:lnTo>
                      <a:pt x="289" y="4626"/>
                    </a:lnTo>
                    <a:lnTo>
                      <a:pt x="305" y="4599"/>
                    </a:lnTo>
                    <a:lnTo>
                      <a:pt x="322" y="4570"/>
                    </a:lnTo>
                    <a:lnTo>
                      <a:pt x="337" y="4541"/>
                    </a:lnTo>
                    <a:lnTo>
                      <a:pt x="352" y="4511"/>
                    </a:lnTo>
                    <a:lnTo>
                      <a:pt x="366" y="4480"/>
                    </a:lnTo>
                    <a:lnTo>
                      <a:pt x="440" y="4652"/>
                    </a:lnTo>
                    <a:lnTo>
                      <a:pt x="526" y="4815"/>
                    </a:lnTo>
                    <a:lnTo>
                      <a:pt x="624" y="4969"/>
                    </a:lnTo>
                    <a:lnTo>
                      <a:pt x="730" y="5114"/>
                    </a:lnTo>
                    <a:lnTo>
                      <a:pt x="847" y="5249"/>
                    </a:lnTo>
                    <a:lnTo>
                      <a:pt x="974" y="5374"/>
                    </a:lnTo>
                    <a:lnTo>
                      <a:pt x="1108" y="5489"/>
                    </a:lnTo>
                    <a:lnTo>
                      <a:pt x="1248" y="5595"/>
                    </a:lnTo>
                    <a:lnTo>
                      <a:pt x="1395" y="5689"/>
                    </a:lnTo>
                    <a:lnTo>
                      <a:pt x="1547" y="5773"/>
                    </a:lnTo>
                    <a:lnTo>
                      <a:pt x="1704" y="5847"/>
                    </a:lnTo>
                    <a:lnTo>
                      <a:pt x="1864" y="5909"/>
                    </a:lnTo>
                    <a:lnTo>
                      <a:pt x="2026" y="5959"/>
                    </a:lnTo>
                    <a:lnTo>
                      <a:pt x="2191" y="5998"/>
                    </a:lnTo>
                    <a:lnTo>
                      <a:pt x="2357" y="6025"/>
                    </a:lnTo>
                    <a:lnTo>
                      <a:pt x="2523" y="6040"/>
                    </a:lnTo>
                    <a:lnTo>
                      <a:pt x="2688" y="6044"/>
                    </a:lnTo>
                    <a:lnTo>
                      <a:pt x="2852" y="6033"/>
                    </a:lnTo>
                    <a:lnTo>
                      <a:pt x="3013" y="6011"/>
                    </a:lnTo>
                    <a:lnTo>
                      <a:pt x="3171" y="5976"/>
                    </a:lnTo>
                    <a:lnTo>
                      <a:pt x="3324" y="5928"/>
                    </a:lnTo>
                    <a:lnTo>
                      <a:pt x="3474" y="5865"/>
                    </a:lnTo>
                    <a:lnTo>
                      <a:pt x="3617" y="5791"/>
                    </a:lnTo>
                    <a:lnTo>
                      <a:pt x="3754" y="5701"/>
                    </a:lnTo>
                    <a:lnTo>
                      <a:pt x="3882" y="5597"/>
                    </a:lnTo>
                    <a:lnTo>
                      <a:pt x="4003" y="5480"/>
                    </a:lnTo>
                    <a:lnTo>
                      <a:pt x="4113" y="5347"/>
                    </a:lnTo>
                    <a:lnTo>
                      <a:pt x="4215" y="5200"/>
                    </a:lnTo>
                    <a:lnTo>
                      <a:pt x="4305" y="5038"/>
                    </a:lnTo>
                    <a:lnTo>
                      <a:pt x="4383" y="4861"/>
                    </a:lnTo>
                    <a:lnTo>
                      <a:pt x="4449" y="4668"/>
                    </a:lnTo>
                    <a:lnTo>
                      <a:pt x="4501" y="4460"/>
                    </a:lnTo>
                    <a:lnTo>
                      <a:pt x="4519" y="4487"/>
                    </a:lnTo>
                    <a:lnTo>
                      <a:pt x="4537" y="4514"/>
                    </a:lnTo>
                    <a:lnTo>
                      <a:pt x="4558" y="4542"/>
                    </a:lnTo>
                    <a:lnTo>
                      <a:pt x="4580" y="4570"/>
                    </a:lnTo>
                    <a:lnTo>
                      <a:pt x="4604" y="4599"/>
                    </a:lnTo>
                    <a:lnTo>
                      <a:pt x="4629" y="4628"/>
                    </a:lnTo>
                    <a:lnTo>
                      <a:pt x="4655" y="4657"/>
                    </a:lnTo>
                    <a:lnTo>
                      <a:pt x="4682" y="4686"/>
                    </a:lnTo>
                    <a:lnTo>
                      <a:pt x="4711" y="4714"/>
                    </a:lnTo>
                    <a:lnTo>
                      <a:pt x="4741" y="4742"/>
                    </a:lnTo>
                    <a:lnTo>
                      <a:pt x="4773" y="4770"/>
                    </a:lnTo>
                    <a:lnTo>
                      <a:pt x="4805" y="4796"/>
                    </a:lnTo>
                    <a:lnTo>
                      <a:pt x="4839" y="4822"/>
                    </a:lnTo>
                    <a:lnTo>
                      <a:pt x="4874" y="4846"/>
                    </a:lnTo>
                    <a:lnTo>
                      <a:pt x="4911" y="4868"/>
                    </a:lnTo>
                    <a:lnTo>
                      <a:pt x="4949" y="4890"/>
                    </a:lnTo>
                    <a:lnTo>
                      <a:pt x="4928" y="4661"/>
                    </a:lnTo>
                    <a:lnTo>
                      <a:pt x="4909" y="4438"/>
                    </a:lnTo>
                    <a:lnTo>
                      <a:pt x="4889" y="4220"/>
                    </a:lnTo>
                    <a:lnTo>
                      <a:pt x="4869" y="4004"/>
                    </a:lnTo>
                    <a:lnTo>
                      <a:pt x="4852" y="3791"/>
                    </a:lnTo>
                    <a:lnTo>
                      <a:pt x="4836" y="3578"/>
                    </a:lnTo>
                    <a:lnTo>
                      <a:pt x="4822" y="3365"/>
                    </a:lnTo>
                    <a:lnTo>
                      <a:pt x="4810" y="3151"/>
                    </a:lnTo>
                    <a:lnTo>
                      <a:pt x="4779" y="3186"/>
                    </a:lnTo>
                    <a:lnTo>
                      <a:pt x="4746" y="3220"/>
                    </a:lnTo>
                    <a:lnTo>
                      <a:pt x="4714" y="3254"/>
                    </a:lnTo>
                    <a:lnTo>
                      <a:pt x="4681" y="3287"/>
                    </a:lnTo>
                    <a:lnTo>
                      <a:pt x="4646" y="3321"/>
                    </a:lnTo>
                    <a:lnTo>
                      <a:pt x="4611" y="3355"/>
                    </a:lnTo>
                    <a:lnTo>
                      <a:pt x="4577" y="3389"/>
                    </a:lnTo>
                    <a:lnTo>
                      <a:pt x="4541" y="3422"/>
                    </a:lnTo>
                    <a:lnTo>
                      <a:pt x="4504" y="3455"/>
                    </a:lnTo>
                    <a:lnTo>
                      <a:pt x="4468" y="3487"/>
                    </a:lnTo>
                    <a:lnTo>
                      <a:pt x="4431" y="3519"/>
                    </a:lnTo>
                    <a:lnTo>
                      <a:pt x="4393" y="3551"/>
                    </a:lnTo>
                    <a:lnTo>
                      <a:pt x="4355" y="3582"/>
                    </a:lnTo>
                    <a:lnTo>
                      <a:pt x="4317" y="3612"/>
                    </a:lnTo>
                    <a:lnTo>
                      <a:pt x="4278" y="3643"/>
                    </a:lnTo>
                    <a:lnTo>
                      <a:pt x="4239" y="3673"/>
                    </a:lnTo>
                    <a:lnTo>
                      <a:pt x="4198" y="3702"/>
                    </a:lnTo>
                    <a:lnTo>
                      <a:pt x="4159" y="3730"/>
                    </a:lnTo>
                    <a:lnTo>
                      <a:pt x="4119" y="3758"/>
                    </a:lnTo>
                    <a:lnTo>
                      <a:pt x="4077" y="3783"/>
                    </a:lnTo>
                    <a:lnTo>
                      <a:pt x="4037" y="3809"/>
                    </a:lnTo>
                    <a:lnTo>
                      <a:pt x="3995" y="3835"/>
                    </a:lnTo>
                    <a:lnTo>
                      <a:pt x="3953" y="3859"/>
                    </a:lnTo>
                    <a:lnTo>
                      <a:pt x="3911" y="3882"/>
                    </a:lnTo>
                    <a:lnTo>
                      <a:pt x="3869" y="3905"/>
                    </a:lnTo>
                    <a:lnTo>
                      <a:pt x="3826" y="3925"/>
                    </a:lnTo>
                    <a:lnTo>
                      <a:pt x="3784" y="3946"/>
                    </a:lnTo>
                    <a:lnTo>
                      <a:pt x="3740" y="3965"/>
                    </a:lnTo>
                    <a:lnTo>
                      <a:pt x="3697" y="3982"/>
                    </a:lnTo>
                    <a:lnTo>
                      <a:pt x="3653" y="3999"/>
                    </a:lnTo>
                    <a:lnTo>
                      <a:pt x="3610" y="4015"/>
                    </a:lnTo>
                    <a:lnTo>
                      <a:pt x="3566" y="4029"/>
                    </a:lnTo>
                    <a:lnTo>
                      <a:pt x="3597" y="4039"/>
                    </a:lnTo>
                    <a:lnTo>
                      <a:pt x="3631" y="4048"/>
                    </a:lnTo>
                    <a:lnTo>
                      <a:pt x="3669" y="4055"/>
                    </a:lnTo>
                    <a:lnTo>
                      <a:pt x="3707" y="4061"/>
                    </a:lnTo>
                    <a:lnTo>
                      <a:pt x="3746" y="4065"/>
                    </a:lnTo>
                    <a:lnTo>
                      <a:pt x="3788" y="4069"/>
                    </a:lnTo>
                    <a:lnTo>
                      <a:pt x="3829" y="4073"/>
                    </a:lnTo>
                    <a:lnTo>
                      <a:pt x="3871" y="4076"/>
                    </a:lnTo>
                    <a:lnTo>
                      <a:pt x="3912" y="4079"/>
                    </a:lnTo>
                    <a:lnTo>
                      <a:pt x="3953" y="4083"/>
                    </a:lnTo>
                    <a:lnTo>
                      <a:pt x="3992" y="4087"/>
                    </a:lnTo>
                    <a:lnTo>
                      <a:pt x="4029" y="4092"/>
                    </a:lnTo>
                    <a:lnTo>
                      <a:pt x="4066" y="4099"/>
                    </a:lnTo>
                    <a:lnTo>
                      <a:pt x="4099" y="4106"/>
                    </a:lnTo>
                    <a:lnTo>
                      <a:pt x="4129" y="4115"/>
                    </a:lnTo>
                    <a:lnTo>
                      <a:pt x="4156" y="4126"/>
                    </a:lnTo>
                    <a:lnTo>
                      <a:pt x="4138" y="4168"/>
                    </a:lnTo>
                    <a:lnTo>
                      <a:pt x="4120" y="4208"/>
                    </a:lnTo>
                    <a:lnTo>
                      <a:pt x="4101" y="4248"/>
                    </a:lnTo>
                    <a:lnTo>
                      <a:pt x="4080" y="4287"/>
                    </a:lnTo>
                    <a:lnTo>
                      <a:pt x="4060" y="4325"/>
                    </a:lnTo>
                    <a:lnTo>
                      <a:pt x="4038" y="4364"/>
                    </a:lnTo>
                    <a:lnTo>
                      <a:pt x="4015" y="4401"/>
                    </a:lnTo>
                    <a:lnTo>
                      <a:pt x="3992" y="4437"/>
                    </a:lnTo>
                    <a:lnTo>
                      <a:pt x="3968" y="4474"/>
                    </a:lnTo>
                    <a:lnTo>
                      <a:pt x="3943" y="4509"/>
                    </a:lnTo>
                    <a:lnTo>
                      <a:pt x="3917" y="4543"/>
                    </a:lnTo>
                    <a:lnTo>
                      <a:pt x="3892" y="4576"/>
                    </a:lnTo>
                    <a:lnTo>
                      <a:pt x="3865" y="4609"/>
                    </a:lnTo>
                    <a:lnTo>
                      <a:pt x="3837" y="4642"/>
                    </a:lnTo>
                    <a:lnTo>
                      <a:pt x="3809" y="4673"/>
                    </a:lnTo>
                    <a:lnTo>
                      <a:pt x="3780" y="4703"/>
                    </a:lnTo>
                    <a:lnTo>
                      <a:pt x="3750" y="4733"/>
                    </a:lnTo>
                    <a:lnTo>
                      <a:pt x="3719" y="4761"/>
                    </a:lnTo>
                    <a:lnTo>
                      <a:pt x="3688" y="4789"/>
                    </a:lnTo>
                    <a:lnTo>
                      <a:pt x="3656" y="4815"/>
                    </a:lnTo>
                    <a:lnTo>
                      <a:pt x="3624" y="4840"/>
                    </a:lnTo>
                    <a:lnTo>
                      <a:pt x="3591" y="4865"/>
                    </a:lnTo>
                    <a:lnTo>
                      <a:pt x="3558" y="4889"/>
                    </a:lnTo>
                    <a:lnTo>
                      <a:pt x="3525" y="4912"/>
                    </a:lnTo>
                    <a:lnTo>
                      <a:pt x="3489" y="4933"/>
                    </a:lnTo>
                    <a:lnTo>
                      <a:pt x="3455" y="4953"/>
                    </a:lnTo>
                    <a:lnTo>
                      <a:pt x="3419" y="4973"/>
                    </a:lnTo>
                    <a:lnTo>
                      <a:pt x="3384" y="4992"/>
                    </a:lnTo>
                    <a:lnTo>
                      <a:pt x="3346" y="5008"/>
                    </a:lnTo>
                    <a:lnTo>
                      <a:pt x="3310" y="5025"/>
                    </a:lnTo>
                    <a:lnTo>
                      <a:pt x="3273" y="5039"/>
                    </a:lnTo>
                    <a:lnTo>
                      <a:pt x="3234" y="5053"/>
                    </a:lnTo>
                    <a:lnTo>
                      <a:pt x="3194" y="5063"/>
                    </a:lnTo>
                    <a:lnTo>
                      <a:pt x="3155" y="5072"/>
                    </a:lnTo>
                    <a:lnTo>
                      <a:pt x="3120" y="5077"/>
                    </a:lnTo>
                    <a:lnTo>
                      <a:pt x="3088" y="5080"/>
                    </a:lnTo>
                    <a:lnTo>
                      <a:pt x="3058" y="5081"/>
                    </a:lnTo>
                    <a:lnTo>
                      <a:pt x="3030" y="5078"/>
                    </a:lnTo>
                    <a:lnTo>
                      <a:pt x="3005" y="5074"/>
                    </a:lnTo>
                    <a:lnTo>
                      <a:pt x="2982" y="5065"/>
                    </a:lnTo>
                    <a:lnTo>
                      <a:pt x="2960" y="5054"/>
                    </a:lnTo>
                    <a:lnTo>
                      <a:pt x="2942" y="5040"/>
                    </a:lnTo>
                    <a:lnTo>
                      <a:pt x="2925" y="5023"/>
                    </a:lnTo>
                    <a:lnTo>
                      <a:pt x="2910" y="5002"/>
                    </a:lnTo>
                    <a:lnTo>
                      <a:pt x="2897" y="4978"/>
                    </a:lnTo>
                    <a:lnTo>
                      <a:pt x="2886" y="4950"/>
                    </a:lnTo>
                    <a:lnTo>
                      <a:pt x="2875" y="4919"/>
                    </a:lnTo>
                    <a:lnTo>
                      <a:pt x="2867" y="4884"/>
                    </a:lnTo>
                    <a:lnTo>
                      <a:pt x="2843" y="4692"/>
                    </a:lnTo>
                    <a:lnTo>
                      <a:pt x="2819" y="4497"/>
                    </a:lnTo>
                    <a:lnTo>
                      <a:pt x="2797" y="4302"/>
                    </a:lnTo>
                    <a:lnTo>
                      <a:pt x="2776" y="4104"/>
                    </a:lnTo>
                    <a:lnTo>
                      <a:pt x="2756" y="3905"/>
                    </a:lnTo>
                    <a:lnTo>
                      <a:pt x="2738" y="3704"/>
                    </a:lnTo>
                    <a:lnTo>
                      <a:pt x="2721" y="3502"/>
                    </a:lnTo>
                    <a:lnTo>
                      <a:pt x="2706" y="3297"/>
                    </a:lnTo>
                    <a:lnTo>
                      <a:pt x="2694" y="3092"/>
                    </a:lnTo>
                    <a:lnTo>
                      <a:pt x="2684" y="2887"/>
                    </a:lnTo>
                    <a:lnTo>
                      <a:pt x="2675" y="2680"/>
                    </a:lnTo>
                    <a:lnTo>
                      <a:pt x="2671" y="2473"/>
                    </a:lnTo>
                    <a:lnTo>
                      <a:pt x="2669" y="2264"/>
                    </a:lnTo>
                    <a:lnTo>
                      <a:pt x="2669" y="2056"/>
                    </a:lnTo>
                    <a:lnTo>
                      <a:pt x="2674" y="1847"/>
                    </a:lnTo>
                    <a:lnTo>
                      <a:pt x="2682" y="1637"/>
                    </a:lnTo>
                    <a:lnTo>
                      <a:pt x="2680" y="1615"/>
                    </a:lnTo>
                    <a:lnTo>
                      <a:pt x="2678" y="1593"/>
                    </a:lnTo>
                    <a:lnTo>
                      <a:pt x="2680" y="1573"/>
                    </a:lnTo>
                    <a:lnTo>
                      <a:pt x="2681" y="1554"/>
                    </a:lnTo>
                    <a:lnTo>
                      <a:pt x="2685" y="1537"/>
                    </a:lnTo>
                    <a:lnTo>
                      <a:pt x="2690" y="1521"/>
                    </a:lnTo>
                    <a:lnTo>
                      <a:pt x="2698" y="1506"/>
                    </a:lnTo>
                    <a:lnTo>
                      <a:pt x="2709" y="1491"/>
                    </a:lnTo>
                    <a:lnTo>
                      <a:pt x="2721" y="1478"/>
                    </a:lnTo>
                    <a:lnTo>
                      <a:pt x="2738" y="1464"/>
                    </a:lnTo>
                    <a:lnTo>
                      <a:pt x="2757" y="1451"/>
                    </a:lnTo>
                    <a:lnTo>
                      <a:pt x="2780" y="1438"/>
                    </a:lnTo>
                    <a:lnTo>
                      <a:pt x="2807" y="1426"/>
                    </a:lnTo>
                    <a:lnTo>
                      <a:pt x="2838" y="1414"/>
                    </a:lnTo>
                    <a:lnTo>
                      <a:pt x="2873" y="1401"/>
                    </a:lnTo>
                    <a:lnTo>
                      <a:pt x="2913" y="1388"/>
                    </a:lnTo>
                    <a:lnTo>
                      <a:pt x="2956" y="1371"/>
                    </a:lnTo>
                    <a:lnTo>
                      <a:pt x="2999" y="1350"/>
                    </a:lnTo>
                    <a:lnTo>
                      <a:pt x="3040" y="1325"/>
                    </a:lnTo>
                    <a:lnTo>
                      <a:pt x="3081" y="1297"/>
                    </a:lnTo>
                    <a:lnTo>
                      <a:pt x="3119" y="1265"/>
                    </a:lnTo>
                    <a:lnTo>
                      <a:pt x="3155" y="1231"/>
                    </a:lnTo>
                    <a:lnTo>
                      <a:pt x="3190" y="1193"/>
                    </a:lnTo>
                    <a:lnTo>
                      <a:pt x="3222" y="1152"/>
                    </a:lnTo>
                    <a:lnTo>
                      <a:pt x="3250" y="1110"/>
                    </a:lnTo>
                    <a:lnTo>
                      <a:pt x="3275" y="1064"/>
                    </a:lnTo>
                    <a:lnTo>
                      <a:pt x="3296" y="1017"/>
                    </a:lnTo>
                    <a:lnTo>
                      <a:pt x="3314" y="968"/>
                    </a:lnTo>
                    <a:lnTo>
                      <a:pt x="3328" y="917"/>
                    </a:lnTo>
                    <a:lnTo>
                      <a:pt x="3336" y="865"/>
                    </a:lnTo>
                    <a:lnTo>
                      <a:pt x="3339" y="812"/>
                    </a:lnTo>
                    <a:lnTo>
                      <a:pt x="3337" y="759"/>
                    </a:lnTo>
                    <a:lnTo>
                      <a:pt x="3321" y="665"/>
                    </a:lnTo>
                    <a:lnTo>
                      <a:pt x="3301" y="578"/>
                    </a:lnTo>
                    <a:lnTo>
                      <a:pt x="3275" y="498"/>
                    </a:lnTo>
                    <a:lnTo>
                      <a:pt x="3243" y="425"/>
                    </a:lnTo>
                    <a:lnTo>
                      <a:pt x="3206" y="358"/>
                    </a:lnTo>
                    <a:lnTo>
                      <a:pt x="3166" y="297"/>
                    </a:lnTo>
                    <a:lnTo>
                      <a:pt x="3121" y="243"/>
                    </a:lnTo>
                    <a:lnTo>
                      <a:pt x="3072" y="194"/>
                    </a:lnTo>
                    <a:lnTo>
                      <a:pt x="3021" y="150"/>
                    </a:lnTo>
                    <a:lnTo>
                      <a:pt x="2967" y="113"/>
                    </a:lnTo>
                    <a:lnTo>
                      <a:pt x="2909" y="82"/>
                    </a:lnTo>
                    <a:lnTo>
                      <a:pt x="2850" y="56"/>
                    </a:lnTo>
                    <a:lnTo>
                      <a:pt x="2789" y="34"/>
                    </a:lnTo>
                    <a:lnTo>
                      <a:pt x="2726" y="19"/>
                    </a:lnTo>
                    <a:lnTo>
                      <a:pt x="2663" y="7"/>
                    </a:lnTo>
                    <a:lnTo>
                      <a:pt x="2600" y="1"/>
                    </a:lnTo>
                    <a:lnTo>
                      <a:pt x="2534" y="0"/>
                    </a:lnTo>
                    <a:lnTo>
                      <a:pt x="2471" y="3"/>
                    </a:lnTo>
                    <a:lnTo>
                      <a:pt x="2407" y="10"/>
                    </a:lnTo>
                    <a:lnTo>
                      <a:pt x="2344" y="23"/>
                    </a:lnTo>
                    <a:lnTo>
                      <a:pt x="2282" y="38"/>
                    </a:lnTo>
                    <a:lnTo>
                      <a:pt x="2222" y="58"/>
                    </a:lnTo>
                    <a:lnTo>
                      <a:pt x="2164" y="82"/>
                    </a:lnTo>
                    <a:lnTo>
                      <a:pt x="2108" y="109"/>
                    </a:lnTo>
                    <a:lnTo>
                      <a:pt x="2055" y="140"/>
                    </a:lnTo>
                    <a:lnTo>
                      <a:pt x="2005" y="174"/>
                    </a:lnTo>
                    <a:lnTo>
                      <a:pt x="1958" y="211"/>
                    </a:lnTo>
                    <a:lnTo>
                      <a:pt x="1915" y="253"/>
                    </a:lnTo>
                    <a:lnTo>
                      <a:pt x="1877" y="296"/>
                    </a:lnTo>
                    <a:lnTo>
                      <a:pt x="1843" y="343"/>
                    </a:lnTo>
                    <a:lnTo>
                      <a:pt x="1814" y="392"/>
                    </a:lnTo>
                    <a:lnTo>
                      <a:pt x="1790" y="444"/>
                    </a:lnTo>
                    <a:lnTo>
                      <a:pt x="1771" y="505"/>
                    </a:lnTo>
                    <a:lnTo>
                      <a:pt x="1757" y="567"/>
                    </a:lnTo>
                    <a:lnTo>
                      <a:pt x="1746" y="629"/>
                    </a:lnTo>
                    <a:lnTo>
                      <a:pt x="1740" y="692"/>
                    </a:lnTo>
                    <a:lnTo>
                      <a:pt x="1739" y="757"/>
                    </a:lnTo>
                    <a:lnTo>
                      <a:pt x="1742" y="819"/>
                    </a:lnTo>
                    <a:lnTo>
                      <a:pt x="1749" y="882"/>
                    </a:lnTo>
                    <a:lnTo>
                      <a:pt x="1762" y="943"/>
                    </a:lnTo>
                    <a:lnTo>
                      <a:pt x="1780" y="1003"/>
                    </a:lnTo>
                    <a:lnTo>
                      <a:pt x="1802" y="1061"/>
                    </a:lnTo>
                    <a:lnTo>
                      <a:pt x="1830" y="1118"/>
                    </a:lnTo>
                    <a:lnTo>
                      <a:pt x="1864" y="1172"/>
                    </a:lnTo>
                    <a:lnTo>
                      <a:pt x="1903" y="1223"/>
                    </a:lnTo>
                    <a:lnTo>
                      <a:pt x="1946" y="1270"/>
                    </a:lnTo>
                    <a:lnTo>
                      <a:pt x="1997" y="1315"/>
                    </a:lnTo>
                    <a:lnTo>
                      <a:pt x="2053" y="1355"/>
                    </a:lnTo>
                    <a:lnTo>
                      <a:pt x="2079" y="1365"/>
                    </a:lnTo>
                    <a:lnTo>
                      <a:pt x="2104" y="1374"/>
                    </a:lnTo>
                    <a:lnTo>
                      <a:pt x="2128" y="1383"/>
                    </a:lnTo>
                    <a:lnTo>
                      <a:pt x="2151" y="1393"/>
                    </a:lnTo>
                    <a:lnTo>
                      <a:pt x="2171" y="1402"/>
                    </a:lnTo>
                    <a:lnTo>
                      <a:pt x="2192" y="1414"/>
                    </a:lnTo>
                    <a:lnTo>
                      <a:pt x="2210" y="1425"/>
                    </a:lnTo>
                    <a:lnTo>
                      <a:pt x="2226" y="1437"/>
                    </a:lnTo>
                    <a:lnTo>
                      <a:pt x="2241" y="1452"/>
                    </a:lnTo>
                    <a:lnTo>
                      <a:pt x="2254" y="1467"/>
                    </a:lnTo>
                    <a:lnTo>
                      <a:pt x="2265" y="1486"/>
                    </a:lnTo>
                    <a:lnTo>
                      <a:pt x="2274" y="1506"/>
                    </a:lnTo>
                    <a:lnTo>
                      <a:pt x="2280" y="1527"/>
                    </a:lnTo>
                    <a:lnTo>
                      <a:pt x="2284" y="1552"/>
                    </a:lnTo>
                    <a:lnTo>
                      <a:pt x="2287" y="1580"/>
                    </a:lnTo>
                    <a:lnTo>
                      <a:pt x="2286" y="1611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485960" y="3151080"/>
                <a:ext cx="219240" cy="212760"/>
              </a:xfrm>
              <a:custGeom>
                <a:avLst/>
                <a:gdLst/>
                <a:ahLst/>
                <a:rect l="l" t="t" r="r" b="b"/>
                <a:pathLst>
                  <a:path w="827" h="804">
                    <a:moveTo>
                      <a:pt x="413" y="0"/>
                    </a:moveTo>
                    <a:lnTo>
                      <a:pt x="456" y="2"/>
                    </a:lnTo>
                    <a:lnTo>
                      <a:pt x="496" y="8"/>
                    </a:lnTo>
                    <a:lnTo>
                      <a:pt x="537" y="17"/>
                    </a:lnTo>
                    <a:lnTo>
                      <a:pt x="574" y="32"/>
                    </a:lnTo>
                    <a:lnTo>
                      <a:pt x="610" y="49"/>
                    </a:lnTo>
                    <a:lnTo>
                      <a:pt x="645" y="68"/>
                    </a:lnTo>
                    <a:lnTo>
                      <a:pt x="677" y="92"/>
                    </a:lnTo>
                    <a:lnTo>
                      <a:pt x="706" y="118"/>
                    </a:lnTo>
                    <a:lnTo>
                      <a:pt x="733" y="146"/>
                    </a:lnTo>
                    <a:lnTo>
                      <a:pt x="756" y="177"/>
                    </a:lnTo>
                    <a:lnTo>
                      <a:pt x="777" y="210"/>
                    </a:lnTo>
                    <a:lnTo>
                      <a:pt x="795" y="245"/>
                    </a:lnTo>
                    <a:lnTo>
                      <a:pt x="808" y="283"/>
                    </a:lnTo>
                    <a:lnTo>
                      <a:pt x="819" y="321"/>
                    </a:lnTo>
                    <a:lnTo>
                      <a:pt x="825" y="361"/>
                    </a:lnTo>
                    <a:lnTo>
                      <a:pt x="827" y="402"/>
                    </a:lnTo>
                    <a:lnTo>
                      <a:pt x="825" y="443"/>
                    </a:lnTo>
                    <a:lnTo>
                      <a:pt x="819" y="483"/>
                    </a:lnTo>
                    <a:lnTo>
                      <a:pt x="808" y="521"/>
                    </a:lnTo>
                    <a:lnTo>
                      <a:pt x="795" y="558"/>
                    </a:lnTo>
                    <a:lnTo>
                      <a:pt x="777" y="594"/>
                    </a:lnTo>
                    <a:lnTo>
                      <a:pt x="756" y="627"/>
                    </a:lnTo>
                    <a:lnTo>
                      <a:pt x="733" y="658"/>
                    </a:lnTo>
                    <a:lnTo>
                      <a:pt x="706" y="686"/>
                    </a:lnTo>
                    <a:lnTo>
                      <a:pt x="677" y="712"/>
                    </a:lnTo>
                    <a:lnTo>
                      <a:pt x="645" y="736"/>
                    </a:lnTo>
                    <a:lnTo>
                      <a:pt x="610" y="755"/>
                    </a:lnTo>
                    <a:lnTo>
                      <a:pt x="574" y="772"/>
                    </a:lnTo>
                    <a:lnTo>
                      <a:pt x="537" y="786"/>
                    </a:lnTo>
                    <a:lnTo>
                      <a:pt x="496" y="796"/>
                    </a:lnTo>
                    <a:lnTo>
                      <a:pt x="456" y="802"/>
                    </a:lnTo>
                    <a:lnTo>
                      <a:pt x="413" y="804"/>
                    </a:lnTo>
                    <a:lnTo>
                      <a:pt x="371" y="802"/>
                    </a:lnTo>
                    <a:lnTo>
                      <a:pt x="330" y="796"/>
                    </a:lnTo>
                    <a:lnTo>
                      <a:pt x="290" y="786"/>
                    </a:lnTo>
                    <a:lnTo>
                      <a:pt x="253" y="772"/>
                    </a:lnTo>
                    <a:lnTo>
                      <a:pt x="216" y="755"/>
                    </a:lnTo>
                    <a:lnTo>
                      <a:pt x="182" y="736"/>
                    </a:lnTo>
                    <a:lnTo>
                      <a:pt x="150" y="712"/>
                    </a:lnTo>
                    <a:lnTo>
                      <a:pt x="121" y="686"/>
                    </a:lnTo>
                    <a:lnTo>
                      <a:pt x="94" y="658"/>
                    </a:lnTo>
                    <a:lnTo>
                      <a:pt x="70" y="627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1"/>
                    </a:lnTo>
                    <a:lnTo>
                      <a:pt x="8" y="483"/>
                    </a:lnTo>
                    <a:lnTo>
                      <a:pt x="2" y="443"/>
                    </a:lnTo>
                    <a:lnTo>
                      <a:pt x="0" y="402"/>
                    </a:lnTo>
                    <a:lnTo>
                      <a:pt x="2" y="361"/>
                    </a:lnTo>
                    <a:lnTo>
                      <a:pt x="8" y="321"/>
                    </a:lnTo>
                    <a:lnTo>
                      <a:pt x="18" y="283"/>
                    </a:lnTo>
                    <a:lnTo>
                      <a:pt x="32" y="245"/>
                    </a:lnTo>
                    <a:lnTo>
                      <a:pt x="49" y="210"/>
                    </a:lnTo>
                    <a:lnTo>
                      <a:pt x="70" y="177"/>
                    </a:lnTo>
                    <a:lnTo>
                      <a:pt x="94" y="146"/>
                    </a:lnTo>
                    <a:lnTo>
                      <a:pt x="121" y="118"/>
                    </a:lnTo>
                    <a:lnTo>
                      <a:pt x="150" y="92"/>
                    </a:lnTo>
                    <a:lnTo>
                      <a:pt x="182" y="68"/>
                    </a:lnTo>
                    <a:lnTo>
                      <a:pt x="216" y="49"/>
                    </a:lnTo>
                    <a:lnTo>
                      <a:pt x="253" y="32"/>
                    </a:lnTo>
                    <a:lnTo>
                      <a:pt x="290" y="17"/>
                    </a:lnTo>
                    <a:lnTo>
                      <a:pt x="330" y="8"/>
                    </a:lnTo>
                    <a:lnTo>
                      <a:pt x="371" y="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028760" y="3570120"/>
                <a:ext cx="1090800" cy="236520"/>
              </a:xfrm>
              <a:custGeom>
                <a:avLst/>
                <a:gdLst/>
                <a:ahLst/>
                <a:rect l="l" t="t" r="r" b="b"/>
                <a:pathLst>
                  <a:path w="4120" h="894">
                    <a:moveTo>
                      <a:pt x="3579" y="270"/>
                    </a:moveTo>
                    <a:lnTo>
                      <a:pt x="3497" y="273"/>
                    </a:lnTo>
                    <a:lnTo>
                      <a:pt x="3414" y="275"/>
                    </a:lnTo>
                    <a:lnTo>
                      <a:pt x="3330" y="276"/>
                    </a:lnTo>
                    <a:lnTo>
                      <a:pt x="3245" y="277"/>
                    </a:lnTo>
                    <a:lnTo>
                      <a:pt x="3159" y="278"/>
                    </a:lnTo>
                    <a:lnTo>
                      <a:pt x="3072" y="278"/>
                    </a:lnTo>
                    <a:lnTo>
                      <a:pt x="2984" y="278"/>
                    </a:lnTo>
                    <a:lnTo>
                      <a:pt x="2895" y="277"/>
                    </a:lnTo>
                    <a:lnTo>
                      <a:pt x="2806" y="277"/>
                    </a:lnTo>
                    <a:lnTo>
                      <a:pt x="2716" y="275"/>
                    </a:lnTo>
                    <a:lnTo>
                      <a:pt x="2625" y="274"/>
                    </a:lnTo>
                    <a:lnTo>
                      <a:pt x="2534" y="272"/>
                    </a:lnTo>
                    <a:lnTo>
                      <a:pt x="2442" y="271"/>
                    </a:lnTo>
                    <a:lnTo>
                      <a:pt x="2350" y="269"/>
                    </a:lnTo>
                    <a:lnTo>
                      <a:pt x="2257" y="267"/>
                    </a:lnTo>
                    <a:lnTo>
                      <a:pt x="2165" y="264"/>
                    </a:lnTo>
                    <a:lnTo>
                      <a:pt x="2072" y="261"/>
                    </a:lnTo>
                    <a:lnTo>
                      <a:pt x="1978" y="259"/>
                    </a:lnTo>
                    <a:lnTo>
                      <a:pt x="1884" y="257"/>
                    </a:lnTo>
                    <a:lnTo>
                      <a:pt x="1791" y="255"/>
                    </a:lnTo>
                    <a:lnTo>
                      <a:pt x="1698" y="253"/>
                    </a:lnTo>
                    <a:lnTo>
                      <a:pt x="1604" y="251"/>
                    </a:lnTo>
                    <a:lnTo>
                      <a:pt x="1511" y="249"/>
                    </a:lnTo>
                    <a:lnTo>
                      <a:pt x="1418" y="248"/>
                    </a:lnTo>
                    <a:lnTo>
                      <a:pt x="1324" y="246"/>
                    </a:lnTo>
                    <a:lnTo>
                      <a:pt x="1232" y="245"/>
                    </a:lnTo>
                    <a:lnTo>
                      <a:pt x="1140" y="244"/>
                    </a:lnTo>
                    <a:lnTo>
                      <a:pt x="1047" y="244"/>
                    </a:lnTo>
                    <a:lnTo>
                      <a:pt x="956" y="244"/>
                    </a:lnTo>
                    <a:lnTo>
                      <a:pt x="865" y="244"/>
                    </a:lnTo>
                    <a:lnTo>
                      <a:pt x="775" y="245"/>
                    </a:lnTo>
                    <a:lnTo>
                      <a:pt x="685" y="246"/>
                    </a:lnTo>
                    <a:lnTo>
                      <a:pt x="663" y="210"/>
                    </a:lnTo>
                    <a:lnTo>
                      <a:pt x="639" y="176"/>
                    </a:lnTo>
                    <a:lnTo>
                      <a:pt x="614" y="145"/>
                    </a:lnTo>
                    <a:lnTo>
                      <a:pt x="589" y="118"/>
                    </a:lnTo>
                    <a:lnTo>
                      <a:pt x="563" y="94"/>
                    </a:lnTo>
                    <a:lnTo>
                      <a:pt x="536" y="72"/>
                    </a:lnTo>
                    <a:lnTo>
                      <a:pt x="509" y="53"/>
                    </a:lnTo>
                    <a:lnTo>
                      <a:pt x="481" y="38"/>
                    </a:lnTo>
                    <a:lnTo>
                      <a:pt x="453" y="24"/>
                    </a:lnTo>
                    <a:lnTo>
                      <a:pt x="425" y="15"/>
                    </a:lnTo>
                    <a:lnTo>
                      <a:pt x="396" y="7"/>
                    </a:lnTo>
                    <a:lnTo>
                      <a:pt x="368" y="2"/>
                    </a:lnTo>
                    <a:lnTo>
                      <a:pt x="340" y="0"/>
                    </a:lnTo>
                    <a:lnTo>
                      <a:pt x="312" y="0"/>
                    </a:lnTo>
                    <a:lnTo>
                      <a:pt x="285" y="3"/>
                    </a:lnTo>
                    <a:lnTo>
                      <a:pt x="258" y="10"/>
                    </a:lnTo>
                    <a:lnTo>
                      <a:pt x="232" y="18"/>
                    </a:lnTo>
                    <a:lnTo>
                      <a:pt x="207" y="29"/>
                    </a:lnTo>
                    <a:lnTo>
                      <a:pt x="183" y="43"/>
                    </a:lnTo>
                    <a:lnTo>
                      <a:pt x="159" y="58"/>
                    </a:lnTo>
                    <a:lnTo>
                      <a:pt x="137" y="76"/>
                    </a:lnTo>
                    <a:lnTo>
                      <a:pt x="115" y="97"/>
                    </a:lnTo>
                    <a:lnTo>
                      <a:pt x="96" y="121"/>
                    </a:lnTo>
                    <a:lnTo>
                      <a:pt x="78" y="145"/>
                    </a:lnTo>
                    <a:lnTo>
                      <a:pt x="61" y="173"/>
                    </a:lnTo>
                    <a:lnTo>
                      <a:pt x="46" y="203"/>
                    </a:lnTo>
                    <a:lnTo>
                      <a:pt x="33" y="236"/>
                    </a:lnTo>
                    <a:lnTo>
                      <a:pt x="22" y="270"/>
                    </a:lnTo>
                    <a:lnTo>
                      <a:pt x="14" y="307"/>
                    </a:lnTo>
                    <a:lnTo>
                      <a:pt x="6" y="345"/>
                    </a:lnTo>
                    <a:lnTo>
                      <a:pt x="2" y="387"/>
                    </a:lnTo>
                    <a:lnTo>
                      <a:pt x="0" y="429"/>
                    </a:lnTo>
                    <a:lnTo>
                      <a:pt x="0" y="510"/>
                    </a:lnTo>
                    <a:lnTo>
                      <a:pt x="11" y="584"/>
                    </a:lnTo>
                    <a:lnTo>
                      <a:pt x="29" y="652"/>
                    </a:lnTo>
                    <a:lnTo>
                      <a:pt x="55" y="712"/>
                    </a:lnTo>
                    <a:lnTo>
                      <a:pt x="87" y="765"/>
                    </a:lnTo>
                    <a:lnTo>
                      <a:pt x="126" y="809"/>
                    </a:lnTo>
                    <a:lnTo>
                      <a:pt x="169" y="845"/>
                    </a:lnTo>
                    <a:lnTo>
                      <a:pt x="216" y="871"/>
                    </a:lnTo>
                    <a:lnTo>
                      <a:pt x="267" y="887"/>
                    </a:lnTo>
                    <a:lnTo>
                      <a:pt x="319" y="894"/>
                    </a:lnTo>
                    <a:lnTo>
                      <a:pt x="372" y="889"/>
                    </a:lnTo>
                    <a:lnTo>
                      <a:pt x="426" y="875"/>
                    </a:lnTo>
                    <a:lnTo>
                      <a:pt x="480" y="848"/>
                    </a:lnTo>
                    <a:lnTo>
                      <a:pt x="532" y="809"/>
                    </a:lnTo>
                    <a:lnTo>
                      <a:pt x="582" y="757"/>
                    </a:lnTo>
                    <a:lnTo>
                      <a:pt x="629" y="692"/>
                    </a:lnTo>
                    <a:lnTo>
                      <a:pt x="703" y="684"/>
                    </a:lnTo>
                    <a:lnTo>
                      <a:pt x="781" y="678"/>
                    </a:lnTo>
                    <a:lnTo>
                      <a:pt x="860" y="673"/>
                    </a:lnTo>
                    <a:lnTo>
                      <a:pt x="942" y="669"/>
                    </a:lnTo>
                    <a:lnTo>
                      <a:pt x="1025" y="665"/>
                    </a:lnTo>
                    <a:lnTo>
                      <a:pt x="1110" y="661"/>
                    </a:lnTo>
                    <a:lnTo>
                      <a:pt x="1197" y="659"/>
                    </a:lnTo>
                    <a:lnTo>
                      <a:pt x="1285" y="657"/>
                    </a:lnTo>
                    <a:lnTo>
                      <a:pt x="1375" y="656"/>
                    </a:lnTo>
                    <a:lnTo>
                      <a:pt x="1466" y="655"/>
                    </a:lnTo>
                    <a:lnTo>
                      <a:pt x="1559" y="655"/>
                    </a:lnTo>
                    <a:lnTo>
                      <a:pt x="1652" y="655"/>
                    </a:lnTo>
                    <a:lnTo>
                      <a:pt x="1746" y="655"/>
                    </a:lnTo>
                    <a:lnTo>
                      <a:pt x="1842" y="656"/>
                    </a:lnTo>
                    <a:lnTo>
                      <a:pt x="1938" y="657"/>
                    </a:lnTo>
                    <a:lnTo>
                      <a:pt x="2036" y="658"/>
                    </a:lnTo>
                    <a:lnTo>
                      <a:pt x="2133" y="660"/>
                    </a:lnTo>
                    <a:lnTo>
                      <a:pt x="2230" y="661"/>
                    </a:lnTo>
                    <a:lnTo>
                      <a:pt x="2328" y="664"/>
                    </a:lnTo>
                    <a:lnTo>
                      <a:pt x="2426" y="665"/>
                    </a:lnTo>
                    <a:lnTo>
                      <a:pt x="2525" y="667"/>
                    </a:lnTo>
                    <a:lnTo>
                      <a:pt x="2623" y="668"/>
                    </a:lnTo>
                    <a:lnTo>
                      <a:pt x="2722" y="669"/>
                    </a:lnTo>
                    <a:lnTo>
                      <a:pt x="2819" y="670"/>
                    </a:lnTo>
                    <a:lnTo>
                      <a:pt x="2917" y="671"/>
                    </a:lnTo>
                    <a:lnTo>
                      <a:pt x="3014" y="672"/>
                    </a:lnTo>
                    <a:lnTo>
                      <a:pt x="3111" y="672"/>
                    </a:lnTo>
                    <a:lnTo>
                      <a:pt x="3206" y="672"/>
                    </a:lnTo>
                    <a:lnTo>
                      <a:pt x="3301" y="672"/>
                    </a:lnTo>
                    <a:lnTo>
                      <a:pt x="3395" y="671"/>
                    </a:lnTo>
                    <a:lnTo>
                      <a:pt x="3488" y="670"/>
                    </a:lnTo>
                    <a:lnTo>
                      <a:pt x="3579" y="668"/>
                    </a:lnTo>
                    <a:lnTo>
                      <a:pt x="3617" y="715"/>
                    </a:lnTo>
                    <a:lnTo>
                      <a:pt x="3657" y="755"/>
                    </a:lnTo>
                    <a:lnTo>
                      <a:pt x="3700" y="785"/>
                    </a:lnTo>
                    <a:lnTo>
                      <a:pt x="3743" y="807"/>
                    </a:lnTo>
                    <a:lnTo>
                      <a:pt x="3788" y="819"/>
                    </a:lnTo>
                    <a:lnTo>
                      <a:pt x="3832" y="823"/>
                    </a:lnTo>
                    <a:lnTo>
                      <a:pt x="3876" y="819"/>
                    </a:lnTo>
                    <a:lnTo>
                      <a:pt x="3918" y="807"/>
                    </a:lnTo>
                    <a:lnTo>
                      <a:pt x="3959" y="787"/>
                    </a:lnTo>
                    <a:lnTo>
                      <a:pt x="3996" y="758"/>
                    </a:lnTo>
                    <a:lnTo>
                      <a:pt x="4029" y="722"/>
                    </a:lnTo>
                    <a:lnTo>
                      <a:pt x="4059" y="677"/>
                    </a:lnTo>
                    <a:lnTo>
                      <a:pt x="4083" y="624"/>
                    </a:lnTo>
                    <a:lnTo>
                      <a:pt x="4102" y="564"/>
                    </a:lnTo>
                    <a:lnTo>
                      <a:pt x="4114" y="497"/>
                    </a:lnTo>
                    <a:lnTo>
                      <a:pt x="4120" y="421"/>
                    </a:lnTo>
                    <a:lnTo>
                      <a:pt x="4107" y="332"/>
                    </a:lnTo>
                    <a:lnTo>
                      <a:pt x="4087" y="253"/>
                    </a:lnTo>
                    <a:lnTo>
                      <a:pt x="4059" y="187"/>
                    </a:lnTo>
                    <a:lnTo>
                      <a:pt x="4025" y="131"/>
                    </a:lnTo>
                    <a:lnTo>
                      <a:pt x="3987" y="86"/>
                    </a:lnTo>
                    <a:lnTo>
                      <a:pt x="3944" y="53"/>
                    </a:lnTo>
                    <a:lnTo>
                      <a:pt x="3899" y="30"/>
                    </a:lnTo>
                    <a:lnTo>
                      <a:pt x="3853" y="17"/>
                    </a:lnTo>
                    <a:lnTo>
                      <a:pt x="3806" y="15"/>
                    </a:lnTo>
                    <a:lnTo>
                      <a:pt x="3761" y="23"/>
                    </a:lnTo>
                    <a:lnTo>
                      <a:pt x="3718" y="41"/>
                    </a:lnTo>
                    <a:lnTo>
                      <a:pt x="3678" y="68"/>
                    </a:lnTo>
                    <a:lnTo>
                      <a:pt x="3644" y="104"/>
                    </a:lnTo>
                    <a:lnTo>
                      <a:pt x="3615" y="151"/>
                    </a:lnTo>
                    <a:lnTo>
                      <a:pt x="3593" y="205"/>
                    </a:lnTo>
                    <a:lnTo>
                      <a:pt x="3579" y="27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52840" y="3566880"/>
                <a:ext cx="271440" cy="231840"/>
              </a:xfrm>
              <a:custGeom>
                <a:avLst/>
                <a:gdLst/>
                <a:ahLst/>
                <a:rect l="l" t="t" r="r" b="b"/>
                <a:pathLst>
                  <a:path w="1026" h="877">
                    <a:moveTo>
                      <a:pt x="871" y="22"/>
                    </a:moveTo>
                    <a:lnTo>
                      <a:pt x="849" y="21"/>
                    </a:lnTo>
                    <a:lnTo>
                      <a:pt x="827" y="20"/>
                    </a:lnTo>
                    <a:lnTo>
                      <a:pt x="806" y="18"/>
                    </a:lnTo>
                    <a:lnTo>
                      <a:pt x="783" y="17"/>
                    </a:lnTo>
                    <a:lnTo>
                      <a:pt x="761" y="16"/>
                    </a:lnTo>
                    <a:lnTo>
                      <a:pt x="739" y="15"/>
                    </a:lnTo>
                    <a:lnTo>
                      <a:pt x="717" y="15"/>
                    </a:lnTo>
                    <a:lnTo>
                      <a:pt x="695" y="14"/>
                    </a:lnTo>
                    <a:lnTo>
                      <a:pt x="673" y="14"/>
                    </a:lnTo>
                    <a:lnTo>
                      <a:pt x="651" y="13"/>
                    </a:lnTo>
                    <a:lnTo>
                      <a:pt x="628" y="13"/>
                    </a:lnTo>
                    <a:lnTo>
                      <a:pt x="607" y="12"/>
                    </a:lnTo>
                    <a:lnTo>
                      <a:pt x="585" y="12"/>
                    </a:lnTo>
                    <a:lnTo>
                      <a:pt x="562" y="11"/>
                    </a:lnTo>
                    <a:lnTo>
                      <a:pt x="540" y="11"/>
                    </a:lnTo>
                    <a:lnTo>
                      <a:pt x="518" y="10"/>
                    </a:lnTo>
                    <a:lnTo>
                      <a:pt x="496" y="10"/>
                    </a:lnTo>
                    <a:lnTo>
                      <a:pt x="474" y="10"/>
                    </a:lnTo>
                    <a:lnTo>
                      <a:pt x="451" y="9"/>
                    </a:lnTo>
                    <a:lnTo>
                      <a:pt x="429" y="9"/>
                    </a:lnTo>
                    <a:lnTo>
                      <a:pt x="407" y="8"/>
                    </a:lnTo>
                    <a:lnTo>
                      <a:pt x="385" y="8"/>
                    </a:lnTo>
                    <a:lnTo>
                      <a:pt x="363" y="7"/>
                    </a:lnTo>
                    <a:lnTo>
                      <a:pt x="341" y="7"/>
                    </a:lnTo>
                    <a:lnTo>
                      <a:pt x="318" y="6"/>
                    </a:lnTo>
                    <a:lnTo>
                      <a:pt x="297" y="6"/>
                    </a:lnTo>
                    <a:lnTo>
                      <a:pt x="275" y="5"/>
                    </a:lnTo>
                    <a:lnTo>
                      <a:pt x="253" y="4"/>
                    </a:lnTo>
                    <a:lnTo>
                      <a:pt x="230" y="3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25" y="6"/>
                    </a:lnTo>
                    <a:lnTo>
                      <a:pt x="91" y="17"/>
                    </a:lnTo>
                    <a:lnTo>
                      <a:pt x="63" y="34"/>
                    </a:lnTo>
                    <a:lnTo>
                      <a:pt x="40" y="57"/>
                    </a:lnTo>
                    <a:lnTo>
                      <a:pt x="23" y="85"/>
                    </a:lnTo>
                    <a:lnTo>
                      <a:pt x="10" y="119"/>
                    </a:lnTo>
                    <a:lnTo>
                      <a:pt x="3" y="158"/>
                    </a:lnTo>
                    <a:lnTo>
                      <a:pt x="0" y="204"/>
                    </a:lnTo>
                    <a:lnTo>
                      <a:pt x="2" y="325"/>
                    </a:lnTo>
                    <a:lnTo>
                      <a:pt x="4" y="446"/>
                    </a:lnTo>
                    <a:lnTo>
                      <a:pt x="5" y="568"/>
                    </a:lnTo>
                    <a:lnTo>
                      <a:pt x="7" y="689"/>
                    </a:lnTo>
                    <a:lnTo>
                      <a:pt x="8" y="723"/>
                    </a:lnTo>
                    <a:lnTo>
                      <a:pt x="10" y="752"/>
                    </a:lnTo>
                    <a:lnTo>
                      <a:pt x="15" y="778"/>
                    </a:lnTo>
                    <a:lnTo>
                      <a:pt x="20" y="800"/>
                    </a:lnTo>
                    <a:lnTo>
                      <a:pt x="27" y="819"/>
                    </a:lnTo>
                    <a:lnTo>
                      <a:pt x="35" y="834"/>
                    </a:lnTo>
                    <a:lnTo>
                      <a:pt x="46" y="848"/>
                    </a:lnTo>
                    <a:lnTo>
                      <a:pt x="58" y="857"/>
                    </a:lnTo>
                    <a:lnTo>
                      <a:pt x="73" y="865"/>
                    </a:lnTo>
                    <a:lnTo>
                      <a:pt x="89" y="870"/>
                    </a:lnTo>
                    <a:lnTo>
                      <a:pt x="108" y="874"/>
                    </a:lnTo>
                    <a:lnTo>
                      <a:pt x="129" y="876"/>
                    </a:lnTo>
                    <a:lnTo>
                      <a:pt x="151" y="877"/>
                    </a:lnTo>
                    <a:lnTo>
                      <a:pt x="177" y="876"/>
                    </a:lnTo>
                    <a:lnTo>
                      <a:pt x="205" y="874"/>
                    </a:lnTo>
                    <a:lnTo>
                      <a:pt x="236" y="872"/>
                    </a:lnTo>
                    <a:lnTo>
                      <a:pt x="274" y="871"/>
                    </a:lnTo>
                    <a:lnTo>
                      <a:pt x="311" y="871"/>
                    </a:lnTo>
                    <a:lnTo>
                      <a:pt x="348" y="870"/>
                    </a:lnTo>
                    <a:lnTo>
                      <a:pt x="387" y="870"/>
                    </a:lnTo>
                    <a:lnTo>
                      <a:pt x="424" y="869"/>
                    </a:lnTo>
                    <a:lnTo>
                      <a:pt x="462" y="869"/>
                    </a:lnTo>
                    <a:lnTo>
                      <a:pt x="501" y="868"/>
                    </a:lnTo>
                    <a:lnTo>
                      <a:pt x="539" y="868"/>
                    </a:lnTo>
                    <a:lnTo>
                      <a:pt x="578" y="867"/>
                    </a:lnTo>
                    <a:lnTo>
                      <a:pt x="616" y="867"/>
                    </a:lnTo>
                    <a:lnTo>
                      <a:pt x="653" y="866"/>
                    </a:lnTo>
                    <a:lnTo>
                      <a:pt x="692" y="866"/>
                    </a:lnTo>
                    <a:lnTo>
                      <a:pt x="729" y="865"/>
                    </a:lnTo>
                    <a:lnTo>
                      <a:pt x="766" y="865"/>
                    </a:lnTo>
                    <a:lnTo>
                      <a:pt x="804" y="864"/>
                    </a:lnTo>
                    <a:lnTo>
                      <a:pt x="841" y="864"/>
                    </a:lnTo>
                    <a:lnTo>
                      <a:pt x="888" y="863"/>
                    </a:lnTo>
                    <a:lnTo>
                      <a:pt x="923" y="858"/>
                    </a:lnTo>
                    <a:lnTo>
                      <a:pt x="950" y="848"/>
                    </a:lnTo>
                    <a:lnTo>
                      <a:pt x="969" y="833"/>
                    </a:lnTo>
                    <a:lnTo>
                      <a:pt x="982" y="812"/>
                    </a:lnTo>
                    <a:lnTo>
                      <a:pt x="989" y="784"/>
                    </a:lnTo>
                    <a:lnTo>
                      <a:pt x="993" y="749"/>
                    </a:lnTo>
                    <a:lnTo>
                      <a:pt x="994" y="705"/>
                    </a:lnTo>
                    <a:lnTo>
                      <a:pt x="997" y="635"/>
                    </a:lnTo>
                    <a:lnTo>
                      <a:pt x="1001" y="571"/>
                    </a:lnTo>
                    <a:lnTo>
                      <a:pt x="1006" y="509"/>
                    </a:lnTo>
                    <a:lnTo>
                      <a:pt x="1011" y="449"/>
                    </a:lnTo>
                    <a:lnTo>
                      <a:pt x="1015" y="388"/>
                    </a:lnTo>
                    <a:lnTo>
                      <a:pt x="1020" y="326"/>
                    </a:lnTo>
                    <a:lnTo>
                      <a:pt x="1023" y="262"/>
                    </a:lnTo>
                    <a:lnTo>
                      <a:pt x="1026" y="193"/>
                    </a:lnTo>
                    <a:lnTo>
                      <a:pt x="1026" y="162"/>
                    </a:lnTo>
                    <a:lnTo>
                      <a:pt x="1022" y="131"/>
                    </a:lnTo>
                    <a:lnTo>
                      <a:pt x="1012" y="103"/>
                    </a:lnTo>
                    <a:lnTo>
                      <a:pt x="995" y="78"/>
                    </a:lnTo>
                    <a:lnTo>
                      <a:pt x="974" y="56"/>
                    </a:lnTo>
                    <a:lnTo>
                      <a:pt x="946" y="38"/>
                    </a:lnTo>
                    <a:lnTo>
                      <a:pt x="911" y="27"/>
                    </a:lnTo>
                    <a:lnTo>
                      <a:pt x="871" y="22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4492440" y="3144960"/>
              <a:ext cx="209520" cy="22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0" name=""/>
          <p:cNvGrpSpPr/>
          <p:nvPr/>
        </p:nvGrpSpPr>
        <p:grpSpPr>
          <a:xfrm>
            <a:off x="5867280" y="3003480"/>
            <a:ext cx="2170080" cy="1611360"/>
            <a:chOff x="5867280" y="3003480"/>
            <a:chExt cx="2170080" cy="1611360"/>
          </a:xfrm>
        </p:grpSpPr>
        <p:sp>
          <p:nvSpPr>
            <p:cNvPr id="7041" name=""/>
            <p:cNvSpPr/>
            <p:nvPr/>
          </p:nvSpPr>
          <p:spPr>
            <a:xfrm flipH="1">
              <a:off x="5867280" y="3003480"/>
              <a:ext cx="2170080" cy="1611360"/>
            </a:xfrm>
            <a:custGeom>
              <a:avLst/>
              <a:gdLst/>
              <a:ahLst/>
              <a:rect l="l" t="t" r="r" b="b"/>
              <a:pathLst>
                <a:path w="1720" h="1336">
                  <a:moveTo>
                    <a:pt x="1173" y="230"/>
                  </a:moveTo>
                  <a:lnTo>
                    <a:pt x="1163" y="221"/>
                  </a:lnTo>
                  <a:lnTo>
                    <a:pt x="1154" y="209"/>
                  </a:lnTo>
                  <a:lnTo>
                    <a:pt x="1144" y="200"/>
                  </a:lnTo>
                  <a:lnTo>
                    <a:pt x="1133" y="188"/>
                  </a:lnTo>
                  <a:lnTo>
                    <a:pt x="1123" y="179"/>
                  </a:lnTo>
                  <a:lnTo>
                    <a:pt x="1113" y="169"/>
                  </a:lnTo>
                  <a:lnTo>
                    <a:pt x="1102" y="159"/>
                  </a:lnTo>
                  <a:lnTo>
                    <a:pt x="1090" y="150"/>
                  </a:lnTo>
                  <a:lnTo>
                    <a:pt x="1079" y="142"/>
                  </a:lnTo>
                  <a:lnTo>
                    <a:pt x="1067" y="132"/>
                  </a:lnTo>
                  <a:lnTo>
                    <a:pt x="1056" y="125"/>
                  </a:lnTo>
                  <a:lnTo>
                    <a:pt x="1044" y="115"/>
                  </a:lnTo>
                  <a:lnTo>
                    <a:pt x="1033" y="107"/>
                  </a:lnTo>
                  <a:lnTo>
                    <a:pt x="1021" y="100"/>
                  </a:lnTo>
                  <a:lnTo>
                    <a:pt x="1008" y="92"/>
                  </a:lnTo>
                  <a:lnTo>
                    <a:pt x="996" y="86"/>
                  </a:lnTo>
                  <a:lnTo>
                    <a:pt x="983" y="79"/>
                  </a:lnTo>
                  <a:lnTo>
                    <a:pt x="969" y="71"/>
                  </a:lnTo>
                  <a:lnTo>
                    <a:pt x="958" y="65"/>
                  </a:lnTo>
                  <a:lnTo>
                    <a:pt x="944" y="60"/>
                  </a:lnTo>
                  <a:lnTo>
                    <a:pt x="931" y="54"/>
                  </a:lnTo>
                  <a:lnTo>
                    <a:pt x="918" y="48"/>
                  </a:lnTo>
                  <a:lnTo>
                    <a:pt x="904" y="42"/>
                  </a:lnTo>
                  <a:lnTo>
                    <a:pt x="889" y="36"/>
                  </a:lnTo>
                  <a:lnTo>
                    <a:pt x="875" y="33"/>
                  </a:lnTo>
                  <a:lnTo>
                    <a:pt x="862" y="29"/>
                  </a:lnTo>
                  <a:lnTo>
                    <a:pt x="847" y="25"/>
                  </a:lnTo>
                  <a:lnTo>
                    <a:pt x="833" y="21"/>
                  </a:lnTo>
                  <a:lnTo>
                    <a:pt x="820" y="17"/>
                  </a:lnTo>
                  <a:lnTo>
                    <a:pt x="804" y="13"/>
                  </a:lnTo>
                  <a:lnTo>
                    <a:pt x="789" y="12"/>
                  </a:lnTo>
                  <a:lnTo>
                    <a:pt x="776" y="8"/>
                  </a:lnTo>
                  <a:lnTo>
                    <a:pt x="760" y="6"/>
                  </a:lnTo>
                  <a:lnTo>
                    <a:pt x="745" y="4"/>
                  </a:lnTo>
                  <a:lnTo>
                    <a:pt x="729" y="2"/>
                  </a:lnTo>
                  <a:lnTo>
                    <a:pt x="714" y="2"/>
                  </a:lnTo>
                  <a:lnTo>
                    <a:pt x="699" y="0"/>
                  </a:lnTo>
                  <a:lnTo>
                    <a:pt x="683" y="0"/>
                  </a:lnTo>
                  <a:lnTo>
                    <a:pt x="668" y="0"/>
                  </a:lnTo>
                  <a:lnTo>
                    <a:pt x="668" y="0"/>
                  </a:lnTo>
                  <a:lnTo>
                    <a:pt x="639" y="0"/>
                  </a:lnTo>
                  <a:lnTo>
                    <a:pt x="612" y="2"/>
                  </a:lnTo>
                  <a:lnTo>
                    <a:pt x="584" y="6"/>
                  </a:lnTo>
                  <a:lnTo>
                    <a:pt x="557" y="10"/>
                  </a:lnTo>
                  <a:lnTo>
                    <a:pt x="530" y="13"/>
                  </a:lnTo>
                  <a:lnTo>
                    <a:pt x="503" y="19"/>
                  </a:lnTo>
                  <a:lnTo>
                    <a:pt x="478" y="27"/>
                  </a:lnTo>
                  <a:lnTo>
                    <a:pt x="451" y="36"/>
                  </a:lnTo>
                  <a:lnTo>
                    <a:pt x="426" y="44"/>
                  </a:lnTo>
                  <a:lnTo>
                    <a:pt x="401" y="56"/>
                  </a:lnTo>
                  <a:lnTo>
                    <a:pt x="378" y="65"/>
                  </a:lnTo>
                  <a:lnTo>
                    <a:pt x="353" y="79"/>
                  </a:lnTo>
                  <a:lnTo>
                    <a:pt x="330" y="90"/>
                  </a:lnTo>
                  <a:lnTo>
                    <a:pt x="307" y="106"/>
                  </a:lnTo>
                  <a:lnTo>
                    <a:pt x="286" y="119"/>
                  </a:lnTo>
                  <a:lnTo>
                    <a:pt x="265" y="134"/>
                  </a:lnTo>
                  <a:lnTo>
                    <a:pt x="244" y="152"/>
                  </a:lnTo>
                  <a:lnTo>
                    <a:pt x="225" y="169"/>
                  </a:lnTo>
                  <a:lnTo>
                    <a:pt x="205" y="186"/>
                  </a:lnTo>
                  <a:lnTo>
                    <a:pt x="186" y="205"/>
                  </a:lnTo>
                  <a:lnTo>
                    <a:pt x="169" y="225"/>
                  </a:lnTo>
                  <a:lnTo>
                    <a:pt x="152" y="244"/>
                  </a:lnTo>
                  <a:lnTo>
                    <a:pt x="134" y="265"/>
                  </a:lnTo>
                  <a:lnTo>
                    <a:pt x="119" y="286"/>
                  </a:lnTo>
                  <a:lnTo>
                    <a:pt x="104" y="309"/>
                  </a:lnTo>
                  <a:lnTo>
                    <a:pt x="90" y="330"/>
                  </a:lnTo>
                  <a:lnTo>
                    <a:pt x="79" y="353"/>
                  </a:lnTo>
                  <a:lnTo>
                    <a:pt x="65" y="378"/>
                  </a:lnTo>
                  <a:lnTo>
                    <a:pt x="54" y="401"/>
                  </a:lnTo>
                  <a:lnTo>
                    <a:pt x="44" y="426"/>
                  </a:lnTo>
                  <a:lnTo>
                    <a:pt x="35" y="451"/>
                  </a:lnTo>
                  <a:lnTo>
                    <a:pt x="27" y="478"/>
                  </a:lnTo>
                  <a:lnTo>
                    <a:pt x="19" y="503"/>
                  </a:lnTo>
                  <a:lnTo>
                    <a:pt x="13" y="530"/>
                  </a:lnTo>
                  <a:lnTo>
                    <a:pt x="8" y="557"/>
                  </a:lnTo>
                  <a:lnTo>
                    <a:pt x="4" y="585"/>
                  </a:lnTo>
                  <a:lnTo>
                    <a:pt x="2" y="612"/>
                  </a:lnTo>
                  <a:lnTo>
                    <a:pt x="0" y="641"/>
                  </a:lnTo>
                  <a:lnTo>
                    <a:pt x="0" y="668"/>
                  </a:lnTo>
                  <a:lnTo>
                    <a:pt x="0" y="668"/>
                  </a:lnTo>
                  <a:lnTo>
                    <a:pt x="0" y="697"/>
                  </a:lnTo>
                  <a:lnTo>
                    <a:pt x="2" y="726"/>
                  </a:lnTo>
                  <a:lnTo>
                    <a:pt x="4" y="752"/>
                  </a:lnTo>
                  <a:lnTo>
                    <a:pt x="8" y="779"/>
                  </a:lnTo>
                  <a:lnTo>
                    <a:pt x="13" y="806"/>
                  </a:lnTo>
                  <a:lnTo>
                    <a:pt x="19" y="833"/>
                  </a:lnTo>
                  <a:lnTo>
                    <a:pt x="27" y="860"/>
                  </a:lnTo>
                  <a:lnTo>
                    <a:pt x="35" y="885"/>
                  </a:lnTo>
                  <a:lnTo>
                    <a:pt x="44" y="910"/>
                  </a:lnTo>
                  <a:lnTo>
                    <a:pt x="54" y="935"/>
                  </a:lnTo>
                  <a:lnTo>
                    <a:pt x="65" y="960"/>
                  </a:lnTo>
                  <a:lnTo>
                    <a:pt x="79" y="983"/>
                  </a:lnTo>
                  <a:lnTo>
                    <a:pt x="90" y="1006"/>
                  </a:lnTo>
                  <a:lnTo>
                    <a:pt x="104" y="1029"/>
                  </a:lnTo>
                  <a:lnTo>
                    <a:pt x="119" y="1050"/>
                  </a:lnTo>
                  <a:lnTo>
                    <a:pt x="134" y="1071"/>
                  </a:lnTo>
                  <a:lnTo>
                    <a:pt x="152" y="1092"/>
                  </a:lnTo>
                  <a:lnTo>
                    <a:pt x="169" y="1113"/>
                  </a:lnTo>
                  <a:lnTo>
                    <a:pt x="186" y="1133"/>
                  </a:lnTo>
                  <a:lnTo>
                    <a:pt x="205" y="1150"/>
                  </a:lnTo>
                  <a:lnTo>
                    <a:pt x="225" y="1169"/>
                  </a:lnTo>
                  <a:lnTo>
                    <a:pt x="244" y="1186"/>
                  </a:lnTo>
                  <a:lnTo>
                    <a:pt x="265" y="1202"/>
                  </a:lnTo>
                  <a:lnTo>
                    <a:pt x="286" y="1217"/>
                  </a:lnTo>
                  <a:lnTo>
                    <a:pt x="307" y="1232"/>
                  </a:lnTo>
                  <a:lnTo>
                    <a:pt x="330" y="1246"/>
                  </a:lnTo>
                  <a:lnTo>
                    <a:pt x="353" y="1259"/>
                  </a:lnTo>
                  <a:lnTo>
                    <a:pt x="378" y="1271"/>
                  </a:lnTo>
                  <a:lnTo>
                    <a:pt x="401" y="1282"/>
                  </a:lnTo>
                  <a:lnTo>
                    <a:pt x="426" y="1292"/>
                  </a:lnTo>
                  <a:lnTo>
                    <a:pt x="451" y="1301"/>
                  </a:lnTo>
                  <a:lnTo>
                    <a:pt x="478" y="1309"/>
                  </a:lnTo>
                  <a:lnTo>
                    <a:pt x="503" y="1317"/>
                  </a:lnTo>
                  <a:lnTo>
                    <a:pt x="530" y="1323"/>
                  </a:lnTo>
                  <a:lnTo>
                    <a:pt x="557" y="1328"/>
                  </a:lnTo>
                  <a:lnTo>
                    <a:pt x="584" y="1332"/>
                  </a:lnTo>
                  <a:lnTo>
                    <a:pt x="612" y="1334"/>
                  </a:lnTo>
                  <a:lnTo>
                    <a:pt x="639" y="1336"/>
                  </a:lnTo>
                  <a:lnTo>
                    <a:pt x="668" y="1336"/>
                  </a:lnTo>
                  <a:lnTo>
                    <a:pt x="668" y="1336"/>
                  </a:lnTo>
                  <a:lnTo>
                    <a:pt x="729" y="1336"/>
                  </a:lnTo>
                  <a:lnTo>
                    <a:pt x="864" y="1336"/>
                  </a:lnTo>
                  <a:lnTo>
                    <a:pt x="991" y="1336"/>
                  </a:lnTo>
                  <a:lnTo>
                    <a:pt x="991" y="1336"/>
                  </a:lnTo>
                  <a:lnTo>
                    <a:pt x="1065" y="1332"/>
                  </a:lnTo>
                  <a:lnTo>
                    <a:pt x="1167" y="1317"/>
                  </a:lnTo>
                  <a:lnTo>
                    <a:pt x="1282" y="1280"/>
                  </a:lnTo>
                  <a:lnTo>
                    <a:pt x="1399" y="1221"/>
                  </a:lnTo>
                  <a:lnTo>
                    <a:pt x="1507" y="1129"/>
                  </a:lnTo>
                  <a:lnTo>
                    <a:pt x="1507" y="1129"/>
                  </a:lnTo>
                  <a:lnTo>
                    <a:pt x="1520" y="1115"/>
                  </a:lnTo>
                  <a:lnTo>
                    <a:pt x="1532" y="1100"/>
                  </a:lnTo>
                  <a:lnTo>
                    <a:pt x="1543" y="1086"/>
                  </a:lnTo>
                  <a:lnTo>
                    <a:pt x="1555" y="1071"/>
                  </a:lnTo>
                  <a:lnTo>
                    <a:pt x="1565" y="1056"/>
                  </a:lnTo>
                  <a:lnTo>
                    <a:pt x="1576" y="1042"/>
                  </a:lnTo>
                  <a:lnTo>
                    <a:pt x="1586" y="1027"/>
                  </a:lnTo>
                  <a:lnTo>
                    <a:pt x="1595" y="1012"/>
                  </a:lnTo>
                  <a:lnTo>
                    <a:pt x="1603" y="996"/>
                  </a:lnTo>
                  <a:lnTo>
                    <a:pt x="1613" y="981"/>
                  </a:lnTo>
                  <a:lnTo>
                    <a:pt x="1620" y="966"/>
                  </a:lnTo>
                  <a:lnTo>
                    <a:pt x="1630" y="950"/>
                  </a:lnTo>
                  <a:lnTo>
                    <a:pt x="1637" y="935"/>
                  </a:lnTo>
                  <a:lnTo>
                    <a:pt x="1643" y="919"/>
                  </a:lnTo>
                  <a:lnTo>
                    <a:pt x="1651" y="906"/>
                  </a:lnTo>
                  <a:lnTo>
                    <a:pt x="1657" y="891"/>
                  </a:lnTo>
                  <a:lnTo>
                    <a:pt x="1664" y="875"/>
                  </a:lnTo>
                  <a:lnTo>
                    <a:pt x="1670" y="860"/>
                  </a:lnTo>
                  <a:lnTo>
                    <a:pt x="1676" y="845"/>
                  </a:lnTo>
                  <a:lnTo>
                    <a:pt x="1680" y="829"/>
                  </a:lnTo>
                  <a:lnTo>
                    <a:pt x="1685" y="814"/>
                  </a:lnTo>
                  <a:lnTo>
                    <a:pt x="1689" y="800"/>
                  </a:lnTo>
                  <a:lnTo>
                    <a:pt x="1693" y="785"/>
                  </a:lnTo>
                  <a:lnTo>
                    <a:pt x="1697" y="770"/>
                  </a:lnTo>
                  <a:lnTo>
                    <a:pt x="1701" y="756"/>
                  </a:lnTo>
                  <a:lnTo>
                    <a:pt x="1705" y="741"/>
                  </a:lnTo>
                  <a:lnTo>
                    <a:pt x="1707" y="728"/>
                  </a:lnTo>
                  <a:lnTo>
                    <a:pt x="1708" y="714"/>
                  </a:lnTo>
                  <a:lnTo>
                    <a:pt x="1712" y="701"/>
                  </a:lnTo>
                  <a:lnTo>
                    <a:pt x="1714" y="687"/>
                  </a:lnTo>
                  <a:lnTo>
                    <a:pt x="1716" y="674"/>
                  </a:lnTo>
                  <a:lnTo>
                    <a:pt x="1716" y="660"/>
                  </a:lnTo>
                  <a:lnTo>
                    <a:pt x="1718" y="647"/>
                  </a:lnTo>
                  <a:lnTo>
                    <a:pt x="1718" y="635"/>
                  </a:lnTo>
                  <a:lnTo>
                    <a:pt x="1718" y="622"/>
                  </a:lnTo>
                  <a:lnTo>
                    <a:pt x="1720" y="610"/>
                  </a:lnTo>
                  <a:lnTo>
                    <a:pt x="1718" y="599"/>
                  </a:lnTo>
                  <a:lnTo>
                    <a:pt x="1718" y="587"/>
                  </a:lnTo>
                  <a:lnTo>
                    <a:pt x="1718" y="578"/>
                  </a:lnTo>
                  <a:lnTo>
                    <a:pt x="1718" y="578"/>
                  </a:lnTo>
                  <a:lnTo>
                    <a:pt x="1716" y="566"/>
                  </a:lnTo>
                  <a:lnTo>
                    <a:pt x="1716" y="555"/>
                  </a:lnTo>
                  <a:lnTo>
                    <a:pt x="1712" y="545"/>
                  </a:lnTo>
                  <a:lnTo>
                    <a:pt x="1710" y="537"/>
                  </a:lnTo>
                  <a:lnTo>
                    <a:pt x="1707" y="530"/>
                  </a:lnTo>
                  <a:lnTo>
                    <a:pt x="1703" y="524"/>
                  </a:lnTo>
                  <a:lnTo>
                    <a:pt x="1699" y="520"/>
                  </a:lnTo>
                  <a:lnTo>
                    <a:pt x="1693" y="516"/>
                  </a:lnTo>
                  <a:lnTo>
                    <a:pt x="1689" y="514"/>
                  </a:lnTo>
                  <a:lnTo>
                    <a:pt x="1684" y="513"/>
                  </a:lnTo>
                  <a:lnTo>
                    <a:pt x="1678" y="511"/>
                  </a:lnTo>
                  <a:lnTo>
                    <a:pt x="1672" y="511"/>
                  </a:lnTo>
                  <a:lnTo>
                    <a:pt x="1666" y="511"/>
                  </a:lnTo>
                  <a:lnTo>
                    <a:pt x="1659" y="513"/>
                  </a:lnTo>
                  <a:lnTo>
                    <a:pt x="1653" y="514"/>
                  </a:lnTo>
                  <a:lnTo>
                    <a:pt x="1645" y="518"/>
                  </a:lnTo>
                  <a:lnTo>
                    <a:pt x="1639" y="520"/>
                  </a:lnTo>
                  <a:lnTo>
                    <a:pt x="1632" y="524"/>
                  </a:lnTo>
                  <a:lnTo>
                    <a:pt x="1626" y="528"/>
                  </a:lnTo>
                  <a:lnTo>
                    <a:pt x="1618" y="534"/>
                  </a:lnTo>
                  <a:lnTo>
                    <a:pt x="1611" y="537"/>
                  </a:lnTo>
                  <a:lnTo>
                    <a:pt x="1605" y="543"/>
                  </a:lnTo>
                  <a:lnTo>
                    <a:pt x="1597" y="547"/>
                  </a:lnTo>
                  <a:lnTo>
                    <a:pt x="1591" y="553"/>
                  </a:lnTo>
                  <a:lnTo>
                    <a:pt x="1584" y="559"/>
                  </a:lnTo>
                  <a:lnTo>
                    <a:pt x="1578" y="564"/>
                  </a:lnTo>
                  <a:lnTo>
                    <a:pt x="1572" y="570"/>
                  </a:lnTo>
                  <a:lnTo>
                    <a:pt x="1566" y="576"/>
                  </a:lnTo>
                  <a:lnTo>
                    <a:pt x="1561" y="582"/>
                  </a:lnTo>
                  <a:lnTo>
                    <a:pt x="1555" y="587"/>
                  </a:lnTo>
                  <a:lnTo>
                    <a:pt x="1549" y="591"/>
                  </a:lnTo>
                  <a:lnTo>
                    <a:pt x="1545" y="597"/>
                  </a:lnTo>
                  <a:lnTo>
                    <a:pt x="1541" y="601"/>
                  </a:lnTo>
                  <a:lnTo>
                    <a:pt x="1541" y="601"/>
                  </a:lnTo>
                  <a:lnTo>
                    <a:pt x="1538" y="605"/>
                  </a:lnTo>
                  <a:lnTo>
                    <a:pt x="1534" y="608"/>
                  </a:lnTo>
                  <a:lnTo>
                    <a:pt x="1530" y="612"/>
                  </a:lnTo>
                  <a:lnTo>
                    <a:pt x="1526" y="618"/>
                  </a:lnTo>
                  <a:lnTo>
                    <a:pt x="1520" y="622"/>
                  </a:lnTo>
                  <a:lnTo>
                    <a:pt x="1517" y="628"/>
                  </a:lnTo>
                  <a:lnTo>
                    <a:pt x="1511" y="632"/>
                  </a:lnTo>
                  <a:lnTo>
                    <a:pt x="1507" y="637"/>
                  </a:lnTo>
                  <a:lnTo>
                    <a:pt x="1501" y="643"/>
                  </a:lnTo>
                  <a:lnTo>
                    <a:pt x="1495" y="647"/>
                  </a:lnTo>
                  <a:lnTo>
                    <a:pt x="1490" y="653"/>
                  </a:lnTo>
                  <a:lnTo>
                    <a:pt x="1484" y="658"/>
                  </a:lnTo>
                  <a:lnTo>
                    <a:pt x="1478" y="664"/>
                  </a:lnTo>
                  <a:lnTo>
                    <a:pt x="1472" y="670"/>
                  </a:lnTo>
                  <a:lnTo>
                    <a:pt x="1467" y="676"/>
                  </a:lnTo>
                  <a:lnTo>
                    <a:pt x="1461" y="681"/>
                  </a:lnTo>
                  <a:lnTo>
                    <a:pt x="1453" y="687"/>
                  </a:lnTo>
                  <a:lnTo>
                    <a:pt x="1447" y="693"/>
                  </a:lnTo>
                  <a:lnTo>
                    <a:pt x="1442" y="699"/>
                  </a:lnTo>
                  <a:lnTo>
                    <a:pt x="1436" y="704"/>
                  </a:lnTo>
                  <a:lnTo>
                    <a:pt x="1428" y="710"/>
                  </a:lnTo>
                  <a:lnTo>
                    <a:pt x="1422" y="716"/>
                  </a:lnTo>
                  <a:lnTo>
                    <a:pt x="1417" y="722"/>
                  </a:lnTo>
                  <a:lnTo>
                    <a:pt x="1409" y="728"/>
                  </a:lnTo>
                  <a:lnTo>
                    <a:pt x="1403" y="733"/>
                  </a:lnTo>
                  <a:lnTo>
                    <a:pt x="1398" y="739"/>
                  </a:lnTo>
                  <a:lnTo>
                    <a:pt x="1390" y="745"/>
                  </a:lnTo>
                  <a:lnTo>
                    <a:pt x="1384" y="749"/>
                  </a:lnTo>
                  <a:lnTo>
                    <a:pt x="1378" y="754"/>
                  </a:lnTo>
                  <a:lnTo>
                    <a:pt x="1373" y="760"/>
                  </a:lnTo>
                  <a:lnTo>
                    <a:pt x="1367" y="764"/>
                  </a:lnTo>
                  <a:lnTo>
                    <a:pt x="1361" y="770"/>
                  </a:lnTo>
                  <a:lnTo>
                    <a:pt x="1355" y="774"/>
                  </a:lnTo>
                  <a:lnTo>
                    <a:pt x="1350" y="779"/>
                  </a:lnTo>
                  <a:lnTo>
                    <a:pt x="1344" y="783"/>
                  </a:lnTo>
                  <a:lnTo>
                    <a:pt x="1340" y="787"/>
                  </a:lnTo>
                  <a:lnTo>
                    <a:pt x="1334" y="791"/>
                  </a:lnTo>
                  <a:lnTo>
                    <a:pt x="1330" y="795"/>
                  </a:lnTo>
                  <a:lnTo>
                    <a:pt x="1325" y="799"/>
                  </a:lnTo>
                  <a:lnTo>
                    <a:pt x="1325" y="799"/>
                  </a:lnTo>
                  <a:lnTo>
                    <a:pt x="1317" y="804"/>
                  </a:lnTo>
                  <a:lnTo>
                    <a:pt x="1305" y="810"/>
                  </a:lnTo>
                  <a:lnTo>
                    <a:pt x="1296" y="816"/>
                  </a:lnTo>
                  <a:lnTo>
                    <a:pt x="1282" y="822"/>
                  </a:lnTo>
                  <a:lnTo>
                    <a:pt x="1269" y="827"/>
                  </a:lnTo>
                  <a:lnTo>
                    <a:pt x="1255" y="831"/>
                  </a:lnTo>
                  <a:lnTo>
                    <a:pt x="1242" y="837"/>
                  </a:lnTo>
                  <a:lnTo>
                    <a:pt x="1227" y="841"/>
                  </a:lnTo>
                  <a:lnTo>
                    <a:pt x="1209" y="843"/>
                  </a:lnTo>
                  <a:lnTo>
                    <a:pt x="1194" y="847"/>
                  </a:lnTo>
                  <a:lnTo>
                    <a:pt x="1177" y="847"/>
                  </a:lnTo>
                  <a:lnTo>
                    <a:pt x="1161" y="848"/>
                  </a:lnTo>
                  <a:lnTo>
                    <a:pt x="1144" y="847"/>
                  </a:lnTo>
                  <a:lnTo>
                    <a:pt x="1127" y="847"/>
                  </a:lnTo>
                  <a:lnTo>
                    <a:pt x="1111" y="843"/>
                  </a:lnTo>
                  <a:lnTo>
                    <a:pt x="1094" y="839"/>
                  </a:lnTo>
                  <a:lnTo>
                    <a:pt x="1079" y="835"/>
                  </a:lnTo>
                  <a:lnTo>
                    <a:pt x="1062" y="827"/>
                  </a:lnTo>
                  <a:lnTo>
                    <a:pt x="1048" y="820"/>
                  </a:lnTo>
                  <a:lnTo>
                    <a:pt x="1033" y="810"/>
                  </a:lnTo>
                  <a:lnTo>
                    <a:pt x="1019" y="799"/>
                  </a:lnTo>
                  <a:lnTo>
                    <a:pt x="1019" y="799"/>
                  </a:lnTo>
                  <a:lnTo>
                    <a:pt x="1010" y="789"/>
                  </a:lnTo>
                  <a:lnTo>
                    <a:pt x="1000" y="779"/>
                  </a:lnTo>
                  <a:lnTo>
                    <a:pt x="992" y="770"/>
                  </a:lnTo>
                  <a:lnTo>
                    <a:pt x="985" y="758"/>
                  </a:lnTo>
                  <a:lnTo>
                    <a:pt x="977" y="749"/>
                  </a:lnTo>
                  <a:lnTo>
                    <a:pt x="969" y="737"/>
                  </a:lnTo>
                  <a:lnTo>
                    <a:pt x="964" y="726"/>
                  </a:lnTo>
                  <a:lnTo>
                    <a:pt x="958" y="712"/>
                  </a:lnTo>
                  <a:lnTo>
                    <a:pt x="952" y="701"/>
                  </a:lnTo>
                  <a:lnTo>
                    <a:pt x="948" y="687"/>
                  </a:lnTo>
                  <a:lnTo>
                    <a:pt x="943" y="676"/>
                  </a:lnTo>
                  <a:lnTo>
                    <a:pt x="941" y="662"/>
                  </a:lnTo>
                  <a:lnTo>
                    <a:pt x="937" y="649"/>
                  </a:lnTo>
                  <a:lnTo>
                    <a:pt x="935" y="635"/>
                  </a:lnTo>
                  <a:lnTo>
                    <a:pt x="933" y="622"/>
                  </a:lnTo>
                  <a:lnTo>
                    <a:pt x="931" y="608"/>
                  </a:lnTo>
                  <a:lnTo>
                    <a:pt x="929" y="595"/>
                  </a:lnTo>
                  <a:lnTo>
                    <a:pt x="929" y="582"/>
                  </a:lnTo>
                  <a:lnTo>
                    <a:pt x="931" y="568"/>
                  </a:lnTo>
                  <a:lnTo>
                    <a:pt x="931" y="557"/>
                  </a:lnTo>
                  <a:lnTo>
                    <a:pt x="933" y="543"/>
                  </a:lnTo>
                  <a:lnTo>
                    <a:pt x="935" y="530"/>
                  </a:lnTo>
                  <a:lnTo>
                    <a:pt x="937" y="518"/>
                  </a:lnTo>
                  <a:lnTo>
                    <a:pt x="941" y="507"/>
                  </a:lnTo>
                  <a:lnTo>
                    <a:pt x="944" y="495"/>
                  </a:lnTo>
                  <a:lnTo>
                    <a:pt x="950" y="484"/>
                  </a:lnTo>
                  <a:lnTo>
                    <a:pt x="956" y="472"/>
                  </a:lnTo>
                  <a:lnTo>
                    <a:pt x="962" y="463"/>
                  </a:lnTo>
                  <a:lnTo>
                    <a:pt x="968" y="453"/>
                  </a:lnTo>
                  <a:lnTo>
                    <a:pt x="975" y="443"/>
                  </a:lnTo>
                  <a:lnTo>
                    <a:pt x="975" y="443"/>
                  </a:lnTo>
                  <a:lnTo>
                    <a:pt x="981" y="436"/>
                  </a:lnTo>
                  <a:lnTo>
                    <a:pt x="987" y="428"/>
                  </a:lnTo>
                  <a:lnTo>
                    <a:pt x="994" y="420"/>
                  </a:lnTo>
                  <a:lnTo>
                    <a:pt x="1000" y="415"/>
                  </a:lnTo>
                  <a:lnTo>
                    <a:pt x="1006" y="407"/>
                  </a:lnTo>
                  <a:lnTo>
                    <a:pt x="1014" y="399"/>
                  </a:lnTo>
                  <a:lnTo>
                    <a:pt x="1019" y="392"/>
                  </a:lnTo>
                  <a:lnTo>
                    <a:pt x="1027" y="384"/>
                  </a:lnTo>
                  <a:lnTo>
                    <a:pt x="1033" y="376"/>
                  </a:lnTo>
                  <a:lnTo>
                    <a:pt x="1040" y="369"/>
                  </a:lnTo>
                  <a:lnTo>
                    <a:pt x="1046" y="361"/>
                  </a:lnTo>
                  <a:lnTo>
                    <a:pt x="1054" y="355"/>
                  </a:lnTo>
                  <a:lnTo>
                    <a:pt x="1060" y="347"/>
                  </a:lnTo>
                  <a:lnTo>
                    <a:pt x="1067" y="340"/>
                  </a:lnTo>
                  <a:lnTo>
                    <a:pt x="1073" y="332"/>
                  </a:lnTo>
                  <a:lnTo>
                    <a:pt x="1081" y="326"/>
                  </a:lnTo>
                  <a:lnTo>
                    <a:pt x="1087" y="319"/>
                  </a:lnTo>
                  <a:lnTo>
                    <a:pt x="1094" y="313"/>
                  </a:lnTo>
                  <a:lnTo>
                    <a:pt x="1100" y="305"/>
                  </a:lnTo>
                  <a:lnTo>
                    <a:pt x="1106" y="299"/>
                  </a:lnTo>
                  <a:lnTo>
                    <a:pt x="1111" y="294"/>
                  </a:lnTo>
                  <a:lnTo>
                    <a:pt x="1117" y="288"/>
                  </a:lnTo>
                  <a:lnTo>
                    <a:pt x="1123" y="280"/>
                  </a:lnTo>
                  <a:lnTo>
                    <a:pt x="1129" y="276"/>
                  </a:lnTo>
                  <a:lnTo>
                    <a:pt x="1135" y="271"/>
                  </a:lnTo>
                  <a:lnTo>
                    <a:pt x="1138" y="265"/>
                  </a:lnTo>
                  <a:lnTo>
                    <a:pt x="1144" y="261"/>
                  </a:lnTo>
                  <a:lnTo>
                    <a:pt x="1148" y="255"/>
                  </a:lnTo>
                  <a:lnTo>
                    <a:pt x="1152" y="251"/>
                  </a:lnTo>
                  <a:lnTo>
                    <a:pt x="1156" y="248"/>
                  </a:lnTo>
                  <a:lnTo>
                    <a:pt x="1159" y="244"/>
                  </a:lnTo>
                  <a:lnTo>
                    <a:pt x="1161" y="242"/>
                  </a:lnTo>
                  <a:lnTo>
                    <a:pt x="1165" y="238"/>
                  </a:lnTo>
                  <a:lnTo>
                    <a:pt x="1167" y="236"/>
                  </a:lnTo>
                  <a:lnTo>
                    <a:pt x="1169" y="234"/>
                  </a:lnTo>
                  <a:lnTo>
                    <a:pt x="1171" y="232"/>
                  </a:lnTo>
                  <a:lnTo>
                    <a:pt x="1173" y="232"/>
                  </a:lnTo>
                  <a:lnTo>
                    <a:pt x="1173" y="230"/>
                  </a:lnTo>
                  <a:lnTo>
                    <a:pt x="1173" y="23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6904080" y="3537720"/>
              <a:ext cx="580320" cy="555840"/>
            </a:xfrm>
            <a:custGeom>
              <a:avLst/>
              <a:gdLst/>
              <a:ahLst/>
              <a:rect l="l" t="t" r="r" b="b"/>
              <a:pathLst>
                <a:path w="460" h="461">
                  <a:moveTo>
                    <a:pt x="230" y="461"/>
                  </a:moveTo>
                  <a:lnTo>
                    <a:pt x="245" y="459"/>
                  </a:lnTo>
                  <a:lnTo>
                    <a:pt x="261" y="459"/>
                  </a:lnTo>
                  <a:lnTo>
                    <a:pt x="274" y="457"/>
                  </a:lnTo>
                  <a:lnTo>
                    <a:pt x="290" y="453"/>
                  </a:lnTo>
                  <a:lnTo>
                    <a:pt x="303" y="450"/>
                  </a:lnTo>
                  <a:lnTo>
                    <a:pt x="316" y="444"/>
                  </a:lnTo>
                  <a:lnTo>
                    <a:pt x="330" y="438"/>
                  </a:lnTo>
                  <a:lnTo>
                    <a:pt x="343" y="432"/>
                  </a:lnTo>
                  <a:lnTo>
                    <a:pt x="355" y="425"/>
                  </a:lnTo>
                  <a:lnTo>
                    <a:pt x="366" y="417"/>
                  </a:lnTo>
                  <a:lnTo>
                    <a:pt x="378" y="407"/>
                  </a:lnTo>
                  <a:lnTo>
                    <a:pt x="387" y="398"/>
                  </a:lnTo>
                  <a:lnTo>
                    <a:pt x="399" y="388"/>
                  </a:lnTo>
                  <a:lnTo>
                    <a:pt x="409" y="377"/>
                  </a:lnTo>
                  <a:lnTo>
                    <a:pt x="416" y="367"/>
                  </a:lnTo>
                  <a:lnTo>
                    <a:pt x="424" y="354"/>
                  </a:lnTo>
                  <a:lnTo>
                    <a:pt x="432" y="342"/>
                  </a:lnTo>
                  <a:lnTo>
                    <a:pt x="439" y="331"/>
                  </a:lnTo>
                  <a:lnTo>
                    <a:pt x="445" y="317"/>
                  </a:lnTo>
                  <a:lnTo>
                    <a:pt x="449" y="304"/>
                  </a:lnTo>
                  <a:lnTo>
                    <a:pt x="453" y="288"/>
                  </a:lnTo>
                  <a:lnTo>
                    <a:pt x="457" y="275"/>
                  </a:lnTo>
                  <a:lnTo>
                    <a:pt x="458" y="260"/>
                  </a:lnTo>
                  <a:lnTo>
                    <a:pt x="460" y="244"/>
                  </a:lnTo>
                  <a:lnTo>
                    <a:pt x="460" y="229"/>
                  </a:lnTo>
                  <a:lnTo>
                    <a:pt x="460" y="229"/>
                  </a:lnTo>
                  <a:lnTo>
                    <a:pt x="460" y="215"/>
                  </a:lnTo>
                  <a:lnTo>
                    <a:pt x="458" y="200"/>
                  </a:lnTo>
                  <a:lnTo>
                    <a:pt x="457" y="185"/>
                  </a:lnTo>
                  <a:lnTo>
                    <a:pt x="453" y="171"/>
                  </a:lnTo>
                  <a:lnTo>
                    <a:pt x="449" y="158"/>
                  </a:lnTo>
                  <a:lnTo>
                    <a:pt x="445" y="144"/>
                  </a:lnTo>
                  <a:lnTo>
                    <a:pt x="439" y="131"/>
                  </a:lnTo>
                  <a:lnTo>
                    <a:pt x="432" y="118"/>
                  </a:lnTo>
                  <a:lnTo>
                    <a:pt x="424" y="106"/>
                  </a:lnTo>
                  <a:lnTo>
                    <a:pt x="416" y="94"/>
                  </a:lnTo>
                  <a:lnTo>
                    <a:pt x="409" y="83"/>
                  </a:lnTo>
                  <a:lnTo>
                    <a:pt x="399" y="71"/>
                  </a:lnTo>
                  <a:lnTo>
                    <a:pt x="387" y="62"/>
                  </a:lnTo>
                  <a:lnTo>
                    <a:pt x="378" y="52"/>
                  </a:lnTo>
                  <a:lnTo>
                    <a:pt x="366" y="45"/>
                  </a:lnTo>
                  <a:lnTo>
                    <a:pt x="355" y="37"/>
                  </a:lnTo>
                  <a:lnTo>
                    <a:pt x="343" y="29"/>
                  </a:lnTo>
                  <a:lnTo>
                    <a:pt x="330" y="22"/>
                  </a:lnTo>
                  <a:lnTo>
                    <a:pt x="316" y="16"/>
                  </a:lnTo>
                  <a:lnTo>
                    <a:pt x="303" y="12"/>
                  </a:lnTo>
                  <a:lnTo>
                    <a:pt x="290" y="8"/>
                  </a:lnTo>
                  <a:lnTo>
                    <a:pt x="274" y="4"/>
                  </a:lnTo>
                  <a:lnTo>
                    <a:pt x="261" y="2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199" y="2"/>
                  </a:lnTo>
                  <a:lnTo>
                    <a:pt x="186" y="4"/>
                  </a:lnTo>
                  <a:lnTo>
                    <a:pt x="171" y="8"/>
                  </a:lnTo>
                  <a:lnTo>
                    <a:pt x="157" y="12"/>
                  </a:lnTo>
                  <a:lnTo>
                    <a:pt x="144" y="16"/>
                  </a:lnTo>
                  <a:lnTo>
                    <a:pt x="130" y="22"/>
                  </a:lnTo>
                  <a:lnTo>
                    <a:pt x="119" y="29"/>
                  </a:lnTo>
                  <a:lnTo>
                    <a:pt x="105" y="37"/>
                  </a:lnTo>
                  <a:lnTo>
                    <a:pt x="94" y="45"/>
                  </a:lnTo>
                  <a:lnTo>
                    <a:pt x="82" y="52"/>
                  </a:lnTo>
                  <a:lnTo>
                    <a:pt x="73" y="62"/>
                  </a:lnTo>
                  <a:lnTo>
                    <a:pt x="63" y="71"/>
                  </a:lnTo>
                  <a:lnTo>
                    <a:pt x="53" y="83"/>
                  </a:lnTo>
                  <a:lnTo>
                    <a:pt x="44" y="94"/>
                  </a:lnTo>
                  <a:lnTo>
                    <a:pt x="36" y="106"/>
                  </a:lnTo>
                  <a:lnTo>
                    <a:pt x="28" y="118"/>
                  </a:lnTo>
                  <a:lnTo>
                    <a:pt x="23" y="131"/>
                  </a:lnTo>
                  <a:lnTo>
                    <a:pt x="17" y="144"/>
                  </a:lnTo>
                  <a:lnTo>
                    <a:pt x="11" y="158"/>
                  </a:lnTo>
                  <a:lnTo>
                    <a:pt x="7" y="171"/>
                  </a:lnTo>
                  <a:lnTo>
                    <a:pt x="4" y="185"/>
                  </a:lnTo>
                  <a:lnTo>
                    <a:pt x="2" y="200"/>
                  </a:lnTo>
                  <a:lnTo>
                    <a:pt x="0" y="215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2" y="260"/>
                  </a:lnTo>
                  <a:lnTo>
                    <a:pt x="4" y="275"/>
                  </a:lnTo>
                  <a:lnTo>
                    <a:pt x="7" y="288"/>
                  </a:lnTo>
                  <a:lnTo>
                    <a:pt x="11" y="304"/>
                  </a:lnTo>
                  <a:lnTo>
                    <a:pt x="17" y="317"/>
                  </a:lnTo>
                  <a:lnTo>
                    <a:pt x="23" y="331"/>
                  </a:lnTo>
                  <a:lnTo>
                    <a:pt x="28" y="342"/>
                  </a:lnTo>
                  <a:lnTo>
                    <a:pt x="36" y="354"/>
                  </a:lnTo>
                  <a:lnTo>
                    <a:pt x="44" y="367"/>
                  </a:lnTo>
                  <a:lnTo>
                    <a:pt x="53" y="377"/>
                  </a:lnTo>
                  <a:lnTo>
                    <a:pt x="63" y="388"/>
                  </a:lnTo>
                  <a:lnTo>
                    <a:pt x="73" y="398"/>
                  </a:lnTo>
                  <a:lnTo>
                    <a:pt x="82" y="407"/>
                  </a:lnTo>
                  <a:lnTo>
                    <a:pt x="94" y="417"/>
                  </a:lnTo>
                  <a:lnTo>
                    <a:pt x="105" y="425"/>
                  </a:lnTo>
                  <a:lnTo>
                    <a:pt x="119" y="432"/>
                  </a:lnTo>
                  <a:lnTo>
                    <a:pt x="130" y="438"/>
                  </a:lnTo>
                  <a:lnTo>
                    <a:pt x="144" y="444"/>
                  </a:lnTo>
                  <a:lnTo>
                    <a:pt x="157" y="450"/>
                  </a:lnTo>
                  <a:lnTo>
                    <a:pt x="171" y="453"/>
                  </a:lnTo>
                  <a:lnTo>
                    <a:pt x="186" y="457"/>
                  </a:lnTo>
                  <a:lnTo>
                    <a:pt x="199" y="459"/>
                  </a:lnTo>
                  <a:lnTo>
                    <a:pt x="215" y="459"/>
                  </a:lnTo>
                  <a:lnTo>
                    <a:pt x="230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 flipH="1">
              <a:off x="6971040" y="3610080"/>
              <a:ext cx="479520" cy="458280"/>
            </a:xfrm>
            <a:custGeom>
              <a:avLst/>
              <a:gdLst/>
              <a:ahLst/>
              <a:rect l="l" t="t" r="r" b="b"/>
              <a:pathLst>
                <a:path w="380" h="380">
                  <a:moveTo>
                    <a:pt x="190" y="380"/>
                  </a:moveTo>
                  <a:lnTo>
                    <a:pt x="203" y="378"/>
                  </a:lnTo>
                  <a:lnTo>
                    <a:pt x="218" y="376"/>
                  </a:lnTo>
                  <a:lnTo>
                    <a:pt x="232" y="374"/>
                  </a:lnTo>
                  <a:lnTo>
                    <a:pt x="247" y="370"/>
                  </a:lnTo>
                  <a:lnTo>
                    <a:pt x="259" y="367"/>
                  </a:lnTo>
                  <a:lnTo>
                    <a:pt x="272" y="361"/>
                  </a:lnTo>
                  <a:lnTo>
                    <a:pt x="286" y="353"/>
                  </a:lnTo>
                  <a:lnTo>
                    <a:pt x="297" y="345"/>
                  </a:lnTo>
                  <a:lnTo>
                    <a:pt x="309" y="338"/>
                  </a:lnTo>
                  <a:lnTo>
                    <a:pt x="318" y="328"/>
                  </a:lnTo>
                  <a:lnTo>
                    <a:pt x="328" y="319"/>
                  </a:lnTo>
                  <a:lnTo>
                    <a:pt x="337" y="309"/>
                  </a:lnTo>
                  <a:lnTo>
                    <a:pt x="345" y="297"/>
                  </a:lnTo>
                  <a:lnTo>
                    <a:pt x="353" y="286"/>
                  </a:lnTo>
                  <a:lnTo>
                    <a:pt x="360" y="272"/>
                  </a:lnTo>
                  <a:lnTo>
                    <a:pt x="366" y="259"/>
                  </a:lnTo>
                  <a:lnTo>
                    <a:pt x="370" y="246"/>
                  </a:lnTo>
                  <a:lnTo>
                    <a:pt x="374" y="232"/>
                  </a:lnTo>
                  <a:lnTo>
                    <a:pt x="376" y="219"/>
                  </a:lnTo>
                  <a:lnTo>
                    <a:pt x="378" y="203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78" y="175"/>
                  </a:lnTo>
                  <a:lnTo>
                    <a:pt x="376" y="159"/>
                  </a:lnTo>
                  <a:lnTo>
                    <a:pt x="374" y="146"/>
                  </a:lnTo>
                  <a:lnTo>
                    <a:pt x="370" y="132"/>
                  </a:lnTo>
                  <a:lnTo>
                    <a:pt x="366" y="119"/>
                  </a:lnTo>
                  <a:lnTo>
                    <a:pt x="360" y="105"/>
                  </a:lnTo>
                  <a:lnTo>
                    <a:pt x="353" y="94"/>
                  </a:lnTo>
                  <a:lnTo>
                    <a:pt x="345" y="81"/>
                  </a:lnTo>
                  <a:lnTo>
                    <a:pt x="337" y="71"/>
                  </a:lnTo>
                  <a:lnTo>
                    <a:pt x="328" y="59"/>
                  </a:lnTo>
                  <a:lnTo>
                    <a:pt x="318" y="50"/>
                  </a:lnTo>
                  <a:lnTo>
                    <a:pt x="309" y="40"/>
                  </a:lnTo>
                  <a:lnTo>
                    <a:pt x="297" y="33"/>
                  </a:lnTo>
                  <a:lnTo>
                    <a:pt x="286" y="25"/>
                  </a:lnTo>
                  <a:lnTo>
                    <a:pt x="272" y="19"/>
                  </a:lnTo>
                  <a:lnTo>
                    <a:pt x="259" y="13"/>
                  </a:lnTo>
                  <a:lnTo>
                    <a:pt x="247" y="8"/>
                  </a:lnTo>
                  <a:lnTo>
                    <a:pt x="232" y="4"/>
                  </a:lnTo>
                  <a:lnTo>
                    <a:pt x="218" y="2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4" y="0"/>
                  </a:lnTo>
                  <a:lnTo>
                    <a:pt x="159" y="2"/>
                  </a:lnTo>
                  <a:lnTo>
                    <a:pt x="145" y="4"/>
                  </a:lnTo>
                  <a:lnTo>
                    <a:pt x="132" y="8"/>
                  </a:lnTo>
                  <a:lnTo>
                    <a:pt x="119" y="13"/>
                  </a:lnTo>
                  <a:lnTo>
                    <a:pt x="105" y="19"/>
                  </a:lnTo>
                  <a:lnTo>
                    <a:pt x="94" y="25"/>
                  </a:lnTo>
                  <a:lnTo>
                    <a:pt x="80" y="33"/>
                  </a:lnTo>
                  <a:lnTo>
                    <a:pt x="71" y="40"/>
                  </a:lnTo>
                  <a:lnTo>
                    <a:pt x="59" y="50"/>
                  </a:lnTo>
                  <a:lnTo>
                    <a:pt x="49" y="59"/>
                  </a:lnTo>
                  <a:lnTo>
                    <a:pt x="40" y="71"/>
                  </a:lnTo>
                  <a:lnTo>
                    <a:pt x="32" y="81"/>
                  </a:lnTo>
                  <a:lnTo>
                    <a:pt x="25" y="94"/>
                  </a:lnTo>
                  <a:lnTo>
                    <a:pt x="19" y="105"/>
                  </a:lnTo>
                  <a:lnTo>
                    <a:pt x="13" y="119"/>
                  </a:lnTo>
                  <a:lnTo>
                    <a:pt x="7" y="132"/>
                  </a:lnTo>
                  <a:lnTo>
                    <a:pt x="3" y="146"/>
                  </a:lnTo>
                  <a:lnTo>
                    <a:pt x="1" y="159"/>
                  </a:lnTo>
                  <a:lnTo>
                    <a:pt x="0" y="175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203"/>
                  </a:lnTo>
                  <a:lnTo>
                    <a:pt x="1" y="219"/>
                  </a:lnTo>
                  <a:lnTo>
                    <a:pt x="3" y="232"/>
                  </a:lnTo>
                  <a:lnTo>
                    <a:pt x="7" y="246"/>
                  </a:lnTo>
                  <a:lnTo>
                    <a:pt x="13" y="259"/>
                  </a:lnTo>
                  <a:lnTo>
                    <a:pt x="19" y="272"/>
                  </a:lnTo>
                  <a:lnTo>
                    <a:pt x="25" y="286"/>
                  </a:lnTo>
                  <a:lnTo>
                    <a:pt x="32" y="297"/>
                  </a:lnTo>
                  <a:lnTo>
                    <a:pt x="40" y="309"/>
                  </a:lnTo>
                  <a:lnTo>
                    <a:pt x="49" y="319"/>
                  </a:lnTo>
                  <a:lnTo>
                    <a:pt x="59" y="328"/>
                  </a:lnTo>
                  <a:lnTo>
                    <a:pt x="71" y="338"/>
                  </a:lnTo>
                  <a:lnTo>
                    <a:pt x="80" y="345"/>
                  </a:lnTo>
                  <a:lnTo>
                    <a:pt x="94" y="353"/>
                  </a:lnTo>
                  <a:lnTo>
                    <a:pt x="105" y="361"/>
                  </a:lnTo>
                  <a:lnTo>
                    <a:pt x="119" y="367"/>
                  </a:lnTo>
                  <a:lnTo>
                    <a:pt x="132" y="370"/>
                  </a:lnTo>
                  <a:lnTo>
                    <a:pt x="145" y="374"/>
                  </a:lnTo>
                  <a:lnTo>
                    <a:pt x="159" y="376"/>
                  </a:lnTo>
                  <a:lnTo>
                    <a:pt x="174" y="378"/>
                  </a:lnTo>
                  <a:lnTo>
                    <a:pt x="190" y="38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 flipH="1">
              <a:off x="6556680" y="3433680"/>
              <a:ext cx="150120" cy="583920"/>
            </a:xfrm>
            <a:custGeom>
              <a:avLst/>
              <a:gdLst/>
              <a:ahLst/>
              <a:rect l="l" t="t" r="r" b="b"/>
              <a:pathLst>
                <a:path w="119" h="484">
                  <a:moveTo>
                    <a:pt x="96" y="484"/>
                  </a:moveTo>
                  <a:lnTo>
                    <a:pt x="105" y="445"/>
                  </a:lnTo>
                  <a:lnTo>
                    <a:pt x="113" y="409"/>
                  </a:lnTo>
                  <a:lnTo>
                    <a:pt x="117" y="371"/>
                  </a:lnTo>
                  <a:lnTo>
                    <a:pt x="119" y="330"/>
                  </a:lnTo>
                  <a:lnTo>
                    <a:pt x="119" y="330"/>
                  </a:lnTo>
                  <a:lnTo>
                    <a:pt x="117" y="294"/>
                  </a:lnTo>
                  <a:lnTo>
                    <a:pt x="113" y="257"/>
                  </a:lnTo>
                  <a:lnTo>
                    <a:pt x="107" y="221"/>
                  </a:lnTo>
                  <a:lnTo>
                    <a:pt x="98" y="186"/>
                  </a:lnTo>
                  <a:lnTo>
                    <a:pt x="86" y="152"/>
                  </a:lnTo>
                  <a:lnTo>
                    <a:pt x="73" y="119"/>
                  </a:lnTo>
                  <a:lnTo>
                    <a:pt x="57" y="86"/>
                  </a:lnTo>
                  <a:lnTo>
                    <a:pt x="40" y="58"/>
                  </a:lnTo>
                  <a:lnTo>
                    <a:pt x="21" y="2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 flipH="1">
              <a:off x="6027480" y="3670560"/>
              <a:ext cx="5450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5934600" y="3030840"/>
              <a:ext cx="2102040" cy="1583640"/>
            </a:xfrm>
            <a:custGeom>
              <a:avLst/>
              <a:gdLst/>
              <a:ahLst/>
              <a:rect l="l" t="t" r="r" b="b"/>
              <a:pathLst>
                <a:path w="1666" h="1313">
                  <a:moveTo>
                    <a:pt x="1417" y="1188"/>
                  </a:moveTo>
                  <a:lnTo>
                    <a:pt x="1401" y="1198"/>
                  </a:lnTo>
                  <a:lnTo>
                    <a:pt x="1386" y="1207"/>
                  </a:lnTo>
                  <a:lnTo>
                    <a:pt x="1371" y="1217"/>
                  </a:lnTo>
                  <a:lnTo>
                    <a:pt x="1353" y="1225"/>
                  </a:lnTo>
                  <a:lnTo>
                    <a:pt x="1338" y="1234"/>
                  </a:lnTo>
                  <a:lnTo>
                    <a:pt x="1323" y="1242"/>
                  </a:lnTo>
                  <a:lnTo>
                    <a:pt x="1307" y="1248"/>
                  </a:lnTo>
                  <a:lnTo>
                    <a:pt x="1290" y="1255"/>
                  </a:lnTo>
                  <a:lnTo>
                    <a:pt x="1275" y="1261"/>
                  </a:lnTo>
                  <a:lnTo>
                    <a:pt x="1259" y="1267"/>
                  </a:lnTo>
                  <a:lnTo>
                    <a:pt x="1244" y="1273"/>
                  </a:lnTo>
                  <a:lnTo>
                    <a:pt x="1229" y="1277"/>
                  </a:lnTo>
                  <a:lnTo>
                    <a:pt x="1211" y="1282"/>
                  </a:lnTo>
                  <a:lnTo>
                    <a:pt x="1196" y="1286"/>
                  </a:lnTo>
                  <a:lnTo>
                    <a:pt x="1183" y="1290"/>
                  </a:lnTo>
                  <a:lnTo>
                    <a:pt x="1167" y="1294"/>
                  </a:lnTo>
                  <a:lnTo>
                    <a:pt x="1152" y="1296"/>
                  </a:lnTo>
                  <a:lnTo>
                    <a:pt x="1138" y="1300"/>
                  </a:lnTo>
                  <a:lnTo>
                    <a:pt x="1123" y="1301"/>
                  </a:lnTo>
                  <a:lnTo>
                    <a:pt x="1110" y="1303"/>
                  </a:lnTo>
                  <a:lnTo>
                    <a:pt x="1096" y="1305"/>
                  </a:lnTo>
                  <a:lnTo>
                    <a:pt x="1083" y="1307"/>
                  </a:lnTo>
                  <a:lnTo>
                    <a:pt x="1071" y="1309"/>
                  </a:lnTo>
                  <a:lnTo>
                    <a:pt x="1060" y="1311"/>
                  </a:lnTo>
                  <a:lnTo>
                    <a:pt x="1048" y="1311"/>
                  </a:lnTo>
                  <a:lnTo>
                    <a:pt x="1037" y="1313"/>
                  </a:lnTo>
                  <a:lnTo>
                    <a:pt x="1025" y="1313"/>
                  </a:lnTo>
                  <a:lnTo>
                    <a:pt x="1015" y="1313"/>
                  </a:lnTo>
                  <a:lnTo>
                    <a:pt x="1006" y="1313"/>
                  </a:lnTo>
                  <a:lnTo>
                    <a:pt x="998" y="1313"/>
                  </a:lnTo>
                  <a:lnTo>
                    <a:pt x="991" y="1313"/>
                  </a:lnTo>
                  <a:lnTo>
                    <a:pt x="991" y="1313"/>
                  </a:lnTo>
                  <a:lnTo>
                    <a:pt x="864" y="1313"/>
                  </a:lnTo>
                  <a:lnTo>
                    <a:pt x="729" y="1313"/>
                  </a:lnTo>
                  <a:lnTo>
                    <a:pt x="668" y="1313"/>
                  </a:lnTo>
                  <a:lnTo>
                    <a:pt x="668" y="1313"/>
                  </a:lnTo>
                  <a:lnTo>
                    <a:pt x="639" y="1313"/>
                  </a:lnTo>
                  <a:lnTo>
                    <a:pt x="612" y="1311"/>
                  </a:lnTo>
                  <a:lnTo>
                    <a:pt x="584" y="1309"/>
                  </a:lnTo>
                  <a:lnTo>
                    <a:pt x="557" y="1305"/>
                  </a:lnTo>
                  <a:lnTo>
                    <a:pt x="530" y="1300"/>
                  </a:lnTo>
                  <a:lnTo>
                    <a:pt x="503" y="1294"/>
                  </a:lnTo>
                  <a:lnTo>
                    <a:pt x="478" y="1286"/>
                  </a:lnTo>
                  <a:lnTo>
                    <a:pt x="451" y="1278"/>
                  </a:lnTo>
                  <a:lnTo>
                    <a:pt x="426" y="1269"/>
                  </a:lnTo>
                  <a:lnTo>
                    <a:pt x="401" y="1259"/>
                  </a:lnTo>
                  <a:lnTo>
                    <a:pt x="378" y="1248"/>
                  </a:lnTo>
                  <a:lnTo>
                    <a:pt x="353" y="1236"/>
                  </a:lnTo>
                  <a:lnTo>
                    <a:pt x="330" y="1223"/>
                  </a:lnTo>
                  <a:lnTo>
                    <a:pt x="307" y="1209"/>
                  </a:lnTo>
                  <a:lnTo>
                    <a:pt x="286" y="1194"/>
                  </a:lnTo>
                  <a:lnTo>
                    <a:pt x="265" y="1179"/>
                  </a:lnTo>
                  <a:lnTo>
                    <a:pt x="244" y="1163"/>
                  </a:lnTo>
                  <a:lnTo>
                    <a:pt x="225" y="1146"/>
                  </a:lnTo>
                  <a:lnTo>
                    <a:pt x="205" y="1127"/>
                  </a:lnTo>
                  <a:lnTo>
                    <a:pt x="186" y="1110"/>
                  </a:lnTo>
                  <a:lnTo>
                    <a:pt x="169" y="1090"/>
                  </a:lnTo>
                  <a:lnTo>
                    <a:pt x="152" y="1069"/>
                  </a:lnTo>
                  <a:lnTo>
                    <a:pt x="134" y="1048"/>
                  </a:lnTo>
                  <a:lnTo>
                    <a:pt x="119" y="1027"/>
                  </a:lnTo>
                  <a:lnTo>
                    <a:pt x="104" y="1006"/>
                  </a:lnTo>
                  <a:lnTo>
                    <a:pt x="90" y="983"/>
                  </a:lnTo>
                  <a:lnTo>
                    <a:pt x="79" y="960"/>
                  </a:lnTo>
                  <a:lnTo>
                    <a:pt x="65" y="937"/>
                  </a:lnTo>
                  <a:lnTo>
                    <a:pt x="54" y="912"/>
                  </a:lnTo>
                  <a:lnTo>
                    <a:pt x="44" y="887"/>
                  </a:lnTo>
                  <a:lnTo>
                    <a:pt x="35" y="862"/>
                  </a:lnTo>
                  <a:lnTo>
                    <a:pt x="27" y="837"/>
                  </a:lnTo>
                  <a:lnTo>
                    <a:pt x="19" y="810"/>
                  </a:lnTo>
                  <a:lnTo>
                    <a:pt x="13" y="783"/>
                  </a:lnTo>
                  <a:lnTo>
                    <a:pt x="8" y="756"/>
                  </a:lnTo>
                  <a:lnTo>
                    <a:pt x="4" y="729"/>
                  </a:lnTo>
                  <a:lnTo>
                    <a:pt x="2" y="703"/>
                  </a:lnTo>
                  <a:lnTo>
                    <a:pt x="0" y="674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0" y="622"/>
                  </a:lnTo>
                  <a:lnTo>
                    <a:pt x="2" y="599"/>
                  </a:lnTo>
                  <a:lnTo>
                    <a:pt x="4" y="574"/>
                  </a:lnTo>
                  <a:lnTo>
                    <a:pt x="6" y="551"/>
                  </a:lnTo>
                  <a:lnTo>
                    <a:pt x="10" y="528"/>
                  </a:lnTo>
                  <a:lnTo>
                    <a:pt x="13" y="507"/>
                  </a:lnTo>
                  <a:lnTo>
                    <a:pt x="19" y="484"/>
                  </a:lnTo>
                  <a:lnTo>
                    <a:pt x="25" y="461"/>
                  </a:lnTo>
                  <a:lnTo>
                    <a:pt x="33" y="440"/>
                  </a:lnTo>
                  <a:lnTo>
                    <a:pt x="40" y="418"/>
                  </a:lnTo>
                  <a:lnTo>
                    <a:pt x="48" y="397"/>
                  </a:lnTo>
                  <a:lnTo>
                    <a:pt x="56" y="376"/>
                  </a:lnTo>
                  <a:lnTo>
                    <a:pt x="65" y="357"/>
                  </a:lnTo>
                  <a:lnTo>
                    <a:pt x="77" y="336"/>
                  </a:lnTo>
                  <a:lnTo>
                    <a:pt x="86" y="317"/>
                  </a:lnTo>
                  <a:lnTo>
                    <a:pt x="98" y="298"/>
                  </a:lnTo>
                  <a:lnTo>
                    <a:pt x="109" y="278"/>
                  </a:lnTo>
                  <a:lnTo>
                    <a:pt x="123" y="261"/>
                  </a:lnTo>
                  <a:lnTo>
                    <a:pt x="136" y="242"/>
                  </a:lnTo>
                  <a:lnTo>
                    <a:pt x="150" y="225"/>
                  </a:lnTo>
                  <a:lnTo>
                    <a:pt x="165" y="209"/>
                  </a:lnTo>
                  <a:lnTo>
                    <a:pt x="179" y="192"/>
                  </a:lnTo>
                  <a:lnTo>
                    <a:pt x="194" y="177"/>
                  </a:lnTo>
                  <a:lnTo>
                    <a:pt x="211" y="161"/>
                  </a:lnTo>
                  <a:lnTo>
                    <a:pt x="227" y="146"/>
                  </a:lnTo>
                  <a:lnTo>
                    <a:pt x="244" y="131"/>
                  </a:lnTo>
                  <a:lnTo>
                    <a:pt x="261" y="117"/>
                  </a:lnTo>
                  <a:lnTo>
                    <a:pt x="280" y="104"/>
                  </a:lnTo>
                  <a:lnTo>
                    <a:pt x="298" y="92"/>
                  </a:lnTo>
                  <a:lnTo>
                    <a:pt x="317" y="81"/>
                  </a:lnTo>
                  <a:lnTo>
                    <a:pt x="336" y="69"/>
                  </a:lnTo>
                  <a:lnTo>
                    <a:pt x="355" y="58"/>
                  </a:lnTo>
                  <a:lnTo>
                    <a:pt x="374" y="48"/>
                  </a:lnTo>
                  <a:lnTo>
                    <a:pt x="395" y="38"/>
                  </a:lnTo>
                  <a:lnTo>
                    <a:pt x="417" y="29"/>
                  </a:lnTo>
                  <a:lnTo>
                    <a:pt x="438" y="21"/>
                  </a:lnTo>
                  <a:lnTo>
                    <a:pt x="459" y="13"/>
                  </a:lnTo>
                  <a:lnTo>
                    <a:pt x="480" y="6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07" y="10"/>
                  </a:lnTo>
                  <a:lnTo>
                    <a:pt x="511" y="17"/>
                  </a:lnTo>
                  <a:lnTo>
                    <a:pt x="511" y="27"/>
                  </a:lnTo>
                  <a:lnTo>
                    <a:pt x="511" y="37"/>
                  </a:lnTo>
                  <a:lnTo>
                    <a:pt x="507" y="44"/>
                  </a:lnTo>
                  <a:lnTo>
                    <a:pt x="505" y="52"/>
                  </a:lnTo>
                  <a:lnTo>
                    <a:pt x="499" y="61"/>
                  </a:lnTo>
                  <a:lnTo>
                    <a:pt x="493" y="69"/>
                  </a:lnTo>
                  <a:lnTo>
                    <a:pt x="486" y="75"/>
                  </a:lnTo>
                  <a:lnTo>
                    <a:pt x="478" y="83"/>
                  </a:lnTo>
                  <a:lnTo>
                    <a:pt x="468" y="88"/>
                  </a:lnTo>
                  <a:lnTo>
                    <a:pt x="461" y="94"/>
                  </a:lnTo>
                  <a:lnTo>
                    <a:pt x="449" y="98"/>
                  </a:lnTo>
                  <a:lnTo>
                    <a:pt x="449" y="98"/>
                  </a:lnTo>
                  <a:lnTo>
                    <a:pt x="434" y="106"/>
                  </a:lnTo>
                  <a:lnTo>
                    <a:pt x="418" y="113"/>
                  </a:lnTo>
                  <a:lnTo>
                    <a:pt x="403" y="123"/>
                  </a:lnTo>
                  <a:lnTo>
                    <a:pt x="388" y="131"/>
                  </a:lnTo>
                  <a:lnTo>
                    <a:pt x="372" y="140"/>
                  </a:lnTo>
                  <a:lnTo>
                    <a:pt x="357" y="150"/>
                  </a:lnTo>
                  <a:lnTo>
                    <a:pt x="344" y="159"/>
                  </a:lnTo>
                  <a:lnTo>
                    <a:pt x="330" y="171"/>
                  </a:lnTo>
                  <a:lnTo>
                    <a:pt x="315" y="180"/>
                  </a:lnTo>
                  <a:lnTo>
                    <a:pt x="301" y="192"/>
                  </a:lnTo>
                  <a:lnTo>
                    <a:pt x="288" y="204"/>
                  </a:lnTo>
                  <a:lnTo>
                    <a:pt x="276" y="215"/>
                  </a:lnTo>
                  <a:lnTo>
                    <a:pt x="263" y="228"/>
                  </a:lnTo>
                  <a:lnTo>
                    <a:pt x="251" y="240"/>
                  </a:lnTo>
                  <a:lnTo>
                    <a:pt x="240" y="253"/>
                  </a:lnTo>
                  <a:lnTo>
                    <a:pt x="228" y="267"/>
                  </a:lnTo>
                  <a:lnTo>
                    <a:pt x="217" y="280"/>
                  </a:lnTo>
                  <a:lnTo>
                    <a:pt x="207" y="294"/>
                  </a:lnTo>
                  <a:lnTo>
                    <a:pt x="198" y="309"/>
                  </a:lnTo>
                  <a:lnTo>
                    <a:pt x="186" y="323"/>
                  </a:lnTo>
                  <a:lnTo>
                    <a:pt x="179" y="338"/>
                  </a:lnTo>
                  <a:lnTo>
                    <a:pt x="169" y="353"/>
                  </a:lnTo>
                  <a:lnTo>
                    <a:pt x="161" y="369"/>
                  </a:lnTo>
                  <a:lnTo>
                    <a:pt x="152" y="384"/>
                  </a:lnTo>
                  <a:lnTo>
                    <a:pt x="144" y="399"/>
                  </a:lnTo>
                  <a:lnTo>
                    <a:pt x="138" y="417"/>
                  </a:lnTo>
                  <a:lnTo>
                    <a:pt x="131" y="432"/>
                  </a:lnTo>
                  <a:lnTo>
                    <a:pt x="125" y="449"/>
                  </a:lnTo>
                  <a:lnTo>
                    <a:pt x="119" y="466"/>
                  </a:lnTo>
                  <a:lnTo>
                    <a:pt x="113" y="484"/>
                  </a:lnTo>
                  <a:lnTo>
                    <a:pt x="109" y="501"/>
                  </a:lnTo>
                  <a:lnTo>
                    <a:pt x="106" y="518"/>
                  </a:lnTo>
                  <a:lnTo>
                    <a:pt x="102" y="536"/>
                  </a:lnTo>
                  <a:lnTo>
                    <a:pt x="98" y="555"/>
                  </a:lnTo>
                  <a:lnTo>
                    <a:pt x="96" y="572"/>
                  </a:lnTo>
                  <a:lnTo>
                    <a:pt x="94" y="591"/>
                  </a:lnTo>
                  <a:lnTo>
                    <a:pt x="92" y="609"/>
                  </a:lnTo>
                  <a:lnTo>
                    <a:pt x="92" y="628"/>
                  </a:lnTo>
                  <a:lnTo>
                    <a:pt x="92" y="647"/>
                  </a:lnTo>
                  <a:lnTo>
                    <a:pt x="92" y="647"/>
                  </a:lnTo>
                  <a:lnTo>
                    <a:pt x="92" y="672"/>
                  </a:lnTo>
                  <a:lnTo>
                    <a:pt x="94" y="697"/>
                  </a:lnTo>
                  <a:lnTo>
                    <a:pt x="96" y="722"/>
                  </a:lnTo>
                  <a:lnTo>
                    <a:pt x="100" y="745"/>
                  </a:lnTo>
                  <a:lnTo>
                    <a:pt x="104" y="770"/>
                  </a:lnTo>
                  <a:lnTo>
                    <a:pt x="109" y="793"/>
                  </a:lnTo>
                  <a:lnTo>
                    <a:pt x="115" y="816"/>
                  </a:lnTo>
                  <a:lnTo>
                    <a:pt x="123" y="839"/>
                  </a:lnTo>
                  <a:lnTo>
                    <a:pt x="131" y="862"/>
                  </a:lnTo>
                  <a:lnTo>
                    <a:pt x="140" y="885"/>
                  </a:lnTo>
                  <a:lnTo>
                    <a:pt x="150" y="906"/>
                  </a:lnTo>
                  <a:lnTo>
                    <a:pt x="161" y="927"/>
                  </a:lnTo>
                  <a:lnTo>
                    <a:pt x="173" y="948"/>
                  </a:lnTo>
                  <a:lnTo>
                    <a:pt x="184" y="967"/>
                  </a:lnTo>
                  <a:lnTo>
                    <a:pt x="198" y="987"/>
                  </a:lnTo>
                  <a:lnTo>
                    <a:pt x="211" y="1006"/>
                  </a:lnTo>
                  <a:lnTo>
                    <a:pt x="227" y="1025"/>
                  </a:lnTo>
                  <a:lnTo>
                    <a:pt x="242" y="1042"/>
                  </a:lnTo>
                  <a:lnTo>
                    <a:pt x="257" y="1060"/>
                  </a:lnTo>
                  <a:lnTo>
                    <a:pt x="275" y="1077"/>
                  </a:lnTo>
                  <a:lnTo>
                    <a:pt x="292" y="1092"/>
                  </a:lnTo>
                  <a:lnTo>
                    <a:pt x="309" y="1108"/>
                  </a:lnTo>
                  <a:lnTo>
                    <a:pt x="328" y="1123"/>
                  </a:lnTo>
                  <a:lnTo>
                    <a:pt x="347" y="1136"/>
                  </a:lnTo>
                  <a:lnTo>
                    <a:pt x="367" y="1150"/>
                  </a:lnTo>
                  <a:lnTo>
                    <a:pt x="386" y="1161"/>
                  </a:lnTo>
                  <a:lnTo>
                    <a:pt x="407" y="1173"/>
                  </a:lnTo>
                  <a:lnTo>
                    <a:pt x="428" y="1184"/>
                  </a:lnTo>
                  <a:lnTo>
                    <a:pt x="449" y="1194"/>
                  </a:lnTo>
                  <a:lnTo>
                    <a:pt x="472" y="1202"/>
                  </a:lnTo>
                  <a:lnTo>
                    <a:pt x="495" y="1211"/>
                  </a:lnTo>
                  <a:lnTo>
                    <a:pt x="518" y="1219"/>
                  </a:lnTo>
                  <a:lnTo>
                    <a:pt x="541" y="1225"/>
                  </a:lnTo>
                  <a:lnTo>
                    <a:pt x="564" y="1230"/>
                  </a:lnTo>
                  <a:lnTo>
                    <a:pt x="589" y="1234"/>
                  </a:lnTo>
                  <a:lnTo>
                    <a:pt x="612" y="1238"/>
                  </a:lnTo>
                  <a:lnTo>
                    <a:pt x="637" y="1240"/>
                  </a:lnTo>
                  <a:lnTo>
                    <a:pt x="662" y="1242"/>
                  </a:lnTo>
                  <a:lnTo>
                    <a:pt x="687" y="1242"/>
                  </a:lnTo>
                  <a:lnTo>
                    <a:pt x="687" y="1242"/>
                  </a:lnTo>
                  <a:lnTo>
                    <a:pt x="743" y="1242"/>
                  </a:lnTo>
                  <a:lnTo>
                    <a:pt x="862" y="1242"/>
                  </a:lnTo>
                  <a:lnTo>
                    <a:pt x="975" y="1242"/>
                  </a:lnTo>
                  <a:lnTo>
                    <a:pt x="975" y="1242"/>
                  </a:lnTo>
                  <a:lnTo>
                    <a:pt x="1042" y="1238"/>
                  </a:lnTo>
                  <a:lnTo>
                    <a:pt x="1138" y="1223"/>
                  </a:lnTo>
                  <a:lnTo>
                    <a:pt x="1248" y="1192"/>
                  </a:lnTo>
                  <a:lnTo>
                    <a:pt x="1357" y="1138"/>
                  </a:lnTo>
                  <a:lnTo>
                    <a:pt x="1455" y="1058"/>
                  </a:lnTo>
                  <a:lnTo>
                    <a:pt x="1455" y="1058"/>
                  </a:lnTo>
                  <a:lnTo>
                    <a:pt x="1465" y="1046"/>
                  </a:lnTo>
                  <a:lnTo>
                    <a:pt x="1476" y="1035"/>
                  </a:lnTo>
                  <a:lnTo>
                    <a:pt x="1486" y="1025"/>
                  </a:lnTo>
                  <a:lnTo>
                    <a:pt x="1493" y="1014"/>
                  </a:lnTo>
                  <a:lnTo>
                    <a:pt x="1503" y="1004"/>
                  </a:lnTo>
                  <a:lnTo>
                    <a:pt x="1511" y="992"/>
                  </a:lnTo>
                  <a:lnTo>
                    <a:pt x="1520" y="983"/>
                  </a:lnTo>
                  <a:lnTo>
                    <a:pt x="1528" y="973"/>
                  </a:lnTo>
                  <a:lnTo>
                    <a:pt x="1536" y="962"/>
                  </a:lnTo>
                  <a:lnTo>
                    <a:pt x="1543" y="952"/>
                  </a:lnTo>
                  <a:lnTo>
                    <a:pt x="1549" y="943"/>
                  </a:lnTo>
                  <a:lnTo>
                    <a:pt x="1557" y="933"/>
                  </a:lnTo>
                  <a:lnTo>
                    <a:pt x="1563" y="923"/>
                  </a:lnTo>
                  <a:lnTo>
                    <a:pt x="1570" y="914"/>
                  </a:lnTo>
                  <a:lnTo>
                    <a:pt x="1576" y="904"/>
                  </a:lnTo>
                  <a:lnTo>
                    <a:pt x="1582" y="896"/>
                  </a:lnTo>
                  <a:lnTo>
                    <a:pt x="1588" y="887"/>
                  </a:lnTo>
                  <a:lnTo>
                    <a:pt x="1593" y="877"/>
                  </a:lnTo>
                  <a:lnTo>
                    <a:pt x="1597" y="870"/>
                  </a:lnTo>
                  <a:lnTo>
                    <a:pt x="1603" y="862"/>
                  </a:lnTo>
                  <a:lnTo>
                    <a:pt x="1607" y="852"/>
                  </a:lnTo>
                  <a:lnTo>
                    <a:pt x="1613" y="845"/>
                  </a:lnTo>
                  <a:lnTo>
                    <a:pt x="1616" y="837"/>
                  </a:lnTo>
                  <a:lnTo>
                    <a:pt x="1620" y="829"/>
                  </a:lnTo>
                  <a:lnTo>
                    <a:pt x="1624" y="822"/>
                  </a:lnTo>
                  <a:lnTo>
                    <a:pt x="1628" y="814"/>
                  </a:lnTo>
                  <a:lnTo>
                    <a:pt x="1632" y="806"/>
                  </a:lnTo>
                  <a:lnTo>
                    <a:pt x="1636" y="799"/>
                  </a:lnTo>
                  <a:lnTo>
                    <a:pt x="1639" y="791"/>
                  </a:lnTo>
                  <a:lnTo>
                    <a:pt x="1643" y="785"/>
                  </a:lnTo>
                  <a:lnTo>
                    <a:pt x="1645" y="777"/>
                  </a:lnTo>
                  <a:lnTo>
                    <a:pt x="1649" y="772"/>
                  </a:lnTo>
                  <a:lnTo>
                    <a:pt x="1651" y="764"/>
                  </a:lnTo>
                  <a:lnTo>
                    <a:pt x="1655" y="758"/>
                  </a:lnTo>
                  <a:lnTo>
                    <a:pt x="1657" y="752"/>
                  </a:lnTo>
                  <a:lnTo>
                    <a:pt x="1660" y="747"/>
                  </a:lnTo>
                  <a:lnTo>
                    <a:pt x="1662" y="741"/>
                  </a:lnTo>
                  <a:lnTo>
                    <a:pt x="1664" y="735"/>
                  </a:lnTo>
                  <a:lnTo>
                    <a:pt x="1666" y="729"/>
                  </a:lnTo>
                  <a:lnTo>
                    <a:pt x="1666" y="729"/>
                  </a:lnTo>
                  <a:lnTo>
                    <a:pt x="1662" y="747"/>
                  </a:lnTo>
                  <a:lnTo>
                    <a:pt x="1657" y="766"/>
                  </a:lnTo>
                  <a:lnTo>
                    <a:pt x="1653" y="781"/>
                  </a:lnTo>
                  <a:lnTo>
                    <a:pt x="1647" y="799"/>
                  </a:lnTo>
                  <a:lnTo>
                    <a:pt x="1641" y="816"/>
                  </a:lnTo>
                  <a:lnTo>
                    <a:pt x="1634" y="833"/>
                  </a:lnTo>
                  <a:lnTo>
                    <a:pt x="1628" y="848"/>
                  </a:lnTo>
                  <a:lnTo>
                    <a:pt x="1622" y="864"/>
                  </a:lnTo>
                  <a:lnTo>
                    <a:pt x="1614" y="879"/>
                  </a:lnTo>
                  <a:lnTo>
                    <a:pt x="1607" y="895"/>
                  </a:lnTo>
                  <a:lnTo>
                    <a:pt x="1601" y="910"/>
                  </a:lnTo>
                  <a:lnTo>
                    <a:pt x="1593" y="925"/>
                  </a:lnTo>
                  <a:lnTo>
                    <a:pt x="1586" y="939"/>
                  </a:lnTo>
                  <a:lnTo>
                    <a:pt x="1578" y="954"/>
                  </a:lnTo>
                  <a:lnTo>
                    <a:pt x="1570" y="967"/>
                  </a:lnTo>
                  <a:lnTo>
                    <a:pt x="1563" y="981"/>
                  </a:lnTo>
                  <a:lnTo>
                    <a:pt x="1555" y="994"/>
                  </a:lnTo>
                  <a:lnTo>
                    <a:pt x="1547" y="1006"/>
                  </a:lnTo>
                  <a:lnTo>
                    <a:pt x="1540" y="1019"/>
                  </a:lnTo>
                  <a:lnTo>
                    <a:pt x="1532" y="1031"/>
                  </a:lnTo>
                  <a:lnTo>
                    <a:pt x="1524" y="1042"/>
                  </a:lnTo>
                  <a:lnTo>
                    <a:pt x="1517" y="1054"/>
                  </a:lnTo>
                  <a:lnTo>
                    <a:pt x="1509" y="1065"/>
                  </a:lnTo>
                  <a:lnTo>
                    <a:pt x="1501" y="1077"/>
                  </a:lnTo>
                  <a:lnTo>
                    <a:pt x="1495" y="1086"/>
                  </a:lnTo>
                  <a:lnTo>
                    <a:pt x="1488" y="1096"/>
                  </a:lnTo>
                  <a:lnTo>
                    <a:pt x="1480" y="1106"/>
                  </a:lnTo>
                  <a:lnTo>
                    <a:pt x="1474" y="1115"/>
                  </a:lnTo>
                  <a:lnTo>
                    <a:pt x="1467" y="1123"/>
                  </a:lnTo>
                  <a:lnTo>
                    <a:pt x="1461" y="1133"/>
                  </a:lnTo>
                  <a:lnTo>
                    <a:pt x="1455" y="1140"/>
                  </a:lnTo>
                  <a:lnTo>
                    <a:pt x="1449" y="1148"/>
                  </a:lnTo>
                  <a:lnTo>
                    <a:pt x="1444" y="1154"/>
                  </a:lnTo>
                  <a:lnTo>
                    <a:pt x="1438" y="1161"/>
                  </a:lnTo>
                  <a:lnTo>
                    <a:pt x="1432" y="1167"/>
                  </a:lnTo>
                  <a:lnTo>
                    <a:pt x="1428" y="1173"/>
                  </a:lnTo>
                  <a:lnTo>
                    <a:pt x="1424" y="1179"/>
                  </a:lnTo>
                  <a:lnTo>
                    <a:pt x="1421" y="1182"/>
                  </a:lnTo>
                  <a:lnTo>
                    <a:pt x="1417" y="1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7" name=""/>
          <p:cNvGrpSpPr/>
          <p:nvPr/>
        </p:nvGrpSpPr>
        <p:grpSpPr>
          <a:xfrm>
            <a:off x="1143360" y="3005280"/>
            <a:ext cx="2169720" cy="1609200"/>
            <a:chOff x="1143360" y="3005280"/>
            <a:chExt cx="2169720" cy="1609200"/>
          </a:xfrm>
        </p:grpSpPr>
        <p:sp>
          <p:nvSpPr>
            <p:cNvPr id="7048" name=""/>
            <p:cNvSpPr/>
            <p:nvPr/>
          </p:nvSpPr>
          <p:spPr>
            <a:xfrm flipH="1">
              <a:off x="1143360" y="3284640"/>
              <a:ext cx="2162880" cy="1316880"/>
            </a:xfrm>
            <a:custGeom>
              <a:avLst/>
              <a:gdLst/>
              <a:ahLst/>
              <a:rect l="l" t="t" r="r" b="b"/>
              <a:pathLst>
                <a:path w="3637" h="2195">
                  <a:moveTo>
                    <a:pt x="1151" y="2"/>
                  </a:moveTo>
                  <a:lnTo>
                    <a:pt x="1129" y="0"/>
                  </a:lnTo>
                  <a:lnTo>
                    <a:pt x="1098" y="4"/>
                  </a:lnTo>
                  <a:lnTo>
                    <a:pt x="1057" y="11"/>
                  </a:lnTo>
                  <a:lnTo>
                    <a:pt x="1009" y="20"/>
                  </a:lnTo>
                  <a:lnTo>
                    <a:pt x="955" y="32"/>
                  </a:lnTo>
                  <a:lnTo>
                    <a:pt x="896" y="45"/>
                  </a:lnTo>
                  <a:lnTo>
                    <a:pt x="834" y="60"/>
                  </a:lnTo>
                  <a:lnTo>
                    <a:pt x="771" y="76"/>
                  </a:lnTo>
                  <a:lnTo>
                    <a:pt x="709" y="93"/>
                  </a:lnTo>
                  <a:lnTo>
                    <a:pt x="646" y="109"/>
                  </a:lnTo>
                  <a:lnTo>
                    <a:pt x="589" y="125"/>
                  </a:lnTo>
                  <a:lnTo>
                    <a:pt x="536" y="141"/>
                  </a:lnTo>
                  <a:lnTo>
                    <a:pt x="488" y="155"/>
                  </a:lnTo>
                  <a:lnTo>
                    <a:pt x="448" y="167"/>
                  </a:lnTo>
                  <a:lnTo>
                    <a:pt x="417" y="178"/>
                  </a:lnTo>
                  <a:lnTo>
                    <a:pt x="397" y="185"/>
                  </a:lnTo>
                  <a:lnTo>
                    <a:pt x="357" y="200"/>
                  </a:lnTo>
                  <a:lnTo>
                    <a:pt x="312" y="214"/>
                  </a:lnTo>
                  <a:lnTo>
                    <a:pt x="266" y="230"/>
                  </a:lnTo>
                  <a:lnTo>
                    <a:pt x="222" y="247"/>
                  </a:lnTo>
                  <a:lnTo>
                    <a:pt x="182" y="267"/>
                  </a:lnTo>
                  <a:lnTo>
                    <a:pt x="149" y="291"/>
                  </a:lnTo>
                  <a:lnTo>
                    <a:pt x="127" y="321"/>
                  </a:lnTo>
                  <a:lnTo>
                    <a:pt x="116" y="360"/>
                  </a:lnTo>
                  <a:lnTo>
                    <a:pt x="109" y="535"/>
                  </a:lnTo>
                  <a:lnTo>
                    <a:pt x="120" y="670"/>
                  </a:lnTo>
                  <a:lnTo>
                    <a:pt x="131" y="826"/>
                  </a:lnTo>
                  <a:lnTo>
                    <a:pt x="121" y="954"/>
                  </a:lnTo>
                  <a:lnTo>
                    <a:pt x="97" y="1062"/>
                  </a:lnTo>
                  <a:lnTo>
                    <a:pt x="67" y="1154"/>
                  </a:lnTo>
                  <a:lnTo>
                    <a:pt x="37" y="1241"/>
                  </a:lnTo>
                  <a:lnTo>
                    <a:pt x="12" y="1326"/>
                  </a:lnTo>
                  <a:lnTo>
                    <a:pt x="0" y="1416"/>
                  </a:lnTo>
                  <a:lnTo>
                    <a:pt x="6" y="1518"/>
                  </a:lnTo>
                  <a:lnTo>
                    <a:pt x="14" y="1555"/>
                  </a:lnTo>
                  <a:lnTo>
                    <a:pt x="25" y="1593"/>
                  </a:lnTo>
                  <a:lnTo>
                    <a:pt x="40" y="1633"/>
                  </a:lnTo>
                  <a:lnTo>
                    <a:pt x="59" y="1670"/>
                  </a:lnTo>
                  <a:lnTo>
                    <a:pt x="81" y="1701"/>
                  </a:lnTo>
                  <a:lnTo>
                    <a:pt x="107" y="1728"/>
                  </a:lnTo>
                  <a:lnTo>
                    <a:pt x="137" y="1744"/>
                  </a:lnTo>
                  <a:lnTo>
                    <a:pt x="170" y="1750"/>
                  </a:lnTo>
                  <a:lnTo>
                    <a:pt x="269" y="1752"/>
                  </a:lnTo>
                  <a:lnTo>
                    <a:pt x="389" y="1758"/>
                  </a:lnTo>
                  <a:lnTo>
                    <a:pt x="527" y="1768"/>
                  </a:lnTo>
                  <a:lnTo>
                    <a:pt x="681" y="1784"/>
                  </a:lnTo>
                  <a:lnTo>
                    <a:pt x="852" y="1805"/>
                  </a:lnTo>
                  <a:lnTo>
                    <a:pt x="1033" y="1829"/>
                  </a:lnTo>
                  <a:lnTo>
                    <a:pt x="1226" y="1856"/>
                  </a:lnTo>
                  <a:lnTo>
                    <a:pt x="1428" y="1886"/>
                  </a:lnTo>
                  <a:lnTo>
                    <a:pt x="1634" y="1920"/>
                  </a:lnTo>
                  <a:lnTo>
                    <a:pt x="1845" y="1956"/>
                  </a:lnTo>
                  <a:lnTo>
                    <a:pt x="2057" y="1992"/>
                  </a:lnTo>
                  <a:lnTo>
                    <a:pt x="2269" y="2032"/>
                  </a:lnTo>
                  <a:lnTo>
                    <a:pt x="2479" y="2071"/>
                  </a:lnTo>
                  <a:lnTo>
                    <a:pt x="2685" y="2113"/>
                  </a:lnTo>
                  <a:lnTo>
                    <a:pt x="2882" y="2153"/>
                  </a:lnTo>
                  <a:lnTo>
                    <a:pt x="3072" y="2195"/>
                  </a:lnTo>
                  <a:lnTo>
                    <a:pt x="3193" y="2135"/>
                  </a:lnTo>
                  <a:lnTo>
                    <a:pt x="3283" y="2076"/>
                  </a:lnTo>
                  <a:lnTo>
                    <a:pt x="3351" y="2015"/>
                  </a:lnTo>
                  <a:lnTo>
                    <a:pt x="3401" y="1949"/>
                  </a:lnTo>
                  <a:lnTo>
                    <a:pt x="3443" y="1877"/>
                  </a:lnTo>
                  <a:lnTo>
                    <a:pt x="3484" y="1796"/>
                  </a:lnTo>
                  <a:lnTo>
                    <a:pt x="3531" y="1707"/>
                  </a:lnTo>
                  <a:lnTo>
                    <a:pt x="3592" y="1605"/>
                  </a:lnTo>
                  <a:lnTo>
                    <a:pt x="3618" y="1530"/>
                  </a:lnTo>
                  <a:lnTo>
                    <a:pt x="3633" y="1413"/>
                  </a:lnTo>
                  <a:lnTo>
                    <a:pt x="3637" y="1261"/>
                  </a:lnTo>
                  <a:lnTo>
                    <a:pt x="3631" y="1089"/>
                  </a:lnTo>
                  <a:lnTo>
                    <a:pt x="3614" y="904"/>
                  </a:lnTo>
                  <a:lnTo>
                    <a:pt x="3588" y="718"/>
                  </a:lnTo>
                  <a:lnTo>
                    <a:pt x="3554" y="540"/>
                  </a:lnTo>
                  <a:lnTo>
                    <a:pt x="3511" y="381"/>
                  </a:lnTo>
                  <a:lnTo>
                    <a:pt x="3490" y="342"/>
                  </a:lnTo>
                  <a:lnTo>
                    <a:pt x="3457" y="309"/>
                  </a:lnTo>
                  <a:lnTo>
                    <a:pt x="3413" y="285"/>
                  </a:lnTo>
                  <a:lnTo>
                    <a:pt x="3365" y="268"/>
                  </a:lnTo>
                  <a:lnTo>
                    <a:pt x="3312" y="258"/>
                  </a:lnTo>
                  <a:lnTo>
                    <a:pt x="3258" y="255"/>
                  </a:lnTo>
                  <a:lnTo>
                    <a:pt x="3208" y="259"/>
                  </a:lnTo>
                  <a:lnTo>
                    <a:pt x="3161" y="270"/>
                  </a:lnTo>
                  <a:lnTo>
                    <a:pt x="3104" y="300"/>
                  </a:lnTo>
                  <a:lnTo>
                    <a:pt x="3054" y="350"/>
                  </a:lnTo>
                  <a:lnTo>
                    <a:pt x="3008" y="413"/>
                  </a:lnTo>
                  <a:lnTo>
                    <a:pt x="2965" y="479"/>
                  </a:lnTo>
                  <a:lnTo>
                    <a:pt x="2920" y="544"/>
                  </a:lnTo>
                  <a:lnTo>
                    <a:pt x="2872" y="598"/>
                  </a:lnTo>
                  <a:lnTo>
                    <a:pt x="2821" y="635"/>
                  </a:lnTo>
                  <a:lnTo>
                    <a:pt x="2763" y="646"/>
                  </a:lnTo>
                  <a:lnTo>
                    <a:pt x="2633" y="634"/>
                  </a:lnTo>
                  <a:lnTo>
                    <a:pt x="2514" y="612"/>
                  </a:lnTo>
                  <a:lnTo>
                    <a:pt x="2405" y="582"/>
                  </a:lnTo>
                  <a:lnTo>
                    <a:pt x="2304" y="547"/>
                  </a:lnTo>
                  <a:lnTo>
                    <a:pt x="2210" y="504"/>
                  </a:lnTo>
                  <a:lnTo>
                    <a:pt x="2122" y="458"/>
                  </a:lnTo>
                  <a:lnTo>
                    <a:pt x="2036" y="409"/>
                  </a:lnTo>
                  <a:lnTo>
                    <a:pt x="1953" y="356"/>
                  </a:lnTo>
                  <a:lnTo>
                    <a:pt x="1870" y="303"/>
                  </a:lnTo>
                  <a:lnTo>
                    <a:pt x="1785" y="250"/>
                  </a:lnTo>
                  <a:lnTo>
                    <a:pt x="1696" y="199"/>
                  </a:lnTo>
                  <a:lnTo>
                    <a:pt x="1603" y="149"/>
                  </a:lnTo>
                  <a:lnTo>
                    <a:pt x="1504" y="104"/>
                  </a:lnTo>
                  <a:lnTo>
                    <a:pt x="1396" y="64"/>
                  </a:lnTo>
                  <a:lnTo>
                    <a:pt x="1279" y="29"/>
                  </a:lnTo>
                  <a:lnTo>
                    <a:pt x="1151" y="2"/>
                  </a:lnTo>
                  <a:close/>
                </a:path>
              </a:pathLst>
            </a:custGeom>
            <a:solidFill>
              <a:srgbClr val="c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 flipH="1">
              <a:off x="1293840" y="3378240"/>
              <a:ext cx="686520" cy="261360"/>
            </a:xfrm>
            <a:custGeom>
              <a:avLst/>
              <a:gdLst/>
              <a:ahLst/>
              <a:rect l="l" t="t" r="r" b="b"/>
              <a:pathLst>
                <a:path w="1154" h="435">
                  <a:moveTo>
                    <a:pt x="156" y="0"/>
                  </a:moveTo>
                  <a:lnTo>
                    <a:pt x="218" y="3"/>
                  </a:lnTo>
                  <a:lnTo>
                    <a:pt x="279" y="8"/>
                  </a:lnTo>
                  <a:lnTo>
                    <a:pt x="340" y="13"/>
                  </a:lnTo>
                  <a:lnTo>
                    <a:pt x="402" y="19"/>
                  </a:lnTo>
                  <a:lnTo>
                    <a:pt x="463" y="27"/>
                  </a:lnTo>
                  <a:lnTo>
                    <a:pt x="523" y="37"/>
                  </a:lnTo>
                  <a:lnTo>
                    <a:pt x="584" y="48"/>
                  </a:lnTo>
                  <a:lnTo>
                    <a:pt x="644" y="59"/>
                  </a:lnTo>
                  <a:lnTo>
                    <a:pt x="706" y="72"/>
                  </a:lnTo>
                  <a:lnTo>
                    <a:pt x="766" y="86"/>
                  </a:lnTo>
                  <a:lnTo>
                    <a:pt x="825" y="101"/>
                  </a:lnTo>
                  <a:lnTo>
                    <a:pt x="885" y="117"/>
                  </a:lnTo>
                  <a:lnTo>
                    <a:pt x="944" y="135"/>
                  </a:lnTo>
                  <a:lnTo>
                    <a:pt x="1003" y="155"/>
                  </a:lnTo>
                  <a:lnTo>
                    <a:pt x="1059" y="175"/>
                  </a:lnTo>
                  <a:lnTo>
                    <a:pt x="1117" y="197"/>
                  </a:lnTo>
                  <a:lnTo>
                    <a:pt x="1146" y="227"/>
                  </a:lnTo>
                  <a:lnTo>
                    <a:pt x="1154" y="277"/>
                  </a:lnTo>
                  <a:lnTo>
                    <a:pt x="1143" y="330"/>
                  </a:lnTo>
                  <a:lnTo>
                    <a:pt x="1119" y="373"/>
                  </a:lnTo>
                  <a:lnTo>
                    <a:pt x="1097" y="391"/>
                  </a:lnTo>
                  <a:lnTo>
                    <a:pt x="1073" y="408"/>
                  </a:lnTo>
                  <a:lnTo>
                    <a:pt x="1046" y="419"/>
                  </a:lnTo>
                  <a:lnTo>
                    <a:pt x="1018" y="428"/>
                  </a:lnTo>
                  <a:lnTo>
                    <a:pt x="988" y="434"/>
                  </a:lnTo>
                  <a:lnTo>
                    <a:pt x="958" y="435"/>
                  </a:lnTo>
                  <a:lnTo>
                    <a:pt x="929" y="434"/>
                  </a:lnTo>
                  <a:lnTo>
                    <a:pt x="902" y="429"/>
                  </a:lnTo>
                  <a:lnTo>
                    <a:pt x="850" y="413"/>
                  </a:lnTo>
                  <a:lnTo>
                    <a:pt x="802" y="390"/>
                  </a:lnTo>
                  <a:lnTo>
                    <a:pt x="754" y="365"/>
                  </a:lnTo>
                  <a:lnTo>
                    <a:pt x="707" y="335"/>
                  </a:lnTo>
                  <a:lnTo>
                    <a:pt x="661" y="306"/>
                  </a:lnTo>
                  <a:lnTo>
                    <a:pt x="614" y="277"/>
                  </a:lnTo>
                  <a:lnTo>
                    <a:pt x="566" y="253"/>
                  </a:lnTo>
                  <a:lnTo>
                    <a:pt x="516" y="234"/>
                  </a:lnTo>
                  <a:lnTo>
                    <a:pt x="453" y="221"/>
                  </a:lnTo>
                  <a:lnTo>
                    <a:pt x="388" y="214"/>
                  </a:lnTo>
                  <a:lnTo>
                    <a:pt x="322" y="211"/>
                  </a:lnTo>
                  <a:lnTo>
                    <a:pt x="257" y="210"/>
                  </a:lnTo>
                  <a:lnTo>
                    <a:pt x="191" y="206"/>
                  </a:lnTo>
                  <a:lnTo>
                    <a:pt x="129" y="198"/>
                  </a:lnTo>
                  <a:lnTo>
                    <a:pt x="70" y="181"/>
                  </a:lnTo>
                  <a:lnTo>
                    <a:pt x="13" y="152"/>
                  </a:lnTo>
                  <a:lnTo>
                    <a:pt x="0" y="134"/>
                  </a:lnTo>
                  <a:lnTo>
                    <a:pt x="1" y="113"/>
                  </a:lnTo>
                  <a:lnTo>
                    <a:pt x="15" y="86"/>
                  </a:lnTo>
                  <a:lnTo>
                    <a:pt x="37" y="61"/>
                  </a:lnTo>
                  <a:lnTo>
                    <a:pt x="65" y="37"/>
                  </a:lnTo>
                  <a:lnTo>
                    <a:pt x="97" y="16"/>
                  </a:lnTo>
                  <a:lnTo>
                    <a:pt x="129" y="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 flipH="1">
              <a:off x="1904760" y="3095280"/>
              <a:ext cx="1037520" cy="720720"/>
            </a:xfrm>
            <a:custGeom>
              <a:avLst/>
              <a:gdLst/>
              <a:ahLst/>
              <a:rect l="l" t="t" r="r" b="b"/>
              <a:pathLst>
                <a:path w="1742" h="1202">
                  <a:moveTo>
                    <a:pt x="668" y="6"/>
                  </a:moveTo>
                  <a:lnTo>
                    <a:pt x="619" y="10"/>
                  </a:lnTo>
                  <a:lnTo>
                    <a:pt x="569" y="17"/>
                  </a:lnTo>
                  <a:lnTo>
                    <a:pt x="521" y="24"/>
                  </a:lnTo>
                  <a:lnTo>
                    <a:pt x="473" y="35"/>
                  </a:lnTo>
                  <a:lnTo>
                    <a:pt x="425" y="49"/>
                  </a:lnTo>
                  <a:lnTo>
                    <a:pt x="381" y="66"/>
                  </a:lnTo>
                  <a:lnTo>
                    <a:pt x="336" y="87"/>
                  </a:lnTo>
                  <a:lnTo>
                    <a:pt x="293" y="112"/>
                  </a:lnTo>
                  <a:lnTo>
                    <a:pt x="263" y="133"/>
                  </a:lnTo>
                  <a:lnTo>
                    <a:pt x="233" y="158"/>
                  </a:lnTo>
                  <a:lnTo>
                    <a:pt x="203" y="184"/>
                  </a:lnTo>
                  <a:lnTo>
                    <a:pt x="176" y="213"/>
                  </a:lnTo>
                  <a:lnTo>
                    <a:pt x="149" y="243"/>
                  </a:lnTo>
                  <a:lnTo>
                    <a:pt x="122" y="273"/>
                  </a:lnTo>
                  <a:lnTo>
                    <a:pt x="98" y="304"/>
                  </a:lnTo>
                  <a:lnTo>
                    <a:pt x="75" y="334"/>
                  </a:lnTo>
                  <a:lnTo>
                    <a:pt x="42" y="388"/>
                  </a:lnTo>
                  <a:lnTo>
                    <a:pt x="13" y="456"/>
                  </a:lnTo>
                  <a:lnTo>
                    <a:pt x="0" y="523"/>
                  </a:lnTo>
                  <a:lnTo>
                    <a:pt x="13" y="578"/>
                  </a:lnTo>
                  <a:lnTo>
                    <a:pt x="33" y="601"/>
                  </a:lnTo>
                  <a:lnTo>
                    <a:pt x="56" y="617"/>
                  </a:lnTo>
                  <a:lnTo>
                    <a:pt x="85" y="627"/>
                  </a:lnTo>
                  <a:lnTo>
                    <a:pt x="115" y="631"/>
                  </a:lnTo>
                  <a:lnTo>
                    <a:pt x="146" y="630"/>
                  </a:lnTo>
                  <a:lnTo>
                    <a:pt x="178" y="625"/>
                  </a:lnTo>
                  <a:lnTo>
                    <a:pt x="209" y="615"/>
                  </a:lnTo>
                  <a:lnTo>
                    <a:pt x="238" y="602"/>
                  </a:lnTo>
                  <a:lnTo>
                    <a:pt x="269" y="579"/>
                  </a:lnTo>
                  <a:lnTo>
                    <a:pt x="294" y="551"/>
                  </a:lnTo>
                  <a:lnTo>
                    <a:pt x="315" y="517"/>
                  </a:lnTo>
                  <a:lnTo>
                    <a:pt x="333" y="482"/>
                  </a:lnTo>
                  <a:lnTo>
                    <a:pt x="351" y="446"/>
                  </a:lnTo>
                  <a:lnTo>
                    <a:pt x="370" y="412"/>
                  </a:lnTo>
                  <a:lnTo>
                    <a:pt x="395" y="382"/>
                  </a:lnTo>
                  <a:lnTo>
                    <a:pt x="425" y="358"/>
                  </a:lnTo>
                  <a:lnTo>
                    <a:pt x="473" y="334"/>
                  </a:lnTo>
                  <a:lnTo>
                    <a:pt x="525" y="316"/>
                  </a:lnTo>
                  <a:lnTo>
                    <a:pt x="578" y="302"/>
                  </a:lnTo>
                  <a:lnTo>
                    <a:pt x="631" y="292"/>
                  </a:lnTo>
                  <a:lnTo>
                    <a:pt x="687" y="287"/>
                  </a:lnTo>
                  <a:lnTo>
                    <a:pt x="741" y="285"/>
                  </a:lnTo>
                  <a:lnTo>
                    <a:pt x="797" y="285"/>
                  </a:lnTo>
                  <a:lnTo>
                    <a:pt x="851" y="286"/>
                  </a:lnTo>
                  <a:lnTo>
                    <a:pt x="896" y="291"/>
                  </a:lnTo>
                  <a:lnTo>
                    <a:pt x="943" y="298"/>
                  </a:lnTo>
                  <a:lnTo>
                    <a:pt x="988" y="308"/>
                  </a:lnTo>
                  <a:lnTo>
                    <a:pt x="1033" y="321"/>
                  </a:lnTo>
                  <a:lnTo>
                    <a:pt x="1078" y="337"/>
                  </a:lnTo>
                  <a:lnTo>
                    <a:pt x="1122" y="353"/>
                  </a:lnTo>
                  <a:lnTo>
                    <a:pt x="1166" y="371"/>
                  </a:lnTo>
                  <a:lnTo>
                    <a:pt x="1208" y="389"/>
                  </a:lnTo>
                  <a:lnTo>
                    <a:pt x="1245" y="404"/>
                  </a:lnTo>
                  <a:lnTo>
                    <a:pt x="1282" y="420"/>
                  </a:lnTo>
                  <a:lnTo>
                    <a:pt x="1321" y="435"/>
                  </a:lnTo>
                  <a:lnTo>
                    <a:pt x="1358" y="453"/>
                  </a:lnTo>
                  <a:lnTo>
                    <a:pt x="1393" y="474"/>
                  </a:lnTo>
                  <a:lnTo>
                    <a:pt x="1424" y="495"/>
                  </a:lnTo>
                  <a:lnTo>
                    <a:pt x="1450" y="523"/>
                  </a:lnTo>
                  <a:lnTo>
                    <a:pt x="1472" y="555"/>
                  </a:lnTo>
                  <a:lnTo>
                    <a:pt x="1506" y="648"/>
                  </a:lnTo>
                  <a:lnTo>
                    <a:pt x="1518" y="749"/>
                  </a:lnTo>
                  <a:lnTo>
                    <a:pt x="1518" y="852"/>
                  </a:lnTo>
                  <a:lnTo>
                    <a:pt x="1512" y="956"/>
                  </a:lnTo>
                  <a:lnTo>
                    <a:pt x="1498" y="995"/>
                  </a:lnTo>
                  <a:lnTo>
                    <a:pt x="1472" y="1034"/>
                  </a:lnTo>
                  <a:lnTo>
                    <a:pt x="1449" y="1071"/>
                  </a:lnTo>
                  <a:lnTo>
                    <a:pt x="1448" y="1109"/>
                  </a:lnTo>
                  <a:lnTo>
                    <a:pt x="1458" y="1132"/>
                  </a:lnTo>
                  <a:lnTo>
                    <a:pt x="1471" y="1152"/>
                  </a:lnTo>
                  <a:lnTo>
                    <a:pt x="1488" y="1167"/>
                  </a:lnTo>
                  <a:lnTo>
                    <a:pt x="1506" y="1179"/>
                  </a:lnTo>
                  <a:lnTo>
                    <a:pt x="1527" y="1189"/>
                  </a:lnTo>
                  <a:lnTo>
                    <a:pt x="1549" y="1195"/>
                  </a:lnTo>
                  <a:lnTo>
                    <a:pt x="1573" y="1200"/>
                  </a:lnTo>
                  <a:lnTo>
                    <a:pt x="1599" y="1202"/>
                  </a:lnTo>
                  <a:lnTo>
                    <a:pt x="1645" y="1200"/>
                  </a:lnTo>
                  <a:lnTo>
                    <a:pt x="1692" y="1186"/>
                  </a:lnTo>
                  <a:lnTo>
                    <a:pt x="1728" y="1164"/>
                  </a:lnTo>
                  <a:lnTo>
                    <a:pt x="1742" y="1127"/>
                  </a:lnTo>
                  <a:lnTo>
                    <a:pt x="1739" y="965"/>
                  </a:lnTo>
                  <a:lnTo>
                    <a:pt x="1720" y="801"/>
                  </a:lnTo>
                  <a:lnTo>
                    <a:pt x="1685" y="641"/>
                  </a:lnTo>
                  <a:lnTo>
                    <a:pt x="1634" y="486"/>
                  </a:lnTo>
                  <a:lnTo>
                    <a:pt x="1611" y="429"/>
                  </a:lnTo>
                  <a:lnTo>
                    <a:pt x="1586" y="373"/>
                  </a:lnTo>
                  <a:lnTo>
                    <a:pt x="1557" y="317"/>
                  </a:lnTo>
                  <a:lnTo>
                    <a:pt x="1524" y="264"/>
                  </a:lnTo>
                  <a:lnTo>
                    <a:pt x="1488" y="215"/>
                  </a:lnTo>
                  <a:lnTo>
                    <a:pt x="1447" y="171"/>
                  </a:lnTo>
                  <a:lnTo>
                    <a:pt x="1401" y="132"/>
                  </a:lnTo>
                  <a:lnTo>
                    <a:pt x="1351" y="102"/>
                  </a:lnTo>
                  <a:lnTo>
                    <a:pt x="1312" y="84"/>
                  </a:lnTo>
                  <a:lnTo>
                    <a:pt x="1271" y="69"/>
                  </a:lnTo>
                  <a:lnTo>
                    <a:pt x="1232" y="54"/>
                  </a:lnTo>
                  <a:lnTo>
                    <a:pt x="1190" y="42"/>
                  </a:lnTo>
                  <a:lnTo>
                    <a:pt x="1148" y="31"/>
                  </a:lnTo>
                  <a:lnTo>
                    <a:pt x="1105" y="23"/>
                  </a:lnTo>
                  <a:lnTo>
                    <a:pt x="1061" y="16"/>
                  </a:lnTo>
                  <a:lnTo>
                    <a:pt x="1018" y="10"/>
                  </a:lnTo>
                  <a:lnTo>
                    <a:pt x="974" y="6"/>
                  </a:lnTo>
                  <a:lnTo>
                    <a:pt x="931" y="4"/>
                  </a:lnTo>
                  <a:lnTo>
                    <a:pt x="887" y="1"/>
                  </a:lnTo>
                  <a:lnTo>
                    <a:pt x="842" y="0"/>
                  </a:lnTo>
                  <a:lnTo>
                    <a:pt x="798" y="0"/>
                  </a:lnTo>
                  <a:lnTo>
                    <a:pt x="754" y="1"/>
                  </a:lnTo>
                  <a:lnTo>
                    <a:pt x="711" y="4"/>
                  </a:lnTo>
                  <a:lnTo>
                    <a:pt x="668" y="6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 flipH="1">
              <a:off x="1797480" y="3446640"/>
              <a:ext cx="154800" cy="328320"/>
            </a:xfrm>
            <a:custGeom>
              <a:avLst/>
              <a:gdLst/>
              <a:ahLst/>
              <a:rect l="l" t="t" r="r" b="b"/>
              <a:pathLst>
                <a:path w="261" h="548">
                  <a:moveTo>
                    <a:pt x="0" y="0"/>
                  </a:moveTo>
                  <a:lnTo>
                    <a:pt x="221" y="86"/>
                  </a:lnTo>
                  <a:lnTo>
                    <a:pt x="261" y="352"/>
                  </a:lnTo>
                  <a:lnTo>
                    <a:pt x="192" y="455"/>
                  </a:lnTo>
                  <a:lnTo>
                    <a:pt x="37" y="548"/>
                  </a:lnTo>
                  <a:lnTo>
                    <a:pt x="0" y="4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H="1">
              <a:off x="2066400" y="3229560"/>
              <a:ext cx="598320" cy="465120"/>
            </a:xfrm>
            <a:custGeom>
              <a:avLst/>
              <a:gdLst/>
              <a:ahLst/>
              <a:rect l="l" t="t" r="r" b="b"/>
              <a:pathLst>
                <a:path w="1006" h="776">
                  <a:moveTo>
                    <a:pt x="243" y="13"/>
                  </a:moveTo>
                  <a:lnTo>
                    <a:pt x="220" y="18"/>
                  </a:lnTo>
                  <a:lnTo>
                    <a:pt x="198" y="26"/>
                  </a:lnTo>
                  <a:lnTo>
                    <a:pt x="178" y="35"/>
                  </a:lnTo>
                  <a:lnTo>
                    <a:pt x="156" y="44"/>
                  </a:lnTo>
                  <a:lnTo>
                    <a:pt x="134" y="56"/>
                  </a:lnTo>
                  <a:lnTo>
                    <a:pt x="115" y="67"/>
                  </a:lnTo>
                  <a:lnTo>
                    <a:pt x="95" y="79"/>
                  </a:lnTo>
                  <a:lnTo>
                    <a:pt x="74" y="91"/>
                  </a:lnTo>
                  <a:lnTo>
                    <a:pt x="48" y="104"/>
                  </a:lnTo>
                  <a:lnTo>
                    <a:pt x="21" y="121"/>
                  </a:lnTo>
                  <a:lnTo>
                    <a:pt x="1" y="139"/>
                  </a:lnTo>
                  <a:lnTo>
                    <a:pt x="0" y="160"/>
                  </a:lnTo>
                  <a:lnTo>
                    <a:pt x="24" y="192"/>
                  </a:lnTo>
                  <a:lnTo>
                    <a:pt x="54" y="222"/>
                  </a:lnTo>
                  <a:lnTo>
                    <a:pt x="86" y="247"/>
                  </a:lnTo>
                  <a:lnTo>
                    <a:pt x="121" y="271"/>
                  </a:lnTo>
                  <a:lnTo>
                    <a:pt x="156" y="297"/>
                  </a:lnTo>
                  <a:lnTo>
                    <a:pt x="190" y="322"/>
                  </a:lnTo>
                  <a:lnTo>
                    <a:pt x="219" y="351"/>
                  </a:lnTo>
                  <a:lnTo>
                    <a:pt x="243" y="383"/>
                  </a:lnTo>
                  <a:lnTo>
                    <a:pt x="237" y="408"/>
                  </a:lnTo>
                  <a:lnTo>
                    <a:pt x="209" y="431"/>
                  </a:lnTo>
                  <a:lnTo>
                    <a:pt x="179" y="453"/>
                  </a:lnTo>
                  <a:lnTo>
                    <a:pt x="174" y="478"/>
                  </a:lnTo>
                  <a:lnTo>
                    <a:pt x="188" y="503"/>
                  </a:lnTo>
                  <a:lnTo>
                    <a:pt x="209" y="526"/>
                  </a:lnTo>
                  <a:lnTo>
                    <a:pt x="231" y="547"/>
                  </a:lnTo>
                  <a:lnTo>
                    <a:pt x="256" y="566"/>
                  </a:lnTo>
                  <a:lnTo>
                    <a:pt x="281" y="582"/>
                  </a:lnTo>
                  <a:lnTo>
                    <a:pt x="309" y="597"/>
                  </a:lnTo>
                  <a:lnTo>
                    <a:pt x="335" y="612"/>
                  </a:lnTo>
                  <a:lnTo>
                    <a:pt x="363" y="625"/>
                  </a:lnTo>
                  <a:lnTo>
                    <a:pt x="411" y="650"/>
                  </a:lnTo>
                  <a:lnTo>
                    <a:pt x="459" y="679"/>
                  </a:lnTo>
                  <a:lnTo>
                    <a:pt x="509" y="707"/>
                  </a:lnTo>
                  <a:lnTo>
                    <a:pt x="559" y="733"/>
                  </a:lnTo>
                  <a:lnTo>
                    <a:pt x="609" y="755"/>
                  </a:lnTo>
                  <a:lnTo>
                    <a:pt x="662" y="770"/>
                  </a:lnTo>
                  <a:lnTo>
                    <a:pt x="714" y="776"/>
                  </a:lnTo>
                  <a:lnTo>
                    <a:pt x="765" y="771"/>
                  </a:lnTo>
                  <a:lnTo>
                    <a:pt x="792" y="735"/>
                  </a:lnTo>
                  <a:lnTo>
                    <a:pt x="780" y="666"/>
                  </a:lnTo>
                  <a:lnTo>
                    <a:pt x="767" y="590"/>
                  </a:lnTo>
                  <a:lnTo>
                    <a:pt x="786" y="537"/>
                  </a:lnTo>
                  <a:lnTo>
                    <a:pt x="810" y="531"/>
                  </a:lnTo>
                  <a:lnTo>
                    <a:pt x="838" y="541"/>
                  </a:lnTo>
                  <a:lnTo>
                    <a:pt x="866" y="561"/>
                  </a:lnTo>
                  <a:lnTo>
                    <a:pt x="896" y="586"/>
                  </a:lnTo>
                  <a:lnTo>
                    <a:pt x="924" y="609"/>
                  </a:lnTo>
                  <a:lnTo>
                    <a:pt x="949" y="627"/>
                  </a:lnTo>
                  <a:lnTo>
                    <a:pt x="971" y="631"/>
                  </a:lnTo>
                  <a:lnTo>
                    <a:pt x="989" y="618"/>
                  </a:lnTo>
                  <a:lnTo>
                    <a:pt x="1006" y="547"/>
                  </a:lnTo>
                  <a:lnTo>
                    <a:pt x="988" y="467"/>
                  </a:lnTo>
                  <a:lnTo>
                    <a:pt x="953" y="388"/>
                  </a:lnTo>
                  <a:lnTo>
                    <a:pt x="914" y="314"/>
                  </a:lnTo>
                  <a:lnTo>
                    <a:pt x="898" y="282"/>
                  </a:lnTo>
                  <a:lnTo>
                    <a:pt x="871" y="252"/>
                  </a:lnTo>
                  <a:lnTo>
                    <a:pt x="841" y="233"/>
                  </a:lnTo>
                  <a:lnTo>
                    <a:pt x="810" y="231"/>
                  </a:lnTo>
                  <a:lnTo>
                    <a:pt x="780" y="255"/>
                  </a:lnTo>
                  <a:lnTo>
                    <a:pt x="762" y="297"/>
                  </a:lnTo>
                  <a:lnTo>
                    <a:pt x="745" y="340"/>
                  </a:lnTo>
                  <a:lnTo>
                    <a:pt x="714" y="365"/>
                  </a:lnTo>
                  <a:lnTo>
                    <a:pt x="685" y="358"/>
                  </a:lnTo>
                  <a:lnTo>
                    <a:pt x="662" y="330"/>
                  </a:lnTo>
                  <a:lnTo>
                    <a:pt x="637" y="300"/>
                  </a:lnTo>
                  <a:lnTo>
                    <a:pt x="609" y="281"/>
                  </a:lnTo>
                  <a:lnTo>
                    <a:pt x="588" y="280"/>
                  </a:lnTo>
                  <a:lnTo>
                    <a:pt x="566" y="285"/>
                  </a:lnTo>
                  <a:lnTo>
                    <a:pt x="543" y="292"/>
                  </a:lnTo>
                  <a:lnTo>
                    <a:pt x="520" y="302"/>
                  </a:lnTo>
                  <a:lnTo>
                    <a:pt x="499" y="309"/>
                  </a:lnTo>
                  <a:lnTo>
                    <a:pt x="477" y="315"/>
                  </a:lnTo>
                  <a:lnTo>
                    <a:pt x="457" y="315"/>
                  </a:lnTo>
                  <a:lnTo>
                    <a:pt x="437" y="309"/>
                  </a:lnTo>
                  <a:lnTo>
                    <a:pt x="402" y="275"/>
                  </a:lnTo>
                  <a:lnTo>
                    <a:pt x="378" y="231"/>
                  </a:lnTo>
                  <a:lnTo>
                    <a:pt x="364" y="181"/>
                  </a:lnTo>
                  <a:lnTo>
                    <a:pt x="356" y="131"/>
                  </a:lnTo>
                  <a:lnTo>
                    <a:pt x="365" y="102"/>
                  </a:lnTo>
                  <a:lnTo>
                    <a:pt x="387" y="73"/>
                  </a:lnTo>
                  <a:lnTo>
                    <a:pt x="406" y="47"/>
                  </a:lnTo>
                  <a:lnTo>
                    <a:pt x="404" y="23"/>
                  </a:lnTo>
                  <a:lnTo>
                    <a:pt x="387" y="12"/>
                  </a:lnTo>
                  <a:lnTo>
                    <a:pt x="370" y="5"/>
                  </a:lnTo>
                  <a:lnTo>
                    <a:pt x="350" y="0"/>
                  </a:lnTo>
                  <a:lnTo>
                    <a:pt x="328" y="0"/>
                  </a:lnTo>
                  <a:lnTo>
                    <a:pt x="306" y="1"/>
                  </a:lnTo>
                  <a:lnTo>
                    <a:pt x="283" y="5"/>
                  </a:lnTo>
                  <a:lnTo>
                    <a:pt x="262" y="9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 flipH="1">
              <a:off x="1843560" y="3005280"/>
              <a:ext cx="836280" cy="437760"/>
            </a:xfrm>
            <a:custGeom>
              <a:avLst/>
              <a:gdLst/>
              <a:ahLst/>
              <a:rect l="l" t="t" r="r" b="b"/>
              <a:pathLst>
                <a:path w="1407" h="730">
                  <a:moveTo>
                    <a:pt x="338" y="0"/>
                  </a:moveTo>
                  <a:lnTo>
                    <a:pt x="0" y="150"/>
                  </a:lnTo>
                  <a:lnTo>
                    <a:pt x="188" y="198"/>
                  </a:lnTo>
                  <a:lnTo>
                    <a:pt x="560" y="174"/>
                  </a:lnTo>
                  <a:lnTo>
                    <a:pt x="609" y="191"/>
                  </a:lnTo>
                  <a:lnTo>
                    <a:pt x="984" y="377"/>
                  </a:lnTo>
                  <a:lnTo>
                    <a:pt x="1207" y="730"/>
                  </a:lnTo>
                  <a:lnTo>
                    <a:pt x="1407" y="626"/>
                  </a:lnTo>
                  <a:lnTo>
                    <a:pt x="1159" y="208"/>
                  </a:lnTo>
                  <a:lnTo>
                    <a:pt x="728" y="6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H="1">
              <a:off x="1187280" y="3519720"/>
              <a:ext cx="54720" cy="536040"/>
            </a:xfrm>
            <a:custGeom>
              <a:avLst/>
              <a:gdLst/>
              <a:ahLst/>
              <a:rect l="l" t="t" r="r" b="b"/>
              <a:pathLst>
                <a:path w="91" h="895">
                  <a:moveTo>
                    <a:pt x="66" y="49"/>
                  </a:moveTo>
                  <a:lnTo>
                    <a:pt x="47" y="8"/>
                  </a:lnTo>
                  <a:lnTo>
                    <a:pt x="38" y="5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1" y="65"/>
                  </a:lnTo>
                  <a:lnTo>
                    <a:pt x="13" y="120"/>
                  </a:lnTo>
                  <a:lnTo>
                    <a:pt x="31" y="236"/>
                  </a:lnTo>
                  <a:lnTo>
                    <a:pt x="37" y="352"/>
                  </a:lnTo>
                  <a:lnTo>
                    <a:pt x="48" y="620"/>
                  </a:lnTo>
                  <a:lnTo>
                    <a:pt x="61" y="885"/>
                  </a:lnTo>
                  <a:lnTo>
                    <a:pt x="69" y="892"/>
                  </a:lnTo>
                  <a:lnTo>
                    <a:pt x="78" y="895"/>
                  </a:lnTo>
                  <a:lnTo>
                    <a:pt x="91" y="891"/>
                  </a:lnTo>
                  <a:lnTo>
                    <a:pt x="78" y="472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 flipH="1">
              <a:off x="1237320" y="3444120"/>
              <a:ext cx="193680" cy="58680"/>
            </a:xfrm>
            <a:custGeom>
              <a:avLst/>
              <a:gdLst/>
              <a:ahLst/>
              <a:rect l="l" t="t" r="r" b="b"/>
              <a:pathLst>
                <a:path w="327" h="99">
                  <a:moveTo>
                    <a:pt x="324" y="89"/>
                  </a:moveTo>
                  <a:lnTo>
                    <a:pt x="295" y="69"/>
                  </a:lnTo>
                  <a:lnTo>
                    <a:pt x="262" y="52"/>
                  </a:lnTo>
                  <a:lnTo>
                    <a:pt x="227" y="35"/>
                  </a:lnTo>
                  <a:lnTo>
                    <a:pt x="193" y="20"/>
                  </a:lnTo>
                  <a:lnTo>
                    <a:pt x="171" y="12"/>
                  </a:lnTo>
                  <a:lnTo>
                    <a:pt x="148" y="7"/>
                  </a:lnTo>
                  <a:lnTo>
                    <a:pt x="123" y="2"/>
                  </a:lnTo>
                  <a:lnTo>
                    <a:pt x="99" y="0"/>
                  </a:lnTo>
                  <a:lnTo>
                    <a:pt x="74" y="1"/>
                  </a:lnTo>
                  <a:lnTo>
                    <a:pt x="48" y="5"/>
                  </a:lnTo>
                  <a:lnTo>
                    <a:pt x="25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15" y="56"/>
                  </a:lnTo>
                  <a:lnTo>
                    <a:pt x="23" y="63"/>
                  </a:lnTo>
                  <a:lnTo>
                    <a:pt x="46" y="53"/>
                  </a:lnTo>
                  <a:lnTo>
                    <a:pt x="70" y="46"/>
                  </a:lnTo>
                  <a:lnTo>
                    <a:pt x="95" y="41"/>
                  </a:lnTo>
                  <a:lnTo>
                    <a:pt x="120" y="37"/>
                  </a:lnTo>
                  <a:lnTo>
                    <a:pt x="144" y="37"/>
                  </a:lnTo>
                  <a:lnTo>
                    <a:pt x="170" y="40"/>
                  </a:lnTo>
                  <a:lnTo>
                    <a:pt x="193" y="46"/>
                  </a:lnTo>
                  <a:lnTo>
                    <a:pt x="214" y="55"/>
                  </a:lnTo>
                  <a:lnTo>
                    <a:pt x="241" y="66"/>
                  </a:lnTo>
                  <a:lnTo>
                    <a:pt x="268" y="78"/>
                  </a:lnTo>
                  <a:lnTo>
                    <a:pt x="296" y="90"/>
                  </a:lnTo>
                  <a:lnTo>
                    <a:pt x="324" y="99"/>
                  </a:lnTo>
                  <a:lnTo>
                    <a:pt x="326" y="96"/>
                  </a:lnTo>
                  <a:lnTo>
                    <a:pt x="327" y="91"/>
                  </a:lnTo>
                  <a:lnTo>
                    <a:pt x="326" y="90"/>
                  </a:lnTo>
                  <a:lnTo>
                    <a:pt x="32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H="1">
              <a:off x="1271520" y="3493440"/>
              <a:ext cx="174960" cy="119880"/>
            </a:xfrm>
            <a:custGeom>
              <a:avLst/>
              <a:gdLst/>
              <a:ahLst/>
              <a:rect l="l" t="t" r="r" b="b"/>
              <a:pathLst>
                <a:path w="293" h="199">
                  <a:moveTo>
                    <a:pt x="292" y="92"/>
                  </a:moveTo>
                  <a:lnTo>
                    <a:pt x="291" y="91"/>
                  </a:lnTo>
                  <a:lnTo>
                    <a:pt x="288" y="90"/>
                  </a:lnTo>
                  <a:lnTo>
                    <a:pt x="280" y="85"/>
                  </a:lnTo>
                  <a:lnTo>
                    <a:pt x="269" y="83"/>
                  </a:lnTo>
                  <a:lnTo>
                    <a:pt x="257" y="84"/>
                  </a:lnTo>
                  <a:lnTo>
                    <a:pt x="245" y="87"/>
                  </a:lnTo>
                  <a:lnTo>
                    <a:pt x="237" y="48"/>
                  </a:lnTo>
                  <a:lnTo>
                    <a:pt x="8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74" y="68"/>
                  </a:lnTo>
                  <a:lnTo>
                    <a:pt x="177" y="71"/>
                  </a:lnTo>
                  <a:lnTo>
                    <a:pt x="178" y="74"/>
                  </a:lnTo>
                  <a:lnTo>
                    <a:pt x="147" y="104"/>
                  </a:lnTo>
                  <a:lnTo>
                    <a:pt x="113" y="131"/>
                  </a:lnTo>
                  <a:lnTo>
                    <a:pt x="78" y="160"/>
                  </a:lnTo>
                  <a:lnTo>
                    <a:pt x="50" y="193"/>
                  </a:lnTo>
                  <a:lnTo>
                    <a:pt x="52" y="196"/>
                  </a:lnTo>
                  <a:lnTo>
                    <a:pt x="54" y="199"/>
                  </a:lnTo>
                  <a:lnTo>
                    <a:pt x="79" y="191"/>
                  </a:lnTo>
                  <a:lnTo>
                    <a:pt x="102" y="178"/>
                  </a:lnTo>
                  <a:lnTo>
                    <a:pt x="124" y="163"/>
                  </a:lnTo>
                  <a:lnTo>
                    <a:pt x="145" y="146"/>
                  </a:lnTo>
                  <a:lnTo>
                    <a:pt x="166" y="130"/>
                  </a:lnTo>
                  <a:lnTo>
                    <a:pt x="190" y="113"/>
                  </a:lnTo>
                  <a:lnTo>
                    <a:pt x="214" y="99"/>
                  </a:lnTo>
                  <a:lnTo>
                    <a:pt x="243" y="87"/>
                  </a:lnTo>
                  <a:lnTo>
                    <a:pt x="244" y="110"/>
                  </a:lnTo>
                  <a:lnTo>
                    <a:pt x="222" y="118"/>
                  </a:lnTo>
                  <a:lnTo>
                    <a:pt x="218" y="122"/>
                  </a:lnTo>
                  <a:lnTo>
                    <a:pt x="218" y="130"/>
                  </a:lnTo>
                  <a:lnTo>
                    <a:pt x="218" y="132"/>
                  </a:lnTo>
                  <a:lnTo>
                    <a:pt x="221" y="136"/>
                  </a:lnTo>
                  <a:lnTo>
                    <a:pt x="267" y="137"/>
                  </a:lnTo>
                  <a:lnTo>
                    <a:pt x="269" y="121"/>
                  </a:lnTo>
                  <a:lnTo>
                    <a:pt x="266" y="106"/>
                  </a:lnTo>
                  <a:lnTo>
                    <a:pt x="274" y="101"/>
                  </a:lnTo>
                  <a:lnTo>
                    <a:pt x="285" y="102"/>
                  </a:lnTo>
                  <a:lnTo>
                    <a:pt x="288" y="99"/>
                  </a:lnTo>
                  <a:lnTo>
                    <a:pt x="293" y="96"/>
                  </a:lnTo>
                  <a:lnTo>
                    <a:pt x="293" y="95"/>
                  </a:lnTo>
                  <a:lnTo>
                    <a:pt x="29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 flipH="1">
              <a:off x="1175400" y="4085640"/>
              <a:ext cx="25920" cy="123480"/>
            </a:xfrm>
            <a:custGeom>
              <a:avLst/>
              <a:gdLst/>
              <a:ahLst/>
              <a:rect l="l" t="t" r="r" b="b"/>
              <a:pathLst>
                <a:path w="45" h="205">
                  <a:moveTo>
                    <a:pt x="33" y="39"/>
                  </a:moveTo>
                  <a:lnTo>
                    <a:pt x="16" y="0"/>
                  </a:lnTo>
                  <a:lnTo>
                    <a:pt x="6" y="2"/>
                  </a:lnTo>
                  <a:lnTo>
                    <a:pt x="0" y="9"/>
                  </a:lnTo>
                  <a:lnTo>
                    <a:pt x="1" y="57"/>
                  </a:lnTo>
                  <a:lnTo>
                    <a:pt x="3" y="109"/>
                  </a:lnTo>
                  <a:lnTo>
                    <a:pt x="10" y="160"/>
                  </a:lnTo>
                  <a:lnTo>
                    <a:pt x="30" y="205"/>
                  </a:lnTo>
                  <a:lnTo>
                    <a:pt x="36" y="205"/>
                  </a:lnTo>
                  <a:lnTo>
                    <a:pt x="45" y="200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 flipH="1">
              <a:off x="1154160" y="4241880"/>
              <a:ext cx="155520" cy="177120"/>
            </a:xfrm>
            <a:custGeom>
              <a:avLst/>
              <a:gdLst/>
              <a:ahLst/>
              <a:rect l="l" t="t" r="r" b="b"/>
              <a:pathLst>
                <a:path w="262" h="294">
                  <a:moveTo>
                    <a:pt x="260" y="30"/>
                  </a:moveTo>
                  <a:lnTo>
                    <a:pt x="256" y="9"/>
                  </a:lnTo>
                  <a:lnTo>
                    <a:pt x="250" y="4"/>
                  </a:lnTo>
                  <a:lnTo>
                    <a:pt x="244" y="2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197" y="34"/>
                  </a:lnTo>
                  <a:lnTo>
                    <a:pt x="170" y="69"/>
                  </a:lnTo>
                  <a:lnTo>
                    <a:pt x="141" y="107"/>
                  </a:lnTo>
                  <a:lnTo>
                    <a:pt x="114" y="143"/>
                  </a:lnTo>
                  <a:lnTo>
                    <a:pt x="86" y="180"/>
                  </a:lnTo>
                  <a:lnTo>
                    <a:pt x="57" y="217"/>
                  </a:lnTo>
                  <a:lnTo>
                    <a:pt x="28" y="252"/>
                  </a:lnTo>
                  <a:lnTo>
                    <a:pt x="0" y="287"/>
                  </a:lnTo>
                  <a:lnTo>
                    <a:pt x="6" y="293"/>
                  </a:lnTo>
                  <a:lnTo>
                    <a:pt x="15" y="294"/>
                  </a:lnTo>
                  <a:lnTo>
                    <a:pt x="39" y="275"/>
                  </a:lnTo>
                  <a:lnTo>
                    <a:pt x="61" y="256"/>
                  </a:lnTo>
                  <a:lnTo>
                    <a:pt x="82" y="234"/>
                  </a:lnTo>
                  <a:lnTo>
                    <a:pt x="103" y="212"/>
                  </a:lnTo>
                  <a:lnTo>
                    <a:pt x="123" y="192"/>
                  </a:lnTo>
                  <a:lnTo>
                    <a:pt x="145" y="171"/>
                  </a:lnTo>
                  <a:lnTo>
                    <a:pt x="167" y="151"/>
                  </a:lnTo>
                  <a:lnTo>
                    <a:pt x="191" y="132"/>
                  </a:lnTo>
                  <a:lnTo>
                    <a:pt x="212" y="113"/>
                  </a:lnTo>
                  <a:lnTo>
                    <a:pt x="232" y="92"/>
                  </a:lnTo>
                  <a:lnTo>
                    <a:pt x="250" y="70"/>
                  </a:lnTo>
                  <a:lnTo>
                    <a:pt x="262" y="46"/>
                  </a:lnTo>
                  <a:lnTo>
                    <a:pt x="260" y="37"/>
                  </a:lnTo>
                  <a:lnTo>
                    <a:pt x="2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 flipH="1">
              <a:off x="1324080" y="3574800"/>
              <a:ext cx="91440" cy="69480"/>
            </a:xfrm>
            <a:custGeom>
              <a:avLst/>
              <a:gdLst/>
              <a:ahLst/>
              <a:rect l="l" t="t" r="r" b="b"/>
              <a:pathLst>
                <a:path w="153" h="115">
                  <a:moveTo>
                    <a:pt x="153" y="6"/>
                  </a:moveTo>
                  <a:lnTo>
                    <a:pt x="151" y="3"/>
                  </a:lnTo>
                  <a:lnTo>
                    <a:pt x="147" y="1"/>
                  </a:lnTo>
                  <a:lnTo>
                    <a:pt x="145" y="0"/>
                  </a:lnTo>
                  <a:lnTo>
                    <a:pt x="139" y="0"/>
                  </a:lnTo>
                  <a:lnTo>
                    <a:pt x="134" y="6"/>
                  </a:lnTo>
                  <a:lnTo>
                    <a:pt x="131" y="14"/>
                  </a:lnTo>
                  <a:lnTo>
                    <a:pt x="132" y="19"/>
                  </a:lnTo>
                  <a:lnTo>
                    <a:pt x="133" y="24"/>
                  </a:lnTo>
                  <a:lnTo>
                    <a:pt x="126" y="32"/>
                  </a:lnTo>
                  <a:lnTo>
                    <a:pt x="113" y="32"/>
                  </a:lnTo>
                  <a:lnTo>
                    <a:pt x="99" y="31"/>
                  </a:lnTo>
                  <a:lnTo>
                    <a:pt x="86" y="33"/>
                  </a:lnTo>
                  <a:lnTo>
                    <a:pt x="84" y="47"/>
                  </a:lnTo>
                  <a:lnTo>
                    <a:pt x="87" y="62"/>
                  </a:lnTo>
                  <a:lnTo>
                    <a:pt x="78" y="72"/>
                  </a:lnTo>
                  <a:lnTo>
                    <a:pt x="62" y="77"/>
                  </a:lnTo>
                  <a:lnTo>
                    <a:pt x="55" y="68"/>
                  </a:lnTo>
                  <a:lnTo>
                    <a:pt x="43" y="65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6" y="79"/>
                  </a:lnTo>
                  <a:lnTo>
                    <a:pt x="38" y="90"/>
                  </a:lnTo>
                  <a:lnTo>
                    <a:pt x="33" y="97"/>
                  </a:lnTo>
                  <a:lnTo>
                    <a:pt x="25" y="97"/>
                  </a:lnTo>
                  <a:lnTo>
                    <a:pt x="13" y="95"/>
                  </a:lnTo>
                  <a:lnTo>
                    <a:pt x="4" y="95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4" y="115"/>
                  </a:lnTo>
                  <a:lnTo>
                    <a:pt x="61" y="110"/>
                  </a:lnTo>
                  <a:lnTo>
                    <a:pt x="61" y="109"/>
                  </a:lnTo>
                  <a:lnTo>
                    <a:pt x="63" y="106"/>
                  </a:lnTo>
                  <a:lnTo>
                    <a:pt x="63" y="96"/>
                  </a:lnTo>
                  <a:lnTo>
                    <a:pt x="61" y="86"/>
                  </a:lnTo>
                  <a:lnTo>
                    <a:pt x="103" y="80"/>
                  </a:lnTo>
                  <a:lnTo>
                    <a:pt x="109" y="67"/>
                  </a:lnTo>
                  <a:lnTo>
                    <a:pt x="113" y="50"/>
                  </a:lnTo>
                  <a:lnTo>
                    <a:pt x="147" y="41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H="1">
              <a:off x="1431000" y="3578400"/>
              <a:ext cx="85680" cy="4212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143" y="56"/>
                  </a:moveTo>
                  <a:lnTo>
                    <a:pt x="142" y="51"/>
                  </a:lnTo>
                  <a:lnTo>
                    <a:pt x="140" y="47"/>
                  </a:lnTo>
                  <a:lnTo>
                    <a:pt x="111" y="35"/>
                  </a:lnTo>
                  <a:lnTo>
                    <a:pt x="81" y="24"/>
                  </a:lnTo>
                  <a:lnTo>
                    <a:pt x="51" y="13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0" y="15"/>
                  </a:lnTo>
                  <a:lnTo>
                    <a:pt x="27" y="39"/>
                  </a:lnTo>
                  <a:lnTo>
                    <a:pt x="59" y="53"/>
                  </a:lnTo>
                  <a:lnTo>
                    <a:pt x="96" y="61"/>
                  </a:lnTo>
                  <a:lnTo>
                    <a:pt x="135" y="68"/>
                  </a:lnTo>
                  <a:lnTo>
                    <a:pt x="143" y="57"/>
                  </a:lnTo>
                  <a:lnTo>
                    <a:pt x="143" y="56"/>
                  </a:lnTo>
                  <a:lnTo>
                    <a:pt x="14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 flipH="1">
              <a:off x="1411920" y="3654000"/>
              <a:ext cx="55800" cy="116280"/>
            </a:xfrm>
            <a:custGeom>
              <a:avLst/>
              <a:gdLst/>
              <a:ahLst/>
              <a:rect l="l" t="t" r="r" b="b"/>
              <a:pathLst>
                <a:path w="94" h="192">
                  <a:moveTo>
                    <a:pt x="92" y="118"/>
                  </a:moveTo>
                  <a:lnTo>
                    <a:pt x="86" y="85"/>
                  </a:lnTo>
                  <a:lnTo>
                    <a:pt x="73" y="54"/>
                  </a:lnTo>
                  <a:lnTo>
                    <a:pt x="53" y="26"/>
                  </a:lnTo>
                  <a:lnTo>
                    <a:pt x="30" y="5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25" y="46"/>
                  </a:lnTo>
                  <a:lnTo>
                    <a:pt x="40" y="88"/>
                  </a:lnTo>
                  <a:lnTo>
                    <a:pt x="48" y="133"/>
                  </a:lnTo>
                  <a:lnTo>
                    <a:pt x="52" y="179"/>
                  </a:lnTo>
                  <a:lnTo>
                    <a:pt x="55" y="187"/>
                  </a:lnTo>
                  <a:lnTo>
                    <a:pt x="59" y="192"/>
                  </a:lnTo>
                  <a:lnTo>
                    <a:pt x="73" y="192"/>
                  </a:lnTo>
                  <a:lnTo>
                    <a:pt x="85" y="183"/>
                  </a:lnTo>
                  <a:lnTo>
                    <a:pt x="94" y="151"/>
                  </a:lnTo>
                  <a:lnTo>
                    <a:pt x="9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H="1">
              <a:off x="1463040" y="3477960"/>
              <a:ext cx="24840" cy="212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40" y="18"/>
                  </a:moveTo>
                  <a:lnTo>
                    <a:pt x="35" y="8"/>
                  </a:lnTo>
                  <a:lnTo>
                    <a:pt x="24" y="0"/>
                  </a:lnTo>
                  <a:lnTo>
                    <a:pt x="12" y="1"/>
                  </a:lnTo>
                  <a:lnTo>
                    <a:pt x="1" y="8"/>
                  </a:lnTo>
                  <a:lnTo>
                    <a:pt x="0" y="17"/>
                  </a:lnTo>
                  <a:lnTo>
                    <a:pt x="3" y="27"/>
                  </a:lnTo>
                  <a:lnTo>
                    <a:pt x="9" y="34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 flipH="1">
              <a:off x="1415880" y="3798000"/>
              <a:ext cx="29520" cy="40680"/>
            </a:xfrm>
            <a:custGeom>
              <a:avLst/>
              <a:gdLst/>
              <a:ahLst/>
              <a:rect l="l" t="t" r="r" b="b"/>
              <a:pathLst>
                <a:path w="51" h="69">
                  <a:moveTo>
                    <a:pt x="51" y="35"/>
                  </a:moveTo>
                  <a:lnTo>
                    <a:pt x="31" y="0"/>
                  </a:lnTo>
                  <a:lnTo>
                    <a:pt x="12" y="1"/>
                  </a:lnTo>
                  <a:lnTo>
                    <a:pt x="0" y="17"/>
                  </a:lnTo>
                  <a:lnTo>
                    <a:pt x="0" y="39"/>
                  </a:lnTo>
                  <a:lnTo>
                    <a:pt x="5" y="51"/>
                  </a:lnTo>
                  <a:lnTo>
                    <a:pt x="7" y="61"/>
                  </a:lnTo>
                  <a:lnTo>
                    <a:pt x="13" y="66"/>
                  </a:lnTo>
                  <a:lnTo>
                    <a:pt x="22" y="69"/>
                  </a:lnTo>
                  <a:lnTo>
                    <a:pt x="31" y="69"/>
                  </a:lnTo>
                  <a:lnTo>
                    <a:pt x="41" y="66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H="1">
              <a:off x="1495440" y="3373200"/>
              <a:ext cx="383040" cy="111240"/>
            </a:xfrm>
            <a:custGeom>
              <a:avLst/>
              <a:gdLst/>
              <a:ahLst/>
              <a:rect l="l" t="t" r="r" b="b"/>
              <a:pathLst>
                <a:path w="643" h="185">
                  <a:moveTo>
                    <a:pt x="643" y="168"/>
                  </a:moveTo>
                  <a:lnTo>
                    <a:pt x="625" y="160"/>
                  </a:lnTo>
                  <a:lnTo>
                    <a:pt x="606" y="155"/>
                  </a:lnTo>
                  <a:lnTo>
                    <a:pt x="587" y="150"/>
                  </a:lnTo>
                  <a:lnTo>
                    <a:pt x="566" y="147"/>
                  </a:lnTo>
                  <a:lnTo>
                    <a:pt x="546" y="142"/>
                  </a:lnTo>
                  <a:lnTo>
                    <a:pt x="525" y="138"/>
                  </a:lnTo>
                  <a:lnTo>
                    <a:pt x="506" y="132"/>
                  </a:lnTo>
                  <a:lnTo>
                    <a:pt x="488" y="125"/>
                  </a:lnTo>
                  <a:lnTo>
                    <a:pt x="425" y="110"/>
                  </a:lnTo>
                  <a:lnTo>
                    <a:pt x="364" y="93"/>
                  </a:lnTo>
                  <a:lnTo>
                    <a:pt x="304" y="75"/>
                  </a:lnTo>
                  <a:lnTo>
                    <a:pt x="243" y="57"/>
                  </a:lnTo>
                  <a:lnTo>
                    <a:pt x="183" y="40"/>
                  </a:lnTo>
                  <a:lnTo>
                    <a:pt x="123" y="24"/>
                  </a:lnTo>
                  <a:lnTo>
                    <a:pt x="64" y="11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16"/>
                  </a:lnTo>
                  <a:lnTo>
                    <a:pt x="42" y="25"/>
                  </a:lnTo>
                  <a:lnTo>
                    <a:pt x="82" y="36"/>
                  </a:lnTo>
                  <a:lnTo>
                    <a:pt x="121" y="47"/>
                  </a:lnTo>
                  <a:lnTo>
                    <a:pt x="161" y="59"/>
                  </a:lnTo>
                  <a:lnTo>
                    <a:pt x="201" y="70"/>
                  </a:lnTo>
                  <a:lnTo>
                    <a:pt x="240" y="82"/>
                  </a:lnTo>
                  <a:lnTo>
                    <a:pt x="280" y="93"/>
                  </a:lnTo>
                  <a:lnTo>
                    <a:pt x="320" y="104"/>
                  </a:lnTo>
                  <a:lnTo>
                    <a:pt x="359" y="116"/>
                  </a:lnTo>
                  <a:lnTo>
                    <a:pt x="399" y="126"/>
                  </a:lnTo>
                  <a:lnTo>
                    <a:pt x="437" y="138"/>
                  </a:lnTo>
                  <a:lnTo>
                    <a:pt x="477" y="148"/>
                  </a:lnTo>
                  <a:lnTo>
                    <a:pt x="517" y="158"/>
                  </a:lnTo>
                  <a:lnTo>
                    <a:pt x="556" y="167"/>
                  </a:lnTo>
                  <a:lnTo>
                    <a:pt x="596" y="177"/>
                  </a:lnTo>
                  <a:lnTo>
                    <a:pt x="636" y="185"/>
                  </a:lnTo>
                  <a:lnTo>
                    <a:pt x="639" y="178"/>
                  </a:lnTo>
                  <a:lnTo>
                    <a:pt x="643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 flipH="1">
              <a:off x="1420200" y="3866400"/>
              <a:ext cx="55800" cy="694080"/>
            </a:xfrm>
            <a:custGeom>
              <a:avLst/>
              <a:gdLst/>
              <a:ahLst/>
              <a:rect l="l" t="t" r="r" b="b"/>
              <a:pathLst>
                <a:path w="92" h="1159">
                  <a:moveTo>
                    <a:pt x="92" y="17"/>
                  </a:move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66" y="10"/>
                  </a:lnTo>
                  <a:lnTo>
                    <a:pt x="47" y="292"/>
                  </a:lnTo>
                  <a:lnTo>
                    <a:pt x="18" y="582"/>
                  </a:lnTo>
                  <a:lnTo>
                    <a:pt x="0" y="870"/>
                  </a:lnTo>
                  <a:lnTo>
                    <a:pt x="8" y="1153"/>
                  </a:lnTo>
                  <a:lnTo>
                    <a:pt x="13" y="1158"/>
                  </a:lnTo>
                  <a:lnTo>
                    <a:pt x="14" y="1159"/>
                  </a:lnTo>
                  <a:lnTo>
                    <a:pt x="26" y="1156"/>
                  </a:lnTo>
                  <a:lnTo>
                    <a:pt x="37" y="1152"/>
                  </a:lnTo>
                  <a:lnTo>
                    <a:pt x="48" y="1143"/>
                  </a:lnTo>
                  <a:lnTo>
                    <a:pt x="54" y="1134"/>
                  </a:lnTo>
                  <a:lnTo>
                    <a:pt x="53" y="860"/>
                  </a:lnTo>
                  <a:lnTo>
                    <a:pt x="56" y="581"/>
                  </a:lnTo>
                  <a:lnTo>
                    <a:pt x="69" y="299"/>
                  </a:lnTo>
                  <a:lnTo>
                    <a:pt x="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H="1">
              <a:off x="1476000" y="3609720"/>
              <a:ext cx="223560" cy="185760"/>
            </a:xfrm>
            <a:custGeom>
              <a:avLst/>
              <a:gdLst/>
              <a:ahLst/>
              <a:rect l="l" t="t" r="r" b="b"/>
              <a:pathLst>
                <a:path w="376" h="312">
                  <a:moveTo>
                    <a:pt x="376" y="66"/>
                  </a:moveTo>
                  <a:lnTo>
                    <a:pt x="366" y="52"/>
                  </a:lnTo>
                  <a:lnTo>
                    <a:pt x="340" y="35"/>
                  </a:lnTo>
                  <a:lnTo>
                    <a:pt x="312" y="22"/>
                  </a:lnTo>
                  <a:lnTo>
                    <a:pt x="282" y="11"/>
                  </a:lnTo>
                  <a:lnTo>
                    <a:pt x="250" y="3"/>
                  </a:lnTo>
                  <a:lnTo>
                    <a:pt x="218" y="0"/>
                  </a:lnTo>
                  <a:lnTo>
                    <a:pt x="184" y="0"/>
                  </a:lnTo>
                  <a:lnTo>
                    <a:pt x="152" y="5"/>
                  </a:lnTo>
                  <a:lnTo>
                    <a:pt x="120" y="15"/>
                  </a:lnTo>
                  <a:lnTo>
                    <a:pt x="71" y="76"/>
                  </a:lnTo>
                  <a:lnTo>
                    <a:pt x="40" y="143"/>
                  </a:lnTo>
                  <a:lnTo>
                    <a:pt x="18" y="217"/>
                  </a:lnTo>
                  <a:lnTo>
                    <a:pt x="0" y="292"/>
                  </a:lnTo>
                  <a:lnTo>
                    <a:pt x="7" y="309"/>
                  </a:lnTo>
                  <a:lnTo>
                    <a:pt x="11" y="310"/>
                  </a:lnTo>
                  <a:lnTo>
                    <a:pt x="13" y="312"/>
                  </a:lnTo>
                  <a:lnTo>
                    <a:pt x="17" y="312"/>
                  </a:lnTo>
                  <a:lnTo>
                    <a:pt x="21" y="312"/>
                  </a:lnTo>
                  <a:lnTo>
                    <a:pt x="42" y="237"/>
                  </a:lnTo>
                  <a:lnTo>
                    <a:pt x="63" y="161"/>
                  </a:lnTo>
                  <a:lnTo>
                    <a:pt x="94" y="92"/>
                  </a:lnTo>
                  <a:lnTo>
                    <a:pt x="152" y="38"/>
                  </a:lnTo>
                  <a:lnTo>
                    <a:pt x="173" y="33"/>
                  </a:lnTo>
                  <a:lnTo>
                    <a:pt x="194" y="30"/>
                  </a:lnTo>
                  <a:lnTo>
                    <a:pt x="213" y="33"/>
                  </a:lnTo>
                  <a:lnTo>
                    <a:pt x="232" y="38"/>
                  </a:lnTo>
                  <a:lnTo>
                    <a:pt x="251" y="45"/>
                  </a:lnTo>
                  <a:lnTo>
                    <a:pt x="269" y="53"/>
                  </a:lnTo>
                  <a:lnTo>
                    <a:pt x="288" y="62"/>
                  </a:lnTo>
                  <a:lnTo>
                    <a:pt x="304" y="69"/>
                  </a:lnTo>
                  <a:lnTo>
                    <a:pt x="319" y="77"/>
                  </a:lnTo>
                  <a:lnTo>
                    <a:pt x="333" y="86"/>
                  </a:lnTo>
                  <a:lnTo>
                    <a:pt x="348" y="90"/>
                  </a:lnTo>
                  <a:lnTo>
                    <a:pt x="364" y="89"/>
                  </a:lnTo>
                  <a:lnTo>
                    <a:pt x="374" y="81"/>
                  </a:lnTo>
                  <a:lnTo>
                    <a:pt x="37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 flipH="1">
              <a:off x="1324080" y="4430160"/>
              <a:ext cx="174960" cy="180000"/>
            </a:xfrm>
            <a:custGeom>
              <a:avLst/>
              <a:gdLst/>
              <a:ahLst/>
              <a:rect l="l" t="t" r="r" b="b"/>
              <a:pathLst>
                <a:path w="293" h="301">
                  <a:moveTo>
                    <a:pt x="292" y="12"/>
                  </a:moveTo>
                  <a:lnTo>
                    <a:pt x="292" y="7"/>
                  </a:lnTo>
                  <a:lnTo>
                    <a:pt x="290" y="1"/>
                  </a:lnTo>
                  <a:lnTo>
                    <a:pt x="279" y="0"/>
                  </a:lnTo>
                  <a:lnTo>
                    <a:pt x="267" y="9"/>
                  </a:lnTo>
                  <a:lnTo>
                    <a:pt x="245" y="40"/>
                  </a:lnTo>
                  <a:lnTo>
                    <a:pt x="224" y="66"/>
                  </a:lnTo>
                  <a:lnTo>
                    <a:pt x="201" y="93"/>
                  </a:lnTo>
                  <a:lnTo>
                    <a:pt x="179" y="118"/>
                  </a:lnTo>
                  <a:lnTo>
                    <a:pt x="158" y="143"/>
                  </a:lnTo>
                  <a:lnTo>
                    <a:pt x="135" y="166"/>
                  </a:lnTo>
                  <a:lnTo>
                    <a:pt x="112" y="190"/>
                  </a:lnTo>
                  <a:lnTo>
                    <a:pt x="90" y="214"/>
                  </a:lnTo>
                  <a:lnTo>
                    <a:pt x="72" y="228"/>
                  </a:lnTo>
                  <a:lnTo>
                    <a:pt x="53" y="242"/>
                  </a:lnTo>
                  <a:lnTo>
                    <a:pt x="33" y="253"/>
                  </a:lnTo>
                  <a:lnTo>
                    <a:pt x="11" y="257"/>
                  </a:lnTo>
                  <a:lnTo>
                    <a:pt x="0" y="269"/>
                  </a:lnTo>
                  <a:lnTo>
                    <a:pt x="0" y="283"/>
                  </a:lnTo>
                  <a:lnTo>
                    <a:pt x="9" y="296"/>
                  </a:lnTo>
                  <a:lnTo>
                    <a:pt x="21" y="301"/>
                  </a:lnTo>
                  <a:lnTo>
                    <a:pt x="59" y="283"/>
                  </a:lnTo>
                  <a:lnTo>
                    <a:pt x="94" y="261"/>
                  </a:lnTo>
                  <a:lnTo>
                    <a:pt x="126" y="233"/>
                  </a:lnTo>
                  <a:lnTo>
                    <a:pt x="155" y="203"/>
                  </a:lnTo>
                  <a:lnTo>
                    <a:pt x="183" y="171"/>
                  </a:lnTo>
                  <a:lnTo>
                    <a:pt x="209" y="136"/>
                  </a:lnTo>
                  <a:lnTo>
                    <a:pt x="236" y="101"/>
                  </a:lnTo>
                  <a:lnTo>
                    <a:pt x="262" y="66"/>
                  </a:lnTo>
                  <a:lnTo>
                    <a:pt x="269" y="53"/>
                  </a:lnTo>
                  <a:lnTo>
                    <a:pt x="277" y="40"/>
                  </a:lnTo>
                  <a:lnTo>
                    <a:pt x="286" y="27"/>
                  </a:lnTo>
                  <a:lnTo>
                    <a:pt x="293" y="13"/>
                  </a:lnTo>
                  <a:lnTo>
                    <a:pt x="293" y="13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H="1">
              <a:off x="1529640" y="3084120"/>
              <a:ext cx="1029240" cy="505080"/>
            </a:xfrm>
            <a:custGeom>
              <a:avLst/>
              <a:gdLst/>
              <a:ahLst/>
              <a:rect l="l" t="t" r="r" b="b"/>
              <a:pathLst>
                <a:path w="1728" h="843">
                  <a:moveTo>
                    <a:pt x="1725" y="822"/>
                  </a:moveTo>
                  <a:lnTo>
                    <a:pt x="1725" y="821"/>
                  </a:lnTo>
                  <a:lnTo>
                    <a:pt x="1724" y="820"/>
                  </a:lnTo>
                  <a:lnTo>
                    <a:pt x="1680" y="807"/>
                  </a:lnTo>
                  <a:lnTo>
                    <a:pt x="1637" y="795"/>
                  </a:lnTo>
                  <a:lnTo>
                    <a:pt x="1594" y="781"/>
                  </a:lnTo>
                  <a:lnTo>
                    <a:pt x="1550" y="769"/>
                  </a:lnTo>
                  <a:lnTo>
                    <a:pt x="1507" y="756"/>
                  </a:lnTo>
                  <a:lnTo>
                    <a:pt x="1464" y="744"/>
                  </a:lnTo>
                  <a:lnTo>
                    <a:pt x="1419" y="731"/>
                  </a:lnTo>
                  <a:lnTo>
                    <a:pt x="1377" y="718"/>
                  </a:lnTo>
                  <a:lnTo>
                    <a:pt x="1334" y="704"/>
                  </a:lnTo>
                  <a:lnTo>
                    <a:pt x="1291" y="691"/>
                  </a:lnTo>
                  <a:lnTo>
                    <a:pt x="1249" y="678"/>
                  </a:lnTo>
                  <a:lnTo>
                    <a:pt x="1207" y="664"/>
                  </a:lnTo>
                  <a:lnTo>
                    <a:pt x="1163" y="650"/>
                  </a:lnTo>
                  <a:lnTo>
                    <a:pt x="1121" y="635"/>
                  </a:lnTo>
                  <a:lnTo>
                    <a:pt x="1079" y="621"/>
                  </a:lnTo>
                  <a:lnTo>
                    <a:pt x="1037" y="606"/>
                  </a:lnTo>
                  <a:lnTo>
                    <a:pt x="1042" y="596"/>
                  </a:lnTo>
                  <a:lnTo>
                    <a:pt x="1053" y="587"/>
                  </a:lnTo>
                  <a:lnTo>
                    <a:pt x="1067" y="581"/>
                  </a:lnTo>
                  <a:lnTo>
                    <a:pt x="1079" y="573"/>
                  </a:lnTo>
                  <a:lnTo>
                    <a:pt x="1097" y="570"/>
                  </a:lnTo>
                  <a:lnTo>
                    <a:pt x="1113" y="563"/>
                  </a:lnTo>
                  <a:lnTo>
                    <a:pt x="1126" y="553"/>
                  </a:lnTo>
                  <a:lnTo>
                    <a:pt x="1135" y="541"/>
                  </a:lnTo>
                  <a:lnTo>
                    <a:pt x="1135" y="522"/>
                  </a:lnTo>
                  <a:lnTo>
                    <a:pt x="1125" y="511"/>
                  </a:lnTo>
                  <a:lnTo>
                    <a:pt x="1102" y="505"/>
                  </a:lnTo>
                  <a:lnTo>
                    <a:pt x="1086" y="514"/>
                  </a:lnTo>
                  <a:lnTo>
                    <a:pt x="1071" y="528"/>
                  </a:lnTo>
                  <a:lnTo>
                    <a:pt x="1054" y="538"/>
                  </a:lnTo>
                  <a:lnTo>
                    <a:pt x="1034" y="541"/>
                  </a:lnTo>
                  <a:lnTo>
                    <a:pt x="1006" y="511"/>
                  </a:lnTo>
                  <a:lnTo>
                    <a:pt x="981" y="478"/>
                  </a:lnTo>
                  <a:lnTo>
                    <a:pt x="958" y="445"/>
                  </a:lnTo>
                  <a:lnTo>
                    <a:pt x="933" y="410"/>
                  </a:lnTo>
                  <a:lnTo>
                    <a:pt x="910" y="376"/>
                  </a:lnTo>
                  <a:lnTo>
                    <a:pt x="883" y="344"/>
                  </a:lnTo>
                  <a:lnTo>
                    <a:pt x="858" y="313"/>
                  </a:lnTo>
                  <a:lnTo>
                    <a:pt x="830" y="286"/>
                  </a:lnTo>
                  <a:lnTo>
                    <a:pt x="800" y="252"/>
                  </a:lnTo>
                  <a:lnTo>
                    <a:pt x="770" y="221"/>
                  </a:lnTo>
                  <a:lnTo>
                    <a:pt x="740" y="191"/>
                  </a:lnTo>
                  <a:lnTo>
                    <a:pt x="709" y="162"/>
                  </a:lnTo>
                  <a:lnTo>
                    <a:pt x="696" y="154"/>
                  </a:lnTo>
                  <a:lnTo>
                    <a:pt x="683" y="147"/>
                  </a:lnTo>
                  <a:lnTo>
                    <a:pt x="671" y="139"/>
                  </a:lnTo>
                  <a:lnTo>
                    <a:pt x="661" y="131"/>
                  </a:lnTo>
                  <a:lnTo>
                    <a:pt x="627" y="115"/>
                  </a:lnTo>
                  <a:lnTo>
                    <a:pt x="596" y="99"/>
                  </a:lnTo>
                  <a:lnTo>
                    <a:pt x="564" y="83"/>
                  </a:lnTo>
                  <a:lnTo>
                    <a:pt x="532" y="66"/>
                  </a:lnTo>
                  <a:lnTo>
                    <a:pt x="500" y="52"/>
                  </a:lnTo>
                  <a:lnTo>
                    <a:pt x="467" y="40"/>
                  </a:lnTo>
                  <a:lnTo>
                    <a:pt x="434" y="29"/>
                  </a:lnTo>
                  <a:lnTo>
                    <a:pt x="398" y="22"/>
                  </a:lnTo>
                  <a:lnTo>
                    <a:pt x="350" y="13"/>
                  </a:lnTo>
                  <a:lnTo>
                    <a:pt x="299" y="6"/>
                  </a:lnTo>
                  <a:lnTo>
                    <a:pt x="250" y="2"/>
                  </a:lnTo>
                  <a:lnTo>
                    <a:pt x="199" y="0"/>
                  </a:lnTo>
                  <a:lnTo>
                    <a:pt x="150" y="2"/>
                  </a:lnTo>
                  <a:lnTo>
                    <a:pt x="101" y="6"/>
                  </a:lnTo>
                  <a:lnTo>
                    <a:pt x="53" y="13"/>
                  </a:lnTo>
                  <a:lnTo>
                    <a:pt x="7" y="22"/>
                  </a:lnTo>
                  <a:lnTo>
                    <a:pt x="2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8"/>
                  </a:lnTo>
                  <a:lnTo>
                    <a:pt x="17" y="43"/>
                  </a:lnTo>
                  <a:lnTo>
                    <a:pt x="34" y="41"/>
                  </a:lnTo>
                  <a:lnTo>
                    <a:pt x="52" y="35"/>
                  </a:lnTo>
                  <a:lnTo>
                    <a:pt x="68" y="34"/>
                  </a:lnTo>
                  <a:lnTo>
                    <a:pt x="103" y="30"/>
                  </a:lnTo>
                  <a:lnTo>
                    <a:pt x="136" y="29"/>
                  </a:lnTo>
                  <a:lnTo>
                    <a:pt x="169" y="29"/>
                  </a:lnTo>
                  <a:lnTo>
                    <a:pt x="204" y="29"/>
                  </a:lnTo>
                  <a:lnTo>
                    <a:pt x="255" y="29"/>
                  </a:lnTo>
                  <a:lnTo>
                    <a:pt x="303" y="32"/>
                  </a:lnTo>
                  <a:lnTo>
                    <a:pt x="348" y="40"/>
                  </a:lnTo>
                  <a:lnTo>
                    <a:pt x="393" y="50"/>
                  </a:lnTo>
                  <a:lnTo>
                    <a:pt x="435" y="64"/>
                  </a:lnTo>
                  <a:lnTo>
                    <a:pt x="477" y="78"/>
                  </a:lnTo>
                  <a:lnTo>
                    <a:pt x="518" y="96"/>
                  </a:lnTo>
                  <a:lnTo>
                    <a:pt x="556" y="115"/>
                  </a:lnTo>
                  <a:lnTo>
                    <a:pt x="583" y="126"/>
                  </a:lnTo>
                  <a:lnTo>
                    <a:pt x="607" y="139"/>
                  </a:lnTo>
                  <a:lnTo>
                    <a:pt x="631" y="154"/>
                  </a:lnTo>
                  <a:lnTo>
                    <a:pt x="653" y="169"/>
                  </a:lnTo>
                  <a:lnTo>
                    <a:pt x="673" y="185"/>
                  </a:lnTo>
                  <a:lnTo>
                    <a:pt x="692" y="201"/>
                  </a:lnTo>
                  <a:lnTo>
                    <a:pt x="713" y="218"/>
                  </a:lnTo>
                  <a:lnTo>
                    <a:pt x="731" y="234"/>
                  </a:lnTo>
                  <a:lnTo>
                    <a:pt x="769" y="274"/>
                  </a:lnTo>
                  <a:lnTo>
                    <a:pt x="805" y="314"/>
                  </a:lnTo>
                  <a:lnTo>
                    <a:pt x="841" y="358"/>
                  </a:lnTo>
                  <a:lnTo>
                    <a:pt x="876" y="404"/>
                  </a:lnTo>
                  <a:lnTo>
                    <a:pt x="910" y="451"/>
                  </a:lnTo>
                  <a:lnTo>
                    <a:pt x="941" y="500"/>
                  </a:lnTo>
                  <a:lnTo>
                    <a:pt x="972" y="552"/>
                  </a:lnTo>
                  <a:lnTo>
                    <a:pt x="1001" y="603"/>
                  </a:lnTo>
                  <a:lnTo>
                    <a:pt x="1019" y="606"/>
                  </a:lnTo>
                  <a:lnTo>
                    <a:pt x="1019" y="623"/>
                  </a:lnTo>
                  <a:lnTo>
                    <a:pt x="1023" y="642"/>
                  </a:lnTo>
                  <a:lnTo>
                    <a:pt x="1065" y="656"/>
                  </a:lnTo>
                  <a:lnTo>
                    <a:pt x="1106" y="670"/>
                  </a:lnTo>
                  <a:lnTo>
                    <a:pt x="1149" y="683"/>
                  </a:lnTo>
                  <a:lnTo>
                    <a:pt x="1192" y="694"/>
                  </a:lnTo>
                  <a:lnTo>
                    <a:pt x="1236" y="706"/>
                  </a:lnTo>
                  <a:lnTo>
                    <a:pt x="1278" y="718"/>
                  </a:lnTo>
                  <a:lnTo>
                    <a:pt x="1320" y="731"/>
                  </a:lnTo>
                  <a:lnTo>
                    <a:pt x="1362" y="744"/>
                  </a:lnTo>
                  <a:lnTo>
                    <a:pt x="1713" y="843"/>
                  </a:lnTo>
                  <a:lnTo>
                    <a:pt x="1716" y="841"/>
                  </a:lnTo>
                  <a:lnTo>
                    <a:pt x="1720" y="839"/>
                  </a:lnTo>
                  <a:lnTo>
                    <a:pt x="1725" y="833"/>
                  </a:lnTo>
                  <a:lnTo>
                    <a:pt x="1728" y="823"/>
                  </a:lnTo>
                  <a:lnTo>
                    <a:pt x="1727" y="822"/>
                  </a:lnTo>
                  <a:lnTo>
                    <a:pt x="1725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 flipH="1">
              <a:off x="1668240" y="3615840"/>
              <a:ext cx="138960" cy="5760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235" y="46"/>
                  </a:moveTo>
                  <a:lnTo>
                    <a:pt x="229" y="35"/>
                  </a:lnTo>
                  <a:lnTo>
                    <a:pt x="201" y="40"/>
                  </a:lnTo>
                  <a:lnTo>
                    <a:pt x="173" y="43"/>
                  </a:lnTo>
                  <a:lnTo>
                    <a:pt x="146" y="45"/>
                  </a:lnTo>
                  <a:lnTo>
                    <a:pt x="119" y="43"/>
                  </a:lnTo>
                  <a:lnTo>
                    <a:pt x="92" y="39"/>
                  </a:lnTo>
                  <a:lnTo>
                    <a:pt x="66" y="30"/>
                  </a:lnTo>
                  <a:lnTo>
                    <a:pt x="42" y="18"/>
                  </a:lnTo>
                  <a:lnTo>
                    <a:pt x="17" y="2"/>
                  </a:lnTo>
                  <a:lnTo>
                    <a:pt x="11" y="2"/>
                  </a:lnTo>
                  <a:lnTo>
                    <a:pt x="5" y="0"/>
                  </a:lnTo>
                  <a:lnTo>
                    <a:pt x="3" y="5"/>
                  </a:lnTo>
                  <a:lnTo>
                    <a:pt x="0" y="12"/>
                  </a:lnTo>
                  <a:lnTo>
                    <a:pt x="30" y="41"/>
                  </a:lnTo>
                  <a:lnTo>
                    <a:pt x="67" y="64"/>
                  </a:lnTo>
                  <a:lnTo>
                    <a:pt x="106" y="82"/>
                  </a:lnTo>
                  <a:lnTo>
                    <a:pt x="146" y="96"/>
                  </a:lnTo>
                  <a:lnTo>
                    <a:pt x="168" y="96"/>
                  </a:lnTo>
                  <a:lnTo>
                    <a:pt x="190" y="93"/>
                  </a:lnTo>
                  <a:lnTo>
                    <a:pt x="209" y="84"/>
                  </a:lnTo>
                  <a:lnTo>
                    <a:pt x="223" y="71"/>
                  </a:lnTo>
                  <a:lnTo>
                    <a:pt x="231" y="59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H="1">
              <a:off x="1514520" y="4530960"/>
              <a:ext cx="454320" cy="83520"/>
            </a:xfrm>
            <a:custGeom>
              <a:avLst/>
              <a:gdLst/>
              <a:ahLst/>
              <a:rect l="l" t="t" r="r" b="b"/>
              <a:pathLst>
                <a:path w="764" h="139">
                  <a:moveTo>
                    <a:pt x="764" y="116"/>
                  </a:moveTo>
                  <a:lnTo>
                    <a:pt x="757" y="97"/>
                  </a:lnTo>
                  <a:lnTo>
                    <a:pt x="703" y="79"/>
                  </a:lnTo>
                  <a:lnTo>
                    <a:pt x="646" y="66"/>
                  </a:lnTo>
                  <a:lnTo>
                    <a:pt x="588" y="58"/>
                  </a:lnTo>
                  <a:lnTo>
                    <a:pt x="528" y="52"/>
                  </a:lnTo>
                  <a:lnTo>
                    <a:pt x="467" y="49"/>
                  </a:lnTo>
                  <a:lnTo>
                    <a:pt x="406" y="45"/>
                  </a:lnTo>
                  <a:lnTo>
                    <a:pt x="344" y="40"/>
                  </a:lnTo>
                  <a:lnTo>
                    <a:pt x="287" y="33"/>
                  </a:lnTo>
                  <a:lnTo>
                    <a:pt x="250" y="32"/>
                  </a:lnTo>
                  <a:lnTo>
                    <a:pt x="213" y="30"/>
                  </a:lnTo>
                  <a:lnTo>
                    <a:pt x="177" y="24"/>
                  </a:lnTo>
                  <a:lnTo>
                    <a:pt x="141" y="18"/>
                  </a:lnTo>
                  <a:lnTo>
                    <a:pt x="106" y="10"/>
                  </a:lnTo>
                  <a:lnTo>
                    <a:pt x="72" y="4"/>
                  </a:lnTo>
                  <a:lnTo>
                    <a:pt x="37" y="1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42" y="19"/>
                  </a:lnTo>
                  <a:lnTo>
                    <a:pt x="84" y="30"/>
                  </a:lnTo>
                  <a:lnTo>
                    <a:pt x="127" y="39"/>
                  </a:lnTo>
                  <a:lnTo>
                    <a:pt x="170" y="48"/>
                  </a:lnTo>
                  <a:lnTo>
                    <a:pt x="215" y="56"/>
                  </a:lnTo>
                  <a:lnTo>
                    <a:pt x="258" y="64"/>
                  </a:lnTo>
                  <a:lnTo>
                    <a:pt x="301" y="70"/>
                  </a:lnTo>
                  <a:lnTo>
                    <a:pt x="346" y="79"/>
                  </a:lnTo>
                  <a:lnTo>
                    <a:pt x="390" y="85"/>
                  </a:lnTo>
                  <a:lnTo>
                    <a:pt x="435" y="91"/>
                  </a:lnTo>
                  <a:lnTo>
                    <a:pt x="480" y="99"/>
                  </a:lnTo>
                  <a:lnTo>
                    <a:pt x="524" y="105"/>
                  </a:lnTo>
                  <a:lnTo>
                    <a:pt x="569" y="113"/>
                  </a:lnTo>
                  <a:lnTo>
                    <a:pt x="614" y="121"/>
                  </a:lnTo>
                  <a:lnTo>
                    <a:pt x="658" y="129"/>
                  </a:lnTo>
                  <a:lnTo>
                    <a:pt x="703" y="139"/>
                  </a:lnTo>
                  <a:lnTo>
                    <a:pt x="717" y="139"/>
                  </a:lnTo>
                  <a:lnTo>
                    <a:pt x="732" y="139"/>
                  </a:lnTo>
                  <a:lnTo>
                    <a:pt x="745" y="138"/>
                  </a:lnTo>
                  <a:lnTo>
                    <a:pt x="757" y="133"/>
                  </a:lnTo>
                  <a:lnTo>
                    <a:pt x="763" y="126"/>
                  </a:lnTo>
                  <a:lnTo>
                    <a:pt x="764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 flipH="1">
              <a:off x="1696320" y="3808800"/>
              <a:ext cx="129240" cy="164160"/>
            </a:xfrm>
            <a:custGeom>
              <a:avLst/>
              <a:gdLst/>
              <a:ahLst/>
              <a:rect l="l" t="t" r="r" b="b"/>
              <a:pathLst>
                <a:path w="217" h="274">
                  <a:moveTo>
                    <a:pt x="217" y="13"/>
                  </a:moveTo>
                  <a:lnTo>
                    <a:pt x="209" y="0"/>
                  </a:lnTo>
                  <a:lnTo>
                    <a:pt x="197" y="4"/>
                  </a:lnTo>
                  <a:lnTo>
                    <a:pt x="184" y="30"/>
                  </a:lnTo>
                  <a:lnTo>
                    <a:pt x="171" y="61"/>
                  </a:lnTo>
                  <a:lnTo>
                    <a:pt x="157" y="92"/>
                  </a:lnTo>
                  <a:lnTo>
                    <a:pt x="143" y="122"/>
                  </a:lnTo>
                  <a:lnTo>
                    <a:pt x="124" y="149"/>
                  </a:lnTo>
                  <a:lnTo>
                    <a:pt x="102" y="174"/>
                  </a:lnTo>
                  <a:lnTo>
                    <a:pt x="77" y="195"/>
                  </a:lnTo>
                  <a:lnTo>
                    <a:pt x="46" y="209"/>
                  </a:lnTo>
                  <a:lnTo>
                    <a:pt x="32" y="212"/>
                  </a:lnTo>
                  <a:lnTo>
                    <a:pt x="20" y="212"/>
                  </a:lnTo>
                  <a:lnTo>
                    <a:pt x="6" y="221"/>
                  </a:lnTo>
                  <a:lnTo>
                    <a:pt x="0" y="238"/>
                  </a:lnTo>
                  <a:lnTo>
                    <a:pt x="2" y="249"/>
                  </a:lnTo>
                  <a:lnTo>
                    <a:pt x="5" y="259"/>
                  </a:lnTo>
                  <a:lnTo>
                    <a:pt x="14" y="266"/>
                  </a:lnTo>
                  <a:lnTo>
                    <a:pt x="26" y="272"/>
                  </a:lnTo>
                  <a:lnTo>
                    <a:pt x="38" y="274"/>
                  </a:lnTo>
                  <a:lnTo>
                    <a:pt x="52" y="274"/>
                  </a:lnTo>
                  <a:lnTo>
                    <a:pt x="103" y="248"/>
                  </a:lnTo>
                  <a:lnTo>
                    <a:pt x="142" y="205"/>
                  </a:lnTo>
                  <a:lnTo>
                    <a:pt x="172" y="154"/>
                  </a:lnTo>
                  <a:lnTo>
                    <a:pt x="201" y="105"/>
                  </a:lnTo>
                  <a:lnTo>
                    <a:pt x="213" y="61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 flipH="1">
              <a:off x="1812960" y="3519720"/>
              <a:ext cx="27000" cy="168840"/>
            </a:xfrm>
            <a:custGeom>
              <a:avLst/>
              <a:gdLst/>
              <a:ahLst/>
              <a:rect l="l" t="t" r="r" b="b"/>
              <a:pathLst>
                <a:path w="45" h="282">
                  <a:moveTo>
                    <a:pt x="38" y="60"/>
                  </a:moveTo>
                  <a:lnTo>
                    <a:pt x="16" y="1"/>
                  </a:lnTo>
                  <a:lnTo>
                    <a:pt x="9" y="0"/>
                  </a:lnTo>
                  <a:lnTo>
                    <a:pt x="0" y="2"/>
                  </a:lnTo>
                  <a:lnTo>
                    <a:pt x="3" y="46"/>
                  </a:lnTo>
                  <a:lnTo>
                    <a:pt x="7" y="91"/>
                  </a:lnTo>
                  <a:lnTo>
                    <a:pt x="8" y="139"/>
                  </a:lnTo>
                  <a:lnTo>
                    <a:pt x="3" y="189"/>
                  </a:lnTo>
                  <a:lnTo>
                    <a:pt x="3" y="237"/>
                  </a:lnTo>
                  <a:lnTo>
                    <a:pt x="18" y="279"/>
                  </a:lnTo>
                  <a:lnTo>
                    <a:pt x="33" y="282"/>
                  </a:lnTo>
                  <a:lnTo>
                    <a:pt x="44" y="275"/>
                  </a:lnTo>
                  <a:lnTo>
                    <a:pt x="45" y="169"/>
                  </a:lnTo>
                  <a:lnTo>
                    <a:pt x="3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 flipH="1">
              <a:off x="1881000" y="3127320"/>
              <a:ext cx="191520" cy="24228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322" y="371"/>
                  </a:moveTo>
                  <a:lnTo>
                    <a:pt x="298" y="313"/>
                  </a:lnTo>
                  <a:lnTo>
                    <a:pt x="269" y="258"/>
                  </a:lnTo>
                  <a:lnTo>
                    <a:pt x="237" y="206"/>
                  </a:lnTo>
                  <a:lnTo>
                    <a:pt x="201" y="158"/>
                  </a:lnTo>
                  <a:lnTo>
                    <a:pt x="161" y="113"/>
                  </a:lnTo>
                  <a:lnTo>
                    <a:pt x="119" y="72"/>
                  </a:lnTo>
                  <a:lnTo>
                    <a:pt x="73" y="35"/>
                  </a:lnTo>
                  <a:lnTo>
                    <a:pt x="25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7"/>
                  </a:lnTo>
                  <a:lnTo>
                    <a:pt x="10" y="32"/>
                  </a:lnTo>
                  <a:lnTo>
                    <a:pt x="57" y="64"/>
                  </a:lnTo>
                  <a:lnTo>
                    <a:pt x="100" y="101"/>
                  </a:lnTo>
                  <a:lnTo>
                    <a:pt x="139" y="143"/>
                  </a:lnTo>
                  <a:lnTo>
                    <a:pt x="174" y="188"/>
                  </a:lnTo>
                  <a:lnTo>
                    <a:pt x="206" y="236"/>
                  </a:lnTo>
                  <a:lnTo>
                    <a:pt x="233" y="288"/>
                  </a:lnTo>
                  <a:lnTo>
                    <a:pt x="257" y="340"/>
                  </a:lnTo>
                  <a:lnTo>
                    <a:pt x="278" y="397"/>
                  </a:lnTo>
                  <a:lnTo>
                    <a:pt x="289" y="404"/>
                  </a:lnTo>
                  <a:lnTo>
                    <a:pt x="304" y="402"/>
                  </a:lnTo>
                  <a:lnTo>
                    <a:pt x="311" y="397"/>
                  </a:lnTo>
                  <a:lnTo>
                    <a:pt x="316" y="392"/>
                  </a:lnTo>
                  <a:lnTo>
                    <a:pt x="32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 flipH="1">
              <a:off x="1833120" y="3690000"/>
              <a:ext cx="119880" cy="106560"/>
            </a:xfrm>
            <a:custGeom>
              <a:avLst/>
              <a:gdLst/>
              <a:ahLst/>
              <a:rect l="l" t="t" r="r" b="b"/>
              <a:pathLst>
                <a:path w="201" h="178">
                  <a:moveTo>
                    <a:pt x="201" y="19"/>
                  </a:moveTo>
                  <a:lnTo>
                    <a:pt x="201" y="17"/>
                  </a:lnTo>
                  <a:lnTo>
                    <a:pt x="199" y="13"/>
                  </a:lnTo>
                  <a:lnTo>
                    <a:pt x="192" y="6"/>
                  </a:lnTo>
                  <a:lnTo>
                    <a:pt x="181" y="0"/>
                  </a:lnTo>
                  <a:lnTo>
                    <a:pt x="155" y="15"/>
                  </a:lnTo>
                  <a:lnTo>
                    <a:pt x="131" y="31"/>
                  </a:lnTo>
                  <a:lnTo>
                    <a:pt x="109" y="50"/>
                  </a:lnTo>
                  <a:lnTo>
                    <a:pt x="90" y="68"/>
                  </a:lnTo>
                  <a:lnTo>
                    <a:pt x="71" y="88"/>
                  </a:lnTo>
                  <a:lnTo>
                    <a:pt x="50" y="107"/>
                  </a:lnTo>
                  <a:lnTo>
                    <a:pt x="29" y="126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6" y="177"/>
                  </a:lnTo>
                  <a:lnTo>
                    <a:pt x="14" y="178"/>
                  </a:lnTo>
                  <a:lnTo>
                    <a:pt x="22" y="177"/>
                  </a:lnTo>
                  <a:lnTo>
                    <a:pt x="29" y="172"/>
                  </a:lnTo>
                  <a:lnTo>
                    <a:pt x="35" y="167"/>
                  </a:lnTo>
                  <a:lnTo>
                    <a:pt x="53" y="145"/>
                  </a:lnTo>
                  <a:lnTo>
                    <a:pt x="71" y="125"/>
                  </a:lnTo>
                  <a:lnTo>
                    <a:pt x="90" y="106"/>
                  </a:lnTo>
                  <a:lnTo>
                    <a:pt x="109" y="86"/>
                  </a:lnTo>
                  <a:lnTo>
                    <a:pt x="130" y="70"/>
                  </a:lnTo>
                  <a:lnTo>
                    <a:pt x="151" y="54"/>
                  </a:lnTo>
                  <a:lnTo>
                    <a:pt x="175" y="38"/>
                  </a:lnTo>
                  <a:lnTo>
                    <a:pt x="201" y="24"/>
                  </a:lnTo>
                  <a:lnTo>
                    <a:pt x="201" y="23"/>
                  </a:lnTo>
                  <a:lnTo>
                    <a:pt x="20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 flipH="1">
              <a:off x="1828440" y="3902400"/>
              <a:ext cx="161640" cy="4644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268" y="59"/>
                  </a:moveTo>
                  <a:lnTo>
                    <a:pt x="261" y="49"/>
                  </a:lnTo>
                  <a:lnTo>
                    <a:pt x="229" y="45"/>
                  </a:lnTo>
                  <a:lnTo>
                    <a:pt x="196" y="41"/>
                  </a:lnTo>
                  <a:lnTo>
                    <a:pt x="164" y="35"/>
                  </a:lnTo>
                  <a:lnTo>
                    <a:pt x="131" y="29"/>
                  </a:lnTo>
                  <a:lnTo>
                    <a:pt x="100" y="22"/>
                  </a:lnTo>
                  <a:lnTo>
                    <a:pt x="68" y="15"/>
                  </a:lnTo>
                  <a:lnTo>
                    <a:pt x="38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8"/>
                  </a:lnTo>
                  <a:lnTo>
                    <a:pt x="6" y="31"/>
                  </a:lnTo>
                  <a:lnTo>
                    <a:pt x="38" y="39"/>
                  </a:lnTo>
                  <a:lnTo>
                    <a:pt x="68" y="49"/>
                  </a:lnTo>
                  <a:lnTo>
                    <a:pt x="99" y="56"/>
                  </a:lnTo>
                  <a:lnTo>
                    <a:pt x="130" y="64"/>
                  </a:lnTo>
                  <a:lnTo>
                    <a:pt x="160" y="70"/>
                  </a:lnTo>
                  <a:lnTo>
                    <a:pt x="193" y="75"/>
                  </a:lnTo>
                  <a:lnTo>
                    <a:pt x="225" y="79"/>
                  </a:lnTo>
                  <a:lnTo>
                    <a:pt x="256" y="79"/>
                  </a:lnTo>
                  <a:lnTo>
                    <a:pt x="265" y="70"/>
                  </a:lnTo>
                  <a:lnTo>
                    <a:pt x="272" y="61"/>
                  </a:lnTo>
                  <a:lnTo>
                    <a:pt x="271" y="59"/>
                  </a:lnTo>
                  <a:lnTo>
                    <a:pt x="26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H="1">
              <a:off x="1929600" y="3492360"/>
              <a:ext cx="37800" cy="274680"/>
            </a:xfrm>
            <a:custGeom>
              <a:avLst/>
              <a:gdLst/>
              <a:ahLst/>
              <a:rect l="l" t="t" r="r" b="b"/>
              <a:pathLst>
                <a:path w="64" h="457">
                  <a:moveTo>
                    <a:pt x="46" y="45"/>
                  </a:moveTo>
                  <a:lnTo>
                    <a:pt x="30" y="0"/>
                  </a:lnTo>
                  <a:lnTo>
                    <a:pt x="25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29" y="115"/>
                  </a:lnTo>
                  <a:lnTo>
                    <a:pt x="31" y="228"/>
                  </a:lnTo>
                  <a:lnTo>
                    <a:pt x="20" y="340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24" y="457"/>
                  </a:lnTo>
                  <a:lnTo>
                    <a:pt x="44" y="435"/>
                  </a:lnTo>
                  <a:lnTo>
                    <a:pt x="55" y="406"/>
                  </a:lnTo>
                  <a:lnTo>
                    <a:pt x="59" y="372"/>
                  </a:lnTo>
                  <a:lnTo>
                    <a:pt x="64" y="337"/>
                  </a:lnTo>
                  <a:lnTo>
                    <a:pt x="64" y="188"/>
                  </a:lnTo>
                  <a:lnTo>
                    <a:pt x="4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 flipH="1">
              <a:off x="2084400" y="3015000"/>
              <a:ext cx="352080" cy="118440"/>
            </a:xfrm>
            <a:custGeom>
              <a:avLst/>
              <a:gdLst/>
              <a:ahLst/>
              <a:rect l="l" t="t" r="r" b="b"/>
              <a:pathLst>
                <a:path w="594" h="197">
                  <a:moveTo>
                    <a:pt x="594" y="166"/>
                  </a:moveTo>
                  <a:lnTo>
                    <a:pt x="586" y="137"/>
                  </a:lnTo>
                  <a:lnTo>
                    <a:pt x="566" y="119"/>
                  </a:lnTo>
                  <a:lnTo>
                    <a:pt x="547" y="114"/>
                  </a:lnTo>
                  <a:lnTo>
                    <a:pt x="515" y="98"/>
                  </a:lnTo>
                  <a:lnTo>
                    <a:pt x="480" y="84"/>
                  </a:lnTo>
                  <a:lnTo>
                    <a:pt x="445" y="71"/>
                  </a:lnTo>
                  <a:lnTo>
                    <a:pt x="409" y="60"/>
                  </a:lnTo>
                  <a:lnTo>
                    <a:pt x="370" y="49"/>
                  </a:lnTo>
                  <a:lnTo>
                    <a:pt x="333" y="39"/>
                  </a:lnTo>
                  <a:lnTo>
                    <a:pt x="295" y="29"/>
                  </a:lnTo>
                  <a:lnTo>
                    <a:pt x="256" y="18"/>
                  </a:lnTo>
                  <a:lnTo>
                    <a:pt x="225" y="13"/>
                  </a:lnTo>
                  <a:lnTo>
                    <a:pt x="194" y="8"/>
                  </a:lnTo>
                  <a:lnTo>
                    <a:pt x="161" y="5"/>
                  </a:lnTo>
                  <a:lnTo>
                    <a:pt x="129" y="1"/>
                  </a:lnTo>
                  <a:lnTo>
                    <a:pt x="95" y="0"/>
                  </a:lnTo>
                  <a:lnTo>
                    <a:pt x="64" y="1"/>
                  </a:lnTo>
                  <a:lnTo>
                    <a:pt x="33" y="2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6" y="24"/>
                  </a:lnTo>
                  <a:lnTo>
                    <a:pt x="80" y="36"/>
                  </a:lnTo>
                  <a:lnTo>
                    <a:pt x="153" y="46"/>
                  </a:lnTo>
                  <a:lnTo>
                    <a:pt x="225" y="58"/>
                  </a:lnTo>
                  <a:lnTo>
                    <a:pt x="296" y="73"/>
                  </a:lnTo>
                  <a:lnTo>
                    <a:pt x="363" y="92"/>
                  </a:lnTo>
                  <a:lnTo>
                    <a:pt x="429" y="118"/>
                  </a:lnTo>
                  <a:lnTo>
                    <a:pt x="493" y="149"/>
                  </a:lnTo>
                  <a:lnTo>
                    <a:pt x="553" y="187"/>
                  </a:lnTo>
                  <a:lnTo>
                    <a:pt x="562" y="192"/>
                  </a:lnTo>
                  <a:lnTo>
                    <a:pt x="571" y="196"/>
                  </a:lnTo>
                  <a:lnTo>
                    <a:pt x="580" y="197"/>
                  </a:lnTo>
                  <a:lnTo>
                    <a:pt x="587" y="195"/>
                  </a:lnTo>
                  <a:lnTo>
                    <a:pt x="59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>
              <a:off x="1963800" y="3690000"/>
              <a:ext cx="203400" cy="115200"/>
            </a:xfrm>
            <a:custGeom>
              <a:avLst/>
              <a:gdLst/>
              <a:ahLst/>
              <a:rect l="l" t="t" r="r" b="b"/>
              <a:pathLst>
                <a:path w="343" h="192">
                  <a:moveTo>
                    <a:pt x="341" y="157"/>
                  </a:moveTo>
                  <a:lnTo>
                    <a:pt x="322" y="142"/>
                  </a:lnTo>
                  <a:lnTo>
                    <a:pt x="304" y="131"/>
                  </a:lnTo>
                  <a:lnTo>
                    <a:pt x="283" y="121"/>
                  </a:lnTo>
                  <a:lnTo>
                    <a:pt x="262" y="113"/>
                  </a:lnTo>
                  <a:lnTo>
                    <a:pt x="242" y="106"/>
                  </a:lnTo>
                  <a:lnTo>
                    <a:pt x="220" y="98"/>
                  </a:lnTo>
                  <a:lnTo>
                    <a:pt x="201" y="90"/>
                  </a:lnTo>
                  <a:lnTo>
                    <a:pt x="181" y="80"/>
                  </a:lnTo>
                  <a:lnTo>
                    <a:pt x="157" y="73"/>
                  </a:lnTo>
                  <a:lnTo>
                    <a:pt x="135" y="64"/>
                  </a:lnTo>
                  <a:lnTo>
                    <a:pt x="113" y="54"/>
                  </a:lnTo>
                  <a:lnTo>
                    <a:pt x="92" y="43"/>
                  </a:lnTo>
                  <a:lnTo>
                    <a:pt x="70" y="32"/>
                  </a:lnTo>
                  <a:lnTo>
                    <a:pt x="48" y="20"/>
                  </a:lnTo>
                  <a:lnTo>
                    <a:pt x="27" y="11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15"/>
                  </a:lnTo>
                  <a:lnTo>
                    <a:pt x="38" y="40"/>
                  </a:lnTo>
                  <a:lnTo>
                    <a:pt x="76" y="64"/>
                  </a:lnTo>
                  <a:lnTo>
                    <a:pt x="117" y="85"/>
                  </a:lnTo>
                  <a:lnTo>
                    <a:pt x="158" y="108"/>
                  </a:lnTo>
                  <a:lnTo>
                    <a:pt x="200" y="130"/>
                  </a:lnTo>
                  <a:lnTo>
                    <a:pt x="241" y="151"/>
                  </a:lnTo>
                  <a:lnTo>
                    <a:pt x="283" y="172"/>
                  </a:lnTo>
                  <a:lnTo>
                    <a:pt x="322" y="192"/>
                  </a:lnTo>
                  <a:lnTo>
                    <a:pt x="336" y="181"/>
                  </a:lnTo>
                  <a:lnTo>
                    <a:pt x="341" y="173"/>
                  </a:lnTo>
                  <a:lnTo>
                    <a:pt x="343" y="160"/>
                  </a:lnTo>
                  <a:lnTo>
                    <a:pt x="342" y="159"/>
                  </a:lnTo>
                  <a:lnTo>
                    <a:pt x="34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 flipH="1">
              <a:off x="2055600" y="3433320"/>
              <a:ext cx="57960" cy="286560"/>
            </a:xfrm>
            <a:custGeom>
              <a:avLst/>
              <a:gdLst/>
              <a:ahLst/>
              <a:rect l="l" t="t" r="r" b="b"/>
              <a:pathLst>
                <a:path w="99" h="477">
                  <a:moveTo>
                    <a:pt x="92" y="206"/>
                  </a:moveTo>
                  <a:lnTo>
                    <a:pt x="81" y="155"/>
                  </a:lnTo>
                  <a:lnTo>
                    <a:pt x="69" y="103"/>
                  </a:lnTo>
                  <a:lnTo>
                    <a:pt x="52" y="52"/>
                  </a:lnTo>
                  <a:lnTo>
                    <a:pt x="24" y="6"/>
                  </a:lnTo>
                  <a:lnTo>
                    <a:pt x="16" y="1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1"/>
                  </a:lnTo>
                  <a:lnTo>
                    <a:pt x="30" y="70"/>
                  </a:lnTo>
                  <a:lnTo>
                    <a:pt x="47" y="130"/>
                  </a:lnTo>
                  <a:lnTo>
                    <a:pt x="54" y="195"/>
                  </a:lnTo>
                  <a:lnTo>
                    <a:pt x="59" y="257"/>
                  </a:lnTo>
                  <a:lnTo>
                    <a:pt x="54" y="317"/>
                  </a:lnTo>
                  <a:lnTo>
                    <a:pt x="40" y="374"/>
                  </a:lnTo>
                  <a:lnTo>
                    <a:pt x="29" y="427"/>
                  </a:lnTo>
                  <a:lnTo>
                    <a:pt x="40" y="477"/>
                  </a:lnTo>
                  <a:lnTo>
                    <a:pt x="50" y="476"/>
                  </a:lnTo>
                  <a:lnTo>
                    <a:pt x="58" y="475"/>
                  </a:lnTo>
                  <a:lnTo>
                    <a:pt x="66" y="471"/>
                  </a:lnTo>
                  <a:lnTo>
                    <a:pt x="72" y="465"/>
                  </a:lnTo>
                  <a:lnTo>
                    <a:pt x="93" y="404"/>
                  </a:lnTo>
                  <a:lnTo>
                    <a:pt x="99" y="338"/>
                  </a:lnTo>
                  <a:lnTo>
                    <a:pt x="96" y="270"/>
                  </a:lnTo>
                  <a:lnTo>
                    <a:pt x="92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 flipH="1">
              <a:off x="2011680" y="3544920"/>
              <a:ext cx="785160" cy="367920"/>
            </a:xfrm>
            <a:custGeom>
              <a:avLst/>
              <a:gdLst/>
              <a:ahLst/>
              <a:rect l="l" t="t" r="r" b="b"/>
              <a:pathLst>
                <a:path w="1320" h="613">
                  <a:moveTo>
                    <a:pt x="1320" y="593"/>
                  </a:moveTo>
                  <a:lnTo>
                    <a:pt x="1314" y="574"/>
                  </a:lnTo>
                  <a:lnTo>
                    <a:pt x="1303" y="558"/>
                  </a:lnTo>
                  <a:lnTo>
                    <a:pt x="1285" y="544"/>
                  </a:lnTo>
                  <a:lnTo>
                    <a:pt x="1267" y="533"/>
                  </a:lnTo>
                  <a:lnTo>
                    <a:pt x="1188" y="500"/>
                  </a:lnTo>
                  <a:lnTo>
                    <a:pt x="1110" y="467"/>
                  </a:lnTo>
                  <a:lnTo>
                    <a:pt x="1032" y="432"/>
                  </a:lnTo>
                  <a:lnTo>
                    <a:pt x="954" y="398"/>
                  </a:lnTo>
                  <a:lnTo>
                    <a:pt x="875" y="363"/>
                  </a:lnTo>
                  <a:lnTo>
                    <a:pt x="797" y="330"/>
                  </a:lnTo>
                  <a:lnTo>
                    <a:pt x="719" y="296"/>
                  </a:lnTo>
                  <a:lnTo>
                    <a:pt x="641" y="261"/>
                  </a:lnTo>
                  <a:lnTo>
                    <a:pt x="564" y="227"/>
                  </a:lnTo>
                  <a:lnTo>
                    <a:pt x="486" y="194"/>
                  </a:lnTo>
                  <a:lnTo>
                    <a:pt x="408" y="160"/>
                  </a:lnTo>
                  <a:lnTo>
                    <a:pt x="329" y="126"/>
                  </a:lnTo>
                  <a:lnTo>
                    <a:pt x="249" y="95"/>
                  </a:lnTo>
                  <a:lnTo>
                    <a:pt x="170" y="63"/>
                  </a:lnTo>
                  <a:lnTo>
                    <a:pt x="91" y="32"/>
                  </a:lnTo>
                  <a:lnTo>
                    <a:pt x="10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49" y="40"/>
                  </a:lnTo>
                  <a:lnTo>
                    <a:pt x="98" y="62"/>
                  </a:lnTo>
                  <a:lnTo>
                    <a:pt x="146" y="83"/>
                  </a:lnTo>
                  <a:lnTo>
                    <a:pt x="195" y="105"/>
                  </a:lnTo>
                  <a:lnTo>
                    <a:pt x="243" y="126"/>
                  </a:lnTo>
                  <a:lnTo>
                    <a:pt x="293" y="148"/>
                  </a:lnTo>
                  <a:lnTo>
                    <a:pt x="341" y="170"/>
                  </a:lnTo>
                  <a:lnTo>
                    <a:pt x="389" y="191"/>
                  </a:lnTo>
                  <a:lnTo>
                    <a:pt x="437" y="213"/>
                  </a:lnTo>
                  <a:lnTo>
                    <a:pt x="485" y="235"/>
                  </a:lnTo>
                  <a:lnTo>
                    <a:pt x="534" y="256"/>
                  </a:lnTo>
                  <a:lnTo>
                    <a:pt x="582" y="278"/>
                  </a:lnTo>
                  <a:lnTo>
                    <a:pt x="631" y="300"/>
                  </a:lnTo>
                  <a:lnTo>
                    <a:pt x="680" y="321"/>
                  </a:lnTo>
                  <a:lnTo>
                    <a:pt x="728" y="343"/>
                  </a:lnTo>
                  <a:lnTo>
                    <a:pt x="776" y="366"/>
                  </a:lnTo>
                  <a:lnTo>
                    <a:pt x="841" y="392"/>
                  </a:lnTo>
                  <a:lnTo>
                    <a:pt x="906" y="425"/>
                  </a:lnTo>
                  <a:lnTo>
                    <a:pt x="970" y="462"/>
                  </a:lnTo>
                  <a:lnTo>
                    <a:pt x="1035" y="500"/>
                  </a:lnTo>
                  <a:lnTo>
                    <a:pt x="1101" y="536"/>
                  </a:lnTo>
                  <a:lnTo>
                    <a:pt x="1168" y="570"/>
                  </a:lnTo>
                  <a:lnTo>
                    <a:pt x="1234" y="596"/>
                  </a:lnTo>
                  <a:lnTo>
                    <a:pt x="1303" y="613"/>
                  </a:lnTo>
                  <a:lnTo>
                    <a:pt x="1312" y="605"/>
                  </a:lnTo>
                  <a:lnTo>
                    <a:pt x="1320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H="1">
              <a:off x="2089440" y="3361320"/>
              <a:ext cx="456480" cy="248040"/>
            </a:xfrm>
            <a:custGeom>
              <a:avLst/>
              <a:gdLst/>
              <a:ahLst/>
              <a:rect l="l" t="t" r="r" b="b"/>
              <a:pathLst>
                <a:path w="768" h="414">
                  <a:moveTo>
                    <a:pt x="0" y="220"/>
                  </a:moveTo>
                  <a:lnTo>
                    <a:pt x="0" y="233"/>
                  </a:lnTo>
                  <a:lnTo>
                    <a:pt x="18" y="239"/>
                  </a:lnTo>
                  <a:lnTo>
                    <a:pt x="131" y="142"/>
                  </a:lnTo>
                  <a:lnTo>
                    <a:pt x="152" y="134"/>
                  </a:lnTo>
                  <a:lnTo>
                    <a:pt x="172" y="128"/>
                  </a:lnTo>
                  <a:lnTo>
                    <a:pt x="194" y="126"/>
                  </a:lnTo>
                  <a:lnTo>
                    <a:pt x="214" y="126"/>
                  </a:lnTo>
                  <a:lnTo>
                    <a:pt x="236" y="128"/>
                  </a:lnTo>
                  <a:lnTo>
                    <a:pt x="255" y="134"/>
                  </a:lnTo>
                  <a:lnTo>
                    <a:pt x="274" y="143"/>
                  </a:lnTo>
                  <a:lnTo>
                    <a:pt x="291" y="155"/>
                  </a:lnTo>
                  <a:lnTo>
                    <a:pt x="332" y="193"/>
                  </a:lnTo>
                  <a:lnTo>
                    <a:pt x="363" y="241"/>
                  </a:lnTo>
                  <a:lnTo>
                    <a:pt x="381" y="297"/>
                  </a:lnTo>
                  <a:lnTo>
                    <a:pt x="385" y="357"/>
                  </a:lnTo>
                  <a:lnTo>
                    <a:pt x="387" y="389"/>
                  </a:lnTo>
                  <a:lnTo>
                    <a:pt x="404" y="410"/>
                  </a:lnTo>
                  <a:lnTo>
                    <a:pt x="426" y="414"/>
                  </a:lnTo>
                  <a:lnTo>
                    <a:pt x="437" y="408"/>
                  </a:lnTo>
                  <a:lnTo>
                    <a:pt x="445" y="400"/>
                  </a:lnTo>
                  <a:lnTo>
                    <a:pt x="451" y="322"/>
                  </a:lnTo>
                  <a:lnTo>
                    <a:pt x="452" y="321"/>
                  </a:lnTo>
                  <a:lnTo>
                    <a:pt x="455" y="321"/>
                  </a:lnTo>
                  <a:lnTo>
                    <a:pt x="465" y="336"/>
                  </a:lnTo>
                  <a:lnTo>
                    <a:pt x="493" y="339"/>
                  </a:lnTo>
                  <a:lnTo>
                    <a:pt x="521" y="333"/>
                  </a:lnTo>
                  <a:lnTo>
                    <a:pt x="548" y="322"/>
                  </a:lnTo>
                  <a:lnTo>
                    <a:pt x="576" y="307"/>
                  </a:lnTo>
                  <a:lnTo>
                    <a:pt x="604" y="293"/>
                  </a:lnTo>
                  <a:lnTo>
                    <a:pt x="633" y="281"/>
                  </a:lnTo>
                  <a:lnTo>
                    <a:pt x="661" y="275"/>
                  </a:lnTo>
                  <a:lnTo>
                    <a:pt x="691" y="276"/>
                  </a:lnTo>
                  <a:lnTo>
                    <a:pt x="760" y="301"/>
                  </a:lnTo>
                  <a:lnTo>
                    <a:pt x="764" y="300"/>
                  </a:lnTo>
                  <a:lnTo>
                    <a:pt x="768" y="299"/>
                  </a:lnTo>
                  <a:lnTo>
                    <a:pt x="768" y="297"/>
                  </a:lnTo>
                  <a:lnTo>
                    <a:pt x="768" y="293"/>
                  </a:lnTo>
                  <a:lnTo>
                    <a:pt x="764" y="277"/>
                  </a:lnTo>
                  <a:lnTo>
                    <a:pt x="740" y="256"/>
                  </a:lnTo>
                  <a:lnTo>
                    <a:pt x="712" y="241"/>
                  </a:lnTo>
                  <a:lnTo>
                    <a:pt x="683" y="233"/>
                  </a:lnTo>
                  <a:lnTo>
                    <a:pt x="653" y="229"/>
                  </a:lnTo>
                  <a:lnTo>
                    <a:pt x="621" y="232"/>
                  </a:lnTo>
                  <a:lnTo>
                    <a:pt x="588" y="237"/>
                  </a:lnTo>
                  <a:lnTo>
                    <a:pt x="556" y="243"/>
                  </a:lnTo>
                  <a:lnTo>
                    <a:pt x="524" y="250"/>
                  </a:lnTo>
                  <a:lnTo>
                    <a:pt x="503" y="259"/>
                  </a:lnTo>
                  <a:lnTo>
                    <a:pt x="484" y="271"/>
                  </a:lnTo>
                  <a:lnTo>
                    <a:pt x="467" y="282"/>
                  </a:lnTo>
                  <a:lnTo>
                    <a:pt x="453" y="294"/>
                  </a:lnTo>
                  <a:lnTo>
                    <a:pt x="413" y="211"/>
                  </a:lnTo>
                  <a:lnTo>
                    <a:pt x="447" y="205"/>
                  </a:lnTo>
                  <a:lnTo>
                    <a:pt x="481" y="193"/>
                  </a:lnTo>
                  <a:lnTo>
                    <a:pt x="512" y="176"/>
                  </a:lnTo>
                  <a:lnTo>
                    <a:pt x="539" y="155"/>
                  </a:lnTo>
                  <a:lnTo>
                    <a:pt x="568" y="122"/>
                  </a:lnTo>
                  <a:lnTo>
                    <a:pt x="589" y="88"/>
                  </a:lnTo>
                  <a:lnTo>
                    <a:pt x="605" y="50"/>
                  </a:lnTo>
                  <a:lnTo>
                    <a:pt x="613" y="11"/>
                  </a:lnTo>
                  <a:lnTo>
                    <a:pt x="612" y="6"/>
                  </a:lnTo>
                  <a:lnTo>
                    <a:pt x="611" y="3"/>
                  </a:lnTo>
                  <a:lnTo>
                    <a:pt x="606" y="1"/>
                  </a:lnTo>
                  <a:lnTo>
                    <a:pt x="598" y="0"/>
                  </a:lnTo>
                  <a:lnTo>
                    <a:pt x="583" y="9"/>
                  </a:lnTo>
                  <a:lnTo>
                    <a:pt x="571" y="50"/>
                  </a:lnTo>
                  <a:lnTo>
                    <a:pt x="554" y="89"/>
                  </a:lnTo>
                  <a:lnTo>
                    <a:pt x="528" y="124"/>
                  </a:lnTo>
                  <a:lnTo>
                    <a:pt x="493" y="150"/>
                  </a:lnTo>
                  <a:lnTo>
                    <a:pt x="473" y="160"/>
                  </a:lnTo>
                  <a:lnTo>
                    <a:pt x="453" y="172"/>
                  </a:lnTo>
                  <a:lnTo>
                    <a:pt x="434" y="181"/>
                  </a:lnTo>
                  <a:lnTo>
                    <a:pt x="414" y="191"/>
                  </a:lnTo>
                  <a:lnTo>
                    <a:pt x="411" y="197"/>
                  </a:lnTo>
                  <a:lnTo>
                    <a:pt x="411" y="204"/>
                  </a:lnTo>
                  <a:lnTo>
                    <a:pt x="384" y="178"/>
                  </a:lnTo>
                  <a:lnTo>
                    <a:pt x="349" y="150"/>
                  </a:lnTo>
                  <a:lnTo>
                    <a:pt x="312" y="124"/>
                  </a:lnTo>
                  <a:lnTo>
                    <a:pt x="273" y="102"/>
                  </a:lnTo>
                  <a:lnTo>
                    <a:pt x="295" y="97"/>
                  </a:lnTo>
                  <a:lnTo>
                    <a:pt x="318" y="94"/>
                  </a:lnTo>
                  <a:lnTo>
                    <a:pt x="340" y="92"/>
                  </a:lnTo>
                  <a:lnTo>
                    <a:pt x="365" y="92"/>
                  </a:lnTo>
                  <a:lnTo>
                    <a:pt x="387" y="96"/>
                  </a:lnTo>
                  <a:lnTo>
                    <a:pt x="410" y="102"/>
                  </a:lnTo>
                  <a:lnTo>
                    <a:pt x="431" y="112"/>
                  </a:lnTo>
                  <a:lnTo>
                    <a:pt x="450" y="125"/>
                  </a:lnTo>
                  <a:lnTo>
                    <a:pt x="457" y="131"/>
                  </a:lnTo>
                  <a:lnTo>
                    <a:pt x="464" y="136"/>
                  </a:lnTo>
                  <a:lnTo>
                    <a:pt x="471" y="138"/>
                  </a:lnTo>
                  <a:lnTo>
                    <a:pt x="480" y="140"/>
                  </a:lnTo>
                  <a:lnTo>
                    <a:pt x="496" y="132"/>
                  </a:lnTo>
                  <a:lnTo>
                    <a:pt x="498" y="122"/>
                  </a:lnTo>
                  <a:lnTo>
                    <a:pt x="499" y="112"/>
                  </a:lnTo>
                  <a:lnTo>
                    <a:pt x="479" y="90"/>
                  </a:lnTo>
                  <a:lnTo>
                    <a:pt x="453" y="75"/>
                  </a:lnTo>
                  <a:lnTo>
                    <a:pt x="426" y="65"/>
                  </a:lnTo>
                  <a:lnTo>
                    <a:pt x="397" y="57"/>
                  </a:lnTo>
                  <a:lnTo>
                    <a:pt x="361" y="54"/>
                  </a:lnTo>
                  <a:lnTo>
                    <a:pt x="326" y="55"/>
                  </a:lnTo>
                  <a:lnTo>
                    <a:pt x="292" y="62"/>
                  </a:lnTo>
                  <a:lnTo>
                    <a:pt x="265" y="77"/>
                  </a:lnTo>
                  <a:lnTo>
                    <a:pt x="264" y="84"/>
                  </a:lnTo>
                  <a:lnTo>
                    <a:pt x="266" y="94"/>
                  </a:lnTo>
                  <a:lnTo>
                    <a:pt x="264" y="98"/>
                  </a:lnTo>
                  <a:lnTo>
                    <a:pt x="259" y="102"/>
                  </a:lnTo>
                  <a:lnTo>
                    <a:pt x="237" y="95"/>
                  </a:lnTo>
                  <a:lnTo>
                    <a:pt x="215" y="91"/>
                  </a:lnTo>
                  <a:lnTo>
                    <a:pt x="193" y="91"/>
                  </a:lnTo>
                  <a:lnTo>
                    <a:pt x="170" y="94"/>
                  </a:lnTo>
                  <a:lnTo>
                    <a:pt x="147" y="100"/>
                  </a:lnTo>
                  <a:lnTo>
                    <a:pt x="124" y="108"/>
                  </a:lnTo>
                  <a:lnTo>
                    <a:pt x="104" y="120"/>
                  </a:lnTo>
                  <a:lnTo>
                    <a:pt x="83" y="133"/>
                  </a:lnTo>
                  <a:lnTo>
                    <a:pt x="64" y="150"/>
                  </a:lnTo>
                  <a:lnTo>
                    <a:pt x="36" y="176"/>
                  </a:lnTo>
                  <a:lnTo>
                    <a:pt x="11" y="203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 flipH="1">
              <a:off x="2515320" y="3335040"/>
              <a:ext cx="146160" cy="10764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243" y="145"/>
                  </a:moveTo>
                  <a:lnTo>
                    <a:pt x="221" y="117"/>
                  </a:lnTo>
                  <a:lnTo>
                    <a:pt x="198" y="91"/>
                  </a:lnTo>
                  <a:lnTo>
                    <a:pt x="176" y="67"/>
                  </a:lnTo>
                  <a:lnTo>
                    <a:pt x="151" y="44"/>
                  </a:lnTo>
                  <a:lnTo>
                    <a:pt x="125" y="26"/>
                  </a:lnTo>
                  <a:lnTo>
                    <a:pt x="95" y="12"/>
                  </a:lnTo>
                  <a:lnTo>
                    <a:pt x="61" y="2"/>
                  </a:lnTo>
                  <a:lnTo>
                    <a:pt x="24" y="0"/>
                  </a:lnTo>
                  <a:lnTo>
                    <a:pt x="6" y="2"/>
                  </a:lnTo>
                  <a:lnTo>
                    <a:pt x="0" y="9"/>
                  </a:lnTo>
                  <a:lnTo>
                    <a:pt x="3" y="16"/>
                  </a:lnTo>
                  <a:lnTo>
                    <a:pt x="18" y="21"/>
                  </a:lnTo>
                  <a:lnTo>
                    <a:pt x="54" y="36"/>
                  </a:lnTo>
                  <a:lnTo>
                    <a:pt x="84" y="50"/>
                  </a:lnTo>
                  <a:lnTo>
                    <a:pt x="109" y="70"/>
                  </a:lnTo>
                  <a:lnTo>
                    <a:pt x="136" y="102"/>
                  </a:lnTo>
                  <a:lnTo>
                    <a:pt x="151" y="123"/>
                  </a:lnTo>
                  <a:lnTo>
                    <a:pt x="163" y="137"/>
                  </a:lnTo>
                  <a:lnTo>
                    <a:pt x="176" y="150"/>
                  </a:lnTo>
                  <a:lnTo>
                    <a:pt x="192" y="169"/>
                  </a:lnTo>
                  <a:lnTo>
                    <a:pt x="214" y="180"/>
                  </a:lnTo>
                  <a:lnTo>
                    <a:pt x="233" y="176"/>
                  </a:lnTo>
                  <a:lnTo>
                    <a:pt x="246" y="164"/>
                  </a:lnTo>
                  <a:lnTo>
                    <a:pt x="243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H="1">
              <a:off x="2117880" y="3222000"/>
              <a:ext cx="656640" cy="198000"/>
            </a:xfrm>
            <a:custGeom>
              <a:avLst/>
              <a:gdLst/>
              <a:ahLst/>
              <a:rect l="l" t="t" r="r" b="b"/>
              <a:pathLst>
                <a:path w="1105" h="330">
                  <a:moveTo>
                    <a:pt x="37" y="326"/>
                  </a:moveTo>
                  <a:lnTo>
                    <a:pt x="80" y="277"/>
                  </a:lnTo>
                  <a:lnTo>
                    <a:pt x="126" y="228"/>
                  </a:lnTo>
                  <a:lnTo>
                    <a:pt x="173" y="181"/>
                  </a:lnTo>
                  <a:lnTo>
                    <a:pt x="223" y="136"/>
                  </a:lnTo>
                  <a:lnTo>
                    <a:pt x="279" y="97"/>
                  </a:lnTo>
                  <a:lnTo>
                    <a:pt x="339" y="65"/>
                  </a:lnTo>
                  <a:lnTo>
                    <a:pt x="404" y="44"/>
                  </a:lnTo>
                  <a:lnTo>
                    <a:pt x="476" y="35"/>
                  </a:lnTo>
                  <a:lnTo>
                    <a:pt x="528" y="38"/>
                  </a:lnTo>
                  <a:lnTo>
                    <a:pt x="580" y="44"/>
                  </a:lnTo>
                  <a:lnTo>
                    <a:pt x="632" y="51"/>
                  </a:lnTo>
                  <a:lnTo>
                    <a:pt x="685" y="60"/>
                  </a:lnTo>
                  <a:lnTo>
                    <a:pt x="733" y="73"/>
                  </a:lnTo>
                  <a:lnTo>
                    <a:pt x="780" y="88"/>
                  </a:lnTo>
                  <a:lnTo>
                    <a:pt x="826" y="107"/>
                  </a:lnTo>
                  <a:lnTo>
                    <a:pt x="868" y="130"/>
                  </a:lnTo>
                  <a:lnTo>
                    <a:pt x="903" y="146"/>
                  </a:lnTo>
                  <a:lnTo>
                    <a:pt x="935" y="167"/>
                  </a:lnTo>
                  <a:lnTo>
                    <a:pt x="966" y="189"/>
                  </a:lnTo>
                  <a:lnTo>
                    <a:pt x="994" y="213"/>
                  </a:lnTo>
                  <a:lnTo>
                    <a:pt x="1020" y="238"/>
                  </a:lnTo>
                  <a:lnTo>
                    <a:pt x="1044" y="264"/>
                  </a:lnTo>
                  <a:lnTo>
                    <a:pt x="1067" y="291"/>
                  </a:lnTo>
                  <a:lnTo>
                    <a:pt x="1086" y="317"/>
                  </a:lnTo>
                  <a:lnTo>
                    <a:pt x="1094" y="321"/>
                  </a:lnTo>
                  <a:lnTo>
                    <a:pt x="1102" y="321"/>
                  </a:lnTo>
                  <a:lnTo>
                    <a:pt x="1103" y="314"/>
                  </a:lnTo>
                  <a:lnTo>
                    <a:pt x="1105" y="304"/>
                  </a:lnTo>
                  <a:lnTo>
                    <a:pt x="1092" y="274"/>
                  </a:lnTo>
                  <a:lnTo>
                    <a:pt x="1076" y="251"/>
                  </a:lnTo>
                  <a:lnTo>
                    <a:pt x="1055" y="228"/>
                  </a:lnTo>
                  <a:lnTo>
                    <a:pt x="1037" y="203"/>
                  </a:lnTo>
                  <a:lnTo>
                    <a:pt x="993" y="168"/>
                  </a:lnTo>
                  <a:lnTo>
                    <a:pt x="947" y="136"/>
                  </a:lnTo>
                  <a:lnTo>
                    <a:pt x="900" y="108"/>
                  </a:lnTo>
                  <a:lnTo>
                    <a:pt x="852" y="82"/>
                  </a:lnTo>
                  <a:lnTo>
                    <a:pt x="802" y="60"/>
                  </a:lnTo>
                  <a:lnTo>
                    <a:pt x="751" y="43"/>
                  </a:lnTo>
                  <a:lnTo>
                    <a:pt x="698" y="27"/>
                  </a:lnTo>
                  <a:lnTo>
                    <a:pt x="645" y="17"/>
                  </a:lnTo>
                  <a:lnTo>
                    <a:pt x="614" y="11"/>
                  </a:lnTo>
                  <a:lnTo>
                    <a:pt x="583" y="6"/>
                  </a:lnTo>
                  <a:lnTo>
                    <a:pt x="550" y="2"/>
                  </a:lnTo>
                  <a:lnTo>
                    <a:pt x="519" y="0"/>
                  </a:lnTo>
                  <a:lnTo>
                    <a:pt x="487" y="0"/>
                  </a:lnTo>
                  <a:lnTo>
                    <a:pt x="454" y="1"/>
                  </a:lnTo>
                  <a:lnTo>
                    <a:pt x="423" y="3"/>
                  </a:lnTo>
                  <a:lnTo>
                    <a:pt x="392" y="8"/>
                  </a:lnTo>
                  <a:lnTo>
                    <a:pt x="339" y="21"/>
                  </a:lnTo>
                  <a:lnTo>
                    <a:pt x="288" y="39"/>
                  </a:lnTo>
                  <a:lnTo>
                    <a:pt x="240" y="62"/>
                  </a:lnTo>
                  <a:lnTo>
                    <a:pt x="195" y="89"/>
                  </a:lnTo>
                  <a:lnTo>
                    <a:pt x="151" y="118"/>
                  </a:lnTo>
                  <a:lnTo>
                    <a:pt x="112" y="149"/>
                  </a:lnTo>
                  <a:lnTo>
                    <a:pt x="74" y="182"/>
                  </a:lnTo>
                  <a:lnTo>
                    <a:pt x="42" y="217"/>
                  </a:lnTo>
                  <a:lnTo>
                    <a:pt x="28" y="239"/>
                  </a:lnTo>
                  <a:lnTo>
                    <a:pt x="13" y="261"/>
                  </a:lnTo>
                  <a:lnTo>
                    <a:pt x="3" y="283"/>
                  </a:lnTo>
                  <a:lnTo>
                    <a:pt x="0" y="312"/>
                  </a:lnTo>
                  <a:lnTo>
                    <a:pt x="1" y="317"/>
                  </a:lnTo>
                  <a:lnTo>
                    <a:pt x="3" y="321"/>
                  </a:lnTo>
                  <a:lnTo>
                    <a:pt x="8" y="327"/>
                  </a:lnTo>
                  <a:lnTo>
                    <a:pt x="17" y="330"/>
                  </a:lnTo>
                  <a:lnTo>
                    <a:pt x="26" y="330"/>
                  </a:lnTo>
                  <a:lnTo>
                    <a:pt x="37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 flipH="1">
              <a:off x="2733840" y="3423600"/>
              <a:ext cx="32040" cy="226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2" y="3"/>
                  </a:moveTo>
                  <a:lnTo>
                    <a:pt x="0" y="16"/>
                  </a:lnTo>
                  <a:lnTo>
                    <a:pt x="9" y="26"/>
                  </a:lnTo>
                  <a:lnTo>
                    <a:pt x="17" y="33"/>
                  </a:lnTo>
                  <a:lnTo>
                    <a:pt x="27" y="38"/>
                  </a:lnTo>
                  <a:lnTo>
                    <a:pt x="35" y="38"/>
                  </a:lnTo>
                  <a:lnTo>
                    <a:pt x="44" y="38"/>
                  </a:lnTo>
                  <a:lnTo>
                    <a:pt x="51" y="29"/>
                  </a:lnTo>
                  <a:lnTo>
                    <a:pt x="54" y="20"/>
                  </a:lnTo>
                  <a:lnTo>
                    <a:pt x="47" y="11"/>
                  </a:lnTo>
                  <a:lnTo>
                    <a:pt x="32" y="3"/>
                  </a:lnTo>
                  <a:lnTo>
                    <a:pt x="15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H="1">
              <a:off x="2091240" y="3559320"/>
              <a:ext cx="75960" cy="44280"/>
            </a:xfrm>
            <a:custGeom>
              <a:avLst/>
              <a:gdLst/>
              <a:ahLst/>
              <a:rect l="l" t="t" r="r" b="b"/>
              <a:pathLst>
                <a:path w="128" h="76">
                  <a:moveTo>
                    <a:pt x="128" y="60"/>
                  </a:moveTo>
                  <a:lnTo>
                    <a:pt x="122" y="45"/>
                  </a:lnTo>
                  <a:lnTo>
                    <a:pt x="15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1" y="39"/>
                  </a:lnTo>
                  <a:lnTo>
                    <a:pt x="38" y="54"/>
                  </a:lnTo>
                  <a:lnTo>
                    <a:pt x="63" y="65"/>
                  </a:lnTo>
                  <a:lnTo>
                    <a:pt x="88" y="73"/>
                  </a:lnTo>
                  <a:lnTo>
                    <a:pt x="117" y="76"/>
                  </a:lnTo>
                  <a:lnTo>
                    <a:pt x="122" y="73"/>
                  </a:lnTo>
                  <a:lnTo>
                    <a:pt x="123" y="72"/>
                  </a:lnTo>
                  <a:lnTo>
                    <a:pt x="127" y="67"/>
                  </a:lnTo>
                  <a:lnTo>
                    <a:pt x="12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>
              <a:off x="2183400" y="3556800"/>
              <a:ext cx="35280" cy="10656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60" y="37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8" y="9"/>
                  </a:lnTo>
                  <a:lnTo>
                    <a:pt x="14" y="81"/>
                  </a:lnTo>
                  <a:lnTo>
                    <a:pt x="0" y="156"/>
                  </a:lnTo>
                  <a:lnTo>
                    <a:pt x="3" y="166"/>
                  </a:lnTo>
                  <a:lnTo>
                    <a:pt x="8" y="172"/>
                  </a:lnTo>
                  <a:lnTo>
                    <a:pt x="27" y="176"/>
                  </a:lnTo>
                  <a:lnTo>
                    <a:pt x="41" y="169"/>
                  </a:lnTo>
                  <a:lnTo>
                    <a:pt x="60" y="107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 flipH="1">
              <a:off x="2017800" y="4492440"/>
              <a:ext cx="146160" cy="42120"/>
            </a:xfrm>
            <a:custGeom>
              <a:avLst/>
              <a:gdLst/>
              <a:ahLst/>
              <a:rect l="l" t="t" r="r" b="b"/>
              <a:pathLst>
                <a:path w="246" h="71">
                  <a:moveTo>
                    <a:pt x="244" y="51"/>
                  </a:moveTo>
                  <a:lnTo>
                    <a:pt x="243" y="48"/>
                  </a:lnTo>
                  <a:lnTo>
                    <a:pt x="242" y="44"/>
                  </a:lnTo>
                  <a:lnTo>
                    <a:pt x="212" y="31"/>
                  </a:lnTo>
                  <a:lnTo>
                    <a:pt x="176" y="26"/>
                  </a:lnTo>
                  <a:lnTo>
                    <a:pt x="139" y="20"/>
                  </a:lnTo>
                  <a:lnTo>
                    <a:pt x="109" y="6"/>
                  </a:lnTo>
                  <a:lnTo>
                    <a:pt x="81" y="1"/>
                  </a:lnTo>
                  <a:lnTo>
                    <a:pt x="52" y="0"/>
                  </a:lnTo>
                  <a:lnTo>
                    <a:pt x="26" y="6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24" y="36"/>
                  </a:lnTo>
                  <a:lnTo>
                    <a:pt x="50" y="41"/>
                  </a:lnTo>
                  <a:lnTo>
                    <a:pt x="74" y="44"/>
                  </a:lnTo>
                  <a:lnTo>
                    <a:pt x="99" y="48"/>
                  </a:lnTo>
                  <a:lnTo>
                    <a:pt x="123" y="53"/>
                  </a:lnTo>
                  <a:lnTo>
                    <a:pt x="147" y="56"/>
                  </a:lnTo>
                  <a:lnTo>
                    <a:pt x="172" y="63"/>
                  </a:lnTo>
                  <a:lnTo>
                    <a:pt x="197" y="71"/>
                  </a:lnTo>
                  <a:lnTo>
                    <a:pt x="211" y="69"/>
                  </a:lnTo>
                  <a:lnTo>
                    <a:pt x="223" y="69"/>
                  </a:lnTo>
                  <a:lnTo>
                    <a:pt x="234" y="65"/>
                  </a:lnTo>
                  <a:lnTo>
                    <a:pt x="243" y="59"/>
                  </a:lnTo>
                  <a:lnTo>
                    <a:pt x="244" y="55"/>
                  </a:lnTo>
                  <a:lnTo>
                    <a:pt x="246" y="53"/>
                  </a:lnTo>
                  <a:lnTo>
                    <a:pt x="246" y="53"/>
                  </a:lnTo>
                  <a:lnTo>
                    <a:pt x="2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 flipH="1">
              <a:off x="2201760" y="3451320"/>
              <a:ext cx="510120" cy="231120"/>
            </a:xfrm>
            <a:custGeom>
              <a:avLst/>
              <a:gdLst/>
              <a:ahLst/>
              <a:rect l="l" t="t" r="r" b="b"/>
              <a:pathLst>
                <a:path w="858" h="386">
                  <a:moveTo>
                    <a:pt x="858" y="376"/>
                  </a:moveTo>
                  <a:lnTo>
                    <a:pt x="857" y="373"/>
                  </a:lnTo>
                  <a:lnTo>
                    <a:pt x="854" y="370"/>
                  </a:lnTo>
                  <a:lnTo>
                    <a:pt x="804" y="349"/>
                  </a:lnTo>
                  <a:lnTo>
                    <a:pt x="755" y="326"/>
                  </a:lnTo>
                  <a:lnTo>
                    <a:pt x="705" y="304"/>
                  </a:lnTo>
                  <a:lnTo>
                    <a:pt x="655" y="282"/>
                  </a:lnTo>
                  <a:lnTo>
                    <a:pt x="605" y="261"/>
                  </a:lnTo>
                  <a:lnTo>
                    <a:pt x="556" y="239"/>
                  </a:lnTo>
                  <a:lnTo>
                    <a:pt x="505" y="218"/>
                  </a:lnTo>
                  <a:lnTo>
                    <a:pt x="455" y="196"/>
                  </a:lnTo>
                  <a:lnTo>
                    <a:pt x="398" y="168"/>
                  </a:lnTo>
                  <a:lnTo>
                    <a:pt x="342" y="142"/>
                  </a:lnTo>
                  <a:lnTo>
                    <a:pt x="286" y="117"/>
                  </a:lnTo>
                  <a:lnTo>
                    <a:pt x="230" y="91"/>
                  </a:lnTo>
                  <a:lnTo>
                    <a:pt x="175" y="69"/>
                  </a:lnTo>
                  <a:lnTo>
                    <a:pt x="119" y="44"/>
                  </a:lnTo>
                  <a:lnTo>
                    <a:pt x="63" y="2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19"/>
                  </a:lnTo>
                  <a:lnTo>
                    <a:pt x="11" y="32"/>
                  </a:lnTo>
                  <a:lnTo>
                    <a:pt x="87" y="65"/>
                  </a:lnTo>
                  <a:lnTo>
                    <a:pt x="161" y="97"/>
                  </a:lnTo>
                  <a:lnTo>
                    <a:pt x="237" y="131"/>
                  </a:lnTo>
                  <a:lnTo>
                    <a:pt x="312" y="166"/>
                  </a:lnTo>
                  <a:lnTo>
                    <a:pt x="385" y="198"/>
                  </a:lnTo>
                  <a:lnTo>
                    <a:pt x="461" y="231"/>
                  </a:lnTo>
                  <a:lnTo>
                    <a:pt x="536" y="262"/>
                  </a:lnTo>
                  <a:lnTo>
                    <a:pt x="612" y="292"/>
                  </a:lnTo>
                  <a:lnTo>
                    <a:pt x="642" y="304"/>
                  </a:lnTo>
                  <a:lnTo>
                    <a:pt x="673" y="317"/>
                  </a:lnTo>
                  <a:lnTo>
                    <a:pt x="702" y="331"/>
                  </a:lnTo>
                  <a:lnTo>
                    <a:pt x="730" y="344"/>
                  </a:lnTo>
                  <a:lnTo>
                    <a:pt x="760" y="356"/>
                  </a:lnTo>
                  <a:lnTo>
                    <a:pt x="789" y="367"/>
                  </a:lnTo>
                  <a:lnTo>
                    <a:pt x="819" y="377"/>
                  </a:lnTo>
                  <a:lnTo>
                    <a:pt x="850" y="386"/>
                  </a:lnTo>
                  <a:lnTo>
                    <a:pt x="855" y="383"/>
                  </a:lnTo>
                  <a:lnTo>
                    <a:pt x="858" y="381"/>
                  </a:lnTo>
                  <a:lnTo>
                    <a:pt x="858" y="379"/>
                  </a:lnTo>
                  <a:lnTo>
                    <a:pt x="858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H="1">
              <a:off x="2325600" y="3332520"/>
              <a:ext cx="92520" cy="50040"/>
            </a:xfrm>
            <a:custGeom>
              <a:avLst/>
              <a:gdLst/>
              <a:ahLst/>
              <a:rect l="l" t="t" r="r" b="b"/>
              <a:pathLst>
                <a:path w="157" h="83">
                  <a:moveTo>
                    <a:pt x="155" y="60"/>
                  </a:moveTo>
                  <a:lnTo>
                    <a:pt x="152" y="55"/>
                  </a:lnTo>
                  <a:lnTo>
                    <a:pt x="148" y="52"/>
                  </a:lnTo>
                  <a:lnTo>
                    <a:pt x="116" y="36"/>
                  </a:lnTo>
                  <a:lnTo>
                    <a:pt x="83" y="19"/>
                  </a:lnTo>
                  <a:lnTo>
                    <a:pt x="50" y="6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9"/>
                  </a:lnTo>
                  <a:lnTo>
                    <a:pt x="30" y="41"/>
                  </a:lnTo>
                  <a:lnTo>
                    <a:pt x="65" y="56"/>
                  </a:lnTo>
                  <a:lnTo>
                    <a:pt x="100" y="70"/>
                  </a:lnTo>
                  <a:lnTo>
                    <a:pt x="137" y="83"/>
                  </a:lnTo>
                  <a:lnTo>
                    <a:pt x="148" y="83"/>
                  </a:lnTo>
                  <a:lnTo>
                    <a:pt x="154" y="79"/>
                  </a:lnTo>
                  <a:lnTo>
                    <a:pt x="157" y="70"/>
                  </a:lnTo>
                  <a:lnTo>
                    <a:pt x="15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 flipH="1">
              <a:off x="2441520" y="3011040"/>
              <a:ext cx="231840" cy="127080"/>
            </a:xfrm>
            <a:custGeom>
              <a:avLst/>
              <a:gdLst/>
              <a:ahLst/>
              <a:rect l="l" t="t" r="r" b="b"/>
              <a:pathLst>
                <a:path w="389" h="212">
                  <a:moveTo>
                    <a:pt x="388" y="6"/>
                  </a:moveTo>
                  <a:lnTo>
                    <a:pt x="387" y="3"/>
                  </a:lnTo>
                  <a:lnTo>
                    <a:pt x="383" y="0"/>
                  </a:lnTo>
                  <a:lnTo>
                    <a:pt x="337" y="16"/>
                  </a:lnTo>
                  <a:lnTo>
                    <a:pt x="290" y="33"/>
                  </a:lnTo>
                  <a:lnTo>
                    <a:pt x="242" y="53"/>
                  </a:lnTo>
                  <a:lnTo>
                    <a:pt x="194" y="73"/>
                  </a:lnTo>
                  <a:lnTo>
                    <a:pt x="146" y="95"/>
                  </a:lnTo>
                  <a:lnTo>
                    <a:pt x="99" y="117"/>
                  </a:lnTo>
                  <a:lnTo>
                    <a:pt x="55" y="141"/>
                  </a:lnTo>
                  <a:lnTo>
                    <a:pt x="13" y="167"/>
                  </a:lnTo>
                  <a:lnTo>
                    <a:pt x="4" y="173"/>
                  </a:lnTo>
                  <a:lnTo>
                    <a:pt x="0" y="179"/>
                  </a:lnTo>
                  <a:lnTo>
                    <a:pt x="0" y="196"/>
                  </a:lnTo>
                  <a:lnTo>
                    <a:pt x="8" y="212"/>
                  </a:lnTo>
                  <a:lnTo>
                    <a:pt x="56" y="196"/>
                  </a:lnTo>
                  <a:lnTo>
                    <a:pt x="102" y="175"/>
                  </a:lnTo>
                  <a:lnTo>
                    <a:pt x="146" y="151"/>
                  </a:lnTo>
                  <a:lnTo>
                    <a:pt x="191" y="125"/>
                  </a:lnTo>
                  <a:lnTo>
                    <a:pt x="235" y="98"/>
                  </a:lnTo>
                  <a:lnTo>
                    <a:pt x="278" y="72"/>
                  </a:lnTo>
                  <a:lnTo>
                    <a:pt x="324" y="46"/>
                  </a:lnTo>
                  <a:lnTo>
                    <a:pt x="371" y="25"/>
                  </a:lnTo>
                  <a:lnTo>
                    <a:pt x="381" y="18"/>
                  </a:lnTo>
                  <a:lnTo>
                    <a:pt x="389" y="10"/>
                  </a:lnTo>
                  <a:lnTo>
                    <a:pt x="388" y="8"/>
                  </a:lnTo>
                  <a:lnTo>
                    <a:pt x="3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2176920" y="4296960"/>
              <a:ext cx="1013400" cy="202320"/>
            </a:xfrm>
            <a:custGeom>
              <a:avLst/>
              <a:gdLst/>
              <a:ahLst/>
              <a:rect l="l" t="t" r="r" b="b"/>
              <a:pathLst>
                <a:path w="1705" h="339">
                  <a:moveTo>
                    <a:pt x="1703" y="334"/>
                  </a:moveTo>
                  <a:lnTo>
                    <a:pt x="1670" y="323"/>
                  </a:lnTo>
                  <a:lnTo>
                    <a:pt x="1634" y="314"/>
                  </a:lnTo>
                  <a:lnTo>
                    <a:pt x="1598" y="308"/>
                  </a:lnTo>
                  <a:lnTo>
                    <a:pt x="1559" y="300"/>
                  </a:lnTo>
                  <a:lnTo>
                    <a:pt x="1519" y="296"/>
                  </a:lnTo>
                  <a:lnTo>
                    <a:pt x="1481" y="290"/>
                  </a:lnTo>
                  <a:lnTo>
                    <a:pt x="1443" y="282"/>
                  </a:lnTo>
                  <a:lnTo>
                    <a:pt x="1406" y="273"/>
                  </a:lnTo>
                  <a:lnTo>
                    <a:pt x="1346" y="262"/>
                  </a:lnTo>
                  <a:lnTo>
                    <a:pt x="1285" y="251"/>
                  </a:lnTo>
                  <a:lnTo>
                    <a:pt x="1224" y="240"/>
                  </a:lnTo>
                  <a:lnTo>
                    <a:pt x="1164" y="230"/>
                  </a:lnTo>
                  <a:lnTo>
                    <a:pt x="1104" y="219"/>
                  </a:lnTo>
                  <a:lnTo>
                    <a:pt x="1045" y="208"/>
                  </a:lnTo>
                  <a:lnTo>
                    <a:pt x="985" y="196"/>
                  </a:lnTo>
                  <a:lnTo>
                    <a:pt x="924" y="185"/>
                  </a:lnTo>
                  <a:lnTo>
                    <a:pt x="866" y="173"/>
                  </a:lnTo>
                  <a:lnTo>
                    <a:pt x="805" y="162"/>
                  </a:lnTo>
                  <a:lnTo>
                    <a:pt x="747" y="150"/>
                  </a:lnTo>
                  <a:lnTo>
                    <a:pt x="688" y="138"/>
                  </a:lnTo>
                  <a:lnTo>
                    <a:pt x="629" y="126"/>
                  </a:lnTo>
                  <a:lnTo>
                    <a:pt x="571" y="114"/>
                  </a:lnTo>
                  <a:lnTo>
                    <a:pt x="512" y="102"/>
                  </a:lnTo>
                  <a:lnTo>
                    <a:pt x="453" y="90"/>
                  </a:lnTo>
                  <a:lnTo>
                    <a:pt x="399" y="79"/>
                  </a:lnTo>
                  <a:lnTo>
                    <a:pt x="346" y="65"/>
                  </a:lnTo>
                  <a:lnTo>
                    <a:pt x="296" y="47"/>
                  </a:lnTo>
                  <a:lnTo>
                    <a:pt x="244" y="30"/>
                  </a:lnTo>
                  <a:lnTo>
                    <a:pt x="192" y="14"/>
                  </a:lnTo>
                  <a:lnTo>
                    <a:pt x="140" y="4"/>
                  </a:lnTo>
                  <a:lnTo>
                    <a:pt x="84" y="0"/>
                  </a:lnTo>
                  <a:lnTo>
                    <a:pt x="25" y="5"/>
                  </a:lnTo>
                  <a:lnTo>
                    <a:pt x="7" y="32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6" y="83"/>
                  </a:lnTo>
                  <a:lnTo>
                    <a:pt x="23" y="95"/>
                  </a:lnTo>
                  <a:lnTo>
                    <a:pt x="43" y="101"/>
                  </a:lnTo>
                  <a:lnTo>
                    <a:pt x="64" y="105"/>
                  </a:lnTo>
                  <a:lnTo>
                    <a:pt x="85" y="108"/>
                  </a:lnTo>
                  <a:lnTo>
                    <a:pt x="108" y="108"/>
                  </a:lnTo>
                  <a:lnTo>
                    <a:pt x="130" y="109"/>
                  </a:lnTo>
                  <a:lnTo>
                    <a:pt x="153" y="111"/>
                  </a:lnTo>
                  <a:lnTo>
                    <a:pt x="176" y="113"/>
                  </a:lnTo>
                  <a:lnTo>
                    <a:pt x="238" y="120"/>
                  </a:lnTo>
                  <a:lnTo>
                    <a:pt x="301" y="127"/>
                  </a:lnTo>
                  <a:lnTo>
                    <a:pt x="361" y="137"/>
                  </a:lnTo>
                  <a:lnTo>
                    <a:pt x="421" y="147"/>
                  </a:lnTo>
                  <a:lnTo>
                    <a:pt x="481" y="156"/>
                  </a:lnTo>
                  <a:lnTo>
                    <a:pt x="541" y="166"/>
                  </a:lnTo>
                  <a:lnTo>
                    <a:pt x="602" y="175"/>
                  </a:lnTo>
                  <a:lnTo>
                    <a:pt x="665" y="184"/>
                  </a:lnTo>
                  <a:lnTo>
                    <a:pt x="731" y="193"/>
                  </a:lnTo>
                  <a:lnTo>
                    <a:pt x="796" y="203"/>
                  </a:lnTo>
                  <a:lnTo>
                    <a:pt x="862" y="213"/>
                  </a:lnTo>
                  <a:lnTo>
                    <a:pt x="928" y="223"/>
                  </a:lnTo>
                  <a:lnTo>
                    <a:pt x="993" y="234"/>
                  </a:lnTo>
                  <a:lnTo>
                    <a:pt x="1058" y="245"/>
                  </a:lnTo>
                  <a:lnTo>
                    <a:pt x="1124" y="256"/>
                  </a:lnTo>
                  <a:lnTo>
                    <a:pt x="1189" y="266"/>
                  </a:lnTo>
                  <a:lnTo>
                    <a:pt x="1254" y="278"/>
                  </a:lnTo>
                  <a:lnTo>
                    <a:pt x="1319" y="287"/>
                  </a:lnTo>
                  <a:lnTo>
                    <a:pt x="1382" y="297"/>
                  </a:lnTo>
                  <a:lnTo>
                    <a:pt x="1447" y="306"/>
                  </a:lnTo>
                  <a:lnTo>
                    <a:pt x="1512" y="316"/>
                  </a:lnTo>
                  <a:lnTo>
                    <a:pt x="1577" y="324"/>
                  </a:lnTo>
                  <a:lnTo>
                    <a:pt x="1641" y="332"/>
                  </a:lnTo>
                  <a:lnTo>
                    <a:pt x="1705" y="339"/>
                  </a:lnTo>
                  <a:lnTo>
                    <a:pt x="1703" y="339"/>
                  </a:lnTo>
                  <a:lnTo>
                    <a:pt x="1703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H="1">
              <a:off x="2408400" y="3263040"/>
              <a:ext cx="59040" cy="144000"/>
            </a:xfrm>
            <a:custGeom>
              <a:avLst/>
              <a:gdLst/>
              <a:ahLst/>
              <a:rect l="l" t="t" r="r" b="b"/>
              <a:pathLst>
                <a:path w="98" h="241">
                  <a:moveTo>
                    <a:pt x="98" y="217"/>
                  </a:moveTo>
                  <a:lnTo>
                    <a:pt x="68" y="167"/>
                  </a:lnTo>
                  <a:lnTo>
                    <a:pt x="45" y="116"/>
                  </a:lnTo>
                  <a:lnTo>
                    <a:pt x="37" y="62"/>
                  </a:lnTo>
                  <a:lnTo>
                    <a:pt x="45" y="8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11" y="10"/>
                  </a:lnTo>
                  <a:lnTo>
                    <a:pt x="0" y="63"/>
                  </a:lnTo>
                  <a:lnTo>
                    <a:pt x="11" y="117"/>
                  </a:lnTo>
                  <a:lnTo>
                    <a:pt x="32" y="171"/>
                  </a:lnTo>
                  <a:lnTo>
                    <a:pt x="60" y="221"/>
                  </a:lnTo>
                  <a:lnTo>
                    <a:pt x="72" y="231"/>
                  </a:lnTo>
                  <a:lnTo>
                    <a:pt x="81" y="241"/>
                  </a:lnTo>
                  <a:lnTo>
                    <a:pt x="93" y="231"/>
                  </a:lnTo>
                  <a:lnTo>
                    <a:pt x="98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H="1">
              <a:off x="2449080" y="3328920"/>
              <a:ext cx="55800" cy="82440"/>
            </a:xfrm>
            <a:custGeom>
              <a:avLst/>
              <a:gdLst/>
              <a:ahLst/>
              <a:rect l="l" t="t" r="r" b="b"/>
              <a:pathLst>
                <a:path w="95" h="138">
                  <a:moveTo>
                    <a:pt x="92" y="110"/>
                  </a:moveTo>
                  <a:lnTo>
                    <a:pt x="38" y="2"/>
                  </a:lnTo>
                  <a:lnTo>
                    <a:pt x="25" y="0"/>
                  </a:lnTo>
                  <a:lnTo>
                    <a:pt x="11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0" y="29"/>
                  </a:lnTo>
                  <a:lnTo>
                    <a:pt x="6" y="48"/>
                  </a:lnTo>
                  <a:lnTo>
                    <a:pt x="17" y="67"/>
                  </a:lnTo>
                  <a:lnTo>
                    <a:pt x="27" y="86"/>
                  </a:lnTo>
                  <a:lnTo>
                    <a:pt x="41" y="102"/>
                  </a:lnTo>
                  <a:lnTo>
                    <a:pt x="52" y="117"/>
                  </a:lnTo>
                  <a:lnTo>
                    <a:pt x="64" y="129"/>
                  </a:lnTo>
                  <a:lnTo>
                    <a:pt x="79" y="138"/>
                  </a:lnTo>
                  <a:lnTo>
                    <a:pt x="90" y="128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H="1">
              <a:off x="2493720" y="3251160"/>
              <a:ext cx="29520" cy="7884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50" y="9"/>
                  </a:moveTo>
                  <a:lnTo>
                    <a:pt x="49" y="6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7" y="3"/>
                  </a:lnTo>
                  <a:lnTo>
                    <a:pt x="19" y="9"/>
                  </a:lnTo>
                  <a:lnTo>
                    <a:pt x="13" y="17"/>
                  </a:lnTo>
                  <a:lnTo>
                    <a:pt x="0" y="52"/>
                  </a:lnTo>
                  <a:lnTo>
                    <a:pt x="0" y="91"/>
                  </a:lnTo>
                  <a:lnTo>
                    <a:pt x="6" y="114"/>
                  </a:lnTo>
                  <a:lnTo>
                    <a:pt x="17" y="132"/>
                  </a:lnTo>
                  <a:lnTo>
                    <a:pt x="32" y="130"/>
                  </a:lnTo>
                  <a:lnTo>
                    <a:pt x="5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 flipH="1">
              <a:off x="2624760" y="3371040"/>
              <a:ext cx="67680" cy="82800"/>
            </a:xfrm>
            <a:custGeom>
              <a:avLst/>
              <a:gdLst/>
              <a:ahLst/>
              <a:rect l="l" t="t" r="r" b="b"/>
              <a:pathLst>
                <a:path w="113" h="137">
                  <a:moveTo>
                    <a:pt x="112" y="15"/>
                  </a:moveTo>
                  <a:lnTo>
                    <a:pt x="111" y="12"/>
                  </a:lnTo>
                  <a:lnTo>
                    <a:pt x="109" y="7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72" y="2"/>
                  </a:lnTo>
                  <a:lnTo>
                    <a:pt x="46" y="22"/>
                  </a:lnTo>
                  <a:lnTo>
                    <a:pt x="30" y="51"/>
                  </a:lnTo>
                  <a:lnTo>
                    <a:pt x="18" y="83"/>
                  </a:lnTo>
                  <a:lnTo>
                    <a:pt x="0" y="111"/>
                  </a:lnTo>
                  <a:lnTo>
                    <a:pt x="5" y="131"/>
                  </a:lnTo>
                  <a:lnTo>
                    <a:pt x="17" y="137"/>
                  </a:lnTo>
                  <a:lnTo>
                    <a:pt x="31" y="134"/>
                  </a:lnTo>
                  <a:lnTo>
                    <a:pt x="49" y="107"/>
                  </a:lnTo>
                  <a:lnTo>
                    <a:pt x="64" y="75"/>
                  </a:lnTo>
                  <a:lnTo>
                    <a:pt x="81" y="46"/>
                  </a:lnTo>
                  <a:lnTo>
                    <a:pt x="107" y="26"/>
                  </a:lnTo>
                  <a:lnTo>
                    <a:pt x="111" y="24"/>
                  </a:lnTo>
                  <a:lnTo>
                    <a:pt x="113" y="18"/>
                  </a:lnTo>
                  <a:lnTo>
                    <a:pt x="113" y="16"/>
                  </a:lnTo>
                  <a:lnTo>
                    <a:pt x="1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 flipH="1">
              <a:off x="2686320" y="3144240"/>
              <a:ext cx="260640" cy="276840"/>
            </a:xfrm>
            <a:custGeom>
              <a:avLst/>
              <a:gdLst/>
              <a:ahLst/>
              <a:rect l="l" t="t" r="r" b="b"/>
              <a:pathLst>
                <a:path w="440" h="463">
                  <a:moveTo>
                    <a:pt x="439" y="11"/>
                  </a:moveTo>
                  <a:lnTo>
                    <a:pt x="424" y="0"/>
                  </a:lnTo>
                  <a:lnTo>
                    <a:pt x="392" y="12"/>
                  </a:lnTo>
                  <a:lnTo>
                    <a:pt x="361" y="26"/>
                  </a:lnTo>
                  <a:lnTo>
                    <a:pt x="332" y="44"/>
                  </a:lnTo>
                  <a:lnTo>
                    <a:pt x="304" y="64"/>
                  </a:lnTo>
                  <a:lnTo>
                    <a:pt x="279" y="84"/>
                  </a:lnTo>
                  <a:lnTo>
                    <a:pt x="254" y="105"/>
                  </a:lnTo>
                  <a:lnTo>
                    <a:pt x="228" y="125"/>
                  </a:lnTo>
                  <a:lnTo>
                    <a:pt x="204" y="145"/>
                  </a:lnTo>
                  <a:lnTo>
                    <a:pt x="172" y="174"/>
                  </a:lnTo>
                  <a:lnTo>
                    <a:pt x="139" y="208"/>
                  </a:lnTo>
                  <a:lnTo>
                    <a:pt x="108" y="242"/>
                  </a:lnTo>
                  <a:lnTo>
                    <a:pt x="79" y="278"/>
                  </a:lnTo>
                  <a:lnTo>
                    <a:pt x="53" y="317"/>
                  </a:lnTo>
                  <a:lnTo>
                    <a:pt x="30" y="358"/>
                  </a:lnTo>
                  <a:lnTo>
                    <a:pt x="12" y="399"/>
                  </a:lnTo>
                  <a:lnTo>
                    <a:pt x="0" y="442"/>
                  </a:lnTo>
                  <a:lnTo>
                    <a:pt x="1" y="447"/>
                  </a:lnTo>
                  <a:lnTo>
                    <a:pt x="1" y="451"/>
                  </a:lnTo>
                  <a:lnTo>
                    <a:pt x="8" y="458"/>
                  </a:lnTo>
                  <a:lnTo>
                    <a:pt x="22" y="463"/>
                  </a:lnTo>
                  <a:lnTo>
                    <a:pt x="32" y="460"/>
                  </a:lnTo>
                  <a:lnTo>
                    <a:pt x="43" y="457"/>
                  </a:lnTo>
                  <a:lnTo>
                    <a:pt x="52" y="451"/>
                  </a:lnTo>
                  <a:lnTo>
                    <a:pt x="57" y="442"/>
                  </a:lnTo>
                  <a:lnTo>
                    <a:pt x="79" y="374"/>
                  </a:lnTo>
                  <a:lnTo>
                    <a:pt x="111" y="311"/>
                  </a:lnTo>
                  <a:lnTo>
                    <a:pt x="148" y="254"/>
                  </a:lnTo>
                  <a:lnTo>
                    <a:pt x="192" y="198"/>
                  </a:lnTo>
                  <a:lnTo>
                    <a:pt x="243" y="150"/>
                  </a:lnTo>
                  <a:lnTo>
                    <a:pt x="298" y="103"/>
                  </a:lnTo>
                  <a:lnTo>
                    <a:pt x="357" y="64"/>
                  </a:lnTo>
                  <a:lnTo>
                    <a:pt x="421" y="25"/>
                  </a:lnTo>
                  <a:lnTo>
                    <a:pt x="430" y="20"/>
                  </a:lnTo>
                  <a:lnTo>
                    <a:pt x="440" y="16"/>
                  </a:lnTo>
                  <a:lnTo>
                    <a:pt x="439" y="12"/>
                  </a:lnTo>
                  <a:lnTo>
                    <a:pt x="4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2777040" y="3421440"/>
              <a:ext cx="193680" cy="3816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326" y="6"/>
                  </a:moveTo>
                  <a:lnTo>
                    <a:pt x="322" y="2"/>
                  </a:lnTo>
                  <a:lnTo>
                    <a:pt x="319" y="0"/>
                  </a:lnTo>
                  <a:lnTo>
                    <a:pt x="10" y="19"/>
                  </a:lnTo>
                  <a:lnTo>
                    <a:pt x="4" y="25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7" y="63"/>
                  </a:lnTo>
                  <a:lnTo>
                    <a:pt x="54" y="63"/>
                  </a:lnTo>
                  <a:lnTo>
                    <a:pt x="90" y="61"/>
                  </a:lnTo>
                  <a:lnTo>
                    <a:pt x="127" y="55"/>
                  </a:lnTo>
                  <a:lnTo>
                    <a:pt x="164" y="49"/>
                  </a:lnTo>
                  <a:lnTo>
                    <a:pt x="200" y="40"/>
                  </a:lnTo>
                  <a:lnTo>
                    <a:pt x="236" y="33"/>
                  </a:lnTo>
                  <a:lnTo>
                    <a:pt x="273" y="26"/>
                  </a:lnTo>
                  <a:lnTo>
                    <a:pt x="309" y="22"/>
                  </a:lnTo>
                  <a:lnTo>
                    <a:pt x="322" y="15"/>
                  </a:lnTo>
                  <a:lnTo>
                    <a:pt x="327" y="7"/>
                  </a:lnTo>
                  <a:lnTo>
                    <a:pt x="327" y="7"/>
                  </a:lnTo>
                  <a:lnTo>
                    <a:pt x="3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2808720" y="3502800"/>
              <a:ext cx="106920" cy="50400"/>
            </a:xfrm>
            <a:custGeom>
              <a:avLst/>
              <a:gdLst/>
              <a:ahLst/>
              <a:rect l="l" t="t" r="r" b="b"/>
              <a:pathLst>
                <a:path w="180" h="84">
                  <a:moveTo>
                    <a:pt x="180" y="54"/>
                  </a:moveTo>
                  <a:lnTo>
                    <a:pt x="149" y="31"/>
                  </a:lnTo>
                  <a:lnTo>
                    <a:pt x="115" y="18"/>
                  </a:lnTo>
                  <a:lnTo>
                    <a:pt x="77" y="9"/>
                  </a:lnTo>
                  <a:lnTo>
                    <a:pt x="41" y="0"/>
                  </a:lnTo>
                  <a:lnTo>
                    <a:pt x="29" y="1"/>
                  </a:lnTo>
                  <a:lnTo>
                    <a:pt x="17" y="4"/>
                  </a:lnTo>
                  <a:lnTo>
                    <a:pt x="6" y="19"/>
                  </a:lnTo>
                  <a:lnTo>
                    <a:pt x="0" y="40"/>
                  </a:lnTo>
                  <a:lnTo>
                    <a:pt x="13" y="52"/>
                  </a:lnTo>
                  <a:lnTo>
                    <a:pt x="34" y="49"/>
                  </a:lnTo>
                  <a:lnTo>
                    <a:pt x="54" y="51"/>
                  </a:lnTo>
                  <a:lnTo>
                    <a:pt x="73" y="57"/>
                  </a:lnTo>
                  <a:lnTo>
                    <a:pt x="90" y="66"/>
                  </a:lnTo>
                  <a:lnTo>
                    <a:pt x="108" y="74"/>
                  </a:lnTo>
                  <a:lnTo>
                    <a:pt x="126" y="81"/>
                  </a:lnTo>
                  <a:lnTo>
                    <a:pt x="145" y="84"/>
                  </a:lnTo>
                  <a:lnTo>
                    <a:pt x="165" y="81"/>
                  </a:lnTo>
                  <a:lnTo>
                    <a:pt x="178" y="69"/>
                  </a:lnTo>
                  <a:lnTo>
                    <a:pt x="18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2948040" y="3346920"/>
              <a:ext cx="61560" cy="47520"/>
            </a:xfrm>
            <a:custGeom>
              <a:avLst/>
              <a:gdLst/>
              <a:ahLst/>
              <a:rect l="l" t="t" r="r" b="b"/>
              <a:pathLst>
                <a:path w="105" h="79">
                  <a:moveTo>
                    <a:pt x="105" y="20"/>
                  </a:moveTo>
                  <a:lnTo>
                    <a:pt x="105" y="17"/>
                  </a:lnTo>
                  <a:lnTo>
                    <a:pt x="104" y="13"/>
                  </a:lnTo>
                  <a:lnTo>
                    <a:pt x="98" y="8"/>
                  </a:lnTo>
                  <a:lnTo>
                    <a:pt x="90" y="4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48" y="4"/>
                  </a:lnTo>
                  <a:lnTo>
                    <a:pt x="28" y="11"/>
                  </a:lnTo>
                  <a:lnTo>
                    <a:pt x="12" y="22"/>
                  </a:lnTo>
                  <a:lnTo>
                    <a:pt x="0" y="38"/>
                  </a:lnTo>
                  <a:lnTo>
                    <a:pt x="1" y="60"/>
                  </a:lnTo>
                  <a:lnTo>
                    <a:pt x="10" y="78"/>
                  </a:lnTo>
                  <a:lnTo>
                    <a:pt x="30" y="79"/>
                  </a:lnTo>
                  <a:lnTo>
                    <a:pt x="52" y="73"/>
                  </a:lnTo>
                  <a:lnTo>
                    <a:pt x="71" y="62"/>
                  </a:lnTo>
                  <a:lnTo>
                    <a:pt x="90" y="50"/>
                  </a:lnTo>
                  <a:lnTo>
                    <a:pt x="101" y="35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 flipH="1">
              <a:off x="2928960" y="3504240"/>
              <a:ext cx="260640" cy="40680"/>
            </a:xfrm>
            <a:custGeom>
              <a:avLst/>
              <a:gdLst/>
              <a:ahLst/>
              <a:rect l="l" t="t" r="r" b="b"/>
              <a:pathLst>
                <a:path w="437" h="68">
                  <a:moveTo>
                    <a:pt x="437" y="23"/>
                  </a:moveTo>
                  <a:lnTo>
                    <a:pt x="437" y="20"/>
                  </a:lnTo>
                  <a:lnTo>
                    <a:pt x="436" y="17"/>
                  </a:lnTo>
                  <a:lnTo>
                    <a:pt x="421" y="7"/>
                  </a:lnTo>
                  <a:lnTo>
                    <a:pt x="403" y="3"/>
                  </a:lnTo>
                  <a:lnTo>
                    <a:pt x="384" y="2"/>
                  </a:lnTo>
                  <a:lnTo>
                    <a:pt x="365" y="0"/>
                  </a:lnTo>
                  <a:lnTo>
                    <a:pt x="319" y="3"/>
                  </a:lnTo>
                  <a:lnTo>
                    <a:pt x="274" y="5"/>
                  </a:lnTo>
                  <a:lnTo>
                    <a:pt x="227" y="6"/>
                  </a:lnTo>
                  <a:lnTo>
                    <a:pt x="181" y="7"/>
                  </a:lnTo>
                  <a:lnTo>
                    <a:pt x="135" y="8"/>
                  </a:lnTo>
                  <a:lnTo>
                    <a:pt x="91" y="11"/>
                  </a:lnTo>
                  <a:lnTo>
                    <a:pt x="46" y="15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8" y="54"/>
                  </a:lnTo>
                  <a:lnTo>
                    <a:pt x="24" y="67"/>
                  </a:lnTo>
                  <a:lnTo>
                    <a:pt x="40" y="68"/>
                  </a:lnTo>
                  <a:lnTo>
                    <a:pt x="57" y="68"/>
                  </a:lnTo>
                  <a:lnTo>
                    <a:pt x="72" y="68"/>
                  </a:lnTo>
                  <a:lnTo>
                    <a:pt x="88" y="68"/>
                  </a:lnTo>
                  <a:lnTo>
                    <a:pt x="123" y="65"/>
                  </a:lnTo>
                  <a:lnTo>
                    <a:pt x="158" y="59"/>
                  </a:lnTo>
                  <a:lnTo>
                    <a:pt x="193" y="54"/>
                  </a:lnTo>
                  <a:lnTo>
                    <a:pt x="228" y="48"/>
                  </a:lnTo>
                  <a:lnTo>
                    <a:pt x="263" y="43"/>
                  </a:lnTo>
                  <a:lnTo>
                    <a:pt x="298" y="38"/>
                  </a:lnTo>
                  <a:lnTo>
                    <a:pt x="334" y="36"/>
                  </a:lnTo>
                  <a:lnTo>
                    <a:pt x="370" y="35"/>
                  </a:lnTo>
                  <a:lnTo>
                    <a:pt x="388" y="36"/>
                  </a:lnTo>
                  <a:lnTo>
                    <a:pt x="405" y="35"/>
                  </a:lnTo>
                  <a:lnTo>
                    <a:pt x="421" y="33"/>
                  </a:lnTo>
                  <a:lnTo>
                    <a:pt x="437" y="27"/>
                  </a:lnTo>
                  <a:lnTo>
                    <a:pt x="437" y="25"/>
                  </a:lnTo>
                  <a:lnTo>
                    <a:pt x="43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 flipH="1">
              <a:off x="3025080" y="3389040"/>
              <a:ext cx="189000" cy="110160"/>
            </a:xfrm>
            <a:custGeom>
              <a:avLst/>
              <a:gdLst/>
              <a:ahLst/>
              <a:rect l="l" t="t" r="r" b="b"/>
              <a:pathLst>
                <a:path w="319" h="184">
                  <a:moveTo>
                    <a:pt x="319" y="9"/>
                  </a:moveTo>
                  <a:lnTo>
                    <a:pt x="315" y="3"/>
                  </a:lnTo>
                  <a:lnTo>
                    <a:pt x="311" y="0"/>
                  </a:lnTo>
                  <a:lnTo>
                    <a:pt x="276" y="10"/>
                  </a:lnTo>
                  <a:lnTo>
                    <a:pt x="242" y="25"/>
                  </a:lnTo>
                  <a:lnTo>
                    <a:pt x="208" y="42"/>
                  </a:lnTo>
                  <a:lnTo>
                    <a:pt x="175" y="60"/>
                  </a:lnTo>
                  <a:lnTo>
                    <a:pt x="141" y="80"/>
                  </a:lnTo>
                  <a:lnTo>
                    <a:pt x="107" y="99"/>
                  </a:lnTo>
                  <a:lnTo>
                    <a:pt x="74" y="117"/>
                  </a:lnTo>
                  <a:lnTo>
                    <a:pt x="38" y="133"/>
                  </a:lnTo>
                  <a:lnTo>
                    <a:pt x="27" y="141"/>
                  </a:lnTo>
                  <a:lnTo>
                    <a:pt x="15" y="150"/>
                  </a:lnTo>
                  <a:lnTo>
                    <a:pt x="5" y="160"/>
                  </a:lnTo>
                  <a:lnTo>
                    <a:pt x="0" y="172"/>
                  </a:lnTo>
                  <a:lnTo>
                    <a:pt x="8" y="184"/>
                  </a:lnTo>
                  <a:lnTo>
                    <a:pt x="49" y="175"/>
                  </a:lnTo>
                  <a:lnTo>
                    <a:pt x="87" y="160"/>
                  </a:lnTo>
                  <a:lnTo>
                    <a:pt x="123" y="138"/>
                  </a:lnTo>
                  <a:lnTo>
                    <a:pt x="159" y="113"/>
                  </a:lnTo>
                  <a:lnTo>
                    <a:pt x="194" y="86"/>
                  </a:lnTo>
                  <a:lnTo>
                    <a:pt x="231" y="61"/>
                  </a:lnTo>
                  <a:lnTo>
                    <a:pt x="269" y="38"/>
                  </a:lnTo>
                  <a:lnTo>
                    <a:pt x="309" y="21"/>
                  </a:lnTo>
                  <a:lnTo>
                    <a:pt x="319" y="10"/>
                  </a:lnTo>
                  <a:lnTo>
                    <a:pt x="319" y="9"/>
                  </a:lnTo>
                  <a:lnTo>
                    <a:pt x="3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 flipH="1">
              <a:off x="3212280" y="3511440"/>
              <a:ext cx="43920" cy="3348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73" y="20"/>
                  </a:moveTo>
                  <a:lnTo>
                    <a:pt x="67" y="11"/>
                  </a:lnTo>
                  <a:lnTo>
                    <a:pt x="58" y="5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17" y="56"/>
                  </a:lnTo>
                  <a:lnTo>
                    <a:pt x="64" y="43"/>
                  </a:lnTo>
                  <a:lnTo>
                    <a:pt x="70" y="33"/>
                  </a:lnTo>
                  <a:lnTo>
                    <a:pt x="7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239640" y="3559320"/>
              <a:ext cx="73440" cy="718200"/>
            </a:xfrm>
            <a:custGeom>
              <a:avLst/>
              <a:gdLst/>
              <a:ahLst/>
              <a:rect l="l" t="t" r="r" b="b"/>
              <a:pathLst>
                <a:path w="122" h="1200">
                  <a:moveTo>
                    <a:pt x="122" y="69"/>
                  </a:moveTo>
                  <a:lnTo>
                    <a:pt x="112" y="39"/>
                  </a:lnTo>
                  <a:lnTo>
                    <a:pt x="100" y="9"/>
                  </a:lnTo>
                  <a:lnTo>
                    <a:pt x="94" y="4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5" y="4"/>
                  </a:lnTo>
                  <a:lnTo>
                    <a:pt x="47" y="25"/>
                  </a:lnTo>
                  <a:lnTo>
                    <a:pt x="36" y="51"/>
                  </a:lnTo>
                  <a:lnTo>
                    <a:pt x="31" y="78"/>
                  </a:lnTo>
                  <a:lnTo>
                    <a:pt x="26" y="107"/>
                  </a:lnTo>
                  <a:lnTo>
                    <a:pt x="43" y="239"/>
                  </a:lnTo>
                  <a:lnTo>
                    <a:pt x="44" y="375"/>
                  </a:lnTo>
                  <a:lnTo>
                    <a:pt x="35" y="513"/>
                  </a:lnTo>
                  <a:lnTo>
                    <a:pt x="20" y="652"/>
                  </a:lnTo>
                  <a:lnTo>
                    <a:pt x="7" y="789"/>
                  </a:lnTo>
                  <a:lnTo>
                    <a:pt x="0" y="926"/>
                  </a:lnTo>
                  <a:lnTo>
                    <a:pt x="5" y="1060"/>
                  </a:lnTo>
                  <a:lnTo>
                    <a:pt x="27" y="1191"/>
                  </a:lnTo>
                  <a:lnTo>
                    <a:pt x="33" y="1196"/>
                  </a:lnTo>
                  <a:lnTo>
                    <a:pt x="42" y="1198"/>
                  </a:lnTo>
                  <a:lnTo>
                    <a:pt x="51" y="1200"/>
                  </a:lnTo>
                  <a:lnTo>
                    <a:pt x="60" y="1196"/>
                  </a:lnTo>
                  <a:lnTo>
                    <a:pt x="67" y="1191"/>
                  </a:lnTo>
                  <a:lnTo>
                    <a:pt x="70" y="1188"/>
                  </a:lnTo>
                  <a:lnTo>
                    <a:pt x="43" y="1054"/>
                  </a:lnTo>
                  <a:lnTo>
                    <a:pt x="36" y="917"/>
                  </a:lnTo>
                  <a:lnTo>
                    <a:pt x="43" y="778"/>
                  </a:lnTo>
                  <a:lnTo>
                    <a:pt x="60" y="638"/>
                  </a:lnTo>
                  <a:lnTo>
                    <a:pt x="82" y="495"/>
                  </a:lnTo>
                  <a:lnTo>
                    <a:pt x="102" y="353"/>
                  </a:lnTo>
                  <a:lnTo>
                    <a:pt x="116" y="212"/>
                  </a:lnTo>
                  <a:lnTo>
                    <a:pt x="12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201480" y="4291200"/>
              <a:ext cx="72360" cy="3672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120" y="52"/>
                  </a:moveTo>
                  <a:lnTo>
                    <a:pt x="120" y="50"/>
                  </a:lnTo>
                  <a:lnTo>
                    <a:pt x="119" y="48"/>
                  </a:lnTo>
                  <a:lnTo>
                    <a:pt x="100" y="36"/>
                  </a:lnTo>
                  <a:lnTo>
                    <a:pt x="78" y="28"/>
                  </a:lnTo>
                  <a:lnTo>
                    <a:pt x="58" y="18"/>
                  </a:lnTo>
                  <a:lnTo>
                    <a:pt x="37" y="4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8" y="3"/>
                  </a:lnTo>
                  <a:lnTo>
                    <a:pt x="0" y="6"/>
                  </a:lnTo>
                  <a:lnTo>
                    <a:pt x="2" y="26"/>
                  </a:lnTo>
                  <a:lnTo>
                    <a:pt x="13" y="44"/>
                  </a:lnTo>
                  <a:lnTo>
                    <a:pt x="37" y="56"/>
                  </a:lnTo>
                  <a:lnTo>
                    <a:pt x="64" y="62"/>
                  </a:lnTo>
                  <a:lnTo>
                    <a:pt x="90" y="62"/>
                  </a:lnTo>
                  <a:lnTo>
                    <a:pt x="114" y="58"/>
                  </a:lnTo>
                  <a:lnTo>
                    <a:pt x="120" y="5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5" name=""/>
          <p:cNvSpPr/>
          <p:nvPr/>
        </p:nvSpPr>
        <p:spPr>
          <a:xfrm>
            <a:off x="2364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7" name=""/>
          <p:cNvSpPr/>
          <p:nvPr/>
        </p:nvSpPr>
        <p:spPr>
          <a:xfrm>
            <a:off x="5791320" y="2743200"/>
            <a:ext cx="2133360" cy="2133720"/>
          </a:xfrm>
          <a:custGeom>
            <a:avLst/>
            <a:gdLst/>
            <a:ahLst/>
            <a:rect l="l" t="t" r="r" b="b"/>
            <a:pathLst>
              <a:path w="383" h="385">
                <a:moveTo>
                  <a:pt x="192" y="316"/>
                </a:moveTo>
                <a:lnTo>
                  <a:pt x="335" y="64"/>
                </a:lnTo>
                <a:lnTo>
                  <a:pt x="49" y="64"/>
                </a:lnTo>
                <a:lnTo>
                  <a:pt x="192" y="316"/>
                </a:lnTo>
                <a:lnTo>
                  <a:pt x="143" y="306"/>
                </a:lnTo>
                <a:lnTo>
                  <a:pt x="375" y="135"/>
                </a:lnTo>
                <a:lnTo>
                  <a:pt x="113" y="17"/>
                </a:lnTo>
                <a:lnTo>
                  <a:pt x="143" y="306"/>
                </a:lnTo>
                <a:lnTo>
                  <a:pt x="103" y="276"/>
                </a:lnTo>
                <a:lnTo>
                  <a:pt x="383" y="215"/>
                </a:lnTo>
                <a:lnTo>
                  <a:pt x="191" y="0"/>
                </a:lnTo>
                <a:lnTo>
                  <a:pt x="103" y="276"/>
                </a:lnTo>
                <a:lnTo>
                  <a:pt x="77" y="233"/>
                </a:lnTo>
                <a:lnTo>
                  <a:pt x="359" y="292"/>
                </a:lnTo>
                <a:lnTo>
                  <a:pt x="269" y="17"/>
                </a:lnTo>
                <a:lnTo>
                  <a:pt x="77" y="233"/>
                </a:lnTo>
                <a:lnTo>
                  <a:pt x="72" y="183"/>
                </a:lnTo>
                <a:lnTo>
                  <a:pt x="305" y="352"/>
                </a:lnTo>
                <a:lnTo>
                  <a:pt x="335" y="64"/>
                </a:lnTo>
                <a:lnTo>
                  <a:pt x="72" y="183"/>
                </a:lnTo>
                <a:lnTo>
                  <a:pt x="87" y="134"/>
                </a:lnTo>
                <a:lnTo>
                  <a:pt x="231" y="385"/>
                </a:lnTo>
                <a:lnTo>
                  <a:pt x="375" y="134"/>
                </a:lnTo>
                <a:lnTo>
                  <a:pt x="87" y="134"/>
                </a:lnTo>
                <a:lnTo>
                  <a:pt x="122" y="97"/>
                </a:lnTo>
                <a:lnTo>
                  <a:pt x="152" y="385"/>
                </a:lnTo>
                <a:lnTo>
                  <a:pt x="383" y="215"/>
                </a:lnTo>
                <a:lnTo>
                  <a:pt x="122" y="97"/>
                </a:lnTo>
                <a:lnTo>
                  <a:pt x="166" y="76"/>
                </a:lnTo>
                <a:lnTo>
                  <a:pt x="78" y="352"/>
                </a:lnTo>
                <a:lnTo>
                  <a:pt x="359" y="291"/>
                </a:lnTo>
                <a:lnTo>
                  <a:pt x="166" y="76"/>
                </a:lnTo>
                <a:lnTo>
                  <a:pt x="217" y="76"/>
                </a:lnTo>
                <a:lnTo>
                  <a:pt x="25" y="291"/>
                </a:lnTo>
                <a:lnTo>
                  <a:pt x="305" y="352"/>
                </a:lnTo>
                <a:lnTo>
                  <a:pt x="217" y="76"/>
                </a:lnTo>
                <a:lnTo>
                  <a:pt x="263" y="97"/>
                </a:lnTo>
                <a:lnTo>
                  <a:pt x="0" y="215"/>
                </a:lnTo>
                <a:lnTo>
                  <a:pt x="231" y="385"/>
                </a:lnTo>
                <a:lnTo>
                  <a:pt x="263" y="97"/>
                </a:lnTo>
                <a:lnTo>
                  <a:pt x="295" y="134"/>
                </a:lnTo>
                <a:lnTo>
                  <a:pt x="9" y="134"/>
                </a:lnTo>
                <a:lnTo>
                  <a:pt x="153" y="385"/>
                </a:lnTo>
                <a:lnTo>
                  <a:pt x="295" y="134"/>
                </a:lnTo>
                <a:lnTo>
                  <a:pt x="312" y="183"/>
                </a:lnTo>
                <a:lnTo>
                  <a:pt x="49" y="64"/>
                </a:lnTo>
                <a:lnTo>
                  <a:pt x="78" y="352"/>
                </a:lnTo>
                <a:lnTo>
                  <a:pt x="312" y="183"/>
                </a:lnTo>
                <a:lnTo>
                  <a:pt x="306" y="233"/>
                </a:lnTo>
                <a:lnTo>
                  <a:pt x="114" y="17"/>
                </a:lnTo>
                <a:lnTo>
                  <a:pt x="25" y="292"/>
                </a:lnTo>
                <a:lnTo>
                  <a:pt x="306" y="233"/>
                </a:lnTo>
                <a:lnTo>
                  <a:pt x="281" y="276"/>
                </a:lnTo>
                <a:lnTo>
                  <a:pt x="192" y="0"/>
                </a:lnTo>
                <a:lnTo>
                  <a:pt x="0" y="215"/>
                </a:lnTo>
                <a:lnTo>
                  <a:pt x="281" y="276"/>
                </a:lnTo>
                <a:lnTo>
                  <a:pt x="241" y="306"/>
                </a:lnTo>
                <a:lnTo>
                  <a:pt x="270" y="17"/>
                </a:lnTo>
                <a:lnTo>
                  <a:pt x="9" y="135"/>
                </a:lnTo>
                <a:lnTo>
                  <a:pt x="241" y="306"/>
                </a:lnTo>
                <a:lnTo>
                  <a:pt x="192" y="316"/>
                </a:lnTo>
                <a:close/>
              </a:path>
            </a:pathLst>
          </a:custGeom>
          <a:solidFill>
            <a:srgbClr val="05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838080" y="2665440"/>
            <a:ext cx="2286000" cy="2287440"/>
          </a:xfrm>
          <a:custGeom>
            <a:avLst/>
            <a:gdLst/>
            <a:ahLst/>
            <a:rect l="l" t="t" r="r" b="b"/>
            <a:pathLst>
              <a:path w="4696" h="4706">
                <a:moveTo>
                  <a:pt x="2350" y="4706"/>
                </a:moveTo>
                <a:lnTo>
                  <a:pt x="1124" y="2353"/>
                </a:lnTo>
                <a:lnTo>
                  <a:pt x="4690" y="2353"/>
                </a:lnTo>
                <a:lnTo>
                  <a:pt x="2350" y="0"/>
                </a:lnTo>
                <a:lnTo>
                  <a:pt x="2029" y="4683"/>
                </a:lnTo>
                <a:lnTo>
                  <a:pt x="1133" y="2188"/>
                </a:lnTo>
                <a:lnTo>
                  <a:pt x="4671" y="2670"/>
                </a:lnTo>
                <a:lnTo>
                  <a:pt x="2669" y="21"/>
                </a:lnTo>
                <a:lnTo>
                  <a:pt x="1715" y="4617"/>
                </a:lnTo>
                <a:lnTo>
                  <a:pt x="1169" y="2022"/>
                </a:lnTo>
                <a:lnTo>
                  <a:pt x="4605" y="2982"/>
                </a:lnTo>
                <a:lnTo>
                  <a:pt x="2983" y="85"/>
                </a:lnTo>
                <a:lnTo>
                  <a:pt x="1411" y="4510"/>
                </a:lnTo>
                <a:lnTo>
                  <a:pt x="1225" y="1864"/>
                </a:lnTo>
                <a:lnTo>
                  <a:pt x="4498" y="3284"/>
                </a:lnTo>
                <a:lnTo>
                  <a:pt x="3287" y="194"/>
                </a:lnTo>
                <a:lnTo>
                  <a:pt x="1128" y="4362"/>
                </a:lnTo>
                <a:lnTo>
                  <a:pt x="1301" y="1716"/>
                </a:lnTo>
                <a:lnTo>
                  <a:pt x="4350" y="3568"/>
                </a:lnTo>
                <a:lnTo>
                  <a:pt x="3571" y="342"/>
                </a:lnTo>
                <a:lnTo>
                  <a:pt x="863" y="4178"/>
                </a:lnTo>
                <a:lnTo>
                  <a:pt x="1398" y="1579"/>
                </a:lnTo>
                <a:lnTo>
                  <a:pt x="4166" y="3830"/>
                </a:lnTo>
                <a:lnTo>
                  <a:pt x="3833" y="526"/>
                </a:lnTo>
                <a:lnTo>
                  <a:pt x="628" y="3957"/>
                </a:lnTo>
                <a:lnTo>
                  <a:pt x="1514" y="1458"/>
                </a:lnTo>
                <a:lnTo>
                  <a:pt x="3949" y="4066"/>
                </a:lnTo>
                <a:lnTo>
                  <a:pt x="4069" y="745"/>
                </a:lnTo>
                <a:lnTo>
                  <a:pt x="426" y="3708"/>
                </a:lnTo>
                <a:lnTo>
                  <a:pt x="1641" y="1353"/>
                </a:lnTo>
                <a:lnTo>
                  <a:pt x="3700" y="4265"/>
                </a:lnTo>
                <a:lnTo>
                  <a:pt x="4272" y="996"/>
                </a:lnTo>
                <a:lnTo>
                  <a:pt x="259" y="3435"/>
                </a:lnTo>
                <a:lnTo>
                  <a:pt x="1785" y="1266"/>
                </a:lnTo>
                <a:lnTo>
                  <a:pt x="3428" y="4434"/>
                </a:lnTo>
                <a:lnTo>
                  <a:pt x="4437" y="1269"/>
                </a:lnTo>
                <a:lnTo>
                  <a:pt x="131" y="3140"/>
                </a:lnTo>
                <a:lnTo>
                  <a:pt x="1938" y="1199"/>
                </a:lnTo>
                <a:lnTo>
                  <a:pt x="3133" y="4560"/>
                </a:lnTo>
                <a:lnTo>
                  <a:pt x="4565" y="1564"/>
                </a:lnTo>
                <a:lnTo>
                  <a:pt x="44" y="2830"/>
                </a:lnTo>
                <a:lnTo>
                  <a:pt x="2099" y="1153"/>
                </a:lnTo>
                <a:lnTo>
                  <a:pt x="2823" y="4647"/>
                </a:lnTo>
                <a:lnTo>
                  <a:pt x="4652" y="1874"/>
                </a:lnTo>
                <a:lnTo>
                  <a:pt x="0" y="2511"/>
                </a:lnTo>
                <a:lnTo>
                  <a:pt x="2266" y="1131"/>
                </a:lnTo>
                <a:lnTo>
                  <a:pt x="2508" y="4691"/>
                </a:lnTo>
                <a:lnTo>
                  <a:pt x="4696" y="2191"/>
                </a:lnTo>
                <a:lnTo>
                  <a:pt x="0" y="2191"/>
                </a:lnTo>
                <a:lnTo>
                  <a:pt x="2432" y="1131"/>
                </a:lnTo>
                <a:lnTo>
                  <a:pt x="2188" y="4691"/>
                </a:lnTo>
                <a:lnTo>
                  <a:pt x="4696" y="2513"/>
                </a:lnTo>
                <a:lnTo>
                  <a:pt x="44" y="1874"/>
                </a:lnTo>
                <a:lnTo>
                  <a:pt x="2597" y="1153"/>
                </a:lnTo>
                <a:lnTo>
                  <a:pt x="1871" y="4647"/>
                </a:lnTo>
                <a:lnTo>
                  <a:pt x="4652" y="2830"/>
                </a:lnTo>
                <a:lnTo>
                  <a:pt x="131" y="1564"/>
                </a:lnTo>
                <a:lnTo>
                  <a:pt x="2759" y="1199"/>
                </a:lnTo>
                <a:lnTo>
                  <a:pt x="1565" y="4560"/>
                </a:lnTo>
                <a:lnTo>
                  <a:pt x="4565" y="3140"/>
                </a:lnTo>
                <a:lnTo>
                  <a:pt x="259" y="1269"/>
                </a:lnTo>
                <a:lnTo>
                  <a:pt x="2911" y="1266"/>
                </a:lnTo>
                <a:lnTo>
                  <a:pt x="1270" y="4434"/>
                </a:lnTo>
                <a:lnTo>
                  <a:pt x="4437" y="3435"/>
                </a:lnTo>
                <a:lnTo>
                  <a:pt x="426" y="994"/>
                </a:lnTo>
                <a:lnTo>
                  <a:pt x="3055" y="1353"/>
                </a:lnTo>
                <a:lnTo>
                  <a:pt x="996" y="4265"/>
                </a:lnTo>
                <a:lnTo>
                  <a:pt x="4272" y="3708"/>
                </a:lnTo>
                <a:lnTo>
                  <a:pt x="628" y="745"/>
                </a:lnTo>
                <a:lnTo>
                  <a:pt x="3185" y="1458"/>
                </a:lnTo>
                <a:lnTo>
                  <a:pt x="749" y="4062"/>
                </a:lnTo>
                <a:lnTo>
                  <a:pt x="4069" y="3957"/>
                </a:lnTo>
                <a:lnTo>
                  <a:pt x="863" y="526"/>
                </a:lnTo>
                <a:lnTo>
                  <a:pt x="3299" y="1579"/>
                </a:lnTo>
                <a:lnTo>
                  <a:pt x="531" y="3830"/>
                </a:lnTo>
                <a:lnTo>
                  <a:pt x="3833" y="4178"/>
                </a:lnTo>
                <a:lnTo>
                  <a:pt x="1128" y="342"/>
                </a:lnTo>
                <a:lnTo>
                  <a:pt x="3396" y="1716"/>
                </a:lnTo>
                <a:lnTo>
                  <a:pt x="346" y="3568"/>
                </a:lnTo>
                <a:lnTo>
                  <a:pt x="3571" y="4362"/>
                </a:lnTo>
                <a:lnTo>
                  <a:pt x="1411" y="194"/>
                </a:lnTo>
                <a:lnTo>
                  <a:pt x="3474" y="1864"/>
                </a:lnTo>
                <a:lnTo>
                  <a:pt x="198" y="3284"/>
                </a:lnTo>
                <a:lnTo>
                  <a:pt x="3285" y="4510"/>
                </a:lnTo>
                <a:lnTo>
                  <a:pt x="1715" y="85"/>
                </a:lnTo>
                <a:lnTo>
                  <a:pt x="3529" y="2022"/>
                </a:lnTo>
                <a:lnTo>
                  <a:pt x="92" y="2982"/>
                </a:lnTo>
                <a:lnTo>
                  <a:pt x="2983" y="4619"/>
                </a:lnTo>
                <a:lnTo>
                  <a:pt x="2029" y="21"/>
                </a:lnTo>
                <a:lnTo>
                  <a:pt x="3563" y="2188"/>
                </a:lnTo>
                <a:lnTo>
                  <a:pt x="27" y="2670"/>
                </a:lnTo>
                <a:lnTo>
                  <a:pt x="2669" y="4683"/>
                </a:lnTo>
                <a:lnTo>
                  <a:pt x="2350" y="0"/>
                </a:lnTo>
                <a:lnTo>
                  <a:pt x="3574" y="2353"/>
                </a:lnTo>
                <a:lnTo>
                  <a:pt x="4" y="2353"/>
                </a:lnTo>
                <a:lnTo>
                  <a:pt x="2350" y="4706"/>
                </a:lnTo>
                <a:lnTo>
                  <a:pt x="2669" y="21"/>
                </a:lnTo>
                <a:lnTo>
                  <a:pt x="3563" y="2518"/>
                </a:lnTo>
                <a:lnTo>
                  <a:pt x="27" y="2034"/>
                </a:lnTo>
                <a:lnTo>
                  <a:pt x="2029" y="4683"/>
                </a:lnTo>
                <a:lnTo>
                  <a:pt x="2983" y="85"/>
                </a:lnTo>
                <a:lnTo>
                  <a:pt x="3529" y="2682"/>
                </a:lnTo>
                <a:lnTo>
                  <a:pt x="92" y="1720"/>
                </a:lnTo>
                <a:lnTo>
                  <a:pt x="1715" y="4617"/>
                </a:lnTo>
                <a:lnTo>
                  <a:pt x="3287" y="194"/>
                </a:lnTo>
                <a:lnTo>
                  <a:pt x="3474" y="2840"/>
                </a:lnTo>
                <a:lnTo>
                  <a:pt x="198" y="1420"/>
                </a:lnTo>
                <a:lnTo>
                  <a:pt x="1411" y="4510"/>
                </a:lnTo>
                <a:lnTo>
                  <a:pt x="3571" y="342"/>
                </a:lnTo>
                <a:lnTo>
                  <a:pt x="3396" y="2988"/>
                </a:lnTo>
                <a:lnTo>
                  <a:pt x="346" y="1134"/>
                </a:lnTo>
                <a:lnTo>
                  <a:pt x="1126" y="4362"/>
                </a:lnTo>
                <a:lnTo>
                  <a:pt x="3835" y="528"/>
                </a:lnTo>
                <a:lnTo>
                  <a:pt x="3299" y="3125"/>
                </a:lnTo>
                <a:lnTo>
                  <a:pt x="533" y="872"/>
                </a:lnTo>
                <a:lnTo>
                  <a:pt x="863" y="4178"/>
                </a:lnTo>
                <a:lnTo>
                  <a:pt x="4069" y="745"/>
                </a:lnTo>
                <a:lnTo>
                  <a:pt x="3185" y="3246"/>
                </a:lnTo>
                <a:lnTo>
                  <a:pt x="749" y="640"/>
                </a:lnTo>
                <a:lnTo>
                  <a:pt x="628" y="3957"/>
                </a:lnTo>
                <a:lnTo>
                  <a:pt x="4272" y="996"/>
                </a:lnTo>
                <a:lnTo>
                  <a:pt x="3053" y="3353"/>
                </a:lnTo>
                <a:lnTo>
                  <a:pt x="996" y="437"/>
                </a:lnTo>
                <a:lnTo>
                  <a:pt x="426" y="3708"/>
                </a:lnTo>
                <a:lnTo>
                  <a:pt x="4437" y="1271"/>
                </a:lnTo>
                <a:lnTo>
                  <a:pt x="2911" y="3440"/>
                </a:lnTo>
                <a:lnTo>
                  <a:pt x="1270" y="271"/>
                </a:lnTo>
                <a:lnTo>
                  <a:pt x="259" y="3435"/>
                </a:lnTo>
                <a:lnTo>
                  <a:pt x="4565" y="1564"/>
                </a:lnTo>
                <a:lnTo>
                  <a:pt x="2759" y="3507"/>
                </a:lnTo>
                <a:lnTo>
                  <a:pt x="1565" y="142"/>
                </a:lnTo>
                <a:lnTo>
                  <a:pt x="131" y="3138"/>
                </a:lnTo>
                <a:lnTo>
                  <a:pt x="4652" y="1874"/>
                </a:lnTo>
                <a:lnTo>
                  <a:pt x="2597" y="3551"/>
                </a:lnTo>
                <a:lnTo>
                  <a:pt x="1871" y="57"/>
                </a:lnTo>
                <a:lnTo>
                  <a:pt x="44" y="2830"/>
                </a:lnTo>
                <a:lnTo>
                  <a:pt x="4696" y="2191"/>
                </a:lnTo>
                <a:lnTo>
                  <a:pt x="2432" y="3573"/>
                </a:lnTo>
                <a:lnTo>
                  <a:pt x="2190" y="13"/>
                </a:lnTo>
                <a:lnTo>
                  <a:pt x="0" y="2511"/>
                </a:lnTo>
                <a:lnTo>
                  <a:pt x="4696" y="2513"/>
                </a:lnTo>
                <a:lnTo>
                  <a:pt x="2266" y="3573"/>
                </a:lnTo>
                <a:lnTo>
                  <a:pt x="2508" y="13"/>
                </a:lnTo>
                <a:lnTo>
                  <a:pt x="0" y="2191"/>
                </a:lnTo>
                <a:lnTo>
                  <a:pt x="4652" y="2832"/>
                </a:lnTo>
                <a:lnTo>
                  <a:pt x="2099" y="3551"/>
                </a:lnTo>
                <a:lnTo>
                  <a:pt x="2825" y="57"/>
                </a:lnTo>
                <a:lnTo>
                  <a:pt x="44" y="1874"/>
                </a:lnTo>
                <a:lnTo>
                  <a:pt x="4565" y="3140"/>
                </a:lnTo>
                <a:lnTo>
                  <a:pt x="1938" y="3507"/>
                </a:lnTo>
                <a:lnTo>
                  <a:pt x="3133" y="142"/>
                </a:lnTo>
                <a:lnTo>
                  <a:pt x="131" y="1564"/>
                </a:lnTo>
                <a:lnTo>
                  <a:pt x="4437" y="3435"/>
                </a:lnTo>
                <a:lnTo>
                  <a:pt x="1785" y="3440"/>
                </a:lnTo>
                <a:lnTo>
                  <a:pt x="3428" y="271"/>
                </a:lnTo>
                <a:lnTo>
                  <a:pt x="259" y="1269"/>
                </a:lnTo>
                <a:lnTo>
                  <a:pt x="4272" y="3708"/>
                </a:lnTo>
                <a:lnTo>
                  <a:pt x="1641" y="3353"/>
                </a:lnTo>
                <a:lnTo>
                  <a:pt x="3700" y="437"/>
                </a:lnTo>
                <a:lnTo>
                  <a:pt x="426" y="994"/>
                </a:lnTo>
                <a:lnTo>
                  <a:pt x="4069" y="3959"/>
                </a:lnTo>
                <a:lnTo>
                  <a:pt x="1512" y="3246"/>
                </a:lnTo>
                <a:lnTo>
                  <a:pt x="3949" y="640"/>
                </a:lnTo>
                <a:lnTo>
                  <a:pt x="628" y="745"/>
                </a:lnTo>
                <a:lnTo>
                  <a:pt x="3833" y="4178"/>
                </a:lnTo>
                <a:lnTo>
                  <a:pt x="1398" y="3125"/>
                </a:lnTo>
                <a:lnTo>
                  <a:pt x="4166" y="872"/>
                </a:lnTo>
                <a:lnTo>
                  <a:pt x="863" y="526"/>
                </a:lnTo>
                <a:lnTo>
                  <a:pt x="3571" y="4362"/>
                </a:lnTo>
                <a:lnTo>
                  <a:pt x="1301" y="2986"/>
                </a:lnTo>
                <a:lnTo>
                  <a:pt x="4352" y="1134"/>
                </a:lnTo>
                <a:lnTo>
                  <a:pt x="1128" y="342"/>
                </a:lnTo>
                <a:lnTo>
                  <a:pt x="3285" y="4510"/>
                </a:lnTo>
                <a:lnTo>
                  <a:pt x="1225" y="2840"/>
                </a:lnTo>
                <a:lnTo>
                  <a:pt x="4498" y="1420"/>
                </a:lnTo>
                <a:lnTo>
                  <a:pt x="1411" y="194"/>
                </a:lnTo>
                <a:lnTo>
                  <a:pt x="2983" y="4619"/>
                </a:lnTo>
                <a:lnTo>
                  <a:pt x="1169" y="2682"/>
                </a:lnTo>
                <a:lnTo>
                  <a:pt x="4605" y="1720"/>
                </a:lnTo>
                <a:lnTo>
                  <a:pt x="1715" y="85"/>
                </a:lnTo>
                <a:lnTo>
                  <a:pt x="2669" y="4683"/>
                </a:lnTo>
                <a:lnTo>
                  <a:pt x="1133" y="2518"/>
                </a:lnTo>
                <a:lnTo>
                  <a:pt x="4671" y="2035"/>
                </a:lnTo>
                <a:lnTo>
                  <a:pt x="2029" y="21"/>
                </a:lnTo>
                <a:lnTo>
                  <a:pt x="2350" y="4706"/>
                </a:lnTo>
                <a:close/>
              </a:path>
            </a:pathLst>
          </a:custGeom>
          <a:solidFill>
            <a:srgbClr val="a1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17542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1" name=""/>
          <p:cNvSpPr/>
          <p:nvPr/>
        </p:nvSpPr>
        <p:spPr>
          <a:xfrm>
            <a:off x="3798720" y="1855800"/>
            <a:ext cx="1506600" cy="1795320"/>
          </a:xfrm>
          <a:custGeom>
            <a:avLst/>
            <a:gdLst/>
            <a:ahLst/>
            <a:rect l="l" t="t" r="r" b="b"/>
            <a:pathLst>
              <a:path w="1899" h="2261">
                <a:moveTo>
                  <a:pt x="768" y="132"/>
                </a:moveTo>
                <a:lnTo>
                  <a:pt x="757" y="132"/>
                </a:lnTo>
                <a:lnTo>
                  <a:pt x="745" y="132"/>
                </a:lnTo>
                <a:lnTo>
                  <a:pt x="734" y="134"/>
                </a:lnTo>
                <a:lnTo>
                  <a:pt x="724" y="140"/>
                </a:lnTo>
                <a:lnTo>
                  <a:pt x="704" y="147"/>
                </a:lnTo>
                <a:lnTo>
                  <a:pt x="689" y="161"/>
                </a:lnTo>
                <a:lnTo>
                  <a:pt x="673" y="172"/>
                </a:lnTo>
                <a:lnTo>
                  <a:pt x="660" y="186"/>
                </a:lnTo>
                <a:lnTo>
                  <a:pt x="646" y="200"/>
                </a:lnTo>
                <a:lnTo>
                  <a:pt x="635" y="217"/>
                </a:lnTo>
                <a:lnTo>
                  <a:pt x="623" y="233"/>
                </a:lnTo>
                <a:lnTo>
                  <a:pt x="613" y="252"/>
                </a:lnTo>
                <a:lnTo>
                  <a:pt x="609" y="260"/>
                </a:lnTo>
                <a:lnTo>
                  <a:pt x="607" y="269"/>
                </a:lnTo>
                <a:lnTo>
                  <a:pt x="604" y="281"/>
                </a:lnTo>
                <a:lnTo>
                  <a:pt x="604" y="293"/>
                </a:lnTo>
                <a:lnTo>
                  <a:pt x="598" y="304"/>
                </a:lnTo>
                <a:lnTo>
                  <a:pt x="592" y="318"/>
                </a:lnTo>
                <a:lnTo>
                  <a:pt x="582" y="330"/>
                </a:lnTo>
                <a:lnTo>
                  <a:pt x="573" y="341"/>
                </a:lnTo>
                <a:lnTo>
                  <a:pt x="559" y="347"/>
                </a:lnTo>
                <a:lnTo>
                  <a:pt x="545" y="355"/>
                </a:lnTo>
                <a:lnTo>
                  <a:pt x="530" y="361"/>
                </a:lnTo>
                <a:lnTo>
                  <a:pt x="520" y="372"/>
                </a:lnTo>
                <a:lnTo>
                  <a:pt x="512" y="380"/>
                </a:lnTo>
                <a:lnTo>
                  <a:pt x="507" y="390"/>
                </a:lnTo>
                <a:lnTo>
                  <a:pt x="501" y="399"/>
                </a:lnTo>
                <a:lnTo>
                  <a:pt x="499" y="411"/>
                </a:lnTo>
                <a:lnTo>
                  <a:pt x="495" y="426"/>
                </a:lnTo>
                <a:lnTo>
                  <a:pt x="493" y="442"/>
                </a:lnTo>
                <a:lnTo>
                  <a:pt x="489" y="458"/>
                </a:lnTo>
                <a:lnTo>
                  <a:pt x="485" y="475"/>
                </a:lnTo>
                <a:lnTo>
                  <a:pt x="479" y="489"/>
                </a:lnTo>
                <a:lnTo>
                  <a:pt x="476" y="506"/>
                </a:lnTo>
                <a:lnTo>
                  <a:pt x="470" y="520"/>
                </a:lnTo>
                <a:lnTo>
                  <a:pt x="466" y="537"/>
                </a:lnTo>
                <a:lnTo>
                  <a:pt x="464" y="549"/>
                </a:lnTo>
                <a:lnTo>
                  <a:pt x="462" y="562"/>
                </a:lnTo>
                <a:lnTo>
                  <a:pt x="460" y="574"/>
                </a:lnTo>
                <a:lnTo>
                  <a:pt x="456" y="587"/>
                </a:lnTo>
                <a:lnTo>
                  <a:pt x="443" y="603"/>
                </a:lnTo>
                <a:lnTo>
                  <a:pt x="429" y="618"/>
                </a:lnTo>
                <a:lnTo>
                  <a:pt x="414" y="632"/>
                </a:lnTo>
                <a:lnTo>
                  <a:pt x="400" y="651"/>
                </a:lnTo>
                <a:lnTo>
                  <a:pt x="388" y="663"/>
                </a:lnTo>
                <a:lnTo>
                  <a:pt x="377" y="675"/>
                </a:lnTo>
                <a:lnTo>
                  <a:pt x="361" y="684"/>
                </a:lnTo>
                <a:lnTo>
                  <a:pt x="348" y="694"/>
                </a:lnTo>
                <a:lnTo>
                  <a:pt x="342" y="698"/>
                </a:lnTo>
                <a:lnTo>
                  <a:pt x="342" y="710"/>
                </a:lnTo>
                <a:lnTo>
                  <a:pt x="340" y="719"/>
                </a:lnTo>
                <a:lnTo>
                  <a:pt x="336" y="731"/>
                </a:lnTo>
                <a:lnTo>
                  <a:pt x="328" y="739"/>
                </a:lnTo>
                <a:lnTo>
                  <a:pt x="318" y="746"/>
                </a:lnTo>
                <a:lnTo>
                  <a:pt x="299" y="748"/>
                </a:lnTo>
                <a:lnTo>
                  <a:pt x="282" y="754"/>
                </a:lnTo>
                <a:lnTo>
                  <a:pt x="266" y="762"/>
                </a:lnTo>
                <a:lnTo>
                  <a:pt x="253" y="774"/>
                </a:lnTo>
                <a:lnTo>
                  <a:pt x="237" y="785"/>
                </a:lnTo>
                <a:lnTo>
                  <a:pt x="223" y="797"/>
                </a:lnTo>
                <a:lnTo>
                  <a:pt x="212" y="808"/>
                </a:lnTo>
                <a:lnTo>
                  <a:pt x="200" y="822"/>
                </a:lnTo>
                <a:lnTo>
                  <a:pt x="189" y="832"/>
                </a:lnTo>
                <a:lnTo>
                  <a:pt x="177" y="845"/>
                </a:lnTo>
                <a:lnTo>
                  <a:pt x="171" y="857"/>
                </a:lnTo>
                <a:lnTo>
                  <a:pt x="173" y="874"/>
                </a:lnTo>
                <a:lnTo>
                  <a:pt x="177" y="884"/>
                </a:lnTo>
                <a:lnTo>
                  <a:pt x="185" y="896"/>
                </a:lnTo>
                <a:lnTo>
                  <a:pt x="190" y="905"/>
                </a:lnTo>
                <a:lnTo>
                  <a:pt x="190" y="917"/>
                </a:lnTo>
                <a:lnTo>
                  <a:pt x="181" y="925"/>
                </a:lnTo>
                <a:lnTo>
                  <a:pt x="173" y="934"/>
                </a:lnTo>
                <a:lnTo>
                  <a:pt x="163" y="944"/>
                </a:lnTo>
                <a:lnTo>
                  <a:pt x="159" y="960"/>
                </a:lnTo>
                <a:lnTo>
                  <a:pt x="158" y="969"/>
                </a:lnTo>
                <a:lnTo>
                  <a:pt x="156" y="979"/>
                </a:lnTo>
                <a:lnTo>
                  <a:pt x="156" y="991"/>
                </a:lnTo>
                <a:lnTo>
                  <a:pt x="156" y="1002"/>
                </a:lnTo>
                <a:lnTo>
                  <a:pt x="156" y="1012"/>
                </a:lnTo>
                <a:lnTo>
                  <a:pt x="156" y="1022"/>
                </a:lnTo>
                <a:lnTo>
                  <a:pt x="158" y="1033"/>
                </a:lnTo>
                <a:lnTo>
                  <a:pt x="159" y="1045"/>
                </a:lnTo>
                <a:lnTo>
                  <a:pt x="159" y="1064"/>
                </a:lnTo>
                <a:lnTo>
                  <a:pt x="163" y="1086"/>
                </a:lnTo>
                <a:lnTo>
                  <a:pt x="165" y="1095"/>
                </a:lnTo>
                <a:lnTo>
                  <a:pt x="167" y="1107"/>
                </a:lnTo>
                <a:lnTo>
                  <a:pt x="169" y="1119"/>
                </a:lnTo>
                <a:lnTo>
                  <a:pt x="173" y="1130"/>
                </a:lnTo>
                <a:lnTo>
                  <a:pt x="177" y="1142"/>
                </a:lnTo>
                <a:lnTo>
                  <a:pt x="183" y="1157"/>
                </a:lnTo>
                <a:lnTo>
                  <a:pt x="189" y="1171"/>
                </a:lnTo>
                <a:lnTo>
                  <a:pt x="194" y="1187"/>
                </a:lnTo>
                <a:lnTo>
                  <a:pt x="192" y="1196"/>
                </a:lnTo>
                <a:lnTo>
                  <a:pt x="190" y="1208"/>
                </a:lnTo>
                <a:lnTo>
                  <a:pt x="185" y="1220"/>
                </a:lnTo>
                <a:lnTo>
                  <a:pt x="181" y="1231"/>
                </a:lnTo>
                <a:lnTo>
                  <a:pt x="171" y="1241"/>
                </a:lnTo>
                <a:lnTo>
                  <a:pt x="165" y="1251"/>
                </a:lnTo>
                <a:lnTo>
                  <a:pt x="158" y="1262"/>
                </a:lnTo>
                <a:lnTo>
                  <a:pt x="152" y="1274"/>
                </a:lnTo>
                <a:lnTo>
                  <a:pt x="138" y="1285"/>
                </a:lnTo>
                <a:lnTo>
                  <a:pt x="125" y="1297"/>
                </a:lnTo>
                <a:lnTo>
                  <a:pt x="109" y="1307"/>
                </a:lnTo>
                <a:lnTo>
                  <a:pt x="95" y="1320"/>
                </a:lnTo>
                <a:lnTo>
                  <a:pt x="84" y="1328"/>
                </a:lnTo>
                <a:lnTo>
                  <a:pt x="74" y="1338"/>
                </a:lnTo>
                <a:lnTo>
                  <a:pt x="62" y="1346"/>
                </a:lnTo>
                <a:lnTo>
                  <a:pt x="53" y="1353"/>
                </a:lnTo>
                <a:lnTo>
                  <a:pt x="41" y="1359"/>
                </a:lnTo>
                <a:lnTo>
                  <a:pt x="31" y="1369"/>
                </a:lnTo>
                <a:lnTo>
                  <a:pt x="22" y="1379"/>
                </a:lnTo>
                <a:lnTo>
                  <a:pt x="16" y="1392"/>
                </a:lnTo>
                <a:lnTo>
                  <a:pt x="12" y="1404"/>
                </a:lnTo>
                <a:lnTo>
                  <a:pt x="14" y="1417"/>
                </a:lnTo>
                <a:lnTo>
                  <a:pt x="14" y="1431"/>
                </a:lnTo>
                <a:lnTo>
                  <a:pt x="14" y="1444"/>
                </a:lnTo>
                <a:lnTo>
                  <a:pt x="6" y="1460"/>
                </a:lnTo>
                <a:lnTo>
                  <a:pt x="2" y="1477"/>
                </a:lnTo>
                <a:lnTo>
                  <a:pt x="0" y="1495"/>
                </a:lnTo>
                <a:lnTo>
                  <a:pt x="6" y="1512"/>
                </a:lnTo>
                <a:lnTo>
                  <a:pt x="10" y="1522"/>
                </a:lnTo>
                <a:lnTo>
                  <a:pt x="22" y="1530"/>
                </a:lnTo>
                <a:lnTo>
                  <a:pt x="33" y="1538"/>
                </a:lnTo>
                <a:lnTo>
                  <a:pt x="45" y="1549"/>
                </a:lnTo>
                <a:lnTo>
                  <a:pt x="53" y="1555"/>
                </a:lnTo>
                <a:lnTo>
                  <a:pt x="64" y="1563"/>
                </a:lnTo>
                <a:lnTo>
                  <a:pt x="76" y="1567"/>
                </a:lnTo>
                <a:lnTo>
                  <a:pt x="90" y="1572"/>
                </a:lnTo>
                <a:lnTo>
                  <a:pt x="101" y="1574"/>
                </a:lnTo>
                <a:lnTo>
                  <a:pt x="117" y="1580"/>
                </a:lnTo>
                <a:lnTo>
                  <a:pt x="128" y="1582"/>
                </a:lnTo>
                <a:lnTo>
                  <a:pt x="144" y="1588"/>
                </a:lnTo>
                <a:lnTo>
                  <a:pt x="159" y="1590"/>
                </a:lnTo>
                <a:lnTo>
                  <a:pt x="175" y="1592"/>
                </a:lnTo>
                <a:lnTo>
                  <a:pt x="192" y="1590"/>
                </a:lnTo>
                <a:lnTo>
                  <a:pt x="210" y="1590"/>
                </a:lnTo>
                <a:lnTo>
                  <a:pt x="227" y="1588"/>
                </a:lnTo>
                <a:lnTo>
                  <a:pt x="245" y="1588"/>
                </a:lnTo>
                <a:lnTo>
                  <a:pt x="262" y="1588"/>
                </a:lnTo>
                <a:lnTo>
                  <a:pt x="280" y="1592"/>
                </a:lnTo>
                <a:lnTo>
                  <a:pt x="291" y="1594"/>
                </a:lnTo>
                <a:lnTo>
                  <a:pt x="305" y="1598"/>
                </a:lnTo>
                <a:lnTo>
                  <a:pt x="317" y="1602"/>
                </a:lnTo>
                <a:lnTo>
                  <a:pt x="330" y="1607"/>
                </a:lnTo>
                <a:lnTo>
                  <a:pt x="342" y="1613"/>
                </a:lnTo>
                <a:lnTo>
                  <a:pt x="355" y="1619"/>
                </a:lnTo>
                <a:lnTo>
                  <a:pt x="369" y="1625"/>
                </a:lnTo>
                <a:lnTo>
                  <a:pt x="382" y="1631"/>
                </a:lnTo>
                <a:lnTo>
                  <a:pt x="394" y="1631"/>
                </a:lnTo>
                <a:lnTo>
                  <a:pt x="408" y="1633"/>
                </a:lnTo>
                <a:lnTo>
                  <a:pt x="419" y="1631"/>
                </a:lnTo>
                <a:lnTo>
                  <a:pt x="435" y="1631"/>
                </a:lnTo>
                <a:lnTo>
                  <a:pt x="446" y="1631"/>
                </a:lnTo>
                <a:lnTo>
                  <a:pt x="460" y="1631"/>
                </a:lnTo>
                <a:lnTo>
                  <a:pt x="472" y="1634"/>
                </a:lnTo>
                <a:lnTo>
                  <a:pt x="481" y="1644"/>
                </a:lnTo>
                <a:lnTo>
                  <a:pt x="487" y="1656"/>
                </a:lnTo>
                <a:lnTo>
                  <a:pt x="489" y="1669"/>
                </a:lnTo>
                <a:lnTo>
                  <a:pt x="487" y="1683"/>
                </a:lnTo>
                <a:lnTo>
                  <a:pt x="485" y="1700"/>
                </a:lnTo>
                <a:lnTo>
                  <a:pt x="479" y="1716"/>
                </a:lnTo>
                <a:lnTo>
                  <a:pt x="474" y="1733"/>
                </a:lnTo>
                <a:lnTo>
                  <a:pt x="468" y="1749"/>
                </a:lnTo>
                <a:lnTo>
                  <a:pt x="466" y="1766"/>
                </a:lnTo>
                <a:lnTo>
                  <a:pt x="458" y="1778"/>
                </a:lnTo>
                <a:lnTo>
                  <a:pt x="446" y="1790"/>
                </a:lnTo>
                <a:lnTo>
                  <a:pt x="435" y="1799"/>
                </a:lnTo>
                <a:lnTo>
                  <a:pt x="431" y="1817"/>
                </a:lnTo>
                <a:lnTo>
                  <a:pt x="429" y="1832"/>
                </a:lnTo>
                <a:lnTo>
                  <a:pt x="425" y="1850"/>
                </a:lnTo>
                <a:lnTo>
                  <a:pt x="419" y="1867"/>
                </a:lnTo>
                <a:lnTo>
                  <a:pt x="415" y="1885"/>
                </a:lnTo>
                <a:lnTo>
                  <a:pt x="412" y="1894"/>
                </a:lnTo>
                <a:lnTo>
                  <a:pt x="414" y="1906"/>
                </a:lnTo>
                <a:lnTo>
                  <a:pt x="415" y="1916"/>
                </a:lnTo>
                <a:lnTo>
                  <a:pt x="423" y="1927"/>
                </a:lnTo>
                <a:lnTo>
                  <a:pt x="437" y="1945"/>
                </a:lnTo>
                <a:lnTo>
                  <a:pt x="454" y="1956"/>
                </a:lnTo>
                <a:lnTo>
                  <a:pt x="468" y="1956"/>
                </a:lnTo>
                <a:lnTo>
                  <a:pt x="483" y="1958"/>
                </a:lnTo>
                <a:lnTo>
                  <a:pt x="499" y="1954"/>
                </a:lnTo>
                <a:lnTo>
                  <a:pt x="516" y="1951"/>
                </a:lnTo>
                <a:lnTo>
                  <a:pt x="532" y="1943"/>
                </a:lnTo>
                <a:lnTo>
                  <a:pt x="547" y="1937"/>
                </a:lnTo>
                <a:lnTo>
                  <a:pt x="563" y="1929"/>
                </a:lnTo>
                <a:lnTo>
                  <a:pt x="580" y="1923"/>
                </a:lnTo>
                <a:lnTo>
                  <a:pt x="596" y="1919"/>
                </a:lnTo>
                <a:lnTo>
                  <a:pt x="613" y="1921"/>
                </a:lnTo>
                <a:lnTo>
                  <a:pt x="629" y="1927"/>
                </a:lnTo>
                <a:lnTo>
                  <a:pt x="646" y="1939"/>
                </a:lnTo>
                <a:lnTo>
                  <a:pt x="664" y="1952"/>
                </a:lnTo>
                <a:lnTo>
                  <a:pt x="681" y="1966"/>
                </a:lnTo>
                <a:lnTo>
                  <a:pt x="699" y="1978"/>
                </a:lnTo>
                <a:lnTo>
                  <a:pt x="716" y="1991"/>
                </a:lnTo>
                <a:lnTo>
                  <a:pt x="732" y="2003"/>
                </a:lnTo>
                <a:lnTo>
                  <a:pt x="749" y="2018"/>
                </a:lnTo>
                <a:lnTo>
                  <a:pt x="765" y="2034"/>
                </a:lnTo>
                <a:lnTo>
                  <a:pt x="782" y="2051"/>
                </a:lnTo>
                <a:lnTo>
                  <a:pt x="798" y="2069"/>
                </a:lnTo>
                <a:lnTo>
                  <a:pt x="813" y="2088"/>
                </a:lnTo>
                <a:lnTo>
                  <a:pt x="819" y="2096"/>
                </a:lnTo>
                <a:lnTo>
                  <a:pt x="827" y="2106"/>
                </a:lnTo>
                <a:lnTo>
                  <a:pt x="832" y="2115"/>
                </a:lnTo>
                <a:lnTo>
                  <a:pt x="838" y="2127"/>
                </a:lnTo>
                <a:lnTo>
                  <a:pt x="844" y="2141"/>
                </a:lnTo>
                <a:lnTo>
                  <a:pt x="852" y="2154"/>
                </a:lnTo>
                <a:lnTo>
                  <a:pt x="858" y="2166"/>
                </a:lnTo>
                <a:lnTo>
                  <a:pt x="865" y="2181"/>
                </a:lnTo>
                <a:lnTo>
                  <a:pt x="873" y="2201"/>
                </a:lnTo>
                <a:lnTo>
                  <a:pt x="889" y="2218"/>
                </a:lnTo>
                <a:lnTo>
                  <a:pt x="906" y="2234"/>
                </a:lnTo>
                <a:lnTo>
                  <a:pt x="925" y="2245"/>
                </a:lnTo>
                <a:lnTo>
                  <a:pt x="935" y="2247"/>
                </a:lnTo>
                <a:lnTo>
                  <a:pt x="947" y="2251"/>
                </a:lnTo>
                <a:lnTo>
                  <a:pt x="958" y="2253"/>
                </a:lnTo>
                <a:lnTo>
                  <a:pt x="970" y="2257"/>
                </a:lnTo>
                <a:lnTo>
                  <a:pt x="982" y="2257"/>
                </a:lnTo>
                <a:lnTo>
                  <a:pt x="995" y="2259"/>
                </a:lnTo>
                <a:lnTo>
                  <a:pt x="1009" y="2259"/>
                </a:lnTo>
                <a:lnTo>
                  <a:pt x="1022" y="2261"/>
                </a:lnTo>
                <a:lnTo>
                  <a:pt x="1034" y="2259"/>
                </a:lnTo>
                <a:lnTo>
                  <a:pt x="1046" y="2257"/>
                </a:lnTo>
                <a:lnTo>
                  <a:pt x="1059" y="2257"/>
                </a:lnTo>
                <a:lnTo>
                  <a:pt x="1073" y="2257"/>
                </a:lnTo>
                <a:lnTo>
                  <a:pt x="1085" y="2255"/>
                </a:lnTo>
                <a:lnTo>
                  <a:pt x="1096" y="2253"/>
                </a:lnTo>
                <a:lnTo>
                  <a:pt x="1110" y="2253"/>
                </a:lnTo>
                <a:lnTo>
                  <a:pt x="1123" y="2253"/>
                </a:lnTo>
                <a:lnTo>
                  <a:pt x="1133" y="2249"/>
                </a:lnTo>
                <a:lnTo>
                  <a:pt x="1145" y="2245"/>
                </a:lnTo>
                <a:lnTo>
                  <a:pt x="1152" y="2239"/>
                </a:lnTo>
                <a:lnTo>
                  <a:pt x="1162" y="2234"/>
                </a:lnTo>
                <a:lnTo>
                  <a:pt x="1178" y="2216"/>
                </a:lnTo>
                <a:lnTo>
                  <a:pt x="1191" y="2197"/>
                </a:lnTo>
                <a:lnTo>
                  <a:pt x="1197" y="2183"/>
                </a:lnTo>
                <a:lnTo>
                  <a:pt x="1203" y="2172"/>
                </a:lnTo>
                <a:lnTo>
                  <a:pt x="1209" y="2160"/>
                </a:lnTo>
                <a:lnTo>
                  <a:pt x="1214" y="2148"/>
                </a:lnTo>
                <a:lnTo>
                  <a:pt x="1220" y="2137"/>
                </a:lnTo>
                <a:lnTo>
                  <a:pt x="1228" y="2125"/>
                </a:lnTo>
                <a:lnTo>
                  <a:pt x="1234" y="2115"/>
                </a:lnTo>
                <a:lnTo>
                  <a:pt x="1244" y="2108"/>
                </a:lnTo>
                <a:lnTo>
                  <a:pt x="1251" y="2098"/>
                </a:lnTo>
                <a:lnTo>
                  <a:pt x="1263" y="2090"/>
                </a:lnTo>
                <a:lnTo>
                  <a:pt x="1277" y="2084"/>
                </a:lnTo>
                <a:lnTo>
                  <a:pt x="1294" y="2080"/>
                </a:lnTo>
                <a:lnTo>
                  <a:pt x="1306" y="2073"/>
                </a:lnTo>
                <a:lnTo>
                  <a:pt x="1317" y="2065"/>
                </a:lnTo>
                <a:lnTo>
                  <a:pt x="1327" y="2055"/>
                </a:lnTo>
                <a:lnTo>
                  <a:pt x="1339" y="2046"/>
                </a:lnTo>
                <a:lnTo>
                  <a:pt x="1348" y="2034"/>
                </a:lnTo>
                <a:lnTo>
                  <a:pt x="1358" y="2026"/>
                </a:lnTo>
                <a:lnTo>
                  <a:pt x="1370" y="2020"/>
                </a:lnTo>
                <a:lnTo>
                  <a:pt x="1385" y="2018"/>
                </a:lnTo>
                <a:lnTo>
                  <a:pt x="1399" y="2015"/>
                </a:lnTo>
                <a:lnTo>
                  <a:pt x="1416" y="2013"/>
                </a:lnTo>
                <a:lnTo>
                  <a:pt x="1430" y="2011"/>
                </a:lnTo>
                <a:lnTo>
                  <a:pt x="1447" y="2009"/>
                </a:lnTo>
                <a:lnTo>
                  <a:pt x="1461" y="2005"/>
                </a:lnTo>
                <a:lnTo>
                  <a:pt x="1476" y="2001"/>
                </a:lnTo>
                <a:lnTo>
                  <a:pt x="1492" y="1997"/>
                </a:lnTo>
                <a:lnTo>
                  <a:pt x="1507" y="1995"/>
                </a:lnTo>
                <a:lnTo>
                  <a:pt x="1521" y="1989"/>
                </a:lnTo>
                <a:lnTo>
                  <a:pt x="1536" y="1985"/>
                </a:lnTo>
                <a:lnTo>
                  <a:pt x="1550" y="1980"/>
                </a:lnTo>
                <a:lnTo>
                  <a:pt x="1565" y="1976"/>
                </a:lnTo>
                <a:lnTo>
                  <a:pt x="1579" y="1970"/>
                </a:lnTo>
                <a:lnTo>
                  <a:pt x="1595" y="1964"/>
                </a:lnTo>
                <a:lnTo>
                  <a:pt x="1610" y="1958"/>
                </a:lnTo>
                <a:lnTo>
                  <a:pt x="1626" y="1954"/>
                </a:lnTo>
                <a:lnTo>
                  <a:pt x="1635" y="1947"/>
                </a:lnTo>
                <a:lnTo>
                  <a:pt x="1645" y="1939"/>
                </a:lnTo>
                <a:lnTo>
                  <a:pt x="1655" y="1927"/>
                </a:lnTo>
                <a:lnTo>
                  <a:pt x="1664" y="1918"/>
                </a:lnTo>
                <a:lnTo>
                  <a:pt x="1672" y="1906"/>
                </a:lnTo>
                <a:lnTo>
                  <a:pt x="1682" y="1894"/>
                </a:lnTo>
                <a:lnTo>
                  <a:pt x="1692" y="1885"/>
                </a:lnTo>
                <a:lnTo>
                  <a:pt x="1703" y="1879"/>
                </a:lnTo>
                <a:lnTo>
                  <a:pt x="1715" y="1871"/>
                </a:lnTo>
                <a:lnTo>
                  <a:pt x="1732" y="1867"/>
                </a:lnTo>
                <a:lnTo>
                  <a:pt x="1750" y="1865"/>
                </a:lnTo>
                <a:lnTo>
                  <a:pt x="1767" y="1865"/>
                </a:lnTo>
                <a:lnTo>
                  <a:pt x="1785" y="1865"/>
                </a:lnTo>
                <a:lnTo>
                  <a:pt x="1802" y="1865"/>
                </a:lnTo>
                <a:lnTo>
                  <a:pt x="1820" y="1865"/>
                </a:lnTo>
                <a:lnTo>
                  <a:pt x="1837" y="1867"/>
                </a:lnTo>
                <a:lnTo>
                  <a:pt x="1849" y="1857"/>
                </a:lnTo>
                <a:lnTo>
                  <a:pt x="1856" y="1844"/>
                </a:lnTo>
                <a:lnTo>
                  <a:pt x="1858" y="1834"/>
                </a:lnTo>
                <a:lnTo>
                  <a:pt x="1860" y="1824"/>
                </a:lnTo>
                <a:lnTo>
                  <a:pt x="1862" y="1813"/>
                </a:lnTo>
                <a:lnTo>
                  <a:pt x="1864" y="1805"/>
                </a:lnTo>
                <a:lnTo>
                  <a:pt x="1864" y="1786"/>
                </a:lnTo>
                <a:lnTo>
                  <a:pt x="1866" y="1766"/>
                </a:lnTo>
                <a:lnTo>
                  <a:pt x="1868" y="1747"/>
                </a:lnTo>
                <a:lnTo>
                  <a:pt x="1872" y="1729"/>
                </a:lnTo>
                <a:lnTo>
                  <a:pt x="1874" y="1710"/>
                </a:lnTo>
                <a:lnTo>
                  <a:pt x="1880" y="1691"/>
                </a:lnTo>
                <a:lnTo>
                  <a:pt x="1882" y="1673"/>
                </a:lnTo>
                <a:lnTo>
                  <a:pt x="1887" y="1656"/>
                </a:lnTo>
                <a:lnTo>
                  <a:pt x="1889" y="1636"/>
                </a:lnTo>
                <a:lnTo>
                  <a:pt x="1891" y="1617"/>
                </a:lnTo>
                <a:lnTo>
                  <a:pt x="1893" y="1598"/>
                </a:lnTo>
                <a:lnTo>
                  <a:pt x="1897" y="1580"/>
                </a:lnTo>
                <a:lnTo>
                  <a:pt x="1897" y="1561"/>
                </a:lnTo>
                <a:lnTo>
                  <a:pt x="1899" y="1543"/>
                </a:lnTo>
                <a:lnTo>
                  <a:pt x="1899" y="1524"/>
                </a:lnTo>
                <a:lnTo>
                  <a:pt x="1899" y="1506"/>
                </a:lnTo>
                <a:lnTo>
                  <a:pt x="1893" y="1485"/>
                </a:lnTo>
                <a:lnTo>
                  <a:pt x="1887" y="1466"/>
                </a:lnTo>
                <a:lnTo>
                  <a:pt x="1876" y="1446"/>
                </a:lnTo>
                <a:lnTo>
                  <a:pt x="1862" y="1433"/>
                </a:lnTo>
                <a:lnTo>
                  <a:pt x="1851" y="1417"/>
                </a:lnTo>
                <a:lnTo>
                  <a:pt x="1841" y="1406"/>
                </a:lnTo>
                <a:lnTo>
                  <a:pt x="1833" y="1390"/>
                </a:lnTo>
                <a:lnTo>
                  <a:pt x="1831" y="1379"/>
                </a:lnTo>
                <a:lnTo>
                  <a:pt x="1827" y="1363"/>
                </a:lnTo>
                <a:lnTo>
                  <a:pt x="1827" y="1349"/>
                </a:lnTo>
                <a:lnTo>
                  <a:pt x="1823" y="1334"/>
                </a:lnTo>
                <a:lnTo>
                  <a:pt x="1823" y="1320"/>
                </a:lnTo>
                <a:lnTo>
                  <a:pt x="1820" y="1307"/>
                </a:lnTo>
                <a:lnTo>
                  <a:pt x="1818" y="1293"/>
                </a:lnTo>
                <a:lnTo>
                  <a:pt x="1814" y="1280"/>
                </a:lnTo>
                <a:lnTo>
                  <a:pt x="1812" y="1268"/>
                </a:lnTo>
                <a:lnTo>
                  <a:pt x="1808" y="1252"/>
                </a:lnTo>
                <a:lnTo>
                  <a:pt x="1804" y="1239"/>
                </a:lnTo>
                <a:lnTo>
                  <a:pt x="1800" y="1225"/>
                </a:lnTo>
                <a:lnTo>
                  <a:pt x="1796" y="1214"/>
                </a:lnTo>
                <a:lnTo>
                  <a:pt x="1792" y="1200"/>
                </a:lnTo>
                <a:lnTo>
                  <a:pt x="1789" y="1187"/>
                </a:lnTo>
                <a:lnTo>
                  <a:pt x="1785" y="1173"/>
                </a:lnTo>
                <a:lnTo>
                  <a:pt x="1783" y="1161"/>
                </a:lnTo>
                <a:lnTo>
                  <a:pt x="1775" y="1142"/>
                </a:lnTo>
                <a:lnTo>
                  <a:pt x="1769" y="1123"/>
                </a:lnTo>
                <a:lnTo>
                  <a:pt x="1763" y="1103"/>
                </a:lnTo>
                <a:lnTo>
                  <a:pt x="1757" y="1086"/>
                </a:lnTo>
                <a:lnTo>
                  <a:pt x="1750" y="1068"/>
                </a:lnTo>
                <a:lnTo>
                  <a:pt x="1742" y="1051"/>
                </a:lnTo>
                <a:lnTo>
                  <a:pt x="1732" y="1033"/>
                </a:lnTo>
                <a:lnTo>
                  <a:pt x="1725" y="1018"/>
                </a:lnTo>
                <a:lnTo>
                  <a:pt x="1715" y="1002"/>
                </a:lnTo>
                <a:lnTo>
                  <a:pt x="1707" y="987"/>
                </a:lnTo>
                <a:lnTo>
                  <a:pt x="1701" y="971"/>
                </a:lnTo>
                <a:lnTo>
                  <a:pt x="1695" y="958"/>
                </a:lnTo>
                <a:lnTo>
                  <a:pt x="1688" y="942"/>
                </a:lnTo>
                <a:lnTo>
                  <a:pt x="1682" y="929"/>
                </a:lnTo>
                <a:lnTo>
                  <a:pt x="1674" y="913"/>
                </a:lnTo>
                <a:lnTo>
                  <a:pt x="1668" y="900"/>
                </a:lnTo>
                <a:lnTo>
                  <a:pt x="1659" y="880"/>
                </a:lnTo>
                <a:lnTo>
                  <a:pt x="1649" y="863"/>
                </a:lnTo>
                <a:lnTo>
                  <a:pt x="1639" y="845"/>
                </a:lnTo>
                <a:lnTo>
                  <a:pt x="1631" y="828"/>
                </a:lnTo>
                <a:lnTo>
                  <a:pt x="1620" y="810"/>
                </a:lnTo>
                <a:lnTo>
                  <a:pt x="1608" y="793"/>
                </a:lnTo>
                <a:lnTo>
                  <a:pt x="1597" y="777"/>
                </a:lnTo>
                <a:lnTo>
                  <a:pt x="1585" y="762"/>
                </a:lnTo>
                <a:lnTo>
                  <a:pt x="1569" y="743"/>
                </a:lnTo>
                <a:lnTo>
                  <a:pt x="1560" y="723"/>
                </a:lnTo>
                <a:lnTo>
                  <a:pt x="1554" y="712"/>
                </a:lnTo>
                <a:lnTo>
                  <a:pt x="1552" y="702"/>
                </a:lnTo>
                <a:lnTo>
                  <a:pt x="1548" y="690"/>
                </a:lnTo>
                <a:lnTo>
                  <a:pt x="1548" y="680"/>
                </a:lnTo>
                <a:lnTo>
                  <a:pt x="1542" y="669"/>
                </a:lnTo>
                <a:lnTo>
                  <a:pt x="1538" y="659"/>
                </a:lnTo>
                <a:lnTo>
                  <a:pt x="1534" y="649"/>
                </a:lnTo>
                <a:lnTo>
                  <a:pt x="1531" y="642"/>
                </a:lnTo>
                <a:lnTo>
                  <a:pt x="1525" y="632"/>
                </a:lnTo>
                <a:lnTo>
                  <a:pt x="1521" y="622"/>
                </a:lnTo>
                <a:lnTo>
                  <a:pt x="1517" y="613"/>
                </a:lnTo>
                <a:lnTo>
                  <a:pt x="1519" y="603"/>
                </a:lnTo>
                <a:lnTo>
                  <a:pt x="1515" y="593"/>
                </a:lnTo>
                <a:lnTo>
                  <a:pt x="1507" y="585"/>
                </a:lnTo>
                <a:lnTo>
                  <a:pt x="1500" y="574"/>
                </a:lnTo>
                <a:lnTo>
                  <a:pt x="1496" y="564"/>
                </a:lnTo>
                <a:lnTo>
                  <a:pt x="1494" y="553"/>
                </a:lnTo>
                <a:lnTo>
                  <a:pt x="1500" y="541"/>
                </a:lnTo>
                <a:lnTo>
                  <a:pt x="1503" y="531"/>
                </a:lnTo>
                <a:lnTo>
                  <a:pt x="1503" y="521"/>
                </a:lnTo>
                <a:lnTo>
                  <a:pt x="1494" y="510"/>
                </a:lnTo>
                <a:lnTo>
                  <a:pt x="1486" y="504"/>
                </a:lnTo>
                <a:lnTo>
                  <a:pt x="1474" y="494"/>
                </a:lnTo>
                <a:lnTo>
                  <a:pt x="1469" y="487"/>
                </a:lnTo>
                <a:lnTo>
                  <a:pt x="1461" y="475"/>
                </a:lnTo>
                <a:lnTo>
                  <a:pt x="1455" y="463"/>
                </a:lnTo>
                <a:lnTo>
                  <a:pt x="1449" y="452"/>
                </a:lnTo>
                <a:lnTo>
                  <a:pt x="1443" y="442"/>
                </a:lnTo>
                <a:lnTo>
                  <a:pt x="1432" y="421"/>
                </a:lnTo>
                <a:lnTo>
                  <a:pt x="1420" y="401"/>
                </a:lnTo>
                <a:lnTo>
                  <a:pt x="1406" y="380"/>
                </a:lnTo>
                <a:lnTo>
                  <a:pt x="1393" y="361"/>
                </a:lnTo>
                <a:lnTo>
                  <a:pt x="1379" y="341"/>
                </a:lnTo>
                <a:lnTo>
                  <a:pt x="1368" y="324"/>
                </a:lnTo>
                <a:lnTo>
                  <a:pt x="1352" y="304"/>
                </a:lnTo>
                <a:lnTo>
                  <a:pt x="1339" y="285"/>
                </a:lnTo>
                <a:lnTo>
                  <a:pt x="1323" y="266"/>
                </a:lnTo>
                <a:lnTo>
                  <a:pt x="1309" y="248"/>
                </a:lnTo>
                <a:lnTo>
                  <a:pt x="1292" y="229"/>
                </a:lnTo>
                <a:lnTo>
                  <a:pt x="1278" y="211"/>
                </a:lnTo>
                <a:lnTo>
                  <a:pt x="1261" y="194"/>
                </a:lnTo>
                <a:lnTo>
                  <a:pt x="1247" y="176"/>
                </a:lnTo>
                <a:lnTo>
                  <a:pt x="1236" y="161"/>
                </a:lnTo>
                <a:lnTo>
                  <a:pt x="1226" y="147"/>
                </a:lnTo>
                <a:lnTo>
                  <a:pt x="1216" y="132"/>
                </a:lnTo>
                <a:lnTo>
                  <a:pt x="1211" y="116"/>
                </a:lnTo>
                <a:lnTo>
                  <a:pt x="1195" y="97"/>
                </a:lnTo>
                <a:lnTo>
                  <a:pt x="1178" y="85"/>
                </a:lnTo>
                <a:lnTo>
                  <a:pt x="1162" y="79"/>
                </a:lnTo>
                <a:lnTo>
                  <a:pt x="1147" y="76"/>
                </a:lnTo>
                <a:lnTo>
                  <a:pt x="1133" y="72"/>
                </a:lnTo>
                <a:lnTo>
                  <a:pt x="1121" y="68"/>
                </a:lnTo>
                <a:lnTo>
                  <a:pt x="1112" y="62"/>
                </a:lnTo>
                <a:lnTo>
                  <a:pt x="1102" y="56"/>
                </a:lnTo>
                <a:lnTo>
                  <a:pt x="1085" y="43"/>
                </a:lnTo>
                <a:lnTo>
                  <a:pt x="1067" y="29"/>
                </a:lnTo>
                <a:lnTo>
                  <a:pt x="1048" y="15"/>
                </a:lnTo>
                <a:lnTo>
                  <a:pt x="1030" y="6"/>
                </a:lnTo>
                <a:lnTo>
                  <a:pt x="1011" y="0"/>
                </a:lnTo>
                <a:lnTo>
                  <a:pt x="991" y="0"/>
                </a:lnTo>
                <a:lnTo>
                  <a:pt x="976" y="0"/>
                </a:lnTo>
                <a:lnTo>
                  <a:pt x="962" y="2"/>
                </a:lnTo>
                <a:lnTo>
                  <a:pt x="949" y="4"/>
                </a:lnTo>
                <a:lnTo>
                  <a:pt x="935" y="8"/>
                </a:lnTo>
                <a:lnTo>
                  <a:pt x="922" y="8"/>
                </a:lnTo>
                <a:lnTo>
                  <a:pt x="908" y="12"/>
                </a:lnTo>
                <a:lnTo>
                  <a:pt x="896" y="15"/>
                </a:lnTo>
                <a:lnTo>
                  <a:pt x="885" y="21"/>
                </a:lnTo>
                <a:lnTo>
                  <a:pt x="871" y="25"/>
                </a:lnTo>
                <a:lnTo>
                  <a:pt x="858" y="31"/>
                </a:lnTo>
                <a:lnTo>
                  <a:pt x="846" y="37"/>
                </a:lnTo>
                <a:lnTo>
                  <a:pt x="834" y="44"/>
                </a:lnTo>
                <a:lnTo>
                  <a:pt x="813" y="60"/>
                </a:lnTo>
                <a:lnTo>
                  <a:pt x="796" y="79"/>
                </a:lnTo>
                <a:lnTo>
                  <a:pt x="788" y="89"/>
                </a:lnTo>
                <a:lnTo>
                  <a:pt x="788" y="103"/>
                </a:lnTo>
                <a:lnTo>
                  <a:pt x="784" y="116"/>
                </a:lnTo>
                <a:lnTo>
                  <a:pt x="780" y="132"/>
                </a:lnTo>
                <a:lnTo>
                  <a:pt x="774" y="132"/>
                </a:lnTo>
                <a:lnTo>
                  <a:pt x="76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4694400" y="2968560"/>
            <a:ext cx="2880" cy="7920"/>
          </a:xfrm>
          <a:custGeom>
            <a:avLst/>
            <a:gdLst/>
            <a:ahLst/>
            <a:rect l="l" t="t" r="r" b="b"/>
            <a:pathLst>
              <a:path w="4" h="9">
                <a:moveTo>
                  <a:pt x="2" y="9"/>
                </a:moveTo>
                <a:lnTo>
                  <a:pt x="0" y="2"/>
                </a:lnTo>
                <a:lnTo>
                  <a:pt x="4" y="0"/>
                </a:lnTo>
                <a:lnTo>
                  <a:pt x="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4560840" y="3859200"/>
            <a:ext cx="97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4560840" y="2541600"/>
            <a:ext cx="97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11520" y="3467160"/>
            <a:ext cx="7920" cy="468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8"/>
                </a:moveTo>
                <a:lnTo>
                  <a:pt x="10" y="0"/>
                </a:lnTo>
                <a:lnTo>
                  <a:pt x="10" y="8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4336920" y="224964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4265640" y="2349360"/>
            <a:ext cx="4680" cy="648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8"/>
                </a:moveTo>
                <a:lnTo>
                  <a:pt x="0" y="2"/>
                </a:lnTo>
                <a:lnTo>
                  <a:pt x="6" y="0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3240000" y="4645080"/>
            <a:ext cx="1800" cy="936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12"/>
                </a:moveTo>
                <a:lnTo>
                  <a:pt x="2" y="0"/>
                </a:lnTo>
                <a:lnTo>
                  <a:pt x="2" y="1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9" name=""/>
          <p:cNvGrpSpPr/>
          <p:nvPr/>
        </p:nvGrpSpPr>
        <p:grpSpPr>
          <a:xfrm>
            <a:off x="6095880" y="2909880"/>
            <a:ext cx="1579320" cy="1798560"/>
            <a:chOff x="6095880" y="2909880"/>
            <a:chExt cx="1579320" cy="1798560"/>
          </a:xfrm>
        </p:grpSpPr>
        <p:sp>
          <p:nvSpPr>
            <p:cNvPr id="7120" name=""/>
            <p:cNvSpPr/>
            <p:nvPr/>
          </p:nvSpPr>
          <p:spPr>
            <a:xfrm>
              <a:off x="6095880" y="2909880"/>
              <a:ext cx="157932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1" name=""/>
            <p:cNvGrpSpPr/>
            <p:nvPr/>
          </p:nvGrpSpPr>
          <p:grpSpPr>
            <a:xfrm>
              <a:off x="6248160" y="3062160"/>
              <a:ext cx="1309680" cy="1598760"/>
              <a:chOff x="6248160" y="3062160"/>
              <a:chExt cx="1309680" cy="1598760"/>
            </a:xfrm>
          </p:grpSpPr>
          <p:sp>
            <p:nvSpPr>
              <p:cNvPr id="7122" name=""/>
              <p:cNvSpPr/>
              <p:nvPr/>
            </p:nvSpPr>
            <p:spPr>
              <a:xfrm>
                <a:off x="6248160" y="3062160"/>
                <a:ext cx="1309680" cy="1598760"/>
              </a:xfrm>
              <a:custGeom>
                <a:avLst/>
                <a:gdLst/>
                <a:ahLst/>
                <a:rect l="l" t="t" r="r" b="b"/>
                <a:pathLst>
                  <a:path w="4949" h="6044">
                    <a:moveTo>
                      <a:pt x="2286" y="1611"/>
                    </a:moveTo>
                    <a:lnTo>
                      <a:pt x="2277" y="2036"/>
                    </a:lnTo>
                    <a:lnTo>
                      <a:pt x="2270" y="2448"/>
                    </a:lnTo>
                    <a:lnTo>
                      <a:pt x="2264" y="2851"/>
                    </a:lnTo>
                    <a:lnTo>
                      <a:pt x="2255" y="3248"/>
                    </a:lnTo>
                    <a:lnTo>
                      <a:pt x="2246" y="3645"/>
                    </a:lnTo>
                    <a:lnTo>
                      <a:pt x="2234" y="4044"/>
                    </a:lnTo>
                    <a:lnTo>
                      <a:pt x="2215" y="4451"/>
                    </a:lnTo>
                    <a:lnTo>
                      <a:pt x="2191" y="4869"/>
                    </a:lnTo>
                    <a:lnTo>
                      <a:pt x="2181" y="4897"/>
                    </a:lnTo>
                    <a:lnTo>
                      <a:pt x="2170" y="4923"/>
                    </a:lnTo>
                    <a:lnTo>
                      <a:pt x="2159" y="4947"/>
                    </a:lnTo>
                    <a:lnTo>
                      <a:pt x="2146" y="4969"/>
                    </a:lnTo>
                    <a:lnTo>
                      <a:pt x="2132" y="4988"/>
                    </a:lnTo>
                    <a:lnTo>
                      <a:pt x="2117" y="5004"/>
                    </a:lnTo>
                    <a:lnTo>
                      <a:pt x="2100" y="5019"/>
                    </a:lnTo>
                    <a:lnTo>
                      <a:pt x="2081" y="5031"/>
                    </a:lnTo>
                    <a:lnTo>
                      <a:pt x="2062" y="5040"/>
                    </a:lnTo>
                    <a:lnTo>
                      <a:pt x="2039" y="5048"/>
                    </a:lnTo>
                    <a:lnTo>
                      <a:pt x="2015" y="5053"/>
                    </a:lnTo>
                    <a:lnTo>
                      <a:pt x="1989" y="5055"/>
                    </a:lnTo>
                    <a:lnTo>
                      <a:pt x="1961" y="5055"/>
                    </a:lnTo>
                    <a:lnTo>
                      <a:pt x="1931" y="5053"/>
                    </a:lnTo>
                    <a:lnTo>
                      <a:pt x="1898" y="5049"/>
                    </a:lnTo>
                    <a:lnTo>
                      <a:pt x="1863" y="5042"/>
                    </a:lnTo>
                    <a:lnTo>
                      <a:pt x="1813" y="5026"/>
                    </a:lnTo>
                    <a:lnTo>
                      <a:pt x="1764" y="5009"/>
                    </a:lnTo>
                    <a:lnTo>
                      <a:pt x="1716" y="4991"/>
                    </a:lnTo>
                    <a:lnTo>
                      <a:pt x="1669" y="4972"/>
                    </a:lnTo>
                    <a:lnTo>
                      <a:pt x="1623" y="4951"/>
                    </a:lnTo>
                    <a:lnTo>
                      <a:pt x="1577" y="4931"/>
                    </a:lnTo>
                    <a:lnTo>
                      <a:pt x="1533" y="4908"/>
                    </a:lnTo>
                    <a:lnTo>
                      <a:pt x="1489" y="4885"/>
                    </a:lnTo>
                    <a:lnTo>
                      <a:pt x="1447" y="4861"/>
                    </a:lnTo>
                    <a:lnTo>
                      <a:pt x="1405" y="4836"/>
                    </a:lnTo>
                    <a:lnTo>
                      <a:pt x="1365" y="4810"/>
                    </a:lnTo>
                    <a:lnTo>
                      <a:pt x="1325" y="4785"/>
                    </a:lnTo>
                    <a:lnTo>
                      <a:pt x="1286" y="4758"/>
                    </a:lnTo>
                    <a:lnTo>
                      <a:pt x="1249" y="4730"/>
                    </a:lnTo>
                    <a:lnTo>
                      <a:pt x="1212" y="4702"/>
                    </a:lnTo>
                    <a:lnTo>
                      <a:pt x="1178" y="4673"/>
                    </a:lnTo>
                    <a:lnTo>
                      <a:pt x="1144" y="4643"/>
                    </a:lnTo>
                    <a:lnTo>
                      <a:pt x="1111" y="4613"/>
                    </a:lnTo>
                    <a:lnTo>
                      <a:pt x="1080" y="4582"/>
                    </a:lnTo>
                    <a:lnTo>
                      <a:pt x="1050" y="4551"/>
                    </a:lnTo>
                    <a:lnTo>
                      <a:pt x="1021" y="4520"/>
                    </a:lnTo>
                    <a:lnTo>
                      <a:pt x="993" y="4489"/>
                    </a:lnTo>
                    <a:lnTo>
                      <a:pt x="966" y="4457"/>
                    </a:lnTo>
                    <a:lnTo>
                      <a:pt x="941" y="4425"/>
                    </a:lnTo>
                    <a:lnTo>
                      <a:pt x="917" y="4393"/>
                    </a:lnTo>
                    <a:lnTo>
                      <a:pt x="894" y="4361"/>
                    </a:lnTo>
                    <a:lnTo>
                      <a:pt x="873" y="4329"/>
                    </a:lnTo>
                    <a:lnTo>
                      <a:pt x="854" y="4296"/>
                    </a:lnTo>
                    <a:lnTo>
                      <a:pt x="835" y="4263"/>
                    </a:lnTo>
                    <a:lnTo>
                      <a:pt x="818" y="4231"/>
                    </a:lnTo>
                    <a:lnTo>
                      <a:pt x="803" y="4199"/>
                    </a:lnTo>
                    <a:lnTo>
                      <a:pt x="789" y="4167"/>
                    </a:lnTo>
                    <a:lnTo>
                      <a:pt x="847" y="4154"/>
                    </a:lnTo>
                    <a:lnTo>
                      <a:pt x="903" y="4141"/>
                    </a:lnTo>
                    <a:lnTo>
                      <a:pt x="956" y="4128"/>
                    </a:lnTo>
                    <a:lnTo>
                      <a:pt x="1008" y="4113"/>
                    </a:lnTo>
                    <a:lnTo>
                      <a:pt x="1057" y="4097"/>
                    </a:lnTo>
                    <a:lnTo>
                      <a:pt x="1105" y="4081"/>
                    </a:lnTo>
                    <a:lnTo>
                      <a:pt x="1149" y="4063"/>
                    </a:lnTo>
                    <a:lnTo>
                      <a:pt x="1191" y="4045"/>
                    </a:lnTo>
                    <a:lnTo>
                      <a:pt x="1231" y="4024"/>
                    </a:lnTo>
                    <a:lnTo>
                      <a:pt x="1268" y="4001"/>
                    </a:lnTo>
                    <a:lnTo>
                      <a:pt x="1304" y="3977"/>
                    </a:lnTo>
                    <a:lnTo>
                      <a:pt x="1336" y="3951"/>
                    </a:lnTo>
                    <a:lnTo>
                      <a:pt x="1366" y="3923"/>
                    </a:lnTo>
                    <a:lnTo>
                      <a:pt x="1393" y="3892"/>
                    </a:lnTo>
                    <a:lnTo>
                      <a:pt x="1418" y="3859"/>
                    </a:lnTo>
                    <a:lnTo>
                      <a:pt x="1439" y="3824"/>
                    </a:lnTo>
                    <a:lnTo>
                      <a:pt x="1388" y="3820"/>
                    </a:lnTo>
                    <a:lnTo>
                      <a:pt x="1336" y="3814"/>
                    </a:lnTo>
                    <a:lnTo>
                      <a:pt x="1284" y="3807"/>
                    </a:lnTo>
                    <a:lnTo>
                      <a:pt x="1233" y="3800"/>
                    </a:lnTo>
                    <a:lnTo>
                      <a:pt x="1182" y="3792"/>
                    </a:lnTo>
                    <a:lnTo>
                      <a:pt x="1132" y="3783"/>
                    </a:lnTo>
                    <a:lnTo>
                      <a:pt x="1082" y="3773"/>
                    </a:lnTo>
                    <a:lnTo>
                      <a:pt x="1032" y="3763"/>
                    </a:lnTo>
                    <a:lnTo>
                      <a:pt x="982" y="3751"/>
                    </a:lnTo>
                    <a:lnTo>
                      <a:pt x="932" y="3740"/>
                    </a:lnTo>
                    <a:lnTo>
                      <a:pt x="885" y="3726"/>
                    </a:lnTo>
                    <a:lnTo>
                      <a:pt x="836" y="3713"/>
                    </a:lnTo>
                    <a:lnTo>
                      <a:pt x="788" y="3700"/>
                    </a:lnTo>
                    <a:lnTo>
                      <a:pt x="742" y="3684"/>
                    </a:lnTo>
                    <a:lnTo>
                      <a:pt x="695" y="3668"/>
                    </a:lnTo>
                    <a:lnTo>
                      <a:pt x="648" y="3653"/>
                    </a:lnTo>
                    <a:lnTo>
                      <a:pt x="603" y="3636"/>
                    </a:lnTo>
                    <a:lnTo>
                      <a:pt x="558" y="3619"/>
                    </a:lnTo>
                    <a:lnTo>
                      <a:pt x="514" y="3601"/>
                    </a:lnTo>
                    <a:lnTo>
                      <a:pt x="470" y="3582"/>
                    </a:lnTo>
                    <a:lnTo>
                      <a:pt x="427" y="3564"/>
                    </a:lnTo>
                    <a:lnTo>
                      <a:pt x="384" y="3544"/>
                    </a:lnTo>
                    <a:lnTo>
                      <a:pt x="343" y="3524"/>
                    </a:lnTo>
                    <a:lnTo>
                      <a:pt x="301" y="3505"/>
                    </a:lnTo>
                    <a:lnTo>
                      <a:pt x="261" y="3484"/>
                    </a:lnTo>
                    <a:lnTo>
                      <a:pt x="221" y="3462"/>
                    </a:lnTo>
                    <a:lnTo>
                      <a:pt x="182" y="3442"/>
                    </a:lnTo>
                    <a:lnTo>
                      <a:pt x="145" y="3419"/>
                    </a:lnTo>
                    <a:lnTo>
                      <a:pt x="107" y="3397"/>
                    </a:lnTo>
                    <a:lnTo>
                      <a:pt x="71" y="3374"/>
                    </a:lnTo>
                    <a:lnTo>
                      <a:pt x="35" y="3351"/>
                    </a:lnTo>
                    <a:lnTo>
                      <a:pt x="0" y="3329"/>
                    </a:lnTo>
                    <a:lnTo>
                      <a:pt x="8" y="3531"/>
                    </a:lnTo>
                    <a:lnTo>
                      <a:pt x="14" y="3729"/>
                    </a:lnTo>
                    <a:lnTo>
                      <a:pt x="20" y="3922"/>
                    </a:lnTo>
                    <a:lnTo>
                      <a:pt x="27" y="4113"/>
                    </a:lnTo>
                    <a:lnTo>
                      <a:pt x="37" y="4302"/>
                    </a:lnTo>
                    <a:lnTo>
                      <a:pt x="49" y="4488"/>
                    </a:lnTo>
                    <a:lnTo>
                      <a:pt x="66" y="4674"/>
                    </a:lnTo>
                    <a:lnTo>
                      <a:pt x="87" y="4859"/>
                    </a:lnTo>
                    <a:lnTo>
                      <a:pt x="105" y="4844"/>
                    </a:lnTo>
                    <a:lnTo>
                      <a:pt x="124" y="4827"/>
                    </a:lnTo>
                    <a:lnTo>
                      <a:pt x="142" y="4809"/>
                    </a:lnTo>
                    <a:lnTo>
                      <a:pt x="161" y="4790"/>
                    </a:lnTo>
                    <a:lnTo>
                      <a:pt x="180" y="4770"/>
                    </a:lnTo>
                    <a:lnTo>
                      <a:pt x="198" y="4748"/>
                    </a:lnTo>
                    <a:lnTo>
                      <a:pt x="217" y="4725"/>
                    </a:lnTo>
                    <a:lnTo>
                      <a:pt x="235" y="4703"/>
                    </a:lnTo>
                    <a:lnTo>
                      <a:pt x="253" y="4678"/>
                    </a:lnTo>
                    <a:lnTo>
                      <a:pt x="271" y="4653"/>
                    </a:lnTo>
                    <a:lnTo>
                      <a:pt x="289" y="4626"/>
                    </a:lnTo>
                    <a:lnTo>
                      <a:pt x="305" y="4599"/>
                    </a:lnTo>
                    <a:lnTo>
                      <a:pt x="322" y="4570"/>
                    </a:lnTo>
                    <a:lnTo>
                      <a:pt x="337" y="4541"/>
                    </a:lnTo>
                    <a:lnTo>
                      <a:pt x="352" y="4511"/>
                    </a:lnTo>
                    <a:lnTo>
                      <a:pt x="366" y="4480"/>
                    </a:lnTo>
                    <a:lnTo>
                      <a:pt x="440" y="4652"/>
                    </a:lnTo>
                    <a:lnTo>
                      <a:pt x="526" y="4815"/>
                    </a:lnTo>
                    <a:lnTo>
                      <a:pt x="624" y="4969"/>
                    </a:lnTo>
                    <a:lnTo>
                      <a:pt x="730" y="5114"/>
                    </a:lnTo>
                    <a:lnTo>
                      <a:pt x="847" y="5249"/>
                    </a:lnTo>
                    <a:lnTo>
                      <a:pt x="974" y="5374"/>
                    </a:lnTo>
                    <a:lnTo>
                      <a:pt x="1108" y="5489"/>
                    </a:lnTo>
                    <a:lnTo>
                      <a:pt x="1248" y="5595"/>
                    </a:lnTo>
                    <a:lnTo>
                      <a:pt x="1395" y="5689"/>
                    </a:lnTo>
                    <a:lnTo>
                      <a:pt x="1547" y="5773"/>
                    </a:lnTo>
                    <a:lnTo>
                      <a:pt x="1704" y="5847"/>
                    </a:lnTo>
                    <a:lnTo>
                      <a:pt x="1864" y="5909"/>
                    </a:lnTo>
                    <a:lnTo>
                      <a:pt x="2026" y="5959"/>
                    </a:lnTo>
                    <a:lnTo>
                      <a:pt x="2191" y="5998"/>
                    </a:lnTo>
                    <a:lnTo>
                      <a:pt x="2357" y="6025"/>
                    </a:lnTo>
                    <a:lnTo>
                      <a:pt x="2523" y="6040"/>
                    </a:lnTo>
                    <a:lnTo>
                      <a:pt x="2688" y="6044"/>
                    </a:lnTo>
                    <a:lnTo>
                      <a:pt x="2852" y="6033"/>
                    </a:lnTo>
                    <a:lnTo>
                      <a:pt x="3013" y="6011"/>
                    </a:lnTo>
                    <a:lnTo>
                      <a:pt x="3171" y="5976"/>
                    </a:lnTo>
                    <a:lnTo>
                      <a:pt x="3324" y="5928"/>
                    </a:lnTo>
                    <a:lnTo>
                      <a:pt x="3474" y="5865"/>
                    </a:lnTo>
                    <a:lnTo>
                      <a:pt x="3617" y="5791"/>
                    </a:lnTo>
                    <a:lnTo>
                      <a:pt x="3754" y="5701"/>
                    </a:lnTo>
                    <a:lnTo>
                      <a:pt x="3882" y="5597"/>
                    </a:lnTo>
                    <a:lnTo>
                      <a:pt x="4003" y="5480"/>
                    </a:lnTo>
                    <a:lnTo>
                      <a:pt x="4113" y="5347"/>
                    </a:lnTo>
                    <a:lnTo>
                      <a:pt x="4215" y="5200"/>
                    </a:lnTo>
                    <a:lnTo>
                      <a:pt x="4305" y="5038"/>
                    </a:lnTo>
                    <a:lnTo>
                      <a:pt x="4383" y="4861"/>
                    </a:lnTo>
                    <a:lnTo>
                      <a:pt x="4449" y="4668"/>
                    </a:lnTo>
                    <a:lnTo>
                      <a:pt x="4501" y="4460"/>
                    </a:lnTo>
                    <a:lnTo>
                      <a:pt x="4519" y="4487"/>
                    </a:lnTo>
                    <a:lnTo>
                      <a:pt x="4537" y="4514"/>
                    </a:lnTo>
                    <a:lnTo>
                      <a:pt x="4558" y="4542"/>
                    </a:lnTo>
                    <a:lnTo>
                      <a:pt x="4580" y="4570"/>
                    </a:lnTo>
                    <a:lnTo>
                      <a:pt x="4604" y="4599"/>
                    </a:lnTo>
                    <a:lnTo>
                      <a:pt x="4629" y="4628"/>
                    </a:lnTo>
                    <a:lnTo>
                      <a:pt x="4655" y="4657"/>
                    </a:lnTo>
                    <a:lnTo>
                      <a:pt x="4682" y="4686"/>
                    </a:lnTo>
                    <a:lnTo>
                      <a:pt x="4711" y="4714"/>
                    </a:lnTo>
                    <a:lnTo>
                      <a:pt x="4741" y="4742"/>
                    </a:lnTo>
                    <a:lnTo>
                      <a:pt x="4773" y="4770"/>
                    </a:lnTo>
                    <a:lnTo>
                      <a:pt x="4805" y="4796"/>
                    </a:lnTo>
                    <a:lnTo>
                      <a:pt x="4839" y="4822"/>
                    </a:lnTo>
                    <a:lnTo>
                      <a:pt x="4874" y="4846"/>
                    </a:lnTo>
                    <a:lnTo>
                      <a:pt x="4911" y="4868"/>
                    </a:lnTo>
                    <a:lnTo>
                      <a:pt x="4949" y="4890"/>
                    </a:lnTo>
                    <a:lnTo>
                      <a:pt x="4928" y="4661"/>
                    </a:lnTo>
                    <a:lnTo>
                      <a:pt x="4909" y="4438"/>
                    </a:lnTo>
                    <a:lnTo>
                      <a:pt x="4889" y="4220"/>
                    </a:lnTo>
                    <a:lnTo>
                      <a:pt x="4869" y="4004"/>
                    </a:lnTo>
                    <a:lnTo>
                      <a:pt x="4852" y="3791"/>
                    </a:lnTo>
                    <a:lnTo>
                      <a:pt x="4836" y="3578"/>
                    </a:lnTo>
                    <a:lnTo>
                      <a:pt x="4822" y="3365"/>
                    </a:lnTo>
                    <a:lnTo>
                      <a:pt x="4810" y="3151"/>
                    </a:lnTo>
                    <a:lnTo>
                      <a:pt x="4779" y="3186"/>
                    </a:lnTo>
                    <a:lnTo>
                      <a:pt x="4746" y="3220"/>
                    </a:lnTo>
                    <a:lnTo>
                      <a:pt x="4714" y="3254"/>
                    </a:lnTo>
                    <a:lnTo>
                      <a:pt x="4681" y="3287"/>
                    </a:lnTo>
                    <a:lnTo>
                      <a:pt x="4646" y="3321"/>
                    </a:lnTo>
                    <a:lnTo>
                      <a:pt x="4611" y="3355"/>
                    </a:lnTo>
                    <a:lnTo>
                      <a:pt x="4577" y="3389"/>
                    </a:lnTo>
                    <a:lnTo>
                      <a:pt x="4541" y="3422"/>
                    </a:lnTo>
                    <a:lnTo>
                      <a:pt x="4504" y="3455"/>
                    </a:lnTo>
                    <a:lnTo>
                      <a:pt x="4468" y="3487"/>
                    </a:lnTo>
                    <a:lnTo>
                      <a:pt x="4431" y="3519"/>
                    </a:lnTo>
                    <a:lnTo>
                      <a:pt x="4393" y="3551"/>
                    </a:lnTo>
                    <a:lnTo>
                      <a:pt x="4355" y="3582"/>
                    </a:lnTo>
                    <a:lnTo>
                      <a:pt x="4317" y="3612"/>
                    </a:lnTo>
                    <a:lnTo>
                      <a:pt x="4278" y="3643"/>
                    </a:lnTo>
                    <a:lnTo>
                      <a:pt x="4239" y="3673"/>
                    </a:lnTo>
                    <a:lnTo>
                      <a:pt x="4198" y="3702"/>
                    </a:lnTo>
                    <a:lnTo>
                      <a:pt x="4159" y="3730"/>
                    </a:lnTo>
                    <a:lnTo>
                      <a:pt x="4119" y="3758"/>
                    </a:lnTo>
                    <a:lnTo>
                      <a:pt x="4077" y="3783"/>
                    </a:lnTo>
                    <a:lnTo>
                      <a:pt x="4037" y="3809"/>
                    </a:lnTo>
                    <a:lnTo>
                      <a:pt x="3995" y="3835"/>
                    </a:lnTo>
                    <a:lnTo>
                      <a:pt x="3953" y="3859"/>
                    </a:lnTo>
                    <a:lnTo>
                      <a:pt x="3911" y="3882"/>
                    </a:lnTo>
                    <a:lnTo>
                      <a:pt x="3869" y="3905"/>
                    </a:lnTo>
                    <a:lnTo>
                      <a:pt x="3826" y="3925"/>
                    </a:lnTo>
                    <a:lnTo>
                      <a:pt x="3784" y="3946"/>
                    </a:lnTo>
                    <a:lnTo>
                      <a:pt x="3740" y="3965"/>
                    </a:lnTo>
                    <a:lnTo>
                      <a:pt x="3697" y="3982"/>
                    </a:lnTo>
                    <a:lnTo>
                      <a:pt x="3653" y="3999"/>
                    </a:lnTo>
                    <a:lnTo>
                      <a:pt x="3610" y="4015"/>
                    </a:lnTo>
                    <a:lnTo>
                      <a:pt x="3566" y="4029"/>
                    </a:lnTo>
                    <a:lnTo>
                      <a:pt x="3597" y="4039"/>
                    </a:lnTo>
                    <a:lnTo>
                      <a:pt x="3631" y="4048"/>
                    </a:lnTo>
                    <a:lnTo>
                      <a:pt x="3669" y="4055"/>
                    </a:lnTo>
                    <a:lnTo>
                      <a:pt x="3707" y="4061"/>
                    </a:lnTo>
                    <a:lnTo>
                      <a:pt x="3746" y="4065"/>
                    </a:lnTo>
                    <a:lnTo>
                      <a:pt x="3788" y="4069"/>
                    </a:lnTo>
                    <a:lnTo>
                      <a:pt x="3829" y="4073"/>
                    </a:lnTo>
                    <a:lnTo>
                      <a:pt x="3871" y="4076"/>
                    </a:lnTo>
                    <a:lnTo>
                      <a:pt x="3912" y="4079"/>
                    </a:lnTo>
                    <a:lnTo>
                      <a:pt x="3953" y="4083"/>
                    </a:lnTo>
                    <a:lnTo>
                      <a:pt x="3992" y="4087"/>
                    </a:lnTo>
                    <a:lnTo>
                      <a:pt x="4029" y="4092"/>
                    </a:lnTo>
                    <a:lnTo>
                      <a:pt x="4066" y="4099"/>
                    </a:lnTo>
                    <a:lnTo>
                      <a:pt x="4099" y="4106"/>
                    </a:lnTo>
                    <a:lnTo>
                      <a:pt x="4129" y="4115"/>
                    </a:lnTo>
                    <a:lnTo>
                      <a:pt x="4156" y="4126"/>
                    </a:lnTo>
                    <a:lnTo>
                      <a:pt x="4138" y="4168"/>
                    </a:lnTo>
                    <a:lnTo>
                      <a:pt x="4120" y="4208"/>
                    </a:lnTo>
                    <a:lnTo>
                      <a:pt x="4101" y="4248"/>
                    </a:lnTo>
                    <a:lnTo>
                      <a:pt x="4080" y="4287"/>
                    </a:lnTo>
                    <a:lnTo>
                      <a:pt x="4060" y="4325"/>
                    </a:lnTo>
                    <a:lnTo>
                      <a:pt x="4038" y="4364"/>
                    </a:lnTo>
                    <a:lnTo>
                      <a:pt x="4015" y="4401"/>
                    </a:lnTo>
                    <a:lnTo>
                      <a:pt x="3992" y="4437"/>
                    </a:lnTo>
                    <a:lnTo>
                      <a:pt x="3968" y="4474"/>
                    </a:lnTo>
                    <a:lnTo>
                      <a:pt x="3943" y="4509"/>
                    </a:lnTo>
                    <a:lnTo>
                      <a:pt x="3917" y="4543"/>
                    </a:lnTo>
                    <a:lnTo>
                      <a:pt x="3892" y="4576"/>
                    </a:lnTo>
                    <a:lnTo>
                      <a:pt x="3865" y="4609"/>
                    </a:lnTo>
                    <a:lnTo>
                      <a:pt x="3837" y="4642"/>
                    </a:lnTo>
                    <a:lnTo>
                      <a:pt x="3809" y="4673"/>
                    </a:lnTo>
                    <a:lnTo>
                      <a:pt x="3780" y="4703"/>
                    </a:lnTo>
                    <a:lnTo>
                      <a:pt x="3750" y="4733"/>
                    </a:lnTo>
                    <a:lnTo>
                      <a:pt x="3719" y="4761"/>
                    </a:lnTo>
                    <a:lnTo>
                      <a:pt x="3688" y="4789"/>
                    </a:lnTo>
                    <a:lnTo>
                      <a:pt x="3656" y="4815"/>
                    </a:lnTo>
                    <a:lnTo>
                      <a:pt x="3624" y="4840"/>
                    </a:lnTo>
                    <a:lnTo>
                      <a:pt x="3591" y="4865"/>
                    </a:lnTo>
                    <a:lnTo>
                      <a:pt x="3558" y="4889"/>
                    </a:lnTo>
                    <a:lnTo>
                      <a:pt x="3525" y="4912"/>
                    </a:lnTo>
                    <a:lnTo>
                      <a:pt x="3489" y="4933"/>
                    </a:lnTo>
                    <a:lnTo>
                      <a:pt x="3455" y="4953"/>
                    </a:lnTo>
                    <a:lnTo>
                      <a:pt x="3419" y="4973"/>
                    </a:lnTo>
                    <a:lnTo>
                      <a:pt x="3384" y="4992"/>
                    </a:lnTo>
                    <a:lnTo>
                      <a:pt x="3346" y="5008"/>
                    </a:lnTo>
                    <a:lnTo>
                      <a:pt x="3310" y="5025"/>
                    </a:lnTo>
                    <a:lnTo>
                      <a:pt x="3273" y="5039"/>
                    </a:lnTo>
                    <a:lnTo>
                      <a:pt x="3234" y="5053"/>
                    </a:lnTo>
                    <a:lnTo>
                      <a:pt x="3194" y="5063"/>
                    </a:lnTo>
                    <a:lnTo>
                      <a:pt x="3155" y="5072"/>
                    </a:lnTo>
                    <a:lnTo>
                      <a:pt x="3120" y="5077"/>
                    </a:lnTo>
                    <a:lnTo>
                      <a:pt x="3088" y="5080"/>
                    </a:lnTo>
                    <a:lnTo>
                      <a:pt x="3058" y="5081"/>
                    </a:lnTo>
                    <a:lnTo>
                      <a:pt x="3030" y="5078"/>
                    </a:lnTo>
                    <a:lnTo>
                      <a:pt x="3005" y="5074"/>
                    </a:lnTo>
                    <a:lnTo>
                      <a:pt x="2982" y="5065"/>
                    </a:lnTo>
                    <a:lnTo>
                      <a:pt x="2960" y="5054"/>
                    </a:lnTo>
                    <a:lnTo>
                      <a:pt x="2942" y="5040"/>
                    </a:lnTo>
                    <a:lnTo>
                      <a:pt x="2925" y="5023"/>
                    </a:lnTo>
                    <a:lnTo>
                      <a:pt x="2910" y="5002"/>
                    </a:lnTo>
                    <a:lnTo>
                      <a:pt x="2897" y="4978"/>
                    </a:lnTo>
                    <a:lnTo>
                      <a:pt x="2886" y="4950"/>
                    </a:lnTo>
                    <a:lnTo>
                      <a:pt x="2875" y="4919"/>
                    </a:lnTo>
                    <a:lnTo>
                      <a:pt x="2867" y="4884"/>
                    </a:lnTo>
                    <a:lnTo>
                      <a:pt x="2843" y="4692"/>
                    </a:lnTo>
                    <a:lnTo>
                      <a:pt x="2819" y="4497"/>
                    </a:lnTo>
                    <a:lnTo>
                      <a:pt x="2797" y="4302"/>
                    </a:lnTo>
                    <a:lnTo>
                      <a:pt x="2776" y="4104"/>
                    </a:lnTo>
                    <a:lnTo>
                      <a:pt x="2756" y="3905"/>
                    </a:lnTo>
                    <a:lnTo>
                      <a:pt x="2738" y="3704"/>
                    </a:lnTo>
                    <a:lnTo>
                      <a:pt x="2721" y="3502"/>
                    </a:lnTo>
                    <a:lnTo>
                      <a:pt x="2706" y="3297"/>
                    </a:lnTo>
                    <a:lnTo>
                      <a:pt x="2694" y="3092"/>
                    </a:lnTo>
                    <a:lnTo>
                      <a:pt x="2684" y="2887"/>
                    </a:lnTo>
                    <a:lnTo>
                      <a:pt x="2675" y="2680"/>
                    </a:lnTo>
                    <a:lnTo>
                      <a:pt x="2671" y="2473"/>
                    </a:lnTo>
                    <a:lnTo>
                      <a:pt x="2669" y="2264"/>
                    </a:lnTo>
                    <a:lnTo>
                      <a:pt x="2669" y="2056"/>
                    </a:lnTo>
                    <a:lnTo>
                      <a:pt x="2674" y="1847"/>
                    </a:lnTo>
                    <a:lnTo>
                      <a:pt x="2682" y="1637"/>
                    </a:lnTo>
                    <a:lnTo>
                      <a:pt x="2680" y="1615"/>
                    </a:lnTo>
                    <a:lnTo>
                      <a:pt x="2678" y="1593"/>
                    </a:lnTo>
                    <a:lnTo>
                      <a:pt x="2680" y="1573"/>
                    </a:lnTo>
                    <a:lnTo>
                      <a:pt x="2681" y="1554"/>
                    </a:lnTo>
                    <a:lnTo>
                      <a:pt x="2685" y="1537"/>
                    </a:lnTo>
                    <a:lnTo>
                      <a:pt x="2690" y="1521"/>
                    </a:lnTo>
                    <a:lnTo>
                      <a:pt x="2698" y="1506"/>
                    </a:lnTo>
                    <a:lnTo>
                      <a:pt x="2709" y="1491"/>
                    </a:lnTo>
                    <a:lnTo>
                      <a:pt x="2721" y="1478"/>
                    </a:lnTo>
                    <a:lnTo>
                      <a:pt x="2738" y="1464"/>
                    </a:lnTo>
                    <a:lnTo>
                      <a:pt x="2757" y="1451"/>
                    </a:lnTo>
                    <a:lnTo>
                      <a:pt x="2780" y="1438"/>
                    </a:lnTo>
                    <a:lnTo>
                      <a:pt x="2807" y="1426"/>
                    </a:lnTo>
                    <a:lnTo>
                      <a:pt x="2838" y="1414"/>
                    </a:lnTo>
                    <a:lnTo>
                      <a:pt x="2873" y="1401"/>
                    </a:lnTo>
                    <a:lnTo>
                      <a:pt x="2913" y="1388"/>
                    </a:lnTo>
                    <a:lnTo>
                      <a:pt x="2956" y="1371"/>
                    </a:lnTo>
                    <a:lnTo>
                      <a:pt x="2999" y="1350"/>
                    </a:lnTo>
                    <a:lnTo>
                      <a:pt x="3040" y="1325"/>
                    </a:lnTo>
                    <a:lnTo>
                      <a:pt x="3081" y="1297"/>
                    </a:lnTo>
                    <a:lnTo>
                      <a:pt x="3119" y="1265"/>
                    </a:lnTo>
                    <a:lnTo>
                      <a:pt x="3155" y="1231"/>
                    </a:lnTo>
                    <a:lnTo>
                      <a:pt x="3190" y="1193"/>
                    </a:lnTo>
                    <a:lnTo>
                      <a:pt x="3222" y="1152"/>
                    </a:lnTo>
                    <a:lnTo>
                      <a:pt x="3250" y="1110"/>
                    </a:lnTo>
                    <a:lnTo>
                      <a:pt x="3275" y="1064"/>
                    </a:lnTo>
                    <a:lnTo>
                      <a:pt x="3296" y="1017"/>
                    </a:lnTo>
                    <a:lnTo>
                      <a:pt x="3314" y="968"/>
                    </a:lnTo>
                    <a:lnTo>
                      <a:pt x="3328" y="917"/>
                    </a:lnTo>
                    <a:lnTo>
                      <a:pt x="3336" y="865"/>
                    </a:lnTo>
                    <a:lnTo>
                      <a:pt x="3339" y="812"/>
                    </a:lnTo>
                    <a:lnTo>
                      <a:pt x="3337" y="759"/>
                    </a:lnTo>
                    <a:lnTo>
                      <a:pt x="3321" y="665"/>
                    </a:lnTo>
                    <a:lnTo>
                      <a:pt x="3301" y="578"/>
                    </a:lnTo>
                    <a:lnTo>
                      <a:pt x="3275" y="498"/>
                    </a:lnTo>
                    <a:lnTo>
                      <a:pt x="3243" y="425"/>
                    </a:lnTo>
                    <a:lnTo>
                      <a:pt x="3206" y="358"/>
                    </a:lnTo>
                    <a:lnTo>
                      <a:pt x="3166" y="297"/>
                    </a:lnTo>
                    <a:lnTo>
                      <a:pt x="3121" y="243"/>
                    </a:lnTo>
                    <a:lnTo>
                      <a:pt x="3072" y="194"/>
                    </a:lnTo>
                    <a:lnTo>
                      <a:pt x="3021" y="150"/>
                    </a:lnTo>
                    <a:lnTo>
                      <a:pt x="2967" y="113"/>
                    </a:lnTo>
                    <a:lnTo>
                      <a:pt x="2909" y="82"/>
                    </a:lnTo>
                    <a:lnTo>
                      <a:pt x="2850" y="56"/>
                    </a:lnTo>
                    <a:lnTo>
                      <a:pt x="2789" y="34"/>
                    </a:lnTo>
                    <a:lnTo>
                      <a:pt x="2726" y="19"/>
                    </a:lnTo>
                    <a:lnTo>
                      <a:pt x="2663" y="7"/>
                    </a:lnTo>
                    <a:lnTo>
                      <a:pt x="2600" y="1"/>
                    </a:lnTo>
                    <a:lnTo>
                      <a:pt x="2534" y="0"/>
                    </a:lnTo>
                    <a:lnTo>
                      <a:pt x="2471" y="3"/>
                    </a:lnTo>
                    <a:lnTo>
                      <a:pt x="2407" y="10"/>
                    </a:lnTo>
                    <a:lnTo>
                      <a:pt x="2344" y="23"/>
                    </a:lnTo>
                    <a:lnTo>
                      <a:pt x="2282" y="38"/>
                    </a:lnTo>
                    <a:lnTo>
                      <a:pt x="2222" y="58"/>
                    </a:lnTo>
                    <a:lnTo>
                      <a:pt x="2164" y="82"/>
                    </a:lnTo>
                    <a:lnTo>
                      <a:pt x="2108" y="109"/>
                    </a:lnTo>
                    <a:lnTo>
                      <a:pt x="2055" y="140"/>
                    </a:lnTo>
                    <a:lnTo>
                      <a:pt x="2005" y="174"/>
                    </a:lnTo>
                    <a:lnTo>
                      <a:pt x="1958" y="211"/>
                    </a:lnTo>
                    <a:lnTo>
                      <a:pt x="1915" y="253"/>
                    </a:lnTo>
                    <a:lnTo>
                      <a:pt x="1877" y="296"/>
                    </a:lnTo>
                    <a:lnTo>
                      <a:pt x="1843" y="343"/>
                    </a:lnTo>
                    <a:lnTo>
                      <a:pt x="1814" y="392"/>
                    </a:lnTo>
                    <a:lnTo>
                      <a:pt x="1790" y="444"/>
                    </a:lnTo>
                    <a:lnTo>
                      <a:pt x="1771" y="505"/>
                    </a:lnTo>
                    <a:lnTo>
                      <a:pt x="1757" y="567"/>
                    </a:lnTo>
                    <a:lnTo>
                      <a:pt x="1746" y="629"/>
                    </a:lnTo>
                    <a:lnTo>
                      <a:pt x="1740" y="692"/>
                    </a:lnTo>
                    <a:lnTo>
                      <a:pt x="1739" y="757"/>
                    </a:lnTo>
                    <a:lnTo>
                      <a:pt x="1742" y="819"/>
                    </a:lnTo>
                    <a:lnTo>
                      <a:pt x="1749" y="882"/>
                    </a:lnTo>
                    <a:lnTo>
                      <a:pt x="1762" y="943"/>
                    </a:lnTo>
                    <a:lnTo>
                      <a:pt x="1780" y="1003"/>
                    </a:lnTo>
                    <a:lnTo>
                      <a:pt x="1802" y="1061"/>
                    </a:lnTo>
                    <a:lnTo>
                      <a:pt x="1830" y="1118"/>
                    </a:lnTo>
                    <a:lnTo>
                      <a:pt x="1864" y="1172"/>
                    </a:lnTo>
                    <a:lnTo>
                      <a:pt x="1903" y="1223"/>
                    </a:lnTo>
                    <a:lnTo>
                      <a:pt x="1946" y="1270"/>
                    </a:lnTo>
                    <a:lnTo>
                      <a:pt x="1997" y="1315"/>
                    </a:lnTo>
                    <a:lnTo>
                      <a:pt x="2053" y="1355"/>
                    </a:lnTo>
                    <a:lnTo>
                      <a:pt x="2079" y="1365"/>
                    </a:lnTo>
                    <a:lnTo>
                      <a:pt x="2104" y="1374"/>
                    </a:lnTo>
                    <a:lnTo>
                      <a:pt x="2128" y="1383"/>
                    </a:lnTo>
                    <a:lnTo>
                      <a:pt x="2151" y="1393"/>
                    </a:lnTo>
                    <a:lnTo>
                      <a:pt x="2171" y="1402"/>
                    </a:lnTo>
                    <a:lnTo>
                      <a:pt x="2192" y="1414"/>
                    </a:lnTo>
                    <a:lnTo>
                      <a:pt x="2210" y="1425"/>
                    </a:lnTo>
                    <a:lnTo>
                      <a:pt x="2226" y="1437"/>
                    </a:lnTo>
                    <a:lnTo>
                      <a:pt x="2241" y="1452"/>
                    </a:lnTo>
                    <a:lnTo>
                      <a:pt x="2254" y="1467"/>
                    </a:lnTo>
                    <a:lnTo>
                      <a:pt x="2265" y="1486"/>
                    </a:lnTo>
                    <a:lnTo>
                      <a:pt x="2274" y="1506"/>
                    </a:lnTo>
                    <a:lnTo>
                      <a:pt x="2280" y="1527"/>
                    </a:lnTo>
                    <a:lnTo>
                      <a:pt x="2284" y="1552"/>
                    </a:lnTo>
                    <a:lnTo>
                      <a:pt x="2287" y="1580"/>
                    </a:lnTo>
                    <a:lnTo>
                      <a:pt x="2286" y="1611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6800400" y="3151080"/>
                <a:ext cx="219240" cy="212760"/>
              </a:xfrm>
              <a:custGeom>
                <a:avLst/>
                <a:gdLst/>
                <a:ahLst/>
                <a:rect l="l" t="t" r="r" b="b"/>
                <a:pathLst>
                  <a:path w="827" h="804">
                    <a:moveTo>
                      <a:pt x="413" y="0"/>
                    </a:moveTo>
                    <a:lnTo>
                      <a:pt x="456" y="2"/>
                    </a:lnTo>
                    <a:lnTo>
                      <a:pt x="496" y="8"/>
                    </a:lnTo>
                    <a:lnTo>
                      <a:pt x="537" y="17"/>
                    </a:lnTo>
                    <a:lnTo>
                      <a:pt x="574" y="32"/>
                    </a:lnTo>
                    <a:lnTo>
                      <a:pt x="610" y="49"/>
                    </a:lnTo>
                    <a:lnTo>
                      <a:pt x="645" y="68"/>
                    </a:lnTo>
                    <a:lnTo>
                      <a:pt x="677" y="92"/>
                    </a:lnTo>
                    <a:lnTo>
                      <a:pt x="706" y="118"/>
                    </a:lnTo>
                    <a:lnTo>
                      <a:pt x="733" y="146"/>
                    </a:lnTo>
                    <a:lnTo>
                      <a:pt x="756" y="177"/>
                    </a:lnTo>
                    <a:lnTo>
                      <a:pt x="777" y="210"/>
                    </a:lnTo>
                    <a:lnTo>
                      <a:pt x="795" y="245"/>
                    </a:lnTo>
                    <a:lnTo>
                      <a:pt x="808" y="283"/>
                    </a:lnTo>
                    <a:lnTo>
                      <a:pt x="819" y="321"/>
                    </a:lnTo>
                    <a:lnTo>
                      <a:pt x="825" y="361"/>
                    </a:lnTo>
                    <a:lnTo>
                      <a:pt x="827" y="402"/>
                    </a:lnTo>
                    <a:lnTo>
                      <a:pt x="825" y="443"/>
                    </a:lnTo>
                    <a:lnTo>
                      <a:pt x="819" y="483"/>
                    </a:lnTo>
                    <a:lnTo>
                      <a:pt x="808" y="521"/>
                    </a:lnTo>
                    <a:lnTo>
                      <a:pt x="795" y="558"/>
                    </a:lnTo>
                    <a:lnTo>
                      <a:pt x="777" y="594"/>
                    </a:lnTo>
                    <a:lnTo>
                      <a:pt x="756" y="627"/>
                    </a:lnTo>
                    <a:lnTo>
                      <a:pt x="733" y="658"/>
                    </a:lnTo>
                    <a:lnTo>
                      <a:pt x="706" y="686"/>
                    </a:lnTo>
                    <a:lnTo>
                      <a:pt x="677" y="712"/>
                    </a:lnTo>
                    <a:lnTo>
                      <a:pt x="645" y="736"/>
                    </a:lnTo>
                    <a:lnTo>
                      <a:pt x="610" y="755"/>
                    </a:lnTo>
                    <a:lnTo>
                      <a:pt x="574" y="772"/>
                    </a:lnTo>
                    <a:lnTo>
                      <a:pt x="537" y="786"/>
                    </a:lnTo>
                    <a:lnTo>
                      <a:pt x="496" y="796"/>
                    </a:lnTo>
                    <a:lnTo>
                      <a:pt x="456" y="802"/>
                    </a:lnTo>
                    <a:lnTo>
                      <a:pt x="413" y="804"/>
                    </a:lnTo>
                    <a:lnTo>
                      <a:pt x="371" y="802"/>
                    </a:lnTo>
                    <a:lnTo>
                      <a:pt x="330" y="796"/>
                    </a:lnTo>
                    <a:lnTo>
                      <a:pt x="290" y="786"/>
                    </a:lnTo>
                    <a:lnTo>
                      <a:pt x="253" y="772"/>
                    </a:lnTo>
                    <a:lnTo>
                      <a:pt x="216" y="755"/>
                    </a:lnTo>
                    <a:lnTo>
                      <a:pt x="182" y="736"/>
                    </a:lnTo>
                    <a:lnTo>
                      <a:pt x="150" y="712"/>
                    </a:lnTo>
                    <a:lnTo>
                      <a:pt x="121" y="686"/>
                    </a:lnTo>
                    <a:lnTo>
                      <a:pt x="94" y="658"/>
                    </a:lnTo>
                    <a:lnTo>
                      <a:pt x="70" y="627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1"/>
                    </a:lnTo>
                    <a:lnTo>
                      <a:pt x="8" y="483"/>
                    </a:lnTo>
                    <a:lnTo>
                      <a:pt x="2" y="443"/>
                    </a:lnTo>
                    <a:lnTo>
                      <a:pt x="0" y="402"/>
                    </a:lnTo>
                    <a:lnTo>
                      <a:pt x="2" y="361"/>
                    </a:lnTo>
                    <a:lnTo>
                      <a:pt x="8" y="321"/>
                    </a:lnTo>
                    <a:lnTo>
                      <a:pt x="18" y="283"/>
                    </a:lnTo>
                    <a:lnTo>
                      <a:pt x="32" y="245"/>
                    </a:lnTo>
                    <a:lnTo>
                      <a:pt x="49" y="210"/>
                    </a:lnTo>
                    <a:lnTo>
                      <a:pt x="70" y="177"/>
                    </a:lnTo>
                    <a:lnTo>
                      <a:pt x="94" y="146"/>
                    </a:lnTo>
                    <a:lnTo>
                      <a:pt x="121" y="118"/>
                    </a:lnTo>
                    <a:lnTo>
                      <a:pt x="150" y="92"/>
                    </a:lnTo>
                    <a:lnTo>
                      <a:pt x="182" y="68"/>
                    </a:lnTo>
                    <a:lnTo>
                      <a:pt x="216" y="49"/>
                    </a:lnTo>
                    <a:lnTo>
                      <a:pt x="253" y="32"/>
                    </a:lnTo>
                    <a:lnTo>
                      <a:pt x="290" y="17"/>
                    </a:lnTo>
                    <a:lnTo>
                      <a:pt x="330" y="8"/>
                    </a:lnTo>
                    <a:lnTo>
                      <a:pt x="371" y="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6343200" y="3570120"/>
                <a:ext cx="1090800" cy="236520"/>
              </a:xfrm>
              <a:custGeom>
                <a:avLst/>
                <a:gdLst/>
                <a:ahLst/>
                <a:rect l="l" t="t" r="r" b="b"/>
                <a:pathLst>
                  <a:path w="4120" h="894">
                    <a:moveTo>
                      <a:pt x="3579" y="270"/>
                    </a:moveTo>
                    <a:lnTo>
                      <a:pt x="3497" y="273"/>
                    </a:lnTo>
                    <a:lnTo>
                      <a:pt x="3414" y="275"/>
                    </a:lnTo>
                    <a:lnTo>
                      <a:pt x="3330" y="276"/>
                    </a:lnTo>
                    <a:lnTo>
                      <a:pt x="3245" y="277"/>
                    </a:lnTo>
                    <a:lnTo>
                      <a:pt x="3159" y="278"/>
                    </a:lnTo>
                    <a:lnTo>
                      <a:pt x="3072" y="278"/>
                    </a:lnTo>
                    <a:lnTo>
                      <a:pt x="2984" y="278"/>
                    </a:lnTo>
                    <a:lnTo>
                      <a:pt x="2895" y="277"/>
                    </a:lnTo>
                    <a:lnTo>
                      <a:pt x="2806" y="277"/>
                    </a:lnTo>
                    <a:lnTo>
                      <a:pt x="2716" y="275"/>
                    </a:lnTo>
                    <a:lnTo>
                      <a:pt x="2625" y="274"/>
                    </a:lnTo>
                    <a:lnTo>
                      <a:pt x="2534" y="272"/>
                    </a:lnTo>
                    <a:lnTo>
                      <a:pt x="2442" y="271"/>
                    </a:lnTo>
                    <a:lnTo>
                      <a:pt x="2350" y="269"/>
                    </a:lnTo>
                    <a:lnTo>
                      <a:pt x="2257" y="267"/>
                    </a:lnTo>
                    <a:lnTo>
                      <a:pt x="2165" y="264"/>
                    </a:lnTo>
                    <a:lnTo>
                      <a:pt x="2072" y="261"/>
                    </a:lnTo>
                    <a:lnTo>
                      <a:pt x="1978" y="259"/>
                    </a:lnTo>
                    <a:lnTo>
                      <a:pt x="1884" y="257"/>
                    </a:lnTo>
                    <a:lnTo>
                      <a:pt x="1791" y="255"/>
                    </a:lnTo>
                    <a:lnTo>
                      <a:pt x="1698" y="253"/>
                    </a:lnTo>
                    <a:lnTo>
                      <a:pt x="1604" y="251"/>
                    </a:lnTo>
                    <a:lnTo>
                      <a:pt x="1511" y="249"/>
                    </a:lnTo>
                    <a:lnTo>
                      <a:pt x="1418" y="248"/>
                    </a:lnTo>
                    <a:lnTo>
                      <a:pt x="1324" y="246"/>
                    </a:lnTo>
                    <a:lnTo>
                      <a:pt x="1232" y="245"/>
                    </a:lnTo>
                    <a:lnTo>
                      <a:pt x="1140" y="244"/>
                    </a:lnTo>
                    <a:lnTo>
                      <a:pt x="1047" y="244"/>
                    </a:lnTo>
                    <a:lnTo>
                      <a:pt x="956" y="244"/>
                    </a:lnTo>
                    <a:lnTo>
                      <a:pt x="865" y="244"/>
                    </a:lnTo>
                    <a:lnTo>
                      <a:pt x="775" y="245"/>
                    </a:lnTo>
                    <a:lnTo>
                      <a:pt x="685" y="246"/>
                    </a:lnTo>
                    <a:lnTo>
                      <a:pt x="663" y="210"/>
                    </a:lnTo>
                    <a:lnTo>
                      <a:pt x="639" y="176"/>
                    </a:lnTo>
                    <a:lnTo>
                      <a:pt x="614" y="145"/>
                    </a:lnTo>
                    <a:lnTo>
                      <a:pt x="589" y="118"/>
                    </a:lnTo>
                    <a:lnTo>
                      <a:pt x="563" y="94"/>
                    </a:lnTo>
                    <a:lnTo>
                      <a:pt x="536" y="72"/>
                    </a:lnTo>
                    <a:lnTo>
                      <a:pt x="509" y="53"/>
                    </a:lnTo>
                    <a:lnTo>
                      <a:pt x="481" y="38"/>
                    </a:lnTo>
                    <a:lnTo>
                      <a:pt x="453" y="24"/>
                    </a:lnTo>
                    <a:lnTo>
                      <a:pt x="425" y="15"/>
                    </a:lnTo>
                    <a:lnTo>
                      <a:pt x="396" y="7"/>
                    </a:lnTo>
                    <a:lnTo>
                      <a:pt x="368" y="2"/>
                    </a:lnTo>
                    <a:lnTo>
                      <a:pt x="340" y="0"/>
                    </a:lnTo>
                    <a:lnTo>
                      <a:pt x="312" y="0"/>
                    </a:lnTo>
                    <a:lnTo>
                      <a:pt x="285" y="3"/>
                    </a:lnTo>
                    <a:lnTo>
                      <a:pt x="258" y="10"/>
                    </a:lnTo>
                    <a:lnTo>
                      <a:pt x="232" y="18"/>
                    </a:lnTo>
                    <a:lnTo>
                      <a:pt x="207" y="29"/>
                    </a:lnTo>
                    <a:lnTo>
                      <a:pt x="183" y="43"/>
                    </a:lnTo>
                    <a:lnTo>
                      <a:pt x="159" y="58"/>
                    </a:lnTo>
                    <a:lnTo>
                      <a:pt x="137" y="76"/>
                    </a:lnTo>
                    <a:lnTo>
                      <a:pt x="115" y="97"/>
                    </a:lnTo>
                    <a:lnTo>
                      <a:pt x="96" y="121"/>
                    </a:lnTo>
                    <a:lnTo>
                      <a:pt x="78" y="145"/>
                    </a:lnTo>
                    <a:lnTo>
                      <a:pt x="61" y="173"/>
                    </a:lnTo>
                    <a:lnTo>
                      <a:pt x="46" y="203"/>
                    </a:lnTo>
                    <a:lnTo>
                      <a:pt x="33" y="236"/>
                    </a:lnTo>
                    <a:lnTo>
                      <a:pt x="22" y="270"/>
                    </a:lnTo>
                    <a:lnTo>
                      <a:pt x="14" y="307"/>
                    </a:lnTo>
                    <a:lnTo>
                      <a:pt x="6" y="345"/>
                    </a:lnTo>
                    <a:lnTo>
                      <a:pt x="2" y="387"/>
                    </a:lnTo>
                    <a:lnTo>
                      <a:pt x="0" y="429"/>
                    </a:lnTo>
                    <a:lnTo>
                      <a:pt x="0" y="510"/>
                    </a:lnTo>
                    <a:lnTo>
                      <a:pt x="11" y="584"/>
                    </a:lnTo>
                    <a:lnTo>
                      <a:pt x="29" y="652"/>
                    </a:lnTo>
                    <a:lnTo>
                      <a:pt x="55" y="712"/>
                    </a:lnTo>
                    <a:lnTo>
                      <a:pt x="87" y="765"/>
                    </a:lnTo>
                    <a:lnTo>
                      <a:pt x="126" y="809"/>
                    </a:lnTo>
                    <a:lnTo>
                      <a:pt x="169" y="845"/>
                    </a:lnTo>
                    <a:lnTo>
                      <a:pt x="216" y="871"/>
                    </a:lnTo>
                    <a:lnTo>
                      <a:pt x="267" y="887"/>
                    </a:lnTo>
                    <a:lnTo>
                      <a:pt x="319" y="894"/>
                    </a:lnTo>
                    <a:lnTo>
                      <a:pt x="372" y="889"/>
                    </a:lnTo>
                    <a:lnTo>
                      <a:pt x="426" y="875"/>
                    </a:lnTo>
                    <a:lnTo>
                      <a:pt x="480" y="848"/>
                    </a:lnTo>
                    <a:lnTo>
                      <a:pt x="532" y="809"/>
                    </a:lnTo>
                    <a:lnTo>
                      <a:pt x="582" y="757"/>
                    </a:lnTo>
                    <a:lnTo>
                      <a:pt x="629" y="692"/>
                    </a:lnTo>
                    <a:lnTo>
                      <a:pt x="703" y="684"/>
                    </a:lnTo>
                    <a:lnTo>
                      <a:pt x="781" y="678"/>
                    </a:lnTo>
                    <a:lnTo>
                      <a:pt x="860" y="673"/>
                    </a:lnTo>
                    <a:lnTo>
                      <a:pt x="942" y="669"/>
                    </a:lnTo>
                    <a:lnTo>
                      <a:pt x="1025" y="665"/>
                    </a:lnTo>
                    <a:lnTo>
                      <a:pt x="1110" y="661"/>
                    </a:lnTo>
                    <a:lnTo>
                      <a:pt x="1197" y="659"/>
                    </a:lnTo>
                    <a:lnTo>
                      <a:pt x="1285" y="657"/>
                    </a:lnTo>
                    <a:lnTo>
                      <a:pt x="1375" y="656"/>
                    </a:lnTo>
                    <a:lnTo>
                      <a:pt x="1466" y="655"/>
                    </a:lnTo>
                    <a:lnTo>
                      <a:pt x="1559" y="655"/>
                    </a:lnTo>
                    <a:lnTo>
                      <a:pt x="1652" y="655"/>
                    </a:lnTo>
                    <a:lnTo>
                      <a:pt x="1746" y="655"/>
                    </a:lnTo>
                    <a:lnTo>
                      <a:pt x="1842" y="656"/>
                    </a:lnTo>
                    <a:lnTo>
                      <a:pt x="1938" y="657"/>
                    </a:lnTo>
                    <a:lnTo>
                      <a:pt x="2036" y="658"/>
                    </a:lnTo>
                    <a:lnTo>
                      <a:pt x="2133" y="660"/>
                    </a:lnTo>
                    <a:lnTo>
                      <a:pt x="2230" y="661"/>
                    </a:lnTo>
                    <a:lnTo>
                      <a:pt x="2328" y="664"/>
                    </a:lnTo>
                    <a:lnTo>
                      <a:pt x="2426" y="665"/>
                    </a:lnTo>
                    <a:lnTo>
                      <a:pt x="2525" y="667"/>
                    </a:lnTo>
                    <a:lnTo>
                      <a:pt x="2623" y="668"/>
                    </a:lnTo>
                    <a:lnTo>
                      <a:pt x="2722" y="669"/>
                    </a:lnTo>
                    <a:lnTo>
                      <a:pt x="2819" y="670"/>
                    </a:lnTo>
                    <a:lnTo>
                      <a:pt x="2917" y="671"/>
                    </a:lnTo>
                    <a:lnTo>
                      <a:pt x="3014" y="672"/>
                    </a:lnTo>
                    <a:lnTo>
                      <a:pt x="3111" y="672"/>
                    </a:lnTo>
                    <a:lnTo>
                      <a:pt x="3206" y="672"/>
                    </a:lnTo>
                    <a:lnTo>
                      <a:pt x="3301" y="672"/>
                    </a:lnTo>
                    <a:lnTo>
                      <a:pt x="3395" y="671"/>
                    </a:lnTo>
                    <a:lnTo>
                      <a:pt x="3488" y="670"/>
                    </a:lnTo>
                    <a:lnTo>
                      <a:pt x="3579" y="668"/>
                    </a:lnTo>
                    <a:lnTo>
                      <a:pt x="3617" y="715"/>
                    </a:lnTo>
                    <a:lnTo>
                      <a:pt x="3657" y="755"/>
                    </a:lnTo>
                    <a:lnTo>
                      <a:pt x="3700" y="785"/>
                    </a:lnTo>
                    <a:lnTo>
                      <a:pt x="3743" y="807"/>
                    </a:lnTo>
                    <a:lnTo>
                      <a:pt x="3788" y="819"/>
                    </a:lnTo>
                    <a:lnTo>
                      <a:pt x="3832" y="823"/>
                    </a:lnTo>
                    <a:lnTo>
                      <a:pt x="3876" y="819"/>
                    </a:lnTo>
                    <a:lnTo>
                      <a:pt x="3918" y="807"/>
                    </a:lnTo>
                    <a:lnTo>
                      <a:pt x="3959" y="787"/>
                    </a:lnTo>
                    <a:lnTo>
                      <a:pt x="3996" y="758"/>
                    </a:lnTo>
                    <a:lnTo>
                      <a:pt x="4029" y="722"/>
                    </a:lnTo>
                    <a:lnTo>
                      <a:pt x="4059" y="677"/>
                    </a:lnTo>
                    <a:lnTo>
                      <a:pt x="4083" y="624"/>
                    </a:lnTo>
                    <a:lnTo>
                      <a:pt x="4102" y="564"/>
                    </a:lnTo>
                    <a:lnTo>
                      <a:pt x="4114" y="497"/>
                    </a:lnTo>
                    <a:lnTo>
                      <a:pt x="4120" y="421"/>
                    </a:lnTo>
                    <a:lnTo>
                      <a:pt x="4107" y="332"/>
                    </a:lnTo>
                    <a:lnTo>
                      <a:pt x="4087" y="253"/>
                    </a:lnTo>
                    <a:lnTo>
                      <a:pt x="4059" y="187"/>
                    </a:lnTo>
                    <a:lnTo>
                      <a:pt x="4025" y="131"/>
                    </a:lnTo>
                    <a:lnTo>
                      <a:pt x="3987" y="86"/>
                    </a:lnTo>
                    <a:lnTo>
                      <a:pt x="3944" y="53"/>
                    </a:lnTo>
                    <a:lnTo>
                      <a:pt x="3899" y="30"/>
                    </a:lnTo>
                    <a:lnTo>
                      <a:pt x="3853" y="17"/>
                    </a:lnTo>
                    <a:lnTo>
                      <a:pt x="3806" y="15"/>
                    </a:lnTo>
                    <a:lnTo>
                      <a:pt x="3761" y="23"/>
                    </a:lnTo>
                    <a:lnTo>
                      <a:pt x="3718" y="41"/>
                    </a:lnTo>
                    <a:lnTo>
                      <a:pt x="3678" y="68"/>
                    </a:lnTo>
                    <a:lnTo>
                      <a:pt x="3644" y="104"/>
                    </a:lnTo>
                    <a:lnTo>
                      <a:pt x="3615" y="151"/>
                    </a:lnTo>
                    <a:lnTo>
                      <a:pt x="3593" y="205"/>
                    </a:lnTo>
                    <a:lnTo>
                      <a:pt x="3579" y="27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6767280" y="3566880"/>
                <a:ext cx="271440" cy="231840"/>
              </a:xfrm>
              <a:custGeom>
                <a:avLst/>
                <a:gdLst/>
                <a:ahLst/>
                <a:rect l="l" t="t" r="r" b="b"/>
                <a:pathLst>
                  <a:path w="1026" h="877">
                    <a:moveTo>
                      <a:pt x="871" y="22"/>
                    </a:moveTo>
                    <a:lnTo>
                      <a:pt x="849" y="21"/>
                    </a:lnTo>
                    <a:lnTo>
                      <a:pt x="827" y="20"/>
                    </a:lnTo>
                    <a:lnTo>
                      <a:pt x="806" y="18"/>
                    </a:lnTo>
                    <a:lnTo>
                      <a:pt x="783" y="17"/>
                    </a:lnTo>
                    <a:lnTo>
                      <a:pt x="761" y="16"/>
                    </a:lnTo>
                    <a:lnTo>
                      <a:pt x="739" y="15"/>
                    </a:lnTo>
                    <a:lnTo>
                      <a:pt x="717" y="15"/>
                    </a:lnTo>
                    <a:lnTo>
                      <a:pt x="695" y="14"/>
                    </a:lnTo>
                    <a:lnTo>
                      <a:pt x="673" y="14"/>
                    </a:lnTo>
                    <a:lnTo>
                      <a:pt x="651" y="13"/>
                    </a:lnTo>
                    <a:lnTo>
                      <a:pt x="628" y="13"/>
                    </a:lnTo>
                    <a:lnTo>
                      <a:pt x="607" y="12"/>
                    </a:lnTo>
                    <a:lnTo>
                      <a:pt x="585" y="12"/>
                    </a:lnTo>
                    <a:lnTo>
                      <a:pt x="562" y="11"/>
                    </a:lnTo>
                    <a:lnTo>
                      <a:pt x="540" y="11"/>
                    </a:lnTo>
                    <a:lnTo>
                      <a:pt x="518" y="10"/>
                    </a:lnTo>
                    <a:lnTo>
                      <a:pt x="496" y="10"/>
                    </a:lnTo>
                    <a:lnTo>
                      <a:pt x="474" y="10"/>
                    </a:lnTo>
                    <a:lnTo>
                      <a:pt x="451" y="9"/>
                    </a:lnTo>
                    <a:lnTo>
                      <a:pt x="429" y="9"/>
                    </a:lnTo>
                    <a:lnTo>
                      <a:pt x="407" y="8"/>
                    </a:lnTo>
                    <a:lnTo>
                      <a:pt x="385" y="8"/>
                    </a:lnTo>
                    <a:lnTo>
                      <a:pt x="363" y="7"/>
                    </a:lnTo>
                    <a:lnTo>
                      <a:pt x="341" y="7"/>
                    </a:lnTo>
                    <a:lnTo>
                      <a:pt x="318" y="6"/>
                    </a:lnTo>
                    <a:lnTo>
                      <a:pt x="297" y="6"/>
                    </a:lnTo>
                    <a:lnTo>
                      <a:pt x="275" y="5"/>
                    </a:lnTo>
                    <a:lnTo>
                      <a:pt x="253" y="4"/>
                    </a:lnTo>
                    <a:lnTo>
                      <a:pt x="230" y="3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25" y="6"/>
                    </a:lnTo>
                    <a:lnTo>
                      <a:pt x="91" y="17"/>
                    </a:lnTo>
                    <a:lnTo>
                      <a:pt x="63" y="34"/>
                    </a:lnTo>
                    <a:lnTo>
                      <a:pt x="40" y="57"/>
                    </a:lnTo>
                    <a:lnTo>
                      <a:pt x="23" y="85"/>
                    </a:lnTo>
                    <a:lnTo>
                      <a:pt x="10" y="119"/>
                    </a:lnTo>
                    <a:lnTo>
                      <a:pt x="3" y="158"/>
                    </a:lnTo>
                    <a:lnTo>
                      <a:pt x="0" y="204"/>
                    </a:lnTo>
                    <a:lnTo>
                      <a:pt x="2" y="325"/>
                    </a:lnTo>
                    <a:lnTo>
                      <a:pt x="4" y="446"/>
                    </a:lnTo>
                    <a:lnTo>
                      <a:pt x="5" y="568"/>
                    </a:lnTo>
                    <a:lnTo>
                      <a:pt x="7" y="689"/>
                    </a:lnTo>
                    <a:lnTo>
                      <a:pt x="8" y="723"/>
                    </a:lnTo>
                    <a:lnTo>
                      <a:pt x="10" y="752"/>
                    </a:lnTo>
                    <a:lnTo>
                      <a:pt x="15" y="778"/>
                    </a:lnTo>
                    <a:lnTo>
                      <a:pt x="20" y="800"/>
                    </a:lnTo>
                    <a:lnTo>
                      <a:pt x="27" y="819"/>
                    </a:lnTo>
                    <a:lnTo>
                      <a:pt x="35" y="834"/>
                    </a:lnTo>
                    <a:lnTo>
                      <a:pt x="46" y="848"/>
                    </a:lnTo>
                    <a:lnTo>
                      <a:pt x="58" y="857"/>
                    </a:lnTo>
                    <a:lnTo>
                      <a:pt x="73" y="865"/>
                    </a:lnTo>
                    <a:lnTo>
                      <a:pt x="89" y="870"/>
                    </a:lnTo>
                    <a:lnTo>
                      <a:pt x="108" y="874"/>
                    </a:lnTo>
                    <a:lnTo>
                      <a:pt x="129" y="876"/>
                    </a:lnTo>
                    <a:lnTo>
                      <a:pt x="151" y="877"/>
                    </a:lnTo>
                    <a:lnTo>
                      <a:pt x="177" y="876"/>
                    </a:lnTo>
                    <a:lnTo>
                      <a:pt x="205" y="874"/>
                    </a:lnTo>
                    <a:lnTo>
                      <a:pt x="236" y="872"/>
                    </a:lnTo>
                    <a:lnTo>
                      <a:pt x="274" y="871"/>
                    </a:lnTo>
                    <a:lnTo>
                      <a:pt x="311" y="871"/>
                    </a:lnTo>
                    <a:lnTo>
                      <a:pt x="348" y="870"/>
                    </a:lnTo>
                    <a:lnTo>
                      <a:pt x="387" y="870"/>
                    </a:lnTo>
                    <a:lnTo>
                      <a:pt x="424" y="869"/>
                    </a:lnTo>
                    <a:lnTo>
                      <a:pt x="462" y="869"/>
                    </a:lnTo>
                    <a:lnTo>
                      <a:pt x="501" y="868"/>
                    </a:lnTo>
                    <a:lnTo>
                      <a:pt x="539" y="868"/>
                    </a:lnTo>
                    <a:lnTo>
                      <a:pt x="578" y="867"/>
                    </a:lnTo>
                    <a:lnTo>
                      <a:pt x="616" y="867"/>
                    </a:lnTo>
                    <a:lnTo>
                      <a:pt x="653" y="866"/>
                    </a:lnTo>
                    <a:lnTo>
                      <a:pt x="692" y="866"/>
                    </a:lnTo>
                    <a:lnTo>
                      <a:pt x="729" y="865"/>
                    </a:lnTo>
                    <a:lnTo>
                      <a:pt x="766" y="865"/>
                    </a:lnTo>
                    <a:lnTo>
                      <a:pt x="804" y="864"/>
                    </a:lnTo>
                    <a:lnTo>
                      <a:pt x="841" y="864"/>
                    </a:lnTo>
                    <a:lnTo>
                      <a:pt x="888" y="863"/>
                    </a:lnTo>
                    <a:lnTo>
                      <a:pt x="923" y="858"/>
                    </a:lnTo>
                    <a:lnTo>
                      <a:pt x="950" y="848"/>
                    </a:lnTo>
                    <a:lnTo>
                      <a:pt x="969" y="833"/>
                    </a:lnTo>
                    <a:lnTo>
                      <a:pt x="982" y="812"/>
                    </a:lnTo>
                    <a:lnTo>
                      <a:pt x="989" y="784"/>
                    </a:lnTo>
                    <a:lnTo>
                      <a:pt x="993" y="749"/>
                    </a:lnTo>
                    <a:lnTo>
                      <a:pt x="994" y="705"/>
                    </a:lnTo>
                    <a:lnTo>
                      <a:pt x="997" y="635"/>
                    </a:lnTo>
                    <a:lnTo>
                      <a:pt x="1001" y="571"/>
                    </a:lnTo>
                    <a:lnTo>
                      <a:pt x="1006" y="509"/>
                    </a:lnTo>
                    <a:lnTo>
                      <a:pt x="1011" y="449"/>
                    </a:lnTo>
                    <a:lnTo>
                      <a:pt x="1015" y="388"/>
                    </a:lnTo>
                    <a:lnTo>
                      <a:pt x="1020" y="326"/>
                    </a:lnTo>
                    <a:lnTo>
                      <a:pt x="1023" y="262"/>
                    </a:lnTo>
                    <a:lnTo>
                      <a:pt x="1026" y="193"/>
                    </a:lnTo>
                    <a:lnTo>
                      <a:pt x="1026" y="162"/>
                    </a:lnTo>
                    <a:lnTo>
                      <a:pt x="1022" y="131"/>
                    </a:lnTo>
                    <a:lnTo>
                      <a:pt x="1012" y="103"/>
                    </a:lnTo>
                    <a:lnTo>
                      <a:pt x="995" y="78"/>
                    </a:lnTo>
                    <a:lnTo>
                      <a:pt x="974" y="56"/>
                    </a:lnTo>
                    <a:lnTo>
                      <a:pt x="946" y="38"/>
                    </a:lnTo>
                    <a:lnTo>
                      <a:pt x="911" y="27"/>
                    </a:lnTo>
                    <a:lnTo>
                      <a:pt x="871" y="22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6" name=""/>
            <p:cNvSpPr/>
            <p:nvPr/>
          </p:nvSpPr>
          <p:spPr>
            <a:xfrm>
              <a:off x="6806880" y="3144960"/>
              <a:ext cx="209520" cy="22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7" name="LITBULB3" descr=""/>
          <p:cNvPicPr/>
          <p:nvPr/>
        </p:nvPicPr>
        <p:blipFill>
          <a:blip r:embed="rId1"/>
          <a:stretch/>
        </p:blipFill>
        <p:spPr>
          <a:xfrm>
            <a:off x="1600200" y="2629080"/>
            <a:ext cx="1449360" cy="2361960"/>
          </a:xfrm>
          <a:prstGeom prst="rect">
            <a:avLst/>
          </a:prstGeom>
          <a:ln w="0">
            <a:noFill/>
          </a:ln>
        </p:spPr>
      </p:pic>
      <p:sp>
        <p:nvSpPr>
          <p:cNvPr id="7128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0" name="SEAL20" descr=""/>
          <p:cNvPicPr/>
          <p:nvPr/>
        </p:nvPicPr>
        <p:blipFill>
          <a:blip r:embed="rId1"/>
          <a:stretch/>
        </p:blipFill>
        <p:spPr>
          <a:xfrm>
            <a:off x="1219320" y="2781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131" name="SEAL24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132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4" name=""/>
          <p:cNvGrpSpPr/>
          <p:nvPr/>
        </p:nvGrpSpPr>
        <p:grpSpPr>
          <a:xfrm>
            <a:off x="990720" y="3100320"/>
            <a:ext cx="2600280" cy="1417680"/>
            <a:chOff x="990720" y="3100320"/>
            <a:chExt cx="2600280" cy="1417680"/>
          </a:xfrm>
        </p:grpSpPr>
        <p:sp>
          <p:nvSpPr>
            <p:cNvPr id="7135" name=""/>
            <p:cNvSpPr/>
            <p:nvPr/>
          </p:nvSpPr>
          <p:spPr>
            <a:xfrm>
              <a:off x="990720" y="3100320"/>
              <a:ext cx="260028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1263960" y="3587760"/>
              <a:ext cx="27000" cy="585720"/>
            </a:xfrm>
            <a:custGeom>
              <a:avLst/>
              <a:gdLst/>
              <a:ahLst/>
              <a:rect l="l" t="t" r="r" b="b"/>
              <a:pathLst>
                <a:path w="49" h="1107">
                  <a:moveTo>
                    <a:pt x="0" y="0"/>
                  </a:moveTo>
                  <a:lnTo>
                    <a:pt x="16" y="72"/>
                  </a:lnTo>
                  <a:lnTo>
                    <a:pt x="35" y="123"/>
                  </a:lnTo>
                  <a:lnTo>
                    <a:pt x="49" y="173"/>
                  </a:lnTo>
                  <a:lnTo>
                    <a:pt x="49" y="110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1302120" y="3584520"/>
              <a:ext cx="2000160" cy="8064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1254240" y="3252600"/>
              <a:ext cx="2124360" cy="338040"/>
            </a:xfrm>
            <a:custGeom>
              <a:avLst/>
              <a:gdLst/>
              <a:ahLst/>
              <a:rect l="l" t="t" r="r" b="b"/>
              <a:pathLst>
                <a:path w="4016" h="640">
                  <a:moveTo>
                    <a:pt x="4016" y="640"/>
                  </a:moveTo>
                  <a:lnTo>
                    <a:pt x="3688" y="0"/>
                  </a:lnTo>
                  <a:lnTo>
                    <a:pt x="309" y="10"/>
                  </a:lnTo>
                  <a:lnTo>
                    <a:pt x="0" y="630"/>
                  </a:lnTo>
                  <a:lnTo>
                    <a:pt x="4016" y="64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1949760" y="3830400"/>
              <a:ext cx="3189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2011680" y="3886200"/>
              <a:ext cx="193680" cy="436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249640" y="4035240"/>
              <a:ext cx="10008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316680" y="3590640"/>
              <a:ext cx="29880" cy="801720"/>
            </a:xfrm>
            <a:custGeom>
              <a:avLst/>
              <a:gdLst/>
              <a:ahLst/>
              <a:rect l="l" t="t" r="r" b="b"/>
              <a:pathLst>
                <a:path w="56" h="1514">
                  <a:moveTo>
                    <a:pt x="56" y="0"/>
                  </a:moveTo>
                  <a:lnTo>
                    <a:pt x="38" y="76"/>
                  </a:lnTo>
                  <a:lnTo>
                    <a:pt x="1" y="154"/>
                  </a:lnTo>
                  <a:lnTo>
                    <a:pt x="0" y="151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 flipH="1">
              <a:off x="1410120" y="3274920"/>
              <a:ext cx="180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H="1" flipV="1">
              <a:off x="1391040" y="3313080"/>
              <a:ext cx="184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flipH="1">
              <a:off x="1368360" y="3357360"/>
              <a:ext cx="1887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H="1" flipV="1">
              <a:off x="1349640" y="3396600"/>
              <a:ext cx="1928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 flipH="1" flipV="1">
              <a:off x="1329120" y="3436920"/>
              <a:ext cx="1969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H="1">
              <a:off x="1306800" y="3479760"/>
              <a:ext cx="2014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 flipH="1" flipV="1">
              <a:off x="1290960" y="3514680"/>
              <a:ext cx="2047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 flipH="1" flipV="1">
              <a:off x="1270080" y="3554280"/>
              <a:ext cx="208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295452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299268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311652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98476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3026160" y="3666960"/>
              <a:ext cx="612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99268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11652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3116520" y="3657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11652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116520" y="3673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3116520" y="3681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11652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3116520" y="3697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3116520" y="3705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311652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311652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3116520" y="372888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311652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3116520" y="374472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3116520" y="3752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311652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3116520" y="376848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295452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95452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95452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295452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295452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295452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295452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295452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295452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295452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95452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95452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295452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295452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295452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295452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95452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008440" y="3638520"/>
              <a:ext cx="19224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04660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216864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203868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124360" y="3666960"/>
              <a:ext cx="46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204660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2168640" y="364968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168640" y="36576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168640" y="36655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168640" y="367344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168640" y="368136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168640" y="368928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2168640" y="36972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2168640" y="37051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2168640" y="37116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168640" y="37195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168640" y="372888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2168640" y="373536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2168640" y="374472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2168640" y="375264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2168640" y="37591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2168640" y="376848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200844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200844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200844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200844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200844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200844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200844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200844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200844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00844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200844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00844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200844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00844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200844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200844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2008440" y="3776400"/>
              <a:ext cx="192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152424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156384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168624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155592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1640160" y="3666960"/>
              <a:ext cx="64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156384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168624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1686240" y="3657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168624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1686240" y="3673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1686240" y="3681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68624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1686240" y="3697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1686240" y="3705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168624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168624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1686240" y="37288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168624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1686240" y="374472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1686240" y="3752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168624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1686240" y="37684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152424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524240" y="365580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152424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1524240" y="3671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1524240" y="367956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152424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1524240" y="36957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524240" y="3703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52424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152424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1524240" y="3727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152424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1524240" y="3743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1524240" y="3751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152424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1524240" y="37670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152424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242280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2462400" y="3666960"/>
              <a:ext cx="11448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258300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45304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2494080" y="3666960"/>
              <a:ext cx="64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462400" y="3708360"/>
              <a:ext cx="11448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258300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2583000" y="3657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258300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2583000" y="3673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2583000" y="3681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258300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2583000" y="3697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2583000" y="3705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258300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258300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583000" y="37288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258300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2583000" y="374472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2583000" y="3752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58300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583000" y="37684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42280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242280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242280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42280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242280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242280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242280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242280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242280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242280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242280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42280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242280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242280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242280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42280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242280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2935440" y="3870360"/>
              <a:ext cx="21276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973600" y="3913200"/>
              <a:ext cx="13500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3138840" y="3897360"/>
              <a:ext cx="75960" cy="290520"/>
            </a:xfrm>
            <a:custGeom>
              <a:avLst/>
              <a:gdLst/>
              <a:ahLst/>
              <a:rect l="l" t="t" r="r" b="b"/>
              <a:pathLst>
                <a:path w="145" h="548">
                  <a:moveTo>
                    <a:pt x="0" y="0"/>
                  </a:moveTo>
                  <a:lnTo>
                    <a:pt x="145" y="7"/>
                  </a:lnTo>
                  <a:lnTo>
                    <a:pt x="145" y="548"/>
                  </a:lnTo>
                  <a:lnTo>
                    <a:pt x="0" y="5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 flipH="1" flipV="1">
              <a:off x="3149640" y="390492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 flipV="1">
              <a:off x="3149640" y="391428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 flipH="1" flipV="1">
              <a:off x="3149640" y="392400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 flipH="1" flipV="1">
              <a:off x="3149640" y="393336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 flipV="1">
              <a:off x="3149640" y="3943080"/>
              <a:ext cx="536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 flipV="1">
              <a:off x="3149640" y="395244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H="1" flipV="1">
              <a:off x="3149640" y="3962160"/>
              <a:ext cx="536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 flipH="1" flipV="1">
              <a:off x="3149640" y="3972960"/>
              <a:ext cx="536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 flipH="1" flipV="1">
              <a:off x="3149640" y="398268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 flipH="1" flipV="1">
              <a:off x="3149640" y="399204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 flipH="1" flipV="1">
              <a:off x="3149640" y="4002120"/>
              <a:ext cx="536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 flipH="1" flipV="1">
              <a:off x="3149640" y="401112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 flipH="1" flipV="1">
              <a:off x="3178440" y="405072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H="1" flipV="1">
              <a:off x="3178440" y="405864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H="1" flipV="1">
              <a:off x="3178440" y="406836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H="1" flipV="1">
              <a:off x="3178440" y="407772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H="1" flipV="1">
              <a:off x="3178440" y="408888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 flipH="1" flipV="1">
              <a:off x="3178440" y="409680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8" name=""/>
            <p:cNvGrpSpPr/>
            <p:nvPr/>
          </p:nvGrpSpPr>
          <p:grpSpPr>
            <a:xfrm>
              <a:off x="1516320" y="3857400"/>
              <a:ext cx="1687320" cy="335160"/>
              <a:chOff x="1516320" y="3857400"/>
              <a:chExt cx="1687320" cy="335160"/>
            </a:xfrm>
          </p:grpSpPr>
          <p:sp>
            <p:nvSpPr>
              <p:cNvPr id="7329" name=""/>
              <p:cNvSpPr/>
              <p:nvPr/>
            </p:nvSpPr>
            <p:spPr>
              <a:xfrm flipH="1" flipV="1">
                <a:off x="3178440" y="410688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 flipV="1">
                <a:off x="3178440" y="411804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 flipV="1">
                <a:off x="3178440" y="41259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 flipV="1">
                <a:off x="3178440" y="4134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 flipV="1">
                <a:off x="3178440" y="41443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 flipV="1">
                <a:off x="3178440" y="4154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 flipV="1">
                <a:off x="3178440" y="41634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 flipV="1">
                <a:off x="3178440" y="4173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 flipV="1">
                <a:off x="3146760" y="40474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 flipV="1">
                <a:off x="3146760" y="40575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 flipV="1">
                <a:off x="3146760" y="4065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 flipV="1">
                <a:off x="3146760" y="4076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 flipV="1">
                <a:off x="3146760" y="4085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 flipV="1">
                <a:off x="3146760" y="409572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 flipV="1">
                <a:off x="3146760" y="410472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 flipV="1">
                <a:off x="3146760" y="4114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 flipV="1">
                <a:off x="3146760" y="412380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 flipV="1">
                <a:off x="3146760" y="4133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 flipV="1">
                <a:off x="3146760" y="41432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 flipV="1">
                <a:off x="3146760" y="4150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 flipV="1">
                <a:off x="3146760" y="4160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 flipV="1">
                <a:off x="3146760" y="417132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2870280" y="3898800"/>
                <a:ext cx="76320" cy="290520"/>
              </a:xfrm>
              <a:custGeom>
                <a:avLst/>
                <a:gdLst/>
                <a:ahLst/>
                <a:rect l="l" t="t" r="r" b="b"/>
                <a:pathLst>
                  <a:path w="144" h="550">
                    <a:moveTo>
                      <a:pt x="144" y="0"/>
                    </a:moveTo>
                    <a:lnTo>
                      <a:pt x="0" y="7"/>
                    </a:lnTo>
                    <a:lnTo>
                      <a:pt x="0" y="550"/>
                    </a:lnTo>
                    <a:lnTo>
                      <a:pt x="144" y="543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V="1">
                <a:off x="2881440" y="390636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V="1">
                <a:off x="2881440" y="3915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V="1">
                <a:off x="2881440" y="3925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V="1">
                <a:off x="2881440" y="393516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V="1">
                <a:off x="2881440" y="39445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V="1">
                <a:off x="2881440" y="3954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V="1">
                <a:off x="2881440" y="3963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V="1">
                <a:off x="2881440" y="39729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V="1">
                <a:off x="2881440" y="398268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V="1">
                <a:off x="2881440" y="3994200"/>
                <a:ext cx="540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V="1">
                <a:off x="2881440" y="4003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V="1">
                <a:off x="2881440" y="401256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V="1">
                <a:off x="2881440" y="40507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V="1">
                <a:off x="2881440" y="40604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V="1">
                <a:off x="2881440" y="40698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V="1">
                <a:off x="2881440" y="407988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V="1">
                <a:off x="2881440" y="408888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V="1">
                <a:off x="2881440" y="409896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V="1">
                <a:off x="2881440" y="41079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V="1">
                <a:off x="2881440" y="411804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 flipV="1">
                <a:off x="2881440" y="41270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 flipV="1">
                <a:off x="2881440" y="4136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V="1">
                <a:off x="2881440" y="41461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V="1">
                <a:off x="2881440" y="415548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V="1">
                <a:off x="2881440" y="416556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V="1">
                <a:off x="2881440" y="41745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V="1">
                <a:off x="2911680" y="4049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V="1">
                <a:off x="2911680" y="4058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V="1">
                <a:off x="2911680" y="40683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V="1">
                <a:off x="2911680" y="40777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V="1">
                <a:off x="2911680" y="4087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V="1">
                <a:off x="2911680" y="4096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V="1">
                <a:off x="2911680" y="4106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V="1">
                <a:off x="2911680" y="41158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V="1">
                <a:off x="2911680" y="412596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V="1">
                <a:off x="2911680" y="4134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V="1">
                <a:off x="2911680" y="41443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V="1">
                <a:off x="2911680" y="415440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V="1">
                <a:off x="2911680" y="4163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V="1">
                <a:off x="2911680" y="4173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008520" y="3902040"/>
                <a:ext cx="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3059280" y="3902040"/>
                <a:ext cx="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967120" y="3967200"/>
                <a:ext cx="1479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967120" y="4037040"/>
                <a:ext cx="1479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967120" y="4106880"/>
                <a:ext cx="1479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914920" y="3863880"/>
                <a:ext cx="2491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914920" y="3863880"/>
                <a:ext cx="249120" cy="22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414880" y="3865320"/>
                <a:ext cx="21096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453040" y="3906720"/>
                <a:ext cx="1350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606760" y="3892320"/>
                <a:ext cx="76320" cy="292320"/>
              </a:xfrm>
              <a:custGeom>
                <a:avLst/>
                <a:gdLst/>
                <a:ahLst/>
                <a:rect l="l" t="t" r="r" b="b"/>
                <a:pathLst>
                  <a:path w="143" h="550">
                    <a:moveTo>
                      <a:pt x="0" y="0"/>
                    </a:moveTo>
                    <a:lnTo>
                      <a:pt x="143" y="7"/>
                    </a:lnTo>
                    <a:lnTo>
                      <a:pt x="143" y="550"/>
                    </a:lnTo>
                    <a:lnTo>
                      <a:pt x="0" y="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 flipV="1">
                <a:off x="2617920" y="3900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 flipV="1">
                <a:off x="2617920" y="3909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 flipV="1">
                <a:off x="2617920" y="391932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 flipV="1">
                <a:off x="2617920" y="39301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 flipV="1">
                <a:off x="2617920" y="39380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 flipV="1">
                <a:off x="2617920" y="3949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 flipV="1">
                <a:off x="2617920" y="39571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 flipV="1">
                <a:off x="2617920" y="3966840"/>
                <a:ext cx="5400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 flipV="1">
                <a:off x="2617920" y="397764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 flipV="1">
                <a:off x="2617920" y="39873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 flipV="1">
                <a:off x="2617920" y="3996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 flipV="1">
                <a:off x="2617920" y="4006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 flipV="1">
                <a:off x="2646720" y="404496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 flipV="1">
                <a:off x="2646720" y="4053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 flipV="1">
                <a:off x="2646720" y="406404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 flipV="1">
                <a:off x="2646720" y="4073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 flipV="1">
                <a:off x="2646720" y="40845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 flipV="1">
                <a:off x="2646720" y="4092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 flipV="1">
                <a:off x="2646720" y="41014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 flipV="1">
                <a:off x="2646720" y="41112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 flipV="1">
                <a:off x="2646720" y="41205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 flipV="1">
                <a:off x="2646720" y="41302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 flipV="1">
                <a:off x="2646720" y="41418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 flipV="1">
                <a:off x="2646720" y="41493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 flipV="1">
                <a:off x="2646720" y="41587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 flipV="1">
                <a:off x="2646720" y="416880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 flipV="1">
                <a:off x="2614320" y="404280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 flipV="1">
                <a:off x="2614320" y="405288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 flipV="1">
                <a:off x="2614320" y="40604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 flipV="1">
                <a:off x="2614320" y="407196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 flipV="1">
                <a:off x="2614320" y="40809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 flipV="1">
                <a:off x="2614320" y="409104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 flipV="1">
                <a:off x="2614320" y="410040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 flipV="1">
                <a:off x="2614320" y="4109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 flipV="1">
                <a:off x="2614320" y="411948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 flipV="1">
                <a:off x="2614320" y="412848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 flipV="1">
                <a:off x="2614320" y="4136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 flipV="1">
                <a:off x="2614320" y="41461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 flipV="1">
                <a:off x="2614320" y="415548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 flipV="1">
                <a:off x="2614320" y="416664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2356200" y="3892320"/>
                <a:ext cx="74520" cy="289080"/>
              </a:xfrm>
              <a:custGeom>
                <a:avLst/>
                <a:gdLst/>
                <a:ahLst/>
                <a:rect l="l" t="t" r="r" b="b"/>
                <a:pathLst>
                  <a:path w="143" h="548">
                    <a:moveTo>
                      <a:pt x="143" y="0"/>
                    </a:moveTo>
                    <a:lnTo>
                      <a:pt x="0" y="7"/>
                    </a:lnTo>
                    <a:lnTo>
                      <a:pt x="0" y="548"/>
                    </a:lnTo>
                    <a:lnTo>
                      <a:pt x="143" y="54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V="1">
                <a:off x="2367360" y="389844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V="1">
                <a:off x="2367360" y="390816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V="1">
                <a:off x="2367360" y="3918960"/>
                <a:ext cx="5364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V="1">
                <a:off x="2367360" y="392724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V="1">
                <a:off x="2367360" y="3938040"/>
                <a:ext cx="5364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V="1">
                <a:off x="2367360" y="3948120"/>
                <a:ext cx="5364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V="1">
                <a:off x="2367360" y="395712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V="1">
                <a:off x="2367360" y="396684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V="1">
                <a:off x="2367360" y="397620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V="1">
                <a:off x="2367360" y="398592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V="1">
                <a:off x="2367360" y="399528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V="1">
                <a:off x="2367360" y="400500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V="1">
                <a:off x="2367360" y="4042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V="1">
                <a:off x="2367360" y="4053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V="1">
                <a:off x="2367360" y="40640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V="1">
                <a:off x="2367360" y="407196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V="1">
                <a:off x="2367360" y="4082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V="1">
                <a:off x="2367360" y="409104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V="1">
                <a:off x="2367360" y="410148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V="1">
                <a:off x="2367360" y="41115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V="1">
                <a:off x="2367360" y="41205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V="1">
                <a:off x="2367360" y="41306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V="1">
                <a:off x="2367360" y="4139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V="1">
                <a:off x="2367360" y="414972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V="1">
                <a:off x="2367360" y="4157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V="1">
                <a:off x="2367360" y="416880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V="1">
                <a:off x="2397240" y="404280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V="1">
                <a:off x="2397240" y="405288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V="1">
                <a:off x="2397240" y="4060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V="1">
                <a:off x="2397240" y="40719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V="1">
                <a:off x="2397240" y="4080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V="1">
                <a:off x="2397240" y="40910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V="1">
                <a:off x="2397240" y="410040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V="1">
                <a:off x="2397240" y="4109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V="1">
                <a:off x="2397240" y="411948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V="1">
                <a:off x="2397240" y="412848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V="1">
                <a:off x="2397240" y="4136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V="1">
                <a:off x="2397240" y="4146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V="1">
                <a:off x="2397240" y="41554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V="1">
                <a:off x="2397240" y="416664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2489400" y="3895560"/>
                <a:ext cx="972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2538720" y="3895560"/>
                <a:ext cx="1116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2446560" y="3962160"/>
                <a:ext cx="1476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2446560" y="4030560"/>
                <a:ext cx="1476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2446560" y="4100400"/>
                <a:ext cx="1476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2394360" y="3857400"/>
                <a:ext cx="2491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2394360" y="3857400"/>
                <a:ext cx="249120" cy="22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1516320" y="3865320"/>
                <a:ext cx="21276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1554480" y="3906720"/>
                <a:ext cx="1350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1708560" y="3892320"/>
                <a:ext cx="77760" cy="292320"/>
              </a:xfrm>
              <a:custGeom>
                <a:avLst/>
                <a:gdLst/>
                <a:ahLst/>
                <a:rect l="l" t="t" r="r" b="b"/>
                <a:pathLst>
                  <a:path w="145" h="550">
                    <a:moveTo>
                      <a:pt x="0" y="0"/>
                    </a:moveTo>
                    <a:lnTo>
                      <a:pt x="145" y="7"/>
                    </a:lnTo>
                    <a:lnTo>
                      <a:pt x="145" y="550"/>
                    </a:lnTo>
                    <a:lnTo>
                      <a:pt x="0" y="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 flipV="1">
                <a:off x="1719360" y="3900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 flipV="1">
                <a:off x="1719360" y="3909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 flipV="1">
                <a:off x="1719360" y="391932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 flipV="1">
                <a:off x="1719360" y="39301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 flipV="1">
                <a:off x="1719360" y="39380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 flipV="1">
                <a:off x="1719360" y="3949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 flipV="1">
                <a:off x="1719360" y="39571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 flipV="1">
                <a:off x="1719360" y="3966840"/>
                <a:ext cx="5400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 flipV="1">
                <a:off x="1719360" y="397764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 flipV="1">
                <a:off x="1719360" y="39873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 flipV="1">
                <a:off x="1719360" y="3996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 flipV="1">
                <a:off x="1719360" y="4006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 flipV="1">
                <a:off x="1748160" y="404496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 flipV="1">
                <a:off x="1748160" y="4053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 flipV="1">
                <a:off x="1748160" y="406404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 flipV="1">
                <a:off x="1748160" y="4073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 flipV="1">
                <a:off x="1748160" y="40845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 flipV="1">
                <a:off x="1748160" y="4092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 flipV="1">
                <a:off x="1748160" y="41014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 flipV="1">
                <a:off x="1748160" y="41112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 flipV="1">
                <a:off x="1748160" y="41205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 flipV="1">
                <a:off x="1748160" y="41302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 flipV="1">
                <a:off x="1748160" y="41418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 flipV="1">
                <a:off x="1748160" y="41493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 flipV="1">
                <a:off x="1748160" y="41587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 flipV="1">
                <a:off x="1748160" y="416880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 flipV="1">
                <a:off x="1716480" y="4042800"/>
                <a:ext cx="252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 flipV="1">
                <a:off x="1716480" y="405288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 flipV="1">
                <a:off x="1716480" y="40604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 flipV="1">
                <a:off x="1716480" y="40719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 flipV="1">
                <a:off x="1716480" y="4080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 flipV="1">
                <a:off x="1716480" y="409104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 flipV="1">
                <a:off x="1716480" y="41004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 flipV="1">
                <a:off x="1716480" y="41094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 flipV="1">
                <a:off x="1716480" y="411948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 flipV="1">
                <a:off x="1716480" y="4128480"/>
                <a:ext cx="252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9" name=""/>
            <p:cNvSpPr/>
            <p:nvPr/>
          </p:nvSpPr>
          <p:spPr>
            <a:xfrm flipH="1" flipV="1">
              <a:off x="1716480" y="413640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 flipH="1" flipV="1">
              <a:off x="1716480" y="414612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 flipH="1" flipV="1">
              <a:off x="1716480" y="415548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 flipH="1" flipV="1">
              <a:off x="1716480" y="416664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1457640" y="3892320"/>
              <a:ext cx="75960" cy="289080"/>
            </a:xfrm>
            <a:custGeom>
              <a:avLst/>
              <a:gdLst/>
              <a:ahLst/>
              <a:rect l="l" t="t" r="r" b="b"/>
              <a:pathLst>
                <a:path w="144" h="548">
                  <a:moveTo>
                    <a:pt x="144" y="0"/>
                  </a:moveTo>
                  <a:lnTo>
                    <a:pt x="0" y="7"/>
                  </a:lnTo>
                  <a:lnTo>
                    <a:pt x="0" y="548"/>
                  </a:lnTo>
                  <a:lnTo>
                    <a:pt x="144" y="54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 flipV="1">
              <a:off x="1468800" y="389844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V="1">
              <a:off x="1468800" y="390816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 flipV="1">
              <a:off x="1468800" y="3918960"/>
              <a:ext cx="52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 flipV="1">
              <a:off x="1468800" y="392724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 flipV="1">
              <a:off x="1468800" y="3938040"/>
              <a:ext cx="52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 flipV="1">
              <a:off x="1468800" y="3948120"/>
              <a:ext cx="52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 flipV="1">
              <a:off x="1468800" y="395712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 flipV="1">
              <a:off x="1468800" y="396684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 flipV="1">
              <a:off x="1468800" y="397620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 flipV="1">
              <a:off x="1468800" y="398592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 flipV="1">
              <a:off x="1468800" y="399528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 flipV="1">
              <a:off x="1468800" y="400500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 flipV="1">
              <a:off x="1468800" y="404280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 flipV="1">
              <a:off x="1468800" y="405396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 flipV="1">
              <a:off x="1468800" y="4064040"/>
              <a:ext cx="23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 flipV="1">
              <a:off x="1468800" y="4071960"/>
              <a:ext cx="23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 flipV="1">
              <a:off x="1468800" y="408240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 flipV="1">
              <a:off x="1468800" y="4091040"/>
              <a:ext cx="23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 flipV="1">
              <a:off x="1498680" y="404280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 flipV="1">
              <a:off x="1498680" y="405288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 flipV="1">
              <a:off x="1498680" y="406044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 flipV="1">
              <a:off x="1498680" y="407196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 flipV="1">
              <a:off x="1498680" y="408096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 flipV="1">
              <a:off x="1498680" y="409104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 flipV="1">
              <a:off x="1498680" y="410040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 flipV="1">
              <a:off x="1498680" y="410940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 flipV="1">
              <a:off x="1498680" y="411948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 flipV="1">
              <a:off x="1498680" y="412848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 flipV="1">
              <a:off x="1498680" y="413640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V="1">
              <a:off x="1498680" y="414612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V="1">
              <a:off x="1498680" y="415548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 flipV="1">
              <a:off x="1498680" y="416664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1590840" y="3895560"/>
              <a:ext cx="972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1640160" y="3895560"/>
              <a:ext cx="1116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1548000" y="3962160"/>
              <a:ext cx="1476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1548000" y="4030560"/>
              <a:ext cx="1476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1548000" y="4100400"/>
              <a:ext cx="1476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1495800" y="3857400"/>
              <a:ext cx="249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1495800" y="3857400"/>
              <a:ext cx="249120" cy="22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1943280" y="3816360"/>
              <a:ext cx="33192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1943280" y="3816360"/>
              <a:ext cx="33192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1957680" y="3846240"/>
              <a:ext cx="4932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2208600" y="3846240"/>
              <a:ext cx="4896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2007000" y="3868560"/>
              <a:ext cx="19836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2038680" y="3908160"/>
              <a:ext cx="142920" cy="29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2021040" y="4092480"/>
              <a:ext cx="17136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2021040" y="4114800"/>
              <a:ext cx="17136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2027520" y="4224240"/>
              <a:ext cx="158760" cy="74520"/>
            </a:xfrm>
            <a:prstGeom prst="rect">
              <a:avLst/>
            </a:prstGeom>
            <a:noFill/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1932120" y="4346640"/>
              <a:ext cx="354240" cy="31680"/>
            </a:xfrm>
            <a:custGeom>
              <a:avLst/>
              <a:gdLst/>
              <a:ahLst/>
              <a:rect l="l" t="t" r="r" b="b"/>
              <a:pathLst>
                <a:path w="668" h="61">
                  <a:moveTo>
                    <a:pt x="630" y="0"/>
                  </a:moveTo>
                  <a:lnTo>
                    <a:pt x="668" y="61"/>
                  </a:lnTo>
                  <a:lnTo>
                    <a:pt x="0" y="61"/>
                  </a:lnTo>
                  <a:lnTo>
                    <a:pt x="37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1933920" y="4378320"/>
              <a:ext cx="35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2249640" y="4025880"/>
              <a:ext cx="100080" cy="15840"/>
            </a:xfrm>
            <a:custGeom>
              <a:avLst/>
              <a:gdLst/>
              <a:ahLst/>
              <a:rect l="l" t="t" r="r" b="b"/>
              <a:pathLst>
                <a:path w="189" h="30">
                  <a:moveTo>
                    <a:pt x="189" y="30"/>
                  </a:moveTo>
                  <a:lnTo>
                    <a:pt x="0" y="30"/>
                  </a:lnTo>
                  <a:lnTo>
                    <a:pt x="4" y="0"/>
                  </a:lnTo>
                  <a:lnTo>
                    <a:pt x="184" y="0"/>
                  </a:lnTo>
                  <a:lnTo>
                    <a:pt x="189" y="30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1254240" y="3252600"/>
              <a:ext cx="2124360" cy="338040"/>
            </a:xfrm>
            <a:custGeom>
              <a:avLst/>
              <a:gdLst/>
              <a:ahLst/>
              <a:rect l="l" t="t" r="r" b="b"/>
              <a:pathLst>
                <a:path w="4016" h="640">
                  <a:moveTo>
                    <a:pt x="4016" y="640"/>
                  </a:moveTo>
                  <a:lnTo>
                    <a:pt x="3688" y="0"/>
                  </a:lnTo>
                  <a:lnTo>
                    <a:pt x="309" y="10"/>
                  </a:lnTo>
                  <a:lnTo>
                    <a:pt x="0" y="630"/>
                  </a:lnTo>
                  <a:lnTo>
                    <a:pt x="4016" y="640"/>
                  </a:lnTo>
                  <a:close/>
                </a:path>
              </a:pathLst>
            </a:custGeom>
            <a:noFill/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1600560" y="3106800"/>
              <a:ext cx="64800" cy="410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1495800" y="3106800"/>
              <a:ext cx="64800" cy="410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1432080" y="3274920"/>
              <a:ext cx="281160" cy="46080"/>
            </a:xfrm>
            <a:custGeom>
              <a:avLst/>
              <a:gdLst/>
              <a:ahLst/>
              <a:rect l="l" t="t" r="r" b="b"/>
              <a:pathLst>
                <a:path w="531" h="87">
                  <a:moveTo>
                    <a:pt x="531" y="0"/>
                  </a:moveTo>
                  <a:lnTo>
                    <a:pt x="515" y="87"/>
                  </a:lnTo>
                  <a:lnTo>
                    <a:pt x="0" y="87"/>
                  </a:lnTo>
                  <a:lnTo>
                    <a:pt x="38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1473480" y="3133440"/>
              <a:ext cx="201600" cy="163800"/>
            </a:xfrm>
            <a:prstGeom prst="rect">
              <a:avLst/>
            </a:prstGeom>
            <a:solidFill>
              <a:srgbClr val="cc6633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0" name=""/>
            <p:cNvSpPr/>
            <p:nvPr/>
          </p:nvSpPr>
          <p:spPr>
            <a:xfrm flipH="1">
              <a:off x="1473480" y="313344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1" name=""/>
            <p:cNvSpPr/>
            <p:nvPr/>
          </p:nvSpPr>
          <p:spPr>
            <a:xfrm flipH="1">
              <a:off x="1473480" y="3146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2" name=""/>
            <p:cNvSpPr/>
            <p:nvPr/>
          </p:nvSpPr>
          <p:spPr>
            <a:xfrm flipH="1">
              <a:off x="1473480" y="31590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 flipH="1">
              <a:off x="1473480" y="317160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 flipH="1">
              <a:off x="1473480" y="318276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 flipH="1">
              <a:off x="1473480" y="319536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 flipH="1">
              <a:off x="1473480" y="320832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 flipH="1">
              <a:off x="1473480" y="32194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 flipH="1">
              <a:off x="1473480" y="32320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 flipH="1">
              <a:off x="1473480" y="324468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 flipH="1">
              <a:off x="1473480" y="325728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H="1">
              <a:off x="1473480" y="327024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 flipH="1">
              <a:off x="1473480" y="3281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H="1">
              <a:off x="1473480" y="32940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166536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162900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159264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155592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151956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148284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149400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152892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156564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160200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163692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167508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166536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162900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159264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155592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151956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148284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149400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152892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156384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160200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64016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167508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166536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62900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159264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155592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151956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148284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1494000" y="319536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152748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156240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160200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167508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164016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148284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1519560" y="3208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155592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159084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1629000" y="3208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166536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167508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163872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1603440" y="32209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156240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152424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1494000" y="32209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148284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151956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155592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159084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162756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166392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167508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163872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160524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1563840" y="324648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152424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149256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148284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151956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155592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159084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162756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166392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167364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163872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160524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1563840" y="3270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152424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149256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148284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151956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155592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159084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162756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166392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1249560" y="3584520"/>
              <a:ext cx="2130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3" name=""/>
          <p:cNvGrpSpPr/>
          <p:nvPr/>
        </p:nvGrpSpPr>
        <p:grpSpPr>
          <a:xfrm>
            <a:off x="5791320" y="3116160"/>
            <a:ext cx="2809800" cy="1387440"/>
            <a:chOff x="5791320" y="3116160"/>
            <a:chExt cx="2809800" cy="1387440"/>
          </a:xfrm>
        </p:grpSpPr>
        <p:sp>
          <p:nvSpPr>
            <p:cNvPr id="7684" name=""/>
            <p:cNvSpPr/>
            <p:nvPr/>
          </p:nvSpPr>
          <p:spPr>
            <a:xfrm>
              <a:off x="5791320" y="3116160"/>
              <a:ext cx="280980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178320" y="3808440"/>
              <a:ext cx="28440" cy="172800"/>
            </a:xfrm>
            <a:custGeom>
              <a:avLst/>
              <a:gdLst/>
              <a:ahLst/>
              <a:rect l="l" t="t" r="r" b="b"/>
              <a:pathLst>
                <a:path w="90" h="543">
                  <a:moveTo>
                    <a:pt x="0" y="543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500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4d4d4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6543720" y="3954240"/>
              <a:ext cx="1350360" cy="390600"/>
            </a:xfrm>
            <a:prstGeom prst="rect">
              <a:avLst/>
            </a:prstGeom>
            <a:solidFill>
              <a:srgbClr val="ffff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6502320" y="3868560"/>
              <a:ext cx="1453680" cy="47880"/>
            </a:xfrm>
            <a:custGeom>
              <a:avLst/>
              <a:gdLst/>
              <a:ahLst/>
              <a:rect l="l" t="t" r="r" b="b"/>
              <a:pathLst>
                <a:path w="4578" h="146">
                  <a:moveTo>
                    <a:pt x="0" y="0"/>
                  </a:moveTo>
                  <a:lnTo>
                    <a:pt x="14" y="146"/>
                  </a:lnTo>
                  <a:lnTo>
                    <a:pt x="4578" y="146"/>
                  </a:lnTo>
                  <a:lnTo>
                    <a:pt x="45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581520" y="3881160"/>
              <a:ext cx="1280880" cy="146160"/>
            </a:xfrm>
            <a:custGeom>
              <a:avLst/>
              <a:gdLst/>
              <a:ahLst/>
              <a:rect l="l" t="t" r="r" b="b"/>
              <a:pathLst>
                <a:path w="4033" h="461">
                  <a:moveTo>
                    <a:pt x="266" y="461"/>
                  </a:moveTo>
                  <a:lnTo>
                    <a:pt x="3856" y="461"/>
                  </a:lnTo>
                  <a:lnTo>
                    <a:pt x="4033" y="6"/>
                  </a:lnTo>
                  <a:lnTo>
                    <a:pt x="3640" y="18"/>
                  </a:lnTo>
                  <a:lnTo>
                    <a:pt x="3392" y="19"/>
                  </a:lnTo>
                  <a:lnTo>
                    <a:pt x="3146" y="6"/>
                  </a:lnTo>
                  <a:lnTo>
                    <a:pt x="2830" y="0"/>
                  </a:lnTo>
                  <a:lnTo>
                    <a:pt x="2516" y="12"/>
                  </a:lnTo>
                  <a:lnTo>
                    <a:pt x="2393" y="21"/>
                  </a:lnTo>
                  <a:lnTo>
                    <a:pt x="2264" y="26"/>
                  </a:lnTo>
                  <a:lnTo>
                    <a:pt x="1842" y="37"/>
                  </a:lnTo>
                  <a:lnTo>
                    <a:pt x="1419" y="35"/>
                  </a:lnTo>
                  <a:lnTo>
                    <a:pt x="1057" y="35"/>
                  </a:lnTo>
                  <a:lnTo>
                    <a:pt x="710" y="50"/>
                  </a:lnTo>
                  <a:lnTo>
                    <a:pt x="432" y="51"/>
                  </a:lnTo>
                  <a:lnTo>
                    <a:pt x="215" y="36"/>
                  </a:lnTo>
                  <a:lnTo>
                    <a:pt x="0" y="6"/>
                  </a:lnTo>
                  <a:lnTo>
                    <a:pt x="266" y="461"/>
                  </a:lnTo>
                  <a:close/>
                </a:path>
              </a:pathLst>
            </a:custGeom>
            <a:solidFill>
              <a:srgbClr val="ffff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502320" y="3681360"/>
              <a:ext cx="1453680" cy="187200"/>
            </a:xfrm>
            <a:custGeom>
              <a:avLst/>
              <a:gdLst/>
              <a:ahLst/>
              <a:rect l="l" t="t" r="r" b="b"/>
              <a:pathLst>
                <a:path w="4578" h="590">
                  <a:moveTo>
                    <a:pt x="0" y="16"/>
                  </a:moveTo>
                  <a:lnTo>
                    <a:pt x="0" y="590"/>
                  </a:lnTo>
                  <a:lnTo>
                    <a:pt x="4578" y="590"/>
                  </a:lnTo>
                  <a:lnTo>
                    <a:pt x="457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6703920" y="3767040"/>
              <a:ext cx="7884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6713280" y="3776400"/>
              <a:ext cx="6012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6703920" y="3798720"/>
              <a:ext cx="7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6703920" y="3832200"/>
              <a:ext cx="7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6732360" y="3770280"/>
              <a:ext cx="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675468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6807240" y="3767040"/>
              <a:ext cx="7884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6816600" y="3776400"/>
              <a:ext cx="6012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6807240" y="3798720"/>
              <a:ext cx="7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6807240" y="3832200"/>
              <a:ext cx="7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683568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685800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6910200" y="3767040"/>
              <a:ext cx="7920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6919920" y="3776400"/>
              <a:ext cx="5976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6910200" y="3798720"/>
              <a:ext cx="7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6910200" y="3832200"/>
              <a:ext cx="79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693900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6960960" y="3770280"/>
              <a:ext cx="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7121520" y="3767040"/>
              <a:ext cx="7884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7130880" y="3776400"/>
              <a:ext cx="6012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7121520" y="3798720"/>
              <a:ext cx="7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7121520" y="3832200"/>
              <a:ext cx="7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714996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717228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7229520" y="3767040"/>
              <a:ext cx="7884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7238880" y="3776400"/>
              <a:ext cx="6012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7229520" y="3798720"/>
              <a:ext cx="7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7229520" y="3832200"/>
              <a:ext cx="7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725652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728028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7440480" y="3767040"/>
              <a:ext cx="7920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7449840" y="3776400"/>
              <a:ext cx="6012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7440480" y="3798720"/>
              <a:ext cx="7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7440480" y="3832200"/>
              <a:ext cx="79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7468920" y="3770280"/>
              <a:ext cx="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7491240" y="3770280"/>
              <a:ext cx="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7543800" y="3767040"/>
              <a:ext cx="7884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7553160" y="3776400"/>
              <a:ext cx="6012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7543800" y="3798720"/>
              <a:ext cx="7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7543800" y="3832200"/>
              <a:ext cx="7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757224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759456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7646760" y="3767040"/>
              <a:ext cx="79200" cy="1015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7656480" y="3776400"/>
              <a:ext cx="59760" cy="795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c9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7646760" y="3798720"/>
              <a:ext cx="7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7646760" y="3832200"/>
              <a:ext cx="79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7675560" y="3770280"/>
              <a:ext cx="108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7697520" y="3770280"/>
              <a:ext cx="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6684840" y="3859200"/>
              <a:ext cx="318600" cy="14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7421400" y="3859200"/>
              <a:ext cx="318600" cy="14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7107120" y="3859200"/>
              <a:ext cx="215640" cy="14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6110280" y="4041720"/>
              <a:ext cx="504360" cy="345960"/>
            </a:xfrm>
            <a:custGeom>
              <a:avLst/>
              <a:gdLst/>
              <a:ahLst/>
              <a:rect l="l" t="t" r="r" b="b"/>
              <a:pathLst>
                <a:path w="1589" h="1090">
                  <a:moveTo>
                    <a:pt x="184" y="3"/>
                  </a:moveTo>
                  <a:lnTo>
                    <a:pt x="0" y="39"/>
                  </a:lnTo>
                  <a:lnTo>
                    <a:pt x="5" y="56"/>
                  </a:lnTo>
                  <a:lnTo>
                    <a:pt x="18" y="77"/>
                  </a:lnTo>
                  <a:lnTo>
                    <a:pt x="34" y="94"/>
                  </a:lnTo>
                  <a:lnTo>
                    <a:pt x="58" y="103"/>
                  </a:lnTo>
                  <a:lnTo>
                    <a:pt x="185" y="103"/>
                  </a:lnTo>
                  <a:lnTo>
                    <a:pt x="184" y="1090"/>
                  </a:lnTo>
                  <a:lnTo>
                    <a:pt x="1589" y="1089"/>
                  </a:lnTo>
                  <a:lnTo>
                    <a:pt x="1589" y="0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ffff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6600600" y="3122640"/>
              <a:ext cx="69480" cy="74520"/>
            </a:xfrm>
            <a:custGeom>
              <a:avLst/>
              <a:gdLst/>
              <a:ahLst/>
              <a:rect l="l" t="t" r="r" b="b"/>
              <a:pathLst>
                <a:path w="221" h="236">
                  <a:moveTo>
                    <a:pt x="14" y="15"/>
                  </a:moveTo>
                  <a:lnTo>
                    <a:pt x="0" y="73"/>
                  </a:lnTo>
                  <a:lnTo>
                    <a:pt x="29" y="73"/>
                  </a:lnTo>
                  <a:lnTo>
                    <a:pt x="29" y="236"/>
                  </a:lnTo>
                  <a:lnTo>
                    <a:pt x="177" y="236"/>
                  </a:lnTo>
                  <a:lnTo>
                    <a:pt x="177" y="103"/>
                  </a:lnTo>
                  <a:lnTo>
                    <a:pt x="221" y="87"/>
                  </a:lnTo>
                  <a:lnTo>
                    <a:pt x="207" y="29"/>
                  </a:lnTo>
                  <a:lnTo>
                    <a:pt x="153" y="8"/>
                  </a:lnTo>
                  <a:lnTo>
                    <a:pt x="97" y="0"/>
                  </a:lnTo>
                  <a:lnTo>
                    <a:pt x="41" y="7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b58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6492600" y="3373200"/>
              <a:ext cx="1487160" cy="333360"/>
            </a:xfrm>
            <a:custGeom>
              <a:avLst/>
              <a:gdLst/>
              <a:ahLst/>
              <a:rect l="l" t="t" r="r" b="b"/>
              <a:pathLst>
                <a:path w="4683" h="1047">
                  <a:moveTo>
                    <a:pt x="4683" y="986"/>
                  </a:moveTo>
                  <a:lnTo>
                    <a:pt x="4262" y="999"/>
                  </a:lnTo>
                  <a:lnTo>
                    <a:pt x="4217" y="1003"/>
                  </a:lnTo>
                  <a:lnTo>
                    <a:pt x="3871" y="1032"/>
                  </a:lnTo>
                  <a:lnTo>
                    <a:pt x="3524" y="1047"/>
                  </a:lnTo>
                  <a:lnTo>
                    <a:pt x="3177" y="1046"/>
                  </a:lnTo>
                  <a:lnTo>
                    <a:pt x="2829" y="1029"/>
                  </a:lnTo>
                  <a:lnTo>
                    <a:pt x="2513" y="999"/>
                  </a:lnTo>
                  <a:lnTo>
                    <a:pt x="2195" y="984"/>
                  </a:lnTo>
                  <a:lnTo>
                    <a:pt x="1877" y="983"/>
                  </a:lnTo>
                  <a:lnTo>
                    <a:pt x="1559" y="996"/>
                  </a:lnTo>
                  <a:lnTo>
                    <a:pt x="1518" y="999"/>
                  </a:lnTo>
                  <a:lnTo>
                    <a:pt x="1396" y="1015"/>
                  </a:lnTo>
                  <a:lnTo>
                    <a:pt x="1130" y="1038"/>
                  </a:lnTo>
                  <a:lnTo>
                    <a:pt x="864" y="1045"/>
                  </a:lnTo>
                  <a:lnTo>
                    <a:pt x="598" y="1038"/>
                  </a:lnTo>
                  <a:lnTo>
                    <a:pt x="331" y="1014"/>
                  </a:lnTo>
                  <a:lnTo>
                    <a:pt x="0" y="999"/>
                  </a:lnTo>
                  <a:lnTo>
                    <a:pt x="354" y="18"/>
                  </a:lnTo>
                  <a:lnTo>
                    <a:pt x="636" y="33"/>
                  </a:lnTo>
                  <a:lnTo>
                    <a:pt x="862" y="57"/>
                  </a:lnTo>
                  <a:lnTo>
                    <a:pt x="1089" y="65"/>
                  </a:lnTo>
                  <a:lnTo>
                    <a:pt x="1314" y="57"/>
                  </a:lnTo>
                  <a:lnTo>
                    <a:pt x="1540" y="33"/>
                  </a:lnTo>
                  <a:lnTo>
                    <a:pt x="1645" y="18"/>
                  </a:lnTo>
                  <a:lnTo>
                    <a:pt x="1679" y="14"/>
                  </a:lnTo>
                  <a:lnTo>
                    <a:pt x="1948" y="0"/>
                  </a:lnTo>
                  <a:lnTo>
                    <a:pt x="2219" y="1"/>
                  </a:lnTo>
                  <a:lnTo>
                    <a:pt x="2488" y="18"/>
                  </a:lnTo>
                  <a:lnTo>
                    <a:pt x="2756" y="48"/>
                  </a:lnTo>
                  <a:lnTo>
                    <a:pt x="3050" y="66"/>
                  </a:lnTo>
                  <a:lnTo>
                    <a:pt x="3345" y="66"/>
                  </a:lnTo>
                  <a:lnTo>
                    <a:pt x="3639" y="52"/>
                  </a:lnTo>
                  <a:lnTo>
                    <a:pt x="3933" y="22"/>
                  </a:lnTo>
                  <a:lnTo>
                    <a:pt x="3972" y="18"/>
                  </a:lnTo>
                  <a:lnTo>
                    <a:pt x="4358" y="2"/>
                  </a:lnTo>
                  <a:lnTo>
                    <a:pt x="4683" y="986"/>
                  </a:lnTo>
                  <a:close/>
                </a:path>
              </a:pathLst>
            </a:custGeom>
            <a:solidFill>
              <a:srgbClr val="cc66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6594480" y="3403440"/>
              <a:ext cx="1283760" cy="20520"/>
            </a:xfrm>
            <a:custGeom>
              <a:avLst/>
              <a:gdLst/>
              <a:ahLst/>
              <a:rect l="l" t="t" r="r" b="b"/>
              <a:pathLst>
                <a:path w="4047" h="67">
                  <a:moveTo>
                    <a:pt x="0" y="19"/>
                  </a:moveTo>
                  <a:lnTo>
                    <a:pt x="287" y="33"/>
                  </a:lnTo>
                  <a:lnTo>
                    <a:pt x="517" y="58"/>
                  </a:lnTo>
                  <a:lnTo>
                    <a:pt x="748" y="66"/>
                  </a:lnTo>
                  <a:lnTo>
                    <a:pt x="977" y="58"/>
                  </a:lnTo>
                  <a:lnTo>
                    <a:pt x="1207" y="34"/>
                  </a:lnTo>
                  <a:lnTo>
                    <a:pt x="1314" y="19"/>
                  </a:lnTo>
                  <a:lnTo>
                    <a:pt x="1348" y="17"/>
                  </a:lnTo>
                  <a:lnTo>
                    <a:pt x="1622" y="0"/>
                  </a:lnTo>
                  <a:lnTo>
                    <a:pt x="1898" y="1"/>
                  </a:lnTo>
                  <a:lnTo>
                    <a:pt x="2172" y="19"/>
                  </a:lnTo>
                  <a:lnTo>
                    <a:pt x="2446" y="50"/>
                  </a:lnTo>
                  <a:lnTo>
                    <a:pt x="2745" y="67"/>
                  </a:lnTo>
                  <a:lnTo>
                    <a:pt x="3046" y="67"/>
                  </a:lnTo>
                  <a:lnTo>
                    <a:pt x="3346" y="53"/>
                  </a:lnTo>
                  <a:lnTo>
                    <a:pt x="3645" y="25"/>
                  </a:lnTo>
                  <a:lnTo>
                    <a:pt x="3685" y="19"/>
                  </a:lnTo>
                  <a:lnTo>
                    <a:pt x="4047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6584760" y="3430440"/>
              <a:ext cx="1303200" cy="20520"/>
            </a:xfrm>
            <a:custGeom>
              <a:avLst/>
              <a:gdLst/>
              <a:ahLst/>
              <a:rect l="l" t="t" r="r" b="b"/>
              <a:pathLst>
                <a:path w="4101" h="65">
                  <a:moveTo>
                    <a:pt x="0" y="17"/>
                  </a:moveTo>
                  <a:lnTo>
                    <a:pt x="290" y="33"/>
                  </a:lnTo>
                  <a:lnTo>
                    <a:pt x="523" y="56"/>
                  </a:lnTo>
                  <a:lnTo>
                    <a:pt x="758" y="63"/>
                  </a:lnTo>
                  <a:lnTo>
                    <a:pt x="991" y="56"/>
                  </a:lnTo>
                  <a:lnTo>
                    <a:pt x="1223" y="33"/>
                  </a:lnTo>
                  <a:lnTo>
                    <a:pt x="1330" y="17"/>
                  </a:lnTo>
                  <a:lnTo>
                    <a:pt x="1366" y="15"/>
                  </a:lnTo>
                  <a:lnTo>
                    <a:pt x="1646" y="0"/>
                  </a:lnTo>
                  <a:lnTo>
                    <a:pt x="1924" y="2"/>
                  </a:lnTo>
                  <a:lnTo>
                    <a:pt x="2203" y="17"/>
                  </a:lnTo>
                  <a:lnTo>
                    <a:pt x="2478" y="49"/>
                  </a:lnTo>
                  <a:lnTo>
                    <a:pt x="2781" y="64"/>
                  </a:lnTo>
                  <a:lnTo>
                    <a:pt x="3086" y="65"/>
                  </a:lnTo>
                  <a:lnTo>
                    <a:pt x="3391" y="52"/>
                  </a:lnTo>
                  <a:lnTo>
                    <a:pt x="3693" y="24"/>
                  </a:lnTo>
                  <a:lnTo>
                    <a:pt x="3733" y="17"/>
                  </a:lnTo>
                  <a:lnTo>
                    <a:pt x="4101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6573600" y="3460680"/>
              <a:ext cx="1325160" cy="20520"/>
            </a:xfrm>
            <a:custGeom>
              <a:avLst/>
              <a:gdLst/>
              <a:ahLst/>
              <a:rect l="l" t="t" r="r" b="b"/>
              <a:pathLst>
                <a:path w="4174" h="66">
                  <a:moveTo>
                    <a:pt x="0" y="16"/>
                  </a:moveTo>
                  <a:lnTo>
                    <a:pt x="295" y="32"/>
                  </a:lnTo>
                  <a:lnTo>
                    <a:pt x="533" y="56"/>
                  </a:lnTo>
                  <a:lnTo>
                    <a:pt x="770" y="64"/>
                  </a:lnTo>
                  <a:lnTo>
                    <a:pt x="1007" y="56"/>
                  </a:lnTo>
                  <a:lnTo>
                    <a:pt x="1245" y="33"/>
                  </a:lnTo>
                  <a:lnTo>
                    <a:pt x="1355" y="16"/>
                  </a:lnTo>
                  <a:lnTo>
                    <a:pt x="1390" y="13"/>
                  </a:lnTo>
                  <a:lnTo>
                    <a:pt x="1673" y="0"/>
                  </a:lnTo>
                  <a:lnTo>
                    <a:pt x="1958" y="1"/>
                  </a:lnTo>
                  <a:lnTo>
                    <a:pt x="2241" y="16"/>
                  </a:lnTo>
                  <a:lnTo>
                    <a:pt x="2522" y="49"/>
                  </a:lnTo>
                  <a:lnTo>
                    <a:pt x="2831" y="65"/>
                  </a:lnTo>
                  <a:lnTo>
                    <a:pt x="3142" y="66"/>
                  </a:lnTo>
                  <a:lnTo>
                    <a:pt x="3450" y="52"/>
                  </a:lnTo>
                  <a:lnTo>
                    <a:pt x="3758" y="21"/>
                  </a:lnTo>
                  <a:lnTo>
                    <a:pt x="3798" y="16"/>
                  </a:lnTo>
                  <a:lnTo>
                    <a:pt x="417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6562440" y="3487680"/>
              <a:ext cx="1347480" cy="20520"/>
            </a:xfrm>
            <a:custGeom>
              <a:avLst/>
              <a:gdLst/>
              <a:ahLst/>
              <a:rect l="l" t="t" r="r" b="b"/>
              <a:pathLst>
                <a:path w="4245" h="66">
                  <a:moveTo>
                    <a:pt x="0" y="18"/>
                  </a:moveTo>
                  <a:lnTo>
                    <a:pt x="301" y="32"/>
                  </a:lnTo>
                  <a:lnTo>
                    <a:pt x="542" y="56"/>
                  </a:lnTo>
                  <a:lnTo>
                    <a:pt x="784" y="65"/>
                  </a:lnTo>
                  <a:lnTo>
                    <a:pt x="1025" y="56"/>
                  </a:lnTo>
                  <a:lnTo>
                    <a:pt x="1265" y="33"/>
                  </a:lnTo>
                  <a:lnTo>
                    <a:pt x="1378" y="18"/>
                  </a:lnTo>
                  <a:lnTo>
                    <a:pt x="1415" y="14"/>
                  </a:lnTo>
                  <a:lnTo>
                    <a:pt x="1702" y="0"/>
                  </a:lnTo>
                  <a:lnTo>
                    <a:pt x="1991" y="1"/>
                  </a:lnTo>
                  <a:lnTo>
                    <a:pt x="2278" y="18"/>
                  </a:lnTo>
                  <a:lnTo>
                    <a:pt x="2566" y="48"/>
                  </a:lnTo>
                  <a:lnTo>
                    <a:pt x="2880" y="66"/>
                  </a:lnTo>
                  <a:lnTo>
                    <a:pt x="3195" y="66"/>
                  </a:lnTo>
                  <a:lnTo>
                    <a:pt x="3510" y="51"/>
                  </a:lnTo>
                  <a:lnTo>
                    <a:pt x="3823" y="25"/>
                  </a:lnTo>
                  <a:lnTo>
                    <a:pt x="3866" y="18"/>
                  </a:lnTo>
                  <a:lnTo>
                    <a:pt x="424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6551640" y="3517920"/>
              <a:ext cx="1366200" cy="20520"/>
            </a:xfrm>
            <a:custGeom>
              <a:avLst/>
              <a:gdLst/>
              <a:ahLst/>
              <a:rect l="l" t="t" r="r" b="b"/>
              <a:pathLst>
                <a:path w="4308" h="68">
                  <a:moveTo>
                    <a:pt x="0" y="18"/>
                  </a:moveTo>
                  <a:lnTo>
                    <a:pt x="305" y="33"/>
                  </a:lnTo>
                  <a:lnTo>
                    <a:pt x="550" y="58"/>
                  </a:lnTo>
                  <a:lnTo>
                    <a:pt x="795" y="65"/>
                  </a:lnTo>
                  <a:lnTo>
                    <a:pt x="1040" y="58"/>
                  </a:lnTo>
                  <a:lnTo>
                    <a:pt x="1285" y="34"/>
                  </a:lnTo>
                  <a:lnTo>
                    <a:pt x="1398" y="18"/>
                  </a:lnTo>
                  <a:lnTo>
                    <a:pt x="1435" y="16"/>
                  </a:lnTo>
                  <a:lnTo>
                    <a:pt x="1726" y="0"/>
                  </a:lnTo>
                  <a:lnTo>
                    <a:pt x="2020" y="1"/>
                  </a:lnTo>
                  <a:lnTo>
                    <a:pt x="2313" y="18"/>
                  </a:lnTo>
                  <a:lnTo>
                    <a:pt x="2604" y="50"/>
                  </a:lnTo>
                  <a:lnTo>
                    <a:pt x="2922" y="66"/>
                  </a:lnTo>
                  <a:lnTo>
                    <a:pt x="3242" y="68"/>
                  </a:lnTo>
                  <a:lnTo>
                    <a:pt x="3561" y="52"/>
                  </a:lnTo>
                  <a:lnTo>
                    <a:pt x="3880" y="24"/>
                  </a:lnTo>
                  <a:lnTo>
                    <a:pt x="3922" y="18"/>
                  </a:lnTo>
                  <a:lnTo>
                    <a:pt x="4308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6541920" y="3544920"/>
              <a:ext cx="1388880" cy="20520"/>
            </a:xfrm>
            <a:custGeom>
              <a:avLst/>
              <a:gdLst/>
              <a:ahLst/>
              <a:rect l="l" t="t" r="r" b="b"/>
              <a:pathLst>
                <a:path w="4371" h="67">
                  <a:moveTo>
                    <a:pt x="0" y="17"/>
                  </a:moveTo>
                  <a:lnTo>
                    <a:pt x="309" y="33"/>
                  </a:lnTo>
                  <a:lnTo>
                    <a:pt x="559" y="58"/>
                  </a:lnTo>
                  <a:lnTo>
                    <a:pt x="807" y="64"/>
                  </a:lnTo>
                  <a:lnTo>
                    <a:pt x="1054" y="58"/>
                  </a:lnTo>
                  <a:lnTo>
                    <a:pt x="1302" y="35"/>
                  </a:lnTo>
                  <a:lnTo>
                    <a:pt x="1418" y="17"/>
                  </a:lnTo>
                  <a:lnTo>
                    <a:pt x="1456" y="15"/>
                  </a:lnTo>
                  <a:lnTo>
                    <a:pt x="1752" y="0"/>
                  </a:lnTo>
                  <a:lnTo>
                    <a:pt x="2051" y="2"/>
                  </a:lnTo>
                  <a:lnTo>
                    <a:pt x="2347" y="17"/>
                  </a:lnTo>
                  <a:lnTo>
                    <a:pt x="2641" y="50"/>
                  </a:lnTo>
                  <a:lnTo>
                    <a:pt x="2966" y="65"/>
                  </a:lnTo>
                  <a:lnTo>
                    <a:pt x="3291" y="67"/>
                  </a:lnTo>
                  <a:lnTo>
                    <a:pt x="3614" y="54"/>
                  </a:lnTo>
                  <a:lnTo>
                    <a:pt x="3938" y="24"/>
                  </a:lnTo>
                  <a:lnTo>
                    <a:pt x="3980" y="17"/>
                  </a:lnTo>
                  <a:lnTo>
                    <a:pt x="4371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6530760" y="3574800"/>
              <a:ext cx="1411200" cy="20880"/>
            </a:xfrm>
            <a:custGeom>
              <a:avLst/>
              <a:gdLst/>
              <a:ahLst/>
              <a:rect l="l" t="t" r="r" b="b"/>
              <a:pathLst>
                <a:path w="4443" h="65">
                  <a:moveTo>
                    <a:pt x="0" y="17"/>
                  </a:moveTo>
                  <a:lnTo>
                    <a:pt x="314" y="32"/>
                  </a:lnTo>
                  <a:lnTo>
                    <a:pt x="566" y="56"/>
                  </a:lnTo>
                  <a:lnTo>
                    <a:pt x="819" y="63"/>
                  </a:lnTo>
                  <a:lnTo>
                    <a:pt x="1073" y="56"/>
                  </a:lnTo>
                  <a:lnTo>
                    <a:pt x="1325" y="32"/>
                  </a:lnTo>
                  <a:lnTo>
                    <a:pt x="1442" y="17"/>
                  </a:lnTo>
                  <a:lnTo>
                    <a:pt x="1480" y="13"/>
                  </a:lnTo>
                  <a:lnTo>
                    <a:pt x="1781" y="0"/>
                  </a:lnTo>
                  <a:lnTo>
                    <a:pt x="2083" y="0"/>
                  </a:lnTo>
                  <a:lnTo>
                    <a:pt x="2384" y="17"/>
                  </a:lnTo>
                  <a:lnTo>
                    <a:pt x="2684" y="47"/>
                  </a:lnTo>
                  <a:lnTo>
                    <a:pt x="3014" y="64"/>
                  </a:lnTo>
                  <a:lnTo>
                    <a:pt x="3345" y="65"/>
                  </a:lnTo>
                  <a:lnTo>
                    <a:pt x="3675" y="51"/>
                  </a:lnTo>
                  <a:lnTo>
                    <a:pt x="4003" y="22"/>
                  </a:lnTo>
                  <a:lnTo>
                    <a:pt x="4047" y="17"/>
                  </a:lnTo>
                  <a:lnTo>
                    <a:pt x="444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6519600" y="3601800"/>
              <a:ext cx="1433160" cy="22320"/>
            </a:xfrm>
            <a:custGeom>
              <a:avLst/>
              <a:gdLst/>
              <a:ahLst/>
              <a:rect l="l" t="t" r="r" b="b"/>
              <a:pathLst>
                <a:path w="4517" h="68">
                  <a:moveTo>
                    <a:pt x="0" y="20"/>
                  </a:moveTo>
                  <a:lnTo>
                    <a:pt x="320" y="35"/>
                  </a:lnTo>
                  <a:lnTo>
                    <a:pt x="576" y="58"/>
                  </a:lnTo>
                  <a:lnTo>
                    <a:pt x="835" y="66"/>
                  </a:lnTo>
                  <a:lnTo>
                    <a:pt x="1091" y="58"/>
                  </a:lnTo>
                  <a:lnTo>
                    <a:pt x="1348" y="35"/>
                  </a:lnTo>
                  <a:lnTo>
                    <a:pt x="1466" y="20"/>
                  </a:lnTo>
                  <a:lnTo>
                    <a:pt x="1505" y="15"/>
                  </a:lnTo>
                  <a:lnTo>
                    <a:pt x="1812" y="0"/>
                  </a:lnTo>
                  <a:lnTo>
                    <a:pt x="2119" y="2"/>
                  </a:lnTo>
                  <a:lnTo>
                    <a:pt x="2425" y="20"/>
                  </a:lnTo>
                  <a:lnTo>
                    <a:pt x="2730" y="48"/>
                  </a:lnTo>
                  <a:lnTo>
                    <a:pt x="3064" y="67"/>
                  </a:lnTo>
                  <a:lnTo>
                    <a:pt x="3399" y="68"/>
                  </a:lnTo>
                  <a:lnTo>
                    <a:pt x="3734" y="52"/>
                  </a:lnTo>
                  <a:lnTo>
                    <a:pt x="4068" y="25"/>
                  </a:lnTo>
                  <a:lnTo>
                    <a:pt x="4112" y="20"/>
                  </a:lnTo>
                  <a:lnTo>
                    <a:pt x="4517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6510240" y="3632040"/>
              <a:ext cx="1450440" cy="17640"/>
            </a:xfrm>
            <a:custGeom>
              <a:avLst/>
              <a:gdLst/>
              <a:ahLst/>
              <a:rect l="l" t="t" r="r" b="b"/>
              <a:pathLst>
                <a:path w="4570" h="57">
                  <a:moveTo>
                    <a:pt x="0" y="15"/>
                  </a:moveTo>
                  <a:lnTo>
                    <a:pt x="323" y="29"/>
                  </a:lnTo>
                  <a:lnTo>
                    <a:pt x="583" y="50"/>
                  </a:lnTo>
                  <a:lnTo>
                    <a:pt x="845" y="56"/>
                  </a:lnTo>
                  <a:lnTo>
                    <a:pt x="1104" y="50"/>
                  </a:lnTo>
                  <a:lnTo>
                    <a:pt x="1363" y="30"/>
                  </a:lnTo>
                  <a:lnTo>
                    <a:pt x="1483" y="15"/>
                  </a:lnTo>
                  <a:lnTo>
                    <a:pt x="1523" y="12"/>
                  </a:lnTo>
                  <a:lnTo>
                    <a:pt x="1833" y="0"/>
                  </a:lnTo>
                  <a:lnTo>
                    <a:pt x="2144" y="0"/>
                  </a:lnTo>
                  <a:lnTo>
                    <a:pt x="2456" y="15"/>
                  </a:lnTo>
                  <a:lnTo>
                    <a:pt x="2762" y="44"/>
                  </a:lnTo>
                  <a:lnTo>
                    <a:pt x="3101" y="57"/>
                  </a:lnTo>
                  <a:lnTo>
                    <a:pt x="3440" y="57"/>
                  </a:lnTo>
                  <a:lnTo>
                    <a:pt x="3780" y="47"/>
                  </a:lnTo>
                  <a:lnTo>
                    <a:pt x="4118" y="21"/>
                  </a:lnTo>
                  <a:lnTo>
                    <a:pt x="4162" y="15"/>
                  </a:lnTo>
                  <a:lnTo>
                    <a:pt x="457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6502320" y="3659040"/>
              <a:ext cx="1468080" cy="22320"/>
            </a:xfrm>
            <a:custGeom>
              <a:avLst/>
              <a:gdLst/>
              <a:ahLst/>
              <a:rect l="l" t="t" r="r" b="b"/>
              <a:pathLst>
                <a:path w="4624" h="66">
                  <a:moveTo>
                    <a:pt x="0" y="17"/>
                  </a:moveTo>
                  <a:lnTo>
                    <a:pt x="328" y="32"/>
                  </a:lnTo>
                  <a:lnTo>
                    <a:pt x="589" y="56"/>
                  </a:lnTo>
                  <a:lnTo>
                    <a:pt x="854" y="65"/>
                  </a:lnTo>
                  <a:lnTo>
                    <a:pt x="1117" y="56"/>
                  </a:lnTo>
                  <a:lnTo>
                    <a:pt x="1380" y="32"/>
                  </a:lnTo>
                  <a:lnTo>
                    <a:pt x="1501" y="17"/>
                  </a:lnTo>
                  <a:lnTo>
                    <a:pt x="1542" y="14"/>
                  </a:lnTo>
                  <a:lnTo>
                    <a:pt x="1854" y="0"/>
                  </a:lnTo>
                  <a:lnTo>
                    <a:pt x="2170" y="1"/>
                  </a:lnTo>
                  <a:lnTo>
                    <a:pt x="2483" y="17"/>
                  </a:lnTo>
                  <a:lnTo>
                    <a:pt x="2795" y="49"/>
                  </a:lnTo>
                  <a:lnTo>
                    <a:pt x="3138" y="65"/>
                  </a:lnTo>
                  <a:lnTo>
                    <a:pt x="3481" y="66"/>
                  </a:lnTo>
                  <a:lnTo>
                    <a:pt x="3825" y="50"/>
                  </a:lnTo>
                  <a:lnTo>
                    <a:pt x="4166" y="22"/>
                  </a:lnTo>
                  <a:lnTo>
                    <a:pt x="4211" y="17"/>
                  </a:lnTo>
                  <a:lnTo>
                    <a:pt x="46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6553080" y="3192480"/>
              <a:ext cx="150480" cy="317520"/>
            </a:xfrm>
            <a:custGeom>
              <a:avLst/>
              <a:gdLst/>
              <a:ahLst/>
              <a:rect l="l" t="t" r="r" b="b"/>
              <a:pathLst>
                <a:path w="474" h="1000">
                  <a:moveTo>
                    <a:pt x="0" y="1000"/>
                  </a:moveTo>
                  <a:lnTo>
                    <a:pt x="340" y="1000"/>
                  </a:lnTo>
                  <a:lnTo>
                    <a:pt x="458" y="620"/>
                  </a:lnTo>
                  <a:lnTo>
                    <a:pt x="444" y="340"/>
                  </a:lnTo>
                  <a:lnTo>
                    <a:pt x="458" y="324"/>
                  </a:lnTo>
                  <a:lnTo>
                    <a:pt x="458" y="252"/>
                  </a:lnTo>
                  <a:lnTo>
                    <a:pt x="474" y="252"/>
                  </a:lnTo>
                  <a:lnTo>
                    <a:pt x="458" y="163"/>
                  </a:lnTo>
                  <a:lnTo>
                    <a:pt x="384" y="45"/>
                  </a:lnTo>
                  <a:lnTo>
                    <a:pt x="311" y="0"/>
                  </a:lnTo>
                  <a:lnTo>
                    <a:pt x="193" y="0"/>
                  </a:lnTo>
                  <a:lnTo>
                    <a:pt x="104" y="45"/>
                  </a:lnTo>
                  <a:lnTo>
                    <a:pt x="89" y="163"/>
                  </a:lnTo>
                  <a:lnTo>
                    <a:pt x="104" y="178"/>
                  </a:lnTo>
                  <a:lnTo>
                    <a:pt x="104" y="252"/>
                  </a:lnTo>
                  <a:lnTo>
                    <a:pt x="118" y="280"/>
                  </a:lnTo>
                  <a:lnTo>
                    <a:pt x="104" y="736"/>
                  </a:lnTo>
                  <a:lnTo>
                    <a:pt x="0" y="1000"/>
                  </a:lnTo>
                  <a:close/>
                </a:path>
              </a:pathLst>
            </a:custGeom>
            <a:solidFill>
              <a:srgbClr val="cc66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7759440" y="3159000"/>
              <a:ext cx="158400" cy="355680"/>
            </a:xfrm>
            <a:custGeom>
              <a:avLst/>
              <a:gdLst/>
              <a:ahLst/>
              <a:rect l="l" t="t" r="r" b="b"/>
              <a:pathLst>
                <a:path w="503" h="1119">
                  <a:moveTo>
                    <a:pt x="208" y="16"/>
                  </a:moveTo>
                  <a:lnTo>
                    <a:pt x="208" y="60"/>
                  </a:lnTo>
                  <a:lnTo>
                    <a:pt x="75" y="90"/>
                  </a:lnTo>
                  <a:lnTo>
                    <a:pt x="75" y="134"/>
                  </a:lnTo>
                  <a:lnTo>
                    <a:pt x="0" y="237"/>
                  </a:lnTo>
                  <a:lnTo>
                    <a:pt x="0" y="369"/>
                  </a:lnTo>
                  <a:lnTo>
                    <a:pt x="17" y="383"/>
                  </a:lnTo>
                  <a:lnTo>
                    <a:pt x="17" y="501"/>
                  </a:lnTo>
                  <a:lnTo>
                    <a:pt x="17" y="692"/>
                  </a:lnTo>
                  <a:lnTo>
                    <a:pt x="149" y="1119"/>
                  </a:lnTo>
                  <a:lnTo>
                    <a:pt x="503" y="1103"/>
                  </a:lnTo>
                  <a:lnTo>
                    <a:pt x="401" y="783"/>
                  </a:lnTo>
                  <a:lnTo>
                    <a:pt x="400" y="399"/>
                  </a:lnTo>
                  <a:lnTo>
                    <a:pt x="415" y="383"/>
                  </a:lnTo>
                  <a:lnTo>
                    <a:pt x="415" y="281"/>
                  </a:lnTo>
                  <a:lnTo>
                    <a:pt x="429" y="266"/>
                  </a:lnTo>
                  <a:lnTo>
                    <a:pt x="415" y="134"/>
                  </a:lnTo>
                  <a:lnTo>
                    <a:pt x="371" y="75"/>
                  </a:lnTo>
                  <a:lnTo>
                    <a:pt x="311" y="60"/>
                  </a:lnTo>
                  <a:lnTo>
                    <a:pt x="311" y="1"/>
                  </a:lnTo>
                  <a:lnTo>
                    <a:pt x="267" y="0"/>
                  </a:lnTo>
                  <a:lnTo>
                    <a:pt x="225" y="11"/>
                  </a:lnTo>
                  <a:lnTo>
                    <a:pt x="208" y="16"/>
                  </a:lnTo>
                  <a:close/>
                </a:path>
              </a:pathLst>
            </a:custGeom>
            <a:solidFill>
              <a:srgbClr val="cc99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6600600" y="3211560"/>
              <a:ext cx="69480" cy="241200"/>
            </a:xfrm>
            <a:custGeom>
              <a:avLst/>
              <a:gdLst/>
              <a:ahLst/>
              <a:rect l="l" t="t" r="r" b="b"/>
              <a:pathLst>
                <a:path w="221" h="763">
                  <a:moveTo>
                    <a:pt x="207" y="763"/>
                  </a:moveTo>
                  <a:lnTo>
                    <a:pt x="207" y="219"/>
                  </a:lnTo>
                  <a:lnTo>
                    <a:pt x="207" y="205"/>
                  </a:lnTo>
                  <a:lnTo>
                    <a:pt x="207" y="117"/>
                  </a:lnTo>
                  <a:lnTo>
                    <a:pt x="221" y="117"/>
                  </a:lnTo>
                  <a:lnTo>
                    <a:pt x="22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6615000" y="4039920"/>
              <a:ext cx="122040" cy="346320"/>
            </a:xfrm>
            <a:custGeom>
              <a:avLst/>
              <a:gdLst/>
              <a:ahLst/>
              <a:rect l="l" t="t" r="r" b="b"/>
              <a:pathLst>
                <a:path w="384" h="1090">
                  <a:moveTo>
                    <a:pt x="0" y="1"/>
                  </a:moveTo>
                  <a:lnTo>
                    <a:pt x="0" y="1090"/>
                  </a:lnTo>
                  <a:lnTo>
                    <a:pt x="384" y="1089"/>
                  </a:lnTo>
                  <a:lnTo>
                    <a:pt x="38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6099120" y="3774960"/>
              <a:ext cx="637920" cy="266760"/>
            </a:xfrm>
            <a:custGeom>
              <a:avLst/>
              <a:gdLst/>
              <a:ahLst/>
              <a:rect l="l" t="t" r="r" b="b"/>
              <a:pathLst>
                <a:path w="2010" h="840">
                  <a:moveTo>
                    <a:pt x="2010" y="840"/>
                  </a:moveTo>
                  <a:lnTo>
                    <a:pt x="1418" y="192"/>
                  </a:lnTo>
                  <a:lnTo>
                    <a:pt x="945" y="0"/>
                  </a:lnTo>
                  <a:lnTo>
                    <a:pt x="147" y="810"/>
                  </a:lnTo>
                  <a:lnTo>
                    <a:pt x="0" y="840"/>
                  </a:lnTo>
                  <a:lnTo>
                    <a:pt x="2010" y="840"/>
                  </a:lnTo>
                  <a:close/>
                </a:path>
              </a:pathLst>
            </a:custGeom>
            <a:solidFill>
              <a:srgbClr val="ffff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6615000" y="4060800"/>
              <a:ext cx="1080" cy="326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6459480" y="3789360"/>
              <a:ext cx="277560" cy="252360"/>
            </a:xfrm>
            <a:custGeom>
              <a:avLst/>
              <a:gdLst/>
              <a:ahLst/>
              <a:rect l="l" t="t" r="r" b="b"/>
              <a:pathLst>
                <a:path w="873" h="796">
                  <a:moveTo>
                    <a:pt x="873" y="796"/>
                  </a:moveTo>
                  <a:lnTo>
                    <a:pt x="281" y="148"/>
                  </a:lnTo>
                  <a:lnTo>
                    <a:pt x="0" y="0"/>
                  </a:lnTo>
                  <a:lnTo>
                    <a:pt x="489" y="796"/>
                  </a:lnTo>
                  <a:lnTo>
                    <a:pt x="873" y="796"/>
                  </a:lnTo>
                  <a:close/>
                </a:path>
              </a:pathLst>
            </a:custGeom>
            <a:solidFill>
              <a:srgbClr val="99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6408720" y="3752640"/>
              <a:ext cx="145440" cy="90720"/>
            </a:xfrm>
            <a:custGeom>
              <a:avLst/>
              <a:gdLst/>
              <a:ahLst/>
              <a:rect l="l" t="t" r="r" b="b"/>
              <a:pathLst>
                <a:path w="462" h="286">
                  <a:moveTo>
                    <a:pt x="163" y="161"/>
                  </a:moveTo>
                  <a:lnTo>
                    <a:pt x="462" y="286"/>
                  </a:lnTo>
                  <a:lnTo>
                    <a:pt x="457" y="261"/>
                  </a:lnTo>
                  <a:lnTo>
                    <a:pt x="441" y="236"/>
                  </a:lnTo>
                  <a:lnTo>
                    <a:pt x="417" y="216"/>
                  </a:lnTo>
                  <a:lnTo>
                    <a:pt x="358" y="180"/>
                  </a:lnTo>
                  <a:lnTo>
                    <a:pt x="0" y="0"/>
                  </a:lnTo>
                  <a:lnTo>
                    <a:pt x="163" y="16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6113520" y="3752640"/>
              <a:ext cx="547200" cy="293760"/>
            </a:xfrm>
            <a:custGeom>
              <a:avLst/>
              <a:gdLst/>
              <a:ahLst/>
              <a:rect l="l" t="t" r="r" b="b"/>
              <a:pathLst>
                <a:path w="1727" h="927">
                  <a:moveTo>
                    <a:pt x="1595" y="926"/>
                  </a:moveTo>
                  <a:lnTo>
                    <a:pt x="1595" y="927"/>
                  </a:lnTo>
                  <a:lnTo>
                    <a:pt x="1577" y="907"/>
                  </a:lnTo>
                  <a:lnTo>
                    <a:pt x="1370" y="667"/>
                  </a:lnTo>
                  <a:lnTo>
                    <a:pt x="1175" y="420"/>
                  </a:lnTo>
                  <a:lnTo>
                    <a:pt x="989" y="162"/>
                  </a:lnTo>
                  <a:lnTo>
                    <a:pt x="967" y="136"/>
                  </a:lnTo>
                  <a:lnTo>
                    <a:pt x="936" y="121"/>
                  </a:lnTo>
                  <a:lnTo>
                    <a:pt x="901" y="119"/>
                  </a:lnTo>
                  <a:lnTo>
                    <a:pt x="870" y="132"/>
                  </a:lnTo>
                  <a:lnTo>
                    <a:pt x="844" y="158"/>
                  </a:lnTo>
                  <a:lnTo>
                    <a:pt x="842" y="162"/>
                  </a:lnTo>
                  <a:lnTo>
                    <a:pt x="774" y="248"/>
                  </a:lnTo>
                  <a:lnTo>
                    <a:pt x="622" y="422"/>
                  </a:lnTo>
                  <a:lnTo>
                    <a:pt x="459" y="586"/>
                  </a:lnTo>
                  <a:lnTo>
                    <a:pt x="286" y="740"/>
                  </a:lnTo>
                  <a:lnTo>
                    <a:pt x="103" y="883"/>
                  </a:lnTo>
                  <a:lnTo>
                    <a:pt x="0" y="854"/>
                  </a:lnTo>
                  <a:lnTo>
                    <a:pt x="189" y="697"/>
                  </a:lnTo>
                  <a:lnTo>
                    <a:pt x="370" y="530"/>
                  </a:lnTo>
                  <a:lnTo>
                    <a:pt x="538" y="353"/>
                  </a:lnTo>
                  <a:lnTo>
                    <a:pt x="698" y="167"/>
                  </a:lnTo>
                  <a:lnTo>
                    <a:pt x="769" y="73"/>
                  </a:lnTo>
                  <a:lnTo>
                    <a:pt x="790" y="50"/>
                  </a:lnTo>
                  <a:lnTo>
                    <a:pt x="835" y="20"/>
                  </a:lnTo>
                  <a:lnTo>
                    <a:pt x="887" y="4"/>
                  </a:lnTo>
                  <a:lnTo>
                    <a:pt x="940" y="0"/>
                  </a:lnTo>
                  <a:lnTo>
                    <a:pt x="993" y="12"/>
                  </a:lnTo>
                  <a:lnTo>
                    <a:pt x="1040" y="38"/>
                  </a:lnTo>
                  <a:lnTo>
                    <a:pt x="1078" y="73"/>
                  </a:lnTo>
                  <a:lnTo>
                    <a:pt x="1187" y="254"/>
                  </a:lnTo>
                  <a:lnTo>
                    <a:pt x="1306" y="425"/>
                  </a:lnTo>
                  <a:lnTo>
                    <a:pt x="1438" y="588"/>
                  </a:lnTo>
                  <a:lnTo>
                    <a:pt x="1580" y="740"/>
                  </a:lnTo>
                  <a:lnTo>
                    <a:pt x="1727" y="877"/>
                  </a:lnTo>
                  <a:lnTo>
                    <a:pt x="1595" y="9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6099120" y="4017960"/>
              <a:ext cx="637920" cy="42840"/>
            </a:xfrm>
            <a:custGeom>
              <a:avLst/>
              <a:gdLst/>
              <a:ahLst/>
              <a:rect l="l" t="t" r="r" b="b"/>
              <a:pathLst>
                <a:path w="2010" h="135">
                  <a:moveTo>
                    <a:pt x="1648" y="75"/>
                  </a:moveTo>
                  <a:lnTo>
                    <a:pt x="1672" y="47"/>
                  </a:lnTo>
                  <a:lnTo>
                    <a:pt x="1703" y="32"/>
                  </a:lnTo>
                  <a:lnTo>
                    <a:pt x="1738" y="32"/>
                  </a:lnTo>
                  <a:lnTo>
                    <a:pt x="1770" y="46"/>
                  </a:lnTo>
                  <a:lnTo>
                    <a:pt x="1794" y="72"/>
                  </a:lnTo>
                  <a:lnTo>
                    <a:pt x="2010" y="75"/>
                  </a:lnTo>
                  <a:lnTo>
                    <a:pt x="2010" y="134"/>
                  </a:lnTo>
                  <a:lnTo>
                    <a:pt x="29" y="135"/>
                  </a:lnTo>
                  <a:lnTo>
                    <a:pt x="0" y="104"/>
                  </a:lnTo>
                  <a:lnTo>
                    <a:pt x="0" y="76"/>
                  </a:lnTo>
                  <a:lnTo>
                    <a:pt x="29" y="27"/>
                  </a:lnTo>
                  <a:lnTo>
                    <a:pt x="44" y="17"/>
                  </a:lnTo>
                  <a:lnTo>
                    <a:pt x="50" y="11"/>
                  </a:lnTo>
                  <a:lnTo>
                    <a:pt x="78" y="0"/>
                  </a:lnTo>
                  <a:lnTo>
                    <a:pt x="108" y="3"/>
                  </a:lnTo>
                  <a:lnTo>
                    <a:pt x="133" y="19"/>
                  </a:lnTo>
                  <a:lnTo>
                    <a:pt x="153" y="45"/>
                  </a:lnTo>
                  <a:lnTo>
                    <a:pt x="161" y="75"/>
                  </a:lnTo>
                  <a:lnTo>
                    <a:pt x="1648" y="7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6338880" y="4111560"/>
              <a:ext cx="120240" cy="190440"/>
            </a:xfrm>
            <a:custGeom>
              <a:avLst/>
              <a:gdLst/>
              <a:ahLst/>
              <a:rect l="l" t="t" r="r" b="b"/>
              <a:pathLst>
                <a:path w="377" h="603">
                  <a:moveTo>
                    <a:pt x="0" y="603"/>
                  </a:moveTo>
                  <a:lnTo>
                    <a:pt x="377" y="602"/>
                  </a:lnTo>
                  <a:lnTo>
                    <a:pt x="377" y="73"/>
                  </a:lnTo>
                  <a:lnTo>
                    <a:pt x="324" y="35"/>
                  </a:lnTo>
                  <a:lnTo>
                    <a:pt x="264" y="11"/>
                  </a:lnTo>
                  <a:lnTo>
                    <a:pt x="200" y="0"/>
                  </a:lnTo>
                  <a:lnTo>
                    <a:pt x="134" y="4"/>
                  </a:lnTo>
                  <a:lnTo>
                    <a:pt x="72" y="21"/>
                  </a:lnTo>
                  <a:lnTo>
                    <a:pt x="14" y="53"/>
                  </a:lnTo>
                  <a:lnTo>
                    <a:pt x="0" y="66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cccc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 flipH="1">
              <a:off x="6340320" y="4152960"/>
              <a:ext cx="11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 flipH="1">
              <a:off x="6340320" y="4208400"/>
              <a:ext cx="11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 flipH="1">
              <a:off x="6340320" y="4267080"/>
              <a:ext cx="11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7805520" y="4041720"/>
              <a:ext cx="504720" cy="345960"/>
            </a:xfrm>
            <a:custGeom>
              <a:avLst/>
              <a:gdLst/>
              <a:ahLst/>
              <a:rect l="l" t="t" r="r" b="b"/>
              <a:pathLst>
                <a:path w="1589" h="1090">
                  <a:moveTo>
                    <a:pt x="1406" y="3"/>
                  </a:moveTo>
                  <a:lnTo>
                    <a:pt x="1589" y="39"/>
                  </a:lnTo>
                  <a:lnTo>
                    <a:pt x="1585" y="56"/>
                  </a:lnTo>
                  <a:lnTo>
                    <a:pt x="1572" y="77"/>
                  </a:lnTo>
                  <a:lnTo>
                    <a:pt x="1556" y="94"/>
                  </a:lnTo>
                  <a:lnTo>
                    <a:pt x="1531" y="103"/>
                  </a:lnTo>
                  <a:lnTo>
                    <a:pt x="1404" y="103"/>
                  </a:lnTo>
                  <a:lnTo>
                    <a:pt x="1406" y="1090"/>
                  </a:lnTo>
                  <a:lnTo>
                    <a:pt x="0" y="1089"/>
                  </a:lnTo>
                  <a:lnTo>
                    <a:pt x="0" y="0"/>
                  </a:lnTo>
                  <a:lnTo>
                    <a:pt x="1406" y="3"/>
                  </a:lnTo>
                  <a:close/>
                </a:path>
              </a:pathLst>
            </a:custGeom>
            <a:solidFill>
              <a:srgbClr val="ffff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7683480" y="4039920"/>
              <a:ext cx="121680" cy="346320"/>
            </a:xfrm>
            <a:custGeom>
              <a:avLst/>
              <a:gdLst/>
              <a:ahLst/>
              <a:rect l="l" t="t" r="r" b="b"/>
              <a:pathLst>
                <a:path w="384" h="1090">
                  <a:moveTo>
                    <a:pt x="384" y="1"/>
                  </a:moveTo>
                  <a:lnTo>
                    <a:pt x="384" y="1090"/>
                  </a:lnTo>
                  <a:lnTo>
                    <a:pt x="0" y="1089"/>
                  </a:lnTo>
                  <a:lnTo>
                    <a:pt x="0" y="0"/>
                  </a:lnTo>
                  <a:lnTo>
                    <a:pt x="384" y="1"/>
                  </a:lnTo>
                  <a:close/>
                </a:path>
              </a:pathLst>
            </a:custGeom>
            <a:solidFill>
              <a:srgbClr val="cccc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7683480" y="3774960"/>
              <a:ext cx="637560" cy="266760"/>
            </a:xfrm>
            <a:custGeom>
              <a:avLst/>
              <a:gdLst/>
              <a:ahLst/>
              <a:rect l="l" t="t" r="r" b="b"/>
              <a:pathLst>
                <a:path w="2008" h="840">
                  <a:moveTo>
                    <a:pt x="0" y="840"/>
                  </a:moveTo>
                  <a:lnTo>
                    <a:pt x="590" y="192"/>
                  </a:lnTo>
                  <a:lnTo>
                    <a:pt x="1063" y="0"/>
                  </a:lnTo>
                  <a:lnTo>
                    <a:pt x="1861" y="810"/>
                  </a:lnTo>
                  <a:lnTo>
                    <a:pt x="2008" y="840"/>
                  </a:lnTo>
                  <a:lnTo>
                    <a:pt x="0" y="84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7866000" y="3752640"/>
              <a:ext cx="145800" cy="90720"/>
            </a:xfrm>
            <a:custGeom>
              <a:avLst/>
              <a:gdLst/>
              <a:ahLst/>
              <a:rect l="l" t="t" r="r" b="b"/>
              <a:pathLst>
                <a:path w="461" h="286">
                  <a:moveTo>
                    <a:pt x="298" y="161"/>
                  </a:moveTo>
                  <a:lnTo>
                    <a:pt x="0" y="286"/>
                  </a:lnTo>
                  <a:lnTo>
                    <a:pt x="3" y="261"/>
                  </a:lnTo>
                  <a:lnTo>
                    <a:pt x="20" y="236"/>
                  </a:lnTo>
                  <a:lnTo>
                    <a:pt x="46" y="216"/>
                  </a:lnTo>
                  <a:lnTo>
                    <a:pt x="103" y="180"/>
                  </a:lnTo>
                  <a:lnTo>
                    <a:pt x="461" y="0"/>
                  </a:lnTo>
                  <a:lnTo>
                    <a:pt x="298" y="16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7805520" y="4060800"/>
              <a:ext cx="1440" cy="326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7683480" y="4017960"/>
              <a:ext cx="637560" cy="42840"/>
            </a:xfrm>
            <a:custGeom>
              <a:avLst/>
              <a:gdLst/>
              <a:ahLst/>
              <a:rect l="l" t="t" r="r" b="b"/>
              <a:pathLst>
                <a:path w="2009" h="135">
                  <a:moveTo>
                    <a:pt x="360" y="75"/>
                  </a:moveTo>
                  <a:lnTo>
                    <a:pt x="336" y="47"/>
                  </a:lnTo>
                  <a:lnTo>
                    <a:pt x="306" y="32"/>
                  </a:lnTo>
                  <a:lnTo>
                    <a:pt x="270" y="32"/>
                  </a:lnTo>
                  <a:lnTo>
                    <a:pt x="238" y="46"/>
                  </a:lnTo>
                  <a:lnTo>
                    <a:pt x="216" y="72"/>
                  </a:lnTo>
                  <a:lnTo>
                    <a:pt x="0" y="75"/>
                  </a:lnTo>
                  <a:lnTo>
                    <a:pt x="0" y="134"/>
                  </a:lnTo>
                  <a:lnTo>
                    <a:pt x="1980" y="135"/>
                  </a:lnTo>
                  <a:lnTo>
                    <a:pt x="2009" y="104"/>
                  </a:lnTo>
                  <a:lnTo>
                    <a:pt x="2009" y="76"/>
                  </a:lnTo>
                  <a:lnTo>
                    <a:pt x="1981" y="27"/>
                  </a:lnTo>
                  <a:lnTo>
                    <a:pt x="1965" y="17"/>
                  </a:lnTo>
                  <a:lnTo>
                    <a:pt x="1959" y="11"/>
                  </a:lnTo>
                  <a:lnTo>
                    <a:pt x="1932" y="0"/>
                  </a:lnTo>
                  <a:lnTo>
                    <a:pt x="1902" y="3"/>
                  </a:lnTo>
                  <a:lnTo>
                    <a:pt x="1876" y="19"/>
                  </a:lnTo>
                  <a:lnTo>
                    <a:pt x="1857" y="45"/>
                  </a:lnTo>
                  <a:lnTo>
                    <a:pt x="1849" y="75"/>
                  </a:lnTo>
                  <a:lnTo>
                    <a:pt x="360" y="7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7900920" y="4114800"/>
              <a:ext cx="317160" cy="182520"/>
            </a:xfrm>
            <a:custGeom>
              <a:avLst/>
              <a:gdLst/>
              <a:ahLst/>
              <a:rect l="l" t="t" r="r" b="b"/>
              <a:pathLst>
                <a:path w="1000" h="576">
                  <a:moveTo>
                    <a:pt x="0" y="0"/>
                  </a:moveTo>
                  <a:lnTo>
                    <a:pt x="1000" y="0"/>
                  </a:lnTo>
                  <a:lnTo>
                    <a:pt x="1000" y="78"/>
                  </a:lnTo>
                  <a:lnTo>
                    <a:pt x="927" y="78"/>
                  </a:lnTo>
                  <a:lnTo>
                    <a:pt x="927" y="499"/>
                  </a:lnTo>
                  <a:lnTo>
                    <a:pt x="1000" y="499"/>
                  </a:lnTo>
                  <a:lnTo>
                    <a:pt x="1000" y="576"/>
                  </a:lnTo>
                  <a:lnTo>
                    <a:pt x="0" y="576"/>
                  </a:lnTo>
                  <a:lnTo>
                    <a:pt x="0" y="499"/>
                  </a:lnTo>
                  <a:lnTo>
                    <a:pt x="69" y="499"/>
                  </a:lnTo>
                  <a:lnTo>
                    <a:pt x="68" y="78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3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7947000" y="4140000"/>
              <a:ext cx="59760" cy="1317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977240" y="4140000"/>
              <a:ext cx="28080" cy="28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947000" y="4138560"/>
              <a:ext cx="5832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7947000" y="4167000"/>
              <a:ext cx="583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947000" y="4197240"/>
              <a:ext cx="583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947000" y="4225680"/>
              <a:ext cx="43920" cy="44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7947000" y="4255920"/>
              <a:ext cx="1368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 flipH="1">
              <a:off x="7947000" y="4140000"/>
              <a:ext cx="28080" cy="28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 flipH="1">
              <a:off x="7947000" y="4138560"/>
              <a:ext cx="597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 flipH="1">
              <a:off x="7947000" y="4167000"/>
              <a:ext cx="5976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 flipH="1">
              <a:off x="7947000" y="4197240"/>
              <a:ext cx="5976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 flipH="1">
              <a:off x="7960680" y="4225680"/>
              <a:ext cx="45720" cy="44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 flipH="1">
              <a:off x="7990920" y="4255920"/>
              <a:ext cx="1548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8029440" y="4140000"/>
              <a:ext cx="60120" cy="1317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8059680" y="4140000"/>
              <a:ext cx="28080" cy="28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8029440" y="4138560"/>
              <a:ext cx="5832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8029440" y="4167000"/>
              <a:ext cx="583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8029440" y="4197240"/>
              <a:ext cx="583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8029440" y="4225680"/>
              <a:ext cx="44280" cy="44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8029440" y="4255920"/>
              <a:ext cx="140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 flipH="1">
              <a:off x="8029440" y="4140000"/>
              <a:ext cx="28080" cy="28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 flipH="1">
              <a:off x="8029440" y="4138560"/>
              <a:ext cx="5832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 flipH="1">
              <a:off x="8029440" y="4167000"/>
              <a:ext cx="583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 flipH="1">
              <a:off x="8029440" y="4197240"/>
              <a:ext cx="583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 flipH="1">
              <a:off x="8043840" y="4225680"/>
              <a:ext cx="43920" cy="44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 flipH="1">
              <a:off x="8074080" y="4255920"/>
              <a:ext cx="1368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8111880" y="4140000"/>
              <a:ext cx="60120" cy="13176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8142120" y="4140000"/>
              <a:ext cx="28440" cy="28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8111880" y="4138560"/>
              <a:ext cx="5868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8111880" y="4167000"/>
              <a:ext cx="5868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8111880" y="4197240"/>
              <a:ext cx="5868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8111880" y="4225680"/>
              <a:ext cx="44280" cy="44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8111880" y="4255920"/>
              <a:ext cx="140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 flipH="1">
              <a:off x="8111520" y="4140000"/>
              <a:ext cx="29880" cy="28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 flipH="1">
              <a:off x="8111520" y="4138560"/>
              <a:ext cx="6012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 flipH="1">
              <a:off x="8111520" y="4167000"/>
              <a:ext cx="601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 flipH="1">
              <a:off x="8111520" y="4197240"/>
              <a:ext cx="6012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 flipH="1">
              <a:off x="8125920" y="4225680"/>
              <a:ext cx="45720" cy="44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 flipH="1">
              <a:off x="8156160" y="4255920"/>
              <a:ext cx="1548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6835680" y="3971880"/>
              <a:ext cx="796680" cy="69840"/>
            </a:xfrm>
            <a:prstGeom prst="rect">
              <a:avLst/>
            </a:prstGeom>
            <a:solidFill>
              <a:srgbClr val="4d4d4d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6843600" y="3981240"/>
              <a:ext cx="77904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7923240" y="4140000"/>
              <a:ext cx="272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7923240" y="4275000"/>
              <a:ext cx="272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6773760" y="4093920"/>
              <a:ext cx="248760" cy="125640"/>
            </a:xfrm>
            <a:prstGeom prst="rect">
              <a:avLst/>
            </a:prstGeom>
            <a:solidFill>
              <a:srgbClr val="cccc3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6789600" y="4108320"/>
              <a:ext cx="60120" cy="9828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6821280" y="4106880"/>
              <a:ext cx="298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6789600" y="4106880"/>
              <a:ext cx="615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6789600" y="4127400"/>
              <a:ext cx="615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6789600" y="4151160"/>
              <a:ext cx="615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678960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6789600" y="4194000"/>
              <a:ext cx="154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H="1">
              <a:off x="6790680" y="4106880"/>
              <a:ext cx="2844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 flipH="1">
              <a:off x="6790680" y="4106880"/>
              <a:ext cx="6012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 flipH="1">
              <a:off x="6790680" y="4127400"/>
              <a:ext cx="6012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 flipH="1">
              <a:off x="6790680" y="4151160"/>
              <a:ext cx="6012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 flipH="1">
              <a:off x="680508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H="1">
              <a:off x="6835320" y="4194000"/>
              <a:ext cx="154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867360" y="4108320"/>
              <a:ext cx="60120" cy="9828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899040" y="4106880"/>
              <a:ext cx="2844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6867360" y="4106880"/>
              <a:ext cx="6012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6867360" y="4127400"/>
              <a:ext cx="6012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6867360" y="4151160"/>
              <a:ext cx="6012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686736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6867360" y="4194000"/>
              <a:ext cx="154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H="1">
              <a:off x="6867000" y="4106880"/>
              <a:ext cx="298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H="1">
              <a:off x="6867000" y="4106880"/>
              <a:ext cx="6012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 flipH="1">
              <a:off x="6867000" y="4127400"/>
              <a:ext cx="6012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 flipH="1">
              <a:off x="6867000" y="4151160"/>
              <a:ext cx="6012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 flipH="1">
              <a:off x="6882840" y="4171680"/>
              <a:ext cx="4428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H="1">
              <a:off x="6913080" y="4194000"/>
              <a:ext cx="140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6945120" y="4108320"/>
              <a:ext cx="60120" cy="9828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6976800" y="4106880"/>
              <a:ext cx="298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6945120" y="4106880"/>
              <a:ext cx="615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6945120" y="4127400"/>
              <a:ext cx="615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6945120" y="4151160"/>
              <a:ext cx="615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694512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6945120" y="4194000"/>
              <a:ext cx="154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 flipH="1">
              <a:off x="6946920" y="4106880"/>
              <a:ext cx="280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 flipH="1">
              <a:off x="694692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H="1">
              <a:off x="694692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 flipH="1">
              <a:off x="694692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 flipH="1">
              <a:off x="696060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 flipH="1">
              <a:off x="6990840" y="4194000"/>
              <a:ext cx="154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7431120" y="4093920"/>
              <a:ext cx="246960" cy="125640"/>
            </a:xfrm>
            <a:prstGeom prst="rect">
              <a:avLst/>
            </a:prstGeom>
            <a:solidFill>
              <a:srgbClr val="cccc3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7446960" y="4108320"/>
              <a:ext cx="59760" cy="9828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7476840" y="4106880"/>
              <a:ext cx="298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744696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744696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744696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744696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7446960" y="4194000"/>
              <a:ext cx="136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 flipH="1">
              <a:off x="7446960" y="4106880"/>
              <a:ext cx="2952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 flipH="1">
              <a:off x="744696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 flipH="1">
              <a:off x="744696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 flipH="1">
              <a:off x="744696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746064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 flipH="1">
              <a:off x="7493040" y="4194000"/>
              <a:ext cx="136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7522920" y="4108320"/>
              <a:ext cx="60120" cy="9828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7554960" y="4106880"/>
              <a:ext cx="2952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752472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752472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752472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7524720" y="4171680"/>
              <a:ext cx="439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7524720" y="4194000"/>
              <a:ext cx="136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 flipH="1">
              <a:off x="7524360" y="4106880"/>
              <a:ext cx="298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H="1">
              <a:off x="752472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H="1">
              <a:off x="752472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 flipH="1">
              <a:off x="752472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H="1">
              <a:off x="753840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H="1">
              <a:off x="7568640" y="4194000"/>
              <a:ext cx="154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7600680" y="4108320"/>
              <a:ext cx="61560" cy="98280"/>
            </a:xfrm>
            <a:prstGeom prst="rect">
              <a:avLst/>
            </a:prstGeom>
            <a:solidFill>
              <a:srgbClr val="c9f2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7634160" y="4106880"/>
              <a:ext cx="280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760248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760248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760248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7602480" y="4171680"/>
              <a:ext cx="4572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7602480" y="4194000"/>
              <a:ext cx="140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H="1">
              <a:off x="7602120" y="4106880"/>
              <a:ext cx="298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H="1">
              <a:off x="7602480" y="410688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 flipH="1">
              <a:off x="7602480" y="4127400"/>
              <a:ext cx="59760" cy="4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 flipH="1">
              <a:off x="7602480" y="4151160"/>
              <a:ext cx="5976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flipH="1">
              <a:off x="7616880" y="4171680"/>
              <a:ext cx="4536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 flipH="1">
              <a:off x="7648560" y="4194000"/>
              <a:ext cx="136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7186320" y="4084560"/>
              <a:ext cx="122040" cy="233280"/>
            </a:xfrm>
            <a:prstGeom prst="rect">
              <a:avLst/>
            </a:prstGeom>
            <a:solidFill>
              <a:srgbClr val="cc993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7272360" y="4259160"/>
              <a:ext cx="2484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7235640" y="4259160"/>
              <a:ext cx="2520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7197480" y="4259160"/>
              <a:ext cx="2520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7272360" y="4203720"/>
              <a:ext cx="24840" cy="4428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7235640" y="4203720"/>
              <a:ext cx="25200" cy="4428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7197480" y="4203720"/>
              <a:ext cx="25200" cy="4428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7272360" y="4149720"/>
              <a:ext cx="2484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7235640" y="4149720"/>
              <a:ext cx="2520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7197480" y="4149720"/>
              <a:ext cx="2520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7272360" y="4093920"/>
              <a:ext cx="2484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7235640" y="4093920"/>
              <a:ext cx="2520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7197480" y="4093920"/>
              <a:ext cx="25200" cy="428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7151400" y="4057560"/>
              <a:ext cx="188640" cy="260280"/>
            </a:xfrm>
            <a:custGeom>
              <a:avLst/>
              <a:gdLst/>
              <a:ahLst/>
              <a:rect l="l" t="t" r="r" b="b"/>
              <a:pathLst>
                <a:path w="595" h="820">
                  <a:moveTo>
                    <a:pt x="55" y="818"/>
                  </a:moveTo>
                  <a:lnTo>
                    <a:pt x="55" y="53"/>
                  </a:lnTo>
                  <a:lnTo>
                    <a:pt x="537" y="52"/>
                  </a:lnTo>
                  <a:lnTo>
                    <a:pt x="538" y="820"/>
                  </a:lnTo>
                  <a:lnTo>
                    <a:pt x="595" y="817"/>
                  </a:lnTo>
                  <a:lnTo>
                    <a:pt x="595" y="2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55" y="8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7151400" y="4057560"/>
              <a:ext cx="188640" cy="260280"/>
            </a:xfrm>
            <a:custGeom>
              <a:avLst/>
              <a:gdLst/>
              <a:ahLst/>
              <a:rect l="l" t="t" r="r" b="b"/>
              <a:pathLst>
                <a:path w="595" h="820">
                  <a:moveTo>
                    <a:pt x="55" y="818"/>
                  </a:moveTo>
                  <a:lnTo>
                    <a:pt x="55" y="53"/>
                  </a:lnTo>
                  <a:lnTo>
                    <a:pt x="537" y="52"/>
                  </a:lnTo>
                  <a:lnTo>
                    <a:pt x="538" y="820"/>
                  </a:lnTo>
                  <a:lnTo>
                    <a:pt x="595" y="817"/>
                  </a:lnTo>
                  <a:lnTo>
                    <a:pt x="595" y="2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55" y="818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6878520" y="3987720"/>
              <a:ext cx="29880" cy="34920"/>
            </a:xfrm>
            <a:custGeom>
              <a:avLst/>
              <a:gdLst/>
              <a:ahLst/>
              <a:rect l="l" t="t" r="r" b="b"/>
              <a:pathLst>
                <a:path w="96" h="110">
                  <a:moveTo>
                    <a:pt x="39" y="11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3"/>
                  </a:lnTo>
                  <a:lnTo>
                    <a:pt x="57" y="13"/>
                  </a:lnTo>
                  <a:lnTo>
                    <a:pt x="57" y="110"/>
                  </a:lnTo>
                  <a:lnTo>
                    <a:pt x="39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6914880" y="3987720"/>
              <a:ext cx="28440" cy="3492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1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4"/>
                  </a:lnTo>
                  <a:lnTo>
                    <a:pt x="76" y="44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92" y="110"/>
                  </a:lnTo>
                  <a:lnTo>
                    <a:pt x="76" y="110"/>
                  </a:lnTo>
                  <a:lnTo>
                    <a:pt x="76" y="57"/>
                  </a:lnTo>
                  <a:lnTo>
                    <a:pt x="17" y="57"/>
                  </a:lnTo>
                  <a:lnTo>
                    <a:pt x="1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6953040" y="3987720"/>
              <a:ext cx="28440" cy="3492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0" y="11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3"/>
                  </a:lnTo>
                  <a:lnTo>
                    <a:pt x="16" y="13"/>
                  </a:lnTo>
                  <a:lnTo>
                    <a:pt x="16" y="47"/>
                  </a:lnTo>
                  <a:lnTo>
                    <a:pt x="81" y="47"/>
                  </a:lnTo>
                  <a:lnTo>
                    <a:pt x="81" y="60"/>
                  </a:lnTo>
                  <a:lnTo>
                    <a:pt x="16" y="60"/>
                  </a:lnTo>
                  <a:lnTo>
                    <a:pt x="16" y="98"/>
                  </a:lnTo>
                  <a:lnTo>
                    <a:pt x="88" y="98"/>
                  </a:lnTo>
                  <a:lnTo>
                    <a:pt x="88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7002360" y="3987720"/>
              <a:ext cx="37800" cy="3492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0" y="110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53" y="79"/>
                  </a:lnTo>
                  <a:lnTo>
                    <a:pt x="59" y="94"/>
                  </a:lnTo>
                  <a:lnTo>
                    <a:pt x="64" y="77"/>
                  </a:lnTo>
                  <a:lnTo>
                    <a:pt x="92" y="0"/>
                  </a:lnTo>
                  <a:lnTo>
                    <a:pt x="117" y="0"/>
                  </a:lnTo>
                  <a:lnTo>
                    <a:pt x="117" y="110"/>
                  </a:lnTo>
                  <a:lnTo>
                    <a:pt x="100" y="110"/>
                  </a:lnTo>
                  <a:lnTo>
                    <a:pt x="100" y="16"/>
                  </a:lnTo>
                  <a:lnTo>
                    <a:pt x="67" y="110"/>
                  </a:lnTo>
                  <a:lnTo>
                    <a:pt x="49" y="110"/>
                  </a:lnTo>
                  <a:lnTo>
                    <a:pt x="18" y="16"/>
                  </a:lnTo>
                  <a:lnTo>
                    <a:pt x="18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7061040" y="3987720"/>
              <a:ext cx="17280" cy="3492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63"/>
                  </a:moveTo>
                  <a:lnTo>
                    <a:pt x="0" y="76"/>
                  </a:lnTo>
                  <a:lnTo>
                    <a:pt x="25" y="76"/>
                  </a:lnTo>
                  <a:lnTo>
                    <a:pt x="39" y="110"/>
                  </a:lnTo>
                  <a:lnTo>
                    <a:pt x="55" y="1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9" y="35"/>
                  </a:lnTo>
                  <a:lnTo>
                    <a:pt x="2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7041960" y="3987720"/>
              <a:ext cx="18720" cy="3492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59" y="16"/>
                  </a:moveTo>
                  <a:lnTo>
                    <a:pt x="59" y="0"/>
                  </a:lnTo>
                  <a:lnTo>
                    <a:pt x="51" y="0"/>
                  </a:lnTo>
                  <a:lnTo>
                    <a:pt x="0" y="110"/>
                  </a:lnTo>
                  <a:lnTo>
                    <a:pt x="19" y="110"/>
                  </a:lnTo>
                  <a:lnTo>
                    <a:pt x="33" y="76"/>
                  </a:lnTo>
                  <a:lnTo>
                    <a:pt x="59" y="76"/>
                  </a:lnTo>
                  <a:lnTo>
                    <a:pt x="59" y="63"/>
                  </a:lnTo>
                  <a:lnTo>
                    <a:pt x="39" y="63"/>
                  </a:lnTo>
                  <a:lnTo>
                    <a:pt x="51" y="33"/>
                  </a:lnTo>
                  <a:lnTo>
                    <a:pt x="58" y="13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7099200" y="3987720"/>
              <a:ext cx="15480" cy="34920"/>
            </a:xfrm>
            <a:custGeom>
              <a:avLst/>
              <a:gdLst/>
              <a:ahLst/>
              <a:rect l="l" t="t" r="r" b="b"/>
              <a:pathLst>
                <a:path w="54" h="110">
                  <a:moveTo>
                    <a:pt x="0" y="48"/>
                  </a:moveTo>
                  <a:lnTo>
                    <a:pt x="0" y="64"/>
                  </a:lnTo>
                  <a:lnTo>
                    <a:pt x="4" y="66"/>
                  </a:lnTo>
                  <a:lnTo>
                    <a:pt x="11" y="73"/>
                  </a:lnTo>
                  <a:lnTo>
                    <a:pt x="21" y="88"/>
                  </a:lnTo>
                  <a:lnTo>
                    <a:pt x="35" y="110"/>
                  </a:lnTo>
                  <a:lnTo>
                    <a:pt x="54" y="110"/>
                  </a:lnTo>
                  <a:lnTo>
                    <a:pt x="35" y="81"/>
                  </a:lnTo>
                  <a:lnTo>
                    <a:pt x="22" y="66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39" y="49"/>
                  </a:lnTo>
                  <a:lnTo>
                    <a:pt x="46" y="31"/>
                  </a:lnTo>
                  <a:lnTo>
                    <a:pt x="40" y="14"/>
                  </a:lnTo>
                  <a:lnTo>
                    <a:pt x="28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25" y="18"/>
                  </a:lnTo>
                  <a:lnTo>
                    <a:pt x="30" y="31"/>
                  </a:lnTo>
                  <a:lnTo>
                    <a:pt x="26" y="40"/>
                  </a:lnTo>
                  <a:lnTo>
                    <a:pt x="18" y="47"/>
                  </a:lnTo>
                  <a:lnTo>
                    <a:pt x="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7083360" y="3987720"/>
              <a:ext cx="15480" cy="34920"/>
            </a:xfrm>
            <a:custGeom>
              <a:avLst/>
              <a:gdLst/>
              <a:ahLst/>
              <a:rect l="l" t="t" r="r" b="b"/>
              <a:pathLst>
                <a:path w="46" h="110">
                  <a:moveTo>
                    <a:pt x="46" y="13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7" y="110"/>
                  </a:lnTo>
                  <a:lnTo>
                    <a:pt x="17" y="61"/>
                  </a:lnTo>
                  <a:lnTo>
                    <a:pt x="32" y="61"/>
                  </a:lnTo>
                  <a:lnTo>
                    <a:pt x="42" y="62"/>
                  </a:lnTo>
                  <a:lnTo>
                    <a:pt x="46" y="64"/>
                  </a:lnTo>
                  <a:lnTo>
                    <a:pt x="46" y="48"/>
                  </a:lnTo>
                  <a:lnTo>
                    <a:pt x="17" y="48"/>
                  </a:lnTo>
                  <a:lnTo>
                    <a:pt x="17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7138800" y="3987720"/>
              <a:ext cx="17280" cy="38160"/>
            </a:xfrm>
            <a:custGeom>
              <a:avLst/>
              <a:gdLst/>
              <a:ahLst/>
              <a:rect l="l" t="t" r="r" b="b"/>
              <a:pathLst>
                <a:path w="58" h="122">
                  <a:moveTo>
                    <a:pt x="0" y="102"/>
                  </a:moveTo>
                  <a:lnTo>
                    <a:pt x="0" y="115"/>
                  </a:lnTo>
                  <a:lnTo>
                    <a:pt x="29" y="109"/>
                  </a:lnTo>
                  <a:lnTo>
                    <a:pt x="53" y="122"/>
                  </a:lnTo>
                  <a:lnTo>
                    <a:pt x="58" y="111"/>
                  </a:lnTo>
                  <a:lnTo>
                    <a:pt x="39" y="101"/>
                  </a:lnTo>
                  <a:lnTo>
                    <a:pt x="37" y="101"/>
                  </a:lnTo>
                  <a:lnTo>
                    <a:pt x="51" y="83"/>
                  </a:lnTo>
                  <a:lnTo>
                    <a:pt x="57" y="57"/>
                  </a:lnTo>
                  <a:lnTo>
                    <a:pt x="50" y="27"/>
                  </a:lnTo>
                  <a:lnTo>
                    <a:pt x="29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1" y="18"/>
                  </a:lnTo>
                  <a:lnTo>
                    <a:pt x="36" y="33"/>
                  </a:lnTo>
                  <a:lnTo>
                    <a:pt x="39" y="57"/>
                  </a:lnTo>
                  <a:lnTo>
                    <a:pt x="36" y="78"/>
                  </a:lnTo>
                  <a:lnTo>
                    <a:pt x="25" y="94"/>
                  </a:lnTo>
                  <a:lnTo>
                    <a:pt x="4" y="8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4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7119720" y="3986280"/>
              <a:ext cx="18720" cy="37800"/>
            </a:xfrm>
            <a:custGeom>
              <a:avLst/>
              <a:gdLst/>
              <a:ahLst/>
              <a:rect l="l" t="t" r="r" b="b"/>
              <a:pathLst>
                <a:path w="56" h="116">
                  <a:moveTo>
                    <a:pt x="56" y="14"/>
                  </a:moveTo>
                  <a:lnTo>
                    <a:pt x="56" y="1"/>
                  </a:lnTo>
                  <a:lnTo>
                    <a:pt x="56" y="0"/>
                  </a:lnTo>
                  <a:lnTo>
                    <a:pt x="27" y="8"/>
                  </a:lnTo>
                  <a:lnTo>
                    <a:pt x="7" y="30"/>
                  </a:lnTo>
                  <a:lnTo>
                    <a:pt x="0" y="58"/>
                  </a:lnTo>
                  <a:lnTo>
                    <a:pt x="7" y="89"/>
                  </a:lnTo>
                  <a:lnTo>
                    <a:pt x="15" y="101"/>
                  </a:lnTo>
                  <a:lnTo>
                    <a:pt x="27" y="109"/>
                  </a:lnTo>
                  <a:lnTo>
                    <a:pt x="56" y="116"/>
                  </a:lnTo>
                  <a:lnTo>
                    <a:pt x="56" y="116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41" y="99"/>
                  </a:lnTo>
                  <a:lnTo>
                    <a:pt x="28" y="91"/>
                  </a:lnTo>
                  <a:lnTo>
                    <a:pt x="20" y="77"/>
                  </a:lnTo>
                  <a:lnTo>
                    <a:pt x="17" y="58"/>
                  </a:lnTo>
                  <a:lnTo>
                    <a:pt x="20" y="38"/>
                  </a:lnTo>
                  <a:lnTo>
                    <a:pt x="28" y="24"/>
                  </a:lnTo>
                  <a:lnTo>
                    <a:pt x="56" y="13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164360" y="3987720"/>
              <a:ext cx="28080" cy="3636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75" y="0"/>
                  </a:moveTo>
                  <a:lnTo>
                    <a:pt x="92" y="0"/>
                  </a:lnTo>
                  <a:lnTo>
                    <a:pt x="92" y="64"/>
                  </a:lnTo>
                  <a:lnTo>
                    <a:pt x="92" y="80"/>
                  </a:lnTo>
                  <a:lnTo>
                    <a:pt x="88" y="92"/>
                  </a:lnTo>
                  <a:lnTo>
                    <a:pt x="74" y="106"/>
                  </a:lnTo>
                  <a:lnTo>
                    <a:pt x="61" y="110"/>
                  </a:lnTo>
                  <a:lnTo>
                    <a:pt x="46" y="113"/>
                  </a:lnTo>
                  <a:lnTo>
                    <a:pt x="17" y="107"/>
                  </a:lnTo>
                  <a:lnTo>
                    <a:pt x="9" y="101"/>
                  </a:lnTo>
                  <a:lnTo>
                    <a:pt x="3" y="92"/>
                  </a:lnTo>
                  <a:lnTo>
                    <a:pt x="0" y="6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4"/>
                  </a:lnTo>
                  <a:lnTo>
                    <a:pt x="17" y="85"/>
                  </a:lnTo>
                  <a:lnTo>
                    <a:pt x="28" y="95"/>
                  </a:lnTo>
                  <a:lnTo>
                    <a:pt x="45" y="99"/>
                  </a:lnTo>
                  <a:lnTo>
                    <a:pt x="59" y="96"/>
                  </a:lnTo>
                  <a:lnTo>
                    <a:pt x="67" y="92"/>
                  </a:lnTo>
                  <a:lnTo>
                    <a:pt x="73" y="81"/>
                  </a:lnTo>
                  <a:lnTo>
                    <a:pt x="75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7202520" y="3987720"/>
              <a:ext cx="5760" cy="34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7215120" y="3986280"/>
              <a:ext cx="29880" cy="3780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0" y="76"/>
                  </a:moveTo>
                  <a:lnTo>
                    <a:pt x="18" y="76"/>
                  </a:lnTo>
                  <a:lnTo>
                    <a:pt x="22" y="91"/>
                  </a:lnTo>
                  <a:lnTo>
                    <a:pt x="32" y="99"/>
                  </a:lnTo>
                  <a:lnTo>
                    <a:pt x="50" y="103"/>
                  </a:lnTo>
                  <a:lnTo>
                    <a:pt x="64" y="101"/>
                  </a:lnTo>
                  <a:lnTo>
                    <a:pt x="75" y="95"/>
                  </a:lnTo>
                  <a:lnTo>
                    <a:pt x="78" y="84"/>
                  </a:lnTo>
                  <a:lnTo>
                    <a:pt x="76" y="76"/>
                  </a:lnTo>
                  <a:lnTo>
                    <a:pt x="67" y="69"/>
                  </a:lnTo>
                  <a:lnTo>
                    <a:pt x="46" y="64"/>
                  </a:lnTo>
                  <a:lnTo>
                    <a:pt x="22" y="56"/>
                  </a:lnTo>
                  <a:lnTo>
                    <a:pt x="11" y="45"/>
                  </a:lnTo>
                  <a:lnTo>
                    <a:pt x="6" y="32"/>
                  </a:lnTo>
                  <a:lnTo>
                    <a:pt x="11" y="17"/>
                  </a:lnTo>
                  <a:lnTo>
                    <a:pt x="25" y="5"/>
                  </a:lnTo>
                  <a:lnTo>
                    <a:pt x="46" y="0"/>
                  </a:lnTo>
                  <a:lnTo>
                    <a:pt x="71" y="5"/>
                  </a:lnTo>
                  <a:lnTo>
                    <a:pt x="85" y="17"/>
                  </a:lnTo>
                  <a:lnTo>
                    <a:pt x="92" y="34"/>
                  </a:lnTo>
                  <a:lnTo>
                    <a:pt x="76" y="34"/>
                  </a:lnTo>
                  <a:lnTo>
                    <a:pt x="74" y="25"/>
                  </a:lnTo>
                  <a:lnTo>
                    <a:pt x="68" y="19"/>
                  </a:lnTo>
                  <a:lnTo>
                    <a:pt x="49" y="13"/>
                  </a:lnTo>
                  <a:lnTo>
                    <a:pt x="29" y="19"/>
                  </a:lnTo>
                  <a:lnTo>
                    <a:pt x="22" y="31"/>
                  </a:lnTo>
                  <a:lnTo>
                    <a:pt x="25" y="40"/>
                  </a:lnTo>
                  <a:lnTo>
                    <a:pt x="49" y="47"/>
                  </a:lnTo>
                  <a:lnTo>
                    <a:pt x="75" y="56"/>
                  </a:lnTo>
                  <a:lnTo>
                    <a:pt x="89" y="66"/>
                  </a:lnTo>
                  <a:lnTo>
                    <a:pt x="96" y="84"/>
                  </a:lnTo>
                  <a:lnTo>
                    <a:pt x="89" y="99"/>
                  </a:lnTo>
                  <a:lnTo>
                    <a:pt x="75" y="111"/>
                  </a:lnTo>
                  <a:lnTo>
                    <a:pt x="50" y="116"/>
                  </a:lnTo>
                  <a:lnTo>
                    <a:pt x="25" y="111"/>
                  </a:lnTo>
                  <a:lnTo>
                    <a:pt x="15" y="105"/>
                  </a:lnTo>
                  <a:lnTo>
                    <a:pt x="7" y="97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7284960" y="3987720"/>
              <a:ext cx="16920" cy="3636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0" y="102"/>
                  </a:moveTo>
                  <a:lnTo>
                    <a:pt x="0" y="115"/>
                  </a:lnTo>
                  <a:lnTo>
                    <a:pt x="14" y="112"/>
                  </a:lnTo>
                  <a:lnTo>
                    <a:pt x="28" y="108"/>
                  </a:lnTo>
                  <a:lnTo>
                    <a:pt x="41" y="100"/>
                  </a:lnTo>
                  <a:lnTo>
                    <a:pt x="49" y="88"/>
                  </a:lnTo>
                  <a:lnTo>
                    <a:pt x="55" y="74"/>
                  </a:lnTo>
                  <a:lnTo>
                    <a:pt x="56" y="57"/>
                  </a:lnTo>
                  <a:lnTo>
                    <a:pt x="55" y="42"/>
                  </a:lnTo>
                  <a:lnTo>
                    <a:pt x="49" y="27"/>
                  </a:lnTo>
                  <a:lnTo>
                    <a:pt x="41" y="16"/>
                  </a:lnTo>
                  <a:lnTo>
                    <a:pt x="28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0" y="18"/>
                  </a:lnTo>
                  <a:lnTo>
                    <a:pt x="35" y="35"/>
                  </a:lnTo>
                  <a:lnTo>
                    <a:pt x="41" y="57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15" y="9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7265880" y="3986280"/>
              <a:ext cx="18720" cy="37800"/>
            </a:xfrm>
            <a:custGeom>
              <a:avLst/>
              <a:gdLst/>
              <a:ahLst/>
              <a:rect l="l" t="t" r="r" b="b"/>
              <a:pathLst>
                <a:path w="58" h="116">
                  <a:moveTo>
                    <a:pt x="58" y="14"/>
                  </a:moveTo>
                  <a:lnTo>
                    <a:pt x="58" y="1"/>
                  </a:lnTo>
                  <a:lnTo>
                    <a:pt x="56" y="0"/>
                  </a:lnTo>
                  <a:lnTo>
                    <a:pt x="35" y="5"/>
                  </a:lnTo>
                  <a:lnTo>
                    <a:pt x="16" y="17"/>
                  </a:lnTo>
                  <a:lnTo>
                    <a:pt x="5" y="36"/>
                  </a:lnTo>
                  <a:lnTo>
                    <a:pt x="0" y="59"/>
                  </a:lnTo>
                  <a:lnTo>
                    <a:pt x="7" y="88"/>
                  </a:lnTo>
                  <a:lnTo>
                    <a:pt x="15" y="99"/>
                  </a:lnTo>
                  <a:lnTo>
                    <a:pt x="28" y="108"/>
                  </a:lnTo>
                  <a:lnTo>
                    <a:pt x="56" y="116"/>
                  </a:lnTo>
                  <a:lnTo>
                    <a:pt x="58" y="116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41" y="99"/>
                  </a:lnTo>
                  <a:lnTo>
                    <a:pt x="28" y="91"/>
                  </a:lnTo>
                  <a:lnTo>
                    <a:pt x="20" y="77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20" y="38"/>
                  </a:lnTo>
                  <a:lnTo>
                    <a:pt x="28" y="24"/>
                  </a:lnTo>
                  <a:lnTo>
                    <a:pt x="56" y="13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7310160" y="3987720"/>
              <a:ext cx="25200" cy="3492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0" y="110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3"/>
                  </a:lnTo>
                  <a:lnTo>
                    <a:pt x="16" y="13"/>
                  </a:lnTo>
                  <a:lnTo>
                    <a:pt x="16" y="47"/>
                  </a:lnTo>
                  <a:lnTo>
                    <a:pt x="71" y="47"/>
                  </a:lnTo>
                  <a:lnTo>
                    <a:pt x="71" y="60"/>
                  </a:lnTo>
                  <a:lnTo>
                    <a:pt x="16" y="60"/>
                  </a:lnTo>
                  <a:lnTo>
                    <a:pt x="16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7354800" y="3986280"/>
              <a:ext cx="36000" cy="37800"/>
            </a:xfrm>
            <a:custGeom>
              <a:avLst/>
              <a:gdLst/>
              <a:ahLst/>
              <a:rect l="l" t="t" r="r" b="b"/>
              <a:pathLst>
                <a:path w="113" h="116">
                  <a:moveTo>
                    <a:pt x="62" y="71"/>
                  </a:moveTo>
                  <a:lnTo>
                    <a:pt x="62" y="58"/>
                  </a:lnTo>
                  <a:lnTo>
                    <a:pt x="113" y="58"/>
                  </a:lnTo>
                  <a:lnTo>
                    <a:pt x="113" y="98"/>
                  </a:lnTo>
                  <a:lnTo>
                    <a:pt x="88" y="111"/>
                  </a:lnTo>
                  <a:lnTo>
                    <a:pt x="62" y="116"/>
                  </a:lnTo>
                  <a:lnTo>
                    <a:pt x="30" y="109"/>
                  </a:lnTo>
                  <a:lnTo>
                    <a:pt x="17" y="101"/>
                  </a:lnTo>
                  <a:lnTo>
                    <a:pt x="7" y="89"/>
                  </a:lnTo>
                  <a:lnTo>
                    <a:pt x="0" y="58"/>
                  </a:lnTo>
                  <a:lnTo>
                    <a:pt x="7" y="28"/>
                  </a:lnTo>
                  <a:lnTo>
                    <a:pt x="28" y="8"/>
                  </a:lnTo>
                  <a:lnTo>
                    <a:pt x="60" y="0"/>
                  </a:lnTo>
                  <a:lnTo>
                    <a:pt x="85" y="5"/>
                  </a:lnTo>
                  <a:lnTo>
                    <a:pt x="100" y="16"/>
                  </a:lnTo>
                  <a:lnTo>
                    <a:pt x="110" y="34"/>
                  </a:lnTo>
                  <a:lnTo>
                    <a:pt x="95" y="38"/>
                  </a:lnTo>
                  <a:lnTo>
                    <a:pt x="88" y="25"/>
                  </a:lnTo>
                  <a:lnTo>
                    <a:pt x="78" y="17"/>
                  </a:lnTo>
                  <a:lnTo>
                    <a:pt x="60" y="13"/>
                  </a:lnTo>
                  <a:lnTo>
                    <a:pt x="42" y="17"/>
                  </a:lnTo>
                  <a:lnTo>
                    <a:pt x="28" y="25"/>
                  </a:lnTo>
                  <a:lnTo>
                    <a:pt x="21" y="36"/>
                  </a:lnTo>
                  <a:lnTo>
                    <a:pt x="17" y="58"/>
                  </a:lnTo>
                  <a:lnTo>
                    <a:pt x="21" y="84"/>
                  </a:lnTo>
                  <a:lnTo>
                    <a:pt x="39" y="97"/>
                  </a:lnTo>
                  <a:lnTo>
                    <a:pt x="60" y="103"/>
                  </a:lnTo>
                  <a:lnTo>
                    <a:pt x="81" y="99"/>
                  </a:lnTo>
                  <a:lnTo>
                    <a:pt x="95" y="92"/>
                  </a:lnTo>
                  <a:lnTo>
                    <a:pt x="95" y="71"/>
                  </a:lnTo>
                  <a:lnTo>
                    <a:pt x="62" y="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7413480" y="3987720"/>
              <a:ext cx="17280" cy="34920"/>
            </a:xfrm>
            <a:custGeom>
              <a:avLst/>
              <a:gdLst/>
              <a:ahLst/>
              <a:rect l="l" t="t" r="r" b="b"/>
              <a:pathLst>
                <a:path w="54" h="110">
                  <a:moveTo>
                    <a:pt x="0" y="48"/>
                  </a:moveTo>
                  <a:lnTo>
                    <a:pt x="0" y="64"/>
                  </a:lnTo>
                  <a:lnTo>
                    <a:pt x="3" y="66"/>
                  </a:lnTo>
                  <a:lnTo>
                    <a:pt x="11" y="73"/>
                  </a:lnTo>
                  <a:lnTo>
                    <a:pt x="21" y="88"/>
                  </a:lnTo>
                  <a:lnTo>
                    <a:pt x="35" y="110"/>
                  </a:lnTo>
                  <a:lnTo>
                    <a:pt x="54" y="110"/>
                  </a:lnTo>
                  <a:lnTo>
                    <a:pt x="35" y="81"/>
                  </a:lnTo>
                  <a:lnTo>
                    <a:pt x="22" y="66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39" y="49"/>
                  </a:lnTo>
                  <a:lnTo>
                    <a:pt x="46" y="31"/>
                  </a:lnTo>
                  <a:lnTo>
                    <a:pt x="40" y="14"/>
                  </a:lnTo>
                  <a:lnTo>
                    <a:pt x="28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25" y="18"/>
                  </a:lnTo>
                  <a:lnTo>
                    <a:pt x="29" y="31"/>
                  </a:lnTo>
                  <a:lnTo>
                    <a:pt x="26" y="40"/>
                  </a:lnTo>
                  <a:lnTo>
                    <a:pt x="18" y="47"/>
                  </a:lnTo>
                  <a:lnTo>
                    <a:pt x="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7399080" y="3987720"/>
              <a:ext cx="14040" cy="34920"/>
            </a:xfrm>
            <a:custGeom>
              <a:avLst/>
              <a:gdLst/>
              <a:ahLst/>
              <a:rect l="l" t="t" r="r" b="b"/>
              <a:pathLst>
                <a:path w="46" h="110">
                  <a:moveTo>
                    <a:pt x="46" y="13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6" y="110"/>
                  </a:lnTo>
                  <a:lnTo>
                    <a:pt x="16" y="61"/>
                  </a:lnTo>
                  <a:lnTo>
                    <a:pt x="32" y="61"/>
                  </a:lnTo>
                  <a:lnTo>
                    <a:pt x="42" y="62"/>
                  </a:lnTo>
                  <a:lnTo>
                    <a:pt x="46" y="64"/>
                  </a:lnTo>
                  <a:lnTo>
                    <a:pt x="46" y="48"/>
                  </a:lnTo>
                  <a:lnTo>
                    <a:pt x="16" y="48"/>
                  </a:lnTo>
                  <a:lnTo>
                    <a:pt x="1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7449840" y="3987720"/>
              <a:ext cx="17280" cy="3492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63"/>
                  </a:moveTo>
                  <a:lnTo>
                    <a:pt x="0" y="76"/>
                  </a:lnTo>
                  <a:lnTo>
                    <a:pt x="24" y="76"/>
                  </a:lnTo>
                  <a:lnTo>
                    <a:pt x="39" y="110"/>
                  </a:lnTo>
                  <a:lnTo>
                    <a:pt x="55" y="1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9" y="35"/>
                  </a:lnTo>
                  <a:lnTo>
                    <a:pt x="2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7432560" y="3987720"/>
              <a:ext cx="16920" cy="3492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59" y="16"/>
                  </a:moveTo>
                  <a:lnTo>
                    <a:pt x="59" y="0"/>
                  </a:lnTo>
                  <a:lnTo>
                    <a:pt x="50" y="0"/>
                  </a:lnTo>
                  <a:lnTo>
                    <a:pt x="0" y="110"/>
                  </a:lnTo>
                  <a:lnTo>
                    <a:pt x="19" y="110"/>
                  </a:lnTo>
                  <a:lnTo>
                    <a:pt x="33" y="76"/>
                  </a:lnTo>
                  <a:lnTo>
                    <a:pt x="59" y="76"/>
                  </a:lnTo>
                  <a:lnTo>
                    <a:pt x="59" y="63"/>
                  </a:lnTo>
                  <a:lnTo>
                    <a:pt x="39" y="63"/>
                  </a:lnTo>
                  <a:lnTo>
                    <a:pt x="50" y="33"/>
                  </a:lnTo>
                  <a:lnTo>
                    <a:pt x="57" y="13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7473960" y="3987720"/>
              <a:ext cx="28080" cy="3492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1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75" y="85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92" y="110"/>
                  </a:lnTo>
                  <a:lnTo>
                    <a:pt x="74" y="110"/>
                  </a:lnTo>
                  <a:lnTo>
                    <a:pt x="16" y="27"/>
                  </a:lnTo>
                  <a:lnTo>
                    <a:pt x="16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7526160" y="3987720"/>
              <a:ext cx="14040" cy="34920"/>
            </a:xfrm>
            <a:custGeom>
              <a:avLst/>
              <a:gdLst/>
              <a:ahLst/>
              <a:rect l="l" t="t" r="r" b="b"/>
              <a:pathLst>
                <a:path w="47" h="110">
                  <a:moveTo>
                    <a:pt x="0" y="98"/>
                  </a:moveTo>
                  <a:lnTo>
                    <a:pt x="0" y="110"/>
                  </a:lnTo>
                  <a:lnTo>
                    <a:pt x="3" y="110"/>
                  </a:lnTo>
                  <a:lnTo>
                    <a:pt x="22" y="108"/>
                  </a:lnTo>
                  <a:lnTo>
                    <a:pt x="36" y="103"/>
                  </a:lnTo>
                  <a:lnTo>
                    <a:pt x="43" y="94"/>
                  </a:lnTo>
                  <a:lnTo>
                    <a:pt x="47" y="79"/>
                  </a:lnTo>
                  <a:lnTo>
                    <a:pt x="41" y="61"/>
                  </a:lnTo>
                  <a:lnTo>
                    <a:pt x="26" y="51"/>
                  </a:lnTo>
                  <a:lnTo>
                    <a:pt x="38" y="42"/>
                  </a:lnTo>
                  <a:lnTo>
                    <a:pt x="43" y="29"/>
                  </a:lnTo>
                  <a:lnTo>
                    <a:pt x="38" y="14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" y="15"/>
                  </a:lnTo>
                  <a:lnTo>
                    <a:pt x="23" y="20"/>
                  </a:lnTo>
                  <a:lnTo>
                    <a:pt x="26" y="29"/>
                  </a:lnTo>
                  <a:lnTo>
                    <a:pt x="26" y="36"/>
                  </a:lnTo>
                  <a:lnTo>
                    <a:pt x="22" y="40"/>
                  </a:lnTo>
                  <a:lnTo>
                    <a:pt x="14" y="44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9" y="61"/>
                  </a:lnTo>
                  <a:lnTo>
                    <a:pt x="27" y="68"/>
                  </a:lnTo>
                  <a:lnTo>
                    <a:pt x="30" y="79"/>
                  </a:lnTo>
                  <a:lnTo>
                    <a:pt x="29" y="88"/>
                  </a:lnTo>
                  <a:lnTo>
                    <a:pt x="22" y="94"/>
                  </a:lnTo>
                  <a:lnTo>
                    <a:pt x="14" y="98"/>
                  </a:lnTo>
                  <a:lnTo>
                    <a:pt x="3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7511760" y="3987720"/>
              <a:ext cx="14040" cy="34920"/>
            </a:xfrm>
            <a:custGeom>
              <a:avLst/>
              <a:gdLst/>
              <a:ahLst/>
              <a:rect l="l" t="t" r="r" b="b"/>
              <a:pathLst>
                <a:path w="42" h="110">
                  <a:moveTo>
                    <a:pt x="42" y="14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42" y="110"/>
                  </a:lnTo>
                  <a:lnTo>
                    <a:pt x="42" y="98"/>
                  </a:lnTo>
                  <a:lnTo>
                    <a:pt x="17" y="98"/>
                  </a:lnTo>
                  <a:lnTo>
                    <a:pt x="17" y="59"/>
                  </a:lnTo>
                  <a:lnTo>
                    <a:pt x="42" y="59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17" y="46"/>
                  </a:lnTo>
                  <a:lnTo>
                    <a:pt x="17" y="13"/>
                  </a:lnTo>
                  <a:lnTo>
                    <a:pt x="39" y="13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7543800" y="3987720"/>
              <a:ext cx="32760" cy="3492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46" y="110"/>
                  </a:moveTo>
                  <a:lnTo>
                    <a:pt x="46" y="6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3" y="34"/>
                  </a:lnTo>
                  <a:lnTo>
                    <a:pt x="54" y="50"/>
                  </a:lnTo>
                  <a:lnTo>
                    <a:pt x="68" y="31"/>
                  </a:lnTo>
                  <a:lnTo>
                    <a:pt x="89" y="0"/>
                  </a:lnTo>
                  <a:lnTo>
                    <a:pt x="108" y="0"/>
                  </a:lnTo>
                  <a:lnTo>
                    <a:pt x="63" y="64"/>
                  </a:lnTo>
                  <a:lnTo>
                    <a:pt x="63" y="110"/>
                  </a:lnTo>
                  <a:lnTo>
                    <a:pt x="46" y="1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7067520" y="4125960"/>
              <a:ext cx="3924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7067520" y="4125960"/>
              <a:ext cx="3924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7365960" y="4125960"/>
              <a:ext cx="3780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7365960" y="4125960"/>
              <a:ext cx="3780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7777080" y="3779640"/>
              <a:ext cx="529920" cy="270000"/>
            </a:xfrm>
            <a:custGeom>
              <a:avLst/>
              <a:gdLst/>
              <a:ahLst/>
              <a:rect l="l" t="t" r="r" b="b"/>
              <a:pathLst>
                <a:path w="1671" h="851">
                  <a:moveTo>
                    <a:pt x="754" y="0"/>
                  </a:moveTo>
                  <a:lnTo>
                    <a:pt x="1671" y="851"/>
                  </a:lnTo>
                  <a:lnTo>
                    <a:pt x="0" y="844"/>
                  </a:lnTo>
                  <a:lnTo>
                    <a:pt x="681" y="3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7777080" y="3779640"/>
              <a:ext cx="529920" cy="270000"/>
            </a:xfrm>
            <a:custGeom>
              <a:avLst/>
              <a:gdLst/>
              <a:ahLst/>
              <a:rect l="l" t="t" r="r" b="b"/>
              <a:pathLst>
                <a:path w="1671" h="851">
                  <a:moveTo>
                    <a:pt x="754" y="0"/>
                  </a:moveTo>
                  <a:lnTo>
                    <a:pt x="1671" y="851"/>
                  </a:lnTo>
                  <a:lnTo>
                    <a:pt x="0" y="844"/>
                  </a:lnTo>
                  <a:lnTo>
                    <a:pt x="681" y="3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759440" y="3752640"/>
              <a:ext cx="547560" cy="293760"/>
            </a:xfrm>
            <a:custGeom>
              <a:avLst/>
              <a:gdLst/>
              <a:ahLst/>
              <a:rect l="l" t="t" r="r" b="b"/>
              <a:pathLst>
                <a:path w="1727" h="927">
                  <a:moveTo>
                    <a:pt x="132" y="926"/>
                  </a:moveTo>
                  <a:lnTo>
                    <a:pt x="132" y="927"/>
                  </a:lnTo>
                  <a:lnTo>
                    <a:pt x="150" y="907"/>
                  </a:lnTo>
                  <a:lnTo>
                    <a:pt x="357" y="667"/>
                  </a:lnTo>
                  <a:lnTo>
                    <a:pt x="552" y="420"/>
                  </a:lnTo>
                  <a:lnTo>
                    <a:pt x="737" y="162"/>
                  </a:lnTo>
                  <a:lnTo>
                    <a:pt x="761" y="136"/>
                  </a:lnTo>
                  <a:lnTo>
                    <a:pt x="792" y="121"/>
                  </a:lnTo>
                  <a:lnTo>
                    <a:pt x="826" y="119"/>
                  </a:lnTo>
                  <a:lnTo>
                    <a:pt x="859" y="132"/>
                  </a:lnTo>
                  <a:lnTo>
                    <a:pt x="882" y="158"/>
                  </a:lnTo>
                  <a:lnTo>
                    <a:pt x="886" y="162"/>
                  </a:lnTo>
                  <a:lnTo>
                    <a:pt x="952" y="248"/>
                  </a:lnTo>
                  <a:lnTo>
                    <a:pt x="1104" y="422"/>
                  </a:lnTo>
                  <a:lnTo>
                    <a:pt x="1268" y="586"/>
                  </a:lnTo>
                  <a:lnTo>
                    <a:pt x="1441" y="740"/>
                  </a:lnTo>
                  <a:lnTo>
                    <a:pt x="1624" y="883"/>
                  </a:lnTo>
                  <a:lnTo>
                    <a:pt x="1727" y="854"/>
                  </a:lnTo>
                  <a:lnTo>
                    <a:pt x="1538" y="697"/>
                  </a:lnTo>
                  <a:lnTo>
                    <a:pt x="1358" y="530"/>
                  </a:lnTo>
                  <a:lnTo>
                    <a:pt x="1188" y="353"/>
                  </a:lnTo>
                  <a:lnTo>
                    <a:pt x="1030" y="167"/>
                  </a:lnTo>
                  <a:lnTo>
                    <a:pt x="958" y="73"/>
                  </a:lnTo>
                  <a:lnTo>
                    <a:pt x="937" y="50"/>
                  </a:lnTo>
                  <a:lnTo>
                    <a:pt x="892" y="20"/>
                  </a:lnTo>
                  <a:lnTo>
                    <a:pt x="841" y="4"/>
                  </a:lnTo>
                  <a:lnTo>
                    <a:pt x="788" y="0"/>
                  </a:lnTo>
                  <a:lnTo>
                    <a:pt x="735" y="12"/>
                  </a:lnTo>
                  <a:lnTo>
                    <a:pt x="686" y="38"/>
                  </a:lnTo>
                  <a:lnTo>
                    <a:pt x="649" y="73"/>
                  </a:lnTo>
                  <a:lnTo>
                    <a:pt x="541" y="254"/>
                  </a:lnTo>
                  <a:lnTo>
                    <a:pt x="421" y="425"/>
                  </a:lnTo>
                  <a:lnTo>
                    <a:pt x="290" y="588"/>
                  </a:lnTo>
                  <a:lnTo>
                    <a:pt x="147" y="740"/>
                  </a:lnTo>
                  <a:lnTo>
                    <a:pt x="0" y="877"/>
                  </a:lnTo>
                  <a:lnTo>
                    <a:pt x="132" y="9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5" name=""/>
          <p:cNvSpPr/>
          <p:nvPr/>
        </p:nvSpPr>
        <p:spPr>
          <a:xfrm>
            <a:off x="2287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70884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7" name="CARROT1" descr=""/>
          <p:cNvPicPr/>
          <p:nvPr/>
        </p:nvPicPr>
        <p:blipFill>
          <a:blip r:embed="rId1"/>
          <a:stretch/>
        </p:blipFill>
        <p:spPr>
          <a:xfrm>
            <a:off x="914400" y="2281320"/>
            <a:ext cx="2116080" cy="3055680"/>
          </a:xfrm>
          <a:prstGeom prst="rect">
            <a:avLst/>
          </a:prstGeom>
          <a:ln w="0">
            <a:noFill/>
          </a:ln>
        </p:spPr>
      </p:pic>
      <p:pic>
        <p:nvPicPr>
          <p:cNvPr id="7948" name="CLIPPERS" descr=""/>
          <p:cNvPicPr/>
          <p:nvPr/>
        </p:nvPicPr>
        <p:blipFill>
          <a:blip r:embed="rId2"/>
          <a:stretch/>
        </p:blipFill>
        <p:spPr>
          <a:xfrm>
            <a:off x="6019920" y="2479680"/>
            <a:ext cx="1685880" cy="2658960"/>
          </a:xfrm>
          <a:prstGeom prst="rect">
            <a:avLst/>
          </a:prstGeom>
          <a:ln w="0">
            <a:noFill/>
          </a:ln>
        </p:spPr>
      </p:pic>
      <p:sp>
        <p:nvSpPr>
          <p:cNvPr id="7949" name=""/>
          <p:cNvSpPr/>
          <p:nvPr/>
        </p:nvSpPr>
        <p:spPr>
          <a:xfrm>
            <a:off x="18306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1" name=""/>
          <p:cNvSpPr/>
          <p:nvPr/>
        </p:nvSpPr>
        <p:spPr>
          <a:xfrm>
            <a:off x="1295280" y="1760400"/>
            <a:ext cx="2286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2" name="ARROWHD" descr=""/>
          <p:cNvPicPr/>
          <p:nvPr/>
        </p:nvPicPr>
        <p:blipFill>
          <a:blip r:embed="rId1"/>
          <a:stretch/>
        </p:blipFill>
        <p:spPr>
          <a:xfrm>
            <a:off x="1600200" y="2836800"/>
            <a:ext cx="1562040" cy="1946160"/>
          </a:xfrm>
          <a:prstGeom prst="rect">
            <a:avLst/>
          </a:prstGeom>
          <a:ln w="0">
            <a:noFill/>
          </a:ln>
        </p:spPr>
      </p:pic>
      <p:grpSp>
        <p:nvGrpSpPr>
          <p:cNvPr id="7953" name=""/>
          <p:cNvGrpSpPr/>
          <p:nvPr/>
        </p:nvGrpSpPr>
        <p:grpSpPr>
          <a:xfrm>
            <a:off x="6477120" y="3135240"/>
            <a:ext cx="1352160" cy="1348920"/>
            <a:chOff x="6477120" y="3135240"/>
            <a:chExt cx="1352160" cy="1348920"/>
          </a:xfrm>
        </p:grpSpPr>
        <p:sp>
          <p:nvSpPr>
            <p:cNvPr id="7954" name=""/>
            <p:cNvSpPr/>
            <p:nvPr/>
          </p:nvSpPr>
          <p:spPr>
            <a:xfrm>
              <a:off x="6477120" y="3135240"/>
              <a:ext cx="1352160" cy="1348920"/>
            </a:xfrm>
            <a:custGeom>
              <a:avLst/>
              <a:gdLst/>
              <a:ahLst/>
              <a:rect l="l" t="t" r="r" b="b"/>
              <a:pathLst>
                <a:path w="710" h="709">
                  <a:moveTo>
                    <a:pt x="192" y="191"/>
                  </a:moveTo>
                  <a:lnTo>
                    <a:pt x="185" y="190"/>
                  </a:lnTo>
                  <a:lnTo>
                    <a:pt x="178" y="188"/>
                  </a:lnTo>
                  <a:lnTo>
                    <a:pt x="170" y="185"/>
                  </a:lnTo>
                  <a:lnTo>
                    <a:pt x="159" y="183"/>
                  </a:lnTo>
                  <a:lnTo>
                    <a:pt x="149" y="181"/>
                  </a:lnTo>
                  <a:lnTo>
                    <a:pt x="139" y="178"/>
                  </a:lnTo>
                  <a:lnTo>
                    <a:pt x="127" y="176"/>
                  </a:lnTo>
                  <a:lnTo>
                    <a:pt x="115" y="174"/>
                  </a:lnTo>
                  <a:lnTo>
                    <a:pt x="98" y="173"/>
                  </a:lnTo>
                  <a:lnTo>
                    <a:pt x="82" y="171"/>
                  </a:lnTo>
                  <a:lnTo>
                    <a:pt x="67" y="169"/>
                  </a:lnTo>
                  <a:lnTo>
                    <a:pt x="51" y="167"/>
                  </a:lnTo>
                  <a:lnTo>
                    <a:pt x="38" y="167"/>
                  </a:lnTo>
                  <a:lnTo>
                    <a:pt x="24" y="166"/>
                  </a:lnTo>
                  <a:lnTo>
                    <a:pt x="12" y="166"/>
                  </a:lnTo>
                  <a:lnTo>
                    <a:pt x="0" y="166"/>
                  </a:lnTo>
                  <a:lnTo>
                    <a:pt x="14" y="190"/>
                  </a:lnTo>
                  <a:lnTo>
                    <a:pt x="22" y="212"/>
                  </a:lnTo>
                  <a:lnTo>
                    <a:pt x="27" y="236"/>
                  </a:lnTo>
                  <a:lnTo>
                    <a:pt x="29" y="260"/>
                  </a:lnTo>
                  <a:lnTo>
                    <a:pt x="27" y="284"/>
                  </a:lnTo>
                  <a:lnTo>
                    <a:pt x="22" y="308"/>
                  </a:lnTo>
                  <a:lnTo>
                    <a:pt x="14" y="330"/>
                  </a:lnTo>
                  <a:lnTo>
                    <a:pt x="0" y="354"/>
                  </a:lnTo>
                  <a:lnTo>
                    <a:pt x="14" y="378"/>
                  </a:lnTo>
                  <a:lnTo>
                    <a:pt x="22" y="400"/>
                  </a:lnTo>
                  <a:lnTo>
                    <a:pt x="27" y="424"/>
                  </a:lnTo>
                  <a:lnTo>
                    <a:pt x="29" y="448"/>
                  </a:lnTo>
                  <a:lnTo>
                    <a:pt x="27" y="472"/>
                  </a:lnTo>
                  <a:lnTo>
                    <a:pt x="22" y="496"/>
                  </a:lnTo>
                  <a:lnTo>
                    <a:pt x="14" y="520"/>
                  </a:lnTo>
                  <a:lnTo>
                    <a:pt x="0" y="544"/>
                  </a:lnTo>
                  <a:lnTo>
                    <a:pt x="12" y="544"/>
                  </a:lnTo>
                  <a:lnTo>
                    <a:pt x="24" y="544"/>
                  </a:lnTo>
                  <a:lnTo>
                    <a:pt x="38" y="543"/>
                  </a:lnTo>
                  <a:lnTo>
                    <a:pt x="51" y="541"/>
                  </a:lnTo>
                  <a:lnTo>
                    <a:pt x="67" y="541"/>
                  </a:lnTo>
                  <a:lnTo>
                    <a:pt x="82" y="539"/>
                  </a:lnTo>
                  <a:lnTo>
                    <a:pt x="98" y="536"/>
                  </a:lnTo>
                  <a:lnTo>
                    <a:pt x="115" y="534"/>
                  </a:lnTo>
                  <a:lnTo>
                    <a:pt x="127" y="532"/>
                  </a:lnTo>
                  <a:lnTo>
                    <a:pt x="139" y="531"/>
                  </a:lnTo>
                  <a:lnTo>
                    <a:pt x="149" y="529"/>
                  </a:lnTo>
                  <a:lnTo>
                    <a:pt x="159" y="527"/>
                  </a:lnTo>
                  <a:lnTo>
                    <a:pt x="170" y="524"/>
                  </a:lnTo>
                  <a:lnTo>
                    <a:pt x="178" y="522"/>
                  </a:lnTo>
                  <a:lnTo>
                    <a:pt x="185" y="519"/>
                  </a:lnTo>
                  <a:lnTo>
                    <a:pt x="192" y="517"/>
                  </a:lnTo>
                  <a:lnTo>
                    <a:pt x="189" y="531"/>
                  </a:lnTo>
                  <a:lnTo>
                    <a:pt x="183" y="550"/>
                  </a:lnTo>
                  <a:lnTo>
                    <a:pt x="178" y="570"/>
                  </a:lnTo>
                  <a:lnTo>
                    <a:pt x="175" y="594"/>
                  </a:lnTo>
                  <a:lnTo>
                    <a:pt x="171" y="627"/>
                  </a:lnTo>
                  <a:lnTo>
                    <a:pt x="168" y="657"/>
                  </a:lnTo>
                  <a:lnTo>
                    <a:pt x="166" y="685"/>
                  </a:lnTo>
                  <a:lnTo>
                    <a:pt x="166" y="709"/>
                  </a:lnTo>
                  <a:lnTo>
                    <a:pt x="178" y="702"/>
                  </a:lnTo>
                  <a:lnTo>
                    <a:pt x="190" y="695"/>
                  </a:lnTo>
                  <a:lnTo>
                    <a:pt x="201" y="690"/>
                  </a:lnTo>
                  <a:lnTo>
                    <a:pt x="213" y="687"/>
                  </a:lnTo>
                  <a:lnTo>
                    <a:pt x="225" y="683"/>
                  </a:lnTo>
                  <a:lnTo>
                    <a:pt x="237" y="681"/>
                  </a:lnTo>
                  <a:lnTo>
                    <a:pt x="249" y="680"/>
                  </a:lnTo>
                  <a:lnTo>
                    <a:pt x="261" y="680"/>
                  </a:lnTo>
                  <a:lnTo>
                    <a:pt x="273" y="680"/>
                  </a:lnTo>
                  <a:lnTo>
                    <a:pt x="285" y="681"/>
                  </a:lnTo>
                  <a:lnTo>
                    <a:pt x="297" y="683"/>
                  </a:lnTo>
                  <a:lnTo>
                    <a:pt x="309" y="687"/>
                  </a:lnTo>
                  <a:lnTo>
                    <a:pt x="321" y="690"/>
                  </a:lnTo>
                  <a:lnTo>
                    <a:pt x="331" y="695"/>
                  </a:lnTo>
                  <a:lnTo>
                    <a:pt x="343" y="702"/>
                  </a:lnTo>
                  <a:lnTo>
                    <a:pt x="355" y="709"/>
                  </a:lnTo>
                  <a:lnTo>
                    <a:pt x="367" y="702"/>
                  </a:lnTo>
                  <a:lnTo>
                    <a:pt x="379" y="695"/>
                  </a:lnTo>
                  <a:lnTo>
                    <a:pt x="391" y="690"/>
                  </a:lnTo>
                  <a:lnTo>
                    <a:pt x="403" y="687"/>
                  </a:lnTo>
                  <a:lnTo>
                    <a:pt x="413" y="683"/>
                  </a:lnTo>
                  <a:lnTo>
                    <a:pt x="425" y="681"/>
                  </a:lnTo>
                  <a:lnTo>
                    <a:pt x="437" y="680"/>
                  </a:lnTo>
                  <a:lnTo>
                    <a:pt x="449" y="680"/>
                  </a:lnTo>
                  <a:lnTo>
                    <a:pt x="461" y="680"/>
                  </a:lnTo>
                  <a:lnTo>
                    <a:pt x="473" y="681"/>
                  </a:lnTo>
                  <a:lnTo>
                    <a:pt x="485" y="683"/>
                  </a:lnTo>
                  <a:lnTo>
                    <a:pt x="497" y="687"/>
                  </a:lnTo>
                  <a:lnTo>
                    <a:pt x="509" y="690"/>
                  </a:lnTo>
                  <a:lnTo>
                    <a:pt x="521" y="695"/>
                  </a:lnTo>
                  <a:lnTo>
                    <a:pt x="533" y="702"/>
                  </a:lnTo>
                  <a:lnTo>
                    <a:pt x="545" y="709"/>
                  </a:lnTo>
                  <a:lnTo>
                    <a:pt x="545" y="685"/>
                  </a:lnTo>
                  <a:lnTo>
                    <a:pt x="543" y="657"/>
                  </a:lnTo>
                  <a:lnTo>
                    <a:pt x="540" y="627"/>
                  </a:lnTo>
                  <a:lnTo>
                    <a:pt x="535" y="594"/>
                  </a:lnTo>
                  <a:lnTo>
                    <a:pt x="531" y="570"/>
                  </a:lnTo>
                  <a:lnTo>
                    <a:pt x="528" y="550"/>
                  </a:lnTo>
                  <a:lnTo>
                    <a:pt x="523" y="531"/>
                  </a:lnTo>
                  <a:lnTo>
                    <a:pt x="518" y="517"/>
                  </a:lnTo>
                  <a:lnTo>
                    <a:pt x="525" y="519"/>
                  </a:lnTo>
                  <a:lnTo>
                    <a:pt x="531" y="520"/>
                  </a:lnTo>
                  <a:lnTo>
                    <a:pt x="540" y="524"/>
                  </a:lnTo>
                  <a:lnTo>
                    <a:pt x="550" y="526"/>
                  </a:lnTo>
                  <a:lnTo>
                    <a:pt x="561" y="527"/>
                  </a:lnTo>
                  <a:lnTo>
                    <a:pt x="571" y="531"/>
                  </a:lnTo>
                  <a:lnTo>
                    <a:pt x="583" y="532"/>
                  </a:lnTo>
                  <a:lnTo>
                    <a:pt x="595" y="534"/>
                  </a:lnTo>
                  <a:lnTo>
                    <a:pt x="612" y="536"/>
                  </a:lnTo>
                  <a:lnTo>
                    <a:pt x="627" y="538"/>
                  </a:lnTo>
                  <a:lnTo>
                    <a:pt x="643" y="539"/>
                  </a:lnTo>
                  <a:lnTo>
                    <a:pt x="658" y="541"/>
                  </a:lnTo>
                  <a:lnTo>
                    <a:pt x="672" y="541"/>
                  </a:lnTo>
                  <a:lnTo>
                    <a:pt x="686" y="543"/>
                  </a:lnTo>
                  <a:lnTo>
                    <a:pt x="698" y="543"/>
                  </a:lnTo>
                  <a:lnTo>
                    <a:pt x="710" y="543"/>
                  </a:lnTo>
                  <a:lnTo>
                    <a:pt x="696" y="519"/>
                  </a:lnTo>
                  <a:lnTo>
                    <a:pt x="687" y="496"/>
                  </a:lnTo>
                  <a:lnTo>
                    <a:pt x="682" y="472"/>
                  </a:lnTo>
                  <a:lnTo>
                    <a:pt x="681" y="448"/>
                  </a:lnTo>
                  <a:lnTo>
                    <a:pt x="682" y="424"/>
                  </a:lnTo>
                  <a:lnTo>
                    <a:pt x="687" y="400"/>
                  </a:lnTo>
                  <a:lnTo>
                    <a:pt x="696" y="378"/>
                  </a:lnTo>
                  <a:lnTo>
                    <a:pt x="710" y="354"/>
                  </a:lnTo>
                  <a:lnTo>
                    <a:pt x="696" y="330"/>
                  </a:lnTo>
                  <a:lnTo>
                    <a:pt x="687" y="306"/>
                  </a:lnTo>
                  <a:lnTo>
                    <a:pt x="682" y="284"/>
                  </a:lnTo>
                  <a:lnTo>
                    <a:pt x="681" y="260"/>
                  </a:lnTo>
                  <a:lnTo>
                    <a:pt x="682" y="236"/>
                  </a:lnTo>
                  <a:lnTo>
                    <a:pt x="687" y="212"/>
                  </a:lnTo>
                  <a:lnTo>
                    <a:pt x="696" y="188"/>
                  </a:lnTo>
                  <a:lnTo>
                    <a:pt x="710" y="164"/>
                  </a:lnTo>
                  <a:lnTo>
                    <a:pt x="698" y="164"/>
                  </a:lnTo>
                  <a:lnTo>
                    <a:pt x="686" y="164"/>
                  </a:lnTo>
                  <a:lnTo>
                    <a:pt x="672" y="166"/>
                  </a:lnTo>
                  <a:lnTo>
                    <a:pt x="658" y="166"/>
                  </a:lnTo>
                  <a:lnTo>
                    <a:pt x="643" y="167"/>
                  </a:lnTo>
                  <a:lnTo>
                    <a:pt x="627" y="169"/>
                  </a:lnTo>
                  <a:lnTo>
                    <a:pt x="612" y="173"/>
                  </a:lnTo>
                  <a:lnTo>
                    <a:pt x="595" y="174"/>
                  </a:lnTo>
                  <a:lnTo>
                    <a:pt x="583" y="176"/>
                  </a:lnTo>
                  <a:lnTo>
                    <a:pt x="571" y="178"/>
                  </a:lnTo>
                  <a:lnTo>
                    <a:pt x="561" y="179"/>
                  </a:lnTo>
                  <a:lnTo>
                    <a:pt x="550" y="181"/>
                  </a:lnTo>
                  <a:lnTo>
                    <a:pt x="540" y="185"/>
                  </a:lnTo>
                  <a:lnTo>
                    <a:pt x="531" y="186"/>
                  </a:lnTo>
                  <a:lnTo>
                    <a:pt x="525" y="190"/>
                  </a:lnTo>
                  <a:lnTo>
                    <a:pt x="518" y="191"/>
                  </a:lnTo>
                  <a:lnTo>
                    <a:pt x="521" y="178"/>
                  </a:lnTo>
                  <a:lnTo>
                    <a:pt x="526" y="159"/>
                  </a:lnTo>
                  <a:lnTo>
                    <a:pt x="531" y="138"/>
                  </a:lnTo>
                  <a:lnTo>
                    <a:pt x="535" y="114"/>
                  </a:lnTo>
                  <a:lnTo>
                    <a:pt x="538" y="82"/>
                  </a:lnTo>
                  <a:lnTo>
                    <a:pt x="542" y="51"/>
                  </a:lnTo>
                  <a:lnTo>
                    <a:pt x="543" y="24"/>
                  </a:lnTo>
                  <a:lnTo>
                    <a:pt x="543" y="0"/>
                  </a:lnTo>
                  <a:lnTo>
                    <a:pt x="531" y="6"/>
                  </a:lnTo>
                  <a:lnTo>
                    <a:pt x="519" y="13"/>
                  </a:lnTo>
                  <a:lnTo>
                    <a:pt x="509" y="18"/>
                  </a:lnTo>
                  <a:lnTo>
                    <a:pt x="497" y="22"/>
                  </a:lnTo>
                  <a:lnTo>
                    <a:pt x="485" y="25"/>
                  </a:lnTo>
                  <a:lnTo>
                    <a:pt x="473" y="27"/>
                  </a:lnTo>
                  <a:lnTo>
                    <a:pt x="461" y="29"/>
                  </a:lnTo>
                  <a:lnTo>
                    <a:pt x="449" y="29"/>
                  </a:lnTo>
                  <a:lnTo>
                    <a:pt x="437" y="29"/>
                  </a:lnTo>
                  <a:lnTo>
                    <a:pt x="425" y="27"/>
                  </a:lnTo>
                  <a:lnTo>
                    <a:pt x="413" y="25"/>
                  </a:lnTo>
                  <a:lnTo>
                    <a:pt x="401" y="22"/>
                  </a:lnTo>
                  <a:lnTo>
                    <a:pt x="389" y="18"/>
                  </a:lnTo>
                  <a:lnTo>
                    <a:pt x="379" y="13"/>
                  </a:lnTo>
                  <a:lnTo>
                    <a:pt x="367" y="6"/>
                  </a:lnTo>
                  <a:lnTo>
                    <a:pt x="355" y="0"/>
                  </a:lnTo>
                  <a:lnTo>
                    <a:pt x="343" y="6"/>
                  </a:lnTo>
                  <a:lnTo>
                    <a:pt x="331" y="13"/>
                  </a:lnTo>
                  <a:lnTo>
                    <a:pt x="319" y="18"/>
                  </a:lnTo>
                  <a:lnTo>
                    <a:pt x="309" y="22"/>
                  </a:lnTo>
                  <a:lnTo>
                    <a:pt x="297" y="25"/>
                  </a:lnTo>
                  <a:lnTo>
                    <a:pt x="285" y="27"/>
                  </a:lnTo>
                  <a:lnTo>
                    <a:pt x="273" y="29"/>
                  </a:lnTo>
                  <a:lnTo>
                    <a:pt x="261" y="29"/>
                  </a:lnTo>
                  <a:lnTo>
                    <a:pt x="249" y="29"/>
                  </a:lnTo>
                  <a:lnTo>
                    <a:pt x="237" y="27"/>
                  </a:lnTo>
                  <a:lnTo>
                    <a:pt x="225" y="25"/>
                  </a:lnTo>
                  <a:lnTo>
                    <a:pt x="213" y="22"/>
                  </a:lnTo>
                  <a:lnTo>
                    <a:pt x="201" y="18"/>
                  </a:lnTo>
                  <a:lnTo>
                    <a:pt x="189" y="13"/>
                  </a:lnTo>
                  <a:lnTo>
                    <a:pt x="177" y="6"/>
                  </a:lnTo>
                  <a:lnTo>
                    <a:pt x="165" y="0"/>
                  </a:lnTo>
                  <a:lnTo>
                    <a:pt x="165" y="24"/>
                  </a:lnTo>
                  <a:lnTo>
                    <a:pt x="168" y="51"/>
                  </a:lnTo>
                  <a:lnTo>
                    <a:pt x="170" y="82"/>
                  </a:lnTo>
                  <a:lnTo>
                    <a:pt x="175" y="114"/>
                  </a:lnTo>
                  <a:lnTo>
                    <a:pt x="178" y="138"/>
                  </a:lnTo>
                  <a:lnTo>
                    <a:pt x="182" y="159"/>
                  </a:lnTo>
                  <a:lnTo>
                    <a:pt x="187" y="178"/>
                  </a:lnTo>
                  <a:lnTo>
                    <a:pt x="192" y="191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6871320" y="3529080"/>
              <a:ext cx="561960" cy="561240"/>
            </a:xfrm>
            <a:custGeom>
              <a:avLst/>
              <a:gdLst/>
              <a:ahLst/>
              <a:rect l="l" t="t" r="r" b="b"/>
              <a:pathLst>
                <a:path w="295" h="295">
                  <a:moveTo>
                    <a:pt x="295" y="0"/>
                  </a:moveTo>
                  <a:lnTo>
                    <a:pt x="294" y="8"/>
                  </a:lnTo>
                  <a:lnTo>
                    <a:pt x="290" y="19"/>
                  </a:lnTo>
                  <a:lnTo>
                    <a:pt x="285" y="27"/>
                  </a:lnTo>
                  <a:lnTo>
                    <a:pt x="278" y="38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61" y="58"/>
                  </a:lnTo>
                  <a:lnTo>
                    <a:pt x="254" y="67"/>
                  </a:lnTo>
                  <a:lnTo>
                    <a:pt x="247" y="74"/>
                  </a:lnTo>
                  <a:lnTo>
                    <a:pt x="239" y="80"/>
                  </a:lnTo>
                  <a:lnTo>
                    <a:pt x="232" y="89"/>
                  </a:lnTo>
                  <a:lnTo>
                    <a:pt x="223" y="96"/>
                  </a:lnTo>
                  <a:lnTo>
                    <a:pt x="215" y="103"/>
                  </a:lnTo>
                  <a:lnTo>
                    <a:pt x="204" y="111"/>
                  </a:lnTo>
                  <a:lnTo>
                    <a:pt x="196" y="118"/>
                  </a:lnTo>
                  <a:lnTo>
                    <a:pt x="187" y="123"/>
                  </a:lnTo>
                  <a:lnTo>
                    <a:pt x="177" y="130"/>
                  </a:lnTo>
                  <a:lnTo>
                    <a:pt x="168" y="137"/>
                  </a:lnTo>
                  <a:lnTo>
                    <a:pt x="158" y="142"/>
                  </a:lnTo>
                  <a:lnTo>
                    <a:pt x="148" y="147"/>
                  </a:lnTo>
                  <a:lnTo>
                    <a:pt x="158" y="152"/>
                  </a:lnTo>
                  <a:lnTo>
                    <a:pt x="167" y="157"/>
                  </a:lnTo>
                  <a:lnTo>
                    <a:pt x="177" y="164"/>
                  </a:lnTo>
                  <a:lnTo>
                    <a:pt x="186" y="169"/>
                  </a:lnTo>
                  <a:lnTo>
                    <a:pt x="196" y="176"/>
                  </a:lnTo>
                  <a:lnTo>
                    <a:pt x="204" y="183"/>
                  </a:lnTo>
                  <a:lnTo>
                    <a:pt x="215" y="190"/>
                  </a:lnTo>
                  <a:lnTo>
                    <a:pt x="223" y="197"/>
                  </a:lnTo>
                  <a:lnTo>
                    <a:pt x="232" y="204"/>
                  </a:lnTo>
                  <a:lnTo>
                    <a:pt x="239" y="212"/>
                  </a:lnTo>
                  <a:lnTo>
                    <a:pt x="247" y="219"/>
                  </a:lnTo>
                  <a:lnTo>
                    <a:pt x="254" y="228"/>
                  </a:lnTo>
                  <a:lnTo>
                    <a:pt x="261" y="235"/>
                  </a:lnTo>
                  <a:lnTo>
                    <a:pt x="266" y="243"/>
                  </a:lnTo>
                  <a:lnTo>
                    <a:pt x="271" y="250"/>
                  </a:lnTo>
                  <a:lnTo>
                    <a:pt x="276" y="257"/>
                  </a:lnTo>
                  <a:lnTo>
                    <a:pt x="283" y="267"/>
                  </a:lnTo>
                  <a:lnTo>
                    <a:pt x="288" y="276"/>
                  </a:lnTo>
                  <a:lnTo>
                    <a:pt x="294" y="284"/>
                  </a:lnTo>
                  <a:lnTo>
                    <a:pt x="295" y="293"/>
                  </a:lnTo>
                  <a:lnTo>
                    <a:pt x="287" y="291"/>
                  </a:lnTo>
                  <a:lnTo>
                    <a:pt x="278" y="289"/>
                  </a:lnTo>
                  <a:lnTo>
                    <a:pt x="268" y="284"/>
                  </a:lnTo>
                  <a:lnTo>
                    <a:pt x="258" y="277"/>
                  </a:lnTo>
                  <a:lnTo>
                    <a:pt x="251" y="272"/>
                  </a:lnTo>
                  <a:lnTo>
                    <a:pt x="244" y="265"/>
                  </a:lnTo>
                  <a:lnTo>
                    <a:pt x="237" y="260"/>
                  </a:lnTo>
                  <a:lnTo>
                    <a:pt x="228" y="253"/>
                  </a:lnTo>
                  <a:lnTo>
                    <a:pt x="222" y="247"/>
                  </a:lnTo>
                  <a:lnTo>
                    <a:pt x="215" y="238"/>
                  </a:lnTo>
                  <a:lnTo>
                    <a:pt x="206" y="231"/>
                  </a:lnTo>
                  <a:lnTo>
                    <a:pt x="199" y="223"/>
                  </a:lnTo>
                  <a:lnTo>
                    <a:pt x="192" y="214"/>
                  </a:lnTo>
                  <a:lnTo>
                    <a:pt x="184" y="204"/>
                  </a:lnTo>
                  <a:lnTo>
                    <a:pt x="177" y="195"/>
                  </a:lnTo>
                  <a:lnTo>
                    <a:pt x="172" y="187"/>
                  </a:lnTo>
                  <a:lnTo>
                    <a:pt x="165" y="176"/>
                  </a:lnTo>
                  <a:lnTo>
                    <a:pt x="158" y="168"/>
                  </a:lnTo>
                  <a:lnTo>
                    <a:pt x="153" y="157"/>
                  </a:lnTo>
                  <a:lnTo>
                    <a:pt x="148" y="147"/>
                  </a:lnTo>
                  <a:lnTo>
                    <a:pt x="138" y="166"/>
                  </a:lnTo>
                  <a:lnTo>
                    <a:pt x="126" y="185"/>
                  </a:lnTo>
                  <a:lnTo>
                    <a:pt x="112" y="204"/>
                  </a:lnTo>
                  <a:lnTo>
                    <a:pt x="98" y="223"/>
                  </a:lnTo>
                  <a:lnTo>
                    <a:pt x="91" y="231"/>
                  </a:lnTo>
                  <a:lnTo>
                    <a:pt x="83" y="238"/>
                  </a:lnTo>
                  <a:lnTo>
                    <a:pt x="76" y="247"/>
                  </a:lnTo>
                  <a:lnTo>
                    <a:pt x="67" y="253"/>
                  </a:lnTo>
                  <a:lnTo>
                    <a:pt x="60" y="260"/>
                  </a:lnTo>
                  <a:lnTo>
                    <a:pt x="52" y="265"/>
                  </a:lnTo>
                  <a:lnTo>
                    <a:pt x="45" y="271"/>
                  </a:lnTo>
                  <a:lnTo>
                    <a:pt x="38" y="276"/>
                  </a:lnTo>
                  <a:lnTo>
                    <a:pt x="28" y="283"/>
                  </a:lnTo>
                  <a:lnTo>
                    <a:pt x="18" y="288"/>
                  </a:lnTo>
                  <a:lnTo>
                    <a:pt x="9" y="293"/>
                  </a:lnTo>
                  <a:lnTo>
                    <a:pt x="0" y="295"/>
                  </a:lnTo>
                  <a:lnTo>
                    <a:pt x="2" y="286"/>
                  </a:lnTo>
                  <a:lnTo>
                    <a:pt x="7" y="276"/>
                  </a:lnTo>
                  <a:lnTo>
                    <a:pt x="11" y="267"/>
                  </a:lnTo>
                  <a:lnTo>
                    <a:pt x="18" y="257"/>
                  </a:lnTo>
                  <a:lnTo>
                    <a:pt x="23" y="250"/>
                  </a:lnTo>
                  <a:lnTo>
                    <a:pt x="30" y="243"/>
                  </a:lnTo>
                  <a:lnTo>
                    <a:pt x="35" y="236"/>
                  </a:lnTo>
                  <a:lnTo>
                    <a:pt x="42" y="228"/>
                  </a:lnTo>
                  <a:lnTo>
                    <a:pt x="48" y="221"/>
                  </a:lnTo>
                  <a:lnTo>
                    <a:pt x="57" y="214"/>
                  </a:lnTo>
                  <a:lnTo>
                    <a:pt x="64" y="205"/>
                  </a:lnTo>
                  <a:lnTo>
                    <a:pt x="72" y="199"/>
                  </a:lnTo>
                  <a:lnTo>
                    <a:pt x="81" y="192"/>
                  </a:lnTo>
                  <a:lnTo>
                    <a:pt x="91" y="183"/>
                  </a:lnTo>
                  <a:lnTo>
                    <a:pt x="100" y="176"/>
                  </a:lnTo>
                  <a:lnTo>
                    <a:pt x="108" y="169"/>
                  </a:lnTo>
                  <a:lnTo>
                    <a:pt x="119" y="164"/>
                  </a:lnTo>
                  <a:lnTo>
                    <a:pt x="127" y="157"/>
                  </a:lnTo>
                  <a:lnTo>
                    <a:pt x="138" y="152"/>
                  </a:lnTo>
                  <a:lnTo>
                    <a:pt x="148" y="147"/>
                  </a:lnTo>
                  <a:lnTo>
                    <a:pt x="138" y="142"/>
                  </a:lnTo>
                  <a:lnTo>
                    <a:pt x="129" y="137"/>
                  </a:lnTo>
                  <a:lnTo>
                    <a:pt x="119" y="130"/>
                  </a:lnTo>
                  <a:lnTo>
                    <a:pt x="110" y="125"/>
                  </a:lnTo>
                  <a:lnTo>
                    <a:pt x="100" y="118"/>
                  </a:lnTo>
                  <a:lnTo>
                    <a:pt x="91" y="111"/>
                  </a:lnTo>
                  <a:lnTo>
                    <a:pt x="81" y="104"/>
                  </a:lnTo>
                  <a:lnTo>
                    <a:pt x="72" y="98"/>
                  </a:lnTo>
                  <a:lnTo>
                    <a:pt x="64" y="91"/>
                  </a:lnTo>
                  <a:lnTo>
                    <a:pt x="57" y="82"/>
                  </a:lnTo>
                  <a:lnTo>
                    <a:pt x="48" y="75"/>
                  </a:lnTo>
                  <a:lnTo>
                    <a:pt x="42" y="67"/>
                  </a:lnTo>
                  <a:lnTo>
                    <a:pt x="35" y="60"/>
                  </a:lnTo>
                  <a:lnTo>
                    <a:pt x="30" y="51"/>
                  </a:lnTo>
                  <a:lnTo>
                    <a:pt x="24" y="44"/>
                  </a:lnTo>
                  <a:lnTo>
                    <a:pt x="19" y="38"/>
                  </a:lnTo>
                  <a:lnTo>
                    <a:pt x="12" y="27"/>
                  </a:lnTo>
                  <a:lnTo>
                    <a:pt x="7" y="19"/>
                  </a:lnTo>
                  <a:lnTo>
                    <a:pt x="2" y="10"/>
                  </a:lnTo>
                  <a:lnTo>
                    <a:pt x="0" y="2"/>
                  </a:lnTo>
                  <a:lnTo>
                    <a:pt x="9" y="3"/>
                  </a:lnTo>
                  <a:lnTo>
                    <a:pt x="18" y="5"/>
                  </a:lnTo>
                  <a:lnTo>
                    <a:pt x="28" y="10"/>
                  </a:lnTo>
                  <a:lnTo>
                    <a:pt x="38" y="17"/>
                  </a:lnTo>
                  <a:lnTo>
                    <a:pt x="45" y="22"/>
                  </a:lnTo>
                  <a:lnTo>
                    <a:pt x="52" y="29"/>
                  </a:lnTo>
                  <a:lnTo>
                    <a:pt x="59" y="34"/>
                  </a:lnTo>
                  <a:lnTo>
                    <a:pt x="67" y="41"/>
                  </a:lnTo>
                  <a:lnTo>
                    <a:pt x="74" y="48"/>
                  </a:lnTo>
                  <a:lnTo>
                    <a:pt x="81" y="56"/>
                  </a:lnTo>
                  <a:lnTo>
                    <a:pt x="90" y="63"/>
                  </a:lnTo>
                  <a:lnTo>
                    <a:pt x="96" y="72"/>
                  </a:lnTo>
                  <a:lnTo>
                    <a:pt x="103" y="80"/>
                  </a:lnTo>
                  <a:lnTo>
                    <a:pt x="112" y="91"/>
                  </a:lnTo>
                  <a:lnTo>
                    <a:pt x="119" y="99"/>
                  </a:lnTo>
                  <a:lnTo>
                    <a:pt x="126" y="108"/>
                  </a:lnTo>
                  <a:lnTo>
                    <a:pt x="131" y="118"/>
                  </a:lnTo>
                  <a:lnTo>
                    <a:pt x="138" y="127"/>
                  </a:lnTo>
                  <a:lnTo>
                    <a:pt x="143" y="137"/>
                  </a:lnTo>
                  <a:lnTo>
                    <a:pt x="148" y="147"/>
                  </a:lnTo>
                  <a:lnTo>
                    <a:pt x="158" y="128"/>
                  </a:lnTo>
                  <a:lnTo>
                    <a:pt x="170" y="110"/>
                  </a:lnTo>
                  <a:lnTo>
                    <a:pt x="184" y="91"/>
                  </a:lnTo>
                  <a:lnTo>
                    <a:pt x="198" y="72"/>
                  </a:lnTo>
                  <a:lnTo>
                    <a:pt x="204" y="63"/>
                  </a:lnTo>
                  <a:lnTo>
                    <a:pt x="213" y="56"/>
                  </a:lnTo>
                  <a:lnTo>
                    <a:pt x="220" y="48"/>
                  </a:lnTo>
                  <a:lnTo>
                    <a:pt x="228" y="41"/>
                  </a:lnTo>
                  <a:lnTo>
                    <a:pt x="235" y="34"/>
                  </a:lnTo>
                  <a:lnTo>
                    <a:pt x="244" y="29"/>
                  </a:lnTo>
                  <a:lnTo>
                    <a:pt x="251" y="24"/>
                  </a:lnTo>
                  <a:lnTo>
                    <a:pt x="258" y="19"/>
                  </a:lnTo>
                  <a:lnTo>
                    <a:pt x="268" y="12"/>
                  </a:lnTo>
                  <a:lnTo>
                    <a:pt x="278" y="7"/>
                  </a:lnTo>
                  <a:lnTo>
                    <a:pt x="287" y="2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9cc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8" name="CACTWREN" descr=""/>
          <p:cNvPicPr/>
          <p:nvPr/>
        </p:nvPicPr>
        <p:blipFill>
          <a:blip r:embed="rId1"/>
          <a:stretch/>
        </p:blipFill>
        <p:spPr>
          <a:xfrm>
            <a:off x="533520" y="2820960"/>
            <a:ext cx="2971800" cy="1976400"/>
          </a:xfrm>
          <a:prstGeom prst="rect">
            <a:avLst/>
          </a:prstGeom>
          <a:ln w="0">
            <a:noFill/>
          </a:ln>
        </p:spPr>
      </p:pic>
      <p:pic>
        <p:nvPicPr>
          <p:cNvPr id="7959" name="MOCKBIRD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987560" cy="2286000"/>
          </a:xfrm>
          <a:prstGeom prst="rect">
            <a:avLst/>
          </a:prstGeom>
          <a:ln w="0">
            <a:noFill/>
          </a:ln>
        </p:spPr>
      </p:pic>
      <p:sp>
        <p:nvSpPr>
          <p:cNvPr id="7960" name=""/>
          <p:cNvSpPr/>
          <p:nvPr/>
        </p:nvSpPr>
        <p:spPr>
          <a:xfrm>
            <a:off x="1678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2" name=""/>
          <p:cNvSpPr/>
          <p:nvPr/>
        </p:nvSpPr>
        <p:spPr>
          <a:xfrm>
            <a:off x="3257640" y="533520"/>
            <a:ext cx="1238040" cy="14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>
            <a:off x="3532320" y="687240"/>
            <a:ext cx="54000" cy="177840"/>
          </a:xfrm>
          <a:custGeom>
            <a:avLst/>
            <a:gdLst/>
            <a:ahLst/>
            <a:rect l="l" t="t" r="r" b="b"/>
            <a:pathLst>
              <a:path w="69" h="225">
                <a:moveTo>
                  <a:pt x="69" y="220"/>
                </a:moveTo>
                <a:lnTo>
                  <a:pt x="67" y="42"/>
                </a:lnTo>
                <a:lnTo>
                  <a:pt x="8" y="0"/>
                </a:lnTo>
                <a:lnTo>
                  <a:pt x="0" y="2"/>
                </a:lnTo>
                <a:lnTo>
                  <a:pt x="1" y="7"/>
                </a:lnTo>
                <a:lnTo>
                  <a:pt x="8" y="14"/>
                </a:lnTo>
                <a:lnTo>
                  <a:pt x="14" y="15"/>
                </a:lnTo>
                <a:lnTo>
                  <a:pt x="39" y="197"/>
                </a:lnTo>
                <a:lnTo>
                  <a:pt x="47" y="200"/>
                </a:lnTo>
                <a:lnTo>
                  <a:pt x="54" y="206"/>
                </a:lnTo>
                <a:lnTo>
                  <a:pt x="59" y="215"/>
                </a:lnTo>
                <a:lnTo>
                  <a:pt x="64" y="225"/>
                </a:lnTo>
                <a:lnTo>
                  <a:pt x="64" y="225"/>
                </a:lnTo>
                <a:lnTo>
                  <a:pt x="67" y="221"/>
                </a:lnTo>
                <a:lnTo>
                  <a:pt x="69" y="220"/>
                </a:lnTo>
                <a:lnTo>
                  <a:pt x="69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6" name="j0104508" descr=""/>
          <p:cNvPicPr/>
          <p:nvPr/>
        </p:nvPicPr>
        <p:blipFill>
          <a:blip r:embed="rId1"/>
          <a:stretch/>
        </p:blipFill>
        <p:spPr>
          <a:xfrm>
            <a:off x="1600200" y="3079800"/>
            <a:ext cx="14605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7967" name=""/>
          <p:cNvGrpSpPr/>
          <p:nvPr/>
        </p:nvGrpSpPr>
        <p:grpSpPr>
          <a:xfrm>
            <a:off x="6124680" y="2962440"/>
            <a:ext cx="1638360" cy="1676160"/>
            <a:chOff x="6124680" y="2962440"/>
            <a:chExt cx="1638360" cy="1676160"/>
          </a:xfrm>
        </p:grpSpPr>
        <p:sp>
          <p:nvSpPr>
            <p:cNvPr id="7968" name=""/>
            <p:cNvSpPr/>
            <p:nvPr/>
          </p:nvSpPr>
          <p:spPr>
            <a:xfrm>
              <a:off x="6124680" y="2962440"/>
              <a:ext cx="1638360" cy="1676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6184800" y="3048120"/>
              <a:ext cx="1525680" cy="1522440"/>
            </a:xfrm>
            <a:custGeom>
              <a:avLst/>
              <a:gdLst/>
              <a:ahLst/>
              <a:rect l="l" t="t" r="r" b="b"/>
              <a:pathLst>
                <a:path w="5765" h="5759">
                  <a:moveTo>
                    <a:pt x="2882" y="5759"/>
                  </a:moveTo>
                  <a:lnTo>
                    <a:pt x="2779" y="5757"/>
                  </a:lnTo>
                  <a:lnTo>
                    <a:pt x="2677" y="5751"/>
                  </a:lnTo>
                  <a:lnTo>
                    <a:pt x="2577" y="5743"/>
                  </a:lnTo>
                  <a:lnTo>
                    <a:pt x="2478" y="5732"/>
                  </a:lnTo>
                  <a:lnTo>
                    <a:pt x="2379" y="5716"/>
                  </a:lnTo>
                  <a:lnTo>
                    <a:pt x="2283" y="5698"/>
                  </a:lnTo>
                  <a:lnTo>
                    <a:pt x="2188" y="5676"/>
                  </a:lnTo>
                  <a:lnTo>
                    <a:pt x="2094" y="5652"/>
                  </a:lnTo>
                  <a:lnTo>
                    <a:pt x="2002" y="5625"/>
                  </a:lnTo>
                  <a:lnTo>
                    <a:pt x="1911" y="5594"/>
                  </a:lnTo>
                  <a:lnTo>
                    <a:pt x="1735" y="5524"/>
                  </a:lnTo>
                  <a:lnTo>
                    <a:pt x="1566" y="5444"/>
                  </a:lnTo>
                  <a:lnTo>
                    <a:pt x="1483" y="5400"/>
                  </a:lnTo>
                  <a:lnTo>
                    <a:pt x="1403" y="5354"/>
                  </a:lnTo>
                  <a:lnTo>
                    <a:pt x="1324" y="5305"/>
                  </a:lnTo>
                  <a:lnTo>
                    <a:pt x="1248" y="5254"/>
                  </a:lnTo>
                  <a:lnTo>
                    <a:pt x="1099" y="5144"/>
                  </a:lnTo>
                  <a:lnTo>
                    <a:pt x="960" y="5025"/>
                  </a:lnTo>
                  <a:lnTo>
                    <a:pt x="828" y="4898"/>
                  </a:lnTo>
                  <a:lnTo>
                    <a:pt x="705" y="4763"/>
                  </a:lnTo>
                  <a:lnTo>
                    <a:pt x="646" y="4693"/>
                  </a:lnTo>
                  <a:lnTo>
                    <a:pt x="591" y="4622"/>
                  </a:lnTo>
                  <a:lnTo>
                    <a:pt x="485" y="4473"/>
                  </a:lnTo>
                  <a:lnTo>
                    <a:pt x="390" y="4319"/>
                  </a:lnTo>
                  <a:lnTo>
                    <a:pt x="304" y="4159"/>
                  </a:lnTo>
                  <a:lnTo>
                    <a:pt x="228" y="3993"/>
                  </a:lnTo>
                  <a:lnTo>
                    <a:pt x="162" y="3823"/>
                  </a:lnTo>
                  <a:lnTo>
                    <a:pt x="108" y="3649"/>
                  </a:lnTo>
                  <a:lnTo>
                    <a:pt x="64" y="3473"/>
                  </a:lnTo>
                  <a:lnTo>
                    <a:pt x="46" y="3383"/>
                  </a:lnTo>
                  <a:lnTo>
                    <a:pt x="30" y="3292"/>
                  </a:lnTo>
                  <a:lnTo>
                    <a:pt x="19" y="3201"/>
                  </a:lnTo>
                  <a:lnTo>
                    <a:pt x="10" y="3109"/>
                  </a:lnTo>
                  <a:lnTo>
                    <a:pt x="0" y="2923"/>
                  </a:lnTo>
                  <a:lnTo>
                    <a:pt x="3" y="2737"/>
                  </a:lnTo>
                  <a:lnTo>
                    <a:pt x="10" y="2644"/>
                  </a:lnTo>
                  <a:lnTo>
                    <a:pt x="19" y="2551"/>
                  </a:lnTo>
                  <a:lnTo>
                    <a:pt x="47" y="2363"/>
                  </a:lnTo>
                  <a:lnTo>
                    <a:pt x="66" y="2270"/>
                  </a:lnTo>
                  <a:lnTo>
                    <a:pt x="88" y="2176"/>
                  </a:lnTo>
                  <a:lnTo>
                    <a:pt x="114" y="2083"/>
                  </a:lnTo>
                  <a:lnTo>
                    <a:pt x="142" y="1990"/>
                  </a:lnTo>
                  <a:lnTo>
                    <a:pt x="211" y="1804"/>
                  </a:lnTo>
                  <a:lnTo>
                    <a:pt x="250" y="1712"/>
                  </a:lnTo>
                  <a:lnTo>
                    <a:pt x="294" y="1620"/>
                  </a:lnTo>
                  <a:lnTo>
                    <a:pt x="340" y="1529"/>
                  </a:lnTo>
                  <a:lnTo>
                    <a:pt x="390" y="1439"/>
                  </a:lnTo>
                  <a:lnTo>
                    <a:pt x="444" y="1350"/>
                  </a:lnTo>
                  <a:lnTo>
                    <a:pt x="499" y="1265"/>
                  </a:lnTo>
                  <a:lnTo>
                    <a:pt x="557" y="1182"/>
                  </a:lnTo>
                  <a:lnTo>
                    <a:pt x="616" y="1102"/>
                  </a:lnTo>
                  <a:lnTo>
                    <a:pt x="679" y="1025"/>
                  </a:lnTo>
                  <a:lnTo>
                    <a:pt x="743" y="950"/>
                  </a:lnTo>
                  <a:lnTo>
                    <a:pt x="809" y="879"/>
                  </a:lnTo>
                  <a:lnTo>
                    <a:pt x="877" y="810"/>
                  </a:lnTo>
                  <a:lnTo>
                    <a:pt x="1019" y="680"/>
                  </a:lnTo>
                  <a:lnTo>
                    <a:pt x="1092" y="619"/>
                  </a:lnTo>
                  <a:lnTo>
                    <a:pt x="1166" y="562"/>
                  </a:lnTo>
                  <a:lnTo>
                    <a:pt x="1321" y="455"/>
                  </a:lnTo>
                  <a:lnTo>
                    <a:pt x="1481" y="360"/>
                  </a:lnTo>
                  <a:lnTo>
                    <a:pt x="1645" y="275"/>
                  </a:lnTo>
                  <a:lnTo>
                    <a:pt x="1729" y="238"/>
                  </a:lnTo>
                  <a:lnTo>
                    <a:pt x="1815" y="202"/>
                  </a:lnTo>
                  <a:lnTo>
                    <a:pt x="1987" y="140"/>
                  </a:lnTo>
                  <a:lnTo>
                    <a:pt x="2162" y="90"/>
                  </a:lnTo>
                  <a:lnTo>
                    <a:pt x="2251" y="69"/>
                  </a:lnTo>
                  <a:lnTo>
                    <a:pt x="2341" y="50"/>
                  </a:lnTo>
                  <a:lnTo>
                    <a:pt x="2521" y="22"/>
                  </a:lnTo>
                  <a:lnTo>
                    <a:pt x="2611" y="13"/>
                  </a:lnTo>
                  <a:lnTo>
                    <a:pt x="2702" y="6"/>
                  </a:lnTo>
                  <a:lnTo>
                    <a:pt x="2884" y="0"/>
                  </a:lnTo>
                  <a:lnTo>
                    <a:pt x="3064" y="6"/>
                  </a:lnTo>
                  <a:lnTo>
                    <a:pt x="3155" y="13"/>
                  </a:lnTo>
                  <a:lnTo>
                    <a:pt x="3245" y="22"/>
                  </a:lnTo>
                  <a:lnTo>
                    <a:pt x="3425" y="50"/>
                  </a:lnTo>
                  <a:lnTo>
                    <a:pt x="3515" y="69"/>
                  </a:lnTo>
                  <a:lnTo>
                    <a:pt x="3604" y="90"/>
                  </a:lnTo>
                  <a:lnTo>
                    <a:pt x="3779" y="140"/>
                  </a:lnTo>
                  <a:lnTo>
                    <a:pt x="3951" y="202"/>
                  </a:lnTo>
                  <a:lnTo>
                    <a:pt x="4037" y="238"/>
                  </a:lnTo>
                  <a:lnTo>
                    <a:pt x="4121" y="275"/>
                  </a:lnTo>
                  <a:lnTo>
                    <a:pt x="4285" y="360"/>
                  </a:lnTo>
                  <a:lnTo>
                    <a:pt x="4445" y="455"/>
                  </a:lnTo>
                  <a:lnTo>
                    <a:pt x="4600" y="562"/>
                  </a:lnTo>
                  <a:lnTo>
                    <a:pt x="4674" y="619"/>
                  </a:lnTo>
                  <a:lnTo>
                    <a:pt x="4747" y="680"/>
                  </a:lnTo>
                  <a:lnTo>
                    <a:pt x="4889" y="810"/>
                  </a:lnTo>
                  <a:lnTo>
                    <a:pt x="4957" y="879"/>
                  </a:lnTo>
                  <a:lnTo>
                    <a:pt x="5023" y="950"/>
                  </a:lnTo>
                  <a:lnTo>
                    <a:pt x="5087" y="1025"/>
                  </a:lnTo>
                  <a:lnTo>
                    <a:pt x="5150" y="1102"/>
                  </a:lnTo>
                  <a:lnTo>
                    <a:pt x="5209" y="1182"/>
                  </a:lnTo>
                  <a:lnTo>
                    <a:pt x="5267" y="1265"/>
                  </a:lnTo>
                  <a:lnTo>
                    <a:pt x="5376" y="1439"/>
                  </a:lnTo>
                  <a:lnTo>
                    <a:pt x="5426" y="1529"/>
                  </a:lnTo>
                  <a:lnTo>
                    <a:pt x="5472" y="1620"/>
                  </a:lnTo>
                  <a:lnTo>
                    <a:pt x="5515" y="1712"/>
                  </a:lnTo>
                  <a:lnTo>
                    <a:pt x="5555" y="1804"/>
                  </a:lnTo>
                  <a:lnTo>
                    <a:pt x="5623" y="1990"/>
                  </a:lnTo>
                  <a:lnTo>
                    <a:pt x="5652" y="2083"/>
                  </a:lnTo>
                  <a:lnTo>
                    <a:pt x="5678" y="2176"/>
                  </a:lnTo>
                  <a:lnTo>
                    <a:pt x="5719" y="2363"/>
                  </a:lnTo>
                  <a:lnTo>
                    <a:pt x="5747" y="2551"/>
                  </a:lnTo>
                  <a:lnTo>
                    <a:pt x="5763" y="2737"/>
                  </a:lnTo>
                  <a:lnTo>
                    <a:pt x="5765" y="2923"/>
                  </a:lnTo>
                  <a:lnTo>
                    <a:pt x="5755" y="3109"/>
                  </a:lnTo>
                  <a:lnTo>
                    <a:pt x="5735" y="3292"/>
                  </a:lnTo>
                  <a:lnTo>
                    <a:pt x="5720" y="3383"/>
                  </a:lnTo>
                  <a:lnTo>
                    <a:pt x="5702" y="3473"/>
                  </a:lnTo>
                  <a:lnTo>
                    <a:pt x="5658" y="3649"/>
                  </a:lnTo>
                  <a:lnTo>
                    <a:pt x="5632" y="3737"/>
                  </a:lnTo>
                  <a:lnTo>
                    <a:pt x="5603" y="3823"/>
                  </a:lnTo>
                  <a:lnTo>
                    <a:pt x="5538" y="3993"/>
                  </a:lnTo>
                  <a:lnTo>
                    <a:pt x="5462" y="4159"/>
                  </a:lnTo>
                  <a:lnTo>
                    <a:pt x="5420" y="4239"/>
                  </a:lnTo>
                  <a:lnTo>
                    <a:pt x="5376" y="4319"/>
                  </a:lnTo>
                  <a:lnTo>
                    <a:pt x="5280" y="4473"/>
                  </a:lnTo>
                  <a:lnTo>
                    <a:pt x="5228" y="4549"/>
                  </a:lnTo>
                  <a:lnTo>
                    <a:pt x="5175" y="4622"/>
                  </a:lnTo>
                  <a:lnTo>
                    <a:pt x="5060" y="4763"/>
                  </a:lnTo>
                  <a:lnTo>
                    <a:pt x="4938" y="4898"/>
                  </a:lnTo>
                  <a:lnTo>
                    <a:pt x="4873" y="4963"/>
                  </a:lnTo>
                  <a:lnTo>
                    <a:pt x="4806" y="5025"/>
                  </a:lnTo>
                  <a:lnTo>
                    <a:pt x="4737" y="5085"/>
                  </a:lnTo>
                  <a:lnTo>
                    <a:pt x="4666" y="5144"/>
                  </a:lnTo>
                  <a:lnTo>
                    <a:pt x="4592" y="5199"/>
                  </a:lnTo>
                  <a:lnTo>
                    <a:pt x="4518" y="5254"/>
                  </a:lnTo>
                  <a:lnTo>
                    <a:pt x="4442" y="5305"/>
                  </a:lnTo>
                  <a:lnTo>
                    <a:pt x="4362" y="5354"/>
                  </a:lnTo>
                  <a:lnTo>
                    <a:pt x="4200" y="5444"/>
                  </a:lnTo>
                  <a:lnTo>
                    <a:pt x="4031" y="5524"/>
                  </a:lnTo>
                  <a:lnTo>
                    <a:pt x="3943" y="5561"/>
                  </a:lnTo>
                  <a:lnTo>
                    <a:pt x="3854" y="5594"/>
                  </a:lnTo>
                  <a:lnTo>
                    <a:pt x="3763" y="5625"/>
                  </a:lnTo>
                  <a:lnTo>
                    <a:pt x="3671" y="5652"/>
                  </a:lnTo>
                  <a:lnTo>
                    <a:pt x="3578" y="5676"/>
                  </a:lnTo>
                  <a:lnTo>
                    <a:pt x="3483" y="5698"/>
                  </a:lnTo>
                  <a:lnTo>
                    <a:pt x="3386" y="5716"/>
                  </a:lnTo>
                  <a:lnTo>
                    <a:pt x="3288" y="5732"/>
                  </a:lnTo>
                  <a:lnTo>
                    <a:pt x="3189" y="5743"/>
                  </a:lnTo>
                  <a:lnTo>
                    <a:pt x="3087" y="5751"/>
                  </a:lnTo>
                  <a:lnTo>
                    <a:pt x="2986" y="5757"/>
                  </a:lnTo>
                  <a:lnTo>
                    <a:pt x="2882" y="5759"/>
                  </a:lnTo>
                  <a:lnTo>
                    <a:pt x="2882" y="5733"/>
                  </a:lnTo>
                  <a:lnTo>
                    <a:pt x="2780" y="5731"/>
                  </a:lnTo>
                  <a:lnTo>
                    <a:pt x="2679" y="5725"/>
                  </a:lnTo>
                  <a:lnTo>
                    <a:pt x="2579" y="5717"/>
                  </a:lnTo>
                  <a:lnTo>
                    <a:pt x="2481" y="5705"/>
                  </a:lnTo>
                  <a:lnTo>
                    <a:pt x="2287" y="5672"/>
                  </a:lnTo>
                  <a:lnTo>
                    <a:pt x="2193" y="5651"/>
                  </a:lnTo>
                  <a:lnTo>
                    <a:pt x="2100" y="5627"/>
                  </a:lnTo>
                  <a:lnTo>
                    <a:pt x="2009" y="5600"/>
                  </a:lnTo>
                  <a:lnTo>
                    <a:pt x="1919" y="5569"/>
                  </a:lnTo>
                  <a:lnTo>
                    <a:pt x="1745" y="5500"/>
                  </a:lnTo>
                  <a:lnTo>
                    <a:pt x="1576" y="5421"/>
                  </a:lnTo>
                  <a:lnTo>
                    <a:pt x="1495" y="5378"/>
                  </a:lnTo>
                  <a:lnTo>
                    <a:pt x="1415" y="5331"/>
                  </a:lnTo>
                  <a:lnTo>
                    <a:pt x="1338" y="5283"/>
                  </a:lnTo>
                  <a:lnTo>
                    <a:pt x="1261" y="5232"/>
                  </a:lnTo>
                  <a:lnTo>
                    <a:pt x="1115" y="5123"/>
                  </a:lnTo>
                  <a:lnTo>
                    <a:pt x="976" y="5006"/>
                  </a:lnTo>
                  <a:lnTo>
                    <a:pt x="910" y="4944"/>
                  </a:lnTo>
                  <a:lnTo>
                    <a:pt x="846" y="4880"/>
                  </a:lnTo>
                  <a:lnTo>
                    <a:pt x="783" y="4814"/>
                  </a:lnTo>
                  <a:lnTo>
                    <a:pt x="724" y="4746"/>
                  </a:lnTo>
                  <a:lnTo>
                    <a:pt x="611" y="4606"/>
                  </a:lnTo>
                  <a:lnTo>
                    <a:pt x="506" y="4459"/>
                  </a:lnTo>
                  <a:lnTo>
                    <a:pt x="411" y="4306"/>
                  </a:lnTo>
                  <a:lnTo>
                    <a:pt x="326" y="4147"/>
                  </a:lnTo>
                  <a:lnTo>
                    <a:pt x="251" y="3984"/>
                  </a:lnTo>
                  <a:lnTo>
                    <a:pt x="186" y="3816"/>
                  </a:lnTo>
                  <a:lnTo>
                    <a:pt x="132" y="3643"/>
                  </a:lnTo>
                  <a:lnTo>
                    <a:pt x="88" y="3467"/>
                  </a:lnTo>
                  <a:lnTo>
                    <a:pt x="70" y="3378"/>
                  </a:lnTo>
                  <a:lnTo>
                    <a:pt x="56" y="3288"/>
                  </a:lnTo>
                  <a:lnTo>
                    <a:pt x="44" y="3197"/>
                  </a:lnTo>
                  <a:lnTo>
                    <a:pt x="35" y="3106"/>
                  </a:lnTo>
                  <a:lnTo>
                    <a:pt x="25" y="2923"/>
                  </a:lnTo>
                  <a:lnTo>
                    <a:pt x="28" y="2739"/>
                  </a:lnTo>
                  <a:lnTo>
                    <a:pt x="35" y="2646"/>
                  </a:lnTo>
                  <a:lnTo>
                    <a:pt x="44" y="2554"/>
                  </a:lnTo>
                  <a:lnTo>
                    <a:pt x="71" y="2368"/>
                  </a:lnTo>
                  <a:lnTo>
                    <a:pt x="113" y="2182"/>
                  </a:lnTo>
                  <a:lnTo>
                    <a:pt x="138" y="2090"/>
                  </a:lnTo>
                  <a:lnTo>
                    <a:pt x="166" y="1998"/>
                  </a:lnTo>
                  <a:lnTo>
                    <a:pt x="199" y="1906"/>
                  </a:lnTo>
                  <a:lnTo>
                    <a:pt x="234" y="1814"/>
                  </a:lnTo>
                  <a:lnTo>
                    <a:pt x="316" y="1632"/>
                  </a:lnTo>
                  <a:lnTo>
                    <a:pt x="362" y="1542"/>
                  </a:lnTo>
                  <a:lnTo>
                    <a:pt x="412" y="1452"/>
                  </a:lnTo>
                  <a:lnTo>
                    <a:pt x="464" y="1364"/>
                  </a:lnTo>
                  <a:lnTo>
                    <a:pt x="520" y="1279"/>
                  </a:lnTo>
                  <a:lnTo>
                    <a:pt x="577" y="1197"/>
                  </a:lnTo>
                  <a:lnTo>
                    <a:pt x="637" y="1117"/>
                  </a:lnTo>
                  <a:lnTo>
                    <a:pt x="761" y="967"/>
                  </a:lnTo>
                  <a:lnTo>
                    <a:pt x="827" y="896"/>
                  </a:lnTo>
                  <a:lnTo>
                    <a:pt x="894" y="828"/>
                  </a:lnTo>
                  <a:lnTo>
                    <a:pt x="964" y="763"/>
                  </a:lnTo>
                  <a:lnTo>
                    <a:pt x="1034" y="700"/>
                  </a:lnTo>
                  <a:lnTo>
                    <a:pt x="1182" y="583"/>
                  </a:lnTo>
                  <a:lnTo>
                    <a:pt x="1335" y="476"/>
                  </a:lnTo>
                  <a:lnTo>
                    <a:pt x="1493" y="382"/>
                  </a:lnTo>
                  <a:lnTo>
                    <a:pt x="1656" y="298"/>
                  </a:lnTo>
                  <a:lnTo>
                    <a:pt x="1823" y="226"/>
                  </a:lnTo>
                  <a:lnTo>
                    <a:pt x="1995" y="164"/>
                  </a:lnTo>
                  <a:lnTo>
                    <a:pt x="2168" y="114"/>
                  </a:lnTo>
                  <a:lnTo>
                    <a:pt x="2256" y="93"/>
                  </a:lnTo>
                  <a:lnTo>
                    <a:pt x="2345" y="76"/>
                  </a:lnTo>
                  <a:lnTo>
                    <a:pt x="2523" y="47"/>
                  </a:lnTo>
                  <a:lnTo>
                    <a:pt x="2613" y="38"/>
                  </a:lnTo>
                  <a:lnTo>
                    <a:pt x="2703" y="31"/>
                  </a:lnTo>
                  <a:lnTo>
                    <a:pt x="2882" y="25"/>
                  </a:lnTo>
                  <a:lnTo>
                    <a:pt x="3062" y="31"/>
                  </a:lnTo>
                  <a:lnTo>
                    <a:pt x="3152" y="38"/>
                  </a:lnTo>
                  <a:lnTo>
                    <a:pt x="3242" y="47"/>
                  </a:lnTo>
                  <a:lnTo>
                    <a:pt x="3420" y="76"/>
                  </a:lnTo>
                  <a:lnTo>
                    <a:pt x="3509" y="93"/>
                  </a:lnTo>
                  <a:lnTo>
                    <a:pt x="3597" y="114"/>
                  </a:lnTo>
                  <a:lnTo>
                    <a:pt x="3770" y="164"/>
                  </a:lnTo>
                  <a:lnTo>
                    <a:pt x="3942" y="226"/>
                  </a:lnTo>
                  <a:lnTo>
                    <a:pt x="4109" y="298"/>
                  </a:lnTo>
                  <a:lnTo>
                    <a:pt x="4272" y="382"/>
                  </a:lnTo>
                  <a:lnTo>
                    <a:pt x="4430" y="476"/>
                  </a:lnTo>
                  <a:lnTo>
                    <a:pt x="4584" y="583"/>
                  </a:lnTo>
                  <a:lnTo>
                    <a:pt x="4730" y="700"/>
                  </a:lnTo>
                  <a:lnTo>
                    <a:pt x="4871" y="828"/>
                  </a:lnTo>
                  <a:lnTo>
                    <a:pt x="5005" y="967"/>
                  </a:lnTo>
                  <a:lnTo>
                    <a:pt x="5129" y="1117"/>
                  </a:lnTo>
                  <a:lnTo>
                    <a:pt x="5189" y="1197"/>
                  </a:lnTo>
                  <a:lnTo>
                    <a:pt x="5246" y="1279"/>
                  </a:lnTo>
                  <a:lnTo>
                    <a:pt x="5302" y="1364"/>
                  </a:lnTo>
                  <a:lnTo>
                    <a:pt x="5354" y="1452"/>
                  </a:lnTo>
                  <a:lnTo>
                    <a:pt x="5450" y="1632"/>
                  </a:lnTo>
                  <a:lnTo>
                    <a:pt x="5532" y="1814"/>
                  </a:lnTo>
                  <a:lnTo>
                    <a:pt x="5599" y="1998"/>
                  </a:lnTo>
                  <a:lnTo>
                    <a:pt x="5653" y="2182"/>
                  </a:lnTo>
                  <a:lnTo>
                    <a:pt x="5694" y="2368"/>
                  </a:lnTo>
                  <a:lnTo>
                    <a:pt x="5709" y="2461"/>
                  </a:lnTo>
                  <a:lnTo>
                    <a:pt x="5722" y="2554"/>
                  </a:lnTo>
                  <a:lnTo>
                    <a:pt x="5737" y="2739"/>
                  </a:lnTo>
                  <a:lnTo>
                    <a:pt x="5740" y="2923"/>
                  </a:lnTo>
                  <a:lnTo>
                    <a:pt x="5730" y="3106"/>
                  </a:lnTo>
                  <a:lnTo>
                    <a:pt x="5709" y="3288"/>
                  </a:lnTo>
                  <a:lnTo>
                    <a:pt x="5677" y="3467"/>
                  </a:lnTo>
                  <a:lnTo>
                    <a:pt x="5633" y="3643"/>
                  </a:lnTo>
                  <a:lnTo>
                    <a:pt x="5579" y="3816"/>
                  </a:lnTo>
                  <a:lnTo>
                    <a:pt x="5514" y="3984"/>
                  </a:lnTo>
                  <a:lnTo>
                    <a:pt x="5439" y="4147"/>
                  </a:lnTo>
                  <a:lnTo>
                    <a:pt x="5354" y="4306"/>
                  </a:lnTo>
                  <a:lnTo>
                    <a:pt x="5259" y="4459"/>
                  </a:lnTo>
                  <a:lnTo>
                    <a:pt x="5154" y="4606"/>
                  </a:lnTo>
                  <a:lnTo>
                    <a:pt x="5041" y="4746"/>
                  </a:lnTo>
                  <a:lnTo>
                    <a:pt x="4919" y="4880"/>
                  </a:lnTo>
                  <a:lnTo>
                    <a:pt x="4855" y="4944"/>
                  </a:lnTo>
                  <a:lnTo>
                    <a:pt x="4789" y="5006"/>
                  </a:lnTo>
                  <a:lnTo>
                    <a:pt x="4650" y="5123"/>
                  </a:lnTo>
                  <a:lnTo>
                    <a:pt x="4504" y="5232"/>
                  </a:lnTo>
                  <a:lnTo>
                    <a:pt x="4427" y="5283"/>
                  </a:lnTo>
                  <a:lnTo>
                    <a:pt x="4350" y="5331"/>
                  </a:lnTo>
                  <a:lnTo>
                    <a:pt x="4270" y="5378"/>
                  </a:lnTo>
                  <a:lnTo>
                    <a:pt x="4189" y="5421"/>
                  </a:lnTo>
                  <a:lnTo>
                    <a:pt x="4020" y="5500"/>
                  </a:lnTo>
                  <a:lnTo>
                    <a:pt x="3846" y="5569"/>
                  </a:lnTo>
                  <a:lnTo>
                    <a:pt x="3756" y="5600"/>
                  </a:lnTo>
                  <a:lnTo>
                    <a:pt x="3665" y="5627"/>
                  </a:lnTo>
                  <a:lnTo>
                    <a:pt x="3572" y="5651"/>
                  </a:lnTo>
                  <a:lnTo>
                    <a:pt x="3478" y="5672"/>
                  </a:lnTo>
                  <a:lnTo>
                    <a:pt x="3284" y="5705"/>
                  </a:lnTo>
                  <a:lnTo>
                    <a:pt x="3186" y="5717"/>
                  </a:lnTo>
                  <a:lnTo>
                    <a:pt x="3086" y="5725"/>
                  </a:lnTo>
                  <a:lnTo>
                    <a:pt x="2985" y="5731"/>
                  </a:lnTo>
                  <a:lnTo>
                    <a:pt x="2882" y="5733"/>
                  </a:lnTo>
                  <a:lnTo>
                    <a:pt x="2882" y="5759"/>
                  </a:lnTo>
                  <a:close/>
                  <a:moveTo>
                    <a:pt x="2882" y="5549"/>
                  </a:moveTo>
                  <a:lnTo>
                    <a:pt x="2786" y="5546"/>
                  </a:lnTo>
                  <a:lnTo>
                    <a:pt x="2692" y="5542"/>
                  </a:lnTo>
                  <a:lnTo>
                    <a:pt x="2507" y="5523"/>
                  </a:lnTo>
                  <a:lnTo>
                    <a:pt x="2326" y="5492"/>
                  </a:lnTo>
                  <a:lnTo>
                    <a:pt x="2151" y="5449"/>
                  </a:lnTo>
                  <a:lnTo>
                    <a:pt x="1982" y="5396"/>
                  </a:lnTo>
                  <a:lnTo>
                    <a:pt x="1899" y="5364"/>
                  </a:lnTo>
                  <a:lnTo>
                    <a:pt x="1819" y="5331"/>
                  </a:lnTo>
                  <a:lnTo>
                    <a:pt x="1661" y="5257"/>
                  </a:lnTo>
                  <a:lnTo>
                    <a:pt x="1510" y="5173"/>
                  </a:lnTo>
                  <a:lnTo>
                    <a:pt x="1366" y="5080"/>
                  </a:lnTo>
                  <a:lnTo>
                    <a:pt x="1229" y="4979"/>
                  </a:lnTo>
                  <a:lnTo>
                    <a:pt x="1163" y="4924"/>
                  </a:lnTo>
                  <a:lnTo>
                    <a:pt x="1099" y="4869"/>
                  </a:lnTo>
                  <a:lnTo>
                    <a:pt x="978" y="4751"/>
                  </a:lnTo>
                  <a:lnTo>
                    <a:pt x="864" y="4626"/>
                  </a:lnTo>
                  <a:lnTo>
                    <a:pt x="757" y="4494"/>
                  </a:lnTo>
                  <a:lnTo>
                    <a:pt x="660" y="4357"/>
                  </a:lnTo>
                  <a:lnTo>
                    <a:pt x="615" y="4286"/>
                  </a:lnTo>
                  <a:lnTo>
                    <a:pt x="571" y="4214"/>
                  </a:lnTo>
                  <a:lnTo>
                    <a:pt x="530" y="4140"/>
                  </a:lnTo>
                  <a:lnTo>
                    <a:pt x="492" y="4066"/>
                  </a:lnTo>
                  <a:lnTo>
                    <a:pt x="422" y="3912"/>
                  </a:lnTo>
                  <a:lnTo>
                    <a:pt x="361" y="3755"/>
                  </a:lnTo>
                  <a:lnTo>
                    <a:pt x="310" y="3594"/>
                  </a:lnTo>
                  <a:lnTo>
                    <a:pt x="269" y="3429"/>
                  </a:lnTo>
                  <a:lnTo>
                    <a:pt x="239" y="3262"/>
                  </a:lnTo>
                  <a:lnTo>
                    <a:pt x="219" y="3093"/>
                  </a:lnTo>
                  <a:lnTo>
                    <a:pt x="210" y="2921"/>
                  </a:lnTo>
                  <a:lnTo>
                    <a:pt x="212" y="2749"/>
                  </a:lnTo>
                  <a:lnTo>
                    <a:pt x="227" y="2575"/>
                  </a:lnTo>
                  <a:lnTo>
                    <a:pt x="253" y="2402"/>
                  </a:lnTo>
                  <a:lnTo>
                    <a:pt x="291" y="2228"/>
                  </a:lnTo>
                  <a:lnTo>
                    <a:pt x="342" y="2055"/>
                  </a:lnTo>
                  <a:lnTo>
                    <a:pt x="405" y="1883"/>
                  </a:lnTo>
                  <a:lnTo>
                    <a:pt x="441" y="1798"/>
                  </a:lnTo>
                  <a:lnTo>
                    <a:pt x="481" y="1713"/>
                  </a:lnTo>
                  <a:lnTo>
                    <a:pt x="525" y="1629"/>
                  </a:lnTo>
                  <a:lnTo>
                    <a:pt x="571" y="1545"/>
                  </a:lnTo>
                  <a:lnTo>
                    <a:pt x="620" y="1462"/>
                  </a:lnTo>
                  <a:lnTo>
                    <a:pt x="672" y="1383"/>
                  </a:lnTo>
                  <a:lnTo>
                    <a:pt x="726" y="1307"/>
                  </a:lnTo>
                  <a:lnTo>
                    <a:pt x="781" y="1232"/>
                  </a:lnTo>
                  <a:lnTo>
                    <a:pt x="898" y="1091"/>
                  </a:lnTo>
                  <a:lnTo>
                    <a:pt x="1023" y="961"/>
                  </a:lnTo>
                  <a:lnTo>
                    <a:pt x="1154" y="841"/>
                  </a:lnTo>
                  <a:lnTo>
                    <a:pt x="1291" y="731"/>
                  </a:lnTo>
                  <a:lnTo>
                    <a:pt x="1362" y="681"/>
                  </a:lnTo>
                  <a:lnTo>
                    <a:pt x="1434" y="632"/>
                  </a:lnTo>
                  <a:lnTo>
                    <a:pt x="1582" y="544"/>
                  </a:lnTo>
                  <a:lnTo>
                    <a:pt x="1735" y="466"/>
                  </a:lnTo>
                  <a:lnTo>
                    <a:pt x="1891" y="398"/>
                  </a:lnTo>
                  <a:lnTo>
                    <a:pt x="1972" y="367"/>
                  </a:lnTo>
                  <a:lnTo>
                    <a:pt x="2051" y="340"/>
                  </a:lnTo>
                  <a:lnTo>
                    <a:pt x="2214" y="293"/>
                  </a:lnTo>
                  <a:lnTo>
                    <a:pt x="2297" y="274"/>
                  </a:lnTo>
                  <a:lnTo>
                    <a:pt x="2379" y="257"/>
                  </a:lnTo>
                  <a:lnTo>
                    <a:pt x="2546" y="230"/>
                  </a:lnTo>
                  <a:lnTo>
                    <a:pt x="2714" y="215"/>
                  </a:lnTo>
                  <a:lnTo>
                    <a:pt x="2882" y="211"/>
                  </a:lnTo>
                  <a:lnTo>
                    <a:pt x="3051" y="215"/>
                  </a:lnTo>
                  <a:lnTo>
                    <a:pt x="3219" y="230"/>
                  </a:lnTo>
                  <a:lnTo>
                    <a:pt x="3386" y="257"/>
                  </a:lnTo>
                  <a:lnTo>
                    <a:pt x="3468" y="274"/>
                  </a:lnTo>
                  <a:lnTo>
                    <a:pt x="3551" y="293"/>
                  </a:lnTo>
                  <a:lnTo>
                    <a:pt x="3714" y="340"/>
                  </a:lnTo>
                  <a:lnTo>
                    <a:pt x="3793" y="367"/>
                  </a:lnTo>
                  <a:lnTo>
                    <a:pt x="3874" y="398"/>
                  </a:lnTo>
                  <a:lnTo>
                    <a:pt x="4030" y="466"/>
                  </a:lnTo>
                  <a:lnTo>
                    <a:pt x="4182" y="544"/>
                  </a:lnTo>
                  <a:lnTo>
                    <a:pt x="4331" y="632"/>
                  </a:lnTo>
                  <a:lnTo>
                    <a:pt x="4403" y="681"/>
                  </a:lnTo>
                  <a:lnTo>
                    <a:pt x="4474" y="731"/>
                  </a:lnTo>
                  <a:lnTo>
                    <a:pt x="4611" y="841"/>
                  </a:lnTo>
                  <a:lnTo>
                    <a:pt x="4742" y="961"/>
                  </a:lnTo>
                  <a:lnTo>
                    <a:pt x="4866" y="1091"/>
                  </a:lnTo>
                  <a:lnTo>
                    <a:pt x="4984" y="1232"/>
                  </a:lnTo>
                  <a:lnTo>
                    <a:pt x="5039" y="1307"/>
                  </a:lnTo>
                  <a:lnTo>
                    <a:pt x="5093" y="1383"/>
                  </a:lnTo>
                  <a:lnTo>
                    <a:pt x="5145" y="1462"/>
                  </a:lnTo>
                  <a:lnTo>
                    <a:pt x="5194" y="1545"/>
                  </a:lnTo>
                  <a:lnTo>
                    <a:pt x="5240" y="1629"/>
                  </a:lnTo>
                  <a:lnTo>
                    <a:pt x="5284" y="1713"/>
                  </a:lnTo>
                  <a:lnTo>
                    <a:pt x="5323" y="1798"/>
                  </a:lnTo>
                  <a:lnTo>
                    <a:pt x="5360" y="1883"/>
                  </a:lnTo>
                  <a:lnTo>
                    <a:pt x="5393" y="1969"/>
                  </a:lnTo>
                  <a:lnTo>
                    <a:pt x="5423" y="2055"/>
                  </a:lnTo>
                  <a:lnTo>
                    <a:pt x="5474" y="2228"/>
                  </a:lnTo>
                  <a:lnTo>
                    <a:pt x="5512" y="2402"/>
                  </a:lnTo>
                  <a:lnTo>
                    <a:pt x="5538" y="2575"/>
                  </a:lnTo>
                  <a:lnTo>
                    <a:pt x="5546" y="2662"/>
                  </a:lnTo>
                  <a:lnTo>
                    <a:pt x="5553" y="2749"/>
                  </a:lnTo>
                  <a:lnTo>
                    <a:pt x="5555" y="2921"/>
                  </a:lnTo>
                  <a:lnTo>
                    <a:pt x="5546" y="3093"/>
                  </a:lnTo>
                  <a:lnTo>
                    <a:pt x="5526" y="3262"/>
                  </a:lnTo>
                  <a:lnTo>
                    <a:pt x="5496" y="3429"/>
                  </a:lnTo>
                  <a:lnTo>
                    <a:pt x="5455" y="3594"/>
                  </a:lnTo>
                  <a:lnTo>
                    <a:pt x="5405" y="3755"/>
                  </a:lnTo>
                  <a:lnTo>
                    <a:pt x="5344" y="3912"/>
                  </a:lnTo>
                  <a:lnTo>
                    <a:pt x="5273" y="4066"/>
                  </a:lnTo>
                  <a:lnTo>
                    <a:pt x="5194" y="4214"/>
                  </a:lnTo>
                  <a:lnTo>
                    <a:pt x="5105" y="4357"/>
                  </a:lnTo>
                  <a:lnTo>
                    <a:pt x="5008" y="4494"/>
                  </a:lnTo>
                  <a:lnTo>
                    <a:pt x="4902" y="4626"/>
                  </a:lnTo>
                  <a:lnTo>
                    <a:pt x="4788" y="4751"/>
                  </a:lnTo>
                  <a:lnTo>
                    <a:pt x="4666" y="4869"/>
                  </a:lnTo>
                  <a:lnTo>
                    <a:pt x="4536" y="4979"/>
                  </a:lnTo>
                  <a:lnTo>
                    <a:pt x="4399" y="5080"/>
                  </a:lnTo>
                  <a:lnTo>
                    <a:pt x="4255" y="5173"/>
                  </a:lnTo>
                  <a:lnTo>
                    <a:pt x="4104" y="5257"/>
                  </a:lnTo>
                  <a:lnTo>
                    <a:pt x="3947" y="5331"/>
                  </a:lnTo>
                  <a:lnTo>
                    <a:pt x="3866" y="5364"/>
                  </a:lnTo>
                  <a:lnTo>
                    <a:pt x="3783" y="5396"/>
                  </a:lnTo>
                  <a:lnTo>
                    <a:pt x="3614" y="5449"/>
                  </a:lnTo>
                  <a:lnTo>
                    <a:pt x="3439" y="5492"/>
                  </a:lnTo>
                  <a:lnTo>
                    <a:pt x="3258" y="5523"/>
                  </a:lnTo>
                  <a:lnTo>
                    <a:pt x="3073" y="5542"/>
                  </a:lnTo>
                  <a:lnTo>
                    <a:pt x="2979" y="5546"/>
                  </a:lnTo>
                  <a:lnTo>
                    <a:pt x="2882" y="5549"/>
                  </a:lnTo>
                  <a:lnTo>
                    <a:pt x="2882" y="5513"/>
                  </a:lnTo>
                  <a:lnTo>
                    <a:pt x="2788" y="5511"/>
                  </a:lnTo>
                  <a:lnTo>
                    <a:pt x="2694" y="5507"/>
                  </a:lnTo>
                  <a:lnTo>
                    <a:pt x="2511" y="5488"/>
                  </a:lnTo>
                  <a:lnTo>
                    <a:pt x="2422" y="5474"/>
                  </a:lnTo>
                  <a:lnTo>
                    <a:pt x="2333" y="5458"/>
                  </a:lnTo>
                  <a:lnTo>
                    <a:pt x="2247" y="5438"/>
                  </a:lnTo>
                  <a:lnTo>
                    <a:pt x="2161" y="5416"/>
                  </a:lnTo>
                  <a:lnTo>
                    <a:pt x="2077" y="5390"/>
                  </a:lnTo>
                  <a:lnTo>
                    <a:pt x="1994" y="5362"/>
                  </a:lnTo>
                  <a:lnTo>
                    <a:pt x="1913" y="5332"/>
                  </a:lnTo>
                  <a:lnTo>
                    <a:pt x="1832" y="5299"/>
                  </a:lnTo>
                  <a:lnTo>
                    <a:pt x="1678" y="5225"/>
                  </a:lnTo>
                  <a:lnTo>
                    <a:pt x="1529" y="5143"/>
                  </a:lnTo>
                  <a:lnTo>
                    <a:pt x="1387" y="5051"/>
                  </a:lnTo>
                  <a:lnTo>
                    <a:pt x="1251" y="4950"/>
                  </a:lnTo>
                  <a:lnTo>
                    <a:pt x="1186" y="4897"/>
                  </a:lnTo>
                  <a:lnTo>
                    <a:pt x="1123" y="4842"/>
                  </a:lnTo>
                  <a:lnTo>
                    <a:pt x="1003" y="4725"/>
                  </a:lnTo>
                  <a:lnTo>
                    <a:pt x="946" y="4665"/>
                  </a:lnTo>
                  <a:lnTo>
                    <a:pt x="890" y="4603"/>
                  </a:lnTo>
                  <a:lnTo>
                    <a:pt x="787" y="4473"/>
                  </a:lnTo>
                  <a:lnTo>
                    <a:pt x="737" y="4406"/>
                  </a:lnTo>
                  <a:lnTo>
                    <a:pt x="690" y="4337"/>
                  </a:lnTo>
                  <a:lnTo>
                    <a:pt x="603" y="4196"/>
                  </a:lnTo>
                  <a:lnTo>
                    <a:pt x="524" y="4050"/>
                  </a:lnTo>
                  <a:lnTo>
                    <a:pt x="454" y="3898"/>
                  </a:lnTo>
                  <a:lnTo>
                    <a:pt x="394" y="3743"/>
                  </a:lnTo>
                  <a:lnTo>
                    <a:pt x="344" y="3583"/>
                  </a:lnTo>
                  <a:lnTo>
                    <a:pt x="303" y="3421"/>
                  </a:lnTo>
                  <a:lnTo>
                    <a:pt x="274" y="3257"/>
                  </a:lnTo>
                  <a:lnTo>
                    <a:pt x="254" y="3090"/>
                  </a:lnTo>
                  <a:lnTo>
                    <a:pt x="249" y="3005"/>
                  </a:lnTo>
                  <a:lnTo>
                    <a:pt x="246" y="2920"/>
                  </a:lnTo>
                  <a:lnTo>
                    <a:pt x="249" y="2750"/>
                  </a:lnTo>
                  <a:lnTo>
                    <a:pt x="254" y="2665"/>
                  </a:lnTo>
                  <a:lnTo>
                    <a:pt x="263" y="2579"/>
                  </a:lnTo>
                  <a:lnTo>
                    <a:pt x="289" y="2408"/>
                  </a:lnTo>
                  <a:lnTo>
                    <a:pt x="326" y="2236"/>
                  </a:lnTo>
                  <a:lnTo>
                    <a:pt x="377" y="2066"/>
                  </a:lnTo>
                  <a:lnTo>
                    <a:pt x="439" y="1896"/>
                  </a:lnTo>
                  <a:lnTo>
                    <a:pt x="514" y="1728"/>
                  </a:lnTo>
                  <a:lnTo>
                    <a:pt x="557" y="1645"/>
                  </a:lnTo>
                  <a:lnTo>
                    <a:pt x="603" y="1563"/>
                  </a:lnTo>
                  <a:lnTo>
                    <a:pt x="651" y="1482"/>
                  </a:lnTo>
                  <a:lnTo>
                    <a:pt x="702" y="1404"/>
                  </a:lnTo>
                  <a:lnTo>
                    <a:pt x="755" y="1327"/>
                  </a:lnTo>
                  <a:lnTo>
                    <a:pt x="810" y="1254"/>
                  </a:lnTo>
                  <a:lnTo>
                    <a:pt x="866" y="1183"/>
                  </a:lnTo>
                  <a:lnTo>
                    <a:pt x="925" y="1115"/>
                  </a:lnTo>
                  <a:lnTo>
                    <a:pt x="1048" y="987"/>
                  </a:lnTo>
                  <a:lnTo>
                    <a:pt x="1178" y="868"/>
                  </a:lnTo>
                  <a:lnTo>
                    <a:pt x="1313" y="761"/>
                  </a:lnTo>
                  <a:lnTo>
                    <a:pt x="1454" y="662"/>
                  </a:lnTo>
                  <a:lnTo>
                    <a:pt x="1526" y="617"/>
                  </a:lnTo>
                  <a:lnTo>
                    <a:pt x="1600" y="574"/>
                  </a:lnTo>
                  <a:lnTo>
                    <a:pt x="1751" y="498"/>
                  </a:lnTo>
                  <a:lnTo>
                    <a:pt x="1905" y="431"/>
                  </a:lnTo>
                  <a:lnTo>
                    <a:pt x="2063" y="374"/>
                  </a:lnTo>
                  <a:lnTo>
                    <a:pt x="2224" y="328"/>
                  </a:lnTo>
                  <a:lnTo>
                    <a:pt x="2387" y="292"/>
                  </a:lnTo>
                  <a:lnTo>
                    <a:pt x="2551" y="266"/>
                  </a:lnTo>
                  <a:lnTo>
                    <a:pt x="2716" y="250"/>
                  </a:lnTo>
                  <a:lnTo>
                    <a:pt x="2882" y="245"/>
                  </a:lnTo>
                  <a:lnTo>
                    <a:pt x="2966" y="247"/>
                  </a:lnTo>
                  <a:lnTo>
                    <a:pt x="3049" y="250"/>
                  </a:lnTo>
                  <a:lnTo>
                    <a:pt x="3214" y="266"/>
                  </a:lnTo>
                  <a:lnTo>
                    <a:pt x="3379" y="292"/>
                  </a:lnTo>
                  <a:lnTo>
                    <a:pt x="3461" y="309"/>
                  </a:lnTo>
                  <a:lnTo>
                    <a:pt x="3541" y="328"/>
                  </a:lnTo>
                  <a:lnTo>
                    <a:pt x="3622" y="350"/>
                  </a:lnTo>
                  <a:lnTo>
                    <a:pt x="3702" y="374"/>
                  </a:lnTo>
                  <a:lnTo>
                    <a:pt x="3782" y="401"/>
                  </a:lnTo>
                  <a:lnTo>
                    <a:pt x="3860" y="430"/>
                  </a:lnTo>
                  <a:lnTo>
                    <a:pt x="4015" y="497"/>
                  </a:lnTo>
                  <a:lnTo>
                    <a:pt x="4090" y="535"/>
                  </a:lnTo>
                  <a:lnTo>
                    <a:pt x="4166" y="574"/>
                  </a:lnTo>
                  <a:lnTo>
                    <a:pt x="4311" y="662"/>
                  </a:lnTo>
                  <a:lnTo>
                    <a:pt x="4452" y="760"/>
                  </a:lnTo>
                  <a:lnTo>
                    <a:pt x="4588" y="868"/>
                  </a:lnTo>
                  <a:lnTo>
                    <a:pt x="4718" y="987"/>
                  </a:lnTo>
                  <a:lnTo>
                    <a:pt x="4840" y="1115"/>
                  </a:lnTo>
                  <a:lnTo>
                    <a:pt x="4899" y="1183"/>
                  </a:lnTo>
                  <a:lnTo>
                    <a:pt x="4956" y="1254"/>
                  </a:lnTo>
                  <a:lnTo>
                    <a:pt x="5011" y="1327"/>
                  </a:lnTo>
                  <a:lnTo>
                    <a:pt x="5064" y="1403"/>
                  </a:lnTo>
                  <a:lnTo>
                    <a:pt x="5163" y="1563"/>
                  </a:lnTo>
                  <a:lnTo>
                    <a:pt x="5251" y="1728"/>
                  </a:lnTo>
                  <a:lnTo>
                    <a:pt x="5327" y="1896"/>
                  </a:lnTo>
                  <a:lnTo>
                    <a:pt x="5389" y="2066"/>
                  </a:lnTo>
                  <a:lnTo>
                    <a:pt x="5417" y="2151"/>
                  </a:lnTo>
                  <a:lnTo>
                    <a:pt x="5440" y="2236"/>
                  </a:lnTo>
                  <a:lnTo>
                    <a:pt x="5477" y="2408"/>
                  </a:lnTo>
                  <a:lnTo>
                    <a:pt x="5503" y="2579"/>
                  </a:lnTo>
                  <a:lnTo>
                    <a:pt x="5517" y="2750"/>
                  </a:lnTo>
                  <a:lnTo>
                    <a:pt x="5520" y="2920"/>
                  </a:lnTo>
                  <a:lnTo>
                    <a:pt x="5511" y="3090"/>
                  </a:lnTo>
                  <a:lnTo>
                    <a:pt x="5492" y="3257"/>
                  </a:lnTo>
                  <a:lnTo>
                    <a:pt x="5462" y="3421"/>
                  </a:lnTo>
                  <a:lnTo>
                    <a:pt x="5422" y="3583"/>
                  </a:lnTo>
                  <a:lnTo>
                    <a:pt x="5372" y="3743"/>
                  </a:lnTo>
                  <a:lnTo>
                    <a:pt x="5311" y="3898"/>
                  </a:lnTo>
                  <a:lnTo>
                    <a:pt x="5242" y="4050"/>
                  </a:lnTo>
                  <a:lnTo>
                    <a:pt x="5203" y="4123"/>
                  </a:lnTo>
                  <a:lnTo>
                    <a:pt x="5163" y="4196"/>
                  </a:lnTo>
                  <a:lnTo>
                    <a:pt x="5076" y="4337"/>
                  </a:lnTo>
                  <a:lnTo>
                    <a:pt x="5029" y="4406"/>
                  </a:lnTo>
                  <a:lnTo>
                    <a:pt x="4979" y="4473"/>
                  </a:lnTo>
                  <a:lnTo>
                    <a:pt x="4875" y="4603"/>
                  </a:lnTo>
                  <a:lnTo>
                    <a:pt x="4819" y="4665"/>
                  </a:lnTo>
                  <a:lnTo>
                    <a:pt x="4762" y="4725"/>
                  </a:lnTo>
                  <a:lnTo>
                    <a:pt x="4642" y="4842"/>
                  </a:lnTo>
                  <a:lnTo>
                    <a:pt x="4514" y="4950"/>
                  </a:lnTo>
                  <a:lnTo>
                    <a:pt x="4379" y="5051"/>
                  </a:lnTo>
                  <a:lnTo>
                    <a:pt x="4237" y="5143"/>
                  </a:lnTo>
                  <a:lnTo>
                    <a:pt x="4087" y="5225"/>
                  </a:lnTo>
                  <a:lnTo>
                    <a:pt x="3933" y="5299"/>
                  </a:lnTo>
                  <a:lnTo>
                    <a:pt x="3853" y="5332"/>
                  </a:lnTo>
                  <a:lnTo>
                    <a:pt x="3771" y="5362"/>
                  </a:lnTo>
                  <a:lnTo>
                    <a:pt x="3688" y="5390"/>
                  </a:lnTo>
                  <a:lnTo>
                    <a:pt x="3604" y="5416"/>
                  </a:lnTo>
                  <a:lnTo>
                    <a:pt x="3518" y="5438"/>
                  </a:lnTo>
                  <a:lnTo>
                    <a:pt x="3432" y="5458"/>
                  </a:lnTo>
                  <a:lnTo>
                    <a:pt x="3343" y="5474"/>
                  </a:lnTo>
                  <a:lnTo>
                    <a:pt x="3254" y="5488"/>
                  </a:lnTo>
                  <a:lnTo>
                    <a:pt x="3071" y="5507"/>
                  </a:lnTo>
                  <a:lnTo>
                    <a:pt x="2977" y="5511"/>
                  </a:lnTo>
                  <a:lnTo>
                    <a:pt x="2882" y="5513"/>
                  </a:lnTo>
                  <a:lnTo>
                    <a:pt x="2882" y="5549"/>
                  </a:lnTo>
                  <a:close/>
                  <a:moveTo>
                    <a:pt x="2882" y="5339"/>
                  </a:moveTo>
                  <a:lnTo>
                    <a:pt x="2707" y="5333"/>
                  </a:lnTo>
                  <a:lnTo>
                    <a:pt x="2536" y="5316"/>
                  </a:lnTo>
                  <a:lnTo>
                    <a:pt x="2370" y="5287"/>
                  </a:lnTo>
                  <a:lnTo>
                    <a:pt x="2209" y="5248"/>
                  </a:lnTo>
                  <a:lnTo>
                    <a:pt x="2052" y="5198"/>
                  </a:lnTo>
                  <a:lnTo>
                    <a:pt x="1901" y="5140"/>
                  </a:lnTo>
                  <a:lnTo>
                    <a:pt x="1757" y="5071"/>
                  </a:lnTo>
                  <a:lnTo>
                    <a:pt x="1618" y="4993"/>
                  </a:lnTo>
                  <a:lnTo>
                    <a:pt x="1485" y="4907"/>
                  </a:lnTo>
                  <a:lnTo>
                    <a:pt x="1359" y="4814"/>
                  </a:lnTo>
                  <a:lnTo>
                    <a:pt x="1239" y="4713"/>
                  </a:lnTo>
                  <a:lnTo>
                    <a:pt x="1128" y="4604"/>
                  </a:lnTo>
                  <a:lnTo>
                    <a:pt x="1022" y="4489"/>
                  </a:lnTo>
                  <a:lnTo>
                    <a:pt x="925" y="4368"/>
                  </a:lnTo>
                  <a:lnTo>
                    <a:pt x="835" y="4241"/>
                  </a:lnTo>
                  <a:lnTo>
                    <a:pt x="753" y="4109"/>
                  </a:lnTo>
                  <a:lnTo>
                    <a:pt x="680" y="3972"/>
                  </a:lnTo>
                  <a:lnTo>
                    <a:pt x="615" y="3831"/>
                  </a:lnTo>
                  <a:lnTo>
                    <a:pt x="559" y="3686"/>
                  </a:lnTo>
                  <a:lnTo>
                    <a:pt x="512" y="3537"/>
                  </a:lnTo>
                  <a:lnTo>
                    <a:pt x="474" y="3386"/>
                  </a:lnTo>
                  <a:lnTo>
                    <a:pt x="447" y="3232"/>
                  </a:lnTo>
                  <a:lnTo>
                    <a:pt x="428" y="3076"/>
                  </a:lnTo>
                  <a:lnTo>
                    <a:pt x="421" y="2918"/>
                  </a:lnTo>
                  <a:lnTo>
                    <a:pt x="423" y="2759"/>
                  </a:lnTo>
                  <a:lnTo>
                    <a:pt x="436" y="2599"/>
                  </a:lnTo>
                  <a:lnTo>
                    <a:pt x="460" y="2439"/>
                  </a:lnTo>
                  <a:lnTo>
                    <a:pt x="495" y="2279"/>
                  </a:lnTo>
                  <a:lnTo>
                    <a:pt x="542" y="2119"/>
                  </a:lnTo>
                  <a:lnTo>
                    <a:pt x="570" y="2041"/>
                  </a:lnTo>
                  <a:lnTo>
                    <a:pt x="600" y="1961"/>
                  </a:lnTo>
                  <a:lnTo>
                    <a:pt x="634" y="1883"/>
                  </a:lnTo>
                  <a:lnTo>
                    <a:pt x="671" y="1804"/>
                  </a:lnTo>
                  <a:lnTo>
                    <a:pt x="710" y="1727"/>
                  </a:lnTo>
                  <a:lnTo>
                    <a:pt x="753" y="1650"/>
                  </a:lnTo>
                  <a:lnTo>
                    <a:pt x="798" y="1574"/>
                  </a:lnTo>
                  <a:lnTo>
                    <a:pt x="846" y="1501"/>
                  </a:lnTo>
                  <a:lnTo>
                    <a:pt x="947" y="1361"/>
                  </a:lnTo>
                  <a:lnTo>
                    <a:pt x="1000" y="1295"/>
                  </a:lnTo>
                  <a:lnTo>
                    <a:pt x="1054" y="1231"/>
                  </a:lnTo>
                  <a:lnTo>
                    <a:pt x="1169" y="1111"/>
                  </a:lnTo>
                  <a:lnTo>
                    <a:pt x="1290" y="1001"/>
                  </a:lnTo>
                  <a:lnTo>
                    <a:pt x="1352" y="949"/>
                  </a:lnTo>
                  <a:lnTo>
                    <a:pt x="1416" y="900"/>
                  </a:lnTo>
                  <a:lnTo>
                    <a:pt x="1548" y="809"/>
                  </a:lnTo>
                  <a:lnTo>
                    <a:pt x="1685" y="727"/>
                  </a:lnTo>
                  <a:lnTo>
                    <a:pt x="1825" y="655"/>
                  </a:lnTo>
                  <a:lnTo>
                    <a:pt x="1969" y="592"/>
                  </a:lnTo>
                  <a:lnTo>
                    <a:pt x="2117" y="539"/>
                  </a:lnTo>
                  <a:lnTo>
                    <a:pt x="2268" y="496"/>
                  </a:lnTo>
                  <a:lnTo>
                    <a:pt x="2419" y="463"/>
                  </a:lnTo>
                  <a:lnTo>
                    <a:pt x="2573" y="439"/>
                  </a:lnTo>
                  <a:lnTo>
                    <a:pt x="2728" y="424"/>
                  </a:lnTo>
                  <a:lnTo>
                    <a:pt x="2884" y="420"/>
                  </a:lnTo>
                  <a:lnTo>
                    <a:pt x="3038" y="424"/>
                  </a:lnTo>
                  <a:lnTo>
                    <a:pt x="3116" y="430"/>
                  </a:lnTo>
                  <a:lnTo>
                    <a:pt x="3193" y="439"/>
                  </a:lnTo>
                  <a:lnTo>
                    <a:pt x="3269" y="449"/>
                  </a:lnTo>
                  <a:lnTo>
                    <a:pt x="3347" y="463"/>
                  </a:lnTo>
                  <a:lnTo>
                    <a:pt x="3423" y="478"/>
                  </a:lnTo>
                  <a:lnTo>
                    <a:pt x="3498" y="496"/>
                  </a:lnTo>
                  <a:lnTo>
                    <a:pt x="3649" y="540"/>
                  </a:lnTo>
                  <a:lnTo>
                    <a:pt x="3797" y="592"/>
                  </a:lnTo>
                  <a:lnTo>
                    <a:pt x="3941" y="655"/>
                  </a:lnTo>
                  <a:lnTo>
                    <a:pt x="4081" y="727"/>
                  </a:lnTo>
                  <a:lnTo>
                    <a:pt x="4218" y="809"/>
                  </a:lnTo>
                  <a:lnTo>
                    <a:pt x="4350" y="900"/>
                  </a:lnTo>
                  <a:lnTo>
                    <a:pt x="4476" y="1001"/>
                  </a:lnTo>
                  <a:lnTo>
                    <a:pt x="4597" y="1111"/>
                  </a:lnTo>
                  <a:lnTo>
                    <a:pt x="4712" y="1231"/>
                  </a:lnTo>
                  <a:lnTo>
                    <a:pt x="4819" y="1361"/>
                  </a:lnTo>
                  <a:lnTo>
                    <a:pt x="4920" y="1501"/>
                  </a:lnTo>
                  <a:lnTo>
                    <a:pt x="5013" y="1650"/>
                  </a:lnTo>
                  <a:lnTo>
                    <a:pt x="5095" y="1804"/>
                  </a:lnTo>
                  <a:lnTo>
                    <a:pt x="5132" y="1883"/>
                  </a:lnTo>
                  <a:lnTo>
                    <a:pt x="5166" y="1961"/>
                  </a:lnTo>
                  <a:lnTo>
                    <a:pt x="5196" y="2041"/>
                  </a:lnTo>
                  <a:lnTo>
                    <a:pt x="5224" y="2119"/>
                  </a:lnTo>
                  <a:lnTo>
                    <a:pt x="5271" y="2279"/>
                  </a:lnTo>
                  <a:lnTo>
                    <a:pt x="5306" y="2439"/>
                  </a:lnTo>
                  <a:lnTo>
                    <a:pt x="5330" y="2599"/>
                  </a:lnTo>
                  <a:lnTo>
                    <a:pt x="5343" y="2759"/>
                  </a:lnTo>
                  <a:lnTo>
                    <a:pt x="5345" y="2918"/>
                  </a:lnTo>
                  <a:lnTo>
                    <a:pt x="5337" y="3076"/>
                  </a:lnTo>
                  <a:lnTo>
                    <a:pt x="5319" y="3232"/>
                  </a:lnTo>
                  <a:lnTo>
                    <a:pt x="5291" y="3386"/>
                  </a:lnTo>
                  <a:lnTo>
                    <a:pt x="5253" y="3537"/>
                  </a:lnTo>
                  <a:lnTo>
                    <a:pt x="5207" y="3686"/>
                  </a:lnTo>
                  <a:lnTo>
                    <a:pt x="5151" y="3831"/>
                  </a:lnTo>
                  <a:lnTo>
                    <a:pt x="5086" y="3972"/>
                  </a:lnTo>
                  <a:lnTo>
                    <a:pt x="5013" y="4109"/>
                  </a:lnTo>
                  <a:lnTo>
                    <a:pt x="4930" y="4241"/>
                  </a:lnTo>
                  <a:lnTo>
                    <a:pt x="4841" y="4368"/>
                  </a:lnTo>
                  <a:lnTo>
                    <a:pt x="4743" y="4489"/>
                  </a:lnTo>
                  <a:lnTo>
                    <a:pt x="4638" y="4604"/>
                  </a:lnTo>
                  <a:lnTo>
                    <a:pt x="4526" y="4713"/>
                  </a:lnTo>
                  <a:lnTo>
                    <a:pt x="4406" y="4814"/>
                  </a:lnTo>
                  <a:lnTo>
                    <a:pt x="4280" y="4907"/>
                  </a:lnTo>
                  <a:lnTo>
                    <a:pt x="4147" y="4993"/>
                  </a:lnTo>
                  <a:lnTo>
                    <a:pt x="4008" y="5071"/>
                  </a:lnTo>
                  <a:lnTo>
                    <a:pt x="3863" y="5140"/>
                  </a:lnTo>
                  <a:lnTo>
                    <a:pt x="3713" y="5198"/>
                  </a:lnTo>
                  <a:lnTo>
                    <a:pt x="3556" y="5248"/>
                  </a:lnTo>
                  <a:lnTo>
                    <a:pt x="3395" y="5287"/>
                  </a:lnTo>
                  <a:lnTo>
                    <a:pt x="3229" y="5316"/>
                  </a:lnTo>
                  <a:lnTo>
                    <a:pt x="3058" y="5333"/>
                  </a:lnTo>
                  <a:lnTo>
                    <a:pt x="2882" y="5339"/>
                  </a:lnTo>
                  <a:lnTo>
                    <a:pt x="2882" y="5293"/>
                  </a:lnTo>
                  <a:lnTo>
                    <a:pt x="2710" y="5287"/>
                  </a:lnTo>
                  <a:lnTo>
                    <a:pt x="2543" y="5270"/>
                  </a:lnTo>
                  <a:lnTo>
                    <a:pt x="2379" y="5242"/>
                  </a:lnTo>
                  <a:lnTo>
                    <a:pt x="2221" y="5203"/>
                  </a:lnTo>
                  <a:lnTo>
                    <a:pt x="2068" y="5155"/>
                  </a:lnTo>
                  <a:lnTo>
                    <a:pt x="1920" y="5097"/>
                  </a:lnTo>
                  <a:lnTo>
                    <a:pt x="1778" y="5030"/>
                  </a:lnTo>
                  <a:lnTo>
                    <a:pt x="1642" y="4953"/>
                  </a:lnTo>
                  <a:lnTo>
                    <a:pt x="1576" y="4913"/>
                  </a:lnTo>
                  <a:lnTo>
                    <a:pt x="1511" y="4870"/>
                  </a:lnTo>
                  <a:lnTo>
                    <a:pt x="1388" y="4778"/>
                  </a:lnTo>
                  <a:lnTo>
                    <a:pt x="1271" y="4678"/>
                  </a:lnTo>
                  <a:lnTo>
                    <a:pt x="1160" y="4572"/>
                  </a:lnTo>
                  <a:lnTo>
                    <a:pt x="1057" y="4460"/>
                  </a:lnTo>
                  <a:lnTo>
                    <a:pt x="961" y="4341"/>
                  </a:lnTo>
                  <a:lnTo>
                    <a:pt x="873" y="4216"/>
                  </a:lnTo>
                  <a:lnTo>
                    <a:pt x="793" y="4086"/>
                  </a:lnTo>
                  <a:lnTo>
                    <a:pt x="721" y="3953"/>
                  </a:lnTo>
                  <a:lnTo>
                    <a:pt x="657" y="3813"/>
                  </a:lnTo>
                  <a:lnTo>
                    <a:pt x="603" y="3671"/>
                  </a:lnTo>
                  <a:lnTo>
                    <a:pt x="557" y="3526"/>
                  </a:lnTo>
                  <a:lnTo>
                    <a:pt x="519" y="3377"/>
                  </a:lnTo>
                  <a:lnTo>
                    <a:pt x="492" y="3226"/>
                  </a:lnTo>
                  <a:lnTo>
                    <a:pt x="482" y="3149"/>
                  </a:lnTo>
                  <a:lnTo>
                    <a:pt x="474" y="3072"/>
                  </a:lnTo>
                  <a:lnTo>
                    <a:pt x="467" y="2917"/>
                  </a:lnTo>
                  <a:lnTo>
                    <a:pt x="469" y="2761"/>
                  </a:lnTo>
                  <a:lnTo>
                    <a:pt x="481" y="2604"/>
                  </a:lnTo>
                  <a:lnTo>
                    <a:pt x="492" y="2526"/>
                  </a:lnTo>
                  <a:lnTo>
                    <a:pt x="505" y="2448"/>
                  </a:lnTo>
                  <a:lnTo>
                    <a:pt x="540" y="2291"/>
                  </a:lnTo>
                  <a:lnTo>
                    <a:pt x="562" y="2212"/>
                  </a:lnTo>
                  <a:lnTo>
                    <a:pt x="586" y="2134"/>
                  </a:lnTo>
                  <a:lnTo>
                    <a:pt x="643" y="1978"/>
                  </a:lnTo>
                  <a:lnTo>
                    <a:pt x="712" y="1824"/>
                  </a:lnTo>
                  <a:lnTo>
                    <a:pt x="793" y="1673"/>
                  </a:lnTo>
                  <a:lnTo>
                    <a:pt x="838" y="1598"/>
                  </a:lnTo>
                  <a:lnTo>
                    <a:pt x="884" y="1526"/>
                  </a:lnTo>
                  <a:lnTo>
                    <a:pt x="932" y="1457"/>
                  </a:lnTo>
                  <a:lnTo>
                    <a:pt x="982" y="1390"/>
                  </a:lnTo>
                  <a:lnTo>
                    <a:pt x="1089" y="1263"/>
                  </a:lnTo>
                  <a:lnTo>
                    <a:pt x="1201" y="1144"/>
                  </a:lnTo>
                  <a:lnTo>
                    <a:pt x="1320" y="1037"/>
                  </a:lnTo>
                  <a:lnTo>
                    <a:pt x="1443" y="937"/>
                  </a:lnTo>
                  <a:lnTo>
                    <a:pt x="1508" y="891"/>
                  </a:lnTo>
                  <a:lnTo>
                    <a:pt x="1573" y="847"/>
                  </a:lnTo>
                  <a:lnTo>
                    <a:pt x="1707" y="768"/>
                  </a:lnTo>
                  <a:lnTo>
                    <a:pt x="1845" y="697"/>
                  </a:lnTo>
                  <a:lnTo>
                    <a:pt x="1986" y="636"/>
                  </a:lnTo>
                  <a:lnTo>
                    <a:pt x="2132" y="584"/>
                  </a:lnTo>
                  <a:lnTo>
                    <a:pt x="2278" y="541"/>
                  </a:lnTo>
                  <a:lnTo>
                    <a:pt x="2428" y="509"/>
                  </a:lnTo>
                  <a:lnTo>
                    <a:pt x="2578" y="485"/>
                  </a:lnTo>
                  <a:lnTo>
                    <a:pt x="2730" y="471"/>
                  </a:lnTo>
                  <a:lnTo>
                    <a:pt x="2882" y="466"/>
                  </a:lnTo>
                  <a:lnTo>
                    <a:pt x="3035" y="471"/>
                  </a:lnTo>
                  <a:lnTo>
                    <a:pt x="3187" y="485"/>
                  </a:lnTo>
                  <a:lnTo>
                    <a:pt x="3337" y="509"/>
                  </a:lnTo>
                  <a:lnTo>
                    <a:pt x="3487" y="541"/>
                  </a:lnTo>
                  <a:lnTo>
                    <a:pt x="3633" y="584"/>
                  </a:lnTo>
                  <a:lnTo>
                    <a:pt x="3779" y="635"/>
                  </a:lnTo>
                  <a:lnTo>
                    <a:pt x="3920" y="697"/>
                  </a:lnTo>
                  <a:lnTo>
                    <a:pt x="4058" y="767"/>
                  </a:lnTo>
                  <a:lnTo>
                    <a:pt x="4192" y="847"/>
                  </a:lnTo>
                  <a:lnTo>
                    <a:pt x="4322" y="937"/>
                  </a:lnTo>
                  <a:lnTo>
                    <a:pt x="4445" y="1036"/>
                  </a:lnTo>
                  <a:lnTo>
                    <a:pt x="4506" y="1089"/>
                  </a:lnTo>
                  <a:lnTo>
                    <a:pt x="4564" y="1144"/>
                  </a:lnTo>
                  <a:lnTo>
                    <a:pt x="4676" y="1263"/>
                  </a:lnTo>
                  <a:lnTo>
                    <a:pt x="4783" y="1389"/>
                  </a:lnTo>
                  <a:lnTo>
                    <a:pt x="4833" y="1457"/>
                  </a:lnTo>
                  <a:lnTo>
                    <a:pt x="4881" y="1526"/>
                  </a:lnTo>
                  <a:lnTo>
                    <a:pt x="4927" y="1598"/>
                  </a:lnTo>
                  <a:lnTo>
                    <a:pt x="4972" y="1673"/>
                  </a:lnTo>
                  <a:lnTo>
                    <a:pt x="5054" y="1824"/>
                  </a:lnTo>
                  <a:lnTo>
                    <a:pt x="5123" y="1978"/>
                  </a:lnTo>
                  <a:lnTo>
                    <a:pt x="5179" y="2134"/>
                  </a:lnTo>
                  <a:lnTo>
                    <a:pt x="5225" y="2291"/>
                  </a:lnTo>
                  <a:lnTo>
                    <a:pt x="5260" y="2448"/>
                  </a:lnTo>
                  <a:lnTo>
                    <a:pt x="5284" y="2604"/>
                  </a:lnTo>
                  <a:lnTo>
                    <a:pt x="5296" y="2761"/>
                  </a:lnTo>
                  <a:lnTo>
                    <a:pt x="5299" y="2917"/>
                  </a:lnTo>
                  <a:lnTo>
                    <a:pt x="5291" y="3072"/>
                  </a:lnTo>
                  <a:lnTo>
                    <a:pt x="5273" y="3226"/>
                  </a:lnTo>
                  <a:lnTo>
                    <a:pt x="5246" y="3377"/>
                  </a:lnTo>
                  <a:lnTo>
                    <a:pt x="5209" y="3526"/>
                  </a:lnTo>
                  <a:lnTo>
                    <a:pt x="5163" y="3671"/>
                  </a:lnTo>
                  <a:lnTo>
                    <a:pt x="5108" y="3813"/>
                  </a:lnTo>
                  <a:lnTo>
                    <a:pt x="5045" y="3953"/>
                  </a:lnTo>
                  <a:lnTo>
                    <a:pt x="4973" y="4086"/>
                  </a:lnTo>
                  <a:lnTo>
                    <a:pt x="4893" y="4216"/>
                  </a:lnTo>
                  <a:lnTo>
                    <a:pt x="4805" y="4341"/>
                  </a:lnTo>
                  <a:lnTo>
                    <a:pt x="4709" y="4460"/>
                  </a:lnTo>
                  <a:lnTo>
                    <a:pt x="4605" y="4572"/>
                  </a:lnTo>
                  <a:lnTo>
                    <a:pt x="4495" y="4678"/>
                  </a:lnTo>
                  <a:lnTo>
                    <a:pt x="4378" y="4778"/>
                  </a:lnTo>
                  <a:lnTo>
                    <a:pt x="4254" y="4870"/>
                  </a:lnTo>
                  <a:lnTo>
                    <a:pt x="4124" y="4953"/>
                  </a:lnTo>
                  <a:lnTo>
                    <a:pt x="3987" y="5030"/>
                  </a:lnTo>
                  <a:lnTo>
                    <a:pt x="3845" y="5097"/>
                  </a:lnTo>
                  <a:lnTo>
                    <a:pt x="3697" y="5155"/>
                  </a:lnTo>
                  <a:lnTo>
                    <a:pt x="3545" y="5203"/>
                  </a:lnTo>
                  <a:lnTo>
                    <a:pt x="3386" y="5242"/>
                  </a:lnTo>
                  <a:lnTo>
                    <a:pt x="3222" y="5270"/>
                  </a:lnTo>
                  <a:lnTo>
                    <a:pt x="3055" y="5287"/>
                  </a:lnTo>
                  <a:lnTo>
                    <a:pt x="2882" y="5293"/>
                  </a:lnTo>
                  <a:lnTo>
                    <a:pt x="2882" y="5339"/>
                  </a:lnTo>
                  <a:close/>
                  <a:moveTo>
                    <a:pt x="2882" y="5129"/>
                  </a:moveTo>
                  <a:lnTo>
                    <a:pt x="2722" y="5124"/>
                  </a:lnTo>
                  <a:lnTo>
                    <a:pt x="2566" y="5108"/>
                  </a:lnTo>
                  <a:lnTo>
                    <a:pt x="2414" y="5081"/>
                  </a:lnTo>
                  <a:lnTo>
                    <a:pt x="2266" y="5045"/>
                  </a:lnTo>
                  <a:lnTo>
                    <a:pt x="2123" y="5001"/>
                  </a:lnTo>
                  <a:lnTo>
                    <a:pt x="1985" y="4946"/>
                  </a:lnTo>
                  <a:lnTo>
                    <a:pt x="1852" y="4883"/>
                  </a:lnTo>
                  <a:lnTo>
                    <a:pt x="1726" y="4812"/>
                  </a:lnTo>
                  <a:lnTo>
                    <a:pt x="1604" y="4734"/>
                  </a:lnTo>
                  <a:lnTo>
                    <a:pt x="1488" y="4648"/>
                  </a:lnTo>
                  <a:lnTo>
                    <a:pt x="1380" y="4556"/>
                  </a:lnTo>
                  <a:lnTo>
                    <a:pt x="1277" y="4457"/>
                  </a:lnTo>
                  <a:lnTo>
                    <a:pt x="1181" y="4352"/>
                  </a:lnTo>
                  <a:lnTo>
                    <a:pt x="1091" y="4241"/>
                  </a:lnTo>
                  <a:lnTo>
                    <a:pt x="1009" y="4125"/>
                  </a:lnTo>
                  <a:lnTo>
                    <a:pt x="934" y="4004"/>
                  </a:lnTo>
                  <a:lnTo>
                    <a:pt x="867" y="3879"/>
                  </a:lnTo>
                  <a:lnTo>
                    <a:pt x="808" y="3750"/>
                  </a:lnTo>
                  <a:lnTo>
                    <a:pt x="756" y="3617"/>
                  </a:lnTo>
                  <a:lnTo>
                    <a:pt x="713" y="3481"/>
                  </a:lnTo>
                  <a:lnTo>
                    <a:pt x="679" y="3343"/>
                  </a:lnTo>
                  <a:lnTo>
                    <a:pt x="654" y="3202"/>
                  </a:lnTo>
                  <a:lnTo>
                    <a:pt x="637" y="3058"/>
                  </a:lnTo>
                  <a:lnTo>
                    <a:pt x="630" y="2914"/>
                  </a:lnTo>
                  <a:lnTo>
                    <a:pt x="633" y="2769"/>
                  </a:lnTo>
                  <a:lnTo>
                    <a:pt x="644" y="2622"/>
                  </a:lnTo>
                  <a:lnTo>
                    <a:pt x="666" y="2476"/>
                  </a:lnTo>
                  <a:lnTo>
                    <a:pt x="681" y="2403"/>
                  </a:lnTo>
                  <a:lnTo>
                    <a:pt x="699" y="2329"/>
                  </a:lnTo>
                  <a:lnTo>
                    <a:pt x="742" y="2184"/>
                  </a:lnTo>
                  <a:lnTo>
                    <a:pt x="795" y="2040"/>
                  </a:lnTo>
                  <a:lnTo>
                    <a:pt x="826" y="1968"/>
                  </a:lnTo>
                  <a:lnTo>
                    <a:pt x="860" y="1895"/>
                  </a:lnTo>
                  <a:lnTo>
                    <a:pt x="935" y="1754"/>
                  </a:lnTo>
                  <a:lnTo>
                    <a:pt x="977" y="1685"/>
                  </a:lnTo>
                  <a:lnTo>
                    <a:pt x="1020" y="1618"/>
                  </a:lnTo>
                  <a:lnTo>
                    <a:pt x="1112" y="1491"/>
                  </a:lnTo>
                  <a:lnTo>
                    <a:pt x="1160" y="1430"/>
                  </a:lnTo>
                  <a:lnTo>
                    <a:pt x="1210" y="1371"/>
                  </a:lnTo>
                  <a:lnTo>
                    <a:pt x="1316" y="1262"/>
                  </a:lnTo>
                  <a:lnTo>
                    <a:pt x="1426" y="1161"/>
                  </a:lnTo>
                  <a:lnTo>
                    <a:pt x="1542" y="1069"/>
                  </a:lnTo>
                  <a:lnTo>
                    <a:pt x="1662" y="985"/>
                  </a:lnTo>
                  <a:lnTo>
                    <a:pt x="1786" y="910"/>
                  </a:lnTo>
                  <a:lnTo>
                    <a:pt x="1915" y="844"/>
                  </a:lnTo>
                  <a:lnTo>
                    <a:pt x="2048" y="788"/>
                  </a:lnTo>
                  <a:lnTo>
                    <a:pt x="2183" y="739"/>
                  </a:lnTo>
                  <a:lnTo>
                    <a:pt x="2320" y="699"/>
                  </a:lnTo>
                  <a:lnTo>
                    <a:pt x="2459" y="669"/>
                  </a:lnTo>
                  <a:lnTo>
                    <a:pt x="2599" y="647"/>
                  </a:lnTo>
                  <a:lnTo>
                    <a:pt x="2740" y="633"/>
                  </a:lnTo>
                  <a:lnTo>
                    <a:pt x="2882" y="629"/>
                  </a:lnTo>
                  <a:lnTo>
                    <a:pt x="3025" y="633"/>
                  </a:lnTo>
                  <a:lnTo>
                    <a:pt x="3166" y="647"/>
                  </a:lnTo>
                  <a:lnTo>
                    <a:pt x="3307" y="669"/>
                  </a:lnTo>
                  <a:lnTo>
                    <a:pt x="3446" y="699"/>
                  </a:lnTo>
                  <a:lnTo>
                    <a:pt x="3583" y="739"/>
                  </a:lnTo>
                  <a:lnTo>
                    <a:pt x="3718" y="787"/>
                  </a:lnTo>
                  <a:lnTo>
                    <a:pt x="3850" y="844"/>
                  </a:lnTo>
                  <a:lnTo>
                    <a:pt x="3979" y="910"/>
                  </a:lnTo>
                  <a:lnTo>
                    <a:pt x="4103" y="984"/>
                  </a:lnTo>
                  <a:lnTo>
                    <a:pt x="4224" y="1068"/>
                  </a:lnTo>
                  <a:lnTo>
                    <a:pt x="4339" y="1161"/>
                  </a:lnTo>
                  <a:lnTo>
                    <a:pt x="4450" y="1262"/>
                  </a:lnTo>
                  <a:lnTo>
                    <a:pt x="4555" y="1371"/>
                  </a:lnTo>
                  <a:lnTo>
                    <a:pt x="4654" y="1491"/>
                  </a:lnTo>
                  <a:lnTo>
                    <a:pt x="4701" y="1553"/>
                  </a:lnTo>
                  <a:lnTo>
                    <a:pt x="4746" y="1618"/>
                  </a:lnTo>
                  <a:lnTo>
                    <a:pt x="4789" y="1685"/>
                  </a:lnTo>
                  <a:lnTo>
                    <a:pt x="4831" y="1754"/>
                  </a:lnTo>
                  <a:lnTo>
                    <a:pt x="4906" y="1895"/>
                  </a:lnTo>
                  <a:lnTo>
                    <a:pt x="4971" y="2040"/>
                  </a:lnTo>
                  <a:lnTo>
                    <a:pt x="5024" y="2184"/>
                  </a:lnTo>
                  <a:lnTo>
                    <a:pt x="5046" y="2257"/>
                  </a:lnTo>
                  <a:lnTo>
                    <a:pt x="5067" y="2329"/>
                  </a:lnTo>
                  <a:lnTo>
                    <a:pt x="5099" y="2476"/>
                  </a:lnTo>
                  <a:lnTo>
                    <a:pt x="5122" y="2622"/>
                  </a:lnTo>
                  <a:lnTo>
                    <a:pt x="5133" y="2769"/>
                  </a:lnTo>
                  <a:lnTo>
                    <a:pt x="5135" y="2914"/>
                  </a:lnTo>
                  <a:lnTo>
                    <a:pt x="5128" y="3058"/>
                  </a:lnTo>
                  <a:lnTo>
                    <a:pt x="5112" y="3202"/>
                  </a:lnTo>
                  <a:lnTo>
                    <a:pt x="5086" y="3343"/>
                  </a:lnTo>
                  <a:lnTo>
                    <a:pt x="5052" y="3481"/>
                  </a:lnTo>
                  <a:lnTo>
                    <a:pt x="5009" y="3617"/>
                  </a:lnTo>
                  <a:lnTo>
                    <a:pt x="4957" y="3750"/>
                  </a:lnTo>
                  <a:lnTo>
                    <a:pt x="4899" y="3879"/>
                  </a:lnTo>
                  <a:lnTo>
                    <a:pt x="4831" y="4004"/>
                  </a:lnTo>
                  <a:lnTo>
                    <a:pt x="4757" y="4125"/>
                  </a:lnTo>
                  <a:lnTo>
                    <a:pt x="4674" y="4241"/>
                  </a:lnTo>
                  <a:lnTo>
                    <a:pt x="4585" y="4352"/>
                  </a:lnTo>
                  <a:lnTo>
                    <a:pt x="4489" y="4457"/>
                  </a:lnTo>
                  <a:lnTo>
                    <a:pt x="4386" y="4556"/>
                  </a:lnTo>
                  <a:lnTo>
                    <a:pt x="4277" y="4648"/>
                  </a:lnTo>
                  <a:lnTo>
                    <a:pt x="4162" y="4734"/>
                  </a:lnTo>
                  <a:lnTo>
                    <a:pt x="4040" y="4812"/>
                  </a:lnTo>
                  <a:lnTo>
                    <a:pt x="3913" y="4883"/>
                  </a:lnTo>
                  <a:lnTo>
                    <a:pt x="3780" y="4946"/>
                  </a:lnTo>
                  <a:lnTo>
                    <a:pt x="3642" y="5001"/>
                  </a:lnTo>
                  <a:lnTo>
                    <a:pt x="3500" y="5045"/>
                  </a:lnTo>
                  <a:lnTo>
                    <a:pt x="3352" y="5081"/>
                  </a:lnTo>
                  <a:lnTo>
                    <a:pt x="3199" y="5108"/>
                  </a:lnTo>
                  <a:lnTo>
                    <a:pt x="3042" y="5124"/>
                  </a:lnTo>
                  <a:lnTo>
                    <a:pt x="2882" y="5129"/>
                  </a:lnTo>
                  <a:lnTo>
                    <a:pt x="2882" y="5073"/>
                  </a:lnTo>
                  <a:lnTo>
                    <a:pt x="2726" y="5067"/>
                  </a:lnTo>
                  <a:lnTo>
                    <a:pt x="2574" y="5052"/>
                  </a:lnTo>
                  <a:lnTo>
                    <a:pt x="2425" y="5027"/>
                  </a:lnTo>
                  <a:lnTo>
                    <a:pt x="2281" y="4991"/>
                  </a:lnTo>
                  <a:lnTo>
                    <a:pt x="2142" y="4947"/>
                  </a:lnTo>
                  <a:lnTo>
                    <a:pt x="2008" y="4894"/>
                  </a:lnTo>
                  <a:lnTo>
                    <a:pt x="1878" y="4833"/>
                  </a:lnTo>
                  <a:lnTo>
                    <a:pt x="1755" y="4764"/>
                  </a:lnTo>
                  <a:lnTo>
                    <a:pt x="1637" y="4688"/>
                  </a:lnTo>
                  <a:lnTo>
                    <a:pt x="1524" y="4604"/>
                  </a:lnTo>
                  <a:lnTo>
                    <a:pt x="1417" y="4514"/>
                  </a:lnTo>
                  <a:lnTo>
                    <a:pt x="1317" y="4417"/>
                  </a:lnTo>
                  <a:lnTo>
                    <a:pt x="1224" y="4314"/>
                  </a:lnTo>
                  <a:lnTo>
                    <a:pt x="1136" y="4207"/>
                  </a:lnTo>
                  <a:lnTo>
                    <a:pt x="1056" y="4094"/>
                  </a:lnTo>
                  <a:lnTo>
                    <a:pt x="983" y="3976"/>
                  </a:lnTo>
                  <a:lnTo>
                    <a:pt x="917" y="3854"/>
                  </a:lnTo>
                  <a:lnTo>
                    <a:pt x="860" y="3728"/>
                  </a:lnTo>
                  <a:lnTo>
                    <a:pt x="810" y="3598"/>
                  </a:lnTo>
                  <a:lnTo>
                    <a:pt x="768" y="3466"/>
                  </a:lnTo>
                  <a:lnTo>
                    <a:pt x="734" y="3331"/>
                  </a:lnTo>
                  <a:lnTo>
                    <a:pt x="710" y="3193"/>
                  </a:lnTo>
                  <a:lnTo>
                    <a:pt x="694" y="3054"/>
                  </a:lnTo>
                  <a:lnTo>
                    <a:pt x="686" y="2913"/>
                  </a:lnTo>
                  <a:lnTo>
                    <a:pt x="688" y="2772"/>
                  </a:lnTo>
                  <a:lnTo>
                    <a:pt x="701" y="2629"/>
                  </a:lnTo>
                  <a:lnTo>
                    <a:pt x="722" y="2486"/>
                  </a:lnTo>
                  <a:lnTo>
                    <a:pt x="753" y="2344"/>
                  </a:lnTo>
                  <a:lnTo>
                    <a:pt x="795" y="2202"/>
                  </a:lnTo>
                  <a:lnTo>
                    <a:pt x="847" y="2061"/>
                  </a:lnTo>
                  <a:lnTo>
                    <a:pt x="910" y="1920"/>
                  </a:lnTo>
                  <a:lnTo>
                    <a:pt x="945" y="1851"/>
                  </a:lnTo>
                  <a:lnTo>
                    <a:pt x="983" y="1782"/>
                  </a:lnTo>
                  <a:lnTo>
                    <a:pt x="1024" y="1714"/>
                  </a:lnTo>
                  <a:lnTo>
                    <a:pt x="1066" y="1650"/>
                  </a:lnTo>
                  <a:lnTo>
                    <a:pt x="1156" y="1525"/>
                  </a:lnTo>
                  <a:lnTo>
                    <a:pt x="1252" y="1410"/>
                  </a:lnTo>
                  <a:lnTo>
                    <a:pt x="1354" y="1302"/>
                  </a:lnTo>
                  <a:lnTo>
                    <a:pt x="1462" y="1204"/>
                  </a:lnTo>
                  <a:lnTo>
                    <a:pt x="1575" y="1114"/>
                  </a:lnTo>
                  <a:lnTo>
                    <a:pt x="1633" y="1072"/>
                  </a:lnTo>
                  <a:lnTo>
                    <a:pt x="1692" y="1033"/>
                  </a:lnTo>
                  <a:lnTo>
                    <a:pt x="1814" y="960"/>
                  </a:lnTo>
                  <a:lnTo>
                    <a:pt x="1939" y="896"/>
                  </a:lnTo>
                  <a:lnTo>
                    <a:pt x="2068" y="840"/>
                  </a:lnTo>
                  <a:lnTo>
                    <a:pt x="2200" y="793"/>
                  </a:lnTo>
                  <a:lnTo>
                    <a:pt x="2333" y="754"/>
                  </a:lnTo>
                  <a:lnTo>
                    <a:pt x="2469" y="725"/>
                  </a:lnTo>
                  <a:lnTo>
                    <a:pt x="2606" y="703"/>
                  </a:lnTo>
                  <a:lnTo>
                    <a:pt x="2744" y="691"/>
                  </a:lnTo>
                  <a:lnTo>
                    <a:pt x="2813" y="687"/>
                  </a:lnTo>
                  <a:lnTo>
                    <a:pt x="2882" y="686"/>
                  </a:lnTo>
                  <a:lnTo>
                    <a:pt x="3021" y="691"/>
                  </a:lnTo>
                  <a:lnTo>
                    <a:pt x="3159" y="703"/>
                  </a:lnTo>
                  <a:lnTo>
                    <a:pt x="3296" y="725"/>
                  </a:lnTo>
                  <a:lnTo>
                    <a:pt x="3432" y="755"/>
                  </a:lnTo>
                  <a:lnTo>
                    <a:pt x="3565" y="794"/>
                  </a:lnTo>
                  <a:lnTo>
                    <a:pt x="3697" y="841"/>
                  </a:lnTo>
                  <a:lnTo>
                    <a:pt x="3826" y="897"/>
                  </a:lnTo>
                  <a:lnTo>
                    <a:pt x="3951" y="960"/>
                  </a:lnTo>
                  <a:lnTo>
                    <a:pt x="4073" y="1034"/>
                  </a:lnTo>
                  <a:lnTo>
                    <a:pt x="4190" y="1115"/>
                  </a:lnTo>
                  <a:lnTo>
                    <a:pt x="4303" y="1205"/>
                  </a:lnTo>
                  <a:lnTo>
                    <a:pt x="4410" y="1303"/>
                  </a:lnTo>
                  <a:lnTo>
                    <a:pt x="4513" y="1411"/>
                  </a:lnTo>
                  <a:lnTo>
                    <a:pt x="4609" y="1526"/>
                  </a:lnTo>
                  <a:lnTo>
                    <a:pt x="4699" y="1651"/>
                  </a:lnTo>
                  <a:lnTo>
                    <a:pt x="4741" y="1715"/>
                  </a:lnTo>
                  <a:lnTo>
                    <a:pt x="4782" y="1783"/>
                  </a:lnTo>
                  <a:lnTo>
                    <a:pt x="4855" y="1922"/>
                  </a:lnTo>
                  <a:lnTo>
                    <a:pt x="4918" y="2062"/>
                  </a:lnTo>
                  <a:lnTo>
                    <a:pt x="4970" y="2202"/>
                  </a:lnTo>
                  <a:lnTo>
                    <a:pt x="5012" y="2344"/>
                  </a:lnTo>
                  <a:lnTo>
                    <a:pt x="5043" y="2487"/>
                  </a:lnTo>
                  <a:lnTo>
                    <a:pt x="5064" y="2630"/>
                  </a:lnTo>
                  <a:lnTo>
                    <a:pt x="5077" y="2772"/>
                  </a:lnTo>
                  <a:lnTo>
                    <a:pt x="5079" y="2914"/>
                  </a:lnTo>
                  <a:lnTo>
                    <a:pt x="5071" y="3054"/>
                  </a:lnTo>
                  <a:lnTo>
                    <a:pt x="5056" y="3193"/>
                  </a:lnTo>
                  <a:lnTo>
                    <a:pt x="5031" y="3331"/>
                  </a:lnTo>
                  <a:lnTo>
                    <a:pt x="4997" y="3466"/>
                  </a:lnTo>
                  <a:lnTo>
                    <a:pt x="4955" y="3599"/>
                  </a:lnTo>
                  <a:lnTo>
                    <a:pt x="4905" y="3728"/>
                  </a:lnTo>
                  <a:lnTo>
                    <a:pt x="4848" y="3854"/>
                  </a:lnTo>
                  <a:lnTo>
                    <a:pt x="4782" y="3976"/>
                  </a:lnTo>
                  <a:lnTo>
                    <a:pt x="4710" y="4094"/>
                  </a:lnTo>
                  <a:lnTo>
                    <a:pt x="4629" y="4207"/>
                  </a:lnTo>
                  <a:lnTo>
                    <a:pt x="4542" y="4314"/>
                  </a:lnTo>
                  <a:lnTo>
                    <a:pt x="4448" y="4417"/>
                  </a:lnTo>
                  <a:lnTo>
                    <a:pt x="4348" y="4514"/>
                  </a:lnTo>
                  <a:lnTo>
                    <a:pt x="4241" y="4604"/>
                  </a:lnTo>
                  <a:lnTo>
                    <a:pt x="4129" y="4688"/>
                  </a:lnTo>
                  <a:lnTo>
                    <a:pt x="4011" y="4764"/>
                  </a:lnTo>
                  <a:lnTo>
                    <a:pt x="3886" y="4833"/>
                  </a:lnTo>
                  <a:lnTo>
                    <a:pt x="3757" y="4894"/>
                  </a:lnTo>
                  <a:lnTo>
                    <a:pt x="3623" y="4947"/>
                  </a:lnTo>
                  <a:lnTo>
                    <a:pt x="3484" y="4991"/>
                  </a:lnTo>
                  <a:lnTo>
                    <a:pt x="3340" y="5027"/>
                  </a:lnTo>
                  <a:lnTo>
                    <a:pt x="3191" y="5052"/>
                  </a:lnTo>
                  <a:lnTo>
                    <a:pt x="3039" y="5067"/>
                  </a:lnTo>
                  <a:lnTo>
                    <a:pt x="2882" y="5073"/>
                  </a:lnTo>
                  <a:lnTo>
                    <a:pt x="2882" y="5129"/>
                  </a:lnTo>
                  <a:close/>
                  <a:moveTo>
                    <a:pt x="2882" y="4919"/>
                  </a:moveTo>
                  <a:lnTo>
                    <a:pt x="2737" y="4914"/>
                  </a:lnTo>
                  <a:lnTo>
                    <a:pt x="2595" y="4899"/>
                  </a:lnTo>
                  <a:lnTo>
                    <a:pt x="2458" y="4876"/>
                  </a:lnTo>
                  <a:lnTo>
                    <a:pt x="2324" y="4844"/>
                  </a:lnTo>
                  <a:lnTo>
                    <a:pt x="2194" y="4802"/>
                  </a:lnTo>
                  <a:lnTo>
                    <a:pt x="2069" y="4753"/>
                  </a:lnTo>
                  <a:lnTo>
                    <a:pt x="1950" y="4696"/>
                  </a:lnTo>
                  <a:lnTo>
                    <a:pt x="1833" y="4632"/>
                  </a:lnTo>
                  <a:lnTo>
                    <a:pt x="1724" y="4561"/>
                  </a:lnTo>
                  <a:lnTo>
                    <a:pt x="1619" y="4483"/>
                  </a:lnTo>
                  <a:lnTo>
                    <a:pt x="1520" y="4399"/>
                  </a:lnTo>
                  <a:lnTo>
                    <a:pt x="1427" y="4309"/>
                  </a:lnTo>
                  <a:lnTo>
                    <a:pt x="1340" y="4214"/>
                  </a:lnTo>
                  <a:lnTo>
                    <a:pt x="1258" y="4114"/>
                  </a:lnTo>
                  <a:lnTo>
                    <a:pt x="1184" y="4009"/>
                  </a:lnTo>
                  <a:lnTo>
                    <a:pt x="1116" y="3899"/>
                  </a:lnTo>
                  <a:lnTo>
                    <a:pt x="1055" y="3785"/>
                  </a:lnTo>
                  <a:lnTo>
                    <a:pt x="1002" y="3668"/>
                  </a:lnTo>
                  <a:lnTo>
                    <a:pt x="955" y="3548"/>
                  </a:lnTo>
                  <a:lnTo>
                    <a:pt x="916" y="3425"/>
                  </a:lnTo>
                  <a:lnTo>
                    <a:pt x="885" y="3299"/>
                  </a:lnTo>
                  <a:lnTo>
                    <a:pt x="862" y="3171"/>
                  </a:lnTo>
                  <a:lnTo>
                    <a:pt x="847" y="3042"/>
                  </a:lnTo>
                  <a:lnTo>
                    <a:pt x="840" y="2911"/>
                  </a:lnTo>
                  <a:lnTo>
                    <a:pt x="842" y="2779"/>
                  </a:lnTo>
                  <a:lnTo>
                    <a:pt x="854" y="2646"/>
                  </a:lnTo>
                  <a:lnTo>
                    <a:pt x="873" y="2513"/>
                  </a:lnTo>
                  <a:lnTo>
                    <a:pt x="903" y="2381"/>
                  </a:lnTo>
                  <a:lnTo>
                    <a:pt x="941" y="2249"/>
                  </a:lnTo>
                  <a:lnTo>
                    <a:pt x="989" y="2117"/>
                  </a:lnTo>
                  <a:lnTo>
                    <a:pt x="1048" y="1987"/>
                  </a:lnTo>
                  <a:lnTo>
                    <a:pt x="1116" y="1859"/>
                  </a:lnTo>
                  <a:lnTo>
                    <a:pt x="1193" y="1735"/>
                  </a:lnTo>
                  <a:lnTo>
                    <a:pt x="1276" y="1619"/>
                  </a:lnTo>
                  <a:lnTo>
                    <a:pt x="1366" y="1513"/>
                  </a:lnTo>
                  <a:lnTo>
                    <a:pt x="1461" y="1412"/>
                  </a:lnTo>
                  <a:lnTo>
                    <a:pt x="1562" y="1321"/>
                  </a:lnTo>
                  <a:lnTo>
                    <a:pt x="1666" y="1238"/>
                  </a:lnTo>
                  <a:lnTo>
                    <a:pt x="1776" y="1162"/>
                  </a:lnTo>
                  <a:lnTo>
                    <a:pt x="1889" y="1094"/>
                  </a:lnTo>
                  <a:lnTo>
                    <a:pt x="2006" y="1035"/>
                  </a:lnTo>
                  <a:lnTo>
                    <a:pt x="2125" y="982"/>
                  </a:lnTo>
                  <a:lnTo>
                    <a:pt x="2248" y="938"/>
                  </a:lnTo>
                  <a:lnTo>
                    <a:pt x="2372" y="903"/>
                  </a:lnTo>
                  <a:lnTo>
                    <a:pt x="2498" y="875"/>
                  </a:lnTo>
                  <a:lnTo>
                    <a:pt x="2625" y="855"/>
                  </a:lnTo>
                  <a:lnTo>
                    <a:pt x="2754" y="843"/>
                  </a:lnTo>
                  <a:lnTo>
                    <a:pt x="2882" y="839"/>
                  </a:lnTo>
                  <a:lnTo>
                    <a:pt x="3011" y="843"/>
                  </a:lnTo>
                  <a:lnTo>
                    <a:pt x="3140" y="855"/>
                  </a:lnTo>
                  <a:lnTo>
                    <a:pt x="3267" y="875"/>
                  </a:lnTo>
                  <a:lnTo>
                    <a:pt x="3393" y="903"/>
                  </a:lnTo>
                  <a:lnTo>
                    <a:pt x="3517" y="938"/>
                  </a:lnTo>
                  <a:lnTo>
                    <a:pt x="3640" y="982"/>
                  </a:lnTo>
                  <a:lnTo>
                    <a:pt x="3759" y="1035"/>
                  </a:lnTo>
                  <a:lnTo>
                    <a:pt x="3876" y="1094"/>
                  </a:lnTo>
                  <a:lnTo>
                    <a:pt x="3989" y="1162"/>
                  </a:lnTo>
                  <a:lnTo>
                    <a:pt x="4099" y="1238"/>
                  </a:lnTo>
                  <a:lnTo>
                    <a:pt x="4203" y="1321"/>
                  </a:lnTo>
                  <a:lnTo>
                    <a:pt x="4304" y="1413"/>
                  </a:lnTo>
                  <a:lnTo>
                    <a:pt x="4399" y="1513"/>
                  </a:lnTo>
                  <a:lnTo>
                    <a:pt x="4489" y="1620"/>
                  </a:lnTo>
                  <a:lnTo>
                    <a:pt x="4572" y="1736"/>
                  </a:lnTo>
                  <a:lnTo>
                    <a:pt x="4649" y="1860"/>
                  </a:lnTo>
                  <a:lnTo>
                    <a:pt x="4717" y="1988"/>
                  </a:lnTo>
                  <a:lnTo>
                    <a:pt x="4775" y="2118"/>
                  </a:lnTo>
                  <a:lnTo>
                    <a:pt x="4824" y="2250"/>
                  </a:lnTo>
                  <a:lnTo>
                    <a:pt x="4862" y="2382"/>
                  </a:lnTo>
                  <a:lnTo>
                    <a:pt x="4892" y="2515"/>
                  </a:lnTo>
                  <a:lnTo>
                    <a:pt x="4911" y="2647"/>
                  </a:lnTo>
                  <a:lnTo>
                    <a:pt x="4923" y="2779"/>
                  </a:lnTo>
                  <a:lnTo>
                    <a:pt x="4925" y="2911"/>
                  </a:lnTo>
                  <a:lnTo>
                    <a:pt x="4918" y="3043"/>
                  </a:lnTo>
                  <a:lnTo>
                    <a:pt x="4903" y="3171"/>
                  </a:lnTo>
                  <a:lnTo>
                    <a:pt x="4880" y="3300"/>
                  </a:lnTo>
                  <a:lnTo>
                    <a:pt x="4849" y="3425"/>
                  </a:lnTo>
                  <a:lnTo>
                    <a:pt x="4810" y="3549"/>
                  </a:lnTo>
                  <a:lnTo>
                    <a:pt x="4764" y="3669"/>
                  </a:lnTo>
                  <a:lnTo>
                    <a:pt x="4710" y="3786"/>
                  </a:lnTo>
                  <a:lnTo>
                    <a:pt x="4649" y="3899"/>
                  </a:lnTo>
                  <a:lnTo>
                    <a:pt x="4581" y="4009"/>
                  </a:lnTo>
                  <a:lnTo>
                    <a:pt x="4507" y="4114"/>
                  </a:lnTo>
                  <a:lnTo>
                    <a:pt x="4426" y="4214"/>
                  </a:lnTo>
                  <a:lnTo>
                    <a:pt x="4338" y="4309"/>
                  </a:lnTo>
                  <a:lnTo>
                    <a:pt x="4245" y="4399"/>
                  </a:lnTo>
                  <a:lnTo>
                    <a:pt x="4146" y="4483"/>
                  </a:lnTo>
                  <a:lnTo>
                    <a:pt x="4041" y="4561"/>
                  </a:lnTo>
                  <a:lnTo>
                    <a:pt x="3931" y="4632"/>
                  </a:lnTo>
                  <a:lnTo>
                    <a:pt x="3816" y="4696"/>
                  </a:lnTo>
                  <a:lnTo>
                    <a:pt x="3696" y="4753"/>
                  </a:lnTo>
                  <a:lnTo>
                    <a:pt x="3571" y="4802"/>
                  </a:lnTo>
                  <a:lnTo>
                    <a:pt x="3442" y="4844"/>
                  </a:lnTo>
                  <a:lnTo>
                    <a:pt x="3308" y="4876"/>
                  </a:lnTo>
                  <a:lnTo>
                    <a:pt x="3170" y="4899"/>
                  </a:lnTo>
                  <a:lnTo>
                    <a:pt x="3028" y="4914"/>
                  </a:lnTo>
                  <a:lnTo>
                    <a:pt x="2882" y="4919"/>
                  </a:lnTo>
                  <a:lnTo>
                    <a:pt x="2886" y="4920"/>
                  </a:lnTo>
                  <a:lnTo>
                    <a:pt x="2884" y="4920"/>
                  </a:lnTo>
                  <a:lnTo>
                    <a:pt x="2882" y="4919"/>
                  </a:lnTo>
                  <a:lnTo>
                    <a:pt x="2882" y="4853"/>
                  </a:lnTo>
                  <a:lnTo>
                    <a:pt x="2742" y="4848"/>
                  </a:lnTo>
                  <a:lnTo>
                    <a:pt x="2604" y="4834"/>
                  </a:lnTo>
                  <a:lnTo>
                    <a:pt x="2471" y="4811"/>
                  </a:lnTo>
                  <a:lnTo>
                    <a:pt x="2342" y="4780"/>
                  </a:lnTo>
                  <a:lnTo>
                    <a:pt x="2216" y="4740"/>
                  </a:lnTo>
                  <a:lnTo>
                    <a:pt x="2096" y="4693"/>
                  </a:lnTo>
                  <a:lnTo>
                    <a:pt x="1980" y="4638"/>
                  </a:lnTo>
                  <a:lnTo>
                    <a:pt x="1868" y="4576"/>
                  </a:lnTo>
                  <a:lnTo>
                    <a:pt x="1761" y="4507"/>
                  </a:lnTo>
                  <a:lnTo>
                    <a:pt x="1660" y="4432"/>
                  </a:lnTo>
                  <a:lnTo>
                    <a:pt x="1565" y="4350"/>
                  </a:lnTo>
                  <a:lnTo>
                    <a:pt x="1475" y="4263"/>
                  </a:lnTo>
                  <a:lnTo>
                    <a:pt x="1390" y="4171"/>
                  </a:lnTo>
                  <a:lnTo>
                    <a:pt x="1312" y="4074"/>
                  </a:lnTo>
                  <a:lnTo>
                    <a:pt x="1239" y="3972"/>
                  </a:lnTo>
                  <a:lnTo>
                    <a:pt x="1174" y="3866"/>
                  </a:lnTo>
                  <a:lnTo>
                    <a:pt x="1115" y="3756"/>
                  </a:lnTo>
                  <a:lnTo>
                    <a:pt x="1063" y="3643"/>
                  </a:lnTo>
                  <a:lnTo>
                    <a:pt x="1018" y="3527"/>
                  </a:lnTo>
                  <a:lnTo>
                    <a:pt x="980" y="3408"/>
                  </a:lnTo>
                  <a:lnTo>
                    <a:pt x="951" y="3285"/>
                  </a:lnTo>
                  <a:lnTo>
                    <a:pt x="928" y="3162"/>
                  </a:lnTo>
                  <a:lnTo>
                    <a:pt x="913" y="3036"/>
                  </a:lnTo>
                  <a:lnTo>
                    <a:pt x="907" y="2910"/>
                  </a:lnTo>
                  <a:lnTo>
                    <a:pt x="909" y="2782"/>
                  </a:lnTo>
                  <a:lnTo>
                    <a:pt x="919" y="2654"/>
                  </a:lnTo>
                  <a:lnTo>
                    <a:pt x="939" y="2526"/>
                  </a:lnTo>
                  <a:lnTo>
                    <a:pt x="968" y="2397"/>
                  </a:lnTo>
                  <a:lnTo>
                    <a:pt x="1005" y="2270"/>
                  </a:lnTo>
                  <a:lnTo>
                    <a:pt x="1052" y="2142"/>
                  </a:lnTo>
                  <a:lnTo>
                    <a:pt x="1109" y="2017"/>
                  </a:lnTo>
                  <a:lnTo>
                    <a:pt x="1175" y="1892"/>
                  </a:lnTo>
                  <a:lnTo>
                    <a:pt x="1211" y="1832"/>
                  </a:lnTo>
                  <a:lnTo>
                    <a:pt x="1249" y="1773"/>
                  </a:lnTo>
                  <a:lnTo>
                    <a:pt x="1329" y="1661"/>
                  </a:lnTo>
                  <a:lnTo>
                    <a:pt x="1416" y="1558"/>
                  </a:lnTo>
                  <a:lnTo>
                    <a:pt x="1508" y="1461"/>
                  </a:lnTo>
                  <a:lnTo>
                    <a:pt x="1605" y="1372"/>
                  </a:lnTo>
                  <a:lnTo>
                    <a:pt x="1707" y="1292"/>
                  </a:lnTo>
                  <a:lnTo>
                    <a:pt x="1813" y="1219"/>
                  </a:lnTo>
                  <a:lnTo>
                    <a:pt x="1922" y="1153"/>
                  </a:lnTo>
                  <a:lnTo>
                    <a:pt x="2035" y="1095"/>
                  </a:lnTo>
                  <a:lnTo>
                    <a:pt x="2150" y="1045"/>
                  </a:lnTo>
                  <a:lnTo>
                    <a:pt x="2269" y="1002"/>
                  </a:lnTo>
                  <a:lnTo>
                    <a:pt x="2389" y="968"/>
                  </a:lnTo>
                  <a:lnTo>
                    <a:pt x="2511" y="941"/>
                  </a:lnTo>
                  <a:lnTo>
                    <a:pt x="2635" y="922"/>
                  </a:lnTo>
                  <a:lnTo>
                    <a:pt x="2758" y="910"/>
                  </a:lnTo>
                  <a:lnTo>
                    <a:pt x="2884" y="906"/>
                  </a:lnTo>
                  <a:lnTo>
                    <a:pt x="3008" y="910"/>
                  </a:lnTo>
                  <a:lnTo>
                    <a:pt x="3131" y="922"/>
                  </a:lnTo>
                  <a:lnTo>
                    <a:pt x="3255" y="942"/>
                  </a:lnTo>
                  <a:lnTo>
                    <a:pt x="3377" y="968"/>
                  </a:lnTo>
                  <a:lnTo>
                    <a:pt x="3497" y="1003"/>
                  </a:lnTo>
                  <a:lnTo>
                    <a:pt x="3616" y="1045"/>
                  </a:lnTo>
                  <a:lnTo>
                    <a:pt x="3731" y="1095"/>
                  </a:lnTo>
                  <a:lnTo>
                    <a:pt x="3844" y="1153"/>
                  </a:lnTo>
                  <a:lnTo>
                    <a:pt x="3953" y="1219"/>
                  </a:lnTo>
                  <a:lnTo>
                    <a:pt x="4059" y="1292"/>
                  </a:lnTo>
                  <a:lnTo>
                    <a:pt x="4161" y="1372"/>
                  </a:lnTo>
                  <a:lnTo>
                    <a:pt x="4258" y="1461"/>
                  </a:lnTo>
                  <a:lnTo>
                    <a:pt x="4305" y="1508"/>
                  </a:lnTo>
                  <a:lnTo>
                    <a:pt x="4350" y="1558"/>
                  </a:lnTo>
                  <a:lnTo>
                    <a:pt x="4437" y="1662"/>
                  </a:lnTo>
                  <a:lnTo>
                    <a:pt x="4517" y="1774"/>
                  </a:lnTo>
                  <a:lnTo>
                    <a:pt x="4591" y="1893"/>
                  </a:lnTo>
                  <a:lnTo>
                    <a:pt x="4657" y="2018"/>
                  </a:lnTo>
                  <a:lnTo>
                    <a:pt x="4714" y="2143"/>
                  </a:lnTo>
                  <a:lnTo>
                    <a:pt x="4761" y="2270"/>
                  </a:lnTo>
                  <a:lnTo>
                    <a:pt x="4798" y="2397"/>
                  </a:lnTo>
                  <a:lnTo>
                    <a:pt x="4827" y="2526"/>
                  </a:lnTo>
                  <a:lnTo>
                    <a:pt x="4846" y="2655"/>
                  </a:lnTo>
                  <a:lnTo>
                    <a:pt x="4852" y="2718"/>
                  </a:lnTo>
                  <a:lnTo>
                    <a:pt x="4856" y="2782"/>
                  </a:lnTo>
                  <a:lnTo>
                    <a:pt x="4858" y="2910"/>
                  </a:lnTo>
                  <a:lnTo>
                    <a:pt x="4852" y="3037"/>
                  </a:lnTo>
                  <a:lnTo>
                    <a:pt x="4837" y="3162"/>
                  </a:lnTo>
                  <a:lnTo>
                    <a:pt x="4815" y="3286"/>
                  </a:lnTo>
                  <a:lnTo>
                    <a:pt x="4785" y="3408"/>
                  </a:lnTo>
                  <a:lnTo>
                    <a:pt x="4747" y="3527"/>
                  </a:lnTo>
                  <a:lnTo>
                    <a:pt x="4702" y="3643"/>
                  </a:lnTo>
                  <a:lnTo>
                    <a:pt x="4650" y="3756"/>
                  </a:lnTo>
                  <a:lnTo>
                    <a:pt x="4591" y="3866"/>
                  </a:lnTo>
                  <a:lnTo>
                    <a:pt x="4526" y="3972"/>
                  </a:lnTo>
                  <a:lnTo>
                    <a:pt x="4453" y="4074"/>
                  </a:lnTo>
                  <a:lnTo>
                    <a:pt x="4375" y="4171"/>
                  </a:lnTo>
                  <a:lnTo>
                    <a:pt x="4291" y="4263"/>
                  </a:lnTo>
                  <a:lnTo>
                    <a:pt x="4200" y="4350"/>
                  </a:lnTo>
                  <a:lnTo>
                    <a:pt x="4105" y="4432"/>
                  </a:lnTo>
                  <a:lnTo>
                    <a:pt x="4004" y="4507"/>
                  </a:lnTo>
                  <a:lnTo>
                    <a:pt x="3897" y="4576"/>
                  </a:lnTo>
                  <a:lnTo>
                    <a:pt x="3786" y="4638"/>
                  </a:lnTo>
                  <a:lnTo>
                    <a:pt x="3669" y="4693"/>
                  </a:lnTo>
                  <a:lnTo>
                    <a:pt x="3609" y="4717"/>
                  </a:lnTo>
                  <a:lnTo>
                    <a:pt x="3549" y="4740"/>
                  </a:lnTo>
                  <a:lnTo>
                    <a:pt x="3423" y="4780"/>
                  </a:lnTo>
                  <a:lnTo>
                    <a:pt x="3293" y="4811"/>
                  </a:lnTo>
                  <a:lnTo>
                    <a:pt x="3161" y="4834"/>
                  </a:lnTo>
                  <a:lnTo>
                    <a:pt x="3024" y="4848"/>
                  </a:lnTo>
                  <a:lnTo>
                    <a:pt x="2882" y="4853"/>
                  </a:lnTo>
                  <a:lnTo>
                    <a:pt x="2882" y="4919"/>
                  </a:lnTo>
                  <a:close/>
                  <a:moveTo>
                    <a:pt x="2882" y="4710"/>
                  </a:moveTo>
                  <a:lnTo>
                    <a:pt x="2752" y="4706"/>
                  </a:lnTo>
                  <a:lnTo>
                    <a:pt x="2625" y="4692"/>
                  </a:lnTo>
                  <a:lnTo>
                    <a:pt x="2501" y="4671"/>
                  </a:lnTo>
                  <a:lnTo>
                    <a:pt x="2382" y="4642"/>
                  </a:lnTo>
                  <a:lnTo>
                    <a:pt x="2264" y="4605"/>
                  </a:lnTo>
                  <a:lnTo>
                    <a:pt x="2152" y="4561"/>
                  </a:lnTo>
                  <a:lnTo>
                    <a:pt x="2045" y="4510"/>
                  </a:lnTo>
                  <a:lnTo>
                    <a:pt x="1941" y="4452"/>
                  </a:lnTo>
                  <a:lnTo>
                    <a:pt x="1843" y="4389"/>
                  </a:lnTo>
                  <a:lnTo>
                    <a:pt x="1749" y="4319"/>
                  </a:lnTo>
                  <a:lnTo>
                    <a:pt x="1660" y="4243"/>
                  </a:lnTo>
                  <a:lnTo>
                    <a:pt x="1576" y="4163"/>
                  </a:lnTo>
                  <a:lnTo>
                    <a:pt x="1498" y="4077"/>
                  </a:lnTo>
                  <a:lnTo>
                    <a:pt x="1426" y="3987"/>
                  </a:lnTo>
                  <a:lnTo>
                    <a:pt x="1359" y="3893"/>
                  </a:lnTo>
                  <a:lnTo>
                    <a:pt x="1298" y="3795"/>
                  </a:lnTo>
                  <a:lnTo>
                    <a:pt x="1243" y="3693"/>
                  </a:lnTo>
                  <a:lnTo>
                    <a:pt x="1194" y="3588"/>
                  </a:lnTo>
                  <a:lnTo>
                    <a:pt x="1153" y="3480"/>
                  </a:lnTo>
                  <a:lnTo>
                    <a:pt x="1118" y="3369"/>
                  </a:lnTo>
                  <a:lnTo>
                    <a:pt x="1090" y="3256"/>
                  </a:lnTo>
                  <a:lnTo>
                    <a:pt x="1069" y="3142"/>
                  </a:lnTo>
                  <a:lnTo>
                    <a:pt x="1056" y="3025"/>
                  </a:lnTo>
                  <a:lnTo>
                    <a:pt x="1050" y="2908"/>
                  </a:lnTo>
                  <a:lnTo>
                    <a:pt x="1052" y="2790"/>
                  </a:lnTo>
                  <a:lnTo>
                    <a:pt x="1062" y="2670"/>
                  </a:lnTo>
                  <a:lnTo>
                    <a:pt x="1079" y="2551"/>
                  </a:lnTo>
                  <a:lnTo>
                    <a:pt x="1106" y="2432"/>
                  </a:lnTo>
                  <a:lnTo>
                    <a:pt x="1141" y="2314"/>
                  </a:lnTo>
                  <a:lnTo>
                    <a:pt x="1184" y="2196"/>
                  </a:lnTo>
                  <a:lnTo>
                    <a:pt x="1236" y="2078"/>
                  </a:lnTo>
                  <a:lnTo>
                    <a:pt x="1267" y="2021"/>
                  </a:lnTo>
                  <a:lnTo>
                    <a:pt x="1298" y="1963"/>
                  </a:lnTo>
                  <a:lnTo>
                    <a:pt x="1367" y="1852"/>
                  </a:lnTo>
                  <a:lnTo>
                    <a:pt x="1404" y="1800"/>
                  </a:lnTo>
                  <a:lnTo>
                    <a:pt x="1442" y="1749"/>
                  </a:lnTo>
                  <a:lnTo>
                    <a:pt x="1523" y="1653"/>
                  </a:lnTo>
                  <a:lnTo>
                    <a:pt x="1608" y="1563"/>
                  </a:lnTo>
                  <a:lnTo>
                    <a:pt x="1698" y="1481"/>
                  </a:lnTo>
                  <a:lnTo>
                    <a:pt x="1792" y="1406"/>
                  </a:lnTo>
                  <a:lnTo>
                    <a:pt x="1890" y="1338"/>
                  </a:lnTo>
                  <a:lnTo>
                    <a:pt x="1991" y="1277"/>
                  </a:lnTo>
                  <a:lnTo>
                    <a:pt x="2096" y="1224"/>
                  </a:lnTo>
                  <a:lnTo>
                    <a:pt x="2204" y="1178"/>
                  </a:lnTo>
                  <a:lnTo>
                    <a:pt x="2314" y="1138"/>
                  </a:lnTo>
                  <a:lnTo>
                    <a:pt x="2425" y="1106"/>
                  </a:lnTo>
                  <a:lnTo>
                    <a:pt x="2538" y="1081"/>
                  </a:lnTo>
                  <a:lnTo>
                    <a:pt x="2652" y="1063"/>
                  </a:lnTo>
                  <a:lnTo>
                    <a:pt x="2767" y="1052"/>
                  </a:lnTo>
                  <a:lnTo>
                    <a:pt x="2884" y="1049"/>
                  </a:lnTo>
                  <a:lnTo>
                    <a:pt x="2999" y="1052"/>
                  </a:lnTo>
                  <a:lnTo>
                    <a:pt x="3114" y="1063"/>
                  </a:lnTo>
                  <a:lnTo>
                    <a:pt x="3228" y="1081"/>
                  </a:lnTo>
                  <a:lnTo>
                    <a:pt x="3341" y="1106"/>
                  </a:lnTo>
                  <a:lnTo>
                    <a:pt x="3452" y="1138"/>
                  </a:lnTo>
                  <a:lnTo>
                    <a:pt x="3562" y="1178"/>
                  </a:lnTo>
                  <a:lnTo>
                    <a:pt x="3670" y="1224"/>
                  </a:lnTo>
                  <a:lnTo>
                    <a:pt x="3775" y="1278"/>
                  </a:lnTo>
                  <a:lnTo>
                    <a:pt x="3876" y="1339"/>
                  </a:lnTo>
                  <a:lnTo>
                    <a:pt x="3974" y="1407"/>
                  </a:lnTo>
                  <a:lnTo>
                    <a:pt x="4068" y="1481"/>
                  </a:lnTo>
                  <a:lnTo>
                    <a:pt x="4158" y="1564"/>
                  </a:lnTo>
                  <a:lnTo>
                    <a:pt x="4243" y="1654"/>
                  </a:lnTo>
                  <a:lnTo>
                    <a:pt x="4324" y="1750"/>
                  </a:lnTo>
                  <a:lnTo>
                    <a:pt x="4399" y="1854"/>
                  </a:lnTo>
                  <a:lnTo>
                    <a:pt x="4468" y="1964"/>
                  </a:lnTo>
                  <a:lnTo>
                    <a:pt x="4530" y="2079"/>
                  </a:lnTo>
                  <a:lnTo>
                    <a:pt x="4582" y="2197"/>
                  </a:lnTo>
                  <a:lnTo>
                    <a:pt x="4625" y="2314"/>
                  </a:lnTo>
                  <a:lnTo>
                    <a:pt x="4659" y="2433"/>
                  </a:lnTo>
                  <a:lnTo>
                    <a:pt x="4686" y="2552"/>
                  </a:lnTo>
                  <a:lnTo>
                    <a:pt x="4704" y="2671"/>
                  </a:lnTo>
                  <a:lnTo>
                    <a:pt x="4714" y="2790"/>
                  </a:lnTo>
                  <a:lnTo>
                    <a:pt x="4716" y="2908"/>
                  </a:lnTo>
                  <a:lnTo>
                    <a:pt x="4710" y="3026"/>
                  </a:lnTo>
                  <a:lnTo>
                    <a:pt x="4696" y="3142"/>
                  </a:lnTo>
                  <a:lnTo>
                    <a:pt x="4675" y="3257"/>
                  </a:lnTo>
                  <a:lnTo>
                    <a:pt x="4648" y="3369"/>
                  </a:lnTo>
                  <a:lnTo>
                    <a:pt x="4612" y="3480"/>
                  </a:lnTo>
                  <a:lnTo>
                    <a:pt x="4570" y="3588"/>
                  </a:lnTo>
                  <a:lnTo>
                    <a:pt x="4522" y="3693"/>
                  </a:lnTo>
                  <a:lnTo>
                    <a:pt x="4468" y="3795"/>
                  </a:lnTo>
                  <a:lnTo>
                    <a:pt x="4407" y="3893"/>
                  </a:lnTo>
                  <a:lnTo>
                    <a:pt x="4340" y="3987"/>
                  </a:lnTo>
                  <a:lnTo>
                    <a:pt x="4267" y="4077"/>
                  </a:lnTo>
                  <a:lnTo>
                    <a:pt x="4190" y="4163"/>
                  </a:lnTo>
                  <a:lnTo>
                    <a:pt x="4105" y="4243"/>
                  </a:lnTo>
                  <a:lnTo>
                    <a:pt x="4016" y="4319"/>
                  </a:lnTo>
                  <a:lnTo>
                    <a:pt x="3923" y="4389"/>
                  </a:lnTo>
                  <a:lnTo>
                    <a:pt x="3824" y="4452"/>
                  </a:lnTo>
                  <a:lnTo>
                    <a:pt x="3720" y="4510"/>
                  </a:lnTo>
                  <a:lnTo>
                    <a:pt x="3612" y="4561"/>
                  </a:lnTo>
                  <a:lnTo>
                    <a:pt x="3501" y="4605"/>
                  </a:lnTo>
                  <a:lnTo>
                    <a:pt x="3384" y="4642"/>
                  </a:lnTo>
                  <a:lnTo>
                    <a:pt x="3264" y="4671"/>
                  </a:lnTo>
                  <a:lnTo>
                    <a:pt x="3203" y="4683"/>
                  </a:lnTo>
                  <a:lnTo>
                    <a:pt x="3141" y="4692"/>
                  </a:lnTo>
                  <a:lnTo>
                    <a:pt x="3013" y="4706"/>
                  </a:lnTo>
                  <a:lnTo>
                    <a:pt x="2882" y="4710"/>
                  </a:lnTo>
                  <a:lnTo>
                    <a:pt x="2882" y="4632"/>
                  </a:lnTo>
                  <a:lnTo>
                    <a:pt x="2758" y="4628"/>
                  </a:lnTo>
                  <a:lnTo>
                    <a:pt x="2636" y="4616"/>
                  </a:lnTo>
                  <a:lnTo>
                    <a:pt x="2517" y="4596"/>
                  </a:lnTo>
                  <a:lnTo>
                    <a:pt x="2402" y="4568"/>
                  </a:lnTo>
                  <a:lnTo>
                    <a:pt x="2291" y="4532"/>
                  </a:lnTo>
                  <a:lnTo>
                    <a:pt x="2184" y="4490"/>
                  </a:lnTo>
                  <a:lnTo>
                    <a:pt x="2080" y="4441"/>
                  </a:lnTo>
                  <a:lnTo>
                    <a:pt x="1981" y="4386"/>
                  </a:lnTo>
                  <a:lnTo>
                    <a:pt x="1887" y="4325"/>
                  </a:lnTo>
                  <a:lnTo>
                    <a:pt x="1797" y="4258"/>
                  </a:lnTo>
                  <a:lnTo>
                    <a:pt x="1712" y="4186"/>
                  </a:lnTo>
                  <a:lnTo>
                    <a:pt x="1632" y="4108"/>
                  </a:lnTo>
                  <a:lnTo>
                    <a:pt x="1556" y="4027"/>
                  </a:lnTo>
                  <a:lnTo>
                    <a:pt x="1487" y="3940"/>
                  </a:lnTo>
                  <a:lnTo>
                    <a:pt x="1424" y="3850"/>
                  </a:lnTo>
                  <a:lnTo>
                    <a:pt x="1365" y="3756"/>
                  </a:lnTo>
                  <a:lnTo>
                    <a:pt x="1313" y="3658"/>
                  </a:lnTo>
                  <a:lnTo>
                    <a:pt x="1267" y="3557"/>
                  </a:lnTo>
                  <a:lnTo>
                    <a:pt x="1226" y="3454"/>
                  </a:lnTo>
                  <a:lnTo>
                    <a:pt x="1193" y="3348"/>
                  </a:lnTo>
                  <a:lnTo>
                    <a:pt x="1166" y="3240"/>
                  </a:lnTo>
                  <a:lnTo>
                    <a:pt x="1146" y="3131"/>
                  </a:lnTo>
                  <a:lnTo>
                    <a:pt x="1134" y="3019"/>
                  </a:lnTo>
                  <a:lnTo>
                    <a:pt x="1128" y="2907"/>
                  </a:lnTo>
                  <a:lnTo>
                    <a:pt x="1130" y="2793"/>
                  </a:lnTo>
                  <a:lnTo>
                    <a:pt x="1139" y="2679"/>
                  </a:lnTo>
                  <a:lnTo>
                    <a:pt x="1156" y="2565"/>
                  </a:lnTo>
                  <a:lnTo>
                    <a:pt x="1181" y="2451"/>
                  </a:lnTo>
                  <a:lnTo>
                    <a:pt x="1214" y="2337"/>
                  </a:lnTo>
                  <a:lnTo>
                    <a:pt x="1256" y="2224"/>
                  </a:lnTo>
                  <a:lnTo>
                    <a:pt x="1306" y="2113"/>
                  </a:lnTo>
                  <a:lnTo>
                    <a:pt x="1365" y="2002"/>
                  </a:lnTo>
                  <a:lnTo>
                    <a:pt x="1431" y="1896"/>
                  </a:lnTo>
                  <a:lnTo>
                    <a:pt x="1503" y="1797"/>
                  </a:lnTo>
                  <a:lnTo>
                    <a:pt x="1579" y="1704"/>
                  </a:lnTo>
                  <a:lnTo>
                    <a:pt x="1661" y="1618"/>
                  </a:lnTo>
                  <a:lnTo>
                    <a:pt x="1748" y="1540"/>
                  </a:lnTo>
                  <a:lnTo>
                    <a:pt x="1838" y="1469"/>
                  </a:lnTo>
                  <a:lnTo>
                    <a:pt x="1932" y="1403"/>
                  </a:lnTo>
                  <a:lnTo>
                    <a:pt x="2029" y="1345"/>
                  </a:lnTo>
                  <a:lnTo>
                    <a:pt x="2129" y="1294"/>
                  </a:lnTo>
                  <a:lnTo>
                    <a:pt x="2232" y="1249"/>
                  </a:lnTo>
                  <a:lnTo>
                    <a:pt x="2338" y="1211"/>
                  </a:lnTo>
                  <a:lnTo>
                    <a:pt x="2444" y="1181"/>
                  </a:lnTo>
                  <a:lnTo>
                    <a:pt x="2553" y="1157"/>
                  </a:lnTo>
                  <a:lnTo>
                    <a:pt x="2662" y="1139"/>
                  </a:lnTo>
                  <a:lnTo>
                    <a:pt x="2773" y="1130"/>
                  </a:lnTo>
                  <a:lnTo>
                    <a:pt x="2884" y="1126"/>
                  </a:lnTo>
                  <a:lnTo>
                    <a:pt x="2993" y="1130"/>
                  </a:lnTo>
                  <a:lnTo>
                    <a:pt x="3104" y="1140"/>
                  </a:lnTo>
                  <a:lnTo>
                    <a:pt x="3213" y="1157"/>
                  </a:lnTo>
                  <a:lnTo>
                    <a:pt x="3322" y="1181"/>
                  </a:lnTo>
                  <a:lnTo>
                    <a:pt x="3428" y="1211"/>
                  </a:lnTo>
                  <a:lnTo>
                    <a:pt x="3534" y="1249"/>
                  </a:lnTo>
                  <a:lnTo>
                    <a:pt x="3637" y="1294"/>
                  </a:lnTo>
                  <a:lnTo>
                    <a:pt x="3737" y="1345"/>
                  </a:lnTo>
                  <a:lnTo>
                    <a:pt x="3834" y="1404"/>
                  </a:lnTo>
                  <a:lnTo>
                    <a:pt x="3928" y="1469"/>
                  </a:lnTo>
                  <a:lnTo>
                    <a:pt x="4018" y="1541"/>
                  </a:lnTo>
                  <a:lnTo>
                    <a:pt x="4105" y="1619"/>
                  </a:lnTo>
                  <a:lnTo>
                    <a:pt x="4187" y="1705"/>
                  </a:lnTo>
                  <a:lnTo>
                    <a:pt x="4263" y="1797"/>
                  </a:lnTo>
                  <a:lnTo>
                    <a:pt x="4335" y="1896"/>
                  </a:lnTo>
                  <a:lnTo>
                    <a:pt x="4401" y="2003"/>
                  </a:lnTo>
                  <a:lnTo>
                    <a:pt x="4460" y="2113"/>
                  </a:lnTo>
                  <a:lnTo>
                    <a:pt x="4510" y="2225"/>
                  </a:lnTo>
                  <a:lnTo>
                    <a:pt x="4552" y="2338"/>
                  </a:lnTo>
                  <a:lnTo>
                    <a:pt x="4584" y="2452"/>
                  </a:lnTo>
                  <a:lnTo>
                    <a:pt x="4609" y="2566"/>
                  </a:lnTo>
                  <a:lnTo>
                    <a:pt x="4627" y="2680"/>
                  </a:lnTo>
                  <a:lnTo>
                    <a:pt x="4636" y="2794"/>
                  </a:lnTo>
                  <a:lnTo>
                    <a:pt x="4637" y="2907"/>
                  </a:lnTo>
                  <a:lnTo>
                    <a:pt x="4632" y="3020"/>
                  </a:lnTo>
                  <a:lnTo>
                    <a:pt x="4620" y="3131"/>
                  </a:lnTo>
                  <a:lnTo>
                    <a:pt x="4600" y="3240"/>
                  </a:lnTo>
                  <a:lnTo>
                    <a:pt x="4573" y="3348"/>
                  </a:lnTo>
                  <a:lnTo>
                    <a:pt x="4539" y="3455"/>
                  </a:lnTo>
                  <a:lnTo>
                    <a:pt x="4499" y="3557"/>
                  </a:lnTo>
                  <a:lnTo>
                    <a:pt x="4453" y="3659"/>
                  </a:lnTo>
                  <a:lnTo>
                    <a:pt x="4401" y="3756"/>
                  </a:lnTo>
                  <a:lnTo>
                    <a:pt x="4342" y="3850"/>
                  </a:lnTo>
                  <a:lnTo>
                    <a:pt x="4279" y="3940"/>
                  </a:lnTo>
                  <a:lnTo>
                    <a:pt x="4209" y="4027"/>
                  </a:lnTo>
                  <a:lnTo>
                    <a:pt x="4134" y="4108"/>
                  </a:lnTo>
                  <a:lnTo>
                    <a:pt x="4054" y="4186"/>
                  </a:lnTo>
                  <a:lnTo>
                    <a:pt x="3969" y="4258"/>
                  </a:lnTo>
                  <a:lnTo>
                    <a:pt x="3879" y="4325"/>
                  </a:lnTo>
                  <a:lnTo>
                    <a:pt x="3784" y="4386"/>
                  </a:lnTo>
                  <a:lnTo>
                    <a:pt x="3685" y="4441"/>
                  </a:lnTo>
                  <a:lnTo>
                    <a:pt x="3582" y="4490"/>
                  </a:lnTo>
                  <a:lnTo>
                    <a:pt x="3474" y="4532"/>
                  </a:lnTo>
                  <a:lnTo>
                    <a:pt x="3363" y="4568"/>
                  </a:lnTo>
                  <a:lnTo>
                    <a:pt x="3247" y="4596"/>
                  </a:lnTo>
                  <a:lnTo>
                    <a:pt x="3129" y="4616"/>
                  </a:lnTo>
                  <a:lnTo>
                    <a:pt x="3008" y="4628"/>
                  </a:lnTo>
                  <a:lnTo>
                    <a:pt x="2882" y="4632"/>
                  </a:lnTo>
                  <a:lnTo>
                    <a:pt x="2882" y="4710"/>
                  </a:lnTo>
                  <a:close/>
                  <a:moveTo>
                    <a:pt x="2882" y="4501"/>
                  </a:moveTo>
                  <a:lnTo>
                    <a:pt x="2766" y="4496"/>
                  </a:lnTo>
                  <a:lnTo>
                    <a:pt x="2654" y="4485"/>
                  </a:lnTo>
                  <a:lnTo>
                    <a:pt x="2545" y="4466"/>
                  </a:lnTo>
                  <a:lnTo>
                    <a:pt x="2438" y="4440"/>
                  </a:lnTo>
                  <a:lnTo>
                    <a:pt x="2335" y="4408"/>
                  </a:lnTo>
                  <a:lnTo>
                    <a:pt x="2236" y="4369"/>
                  </a:lnTo>
                  <a:lnTo>
                    <a:pt x="2141" y="4324"/>
                  </a:lnTo>
                  <a:lnTo>
                    <a:pt x="2049" y="4273"/>
                  </a:lnTo>
                  <a:lnTo>
                    <a:pt x="1962" y="4216"/>
                  </a:lnTo>
                  <a:lnTo>
                    <a:pt x="1878" y="4154"/>
                  </a:lnTo>
                  <a:lnTo>
                    <a:pt x="1800" y="4087"/>
                  </a:lnTo>
                  <a:lnTo>
                    <a:pt x="1726" y="4016"/>
                  </a:lnTo>
                  <a:lnTo>
                    <a:pt x="1657" y="3940"/>
                  </a:lnTo>
                  <a:lnTo>
                    <a:pt x="1592" y="3861"/>
                  </a:lnTo>
                  <a:lnTo>
                    <a:pt x="1533" y="3777"/>
                  </a:lnTo>
                  <a:lnTo>
                    <a:pt x="1479" y="3690"/>
                  </a:lnTo>
                  <a:lnTo>
                    <a:pt x="1431" y="3600"/>
                  </a:lnTo>
                  <a:lnTo>
                    <a:pt x="1388" y="3507"/>
                  </a:lnTo>
                  <a:lnTo>
                    <a:pt x="1351" y="3411"/>
                  </a:lnTo>
                  <a:lnTo>
                    <a:pt x="1320" y="3314"/>
                  </a:lnTo>
                  <a:lnTo>
                    <a:pt x="1295" y="3213"/>
                  </a:lnTo>
                  <a:lnTo>
                    <a:pt x="1277" y="3112"/>
                  </a:lnTo>
                  <a:lnTo>
                    <a:pt x="1265" y="3009"/>
                  </a:lnTo>
                  <a:lnTo>
                    <a:pt x="1259" y="2905"/>
                  </a:lnTo>
                  <a:lnTo>
                    <a:pt x="1261" y="2800"/>
                  </a:lnTo>
                  <a:lnTo>
                    <a:pt x="1270" y="2694"/>
                  </a:lnTo>
                  <a:lnTo>
                    <a:pt x="1285" y="2589"/>
                  </a:lnTo>
                  <a:lnTo>
                    <a:pt x="1310" y="2483"/>
                  </a:lnTo>
                  <a:lnTo>
                    <a:pt x="1340" y="2379"/>
                  </a:lnTo>
                  <a:lnTo>
                    <a:pt x="1379" y="2274"/>
                  </a:lnTo>
                  <a:lnTo>
                    <a:pt x="1425" y="2171"/>
                  </a:lnTo>
                  <a:lnTo>
                    <a:pt x="1479" y="2069"/>
                  </a:lnTo>
                  <a:lnTo>
                    <a:pt x="1541" y="1971"/>
                  </a:lnTo>
                  <a:lnTo>
                    <a:pt x="1607" y="1879"/>
                  </a:lnTo>
                  <a:lnTo>
                    <a:pt x="1678" y="1794"/>
                  </a:lnTo>
                  <a:lnTo>
                    <a:pt x="1753" y="1714"/>
                  </a:lnTo>
                  <a:lnTo>
                    <a:pt x="1832" y="1641"/>
                  </a:lnTo>
                  <a:lnTo>
                    <a:pt x="1916" y="1575"/>
                  </a:lnTo>
                  <a:lnTo>
                    <a:pt x="2003" y="1515"/>
                  </a:lnTo>
                  <a:lnTo>
                    <a:pt x="2093" y="1461"/>
                  </a:lnTo>
                  <a:lnTo>
                    <a:pt x="2186" y="1414"/>
                  </a:lnTo>
                  <a:lnTo>
                    <a:pt x="2281" y="1372"/>
                  </a:lnTo>
                  <a:lnTo>
                    <a:pt x="2378" y="1338"/>
                  </a:lnTo>
                  <a:lnTo>
                    <a:pt x="2477" y="1310"/>
                  </a:lnTo>
                  <a:lnTo>
                    <a:pt x="2577" y="1287"/>
                  </a:lnTo>
                  <a:lnTo>
                    <a:pt x="2679" y="1271"/>
                  </a:lnTo>
                  <a:lnTo>
                    <a:pt x="2781" y="1262"/>
                  </a:lnTo>
                  <a:lnTo>
                    <a:pt x="2882" y="1258"/>
                  </a:lnTo>
                  <a:lnTo>
                    <a:pt x="2985" y="1262"/>
                  </a:lnTo>
                  <a:lnTo>
                    <a:pt x="3087" y="1271"/>
                  </a:lnTo>
                  <a:lnTo>
                    <a:pt x="3188" y="1287"/>
                  </a:lnTo>
                  <a:lnTo>
                    <a:pt x="3288" y="1310"/>
                  </a:lnTo>
                  <a:lnTo>
                    <a:pt x="3388" y="1338"/>
                  </a:lnTo>
                  <a:lnTo>
                    <a:pt x="3485" y="1372"/>
                  </a:lnTo>
                  <a:lnTo>
                    <a:pt x="3580" y="1414"/>
                  </a:lnTo>
                  <a:lnTo>
                    <a:pt x="3672" y="1461"/>
                  </a:lnTo>
                  <a:lnTo>
                    <a:pt x="3762" y="1515"/>
                  </a:lnTo>
                  <a:lnTo>
                    <a:pt x="3849" y="1575"/>
                  </a:lnTo>
                  <a:lnTo>
                    <a:pt x="3933" y="1641"/>
                  </a:lnTo>
                  <a:lnTo>
                    <a:pt x="4012" y="1714"/>
                  </a:lnTo>
                  <a:lnTo>
                    <a:pt x="4087" y="1794"/>
                  </a:lnTo>
                  <a:lnTo>
                    <a:pt x="4158" y="1879"/>
                  </a:lnTo>
                  <a:lnTo>
                    <a:pt x="4225" y="1971"/>
                  </a:lnTo>
                  <a:lnTo>
                    <a:pt x="4286" y="2069"/>
                  </a:lnTo>
                  <a:lnTo>
                    <a:pt x="4340" y="2171"/>
                  </a:lnTo>
                  <a:lnTo>
                    <a:pt x="4386" y="2274"/>
                  </a:lnTo>
                  <a:lnTo>
                    <a:pt x="4425" y="2379"/>
                  </a:lnTo>
                  <a:lnTo>
                    <a:pt x="4455" y="2483"/>
                  </a:lnTo>
                  <a:lnTo>
                    <a:pt x="4479" y="2589"/>
                  </a:lnTo>
                  <a:lnTo>
                    <a:pt x="4495" y="2694"/>
                  </a:lnTo>
                  <a:lnTo>
                    <a:pt x="4504" y="2800"/>
                  </a:lnTo>
                  <a:lnTo>
                    <a:pt x="4506" y="2905"/>
                  </a:lnTo>
                  <a:lnTo>
                    <a:pt x="4500" y="3009"/>
                  </a:lnTo>
                  <a:lnTo>
                    <a:pt x="4488" y="3112"/>
                  </a:lnTo>
                  <a:lnTo>
                    <a:pt x="4470" y="3213"/>
                  </a:lnTo>
                  <a:lnTo>
                    <a:pt x="4445" y="3314"/>
                  </a:lnTo>
                  <a:lnTo>
                    <a:pt x="4415" y="3411"/>
                  </a:lnTo>
                  <a:lnTo>
                    <a:pt x="4377" y="3507"/>
                  </a:lnTo>
                  <a:lnTo>
                    <a:pt x="4334" y="3600"/>
                  </a:lnTo>
                  <a:lnTo>
                    <a:pt x="4286" y="3690"/>
                  </a:lnTo>
                  <a:lnTo>
                    <a:pt x="4233" y="3777"/>
                  </a:lnTo>
                  <a:lnTo>
                    <a:pt x="4173" y="3861"/>
                  </a:lnTo>
                  <a:lnTo>
                    <a:pt x="4109" y="3940"/>
                  </a:lnTo>
                  <a:lnTo>
                    <a:pt x="4039" y="4016"/>
                  </a:lnTo>
                  <a:lnTo>
                    <a:pt x="3966" y="4087"/>
                  </a:lnTo>
                  <a:lnTo>
                    <a:pt x="3886" y="4154"/>
                  </a:lnTo>
                  <a:lnTo>
                    <a:pt x="3804" y="4216"/>
                  </a:lnTo>
                  <a:lnTo>
                    <a:pt x="3716" y="4273"/>
                  </a:lnTo>
                  <a:lnTo>
                    <a:pt x="3625" y="4324"/>
                  </a:lnTo>
                  <a:lnTo>
                    <a:pt x="3529" y="4369"/>
                  </a:lnTo>
                  <a:lnTo>
                    <a:pt x="3429" y="4408"/>
                  </a:lnTo>
                  <a:lnTo>
                    <a:pt x="3327" y="4440"/>
                  </a:lnTo>
                  <a:lnTo>
                    <a:pt x="3220" y="4466"/>
                  </a:lnTo>
                  <a:lnTo>
                    <a:pt x="3110" y="4485"/>
                  </a:lnTo>
                  <a:lnTo>
                    <a:pt x="2999" y="4496"/>
                  </a:lnTo>
                  <a:lnTo>
                    <a:pt x="2882" y="4501"/>
                  </a:lnTo>
                  <a:lnTo>
                    <a:pt x="2882" y="4412"/>
                  </a:lnTo>
                  <a:lnTo>
                    <a:pt x="2774" y="4408"/>
                  </a:lnTo>
                  <a:lnTo>
                    <a:pt x="2667" y="4397"/>
                  </a:lnTo>
                  <a:lnTo>
                    <a:pt x="2563" y="4379"/>
                  </a:lnTo>
                  <a:lnTo>
                    <a:pt x="2462" y="4355"/>
                  </a:lnTo>
                  <a:lnTo>
                    <a:pt x="2365" y="4324"/>
                  </a:lnTo>
                  <a:lnTo>
                    <a:pt x="2272" y="4287"/>
                  </a:lnTo>
                  <a:lnTo>
                    <a:pt x="2181" y="4244"/>
                  </a:lnTo>
                  <a:lnTo>
                    <a:pt x="2095" y="4196"/>
                  </a:lnTo>
                  <a:lnTo>
                    <a:pt x="2011" y="4143"/>
                  </a:lnTo>
                  <a:lnTo>
                    <a:pt x="1933" y="4084"/>
                  </a:lnTo>
                  <a:lnTo>
                    <a:pt x="1859" y="4022"/>
                  </a:lnTo>
                  <a:lnTo>
                    <a:pt x="1789" y="3954"/>
                  </a:lnTo>
                  <a:lnTo>
                    <a:pt x="1723" y="3882"/>
                  </a:lnTo>
                  <a:lnTo>
                    <a:pt x="1662" y="3807"/>
                  </a:lnTo>
                  <a:lnTo>
                    <a:pt x="1607" y="3728"/>
                  </a:lnTo>
                  <a:lnTo>
                    <a:pt x="1555" y="3645"/>
                  </a:lnTo>
                  <a:lnTo>
                    <a:pt x="1509" y="3560"/>
                  </a:lnTo>
                  <a:lnTo>
                    <a:pt x="1470" y="3473"/>
                  </a:lnTo>
                  <a:lnTo>
                    <a:pt x="1434" y="3382"/>
                  </a:lnTo>
                  <a:lnTo>
                    <a:pt x="1405" y="3289"/>
                  </a:lnTo>
                  <a:lnTo>
                    <a:pt x="1382" y="3195"/>
                  </a:lnTo>
                  <a:lnTo>
                    <a:pt x="1364" y="3099"/>
                  </a:lnTo>
                  <a:lnTo>
                    <a:pt x="1352" y="3002"/>
                  </a:lnTo>
                  <a:lnTo>
                    <a:pt x="1348" y="2904"/>
                  </a:lnTo>
                  <a:lnTo>
                    <a:pt x="1349" y="2804"/>
                  </a:lnTo>
                  <a:lnTo>
                    <a:pt x="1358" y="2705"/>
                  </a:lnTo>
                  <a:lnTo>
                    <a:pt x="1372" y="2604"/>
                  </a:lnTo>
                  <a:lnTo>
                    <a:pt x="1394" y="2505"/>
                  </a:lnTo>
                  <a:lnTo>
                    <a:pt x="1424" y="2406"/>
                  </a:lnTo>
                  <a:lnTo>
                    <a:pt x="1460" y="2307"/>
                  </a:lnTo>
                  <a:lnTo>
                    <a:pt x="1504" y="2209"/>
                  </a:lnTo>
                  <a:lnTo>
                    <a:pt x="1555" y="2113"/>
                  </a:lnTo>
                  <a:lnTo>
                    <a:pt x="1613" y="2020"/>
                  </a:lnTo>
                  <a:lnTo>
                    <a:pt x="1676" y="1933"/>
                  </a:lnTo>
                  <a:lnTo>
                    <a:pt x="1744" y="1852"/>
                  </a:lnTo>
                  <a:lnTo>
                    <a:pt x="1815" y="1777"/>
                  </a:lnTo>
                  <a:lnTo>
                    <a:pt x="1890" y="1709"/>
                  </a:lnTo>
                  <a:lnTo>
                    <a:pt x="1968" y="1645"/>
                  </a:lnTo>
                  <a:lnTo>
                    <a:pt x="2051" y="1589"/>
                  </a:lnTo>
                  <a:lnTo>
                    <a:pt x="2136" y="1538"/>
                  </a:lnTo>
                  <a:lnTo>
                    <a:pt x="2224" y="1494"/>
                  </a:lnTo>
                  <a:lnTo>
                    <a:pt x="2314" y="1454"/>
                  </a:lnTo>
                  <a:lnTo>
                    <a:pt x="2406" y="1422"/>
                  </a:lnTo>
                  <a:lnTo>
                    <a:pt x="2499" y="1394"/>
                  </a:lnTo>
                  <a:lnTo>
                    <a:pt x="2594" y="1373"/>
                  </a:lnTo>
                  <a:lnTo>
                    <a:pt x="2689" y="1359"/>
                  </a:lnTo>
                  <a:lnTo>
                    <a:pt x="2786" y="1349"/>
                  </a:lnTo>
                  <a:lnTo>
                    <a:pt x="2882" y="1346"/>
                  </a:lnTo>
                  <a:lnTo>
                    <a:pt x="2979" y="1349"/>
                  </a:lnTo>
                  <a:lnTo>
                    <a:pt x="3076" y="1359"/>
                  </a:lnTo>
                  <a:lnTo>
                    <a:pt x="3171" y="1373"/>
                  </a:lnTo>
                  <a:lnTo>
                    <a:pt x="3266" y="1394"/>
                  </a:lnTo>
                  <a:lnTo>
                    <a:pt x="3359" y="1422"/>
                  </a:lnTo>
                  <a:lnTo>
                    <a:pt x="3451" y="1454"/>
                  </a:lnTo>
                  <a:lnTo>
                    <a:pt x="3541" y="1494"/>
                  </a:lnTo>
                  <a:lnTo>
                    <a:pt x="3629" y="1538"/>
                  </a:lnTo>
                  <a:lnTo>
                    <a:pt x="3714" y="1589"/>
                  </a:lnTo>
                  <a:lnTo>
                    <a:pt x="3797" y="1645"/>
                  </a:lnTo>
                  <a:lnTo>
                    <a:pt x="3875" y="1709"/>
                  </a:lnTo>
                  <a:lnTo>
                    <a:pt x="3950" y="1777"/>
                  </a:lnTo>
                  <a:lnTo>
                    <a:pt x="4021" y="1852"/>
                  </a:lnTo>
                  <a:lnTo>
                    <a:pt x="4089" y="1933"/>
                  </a:lnTo>
                  <a:lnTo>
                    <a:pt x="4152" y="2020"/>
                  </a:lnTo>
                  <a:lnTo>
                    <a:pt x="4210" y="2113"/>
                  </a:lnTo>
                  <a:lnTo>
                    <a:pt x="4261" y="2209"/>
                  </a:lnTo>
                  <a:lnTo>
                    <a:pt x="4305" y="2307"/>
                  </a:lnTo>
                  <a:lnTo>
                    <a:pt x="4341" y="2406"/>
                  </a:lnTo>
                  <a:lnTo>
                    <a:pt x="4371" y="2505"/>
                  </a:lnTo>
                  <a:lnTo>
                    <a:pt x="4393" y="2604"/>
                  </a:lnTo>
                  <a:lnTo>
                    <a:pt x="4407" y="2705"/>
                  </a:lnTo>
                  <a:lnTo>
                    <a:pt x="4416" y="2804"/>
                  </a:lnTo>
                  <a:lnTo>
                    <a:pt x="4417" y="2904"/>
                  </a:lnTo>
                  <a:lnTo>
                    <a:pt x="4413" y="3002"/>
                  </a:lnTo>
                  <a:lnTo>
                    <a:pt x="4401" y="3099"/>
                  </a:lnTo>
                  <a:lnTo>
                    <a:pt x="4383" y="3195"/>
                  </a:lnTo>
                  <a:lnTo>
                    <a:pt x="4360" y="3289"/>
                  </a:lnTo>
                  <a:lnTo>
                    <a:pt x="4331" y="3382"/>
                  </a:lnTo>
                  <a:lnTo>
                    <a:pt x="4296" y="3473"/>
                  </a:lnTo>
                  <a:lnTo>
                    <a:pt x="4256" y="3560"/>
                  </a:lnTo>
                  <a:lnTo>
                    <a:pt x="4210" y="3645"/>
                  </a:lnTo>
                  <a:lnTo>
                    <a:pt x="4159" y="3728"/>
                  </a:lnTo>
                  <a:lnTo>
                    <a:pt x="4103" y="3807"/>
                  </a:lnTo>
                  <a:lnTo>
                    <a:pt x="4042" y="3882"/>
                  </a:lnTo>
                  <a:lnTo>
                    <a:pt x="3976" y="3954"/>
                  </a:lnTo>
                  <a:lnTo>
                    <a:pt x="3906" y="4022"/>
                  </a:lnTo>
                  <a:lnTo>
                    <a:pt x="3832" y="4084"/>
                  </a:lnTo>
                  <a:lnTo>
                    <a:pt x="3754" y="4143"/>
                  </a:lnTo>
                  <a:lnTo>
                    <a:pt x="3671" y="4196"/>
                  </a:lnTo>
                  <a:lnTo>
                    <a:pt x="3584" y="4244"/>
                  </a:lnTo>
                  <a:lnTo>
                    <a:pt x="3494" y="4287"/>
                  </a:lnTo>
                  <a:lnTo>
                    <a:pt x="3400" y="4324"/>
                  </a:lnTo>
                  <a:lnTo>
                    <a:pt x="3303" y="4355"/>
                  </a:lnTo>
                  <a:lnTo>
                    <a:pt x="3203" y="4379"/>
                  </a:lnTo>
                  <a:lnTo>
                    <a:pt x="3099" y="4397"/>
                  </a:lnTo>
                  <a:lnTo>
                    <a:pt x="2992" y="4408"/>
                  </a:lnTo>
                  <a:lnTo>
                    <a:pt x="2882" y="4412"/>
                  </a:lnTo>
                  <a:lnTo>
                    <a:pt x="2882" y="4501"/>
                  </a:lnTo>
                  <a:close/>
                  <a:moveTo>
                    <a:pt x="2882" y="4290"/>
                  </a:moveTo>
                  <a:lnTo>
                    <a:pt x="2782" y="4287"/>
                  </a:lnTo>
                  <a:lnTo>
                    <a:pt x="2684" y="4277"/>
                  </a:lnTo>
                  <a:lnTo>
                    <a:pt x="2589" y="4260"/>
                  </a:lnTo>
                  <a:lnTo>
                    <a:pt x="2497" y="4238"/>
                  </a:lnTo>
                  <a:lnTo>
                    <a:pt x="2407" y="4210"/>
                  </a:lnTo>
                  <a:lnTo>
                    <a:pt x="2320" y="4175"/>
                  </a:lnTo>
                  <a:lnTo>
                    <a:pt x="2237" y="4137"/>
                  </a:lnTo>
                  <a:lnTo>
                    <a:pt x="2158" y="4092"/>
                  </a:lnTo>
                  <a:lnTo>
                    <a:pt x="2081" y="4043"/>
                  </a:lnTo>
                  <a:lnTo>
                    <a:pt x="2009" y="3989"/>
                  </a:lnTo>
                  <a:lnTo>
                    <a:pt x="1940" y="3931"/>
                  </a:lnTo>
                  <a:lnTo>
                    <a:pt x="1875" y="3869"/>
                  </a:lnTo>
                  <a:lnTo>
                    <a:pt x="1816" y="3803"/>
                  </a:lnTo>
                  <a:lnTo>
                    <a:pt x="1759" y="3733"/>
                  </a:lnTo>
                  <a:lnTo>
                    <a:pt x="1708" y="3661"/>
                  </a:lnTo>
                  <a:lnTo>
                    <a:pt x="1661" y="3584"/>
                  </a:lnTo>
                  <a:lnTo>
                    <a:pt x="1619" y="3506"/>
                  </a:lnTo>
                  <a:lnTo>
                    <a:pt x="1581" y="3425"/>
                  </a:lnTo>
                  <a:lnTo>
                    <a:pt x="1550" y="3342"/>
                  </a:lnTo>
                  <a:lnTo>
                    <a:pt x="1523" y="3256"/>
                  </a:lnTo>
                  <a:lnTo>
                    <a:pt x="1501" y="3169"/>
                  </a:lnTo>
                  <a:lnTo>
                    <a:pt x="1485" y="3081"/>
                  </a:lnTo>
                  <a:lnTo>
                    <a:pt x="1475" y="2991"/>
                  </a:lnTo>
                  <a:lnTo>
                    <a:pt x="1471" y="2901"/>
                  </a:lnTo>
                  <a:lnTo>
                    <a:pt x="1472" y="2809"/>
                  </a:lnTo>
                  <a:lnTo>
                    <a:pt x="1479" y="2718"/>
                  </a:lnTo>
                  <a:lnTo>
                    <a:pt x="1493" y="2626"/>
                  </a:lnTo>
                  <a:lnTo>
                    <a:pt x="1513" y="2534"/>
                  </a:lnTo>
                  <a:lnTo>
                    <a:pt x="1540" y="2443"/>
                  </a:lnTo>
                  <a:lnTo>
                    <a:pt x="1573" y="2352"/>
                  </a:lnTo>
                  <a:lnTo>
                    <a:pt x="1614" y="2262"/>
                  </a:lnTo>
                  <a:lnTo>
                    <a:pt x="1661" y="2174"/>
                  </a:lnTo>
                  <a:lnTo>
                    <a:pt x="1714" y="2088"/>
                  </a:lnTo>
                  <a:lnTo>
                    <a:pt x="1772" y="2008"/>
                  </a:lnTo>
                  <a:lnTo>
                    <a:pt x="1833" y="1934"/>
                  </a:lnTo>
                  <a:lnTo>
                    <a:pt x="1899" y="1865"/>
                  </a:lnTo>
                  <a:lnTo>
                    <a:pt x="1968" y="1801"/>
                  </a:lnTo>
                  <a:lnTo>
                    <a:pt x="2042" y="1744"/>
                  </a:lnTo>
                  <a:lnTo>
                    <a:pt x="2117" y="1691"/>
                  </a:lnTo>
                  <a:lnTo>
                    <a:pt x="2195" y="1644"/>
                  </a:lnTo>
                  <a:lnTo>
                    <a:pt x="2276" y="1603"/>
                  </a:lnTo>
                  <a:lnTo>
                    <a:pt x="2359" y="1567"/>
                  </a:lnTo>
                  <a:lnTo>
                    <a:pt x="2443" y="1537"/>
                  </a:lnTo>
                  <a:lnTo>
                    <a:pt x="2530" y="1512"/>
                  </a:lnTo>
                  <a:lnTo>
                    <a:pt x="2617" y="1493"/>
                  </a:lnTo>
                  <a:lnTo>
                    <a:pt x="2705" y="1479"/>
                  </a:lnTo>
                  <a:lnTo>
                    <a:pt x="2794" y="1471"/>
                  </a:lnTo>
                  <a:lnTo>
                    <a:pt x="2884" y="1468"/>
                  </a:lnTo>
                  <a:lnTo>
                    <a:pt x="2972" y="1471"/>
                  </a:lnTo>
                  <a:lnTo>
                    <a:pt x="3061" y="1479"/>
                  </a:lnTo>
                  <a:lnTo>
                    <a:pt x="3149" y="1493"/>
                  </a:lnTo>
                  <a:lnTo>
                    <a:pt x="3236" y="1513"/>
                  </a:lnTo>
                  <a:lnTo>
                    <a:pt x="3323" y="1537"/>
                  </a:lnTo>
                  <a:lnTo>
                    <a:pt x="3407" y="1567"/>
                  </a:lnTo>
                  <a:lnTo>
                    <a:pt x="3490" y="1604"/>
                  </a:lnTo>
                  <a:lnTo>
                    <a:pt x="3571" y="1644"/>
                  </a:lnTo>
                  <a:lnTo>
                    <a:pt x="3649" y="1691"/>
                  </a:lnTo>
                  <a:lnTo>
                    <a:pt x="3724" y="1744"/>
                  </a:lnTo>
                  <a:lnTo>
                    <a:pt x="3798" y="1801"/>
                  </a:lnTo>
                  <a:lnTo>
                    <a:pt x="3867" y="1865"/>
                  </a:lnTo>
                  <a:lnTo>
                    <a:pt x="3933" y="1934"/>
                  </a:lnTo>
                  <a:lnTo>
                    <a:pt x="3994" y="2008"/>
                  </a:lnTo>
                  <a:lnTo>
                    <a:pt x="4052" y="2088"/>
                  </a:lnTo>
                  <a:lnTo>
                    <a:pt x="4105" y="2174"/>
                  </a:lnTo>
                  <a:lnTo>
                    <a:pt x="4152" y="2262"/>
                  </a:lnTo>
                  <a:lnTo>
                    <a:pt x="4193" y="2352"/>
                  </a:lnTo>
                  <a:lnTo>
                    <a:pt x="4226" y="2443"/>
                  </a:lnTo>
                  <a:lnTo>
                    <a:pt x="4253" y="2534"/>
                  </a:lnTo>
                  <a:lnTo>
                    <a:pt x="4272" y="2626"/>
                  </a:lnTo>
                  <a:lnTo>
                    <a:pt x="4287" y="2718"/>
                  </a:lnTo>
                  <a:lnTo>
                    <a:pt x="4294" y="2809"/>
                  </a:lnTo>
                  <a:lnTo>
                    <a:pt x="4295" y="2901"/>
                  </a:lnTo>
                  <a:lnTo>
                    <a:pt x="4291" y="2991"/>
                  </a:lnTo>
                  <a:lnTo>
                    <a:pt x="4281" y="3081"/>
                  </a:lnTo>
                  <a:lnTo>
                    <a:pt x="4264" y="3169"/>
                  </a:lnTo>
                  <a:lnTo>
                    <a:pt x="4243" y="3256"/>
                  </a:lnTo>
                  <a:lnTo>
                    <a:pt x="4216" y="3342"/>
                  </a:lnTo>
                  <a:lnTo>
                    <a:pt x="4184" y="3425"/>
                  </a:lnTo>
                  <a:lnTo>
                    <a:pt x="4147" y="3506"/>
                  </a:lnTo>
                  <a:lnTo>
                    <a:pt x="4104" y="3584"/>
                  </a:lnTo>
                  <a:lnTo>
                    <a:pt x="4058" y="3661"/>
                  </a:lnTo>
                  <a:lnTo>
                    <a:pt x="4006" y="3733"/>
                  </a:lnTo>
                  <a:lnTo>
                    <a:pt x="3950" y="3803"/>
                  </a:lnTo>
                  <a:lnTo>
                    <a:pt x="3890" y="3869"/>
                  </a:lnTo>
                  <a:lnTo>
                    <a:pt x="3825" y="3931"/>
                  </a:lnTo>
                  <a:lnTo>
                    <a:pt x="3757" y="3989"/>
                  </a:lnTo>
                  <a:lnTo>
                    <a:pt x="3685" y="4043"/>
                  </a:lnTo>
                  <a:lnTo>
                    <a:pt x="3608" y="4092"/>
                  </a:lnTo>
                  <a:lnTo>
                    <a:pt x="3529" y="4137"/>
                  </a:lnTo>
                  <a:lnTo>
                    <a:pt x="3445" y="4175"/>
                  </a:lnTo>
                  <a:lnTo>
                    <a:pt x="3358" y="4210"/>
                  </a:lnTo>
                  <a:lnTo>
                    <a:pt x="3269" y="4238"/>
                  </a:lnTo>
                  <a:lnTo>
                    <a:pt x="3176" y="4260"/>
                  </a:lnTo>
                  <a:lnTo>
                    <a:pt x="3081" y="4277"/>
                  </a:lnTo>
                  <a:lnTo>
                    <a:pt x="2983" y="4287"/>
                  </a:lnTo>
                  <a:lnTo>
                    <a:pt x="2882" y="4290"/>
                  </a:lnTo>
                  <a:lnTo>
                    <a:pt x="2882" y="4192"/>
                  </a:lnTo>
                  <a:lnTo>
                    <a:pt x="2789" y="4189"/>
                  </a:lnTo>
                  <a:lnTo>
                    <a:pt x="2697" y="4180"/>
                  </a:lnTo>
                  <a:lnTo>
                    <a:pt x="2608" y="4164"/>
                  </a:lnTo>
                  <a:lnTo>
                    <a:pt x="2523" y="4143"/>
                  </a:lnTo>
                  <a:lnTo>
                    <a:pt x="2439" y="4117"/>
                  </a:lnTo>
                  <a:lnTo>
                    <a:pt x="2360" y="4085"/>
                  </a:lnTo>
                  <a:lnTo>
                    <a:pt x="2282" y="4049"/>
                  </a:lnTo>
                  <a:lnTo>
                    <a:pt x="2208" y="4007"/>
                  </a:lnTo>
                  <a:lnTo>
                    <a:pt x="2137" y="3962"/>
                  </a:lnTo>
                  <a:lnTo>
                    <a:pt x="2070" y="3912"/>
                  </a:lnTo>
                  <a:lnTo>
                    <a:pt x="2006" y="3857"/>
                  </a:lnTo>
                  <a:lnTo>
                    <a:pt x="1945" y="3800"/>
                  </a:lnTo>
                  <a:lnTo>
                    <a:pt x="1890" y="3738"/>
                  </a:lnTo>
                  <a:lnTo>
                    <a:pt x="1838" y="3673"/>
                  </a:lnTo>
                  <a:lnTo>
                    <a:pt x="1790" y="3606"/>
                  </a:lnTo>
                  <a:lnTo>
                    <a:pt x="1746" y="3535"/>
                  </a:lnTo>
                  <a:lnTo>
                    <a:pt x="1707" y="3463"/>
                  </a:lnTo>
                  <a:lnTo>
                    <a:pt x="1672" y="3387"/>
                  </a:lnTo>
                  <a:lnTo>
                    <a:pt x="1642" y="3309"/>
                  </a:lnTo>
                  <a:lnTo>
                    <a:pt x="1617" y="3231"/>
                  </a:lnTo>
                  <a:lnTo>
                    <a:pt x="1597" y="3149"/>
                  </a:lnTo>
                  <a:lnTo>
                    <a:pt x="1582" y="3068"/>
                  </a:lnTo>
                  <a:lnTo>
                    <a:pt x="1572" y="2984"/>
                  </a:lnTo>
                  <a:lnTo>
                    <a:pt x="1568" y="2899"/>
                  </a:lnTo>
                  <a:lnTo>
                    <a:pt x="1569" y="2815"/>
                  </a:lnTo>
                  <a:lnTo>
                    <a:pt x="1576" y="2730"/>
                  </a:lnTo>
                  <a:lnTo>
                    <a:pt x="1589" y="2644"/>
                  </a:lnTo>
                  <a:lnTo>
                    <a:pt x="1608" y="2558"/>
                  </a:lnTo>
                  <a:lnTo>
                    <a:pt x="1633" y="2474"/>
                  </a:lnTo>
                  <a:lnTo>
                    <a:pt x="1664" y="2389"/>
                  </a:lnTo>
                  <a:lnTo>
                    <a:pt x="1702" y="2305"/>
                  </a:lnTo>
                  <a:lnTo>
                    <a:pt x="1746" y="2223"/>
                  </a:lnTo>
                  <a:lnTo>
                    <a:pt x="1795" y="2143"/>
                  </a:lnTo>
                  <a:lnTo>
                    <a:pt x="1849" y="2069"/>
                  </a:lnTo>
                  <a:lnTo>
                    <a:pt x="1907" y="2000"/>
                  </a:lnTo>
                  <a:lnTo>
                    <a:pt x="1967" y="1935"/>
                  </a:lnTo>
                  <a:lnTo>
                    <a:pt x="2032" y="1877"/>
                  </a:lnTo>
                  <a:lnTo>
                    <a:pt x="2100" y="1823"/>
                  </a:lnTo>
                  <a:lnTo>
                    <a:pt x="2170" y="1774"/>
                  </a:lnTo>
                  <a:lnTo>
                    <a:pt x="2243" y="1730"/>
                  </a:lnTo>
                  <a:lnTo>
                    <a:pt x="2318" y="1692"/>
                  </a:lnTo>
                  <a:lnTo>
                    <a:pt x="2395" y="1659"/>
                  </a:lnTo>
                  <a:lnTo>
                    <a:pt x="2474" y="1631"/>
                  </a:lnTo>
                  <a:lnTo>
                    <a:pt x="2554" y="1608"/>
                  </a:lnTo>
                  <a:lnTo>
                    <a:pt x="2635" y="1590"/>
                  </a:lnTo>
                  <a:lnTo>
                    <a:pt x="2717" y="1576"/>
                  </a:lnTo>
                  <a:lnTo>
                    <a:pt x="2800" y="1569"/>
                  </a:lnTo>
                  <a:lnTo>
                    <a:pt x="2882" y="1567"/>
                  </a:lnTo>
                  <a:lnTo>
                    <a:pt x="2965" y="1569"/>
                  </a:lnTo>
                  <a:lnTo>
                    <a:pt x="3048" y="1576"/>
                  </a:lnTo>
                  <a:lnTo>
                    <a:pt x="3130" y="1590"/>
                  </a:lnTo>
                  <a:lnTo>
                    <a:pt x="3211" y="1608"/>
                  </a:lnTo>
                  <a:lnTo>
                    <a:pt x="3291" y="1631"/>
                  </a:lnTo>
                  <a:lnTo>
                    <a:pt x="3370" y="1659"/>
                  </a:lnTo>
                  <a:lnTo>
                    <a:pt x="3447" y="1692"/>
                  </a:lnTo>
                  <a:lnTo>
                    <a:pt x="3521" y="1731"/>
                  </a:lnTo>
                  <a:lnTo>
                    <a:pt x="3595" y="1774"/>
                  </a:lnTo>
                  <a:lnTo>
                    <a:pt x="3665" y="1823"/>
                  </a:lnTo>
                  <a:lnTo>
                    <a:pt x="3733" y="1877"/>
                  </a:lnTo>
                  <a:lnTo>
                    <a:pt x="3798" y="1936"/>
                  </a:lnTo>
                  <a:lnTo>
                    <a:pt x="3858" y="2000"/>
                  </a:lnTo>
                  <a:lnTo>
                    <a:pt x="3916" y="2069"/>
                  </a:lnTo>
                  <a:lnTo>
                    <a:pt x="3970" y="2143"/>
                  </a:lnTo>
                  <a:lnTo>
                    <a:pt x="4019" y="2223"/>
                  </a:lnTo>
                  <a:lnTo>
                    <a:pt x="4063" y="2305"/>
                  </a:lnTo>
                  <a:lnTo>
                    <a:pt x="4101" y="2389"/>
                  </a:lnTo>
                  <a:lnTo>
                    <a:pt x="4132" y="2474"/>
                  </a:lnTo>
                  <a:lnTo>
                    <a:pt x="4157" y="2558"/>
                  </a:lnTo>
                  <a:lnTo>
                    <a:pt x="4176" y="2644"/>
                  </a:lnTo>
                  <a:lnTo>
                    <a:pt x="4189" y="2730"/>
                  </a:lnTo>
                  <a:lnTo>
                    <a:pt x="4196" y="2815"/>
                  </a:lnTo>
                  <a:lnTo>
                    <a:pt x="4197" y="2899"/>
                  </a:lnTo>
                  <a:lnTo>
                    <a:pt x="4193" y="2984"/>
                  </a:lnTo>
                  <a:lnTo>
                    <a:pt x="4182" y="3068"/>
                  </a:lnTo>
                  <a:lnTo>
                    <a:pt x="4168" y="3149"/>
                  </a:lnTo>
                  <a:lnTo>
                    <a:pt x="4148" y="3231"/>
                  </a:lnTo>
                  <a:lnTo>
                    <a:pt x="4123" y="3309"/>
                  </a:lnTo>
                  <a:lnTo>
                    <a:pt x="4093" y="3387"/>
                  </a:lnTo>
                  <a:lnTo>
                    <a:pt x="4058" y="3463"/>
                  </a:lnTo>
                  <a:lnTo>
                    <a:pt x="4019" y="3535"/>
                  </a:lnTo>
                  <a:lnTo>
                    <a:pt x="3975" y="3606"/>
                  </a:lnTo>
                  <a:lnTo>
                    <a:pt x="3927" y="3673"/>
                  </a:lnTo>
                  <a:lnTo>
                    <a:pt x="3875" y="3738"/>
                  </a:lnTo>
                  <a:lnTo>
                    <a:pt x="3820" y="3800"/>
                  </a:lnTo>
                  <a:lnTo>
                    <a:pt x="3759" y="3857"/>
                  </a:lnTo>
                  <a:lnTo>
                    <a:pt x="3695" y="3912"/>
                  </a:lnTo>
                  <a:lnTo>
                    <a:pt x="3628" y="3962"/>
                  </a:lnTo>
                  <a:lnTo>
                    <a:pt x="3557" y="4007"/>
                  </a:lnTo>
                  <a:lnTo>
                    <a:pt x="3483" y="4049"/>
                  </a:lnTo>
                  <a:lnTo>
                    <a:pt x="3405" y="4085"/>
                  </a:lnTo>
                  <a:lnTo>
                    <a:pt x="3326" y="4117"/>
                  </a:lnTo>
                  <a:lnTo>
                    <a:pt x="3242" y="4143"/>
                  </a:lnTo>
                  <a:lnTo>
                    <a:pt x="3156" y="4164"/>
                  </a:lnTo>
                  <a:lnTo>
                    <a:pt x="3068" y="4180"/>
                  </a:lnTo>
                  <a:lnTo>
                    <a:pt x="2976" y="4189"/>
                  </a:lnTo>
                  <a:lnTo>
                    <a:pt x="2882" y="4192"/>
                  </a:lnTo>
                  <a:lnTo>
                    <a:pt x="2882" y="4290"/>
                  </a:lnTo>
                  <a:close/>
                  <a:moveTo>
                    <a:pt x="2882" y="4081"/>
                  </a:moveTo>
                  <a:lnTo>
                    <a:pt x="2797" y="4078"/>
                  </a:lnTo>
                  <a:lnTo>
                    <a:pt x="2713" y="4070"/>
                  </a:lnTo>
                  <a:lnTo>
                    <a:pt x="2633" y="4056"/>
                  </a:lnTo>
                  <a:lnTo>
                    <a:pt x="2553" y="4036"/>
                  </a:lnTo>
                  <a:lnTo>
                    <a:pt x="2477" y="4012"/>
                  </a:lnTo>
                  <a:lnTo>
                    <a:pt x="2403" y="3984"/>
                  </a:lnTo>
                  <a:lnTo>
                    <a:pt x="2332" y="3950"/>
                  </a:lnTo>
                  <a:lnTo>
                    <a:pt x="2264" y="3912"/>
                  </a:lnTo>
                  <a:lnTo>
                    <a:pt x="2200" y="3870"/>
                  </a:lnTo>
                  <a:lnTo>
                    <a:pt x="2139" y="3824"/>
                  </a:lnTo>
                  <a:lnTo>
                    <a:pt x="2080" y="3775"/>
                  </a:lnTo>
                  <a:lnTo>
                    <a:pt x="2025" y="3721"/>
                  </a:lnTo>
                  <a:lnTo>
                    <a:pt x="1974" y="3666"/>
                  </a:lnTo>
                  <a:lnTo>
                    <a:pt x="1927" y="3606"/>
                  </a:lnTo>
                  <a:lnTo>
                    <a:pt x="1883" y="3545"/>
                  </a:lnTo>
                  <a:lnTo>
                    <a:pt x="1842" y="3480"/>
                  </a:lnTo>
                  <a:lnTo>
                    <a:pt x="1806" y="3413"/>
                  </a:lnTo>
                  <a:lnTo>
                    <a:pt x="1775" y="3344"/>
                  </a:lnTo>
                  <a:lnTo>
                    <a:pt x="1748" y="3274"/>
                  </a:lnTo>
                  <a:lnTo>
                    <a:pt x="1725" y="3201"/>
                  </a:lnTo>
                  <a:lnTo>
                    <a:pt x="1706" y="3126"/>
                  </a:lnTo>
                  <a:lnTo>
                    <a:pt x="1692" y="3051"/>
                  </a:lnTo>
                  <a:lnTo>
                    <a:pt x="1684" y="2975"/>
                  </a:lnTo>
                  <a:lnTo>
                    <a:pt x="1680" y="2898"/>
                  </a:lnTo>
                  <a:lnTo>
                    <a:pt x="1681" y="2820"/>
                  </a:lnTo>
                  <a:lnTo>
                    <a:pt x="1687" y="2743"/>
                  </a:lnTo>
                  <a:lnTo>
                    <a:pt x="1700" y="2664"/>
                  </a:lnTo>
                  <a:lnTo>
                    <a:pt x="1716" y="2586"/>
                  </a:lnTo>
                  <a:lnTo>
                    <a:pt x="1739" y="2508"/>
                  </a:lnTo>
                  <a:lnTo>
                    <a:pt x="1768" y="2431"/>
                  </a:lnTo>
                  <a:lnTo>
                    <a:pt x="1802" y="2353"/>
                  </a:lnTo>
                  <a:lnTo>
                    <a:pt x="1843" y="2278"/>
                  </a:lnTo>
                  <a:lnTo>
                    <a:pt x="1888" y="2206"/>
                  </a:lnTo>
                  <a:lnTo>
                    <a:pt x="1937" y="2138"/>
                  </a:lnTo>
                  <a:lnTo>
                    <a:pt x="1990" y="2074"/>
                  </a:lnTo>
                  <a:lnTo>
                    <a:pt x="2046" y="2016"/>
                  </a:lnTo>
                  <a:lnTo>
                    <a:pt x="2105" y="1961"/>
                  </a:lnTo>
                  <a:lnTo>
                    <a:pt x="2167" y="1912"/>
                  </a:lnTo>
                  <a:lnTo>
                    <a:pt x="2231" y="1868"/>
                  </a:lnTo>
                  <a:lnTo>
                    <a:pt x="2298" y="1828"/>
                  </a:lnTo>
                  <a:lnTo>
                    <a:pt x="2367" y="1793"/>
                  </a:lnTo>
                  <a:lnTo>
                    <a:pt x="2437" y="1763"/>
                  </a:lnTo>
                  <a:lnTo>
                    <a:pt x="2509" y="1736"/>
                  </a:lnTo>
                  <a:lnTo>
                    <a:pt x="2582" y="1715"/>
                  </a:lnTo>
                  <a:lnTo>
                    <a:pt x="2657" y="1699"/>
                  </a:lnTo>
                  <a:lnTo>
                    <a:pt x="2732" y="1687"/>
                  </a:lnTo>
                  <a:lnTo>
                    <a:pt x="2807" y="1680"/>
                  </a:lnTo>
                  <a:lnTo>
                    <a:pt x="2884" y="1678"/>
                  </a:lnTo>
                  <a:lnTo>
                    <a:pt x="2959" y="1680"/>
                  </a:lnTo>
                  <a:lnTo>
                    <a:pt x="3034" y="1687"/>
                  </a:lnTo>
                  <a:lnTo>
                    <a:pt x="3109" y="1699"/>
                  </a:lnTo>
                  <a:lnTo>
                    <a:pt x="3184" y="1715"/>
                  </a:lnTo>
                  <a:lnTo>
                    <a:pt x="3257" y="1736"/>
                  </a:lnTo>
                  <a:lnTo>
                    <a:pt x="3329" y="1763"/>
                  </a:lnTo>
                  <a:lnTo>
                    <a:pt x="3399" y="1793"/>
                  </a:lnTo>
                  <a:lnTo>
                    <a:pt x="3468" y="1828"/>
                  </a:lnTo>
                  <a:lnTo>
                    <a:pt x="3535" y="1868"/>
                  </a:lnTo>
                  <a:lnTo>
                    <a:pt x="3599" y="1913"/>
                  </a:lnTo>
                  <a:lnTo>
                    <a:pt x="3661" y="1962"/>
                  </a:lnTo>
                  <a:lnTo>
                    <a:pt x="3720" y="2016"/>
                  </a:lnTo>
                  <a:lnTo>
                    <a:pt x="3776" y="2075"/>
                  </a:lnTo>
                  <a:lnTo>
                    <a:pt x="3829" y="2138"/>
                  </a:lnTo>
                  <a:lnTo>
                    <a:pt x="3878" y="2206"/>
                  </a:lnTo>
                  <a:lnTo>
                    <a:pt x="3923" y="2279"/>
                  </a:lnTo>
                  <a:lnTo>
                    <a:pt x="3964" y="2355"/>
                  </a:lnTo>
                  <a:lnTo>
                    <a:pt x="3997" y="2431"/>
                  </a:lnTo>
                  <a:lnTo>
                    <a:pt x="4027" y="2508"/>
                  </a:lnTo>
                  <a:lnTo>
                    <a:pt x="4049" y="2587"/>
                  </a:lnTo>
                  <a:lnTo>
                    <a:pt x="4066" y="2664"/>
                  </a:lnTo>
                  <a:lnTo>
                    <a:pt x="4078" y="2743"/>
                  </a:lnTo>
                  <a:lnTo>
                    <a:pt x="4084" y="2821"/>
                  </a:lnTo>
                  <a:lnTo>
                    <a:pt x="4085" y="2898"/>
                  </a:lnTo>
                  <a:lnTo>
                    <a:pt x="4082" y="2976"/>
                  </a:lnTo>
                  <a:lnTo>
                    <a:pt x="4073" y="3052"/>
                  </a:lnTo>
                  <a:lnTo>
                    <a:pt x="4059" y="3127"/>
                  </a:lnTo>
                  <a:lnTo>
                    <a:pt x="4041" y="3201"/>
                  </a:lnTo>
                  <a:lnTo>
                    <a:pt x="4018" y="3274"/>
                  </a:lnTo>
                  <a:lnTo>
                    <a:pt x="3991" y="3345"/>
                  </a:lnTo>
                  <a:lnTo>
                    <a:pt x="3959" y="3413"/>
                  </a:lnTo>
                  <a:lnTo>
                    <a:pt x="3923" y="3480"/>
                  </a:lnTo>
                  <a:lnTo>
                    <a:pt x="3883" y="3545"/>
                  </a:lnTo>
                  <a:lnTo>
                    <a:pt x="3839" y="3606"/>
                  </a:lnTo>
                  <a:lnTo>
                    <a:pt x="3791" y="3666"/>
                  </a:lnTo>
                  <a:lnTo>
                    <a:pt x="3740" y="3722"/>
                  </a:lnTo>
                  <a:lnTo>
                    <a:pt x="3686" y="3775"/>
                  </a:lnTo>
                  <a:lnTo>
                    <a:pt x="3627" y="3824"/>
                  </a:lnTo>
                  <a:lnTo>
                    <a:pt x="3565" y="3870"/>
                  </a:lnTo>
                  <a:lnTo>
                    <a:pt x="3501" y="3912"/>
                  </a:lnTo>
                  <a:lnTo>
                    <a:pt x="3433" y="3950"/>
                  </a:lnTo>
                  <a:lnTo>
                    <a:pt x="3361" y="3984"/>
                  </a:lnTo>
                  <a:lnTo>
                    <a:pt x="3288" y="4012"/>
                  </a:lnTo>
                  <a:lnTo>
                    <a:pt x="3212" y="4036"/>
                  </a:lnTo>
                  <a:lnTo>
                    <a:pt x="3133" y="4056"/>
                  </a:lnTo>
                  <a:lnTo>
                    <a:pt x="3052" y="4070"/>
                  </a:lnTo>
                  <a:lnTo>
                    <a:pt x="2968" y="4078"/>
                  </a:lnTo>
                  <a:lnTo>
                    <a:pt x="2882" y="4081"/>
                  </a:lnTo>
                  <a:close/>
                </a:path>
              </a:pathLst>
            </a:custGeom>
            <a:solidFill>
              <a:srgbClr val="ffff66"/>
            </a:solid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0" name="an00136_" descr=""/>
          <p:cNvPicPr/>
          <p:nvPr/>
        </p:nvPicPr>
        <p:blipFill>
          <a:blip r:embed="rId1"/>
          <a:stretch/>
        </p:blipFill>
        <p:spPr>
          <a:xfrm>
            <a:off x="1219320" y="3021120"/>
            <a:ext cx="1709640" cy="1576440"/>
          </a:xfrm>
          <a:prstGeom prst="rect">
            <a:avLst/>
          </a:prstGeom>
          <a:ln w="0">
            <a:noFill/>
          </a:ln>
        </p:spPr>
      </p:pic>
      <p:pic>
        <p:nvPicPr>
          <p:cNvPr id="7971" name="j0159818" descr=""/>
          <p:cNvPicPr/>
          <p:nvPr/>
        </p:nvPicPr>
        <p:blipFill>
          <a:blip r:embed="rId2"/>
          <a:stretch/>
        </p:blipFill>
        <p:spPr>
          <a:xfrm>
            <a:off x="5867280" y="3062160"/>
            <a:ext cx="1973520" cy="1495440"/>
          </a:xfrm>
          <a:prstGeom prst="rect">
            <a:avLst/>
          </a:prstGeom>
          <a:ln w="0">
            <a:noFill/>
          </a:ln>
        </p:spPr>
      </p:pic>
      <p:sp>
        <p:nvSpPr>
          <p:cNvPr id="7972" name=""/>
          <p:cNvSpPr/>
          <p:nvPr/>
        </p:nvSpPr>
        <p:spPr>
          <a:xfrm>
            <a:off x="16020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9:57:53Z</dcterms:created>
  <dc:creator>Emmanuel Barbeau</dc:creator>
  <dc:description/>
  <dc:language>en-US</dc:language>
  <cp:lastModifiedBy>Emmanuel BARBEAU</cp:lastModifiedBy>
  <dcterms:modified xsi:type="dcterms:W3CDTF">2002-02-07T18:30:02Z</dcterms:modified>
  <cp:revision>364</cp:revision>
  <dc:subject/>
  <dc:title>Présentation PowerPoint</dc:title>
</cp:coreProperties>
</file>